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9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7"/>
          </p:nvPr>
        </p:nvSpPr>
        <p:spPr>
          <a:xfrm>
            <a:off x="3989160" y="0"/>
            <a:ext cx="3049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223640" y="688680"/>
            <a:ext cx="4592520" cy="344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Lucida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937800" y="4363560"/>
            <a:ext cx="516276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8"/>
          </p:nvPr>
        </p:nvSpPr>
        <p:spPr>
          <a:xfrm>
            <a:off x="-360" y="8726040"/>
            <a:ext cx="304956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9"/>
          </p:nvPr>
        </p:nvSpPr>
        <p:spPr>
          <a:xfrm>
            <a:off x="3989160" y="8726040"/>
            <a:ext cx="304956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0473-D2B1-46E2-8181-E9B7619B1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89520" y="8726400"/>
            <a:ext cx="30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7199-69E3-4F0F-80D2-C2C390783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4320" cy="3444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89520" y="8726400"/>
            <a:ext cx="30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75D1-33C1-4D80-A46C-AB69761AB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43080" y="6825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8440" y="4325760"/>
            <a:ext cx="518148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89520" y="8726400"/>
            <a:ext cx="30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2104-F5FB-4C68-ACF9-537179EEA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24000" y="6890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7800" y="4363560"/>
            <a:ext cx="516276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89520" y="8726400"/>
            <a:ext cx="30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B752-17FD-42D5-A69C-176467F55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24000" y="6890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7800" y="4363560"/>
            <a:ext cx="5162760" cy="414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89520" y="8726400"/>
            <a:ext cx="30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9F60-1DD3-4516-814F-045C32F04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4000" y="6890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7800" y="4363560"/>
            <a:ext cx="5162760" cy="414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89520" y="8726400"/>
            <a:ext cx="30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2774-101F-4AFA-B63E-D06D3CC0F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4320" cy="3444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89520" y="8726400"/>
            <a:ext cx="30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A747-7139-4CF8-8224-DFC12380B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24000" y="6890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7800" y="4363560"/>
            <a:ext cx="516276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89520" y="8726400"/>
            <a:ext cx="30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1475-12D3-4B24-BD3A-009F4F88F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24000" y="6890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7800" y="4363560"/>
            <a:ext cx="516276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8E372-FC9C-4238-8989-D378C28FD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5CBA-3782-47D6-A0E6-F5B3AF019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7164-E752-4BA5-A536-C3A53BFFF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8398-DAD6-43E8-BB75-8054FAC52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D7A7-FE29-49DB-B635-133BA2710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CA6-28ED-4BFD-892E-D67143C91E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8FB-F461-4D1A-B793-E4784A3D49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B119-CDD5-44FA-8CA2-15A6065883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8197-A061-47E7-BF4F-5DC9783CA5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0943-AD7F-4037-BDDD-13F917E4F3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14C2-7E5C-4988-9147-D4AB46EB03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516-805B-4E48-B669-02B250FA25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1240-E91D-4D75-BC76-08BC6D46EE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DCA3-084D-48AA-A636-131F75D734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5416-645F-44A1-A4F3-8E86EAEE9B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2F3-F47D-4C16-9B19-33B87BA165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2E33-D30A-45B7-872D-AF3F0E81F9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680-0341-48FB-A458-0E5BD2E790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B785-C10D-40ED-B68D-C970465A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C6A0-3A10-48F3-92F4-545E6E5A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D647-C8CC-4E60-96FD-E1493FC8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8FFE-BF8B-43D7-8B34-AF1498B879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41F4-2A26-48EA-9A65-BD30A8EA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9DF0-1A21-41A0-923B-BBDB6792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EF2F-656C-430A-BA4D-072E15CC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C060-D8BF-4754-A830-3A8407B9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6B19-3051-4E46-A898-B8C1F726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019A-C4E3-47EE-92E6-C3432850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F01A-558C-4242-A34A-07328CC4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942D-A0A9-4E15-B3D3-01468740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F11B-6765-4208-97FC-CB4BAA55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60B7-7853-46C7-8D30-8622749D7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E7C2A-D941-4CC7-B587-01C398E1B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1768-0894-43E3-8630-D1BA176CE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3BC0-573F-456F-A09C-61D654DB6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96FB7-E8C1-4F6F-A34E-A1506C64E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DE81-00DF-4101-85DD-E001EC52B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ceos_logo"/>
          <p:cNvPicPr/>
          <p:nvPr/>
        </p:nvPicPr>
        <p:blipFill>
          <a:blip r:embed="rId4"/>
          <a:stretch/>
        </p:blipFill>
        <p:spPr>
          <a:xfrm>
            <a:off x="0" y="5954760"/>
            <a:ext cx="1828800" cy="90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geoorb"/>
          <p:cNvPicPr/>
          <p:nvPr/>
        </p:nvPicPr>
        <p:blipFill>
          <a:blip r:embed="rId2"/>
          <a:stretch/>
        </p:blipFill>
        <p:spPr>
          <a:xfrm>
            <a:off x="-36360" y="333360"/>
            <a:ext cx="1223640" cy="9241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 flipV="1">
            <a:off x="755640" y="926640"/>
            <a:ext cx="8137440" cy="6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467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Lucid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1066680"/>
            <a:ext cx="8447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cf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77720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5760-92AF-4357-AF28-0A9DE33A55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 flipV="1">
            <a:off x="152280" y="6323760"/>
            <a:ext cx="8915400" cy="399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e0f0e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57200" y="6400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54160" y="6370560"/>
            <a:ext cx="48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Grande"/>
                <a:ea typeface="楷体_GB2312"/>
              </a:rPr>
              <a:t>WGISS-26~ Boulder, CO ~ September 22-26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ceoslogo"/>
          <p:cNvPicPr/>
          <p:nvPr/>
        </p:nvPicPr>
        <p:blipFill>
          <a:blip r:embed="rId3"/>
          <a:stretch/>
        </p:blipFill>
        <p:spPr>
          <a:xfrm>
            <a:off x="7667640" y="0"/>
            <a:ext cx="1407960" cy="55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7924680" y="661824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ceos_logo"/>
          <p:cNvPicPr/>
          <p:nvPr/>
        </p:nvPicPr>
        <p:blipFill>
          <a:blip r:embed="rId3"/>
          <a:stretch/>
        </p:blipFill>
        <p:spPr>
          <a:xfrm>
            <a:off x="344520" y="595476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6514920" y="6311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6299-DA44-4FF8-89C4-77B5ED763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 flipV="1">
            <a:off x="990720" y="3259800"/>
            <a:ext cx="7619760" cy="9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08000" y="0"/>
            <a:ext cx="1407960" cy="936000"/>
            <a:chOff x="108000" y="0"/>
            <a:chExt cx="1407960" cy="936000"/>
          </a:xfrm>
        </p:grpSpPr>
        <p:pic>
          <p:nvPicPr>
            <p:cNvPr id="131" name="Picture 9" descr="ceoslogo"/>
            <p:cNvPicPr/>
            <p:nvPr/>
          </p:nvPicPr>
          <p:blipFill>
            <a:blip r:embed="rId2"/>
            <a:stretch/>
          </p:blipFill>
          <p:spPr>
            <a:xfrm>
              <a:off x="108000" y="0"/>
              <a:ext cx="14079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0"/>
            <p:cNvSpPr/>
            <p:nvPr/>
          </p:nvSpPr>
          <p:spPr>
            <a:xfrm>
              <a:off x="242280" y="476280"/>
              <a:ext cx="110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66cc"/>
                  </a:solidFill>
                  <a:latin typeface="Arial Black"/>
                  <a:ea typeface="宋体"/>
                </a:rPr>
                <a:t>WGI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467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Lucid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68360" y="1066680"/>
            <a:ext cx="8447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cf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宋体"/>
              </a:rPr>
              <a:t>September 22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F424-181A-4690-A73E-8499274C799D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640" y="1771200"/>
            <a:ext cx="815328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99"/>
                </a:solidFill>
                <a:latin typeface="Lucida Sans"/>
                <a:ea typeface="宋体"/>
              </a:rPr>
              <a:t>WGISS Plenary:</a:t>
            </a:r>
            <a:br>
              <a:rPr sz="4800"/>
            </a:br>
            <a:r>
              <a:rPr b="1" lang="en-GB" sz="4800" spc="-1" strike="noStrike">
                <a:solidFill>
                  <a:srgbClr val="333399"/>
                </a:solidFill>
                <a:latin typeface="Lucida Sans"/>
                <a:ea typeface="宋体"/>
              </a:rPr>
              <a:t>Purpose and Expected Outcomes for WGISS-27</a:t>
            </a:r>
            <a:endParaRPr b="0" lang="en-US" sz="4800" spc="-1" strike="noStrike">
              <a:solidFill>
                <a:srgbClr val="333399"/>
              </a:solidFill>
              <a:latin typeface="Lucid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990600"/>
            <a:ext cx="6400800" cy="21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artha E. Maiden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95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EOS WGISS-27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95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oulouse, France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95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ay 11, 2009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WGISS Current Focus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510552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Them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satellite arm of GEO System of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 contributions that will persist, and can be re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 closely with and support CEOS Virtual Constel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 closely with and collaborate as appropriate with WGC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550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the CEOS Data Democracy initiative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5"/>
          <a:stretch/>
        </p:blipFill>
        <p:spPr>
          <a:xfrm>
            <a:off x="5635800" y="1461960"/>
            <a:ext cx="2614320" cy="18259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5468760" y="3429000"/>
            <a:ext cx="318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Jim Gleason, USA ; Pepijn Veefkind, KNM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climatediagnosticsportal"/>
          <p:cNvPicPr/>
          <p:nvPr/>
        </p:nvPicPr>
        <p:blipFill>
          <a:blip r:embed="rId6"/>
          <a:srcRect l="0" t="0" r="0" b="2759"/>
          <a:stretch/>
        </p:blipFill>
        <p:spPr>
          <a:xfrm>
            <a:off x="5519880" y="4255920"/>
            <a:ext cx="2895480" cy="17240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84EC-8587-44E9-A8F5-DDF9DB1E9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Lucida Grande"/>
              </a:rPr>
              <a:t>Outcomes of WGISS-27, Toulouse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2320" y="1128240"/>
            <a:ext cx="7845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quest from CEOS Plenary Chai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r. Darasri Dowreang, GIST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 would like to request that all CEOS Working Groups, Constellation Leads, CEOS GEO Task Leads, identify at your earliest opportunity the demonstrable outcomes of your efforts – on 2 timescales: by Nov 2009 as an interim review point (at the CEOS and GEO Plenaries); and by the GEO Ministerial in late 2010.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02BA-D203-49C2-8660-5717E3167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Lucida Grande"/>
              </a:rPr>
              <a:t>WGISS-27 Meeting Outcomes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2320" y="949320"/>
            <a:ext cx="83516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6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840" indent="-276840">
              <a:lnSpc>
                <a:spcPct val="75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vide satellite arm of GEO System of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520" indent="-23472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at demonstrable outcomes will WGISS show over the next year or two to CEOS and GE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520" indent="-23472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GISS input to new CEOS-led GEO Task DA-09-0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840" indent="-276840">
              <a:lnSpc>
                <a:spcPct val="7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ork closely with and support CEOS Virtual Constellations (GEO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DA-07-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520" indent="-23472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ontinue with ACC and LSI IG’s and Portal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8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840" indent="-276840">
              <a:lnSpc>
                <a:spcPct val="75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ork closely with collaborate with CEOS Working Group on Calibration and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50440" indent="-276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ialogue this meeting on QA4EO and Data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8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840" indent="-276840">
              <a:lnSpc>
                <a:spcPct val="75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ow can WGISS best support the continuation and expansion of the CEOS Data Democracy initia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520" indent="-234720">
              <a:lnSpc>
                <a:spcPct val="75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Important initiative for both CEOS and GE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2F01-EFAD-4281-8F54-1447CF359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Lucida Grande"/>
              </a:rPr>
              <a:t>WGISS-27 Meeting Outcomes, 2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2320" y="949320"/>
            <a:ext cx="83516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75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nsure WGISS 5 Year Plan Update Way Forward to Fi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Revised Plan must be submitted in August to enable approval at CEOS Plenary in Thai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7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nsure Currency of the new WIGSS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282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New host and design process has hindered information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1771200"/>
            <a:ext cx="815328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99"/>
                </a:solidFill>
                <a:latin typeface="Lucida Sans"/>
                <a:ea typeface="宋体"/>
              </a:rPr>
              <a:t>WGISS-27: Plenary</a:t>
            </a:r>
            <a:br>
              <a:rPr sz="4800"/>
            </a:br>
            <a:r>
              <a:rPr b="1" lang="en-GB" sz="4800" spc="-1" strike="noStrike">
                <a:solidFill>
                  <a:srgbClr val="333399"/>
                </a:solidFill>
                <a:latin typeface="Lucida Sans"/>
                <a:ea typeface="宋体"/>
              </a:rPr>
              <a:t>Charge to the Subgroups</a:t>
            </a:r>
            <a:endParaRPr b="0" lang="en-US" sz="4800" spc="-1" strike="noStrike">
              <a:solidFill>
                <a:srgbClr val="333399"/>
              </a:solidFill>
              <a:latin typeface="Lucida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990600"/>
            <a:ext cx="6400800" cy="21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artha E. Maiden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95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EOS WGISS-27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95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oulouse, France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95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ay 11, 2009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E877-B564-4658-A887-CE6A6CA87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Lucida Grande"/>
              </a:rPr>
              <a:t>Plenary Charge to Subgroups, 1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15440" y="925200"/>
            <a:ext cx="8310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Sans"/>
              </a:rPr>
              <a:t>WGISS Four Current T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Satellite Arm of G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Recommendations for working actively with CEOS Constel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Recommendations for working actively with WG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Determine what Project Outcomes relevant to Data Democracy purposes and recommend to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Sans"/>
              </a:rPr>
              <a:t>WGISS Subgroups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Focus on overall objective of WGISS: to facilitate data and information management and services for users and data provi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Recommendations coming from Outcomes on Interest Groups and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Recommend Strategic Directions and New Work from Subgroup technical discussions, which could be across Interes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Recommendations from the Outcomes of the special Joint Subgroup Session on Security and subsequent discu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1A0F-0F23-4AAE-8B19-49ADBCFA7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Lucida Grande"/>
              </a:rPr>
              <a:t>Plenary Charge to Subgroups, 2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15440" y="934560"/>
            <a:ext cx="8310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Sans"/>
              </a:rPr>
              <a:t>WGISS Subgroups Charge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Provide recommendations for </a:t>
            </a:r>
            <a:r>
              <a:rPr b="1" i="1" lang="en-GB" sz="1800" spc="-1" strike="noStrike">
                <a:solidFill>
                  <a:srgbClr val="000000"/>
                </a:solidFill>
                <a:latin typeface="Lucida Sans"/>
              </a:rPr>
              <a:t>Demonstrable Outcomes</a:t>
            </a: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, on two timescales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s requested by Plenary Cha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Nov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Nov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WGISS Plenary will provide a report of WGISS Demonstrable Outcomes to the Plenary and Secretariat after this meeting</a:t>
            </a: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Report needs to fill gaps in WGISS technical expertise and needs for support from Agencies for WGISS Exec to act 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What expertise needed for Interest Groups to request CEOS agenc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Are specific agency resources (monetary, participation, data contributions, etc.) needed to be placed toward a WGISS Interest Group or Proj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All recommendations to be included in Subgroups’ Reports to be presented to WGISS Plenary Friday, May 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9:11:12Z</dcterms:created>
  <dc:creator>SAIC ODIN</dc:creator>
  <dc:description/>
  <cp:keywords/>
  <dc:language>en-US</dc:language>
  <cp:lastModifiedBy>Martha Maiden</cp:lastModifiedBy>
  <cp:lastPrinted>2004-04-15T17:51:45Z</cp:lastPrinted>
  <dcterms:modified xsi:type="dcterms:W3CDTF">2009-04-16T19:37:06Z</dcterms:modified>
  <cp:revision>317</cp:revision>
  <dc:subject/>
  <dc:title>Understanding and  Protecting Our Home Planet</dc:title>
</cp:coreProperties>
</file>