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a0e4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Consola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Consolas"/>
              </a:rPr>
              <a:t>WGISS 26 Plenary and Subgroup Meeting, Sep 22-26, 2008, Boulder Colorado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57240">
            <a:solidFill>
              <a:srgbClr val="000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57240">
            <a:solidFill>
              <a:srgbClr val="3a0e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50240" y="0"/>
            <a:ext cx="1193760" cy="56052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0"/>
            <a:ext cx="878040" cy="718200"/>
            <a:chOff x="0" y="0"/>
            <a:chExt cx="878040" cy="71820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780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51480" y="380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4e8f"/>
                  </a:solidFill>
                  <a:latin typeface="Arial Black"/>
                </a:rPr>
                <a:t>WGI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40" y="20570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48"/>
                </a:solidFill>
                <a:latin typeface="Tahoma"/>
              </a:rPr>
              <a:t>WGISS Way Forward on GEO actions</a:t>
            </a:r>
            <a:br>
              <a:rPr sz="2800"/>
            </a:br>
            <a:r>
              <a:rPr b="0" i="1" lang="en-US" sz="2800" spc="-1" strike="noStrike">
                <a:solidFill>
                  <a:srgbClr val="3a0e48"/>
                </a:solidFill>
                <a:latin typeface="Tahoma"/>
              </a:rPr>
              <a:t>and</a:t>
            </a:r>
            <a:br>
              <a:rPr sz="2800"/>
            </a:br>
            <a:r>
              <a:rPr b="1" lang="en-US" sz="2800" spc="-1" strike="noStrike">
                <a:solidFill>
                  <a:srgbClr val="3a0e48"/>
                </a:solidFill>
                <a:latin typeface="Tahoma"/>
              </a:rPr>
              <a:t>Plenary Agreement on Contributions to GEO</a:t>
            </a:r>
            <a:br>
              <a:rPr sz="2800"/>
            </a:br>
            <a:endParaRPr b="1" lang="en-US" sz="28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3040" y="4114800"/>
            <a:ext cx="7657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Pakorn Apaphant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September 26, 2008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a0e48"/>
                </a:solidFill>
                <a:latin typeface="Tahoma"/>
              </a:rPr>
              <a:t>HE-07-01_1</a:t>
            </a:r>
            <a:endParaRPr b="1" lang="en-US" sz="38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Develop plan for efficient imagery access to support modeling, forecasting and monitoring of health issues 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CAT 2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Led by Murielle Lafaye (CNES) (WGISS is requested and offered to provide support) 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Milestones: to be planned (June 09)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a0e48"/>
                </a:solidFill>
                <a:latin typeface="Tahoma"/>
              </a:rPr>
              <a:t>Status</a:t>
            </a: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: CEOS Health SBA could not participate in WGISS-26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a0e48"/>
                </a:solidFill>
                <a:latin typeface="Tahoma"/>
              </a:rPr>
              <a:t>Next Step</a:t>
            </a: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: CEOS Health SBA could not participate in WGISS-27 in Toulouse to find possible contribution and Task lead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DA-07-04_1(Closed)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Sensor Web Interest Group work with Fishman/Hilsenrath to agree on prototype to support HE-06-03 by EO-1 tasking in support of smoke plume modeling.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CAT 3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Participating (WGISS): led by Terence Van Zyl (CSIR/WGISS)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Milestones: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Use case and project plan for the prototype (Sep 08)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emonstration of prototype (Sep 09)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Status: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Closed  (duplication with HE-06-03_2)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Next Step: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Project plan for prototype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48"/>
                </a:solidFill>
                <a:latin typeface="Tahoma"/>
              </a:rPr>
              <a:t>DA-07-06_1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Establish a Task Team, which would assist the Task Leads of DA-07-06 in enlisting interested data providers, sharing data integration methods, and organizing and participating in planned workshops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48"/>
                </a:solidFill>
                <a:latin typeface="Tahoma"/>
              </a:rPr>
              <a:t>CAT 3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Lead, Satoko Miura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Milestones: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larify the requirements to WGISS (Sep 08)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Establishment of a Task team (Dec 08)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e48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3a0e48"/>
                </a:solidFill>
                <a:latin typeface="Tahoma"/>
              </a:rPr>
              <a:t>Status: </a:t>
            </a:r>
            <a:r>
              <a:rPr b="0" lang="en-GB" sz="2000" spc="-1" strike="noStrike">
                <a:solidFill>
                  <a:srgbClr val="3a0e48"/>
                </a:solidFill>
                <a:latin typeface="Tahoma"/>
              </a:rPr>
              <a:t>preparing the letter and questionnaire to be sent to several "major" data centers in order to survey their activities/status/plan on data integration and analysis (Phase I survey). They are now preparing the plan to analyze the results of Phase I survey.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e48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3a0e48"/>
                </a:solidFill>
                <a:latin typeface="Tahoma"/>
              </a:rPr>
              <a:t>Next Steps: 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When requirements to WGISS is clarified, a Task team (interesting group or/&amp; project) will be established.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48"/>
                </a:solidFill>
                <a:latin typeface="Tahoma"/>
              </a:rPr>
              <a:t>WA-06-07_4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Demonstrate Open Knowledge Environment (OKE), platform for showcase of applications.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48"/>
                </a:solidFill>
                <a:latin typeface="Tahoma"/>
              </a:rPr>
              <a:t>CAT 3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Lead: Liu Chuang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Due Date: Dec 2008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e48"/>
                </a:solidFill>
                <a:latin typeface="Tahoma"/>
              </a:rPr>
              <a:t>Status: 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Preparing showcase of applications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e48"/>
                </a:solidFill>
                <a:latin typeface="Tahoma"/>
              </a:rPr>
              <a:t>Next Step: 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Preparing the demonstration, with URL to be informed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Plenary agreement on Contributions to GEO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48"/>
                </a:solidFill>
                <a:latin typeface="Tahoma"/>
              </a:rPr>
              <a:t>Potential contributions to GEOSS (before remapping workshop)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</a:rPr>
              <a:t>LSI portal (WGISS PoC: Lyn)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Expand LSI portal (inputs from GEO-V attendees)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Proposed to be lead by the LSI Lead, with support of WGISS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</a:rPr>
              <a:t>Support Precipitation Constellation contribution to GEOSS (WGISS PoC: Karen)  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WGISS and Precipitation Constellation want to better understanding the scope of each group’s respective contributions to CEOS and GEOSS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48"/>
                </a:solidFill>
                <a:latin typeface="Tahoma"/>
              </a:rPr>
              <a:t>Potential contributions to GEOSS (Cont’)</a:t>
            </a:r>
            <a:endParaRPr b="1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</a:rPr>
              <a:t>To participate in DA-07-01 but not yet specify the actionable actions (WGISS PoC: Wyn)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WGISS (Wyn) will work with the GEO Task lead to discuss and refine the requirements.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  <a:ea typeface="SimSun"/>
              </a:rPr>
              <a:t>GRID Potential contribution to GEOSS (WGISS PoC: Dingsheng and Pakorn)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SimSun"/>
              </a:rPr>
              <a:t>NASU Flood Monitoring testbed (Natalia)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SimSun"/>
              </a:rPr>
              <a:t>CNES international WAG Project (Paul)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SimSun"/>
              </a:rPr>
              <a:t>NRSCC Disaster EO Data Aid Action (Li)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SimSun"/>
              </a:rPr>
              <a:t>WGISS Grid experts should be deeply involved in GEOSS ADC work. (Li)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Demo at GEO-V Plenary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LSI Portal (finalized in Oct 08)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</a:rPr>
              <a:t>WGISS PoC: Lyn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Climate Diagnostics Portal (to be proposed)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</a:rPr>
              <a:t>WGISS PoC: Lola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48"/>
                </a:solidFill>
                <a:latin typeface="Tahoma"/>
              </a:rPr>
              <a:t>Way Forward on current GEO actions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48"/>
                </a:solidFill>
                <a:latin typeface="Tahoma"/>
              </a:rPr>
              <a:t>Way Forward on current GEO actions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</a:rPr>
              <a:t>5 closed actions</a:t>
            </a: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AT 1: CL-06-02_13, CL-06-02_14, AR-07-02_1 , DA-07-03_5,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AT 3: DA-07-04_1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</a:rPr>
              <a:t>5 ongoing Actions</a:t>
            </a: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AT 1:  AR-07-02-2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AT 2: HE-06-03_2, HE-07-01_1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AT 3: DA-07-06_1, WA-06-07_4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CL-06-02_13 (to be Closed)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Conduct ACC/Climate Workshop for plans to construct CDRs for atmospheric ECVs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CAT 1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Contributing: Martha Maiden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Deliverable: October 15-17, 2008- Conduct CEOS ACC-3 / Climate Workshop at GISS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Status: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 “Workshop on Long Term Data Sets and Climate Modeling” planned by CEOS, and SPARC. Invitation letter sent Aug 6, signed by NASA (Hilsenrath/Maiden) and ESA (Zehner/Langen).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Next Steps: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 Workshop October 15-17 at GISS/NYC (will constitute 3rd ACC Meeting), and outcomes captured.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CL-06-02_14 (Closed)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WGISS demonstrate access to visualization of long-term trends of CDRs of ECVs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CAT 1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Lead, Lola Olsen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April 1, 2008: Demonstrate initial portal prototype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Milestone: Complete IDN Portal for Climate Data Records demonstration (Sep 08)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Status: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 Demo at WGISS-26.  Awaiting for comments and input by Nov 1 for further development of features, additions of content, and updates are planned.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Next Steps: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  To be proposed for demonstration in the GEO-V plenary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48"/>
                </a:solidFill>
                <a:latin typeface="Tahoma"/>
              </a:rPr>
              <a:t>AR-07-02_1 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(closed )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ontribute to implementation of Sensor Interoperability Session in GEO Architecture Implementation Pilot (AIP)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48"/>
                </a:solidFill>
                <a:latin typeface="Tahoma"/>
              </a:rPr>
              <a:t>CAT 1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Lead, Terence Van Zyl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Milestone: Kick off workshop (Sep 08)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e48"/>
                </a:solidFill>
                <a:latin typeface="Tahoma"/>
              </a:rPr>
              <a:t>Status: 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losed with participation by many WGISS members, CFP has been answered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48"/>
                </a:solidFill>
                <a:latin typeface="Tahoma"/>
              </a:rPr>
              <a:t>AR-07-02_2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05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Participate in AIP to evaluate GEOSS portal/clearinghouse interface 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48"/>
                </a:solidFill>
                <a:latin typeface="Tahoma"/>
              </a:rPr>
              <a:t>CAT 1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Lead: Satoko Miura 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Milestones: Evaluation result interface protocol between JAXA server and one of GEOSS portal/clearinghouse candidates (Mar 09)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e48"/>
                </a:solidFill>
                <a:latin typeface="Tahoma"/>
              </a:rPr>
              <a:t>Status: A</a:t>
            </a: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ttended the AIP Kick-Off Workshop in Boulder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e48"/>
                </a:solidFill>
                <a:latin typeface="Tahoma"/>
              </a:rPr>
              <a:t>Next Steps: </a:t>
            </a: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Participate with catalog server, WMS server and client to provide evaluation of interface protocol between JAXA server and GEOSS portal/clearinghouse (when identified).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DA-07-03_5 (Closed)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Provide a demonstration of prototype of an LSI Constellation Portal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CAT 1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Lead, Lyndon Oleson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Milestone: Demonstrate a prototype LSI Constellation Portal at the CEOS WGISS #26 (Sep 08)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ahoma"/>
              </a:rPr>
              <a:t>Status: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 Beta version is ready.  Demonstrated in WGISS 26.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Next Step: Lyn will coordinate with constellation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lead for further comments and recommendations for the final version (by Oct 31) for the GEO-V Plenary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48"/>
                </a:solidFill>
                <a:latin typeface="Tahoma"/>
              </a:rPr>
              <a:t>HE-06-03_2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Demonstrate a global smoke plume and dust forecasting product using multiple satellite product inputs 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CAT 2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Contributing: stephan Falke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Milestones: 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48"/>
                </a:solidFill>
                <a:latin typeface="Tahoma"/>
              </a:rPr>
              <a:t>Conduct a statistical evaluation of the developmental automated aerosol forecast products. (May 09)</a:t>
            </a:r>
            <a:endParaRPr b="0" lang="en-US" sz="16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48"/>
                </a:solidFill>
                <a:latin typeface="Tahoma"/>
              </a:rPr>
              <a:t>Submit ROSES proposal (Applied Sciences, Decision Support) for global web-based satellite aerosol product distribution. (Aug 09)</a:t>
            </a:r>
            <a:endParaRPr b="0" lang="en-US" sz="16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a0e48"/>
                </a:solidFill>
                <a:latin typeface="Tahoma"/>
              </a:rPr>
              <a:t>Status</a:t>
            </a: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: established atmospheric Constellation led by Stephan Falke, NASA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a0e48"/>
                </a:solidFill>
                <a:latin typeface="Tahoma"/>
              </a:rPr>
              <a:t>Next Step: </a:t>
            </a: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WGISS (stephan Falke) collaborate with ACC members to 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48"/>
                </a:solidFill>
                <a:latin typeface="Tahoma"/>
              </a:rPr>
              <a:t>Draft recommendations for a value-added ACC portal</a:t>
            </a:r>
            <a:endParaRPr b="0" lang="en-US" sz="16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48"/>
                </a:solidFill>
                <a:latin typeface="Tahoma"/>
              </a:rPr>
              <a:t>Evaluate extension of AIP air quality prototype for a smoke monitoring sensor web proposal</a:t>
            </a:r>
            <a:endParaRPr b="0" lang="en-US" sz="16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8:42:25Z</dcterms:created>
  <dc:creator/>
  <dc:description/>
  <dc:language>en-US</dc:language>
  <cp:lastModifiedBy>jossadmin</cp:lastModifiedBy>
  <dcterms:modified xsi:type="dcterms:W3CDTF">2008-09-26T21:03:35Z</dcterms:modified>
  <cp:revision>211</cp:revision>
  <dc:subject/>
  <dc:title>Slide 1</dc:title>
</cp:coreProperties>
</file>