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jpeg" ContentType="image/jpeg"/>
  <Override PartName="/ppt/media/image5.pct" ContentType="image/x-pict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3504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5040" y="65257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41760" y="48006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504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641760" y="65257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61864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02600" y="48006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350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61864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602600" y="65257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94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097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7743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3712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2376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10400" indent="-30528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697400" indent="-30528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36560" y="254160"/>
            <a:ext cx="924552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6560" y="2374920"/>
            <a:ext cx="9245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09960" y="254160"/>
            <a:ext cx="924552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09960" y="2374920"/>
            <a:ext cx="9245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896160"/>
            <a:ext cx="10464840" cy="21081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9" name=""/>
          <p:cNvSpPr/>
          <p:nvPr/>
        </p:nvSpPr>
        <p:spPr>
          <a:xfrm>
            <a:off x="1434240" y="9212760"/>
            <a:ext cx="10162080" cy="34524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bf2"/>
                </a:solidFill>
                <a:latin typeface="Cochin"/>
                <a:ea typeface="Cochin"/>
              </a:rPr>
              <a:t>GSDI Association Report     CEOS WGISS Meeting 26     Hosted by NOAA       Boulder CO     Sept 22-26, 2008</a:t>
            </a:r>
            <a:endParaRPr b="0" lang="en-US" sz="1600" spc="-1" strike="noStrike">
              <a:solidFill>
                <a:srgbClr val="fffbf2"/>
              </a:solidFill>
              <a:latin typeface="Cochi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>
              <a:spcBef>
                <a:spcPts val="950"/>
              </a:spcBef>
              <a:buClr>
                <a:srgbClr val="fffbf2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>
              <a:spcBef>
                <a:spcPts val="950"/>
              </a:spcBef>
              <a:buClr>
                <a:srgbClr val="fffbf2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7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50418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474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78516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12284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4608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50418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474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78516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12284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4608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51228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89892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28556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672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2040" y="2374920"/>
            <a:ext cx="3962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3769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6613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9457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2301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730600"/>
            <a:ext cx="10464840" cy="42796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94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hyperlink" Target="http://www.gsdi.org/" TargetMode="External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bf2"/>
                </a:solidFill>
                <a:latin typeface="Copperplate"/>
              </a:rPr>
              <a:t>Global Spatial Data</a:t>
            </a:r>
            <a:br>
              <a:rPr sz="6100"/>
            </a:br>
            <a:r>
              <a:rPr b="0" lang="en-US" sz="6100" spc="-1" strike="noStrike">
                <a:solidFill>
                  <a:srgbClr val="fffbf2"/>
                </a:solidFill>
                <a:latin typeface="Copperplate"/>
              </a:rPr>
              <a:t>INFRASTRUCTURE </a:t>
            </a:r>
            <a:br>
              <a:rPr sz="7700"/>
            </a:br>
            <a:r>
              <a:rPr b="0" lang="en-US" sz="6400" spc="-1" strike="noStrike">
                <a:solidFill>
                  <a:srgbClr val="fffbf2"/>
                </a:solidFill>
                <a:latin typeface="Copperplate"/>
              </a:rPr>
              <a:t>Association</a:t>
            </a:r>
            <a:r>
              <a:rPr b="0" lang="en-US" sz="4900" spc="-1" strike="noStrike">
                <a:solidFill>
                  <a:srgbClr val="fffbf2"/>
                </a:solidFill>
                <a:latin typeface="Copperplate"/>
              </a:rPr>
              <a:t> </a:t>
            </a:r>
            <a:r>
              <a:rPr b="0" lang="en-US" sz="6600" spc="-1" strike="noStrike">
                <a:solidFill>
                  <a:srgbClr val="fffbf2"/>
                </a:solidFill>
                <a:latin typeface="Copperplate"/>
              </a:rPr>
              <a:t>Report</a:t>
            </a:r>
            <a:endParaRPr b="0" lang="en-US" sz="66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7658280"/>
            <a:ext cx="10464840" cy="11556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Copperplate"/>
              </a:rPr>
              <a:t>On ACTIVITIES  RELEVANT TO WGISS AND GEOSS</a:t>
            </a:r>
            <a:endParaRPr b="0" lang="en-US" sz="3200" spc="-1" strike="noStrike">
              <a:solidFill>
                <a:srgbClr val="fffdf9"/>
              </a:solidFill>
              <a:latin typeface="Copperplat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114800" y="5181480"/>
            <a:ext cx="446400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9270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Press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" y="1219320"/>
            <a:ext cx="10972800" cy="77976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ome sources on GSDI activities: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Websit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f2"/>
                </a:solidFill>
                <a:latin typeface="Cochin"/>
                <a:ea typeface="Cochin"/>
              </a:rPr>
              <a:t> </a:t>
            </a:r>
            <a:r>
              <a:rPr b="0" lang="en-US" sz="2300" spc="-1" strike="noStrike">
                <a:solidFill>
                  <a:srgbClr val="fffbf2"/>
                </a:solidFill>
                <a:latin typeface="Cochin"/>
                <a:ea typeface="Cochin"/>
              </a:rPr>
              <a:t>Admin: Prof.Harlan Onsrud a rich variety of e-publications: </a:t>
            </a:r>
            <a:endParaRPr b="0" lang="en-US" sz="23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bf2"/>
                </a:solidFill>
                <a:latin typeface="Cochin"/>
                <a:ea typeface="Cochin"/>
              </a:rPr>
              <a:t>Newslist, eRegional Newsletters, Discussion Forum, Downloadable Cookbook, Standing</a:t>
            </a:r>
            <a:endParaRPr b="0" lang="en-US" sz="23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bf2"/>
                </a:solidFill>
                <a:latin typeface="Cochin"/>
                <a:ea typeface="Cochin"/>
              </a:rPr>
              <a:t>Committees, Small Grant program, Affiliated projects supported by ESRI and Intergraph </a:t>
            </a:r>
            <a:endParaRPr b="0" lang="en-US" sz="23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IM </a:t>
            </a:r>
            <a:r>
              <a:rPr b="0" lang="en-US" sz="2400" spc="-1" strike="noStrike">
                <a:solidFill>
                  <a:srgbClr val="fffbf2"/>
                </a:solidFill>
                <a:latin typeface="Cochin"/>
                <a:ea typeface="Cochin"/>
              </a:rPr>
              <a:t>Lemmen, NL</a:t>
            </a:r>
            <a:endParaRPr b="0" lang="en-US" sz="24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EOconnexion  </a:t>
            </a:r>
            <a:r>
              <a:rPr b="0" lang="en-US" sz="2000" spc="-1" strike="noStrike">
                <a:solidFill>
                  <a:srgbClr val="fffbf2"/>
                </a:solidFill>
                <a:latin typeface="Cochin"/>
                <a:ea typeface="Cochin"/>
              </a:rPr>
              <a:t>Roger Longhorn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JDE </a:t>
            </a:r>
            <a:r>
              <a:rPr b="0" lang="en-US" sz="2100" spc="-1" strike="noStrike">
                <a:solidFill>
                  <a:srgbClr val="fffbf2"/>
                </a:solidFill>
                <a:latin typeface="Cochin"/>
                <a:ea typeface="Cochin"/>
              </a:rPr>
              <a:t>Beijing by ISDE Sec</a:t>
            </a:r>
            <a:endParaRPr b="0" lang="en-US" sz="21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JSDR </a:t>
            </a:r>
            <a:r>
              <a:rPr b="0" lang="en-US" sz="1700" spc="-1" strike="noStrike">
                <a:solidFill>
                  <a:srgbClr val="fffbf2"/>
                </a:solidFill>
                <a:latin typeface="Cochin"/>
                <a:ea typeface="Cochin"/>
              </a:rPr>
              <a:t>DG JRC</a:t>
            </a:r>
            <a:endParaRPr b="0" lang="en-US" sz="17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bf2"/>
                </a:solidFill>
                <a:latin typeface="Cochin"/>
                <a:ea typeface="Cochin"/>
              </a:rPr>
              <a:t>Publishing Houses: ESRI Press, Reed, Francis &amp; Taylor, Elsevier and many more</a:t>
            </a:r>
            <a:endParaRPr b="0" lang="en-US" sz="2300" spc="-1" strike="noStrike">
              <a:solidFill>
                <a:srgbClr val="fffbf2"/>
              </a:solidFill>
              <a:latin typeface="Cochi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10503000" y="0"/>
            <a:ext cx="250164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50760" y="329760"/>
            <a:ext cx="8369280" cy="14986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Some of the Key Players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77" name=""/>
          <p:cNvSpPr/>
          <p:nvPr/>
        </p:nvSpPr>
        <p:spPr>
          <a:xfrm>
            <a:off x="293760" y="2209680"/>
            <a:ext cx="12484080" cy="57405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Prof. Bas Kok (GSDI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Prof. Ian Masser (UCL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  <a:ea typeface="Cochin"/>
              </a:rPr>
              <a:t>Ivan Deloatch </a:t>
            </a: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(FGDC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  <a:ea typeface="Cochin"/>
              </a:rPr>
              <a:t>Alessandro Annoni</a:t>
            </a: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 (DG JRC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  <a:ea typeface="Cochin"/>
              </a:rPr>
              <a:t>Doug Nebert</a:t>
            </a: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 (FGDC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Prof.Max Craglia (DG JRC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Joachim Rix (INI-GraphicsNet Foundation, Fraunhofer Institute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Eva Klien (INI-GraphicsNet Foundation, Fraunhofer Institute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Osamu Ochiai (GEO Sec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Prof.Harlan Onsrud (GSDI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Cochin"/>
                <a:ea typeface="Cochin"/>
              </a:rPr>
              <a:t>Jarmo Ratia (GSDI)</a:t>
            </a:r>
            <a:endParaRPr b="0" lang="en-US" sz="32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10464840" cy="21081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bf2"/>
                </a:solidFill>
                <a:latin typeface="Copperplate"/>
              </a:rPr>
              <a:t>CONCLUSION</a:t>
            </a:r>
            <a:endParaRPr b="0" lang="en-US" sz="44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12090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GSDI RELEVANCES WITH WGISS GEOSS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INTERFACE BETWEEN THE EO GROUND SEGMENT AND THE END USER COMMUNITY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ON LOCAL, NATINAL, REGIONAL AND GLOBAL LEVEL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TOPICS INCLUDES STANDARDIZATION, ARCHITECTURE, DATA POLICIES, INTEROPERABILITY, INTERDISCIPLINARITY,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AWARENESS RAISING, CAPACITY BUILDING,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CONSULTANCY AND LOBBYING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fdf9"/>
                </a:solidFill>
                <a:latin typeface="Copperplate"/>
              </a:rPr>
              <a:t>INVOLVEMENT OF LOCAL KNOWLEDGE ON ALL LEVEL</a:t>
            </a: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7061040" y="1562040"/>
            <a:ext cx="5219640" cy="6667560"/>
            <a:chOff x="7061040" y="1562040"/>
            <a:chExt cx="5219640" cy="6667560"/>
          </a:xfrm>
        </p:grpSpPr>
        <p:pic>
          <p:nvPicPr>
            <p:cNvPr id="581" name="" descr=""/>
            <p:cNvPicPr/>
            <p:nvPr/>
          </p:nvPicPr>
          <p:blipFill>
            <a:blip r:embed="rId2"/>
            <a:srcRect l="0" t="623" r="0" b="601"/>
            <a:stretch/>
          </p:blipFill>
          <p:spPr>
            <a:xfrm>
              <a:off x="7391160" y="1879560"/>
              <a:ext cx="4572000" cy="601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061040" y="1562040"/>
              <a:ext cx="5219640" cy="666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bf2"/>
                </a:solidFill>
                <a:latin typeface="Copperplate"/>
              </a:rPr>
              <a:t>Thank you for your attention!</a:t>
            </a: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47280" y="5740560"/>
            <a:ext cx="586764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4"/>
              </a:rPr>
              <a:t>www.gsdi.org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  <p:sp>
        <p:nvSpPr>
          <p:cNvPr id="585" name=""/>
          <p:cNvSpPr/>
          <p:nvPr/>
        </p:nvSpPr>
        <p:spPr>
          <a:xfrm>
            <a:off x="7256520" y="8280360"/>
            <a:ext cx="4788000" cy="5335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2"/>
                </a:solidFill>
                <a:latin typeface="Cochin"/>
                <a:ea typeface="Cochin"/>
              </a:rPr>
              <a:t>MoARD,  host institute of HUNAGI, member of GSDI</a:t>
            </a:r>
            <a:endParaRPr b="0" lang="en-US" sz="14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2"/>
                </a:solidFill>
                <a:latin typeface="Cochin"/>
                <a:ea typeface="Cochin"/>
              </a:rPr>
              <a:t>in Budapest, Hungary</a:t>
            </a:r>
            <a:endParaRPr b="0" lang="en-US" sz="14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8567640" y="-152280"/>
            <a:ext cx="4267080" cy="3492360"/>
            <a:chOff x="8567640" y="-152280"/>
            <a:chExt cx="4267080" cy="3492360"/>
          </a:xfrm>
        </p:grpSpPr>
        <p:pic>
          <p:nvPicPr>
            <p:cNvPr id="534" name="" descr=""/>
            <p:cNvPicPr/>
            <p:nvPr/>
          </p:nvPicPr>
          <p:blipFill>
            <a:blip r:embed="rId2"/>
            <a:srcRect l="9598" t="0" r="9519" b="0"/>
            <a:stretch/>
          </p:blipFill>
          <p:spPr>
            <a:xfrm>
              <a:off x="8897760" y="165240"/>
              <a:ext cx="361008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3"/>
            <a:stretch/>
          </p:blipFill>
          <p:spPr>
            <a:xfrm>
              <a:off x="8567640" y="-152280"/>
              <a:ext cx="4267080" cy="34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42720" y="241200"/>
            <a:ext cx="6870600" cy="9273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CONTENT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1066680"/>
            <a:ext cx="11849040" cy="112777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Refreshing updates on the Basic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Cochin"/>
                <a:ea typeface="Cochin"/>
              </a:rPr>
              <a:t>Activities since the WGISS 24 Meeting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and the GEO/GEOS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in Professional Societies’ Fora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-10 Conferenc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DI - European Activitie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DI - International Activitie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         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UNSDI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         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YPE and the SDI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         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SD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         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Position Paper of Vespucci Initiativ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New Tendencie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Preparing the GSDI-11 Conferenc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Conclusions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8466120" y="139680"/>
            <a:ext cx="4267080" cy="3492360"/>
            <a:chOff x="8466120" y="139680"/>
            <a:chExt cx="4267080" cy="3492360"/>
          </a:xfrm>
        </p:grpSpPr>
        <p:pic>
          <p:nvPicPr>
            <p:cNvPr id="539" name="" descr=""/>
            <p:cNvPicPr/>
            <p:nvPr/>
          </p:nvPicPr>
          <p:blipFill>
            <a:blip r:embed="rId2"/>
            <a:srcRect l="2256" t="0" r="2563" b="0"/>
            <a:stretch/>
          </p:blipFill>
          <p:spPr>
            <a:xfrm>
              <a:off x="8796240" y="457200"/>
              <a:ext cx="361008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8466120" y="139680"/>
              <a:ext cx="4267080" cy="34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960" y="63000"/>
            <a:ext cx="8305560" cy="12826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GSDI and the GEO/GEOSS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42" name=""/>
          <p:cNvSpPr/>
          <p:nvPr/>
        </p:nvSpPr>
        <p:spPr>
          <a:xfrm>
            <a:off x="88920" y="1587600"/>
            <a:ext cx="12827160" cy="7365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at the GEO 4th Plenary  and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Ministerial Summit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Activities in the Committee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Architecture and Data, User Interface, Capacity Building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aking part the 4th Plenary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nterventions and contributions (Cape Town Declaration)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aking part the Ministerial Summit (GSDI Statement)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Preparation to the 5th Plenary will be held in Bucarest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Data sharing policy, eContent/re-use of PSI, RFIDs &amp; SensorWeb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7483320" y="4543560"/>
            <a:ext cx="3556080" cy="86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8483760" y="139680"/>
            <a:ext cx="4241520" cy="3479760"/>
            <a:chOff x="8483760" y="139680"/>
            <a:chExt cx="4241520" cy="3479760"/>
          </a:xfrm>
        </p:grpSpPr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8883360" y="1297080"/>
              <a:ext cx="34556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3"/>
            <a:stretch/>
          </p:blipFill>
          <p:spPr>
            <a:xfrm>
              <a:off x="8483760" y="139680"/>
              <a:ext cx="4241520" cy="347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960" y="330120"/>
            <a:ext cx="8318520" cy="133344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GSDI on Professional Societies’ Fora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48" name=""/>
          <p:cNvSpPr/>
          <p:nvPr/>
        </p:nvSpPr>
        <p:spPr>
          <a:xfrm>
            <a:off x="179280" y="2222640"/>
            <a:ext cx="13080960" cy="84834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Examples of Contributions: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FIG World Conferenc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President Bas Kok’s presentation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Partcipating the WG on SDI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focusing on SDI support managing Megacitie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SPRS XXI Congres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President Bask Kok’s presentation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Chairing two of the ISPRS WG IV/1 Sessions devoted to SDI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SDI President and Secretary </a:t>
            </a: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(with ISPRS Congress Committee Chairlady Dr. Jie Jiang)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pin-off: taking part IJDE Editorial Board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8466120" y="139680"/>
            <a:ext cx="4267080" cy="3492360"/>
            <a:chOff x="8466120" y="139680"/>
            <a:chExt cx="4267080" cy="3492360"/>
          </a:xfrm>
        </p:grpSpPr>
        <p:pic>
          <p:nvPicPr>
            <p:cNvPr id="550" name="" descr=""/>
            <p:cNvPicPr/>
            <p:nvPr/>
          </p:nvPicPr>
          <p:blipFill>
            <a:blip r:embed="rId2"/>
            <a:srcRect l="41209" t="37554" r="41216" b="37453"/>
            <a:stretch/>
          </p:blipFill>
          <p:spPr>
            <a:xfrm>
              <a:off x="8796240" y="457200"/>
              <a:ext cx="361008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3"/>
            <a:stretch/>
          </p:blipFill>
          <p:spPr>
            <a:xfrm>
              <a:off x="8466120" y="139680"/>
              <a:ext cx="4267080" cy="34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469800"/>
            <a:ext cx="6870960" cy="9273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GSDI-10 Conference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53" name=""/>
          <p:cNvSpPr/>
          <p:nvPr/>
        </p:nvSpPr>
        <p:spPr>
          <a:xfrm>
            <a:off x="243000" y="1511280"/>
            <a:ext cx="12915720" cy="79246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opic: 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EOSS/related programmes: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S 29   A.Annoni, O.Ochiai, I.Deloatch, Compusult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S 31   R.Chen, L. Di, D. Nebert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rends: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Unprecedented growth of the user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DI - effective tool for sustainable development and for e/Gov’t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PPP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8575560" y="35568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8466120" y="139680"/>
            <a:ext cx="4267080" cy="3492360"/>
            <a:chOff x="8466120" y="139680"/>
            <a:chExt cx="4267080" cy="3492360"/>
          </a:xfrm>
        </p:grpSpPr>
        <p:pic>
          <p:nvPicPr>
            <p:cNvPr id="556" name="" descr=""/>
            <p:cNvPicPr/>
            <p:nvPr/>
          </p:nvPicPr>
          <p:blipFill>
            <a:blip r:embed="rId2"/>
            <a:srcRect l="2256" t="0" r="2563" b="0"/>
            <a:stretch/>
          </p:blipFill>
          <p:spPr>
            <a:xfrm>
              <a:off x="8796240" y="457200"/>
              <a:ext cx="361008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3"/>
            <a:stretch/>
          </p:blipFill>
          <p:spPr>
            <a:xfrm>
              <a:off x="8466120" y="139680"/>
              <a:ext cx="4267080" cy="34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280360" cy="9525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SDI - European Activities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59" name=""/>
          <p:cNvSpPr/>
          <p:nvPr/>
        </p:nvSpPr>
        <p:spPr>
          <a:xfrm>
            <a:off x="27000" y="1193760"/>
            <a:ext cx="13157280" cy="7365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nspire Directive - </a:t>
            </a: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Legislative Framework for the EU Member 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States and Beyond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Kopernikus/GMES </a:t>
            </a: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Showcase at the Lille GMES Forum 2008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alileo  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EIS    </a:t>
            </a: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INSPIRE  KONFERENCIA MARIBOR  Session on INSPIRE-SES-GMES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Project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Humboldt      </a:t>
            </a:r>
            <a:r>
              <a:rPr b="0" lang="en-US" sz="2000" spc="-1" strike="noStrike">
                <a:solidFill>
                  <a:srgbClr val="fffbf2"/>
                </a:solidFill>
                <a:latin typeface="Cochin"/>
                <a:ea typeface="Cochin"/>
              </a:rPr>
              <a:t>DATA AND SERVICE HARMONISATION</a:t>
            </a:r>
            <a:endParaRPr b="0" lang="en-US" sz="20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eSDI/Net+     </a:t>
            </a: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NETWORKING, EVALUATION, BEST PRACTICE, SUSTAINABILITY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IGAS          </a:t>
            </a:r>
            <a:r>
              <a:rPr b="0" lang="en-US" sz="1900" spc="-1" strike="noStrike">
                <a:solidFill>
                  <a:srgbClr val="fffbf2"/>
                </a:solidFill>
                <a:latin typeface="Cochin"/>
                <a:ea typeface="Cochin"/>
              </a:rPr>
              <a:t>FP6 PROJECTS, GMES, GEOSS, INSPIRE</a:t>
            </a:r>
            <a:endParaRPr b="0" lang="en-US" sz="19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8466120" y="139680"/>
            <a:ext cx="4267080" cy="3492360"/>
            <a:chOff x="8466120" y="139680"/>
            <a:chExt cx="4267080" cy="3492360"/>
          </a:xfrm>
        </p:grpSpPr>
        <p:pic>
          <p:nvPicPr>
            <p:cNvPr id="561" name="" descr=""/>
            <p:cNvPicPr/>
            <p:nvPr/>
          </p:nvPicPr>
          <p:blipFill>
            <a:blip r:embed="rId2"/>
            <a:srcRect l="2256" t="0" r="2563" b="0"/>
            <a:stretch/>
          </p:blipFill>
          <p:spPr>
            <a:xfrm>
              <a:off x="8796240" y="457200"/>
              <a:ext cx="361008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3"/>
            <a:stretch/>
          </p:blipFill>
          <p:spPr>
            <a:xfrm>
              <a:off x="8466120" y="139680"/>
              <a:ext cx="4267080" cy="34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9270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SDI - Int’l Activities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990720"/>
            <a:ext cx="12547440" cy="819144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entinel, Digital Asia, Countries, Cities...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UNSDI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UNGIWG Strategy, Global Partners’s Meeting, </a:t>
            </a:r>
            <a:endParaRPr b="0" lang="en-US" sz="30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with strong GSDI representation, UN project launched</a:t>
            </a:r>
            <a:endParaRPr b="0" lang="en-US" sz="30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YPE </a:t>
            </a:r>
            <a:r>
              <a:rPr b="0" lang="en-US" sz="2900" spc="-1" strike="noStrike">
                <a:solidFill>
                  <a:srgbClr val="fffbf2"/>
                </a:solidFill>
                <a:latin typeface="Cochin"/>
                <a:ea typeface="Cochin"/>
              </a:rPr>
              <a:t>(Interational Year of the Planet Earth)</a:t>
            </a:r>
            <a:endParaRPr b="0" lang="en-US" sz="2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2900" spc="-1" strike="noStrike">
                <a:solidFill>
                  <a:srgbClr val="fffbf2"/>
                </a:solidFill>
                <a:latin typeface="Cochin"/>
                <a:ea typeface="Cochin"/>
              </a:rPr>
              <a:t>Driven by UNESCO and the Geoscience Community </a:t>
            </a:r>
            <a:endParaRPr b="0" lang="en-US" sz="2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2900" spc="-1" strike="noStrike">
                <a:solidFill>
                  <a:srgbClr val="fffbf2"/>
                </a:solidFill>
                <a:latin typeface="Cochin"/>
                <a:ea typeface="Cochin"/>
              </a:rPr>
              <a:t>Paris Declaration. Contribution by GSDI Secretary</a:t>
            </a:r>
            <a:endParaRPr b="0" lang="en-US" sz="29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Digital Earth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Biannual Symposia and Summits: next: SDI and Climate Change</a:t>
            </a:r>
            <a:endParaRPr b="0" lang="en-US" sz="30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with Alessandro Annoni, DG JRC, Member of GSDI Board</a:t>
            </a:r>
            <a:endParaRPr b="0" lang="en-US" sz="30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Vespucci Position Paper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   </a:t>
            </a:r>
            <a:r>
              <a:rPr b="0" lang="en-US" sz="3000" spc="-1" strike="noStrike">
                <a:solidFill>
                  <a:srgbClr val="fffbf2"/>
                </a:solidFill>
                <a:latin typeface="Cochin"/>
                <a:ea typeface="Cochin"/>
              </a:rPr>
              <a:t>The next generation of Digital Earth - Subject for discussion also for GSDI</a:t>
            </a:r>
            <a:endParaRPr b="0" lang="en-US" sz="30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8466120" y="139680"/>
            <a:ext cx="4267080" cy="3492360"/>
            <a:chOff x="8466120" y="139680"/>
            <a:chExt cx="4267080" cy="349236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rcRect l="0" t="20321" r="0" b="20564"/>
            <a:stretch/>
          </p:blipFill>
          <p:spPr>
            <a:xfrm>
              <a:off x="8799480" y="457200"/>
              <a:ext cx="360684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3"/>
            <a:stretch/>
          </p:blipFill>
          <p:spPr>
            <a:xfrm>
              <a:off x="8466120" y="139680"/>
              <a:ext cx="4267080" cy="34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960" y="330120"/>
            <a:ext cx="8204040" cy="9273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Some New Tendencies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69" name=""/>
          <p:cNvSpPr/>
          <p:nvPr/>
        </p:nvSpPr>
        <p:spPr>
          <a:xfrm>
            <a:off x="420840" y="-50760"/>
            <a:ext cx="10399680" cy="90424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Traditional  GIS:    1M user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Geobrowser providers:  1300M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Mobile telecom supported solutions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will have even more  potential user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RFIDs and active/intelligent sensor network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Volunteer driven, participative based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data collection and  upload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Emerging involvement in eGovernment, policy implementation and control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3360" y="-177840"/>
            <a:ext cx="6870960" cy="23241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Preparing the </a:t>
            </a:r>
            <a:br>
              <a:rPr sz="5000"/>
            </a:b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GSDI-11 </a:t>
            </a:r>
            <a:br>
              <a:rPr sz="5000"/>
            </a:br>
            <a:r>
              <a:rPr b="0" lang="en-US" sz="5000" spc="-1" strike="noStrike">
                <a:solidFill>
                  <a:srgbClr val="fffbf2"/>
                </a:solidFill>
                <a:latin typeface="Copperplate"/>
              </a:rPr>
              <a:t>Conference</a:t>
            </a:r>
            <a:endParaRPr b="0" lang="en-US" sz="50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2438280"/>
            <a:ext cx="4305240" cy="62485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INSPIRE Conferenc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bf2"/>
                </a:solidFill>
                <a:latin typeface="Cochin"/>
                <a:ea typeface="Cochin"/>
              </a:rPr>
              <a:t>Space for Geo-information (NL) Conferenc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Cochin"/>
                <a:ea typeface="Cochin"/>
              </a:rPr>
              <a:t>GSDI-11 Conference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Cochin"/>
                <a:ea typeface="Cochin"/>
              </a:rPr>
              <a:t>Call for Workshop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6243480" y="0"/>
            <a:ext cx="6761160" cy="955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abor Remetey-Fulopp</cp:lastModifiedBy>
  <dcterms:modified xsi:type="dcterms:W3CDTF">2008-09-22T15:20:58Z</dcterms:modified>
  <cp:revision>15</cp:revision>
  <dc:subject/>
  <dc:title>Global Spatial Data  Association Report</dc:title>
</cp:coreProperties>
</file>