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731880"/>
            <a:ext cx="86090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What are the barriers to achieving the use case in general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71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to members of the International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a list of assets that they need acces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OS, NVSAT, RADARSAT, TERASAR,COSMOS SKY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ter is sometimes to slow to get hold of the data, need more info on th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a rapid Radar and L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info on what these assets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ing beyond 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possible to have derived products as apposed to the orig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access and security for CEOS access to deriv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access to process data and not actually see the data just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07960"/>
            <a:ext cx="86090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What Information Technology will help with overcoming the barriers of the use case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area of interest what is going to be there in the nea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issues arou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ISS assemble a needs list that can be managed by C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 that CEOS member agencies as much as possible make available by lowering the barrier and making it more accessible in emergency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ampaign manager with 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tailed DEM, more important vertical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ow can the Virtual Constellations help over come the barriers of the use case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ation data i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rain forecast and feed into flood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CS for TRMM data would be most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they can do sub-setting at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ch from service on the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some of these models that are out there available (CEOS?? the right plac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nstellations to have standard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06160"/>
            <a:ext cx="86090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an any "Systems and Services" be identified that are required to achieve the use case? (Catalogues, etc.)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some space out on the internet to host services cause Campuses are blocking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P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DAP has known security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 is big barrier to open systems, can WGISS make suggestions on architecture, 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many stovepipes. Need to cross boundaries. Proprietary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06160"/>
            <a:ext cx="86090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haracterise the "Systems and Services". (Data type, data volumes, processing intensive, etc.)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small amounts of data in the TIFFs for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ty of the data important, need high re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79360"/>
            <a:ext cx="860904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ow could we measure the success of the use case from a WGISS/GEOSS perspective in terms of short and long term needs being met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data good enough to make a decision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data very fast hours, 1 day, but not a week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ll in some of the automated interfaces and less is getting done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ence van Zyl</dc:creator>
  <dc:description/>
  <dc:language>en-US</dc:language>
  <cp:lastModifiedBy>jossadmin</cp:lastModifiedBy>
  <dcterms:modified xsi:type="dcterms:W3CDTF">2008-09-24T23:02:16Z</dcterms:modified>
  <cp:revision>2</cp:revision>
  <dc:subject/>
  <dc:title>What are the barriers to achieving the use case in general?</dc:title>
</cp:coreProperties>
</file>