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37299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692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5680" y="11430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9600" y="11430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37299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5680" y="37299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9600" y="37299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177480"/>
            <a:ext cx="838188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692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37299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37299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692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95680" y="11430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29600" y="11430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37299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95680" y="37299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29600" y="37299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177480"/>
            <a:ext cx="838188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692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37299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391520" y="6172200"/>
            <a:ext cx="1218960" cy="479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77080" y="642312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8BAE-C6F4-4EDE-A13D-A22A675E98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rcRect l="0" t="0" r="0" b="24403"/>
          <a:stretch/>
        </p:blipFill>
        <p:spPr>
          <a:xfrm>
            <a:off x="914400" y="6248520"/>
            <a:ext cx="1352520" cy="379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8080" y="990720"/>
            <a:ext cx="79250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6212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38080" y="617220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86600" y="6095880"/>
            <a:ext cx="1600200" cy="630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133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85800" y="457200"/>
            <a:ext cx="1676520" cy="617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6156360"/>
            <a:ext cx="2590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Department of the In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Geological Surv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60958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28600" y="0"/>
            <a:ext cx="2092320" cy="836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67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85345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nd Surface Imaging (LSI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est Group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320004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ISS #2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ember, 200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lder, Colorado, US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yndon R. Ole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.S. Geological Surv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th Resources Observation and Science (EROS) Ce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oux Falls, S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SI Interest Gro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eting is a formulation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ISS #25 in Sanya was focused almost entirely on the LSI Constellation Portal and support topic given the joint LSI Constellation Study Team meet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overall potential focus areas for the LSI Interest Grou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shall we focus our topics and interactions over the next yea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SI Interest Gro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Special Interest Group Members from WGISS #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G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yn Oleson, L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S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h Weinstein, Michael Burnett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la Ol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STD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korn Apaph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R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jeev Jaisw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N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BD (from JP Antikid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F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ul Dav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S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aliia Kuss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s need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SI Interest Gro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reas of WGISS Support to Land Surface Imaging Commun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yond support to LSI Constell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types of potential foc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new technologies for possibl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user information access needs not being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tional land science user communities to collaborate with?  IGO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SI Earth Science User Driver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John Townsend representing IGO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ong the necessary tasks in addition to the LSI Constellation Portal are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of meta-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earch and delivery mechanisms from the portal (perhaps this will be done through the WGISS eff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of scenes from different sources (issues such as conversion to reflectances, common projection, ortho-rectification not to mention the possibility of atmospheric correction as discussed in Sany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ing QA and cloud cover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 brow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opulating" the por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tional Land Science Colabor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GB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Land Project - G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-Ocean Interactions in the Coastal Zone – LOI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th System Science Part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Carbon Project (G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Environmental Change and Food Systems (GECA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Water System Project (GW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tional Observing Coordination Organiz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Global Observations of the Land (land theme of IGOS-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Hazards Theme of IGOS-P (still very a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FC-GO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restrial Observation Panel for Climate (TOPC) - Joint GCOS-GTOS Pa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SI Interest Gro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ddition to ongoing LSI Constellation Portal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can the LSI Interest Group provide support or assistance to the LSI community over the coming yea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9:07:47Z</dcterms:created>
  <dc:creator>Lyndon Oleson</dc:creator>
  <dc:description/>
  <dc:language>en-US</dc:language>
  <cp:lastModifiedBy>Lyn Oleson</cp:lastModifiedBy>
  <dcterms:modified xsi:type="dcterms:W3CDTF">2008-09-24T21:16:16Z</dcterms:modified>
  <cp:revision>549</cp:revision>
  <dc:subject>None</dc:subject>
  <dc:title>None</dc:title>
</cp:coreProperties>
</file>