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05F-B629-4D0E-9137-BBEF8DAA08B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utually agreeable CRS is necessary between data servers and clients to interact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PSG code may not be always apparent to everyone, especially for some particular proj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o far, no see of WMS server which provides “polar stereographic” images y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hich (polar)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ing map projection from one to oth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この軸設定がポーラステレオ図法のデフォルトと考えて良いか、投影図法ガイドを再度確認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S related parameters in WMS reques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S : in a form of “identifier : code number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 : with min (x, y) and max (x, y) value using the axis units and axis order of the specified C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- draw data in the specified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- transformation ability from one projection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drawing, coordinate cali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- No predetermined info for “Polar Stereographic” for EPSG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439-9759-41C6-A98A-3CBECCC1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1F5-91AD-48CA-8E00-DFE88511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E9E-B5B4-4D80-BDFD-E948552D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CBE-AC95-4390-B9AA-87E676CD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CD29-842D-49B0-8F59-6898AC7D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8B7-EB95-4576-AEB2-ED6A1DC3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74BD-5891-49F5-8120-47F008A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E68-A741-4864-9B65-2BADCD3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6B6-52E6-4712-AB61-9552ED15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30D-7AAC-4A78-AAD5-9E4F9D5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529-47AA-4B8C-A2C6-F200606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814-77FF-465B-8E02-7C5B29D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AE7A-2153-4086-95C0-DF8F133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044-7265-4700-90F3-05FBED5A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8EB-EBB6-425C-8A05-95836C4E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BEA1-5B0C-4593-9D12-D16FC55A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485-A5FF-4CB1-87A8-A1280A0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3E5-EAD1-4B43-9257-0FD4CE7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1D1-B8EC-43A4-B69D-C0018B6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5D9-D520-4CB7-804F-B39A030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A6C-9337-4CE4-9846-17C2C32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92B-EED6-426C-A7CA-D468021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290-899C-42A3-8FA2-F9E3211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14D-2485-423D-B97C-9770749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8569-A71B-4F7F-A71A-CD19BB7AF37E}" type="slidenum">
              <a:rPr b="0" lang="ja-JP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AAE-1ED4-492A-A5FE-7AB16E6D8547}" type="slidenum">
              <a:rPr b="0" lang="ja-JP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lar Image Mapping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- Lessons Learn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23200" y="4635360"/>
            <a:ext cx="7110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hinobu Kawah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mote Sensing Technology Center of Japan (RESTE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 support of Japan Aero-exploration Agency (JAXA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GISS-26 Boulder, Colorad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pServer problem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 vector map drawing - Examp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80680" y="652140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-&gt; Some polygons disappeared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179244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16360" y="179244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969480" y="5516640"/>
            <a:ext cx="30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ecff"/>
                </a:solidFill>
                <a:latin typeface="Times New Roman"/>
              </a:rPr>
              <a:t>Original : Geograhpic Lat-lo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ecff"/>
                </a:solidFill>
                <a:latin typeface="Times New Roman"/>
              </a:rPr>
              <a:t>Export : Polar Stereograph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ecff"/>
                </a:solidFill>
                <a:latin typeface="Times New Roman"/>
              </a:rPr>
              <a:t>(on-the-fly transformatio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01840" y="558972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riginal : Polar Stereograph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Export : Polar Stereograph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(non actual transformatio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5840" y="134136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se : North Pole is center of  the scene in the “polar stereographic” proj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lar Images in other projectio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om distributed WMS serv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33360" y="1612800"/>
            <a:ext cx="3951360" cy="3951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716360" y="161136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4360" y="570852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NSIDC (National Snow and Ice Data Center) WM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99760" y="57085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JAXA Test WM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79280" y="635652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EPSG:32661, “UPS North” projec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ssons Learned /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iderations for Polar Image Mapp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920" y="1517760"/>
            <a:ext cx="86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PSG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EPSG code is widely adopted to identify CRS. Need advices on how to identify “WGS84/polar stereographic” in EPSG code, if corresponding code exis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20" y="3335400"/>
            <a:ext cx="8856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p Proje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Mutually agreeable CRS is necessary between data servers and clients. Common “Geographic lat-long” could be a possible answer to exchange images, however, image quality reduces after the client transforms to harmonize different projection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Any comment/recommendation is appreciated about in which projection to provide polar images via WMS servi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s Learned (cont’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1341360"/>
            <a:ext cx="88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ftware limit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Map projections may have particular theoretical conditions such as ranges of value and extra paramete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Software, especially FOSS, might have limitations in understanding the identified projection, translating coordinates, transforming map projection, and so o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0360" indent="-17964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Preliminary check would be helpful as regards polar regions to avoid unexpected results and then to explore alternative way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268280"/>
            <a:ext cx="84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olar regions are special region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Polar region will be largely distorted if expressed in some projections.  (e.g. popular “Geographic lat-long” projec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Polar images may be better understood in polar specific projection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36800" y="3645000"/>
            <a:ext cx="31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GS84/Geographic lat-long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35800" y="36450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GS84/Polar Stereographic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00000" y="4044960"/>
            <a:ext cx="3529080" cy="18064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959360" y="4044960"/>
            <a:ext cx="2592360" cy="23734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2714760" y="6521400"/>
            <a:ext cx="61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* WGS84 : Name of an ellipsoidal earth model (and its associated datum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5720" y="115560"/>
            <a:ext cx="85993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arious Polar Specific Proje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908000" y="3352680"/>
          <a:ext cx="5399280" cy="3286080"/>
        </p:xfrm>
        <a:graphic>
          <a:graphicData uri="http://schemas.openxmlformats.org/drawingml/2006/table">
            <a:tbl>
              <a:tblPr/>
              <a:tblGrid>
                <a:gridCol w="539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Some CRS with Polar Projec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North Pole  Azimuthal Equidista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North Pole Lambert Azimuthal Equal Are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WGS 84 / North Pole Stereographic (*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South Pole Azimuthal Equidista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South Pole Lambert Azimuthal Equal Are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WGS 84 / South Pole Stereographic (*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UPS (Universal Polar Stereographic) Nor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UPS (Universal Polar Stereographic) So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24000" y="1268280"/>
            <a:ext cx="84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CRS (Coordinate Reference System)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and Map Proj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Data/Images are geographically referenced using CR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CRS is determined by such elements as earth model, coordinate systems, and map projec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There are various map projections for polar reg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867280" y="4653000"/>
            <a:ext cx="3168720" cy="1800360"/>
          </a:xfrm>
          <a:prstGeom prst="rect">
            <a:avLst/>
          </a:prstGeom>
          <a:solidFill>
            <a:srgbClr val="54547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ar Stereographic” Proj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720" y="1125360"/>
            <a:ext cx="83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xes and coordinates in WGS84/Polar Stereographic Proje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6760" y="591804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(South Pole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040" y="48690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rojection Plan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74720" y="1557360"/>
            <a:ext cx="5301000" cy="4846320"/>
            <a:chOff x="774720" y="1557360"/>
            <a:chExt cx="5301000" cy="4846320"/>
          </a:xfrm>
        </p:grpSpPr>
        <p:graphicFrame>
          <p:nvGraphicFramePr>
            <p:cNvPr id="237" name=""/>
            <p:cNvGraphicFramePr/>
            <p:nvPr/>
          </p:nvGraphicFramePr>
          <p:xfrm>
            <a:off x="774720" y="1825560"/>
            <a:ext cx="5014440" cy="457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720" y="1825560"/>
                      <a:ext cx="5014440" cy="45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3127680" y="6081480"/>
              <a:ext cx="322200" cy="322200"/>
            </a:xfrm>
            <a:prstGeom prst="ellipse">
              <a:avLst/>
            </a:prstGeom>
            <a:noFill/>
            <a:ln w="28440">
              <a:solidFill>
                <a:srgbClr val="f31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8440" y="4085640"/>
              <a:ext cx="4960800" cy="0"/>
            </a:xfrm>
            <a:prstGeom prst="line">
              <a:avLst/>
            </a:prstGeom>
            <a:ln w="19080">
              <a:solidFill>
                <a:srgbClr val="f319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96880" y="1636560"/>
              <a:ext cx="0" cy="4563720"/>
            </a:xfrm>
            <a:prstGeom prst="line">
              <a:avLst/>
            </a:prstGeom>
            <a:ln w="19080">
              <a:solidFill>
                <a:srgbClr val="f319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57840" y="3906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31996"/>
                  </a:solidFill>
                  <a:latin typeface="Arial"/>
                </a:rPr>
                <a:t>Ｘ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44040" y="1557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31996"/>
                  </a:solidFill>
                  <a:latin typeface="Arial"/>
                </a:rPr>
                <a:t>Ｙ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621160" y="6461280"/>
            <a:ext cx="31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&lt; North Pole Stereographic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5600" y="407664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(X, Y unit : meter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33840" y="47116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North Pol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973840" y="5013360"/>
            <a:ext cx="1620720" cy="877320"/>
            <a:chOff x="5973840" y="5013360"/>
            <a:chExt cx="1620720" cy="877320"/>
          </a:xfrm>
        </p:grpSpPr>
        <p:pic>
          <p:nvPicPr>
            <p:cNvPr id="248" name="" descr="Stereographic"/>
            <p:cNvPicPr/>
            <p:nvPr/>
          </p:nvPicPr>
          <p:blipFill>
            <a:blip r:embed="rId3"/>
            <a:stretch/>
          </p:blipFill>
          <p:spPr>
            <a:xfrm>
              <a:off x="5973840" y="5043240"/>
              <a:ext cx="16207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745320" y="5013360"/>
              <a:ext cx="71640" cy="70920"/>
            </a:xfrm>
            <a:prstGeom prst="ellipse">
              <a:avLst/>
            </a:prstGeom>
            <a:solidFill>
              <a:srgbClr val="54547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771640" y="3587760"/>
            <a:ext cx="943200" cy="942840"/>
          </a:xfrm>
          <a:prstGeom prst="rect">
            <a:avLst/>
          </a:prstGeom>
          <a:noFill/>
          <a:ln w="28440">
            <a:solidFill>
              <a:srgbClr val="545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53040" y="458136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Times New Roman"/>
              </a:rPr>
              <a:t>(minX, minY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0320" y="3213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Times New Roman"/>
              </a:rPr>
              <a:t>(maxX, maxY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plore Necessary Consideration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360" y="134136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ecff"/>
              </a:buClr>
              <a:buFont typeface="Wingdings" charset="2"/>
              <a:buChar char="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erform a preliminary chec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liminary check has been performed to find problems and/or considerations to provide data in polar specific projections in Web Map system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indent="-18072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Explore considerations to make WMS server and cli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indent="-180720">
              <a:lnSpc>
                <a:spcPct val="100000"/>
              </a:lnSpc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indent="-18072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Explore Free Open Source Software (MapServer) abilities to serve projected images in polar specific projection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88920" indent="-87120">
              <a:lnSpc>
                <a:spcPct val="100000"/>
              </a:lnSpc>
              <a:tabLst>
                <a:tab algn="l" pos="0"/>
                <a:tab algn="l" pos="5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(e.g. WGS84 “Polar Stereographic” projection, adopted in some JAXA produc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WMS access /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the poin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4324320"/>
            <a:ext cx="93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questions are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8900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How can I figure out the EPSG code for a particular CRS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89000"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Does my software understand that code and process data appropriatel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69056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WMS server must support at least one C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411280"/>
            <a:ext cx="77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 WMS v1.3, CRS is expected to be identified by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Certain CRS code system (namely EPSG code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Or, URL of the file containing a definition of the CRS that is compliant with ISO 19111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out the EPSG Cod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544500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is requires certain knowledge of geography domain to manipulate the scrip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628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PSG Cod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It is the code defined in “EPSG (European Petroleum Survey Group) geodetic dataset”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This dataset adopts SQL scripts to create EPSG codes on-the-fly by setting geographical paramete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( They don’t provide codes in a manner of possible entire list. 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1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PSG Code for CRS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h Polar Proj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69480" y="5410080"/>
            <a:ext cx="93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k comments/information to WGI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What is the EPSG code for WGS84/Polar Stereographic Projection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- Does the EPSG code assure all the CRS cover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03240" y="1344600"/>
          <a:ext cx="7340760" cy="3689280"/>
        </p:xfrm>
        <a:graphic>
          <a:graphicData uri="http://schemas.openxmlformats.org/drawingml/2006/table">
            <a:tbl>
              <a:tblPr/>
              <a:tblGrid>
                <a:gridCol w="5630760"/>
                <a:gridCol w="171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Some CRS with Polar Projec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EPSG Cod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North Pole  Azimuthal Equidista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North Pole Lambert Azimuthal Equal Are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WGS 84 / North Pole Stereographic (*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South Pole Azimuthal Equidista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South Pole Lambert Azimuthal Equal Are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WGS 84 / South Pole Stereographic (*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ＭＳ Ｐゴシック"/>
                        </a:rPr>
                        <a:t>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UPS (Universal Polar Stereographic) Nor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3266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WGS 84 / UPS (Universal Polar Stereographic) So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ＭＳ Ｐゴシック"/>
                        </a:rPr>
                        <a:t>3276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5364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pServer Ability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garding Polar Proj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191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- Basic method to process various projections has been check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6400" y="14842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plore MapServer 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722680"/>
            <a:ext cx="8425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) The software seems to process popular polar projections, if adequate info is passed into its library (namely Proj4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4640" indent="-217440">
              <a:lnSpc>
                <a:spcPct val="10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set process-parameters manual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4640" indent="-217440">
              <a:lnSpc>
                <a:spcPct val="10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or, use the predefined lists of code and parameters combinations ( however, no predetermined info of “Polar Stereographic” with EPSG code.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i) Containing critical spot (such as date-line-meridian) in a scene may cause mal-calculations to convert into/from polar projection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624852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- Some test cases are examined with MapServer 4.1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0720" y="23623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ind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360" y="5869080"/>
            <a:ext cx="13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3:44:10Z</dcterms:created>
  <dc:creator>kawahito</dc:creator>
  <dc:description/>
  <dc:language>en-US</dc:language>
  <cp:lastModifiedBy>kawahito</cp:lastModifiedBy>
  <dcterms:modified xsi:type="dcterms:W3CDTF">2008-09-25T13:21:33Z</dcterms:modified>
  <cp:revision>1194</cp:revision>
  <dc:subject/>
  <dc:title>What is intended?</dc:title>
</cp:coreProperties>
</file>