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BD61-D417-48CC-AAF0-0A93F40F3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5169-5AE5-4A80-B852-8A1755E57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96AA-9B3B-4236-991C-C2F9C95B8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6309-B06A-462A-ABE0-F7B980B4F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4701-DBF4-4958-9573-312183A819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254A-688D-4ABC-9C5B-88B63DDC83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8183-5375-4EDF-A3AD-98171C7511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CD9C-A682-4D57-9C12-7B4F451549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B5104-9451-4290-9808-F3EF0C160C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0D75-5F97-43AF-96C1-C3BEDB08A0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A63E-D654-4B07-B7BB-465D1C81E3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E5E3-94BC-4EE7-BB65-A643AA46F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42D6-959B-4BC6-BD50-7C3AC8BD43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AFC0-846E-4764-9E2E-8E3621C964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1B19-4B4F-4E61-80FF-C757A884D5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5AAB-34A3-4F19-B2F1-FD8DE0263C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A33E-5A18-4953-97CD-3268ABC679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5D3D-EDEC-41FB-817A-B28F6210CF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7BFD-55F0-4A0D-8E51-97CAD7E6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39FB-655A-4E19-A119-D0D27F69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F806-2E03-442B-B807-16335674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21BD-739D-4F58-8C63-97D7371E90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7509-B6C2-4E6E-B81B-637C0D24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238B-3E80-4E93-8AD6-EC049054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26EB-98EE-42BF-9737-2AA5A8C0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A3AE-8350-4BED-B124-94AC4FE7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E2B6-5922-4030-9A9C-CDAA137B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9020-15B4-4E97-9F46-687610B1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9709-997E-4643-A80A-78899CD0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0326-8423-486A-BC49-D0750820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CB35-7392-4648-B21B-5B05A249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DB03-C738-4B5B-8409-1227F1C45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4849-7507-4380-8421-8628F62E4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A623-3C52-4BEE-93D8-5C474237A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CA56-4C90-4328-BC9F-B9C800B3D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C5D7-7A28-4CCD-AE5F-5995D70F4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35E5-6510-4D95-91A5-16565FF37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0" y="5954760"/>
            <a:ext cx="18288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14920" y="6311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8DC8-D2BA-437F-B654-8C1740C23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924680" y="661824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4520" y="5954760"/>
            <a:ext cx="18288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36360" y="333360"/>
            <a:ext cx="1223640" cy="924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55640" y="926640"/>
            <a:ext cx="813744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467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77720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C1E0-E026-491A-B461-E457629CA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52280" y="6323760"/>
            <a:ext cx="8915400" cy="399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dfee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6370560"/>
            <a:ext cx="48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Grande"/>
                <a:ea typeface="楷体_GB2312"/>
              </a:rPr>
              <a:t>WGISS-26~ Boulder, CO ~ September 22-26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67640" y="0"/>
            <a:ext cx="140796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990720" y="3259800"/>
            <a:ext cx="7619760" cy="9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807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D942-D77C-40A7-924D-0BE64B2E036B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8000" y="0"/>
            <a:ext cx="1407960" cy="936000"/>
            <a:chOff x="108000" y="0"/>
            <a:chExt cx="1407960" cy="93600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08000" y="0"/>
              <a:ext cx="1407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42280" y="47628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66cc"/>
                  </a:solidFill>
                  <a:latin typeface="Arial Black"/>
                  <a:ea typeface="宋体"/>
                </a:rPr>
                <a:t>WGI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1771200"/>
            <a:ext cx="8153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Lucida Sans"/>
                <a:ea typeface="宋体"/>
              </a:rPr>
              <a:t>WGISS Plenary:</a:t>
            </a:r>
            <a:br>
              <a:rPr sz="4800"/>
            </a:br>
            <a:r>
              <a:rPr b="1" lang="en-GB" sz="4800" spc="-1" strike="noStrike">
                <a:solidFill>
                  <a:srgbClr val="333399"/>
                </a:solidFill>
                <a:latin typeface="Lucida Sans"/>
                <a:ea typeface="宋体"/>
              </a:rPr>
              <a:t>Charge to Subgroups</a:t>
            </a:r>
            <a:endParaRPr b="0" lang="en-US" sz="48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990600"/>
            <a:ext cx="64008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rtha E. Maiden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EOS WGISS-26/GEO ADC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oulder, Colorado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ptember 22, 2008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Outcome of WGISS-25, Sanya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2320" y="1128240"/>
            <a:ext cx="78454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quest for more time in Subgroups for Technology Discussions and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ree full days devoted to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organization of Work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sk Teams replaced by Interest Groups and/o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erest Groups are topic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jects characterized by specific objectives, workplans,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89A8-C48C-4F00-96B5-B882C1533AA4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WGISS Current Focus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3840" y="955440"/>
            <a:ext cx="784512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vide satellite arm of GEO System of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novative contributions that will persist, and can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ork closely with and support CEOS Virtual Constellations (GEO 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DA-07-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High GEO interest in LSI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ork closely with collaborate with CEOS Working Group on Calibration and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GISS Chair Maiden to attend WGCV next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nd Product Validation Special Session on ag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upport the CEOS Plenary Chair’s Data Democracy initi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1B2D-2705-44CE-A8E0-3C7879D8E7D6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Plenary Charge to Subgroups, 1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440" y="925200"/>
            <a:ext cx="83106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Sans"/>
              </a:rPr>
              <a:t>WGISS Subgroups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Focus on overall objective of WGISS: to facilitate data and information management and services for users and data provi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Recommendations coming from Outcomes on Interest Group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Recommend Strategic Directions and New Work from Subgroup Technical Discussions, which could be Across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Sans"/>
              </a:rPr>
              <a:t>Four Current 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Satellite Arm of 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Recommend what Project Milestones should be made into 2009 Actions, and carried to 2nd CEOS/GEO Actions Meeting for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Recommend what WGISS Capabilities might be added to GEO Plenary Demo in Bucharest</a:t>
            </a: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Recommendations for working actively with CEOS Constel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commendations for working actively with WG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Example of collaboration:  Ensuring metadata contain all relevant content on data quality, using multiple instruments’ data looking at specific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Determine what Project outcomes relevant to Data Democracy purposes and Recommend to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DD56-F47A-464B-A5E5-FDD9CE28D59B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Plenary Charge to Subgroups, 2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5440" y="934560"/>
            <a:ext cx="83106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Continue Deliberations on Subgroups’ Content Reorg and Recommend any Evolutionary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Has the division of work in Subgroups become blur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Is there a better categorization of work we could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Rename Technology and Services/Projects and Applic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Organize gaps in WGISS technical expertise and needs for support from Agencies for Chair to Request at November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What expertise needed for Interest Groups to request CEOS agencies could send to WGISS-2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Are specific agency resources (monetary, participation, data contributions, etc.) needed to be placed toward a WGISS Interest Group or Proj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All Recommendations to be included in Subgroups’ Reports to be Presented to WGISS Plenary Friday, September 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4574-AB15-4BBB-B788-B05A21E9623C}" type="slidenum">
              <a:t>5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7:36:49Z</dcterms:created>
  <dc:creator>SAIC ODIN</dc:creator>
  <dc:description/>
  <cp:keywords/>
  <dc:language>en-US</dc:language>
  <cp:lastModifiedBy>Martha Maiden</cp:lastModifiedBy>
  <cp:lastPrinted>2004-04-15T17:51:45Z</cp:lastPrinted>
  <dcterms:modified xsi:type="dcterms:W3CDTF">2008-09-22T11:59:19Z</dcterms:modified>
  <cp:revision>307</cp:revision>
  <dc:subject/>
  <dc:title>Understanding and  Protecting Our Home Planet</dc:title>
</cp:coreProperties>
</file>