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sldImg"/>
          </p:nvPr>
        </p:nvSpPr>
        <p:spPr>
          <a:xfrm>
            <a:off x="1104480" y="812520"/>
            <a:ext cx="5343480" cy="4003560"/>
          </a:xfrm>
          <a:prstGeom prst="rect">
            <a:avLst/>
          </a:prstGeom>
          <a:noFill/>
          <a:ln w="0">
            <a:noFill/>
          </a:ln>
        </p:spPr>
        <p:txBody>
          <a:bodyPr lIns="0" rIns="0" tIns="0" bIns="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8"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126E09-3D5B-4ABD-B3D1-1874F8113A1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CF4AC-8971-4C39-BC58-4BC23EFB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AD22-572B-4515-B66B-69F1DDC9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FF6EB-09AE-4DDC-8623-39BFEFBA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3C0FF-06C3-4D03-A27A-4FC941F2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1A72-DBF8-4FDA-AE28-657DD225B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0EC74-5AA6-4E0C-BFC6-5A6699AFC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C9783-3688-4006-84D2-5AF99A26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798F-02DE-4BA4-ADD6-D00F1EB48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79000"/>
            <a:ext cx="9066240" cy="60206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50E46-2CC3-4424-AF3E-45B13A63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65A8-A05E-4BB4-BE89-572DF4FCC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4B2D-4075-4C37-BC6E-FC6E9EAE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01E1-C10A-4A93-9A06-4C5219183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90B825-D691-4CEE-84C1-40DAD5143BE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275760"/>
            <a:ext cx="9070920" cy="131292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Sensor Web Interest Group</a:t>
            </a:r>
            <a:br>
              <a:rPr sz="4400"/>
            </a:br>
            <a:r>
              <a:rPr b="1" lang="en-GB" sz="4400" spc="-1" strike="noStrike">
                <a:solidFill>
                  <a:srgbClr val="f57900"/>
                </a:solidFill>
                <a:latin typeface="Bitstream Vera Sans"/>
              </a:rPr>
              <a:t>WGISS Plenary Report</a:t>
            </a:r>
            <a:endParaRPr b="1" lang="en-US" sz="4400" spc="-1" strike="noStrike">
              <a:solidFill>
                <a:srgbClr val="f57900"/>
              </a:solidFill>
              <a:latin typeface="Bitstream Ve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SWIG Presentations</a:t>
            </a:r>
            <a:endParaRPr b="1" lang="en-US" sz="4400" spc="-1" strike="noStrike">
              <a:solidFill>
                <a:srgbClr val="f57900"/>
              </a:solidFill>
              <a:latin typeface="Bitstream Vera Sans"/>
            </a:endParaRPr>
          </a:p>
        </p:txBody>
      </p:sp>
      <p:sp>
        <p:nvSpPr>
          <p:cNvPr id="53" name="PlaceHolder 2"/>
          <p:cNvSpPr>
            <a:spLocks noGrp="1"/>
          </p:cNvSpPr>
          <p:nvPr>
            <p:ph/>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hallenges noted by GEOSS Sensor Web task DA-07-04 include Web Service Security, Sensor Discovery, Semantics, Providence, and should be considered by SWIG.</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ISO 19130 Imagery Sensor Models for Geopositioning, under development</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SWIMA new sensor web programme for BNSC</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279360"/>
            <a:ext cx="9067680" cy="130032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SWIG Interaction with Virtual Constellations</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Precipitation Virtual Constellation and Flood monitoring prototype to interact in the AIP.</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Precipitation Virtual Constellation to present a WCS to Flood monitoring prototype.</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Sensor Web Interest Group to engage the Atmospheric Virtual Constellation on a possible project.</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Accomplishments</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Flood Monitoring Project successful prototype. Demonstrations of success by NASA and NSAU. Working closely with the IFRC. Possible candidate for demonstration to CEOS. The food monitoring project will feed into the AIP2.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Recommendations</a:t>
            </a:r>
            <a:endParaRPr b="1" lang="en-US" sz="4400" spc="-1" strike="noStrike">
              <a:solidFill>
                <a:srgbClr val="f57900"/>
              </a:solidFill>
              <a:latin typeface="Bitstream Vera Sans"/>
            </a:endParaRPr>
          </a:p>
        </p:txBody>
      </p:sp>
      <p:sp>
        <p:nvSpPr>
          <p:cNvPr id="59" name="PlaceHolder 2"/>
          <p:cNvSpPr>
            <a:spLocks noGrp="1"/>
          </p:cNvSpPr>
          <p:nvPr>
            <p:ph/>
          </p:nvPr>
        </p:nvSpPr>
        <p:spPr>
          <a:xfrm>
            <a:off x="503280" y="1767960"/>
            <a:ext cx="9067680" cy="5527800"/>
          </a:xfrm>
          <a:prstGeom prst="rect">
            <a:avLst/>
          </a:prstGeom>
          <a:noFill/>
          <a:ln w="0">
            <a:noFill/>
          </a:ln>
        </p:spPr>
        <p:txBody>
          <a:bodyPr lIns="0" rIns="0" tIns="0" bIns="0" anchor="t">
            <a:normAutofit fontScale="99000"/>
          </a:bodyPr>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The Interest Group, Project structure has proved successful within the context of sensor web and we feel that the case has been made for the new structure.</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Standards based Interfaces on services will benefit the Sensor Web.</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The SWIG Flood Monitoring Project will continue as a WGISS project contribution to AIP2.</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Recommendation by Flood Monitoring Project that the use of GRID in the context of Sensor Web needs further exploration.</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Recommendations</a:t>
            </a:r>
            <a:endParaRPr b="1" lang="en-US" sz="4400" spc="-1" strike="noStrike">
              <a:solidFill>
                <a:srgbClr val="f57900"/>
              </a:solidFill>
              <a:latin typeface="Bitstream Vera Sans"/>
            </a:endParaRPr>
          </a:p>
        </p:txBody>
      </p:sp>
      <p:sp>
        <p:nvSpPr>
          <p:cNvPr id="61" name="PlaceHolder 2"/>
          <p:cNvSpPr>
            <a:spLocks noGrp="1"/>
          </p:cNvSpPr>
          <p:nvPr>
            <p:ph/>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WGISS to select presentation and comment for  ISO 19130 [Possible WGISS-ALL action]</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Reoccurring issues are those of provenance and security. Mentioned in GRID, Sensor Web and Web Service Interest Groups and may be worth exploring  as a cross WGISS issue.</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Data Democracy will go a long way to facilitating Flood Monitoring Prototype. A call for more open access to data.</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Actions</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3280" y="1768320"/>
            <a:ext cx="9067680" cy="5075280"/>
          </a:xfrm>
          <a:prstGeom prst="rect">
            <a:avLst/>
          </a:prstGeom>
          <a:noFill/>
          <a:ln w="0">
            <a:noFill/>
          </a:ln>
        </p:spPr>
        <p:txBody>
          <a:bodyPr lIns="0" rIns="0" tIns="0" bIns="0" anchor="t">
            <a:normAutofit fontScale="99000"/>
          </a:bodyPr>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Flood Monitoring for the GRID project group to provide a lessons learnt on the SWE services as experienced [Natalia Kussul, Next WGISS]</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Lessons learnt Flood Monitoring Prototype [Karen Moe, Next WGISS]</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ECHO Discovery to be explored as a mechanism for Sensor Discovery in Sensor Web [Michael Burnett, Next WGISS]</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Distribute GEOSS Sensor Web report to WGISS-ALL [Terence van Zyl, 7-Oct-2008]</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Actionable Actions</a:t>
            </a:r>
            <a:endParaRPr b="1" lang="en-US" sz="4400" spc="-1" strike="noStrike">
              <a:solidFill>
                <a:srgbClr val="f57900"/>
              </a:solidFill>
              <a:latin typeface="Bitstream Vera Sans"/>
            </a:endParaRPr>
          </a:p>
        </p:txBody>
      </p:sp>
      <p:sp>
        <p:nvSpPr>
          <p:cNvPr id="65" name="PlaceHolder 2"/>
          <p:cNvSpPr>
            <a:spLocks noGrp="1"/>
          </p:cNvSpPr>
          <p:nvPr>
            <p:ph/>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AT 1: AR-07-02_1 closed with participation by many WGISS members CFP been answered.</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AT 3: DA-07-04_1 Rolled into ...</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AT 2: HE-06-04_2 Atmospheric Constellation Interest Group to be established and will evaluate the Sensor Web Applicability. With possible group lead Stephan Falke. Project will be established if it is applicable.</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rence van Zyl</dc:creator>
  <dc:description/>
  <dc:language>en-US</dc:language>
  <cp:lastModifiedBy/>
  <cp:revision>0</cp:revision>
  <dc:subject/>
  <dc:title/>
</cp:coreProperties>
</file>