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8E1F-4C05-4D0F-A63A-134303592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6946-067A-4F70-9A4F-8491C20D2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2E26-BFAF-40ED-938D-CC1DBC6DB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28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352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28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7296-7CE5-46E7-BB04-5238796FF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E49E-72A5-43D5-BDFB-334A096A92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36AF-7E2B-4CCE-BA50-03306BB3E9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43E7-3014-41A3-B0AA-EB292DC99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B81E-027B-4B69-A7DF-6AE55B7A02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D968-17A0-4DFC-9157-529E25E701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3976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A14B-D030-46B6-B17C-F617A87C7C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6BF0-5AEA-4ACA-A35E-B16A0A55B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ADEB-6FA1-433E-9ECA-F8413D37E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89E2-A6C1-479F-A927-25BA047C0B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0C99-2D8E-4CC1-905F-7E6D50184B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9B19-909C-49D8-A9A9-0A03DEDAC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5A6B-EA44-4FD4-AF1F-0A0B59228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28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1040" y="129060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352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228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1040" y="3974040"/>
            <a:ext cx="2722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CCDD-AC20-4D32-AAEF-E9A35C0A3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D9DA-3910-46DE-AE17-9AF9929E7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6203-BE74-40F5-9DB5-601728F3C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557C-E7F5-4112-987D-58FB83081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976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B00A-8835-409B-BDD1-7746F6304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BA9-ADD7-4D7A-9FFA-6F85A11DC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120" y="397404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641C-8FD1-44CC-870C-8960F0EF0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290600"/>
            <a:ext cx="412596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3520" y="3974040"/>
            <a:ext cx="84553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02BC-2E23-47F6-AF49-AFA84C5A5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499080" y="6435360"/>
            <a:ext cx="190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46B-8B65-47DD-96A8-1F1A0B0A26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7640" indent="-1666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5680" indent="-2239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88A-2BF5-44A3-B2E3-8038EAAACD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lvl="1" marL="2840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6382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9190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257480" indent="11268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257480" indent="11268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257480" indent="11268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b81"/>
                </a:solidFill>
                <a:latin typeface="Comic Sans MS"/>
                <a:ea typeface="宋体"/>
              </a:rPr>
              <a:t>Grid Task Team Update</a:t>
            </a:r>
            <a:endParaRPr b="1" lang="en-US" sz="24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60" y="5854680"/>
            <a:ext cx="37083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Guoqing Li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to WGISS-26, Boulder, CO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a84"/>
                </a:solidFill>
                <a:latin typeface="Comic Sans MS"/>
                <a:ea typeface="宋体"/>
              </a:rPr>
              <a:t>23rd, Sept, 2008</a:t>
            </a:r>
            <a:endParaRPr b="0" lang="en-US" sz="1800" spc="-1" strike="noStrike">
              <a:solidFill>
                <a:srgbClr val="104a84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Grid Task Team Active Members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N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c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mber and promo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Focusing on Wide Area Gr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Basic Project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W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Leader person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Jean-Pierre Antikidi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Paul Ko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A/ESR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y clear technical and strategic road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Continually and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stemic update in each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using on on-demand grid and new data infrastructure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ic Project: G-POD, GENESI-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 person: Luigi Fusco, Roberto Cos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Grid Task Team Active Members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7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RSC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ive me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using on Inter-grid and Next Generation Data Infrastructu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Project: Spatial Information 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 Perso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oqing L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henchun Hua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SU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h but active me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ing on Gird EO information processing and sens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Project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od Monitoring 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 person: Natalia Kuss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Grid Task Team Active Members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SA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initiator and promoter of Grid T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 actions in recent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 person: Allan,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nsook Enlo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iping 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Cooperation inside Grid TT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3520" y="1290600"/>
            <a:ext cx="84553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A CAT-1 Projec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SU/CNES/NRSCC/E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G Projec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ES/NRSCC/NASU/E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a funding Projec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RSCC/NAS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3976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Comic Sans MS"/>
              </a:rPr>
              <a:t>Session Agenda Preview</a:t>
            </a:r>
            <a:endParaRPr b="1" lang="en-US" sz="2800" spc="-1" strike="noStrike">
              <a:solidFill>
                <a:srgbClr val="184b81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53880" y="1341360"/>
          <a:ext cx="8455320" cy="4892760"/>
        </p:xfrm>
        <a:graphic>
          <a:graphicData uri="http://schemas.openxmlformats.org/drawingml/2006/table">
            <a:tbl>
              <a:tblPr/>
              <a:tblGrid>
                <a:gridCol w="5821560"/>
                <a:gridCol w="1606320"/>
                <a:gridCol w="102744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rid TT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oqing 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rid for flood monitoring: CAT-1 project status and prosp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atalia Kus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NES WAG experiment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ul K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lication of WAG in e-CORCE progra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JP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n Integrated System for Near Real-Time 3D Visualization of NEXRAD Level II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rol S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nchuan Earthquake International EO Data Assistance 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oqing 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SA update on distributed digital repository access via grid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ase technologies: GENESI-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uigi Fus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oqing 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oqing 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5:36:02Z</dcterms:created>
  <dc:creator>Li</dc:creator>
  <dc:description/>
  <cp:keywords/>
  <dc:language>en-US</dc:language>
  <cp:lastModifiedBy>Li</cp:lastModifiedBy>
  <cp:lastPrinted>1899-12-30T00:00:00Z</cp:lastPrinted>
  <dcterms:modified xsi:type="dcterms:W3CDTF">2008-09-23T14:54:35Z</dcterms:modified>
  <cp:revision>7</cp:revision>
  <dc:subject/>
  <dc:title>Grid Task Team Session P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