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a0e4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4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Consola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Consolas"/>
              </a:rPr>
              <a:t>WGISS 26 Plenary and Subgroup Meeting, Sep 22-26, 2008, Boulder Colorado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57240">
            <a:solidFill>
              <a:srgbClr val="00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57240">
            <a:solidFill>
              <a:srgbClr val="3a0e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56052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0"/>
            <a:ext cx="878040" cy="718200"/>
            <a:chOff x="0" y="0"/>
            <a:chExt cx="878040" cy="71820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780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51480" y="380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4e8f"/>
                  </a:solidFill>
                  <a:latin typeface="Arial Black"/>
                </a:rPr>
                <a:t>WGI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40" y="20570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Subgroup Instruction </a:t>
            </a:r>
            <a:br>
              <a:rPr sz="4000"/>
            </a:br>
            <a:r>
              <a:rPr b="1" lang="en-US" sz="4000" spc="-1" strike="noStrike">
                <a:solidFill>
                  <a:srgbClr val="3a0e48"/>
                </a:solidFill>
                <a:latin typeface="Tahoma"/>
              </a:rPr>
              <a:t>specific to GEO Tasks</a:t>
            </a:r>
            <a:br>
              <a:rPr sz="4000"/>
            </a:br>
            <a:endParaRPr b="1" lang="en-US" sz="4000" spc="-1" strike="noStrike">
              <a:solidFill>
                <a:srgbClr val="3a0e4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3040" y="4114800"/>
            <a:ext cx="7657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48"/>
                </a:solidFill>
                <a:latin typeface="Tahoma"/>
              </a:rPr>
              <a:t>Pakorn Apaphant</a:t>
            </a:r>
            <a:endParaRPr b="0" lang="en-US" sz="2800" spc="-1" strike="noStrike">
              <a:solidFill>
                <a:srgbClr val="3a0e48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September 22, 2008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CEOS is considered as a satellite arm for GEO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WGISS to support CEOS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Subgroup to review the status of current actions and plan such that the deliverables can be achieved in time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All CAT 1 items should be deliverable in Oct 2008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Set up detail plan and milestones for cat 2 and 3 actions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High priority for LSI portal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Demo at GEO plenary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Detailed plan/information about the Demo is needed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Recommend other demos, if any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will try to propose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Recommend new WGISS GEO tasks/actions, if any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  <a:ea typeface="Angsana New"/>
              </a:rPr>
              <a:t>E</a:t>
            </a: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xisting tools and technology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You know best what you can do for CEOS/GEO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4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48"/>
                </a:solidFill>
                <a:latin typeface="Tahoma"/>
              </a:rPr>
              <a:t>Central contribution</a:t>
            </a:r>
            <a:endParaRPr b="0" lang="en-US" sz="1800" spc="-1" strike="noStrike">
              <a:solidFill>
                <a:srgbClr val="3a0e4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4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48"/>
                </a:solidFill>
                <a:latin typeface="Tahoma"/>
              </a:rPr>
              <a:t>Subgroups’ Recommendations for GEO matters</a:t>
            </a:r>
            <a:endParaRPr b="0" lang="en-US" sz="2000" spc="-1" strike="noStrike">
              <a:solidFill>
                <a:srgbClr val="3a0e4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8:42:25Z</dcterms:created>
  <dc:creator/>
  <dc:description/>
  <dc:language>en-US</dc:language>
  <cp:lastModifiedBy> </cp:lastModifiedBy>
  <dcterms:modified xsi:type="dcterms:W3CDTF">2008-09-22T16:30:34Z</dcterms:modified>
  <cp:revision>164</cp:revision>
  <dc:subject/>
  <dc:title>Slide 1</dc:title>
</cp:coreProperties>
</file>