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218960" cy="47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77080" y="6423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4D59-AB51-421C-B4FB-8BED0C4384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0" b="24403"/>
          <a:stretch/>
        </p:blipFill>
        <p:spPr>
          <a:xfrm>
            <a:off x="914400" y="6248520"/>
            <a:ext cx="1352520" cy="3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080" y="990720"/>
            <a:ext cx="792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38080" y="61722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600200" cy="63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676520" cy="61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15636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209232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7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andbox-qa1.gsfc.nasa.gov/KeywordSearch/Home.do?Portal=lsi&amp;MetadataType=0&amp;lbnode=sandbox-qa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534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SI Constellation Portal Project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2004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ISS #26, Boulder, Colorado, U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,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ndon R. Ole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Resources Observation and Science (EROS)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ux Falls, S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Constellation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a specific task (deliverable) proposal and plan for review and approval at WGISS 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– USGS, Lyn Ole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k agency commitments and participation at or before WGISS 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 to have a prototype available by WGISS 26 to use as tool to further explore and clarify requir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presentative user community group?  GOFC/GOLD? To help clarify requirements and review design and plans and help priorit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Constellation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Participan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SDA, IN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SA, ME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s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X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C-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T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S (2009?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S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219320"/>
            <a:ext cx="83059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Review and adjust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Review current status of latest draft portal including a walkthrough of the main and the first and second tier p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orough walk through of each of the comments from the study team identifying what kinds of changes or additions would have to be made to accommodate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pare a work plan for the coming weeks identifying specific tasks that would need to be accomplished before delivering to the LSI Constellation for the 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pare a presentation and short demo for sharing with the LSI Interest Group and also for sharing with the WGISS Plenary on Fri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Recent Draft Por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sandbox-qa1.gsfc.nasa.gov/KeywordSearch/Home.do?Portal=lsi&amp;MetadataType=0&amp;lbnode=sandbox-qa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LSI Constellation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ing User Access to Mid-Resolut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perate together to design, develop, implement, and maintain a common websi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enhancing user knowledge about and access to mid-resolution LSI data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by which users may expediently discover and access free (sample) data 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the feasibility of “bundling” and providing user access to data collected over common sites by multiple mid-resolution LSI satellit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LSI Constellation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 Segment Operations for Mid-Resolutio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perate in an effort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fine and implement common data processing paramet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would allow them to provide users with mid-resolution LSI satellite data and products that are delivered with standardized metadata and in like data formats and map proje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ility of defining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ffering users an orthorectified image product as a common standard data prod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duced from the VNIR bands of their various mid-resolution LSI satellite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LSI Constellation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Standards for Future Mid-Resolution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GISS committee could review the preliminary standards defined by Noblis and offer suggestions for revision and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committee also could suggest additional parameters for which standards should be developed for future mid-resolution optical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potential areas for additional WGISS support associated the new two new LSI Constellation goals for 20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compiled data 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ar focus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e WGISS #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Portal v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Portal v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Portal v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Constellation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ssible ph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possibility of creating a new GCMD/IDN “portal” to take advantage of existing wealth of land surface information already present in master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web site “portal” to also provide access to constellation planning information and to “sample” data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3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of OGC Web services based “interoperable” access to satellite data inventories from several mid-resolution satellite data provi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4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web services based servers and LSI por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SI Constellation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deas for con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“virtual” constellation in 2010 timeframe enabling access to the variety of mid-resolution satellite data collec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one or few geographic regions in prototype. (e.g. Africa, South Amer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Lyndon Oleson</dc:creator>
  <dc:description/>
  <dc:language>en-US</dc:language>
  <cp:lastModifiedBy>Lyn Oleson</cp:lastModifiedBy>
  <dcterms:modified xsi:type="dcterms:W3CDTF">2008-09-23T17:13:55Z</dcterms:modified>
  <cp:revision>535</cp:revision>
  <dc:subject>None</dc:subject>
  <dc:title>None</dc:title>
</cp:coreProperties>
</file>