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2640" y="694800"/>
            <a:ext cx="4568760" cy="34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dt" idx="4"/>
          </p:nvPr>
        </p:nvSpPr>
        <p:spPr>
          <a:xfrm>
            <a:off x="38811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5"/>
          </p:nvPr>
        </p:nvSpPr>
        <p:spPr>
          <a:xfrm>
            <a:off x="-3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6"/>
          </p:nvPr>
        </p:nvSpPr>
        <p:spPr>
          <a:xfrm>
            <a:off x="38811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FCB48-F93F-4C27-A597-84A6E2FF69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664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2410920"/>
            <a:ext cx="822636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327560"/>
            <a:ext cx="822636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664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2410920"/>
            <a:ext cx="401436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440" y="2410920"/>
            <a:ext cx="401436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327560"/>
            <a:ext cx="401436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440" y="4327560"/>
            <a:ext cx="401436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664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2410920"/>
            <a:ext cx="264852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8200" y="2410920"/>
            <a:ext cx="264852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9560" y="2410920"/>
            <a:ext cx="264852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327560"/>
            <a:ext cx="264852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8200" y="4327560"/>
            <a:ext cx="264852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9560" y="4327560"/>
            <a:ext cx="264852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E2BE-0311-493A-A44C-1A5ADA20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664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2410920"/>
            <a:ext cx="8226360" cy="36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8F54-C44F-4291-BE5C-EF434077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664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2410920"/>
            <a:ext cx="8226360" cy="36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024B-C9B9-45C2-B9EF-15EDD820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664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2410920"/>
            <a:ext cx="4014360" cy="36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440" y="2410920"/>
            <a:ext cx="4014360" cy="36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03A9-865F-4288-BF23-B0F04DD5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664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92BC-8DF9-42D2-AA1D-577154DC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126648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47B1-2773-4214-837F-17113EFE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664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2410920"/>
            <a:ext cx="401436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440" y="2410920"/>
            <a:ext cx="4014360" cy="36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4327560"/>
            <a:ext cx="401436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ED4F-4F08-461D-9E00-36BD5576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664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2410920"/>
            <a:ext cx="8226360" cy="36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664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2410920"/>
            <a:ext cx="4014360" cy="36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440" y="2410920"/>
            <a:ext cx="401436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440" y="4327560"/>
            <a:ext cx="401436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D71A-5511-4CA0-8311-68E1CB6E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664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2410920"/>
            <a:ext cx="401436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440" y="2410920"/>
            <a:ext cx="401436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327560"/>
            <a:ext cx="822636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B2B7-A7C6-4EC7-83AA-546BBCB4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664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410920"/>
            <a:ext cx="822636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4327560"/>
            <a:ext cx="822636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0726-D32E-4ED9-B0DA-359ABBDD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2664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2410920"/>
            <a:ext cx="401436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440" y="2410920"/>
            <a:ext cx="401436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327560"/>
            <a:ext cx="401436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440" y="4327560"/>
            <a:ext cx="401436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3088-CB93-4AA2-AA37-5B345EC44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664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2410920"/>
            <a:ext cx="264852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8200" y="2410920"/>
            <a:ext cx="264852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9560" y="2410920"/>
            <a:ext cx="264852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4327560"/>
            <a:ext cx="264852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8200" y="4327560"/>
            <a:ext cx="264852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9560" y="4327560"/>
            <a:ext cx="264852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293B-58DA-4CBA-904E-F02F339C9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2664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6840" y="2410920"/>
            <a:ext cx="8226360" cy="36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2664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2410920"/>
            <a:ext cx="8226360" cy="36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2664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2410920"/>
            <a:ext cx="4014360" cy="36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440" y="2410920"/>
            <a:ext cx="4014360" cy="36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2664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664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2410920"/>
            <a:ext cx="8226360" cy="36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6840" y="126648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664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2410920"/>
            <a:ext cx="401436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2410920"/>
            <a:ext cx="4014360" cy="36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6840" y="4327560"/>
            <a:ext cx="401436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664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2410920"/>
            <a:ext cx="4014360" cy="36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2410920"/>
            <a:ext cx="401436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2440" y="4327560"/>
            <a:ext cx="401436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664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2410920"/>
            <a:ext cx="401436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2440" y="2410920"/>
            <a:ext cx="401436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4327560"/>
            <a:ext cx="822636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664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2410920"/>
            <a:ext cx="822636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6840" y="4327560"/>
            <a:ext cx="822636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664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2410920"/>
            <a:ext cx="401436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2440" y="2410920"/>
            <a:ext cx="401436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6840" y="4327560"/>
            <a:ext cx="401436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2440" y="4327560"/>
            <a:ext cx="401436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664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2410920"/>
            <a:ext cx="264852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8200" y="2410920"/>
            <a:ext cx="264852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19560" y="2410920"/>
            <a:ext cx="264852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6840" y="4327560"/>
            <a:ext cx="264852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8200" y="4327560"/>
            <a:ext cx="264852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19560" y="4327560"/>
            <a:ext cx="264852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664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2410920"/>
            <a:ext cx="4014360" cy="36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440" y="2410920"/>
            <a:ext cx="4014360" cy="36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664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6648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664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2410920"/>
            <a:ext cx="401436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2410920"/>
            <a:ext cx="4014360" cy="36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327560"/>
            <a:ext cx="401436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664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2410920"/>
            <a:ext cx="4014360" cy="36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440" y="2410920"/>
            <a:ext cx="401436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440" y="4327560"/>
            <a:ext cx="401436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664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2410920"/>
            <a:ext cx="401436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440" y="2410920"/>
            <a:ext cx="401436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327560"/>
            <a:ext cx="8226360" cy="1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3557520"/>
            <a:ext cx="7772400" cy="3300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664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c4c4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2410920"/>
            <a:ext cx="8226360" cy="36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387000" indent="-29160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5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75440" indent="-256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75440" indent="-256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Bitstream Vera Sans"/>
              <a:buChar char=" 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64240" indent="-194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Bitstream Vera San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941480" indent="-194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941480" indent="-194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941480" indent="-194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31640" y="6156360"/>
            <a:ext cx="8280720" cy="1440"/>
          </a:xfrm>
          <a:prstGeom prst="line">
            <a:avLst/>
          </a:prstGeom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283440"/>
            <a:ext cx="2490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  <a:ea typeface="Bitstream Vera Sans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27320" y="6283440"/>
            <a:ext cx="2898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  <a:ea typeface="Bitstream Vera Sans"/>
              </a:rPr>
              <a:t>www.meraka.org.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195960" y="6284880"/>
            <a:ext cx="24908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  <a:ea typeface="Bitstream Vera Sans"/>
              </a:rPr>
              <a:t>&lt;date/time&gt;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  <a:ea typeface="Bitstream Vera Sans"/>
              </a:rPr>
              <a:t> / </a:t>
            </a:r>
            <a:fld id="{2606A5A6-5930-4E67-8F45-E0D6A3208B80}" type="slidenum">
              <a:rPr b="0" lang="en-GB" sz="1800" spc="-1" strike="noStrike">
                <a:solidFill>
                  <a:srgbClr val="808080"/>
                </a:solidFill>
                <a:latin typeface="Arial"/>
                <a:ea typeface="Bitstream Vera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6767640" y="66600"/>
            <a:ext cx="226224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3076018-0E19-4EEA-9D8E-66F584E3BA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040" y="450720"/>
            <a:ext cx="780588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5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876920" y="531720"/>
            <a:ext cx="3504960" cy="175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3556080"/>
            <a:ext cx="7773840" cy="33019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970000"/>
            <a:ext cx="8820000" cy="19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f35a6"/>
                </a:solidFill>
                <a:latin typeface="Arial"/>
              </a:rPr>
              <a:t>GEOSS and the</a:t>
            </a:r>
            <a:br>
              <a:rPr sz="4400"/>
            </a:br>
            <a:r>
              <a:rPr b="0" lang="en-GB" sz="4400" spc="-1" strike="noStrike">
                <a:solidFill>
                  <a:srgbClr val="0f35a6"/>
                </a:solidFill>
                <a:latin typeface="Arial"/>
              </a:rPr>
              <a:t>Sensor Web</a:t>
            </a:r>
            <a:br>
              <a:rPr sz="4400"/>
            </a:br>
            <a:r>
              <a:rPr b="0" lang="en-GB" sz="2200" spc="-1" strike="noStrike">
                <a:solidFill>
                  <a:srgbClr val="0f35a6"/>
                </a:solidFill>
                <a:latin typeface="Arial"/>
              </a:rPr>
              <a:t>Presented by: Terence van Zyl</a:t>
            </a:r>
            <a:br>
              <a:rPr sz="2200"/>
            </a:br>
            <a:r>
              <a:rPr b="0" lang="en-GB" sz="2200" spc="-1" strike="noStrike">
                <a:solidFill>
                  <a:srgbClr val="0f35a6"/>
                </a:solidFill>
                <a:latin typeface="Arial"/>
              </a:rPr>
              <a:t>tvzyl@meraka.org.za</a:t>
            </a:r>
            <a:endParaRPr b="0" lang="en-US" sz="2200" spc="-1" strike="noStrike">
              <a:solidFill>
                <a:srgbClr val="2800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31292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4c4c4c"/>
                </a:solidFill>
                <a:latin typeface="Arial"/>
              </a:rPr>
              <a:t>The Sensor Web in Space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410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A-07-04 doesn't address the space component of the sensor web fu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Virtual Constellations are Sensor Webs that 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 achieve a truly multi-resolution macro instrument the two must me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213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4c4c4c"/>
                </a:solidFill>
                <a:latin typeface="Arial"/>
              </a:rPr>
              <a:t>The Gap Between GEOSS and Sensor WEB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87964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GEOSS building data dissemination plat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ensor Web envisions more including adaptability and task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31292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4c4c4c"/>
                </a:solidFill>
                <a:latin typeface="Arial"/>
              </a:rPr>
              <a:t>2009 Way Forward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410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vitation received hold the next workshop in Jap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ngage the remote sensing commun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rtly a challenge of this worksho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26648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4c4c4c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245700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al Thank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go Simo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hannes Echterh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26648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4c4c4c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410920"/>
            <a:ext cx="8229600" cy="22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2008 Sensor Web Worksh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Sensor Web in Sp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2009 way forw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26648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4c4c4c"/>
                </a:solidFill>
                <a:latin typeface="Arial"/>
              </a:rPr>
              <a:t>The Sensor Web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241128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0200" indent="0" algn="ctr">
              <a:lnSpc>
                <a:spcPct val="93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ahoma"/>
              </a:rPr>
              <a:t>open coordinated observation infrastructure composed of a distributed collection of resources that can collectively behave as a single, autonomous, task-able, dynamically adaptive and reconfigurable observing system that provides raw and processed data, along with associated meta-data, via a set of standards-based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26648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4c4c4c"/>
                </a:solidFill>
                <a:latin typeface="Arial"/>
              </a:rPr>
              <a:t>2008 Sensor Web Workshop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410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eld 15, 16 May 200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40 Research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-Spons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eraka Institu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uropean Commi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G Information Society and Med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31292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4c4c4c"/>
                </a:solidFill>
                <a:latin typeface="Arial"/>
              </a:rPr>
              <a:t>The Standards Drive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410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jor aspect of Sensor Web empha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GC SWE initiative leading standards dr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OS, SPS, SAS, W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nsorML, O&amp;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31292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4c4c4c"/>
                </a:solidFill>
                <a:latin typeface="Arial"/>
              </a:rPr>
              <a:t>Implementations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410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52</a:t>
            </a:r>
            <a:r>
              <a:rPr b="0" lang="en-GB" sz="3000" spc="-1" strike="noStrike" baseline="33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North has an  Sensor Web initiative (Open Source)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mpusult's Web Enterprise Suite (Commercial)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31292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4c4c4c"/>
                </a:solidFill>
                <a:latin typeface="Arial"/>
              </a:rPr>
              <a:t>Challenges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410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ensor Discovery (GEOSS and SWE Fail)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nsor Regist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ctiona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mantics (e.g. SWEET ontology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ynamic Sensor Networ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bile Sens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31292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4c4c4c"/>
                </a:solidFill>
                <a:latin typeface="Arial"/>
              </a:rPr>
              <a:t>Challenges Continued...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410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etadata in Sensor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upport for ISO 19115, 1911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essons from remote sensing community such as Cal\Val por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Verbosity and Flexibility of Sensor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.g. MERIS 18000 lines of Sensor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31292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4c4c4c"/>
                </a:solidFill>
                <a:latin typeface="Arial"/>
              </a:rPr>
              <a:t>Challenges Continued...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410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ensor Super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Good Pract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aham Hankin</dc:creator>
  <dc:description/>
  <dc:language>en-US</dc:language>
  <cp:lastModifiedBy>Terence van Zyl</cp:lastModifiedBy>
  <cp:revision>0</cp:revision>
  <dc:subject/>
  <dc:title>Presentation Title</dc:title>
</cp:coreProperties>
</file>