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Click to move the slide</a:t>
            </a: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830D-EB1B-4853-84FB-93D7BFFE3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6740-7C4D-403D-B836-DCC66E674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0320" y="2743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748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929960" y="3964320"/>
            <a:ext cx="748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30320" y="2743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29960" y="396432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63240" y="396432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30320" y="2743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59320" y="160020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988320" y="160020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929960" y="396432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459320" y="396432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988320" y="396432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B7F4A-E26A-4744-9A1D-5FF916E882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0320" y="2743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929960" y="1600200"/>
            <a:ext cx="7480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82159-CE17-4EFA-AE9E-3B6CF98A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0320" y="2743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748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11B7A-C30F-424A-A2E8-2FA9DD18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30320" y="2743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AD8DE-A87A-4CE9-BB00-ADD54569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30320" y="2743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5FF78-08B8-47E8-9D07-2CDF7C6BC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930320" y="274320"/>
            <a:ext cx="691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7B64E-FEEE-40CB-BBB5-F9D22FE4B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30320" y="2743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929960" y="396432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0A4FE-C1CD-473F-8D8C-C9DBB9D9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30320" y="2743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929960" y="1600200"/>
            <a:ext cx="7480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30320" y="2743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763240" y="396432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4BBBC-E679-41DA-B3BB-7DEA4100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0320" y="2743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29960" y="3964320"/>
            <a:ext cx="748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CC9EF-1F3F-4164-A78F-CCAC3B94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30320" y="2743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748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929960" y="3964320"/>
            <a:ext cx="748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EDB62-EF8A-4625-9D35-020CF4B5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30320" y="2743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929960" y="396432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763240" y="396432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26F0D-76DF-4B3D-9C86-C51097D1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30320" y="2743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59320" y="160020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988320" y="160020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929960" y="396432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459320" y="396432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988320" y="396432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CBE92-B86F-4D27-BC75-10806C975E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30320" y="2743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748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0320" y="2743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30320" y="2743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930320" y="274320"/>
            <a:ext cx="691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30320" y="2743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929960" y="396432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30320" y="2743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763240" y="396432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30320" y="2743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929960" y="3964320"/>
            <a:ext cx="748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" Target="slide2.xml"/><Relationship Id="rId8" Type="http://schemas.openxmlformats.org/officeDocument/2006/relationships/image" Target="../media/image6.jpe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9.jpeg"/><Relationship Id="rId3" Type="http://schemas.openxmlformats.org/officeDocument/2006/relationships/image" Target="../media/image5.png"/><Relationship Id="rId4" Type="http://schemas.openxmlformats.org/officeDocument/2006/relationships/slide" Target="slide2.xml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e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30320" y="2743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Click to edit the title text format</a:t>
            </a: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29960" y="1600200"/>
            <a:ext cx="748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99ff"/>
              </a:buClr>
              <a:buFont typeface="Arial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9" descr="ceoslogo"/>
          <p:cNvPicPr/>
          <p:nvPr/>
        </p:nvPicPr>
        <p:blipFill>
          <a:blip r:embed="rId6"/>
          <a:stretch/>
        </p:blipFill>
        <p:spPr>
          <a:xfrm>
            <a:off x="0" y="6076800"/>
            <a:ext cx="1979640" cy="781200"/>
          </a:xfrm>
          <a:prstGeom prst="rect">
            <a:avLst/>
          </a:prstGeom>
          <a:ln w="0">
            <a:noFill/>
          </a:ln>
        </p:spPr>
      </p:pic>
      <p:grpSp>
        <p:nvGrpSpPr>
          <p:cNvPr id="4" name="Group 10"/>
          <p:cNvGrpSpPr/>
          <p:nvPr/>
        </p:nvGrpSpPr>
        <p:grpSpPr>
          <a:xfrm>
            <a:off x="8647200" y="6093000"/>
            <a:ext cx="1258920" cy="764640"/>
            <a:chOff x="8647200" y="6093000"/>
            <a:chExt cx="1258920" cy="764640"/>
          </a:xfrm>
        </p:grpSpPr>
        <p:pic>
          <p:nvPicPr>
            <p:cNvPr id="5" name="Picture 11" descr="CEOP_logo_fin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8647200" y="6093000"/>
              <a:ext cx="1254240" cy="6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Rectangle 12"/>
            <p:cNvSpPr/>
            <p:nvPr/>
          </p:nvSpPr>
          <p:spPr>
            <a:xfrm>
              <a:off x="8651880" y="6748560"/>
              <a:ext cx="1254240" cy="10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" name="Picture 13" descr="nasa_3_c"/>
          <p:cNvPicPr/>
          <p:nvPr/>
        </p:nvPicPr>
        <p:blipFill>
          <a:blip r:embed="rId9"/>
          <a:stretch/>
        </p:blipFill>
        <p:spPr>
          <a:xfrm>
            <a:off x="8862840" y="0"/>
            <a:ext cx="1043280" cy="9018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4" descr="JAXA_e"/>
          <p:cNvPicPr/>
          <p:nvPr/>
        </p:nvPicPr>
        <p:blipFill>
          <a:blip r:embed="rId10"/>
          <a:srcRect l="6973" t="4869" r="9336" b="529"/>
          <a:stretch/>
        </p:blipFill>
        <p:spPr>
          <a:xfrm>
            <a:off x="0" y="0"/>
            <a:ext cx="1403280" cy="934920"/>
          </a:xfrm>
          <a:prstGeom prst="rect">
            <a:avLst/>
          </a:prstGeom>
          <a:ln w="0">
            <a:noFill/>
          </a:ln>
        </p:spPr>
      </p:pic>
      <p:sp>
        <p:nvSpPr>
          <p:cNvPr id="9" name="Text Box 15"/>
          <p:cNvSpPr/>
          <p:nvPr/>
        </p:nvSpPr>
        <p:spPr>
          <a:xfrm>
            <a:off x="4232160" y="6491160"/>
            <a:ext cx="17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e_0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eoslogo"/>
          <p:cNvPicPr/>
          <p:nvPr/>
        </p:nvPicPr>
        <p:blipFill>
          <a:blip r:embed="rId3"/>
          <a:stretch/>
        </p:blipFill>
        <p:spPr>
          <a:xfrm>
            <a:off x="0" y="6076800"/>
            <a:ext cx="1979640" cy="78120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10"/>
          <p:cNvGrpSpPr/>
          <p:nvPr/>
        </p:nvGrpSpPr>
        <p:grpSpPr>
          <a:xfrm>
            <a:off x="8647200" y="6093000"/>
            <a:ext cx="1258920" cy="764640"/>
            <a:chOff x="8647200" y="6093000"/>
            <a:chExt cx="1258920" cy="764640"/>
          </a:xfrm>
        </p:grpSpPr>
        <p:pic>
          <p:nvPicPr>
            <p:cNvPr id="49" name="Picture 11" descr="CEOP_logo_fin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8647200" y="6093000"/>
              <a:ext cx="1254240" cy="6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Rectangle 12"/>
            <p:cNvSpPr/>
            <p:nvPr/>
          </p:nvSpPr>
          <p:spPr>
            <a:xfrm>
              <a:off x="8651880" y="6748560"/>
              <a:ext cx="1254240" cy="10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Picture 13" descr="nasa_3_c"/>
          <p:cNvPicPr/>
          <p:nvPr/>
        </p:nvPicPr>
        <p:blipFill>
          <a:blip r:embed="rId6"/>
          <a:stretch/>
        </p:blipFill>
        <p:spPr>
          <a:xfrm>
            <a:off x="8862840" y="0"/>
            <a:ext cx="1043280" cy="901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JAXA_e"/>
          <p:cNvPicPr/>
          <p:nvPr/>
        </p:nvPicPr>
        <p:blipFill>
          <a:blip r:embed="rId7"/>
          <a:srcRect l="6973" t="4869" r="9336" b="529"/>
          <a:stretch/>
        </p:blipFill>
        <p:spPr>
          <a:xfrm>
            <a:off x="0" y="0"/>
            <a:ext cx="1403280" cy="934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30320" y="2743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Click to edit the title text format</a:t>
            </a: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929960" y="1600200"/>
            <a:ext cx="748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99ff"/>
              </a:buClr>
              <a:buFont typeface="Arial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2FF3-C889-4526-B407-D2E2908814DE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F980-F59E-4A53-96AB-7B66261EA63E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Bookman Old Style"/>
                <a:ea typeface="Times New Roman"/>
              </a:rPr>
              <a:t>Closing Report </a:t>
            </a:r>
            <a:br>
              <a:rPr sz="4400"/>
            </a:br>
            <a:r>
              <a:rPr b="0" lang="en-US" sz="4400" spc="-1" strike="noStrike" u="sng">
                <a:solidFill>
                  <a:srgbClr val="000066"/>
                </a:solidFill>
                <a:uFillTx/>
                <a:latin typeface="Bookman Old Style"/>
                <a:ea typeface="Times New Roman"/>
              </a:rPr>
              <a:t>on WTF-CEOP Project Team</a:t>
            </a: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atoko Horiyama MIURA/JAX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30320" y="2743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Lessons &amp; Learned</a:t>
            </a: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68520" y="1600200"/>
            <a:ext cx="784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type activities complet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arget of WTF(WGISS Test Facility) is now satisfi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what is the next step ?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be explained in JAXA/NASA stat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Quality in meta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details will be also reported in JAXA/NASA stat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30320" y="2743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Contents</a:t>
            </a: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748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s &amp; Lea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30320" y="2743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Purpose of WTF-CEOP </a:t>
            </a: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68520" y="1600200"/>
            <a:ext cx="748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vide assistance to the CEOP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ordinat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rgy and water cycl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servation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ject ) science community in the development of data services associated with CEOP data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39800" y="11556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66"/>
                </a:solidFill>
                <a:uFillTx/>
                <a:latin typeface="Arial"/>
              </a:rPr>
              <a:t>Goals and how they relate to WGISS</a:t>
            </a:r>
            <a:endParaRPr b="1" lang="en-US" sz="4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68520" y="1268280"/>
            <a:ext cx="748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 WTF-CEOP system, based on existing CEOS WGISS member tools and technology, for distribution of CEOP data, including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gathering satellite data from providers (JAXA, NASA, ESA, EUMETSA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data discovery (search for CEOP 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data selection (through menu sele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basic functions: plotting, viewing data, comparing data, downloading 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data integration functions: methods of integration of in-situ, model output and satellite da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3440160" y="1413000"/>
            <a:ext cx="60530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atial and Temporal Data Integration -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-situ, MOLTS, Satellite, Model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74760" y="1917720"/>
            <a:ext cx="1452600" cy="160668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ata lo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alone physical lo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tributed sites reference by li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2049480" y="1917720"/>
            <a:ext cx="1374840" cy="160668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ata ty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output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itu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tellit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7"/>
          <p:cNvSpPr/>
          <p:nvPr/>
        </p:nvSpPr>
        <p:spPr>
          <a:xfrm>
            <a:off x="3406680" y="3648240"/>
            <a:ext cx="665280" cy="2608200"/>
          </a:xfrm>
          <a:custGeom>
            <a:avLst/>
            <a:gdLst>
              <a:gd name="textAreaLeft" fmla="*/ 0 w 665280"/>
              <a:gd name="textAreaRight" fmla="*/ 240120 w 665280"/>
              <a:gd name="textAreaTop" fmla="*/ 67680 h 2608200"/>
              <a:gd name="textAreaBottom" fmla="*/ 2540520 h 260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1192320" y="1413000"/>
            <a:ext cx="1630080" cy="3729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9"/>
          <p:cNvSpPr/>
          <p:nvPr/>
        </p:nvSpPr>
        <p:spPr>
          <a:xfrm>
            <a:off x="4091040" y="2736720"/>
            <a:ext cx="2428920" cy="3732480"/>
          </a:xfrm>
          <a:prstGeom prst="foldedCorner">
            <a:avLst>
              <a:gd name="adj" fmla="val 125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adata keyword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 value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le format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proje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grid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 Interpo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0"/>
          <p:cNvSpPr/>
          <p:nvPr/>
        </p:nvSpPr>
        <p:spPr>
          <a:xfrm>
            <a:off x="933480" y="3648240"/>
            <a:ext cx="2251080" cy="161424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grated datas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ple files from individual member datas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1"/>
          <p:cNvSpPr/>
          <p:nvPr/>
        </p:nvSpPr>
        <p:spPr>
          <a:xfrm>
            <a:off x="590400" y="5386320"/>
            <a:ext cx="1414440" cy="733320"/>
          </a:xfrm>
          <a:prstGeom prst="flowChartPredefined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at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mpo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t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2"/>
          <p:cNvSpPr/>
          <p:nvPr/>
        </p:nvSpPr>
        <p:spPr>
          <a:xfrm>
            <a:off x="2138400" y="5386320"/>
            <a:ext cx="1413000" cy="746280"/>
          </a:xfrm>
          <a:prstGeom prst="flowChartPredefined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at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se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3"/>
          <p:cNvSpPr/>
          <p:nvPr/>
        </p:nvSpPr>
        <p:spPr>
          <a:xfrm>
            <a:off x="6964200" y="3862440"/>
            <a:ext cx="2664000" cy="1676520"/>
          </a:xfrm>
          <a:prstGeom prst="bevel">
            <a:avLst>
              <a:gd name="adj" fmla="val 12500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r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grated Data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4"/>
          <p:cNvSpPr/>
          <p:nvPr/>
        </p:nvSpPr>
        <p:spPr>
          <a:xfrm>
            <a:off x="6431040" y="4765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5"/>
          <p:cNvSpPr/>
          <p:nvPr/>
        </p:nvSpPr>
        <p:spPr>
          <a:xfrm flipH="1">
            <a:off x="1331640" y="1785960"/>
            <a:ext cx="53316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6"/>
          <p:cNvSpPr/>
          <p:nvPr/>
        </p:nvSpPr>
        <p:spPr>
          <a:xfrm>
            <a:off x="1998720" y="1785960"/>
            <a:ext cx="53172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7"/>
          <p:cNvSpPr/>
          <p:nvPr/>
        </p:nvSpPr>
        <p:spPr>
          <a:xfrm>
            <a:off x="1198440" y="3524400"/>
            <a:ext cx="66672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8"/>
          <p:cNvSpPr/>
          <p:nvPr/>
        </p:nvSpPr>
        <p:spPr>
          <a:xfrm flipH="1">
            <a:off x="2131920" y="3524400"/>
            <a:ext cx="66528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9"/>
          <p:cNvSpPr/>
          <p:nvPr/>
        </p:nvSpPr>
        <p:spPr>
          <a:xfrm flipV="1">
            <a:off x="933480" y="5262480"/>
            <a:ext cx="39852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0"/>
          <p:cNvSpPr/>
          <p:nvPr/>
        </p:nvSpPr>
        <p:spPr>
          <a:xfrm>
            <a:off x="1598760" y="5262480"/>
            <a:ext cx="93168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68160" y="-36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Distributed Data Integration Services</a:t>
            </a:r>
            <a:endParaRPr b="1" lang="en-US" sz="3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52160" y="-36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WTF-CEOP Prototype</a:t>
            </a: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75360" y="1042200"/>
            <a:ext cx="3254040" cy="8593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txBody>
          <a:bodyPr lIns="72000" rIns="72000" tIns="72000" bIns="72000" anchor="t">
            <a:normAutofit/>
          </a:bodyPr>
          <a:p>
            <a:pPr marL="84240" indent="-84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XA Prototyp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240" indent="-84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ed Data Integration Prototype System for CEOP 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"/>
          <p:cNvSpPr/>
          <p:nvPr/>
        </p:nvSpPr>
        <p:spPr>
          <a:xfrm flipH="1">
            <a:off x="7077240" y="1592280"/>
            <a:ext cx="450720" cy="628560"/>
          </a:xfrm>
          <a:prstGeom prst="line">
            <a:avLst/>
          </a:prstGeom>
          <a:ln w="50760">
            <a:solidFill>
              <a:srgbClr val="0066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4"/>
          <p:cNvSpPr/>
          <p:nvPr/>
        </p:nvSpPr>
        <p:spPr>
          <a:xfrm flipH="1">
            <a:off x="7075440" y="2390760"/>
            <a:ext cx="362160" cy="306360"/>
          </a:xfrm>
          <a:prstGeom prst="line">
            <a:avLst/>
          </a:prstGeom>
          <a:ln w="50760">
            <a:solidFill>
              <a:srgbClr val="0066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5"/>
          <p:cNvSpPr/>
          <p:nvPr/>
        </p:nvSpPr>
        <p:spPr>
          <a:xfrm flipH="1" flipV="1">
            <a:off x="7104240" y="2849400"/>
            <a:ext cx="404640" cy="354240"/>
          </a:xfrm>
          <a:prstGeom prst="line">
            <a:avLst/>
          </a:prstGeom>
          <a:ln w="31680">
            <a:solidFill>
              <a:srgbClr val="9900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4935600" y="2122560"/>
            <a:ext cx="2023920" cy="54756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9360" bIns="9360" anchor="ctr" anchorCtr="1">
            <a:noAutofit/>
          </a:bodyPr>
          <a:p>
            <a:pPr algn="ctr">
              <a:tabLst>
                <a:tab algn="l" pos="0"/>
                <a:tab algn="l" pos="187200"/>
                <a:tab algn="l" pos="37476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明朝"/>
              </a:rPr>
              <a:t>Perl Modu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4935600" y="2666880"/>
            <a:ext cx="2030400" cy="4194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9360" bIns="9360" anchor="ctr" anchorCtr="1">
            <a:noAutofit/>
          </a:bodyPr>
          <a:p>
            <a:pPr algn="ctr">
              <a:tabLst>
                <a:tab algn="l" pos="0"/>
                <a:tab algn="l" pos="187200"/>
                <a:tab algn="l" pos="37476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明朝"/>
              </a:rPr>
              <a:t>Ferr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2587680" y="2752560"/>
            <a:ext cx="1533600" cy="420840"/>
          </a:xfrm>
          <a:prstGeom prst="flowChartDisplay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9360" bIns="9360" anchor="ctr" anchorCtr="1">
            <a:noAutofit/>
          </a:bodyPr>
          <a:p>
            <a:pPr algn="ctr">
              <a:tabLst>
                <a:tab algn="l" pos="0"/>
                <a:tab algn="l" pos="187200"/>
                <a:tab algn="l" pos="37476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明朝"/>
              </a:rPr>
              <a:t>Web Brow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7491240" y="2049480"/>
            <a:ext cx="2149560" cy="747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9360" bIns="9360" anchor="ctr" anchorCtr="1">
            <a:noAutofit/>
          </a:bodyPr>
          <a:p>
            <a:pPr algn="ctr">
              <a:tabLst>
                <a:tab algn="l" pos="0"/>
                <a:tab algn="l" pos="187200"/>
                <a:tab algn="l" pos="37476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明朝"/>
              </a:rPr>
              <a:t>NCAR Archive [In-situ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7200"/>
                <a:tab algn="l" pos="37476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7200"/>
                <a:tab algn="l" pos="37476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明朝"/>
              </a:rPr>
              <a:t>(U.S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7508880" y="2905200"/>
            <a:ext cx="2127240" cy="7081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9360" bIns="9360" anchor="ctr" anchorCtr="1">
            <a:noAutofit/>
          </a:bodyPr>
          <a:p>
            <a:pPr algn="ctr">
              <a:tabLst>
                <a:tab algn="l" pos="0"/>
                <a:tab algn="l" pos="187200"/>
                <a:tab algn="l" pos="37476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明朝"/>
              </a:rPr>
              <a:t>MPI Arch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7200"/>
                <a:tab algn="l" pos="37476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明朝"/>
              </a:rPr>
              <a:t>[MOLTS,  Model Output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7200"/>
                <a:tab algn="l" pos="37476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7200"/>
                <a:tab algn="l" pos="37476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明朝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rman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明朝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7489800" y="1224000"/>
            <a:ext cx="2176560" cy="7333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9360" bIns="9360" anchor="ctr" anchorCtr="1">
            <a:noAutofit/>
          </a:bodyPr>
          <a:p>
            <a:pPr algn="ctr">
              <a:tabLst>
                <a:tab algn="l" pos="0"/>
                <a:tab algn="l" pos="187200"/>
                <a:tab algn="l" pos="37476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明朝"/>
              </a:rPr>
              <a:t>CSDIC Archive [Satellit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7200"/>
                <a:tab algn="l" pos="37476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7200"/>
                <a:tab algn="l" pos="37476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明朝"/>
              </a:rPr>
              <a:t>(Jap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7402680" y="1160640"/>
            <a:ext cx="2328840" cy="278424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 algn="r">
              <a:spcBef>
                <a:spcPts val="938"/>
              </a:spcBef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938"/>
              </a:spcBef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938"/>
              </a:spcBef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938"/>
              </a:spcBef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938"/>
              </a:spcBef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938"/>
              </a:spcBef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938"/>
              </a:spcBef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938"/>
              </a:spcBef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7488360" y="3662280"/>
            <a:ext cx="21351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CEOP Data Archiv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4"/>
          <p:cNvSpPr/>
          <p:nvPr/>
        </p:nvSpPr>
        <p:spPr>
          <a:xfrm>
            <a:off x="7696080" y="4673520"/>
            <a:ext cx="1692360" cy="9302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9360" bIns="9360" anchor="ctr" anchorCtr="1">
            <a:noAutofit/>
          </a:bodyPr>
          <a:p>
            <a:pPr algn="ctr">
              <a:tabLst>
                <a:tab algn="l" pos="0"/>
                <a:tab algn="l" pos="187200"/>
                <a:tab algn="l" pos="37476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ＭＳ 明朝"/>
              </a:rPr>
              <a:t>WCS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7200"/>
                <a:tab algn="l" pos="37476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Arial"/>
                <a:ea typeface="ＭＳ 明朝"/>
              </a:rPr>
              <a:t>　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ＭＳ 明朝"/>
              </a:rPr>
              <a:t>(satellite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7" descr="j0292020"/>
          <p:cNvPicPr/>
          <p:nvPr/>
        </p:nvPicPr>
        <p:blipFill>
          <a:blip r:embed="rId1"/>
          <a:stretch/>
        </p:blipFill>
        <p:spPr>
          <a:xfrm>
            <a:off x="1585800" y="2503440"/>
            <a:ext cx="982800" cy="88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2" name="AutoShape 20"/>
          <p:cNvSpPr/>
          <p:nvPr/>
        </p:nvSpPr>
        <p:spPr>
          <a:xfrm>
            <a:off x="3643200" y="5805360"/>
            <a:ext cx="4843440" cy="952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284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SA Prototyp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OPeNDAP client access to WCS Servers to facilitate access to satellit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2"/>
          <p:cNvSpPr/>
          <p:nvPr/>
        </p:nvSpPr>
        <p:spPr>
          <a:xfrm>
            <a:off x="4808520" y="2043000"/>
            <a:ext cx="2278080" cy="1090800"/>
          </a:xfrm>
          <a:prstGeom prst="rect">
            <a:avLst/>
          </a:prstGeom>
          <a:noFill/>
          <a:ln w="38160">
            <a:solidFill>
              <a:srgbClr val="ff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23"/>
          <p:cNvSpPr/>
          <p:nvPr/>
        </p:nvSpPr>
        <p:spPr>
          <a:xfrm rot="3305400">
            <a:off x="4161240" y="2245680"/>
            <a:ext cx="476280" cy="820440"/>
          </a:xfrm>
          <a:prstGeom prst="upDownArrow">
            <a:avLst>
              <a:gd name="adj1" fmla="val 50000"/>
              <a:gd name="adj2" fmla="val 34293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6"/>
          <p:cNvSpPr/>
          <p:nvPr/>
        </p:nvSpPr>
        <p:spPr>
          <a:xfrm>
            <a:off x="7459560" y="4133880"/>
            <a:ext cx="552600" cy="0"/>
          </a:xfrm>
          <a:prstGeom prst="line">
            <a:avLst/>
          </a:prstGeom>
          <a:ln w="50760">
            <a:solidFill>
              <a:srgbClr val="0066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7"/>
          <p:cNvSpPr/>
          <p:nvPr/>
        </p:nvSpPr>
        <p:spPr>
          <a:xfrm>
            <a:off x="8033040" y="4003560"/>
            <a:ext cx="159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OPeNDAP</a:t>
            </a: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8"/>
          <p:cNvSpPr/>
          <p:nvPr/>
        </p:nvSpPr>
        <p:spPr>
          <a:xfrm>
            <a:off x="7464600" y="4349880"/>
            <a:ext cx="552240" cy="0"/>
          </a:xfrm>
          <a:prstGeom prst="line">
            <a:avLst/>
          </a:prstGeom>
          <a:ln w="28440">
            <a:solidFill>
              <a:srgbClr val="9900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9"/>
          <p:cNvSpPr/>
          <p:nvPr/>
        </p:nvSpPr>
        <p:spPr>
          <a:xfrm>
            <a:off x="8126280" y="4219560"/>
            <a:ext cx="142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33"/>
                </a:solidFill>
                <a:latin typeface="Arial"/>
              </a:rPr>
              <a:t>Custom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AutoShape 31"/>
          <p:cNvCxnSpPr>
            <a:stCxn id="128" idx="3"/>
          </p:cNvCxnSpPr>
          <p:nvPr/>
        </p:nvCxnSpPr>
        <p:spPr>
          <a:xfrm>
            <a:off x="4875120" y="1465200"/>
            <a:ext cx="1045440" cy="573840"/>
          </a:xfrm>
          <a:prstGeom prst="curvedConnector5">
            <a:avLst>
              <a:gd name="adj1" fmla="val 49982"/>
              <a:gd name="adj2" fmla="val 49968"/>
              <a:gd name="adj3" fmla="val 49982"/>
            </a:avLst>
          </a:prstGeom>
          <a:ln w="38160">
            <a:solidFill>
              <a:srgbClr val="ff7c80"/>
            </a:solidFill>
            <a:prstDash val="sysDot"/>
            <a:miter/>
          </a:ln>
        </p:spPr>
      </p:cxnSp>
      <p:sp>
        <p:nvSpPr>
          <p:cNvPr id="150" name="AutoShape 29"/>
          <p:cNvSpPr/>
          <p:nvPr/>
        </p:nvSpPr>
        <p:spPr>
          <a:xfrm rot="5400000">
            <a:off x="1616400" y="2977200"/>
            <a:ext cx="1460160" cy="35067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7"/>
          <p:cNvSpPr/>
          <p:nvPr/>
        </p:nvSpPr>
        <p:spPr>
          <a:xfrm>
            <a:off x="709560" y="4189680"/>
            <a:ext cx="900000" cy="30708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r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9"/>
          <p:cNvSpPr/>
          <p:nvPr/>
        </p:nvSpPr>
        <p:spPr>
          <a:xfrm>
            <a:off x="1812960" y="4160880"/>
            <a:ext cx="1039680" cy="123516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ive Access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8"/>
          <p:cNvSpPr/>
          <p:nvPr/>
        </p:nvSpPr>
        <p:spPr>
          <a:xfrm>
            <a:off x="1924200" y="4223160"/>
            <a:ext cx="795240" cy="307080"/>
          </a:xfrm>
          <a:prstGeom prst="rect">
            <a:avLst/>
          </a:prstGeom>
          <a:solidFill>
            <a:srgbClr val="3333cc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e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0"/>
          <p:cNvSpPr/>
          <p:nvPr/>
        </p:nvSpPr>
        <p:spPr>
          <a:xfrm>
            <a:off x="714240" y="4648320"/>
            <a:ext cx="946440" cy="30708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D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2"/>
          <p:cNvSpPr/>
          <p:nvPr/>
        </p:nvSpPr>
        <p:spPr>
          <a:xfrm>
            <a:off x="3006720" y="4164120"/>
            <a:ext cx="933480" cy="30708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3"/>
          <p:cNvSpPr/>
          <p:nvPr/>
        </p:nvSpPr>
        <p:spPr>
          <a:xfrm>
            <a:off x="2997360" y="4577040"/>
            <a:ext cx="933120" cy="30708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tl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0"/>
          <p:cNvSpPr/>
          <p:nvPr/>
        </p:nvSpPr>
        <p:spPr>
          <a:xfrm>
            <a:off x="2987640" y="5008680"/>
            <a:ext cx="932040" cy="30708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41"/>
          <p:cNvSpPr/>
          <p:nvPr/>
        </p:nvSpPr>
        <p:spPr>
          <a:xfrm>
            <a:off x="3201840" y="3173400"/>
            <a:ext cx="476280" cy="820800"/>
          </a:xfrm>
          <a:prstGeom prst="upDownArrow">
            <a:avLst>
              <a:gd name="adj1" fmla="val 50000"/>
              <a:gd name="adj2" fmla="val 3430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1"/>
          <p:cNvSpPr/>
          <p:nvPr/>
        </p:nvSpPr>
        <p:spPr>
          <a:xfrm>
            <a:off x="1193760" y="5505120"/>
            <a:ext cx="25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sis / Display T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0"/>
          <p:cNvSpPr/>
          <p:nvPr/>
        </p:nvSpPr>
        <p:spPr>
          <a:xfrm>
            <a:off x="4952880" y="3429000"/>
            <a:ext cx="1963800" cy="190656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5"/>
          <p:cNvSpPr/>
          <p:nvPr/>
        </p:nvSpPr>
        <p:spPr>
          <a:xfrm>
            <a:off x="5410080" y="4764240"/>
            <a:ext cx="1305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PeNDA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6"/>
          <p:cNvSpPr/>
          <p:nvPr/>
        </p:nvSpPr>
        <p:spPr>
          <a:xfrm>
            <a:off x="5643720" y="3695760"/>
            <a:ext cx="1268280" cy="836640"/>
          </a:xfrm>
          <a:prstGeom prst="rect">
            <a:avLst/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CS Hand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1"/>
          <p:cNvSpPr/>
          <p:nvPr/>
        </p:nvSpPr>
        <p:spPr>
          <a:xfrm>
            <a:off x="5548320" y="3578400"/>
            <a:ext cx="1511280" cy="1058760"/>
          </a:xfrm>
          <a:prstGeom prst="rect">
            <a:avLst/>
          </a:prstGeom>
          <a:noFill/>
          <a:ln w="28440">
            <a:solidFill>
              <a:srgbClr val="66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47"/>
          <p:cNvSpPr/>
          <p:nvPr/>
        </p:nvSpPr>
        <p:spPr>
          <a:xfrm>
            <a:off x="4133880" y="4317840"/>
            <a:ext cx="819000" cy="0"/>
          </a:xfrm>
          <a:prstGeom prst="line">
            <a:avLst/>
          </a:prstGeom>
          <a:ln w="50760">
            <a:solidFill>
              <a:srgbClr val="0066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AutoShape 32"/>
          <p:cNvCxnSpPr>
            <a:stCxn id="163" idx="1"/>
          </p:cNvCxnSpPr>
          <p:nvPr/>
        </p:nvCxnSpPr>
        <p:spPr>
          <a:xfrm flipV="1" rot="10800000">
            <a:off x="4710960" y="4107240"/>
            <a:ext cx="822960" cy="1670760"/>
          </a:xfrm>
          <a:prstGeom prst="curvedConnector2">
            <a:avLst/>
          </a:prstGeom>
          <a:ln w="38160">
            <a:solidFill>
              <a:srgbClr val="66ff66"/>
            </a:solidFill>
            <a:prstDash val="dash"/>
            <a:miter/>
          </a:ln>
        </p:spPr>
      </p:cxnSp>
      <p:sp>
        <p:nvSpPr>
          <p:cNvPr id="166" name="Line 51"/>
          <p:cNvSpPr/>
          <p:nvPr/>
        </p:nvSpPr>
        <p:spPr>
          <a:xfrm>
            <a:off x="6905520" y="4299120"/>
            <a:ext cx="798480" cy="77760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52"/>
          <p:cNvSpPr/>
          <p:nvPr/>
        </p:nvSpPr>
        <p:spPr>
          <a:xfrm flipH="1">
            <a:off x="4098960" y="4603680"/>
            <a:ext cx="85392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30320" y="2743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Development Schedule</a:t>
            </a: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3440160" y="5460840"/>
            <a:ext cx="4643280" cy="4168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nputs from NASA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2773440" y="2114640"/>
            <a:ext cx="6489720" cy="360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7"/>
          <p:cNvSpPr/>
          <p:nvPr/>
        </p:nvSpPr>
        <p:spPr>
          <a:xfrm>
            <a:off x="3487680" y="2100240"/>
            <a:ext cx="32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4943520" y="2119320"/>
            <a:ext cx="32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6437520" y="21733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7"/>
          <p:cNvSpPr/>
          <p:nvPr/>
        </p:nvSpPr>
        <p:spPr>
          <a:xfrm>
            <a:off x="7167960" y="21733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1530360" y="152712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CE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2"/>
          <p:cNvSpPr/>
          <p:nvPr/>
        </p:nvSpPr>
        <p:spPr>
          <a:xfrm>
            <a:off x="2792520" y="1577880"/>
            <a:ext cx="3214440" cy="0"/>
          </a:xfrm>
          <a:prstGeom prst="line">
            <a:avLst/>
          </a:prstGeom>
          <a:ln w="763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3"/>
          <p:cNvSpPr/>
          <p:nvPr/>
        </p:nvSpPr>
        <p:spPr>
          <a:xfrm>
            <a:off x="4173120" y="1244520"/>
            <a:ext cx="134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EOP Phas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38"/>
          <p:cNvSpPr/>
          <p:nvPr/>
        </p:nvSpPr>
        <p:spPr>
          <a:xfrm>
            <a:off x="5680080" y="1920960"/>
            <a:ext cx="4192560" cy="0"/>
          </a:xfrm>
          <a:prstGeom prst="line">
            <a:avLst/>
          </a:prstGeom>
          <a:ln w="763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9"/>
          <p:cNvSpPr/>
          <p:nvPr/>
        </p:nvSpPr>
        <p:spPr>
          <a:xfrm>
            <a:off x="5760720" y="1587600"/>
            <a:ext cx="134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EOP Phase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40"/>
          <p:cNvSpPr/>
          <p:nvPr/>
        </p:nvSpPr>
        <p:spPr>
          <a:xfrm>
            <a:off x="6378480" y="2131920"/>
            <a:ext cx="32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1"/>
          <p:cNvSpPr/>
          <p:nvPr/>
        </p:nvSpPr>
        <p:spPr>
          <a:xfrm>
            <a:off x="7891920" y="21733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2"/>
          <p:cNvSpPr/>
          <p:nvPr/>
        </p:nvSpPr>
        <p:spPr>
          <a:xfrm>
            <a:off x="1124280" y="3195720"/>
            <a:ext cx="145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X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43"/>
          <p:cNvSpPr/>
          <p:nvPr/>
        </p:nvSpPr>
        <p:spPr>
          <a:xfrm>
            <a:off x="3102120" y="3435480"/>
            <a:ext cx="4959360" cy="0"/>
          </a:xfrm>
          <a:prstGeom prst="line">
            <a:avLst/>
          </a:prstGeom>
          <a:ln w="5724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4"/>
          <p:cNvSpPr/>
          <p:nvPr/>
        </p:nvSpPr>
        <p:spPr>
          <a:xfrm>
            <a:off x="7076880" y="3657600"/>
            <a:ext cx="214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ch,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al version relea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ment Comple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6"/>
          <p:cNvSpPr/>
          <p:nvPr/>
        </p:nvSpPr>
        <p:spPr>
          <a:xfrm>
            <a:off x="5184720" y="3678120"/>
            <a:ext cx="172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version relea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8"/>
          <p:cNvSpPr/>
          <p:nvPr/>
        </p:nvSpPr>
        <p:spPr>
          <a:xfrm>
            <a:off x="7807320" y="2135160"/>
            <a:ext cx="32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49"/>
          <p:cNvSpPr/>
          <p:nvPr/>
        </p:nvSpPr>
        <p:spPr>
          <a:xfrm>
            <a:off x="8539200" y="2116080"/>
            <a:ext cx="32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0"/>
          <p:cNvSpPr/>
          <p:nvPr/>
        </p:nvSpPr>
        <p:spPr>
          <a:xfrm>
            <a:off x="8590320" y="21733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1"/>
          <p:cNvSpPr/>
          <p:nvPr/>
        </p:nvSpPr>
        <p:spPr>
          <a:xfrm>
            <a:off x="1229040" y="4554360"/>
            <a:ext cx="145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2"/>
          <p:cNvSpPr/>
          <p:nvPr/>
        </p:nvSpPr>
        <p:spPr>
          <a:xfrm>
            <a:off x="3092400" y="2638440"/>
            <a:ext cx="521172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3"/>
          <p:cNvSpPr/>
          <p:nvPr/>
        </p:nvSpPr>
        <p:spPr>
          <a:xfrm>
            <a:off x="1180800" y="2457360"/>
            <a:ext cx="126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TF-CE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sk T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54"/>
          <p:cNvSpPr/>
          <p:nvPr/>
        </p:nvSpPr>
        <p:spPr>
          <a:xfrm>
            <a:off x="5981760" y="3584520"/>
            <a:ext cx="129960" cy="1126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55"/>
          <p:cNvSpPr/>
          <p:nvPr/>
        </p:nvSpPr>
        <p:spPr>
          <a:xfrm>
            <a:off x="7994520" y="3540240"/>
            <a:ext cx="130320" cy="1126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6"/>
          <p:cNvSpPr/>
          <p:nvPr/>
        </p:nvSpPr>
        <p:spPr>
          <a:xfrm>
            <a:off x="7114320" y="2824200"/>
            <a:ext cx="257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GISS-26 (Septemebr, 200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sk Team Clo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57"/>
          <p:cNvSpPr/>
          <p:nvPr/>
        </p:nvSpPr>
        <p:spPr>
          <a:xfrm>
            <a:off x="8242200" y="2706840"/>
            <a:ext cx="130320" cy="1126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0"/>
          <p:cNvSpPr/>
          <p:nvPr/>
        </p:nvSpPr>
        <p:spPr>
          <a:xfrm>
            <a:off x="2849760" y="21733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61"/>
          <p:cNvSpPr/>
          <p:nvPr/>
        </p:nvSpPr>
        <p:spPr>
          <a:xfrm>
            <a:off x="4213080" y="2122560"/>
            <a:ext cx="32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62"/>
          <p:cNvSpPr/>
          <p:nvPr/>
        </p:nvSpPr>
        <p:spPr>
          <a:xfrm>
            <a:off x="5664240" y="2127240"/>
            <a:ext cx="32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63"/>
          <p:cNvSpPr/>
          <p:nvPr/>
        </p:nvSpPr>
        <p:spPr>
          <a:xfrm>
            <a:off x="7108920" y="2111400"/>
            <a:ext cx="32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4"/>
          <p:cNvSpPr/>
          <p:nvPr/>
        </p:nvSpPr>
        <p:spPr>
          <a:xfrm>
            <a:off x="3569040" y="21733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5"/>
          <p:cNvSpPr/>
          <p:nvPr/>
        </p:nvSpPr>
        <p:spPr>
          <a:xfrm>
            <a:off x="4258080" y="21733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6"/>
          <p:cNvSpPr/>
          <p:nvPr/>
        </p:nvSpPr>
        <p:spPr>
          <a:xfrm>
            <a:off x="4947120" y="21733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7"/>
          <p:cNvSpPr/>
          <p:nvPr/>
        </p:nvSpPr>
        <p:spPr>
          <a:xfrm>
            <a:off x="5664600" y="21733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68"/>
          <p:cNvSpPr/>
          <p:nvPr/>
        </p:nvSpPr>
        <p:spPr>
          <a:xfrm>
            <a:off x="3149640" y="4870440"/>
            <a:ext cx="5853240" cy="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30320" y="2743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Outreach Activities</a:t>
            </a: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748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 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ARSS-06 &amp; 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U-06 &amp; 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OP Science Meeting in March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OP Satellite Data Server proof of concept demo at eGY booth at 2006 Dec AGU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929960" y="1600200"/>
            <a:ext cx="748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EOS/GEO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-07-01_2 : Release final version the WTF-CEOP JAXA Prototyp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9068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d in March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EOSS Regi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XA 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9068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ed on October 1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SA 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9068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registered s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56816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66"/>
                </a:solidFill>
                <a:uFillTx/>
                <a:latin typeface="Arial"/>
              </a:rPr>
              <a:t>GEO Related Status &amp; Issues</a:t>
            </a:r>
            <a:endParaRPr b="1" lang="en-US" sz="4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08:25:13Z</dcterms:created>
  <dc:creator>各自で変更してください</dc:creator>
  <dc:description/>
  <dc:language>en-US</dc:language>
  <cp:lastModifiedBy>JOSS User</cp:lastModifiedBy>
  <dcterms:modified xsi:type="dcterms:W3CDTF">2008-09-23T14:52:44Z</dcterms:modified>
  <cp:revision>59</cp:revision>
  <dc:subject/>
  <dc:title>First &amp; Final Report  on WTF-CEOP Project Te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838861041</vt:lpwstr>
  </property>
</Properties>
</file>