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EAB3-5A31-472C-BA1A-AC5617E85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B3B6DAE-4E99-485F-BF99-5F5E7B60B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5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047240" y="4354560"/>
            <a:ext cx="4768920" cy="347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licks to the ESIP por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we do this. We listen to the user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se are UWG recommendations, NASA recommendations, Antarctic collabo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sten to the user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tware released in June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CD3D070-F719-43A7-9FDF-036B5FF6F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E48B2C3-FED8-4675-BA41-DC7DE8F8F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E3C-2EF6-475C-AF7C-7D67EE64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54B-AFE5-42C9-BA9A-5E6806CB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458-9B30-461D-960C-D7B9089E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CCF-8D0C-42C5-BDE0-5D8D8D75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326A-8260-463F-A5E2-9D1A83BC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1D6D-639B-4330-9AF0-B5200086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7E03-7176-46A7-82C9-5CE7F4E0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581C-EEE6-468A-8E42-EB4662E8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78EC-59D5-4A14-AFCC-A15F58B3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CB4D-6AA6-420B-BF8A-4C96CB4E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4AEC-1CB4-4E58-8E58-B2288DA3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7A1-E316-4A49-810D-6E744608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A64F-F8FF-465C-9AD2-860FE9F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61BB-1672-4100-B5C0-4FBF529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1FFB-F173-40A5-935F-1951F78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8A4B-942F-43D8-8E7F-35173BDA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CE1F-2357-4AEF-8CF2-053372F3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923-3B90-4EF5-8E7D-1ABCAB5E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3C3-F63B-4AD0-9281-9193E89E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A4E-B916-432D-8D81-FD08DDFB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A5B-24C7-4A95-974E-CC9AB003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E4C-4397-4DE4-9C31-AB89D961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EC7-A206-4A4B-8441-5E7263EB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605-F35B-4DA0-9027-5498747E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8F5C-987B-4ECF-80DC-3263AA177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upin_meadow"/>
          <p:cNvPicPr/>
          <p:nvPr/>
        </p:nvPicPr>
        <p:blipFill>
          <a:blip r:embed="rId2">
            <a:lum bright="70000" contrast="-70000"/>
            <a:alphaModFix amt="65000"/>
          </a:blip>
          <a:srcRect l="0" t="3374" r="0" b="77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28E9-ADF7-4340-A3B6-AB3F8D325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gcmd.nasa.gov/Aboutus/software_docs/MD9_8_release_announcement.html" TargetMode="External"/><Relationship Id="rId4" Type="http://schemas.openxmlformats.org/officeDocument/2006/relationships/hyperlink" Target="http://gcmd.nasa.gov/Aboutus/software_docs/MD9_8_release_announcement.html" TargetMode="External"/><Relationship Id="rId5" Type="http://schemas.openxmlformats.org/officeDocument/2006/relationships/hyperlink" Target="http://gcmd.nasa.gov/Aboutus/software_docs/MD9_8_release_announcement.html" TargetMode="External"/><Relationship Id="rId6" Type="http://schemas.openxmlformats.org/officeDocument/2006/relationships/hyperlink" Target="http://gcmd.nasa.gov/Aboutus/software_docs/MD9_8_release_announcement.html" TargetMode="External"/><Relationship Id="rId7" Type="http://schemas.openxmlformats.org/officeDocument/2006/relationships/hyperlink" Target="http://gcmd.nasa.gov/Aboutus/software_docs/MD9_8_release_announcement.html" TargetMode="Externa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31840" y="-16920"/>
            <a:ext cx="6835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8480"/>
                <a:tab algn="l" pos="2625840"/>
                <a:tab algn="l" pos="3281400"/>
                <a:tab algn="l" pos="3938760"/>
                <a:tab algn="l" pos="4594320"/>
                <a:tab algn="l" pos="524988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Garamond"/>
                <a:ea typeface="Arial"/>
              </a:rPr>
              <a:t>MD 9.8 Released June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1316160" cy="93492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E08F-9F4E-4582-A76D-44101AF76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3014640" y="5016600"/>
            <a:ext cx="2718000" cy="850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846000" y="6100920"/>
            <a:ext cx="7480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//gcmd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nasa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.gov/Aboutus/software_docs/MD9_8_release_announcemen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442800" y="1521000"/>
            <a:ext cx="8305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Added a "Privacy" field to allow authors to restrict the data set description from being publicly avail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Improved user comment form to capture valuable information about “Who are the users?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Implemented automated link che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aramond"/>
                <a:ea typeface="Arial"/>
              </a:rPr>
              <a:t>Included direct links to related data from Instrument and  Platform ancillary descri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aramond"/>
              </a:rPr>
              <a:t>Improved display of spatial coverage near the poles and extended display for complete global cover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905120" y="22860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Future Development – MD 10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533520" y="205740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aramond"/>
                <a:ea typeface="Arial"/>
              </a:rPr>
              <a:t>Create Web Based 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aramond"/>
                <a:ea typeface="Arial"/>
              </a:rPr>
              <a:t>Store metadata in DBXML container allowing  for more effective sear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aramond"/>
                <a:ea typeface="Arial"/>
              </a:rPr>
              <a:t>Add semantic web to improve discovery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aramond"/>
                <a:ea typeface="Arial"/>
              </a:rPr>
              <a:t>Become Web 2.0 compliant to improve user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lupin_meadow"/>
          <p:cNvPicPr/>
          <p:nvPr/>
        </p:nvPicPr>
        <p:blipFill>
          <a:blip r:embed="rId1">
            <a:lum bright="70000" contrast="-70000"/>
            <a:alphaModFix amt="65000"/>
          </a:blip>
          <a:srcRect l="0" t="3374" r="0" b="77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4840" y="194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aramond"/>
              </a:rPr>
              <a:t>Trusted Partners Evolution: 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Garamond"/>
              </a:rPr>
              <a:t>Past/Pres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5029200"/>
            <a:ext cx="8839440" cy="1057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July 2007 through July 200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Successful experiment:  3 GES-DISC staff members are managing their metadata using the OPS clien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2077920"/>
            <a:ext cx="8839440" cy="783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1993 through Octobe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Metadata database managed by one staff mem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52280" y="3365640"/>
            <a:ext cx="8839440" cy="12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November 2001 through 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OPS (Operations) Client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ll science staff members authorized to participate in database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lupin_meadow"/>
          <p:cNvPicPr/>
          <p:nvPr/>
        </p:nvPicPr>
        <p:blipFill>
          <a:blip r:embed="rId1">
            <a:lum bright="70000" contrast="-70000"/>
            <a:alphaModFix amt="65000"/>
          </a:blip>
          <a:srcRect l="0" t="3374" r="0" b="77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4120" y="2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aramond"/>
              </a:rPr>
              <a:t>Trusted Partners Evolution: 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Garamond"/>
              </a:rPr>
              <a:t>Futu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2514600"/>
            <a:ext cx="7772400" cy="285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Date T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100% web based metadata management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206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Partners can only make changes to metadata that they are authorized to modi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206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Metadata will be held as a virtual subset of the main GCMD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206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Can “push” the metadata to the public database or to a particular portal only (or bot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9:54:44Z</dcterms:created>
  <dc:creator>tstevens</dc:creator>
  <dc:description/>
  <dc:language>en-US</dc:language>
  <cp:lastModifiedBy>Lola/Olsen</cp:lastModifiedBy>
  <dcterms:modified xsi:type="dcterms:W3CDTF">2008-09-25T07:31:08Z</dcterms:modified>
  <cp:revision>10</cp:revision>
  <dc:subject/>
  <dc:title>Trusted Partners Evolution:  Past/Present </dc:title>
</cp:coreProperties>
</file>