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568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960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568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960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177480"/>
            <a:ext cx="838188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9568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29600" y="11430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9568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29600" y="37299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177480"/>
            <a:ext cx="838188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692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692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7299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391520" y="6172200"/>
            <a:ext cx="1218960" cy="479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77080" y="64231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A998-32B2-4681-9D9E-61B4007325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0" t="0" r="0" b="24403"/>
          <a:stretch/>
        </p:blipFill>
        <p:spPr>
          <a:xfrm>
            <a:off x="914400" y="6248520"/>
            <a:ext cx="1352520" cy="3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8080" y="990720"/>
            <a:ext cx="7925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38080" y="61722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6095880"/>
            <a:ext cx="1600200" cy="630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" y="457200"/>
            <a:ext cx="1676520" cy="61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6156360"/>
            <a:ext cx="2590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0958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2092320" cy="83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7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534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rvices Interest Group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320004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ISS #2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,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lder, Colorado, US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yndon R. Ole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th Resources Observation and Science (EROS) Ce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oux Falls, S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rvices Interest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a Web Services Interest Group (WGISS 2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ster technical sharing among members (particular emphasis on non-SWE stand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 a list of “expert participants” from agencies for technical referrals and dial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nsor technical exchange forums at WGISS Subgroup meetings or elsewhere (e.g. workshops, Q&amp;A sessions, telec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ft potential project proposals and project plans for WGI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rvices Interest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828800"/>
            <a:ext cx="83818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30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lcome and Introductio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yn Oles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40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GS Web Services Implementation Strategie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yn Oles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10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ar Image Mapping – Some Lessons Learne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hinobu Kawahit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0:30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45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ASA EOS Web Services Experienc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ichael Burnet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10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IAES Usage of Web Service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akorn Apaphan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35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ture Emphasis and Activ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f Web Services IG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yn Oles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scussion and WGISS Recomme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: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77480"/>
            <a:ext cx="83818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rvices Interest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topics of emphasi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“expert participants” from agenc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CS performance issues for large granule collec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a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W-S/WCS interactions (client “sessions”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client groups we can test wit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hop?  Session at a confer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9:07:47Z</dcterms:created>
  <dc:creator>Lyndon Oleson</dc:creator>
  <dc:description/>
  <dc:language>en-US</dc:language>
  <cp:lastModifiedBy>Lyn Oleson</cp:lastModifiedBy>
  <dcterms:modified xsi:type="dcterms:W3CDTF">2008-09-24T21:02:48Z</dcterms:modified>
  <cp:revision>551</cp:revision>
  <dc:subject>None</dc:subject>
  <dc:title>None</dc:title>
</cp:coreProperties>
</file>