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F91-3FA8-4C4F-9A0F-F1BC969F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0F25-0F1F-4DA6-86D6-FC17F257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93E8-1C34-4A12-8B02-151B3C74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85C-2654-4B85-AEE0-1972D6CA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B9DF-3A91-4D9B-91F5-93B34D34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67BD-D280-4825-B491-18574808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E8E1-D02B-438F-8E40-7D300C3A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AA0B-7CC8-4159-8AAD-262FC864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A99B-1DC1-451D-BC25-A1D6DE87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F0A9-0178-4BAB-B72C-C5F48FD4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A6FA-1230-4BAB-9367-75A9881E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B7FC-2610-48E4-992E-5618C687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22D0-9D13-4F00-888B-21C087E2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CE9E-91BF-4249-8CA9-C5F0635D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3D91-6BF8-470F-BAEB-EF5F385B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C0E6-9E58-4381-91B4-B171EFCB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D5D0-2DCA-446D-B41F-AB65CB30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E6C-D1D0-4C6B-9544-06F6CA7F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DE70-17DF-4BAC-84E9-BE914513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834-4917-45DC-916C-360454E3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05F-2366-419C-A2C3-258B11F2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511-674C-4854-BED9-ED1323A6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C30-5DAE-4998-B9C3-0D37A21D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AD4-416E-4469-BF14-EED9A116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CC7F-18EA-4DE1-B20F-43333661755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08EA-E01D-4058-8E48-701FE83F1EF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courtney.davis@noaa.go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giss.ceos.org/ceos/joomla/" TargetMode="External"/><Relationship Id="rId2" Type="http://schemas.openxmlformats.org/officeDocument/2006/relationships/hyperlink" Target="http://wgiss.ceos.org/ceos/joomla/" TargetMode="External"/><Relationship Id="rId3" Type="http://schemas.openxmlformats.org/officeDocument/2006/relationships/hyperlink" Target="http://wgiss.ceos.org/ceos/joomla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courtney.davis@noaa.gov" TargetMode="External"/><Relationship Id="rId2" Type="http://schemas.openxmlformats.org/officeDocument/2006/relationships/hyperlink" Target="mailto:kenneth.mcdonald@noaa.gov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304920"/>
            <a:ext cx="77724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WGISS Infrastructur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Services Project (WISP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tatus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n McDonald, NOA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GISS - 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eptember 22-26,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Boulder, Colorado, 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44D-9B49-47F1-A2DF-CCC22FDB000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WISP Support Team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SP L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n McDonald (NOA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SP Sup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Lead - Courtney Davis (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courtney.davis@noaa.go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 Hosting - Allan Doyle at MIT facility on WISP hardw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NS alignment to be done by WISP/NOAA working with NASA Marshall Space Flight Center with Dave Hartzell/NASA support as need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113-516A-472E-B9B7-735AE76CC8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WISP Servic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GISS website mainten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st webs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b page development/edits – content to be provided by WGISS lead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OS website support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(NE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ordinated with CEOS/SIT, CEO, S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st webs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ail li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NS coordin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GISS meeting suppor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 and post presenta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ictures2share”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8EE-2548-4F59-8B5A-792DFC984B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ebsite Stat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osed changes to CEOS webs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ent status:  hosted by JAXA, content managed by NA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design/content migration done by SEO w/ CEO and SIT support te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sting to move to WISP mach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nding approval, SIT w/ CEO, SEO support will manage content and WISP will provide host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jor overhaul of WGISS website postponed pending CEOS website redesign/deploy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dates and corrections made to existing cont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ose that WGISS site redesign follow CEOS conven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F7BC-7827-463A-8858-EAD5243E40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EOS Websi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wgiss.ceos.org/ceos/joomla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rcRect l="17062" t="20082" r="18624" b="7294"/>
          <a:stretch/>
        </p:blipFill>
        <p:spPr>
          <a:xfrm>
            <a:off x="1295280" y="1905120"/>
            <a:ext cx="5791320" cy="49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761-44E6-46A1-B9E6-354B5F9C9A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GISS Websi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22659" t="22917" r="22659" b="11458"/>
          <a:stretch/>
        </p:blipFill>
        <p:spPr>
          <a:xfrm>
            <a:off x="1295280" y="2057400"/>
            <a:ext cx="5181840" cy="46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5EAB-4C1F-4B06-8128-8BB7A0A55D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WGISS Website – Next Ste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and make a decision on proposal to follow CEOS sty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es, WISP to draft new WGISS structure and migrate current cont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 redesign with WGISS-Exe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 with WGISS leads to complete upd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270-BDD7-48C3-899D-C91D425A85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Email List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ist Type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  List services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xx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ist Moderator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To all members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all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Ivan Petiteville -&gt; Martha Maiden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Chair, Vice Chairs, SG Chair and Vice Chairs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exec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Martha Maiden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WGISS Infrastructure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witt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(None) -&gt; Courtney Davis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Liaisons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liaisons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George Dyke -&gt; Michelle Piepgrass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Task Team Leads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taskteamleads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George Dyke -&gt; Michelle Piepgrass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CEOS Virtual Constellations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ceosvc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Ivan Petiteville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Projects and Applications Task Team Leads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project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Packorn Apaphant -&gt; Karen Moe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WTF CEOP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wtf-ceop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atoko Miura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(2)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WTF Natural Disaster Management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wtf-ndm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Packorn Apaphant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WTF Core Test Sites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core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John Faundeen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EO Data Portal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eodp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Wyn Cudlip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Technology and Services Task Team Leads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technolog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Paul Kopp -&gt; Dingsheng Liu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International Directory Network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idn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Lola Olsen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Interoperable Catalog System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ics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Joylon Martin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Data Services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dstt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Lyndon Oleson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Archive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archive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(None)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Purge Alert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purgealert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John Faundeen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EOGEO TT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eogeo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(None)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GRID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grid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Li Guoqing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GRID-tech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grid-tech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Li Guoqing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Sensor Web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ensorweb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Terence van Zyl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ubscriber only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Sensor Web Ad Hoc Use Case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ensorweb-usecaseteam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Terence van Zyl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Open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Chair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chair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Ivan Petiteville -&gt; Martha Maiden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Open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Web Master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webmaster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Courtney Davis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655-4A8A-41D0-9A55-CDA55081E3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WGISS 26 Presentation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ction of presentation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ntation filename:  Date_Time_Tit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9.22_09.00_WISP_Repor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ith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de to Courtney on your thumb drive, or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ce on WISP thumb drive, or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ail to: 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courtney.davis@noaa.go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c: 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kenneth.mcdonald@noaa.gov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ing of pi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so use thumb drive or em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lename:  WGISS26_Pictures_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152-03A6-4D60-B585-F45503B8A2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0T09:26:51Z</dcterms:created>
  <dc:creator>Helpdesk</dc:creator>
  <dc:description/>
  <dc:language>en-US</dc:language>
  <cp:lastModifiedBy>kmcdonald</cp:lastModifiedBy>
  <cp:lastPrinted>2000-05-02T14:00:54Z</cp:lastPrinted>
  <dcterms:modified xsi:type="dcterms:W3CDTF">2008-09-22T12:31:46Z</dcterms:modified>
  <cp:revision>442</cp:revision>
  <dc:subject/>
  <dc:title>No Slide Title</dc:title>
</cp:coreProperties>
</file>