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0699750" cy="749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764640" y="542520"/>
            <a:ext cx="532476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19deb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885960" y="4203720"/>
            <a:ext cx="511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765000" y="542880"/>
            <a:ext cx="5329440" cy="37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765000" y="542880"/>
            <a:ext cx="5329440" cy="37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765000" y="542880"/>
            <a:ext cx="5329440" cy="37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765000" y="542880"/>
            <a:ext cx="5329440" cy="37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928548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2960" y="4069080"/>
            <a:ext cx="928548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2960" y="406908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90720" y="406908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2520" y="172224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12440" y="172224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2960" y="406908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2520" y="406908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12440" y="406908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2960" y="1722240"/>
            <a:ext cx="928548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10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928548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2960" y="460080"/>
            <a:ext cx="92854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10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2960" y="406908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2960" y="1722240"/>
            <a:ext cx="928548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10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0720" y="406908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2960" y="4069080"/>
            <a:ext cx="928548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928548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2960" y="4069080"/>
            <a:ext cx="928548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2960" y="406908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0720" y="406908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72520" y="172224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12440" y="172224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2960" y="406908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72520" y="406908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12440" y="4069080"/>
            <a:ext cx="298980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928548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2960" y="460080"/>
            <a:ext cx="92854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10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2960" y="406908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90720" y="406908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296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90720" y="1722240"/>
            <a:ext cx="453096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2960" y="4069080"/>
            <a:ext cx="9285480" cy="2142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97000"/>
              </a:lnSpc>
              <a:spcBef>
                <a:spcPts val="10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2960" y="460080"/>
            <a:ext cx="928548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19deb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2960" y="1722240"/>
            <a:ext cx="9285480" cy="4492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6840" indent="-366840">
              <a:lnSpc>
                <a:spcPct val="97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1" marL="801720" indent="-309600">
              <a:lnSpc>
                <a:spcPct val="97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2" marL="1236600" indent="-244440">
              <a:lnSpc>
                <a:spcPct val="97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3" marL="1731960" indent="-247680">
              <a:lnSpc>
                <a:spcPct val="97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4" marL="2228760" indent="-247680">
              <a:lnSpc>
                <a:spcPct val="97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5" marL="2228760" indent="-247680">
              <a:lnSpc>
                <a:spcPct val="97000"/>
              </a:lnSpc>
              <a:spcBef>
                <a:spcPts val="10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6" marL="2228760" indent="-247680">
              <a:lnSpc>
                <a:spcPct val="97000"/>
              </a:lnSpc>
              <a:spcBef>
                <a:spcPts val="10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920" y="7034400"/>
            <a:ext cx="439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f5e"/>
                </a:solidFill>
                <a:latin typeface="Arial"/>
              </a:rPr>
              <a:t>CEOS WGISS 26 Meeting, Boulder, Septemb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9288360" y="182520"/>
            <a:ext cx="122076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8920" y="2439720"/>
            <a:ext cx="9050040" cy="12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19deb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824040" y="6830640"/>
            <a:ext cx="2217600" cy="498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703320" y="6830640"/>
            <a:ext cx="3289320" cy="498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558200" y="6586560"/>
            <a:ext cx="3138480" cy="909720"/>
            <a:chOff x="7558200" y="6586560"/>
            <a:chExt cx="3138480" cy="909720"/>
          </a:xfrm>
        </p:grpSpPr>
        <p:pic>
          <p:nvPicPr>
            <p:cNvPr id="44" name="Picture 5" descr=""/>
            <p:cNvPicPr/>
            <p:nvPr/>
          </p:nvPicPr>
          <p:blipFill>
            <a:blip r:embed="rId2"/>
            <a:srcRect l="0" t="0" r="12183" b="2896"/>
            <a:stretch/>
          </p:blipFill>
          <p:spPr>
            <a:xfrm>
              <a:off x="7558200" y="6586560"/>
              <a:ext cx="313848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"/>
            <p:cNvPicPr/>
            <p:nvPr/>
          </p:nvPicPr>
          <p:blipFill>
            <a:blip r:embed="rId3"/>
            <a:srcRect l="0" t="3793" r="3291" b="16037"/>
            <a:stretch/>
          </p:blipFill>
          <p:spPr>
            <a:xfrm>
              <a:off x="9141480" y="6874920"/>
              <a:ext cx="125964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388680" y="4816440"/>
            <a:ext cx="3680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f5e"/>
                </a:solidFill>
                <a:latin typeface="Arial"/>
              </a:rPr>
              <a:t>Lorant Czaran, UNH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f5e"/>
                </a:solidFill>
                <a:latin typeface="Arial"/>
              </a:rPr>
              <a:t>Wyn Cudlip, BNS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55320" y="3154320"/>
            <a:ext cx="42382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f5e"/>
                </a:solidFill>
                <a:latin typeface="Arial"/>
              </a:rPr>
              <a:t>WGISS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f5e"/>
                </a:solidFill>
                <a:latin typeface="Arial"/>
              </a:rPr>
              <a:t>Boulder, September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9288360" y="182520"/>
            <a:ext cx="1220760" cy="420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00" y="369720"/>
            <a:ext cx="10229760" cy="2394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19deb"/>
                </a:solidFill>
                <a:latin typeface="Arial"/>
              </a:rPr>
              <a:t>Global Datasets </a:t>
            </a:r>
            <a:br>
              <a:rPr sz="4400"/>
            </a:br>
            <a:r>
              <a:rPr b="0" lang="en-GB" sz="2800" spc="-1" strike="noStrike">
                <a:solidFill>
                  <a:srgbClr val="019deb"/>
                </a:solidFill>
                <a:latin typeface="Arial"/>
              </a:rPr>
              <a:t>now an Interest Group</a:t>
            </a:r>
            <a:endParaRPr b="0" lang="en-US" sz="2800" spc="-1" strike="noStrike">
              <a:solidFill>
                <a:srgbClr val="019de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7960" y="320760"/>
            <a:ext cx="9012240" cy="876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900" spc="-1" strike="noStrike">
                <a:solidFill>
                  <a:srgbClr val="019deb"/>
                </a:solidFill>
                <a:latin typeface="Arial"/>
              </a:rPr>
              <a:t>Global Datasets IG Aims</a:t>
            </a:r>
            <a:endParaRPr b="0" lang="en-US" sz="39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8480" y="1383840"/>
            <a:ext cx="9985320" cy="5483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6840" indent="-366840">
              <a:lnSpc>
                <a:spcPct val="10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f5e"/>
                </a:solidFill>
                <a:latin typeface="Arial"/>
              </a:rPr>
              <a:t>To encourage and support the creation and use of global datasets through the co-operation of CEOS members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marL="366840" indent="0">
              <a:lnSpc>
                <a:spcPct val="100000"/>
              </a:lnSpc>
              <a:spcBef>
                <a:spcPts val="10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10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f5e"/>
                </a:solidFill>
                <a:latin typeface="Arial"/>
              </a:rPr>
              <a:t>Past successes include global AVHRR map products and the GLOBE global 1km DEM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marL="366840" indent="0">
              <a:lnSpc>
                <a:spcPct val="100000"/>
              </a:lnSpc>
              <a:spcBef>
                <a:spcPts val="10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10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f5e"/>
                </a:solidFill>
                <a:latin typeface="Arial"/>
              </a:rPr>
              <a:t>Currently contributing on goal to create a globally consistent and accurate 30m DEM, in collaboration with WGCV and GEOSS.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3920" y="92160"/>
            <a:ext cx="9012240" cy="876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19deb"/>
                </a:solidFill>
                <a:latin typeface="Arial"/>
              </a:rPr>
              <a:t>Areas and Initiatives of Interest</a:t>
            </a:r>
            <a:endParaRPr b="0" lang="en-US" sz="36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4440" y="930240"/>
            <a:ext cx="9896400" cy="5867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6840" indent="-366840">
              <a:lnSpc>
                <a:spcPct val="97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Global food crisis, drought, climate change etc. - international focus increasing (including in the UN System), high-level task forces set up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97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Core Global Datasets identified as needed by community of experts, including UNGIWG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97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How could space-based data or related services assist: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1" marL="801720" indent="-309600">
              <a:lnSpc>
                <a:spcPct val="97000"/>
              </a:lnSpc>
              <a:spcBef>
                <a:spcPts val="649"/>
              </a:spcBef>
              <a:buClr>
                <a:srgbClr val="019deb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Global Roads dataset (priority!)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1" marL="801720" indent="-309600">
              <a:lnSpc>
                <a:spcPct val="97000"/>
              </a:lnSpc>
              <a:spcBef>
                <a:spcPts val="649"/>
              </a:spcBef>
              <a:buClr>
                <a:srgbClr val="019deb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Global coastline dataset at 100K or better scale;  using sat imagery to develop data faster, still need gap-filling in cloudy areas after Earthsat work… (priority!)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1" marL="801720" indent="-309600">
              <a:lnSpc>
                <a:spcPct val="97000"/>
              </a:lnSpc>
              <a:spcBef>
                <a:spcPts val="649"/>
              </a:spcBef>
              <a:buClr>
                <a:srgbClr val="019deb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Global DEM at 30m. and related data services 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1" marL="801720" indent="0">
              <a:lnSpc>
                <a:spcPct val="97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(links to GEO task DA-07-01)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1" marL="801720" indent="-309600">
              <a:lnSpc>
                <a:spcPct val="97000"/>
              </a:lnSpc>
              <a:spcBef>
                <a:spcPts val="649"/>
              </a:spcBef>
              <a:buClr>
                <a:srgbClr val="019deb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Datasets/services for global flood monitoring, trends over years, and over larger areas/regions for decisions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11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f5e"/>
                </a:solidFill>
                <a:latin typeface="Arial"/>
              </a:rPr>
              <a:t>Ongoing liaison with Global Map (&amp; ISCGM)</a:t>
            </a:r>
            <a:r>
              <a:rPr b="0" lang="ar-SA" sz="2000" spc="-1" strike="noStrike">
                <a:solidFill>
                  <a:srgbClr val="000f5e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11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f5e"/>
                </a:solidFill>
                <a:latin typeface="Arial"/>
              </a:rPr>
              <a:t>Link to Land Surface Imaging activity?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lvl="1" marL="801720" indent="-309600">
              <a:lnSpc>
                <a:spcPct val="11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f5e"/>
                </a:solidFill>
                <a:latin typeface="Arial"/>
              </a:rPr>
              <a:t>note new Landsat availability, Google support via </a:t>
            </a:r>
            <a:r>
              <a:rPr b="0" lang="en-US" sz="2000" spc="-1" strike="noStrike">
                <a:solidFill>
                  <a:srgbClr val="2d2db9"/>
                </a:solidFill>
                <a:latin typeface="Arial"/>
              </a:rPr>
              <a:t>http://mapmaker.google.com </a:t>
            </a: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  <a:p>
            <a:pPr marL="366840" indent="0">
              <a:lnSpc>
                <a:spcPct val="110000"/>
              </a:lnSpc>
              <a:spcBef>
                <a:spcPts val="10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3320" y="460440"/>
            <a:ext cx="9290160" cy="1249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19deb"/>
                </a:solidFill>
                <a:latin typeface="Arial"/>
              </a:rPr>
              <a:t>UN-SPIDER Programme </a:t>
            </a:r>
            <a:endParaRPr b="0" lang="en-US" sz="2600" spc="-1" strike="noStrike">
              <a:solidFill>
                <a:srgbClr val="019de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3320" y="1722600"/>
            <a:ext cx="9290160" cy="4497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6840" indent="-366840">
              <a:lnSpc>
                <a:spcPct val="9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f5e"/>
                </a:solidFill>
                <a:latin typeface="Arial"/>
              </a:rPr>
              <a:t>the budget of the Programme was approved by the UN General Assembly in 2007, providing funding for new staff and resources for the programme to be implemented starting in 2008</a:t>
            </a:r>
            <a:endParaRPr b="0" lang="en-US" sz="18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f5e"/>
                </a:solidFill>
                <a:latin typeface="Arial"/>
              </a:rPr>
              <a:t>Stands for “United Nations Platform for Space-based Information for Disaster Management and Emergency Response”, and it has a lot of focus aimed at UN mediation in support of those developing countries that need space-based data, information and services most in their disaster-related efforts... </a:t>
            </a:r>
            <a:endParaRPr b="0" lang="en-US" sz="18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f5e"/>
                </a:solidFill>
                <a:latin typeface="Arial"/>
              </a:rPr>
              <a:t>Coordination from UNOOSA in Vienna, other offices in Bonn, Beijing and Geneva on track</a:t>
            </a:r>
            <a:endParaRPr b="0" lang="en-US" sz="18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f5e"/>
                </a:solidFill>
                <a:latin typeface="Arial"/>
              </a:rPr>
              <a:t>Lorant Czaran will be heading the Bonn Office of UN-SPIDER</a:t>
            </a:r>
            <a:endParaRPr b="0" lang="en-US" sz="1800" spc="-1" strike="noStrike">
              <a:solidFill>
                <a:srgbClr val="000f5e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089"/>
              </a:spcBef>
              <a:buClr>
                <a:srgbClr val="019deb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f5e"/>
                </a:solidFill>
                <a:latin typeface="Arial"/>
              </a:rPr>
              <a:t>See http://www.unspider.org/</a:t>
            </a:r>
            <a:endParaRPr b="0" lang="en-US" sz="1800" spc="-1" strike="noStrike">
              <a:solidFill>
                <a:srgbClr val="000f5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ant Czaran</cp:lastModifiedBy>
  <dcterms:modified xsi:type="dcterms:W3CDTF">2008-09-23T19:51:59Z</dcterms:modified>
  <cp:revision>15</cp:revision>
  <dc:subject/>
  <dc:title>PLAINS project overview</dc:title>
</cp:coreProperties>
</file>