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BA14-F43F-4602-B593-5AFD69F5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Case cove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1 c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ch science focus area has between 3 and 10 use c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NRC Decadal Survey challenge areas cov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AIST goals for technology needs addres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or Observations to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and sensor networks gain value from the use of their 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get data and information out of the sensor network and integrated with other sensor data, models, and decision support syst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a framework that is flexible and that can be expanded (new sensors, models, tools need to be accommod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SA Sensor Web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 AIST* funded 35 project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key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pilo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e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knowledge about sensor we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is to bridge the gap between today’s remote sensing system capabilities and the sensor web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Advanced Information Systems Technology 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SE - Observing System Simulatio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SE - Observing System Simulatio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SE - Observing System Simulatio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0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2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8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588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0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8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588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60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60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2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0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2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8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588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0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8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588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8A9-6129-4550-9AE4-3AFA5F631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60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8AF-96CA-47C0-86A6-140A676B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C30-DE8E-4671-9937-59E1AF0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644-217B-4955-8EBA-6BF999BC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43D-4613-4F15-96B5-7F5D1849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B4B-B4B6-4B37-8A3F-D0A459C6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FC6-BAD6-437F-AB2A-A375EDC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42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840-F781-431C-A1B5-DA5C0639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F11-A82C-46D7-8F8F-E9A61328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0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8F0-5FA8-4CF1-B83F-CC3C1BFC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42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BF2-B82D-456F-8F25-D4754E8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88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588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0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88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588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CB0-D62C-48E1-AEBD-1E0C2D1AA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2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0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26360"/>
            <a:ext cx="7746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784758-AC67-4BDF-AF0F-3AEB3868C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8400" y="78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65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4880" y="1860120"/>
            <a:ext cx="71913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742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742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742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742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31640" y="6324480"/>
            <a:ext cx="1704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7552800" y="6324480"/>
            <a:ext cx="949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3169-73C8-451E-B97E-0E2ADB2B526A}" type="slidenum">
              <a:rPr b="0" lang="en-US" sz="1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12859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775800" y="596880"/>
            <a:ext cx="76438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151000" y="6302520"/>
            <a:ext cx="5400720" cy="3988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Narrow"/>
              </a:rPr>
              <a:t>Global Earth Observation System of Systems (GE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812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ASA Use Cases for the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arth Observation Senso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733920"/>
            <a:ext cx="7797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Mo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 Earth Science Technology Office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sto.nasa.gov/sensorwebmeeting/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GISS-2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lder, CO, USA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September 2008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hardware, software and network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anagement, communications in constraine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t agents, aut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Oriented Architecture (SOA)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maturity and cross-standards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SOA to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orche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enance and quality in dynamically configured sensor w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74640" y="609480"/>
            <a:ext cx="5791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ank You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44240" y="2895120"/>
            <a:ext cx="8305560" cy="29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Advanced Information Systems Technology Sensor Web technical report team: Steve Smith, Glen Prescott, and Marge Cole of NASA/ESTO, Rob Sherwood/JPL, Phil Paulsen/GRC, Vicki Oxenham/GSFC, and April Gillam, Brad Hartman and Thomas Eden of Aerospac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cipants of the 35 NASA AIST sensor web projects who are developing and demonstrating sensor web capabilities to the Earth scienc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or Web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Earth observ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ise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and in situ sen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ally configured to produce products on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using emerging web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ensor Webs for Earth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6080" y="1752120"/>
            <a:ext cx="786132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eScience for Eart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cienc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cienc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operationa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6160" y="596880"/>
            <a:ext cx="798696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aa0"/>
                </a:solidFill>
                <a:latin typeface="Tahoma"/>
              </a:rPr>
              <a:t>GEOSS Architecture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 Observation Sensor We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5120" y="1677960"/>
            <a:ext cx="7672320" cy="4154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80160" y="5295960"/>
            <a:ext cx="1371600" cy="838080"/>
          </a:xfrm>
          <a:prstGeom prst="ellipse">
            <a:avLst/>
          </a:prstGeom>
          <a:solidFill>
            <a:srgbClr val="fcfecc"/>
          </a:solidFill>
          <a:ln w="28440">
            <a:solidFill>
              <a:srgbClr val="00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858"/>
                </a:solidFill>
                <a:latin typeface="Abadi MT Condensed Light"/>
              </a:rPr>
              <a:t>End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52560" y="3467160"/>
            <a:ext cx="266760" cy="419040"/>
          </a:xfrm>
          <a:prstGeom prst="downArrow">
            <a:avLst>
              <a:gd name="adj1" fmla="val 38889"/>
              <a:gd name="adj2" fmla="val 52362"/>
            </a:avLst>
          </a:prstGeom>
          <a:solidFill>
            <a:srgbClr val="005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160400">
            <a:off x="-1142280" y="308628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858"/>
                </a:solidFill>
                <a:latin typeface="Abadi MT Condensed Light"/>
              </a:rPr>
              <a:t>Model - Observations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560400">
            <a:off x="6145200" y="4816080"/>
            <a:ext cx="20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58"/>
                </a:solidFill>
                <a:latin typeface="Abadi MT Condensed Light"/>
              </a:rPr>
              <a:t>Science and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or Web Use Case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066680"/>
          <a:ext cx="8153280" cy="4738680"/>
        </p:xfrm>
        <a:graphic>
          <a:graphicData uri="http://schemas.openxmlformats.org/drawingml/2006/table">
            <a:tbl>
              <a:tblPr/>
              <a:tblGrid>
                <a:gridCol w="1917720"/>
                <a:gridCol w="2158920"/>
                <a:gridCol w="2038320"/>
                <a:gridCol w="2038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Middlew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 Mgmt. Middlew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 Sens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adal Surv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y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spI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ar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ca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respo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cal/v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Web fe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ssimi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31640" y="5956200"/>
            <a:ext cx="8280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SA ESTO Sensor Web Meeting April 2008 - 41 Use C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or Web Use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95360" y="977760"/>
            <a:ext cx="7610040" cy="4660560"/>
            <a:chOff x="495360" y="977760"/>
            <a:chExt cx="7610040" cy="4660560"/>
          </a:xfrm>
        </p:grpSpPr>
        <p:grpSp>
          <p:nvGrpSpPr>
            <p:cNvPr id="145" name=""/>
            <p:cNvGrpSpPr/>
            <p:nvPr/>
          </p:nvGrpSpPr>
          <p:grpSpPr>
            <a:xfrm>
              <a:off x="495360" y="977760"/>
              <a:ext cx="7610040" cy="4660560"/>
              <a:chOff x="495360" y="977760"/>
              <a:chExt cx="7610040" cy="4660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495360" y="977760"/>
                <a:ext cx="7610040" cy="4660560"/>
                <a:chOff x="495360" y="977760"/>
                <a:chExt cx="7610040" cy="4660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>
                  <a:off x="3731040" y="1694520"/>
                  <a:ext cx="4023720" cy="2599200"/>
                </a:xfrm>
                <a:prstGeom prst="wedgeRoundRectCallout">
                  <a:avLst>
                    <a:gd name="adj1" fmla="val -36731"/>
                    <a:gd name="adj2" fmla="val 85412"/>
                    <a:gd name="adj3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844560" y="3038760"/>
                  <a:ext cx="3498840" cy="2061720"/>
                </a:xfrm>
                <a:prstGeom prst="wedgeRoundRectCallout">
                  <a:avLst>
                    <a:gd name="adj1" fmla="val -42189"/>
                    <a:gd name="adj2" fmla="val 69564"/>
                    <a:gd name="adj3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1018800" y="1605240"/>
                  <a:ext cx="3586680" cy="1882080"/>
                </a:xfrm>
                <a:prstGeom prst="wedgeRoundRectCallout">
                  <a:avLst>
                    <a:gd name="adj1" fmla="val -44004"/>
                    <a:gd name="adj2" fmla="val 64083"/>
                    <a:gd name="adj3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69160" y="4986720"/>
                  <a:ext cx="17748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Autonomous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Sensor Oper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03160" y="4986720"/>
                  <a:ext cx="8618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Us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Suppor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33120" y="1042920"/>
                  <a:ext cx="15552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Autonomous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Data Produc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95360" y="977760"/>
                  <a:ext cx="7610040" cy="4660560"/>
                </a:xfrm>
                <a:prstGeom prst="rect">
                  <a:avLst/>
                </a:prstGeom>
                <a:noFill/>
                <a:ln w="28440">
                  <a:solidFill>
                    <a:srgbClr val="333399"/>
                  </a:solidFill>
                  <a:miter/>
                </a:ln>
                <a:effectLst>
                  <a:outerShdw dist="153753" dir="2700000" blurRad="0" rotWithShape="0">
                    <a:srgbClr val="1e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07720" y="2232360"/>
                  <a:ext cx="786960" cy="62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>
                  <a:off x="932040" y="5166000"/>
                  <a:ext cx="1915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GEOSS Architectu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122280" y="1791720"/>
                  <a:ext cx="1040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Predic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45800" y="1881360"/>
                  <a:ext cx="81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Socie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Benefit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093840" y="3892680"/>
                  <a:ext cx="1195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Observ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707920" y="3168000"/>
                  <a:ext cx="4698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30040" y="4482360"/>
                  <a:ext cx="400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Ongoing feedback to optimize value and reduce gap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71160" y="2209680"/>
                  <a:ext cx="14914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High Performa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Computing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Communication,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&amp; Visualiz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93120" y="3240720"/>
                  <a:ext cx="1296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Standards &amp;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badi MT Condensed Light"/>
                    </a:rPr>
                    <a:t>Interopera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638440" y="2108880"/>
                  <a:ext cx="1798920" cy="2098800"/>
                </a:xfrm>
                <a:custGeom>
                  <a:avLst/>
                  <a:gdLst>
                    <a:gd name="textAreaLeft" fmla="*/ 87480 w 1798920"/>
                    <a:gd name="textAreaRight" fmla="*/ 1711440 w 1798920"/>
                    <a:gd name="textAreaTop" fmla="*/ 87480 h 2098800"/>
                    <a:gd name="textAreaBottom" fmla="*/ 2011320 h 2098800"/>
                  </a:gdLst>
                  <a:ahLst/>
                  <a:rect l="textAreaLeft" t="textAreaTop" r="textAreaRight" b="textAreaBottom"/>
                  <a:pathLst>
                    <a:path w="21600" h="25200">
                      <a:moveTo>
                        <a:pt x="3600" y="0"/>
                      </a:moveTo>
                      <a:arcTo wR="3600" hR="3600" stAng="16200000" swAng="-5400000"/>
                      <a:lnTo>
                        <a:pt x="0" y="21600"/>
                      </a:lnTo>
                      <a:arcTo wR="3600" hR="3600" stAng="10800000" swAng="-5400000"/>
                      <a:lnTo>
                        <a:pt x="18000" y="252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57240">
                  <a:solidFill>
                    <a:srgbClr val="3432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651040" y="3048120"/>
                  <a:ext cx="4863960" cy="1751760"/>
                </a:xfrm>
                <a:prstGeom prst="roundRect">
                  <a:avLst>
                    <a:gd name="adj" fmla="val 16667"/>
                  </a:avLst>
                </a:prstGeom>
                <a:noFill/>
                <a:ln w="57240">
                  <a:solidFill>
                    <a:srgbClr val="3432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4896360" y="2519640"/>
                  <a:ext cx="1236960" cy="1123560"/>
                  <a:chOff x="4896360" y="2519640"/>
                  <a:chExt cx="1236960" cy="11235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4996080" y="2620800"/>
                    <a:ext cx="1137240" cy="102240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943160" y="2566440"/>
                    <a:ext cx="1137240" cy="102240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96360" y="2519640"/>
                    <a:ext cx="1136520" cy="102276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Decision Suppor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Assessmen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Decision Support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System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69120" y="2450880"/>
                  <a:ext cx="972720" cy="1269000"/>
                  <a:chOff x="6369120" y="2450880"/>
                  <a:chExt cx="972720" cy="12690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369120" y="3044520"/>
                    <a:ext cx="957960" cy="675360"/>
                  </a:xfrm>
                  <a:prstGeom prst="ellipse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Manage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Decision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383520" y="2450880"/>
                    <a:ext cx="958320" cy="676080"/>
                  </a:xfrm>
                  <a:prstGeom prst="ellipse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Polic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Decision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093720" y="3038760"/>
                  <a:ext cx="437040" cy="0"/>
                </a:xfrm>
                <a:prstGeom prst="line">
                  <a:avLst/>
                </a:prstGeom>
                <a:ln w="57240">
                  <a:solidFill>
                    <a:srgbClr val="3432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19080" y="3052080"/>
                  <a:ext cx="437040" cy="0"/>
                </a:xfrm>
                <a:prstGeom prst="line">
                  <a:avLst/>
                </a:prstGeom>
                <a:ln w="57240">
                  <a:solidFill>
                    <a:srgbClr val="3432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319920" y="3038760"/>
                  <a:ext cx="1087920" cy="0"/>
                </a:xfrm>
                <a:prstGeom prst="line">
                  <a:avLst/>
                </a:prstGeom>
                <a:ln w="7632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2656440" y="2962800"/>
                  <a:ext cx="0" cy="447840"/>
                </a:xfrm>
                <a:prstGeom prst="line">
                  <a:avLst/>
                </a:prstGeom>
                <a:ln w="57240">
                  <a:solidFill>
                    <a:srgbClr val="3432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2629080" y="4377960"/>
                  <a:ext cx="87480" cy="347040"/>
                </a:xfrm>
                <a:prstGeom prst="line">
                  <a:avLst/>
                </a:prstGeom>
                <a:ln w="57240">
                  <a:solidFill>
                    <a:srgbClr val="3432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09920" y="1798920"/>
                  <a:ext cx="882000" cy="621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80880" y="3819600"/>
                  <a:ext cx="794520" cy="699840"/>
                </a:xfrm>
                <a:prstGeom prst="rect">
                  <a:avLst/>
                </a:prstGeom>
                <a:ln w="9360">
                  <a:solidFill>
                    <a:srgbClr val="bbe0e3"/>
                  </a:solidFill>
                  <a:miter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82840" y="4361040"/>
                  <a:ext cx="794520" cy="54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40120" y="3117600"/>
                  <a:ext cx="521280" cy="873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1" name=""/>
                <p:cNvGrpSpPr/>
                <p:nvPr/>
              </p:nvGrpSpPr>
              <p:grpSpPr>
                <a:xfrm>
                  <a:off x="2069640" y="3397680"/>
                  <a:ext cx="1236960" cy="1136880"/>
                  <a:chOff x="2069640" y="3397680"/>
                  <a:chExt cx="1236960" cy="11368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2169360" y="3511440"/>
                    <a:ext cx="1137240" cy="102312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116440" y="3457440"/>
                    <a:ext cx="1137240" cy="102276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69640" y="3397680"/>
                    <a:ext cx="1136880" cy="102312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Earth Observ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System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buClr>
                        <a:srgbClr val="000000"/>
                      </a:buClr>
                      <a:buFont typeface="Abadi MT Condensed Light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Remotely-sense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buClr>
                        <a:srgbClr val="000000"/>
                      </a:buClr>
                      <a:buFont typeface="Abadi MT Condensed Light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In sit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8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19400" y="1784160"/>
                  <a:ext cx="79416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6" name=""/>
                <p:cNvGrpSpPr/>
                <p:nvPr/>
              </p:nvGrpSpPr>
              <p:grpSpPr>
                <a:xfrm>
                  <a:off x="2071800" y="1774800"/>
                  <a:ext cx="1231200" cy="1368000"/>
                  <a:chOff x="2071800" y="1774800"/>
                  <a:chExt cx="1231200" cy="1368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2166120" y="1888560"/>
                    <a:ext cx="1136880" cy="125424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115360" y="1838160"/>
                    <a:ext cx="1136520" cy="125424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71800" y="1774800"/>
                    <a:ext cx="1136520" cy="1254240"/>
                  </a:xfrm>
                  <a:prstGeom prst="rect">
                    <a:avLst/>
                  </a:prstGeom>
                  <a:solidFill>
                    <a:srgbClr val="fcfe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Earth Syste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Mode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buClr>
                        <a:srgbClr val="000000"/>
                      </a:buClr>
                      <a:buFont typeface="Abadi MT Condensed Light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Ocean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buClr>
                        <a:srgbClr val="000000"/>
                      </a:buClr>
                      <a:buFont typeface="Abadi MT Condensed Light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I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buClr>
                        <a:srgbClr val="000000"/>
                      </a:buClr>
                      <a:buFont typeface="Abadi MT Condensed Light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Lan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buClr>
                        <a:srgbClr val="000000"/>
                      </a:buClr>
                      <a:buFont typeface="Abadi MT Condensed Light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Atmosphe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buClr>
                        <a:srgbClr val="000000"/>
                      </a:buClr>
                      <a:buFont typeface="Abadi MT Condensed Light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Solid Eart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buClr>
                        <a:srgbClr val="000000"/>
                      </a:buClr>
                      <a:buFont typeface="Abadi MT Condensed Light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badi MT Condensed Light"/>
                      </a:rPr>
                      <a:t>Biosphe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0" name=""/>
              <p:cNvSpPr/>
              <p:nvPr/>
            </p:nvSpPr>
            <p:spPr>
              <a:xfrm flipH="1">
                <a:off x="2382840" y="3147840"/>
                <a:ext cx="7920" cy="326880"/>
              </a:xfrm>
              <a:prstGeom prst="line">
                <a:avLst/>
              </a:prstGeom>
              <a:ln w="57240">
                <a:solidFill>
                  <a:srgbClr val="3432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387840" y="4408200"/>
              <a:ext cx="1016280" cy="621000"/>
            </a:xfrm>
            <a:prstGeom prst="ellipse">
              <a:avLst/>
            </a:prstGeom>
            <a:solidFill>
              <a:srgbClr val="fcfe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badi MT Condensed Light"/>
                </a:rPr>
                <a:t>End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49880" y="5500800"/>
            <a:ext cx="196200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utonomous tas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al / 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enso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ata down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2080" y="5537160"/>
            <a:ext cx="1942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orkflow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ccess to se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ampaign / 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34480" y="876240"/>
            <a:ext cx="16484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ata assimi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oreca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edu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ncertai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7621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8613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th Observation Sensor Web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6440" y="1117440"/>
            <a:ext cx="8508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cienc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ly respond to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ous sensor tas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data network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ross mission, multi-sens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ous data assimi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model uncertainty via targeted data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imely calibration/validation of sens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8613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th Observation Sensor Web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6440" y="1117440"/>
            <a:ext cx="8508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cienc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sensor flight paths for unmanned air &amp; surface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ous senso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ield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mission designs (ala OSSE, the Observation System Simulation Experi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8613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th Observation Sensor Web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6440" y="1117440"/>
            <a:ext cx="8508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ollaboration and save operation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multi-agency, international assets, eg. US GEO, GEOSS/C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frastructure enabling collaboration in totally different domains such as fires and fl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ff via 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27:09Z</dcterms:created>
  <dc:creator>Matt Heavner</dc:creator>
  <dc:description/>
  <dc:language>en-US</dc:language>
  <cp:lastModifiedBy>Karen Moe</cp:lastModifiedBy>
  <cp:lastPrinted>2008-06-17T16:48:44Z</cp:lastPrinted>
  <dcterms:modified xsi:type="dcterms:W3CDTF">2008-09-25T15:11:25Z</dcterms:modified>
  <cp:revision>140</cp:revision>
  <dc:subject/>
  <dc:title>SEAMONSTER Interim Review  AIST-05-0105  Feb 22, 2007  Matt Heavner</dc:title>
</cp:coreProperties>
</file>