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D0008-F6D2-4381-A006-B7C2825CA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3520" y="3974040"/>
            <a:ext cx="8455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8861F-E4B3-4779-ADE1-8C9D8F6A1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61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3520" y="397404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6120" y="397404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AC4B-7C28-4EE2-8C46-9B7E502A1B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280" y="129060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040" y="129060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3520" y="397404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280" y="397404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040" y="397404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02345-33F5-42EB-BAB9-6B74349214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B2604-1265-4CB7-8672-C78FDA293B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4a84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D122C-FFEA-41D9-9F65-78DE94959A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2DA4F-05FA-4545-87B0-7E9EB3FC26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412596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6120" y="1290600"/>
            <a:ext cx="412596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558AE-A89E-43BC-A2BF-ABE51A0CC6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02294-CB56-485D-8C1C-9C04A7CDF3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3976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4a8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26A4D-EED6-431E-9976-7A5A3CCDFC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6120" y="1290600"/>
            <a:ext cx="412596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53520" y="397404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C8B3A-A70C-4D18-BF6B-5E70550E2F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4a84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25CF-87AC-4415-ABE5-ED28D597E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412596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61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6120" y="397404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5B6E1-2927-4993-92F2-A1D157CCFB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61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3520" y="3974040"/>
            <a:ext cx="8455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2D956-A1DF-4BA9-BB05-2714ABB5AE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3520" y="3974040"/>
            <a:ext cx="8455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2DB79-3AA1-4320-ADAF-E2C70771BB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61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53520" y="397404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6120" y="397404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83D02-9A68-4C39-9457-5035D6847C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2280" y="129060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1040" y="129060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53520" y="397404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2280" y="397404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1040" y="397404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57810-8E7E-4084-8380-553D98C567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08EF2-E1C4-494E-A86F-DB6D0D8DF5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412596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6120" y="1290600"/>
            <a:ext cx="412596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4FAD0-90C8-423E-AAE0-E6220073F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1B875-C869-43B1-986F-837CDD1C98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3976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4a8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4EF9C-04E2-49AB-963B-CD3721EF8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6120" y="1290600"/>
            <a:ext cx="412596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3520" y="397404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F812-8296-4D5A-822C-E745509C7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412596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1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6120" y="397404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BD91E-34A9-4127-9122-1DA388445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1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3520" y="3974040"/>
            <a:ext cx="8455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25776-2945-4DE9-8DFE-16C1ABF95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499080" y="6435360"/>
            <a:ext cx="1905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58B9-8755-4B30-B7BA-0AFB5C486D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b81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7640" indent="-1666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55680" indent="-2239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593720" indent="-2235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593720" indent="-2235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593720" indent="-2235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>
            <a:hlinkClick r:id="" action="ppaction://hlinkshowjump?jump=lastslide"/>
          </p:cNvPr>
          <p:cNvSpPr/>
          <p:nvPr/>
        </p:nvSpPr>
        <p:spPr>
          <a:xfrm>
            <a:off x="8933040" y="0"/>
            <a:ext cx="210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2"/>
          </p:nvPr>
        </p:nvSpPr>
        <p:spPr>
          <a:xfrm>
            <a:off x="6465600" y="63039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ED74-C7C8-453D-8425-FAB11A290B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661824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69800" y="1103040"/>
            <a:ext cx="8344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b81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4a84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104a84"/>
              </a:solidFill>
              <a:latin typeface="Comic Sans MS"/>
            </a:endParaRPr>
          </a:p>
          <a:p>
            <a:pPr lvl="1" marL="2840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638280" indent="112680" algn="ctr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919080" indent="11268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257480" indent="11268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257480" indent="11268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257480" indent="11268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9800" y="1103040"/>
            <a:ext cx="8344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4b81"/>
                </a:solidFill>
                <a:latin typeface="Comic Sans MS"/>
                <a:ea typeface="宋体"/>
              </a:rPr>
              <a:t>Wenchuan Earthquake International EO Data Assistance Grid</a:t>
            </a:r>
            <a:endParaRPr b="1" lang="en-US" sz="24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1960" y="5854680"/>
            <a:ext cx="37083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04a84"/>
                </a:solidFill>
                <a:latin typeface="Comic Sans MS"/>
                <a:ea typeface="宋体"/>
              </a:rPr>
              <a:t>Prof. Guoqing Li, CEODE, CAS</a:t>
            </a:r>
            <a:endParaRPr b="0" lang="en-US" sz="1800" spc="-1" strike="noStrike">
              <a:solidFill>
                <a:srgbClr val="104a84"/>
              </a:solidFill>
              <a:latin typeface="Comic Sans MS"/>
            </a:endParaRPr>
          </a:p>
          <a:p>
            <a:pPr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4a84"/>
                </a:solidFill>
                <a:latin typeface="Comic Sans MS"/>
                <a:ea typeface="宋体"/>
              </a:rPr>
              <a:t>Present to WGISS26</a:t>
            </a:r>
            <a:r>
              <a:rPr b="0" lang="zh-CN" sz="1800" spc="-1" strike="noStrike">
                <a:solidFill>
                  <a:srgbClr val="104a84"/>
                </a:solidFill>
                <a:latin typeface="Comic Sans MS"/>
                <a:ea typeface="宋体"/>
              </a:rPr>
              <a:t>， </a:t>
            </a:r>
            <a:r>
              <a:rPr b="0" lang="en-US" sz="1800" spc="-1" strike="noStrike">
                <a:solidFill>
                  <a:srgbClr val="104a84"/>
                </a:solidFill>
                <a:latin typeface="Comic Sans MS"/>
                <a:ea typeface="宋体"/>
              </a:rPr>
              <a:t>Boulder, </a:t>
            </a:r>
            <a:endParaRPr b="0" lang="en-US" sz="1800" spc="-1" strike="noStrike">
              <a:solidFill>
                <a:srgbClr val="104a84"/>
              </a:solidFill>
              <a:latin typeface="Comic Sans MS"/>
            </a:endParaRPr>
          </a:p>
          <a:p>
            <a:pPr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4a84"/>
                </a:solidFill>
                <a:latin typeface="Comic Sans MS"/>
                <a:ea typeface="宋体"/>
              </a:rPr>
              <a:t>23rd, Spet, 2008</a:t>
            </a:r>
            <a:endParaRPr b="0" lang="en-US" sz="1800" spc="-1" strike="noStrike">
              <a:solidFill>
                <a:srgbClr val="104a84"/>
              </a:solidFill>
              <a:latin typeface="Comic Sans MS"/>
            </a:endParaRPr>
          </a:p>
          <a:p>
            <a:pPr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4a84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03280" y="4149720"/>
            <a:ext cx="1657440" cy="8636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84720" y="4076640"/>
            <a:ext cx="1657440" cy="8636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38920" y="4076640"/>
            <a:ext cx="1657440" cy="8636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5560920"/>
            <a:ext cx="1584360" cy="1297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80000" y="5373720"/>
            <a:ext cx="1584360" cy="1297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403280" y="501336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5148360" y="501300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093080" y="5084280"/>
            <a:ext cx="503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0360" y="3933720"/>
            <a:ext cx="1942920" cy="72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ter Cou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96360" y="3860640"/>
            <a:ext cx="1547640" cy="72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ter Cou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16360" y="549360"/>
            <a:ext cx="86364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340000" y="3068280"/>
            <a:ext cx="2232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076720" y="3068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724360" y="3141720"/>
            <a:ext cx="187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1628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00360" y="2349360"/>
            <a:ext cx="4824360" cy="649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generation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 grid based easy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65000"/>
            <a:ext cx="3780000" cy="1179720"/>
          </a:xfrm>
          <a:prstGeom prst="wedgeRectCallout">
            <a:avLst>
              <a:gd name="adj1" fmla="val 80532"/>
              <a:gd name="adj2" fmla="val 10114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fast construction metho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 very cheap w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overcome the C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8820360" cy="3824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165680" y="5969160"/>
            <a:ext cx="59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ested duration for data using is only two week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84b81"/>
              </a:solidFill>
              <a:latin typeface="Comic Sans MS"/>
              <a:ea typeface="宋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Principle of disaster data assistant ---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The most important principle is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宋体"/>
              </a:rPr>
              <a:t>fast!~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7640" indent="-1666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Very short interested duration for data us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55680" indent="-223920"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宋体"/>
              </a:rPr>
              <a:t>fast deploying the data service system (within days!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55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17640" indent="-1666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Any data can be useful to help find the inform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5568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welcome any data , paying less attention to the format/data level/metadata/sensor/service metho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55680" indent="-223920"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宋体"/>
              </a:rPr>
              <a:t>fast automatic search system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to locate the suitable data for application character and process too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17640" indent="-1666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55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176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55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84b81"/>
              </a:solidFill>
              <a:latin typeface="Comic Sans MS"/>
              <a:ea typeface="宋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Condition in this ca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The main way to access such data is FTP s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5568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No meta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5568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No definition of directory and file na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5568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No uniform access UR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5568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No suitable authority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84b81"/>
              </a:solidFill>
              <a:latin typeface="Comic Sans MS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40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It will be a big work to update it to be traditional Catalogue System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CEODE initiated two team to work for this work at same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5568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One with traditional metho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5568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One with grid metho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5568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Traditional team : 20 days,   big budg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5568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Grid team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2 days,   no budg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84b81"/>
              </a:solidFill>
              <a:latin typeface="Comic Sans MS"/>
              <a:ea typeface="宋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75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The technical approach of Grid resolution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宋体"/>
              </a:rPr>
              <a:t>Data resour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 reconstruction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logically, not physical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5568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Based on SIG data grid node framework, using three standard SIG data node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593720" indent="-223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SIG data query servic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593720" indent="-223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SIG data access serv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593720" indent="-223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SIG data viewer service (not used this stag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宋体"/>
              </a:rPr>
              <a:t>Data develop servi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 is same as SIG data develop ser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宋体"/>
              </a:rPr>
              <a:t>User port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 modified from SIG data port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Compatible with standard web service and OGC ser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79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b81"/>
                </a:solidFill>
                <a:latin typeface="Comic Sans MS"/>
              </a:rPr>
              <a:t>SIG architecture</a:t>
            </a: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3429000"/>
            <a:ext cx="172728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ing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429000"/>
            <a:ext cx="172692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3429000"/>
            <a:ext cx="172692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56000" y="2205000"/>
            <a:ext cx="3024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 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71640" y="5589720"/>
            <a:ext cx="1224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11640" y="5589720"/>
            <a:ext cx="1224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58920" y="765000"/>
            <a:ext cx="122400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92360" y="765000"/>
            <a:ext cx="122400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692280"/>
            <a:ext cx="1224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59640" y="2205000"/>
            <a:ext cx="187164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ing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9280" y="2205000"/>
            <a:ext cx="187164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263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80000" y="2637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979640" y="2997000"/>
            <a:ext cx="1008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140360" y="299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48360" y="2997360"/>
            <a:ext cx="1368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419640" y="522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788000" y="522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2195640" y="1557000"/>
            <a:ext cx="79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067280" y="1628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932360" y="1484280"/>
            <a:ext cx="1152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1989000"/>
            <a:ext cx="8640720" cy="3240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00360" y="4508640"/>
            <a:ext cx="1224000" cy="647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Re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84720" y="4508640"/>
            <a:ext cx="1224000" cy="647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Re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276720" y="4220640"/>
            <a:ext cx="5745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27640" y="4221000"/>
            <a:ext cx="43164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b81"/>
                </a:solidFill>
                <a:latin typeface="Comic Sans MS"/>
                <a:ea typeface="宋体"/>
              </a:rPr>
              <a:t>Wenchuan Earthquake International EO Data Assistance Grid</a:t>
            </a: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611280" y="6165720"/>
            <a:ext cx="172872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69840" y="4941720"/>
            <a:ext cx="10098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4941720"/>
            <a:ext cx="1224000" cy="5749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5280" y="3716280"/>
            <a:ext cx="30970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Grid Middle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2997360"/>
            <a:ext cx="863640" cy="71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56000" y="2997360"/>
            <a:ext cx="863640" cy="71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56000" y="1700280"/>
            <a:ext cx="345600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22920" y="6165720"/>
            <a:ext cx="172872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4941720"/>
            <a:ext cx="1728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80360" y="4941720"/>
            <a:ext cx="1224000" cy="5749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06920" y="3716280"/>
            <a:ext cx="309744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Grid Middle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06920" y="2997360"/>
            <a:ext cx="863640" cy="71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67640" y="2997360"/>
            <a:ext cx="863640" cy="71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067280" y="112536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258920" y="2276640"/>
            <a:ext cx="2449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43280" y="4292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332000" y="5516280"/>
            <a:ext cx="0" cy="64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78200" y="522936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4360" y="4292640"/>
            <a:ext cx="71280" cy="20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203640" y="227664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69640" y="43848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86720" y="56815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" y="443700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a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572000" y="112500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03640" y="2349360"/>
            <a:ext cx="79236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5579640" y="2276280"/>
            <a:ext cx="259236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956720" y="4365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4653000"/>
            <a:ext cx="3889440" cy="26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181080" y="2421000"/>
            <a:ext cx="4969080" cy="33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37440" y="30686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 data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546360" y="611352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11280" y="5589720"/>
            <a:ext cx="1728720" cy="503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69840" y="4365720"/>
            <a:ext cx="10098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11280" y="4365720"/>
            <a:ext cx="1224000" cy="574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5280" y="3139920"/>
            <a:ext cx="309708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Grid Middle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5280" y="2421000"/>
            <a:ext cx="863640" cy="718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56000" y="2421000"/>
            <a:ext cx="863640" cy="718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5280" y="1123920"/>
            <a:ext cx="345600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35280" y="549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258920" y="1700280"/>
            <a:ext cx="504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43280" y="3716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1332000" y="494028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78200" y="465300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84360" y="3716280"/>
            <a:ext cx="71280" cy="201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56000" y="1773360"/>
            <a:ext cx="64764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69640" y="3808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86720" y="51055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2880" y="386064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a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340000" y="549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340000" y="5157720"/>
            <a:ext cx="3095640" cy="216000"/>
          </a:xfrm>
          <a:prstGeom prst="leftArrow">
            <a:avLst>
              <a:gd name="adj1" fmla="val 50000"/>
              <a:gd name="adj2" fmla="val 3582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19640" y="2637000"/>
            <a:ext cx="3095640" cy="215640"/>
          </a:xfrm>
          <a:prstGeom prst="leftArrow">
            <a:avLst>
              <a:gd name="adj1" fmla="val 50000"/>
              <a:gd name="adj2" fmla="val 35889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51280" y="1268280"/>
            <a:ext cx="1908000" cy="216000"/>
          </a:xfrm>
          <a:prstGeom prst="leftArrow">
            <a:avLst>
              <a:gd name="adj1" fmla="val 50000"/>
              <a:gd name="adj2" fmla="val 2208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95240" y="287352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y the metadata match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98440" y="5392800"/>
            <a:ext cx="527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alf-hand work every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  It can be updated as automatic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75280" y="14320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words and pictures to adj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64240" y="34920"/>
            <a:ext cx="51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build it from SIG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05040" y="234936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veloped with on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29040" y="90792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veloped with on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684360" y="1614600"/>
            <a:ext cx="7489800" cy="4335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502640" y="112680"/>
            <a:ext cx="42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ginal ftp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1403280" y="981000"/>
            <a:ext cx="7489800" cy="43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62440" cy="445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643280" y="1844640"/>
            <a:ext cx="4286520" cy="2876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0" y="4265640"/>
            <a:ext cx="4881600" cy="2592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156360" y="5157720"/>
            <a:ext cx="2016000" cy="1295640"/>
          </a:xfrm>
          <a:prstGeom prst="wedgeEllipseCallout">
            <a:avLst>
              <a:gd name="adj1" fmla="val -251652"/>
              <a:gd name="adj2" fmla="val -26151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nchuan,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53080" y="260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2:28 pm, May 12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ge Earthquake, Wenchuan, Sichuan,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rcRect l="0" t="15818" r="44253" b="25806"/>
          <a:stretch/>
        </p:blipFill>
        <p:spPr>
          <a:xfrm>
            <a:off x="4643280" y="1773360"/>
            <a:ext cx="4248360" cy="280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rcRect l="18183" t="14800" r="30" b="19861"/>
          <a:stretch/>
        </p:blipFill>
        <p:spPr>
          <a:xfrm>
            <a:off x="0" y="4292640"/>
            <a:ext cx="4932360" cy="25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332000" y="1114560"/>
            <a:ext cx="6337080" cy="5743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620720" y="209520"/>
            <a:ext cx="39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al Grid Plat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311840" y="208080"/>
            <a:ext cx="68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4b81"/>
                </a:solidFill>
                <a:latin typeface="Arial"/>
              </a:rPr>
              <a:t>Wenchuan Earthquake International EO Data Assistance 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403280" y="907920"/>
            <a:ext cx="6675480" cy="52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5259600" cy="66834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159240" y="20606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004760" y="628560"/>
            <a:ext cx="7134480" cy="56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2000160" y="0"/>
            <a:ext cx="7143840" cy="52484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-34920" y="2970360"/>
            <a:ext cx="2876400" cy="3843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4925880" y="3716280"/>
            <a:ext cx="4218120" cy="27702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 flipH="1">
            <a:off x="1547280" y="2492280"/>
            <a:ext cx="3311640" cy="1009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43640" y="2565360"/>
            <a:ext cx="576360" cy="180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2340000" y="3429000"/>
            <a:ext cx="2736720" cy="45655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 flipH="1">
            <a:off x="4787640" y="2492280"/>
            <a:ext cx="86364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84b81"/>
              </a:solidFill>
              <a:latin typeface="Comic Sans MS"/>
              <a:ea typeface="宋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Capability of this system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Query with sensor, data provider, data format, data level,  band type, geo-area, acquire time parame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Return listed with uniformed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Access with uniformed interface, with original network protocal (Via FT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7640" indent="-1666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Access original metadata fi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17640" indent="-1666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Access quicklook im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17640" indent="-1666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Access data fi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84b81"/>
              </a:solidFill>
              <a:latin typeface="Comic Sans MS"/>
              <a:ea typeface="宋体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This work start from the morning of May 22 and closed at the later morning of May 24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-282600">
              <a:lnSpc>
                <a:spcPct val="85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All work lasted 2 day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-282600">
              <a:lnSpc>
                <a:spcPct val="85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  <a:ea typeface="宋体"/>
              </a:rPr>
              <a:t>With the following tools development, this work is hope to finish within one day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-282600">
              <a:lnSpc>
                <a:spcPct val="85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This service has bee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gistered in GEOSS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84b81"/>
              </a:solidFill>
              <a:latin typeface="Comic Sans MS"/>
              <a:ea typeface="宋体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454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Additioanl Application of This Technical Approch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--GISTDA ASIAES grid porta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184b81"/>
              </a:solidFill>
              <a:latin typeface="Comic Sans MS"/>
              <a:ea typeface="宋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ASIAES Grid Porta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ASIAES is the project supported by GISTDA, with target as disaster EO data clearinghouse in ASIEN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The basic founctions of ASIAES system are metedata registartion and data search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The techinical mode is web-service. The official protal is based on local metadata clearinghous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Our work is trying to add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 ASIAES data resource into Grid portal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95280" y="3139920"/>
            <a:ext cx="3097080" cy="57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Grid Middle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5280" y="2419200"/>
            <a:ext cx="86364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56000" y="2419200"/>
            <a:ext cx="86364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627280" y="1123920"/>
            <a:ext cx="3456000" cy="574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Grid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9080" y="5013360"/>
            <a:ext cx="1728720" cy="576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arching W-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06920" y="3139920"/>
            <a:ext cx="3097440" cy="57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Grid Middle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06920" y="2419200"/>
            <a:ext cx="86364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667640" y="2419200"/>
            <a:ext cx="86364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067280" y="549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1258920" y="1698480"/>
            <a:ext cx="244944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203640" y="169848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4572000" y="549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03640" y="1771560"/>
            <a:ext cx="79236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579640" y="1698480"/>
            <a:ext cx="259236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956720" y="37879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651640" y="5877000"/>
            <a:ext cx="1728720" cy="793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SIAES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948360" y="5013360"/>
            <a:ext cx="1730520" cy="576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-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5292720" y="558936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020000" y="5589360"/>
            <a:ext cx="865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08720" y="3718080"/>
            <a:ext cx="10094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506920" y="4149720"/>
            <a:ext cx="10098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voke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-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596360" y="3718080"/>
            <a:ext cx="10094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594560" y="4149720"/>
            <a:ext cx="10098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voke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-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5292720" y="4581360"/>
            <a:ext cx="71928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596360" y="4652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11280" y="5591160"/>
            <a:ext cx="172872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69840" y="4367160"/>
            <a:ext cx="10098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11280" y="4367160"/>
            <a:ext cx="1224000" cy="574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43280" y="37180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332000" y="494172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78200" y="465444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4360" y="3718080"/>
            <a:ext cx="71280" cy="20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969640" y="3809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386720" y="510696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2880" y="386244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a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95640" y="2205000"/>
            <a:ext cx="4897440" cy="465300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At the very beginning time of this event, Many International Space Agencies shown their will to give EO data assistance to China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-282600">
              <a:lnSpc>
                <a:spcPct val="85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WGISS played important role in calling for such activities within very short time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84b81"/>
              </a:solidFill>
              <a:latin typeface="Comic Sans MS"/>
              <a:ea typeface="宋体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64000" cy="37242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843280" y="2708280"/>
            <a:ext cx="730872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84b81"/>
              </a:solidFill>
              <a:latin typeface="Comic Sans MS"/>
              <a:ea typeface="宋体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Comments and questions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84b81"/>
              </a:solidFill>
              <a:latin typeface="Comic Sans MS"/>
              <a:ea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Every day, there are lot of EO data transferred to China from oversea space agencie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-282600">
              <a:lnSpc>
                <a:spcPct val="85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Because of less communication and regulation to exchange such dat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Different sensors (&gt; 10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Different production leve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Differen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Different package methods and assistant files (meteda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Different POCs in Chi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Different way to storage (OS, Software,Network,C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7416720" cy="447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71640" y="1125360"/>
            <a:ext cx="727236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835280" y="836640"/>
            <a:ext cx="1584360" cy="1297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ter Cou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88000" y="836640"/>
            <a:ext cx="1584360" cy="1297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234936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3213000"/>
            <a:ext cx="86364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3213000"/>
            <a:ext cx="86364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00360" y="5157720"/>
            <a:ext cx="1297080" cy="792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556000" y="2133720"/>
            <a:ext cx="71280" cy="1079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508720" y="2133720"/>
            <a:ext cx="71280" cy="1079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19640" y="189000"/>
            <a:ext cx="16570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c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203640" y="765000"/>
            <a:ext cx="720720" cy="21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4355640" y="764640"/>
            <a:ext cx="64764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563640" y="4076640"/>
            <a:ext cx="1655640" cy="122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626920" y="4220640"/>
            <a:ext cx="57636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08320" y="1058760"/>
            <a:ext cx="22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-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63600" y="3357720"/>
            <a:ext cx="23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2565360"/>
            <a:ext cx="16570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987640" y="3213000"/>
            <a:ext cx="936720" cy="4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4356000" y="3213000"/>
            <a:ext cx="720720" cy="4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92360" y="3357720"/>
            <a:ext cx="2519280" cy="28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997360"/>
            <a:ext cx="1476360" cy="115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ster Data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ter Cou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899640" y="4076280"/>
            <a:ext cx="2016360" cy="1513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16720" y="4076640"/>
            <a:ext cx="2449440" cy="1943280"/>
          </a:xfrm>
          <a:prstGeom prst="wedgeRoundRectCallout">
            <a:avLst>
              <a:gd name="adj1" fmla="val -125499"/>
              <a:gd name="adj2" fmla="val -2295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’s impossible to reach a contract between agencies for the emergency disaster event within some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653000"/>
            <a:ext cx="2449440" cy="1942920"/>
          </a:xfrm>
          <a:prstGeom prst="wedgeRoundRectCallout">
            <a:avLst>
              <a:gd name="adj1" fmla="val 103208"/>
              <a:gd name="adj2" fmla="val -13602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’s possible to transfer the necessary data, however, it is not a formal way to manage suc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03280" y="4149720"/>
            <a:ext cx="1657440" cy="8636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84720" y="4076640"/>
            <a:ext cx="1657440" cy="8636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38920" y="4076640"/>
            <a:ext cx="1657440" cy="8636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5560920"/>
            <a:ext cx="1584360" cy="1297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5373720"/>
            <a:ext cx="1584360" cy="1297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403280" y="501336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148360" y="501300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093080" y="5084280"/>
            <a:ext cx="503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3933720"/>
            <a:ext cx="1942920" cy="72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ter Cou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46920" y="3860640"/>
            <a:ext cx="1297080" cy="72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ter Cou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6360" y="549360"/>
            <a:ext cx="863640" cy="1008000"/>
          </a:xfrm>
          <a:prstGeom prst="smileyFace">
            <a:avLst>
              <a:gd name="adj" fmla="val -4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124000" y="1484280"/>
            <a:ext cx="273528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19640" y="162864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80000" y="1484280"/>
            <a:ext cx="194472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765000"/>
            <a:ext cx="3780000" cy="1179720"/>
          </a:xfrm>
          <a:prstGeom prst="wedgeRectCallout">
            <a:avLst>
              <a:gd name="adj1" fmla="val 77467"/>
              <a:gd name="adj2" fmla="val 15282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diffcult for the user to know from where to find which kind of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34720" y="1073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03280" y="4149720"/>
            <a:ext cx="1657440" cy="8636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4076640"/>
            <a:ext cx="1657440" cy="8636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38920" y="4076640"/>
            <a:ext cx="1657440" cy="8636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5560920"/>
            <a:ext cx="1584360" cy="1297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80000" y="5373720"/>
            <a:ext cx="1584360" cy="1297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403280" y="501336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148360" y="501300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7093080" y="5084280"/>
            <a:ext cx="503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00360" y="3933720"/>
            <a:ext cx="1942920" cy="72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ter Cou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846920" y="3860640"/>
            <a:ext cx="1297080" cy="72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ter Cou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16360" y="549360"/>
            <a:ext cx="86364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84720" y="2205000"/>
            <a:ext cx="1657440" cy="863640"/>
          </a:xfrm>
          <a:prstGeom prst="flowChartMagneticDisk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ing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340000" y="3068280"/>
            <a:ext cx="2232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076720" y="3068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724360" y="3141720"/>
            <a:ext cx="187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1628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765000"/>
            <a:ext cx="3780000" cy="1179720"/>
          </a:xfrm>
          <a:prstGeom prst="wedgeRectCallout">
            <a:avLst>
              <a:gd name="adj1" fmla="val 80532"/>
              <a:gd name="adj2" fmla="val 10114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idea, however, it is impossible to build it within some days, and it is also very expensi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Who does operate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07:35:07Z</dcterms:created>
  <dc:creator>Li Guoqing</dc:creator>
  <dc:description/>
  <cp:keywords/>
  <dc:language>en-US</dc:language>
  <cp:lastModifiedBy>Li</cp:lastModifiedBy>
  <cp:lastPrinted>1899-12-30T00:00:00Z</cp:lastPrinted>
  <dcterms:modified xsi:type="dcterms:W3CDTF">2008-09-23T16:11:10Z</dcterms:modified>
  <cp:revision>21</cp:revision>
  <dc:subject/>
  <dc:title>Wenchuan Earthquake International EO Data Assistance Gri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