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B72-E5FB-4EF6-9141-593CE938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630-4850-436A-BD70-D52C6944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35C-EF75-4A0E-925B-60523115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C1D-09A1-4F2F-9064-600F8515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EB8-CB73-4B8B-AF0F-CA97A474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83F-C9C0-4507-9C96-8783D972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455-EB64-4E1F-9365-1A5FA394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ACC-56DA-494D-AC4B-3B1421B3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D63-A53C-467C-B289-097C1881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96C-27A4-491A-A569-0CC2B7FB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7790-9E8D-49EB-8DFF-433CC7C6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3EA-C948-4F42-8816-69E7EA4C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1B47-E7FD-4EF8-AC6C-73D8C7687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andbox-qa1.gsfc.nasa.gov/ceos22-demo/Home.do?Portal=lsi&amp;MetadataType=0" TargetMode="External"/><Relationship Id="rId2" Type="http://schemas.openxmlformats.org/officeDocument/2006/relationships/hyperlink" Target="http://sandbox-qa1.gsfc.nasa.gov/ceos22-demo/Home.do?Portal=lsi&amp;MetadataType=0" TargetMode="External"/><Relationship Id="rId3" Type="http://schemas.openxmlformats.org/officeDocument/2006/relationships/hyperlink" Target="http://sandbox-qa1.gsfc.nasa.gov/ceos22-demo/Home.do?Portal=lsi&amp;MetadataType=0" TargetMode="External"/><Relationship Id="rId4" Type="http://schemas.openxmlformats.org/officeDocument/2006/relationships/hyperlink" Target="http://sandbox-qa1.gsfc.nasa.gov/ceos22-demo/Home.do?Portal=lsi&amp;MetadataType=0" TargetMode="External"/><Relationship Id="rId5" Type="http://schemas.openxmlformats.org/officeDocument/2006/relationships/hyperlink" Target="http://sandbox-qa1.gsfc.nasa.gov/ceos22-demo/Home.do?Portal=lsi&amp;MetadataType=0" TargetMode="External"/><Relationship Id="rId6" Type="http://schemas.openxmlformats.org/officeDocument/2006/relationships/hyperlink" Target="http://sandbox-qa1.gsfc.nasa.gov/ceos22-demo/Home.do?Portal=lsi&amp;MetadataType=0" TargetMode="External"/><Relationship Id="rId7" Type="http://schemas.openxmlformats.org/officeDocument/2006/relationships/hyperlink" Target="http://sandbox-qa1.gsfc.nasa.gov/ceos22-demo/Home.do?Portal=lsi&amp;MetadataType=0" TargetMode="External"/><Relationship Id="rId8" Type="http://schemas.openxmlformats.org/officeDocument/2006/relationships/hyperlink" Target="http://sandbox-qa1.gsfc.nasa.gov/ceos22-demo/Home.do?Portal=lsi&amp;MetadataType=0" TargetMode="External"/><Relationship Id="rId9" Type="http://schemas.openxmlformats.org/officeDocument/2006/relationships/hyperlink" Target="http://sandbox-qa1.gsfc.nasa.gov/ceos22-demo/Home.do?Portal=lsic&amp;MetadataType=0" TargetMode="External"/><Relationship Id="rId10" Type="http://schemas.openxmlformats.org/officeDocument/2006/relationships/hyperlink" Target="http://sandbox-qa1.gsfc.nasa.gov/ceos22-demo/Home.do?Portal=lsic&amp;MetadataType=0" TargetMode="External"/><Relationship Id="rId11" Type="http://schemas.openxmlformats.org/officeDocument/2006/relationships/hyperlink" Target="http://sandbox-qa1.gsfc.nasa.gov/ceos22-demo/Home.do?Portal=lsic&amp;MetadataType=0" TargetMode="External"/><Relationship Id="rId12" Type="http://schemas.openxmlformats.org/officeDocument/2006/relationships/hyperlink" Target="http://sandbox-qa1.gsfc.nasa.gov/ceos22-demo/Home.do?Portal=lsic&amp;MetadataType=0" TargetMode="External"/><Relationship Id="rId13" Type="http://schemas.openxmlformats.org/officeDocument/2006/relationships/hyperlink" Target="http://sandbox-qa1.gsfc.nasa.gov/ceos22-demo/Home.do?Portal=lsic&amp;MetadataType=0" TargetMode="External"/><Relationship Id="rId14" Type="http://schemas.openxmlformats.org/officeDocument/2006/relationships/hyperlink" Target="http://sandbox-qa1.gsfc.nasa.gov/ceos22-demo/Home.do?Portal=lsic&amp;MetadataType=0" TargetMode="External"/><Relationship Id="rId15" Type="http://schemas.openxmlformats.org/officeDocument/2006/relationships/hyperlink" Target="http://sandbox-qa1.gsfc.nasa.gov/ceos22-demo/Home.do?Portal=lsic&amp;MetadataType=0" TargetMode="External"/><Relationship Id="rId16" Type="http://schemas.openxmlformats.org/officeDocument/2006/relationships/hyperlink" Target="http://sandbox-qa1.gsfc.nasa.gov/ceos22-demo/Home.do?Portal=lsic&amp;MetadataType=0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IDN Related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OS-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Diagnostics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andbox-qa1.gsfc.nasa.gov/ceos22-demo/Home.do?Portal=climatediagnostics&amp;MetadataType=0&amp;lbnode-sandbox-q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DN Links In Progres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 Surface Imaging Constellation Portal (Keyword Search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andbox-qa1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sfc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asa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gov/ceos22demo/Home.do?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ortal=lsi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&amp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etadataType=0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 Surface Imaging Constellation Portal (For Mid-Resolution Optical LSI Satellite System Information and Enhanced Data Access)</a:t>
            </a:r>
            <a:br>
              <a:rPr sz="16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andbox-qa1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gsfc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nasa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gov/ceos22demo/Home.do?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ortal=lsic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&amp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MetadataType=0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Instrument Interface (LSI porta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andbox-qa1.gsfc.nasa.gov/ceos22-ip-demo/lsi_platforms/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21:07:41Z</dcterms:created>
  <dc:creator>Lola/Olsen</dc:creator>
  <dc:description/>
  <dc:language>en-US</dc:language>
  <cp:lastModifiedBy>Lola/Olsen</cp:lastModifiedBy>
  <dcterms:modified xsi:type="dcterms:W3CDTF">2008-09-25T06:12:08Z</dcterms:modified>
  <cp:revision>26</cp:revision>
  <dc:subject/>
  <dc:title>The Links</dc:title>
</cp:coreProperties>
</file>