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8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930320" y="274320"/>
            <a:ext cx="691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929960" y="1600200"/>
            <a:ext cx="7480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929960" y="3964320"/>
            <a:ext cx="7480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30320" y="274320"/>
            <a:ext cx="691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929960" y="1600200"/>
            <a:ext cx="365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763240" y="1600200"/>
            <a:ext cx="365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29960" y="3964320"/>
            <a:ext cx="365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763240" y="3964320"/>
            <a:ext cx="365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930320" y="274320"/>
            <a:ext cx="691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929960" y="1600200"/>
            <a:ext cx="2408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59320" y="1600200"/>
            <a:ext cx="2408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988320" y="1600200"/>
            <a:ext cx="2408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929960" y="3964320"/>
            <a:ext cx="2408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4459320" y="3964320"/>
            <a:ext cx="2408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988320" y="3964320"/>
            <a:ext cx="2408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013ED2-D91D-4268-BB3B-89D59DA3B51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30320" y="274320"/>
            <a:ext cx="691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929960" y="1600200"/>
            <a:ext cx="7480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990626-49E8-4D38-89E0-55A114B81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30320" y="274320"/>
            <a:ext cx="691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929960" y="1600200"/>
            <a:ext cx="7480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C4C929-ED99-49E5-9E58-FF578E847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30320" y="274320"/>
            <a:ext cx="691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929960" y="1600200"/>
            <a:ext cx="365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763240" y="1600200"/>
            <a:ext cx="365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5150A2-0CB1-4B55-ADD2-9FD520C0D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30320" y="274320"/>
            <a:ext cx="691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2B7343-11B4-4992-907F-CE64CF5FF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1930320" y="274320"/>
            <a:ext cx="691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0787F4-F6DE-4CDA-883B-B74CBF191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930320" y="274320"/>
            <a:ext cx="691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929960" y="1600200"/>
            <a:ext cx="365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763240" y="1600200"/>
            <a:ext cx="365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929960" y="3964320"/>
            <a:ext cx="365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12056E-ABC4-4FEC-A127-50F6BF05D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930320" y="274320"/>
            <a:ext cx="691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929960" y="1600200"/>
            <a:ext cx="7480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930320" y="274320"/>
            <a:ext cx="691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929960" y="1600200"/>
            <a:ext cx="365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763240" y="1600200"/>
            <a:ext cx="365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763240" y="3964320"/>
            <a:ext cx="365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33A390-520F-46EA-B21B-2F959246C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930320" y="274320"/>
            <a:ext cx="691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929960" y="1600200"/>
            <a:ext cx="365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63240" y="1600200"/>
            <a:ext cx="365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929960" y="3964320"/>
            <a:ext cx="7480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FFFB0D-5BB9-4D4B-9D63-E90868C3F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930320" y="274320"/>
            <a:ext cx="691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929960" y="1600200"/>
            <a:ext cx="7480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1929960" y="3964320"/>
            <a:ext cx="7480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FDBFE6-0FF0-4100-8095-DC4BAE7F7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930320" y="274320"/>
            <a:ext cx="691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929960" y="1600200"/>
            <a:ext cx="365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763240" y="1600200"/>
            <a:ext cx="365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929960" y="3964320"/>
            <a:ext cx="365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763240" y="3964320"/>
            <a:ext cx="365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E8D044-9E13-4618-BCAA-A1FF00914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930320" y="274320"/>
            <a:ext cx="691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929960" y="1600200"/>
            <a:ext cx="2408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459320" y="1600200"/>
            <a:ext cx="2408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988320" y="1600200"/>
            <a:ext cx="2408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1929960" y="3964320"/>
            <a:ext cx="2408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4459320" y="3964320"/>
            <a:ext cx="2408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988320" y="3964320"/>
            <a:ext cx="2408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5E1BA4-561D-48BE-8BC4-1364E90242A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30320" y="274320"/>
            <a:ext cx="691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929960" y="1600200"/>
            <a:ext cx="7480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30320" y="274320"/>
            <a:ext cx="691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929960" y="1600200"/>
            <a:ext cx="365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763240" y="1600200"/>
            <a:ext cx="365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930320" y="274320"/>
            <a:ext cx="691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930320" y="274320"/>
            <a:ext cx="691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930320" y="274320"/>
            <a:ext cx="691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929960" y="1600200"/>
            <a:ext cx="365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763240" y="1600200"/>
            <a:ext cx="365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929960" y="3964320"/>
            <a:ext cx="365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930320" y="274320"/>
            <a:ext cx="691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929960" y="1600200"/>
            <a:ext cx="365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763240" y="1600200"/>
            <a:ext cx="365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763240" y="3964320"/>
            <a:ext cx="365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930320" y="274320"/>
            <a:ext cx="691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929960" y="1600200"/>
            <a:ext cx="365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763240" y="1600200"/>
            <a:ext cx="365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929960" y="3964320"/>
            <a:ext cx="7480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" Target="slide2.xml"/><Relationship Id="rId8" Type="http://schemas.openxmlformats.org/officeDocument/2006/relationships/image" Target="../media/image6.jpeg"/><Relationship Id="rId9" Type="http://schemas.openxmlformats.org/officeDocument/2006/relationships/image" Target="../media/image7.png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1.xml"/><Relationship Id="rId12" Type="http://schemas.openxmlformats.org/officeDocument/2006/relationships/slideLayout" Target="../slideLayouts/slideLayout2.xml"/><Relationship Id="rId13" Type="http://schemas.openxmlformats.org/officeDocument/2006/relationships/slideLayout" Target="../slideLayouts/slideLayout3.xml"/><Relationship Id="rId14" Type="http://schemas.openxmlformats.org/officeDocument/2006/relationships/slideLayout" Target="../slideLayouts/slideLayout4.xml"/><Relationship Id="rId15" Type="http://schemas.openxmlformats.org/officeDocument/2006/relationships/slideLayout" Target="../slideLayouts/slideLayout5.xml"/><Relationship Id="rId16" Type="http://schemas.openxmlformats.org/officeDocument/2006/relationships/slideLayout" Target="../slideLayouts/slideLayout6.xml"/><Relationship Id="rId17" Type="http://schemas.openxmlformats.org/officeDocument/2006/relationships/slideLayout" Target="../slideLayouts/slideLayout7.xml"/><Relationship Id="rId18" Type="http://schemas.openxmlformats.org/officeDocument/2006/relationships/slideLayout" Target="../slideLayouts/slideLayout8.xml"/><Relationship Id="rId19" Type="http://schemas.openxmlformats.org/officeDocument/2006/relationships/slideLayout" Target="../slideLayouts/slideLayout9.xml"/><Relationship Id="rId20" Type="http://schemas.openxmlformats.org/officeDocument/2006/relationships/slideLayout" Target="../slideLayouts/slideLayout10.xml"/><Relationship Id="rId21" Type="http://schemas.openxmlformats.org/officeDocument/2006/relationships/slideLayout" Target="../slideLayouts/slideLayout11.xml"/><Relationship Id="rId22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9.jpeg"/><Relationship Id="rId3" Type="http://schemas.openxmlformats.org/officeDocument/2006/relationships/image" Target="../media/image5.png"/><Relationship Id="rId4" Type="http://schemas.openxmlformats.org/officeDocument/2006/relationships/slide" Target="slide2.xml"/><Relationship Id="rId5" Type="http://schemas.openxmlformats.org/officeDocument/2006/relationships/image" Target="../media/image6.jpe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4.png"/><Relationship Id="rId11" Type="http://schemas.openxmlformats.org/officeDocument/2006/relationships/slideLayout" Target="../slideLayouts/slideLayout13.xml"/><Relationship Id="rId12" Type="http://schemas.openxmlformats.org/officeDocument/2006/relationships/slideLayout" Target="../slideLayouts/slideLayout14.xml"/><Relationship Id="rId13" Type="http://schemas.openxmlformats.org/officeDocument/2006/relationships/slideLayout" Target="../slideLayouts/slideLayout15.xml"/><Relationship Id="rId14" Type="http://schemas.openxmlformats.org/officeDocument/2006/relationships/slideLayout" Target="../slideLayouts/slideLayout16.xml"/><Relationship Id="rId15" Type="http://schemas.openxmlformats.org/officeDocument/2006/relationships/slideLayout" Target="../slideLayouts/slideLayout17.xml"/><Relationship Id="rId16" Type="http://schemas.openxmlformats.org/officeDocument/2006/relationships/slideLayout" Target="../slideLayouts/slideLayout18.xml"/><Relationship Id="rId17" Type="http://schemas.openxmlformats.org/officeDocument/2006/relationships/slideLayout" Target="../slideLayouts/slideLayout19.xml"/><Relationship Id="rId18" Type="http://schemas.openxmlformats.org/officeDocument/2006/relationships/slideLayout" Target="../slideLayouts/slideLayout20.xml"/><Relationship Id="rId19" Type="http://schemas.openxmlformats.org/officeDocument/2006/relationships/slideLayout" Target="../slideLayouts/slideLayout21.xml"/><Relationship Id="rId20" Type="http://schemas.openxmlformats.org/officeDocument/2006/relationships/slideLayout" Target="../slideLayouts/slideLayout22.xml"/><Relationship Id="rId21" Type="http://schemas.openxmlformats.org/officeDocument/2006/relationships/slideLayout" Target="../slideLayouts/slideLayout23.xml"/><Relationship Id="rId2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e"/>
          <p:cNvPicPr/>
          <p:nvPr/>
        </p:nvPicPr>
        <p:blipFill>
          <a:blip r:embed="rId2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930320" y="274320"/>
            <a:ext cx="691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66"/>
                </a:solidFill>
                <a:uFillTx/>
                <a:latin typeface="Arial"/>
              </a:rPr>
              <a:t>Click to edit the title text format</a:t>
            </a:r>
            <a:endParaRPr b="1" lang="en-US" sz="44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929960" y="1600200"/>
            <a:ext cx="7480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699ff"/>
              </a:buClr>
              <a:buFont typeface="Arial"/>
              <a:buChar char="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9" descr="ceoslogo"/>
          <p:cNvPicPr/>
          <p:nvPr/>
        </p:nvPicPr>
        <p:blipFill>
          <a:blip r:embed="rId6"/>
          <a:stretch/>
        </p:blipFill>
        <p:spPr>
          <a:xfrm>
            <a:off x="0" y="6076800"/>
            <a:ext cx="1979640" cy="781200"/>
          </a:xfrm>
          <a:prstGeom prst="rect">
            <a:avLst/>
          </a:prstGeom>
          <a:ln w="0">
            <a:noFill/>
          </a:ln>
        </p:spPr>
      </p:pic>
      <p:grpSp>
        <p:nvGrpSpPr>
          <p:cNvPr id="4" name="Group 10"/>
          <p:cNvGrpSpPr/>
          <p:nvPr/>
        </p:nvGrpSpPr>
        <p:grpSpPr>
          <a:xfrm>
            <a:off x="8647200" y="6093000"/>
            <a:ext cx="1258920" cy="764640"/>
            <a:chOff x="8647200" y="6093000"/>
            <a:chExt cx="1258920" cy="764640"/>
          </a:xfrm>
        </p:grpSpPr>
        <p:pic>
          <p:nvPicPr>
            <p:cNvPr id="5" name="Picture 11" descr="CEOP_logo_fin">
              <a:hlinkClick r:id="rId7" action="ppaction://hlinksldjump"/>
            </p:cNvPr>
            <p:cNvPicPr/>
            <p:nvPr/>
          </p:nvPicPr>
          <p:blipFill>
            <a:blip r:embed="rId8"/>
            <a:stretch/>
          </p:blipFill>
          <p:spPr>
            <a:xfrm>
              <a:off x="8647200" y="6093000"/>
              <a:ext cx="1254240" cy="68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" name="Rectangle 12"/>
            <p:cNvSpPr/>
            <p:nvPr/>
          </p:nvSpPr>
          <p:spPr>
            <a:xfrm>
              <a:off x="8651880" y="6748560"/>
              <a:ext cx="1254240" cy="109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" name="Picture 13" descr="nasa_3_c"/>
          <p:cNvPicPr/>
          <p:nvPr/>
        </p:nvPicPr>
        <p:blipFill>
          <a:blip r:embed="rId9"/>
          <a:stretch/>
        </p:blipFill>
        <p:spPr>
          <a:xfrm>
            <a:off x="8862840" y="0"/>
            <a:ext cx="1043280" cy="901800"/>
          </a:xfrm>
          <a:prstGeom prst="rect">
            <a:avLst/>
          </a:prstGeom>
          <a:ln w="0">
            <a:noFill/>
          </a:ln>
        </p:spPr>
      </p:pic>
      <p:pic>
        <p:nvPicPr>
          <p:cNvPr id="8" name="Picture 14" descr="JAXA_e"/>
          <p:cNvPicPr/>
          <p:nvPr/>
        </p:nvPicPr>
        <p:blipFill>
          <a:blip r:embed="rId10"/>
          <a:srcRect l="6973" t="4869" r="9336" b="529"/>
          <a:stretch/>
        </p:blipFill>
        <p:spPr>
          <a:xfrm>
            <a:off x="0" y="0"/>
            <a:ext cx="1403280" cy="934920"/>
          </a:xfrm>
          <a:prstGeom prst="rect">
            <a:avLst/>
          </a:prstGeom>
          <a:ln w="0">
            <a:noFill/>
          </a:ln>
        </p:spPr>
      </p:pic>
      <p:sp>
        <p:nvSpPr>
          <p:cNvPr id="9" name="Text Box 15"/>
          <p:cNvSpPr/>
          <p:nvPr/>
        </p:nvSpPr>
        <p:spPr>
          <a:xfrm>
            <a:off x="4232160" y="6491160"/>
            <a:ext cx="172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1"/>
    <p:sldLayoutId id="2147483650" r:id="rId12"/>
    <p:sldLayoutId id="2147483651" r:id="rId13"/>
    <p:sldLayoutId id="2147483652" r:id="rId14"/>
    <p:sldLayoutId id="2147483653" r:id="rId15"/>
    <p:sldLayoutId id="2147483654" r:id="rId16"/>
    <p:sldLayoutId id="2147483655" r:id="rId17"/>
    <p:sldLayoutId id="2147483656" r:id="rId18"/>
    <p:sldLayoutId id="2147483657" r:id="rId19"/>
    <p:sldLayoutId id="2147483658" r:id="rId20"/>
    <p:sldLayoutId id="2147483659" r:id="rId21"/>
    <p:sldLayoutId id="2147483660" r:id="rId22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8" descr="e_0"/>
          <p:cNvPicPr/>
          <p:nvPr/>
        </p:nvPicPr>
        <p:blipFill>
          <a:blip r:embed="rId2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9" descr="ceoslogo"/>
          <p:cNvPicPr/>
          <p:nvPr/>
        </p:nvPicPr>
        <p:blipFill>
          <a:blip r:embed="rId3"/>
          <a:stretch/>
        </p:blipFill>
        <p:spPr>
          <a:xfrm>
            <a:off x="0" y="6076800"/>
            <a:ext cx="1979640" cy="781200"/>
          </a:xfrm>
          <a:prstGeom prst="rect">
            <a:avLst/>
          </a:prstGeom>
          <a:ln w="0">
            <a:noFill/>
          </a:ln>
        </p:spPr>
      </p:pic>
      <p:grpSp>
        <p:nvGrpSpPr>
          <p:cNvPr id="48" name="Group 10"/>
          <p:cNvGrpSpPr/>
          <p:nvPr/>
        </p:nvGrpSpPr>
        <p:grpSpPr>
          <a:xfrm>
            <a:off x="8647200" y="6093000"/>
            <a:ext cx="1258920" cy="764640"/>
            <a:chOff x="8647200" y="6093000"/>
            <a:chExt cx="1258920" cy="764640"/>
          </a:xfrm>
        </p:grpSpPr>
        <p:pic>
          <p:nvPicPr>
            <p:cNvPr id="49" name="Picture 11" descr="CEOP_logo_fin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8647200" y="6093000"/>
              <a:ext cx="1254240" cy="68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Rectangle 12"/>
            <p:cNvSpPr/>
            <p:nvPr/>
          </p:nvSpPr>
          <p:spPr>
            <a:xfrm>
              <a:off x="8651880" y="6748560"/>
              <a:ext cx="1254240" cy="109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1" name="Picture 13" descr="nasa_3_c"/>
          <p:cNvPicPr/>
          <p:nvPr/>
        </p:nvPicPr>
        <p:blipFill>
          <a:blip r:embed="rId6"/>
          <a:stretch/>
        </p:blipFill>
        <p:spPr>
          <a:xfrm>
            <a:off x="8862840" y="0"/>
            <a:ext cx="1043280" cy="9018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4" descr="JAXA_e"/>
          <p:cNvPicPr/>
          <p:nvPr/>
        </p:nvPicPr>
        <p:blipFill>
          <a:blip r:embed="rId7"/>
          <a:srcRect l="6973" t="4869" r="9336" b="529"/>
          <a:stretch/>
        </p:blipFill>
        <p:spPr>
          <a:xfrm>
            <a:off x="0" y="0"/>
            <a:ext cx="1403280" cy="93492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30320" y="274320"/>
            <a:ext cx="691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66"/>
                </a:solidFill>
                <a:uFillTx/>
                <a:latin typeface="Arial"/>
              </a:rPr>
              <a:t>Click to edit the title text format</a:t>
            </a:r>
            <a:endParaRPr b="1" lang="en-US" sz="44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1929960" y="1600200"/>
            <a:ext cx="7480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699ff"/>
              </a:buClr>
              <a:buFont typeface="Arial"/>
              <a:buChar char="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sldNum" idx="2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CB3E2-0083-4CD6-A634-1AAEDD1F17C3}" type="slidenum"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1"/>
    <p:sldLayoutId id="2147483663" r:id="rId12"/>
    <p:sldLayoutId id="2147483664" r:id="rId13"/>
    <p:sldLayoutId id="2147483665" r:id="rId14"/>
    <p:sldLayoutId id="2147483666" r:id="rId15"/>
    <p:sldLayoutId id="2147483667" r:id="rId16"/>
    <p:sldLayoutId id="2147483668" r:id="rId17"/>
    <p:sldLayoutId id="2147483669" r:id="rId18"/>
    <p:sldLayoutId id="2147483670" r:id="rId19"/>
    <p:sldLayoutId id="2147483671" r:id="rId20"/>
    <p:sldLayoutId id="2147483672" r:id="rId21"/>
    <p:sldLayoutId id="2147483673" r:id="rId2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7099200" y="624528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7F5B3-2220-4C07-8C13-5AB430833977}" type="slidenum">
              <a:rPr b="0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42680" y="2130120"/>
            <a:ext cx="842004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66"/>
                </a:solidFill>
                <a:uFillTx/>
                <a:latin typeface="Bookman Old Style"/>
                <a:ea typeface="Times New Roman"/>
              </a:rPr>
              <a:t>Recommendations to WGISS</a:t>
            </a:r>
            <a:br>
              <a:rPr sz="4400"/>
            </a:br>
            <a:r>
              <a:rPr b="0" lang="en-US" sz="4400" spc="-1" strike="noStrike" u="sng">
                <a:solidFill>
                  <a:srgbClr val="000066"/>
                </a:solidFill>
                <a:uFillTx/>
                <a:latin typeface="Bookman Old Style"/>
                <a:ea typeface="Times New Roman"/>
              </a:rPr>
              <a:t>before WTF-CEOP Project Team Closing</a:t>
            </a:r>
            <a:endParaRPr b="1" lang="en-US" sz="44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485720" y="4398840"/>
            <a:ext cx="6933960" cy="123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atoko Horiyama MIURA/JAX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30320" y="274320"/>
            <a:ext cx="6910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66"/>
                </a:solidFill>
                <a:uFillTx/>
                <a:latin typeface="Arial"/>
              </a:rPr>
              <a:t>Recommendations (1/2)</a:t>
            </a:r>
            <a:endParaRPr b="1" lang="en-US" sz="44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929960" y="1600200"/>
            <a:ext cx="7480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XA Prototype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continue its operation as long as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continue its efforts to find the solution on trans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register “Lessons &amp; Learned (including data quality issue)” to GEOSS Best Practice Wiki, if WGISS feels it appropriate ? And to CEOS Best Pract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30320" y="274320"/>
            <a:ext cx="6910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66"/>
                </a:solidFill>
                <a:uFillTx/>
                <a:latin typeface="Arial"/>
              </a:rPr>
              <a:t>Recommendations (2/2)</a:t>
            </a:r>
            <a:endParaRPr b="1" lang="en-US" sz="44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860120" y="1379520"/>
            <a:ext cx="7480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SA Prototy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499"/>
              </a:spcBef>
              <a:buSzPct val="14386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OPeNDAP Group’s Hyrax Server is publicly available for download;  The WCS Handler will also be publicly available for download (soon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499"/>
              </a:spcBef>
              <a:buSzPct val="14386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WCS Server with L2 AIRS data – future uncertain;  potential for Goddard data center to support oper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499"/>
              </a:spcBef>
              <a:buSzPct val="14386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 OPeNDAP’s Hyrax server &amp; WCS handler, and using the WCS Server Lessons Learned document, an organization can install own WCS server with satellite data for access by OPeNDAP enabled cli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499"/>
              </a:spcBef>
              <a:buSzPct val="14386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CS Lessons Learned document and the CS/W and WCS Interoperability document will be registered with the GEOSS Best Practices wik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499"/>
              </a:spcBef>
              <a:buSzPct val="14386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three documents produced by NASA team will be submitted to the NASA Standards Process Group as Technical Note RFC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499"/>
              </a:spcBef>
              <a:buSzPct val="14386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499"/>
              </a:spcBef>
              <a:buSzPct val="164508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08:25:13Z</dcterms:created>
  <dc:creator>各自で変更してください</dc:creator>
  <dc:description/>
  <dc:language>en-US</dc:language>
  <cp:lastModifiedBy>JOSS User</cp:lastModifiedBy>
  <dcterms:modified xsi:type="dcterms:W3CDTF">2008-09-23T15:57:48Z</dcterms:modified>
  <cp:revision>68</cp:revision>
  <dc:subject/>
  <dc:title>First &amp; Final Report  on WTF-CEOP Project Tea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838861041</vt:lpwstr>
  </property>
</Properties>
</file>