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FFD5-681A-472C-B8B6-F4FAFD469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6B72-F650-4000-97B9-A14E8181F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9E87-8C85-4B12-AA0C-14813A0DF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28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352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28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16A2-42B0-48CB-BB60-A99C94149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415F-7062-45BD-BC37-6AC7CE1332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9529-7A18-40F2-BCFA-6E6E721EBC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8E81-8545-4725-8B7B-5084781E5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D3CB-9700-442F-9F3A-47D407D452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C63E-81B4-420D-86B3-1E2326B290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3976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66AA-EB66-440C-8790-328399D025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1F5D-6FD5-48DC-8D9D-1448E9563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8691-10FD-4CCB-B573-E3E98A36D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175F-FEAF-4C87-8582-314CF8F3C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53AA-1959-4552-A8BE-3DCBC27410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1E21-FA5A-4C37-B377-5030D35765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3A1C-640F-4347-8D06-DE4C32D20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28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104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352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228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104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6034-B8BA-40F8-BFAC-99868A382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F371-2BD4-4B82-AFBA-EF7906D2F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66C5-0622-460A-AFA7-DC683989C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02FE-E7F1-47C0-B8B1-DDDC8A6EF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976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4990-85E8-4CD7-8CC7-8B3FA8DE9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40FD-3E1C-4730-9A89-3D18D4040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03AD-646F-43A0-9843-07634371F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91DA-972D-4B20-A94A-3C7C388A5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499080" y="6435360"/>
            <a:ext cx="190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C18-6738-4B88-AD02-74E4015A1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9B4C-0F07-4813-82C2-A0D15470A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lvl="1" marL="2840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6382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9190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2574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257480" indent="11268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257480" indent="11268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b81"/>
                </a:solidFill>
                <a:latin typeface="Comic Sans MS"/>
                <a:ea typeface="宋体"/>
              </a:rPr>
              <a:t>Recommendation to WGISS</a:t>
            </a:r>
            <a:br>
              <a:rPr sz="2400"/>
            </a:br>
            <a:r>
              <a:rPr b="1" lang="en-US" sz="2400" spc="-1" strike="noStrike">
                <a:solidFill>
                  <a:srgbClr val="184b81"/>
                </a:solidFill>
                <a:latin typeface="Comic Sans MS"/>
                <a:ea typeface="宋体"/>
              </a:rPr>
              <a:t>from Grid TT</a:t>
            </a:r>
            <a:endParaRPr b="1" lang="en-US" sz="24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60" y="5854680"/>
            <a:ext cx="37083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Grid Task Team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to WGISS-26, Boulder, CO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23rd, Sept, 2008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Recommendation to WGIS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hift the Grid TT leadership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Recommendations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WAG should be one of the key concepts of WGISS technology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list WAG (Wide Area Grid) as an important technical interesting po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promote it to be WGISS key technical solution to support  (v) constellations and sensor web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宋体"/>
              </a:rPr>
              <a:t>By C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Grid technology and Data Democrac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Grid can be technical basement for EO data democra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Chuang Liu’s project—UN-GAID/eSD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WGISS involved AP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Inter-Agency Collaborative Technologies in Earth Observations (EO) for Global Change Research in the Asia-Pacific Reg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宋体"/>
              </a:rPr>
              <a:t>By NRSC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Recommendations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Grid research should focus on the on-demand processing capabil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which is needed by most of GEO 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o promote data service from archived data service to be on-demand information data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By NAS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EOS Huge Disaster EO Data Aid Action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(Project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o explain after this part…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By NRSCC, GIST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Recommendations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tential contribution to GEOS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SU Flood Monitoring testb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te to Disaster and Water B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ES international WAG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e to ADC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RSC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saster EO Data Aid Actio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e to Disaster B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GISS Grid experts should be deeply involved in GEOSS ADC wor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e to A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659640" y="4143240"/>
            <a:ext cx="42386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Next Step: CEOS Huge Disaster EO Data Aid Action (HDEDAA)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First Stage:  as a WGISS project with one years proi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Next Stage:  as a GEO action contributed by CEO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trategic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organize WGISS space agency members to contribute to huge nature disast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use WGISS technologis to help the disaster mitig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do what we can do n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echnical Targe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generat an mechnism to take fast response for the huge nature disaster in the way of EO data assisita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build and maintain an flexible portal, which can connect to the temporary and dynamic assistant data storag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peration mechis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WGISS Key Team make decision to start Assistant action through teleconfrenece when huge disaster happe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Calling for contribution from member agen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HDEDAA team collect the necessary information about the assistant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HDEDAA built out the Portal for the disaster countr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Shift the Grid TT leadership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Guoqing Li has severed for Grid TT for three yea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Generally, task team leadership is two y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It is time to shift the leaders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erial emails have been sent out to call for volunteer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nly candidate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Ukraine/NASU    Mr. Andrii Shelesto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Open discussion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lease present your opinion and recommendations!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6:06:21Z</dcterms:created>
  <dc:creator>Li</dc:creator>
  <dc:description/>
  <cp:keywords/>
  <dc:language>en-US</dc:language>
  <cp:lastModifiedBy>Li</cp:lastModifiedBy>
  <cp:lastPrinted>1899-12-30T00:00:00Z</cp:lastPrinted>
  <dcterms:modified xsi:type="dcterms:W3CDTF">2008-09-23T18:09:51Z</dcterms:modified>
  <cp:revision>7</cp:revision>
  <dc:subject/>
  <dc:title>Recommendation to WGISS from Grid T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