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BB63-4758-44C9-ACCA-D6BD0C409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52AA-AC73-4784-8FCE-75F79523F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6435-DF51-4A98-84B2-A857930EF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25B7-565F-44C5-BC98-40688754A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F704-6FE0-4889-A1EA-9144A3918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54A7-94AD-4C89-8BAA-D3CA628DB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BDF3-0006-4821-B048-31E34ED02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4B6A-52C4-469B-B339-96DC4F640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CBAA-6B67-4573-82FA-8D50B5D14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0802-A9FC-4E28-9EF0-9E54AC667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D9D0-EACA-481A-9813-7CE2D323D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5321-AD85-4E37-A91F-D7E4DEE79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eatball"/>
          <p:cNvPicPr/>
          <p:nvPr/>
        </p:nvPicPr>
        <p:blipFill>
          <a:blip r:embed="rId2"/>
          <a:stretch/>
        </p:blipFill>
        <p:spPr>
          <a:xfrm>
            <a:off x="228600" y="270000"/>
            <a:ext cx="819000" cy="75240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5"/>
          <p:cNvGrpSpPr/>
          <p:nvPr/>
        </p:nvGrpSpPr>
        <p:grpSpPr>
          <a:xfrm>
            <a:off x="33480" y="6481800"/>
            <a:ext cx="9090000" cy="282600"/>
            <a:chOff x="33480" y="6481800"/>
            <a:chExt cx="9090000" cy="282600"/>
          </a:xfrm>
        </p:grpSpPr>
        <p:pic>
          <p:nvPicPr>
            <p:cNvPr id="4" name="Picture 6" descr="banner1"/>
            <p:cNvPicPr/>
            <p:nvPr/>
          </p:nvPicPr>
          <p:blipFill>
            <a:blip r:embed="rId3"/>
            <a:srcRect l="1258" t="11626" r="33290" b="33666"/>
            <a:stretch/>
          </p:blipFill>
          <p:spPr>
            <a:xfrm>
              <a:off x="33480" y="6481800"/>
              <a:ext cx="455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banner1"/>
            <p:cNvPicPr/>
            <p:nvPr/>
          </p:nvPicPr>
          <p:blipFill>
            <a:blip r:embed="rId4"/>
            <a:srcRect l="1258" t="11626" r="33290" b="33666"/>
            <a:stretch/>
          </p:blipFill>
          <p:spPr>
            <a:xfrm>
              <a:off x="4572000" y="6488280"/>
              <a:ext cx="455148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00992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1DD-9045-456B-94B9-D9342955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34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ASA EOS Web Services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urn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h W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Learned /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aren’t really mature in many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W point-to-point, vice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have the challenge of categ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ion of discovery, probably don’t want to wait for full adoption of semantic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interoperability is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, chaining, etc.  Beyond hand-sti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robustness in your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 for exceptions and erro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can cause some interoperability challenges (namespace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a bit of a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re are very valuable lessons learned , which can be leveraged in the nex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are a part of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A EOS is committed to continued adoption of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7915-71C7-4460-A94A-6A232C5E3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of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-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of Interface fro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(and encourages)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a net-centric enter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s can offer capabilities mor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B3BC-51FC-4224-A655-CBB1007D6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s &amp;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DI, eb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,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C Wx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A37C-805B-47B0-85E3-EBA3CD79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of Web Services within NASA 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and Gran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C224-B24C-4CE6-8416-C2124731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Services in NASA 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D69-7254-498D-ABE7-6C0CF97A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1" descr=""/>
          <p:cNvPicPr/>
          <p:nvPr/>
        </p:nvPicPr>
        <p:blipFill>
          <a:blip r:embed="rId1"/>
          <a:stretch/>
        </p:blipFill>
        <p:spPr>
          <a:xfrm>
            <a:off x="1628640" y="1461960"/>
            <a:ext cx="55324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GC and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xS implemented operationally at various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cess of assessing the benefit of OG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widely accepted and providing tremendou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, WFS (issues with gridded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eed ma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S, SWE (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y is sti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on interfaces, as web services is m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“standards” makes it challenging to test for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45C-5275-4337-A980-94678CF7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using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i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T, SNOWI, AOTC, WECHO, AQUA, EOLI (eoPor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using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ng, or value-ad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ining System, leveraging BPEL, ECHO (GES DI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Wilson’s ordering/stag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15EB-7C31-48B9-A771-D71D54AC8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Security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need Authentication and Authoriz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them, interoperability, User Management, Authority managemen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ED76-AC46-4721-B9D3-0F1E98F31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of 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using Web Service Standards many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web service Infrastructure, enabling an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composition, de-layering is gaining strong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pabilities are being designed with a services-view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sitation on off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service is public, how does the organization prepare for its use?  Causes services to be “hid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F1DB-EA37-40A6-9306-89E483AAC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9:58:38Z</dcterms:created>
  <dc:creator>Beth Weinstein, Kevin Murphy, Natalie Pressley</dc:creator>
  <dc:description/>
  <dc:language>en-US</dc:language>
  <cp:lastModifiedBy>jossadmin</cp:lastModifiedBy>
  <dcterms:modified xsi:type="dcterms:W3CDTF">2008-09-25T16:38:53Z</dcterms:modified>
  <cp:revision>225</cp:revision>
  <dc:subject/>
  <dc:title>EMS Status</dc:title>
</cp:coreProperties>
</file>