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GISS26 Boulder, CO, USA Sep. 25, 200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0528005B-534E-4498-927C-B1992A367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61a2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160200"/>
            <a:ext cx="685800" cy="6130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1920" y="76320"/>
            <a:ext cx="878040" cy="718200"/>
            <a:chOff x="61920" y="76320"/>
            <a:chExt cx="878040" cy="71820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61920" y="76320"/>
              <a:ext cx="8780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13400" y="45720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4e8f"/>
                  </a:solidFill>
                  <a:latin typeface="Arial Black"/>
                  <a:ea typeface="ヒラギノ角ゴ Pro W3"/>
                </a:rPr>
                <a:t>WG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S &amp; APPLICA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PLENARY WGISS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Moe/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ep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lder, CO,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&amp; Applications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Karen Moe/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: Satoko Miura/JA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Groups (IG) an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TF-CEOP Project - Satoko Miura (clo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Datasets IG - Lorant Cz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Surface Imaging Constellation IG- Lyn Ol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I Constellation Portal Project - Lyn Ol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Composition Constellation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 Constellation Lia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TF-CE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TF-CEOP project completed succes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from NASA prototype available as 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outcomes of WTF-CEOP to contribute to DA-07-01 as WGISS supporting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essons learned documents input to GEOSS AIP (AR-07-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essons learned documents to be posted on WGISS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XA prototype 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venance lessons learned (NASA proto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ocuments on OGC WCS &amp; CS/W standards maturity and interoperability issues (NASA proto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Datasets Interest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GISS contributions to core globa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GISS participation and create email distribu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GEO task leads to refine DEM interoperability requirements and scope of WGISS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tatus of DEM Interoperability requirements and recommend actions at WGISS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 Composition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ACC Interest Group to b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WGISS Lead be Stefan Fal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WGISS ACC I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CC Workshop sponsored by SEO at GISS in Oct 15-17, 2008 (CAT 1, CL-06-02_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ACC member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commendations for a ‘value-added’ AC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extension of AIP Air Quality prototype for a Smoke Monitoring Sensor Web proposal (CAT 2 WGISS supporting role to HE-06-03_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tatus at WGISS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pitation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ISS and PC want to better understand the scope of each group’s respective contributions to CEOS and 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WGISS collaboration with PC’s GPM Data Working Group (GDa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action item for WGISS to work with Erich Stocker/NASA and Satoko Miura/JAXA to identify liaison candidates and report at WGISS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contributions of data to sensor web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ISS 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ISS25-6 Recommendations on capturing lessons learned/best pract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roject is presented at WGISS, always inclu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 Lessons Learned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, POC, date, [project/SIG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s learn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relevant files or 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ISS web site update would include a page for searching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 Lessons Lea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complement the WGISS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ud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IS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S,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ject proposals should provide consideration for sustaining successful prototypes beyond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e purpose and expected outcome (lessons learned only, or potential GEOSS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ustainable component, what resourc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WGISS project documents reflect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roposal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loseout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&amp;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0:07:20Z</dcterms:created>
  <dc:creator>Karen Moe</dc:creator>
  <dc:description/>
  <dc:language>en-US</dc:language>
  <cp:lastModifiedBy>Karen Moe</cp:lastModifiedBy>
  <dcterms:modified xsi:type="dcterms:W3CDTF">2008-09-26T19:53:41Z</dcterms:modified>
  <cp:revision>18</cp:revision>
  <dc:subject/>
  <dc:title>PROJECTS &amp; APPLICATIONS SUBGROUP</dc:title>
</cp:coreProperties>
</file>