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9.pct" ContentType="image/x-pict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CE62A-B4C6-48DB-8114-14B406D3CB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D14A9-DAE2-4F12-903F-4628B64FC4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659BD-D2DE-4D29-8186-B0ACB27D46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1620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6904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6336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1620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6904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3F715-3C5C-496F-9296-EA6FE70677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F91C5-60F8-429D-AA1E-B9848494964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04a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ED9DF-33DA-4FFE-AF5B-C1E906F2319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2F46E-84FA-43A8-BCD1-7EF6538A94D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2584D-1124-40DD-8DF7-6773590690C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65724-B9C3-4DCA-BAAF-4DC2F2A969A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263600" y="74160"/>
            <a:ext cx="7664400" cy="39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04a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D506E-A2BE-4451-A135-2A181FCA525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53076-A96D-45AA-985F-3306A57EEB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04a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A4B8B-F43F-4195-8EA8-253BC100E4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F13D9-2A54-475E-9A08-D2BEBF7C931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08C84-8B82-4D22-BC71-818F21E33C7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198F0-8BCA-46DB-8348-925E5422B74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56F34-B587-4913-94F8-98880D08799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1620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6904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96336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1620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6904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B0146-F1A9-49FF-9976-78A98685632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04a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6A5A1-9DCD-4FE2-9053-EF5F9B959C9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263600" y="74160"/>
            <a:ext cx="7664400" cy="39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04a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61620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26904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96336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61620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26904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053C9-5027-4E73-8C84-16D191F28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04a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1D168-7A75-41B2-8F2F-8FC9D3BE8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C1322-F746-40BE-9C0D-CA376B3B5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13F06-8CF7-4D96-BFC7-3521E8C9725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AD286-DA67-428A-B5D1-9C1792C22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F600E-A9F1-40F1-9B2A-3BA6C742E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263600" y="74160"/>
            <a:ext cx="7664400" cy="39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04a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DDE27-4882-4431-BF08-0216046F9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AFE62-862B-4E1B-95B2-E1A6B2C54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F2902-DB67-48B5-8923-65A995931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D901B-CB7B-4299-8627-B819FEF1A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CBD8C-41E5-41F9-9DEA-C98505ED8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235A3-AD38-47F2-BF32-E36DA4DB9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61620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26904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96336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61620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26904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BCF7F-AD30-4EE6-A2EE-8D3C9460D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41157-DDC8-454B-9F42-60A7132723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63600" y="74160"/>
            <a:ext cx="7664400" cy="39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04a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54F78-A0BD-45F7-9977-D0AA1EB1B7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B80ED-0276-4834-9534-E430D1185C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E72A7-7B6B-4110-9336-494C384A0F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35A55-1E88-465E-8F0E-B89EABF051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6499080" y="6300720"/>
            <a:ext cx="1905120" cy="3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0ACDC-3B73-45C6-9B9E-29325326A4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b8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85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7640" indent="-1666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22392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0" y="5954760"/>
            <a:ext cx="1828800" cy="903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-4680" y="-4680"/>
            <a:ext cx="9155160" cy="68691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sldNum" idx="2"/>
          </p:nvPr>
        </p:nvSpPr>
        <p:spPr>
          <a:xfrm>
            <a:off x="6514920" y="6311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985BA-92BB-4CC9-A737-6B80DCF0B3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924680" y="6618240"/>
            <a:ext cx="12193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69800" y="1103040"/>
            <a:ext cx="8344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b8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44520" y="5954760"/>
            <a:ext cx="1828800" cy="903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-36360" y="333360"/>
            <a:ext cx="1223640" cy="9241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55640" y="926640"/>
            <a:ext cx="8137440" cy="69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74400"/>
            <a:ext cx="7467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Lucida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68360" y="1066680"/>
            <a:ext cx="8447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cf0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3"/>
          </p:nvPr>
        </p:nvSpPr>
        <p:spPr>
          <a:xfrm>
            <a:off x="777204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AECF1-0AD1-4572-A78C-03F65F65F3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52280" y="6323760"/>
            <a:ext cx="8915400" cy="399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dfeed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640080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4160" y="6370560"/>
            <a:ext cx="486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Grande"/>
                <a:ea typeface="楷体_GB2312"/>
              </a:rPr>
              <a:t>WGISS-26~ Boulder, CO ~ September 22-26,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7667640" y="0"/>
            <a:ext cx="1407960" cy="555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 flipV="1">
            <a:off x="990720" y="3259800"/>
            <a:ext cx="7619760" cy="91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3880" y="19807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Lucida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FC689-5263-4327-89D2-6791D49FCD27}" type="slidenum">
              <a:rPr b="0" lang="en-US" sz="1400" spc="-1" strike="noStrike">
                <a:solidFill>
                  <a:srgbClr val="1c1c1c"/>
                </a:solidFill>
                <a:latin typeface="Tahoma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08000" y="0"/>
            <a:ext cx="1407960" cy="936000"/>
            <a:chOff x="108000" y="0"/>
            <a:chExt cx="1407960" cy="936000"/>
          </a:xfrm>
        </p:grpSpPr>
        <p:pic>
          <p:nvPicPr>
            <p:cNvPr id="134" name="" descr=""/>
            <p:cNvPicPr/>
            <p:nvPr/>
          </p:nvPicPr>
          <p:blipFill>
            <a:blip r:embed="rId2"/>
            <a:stretch/>
          </p:blipFill>
          <p:spPr>
            <a:xfrm>
              <a:off x="108000" y="0"/>
              <a:ext cx="140796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242280" y="476280"/>
              <a:ext cx="110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66cc"/>
                  </a:solidFill>
                  <a:latin typeface="Arial Black"/>
                  <a:ea typeface="宋体"/>
                </a:rPr>
                <a:t>WGI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9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cf01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9.pct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5640" y="1771200"/>
            <a:ext cx="815328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33399"/>
                </a:solidFill>
                <a:latin typeface="Lucida Sans"/>
                <a:ea typeface="宋体"/>
              </a:rPr>
              <a:t>CEOS Status:</a:t>
            </a:r>
            <a:br>
              <a:rPr sz="4800"/>
            </a:br>
            <a:r>
              <a:rPr b="1" lang="en-GB" sz="4800" spc="-1" strike="noStrike">
                <a:solidFill>
                  <a:srgbClr val="333399"/>
                </a:solidFill>
                <a:latin typeface="Lucida Sans"/>
                <a:ea typeface="宋体"/>
              </a:rPr>
              <a:t>Report from SIT-22</a:t>
            </a:r>
            <a:endParaRPr b="0" lang="en-US" sz="4800" spc="-1" strike="noStrike">
              <a:solidFill>
                <a:srgbClr val="333399"/>
              </a:solidFill>
              <a:latin typeface="Lucida 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371600" y="3990600"/>
            <a:ext cx="64008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spcBef>
                <a:spcPts val="125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Martha E. Maiden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lnSpc>
                <a:spcPct val="95000"/>
              </a:lnSpc>
              <a:spcBef>
                <a:spcPts val="125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CEOS WGISS-26/GEO ADC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lnSpc>
                <a:spcPct val="95000"/>
              </a:lnSpc>
              <a:spcBef>
                <a:spcPts val="125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Boulder, Colorado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lnSpc>
                <a:spcPct val="95000"/>
              </a:lnSpc>
              <a:spcBef>
                <a:spcPts val="125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eptember 22, 2008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b81"/>
                </a:solidFill>
                <a:latin typeface="Lucida Grande"/>
              </a:rPr>
              <a:t>Tuesday Sept 16 Side Meetings</a:t>
            </a: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2320" y="1128240"/>
            <a:ext cx="7845480" cy="52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85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LSI Constellation Study Team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5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EOS Secretariat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5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Lucida Sans"/>
              </a:rPr>
              <a:t>CEOS Disaster SB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5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Lucida Sans"/>
              </a:rPr>
              <a:t>GCOS Climate Actions/UNFCCC Planning  - CEOS Climate SBA &amp; GCOS Sec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5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Lucida Sans"/>
              </a:rPr>
              <a:t>CEOS Coordination of SAR for GEO Task on Forest Carbon Tracking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5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Lucida Sans"/>
              </a:rPr>
              <a:t>CEOS/Commercial Sector Inte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8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BA42F-E8F0-41AB-934F-D9F1F6818FFE}" type="slidenum">
              <a:t>2</a:t>
            </a:fld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b81"/>
                </a:solidFill>
                <a:latin typeface="Lucida Grande"/>
              </a:rPr>
              <a:t>SIT Major Points of Interest</a:t>
            </a: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15440" y="934560"/>
            <a:ext cx="8310600" cy="52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7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75000"/>
              </a:lnSpc>
              <a:spcBef>
                <a:spcPts val="499"/>
              </a:spcBef>
              <a:spcAft>
                <a:spcPts val="499"/>
              </a:spcAft>
              <a:buSzPct val="11428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Sans"/>
              </a:rPr>
              <a:t>Report on Data Democracy Initiative - CSIR Plenary C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lnSpc>
                <a:spcPct val="75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Sans"/>
              </a:rPr>
              <a:t>South Africa Receiving Multiple Satellite Data Stre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lnSpc>
                <a:spcPct val="75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Sans"/>
              </a:rPr>
              <a:t>GISTDA/Thailand to Continue Initi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75000"/>
              </a:lnSpc>
              <a:spcBef>
                <a:spcPts val="451"/>
              </a:spcBef>
              <a:buSzPct val="11428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Sans"/>
              </a:rPr>
              <a:t>Constellations Prog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lnSpc>
                <a:spcPct val="7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Sans"/>
              </a:rPr>
              <a:t>Constellations Process Paper Agr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lnSpc>
                <a:spcPct val="7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Sans"/>
              </a:rPr>
              <a:t>Ocean Color Radiometer Constellation appr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lnSpc>
                <a:spcPct val="7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Sans"/>
              </a:rPr>
              <a:t>Ocean Surface Vector Winds Constellation appr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75000"/>
              </a:lnSpc>
              <a:spcBef>
                <a:spcPts val="451"/>
              </a:spcBef>
              <a:buSzPct val="11428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Sans"/>
              </a:rPr>
              <a:t>CEOS Support to GEO Plena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lnSpc>
                <a:spcPct val="7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Will put out a report highlighting accomplishments for GEO-V Plena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lnSpc>
                <a:spcPct val="7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Sans"/>
              </a:rPr>
              <a:t>Bucharest Demo Task Team includes Petiteville and WGISS members Ochai, Maiden, Apaphant, Mi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lnSpc>
                <a:spcPct val="7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SEO will assist the agencies to register data sets prior to GEO-V.  Fact sheet will be sent out with instructions on how to do 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75000"/>
              </a:lnSpc>
              <a:spcBef>
                <a:spcPts val="451"/>
              </a:spcBef>
              <a:buSzPct val="11428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Sans"/>
              </a:rPr>
              <a:t>CEOS Planning: determining and addressing Observation G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lnSpc>
                <a:spcPct val="7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Sans"/>
              </a:rPr>
              <a:t>SIT/CEO to host 2nd CEOS/GEO Actions Meeting for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75000"/>
              </a:lnSpc>
              <a:spcBef>
                <a:spcPts val="451"/>
              </a:spcBef>
              <a:buSzPct val="11428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Sans"/>
              </a:rPr>
              <a:t>GEO Data Sharing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53437-4435-477D-86FC-7BA67C45F0DA}" type="slidenum">
              <a:t>3</a:t>
            </a:fld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b81"/>
                </a:solidFill>
                <a:latin typeface="Lucida Sans"/>
              </a:rPr>
              <a:t>WGISS Report to SIT</a:t>
            </a: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2320" y="1128240"/>
            <a:ext cx="7845480" cy="52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5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Overview of WGISS 2008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5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Focus report on LSI Portal, Status and Next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trong Candidate for GEO Plenary De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5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WGISS CEOS/GEO Actions Status (Apapha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5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WGISS 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F6929-7E17-4A76-9BED-1CB2070686B1}" type="slidenum">
              <a:t>4</a:t>
            </a:fld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63240" y="74160"/>
            <a:ext cx="631188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b81"/>
                </a:solidFill>
                <a:latin typeface="Lucida Sans"/>
              </a:rPr>
              <a:t>WGISS Summary</a:t>
            </a: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-360" y="1145880"/>
            <a:ext cx="5257800" cy="30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urrent Them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Provide satellite arm of GEO System of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Innovative contributions that will persist, and can be re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Work closely with and support Virtual Constel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Work closely with collaborate with WGC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upport the Data Democracy initia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5"/>
          <a:stretch/>
        </p:blipFill>
        <p:spPr>
          <a:xfrm>
            <a:off x="5624640" y="725400"/>
            <a:ext cx="2614320" cy="18255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0" y="4148280"/>
            <a:ext cx="8983800" cy="20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  <a:ea typeface="ヒラギノ角ゴ Pro W3"/>
              </a:rPr>
              <a:t>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High GEO interest in LSI Por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Working actively with LSI, ACC, and engaging PC at WGISS-26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Working actively with WGC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Example of collaboration:  Ensuring metadata contain all relevant content on data quality, using multiple instruments’ data looking at specific si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Contribution to Data Democracy to be emphasized at WGISS-26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457960" y="2620800"/>
            <a:ext cx="3182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Jim Gleason, USA ; Pepijn Veefkind, KN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0"/>
          <a:srcRect l="0" t="0" r="0" b="2754"/>
          <a:stretch/>
        </p:blipFill>
        <p:spPr>
          <a:xfrm>
            <a:off x="5440320" y="3009960"/>
            <a:ext cx="2895480" cy="17240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E5C69-8714-4CC5-86DB-DADB79FCCEA1}" type="slidenum">
              <a:t>5</a:t>
            </a:fld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3T17:36:49Z</dcterms:created>
  <dc:creator>SAIC ODIN</dc:creator>
  <dc:description/>
  <cp:keywords/>
  <dc:language>en-US</dc:language>
  <cp:lastModifiedBy>Martha Maiden</cp:lastModifiedBy>
  <cp:lastPrinted>2004-04-15T17:51:45Z</cp:lastPrinted>
  <dcterms:modified xsi:type="dcterms:W3CDTF">2008-09-21T19:55:51Z</dcterms:modified>
  <cp:revision>302</cp:revision>
  <dc:subject/>
  <dc:title>Understanding and  Protecting Our Home Planet</dc:title>
</cp:coreProperties>
</file>