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731880"/>
            <a:ext cx="860904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What are the barriers to achieving the </a:t>
            </a:r>
            <a:r>
              <a:rPr b="1" i="1" lang="en-US" sz="3200" spc="-1" strike="noStrike">
                <a:solidFill>
                  <a:srgbClr val="333333"/>
                </a:solidFill>
                <a:latin typeface="Arial"/>
              </a:rPr>
              <a:t>realization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of the use case in general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 / Smoke prediction use cas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rivers perhaps from WHO or UNEP (U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ise in translating needs to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experts &amp; organization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ACC smoke prediction prototype was “hand” integrated, labor in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sensor web is to streamline the data to model to product process to standards based protocols and 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identify sensors for ACC sensor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C and AIP themes: N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access and collaboration cap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GISS effort leverages/coordinates with AI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07960"/>
            <a:ext cx="860904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What Information Technology will help with overcoming the barriers of the use case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How can the Virtual Constellations help over come the barriers of the use case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06160"/>
            <a:ext cx="86090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an any "Systems and Services" be identified that are required to achieve the use case? (Catalogues, etc.)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CDF WCS server that uses NetCDF-CF or HDF-CF conventions for I/O (part of WTF-CE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CDF WCS (part of GMU SE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A, SAGE II, CLAES standard data input to model (eg AutoChem) GMU S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C SOS (sensor metadata descriptions) SA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S / workflows from SAMITS &amp; G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O discover and access services f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ard DAAC provides WCS and KM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2: broader inclusion of surface monitoring networks (eg EPA AirNow, VIEWS, U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06160"/>
            <a:ext cx="86090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haracterise the "Systems and Services". (Data type, data volumes, processing intensive, etc.)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79360"/>
            <a:ext cx="860904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How could we measure the success of the use case from a WGISS/GEOSS perspective in terms of short and long term needs being met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bring in a new set of sensors for a different dat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rence van Zyl</dc:creator>
  <dc:description/>
  <dc:language>en-US</dc:language>
  <cp:lastModifiedBy>Karen Moe</cp:lastModifiedBy>
  <dcterms:modified xsi:type="dcterms:W3CDTF">2008-09-24T22:05:44Z</dcterms:modified>
  <cp:revision>1</cp:revision>
  <dc:subject/>
  <dc:title>What are the barriers to achieving the realization of the use case in general?</dc:title>
</cp:coreProperties>
</file>