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5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6.wmf" ContentType="image/x-wmf"/>
  <Override PartName="/ppt/media/image14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comments/comment9.xml" ContentType="application/vnd.openxmlformats-officedocument.presentationml.comments+xml"/>
  <Override PartName="/ppt/comments/comment18.xml" ContentType="application/vnd.openxmlformats-officedocument.presentationml.comments+xml"/>
  <Override PartName="/ppt/comments/comment2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83413" cy="9269413"/>
</p:presentation>
</file>

<file path=ppt/commentAuthors.xml><?xml version="1.0" encoding="utf-8"?>
<p:cmAuthorLst xmlns:p="http://schemas.openxmlformats.org/presentationml/2006/main">
  <p:cmAuthor id="0" name="vinai" initials="v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<Relationship Id="rId34" Type="http://schemas.openxmlformats.org/officeDocument/2006/relationships/commentAuthors" Target="commentAuthors.xml"/>
</Relationships>
</file>

<file path=ppt/comments/comment18.xml><?xml version="1.0" encoding="utf-8"?>
<p:cmLst xmlns:p="http://schemas.openxmlformats.org/presentationml/2006/main">
  <p:cm authorId="0" dt="2008-06-04T18:07:18.406000000" idx="2">
    <p:pos x="5468" y="139"/>
    <p:text>* Run a small commercial for Viz Gallery Entry
* Include video if possible</p:text>
  </p:cm>
</p:cmLst>
</file>

<file path=ppt/comments/comment29.xml><?xml version="1.0" encoding="utf-8"?>
<p:cmLst xmlns:p="http://schemas.openxmlformats.org/presentationml/2006/main">
  <p:cm authorId="0" dt="2008-06-04T17:56:50.203000000" idx="3">
    <p:pos x="5434" y="112"/>
    <p:text>Don't go into details in this slide.</p:text>
  </p:cm>
</p:cmLst>
</file>

<file path=ppt/comments/comment9.xml><?xml version="1.0" encoding="utf-8"?>
<p:cmLst xmlns:p="http://schemas.openxmlformats.org/presentationml/2006/main">
  <p:cm authorId="0" dt="2008-06-04T18:29:44.875000000" idx="1">
    <p:pos x="5448" y="112"/>
    <p:text>Why are we compressing?
* multiple time intervals may have mutliple volumes
* potential use of another computer for rendering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28800" y="4400280"/>
            <a:ext cx="5124240" cy="4173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16640" cy="346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28800" y="4400280"/>
            <a:ext cx="5124240" cy="4173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ag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with Chinese academy of sciences, represented by Professor Liu and Dr. 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28800" y="4400280"/>
            <a:ext cx="5124240" cy="4173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Volumes generated for a site and for a time interval is independent of other time intervals, therefore, can be processed independently and reused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8800" y="4400280"/>
            <a:ext cx="5124240" cy="4173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    rain rate (in/h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      mo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  &lt;0.25,1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  &lt;Trace,0.25&gt;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Value of 20 dBZ(green) is typically the point at which light rain begins.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s of 60 to 65 dBZ(red/purple) is about the level where ¾" hail can occu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 value of 60 to 65 dBZ does not mean that severe weather is occurr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at location.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63520" y="695160"/>
            <a:ext cx="465768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069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63520" y="695160"/>
            <a:ext cx="465768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069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28800" y="4400280"/>
            <a:ext cx="5124240" cy="4173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4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Web portal based 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4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hoice list based option se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4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Options include – Satellite, Coverage area, Data product, Projection type and Dat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4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bility to select date range for subscription valid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4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User-driven product choice expa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4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dividual user-based subscri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4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User-initiated data produ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4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a products generated only when some user is subscribed to the 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4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a production automatically turned off when no active subscription exi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63520" y="695160"/>
            <a:ext cx="465768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069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63520" y="695160"/>
            <a:ext cx="465624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069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77680" y="217440"/>
            <a:ext cx="716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9160" y="1154160"/>
            <a:ext cx="87375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9160" y="3781080"/>
            <a:ext cx="87375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77680" y="217440"/>
            <a:ext cx="716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9160" y="1154160"/>
            <a:ext cx="4263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6480" y="1154160"/>
            <a:ext cx="4263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9160" y="3781080"/>
            <a:ext cx="4263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6480" y="3781080"/>
            <a:ext cx="4263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77680" y="217440"/>
            <a:ext cx="716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9160" y="1154160"/>
            <a:ext cx="281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3680" y="1154160"/>
            <a:ext cx="281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154160"/>
            <a:ext cx="281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9160" y="3781080"/>
            <a:ext cx="281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3680" y="3781080"/>
            <a:ext cx="281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781080"/>
            <a:ext cx="281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77680" y="217440"/>
            <a:ext cx="716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9160" y="1154160"/>
            <a:ext cx="87375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77680" y="217440"/>
            <a:ext cx="716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9160" y="1154160"/>
            <a:ext cx="87375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77680" y="217440"/>
            <a:ext cx="716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9160" y="1154160"/>
            <a:ext cx="4263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6480" y="1154160"/>
            <a:ext cx="4263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77680" y="217440"/>
            <a:ext cx="716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77680" y="217440"/>
            <a:ext cx="7165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77680" y="217440"/>
            <a:ext cx="716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9160" y="1154160"/>
            <a:ext cx="4263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6480" y="1154160"/>
            <a:ext cx="4263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9160" y="3781080"/>
            <a:ext cx="4263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77680" y="217440"/>
            <a:ext cx="716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9160" y="1154160"/>
            <a:ext cx="4263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480" y="1154160"/>
            <a:ext cx="4263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6480" y="3781080"/>
            <a:ext cx="4263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77680" y="217440"/>
            <a:ext cx="716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9160" y="1154160"/>
            <a:ext cx="4263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480" y="1154160"/>
            <a:ext cx="4263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9160" y="3781080"/>
            <a:ext cx="87375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77680" y="217440"/>
            <a:ext cx="716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09160" y="1154160"/>
            <a:ext cx="87375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-74880" y="6386400"/>
            <a:ext cx="1472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95363A9-4BC4-4C60-AA0E-64721F234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3480" y="20520"/>
            <a:ext cx="1703160" cy="62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696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We have data, now what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82760" y="28602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rol Song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nior Research Scientist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sen Center for Advanced Computing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rdue University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rolxsong@purdue.edu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382760" y="5359320"/>
            <a:ext cx="64008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GISS-26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tember 23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60560" y="196560"/>
            <a:ext cx="46814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Scaling using Teragrid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146240"/>
            <a:ext cx="9144000" cy="523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  <a:ea typeface="宋体"/>
              </a:rPr>
              <a:t>How to scale? Key Observations: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宋体"/>
              </a:rPr>
              <a:t>Spatial parallelism: between stations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宋体"/>
              </a:rPr>
              <a:t>Temporal parallelism: volumes generated for intervals are indpendent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宋体"/>
              </a:rPr>
              <a:t>Data access can be parallel as well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  <a:ea typeface="宋体"/>
              </a:rPr>
              <a:t>Two types of computation tasks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宋体"/>
              </a:rPr>
              <a:t>Processing per station per interval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宋体"/>
              </a:rPr>
              <a:t>Merging:  combines 3D volumes from all sites and creates the full 3D volume for each interval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  <a:ea typeface="宋体"/>
              </a:rPr>
              <a:t>Granularity of Parallelization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宋体"/>
              </a:rPr>
              <a:t>Depends on the processing power available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宋体"/>
              </a:rPr>
              <a:t>Either fine grained (per site per interval ) or coarse grained (per site )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宋体"/>
              </a:rPr>
              <a:t>Using Condor DAGMan to orchestrate jobs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541920" y="0"/>
            <a:ext cx="2601720" cy="1730520"/>
            <a:chOff x="6541920" y="0"/>
            <a:chExt cx="2601720" cy="1730520"/>
          </a:xfrm>
        </p:grpSpPr>
        <p:sp>
          <p:nvSpPr>
            <p:cNvPr id="78" name=""/>
            <p:cNvSpPr/>
            <p:nvPr/>
          </p:nvSpPr>
          <p:spPr>
            <a:xfrm>
              <a:off x="6541920" y="0"/>
              <a:ext cx="2601720" cy="1730520"/>
            </a:xfrm>
            <a:prstGeom prst="flowChartAlternateProcess">
              <a:avLst/>
            </a:prstGeom>
            <a:solidFill>
              <a:srgbClr val="ffcc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6618240" y="74880"/>
              <a:ext cx="2448000" cy="1504800"/>
              <a:chOff x="6618240" y="74880"/>
              <a:chExt cx="2448000" cy="1504800"/>
            </a:xfrm>
          </p:grpSpPr>
          <p:sp>
            <p:nvSpPr>
              <p:cNvPr id="80" name=""/>
              <p:cNvSpPr/>
              <p:nvPr/>
            </p:nvSpPr>
            <p:spPr>
              <a:xfrm>
                <a:off x="6618240" y="676800"/>
                <a:ext cx="459000" cy="300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in Jo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7077240" y="74880"/>
                <a:ext cx="1989000" cy="1504800"/>
                <a:chOff x="7077240" y="74880"/>
                <a:chExt cx="1989000" cy="1504800"/>
              </a:xfrm>
            </p:grpSpPr>
            <p:grpSp>
              <p:nvGrpSpPr>
                <p:cNvPr id="82" name=""/>
                <p:cNvGrpSpPr/>
                <p:nvPr/>
              </p:nvGrpSpPr>
              <p:grpSpPr>
                <a:xfrm>
                  <a:off x="7077240" y="300240"/>
                  <a:ext cx="1912320" cy="1053000"/>
                  <a:chOff x="7077240" y="300240"/>
                  <a:chExt cx="1912320" cy="105300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 flipV="1">
                    <a:off x="7077240" y="375120"/>
                    <a:ext cx="305640" cy="45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077240" y="826920"/>
                    <a:ext cx="305640" cy="45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V="1">
                    <a:off x="7077240" y="676080"/>
                    <a:ext cx="305640" cy="150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382880" y="300240"/>
                    <a:ext cx="761760" cy="225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  <a:ea typeface="굴림"/>
                      </a:rPr>
                      <a:t>Processing Site 1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459560" y="902160"/>
                    <a:ext cx="459000" cy="22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  <a:ea typeface="굴림"/>
                      </a:rPr>
                      <a:t>.......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382880" y="601200"/>
                    <a:ext cx="761760" cy="225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  <a:ea typeface="굴림"/>
                      </a:rPr>
                      <a:t>Processing Site 2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382880" y="1127880"/>
                    <a:ext cx="761760" cy="225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  <a:ea typeface="굴림"/>
                      </a:rPr>
                      <a:t>Processing Site 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8148240" y="375480"/>
                    <a:ext cx="306000" cy="375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8148240" y="751320"/>
                    <a:ext cx="306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flipV="1">
                    <a:off x="8148240" y="750960"/>
                    <a:ext cx="306000" cy="526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8454240" y="601200"/>
                    <a:ext cx="535320" cy="3009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  <a:ea typeface="굴림"/>
                      </a:rPr>
                      <a:t>Merg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4" name=""/>
                <p:cNvSpPr/>
                <p:nvPr/>
              </p:nvSpPr>
              <p:spPr>
                <a:xfrm>
                  <a:off x="7229880" y="74880"/>
                  <a:ext cx="1836360" cy="1504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8224920" y="148680"/>
                  <a:ext cx="764640" cy="22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굴림"/>
                    </a:rPr>
                    <a:t>TeraGri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42800" y="355320"/>
            <a:ext cx="7165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5400" y="4637160"/>
            <a:ext cx="8737560" cy="10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Images rendered at different timestamps using a dataset from scanning a 24-hour supercell storm on March 12, 2006, in the Midwest region of the United States.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71520" y="1643040"/>
            <a:ext cx="4241880" cy="2549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89440" y="1663560"/>
            <a:ext cx="3803760" cy="25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77680" y="217440"/>
            <a:ext cx="716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Hurricane Ike reminant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9160" y="5394240"/>
            <a:ext cx="8737560" cy="78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Hurricane Ike, data from 4 stations (3 in IL and 1 in IN) between 10-noon on Sept. 14, 2008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0680" y="1428840"/>
            <a:ext cx="4471920" cy="3354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516480" y="1844640"/>
            <a:ext cx="562752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6400" y="217440"/>
            <a:ext cx="6967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A Service Architectu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53960" y="1014480"/>
            <a:ext cx="642960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77680" y="217440"/>
            <a:ext cx="716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Services through multiple interfaces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9160" y="1154160"/>
            <a:ext cx="87375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Expert use mode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Need to see details (large data, lots of processing), highly interactive, ability to manipulate color mapping and other settings.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With accelerated graphics hardware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Learning/casual use  mode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Simple interface, no learning curve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Does not require high degree of details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Remote access mode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Through web browser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No special hardware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Need interactivity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Application developers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Need API or web service interfaces to integrate with their applications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77680" y="217440"/>
            <a:ext cx="716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Workload distribution &amp; Scalabilit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9160" y="1154160"/>
            <a:ext cx="87375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Web 2.0 gadget for the masses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Data preproposed, rendered, composed into animation on server; animation (or sequence of images) sent over web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Desktop client for maximum interactivity and performance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Data preprocessed offline and 3D data volumes cached on server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3D Graphics rendering on user’s computer (GPU enabled)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Web browser access for interactivity but slower display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Data preproposed offline, 3D volumes cached and rendered into 3D graphics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Images sent over the network 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User accesses the interactive application through a VNC based Java applet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77680" y="217440"/>
            <a:ext cx="716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Reach out to the mass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9520" y="1552320"/>
            <a:ext cx="3664080" cy="46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 </a:t>
            </a:r>
            <a:r>
              <a:rPr b="0" i="1" lang="en-US" sz="2400" spc="-1" strike="noStrike">
                <a:solidFill>
                  <a:srgbClr val="000099"/>
                </a:solidFill>
                <a:latin typeface="Tahoma"/>
              </a:rPr>
              <a:t>LiveRadar3D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Google gadget displaying 3D visualization of radar data, continuously updated with streaming dat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127400" y="961920"/>
            <a:ext cx="460692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77680" y="217440"/>
            <a:ext cx="716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he fully Interactive 3D visualization Client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36800" y="768240"/>
            <a:ext cx="68929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77680" y="217440"/>
            <a:ext cx="716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3D Visualization of all station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932040"/>
            <a:ext cx="9144000" cy="54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04640" y="206280"/>
            <a:ext cx="716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9160" y="1154160"/>
            <a:ext cx="8737560" cy="49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  <a:ea typeface="宋体"/>
              </a:rPr>
              <a:t>Remote 3D visualization services delivered through multiple interfaces 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  <a:ea typeface="宋体"/>
              </a:rPr>
              <a:t>Application interface of data services for third party integration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  <a:ea typeface="宋体"/>
              </a:rPr>
              <a:t>An architecture that scales to different use scenarios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  <a:ea typeface="宋体"/>
              </a:rPr>
              <a:t>Parallel data pre-processing using the TeraGrid Condor resources and partial volume caching which improve the response time and scalability of the system.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  <a:ea typeface="宋体"/>
              </a:rPr>
              <a:t>Continuing effort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  <a:ea typeface="宋体"/>
              </a:rPr>
              <a:t>User feedback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  <a:ea typeface="宋体"/>
              </a:rPr>
              <a:t>Scale – support multiple users simultaneously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  <a:ea typeface="宋体"/>
              </a:rPr>
              <a:t>Hierarchical 3D volume structure to support multi-scale investigation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77680" y="217080"/>
            <a:ext cx="7165800" cy="65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Understanding and Utilizing Data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03356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n integrated system for real-time NEXRAD II radar data delivery and 3D visualization, with multi-layer user interfaces to reach a wide audience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Collaboration among computer scientists and earth/atmospheric scientists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Team: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宋体"/>
              </a:rPr>
              <a:t>V. Sundaram, L. Zhao, C.X. Song, B. Benes, P. Kristof, R. Veeramacheneni, M. Huber.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emand-driven subscription system for real-time satellite data delivery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Purdue Terrestrial Observatory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Team: </a:t>
            </a: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R. Kalyanam, L. Zhao, L. Biehl, C.X. Song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roviding data through services!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3794760" y="5746680"/>
            <a:ext cx="31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ork supported b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tional Science Fou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034480" y="5202360"/>
            <a:ext cx="954000" cy="954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27920" y="5121360"/>
            <a:ext cx="9064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Publications, URLs available.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Feel free to contact Carol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664080" y="2297160"/>
            <a:ext cx="5257800" cy="3286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12960" y="411120"/>
            <a:ext cx="7167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PRESTIG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Purdue Real-Time Satellite Information Gateway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063800"/>
            <a:ext cx="315432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2840" indent="-312840">
              <a:lnSpc>
                <a:spcPct val="104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User Requirement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55600">
              <a:lnSpc>
                <a:spcPct val="104000"/>
              </a:lnSpc>
              <a:spcBef>
                <a:spcPts val="300"/>
              </a:spcBef>
              <a:buClr>
                <a:srgbClr val="cc0000"/>
              </a:buClr>
              <a:buFont typeface="Times New Roman"/>
              <a:buChar char="–"/>
              <a:tabLst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cc0000"/>
                </a:solidFill>
                <a:latin typeface="Tahoma"/>
              </a:rPr>
              <a:t>Receive continuous data updates</a:t>
            </a:r>
            <a:endParaRPr b="0" lang="en-US" sz="1600" spc="-1" strike="noStrike">
              <a:solidFill>
                <a:srgbClr val="cc0000"/>
              </a:solidFill>
              <a:latin typeface="Tahoma"/>
            </a:endParaRPr>
          </a:p>
          <a:p>
            <a:pPr lvl="1" marL="712800" indent="-255600">
              <a:lnSpc>
                <a:spcPct val="104000"/>
              </a:lnSpc>
              <a:spcBef>
                <a:spcPts val="300"/>
              </a:spcBef>
              <a:buClr>
                <a:srgbClr val="cc0000"/>
              </a:buClr>
              <a:buFont typeface="Times New Roman"/>
              <a:buChar char="–"/>
              <a:tabLst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cc0000"/>
                </a:solidFill>
                <a:latin typeface="Tahoma"/>
              </a:rPr>
              <a:t>R</a:t>
            </a:r>
            <a:r>
              <a:rPr b="0" lang="en-GB" sz="1600" spc="-1" strike="noStrike">
                <a:solidFill>
                  <a:srgbClr val="cc0000"/>
                </a:solidFill>
                <a:latin typeface="Tahoma"/>
                <a:ea typeface="Arial"/>
              </a:rPr>
              <a:t>eal-time or near-real-time access</a:t>
            </a:r>
            <a:endParaRPr b="0" lang="en-US" sz="1600" spc="-1" strike="noStrike">
              <a:solidFill>
                <a:srgbClr val="cc0000"/>
              </a:solidFill>
              <a:latin typeface="Tahoma"/>
            </a:endParaRPr>
          </a:p>
          <a:p>
            <a:pPr lvl="1" marL="712800" indent="-255600">
              <a:lnSpc>
                <a:spcPct val="104000"/>
              </a:lnSpc>
              <a:spcBef>
                <a:spcPts val="300"/>
              </a:spcBef>
              <a:buClr>
                <a:srgbClr val="cc0000"/>
              </a:buClr>
              <a:buFont typeface="Times New Roman"/>
              <a:buChar char="–"/>
              <a:tabLst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cc0000"/>
                </a:solidFill>
                <a:latin typeface="Tahoma"/>
              </a:rPr>
              <a:t>Custom-tailored data configurations</a:t>
            </a:r>
            <a:endParaRPr b="0" lang="en-US" sz="1600" spc="-1" strike="noStrike">
              <a:solidFill>
                <a:srgbClr val="cc0000"/>
              </a:solidFill>
              <a:latin typeface="Tahoma"/>
            </a:endParaRPr>
          </a:p>
          <a:p>
            <a:pPr marL="312840" indent="-312840">
              <a:lnSpc>
                <a:spcPct val="104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Current Systems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55600">
              <a:lnSpc>
                <a:spcPct val="104000"/>
              </a:lnSpc>
              <a:spcBef>
                <a:spcPts val="300"/>
              </a:spcBef>
              <a:buClr>
                <a:srgbClr val="cc0000"/>
              </a:buClr>
              <a:buFont typeface="Times New Roman"/>
              <a:buChar char="–"/>
              <a:tabLst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cc0000"/>
                </a:solidFill>
                <a:latin typeface="Tahoma"/>
              </a:rPr>
              <a:t>Impossible to generate complete range of data products</a:t>
            </a:r>
            <a:endParaRPr b="0" lang="en-US" sz="1600" spc="-1" strike="noStrike">
              <a:solidFill>
                <a:srgbClr val="cc0000"/>
              </a:solidFill>
              <a:latin typeface="Tahoma"/>
            </a:endParaRPr>
          </a:p>
          <a:p>
            <a:pPr lvl="1" marL="712800" indent="-255600">
              <a:lnSpc>
                <a:spcPct val="104000"/>
              </a:lnSpc>
              <a:spcBef>
                <a:spcPts val="300"/>
              </a:spcBef>
              <a:buClr>
                <a:srgbClr val="cc0000"/>
              </a:buClr>
              <a:buFont typeface="Times New Roman"/>
              <a:buChar char="–"/>
              <a:tabLst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cc0000"/>
                </a:solidFill>
                <a:latin typeface="Tahoma"/>
              </a:rPr>
              <a:t>Have to route through the support staff</a:t>
            </a:r>
            <a:endParaRPr b="0" lang="en-US" sz="1600" spc="-1" strike="noStrike">
              <a:solidFill>
                <a:srgbClr val="cc0000"/>
              </a:solidFill>
              <a:latin typeface="Tahoma"/>
            </a:endParaRPr>
          </a:p>
          <a:p>
            <a:pPr lvl="1" marL="712800" indent="-255600">
              <a:lnSpc>
                <a:spcPct val="104000"/>
              </a:lnSpc>
              <a:spcBef>
                <a:spcPts val="300"/>
              </a:spcBef>
              <a:buClr>
                <a:srgbClr val="cc0000"/>
              </a:buClr>
              <a:buFont typeface="Times New Roman"/>
              <a:buChar char="–"/>
              <a:tabLst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cc0000"/>
                </a:solidFill>
                <a:latin typeface="Tahoma"/>
              </a:rPr>
              <a:t>Manual process which is time consuming and error-prone </a:t>
            </a:r>
            <a:endParaRPr b="0" lang="en-US" sz="1600" spc="-1" strike="noStrike">
              <a:solidFill>
                <a:srgbClr val="cc0000"/>
              </a:solidFill>
              <a:latin typeface="Tahoma"/>
            </a:endParaRPr>
          </a:p>
          <a:p>
            <a:pPr marL="312840" indent="0">
              <a:lnSpc>
                <a:spcPct val="104000"/>
              </a:lnSpc>
              <a:spcBef>
                <a:spcPts val="300"/>
              </a:spcBef>
              <a:buNone/>
              <a:tabLst>
                <a:tab algn="l" pos="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4200" y="247320"/>
            <a:ext cx="82152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Range of MODIS Data Produc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766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lnSpc>
                <a:spcPct val="93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Level 1A (MOD01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6880" indent="-326880">
              <a:lnSpc>
                <a:spcPct val="93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Vegetation Index (MOD09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6880" indent="-326880">
              <a:lnSpc>
                <a:spcPct val="93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Geolocation (MOD03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6880" indent="-326880">
              <a:lnSpc>
                <a:spcPct val="93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Aerosol (MOD04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6880" indent="-326880">
              <a:lnSpc>
                <a:spcPct val="93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Water Vapor (MOD05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6880" indent="-326880">
              <a:lnSpc>
                <a:spcPct val="93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Clouds (MOD06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6880" indent="-326880">
              <a:lnSpc>
                <a:spcPct val="93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Atmospheric Profiles (MOD07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6880" indent="-326880">
              <a:lnSpc>
                <a:spcPct val="93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Reflectance (MOD09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6880" indent="-326880">
              <a:lnSpc>
                <a:spcPct val="93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Snow (MOD10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6880" indent="-326880">
              <a:lnSpc>
                <a:spcPct val="93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Fire Detection (MOD14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6880" indent="-326880">
              <a:lnSpc>
                <a:spcPct val="93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Ocean Color (MOD18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6880" indent="-326880">
              <a:lnSpc>
                <a:spcPct val="93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Sea Surface Temperature (MOD28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6880" indent="-326880">
              <a:lnSpc>
                <a:spcPct val="93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Sea Ice (MOD29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6880" indent="-326880">
              <a:lnSpc>
                <a:spcPct val="93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Cloud Mask (MOD35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6880" indent="-326880">
              <a:lnSpc>
                <a:spcPct val="93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Also Multiday composites of above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6689880" y="1274760"/>
            <a:ext cx="245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ote that each data set product may contain a few to many vari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79800" y="1335240"/>
            <a:ext cx="2583000" cy="2582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561000" y="2546280"/>
            <a:ext cx="2583000" cy="2583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332240" y="3833640"/>
            <a:ext cx="2603520" cy="28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10960" y="274320"/>
            <a:ext cx="6675480" cy="7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System Desig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2287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352680" y="1596960"/>
            <a:ext cx="5791320" cy="4659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04920" y="1093680"/>
            <a:ext cx="3090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12840" indent="-31284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12840"/>
                <a:tab algn="l" pos="770040"/>
                <a:tab algn="l" pos="1227240"/>
                <a:tab algn="l" pos="1684440"/>
                <a:tab algn="l" pos="2141640"/>
                <a:tab algn="l" pos="2598840"/>
                <a:tab algn="l" pos="3056040"/>
                <a:tab algn="l" pos="3513240"/>
                <a:tab algn="l" pos="3970440"/>
                <a:tab algn="l" pos="4427640"/>
                <a:tab algn="l" pos="4884840"/>
                <a:tab algn="l" pos="5342040"/>
                <a:tab algn="l" pos="5799240"/>
                <a:tab algn="l" pos="6256440"/>
                <a:tab algn="l" pos="6713640"/>
                <a:tab algn="l" pos="7170840"/>
                <a:tab algn="l" pos="7628040"/>
                <a:tab algn="l" pos="8085240"/>
                <a:tab algn="l" pos="8542440"/>
                <a:tab algn="l" pos="8999640"/>
                <a:tab algn="l" pos="9456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User-driven publish/subscrib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255600">
              <a:lnSpc>
                <a:spcPct val="104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312840"/>
                <a:tab algn="l" pos="770040"/>
                <a:tab algn="l" pos="1227240"/>
                <a:tab algn="l" pos="1684440"/>
                <a:tab algn="l" pos="2141640"/>
                <a:tab algn="l" pos="2598840"/>
                <a:tab algn="l" pos="3056040"/>
                <a:tab algn="l" pos="3513240"/>
                <a:tab algn="l" pos="3970440"/>
                <a:tab algn="l" pos="4427640"/>
                <a:tab algn="l" pos="4884840"/>
                <a:tab algn="l" pos="5342040"/>
                <a:tab algn="l" pos="5799240"/>
                <a:tab algn="l" pos="6256440"/>
                <a:tab algn="l" pos="6713640"/>
                <a:tab algn="l" pos="7170840"/>
                <a:tab algn="l" pos="7628040"/>
                <a:tab algn="l" pos="8085240"/>
                <a:tab algn="l" pos="8542440"/>
                <a:tab algn="l" pos="8999640"/>
                <a:tab algn="l" pos="94568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Dynamic data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255600">
              <a:lnSpc>
                <a:spcPct val="104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312840"/>
                <a:tab algn="l" pos="770040"/>
                <a:tab algn="l" pos="1227240"/>
                <a:tab algn="l" pos="1684440"/>
                <a:tab algn="l" pos="2141640"/>
                <a:tab algn="l" pos="2598840"/>
                <a:tab algn="l" pos="3056040"/>
                <a:tab algn="l" pos="3513240"/>
                <a:tab algn="l" pos="3970440"/>
                <a:tab algn="l" pos="4427640"/>
                <a:tab algn="l" pos="4884840"/>
                <a:tab algn="l" pos="5342040"/>
                <a:tab algn="l" pos="5799240"/>
                <a:tab algn="l" pos="6256440"/>
                <a:tab algn="l" pos="6713640"/>
                <a:tab algn="l" pos="7170840"/>
                <a:tab algn="l" pos="7628040"/>
                <a:tab algn="l" pos="8085240"/>
                <a:tab algn="l" pos="8542440"/>
                <a:tab algn="l" pos="8999640"/>
                <a:tab algn="l" pos="94568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User specifies, controls, and receives custom-tailore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255600">
              <a:lnSpc>
                <a:spcPct val="104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312840"/>
                <a:tab algn="l" pos="770040"/>
                <a:tab algn="l" pos="1227240"/>
                <a:tab algn="l" pos="1684440"/>
                <a:tab algn="l" pos="2141640"/>
                <a:tab algn="l" pos="2598840"/>
                <a:tab algn="l" pos="3056040"/>
                <a:tab algn="l" pos="3513240"/>
                <a:tab algn="l" pos="3970440"/>
                <a:tab algn="l" pos="4427640"/>
                <a:tab algn="l" pos="4884840"/>
                <a:tab algn="l" pos="5342040"/>
                <a:tab algn="l" pos="5799240"/>
                <a:tab algn="l" pos="6256440"/>
                <a:tab algn="l" pos="6713640"/>
                <a:tab algn="l" pos="7170840"/>
                <a:tab algn="l" pos="7628040"/>
                <a:tab algn="l" pos="8085240"/>
                <a:tab algn="l" pos="8542440"/>
                <a:tab algn="l" pos="8999640"/>
                <a:tab algn="l" pos="94568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Continuous data updates in near-real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255600">
              <a:lnSpc>
                <a:spcPct val="104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312840"/>
                <a:tab algn="l" pos="770040"/>
                <a:tab algn="l" pos="1227240"/>
                <a:tab algn="l" pos="1684440"/>
                <a:tab algn="l" pos="2141640"/>
                <a:tab algn="l" pos="2598840"/>
                <a:tab algn="l" pos="3056040"/>
                <a:tab algn="l" pos="3513240"/>
                <a:tab algn="l" pos="3970440"/>
                <a:tab algn="l" pos="4427640"/>
                <a:tab algn="l" pos="4884840"/>
                <a:tab algn="l" pos="5342040"/>
                <a:tab algn="l" pos="5799240"/>
                <a:tab algn="l" pos="6256440"/>
                <a:tab algn="l" pos="6713640"/>
                <a:tab algn="l" pos="7170840"/>
                <a:tab algn="l" pos="7628040"/>
                <a:tab algn="l" pos="8085240"/>
                <a:tab algn="l" pos="8542440"/>
                <a:tab algn="l" pos="8999640"/>
                <a:tab algn="l" pos="94568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Multiple ways to access the 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104000"/>
              </a:lnSpc>
              <a:spcBef>
                <a:spcPts val="349"/>
              </a:spcBef>
              <a:tabLst>
                <a:tab algn="l" pos="0"/>
                <a:tab algn="l" pos="312840"/>
                <a:tab algn="l" pos="770040"/>
                <a:tab algn="l" pos="1227240"/>
                <a:tab algn="l" pos="1684440"/>
                <a:tab algn="l" pos="2141640"/>
                <a:tab algn="l" pos="2598840"/>
                <a:tab algn="l" pos="3056040"/>
                <a:tab algn="l" pos="3513240"/>
                <a:tab algn="l" pos="3970440"/>
                <a:tab algn="l" pos="4427640"/>
                <a:tab algn="l" pos="4884840"/>
                <a:tab algn="l" pos="5342040"/>
                <a:tab algn="l" pos="5799240"/>
                <a:tab algn="l" pos="6256440"/>
                <a:tab algn="l" pos="6713640"/>
                <a:tab algn="l" pos="7170840"/>
                <a:tab algn="l" pos="7628040"/>
                <a:tab algn="l" pos="8085240"/>
                <a:tab algn="l" pos="8542440"/>
                <a:tab algn="l" pos="8999640"/>
                <a:tab algn="l" pos="94568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77680" y="217440"/>
            <a:ext cx="716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20840" y="625320"/>
            <a:ext cx="8408880" cy="57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77680" y="217440"/>
            <a:ext cx="716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Satellite Data Subscrip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9160" y="5464080"/>
            <a:ext cx="8737560" cy="71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819000"/>
            <a:ext cx="91440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Data Subscrip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2840" indent="-312840">
              <a:lnSpc>
                <a:spcPct val="104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Web portal based user interface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55600">
              <a:lnSpc>
                <a:spcPct val="94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Choice list based option selection 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12800" indent="-255600">
              <a:lnSpc>
                <a:spcPct val="94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Options include – Satellite, Coverage area, Data product, Projection type and Data format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12800" indent="-255600">
              <a:lnSpc>
                <a:spcPct val="94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Ability to select date range for subscription validity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12800" indent="-255600">
              <a:lnSpc>
                <a:spcPct val="94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User-driven product choice expansion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12800" indent="-255600">
              <a:lnSpc>
                <a:spcPct val="94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Individual user-based subscriptions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marL="312840" indent="-312840">
              <a:lnSpc>
                <a:spcPct val="104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User-initiated data production 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55600">
              <a:lnSpc>
                <a:spcPct val="94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Data products generated only when some user is subscribed to the product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12800" indent="-255600">
              <a:lnSpc>
                <a:spcPct val="94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Data production automatically turned off when no active subscription exists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Data Notific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8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6880" indent="-326880">
              <a:lnSpc>
                <a:spcPct val="87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Push-based notifications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5560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Near real-time delivery of new data notification through email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12800" indent="-25560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Implemented by automatically invoking a web-service from the processing cluster when new data is available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12800" indent="-25560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Subscription database used to query active subscriptions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marL="326880" indent="-326880">
              <a:lnSpc>
                <a:spcPct val="87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Data delivery mechanism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5560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Data scp’ed from processing cluster to webserver-accessible storage space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12800" indent="-25560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Thumbnail generated for images to provide a quick look feature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12800" indent="-25560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Link to the webserver data location provided in the notification email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marL="32688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26880" indent="0" algn="ctr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26880" indent="0" algn="ctr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26880" indent="0" algn="ctr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1906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77680" y="217440"/>
            <a:ext cx="716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Sequential Processing of Radar Data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760" y="1071360"/>
            <a:ext cx="8820360" cy="296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  <a:ea typeface="宋体"/>
              </a:rPr>
              <a:t>We use 3D-Texture based volume rendering for high-quality visualization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  <a:ea typeface="宋体"/>
              </a:rPr>
              <a:t>To ensure efficient volume rendering, all data is resample into a 3D rectilinear grid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  <a:ea typeface="宋体"/>
              </a:rPr>
              <a:t>Global spherical coordinates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  <a:ea typeface="宋体"/>
              </a:rPr>
              <a:t>RSL stores local coordinates (azimuth, elevation and range ) with the origin at location of each station.</a:t>
            </a:r>
            <a:endParaRPr b="0" lang="en-US" sz="1600" spc="-1" strike="noStrike">
              <a:solidFill>
                <a:srgbClr val="cc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  <a:ea typeface="宋体"/>
              </a:rPr>
              <a:t>To combine multiple stations, all local coordinates are converted to global spherical coordinates ( latitude, longitude and altitude )</a:t>
            </a:r>
            <a:endParaRPr b="0" lang="en-US" sz="1600" spc="-1" strike="noStrike">
              <a:solidFill>
                <a:srgbClr val="cc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  <a:ea typeface="宋体"/>
              </a:rPr>
              <a:t>Interpolation based on time-stamps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  <a:ea typeface="宋体"/>
              </a:rPr>
              <a:t>Since different radars are operated at different tempos, the files are interpolated based on time-stamps. </a:t>
            </a:r>
            <a:endParaRPr b="0" lang="en-US" sz="1600" spc="-1" strike="noStrike">
              <a:solidFill>
                <a:srgbClr val="cc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  <a:ea typeface="宋体"/>
              </a:rPr>
              <a:t>Averaging redundant data samples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  <a:ea typeface="宋体"/>
              </a:rPr>
              <a:t>The areas where different radars intersect, the radar reflectivity values are averaged.</a:t>
            </a:r>
            <a:endParaRPr b="0" lang="en-US" sz="16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2200" y="4192560"/>
            <a:ext cx="5435640" cy="2232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811840" y="4921200"/>
            <a:ext cx="30592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D 256x256x128 grid structure and bounding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77680" y="217440"/>
            <a:ext cx="716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Data Access API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9160" y="1154160"/>
            <a:ext cx="87375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  <a:ea typeface="宋体"/>
              </a:rPr>
              <a:t>We developed a library API called </a:t>
            </a:r>
            <a:r>
              <a:rPr b="0" i="1" lang="en-US" sz="2400" spc="-1" strike="noStrike">
                <a:solidFill>
                  <a:srgbClr val="000099"/>
                </a:solidFill>
                <a:latin typeface="Tahoma"/>
                <a:ea typeface="宋体"/>
              </a:rPr>
              <a:t>RadarSetLib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  <a:ea typeface="宋体"/>
              </a:rPr>
              <a:t> that provides a programmatic access to retrieve any desired file available in SRB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  <a:ea typeface="宋体"/>
              </a:rPr>
              <a:t>The important part of our API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ahoma"/>
                <a:ea typeface="宋体"/>
              </a:rPr>
              <a:t>buildDataList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  <a:ea typeface="宋体"/>
              </a:rPr>
              <a:t> - retrieves all the matching file names for a particular station and a time period.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ahoma"/>
                <a:ea typeface="宋体"/>
              </a:rPr>
              <a:t>getOldestFileName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  <a:ea typeface="宋体"/>
              </a:rPr>
              <a:t> - retrieves the oldest file name available for a given station.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ahoma"/>
                <a:ea typeface="宋体"/>
              </a:rPr>
              <a:t>getRadarFile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  <a:ea typeface="宋体"/>
              </a:rPr>
              <a:t> - retrieves the radar file from SRB with or without uncompressing.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ahoma"/>
                <a:ea typeface="宋体"/>
              </a:rPr>
              <a:t>readRadar - 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  <a:ea typeface="宋体"/>
              </a:rPr>
              <a:t>retrieves the radar data file from SRB,  uncompresses it, and then stores the converted data to a </a:t>
            </a:r>
            <a:r>
              <a:rPr b="0" i="1" lang="en-US" sz="2400" spc="-1" strike="noStrike">
                <a:solidFill>
                  <a:srgbClr val="cc0000"/>
                </a:solidFill>
                <a:latin typeface="Tahoma"/>
                <a:ea typeface="宋体"/>
              </a:rPr>
              <a:t>Radar 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  <a:ea typeface="宋体"/>
              </a:rPr>
              <a:t>structure in memory using RSL.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77680" y="217440"/>
            <a:ext cx="71658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Next Generation Radar (NEXRAD) Level II Data  Weather Surveillance Radar (WSR-88D)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4440" y="1201680"/>
            <a:ext cx="8756640" cy="287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6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This data contains a very fine temporal and spatial resolution of three attributes: </a:t>
            </a:r>
            <a:r>
              <a:rPr b="1" i="1" lang="en-GB" sz="2000" spc="-1" strike="noStrike">
                <a:solidFill>
                  <a:srgbClr val="000099"/>
                </a:solidFill>
                <a:latin typeface="Tahoma"/>
              </a:rPr>
              <a:t>reflectivity, Doppler radial velocity and spectrum width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6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These attributes are vital to understanding, monitoring and predicting severe weather conditions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6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There are </a:t>
            </a:r>
            <a:r>
              <a:rPr b="0" i="1" lang="en-GB" sz="2000" spc="-1" strike="noStrike">
                <a:solidFill>
                  <a:srgbClr val="000099"/>
                </a:solidFill>
                <a:latin typeface="Tahoma"/>
              </a:rPr>
              <a:t>135 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 Radar Stations in the US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6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Continuously received in near real-time, streaming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781680" y="2859120"/>
            <a:ext cx="2362320" cy="2268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73480" y="4118040"/>
            <a:ext cx="2938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oppler Radar Tower in Connecticut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Pulsed Doppler Radar in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71760" y="5551560"/>
            <a:ext cx="2799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cknowledgment: Figures are downloaded from websites www.CCSU.edu and www.answers.c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324480" y="4290840"/>
            <a:ext cx="2048040" cy="2203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092240" y="4138560"/>
            <a:ext cx="194796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77680" y="217440"/>
            <a:ext cx="716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NEXRAD II Data Gener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840" y="956880"/>
            <a:ext cx="8712000" cy="30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  <a:ea typeface="宋体"/>
              </a:rPr>
              <a:t>3D structure in Radar Data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宋体"/>
              </a:rPr>
              <a:t>Continuous rotation over 360° in azimuth 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宋体"/>
              </a:rPr>
              <a:t>Simultaneous increase in elevation by 1° to 3°per complete sweep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  <a:ea typeface="宋体"/>
              </a:rPr>
              <a:t>Continuous NEXRAD Level II radar data stream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宋体"/>
              </a:rPr>
              <a:t>Data files vary in size: a few MB to tens of MB each, depending on the weather conditions. 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宋体"/>
              </a:rPr>
              <a:t>Data compressed with a modified bzip2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宋体"/>
              </a:rPr>
              <a:t>The temporal resolution is 4-5 minutes in severe weather vs. 9-10 minutes in calm weather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82520" y="4214880"/>
            <a:ext cx="4292640" cy="2047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535720" y="4923000"/>
            <a:ext cx="25002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tructure of Doppler Radar Data (Reflectivity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22240" y="-360"/>
            <a:ext cx="7421400" cy="94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NEXRAD II Data Distribu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9160" y="979560"/>
            <a:ext cx="8737560" cy="562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The National Climatic Data Center (NCDC) houses the data and provides a central clearinghouse of archived Level II data as a resource to the research, teaching, and technology development communities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Distributed through four top tier distributor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Purdue makes it available on the NSF TeraGrid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Opportunity!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ahoma"/>
              </a:rPr>
              <a:t>The near real-time availability of high-resolution radar data provides an exciting opportunity for meteorologists if the data can be accessed and visualized in 3D in a timely manner.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ahoma"/>
              </a:rPr>
              <a:t>Super res data becoming available as we speak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77680" y="217440"/>
            <a:ext cx="716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Technical Challeng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9160" y="903240"/>
            <a:ext cx="8737560" cy="52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Tahoma"/>
              </a:rPr>
              <a:t>Large volume and real-time streaming</a:t>
            </a: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 (50 MB/s) presents major computational and data management challenges.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Tahoma"/>
              </a:rPr>
              <a:t>Super Res</a:t>
            </a: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 data: even larger data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PER RESOLUTION DATA INCREASE THE AZIMUTH RESOLUTION FROM 1 DEGREE TO 0.5 DEGREE. 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FLECTIVITY DATA RANGE RESOLUTION FROM 1 KM TO 0.25 KM...AND DOPPLER DATA RANGE FROM 230 KM TO 300 KM FOR SPLIT CUTS...GENERALLY SCANS AT 1.5 DEGREES OR LOWER ELEVATION. 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MOUNT OF DATA COLLECTED AND TRANSMITTED DURING A VOLUME SCAN WILL INCREASE BY A FACTOR OF APPROXIMATELY 2.3.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  <a:p>
            <a:pPr marL="343080" indent="-343080">
              <a:lnSpc>
                <a:spcPct val="116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Tahoma"/>
              </a:rPr>
              <a:t>Lack of scale</a:t>
            </a:r>
            <a:r>
              <a:rPr b="1" lang="en-GB" sz="1800" spc="-1" strike="noStrike">
                <a:solidFill>
                  <a:srgbClr val="000099"/>
                </a:solidFill>
                <a:latin typeface="Tahoma"/>
              </a:rPr>
              <a:t>:</a:t>
            </a: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 Analyzing data over a long period or large geographical region requires heavy computation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6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Tahoma"/>
              </a:rPr>
              <a:t>Lack of interactive 3D visualizations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ahoma"/>
              </a:rPr>
              <a:t>Despite the availability of 3D information in the new generation, the data is most commonly visualized as 2D images, simple 3D Point clouds or iso-surfaces.</a:t>
            </a:r>
            <a:endParaRPr b="0" lang="en-US" sz="1800" spc="-1" strike="noStrike">
              <a:solidFill>
                <a:srgbClr val="cc0000"/>
              </a:solidFill>
              <a:latin typeface="Tahoma"/>
            </a:endParaRPr>
          </a:p>
          <a:p>
            <a:pPr marL="343080" indent="-343080">
              <a:lnSpc>
                <a:spcPct val="116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Tahoma"/>
              </a:rPr>
              <a:t>Access Method: D</a:t>
            </a: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ownload using FTP/HTTP and no programmatic access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6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Tahoma"/>
              </a:rPr>
              <a:t>Data Format:</a:t>
            </a: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 compressed (modified bzip2) but not supported by popular libraries (eg RSL)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77680" y="217440"/>
            <a:ext cx="716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NEXRAD data produc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9160" y="1154160"/>
            <a:ext cx="87375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Online data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original streamed data from NWS (compressed), searchable from map and downloadable, most recent months.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Special event data (severe weather events)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Data services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Uncompressed data (through data services)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Variable values (e.g., reflectivity, radial velocity)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Pre-generated 3D volumes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Access methods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Data portal</a:t>
            </a:r>
            <a:endParaRPr b="0" lang="en-US" sz="1800" spc="-1" strike="noStrike">
              <a:solidFill>
                <a:srgbClr val="cc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THREDDS, OPeNDAP</a:t>
            </a:r>
            <a:endParaRPr b="0" lang="en-US" sz="1800" spc="-1" strike="noStrike">
              <a:solidFill>
                <a:srgbClr val="cc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Third party viewers (e.g., IDV, Java NEXRAD viewer)</a:t>
            </a:r>
            <a:endParaRPr b="0" lang="en-US" sz="1800" spc="-1" strike="noStrike">
              <a:solidFill>
                <a:srgbClr val="cc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Programming interfaces APIs (C++ library)</a:t>
            </a:r>
            <a:endParaRPr b="0" lang="en-US" sz="1800" spc="-1" strike="noStrike">
              <a:solidFill>
                <a:srgbClr val="cc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New: near real-time, interactive 3D visualization</a:t>
            </a:r>
            <a:endParaRPr b="0" lang="en-US" sz="18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77680" y="217440"/>
            <a:ext cx="716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An End-to-End Integrated System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8360" y="830160"/>
            <a:ext cx="4214880" cy="538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  <a:ea typeface="宋体"/>
              </a:rPr>
              <a:t>Three important components: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  <a:ea typeface="宋体"/>
              </a:rPr>
              <a:t>Data Management</a:t>
            </a:r>
            <a:endParaRPr b="0" lang="en-US" sz="1800" spc="-1" strike="noStrike">
              <a:solidFill>
                <a:srgbClr val="cc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66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  <a:ea typeface="宋体"/>
              </a:rPr>
              <a:t>Download required files from SRB and uncompress using modified bzip2</a:t>
            </a:r>
            <a:endParaRPr b="0" lang="en-US" sz="1600" spc="-1" strike="noStrike">
              <a:solidFill>
                <a:srgbClr val="66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  <a:ea typeface="宋体"/>
              </a:rPr>
              <a:t>Data Processing</a:t>
            </a:r>
            <a:endParaRPr b="0" lang="en-US" sz="1800" spc="-1" strike="noStrike">
              <a:solidFill>
                <a:srgbClr val="cc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66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  <a:ea typeface="宋体"/>
              </a:rPr>
              <a:t>Read the radar files using RSL</a:t>
            </a:r>
            <a:endParaRPr b="0" lang="en-US" sz="1600" spc="-1" strike="noStrike">
              <a:solidFill>
                <a:srgbClr val="660066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66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  <a:ea typeface="宋体"/>
              </a:rPr>
              <a:t>Process the data from multiple sites </a:t>
            </a:r>
            <a:endParaRPr b="0" lang="en-US" sz="1600" spc="-1" strike="noStrike">
              <a:solidFill>
                <a:srgbClr val="660066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66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  <a:ea typeface="宋体"/>
              </a:rPr>
              <a:t>Convert them into render-able 3D volumes</a:t>
            </a:r>
            <a:endParaRPr b="0" lang="en-US" sz="1600" spc="-1" strike="noStrike">
              <a:solidFill>
                <a:srgbClr val="66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  <a:ea typeface="宋体"/>
              </a:rPr>
              <a:t>Visualization/Data Rendering</a:t>
            </a:r>
            <a:endParaRPr b="0" lang="en-US" sz="1800" spc="-1" strike="noStrike">
              <a:solidFill>
                <a:srgbClr val="cc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66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  <a:ea typeface="宋体"/>
              </a:rPr>
              <a:t>Import the volumetric data from the disk.</a:t>
            </a:r>
            <a:endParaRPr b="0" lang="en-US" sz="1600" spc="-1" strike="noStrike">
              <a:solidFill>
                <a:srgbClr val="660066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66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  <a:ea typeface="宋体"/>
              </a:rPr>
              <a:t>Create 3D textures and slices and apply the texture-based volume-rendering techniques.</a:t>
            </a:r>
            <a:endParaRPr b="0" lang="en-US" sz="1600" spc="-1" strike="noStrike">
              <a:solidFill>
                <a:srgbClr val="660066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66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  <a:ea typeface="宋体"/>
              </a:rPr>
              <a:t>Utilize transfer functions to render the data on GPU.</a:t>
            </a:r>
            <a:endParaRPr b="0" lang="en-US" sz="1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460760" y="781200"/>
            <a:ext cx="4498920" cy="51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77680" y="217440"/>
            <a:ext cx="716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Sequential Data Processing and Rendering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"/>
          <p:cNvSpPr/>
          <p:nvPr/>
        </p:nvSpPr>
        <p:spPr>
          <a:xfrm>
            <a:off x="353880" y="3149640"/>
            <a:ext cx="29275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flow chart of data processing and ren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790800" y="730080"/>
            <a:ext cx="3940200" cy="5774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22T17:47:22Z</dcterms:created>
  <dc:creator>Center for Reliable and High-performance Computing</dc:creator>
  <dc:description/>
  <cp:keywords/>
  <dc:language>en-US</dc:language>
  <cp:lastModifiedBy>Carol X. Song</cp:lastModifiedBy>
  <cp:lastPrinted>2000-04-05T22:40:32Z</cp:lastPrinted>
  <dcterms:modified xsi:type="dcterms:W3CDTF">2008-09-23T17:47:40Z</dcterms:modified>
  <cp:revision>941</cp:revision>
  <dc:subject/>
  <dc:title>ECE 441 lecture 15</dc:title>
</cp:coreProperties>
</file>