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447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7000" y="106668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7000" y="377316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2719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24600" y="1066680"/>
            <a:ext cx="2719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0840" y="1066680"/>
            <a:ext cx="2719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719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24600" y="3773160"/>
            <a:ext cx="2719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0840" y="3773160"/>
            <a:ext cx="2719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C175C-9997-4426-AB08-CF827282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793C2-811A-40E8-A4F3-9CA749AC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B4541-303F-4D95-AF53-CEF69A72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412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7000" y="1066680"/>
            <a:ext cx="412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1E271-8728-41EA-923C-4CB311B7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B2FFE-FFB3-463E-9B0A-810AD803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6920" y="363240"/>
            <a:ext cx="7467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61B13-2E08-4DAD-B4C5-48C08ECA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7000" y="1066680"/>
            <a:ext cx="412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90A3F-D042-4B50-8479-1517ED16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412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7000" y="106668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7000" y="377316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0AA36-354C-4F1C-8949-5B77C7B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7000" y="106668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447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33F07-6C89-4644-B6BF-95B50A17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447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BFE66-F4E1-4CF3-A9D6-0F363E68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7000" y="106668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7000" y="377316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2A33B-830E-40B7-949D-8E48E521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2719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24600" y="1066680"/>
            <a:ext cx="2719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80840" y="1066680"/>
            <a:ext cx="2719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719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24600" y="3773160"/>
            <a:ext cx="2719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80840" y="3773160"/>
            <a:ext cx="2719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05076-425B-4451-9237-2AD8E97F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412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7000" y="1066680"/>
            <a:ext cx="412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26920" y="363240"/>
            <a:ext cx="7467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7000" y="1066680"/>
            <a:ext cx="412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412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7000" y="106668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7000" y="377316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277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7000" y="1066680"/>
            <a:ext cx="4122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447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6360" y="333360"/>
            <a:ext cx="1223640" cy="924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flipV="1">
            <a:off x="755640" y="926640"/>
            <a:ext cx="813744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363240"/>
            <a:ext cx="7467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720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0487-3990-4661-B036-A13DF29506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52280" y="6323760"/>
            <a:ext cx="8915400" cy="399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dfee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27640" y="6381720"/>
            <a:ext cx="44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GISS-26, Boulder Colorado, USA Sep. 22-26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5954760"/>
            <a:ext cx="1828800" cy="9032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142920" y="549360"/>
            <a:ext cx="68400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990720" y="3259800"/>
            <a:ext cx="7619760" cy="9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807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2656-EF35-4FCB-BD72-56E6310EDE2D}" type="datetime">
              <a:rPr b="0" lang="zh-CN" sz="1400" spc="-1" strike="noStrike">
                <a:solidFill>
                  <a:srgbClr val="1c1c1c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5947-79E4-439D-A6A2-055FCB778ED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8000" y="0"/>
            <a:ext cx="1407960" cy="936000"/>
            <a:chOff x="108000" y="0"/>
            <a:chExt cx="1407960" cy="9360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08000" y="0"/>
              <a:ext cx="1407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42280" y="47628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66cc"/>
                  </a:solidFill>
                  <a:latin typeface="Arial Black"/>
                </a:rPr>
                <a:t>WGI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81532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port and Recommendations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from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Technology &amp; Services Subgroup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782600"/>
            <a:ext cx="6400800" cy="13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1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u Dingshe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1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OS/WGISS-26, Boulder, CO., U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1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 22~26, 200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F99C2-6042-4B13-BBBD-6E40987DC9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63240"/>
            <a:ext cx="799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Highlights and recommendations from IG’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rid 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otential contribution to GEO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SU Flood Monitoring testbed - Relate to Disaster and Water, SB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ES international WAG Project - Relate to ADC or AIP 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RSCC Disaster EO Data Aid Action - Relate to Disaster, SB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GISS Grid experts could be deeply involved in GEOSS ADC work - Relate to AD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363240"/>
            <a:ext cx="799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Highlights and recommendations from IG’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rcRect l="23017" t="30588" r="24484" b="9739"/>
          <a:stretch/>
        </p:blipFill>
        <p:spPr>
          <a:xfrm>
            <a:off x="250920" y="1800360"/>
            <a:ext cx="8381880" cy="5057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N – Highlight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812ae"/>
                </a:solidFill>
                <a:latin typeface="Times New Roman"/>
              </a:rPr>
              <a:t>SERF Population keep growth linear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63240"/>
            <a:ext cx="799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Highlights and recommendations from IG’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N – Highligh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oth users and content statistics were presented and showed continued and growing interest in the ID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D 9.8 Released June 200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CMD Team has produced detailed Responses to all the recommendations of the Science User Working group (SUWG) with GCMD Strategic Plan FY2008-2012 and Final Response Docu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Climate Diagnostics portal was presented and appeared to be "well-received“ to support GCOS (CL-06-02-1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ntributions to the Land Surface Imaging portal were briefly repor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363240"/>
            <a:ext cx="799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Highlights and recommendations from IG’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N – Recommend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tinue to provide high-quality Earth science metadata, and active contributors to keyword development, standards definitions and the semantic we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 towards greater inclusion of NASA datase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tend metadata holdings to include popular datasets such as climate change indicato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tinue to promote the GCMD “Brand” through papers, posters et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courage the creation of provider-maintained metadata, exploiting DocBuilder and web interfac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tinue to develop Strategic Pl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363240"/>
            <a:ext cx="799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Highlights and recommendations from IG’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b Services – Highligh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stablished after WGISS-25, The Web Services Interest Group held its first meeting at WGISS-26, detailed the purpose of Web Services Interest Grou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veral presentations were made regarding strategies, plans and lessons-learned with using OGC and other Web Serv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ayout a good guidance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Web services-based SOA through USGS/EROS activities related to the re-architecting and redesigning Earth Explorer and GloVis, such approach could create a new baseline for future capabilit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est Group members also discussed ideas for continuing to engage in technical exchanges via telecons and other forums throughout the coming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363240"/>
            <a:ext cx="799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Highlights and recommendations from IG’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b Service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ummary and Recommend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e with plans to evolve EE and GloVis into SOA, Web services architec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llaborate with CEOS and US GEO interoperability effor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itiate investigations into performance mitigation approaches and 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rsue prototypes to more deeply explore Web Service implementation and performance issues and feasi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b Services are a part of the fu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363240"/>
            <a:ext cx="799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Highlights and recommendations from IG’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 consideration and discussed individua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should be service-oriented and concentrated on how to provide long term or sustainable data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may an important potential services to provide data assistance to WGISS activit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 for CEOS agencies participations and ideas to layout its objects, forms and activit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363240"/>
            <a:ext cx="7467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echnical issues and questio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ased on the requirements from GEO, Most activities are mixed technical issues and projects recent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 should be the object of IG’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Technical-oriented? Projected-oriented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 is the core technologies of GEOSS and how to make our contribution to GEO 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earinghou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GISS owned many technologies but how to make it become whole set to support a dedicated system or appl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363240"/>
            <a:ext cx="806616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commendations from Technical point of view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 to identify WGISS IGs 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roject-Oriented technology I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mote the applications of new technologies in the pro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ncentrated on the solutions of technical probl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echnology-Driven project I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mote the applications of new technologies in the pro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ncentrated on the application of mixed technolog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363240"/>
            <a:ext cx="806616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commendations from Technical point of view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GISS Structures and Meeting for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 term and short ter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 term – Technology-oriented, Services-orien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rt term – Project-orien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mes-oriented meeting – mixed technical issues and projects togeth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ch as Sensor Web D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may Web services Day (Half Day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Services Da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363240"/>
            <a:ext cx="73231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opic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6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ructure, Activities and Chang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ighlights and recommendations from IG’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echnical issues from the reports of all IG’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ecommendations from Technical point of 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363240"/>
            <a:ext cx="73231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tructure, Activities and Chang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6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urrent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ubgroup Lead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hair: Liu Dingsheng, NRSC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Vice Chair: Nataliia Kussul, NSA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est Grou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ernational Directory Network (IDN) – Lola Olsen, N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eroperable Catalog System (ICS) – Jolyon Martin, E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rid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– Li Guoqing, RSGS/NRSC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ensor Web - Terence Van Zyl, CSI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b Service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– Lyndon Oleson, USG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Data Services – Paul Kopp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363240"/>
            <a:ext cx="73231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tructure, Activities and Chang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6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tivities during WGISS-2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dividual Meet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ernational Directory Network (ID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oint Mee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ensor Web - Terence Van Zyl, CSI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nder Consideration and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Data Serv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 Activ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eroperable Catalog System (IC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363240"/>
            <a:ext cx="73231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tructure, Activities and Chang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6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ubgroup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ording to the WGISS Terms of Reference,  Dingsheng shall finish his duty at the end of WGISS-2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ataliia Kussul will be the chair started next WGISS mee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ll for volunteer as new vice chair to take his/her duty for two years and than chair for another two yea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iting for the responses from WGISS socie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363240"/>
            <a:ext cx="73231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tructure, Activities and Chang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6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erest Group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r. Shelestov Andri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Ukraine/NASU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will replace Guoqing Li as the lea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olyon Martin think that the most progress for interoperable catalogues is done through OGC and asked WGISS to consider closing ICS formal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363240"/>
            <a:ext cx="799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Highlights and recommendations from IG’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rid – Highligh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Wide Area Grid (WAG) was going forward and the draft architecture document has been delivered to review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Headed by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NASU, Ukraine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CAT-1 Project on Flood Monitoring via Grid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btain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ed many good result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China Special Information Grid (SIG) successfully applied to provide emergent metadata assistan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uring Wenchuan Earthquake based on international EO data sup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Project “Grid Technologies for Multi-Source Data Integration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started from 2008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363240"/>
            <a:ext cx="799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Highlights and recommendations from IG’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id – Recommendation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G should be one of the key concepts of WGISS technology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promote it to be WGISS key technical solution to support constellations and sensor web et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id can be used as technical basement for EO data democrac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id research could focus on the on-demand processing capa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363240"/>
            <a:ext cx="799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Highlights and recommendations from IG’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id – Recommendation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Project: CEOS Huge Disaster EO Data Aid Action (HDEDAA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 Stage:  as a WGISS project with one years peri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 Stage:  as a GEO action contributed by CE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ssibilit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GISS own the technologies, experiences and data resour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Factor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to organize CEOS agencies to give the data assistance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to establish an efficient mechanism to take fast response for the huge disaster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9:37:13Z</dcterms:created>
  <dc:creator>Liu Dingsheng</dc:creator>
  <dc:description/>
  <dc:language>en-US</dc:language>
  <cp:lastModifiedBy>Liu Dingsheng</cp:lastModifiedBy>
  <dcterms:modified xsi:type="dcterms:W3CDTF">2008-09-26T15:57:15Z</dcterms:modified>
  <cp:revision>804</cp:revision>
  <dc:subject/>
  <dc:title>遥感图像处理</dc:title>
</cp:coreProperties>
</file>