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960" y="167616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cc0000"/>
                </a:solidFill>
                <a:latin typeface="Arial"/>
                <a:ea typeface="宋体"/>
              </a:rPr>
              <a:t>IGOS Symposium Programme Committee</a:t>
            </a:r>
            <a:br>
              <a:rPr sz="3600"/>
            </a:b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976320" y="3886200"/>
            <a:ext cx="34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</a:rPr>
              <a:t>Telecon 18.09.2008</a:t>
            </a:r>
            <a:endParaRPr b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GOS Transition into GEO – Brief History</a:t>
            </a:r>
            <a:endParaRPr b="1" lang="en-US" sz="24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10/200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EOS Plenary 20 Buenos Aires – Proposal on IGOS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05/0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GOS P-14, UNESCO, Decision on Transition of Themes into G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06/07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GOS Partners letter to Themes to initiate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06/0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Letter from GEO Sec. Director welcoming Themes and invitation to discuss/solve/negotiate issues of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06/07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 09/07 Letters to all Themes by GEO Sec. and individual negot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10/0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Status Report at CEOS Plenary 21 Hawaii decision to proceed an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11/0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GOS P-14bis @ GEO IV/Ministerial Status Presentation and requested Process paper. Action to update Process from Themes perspective and decision to go for IGOS termination Resolution at P-15, plus organisation of Major Symposium honouring achievements and way-ahead under GEO umbr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10-12/0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irst Themes declare successful transition (IGWCO, IGOL, CZCP, Geo Hazards, GO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05/08 IGOS P-15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UNESCO, Resolution signed and Partnership dissolved. Agreement on a major (GEO) Symposium, emphasising the past achievement, the current activities and the future Work of the Themes under the GEO umbr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Progress of (former IGOS-) Themes</a:t>
            </a:r>
            <a:endParaRPr b="1" lang="en-US" sz="24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Ocean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5faa"/>
                </a:solidFill>
                <a:latin typeface="Arial"/>
              </a:rPr>
              <a:t>– Transitioned, Ocean United, CL-06-06, CEOS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Coastal</a:t>
            </a:r>
            <a:r>
              <a:rPr b="1" lang="en-GB" sz="2400" spc="-1" strike="noStrike">
                <a:solidFill>
                  <a:srgbClr val="005faa"/>
                </a:solidFill>
                <a:latin typeface="Arial"/>
              </a:rPr>
              <a:t> – Proceeding well, CoP active, GEOSS Workshops in all Caucuses, P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Water</a:t>
            </a:r>
            <a:r>
              <a:rPr b="1" lang="en-GB" sz="2400" spc="-1" strike="noStrike">
                <a:solidFill>
                  <a:srgbClr val="005faa"/>
                </a:solidFill>
                <a:latin typeface="Arial"/>
              </a:rPr>
              <a:t> – Strong links to GEO Water tasks, Formal decision 2007, link in-situ and space, HARO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Cryosphere</a:t>
            </a:r>
            <a:r>
              <a:rPr b="1" lang="en-GB" sz="2400" spc="-1" strike="noStrike">
                <a:solidFill>
                  <a:srgbClr val="005faa"/>
                </a:solidFill>
                <a:latin typeface="Arial"/>
              </a:rPr>
              <a:t> – WMO covering report, GCW, IPY Legacy Task CL-06-05, Joint Legacy Workshop GEO-W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Land</a:t>
            </a:r>
            <a:r>
              <a:rPr b="1" lang="en-GB" sz="2400" spc="-1" strike="noStrike">
                <a:solidFill>
                  <a:srgbClr val="005faa"/>
                </a:solidFill>
                <a:latin typeface="Arial"/>
              </a:rPr>
              <a:t> – Report (GEOSS oriented) available 05/08, Focus on AG-07-03 Global AG monitoring GAM secretariat in India, link to Food Risk (WMO involv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GeoHazards </a:t>
            </a:r>
            <a:r>
              <a:rPr b="1" lang="en-GB" sz="2400" spc="-1" strike="noStrike">
                <a:solidFill>
                  <a:srgbClr val="005faa"/>
                </a:solidFill>
                <a:latin typeface="Arial"/>
              </a:rPr>
              <a:t>– Lead DI-06-03 &amp; DI-06-07, CoP active. New proposal: Super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Atmosphere</a:t>
            </a:r>
            <a:r>
              <a:rPr b="1" lang="en-GB" sz="2400" spc="-1" strike="noStrike">
                <a:solidFill>
                  <a:srgbClr val="005faa"/>
                </a:solidFill>
                <a:latin typeface="Arial"/>
              </a:rPr>
              <a:t> – Implementation through GAW. 4 Offices, Ozone first, others to 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Carbon</a:t>
            </a:r>
            <a:r>
              <a:rPr b="1" lang="en-GB" sz="2400" spc="-1" strike="noStrike">
                <a:solidFill>
                  <a:srgbClr val="005faa"/>
                </a:solidFill>
                <a:latin typeface="Arial"/>
              </a:rPr>
              <a:t> – EC-06-01 Integrated Carbon Observing System OCO/Gosat? Office? – only “problem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GEO - IGOS-Theme” Symposium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5faa"/>
                </a:solidFill>
                <a:latin typeface="Arial"/>
              </a:rPr>
              <a:t>Objectives/Purpose of Symposium</a:t>
            </a:r>
            <a:endParaRPr b="1" lang="en-US" sz="24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91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 advances of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gl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servational capabilities for societal benefit over the past decade and address science challenges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better decision making through improved observation and gain support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 and celebrate past IGOS-Theme accomplishments and lessons learned (including recognition of role of IGOS Partn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shift in emphasis for future, from observational requirements to sustained implementation of GE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present landscape and Theme interaction with GEO (Committee participation, Work Plan contributions, establishment of Communities of Pract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"/>
          <p:cNvSpPr/>
          <p:nvPr/>
        </p:nvSpPr>
        <p:spPr>
          <a:xfrm>
            <a:off x="304920" y="685800"/>
            <a:ext cx="8839080" cy="66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ahoma"/>
              </a:rPr>
              <a:t>“</a:t>
            </a:r>
            <a:r>
              <a:rPr b="1" lang="en-GB" sz="2400" spc="-1" strike="noStrike">
                <a:solidFill>
                  <a:srgbClr val="cc0000"/>
                </a:solidFill>
                <a:latin typeface="Tahoma"/>
              </a:rPr>
              <a:t>GEO - IGOS-Theme” Symposium 2009 - ctd</a:t>
            </a:r>
            <a:br>
              <a:rPr sz="2400"/>
            </a:br>
            <a:endParaRPr b="1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faa"/>
                </a:solidFill>
                <a:latin typeface="Tahoma"/>
              </a:rPr>
              <a:t>Venu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o-location with GEO-VI (2 days before)</a:t>
            </a: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faa"/>
                </a:solidFill>
                <a:latin typeface="Tahoma"/>
              </a:rPr>
              <a:t>Organisation Committee</a:t>
            </a: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GEO Secretariat</a:t>
            </a: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Former IGOS Partners</a:t>
            </a: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ocal Organisers</a:t>
            </a: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faa"/>
                </a:solidFill>
                <a:latin typeface="Tahoma"/>
              </a:rPr>
              <a:t>Programme Committee (invitations issued 06/08)</a:t>
            </a: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hair: Greg Withee (US-GEO) </a:t>
            </a: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Former IGOS Partners</a:t>
            </a: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Theme Leaders and CoP leads</a:t>
            </a: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GEO Secretariat </a:t>
            </a: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GEO User Interface and Science and Technology Committees (representatives)</a:t>
            </a: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faa"/>
                </a:solidFill>
                <a:latin typeface="Tahoma"/>
              </a:rPr>
              <a:t>Draft agenda already being designed</a:t>
            </a:r>
            <a:br>
              <a:rPr sz="2000"/>
            </a:b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faa"/>
                </a:solidFill>
                <a:latin typeface="Tahoma"/>
              </a:rPr>
              <a:t>Publication – various possibilities aired</a:t>
            </a: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  <a:ea typeface="宋体"/>
              </a:rPr>
              <a:t>Thank you!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4:15:52Z</dcterms:created>
  <dc:creator>Imraan Saloojee</dc:creator>
  <dc:description/>
  <dc:language>en-US</dc:language>
  <cp:lastModifiedBy>lyonjohn</cp:lastModifiedBy>
  <dcterms:modified xsi:type="dcterms:W3CDTF">2008-09-20T12:26:10Z</dcterms:modified>
  <cp:revision>184</cp:revision>
  <dc:subject/>
  <dc:title>GEO and GEOSS…….</dc:title>
</cp:coreProperties>
</file>