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7A3B-B5A1-4169-9B69-36A67DAA9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rmative annexes are mandatory and are considered be a part of the standard.  One has to follow normative annexes to claim compliance with the standard.  Informative annexes give you information.  They are there as a service, for information only, but don’t carry any mandate for the user of the standa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35040" y="380484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17720" y="12441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5040" y="380484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17720" y="380484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63040" y="124416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890680" y="124416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35040" y="380484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63040" y="380484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890680" y="380484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35040" y="12441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7720" y="124416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20268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17720" y="124416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040" y="380484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35040" y="12441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12441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17720" y="380484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17720" y="12441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5040" y="380484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35040" y="380484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17720" y="12441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5040" y="380484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17720" y="380484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63040" y="124416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890680" y="124416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35040" y="380484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63040" y="380484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890680" y="380484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7720" y="124416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0268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7720" y="124416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80484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7720" y="12441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17720" y="380484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7720" y="12441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040" y="380484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5040" y="12441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502480" y="6494400"/>
            <a:ext cx="6415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 </a:t>
            </a:r>
            <a:fld id="{6E839FD5-D364-4266-B9F5-B0B08C98BB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5000" y="927000"/>
            <a:ext cx="76932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0080" y="6097680"/>
            <a:ext cx="1976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CS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800" spc="-1" strike="noStrike">
                <a:solidFill>
                  <a:srgbClr val="000099"/>
                </a:solidFill>
                <a:latin typeface="Times New Roman"/>
              </a:rPr>
              <a:t>Center for Spatial Information Science and Systems, George Mason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71600" y="6583320"/>
            <a:ext cx="6484680" cy="18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39560" y="6502320"/>
            <a:ext cx="681228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3880" y="982800"/>
            <a:ext cx="7961400" cy="14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2857680"/>
            <a:ext cx="9144000" cy="965160"/>
            <a:chOff x="0" y="2857680"/>
            <a:chExt cx="9144000" cy="965160"/>
          </a:xfrm>
        </p:grpSpPr>
        <p:sp>
          <p:nvSpPr>
            <p:cNvPr id="9" name=""/>
            <p:cNvSpPr/>
            <p:nvPr/>
          </p:nvSpPr>
          <p:spPr>
            <a:xfrm>
              <a:off x="0" y="2857680"/>
              <a:ext cx="60181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2857680"/>
              <a:ext cx="914400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0" y="2857680"/>
            <a:ext cx="9144000" cy="965160"/>
            <a:chOff x="0" y="2857680"/>
            <a:chExt cx="9144000" cy="965160"/>
          </a:xfrm>
        </p:grpSpPr>
        <p:sp>
          <p:nvSpPr>
            <p:cNvPr id="12" name=""/>
            <p:cNvSpPr/>
            <p:nvPr/>
          </p:nvSpPr>
          <p:spPr>
            <a:xfrm>
              <a:off x="0" y="2857680"/>
              <a:ext cx="60181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2857680"/>
              <a:ext cx="914400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4880" cy="97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02480" y="6494400"/>
            <a:ext cx="6415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 </a:t>
            </a:r>
            <a:fld id="{EEEE95F7-97E3-4EF8-9BF9-0970A57728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5000" y="927000"/>
            <a:ext cx="76932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0080" y="6097680"/>
            <a:ext cx="197640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CSISS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99"/>
                </a:solidFill>
                <a:latin typeface="Times New Roman"/>
              </a:rPr>
              <a:t>Center for Spatial Information Science and Systems, George Mason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00" y="6583320"/>
            <a:ext cx="6484680" cy="18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9560" y="6502320"/>
            <a:ext cx="681228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3880" y="982800"/>
            <a:ext cx="7961400" cy="14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2857680"/>
            <a:ext cx="9144000" cy="965160"/>
            <a:chOff x="0" y="2857680"/>
            <a:chExt cx="9144000" cy="965160"/>
          </a:xfrm>
        </p:grpSpPr>
        <p:sp>
          <p:nvSpPr>
            <p:cNvPr id="59" name=""/>
            <p:cNvSpPr/>
            <p:nvPr/>
          </p:nvSpPr>
          <p:spPr>
            <a:xfrm>
              <a:off x="0" y="2857680"/>
              <a:ext cx="60181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857680"/>
              <a:ext cx="914400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0" y="2857680"/>
            <a:ext cx="9144000" cy="965160"/>
            <a:chOff x="0" y="2857680"/>
            <a:chExt cx="9144000" cy="965160"/>
          </a:xfrm>
        </p:grpSpPr>
        <p:sp>
          <p:nvSpPr>
            <p:cNvPr id="62" name=""/>
            <p:cNvSpPr/>
            <p:nvPr/>
          </p:nvSpPr>
          <p:spPr>
            <a:xfrm>
              <a:off x="0" y="2857680"/>
              <a:ext cx="60181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2857680"/>
              <a:ext cx="914400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4880" cy="974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ldi@gmu.edu" TargetMode="External"/><Relationship Id="rId2" Type="http://schemas.openxmlformats.org/officeDocument/2006/relationships/hyperlink" Target="mailto:Karen.Moe@nasa.gov" TargetMode="External"/><Relationship Id="rId3" Type="http://schemas.openxmlformats.org/officeDocument/2006/relationships/hyperlink" Target="mailto:ldi@gmu.edu" TargetMode="External"/><Relationship Id="rId4" Type="http://schemas.openxmlformats.org/officeDocument/2006/relationships/hyperlink" Target="mailto:Karen.Moe@nasa.gov" TargetMode="External"/><Relationship Id="rId5" Type="http://schemas.openxmlformats.org/officeDocument/2006/relationships/hyperlink" Target="mailto:Rama.Ramapriyan@nasa.gov" TargetMode="External"/><Relationship Id="rId6" Type="http://schemas.openxmlformats.org/officeDocument/2006/relationships/hyperlink" Target="mailto:francis.lindsay-1@nasa.gov" TargetMode="External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eoinformatics2009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 Introduction to ISO 19130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宋体"/>
              </a:rPr>
              <a:t>– Imagery Sensor Models for Geopositio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8120" y="6553080"/>
            <a:ext cx="59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riefing to CEOS WGISS on September 24, 2008 in Boulder, Colo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84360" y="4129200"/>
            <a:ext cx="6111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3886200"/>
            <a:ext cx="6324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ping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enter for Spatial Information Science and Systems (CSI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eorge Mas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301 Ivy Lane, Suite 6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reenbelt, MD 207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di@gm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op Level UML Mod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0" name="Picture 13" descr=""/>
          <p:cNvPicPr/>
          <p:nvPr/>
        </p:nvPicPr>
        <p:blipFill>
          <a:blip r:embed="rId1"/>
          <a:stretch/>
        </p:blipFill>
        <p:spPr>
          <a:xfrm>
            <a:off x="533520" y="10368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CP Mod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1447920" y="843120"/>
            <a:ext cx="6476760" cy="60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verview of Physical Sensor Mod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5339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si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1295280" y="1116000"/>
            <a:ext cx="655344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ynamic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2206800" y="1066680"/>
            <a:ext cx="4830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nsor Paramet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2027160" y="1066680"/>
            <a:ext cx="5205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nsor System and Oper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12880" y="838080"/>
            <a:ext cx="5691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tting Func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739880" y="914400"/>
            <a:ext cx="5491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ue Replacement Mod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058840" y="1143000"/>
            <a:ext cx="5072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rrespondence Mod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43000" y="1135080"/>
            <a:ext cx="678168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iefing on ISO 19130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ope of ISO 19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and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s of the latest version of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invitation for CEOS WGISS to contrib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w Can CEOS Contribute to 19130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current draft D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ny comments in ISO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inate an expert to the 19130 Editing Committee as the WGISS representa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the comments and nomination to ISO TC 211 secretariat through WGISS liaison to ISO TC 2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e date for the submission- Oct 31,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is Next in ISO TC 211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 standard on Calibration and Validation of Remote Sens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looking for funding support to start this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GARSS 2009 DADTC Special Invited Sess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e Town, South Africa July 13-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Archiving and Distribution Technical Committee of IEEE GRSS is organizing three invited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arth Observation Sensor We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Chair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Dr. Liping Di 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Arial"/>
                <a:ea typeface="Gulim"/>
                <a:hlinkClick r:id="rId1"/>
              </a:rPr>
              <a:t>ldi@gmu.ed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, George Mason Univers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Co-Chair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Karen Moe 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Arial"/>
                <a:ea typeface="Gulim"/>
                <a:hlinkClick r:id="rId2"/>
              </a:rPr>
              <a:t>Karen.Moe@nasa.go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, NASA Goddard Space Flight Cen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Advances in Data Systems to Support Future Earth Observation Miss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Chair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Dr. Liping Di 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Arial"/>
                <a:ea typeface="Gulim"/>
                <a:hlinkClick r:id="rId3"/>
              </a:rPr>
              <a:t>ldi@gmu.ed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, George Mason University, US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Co-Chair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Ken McDonald 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Arial"/>
                <a:ea typeface="Gulim"/>
                <a:hlinkClick r:id="rId4"/>
              </a:rPr>
              <a:t>Kenneth.Mcdonald@noaa.go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, National Oceanic and Atmospheric Administration, USA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Progress in Use of Web Services to Enhance Earth Science Research in a Highly Distributed Environ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Chair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Hampapuram K. Ramapriyan (Rama), NASA Goddard Space Flight Center, Greenbelt, MD, 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Arial"/>
                <a:ea typeface="Gulim"/>
                <a:hlinkClick r:id="rId5"/>
              </a:rPr>
              <a:t>Rama.Ramapriyan@nas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Co-Chair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Francis Lindsay, NASA Headquarters, Washington, DC, 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Arial"/>
                <a:ea typeface="Gulim"/>
                <a:hlinkClick r:id="rId6"/>
              </a:rPr>
              <a:t>francis.lindsay-1@nas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WGISS members to contribute pa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ease contact chair or co-chair of the sessions for your contribu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7</a:t>
            </a:r>
            <a:r>
              <a:rPr b="1" lang="en-US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International Conference on Geoinformatic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7772400" cy="523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nual Conference since 1992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conference on August 12-14, 2009 in Fairfax, VA, organized by George Mason University (</a:t>
            </a:r>
            <a:r>
              <a:rPr b="0" lang="en-US" sz="15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www.geoinformatics2009.org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mes include but not limited 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arth observation technology, data systems, and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eospatial Semantic Web, Sensor Web, Grid, and Web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eospatial Web Services and service quality, and Workflow-oriented geospatial decision support syste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irtual Globes and their application to scientific research and dail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eospatial Interoperability and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utomated object extraction and database updates from imag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ntegration of RS, GIS and GPS (3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LIDAR technology for DEM generation and 3D 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eospatial education, such as virtual globes-based virtual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cquisition and processing of Remotely Sense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nformation Extraction from Remotely Sense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ories and Algorithms in G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mate Changes and Global Environ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lobal Earth Observation System of Systems (GEO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bstract due: Jan. 30th, 2009. Papers will be published as IEEE proceedings and selected papers will be published in peer-reviewed journ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lcome CEOS WGISS members to organize sessions and contribute paper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 Liping Di (ldi@gmu.ed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Numerous sensors are collecting d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Geopositioning is a fundamental processing step before the data become usefu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Current situation:  the diversity of sensor types and the lack of a common sensor model standard. Data from different produ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contain different parametric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lack parameters required to describe the sensor that produces th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lack ancillary data necessary for geopositioning and analyzing the da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A separate software package often has to be developed to deal with data from each individual sensor or data produc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Unable to archive the plug-in-and-play capability sought by the constellation and sensor web concep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The solution: Standard sensor models and geolocation meta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Allow the development of generalized geopositioning softwa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Promote interoperability of data between sens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facilitate data exchan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is ISO 19130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Identifies the information required to determine the relationship between the position of a remotely sensed pixel in image coordinates and its geopos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Defines the metadata to be distributed with the image to enable user determination of geographic position from the observ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ISO 19130 specifies four ways in which geolocation information may be provi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A sensor description with the associated physical and geometric information necessary to rigorously construct a Physical Sensor Mod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General sensor model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Detail models for frame, pushbroom, whiskbroom, and SAR sensors, constructed from those components as examp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A True Replacement Model, using functions whose coefficients are based on a Physical Sensor Mod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A Correspondence Model that provides a functional fitting based on observed relationships between the geopositions of a set of ground control points and their image coordina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A set of Ground Control Points that can be used to develop a Correspondence Model or to refine a Physical Sensor Model or True Replacement Mod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in March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experts from 12 countries and 3 international organizations formed the project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ed by Liping Di of U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d from ISO TC 211 program of work in March 2006 due to funding iss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introduced into ISO TC 211 program of work in February 2008 by U.S. with additional sensor types cov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long preparation work by U.S. INCITS L1 sensor modeling group chaired by Liping Di of GMU and Bill Craig of NGA/SeiCor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 very rapidly since the re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an ISO 19130 document is being voted by the members of ISO TC 211 members as ISO Draft Technical Specification (ISO D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SO 19130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roject Schedu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Aug 08: ISO/TC 211 issues DTS inquiry for 3 month bal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Oct 08: Ballot clo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-03 Dec 08:  19130 Editing Committee Meeting to adjudicate comments (in conjunction with TC 211 Plenary) in Jap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2009:  Edited  DTS to ISO TC 21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009: DTS published as TS at ISO’s conveni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19130 DTS Draft Vers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rrent 19130 DTS draft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l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normative anne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ormative anne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roduction cl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raft currently ha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eopositioning, Geolocating, and Georeferencing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opositioning: determining the ground coordinates of an object from image coordin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olocating: geopositioning an object using a sensor mode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oreferencing: geoposition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Gulim"/>
              </a:rPr>
              <a:t> an object using a correspondence model derived from a set of points for which both ground and image coordinates are know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Table of Contents of 19130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35040" y="12441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Gulim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Gulim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Gulim"/>
              </a:rPr>
              <a:t>Con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Gulim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Gulim"/>
              </a:rPr>
              <a:t>Normative 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Gulim"/>
              </a:rPr>
              <a:t>Terms and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Gulim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Gulim"/>
              </a:rPr>
              <a:t>Symbols and abbreviated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Gulim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Image geopositioning: overview and common el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Gulim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hysical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Gulim"/>
              </a:rPr>
              <a:t>Senso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Gulim"/>
              </a:rPr>
              <a:t>8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True replacement models and correspondence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Gulim"/>
              </a:rPr>
              <a:t>Annex A  Conformance and testing  (normativ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Gulim"/>
              </a:rPr>
              <a:t>Annex B Geolocation information data dictionary (norma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Gulim"/>
              </a:rPr>
              <a:t>Annex C Coordinate systems  (norma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Gulim"/>
              </a:rPr>
              <a:t>Annex D Frame sensor model metadata profile supporting precise geopositioning (informa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Gulim"/>
              </a:rPr>
              <a:t>Annex E Pushbroom / Whiskbroom sensor model metadata profile (informa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Gulim"/>
              </a:rPr>
              <a:t>Annex F Synthetic Apeture Radar sensor model metadata profile supporting precise geopositioning (informa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19:22:32Z</dcterms:created>
  <dc:creator>Liping Di</dc:creator>
  <dc:description/>
  <dc:language>en-US</dc:language>
  <cp:lastModifiedBy>Liping Di</cp:lastModifiedBy>
  <dcterms:modified xsi:type="dcterms:W3CDTF">2008-09-24T14:16:37Z</dcterms:modified>
  <cp:revision>61</cp:revision>
  <dc:subject/>
  <dc:title>ISO 19130 Status Report to ISO TC 211 Working Group 6</dc:title>
</cp:coreProperties>
</file>