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Bookman Old Style"/>
              </a:rPr>
              <a:t>Click to move the slide</a:t>
            </a:r>
            <a:endParaRPr b="1" lang="en-US" sz="32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6ABA-BF5F-4C77-9893-0FAEC12C4E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e offer hourly global rainfall maps in near real time (about four hours after observation) using the combined MW-IR algorithm with </a:t>
            </a:r>
            <a:r>
              <a:rPr b="0" lang="ja-JP" sz="1200" spc="-1" strike="noStrike" u="sng">
                <a:solidFill>
                  <a:srgbClr val="ccccff"/>
                </a:solidFill>
                <a:uFillTx/>
                <a:latin typeface="Times New Roman"/>
              </a:rPr>
              <a:t>TRMM TMI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1200" spc="-1" strike="noStrike" u="sng">
                <a:solidFill>
                  <a:srgbClr val="ccccff"/>
                </a:solidFill>
                <a:uFillTx/>
                <a:latin typeface="Times New Roman"/>
              </a:rPr>
              <a:t>Aqua AMSR-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, DMSP SSM/I and GEO IR data. This system was developed based on activities of the JST-CREST GSMaP (Global Satellite Mapping of Precipitation) project. GSMaP Standard (post-processing, 1998-2006) version is available from </a:t>
            </a:r>
            <a:r>
              <a:rPr b="0" lang="ja-JP" sz="1200" spc="-1" strike="noStrike" u="sng">
                <a:solidFill>
                  <a:srgbClr val="ccccff"/>
                </a:solidFill>
                <a:uFillTx/>
                <a:latin typeface="Times New Roman"/>
              </a:rPr>
              <a:t>here.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本ホームページでは、世界の雨分布を準リアルタイム（観測から約４時間遅れ）で１時間ごとに複数の衛星（</a:t>
            </a:r>
            <a:r>
              <a:rPr b="0" lang="ja-JP" sz="1200" spc="-1" strike="noStrike" u="sng">
                <a:solidFill>
                  <a:srgbClr val="ccccff"/>
                </a:solidFill>
                <a:uFillTx/>
                <a:latin typeface="Times New Roman"/>
              </a:rPr>
              <a:t>TRMM TMI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1200" spc="-1" strike="noStrike" u="sng">
                <a:solidFill>
                  <a:srgbClr val="ccccff"/>
                </a:solidFill>
                <a:uFillTx/>
                <a:latin typeface="Times New Roman"/>
              </a:rPr>
              <a:t>Aqua AMSR-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, DMSP SSM/I, GEO I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を利用して提供しています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降雨強度の算出には、科学技術振興機構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CRES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「水の循環系モデリングと利用システム」の研究プロジェクト「衛星による高精度高分解能全球降水マップの作成」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GSM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プロジェクト）によ る成果を利用しています。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GSM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標準版（再解析版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998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月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月）は</a:t>
            </a:r>
            <a:r>
              <a:rPr b="0" lang="ja-JP" sz="1200" spc="-1" strike="noStrike" u="sng">
                <a:solidFill>
                  <a:srgbClr val="ccccff"/>
                </a:solidFill>
                <a:uFillTx/>
                <a:latin typeface="Times New Roman"/>
              </a:rPr>
              <a:t>こちらからダウンロー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きます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You can view global rainfall maps (overlapped with IR images) from past to present. Click a figure to see an enlarged ver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o see past rainfall maps, choose the desired dates and times and then press the "submit" button. If maps are not current, the system indicates "NO DATA.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You can see the latest figure or 10 latest figures vertically by pressing the     switch. Please turn javascript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You can see movies for the latest 24 hours by pressing    . Choose dates and times to view past mov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You can view them with or without displaying the microwave radiometer overpasses by pressing the     swit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You can also look at them on </a:t>
            </a:r>
            <a:r>
              <a:rPr b="0" lang="ja-JP" sz="1200" spc="-1" strike="noStrike" u="sng">
                <a:solidFill>
                  <a:srgbClr val="ccccff"/>
                </a:solidFill>
                <a:uFillTx/>
                <a:latin typeface="Times New Roman"/>
              </a:rPr>
              <a:t>Google Earth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by pressing     (You must have Google Earth installed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887724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5320" y="3882960"/>
            <a:ext cx="887724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433188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4280" y="1155600"/>
            <a:ext cx="433188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320" y="3882960"/>
            <a:ext cx="433188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4280" y="3882960"/>
            <a:ext cx="433188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28584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7000" y="1155600"/>
            <a:ext cx="28584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8680" y="1155600"/>
            <a:ext cx="28584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5320" y="3882960"/>
            <a:ext cx="28584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7000" y="3882960"/>
            <a:ext cx="28584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8680" y="3882960"/>
            <a:ext cx="28584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5320" y="1155600"/>
            <a:ext cx="8877240" cy="52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88772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433188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4280" y="1155600"/>
            <a:ext cx="433188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18760" y="495000"/>
            <a:ext cx="842796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433188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4280" y="1155600"/>
            <a:ext cx="433188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5320" y="3882960"/>
            <a:ext cx="433188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5320" y="1155600"/>
            <a:ext cx="8877240" cy="52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433188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4280" y="1155600"/>
            <a:ext cx="433188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4280" y="3882960"/>
            <a:ext cx="433188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433188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4280" y="1155600"/>
            <a:ext cx="433188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5320" y="3882960"/>
            <a:ext cx="887724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887724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5320" y="3882960"/>
            <a:ext cx="887724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433188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4280" y="1155600"/>
            <a:ext cx="433188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320" y="3882960"/>
            <a:ext cx="433188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4280" y="3882960"/>
            <a:ext cx="433188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28584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87000" y="1155600"/>
            <a:ext cx="28584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8680" y="1155600"/>
            <a:ext cx="28584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5320" y="3882960"/>
            <a:ext cx="28584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87000" y="3882960"/>
            <a:ext cx="28584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8680" y="3882960"/>
            <a:ext cx="28584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88772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433188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4280" y="1155600"/>
            <a:ext cx="433188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18760" y="495000"/>
            <a:ext cx="842796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433188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4280" y="1155600"/>
            <a:ext cx="433188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5320" y="3882960"/>
            <a:ext cx="433188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433188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4280" y="1155600"/>
            <a:ext cx="433188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4280" y="3882960"/>
            <a:ext cx="433188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433188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4280" y="1155600"/>
            <a:ext cx="433188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5320" y="3882960"/>
            <a:ext cx="887724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480" y="0"/>
            <a:ext cx="9131040" cy="1341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4857840" y="6431040"/>
            <a:ext cx="4286160" cy="42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Bookman Old Style"/>
              </a:rPr>
              <a:t>Click to edit the title text format</a:t>
            </a: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5320" y="1155600"/>
            <a:ext cx="88772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"/>
          <p:cNvSpPr/>
          <p:nvPr/>
        </p:nvSpPr>
        <p:spPr>
          <a:xfrm>
            <a:off x="8556480" y="6381720"/>
            <a:ext cx="5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6630-2510-40B6-96E4-090A6D11E342}" type="slidenum">
              <a:rPr b="0" lang="ja-JP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94920" y="6453360"/>
            <a:ext cx="5364360" cy="40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54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1640"/>
            <a:ext cx="6572160" cy="36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062000"/>
            <a:ext cx="9144000" cy="367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Bookman Old Style"/>
              </a:rPr>
              <a:t>Click to edit the title text format</a:t>
            </a:r>
            <a:endParaRPr b="1" lang="en-US" sz="32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1763280" y="6453360"/>
            <a:ext cx="6326280" cy="40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54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be0e3"/>
                </a:solidFill>
                <a:latin typeface="Bookman Old Style"/>
              </a:rPr>
              <a:t>Click to edit the outline text format</a:t>
            </a:r>
            <a:endParaRPr b="0" i="1" lang="en-US" sz="2400" spc="-1" strike="noStrike">
              <a:solidFill>
                <a:srgbClr val="bbe0e3"/>
              </a:solidFill>
              <a:latin typeface="Bookman Old Styl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Bookman Old Styl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Bookman Old Styl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9.png"/><Relationship Id="rId8" Type="http://schemas.openxmlformats.org/officeDocument/2006/relationships/image" Target="../media/image3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914400"/>
            <a:ext cx="85690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rebuchet MS"/>
              </a:rPr>
              <a:t>CEOS Precipitation Constellation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Trebuchet MS"/>
              </a:rPr>
              <a:t>JAXA Status</a:t>
            </a:r>
            <a:endParaRPr b="1" lang="en-US" sz="36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2533680"/>
            <a:ext cx="7775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bbe0e3"/>
                </a:solidFill>
                <a:latin typeface="Bookman Old Style"/>
              </a:rPr>
              <a:t>Masayuki Ohta </a:t>
            </a:r>
            <a:endParaRPr b="0" i="1" lang="en-US" sz="2400" spc="-1" strike="noStrike">
              <a:solidFill>
                <a:srgbClr val="bbe0e3"/>
              </a:solidFill>
              <a:latin typeface="Bookman Old Styl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bbe0e3"/>
                </a:solidFill>
                <a:latin typeface="Bookman Old Style"/>
              </a:rPr>
              <a:t>JAXA Earth Observation Research Center</a:t>
            </a:r>
            <a:endParaRPr b="0" i="1" lang="en-US" sz="2400" spc="-1" strike="noStrike">
              <a:solidFill>
                <a:srgbClr val="bbe0e3"/>
              </a:solidFill>
              <a:latin typeface="Bookman Old Styl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bbe0e3"/>
                </a:solidFill>
                <a:latin typeface="Bookman Old Style"/>
              </a:rPr>
              <a:t>September 23, 2008</a:t>
            </a:r>
            <a:endParaRPr b="0" i="1" lang="en-US" sz="2400" spc="-1" strike="noStrike">
              <a:solidFill>
                <a:srgbClr val="bbe0e3"/>
              </a:solidFill>
              <a:latin typeface="Bookman Old Styl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bbe0e3"/>
                </a:solidFill>
                <a:latin typeface="Bookman Old Style"/>
              </a:rPr>
              <a:t>WGISS-26 in Boulder</a:t>
            </a:r>
            <a:endParaRPr b="0" i="1" lang="en-US" sz="2400" spc="-1" strike="noStrike">
              <a:solidFill>
                <a:srgbClr val="bbe0e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Bookman Old Style"/>
              </a:rPr>
              <a:t>Request to WGISS from CEOS/PC</a:t>
            </a: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88772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We would like to have recommendations/suggestions for technical issues for data sharing, data exchange format, algorithm codes, tools, file naming, logical formats, and others.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If WGISS already have discussed and list-uped issues, we want the list and general rules or approach methods for each issues of its list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399"/>
                </a:solidFill>
                <a:latin typeface="Times New Roman"/>
              </a:rPr>
              <a:t>CEOS precipitation constellation activity</a:t>
            </a: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88772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ointly led by NASA &amp; JAXA, with participation of various organizati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ookman Old Style"/>
              </a:rPr>
              <a:t>The 2</a:t>
            </a:r>
            <a:r>
              <a:rPr b="0" lang="ja-JP" sz="2800" spc="-1" strike="noStrike" baseline="30000">
                <a:solidFill>
                  <a:srgbClr val="000000"/>
                </a:solidFill>
                <a:latin typeface="Bookman Old Style"/>
              </a:rPr>
              <a:t>nd</a:t>
            </a:r>
            <a:r>
              <a:rPr b="0" lang="ja-JP" sz="2800" spc="-1" strike="noStrike">
                <a:solidFill>
                  <a:srgbClr val="000000"/>
                </a:solidFill>
                <a:latin typeface="Bookman Old Style"/>
              </a:rPr>
              <a:t> CEOS PC workshop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ookman Old Style"/>
              </a:rPr>
              <a:t>Held in Japan, June 5-6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Established 2008 Work Plan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Finalized Implementation Plan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GPM envisioned to be a realization of the CEOS PC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Bookman Old Style"/>
              </a:rPr>
              <a:t>JAXA GPM status</a:t>
            </a: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88772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ookman Old Style"/>
              </a:rPr>
              <a:t>GPM/Core DPR development statu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DPR development schedule is base on July 2013 launch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Preliminary Design Review (PDR)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ookman Old Style"/>
              </a:rPr>
              <a:t>DPR system PDR : Held in Dec.-Jan. 2008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ookman Old Style"/>
              </a:rPr>
              <a:t>JAXA final PDR : Held in Jan.-Feb.2008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ookman Old Style"/>
              </a:rPr>
              <a:t>Delta PDR for some components which design changed after system PDR : Jun. 2008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Critical Design Review (CDR)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Bookman Old Style"/>
              </a:rPr>
              <a:t>Components CDR : Dec.2008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ookman Old Style"/>
              </a:rPr>
              <a:t>Science Application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GSMaP</a:t>
            </a:r>
            <a:r>
              <a:rPr b="0" i="1" lang="ja-JP" sz="2000" spc="-1" strike="noStrike">
                <a:solidFill>
                  <a:srgbClr val="000000"/>
                </a:solidFill>
                <a:latin typeface="Century"/>
              </a:rPr>
              <a:t>(</a:t>
            </a:r>
            <a:r>
              <a:rPr b="0" i="1" lang="ja-JP" sz="2000" spc="-1" strike="noStrike">
                <a:solidFill>
                  <a:srgbClr val="000000"/>
                </a:solidFill>
                <a:latin typeface="Bookman Old Style"/>
              </a:rPr>
              <a:t>Global Satellite Mapping of Precipitation</a:t>
            </a:r>
            <a:r>
              <a:rPr b="0" i="1" lang="ja-JP" sz="2000" spc="-1" strike="noStrike">
                <a:solidFill>
                  <a:srgbClr val="000000"/>
                </a:solidFill>
                <a:latin typeface="Century"/>
              </a:rPr>
              <a:t>) </a:t>
            </a: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has been already released using multi-satellite data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Bookman Old Style"/>
              </a:rPr>
              <a:t>Global Rainfall Map in NRT</a:t>
            </a: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98" name=""/>
          <p:cNvSpPr/>
          <p:nvPr/>
        </p:nvSpPr>
        <p:spPr>
          <a:xfrm>
            <a:off x="1029960" y="1195560"/>
            <a:ext cx="66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ttp://sharaku.eorc.jaxa.jp/GSMaP/index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913" t="6989" r="18635" b="6600"/>
          <a:stretch/>
        </p:blipFill>
        <p:spPr>
          <a:xfrm>
            <a:off x="3979800" y="2028960"/>
            <a:ext cx="4975200" cy="4109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854000"/>
            <a:ext cx="4448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Bookman Old Style"/>
              </a:rPr>
              <a:t>Started November 14, 2007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Bookman Old Style"/>
              </a:rPr>
              <a:t>hourly global rainfall maps in near real time (about four hours after observation)  is available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Bookman Old Style"/>
              </a:rPr>
              <a:t>Data: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SzPct val="1545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Bookman Old Style"/>
              </a:rPr>
              <a:t>TRMM TMI, 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SzPct val="1545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Bookman Old Style"/>
              </a:rPr>
              <a:t>Aqua AMSR-E, 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SzPct val="1545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Bookman Old Style"/>
              </a:rPr>
              <a:t>DMSP SSM/I and 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SzPct val="1545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Bookman Old Style"/>
              </a:rPr>
              <a:t>GEO IR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Bookman Old Style"/>
              </a:rPr>
              <a:t>Other Contents: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SzPct val="1545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Bookman Old Style"/>
              </a:rPr>
              <a:t>Latest 10 hr Browse</a:t>
            </a:r>
            <a:r>
              <a:rPr b="1" lang="pt-BR" sz="1600" spc="-1" strike="noStrike">
                <a:solidFill>
                  <a:srgbClr val="000000"/>
                </a:solidFill>
                <a:latin typeface="Bookman Old Style"/>
              </a:rPr>
              <a:t> images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SzPct val="1545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Bookman Old Style"/>
              </a:rPr>
              <a:t>24hr animation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SzPct val="1545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Bookman Old Style"/>
              </a:rPr>
              <a:t>KMZ files (Google Earth)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003399"/>
                </a:solidFill>
                <a:latin typeface="Bookman Old Style"/>
              </a:rPr>
              <a:t>GSMaP on Google Earth</a:t>
            </a: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88772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5346720" cy="4008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557360"/>
            <a:ext cx="450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Bookman Old Style"/>
                <a:ea typeface="ＭＳ Ｐ明朝"/>
              </a:rPr>
              <a:t>GSMaP is hourly rainfall ma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Bookman Old Style"/>
                <a:ea typeface="ＭＳ Ｐ明朝"/>
              </a:rPr>
              <a:t>4 hours after observ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Bookman Old Style"/>
                <a:ea typeface="ＭＳ Ｐ明朝"/>
              </a:rPr>
              <a:t>3 hours : data 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Bookman Old Style"/>
                <a:ea typeface="ＭＳ Ｐ明朝"/>
              </a:rPr>
              <a:t>1 hour : data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Bookman Old Style"/>
                <a:ea typeface="ＭＳ Ｐ明朝"/>
              </a:rPr>
              <a:t>The more available efficient data is, the better data accuracy 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Bookman Old Style"/>
              </a:rPr>
              <a:t>Prospect for merged product</a:t>
            </a: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88772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Bookman Old Style"/>
              </a:rPr>
              <a:t>The more available efficient data is, the better data accuracy is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ja-JP" sz="2000" spc="-1" strike="noStrike">
                <a:solidFill>
                  <a:srgbClr val="000000"/>
                </a:solidFill>
                <a:latin typeface="Bookman Old Style"/>
              </a:rPr>
              <a:t>Efficient” means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Bookman Old Style"/>
              </a:rPr>
              <a:t>Precipitation data increas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Bookman Old Style"/>
              </a:rPr>
              <a:t>Quick collection/access data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Bookman Old Style"/>
              </a:rPr>
              <a:t>Easy to use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lang="ja-JP" sz="1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Bookman Old Style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Bookman Old Style"/>
              </a:rPr>
              <a:t>Gathering meaningful data of PC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Bookman Old Style"/>
              </a:rPr>
              <a:t>Hope CEOS to contact China and Russia (Roshydromet)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Bookman Old Style"/>
              </a:rPr>
              <a:t>To understand each organization’s methods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Bookman Old Style"/>
              </a:rPr>
              <a:t>Data exchange policy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Bookman Old Style"/>
              </a:rPr>
              <a:t>Data accessibility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Bookman Old Style"/>
              </a:rPr>
              <a:t>Data and product format, contents, meta data for handling multi-satellite data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Bookman Old Style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9120" y="476280"/>
            <a:ext cx="844560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3399"/>
                </a:solidFill>
                <a:latin typeface="Bookman Old Style"/>
              </a:rPr>
              <a:t>About GDaWG (GPM Data Working Group) </a:t>
            </a:r>
            <a:endParaRPr b="1" i="1" lang="en-US" sz="28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88772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ookman Old Style"/>
              </a:rPr>
              <a:t>Porpose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Concentrate the expertise of potential GPM data and data systems experts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Discuss potential partner approaches, concerns, tools and schedules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Coordinate, as possible, data formats and metadata items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Identify major issues, concerns and action items pertaining to data and data system for GPM partnership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Coordinate schedules, needs and reviews as required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Get to know personnel involved with data and data systems at various partner organizations and begin the establishment of personal interactions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Provide technical study and guidance under the auspices of the Joint Precipitation Science Team and the GPM governing body, when established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003399"/>
                </a:solidFill>
                <a:latin typeface="Bookman Old Style"/>
              </a:rPr>
              <a:t>GDaWG status </a:t>
            </a: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88772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ookman Old Style"/>
              </a:rPr>
              <a:t>GDaWG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Meetings: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The 1</a:t>
            </a:r>
            <a:r>
              <a:rPr b="0" lang="ja-JP" sz="2000" spc="-1" strike="noStrike" baseline="30000">
                <a:solidFill>
                  <a:srgbClr val="000000"/>
                </a:solidFill>
                <a:latin typeface="Bookman Old Style"/>
                <a:ea typeface="ＭＳ Ｐゴシック"/>
              </a:rPr>
              <a:t>st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 GDaWG meeting was held in College Park Maryland on Feb 19-20, 2003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The 2</a:t>
            </a:r>
            <a:r>
              <a:rPr b="0" lang="ja-JP" sz="2000" spc="-1" strike="noStrike" baseline="30000">
                <a:solidFill>
                  <a:srgbClr val="000000"/>
                </a:solidFill>
                <a:latin typeface="Bookman Old Style"/>
                <a:ea typeface="ＭＳ Ｐゴシック"/>
              </a:rPr>
              <a:t>nd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 GDaWG meeting was held in Tokyo in February 2004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The GDaWG session was held in the 7</a:t>
            </a:r>
            <a:r>
              <a:rPr b="0" lang="ja-JP" sz="2000" spc="-1" strike="noStrike" baseline="30000">
                <a:solidFill>
                  <a:srgbClr val="000000"/>
                </a:solidFill>
                <a:latin typeface="Bookman Old Style"/>
                <a:ea typeface="ＭＳ Ｐゴシック"/>
              </a:rPr>
              <a:t>th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 GPM International Workshop in December, 2007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Opportunity for the 3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ookman Old Style"/>
                <a:ea typeface="ＭＳ Ｐゴシック"/>
              </a:rPr>
              <a:t>rd</a:t>
            </a:r>
            <a:r>
              <a:rPr b="0" lang="ja-JP" sz="24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 GDaWG meeting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The 8</a:t>
            </a:r>
            <a:r>
              <a:rPr b="0" lang="ja-JP" sz="2000" spc="-1" strike="noStrike" baseline="30000">
                <a:solidFill>
                  <a:srgbClr val="000000"/>
                </a:solidFill>
                <a:latin typeface="Bookman Old Style"/>
                <a:ea typeface="ＭＳ Ｐゴシック"/>
              </a:rPr>
              <a:t>th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 GPM International Planning Workshop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Place: Paris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Date: May-June 2009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8760" y="495000"/>
            <a:ext cx="8427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003399"/>
                </a:solidFill>
                <a:latin typeface="Bookman Old Style"/>
              </a:rPr>
              <a:t>GDaWG status </a:t>
            </a:r>
            <a:endParaRPr b="1" i="1" lang="en-US" sz="3600" spc="-1" strike="noStrike">
              <a:solidFill>
                <a:srgbClr val="003399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5320" y="1155600"/>
            <a:ext cx="88772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Website: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Prepared the GDaWG website to promote personal connection and to share the useful information for data working group activities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         </a:t>
            </a:r>
            <a:r>
              <a:rPr b="0" lang="ja-JP" sz="2000" spc="-1" strike="noStrike" u="sng">
                <a:solidFill>
                  <a:srgbClr val="ff3300"/>
                </a:solidFill>
                <a:uFillTx/>
                <a:latin typeface="Bookman Old Style"/>
                <a:ea typeface="ＭＳ Ｐゴシック"/>
              </a:rPr>
              <a:t>http://www.eorc.jaxa.jp/GPM/DataWG/gdawg/index.htm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Developed the GDaWG operating procedures (GOP) for GDaWG website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Chart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To clarify the definition and our role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Non-governanc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Framework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Relationship with CEOS-PC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2T19:08:10Z</dcterms:created>
  <dc:creator>Shuji SHIMIZU</dc:creator>
  <dc:description/>
  <dc:language>en-US</dc:language>
  <cp:lastModifiedBy>ISAS X-ray</cp:lastModifiedBy>
  <dcterms:modified xsi:type="dcterms:W3CDTF">2008-09-23T21:35:26Z</dcterms:modified>
  <cp:revision>142</cp:revision>
  <dc:subject/>
  <dc:title>Development and Validation of Spaceborne Dual-Frequency Precipitation Radar for GPM</dc:title>
</cp:coreProperties>
</file>