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C781-F504-4D15-AE31-66AF59614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196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21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374-C46B-49B1-A2E8-A133706B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CDD-1EFD-43AD-8FA3-1B336EF9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4A4-94FE-4C8C-B4DA-A9EEA477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63A-7A7C-4737-825E-0A46548B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B49-B4F4-43A2-9F8F-8BE06509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138-4643-428D-AA7F-44D27CCD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A28-8D8A-4A81-91CF-7C360F04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5D8-65D8-43C4-9B0A-5468280E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509-4705-429D-92B5-D3EDF972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21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143-B137-4C94-B4F1-F2785BCB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EE1-A4F6-40A7-8893-20F96A06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B54-8F8A-4D0C-9093-BED57FED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2977-8617-4F87-94F7-D23424059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a"/>
                </a:solidFill>
                <a:latin typeface="Arial"/>
              </a:rPr>
              <a:t>Core Task Status, AR-07-01</a:t>
            </a: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g Ne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2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O Ontologies (Related Task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separate task led by Japan to organize and register EO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requirements registry will require a common set of observables that can be used to link with the Service Registry and potentially the Standards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on GEOSS ontology, recognizing each concept/term in the context of the source or authority is required to make this connection, to identify coverage, and to identify gaps in EO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Web Portal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olutions offered to GEO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set of requirements, refined through AI Pilot Phase 1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ocused access to registries, distributed resource descriptions (Clearinghouse), and other resources (RSS, web search, appl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Clearinghous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derated search facility that will harvest or search all registered catalogues (registered as GEOSS services) making all content searchable through on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ortal provides human UI, Clearinghouse provides catalog search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sol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A/Geo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Task Elemen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 Common Infrastructure (G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and Service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and Interoperability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Requirements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Practices Wik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under separate ta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Portal and Clearing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ion between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onent and Service Reg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 and Interoperability Regi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 separat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Practices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and Interoperability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Common Infrastructure (GCI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perating Capability (IOC) Task Force created to document the requirements and support evaluation of GCI offere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ortal candidates: ESRI, Compusult, 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 Clearinghouse candidates: Compusult, ESRI, ESA/GeoNetwork, and US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and Interoperability Registry, Component and Service Registry, Best Practices Wiki are all operational and are being mai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mponent and Service Registry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ed by USA, deployed by George Maso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ed using Sun Java Enterprise Service Registry with ebRS, CSW ebRIM, UDDI, and JAX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5 Components, 90 Services regi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are associated with S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 are linked with one or more standards registered with GE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increase awareness in and registration of services – will work to simplify the process to focus 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tandards and Interoperability Registry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00 standards are identified with authority references, definitions, URN (ID), and are classified in a hierarchy of standar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nominated by individuals through online web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checked and approved by the 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represent official de jure and de facto standards with a maintenanc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arrangements represent practices that are not recognized as standards but are described as documentation for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tandards and Servic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between the Service Registry and the Standards Registry is still being implemented to al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ination of a new Interoperability Arrangement (IA, standard or special arrangement) from within the Component and Service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view of available IAs from within the Service Registry as picklist synchronized from special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integration complete by Nov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295280"/>
            <a:ext cx="8305920" cy="480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057400"/>
            <a:ext cx="3886200" cy="228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76480"/>
            <a:ext cx="3657600" cy="2266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228760"/>
            <a:ext cx="1523880" cy="990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2352600"/>
            <a:ext cx="1524240" cy="990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2362320"/>
            <a:ext cx="1752480" cy="99036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SS Special Arran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21948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351240"/>
            <a:ext cx="1371600" cy="45864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lnTo>
                  <a:pt x="768" y="192"/>
                </a:lnTo>
                <a:lnTo>
                  <a:pt x="768" y="0"/>
                </a:lnTo>
              </a:path>
            </a:pathLst>
          </a:custGeom>
          <a:noFill/>
          <a:ln w="57240">
            <a:solidFill>
              <a:srgbClr val="ffff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3352680"/>
            <a:ext cx="3505320" cy="819360"/>
          </a:xfrm>
          <a:custGeom>
            <a:avLst/>
            <a:gdLst/>
            <a:ahLst/>
            <a:rect l="l" t="t" r="r" b="b"/>
            <a:pathLst>
              <a:path w="2208" h="432">
                <a:moveTo>
                  <a:pt x="0" y="336"/>
                </a:moveTo>
                <a:lnTo>
                  <a:pt x="0" y="432"/>
                </a:lnTo>
                <a:lnTo>
                  <a:pt x="2208" y="432"/>
                </a:lnTo>
                <a:lnTo>
                  <a:pt x="2208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341520"/>
            <a:ext cx="1067040" cy="54468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672" y="0"/>
                </a:moveTo>
                <a:lnTo>
                  <a:pt x="672" y="192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5892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x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5560" y="332748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bec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00560" y="3886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no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24280"/>
            <a:ext cx="160020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O Memb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icip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gan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447920" y="3219480"/>
            <a:ext cx="0" cy="1504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480" y="3575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7440" y="3962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7520" y="39765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38360" y="177120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5320" y="1447920"/>
            <a:ext cx="615240" cy="704520"/>
            <a:chOff x="535320" y="1447920"/>
            <a:chExt cx="615240" cy="704520"/>
          </a:xfrm>
        </p:grpSpPr>
        <p:sp>
          <p:nvSpPr>
            <p:cNvPr id="120" name=""/>
            <p:cNvSpPr/>
            <p:nvPr/>
          </p:nvSpPr>
          <p:spPr>
            <a:xfrm flipV="1">
              <a:off x="838080" y="1771200"/>
              <a:ext cx="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5320" y="1447920"/>
              <a:ext cx="6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DD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191960" y="1447920"/>
            <a:ext cx="635040" cy="704520"/>
            <a:chOff x="1191960" y="1447920"/>
            <a:chExt cx="635040" cy="704520"/>
          </a:xfrm>
        </p:grpSpPr>
        <p:sp>
          <p:nvSpPr>
            <p:cNvPr id="123" name=""/>
            <p:cNvSpPr/>
            <p:nvPr/>
          </p:nvSpPr>
          <p:spPr>
            <a:xfrm flipV="1">
              <a:off x="1495440" y="1771200"/>
              <a:ext cx="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91960" y="14479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b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136320" y="1235160"/>
            <a:ext cx="59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181480" y="17521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99880" y="1235160"/>
            <a:ext cx="78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39.50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14400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865840" y="17521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09800" y="14479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114800" y="17521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4800600"/>
            <a:ext cx="114300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4800600"/>
            <a:ext cx="137160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4876920"/>
            <a:ext cx="533520" cy="6094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4800600"/>
            <a:ext cx="106704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ject Matter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4915080"/>
            <a:ext cx="533160" cy="6094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57600" y="1447920"/>
            <a:ext cx="654840" cy="704520"/>
            <a:chOff x="1857600" y="1447920"/>
            <a:chExt cx="654840" cy="704520"/>
          </a:xfrm>
        </p:grpSpPr>
        <p:sp>
          <p:nvSpPr>
            <p:cNvPr id="138" name=""/>
            <p:cNvSpPr/>
            <p:nvPr/>
          </p:nvSpPr>
          <p:spPr>
            <a:xfrm flipV="1">
              <a:off x="2160720" y="1771200"/>
              <a:ext cx="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57600" y="144792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AX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V="1">
            <a:off x="2795760" y="176796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5600" y="1243080"/>
            <a:ext cx="78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39.50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8680" y="2209680"/>
            <a:ext cx="190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OS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3048120"/>
            <a:ext cx="1524240" cy="99036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65560" y="2041560"/>
            <a:ext cx="25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OSS Standards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685800" cy="4827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faa"/>
                </a:solidFill>
                <a:latin typeface="Arial"/>
              </a:rPr>
              <a:t>Registries Interaction</a:t>
            </a:r>
            <a:endParaRPr b="1" lang="en-US" sz="2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3240" y="35244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User Requirements Registry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C Task (US-07-01) plans to develop a registry to store EO requirements for identified classes of users in support of applications (S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te paper written to document the design of a requirement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was deployed by USGS with a Web administrative interface fo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interface to GEO UIC Air Quality Workshop on May 5, 2008  in Tor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acceptance testing and development on-hold due to time constraints of technical l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tion is to hand-craft archetypical users and requirements for selected applications and to develop harvest of existing requirements systems (CEOS/WMO, NASA, NOAA, E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4400" y="206280"/>
            <a:ext cx="7855200" cy="645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3:40:01Z</dcterms:created>
  <dc:creator>Doug Nebert</dc:creator>
  <dc:description/>
  <dc:language>en-US</dc:language>
  <cp:lastModifiedBy>Doug Nebert</cp:lastModifiedBy>
  <dcterms:modified xsi:type="dcterms:W3CDTF">2008-09-22T18:57:03Z</dcterms:modified>
  <cp:revision>8</cp:revision>
  <dc:subject/>
  <dc:title>Coordination with other Committees (technical interfaces, new registries, pilots for 2008 tasks) </dc:title>
</cp:coreProperties>
</file>