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4386-0E98-4EB6-A276-D5D14D087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E37F-A6C0-41A3-B198-EA9CFA458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884B-912B-40B7-BE00-42A5E2D08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E334-5684-459F-80BF-322D93972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F46D-4EE9-4B60-923D-9AE7FE08B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3DD1-5057-48E7-BFEF-5030AF4B6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69F6-A756-431E-B3E6-08D1C21D5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9634-5294-4D28-A924-FC850A255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7772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13360"/>
            <a:ext cx="7772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1336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1336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55844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55844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1336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1336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1336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7AEF-019B-44B3-A998-6844E7F7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914A-9838-405F-B5AC-86398E22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6519-E2B7-4932-80DD-85054B85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37926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558440"/>
            <a:ext cx="37926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A510-F183-43B1-823F-C146119E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E914-A34F-41FF-AD42-11E0ABD9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7724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99DC-AB56-41E3-9A38-C7085D8B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558440"/>
            <a:ext cx="37926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1336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6557-AA4D-4655-9234-4A6CFE1D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37926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1336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AF72-A21F-433D-856A-A779E25C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13360"/>
            <a:ext cx="7772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E716-34C2-4D02-9506-137A9439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7772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13360"/>
            <a:ext cx="7772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FBA6-A823-475A-ABB5-C5DB7EA7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1336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1336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66A6-961C-4B2D-935C-2E678C3E9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55844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55844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1336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1336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1336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CD0F-29D8-4DCE-9FDF-E8589005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37926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558440"/>
            <a:ext cx="37926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7724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58440"/>
            <a:ext cx="37926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1336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37926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1336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13360"/>
            <a:ext cx="7772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Open Geospatial Consortium (200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244A-5E07-41AD-B50B-CAFE213A68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ogcnetwork.net/pub/ogcnetwork/GEOSS/AI_Pilot_Demo/index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87680"/>
            <a:ext cx="7331040" cy="17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a"/>
                </a:solidFill>
                <a:latin typeface="Arial"/>
              </a:rPr>
              <a:t>GEO Architecture and Data Committee</a:t>
            </a:r>
            <a:br>
              <a:rPr sz="2800"/>
            </a:br>
            <a:r>
              <a:rPr b="1" lang="en-GB" sz="3600" spc="-1" strike="noStrike">
                <a:solidFill>
                  <a:srgbClr val="005faa"/>
                </a:solidFill>
                <a:latin typeface="Arial"/>
              </a:rPr>
              <a:t>Task AR-07-02 </a:t>
            </a:r>
            <a:br>
              <a:rPr sz="3600"/>
            </a:br>
            <a:r>
              <a:rPr b="1" lang="en-GB" sz="3200" spc="-1" strike="noStrike">
                <a:solidFill>
                  <a:srgbClr val="005faa"/>
                </a:solidFill>
                <a:latin typeface="Arial"/>
              </a:rPr>
              <a:t>Architecture Implementation Pilot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873600"/>
            <a:ext cx="64008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rge Perciv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en Geospatial Consort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AR-07-02 Point of 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ptem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58800" y="1432080"/>
            <a:ext cx="7736040" cy="1336680"/>
          </a:xfrm>
          <a:prstGeom prst="rect">
            <a:avLst/>
          </a:prstGeom>
          <a:solidFill>
            <a:srgbClr val="aaeb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58800" y="5302080"/>
            <a:ext cx="7736040" cy="1400400"/>
          </a:xfrm>
          <a:prstGeom prst="rect">
            <a:avLst/>
          </a:prstGeom>
          <a:solidFill>
            <a:srgbClr val="2f3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650880" y="2917800"/>
            <a:ext cx="7736040" cy="2241720"/>
          </a:xfrm>
          <a:prstGeom prst="rect">
            <a:avLst/>
          </a:prstGeom>
          <a:solidFill>
            <a:srgbClr val="7a93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1108080" y="1778040"/>
            <a:ext cx="1220760" cy="5904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 We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7056000" y="138420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ent 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5748480" y="293040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usiness Process 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6922080" y="530208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ccess 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2687760" y="1673280"/>
            <a:ext cx="1220760" cy="774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758880" y="3092400"/>
            <a:ext cx="1569960" cy="1986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1017720" y="3092400"/>
            <a:ext cx="97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2"/>
          <p:cNvSpPr/>
          <p:nvPr/>
        </p:nvSpPr>
        <p:spPr>
          <a:xfrm>
            <a:off x="920880" y="3960720"/>
            <a:ext cx="1220760" cy="3319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3"/>
          <p:cNvSpPr/>
          <p:nvPr/>
        </p:nvSpPr>
        <p:spPr>
          <a:xfrm>
            <a:off x="920880" y="3632040"/>
            <a:ext cx="1220760" cy="3319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4"/>
          <p:cNvSpPr/>
          <p:nvPr/>
        </p:nvSpPr>
        <p:spPr>
          <a:xfrm>
            <a:off x="920880" y="4297320"/>
            <a:ext cx="1220760" cy="3319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5"/>
          <p:cNvSpPr/>
          <p:nvPr/>
        </p:nvSpPr>
        <p:spPr>
          <a:xfrm>
            <a:off x="922320" y="5730840"/>
            <a:ext cx="1544760" cy="5907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NET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6"/>
          <p:cNvSpPr/>
          <p:nvPr/>
        </p:nvSpPr>
        <p:spPr>
          <a:xfrm>
            <a:off x="6880320" y="5783400"/>
            <a:ext cx="1139760" cy="6174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7"/>
          <p:cNvSpPr/>
          <p:nvPr/>
        </p:nvSpPr>
        <p:spPr>
          <a:xfrm>
            <a:off x="2801880" y="5684760"/>
            <a:ext cx="1133640" cy="774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8"/>
          <p:cNvSpPr/>
          <p:nvPr/>
        </p:nvSpPr>
        <p:spPr>
          <a:xfrm>
            <a:off x="5565600" y="5689440"/>
            <a:ext cx="1038240" cy="774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19"/>
          <p:cNvGrpSpPr/>
          <p:nvPr/>
        </p:nvGrpSpPr>
        <p:grpSpPr>
          <a:xfrm>
            <a:off x="4194000" y="1697040"/>
            <a:ext cx="1409760" cy="733320"/>
            <a:chOff x="4194000" y="1697040"/>
            <a:chExt cx="1409760" cy="733320"/>
          </a:xfrm>
        </p:grpSpPr>
        <p:sp>
          <p:nvSpPr>
            <p:cNvPr id="163" name="AutoShape 20"/>
            <p:cNvSpPr/>
            <p:nvPr/>
          </p:nvSpPr>
          <p:spPr>
            <a:xfrm>
              <a:off x="4383000" y="169704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21"/>
            <p:cNvSpPr/>
            <p:nvPr/>
          </p:nvSpPr>
          <p:spPr>
            <a:xfrm>
              <a:off x="4295520" y="176688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22"/>
            <p:cNvSpPr/>
            <p:nvPr/>
          </p:nvSpPr>
          <p:spPr>
            <a:xfrm>
              <a:off x="4194000" y="183996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mun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rta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AutoShape 23"/>
          <p:cNvSpPr/>
          <p:nvPr/>
        </p:nvSpPr>
        <p:spPr>
          <a:xfrm>
            <a:off x="6095880" y="1706400"/>
            <a:ext cx="1868760" cy="5619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4"/>
          <p:cNvSpPr/>
          <p:nvPr/>
        </p:nvSpPr>
        <p:spPr>
          <a:xfrm>
            <a:off x="6018120" y="1793880"/>
            <a:ext cx="1868760" cy="5619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5"/>
          <p:cNvSpPr/>
          <p:nvPr/>
        </p:nvSpPr>
        <p:spPr>
          <a:xfrm>
            <a:off x="5938920" y="1881360"/>
            <a:ext cx="1868400" cy="5619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6"/>
          <p:cNvSpPr/>
          <p:nvPr/>
        </p:nvSpPr>
        <p:spPr>
          <a:xfrm>
            <a:off x="919080" y="4624560"/>
            <a:ext cx="1220760" cy="3315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27"/>
          <p:cNvGrpSpPr/>
          <p:nvPr/>
        </p:nvGrpSpPr>
        <p:grpSpPr>
          <a:xfrm>
            <a:off x="2452680" y="4278240"/>
            <a:ext cx="1409760" cy="733320"/>
            <a:chOff x="2452680" y="4278240"/>
            <a:chExt cx="1409760" cy="733320"/>
          </a:xfrm>
        </p:grpSpPr>
        <p:sp>
          <p:nvSpPr>
            <p:cNvPr id="171" name="AutoShape 28"/>
            <p:cNvSpPr/>
            <p:nvPr/>
          </p:nvSpPr>
          <p:spPr>
            <a:xfrm>
              <a:off x="2641680" y="427824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29"/>
            <p:cNvSpPr/>
            <p:nvPr/>
          </p:nvSpPr>
          <p:spPr>
            <a:xfrm>
              <a:off x="2554200" y="434808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30"/>
            <p:cNvSpPr/>
            <p:nvPr/>
          </p:nvSpPr>
          <p:spPr>
            <a:xfrm>
              <a:off x="2452680" y="442116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mun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talog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31"/>
          <p:cNvGrpSpPr/>
          <p:nvPr/>
        </p:nvGrpSpPr>
        <p:grpSpPr>
          <a:xfrm>
            <a:off x="5442120" y="3394080"/>
            <a:ext cx="1409040" cy="733320"/>
            <a:chOff x="5442120" y="3394080"/>
            <a:chExt cx="1409040" cy="733320"/>
          </a:xfrm>
        </p:grpSpPr>
        <p:sp>
          <p:nvSpPr>
            <p:cNvPr id="175" name="AutoShape 32"/>
            <p:cNvSpPr/>
            <p:nvPr/>
          </p:nvSpPr>
          <p:spPr>
            <a:xfrm>
              <a:off x="5630760" y="3394080"/>
              <a:ext cx="122040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33"/>
            <p:cNvSpPr/>
            <p:nvPr/>
          </p:nvSpPr>
          <p:spPr>
            <a:xfrm>
              <a:off x="5543280" y="3463920"/>
              <a:ext cx="122040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34"/>
            <p:cNvSpPr/>
            <p:nvPr/>
          </p:nvSpPr>
          <p:spPr>
            <a:xfrm>
              <a:off x="5442120" y="3537000"/>
              <a:ext cx="122040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rtray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35"/>
          <p:cNvGrpSpPr/>
          <p:nvPr/>
        </p:nvGrpSpPr>
        <p:grpSpPr>
          <a:xfrm>
            <a:off x="6877080" y="3394080"/>
            <a:ext cx="1409760" cy="733320"/>
            <a:chOff x="6877080" y="3394080"/>
            <a:chExt cx="1409760" cy="733320"/>
          </a:xfrm>
        </p:grpSpPr>
        <p:sp>
          <p:nvSpPr>
            <p:cNvPr id="179" name="AutoShape 36"/>
            <p:cNvSpPr/>
            <p:nvPr/>
          </p:nvSpPr>
          <p:spPr>
            <a:xfrm>
              <a:off x="7066080" y="339408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37"/>
            <p:cNvSpPr/>
            <p:nvPr/>
          </p:nvSpPr>
          <p:spPr>
            <a:xfrm>
              <a:off x="6978600" y="346392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38"/>
            <p:cNvSpPr/>
            <p:nvPr/>
          </p:nvSpPr>
          <p:spPr>
            <a:xfrm>
              <a:off x="6877080" y="353700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39"/>
          <p:cNvGrpSpPr/>
          <p:nvPr/>
        </p:nvGrpSpPr>
        <p:grpSpPr>
          <a:xfrm>
            <a:off x="5424480" y="4281480"/>
            <a:ext cx="1409760" cy="733320"/>
            <a:chOff x="5424480" y="4281480"/>
            <a:chExt cx="1409760" cy="733320"/>
          </a:xfrm>
        </p:grpSpPr>
        <p:sp>
          <p:nvSpPr>
            <p:cNvPr id="183" name="AutoShape 40"/>
            <p:cNvSpPr/>
            <p:nvPr/>
          </p:nvSpPr>
          <p:spPr>
            <a:xfrm>
              <a:off x="5613480" y="428148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41"/>
            <p:cNvSpPr/>
            <p:nvPr/>
          </p:nvSpPr>
          <p:spPr>
            <a:xfrm>
              <a:off x="5526000" y="435132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42"/>
            <p:cNvSpPr/>
            <p:nvPr/>
          </p:nvSpPr>
          <p:spPr>
            <a:xfrm>
              <a:off x="5424480" y="442440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cess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v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43"/>
          <p:cNvGrpSpPr/>
          <p:nvPr/>
        </p:nvGrpSpPr>
        <p:grpSpPr>
          <a:xfrm>
            <a:off x="6885000" y="4281480"/>
            <a:ext cx="1409760" cy="733320"/>
            <a:chOff x="6885000" y="4281480"/>
            <a:chExt cx="1409760" cy="733320"/>
          </a:xfrm>
        </p:grpSpPr>
        <p:sp>
          <p:nvSpPr>
            <p:cNvPr id="187" name="AutoShape 44"/>
            <p:cNvSpPr/>
            <p:nvPr/>
          </p:nvSpPr>
          <p:spPr>
            <a:xfrm>
              <a:off x="7074000" y="428148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45"/>
            <p:cNvSpPr/>
            <p:nvPr/>
          </p:nvSpPr>
          <p:spPr>
            <a:xfrm>
              <a:off x="6986520" y="435132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46"/>
            <p:cNvSpPr/>
            <p:nvPr/>
          </p:nvSpPr>
          <p:spPr>
            <a:xfrm>
              <a:off x="6885000" y="442440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AutoShape 47"/>
          <p:cNvSpPr/>
          <p:nvPr/>
        </p:nvSpPr>
        <p:spPr>
          <a:xfrm>
            <a:off x="2460600" y="3220920"/>
            <a:ext cx="1405080" cy="774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ing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58"/>
          <p:cNvSpPr/>
          <p:nvPr/>
        </p:nvSpPr>
        <p:spPr>
          <a:xfrm>
            <a:off x="4194000" y="5688000"/>
            <a:ext cx="1133640" cy="774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31"/>
          <p:cNvGrpSpPr/>
          <p:nvPr/>
        </p:nvGrpSpPr>
        <p:grpSpPr>
          <a:xfrm>
            <a:off x="3990960" y="3394080"/>
            <a:ext cx="1409760" cy="733320"/>
            <a:chOff x="3990960" y="3394080"/>
            <a:chExt cx="1409760" cy="733320"/>
          </a:xfrm>
        </p:grpSpPr>
        <p:sp>
          <p:nvSpPr>
            <p:cNvPr id="193" name="AutoShape 32"/>
            <p:cNvSpPr/>
            <p:nvPr/>
          </p:nvSpPr>
          <p:spPr>
            <a:xfrm>
              <a:off x="4179960" y="339408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33"/>
            <p:cNvSpPr/>
            <p:nvPr/>
          </p:nvSpPr>
          <p:spPr>
            <a:xfrm>
              <a:off x="4092480" y="346392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34"/>
            <p:cNvSpPr/>
            <p:nvPr/>
          </p:nvSpPr>
          <p:spPr>
            <a:xfrm>
              <a:off x="3990960" y="353700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erts/Fee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39"/>
          <p:cNvGrpSpPr/>
          <p:nvPr/>
        </p:nvGrpSpPr>
        <p:grpSpPr>
          <a:xfrm>
            <a:off x="3973680" y="4281480"/>
            <a:ext cx="1409040" cy="733320"/>
            <a:chOff x="3973680" y="4281480"/>
            <a:chExt cx="1409040" cy="733320"/>
          </a:xfrm>
        </p:grpSpPr>
        <p:sp>
          <p:nvSpPr>
            <p:cNvPr id="197" name="AutoShape 40"/>
            <p:cNvSpPr/>
            <p:nvPr/>
          </p:nvSpPr>
          <p:spPr>
            <a:xfrm>
              <a:off x="4162320" y="4281480"/>
              <a:ext cx="122040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41"/>
            <p:cNvSpPr/>
            <p:nvPr/>
          </p:nvSpPr>
          <p:spPr>
            <a:xfrm>
              <a:off x="4074840" y="4351320"/>
              <a:ext cx="122040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42"/>
            <p:cNvSpPr/>
            <p:nvPr/>
          </p:nvSpPr>
          <p:spPr>
            <a:xfrm>
              <a:off x="3973680" y="4424400"/>
              <a:ext cx="122040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frastruc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gis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FP Architecture – Component Type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FP Architecture – Operational Persistenc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of commi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on registering a service, a service provider must specify the length of time for which the service will be offered (preferably ‘continuous operation’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 multiple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of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s are expected to be available at least 99% of the time, except when otherwise required by the nature of the servi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allows for approximately 7 hours of down time a 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ing achieved regularly by servers, Biggest problem is network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(perhaps by specifying number of simultaneous connec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 may “de-list” a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functioning components of the Network will diminish the operational and marketing value of the Network in general for all participating organizatio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7B327EE-A99B-4C74-84EA-40277B4EE9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6356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P-2 CFP Responses (33 to date)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440" y="1338120"/>
            <a:ext cx="3886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ibbean Flood 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ES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ES and ER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PA AirN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DAS Tit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IP AQ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RI Can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roCryoCl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-Ukra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C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CT4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Content Placeholder 2"/>
          <p:cNvSpPr/>
          <p:nvPr/>
        </p:nvSpPr>
        <p:spPr>
          <a:xfrm>
            <a:off x="4572000" y="1281240"/>
            <a:ext cx="38862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P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X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nes Paris Te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SA World W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AA/NASA GOES-R and GMU CSI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AA IO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AA NC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AA SNA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bl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rthrop Grum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ot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RA/NIMSAT/GoMO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shington University in St. Lou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P-2 Kickoff Session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BA, Communities of Practice, Scenario S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ster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diversity and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- Air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verse Technology sess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alogues, Clearinghouse, Meta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Product Access: service, schema,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ors and Models Access: service, schema,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 for derived product and alert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: portals and applications cli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acility for Service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P-2 SBA/CoP/Scenario session leader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ster Response SB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n Lowther, Northrop Grumman; Didier Giacobbo, Spot Image; Stuart Frye, NAS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SBA: Air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McCabe, EPA; Frank Lindsay, NASA; Stefan Falke &amp; Rudy Husar, Washington Un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diversity and 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fano Nativi, CN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S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erry Ranchin, Mines Paris Tech;  Ellsworth LeDrew, Univ Waterl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P-2 Transverse session leader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1447920"/>
            <a:ext cx="77724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alogues, Clearinghouse,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g Nebert, USGS; Josh Lieberman OGC/Traverse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ngo Aizawa, JAX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Product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ve' Caumont, OGC/ERDAS, Glenn Rutledge NOAA NOMADS, Hans Peter Plag Task AR-07-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ors and Models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war Vahed, ICT4EO; Luis Bermudez  SURA; Don Sullivan, 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flow for products and al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ping Di, GMU; Greg Yetman, CIESIN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oshi Sekiguchi, GEO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s: portals and application cli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dine Alameh, NASA-WW; Herve' Caumont, OGC/Er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Facility for service reg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g Nebert, USGS; Jolyon Martin, 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oordinating GEO Tasks in CFP Responses 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-06-09 Use of Satellites for Risk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-07-01 Risk management for fl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-07-01 Global Ecosystem Observation and Monitoring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-07-04 Sensor Web Enablement for In-Situ Observing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-07-06 Data Integration and Analysis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-06-05 Basic Geographic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-07-03 Global Geodetic Reference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-07-01 Enabling Deployment of a GEOSS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a"/>
                </a:solidFill>
                <a:latin typeface="Arial"/>
              </a:rPr>
              <a:t>AIP Phase 2 Master Schedule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866600"/>
            <a:ext cx="7916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675"/>
              </a:spcBef>
              <a:buClr>
                <a:srgbClr val="000000"/>
              </a:buClr>
              <a:buFont typeface="Arial"/>
              <a:buChar char="•"/>
              <a:tabLst>
                <a:tab algn="r" pos="737388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 Worksho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ruar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675"/>
              </a:spcBef>
              <a:buClr>
                <a:srgbClr val="000000"/>
              </a:buClr>
              <a:buFont typeface="Arial"/>
              <a:buChar char="•"/>
              <a:tabLst>
                <a:tab algn="r" pos="737388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P announced                                   30 June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675"/>
              </a:spcBef>
              <a:buClr>
                <a:srgbClr val="000000"/>
              </a:buClr>
              <a:buFont typeface="Arial"/>
              <a:buChar char="•"/>
              <a:tabLst>
                <a:tab algn="r" pos="737388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P Clarification Telecon                      18 Jul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675"/>
              </a:spcBef>
              <a:buClr>
                <a:srgbClr val="000000"/>
              </a:buClr>
              <a:buFont typeface="Arial"/>
              <a:buChar char="•"/>
              <a:tabLst>
                <a:tab algn="r" pos="737388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P Responses for Kickoff due             1 Sept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675"/>
              </a:spcBef>
              <a:buClr>
                <a:srgbClr val="000000"/>
              </a:buClr>
              <a:buFont typeface="Arial"/>
              <a:buChar char="•"/>
              <a:tabLst>
                <a:tab algn="r" pos="737388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ckoff worksho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5-26 Sept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675"/>
              </a:spcBef>
              <a:buClr>
                <a:srgbClr val="000000"/>
              </a:buClr>
              <a:buFont typeface="Arial"/>
              <a:buChar char="•"/>
              <a:tabLst>
                <a:tab algn="r" pos="737388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us to GEO Plen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vember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675"/>
              </a:spcBef>
              <a:buClr>
                <a:srgbClr val="000000"/>
              </a:buClr>
              <a:buFont typeface="Arial"/>
              <a:buChar char="•"/>
              <a:tabLst>
                <a:tab algn="r" pos="737388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 to operations                1st quarter of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675"/>
              </a:spcBef>
              <a:buNone/>
              <a:tabLst>
                <a:tab algn="r" pos="737388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B2221FB-ADC8-4AF5-9889-E2ECE093E2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faa"/>
                </a:solidFill>
                <a:latin typeface="Arial"/>
              </a:rPr>
              <a:t>GEO Task AR-07-02</a:t>
            </a:r>
            <a:br>
              <a:rPr sz="2400"/>
            </a:br>
            <a:r>
              <a:rPr b="1" lang="en-GB" sz="3600" spc="-1" strike="noStrike">
                <a:solidFill>
                  <a:srgbClr val="005faa"/>
                </a:solidFill>
                <a:latin typeface="Arial"/>
              </a:rPr>
              <a:t>Architecture </a:t>
            </a: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Implementation Pilot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 incorporation of contributed components consistent with the GEOSS Architectu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GEO Web Portal and a GEOSS Clearinghouse search fac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ccess services through GEOSS Interoperability Arrang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GEOSS Societal Benefit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F454A09-7623-4C90-A429-C7E55D1DD2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57200" y="1600200"/>
            <a:ext cx="8229600" cy="34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593640" y="4989600"/>
            <a:ext cx="77788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I Pilot has broad international participation that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uld only have occurred with GE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igh interest &amp; momentum supporting GEOSS v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P Phase 1 Result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of the GEOSS Common Infrastructure (GCI)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Operating Capability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development process for G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FP, Kickoff, Executio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~120 organizations particip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s for international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10 Demonstr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Initial Operating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d “Architecture Implementation Repor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P Phase 1 Results  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1 results established in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4 Components &amp; 75 Services registered (21 Nov 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operability Arrangement recommendations to S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 interfaces to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O Portals: Compusult, ESA, ES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ty Portals (2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ication Clients (1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ltiple organizations provi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OSS Clearingho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ty Catalog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DA72C56-477E-463C-B5F5-EC05312FC8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9"/>
          <p:cNvSpPr/>
          <p:nvPr/>
        </p:nvSpPr>
        <p:spPr>
          <a:xfrm>
            <a:off x="290520" y="1538280"/>
            <a:ext cx="7048440" cy="4595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5529240" y="4685400"/>
            <a:ext cx="172548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4006800" y="3859920"/>
            <a:ext cx="14716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ck-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2383920" y="2993400"/>
            <a:ext cx="156600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735120" y="2156760"/>
            <a:ext cx="1636560" cy="64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7396200" y="5412960"/>
            <a:ext cx="1520640" cy="916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is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R-07-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AutoShape 20"/>
          <p:cNvCxnSpPr>
            <a:stCxn id="105" idx="2"/>
            <a:endCxn id="104" idx="1"/>
          </p:cNvCxnSpPr>
          <p:nvPr/>
        </p:nvCxnSpPr>
        <p:spPr>
          <a:xfrm flipH="1" rot="16200000">
            <a:off x="1709640" y="2647080"/>
            <a:ext cx="511920" cy="8247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AutoShape 21"/>
          <p:cNvCxnSpPr>
            <a:endCxn id="103" idx="1"/>
          </p:cNvCxnSpPr>
          <p:nvPr/>
        </p:nvCxnSpPr>
        <p:spPr>
          <a:xfrm flipH="1" rot="16200000">
            <a:off x="3357360" y="3532680"/>
            <a:ext cx="525960" cy="7722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AutoShape 22"/>
          <p:cNvCxnSpPr/>
          <p:nvPr/>
        </p:nvCxnSpPr>
        <p:spPr>
          <a:xfrm flipH="1" rot="16200000">
            <a:off x="4864680" y="4303440"/>
            <a:ext cx="511920" cy="9025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23"/>
          <p:cNvCxnSpPr>
            <a:endCxn id="106" idx="1"/>
          </p:cNvCxnSpPr>
          <p:nvPr/>
        </p:nvCxnSpPr>
        <p:spPr>
          <a:xfrm flipH="1" rot="16200000">
            <a:off x="6619680" y="5095440"/>
            <a:ext cx="553320" cy="1000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Line 27"/>
          <p:cNvSpPr/>
          <p:nvPr/>
        </p:nvSpPr>
        <p:spPr>
          <a:xfrm>
            <a:off x="6380280" y="4363920"/>
            <a:ext cx="0" cy="311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AutoShape 33"/>
          <p:cNvCxnSpPr>
            <a:stCxn id="106" idx="2"/>
            <a:endCxn id="105" idx="1"/>
          </p:cNvCxnSpPr>
          <p:nvPr/>
        </p:nvCxnSpPr>
        <p:spPr>
          <a:xfrm flipV="1" rot="16200000">
            <a:off x="2517120" y="694800"/>
            <a:ext cx="3856680" cy="7422120"/>
          </a:xfrm>
          <a:prstGeom prst="bentConnector4">
            <a:avLst>
              <a:gd name="adj1" fmla="val -5927"/>
              <a:gd name="adj2" fmla="val 10307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Text Box 38"/>
          <p:cNvSpPr/>
          <p:nvPr/>
        </p:nvSpPr>
        <p:spPr>
          <a:xfrm>
            <a:off x="5801400" y="41101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9"/>
          <p:cNvSpPr/>
          <p:nvPr/>
        </p:nvSpPr>
        <p:spPr>
          <a:xfrm>
            <a:off x="4713120" y="3548160"/>
            <a:ext cx="0" cy="311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0"/>
          <p:cNvSpPr/>
          <p:nvPr/>
        </p:nvSpPr>
        <p:spPr>
          <a:xfrm>
            <a:off x="4123440" y="328284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1"/>
          <p:cNvSpPr/>
          <p:nvPr/>
        </p:nvSpPr>
        <p:spPr>
          <a:xfrm>
            <a:off x="3174840" y="2687760"/>
            <a:ext cx="0" cy="311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2"/>
          <p:cNvSpPr/>
          <p:nvPr/>
        </p:nvSpPr>
        <p:spPr>
          <a:xfrm>
            <a:off x="2574000" y="241128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3"/>
          <p:cNvSpPr/>
          <p:nvPr/>
        </p:nvSpPr>
        <p:spPr>
          <a:xfrm>
            <a:off x="1558800" y="1868400"/>
            <a:ext cx="0" cy="311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4"/>
          <p:cNvSpPr/>
          <p:nvPr/>
        </p:nvSpPr>
        <p:spPr>
          <a:xfrm>
            <a:off x="969120" y="160344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5"/>
          <p:cNvSpPr/>
          <p:nvPr/>
        </p:nvSpPr>
        <p:spPr>
          <a:xfrm>
            <a:off x="8163000" y="5099040"/>
            <a:ext cx="0" cy="311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6"/>
          <p:cNvSpPr/>
          <p:nvPr/>
        </p:nvSpPr>
        <p:spPr>
          <a:xfrm>
            <a:off x="7584480" y="480060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52"/>
          <p:cNvGrpSpPr/>
          <p:nvPr/>
        </p:nvGrpSpPr>
        <p:grpSpPr>
          <a:xfrm>
            <a:off x="1012680" y="4143240"/>
            <a:ext cx="2013120" cy="1664640"/>
            <a:chOff x="1012680" y="4143240"/>
            <a:chExt cx="2013120" cy="1664640"/>
          </a:xfrm>
        </p:grpSpPr>
        <p:sp>
          <p:nvSpPr>
            <p:cNvPr id="123" name="Rectangle 29"/>
            <p:cNvSpPr/>
            <p:nvPr/>
          </p:nvSpPr>
          <p:spPr>
            <a:xfrm>
              <a:off x="1012680" y="4691160"/>
              <a:ext cx="2013120" cy="52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cument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6"/>
            <p:cNvSpPr/>
            <p:nvPr/>
          </p:nvSpPr>
          <p:spPr>
            <a:xfrm>
              <a:off x="2019240" y="4386240"/>
              <a:ext cx="0" cy="311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7"/>
            <p:cNvSpPr/>
            <p:nvPr/>
          </p:nvSpPr>
          <p:spPr>
            <a:xfrm>
              <a:off x="2019240" y="5216400"/>
              <a:ext cx="0" cy="31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47"/>
            <p:cNvSpPr/>
            <p:nvPr/>
          </p:nvSpPr>
          <p:spPr>
            <a:xfrm>
              <a:off x="1054080" y="4143240"/>
              <a:ext cx="193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pdates for each ste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48"/>
            <p:cNvSpPr/>
            <p:nvPr/>
          </p:nvSpPr>
          <p:spPr>
            <a:xfrm>
              <a:off x="1586520" y="550080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se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51"/>
          <p:cNvSpPr/>
          <p:nvPr/>
        </p:nvSpPr>
        <p:spPr>
          <a:xfrm>
            <a:off x="3044880" y="1722600"/>
            <a:ext cx="414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-07-02 Architecture Implementation Pi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olutionary Development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3"/>
          <p:cNvSpPr/>
          <p:nvPr/>
        </p:nvSpPr>
        <p:spPr>
          <a:xfrm>
            <a:off x="1045800" y="6243480"/>
            <a:ext cx="579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al Baseline and Lessons Learned for next evolutionary spir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eft-Right Arrow 32"/>
          <p:cNvSpPr/>
          <p:nvPr/>
        </p:nvSpPr>
        <p:spPr>
          <a:xfrm>
            <a:off x="6284880" y="2685960"/>
            <a:ext cx="2228760" cy="871560"/>
          </a:xfrm>
          <a:prstGeom prst="leftRightArrow">
            <a:avLst>
              <a:gd name="adj1" fmla="val 50000"/>
              <a:gd name="adj2" fmla="val 50055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interaction with external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 Pilot Development Approach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P Phase 2 - CFP (Call For Participation )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P Main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ter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mes 2008_x0010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respond to C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ex A: Developmen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hases; Communica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 to GCI task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ex B: 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5065560" y="5384880"/>
            <a:ext cx="3865680" cy="95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675"/>
              </a:spcBef>
              <a:tabLst>
                <a:tab algn="l" pos="0"/>
                <a:tab algn="r" pos="737388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FP announced         30 Jun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75"/>
              </a:spcBef>
              <a:tabLst>
                <a:tab algn="l" pos="0"/>
                <a:tab algn="r" pos="737388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 for Kickoff   1 Sept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3644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49F1D3C-AE86-4049-BE89-35653F299E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P Phase 2 Prioritie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558440"/>
            <a:ext cx="7772400" cy="44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register solutions that are available in GEOSS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 application solut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on a regular basis by a Community of Inter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s and schemas exposed in well-documented, ideally standard, ways and demonstrated as interoperable with other solutions (in the scenari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 and integration activity through 'externality analysis' to relationships, dependencies and issues with related top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2596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9C12324-B732-4692-BE8A-636F2DA4CC3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P Phase 2 Theme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440" y="1558440"/>
            <a:ext cx="78786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gment the GEOSS Common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SBAs identified by UIC/ADC collabo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operational persistenc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persistent exemplar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ine GEOSS AIP Architecture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and Component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operability Arrang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open AIP development process to all interested pa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C12BFC7-39C3-4745-8ED5-24B4BA5A03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faa"/>
                </a:solidFill>
                <a:latin typeface="Arial"/>
              </a:rPr>
              <a:t>Phase 2 Goals</a:t>
            </a:r>
            <a:endParaRPr b="1" lang="en-US" sz="24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84280" y="1485720"/>
            <a:ext cx="805176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atic registration of Component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f registered standards by offe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and availability of services, particularly cor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ng data /services towards additional SBA application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ening the use of the Web Portals to access and integrate all GEOSS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ing the interaction of the GEOSS Web Portals, Registries, and Clearing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limited set of “well-known” combinations and versions of protocols and content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a basic EO metadata record for GEOSS-wid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ng Sensor Web protocols and data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support for workflows and event - notification hand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53080" y="6394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DD4788C-3517-437A-9D3E-96BDC8C8E8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4:09:37Z</dcterms:created>
  <dc:creator/>
  <dc:description/>
  <dc:language>en-US</dc:language>
  <cp:lastModifiedBy>George Percivall</cp:lastModifiedBy>
  <dcterms:modified xsi:type="dcterms:W3CDTF">2008-09-22T18:57:38Z</dcterms:modified>
  <cp:revision>439</cp:revision>
  <dc:subject/>
  <dc:title>Update on OGC involvement in GEOSS</dc:title>
</cp:coreProperties>
</file>