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57C40-9D50-4C3A-8348-54412ED30C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BDD0E-DF36-4855-9FC2-69A9C5A758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0EBE3-47C3-4451-96E6-E4CE5E11C9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1620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6904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6336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1620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6904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6D4D6-E3BF-4CD7-B655-056599D662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7441B-93AD-4D0F-92C6-640BCB7960E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04a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B3F91-D1A7-409B-B08E-6A8FE148A29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8B8F1-C943-469C-8B92-0D339174269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DA309-806C-45A3-A709-3BD07614122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2580C-395C-4739-80C4-CEE028217A6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263600" y="74160"/>
            <a:ext cx="7664400" cy="39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04a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FDDCD-9AA8-43E8-8F3A-47C7062CFBD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313AD-31C5-46A3-93C3-34F691149E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04a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E8077-9203-4B87-807A-F4127BA474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8DA42-0097-4D78-85C7-C13D70F74D9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D8944-4C23-4658-9DE7-9C10CAACCCC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643EF-EA94-42C4-805A-4AE98F51FF0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B96B3-CEBA-4D9F-8957-C361E2010E1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1620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6904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96336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1620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6904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06D28-6AA5-4CEE-905A-795AAFF2E79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04a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A213F-E952-46FA-8812-416D132FF0B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263600" y="74160"/>
            <a:ext cx="7664400" cy="39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04a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61620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26904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96336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61620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26904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AAC2D-A05C-4A5A-AA12-45530A302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04a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4366C-62DE-4439-BBFE-9098AC47C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D40C8-57F4-4AE1-946E-262A035BF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F5711-BD60-429C-A327-74C594781CB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37EBE-96D1-43BD-BBBF-D72BB97C6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8214F-11C3-4DC1-B3E2-D68CD1FAB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263600" y="74160"/>
            <a:ext cx="7664400" cy="39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04a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F0655-471B-42A7-A703-9BA056270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F4E4B-8F7D-468B-A0F8-249C7A1F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7E7BB-B970-4AD2-96DF-3F8E43D7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CBBB1-AF36-4A78-AFD8-D733B65ED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E7C96-CEAF-481C-801D-3722A0620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78BDA-5789-472D-A6E9-2CBF2E778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61620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26904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96336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61620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26904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01717-A76D-4B5C-8C6D-D7ECE3173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A10F5-4342-44BF-9110-A04F5A2E20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63600" y="74160"/>
            <a:ext cx="7664400" cy="39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04a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BFE6F-0B87-445F-8CBD-46E2088942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91A98-8B96-42E2-B302-2EDBCAED9B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7172C-22F0-46EF-B68F-F36482A9BE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540C4-BC97-4FBA-BC26-C152E85697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6499080" y="6300720"/>
            <a:ext cx="1905120" cy="3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8A561-8C3A-4389-A07B-FC015462C0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b8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85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7640" indent="-1666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22392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0" y="5954760"/>
            <a:ext cx="1828800" cy="903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-4680" y="-4680"/>
            <a:ext cx="9155160" cy="68691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sldNum" idx="2"/>
          </p:nvPr>
        </p:nvSpPr>
        <p:spPr>
          <a:xfrm>
            <a:off x="6514920" y="6311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C8D78-E691-4A89-9B11-6E4800732F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924680" y="6618240"/>
            <a:ext cx="12193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69800" y="1103040"/>
            <a:ext cx="8344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b8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44520" y="5954760"/>
            <a:ext cx="1828800" cy="903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-36360" y="333360"/>
            <a:ext cx="1223640" cy="9241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55640" y="926640"/>
            <a:ext cx="8137440" cy="69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74400"/>
            <a:ext cx="7467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Lucida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68360" y="1066680"/>
            <a:ext cx="8447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cf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3"/>
          </p:nvPr>
        </p:nvSpPr>
        <p:spPr>
          <a:xfrm>
            <a:off x="777204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E0614-8D8C-49FA-957E-A1D4B28296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52280" y="6323760"/>
            <a:ext cx="8915400" cy="399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dfeed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640080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4160" y="6370560"/>
            <a:ext cx="486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Grande"/>
                <a:ea typeface="楷体_GB2312"/>
              </a:rPr>
              <a:t>WGISS-26~ Boulder, CO ~ September 22-26,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7667640" y="0"/>
            <a:ext cx="1407960" cy="555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 flipV="1">
            <a:off x="990720" y="3259800"/>
            <a:ext cx="7619760" cy="91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3880" y="19807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Lucida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35D14-B84F-420E-B3A7-52D5AE223A39}" type="slidenum">
              <a:rPr b="0" lang="en-US" sz="1400" spc="-1" strike="noStrike">
                <a:solidFill>
                  <a:srgbClr val="1c1c1c"/>
                </a:solidFill>
                <a:latin typeface="Tahoma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08000" y="0"/>
            <a:ext cx="1407960" cy="936000"/>
            <a:chOff x="108000" y="0"/>
            <a:chExt cx="1407960" cy="936000"/>
          </a:xfrm>
        </p:grpSpPr>
        <p:pic>
          <p:nvPicPr>
            <p:cNvPr id="134" name="" descr=""/>
            <p:cNvPicPr/>
            <p:nvPr/>
          </p:nvPicPr>
          <p:blipFill>
            <a:blip r:embed="rId2"/>
            <a:stretch/>
          </p:blipFill>
          <p:spPr>
            <a:xfrm>
              <a:off x="108000" y="0"/>
              <a:ext cx="140796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242280" y="476280"/>
              <a:ext cx="110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66cc"/>
                  </a:solidFill>
                  <a:latin typeface="Arial Black"/>
                  <a:ea typeface="宋体"/>
                </a:rPr>
                <a:t>WGI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9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cf01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5640" y="1771200"/>
            <a:ext cx="815328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33399"/>
                </a:solidFill>
                <a:latin typeface="Lucida Sans"/>
                <a:ea typeface="宋体"/>
              </a:rPr>
              <a:t>WGISS Plenary:</a:t>
            </a:r>
            <a:br>
              <a:rPr sz="4800"/>
            </a:br>
            <a:r>
              <a:rPr b="1" lang="en-GB" sz="4800" spc="-1" strike="noStrike">
                <a:solidFill>
                  <a:srgbClr val="333399"/>
                </a:solidFill>
                <a:latin typeface="Lucida Sans"/>
                <a:ea typeface="宋体"/>
              </a:rPr>
              <a:t>Charge to Subgroups</a:t>
            </a:r>
            <a:endParaRPr b="0" lang="en-US" sz="4800" spc="-1" strike="noStrike">
              <a:solidFill>
                <a:srgbClr val="333399"/>
              </a:solidFill>
              <a:latin typeface="Lucida 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371600" y="3990600"/>
            <a:ext cx="64008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spcBef>
                <a:spcPts val="125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  <a:ea typeface="宋体"/>
              </a:rPr>
              <a:t>Martha E. Maiden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lnSpc>
                <a:spcPct val="95000"/>
              </a:lnSpc>
              <a:spcBef>
                <a:spcPts val="125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  <a:ea typeface="宋体"/>
              </a:rPr>
              <a:t>CEOS WGISS-26/GEO ADC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lnSpc>
                <a:spcPct val="95000"/>
              </a:lnSpc>
              <a:spcBef>
                <a:spcPts val="125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Boulder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  <a:ea typeface="宋体"/>
              </a:rPr>
              <a:t>, Colorado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lnSpc>
                <a:spcPct val="95000"/>
              </a:lnSpc>
              <a:spcBef>
                <a:spcPts val="125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  <a:ea typeface="宋体"/>
              </a:rPr>
              <a:t>September 22, 2008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b81"/>
                </a:solidFill>
                <a:latin typeface="Lucida Grande"/>
              </a:rPr>
              <a:t>WGISS Report to Plenary</a:t>
            </a: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2320" y="1128240"/>
            <a:ext cx="7845480" cy="52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75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Lucida Sans"/>
              </a:rPr>
              <a:t>WGISS Report and Actions (15 m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lnSpc>
                <a:spcPct val="75000"/>
              </a:lnSpc>
              <a:spcBef>
                <a:spcPts val="499"/>
              </a:spcBef>
              <a:spcAft>
                <a:spcPts val="499"/>
              </a:spcAft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"/>
              </a:rPr>
              <a:t>2008 Accomplish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lnSpc>
                <a:spcPct val="75000"/>
              </a:lnSpc>
              <a:spcBef>
                <a:spcPts val="499"/>
              </a:spcBef>
              <a:spcAft>
                <a:spcPts val="499"/>
              </a:spcAft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"/>
              </a:rPr>
              <a:t>Current and Future Challe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lnSpc>
                <a:spcPct val="75000"/>
              </a:lnSpc>
              <a:spcBef>
                <a:spcPts val="499"/>
              </a:spcBef>
              <a:spcAft>
                <a:spcPts val="499"/>
              </a:spcAft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"/>
              </a:rPr>
              <a:t>Requested Commitments from CEOS members to further the objectives of WGI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Lucida Sans"/>
              </a:rPr>
              <a:t>Four Current The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75000"/>
              </a:lnSpc>
              <a:spcBef>
                <a:spcPts val="451"/>
              </a:spcBef>
              <a:buSzPct val="11428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Sans"/>
              </a:rPr>
              <a:t>Satellite Arm of G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lnSpc>
                <a:spcPct val="75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Lucida Sans"/>
              </a:rPr>
              <a:t>Recommend what Project Milestones should be made into 2009 Actions, and carried to 2nd CEOS/GEO Actions Meeting for 200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lnSpc>
                <a:spcPct val="7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Lucida Sans"/>
              </a:rPr>
              <a:t>Recommend what WGISS Capabilities might be added to GEO Plenary Demo in Bucharest</a:t>
            </a:r>
            <a:r>
              <a:rPr b="0" lang="en-GB" sz="18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75000"/>
              </a:lnSpc>
              <a:spcBef>
                <a:spcPts val="451"/>
              </a:spcBef>
              <a:buSzPct val="11428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Recommendations for working actively with CEOS Constellations </a:t>
            </a:r>
            <a:r>
              <a:rPr b="0" lang="en-GB" sz="1800" spc="-1" strike="noStrike">
                <a:solidFill>
                  <a:srgbClr val="333399"/>
                </a:solidFill>
                <a:latin typeface="Lucida Grande"/>
              </a:rPr>
              <a:t>and GEO SBA Areas’ CEOS L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75000"/>
              </a:lnSpc>
              <a:spcBef>
                <a:spcPts val="451"/>
              </a:spcBef>
              <a:buSzPct val="11428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Recommendations for working actively with WGC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lnSpc>
                <a:spcPct val="75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Lucida Grande"/>
              </a:rPr>
              <a:t>Focus on Experience with/Need for Data Quality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lnSpc>
                <a:spcPct val="75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Example of collaboration:  Ensuring metadata contain all relevant content on data quality, using multiple instruments’ data looking at specific 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7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Sans"/>
              </a:rPr>
              <a:t>Determine what Project outcomes relevant to Data Democracy purposes and Recommend to Ple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1BEF0-86EE-4C22-91FC-D118CC9DE8C4}" type="slidenum">
              <a:t>2</a:t>
            </a:fld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b81"/>
                </a:solidFill>
                <a:latin typeface="Lucida Grande"/>
              </a:rPr>
              <a:t>Outcome of WGISS-25, Sanya</a:t>
            </a: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2320" y="1128240"/>
            <a:ext cx="7845480" cy="52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85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Request for more time in Subgroups for Technology Discussions and 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lnSpc>
                <a:spcPct val="85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Three full days devoted to Sub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5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Reorganization of Work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lnSpc>
                <a:spcPct val="85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Task Teams replaced by Interest Groups and/or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lnSpc>
                <a:spcPct val="85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Interest Groups are topical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lnSpc>
                <a:spcPct val="85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Projects characterized by specific objectives, workplans, milest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E544F-EC78-467A-9C99-C5795D32AE23}" type="slidenum">
              <a:t>3</a:t>
            </a:fld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b81"/>
                </a:solidFill>
                <a:latin typeface="Lucida Grande"/>
              </a:rPr>
              <a:t>WGISS Current Focus</a:t>
            </a: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3840" y="955440"/>
            <a:ext cx="784512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75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Provide satellite arm of GEO System of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Innovative contributions that will persist, and can be re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75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Work closely with and support CEOS Virtual Constellations (GEO </a:t>
            </a: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DA-07-0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High GEO interest in LSI Por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75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Work closely with collaborate with CEOS Working Group on Calibration and Vali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WGISS Chair Maiden to attend WGCV next we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Land Product Validation Special Session on agen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75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upport the CEOS Plenary Chair’s Data Democracy initia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5E003-F22F-4556-946B-9B5F2F61ED28}" type="slidenum">
              <a:t>4</a:t>
            </a:fld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b81"/>
                </a:solidFill>
                <a:latin typeface="Lucida Grande"/>
              </a:rPr>
              <a:t>Plenary Charge to Subgroups, 1</a:t>
            </a: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15440" y="925200"/>
            <a:ext cx="831060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8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Lucida Sans"/>
              </a:rPr>
              <a:t>WGISS Subgroups Ch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5000"/>
              </a:lnSpc>
              <a:spcBef>
                <a:spcPts val="499"/>
              </a:spcBef>
              <a:spcAft>
                <a:spcPts val="499"/>
              </a:spcAft>
              <a:buSzPct val="11428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Sans"/>
              </a:rPr>
              <a:t>Focus on overall objective of WGISS: to facilitate data and information management and services for users and data provid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5000"/>
              </a:lnSpc>
              <a:spcBef>
                <a:spcPts val="451"/>
              </a:spcBef>
              <a:buSzPct val="11428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Sans"/>
              </a:rPr>
              <a:t>Recommendations coming from Outcomes on Interest Groups and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5000"/>
              </a:lnSpc>
              <a:spcBef>
                <a:spcPts val="451"/>
              </a:spcBef>
              <a:buSzPct val="11428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Sans"/>
              </a:rPr>
              <a:t>Recommend Strategic Directions and New Work from Subgroup Technical Discussions, which could be Across Interest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Lucida Sans"/>
              </a:rPr>
              <a:t>Four Current The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5000"/>
              </a:lnSpc>
              <a:spcBef>
                <a:spcPts val="451"/>
              </a:spcBef>
              <a:buSzPct val="11428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Sans"/>
              </a:rPr>
              <a:t>Satellite Arm of G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Lucida Sans"/>
              </a:rPr>
              <a:t>Recommend what Project Milestones should be made into 2009 Actions, and carried to 2nd CEOS/GEO Actions Meeting for 200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Lucida Sans"/>
              </a:rPr>
              <a:t>Recommend what WGISS Capabilities might be added to GEO Plenary Demo in Bucharest</a:t>
            </a:r>
            <a:r>
              <a:rPr b="0" lang="en-GB" sz="18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5000"/>
              </a:lnSpc>
              <a:spcBef>
                <a:spcPts val="451"/>
              </a:spcBef>
              <a:buSzPct val="11428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Recommendations for working actively with CEOS Constel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5000"/>
              </a:lnSpc>
              <a:spcBef>
                <a:spcPts val="451"/>
              </a:spcBef>
              <a:buSzPct val="11428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Recommendations for working actively with WGC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lnSpc>
                <a:spcPct val="75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Example of collaboration:  Ensuring metadata contain all relevant content on data quality, using multiple instruments’ data looking at specific 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5000"/>
              </a:lnSpc>
              <a:spcBef>
                <a:spcPts val="451"/>
              </a:spcBef>
              <a:buSzPct val="11428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Sans"/>
              </a:rPr>
              <a:t>Determine what Project outcomes relevant to Data Democracy purposes and Recommend to Ple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B807D-7F83-4666-AA99-CD7FA127CCF7}" type="slidenum">
              <a:t>5</a:t>
            </a:fld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b81"/>
                </a:solidFill>
                <a:latin typeface="Lucida Grande"/>
              </a:rPr>
              <a:t>Plenary Charge to Subgroups, 2</a:t>
            </a: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15440" y="934560"/>
            <a:ext cx="8310600" cy="52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8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5000"/>
              </a:lnSpc>
              <a:spcBef>
                <a:spcPts val="451"/>
              </a:spcBef>
              <a:buSzPct val="11428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Sans"/>
              </a:rPr>
              <a:t>Continue Deliberations on Subgroups’ Content Reorg and Recommend any Evolutionary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Sans"/>
              </a:rPr>
              <a:t>Has the division of work in Subgroups become blurr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Sans"/>
              </a:rPr>
              <a:t>Is there a better categorization of work we could u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Sans"/>
              </a:rPr>
              <a:t>Rename Technology and Services/Projects and Applicatio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5000"/>
              </a:lnSpc>
              <a:spcBef>
                <a:spcPts val="451"/>
              </a:spcBef>
              <a:buSzPct val="11428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Sans"/>
              </a:rPr>
              <a:t>Organize gaps in WGISS technical expertise and needs for support from Agencies for Chair to Request at November Ple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Sans"/>
              </a:rPr>
              <a:t>What expertise needed for Interest Groups to request CEOS agencies could send to WGISS-27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Sans"/>
              </a:rPr>
              <a:t>Are specific agency resources (monetary, participation, data contributions, etc.) needed to be placed toward a WGISS Interest Group or Projec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5000"/>
              </a:lnSpc>
              <a:spcBef>
                <a:spcPts val="451"/>
              </a:spcBef>
              <a:buSzPct val="11428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Sans"/>
              </a:rPr>
              <a:t>All Recommendations to be included in Subgroups’ Reports to be Presented to WGISS Plenary Friday, September 2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44A99-C979-4406-B100-F4106E81A732}" type="slidenum">
              <a:t>6</a:t>
            </a:fld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3T17:36:49Z</dcterms:created>
  <dc:creator>SAIC ODIN</dc:creator>
  <dc:description/>
  <cp:keywords/>
  <dc:language>en-US</dc:language>
  <cp:lastModifiedBy>jossadmin</cp:lastModifiedBy>
  <cp:lastPrinted>2004-04-15T17:51:45Z</cp:lastPrinted>
  <dcterms:modified xsi:type="dcterms:W3CDTF">2008-09-25T23:30:15Z</dcterms:modified>
  <cp:revision>311</cp:revision>
  <dc:subject/>
  <dc:title>Understanding and  Protecting Our Home Planet</dc:title>
</cp:coreProperties>
</file>