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sldImg"/>
          </p:nvPr>
        </p:nvSpPr>
        <p:spPr>
          <a:xfrm>
            <a:off x="1104480" y="812520"/>
            <a:ext cx="5343480" cy="4003560"/>
          </a:xfrm>
          <a:prstGeom prst="rect">
            <a:avLst/>
          </a:prstGeom>
          <a:noFill/>
          <a:ln w="0">
            <a:noFill/>
          </a:ln>
        </p:spPr>
        <p:txBody>
          <a:bodyPr lIns="0" rIns="0" tIns="0" bIns="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4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8"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1763F8-465D-4A03-BC51-FBFFD761C1F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04840" y="812880"/>
            <a:ext cx="5348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04840" y="812880"/>
            <a:ext cx="534672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CB9B0-BD90-4041-A2C7-20D22DB11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69302-8743-400A-A34B-3FF95660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6A98A-1353-4F40-AEDF-613D5747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03CF8-9949-46C7-963C-A042F722B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2BB91-9458-44D1-B1B8-459D254BE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CD2F1-693D-4B9D-9AFC-C4741D47B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4FAC-8558-4DF4-877A-108BB915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4AAE2-3D1A-486C-AA55-FD3EF83E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279000"/>
            <a:ext cx="9066240" cy="60206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7AB4C-0E37-4814-8414-88B847918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14CF-B779-4F89-8BFB-A121C1346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799A-2F6E-4799-A5FE-5C785F36C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4A5C-5A62-452C-BE1A-E29976446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03280" y="279000"/>
            <a:ext cx="906624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3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592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730AF1-8AA5-4AF5-A274-D059B03B02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Sensor Web Interest Group</a:t>
            </a:r>
            <a:endParaRPr b="1" lang="en-US" sz="4400" spc="-1" strike="noStrike">
              <a:solidFill>
                <a:srgbClr val="f57900"/>
              </a:solidFill>
              <a:latin typeface="Bitstream Ve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Description</a:t>
            </a:r>
            <a:endParaRPr b="1" lang="en-US" sz="4400" spc="-1" strike="noStrike">
              <a:solidFill>
                <a:srgbClr val="f57900"/>
              </a:solidFill>
              <a:latin typeface="Bitstream Vera Sans"/>
            </a:endParaRPr>
          </a:p>
        </p:txBody>
      </p:sp>
      <p:sp>
        <p:nvSpPr>
          <p:cNvPr id="53"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The Sensor Web outlines an advanced spatial data infrastructure that extends standard spatial data infrastructures by incorporating targeted observations through dynamic tasking and feedback to adapt autonomous operations. The use of sensor web improves resource use and reuse, reduces cost, allows for adaptive observation, and improved spatial and temporal resolutions as a result of data fus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Purpose</a:t>
            </a:r>
            <a:endParaRPr b="1" lang="en-US" sz="4400" spc="-1" strike="noStrike">
              <a:solidFill>
                <a:srgbClr val="f57900"/>
              </a:solidFill>
              <a:latin typeface="Bitstream Vera Sans"/>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Coordinate WGISS-member activities supporting sensor web tasks within GEOSS and CEOS.</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Identify WGISS inter-agency and inter-technology collaboration opportunities.</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Provide feedback to standards bodies.</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Interests</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Sensor Web Technologies</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imes New Roman"/>
              </a:rPr>
              <a:t>Sensor Networks</a:t>
            </a:r>
            <a:endParaRPr b="0" lang="en-US" sz="28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imes New Roman"/>
              </a:rPr>
              <a:t>Relations to Other Technologies e.g. GRID</a:t>
            </a:r>
            <a:endParaRPr b="0" lang="en-US" sz="28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Sensor Web Applications</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imes New Roman"/>
              </a:rPr>
              <a:t>Applicability to Virtual Constellations</a:t>
            </a:r>
            <a:endParaRPr b="0" lang="en-US" sz="28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imes New Roman"/>
              </a:rPr>
              <a:t>Applicability to CAL/VAL</a:t>
            </a:r>
            <a:endParaRPr b="0" lang="en-US" sz="28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Sensor Web Standards</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6659640" y="5219640"/>
            <a:ext cx="3240000" cy="216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Members</a:t>
            </a:r>
            <a:endParaRPr b="1" lang="en-US" sz="4400" spc="-1" strike="noStrike">
              <a:solidFill>
                <a:srgbClr val="f57900"/>
              </a:solidFill>
              <a:latin typeface="Bitstream Vera Sans"/>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BNSC (UK)</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JAXA (Japan)</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Meraka Institute (South Africa)</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NASA (USA)</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NSAU (Ukraine)</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USGS (USA)</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7518240" y="5759280"/>
            <a:ext cx="2381400" cy="153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Agenda</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8:30] GEOSS Vision for Sensor Web</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Terence van Zyl</a:t>
            </a:r>
            <a:endParaRPr b="0" lang="en-US" sz="28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8:42] Scope of Sensor Web: Use Case</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Karen Moe</a:t>
            </a:r>
            <a:endParaRPr b="0" lang="en-US" sz="28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8:54] Fire Scenario, E-Science Workflows</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Anwar Vahed</a:t>
            </a:r>
            <a:endParaRPr b="0" lang="en-US" sz="28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9:06] Sensor Web and GRID Technical Issues</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Natalia Kussul</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Agenda</a:t>
            </a:r>
            <a:endParaRPr b="1" lang="en-US" sz="4400" spc="-1" strike="noStrike">
              <a:solidFill>
                <a:srgbClr val="f57900"/>
              </a:solidFill>
              <a:latin typeface="Bitstream Vera Sans"/>
            </a:endParaRPr>
          </a:p>
        </p:txBody>
      </p:sp>
      <p:sp>
        <p:nvSpPr>
          <p:cNvPr id="65" name="PlaceHolder 2"/>
          <p:cNvSpPr>
            <a:spLocks noGrp="1"/>
          </p:cNvSpPr>
          <p:nvPr>
            <p:ph/>
          </p:nvPr>
        </p:nvSpPr>
        <p:spPr>
          <a:xfrm>
            <a:off x="502920" y="1767960"/>
            <a:ext cx="9070920" cy="5247000"/>
          </a:xfrm>
          <a:prstGeom prst="rect">
            <a:avLst/>
          </a:prstGeom>
          <a:noFill/>
          <a:ln w="0">
            <a:noFill/>
          </a:ln>
        </p:spPr>
        <p:txBody>
          <a:bodyPr lIns="0" rIns="0" tIns="0" bIns="0" anchor="t">
            <a:normAutofit fontScale="99000"/>
          </a:bodyPr>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9:18] Sensor Web Standards ISO TC 211</a:t>
            </a:r>
            <a:endParaRPr b="0" lang="en-US" sz="3200" spc="-1" strike="noStrike">
              <a:solidFill>
                <a:srgbClr val="000000"/>
              </a:solidFill>
              <a:latin typeface="Times New Roman"/>
            </a:endParaRPr>
          </a:p>
          <a:p>
            <a:pPr lvl="1" marL="851760" indent="-28296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Liping Di</a:t>
            </a:r>
            <a:endParaRPr b="0" lang="en-US" sz="28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9:30] Atmospheric Composition Interest Group</a:t>
            </a:r>
            <a:endParaRPr b="0" lang="en-US" sz="3200" spc="-1" strike="noStrike">
              <a:solidFill>
                <a:srgbClr val="000000"/>
              </a:solidFill>
              <a:latin typeface="Times New Roman"/>
            </a:endParaRPr>
          </a:p>
          <a:p>
            <a:pPr lvl="1" marL="851760" indent="-28296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Stephen Falk</a:t>
            </a:r>
            <a:endParaRPr b="0" lang="en-US" sz="2800" spc="-1" strike="noStrike">
              <a:solidFill>
                <a:srgbClr val="000000"/>
              </a:solidFill>
              <a:latin typeface="Times New Roman"/>
            </a:endParaRPr>
          </a:p>
          <a:p>
            <a:pPr marL="424440" indent="-320760" algn="just">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Times New Roman"/>
              </a:rPr>
              <a:t>[10:30] BREAK</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10:45] Flood Monitoring Sensor Web Prototype</a:t>
            </a:r>
            <a:endParaRPr b="0" lang="en-US" sz="3200" spc="-1" strike="noStrike">
              <a:solidFill>
                <a:srgbClr val="000000"/>
              </a:solidFill>
              <a:latin typeface="Times New Roman"/>
            </a:endParaRPr>
          </a:p>
          <a:p>
            <a:pPr lvl="1" marL="851760" indent="-28296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Wyn, Natalia Kussul, Dan Mandl</a:t>
            </a:r>
            <a:endParaRPr b="0" lang="en-US" sz="28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Times New Roman"/>
              </a:rPr>
              <a:t>[12:00] Lunch</a:t>
            </a:r>
            <a:endParaRPr b="0" lang="en-US" sz="3200" spc="-1" strike="noStrike">
              <a:solidFill>
                <a:srgbClr val="000000"/>
              </a:solidFill>
              <a:latin typeface="Times New Roman"/>
            </a:endParaRPr>
          </a:p>
          <a:p>
            <a:pPr marL="424440" indent="-32076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13:00] Flood Monitoring Sensor Web Prototype</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26520"/>
            <a:ext cx="90694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Agenda</a:t>
            </a:r>
            <a:endParaRPr b="1" lang="en-US" sz="4400" spc="-1" strike="noStrike">
              <a:solidFill>
                <a:srgbClr val="f57900"/>
              </a:solidFill>
              <a:latin typeface="Bitstream Vera Sans"/>
            </a:endParaRPr>
          </a:p>
        </p:txBody>
      </p:sp>
      <p:sp>
        <p:nvSpPr>
          <p:cNvPr id="67"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14:00] Discussion Break Out Groups</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3200" spc="-1" strike="noStrike">
                <a:solidFill>
                  <a:srgbClr val="000000"/>
                </a:solidFill>
                <a:latin typeface="Times New Roman"/>
              </a:rPr>
              <a:t>[15:30] BREAK</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15:45] Joint Group Discussion</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16:30] Sensor Web Interest Group Summary</a:t>
            </a:r>
            <a:endParaRPr b="0" lang="en-US" sz="32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17:00] WGISS Discussion and Recommendation to Plenary</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25080"/>
            <a:ext cx="9067680" cy="1211400"/>
          </a:xfrm>
          <a:prstGeom prst="rect">
            <a:avLst/>
          </a:prstGeom>
          <a:noFill/>
          <a:ln w="0">
            <a:noFill/>
          </a:ln>
        </p:spPr>
        <p:txBody>
          <a:bodyPr lIns="0" rIns="0" tIns="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57900"/>
                </a:solidFill>
                <a:latin typeface="Bitstream Vera Sans"/>
              </a:rPr>
              <a:t>Break Out</a:t>
            </a:r>
            <a:endParaRPr b="1" lang="en-US" sz="4400" spc="-1" strike="noStrike">
              <a:solidFill>
                <a:srgbClr val="f57900"/>
              </a:solidFill>
              <a:latin typeface="Bitstream Vera Sans"/>
            </a:endParaRPr>
          </a:p>
        </p:txBody>
      </p:sp>
      <p:sp>
        <p:nvSpPr>
          <p:cNvPr id="69" name="PlaceHolder 2"/>
          <p:cNvSpPr>
            <a:spLocks noGrp="1"/>
          </p:cNvSpPr>
          <p:nvPr>
            <p:ph/>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Group 1</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imes New Roman"/>
              </a:rPr>
              <a:t>Stays Here</a:t>
            </a:r>
            <a:endParaRPr b="0" lang="en-US" sz="28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Group 2 FLOOD</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imes New Roman"/>
              </a:rPr>
              <a:t>Board Room 3131 3</a:t>
            </a:r>
            <a:r>
              <a:rPr b="0" lang="en-US" sz="2800" spc="-1" strike="noStrike" baseline="33000">
                <a:solidFill>
                  <a:srgbClr val="000000"/>
                </a:solidFill>
                <a:latin typeface="Times New Roman"/>
              </a:rPr>
              <a:t>rd</a:t>
            </a:r>
            <a:r>
              <a:rPr b="0" lang="en-US" sz="2800" spc="-1" strike="noStrike">
                <a:solidFill>
                  <a:srgbClr val="000000"/>
                </a:solidFill>
                <a:latin typeface="Times New Roman"/>
              </a:rPr>
              <a:t> Floor Signs</a:t>
            </a:r>
            <a:endParaRPr b="0" lang="en-US" sz="2800" spc="-1" strike="noStrike">
              <a:solidFill>
                <a:srgbClr val="000000"/>
              </a:solidFill>
              <a:latin typeface="Times New Roman"/>
            </a:endParaRPr>
          </a:p>
          <a:p>
            <a:pPr marL="428760" indent="-324000">
              <a:lnSpc>
                <a:spcPct val="93000"/>
              </a:lnSpc>
              <a:spcAft>
                <a:spcPts val="1426"/>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Times New Roman"/>
              </a:rPr>
              <a:t>Group 3 AIR QUALITY FIRE</a:t>
            </a:r>
            <a:endParaRPr b="0" lang="en-US" sz="3200" spc="-1" strike="noStrike">
              <a:solidFill>
                <a:srgbClr val="000000"/>
              </a:solidFill>
              <a:latin typeface="Times New Roman"/>
            </a:endParaRPr>
          </a:p>
          <a:p>
            <a:pPr lvl="1" marL="860400" indent="-285840">
              <a:lnSpc>
                <a:spcPct val="93000"/>
              </a:lnSpc>
              <a:spcAft>
                <a:spcPts val="1137"/>
              </a:spcAft>
              <a:buClr>
                <a:srgbClr val="f579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Times New Roman"/>
              </a:rPr>
              <a:t>Board Room 2503 2</a:t>
            </a:r>
            <a:r>
              <a:rPr b="0" lang="en-US" sz="2800" spc="-1" strike="noStrike" baseline="33000">
                <a:solidFill>
                  <a:srgbClr val="000000"/>
                </a:solidFill>
                <a:latin typeface="Times New Roman"/>
              </a:rPr>
              <a:t>nd</a:t>
            </a:r>
            <a:r>
              <a:rPr b="0" lang="en-US" sz="2800" spc="-1" strike="noStrike">
                <a:solidFill>
                  <a:srgbClr val="000000"/>
                </a:solidFill>
                <a:latin typeface="Times New Roman"/>
              </a:rPr>
              <a:t> Floor Righ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rence van Zyl</dc:creator>
  <dc:description/>
  <dc:language>en-US</dc:language>
  <cp:lastModifiedBy>jossadmin</cp:lastModifiedBy>
  <dcterms:modified xsi:type="dcterms:W3CDTF">2008-09-24T20:42:20Z</dcterms:modified>
  <cp:revision>1</cp:revision>
  <dc:subject/>
  <dc:title>Sensor Web Interest Group</dc:title>
</cp:coreProperties>
</file>