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a0e4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5527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Consola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Consolas"/>
              </a:rPr>
              <a:t>WGISS 26 Plenary and Subgroup Meeting, Sep 22-26, 2008, Boulder Colorado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914400"/>
            <a:ext cx="7772400" cy="0"/>
          </a:xfrm>
          <a:prstGeom prst="line">
            <a:avLst/>
          </a:prstGeom>
          <a:ln w="57240">
            <a:solidFill>
              <a:srgbClr val="000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57240">
            <a:solidFill>
              <a:srgbClr val="3a0e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878040" cy="718200"/>
            <a:chOff x="0" y="0"/>
            <a:chExt cx="878040" cy="7182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7804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80" y="380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4e8f"/>
                  </a:solidFill>
                  <a:latin typeface="Arial Black"/>
                </a:rPr>
                <a:t>WGI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609480" y="6477120"/>
            <a:ext cx="792504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202.44.219.82/Catalogue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743040" y="4114800"/>
            <a:ext cx="7657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48"/>
                </a:solidFill>
                <a:latin typeface="Tahoma"/>
              </a:rPr>
              <a:t>Pakorn Apaphant</a:t>
            </a:r>
            <a:endParaRPr b="0" lang="en-US" sz="2800" spc="-1" strike="noStrike">
              <a:solidFill>
                <a:srgbClr val="3a0e4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48"/>
                </a:solidFill>
                <a:latin typeface="Tahoma"/>
              </a:rPr>
              <a:t>GISTDA, Thailand</a:t>
            </a:r>
            <a:endParaRPr b="0" lang="en-US" sz="2800" spc="-1" strike="noStrike">
              <a:solidFill>
                <a:srgbClr val="3a0e48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September 25, 2008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48"/>
                </a:solidFill>
                <a:latin typeface="Tahoma"/>
                <a:ea typeface="Angsana New"/>
              </a:rPr>
              <a:t>ASIAES Usage of Web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1904760"/>
            <a:ext cx="3352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Angsana New"/>
              </a:rPr>
              <a:t>Compatible with 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  <a:ea typeface="Angsana New"/>
              </a:rPr>
              <a:t>OpenGIS Catalogue Services Specification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  <a:ea typeface="Angsana New"/>
              </a:rPr>
              <a:t>ISO 19119 : Geographic Information – Services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Angsana New"/>
              </a:rPr>
              <a:t>Interoperable with other external servers which are compatible with OGC Catalogue Services standard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43040" y="4876560"/>
            <a:ext cx="4321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Angsana New"/>
              </a:rPr>
              <a:t>It is developed under JAVA platform by CSW and SOAP technology 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601" t="9436" r="1830" b="2796"/>
          <a:stretch/>
        </p:blipFill>
        <p:spPr>
          <a:xfrm>
            <a:off x="3352680" y="1752480"/>
            <a:ext cx="5519880" cy="2793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001000" y="2971800"/>
            <a:ext cx="216000" cy="216000"/>
          </a:xfrm>
          <a:prstGeom prst="flowChartOr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914400" y="9907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  <a:ea typeface="Angsana New"/>
              </a:rPr>
              <a:t>OGC Catalogue Services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2285640"/>
            <a:ext cx="318132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Angsana New"/>
              </a:rPr>
              <a:t>Called by the web portal to process most OGC catalogue service methods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Angsana New"/>
              </a:rPr>
              <a:t>Call metadata management service to manipulate all metadata in ASIAES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1640" y="2997000"/>
            <a:ext cx="432108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48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352680" y="2362320"/>
            <a:ext cx="5562360" cy="3200040"/>
            <a:chOff x="3352680" y="2362320"/>
            <a:chExt cx="5562360" cy="32000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2601" t="9436" r="1830" b="2796"/>
            <a:stretch/>
          </p:blipFill>
          <p:spPr>
            <a:xfrm>
              <a:off x="3352680" y="2362320"/>
              <a:ext cx="5562360" cy="32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083080" y="3909600"/>
              <a:ext cx="256320" cy="291600"/>
            </a:xfrm>
            <a:prstGeom prst="flowChartOr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3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  <a:ea typeface="Angsana New"/>
              </a:rPr>
              <a:t>OGC Catalogue Services (cont.)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48"/>
                </a:solidFill>
                <a:latin typeface="Tahoma"/>
              </a:rPr>
              <a:t>OGC Catalogue Services (Cont.)</a:t>
            </a:r>
            <a:endParaRPr b="1" lang="en-US" sz="36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-95760"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External OGC catalogue servers/clients can share information with ASIAES through 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207720" indent="-79920"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GetCapabilities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1" marL="207720" indent="-79920"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GetRecords </a:t>
            </a: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1" marL="207720" indent="-79920"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GetRecordById </a:t>
            </a: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1" marL="207720" indent="-79920"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DescribeRecord </a:t>
            </a: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1" marL="207720" indent="-79920"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GetDomain </a:t>
            </a: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1" marL="207720" indent="-79920"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Transaction </a:t>
            </a: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1" marL="207720" indent="-79920"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Harvest 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95760" indent="-95760"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Capabilities and any information of ASIAES OGC catalogue service are available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202.44.219.82/Catalogue/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95760" indent="-95760"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Call </a:t>
            </a:r>
            <a:r>
              <a:rPr b="0" lang="en-US" sz="2000" spc="-1" strike="noStrike">
                <a:solidFill>
                  <a:srgbClr val="3a0e48"/>
                </a:solidFill>
                <a:latin typeface="Tahoma"/>
                <a:ea typeface="Angsana New"/>
              </a:rPr>
              <a:t>GetCapabilities of OGC Catalogue Services via</a:t>
            </a: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 http</a:t>
            </a:r>
            <a:r>
              <a:rPr b="0" lang="th-TH" sz="2000" spc="-1" strike="noStrike">
                <a:solidFill>
                  <a:srgbClr val="3a0e48"/>
                </a:solidFill>
                <a:latin typeface="Tahoma"/>
              </a:rPr>
              <a:t>://</a:t>
            </a: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202.44.219.82/Catalogue</a:t>
            </a:r>
            <a:r>
              <a:rPr b="0" lang="th-TH" sz="2000" spc="-1" strike="noStrike">
                <a:solidFill>
                  <a:srgbClr val="3a0e48"/>
                </a:solidFill>
                <a:latin typeface="Tahoma"/>
              </a:rPr>
              <a:t>/</a:t>
            </a: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CSW</a:t>
            </a:r>
            <a:r>
              <a:rPr b="0" lang="th-TH" sz="2000" spc="-1" strike="noStrike">
                <a:solidFill>
                  <a:srgbClr val="3a0e48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do?request</a:t>
            </a:r>
            <a:r>
              <a:rPr b="0" lang="th-TH" sz="2000" spc="-1" strike="noStrike">
                <a:solidFill>
                  <a:srgbClr val="3a0e48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GetCapabilities&amp;service</a:t>
            </a:r>
            <a:r>
              <a:rPr b="0" lang="th-TH" sz="2000" spc="-1" strike="noStrike">
                <a:solidFill>
                  <a:srgbClr val="3a0e48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CSW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2793" t="8038" r="1830" b="4543"/>
          <a:stretch/>
        </p:blipFill>
        <p:spPr>
          <a:xfrm>
            <a:off x="2666880" y="1752480"/>
            <a:ext cx="6477120" cy="3270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48"/>
                </a:solidFill>
                <a:latin typeface="Tahoma"/>
                <a:ea typeface="Angsana New"/>
              </a:rPr>
              <a:t>Other  Service: 3D Visualization</a:t>
            </a:r>
            <a:endParaRPr b="1" lang="en-US" sz="36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8640" y="5181120"/>
            <a:ext cx="57150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Angsana New"/>
              </a:rPr>
              <a:t>Users can use TerraExplorer freeware to visualize 3D model interactively on internet.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3352680"/>
            <a:ext cx="215640" cy="216000"/>
          </a:xfrm>
          <a:prstGeom prst="flowChartOr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TerraExplorerPro"/>
          <p:cNvPicPr/>
          <p:nvPr/>
        </p:nvPicPr>
        <p:blipFill>
          <a:blip r:embed="rId2"/>
          <a:stretch/>
        </p:blipFill>
        <p:spPr>
          <a:xfrm>
            <a:off x="0" y="3962520"/>
            <a:ext cx="32767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  <a:ea typeface="Angsana New"/>
              </a:rPr>
              <a:t>ASIAES Services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Natural Disaster Information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Search and display natural disaster hazard information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Relate image and spatial metadata to natural disaster 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Angsana New"/>
              </a:rPr>
              <a:t>Search engine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  <a:ea typeface="Angsana New"/>
              </a:rPr>
              <a:t>Search </a:t>
            </a: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image and spatial </a:t>
            </a:r>
            <a:r>
              <a:rPr b="0" lang="en-US" sz="2000" spc="-1" strike="noStrike">
                <a:solidFill>
                  <a:srgbClr val="3a0e48"/>
                </a:solidFill>
                <a:latin typeface="Tahoma"/>
                <a:ea typeface="Angsana New"/>
              </a:rPr>
              <a:t>metadata that related with natural disaster information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  <a:ea typeface="Angsana New"/>
              </a:rPr>
              <a:t>Quick search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  <a:ea typeface="Angsana New"/>
              </a:rPr>
              <a:t>Advance search 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  <a:ea typeface="Angsana New"/>
              </a:rPr>
              <a:t>Graphic search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  <a:ea typeface="Angsana New"/>
              </a:rPr>
              <a:t>Upload metadata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Angsana New"/>
              </a:rPr>
              <a:t>3D Visualization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  <a:ea typeface="Angsana New"/>
              </a:rPr>
              <a:t>Provide 3D visualize streaming data to TerraExplorer users by TerraGate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</a:rPr>
              <a:t>Cooperation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CEODE, China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KARI, Republic of Korea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Sentinel Asia, JAXA, Japan (through email)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VNRSC, Vietnam (Through email)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48"/>
                </a:solidFill>
                <a:latin typeface="Tahoma"/>
              </a:rPr>
              <a:t>Way forward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CRISP, Singapore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PDC/APHIN, USA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48"/>
                </a:solidFill>
                <a:latin typeface="Tahoma"/>
              </a:rPr>
              <a:t>Coordination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UN-Spider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APN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</a:rPr>
              <a:t>Disaster SBA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</a:rPr>
              <a:t>Overview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48"/>
                </a:solidFill>
                <a:latin typeface="Tahoma"/>
              </a:rPr>
              <a:t>ASEAN+3 Satellite Image Archive For Environmental Study</a:t>
            </a:r>
            <a:endParaRPr b="0" lang="en-US" sz="28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MS PGothic"/>
              </a:rPr>
              <a:t>Space related Agencies in SE Asia + China, Japan and Korea 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48"/>
                </a:solidFill>
                <a:latin typeface="Tahoma"/>
                <a:ea typeface="MS PGothic"/>
              </a:rPr>
              <a:t>A web portal </a:t>
            </a:r>
            <a:endParaRPr b="0" lang="en-US" sz="28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MS PGothic"/>
              </a:rPr>
              <a:t>designed to share information of EO satellite products for natural hazards existed in the ASEAN+3 member countries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MS PGothic"/>
              </a:rPr>
              <a:t>Online catalogue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MS PGothic"/>
              </a:rPr>
              <a:t>Search Engine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48"/>
                </a:solidFill>
                <a:latin typeface="Tahoma"/>
                <a:ea typeface="MS PGothic"/>
              </a:rPr>
              <a:t>Implemented in 2007.</a:t>
            </a:r>
            <a:endParaRPr b="0" lang="en-US" sz="28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48"/>
                </a:solidFill>
                <a:latin typeface="Tahoma"/>
                <a:ea typeface="MS PGothic"/>
              </a:rPr>
              <a:t>In 2008, expands system capability</a:t>
            </a:r>
            <a:endParaRPr b="0" lang="en-US" sz="28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</a:rPr>
              <a:t>ASIAES Services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581360"/>
            <a:ext cx="277200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50000" y="4854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08360" y="3141720"/>
            <a:ext cx="4427640" cy="1008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nsolas"/>
              </a:rPr>
              <a:t>Clearing house of available satellite data for Natural disast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76360" y="2349360"/>
            <a:ext cx="4859640" cy="703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Consolas"/>
              </a:rPr>
              <a:t>information about existing Natural Disasters in ASEAN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5943600"/>
            <a:ext cx="302400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Image 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5486400"/>
            <a:ext cx="230508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Consolas"/>
              </a:rPr>
              <a:t>Data Up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360" y="2602080"/>
            <a:ext cx="900000" cy="252360"/>
          </a:xfrm>
          <a:prstGeom prst="leftArrow">
            <a:avLst>
              <a:gd name="adj1" fmla="val 50000"/>
              <a:gd name="adj2" fmla="val 89158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08360" y="5699160"/>
            <a:ext cx="900000" cy="252360"/>
          </a:xfrm>
          <a:prstGeom prst="leftArrow">
            <a:avLst>
              <a:gd name="adj1" fmla="val 50000"/>
              <a:gd name="adj2" fmla="val 89158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6095880"/>
            <a:ext cx="900000" cy="252360"/>
          </a:xfrm>
          <a:prstGeom prst="leftArrow">
            <a:avLst>
              <a:gd name="adj1" fmla="val 50000"/>
              <a:gd name="adj2" fmla="val 89158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236000" y="2637000"/>
            <a:ext cx="900000" cy="325440"/>
          </a:xfrm>
          <a:prstGeom prst="leftArrow">
            <a:avLst>
              <a:gd name="adj1" fmla="val 50000"/>
              <a:gd name="adj2" fmla="val 69137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6552720" y="6019920"/>
            <a:ext cx="900360" cy="325440"/>
          </a:xfrm>
          <a:prstGeom prst="leftArrow">
            <a:avLst>
              <a:gd name="adj1" fmla="val 50000"/>
              <a:gd name="adj2" fmla="val 69165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945560" y="3068640"/>
            <a:ext cx="1198440" cy="1881000"/>
            <a:chOff x="7945560" y="3068640"/>
            <a:chExt cx="1198440" cy="1881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7945560" y="3068640"/>
              <a:ext cx="11984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965360" y="4581360"/>
              <a:ext cx="866520" cy="368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nsolas"/>
                </a:rPr>
                <a:t>Us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916360" y="4941720"/>
            <a:ext cx="2071440" cy="825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nsolas"/>
              </a:rPr>
              <a:t>Web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5049720"/>
            <a:ext cx="900000" cy="252360"/>
          </a:xfrm>
          <a:prstGeom prst="leftArrow">
            <a:avLst>
              <a:gd name="adj1" fmla="val 50000"/>
              <a:gd name="adj2" fmla="val 89158"/>
            </a:avLst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66920" y="4257720"/>
            <a:ext cx="324180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nsolas"/>
              </a:rPr>
              <a:t>3D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4330800"/>
            <a:ext cx="792000" cy="252360"/>
          </a:xfrm>
          <a:prstGeom prst="leftArrow">
            <a:avLst>
              <a:gd name="adj1" fmla="val 50000"/>
              <a:gd name="adj2" fmla="val 78459"/>
            </a:avLst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6408360" y="4294080"/>
            <a:ext cx="647640" cy="325440"/>
          </a:xfrm>
          <a:prstGeom prst="leftArrow">
            <a:avLst>
              <a:gd name="adj1" fmla="val 50000"/>
              <a:gd name="adj2" fmla="val 49751"/>
            </a:avLst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40360" y="4941720"/>
            <a:ext cx="2735280" cy="825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Consolas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32000" y="3897360"/>
            <a:ext cx="4654800" cy="1619280"/>
            <a:chOff x="3132000" y="3897360"/>
            <a:chExt cx="4654800" cy="1619280"/>
          </a:xfrm>
        </p:grpSpPr>
        <p:sp>
          <p:nvSpPr>
            <p:cNvPr id="73" name=""/>
            <p:cNvSpPr/>
            <p:nvPr/>
          </p:nvSpPr>
          <p:spPr>
            <a:xfrm>
              <a:off x="3132000" y="4148280"/>
              <a:ext cx="3527640" cy="1368360"/>
            </a:xfrm>
            <a:prstGeom prst="ellipse">
              <a:avLst/>
            </a:prstGeom>
            <a:noFill/>
            <a:ln cap="rnd" w="7632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6300720" y="3897360"/>
              <a:ext cx="1486080" cy="1200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936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latin typeface="Consolas"/>
                </a:rPr>
                <a:t>New !!</a:t>
              </a:r>
              <a:endParaRPr b="0" lang="en-US" sz="24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Consolas"/>
                <a:ea typeface="Consolas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835280" y="3538440"/>
            <a:ext cx="863640" cy="252360"/>
          </a:xfrm>
          <a:prstGeom prst="leftArrow">
            <a:avLst>
              <a:gd name="adj1" fmla="val 50000"/>
              <a:gd name="adj2" fmla="val 85556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343280" y="3394080"/>
            <a:ext cx="576360" cy="325440"/>
          </a:xfrm>
          <a:prstGeom prst="leftArrow">
            <a:avLst>
              <a:gd name="adj1" fmla="val 50000"/>
              <a:gd name="adj2" fmla="val 44275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-2520" y="3213000"/>
            <a:ext cx="2100960" cy="1736640"/>
            <a:chOff x="-2520" y="3213000"/>
            <a:chExt cx="2100960" cy="173664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0" y="3213000"/>
              <a:ext cx="182412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-2520" y="4581360"/>
              <a:ext cx="2100960" cy="368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nsolas"/>
                </a:rPr>
                <a:t>Data Provi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</a:rPr>
              <a:t>ASIAES Architecture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671" t="5360" r="1651" b="2693"/>
          <a:stretch/>
        </p:blipFill>
        <p:spPr>
          <a:xfrm>
            <a:off x="380880" y="1447920"/>
            <a:ext cx="8458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990720"/>
            <a:ext cx="5105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  <a:ea typeface="Angsana New"/>
              </a:rPr>
              <a:t>Main Actors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30290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Users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General web user 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  <a:ea typeface="Angsana New"/>
              </a:rPr>
              <a:t>Registered member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  <a:ea typeface="Angsana New"/>
              </a:rPr>
              <a:t>Participating agencies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  <a:ea typeface="Angsana New"/>
              </a:rPr>
              <a:t>System admin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  <a:ea typeface="Angsana New"/>
              </a:rPr>
              <a:t>OGC Catalog Service Servers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  <a:ea typeface="Angsana New"/>
              </a:rPr>
              <a:t>Web Servers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  <a:ea typeface="Angsana New"/>
              </a:rPr>
              <a:t>Internal Satellite Image Database</a:t>
            </a:r>
            <a:r>
              <a:rPr b="0" lang="th-TH" sz="2000" spc="-1" strike="noStrike">
                <a:solidFill>
                  <a:srgbClr val="3a0e48"/>
                </a:solidFill>
                <a:latin typeface="Tahoma"/>
                <a:ea typeface="Angsana New"/>
              </a:rPr>
              <a:t> </a:t>
            </a:r>
            <a:r>
              <a:rPr b="0" lang="en-US" sz="2000" spc="-1" strike="noStrike">
                <a:solidFill>
                  <a:srgbClr val="3a0e48"/>
                </a:solidFill>
                <a:latin typeface="Tahoma"/>
                <a:ea typeface="Angsana New"/>
              </a:rPr>
              <a:t>(CUDOS)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971800" y="2514600"/>
            <a:ext cx="6019560" cy="3276360"/>
            <a:chOff x="2971800" y="2514600"/>
            <a:chExt cx="6019560" cy="32763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rcRect l="2793" t="8038" r="1830" b="4543"/>
            <a:stretch/>
          </p:blipFill>
          <p:spPr>
            <a:xfrm>
              <a:off x="2971800" y="2514600"/>
              <a:ext cx="6019560" cy="32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732080" y="2613960"/>
              <a:ext cx="279720" cy="301680"/>
            </a:xfrm>
            <a:prstGeom prst="flowChartOr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360" y="2613960"/>
              <a:ext cx="279720" cy="301680"/>
            </a:xfrm>
            <a:prstGeom prst="flowChartOr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91520" y="4928040"/>
              <a:ext cx="279720" cy="301320"/>
            </a:xfrm>
            <a:prstGeom prst="flowChartOr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71520" y="2613960"/>
              <a:ext cx="279720" cy="301680"/>
            </a:xfrm>
            <a:prstGeom prst="flowChartOr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2793" t="8038" r="1830" b="4543"/>
          <a:stretch/>
        </p:blipFill>
        <p:spPr>
          <a:xfrm>
            <a:off x="3276720" y="1676520"/>
            <a:ext cx="5867280" cy="2963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  <a:ea typeface="Angsana New"/>
              </a:rPr>
              <a:t>Web Portal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2209320"/>
            <a:ext cx="3257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  <a:ea typeface="Angsana New"/>
              </a:rPr>
              <a:t>A front door for all users.  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  <a:ea typeface="Angsana New"/>
              </a:rPr>
              <a:t>ASP language/ MS Internet Information Server (MS IIS).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  <a:ea typeface="Angsana New"/>
              </a:rPr>
              <a:t>Call OGC catalogue service to get OGC catalogue service for users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  <a:ea typeface="Angsana New"/>
              </a:rPr>
              <a:t>Call web map server and 3D visualization server to get images and 3D model for users.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38120" y="4876920"/>
            <a:ext cx="4876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  <a:ea typeface="Angsana New"/>
              </a:rPr>
              <a:t>Call metadata management to get metadata service for users.</a:t>
            </a: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Data to be stored in Database Management System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3200400"/>
            <a:ext cx="215640" cy="216000"/>
          </a:xfrm>
          <a:prstGeom prst="flowChartOr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2793" t="8038" r="1830" b="4543"/>
          <a:stretch/>
        </p:blipFill>
        <p:spPr>
          <a:xfrm>
            <a:off x="2819520" y="2362320"/>
            <a:ext cx="6324480" cy="3192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1960" y="990720"/>
            <a:ext cx="4647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  <a:ea typeface="Angsana New"/>
              </a:rPr>
              <a:t>Web Map Server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2971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Angsana New"/>
              </a:rPr>
              <a:t>Called by Web Portal to get images and/or spatial data for web users.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Angsana New"/>
              </a:rPr>
              <a:t>To illustrate image footprint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48"/>
                </a:solidFill>
                <a:latin typeface="Tahoma"/>
                <a:ea typeface="Angsana New"/>
              </a:rPr>
              <a:t>To support search engine by locating coordinate of image or disaster events</a:t>
            </a: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038480"/>
            <a:ext cx="215640" cy="216000"/>
          </a:xfrm>
          <a:prstGeom prst="flowChartOr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2793" t="8038" r="1830" b="4543"/>
          <a:stretch/>
        </p:blipFill>
        <p:spPr>
          <a:xfrm>
            <a:off x="2971800" y="1905120"/>
            <a:ext cx="5940360" cy="2998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9907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  <a:ea typeface="Angsana New"/>
              </a:rPr>
              <a:t>Metadata Management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200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0e48"/>
                </a:solidFill>
                <a:latin typeface="Tahoma"/>
                <a:ea typeface="Angsana New"/>
              </a:rPr>
              <a:t>An internal web services that store, import and retrieve data</a:t>
            </a:r>
            <a:endParaRPr b="0" lang="en-US" sz="1900" spc="-1" strike="noStrike">
              <a:solidFill>
                <a:srgbClr val="3a0e48"/>
              </a:solidFill>
              <a:latin typeface="Tahoma"/>
            </a:endParaRPr>
          </a:p>
          <a:p>
            <a:pPr marL="332640" indent="-332640">
              <a:spcBef>
                <a:spcPts val="476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0e48"/>
                </a:solidFill>
                <a:latin typeface="Tahoma"/>
                <a:ea typeface="Angsana New"/>
              </a:rPr>
              <a:t>Access CODUS Database (MySQL) to import satellite metadata into ASIAES</a:t>
            </a:r>
            <a:endParaRPr b="0" lang="en-US" sz="1900" spc="-1" strike="noStrike">
              <a:solidFill>
                <a:srgbClr val="3a0e48"/>
              </a:solidFill>
              <a:latin typeface="Tahoma"/>
            </a:endParaRPr>
          </a:p>
          <a:p>
            <a:pPr marL="332640" indent="-332640">
              <a:spcBef>
                <a:spcPts val="476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0e48"/>
                </a:solidFill>
                <a:latin typeface="Tahoma"/>
                <a:ea typeface="Angsana New"/>
              </a:rPr>
              <a:t>Compatible with </a:t>
            </a:r>
            <a:endParaRPr b="0" lang="en-US" sz="1900" spc="-1" strike="noStrike">
              <a:solidFill>
                <a:srgbClr val="3a0e48"/>
              </a:solidFill>
              <a:latin typeface="Tahoma"/>
            </a:endParaRPr>
          </a:p>
          <a:p>
            <a:pPr lvl="1" marL="720720" indent="-277200">
              <a:spcBef>
                <a:spcPts val="476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0e48"/>
                </a:solidFill>
                <a:latin typeface="Tahoma"/>
                <a:ea typeface="Angsana New"/>
              </a:rPr>
              <a:t>ISO 19115 Part II</a:t>
            </a:r>
            <a:endParaRPr b="0" lang="en-US" sz="1900" spc="-1" strike="noStrike">
              <a:solidFill>
                <a:srgbClr val="3a0e48"/>
              </a:solidFill>
              <a:latin typeface="Tahoma"/>
            </a:endParaRPr>
          </a:p>
          <a:p>
            <a:pPr lvl="1" marL="720720" indent="-277200">
              <a:spcBef>
                <a:spcPts val="476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0e48"/>
                </a:solidFill>
                <a:latin typeface="Tahoma"/>
                <a:ea typeface="Angsana New"/>
              </a:rPr>
              <a:t>ISO 19139 </a:t>
            </a:r>
            <a:endParaRPr b="0" lang="en-US" sz="1900" spc="-1" strike="noStrike">
              <a:solidFill>
                <a:srgbClr val="3a0e48"/>
              </a:solidFill>
              <a:latin typeface="Tahoma"/>
            </a:endParaRPr>
          </a:p>
          <a:p>
            <a:pPr marL="332640" indent="-332640">
              <a:spcBef>
                <a:spcPts val="476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0e48"/>
                </a:solidFill>
                <a:latin typeface="Tahoma"/>
                <a:ea typeface="Angsana New"/>
              </a:rPr>
              <a:t>Developed under JAVA platform</a:t>
            </a:r>
            <a:endParaRPr b="0" lang="en-US" sz="19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4495680"/>
            <a:ext cx="216000" cy="216000"/>
          </a:xfrm>
          <a:prstGeom prst="flowChartOr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4952880"/>
            <a:ext cx="4876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22096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  <a:ea typeface="Angsana New"/>
              </a:rPr>
              <a:t>All ASIAES metadata are stored in the relational database management system 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  <a:ea typeface="Angsana New"/>
              </a:rPr>
              <a:t>Participating agencies can upload metadata that compatible with ISO 19115 Part II and ISO 19139 into ASIAES system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  <a:ea typeface="Angsana New"/>
              </a:rPr>
              <a:t>WSDL of ASIAES web services are available at http://202.44.219.82/MDTServices/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1640" y="2997000"/>
            <a:ext cx="432108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title"/>
          </p:nvPr>
        </p:nvSpPr>
        <p:spPr>
          <a:xfrm>
            <a:off x="990720" y="9907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48"/>
                </a:solidFill>
                <a:latin typeface="Tahoma"/>
                <a:ea typeface="Angsana New"/>
              </a:rPr>
              <a:t>Metadata Management</a:t>
            </a:r>
            <a:r>
              <a:rPr b="1" lang="th-TH" sz="3600" spc="-1" strike="noStrike">
                <a:solidFill>
                  <a:srgbClr val="3a0e48"/>
                </a:solidFill>
                <a:latin typeface="Tahoma"/>
                <a:ea typeface="Angsana New"/>
              </a:rPr>
              <a:t> </a:t>
            </a:r>
            <a:r>
              <a:rPr b="1" lang="en-US" sz="3600" spc="-1" strike="noStrike">
                <a:solidFill>
                  <a:srgbClr val="3a0e48"/>
                </a:solidFill>
                <a:latin typeface="Tahoma"/>
                <a:ea typeface="Angsana New"/>
              </a:rPr>
              <a:t>(cont.)</a:t>
            </a:r>
            <a:endParaRPr b="1" lang="en-US" sz="3600" spc="-1" strike="noStrike">
              <a:solidFill>
                <a:srgbClr val="3a0e48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793" t="8038" r="1830" b="4543"/>
          <a:stretch/>
        </p:blipFill>
        <p:spPr>
          <a:xfrm>
            <a:off x="3203640" y="2362320"/>
            <a:ext cx="5940360" cy="2998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89840" y="4952880"/>
            <a:ext cx="216000" cy="216000"/>
          </a:xfrm>
          <a:prstGeom prst="flowChartOr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8:42:25Z</dcterms:created>
  <dc:creator/>
  <dc:description/>
  <dc:language>en-US</dc:language>
  <cp:lastModifiedBy> </cp:lastModifiedBy>
  <dcterms:modified xsi:type="dcterms:W3CDTF">2008-09-25T16:10:58Z</dcterms:modified>
  <cp:revision>233</cp:revision>
  <dc:subject/>
  <dc:title>Slide 1</dc:title>
</cp:coreProperties>
</file>