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3B151D73-2B41-478F-8F4A-4CBEE09286AF}" type="datetime">
              <a:rPr b="0" lang="en-GB" sz="11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94960" y="729720"/>
            <a:ext cx="4878360" cy="365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389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6316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778200" y="926316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A3B68114-78B7-4CF4-9F7B-8AC921A7763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95320" y="73008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389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ve Williams moving to Australia in Nov 12 – but not before ESA Minis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pen recruitment process led by parent department of Business Innovation and Ski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5320" y="73008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389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e of the major aims of the UKSA is to invest in and support growth in the Space Indust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fforts are focused on building a cluster of act ivies in Harwell Oxfordshi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5320" y="728640"/>
            <a:ext cx="4881600" cy="3660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3909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UKSA PPT slide new visuals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hc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fc"/>
          <p:cNvSpPr/>
          <p:nvPr/>
        </p:nvSpPr>
        <p:spPr>
          <a:xfrm>
            <a:off x="0" y="649116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UKSA PPT slide new visuals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UKSA PPT slide new visua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250920" y="3573360"/>
            <a:ext cx="8559720" cy="67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UK Space Agency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verview for CEOS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tember 2012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11280" y="3357720"/>
            <a:ext cx="8004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0" y="692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UK Space Agency 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87948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95280" y="1203480"/>
            <a:ext cx="628668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An executive agency of  Department of Business Innovation and Skills at the heart of UK efforts to explore and benefit from space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Reporting to Minister of Universities and Science (David Willetts)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UK Civil Space Strategy 2012-2016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Themes: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Growth through new opportunities;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Growth from export;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Innovation supporting growth;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Science to enable growth;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Education for growth;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Growth through smarter government</a:t>
            </a:r>
            <a:r>
              <a:rPr b="0" lang="en-GB" sz="2000" spc="-1" strike="noStrike">
                <a:solidFill>
                  <a:srgbClr val="113f6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f6d"/>
                </a:solidFill>
                <a:latin typeface="Arial"/>
              </a:rPr>
              <a:t>Twitter feed: spacegovuk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13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SA context (EO foc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civil space investment by UKSA and partners is channelled through 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increase in optional ESA funding in Ministerial in 2012, mainly comms and 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well: Satellite Applications Catapult, facility for Climate and Environmental Monitoring from Space (CEMS), ESA ECS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9298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arwell and the wider UK space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_s307212"/>
          <p:cNvSpPr/>
          <p:nvPr/>
        </p:nvSpPr>
        <p:spPr>
          <a:xfrm>
            <a:off x="2786040" y="2924280"/>
            <a:ext cx="1500120" cy="14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859280" y="1341360"/>
            <a:ext cx="4105440" cy="4464000"/>
          </a:xfrm>
          <a:custGeom>
            <a:avLst/>
            <a:gdLst>
              <a:gd name="textAreaLeft" fmla="*/ 200160 w 4105440"/>
              <a:gd name="textAreaRight" fmla="*/ 3905280 w 4105440"/>
              <a:gd name="textAreaTop" fmla="*/ 200160 h 4464000"/>
              <a:gd name="textAreaBottom" fmla="*/ 4263840 h 4464000"/>
            </a:gdLst>
            <a:ahLst/>
            <a:rect l="textAreaLeft" t="textAreaTop" r="textAreaRight" b="textAreaBottom"/>
            <a:pathLst>
              <a:path w="21600" h="23486">
                <a:moveTo>
                  <a:pt x="3600" y="0"/>
                </a:moveTo>
                <a:arcTo wR="3600" hR="3600" stAng="16200000" swAng="-5400000"/>
                <a:lnTo>
                  <a:pt x="0" y="19886"/>
                </a:lnTo>
                <a:arcTo wR="3600" hR="3600" stAng="10800000" swAng="-5400000"/>
                <a:lnTo>
                  <a:pt x="18000" y="23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_s307208"/>
          <p:cNvSpPr/>
          <p:nvPr/>
        </p:nvSpPr>
        <p:spPr>
          <a:xfrm>
            <a:off x="6084720" y="4508640"/>
            <a:ext cx="1440000" cy="11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Co-located universities and industry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_s307214"/>
          <p:cNvSpPr/>
          <p:nvPr/>
        </p:nvSpPr>
        <p:spPr>
          <a:xfrm>
            <a:off x="7236000" y="4005360"/>
            <a:ext cx="1653840" cy="11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ESA Centre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Climate Change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Exploration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_s307208"/>
          <p:cNvSpPr/>
          <p:nvPr/>
        </p:nvSpPr>
        <p:spPr>
          <a:xfrm>
            <a:off x="7451640" y="3068640"/>
            <a:ext cx="137340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ESA Business Incubator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_s307217"/>
          <p:cNvSpPr/>
          <p:nvPr/>
        </p:nvSpPr>
        <p:spPr>
          <a:xfrm>
            <a:off x="4932360" y="4005360"/>
            <a:ext cx="144000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RAL Space: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Including existing facilities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003640" y="32846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113f82"/>
                </a:solidFill>
                <a:latin typeface="Arial"/>
              </a:rPr>
              <a:t>Harwell Space Cluster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1" name="_s307208"/>
          <p:cNvSpPr/>
          <p:nvPr/>
        </p:nvSpPr>
        <p:spPr>
          <a:xfrm>
            <a:off x="2771640" y="4797360"/>
            <a:ext cx="1727280" cy="13669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Industry, universities and research organisations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_s307208"/>
          <p:cNvSpPr/>
          <p:nvPr/>
        </p:nvSpPr>
        <p:spPr>
          <a:xfrm>
            <a:off x="2771640" y="1125360"/>
            <a:ext cx="1729080" cy="13669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UKSA partners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(TSB, research councils, MoD, Met Office, ) 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284720" y="3500280"/>
            <a:ext cx="647640" cy="289080"/>
          </a:xfrm>
          <a:prstGeom prst="leftRightArrow">
            <a:avLst>
              <a:gd name="adj1" fmla="val 50000"/>
              <a:gd name="adj2" fmla="val 445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4" name="_s307208"/>
          <p:cNvSpPr/>
          <p:nvPr/>
        </p:nvSpPr>
        <p:spPr>
          <a:xfrm>
            <a:off x="971640" y="1844640"/>
            <a:ext cx="1798560" cy="1366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92d0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ESA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5" name="_s307208"/>
          <p:cNvSpPr/>
          <p:nvPr/>
        </p:nvSpPr>
        <p:spPr>
          <a:xfrm>
            <a:off x="179280" y="2997360"/>
            <a:ext cx="1798920" cy="13665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92d0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EU space programme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6" name="_s307208"/>
          <p:cNvSpPr/>
          <p:nvPr/>
        </p:nvSpPr>
        <p:spPr>
          <a:xfrm>
            <a:off x="971640" y="4005360"/>
            <a:ext cx="1798560" cy="1366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92d0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International Space Agencies 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4427640" y="5373720"/>
            <a:ext cx="647640" cy="288720"/>
          </a:xfrm>
          <a:prstGeom prst="leftRightArrow">
            <a:avLst>
              <a:gd name="adj1" fmla="val 50000"/>
              <a:gd name="adj2" fmla="val 446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4427640" y="1628640"/>
            <a:ext cx="647640" cy="289080"/>
          </a:xfrm>
          <a:prstGeom prst="leftRightArrow">
            <a:avLst>
              <a:gd name="adj1" fmla="val 50000"/>
              <a:gd name="adj2" fmla="val 445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AutoShape 19"/>
          <p:cNvSpPr/>
          <p:nvPr/>
        </p:nvSpPr>
        <p:spPr>
          <a:xfrm rot="16200000">
            <a:off x="3276720" y="4436640"/>
            <a:ext cx="647640" cy="289080"/>
          </a:xfrm>
          <a:prstGeom prst="leftRightArrow">
            <a:avLst>
              <a:gd name="adj1" fmla="val 50000"/>
              <a:gd name="adj2" fmla="val 445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0" name="AutoShape 20"/>
          <p:cNvSpPr/>
          <p:nvPr/>
        </p:nvSpPr>
        <p:spPr>
          <a:xfrm rot="16200000">
            <a:off x="3240000" y="2529000"/>
            <a:ext cx="648000" cy="288720"/>
          </a:xfrm>
          <a:prstGeom prst="leftRightArrow">
            <a:avLst>
              <a:gd name="adj1" fmla="val 50000"/>
              <a:gd name="adj2" fmla="val 446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AutoShape 21"/>
          <p:cNvSpPr/>
          <p:nvPr/>
        </p:nvSpPr>
        <p:spPr>
          <a:xfrm rot="5400000">
            <a:off x="1798560" y="3105000"/>
            <a:ext cx="1081080" cy="1008000"/>
          </a:xfrm>
          <a:custGeom>
            <a:avLst/>
            <a:gdLst>
              <a:gd name="textAreaLeft" fmla="*/ 108000 w 1081080"/>
              <a:gd name="textAreaRight" fmla="*/ 973080 w 1081080"/>
              <a:gd name="textAreaTop" fmla="*/ 576000 h 1008000"/>
              <a:gd name="textAreaBottom" fmla="*/ 864000 h 1008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_s307217"/>
          <p:cNvSpPr/>
          <p:nvPr/>
        </p:nvSpPr>
        <p:spPr>
          <a:xfrm>
            <a:off x="4932360" y="1700280"/>
            <a:ext cx="180036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Satellite Applications Catapult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_s307217"/>
          <p:cNvSpPr/>
          <p:nvPr/>
        </p:nvSpPr>
        <p:spPr>
          <a:xfrm>
            <a:off x="6084720" y="2421000"/>
            <a:ext cx="180036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CEMS: Centre for Environmental Monitoring from Space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4" name="Oval 24"/>
          <p:cNvSpPr/>
          <p:nvPr/>
        </p:nvSpPr>
        <p:spPr>
          <a:xfrm>
            <a:off x="395280" y="5013360"/>
            <a:ext cx="1224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 and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OS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Oval 25"/>
          <p:cNvSpPr/>
          <p:nvPr/>
        </p:nvSpPr>
        <p:spPr>
          <a:xfrm>
            <a:off x="179280" y="2421000"/>
            <a:ext cx="863640" cy="7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Oval 26"/>
          <p:cNvSpPr/>
          <p:nvPr/>
        </p:nvSpPr>
        <p:spPr>
          <a:xfrm>
            <a:off x="539640" y="1916280"/>
            <a:ext cx="863640" cy="7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lileo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21760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2030400" y="333360"/>
            <a:ext cx="78616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Space Growth Action Plan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Industry-led report, UK Gov will respond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arget: 10% share of space economy by 2030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4708800" cy="4354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-93960" y="3573360"/>
            <a:ext cx="261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mate and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environmenta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rvices is 1 of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5 identified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5300640"/>
            <a:ext cx="375264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SA co-ordination activities in area of climat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representation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S SST Virtual Const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S/CGMS WG C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funding for UK stakeholder group on “Climate Data from Spa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, govt, MetO, academia, RCUK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SA EO programmes, including Climate Change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567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stakeholder concern for WG Climate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773360"/>
            <a:ext cx="870408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 (and others) are investing in capacity for climate data records from space, including 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data facilities at Harwell, ESA CCI sub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expertise &amp; documentation relevant to calibration of past sensors is a danger to the ability of space-based CDRs to be credible and improvable in the long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gencies including CEOS and CGMS agencies need to take active steps to digitize and curate paper-based archives of suc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some action is taking place already, but is it sufficient and is it co-ordin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UKSA PPT slide new visua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0" y="3645000"/>
            <a:ext cx="914400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KSA EO Team: Ruth Boumphrey, Maria Adams, Alice Bunn, Beth Greenaway, Elizabeth Seaman, Tracey Whitbread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9:09:34Z</dcterms:created>
  <dc:creator>Watsons</dc:creator>
  <dc:description/>
  <dc:language>en-US</dc:language>
  <cp:lastModifiedBy>Christopher Merchant</cp:lastModifiedBy>
  <dcterms:modified xsi:type="dcterms:W3CDTF">2014-03-05T09:41:28Z</dcterms:modified>
  <cp:revision>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rcoClassification">
    <vt:lpwstr>Not an NPL document (No visible marking)</vt:lpwstr>
  </property>
  <property fmtid="{D5CDD505-2E9C-101B-9397-08002B2CF9AE}" pid="3" name="aliashPowerpointFooter">
    <vt:lpwstr/>
  </property>
</Properties>
</file>