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50a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0AA9-8832-460D-A44E-DAC7C060B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3 main sources of inp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erformance reports from GCOS componen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23 National reports to UNFCCC on systematic observation for 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xpert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Most Actions have been enthusiastically embraced by identified Agents for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vents and activities significantly influencing GCOS implementation in past 5 years: IPCC AR4, GEO/GEOSS, Focus on Adaptation and Nairobi WP, Acting on CC: The UN System Delivering As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ast bullet: the verdict on space was rather positive in the Progress Report; this needs to be qualifi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Many risks persist in ensuring mission continuity addressing ECV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ontingency plans are developed by meteorological agencies in the CGMS context; elsewhe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Data access remains a problem with some agencie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The generation of fundamental climate data records and ECV products is largely uncoordinate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COPE-CM is a good example where it IS coordinated in pilot projects for 8 meteorological EC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oordination by agencies within the Constellations partly address both mission gaps and dataset gaps; how mu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Traction do they have with decisions on resour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88% of Actions with good to moderate progress; important role of sponsoring organization WMO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6% of Action show progress from good to moderat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ges in water storage, carbon storage, land c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il moisture, River discharge, Land 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dback mechanisms to regional/global 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ersites (FLUXNET): albedo, fapar, lai, biomass; CEOS LPV: fire and burnt scar detection, biophysical products, land cover, albedo, surface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ark: Terrestrial Obs are particularly relevant for adaptation and impact studies, and for assessment of mitigation options? (add to point 1); important role of FAO/G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84391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2440" y="4195440"/>
            <a:ext cx="84391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6760" y="156852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2440" y="419544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6760" y="419544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27172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05800" y="1568520"/>
            <a:ext cx="27172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59520" y="1568520"/>
            <a:ext cx="27172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2440" y="4195440"/>
            <a:ext cx="27172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05800" y="4195440"/>
            <a:ext cx="27172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59520" y="4195440"/>
            <a:ext cx="27172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52440" y="1568520"/>
            <a:ext cx="8439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spcAft>
                <a:spcPts val="1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8439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4118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568520"/>
            <a:ext cx="4118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92000" y="-360"/>
            <a:ext cx="633564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spcAft>
                <a:spcPts val="10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568520"/>
            <a:ext cx="4118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2440" y="419544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4118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56852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6760" y="419544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56852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2440" y="4195440"/>
            <a:ext cx="84391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2440" y="1568520"/>
            <a:ext cx="8439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0520" indent="-29052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 Unicode MS"/>
              <a:buChar char="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00320" indent="-34308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22860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38400" indent="-22860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38400" indent="-22860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38400" indent="-22860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15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50a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3" name="Line 9"/>
          <p:cNvSpPr/>
          <p:nvPr/>
        </p:nvSpPr>
        <p:spPr>
          <a:xfrm>
            <a:off x="216000" y="792000"/>
            <a:ext cx="8712000" cy="0"/>
          </a:xfrm>
          <a:prstGeom prst="line">
            <a:avLst/>
          </a:prstGeom>
          <a:ln w="38160">
            <a:solidFill>
              <a:srgbClr val="78a7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5861160" y="6138720"/>
            <a:ext cx="3153960" cy="456480"/>
            <a:chOff x="5861160" y="6138720"/>
            <a:chExt cx="3153960" cy="456480"/>
          </a:xfrm>
        </p:grpSpPr>
        <p:pic>
          <p:nvPicPr>
            <p:cNvPr id="5" name="Picture 7" descr="ICSUlogo4c"/>
            <p:cNvPicPr/>
            <p:nvPr/>
          </p:nvPicPr>
          <p:blipFill>
            <a:blip r:embed="rId2"/>
            <a:stretch/>
          </p:blipFill>
          <p:spPr>
            <a:xfrm>
              <a:off x="7805520" y="6141960"/>
              <a:ext cx="1209600" cy="3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8" descr="IOC_UNESCO_color"/>
            <p:cNvPicPr/>
            <p:nvPr/>
          </p:nvPicPr>
          <p:blipFill>
            <a:blip r:embed="rId3"/>
            <a:stretch/>
          </p:blipFill>
          <p:spPr>
            <a:xfrm>
              <a:off x="6334560" y="6141960"/>
              <a:ext cx="794160" cy="45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UNEP279E"/>
            <p:cNvPicPr/>
            <p:nvPr/>
          </p:nvPicPr>
          <p:blipFill>
            <a:blip r:embed="rId4"/>
            <a:stretch/>
          </p:blipFill>
          <p:spPr>
            <a:xfrm>
              <a:off x="7298280" y="6152400"/>
              <a:ext cx="350280" cy="41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0" descr="WMO"/>
            <p:cNvPicPr/>
            <p:nvPr/>
          </p:nvPicPr>
          <p:blipFill>
            <a:blip r:embed="rId5"/>
            <a:stretch/>
          </p:blipFill>
          <p:spPr>
            <a:xfrm>
              <a:off x="5861160" y="6138720"/>
              <a:ext cx="355320" cy="45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152280" y="6095880"/>
            <a:ext cx="1905120" cy="60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457360" y="566640"/>
            <a:ext cx="6558120" cy="33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74600" indent="-174600">
              <a:spcBef>
                <a:spcPts val="4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0" y="5616720"/>
            <a:ext cx="2238480" cy="12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74600" indent="-174600">
              <a:spcBef>
                <a:spcPts val="4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375840" y="3652920"/>
            <a:ext cx="8511840" cy="26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74600" indent="-17460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4th Meeting of CEOS-CGMS Working Group on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EUMETSAT, Darmstadt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5 – 7 March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Carolin Richter, Director, GCOS Secretaria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1808640" y="2057400"/>
            <a:ext cx="565668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74600" indent="-174600" algn="ctr"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"/>
              </a:rPr>
              <a:t>GCOS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Scoping of the Progress Report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the new Implementation Plan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>
            <a:off x="216000" y="1197000"/>
            <a:ext cx="8712000" cy="0"/>
          </a:xfrm>
          <a:prstGeom prst="line">
            <a:avLst/>
          </a:prstGeom>
          <a:ln w="57240">
            <a:solidFill>
              <a:srgbClr val="78a7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0"/>
          <p:cNvGrpSpPr/>
          <p:nvPr/>
        </p:nvGrpSpPr>
        <p:grpSpPr>
          <a:xfrm>
            <a:off x="216000" y="108000"/>
            <a:ext cx="1971720" cy="1028520"/>
            <a:chOff x="216000" y="108000"/>
            <a:chExt cx="1971720" cy="1028520"/>
          </a:xfrm>
        </p:grpSpPr>
        <p:pic>
          <p:nvPicPr>
            <p:cNvPr id="59" name="Picture 8" descr="GCOS_new_logo.PNG"/>
            <p:cNvPicPr/>
            <p:nvPr/>
          </p:nvPicPr>
          <p:blipFill>
            <a:blip r:embed="rId1"/>
            <a:srcRect l="25780" t="3176" r="17033" b="25409"/>
            <a:stretch/>
          </p:blipFill>
          <p:spPr>
            <a:xfrm>
              <a:off x="1114920" y="332640"/>
              <a:ext cx="107280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9" descr="GCOS_new_logo.PNG"/>
            <p:cNvPicPr/>
            <p:nvPr/>
          </p:nvPicPr>
          <p:blipFill>
            <a:blip r:embed="rId2"/>
            <a:srcRect l="26517" t="79419" r="0" b="1588"/>
            <a:stretch/>
          </p:blipFill>
          <p:spPr>
            <a:xfrm>
              <a:off x="216000" y="990000"/>
              <a:ext cx="1952640" cy="1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8" descr="GCOS_new_logo.PNG"/>
            <p:cNvPicPr/>
            <p:nvPr/>
          </p:nvPicPr>
          <p:blipFill>
            <a:blip r:embed="rId3"/>
            <a:srcRect l="0" t="0" r="77801" b="23821"/>
            <a:stretch/>
          </p:blipFill>
          <p:spPr>
            <a:xfrm>
              <a:off x="216360" y="108000"/>
              <a:ext cx="884880" cy="88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Rectangle 1"/>
          <p:cNvSpPr/>
          <p:nvPr/>
        </p:nvSpPr>
        <p:spPr>
          <a:xfrm>
            <a:off x="106200" y="0"/>
            <a:ext cx="2446560" cy="11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74600" indent="-174600">
              <a:spcBef>
                <a:spcPts val="4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216000" y="0"/>
            <a:ext cx="871200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50a0"/>
                </a:solidFill>
                <a:latin typeface="Arial"/>
              </a:rPr>
              <a:t>Global Climate Observ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297180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le 1"/>
          <p:cNvSpPr/>
          <p:nvPr/>
        </p:nvSpPr>
        <p:spPr>
          <a:xfrm>
            <a:off x="216000" y="0"/>
            <a:ext cx="871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50a0"/>
                </a:solidFill>
                <a:latin typeface="Arial"/>
                <a:ea typeface="ＭＳ Ｐゴシック"/>
              </a:rPr>
              <a:t>GCOS Continuous Improvement &amp; Assessment Cyc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339840" y="919080"/>
            <a:ext cx="8640720" cy="52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GCOS programme has started the process for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5760">
              <a:lnSpc>
                <a:spcPct val="100000"/>
              </a:lnSpc>
              <a:spcBef>
                <a:spcPts val="499"/>
              </a:spcBef>
              <a:spcAft>
                <a:spcPts val="901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 2015 report on the progress and status of climate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57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 new “Implementation Plan” in 2016, which should identif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3040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33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ontinuing and new requirements, including a restatement of the rationale for the list of ECVs and possible amendment of th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3040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33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adequacy of present arrangements for meeting the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30400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buClr>
                <a:srgbClr val="0033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additional actions needed, with indicative costs, performance indicators and potential agents for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57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tatements of specific requirements for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3040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33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from both 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in situ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networks and the space-based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3040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33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nd from integration of the data provided by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57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ither embedded in the main Plan or as separate supplemen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tle 1"/>
          <p:cNvSpPr/>
          <p:nvPr/>
        </p:nvSpPr>
        <p:spPr>
          <a:xfrm>
            <a:off x="216000" y="0"/>
            <a:ext cx="871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50a0"/>
                </a:solidFill>
                <a:latin typeface="Arial"/>
                <a:ea typeface="ＭＳ Ｐゴシック"/>
              </a:rPr>
              <a:t>Input to the new 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301680" y="987480"/>
            <a:ext cx="8712000" cy="49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ontent will be based on various inputs, including fro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5760">
              <a:lnSpc>
                <a:spcPct val="100000"/>
              </a:lnSpc>
              <a:spcBef>
                <a:spcPts val="499"/>
              </a:spcBef>
              <a:spcAft>
                <a:spcPts val="649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2011 WCRP Conference and 2013 SPARC Data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5760">
              <a:lnSpc>
                <a:spcPct val="100000"/>
              </a:lnSpc>
              <a:spcBef>
                <a:spcPts val="499"/>
              </a:spcBef>
              <a:spcAft>
                <a:spcPts val="649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2013/2014 IPCC Fifth Assessmen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5760">
              <a:lnSpc>
                <a:spcPct val="100000"/>
              </a:lnSpc>
              <a:spcBef>
                <a:spcPts val="499"/>
              </a:spcBef>
              <a:spcAft>
                <a:spcPts val="649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2013/2014 national reporting to UNFCCC on systematic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5760">
              <a:lnSpc>
                <a:spcPct val="100000"/>
              </a:lnSpc>
              <a:spcBef>
                <a:spcPts val="499"/>
              </a:spcBef>
              <a:spcAft>
                <a:spcPts val="649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2014 EUMETSAT/WCRP Climate Sympos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5760">
              <a:lnSpc>
                <a:spcPct val="100000"/>
              </a:lnSpc>
              <a:spcBef>
                <a:spcPts val="499"/>
              </a:spcBef>
              <a:spcAft>
                <a:spcPts val="649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WMO (GFCS, WIGOS), IOC (GOOS) and post-2015 GEO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5760">
              <a:lnSpc>
                <a:spcPct val="100000"/>
              </a:lnSpc>
              <a:spcBef>
                <a:spcPts val="499"/>
              </a:spcBef>
              <a:spcAft>
                <a:spcPts val="649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EOS/CGMS/WMO initiatives (Architecture, Inventory of datas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5760">
              <a:lnSpc>
                <a:spcPct val="100000"/>
              </a:lnSpc>
              <a:spcBef>
                <a:spcPts val="499"/>
              </a:spcBef>
              <a:spcAft>
                <a:spcPts val="649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other assessments of requirements (GEO, ESA C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5760">
              <a:lnSpc>
                <a:spcPct val="100000"/>
              </a:lnSpc>
              <a:spcBef>
                <a:spcPts val="499"/>
              </a:spcBef>
              <a:spcAft>
                <a:spcPts val="649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ssessments by GCOS/WCRP pa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5760">
              <a:lnSpc>
                <a:spcPct val="100000"/>
              </a:lnSpc>
              <a:spcBef>
                <a:spcPts val="499"/>
              </a:spcBef>
              <a:spcAft>
                <a:spcPts val="649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edicated GCOS 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5760">
              <a:lnSpc>
                <a:spcPct val="100000"/>
              </a:lnSpc>
              <a:spcBef>
                <a:spcPts val="499"/>
              </a:spcBef>
              <a:spcAft>
                <a:spcPts val="649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n open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8080"/>
            <a:ext cx="9144000" cy="2362320"/>
          </a:xfrm>
          <a:prstGeom prst="rect">
            <a:avLst/>
          </a:prstGeom>
          <a:gradFill rotWithShape="0">
            <a:gsLst>
              <a:gs pos="0">
                <a:srgbClr val="919191">
                  <a:alpha val="49019"/>
                </a:srgbClr>
              </a:gs>
              <a:gs pos="50000">
                <a:srgbClr val="cecece">
                  <a:alpha val="49019"/>
                </a:srgbClr>
              </a:gs>
              <a:gs pos="100000">
                <a:srgbClr val="919191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600" spc="-1" strike="noStrike">
                <a:solidFill>
                  <a:srgbClr val="0050a0"/>
                </a:solidFill>
                <a:latin typeface="Arial"/>
              </a:rPr>
              <a:t>Road Map for 2014 to 2016</a:t>
            </a: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80" y="1447920"/>
            <a:ext cx="161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WCRP Conferenc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3200400"/>
            <a:ext cx="2819520" cy="762120"/>
          </a:xfrm>
          <a:prstGeom prst="rect">
            <a:avLst/>
          </a:prstGeom>
          <a:gradFill rotWithShape="0">
            <a:gsLst>
              <a:gs pos="0">
                <a:srgbClr val="ccff33">
                  <a:alpha val="60392"/>
                </a:srgbClr>
              </a:gs>
              <a:gs pos="50000">
                <a:srgbClr val="ffffff">
                  <a:alpha val="58039"/>
                </a:srgbClr>
              </a:gs>
              <a:gs pos="100000">
                <a:srgbClr val="ccff33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200400"/>
            <a:ext cx="2819520" cy="762120"/>
          </a:xfrm>
          <a:prstGeom prst="rect">
            <a:avLst/>
          </a:prstGeom>
          <a:gradFill rotWithShape="0">
            <a:gsLst>
              <a:gs pos="0">
                <a:srgbClr val="ffff00">
                  <a:alpha val="60392"/>
                </a:srgbClr>
              </a:gs>
              <a:gs pos="50000">
                <a:srgbClr val="ffffff">
                  <a:alpha val="58039"/>
                </a:srgbClr>
              </a:gs>
              <a:gs pos="100000">
                <a:srgbClr val="ffff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200400"/>
            <a:ext cx="2819160" cy="762120"/>
          </a:xfrm>
          <a:prstGeom prst="rect">
            <a:avLst/>
          </a:prstGeom>
          <a:gradFill rotWithShape="0">
            <a:gsLst>
              <a:gs pos="0">
                <a:srgbClr val="ff9900">
                  <a:alpha val="60392"/>
                </a:srgbClr>
              </a:gs>
              <a:gs pos="50000">
                <a:srgbClr val="ffffff">
                  <a:alpha val="58039"/>
                </a:srgbClr>
              </a:gs>
              <a:gs pos="100000">
                <a:srgbClr val="ff99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6920" y="434340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Progres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03080" y="3352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335268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94040" y="3352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3657600"/>
            <a:ext cx="609840" cy="60948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Arial"/>
              </a:rPr>
              <a:t>COP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34520" y="3581280"/>
            <a:ext cx="609480" cy="60984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Arial"/>
              </a:rPr>
              <a:t>COP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3657600"/>
            <a:ext cx="609480" cy="60948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Arial"/>
              </a:rPr>
              <a:t>COP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4495680"/>
            <a:ext cx="3049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4495680"/>
            <a:ext cx="228600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172200" y="4266720"/>
            <a:ext cx="0" cy="22860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54320" y="571500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New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791320"/>
            <a:ext cx="2057400" cy="0"/>
          </a:xfrm>
          <a:prstGeom prst="line">
            <a:avLst/>
          </a:prstGeom>
          <a:ln w="572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5715000"/>
            <a:ext cx="182880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839080" y="4190760"/>
            <a:ext cx="0" cy="152388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4114800"/>
            <a:ext cx="0" cy="5335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78720" y="3809880"/>
            <a:ext cx="61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Aug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638680" y="3809880"/>
            <a:ext cx="0" cy="15242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560" y="358128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Octo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4495680"/>
            <a:ext cx="91440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54320" y="5410080"/>
            <a:ext cx="127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For Public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Draft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9400" y="4648320"/>
            <a:ext cx="88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Final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200400"/>
            <a:ext cx="457200" cy="762120"/>
          </a:xfrm>
          <a:prstGeom prst="rect">
            <a:avLst/>
          </a:prstGeom>
          <a:gradFill rotWithShape="0">
            <a:gsLst>
              <a:gs pos="0">
                <a:srgbClr val="ff3300">
                  <a:alpha val="60392"/>
                </a:srgbClr>
              </a:gs>
              <a:gs pos="50000">
                <a:srgbClr val="ffffff">
                  <a:alpha val="63137"/>
                </a:srgbClr>
              </a:gs>
              <a:gs pos="100000">
                <a:srgbClr val="ff33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924680" y="4038480"/>
            <a:ext cx="0" cy="6098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920" y="3809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68560" y="4648320"/>
            <a:ext cx="88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Final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924680" y="4876560"/>
            <a:ext cx="0" cy="6858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01000" y="5715000"/>
            <a:ext cx="83808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" y="1600200"/>
            <a:ext cx="190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SPARC Data Workshop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9000" y="2743200"/>
            <a:ext cx="140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IPCC AR5 2013/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828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UNFCCC National Repo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21120" y="2971800"/>
            <a:ext cx="175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GCOS AOPC TOPC OOP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9880" y="2286000"/>
            <a:ext cx="259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GEO Work Plan Symposium (April 201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59200" y="1371600"/>
            <a:ext cx="118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WIGOS 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7080" y="1371600"/>
            <a:ext cx="139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IOC GOOS 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3600" y="2971800"/>
            <a:ext cx="19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Space Architecture–ECV In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60280" y="160020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ESA C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8360" y="160020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QA4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23120" y="160020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CORE-CLIM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60" y="2133720"/>
            <a:ext cx="222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GCOS Adaptation Workshop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60" y="2514600"/>
            <a:ext cx="355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GCOS GOFC-GOLD Mitigation Workshop (5-7 May 201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33840" y="2743200"/>
            <a:ext cx="25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WCRP-IPCC WG I Workshop (Sep 201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9280" y="2514600"/>
            <a:ext cx="315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GCOS-IPCC WG II and DRR Workshop (Nov 201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95960" y="2057400"/>
            <a:ext cx="167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WCRP WDAC (May 201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43000" y="87480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Arial"/>
              </a:rPr>
              <a:t>Input to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12880" y="2286000"/>
            <a:ext cx="16009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CEOS-CGMS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048120" y="4266720"/>
            <a:ext cx="0" cy="22860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048120" y="4572000"/>
            <a:ext cx="0" cy="5335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17480" y="5105520"/>
            <a:ext cx="1348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Report to SBSTA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on sta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172200" y="4495680"/>
            <a:ext cx="0" cy="5335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40840" y="5029200"/>
            <a:ext cx="2079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Report to SBSTA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Submission of Progress 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839080" y="5638320"/>
            <a:ext cx="0" cy="3812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05280" y="5791320"/>
            <a:ext cx="163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Report to SBSTA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Submission of new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37680" y="1828800"/>
            <a:ext cx="319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EUMETSAT-WCRP Climate Symposium (Oct 201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8439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50a0"/>
                </a:solidFill>
                <a:latin typeface="Arial"/>
              </a:rPr>
              <a:t>Implementation Plan (what kind of observations are needed ?)</a:t>
            </a:r>
            <a:endParaRPr b="1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1786" t="14762" r="1189" b="7145"/>
          <a:stretch/>
        </p:blipFill>
        <p:spPr>
          <a:xfrm>
            <a:off x="0" y="1182600"/>
            <a:ext cx="9144000" cy="4599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39680" y="74628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(Excer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70868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50a0"/>
                </a:solidFill>
                <a:latin typeface="Arial"/>
              </a:rPr>
              <a:t>What needs to be measured – by whom?</a:t>
            </a: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1189" t="14762" r="1189" b="7145"/>
          <a:stretch/>
        </p:blipFill>
        <p:spPr>
          <a:xfrm>
            <a:off x="0" y="99072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699320" y="76212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(Excer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837720"/>
            <a:ext cx="415296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052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veloped Countries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 Unicode MS"/>
              <a:buChar char="‑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roved climate observation capabiliti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 Unicode MS"/>
              <a:buChar char="‑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mited progress in resolving financial issues related to long-term continu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veloping Countrie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 Unicode MS"/>
              <a:buChar char="‑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mited (in-situ) progress, with decline in some region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 Unicode MS"/>
              <a:buChar char="‑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pacity building support remains small in relation to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0050a0"/>
                </a:solidFill>
                <a:latin typeface="Arial"/>
              </a:rPr>
              <a:t>Much remains to be done: </a:t>
            </a:r>
            <a:br>
              <a:rPr sz="2000"/>
            </a:br>
            <a:r>
              <a:rPr b="1" lang="fr-CH" sz="2000" spc="-1" strike="noStrike">
                <a:solidFill>
                  <a:srgbClr val="0050a0"/>
                </a:solidFill>
                <a:latin typeface="Arial"/>
              </a:rPr>
              <a:t>GCOS Progress Report 2004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3809880"/>
            <a:ext cx="5029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atellite agenc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 Unicode MS"/>
              <a:buChar char="‑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improved mission continuity and capabil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 Unicode MS"/>
              <a:buChar char="‑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increasingly meeting climate nee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Aft>
                <a:spcPts val="10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2133720"/>
            <a:ext cx="3809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Aft>
                <a:spcPts val="10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Progress made, bu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 Unicode MS"/>
              <a:buChar char="‑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300" spc="-1" strike="noStrike">
                <a:solidFill>
                  <a:srgbClr val="ff3300"/>
                </a:solidFill>
                <a:latin typeface="Arial"/>
              </a:rPr>
              <a:t>Many gaps persist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 Unicode MS"/>
              <a:buChar char="‑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300" spc="-1" strike="noStrike">
                <a:solidFill>
                  <a:srgbClr val="ff3300"/>
                </a:solidFill>
                <a:latin typeface="Arial"/>
              </a:rPr>
              <a:t>Continued int’l engagement needed for </a:t>
            </a:r>
            <a:r>
              <a:rPr b="1" lang="en-GB" sz="1300" spc="-1" strike="noStrike" u="sng">
                <a:solidFill>
                  <a:srgbClr val="ff3300"/>
                </a:solidFill>
                <a:uFillTx/>
                <a:latin typeface="Arial"/>
              </a:rPr>
              <a:t>coordinated implementation</a:t>
            </a:r>
            <a:r>
              <a:rPr b="1" lang="en-GB" sz="13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1" lang="en-GB" sz="1300" spc="-1" strike="noStrike" u="sng">
                <a:solidFill>
                  <a:srgbClr val="ff3300"/>
                </a:solidFill>
                <a:uFillTx/>
                <a:latin typeface="Arial"/>
              </a:rPr>
              <a:t>long-term continu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920" y="1052280"/>
            <a:ext cx="8532720" cy="28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052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progress with availability, quality and exploitation of data from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atell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climate purposes across the range of ECVs, from basic meteorological variables to radiation and atmospheric composi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progress in general with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-situ meteorological networ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support through the system improvement programme has helped maintaining a baseline; however, overall progress in developing countries has been lim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200" spc="-1" strike="noStrike">
                <a:solidFill>
                  <a:srgbClr val="0050a0"/>
                </a:solidFill>
                <a:latin typeface="Arial"/>
              </a:rPr>
              <a:t>GCOS Progress Report 2004-2008 – Atmosp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3141720"/>
            <a:ext cx="7812000" cy="24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pecific iss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sist (e.g., measurement of precipitation, clouds, snow depth; precipitation data exchange; sunshine obs; meta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progress in advancing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imate reference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d planning and progress with implementation of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tmospheric composition networ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eting climate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53272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0520" indent="-29052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Useful progr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almost every action called for in the Plan, but many actions remain incomplete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ce-free upper 1500 m of the ocean are being observed systematically for temperature and salinity for the first time in histor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st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in-situ network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ave made progress (e.g., tide gauges, moored reference sites, tropical moored arrays, full ocean depth observa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st in-situ observing activities continue to be carried out under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research agency suppor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on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research programme time limi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ant progress in provision of critical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ocean satellite dat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sea surface ECVs has been made, but not for all variables, and data access remains to be ensu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ant progress in development of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historical ocean reanalysis and in high resolution ocean forecasting capabilit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ising developments in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improved method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and standard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ll allow wider measurement of biological and chemical ECVs and consideration of new ECVs in the years ahea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Data sharing remains incomple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particularly for tide gauges and biogeochemical ECVs.  Data archaeology needs to continu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0"/>
            <a:ext cx="701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200" spc="-1" strike="noStrike">
                <a:solidFill>
                  <a:srgbClr val="0050a0"/>
                </a:solidFill>
                <a:latin typeface="Arial"/>
              </a:rPr>
              <a:t>GCOS Progress Report 2004-2008 – Oce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905120" y="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200" spc="-1" strike="noStrike">
                <a:solidFill>
                  <a:srgbClr val="0050a0"/>
                </a:solidFill>
                <a:latin typeface="Arial"/>
              </a:rPr>
              <a:t>GCOS Progress Report 2004-2008 - Terrest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523520"/>
            <a:ext cx="6283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0520" indent="-29052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ing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ignificance and recogn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errestrial data for climate change adaptation and impact stud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progress in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efining stand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observation of terrestrial variabl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 take-up of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stitutional supp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terrestrial climate observations has limited some in-situ progres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s dealt with by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se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munity show some good prog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ess towards establishment of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Global Terrestrial Networ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GTN) for many of the ECV’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engagement of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atellite nee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cluding product development, reprocessing and continu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68880" y="597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1897" t="0" r="2296" b="0"/>
          <a:stretch/>
        </p:blipFill>
        <p:spPr>
          <a:xfrm>
            <a:off x="0" y="1562040"/>
            <a:ext cx="9144000" cy="40035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50a0"/>
                </a:solidFill>
                <a:latin typeface="Arial"/>
              </a:rPr>
              <a:t>Continuous improvement and assessment cycle</a:t>
            </a: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600" spc="-1" strike="noStrike">
                <a:solidFill>
                  <a:srgbClr val="0050a0"/>
                </a:solidFill>
                <a:latin typeface="Arial"/>
              </a:rPr>
              <a:t>Milestones 1992 - 2011</a:t>
            </a: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990720"/>
            <a:ext cx="83214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992: Establishment of GCOS as an outcome of the Second World Climate Conference (199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995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for the Global Climate Observing System (GCOS), Publication No. GCOS-14, GCOS Plan for Space-based Observations, Publication No. GCOS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998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eport on the Adequac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of the Global Climate Observing Systems – United Nations Framework Convention on Climate Change, Publication No. GCOS-48, COP-4, Buenos Aires, 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3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cond Report on the Adequac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of the Global Observing Systems for Climate in Support of the UNFCCC, Publication No. GCOS-82, COP- 9, Milan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4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mplementation P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for the Global Observing System for Climate in Support of the UNFCCC, Publication No. GCOS-92, COP-10, Buenos Aires, 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6:   Systematic   Observation   Requirements   for   Satellite-based Products for Climate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upplemental Details to the Satellite-based Component of the Implementation P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for the Global Observing System for Climate in Support of the UNFCCC, Publication No. GCOS-1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9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gress Rep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on the Implementation of the Global Observing System for Climate in Support of the UNFCCC 2004–2008, Publication No. GCOS 129, COP-15, Copenhagen, Den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10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mplementation P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for the Global Observing System for Climate in Support of the UNFCCC (2010 Update), Publication No. GCOS-138, COP-16, Cancun, Me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11:   Systematic   Observation   Requirements   for   Satellite-based Products for Climat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upplemental details to the satellite-based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of the Implementation Plan for the Global Observing System for Climate in Support of the UNFCCC - 2011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5680" y="161640"/>
            <a:ext cx="869796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50a0"/>
                </a:solidFill>
                <a:latin typeface="Arial"/>
              </a:rPr>
              <a:t>How well are we doing </a:t>
            </a:r>
            <a:br>
              <a:rPr sz="2400"/>
            </a:br>
            <a:r>
              <a:rPr b="1" lang="en-US" sz="2400" spc="-1" strike="noStrike">
                <a:solidFill>
                  <a:srgbClr val="0050a0"/>
                </a:solidFill>
                <a:latin typeface="Arial"/>
              </a:rPr>
              <a:t>in implementing a global observing system for climate ?</a:t>
            </a:r>
            <a:endParaRPr b="1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11799" t="31605" r="7414" b="14364"/>
          <a:stretch/>
        </p:blipFill>
        <p:spPr>
          <a:xfrm>
            <a:off x="312840" y="1914480"/>
            <a:ext cx="8636040" cy="36115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6"/>
          <p:cNvGrpSpPr/>
          <p:nvPr/>
        </p:nvGrpSpPr>
        <p:grpSpPr>
          <a:xfrm>
            <a:off x="5935680" y="6148440"/>
            <a:ext cx="3079440" cy="447120"/>
            <a:chOff x="5935680" y="6148440"/>
            <a:chExt cx="3079440" cy="447120"/>
          </a:xfrm>
        </p:grpSpPr>
        <p:pic>
          <p:nvPicPr>
            <p:cNvPr id="72" name="Picture 7" descr="ICSUlogo4c"/>
            <p:cNvPicPr/>
            <p:nvPr/>
          </p:nvPicPr>
          <p:blipFill>
            <a:blip r:embed="rId2"/>
            <a:stretch/>
          </p:blipFill>
          <p:spPr>
            <a:xfrm>
              <a:off x="7833960" y="6151680"/>
              <a:ext cx="11811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8" descr="IOC_UNESCO_color"/>
            <p:cNvPicPr/>
            <p:nvPr/>
          </p:nvPicPr>
          <p:blipFill>
            <a:blip r:embed="rId3"/>
            <a:stretch/>
          </p:blipFill>
          <p:spPr>
            <a:xfrm>
              <a:off x="6397920" y="6151680"/>
              <a:ext cx="775440" cy="44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9" descr="UNEP279E"/>
            <p:cNvPicPr/>
            <p:nvPr/>
          </p:nvPicPr>
          <p:blipFill>
            <a:blip r:embed="rId4"/>
            <a:stretch/>
          </p:blipFill>
          <p:spPr>
            <a:xfrm>
              <a:off x="7338600" y="6161760"/>
              <a:ext cx="3420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10" descr="WMO"/>
            <p:cNvPicPr/>
            <p:nvPr/>
          </p:nvPicPr>
          <p:blipFill>
            <a:blip r:embed="rId5"/>
            <a:stretch/>
          </p:blipFill>
          <p:spPr>
            <a:xfrm>
              <a:off x="5935680" y="6148440"/>
              <a:ext cx="347040" cy="44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4708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600" spc="-1" strike="noStrike">
                <a:solidFill>
                  <a:srgbClr val="0050a0"/>
                </a:solidFill>
                <a:latin typeface="Arial"/>
              </a:rPr>
              <a:t>Essential Climate Variables</a:t>
            </a: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4763" t="21430" r="12502" b="10002"/>
          <a:stretch/>
        </p:blipFill>
        <p:spPr>
          <a:xfrm>
            <a:off x="0" y="1066680"/>
            <a:ext cx="914400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1897" t="0" r="2296" b="0"/>
          <a:stretch/>
        </p:blipFill>
        <p:spPr>
          <a:xfrm>
            <a:off x="228600" y="2209680"/>
            <a:ext cx="7543800" cy="33037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50a0"/>
                </a:solidFill>
                <a:latin typeface="Arial"/>
              </a:rPr>
              <a:t>Continuous improvement and assessment cycle</a:t>
            </a: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752480" y="1219320"/>
            <a:ext cx="7467480" cy="5029200"/>
            <a:chOff x="1752480" y="1219320"/>
            <a:chExt cx="7467480" cy="5029200"/>
          </a:xfrm>
        </p:grpSpPr>
        <p:sp>
          <p:nvSpPr>
            <p:cNvPr id="81" name=""/>
            <p:cNvSpPr/>
            <p:nvPr/>
          </p:nvSpPr>
          <p:spPr>
            <a:xfrm>
              <a:off x="6857640" y="2819520"/>
              <a:ext cx="175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ff0000"/>
                  </a:solidFill>
                  <a:latin typeface="Arial"/>
                </a:rPr>
                <a:t>New Plan 20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84200" y="45324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48160" y="1219320"/>
              <a:ext cx="1828800" cy="1371600"/>
            </a:xfrm>
            <a:prstGeom prst="ellipse">
              <a:avLst/>
            </a:prstGeom>
            <a:solidFill>
              <a:srgbClr val="ffccff">
                <a:alpha val="56000"/>
              </a:srgbClr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00440" y="167652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cc"/>
                  </a:solidFill>
                  <a:latin typeface="Arial"/>
                </a:rPr>
                <a:t>Variable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cc"/>
                  </a:solidFill>
                  <a:latin typeface="Arial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00040" y="5410080"/>
              <a:ext cx="1600200" cy="8384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5410080"/>
              <a:ext cx="1746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6600"/>
                  </a:solidFill>
                  <a:latin typeface="Arial"/>
                </a:rPr>
                <a:t>Data set generation &amp; exploi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14440" y="2971800"/>
              <a:ext cx="304920" cy="30492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09880" y="4648320"/>
              <a:ext cx="30456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62160" y="4952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2320" y="31240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ff0000"/>
                  </a:solidFill>
                  <a:latin typeface="Arial"/>
                </a:rPr>
                <a:t>20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" name=""/>
            <p:cNvCxnSpPr>
              <a:stCxn id="87" idx="7"/>
              <a:endCxn id="83" idx="2"/>
            </p:cNvCxnSpPr>
            <p:nvPr/>
          </p:nvCxnSpPr>
          <p:spPr>
            <a:xfrm flipV="1">
              <a:off x="4374720" y="1904760"/>
              <a:ext cx="1873800" cy="1111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2" name=""/>
            <p:cNvSpPr/>
            <p:nvPr/>
          </p:nvSpPr>
          <p:spPr>
            <a:xfrm>
              <a:off x="7314840" y="1295280"/>
              <a:ext cx="304920" cy="304920"/>
            </a:xfrm>
            <a:prstGeom prst="ellipse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14840" y="1752480"/>
              <a:ext cx="304920" cy="304920"/>
            </a:xfrm>
            <a:prstGeom prst="ellipse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14840" y="2209680"/>
              <a:ext cx="304920" cy="304920"/>
            </a:xfrm>
            <a:prstGeom prst="ellipse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43440" y="121932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cc"/>
                  </a:solidFill>
                  <a:latin typeface="Arial"/>
                </a:rPr>
                <a:t>meeting all crite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43440" y="17524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cc"/>
                  </a:solidFill>
                  <a:latin typeface="Arial"/>
                </a:rPr>
                <a:t>emerg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43440" y="220968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cc"/>
                  </a:solidFill>
                  <a:latin typeface="Arial"/>
                </a:rPr>
                <a:t>not feasi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09680" y="5410080"/>
              <a:ext cx="838080" cy="8384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047400" y="5867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52480" y="5562720"/>
              <a:ext cx="174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6600"/>
                  </a:solidFill>
                  <a:latin typeface="Arial"/>
                </a:rPr>
                <a:t>Heritag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cc6600"/>
                  </a:solidFill>
                  <a:latin typeface="Arial"/>
                </a:rPr>
                <a:t>reco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362320" y="2590920"/>
            <a:ext cx="838080" cy="380880"/>
          </a:xfrm>
          <a:custGeom>
            <a:avLst/>
            <a:gdLst>
              <a:gd name="textAreaLeft" fmla="*/ 130680 w 838080"/>
              <a:gd name="textAreaRight" fmla="*/ 733320 w 8380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50000">
                <a:srgbClr val="ffff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600" spc="-1" strike="noStrike">
                <a:solidFill>
                  <a:srgbClr val="0050a0"/>
                </a:solidFill>
                <a:latin typeface="Arial"/>
              </a:rPr>
              <a:t>Scoping the Assessment Report</a:t>
            </a: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439120" cy="56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153720" indent="-15372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ow to report on ECV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3720" indent="0">
              <a:lnSpc>
                <a:spcPts val="2999"/>
              </a:lnSpc>
              <a:spcAft>
                <a:spcPts val="1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coping Report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http://www.wmo.int/pages/prog/gcos/Publications/gcos_178.pd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3720"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3720" indent="0">
              <a:lnSpc>
                <a:spcPts val="2999"/>
              </a:lnSpc>
              <a:spcAft>
                <a:spcPts val="1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25597" t="5237" r="27382" b="4288"/>
          <a:stretch/>
        </p:blipFill>
        <p:spPr>
          <a:xfrm>
            <a:off x="2133720" y="2666880"/>
            <a:ext cx="29779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54712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50a0"/>
                </a:solidFill>
                <a:latin typeface="Arial"/>
              </a:rPr>
              <a:t>ECV Information (Table prepared for TOPC Meeting)</a:t>
            </a: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50960" t="15716" r="16669" b="10951"/>
          <a:stretch/>
        </p:blipFill>
        <p:spPr>
          <a:xfrm>
            <a:off x="990720" y="838080"/>
            <a:ext cx="3733560" cy="528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16669" t="15716" r="50598" b="10002"/>
          <a:stretch/>
        </p:blipFill>
        <p:spPr>
          <a:xfrm>
            <a:off x="4724280" y="1143000"/>
            <a:ext cx="3654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600" spc="-1" strike="noStrike">
                <a:solidFill>
                  <a:srgbClr val="0050a0"/>
                </a:solidFill>
                <a:latin typeface="Arial"/>
              </a:rPr>
              <a:t>ECV Template</a:t>
            </a: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16669" t="15239" r="16669" b="11428"/>
          <a:stretch/>
        </p:blipFill>
        <p:spPr>
          <a:xfrm>
            <a:off x="152280" y="838080"/>
            <a:ext cx="7467840" cy="5133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17262" t="22784" r="50364" b="53955"/>
          <a:stretch/>
        </p:blipFill>
        <p:spPr>
          <a:xfrm>
            <a:off x="3962520" y="5181480"/>
            <a:ext cx="3733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09:59:37Z</dcterms:created>
  <dc:creator>CRichter</dc:creator>
  <dc:description/>
  <dc:language>en-US</dc:language>
  <cp:lastModifiedBy>CRichter</cp:lastModifiedBy>
  <dcterms:modified xsi:type="dcterms:W3CDTF">2014-03-03T12:37:57Z</dcterms:modified>
  <cp:revision>46</cp:revision>
  <dc:subject/>
  <dc:title>Slide 1</dc:title>
</cp:coreProperties>
</file>