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12600" y="12240"/>
            <a:ext cx="296064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40"/>
          </p:nvPr>
        </p:nvSpPr>
        <p:spPr>
          <a:xfrm>
            <a:off x="3884760" y="12240"/>
            <a:ext cx="296064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  <a:defRPr b="0" i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3D8E48DE-B7DF-46AE-8E72-0EA0094DBDBA}" type="datetime"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1122480" y="716040"/>
            <a:ext cx="46180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922320" y="4417920"/>
            <a:ext cx="5013360" cy="4168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41"/>
          </p:nvPr>
        </p:nvSpPr>
        <p:spPr>
          <a:xfrm>
            <a:off x="12600" y="8814960"/>
            <a:ext cx="296064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42"/>
          </p:nvPr>
        </p:nvSpPr>
        <p:spPr>
          <a:xfrm>
            <a:off x="3884760" y="8814960"/>
            <a:ext cx="296064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  <a:defRPr b="0" i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7BDD659A-2751-43E8-9A20-794CC322D156}" type="slidenum"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22480" y="7160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22320" y="4417920"/>
            <a:ext cx="501336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1532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DED7B08D-954E-4604-B5BE-A5F899AD166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4" name="Header Placeholder 4"/>
          <p:cNvSpPr/>
          <p:nvPr/>
        </p:nvSpPr>
        <p:spPr>
          <a:xfrm>
            <a:off x="12600" y="1260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22480" y="7160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22320" y="4417920"/>
            <a:ext cx="501336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81532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32CC514D-A667-4F5C-AFCC-0FADEA022A20}" type="slidenum">
              <a:rPr b="0" i="1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0" name="Header Placeholder 4"/>
          <p:cNvSpPr/>
          <p:nvPr/>
        </p:nvSpPr>
        <p:spPr>
          <a:xfrm>
            <a:off x="12600" y="1260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22480" y="7160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22320" y="4417920"/>
            <a:ext cx="501336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81532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D2328A73-328C-4AA5-B751-A281969A10C2}" type="slidenum">
              <a:rPr b="0" i="1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4" name="Header Placeholder 4"/>
          <p:cNvSpPr/>
          <p:nvPr/>
        </p:nvSpPr>
        <p:spPr>
          <a:xfrm>
            <a:off x="12600" y="1260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22480" y="7160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22320" y="4417920"/>
            <a:ext cx="501336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3884760" y="881532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440BFCE4-75A2-49EE-AD26-3BB90AC70FD7}" type="slidenum">
              <a:rPr b="0" i="1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8" name="Header Placeholder 4"/>
          <p:cNvSpPr/>
          <p:nvPr/>
        </p:nvSpPr>
        <p:spPr>
          <a:xfrm>
            <a:off x="12600" y="1260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22480" y="7160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22320" y="4417920"/>
            <a:ext cx="501336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1532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46F5EB7B-3421-4076-A5BC-65016AEA6A0B}" type="slidenum">
              <a:rPr b="0" i="1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2" name="Header Placeholder 4"/>
          <p:cNvSpPr/>
          <p:nvPr/>
        </p:nvSpPr>
        <p:spPr>
          <a:xfrm>
            <a:off x="12600" y="1260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22480" y="7160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22320" y="4417920"/>
            <a:ext cx="501336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4760" y="881532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423BDC38-B48F-4F7B-9176-1502C89B3A63}" type="slidenum">
              <a:rPr b="0" i="1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6" name="Header Placeholder 4"/>
          <p:cNvSpPr/>
          <p:nvPr/>
        </p:nvSpPr>
        <p:spPr>
          <a:xfrm>
            <a:off x="12600" y="1260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22480" y="7160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22320" y="4417920"/>
            <a:ext cx="501336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4760" y="881532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E0894B51-3DE8-424E-85DC-5A5D88275DDA}" type="slidenum">
              <a:rPr b="0" i="1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0" name="Header Placeholder 4"/>
          <p:cNvSpPr/>
          <p:nvPr/>
        </p:nvSpPr>
        <p:spPr>
          <a:xfrm>
            <a:off x="12600" y="1260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22480" y="7160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22320" y="4417920"/>
            <a:ext cx="501336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4760" y="881532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BF357F7D-BC4C-42D0-AC73-7504EC713CEC}" type="slidenum">
              <a:rPr b="0" i="1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4" name="Header Placeholder 4"/>
          <p:cNvSpPr/>
          <p:nvPr/>
        </p:nvSpPr>
        <p:spPr>
          <a:xfrm>
            <a:off x="12600" y="1260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22480" y="7160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22320" y="4417920"/>
            <a:ext cx="501336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3884760" y="881532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50DC460B-5FEF-420C-8695-2B2008916375}" type="slidenum">
              <a:rPr b="0" i="1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8" name="Header Placeholder 4"/>
          <p:cNvSpPr/>
          <p:nvPr/>
        </p:nvSpPr>
        <p:spPr>
          <a:xfrm>
            <a:off x="12600" y="1260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22480" y="7160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22320" y="4417920"/>
            <a:ext cx="501336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884760" y="881532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76706FF5-65EA-4050-BDF4-423C990E8B9D}" type="slidenum">
              <a:rPr b="0" i="1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2" name="Header Placeholder 4"/>
          <p:cNvSpPr/>
          <p:nvPr/>
        </p:nvSpPr>
        <p:spPr>
          <a:xfrm>
            <a:off x="12600" y="1260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22480" y="7160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22320" y="4417920"/>
            <a:ext cx="501336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4760" y="881532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82B8505E-137B-42BA-A973-A55672D1C2C6}" type="slidenum">
              <a:rPr b="0" i="1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6" name="Header Placeholder 4"/>
          <p:cNvSpPr/>
          <p:nvPr/>
        </p:nvSpPr>
        <p:spPr>
          <a:xfrm>
            <a:off x="12600" y="1260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22480" y="7160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22320" y="4417920"/>
            <a:ext cx="501336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81532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BD46A97A-F34B-4A98-9351-9EF2B9427F97}" type="slidenum">
              <a:rPr b="0" i="1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8" name="Header Placeholder 4"/>
          <p:cNvSpPr/>
          <p:nvPr/>
        </p:nvSpPr>
        <p:spPr>
          <a:xfrm>
            <a:off x="12600" y="1260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22480" y="7160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22320" y="4417920"/>
            <a:ext cx="501336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3884760" y="881532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61C56390-5D56-4139-8C04-A4B7796FB146}" type="slidenum">
              <a:rPr b="0" i="1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0" name="Header Placeholder 4"/>
          <p:cNvSpPr/>
          <p:nvPr/>
        </p:nvSpPr>
        <p:spPr>
          <a:xfrm>
            <a:off x="12600" y="1260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22480" y="7160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22320" y="4417920"/>
            <a:ext cx="501336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84760" y="881532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5B42B24C-B982-476A-8DA9-4AE4AB2E3BD4}" type="slidenum">
              <a:rPr b="0" i="1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2" name="Header Placeholder 4"/>
          <p:cNvSpPr/>
          <p:nvPr/>
        </p:nvSpPr>
        <p:spPr>
          <a:xfrm>
            <a:off x="12600" y="1260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22480" y="7160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22320" y="4417920"/>
            <a:ext cx="501336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4760" y="881532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17506A85-4130-475B-ADCC-917EC17B76A0}" type="slidenum">
              <a:rPr b="0" i="1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6" name="Header Placeholder 4"/>
          <p:cNvSpPr/>
          <p:nvPr/>
        </p:nvSpPr>
        <p:spPr>
          <a:xfrm>
            <a:off x="12600" y="1260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22480" y="7160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22320" y="4417920"/>
            <a:ext cx="501336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81532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D3647220-D6D3-4512-BACA-47CE80876E55}" type="slidenum">
              <a:rPr b="0" i="1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0" name="Header Placeholder 4"/>
          <p:cNvSpPr/>
          <p:nvPr/>
        </p:nvSpPr>
        <p:spPr>
          <a:xfrm>
            <a:off x="12600" y="1260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22480" y="7160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22320" y="4417920"/>
            <a:ext cx="501336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3884760" y="881532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7E21752B-46FA-43C0-85E3-1C2B8879C4D6}" type="slidenum">
              <a:rPr b="0" i="1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4" name="Header Placeholder 4"/>
          <p:cNvSpPr/>
          <p:nvPr/>
        </p:nvSpPr>
        <p:spPr>
          <a:xfrm>
            <a:off x="12600" y="1260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22480" y="7160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22320" y="4417920"/>
            <a:ext cx="501336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81532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2833F90A-E882-4C25-87CD-E95E0CDE6107}" type="slidenum">
              <a:rPr b="0" i="1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8" name="Header Placeholder 4"/>
          <p:cNvSpPr/>
          <p:nvPr/>
        </p:nvSpPr>
        <p:spPr>
          <a:xfrm>
            <a:off x="12600" y="1260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22480" y="7160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22320" y="4417920"/>
            <a:ext cx="501336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81532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4761A783-560A-4F98-ABF0-303381430E53}" type="slidenum">
              <a:rPr b="0" i="1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2" name="Header Placeholder 4"/>
          <p:cNvSpPr/>
          <p:nvPr/>
        </p:nvSpPr>
        <p:spPr>
          <a:xfrm>
            <a:off x="12600" y="1260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22480" y="7160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22320" y="4417920"/>
            <a:ext cx="501336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884760" y="881532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8BC79BFC-ED02-4239-989A-59E64003C677}" type="slidenum">
              <a:rPr b="0" i="1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6" name="Header Placeholder 4"/>
          <p:cNvSpPr/>
          <p:nvPr/>
        </p:nvSpPr>
        <p:spPr>
          <a:xfrm>
            <a:off x="12600" y="12600"/>
            <a:ext cx="296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60E8-A994-4B9A-954A-D6D5D4A5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48A8-504F-4335-8EAD-D6941083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7152E-199A-4D58-A49D-9F02271A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EFB97-35E9-485A-965E-BBDB08C6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2D896-B825-4FB4-9533-101DD038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5DFB9-4E35-43D5-87F6-EAD73D7F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2A298-22F8-42CA-8129-F447575C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59A9C-D318-4D3D-B556-25827CDA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DDC14-9B44-4CB7-A420-141EEADD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910C4-8AF9-408F-9032-99F9B3E9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D341C-F5E4-4519-AC5C-2FF3D2D0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78354-13B5-45F8-9D6B-E426EE22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E536-57F2-47B7-8342-253D02EB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46444-EE52-42AE-83DF-F1F6C30E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92AF5-0C5C-447A-B184-E2EB6D6C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A7974-BE9F-4438-B1F5-31875CBB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0A0D2-ED38-4148-91B5-B0D74EF1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F1F9D-F0EC-4F7F-B3C6-76D4FE4B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A4444-5AE2-47CF-B6B5-F96B7524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F4E8A-25E4-479E-8B45-BF4B3B2C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82B46-64FE-4D66-A78D-68E9B68D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804F1-8A75-4E1A-978F-61292E2F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F1840-FC9B-44CF-84AA-CF817F88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5ED5-48FD-48C3-A48D-A92BE1D6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6574F-30B9-4DAA-89C9-9649E993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75CD6-6420-491B-9642-5CB10926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92627-1E16-4309-9B91-8902EFFE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28C52-83E8-4835-9462-74E21633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C066A-A8C6-4579-9AB1-CA155765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2BAE4-DFF9-42D1-9ED9-773E8CF2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4AA39-DB7E-49D1-812B-6605B79B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6B941-01FF-4D69-B322-B39BFC23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A935E-1FB8-4F94-9F0E-22694E07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A4F8A-D7B8-46D2-BBA0-A5494D6B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B12C3-EF89-4D7F-8F07-A84B2BF1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AF5D7-C3AD-4D0C-967E-519C443F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3D945-538E-4AF3-BD73-5B6E2DD7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F462F-65DF-4A83-B44C-76A16723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D58B8-1D6D-4EC2-ACFB-8A3FC563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221DD-AA43-4155-A160-48B2D36E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54616-B790-4A0F-B764-AA7293AA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E9CF9-43F0-4F80-B1B6-10DD075C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73D19-C7A5-4E44-AB47-86543160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FA8B9-A3F6-4B71-9926-9AF7E632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DCB23-5C2A-42BA-B29F-F6A11A4C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A2F79-D093-4FB8-9083-FCABA472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D0DCA-4BF5-436B-9A28-67401847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34845-85CB-4C61-B27B-BC0C227D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CAA27-CD2C-4395-82D0-28D30E26E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59F3E-513F-4A39-B415-87481960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07AFA-1EB6-491B-A746-8790AD35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897BA-003F-413F-9558-06DDB9C5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3677A-82FB-40BD-B56D-C48489D8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35FF7-BC3B-4091-948F-3BB82C05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FA8E5-DB48-4F81-A1D6-B8BAE5C7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6CCDD-9D02-4648-86FB-CA9FAF9A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97DB6-0819-4584-8CFE-DABC7571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4A9F8-4176-4119-8C24-B61D5042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DFE6D-470C-404D-B153-CF973AD3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C9622-DF2E-48E3-804D-3A992C1B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DB901-835F-412A-8914-5B737C45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56A9C84-4D08-45D7-82AD-AE954693A23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ACC4009-587F-42EA-AF9E-0E61B46D5CA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D2A1A9-8EC8-49AA-BC2A-3C2AAE99A5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9C991C-5118-4072-99DA-4CDD436C2BD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19F0332-DDF2-4836-8A75-FDB3D30F390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DF87207-A12E-4AC4-995E-E59CE36F7B0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039E527-E65D-4C98-B93F-24C5B616819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DFC4CA9-C2EF-4345-B654-A0DD8AF50A6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7B0376C-6A37-4EF5-8106-B5AD9973A0F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D4C8A8C-FFDF-4F73-85F8-5455CA33289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139AF9-CE92-48C5-BAD3-26F32E1E923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6DF3714-5B91-4672-BF67-197EEB8F570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660215-A8F0-4C32-BDAE-9AA1C62130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83B867-39C5-4FE6-80AD-F4DCADA3FD0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91696B-7844-4B97-9F67-1C42677478F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C12B3F-F89F-46C6-9A58-637C1BB3C78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85AD78-1654-4A19-B5B0-9118C1732A7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B260AC-0BC9-41BB-B76C-92BFBC0A0E9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CA1AC6-8460-40D6-B4F7-07DAB7C2129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1AA1E8-8DA8-4DAC-AF73-FB45C7F5478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5E06AB-2F26-41BE-92BF-229DEF1319F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F3BE0E-F039-4B84-95CF-0EC2D65FD3E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96E72C-C9F3-4F7A-BC74-1FE57BB4F6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928271-720C-4094-8F80-C2E5C9CB49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E9B6-B0DD-4BE1-9A5B-06EE86CD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B754-77A9-41B0-B081-C9C8BFDD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3908-0608-4F83-94B6-85BF17BC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89D6-D481-4071-87AD-EB826422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B548-D52D-4E5F-8E4B-98945997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A432-EC9B-4FDB-8DE1-D2AA499A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E528-696E-41BC-93F6-BA48D332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43B6-A651-4ADD-A221-700CBC18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E2D9-D82B-49C4-882C-42DD62B0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60C2-8E79-4FB0-A324-C916A298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383C-7146-4E07-B1E7-60DA7F97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D82A-6436-421E-82A1-C66E1620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DC01-DDE6-4770-8951-7BF394C6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3581-2001-46E9-960C-BFDD6A5A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71F3E-8CCE-4326-8ECB-5C1FDFE5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8AD60-46BE-4A85-980E-17F5736A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944D8-905A-4537-952C-5B42FEA7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08DF-84B6-41E9-9929-7BA3E71A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07212-A50C-4F7A-BE9A-2BD2868F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9063D-D2D1-4019-B4C6-73635650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3E633-0D8E-4012-91E1-3ECC98B3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28526-03D9-495A-A323-9BC84FF2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8086C-3E2E-4D13-B255-44F8B29D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79D1F-A554-4651-B459-F7B3C864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773BB-B47F-43FD-9896-21E1431F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B376E-5428-432C-942C-8FA93D20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D918B-9101-4757-957C-ED691420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C9CF2-A55B-4E12-A684-04856A51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57A4-C65F-4F0C-BE36-FC6B4BE7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55C30-401A-4767-BA08-803CD86B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BC6E9-B207-4B58-81C9-A3607E2A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499C9-5111-4EDF-B8AF-F82A23CD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5DDFB-60AE-4414-8F17-9E2AFBA8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440C6-4D8B-4D04-BC5B-DC461460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62A83-2EFA-4742-A8EE-C85FBD38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7F1E0-7E71-41B0-8CAF-46CF8C49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09D8A-AF76-4003-B822-7B2DB778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FEFA3-2E7F-4B31-8F1A-858A9297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FB53C-1B12-4E36-A4E4-B2F89DC4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60C6-4C4B-49F3-9C4D-24C0089D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9A1D9-C884-4DD5-8516-CC2E1A69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70DB9-790B-4996-AA1F-86BB9A3C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4C16E-DB52-4567-88E6-73A53041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7E435-2DE8-46CB-9B32-226EE23C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6C259-FB88-48D4-9F7B-41A9A016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269F4-7E2E-4D86-BA33-D36E84C9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A3996-B289-4867-A191-FC4BF96D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C08FA-0932-42A2-89CC-4709CBC9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75D51-2698-4996-8B68-E4B87CA5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4A4E9-5951-4FE4-8E57-A49850DF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C0D5-07AB-42C8-B629-DF303C9D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9A774-6CC6-4925-A941-B9C3CE8A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A1B3B-492D-42BC-BBCF-786B4986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CDB4E-D19C-4338-BC78-671298CD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EA001-AB79-4775-9465-DB5EC930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FE36B-88E7-49C0-9F30-DC6B9C3C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35818-A1DA-4BF9-9E2D-0C8579CE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42C7F-F191-4F9E-95AE-E439094E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D23DE-785B-4E2C-8AC0-FDA258B5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87887-2C6D-46CF-A6D6-00114F79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0754C-24A9-4979-988E-7D657815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3878-9374-4675-AA95-FFF36123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24B85-FB73-4361-AD0C-10E3FF5E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EC963-5358-4171-B5F1-452C98CE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485E0-96EF-4438-BD27-27765CE3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0F624-F6DA-4E49-9263-6C463E2B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CD85A-A714-44D8-BD09-232A99CD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5DC5B-D963-4119-BFE9-8AABFD5B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EDEE2-82C0-48E3-987B-B2D3C953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6689E-FD81-4FF4-81C3-E4E83DE6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D4A3F-49EE-45ED-8934-A0043FE2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0D837-A881-4010-B1ED-FD1CCA30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8EC0-FBF2-4F41-A55A-A0B31EBD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E660A-8EA4-402D-A6D8-65905C9E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CBB37-28C2-406E-92DA-DEC7C16A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06CBB-1759-4B5F-8E9C-E0128019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E7DD4-0457-4AD3-87E5-B9DA1EBF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8DFE5-6874-402C-9750-B13F3699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74DB7-5E2F-47E2-AC4A-CD96A150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BF379-3B8A-4E56-B010-C32312D0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1BC9E-D1D8-41CB-BF9F-72E1448F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C5280-037B-433B-859B-EC293E23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C8634-A32A-4E89-8EFE-26F1B0E7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GClimate Meeting, Darmstadt, March 4 – 7,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9EBC-1E49-405D-A3B0-11784D8B7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GClimate Meeting, Darmstadt, March 4 – 7,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3E3D-E8F9-4A3B-8EBA-5ED7DC208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GClimate Meeting, Darmstadt, March 4 – 7,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6A9A-B8DA-4F9E-A8A2-15D749E42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GClimate Meeting, Darmstadt, March 4 – 7,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1DC6-AA34-46BC-B44D-86AC311AC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GClimate Meeting, Darmstadt, March 4 – 7,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2C7C-5751-4B21-91E7-88A7AECFA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Num" idx="37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0069-85AB-4CCC-9876-FC9E671A9C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38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2569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imes New Roman"/>
              </a:rPr>
              <a:t>WGClimate Meeting, Geneva, February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2569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7C1A-4607-49A4-A524-BC1A3591D1AF}" type="slidenum">
              <a:rPr b="0" lang="en-US" sz="24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11520" y="552600"/>
            <a:ext cx="106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Unicode MS"/>
                <a:ea typeface="MS PGothic"/>
              </a:rPr>
              <a:t>SIT-27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Unicode MS"/>
                <a:ea typeface="MS PGothic"/>
              </a:rPr>
              <a:t>La Jolla, CA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Unicode MS"/>
                <a:ea typeface="MS PGothic"/>
              </a:rPr>
              <a:t>March 27-28, 2012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5" name="Picture 4" descr="CEOS_logo_transparent.png"/>
          <p:cNvPicPr/>
          <p:nvPr/>
        </p:nvPicPr>
        <p:blipFill>
          <a:blip r:embed="rId3"/>
          <a:stretch/>
        </p:blipFill>
        <p:spPr>
          <a:xfrm>
            <a:off x="95400" y="71280"/>
            <a:ext cx="1206360" cy="47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GClimate Meeting, Darmstadt, March 4 – 7,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6928-2D7B-49B6-85B1-C91F92CBE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GClimate Meeting, Darmstadt, March 4 – 7,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FE3D-DB95-4417-886E-ACB5B4842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GClimate Meeting, Darmstadt, March 4 – 7,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157A-B32C-42A8-A168-4FEA29D42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GClimate Meeting, Darmstadt, March 4 – 7,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C199-16A0-4B92-B84D-8008D676E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GClimate Meeting, Darmstadt, March 4 – 7,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59BA-9914-443B-9EE5-5F041CD1E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GClimate Meeting, Darmstadt, March 4 – 7,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F6D9-53A3-4CD9-8ACA-D3297699F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GClimate Meeting, Darmstadt, March 4 – 7,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8E4A-CB00-4B40-803A-261725E9C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69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69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9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69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9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69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v-inventory.com/ecv2/" TargetMode="External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Box 7"/>
          <p:cNvSpPr/>
          <p:nvPr/>
        </p:nvSpPr>
        <p:spPr>
          <a:xfrm>
            <a:off x="592200" y="1905120"/>
            <a:ext cx="8010360" cy="40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a1916"/>
                </a:solidFill>
                <a:latin typeface="Arial"/>
                <a:ea typeface="Arial"/>
              </a:rPr>
              <a:t>CEOS ECV Inventory</a:t>
            </a:r>
            <a:br>
              <a:rPr sz="3600"/>
            </a:b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atabase Survey and Integration with the EO Handbook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1a1916"/>
                </a:solidFill>
                <a:latin typeface="Arial"/>
                <a:ea typeface="Arial"/>
              </a:rPr>
              <a:t>Shelley Stover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1a1916"/>
                </a:solidFill>
                <a:latin typeface="Arial"/>
                <a:ea typeface="Arial"/>
              </a:rPr>
              <a:t>CEOS Systems Engineering Office (SEO)</a:t>
            </a:r>
            <a:br>
              <a:rPr sz="2400"/>
            </a:br>
            <a:r>
              <a:rPr b="0" lang="en-US" sz="2400" spc="-1" strike="noStrike">
                <a:solidFill>
                  <a:srgbClr val="1a1916"/>
                </a:solidFill>
                <a:latin typeface="Arial"/>
                <a:ea typeface="Arial"/>
              </a:rPr>
              <a:t>Working Group on Climate Meeting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916"/>
                </a:solidFill>
                <a:latin typeface="Arial"/>
                <a:ea typeface="Arial"/>
              </a:rPr>
              <a:t>Darmstadt</a:t>
            </a:r>
            <a:br>
              <a:rPr sz="2400"/>
            </a:br>
            <a:r>
              <a:rPr b="0" lang="en-US" sz="2400" spc="-1" strike="noStrike">
                <a:solidFill>
                  <a:srgbClr val="1a1916"/>
                </a:solidFill>
                <a:latin typeface="Arial"/>
                <a:ea typeface="Arial"/>
              </a:rPr>
              <a:t>March 4 - 7, 2014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20" name="Picture 8" descr="NASA-transparent.png"/>
          <p:cNvPicPr/>
          <p:nvPr/>
        </p:nvPicPr>
        <p:blipFill>
          <a:blip r:embed="rId1"/>
          <a:stretch/>
        </p:blipFill>
        <p:spPr>
          <a:xfrm>
            <a:off x="7891560" y="5757840"/>
            <a:ext cx="1066680" cy="914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63280" y="185760"/>
            <a:ext cx="8026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CV Inventory on the EO Handbook Si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Footer Placeholder 2"/>
          <p:cNvSpPr/>
          <p:nvPr/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WGClimate Meeting, Darmstadt, March 4 – 7, 2014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6409-37FB-4E72-AE6E-102167EAF9E1}" type="slidenum"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62" name="Picture 3" descr=""/>
          <p:cNvPicPr/>
          <p:nvPr/>
        </p:nvPicPr>
        <p:blipFill>
          <a:blip r:embed="rId1"/>
          <a:stretch/>
        </p:blipFill>
        <p:spPr>
          <a:xfrm>
            <a:off x="635040" y="1330200"/>
            <a:ext cx="7912080" cy="5527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77840" y="232920"/>
            <a:ext cx="8864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User Specified ECV Inventory Data Query Capability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Content Placeholder 2"/>
          <p:cNvSpPr/>
          <p:nvPr/>
        </p:nvSpPr>
        <p:spPr>
          <a:xfrm>
            <a:off x="177840" y="1601640"/>
            <a:ext cx="8712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lanned Query Capabilit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earch by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esponsible organization, ECV type, TCDR, Physical Quantity (or type of measurement), Satellite, and Instrumen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isplay records by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alendar timelines for multiple records grouped by ECV type, TCDR, and Physical Quantity. View additional information beside the timeline? Could include responsible organization, satellite, and instrumen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vanced query of records by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orting timelines by responsible organization, satellite, and instrumen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roviding statistics summary counts of number of records per agency, per ECV type, per TCDR type, etc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5" name="TextBox 3"/>
          <p:cNvSpPr/>
          <p:nvPr/>
        </p:nvSpPr>
        <p:spPr>
          <a:xfrm>
            <a:off x="758880" y="579600"/>
            <a:ext cx="1857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6" name="Footer Placeholder 4"/>
          <p:cNvSpPr/>
          <p:nvPr/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WGClimate Meeting, Darmstadt, March 4 – 7, 2014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29E1-94DC-4E6C-AD2C-F15204409872}" type="slidenum"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887120" y="185760"/>
            <a:ext cx="7002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dvanced Query Example - ECV Inventory Statisti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Footer Placeholder 3"/>
          <p:cNvSpPr/>
          <p:nvPr/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WGClimate Meeting, Darmstadt, March 4 – 7, 2014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E67C-87BE-4F90-B5F8-72DF79E31E8C}" type="slidenum"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71" name="Chart 12" descr=""/>
          <p:cNvPicPr/>
          <p:nvPr/>
        </p:nvPicPr>
        <p:blipFill>
          <a:blip r:embed="rId1"/>
          <a:stretch/>
        </p:blipFill>
        <p:spPr>
          <a:xfrm>
            <a:off x="512640" y="1652760"/>
            <a:ext cx="8247240" cy="4857480"/>
          </a:xfrm>
          <a:prstGeom prst="rect">
            <a:avLst/>
          </a:prstGeom>
          <a:ln w="0">
            <a:noFill/>
          </a:ln>
        </p:spPr>
      </p:pic>
      <p:sp>
        <p:nvSpPr>
          <p:cNvPr id="672" name="TextBox 9"/>
          <p:cNvSpPr/>
          <p:nvPr/>
        </p:nvSpPr>
        <p:spPr>
          <a:xfrm>
            <a:off x="328680" y="1407960"/>
            <a:ext cx="754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10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 Unicode MS"/>
              </a:rPr>
              <a:t>Number of records per ECV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slow" advTm="10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887120" y="185760"/>
            <a:ext cx="7002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dvanced Query Example - ECV Inventory Statisti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Footer Placeholder 3"/>
          <p:cNvSpPr/>
          <p:nvPr/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WGClimate Meeting, Darmstadt, March 4 – 7, 2014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5B25-0FE5-4DB9-BE83-46949F9674ED}" type="slidenum"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6" name="TextBox 9"/>
          <p:cNvSpPr/>
          <p:nvPr/>
        </p:nvSpPr>
        <p:spPr>
          <a:xfrm>
            <a:off x="328680" y="1407960"/>
            <a:ext cx="754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10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 Unicode MS"/>
              </a:rPr>
              <a:t>Number of records per ECV, continued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77" name="Chart 8" descr=""/>
          <p:cNvPicPr/>
          <p:nvPr/>
        </p:nvPicPr>
        <p:blipFill>
          <a:blip r:embed="rId1"/>
          <a:stretch/>
        </p:blipFill>
        <p:spPr>
          <a:xfrm>
            <a:off x="371520" y="1884240"/>
            <a:ext cx="8553240" cy="43452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82400" y="185760"/>
            <a:ext cx="8407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dvanced Query Example for ECV Inventory Statistics – Responsible Or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Footer Placeholder 3"/>
          <p:cNvSpPr/>
          <p:nvPr/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WGClimate Meeting, Darmstadt, March 4 – 7, 2014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D744-9025-4996-95A8-08BB5FB919A3}" type="slidenum"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1" name="TextBox 9"/>
          <p:cNvSpPr/>
          <p:nvPr/>
        </p:nvSpPr>
        <p:spPr>
          <a:xfrm>
            <a:off x="314280" y="1325520"/>
            <a:ext cx="754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10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 Unicode MS"/>
              </a:rPr>
              <a:t>Number of records per responsible organization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82" name="Chart 6" descr=""/>
          <p:cNvPicPr/>
          <p:nvPr/>
        </p:nvPicPr>
        <p:blipFill>
          <a:blip r:embed="rId1"/>
          <a:stretch/>
        </p:blipFill>
        <p:spPr>
          <a:xfrm>
            <a:off x="-890640" y="1596960"/>
            <a:ext cx="8961480" cy="4937040"/>
          </a:xfrm>
          <a:prstGeom prst="rect">
            <a:avLst/>
          </a:prstGeom>
          <a:ln w="0">
            <a:noFill/>
          </a:ln>
        </p:spPr>
      </p:pic>
      <p:pic>
        <p:nvPicPr>
          <p:cNvPr id="683" name="Chart 10" descr=""/>
          <p:cNvPicPr/>
          <p:nvPr/>
        </p:nvPicPr>
        <p:blipFill>
          <a:blip r:embed="rId2"/>
          <a:stretch/>
        </p:blipFill>
        <p:spPr>
          <a:xfrm>
            <a:off x="109440" y="1657440"/>
            <a:ext cx="9041040" cy="46148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7840" y="185760"/>
            <a:ext cx="83516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dvanced Query Example for ECV Inventory Statistics – Assessment Bo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Footer Placeholder 3"/>
          <p:cNvSpPr/>
          <p:nvPr/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WGClimate Meeting, Darmstadt, March 4 – 7, 2014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3337-2BA4-496D-93B6-93A84FA84E1C}" type="slidenum"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7" name="TextBox 9"/>
          <p:cNvSpPr/>
          <p:nvPr/>
        </p:nvSpPr>
        <p:spPr>
          <a:xfrm>
            <a:off x="0" y="1325520"/>
            <a:ext cx="473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10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 Unicode MS"/>
              </a:rPr>
              <a:t>Number of records that use an assessment body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88" name="Chart 6" descr=""/>
          <p:cNvPicPr/>
          <p:nvPr/>
        </p:nvPicPr>
        <p:blipFill>
          <a:blip r:embed="rId1"/>
          <a:stretch/>
        </p:blipFill>
        <p:spPr>
          <a:xfrm>
            <a:off x="-890640" y="1596960"/>
            <a:ext cx="8961480" cy="4937040"/>
          </a:xfrm>
          <a:prstGeom prst="rect">
            <a:avLst/>
          </a:prstGeom>
          <a:ln w="0">
            <a:noFill/>
          </a:ln>
        </p:spPr>
      </p:pic>
      <p:pic>
        <p:nvPicPr>
          <p:cNvPr id="689" name="Chart 10" descr=""/>
          <p:cNvPicPr/>
          <p:nvPr/>
        </p:nvPicPr>
        <p:blipFill>
          <a:blip r:embed="rId2"/>
          <a:stretch/>
        </p:blipFill>
        <p:spPr>
          <a:xfrm>
            <a:off x="109440" y="2048040"/>
            <a:ext cx="4645080" cy="4614840"/>
          </a:xfrm>
          <a:prstGeom prst="rect">
            <a:avLst/>
          </a:prstGeom>
          <a:ln w="0">
            <a:noFill/>
          </a:ln>
        </p:spPr>
      </p:pic>
      <p:pic>
        <p:nvPicPr>
          <p:cNvPr id="690" name="Chart 7" descr=""/>
          <p:cNvPicPr/>
          <p:nvPr/>
        </p:nvPicPr>
        <p:blipFill>
          <a:blip r:embed="rId3"/>
          <a:stretch/>
        </p:blipFill>
        <p:spPr>
          <a:xfrm>
            <a:off x="554040" y="2189160"/>
            <a:ext cx="4005360" cy="4400640"/>
          </a:xfrm>
          <a:prstGeom prst="rect">
            <a:avLst/>
          </a:prstGeom>
          <a:ln w="0">
            <a:noFill/>
          </a:ln>
        </p:spPr>
      </p:pic>
      <p:pic>
        <p:nvPicPr>
          <p:cNvPr id="691" name="Chart 8" descr=""/>
          <p:cNvPicPr/>
          <p:nvPr/>
        </p:nvPicPr>
        <p:blipFill>
          <a:blip r:embed="rId4"/>
          <a:stretch/>
        </p:blipFill>
        <p:spPr>
          <a:xfrm>
            <a:off x="-6480" y="1816200"/>
            <a:ext cx="4213440" cy="3421080"/>
          </a:xfrm>
          <a:prstGeom prst="rect">
            <a:avLst/>
          </a:prstGeom>
          <a:ln w="0">
            <a:noFill/>
          </a:ln>
        </p:spPr>
      </p:pic>
      <p:sp>
        <p:nvSpPr>
          <p:cNvPr id="692" name="TextBox 1"/>
          <p:cNvSpPr/>
          <p:nvPr/>
        </p:nvSpPr>
        <p:spPr>
          <a:xfrm>
            <a:off x="5329080" y="1366920"/>
            <a:ext cx="36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10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 Unicode MS"/>
              </a:rPr>
              <a:t>Who are the assessment bodies?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93" name="Chart 12" descr=""/>
          <p:cNvPicPr/>
          <p:nvPr/>
        </p:nvPicPr>
        <p:blipFill>
          <a:blip r:embed="rId5"/>
          <a:stretch/>
        </p:blipFill>
        <p:spPr>
          <a:xfrm>
            <a:off x="4194000" y="1859040"/>
            <a:ext cx="4773960" cy="38466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0" y="185760"/>
            <a:ext cx="8889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dvanced Query Example for ECV Inventory Statistics – Quality Control Or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Footer Placeholder 3"/>
          <p:cNvSpPr/>
          <p:nvPr/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WGClimate Meeting, Darmstadt, March 4 – 7, 2014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F77D-69A0-4085-A9B9-44A5B930B4F3}" type="slidenum"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7" name="TextBox 9"/>
          <p:cNvSpPr/>
          <p:nvPr/>
        </p:nvSpPr>
        <p:spPr>
          <a:xfrm>
            <a:off x="0" y="1325520"/>
            <a:ext cx="473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10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 Unicode MS"/>
              </a:rPr>
              <a:t>Number of records that use a quality control organization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98" name="Chart 6" descr=""/>
          <p:cNvPicPr/>
          <p:nvPr/>
        </p:nvPicPr>
        <p:blipFill>
          <a:blip r:embed="rId1"/>
          <a:stretch/>
        </p:blipFill>
        <p:spPr>
          <a:xfrm>
            <a:off x="-890640" y="1596960"/>
            <a:ext cx="8961480" cy="4937040"/>
          </a:xfrm>
          <a:prstGeom prst="rect">
            <a:avLst/>
          </a:prstGeom>
          <a:ln w="0">
            <a:noFill/>
          </a:ln>
        </p:spPr>
      </p:pic>
      <p:pic>
        <p:nvPicPr>
          <p:cNvPr id="699" name="Chart 10" descr=""/>
          <p:cNvPicPr/>
          <p:nvPr/>
        </p:nvPicPr>
        <p:blipFill>
          <a:blip r:embed="rId2"/>
          <a:stretch/>
        </p:blipFill>
        <p:spPr>
          <a:xfrm>
            <a:off x="109440" y="2048040"/>
            <a:ext cx="4645080" cy="4614840"/>
          </a:xfrm>
          <a:prstGeom prst="rect">
            <a:avLst/>
          </a:prstGeom>
          <a:ln w="0">
            <a:noFill/>
          </a:ln>
        </p:spPr>
      </p:pic>
      <p:pic>
        <p:nvPicPr>
          <p:cNvPr id="700" name="Chart 7" descr=""/>
          <p:cNvPicPr/>
          <p:nvPr/>
        </p:nvPicPr>
        <p:blipFill>
          <a:blip r:embed="rId3"/>
          <a:stretch/>
        </p:blipFill>
        <p:spPr>
          <a:xfrm>
            <a:off x="554040" y="2189160"/>
            <a:ext cx="4005360" cy="4400640"/>
          </a:xfrm>
          <a:prstGeom prst="rect">
            <a:avLst/>
          </a:prstGeom>
          <a:ln w="0">
            <a:noFill/>
          </a:ln>
        </p:spPr>
      </p:pic>
      <p:pic>
        <p:nvPicPr>
          <p:cNvPr id="701" name="Chart 8" descr=""/>
          <p:cNvPicPr/>
          <p:nvPr/>
        </p:nvPicPr>
        <p:blipFill>
          <a:blip r:embed="rId4"/>
          <a:stretch/>
        </p:blipFill>
        <p:spPr>
          <a:xfrm>
            <a:off x="-6480" y="1816200"/>
            <a:ext cx="4213440" cy="3421080"/>
          </a:xfrm>
          <a:prstGeom prst="rect">
            <a:avLst/>
          </a:prstGeom>
          <a:ln w="0">
            <a:noFill/>
          </a:ln>
        </p:spPr>
      </p:pic>
      <p:sp>
        <p:nvSpPr>
          <p:cNvPr id="702" name="TextBox 1"/>
          <p:cNvSpPr/>
          <p:nvPr/>
        </p:nvSpPr>
        <p:spPr>
          <a:xfrm>
            <a:off x="4997520" y="1366920"/>
            <a:ext cx="414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10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 Unicode MS"/>
              </a:rPr>
              <a:t>Who are the quality control organizations?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03" name="Chart 11" descr=""/>
          <p:cNvPicPr/>
          <p:nvPr/>
        </p:nvPicPr>
        <p:blipFill>
          <a:blip r:embed="rId5"/>
          <a:stretch/>
        </p:blipFill>
        <p:spPr>
          <a:xfrm>
            <a:off x="-6480" y="2036880"/>
            <a:ext cx="4060800" cy="3174840"/>
          </a:xfrm>
          <a:prstGeom prst="rect">
            <a:avLst/>
          </a:prstGeom>
          <a:ln w="0">
            <a:noFill/>
          </a:ln>
        </p:spPr>
      </p:pic>
      <p:pic>
        <p:nvPicPr>
          <p:cNvPr id="704" name="Chart 13" descr=""/>
          <p:cNvPicPr/>
          <p:nvPr/>
        </p:nvPicPr>
        <p:blipFill>
          <a:blip r:embed="rId6"/>
          <a:stretch/>
        </p:blipFill>
        <p:spPr>
          <a:xfrm>
            <a:off x="4419720" y="2011320"/>
            <a:ext cx="4584600" cy="3408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-579600" y="185400"/>
            <a:ext cx="9723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dvanced Query Example for ECV Inventory Statistics – In-situ Cal Network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Footer Placeholder 3"/>
          <p:cNvSpPr/>
          <p:nvPr/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WGClimate Meeting, Darmstadt, March 4 – 7, 2014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7692-4872-4BFE-AB51-EE555BA714C6}" type="slidenum"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8" name="TextBox 9"/>
          <p:cNvSpPr/>
          <p:nvPr/>
        </p:nvSpPr>
        <p:spPr>
          <a:xfrm>
            <a:off x="0" y="1325520"/>
            <a:ext cx="753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10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 Unicode MS"/>
              </a:rPr>
              <a:t>Number of records that use an in-situ calibration network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09" name="Chart 6" descr=""/>
          <p:cNvPicPr/>
          <p:nvPr/>
        </p:nvPicPr>
        <p:blipFill>
          <a:blip r:embed="rId1"/>
          <a:stretch/>
        </p:blipFill>
        <p:spPr>
          <a:xfrm>
            <a:off x="-890640" y="1596960"/>
            <a:ext cx="8961480" cy="4937040"/>
          </a:xfrm>
          <a:prstGeom prst="rect">
            <a:avLst/>
          </a:prstGeom>
          <a:ln w="0">
            <a:noFill/>
          </a:ln>
        </p:spPr>
      </p:pic>
      <p:pic>
        <p:nvPicPr>
          <p:cNvPr id="710" name="Chart 10" descr=""/>
          <p:cNvPicPr/>
          <p:nvPr/>
        </p:nvPicPr>
        <p:blipFill>
          <a:blip r:embed="rId2"/>
          <a:stretch/>
        </p:blipFill>
        <p:spPr>
          <a:xfrm>
            <a:off x="109440" y="2048040"/>
            <a:ext cx="4645080" cy="4614840"/>
          </a:xfrm>
          <a:prstGeom prst="rect">
            <a:avLst/>
          </a:prstGeom>
          <a:ln w="0">
            <a:noFill/>
          </a:ln>
        </p:spPr>
      </p:pic>
      <p:pic>
        <p:nvPicPr>
          <p:cNvPr id="711" name="Chart 7" descr=""/>
          <p:cNvPicPr/>
          <p:nvPr/>
        </p:nvPicPr>
        <p:blipFill>
          <a:blip r:embed="rId3"/>
          <a:stretch/>
        </p:blipFill>
        <p:spPr>
          <a:xfrm>
            <a:off x="554040" y="2189160"/>
            <a:ext cx="4005360" cy="4400640"/>
          </a:xfrm>
          <a:prstGeom prst="rect">
            <a:avLst/>
          </a:prstGeom>
          <a:ln w="0">
            <a:noFill/>
          </a:ln>
        </p:spPr>
      </p:pic>
      <p:pic>
        <p:nvPicPr>
          <p:cNvPr id="712" name="Chart 8" descr=""/>
          <p:cNvPicPr/>
          <p:nvPr/>
        </p:nvPicPr>
        <p:blipFill>
          <a:blip r:embed="rId4"/>
          <a:stretch/>
        </p:blipFill>
        <p:spPr>
          <a:xfrm>
            <a:off x="-6480" y="1816200"/>
            <a:ext cx="4213440" cy="3421080"/>
          </a:xfrm>
          <a:prstGeom prst="rect">
            <a:avLst/>
          </a:prstGeom>
          <a:ln w="0">
            <a:noFill/>
          </a:ln>
        </p:spPr>
      </p:pic>
      <p:pic>
        <p:nvPicPr>
          <p:cNvPr id="713" name="Chart 11" descr=""/>
          <p:cNvPicPr/>
          <p:nvPr/>
        </p:nvPicPr>
        <p:blipFill>
          <a:blip r:embed="rId5"/>
          <a:stretch/>
        </p:blipFill>
        <p:spPr>
          <a:xfrm>
            <a:off x="-6480" y="2036880"/>
            <a:ext cx="4060800" cy="3174840"/>
          </a:xfrm>
          <a:prstGeom prst="rect">
            <a:avLst/>
          </a:prstGeom>
          <a:ln w="0">
            <a:noFill/>
          </a:ln>
        </p:spPr>
      </p:pic>
      <p:pic>
        <p:nvPicPr>
          <p:cNvPr id="714" name="Chart 12" descr=""/>
          <p:cNvPicPr/>
          <p:nvPr/>
        </p:nvPicPr>
        <p:blipFill>
          <a:blip r:embed="rId6"/>
          <a:stretch/>
        </p:blipFill>
        <p:spPr>
          <a:xfrm>
            <a:off x="1755720" y="2219400"/>
            <a:ext cx="5967360" cy="35049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-579600" y="185400"/>
            <a:ext cx="9723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dvanced Query Example for ECV Inventory Statistics – ECV Timeline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Footer Placeholder 3"/>
          <p:cNvSpPr/>
          <p:nvPr/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WGClimate Meeting, Darmstadt, March 4 – 7, 2014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7090-5B6E-453E-8392-F55A0B23AC1A}" type="slidenum"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18" name="Picture 5" descr=""/>
          <p:cNvPicPr/>
          <p:nvPr/>
        </p:nvPicPr>
        <p:blipFill>
          <a:blip r:embed="rId1"/>
          <a:stretch/>
        </p:blipFill>
        <p:spPr>
          <a:xfrm>
            <a:off x="0" y="1359000"/>
            <a:ext cx="9144000" cy="48639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-579600" y="185400"/>
            <a:ext cx="9723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dvanced Query Example for ECV Inventory Statistics – ECV Timeline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Footer Placeholder 3"/>
          <p:cNvSpPr/>
          <p:nvPr/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WGClimate Meeting, Darmstadt, March 4 – 7, 2014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6B9E-2606-448C-A749-4F0F4A1941C5}" type="slidenum"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22" name="Chart 6" descr=""/>
          <p:cNvPicPr/>
          <p:nvPr/>
        </p:nvPicPr>
        <p:blipFill>
          <a:blip r:embed="rId1"/>
          <a:stretch/>
        </p:blipFill>
        <p:spPr>
          <a:xfrm>
            <a:off x="-890640" y="1596960"/>
            <a:ext cx="8961480" cy="4937040"/>
          </a:xfrm>
          <a:prstGeom prst="rect">
            <a:avLst/>
          </a:prstGeom>
          <a:ln w="0">
            <a:noFill/>
          </a:ln>
        </p:spPr>
      </p:pic>
      <p:pic>
        <p:nvPicPr>
          <p:cNvPr id="723" name="Chart 10" descr=""/>
          <p:cNvPicPr/>
          <p:nvPr/>
        </p:nvPicPr>
        <p:blipFill>
          <a:blip r:embed="rId2"/>
          <a:stretch/>
        </p:blipFill>
        <p:spPr>
          <a:xfrm>
            <a:off x="109440" y="2048040"/>
            <a:ext cx="4645080" cy="4614840"/>
          </a:xfrm>
          <a:prstGeom prst="rect">
            <a:avLst/>
          </a:prstGeom>
          <a:ln w="0">
            <a:noFill/>
          </a:ln>
        </p:spPr>
      </p:pic>
      <p:pic>
        <p:nvPicPr>
          <p:cNvPr id="724" name="Chart 7" descr=""/>
          <p:cNvPicPr/>
          <p:nvPr/>
        </p:nvPicPr>
        <p:blipFill>
          <a:blip r:embed="rId3"/>
          <a:stretch/>
        </p:blipFill>
        <p:spPr>
          <a:xfrm>
            <a:off x="554040" y="2189160"/>
            <a:ext cx="4005360" cy="4400640"/>
          </a:xfrm>
          <a:prstGeom prst="rect">
            <a:avLst/>
          </a:prstGeom>
          <a:ln w="0">
            <a:noFill/>
          </a:ln>
        </p:spPr>
      </p:pic>
      <p:pic>
        <p:nvPicPr>
          <p:cNvPr id="725" name="Chart 8" descr=""/>
          <p:cNvPicPr/>
          <p:nvPr/>
        </p:nvPicPr>
        <p:blipFill>
          <a:blip r:embed="rId4"/>
          <a:stretch/>
        </p:blipFill>
        <p:spPr>
          <a:xfrm>
            <a:off x="-6480" y="1816200"/>
            <a:ext cx="4213440" cy="34210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2" descr=""/>
          <p:cNvPicPr/>
          <p:nvPr/>
        </p:nvPicPr>
        <p:blipFill>
          <a:blip r:embed="rId5"/>
          <a:stretch/>
        </p:blipFill>
        <p:spPr>
          <a:xfrm>
            <a:off x="0" y="1092240"/>
            <a:ext cx="9144000" cy="53593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20840" y="93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CV Inventory Survey Approa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Content Placeholder 2"/>
          <p:cNvSpPr/>
          <p:nvPr/>
        </p:nvSpPr>
        <p:spPr>
          <a:xfrm>
            <a:off x="0" y="1309680"/>
            <a:ext cx="9016920" cy="51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CV Inventory Database gathers user input data from an enhanced survey web site: </a:t>
            </a:r>
            <a:r>
              <a:rPr b="1" lang="en-US" sz="2000" spc="-1" strike="noStrike" u="sng">
                <a:solidFill>
                  <a:srgbClr val="7498c0"/>
                </a:solidFill>
                <a:uFillTx/>
                <a:latin typeface="Calibri"/>
                <a:ea typeface="MS PGothic"/>
                <a:hlinkClick r:id="rId1"/>
              </a:rPr>
              <a:t>http://ecv-inventory.com/ecv2/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is is a second generation site. Redesign was necessary for integration with the EOHandbook database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ntains two questionnaires, one for current/existing and one for future climate data record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45 total qu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ased on 5 topics (General, Usage, Stewardship, Properties, Access)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Many questions use menu selections (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2 menu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).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ome example menus are: Agency, Project, ECV, Satellite, Data Format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ite has limited search and analytical capabilities. Intended use is strictly to gather data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ll data records can be exported to an Excel spreadsheet for analysis purposes or for integration to other application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nvision this as a living database with the record information updated as agencies desir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eed to decide if a formal annual call to update is appropriate, similar to the MIM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3" name="TextBox 3"/>
          <p:cNvSpPr/>
          <p:nvPr/>
        </p:nvSpPr>
        <p:spPr>
          <a:xfrm>
            <a:off x="758880" y="579600"/>
            <a:ext cx="1857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7441-F6F6-4F43-A25A-F0F2D67BEDDD}" type="slidenum"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5" name="Footer Placeholder 2"/>
          <p:cNvSpPr/>
          <p:nvPr/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WGClimate Meeting, Darmstadt, March 4 – 7, 2014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650600" y="109440"/>
            <a:ext cx="7264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Future Pla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Content Placeholder 2"/>
          <p:cNvSpPr/>
          <p:nvPr/>
        </p:nvSpPr>
        <p:spPr>
          <a:xfrm>
            <a:off x="152280" y="1490760"/>
            <a:ext cx="864396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1a19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a1916"/>
                </a:solidFill>
                <a:latin typeface="Calibri"/>
                <a:ea typeface="Calibri"/>
              </a:rPr>
              <a:t>Define Query Capabilities and Expand the EO Handbook to include the ECV Inventory dat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1a19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a1916"/>
                </a:solidFill>
                <a:latin typeface="Calibri"/>
                <a:ea typeface="Calibri"/>
              </a:rPr>
              <a:t>Decide on future survey needs; once a year or ongoing through the ecv-inventory.com site. Data would periodically be imported to the EO Handbook for upda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1a19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a1916"/>
                </a:solidFill>
                <a:latin typeface="Calibri"/>
                <a:ea typeface="Calibri"/>
              </a:rPr>
              <a:t>Future surveys could be tied to the MIM annual call that goes out in May of each yea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1a19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a1916"/>
                </a:solidFill>
                <a:latin typeface="Calibri"/>
                <a:ea typeface="Calibri"/>
              </a:rPr>
              <a:t>How will this data be used? Will agencies use it to coordinate where to invest resources to obtain a global, continuous climate record?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9" name="Footer Placeholder 1"/>
          <p:cNvSpPr/>
          <p:nvPr/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WGClimate Meeting, Darmstadt, March 4 – 7, 2014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2017-8769-4582-B4C0-7D3142445F12}" type="slidenum"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slow" advTm="1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887120" y="185760"/>
            <a:ext cx="7002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EOS ECV Inventory Survey Si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Footer Placeholder 2"/>
          <p:cNvSpPr/>
          <p:nvPr/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WGClimate Meeting, Darmstadt, March 4 – 7, 2014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4450-E67D-4CB4-AC55-B98F010115AD}" type="slidenum"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29" name="Picture 1" descr=""/>
          <p:cNvPicPr/>
          <p:nvPr/>
        </p:nvPicPr>
        <p:blipFill>
          <a:blip r:embed="rId1"/>
          <a:stretch/>
        </p:blipFill>
        <p:spPr>
          <a:xfrm>
            <a:off x="88920" y="1320840"/>
            <a:ext cx="8935920" cy="5105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887120" y="185760"/>
            <a:ext cx="7002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EOS ECV Inventory Survey Si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Footer Placeholder 2"/>
          <p:cNvSpPr/>
          <p:nvPr/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WGClimate Meeting, Darmstadt, March 4 – 7, 2014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C07A-DA9A-475A-A552-79527DA5D9B3}" type="slidenum"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33" name="Picture 3" descr=""/>
          <p:cNvPicPr/>
          <p:nvPr/>
        </p:nvPicPr>
        <p:blipFill>
          <a:blip r:embed="rId1"/>
          <a:stretch/>
        </p:blipFill>
        <p:spPr>
          <a:xfrm>
            <a:off x="0" y="863640"/>
            <a:ext cx="9144000" cy="55656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-360" y="96840"/>
            <a:ext cx="8877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EOS ECV Inventory Survey Site – Data View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Footer Placeholder 2"/>
          <p:cNvSpPr/>
          <p:nvPr/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WGClimate Meeting, Darmstadt, March 4 – 7, 2014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7360-1AE5-4B17-8DF4-0FA00FB44DF5}" type="slidenum"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37" name="Picture 1" descr=""/>
          <p:cNvPicPr/>
          <p:nvPr/>
        </p:nvPicPr>
        <p:blipFill>
          <a:blip r:embed="rId1"/>
          <a:stretch/>
        </p:blipFill>
        <p:spPr>
          <a:xfrm>
            <a:off x="965160" y="1460520"/>
            <a:ext cx="7404120" cy="5021280"/>
          </a:xfrm>
          <a:prstGeom prst="rect">
            <a:avLst/>
          </a:prstGeom>
          <a:ln w="0">
            <a:noFill/>
          </a:ln>
        </p:spPr>
      </p:pic>
      <p:sp>
        <p:nvSpPr>
          <p:cNvPr id="638" name="TextBox 4"/>
          <p:cNvSpPr/>
          <p:nvPr/>
        </p:nvSpPr>
        <p:spPr>
          <a:xfrm>
            <a:off x="4349160" y="2273400"/>
            <a:ext cx="32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Unicode MS"/>
              </a:rPr>
              <a:t>No login required to view data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slow" advTm="10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-360" y="96840"/>
            <a:ext cx="8877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EOS ECV Inventory Survey Site – Data Entr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Footer Placeholder 2"/>
          <p:cNvSpPr/>
          <p:nvPr/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WGClimate Meeting, Darmstadt, March 4 – 7, 2014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12F6-3718-4D13-A2D3-9EEDF75D3524}" type="slidenum"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42" name="Picture 5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3633840"/>
          </a:xfrm>
          <a:prstGeom prst="rect">
            <a:avLst/>
          </a:prstGeom>
          <a:ln w="0">
            <a:noFill/>
          </a:ln>
        </p:spPr>
      </p:pic>
      <p:sp>
        <p:nvSpPr>
          <p:cNvPr id="643" name="TextBox 7"/>
          <p:cNvSpPr/>
          <p:nvPr/>
        </p:nvSpPr>
        <p:spPr>
          <a:xfrm>
            <a:off x="4295880" y="1359000"/>
            <a:ext cx="3771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Unicode MS"/>
              </a:rPr>
              <a:t>Login required to enter or edit data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Unicode MS"/>
              </a:rPr>
              <a:t>Username: WGClimate1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Unicode MS"/>
              </a:rPr>
              <a:t>Password: Darmstadt1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slow" advTm="10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-360" y="96840"/>
            <a:ext cx="8877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EOS ECV Inventory Survey Site – Data Entr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Footer Placeholder 2"/>
          <p:cNvSpPr/>
          <p:nvPr/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WGClimate Meeting, Darmstadt, March 4 – 7, 2014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ACB5-8E94-4B8B-BED6-A4426AD6B28B}" type="slidenum"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47" name="Picture 1" descr=""/>
          <p:cNvPicPr/>
          <p:nvPr/>
        </p:nvPicPr>
        <p:blipFill>
          <a:blip r:embed="rId1"/>
          <a:stretch/>
        </p:blipFill>
        <p:spPr>
          <a:xfrm>
            <a:off x="965160" y="1460520"/>
            <a:ext cx="6108840" cy="4143240"/>
          </a:xfrm>
          <a:prstGeom prst="rect">
            <a:avLst/>
          </a:prstGeom>
          <a:ln w="0">
            <a:noFill/>
          </a:ln>
        </p:spPr>
      </p:pic>
      <p:sp>
        <p:nvSpPr>
          <p:cNvPr id="648" name="TextBox 4"/>
          <p:cNvSpPr/>
          <p:nvPr/>
        </p:nvSpPr>
        <p:spPr>
          <a:xfrm>
            <a:off x="4349160" y="2273400"/>
            <a:ext cx="32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Unicode MS"/>
              </a:rPr>
              <a:t>No login required to view data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2"/>
          <a:stretch/>
        </p:blipFill>
        <p:spPr>
          <a:xfrm>
            <a:off x="0" y="1384200"/>
            <a:ext cx="8961480" cy="63882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44600" y="93240"/>
            <a:ext cx="8572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CV Inventory /  Access to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Content Placeholder 2"/>
          <p:cNvSpPr/>
          <p:nvPr/>
        </p:nvSpPr>
        <p:spPr>
          <a:xfrm>
            <a:off x="177840" y="1601640"/>
            <a:ext cx="8712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CV Inventory Database is integrated with the EO Handbook Database (EOHD) for user viewing, searching, and analyzing of climate data records (CDRs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ll CDRs are imported to the EOHD automatically via the Excel interface mentioned earlie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e EO Handbook Database (EOHD) site, formerly referred to as the CEOS Missions, Instruments, and Measurements (MIM) Database contains official agency reported information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OHD site links the CDRs to the extensive official mission, instrument, and measurement information contained in the EOHD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e EOHD site provides mission timeline analysis for various measurements to promote gap analyses. A similar timeline analysis capability will be available for the CDRs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- Need to decide if timelines should be displayed for measurements or for ECVs, etc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ite has good search and analytical capabilities. Intended use is to educate and for users to gather usable information for decision-making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2" name="TextBox 3"/>
          <p:cNvSpPr/>
          <p:nvPr/>
        </p:nvSpPr>
        <p:spPr>
          <a:xfrm>
            <a:off x="758880" y="579600"/>
            <a:ext cx="1857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3" name="Footer Placeholder 4"/>
          <p:cNvSpPr/>
          <p:nvPr/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WGClimate Meeting, Darmstadt, March 4 – 7, 2014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0AC1-81B9-47B9-9A02-6A88952094EC}" type="slidenum"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63280" y="185760"/>
            <a:ext cx="8026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CV Inventory on the EO Handbook Si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Footer Placeholder 2"/>
          <p:cNvSpPr/>
          <p:nvPr/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WGClimate Meeting, Darmstadt, March 4 – 7, 2014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387C-CB5E-4E6C-90B7-42521715F5CA}" type="slidenum">
              <a:rPr b="0" lang="en-US" sz="10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58" name="Picture 1" descr=""/>
          <p:cNvPicPr/>
          <p:nvPr/>
        </p:nvPicPr>
        <p:blipFill>
          <a:blip r:embed="rId1"/>
          <a:stretch/>
        </p:blipFill>
        <p:spPr>
          <a:xfrm>
            <a:off x="838080" y="1533600"/>
            <a:ext cx="7302600" cy="52261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9:09:41Z</dcterms:created>
  <dc:creator>Brian Killough</dc:creator>
  <dc:description/>
  <dc:language>en-US</dc:language>
  <cp:lastModifiedBy>MeetingRoom Visitor</cp:lastModifiedBy>
  <cp:lastPrinted>2012-03-23T03:23:31Z</cp:lastPrinted>
  <dcterms:modified xsi:type="dcterms:W3CDTF">2014-03-06T10:04:12Z</dcterms:modified>
  <cp:revision>474</cp:revision>
  <dc:subject/>
  <dc:title>Slide 1</dc:title>
</cp:coreProperties>
</file>