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12600" y="1224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760" y="1224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i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096FF6E-2F8D-446D-A7D1-F3A6FD22F82B}" type="datetime"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12600" y="881496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760" y="881496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i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065C3C7-E804-4093-ADC5-E27E1CF7F357}" type="slidenum"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478DBE2-80A6-417E-963C-3F9E36B097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2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67EC2EE-BF7C-4EE6-A2CE-3291F1CB3E6E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6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C3BB33F-C99F-4824-B8C1-7B3392161866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0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07A99F7-F86D-4D18-A744-165D14615647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4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BBA8A92-36AC-4D4C-BA09-39AC87117ACC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6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858E92B-F942-4F56-A94F-5D228CA31111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0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D9FD7E8-E8F5-4160-881D-F6901CAD82B2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4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B77DB04-F228-4FBE-9762-573EFE7D6B71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8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0A892BE-BDF9-4FC9-8A17-2DB76D4FBE01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2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AF9-768D-42C4-9E55-C5594D43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3F7-8EBF-44BD-BAB1-A68E2F5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03C1-3A52-4FCC-89D9-6311690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9220C-D3F4-4775-B108-3600495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1F21A-8606-440E-9334-4B233DF2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A1A80-CC5E-47D2-9544-906610A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6047-AE3F-4E3E-B1BE-7A13308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16A5B-F73F-4DF3-85DB-D86C09BD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9BE75-3C35-4A4F-AFBA-561B9896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333F8-3DDF-456E-8FA0-5030F825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F15A-5F1A-41F8-89F1-7B226BC5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C48CF-0C74-4FD8-A290-B059C310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21E-84EF-4AAC-A283-4B427E1D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A002-5887-49CB-826B-E3345FAF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062FD-39E1-466E-A465-84121FD9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F7524-6051-465F-ADE2-E6E56A7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15E5-B092-4437-AD1B-CFEF95A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45E0D-7303-4E61-9D45-9D569B6A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D8889-A576-4174-9836-F8EB7631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ABEAA-A52D-44E8-A722-C8CDC881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6483-DAA8-4FE9-A367-07995FB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21252-0E95-49F3-AF6D-0EEB9B8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DA538-31C9-4DCA-AC2A-310BE4DC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4A1-5AF3-4DB3-8E81-C5713030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8741A-7D9E-405F-880B-C91A8EDA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6840F-1115-4DB3-B2EA-368E0242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021D7-56B3-4EF1-8AF2-1986BA4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54C0E-F7D6-4A27-8802-3802CC68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01331-F4C4-4D78-A441-F3B7F55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EDF69-BCE8-44CE-8B99-E97A264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0524D-F8DB-4005-8858-B72FB36F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11862-2E45-4B2A-8DD9-5910B77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56B06-2B00-450D-9C3A-27B9F30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B853D-6708-440C-AB55-80887BA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78840-D540-4847-A44E-97A531F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E3802-6600-497D-9E03-FE5FAA42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57611-092F-439C-9F0C-D08AA68B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7EF5-873F-4CA3-9389-0DC6E231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5D0BE-B33B-40CB-B4EE-B60B2A2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39B6D-A58E-4078-BBB9-BA0B774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BFBB8-DC60-4084-B376-B2E5438A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2F94B-B03E-43EB-91EE-DB51351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95F21-6159-4ECC-954D-DBDFC76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41B7-43A3-4F5D-BD36-C4C333D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B29A1-27AC-4339-AAC4-632153B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A2052-3112-4FB8-86E3-933A380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D873-C4B0-4401-A9E4-ACF39F0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627EB-1B1D-49CF-B4BF-91CE9CD8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C71C6-3F3D-44AA-AA77-B01C5C53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683B5-BEB2-4957-96C6-E26F89AF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B8B58-5593-445E-8BE0-BB139D1C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FB058-21C4-4ABA-9304-CA01922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C2074-99EB-462F-B6FC-D006F92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53901-622C-41FC-B684-48AD87D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6F0B0-F994-495D-AD8E-677BA01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C6744-389B-4CC2-82A0-124909C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D979A-800D-439C-808B-FA04F1F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3C120-C123-4379-89FA-8453D622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5FE50-0C53-40F8-BAA3-0A9A2B0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12D84-B064-4171-AA53-EB7209C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8EB3B-2BBA-417E-929F-C1FEA801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A6B2EB-95D4-4398-9F54-3BACFEB59A7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CD52D0-4A9D-4D17-8A30-879710349C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38D209-3842-48BC-A87A-F235C30FE9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12FB93-8AA4-4E0A-9441-788F95CFCB8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AF158D-D37F-4BDE-A61C-E4FB3D45AD6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13C5C7-32DA-4DB7-A92D-4E5EA303E39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9A6159-8191-4BC3-9F40-2870F8B3C61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87D28B-D159-45B2-9DA9-4DDA81078F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88A560-AB26-4C11-AD9C-6F397D5F47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E5E60A-8CB9-40E1-AC7C-7BC065DC3AB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49B6FA-7175-4D67-8DDD-8B52A525C4B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340805-3901-476E-A442-30617E75666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5283C-070D-49F4-962B-F291E8324E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965C9-B252-41AE-92BD-41B9F9FDFB4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424C6-DCF8-450B-BCC0-FE9F971BA57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E746C-8936-41EC-BE96-B6D4E96C37C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1A33C-E2C0-425C-A2DF-2DB657B4A9E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A8447-43B7-4B29-8DF2-0CF409B4C7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7D220-63D9-4FA5-9C2F-175D198C2C7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30968-C7B5-46A6-A2B5-2303103109D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A758E-3F1A-4FF8-B229-8246020F7BC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F59E1-B426-44A7-917C-6E55C3D8133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ED44B-CBA5-415E-A305-206B2E87AA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18921-CE7B-4A9E-AB43-D69896698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642-486A-4378-A183-1031D6F0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3BA-BB8E-4358-80B7-1921CE5A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C52-EB59-46AC-B12B-FF9B3DE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B8AB-F410-41C9-A9D5-23684B9B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80B7-4C8B-47B5-9D56-47505A1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E4A2-841C-4BA9-AE8C-F15E928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A10-3108-4227-9011-2052072A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1931-14E1-4A5D-A0EE-FA7B7F5B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43BF-D90E-4BCA-9A93-CAD8B8BD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FA71-0ADA-49E4-8E73-F312152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9650-3DE1-48DE-BC92-76CF7ED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D92-6C07-478E-9BDD-B80F70AE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5802-E906-421C-84A3-84139370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D0F-7B8E-495D-A51D-13FEEAFB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3AC2-FB73-4ECA-B412-19080779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0B1E-6A7F-411D-BB39-E8F661D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64E2-0609-492A-A62F-5D42751C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01D-0275-4377-A2DF-F2A7BF2F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A2DE-DEA8-4735-9B02-265728B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8FA3-E6D7-40A4-889E-B233663B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533D-9B7A-45C7-98EF-A375439E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A192-F355-4A06-8CB3-F56D300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F2EA-2A89-4902-96C6-B74DC05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830D-7B6B-4EEE-AF9E-EA7E7E6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33D4-6972-402B-84DB-8AC8091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1575-0B38-4FB7-A9FE-D546BBE2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AF7B-F98F-41C2-B61E-CF485603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29FE-C66F-4B05-8E2E-BD326673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F0E-9257-4C82-A775-C06EDE3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7AF8-45CF-4791-B364-322351FC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692B-D7BE-4458-8BEA-5F0E44C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F4B8-74B9-4428-82BD-84408C21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19DDE-E881-49EF-BD8A-0ED0E782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4C24-AB26-4376-9649-B042C8DD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7573-5C02-42DB-B97B-CC79427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455A-C9A0-4C87-AE80-0A04FD7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F6A0-3F1B-4B2F-AB39-A035FC2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C23E-F43B-4C41-A477-E3E13351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0988-8B5F-449C-8B63-BCB9C682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41E-52D7-476D-AB0B-96349F20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F82C-6C6C-4956-9F80-292DDCB0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26D3-A980-4C8B-9D76-C645B77C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7181-F8FF-4143-8C1C-CDF88D8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D315-3668-41A4-B544-14E261E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F6AB6-CFBE-489D-9092-D46C3216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1578-D789-465D-8A9E-07A0B08D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CDB8-1BC0-41C0-B615-79CD6EB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9BEF-7375-4FAB-BD9A-516CEE2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8720-A68C-40C0-BEE5-D69E8E0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4A7A-D1C8-43D6-9C8A-3B49FB52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318-E4E5-43AA-B488-2AECDFE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95B6-AB94-459D-8184-99AC995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04C5A-7DE0-44C6-A53F-42CAAAC2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D97D-ED37-4F4A-8EA1-D69F34F1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CF0E-A62D-4D2A-89AF-19A94533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D171D-A644-4149-9228-6E3257DF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470E-2595-4D7C-A87F-76B81892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A25A8-D538-4980-B409-4EA37FD5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BF43-BB0B-4657-B659-79BCA877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26E0C-C03C-475C-B14D-D535FA0E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B4EC-5374-4F4B-A4B7-CA6D9860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FCC-B340-44FB-AA98-000C555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E690-A725-4207-AAB3-0DF1EF2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96720-F72F-4301-80A5-9A527C1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B8EB4-D3F4-45E0-9476-969CC1B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4E59C-01EA-4780-B3CD-15FDA85A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3D14-4FFA-4769-8D6E-6E122ADA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F757-754B-4BEA-B68B-EBADA79B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12E7-F30F-4D5B-837E-B676797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E8A8D-BC85-49C7-B89C-7FB53190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DBA74-4C7A-412F-9FF5-1326F8B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DCF2-A34B-46B6-AF15-3BFCAEE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EC9-CE17-4DAE-8D72-2F90294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3078-D081-4E7D-BD40-EDE7430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393F9-1D4D-4C86-B3A1-21BC3CC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2FA16-757C-420F-9D1C-FB40920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93C0-C462-4664-A195-20C1740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D6E2E-95AF-4EF7-87C4-2169FC38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DCBCC-A2A3-4FD9-9D99-35518C78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644A-0E8F-4BC7-96AC-ECF73838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DC469-CACB-4C3B-AFF0-82442C6E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59B3-72A0-4799-8240-0E8F4EEF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3198-5EDA-4828-90E0-DF8C461E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564-6332-4468-8FBB-7D8A9B67B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7443-0A4A-48DB-8927-258D0605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C91-803F-4150-943E-1B648727C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7D5-522D-4BC6-8EAA-0184EDFC0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C81-ADD5-4973-A525-E171C03D1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EFC-FA36-44FA-B6E3-995D6C86BC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256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imes New Roman"/>
              </a:rPr>
              <a:t>WGClimate Meeting, Geneva, February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256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409A-C5CF-4978-98A8-6588F60AA2FB}" type="slidenum">
              <a:rPr b="0" lang="en-US" sz="2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20" y="5526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Unicode MS"/>
                <a:ea typeface="MS PGothic"/>
              </a:rPr>
              <a:t>SIT-27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Unicode MS"/>
                <a:ea typeface="MS PGothic"/>
              </a:rPr>
              <a:t>La Jolla, CA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Unicode MS"/>
                <a:ea typeface="MS PGothic"/>
              </a:rPr>
              <a:t>March 27-28, 2012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5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300D-E119-401C-8DF5-2081A6AA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C80-CF08-46E7-B333-1436B179E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7625-7E50-41DE-87E8-4F52117E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7FA-FB93-4E7E-853F-0E424B6C3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C209-E90B-41E4-A39B-EA0601353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A4C7-C7C4-4F66-8DBD-731AF035C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45D8-E7FD-4D99-82AC-E4537E4B1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7"/>
          <p:cNvSpPr/>
          <p:nvPr/>
        </p:nvSpPr>
        <p:spPr>
          <a:xfrm>
            <a:off x="592200" y="1905120"/>
            <a:ext cx="80103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916"/>
                </a:solidFill>
                <a:latin typeface="Arial"/>
                <a:ea typeface="Arial"/>
              </a:rPr>
              <a:t>CEOS EO Handbook Database</a:t>
            </a:r>
            <a:br>
              <a:rPr sz="3600"/>
            </a:b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The MI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a1916"/>
                </a:solidFill>
                <a:latin typeface="Arial"/>
                <a:ea typeface="Arial"/>
              </a:rPr>
              <a:t>Shelley Stover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CEOS Systems Engineering Office (SEO)</a:t>
            </a:r>
            <a:br>
              <a:rPr sz="2400"/>
            </a:b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Working Group on Climate Meet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Darmstadt</a:t>
            </a:r>
            <a:br>
              <a:rPr sz="2400"/>
            </a:b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March 4 - 7,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0" name="Picture 8" descr="NASA-transparent.png"/>
          <p:cNvPicPr/>
          <p:nvPr/>
        </p:nvPicPr>
        <p:blipFill>
          <a:blip r:embed="rId1"/>
          <a:stretch/>
        </p:blipFill>
        <p:spPr>
          <a:xfrm>
            <a:off x="7891560" y="575784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280" y="34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O2 Timelin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8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6620040" cy="4976640"/>
          </a:xfrm>
          <a:prstGeom prst="rect">
            <a:avLst/>
          </a:prstGeom>
          <a:ln w="0">
            <a:noFill/>
          </a:ln>
        </p:spPr>
      </p:pic>
      <p:sp>
        <p:nvSpPr>
          <p:cNvPr id="657" name="TextBox 14"/>
          <p:cNvSpPr/>
          <p:nvPr/>
        </p:nvSpPr>
        <p:spPr>
          <a:xfrm>
            <a:off x="6916680" y="1628640"/>
            <a:ext cx="222732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etailed timeline analysis takes into consideration the instrument type and atmospheric layer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1c2"/>
                </a:solidFill>
                <a:latin typeface="Tahoma"/>
                <a:ea typeface="Tahoma"/>
              </a:rPr>
              <a:t>Largest issue is the potential time gap beyond OCO-2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t is unlikely that ENVISAT and GOSAT will last beyond 2015. OCO-2 has fuel for 8-years (till 2020). ASCENDS is uncertain for a 2020 launch and may be later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CO-2 may be the only near-surfac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mission in 2015 with limited repeat cycle (16 days) and spatial coverage (swath width 10-km)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63280" y="185760"/>
            <a:ext cx="802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V Inventory on the EO Handbook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E62-A83B-4942-BBC3-2D35DB9D0268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1" name="Picture 1" descr=""/>
          <p:cNvPicPr/>
          <p:nvPr/>
        </p:nvPicPr>
        <p:blipFill>
          <a:blip r:embed="rId1"/>
          <a:stretch/>
        </p:blipFill>
        <p:spPr>
          <a:xfrm>
            <a:off x="838080" y="1533600"/>
            <a:ext cx="7302600" cy="5226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63280" y="185760"/>
            <a:ext cx="802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V Inventory on the EO Handbook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715-A613-41E7-8E6A-2439C03AB580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5" name="Picture 3" descr=""/>
          <p:cNvPicPr/>
          <p:nvPr/>
        </p:nvPicPr>
        <p:blipFill>
          <a:blip r:embed="rId1"/>
          <a:stretch/>
        </p:blipFill>
        <p:spPr>
          <a:xfrm>
            <a:off x="635040" y="1330200"/>
            <a:ext cx="7912080" cy="552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650600" y="109440"/>
            <a:ext cx="7264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Future Pla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Content Placeholder 2"/>
          <p:cNvSpPr/>
          <p:nvPr/>
        </p:nvSpPr>
        <p:spPr>
          <a:xfrm>
            <a:off x="152280" y="1490760"/>
            <a:ext cx="86439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Expand the EO Handbook to include the ECV Inventory data. Allows reuse of much of the user interf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Create an automated gap assessment tool that would provide timeline charts similar to those shown on the previous pag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Through links to CEOS Open Search , provide direct  links to data from the measurements listed on the instruments page and the measurements timelines pag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Provide data policy informati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Provide more detailed measurement information for each instrument by providing accuracy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This is lacking in the database now and hindering the progress of  automating gap assessment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JAXA has graciously agreed to be the first agency to step up and provide this information for their instruments in the next MIM cal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92D1-5414-4308-A672-1F7034400CA8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0840" y="9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istory of the MI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DE5-6000-4DD2-BEA4-63F7AC447559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4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Content Placeholder 2"/>
          <p:cNvSpPr/>
          <p:nvPr/>
        </p:nvSpPr>
        <p:spPr>
          <a:xfrm>
            <a:off x="177840" y="1601640"/>
            <a:ext cx="8712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O Handbook Database or the Missions, Instruments, Measurements (MIM) Database has an annual call to agencies in June to report an official agency respons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gencies report on current and future missions, instruments, and the measurements made by the instru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is detailed and includes orbital specifications, instrument resolutions, measurement bands, et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ata is utilized to update the online database once a yea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atabase is also provided (as requested) to the CEOS SEO and CEOS agencies for analysis and informational purpos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ventory Database Development and Integrati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ymbios, Inc. is under contract to survey the agencies, import the data, and design the online databa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SEO provides support to Symbios to evolve the database and user interface by  specifying user requirements, new interfaces, and new utility concep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0840" y="9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MIM S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Content Placeholder 2"/>
          <p:cNvSpPr/>
          <p:nvPr/>
        </p:nvSpPr>
        <p:spPr>
          <a:xfrm>
            <a:off x="0" y="1309680"/>
            <a:ext cx="8128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ccessible from the ceos.org site or eohandbook.co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7AA-FC9D-4D48-8F93-5A7ABD2DD5F0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1" name="Picture 1" descr=""/>
          <p:cNvPicPr/>
          <p:nvPr/>
        </p:nvPicPr>
        <p:blipFill>
          <a:blip r:embed="rId1"/>
          <a:stretch/>
        </p:blipFill>
        <p:spPr>
          <a:xfrm>
            <a:off x="0" y="1701720"/>
            <a:ext cx="858528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0920" y="93240"/>
            <a:ext cx="7505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EO Handbook Main P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Geneva, February 2013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890A-D475-4A15-8000-F133909F08AC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34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"/>
          <p:cNvSpPr/>
          <p:nvPr/>
        </p:nvSpPr>
        <p:spPr>
          <a:xfrm>
            <a:off x="1746360" y="20066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 Unicode MS"/>
              </a:rPr>
              <a:t>http://database.eohandbook.com/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10920" y="93240"/>
            <a:ext cx="7505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EO Handbook Missions P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ECF-21C5-4A89-B4B3-512580FD22BC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10920" y="93240"/>
            <a:ext cx="7505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EO Handbook Timelines P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A14-EB52-44E0-AB37-7CCF506E8326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5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9280" y="34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569"/>
                </a:solidFill>
                <a:latin typeface="Calibri"/>
                <a:ea typeface="Calibri"/>
              </a:rPr>
              <a:t>Example Mitigation Products Gap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324000" y="1676520"/>
            <a:ext cx="8280360" cy="457200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2"/>
          <p:cNvSpPr/>
          <p:nvPr/>
        </p:nvSpPr>
        <p:spPr>
          <a:xfrm>
            <a:off x="331920" y="0"/>
            <a:ext cx="881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IM Utility Example: Floods Mitigation Products Gap Analysi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280" y="3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o Requirements in MIM for Gap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50920" y="1370160"/>
            <a:ext cx="822960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quirements, like the table below, are usually derived from WMO sourc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Source:  WMO GOS Dossier Volume-5 compiled for WMO by B. Bizzarri.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651" name="Picture 5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8578800" cy="3039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280" y="34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ext Step of Gap Analysis : CO2 Detailed Mission Capab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50920" y="126792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etailed mission capability information was not available in the MIM  so this step required extensive web searches. 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1"/>
          <a:stretch/>
        </p:blipFill>
        <p:spPr>
          <a:xfrm>
            <a:off x="1187280" y="1806480"/>
            <a:ext cx="6417000" cy="476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09:41Z</dcterms:created>
  <dc:creator>Brian Killough</dc:creator>
  <dc:description/>
  <dc:language>en-US</dc:language>
  <cp:lastModifiedBy>MeetingRoom Visitor</cp:lastModifiedBy>
  <cp:lastPrinted>2012-03-23T03:23:31Z</cp:lastPrinted>
  <dcterms:modified xsi:type="dcterms:W3CDTF">2014-03-06T08:58:24Z</dcterms:modified>
  <cp:revision>480</cp:revision>
  <dc:subject/>
  <dc:title>Slide 1</dc:title>
</cp:coreProperties>
</file>