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AB9D-BEAD-46D2-90A9-08425E7B3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F5E5-134E-49FE-BAF0-50225315A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4196-C0BF-4174-BACF-DF473F9BF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472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644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472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644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2442-F678-4F92-B7AB-70ED1BA4F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C9A-AB3A-4DFB-A5FF-5AF4992339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7C9-513E-4CDD-AF31-18F1533937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AD4-6439-4377-B4E7-7C95EF530C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025-5C0F-4283-BC92-7CD1C1587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84A-55C5-49A4-8A69-14CB75E94B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937800"/>
            <a:ext cx="734220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311-6DFF-46FD-8328-4A7ABF216B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45F-6071-4E60-AF80-E924E879C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14CB-09B6-4D6B-96B4-8EB7D29BA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BC1-6405-4337-9FDF-1563507182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871-22D1-4AC6-B632-555E9F0D07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72B-39BA-4743-AE75-67028EEA01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ACF-2341-47C4-BA0D-2BBE01AC3D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472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644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472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644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0D4-D7EB-4FF6-BDD6-A1B7EF16DB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73DA-F510-4C18-AFE1-0AABCCB53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191F-95B4-4F4E-A0DC-269E1CA4E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4390-2280-4A63-80F4-CDF4FD42C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937800"/>
            <a:ext cx="734220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833E-2C56-477F-AE95-580772787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601F-D12E-4845-9582-E16344A53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F978-4F24-4A4C-AE5D-5C4B36AF0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8680-9FF1-40BA-967B-CAE06931A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\\psf\Host\Users\cd\Desktop\Startbild_4zu3-Fuss.jpg"/>
          <p:cNvPicPr/>
          <p:nvPr/>
        </p:nvPicPr>
        <p:blipFill>
          <a:blip r:embed="rId2"/>
          <a:stretch/>
        </p:blipFill>
        <p:spPr>
          <a:xfrm>
            <a:off x="0" y="6307200"/>
            <a:ext cx="9144000" cy="550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784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69920" indent="-1728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69920" indent="-1728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69920" indent="-1728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Grafik 10" descr="dlr_signet.png"/>
          <p:cNvPicPr/>
          <p:nvPr/>
        </p:nvPicPr>
        <p:blipFill>
          <a:blip r:embed="rId3"/>
          <a:stretch/>
        </p:blipFill>
        <p:spPr>
          <a:xfrm>
            <a:off x="831960" y="6143760"/>
            <a:ext cx="571320" cy="51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143000" y="122040"/>
            <a:ext cx="1230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68686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686868"/>
                </a:solidFill>
                <a:latin typeface="Times New Roman"/>
              </a:rPr>
              <a:t>www.DLR.de  •  Chart </a:t>
            </a:r>
            <a:fld id="{B1D53EB1-50A2-4ACF-A61B-97CF30C95DFB}" type="slidenum">
              <a:rPr b="0" lang="de-DE" sz="800" spc="-1" strike="noStrike">
                <a:solidFill>
                  <a:srgbClr val="68686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74560" y="122040"/>
            <a:ext cx="5398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68686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686868"/>
                </a:solidFill>
                <a:latin typeface="Times New Roman"/>
              </a:rPr>
              <a:t>&gt; Vortrag &gt; Autor  •  Dokumentname &gt; 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psf\Host\Users\cd\Desktop\Startbild_4zu3-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Grafik 10" descr="dlr_signet.png"/>
          <p:cNvPicPr/>
          <p:nvPr/>
        </p:nvPicPr>
        <p:blipFill>
          <a:blip r:embed="rId3"/>
          <a:stretch/>
        </p:blipFill>
        <p:spPr>
          <a:xfrm>
            <a:off x="676440" y="5857920"/>
            <a:ext cx="857160" cy="766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784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69920" indent="-1728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69920" indent="-1728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69920" indent="-1728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1143000" y="122040"/>
            <a:ext cx="1230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68686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686868"/>
                </a:solidFill>
                <a:latin typeface="Times New Roman"/>
              </a:rPr>
              <a:t>www.DLR.de  •  Chart </a:t>
            </a:r>
            <a:fld id="{76F72095-4340-4D75-8958-71667E1DDB49}" type="slidenum">
              <a:rPr b="0" lang="de-DE" sz="800" spc="-1" strike="noStrike">
                <a:solidFill>
                  <a:srgbClr val="68686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374560" y="122040"/>
            <a:ext cx="5398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68686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686868"/>
                </a:solidFill>
                <a:latin typeface="Times New Roman"/>
              </a:rPr>
              <a:t>&gt; Vortrag &gt; Autor  •  Dokumentname &gt; 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392120"/>
            <a:ext cx="7342200" cy="7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German Space Agency Presentation</a:t>
            </a:r>
            <a:br>
              <a:rPr sz="2400"/>
            </a:br>
            <a:r>
              <a:rPr b="1" lang="de-DE" sz="1800" spc="-1" strike="noStrike">
                <a:solidFill>
                  <a:srgbClr val="686868"/>
                </a:solidFill>
                <a:latin typeface="Arial"/>
              </a:rPr>
              <a:t>A. von Bargen, Space Administration – Earth Observation, Bonn</a:t>
            </a:r>
            <a:endParaRPr b="1" lang="en-US" sz="1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2640" y="2158920"/>
            <a:ext cx="734220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686868"/>
                </a:solidFill>
                <a:latin typeface="Arial"/>
              </a:rPr>
              <a:t>CEOS Working Group on Climate Plenary #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686868"/>
                </a:solidFill>
                <a:latin typeface="Arial"/>
              </a:rPr>
              <a:t>Asheville (NC), April 17/18,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BC457CE9-D423-4A9E-9909-13E5DD485C06}" type="slidenum">
              <a:rPr b="0" lang="de-DE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686868"/>
                </a:solidFill>
                <a:latin typeface="Arial"/>
              </a:rPr>
              <a:t>&gt; Vortrag &gt; Autor  •  Dokumentname &gt; 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German Particularities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ponsibilities of German Space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fining and implementation of National Space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ervision of the European Space Agencies` programme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ESA &amp; EUMETS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tional programmes: CEOS, GEO (D-GEO), EU/G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ting data exploitation for National and European 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charge wrt climate (operational) for the Federal Government : D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BB256E83-CA0F-4E87-9F14-A60156A5CC4F}" type="slidenum">
              <a:rPr b="0" lang="de-DE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686868"/>
                </a:solidFill>
                <a:latin typeface="Arial"/>
              </a:rPr>
              <a:t>&gt; Vortrag &gt; Autor  •  Dokumentname &gt; 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836AFCC6-F8B4-46D9-BDE2-6DA2BE4E7EE2}" type="slidenum">
              <a:rPr b="0" lang="de-DE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686868"/>
                </a:solidFill>
                <a:latin typeface="Arial"/>
              </a:rPr>
              <a:t>&gt; Vortrag &gt; Autor  •  Dokumentname &gt; 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el 1"/>
          <p:cNvSpPr/>
          <p:nvPr/>
        </p:nvSpPr>
        <p:spPr>
          <a:xfrm>
            <a:off x="990720" y="404640"/>
            <a:ext cx="77724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54545"/>
                </a:solidFill>
                <a:latin typeface="Arial"/>
              </a:rPr>
              <a:t>Earth Observation Missions (</a:t>
            </a:r>
            <a:r>
              <a:rPr b="1" lang="de-DE" sz="2000" spc="-1" strike="noStrike">
                <a:solidFill>
                  <a:srgbClr val="2d2db9"/>
                </a:solidFill>
                <a:latin typeface="Arial"/>
              </a:rPr>
              <a:t>with German Contributions</a:t>
            </a:r>
            <a:r>
              <a:rPr b="1" lang="de-DE" sz="2000" spc="-1" strike="noStrike">
                <a:solidFill>
                  <a:srgbClr val="454545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8" descr="sciaS150"/>
          <p:cNvPicPr/>
          <p:nvPr/>
        </p:nvPicPr>
        <p:blipFill>
          <a:blip r:embed="rId1"/>
          <a:stretch/>
        </p:blipFill>
        <p:spPr>
          <a:xfrm>
            <a:off x="7380360" y="4707000"/>
            <a:ext cx="936720" cy="554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TerraSarX_3c_Pantone_A"/>
          <p:cNvPicPr/>
          <p:nvPr/>
        </p:nvPicPr>
        <p:blipFill>
          <a:blip r:embed="rId2"/>
          <a:stretch/>
        </p:blipFill>
        <p:spPr>
          <a:xfrm>
            <a:off x="6948360" y="1201680"/>
            <a:ext cx="1833840" cy="426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EnMAP-Logo-Final-hell"/>
          <p:cNvPicPr/>
          <p:nvPr/>
        </p:nvPicPr>
        <p:blipFill>
          <a:blip r:embed="rId3"/>
          <a:stretch/>
        </p:blipFill>
        <p:spPr>
          <a:xfrm>
            <a:off x="7451640" y="2925720"/>
            <a:ext cx="1085760" cy="100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/>
          <p:cNvPicPr/>
          <p:nvPr/>
        </p:nvPicPr>
        <p:blipFill>
          <a:blip r:embed="rId4"/>
          <a:stretch/>
        </p:blipFill>
        <p:spPr>
          <a:xfrm>
            <a:off x="8118360" y="5445000"/>
            <a:ext cx="703440" cy="649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"/>
          <p:cNvPicPr/>
          <p:nvPr/>
        </p:nvPicPr>
        <p:blipFill>
          <a:blip r:embed="rId5"/>
          <a:stretch/>
        </p:blipFill>
        <p:spPr>
          <a:xfrm>
            <a:off x="7337520" y="5518080"/>
            <a:ext cx="633240" cy="56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ETimage_logo_trans_sm"/>
          <p:cNvPicPr/>
          <p:nvPr/>
        </p:nvPicPr>
        <p:blipFill>
          <a:blip r:embed="rId6"/>
          <a:stretch/>
        </p:blipFill>
        <p:spPr>
          <a:xfrm>
            <a:off x="7380360" y="3933720"/>
            <a:ext cx="1247760" cy="584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TanDEM_RGB"/>
          <p:cNvPicPr/>
          <p:nvPr/>
        </p:nvPicPr>
        <p:blipFill>
          <a:blip r:embed="rId7"/>
          <a:stretch/>
        </p:blipFill>
        <p:spPr>
          <a:xfrm>
            <a:off x="7020000" y="1844640"/>
            <a:ext cx="1841400" cy="36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" descr=""/>
          <p:cNvPicPr/>
          <p:nvPr/>
        </p:nvPicPr>
        <p:blipFill>
          <a:blip r:embed="rId8"/>
          <a:stretch/>
        </p:blipFill>
        <p:spPr>
          <a:xfrm>
            <a:off x="7020000" y="2585880"/>
            <a:ext cx="1716120" cy="26676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19"/>
          <p:cNvSpPr/>
          <p:nvPr/>
        </p:nvSpPr>
        <p:spPr>
          <a:xfrm>
            <a:off x="869040" y="1015920"/>
            <a:ext cx="5647320" cy="1310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rraSAR-X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unch Date June 2007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anDEM-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unch Date 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feld 32"/>
          <p:cNvSpPr/>
          <p:nvPr/>
        </p:nvSpPr>
        <p:spPr>
          <a:xfrm>
            <a:off x="1012680" y="2398680"/>
            <a:ext cx="5359680" cy="2040840"/>
          </a:xfrm>
          <a:prstGeom prst="rect">
            <a:avLst/>
          </a:prstGeom>
          <a:solidFill>
            <a:srgbClr val="00b05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apidE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unch Date August 2008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unch Date in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d2db9"/>
                </a:solidFill>
                <a:latin typeface="Arial"/>
              </a:rPr>
              <a:t>Met</a:t>
            </a:r>
            <a:r>
              <a:rPr b="1" i="1" lang="de-DE" sz="1600" spc="-1" strike="noStrike">
                <a:solidFill>
                  <a:srgbClr val="2d2db9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 Contribution to MetOP SG (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feld 33"/>
          <p:cNvSpPr/>
          <p:nvPr/>
        </p:nvSpPr>
        <p:spPr>
          <a:xfrm>
            <a:off x="1012680" y="4521240"/>
            <a:ext cx="5359680" cy="1554120"/>
          </a:xfrm>
          <a:prstGeom prst="rect">
            <a:avLst/>
          </a:prstGeom>
          <a:solidFill>
            <a:srgbClr val="007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d2db9"/>
                </a:solidFill>
                <a:latin typeface="Arial"/>
              </a:rPr>
              <a:t>GRACE (since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d2db9"/>
                </a:solidFill>
                <a:latin typeface="Arial"/>
              </a:rPr>
              <a:t>SCIAMA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n-board ENVISAT (2002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d2db9"/>
                </a:solidFill>
                <a:latin typeface="Arial"/>
              </a:rPr>
              <a:t>MERLIN (French / German Mis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feld 22"/>
          <p:cNvSpPr/>
          <p:nvPr/>
        </p:nvSpPr>
        <p:spPr>
          <a:xfrm>
            <a:off x="4366800" y="2421000"/>
            <a:ext cx="19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Multi-/Hyperspec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feld 23"/>
          <p:cNvSpPr/>
          <p:nvPr/>
        </p:nvSpPr>
        <p:spPr>
          <a:xfrm>
            <a:off x="5542920" y="450864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feld 24"/>
          <p:cNvSpPr/>
          <p:nvPr/>
        </p:nvSpPr>
        <p:spPr>
          <a:xfrm>
            <a:off x="5160600" y="501336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9:44:24Z</dcterms:created>
  <dc:creator>Bargen, Albrecht von</dc:creator>
  <dc:description>Diese Version nutzt die Fußzeile zur Eingabe von
Vortrag &gt; Autor &gt; Dokumentname &gt; Datum
Variante mit Untertitel auf Titelfolienmaster und
geändertem Standard Farbschema (für Hyperlink)
Arial als Schriftart bei neuen Textfeldern</dc:description>
  <dc:language>en-US</dc:language>
  <cp:lastModifiedBy>kekeith</cp:lastModifiedBy>
  <cp:lastPrinted>2004-02-03T08:35:42Z</cp:lastPrinted>
  <dcterms:modified xsi:type="dcterms:W3CDTF">2012-05-15T15:20:22Z</dcterms:modified>
  <cp:revision>290</cp:revision>
  <dc:subject>DLR CD-Vorlagen</dc:subject>
  <dc:title>DLR-Präsentation im 4:3 Format (Englisch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kt">
    <vt:lpwstr>DLR allgemein</vt:lpwstr>
  </property>
</Properties>
</file>