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AB1E-1FA5-4D32-B171-2560E138E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in 2000 as part of NASA’s EOS validation program – validating MODIS land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2717-E5A8-483A-8B1C-3F77F3670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IP Earth Science Information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D629-4DB0-4E97-BBAB-3F6DACC89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6075-7340-4A48-89B9-B7B121728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BC7-A3D6-4AAA-ACCC-A5539879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F1E-4BE0-4BFF-8C5E-AD9CED04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84F58-B583-4AE7-9EF4-4D0B6C35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E75B4-B500-45B3-A272-71D116B6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CA2C0-55CE-4CF6-A241-77F517DF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92037-FA9E-4392-8383-B08F0D7D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45D16-6735-41F2-B702-CF50A66C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A8EFE-DAC3-44B0-9203-7EB2D1A6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7D9C4-47F9-4B95-99F7-59CAD366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3D1B5-0124-4235-B058-D6C4FFBA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504DD-2722-4B87-891E-4DD327B8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F53AD-281A-4AFE-A4C7-D0DDBF80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8A8-1631-4BA7-8F7A-5635A275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0BFF0-D5DE-4EAB-9E80-84C331B1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75B2C-F6D3-4410-9E5F-276375F2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1239B-32A1-488E-BE59-DC8E223A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A83B8-3504-494F-B50D-797DDDF4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C6A2F-B9D4-4025-9D62-479E068F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3FF38-7690-486E-A697-B740F73C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B692F-088C-4567-AD5C-F05D94DF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D4994-1558-4F12-8B04-5BC26C1E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0452B-72B9-4CB2-862B-8C522470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790D3-51AD-4790-B5FD-C609135C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714-FEC3-442C-80F5-8CF0538D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79A9D-29F8-4DA4-B731-CE716935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BB906-4CDE-4350-89A7-F738248A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9B091-045A-42E7-8113-4917F83B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F9BDF-C48B-490C-B802-39DD2C3D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EB1D3-479B-4B39-AB6B-056CFFA5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45AC5-82AC-418C-8AF4-64D2DD24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1680A-B775-4E6D-B7E8-E9AF1594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043EA-64B7-417F-ABAE-B3607F14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484DE-4A0F-46D2-A8F3-7C44CB5A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B5EBF-38D5-42D4-808C-27713A4B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88A8-BCB9-4D2C-A569-7AB06706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8ABF5-4C99-47FB-9608-8D4BE2E2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25A1E-A45F-40C0-BDC0-C6B0F982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5C879-9D35-4703-81EE-305F9428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8B5D2-77BE-421F-A6EE-6AAD2680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F3345-8D94-402D-A899-023B1EAC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54BDD-25B4-4A6E-9651-1DEC6C74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85DB0-0B6A-4315-841A-B7523602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8A1AA-9B0F-4C27-A261-D25E2D7B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73DA7-9155-4387-B68B-8D64B5CD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55FD8-1CE7-46F1-B094-DF12E95A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D29A-3D13-44E0-B112-A298E235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B8B5B-346D-4005-9AF4-2C100279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8428F-4368-4B7B-8659-C259CFA2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1ED0D-4F8D-4734-ADA9-45040AF1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85B6C-9DB1-43D0-A18B-37618254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74378-221B-44F8-B1DF-E4BBCE87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BF4C-08F7-4DDF-A49C-CB15AB44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5D4A-EEC6-48A8-8215-7429BAC9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3189-7C46-4E8C-A58B-5E957B07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5DE6-479E-4986-9BA0-2FEDEBBA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C00A-B056-4601-A123-91FE4010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408-A503-47A3-8CDF-B4B9C6DC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88BC-180B-4B50-B1E8-C9647194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1C38-961D-43EA-80C4-70A28F5C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5BF3-3200-4A49-BAF5-4CA9E07E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9077-E572-4291-8AB1-2682FFD7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B9F9-BCCC-4F43-9354-1F7ECEE9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69C62-DF95-4874-B865-6623FEF5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6C1F-2C15-48DF-B5ED-431BB2FC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02C00-B8E4-4A13-889D-B6E6669B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C3E02-8583-4A73-927F-3E2FEF5B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D7AF5-C04B-45F1-87AB-D5639D72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0EF-268D-4E98-87F6-96DB410E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FC0A-739B-4D89-BE52-E4438F71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12258-C657-4855-BF2A-165B8EEB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FB70D-9FF9-4DD0-AF84-8DC8835E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D8D0-C67F-436E-A88A-52447E31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CEA0-C278-4ABA-B15E-1F9884CA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1AB5-239D-4F39-8C97-688FD0FB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0CE0-E754-42E8-B3E4-EBAA7294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FC8E-DB2C-4FC2-9A9E-67E9FBF3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7A1A7-D09C-496D-90B2-FA56DEC2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9D24E-8244-43FC-8E61-725CB193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40A-9001-43D2-BAAC-0B16636A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6ADAF-5579-43B1-A7B1-F19AEC5E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0992-D28A-48D7-92EB-931ED4C5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45B26-E977-46EB-B199-1B31DD2C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5F381-A4FF-48AF-A0E0-8C97904D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3BA3-73F6-4A4A-97C8-AD69F4D0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C1640-94D6-49DB-9398-DE9A3546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B73B6-1F3D-4560-BB4D-A072B479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F824-D951-4763-89B6-853A9C9C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BC8F1-2F24-4455-900A-77A6B9BA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EBC7F-FBB4-4905-BD5B-EC9D7DB3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3A6-8CDE-4612-A351-6FBA1F62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F9FED-5971-44C7-8212-EB88DA16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9A9E-5CA5-4A62-8F19-EDF6BE8E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5E4B6-E98A-4DB6-91E2-084F0192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E1301-FFCA-4630-818A-ED6DE88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75D4D-4461-4621-ACD8-72536BAE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769E4-0019-40B7-A6F9-23538CDE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F6A08-0486-4EC0-BC0F-03443586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AD28E-EF9C-4D78-8CBD-453A8FEA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9A415-998A-472B-8146-471E9CF9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50CC3-B7CC-4681-8ABF-2CF78B51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983-3911-4DD0-A848-B9C552AE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03C10-4184-4ABD-8668-50CADF61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1342A-442D-4AD8-8808-E2E3DEE4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D7A07-3BAA-4D20-9ABF-47AF7591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55897-3722-4381-B186-44D31D56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201BC-798F-42E2-8DC8-640EBC52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0010E-82B7-4213-AB15-D7197EA7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AA509-F154-4C6C-9DB0-A66FF04A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B5D46-E13A-4657-9C86-C1FC7604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990D2-2644-46BB-AC99-56E32296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8EE17-D3E6-4AE2-A2CA-A9D6F224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1A3-F5F3-4218-AC72-7D1A03CE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89193-8349-4692-B3A1-1A9FF0C1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F8CF5-7E8F-4ED3-82BF-D4454D73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6F59C-0E1E-4E73-93C9-34395359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B06D8-9A73-40AB-AFE0-CF385225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B3478-31CF-4228-8C09-32952B5B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6ABC5-3168-47DA-9FBF-253F5163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0C0AF-D73D-4C03-AA7E-4F92F69B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58178-EEAD-4896-AF7B-AADBB41D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46A52-E847-4B90-BC38-10AC85E0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E8150-387A-4C6D-B571-3F9CD5CC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4DD-8459-43A6-B699-83F33297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816EC-E24C-4C69-9715-30BB4BF1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33EBF-DDF4-442C-A85C-15897C4C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2BF14-790D-416C-B150-6D7B0BC8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CE5E6-9410-45E4-B010-4E8C4F90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90473-E843-45A5-ADF8-8348DE7C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1DA8A-B7F0-47B1-A0A3-E7DF485A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981B8-F397-4BCA-A582-3003000D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DEA4C-9A43-4C00-8432-E83524E5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30B22-C454-4495-B212-F969CA11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C49B0-857A-4259-A564-3642AA95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93F-90F9-4975-9372-27AF760C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BC992-DF64-455A-B22F-19400B89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FC139-0989-49FF-8554-8B3C2552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872AE-1304-4E3A-AE02-3DD10CCD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EEA81-50AF-406D-8357-CC8320F8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A21A3-90DA-49A8-AAAA-5D3229D9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F376F-A373-4AC7-88B1-70BFE060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8E4BB-3EE9-4519-8C31-2CE5587F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74A1C-7A30-462A-A24D-6FCBFADE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8A330-5580-43B8-AB64-8A8F54DA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CCCC0-9D50-4880-B241-30EF9862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a00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9/15/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GCV-32 Plen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3FAD-A949-4EA0-9EB5-C2102F0FC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a00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27/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IS VIIRS Science Team Me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DA1B-8859-474B-B07A-83A9755E5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a00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27/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IS VIIRS Science Team Me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B12F-4467-463A-839A-B02ED841AF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a00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27/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IS VIIRS Science Team Me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E599-3690-488C-8D96-69264B690A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a00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27/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IS VIIRS Science Team Me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F9BD-5F65-463C-BE0A-AC356785E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533520" y="76320"/>
            <a:ext cx="8458200" cy="609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6" descr="top2"/>
          <p:cNvPicPr/>
          <p:nvPr/>
        </p:nvPicPr>
        <p:blipFill>
          <a:blip r:embed="rId2"/>
          <a:stretch/>
        </p:blipFill>
        <p:spPr>
          <a:xfrm>
            <a:off x="0" y="0"/>
            <a:ext cx="438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a00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GCV-32 Plen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8"/>
          </p:nvPr>
        </p:nvSpPr>
        <p:spPr>
          <a:xfrm>
            <a:off x="6091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ember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3D6B-6891-41C6-BC63-168C9B7FF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a00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27/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IS VIIRS Science Team Me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62E1-47BD-4776-B65D-4AC79EDE9C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a00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27/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IS VIIRS Science Team Me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0E5A-4CAC-4206-B7A6-B3D399C6B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a00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27/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IS VIIRS Science Team Me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3C73-2A8D-4243-A953-7E0DBD524F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a00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27/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IS VIIRS Science Team Me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A6E7-EF17-4871-B6BD-C2DB70AD4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a00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27/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IS VIIRS Science Team Me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4418-5562-495C-A295-C47E89D130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a00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a00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0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27/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IS VIIRS Science Team Me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65C9-4791-4FCF-9388-E43095E37C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610480" cy="2971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Arial"/>
                <a:ea typeface="Arial"/>
              </a:rPr>
              <a:t>CEOS WGCV</a:t>
            </a:r>
            <a:br>
              <a:rPr sz="4300"/>
            </a:br>
            <a:r>
              <a:rPr b="1" lang="en-US" sz="5400" spc="-1" strike="noStrike">
                <a:solidFill>
                  <a:srgbClr val="d9d9d9"/>
                </a:solidFill>
                <a:latin typeface="Arial"/>
                <a:ea typeface="Arial"/>
              </a:rPr>
              <a:t>Land Product Validation </a:t>
            </a:r>
            <a:br>
              <a:rPr sz="4000"/>
            </a:br>
            <a:r>
              <a:rPr b="1" lang="en-US" sz="4000" spc="-1" strike="noStrike">
                <a:solidFill>
                  <a:srgbClr val="d9d9d9"/>
                </a:solidFill>
                <a:latin typeface="Arial"/>
                <a:ea typeface="Arial"/>
              </a:rPr>
              <a:t>Sub-Grou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990360" y="472392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"/>
                <a:ea typeface="Arial"/>
              </a:rPr>
              <a:t>Joanne Nightingale</a:t>
            </a:r>
            <a:r>
              <a:rPr b="0" lang="en-US" sz="2400" spc="-1" strike="noStrike" baseline="30000">
                <a:solidFill>
                  <a:srgbClr val="d9d9d9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d9d9d9"/>
                </a:solidFill>
                <a:latin typeface="Arial"/>
                <a:ea typeface="Arial"/>
              </a:rPr>
              <a:t>, Jaime Nickeson</a:t>
            </a:r>
            <a:r>
              <a:rPr b="0" lang="en-US" sz="2400" spc="-1" strike="noStrike" baseline="30000">
                <a:solidFill>
                  <a:srgbClr val="d9d9d9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d9d9d9"/>
                </a:solidFill>
                <a:latin typeface="Arial"/>
                <a:ea typeface="Arial"/>
              </a:rPr>
              <a:t> &amp;</a:t>
            </a:r>
            <a:endParaRPr b="0" lang="en-US" sz="2400" spc="-1" strike="noStrike">
              <a:solidFill>
                <a:srgbClr val="1a000d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"/>
                <a:ea typeface="Arial"/>
              </a:rPr>
              <a:t>Gabriela Schaepman-Strub</a:t>
            </a:r>
            <a:r>
              <a:rPr b="0" lang="en-US" sz="2400" spc="-1" strike="noStrike" baseline="30000">
                <a:solidFill>
                  <a:srgbClr val="d9d9d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1a000d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 baseline="30000">
                <a:solidFill>
                  <a:srgbClr val="d9d9d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Sigma Space Corp / NASA GSFC, </a:t>
            </a:r>
            <a:r>
              <a:rPr b="0" lang="en-US" sz="2000" spc="-1" strike="noStrike" baseline="30000">
                <a:solidFill>
                  <a:srgbClr val="d9d9d9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University of Zurich)</a:t>
            </a: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9d9d9"/>
                </a:solidFill>
                <a:latin typeface="Arial"/>
                <a:ea typeface="Arial"/>
              </a:rPr>
              <a:t>~ With input from LPV Focus Group Leads</a:t>
            </a:r>
            <a:endParaRPr b="0" lang="en-US" sz="2400" spc="-1" strike="noStrike">
              <a:solidFill>
                <a:srgbClr val="1a000d"/>
              </a:solidFill>
              <a:latin typeface="Calibri"/>
            </a:endParaRPr>
          </a:p>
        </p:txBody>
      </p:sp>
      <p:pic>
        <p:nvPicPr>
          <p:cNvPr id="503" name="Picture 14" descr="nasa"/>
          <p:cNvPicPr/>
          <p:nvPr/>
        </p:nvPicPr>
        <p:blipFill>
          <a:blip r:embed="rId1"/>
          <a:stretch/>
        </p:blipFill>
        <p:spPr>
          <a:xfrm>
            <a:off x="7467480" y="685800"/>
            <a:ext cx="1524240" cy="129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4" name="Picture 16" descr="top2"/>
          <p:cNvPicPr/>
          <p:nvPr/>
        </p:nvPicPr>
        <p:blipFill>
          <a:blip r:embed="rId2"/>
          <a:stretch/>
        </p:blipFill>
        <p:spPr>
          <a:xfrm>
            <a:off x="1903320" y="76320"/>
            <a:ext cx="7164360" cy="45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5" name="Picture 8" descr="LPV_logo_upd.jpg"/>
          <p:cNvPicPr/>
          <p:nvPr/>
        </p:nvPicPr>
        <p:blipFill>
          <a:blip r:embed="rId3"/>
          <a:stretch/>
        </p:blipFill>
        <p:spPr>
          <a:xfrm>
            <a:off x="76320" y="76320"/>
            <a:ext cx="1773000" cy="16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  <a:ea typeface="Arial"/>
              </a:rPr>
              <a:t>LPV Objective &amp; Goal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09480" y="10666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d9d9"/>
                </a:solidFill>
                <a:latin typeface="Arial"/>
                <a:ea typeface="Arial"/>
              </a:rPr>
              <a:t>To foster and coordinate </a:t>
            </a:r>
            <a:r>
              <a:rPr b="1" lang="en-US" sz="2200" spc="-1" strike="noStrike">
                <a:solidFill>
                  <a:srgbClr val="99ff33"/>
                </a:solidFill>
                <a:latin typeface="Arial"/>
                <a:ea typeface="Arial"/>
              </a:rPr>
              <a:t>quantitative validation</a:t>
            </a:r>
            <a:r>
              <a:rPr b="0" lang="en-US" sz="2200" spc="-1" strike="noStrike">
                <a:solidFill>
                  <a:srgbClr val="99ff33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  <a:ea typeface="Arial"/>
              </a:rPr>
              <a:t>of higher level global land products derived from remotely sensed data, in a traceable way, and to relay results so they are relevant to users</a:t>
            </a:r>
            <a:endParaRPr b="0" lang="en-US" sz="2200" spc="-1" strike="noStrike">
              <a:solidFill>
                <a:srgbClr val="1a000d"/>
              </a:solidFill>
              <a:latin typeface="Calibri"/>
            </a:endParaRPr>
          </a:p>
          <a:p>
            <a:pPr marL="1440" indent="-144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a000d"/>
              </a:solidFill>
              <a:latin typeface="Calibri"/>
            </a:endParaRPr>
          </a:p>
          <a:p>
            <a:pPr marL="1440" indent="-144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a000d"/>
              </a:solidFill>
              <a:latin typeface="Calibri"/>
            </a:endParaRPr>
          </a:p>
          <a:p>
            <a:pPr marL="1440" indent="-1440">
              <a:lnSpc>
                <a:spcPct val="11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To increase the quality and efficiency of global satellite product validation by developing and promoting </a:t>
            </a:r>
            <a:r>
              <a:rPr b="0" lang="en-US" sz="2000" spc="-1" strike="noStrike">
                <a:solidFill>
                  <a:srgbClr val="99ff33"/>
                </a:solidFill>
                <a:latin typeface="Arial"/>
                <a:ea typeface="Arial"/>
              </a:rPr>
              <a:t>international standards </a:t>
            </a: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99ff33"/>
                </a:solidFill>
                <a:latin typeface="Arial"/>
                <a:ea typeface="Arial"/>
              </a:rPr>
              <a:t>protocols</a:t>
            </a: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for:</a:t>
            </a: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d9d9d9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Field sampling</a:t>
            </a:r>
            <a:endParaRPr b="0" lang="en-US" sz="18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d9d9d9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Scaling techniques</a:t>
            </a:r>
            <a:endParaRPr b="0" lang="en-US" sz="18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d9d9d9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Accuracy reporting</a:t>
            </a:r>
            <a:endParaRPr b="0" lang="en-US" sz="18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d9d9d9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Data / information exchange</a:t>
            </a:r>
            <a:endParaRPr b="0" lang="en-US" sz="18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lnSpc>
                <a:spcPct val="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a000d"/>
              </a:solidFill>
              <a:latin typeface="Calibri"/>
            </a:endParaRPr>
          </a:p>
          <a:p>
            <a:pPr marL="1440" indent="-1440">
              <a:lnSpc>
                <a:spcPct val="11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To provide feedback to international structures (GEOSS) for:</a:t>
            </a: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d9d9d9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Requirements on product accuracy and quality assurance (QA4EO)</a:t>
            </a:r>
            <a:endParaRPr b="0" lang="en-US" sz="18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d9d9d9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Terrestrial ECV measurement standards </a:t>
            </a:r>
            <a:endParaRPr b="0" lang="en-US" sz="1800" spc="-1" strike="noStrike">
              <a:solidFill>
                <a:srgbClr val="1a000d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d9d9d9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Definitions for future missions</a:t>
            </a:r>
            <a:endParaRPr b="0" lang="en-US" sz="18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08" name="Slide Number Placeholder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E6DD-A56F-4404-95CD-5E3DE0461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  <a:ea typeface="Arial"/>
              </a:rPr>
              <a:t>Focus Group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858000" y="65372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036F-AC1F-4247-8CC7-62DA6DDD0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Group 5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552160" cy="5950080"/>
          </a:xfrm>
          <a:prstGeom prst="rect">
            <a:avLst/>
          </a:prstGeom>
          <a:ln w="0">
            <a:noFill/>
          </a:ln>
        </p:spPr>
      </p:pic>
      <p:sp>
        <p:nvSpPr>
          <p:cNvPr id="512" name="TextBox 9"/>
          <p:cNvSpPr/>
          <p:nvPr/>
        </p:nvSpPr>
        <p:spPr>
          <a:xfrm>
            <a:off x="7924680" y="228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* EC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  <a:ea typeface="Arial"/>
              </a:rPr>
              <a:t>LPV links to GCOS </a:t>
            </a:r>
            <a:r>
              <a:rPr b="1" lang="en-US" sz="1100" spc="-1" strike="noStrike">
                <a:solidFill>
                  <a:srgbClr val="006666"/>
                </a:solidFill>
                <a:latin typeface="Arial"/>
                <a:ea typeface="Arial"/>
              </a:rPr>
              <a:t>(and other international coordinating bodie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883800"/>
            <a:ext cx="830592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Ensuring land validation community needs are addressed by GCOS</a:t>
            </a: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d9d9"/>
                </a:solidFill>
                <a:latin typeface="Arial"/>
                <a:ea typeface="Arial"/>
              </a:rPr>
              <a:t>CEOS response to GCOS IP</a:t>
            </a:r>
            <a:endParaRPr b="0" lang="en-US" sz="16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d9d9"/>
                </a:solidFill>
                <a:latin typeface="Arial"/>
                <a:ea typeface="Arial"/>
              </a:rPr>
              <a:t>138 action items / 12 relate directly to land validation:                                                (data quality, inter-comparison, collection of in-situ data)</a:t>
            </a:r>
            <a:endParaRPr b="0" lang="en-US" sz="16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a000d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Providing recommendations to IGBP Integrated                                        Observing Strategy &amp; IPCC Assessments</a:t>
            </a: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d9d9"/>
                </a:solidFill>
                <a:latin typeface="Arial"/>
                <a:ea typeface="Arial"/>
              </a:rPr>
              <a:t>Coordination between ground / space based observations</a:t>
            </a:r>
            <a:endParaRPr b="0" lang="en-US" sz="1600" spc="-1" strike="noStrike">
              <a:solidFill>
                <a:srgbClr val="1a000d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a000d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Advising new satellite missions and projects on land product validation planning e.g.</a:t>
            </a: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d9d9"/>
                </a:solidFill>
                <a:latin typeface="Arial"/>
                <a:ea typeface="Arial"/>
              </a:rPr>
              <a:t>NASA Decadal Survey – HyspIRI, SMAP</a:t>
            </a:r>
            <a:endParaRPr b="0" lang="en-US" sz="16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d9d9"/>
                </a:solidFill>
                <a:latin typeface="Arial"/>
                <a:ea typeface="Arial"/>
              </a:rPr>
              <a:t>ESA Climate Change Initiative</a:t>
            </a:r>
            <a:endParaRPr b="0" lang="en-US" sz="16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WG Climate – Inventory and ECV assessments…..</a:t>
            </a: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000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a0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149F-7B35-42D6-AE97-65832CD85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5" descr="gcosip.jpg"/>
          <p:cNvPicPr/>
          <p:nvPr/>
        </p:nvPicPr>
        <p:blipFill>
          <a:blip r:embed="rId1"/>
          <a:stretch/>
        </p:blipFill>
        <p:spPr>
          <a:xfrm>
            <a:off x="6964200" y="1371600"/>
            <a:ext cx="20275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  <a:ea typeface="Arial"/>
              </a:rPr>
              <a:t>Land Product Protocol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d9d9d9"/>
                </a:solidFill>
                <a:latin typeface="Arial"/>
                <a:ea typeface="Arial"/>
              </a:rPr>
              <a:t>Best practice” for land product validation</a:t>
            </a:r>
            <a:endParaRPr b="0" lang="en-US" sz="24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Current: knowledge, data, tools &amp; methods </a:t>
            </a: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Peer-reviewed</a:t>
            </a: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CEOS endorsed/published</a:t>
            </a: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Key for ECV product validation</a:t>
            </a: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000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"/>
                <a:ea typeface="Arial"/>
              </a:rPr>
              <a:t>Draft validation protocols: </a:t>
            </a:r>
            <a:endParaRPr b="0" lang="en-US" sz="2400" spc="-1" strike="noStrike">
              <a:solidFill>
                <a:srgbClr val="1a000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000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Leaf Area Index</a:t>
            </a: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Land cover area change 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(via GOFC-GOLD</a:t>
            </a: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1a000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Burned Area 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(via GOFC-Fire)</a:t>
            </a:r>
            <a:endParaRPr b="0" lang="en-US" sz="1800" spc="-1" strike="noStrike">
              <a:solidFill>
                <a:srgbClr val="1a000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9d9d9"/>
                </a:solidFill>
                <a:latin typeface="Arial"/>
                <a:ea typeface="Arial"/>
              </a:rPr>
              <a:t>Status of these provided within focus area status updates</a:t>
            </a:r>
            <a:endParaRPr b="0" lang="en-US" sz="1400" spc="-1" strike="noStrike">
              <a:solidFill>
                <a:srgbClr val="1a000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a000d"/>
              </a:solidFill>
              <a:latin typeface="Calibri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F5E2-1213-4EC4-B87F-2934A4584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4" descr="lcprot"/>
          <p:cNvPicPr/>
          <p:nvPr/>
        </p:nvPicPr>
        <p:blipFill>
          <a:blip r:embed="rId1"/>
          <a:stretch/>
        </p:blipFill>
        <p:spPr>
          <a:xfrm>
            <a:off x="5943600" y="2209680"/>
            <a:ext cx="30510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  <a:ea typeface="Arial"/>
              </a:rPr>
              <a:t>Biophysical Focus Group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A677-6BB6-401D-8EDA-073C31073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Content Placeholder 2"/>
          <p:cNvSpPr/>
          <p:nvPr/>
        </p:nvSpPr>
        <p:spPr>
          <a:xfrm>
            <a:off x="533520" y="990720"/>
            <a:ext cx="86104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8640" indent="-458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8640" indent="-45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10"/>
          <p:cNvSpPr/>
          <p:nvPr/>
        </p:nvSpPr>
        <p:spPr>
          <a:xfrm>
            <a:off x="609480" y="976320"/>
            <a:ext cx="8382240" cy="56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  <a:ea typeface="Arial"/>
              </a:rPr>
              <a:t>LAI Validation 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-45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5840" indent="-458640">
              <a:lnSpc>
                <a:spcPct val="100000"/>
              </a:lnSpc>
              <a:spcBef>
                <a:spcPts val="601"/>
              </a:spcBef>
              <a:buClr>
                <a:srgbClr val="d9d9d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Initial meeting, draft outline March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5840" indent="-458640">
              <a:lnSpc>
                <a:spcPct val="100000"/>
              </a:lnSpc>
              <a:spcBef>
                <a:spcPts val="601"/>
              </a:spcBef>
              <a:buClr>
                <a:srgbClr val="d9d9d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Full draft complete and sent for community review February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5840" indent="-458640">
              <a:lnSpc>
                <a:spcPct val="100000"/>
              </a:lnSpc>
              <a:spcBef>
                <a:spcPts val="601"/>
              </a:spcBef>
              <a:buClr>
                <a:srgbClr val="d9d9d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Defines internationally accepted definitions of LAI and associated quantities to ensure thematic compati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5840" indent="-458640">
              <a:lnSpc>
                <a:spcPct val="100000"/>
              </a:lnSpc>
              <a:spcBef>
                <a:spcPts val="601"/>
              </a:spcBef>
              <a:buClr>
                <a:srgbClr val="d9d9d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Defines conversions between quantities, reviews sampling and scaling techniques, direct and indirect validation and consistency checking meas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5840" indent="-458640">
              <a:lnSpc>
                <a:spcPct val="100000"/>
              </a:lnSpc>
              <a:spcBef>
                <a:spcPts val="601"/>
              </a:spcBef>
              <a:buClr>
                <a:srgbClr val="d9d9d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Arial"/>
              </a:rPr>
              <a:t>Provides 104 detailed recommendations for best practice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830240" indent="-458640">
              <a:lnSpc>
                <a:spcPct val="10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Arial"/>
                <a:ea typeface="Arial"/>
              </a:rPr>
              <a:t>CEOS ag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30240" indent="-458640">
              <a:lnSpc>
                <a:spcPct val="10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Arial"/>
                <a:ea typeface="Arial"/>
              </a:rPr>
              <a:t>LAI product produc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30240" indent="-458640">
              <a:lnSpc>
                <a:spcPct val="10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Arial"/>
                <a:ea typeface="Arial"/>
              </a:rPr>
              <a:t>Scientific research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30240" indent="-458640">
              <a:lnSpc>
                <a:spcPct val="10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Arial"/>
                <a:ea typeface="Arial"/>
              </a:rPr>
              <a:t>LAI product validation investig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8640" indent="-45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E462-2A5B-450E-AF03-D0751BBA4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6" descr="LPV_logo_upd.jpg"/>
          <p:cNvPicPr/>
          <p:nvPr/>
        </p:nvPicPr>
        <p:blipFill>
          <a:blip r:embed="rId1"/>
          <a:stretch/>
        </p:blipFill>
        <p:spPr>
          <a:xfrm>
            <a:off x="1523880" y="762120"/>
            <a:ext cx="5791320" cy="522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9:48:19Z</dcterms:created>
  <dc:creator>jmnighti</dc:creator>
  <dc:description/>
  <dc:language>en-US</dc:language>
  <cp:lastModifiedBy>kekeith</cp:lastModifiedBy>
  <dcterms:modified xsi:type="dcterms:W3CDTF">2012-05-15T15:21:52Z</dcterms:modified>
  <cp:revision>622</cp:revision>
  <dc:subject/>
  <dc:title>Slide 1</dc:title>
</cp:coreProperties>
</file>