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788A-41D0-452E-BCBA-573BBE8E373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929D-C43B-4F1C-94F6-A45E4A67DFE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5A6F-ED35-4F57-80BE-3CCE9837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5B62-7F7B-40CC-BDFC-225E8BAF9C9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2119-0863-4469-83CB-B680B3B6E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170-ECE9-43A9-A612-4D39C8B9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DA3-717E-49A7-BDA8-2B4C63B4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8D1-F64C-49B0-BBF6-2C5B8788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B19-4AF5-41C3-8905-BFAA6881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756-2B22-4659-B848-2A0DDE56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A96-10B5-4A6F-89D1-A80DC152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DF4-0C87-4F4E-BA7F-3E9786B6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C3E-D14F-4751-8173-176D015C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1F9-D563-4968-B4BD-C87A792B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D76-B764-425B-B71E-6AAA3DD7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FEA-566C-492F-9E9D-304C7077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5F4-4B55-4F28-A969-D8165262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A0C8-8C71-41B3-86D8-A5DA65BC044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sailustracao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1884240"/>
            <a:ext cx="9144000" cy="762120"/>
          </a:xfrm>
          <a:prstGeom prst="rect">
            <a:avLst/>
          </a:prstGeom>
          <a:solidFill>
            <a:srgbClr val="3366ff">
              <a:alpha val="6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earch and Satellite Applic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atellite Division and Environmen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5495040"/>
            <a:ext cx="9144000" cy="33516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niel V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335400" y="2652840"/>
            <a:ext cx="580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ational Institute for Space Research (IN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85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6516720" y="549360"/>
            <a:ext cx="2592360" cy="156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604836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5076720" y="4653000"/>
            <a:ext cx="3851280" cy="7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2627280" y="2852640"/>
            <a:ext cx="6370560" cy="628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>
            <a:off x="468360" y="5805360"/>
            <a:ext cx="6192720" cy="792360"/>
          </a:xfrm>
          <a:prstGeom prst="rect">
            <a:avLst/>
          </a:prstGeom>
          <a:ln w="69840">
            <a:solidFill>
              <a:srgbClr val="ff0000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4762440" cy="6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8"/>
          <a:stretch/>
        </p:blipFill>
        <p:spPr>
          <a:xfrm>
            <a:off x="1187280" y="333360"/>
            <a:ext cx="46674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" name="Elipse 11"/>
          <p:cNvSpPr/>
          <p:nvPr/>
        </p:nvSpPr>
        <p:spPr>
          <a:xfrm>
            <a:off x="4211640" y="981000"/>
            <a:ext cx="936720" cy="7192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2003760" y="6270120"/>
            <a:ext cx="5059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b" anchorCtr="1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pt-BR" sz="3300" spc="-1" strike="noStrike">
                <a:solidFill>
                  <a:srgbClr val="ff0000"/>
                </a:solidFill>
                <a:latin typeface="Arial"/>
              </a:rPr>
              <a:t>http://satelite.cptec.inpe.b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0" y="-27000"/>
            <a:ext cx="5624640" cy="379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447840" y="692280"/>
            <a:ext cx="6860880" cy="37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3"/>
          <a:stretch/>
        </p:blipFill>
        <p:spPr>
          <a:xfrm>
            <a:off x="1222200" y="1557360"/>
            <a:ext cx="6734520" cy="417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4"/>
          <a:stretch/>
        </p:blipFill>
        <p:spPr>
          <a:xfrm>
            <a:off x="2055960" y="2205000"/>
            <a:ext cx="6548400" cy="4114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5"/>
          <a:stretch/>
        </p:blipFill>
        <p:spPr>
          <a:xfrm>
            <a:off x="3344760" y="2708280"/>
            <a:ext cx="5835600" cy="41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21:02:56Z</dcterms:created>
  <dc:creator>simone</dc:creator>
  <dc:description/>
  <dc:language>en-US</dc:language>
  <cp:lastModifiedBy>Daniel Vila</cp:lastModifiedBy>
  <dcterms:modified xsi:type="dcterms:W3CDTF">2012-04-15T21:20:57Z</dcterms:modified>
  <cp:revision>10</cp:revision>
  <dc:subject/>
  <dc:title>Slide 1</dc:title>
</cp:coreProperties>
</file>