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6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645840" y="742680"/>
            <a:ext cx="5376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7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8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F1034-7221-4F17-A955-FB968E4524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32FAB-CD57-45AE-8D81-6352BE6A3F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799341C-D875-465D-8044-DA6E313105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ocessing campaign R2 for level 1 data January 2007 to August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351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objective: Evaluation of a 3D (spectral, temporal, scan angle) degradation for both earthshine and solar mean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351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ed throughput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351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rivation of offline degradation characterization matrix (“Level 1B to C processor”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be provided offline for the reprocessed data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38501-8330-4738-BC45-E206351615E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VHRR polar winds is a relatively new operational product since August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reprocess to the beginning of 2007 to increase cove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implement two algorithms (1) EUMETSAT operational and (2) prototype that is similar to the NOAA/CIMMS algorithm. Will allow to generate comparison statistics for 5 years over Arctic and Antarctic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plan to make the operational algorithm also applicable to AVHRR data in GAC format. We think about a reprocessing of all GAC data back to 1982 or 1979 in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are preparing an implementation directly at  ECMWF using input data provided from CM-SAF. This is planned to be an processing outsource test from EUMETSAT (go where the data 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20EF7-C449-449C-A6E5-0F48E09CCE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e ISCCP image smaller, and add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86779-E24A-4D5D-B172-63D0ADCBEC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2C9D-ED0C-4F09-853A-271D95302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59B1-A733-4FE6-88FB-D914F7B2B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4683-8B38-408D-B1F6-E0BC8EEE3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1496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808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2184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1496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808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B015-8D08-411B-B5C8-CDAB4BC10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E871-E222-4324-A2D9-C0866D99B8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07E1-6819-425C-8B85-3ED7128340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54A4-E710-489D-98F3-5DC7EBF5C9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D266-AAD5-471F-A33F-A0424EBCA6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4D3D-237F-4E18-9CDC-434B166FA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5440" y="237600"/>
            <a:ext cx="9150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6CB0-DADD-406A-AF28-AE153BF7B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F706-B2AE-4A3D-8986-FCCAE6FD2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7C97-040C-4EA3-96AC-DF566140D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67CE-2A53-4480-B338-99F0E7D8A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A19F-FD57-493E-B847-F05356EB79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4DDF-214A-4138-9A00-BA23192784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B878-3FD6-4288-AE0D-2B62C8EAAD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496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0808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2184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496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0808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6DAB-CC56-4C7E-B4B7-28A402F1C3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87A-0663-434E-AC04-B5AD486E79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0C2-685F-476C-80DD-402D6ED841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909-8796-4421-90F8-D40188D5CB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7FC-7B97-45AF-923D-48F0E4B6A7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E50-DCA9-4695-8254-1CD170395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F323-887B-4B61-81AE-9CD6DEB854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5440" y="237600"/>
            <a:ext cx="9150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2FE-B4EE-4E50-9683-1223E35C3B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709-D6C7-4663-BB38-8A8B29F7D7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06C-2682-4168-AF89-2CADA7E6B1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1B0-6D83-44A6-9BFC-B7D14416B1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913-F891-48E7-A315-407F7C61EA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FBD-EB46-4BCD-9216-37C3317AB5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41496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808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2184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41496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50808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692-382E-4927-8633-8024E81E71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2F818-7373-4818-B035-17A6600B6A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DCBB3-FFFD-45A6-9980-FAE5903AAB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7E72-DD2B-4BA2-A9D2-C65E0F9C2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27F9-0654-4EED-A993-81F48E8FC3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18341-266A-40F6-B776-2DEE707215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88D11-B8C6-4010-87A6-70373B44F6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5440" y="237600"/>
            <a:ext cx="9150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285DA-48DA-4DCC-9841-6684B504B1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1FD46-FA69-4264-A74B-ADFF9E1D4E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1C9F2-D2A2-4163-8125-34C20BA1C9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71C7-7B21-47C7-9B1A-CDA621C2D0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8CF70-8F03-45C9-84FE-3573859F2F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E3488-243D-4244-B083-5062DC8D6F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1496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808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2184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1496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50808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200B-2E7F-447A-B8E5-C382508445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6C7EE-C05A-4FBB-915C-C0DCCC470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40D3-257C-4907-87AF-B5CC3D57C8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8AF5D-84BC-4445-B310-909167437C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41D96-C6CE-477A-838D-E409A91201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D2BBF-2FCF-4E49-B81C-723919D89DD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A1CB7-5F80-4A7A-A137-FF4AC7085E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25440" y="237600"/>
            <a:ext cx="9150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8AC16-2563-4341-BD69-349BF2C7C5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59879-9229-4D8E-B5B1-AB2A2470F7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827DE-69B2-4129-9620-742D07B9A3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86B8A-6E7A-462B-9DF4-384A51A407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D8B4-0943-48ED-8470-21564E383B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46ACD-0C1B-46EF-BFA7-EB7B7540E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5440" y="237600"/>
            <a:ext cx="9150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897E-4D0C-4175-B24B-CC6730A961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1496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8080" y="140184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2184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1496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508080" y="3899520"/>
            <a:ext cx="2945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996A9-72C2-46EA-BEC7-DCFF044BD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BB69-CD0F-465C-8489-BCC407793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09760" y="389952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531A-4D1C-4598-B264-E7FCF6B6B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184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9760" y="1401840"/>
            <a:ext cx="446436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1840" y="3899520"/>
            <a:ext cx="91486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A6A1-0161-4FDB-870F-66B415EB5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" name="Group 41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2" name="AutoShape 42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43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44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45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46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47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48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49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50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" name="Picture 5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5f758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BF6BFCB7-F03F-4613-960F-B3CE8805DF5B}" type="slidenum"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TextBox 16"/>
          <p:cNvSpPr/>
          <p:nvPr/>
        </p:nvSpPr>
        <p:spPr>
          <a:xfrm>
            <a:off x="328680" y="6451560"/>
            <a:ext cx="627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CEOS WG Climate, 2</a:t>
            </a:r>
            <a:r>
              <a:rPr b="1" lang="en-GB" sz="900" spc="-1" strike="noStrike" baseline="30000">
                <a:solidFill>
                  <a:srgbClr val="002569"/>
                </a:solidFill>
                <a:latin typeface="Tahoma"/>
              </a:rPr>
              <a:t>nd</a:t>
            </a: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 Meeting, 17/18 April 2012, NOAA/NCDC, Asheville, NC, USA </a:t>
            </a: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1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52" name="AutoShape 42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43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44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45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46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47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48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49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50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61" name="Picture 5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16"/>
          <p:cNvSpPr/>
          <p:nvPr/>
        </p:nvSpPr>
        <p:spPr>
          <a:xfrm>
            <a:off x="328680" y="6451560"/>
            <a:ext cx="627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CEOS WG Climate, 2</a:t>
            </a:r>
            <a:r>
              <a:rPr b="1" lang="en-GB" sz="900" spc="-1" strike="noStrike" baseline="30000">
                <a:solidFill>
                  <a:srgbClr val="002569"/>
                </a:solidFill>
                <a:latin typeface="Tahoma"/>
              </a:rPr>
              <a:t>nd</a:t>
            </a: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 Meeting, 17/18 April 2012, NOAA/NCDC, Asheville, NC, USA </a:t>
            </a: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0" y="3244680"/>
            <a:ext cx="9906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" name="Group 6"/>
          <p:cNvGrpSpPr/>
          <p:nvPr/>
        </p:nvGrpSpPr>
        <p:grpSpPr>
          <a:xfrm>
            <a:off x="4680" y="3098880"/>
            <a:ext cx="9901440" cy="128520"/>
            <a:chOff x="4680" y="3098880"/>
            <a:chExt cx="9901440" cy="128520"/>
          </a:xfrm>
        </p:grpSpPr>
        <p:sp>
          <p:nvSpPr>
            <p:cNvPr id="65" name="Rectangle 7"/>
            <p:cNvSpPr/>
            <p:nvPr/>
          </p:nvSpPr>
          <p:spPr>
            <a:xfrm>
              <a:off x="4680" y="3098880"/>
              <a:ext cx="386244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4059360" y="3098880"/>
              <a:ext cx="70632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4998960" y="3098880"/>
              <a:ext cx="23652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5518080" y="3098880"/>
              <a:ext cx="14148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6981840" y="3098880"/>
              <a:ext cx="2924280" cy="128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" name="Group 53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71" name="AutoShape 52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54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55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56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57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58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59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60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61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0" name="Picture 62" descr=""/>
            <p:cNvPicPr/>
            <p:nvPr/>
          </p:nvPicPr>
          <p:blipFill>
            <a:blip r:embed="rId4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7011720" y="6311880"/>
            <a:ext cx="71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5f758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D4117A7B-F7E0-46D0-A999-7CDD242745D5}" type="slidenum"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1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121" name="AutoShape 42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43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44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46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47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50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0" name="Picture 5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16"/>
          <p:cNvSpPr/>
          <p:nvPr/>
        </p:nvSpPr>
        <p:spPr>
          <a:xfrm>
            <a:off x="328680" y="6451560"/>
            <a:ext cx="627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CEOS WG Climate, 2</a:t>
            </a:r>
            <a:r>
              <a:rPr b="1" lang="en-GB" sz="900" spc="-1" strike="noStrike" baseline="30000">
                <a:solidFill>
                  <a:srgbClr val="002569"/>
                </a:solidFill>
                <a:latin typeface="Tahoma"/>
              </a:rPr>
              <a:t>nd</a:t>
            </a: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 Meeting, 17/18 April 2012, NOAA/NCDC, Asheville, NC, USA </a:t>
            </a: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" name="Group 52"/>
          <p:cNvGrpSpPr/>
          <p:nvPr/>
        </p:nvGrpSpPr>
        <p:grpSpPr>
          <a:xfrm>
            <a:off x="4680" y="1090440"/>
            <a:ext cx="9901440" cy="128880"/>
            <a:chOff x="4680" y="1090440"/>
            <a:chExt cx="9901440" cy="128880"/>
          </a:xfrm>
        </p:grpSpPr>
        <p:sp>
          <p:nvSpPr>
            <p:cNvPr id="133" name="Rectangle 53"/>
            <p:cNvSpPr/>
            <p:nvPr/>
          </p:nvSpPr>
          <p:spPr>
            <a:xfrm>
              <a:off x="4680" y="1090440"/>
              <a:ext cx="386244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Rectangle 54"/>
            <p:cNvSpPr/>
            <p:nvPr/>
          </p:nvSpPr>
          <p:spPr>
            <a:xfrm>
              <a:off x="4059360" y="1090440"/>
              <a:ext cx="7063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Rectangle 55"/>
            <p:cNvSpPr/>
            <p:nvPr/>
          </p:nvSpPr>
          <p:spPr>
            <a:xfrm>
              <a:off x="4998960" y="1090440"/>
              <a:ext cx="2365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Rectangle 56"/>
            <p:cNvSpPr/>
            <p:nvPr/>
          </p:nvSpPr>
          <p:spPr>
            <a:xfrm>
              <a:off x="5518080" y="1090440"/>
              <a:ext cx="1414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57"/>
            <p:cNvSpPr/>
            <p:nvPr/>
          </p:nvSpPr>
          <p:spPr>
            <a:xfrm>
              <a:off x="6981840" y="1090440"/>
              <a:ext cx="29242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3"/>
          </p:nvPr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5f758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0D82F6FF-19A7-464C-BC76-7EB01F783490}" type="slidenum"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1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178" name="AutoShape 42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43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44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45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46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47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48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49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50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87" name="Picture 5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Box 16"/>
          <p:cNvSpPr/>
          <p:nvPr/>
        </p:nvSpPr>
        <p:spPr>
          <a:xfrm>
            <a:off x="328680" y="6451560"/>
            <a:ext cx="627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CEOS WG Climate, 2</a:t>
            </a:r>
            <a:r>
              <a:rPr b="1" lang="en-GB" sz="900" spc="-1" strike="noStrike" baseline="30000">
                <a:solidFill>
                  <a:srgbClr val="002569"/>
                </a:solidFill>
                <a:latin typeface="Tahoma"/>
              </a:rPr>
              <a:t>nd</a:t>
            </a: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 Meeting, 17/18 April 2012, NOAA/NCDC, Asheville, NC, USA </a:t>
            </a: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52"/>
          <p:cNvGrpSpPr/>
          <p:nvPr/>
        </p:nvGrpSpPr>
        <p:grpSpPr>
          <a:xfrm>
            <a:off x="4680" y="1090440"/>
            <a:ext cx="9901440" cy="128880"/>
            <a:chOff x="4680" y="1090440"/>
            <a:chExt cx="9901440" cy="128880"/>
          </a:xfrm>
        </p:grpSpPr>
        <p:sp>
          <p:nvSpPr>
            <p:cNvPr id="190" name="Rectangle 53"/>
            <p:cNvSpPr/>
            <p:nvPr/>
          </p:nvSpPr>
          <p:spPr>
            <a:xfrm>
              <a:off x="4680" y="1090440"/>
              <a:ext cx="386244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54"/>
            <p:cNvSpPr/>
            <p:nvPr/>
          </p:nvSpPr>
          <p:spPr>
            <a:xfrm>
              <a:off x="4059360" y="1090440"/>
              <a:ext cx="7063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55"/>
            <p:cNvSpPr/>
            <p:nvPr/>
          </p:nvSpPr>
          <p:spPr>
            <a:xfrm>
              <a:off x="4998960" y="1090440"/>
              <a:ext cx="2365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56"/>
            <p:cNvSpPr/>
            <p:nvPr/>
          </p:nvSpPr>
          <p:spPr>
            <a:xfrm>
              <a:off x="5518080" y="1090440"/>
              <a:ext cx="1414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57"/>
            <p:cNvSpPr/>
            <p:nvPr/>
          </p:nvSpPr>
          <p:spPr>
            <a:xfrm>
              <a:off x="6981840" y="1090440"/>
              <a:ext cx="29242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4"/>
          </p:nvPr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5f758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E9001ABF-8476-451A-8EAD-8F8027CA583B}" type="slidenum"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1"/>
          <p:cNvGrpSpPr/>
          <p:nvPr/>
        </p:nvGrpSpPr>
        <p:grpSpPr>
          <a:xfrm>
            <a:off x="7737480" y="6307200"/>
            <a:ext cx="1814400" cy="447480"/>
            <a:chOff x="7737480" y="6307200"/>
            <a:chExt cx="1814400" cy="447480"/>
          </a:xfrm>
        </p:grpSpPr>
        <p:sp>
          <p:nvSpPr>
            <p:cNvPr id="235" name="AutoShape 42"/>
            <p:cNvSpPr/>
            <p:nvPr/>
          </p:nvSpPr>
          <p:spPr>
            <a:xfrm>
              <a:off x="7737480" y="6307200"/>
              <a:ext cx="18144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43"/>
            <p:cNvSpPr/>
            <p:nvPr/>
          </p:nvSpPr>
          <p:spPr>
            <a:xfrm>
              <a:off x="9166320" y="6475320"/>
              <a:ext cx="158760" cy="163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4"/>
            <p:cNvSpPr/>
            <p:nvPr/>
          </p:nvSpPr>
          <p:spPr>
            <a:xfrm>
              <a:off x="9010800" y="6472080"/>
              <a:ext cx="134640" cy="169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8502480" y="6475320"/>
              <a:ext cx="192240" cy="1634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46"/>
            <p:cNvSpPr/>
            <p:nvPr/>
          </p:nvSpPr>
          <p:spPr>
            <a:xfrm>
              <a:off x="8334360" y="6475320"/>
              <a:ext cx="133200" cy="166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47"/>
            <p:cNvSpPr/>
            <p:nvPr/>
          </p:nvSpPr>
          <p:spPr>
            <a:xfrm>
              <a:off x="9331200" y="6475320"/>
              <a:ext cx="133560" cy="1634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48"/>
            <p:cNvSpPr/>
            <p:nvPr/>
          </p:nvSpPr>
          <p:spPr>
            <a:xfrm>
              <a:off x="8191440" y="6475320"/>
              <a:ext cx="106560" cy="163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49"/>
            <p:cNvSpPr/>
            <p:nvPr/>
          </p:nvSpPr>
          <p:spPr>
            <a:xfrm>
              <a:off x="8736120" y="6475320"/>
              <a:ext cx="106200" cy="163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50"/>
            <p:cNvSpPr/>
            <p:nvPr/>
          </p:nvSpPr>
          <p:spPr>
            <a:xfrm>
              <a:off x="8867880" y="6475320"/>
              <a:ext cx="131760" cy="1634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44" name="Picture 5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TextBox 16"/>
          <p:cNvSpPr/>
          <p:nvPr/>
        </p:nvSpPr>
        <p:spPr>
          <a:xfrm>
            <a:off x="328680" y="6451560"/>
            <a:ext cx="627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CEOS WG Climate, 2</a:t>
            </a:r>
            <a:r>
              <a:rPr b="1" lang="en-GB" sz="900" spc="-1" strike="noStrike" baseline="30000">
                <a:solidFill>
                  <a:srgbClr val="002569"/>
                </a:solidFill>
                <a:latin typeface="Tahoma"/>
              </a:rPr>
              <a:t>nd</a:t>
            </a:r>
            <a:r>
              <a:rPr b="1" lang="en-GB" sz="900" spc="-1" strike="noStrike">
                <a:solidFill>
                  <a:srgbClr val="002569"/>
                </a:solidFill>
                <a:latin typeface="Tahoma"/>
              </a:rPr>
              <a:t> Meeting, 17/18 April 2012, NOAA/NCDC, Asheville, NC, USA </a:t>
            </a: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Group 52"/>
          <p:cNvGrpSpPr/>
          <p:nvPr/>
        </p:nvGrpSpPr>
        <p:grpSpPr>
          <a:xfrm>
            <a:off x="4680" y="1090440"/>
            <a:ext cx="9901440" cy="128880"/>
            <a:chOff x="4680" y="1090440"/>
            <a:chExt cx="9901440" cy="128880"/>
          </a:xfrm>
        </p:grpSpPr>
        <p:sp>
          <p:nvSpPr>
            <p:cNvPr id="247" name="Rectangle 53"/>
            <p:cNvSpPr/>
            <p:nvPr/>
          </p:nvSpPr>
          <p:spPr>
            <a:xfrm>
              <a:off x="4680" y="1090440"/>
              <a:ext cx="386244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4059360" y="1090440"/>
              <a:ext cx="7063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4998960" y="1090440"/>
              <a:ext cx="23652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5518080" y="1090440"/>
              <a:ext cx="1414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6981840" y="1090440"/>
              <a:ext cx="2924280" cy="128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5"/>
          </p:nvPr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5f758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0A663DCE-0D4E-4B35-BE21-D90623C4B68A}" type="slidenum">
              <a:rPr b="0" lang="en-GB" sz="24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774520" y="1082160"/>
            <a:ext cx="713124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ustained Climate Data Record Generation at EUMETSAT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012080" y="6311880"/>
            <a:ext cx="71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54F8FA50-3C74-4E07-987D-B91A8FE8B18E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4897080" y="52052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569"/>
                </a:solidFill>
                <a:latin typeface="Tahoma"/>
              </a:rPr>
              <a:t>Jörg Schulz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lanned Data Record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Generation of consistent radio-occultation data (bending angles) back to 2001 from GRAS, CHAMP, GRACE and COSMIC sensors – Delivery of GRAS and COSMIC December 2012 – CHAMP and GRACE in 2013;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Total ozone and profiles from combined GOME-2 and IASI observations – Delivery December 2013;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Generation of Metop ASCAT level 1b – Delivery December 2013 – has clear links to ESA CCI soil moisture project.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Reprocessing of IASI level 1c with CNES – Delivery tentatively second half 2013.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DE486E7A-A9F5-4187-8102-A75BCBCF4D91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EUMETSAT WG on Data Set Generation through Reprocess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31560" y="1525320"/>
            <a:ext cx="914868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The WG held its 4</a:t>
            </a:r>
            <a:r>
              <a:rPr b="0" lang="en-GB" sz="2400" spc="-1" strike="noStrike" baseline="30000">
                <a:solidFill>
                  <a:srgbClr val="002569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 meeting on 1-2 February 2012 at EUM HQ with participants from 5 SAFs, ECMWF and the CAF;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15360" indent="-315360" algn="just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Consolidation of the EUM Data Set Generation Plan after the approval of the SAF proposals for 2012-2017;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15360" indent="-315360" algn="just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In addition the WG agreed the need for harmonisation of data set formats, the versioning system for data records, associated file naming and the publication of data sets using a digital object identifier system – EUM Secretariat works out a proposal towards the end of 2012;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15360" indent="-315360" algn="just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The WG decided that the DOI system shall be used for the publication of all data records. EUM Secretariat will function as the publication Agent, i.e., issuing the doi numbers.  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184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Satellite launches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Finalised Data Records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Current Activities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Planned Data Records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Engineering homogenisation within the EUMETSAT distributed ground segmen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55D68A7E-8D75-41BF-A0D8-F8BBD6AAB1C5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Upcoming Satellite Launche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Content Placeholder 2" descr=""/>
          <p:cNvPicPr/>
          <p:nvPr/>
        </p:nvPicPr>
        <p:blipFill>
          <a:blip r:embed="rId1"/>
          <a:stretch/>
        </p:blipFill>
        <p:spPr>
          <a:xfrm>
            <a:off x="268200" y="1365120"/>
            <a:ext cx="9210600" cy="496260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3"/>
          <p:cNvSpPr/>
          <p:nvPr/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7F2F68F4-FF29-4C17-B039-61E26EBE280A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7" name="Picture 1" descr="D:\UserData\Schulz\CEOS\WGC-Meetings\2nd_Meeting\IASI-Inspection-and-Test-2045.jpg"/>
          <p:cNvPicPr/>
          <p:nvPr/>
        </p:nvPicPr>
        <p:blipFill>
          <a:blip r:embed="rId2"/>
          <a:stretch/>
        </p:blipFill>
        <p:spPr>
          <a:xfrm>
            <a:off x="6578640" y="1952640"/>
            <a:ext cx="3327480" cy="2217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D:\UserData\Schulz\CEOS\WGC-Meetings\2nd_Meeting\MSG-3_pack_jpg_303415.jpg"/>
          <p:cNvPicPr/>
          <p:nvPr/>
        </p:nvPicPr>
        <p:blipFill>
          <a:blip r:embed="rId3"/>
          <a:stretch/>
        </p:blipFill>
        <p:spPr>
          <a:xfrm>
            <a:off x="473040" y="21207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Finalised Data Record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25040" y="1341000"/>
            <a:ext cx="8556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5320" indent="-175320">
              <a:spcBef>
                <a:spcPts val="1199"/>
              </a:spcBef>
              <a:buClr>
                <a:srgbClr val="002569"/>
              </a:buClr>
              <a:buFont typeface="Tahoma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Reprocessing of SEVIRI Level 1.5 image data for Meteosat 8 and 9 – Done, data available from the EUMETSAT data centre.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175320" indent="-175320">
              <a:spcBef>
                <a:spcPts val="1199"/>
              </a:spcBef>
              <a:buClr>
                <a:srgbClr val="002569"/>
              </a:buClr>
              <a:buFont typeface="Tahoma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Reprocessing of GOME-2 level 1a and 1b radiances for Metop-A (2007 – 2011)  -  Done - Data Release Readiness Review on 22 May 2012 – Need to provide initial 10 orders with volume of ~200 TB;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175320" indent="-175320">
              <a:spcBef>
                <a:spcPts val="1199"/>
              </a:spcBef>
              <a:buClr>
                <a:srgbClr val="002569"/>
              </a:buClr>
              <a:buFont typeface="Tahoma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Completion of Geostationary Surface Albedo (GSA) for Meteosat First Generation – Done – Validation started with external contractor – Data Release Readiness Review in July 2012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175320" indent="-175320">
              <a:spcBef>
                <a:spcPts val="1199"/>
              </a:spcBef>
              <a:buClr>
                <a:srgbClr val="002569"/>
              </a:buClr>
              <a:buFont typeface="Tahoma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Supported GSA retrieval implementation in NOAA/NCDC.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2798A266-1D33-4279-AEF4-38C31B145297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3"/>
          <p:cNvGrpSpPr/>
          <p:nvPr/>
        </p:nvGrpSpPr>
        <p:grpSpPr>
          <a:xfrm>
            <a:off x="57240" y="1125360"/>
            <a:ext cx="9720000" cy="3772080"/>
            <a:chOff x="57240" y="1125360"/>
            <a:chExt cx="9720000" cy="3772080"/>
          </a:xfrm>
        </p:grpSpPr>
        <p:pic>
          <p:nvPicPr>
            <p:cNvPr id="313" name="Picture 3" descr="E:\EUM\O3MSAF_PTmeeting\HelsinkiOct11\R2_Aug11\CAL\300_InstrumentThroughput2D_Aug11__SMRch2.jpg"/>
            <p:cNvPicPr/>
            <p:nvPr/>
          </p:nvPicPr>
          <p:blipFill>
            <a:blip r:embed="rId1"/>
            <a:srcRect l="0" t="5778" r="0" b="10221"/>
            <a:stretch/>
          </p:blipFill>
          <p:spPr>
            <a:xfrm rot="5400000">
              <a:off x="1927080" y="1823040"/>
              <a:ext cx="377208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" descr="E:\EUM\O3MSAF_PTmeeting\HelsinkiOct11\R2_Aug11\CAL\300_InstrumentThroughput2D_Aug11__SMRch1.jpg"/>
            <p:cNvPicPr/>
            <p:nvPr/>
          </p:nvPicPr>
          <p:blipFill>
            <a:blip r:embed="rId2"/>
            <a:srcRect l="9449" t="8399" r="17471" b="0"/>
            <a:stretch/>
          </p:blipFill>
          <p:spPr>
            <a:xfrm rot="5400000">
              <a:off x="-25200" y="1563840"/>
              <a:ext cx="2756520" cy="25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" descr="E:\EUM\O3MSAF_PTmeeting\HelsinkiOct11\R2_Aug11\CAL\300_InstrumentThroughput2D_Aug11__SMRch3.jpg"/>
            <p:cNvPicPr/>
            <p:nvPr/>
          </p:nvPicPr>
          <p:blipFill>
            <a:blip r:embed="rId3"/>
            <a:srcRect l="9449" t="7681" r="17471" b="10839"/>
            <a:stretch/>
          </p:blipFill>
          <p:spPr>
            <a:xfrm rot="5400000">
              <a:off x="4727520" y="1707120"/>
              <a:ext cx="275652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5" descr="E:\EUM\O3MSAF_PTmeeting\HelsinkiOct11\R2_Aug11\CAL\300_InstrumentThroughput2D_Aug11__SMRch4.jpg"/>
            <p:cNvPicPr/>
            <p:nvPr/>
          </p:nvPicPr>
          <p:blipFill>
            <a:blip r:embed="rId4"/>
            <a:srcRect l="9449" t="0" r="17471" b="10960"/>
            <a:stretch/>
          </p:blipFill>
          <p:spPr>
            <a:xfrm rot="5400000">
              <a:off x="7139520" y="1600200"/>
              <a:ext cx="2756520" cy="25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Text Box 2"/>
          <p:cNvSpPr/>
          <p:nvPr/>
        </p:nvSpPr>
        <p:spPr>
          <a:xfrm>
            <a:off x="155520" y="189000"/>
            <a:ext cx="6006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OME-2 Long-term throughput chang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olar Mean Reference (SMR) spectrum </a:t>
            </a: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15800" y="537372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378000" y="5715000"/>
            <a:ext cx="505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99"/>
                </a:solidFill>
                <a:latin typeface="Arial"/>
              </a:rPr>
              <a:t>Reprocessed signals R2 PPF 5.2 until August 2011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99"/>
                </a:solidFill>
                <a:latin typeface="Arial"/>
              </a:rPr>
              <a:t>relative to February 2007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0" name="Group 14"/>
          <p:cNvGrpSpPr/>
          <p:nvPr/>
        </p:nvGrpSpPr>
        <p:grpSpPr>
          <a:xfrm>
            <a:off x="1136520" y="4033440"/>
            <a:ext cx="3165480" cy="1404720"/>
            <a:chOff x="1136520" y="4033440"/>
            <a:chExt cx="3165480" cy="1404720"/>
          </a:xfrm>
        </p:grpSpPr>
        <p:sp>
          <p:nvSpPr>
            <p:cNvPr id="321" name="TextBox 6"/>
            <p:cNvSpPr/>
            <p:nvPr/>
          </p:nvSpPr>
          <p:spPr>
            <a:xfrm>
              <a:off x="1136520" y="4614120"/>
              <a:ext cx="3165480" cy="82404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569"/>
                  </a:solidFill>
                  <a:latin typeface="Arial"/>
                </a:rPr>
                <a:t>Slow onset of degradation observed after 2</a:t>
              </a:r>
              <a:r>
                <a:rPr b="1" lang="en-GB" sz="1600" spc="-1" strike="noStrike" baseline="30000">
                  <a:solidFill>
                    <a:srgbClr val="002569"/>
                  </a:solidFill>
                  <a:latin typeface="Arial"/>
                </a:rPr>
                <a:t>nd</a:t>
              </a:r>
              <a:r>
                <a:rPr b="1" lang="en-GB" sz="1600" spc="-1" strike="noStrike">
                  <a:solidFill>
                    <a:srgbClr val="002569"/>
                  </a:solidFill>
                  <a:latin typeface="Arial"/>
                </a:rPr>
                <a:t> throughput test in channel 1 and 2.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322" name="Straight Arrow Connector 8"/>
            <p:cNvCxnSpPr/>
            <p:nvPr/>
          </p:nvCxnSpPr>
          <p:spPr>
            <a:xfrm flipH="1" flipV="1">
              <a:off x="1779120" y="4033440"/>
              <a:ext cx="929520" cy="500400"/>
            </a:xfrm>
            <a:prstGeom prst="straightConnector1">
              <a:avLst/>
            </a:prstGeom>
            <a:ln w="9360">
              <a:solidFill>
                <a:srgbClr val="002569"/>
              </a:solidFill>
              <a:miter/>
              <a:tailEnd len="med" type="arrow" w="med"/>
            </a:ln>
          </p:spPr>
        </p:cxnSp>
        <p:cxnSp>
          <p:nvCxnSpPr>
            <p:cNvPr id="323" name="Straight Arrow Connector 10"/>
            <p:cNvCxnSpPr>
              <a:stCxn id="321" idx="0"/>
            </p:cNvCxnSpPr>
            <p:nvPr/>
          </p:nvCxnSpPr>
          <p:spPr>
            <a:xfrm flipV="1">
              <a:off x="2718360" y="4114080"/>
              <a:ext cx="561240" cy="500400"/>
            </a:xfrm>
            <a:prstGeom prst="straightConnector1">
              <a:avLst/>
            </a:prstGeom>
            <a:ln w="9360">
              <a:solidFill>
                <a:srgbClr val="002569"/>
              </a:solidFill>
              <a:miter/>
              <a:tailEnd len="med" type="arrow" w="med"/>
            </a:ln>
          </p:spPr>
        </p:cxnSp>
      </p:grpSp>
      <p:grpSp>
        <p:nvGrpSpPr>
          <p:cNvPr id="324" name="Group 15"/>
          <p:cNvGrpSpPr/>
          <p:nvPr/>
        </p:nvGrpSpPr>
        <p:grpSpPr>
          <a:xfrm>
            <a:off x="5457960" y="4105080"/>
            <a:ext cx="3165480" cy="1225440"/>
            <a:chOff x="5457960" y="4105080"/>
            <a:chExt cx="3165480" cy="1225440"/>
          </a:xfrm>
        </p:grpSpPr>
        <p:sp>
          <p:nvSpPr>
            <p:cNvPr id="325" name="TextBox 5"/>
            <p:cNvSpPr/>
            <p:nvPr/>
          </p:nvSpPr>
          <p:spPr>
            <a:xfrm>
              <a:off x="5457960" y="4749840"/>
              <a:ext cx="3165480" cy="58068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569"/>
                  </a:solidFill>
                  <a:latin typeface="Arial"/>
                </a:rPr>
                <a:t>Instrument is stable now in channel 3 and 4.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326" name="Straight Arrow Connector 12"/>
            <p:cNvCxnSpPr/>
            <p:nvPr/>
          </p:nvCxnSpPr>
          <p:spPr>
            <a:xfrm flipH="1" flipV="1">
              <a:off x="6100560" y="4105080"/>
              <a:ext cx="929520" cy="500400"/>
            </a:xfrm>
            <a:prstGeom prst="straightConnector1">
              <a:avLst/>
            </a:prstGeom>
            <a:ln w="9360">
              <a:solidFill>
                <a:srgbClr val="002569"/>
              </a:solidFill>
              <a:miter/>
              <a:tailEnd len="med" type="arrow" w="med"/>
            </a:ln>
          </p:spPr>
        </p:cxnSp>
        <p:cxnSp>
          <p:nvCxnSpPr>
            <p:cNvPr id="327" name="Straight Arrow Connector 13"/>
            <p:cNvCxnSpPr/>
            <p:nvPr/>
          </p:nvCxnSpPr>
          <p:spPr>
            <a:xfrm flipV="1">
              <a:off x="7028640" y="4105080"/>
              <a:ext cx="561240" cy="500400"/>
            </a:xfrm>
            <a:prstGeom prst="straightConnector1">
              <a:avLst/>
            </a:prstGeom>
            <a:ln w="9360">
              <a:solidFill>
                <a:srgbClr val="002569"/>
              </a:solidFill>
              <a:miter/>
              <a:tailEnd len="med" type="arrow" w="med"/>
            </a:ln>
          </p:spPr>
        </p:cxnSp>
      </p:grpSp>
      <p:sp>
        <p:nvSpPr>
          <p:cNvPr id="328" name="TextBox 18"/>
          <p:cNvSpPr/>
          <p:nvPr/>
        </p:nvSpPr>
        <p:spPr>
          <a:xfrm>
            <a:off x="6480" y="1197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99"/>
                </a:solidFill>
                <a:latin typeface="Arial"/>
              </a:rPr>
              <a:t>240 nm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Box 19"/>
          <p:cNvSpPr/>
          <p:nvPr/>
        </p:nvSpPr>
        <p:spPr>
          <a:xfrm>
            <a:off x="9036360" y="1197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99"/>
                </a:solidFill>
                <a:latin typeface="Arial"/>
              </a:rPr>
              <a:t>790 nm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-12240" y="14130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c1c1c"/>
                </a:solidFill>
                <a:latin typeface="Arial"/>
              </a:rPr>
              <a:t>Feb. 2007</a:t>
            </a:r>
            <a:endParaRPr b="1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Box 21"/>
          <p:cNvSpPr/>
          <p:nvPr/>
        </p:nvSpPr>
        <p:spPr>
          <a:xfrm>
            <a:off x="-7560" y="41497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c1c1c"/>
                </a:solidFill>
                <a:latin typeface="Arial"/>
              </a:rPr>
              <a:t>Aug. 2011</a:t>
            </a:r>
            <a:endParaRPr b="1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2219760" y="4221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c1c1c"/>
                </a:solidFill>
                <a:latin typeface="Arial"/>
              </a:rPr>
              <a:t>0.3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4885200" y="4221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c1c1c"/>
                </a:solidFill>
                <a:latin typeface="Arial"/>
              </a:rPr>
              <a:t>1.0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urrent Activitie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A92FF5FE-249B-468A-A465-B76382967ECF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82680" y="1528920"/>
            <a:ext cx="91566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8920" indent="-343080">
              <a:lnSpc>
                <a:spcPct val="100000"/>
              </a:lnSpc>
              <a:spcBef>
                <a:spcPts val="11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Generation of consistent AMV and CSR products for Meteosat 2 – 9 (covering 1982 – 2010) – Delivery MSG part December 2012 – MTP part December 2013 after inter-calibration;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43080">
              <a:spcBef>
                <a:spcPts val="11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Inter-calibration of Meteosat First and Second Generation IR and WV channel using IASI and HIRS data as first GSICS climate related activity – Delivery End 2012-first half 2013;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43080">
              <a:spcBef>
                <a:spcPts val="11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Tahoma"/>
              </a:rPr>
              <a:t>Generation of Metop AVHRR Atmospheric Motion Vector – Delivery December 2012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401760" y="3159000"/>
            <a:ext cx="9051840" cy="28148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cale of the Challeng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742E7D70-CB8E-4364-A7E5-AC46E9FBD89B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2520" y="5942160"/>
            <a:ext cx="84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ahoma"/>
                <a:ea typeface="Arial"/>
              </a:rPr>
              <a:t>Fig: </a:t>
            </a:r>
            <a:r>
              <a:rPr b="0" i="1" lang="en-GB" sz="1200" spc="-1" strike="noStrike">
                <a:solidFill>
                  <a:srgbClr val="000000"/>
                </a:solidFill>
                <a:latin typeface="Tahoma"/>
                <a:ea typeface="Arial"/>
              </a:rPr>
              <a:t>Satellites used for the ISCCP climate data record. (Courtesy of Ken Knapp, NOAA-NCDC)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1" name="Group 56"/>
          <p:cNvGrpSpPr/>
          <p:nvPr/>
        </p:nvGrpSpPr>
        <p:grpSpPr>
          <a:xfrm>
            <a:off x="401760" y="1330200"/>
            <a:ext cx="9050040" cy="4643640"/>
            <a:chOff x="401760" y="1330200"/>
            <a:chExt cx="9050040" cy="4643640"/>
          </a:xfrm>
        </p:grpSpPr>
        <p:pic>
          <p:nvPicPr>
            <p:cNvPr id="342" name="Picture 3" descr="D:\UserData\Schulz\Projects\ERA-CLIM\Assembly_2011_Lisbon\Presentation\met7-iasi_20111209_1700_bias_ts_wv-1.gif"/>
            <p:cNvPicPr/>
            <p:nvPr/>
          </p:nvPicPr>
          <p:blipFill>
            <a:blip r:embed="rId2"/>
            <a:stretch/>
          </p:blipFill>
          <p:spPr>
            <a:xfrm>
              <a:off x="4247280" y="133020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Group 55"/>
            <p:cNvGrpSpPr/>
            <p:nvPr/>
          </p:nvGrpSpPr>
          <p:grpSpPr>
            <a:xfrm>
              <a:off x="401760" y="1330200"/>
              <a:ext cx="9050040" cy="4643640"/>
              <a:chOff x="401760" y="1330200"/>
              <a:chExt cx="9050040" cy="4643640"/>
            </a:xfrm>
          </p:grpSpPr>
          <p:pic>
            <p:nvPicPr>
              <p:cNvPr id="344" name="Picture 2" descr="D:\UserData\Schulz\Projects\ERA-CLIM\Assembly_2011_Lisbon\Presentation\msg2-iasi_20111212_2115_bias_ts_ir06.2.gif"/>
              <p:cNvPicPr/>
              <p:nvPr/>
            </p:nvPicPr>
            <p:blipFill>
              <a:blip r:embed="rId3"/>
              <a:stretch/>
            </p:blipFill>
            <p:spPr>
              <a:xfrm>
                <a:off x="6813000" y="1330200"/>
                <a:ext cx="2438280" cy="1828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5" name="Group 54"/>
              <p:cNvGrpSpPr/>
              <p:nvPr/>
            </p:nvGrpSpPr>
            <p:grpSpPr>
              <a:xfrm>
                <a:off x="401760" y="3158640"/>
                <a:ext cx="9050040" cy="2815200"/>
                <a:chOff x="401760" y="3158640"/>
                <a:chExt cx="9050040" cy="2815200"/>
              </a:xfrm>
            </p:grpSpPr>
            <p:pic>
              <p:nvPicPr>
                <p:cNvPr id="346" name="Picture 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1760" y="3159000"/>
                  <a:ext cx="9050040" cy="28148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7" name="Group 26"/>
                <p:cNvGrpSpPr/>
                <p:nvPr/>
              </p:nvGrpSpPr>
              <p:grpSpPr>
                <a:xfrm>
                  <a:off x="4822920" y="3158640"/>
                  <a:ext cx="4428000" cy="984240"/>
                  <a:chOff x="4822920" y="3158640"/>
                  <a:chExt cx="4428000" cy="984240"/>
                </a:xfrm>
              </p:grpSpPr>
              <p:grpSp>
                <p:nvGrpSpPr>
                  <p:cNvPr id="348" name="Group 18"/>
                  <p:cNvGrpSpPr/>
                  <p:nvPr/>
                </p:nvGrpSpPr>
                <p:grpSpPr>
                  <a:xfrm>
                    <a:off x="4822920" y="3158640"/>
                    <a:ext cx="2939400" cy="984240"/>
                    <a:chOff x="4822920" y="3158640"/>
                    <a:chExt cx="2939400" cy="984240"/>
                  </a:xfrm>
                </p:grpSpPr>
                <p:cxnSp>
                  <p:nvCxnSpPr>
                    <p:cNvPr id="349" name="Straight Arrow Connector 11"/>
                    <p:cNvCxnSpPr/>
                    <p:nvPr/>
                  </p:nvCxnSpPr>
                  <p:spPr>
                    <a:xfrm flipH="1" flipV="1">
                      <a:off x="4822920" y="3158640"/>
                      <a:ext cx="1461600" cy="972720"/>
                    </a:xfrm>
                    <a:prstGeom prst="straightConnector1">
                      <a:avLst/>
                    </a:prstGeom>
                    <a:ln w="38160">
                      <a:solidFill>
                        <a:srgbClr val="ff9a00"/>
                      </a:solidFill>
                      <a:miter/>
                      <a:tailEnd len="lg" type="stealth" w="lg"/>
                    </a:ln>
                  </p:spPr>
                </p:cxnSp>
                <p:cxnSp>
                  <p:nvCxnSpPr>
                    <p:cNvPr id="350" name="Straight Arrow Connector 14"/>
                    <p:cNvCxnSpPr/>
                    <p:nvPr/>
                  </p:nvCxnSpPr>
                  <p:spPr>
                    <a:xfrm flipH="1" flipV="1">
                      <a:off x="6289200" y="3167280"/>
                      <a:ext cx="1473480" cy="975960"/>
                    </a:xfrm>
                    <a:prstGeom prst="straightConnector1">
                      <a:avLst/>
                    </a:prstGeom>
                    <a:ln w="38160">
                      <a:solidFill>
                        <a:srgbClr val="ff9a00"/>
                      </a:solidFill>
                      <a:miter/>
                      <a:tailEnd len="lg" type="stealth" w="lg"/>
                    </a:ln>
                  </p:spPr>
                </p:cxnSp>
              </p:grpSp>
              <p:grpSp>
                <p:nvGrpSpPr>
                  <p:cNvPr id="351" name="Group 25"/>
                  <p:cNvGrpSpPr/>
                  <p:nvPr/>
                </p:nvGrpSpPr>
                <p:grpSpPr>
                  <a:xfrm>
                    <a:off x="7421760" y="3166920"/>
                    <a:ext cx="1829160" cy="973800"/>
                    <a:chOff x="7421760" y="3166920"/>
                    <a:chExt cx="1829160" cy="973800"/>
                  </a:xfrm>
                </p:grpSpPr>
                <p:cxnSp>
                  <p:nvCxnSpPr>
                    <p:cNvPr id="352" name="Straight Arrow Connector 19"/>
                    <p:cNvCxnSpPr/>
                    <p:nvPr/>
                  </p:nvCxnSpPr>
                  <p:spPr>
                    <a:xfrm flipH="1" flipV="1">
                      <a:off x="8852040" y="3166920"/>
                      <a:ext cx="399240" cy="974160"/>
                    </a:xfrm>
                    <a:prstGeom prst="straightConnector1">
                      <a:avLst/>
                    </a:prstGeom>
                    <a:ln w="38160">
                      <a:solidFill>
                        <a:srgbClr val="7f4d00"/>
                      </a:solidFill>
                      <a:miter/>
                      <a:tailEnd len="lg" type="stealth" w="lg"/>
                    </a:ln>
                  </p:spPr>
                </p:cxnSp>
                <p:cxnSp>
                  <p:nvCxnSpPr>
                    <p:cNvPr id="353" name="Straight Arrow Connector 20"/>
                    <p:cNvCxnSpPr/>
                    <p:nvPr/>
                  </p:nvCxnSpPr>
                  <p:spPr>
                    <a:xfrm flipH="1" flipV="1">
                      <a:off x="7421760" y="3185640"/>
                      <a:ext cx="818280" cy="955440"/>
                    </a:xfrm>
                    <a:prstGeom prst="straightConnector1">
                      <a:avLst/>
                    </a:prstGeom>
                    <a:ln w="38160">
                      <a:solidFill>
                        <a:srgbClr val="7f4d00"/>
                      </a:solidFill>
                      <a:miter/>
                      <a:tailEnd len="lg" type="stealth" w="lg"/>
                    </a:ln>
                  </p:spPr>
                </p:cxnSp>
              </p:grpSp>
            </p:grpSp>
          </p:grpSp>
        </p:grpSp>
      </p:grp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7037280" y="6426360"/>
            <a:ext cx="711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1431443B-C82D-48A8-9BF9-C8D8C165C814}" type="slidenum">
              <a:rPr b="0" lang="en-GB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cale of the Challeng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6" name="Group 71"/>
          <p:cNvGrpSpPr/>
          <p:nvPr/>
        </p:nvGrpSpPr>
        <p:grpSpPr>
          <a:xfrm>
            <a:off x="401760" y="1400040"/>
            <a:ext cx="9091440" cy="4573800"/>
            <a:chOff x="401760" y="1400040"/>
            <a:chExt cx="9091440" cy="4573800"/>
          </a:xfrm>
        </p:grpSpPr>
        <p:pic>
          <p:nvPicPr>
            <p:cNvPr id="357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3158640"/>
              <a:ext cx="9050760" cy="281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30"/>
            <p:cNvGrpSpPr/>
            <p:nvPr/>
          </p:nvGrpSpPr>
          <p:grpSpPr>
            <a:xfrm>
              <a:off x="642240" y="1400040"/>
              <a:ext cx="8850960" cy="1706400"/>
              <a:chOff x="642240" y="1400040"/>
              <a:chExt cx="8850960" cy="1706400"/>
            </a:xfrm>
          </p:grpSpPr>
          <p:pic>
            <p:nvPicPr>
              <p:cNvPr id="359" name="Picture 2" descr=""/>
              <p:cNvPicPr/>
              <p:nvPr/>
            </p:nvPicPr>
            <p:blipFill>
              <a:blip r:embed="rId2"/>
              <a:srcRect l="0" t="0" r="1156" b="66685"/>
              <a:stretch/>
            </p:blipFill>
            <p:spPr>
              <a:xfrm>
                <a:off x="642240" y="1400040"/>
                <a:ext cx="8850960" cy="170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Line 3"/>
              <p:cNvSpPr/>
              <p:nvPr/>
            </p:nvSpPr>
            <p:spPr>
              <a:xfrm>
                <a:off x="1011960" y="1740960"/>
                <a:ext cx="302976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Line 4"/>
              <p:cNvSpPr/>
              <p:nvPr/>
            </p:nvSpPr>
            <p:spPr>
              <a:xfrm>
                <a:off x="7588080" y="2707920"/>
                <a:ext cx="184716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Line 5"/>
              <p:cNvSpPr/>
              <p:nvPr/>
            </p:nvSpPr>
            <p:spPr>
              <a:xfrm>
                <a:off x="5149440" y="1740960"/>
                <a:ext cx="2438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Line 6"/>
              <p:cNvSpPr/>
              <p:nvPr/>
            </p:nvSpPr>
            <p:spPr>
              <a:xfrm>
                <a:off x="4041720" y="1798560"/>
                <a:ext cx="516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Line 7"/>
              <p:cNvSpPr/>
              <p:nvPr/>
            </p:nvSpPr>
            <p:spPr>
              <a:xfrm>
                <a:off x="4631400" y="1740960"/>
                <a:ext cx="2948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Line 8"/>
              <p:cNvSpPr/>
              <p:nvPr/>
            </p:nvSpPr>
            <p:spPr>
              <a:xfrm>
                <a:off x="5001480" y="1798560"/>
                <a:ext cx="14796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Text Box 9"/>
              <p:cNvSpPr/>
              <p:nvPr/>
            </p:nvSpPr>
            <p:spPr>
              <a:xfrm>
                <a:off x="2386800" y="1570320"/>
                <a:ext cx="51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MET2</a:t>
                </a:r>
                <a:endParaRPr b="1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Text Box 10"/>
              <p:cNvSpPr/>
              <p:nvPr/>
            </p:nvSpPr>
            <p:spPr>
              <a:xfrm>
                <a:off x="4032000" y="1570320"/>
                <a:ext cx="51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MET3</a:t>
                </a:r>
                <a:endParaRPr b="1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Text Box 11"/>
              <p:cNvSpPr/>
              <p:nvPr/>
            </p:nvSpPr>
            <p:spPr>
              <a:xfrm>
                <a:off x="5786640" y="1570320"/>
                <a:ext cx="51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MET4</a:t>
                </a:r>
                <a:endParaRPr b="1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Text Box 12"/>
              <p:cNvSpPr/>
              <p:nvPr/>
            </p:nvSpPr>
            <p:spPr>
              <a:xfrm>
                <a:off x="8243280" y="2686680"/>
                <a:ext cx="51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MET5</a:t>
                </a:r>
                <a:endParaRPr b="1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Text Box 13"/>
              <p:cNvSpPr/>
              <p:nvPr/>
            </p:nvSpPr>
            <p:spPr>
              <a:xfrm>
                <a:off x="4626720" y="15703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Text Box 14"/>
              <p:cNvSpPr/>
              <p:nvPr/>
            </p:nvSpPr>
            <p:spPr>
              <a:xfrm>
                <a:off x="4931640" y="15566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Line 15"/>
              <p:cNvSpPr/>
              <p:nvPr/>
            </p:nvSpPr>
            <p:spPr>
              <a:xfrm flipV="1">
                <a:off x="7588080" y="1570320"/>
                <a:ext cx="0" cy="1251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Line 19"/>
              <p:cNvSpPr/>
              <p:nvPr/>
            </p:nvSpPr>
            <p:spPr>
              <a:xfrm flipV="1">
                <a:off x="8844120" y="1570320"/>
                <a:ext cx="0" cy="1251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Line 20"/>
              <p:cNvSpPr/>
              <p:nvPr/>
            </p:nvSpPr>
            <p:spPr>
              <a:xfrm flipV="1">
                <a:off x="3375720" y="1570320"/>
                <a:ext cx="0" cy="1251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27"/>
              <p:cNvSpPr/>
              <p:nvPr/>
            </p:nvSpPr>
            <p:spPr>
              <a:xfrm>
                <a:off x="1137240" y="2424240"/>
                <a:ext cx="104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f2d20"/>
                    </a:solidFill>
                    <a:latin typeface="Arial"/>
                  </a:rPr>
                  <a:t>Original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76" name="Group 109"/>
          <p:cNvGrpSpPr/>
          <p:nvPr/>
        </p:nvGrpSpPr>
        <p:grpSpPr>
          <a:xfrm>
            <a:off x="2278080" y="2821680"/>
            <a:ext cx="5308920" cy="2764800"/>
            <a:chOff x="2278080" y="2821680"/>
            <a:chExt cx="5308920" cy="2764800"/>
          </a:xfrm>
        </p:grpSpPr>
        <p:grpSp>
          <p:nvGrpSpPr>
            <p:cNvPr id="377" name="Group 81"/>
            <p:cNvGrpSpPr/>
            <p:nvPr/>
          </p:nvGrpSpPr>
          <p:grpSpPr>
            <a:xfrm>
              <a:off x="2278080" y="2821680"/>
              <a:ext cx="3866040" cy="2764800"/>
              <a:chOff x="2278080" y="2821680"/>
              <a:chExt cx="3866040" cy="2764800"/>
            </a:xfrm>
          </p:grpSpPr>
          <p:grpSp>
            <p:nvGrpSpPr>
              <p:cNvPr id="378" name="Group 62"/>
              <p:cNvGrpSpPr/>
              <p:nvPr/>
            </p:nvGrpSpPr>
            <p:grpSpPr>
              <a:xfrm>
                <a:off x="2278080" y="2821680"/>
                <a:ext cx="3866040" cy="2764800"/>
                <a:chOff x="2278080" y="2821680"/>
                <a:chExt cx="3866040" cy="2764800"/>
              </a:xfrm>
            </p:grpSpPr>
            <p:grpSp>
              <p:nvGrpSpPr>
                <p:cNvPr id="379" name="Oval 45"/>
                <p:cNvGrpSpPr/>
                <p:nvPr/>
              </p:nvGrpSpPr>
              <p:grpSpPr>
                <a:xfrm>
                  <a:off x="2278080" y="4947120"/>
                  <a:ext cx="3866040" cy="639360"/>
                  <a:chOff x="2278080" y="4947120"/>
                  <a:chExt cx="3866040" cy="639360"/>
                </a:xfrm>
              </p:grpSpPr>
              <p:pic>
                <p:nvPicPr>
                  <p:cNvPr id="380" name="Oval 4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8080" y="4947120"/>
                    <a:ext cx="3866040" cy="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1" name=""/>
                  <p:cNvSpPr/>
                  <p:nvPr/>
                </p:nvSpPr>
                <p:spPr>
                  <a:xfrm>
                    <a:off x="2846880" y="5045760"/>
                    <a:ext cx="2725920" cy="44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c62ff"/>
                        </a:solidFill>
                        <a:latin typeface="Tahoma"/>
                      </a:rPr>
                      <a:t>Instrument changes</a:t>
                    </a:r>
                    <a:endParaRPr b="1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cxnSp>
              <p:nvCxnSpPr>
                <p:cNvPr id="382" name="Straight Arrow Connector 53"/>
                <p:cNvCxnSpPr/>
                <p:nvPr/>
              </p:nvCxnSpPr>
              <p:spPr>
                <a:xfrm flipV="1">
                  <a:off x="3956040" y="2821680"/>
                  <a:ext cx="84600" cy="1329480"/>
                </a:xfrm>
                <a:prstGeom prst="straightConnector1">
                  <a:avLst/>
                </a:prstGeom>
                <a:ln w="25560">
                  <a:solidFill>
                    <a:srgbClr val="0c62ff"/>
                  </a:solidFill>
                  <a:miter/>
                  <a:tailEnd len="lg" type="stealth" w="lg"/>
                </a:ln>
              </p:spPr>
            </p:cxnSp>
            <p:cxnSp>
              <p:nvCxnSpPr>
                <p:cNvPr id="383" name="Straight Arrow Connector 54"/>
                <p:cNvCxnSpPr/>
                <p:nvPr/>
              </p:nvCxnSpPr>
              <p:spPr>
                <a:xfrm flipV="1">
                  <a:off x="4265640" y="2823120"/>
                  <a:ext cx="313920" cy="1323000"/>
                </a:xfrm>
                <a:prstGeom prst="straightConnector1">
                  <a:avLst/>
                </a:prstGeom>
                <a:ln w="25560">
                  <a:solidFill>
                    <a:srgbClr val="0c62ff"/>
                  </a:solidFill>
                  <a:miter/>
                  <a:tailEnd len="lg" type="stealth" w="lg"/>
                </a:ln>
              </p:spPr>
            </p:cxnSp>
          </p:grpSp>
          <p:cxnSp>
            <p:nvCxnSpPr>
              <p:cNvPr id="384" name="Straight Arrow Connector 51"/>
              <p:cNvCxnSpPr/>
              <p:nvPr/>
            </p:nvCxnSpPr>
            <p:spPr>
              <a:xfrm flipV="1">
                <a:off x="4376880" y="2827800"/>
                <a:ext cx="591120" cy="1320120"/>
              </a:xfrm>
              <a:prstGeom prst="straightConnector1">
                <a:avLst/>
              </a:prstGeom>
              <a:ln w="25560">
                <a:solidFill>
                  <a:srgbClr val="0c62ff"/>
                </a:solidFill>
                <a:miter/>
                <a:tailEnd len="lg" type="stealth" w="lg"/>
              </a:ln>
            </p:spPr>
          </p:cxnSp>
        </p:grpSp>
        <p:cxnSp>
          <p:nvCxnSpPr>
            <p:cNvPr id="385" name="Straight Arrow Connector 48"/>
            <p:cNvCxnSpPr/>
            <p:nvPr/>
          </p:nvCxnSpPr>
          <p:spPr>
            <a:xfrm flipV="1">
              <a:off x="4433760" y="2832480"/>
              <a:ext cx="705240" cy="1320120"/>
            </a:xfrm>
            <a:prstGeom prst="straightConnector1">
              <a:avLst/>
            </a:prstGeom>
            <a:ln w="25560">
              <a:solidFill>
                <a:srgbClr val="0c62ff"/>
              </a:solidFill>
              <a:miter/>
              <a:tailEnd len="lg" type="stealth" w="lg"/>
            </a:ln>
          </p:spPr>
        </p:cxnSp>
        <p:cxnSp>
          <p:nvCxnSpPr>
            <p:cNvPr id="386" name="Straight Arrow Connector 49"/>
            <p:cNvCxnSpPr/>
            <p:nvPr/>
          </p:nvCxnSpPr>
          <p:spPr>
            <a:xfrm flipV="1">
              <a:off x="5315040" y="2832840"/>
              <a:ext cx="2272320" cy="1315440"/>
            </a:xfrm>
            <a:prstGeom prst="straightConnector1">
              <a:avLst/>
            </a:prstGeom>
            <a:ln w="25560">
              <a:solidFill>
                <a:srgbClr val="0c62ff"/>
              </a:solidFill>
              <a:miter/>
              <a:tailEnd len="lg" type="stealth" w="lg"/>
            </a:ln>
          </p:spPr>
        </p:cxnSp>
      </p:grpSp>
      <p:grpSp>
        <p:nvGrpSpPr>
          <p:cNvPr id="387" name="Group 80"/>
          <p:cNvGrpSpPr/>
          <p:nvPr/>
        </p:nvGrpSpPr>
        <p:grpSpPr>
          <a:xfrm>
            <a:off x="2278080" y="2821680"/>
            <a:ext cx="6566400" cy="2764800"/>
            <a:chOff x="2278080" y="2821680"/>
            <a:chExt cx="6566400" cy="2764800"/>
          </a:xfrm>
        </p:grpSpPr>
        <p:grpSp>
          <p:nvGrpSpPr>
            <p:cNvPr id="388" name="Oval 65"/>
            <p:cNvGrpSpPr/>
            <p:nvPr/>
          </p:nvGrpSpPr>
          <p:grpSpPr>
            <a:xfrm>
              <a:off x="2278080" y="4947480"/>
              <a:ext cx="3874680" cy="639000"/>
              <a:chOff x="2278080" y="4947480"/>
              <a:chExt cx="3874680" cy="639000"/>
            </a:xfrm>
          </p:grpSpPr>
          <p:pic>
            <p:nvPicPr>
              <p:cNvPr id="389" name="Oval 65" descr=""/>
              <p:cNvPicPr/>
              <p:nvPr/>
            </p:nvPicPr>
            <p:blipFill>
              <a:blip r:embed="rId4"/>
              <a:stretch/>
            </p:blipFill>
            <p:spPr>
              <a:xfrm>
                <a:off x="2278080" y="4947480"/>
                <a:ext cx="387468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2847960" y="5045400"/>
                <a:ext cx="2731680" cy="44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Tahoma"/>
                  </a:rPr>
                  <a:t>Calibration changes</a:t>
                </a:r>
                <a:endParaRPr b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cxnSp>
          <p:nvCxnSpPr>
            <p:cNvPr id="391" name="Straight Arrow Connector 66"/>
            <p:cNvCxnSpPr/>
            <p:nvPr/>
          </p:nvCxnSpPr>
          <p:spPr>
            <a:xfrm flipH="1" flipV="1">
              <a:off x="3377880" y="2821680"/>
              <a:ext cx="317880" cy="13244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392" name="Straight Arrow Connector 67"/>
            <p:cNvCxnSpPr/>
            <p:nvPr/>
          </p:nvCxnSpPr>
          <p:spPr>
            <a:xfrm flipV="1">
              <a:off x="5585400" y="2832480"/>
              <a:ext cx="3259440" cy="13179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393" name="Straight Arrow Connector 68"/>
            <p:cNvCxnSpPr/>
            <p:nvPr/>
          </p:nvCxnSpPr>
          <p:spPr>
            <a:xfrm flipV="1">
              <a:off x="5317560" y="2837880"/>
              <a:ext cx="2256480" cy="13132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</p:cxn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3680" y="17892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Example: Two Wind Vector Processor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Arctic 13 April 2008, 11:34 UTC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5" name="Picture 2" descr="N:\TEMP\RogerH\Polar_Winds\AMV_ops\North\BT_ch4_20080413113403_wind_ops_North.png"/>
          <p:cNvPicPr/>
          <p:nvPr/>
        </p:nvPicPr>
        <p:blipFill>
          <a:blip r:embed="rId1"/>
          <a:stretch/>
        </p:blipFill>
        <p:spPr>
          <a:xfrm>
            <a:off x="231840" y="15066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N:\TEMP\RogerH\Polar_Winds\AMV_proto\North\BT_ch4_20080413113403_wind_proto_North.png"/>
          <p:cNvPicPr/>
          <p:nvPr/>
        </p:nvPicPr>
        <p:blipFill>
          <a:blip r:embed="rId2"/>
          <a:stretch/>
        </p:blipFill>
        <p:spPr>
          <a:xfrm>
            <a:off x="4884840" y="1501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397" name="Footer Placeholder 4"/>
          <p:cNvSpPr/>
          <p:nvPr/>
        </p:nvSpPr>
        <p:spPr>
          <a:xfrm>
            <a:off x="307800" y="6305400"/>
            <a:ext cx="7328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EUM/STG-OPSWG/31/12/VWG/19    </a:t>
            </a: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Slide </a:t>
            </a:r>
            <a:fld id="{6DCC46B5-7E6C-4617-B161-6691EF4C993F}" type="slidenum">
              <a:rPr b="1" lang="en-GB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409760" y="154476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EUM OPERATIONA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5777280" y="15238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CIMMS (EUM Prototype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08:21:02Z</dcterms:created>
  <dc:creator>Thomas Staudte</dc:creator>
  <dc:description/>
  <dc:language>en-US</dc:language>
  <cp:lastModifiedBy>kekeith</cp:lastModifiedBy>
  <cp:lastPrinted>2006-03-06T14:11:17Z</cp:lastPrinted>
  <dcterms:modified xsi:type="dcterms:W3CDTF">2012-05-15T15:20:07Z</dcterms:modified>
  <cp:revision>984</cp:revision>
  <dc:subject/>
  <dc:title>No Slide Title</dc:title>
</cp:coreProperties>
</file>