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029F-4832-4BA0-B762-794F15F82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revised version of the 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word “Proposed” might not be appropriate unless we want to say “proposed for discussion within this group” instead of “proposed for approval by this group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680E8-9E5B-4406-A7E7-468056721903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790E-FB8D-4C10-B08F-6444FFEBB3D4}" type="slidenum">
              <a:rPr b="1" lang="de-DE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8FD-E081-48E3-8B2B-5C05EA6E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2DB-E97D-420C-BD5D-A400AE5F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1BE-4762-4371-B805-AB23E466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A64-C63B-4C91-AC22-28E5AEF9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3147-A444-484F-A5E9-FA041B9C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3700-97E4-4940-99E8-F1949A17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BCE3-C060-42EF-9FE3-512764B0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C5CD-498D-4303-994F-61361AB3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DC2A-912F-4FFB-9C5E-33888269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DA0B-817A-46C0-823A-E102C55A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041B-175D-455D-967B-F64B9599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C43-B989-442C-8036-6D1FFBAE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CF4B-7EB6-41BF-B701-BD519EAD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11C3-CB53-4C07-AA0E-EB4BC540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25D1-2672-4700-965F-C05716A5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F774-B865-4595-B53D-0132D2EE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AE66-59F6-4108-8FFC-6F36F7B7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DE7-4E2B-4D2D-A10E-51875E01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AB3-D98D-472D-AEE5-5EF57E6E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BF9-9326-48B8-BB6A-56692769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523-6F01-4533-B18C-621326A6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89A-4E66-4634-8C38-6EAFBDCD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D81-7BD1-4021-B8B6-772FACE3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EE9-9466-4BDC-99DC-1DFC124E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6884-43F2-451C-B70D-7D08C2289EEC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3320" y="853920"/>
            <a:ext cx="396720" cy="42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7213680" y="847800"/>
            <a:ext cx="396720" cy="423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7554960" y="847800"/>
            <a:ext cx="414360" cy="42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5"/>
          <a:stretch/>
        </p:blipFill>
        <p:spPr>
          <a:xfrm>
            <a:off x="7927920" y="847800"/>
            <a:ext cx="401760" cy="42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6"/>
          <a:stretch/>
        </p:blipFill>
        <p:spPr>
          <a:xfrm>
            <a:off x="8288280" y="847800"/>
            <a:ext cx="401760" cy="423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7"/>
          <a:stretch/>
        </p:blipFill>
        <p:spPr>
          <a:xfrm>
            <a:off x="8637480" y="847800"/>
            <a:ext cx="398520" cy="423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8"/>
          <a:srcRect l="0" t="8198" r="0" b="9866"/>
          <a:stretch/>
        </p:blipFill>
        <p:spPr>
          <a:xfrm>
            <a:off x="7483320" y="44280"/>
            <a:ext cx="155268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B26B-3810-48BD-A298-CC6B9E9A6BE0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First year progress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CEOS WGClimate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7593120" y="5924520"/>
            <a:ext cx="15508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vent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OS Guidelines and GC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urity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 with existing MIM information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for physical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ommon template for CEOS (but also CG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turity Matrix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14800" cy="30243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6964200" y="6516720"/>
            <a:ext cx="21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J. B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395280" y="1844640"/>
            <a:ext cx="3456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timate ambition – derive a CEOS endorsed Maturity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point - NOAA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task within WGClimate, lead by research agencies (EL, PL),  to review/modify impr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ize may not fi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s much a tool to monitoring progress as it is to provide a snapshot of current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lationship with WCR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000" y="213372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different activities ongoing within WCRP (e.g. in GEWEX, WOAP) which are extremely compatible with WGClimate prior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/Physical Architecture – CEOS lead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s – WCRP lead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19800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scussion points for this mee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Monitoring Architecture &amp; ECV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” a consensus matur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ages to the climate monitor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epth ECV analysis – assessments &amp; road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ing the Research to Operation paradig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684360" y="-100080"/>
            <a:ext cx="841392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Committee on Earth Observing Satellite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Working Group on Climate (WGClimate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210960" y="2755800"/>
            <a:ext cx="2673360" cy="3921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6853320" y="836640"/>
            <a:ext cx="229068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210960" y="1092240"/>
            <a:ext cx="2673360" cy="1146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3059280" y="5673600"/>
            <a:ext cx="59785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ir of  CEOS WG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 Dowell (EC/JR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ce Chair John Bates (NOAA/NC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3116160" y="1322280"/>
            <a:ext cx="337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GClimate was endorsed as a full CEOS WG (joining WGISS, WGCV and WGEdu) and will coordinate and encourage collaborative activities between the world’s major space agencies in the area of climate monitor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059280" y="3789360"/>
            <a:ext cx="5978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Mission of the Working Group Climate (WGClimate) is to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facilitate the implementation and exploitation of Essential Climate Variab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ECV) time-series through coordination of the existing and substantial activities undertaking be CEOS member agencies.  This includes the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numerous iterative step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olved in the creation of ECV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nd ensuring ECV life cycle information is gathered, organized, and preserve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future gener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alibri"/>
              </a:rPr>
              <a:t>Membershi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51080"/>
            <a:ext cx="417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ark Dowell - EC/JRC (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John B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OAA (Vice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amotsu Igarashi - JAX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Joerg Schulz - EUMET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Yang Jun - C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dy Shaw - UKSA/N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ascal Lecomte - 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John Dwyer - US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ric Lindstrom  - 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idier Renaut - C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aniel Alejandro Vila - IN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ella Melo - C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lbrecht von Bargen - D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obert Husband – EUMET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tore Lopinto - 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4498920" y="1351080"/>
            <a:ext cx="4602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tch Goldber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NOAA (Climate S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ian Killoug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NASA (S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elley Stov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NASA (S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rry Sawy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NOAA (DC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rolin Ritcher – G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ean-Louis Fellous - G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rbara Ryan - W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erome Lafeuille – W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efan Bojinski - W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pen Volden - 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ounded Rectangle 3"/>
          <p:cNvSpPr/>
          <p:nvPr/>
        </p:nvSpPr>
        <p:spPr>
          <a:xfrm>
            <a:off x="2154240" y="909720"/>
            <a:ext cx="2128680" cy="4668840"/>
          </a:xfrm>
          <a:custGeom>
            <a:avLst/>
            <a:gdLst>
              <a:gd name="textAreaLeft" fmla="*/ 103680 w 2128680"/>
              <a:gd name="textAreaRight" fmla="*/ 2025000 w 2128680"/>
              <a:gd name="textAreaTop" fmla="*/ 103680 h 4668840"/>
              <a:gd name="textAreaBottom" fmla="*/ 4565160 h 4668840"/>
            </a:gdLst>
            <a:ahLst/>
            <a:rect l="textAreaLeft" t="textAreaTop" r="textAreaRight" b="textAreaBottom"/>
            <a:pathLst>
              <a:path w="21600" h="47371">
                <a:moveTo>
                  <a:pt x="3600" y="0"/>
                </a:moveTo>
                <a:arcTo wR="3600" hR="3600" stAng="16200000" swAng="-5400000"/>
                <a:lnTo>
                  <a:pt x="0" y="43771"/>
                </a:lnTo>
                <a:arcTo wR="3600" hR="3600" stAng="10800000" swAng="-5400000"/>
                <a:lnTo>
                  <a:pt x="18000" y="473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G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ilitate implementation and exploitation of ECVs time-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iti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4"/>
          <p:cNvSpPr/>
          <p:nvPr/>
        </p:nvSpPr>
        <p:spPr>
          <a:xfrm>
            <a:off x="6138720" y="909720"/>
            <a:ext cx="2157480" cy="4668840"/>
          </a:xfrm>
          <a:custGeom>
            <a:avLst/>
            <a:gdLst>
              <a:gd name="textAreaLeft" fmla="*/ 105120 w 2157480"/>
              <a:gd name="textAreaRight" fmla="*/ 2052360 w 2157480"/>
              <a:gd name="textAreaTop" fmla="*/ 105120 h 4668840"/>
              <a:gd name="textAreaBottom" fmla="*/ 4563720 h 4668840"/>
            </a:gdLst>
            <a:ahLst/>
            <a:rect l="textAreaLeft" t="textAreaTop" r="textAreaRight" b="textAreaBottom"/>
            <a:pathLst>
              <a:path w="21600" h="46739">
                <a:moveTo>
                  <a:pt x="3600" y="0"/>
                </a:moveTo>
                <a:arcTo wR="3600" hR="3600" stAng="16200000" swAng="-5400000"/>
                <a:lnTo>
                  <a:pt x="0" y="43139"/>
                </a:lnTo>
                <a:arcTo wR="3600" hR="3600" stAng="10800000" swAng="-5400000"/>
                <a:lnTo>
                  <a:pt x="18000" y="467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mate 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rogress of Climate SBA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rdination of CEOS response to GCOS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ess reporting to UNFCCC/SB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Up Arrow 5"/>
          <p:cNvSpPr/>
          <p:nvPr/>
        </p:nvSpPr>
        <p:spPr>
          <a:xfrm>
            <a:off x="2490840" y="5640480"/>
            <a:ext cx="1506600" cy="809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112480" y="647712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rtual Constel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7"/>
          <p:cNvSpPr/>
          <p:nvPr/>
        </p:nvSpPr>
        <p:spPr>
          <a:xfrm>
            <a:off x="87480" y="1357200"/>
            <a:ext cx="1542960" cy="11574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G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8"/>
          <p:cNvSpPr/>
          <p:nvPr/>
        </p:nvSpPr>
        <p:spPr>
          <a:xfrm>
            <a:off x="87480" y="2730600"/>
            <a:ext cx="1542960" cy="11570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G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9"/>
          <p:cNvSpPr/>
          <p:nvPr/>
        </p:nvSpPr>
        <p:spPr>
          <a:xfrm>
            <a:off x="87480" y="4052880"/>
            <a:ext cx="1542960" cy="11574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G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10"/>
          <p:cNvSpPr/>
          <p:nvPr/>
        </p:nvSpPr>
        <p:spPr>
          <a:xfrm>
            <a:off x="2154240" y="38160"/>
            <a:ext cx="2128680" cy="784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Bent-Up Arrow 11"/>
          <p:cNvSpPr/>
          <p:nvPr/>
        </p:nvSpPr>
        <p:spPr>
          <a:xfrm>
            <a:off x="4344840" y="5664240"/>
            <a:ext cx="2765520" cy="1084320"/>
          </a:xfrm>
          <a:custGeom>
            <a:avLst/>
            <a:gdLst>
              <a:gd name="textAreaLeft" fmla="*/ 0 w 2765520"/>
              <a:gd name="textAreaRight" fmla="*/ 2586600 w 2765520"/>
              <a:gd name="textAreaTop" fmla="*/ 900360 h 1084320"/>
              <a:gd name="textAreaBottom" fmla="*/ 1084680 h 1084320"/>
            </a:gdLst>
            <a:ahLst/>
            <a:rect l="textAreaLeft" t="textAreaTop" r="textAreaRight" b="textAreaBottom"/>
            <a:pathLst>
              <a:path w="2765425" h="1084263">
                <a:moveTo>
                  <a:pt x="0" y="900264"/>
                </a:moveTo>
                <a:lnTo>
                  <a:pt x="2402360" y="900264"/>
                </a:lnTo>
                <a:lnTo>
                  <a:pt x="2402360" y="271066"/>
                </a:lnTo>
                <a:lnTo>
                  <a:pt x="2223294" y="271066"/>
                </a:lnTo>
                <a:lnTo>
                  <a:pt x="2494359" y="0"/>
                </a:lnTo>
                <a:lnTo>
                  <a:pt x="2765425" y="271066"/>
                </a:lnTo>
                <a:lnTo>
                  <a:pt x="2586359" y="271066"/>
                </a:lnTo>
                <a:lnTo>
                  <a:pt x="2586359" y="1084263"/>
                </a:lnTo>
                <a:lnTo>
                  <a:pt x="0" y="1084263"/>
                </a:lnTo>
                <a:close/>
              </a:path>
            </a:pathLst>
          </a:custGeom>
          <a:solidFill>
            <a:srgbClr val="606060"/>
          </a:solidFill>
          <a:ln w="9360">
            <a:solidFill>
              <a:srgbClr val="b6dcd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2"/>
          <p:cNvSpPr/>
          <p:nvPr/>
        </p:nvSpPr>
        <p:spPr>
          <a:xfrm>
            <a:off x="4344840" y="6488280"/>
            <a:ext cx="26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put for reporting GCOS/SB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ight Arrow 13"/>
          <p:cNvSpPr/>
          <p:nvPr/>
        </p:nvSpPr>
        <p:spPr>
          <a:xfrm>
            <a:off x="4282920" y="3754440"/>
            <a:ext cx="1855800" cy="596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eft Arrow 14"/>
          <p:cNvSpPr/>
          <p:nvPr/>
        </p:nvSpPr>
        <p:spPr>
          <a:xfrm>
            <a:off x="4282920" y="2092320"/>
            <a:ext cx="1855800" cy="53496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000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4524480" y="340344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6"/>
          <p:cNvSpPr/>
          <p:nvPr/>
        </p:nvSpPr>
        <p:spPr>
          <a:xfrm>
            <a:off x="4480920" y="135720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dback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ority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0"/>
          <p:cNvSpPr/>
          <p:nvPr/>
        </p:nvSpPr>
        <p:spPr>
          <a:xfrm>
            <a:off x="2901960" y="822240"/>
            <a:ext cx="635040" cy="534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2192400" y="128736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p &amp; meta-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o doe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2"/>
          <p:cNvSpPr/>
          <p:nvPr/>
        </p:nvSpPr>
        <p:spPr>
          <a:xfrm>
            <a:off x="140040" y="482112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V cal/val 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188640" y="344484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pacity B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89640" y="19558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rtals,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23"/>
          <p:cNvSpPr/>
          <p:nvPr/>
        </p:nvSpPr>
        <p:spPr>
          <a:xfrm>
            <a:off x="754200" y="5430960"/>
            <a:ext cx="1542960" cy="11570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CT &amp; C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-Right Arrow 1"/>
          <p:cNvSpPr/>
          <p:nvPr/>
        </p:nvSpPr>
        <p:spPr>
          <a:xfrm>
            <a:off x="1619280" y="1773360"/>
            <a:ext cx="576360" cy="287280"/>
          </a:xfrm>
          <a:prstGeom prst="left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eft-Right Arrow 25"/>
          <p:cNvSpPr/>
          <p:nvPr/>
        </p:nvSpPr>
        <p:spPr>
          <a:xfrm>
            <a:off x="1619280" y="3141720"/>
            <a:ext cx="576360" cy="287280"/>
          </a:xfrm>
          <a:prstGeom prst="left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-Right Arrow 26"/>
          <p:cNvSpPr/>
          <p:nvPr/>
        </p:nvSpPr>
        <p:spPr>
          <a:xfrm>
            <a:off x="1619280" y="4508640"/>
            <a:ext cx="576360" cy="288720"/>
          </a:xfrm>
          <a:prstGeom prst="leftRightArrow">
            <a:avLst>
              <a:gd name="adj1" fmla="val 50000"/>
              <a:gd name="adj2" fmla="val 49906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Terms of Refere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 Mincho"/>
              </a:rPr>
              <a:t>The CEOS Climate Working Group w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alibri"/>
                <a:ea typeface="MS Mincho"/>
              </a:rPr>
              <a:t>Review and assess, on behalf of CEOS, the generation of Fundamental Climate Data Records (FCDRs) and derived Essential Climate Variable (ECV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Mincho"/>
              </a:rPr>
              <a:t> climate products supported by Member space agencies, complementary with existing entities and ro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Mincho"/>
              </a:rPr>
              <a:t>Contribute to the review of </a:t>
            </a:r>
            <a:r>
              <a:rPr b="0" lang="en-GB" sz="1800" spc="-1" strike="noStrike">
                <a:solidFill>
                  <a:srgbClr val="333399"/>
                </a:solidFill>
                <a:latin typeface="Calibri"/>
                <a:ea typeface="MS Mincho"/>
              </a:rPr>
              <a:t>compliance of satellite missions and products with the GCOS Climate Monitoring Principle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Mincho"/>
              </a:rPr>
              <a:t> and with the “Guideline for the Generation of Datasets and Products meeting GCOS Requirements” (GCOS-14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Mincho"/>
              </a:rPr>
              <a:t>Identify </a:t>
            </a:r>
            <a:r>
              <a:rPr b="0" lang="en-GB" sz="1800" spc="-1" strike="noStrike">
                <a:solidFill>
                  <a:srgbClr val="333399"/>
                </a:solidFill>
                <a:latin typeface="Calibri"/>
                <a:ea typeface="MS Mincho"/>
              </a:rPr>
              <a:t>multi-agency implementation team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Mincho"/>
              </a:rPr>
              <a:t> for each product and review their actions, and ensure that a coherent implementation plan exists for each and every product taking full account of  other pertinent international initiatives such as SCOPE-CM and science programm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alibri"/>
                <a:ea typeface="MS Mincho"/>
              </a:rPr>
              <a:t>Make recommenda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Mincho"/>
              </a:rPr>
              <a:t> to the above teams and receive recommendations from them, for transmission to </a:t>
            </a:r>
            <a:r>
              <a:rPr b="0" lang="en-GB" sz="1800" spc="-1" strike="noStrike">
                <a:solidFill>
                  <a:srgbClr val="333399"/>
                </a:solidFill>
                <a:latin typeface="Calibri"/>
                <a:ea typeface="MS Mincho"/>
              </a:rPr>
              <a:t>CEOS Agency Principal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Mincho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Mincho"/>
              </a:rPr>
              <a:t>Ensure coherence of climate product generation supported by space agencies, including with other </a:t>
            </a:r>
            <a:r>
              <a:rPr b="0" lang="en-GB" sz="1800" spc="-1" strike="noStrike">
                <a:solidFill>
                  <a:srgbClr val="333399"/>
                </a:solidFill>
                <a:latin typeface="Calibri"/>
                <a:ea typeface="MS Mincho"/>
              </a:rPr>
              <a:t>relevant international initiatives, in particular SCOPE-CM, an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Mincho"/>
              </a:rPr>
              <a:t>Undertake any other relevant activities as instructed by CEOS Ch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alibri"/>
              </a:rPr>
              <a:t>Priorities for WGClim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Monitor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architecture, basis for prioritizing WGClimate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 of physical architecture to ECV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ECV Inven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on maturity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on climate information stewardshi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V by ECV analysis -&gt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reach/Networking: both internal with other CEOS WGs and VCs &amp; external SCOPE-CM/GSICS and WC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406080"/>
            <a:ext cx="701856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iorities: Output and Activit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6640" y="1457280"/>
            <a:ext cx="84452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y document defining a climate monitoring Architecture for space based observations – with external partners (CGMS &amp; WMO) and forming the basis for futur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V Inventory – the broad-brush perspective, foundation for the physical representation of th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a consensus “Maturity Matrix” – to assess status of ECV CDRs and monitor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V assessments and sustained production roadmaps – here strong link to VCs and W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each to modell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ing linkages between research and operationa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360360" y="628560"/>
            <a:ext cx="8240760" cy="5832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441960" y="295740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G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9520" y="237600"/>
            <a:ext cx="871236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Calibri"/>
              </a:rPr>
              <a:t>Why do we need a Climate Monitoring Architecture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Rectangle 76"/>
          <p:cNvSpPr/>
          <p:nvPr/>
        </p:nvSpPr>
        <p:spPr>
          <a:xfrm>
            <a:off x="374760" y="1349280"/>
            <a:ext cx="8569080" cy="48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ed on discussions three mai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ahoma"/>
              </a:rPr>
              <a:t>"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eds/usage scenario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ahoma"/>
              </a:rPr>
              <a:t>" have emerged for a climate monitoring architectur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66640">
              <a:lnSpc>
                <a:spcPct val="100000"/>
              </a:lnSpc>
              <a:buClr>
                <a:srgbClr val="000000"/>
              </a:buClr>
              <a:buFont typeface="Arial"/>
              <a:buChar char="A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ahoma"/>
              </a:rPr>
              <a:t>Assis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ahoma"/>
              </a:rPr>
              <a:t>in promotion of a comm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ahoma"/>
              </a:rPr>
              <a:t>understanding of the implementation implications of meeting the various space-related climate monitoring requirements (e.g. from GC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66640">
              <a:lnSpc>
                <a:spcPct val="100000"/>
              </a:lnSpc>
              <a:buClr>
                <a:srgbClr val="000000"/>
              </a:buClr>
              <a:buFont typeface="Arial"/>
              <a:buChar char="B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ahoma"/>
              </a:rPr>
              <a:t>To suppor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ahoma"/>
              </a:rPr>
              <a:t>an assessment of the degree to which the currently implemented systems meet the requirement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ahoma"/>
              </a:rPr>
              <a:t>(and the generation of an action plan to address identified shortfalls/gaps/du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66640">
              <a:lnSpc>
                <a:spcPct val="100000"/>
              </a:lnSpc>
              <a:buClr>
                <a:srgbClr val="000000"/>
              </a:buClr>
              <a:buFont typeface="Arial"/>
              <a:buChar char="C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ahoma"/>
              </a:rPr>
              <a:t>To improve ou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ahoma"/>
              </a:rPr>
              <a:t>understanding of the end-to-end information flow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ahoma"/>
              </a:rPr>
              <a:t>and dependencies (i.e. from sensing through to decision-mak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7:05:16Z</dcterms:created>
  <dc:creator>ipetitev</dc:creator>
  <dc:description/>
  <dc:language>en-US</dc:language>
  <cp:lastModifiedBy>kekeith</cp:lastModifiedBy>
  <dcterms:modified xsi:type="dcterms:W3CDTF">2012-05-16T14:50:40Z</dcterms:modified>
  <cp:revision>60</cp:revision>
  <dc:subject/>
  <dc:title>SIT Workshop TEMPLATE</dc:title>
</cp:coreProperties>
</file>