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0E30D2-AB98-4B41-AF35-1E225327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012-2015 GEO Work Plan is divided into three thematic parts composed of 26 Tasks and 60 Components.  Each of the identified Components has a number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ority A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which, according to GEO, are “practical actions and outputs supporting the Component implementati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16934B-EB80-474E-A976-298D7F03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ebruary 2012, CEOS entities participated in the 2012 CEOS-GEO Actions Workshop where participants identified CEOS Actions that could be accomplished in support of the GEO 2012-2015 Work Plan Componen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ority Ac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6C1FB6-2031-4264-B483-88BD3356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4134E7-1E5A-4D8A-AF44-6D51686A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nnect between Plenary and the WGs – you can communicate the CEOS priorities to the group but it is sometimes difficult to direct the WG to address these pri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5B4AB5-04C3-4E84-A6BB-C78397AFE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peak of “physical delivery”, we mean coordinated delivery of space-based EO data/information to meet us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quires an assessment of the “maturity level” of user needs/requirements, and the “maturity level” of a coordinated CEO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provides a snapshot of least developed to most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commended that VCs focus outputs on these more “mature” activities (for ACC, climate and to lesser degrees DRM and 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87792F-2E3F-4FA0-BC91-39AA4D81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nnect between Plenary and the WGs – you can communicate the CEOS priorities to the group but it is sometimes difficult to direct the WG to address these pri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7B3EDF-978F-4263-AF8D-524A2277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058ED3-FF38-4131-8BBB-1A9CA4AEA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BC1F6-EF73-45D4-9DAE-F18702CD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3B5C4F-78FD-43BB-8C8D-FBC44300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EAAFAD-60E8-4AFB-9A53-B0BE6607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3DEEA1-6292-4924-A2FF-87ED8DFB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89DF-C692-4CE3-A56C-C11C1A576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AE5C-506D-4017-8B62-FAC0D07BA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4D63-52A3-46FF-9AC4-0BDE5B3AF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3F5A-51BF-48A9-95D4-7E9A38CE4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6813-A1D8-45CA-8A47-25BBB2EF7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47FA-7B3B-44A8-B160-34E175538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6643-2762-48AA-BE78-CDB7C9088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99BB-9AED-469A-8FD9-0A38B2454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9110-CE7F-4E5C-9BCD-A8DB0617C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BF96-F6B8-4DBB-9C5E-60441BB99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A0B6-AEDF-4C99-9DB2-B2F66A2E0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BD73-0F31-4F2A-8595-2483186EF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BD59-7086-4FDE-9D2C-691FCE7D89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6D85-D6AF-46A9-A884-C7D624A29C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47FF-9FA0-46FB-A516-10D7D1F3F1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7353-D75E-4086-8E24-1C3000C0C3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66C9-2709-4A97-B6AA-2B814B799A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5A8-29C8-4E66-AAF9-21016F2E80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C67-AB02-461F-BA89-B546DBB0A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845-2001-4857-821C-D8C0E97A50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48F-52DA-4F96-A38B-659A2B7DFF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C0C-528B-4D33-89B0-CD5F919FF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C90-05A8-445D-8441-CA8D8E75A2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69E-D885-4589-8529-AE872FFAE0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734-8365-4DAE-8E97-D5A7374B2E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02C-D387-41FD-B458-28FF56868F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209-95DE-4A1A-9FB8-8684A79576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F12-F565-4F33-B175-CF35CD2E18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923-C7A9-4384-A906-82595D645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9168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336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C5B-7DA4-46B1-9972-B356B72673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444E-90D5-4F6B-B866-BDD58CFA20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6CC3-2F43-45E8-81C9-1F818DBF9B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D5F9B-90D4-45B4-8F1F-9C3CEE265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2BEC-8520-48EF-A916-2BCBABEDB4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B132-E928-4391-B069-0F01DA7E6E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EC77-72AC-4114-B591-DB7109B745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394B4-86B3-42EF-B7B3-85024F8466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22F7F-EC1D-49A3-992C-AF71C2988D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8C45E-0D66-4280-B205-F29102D8EB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11FCE-5876-4CD3-BE61-3BA3F1F188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E3FD-3052-407D-813E-824BCA118A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22E7D-B842-46CF-91B4-0CDEF865B8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9168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8336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6FD2F-D097-40DB-99BD-CDBC602095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B167A-8C86-4C57-986E-BC52551E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CC8A-F704-44E7-8EF3-8CAAF82568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4873-CAFF-4929-B47D-38A29D448F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F2BA-00A0-4E3A-BCB0-8A54F58796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99206-1B05-4A2A-95E0-AA85FFA6EE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FDB1D-591B-42A3-BBC9-B8D7162D4E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9B883-F6D4-47ED-B4E1-AE4664F8D1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607F-BAF6-44F7-9343-4EF52C2CFD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ACE6-032C-4155-ACE5-A731EA2D1B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31F45-C4D6-4E1E-86EA-D7BA7780ED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4FED0-5DD6-4268-9563-1043172F28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DE144-B808-4280-A85A-CF9785CEA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2973-FD86-49E1-995F-81CDE8D00A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9168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83360" y="3332520"/>
            <a:ext cx="2944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E911-DF62-44F5-ABB4-E30E22228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32DE-E18C-46FD-9F16-23E895C8B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33252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8FF9-7B73-48C2-B38B-61E60E2D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332520"/>
            <a:ext cx="9144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21D0-8527-4F61-B0E9-D15BBB342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rcRect l="0" t="44031" r="0" b="9738"/>
          <a:stretch/>
        </p:blipFill>
        <p:spPr>
          <a:xfrm>
            <a:off x="0" y="54864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" name="Line 16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4876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BFD5-D41A-400C-BA60-F6E81AAD6EB0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2"/>
          <a:srcRect l="0" t="44031" r="0" b="9738"/>
          <a:stretch/>
        </p:blipFill>
        <p:spPr>
          <a:xfrm>
            <a:off x="0" y="54864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2" name="Line 16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0" y="0"/>
            <a:ext cx="1295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009920" y="4876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F120-1019-4BEA-A5D7-74158B3A8478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"/>
          <p:cNvPicPr/>
          <p:nvPr/>
        </p:nvPicPr>
        <p:blipFill>
          <a:blip r:embed="rId2"/>
          <a:srcRect l="0" t="44031" r="0" b="9738"/>
          <a:stretch/>
        </p:blipFill>
        <p:spPr>
          <a:xfrm>
            <a:off x="0" y="54864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4" name="Line 16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0"/>
            <a:ext cx="1295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7009920" y="4876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B7B2-A7CE-47CD-ADA6-532EDC77BE9E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5" descr=""/>
          <p:cNvPicPr/>
          <p:nvPr/>
        </p:nvPicPr>
        <p:blipFill>
          <a:blip r:embed="rId2"/>
          <a:srcRect l="0" t="44031" r="0" b="9738"/>
          <a:stretch/>
        </p:blipFill>
        <p:spPr>
          <a:xfrm>
            <a:off x="0" y="54864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6" name="Line 16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0" y="0"/>
            <a:ext cx="1295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7009920" y="4876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9FF-BABF-4550-8049-A2990BCEECDC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5" descr=""/>
          <p:cNvPicPr/>
          <p:nvPr/>
        </p:nvPicPr>
        <p:blipFill>
          <a:blip r:embed="rId2"/>
          <a:srcRect l="0" t="44031" r="0" b="9738"/>
          <a:stretch/>
        </p:blipFill>
        <p:spPr>
          <a:xfrm>
            <a:off x="0" y="54864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68" name="Line 16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0" y="0"/>
            <a:ext cx="1295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7009920" y="4876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BF1-41C6-4EAA-806C-7E74B3BEA387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66"/>
                </a:solidFill>
                <a:latin typeface="Arial"/>
              </a:rPr>
              <a:t>New Directions for WGs and VCs Based on the CEOS Self Study</a:t>
            </a:r>
            <a:endParaRPr b="1" lang="en-US" sz="38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48002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WGClimate-2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18 April 2012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99ff"/>
                </a:solidFill>
                <a:latin typeface="Arial"/>
              </a:rPr>
              <a:t>Kerry Ann Sawyer</a:t>
            </a:r>
            <a:endParaRPr b="1" lang="en-US" sz="1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99ff"/>
                </a:solidFill>
                <a:latin typeface="Arial"/>
              </a:rPr>
              <a:t>Deputy CEOS Executive Officer</a:t>
            </a:r>
            <a:endParaRPr b="1" lang="en-US" sz="1400" spc="-1" strike="noStrike">
              <a:solidFill>
                <a:srgbClr val="ccff66"/>
              </a:solidFill>
              <a:latin typeface="Arial"/>
            </a:endParaRPr>
          </a:p>
        </p:txBody>
      </p:sp>
      <p:pic>
        <p:nvPicPr>
          <p:cNvPr id="218" name="Picture 20" descr=""/>
          <p:cNvPicPr/>
          <p:nvPr/>
        </p:nvPicPr>
        <p:blipFill>
          <a:blip r:embed="rId1"/>
          <a:stretch/>
        </p:blipFill>
        <p:spPr>
          <a:xfrm>
            <a:off x="-6480" y="1384200"/>
            <a:ext cx="9150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2012-2015 GEO Work Plan Statistics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377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Three Thematic Part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nfrastructure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nstitutions and Development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nformation for Societal Benefit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26 Task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60 Component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CCA-7A6A-401D-B24B-879C1526C3E3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2971800" cy="4206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2971800" cy="420696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7"/>
          <p:cNvSpPr/>
          <p:nvPr/>
        </p:nvSpPr>
        <p:spPr>
          <a:xfrm>
            <a:off x="6553080" y="3809880"/>
            <a:ext cx="2286000" cy="22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Confirmed CEOS Support to 26 GEO Task Components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Included Confirmed CEOS Leadership of 19 GEO Task Components (and Component POC for 4)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CEOS Role in GEO WP Management Structure and Strategic Planning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Task Coordinator for 3 Task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Implementation Board Member for 2 Board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Significant CEOS Participation in 2012 GEO Work Plan Symposium (30 April – 5 May)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69AC-F17A-42E8-A393-E3B6F8025F4F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EOS-GEO Actions Workshop</a:t>
            </a:r>
            <a:br>
              <a:rPr sz="4000"/>
            </a:br>
            <a:r>
              <a:rPr b="1" lang="en-US" sz="1400" spc="-1" strike="noStrike">
                <a:solidFill>
                  <a:srgbClr val="9999ff"/>
                </a:solidFill>
                <a:latin typeface="Arial"/>
              </a:rPr>
              <a:t>February 14-15, 2012</a:t>
            </a:r>
            <a:endParaRPr b="1" lang="en-US" sz="1400" spc="-1" strike="noStrike">
              <a:solidFill>
                <a:srgbClr val="cc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743200"/>
            <a:ext cx="8494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SIT-27 and Initial CEOS Self-Study Outcomes that Relate to WGClimate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832-2A93-4DE2-A88A-AB6BB77C40D8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CEOS Self Study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7621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Identified four top-level CEOS activities:</a:t>
            </a: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Substantive space-borne coordination, scientific, and user-focused activities – actual standardised information product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Top-level strategy development and guidance –priorities and new initiative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Internal CEOS coordination – among members/associates, CEOS management, and sub-organization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External CEOS coordination – between CEOS and outside organization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C2F-C743-4845-B6CB-9A78C1C50411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74520" y="2982960"/>
            <a:ext cx="8709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EOS Self Study Recommendations for WGs and VCs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he need for improved interface and engagement with the SIT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he need for increased focus on </a:t>
            </a:r>
            <a:r>
              <a:rPr b="1" lang="en-AU" sz="2000" spc="-1" strike="noStrike">
                <a:solidFill>
                  <a:srgbClr val="9999ff"/>
                </a:solidFill>
                <a:latin typeface="Arial"/>
              </a:rPr>
              <a:t>physical delivery </a:t>
            </a: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in support of current CEOS prioritie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he need for increased direction to VCs and WGs in support of CEOS prioritie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Horizontal Coordination” among WGs and VCs is needed to maximize their value and impact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NASA SIT Team Follow-Up prior to SIT-27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Discussion paper on CSS follow-up for VCs and WG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Individual and group teleconferences with the VCs and WG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VC/WG Workshop prior to SIT-27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Further strategic discussion at SIT-27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EED-3D75-4E8F-96B3-DB7D4456D5EC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Relative Maturity of Requirements Definition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1E53-9110-4851-9D38-C6E050985642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Screen Shot 2012-03-28 at 2"/>
          <p:cNvPicPr/>
          <p:nvPr/>
        </p:nvPicPr>
        <p:blipFill>
          <a:blip r:embed="rId1"/>
          <a:srcRect l="1858" t="20770" r="5990" b="6343"/>
          <a:stretch/>
        </p:blipFill>
        <p:spPr>
          <a:xfrm>
            <a:off x="1447920" y="1143000"/>
            <a:ext cx="6629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T-27 and Initial CEOS Self-Study Outcomes that Relate to WGClimate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ff66"/>
                </a:solidFill>
                <a:latin typeface="Arial"/>
              </a:rPr>
              <a:t>A special half-day side meeting on CEOS WGs and VCs took place in La Jolla prior to SIT-27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o further explore opportunities and obstacles, and look at the “sharp end” of implementation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o support a report out to CEOS Agencies at SIT-27 on VCs’ and WGs’ perspectives and need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to take first steps toward identifying “top-down” priorities for VCs and WGs that match the working realities and possibilities of these groups and their participant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0F3-B843-4D60-9612-B054B8F021E6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T-27 Discussions that Relate to WGClimate 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6858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During SIT-27, a round table review was held on the membership and participation of the VCs and WG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strengths, weaknesses, and issues with participation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ff66"/>
                </a:solidFill>
                <a:latin typeface="Arial"/>
              </a:rPr>
              <a:t>GEO must strive towards high profile achievements toward end of its 10-year plan to ensure political and financial support for its post-2015 continuation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CEOS WGs and VCs have a role in support of delivery and must be pro-active in defining and progressing the outcome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ff66"/>
                </a:solidFill>
                <a:latin typeface="Arial"/>
              </a:rPr>
              <a:t>Demonstration of unique and significant international coordination on subjects such as carbon, forests, food, water, and disasters</a:t>
            </a:r>
            <a:endParaRPr b="1" lang="en-US" sz="16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049-A277-4B4A-B38F-AF388E6A9843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SIT-27 Agreed Actions (draft)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27-20: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SIT Chair team will work with VCs and WGs to further define opportunities and approach to implementation targets discussed at SIT-27, and ensure engagement of VCs and WGs in development of the new planning documents (due September 2012)</a:t>
            </a: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27-21: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SIT Chair team will develop a VC/WG mission/agency participation wish-list matrix as the basis for engaging CEOS agencies and missions (April 2012)</a:t>
            </a: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27-22: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WG Chairs and VC Leads to develop a short paper brainstorming ideas on improved communication among groups in support of more integrated CEOS objectives (June 2012)</a:t>
            </a:r>
            <a:endParaRPr b="1" lang="en-US" sz="18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D7C4-B171-4285-92BE-67A223316C9A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EOS 2012 Work Plan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EOS Actions in Support of GEO 2012-2015 Work Plan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SIT-27 Outcomes</a:t>
            </a:r>
            <a:endParaRPr b="1" lang="en-US" sz="32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EBF-451C-420A-865D-A730E950E1E5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8120" y="2752560"/>
            <a:ext cx="5486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2012 CEOS Work Plan and Priorities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0FD7-45BA-4124-8693-DC889E765D58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3526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324480" y="510552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 Unicode MS"/>
                <a:ea typeface="ＭＳ Ｐゴシック"/>
              </a:rPr>
              <a:t>WGClimate-related outcomes               </a:t>
            </a:r>
            <a:fld id="{F49BC0DF-E0FE-489B-BA99-F74B03C1C053}" type="slidenum">
              <a:rPr b="0" lang="en-US" sz="1000" spc="-1" strike="noStrike">
                <a:solidFill>
                  <a:srgbClr val="cc0066"/>
                </a:solidFill>
                <a:latin typeface="Arial Unicode MS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Expected CEOS 2012 Outcomes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" y="1066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Improved Coordination of Space Agency Activities Related to Climate 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EOS Response to 2010 GCOS IP and improvement in coordinated outputs for monitoring of ECVs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EOS Input to Systematic Observation Requirements for GCOS Satellite Supplement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velopment of FCDRs and related data sets (WG Climate)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operation with GEO, WMO, and CGMS on space-based system to support climate information and adaptation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Further alignment of VCs to contribute to GCOS IP</a:t>
            </a:r>
            <a:endParaRPr b="1" lang="en-US" sz="2000" spc="-1" strike="noStrike">
              <a:solidFill>
                <a:srgbClr val="cc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Expected 2012 Outcomes (cont’d)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Progress Towards Established CEOS-GEO Priorities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EOS leadership within and support to the GEO Global Forest Observation Task (including GFOI IP and SDCG)  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ontinued development of the CEOS Strategy for Carbon Observations from Space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Advancement of CEOS Data Democracy activities within the reorganized WGCBDD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Further alignment of the CEOS VC objectives/activities to GEO 2012-2015 Work Plan Task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AF83-B091-4C0A-97C9-031FECB4AED9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Expected 2012 Outcomes (cont’d)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64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Progress Toward Established GEO-CEOS Priorities (cont’d)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ontinued support to development and operationalization of the GEOSS Common Infrastructure (GCI) and its element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The development of a more integrated approach in the areas of disaster mitigation and disaster management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ontinued support to the Joint Experiments on Crop Assessment and Monitoring (JECAM) initiative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ontinued CEOS leadership of/support to the QA4EO initiative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409D-589C-484C-A14B-DCD2F5730A39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Expected 2012 Outcomes (cont’d)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sidering CEOS Support to Further Key GEO Priority Initiatives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Exploratory dialogue on data requirements and CEOS Agency capacities to support the G20/GEO Global Agricultural Monitoring (GLAM) initiative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ontinued dialogue on potential CEOS contributions to integrated water cycle products and services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ontinued dialogue on potential CEOS contributions to the GEO Biodiversity Observation Network (GEO BON)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ACF-2B7A-43E8-8789-6A606FDEA688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Expected 2012 Outcomes (cont’d)</a:t>
            </a:r>
            <a:endParaRPr b="1" lang="en-US" sz="36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903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tinued and Enhanced CEOS Outreach to Key Stakeholders: GEO, COP, UNFCCC, SBSTA, G8/G20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Maintenance to CEOS online services such as the CEOS website and Missions, Instruments and Measurements (MIM) database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Publication of the CEOS Newsletter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EOS inputs for Rio+20 Summit, including a print update of the CEOS Earth Observation Handbook</a:t>
            </a:r>
            <a:endParaRPr b="1" lang="en-US" sz="2400" spc="-1" strike="noStrike">
              <a:solidFill>
                <a:srgbClr val="ccff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Further review/adoption of CSS recommendations</a:t>
            </a:r>
            <a:endParaRPr b="1" lang="en-US" sz="28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0DD0-103E-47EB-8F6D-655F004A64D1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752560"/>
            <a:ext cx="826596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Arial"/>
              </a:rPr>
              <a:t>CEOS ACTIONS IN SUPPORT OF GEO 2012-2015 WORK PLAN AND CEOS 2012 WORK PLAN</a:t>
            </a:r>
            <a:endParaRPr b="1" lang="en-US" sz="4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010280" y="48769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447-95A3-41C1-92E5-F61F7DA852C8}" type="slidenum">
              <a:rPr b="0" lang="en-US" sz="10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18:13Z</dcterms:created>
  <dc:creator>Noaa</dc:creator>
  <dc:description/>
  <dc:language>en-US</dc:language>
  <cp:lastModifiedBy>kekeith</cp:lastModifiedBy>
  <dcterms:modified xsi:type="dcterms:W3CDTF">2012-05-15T15:22:02Z</dcterms:modified>
  <cp:revision>158</cp:revision>
  <dc:subject/>
  <dc:title>Plenary Event VI</dc:title>
</cp:coreProperties>
</file>