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7E96F-8A91-42A2-89F7-D667DD3730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65238-CCA8-4987-9E06-5475BB3BA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3A8A7-AB05-4D63-9076-B9D5014E4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727DC-A0C1-40D7-A9EA-F2308109E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29E71-278F-4182-80EA-C7FFF9CB5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6C8C5-BBAC-4B9F-92BF-B1F355A52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A3FEC-B2CB-4562-B30A-30592EBF2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0D293-2CDD-4F68-8ABC-F3F66A380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3FC1B-0B10-4A9C-958F-6AE5B9CAF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BAB7-B4B9-47ED-98A2-D95A613DF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FCE1-64DC-4D44-B0EE-FC49C3CAD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C5CC-61BA-4A9F-9931-9DE709D9E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237D-EDEF-4D9D-8506-DE3AAADC3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9615-BEDB-4080-B5C8-2FBBD1252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8A44-444C-41A6-A9CA-E7FB6BDF0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309A-0321-4692-9929-E1EE23E63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4C5A-18E8-4C5D-A6AA-FE2769D354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B938-8DB4-445F-B14F-5AD28DC122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359B-7A17-49CF-AD23-363490D728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FFF6-AC8E-4B12-82F0-63153877D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FF0D-8F02-4D94-86EF-55B1441A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834A-AFBB-4E54-B404-41BBFCA3E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BE22-AE7C-4EC7-AF8E-6EA7E64501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B433-6F2D-44FE-8EF9-5B9DA8202F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BCE1-E78E-4D84-900B-3E6631D2C4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6FCD-ECA8-499C-932C-92F5AD09AA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01A-9970-450B-A449-938F619207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078-2833-42D0-A9FE-B0724136A3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C51-6020-4D44-9608-CDDF42CBEA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1B1-7567-4F2B-9A31-386B4DBC68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4D3-F47A-4F41-A25B-6A9959007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A28D-B973-40FB-B78A-1EFEB7B33B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A69-B823-4211-8B21-D39BC528DC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06A-E48C-48DE-8931-F4429120D1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428-C598-4106-949B-FE4E87FD02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C1F-D5F8-44FE-90BD-F9E58CEDAE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AA7-0E6F-4C88-8765-C2EA5D5B37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10D-9D14-445F-A72C-19FD2C1037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6E1-67DF-4073-B44F-8C494FA360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724FE-2F3F-4406-9F14-6FFA499EE1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8EA0C-05A2-431C-A8EA-3DA9D9D30E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DD7A0-998F-4F0D-B46E-378659FD7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E81A-BE0C-4EF0-8A9A-191386FA1F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5A78B-AF69-428F-83BB-0193C27AEE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9075-1727-4E6B-B2EB-9826326E92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DFFCF-482C-48B7-A90C-C013749830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F9DB4-9D18-498C-BD27-FE41963DC2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FECAB-13AF-40F7-B739-AC5157E912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6C4B8-E2F6-4D64-9AE2-FB98FB931D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0B46E-8D20-404F-8F2A-610E1FD0CC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A429D-DA0A-4B73-A59B-EE4BEEBBAF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36E18-E6DB-4712-8DB2-2A3B953AA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D439-013E-4CC2-AD05-8D05CCE4D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F569-885F-459D-B8D1-BEA2453FA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E778-D8DF-46C0-8026-EC4FADF4E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58EF-27FB-4C40-A3FB-DF2E3624E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595A-299E-48AB-838F-2B65DDBED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3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43BC0-C678-46E1-90B4-6CAF8B1E4A9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737FF-A184-4760-8ED7-64EB1D5F564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2FEB7-D10B-4C0E-B7D9-0CA362EFC8E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6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03175-BC40-4A87-B06B-974F512D8C5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BDB6A-07C7-4397-A7AC-AB3CA3E5CCF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1539000" y="250020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Ocean Color Radiometry Constell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DF3B0-2D13-4A1D-B026-04D33665FDA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ar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0" y="1357200"/>
            <a:ext cx="894888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Support towards the water-leaving radiance and chlorophyll-</a:t>
            </a:r>
            <a:r>
              <a:rPr b="0" i="1" lang="en-US" sz="1800" spc="-1" strike="noStrike">
                <a:solidFill>
                  <a:srgbClr val="002569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 concentration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52520" indent="-18576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OCCG established standing </a:t>
            </a: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CV Working Group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September 2011); at annual meeting (28 February – 1 March 2012) identified participants and initial tasks - Co-chairs Nicolas Hoepffner (JRC, Italy) &amp; Jim Yoder (WHOI, USA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4" marL="801720" indent="-174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nswer request from CEOS to evaluate ECVs; need for having this done in an independent, systematic and recurrent way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4" marL="801720" indent="-174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COS-compliant global OC ECV products are very valuable inputs for climate studies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52520" indent="-18576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national Network for Sensor InTercomparison and Uncertainty assessment for Ocean Color Radiometry (</a:t>
            </a: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SITU-OCR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4" marL="801720" indent="-174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certed inter-agency/international effort on activities relating to sensor inter-comparison and uncertainty assessment of datasets required for the OC ECV genera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4" marL="801720" indent="-174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-leads are Giuseppe Zibordi (JRC, Italy) &amp; Sean Bailey (NASA GSFC, USA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4" marL="801720" indent="-174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rst workshop for writing team February 2012 at NASA GSF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4" marL="801720" indent="-174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strategy/white paper April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52520" indent="-18576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ission Requirements for Future Ocean Color Sensors </a:t>
            </a: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– Level 1 requirements IOCCG report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(Draft) – comments due 31 March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52520" indent="-18576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national Ocean Color Science Team Meeting – targeted for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ounded Rectangle 2"/>
          <p:cNvSpPr/>
          <p:nvPr/>
        </p:nvSpPr>
        <p:spPr>
          <a:xfrm>
            <a:off x="1781280" y="2413080"/>
            <a:ext cx="6404040" cy="831600"/>
          </a:xfrm>
          <a:prstGeom prst="roundRect">
            <a:avLst>
              <a:gd name="adj" fmla="val 16667"/>
            </a:avLst>
          </a:prstGeom>
          <a:solidFill>
            <a:srgbClr val="aecbff"/>
          </a:solidFill>
          <a:ln w="126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OCCG Level 1 Requirements Report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9" name="Rounded Rectangle 4"/>
          <p:cNvSpPr/>
          <p:nvPr/>
        </p:nvSpPr>
        <p:spPr>
          <a:xfrm>
            <a:off x="1801800" y="3595680"/>
            <a:ext cx="6404040" cy="830160"/>
          </a:xfrm>
          <a:prstGeom prst="roundRect">
            <a:avLst>
              <a:gd name="adj" fmla="val 16667"/>
            </a:avLst>
          </a:prstGeom>
          <a:solidFill>
            <a:srgbClr val="aecbff"/>
          </a:solidFill>
          <a:ln w="126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nternational Network for Sensor Inter-comparison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and Uncertainty assessment (INSITU-OCR) 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Rounded Rectangle 5"/>
          <p:cNvSpPr/>
          <p:nvPr/>
        </p:nvSpPr>
        <p:spPr>
          <a:xfrm>
            <a:off x="1801800" y="4786200"/>
            <a:ext cx="2801880" cy="831960"/>
          </a:xfrm>
          <a:prstGeom prst="roundRect">
            <a:avLst>
              <a:gd name="adj" fmla="val 16667"/>
            </a:avLst>
          </a:prstGeom>
          <a:solidFill>
            <a:srgbClr val="aecbff"/>
          </a:solidFill>
          <a:ln w="126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OCCG Standing Working Group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on ECV Assessment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Rounded Rectangle 6"/>
          <p:cNvSpPr/>
          <p:nvPr/>
        </p:nvSpPr>
        <p:spPr>
          <a:xfrm>
            <a:off x="5353200" y="4786200"/>
            <a:ext cx="2801880" cy="831960"/>
          </a:xfrm>
          <a:prstGeom prst="roundRect">
            <a:avLst>
              <a:gd name="adj" fmla="val 16667"/>
            </a:avLst>
          </a:prstGeom>
          <a:solidFill>
            <a:srgbClr val="aecbff"/>
          </a:solidFill>
          <a:ln w="1260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Roadmap for sustained OCR-ECV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5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2" name="Down Arrow 7"/>
          <p:cNvSpPr/>
          <p:nvPr/>
        </p:nvSpPr>
        <p:spPr>
          <a:xfrm>
            <a:off x="3978360" y="5892840"/>
            <a:ext cx="1908000" cy="62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2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3" name="Down Arrow 9"/>
          <p:cNvSpPr/>
          <p:nvPr/>
        </p:nvSpPr>
        <p:spPr>
          <a:xfrm>
            <a:off x="3871800" y="1717560"/>
            <a:ext cx="1908360" cy="62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2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Left Brace 10"/>
          <p:cNvSpPr/>
          <p:nvPr/>
        </p:nvSpPr>
        <p:spPr>
          <a:xfrm>
            <a:off x="1089000" y="2413080"/>
            <a:ext cx="631800" cy="3205080"/>
          </a:xfrm>
          <a:custGeom>
            <a:avLst/>
            <a:gdLst>
              <a:gd name="textAreaLeft" fmla="*/ 403560 w 631800"/>
              <a:gd name="textAreaRight" fmla="*/ 632160 w 631800"/>
              <a:gd name="textAreaTop" fmla="*/ 16200 h 3205080"/>
              <a:gd name="textAreaBottom" fmla="*/ 3188880 h 32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-57600" y="344952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External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e.g. GCO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3578760" y="134460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OCR Sensing Capacit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3534480" y="651204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OCR Climate Data Record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Down Arrow 14"/>
          <p:cNvSpPr/>
          <p:nvPr/>
        </p:nvSpPr>
        <p:spPr>
          <a:xfrm>
            <a:off x="3968640" y="3265560"/>
            <a:ext cx="1908360" cy="31104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256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Down Arrow 15"/>
          <p:cNvSpPr/>
          <p:nvPr/>
        </p:nvSpPr>
        <p:spPr>
          <a:xfrm>
            <a:off x="3990960" y="4448160"/>
            <a:ext cx="1908360" cy="31104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256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0" name="Left-Right Arrow 16"/>
          <p:cNvSpPr/>
          <p:nvPr/>
        </p:nvSpPr>
        <p:spPr>
          <a:xfrm>
            <a:off x="4659480" y="4983120"/>
            <a:ext cx="631800" cy="439920"/>
          </a:xfrm>
          <a:prstGeom prst="leftRightArrow">
            <a:avLst>
              <a:gd name="adj1" fmla="val 50000"/>
              <a:gd name="adj2" fmla="val 49927"/>
            </a:avLst>
          </a:prstGeom>
          <a:solidFill>
            <a:srgbClr val="002569"/>
          </a:solidFill>
          <a:ln w="9360">
            <a:solidFill>
              <a:srgbClr val="0025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62256-BE02-4338-8510-27604282E22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a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0" y="1387440"/>
            <a:ext cx="908532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urrent status, known schedul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OCCG ECV working group – seven actions identified, including develop an ECV roadmap with milestones for completion of first assessment (2-year time frame, i.e. IOCCG in 2014), establish criteria to be satisfied by OCR ECV products and recommend actions needed to ensure quality/consistency required by GCOS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SITU-OCR white paper delivered April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ime series work/ECV work:  Individual funded efforts are ongoing within multiple agencies for radiance and chl a data sets (polar orbiters), e.g., OCTS, SeaWiFS, MODIS-Aqua, MERIS, OCM-2, Suomi NPP VIIR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ey players - ESA, Eumetsat, ISRO, JAXA, NASA, NOA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Programs - ESA CCI, NASA MEaSUREs, Instrument science team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Relevant budgets and resources in play - aforementioned list of program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Particular issues to no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ordination of individual efforts among agenc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mplementation of IOCCG Level 1 requirements report to ensure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SITU-OCR – experts know what to do and strategic planning underway, </a:t>
            </a:r>
            <a:r>
              <a:rPr b="0" lang="en-US" sz="1800" spc="-1" strike="noStrike" u="sng">
                <a:solidFill>
                  <a:srgbClr val="002569"/>
                </a:solidFill>
                <a:uFillTx/>
                <a:latin typeface="Arial"/>
                <a:ea typeface="ＭＳ Ｐゴシック"/>
              </a:rPr>
              <a:t>but will agencies support implementation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0F3B6-3168-43A4-8A89-BDCE470D68D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pportunities &amp; obstac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241200" y="1638360"/>
            <a:ext cx="854244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The role open for CEO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uld provide the framework to establish some basic requirements for ensuring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nable data exchange among CEOS agenc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vide framework to ensure resources for INSITU-OC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acilitate collaboration on different projects producing time series of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Approach, emphasis required by the VC/WG</a:t>
            </a:r>
            <a:r>
              <a:rPr b="0" lang="en-AU" sz="1800" spc="-1" strike="noStrike">
                <a:solidFill>
                  <a:srgbClr val="0025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VC needs to work with the CEOS agencies to agree on implementation of Level 1 requirements report to enable a long-term ocean color radiometry recor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VC needs to work with IOCCG on implementation of INSITU-OCR once strategic plan is complete and approv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27120" indent="-266760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OCCG ECV working group needs to review GCOS OC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13BB3-4FF3-4803-B245-3E522C64EAC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pportunities &amp; obstac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544680" y="1762200"/>
            <a:ext cx="81421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International Ocean Color Science Team Meet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unity listening session by IOCCG/OCR-VC – 23-25 April 2012 at the NASA Ocean Color Research Team Meeting (Seattle, WA, USA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unity listening session by IOCCG/OCR-VC – 3rd MERIS/(A)ATSR &amp; OLCI/SLSTR Preparatory Workshop, 15-19 October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CDF23-A4BA-4AF9-9FED-9DB02F30E34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pportunities &amp; obstac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544680" y="1762200"/>
            <a:ext cx="81421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spcAft>
                <a:spcPts val="201"/>
              </a:spcAft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Any issues for SIT &amp; Principals to help resolve in relation to the VC/W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having the potential to fulfill the proposed rol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Resolution of data exchange as no one agency can be expected to perpetuate ECVs 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as with the remote sensing data, the INSITU-OCR is a critical component to achieving ECVs; will the agencies agree to implement this also?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Need clearer understanding of how resources (</a:t>
            </a:r>
            <a:r>
              <a:rPr b="0" lang="en-US" sz="1800" spc="-1" strike="noStrike" u="sng">
                <a:solidFill>
                  <a:srgbClr val="002569"/>
                </a:solidFill>
                <a:uFillTx/>
                <a:latin typeface="Arial"/>
              </a:rPr>
              <a:t>financial and manpower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) may be forthcoming at individual CEOS-member agency level to support ocean color harmonization activit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69603-E52E-4729-ABC3-B822D0999AE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eeds &amp; issues for SIT atten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808560" y="1762200"/>
            <a:ext cx="7319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2569"/>
                </a:solidFill>
                <a:latin typeface="Arial"/>
              </a:rPr>
              <a:t>Skills, resourc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56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e previous slid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56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56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56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list particular concerns and issues that VCs/WGs wish to bring to</a:t>
            </a:r>
            <a:br>
              <a:rPr sz="1800"/>
            </a:b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the attention of SIT &amp; CEOS Principals in moving forward to support</a:t>
            </a:r>
            <a:br>
              <a:rPr sz="1800"/>
            </a:b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EOS implementation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56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e previous slides – particularly last two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1:10:37Z</dcterms:created>
  <dc:creator>Brian Killough</dc:creator>
  <dc:description/>
  <dc:language>en-US</dc:language>
  <cp:lastModifiedBy>Mark DOWELL</cp:lastModifiedBy>
  <dcterms:modified xsi:type="dcterms:W3CDTF">2012-04-15T10:35:21Z</dcterms:modified>
  <cp:revision>57</cp:revision>
  <dc:subject/>
  <dc:title>Title</dc:title>
</cp:coreProperties>
</file>