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woosh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85800" y="6248520"/>
            <a:ext cx="2272320" cy="368280"/>
            <a:chOff x="685800" y="6248520"/>
            <a:chExt cx="2272320" cy="368280"/>
          </a:xfrm>
        </p:grpSpPr>
        <p:sp>
          <p:nvSpPr>
            <p:cNvPr id="3" name=""/>
            <p:cNvSpPr/>
            <p:nvPr/>
          </p:nvSpPr>
          <p:spPr>
            <a:xfrm>
              <a:off x="1128600" y="6248520"/>
              <a:ext cx="18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900" spc="-1" strike="noStrike">
                  <a:solidFill>
                    <a:srgbClr val="000000"/>
                  </a:solidFill>
                  <a:latin typeface="Times New Roman"/>
                </a:rPr>
                <a:t>Agence spatiale</a:t>
              </a:r>
              <a:r>
                <a:rPr b="0" lang="en-CA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CA" sz="900" spc="-1" strike="noStrike">
                  <a:solidFill>
                    <a:srgbClr val="000000"/>
                  </a:solidFill>
                  <a:latin typeface="Times New Roman"/>
                </a:rPr>
                <a:t>Canadian Sp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900" spc="-1" strike="noStrike">
                  <a:solidFill>
                    <a:srgbClr val="000000"/>
                  </a:solidFill>
                  <a:latin typeface="Times New Roman"/>
                </a:rPr>
                <a:t>Canadienne</a:t>
              </a:r>
              <a:r>
                <a:rPr b="0" lang="en-CA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CA" sz="9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685800" y="6324840"/>
              <a:ext cx="442080" cy="234720"/>
              <a:chOff x="685800" y="6324840"/>
              <a:chExt cx="442080" cy="234720"/>
            </a:xfrm>
          </p:grpSpPr>
          <p:sp>
            <p:nvSpPr>
              <p:cNvPr id="5" name=""/>
              <p:cNvSpPr/>
              <p:nvPr/>
            </p:nvSpPr>
            <p:spPr>
              <a:xfrm>
                <a:off x="822240" y="6346800"/>
                <a:ext cx="168480" cy="190080"/>
              </a:xfrm>
              <a:custGeom>
                <a:avLst/>
                <a:gdLst/>
                <a:ahLst/>
                <a:rect l="l" t="t" r="r" b="b"/>
                <a:pathLst>
                  <a:path w="770" h="841">
                    <a:moveTo>
                      <a:pt x="0" y="470"/>
                    </a:moveTo>
                    <a:lnTo>
                      <a:pt x="208" y="617"/>
                    </a:lnTo>
                    <a:lnTo>
                      <a:pt x="215" y="634"/>
                    </a:lnTo>
                    <a:lnTo>
                      <a:pt x="206" y="647"/>
                    </a:lnTo>
                    <a:lnTo>
                      <a:pt x="180" y="677"/>
                    </a:lnTo>
                    <a:lnTo>
                      <a:pt x="357" y="637"/>
                    </a:lnTo>
                    <a:lnTo>
                      <a:pt x="370" y="637"/>
                    </a:lnTo>
                    <a:lnTo>
                      <a:pt x="371" y="841"/>
                    </a:lnTo>
                    <a:lnTo>
                      <a:pt x="396" y="841"/>
                    </a:lnTo>
                    <a:lnTo>
                      <a:pt x="396" y="637"/>
                    </a:lnTo>
                    <a:lnTo>
                      <a:pt x="409" y="637"/>
                    </a:lnTo>
                    <a:lnTo>
                      <a:pt x="589" y="677"/>
                    </a:lnTo>
                    <a:lnTo>
                      <a:pt x="567" y="647"/>
                    </a:lnTo>
                    <a:lnTo>
                      <a:pt x="560" y="631"/>
                    </a:lnTo>
                    <a:lnTo>
                      <a:pt x="563" y="614"/>
                    </a:lnTo>
                    <a:lnTo>
                      <a:pt x="770" y="470"/>
                    </a:lnTo>
                    <a:lnTo>
                      <a:pt x="731" y="463"/>
                    </a:lnTo>
                    <a:lnTo>
                      <a:pt x="711" y="450"/>
                    </a:lnTo>
                    <a:lnTo>
                      <a:pt x="708" y="423"/>
                    </a:lnTo>
                    <a:lnTo>
                      <a:pt x="715" y="400"/>
                    </a:lnTo>
                    <a:lnTo>
                      <a:pt x="767" y="301"/>
                    </a:lnTo>
                    <a:lnTo>
                      <a:pt x="679" y="325"/>
                    </a:lnTo>
                    <a:lnTo>
                      <a:pt x="653" y="320"/>
                    </a:lnTo>
                    <a:lnTo>
                      <a:pt x="638" y="303"/>
                    </a:lnTo>
                    <a:lnTo>
                      <a:pt x="623" y="238"/>
                    </a:lnTo>
                    <a:lnTo>
                      <a:pt x="515" y="325"/>
                    </a:lnTo>
                    <a:lnTo>
                      <a:pt x="499" y="335"/>
                    </a:lnTo>
                    <a:lnTo>
                      <a:pt x="503" y="319"/>
                    </a:lnTo>
                    <a:lnTo>
                      <a:pt x="534" y="111"/>
                    </a:lnTo>
                    <a:lnTo>
                      <a:pt x="493" y="141"/>
                    </a:lnTo>
                    <a:lnTo>
                      <a:pt x="470" y="148"/>
                    </a:lnTo>
                    <a:lnTo>
                      <a:pt x="449" y="142"/>
                    </a:lnTo>
                    <a:lnTo>
                      <a:pt x="432" y="125"/>
                    </a:lnTo>
                    <a:lnTo>
                      <a:pt x="386" y="0"/>
                    </a:lnTo>
                    <a:lnTo>
                      <a:pt x="344" y="125"/>
                    </a:lnTo>
                    <a:lnTo>
                      <a:pt x="325" y="149"/>
                    </a:lnTo>
                    <a:lnTo>
                      <a:pt x="299" y="144"/>
                    </a:lnTo>
                    <a:lnTo>
                      <a:pt x="273" y="135"/>
                    </a:lnTo>
                    <a:lnTo>
                      <a:pt x="236" y="108"/>
                    </a:lnTo>
                    <a:lnTo>
                      <a:pt x="265" y="309"/>
                    </a:lnTo>
                    <a:lnTo>
                      <a:pt x="264" y="329"/>
                    </a:lnTo>
                    <a:lnTo>
                      <a:pt x="244" y="316"/>
                    </a:lnTo>
                    <a:lnTo>
                      <a:pt x="150" y="235"/>
                    </a:lnTo>
                    <a:lnTo>
                      <a:pt x="135" y="306"/>
                    </a:lnTo>
                    <a:lnTo>
                      <a:pt x="119" y="320"/>
                    </a:lnTo>
                    <a:lnTo>
                      <a:pt x="100" y="322"/>
                    </a:lnTo>
                    <a:lnTo>
                      <a:pt x="11" y="307"/>
                    </a:lnTo>
                    <a:lnTo>
                      <a:pt x="58" y="400"/>
                    </a:lnTo>
                    <a:lnTo>
                      <a:pt x="61" y="428"/>
                    </a:lnTo>
                    <a:lnTo>
                      <a:pt x="61" y="453"/>
                    </a:lnTo>
                    <a:lnTo>
                      <a:pt x="48" y="463"/>
                    </a:lnTo>
                    <a:lnTo>
                      <a:pt x="0" y="47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685800" y="6324840"/>
                <a:ext cx="442080" cy="234720"/>
                <a:chOff x="685800" y="6324840"/>
                <a:chExt cx="442080" cy="234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685800" y="6324840"/>
                  <a:ext cx="119520" cy="234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008360" y="6324840"/>
                  <a:ext cx="119520" cy="234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" name=""/>
          <p:cNvSpPr/>
          <p:nvPr/>
        </p:nvSpPr>
        <p:spPr>
          <a:xfrm>
            <a:off x="5257800" y="62485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CEOS Working Group on Calibration &amp; Validation (WGCV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23rd Meeting, Cordoba, Argentina</a:t>
            </a:r>
            <a:r>
              <a:rPr b="0" lang="en-CA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096080" y="6477120"/>
            <a:ext cx="91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6B6E85-7C4C-4C7F-A6C0-BBF853AF598A}" type="slidenum"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%20ASC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" name="ceos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1828800" cy="66024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ace.gc.ca/asc/img/soar_rollup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Dr. Satish Srivast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CSA Member - WG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Canadian Space Ag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5240" y="1219320"/>
            <a:ext cx="705312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CSA Report on Earth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Presented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23</a:t>
            </a:r>
            <a:r>
              <a:rPr b="1" lang="en-CA" sz="2000" spc="-1" strike="noStrike" baseline="30000">
                <a:solidFill>
                  <a:srgbClr val="3333cc"/>
                </a:solidFill>
                <a:latin typeface="Tahoma"/>
                <a:ea typeface="Times New Roman"/>
              </a:rPr>
              <a:t>rd</a:t>
            </a:r>
            <a:r>
              <a:rPr b="1" lang="en-CA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CEOS WGCV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Cordoba,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March 7-10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cc"/>
                </a:solidFill>
                <a:latin typeface="Tahoma"/>
              </a:rPr>
              <a:t>International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600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RADARSAT-2 – Science and Operational Applications Research (SOAR) data access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Open to Academia, Industry and Government to develop new applications with RADARSAT-2 enhanced m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Submission for Letters of Interest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Visit website  </a:t>
            </a:r>
            <a:r>
              <a:rPr b="1" lang="en-CA" sz="1800" spc="-1" strike="noStrike">
                <a:solidFill>
                  <a:srgbClr val="ff3300"/>
                </a:solidFill>
                <a:latin typeface="Tahoma"/>
              </a:rPr>
              <a:t>http://RADARSAT2.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oar_rollup_thum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371600"/>
            <a:ext cx="1676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cc"/>
                </a:solidFill>
                <a:latin typeface="Tahoma"/>
              </a:rPr>
              <a:t>New &amp; Ongoing 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Scisat-1 and the Atmospheric Chemistry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MOPI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T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T on NASA's TERRA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CSA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's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payload on NASA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's CloudSat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cc"/>
                </a:solidFill>
                <a:latin typeface="Tahoma"/>
              </a:rPr>
              <a:t>RADARSAT Program</a:t>
            </a:r>
            <a:r>
              <a:rPr b="1" lang="fr-CA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123720" y="22093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RADARSAT-1 launched in 1995, is still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operational </a:t>
            </a:r>
            <a:r>
              <a:rPr b="1" lang="en-CA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for the last 9 years, stretching its 5 year design mission l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RADARSAT-2 scheduled for launch in Dec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RADARSAT-3 SmallSat SAR constell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SAT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8600" y="2209680"/>
            <a:ext cx="28195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</a:rPr>
              <a:t>RADARSAT-1 Program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Completed successfully 5.25 years of design life in early 2001, presently in extended 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Data received and processed at 29 ground stations with 19 archive facilities glob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As of January 31 2005, completed 48,252 orbits, planned 199,103 user requests (Cdn. Govt. = 80,635, US Govt. = 68,089, RSI = 50,379) corresponding to a total acquisition of 356,529 minutes of SAR data (Cdn. Govt. = 136,933, US Govt. = 161,774, RSI = 57,82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Average system performance maintained better than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Image quality and calibration maintained better than system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As a member of International Charter Space and Major Disasters, provided SAR data fo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out 50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Charter emergencies to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</a:rPr>
              <a:t>RADARSAT-1 Program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Multiple coverage campaigns completed under baseline Background Mission, including: multi-season ScanSAR coverage of continents and polar caps; radargrammetric coverage of world's landmass using two independent imaging beams; site-specific data acquisitions of most of the world's remote oceanic islands, tropical deltas, capitals and major cities. Currently providing ongoing four-season coverage of Arctic B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Spacecraft health and resource utilization appear to indicate a continuation of operations until RADARSAT-2 becomes operational in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Program has met the mission objectives and continues to establish new bench-marks of excellence and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66ff"/>
                </a:solidFill>
                <a:latin typeface="Times New Roman"/>
              </a:rPr>
              <a:t>Long-term Vision – SAR Continuity 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5715000"/>
          <a:ext cx="8686800" cy="380880"/>
        </p:xfrm>
        <a:graphic>
          <a:graphicData uri="http://schemas.openxmlformats.org/drawingml/2006/table">
            <a:tbl>
              <a:tblPr/>
              <a:tblGrid>
                <a:gridCol w="579240"/>
                <a:gridCol w="579600"/>
                <a:gridCol w="577800"/>
                <a:gridCol w="579240"/>
                <a:gridCol w="579600"/>
                <a:gridCol w="579600"/>
                <a:gridCol w="579240"/>
                <a:gridCol w="577800"/>
                <a:gridCol w="579600"/>
                <a:gridCol w="579240"/>
                <a:gridCol w="579600"/>
                <a:gridCol w="579240"/>
                <a:gridCol w="578160"/>
                <a:gridCol w="579240"/>
                <a:gridCol w="579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066680" y="3429000"/>
            <a:ext cx="3657600" cy="380880"/>
          </a:xfrm>
          <a:prstGeom prst="rightArrow">
            <a:avLst>
              <a:gd name="adj1" fmla="val 39583"/>
              <a:gd name="adj2" fmla="val 101543"/>
            </a:avLst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RSAT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962520"/>
            <a:ext cx="3809880" cy="380880"/>
          </a:xfrm>
          <a:prstGeom prst="rightArrow">
            <a:avLst>
              <a:gd name="adj1" fmla="val 43750"/>
              <a:gd name="adj2" fmla="val 109383"/>
            </a:avLst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SS-1 &amp;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4572000"/>
            <a:ext cx="4419720" cy="380880"/>
          </a:xfrm>
          <a:prstGeom prst="rightArrow">
            <a:avLst>
              <a:gd name="adj1" fmla="val 43750"/>
              <a:gd name="adj2" fmla="val 126891"/>
            </a:avLst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SS-3 &amp;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5181480"/>
            <a:ext cx="3886200" cy="304920"/>
          </a:xfrm>
          <a:prstGeom prst="rightArrow">
            <a:avLst>
              <a:gd name="adj1" fmla="val 50000"/>
              <a:gd name="adj2" fmla="val 318625"/>
            </a:avLst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SSS-5 &amp;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481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RSAT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1371600"/>
            <a:ext cx="464832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Constellation of 6 satellites (SSS-1 to 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5 year develop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2 satellites launched every 2 yea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</a:rPr>
              <a:t>SAR Conste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cc"/>
                </a:solidFill>
                <a:latin typeface="Tahoma"/>
              </a:rPr>
              <a:t>NEW MISSIONS IN PLANNING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880" y="1752480"/>
            <a:ext cx="8410320" cy="28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SWIFT (Stratospheric Wind Interferometer for transport Studies) 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HYDR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Enhanced Polar Outflow Probe (eP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Hyperspectral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cc"/>
                </a:solidFill>
                <a:latin typeface="Tahoma"/>
              </a:rPr>
              <a:t>International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640" y="1600200"/>
            <a:ext cx="820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CEOS as member since its 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Canada – ESA   25 years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Canada –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MOU  CSA – CCRS - Chinese Academy of Sciences (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MOU  CSA – CCRS – Institute of Remote Sensing Applications (IR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Canada – No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Canada – Fin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cc"/>
                </a:solidFill>
                <a:latin typeface="Tahoma"/>
              </a:rPr>
              <a:t>International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600200"/>
            <a:ext cx="72388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Canada – ESA  TI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CSA announced recently in Pretoria, South A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Up to 7 Canadian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333cc"/>
                </a:solidFill>
                <a:latin typeface="Tahoma"/>
              </a:rPr>
              <a:t>Total value: $3.5 Million C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1905120"/>
          <a:ext cx="120960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120960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15:26:39Z</dcterms:created>
  <dc:creator>mfarhat</dc:creator>
  <dc:description/>
  <dc:language>en-US</dc:language>
  <cp:lastModifiedBy>ssrivastava</cp:lastModifiedBy>
  <dcterms:modified xsi:type="dcterms:W3CDTF">2005-03-08T19:52:10Z</dcterms:modified>
  <cp:revision>144</cp:revision>
  <dc:subject/>
  <dc:title> Towards Fuller Extraction and Utilization of  SAR Imagery Information Content </dc:title>
</cp:coreProperties>
</file>