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4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14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38.wmf" ContentType="image/x-wmf"/>
  <Override PartName="/ppt/media/image39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0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0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34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065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70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34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03440" y="2285640"/>
            <a:ext cx="7737120" cy="529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0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0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34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65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0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34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03440" y="2285640"/>
            <a:ext cx="7737120" cy="529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0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025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2f8b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057040"/>
            <a:ext cx="7182000" cy="41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362f8b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62f8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362f8b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362f8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362f8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04280" y="6508800"/>
            <a:ext cx="26791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00"/>
                </a:solidFill>
                <a:latin typeface="Arial"/>
              </a:rPr>
              <a:t>Working Group on Calibration &amp; Validation-23</a:t>
            </a:r>
            <a:endParaRPr b="0" lang="en-US" sz="9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15200" y="6286680"/>
            <a:ext cx="165744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2f8b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41" name=""/>
          <p:cNvSpPr/>
          <p:nvPr/>
        </p:nvSpPr>
        <p:spPr>
          <a:xfrm>
            <a:off x="498600" y="1295280"/>
            <a:ext cx="8556480" cy="0"/>
          </a:xfrm>
          <a:prstGeom prst="line">
            <a:avLst/>
          </a:prstGeom>
          <a:ln w="50760">
            <a:solidFill>
              <a:srgbClr val="362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5640" y="1371600"/>
            <a:ext cx="8580600" cy="0"/>
          </a:xfrm>
          <a:prstGeom prst="line">
            <a:avLst/>
          </a:prstGeom>
          <a:ln w="25560">
            <a:solidFill>
              <a:srgbClr val="362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3520" y="6383160"/>
            <a:ext cx="314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Working Group on Calibration and Validation - 23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315200" y="6286680"/>
            <a:ext cx="1657440" cy="57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362f8b"/>
              </a:buClr>
              <a:buSzPct val="75000"/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362f8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362f8b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o.org/gtos/TCO.html" TargetMode="External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82710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2f8b"/>
                </a:solidFill>
                <a:latin typeface="Arial Black"/>
              </a:rPr>
              <a:t>Land Product Validation Core Sites</a:t>
            </a:r>
            <a:br>
              <a:rPr sz="3600"/>
            </a:br>
            <a:br>
              <a:rPr sz="1800"/>
            </a:br>
            <a:r>
              <a:rPr b="0" lang="en-US" sz="2800" spc="-1" strike="noStrike">
                <a:solidFill>
                  <a:srgbClr val="362f8b"/>
                </a:solidFill>
                <a:latin typeface="Arial Black"/>
              </a:rPr>
              <a:t>Status Report and Future Plans</a:t>
            </a:r>
            <a:br>
              <a:rPr sz="2800"/>
            </a:br>
            <a:endParaRPr b="0" lang="en-US" sz="28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32448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John Dwyer USGS/National Center – EROS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Dwyer@usgs.gov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Jeff Morisette NASA/GSFC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Jeff.Morisette@nasa.gov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ttp://edcsgs16.cr.usgs.gov/wgiss/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0160" y="198360"/>
            <a:ext cx="779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2f8b"/>
                </a:solidFill>
                <a:latin typeface="Arial"/>
              </a:rPr>
              <a:t>CEOS WGISS Test Facility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316640" cy="1600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62120" y="2819520"/>
            <a:ext cx="7315200" cy="2146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28800" y="1981080"/>
            <a:ext cx="304920" cy="257400"/>
          </a:xfrm>
          <a:prstGeom prst="leftArrow">
            <a:avLst>
              <a:gd name="adj1" fmla="val 50000"/>
              <a:gd name="adj2" fmla="val 29615"/>
            </a:avLst>
          </a:pr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317000" cy="2066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38080" y="2666880"/>
            <a:ext cx="7315200" cy="1828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87120" y="4572000"/>
            <a:ext cx="7235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Single multi-band ENVI file, BSQ forma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Each band corresponds to a bimonthly composite perio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Header file contain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Number of lines &amp; sampl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Datatyp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Projection inform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2057400"/>
            <a:ext cx="304920" cy="257040"/>
          </a:xfrm>
          <a:prstGeom prst="leftArrow">
            <a:avLst>
              <a:gd name="adj1" fmla="val 50000"/>
              <a:gd name="adj2" fmla="val 29657"/>
            </a:avLst>
          </a:pr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90720" y="457200"/>
            <a:ext cx="7354800" cy="2247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990720" y="2971800"/>
            <a:ext cx="7315200" cy="1401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990720" y="4648320"/>
            <a:ext cx="7467480" cy="1414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90920" y="2057400"/>
            <a:ext cx="304560" cy="257040"/>
          </a:xfrm>
          <a:prstGeom prst="leftArrow">
            <a:avLst>
              <a:gd name="adj1" fmla="val 50000"/>
              <a:gd name="adj2" fmla="val 29622"/>
            </a:avLst>
          </a:pr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380880"/>
            <a:ext cx="5105160" cy="2773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286000" y="3276720"/>
            <a:ext cx="5257800" cy="2857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7960" y="14479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2f8b"/>
                </a:solidFill>
                <a:latin typeface="Arial"/>
                <a:ea typeface="Arial"/>
              </a:rPr>
              <a:t>MERI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2f8b"/>
                </a:solidFill>
                <a:latin typeface="Arial"/>
                <a:ea typeface="Arial"/>
              </a:rPr>
              <a:t>Level-1b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0240" y="4419720"/>
            <a:ext cx="123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2f8b"/>
                </a:solidFill>
                <a:latin typeface="Arial"/>
                <a:ea typeface="Arial"/>
              </a:rPr>
              <a:t>MERI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2f8b"/>
                </a:solidFill>
                <a:latin typeface="Arial"/>
                <a:ea typeface="Arial"/>
              </a:rPr>
              <a:t>Level-2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7772400" cy="4995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72200" y="4952880"/>
            <a:ext cx="304920" cy="257400"/>
          </a:xfrm>
          <a:prstGeom prst="leftArrow">
            <a:avLst>
              <a:gd name="adj1" fmla="val 50000"/>
              <a:gd name="adj2" fmla="val 29615"/>
            </a:avLst>
          </a:pr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240680" cy="3152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914400" y="3657600"/>
            <a:ext cx="7238880" cy="28130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456480" y="2438280"/>
            <a:ext cx="30492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5867280"/>
            <a:ext cx="304920" cy="257400"/>
          </a:xfrm>
          <a:prstGeom prst="leftArrow">
            <a:avLst>
              <a:gd name="adj1" fmla="val 50000"/>
              <a:gd name="adj2" fmla="val 29615"/>
            </a:avLst>
          </a:pr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516800" cy="3562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838080" y="4267080"/>
            <a:ext cx="7543800" cy="1484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848720" y="5334120"/>
            <a:ext cx="304560" cy="257040"/>
          </a:xfrm>
          <a:prstGeom prst="leftArrow">
            <a:avLst>
              <a:gd name="adj1" fmla="val 50000"/>
              <a:gd name="adj2" fmla="val 29622"/>
            </a:avLst>
          </a:pr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025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2f8b"/>
                </a:solidFill>
                <a:latin typeface="Arial Black"/>
              </a:rPr>
              <a:t>Re-Projection Tool Results</a:t>
            </a: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2920320" y="1600200"/>
            <a:ext cx="46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2f8b"/>
                </a:solidFill>
                <a:latin typeface="Arial"/>
                <a:ea typeface="Arial"/>
              </a:rPr>
              <a:t>Boreas Test Site - MODIS data in the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2f8b"/>
                </a:solidFill>
                <a:latin typeface="Arial"/>
                <a:ea typeface="Arial"/>
              </a:rPr>
              <a:t>Integerized Sinusoidal (ISIN) Projec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5080" y="5715000"/>
            <a:ext cx="88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2f8b"/>
                </a:solidFill>
                <a:latin typeface="Arial"/>
                <a:ea typeface="Arial"/>
              </a:rPr>
              <a:t>Boreas MODIS data re-projected from ISIN to Universal Transverse Mercato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2667240" cy="2590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200400" y="3276720"/>
            <a:ext cx="5703840" cy="238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47920" y="243000"/>
            <a:ext cx="5790960" cy="2119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47920" y="2362320"/>
            <a:ext cx="5790960" cy="247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447920" y="4800600"/>
            <a:ext cx="5790960" cy="137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14400" y="152280"/>
            <a:ext cx="7500960" cy="6008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37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2f8b"/>
                </a:solidFill>
                <a:latin typeface="Arial Black"/>
              </a:rPr>
              <a:t>Outline</a:t>
            </a: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8960" y="182844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90440" indent="-190440">
              <a:lnSpc>
                <a:spcPct val="70000"/>
              </a:lnSpc>
              <a:spcBef>
                <a:spcPts val="2100"/>
              </a:spcBef>
              <a:buClr>
                <a:srgbClr val="362f8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2f8b"/>
                </a:solidFill>
                <a:latin typeface="Arial"/>
              </a:rPr>
              <a:t>Goals and objectives of the WTF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190440" indent="-190440">
              <a:lnSpc>
                <a:spcPct val="70000"/>
              </a:lnSpc>
              <a:spcBef>
                <a:spcPts val="2100"/>
              </a:spcBef>
              <a:buClr>
                <a:srgbClr val="362f8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2f8b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62f8b"/>
                </a:solidFill>
                <a:latin typeface="Arial"/>
              </a:rPr>
              <a:t>Walk-through” of the WTF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190440" indent="-190440">
              <a:lnSpc>
                <a:spcPct val="70000"/>
              </a:lnSpc>
              <a:spcBef>
                <a:spcPts val="2100"/>
              </a:spcBef>
              <a:buClr>
                <a:srgbClr val="362f8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2f8b"/>
                </a:solidFill>
                <a:latin typeface="Arial"/>
              </a:rPr>
              <a:t>Examples of products and servic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190440" indent="-190440">
              <a:lnSpc>
                <a:spcPct val="70000"/>
              </a:lnSpc>
              <a:spcBef>
                <a:spcPts val="2100"/>
              </a:spcBef>
              <a:buClr>
                <a:srgbClr val="362f8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2f8b"/>
                </a:solidFill>
                <a:latin typeface="Arial"/>
              </a:rPr>
              <a:t>Illustration of science relevanc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190440" indent="-190440">
              <a:lnSpc>
                <a:spcPct val="70000"/>
              </a:lnSpc>
              <a:spcBef>
                <a:spcPts val="2100"/>
              </a:spcBef>
              <a:buClr>
                <a:srgbClr val="362f8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2f8b"/>
                </a:solidFill>
                <a:latin typeface="Arial"/>
              </a:rPr>
              <a:t>Summary of sites and data set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190440" indent="-190440">
              <a:lnSpc>
                <a:spcPct val="70000"/>
              </a:lnSpc>
              <a:spcBef>
                <a:spcPts val="2100"/>
              </a:spcBef>
              <a:buClr>
                <a:srgbClr val="362f8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2f8b"/>
                </a:solidFill>
                <a:latin typeface="Arial"/>
              </a:rPr>
              <a:t>Future plan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190440" indent="-190440">
              <a:lnSpc>
                <a:spcPct val="70000"/>
              </a:lnSpc>
              <a:spcBef>
                <a:spcPts val="2100"/>
              </a:spcBef>
              <a:buClr>
                <a:srgbClr val="362f8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2f8b"/>
                </a:solidFill>
                <a:latin typeface="Arial"/>
              </a:rPr>
              <a:t>Discuss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057400" y="152280"/>
            <a:ext cx="4822920" cy="6248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6781680" cy="595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599320" cy="5505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42920" y="685800"/>
            <a:ext cx="8924760" cy="5019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8825040" cy="50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362320" y="152280"/>
            <a:ext cx="5217840" cy="6096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36080" y="2017800"/>
            <a:ext cx="221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2f8b"/>
                </a:solidFill>
                <a:latin typeface="Arial"/>
              </a:rPr>
              <a:t>Puget Sound Lida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2f8b"/>
                </a:solidFill>
                <a:latin typeface="Arial"/>
              </a:rPr>
              <a:t>Spatial resolu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2f8b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62f8b"/>
                </a:solidFill>
                <a:latin typeface="Arial"/>
              </a:rPr>
              <a:t>6 fee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2f8b"/>
                </a:solidFill>
                <a:latin typeface="Arial"/>
              </a:rPr>
              <a:t>Vertical accuracy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2f8b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62f8b"/>
                </a:solidFill>
                <a:latin typeface="Arial"/>
              </a:rPr>
              <a:t>13-17 cm RMS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57200" y="838080"/>
          <a:ext cx="8245440" cy="581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838080"/>
                    <a:ext cx="8245440" cy="5810400"/>
                  </a:xfrm>
                  <a:prstGeom prst="rect">
                    <a:avLst/>
                  </a:prstGeom>
                  <a:ln w="28440">
                    <a:solidFill>
                      <a:srgbClr val="063de8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62f8b"/>
                </a:solidFill>
                <a:latin typeface="Arial Black"/>
              </a:rPr>
              <a:t>NDVI time series for Harvard Forest LTER </a:t>
            </a:r>
            <a:endParaRPr b="0" lang="en-US" sz="26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229600" y="2895120"/>
            <a:ext cx="0" cy="1143000"/>
          </a:xfrm>
          <a:prstGeom prst="line">
            <a:avLst/>
          </a:prstGeom>
          <a:ln w="93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200400"/>
            <a:ext cx="1981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066680" y="2895120"/>
            <a:ext cx="6172200" cy="1143000"/>
          </a:xfrm>
          <a:prstGeom prst="line">
            <a:avLst/>
          </a:prstGeom>
          <a:ln w="93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70120" y="6172200"/>
            <a:ext cx="383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Year: close up 2000 - 2004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457200" y="838080"/>
          <a:ext cx="8245440" cy="581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838080"/>
                    <a:ext cx="8245440" cy="5810400"/>
                  </a:xfrm>
                  <a:prstGeom prst="rect">
                    <a:avLst/>
                  </a:prstGeom>
                  <a:ln w="28440">
                    <a:solidFill>
                      <a:srgbClr val="063de8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 flipV="1">
            <a:off x="8229600" y="2895120"/>
            <a:ext cx="0" cy="1143000"/>
          </a:xfrm>
          <a:prstGeom prst="line">
            <a:avLst/>
          </a:prstGeom>
          <a:ln w="93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3200400"/>
            <a:ext cx="1981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066680" y="2895120"/>
            <a:ext cx="6172200" cy="1143000"/>
          </a:xfrm>
          <a:prstGeom prst="line">
            <a:avLst/>
          </a:prstGeom>
          <a:ln w="93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70120" y="6172200"/>
            <a:ext cx="383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Year: close up 2000 - 2004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33920" y="4114800"/>
            <a:ext cx="228600" cy="762120"/>
          </a:xfrm>
          <a:prstGeom prst="ellipse">
            <a:avLst/>
          </a:prstGeom>
          <a:noFill/>
          <a:ln w="2844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9320" y="-114840"/>
            <a:ext cx="770256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62f8b"/>
                </a:solidFill>
                <a:latin typeface="Arial Black"/>
              </a:rPr>
              <a:t>NDVI time series for Harvard Forest LTER </a:t>
            </a:r>
            <a:endParaRPr b="0" lang="en-US" sz="2600" spc="-1" strike="noStrike">
              <a:solidFill>
                <a:srgbClr val="362f8b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2743200" y="228600"/>
            <a:ext cx="5943600" cy="5943600"/>
          </a:xfrm>
          <a:prstGeom prst="rect">
            <a:avLst/>
          </a:prstGeom>
          <a:ln w="28440">
            <a:solidFill>
              <a:srgbClr val="063de8"/>
            </a:solidFill>
            <a:miter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0" y="1860480"/>
          <a:ext cx="4572000" cy="365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60480"/>
                    <a:ext cx="4572000" cy="3651480"/>
                  </a:xfrm>
                  <a:prstGeom prst="rect">
                    <a:avLst/>
                  </a:prstGeom>
                  <a:ln w="28440">
                    <a:solidFill>
                      <a:srgbClr val="063de8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4648320" y="1854360"/>
          <a:ext cx="4495680" cy="366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1854360"/>
                    <a:ext cx="4495680" cy="3660480"/>
                  </a:xfrm>
                  <a:prstGeom prst="rect">
                    <a:avLst/>
                  </a:prstGeom>
                  <a:ln w="28440">
                    <a:solidFill>
                      <a:srgbClr val="063de8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2f8b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362f8b"/>
                </a:solidFill>
                <a:latin typeface="Arial Black"/>
              </a:rPr>
              <a:t>Difference” analysis: Harvard</a:t>
            </a: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5759280" y="1905120"/>
            <a:ext cx="2851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Autocorrelation func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83320" y="5149800"/>
            <a:ext cx="2851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Arial"/>
              </a:rPr>
              <a:t>Lag (in months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82720" y="5181480"/>
            <a:ext cx="2851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Arial"/>
              </a:rPr>
              <a:t>Years (1998 – 2004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905120"/>
            <a:ext cx="4114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NDVI Difference: SPOT - AVHR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2200" y="563868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difference is 0.027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3733920"/>
            <a:ext cx="3809880" cy="0"/>
          </a:xfrm>
          <a:prstGeom prst="line">
            <a:avLst/>
          </a:prstGeom>
          <a:ln w="93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6840" y="563868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½ and 1 year lag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1752480"/>
          <a:ext cx="9144000" cy="3678480"/>
        </p:xfrm>
        <a:graphic>
          <a:graphicData uri="http://schemas.openxmlformats.org/drawingml/2006/table">
            <a:tbl>
              <a:tblPr/>
              <a:tblGrid>
                <a:gridCol w="1600200"/>
                <a:gridCol w="685800"/>
                <a:gridCol w="838080"/>
                <a:gridCol w="838440"/>
                <a:gridCol w="761760"/>
                <a:gridCol w="609840"/>
                <a:gridCol w="763560"/>
                <a:gridCol w="836640"/>
                <a:gridCol w="725400"/>
                <a:gridCol w="743040"/>
                <a:gridCol w="741240"/>
              </a:tblGrid>
              <a:tr h="627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ETM+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MODIS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ASTER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SRTM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NED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Lidar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AVHRR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SPOT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VEG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MERIS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CHRIS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Barton Bendish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Boreas North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O 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Harvard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Mongu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Puget Sound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Link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Railroad Valley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Southwest Amazon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Uardry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62f8b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1570320" y="533520"/>
            <a:ext cx="63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2f8b"/>
                </a:solidFill>
                <a:latin typeface="Arial Black"/>
                <a:ea typeface="Arial"/>
              </a:rPr>
              <a:t>Current WTF Sites and Data Set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080" y="5659560"/>
            <a:ext cx="2187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62f8b"/>
                </a:solidFill>
                <a:latin typeface="Arial"/>
              </a:rPr>
              <a:t>X = data at USGS/EROS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62f8b"/>
                </a:solidFill>
                <a:latin typeface="Arial"/>
              </a:rPr>
              <a:t>O = “distributed data”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37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2f8b"/>
                </a:solidFill>
                <a:latin typeface="Arial Black"/>
              </a:rPr>
              <a:t>WTF Goals and Objectives</a:t>
            </a: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8960" y="152352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90440" indent="-190440">
              <a:lnSpc>
                <a:spcPct val="70000"/>
              </a:lnSpc>
              <a:spcBef>
                <a:spcPts val="675"/>
              </a:spcBef>
              <a:buClr>
                <a:srgbClr val="362f8b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2f8b"/>
                </a:solidFill>
                <a:latin typeface="Arial"/>
              </a:rPr>
              <a:t>Establish linkages between site data archives to facilitate improved product access and knowledge assessments of the long-term stability and interoperability to address the challenges of the Terrestrial Carbon Observation (TCO) theme. </a:t>
            </a:r>
            <a:r>
              <a:rPr b="1" lang="en-US" sz="1800" spc="-1" strike="noStrike" u="sng">
                <a:solidFill>
                  <a:srgbClr val="f57b49"/>
                </a:solidFill>
                <a:uFillTx/>
                <a:latin typeface="Arial"/>
                <a:hlinkClick r:id="rId2"/>
              </a:rPr>
              <a:t>http://www.fao.org/gtos/TCO.html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1904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190440" indent="-190440">
              <a:lnSpc>
                <a:spcPct val="70000"/>
              </a:lnSpc>
              <a:spcBef>
                <a:spcPts val="675"/>
              </a:spcBef>
              <a:buClr>
                <a:srgbClr val="362f8b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2f8b"/>
                </a:solidFill>
                <a:latin typeface="Arial"/>
              </a:rPr>
              <a:t>Ramp-up validation efforts, leveraging off of the infrastructure and protocols developed through existing site activities, to include a more comprehensive sampling of Earth’s ecosystem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1904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190440" indent="-190440">
              <a:lnSpc>
                <a:spcPct val="70000"/>
              </a:lnSpc>
              <a:spcBef>
                <a:spcPts val="675"/>
              </a:spcBef>
              <a:buClr>
                <a:srgbClr val="362f8b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2f8b"/>
                </a:solidFill>
                <a:latin typeface="Arial"/>
              </a:rPr>
              <a:t>Address science questions suitable for combined field and multi-resolution data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1904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190440" indent="-190440">
              <a:lnSpc>
                <a:spcPct val="70000"/>
              </a:lnSpc>
              <a:spcBef>
                <a:spcPts val="675"/>
              </a:spcBef>
              <a:buClr>
                <a:srgbClr val="362f8b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2f8b"/>
                </a:solidFill>
                <a:latin typeface="Arial"/>
              </a:rPr>
              <a:t>Enable ready collaboration between validation investigators and existing science networks and program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1904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190440" indent="-190440">
              <a:lnSpc>
                <a:spcPct val="70000"/>
              </a:lnSpc>
              <a:spcBef>
                <a:spcPts val="675"/>
              </a:spcBef>
              <a:buClr>
                <a:srgbClr val="362f8b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2f8b"/>
                </a:solidFill>
                <a:latin typeface="Arial"/>
              </a:rPr>
              <a:t>Facilitate validation activities directed at better product knowledge and assessment of the products’ stability and interoperability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2f8b"/>
                </a:solidFill>
                <a:latin typeface="Arial Black"/>
              </a:rPr>
              <a:t>Summary of WTF Development</a:t>
            </a: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buClr>
                <a:srgbClr val="362f8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SPOT VEGETATION and AVHRR data available via links to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distributed holdings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62f8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MERIS data acquisitions from 2003 available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62f8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CHRIS/PROBA data acquisitions have been identified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62f8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SRTM DTED-2 and National Elevation data available for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3 sites (U.S. only)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62f8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Readme files developed to provide high-level documentation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for each data se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62f8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Custom processing currently available for MODIS only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2f8b"/>
                </a:solidFill>
                <a:latin typeface="Arial Black"/>
              </a:rPr>
              <a:t>Future Plans for WTF Development</a:t>
            </a: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362f8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Redesign layout of web pages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362f8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Provide link to MODIS Known Issues page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362f8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Populate additional MERIS acquisitions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362f8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Populate CHRIS/PROBA data acquisitions (reprocessing)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362f8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Populate additional MODIS products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362f8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Incorporate additional SRTM data layers for Puget Sound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362f8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Identify explicit needs for custom processing for each data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set (subsetting, reprojection, format conversion)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362f8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Enable users to more readily determine temporal coverage of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each data set for each site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362f8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Prioritize the inclusion of additional sites and data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62f8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2f8b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362f8b"/>
                </a:solidFill>
                <a:latin typeface="Arial"/>
                <a:ea typeface="ＭＳ Ｐゴシック"/>
              </a:rPr>
              <a:t>CBERS, DMC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62f8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2f8b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362f8b"/>
                </a:solidFill>
                <a:latin typeface="Arial"/>
                <a:ea typeface="ＭＳ Ｐゴシック"/>
              </a:rPr>
              <a:t>Existing or new SAR meeting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362f8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2f8b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362f8b"/>
                </a:solidFill>
                <a:latin typeface="Arial"/>
                <a:ea typeface="ＭＳ Ｐゴシック"/>
              </a:rPr>
              <a:t>Asian site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362f8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Provide access to distributed holdings of in situ data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2f8b"/>
                </a:solidFill>
                <a:latin typeface="Arial Black"/>
              </a:rPr>
              <a:t>Discussion </a:t>
            </a:r>
            <a:endParaRPr b="0" lang="en-US" sz="3200" spc="-1" strike="noStrike">
              <a:solidFill>
                <a:srgbClr val="362f8b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2f8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06400" y="1905120"/>
            <a:ext cx="219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362f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2f8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62f8b"/>
                </a:solidFill>
                <a:latin typeface="Arial"/>
              </a:rPr>
              <a:t>Comment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62f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2f8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62f8b"/>
                </a:solidFill>
                <a:latin typeface="Arial"/>
              </a:rPr>
              <a:t>Sugges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362f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2f8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62f8b"/>
                </a:solidFill>
                <a:latin typeface="Arial"/>
              </a:rPr>
              <a:t>Concer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14400" y="304920"/>
            <a:ext cx="7288200" cy="5830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181480"/>
            <a:ext cx="6861240" cy="922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6897600" cy="4791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86000" y="3962520"/>
            <a:ext cx="304920" cy="257040"/>
          </a:xfrm>
          <a:prstGeom prst="leftArrow">
            <a:avLst>
              <a:gd name="adj1" fmla="val 50000"/>
              <a:gd name="adj2" fmla="val 29657"/>
            </a:avLst>
          </a:pr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8116920" cy="547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5181480"/>
            <a:ext cx="6861240" cy="922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6897600" cy="4791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81080" y="5715000"/>
            <a:ext cx="304920" cy="257040"/>
          </a:xfrm>
          <a:prstGeom prst="leftArrow">
            <a:avLst>
              <a:gd name="adj1" fmla="val 50000"/>
              <a:gd name="adj2" fmla="val 29657"/>
            </a:avLst>
          </a:pr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8610480" cy="1776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10080" y="2590920"/>
            <a:ext cx="6828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Single multi-band ENVI file, BSQ forma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Each band corresponds to a 10-day composite perio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Header file contain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Number of lines &amp; sampl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Datatyp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Projection inform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467480" cy="2357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62120" y="2895480"/>
            <a:ext cx="7238880" cy="3213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9068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1905120"/>
            <a:ext cx="304920" cy="257040"/>
          </a:xfrm>
          <a:prstGeom prst="leftArrow">
            <a:avLst>
              <a:gd name="adj1" fmla="val 50000"/>
              <a:gd name="adj2" fmla="val 29657"/>
            </a:avLst>
          </a:pr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0T09:26:51Z</dcterms:created>
  <dc:creator>Helpdesk</dc:creator>
  <dc:description/>
  <dc:language>en-US</dc:language>
  <cp:lastModifiedBy>dwyer</cp:lastModifiedBy>
  <cp:lastPrinted>2000-05-02T14:00:54Z</cp:lastPrinted>
  <dcterms:modified xsi:type="dcterms:W3CDTF">2005-03-09T15:02:24Z</dcterms:modified>
  <cp:revision>286</cp:revision>
  <dc:subject/>
  <dc:title>No Slide Title</dc:title>
</cp:coreProperties>
</file>