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6C9-A41C-40A2-8746-79814577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8D2-1F3F-4DA6-A636-F9A4F601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987-C821-459C-93D2-9669F92E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D9D-5C99-4164-9285-F5ECE718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71D-9477-4341-8A08-0F545DE2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6C6-B1AE-41FB-A268-4E3601B5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FB0-4F3D-408B-9A5A-3813015B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B6F-AA24-436F-B78A-5531D810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733-4E3F-4E41-82C6-90AF05CE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981-D235-4A46-BF2A-F15FDCE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06F-18CE-402F-9908-7B58AFCE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A21-DD53-4E81-A815-DB4A5BCF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83EC-DFB8-4B4E-AC60-D22D9E270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6840" y="1201680"/>
            <a:ext cx="7361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 report from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anobu Shi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ORC/JA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arth Observation Research and application C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. 15-17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OS CAL/VAL Plenary in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JAXA22" descr=""/>
          <p:cNvPicPr/>
          <p:nvPr/>
        </p:nvPicPr>
        <p:blipFill>
          <a:blip r:embed="rId2"/>
          <a:stretch/>
        </p:blipFill>
        <p:spPr>
          <a:xfrm>
            <a:off x="3957480" y="3728880"/>
            <a:ext cx="4872240" cy="2703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10560" y="228600"/>
            <a:ext cx="15598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-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066680"/>
            <a:ext cx="3581280" cy="46677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79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75e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z Band 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ing freq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1.27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~1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sw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=15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(I/Q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l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2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1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0 d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i. 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 width(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4 deg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2200" y="6149880"/>
            <a:ext cx="3396240" cy="45972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ma-SAR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4360" y="64008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:H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:V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3886200"/>
            <a:ext cx="169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tori D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038120" y="6122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14000" y="5380200"/>
            <a:ext cx="363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JAXA21" descr=""/>
          <p:cNvPicPr/>
          <p:nvPr/>
        </p:nvPicPr>
        <p:blipFill>
          <a:blip r:embed="rId3"/>
          <a:stretch/>
        </p:blipFill>
        <p:spPr>
          <a:xfrm>
            <a:off x="4140360" y="209520"/>
            <a:ext cx="48718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990720"/>
            <a:ext cx="15112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.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kom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360" y="4343400"/>
            <a:ext cx="13420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oy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JAXA23" descr=""/>
          <p:cNvPicPr/>
          <p:nvPr/>
        </p:nvPicPr>
        <p:blipFill>
          <a:blip r:embed="rId2"/>
          <a:stretch/>
        </p:blipFill>
        <p:spPr>
          <a:xfrm>
            <a:off x="1598760" y="0"/>
            <a:ext cx="6105240" cy="3394080"/>
          </a:xfrm>
          <a:prstGeom prst="rect">
            <a:avLst/>
          </a:prstGeom>
          <a:ln w="0">
            <a:noFill/>
          </a:ln>
        </p:spPr>
      </p:pic>
      <p:pic>
        <p:nvPicPr>
          <p:cNvPr id="197" name="JAXA24" descr=""/>
          <p:cNvPicPr/>
          <p:nvPr/>
        </p:nvPicPr>
        <p:blipFill>
          <a:blip r:embed="rId3"/>
          <a:stretch/>
        </p:blipFill>
        <p:spPr>
          <a:xfrm>
            <a:off x="1598760" y="3454560"/>
            <a:ext cx="610524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JAXA25" descr=""/>
          <p:cNvPicPr/>
          <p:nvPr/>
        </p:nvPicPr>
        <p:blipFill>
          <a:blip r:embed="rId2"/>
          <a:stretch/>
        </p:blipFill>
        <p:spPr>
          <a:xfrm>
            <a:off x="0" y="374760"/>
            <a:ext cx="9131400" cy="6094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7360" y="-7920"/>
            <a:ext cx="637416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st monitoring using L band 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447920"/>
            <a:ext cx="274320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66688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2895480"/>
            <a:ext cx="182880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657600"/>
            <a:ext cx="380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362320"/>
            <a:ext cx="8380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2590920"/>
            <a:ext cx="60948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276720"/>
            <a:ext cx="144756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1447920"/>
            <a:ext cx="4191120" cy="9144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2133720"/>
            <a:ext cx="1371600" cy="6858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62920" y="2057400"/>
            <a:ext cx="457200" cy="60948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3124080"/>
            <a:ext cx="380880" cy="60984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2743200"/>
            <a:ext cx="380880" cy="60948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91520" y="3352680"/>
            <a:ext cx="685800" cy="38124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438280"/>
            <a:ext cx="685800" cy="53352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228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533520"/>
            <a:ext cx="685800" cy="2286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53440" y="14616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de al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4520" y="4572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JAXA26" descr=""/>
          <p:cNvPicPr/>
          <p:nvPr/>
        </p:nvPicPr>
        <p:blipFill>
          <a:blip r:embed="rId3"/>
          <a:stretch/>
        </p:blipFill>
        <p:spPr>
          <a:xfrm>
            <a:off x="0" y="611280"/>
            <a:ext cx="1809720" cy="1298520"/>
          </a:xfrm>
          <a:prstGeom prst="rect">
            <a:avLst/>
          </a:prstGeom>
          <a:ln w="0">
            <a:noFill/>
          </a:ln>
        </p:spPr>
      </p:pic>
      <p:pic>
        <p:nvPicPr>
          <p:cNvPr id="219" name="JAXA27" descr=""/>
          <p:cNvPicPr/>
          <p:nvPr/>
        </p:nvPicPr>
        <p:blipFill>
          <a:blip r:embed="rId4"/>
          <a:stretch/>
        </p:blipFill>
        <p:spPr>
          <a:xfrm>
            <a:off x="-301680" y="2513160"/>
            <a:ext cx="1792440" cy="1801800"/>
          </a:xfrm>
          <a:prstGeom prst="rect">
            <a:avLst/>
          </a:prstGeom>
          <a:ln w="0">
            <a:noFill/>
          </a:ln>
        </p:spPr>
      </p:pic>
      <p:pic>
        <p:nvPicPr>
          <p:cNvPr id="220" name="JAXA28" descr=""/>
          <p:cNvPicPr/>
          <p:nvPr/>
        </p:nvPicPr>
        <p:blipFill>
          <a:blip r:embed="rId5"/>
          <a:stretch/>
        </p:blipFill>
        <p:spPr>
          <a:xfrm>
            <a:off x="0" y="4176720"/>
            <a:ext cx="3117960" cy="2670120"/>
          </a:xfrm>
          <a:prstGeom prst="rect">
            <a:avLst/>
          </a:prstGeom>
          <a:ln w="0">
            <a:noFill/>
          </a:ln>
        </p:spPr>
      </p:pic>
      <p:pic>
        <p:nvPicPr>
          <p:cNvPr id="221" name="JAXA29" descr=""/>
          <p:cNvPicPr/>
          <p:nvPr/>
        </p:nvPicPr>
        <p:blipFill>
          <a:blip r:embed="rId6"/>
          <a:stretch/>
        </p:blipFill>
        <p:spPr>
          <a:xfrm>
            <a:off x="3884760" y="4952880"/>
            <a:ext cx="2760480" cy="1914480"/>
          </a:xfrm>
          <a:prstGeom prst="rect">
            <a:avLst/>
          </a:prstGeom>
          <a:ln w="0">
            <a:noFill/>
          </a:ln>
        </p:spPr>
      </p:pic>
      <p:pic>
        <p:nvPicPr>
          <p:cNvPr id="222" name="JAXA30" descr=""/>
          <p:cNvPicPr/>
          <p:nvPr/>
        </p:nvPicPr>
        <p:blipFill>
          <a:blip r:embed="rId7"/>
          <a:stretch/>
        </p:blipFill>
        <p:spPr>
          <a:xfrm>
            <a:off x="7165800" y="4040280"/>
            <a:ext cx="2130480" cy="3205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58000" y="3657600"/>
            <a:ext cx="1295280" cy="9144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5715000" y="4724280"/>
            <a:ext cx="180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65040" y="270000"/>
            <a:ext cx="3673440" cy="6067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saic of Southeast Asia using the JERS-1 SAR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 images (39 paths) wer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were mainly acquired in the winter season (January and February) of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-ROMs are availabl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ct. 2003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JAXA31" descr=""/>
          <p:cNvPicPr/>
          <p:nvPr/>
        </p:nvPicPr>
        <p:blipFill>
          <a:blip r:embed="rId2"/>
          <a:stretch/>
        </p:blipFill>
        <p:spPr>
          <a:xfrm>
            <a:off x="4414680" y="136440"/>
            <a:ext cx="438804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55520" y="3057480"/>
            <a:ext cx="6118560" cy="38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0" y="0"/>
            <a:ext cx="458964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OS performance, view on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760" y="2979720"/>
            <a:ext cx="148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ﾌｪｰｽﾞﾄﾞｱﾚｲ方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L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ﾊﾞﾝﾄﾞ合成開口ﾚｰﾀ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ALSA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34360" y="564840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ﾊﾟﾝｸﾛﾏﾁｯ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立体視ｾﾝ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RISM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6320" y="5648400"/>
            <a:ext cx="102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高性能可視近赤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放射計２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AVNIR-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880" y="58770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太陽電池パド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L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95560" y="221940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データ中継衛星通信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DRC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7160" y="2571840"/>
            <a:ext cx="69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恒星セン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STT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91160" y="3514680"/>
            <a:ext cx="87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GPS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アンテ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1160" y="36385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2760" y="3105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230640" y="267660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73640" y="52671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925720" y="4734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06400" y="503856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773440" y="366696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794000">
            <a:off x="1174320" y="152532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1560" y="114444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衛星進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方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30520" y="1417680"/>
            <a:ext cx="228600" cy="641160"/>
          </a:xfrm>
          <a:prstGeom prst="downArrow">
            <a:avLst>
              <a:gd name="adj1" fmla="val 50000"/>
              <a:gd name="adj2" fmla="val 7011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71400" y="2058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地球方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05480" y="0"/>
            <a:ext cx="4538520" cy="35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Orb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sun-synchrono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Local Time at 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10:30 ± 15min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itu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91.65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in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8.16 degr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olutions per 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+27/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8.7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Longitude Repeata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細明朝体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細明朝体"/>
              </a:rPr>
              <a:t>+/-2.5km Equ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. operation peri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oll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 D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 st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itude error each ax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.0e-4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t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1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int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0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2031840"/>
            <a:ext cx="8382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1040" y="174600"/>
            <a:ext cx="3251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2489040"/>
          <a:ext cx="8382240" cy="77616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56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launch C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mission 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C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438280" y="1955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955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19558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39000" y="14763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8920" y="1492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157464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2560" y="1135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65160" y="14986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+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157464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8960" y="3573360"/>
            <a:ext cx="1473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l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4880" y="3573360"/>
            <a:ext cx="281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lease(limited for 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DF for gener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29040" y="347976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47976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70160" y="419904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61280" y="419904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75680" y="419904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90080" y="419904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43360" y="453240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10440" y="453240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24840" y="453240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39240" y="453240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760" y="4156200"/>
            <a:ext cx="1616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OC software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93920" y="500364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85120" y="500364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46960" y="500364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5520" y="530388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7000" y="530388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31400" y="530388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927680"/>
            <a:ext cx="1616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ORC software 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4920" y="56865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yea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3040" y="6016680"/>
            <a:ext cx="57067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unch is later than Sept. 10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360600"/>
            <a:ext cx="228600" cy="1936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0" y="358452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/VA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20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360600"/>
            <a:ext cx="228600" cy="1936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7800" y="3584520"/>
            <a:ext cx="109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/VAL re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87480" y="3360600"/>
            <a:ext cx="228600" cy="1936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97800" y="3360600"/>
            <a:ext cx="228600" cy="1936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4840" y="504360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 meeting (Jan.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52520" y="3589200"/>
            <a:ext cx="1624320" cy="14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19080"/>
          <a:ext cx="7197840" cy="683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80"/>
                    <a:ext cx="7197840" cy="6838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591240" y="0"/>
            <a:ext cx="255276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HH/HV 3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HH/HV 4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HH     3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SAR    5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HH/HV 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-INSAR 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3800" y="457200"/>
            <a:ext cx="812880" cy="185760"/>
          </a:xfrm>
          <a:prstGeom prst="leftRightArrow">
            <a:avLst>
              <a:gd name="adj1" fmla="val 50000"/>
              <a:gd name="adj2" fmla="val 871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57440" y="-9360"/>
            <a:ext cx="144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7440" y="6145200"/>
            <a:ext cx="1827360" cy="357120"/>
          </a:xfrm>
          <a:prstGeom prst="wedgeRectCallout">
            <a:avLst>
              <a:gd name="adj1" fmla="val -46870"/>
              <a:gd name="adj2" fmla="val -9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 - I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86160" y="0"/>
            <a:ext cx="1508040" cy="287280"/>
          </a:xfrm>
          <a:prstGeom prst="leftRightArrow">
            <a:avLst>
              <a:gd name="adj1" fmla="val 50000"/>
              <a:gd name="adj2" fmla="val 1045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33480" y="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63800" y="2268360"/>
            <a:ext cx="1033560" cy="289080"/>
          </a:xfrm>
          <a:prstGeom prst="wedgeRectCallout">
            <a:avLst>
              <a:gd name="adj1" fmla="val 14824"/>
              <a:gd name="adj2" fmla="val -184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54560" y="1643040"/>
            <a:ext cx="965160" cy="304920"/>
          </a:xfrm>
          <a:prstGeom prst="wedgeRectCallout">
            <a:avLst>
              <a:gd name="adj1" fmla="val -57731"/>
              <a:gd name="adj2" fmla="val 131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160" y="1351080"/>
            <a:ext cx="1600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94040" y="3116160"/>
            <a:ext cx="1117800" cy="355680"/>
          </a:xfrm>
          <a:prstGeom prst="wedgeRectCallout">
            <a:avLst>
              <a:gd name="adj1" fmla="val -42185"/>
              <a:gd name="adj2" fmla="val 84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76240" y="3114720"/>
            <a:ext cx="1490760" cy="372960"/>
          </a:xfrm>
          <a:prstGeom prst="wedgeRectCallout">
            <a:avLst>
              <a:gd name="adj1" fmla="val -45527"/>
              <a:gd name="adj2" fmla="val 101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0640" y="3759120"/>
            <a:ext cx="1676160" cy="3556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JAXA4" descr=""/>
          <p:cNvPicPr/>
          <p:nvPr/>
        </p:nvPicPr>
        <p:blipFill>
          <a:blip r:embed="rId2"/>
          <a:stretch/>
        </p:blipFill>
        <p:spPr>
          <a:xfrm>
            <a:off x="301680" y="3811680"/>
            <a:ext cx="3427200" cy="2568600"/>
          </a:xfrm>
          <a:prstGeom prst="rect">
            <a:avLst/>
          </a:prstGeom>
          <a:ln w="0">
            <a:noFill/>
          </a:ln>
        </p:spPr>
      </p:pic>
      <p:pic>
        <p:nvPicPr>
          <p:cNvPr id="120" name="JAXA3" descr=""/>
          <p:cNvPicPr/>
          <p:nvPr/>
        </p:nvPicPr>
        <p:blipFill>
          <a:blip r:embed="rId3"/>
          <a:stretch/>
        </p:blipFill>
        <p:spPr>
          <a:xfrm>
            <a:off x="301680" y="912960"/>
            <a:ext cx="3427200" cy="25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3886200" y="2971800"/>
          <a:ext cx="5041800" cy="3679920"/>
        </p:xfrm>
        <a:graphic>
          <a:graphicData uri="http://schemas.openxmlformats.org/drawingml/2006/table">
            <a:tbl>
              <a:tblPr/>
              <a:tblGrid>
                <a:gridCol w="1765080"/>
                <a:gridCol w="1676520"/>
                <a:gridCol w="1600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PA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requency b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5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84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5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84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Off nadir 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9.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0.8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9.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0.8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60dBm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60dBm</a:t>
                      </a:r>
                      <a:r>
                        <a:rPr b="0" lang="ja-JP" sz="1400" spc="-1" strike="noStrike" baseline="30000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CS s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&lt;±0.1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&lt;±0.1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LOS trac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(program track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(program track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ax. Rec.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44.5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44.5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ax. trans.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2.5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2.5dB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emperatur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Humidity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0%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～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0%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73520" y="112680"/>
            <a:ext cx="529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Polarimetric Active Radar Calib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50440" y="3195720"/>
            <a:ext cx="1398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6760" y="6243480"/>
            <a:ext cx="130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i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838080"/>
            <a:ext cx="510552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imetry and single polarization suppor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ly controlled for off nadir ang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CS stability using thermally insulated units and ALOS tracking perform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 resistance for temperature and hum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C mode prepares the H and V phase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JAXA5" descr=""/>
          <p:cNvPicPr/>
          <p:nvPr/>
        </p:nvPicPr>
        <p:blipFill>
          <a:blip r:embed="rId2"/>
          <a:stretch/>
        </p:blipFill>
        <p:spPr>
          <a:xfrm>
            <a:off x="227160" y="2111400"/>
            <a:ext cx="8712000" cy="4748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304920"/>
            <a:ext cx="30477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bration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52280"/>
            <a:ext cx="3825720" cy="176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itu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SD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suku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+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makom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SDA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NES/ES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rmany,Swi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-AD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F/NOA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as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/C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+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SD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08900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s will be established collaborating with the institu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JAXA6" descr=""/>
          <p:cNvPicPr/>
          <p:nvPr/>
        </p:nvPicPr>
        <p:blipFill>
          <a:blip r:embed="rId3"/>
          <a:stretch/>
        </p:blipFill>
        <p:spPr>
          <a:xfrm>
            <a:off x="382680" y="5310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31" name="JAXA7" descr=""/>
          <p:cNvPicPr/>
          <p:nvPr/>
        </p:nvPicPr>
        <p:blipFill>
          <a:blip r:embed="rId4"/>
          <a:stretch/>
        </p:blipFill>
        <p:spPr>
          <a:xfrm>
            <a:off x="2340000" y="4879800"/>
            <a:ext cx="216684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JAXA8" descr=""/>
          <p:cNvPicPr/>
          <p:nvPr/>
        </p:nvPicPr>
        <p:blipFill>
          <a:blip r:embed="rId5"/>
          <a:stretch/>
        </p:blipFill>
        <p:spPr>
          <a:xfrm>
            <a:off x="4651200" y="4286160"/>
            <a:ext cx="2157480" cy="2567160"/>
          </a:xfrm>
          <a:prstGeom prst="rect">
            <a:avLst/>
          </a:prstGeom>
          <a:ln w="0">
            <a:noFill/>
          </a:ln>
        </p:spPr>
      </p:pic>
      <p:pic>
        <p:nvPicPr>
          <p:cNvPr id="133" name="JAXA9" descr=""/>
          <p:cNvPicPr/>
          <p:nvPr/>
        </p:nvPicPr>
        <p:blipFill>
          <a:blip r:embed="rId6"/>
          <a:stretch/>
        </p:blipFill>
        <p:spPr>
          <a:xfrm>
            <a:off x="6881760" y="296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JAXA10" descr=""/>
          <p:cNvPicPr/>
          <p:nvPr/>
        </p:nvPicPr>
        <p:blipFill>
          <a:blip r:embed="rId7"/>
          <a:stretch/>
        </p:blipFill>
        <p:spPr>
          <a:xfrm>
            <a:off x="6891480" y="4249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JAXA11" descr=""/>
          <p:cNvPicPr/>
          <p:nvPr/>
        </p:nvPicPr>
        <p:blipFill>
          <a:blip r:embed="rId8"/>
          <a:stretch/>
        </p:blipFill>
        <p:spPr>
          <a:xfrm>
            <a:off x="6891480" y="5538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JAXA12" descr=""/>
          <p:cNvPicPr/>
          <p:nvPr/>
        </p:nvPicPr>
        <p:blipFill>
          <a:blip r:embed="rId2"/>
          <a:stretch/>
        </p:blipFill>
        <p:spPr>
          <a:xfrm>
            <a:off x="0" y="620640"/>
            <a:ext cx="4149720" cy="6229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791320" y="2971800"/>
            <a:ext cx="3168360" cy="1698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140360" y="4797360"/>
            <a:ext cx="3168360" cy="1697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4160" y="1055520"/>
            <a:ext cx="974520" cy="27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st Ja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684000">
            <a:off x="1180800" y="5610240"/>
            <a:ext cx="431640" cy="28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84400">
            <a:off x="2489040" y="1752120"/>
            <a:ext cx="555840" cy="14292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9080" y="5996160"/>
            <a:ext cx="6285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suk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41480" y="2060640"/>
            <a:ext cx="849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makom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7360" y="1765440"/>
            <a:ext cx="5569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3800" y="5383080"/>
            <a:ext cx="5572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93880" y="1765440"/>
            <a:ext cx="1069920" cy="360684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3500280"/>
            <a:ext cx="63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691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54720" y="3594240"/>
            <a:ext cx="3834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w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54800" y="5141880"/>
            <a:ext cx="806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Utsunomi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ookman Old Style"/>
              </a:rPr>
              <a:t>Along path GCP’s #1 for PRISM</a:t>
            </a:r>
            <a:r>
              <a:rPr b="0" lang="ja-JP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0840" y="685800"/>
            <a:ext cx="4853160" cy="190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487440" indent="-487440">
              <a:lnSpc>
                <a:spcPct val="100000"/>
              </a:lnSpc>
              <a:spcAft>
                <a:spcPts val="400"/>
              </a:spcAft>
              <a:buClr>
                <a:srgbClr val="ff9900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evaluate the same-time performance of the three radiometers, three test sites were established within a same orbit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omakoma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70x10km/5km &gt; 42po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Iw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70x25km/5km &gt; 69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GSI/GEONET st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4+4 points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ill setup the third site in 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Utsunomiy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it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84400">
            <a:off x="1936440" y="3533760"/>
            <a:ext cx="555480" cy="20628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84400">
            <a:off x="1386000" y="5349600"/>
            <a:ext cx="555480" cy="14292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84400">
            <a:off x="6868800" y="4098960"/>
            <a:ext cx="1163520" cy="21600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84400">
            <a:off x="5200200" y="5272200"/>
            <a:ext cx="1163880" cy="3459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50760" y="5384880"/>
            <a:ext cx="3834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00"/>
                </a:solidFill>
                <a:uFillTx/>
                <a:latin typeface="Arial"/>
                <a:ea typeface="ＭＳ Ｐゴシック"/>
              </a:rPr>
              <a:t>Iw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83120" y="3187800"/>
            <a:ext cx="849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00"/>
                </a:solidFill>
                <a:uFillTx/>
                <a:latin typeface="Arial"/>
                <a:ea typeface="ＭＳ Ｐゴシック"/>
              </a:rPr>
              <a:t>Tomakom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35000" y="5505480"/>
            <a:ext cx="323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25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47680" y="5073480"/>
            <a:ext cx="323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70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06640" y="3911760"/>
            <a:ext cx="323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70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92440" y="4216320"/>
            <a:ext cx="323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10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04800" y="5181480"/>
            <a:ext cx="6172200" cy="10670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M “Triplet Matching” Algorithm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5181480"/>
            <a:ext cx="611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Evaluation of matching accuracy using 120 selected poi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ax.      Min.    RMS (pix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Nadir – Forward   :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1.291    -1.321    0.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Nadir – Backward :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1.081    -1.521    0.40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09480"/>
            <a:ext cx="85341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ゴシック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ゴシック"/>
              </a:rPr>
              <a:t>Core” to generate D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- PRISM simulated images from the Three Line Scanner (TLS) onboard a helicopt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12193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e dimensional search along the semi-epipolar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Triplet matching by aerial-based cor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Automatic window size 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4840" y="48769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TLS-nadir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33640" y="4876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Generated 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48240" y="48769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valuation point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62485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* Reference: J. Takaku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t al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, IGARSS 2003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JAXA13" descr=""/>
          <p:cNvPicPr/>
          <p:nvPr/>
        </p:nvPicPr>
        <p:blipFill>
          <a:blip r:embed="rId2"/>
          <a:stretch/>
        </p:blipFill>
        <p:spPr>
          <a:xfrm>
            <a:off x="73080" y="2055960"/>
            <a:ext cx="2852640" cy="2852640"/>
          </a:xfrm>
          <a:prstGeom prst="rect">
            <a:avLst/>
          </a:prstGeom>
          <a:ln w="0">
            <a:noFill/>
          </a:ln>
        </p:spPr>
      </p:pic>
      <p:pic>
        <p:nvPicPr>
          <p:cNvPr id="172" name="JAXA14" descr=""/>
          <p:cNvPicPr/>
          <p:nvPr/>
        </p:nvPicPr>
        <p:blipFill>
          <a:blip r:embed="rId3"/>
          <a:stretch/>
        </p:blipFill>
        <p:spPr>
          <a:xfrm>
            <a:off x="3198960" y="2055960"/>
            <a:ext cx="2852640" cy="2852640"/>
          </a:xfrm>
          <a:prstGeom prst="rect">
            <a:avLst/>
          </a:prstGeom>
          <a:ln w="0">
            <a:noFill/>
          </a:ln>
        </p:spPr>
      </p:pic>
      <p:pic>
        <p:nvPicPr>
          <p:cNvPr id="173" name="JAXA15" descr=""/>
          <p:cNvPicPr/>
          <p:nvPr/>
        </p:nvPicPr>
        <p:blipFill>
          <a:blip r:embed="rId4"/>
          <a:stretch/>
        </p:blipFill>
        <p:spPr>
          <a:xfrm>
            <a:off x="6215040" y="2065320"/>
            <a:ext cx="285264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ISM “Image Quality Evaluation” – S/N, MTF, JPEG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280" y="2819520"/>
            <a:ext cx="36262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ger correction using AVNIR/P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5360" y="5883120"/>
            <a:ext cx="84117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) Input (aerial photo, 0.32m)                    b) MTF=0.2 (2.5m)                     c) JPEG compression (1/4.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156800">
            <a:off x="2233800" y="1576800"/>
            <a:ext cx="22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  <a:ea typeface="ＭＳ Ｐゴシック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64800" y="6172200"/>
            <a:ext cx="5414040" cy="4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of simulated images to evaluate image qua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Spatial resolution, MTF, S/N, and JPEG compression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685800"/>
            <a:ext cx="4343400" cy="209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ゴシック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ゴシック"/>
              </a:rPr>
              <a:t>&gt;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  <a:ea typeface="ＭＳ ゴシック"/>
              </a:rPr>
              <a:t>Algorithms evaluation and to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ゴシック"/>
              </a:rPr>
              <a:t>  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  <a:ea typeface="ＭＳ ゴシック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Radiometric Cal., image quality evalua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Current satellite image and aerial ph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Geometric Cal.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Current high-resolution satellite imag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aerial photo + GC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dification for PRIS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JAXA16" descr=""/>
          <p:cNvPicPr/>
          <p:nvPr/>
        </p:nvPicPr>
        <p:blipFill>
          <a:blip r:embed="rId2"/>
          <a:stretch/>
        </p:blipFill>
        <p:spPr>
          <a:xfrm>
            <a:off x="73080" y="684360"/>
            <a:ext cx="2111400" cy="2111400"/>
          </a:xfrm>
          <a:prstGeom prst="rect">
            <a:avLst/>
          </a:prstGeom>
          <a:ln w="0">
            <a:noFill/>
          </a:ln>
        </p:spPr>
      </p:pic>
      <p:pic>
        <p:nvPicPr>
          <p:cNvPr id="181" name="JAXA17" descr=""/>
          <p:cNvPicPr/>
          <p:nvPr/>
        </p:nvPicPr>
        <p:blipFill>
          <a:blip r:embed="rId3"/>
          <a:stretch/>
        </p:blipFill>
        <p:spPr>
          <a:xfrm>
            <a:off x="2513160" y="684360"/>
            <a:ext cx="2111400" cy="2111400"/>
          </a:xfrm>
          <a:prstGeom prst="rect">
            <a:avLst/>
          </a:prstGeom>
          <a:ln w="0">
            <a:noFill/>
          </a:ln>
        </p:spPr>
      </p:pic>
      <p:pic>
        <p:nvPicPr>
          <p:cNvPr id="182" name="JAXA18" descr=""/>
          <p:cNvPicPr/>
          <p:nvPr/>
        </p:nvPicPr>
        <p:blipFill>
          <a:blip r:embed="rId4"/>
          <a:stretch/>
        </p:blipFill>
        <p:spPr>
          <a:xfrm>
            <a:off x="255600" y="3162240"/>
            <a:ext cx="2705040" cy="2705040"/>
          </a:xfrm>
          <a:prstGeom prst="rect">
            <a:avLst/>
          </a:prstGeom>
          <a:ln w="0">
            <a:noFill/>
          </a:ln>
        </p:spPr>
      </p:pic>
      <p:pic>
        <p:nvPicPr>
          <p:cNvPr id="183" name="JAXA19" descr=""/>
          <p:cNvPicPr/>
          <p:nvPr/>
        </p:nvPicPr>
        <p:blipFill>
          <a:blip r:embed="rId5"/>
          <a:stretch/>
        </p:blipFill>
        <p:spPr>
          <a:xfrm>
            <a:off x="3216240" y="3162240"/>
            <a:ext cx="2705040" cy="2705040"/>
          </a:xfrm>
          <a:prstGeom prst="rect">
            <a:avLst/>
          </a:prstGeom>
          <a:ln w="0">
            <a:noFill/>
          </a:ln>
        </p:spPr>
      </p:pic>
      <p:pic>
        <p:nvPicPr>
          <p:cNvPr id="184" name="JAXA20" descr=""/>
          <p:cNvPicPr/>
          <p:nvPr/>
        </p:nvPicPr>
        <p:blipFill>
          <a:blip r:embed="rId6"/>
          <a:stretch/>
        </p:blipFill>
        <p:spPr>
          <a:xfrm>
            <a:off x="6178680" y="3162240"/>
            <a:ext cx="27050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8:04:32Z</dcterms:created>
  <dc:creator>shimada masanobu</dc:creator>
  <dc:description/>
  <dc:language>en-US</dc:language>
  <cp:lastModifiedBy>Marie-Claire Robinson</cp:lastModifiedBy>
  <cp:lastPrinted>2003-11-04T10:24:10Z</cp:lastPrinted>
  <dcterms:modified xsi:type="dcterms:W3CDTF">2003-11-04T10:56:42Z</dcterms:modified>
  <cp:revision>144</cp:revision>
  <dc:subject/>
  <dc:title>PowerPoint プレゼンテーション</dc:title>
</cp:coreProperties>
</file>