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1630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368360"/>
            <a:ext cx="828828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000" y="3812400"/>
            <a:ext cx="828828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1630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368360"/>
            <a:ext cx="40446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2280" y="1368360"/>
            <a:ext cx="40446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000" y="3812400"/>
            <a:ext cx="40446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42280" y="3812400"/>
            <a:ext cx="40446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1630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368360"/>
            <a:ext cx="266868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97600" y="1368360"/>
            <a:ext cx="266868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9840" y="1368360"/>
            <a:ext cx="266868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000" y="3812400"/>
            <a:ext cx="266868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97600" y="3812400"/>
            <a:ext cx="266868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9840" y="3812400"/>
            <a:ext cx="266868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1630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000" y="1368360"/>
            <a:ext cx="8288280" cy="467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1630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000" y="1368360"/>
            <a:ext cx="828828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1630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368360"/>
            <a:ext cx="40446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42280" y="1368360"/>
            <a:ext cx="40446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1630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95000" y="317160"/>
            <a:ext cx="8163000" cy="41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1630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368360"/>
            <a:ext cx="40446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2280" y="1368360"/>
            <a:ext cx="40446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000" y="3812400"/>
            <a:ext cx="40446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1630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368360"/>
            <a:ext cx="40446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2280" y="1368360"/>
            <a:ext cx="40446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42280" y="3812400"/>
            <a:ext cx="40446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1630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368360"/>
            <a:ext cx="40446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2280" y="1368360"/>
            <a:ext cx="40446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3812400"/>
            <a:ext cx="828828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1630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 Antiqua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90440" y="6040440"/>
            <a:ext cx="447840" cy="671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000" y="1368360"/>
            <a:ext cx="8288280" cy="467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4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d9"/>
                </a:solidFill>
                <a:latin typeface="Book Antiqua"/>
              </a:rPr>
              <a:t>Click to edit the outline text format</a:t>
            </a: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  <a:p>
            <a:pPr lvl="1" marL="515880" indent="-174600">
              <a:spcBef>
                <a:spcPts val="4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d9"/>
                </a:solidFill>
                <a:latin typeface="Book Antiqua"/>
              </a:rPr>
              <a:t>Second Outline Level</a:t>
            </a: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  <a:p>
            <a:pPr lvl="2" marL="797040" indent="-166680">
              <a:spcBef>
                <a:spcPts val="499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d9"/>
                </a:solidFill>
                <a:latin typeface="Book Antiqua"/>
              </a:rPr>
              <a:t>Third Outline Level</a:t>
            </a: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  <a:p>
            <a:pPr lvl="3" marL="1139760" indent="-228600">
              <a:spcBef>
                <a:spcPts val="4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d9"/>
                </a:solidFill>
                <a:latin typeface="Book Antiqua"/>
              </a:rPr>
              <a:t>Fourth Outline Level</a:t>
            </a: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  <a:p>
            <a:pPr lvl="4" marL="1482840" indent="-228600">
              <a:spcBef>
                <a:spcPts val="499"/>
              </a:spcBef>
              <a:buClr>
                <a:srgbClr val="ffff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d9"/>
                </a:solidFill>
                <a:latin typeface="Book Antiqua"/>
              </a:rPr>
              <a:t>Fifth Outline Level</a:t>
            </a: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  <a:p>
            <a:pPr lvl="5" marL="1482840" indent="-22860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d9"/>
                </a:solidFill>
                <a:latin typeface="Book Antiqua"/>
              </a:rPr>
              <a:t>Sixth Outline Level</a:t>
            </a: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  <a:p>
            <a:pPr lvl="6" marL="1482840" indent="-22860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d9"/>
                </a:solidFill>
                <a:latin typeface="Book Antiqua"/>
              </a:rPr>
              <a:t>Seventh Outline Level</a:t>
            </a: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87440" y="1377720"/>
            <a:ext cx="8300880" cy="503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spcBef>
                <a:spcPts val="601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d9"/>
                </a:solidFill>
                <a:latin typeface="Book Antiqua"/>
              </a:rPr>
              <a:t>Calibration &amp; Validation Overview</a:t>
            </a:r>
            <a:endParaRPr b="1" lang="en-US" sz="2400" spc="-1" strike="noStrike">
              <a:solidFill>
                <a:srgbClr val="ffffd9"/>
              </a:solidFill>
              <a:latin typeface="Book Antiqua"/>
            </a:endParaRPr>
          </a:p>
          <a:p>
            <a:pPr lvl="1" marL="568440" indent="-225360">
              <a:spcBef>
                <a:spcPts val="550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d9"/>
                </a:solidFill>
                <a:latin typeface="Book Antiqua"/>
              </a:rPr>
              <a:t>Calibration</a:t>
            </a:r>
            <a:endParaRPr b="1" lang="en-US" sz="2200" spc="-1" strike="noStrike">
              <a:solidFill>
                <a:srgbClr val="ffffd9"/>
              </a:solidFill>
              <a:latin typeface="Book Antiqua"/>
            </a:endParaRPr>
          </a:p>
          <a:p>
            <a:pPr lvl="2" marL="914400" indent="-231840">
              <a:spcBef>
                <a:spcPts val="550"/>
              </a:spcBef>
              <a:buClr>
                <a:srgbClr val="ffff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d9"/>
                </a:solidFill>
                <a:latin typeface="Book Antiqua"/>
              </a:rPr>
              <a:t>Instrument calibration, pre-ship, and mission design reviews</a:t>
            </a:r>
            <a:endParaRPr b="1" lang="en-US" sz="2200" spc="-1" strike="noStrike">
              <a:solidFill>
                <a:srgbClr val="ffffd9"/>
              </a:solidFill>
              <a:latin typeface="Book Antiqua"/>
            </a:endParaRPr>
          </a:p>
          <a:p>
            <a:pPr lvl="2" marL="914400" indent="-231840">
              <a:spcBef>
                <a:spcPts val="550"/>
              </a:spcBef>
              <a:buClr>
                <a:srgbClr val="ffff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d9"/>
                </a:solidFill>
                <a:latin typeface="Book Antiqua"/>
              </a:rPr>
              <a:t>NIST, lunar characterization, calibration laboratories</a:t>
            </a:r>
            <a:endParaRPr b="1" lang="en-US" sz="2200" spc="-1" strike="noStrike">
              <a:solidFill>
                <a:srgbClr val="ffffd9"/>
              </a:solidFill>
              <a:latin typeface="Book Antiqua"/>
            </a:endParaRPr>
          </a:p>
          <a:p>
            <a:pPr lvl="1" marL="568440" indent="-225360">
              <a:spcBef>
                <a:spcPts val="550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d9"/>
                </a:solidFill>
                <a:latin typeface="Book Antiqua"/>
              </a:rPr>
              <a:t>Validation</a:t>
            </a:r>
            <a:endParaRPr b="1" lang="en-US" sz="2200" spc="-1" strike="noStrike">
              <a:solidFill>
                <a:srgbClr val="ffffd9"/>
              </a:solidFill>
              <a:latin typeface="Book Antiqua"/>
            </a:endParaRPr>
          </a:p>
          <a:p>
            <a:pPr lvl="2" marL="914400" indent="-231840">
              <a:spcBef>
                <a:spcPts val="550"/>
              </a:spcBef>
              <a:buClr>
                <a:srgbClr val="ffff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d9"/>
                </a:solidFill>
                <a:latin typeface="Book Antiqua"/>
              </a:rPr>
              <a:t>Networks and facilities, validation NRAs, aircraft support, field experiments, airborne simulators, Instrument teams</a:t>
            </a:r>
            <a:endParaRPr b="1" lang="en-US" sz="2200" spc="-1" strike="noStrike">
              <a:solidFill>
                <a:srgbClr val="ffffd9"/>
              </a:solidFill>
              <a:latin typeface="Book Antiqua"/>
            </a:endParaRPr>
          </a:p>
          <a:p>
            <a:pPr lvl="1" marL="568440" indent="-225360">
              <a:spcBef>
                <a:spcPts val="550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d9"/>
                </a:solidFill>
                <a:latin typeface="Book Antiqua"/>
              </a:rPr>
              <a:t>Project Science Office</a:t>
            </a:r>
            <a:endParaRPr b="1" lang="en-US" sz="2200" spc="-1" strike="noStrike">
              <a:solidFill>
                <a:srgbClr val="ffffd9"/>
              </a:solidFill>
              <a:latin typeface="Book Antiqua"/>
            </a:endParaRPr>
          </a:p>
          <a:p>
            <a:pPr marL="228600" indent="-228600">
              <a:spcBef>
                <a:spcPts val="601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d9"/>
                </a:solidFill>
                <a:latin typeface="Book Antiqua"/>
              </a:rPr>
              <a:t>Issues and Concerns</a:t>
            </a:r>
            <a:endParaRPr b="1" lang="en-US" sz="2400" spc="-1" strike="noStrike">
              <a:solidFill>
                <a:srgbClr val="ffffd9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495000" y="317160"/>
            <a:ext cx="81630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Book Antiqua"/>
              </a:rPr>
              <a:t>EOS Calibration/Validation Program</a:t>
            </a:r>
            <a:endParaRPr b="1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87440" y="1220400"/>
            <a:ext cx="8300880" cy="53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spcBef>
                <a:spcPts val="4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d9"/>
                </a:solidFill>
                <a:latin typeface="Book Antiqua"/>
              </a:rPr>
              <a:t>National Institute of Standards and Technology (NIST)</a:t>
            </a: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  <a:p>
            <a:pPr lvl="1" marL="568440" indent="-225360">
              <a:spcBef>
                <a:spcPts val="451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9"/>
                </a:solidFill>
                <a:latin typeface="Book Antiqua"/>
              </a:rPr>
              <a:t>Instrument calibration, pre-ship, and mission design reviews</a:t>
            </a:r>
            <a:endParaRPr b="1" lang="en-US" sz="1800" spc="-1" strike="noStrike">
              <a:solidFill>
                <a:srgbClr val="ffffd9"/>
              </a:solidFill>
              <a:latin typeface="Book Antiqua"/>
            </a:endParaRPr>
          </a:p>
          <a:p>
            <a:pPr lvl="1" marL="568440" indent="-225360">
              <a:spcBef>
                <a:spcPts val="451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9"/>
                </a:solidFill>
                <a:latin typeface="Book Antiqua"/>
              </a:rPr>
              <a:t>Transfer radiometers</a:t>
            </a:r>
            <a:endParaRPr b="1" lang="en-US" sz="1800" spc="-1" strike="noStrike">
              <a:solidFill>
                <a:srgbClr val="ffffd9"/>
              </a:solidFill>
              <a:latin typeface="Book Antiqua"/>
            </a:endParaRPr>
          </a:p>
          <a:p>
            <a:pPr lvl="1" marL="568440" indent="-225360">
              <a:spcBef>
                <a:spcPts val="451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9"/>
                </a:solidFill>
                <a:latin typeface="Book Antiqua"/>
              </a:rPr>
              <a:t>Radiometric measurement comparisons and artifact round-robins</a:t>
            </a:r>
            <a:endParaRPr b="1" lang="en-US" sz="1800" spc="-1" strike="noStrike">
              <a:solidFill>
                <a:srgbClr val="ffffd9"/>
              </a:solidFill>
              <a:latin typeface="Book Antiqua"/>
            </a:endParaRPr>
          </a:p>
          <a:p>
            <a:pPr lvl="1" marL="568440" indent="-225360">
              <a:spcBef>
                <a:spcPts val="451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9"/>
                </a:solidFill>
                <a:latin typeface="Book Antiqua"/>
              </a:rPr>
              <a:t>Calibration workshops at NIST</a:t>
            </a:r>
            <a:endParaRPr b="1" lang="en-US" sz="1800" spc="-1" strike="noStrike">
              <a:solidFill>
                <a:srgbClr val="ffffd9"/>
              </a:solidFill>
              <a:latin typeface="Book Antiqua"/>
            </a:endParaRPr>
          </a:p>
          <a:p>
            <a:pPr marL="228600" indent="-228600">
              <a:spcBef>
                <a:spcPts val="4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d9"/>
                </a:solidFill>
                <a:latin typeface="Book Antiqua"/>
              </a:rPr>
              <a:t>Lunar characterization</a:t>
            </a: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  <a:p>
            <a:pPr lvl="1" marL="568440" indent="-225360">
              <a:spcBef>
                <a:spcPts val="451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9"/>
                </a:solidFill>
                <a:latin typeface="Book Antiqua"/>
              </a:rPr>
              <a:t>USGS/Flagstaff (Tom Stone succeeded Hugh Kieffer)</a:t>
            </a:r>
            <a:endParaRPr b="1" lang="en-US" sz="1800" spc="-1" strike="noStrike">
              <a:solidFill>
                <a:srgbClr val="ffffd9"/>
              </a:solidFill>
              <a:latin typeface="Book Antiqua"/>
            </a:endParaRPr>
          </a:p>
          <a:p>
            <a:pPr marL="228600" indent="-228600">
              <a:spcBef>
                <a:spcPts val="4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d9"/>
                </a:solidFill>
                <a:latin typeface="Book Antiqua"/>
              </a:rPr>
              <a:t>Calibration laboratories</a:t>
            </a: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  <a:p>
            <a:pPr lvl="1" marL="568440" indent="-225360">
              <a:spcBef>
                <a:spcPts val="451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9"/>
                </a:solidFill>
                <a:latin typeface="Book Antiqua"/>
              </a:rPr>
              <a:t>Goddard Space Flight Center</a:t>
            </a:r>
            <a:endParaRPr b="1" lang="en-US" sz="1800" spc="-1" strike="noStrike">
              <a:solidFill>
                <a:srgbClr val="ffffd9"/>
              </a:solidFill>
              <a:latin typeface="Book Antiqua"/>
            </a:endParaRPr>
          </a:p>
          <a:p>
            <a:pPr lvl="2" marL="914400" indent="-231840">
              <a:spcBef>
                <a:spcPts val="451"/>
              </a:spcBef>
              <a:buClr>
                <a:srgbClr val="ffff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9"/>
                </a:solidFill>
                <a:latin typeface="Book Antiqua"/>
              </a:rPr>
              <a:t>UV Laboratory (Ernie Hilsenrath)</a:t>
            </a:r>
            <a:endParaRPr b="1" lang="en-US" sz="1800" spc="-1" strike="noStrike">
              <a:solidFill>
                <a:srgbClr val="ffffd9"/>
              </a:solidFill>
              <a:latin typeface="Book Antiqua"/>
            </a:endParaRPr>
          </a:p>
          <a:p>
            <a:pPr lvl="2" marL="914400" indent="-231840">
              <a:spcBef>
                <a:spcPts val="451"/>
              </a:spcBef>
              <a:buClr>
                <a:srgbClr val="ffff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9"/>
                </a:solidFill>
                <a:latin typeface="Book Antiqua"/>
              </a:rPr>
              <a:t>Diffuser Laboratory (James Butler)</a:t>
            </a:r>
            <a:endParaRPr b="1" lang="en-US" sz="1800" spc="-1" strike="noStrike">
              <a:solidFill>
                <a:srgbClr val="ffffd9"/>
              </a:solidFill>
              <a:latin typeface="Book Antiqua"/>
            </a:endParaRPr>
          </a:p>
          <a:p>
            <a:pPr lvl="2" marL="914400" indent="-231840">
              <a:spcBef>
                <a:spcPts val="451"/>
              </a:spcBef>
              <a:buClr>
                <a:srgbClr val="ffff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9"/>
                </a:solidFill>
                <a:latin typeface="Book Antiqua"/>
              </a:rPr>
              <a:t>Radiometric Calibration Laboratory (Peter Abel)</a:t>
            </a:r>
            <a:endParaRPr b="1" lang="en-US" sz="1800" spc="-1" strike="noStrike">
              <a:solidFill>
                <a:srgbClr val="ffffd9"/>
              </a:solidFill>
              <a:latin typeface="Book Antiqua"/>
            </a:endParaRPr>
          </a:p>
          <a:p>
            <a:pPr lvl="1" marL="568440" indent="-225360">
              <a:spcBef>
                <a:spcPts val="451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9"/>
                </a:solidFill>
                <a:latin typeface="Book Antiqua"/>
              </a:rPr>
              <a:t>Ames Research Center</a:t>
            </a:r>
            <a:endParaRPr b="1" lang="en-US" sz="1800" spc="-1" strike="noStrike">
              <a:solidFill>
                <a:srgbClr val="ffffd9"/>
              </a:solidFill>
              <a:latin typeface="Book Antiqua"/>
            </a:endParaRPr>
          </a:p>
          <a:p>
            <a:pPr lvl="2" marL="914400" indent="-231840">
              <a:spcBef>
                <a:spcPts val="451"/>
              </a:spcBef>
              <a:buClr>
                <a:srgbClr val="ffff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9"/>
                </a:solidFill>
                <a:latin typeface="Book Antiqua"/>
              </a:rPr>
              <a:t>Engineering, data analysis, radiometric, and spectral calibration of airborne sensors</a:t>
            </a:r>
            <a:endParaRPr b="1" lang="en-US" sz="1800" spc="-1" strike="noStrike">
              <a:solidFill>
                <a:srgbClr val="ffffd9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95000" y="317160"/>
            <a:ext cx="81630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Book Antiqua"/>
              </a:rPr>
              <a:t>EOS Calibration Activities</a:t>
            </a:r>
            <a:endParaRPr b="1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16280" y="4400640"/>
            <a:ext cx="2606760" cy="1601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670200" y="4348080"/>
            <a:ext cx="2605320" cy="1598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981000" y="2174760"/>
            <a:ext cx="2649600" cy="1557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974880" y="2085840"/>
            <a:ext cx="2606400" cy="1579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317160"/>
            <a:ext cx="81630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Book Antiqua"/>
              </a:rPr>
              <a:t>EOS Validation Strategy</a:t>
            </a:r>
            <a:endParaRPr b="1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5637240" y="1425600"/>
            <a:ext cx="2541600" cy="1598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5575320" y="1359000"/>
            <a:ext cx="2541600" cy="1598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802480" y="1719360"/>
            <a:ext cx="215424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Book Antiqua"/>
              </a:rPr>
              <a:t>Field Campaig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"/>
          <p:cNvSpPr/>
          <p:nvPr/>
        </p:nvSpPr>
        <p:spPr>
          <a:xfrm>
            <a:off x="4094280" y="4815000"/>
            <a:ext cx="191592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Book Antiqua"/>
              </a:rPr>
              <a:t>Surface Network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"/>
          <p:cNvSpPr/>
          <p:nvPr/>
        </p:nvSpPr>
        <p:spPr>
          <a:xfrm>
            <a:off x="1416960" y="2647800"/>
            <a:ext cx="1751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Book Antiqua"/>
              </a:rPr>
              <a:t>Satellit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" name=""/>
          <p:cNvSpPr/>
          <p:nvPr/>
        </p:nvSpPr>
        <p:spPr>
          <a:xfrm>
            <a:off x="5967360" y="3602160"/>
            <a:ext cx="220680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Book Antiqua"/>
              </a:rPr>
              <a:t>Remote Sensing &amp; 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Book Antiqua"/>
              </a:rPr>
              <a:t>In Situ Observations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"/>
          <p:cNvSpPr/>
          <p:nvPr/>
        </p:nvSpPr>
        <p:spPr>
          <a:xfrm>
            <a:off x="3268800" y="1595520"/>
            <a:ext cx="233352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Book Antiqua"/>
              </a:rPr>
              <a:t>Remote Sensing &amp; 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Book Antiqua"/>
              </a:rPr>
              <a:t>In Situ Observations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" name=""/>
          <p:cNvSpPr/>
          <p:nvPr/>
        </p:nvSpPr>
        <p:spPr>
          <a:xfrm>
            <a:off x="1832040" y="4437000"/>
            <a:ext cx="119232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Book Antiqua"/>
              </a:rPr>
              <a:t>Tempora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Book Antiqua"/>
              </a:rPr>
              <a:t>Context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" name=""/>
          <p:cNvSpPr/>
          <p:nvPr/>
        </p:nvSpPr>
        <p:spPr>
          <a:xfrm>
            <a:off x="3546360" y="3416400"/>
            <a:ext cx="107820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Book Antiqua"/>
              </a:rPr>
              <a:t>Spatia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Book Antiqua"/>
              </a:rPr>
              <a:t>Context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5618160" y="3076560"/>
            <a:ext cx="649440" cy="1206360"/>
          </a:xfrm>
          <a:prstGeom prst="line">
            <a:avLst/>
          </a:prstGeom>
          <a:ln w="25560">
            <a:solidFill>
              <a:srgbClr val="ff4851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732120" y="2338560"/>
            <a:ext cx="1687680" cy="390240"/>
          </a:xfrm>
          <a:prstGeom prst="line">
            <a:avLst/>
          </a:prstGeom>
          <a:ln w="25560">
            <a:solidFill>
              <a:srgbClr val="ff4851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3637080"/>
            <a:ext cx="961920" cy="761760"/>
          </a:xfrm>
          <a:prstGeom prst="line">
            <a:avLst/>
          </a:prstGeom>
          <a:ln w="25560">
            <a:solidFill>
              <a:srgbClr val="ff4851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" name=""/>
          <p:cNvSpPr/>
          <p:nvPr/>
        </p:nvSpPr>
        <p:spPr>
          <a:xfrm>
            <a:off x="2435400" y="3797280"/>
            <a:ext cx="1268280" cy="1004760"/>
          </a:xfrm>
          <a:prstGeom prst="line">
            <a:avLst/>
          </a:prstGeom>
          <a:ln w="25560">
            <a:solidFill>
              <a:srgbClr val="ff4851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87440" y="1220400"/>
            <a:ext cx="8300880" cy="53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spcBef>
                <a:spcPts val="4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d9"/>
                </a:solidFill>
                <a:latin typeface="Book Antiqua"/>
              </a:rPr>
              <a:t>Networks and Facilities</a:t>
            </a: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  <a:p>
            <a:pPr lvl="1" marL="568440" indent="-225360">
              <a:spcBef>
                <a:spcPts val="4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d9"/>
                </a:solidFill>
                <a:latin typeface="Book Antiqua"/>
              </a:rPr>
              <a:t>HITRAN spectroscopic database (Rothman)</a:t>
            </a: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  <a:p>
            <a:pPr lvl="1" marL="568440" indent="-225360">
              <a:spcBef>
                <a:spcPts val="4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d9"/>
                </a:solidFill>
                <a:latin typeface="Book Antiqua"/>
              </a:rPr>
              <a:t>AERONET (Holben)</a:t>
            </a: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  <a:p>
            <a:pPr lvl="1" marL="568440" indent="-225360">
              <a:spcBef>
                <a:spcPts val="4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d9"/>
                </a:solidFill>
                <a:latin typeface="Book Antiqua"/>
              </a:rPr>
              <a:t>MOBY (Clark)</a:t>
            </a: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  <a:p>
            <a:pPr lvl="1" marL="568440" indent="-225360">
              <a:spcBef>
                <a:spcPts val="4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d9"/>
                </a:solidFill>
                <a:latin typeface="Book Antiqua"/>
              </a:rPr>
              <a:t>MPL-Net (Welton)</a:t>
            </a: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  <a:p>
            <a:pPr lvl="1" marL="568440" indent="-225360">
              <a:spcBef>
                <a:spcPts val="4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d9"/>
                </a:solidFill>
                <a:latin typeface="Book Antiqua"/>
              </a:rPr>
              <a:t>Radiosonde launches in support of AIRS/AMSU/HSB</a:t>
            </a: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  <a:p>
            <a:pPr lvl="1" marL="568440" indent="-225360">
              <a:spcBef>
                <a:spcPts val="4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d9"/>
                </a:solidFill>
                <a:latin typeface="Book Antiqua"/>
              </a:rPr>
              <a:t>EOS Land Validation Core Sites</a:t>
            </a: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  <a:p>
            <a:pPr marL="228600" indent="-228600">
              <a:spcBef>
                <a:spcPts val="4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d9"/>
                </a:solidFill>
                <a:latin typeface="Book Antiqua"/>
              </a:rPr>
              <a:t>Validation NRAs</a:t>
            </a: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  <a:p>
            <a:pPr lvl="1" marL="568440" indent="-225360">
              <a:spcBef>
                <a:spcPts val="4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d9"/>
                </a:solidFill>
                <a:latin typeface="Book Antiqua"/>
              </a:rPr>
              <a:t>Terra/SAGE III (ended in FY02)</a:t>
            </a: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  <a:p>
            <a:pPr lvl="1" marL="568440" indent="-225360">
              <a:spcBef>
                <a:spcPts val="4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d9"/>
                </a:solidFill>
                <a:latin typeface="Book Antiqua"/>
              </a:rPr>
              <a:t>Aqua/Spectroscopy (active)</a:t>
            </a: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  <a:p>
            <a:pPr lvl="1" marL="568440" indent="-225360">
              <a:spcBef>
                <a:spcPts val="4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d9"/>
                </a:solidFill>
                <a:latin typeface="Book Antiqua"/>
              </a:rPr>
              <a:t>Carbon Cycle (Baldocchi)</a:t>
            </a: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  <a:p>
            <a:pPr lvl="1" marL="568440" indent="-225360">
              <a:spcBef>
                <a:spcPts val="4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d9"/>
                </a:solidFill>
                <a:latin typeface="Book Antiqua"/>
              </a:rPr>
              <a:t>AMSR Snow Depth (Gogineni/Markus)</a:t>
            </a: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  <a:p>
            <a:pPr lvl="1" marL="568440" indent="-225360">
              <a:spcBef>
                <a:spcPts val="4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d9"/>
                </a:solidFill>
                <a:latin typeface="Book Antiqua"/>
              </a:rPr>
              <a:t>TRMM Surface Validation (NRA?)</a:t>
            </a: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  <a:p>
            <a:pPr lvl="1" marL="568440" indent="-225360">
              <a:spcBef>
                <a:spcPts val="4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d9"/>
                </a:solidFill>
                <a:latin typeface="Book Antiqua"/>
              </a:rPr>
              <a:t>Aura/ICESat (future requirement)</a:t>
            </a: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95000" y="317160"/>
            <a:ext cx="81630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Book Antiqua"/>
              </a:rPr>
              <a:t>EOS Validation Activities</a:t>
            </a:r>
            <a:endParaRPr b="1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360" y="1218960"/>
            <a:ext cx="8300880" cy="531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spcBef>
                <a:spcPts val="4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d9"/>
                </a:solidFill>
                <a:latin typeface="Book Antiqua"/>
              </a:rPr>
              <a:t>Aircraft Support</a:t>
            </a: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  <a:p>
            <a:pPr lvl="1" marL="568440" indent="-225360">
              <a:spcBef>
                <a:spcPts val="4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d9"/>
                </a:solidFill>
                <a:latin typeface="Book Antiqua"/>
              </a:rPr>
              <a:t>Cooperative agreement for Univ. of Washington CV-580 (ended in FY01)</a:t>
            </a: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  <a:p>
            <a:pPr lvl="1" marL="568440" indent="-225360">
              <a:spcBef>
                <a:spcPts val="4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d9"/>
                </a:solidFill>
                <a:latin typeface="Book Antiqua"/>
              </a:rPr>
              <a:t>Flight fees (match flight hour costs with EOS investigators; mission peculiar costs)</a:t>
            </a: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  <a:p>
            <a:pPr lvl="1" marL="568440" indent="-225360">
              <a:spcBef>
                <a:spcPts val="4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d9"/>
                </a:solidFill>
                <a:latin typeface="Book Antiqua"/>
              </a:rPr>
              <a:t>Field experiments</a:t>
            </a: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  <a:p>
            <a:pPr lvl="2" marL="914400" indent="-231840">
              <a:spcBef>
                <a:spcPts val="499"/>
              </a:spcBef>
              <a:buClr>
                <a:srgbClr val="ffff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d9"/>
                </a:solidFill>
                <a:latin typeface="Book Antiqua"/>
              </a:rPr>
              <a:t>SAFARI 2000 ($2.2 M) - FY00</a:t>
            </a: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  <a:p>
            <a:pPr lvl="2" marL="914400" indent="-231840">
              <a:spcBef>
                <a:spcPts val="499"/>
              </a:spcBef>
              <a:buClr>
                <a:srgbClr val="ffff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d9"/>
                </a:solidFill>
                <a:latin typeface="Book Antiqua"/>
              </a:rPr>
              <a:t>CLAMS ($134 K) - FY01</a:t>
            </a: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  <a:p>
            <a:pPr lvl="2" marL="914400" indent="-231840">
              <a:spcBef>
                <a:spcPts val="499"/>
              </a:spcBef>
              <a:buClr>
                <a:srgbClr val="ffff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d9"/>
                </a:solidFill>
                <a:latin typeface="Book Antiqua"/>
              </a:rPr>
              <a:t>CRYSTAL-FACE ($2.0 M) - FY02</a:t>
            </a: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  <a:p>
            <a:pPr lvl="2" marL="914400" indent="-231840">
              <a:spcBef>
                <a:spcPts val="499"/>
              </a:spcBef>
              <a:buClr>
                <a:srgbClr val="ffff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d9"/>
                </a:solidFill>
                <a:latin typeface="Book Antiqua"/>
              </a:rPr>
              <a:t>SOLVE II ($1.5 M) - FY03</a:t>
            </a: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  <a:p>
            <a:pPr lvl="2" marL="914400" indent="-231840">
              <a:spcBef>
                <a:spcPts val="499"/>
              </a:spcBef>
              <a:buClr>
                <a:srgbClr val="ffff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d9"/>
                </a:solidFill>
                <a:latin typeface="Book Antiqua"/>
              </a:rPr>
              <a:t>AMSR CLPX, Arctic, Antarctic, SMEX, Precipitation in Japan ($3.4 M) - FY03</a:t>
            </a: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  <a:p>
            <a:pPr lvl="2" marL="914400" indent="-231840">
              <a:spcBef>
                <a:spcPts val="499"/>
              </a:spcBef>
              <a:buClr>
                <a:srgbClr val="ffff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d9"/>
                </a:solidFill>
                <a:latin typeface="Book Antiqua"/>
              </a:rPr>
              <a:t>GLAS THORPEX, Dryden, and Greenland ($170 K) - FY03</a:t>
            </a: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  <a:p>
            <a:pPr lvl="2" marL="914400" indent="-231840">
              <a:spcBef>
                <a:spcPts val="499"/>
              </a:spcBef>
              <a:buClr>
                <a:srgbClr val="ffff00"/>
              </a:buClr>
              <a:buFont typeface="Book Antiqu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d9"/>
                </a:solidFill>
                <a:latin typeface="Book Antiqua"/>
              </a:rPr>
              <a:t>Aura, ICESat, …</a:t>
            </a: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95000" y="317160"/>
            <a:ext cx="81630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Book Antiqua"/>
              </a:rPr>
              <a:t>EOS Validation Activities</a:t>
            </a:r>
            <a:endParaRPr b="1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1218960"/>
            <a:ext cx="8300880" cy="531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spcBef>
                <a:spcPts val="4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d9"/>
                </a:solidFill>
                <a:latin typeface="Book Antiqua"/>
              </a:rPr>
              <a:t>Airborne Simulators</a:t>
            </a: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  <a:p>
            <a:pPr lvl="1" marL="568440" indent="-225360">
              <a:spcBef>
                <a:spcPts val="4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d9"/>
                </a:solidFill>
                <a:latin typeface="Book Antiqua"/>
              </a:rPr>
              <a:t>MASTER</a:t>
            </a: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  <a:p>
            <a:pPr lvl="1" marL="568440" indent="-225360">
              <a:spcBef>
                <a:spcPts val="4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d9"/>
                </a:solidFill>
                <a:latin typeface="Book Antiqua"/>
              </a:rPr>
              <a:t>MAS</a:t>
            </a: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  <a:p>
            <a:pPr lvl="1" marL="568440" indent="-225360">
              <a:spcBef>
                <a:spcPts val="4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d9"/>
                </a:solidFill>
                <a:latin typeface="Book Antiqua"/>
              </a:rPr>
              <a:t>S-HIS</a:t>
            </a: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  <a:p>
            <a:pPr lvl="1" marL="568440" indent="-225360">
              <a:spcBef>
                <a:spcPts val="4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d9"/>
                </a:solidFill>
                <a:latin typeface="Book Antiqua"/>
              </a:rPr>
              <a:t>AirMISR</a:t>
            </a: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  <a:p>
            <a:pPr lvl="1" marL="568440" indent="-225360">
              <a:spcBef>
                <a:spcPts val="4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d9"/>
                </a:solidFill>
                <a:latin typeface="Book Antiqua"/>
              </a:rPr>
              <a:t>Others developed and no longer funded </a:t>
            </a:r>
            <a:br>
              <a:rPr sz="2000"/>
            </a:br>
            <a:r>
              <a:rPr b="1" lang="en-US" sz="2000" spc="-1" strike="noStrike">
                <a:solidFill>
                  <a:srgbClr val="ffffd9"/>
                </a:solidFill>
                <a:latin typeface="Book Antiqua"/>
              </a:rPr>
              <a:t>  (available to propose to NRAs)</a:t>
            </a: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d9"/>
                </a:solidFill>
                <a:latin typeface="Book Antiqua"/>
              </a:rPr>
              <a:t>Science Teams</a:t>
            </a: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  <a:p>
            <a:pPr lvl="1" marL="568440" indent="-2253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d9"/>
                </a:solidFill>
                <a:latin typeface="Book Antiqua"/>
              </a:rPr>
              <a:t>SOLVE NRA</a:t>
            </a: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  <a:p>
            <a:pPr lvl="1" marL="568440" indent="-2253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d9"/>
                </a:solidFill>
                <a:latin typeface="Book Antiqua"/>
              </a:rPr>
              <a:t>SAGE III validation activities</a:t>
            </a:r>
            <a:endParaRPr b="1" lang="en-US" sz="2000" spc="-1" strike="noStrike">
              <a:solidFill>
                <a:srgbClr val="ffffd9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95000" y="317160"/>
            <a:ext cx="81630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Book Antiqua"/>
              </a:rPr>
              <a:t>EOS Validation Activities</a:t>
            </a:r>
            <a:endParaRPr b="1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6720" y="39430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9"/>
                </a:solidFill>
                <a:latin typeface="Book Antiqua"/>
              </a:rPr>
              <a:t>“</a:t>
            </a:r>
            <a:r>
              <a:rPr b="1" lang="en-US" sz="1800" spc="-1" strike="noStrike">
                <a:solidFill>
                  <a:srgbClr val="ffffd9"/>
                </a:solidFill>
                <a:latin typeface="Book Antiqua"/>
              </a:rPr>
              <a:t>The goal of the algorithm refinement activity is this NRA is to provide the scientific community with an archived long-term data set of each relevant measurement parameter with </a:t>
            </a:r>
            <a:r>
              <a:rPr b="1" i="1" lang="en-US" sz="1800" spc="-1" strike="noStrike">
                <a:solidFill>
                  <a:srgbClr val="ffffd9"/>
                </a:solidFill>
                <a:latin typeface="Book Antiqua"/>
              </a:rPr>
              <a:t>the measurement uncertainties indicated as a function of time and location for all the data</a:t>
            </a:r>
            <a:r>
              <a:rPr b="0" i="1" lang="en-US" sz="1800" spc="-1" strike="noStrike">
                <a:solidFill>
                  <a:srgbClr val="ffffd9"/>
                </a:solidFill>
                <a:latin typeface="Book Antiqua"/>
              </a:rPr>
              <a:t>.”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d9"/>
                </a:solidFill>
                <a:latin typeface="Book Antiqua"/>
              </a:rPr>
              <a:t>“…a limited amount of continuing or new validation intercomparison will be allowed.”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d9"/>
                </a:solidFill>
                <a:latin typeface="Book Antiqua"/>
              </a:rPr>
              <a:t>“…the NRA can permit new studies that cover new areas of validation needed to verify sensor performance over longer times or different observing conditions. As noted above, </a:t>
            </a:r>
            <a:r>
              <a:rPr b="1" i="1" lang="en-US" sz="1800" spc="-1" strike="noStrike">
                <a:solidFill>
                  <a:srgbClr val="ffffd9"/>
                </a:solidFill>
                <a:latin typeface="Book Antiqua"/>
              </a:rPr>
              <a:t>comparison with existing satellite and/or ground networks and existing calibration sites may be proposed</a:t>
            </a:r>
            <a:r>
              <a:rPr b="1" lang="en-US" sz="1800" spc="-1" strike="noStrike">
                <a:solidFill>
                  <a:srgbClr val="ffffd9"/>
                </a:solidFill>
                <a:latin typeface="Book Antiqua"/>
              </a:rPr>
              <a:t>…”</a:t>
            </a:r>
            <a:endParaRPr b="1" lang="en-US" sz="18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8" name=""/>
          <p:cNvSpPr/>
          <p:nvPr/>
        </p:nvSpPr>
        <p:spPr>
          <a:xfrm>
            <a:off x="495360" y="1003320"/>
            <a:ext cx="8163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Book Antiqua"/>
              </a:rPr>
              <a:t>NASA Research Announcement relevant to LPV: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Book Antiqua"/>
              </a:rPr>
              <a:t>Earth System Science Research using Data and Products from TERRA, AQUA and ACRIM Satellites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Book Antiqua"/>
              </a:rPr>
              <a:t>(NRA-03-OES-02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6T16:44:39Z</dcterms:created>
  <dc:creator>sep</dc:creator>
  <dc:description/>
  <dc:language>en-US</dc:language>
  <cp:lastModifiedBy>Jeffrey T. Morisette</cp:lastModifiedBy>
  <cp:lastPrinted>2003-01-17T13:48:37Z</cp:lastPrinted>
  <dcterms:modified xsi:type="dcterms:W3CDTF">2003-02-12T04:52:04Z</dcterms:modified>
  <cp:revision>490</cp:revision>
  <dc:subject/>
  <dc:title>PowerPoint Presentation</dc:title>
</cp:coreProperties>
</file>