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6.jpeg" ContentType="image/jpeg"/>
  <Override PartName="/ppt/media/image10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B09-57D9-4461-86C0-8A128229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8C6-F6E0-4656-81BB-9CC0F0B5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901-6CB8-4CFB-A99C-9964F466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0A4-C335-4ED4-BAAB-F8335964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864-4A93-48EE-ADFE-A21A6253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F96-12CC-4044-904D-483F93B0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147-F64E-4FC4-83D5-7D2489AD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304-02EA-429D-B80F-AC84EF9A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421-F40C-4693-975C-5C478D1A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A9E-C8C8-438F-AD20-256333C3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74C-31EE-4248-819E-CFCD57C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9C1-76F4-4206-AE61-11AB5FEA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A01-56F4-470D-B8EB-843B928E4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mrlogo" descr=""/>
          <p:cNvPicPr/>
          <p:nvPr/>
        </p:nvPicPr>
        <p:blipFill>
          <a:blip r:embed="rId1"/>
          <a:stretch/>
        </p:blipFill>
        <p:spPr>
          <a:xfrm>
            <a:off x="609480" y="5829480"/>
            <a:ext cx="1190880" cy="1028520"/>
          </a:xfrm>
          <a:prstGeom prst="rect">
            <a:avLst/>
          </a:prstGeom>
          <a:ln w="0">
            <a:noFill/>
          </a:ln>
        </p:spPr>
      </p:pic>
      <p:pic>
        <p:nvPicPr>
          <p:cNvPr id="42" name="aatsr_logo" descr=""/>
          <p:cNvPicPr/>
          <p:nvPr/>
        </p:nvPicPr>
        <p:blipFill>
          <a:blip r:embed="rId2"/>
          <a:stretch/>
        </p:blipFill>
        <p:spPr>
          <a:xfrm>
            <a:off x="6946920" y="5853240"/>
            <a:ext cx="1714320" cy="81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266760"/>
            <a:ext cx="82044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port of Australian Activities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CEOS WGCV#2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4720" y="2260440"/>
            <a:ext cx="7467480" cy="31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an Barton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SIRO Marine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esentation to CEOS WGCV#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SIRO Marine Labs, Hobart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aimslogo-130s" descr=""/>
          <p:cNvPicPr/>
          <p:nvPr/>
        </p:nvPicPr>
        <p:blipFill>
          <a:blip r:embed="rId3"/>
          <a:stretch/>
        </p:blipFill>
        <p:spPr>
          <a:xfrm>
            <a:off x="3927600" y="5781600"/>
            <a:ext cx="1238040" cy="92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31840" y="1625760"/>
            <a:ext cx="49658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77840" y="949320"/>
          <a:ext cx="8810640" cy="513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77840" y="949320"/>
                    <a:ext cx="881064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mrlogo" descr=""/>
          <p:cNvPicPr/>
          <p:nvPr/>
        </p:nvPicPr>
        <p:blipFill>
          <a:blip r:embed="rId1"/>
          <a:stretch/>
        </p:blipFill>
        <p:spPr>
          <a:xfrm>
            <a:off x="609480" y="5829480"/>
            <a:ext cx="1190880" cy="1028520"/>
          </a:xfrm>
          <a:prstGeom prst="rect">
            <a:avLst/>
          </a:prstGeom>
          <a:ln w="0">
            <a:noFill/>
          </a:ln>
        </p:spPr>
      </p:pic>
      <p:pic>
        <p:nvPicPr>
          <p:cNvPr id="74" name="aatsr_logo" descr=""/>
          <p:cNvPicPr/>
          <p:nvPr/>
        </p:nvPicPr>
        <p:blipFill>
          <a:blip r:embed="rId2"/>
          <a:stretch/>
        </p:blipFill>
        <p:spPr>
          <a:xfrm>
            <a:off x="6946920" y="5853240"/>
            <a:ext cx="1714320" cy="814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5360" y="0"/>
            <a:ext cx="8204040" cy="158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Validation of AATSR SST estimates 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ralian tropical wa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4280" y="1917720"/>
            <a:ext cx="8178840" cy="351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ate      Time  BulkSST  SkinSST  AATSR   AATSR-Sk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23/09/02   2208     24.65       24.55       24.40          -0.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21/10/02   2227     25.92       25.86       25.82          -0.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aimslogo-130s" descr=""/>
          <p:cNvPicPr/>
          <p:nvPr/>
        </p:nvPicPr>
        <p:blipFill>
          <a:blip r:embed="rId3"/>
          <a:stretch/>
        </p:blipFill>
        <p:spPr>
          <a:xfrm>
            <a:off x="3838680" y="5934240"/>
            <a:ext cx="1238040" cy="923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06640" y="1828800"/>
            <a:ext cx="49658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mrlogo" descr=""/>
          <p:cNvPicPr/>
          <p:nvPr/>
        </p:nvPicPr>
        <p:blipFill>
          <a:blip r:embed="rId1"/>
          <a:stretch/>
        </p:blipFill>
        <p:spPr>
          <a:xfrm>
            <a:off x="609480" y="5829480"/>
            <a:ext cx="1190880" cy="1028520"/>
          </a:xfrm>
          <a:prstGeom prst="rect">
            <a:avLst/>
          </a:prstGeom>
          <a:ln w="0">
            <a:noFill/>
          </a:ln>
        </p:spPr>
      </p:pic>
      <p:pic>
        <p:nvPicPr>
          <p:cNvPr id="80" name="aatsr_logo" descr=""/>
          <p:cNvPicPr/>
          <p:nvPr/>
        </p:nvPicPr>
        <p:blipFill>
          <a:blip r:embed="rId2"/>
          <a:stretch/>
        </p:blipFill>
        <p:spPr>
          <a:xfrm>
            <a:off x="6946920" y="5853240"/>
            <a:ext cx="1714320" cy="81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4160" y="0"/>
            <a:ext cx="85978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lidation of Land Surface Temperature (LS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1295280"/>
            <a:ext cx="8394840" cy="41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hree land sites on the Australian continent are maintain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r Fred Prata of CSIRO Atmospheric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ach site makes continuous measurements of many parame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cluding L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easurements are made at several locations within a 1 km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rea and are transmitted to a central l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elays in delivery of AATSR data mean that no analysi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he coincident data have yet been per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ata collection will continue through the next y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aimslogo-130s" descr=""/>
          <p:cNvPicPr/>
          <p:nvPr/>
        </p:nvPicPr>
        <p:blipFill>
          <a:blip r:embed="rId3"/>
          <a:stretch/>
        </p:blipFill>
        <p:spPr>
          <a:xfrm>
            <a:off x="3749760" y="5718240"/>
            <a:ext cx="1238040" cy="923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30320" y="1168560"/>
            <a:ext cx="49658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oz_map" descr=""/>
          <p:cNvPicPr/>
          <p:nvPr/>
        </p:nvPicPr>
        <p:blipFill>
          <a:blip r:embed="rId1"/>
          <a:stretch/>
        </p:blipFill>
        <p:spPr>
          <a:xfrm>
            <a:off x="585720" y="0"/>
            <a:ext cx="812664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86" name=""/>
          <p:cNvSpPr txBox="1"/>
          <p:nvPr/>
        </p:nvSpPr>
        <p:spPr>
          <a:xfrm>
            <a:off x="6383160" y="4896000"/>
            <a:ext cx="352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981760" y="4781520"/>
            <a:ext cx="13590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6159600" y="4749840"/>
            <a:ext cx="533160" cy="2538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3086280"/>
            <a:ext cx="723960" cy="41904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pr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03520" y="2095560"/>
            <a:ext cx="838080" cy="35568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hango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565360"/>
            <a:ext cx="1143000" cy="33012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ownsvil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240" y="4584600"/>
            <a:ext cx="800280" cy="33048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er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13400" y="6159600"/>
            <a:ext cx="965160" cy="34272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oba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4720" y="5778360"/>
            <a:ext cx="2311560" cy="406440"/>
          </a:xfrm>
          <a:prstGeom prst="rect">
            <a:avLst/>
          </a:prstGeom>
          <a:solidFill>
            <a:srgbClr val="33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ST Validation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4720" y="6197760"/>
            <a:ext cx="2311560" cy="36828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ST Validation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90800" y="22860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TSR-2 image of the Uardry field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Ian" descr=""/>
          <p:cNvPicPr/>
          <p:nvPr/>
        </p:nvPicPr>
        <p:blipFill>
          <a:blip r:embed="rId1"/>
          <a:stretch/>
        </p:blipFill>
        <p:spPr>
          <a:xfrm>
            <a:off x="1900080" y="1141560"/>
            <a:ext cx="564048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070000" y="3268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Albedo measurements at Uardry, NS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Ian" descr=""/>
          <p:cNvPicPr/>
          <p:nvPr/>
        </p:nvPicPr>
        <p:blipFill>
          <a:blip r:embed="rId1"/>
          <a:stretch/>
        </p:blipFill>
        <p:spPr>
          <a:xfrm>
            <a:off x="1442880" y="1031760"/>
            <a:ext cx="60976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57480" y="558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 Narrow Bold"/>
              </a:rPr>
              <a:t>Amburla Field Site, Alice Springs  NorthernTerr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30320" y="5713560"/>
            <a:ext cx="4457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Ian" descr=""/>
          <p:cNvPicPr/>
          <p:nvPr/>
        </p:nvPicPr>
        <p:blipFill>
          <a:blip r:embed="rId1"/>
          <a:stretch/>
        </p:blipFill>
        <p:spPr>
          <a:xfrm>
            <a:off x="1544760" y="1197000"/>
            <a:ext cx="58593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dmrlogo" descr=""/>
          <p:cNvPicPr/>
          <p:nvPr/>
        </p:nvPicPr>
        <p:blipFill>
          <a:blip r:embed="rId1"/>
          <a:stretch/>
        </p:blipFill>
        <p:spPr>
          <a:xfrm>
            <a:off x="609480" y="5829480"/>
            <a:ext cx="1190880" cy="1028520"/>
          </a:xfrm>
          <a:prstGeom prst="rect">
            <a:avLst/>
          </a:prstGeom>
          <a:ln w="0">
            <a:noFill/>
          </a:ln>
        </p:spPr>
      </p:pic>
      <p:pic>
        <p:nvPicPr>
          <p:cNvPr id="104" name="aatsr_logo" descr=""/>
          <p:cNvPicPr/>
          <p:nvPr/>
        </p:nvPicPr>
        <p:blipFill>
          <a:blip r:embed="rId2"/>
          <a:stretch/>
        </p:blipFill>
        <p:spPr>
          <a:xfrm>
            <a:off x="6946920" y="5853240"/>
            <a:ext cx="1714320" cy="814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06440" y="0"/>
            <a:ext cx="82040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 from AATSR Valid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ampa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3040" y="1295280"/>
            <a:ext cx="8394840" cy="41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TSR-2 is still supplying high quality data after 7 years in orb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itial comparison of AATSR SST estimates  with ship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ow excellent agre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ood validation coincidences are difficult to a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ATSR SST (like SST from ATSR-2) and LST will ne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ontinuing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ustralian institutes will continue to provide data for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geophysical validation of surface temperatures from AATS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imslogo-130s" descr=""/>
          <p:cNvPicPr/>
          <p:nvPr/>
        </p:nvPicPr>
        <p:blipFill>
          <a:blip r:embed="rId3"/>
          <a:stretch/>
        </p:blipFill>
        <p:spPr>
          <a:xfrm>
            <a:off x="3648240" y="5718240"/>
            <a:ext cx="1238040" cy="923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30320" y="1168560"/>
            <a:ext cx="49658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mrlogo" descr=""/>
          <p:cNvPicPr/>
          <p:nvPr/>
        </p:nvPicPr>
        <p:blipFill>
          <a:blip r:embed="rId1"/>
          <a:stretch/>
        </p:blipFill>
        <p:spPr>
          <a:xfrm>
            <a:off x="7953480" y="582948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3840" y="177840"/>
            <a:ext cx="82040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Validation of MERIS in Australian Wa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295280"/>
            <a:ext cx="8369280" cy="43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an Barton</a:t>
            </a:r>
            <a:r>
              <a:rPr b="0" lang="en-US" sz="2800" spc="-1" strike="noStrike" baseline="30000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- on behalf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. Dekker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, J. Parslow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, L. Clementson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, M. Lynch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L. Majewski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, W. Skirving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, M. Furnas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, et 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(The Australian Ocean Colour Working Gro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SIRO     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urtin University     </a:t>
            </a:r>
            <a:r>
              <a:rPr b="0" lang="en-US" sz="2400" spc="-1" strike="noStrike" baseline="30000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I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resentation to the ENVISAT Validation Worksh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SA/ESRIN, Frascati, Italy,  9-13 December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imslogo-130s" descr=""/>
          <p:cNvPicPr/>
          <p:nvPr/>
        </p:nvPicPr>
        <p:blipFill>
          <a:blip r:embed="rId2"/>
          <a:stretch/>
        </p:blipFill>
        <p:spPr>
          <a:xfrm>
            <a:off x="0" y="593424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43280" y="914400"/>
            <a:ext cx="496548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6095880"/>
            <a:ext cx="1676520" cy="596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urtin Univers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61320" y="6705720"/>
            <a:ext cx="128268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dmrlogo" descr=""/>
          <p:cNvPicPr/>
          <p:nvPr/>
        </p:nvPicPr>
        <p:blipFill>
          <a:blip r:embed="rId1"/>
          <a:stretch/>
        </p:blipFill>
        <p:spPr>
          <a:xfrm>
            <a:off x="7953480" y="565164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600" y="0"/>
            <a:ext cx="82040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ER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Validation Campaigns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181160"/>
            <a:ext cx="7924680" cy="41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.  Australia is able to supply ocean colour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ata in “clean” southern hemisphere sk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.  Great Barrier Reef.  2 cruises on Lady Bast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-14 June 2002   &amp;   21-30 October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.  Perth cruises.  MesoCat.  Scheduled trips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incide with clear MERIS passe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o trips yet - but are planned starting this mon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4.  Moreton Bay cruises.  Regular data coll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aimslogo-130s" descr=""/>
          <p:cNvPicPr/>
          <p:nvPr/>
        </p:nvPicPr>
        <p:blipFill>
          <a:blip r:embed="rId2"/>
          <a:stretch/>
        </p:blipFill>
        <p:spPr>
          <a:xfrm>
            <a:off x="0" y="593424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968480" y="825480"/>
            <a:ext cx="49658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83160" y="6048360"/>
            <a:ext cx="184788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urtin Univers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66000" y="6507000"/>
            <a:ext cx="127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mrlogo" descr=""/>
          <p:cNvPicPr/>
          <p:nvPr/>
        </p:nvPicPr>
        <p:blipFill>
          <a:blip r:embed="rId1"/>
          <a:stretch/>
        </p:blipFill>
        <p:spPr>
          <a:xfrm>
            <a:off x="609480" y="5829480"/>
            <a:ext cx="1190880" cy="1028520"/>
          </a:xfrm>
          <a:prstGeom prst="rect">
            <a:avLst/>
          </a:prstGeom>
          <a:ln w="0">
            <a:noFill/>
          </a:ln>
        </p:spPr>
      </p:pic>
      <p:pic>
        <p:nvPicPr>
          <p:cNvPr id="48" name="aatsr_logo" descr=""/>
          <p:cNvPicPr/>
          <p:nvPr/>
        </p:nvPicPr>
        <p:blipFill>
          <a:blip r:embed="rId2"/>
          <a:stretch/>
        </p:blipFill>
        <p:spPr>
          <a:xfrm>
            <a:off x="6946920" y="5853240"/>
            <a:ext cx="1714320" cy="81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680" y="673200"/>
            <a:ext cx="817848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tructure of Report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1640" y="1612800"/>
            <a:ext cx="8178840" cy="391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.  ENVISAT:  AATSR SST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.  ENVISAT:  AATSR LST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ENVISAT:  MERIS Ocean Colour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3333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SeaHARRE-II:  Ocean colour round-rob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486080"/>
            <a:ext cx="49658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aimslogo-130s" descr=""/>
          <p:cNvPicPr/>
          <p:nvPr/>
        </p:nvPicPr>
        <p:blipFill>
          <a:blip r:embed="rId3"/>
          <a:stretch/>
        </p:blipFill>
        <p:spPr>
          <a:xfrm>
            <a:off x="4092480" y="5934240"/>
            <a:ext cx="123840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dmrlogo" descr=""/>
          <p:cNvPicPr/>
          <p:nvPr/>
        </p:nvPicPr>
        <p:blipFill>
          <a:blip r:embed="rId1"/>
          <a:stretch/>
        </p:blipFill>
        <p:spPr>
          <a:xfrm>
            <a:off x="7953480" y="582948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1680" y="203040"/>
            <a:ext cx="820404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Lady Basten Crui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219320"/>
            <a:ext cx="7950240" cy="444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he following instruments were deployed dur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he Lady Basten cruises 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iskin bottles for HPL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yperspectral radiometer (Zeiss M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TD su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ofiling radiometers (Biospherical PRR-600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OBILabs Hydrorad, Trios Ram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Hand-held spectroradiometer (SIMB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aimslogo-130s" descr=""/>
          <p:cNvPicPr/>
          <p:nvPr/>
        </p:nvPicPr>
        <p:blipFill>
          <a:blip r:embed="rId2"/>
          <a:stretch/>
        </p:blipFill>
        <p:spPr>
          <a:xfrm>
            <a:off x="0" y="593424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095560" y="1104840"/>
            <a:ext cx="496548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6022800"/>
            <a:ext cx="184788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urtin Univers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00920" y="6659640"/>
            <a:ext cx="1243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dmrlogo" descr=""/>
          <p:cNvPicPr/>
          <p:nvPr/>
        </p:nvPicPr>
        <p:blipFill>
          <a:blip r:embed="rId1"/>
          <a:stretch/>
        </p:blipFill>
        <p:spPr>
          <a:xfrm>
            <a:off x="7953480" y="582948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5360" y="355680"/>
            <a:ext cx="82040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dy Basten Clear-Sky Coincidenc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2880" y="1346040"/>
            <a:ext cx="7912080" cy="44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ata collected on the following days are waiting for M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ata for geophysical valid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ate     Time(local)  Latitude  Longitude    Clear ATSR-2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10/06/02       0945         -20.521    149.132             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13/06/02       0951         -10.099    147.142             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21/10/02       1005         -18.249    147.263              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25/10/02       0939         -20.003    149.130              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28/10/02       0945         -20.366    149.111              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aimslogo-130s" descr=""/>
          <p:cNvPicPr/>
          <p:nvPr/>
        </p:nvPicPr>
        <p:blipFill>
          <a:blip r:embed="rId2"/>
          <a:stretch/>
        </p:blipFill>
        <p:spPr>
          <a:xfrm>
            <a:off x="0" y="593424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943280" y="1168560"/>
            <a:ext cx="496548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36960" y="6060960"/>
            <a:ext cx="184788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urtin Univers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75720" y="6672240"/>
            <a:ext cx="1268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an" descr=""/>
          <p:cNvPicPr/>
          <p:nvPr/>
        </p:nvPicPr>
        <p:blipFill>
          <a:blip r:embed="rId1"/>
          <a:stretch/>
        </p:blipFill>
        <p:spPr>
          <a:xfrm>
            <a:off x="-146160" y="-209520"/>
            <a:ext cx="7075440" cy="7075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27000" y="3492360"/>
            <a:ext cx="138240" cy="127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08760" y="-203040"/>
            <a:ext cx="2235240" cy="706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TSR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1021 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13/6/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E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validation dat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HPLC (Nisk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Zeiss radiom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CTD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Prof. Radiom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RR-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 SIMBAD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dmrlogo" descr=""/>
          <p:cNvPicPr/>
          <p:nvPr/>
        </p:nvPicPr>
        <p:blipFill>
          <a:blip r:embed="rId1"/>
          <a:stretch/>
        </p:blipFill>
        <p:spPr>
          <a:xfrm>
            <a:off x="7953480" y="582948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680" y="203040"/>
            <a:ext cx="8204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Perth Crui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219320"/>
            <a:ext cx="7950240" cy="444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.  Plans for monthly and quarterly transects o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he Western Australian coast.  Perth - month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Geraldton &amp; Bunbury - quarte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uises will take place on clear-sky days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 suitable MERIS overp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.  Perth - Singapore transect:  Plans to instrument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reighter with underway thermosalinograph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luorometer.  Fortnightly turn-a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aimslogo-130s" descr=""/>
          <p:cNvPicPr/>
          <p:nvPr/>
        </p:nvPicPr>
        <p:blipFill>
          <a:blip r:embed="rId2"/>
          <a:stretch/>
        </p:blipFill>
        <p:spPr>
          <a:xfrm>
            <a:off x="0" y="593424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095560" y="914400"/>
            <a:ext cx="496548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6022800"/>
            <a:ext cx="184788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urtin Univers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13520" y="6647040"/>
            <a:ext cx="1230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mrlogo" descr=""/>
          <p:cNvPicPr/>
          <p:nvPr/>
        </p:nvPicPr>
        <p:blipFill>
          <a:blip r:embed="rId1"/>
          <a:stretch/>
        </p:blipFill>
        <p:spPr>
          <a:xfrm>
            <a:off x="7953480" y="582948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71680" y="203040"/>
            <a:ext cx="8204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Moreton Bay Cruises (near Brisban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219320"/>
            <a:ext cx="7950240" cy="444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ovember 1 and 26 -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llected samples for pigments, CDOM, and T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uring MERIS overpass with clear skies and wi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less than 5 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December 9 or 16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anned collection of above samples as well 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-9, Ramses, Hydroscat-6 to coincide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MERIS overp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aimslogo-130s" descr=""/>
          <p:cNvPicPr/>
          <p:nvPr/>
        </p:nvPicPr>
        <p:blipFill>
          <a:blip r:embed="rId2"/>
          <a:stretch/>
        </p:blipFill>
        <p:spPr>
          <a:xfrm>
            <a:off x="0" y="593424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95560" y="914400"/>
            <a:ext cx="496548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6022800"/>
            <a:ext cx="184788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urtin Univers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13520" y="6659640"/>
            <a:ext cx="1230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dmrlogo" descr=""/>
          <p:cNvPicPr/>
          <p:nvPr/>
        </p:nvPicPr>
        <p:blipFill>
          <a:blip r:embed="rId1"/>
          <a:stretch/>
        </p:blipFill>
        <p:spPr>
          <a:xfrm>
            <a:off x="7953480" y="582948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31640" y="266760"/>
            <a:ext cx="8204400" cy="11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onclusions from MERIS Valid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campa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803240"/>
            <a:ext cx="7365960" cy="389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ata have been collected and are waiting on MER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data for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ustralian scientists are keen to provide geophys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validation data for the “clean” southern hemi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imely availability of MERIS data would maint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his “keen-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SIRO Land &amp; Water and CSIRO Marine Research a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planning to validate MERIS and MODIS ocean produ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 Australian waters through 2003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aimslogo-130s" descr=""/>
          <p:cNvPicPr/>
          <p:nvPr/>
        </p:nvPicPr>
        <p:blipFill>
          <a:blip r:embed="rId2"/>
          <a:stretch/>
        </p:blipFill>
        <p:spPr>
          <a:xfrm>
            <a:off x="0" y="593424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006640" y="1574640"/>
            <a:ext cx="49658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78240" y="6060960"/>
            <a:ext cx="184788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urtin Univers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f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8320" y="6659640"/>
            <a:ext cx="1255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dmrlogo" descr=""/>
          <p:cNvPicPr/>
          <p:nvPr/>
        </p:nvPicPr>
        <p:blipFill>
          <a:blip r:embed="rId1"/>
          <a:stretch/>
        </p:blipFill>
        <p:spPr>
          <a:xfrm>
            <a:off x="7953480" y="5829480"/>
            <a:ext cx="1190520" cy="102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1640" y="266760"/>
            <a:ext cx="8204400" cy="11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eaHARRE-II,  the Second SeaWiFS HPLC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Analysis Round-Robin Exper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03240"/>
            <a:ext cx="7365960" cy="389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 round-robin analysis led by N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ight laboratories around the globe are analy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ommon samples using HPLC analy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Refrigerated samples arrive in Hobart last week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ncluded standard samples supplied to each la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amples will be analysed in Hobart during th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w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A report on SeaHARRE-I is available as a SeaWiF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echnical Report, Vol.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06640" y="1574640"/>
            <a:ext cx="496584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88320" y="6659640"/>
            <a:ext cx="1255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an" descr=""/>
          <p:cNvPicPr/>
          <p:nvPr/>
        </p:nvPicPr>
        <p:blipFill>
          <a:blip r:embed="rId1"/>
          <a:stretch/>
        </p:blipFill>
        <p:spPr>
          <a:xfrm>
            <a:off x="-401760" y="0"/>
            <a:ext cx="100188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mrlogo" descr=""/>
          <p:cNvPicPr/>
          <p:nvPr/>
        </p:nvPicPr>
        <p:blipFill>
          <a:blip r:embed="rId1"/>
          <a:stretch/>
        </p:blipFill>
        <p:spPr>
          <a:xfrm>
            <a:off x="609480" y="5829480"/>
            <a:ext cx="1190880" cy="1028520"/>
          </a:xfrm>
          <a:prstGeom prst="rect">
            <a:avLst/>
          </a:prstGeom>
          <a:ln w="0">
            <a:noFill/>
          </a:ln>
        </p:spPr>
      </p:pic>
      <p:pic>
        <p:nvPicPr>
          <p:cNvPr id="54" name="aatsr_logo" descr=""/>
          <p:cNvPicPr/>
          <p:nvPr/>
        </p:nvPicPr>
        <p:blipFill>
          <a:blip r:embed="rId2"/>
          <a:stretch/>
        </p:blipFill>
        <p:spPr>
          <a:xfrm>
            <a:off x="6946920" y="5853240"/>
            <a:ext cx="171432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35040" y="863640"/>
            <a:ext cx="820404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SST Validation -   DAR011 Radiome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on the RV Lady Bast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640" y="2489040"/>
            <a:ext cx="7886880" cy="294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our cruises on the RV Lady Basten all Townsville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Townsville and operating near the Great Barrier Ree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4 May - 2 June, 2002             2  Val.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 - 14 June, 2002                     4  Val.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9 - 28 September, 2002          3  Val.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•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1 - 30 October, 2002              4  Val. po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aimslogo-130s" descr=""/>
          <p:cNvPicPr/>
          <p:nvPr/>
        </p:nvPicPr>
        <p:blipFill>
          <a:blip r:embed="rId3"/>
          <a:stretch/>
        </p:blipFill>
        <p:spPr>
          <a:xfrm>
            <a:off x="4092480" y="593424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44800" y="2095560"/>
            <a:ext cx="4965480" cy="0"/>
          </a:xfrm>
          <a:prstGeom prst="line">
            <a:avLst/>
          </a:prstGeom>
          <a:ln w="284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an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an" descr=""/>
          <p:cNvPicPr/>
          <p:nvPr/>
        </p:nvPicPr>
        <p:blipFill>
          <a:blip r:embed="rId1"/>
          <a:stretch/>
        </p:blipFill>
        <p:spPr>
          <a:xfrm>
            <a:off x="0" y="-684360"/>
            <a:ext cx="10055160" cy="754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an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396360" cy="70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b0202" descr=""/>
          <p:cNvPicPr/>
          <p:nvPr/>
        </p:nvPicPr>
        <p:blipFill>
          <a:blip r:embed="rId1"/>
          <a:stretch/>
        </p:blipFill>
        <p:spPr>
          <a:xfrm>
            <a:off x="-152280" y="-216000"/>
            <a:ext cx="7073640" cy="707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27000" y="3492360"/>
            <a:ext cx="138240" cy="127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08760" y="-203040"/>
            <a:ext cx="2235240" cy="706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ATSR-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1021 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13/6/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AR           24.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asco          24.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TSR-Nad 24.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TSR-4ch  24.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BSST          24.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00280" y="343080"/>
            <a:ext cx="772128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SR-2 validation results from 2 Lady Basten cru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200" y="1147680"/>
            <a:ext cx="87152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Date   EST    Lat      Lon    PRT   DAR  Tasco  NAD   DUA   SST4  SST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28/5  2247  -17.038  147.168 26.53 26.26 26.22 26.44 26.75 26.54 26.4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31/5  2253  -19.037  146.861 25.40 25.25 25.15 25.24 25.95 26.50 25.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07/6  2232  -20.339  149.755 24.75 24.72 24.55 24.76 27.55 24.49 24.7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10/6  1015  -20.521  149.132 23.46 23.25 23.22 23.34 24.08 23.37 00.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10/6  2237  -20.393  149.251 23.80 23.70 23.38 23.72 24.12 23.65 23.7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13/6  1021  -19.099  147.142 24.17 24.15 24.00 24.10 23.48 24.13 00.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NOT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Dates and times are local.  EST is 10 hours ahead of U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PRT is bulk SST from Platinum Resistance Therm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DAR is sky-corrected skin SST from DAR011 radi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Tasco is sky-corrected skin SST from Tasco radi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NAD is nadir-only ATSR-2 SST from *.GSST-LXC 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DUA is dual-view ATSR-2 SST from *.GSST-LXC fi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SST4* is four-channel ATSR-2 SST with manual alignment of two vie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SST6* is six-channel ATSR-2 SST with manual alignment of two vie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3333cc"/>
                </a:solidFill>
                <a:latin typeface="Courier New"/>
              </a:rPr>
              <a:t>* Merchant SST coefficients use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00280" y="343080"/>
            <a:ext cx="772128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TSR-2 validation results from first 2 Lady Basten cru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lb_results" descr=""/>
          <p:cNvPicPr/>
          <p:nvPr/>
        </p:nvPicPr>
        <p:blipFill>
          <a:blip r:embed="rId1"/>
          <a:stretch/>
        </p:blipFill>
        <p:spPr>
          <a:xfrm>
            <a:off x="1066680" y="800280"/>
            <a:ext cx="72597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06:13:22Z</dcterms:created>
  <dc:creator>Ian Barton</dc:creator>
  <dc:description/>
  <dc:language>en-US</dc:language>
  <cp:lastModifiedBy>Marie-Claire Robinson</cp:lastModifiedBy>
  <dcterms:modified xsi:type="dcterms:W3CDTF">2003-03-04T14:35:13Z</dcterms:modified>
  <cp:revision>56</cp:revision>
  <dc:subject>EOC 99</dc:subject>
  <dc:title>Task 2.2:   SST Validation</dc:title>
</cp:coreProperties>
</file>