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4758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716280"/>
            <a:ext cx="84758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136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00600" y="1447560"/>
            <a:ext cx="4136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716280"/>
            <a:ext cx="4136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800600" y="3716280"/>
            <a:ext cx="4136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728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22800" y="1447560"/>
            <a:ext cx="2728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188400" y="1447560"/>
            <a:ext cx="2728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716280"/>
            <a:ext cx="2728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22800" y="3716280"/>
            <a:ext cx="2728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188400" y="3716280"/>
            <a:ext cx="2728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475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475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136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00600" y="1447560"/>
            <a:ext cx="4136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136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00600" y="1447560"/>
            <a:ext cx="4136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16280"/>
            <a:ext cx="4136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136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00600" y="1447560"/>
            <a:ext cx="4136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800600" y="3716280"/>
            <a:ext cx="4136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136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00600" y="1447560"/>
            <a:ext cx="4136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716280"/>
            <a:ext cx="84758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29"/>
            </a:gs>
            <a:gs pos="50000">
              <a:srgbClr val="003399"/>
            </a:gs>
            <a:gs pos="100000">
              <a:srgbClr val="000d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475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00"/>
              </a:buClr>
              <a:buSzPct val="75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80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80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397640" y="6019920"/>
            <a:ext cx="1531800" cy="609480"/>
            <a:chOff x="7397640" y="6019920"/>
            <a:chExt cx="1531800" cy="609480"/>
          </a:xfrm>
        </p:grpSpPr>
        <p:sp>
          <p:nvSpPr>
            <p:cNvPr id="3" name=""/>
            <p:cNvSpPr/>
            <p:nvPr/>
          </p:nvSpPr>
          <p:spPr>
            <a:xfrm>
              <a:off x="8552880" y="6019920"/>
              <a:ext cx="376560" cy="406440"/>
            </a:xfrm>
            <a:custGeom>
              <a:avLst/>
              <a:gdLst/>
              <a:ahLst/>
              <a:rect l="l" t="t" r="r" b="b"/>
              <a:pathLst>
                <a:path w="257" h="256">
                  <a:moveTo>
                    <a:pt x="192" y="126"/>
                  </a:moveTo>
                  <a:lnTo>
                    <a:pt x="198" y="126"/>
                  </a:lnTo>
                  <a:lnTo>
                    <a:pt x="202" y="126"/>
                  </a:lnTo>
                  <a:lnTo>
                    <a:pt x="204" y="126"/>
                  </a:lnTo>
                  <a:lnTo>
                    <a:pt x="206" y="124"/>
                  </a:lnTo>
                  <a:lnTo>
                    <a:pt x="206" y="83"/>
                  </a:lnTo>
                  <a:lnTo>
                    <a:pt x="210" y="83"/>
                  </a:lnTo>
                  <a:lnTo>
                    <a:pt x="210" y="124"/>
                  </a:lnTo>
                  <a:lnTo>
                    <a:pt x="210" y="126"/>
                  </a:lnTo>
                  <a:lnTo>
                    <a:pt x="214" y="126"/>
                  </a:lnTo>
                  <a:lnTo>
                    <a:pt x="214" y="85"/>
                  </a:lnTo>
                  <a:lnTo>
                    <a:pt x="212" y="85"/>
                  </a:lnTo>
                  <a:lnTo>
                    <a:pt x="212" y="81"/>
                  </a:lnTo>
                  <a:lnTo>
                    <a:pt x="204" y="81"/>
                  </a:lnTo>
                  <a:lnTo>
                    <a:pt x="204" y="89"/>
                  </a:lnTo>
                  <a:lnTo>
                    <a:pt x="202" y="89"/>
                  </a:lnTo>
                  <a:lnTo>
                    <a:pt x="200" y="81"/>
                  </a:lnTo>
                  <a:lnTo>
                    <a:pt x="198" y="79"/>
                  </a:lnTo>
                  <a:lnTo>
                    <a:pt x="196" y="77"/>
                  </a:lnTo>
                  <a:lnTo>
                    <a:pt x="198" y="77"/>
                  </a:lnTo>
                  <a:lnTo>
                    <a:pt x="198" y="75"/>
                  </a:lnTo>
                  <a:lnTo>
                    <a:pt x="202" y="77"/>
                  </a:lnTo>
                  <a:lnTo>
                    <a:pt x="204" y="79"/>
                  </a:lnTo>
                  <a:lnTo>
                    <a:pt x="206" y="79"/>
                  </a:lnTo>
                  <a:lnTo>
                    <a:pt x="210" y="77"/>
                  </a:lnTo>
                  <a:lnTo>
                    <a:pt x="212" y="75"/>
                  </a:lnTo>
                  <a:lnTo>
                    <a:pt x="214" y="73"/>
                  </a:lnTo>
                  <a:lnTo>
                    <a:pt x="210" y="67"/>
                  </a:lnTo>
                  <a:lnTo>
                    <a:pt x="212" y="65"/>
                  </a:lnTo>
                  <a:lnTo>
                    <a:pt x="210" y="61"/>
                  </a:lnTo>
                  <a:lnTo>
                    <a:pt x="204" y="53"/>
                  </a:lnTo>
                  <a:lnTo>
                    <a:pt x="198" y="45"/>
                  </a:lnTo>
                  <a:lnTo>
                    <a:pt x="194" y="41"/>
                  </a:lnTo>
                  <a:lnTo>
                    <a:pt x="190" y="39"/>
                  </a:lnTo>
                  <a:lnTo>
                    <a:pt x="186" y="37"/>
                  </a:lnTo>
                  <a:lnTo>
                    <a:pt x="181" y="37"/>
                  </a:lnTo>
                  <a:lnTo>
                    <a:pt x="171" y="41"/>
                  </a:lnTo>
                  <a:lnTo>
                    <a:pt x="169" y="35"/>
                  </a:lnTo>
                  <a:lnTo>
                    <a:pt x="169" y="33"/>
                  </a:lnTo>
                  <a:lnTo>
                    <a:pt x="167" y="30"/>
                  </a:lnTo>
                  <a:lnTo>
                    <a:pt x="165" y="30"/>
                  </a:lnTo>
                  <a:lnTo>
                    <a:pt x="163" y="30"/>
                  </a:lnTo>
                  <a:lnTo>
                    <a:pt x="161" y="30"/>
                  </a:lnTo>
                  <a:lnTo>
                    <a:pt x="157" y="33"/>
                  </a:lnTo>
                  <a:lnTo>
                    <a:pt x="157" y="35"/>
                  </a:lnTo>
                  <a:lnTo>
                    <a:pt x="157" y="37"/>
                  </a:lnTo>
                  <a:lnTo>
                    <a:pt x="157" y="39"/>
                  </a:lnTo>
                  <a:lnTo>
                    <a:pt x="155" y="41"/>
                  </a:lnTo>
                  <a:lnTo>
                    <a:pt x="151" y="41"/>
                  </a:lnTo>
                  <a:lnTo>
                    <a:pt x="149" y="39"/>
                  </a:lnTo>
                  <a:lnTo>
                    <a:pt x="149" y="37"/>
                  </a:lnTo>
                  <a:lnTo>
                    <a:pt x="147" y="35"/>
                  </a:lnTo>
                  <a:lnTo>
                    <a:pt x="151" y="30"/>
                  </a:lnTo>
                  <a:lnTo>
                    <a:pt x="151" y="24"/>
                  </a:lnTo>
                  <a:lnTo>
                    <a:pt x="151" y="20"/>
                  </a:lnTo>
                  <a:lnTo>
                    <a:pt x="147" y="16"/>
                  </a:lnTo>
                  <a:lnTo>
                    <a:pt x="145" y="12"/>
                  </a:lnTo>
                  <a:lnTo>
                    <a:pt x="139" y="10"/>
                  </a:lnTo>
                  <a:lnTo>
                    <a:pt x="135" y="8"/>
                  </a:lnTo>
                  <a:lnTo>
                    <a:pt x="130" y="8"/>
                  </a:lnTo>
                  <a:lnTo>
                    <a:pt x="124" y="8"/>
                  </a:lnTo>
                  <a:lnTo>
                    <a:pt x="120" y="10"/>
                  </a:lnTo>
                  <a:lnTo>
                    <a:pt x="118" y="10"/>
                  </a:lnTo>
                  <a:lnTo>
                    <a:pt x="114" y="12"/>
                  </a:lnTo>
                  <a:lnTo>
                    <a:pt x="112" y="16"/>
                  </a:lnTo>
                  <a:lnTo>
                    <a:pt x="108" y="20"/>
                  </a:lnTo>
                  <a:lnTo>
                    <a:pt x="108" y="22"/>
                  </a:lnTo>
                  <a:lnTo>
                    <a:pt x="108" y="26"/>
                  </a:lnTo>
                  <a:lnTo>
                    <a:pt x="108" y="28"/>
                  </a:lnTo>
                  <a:lnTo>
                    <a:pt x="110" y="33"/>
                  </a:lnTo>
                  <a:lnTo>
                    <a:pt x="112" y="37"/>
                  </a:lnTo>
                  <a:lnTo>
                    <a:pt x="110" y="39"/>
                  </a:lnTo>
                  <a:lnTo>
                    <a:pt x="108" y="39"/>
                  </a:lnTo>
                  <a:lnTo>
                    <a:pt x="106" y="41"/>
                  </a:lnTo>
                  <a:lnTo>
                    <a:pt x="104" y="41"/>
                  </a:lnTo>
                  <a:lnTo>
                    <a:pt x="102" y="39"/>
                  </a:lnTo>
                  <a:lnTo>
                    <a:pt x="102" y="35"/>
                  </a:lnTo>
                  <a:lnTo>
                    <a:pt x="100" y="30"/>
                  </a:lnTo>
                  <a:lnTo>
                    <a:pt x="96" y="28"/>
                  </a:lnTo>
                  <a:lnTo>
                    <a:pt x="92" y="30"/>
                  </a:lnTo>
                  <a:lnTo>
                    <a:pt x="90" y="33"/>
                  </a:lnTo>
                  <a:lnTo>
                    <a:pt x="90" y="37"/>
                  </a:lnTo>
                  <a:lnTo>
                    <a:pt x="90" y="41"/>
                  </a:lnTo>
                  <a:lnTo>
                    <a:pt x="88" y="41"/>
                  </a:lnTo>
                  <a:lnTo>
                    <a:pt x="81" y="39"/>
                  </a:lnTo>
                  <a:lnTo>
                    <a:pt x="77" y="39"/>
                  </a:lnTo>
                  <a:lnTo>
                    <a:pt x="73" y="37"/>
                  </a:lnTo>
                  <a:lnTo>
                    <a:pt x="67" y="41"/>
                  </a:lnTo>
                  <a:lnTo>
                    <a:pt x="63" y="45"/>
                  </a:lnTo>
                  <a:lnTo>
                    <a:pt x="55" y="53"/>
                  </a:lnTo>
                  <a:lnTo>
                    <a:pt x="49" y="61"/>
                  </a:lnTo>
                  <a:lnTo>
                    <a:pt x="47" y="65"/>
                  </a:lnTo>
                  <a:lnTo>
                    <a:pt x="49" y="69"/>
                  </a:lnTo>
                  <a:lnTo>
                    <a:pt x="47" y="71"/>
                  </a:lnTo>
                  <a:lnTo>
                    <a:pt x="47" y="75"/>
                  </a:lnTo>
                  <a:lnTo>
                    <a:pt x="49" y="77"/>
                  </a:lnTo>
                  <a:lnTo>
                    <a:pt x="51" y="77"/>
                  </a:lnTo>
                  <a:lnTo>
                    <a:pt x="55" y="79"/>
                  </a:lnTo>
                  <a:lnTo>
                    <a:pt x="57" y="77"/>
                  </a:lnTo>
                  <a:lnTo>
                    <a:pt x="61" y="75"/>
                  </a:lnTo>
                  <a:lnTo>
                    <a:pt x="65" y="77"/>
                  </a:lnTo>
                  <a:lnTo>
                    <a:pt x="63" y="79"/>
                  </a:lnTo>
                  <a:lnTo>
                    <a:pt x="61" y="79"/>
                  </a:lnTo>
                  <a:lnTo>
                    <a:pt x="61" y="81"/>
                  </a:lnTo>
                  <a:lnTo>
                    <a:pt x="61" y="85"/>
                  </a:lnTo>
                  <a:lnTo>
                    <a:pt x="61" y="87"/>
                  </a:lnTo>
                  <a:lnTo>
                    <a:pt x="59" y="89"/>
                  </a:lnTo>
                  <a:lnTo>
                    <a:pt x="59" y="91"/>
                  </a:lnTo>
                  <a:lnTo>
                    <a:pt x="57" y="91"/>
                  </a:lnTo>
                  <a:lnTo>
                    <a:pt x="57" y="89"/>
                  </a:lnTo>
                  <a:lnTo>
                    <a:pt x="57" y="85"/>
                  </a:lnTo>
                  <a:lnTo>
                    <a:pt x="53" y="85"/>
                  </a:lnTo>
                  <a:lnTo>
                    <a:pt x="53" y="81"/>
                  </a:lnTo>
                  <a:lnTo>
                    <a:pt x="45" y="81"/>
                  </a:lnTo>
                  <a:lnTo>
                    <a:pt x="45" y="122"/>
                  </a:lnTo>
                  <a:lnTo>
                    <a:pt x="45" y="126"/>
                  </a:lnTo>
                  <a:lnTo>
                    <a:pt x="47" y="130"/>
                  </a:lnTo>
                  <a:lnTo>
                    <a:pt x="49" y="132"/>
                  </a:lnTo>
                  <a:lnTo>
                    <a:pt x="53" y="134"/>
                  </a:lnTo>
                  <a:lnTo>
                    <a:pt x="59" y="132"/>
                  </a:lnTo>
                  <a:lnTo>
                    <a:pt x="59" y="134"/>
                  </a:lnTo>
                  <a:lnTo>
                    <a:pt x="51" y="148"/>
                  </a:lnTo>
                  <a:lnTo>
                    <a:pt x="51" y="152"/>
                  </a:lnTo>
                  <a:lnTo>
                    <a:pt x="51" y="154"/>
                  </a:lnTo>
                  <a:lnTo>
                    <a:pt x="51" y="158"/>
                  </a:lnTo>
                  <a:lnTo>
                    <a:pt x="53" y="165"/>
                  </a:lnTo>
                  <a:lnTo>
                    <a:pt x="59" y="175"/>
                  </a:lnTo>
                  <a:lnTo>
                    <a:pt x="67" y="187"/>
                  </a:lnTo>
                  <a:lnTo>
                    <a:pt x="71" y="189"/>
                  </a:lnTo>
                  <a:lnTo>
                    <a:pt x="73" y="189"/>
                  </a:lnTo>
                  <a:lnTo>
                    <a:pt x="77" y="195"/>
                  </a:lnTo>
                  <a:lnTo>
                    <a:pt x="81" y="199"/>
                  </a:lnTo>
                  <a:lnTo>
                    <a:pt x="86" y="201"/>
                  </a:lnTo>
                  <a:lnTo>
                    <a:pt x="90" y="201"/>
                  </a:lnTo>
                  <a:lnTo>
                    <a:pt x="88" y="205"/>
                  </a:lnTo>
                  <a:lnTo>
                    <a:pt x="86" y="205"/>
                  </a:lnTo>
                  <a:lnTo>
                    <a:pt x="83" y="203"/>
                  </a:lnTo>
                  <a:lnTo>
                    <a:pt x="83" y="201"/>
                  </a:lnTo>
                  <a:lnTo>
                    <a:pt x="81" y="199"/>
                  </a:lnTo>
                  <a:lnTo>
                    <a:pt x="77" y="199"/>
                  </a:lnTo>
                  <a:lnTo>
                    <a:pt x="73" y="201"/>
                  </a:lnTo>
                  <a:lnTo>
                    <a:pt x="71" y="205"/>
                  </a:lnTo>
                  <a:lnTo>
                    <a:pt x="71" y="207"/>
                  </a:lnTo>
                  <a:lnTo>
                    <a:pt x="71" y="209"/>
                  </a:lnTo>
                  <a:lnTo>
                    <a:pt x="75" y="213"/>
                  </a:lnTo>
                  <a:lnTo>
                    <a:pt x="79" y="217"/>
                  </a:lnTo>
                  <a:lnTo>
                    <a:pt x="94" y="225"/>
                  </a:lnTo>
                  <a:lnTo>
                    <a:pt x="98" y="225"/>
                  </a:lnTo>
                  <a:lnTo>
                    <a:pt x="100" y="225"/>
                  </a:lnTo>
                  <a:lnTo>
                    <a:pt x="102" y="223"/>
                  </a:lnTo>
                  <a:lnTo>
                    <a:pt x="104" y="221"/>
                  </a:lnTo>
                  <a:lnTo>
                    <a:pt x="106" y="215"/>
                  </a:lnTo>
                  <a:lnTo>
                    <a:pt x="108" y="211"/>
                  </a:lnTo>
                  <a:lnTo>
                    <a:pt x="110" y="211"/>
                  </a:lnTo>
                  <a:lnTo>
                    <a:pt x="114" y="223"/>
                  </a:lnTo>
                  <a:lnTo>
                    <a:pt x="118" y="228"/>
                  </a:lnTo>
                  <a:lnTo>
                    <a:pt x="118" y="232"/>
                  </a:lnTo>
                  <a:lnTo>
                    <a:pt x="120" y="234"/>
                  </a:lnTo>
                  <a:lnTo>
                    <a:pt x="122" y="236"/>
                  </a:lnTo>
                  <a:lnTo>
                    <a:pt x="122" y="238"/>
                  </a:lnTo>
                  <a:lnTo>
                    <a:pt x="124" y="242"/>
                  </a:lnTo>
                  <a:lnTo>
                    <a:pt x="128" y="244"/>
                  </a:lnTo>
                  <a:lnTo>
                    <a:pt x="132" y="242"/>
                  </a:lnTo>
                  <a:lnTo>
                    <a:pt x="135" y="240"/>
                  </a:lnTo>
                  <a:lnTo>
                    <a:pt x="137" y="238"/>
                  </a:lnTo>
                  <a:lnTo>
                    <a:pt x="137" y="236"/>
                  </a:lnTo>
                  <a:lnTo>
                    <a:pt x="141" y="234"/>
                  </a:lnTo>
                  <a:lnTo>
                    <a:pt x="141" y="232"/>
                  </a:lnTo>
                  <a:lnTo>
                    <a:pt x="141" y="228"/>
                  </a:lnTo>
                  <a:lnTo>
                    <a:pt x="147" y="221"/>
                  </a:lnTo>
                  <a:lnTo>
                    <a:pt x="151" y="211"/>
                  </a:lnTo>
                  <a:lnTo>
                    <a:pt x="153" y="217"/>
                  </a:lnTo>
                  <a:lnTo>
                    <a:pt x="155" y="219"/>
                  </a:lnTo>
                  <a:lnTo>
                    <a:pt x="157" y="221"/>
                  </a:lnTo>
                  <a:lnTo>
                    <a:pt x="161" y="225"/>
                  </a:lnTo>
                  <a:lnTo>
                    <a:pt x="165" y="225"/>
                  </a:lnTo>
                  <a:lnTo>
                    <a:pt x="167" y="225"/>
                  </a:lnTo>
                  <a:lnTo>
                    <a:pt x="173" y="223"/>
                  </a:lnTo>
                  <a:lnTo>
                    <a:pt x="179" y="219"/>
                  </a:lnTo>
                  <a:lnTo>
                    <a:pt x="186" y="213"/>
                  </a:lnTo>
                  <a:lnTo>
                    <a:pt x="188" y="205"/>
                  </a:lnTo>
                  <a:lnTo>
                    <a:pt x="188" y="203"/>
                  </a:lnTo>
                  <a:lnTo>
                    <a:pt x="186" y="201"/>
                  </a:lnTo>
                  <a:lnTo>
                    <a:pt x="181" y="197"/>
                  </a:lnTo>
                  <a:lnTo>
                    <a:pt x="186" y="191"/>
                  </a:lnTo>
                  <a:lnTo>
                    <a:pt x="192" y="187"/>
                  </a:lnTo>
                  <a:lnTo>
                    <a:pt x="196" y="183"/>
                  </a:lnTo>
                  <a:lnTo>
                    <a:pt x="202" y="173"/>
                  </a:lnTo>
                  <a:lnTo>
                    <a:pt x="206" y="167"/>
                  </a:lnTo>
                  <a:lnTo>
                    <a:pt x="208" y="160"/>
                  </a:lnTo>
                  <a:lnTo>
                    <a:pt x="210" y="154"/>
                  </a:lnTo>
                  <a:lnTo>
                    <a:pt x="210" y="152"/>
                  </a:lnTo>
                  <a:lnTo>
                    <a:pt x="208" y="148"/>
                  </a:lnTo>
                  <a:lnTo>
                    <a:pt x="200" y="132"/>
                  </a:lnTo>
                  <a:lnTo>
                    <a:pt x="204" y="134"/>
                  </a:lnTo>
                  <a:lnTo>
                    <a:pt x="208" y="132"/>
                  </a:lnTo>
                  <a:lnTo>
                    <a:pt x="210" y="132"/>
                  </a:lnTo>
                  <a:lnTo>
                    <a:pt x="212" y="130"/>
                  </a:lnTo>
                  <a:lnTo>
                    <a:pt x="214" y="126"/>
                  </a:lnTo>
                  <a:lnTo>
                    <a:pt x="210" y="126"/>
                  </a:lnTo>
                  <a:lnTo>
                    <a:pt x="208" y="128"/>
                  </a:lnTo>
                  <a:lnTo>
                    <a:pt x="204" y="128"/>
                  </a:lnTo>
                  <a:lnTo>
                    <a:pt x="202" y="128"/>
                  </a:lnTo>
                  <a:lnTo>
                    <a:pt x="198" y="126"/>
                  </a:lnTo>
                  <a:lnTo>
                    <a:pt x="192" y="126"/>
                  </a:lnTo>
                  <a:close/>
                  <a:moveTo>
                    <a:pt x="257" y="0"/>
                  </a:moveTo>
                  <a:lnTo>
                    <a:pt x="257" y="256"/>
                  </a:lnTo>
                  <a:lnTo>
                    <a:pt x="0" y="256"/>
                  </a:lnTo>
                  <a:lnTo>
                    <a:pt x="0" y="0"/>
                  </a:lnTo>
                  <a:lnTo>
                    <a:pt x="257" y="0"/>
                  </a:lnTo>
                  <a:close/>
                  <a:moveTo>
                    <a:pt x="128" y="232"/>
                  </a:moveTo>
                  <a:lnTo>
                    <a:pt x="130" y="232"/>
                  </a:lnTo>
                  <a:lnTo>
                    <a:pt x="128" y="232"/>
                  </a:lnTo>
                  <a:close/>
                  <a:moveTo>
                    <a:pt x="126" y="232"/>
                  </a:moveTo>
                  <a:lnTo>
                    <a:pt x="128" y="230"/>
                  </a:lnTo>
                  <a:lnTo>
                    <a:pt x="130" y="228"/>
                  </a:lnTo>
                  <a:lnTo>
                    <a:pt x="130" y="230"/>
                  </a:lnTo>
                  <a:lnTo>
                    <a:pt x="132" y="232"/>
                  </a:lnTo>
                  <a:lnTo>
                    <a:pt x="130" y="234"/>
                  </a:lnTo>
                  <a:lnTo>
                    <a:pt x="130" y="236"/>
                  </a:lnTo>
                  <a:lnTo>
                    <a:pt x="128" y="234"/>
                  </a:lnTo>
                  <a:lnTo>
                    <a:pt x="126" y="232"/>
                  </a:lnTo>
                  <a:close/>
                  <a:moveTo>
                    <a:pt x="126" y="49"/>
                  </a:moveTo>
                  <a:lnTo>
                    <a:pt x="120" y="51"/>
                  </a:lnTo>
                  <a:lnTo>
                    <a:pt x="114" y="53"/>
                  </a:lnTo>
                  <a:lnTo>
                    <a:pt x="108" y="55"/>
                  </a:lnTo>
                  <a:lnTo>
                    <a:pt x="102" y="57"/>
                  </a:lnTo>
                  <a:lnTo>
                    <a:pt x="98" y="61"/>
                  </a:lnTo>
                  <a:lnTo>
                    <a:pt x="94" y="65"/>
                  </a:lnTo>
                  <a:lnTo>
                    <a:pt x="86" y="79"/>
                  </a:lnTo>
                  <a:lnTo>
                    <a:pt x="81" y="85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7" y="116"/>
                  </a:lnTo>
                  <a:lnTo>
                    <a:pt x="77" y="128"/>
                  </a:lnTo>
                  <a:lnTo>
                    <a:pt x="79" y="142"/>
                  </a:lnTo>
                  <a:lnTo>
                    <a:pt x="81" y="154"/>
                  </a:lnTo>
                  <a:lnTo>
                    <a:pt x="86" y="165"/>
                  </a:lnTo>
                  <a:lnTo>
                    <a:pt x="92" y="173"/>
                  </a:lnTo>
                  <a:lnTo>
                    <a:pt x="98" y="179"/>
                  </a:lnTo>
                  <a:lnTo>
                    <a:pt x="106" y="185"/>
                  </a:lnTo>
                  <a:lnTo>
                    <a:pt x="116" y="189"/>
                  </a:lnTo>
                  <a:lnTo>
                    <a:pt x="126" y="191"/>
                  </a:lnTo>
                  <a:lnTo>
                    <a:pt x="137" y="191"/>
                  </a:lnTo>
                  <a:lnTo>
                    <a:pt x="147" y="187"/>
                  </a:lnTo>
                  <a:lnTo>
                    <a:pt x="153" y="185"/>
                  </a:lnTo>
                  <a:lnTo>
                    <a:pt x="161" y="181"/>
                  </a:lnTo>
                  <a:lnTo>
                    <a:pt x="165" y="177"/>
                  </a:lnTo>
                  <a:lnTo>
                    <a:pt x="169" y="171"/>
                  </a:lnTo>
                  <a:lnTo>
                    <a:pt x="173" y="165"/>
                  </a:lnTo>
                  <a:lnTo>
                    <a:pt x="175" y="156"/>
                  </a:lnTo>
                  <a:lnTo>
                    <a:pt x="179" y="140"/>
                  </a:lnTo>
                  <a:lnTo>
                    <a:pt x="181" y="132"/>
                  </a:lnTo>
                  <a:lnTo>
                    <a:pt x="181" y="124"/>
                  </a:lnTo>
                  <a:lnTo>
                    <a:pt x="181" y="116"/>
                  </a:lnTo>
                  <a:lnTo>
                    <a:pt x="181" y="106"/>
                  </a:lnTo>
                  <a:lnTo>
                    <a:pt x="177" y="89"/>
                  </a:lnTo>
                  <a:lnTo>
                    <a:pt x="175" y="81"/>
                  </a:lnTo>
                  <a:lnTo>
                    <a:pt x="171" y="71"/>
                  </a:lnTo>
                  <a:lnTo>
                    <a:pt x="165" y="65"/>
                  </a:lnTo>
                  <a:lnTo>
                    <a:pt x="157" y="59"/>
                  </a:lnTo>
                  <a:lnTo>
                    <a:pt x="149" y="55"/>
                  </a:lnTo>
                  <a:lnTo>
                    <a:pt x="139" y="51"/>
                  </a:lnTo>
                  <a:lnTo>
                    <a:pt x="132" y="49"/>
                  </a:lnTo>
                  <a:lnTo>
                    <a:pt x="126" y="49"/>
                  </a:lnTo>
                  <a:close/>
                  <a:moveTo>
                    <a:pt x="75" y="126"/>
                  </a:moveTo>
                  <a:lnTo>
                    <a:pt x="75" y="116"/>
                  </a:lnTo>
                  <a:lnTo>
                    <a:pt x="75" y="106"/>
                  </a:lnTo>
                  <a:lnTo>
                    <a:pt x="77" y="98"/>
                  </a:lnTo>
                  <a:lnTo>
                    <a:pt x="79" y="87"/>
                  </a:lnTo>
                  <a:lnTo>
                    <a:pt x="81" y="79"/>
                  </a:lnTo>
                  <a:lnTo>
                    <a:pt x="86" y="71"/>
                  </a:lnTo>
                  <a:lnTo>
                    <a:pt x="92" y="65"/>
                  </a:lnTo>
                  <a:lnTo>
                    <a:pt x="96" y="59"/>
                  </a:lnTo>
                  <a:lnTo>
                    <a:pt x="106" y="53"/>
                  </a:lnTo>
                  <a:lnTo>
                    <a:pt x="114" y="49"/>
                  </a:lnTo>
                  <a:lnTo>
                    <a:pt x="122" y="47"/>
                  </a:lnTo>
                  <a:lnTo>
                    <a:pt x="135" y="47"/>
                  </a:lnTo>
                  <a:lnTo>
                    <a:pt x="137" y="49"/>
                  </a:lnTo>
                  <a:lnTo>
                    <a:pt x="143" y="49"/>
                  </a:lnTo>
                  <a:lnTo>
                    <a:pt x="149" y="51"/>
                  </a:lnTo>
                  <a:lnTo>
                    <a:pt x="159" y="57"/>
                  </a:lnTo>
                  <a:lnTo>
                    <a:pt x="167" y="65"/>
                  </a:lnTo>
                  <a:lnTo>
                    <a:pt x="171" y="69"/>
                  </a:lnTo>
                  <a:lnTo>
                    <a:pt x="173" y="73"/>
                  </a:lnTo>
                  <a:lnTo>
                    <a:pt x="177" y="79"/>
                  </a:lnTo>
                  <a:lnTo>
                    <a:pt x="179" y="85"/>
                  </a:lnTo>
                  <a:lnTo>
                    <a:pt x="179" y="87"/>
                  </a:lnTo>
                  <a:lnTo>
                    <a:pt x="183" y="106"/>
                  </a:lnTo>
                  <a:lnTo>
                    <a:pt x="183" y="116"/>
                  </a:lnTo>
                  <a:lnTo>
                    <a:pt x="183" y="126"/>
                  </a:lnTo>
                  <a:lnTo>
                    <a:pt x="183" y="136"/>
                  </a:lnTo>
                  <a:lnTo>
                    <a:pt x="181" y="146"/>
                  </a:lnTo>
                  <a:lnTo>
                    <a:pt x="177" y="156"/>
                  </a:lnTo>
                  <a:lnTo>
                    <a:pt x="173" y="167"/>
                  </a:lnTo>
                  <a:lnTo>
                    <a:pt x="167" y="177"/>
                  </a:lnTo>
                  <a:lnTo>
                    <a:pt x="161" y="183"/>
                  </a:lnTo>
                  <a:lnTo>
                    <a:pt x="151" y="189"/>
                  </a:lnTo>
                  <a:lnTo>
                    <a:pt x="141" y="193"/>
                  </a:lnTo>
                  <a:lnTo>
                    <a:pt x="130" y="193"/>
                  </a:lnTo>
                  <a:lnTo>
                    <a:pt x="124" y="193"/>
                  </a:lnTo>
                  <a:lnTo>
                    <a:pt x="118" y="193"/>
                  </a:lnTo>
                  <a:lnTo>
                    <a:pt x="114" y="191"/>
                  </a:lnTo>
                  <a:lnTo>
                    <a:pt x="110" y="189"/>
                  </a:lnTo>
                  <a:lnTo>
                    <a:pt x="104" y="187"/>
                  </a:lnTo>
                  <a:lnTo>
                    <a:pt x="100" y="183"/>
                  </a:lnTo>
                  <a:lnTo>
                    <a:pt x="92" y="175"/>
                  </a:lnTo>
                  <a:lnTo>
                    <a:pt x="86" y="167"/>
                  </a:lnTo>
                  <a:lnTo>
                    <a:pt x="79" y="156"/>
                  </a:lnTo>
                  <a:lnTo>
                    <a:pt x="77" y="140"/>
                  </a:lnTo>
                  <a:lnTo>
                    <a:pt x="75" y="126"/>
                  </a:lnTo>
                  <a:close/>
                  <a:moveTo>
                    <a:pt x="147" y="59"/>
                  </a:moveTo>
                  <a:lnTo>
                    <a:pt x="151" y="63"/>
                  </a:lnTo>
                  <a:lnTo>
                    <a:pt x="155" y="67"/>
                  </a:lnTo>
                  <a:lnTo>
                    <a:pt x="161" y="77"/>
                  </a:lnTo>
                  <a:lnTo>
                    <a:pt x="163" y="83"/>
                  </a:lnTo>
                  <a:lnTo>
                    <a:pt x="165" y="89"/>
                  </a:lnTo>
                  <a:lnTo>
                    <a:pt x="169" y="102"/>
                  </a:lnTo>
                  <a:lnTo>
                    <a:pt x="171" y="116"/>
                  </a:lnTo>
                  <a:lnTo>
                    <a:pt x="171" y="128"/>
                  </a:lnTo>
                  <a:lnTo>
                    <a:pt x="169" y="140"/>
                  </a:lnTo>
                  <a:lnTo>
                    <a:pt x="167" y="150"/>
                  </a:lnTo>
                  <a:lnTo>
                    <a:pt x="163" y="160"/>
                  </a:lnTo>
                  <a:lnTo>
                    <a:pt x="157" y="169"/>
                  </a:lnTo>
                  <a:lnTo>
                    <a:pt x="149" y="175"/>
                  </a:lnTo>
                  <a:lnTo>
                    <a:pt x="143" y="179"/>
                  </a:lnTo>
                  <a:lnTo>
                    <a:pt x="137" y="181"/>
                  </a:lnTo>
                  <a:lnTo>
                    <a:pt x="128" y="183"/>
                  </a:lnTo>
                  <a:lnTo>
                    <a:pt x="120" y="181"/>
                  </a:lnTo>
                  <a:lnTo>
                    <a:pt x="110" y="179"/>
                  </a:lnTo>
                  <a:lnTo>
                    <a:pt x="98" y="175"/>
                  </a:lnTo>
                  <a:lnTo>
                    <a:pt x="104" y="179"/>
                  </a:lnTo>
                  <a:lnTo>
                    <a:pt x="112" y="183"/>
                  </a:lnTo>
                  <a:lnTo>
                    <a:pt x="122" y="185"/>
                  </a:lnTo>
                  <a:lnTo>
                    <a:pt x="135" y="187"/>
                  </a:lnTo>
                  <a:lnTo>
                    <a:pt x="141" y="185"/>
                  </a:lnTo>
                  <a:lnTo>
                    <a:pt x="147" y="183"/>
                  </a:lnTo>
                  <a:lnTo>
                    <a:pt x="155" y="179"/>
                  </a:lnTo>
                  <a:lnTo>
                    <a:pt x="159" y="173"/>
                  </a:lnTo>
                  <a:lnTo>
                    <a:pt x="165" y="167"/>
                  </a:lnTo>
                  <a:lnTo>
                    <a:pt x="169" y="158"/>
                  </a:lnTo>
                  <a:lnTo>
                    <a:pt x="173" y="152"/>
                  </a:lnTo>
                  <a:lnTo>
                    <a:pt x="173" y="146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175" y="108"/>
                  </a:lnTo>
                  <a:lnTo>
                    <a:pt x="173" y="95"/>
                  </a:lnTo>
                  <a:lnTo>
                    <a:pt x="171" y="83"/>
                  </a:lnTo>
                  <a:lnTo>
                    <a:pt x="167" y="75"/>
                  </a:lnTo>
                  <a:lnTo>
                    <a:pt x="163" y="69"/>
                  </a:lnTo>
                  <a:lnTo>
                    <a:pt x="157" y="65"/>
                  </a:lnTo>
                  <a:lnTo>
                    <a:pt x="147" y="59"/>
                  </a:lnTo>
                  <a:close/>
                  <a:moveTo>
                    <a:pt x="167" y="69"/>
                  </a:moveTo>
                  <a:lnTo>
                    <a:pt x="173" y="81"/>
                  </a:lnTo>
                  <a:lnTo>
                    <a:pt x="175" y="89"/>
                  </a:lnTo>
                  <a:lnTo>
                    <a:pt x="177" y="95"/>
                  </a:lnTo>
                  <a:lnTo>
                    <a:pt x="179" y="110"/>
                  </a:lnTo>
                  <a:lnTo>
                    <a:pt x="179" y="124"/>
                  </a:lnTo>
                  <a:lnTo>
                    <a:pt x="177" y="138"/>
                  </a:lnTo>
                  <a:lnTo>
                    <a:pt x="175" y="152"/>
                  </a:lnTo>
                  <a:lnTo>
                    <a:pt x="171" y="163"/>
                  </a:lnTo>
                  <a:lnTo>
                    <a:pt x="165" y="173"/>
                  </a:lnTo>
                  <a:lnTo>
                    <a:pt x="159" y="179"/>
                  </a:lnTo>
                  <a:lnTo>
                    <a:pt x="155" y="181"/>
                  </a:lnTo>
                  <a:lnTo>
                    <a:pt x="151" y="183"/>
                  </a:lnTo>
                  <a:lnTo>
                    <a:pt x="143" y="187"/>
                  </a:lnTo>
                  <a:lnTo>
                    <a:pt x="135" y="189"/>
                  </a:lnTo>
                  <a:lnTo>
                    <a:pt x="124" y="189"/>
                  </a:lnTo>
                  <a:lnTo>
                    <a:pt x="114" y="187"/>
                  </a:lnTo>
                  <a:lnTo>
                    <a:pt x="108" y="183"/>
                  </a:lnTo>
                  <a:lnTo>
                    <a:pt x="102" y="181"/>
                  </a:lnTo>
                  <a:lnTo>
                    <a:pt x="98" y="177"/>
                  </a:lnTo>
                  <a:lnTo>
                    <a:pt x="96" y="173"/>
                  </a:lnTo>
                  <a:lnTo>
                    <a:pt x="90" y="165"/>
                  </a:lnTo>
                  <a:lnTo>
                    <a:pt x="86" y="156"/>
                  </a:lnTo>
                  <a:lnTo>
                    <a:pt x="81" y="146"/>
                  </a:lnTo>
                  <a:lnTo>
                    <a:pt x="79" y="134"/>
                  </a:lnTo>
                  <a:lnTo>
                    <a:pt x="79" y="122"/>
                  </a:lnTo>
                  <a:lnTo>
                    <a:pt x="132" y="122"/>
                  </a:lnTo>
                  <a:lnTo>
                    <a:pt x="132" y="53"/>
                  </a:lnTo>
                  <a:lnTo>
                    <a:pt x="143" y="55"/>
                  </a:lnTo>
                  <a:lnTo>
                    <a:pt x="151" y="59"/>
                  </a:lnTo>
                  <a:lnTo>
                    <a:pt x="159" y="63"/>
                  </a:lnTo>
                  <a:lnTo>
                    <a:pt x="167" y="69"/>
                  </a:lnTo>
                  <a:close/>
                  <a:moveTo>
                    <a:pt x="116" y="95"/>
                  </a:moveTo>
                  <a:lnTo>
                    <a:pt x="114" y="95"/>
                  </a:lnTo>
                  <a:lnTo>
                    <a:pt x="104" y="100"/>
                  </a:lnTo>
                  <a:lnTo>
                    <a:pt x="104" y="102"/>
                  </a:lnTo>
                  <a:lnTo>
                    <a:pt x="108" y="104"/>
                  </a:lnTo>
                  <a:lnTo>
                    <a:pt x="112" y="104"/>
                  </a:lnTo>
                  <a:lnTo>
                    <a:pt x="120" y="102"/>
                  </a:lnTo>
                  <a:lnTo>
                    <a:pt x="122" y="104"/>
                  </a:lnTo>
                  <a:lnTo>
                    <a:pt x="118" y="106"/>
                  </a:lnTo>
                  <a:lnTo>
                    <a:pt x="114" y="106"/>
                  </a:lnTo>
                  <a:lnTo>
                    <a:pt x="110" y="106"/>
                  </a:lnTo>
                  <a:lnTo>
                    <a:pt x="106" y="108"/>
                  </a:lnTo>
                  <a:lnTo>
                    <a:pt x="104" y="108"/>
                  </a:lnTo>
                  <a:lnTo>
                    <a:pt x="102" y="106"/>
                  </a:lnTo>
                  <a:lnTo>
                    <a:pt x="100" y="106"/>
                  </a:lnTo>
                  <a:lnTo>
                    <a:pt x="100" y="104"/>
                  </a:lnTo>
                  <a:lnTo>
                    <a:pt x="98" y="100"/>
                  </a:lnTo>
                  <a:lnTo>
                    <a:pt x="96" y="98"/>
                  </a:lnTo>
                  <a:lnTo>
                    <a:pt x="94" y="98"/>
                  </a:lnTo>
                  <a:lnTo>
                    <a:pt x="90" y="100"/>
                  </a:lnTo>
                  <a:lnTo>
                    <a:pt x="88" y="108"/>
                  </a:lnTo>
                  <a:lnTo>
                    <a:pt x="86" y="106"/>
                  </a:lnTo>
                  <a:lnTo>
                    <a:pt x="83" y="102"/>
                  </a:lnTo>
                  <a:lnTo>
                    <a:pt x="81" y="102"/>
                  </a:lnTo>
                  <a:lnTo>
                    <a:pt x="81" y="106"/>
                  </a:lnTo>
                  <a:lnTo>
                    <a:pt x="83" y="108"/>
                  </a:lnTo>
                  <a:lnTo>
                    <a:pt x="90" y="110"/>
                  </a:lnTo>
                  <a:lnTo>
                    <a:pt x="90" y="112"/>
                  </a:lnTo>
                  <a:lnTo>
                    <a:pt x="81" y="114"/>
                  </a:lnTo>
                  <a:lnTo>
                    <a:pt x="83" y="114"/>
                  </a:lnTo>
                  <a:lnTo>
                    <a:pt x="92" y="116"/>
                  </a:lnTo>
                  <a:lnTo>
                    <a:pt x="96" y="112"/>
                  </a:lnTo>
                  <a:lnTo>
                    <a:pt x="98" y="110"/>
                  </a:lnTo>
                  <a:lnTo>
                    <a:pt x="102" y="110"/>
                  </a:lnTo>
                  <a:lnTo>
                    <a:pt x="104" y="110"/>
                  </a:lnTo>
                  <a:lnTo>
                    <a:pt x="108" y="110"/>
                  </a:lnTo>
                  <a:lnTo>
                    <a:pt x="108" y="112"/>
                  </a:lnTo>
                  <a:lnTo>
                    <a:pt x="104" y="114"/>
                  </a:lnTo>
                  <a:lnTo>
                    <a:pt x="104" y="116"/>
                  </a:lnTo>
                  <a:lnTo>
                    <a:pt x="106" y="116"/>
                  </a:lnTo>
                  <a:lnTo>
                    <a:pt x="110" y="114"/>
                  </a:lnTo>
                  <a:lnTo>
                    <a:pt x="112" y="112"/>
                  </a:lnTo>
                  <a:lnTo>
                    <a:pt x="112" y="110"/>
                  </a:lnTo>
                  <a:lnTo>
                    <a:pt x="114" y="108"/>
                  </a:lnTo>
                  <a:lnTo>
                    <a:pt x="120" y="110"/>
                  </a:lnTo>
                  <a:lnTo>
                    <a:pt x="120" y="112"/>
                  </a:lnTo>
                  <a:lnTo>
                    <a:pt x="118" y="114"/>
                  </a:lnTo>
                  <a:lnTo>
                    <a:pt x="120" y="114"/>
                  </a:lnTo>
                  <a:lnTo>
                    <a:pt x="122" y="114"/>
                  </a:lnTo>
                  <a:lnTo>
                    <a:pt x="124" y="110"/>
                  </a:lnTo>
                  <a:lnTo>
                    <a:pt x="122" y="108"/>
                  </a:lnTo>
                  <a:lnTo>
                    <a:pt x="120" y="108"/>
                  </a:lnTo>
                  <a:lnTo>
                    <a:pt x="124" y="106"/>
                  </a:lnTo>
                  <a:lnTo>
                    <a:pt x="124" y="104"/>
                  </a:lnTo>
                  <a:lnTo>
                    <a:pt x="122" y="102"/>
                  </a:lnTo>
                  <a:lnTo>
                    <a:pt x="118" y="102"/>
                  </a:lnTo>
                  <a:lnTo>
                    <a:pt x="114" y="102"/>
                  </a:lnTo>
                  <a:lnTo>
                    <a:pt x="110" y="102"/>
                  </a:lnTo>
                  <a:lnTo>
                    <a:pt x="108" y="100"/>
                  </a:lnTo>
                  <a:lnTo>
                    <a:pt x="114" y="98"/>
                  </a:lnTo>
                  <a:lnTo>
                    <a:pt x="116" y="98"/>
                  </a:lnTo>
                  <a:lnTo>
                    <a:pt x="116" y="95"/>
                  </a:lnTo>
                  <a:close/>
                  <a:moveTo>
                    <a:pt x="116" y="77"/>
                  </a:moveTo>
                  <a:lnTo>
                    <a:pt x="108" y="81"/>
                  </a:lnTo>
                  <a:lnTo>
                    <a:pt x="110" y="83"/>
                  </a:lnTo>
                  <a:lnTo>
                    <a:pt x="122" y="83"/>
                  </a:lnTo>
                  <a:lnTo>
                    <a:pt x="122" y="85"/>
                  </a:lnTo>
                  <a:lnTo>
                    <a:pt x="120" y="87"/>
                  </a:lnTo>
                  <a:lnTo>
                    <a:pt x="116" y="85"/>
                  </a:lnTo>
                  <a:lnTo>
                    <a:pt x="112" y="87"/>
                  </a:lnTo>
                  <a:lnTo>
                    <a:pt x="106" y="87"/>
                  </a:lnTo>
                  <a:lnTo>
                    <a:pt x="102" y="87"/>
                  </a:lnTo>
                  <a:lnTo>
                    <a:pt x="100" y="81"/>
                  </a:lnTo>
                  <a:lnTo>
                    <a:pt x="96" y="81"/>
                  </a:lnTo>
                  <a:lnTo>
                    <a:pt x="94" y="81"/>
                  </a:lnTo>
                  <a:lnTo>
                    <a:pt x="92" y="87"/>
                  </a:lnTo>
                  <a:lnTo>
                    <a:pt x="90" y="87"/>
                  </a:lnTo>
                  <a:lnTo>
                    <a:pt x="90" y="83"/>
                  </a:lnTo>
                  <a:lnTo>
                    <a:pt x="88" y="83"/>
                  </a:lnTo>
                  <a:lnTo>
                    <a:pt x="90" y="89"/>
                  </a:lnTo>
                  <a:lnTo>
                    <a:pt x="92" y="91"/>
                  </a:lnTo>
                  <a:lnTo>
                    <a:pt x="94" y="91"/>
                  </a:lnTo>
                  <a:lnTo>
                    <a:pt x="88" y="93"/>
                  </a:lnTo>
                  <a:lnTo>
                    <a:pt x="88" y="95"/>
                  </a:lnTo>
                  <a:lnTo>
                    <a:pt x="90" y="95"/>
                  </a:lnTo>
                  <a:lnTo>
                    <a:pt x="96" y="95"/>
                  </a:lnTo>
                  <a:lnTo>
                    <a:pt x="102" y="91"/>
                  </a:lnTo>
                  <a:lnTo>
                    <a:pt x="110" y="89"/>
                  </a:lnTo>
                  <a:lnTo>
                    <a:pt x="110" y="91"/>
                  </a:lnTo>
                  <a:lnTo>
                    <a:pt x="106" y="95"/>
                  </a:lnTo>
                  <a:lnTo>
                    <a:pt x="110" y="95"/>
                  </a:lnTo>
                  <a:lnTo>
                    <a:pt x="112" y="93"/>
                  </a:lnTo>
                  <a:lnTo>
                    <a:pt x="114" y="91"/>
                  </a:lnTo>
                  <a:lnTo>
                    <a:pt x="116" y="89"/>
                  </a:lnTo>
                  <a:lnTo>
                    <a:pt x="122" y="91"/>
                  </a:lnTo>
                  <a:lnTo>
                    <a:pt x="122" y="93"/>
                  </a:lnTo>
                  <a:lnTo>
                    <a:pt x="124" y="93"/>
                  </a:lnTo>
                  <a:lnTo>
                    <a:pt x="124" y="91"/>
                  </a:lnTo>
                  <a:lnTo>
                    <a:pt x="124" y="89"/>
                  </a:lnTo>
                  <a:lnTo>
                    <a:pt x="122" y="89"/>
                  </a:lnTo>
                  <a:lnTo>
                    <a:pt x="122" y="87"/>
                  </a:lnTo>
                  <a:lnTo>
                    <a:pt x="124" y="85"/>
                  </a:lnTo>
                  <a:lnTo>
                    <a:pt x="124" y="83"/>
                  </a:lnTo>
                  <a:lnTo>
                    <a:pt x="122" y="81"/>
                  </a:lnTo>
                  <a:lnTo>
                    <a:pt x="118" y="83"/>
                  </a:lnTo>
                  <a:lnTo>
                    <a:pt x="114" y="83"/>
                  </a:lnTo>
                  <a:lnTo>
                    <a:pt x="110" y="83"/>
                  </a:lnTo>
                  <a:lnTo>
                    <a:pt x="110" y="81"/>
                  </a:lnTo>
                  <a:lnTo>
                    <a:pt x="112" y="81"/>
                  </a:lnTo>
                  <a:lnTo>
                    <a:pt x="114" y="81"/>
                  </a:lnTo>
                  <a:lnTo>
                    <a:pt x="116" y="79"/>
                  </a:lnTo>
                  <a:lnTo>
                    <a:pt x="118" y="77"/>
                  </a:lnTo>
                  <a:lnTo>
                    <a:pt x="116" y="77"/>
                  </a:lnTo>
                  <a:close/>
                  <a:moveTo>
                    <a:pt x="128" y="53"/>
                  </a:moveTo>
                  <a:lnTo>
                    <a:pt x="128" y="118"/>
                  </a:lnTo>
                  <a:lnTo>
                    <a:pt x="79" y="118"/>
                  </a:lnTo>
                  <a:lnTo>
                    <a:pt x="81" y="104"/>
                  </a:lnTo>
                  <a:lnTo>
                    <a:pt x="83" y="87"/>
                  </a:lnTo>
                  <a:lnTo>
                    <a:pt x="86" y="83"/>
                  </a:lnTo>
                  <a:lnTo>
                    <a:pt x="88" y="77"/>
                  </a:lnTo>
                  <a:lnTo>
                    <a:pt x="94" y="69"/>
                  </a:lnTo>
                  <a:lnTo>
                    <a:pt x="96" y="73"/>
                  </a:lnTo>
                  <a:lnTo>
                    <a:pt x="100" y="73"/>
                  </a:lnTo>
                  <a:lnTo>
                    <a:pt x="98" y="75"/>
                  </a:lnTo>
                  <a:lnTo>
                    <a:pt x="96" y="75"/>
                  </a:lnTo>
                  <a:lnTo>
                    <a:pt x="96" y="77"/>
                  </a:lnTo>
                  <a:lnTo>
                    <a:pt x="100" y="77"/>
                  </a:lnTo>
                  <a:lnTo>
                    <a:pt x="104" y="77"/>
                  </a:lnTo>
                  <a:lnTo>
                    <a:pt x="108" y="73"/>
                  </a:lnTo>
                  <a:lnTo>
                    <a:pt x="112" y="73"/>
                  </a:lnTo>
                  <a:lnTo>
                    <a:pt x="110" y="75"/>
                  </a:lnTo>
                  <a:lnTo>
                    <a:pt x="112" y="77"/>
                  </a:lnTo>
                  <a:lnTo>
                    <a:pt x="114" y="77"/>
                  </a:lnTo>
                  <a:lnTo>
                    <a:pt x="118" y="73"/>
                  </a:lnTo>
                  <a:lnTo>
                    <a:pt x="122" y="73"/>
                  </a:lnTo>
                  <a:lnTo>
                    <a:pt x="122" y="75"/>
                  </a:lnTo>
                  <a:lnTo>
                    <a:pt x="124" y="77"/>
                  </a:lnTo>
                  <a:lnTo>
                    <a:pt x="126" y="73"/>
                  </a:lnTo>
                  <a:lnTo>
                    <a:pt x="124" y="73"/>
                  </a:lnTo>
                  <a:lnTo>
                    <a:pt x="122" y="71"/>
                  </a:lnTo>
                  <a:lnTo>
                    <a:pt x="124" y="69"/>
                  </a:lnTo>
                  <a:lnTo>
                    <a:pt x="126" y="67"/>
                  </a:lnTo>
                  <a:lnTo>
                    <a:pt x="124" y="65"/>
                  </a:lnTo>
                  <a:lnTo>
                    <a:pt x="122" y="63"/>
                  </a:lnTo>
                  <a:lnTo>
                    <a:pt x="120" y="63"/>
                  </a:lnTo>
                  <a:lnTo>
                    <a:pt x="116" y="63"/>
                  </a:lnTo>
                  <a:lnTo>
                    <a:pt x="114" y="63"/>
                  </a:lnTo>
                  <a:lnTo>
                    <a:pt x="114" y="61"/>
                  </a:lnTo>
                  <a:lnTo>
                    <a:pt x="116" y="59"/>
                  </a:lnTo>
                  <a:lnTo>
                    <a:pt x="118" y="59"/>
                  </a:lnTo>
                  <a:lnTo>
                    <a:pt x="120" y="59"/>
                  </a:lnTo>
                  <a:lnTo>
                    <a:pt x="120" y="57"/>
                  </a:lnTo>
                  <a:lnTo>
                    <a:pt x="116" y="57"/>
                  </a:lnTo>
                  <a:lnTo>
                    <a:pt x="112" y="59"/>
                  </a:lnTo>
                  <a:lnTo>
                    <a:pt x="110" y="61"/>
                  </a:lnTo>
                  <a:lnTo>
                    <a:pt x="110" y="63"/>
                  </a:lnTo>
                  <a:lnTo>
                    <a:pt x="114" y="65"/>
                  </a:lnTo>
                  <a:lnTo>
                    <a:pt x="116" y="65"/>
                  </a:lnTo>
                  <a:lnTo>
                    <a:pt x="122" y="65"/>
                  </a:lnTo>
                  <a:lnTo>
                    <a:pt x="122" y="67"/>
                  </a:lnTo>
                  <a:lnTo>
                    <a:pt x="118" y="67"/>
                  </a:lnTo>
                  <a:lnTo>
                    <a:pt x="114" y="69"/>
                  </a:lnTo>
                  <a:lnTo>
                    <a:pt x="112" y="69"/>
                  </a:lnTo>
                  <a:lnTo>
                    <a:pt x="108" y="69"/>
                  </a:lnTo>
                  <a:lnTo>
                    <a:pt x="108" y="65"/>
                  </a:lnTo>
                  <a:lnTo>
                    <a:pt x="106" y="65"/>
                  </a:lnTo>
                  <a:lnTo>
                    <a:pt x="104" y="63"/>
                  </a:lnTo>
                  <a:lnTo>
                    <a:pt x="100" y="65"/>
                  </a:lnTo>
                  <a:lnTo>
                    <a:pt x="100" y="69"/>
                  </a:lnTo>
                  <a:lnTo>
                    <a:pt x="100" y="71"/>
                  </a:lnTo>
                  <a:lnTo>
                    <a:pt x="98" y="69"/>
                  </a:lnTo>
                  <a:lnTo>
                    <a:pt x="98" y="67"/>
                  </a:lnTo>
                  <a:lnTo>
                    <a:pt x="98" y="65"/>
                  </a:lnTo>
                  <a:lnTo>
                    <a:pt x="102" y="61"/>
                  </a:lnTo>
                  <a:lnTo>
                    <a:pt x="108" y="57"/>
                  </a:lnTo>
                  <a:lnTo>
                    <a:pt x="116" y="55"/>
                  </a:lnTo>
                  <a:lnTo>
                    <a:pt x="122" y="53"/>
                  </a:lnTo>
                  <a:lnTo>
                    <a:pt x="128" y="53"/>
                  </a:lnTo>
                  <a:close/>
                  <a:moveTo>
                    <a:pt x="126" y="39"/>
                  </a:moveTo>
                  <a:lnTo>
                    <a:pt x="126" y="43"/>
                  </a:lnTo>
                  <a:lnTo>
                    <a:pt x="130" y="43"/>
                  </a:lnTo>
                  <a:lnTo>
                    <a:pt x="132" y="43"/>
                  </a:lnTo>
                  <a:lnTo>
                    <a:pt x="132" y="39"/>
                  </a:lnTo>
                  <a:lnTo>
                    <a:pt x="132" y="37"/>
                  </a:lnTo>
                  <a:lnTo>
                    <a:pt x="130" y="35"/>
                  </a:lnTo>
                  <a:lnTo>
                    <a:pt x="126" y="37"/>
                  </a:lnTo>
                  <a:lnTo>
                    <a:pt x="126" y="39"/>
                  </a:lnTo>
                  <a:close/>
                  <a:moveTo>
                    <a:pt x="145" y="47"/>
                  </a:moveTo>
                  <a:lnTo>
                    <a:pt x="137" y="47"/>
                  </a:lnTo>
                  <a:lnTo>
                    <a:pt x="130" y="45"/>
                  </a:lnTo>
                  <a:lnTo>
                    <a:pt x="116" y="47"/>
                  </a:lnTo>
                  <a:lnTo>
                    <a:pt x="114" y="47"/>
                  </a:lnTo>
                  <a:lnTo>
                    <a:pt x="118" y="43"/>
                  </a:lnTo>
                  <a:lnTo>
                    <a:pt x="120" y="41"/>
                  </a:lnTo>
                  <a:lnTo>
                    <a:pt x="122" y="39"/>
                  </a:lnTo>
                  <a:lnTo>
                    <a:pt x="126" y="33"/>
                  </a:lnTo>
                  <a:lnTo>
                    <a:pt x="128" y="30"/>
                  </a:lnTo>
                  <a:lnTo>
                    <a:pt x="128" y="26"/>
                  </a:lnTo>
                  <a:lnTo>
                    <a:pt x="126" y="24"/>
                  </a:lnTo>
                  <a:lnTo>
                    <a:pt x="126" y="22"/>
                  </a:lnTo>
                  <a:lnTo>
                    <a:pt x="130" y="20"/>
                  </a:lnTo>
                  <a:lnTo>
                    <a:pt x="132" y="22"/>
                  </a:lnTo>
                  <a:lnTo>
                    <a:pt x="132" y="24"/>
                  </a:lnTo>
                  <a:lnTo>
                    <a:pt x="130" y="26"/>
                  </a:lnTo>
                  <a:lnTo>
                    <a:pt x="130" y="30"/>
                  </a:lnTo>
                  <a:lnTo>
                    <a:pt x="132" y="33"/>
                  </a:lnTo>
                  <a:lnTo>
                    <a:pt x="137" y="39"/>
                  </a:lnTo>
                  <a:lnTo>
                    <a:pt x="139" y="41"/>
                  </a:lnTo>
                  <a:lnTo>
                    <a:pt x="141" y="43"/>
                  </a:lnTo>
                  <a:lnTo>
                    <a:pt x="145" y="47"/>
                  </a:lnTo>
                  <a:close/>
                  <a:moveTo>
                    <a:pt x="130" y="41"/>
                  </a:moveTo>
                  <a:lnTo>
                    <a:pt x="128" y="41"/>
                  </a:lnTo>
                  <a:lnTo>
                    <a:pt x="128" y="39"/>
                  </a:lnTo>
                  <a:lnTo>
                    <a:pt x="130" y="37"/>
                  </a:lnTo>
                  <a:lnTo>
                    <a:pt x="130" y="39"/>
                  </a:lnTo>
                  <a:lnTo>
                    <a:pt x="130" y="41"/>
                  </a:lnTo>
                  <a:close/>
                  <a:moveTo>
                    <a:pt x="128" y="207"/>
                  </a:moveTo>
                  <a:lnTo>
                    <a:pt x="128" y="209"/>
                  </a:lnTo>
                  <a:lnTo>
                    <a:pt x="130" y="207"/>
                  </a:lnTo>
                  <a:lnTo>
                    <a:pt x="128" y="207"/>
                  </a:lnTo>
                  <a:close/>
                  <a:moveTo>
                    <a:pt x="126" y="207"/>
                  </a:moveTo>
                  <a:lnTo>
                    <a:pt x="128" y="205"/>
                  </a:lnTo>
                  <a:lnTo>
                    <a:pt x="124" y="197"/>
                  </a:lnTo>
                  <a:lnTo>
                    <a:pt x="128" y="197"/>
                  </a:lnTo>
                  <a:lnTo>
                    <a:pt x="130" y="205"/>
                  </a:lnTo>
                  <a:lnTo>
                    <a:pt x="132" y="197"/>
                  </a:lnTo>
                  <a:lnTo>
                    <a:pt x="135" y="197"/>
                  </a:lnTo>
                  <a:lnTo>
                    <a:pt x="130" y="205"/>
                  </a:lnTo>
                  <a:lnTo>
                    <a:pt x="132" y="207"/>
                  </a:lnTo>
                  <a:lnTo>
                    <a:pt x="132" y="211"/>
                  </a:lnTo>
                  <a:lnTo>
                    <a:pt x="128" y="211"/>
                  </a:lnTo>
                  <a:lnTo>
                    <a:pt x="126" y="211"/>
                  </a:lnTo>
                  <a:lnTo>
                    <a:pt x="126" y="207"/>
                  </a:lnTo>
                  <a:close/>
                  <a:moveTo>
                    <a:pt x="86" y="185"/>
                  </a:moveTo>
                  <a:lnTo>
                    <a:pt x="86" y="189"/>
                  </a:lnTo>
                  <a:lnTo>
                    <a:pt x="83" y="191"/>
                  </a:lnTo>
                  <a:lnTo>
                    <a:pt x="81" y="193"/>
                  </a:lnTo>
                  <a:lnTo>
                    <a:pt x="79" y="193"/>
                  </a:lnTo>
                  <a:lnTo>
                    <a:pt x="77" y="193"/>
                  </a:lnTo>
                  <a:lnTo>
                    <a:pt x="77" y="191"/>
                  </a:lnTo>
                  <a:lnTo>
                    <a:pt x="77" y="189"/>
                  </a:lnTo>
                  <a:lnTo>
                    <a:pt x="79" y="189"/>
                  </a:lnTo>
                  <a:lnTo>
                    <a:pt x="81" y="189"/>
                  </a:lnTo>
                  <a:lnTo>
                    <a:pt x="83" y="187"/>
                  </a:lnTo>
                  <a:lnTo>
                    <a:pt x="86" y="185"/>
                  </a:lnTo>
                  <a:close/>
                  <a:moveTo>
                    <a:pt x="79" y="207"/>
                  </a:moveTo>
                  <a:lnTo>
                    <a:pt x="81" y="209"/>
                  </a:lnTo>
                  <a:lnTo>
                    <a:pt x="86" y="207"/>
                  </a:lnTo>
                  <a:lnTo>
                    <a:pt x="92" y="205"/>
                  </a:lnTo>
                  <a:lnTo>
                    <a:pt x="90" y="205"/>
                  </a:lnTo>
                  <a:lnTo>
                    <a:pt x="86" y="209"/>
                  </a:lnTo>
                  <a:lnTo>
                    <a:pt x="81" y="211"/>
                  </a:lnTo>
                  <a:lnTo>
                    <a:pt x="75" y="209"/>
                  </a:lnTo>
                  <a:lnTo>
                    <a:pt x="73" y="207"/>
                  </a:lnTo>
                  <a:lnTo>
                    <a:pt x="73" y="205"/>
                  </a:lnTo>
                  <a:lnTo>
                    <a:pt x="75" y="203"/>
                  </a:lnTo>
                  <a:lnTo>
                    <a:pt x="77" y="201"/>
                  </a:lnTo>
                  <a:lnTo>
                    <a:pt x="81" y="203"/>
                  </a:lnTo>
                  <a:lnTo>
                    <a:pt x="81" y="205"/>
                  </a:lnTo>
                  <a:lnTo>
                    <a:pt x="81" y="207"/>
                  </a:lnTo>
                  <a:lnTo>
                    <a:pt x="79" y="207"/>
                  </a:lnTo>
                  <a:close/>
                  <a:moveTo>
                    <a:pt x="71" y="163"/>
                  </a:moveTo>
                  <a:lnTo>
                    <a:pt x="73" y="165"/>
                  </a:lnTo>
                  <a:lnTo>
                    <a:pt x="71" y="167"/>
                  </a:lnTo>
                  <a:lnTo>
                    <a:pt x="73" y="169"/>
                  </a:lnTo>
                  <a:lnTo>
                    <a:pt x="73" y="167"/>
                  </a:lnTo>
                  <a:lnTo>
                    <a:pt x="79" y="175"/>
                  </a:lnTo>
                  <a:lnTo>
                    <a:pt x="77" y="177"/>
                  </a:lnTo>
                  <a:lnTo>
                    <a:pt x="79" y="179"/>
                  </a:lnTo>
                  <a:lnTo>
                    <a:pt x="79" y="177"/>
                  </a:lnTo>
                  <a:lnTo>
                    <a:pt x="81" y="181"/>
                  </a:lnTo>
                  <a:lnTo>
                    <a:pt x="79" y="183"/>
                  </a:lnTo>
                  <a:lnTo>
                    <a:pt x="77" y="185"/>
                  </a:lnTo>
                  <a:lnTo>
                    <a:pt x="71" y="185"/>
                  </a:lnTo>
                  <a:lnTo>
                    <a:pt x="69" y="183"/>
                  </a:lnTo>
                  <a:lnTo>
                    <a:pt x="73" y="183"/>
                  </a:lnTo>
                  <a:lnTo>
                    <a:pt x="75" y="181"/>
                  </a:lnTo>
                  <a:lnTo>
                    <a:pt x="75" y="179"/>
                  </a:lnTo>
                  <a:lnTo>
                    <a:pt x="71" y="181"/>
                  </a:lnTo>
                  <a:lnTo>
                    <a:pt x="67" y="181"/>
                  </a:lnTo>
                  <a:lnTo>
                    <a:pt x="63" y="173"/>
                  </a:lnTo>
                  <a:lnTo>
                    <a:pt x="67" y="173"/>
                  </a:lnTo>
                  <a:lnTo>
                    <a:pt x="69" y="171"/>
                  </a:lnTo>
                  <a:lnTo>
                    <a:pt x="69" y="169"/>
                  </a:lnTo>
                  <a:lnTo>
                    <a:pt x="65" y="171"/>
                  </a:lnTo>
                  <a:lnTo>
                    <a:pt x="63" y="171"/>
                  </a:lnTo>
                  <a:lnTo>
                    <a:pt x="61" y="169"/>
                  </a:lnTo>
                  <a:lnTo>
                    <a:pt x="63" y="169"/>
                  </a:lnTo>
                  <a:lnTo>
                    <a:pt x="67" y="167"/>
                  </a:lnTo>
                  <a:lnTo>
                    <a:pt x="69" y="165"/>
                  </a:lnTo>
                  <a:lnTo>
                    <a:pt x="71" y="163"/>
                  </a:lnTo>
                  <a:close/>
                  <a:moveTo>
                    <a:pt x="124" y="230"/>
                  </a:moveTo>
                  <a:lnTo>
                    <a:pt x="124" y="234"/>
                  </a:lnTo>
                  <a:lnTo>
                    <a:pt x="122" y="232"/>
                  </a:lnTo>
                  <a:lnTo>
                    <a:pt x="122" y="230"/>
                  </a:lnTo>
                  <a:lnTo>
                    <a:pt x="124" y="230"/>
                  </a:lnTo>
                  <a:close/>
                  <a:moveTo>
                    <a:pt x="135" y="230"/>
                  </a:moveTo>
                  <a:lnTo>
                    <a:pt x="137" y="230"/>
                  </a:lnTo>
                  <a:lnTo>
                    <a:pt x="137" y="232"/>
                  </a:lnTo>
                  <a:lnTo>
                    <a:pt x="135" y="234"/>
                  </a:lnTo>
                  <a:lnTo>
                    <a:pt x="135" y="230"/>
                  </a:lnTo>
                  <a:close/>
                  <a:moveTo>
                    <a:pt x="132" y="238"/>
                  </a:moveTo>
                  <a:lnTo>
                    <a:pt x="130" y="240"/>
                  </a:lnTo>
                  <a:lnTo>
                    <a:pt x="130" y="242"/>
                  </a:lnTo>
                  <a:lnTo>
                    <a:pt x="128" y="240"/>
                  </a:lnTo>
                  <a:lnTo>
                    <a:pt x="126" y="238"/>
                  </a:lnTo>
                  <a:lnTo>
                    <a:pt x="132" y="238"/>
                  </a:lnTo>
                  <a:close/>
                  <a:moveTo>
                    <a:pt x="179" y="207"/>
                  </a:moveTo>
                  <a:lnTo>
                    <a:pt x="177" y="207"/>
                  </a:lnTo>
                  <a:lnTo>
                    <a:pt x="177" y="205"/>
                  </a:lnTo>
                  <a:lnTo>
                    <a:pt x="177" y="203"/>
                  </a:lnTo>
                  <a:lnTo>
                    <a:pt x="179" y="203"/>
                  </a:lnTo>
                  <a:lnTo>
                    <a:pt x="181" y="201"/>
                  </a:lnTo>
                  <a:lnTo>
                    <a:pt x="183" y="203"/>
                  </a:lnTo>
                  <a:lnTo>
                    <a:pt x="186" y="205"/>
                  </a:lnTo>
                  <a:lnTo>
                    <a:pt x="183" y="207"/>
                  </a:lnTo>
                  <a:lnTo>
                    <a:pt x="181" y="209"/>
                  </a:lnTo>
                  <a:lnTo>
                    <a:pt x="177" y="211"/>
                  </a:lnTo>
                  <a:lnTo>
                    <a:pt x="173" y="209"/>
                  </a:lnTo>
                  <a:lnTo>
                    <a:pt x="167" y="205"/>
                  </a:lnTo>
                  <a:lnTo>
                    <a:pt x="173" y="209"/>
                  </a:lnTo>
                  <a:lnTo>
                    <a:pt x="177" y="209"/>
                  </a:lnTo>
                  <a:lnTo>
                    <a:pt x="179" y="209"/>
                  </a:lnTo>
                  <a:lnTo>
                    <a:pt x="179" y="207"/>
                  </a:lnTo>
                  <a:close/>
                  <a:moveTo>
                    <a:pt x="173" y="185"/>
                  </a:moveTo>
                  <a:lnTo>
                    <a:pt x="175" y="187"/>
                  </a:lnTo>
                  <a:lnTo>
                    <a:pt x="177" y="189"/>
                  </a:lnTo>
                  <a:lnTo>
                    <a:pt x="179" y="189"/>
                  </a:lnTo>
                  <a:lnTo>
                    <a:pt x="181" y="189"/>
                  </a:lnTo>
                  <a:lnTo>
                    <a:pt x="181" y="193"/>
                  </a:lnTo>
                  <a:lnTo>
                    <a:pt x="179" y="193"/>
                  </a:lnTo>
                  <a:lnTo>
                    <a:pt x="175" y="193"/>
                  </a:lnTo>
                  <a:lnTo>
                    <a:pt x="173" y="189"/>
                  </a:lnTo>
                  <a:lnTo>
                    <a:pt x="173" y="187"/>
                  </a:lnTo>
                  <a:lnTo>
                    <a:pt x="173" y="185"/>
                  </a:lnTo>
                  <a:close/>
                  <a:moveTo>
                    <a:pt x="196" y="128"/>
                  </a:moveTo>
                  <a:lnTo>
                    <a:pt x="196" y="132"/>
                  </a:lnTo>
                  <a:lnTo>
                    <a:pt x="198" y="136"/>
                  </a:lnTo>
                  <a:lnTo>
                    <a:pt x="202" y="144"/>
                  </a:lnTo>
                  <a:lnTo>
                    <a:pt x="206" y="152"/>
                  </a:lnTo>
                  <a:lnTo>
                    <a:pt x="206" y="158"/>
                  </a:lnTo>
                  <a:lnTo>
                    <a:pt x="206" y="160"/>
                  </a:lnTo>
                  <a:lnTo>
                    <a:pt x="204" y="163"/>
                  </a:lnTo>
                  <a:lnTo>
                    <a:pt x="202" y="165"/>
                  </a:lnTo>
                  <a:lnTo>
                    <a:pt x="196" y="167"/>
                  </a:lnTo>
                  <a:lnTo>
                    <a:pt x="192" y="165"/>
                  </a:lnTo>
                  <a:lnTo>
                    <a:pt x="190" y="160"/>
                  </a:lnTo>
                  <a:lnTo>
                    <a:pt x="190" y="158"/>
                  </a:lnTo>
                  <a:lnTo>
                    <a:pt x="192" y="156"/>
                  </a:lnTo>
                  <a:lnTo>
                    <a:pt x="194" y="156"/>
                  </a:lnTo>
                  <a:lnTo>
                    <a:pt x="196" y="156"/>
                  </a:lnTo>
                  <a:lnTo>
                    <a:pt x="196" y="158"/>
                  </a:lnTo>
                  <a:lnTo>
                    <a:pt x="196" y="160"/>
                  </a:lnTo>
                  <a:lnTo>
                    <a:pt x="194" y="160"/>
                  </a:lnTo>
                  <a:lnTo>
                    <a:pt x="196" y="165"/>
                  </a:lnTo>
                  <a:lnTo>
                    <a:pt x="200" y="163"/>
                  </a:lnTo>
                  <a:lnTo>
                    <a:pt x="202" y="160"/>
                  </a:lnTo>
                  <a:lnTo>
                    <a:pt x="204" y="160"/>
                  </a:lnTo>
                  <a:lnTo>
                    <a:pt x="204" y="158"/>
                  </a:lnTo>
                  <a:lnTo>
                    <a:pt x="202" y="154"/>
                  </a:lnTo>
                  <a:lnTo>
                    <a:pt x="198" y="150"/>
                  </a:lnTo>
                  <a:lnTo>
                    <a:pt x="196" y="148"/>
                  </a:lnTo>
                  <a:lnTo>
                    <a:pt x="198" y="148"/>
                  </a:lnTo>
                  <a:lnTo>
                    <a:pt x="198" y="146"/>
                  </a:lnTo>
                  <a:lnTo>
                    <a:pt x="198" y="144"/>
                  </a:lnTo>
                  <a:lnTo>
                    <a:pt x="196" y="142"/>
                  </a:lnTo>
                  <a:lnTo>
                    <a:pt x="194" y="140"/>
                  </a:lnTo>
                  <a:lnTo>
                    <a:pt x="192" y="138"/>
                  </a:lnTo>
                  <a:lnTo>
                    <a:pt x="192" y="136"/>
                  </a:lnTo>
                  <a:lnTo>
                    <a:pt x="196" y="136"/>
                  </a:lnTo>
                  <a:lnTo>
                    <a:pt x="196" y="134"/>
                  </a:lnTo>
                  <a:lnTo>
                    <a:pt x="194" y="134"/>
                  </a:lnTo>
                  <a:lnTo>
                    <a:pt x="194" y="132"/>
                  </a:lnTo>
                  <a:lnTo>
                    <a:pt x="194" y="130"/>
                  </a:lnTo>
                  <a:lnTo>
                    <a:pt x="196" y="128"/>
                  </a:lnTo>
                  <a:close/>
                  <a:moveTo>
                    <a:pt x="177" y="197"/>
                  </a:moveTo>
                  <a:lnTo>
                    <a:pt x="175" y="199"/>
                  </a:lnTo>
                  <a:lnTo>
                    <a:pt x="171" y="201"/>
                  </a:lnTo>
                  <a:lnTo>
                    <a:pt x="169" y="197"/>
                  </a:lnTo>
                  <a:lnTo>
                    <a:pt x="169" y="195"/>
                  </a:lnTo>
                  <a:lnTo>
                    <a:pt x="167" y="193"/>
                  </a:lnTo>
                  <a:lnTo>
                    <a:pt x="165" y="193"/>
                  </a:lnTo>
                  <a:lnTo>
                    <a:pt x="163" y="195"/>
                  </a:lnTo>
                  <a:lnTo>
                    <a:pt x="163" y="197"/>
                  </a:lnTo>
                  <a:lnTo>
                    <a:pt x="163" y="199"/>
                  </a:lnTo>
                  <a:lnTo>
                    <a:pt x="163" y="205"/>
                  </a:lnTo>
                  <a:lnTo>
                    <a:pt x="167" y="211"/>
                  </a:lnTo>
                  <a:lnTo>
                    <a:pt x="173" y="213"/>
                  </a:lnTo>
                  <a:lnTo>
                    <a:pt x="175" y="215"/>
                  </a:lnTo>
                  <a:lnTo>
                    <a:pt x="171" y="219"/>
                  </a:lnTo>
                  <a:lnTo>
                    <a:pt x="169" y="221"/>
                  </a:lnTo>
                  <a:lnTo>
                    <a:pt x="167" y="221"/>
                  </a:lnTo>
                  <a:lnTo>
                    <a:pt x="163" y="221"/>
                  </a:lnTo>
                  <a:lnTo>
                    <a:pt x="161" y="219"/>
                  </a:lnTo>
                  <a:lnTo>
                    <a:pt x="157" y="215"/>
                  </a:lnTo>
                  <a:lnTo>
                    <a:pt x="155" y="211"/>
                  </a:lnTo>
                  <a:lnTo>
                    <a:pt x="153" y="207"/>
                  </a:lnTo>
                  <a:lnTo>
                    <a:pt x="153" y="201"/>
                  </a:lnTo>
                  <a:lnTo>
                    <a:pt x="143" y="201"/>
                  </a:lnTo>
                  <a:lnTo>
                    <a:pt x="143" y="203"/>
                  </a:lnTo>
                  <a:lnTo>
                    <a:pt x="143" y="207"/>
                  </a:lnTo>
                  <a:lnTo>
                    <a:pt x="141" y="211"/>
                  </a:lnTo>
                  <a:lnTo>
                    <a:pt x="139" y="213"/>
                  </a:lnTo>
                  <a:lnTo>
                    <a:pt x="137" y="215"/>
                  </a:lnTo>
                  <a:lnTo>
                    <a:pt x="135" y="215"/>
                  </a:lnTo>
                  <a:lnTo>
                    <a:pt x="135" y="213"/>
                  </a:lnTo>
                  <a:lnTo>
                    <a:pt x="132" y="213"/>
                  </a:lnTo>
                  <a:lnTo>
                    <a:pt x="135" y="211"/>
                  </a:lnTo>
                  <a:lnTo>
                    <a:pt x="137" y="207"/>
                  </a:lnTo>
                  <a:lnTo>
                    <a:pt x="139" y="197"/>
                  </a:lnTo>
                  <a:lnTo>
                    <a:pt x="143" y="197"/>
                  </a:lnTo>
                  <a:lnTo>
                    <a:pt x="149" y="195"/>
                  </a:lnTo>
                  <a:lnTo>
                    <a:pt x="153" y="193"/>
                  </a:lnTo>
                  <a:lnTo>
                    <a:pt x="157" y="191"/>
                  </a:lnTo>
                  <a:lnTo>
                    <a:pt x="165" y="183"/>
                  </a:lnTo>
                  <a:lnTo>
                    <a:pt x="173" y="175"/>
                  </a:lnTo>
                  <a:lnTo>
                    <a:pt x="179" y="167"/>
                  </a:lnTo>
                  <a:lnTo>
                    <a:pt x="181" y="160"/>
                  </a:lnTo>
                  <a:lnTo>
                    <a:pt x="183" y="154"/>
                  </a:lnTo>
                  <a:lnTo>
                    <a:pt x="188" y="140"/>
                  </a:lnTo>
                  <a:lnTo>
                    <a:pt x="188" y="138"/>
                  </a:lnTo>
                  <a:lnTo>
                    <a:pt x="190" y="138"/>
                  </a:lnTo>
                  <a:lnTo>
                    <a:pt x="194" y="144"/>
                  </a:lnTo>
                  <a:lnTo>
                    <a:pt x="192" y="146"/>
                  </a:lnTo>
                  <a:lnTo>
                    <a:pt x="194" y="150"/>
                  </a:lnTo>
                  <a:lnTo>
                    <a:pt x="196" y="152"/>
                  </a:lnTo>
                  <a:lnTo>
                    <a:pt x="200" y="154"/>
                  </a:lnTo>
                  <a:lnTo>
                    <a:pt x="200" y="156"/>
                  </a:lnTo>
                  <a:lnTo>
                    <a:pt x="200" y="158"/>
                  </a:lnTo>
                  <a:lnTo>
                    <a:pt x="198" y="160"/>
                  </a:lnTo>
                  <a:lnTo>
                    <a:pt x="196" y="152"/>
                  </a:lnTo>
                  <a:lnTo>
                    <a:pt x="194" y="152"/>
                  </a:lnTo>
                  <a:lnTo>
                    <a:pt x="192" y="150"/>
                  </a:lnTo>
                  <a:lnTo>
                    <a:pt x="188" y="154"/>
                  </a:lnTo>
                  <a:lnTo>
                    <a:pt x="183" y="158"/>
                  </a:lnTo>
                  <a:lnTo>
                    <a:pt x="179" y="169"/>
                  </a:lnTo>
                  <a:lnTo>
                    <a:pt x="173" y="179"/>
                  </a:lnTo>
                  <a:lnTo>
                    <a:pt x="171" y="183"/>
                  </a:lnTo>
                  <a:lnTo>
                    <a:pt x="171" y="185"/>
                  </a:lnTo>
                  <a:lnTo>
                    <a:pt x="171" y="189"/>
                  </a:lnTo>
                  <a:lnTo>
                    <a:pt x="171" y="193"/>
                  </a:lnTo>
                  <a:lnTo>
                    <a:pt x="175" y="195"/>
                  </a:lnTo>
                  <a:lnTo>
                    <a:pt x="177" y="197"/>
                  </a:lnTo>
                  <a:close/>
                  <a:moveTo>
                    <a:pt x="188" y="163"/>
                  </a:moveTo>
                  <a:lnTo>
                    <a:pt x="190" y="165"/>
                  </a:lnTo>
                  <a:lnTo>
                    <a:pt x="192" y="167"/>
                  </a:lnTo>
                  <a:lnTo>
                    <a:pt x="196" y="169"/>
                  </a:lnTo>
                  <a:lnTo>
                    <a:pt x="198" y="169"/>
                  </a:lnTo>
                  <a:lnTo>
                    <a:pt x="196" y="171"/>
                  </a:lnTo>
                  <a:lnTo>
                    <a:pt x="194" y="171"/>
                  </a:lnTo>
                  <a:lnTo>
                    <a:pt x="190" y="169"/>
                  </a:lnTo>
                  <a:lnTo>
                    <a:pt x="190" y="171"/>
                  </a:lnTo>
                  <a:lnTo>
                    <a:pt x="192" y="173"/>
                  </a:lnTo>
                  <a:lnTo>
                    <a:pt x="196" y="173"/>
                  </a:lnTo>
                  <a:lnTo>
                    <a:pt x="192" y="181"/>
                  </a:lnTo>
                  <a:lnTo>
                    <a:pt x="188" y="181"/>
                  </a:lnTo>
                  <a:lnTo>
                    <a:pt x="183" y="179"/>
                  </a:lnTo>
                  <a:lnTo>
                    <a:pt x="183" y="181"/>
                  </a:lnTo>
                  <a:lnTo>
                    <a:pt x="186" y="183"/>
                  </a:lnTo>
                  <a:lnTo>
                    <a:pt x="190" y="183"/>
                  </a:lnTo>
                  <a:lnTo>
                    <a:pt x="188" y="185"/>
                  </a:lnTo>
                  <a:lnTo>
                    <a:pt x="186" y="185"/>
                  </a:lnTo>
                  <a:lnTo>
                    <a:pt x="181" y="185"/>
                  </a:lnTo>
                  <a:lnTo>
                    <a:pt x="179" y="183"/>
                  </a:lnTo>
                  <a:lnTo>
                    <a:pt x="177" y="181"/>
                  </a:lnTo>
                  <a:lnTo>
                    <a:pt x="179" y="177"/>
                  </a:lnTo>
                  <a:lnTo>
                    <a:pt x="179" y="179"/>
                  </a:lnTo>
                  <a:lnTo>
                    <a:pt x="181" y="177"/>
                  </a:lnTo>
                  <a:lnTo>
                    <a:pt x="179" y="175"/>
                  </a:lnTo>
                  <a:lnTo>
                    <a:pt x="186" y="167"/>
                  </a:lnTo>
                  <a:lnTo>
                    <a:pt x="186" y="169"/>
                  </a:lnTo>
                  <a:lnTo>
                    <a:pt x="188" y="167"/>
                  </a:lnTo>
                  <a:lnTo>
                    <a:pt x="186" y="165"/>
                  </a:lnTo>
                  <a:lnTo>
                    <a:pt x="188" y="163"/>
                  </a:lnTo>
                  <a:close/>
                  <a:moveTo>
                    <a:pt x="128" y="215"/>
                  </a:moveTo>
                  <a:lnTo>
                    <a:pt x="130" y="217"/>
                  </a:lnTo>
                  <a:lnTo>
                    <a:pt x="135" y="219"/>
                  </a:lnTo>
                  <a:lnTo>
                    <a:pt x="139" y="219"/>
                  </a:lnTo>
                  <a:lnTo>
                    <a:pt x="141" y="217"/>
                  </a:lnTo>
                  <a:lnTo>
                    <a:pt x="143" y="213"/>
                  </a:lnTo>
                  <a:lnTo>
                    <a:pt x="145" y="205"/>
                  </a:lnTo>
                  <a:lnTo>
                    <a:pt x="145" y="209"/>
                  </a:lnTo>
                  <a:lnTo>
                    <a:pt x="143" y="217"/>
                  </a:lnTo>
                  <a:lnTo>
                    <a:pt x="141" y="221"/>
                  </a:lnTo>
                  <a:lnTo>
                    <a:pt x="139" y="225"/>
                  </a:lnTo>
                  <a:lnTo>
                    <a:pt x="135" y="225"/>
                  </a:lnTo>
                  <a:lnTo>
                    <a:pt x="132" y="225"/>
                  </a:lnTo>
                  <a:lnTo>
                    <a:pt x="128" y="225"/>
                  </a:lnTo>
                  <a:lnTo>
                    <a:pt x="126" y="225"/>
                  </a:lnTo>
                  <a:lnTo>
                    <a:pt x="124" y="225"/>
                  </a:lnTo>
                  <a:lnTo>
                    <a:pt x="120" y="225"/>
                  </a:lnTo>
                  <a:lnTo>
                    <a:pt x="118" y="221"/>
                  </a:lnTo>
                  <a:lnTo>
                    <a:pt x="116" y="217"/>
                  </a:lnTo>
                  <a:lnTo>
                    <a:pt x="114" y="209"/>
                  </a:lnTo>
                  <a:lnTo>
                    <a:pt x="114" y="205"/>
                  </a:lnTo>
                  <a:lnTo>
                    <a:pt x="116" y="213"/>
                  </a:lnTo>
                  <a:lnTo>
                    <a:pt x="118" y="217"/>
                  </a:lnTo>
                  <a:lnTo>
                    <a:pt x="120" y="219"/>
                  </a:lnTo>
                  <a:lnTo>
                    <a:pt x="124" y="219"/>
                  </a:lnTo>
                  <a:lnTo>
                    <a:pt x="128" y="217"/>
                  </a:lnTo>
                  <a:lnTo>
                    <a:pt x="128" y="215"/>
                  </a:lnTo>
                  <a:close/>
                  <a:moveTo>
                    <a:pt x="75" y="47"/>
                  </a:moveTo>
                  <a:lnTo>
                    <a:pt x="77" y="49"/>
                  </a:lnTo>
                  <a:lnTo>
                    <a:pt x="77" y="51"/>
                  </a:lnTo>
                  <a:lnTo>
                    <a:pt x="77" y="53"/>
                  </a:lnTo>
                  <a:lnTo>
                    <a:pt x="75" y="53"/>
                  </a:lnTo>
                  <a:lnTo>
                    <a:pt x="73" y="55"/>
                  </a:lnTo>
                  <a:lnTo>
                    <a:pt x="69" y="53"/>
                  </a:lnTo>
                  <a:lnTo>
                    <a:pt x="67" y="53"/>
                  </a:lnTo>
                  <a:lnTo>
                    <a:pt x="65" y="47"/>
                  </a:lnTo>
                  <a:lnTo>
                    <a:pt x="65" y="45"/>
                  </a:lnTo>
                  <a:lnTo>
                    <a:pt x="67" y="43"/>
                  </a:lnTo>
                  <a:lnTo>
                    <a:pt x="71" y="41"/>
                  </a:lnTo>
                  <a:lnTo>
                    <a:pt x="75" y="41"/>
                  </a:lnTo>
                  <a:lnTo>
                    <a:pt x="81" y="41"/>
                  </a:lnTo>
                  <a:lnTo>
                    <a:pt x="90" y="45"/>
                  </a:lnTo>
                  <a:lnTo>
                    <a:pt x="92" y="45"/>
                  </a:lnTo>
                  <a:lnTo>
                    <a:pt x="86" y="45"/>
                  </a:lnTo>
                  <a:lnTo>
                    <a:pt x="79" y="43"/>
                  </a:lnTo>
                  <a:lnTo>
                    <a:pt x="73" y="43"/>
                  </a:lnTo>
                  <a:lnTo>
                    <a:pt x="69" y="45"/>
                  </a:lnTo>
                  <a:lnTo>
                    <a:pt x="67" y="47"/>
                  </a:lnTo>
                  <a:lnTo>
                    <a:pt x="69" y="49"/>
                  </a:lnTo>
                  <a:lnTo>
                    <a:pt x="69" y="51"/>
                  </a:lnTo>
                  <a:lnTo>
                    <a:pt x="71" y="51"/>
                  </a:lnTo>
                  <a:lnTo>
                    <a:pt x="71" y="49"/>
                  </a:lnTo>
                  <a:lnTo>
                    <a:pt x="73" y="47"/>
                  </a:lnTo>
                  <a:lnTo>
                    <a:pt x="75" y="47"/>
                  </a:lnTo>
                  <a:close/>
                  <a:moveTo>
                    <a:pt x="49" y="71"/>
                  </a:moveTo>
                  <a:lnTo>
                    <a:pt x="57" y="75"/>
                  </a:lnTo>
                  <a:lnTo>
                    <a:pt x="55" y="77"/>
                  </a:lnTo>
                  <a:lnTo>
                    <a:pt x="51" y="75"/>
                  </a:lnTo>
                  <a:lnTo>
                    <a:pt x="49" y="73"/>
                  </a:lnTo>
                  <a:lnTo>
                    <a:pt x="49" y="71"/>
                  </a:lnTo>
                  <a:close/>
                  <a:moveTo>
                    <a:pt x="71" y="57"/>
                  </a:moveTo>
                  <a:lnTo>
                    <a:pt x="71" y="61"/>
                  </a:lnTo>
                  <a:lnTo>
                    <a:pt x="69" y="59"/>
                  </a:lnTo>
                  <a:lnTo>
                    <a:pt x="67" y="61"/>
                  </a:lnTo>
                  <a:lnTo>
                    <a:pt x="69" y="61"/>
                  </a:lnTo>
                  <a:lnTo>
                    <a:pt x="63" y="69"/>
                  </a:lnTo>
                  <a:lnTo>
                    <a:pt x="61" y="69"/>
                  </a:lnTo>
                  <a:lnTo>
                    <a:pt x="61" y="71"/>
                  </a:lnTo>
                  <a:lnTo>
                    <a:pt x="63" y="71"/>
                  </a:lnTo>
                  <a:lnTo>
                    <a:pt x="61" y="73"/>
                  </a:lnTo>
                  <a:lnTo>
                    <a:pt x="55" y="71"/>
                  </a:lnTo>
                  <a:lnTo>
                    <a:pt x="53" y="69"/>
                  </a:lnTo>
                  <a:lnTo>
                    <a:pt x="51" y="67"/>
                  </a:lnTo>
                  <a:lnTo>
                    <a:pt x="53" y="65"/>
                  </a:lnTo>
                  <a:lnTo>
                    <a:pt x="55" y="67"/>
                  </a:lnTo>
                  <a:lnTo>
                    <a:pt x="57" y="69"/>
                  </a:lnTo>
                  <a:lnTo>
                    <a:pt x="59" y="67"/>
                  </a:lnTo>
                  <a:lnTo>
                    <a:pt x="57" y="65"/>
                  </a:lnTo>
                  <a:lnTo>
                    <a:pt x="55" y="63"/>
                  </a:lnTo>
                  <a:lnTo>
                    <a:pt x="59" y="55"/>
                  </a:lnTo>
                  <a:lnTo>
                    <a:pt x="61" y="57"/>
                  </a:lnTo>
                  <a:lnTo>
                    <a:pt x="65" y="59"/>
                  </a:lnTo>
                  <a:lnTo>
                    <a:pt x="63" y="55"/>
                  </a:lnTo>
                  <a:lnTo>
                    <a:pt x="61" y="53"/>
                  </a:lnTo>
                  <a:lnTo>
                    <a:pt x="63" y="51"/>
                  </a:lnTo>
                  <a:lnTo>
                    <a:pt x="67" y="55"/>
                  </a:lnTo>
                  <a:lnTo>
                    <a:pt x="69" y="57"/>
                  </a:lnTo>
                  <a:lnTo>
                    <a:pt x="71" y="57"/>
                  </a:lnTo>
                  <a:close/>
                  <a:moveTo>
                    <a:pt x="210" y="73"/>
                  </a:moveTo>
                  <a:lnTo>
                    <a:pt x="210" y="75"/>
                  </a:lnTo>
                  <a:lnTo>
                    <a:pt x="208" y="77"/>
                  </a:lnTo>
                  <a:lnTo>
                    <a:pt x="204" y="77"/>
                  </a:lnTo>
                  <a:lnTo>
                    <a:pt x="210" y="73"/>
                  </a:lnTo>
                  <a:close/>
                  <a:moveTo>
                    <a:pt x="186" y="57"/>
                  </a:moveTo>
                  <a:lnTo>
                    <a:pt x="190" y="57"/>
                  </a:lnTo>
                  <a:lnTo>
                    <a:pt x="192" y="55"/>
                  </a:lnTo>
                  <a:lnTo>
                    <a:pt x="196" y="51"/>
                  </a:lnTo>
                  <a:lnTo>
                    <a:pt x="198" y="53"/>
                  </a:lnTo>
                  <a:lnTo>
                    <a:pt x="196" y="55"/>
                  </a:lnTo>
                  <a:lnTo>
                    <a:pt x="194" y="59"/>
                  </a:lnTo>
                  <a:lnTo>
                    <a:pt x="198" y="57"/>
                  </a:lnTo>
                  <a:lnTo>
                    <a:pt x="200" y="55"/>
                  </a:lnTo>
                  <a:lnTo>
                    <a:pt x="204" y="63"/>
                  </a:lnTo>
                  <a:lnTo>
                    <a:pt x="202" y="65"/>
                  </a:lnTo>
                  <a:lnTo>
                    <a:pt x="200" y="67"/>
                  </a:lnTo>
                  <a:lnTo>
                    <a:pt x="200" y="69"/>
                  </a:lnTo>
                  <a:lnTo>
                    <a:pt x="204" y="67"/>
                  </a:lnTo>
                  <a:lnTo>
                    <a:pt x="206" y="65"/>
                  </a:lnTo>
                  <a:lnTo>
                    <a:pt x="208" y="67"/>
                  </a:lnTo>
                  <a:lnTo>
                    <a:pt x="204" y="71"/>
                  </a:lnTo>
                  <a:lnTo>
                    <a:pt x="200" y="73"/>
                  </a:lnTo>
                  <a:lnTo>
                    <a:pt x="198" y="73"/>
                  </a:lnTo>
                  <a:lnTo>
                    <a:pt x="196" y="71"/>
                  </a:lnTo>
                  <a:lnTo>
                    <a:pt x="198" y="71"/>
                  </a:lnTo>
                  <a:lnTo>
                    <a:pt x="196" y="69"/>
                  </a:lnTo>
                  <a:lnTo>
                    <a:pt x="194" y="69"/>
                  </a:lnTo>
                  <a:lnTo>
                    <a:pt x="190" y="61"/>
                  </a:lnTo>
                  <a:lnTo>
                    <a:pt x="192" y="61"/>
                  </a:lnTo>
                  <a:lnTo>
                    <a:pt x="190" y="59"/>
                  </a:lnTo>
                  <a:lnTo>
                    <a:pt x="188" y="61"/>
                  </a:lnTo>
                  <a:lnTo>
                    <a:pt x="186" y="57"/>
                  </a:lnTo>
                  <a:close/>
                  <a:moveTo>
                    <a:pt x="183" y="47"/>
                  </a:moveTo>
                  <a:lnTo>
                    <a:pt x="186" y="47"/>
                  </a:lnTo>
                  <a:lnTo>
                    <a:pt x="188" y="49"/>
                  </a:lnTo>
                  <a:lnTo>
                    <a:pt x="188" y="51"/>
                  </a:lnTo>
                  <a:lnTo>
                    <a:pt x="190" y="51"/>
                  </a:lnTo>
                  <a:lnTo>
                    <a:pt x="190" y="49"/>
                  </a:lnTo>
                  <a:lnTo>
                    <a:pt x="190" y="47"/>
                  </a:lnTo>
                  <a:lnTo>
                    <a:pt x="190" y="45"/>
                  </a:lnTo>
                  <a:lnTo>
                    <a:pt x="186" y="43"/>
                  </a:lnTo>
                  <a:lnTo>
                    <a:pt x="179" y="43"/>
                  </a:lnTo>
                  <a:lnTo>
                    <a:pt x="173" y="45"/>
                  </a:lnTo>
                  <a:lnTo>
                    <a:pt x="167" y="45"/>
                  </a:lnTo>
                  <a:lnTo>
                    <a:pt x="169" y="45"/>
                  </a:lnTo>
                  <a:lnTo>
                    <a:pt x="177" y="41"/>
                  </a:lnTo>
                  <a:lnTo>
                    <a:pt x="183" y="41"/>
                  </a:lnTo>
                  <a:lnTo>
                    <a:pt x="188" y="41"/>
                  </a:lnTo>
                  <a:lnTo>
                    <a:pt x="190" y="41"/>
                  </a:lnTo>
                  <a:lnTo>
                    <a:pt x="192" y="43"/>
                  </a:lnTo>
                  <a:lnTo>
                    <a:pt x="194" y="45"/>
                  </a:lnTo>
                  <a:lnTo>
                    <a:pt x="194" y="47"/>
                  </a:lnTo>
                  <a:lnTo>
                    <a:pt x="192" y="51"/>
                  </a:lnTo>
                  <a:lnTo>
                    <a:pt x="190" y="53"/>
                  </a:lnTo>
                  <a:lnTo>
                    <a:pt x="186" y="53"/>
                  </a:lnTo>
                  <a:lnTo>
                    <a:pt x="183" y="53"/>
                  </a:lnTo>
                  <a:lnTo>
                    <a:pt x="181" y="49"/>
                  </a:lnTo>
                  <a:lnTo>
                    <a:pt x="181" y="47"/>
                  </a:lnTo>
                  <a:lnTo>
                    <a:pt x="183" y="47"/>
                  </a:lnTo>
                  <a:close/>
                  <a:moveTo>
                    <a:pt x="159" y="41"/>
                  </a:moveTo>
                  <a:lnTo>
                    <a:pt x="157" y="43"/>
                  </a:lnTo>
                  <a:lnTo>
                    <a:pt x="153" y="43"/>
                  </a:lnTo>
                  <a:lnTo>
                    <a:pt x="159" y="39"/>
                  </a:lnTo>
                  <a:lnTo>
                    <a:pt x="159" y="41"/>
                  </a:lnTo>
                  <a:close/>
                  <a:moveTo>
                    <a:pt x="100" y="41"/>
                  </a:moveTo>
                  <a:lnTo>
                    <a:pt x="100" y="39"/>
                  </a:lnTo>
                  <a:lnTo>
                    <a:pt x="106" y="43"/>
                  </a:lnTo>
                  <a:lnTo>
                    <a:pt x="104" y="43"/>
                  </a:lnTo>
                  <a:lnTo>
                    <a:pt x="100" y="41"/>
                  </a:lnTo>
                  <a:close/>
                  <a:moveTo>
                    <a:pt x="165" y="41"/>
                  </a:moveTo>
                  <a:lnTo>
                    <a:pt x="161" y="45"/>
                  </a:lnTo>
                  <a:lnTo>
                    <a:pt x="159" y="45"/>
                  </a:lnTo>
                  <a:lnTo>
                    <a:pt x="161" y="43"/>
                  </a:lnTo>
                  <a:lnTo>
                    <a:pt x="163" y="41"/>
                  </a:lnTo>
                  <a:lnTo>
                    <a:pt x="163" y="39"/>
                  </a:lnTo>
                  <a:lnTo>
                    <a:pt x="161" y="39"/>
                  </a:lnTo>
                  <a:lnTo>
                    <a:pt x="161" y="37"/>
                  </a:lnTo>
                  <a:lnTo>
                    <a:pt x="159" y="35"/>
                  </a:lnTo>
                  <a:lnTo>
                    <a:pt x="161" y="33"/>
                  </a:lnTo>
                  <a:lnTo>
                    <a:pt x="163" y="33"/>
                  </a:lnTo>
                  <a:lnTo>
                    <a:pt x="165" y="33"/>
                  </a:lnTo>
                  <a:lnTo>
                    <a:pt x="165" y="35"/>
                  </a:lnTo>
                  <a:lnTo>
                    <a:pt x="165" y="39"/>
                  </a:lnTo>
                  <a:lnTo>
                    <a:pt x="165" y="41"/>
                  </a:lnTo>
                  <a:close/>
                  <a:moveTo>
                    <a:pt x="94" y="41"/>
                  </a:moveTo>
                  <a:lnTo>
                    <a:pt x="94" y="35"/>
                  </a:lnTo>
                  <a:lnTo>
                    <a:pt x="94" y="33"/>
                  </a:lnTo>
                  <a:lnTo>
                    <a:pt x="96" y="33"/>
                  </a:lnTo>
                  <a:lnTo>
                    <a:pt x="98" y="33"/>
                  </a:lnTo>
                  <a:lnTo>
                    <a:pt x="100" y="35"/>
                  </a:lnTo>
                  <a:lnTo>
                    <a:pt x="98" y="37"/>
                  </a:lnTo>
                  <a:lnTo>
                    <a:pt x="96" y="39"/>
                  </a:lnTo>
                  <a:lnTo>
                    <a:pt x="96" y="41"/>
                  </a:lnTo>
                  <a:lnTo>
                    <a:pt x="98" y="43"/>
                  </a:lnTo>
                  <a:lnTo>
                    <a:pt x="100" y="45"/>
                  </a:lnTo>
                  <a:lnTo>
                    <a:pt x="98" y="45"/>
                  </a:lnTo>
                  <a:lnTo>
                    <a:pt x="96" y="43"/>
                  </a:lnTo>
                  <a:lnTo>
                    <a:pt x="94" y="41"/>
                  </a:lnTo>
                  <a:close/>
                  <a:moveTo>
                    <a:pt x="116" y="28"/>
                  </a:moveTo>
                  <a:lnTo>
                    <a:pt x="116" y="30"/>
                  </a:lnTo>
                  <a:lnTo>
                    <a:pt x="114" y="30"/>
                  </a:lnTo>
                  <a:lnTo>
                    <a:pt x="112" y="30"/>
                  </a:lnTo>
                  <a:lnTo>
                    <a:pt x="110" y="28"/>
                  </a:lnTo>
                  <a:lnTo>
                    <a:pt x="110" y="24"/>
                  </a:lnTo>
                  <a:lnTo>
                    <a:pt x="112" y="18"/>
                  </a:lnTo>
                  <a:lnTo>
                    <a:pt x="116" y="16"/>
                  </a:lnTo>
                  <a:lnTo>
                    <a:pt x="118" y="12"/>
                  </a:lnTo>
                  <a:lnTo>
                    <a:pt x="122" y="10"/>
                  </a:lnTo>
                  <a:lnTo>
                    <a:pt x="126" y="10"/>
                  </a:lnTo>
                  <a:lnTo>
                    <a:pt x="132" y="10"/>
                  </a:lnTo>
                  <a:lnTo>
                    <a:pt x="139" y="12"/>
                  </a:lnTo>
                  <a:lnTo>
                    <a:pt x="145" y="18"/>
                  </a:lnTo>
                  <a:lnTo>
                    <a:pt x="147" y="20"/>
                  </a:lnTo>
                  <a:lnTo>
                    <a:pt x="147" y="24"/>
                  </a:lnTo>
                  <a:lnTo>
                    <a:pt x="147" y="28"/>
                  </a:lnTo>
                  <a:lnTo>
                    <a:pt x="147" y="30"/>
                  </a:lnTo>
                  <a:lnTo>
                    <a:pt x="145" y="30"/>
                  </a:lnTo>
                  <a:lnTo>
                    <a:pt x="143" y="30"/>
                  </a:lnTo>
                  <a:lnTo>
                    <a:pt x="143" y="28"/>
                  </a:lnTo>
                  <a:lnTo>
                    <a:pt x="143" y="26"/>
                  </a:lnTo>
                  <a:lnTo>
                    <a:pt x="145" y="26"/>
                  </a:lnTo>
                  <a:lnTo>
                    <a:pt x="145" y="22"/>
                  </a:lnTo>
                  <a:lnTo>
                    <a:pt x="143" y="20"/>
                  </a:lnTo>
                  <a:lnTo>
                    <a:pt x="139" y="16"/>
                  </a:lnTo>
                  <a:lnTo>
                    <a:pt x="132" y="12"/>
                  </a:lnTo>
                  <a:lnTo>
                    <a:pt x="126" y="12"/>
                  </a:lnTo>
                  <a:lnTo>
                    <a:pt x="122" y="14"/>
                  </a:lnTo>
                  <a:lnTo>
                    <a:pt x="116" y="18"/>
                  </a:lnTo>
                  <a:lnTo>
                    <a:pt x="114" y="22"/>
                  </a:lnTo>
                  <a:lnTo>
                    <a:pt x="114" y="24"/>
                  </a:lnTo>
                  <a:lnTo>
                    <a:pt x="114" y="26"/>
                  </a:lnTo>
                  <a:lnTo>
                    <a:pt x="116" y="26"/>
                  </a:lnTo>
                  <a:lnTo>
                    <a:pt x="116" y="28"/>
                  </a:lnTo>
                  <a:close/>
                  <a:moveTo>
                    <a:pt x="202" y="93"/>
                  </a:moveTo>
                  <a:lnTo>
                    <a:pt x="196" y="93"/>
                  </a:lnTo>
                  <a:lnTo>
                    <a:pt x="194" y="93"/>
                  </a:lnTo>
                  <a:lnTo>
                    <a:pt x="194" y="91"/>
                  </a:lnTo>
                  <a:lnTo>
                    <a:pt x="194" y="83"/>
                  </a:lnTo>
                  <a:lnTo>
                    <a:pt x="192" y="83"/>
                  </a:lnTo>
                  <a:lnTo>
                    <a:pt x="190" y="81"/>
                  </a:lnTo>
                  <a:lnTo>
                    <a:pt x="188" y="79"/>
                  </a:lnTo>
                  <a:lnTo>
                    <a:pt x="188" y="67"/>
                  </a:lnTo>
                  <a:lnTo>
                    <a:pt x="190" y="67"/>
                  </a:lnTo>
                  <a:lnTo>
                    <a:pt x="190" y="79"/>
                  </a:lnTo>
                  <a:lnTo>
                    <a:pt x="192" y="81"/>
                  </a:lnTo>
                  <a:lnTo>
                    <a:pt x="196" y="83"/>
                  </a:lnTo>
                  <a:lnTo>
                    <a:pt x="196" y="91"/>
                  </a:lnTo>
                  <a:lnTo>
                    <a:pt x="198" y="93"/>
                  </a:lnTo>
                  <a:lnTo>
                    <a:pt x="202" y="93"/>
                  </a:lnTo>
                  <a:close/>
                  <a:moveTo>
                    <a:pt x="55" y="93"/>
                  </a:moveTo>
                  <a:lnTo>
                    <a:pt x="59" y="93"/>
                  </a:lnTo>
                  <a:lnTo>
                    <a:pt x="61" y="91"/>
                  </a:lnTo>
                  <a:lnTo>
                    <a:pt x="61" y="83"/>
                  </a:lnTo>
                  <a:lnTo>
                    <a:pt x="65" y="81"/>
                  </a:lnTo>
                  <a:lnTo>
                    <a:pt x="67" y="81"/>
                  </a:lnTo>
                  <a:lnTo>
                    <a:pt x="67" y="79"/>
                  </a:lnTo>
                  <a:lnTo>
                    <a:pt x="67" y="67"/>
                  </a:lnTo>
                  <a:lnTo>
                    <a:pt x="69" y="67"/>
                  </a:lnTo>
                  <a:lnTo>
                    <a:pt x="69" y="79"/>
                  </a:lnTo>
                  <a:lnTo>
                    <a:pt x="67" y="81"/>
                  </a:lnTo>
                  <a:lnTo>
                    <a:pt x="65" y="83"/>
                  </a:lnTo>
                  <a:lnTo>
                    <a:pt x="63" y="83"/>
                  </a:lnTo>
                  <a:lnTo>
                    <a:pt x="63" y="91"/>
                  </a:lnTo>
                  <a:lnTo>
                    <a:pt x="63" y="93"/>
                  </a:lnTo>
                  <a:lnTo>
                    <a:pt x="61" y="93"/>
                  </a:lnTo>
                  <a:lnTo>
                    <a:pt x="55" y="93"/>
                  </a:lnTo>
                  <a:close/>
                  <a:moveTo>
                    <a:pt x="49" y="126"/>
                  </a:moveTo>
                  <a:lnTo>
                    <a:pt x="47" y="122"/>
                  </a:lnTo>
                  <a:lnTo>
                    <a:pt x="47" y="83"/>
                  </a:lnTo>
                  <a:lnTo>
                    <a:pt x="51" y="83"/>
                  </a:lnTo>
                  <a:lnTo>
                    <a:pt x="51" y="122"/>
                  </a:lnTo>
                  <a:lnTo>
                    <a:pt x="51" y="124"/>
                  </a:lnTo>
                  <a:lnTo>
                    <a:pt x="53" y="126"/>
                  </a:lnTo>
                  <a:lnTo>
                    <a:pt x="55" y="128"/>
                  </a:lnTo>
                  <a:lnTo>
                    <a:pt x="57" y="128"/>
                  </a:lnTo>
                  <a:lnTo>
                    <a:pt x="59" y="128"/>
                  </a:lnTo>
                  <a:lnTo>
                    <a:pt x="55" y="128"/>
                  </a:lnTo>
                  <a:lnTo>
                    <a:pt x="53" y="128"/>
                  </a:lnTo>
                  <a:lnTo>
                    <a:pt x="51" y="128"/>
                  </a:lnTo>
                  <a:lnTo>
                    <a:pt x="49" y="126"/>
                  </a:lnTo>
                  <a:close/>
                  <a:moveTo>
                    <a:pt x="198" y="102"/>
                  </a:moveTo>
                  <a:lnTo>
                    <a:pt x="192" y="98"/>
                  </a:lnTo>
                  <a:lnTo>
                    <a:pt x="192" y="112"/>
                  </a:lnTo>
                  <a:lnTo>
                    <a:pt x="194" y="114"/>
                  </a:lnTo>
                  <a:lnTo>
                    <a:pt x="196" y="114"/>
                  </a:lnTo>
                  <a:lnTo>
                    <a:pt x="198" y="114"/>
                  </a:lnTo>
                  <a:lnTo>
                    <a:pt x="198" y="112"/>
                  </a:lnTo>
                  <a:lnTo>
                    <a:pt x="198" y="102"/>
                  </a:lnTo>
                  <a:close/>
                  <a:moveTo>
                    <a:pt x="61" y="102"/>
                  </a:moveTo>
                  <a:lnTo>
                    <a:pt x="61" y="112"/>
                  </a:lnTo>
                  <a:lnTo>
                    <a:pt x="61" y="114"/>
                  </a:lnTo>
                  <a:lnTo>
                    <a:pt x="63" y="114"/>
                  </a:lnTo>
                  <a:lnTo>
                    <a:pt x="65" y="114"/>
                  </a:lnTo>
                  <a:lnTo>
                    <a:pt x="67" y="112"/>
                  </a:lnTo>
                  <a:lnTo>
                    <a:pt x="67" y="98"/>
                  </a:lnTo>
                  <a:lnTo>
                    <a:pt x="63" y="100"/>
                  </a:lnTo>
                  <a:lnTo>
                    <a:pt x="61" y="102"/>
                  </a:lnTo>
                  <a:close/>
                  <a:moveTo>
                    <a:pt x="190" y="126"/>
                  </a:moveTo>
                  <a:lnTo>
                    <a:pt x="190" y="118"/>
                  </a:lnTo>
                  <a:lnTo>
                    <a:pt x="188" y="114"/>
                  </a:lnTo>
                  <a:lnTo>
                    <a:pt x="186" y="100"/>
                  </a:lnTo>
                  <a:lnTo>
                    <a:pt x="183" y="83"/>
                  </a:lnTo>
                  <a:lnTo>
                    <a:pt x="179" y="77"/>
                  </a:lnTo>
                  <a:lnTo>
                    <a:pt x="177" y="71"/>
                  </a:lnTo>
                  <a:lnTo>
                    <a:pt x="171" y="63"/>
                  </a:lnTo>
                  <a:lnTo>
                    <a:pt x="165" y="57"/>
                  </a:lnTo>
                  <a:lnTo>
                    <a:pt x="157" y="53"/>
                  </a:lnTo>
                  <a:lnTo>
                    <a:pt x="149" y="49"/>
                  </a:lnTo>
                  <a:lnTo>
                    <a:pt x="147" y="45"/>
                  </a:lnTo>
                  <a:lnTo>
                    <a:pt x="143" y="41"/>
                  </a:lnTo>
                  <a:lnTo>
                    <a:pt x="139" y="37"/>
                  </a:lnTo>
                  <a:lnTo>
                    <a:pt x="139" y="35"/>
                  </a:lnTo>
                  <a:lnTo>
                    <a:pt x="137" y="30"/>
                  </a:lnTo>
                  <a:lnTo>
                    <a:pt x="135" y="28"/>
                  </a:lnTo>
                  <a:lnTo>
                    <a:pt x="135" y="26"/>
                  </a:lnTo>
                  <a:lnTo>
                    <a:pt x="137" y="26"/>
                  </a:lnTo>
                  <a:lnTo>
                    <a:pt x="137" y="24"/>
                  </a:lnTo>
                  <a:lnTo>
                    <a:pt x="137" y="22"/>
                  </a:lnTo>
                  <a:lnTo>
                    <a:pt x="135" y="20"/>
                  </a:lnTo>
                  <a:lnTo>
                    <a:pt x="132" y="18"/>
                  </a:lnTo>
                  <a:lnTo>
                    <a:pt x="128" y="18"/>
                  </a:lnTo>
                  <a:lnTo>
                    <a:pt x="126" y="18"/>
                  </a:lnTo>
                  <a:lnTo>
                    <a:pt x="124" y="20"/>
                  </a:lnTo>
                  <a:lnTo>
                    <a:pt x="122" y="22"/>
                  </a:lnTo>
                  <a:lnTo>
                    <a:pt x="124" y="24"/>
                  </a:lnTo>
                  <a:lnTo>
                    <a:pt x="124" y="26"/>
                  </a:lnTo>
                  <a:lnTo>
                    <a:pt x="124" y="28"/>
                  </a:lnTo>
                  <a:lnTo>
                    <a:pt x="122" y="30"/>
                  </a:lnTo>
                  <a:lnTo>
                    <a:pt x="120" y="35"/>
                  </a:lnTo>
                  <a:lnTo>
                    <a:pt x="120" y="37"/>
                  </a:lnTo>
                  <a:lnTo>
                    <a:pt x="116" y="41"/>
                  </a:lnTo>
                  <a:lnTo>
                    <a:pt x="112" y="45"/>
                  </a:lnTo>
                  <a:lnTo>
                    <a:pt x="106" y="49"/>
                  </a:lnTo>
                  <a:lnTo>
                    <a:pt x="104" y="51"/>
                  </a:lnTo>
                  <a:lnTo>
                    <a:pt x="100" y="53"/>
                  </a:lnTo>
                  <a:lnTo>
                    <a:pt x="92" y="59"/>
                  </a:lnTo>
                  <a:lnTo>
                    <a:pt x="86" y="67"/>
                  </a:lnTo>
                  <a:lnTo>
                    <a:pt x="83" y="71"/>
                  </a:lnTo>
                  <a:lnTo>
                    <a:pt x="79" y="77"/>
                  </a:lnTo>
                  <a:lnTo>
                    <a:pt x="75" y="87"/>
                  </a:lnTo>
                  <a:lnTo>
                    <a:pt x="73" y="108"/>
                  </a:lnTo>
                  <a:lnTo>
                    <a:pt x="71" y="118"/>
                  </a:lnTo>
                  <a:lnTo>
                    <a:pt x="73" y="126"/>
                  </a:lnTo>
                  <a:lnTo>
                    <a:pt x="73" y="138"/>
                  </a:lnTo>
                  <a:lnTo>
                    <a:pt x="73" y="142"/>
                  </a:lnTo>
                  <a:lnTo>
                    <a:pt x="75" y="146"/>
                  </a:lnTo>
                  <a:lnTo>
                    <a:pt x="75" y="152"/>
                  </a:lnTo>
                  <a:lnTo>
                    <a:pt x="77" y="156"/>
                  </a:lnTo>
                  <a:lnTo>
                    <a:pt x="79" y="160"/>
                  </a:lnTo>
                  <a:lnTo>
                    <a:pt x="81" y="169"/>
                  </a:lnTo>
                  <a:lnTo>
                    <a:pt x="86" y="175"/>
                  </a:lnTo>
                  <a:lnTo>
                    <a:pt x="90" y="179"/>
                  </a:lnTo>
                  <a:lnTo>
                    <a:pt x="96" y="185"/>
                  </a:lnTo>
                  <a:lnTo>
                    <a:pt x="106" y="191"/>
                  </a:lnTo>
                  <a:lnTo>
                    <a:pt x="112" y="195"/>
                  </a:lnTo>
                  <a:lnTo>
                    <a:pt x="120" y="197"/>
                  </a:lnTo>
                  <a:lnTo>
                    <a:pt x="122" y="199"/>
                  </a:lnTo>
                  <a:lnTo>
                    <a:pt x="122" y="201"/>
                  </a:lnTo>
                  <a:lnTo>
                    <a:pt x="122" y="205"/>
                  </a:lnTo>
                  <a:lnTo>
                    <a:pt x="124" y="209"/>
                  </a:lnTo>
                  <a:lnTo>
                    <a:pt x="126" y="211"/>
                  </a:lnTo>
                  <a:lnTo>
                    <a:pt x="124" y="213"/>
                  </a:lnTo>
                  <a:lnTo>
                    <a:pt x="122" y="215"/>
                  </a:lnTo>
                  <a:lnTo>
                    <a:pt x="120" y="215"/>
                  </a:lnTo>
                  <a:lnTo>
                    <a:pt x="116" y="209"/>
                  </a:lnTo>
                  <a:lnTo>
                    <a:pt x="116" y="201"/>
                  </a:lnTo>
                  <a:lnTo>
                    <a:pt x="106" y="201"/>
                  </a:lnTo>
                  <a:lnTo>
                    <a:pt x="104" y="213"/>
                  </a:lnTo>
                  <a:lnTo>
                    <a:pt x="100" y="217"/>
                  </a:lnTo>
                  <a:lnTo>
                    <a:pt x="96" y="221"/>
                  </a:lnTo>
                  <a:lnTo>
                    <a:pt x="92" y="221"/>
                  </a:lnTo>
                  <a:lnTo>
                    <a:pt x="90" y="219"/>
                  </a:lnTo>
                  <a:lnTo>
                    <a:pt x="86" y="217"/>
                  </a:lnTo>
                  <a:lnTo>
                    <a:pt x="83" y="215"/>
                  </a:lnTo>
                  <a:lnTo>
                    <a:pt x="90" y="213"/>
                  </a:lnTo>
                  <a:lnTo>
                    <a:pt x="92" y="211"/>
                  </a:lnTo>
                  <a:lnTo>
                    <a:pt x="94" y="207"/>
                  </a:lnTo>
                  <a:lnTo>
                    <a:pt x="96" y="205"/>
                  </a:lnTo>
                  <a:lnTo>
                    <a:pt x="96" y="201"/>
                  </a:lnTo>
                  <a:lnTo>
                    <a:pt x="96" y="191"/>
                  </a:lnTo>
                  <a:lnTo>
                    <a:pt x="94" y="191"/>
                  </a:lnTo>
                  <a:lnTo>
                    <a:pt x="90" y="199"/>
                  </a:lnTo>
                  <a:lnTo>
                    <a:pt x="88" y="199"/>
                  </a:lnTo>
                  <a:lnTo>
                    <a:pt x="86" y="197"/>
                  </a:lnTo>
                  <a:lnTo>
                    <a:pt x="83" y="197"/>
                  </a:lnTo>
                  <a:lnTo>
                    <a:pt x="83" y="195"/>
                  </a:lnTo>
                  <a:lnTo>
                    <a:pt x="88" y="191"/>
                  </a:lnTo>
                  <a:lnTo>
                    <a:pt x="90" y="189"/>
                  </a:lnTo>
                  <a:lnTo>
                    <a:pt x="90" y="185"/>
                  </a:lnTo>
                  <a:lnTo>
                    <a:pt x="86" y="181"/>
                  </a:lnTo>
                  <a:lnTo>
                    <a:pt x="81" y="171"/>
                  </a:lnTo>
                  <a:lnTo>
                    <a:pt x="75" y="160"/>
                  </a:lnTo>
                  <a:lnTo>
                    <a:pt x="69" y="152"/>
                  </a:lnTo>
                  <a:lnTo>
                    <a:pt x="65" y="152"/>
                  </a:lnTo>
                  <a:lnTo>
                    <a:pt x="65" y="150"/>
                  </a:lnTo>
                  <a:lnTo>
                    <a:pt x="71" y="138"/>
                  </a:lnTo>
                  <a:lnTo>
                    <a:pt x="71" y="136"/>
                  </a:lnTo>
                  <a:lnTo>
                    <a:pt x="69" y="134"/>
                  </a:lnTo>
                  <a:lnTo>
                    <a:pt x="67" y="134"/>
                  </a:lnTo>
                  <a:lnTo>
                    <a:pt x="67" y="126"/>
                  </a:lnTo>
                  <a:lnTo>
                    <a:pt x="67" y="124"/>
                  </a:lnTo>
                  <a:lnTo>
                    <a:pt x="65" y="120"/>
                  </a:lnTo>
                  <a:lnTo>
                    <a:pt x="63" y="120"/>
                  </a:lnTo>
                  <a:lnTo>
                    <a:pt x="61" y="120"/>
                  </a:lnTo>
                  <a:lnTo>
                    <a:pt x="59" y="120"/>
                  </a:lnTo>
                  <a:lnTo>
                    <a:pt x="59" y="122"/>
                  </a:lnTo>
                  <a:lnTo>
                    <a:pt x="57" y="122"/>
                  </a:lnTo>
                  <a:lnTo>
                    <a:pt x="57" y="118"/>
                  </a:lnTo>
                  <a:lnTo>
                    <a:pt x="57" y="98"/>
                  </a:lnTo>
                  <a:lnTo>
                    <a:pt x="61" y="98"/>
                  </a:lnTo>
                  <a:lnTo>
                    <a:pt x="63" y="95"/>
                  </a:lnTo>
                  <a:lnTo>
                    <a:pt x="65" y="95"/>
                  </a:lnTo>
                  <a:lnTo>
                    <a:pt x="65" y="93"/>
                  </a:lnTo>
                  <a:lnTo>
                    <a:pt x="65" y="85"/>
                  </a:lnTo>
                  <a:lnTo>
                    <a:pt x="69" y="83"/>
                  </a:lnTo>
                  <a:lnTo>
                    <a:pt x="71" y="81"/>
                  </a:lnTo>
                  <a:lnTo>
                    <a:pt x="71" y="69"/>
                  </a:lnTo>
                  <a:lnTo>
                    <a:pt x="71" y="65"/>
                  </a:lnTo>
                  <a:lnTo>
                    <a:pt x="73" y="61"/>
                  </a:lnTo>
                  <a:lnTo>
                    <a:pt x="75" y="57"/>
                  </a:lnTo>
                  <a:lnTo>
                    <a:pt x="77" y="55"/>
                  </a:lnTo>
                  <a:lnTo>
                    <a:pt x="79" y="53"/>
                  </a:lnTo>
                  <a:lnTo>
                    <a:pt x="79" y="51"/>
                  </a:lnTo>
                  <a:lnTo>
                    <a:pt x="81" y="49"/>
                  </a:lnTo>
                  <a:lnTo>
                    <a:pt x="79" y="47"/>
                  </a:lnTo>
                  <a:lnTo>
                    <a:pt x="86" y="47"/>
                  </a:lnTo>
                  <a:lnTo>
                    <a:pt x="90" y="49"/>
                  </a:lnTo>
                  <a:lnTo>
                    <a:pt x="96" y="49"/>
                  </a:lnTo>
                  <a:lnTo>
                    <a:pt x="100" y="49"/>
                  </a:lnTo>
                  <a:lnTo>
                    <a:pt x="104" y="47"/>
                  </a:lnTo>
                  <a:lnTo>
                    <a:pt x="108" y="45"/>
                  </a:lnTo>
                  <a:lnTo>
                    <a:pt x="112" y="41"/>
                  </a:lnTo>
                  <a:lnTo>
                    <a:pt x="114" y="37"/>
                  </a:lnTo>
                  <a:lnTo>
                    <a:pt x="116" y="35"/>
                  </a:lnTo>
                  <a:lnTo>
                    <a:pt x="118" y="35"/>
                  </a:lnTo>
                  <a:lnTo>
                    <a:pt x="120" y="30"/>
                  </a:lnTo>
                  <a:lnTo>
                    <a:pt x="120" y="28"/>
                  </a:lnTo>
                  <a:lnTo>
                    <a:pt x="118" y="26"/>
                  </a:lnTo>
                  <a:lnTo>
                    <a:pt x="118" y="24"/>
                  </a:lnTo>
                  <a:lnTo>
                    <a:pt x="118" y="22"/>
                  </a:lnTo>
                  <a:lnTo>
                    <a:pt x="120" y="18"/>
                  </a:lnTo>
                  <a:lnTo>
                    <a:pt x="124" y="16"/>
                  </a:lnTo>
                  <a:lnTo>
                    <a:pt x="128" y="16"/>
                  </a:lnTo>
                  <a:lnTo>
                    <a:pt x="130" y="16"/>
                  </a:lnTo>
                  <a:lnTo>
                    <a:pt x="135" y="16"/>
                  </a:lnTo>
                  <a:lnTo>
                    <a:pt x="139" y="18"/>
                  </a:lnTo>
                  <a:lnTo>
                    <a:pt x="141" y="22"/>
                  </a:lnTo>
                  <a:lnTo>
                    <a:pt x="141" y="24"/>
                  </a:lnTo>
                  <a:lnTo>
                    <a:pt x="139" y="26"/>
                  </a:lnTo>
                  <a:lnTo>
                    <a:pt x="139" y="30"/>
                  </a:lnTo>
                  <a:lnTo>
                    <a:pt x="141" y="33"/>
                  </a:lnTo>
                  <a:lnTo>
                    <a:pt x="143" y="39"/>
                  </a:lnTo>
                  <a:lnTo>
                    <a:pt x="149" y="43"/>
                  </a:lnTo>
                  <a:lnTo>
                    <a:pt x="153" y="47"/>
                  </a:lnTo>
                  <a:lnTo>
                    <a:pt x="163" y="49"/>
                  </a:lnTo>
                  <a:lnTo>
                    <a:pt x="167" y="49"/>
                  </a:lnTo>
                  <a:lnTo>
                    <a:pt x="171" y="47"/>
                  </a:lnTo>
                  <a:lnTo>
                    <a:pt x="179" y="47"/>
                  </a:lnTo>
                  <a:lnTo>
                    <a:pt x="179" y="49"/>
                  </a:lnTo>
                  <a:lnTo>
                    <a:pt x="179" y="53"/>
                  </a:lnTo>
                  <a:lnTo>
                    <a:pt x="181" y="57"/>
                  </a:lnTo>
                  <a:lnTo>
                    <a:pt x="186" y="65"/>
                  </a:lnTo>
                  <a:lnTo>
                    <a:pt x="186" y="81"/>
                  </a:lnTo>
                  <a:lnTo>
                    <a:pt x="190" y="85"/>
                  </a:lnTo>
                  <a:lnTo>
                    <a:pt x="192" y="85"/>
                  </a:lnTo>
                  <a:lnTo>
                    <a:pt x="192" y="91"/>
                  </a:lnTo>
                  <a:lnTo>
                    <a:pt x="194" y="95"/>
                  </a:lnTo>
                  <a:lnTo>
                    <a:pt x="196" y="98"/>
                  </a:lnTo>
                  <a:lnTo>
                    <a:pt x="204" y="95"/>
                  </a:lnTo>
                  <a:lnTo>
                    <a:pt x="204" y="118"/>
                  </a:lnTo>
                  <a:lnTo>
                    <a:pt x="204" y="120"/>
                  </a:lnTo>
                  <a:lnTo>
                    <a:pt x="202" y="122"/>
                  </a:lnTo>
                  <a:lnTo>
                    <a:pt x="200" y="122"/>
                  </a:lnTo>
                  <a:lnTo>
                    <a:pt x="198" y="122"/>
                  </a:lnTo>
                  <a:lnTo>
                    <a:pt x="196" y="120"/>
                  </a:lnTo>
                  <a:lnTo>
                    <a:pt x="194" y="122"/>
                  </a:lnTo>
                  <a:lnTo>
                    <a:pt x="192" y="126"/>
                  </a:lnTo>
                  <a:lnTo>
                    <a:pt x="192" y="134"/>
                  </a:lnTo>
                  <a:lnTo>
                    <a:pt x="190" y="134"/>
                  </a:lnTo>
                  <a:lnTo>
                    <a:pt x="190" y="126"/>
                  </a:lnTo>
                  <a:close/>
                  <a:moveTo>
                    <a:pt x="194" y="112"/>
                  </a:moveTo>
                  <a:lnTo>
                    <a:pt x="194" y="104"/>
                  </a:lnTo>
                  <a:lnTo>
                    <a:pt x="196" y="104"/>
                  </a:lnTo>
                  <a:lnTo>
                    <a:pt x="196" y="112"/>
                  </a:lnTo>
                  <a:lnTo>
                    <a:pt x="194" y="112"/>
                  </a:lnTo>
                  <a:close/>
                  <a:moveTo>
                    <a:pt x="65" y="112"/>
                  </a:moveTo>
                  <a:lnTo>
                    <a:pt x="63" y="112"/>
                  </a:lnTo>
                  <a:lnTo>
                    <a:pt x="63" y="104"/>
                  </a:lnTo>
                  <a:lnTo>
                    <a:pt x="65" y="104"/>
                  </a:lnTo>
                  <a:lnTo>
                    <a:pt x="65" y="112"/>
                  </a:lnTo>
                  <a:close/>
                  <a:moveTo>
                    <a:pt x="65" y="126"/>
                  </a:moveTo>
                  <a:lnTo>
                    <a:pt x="67" y="126"/>
                  </a:lnTo>
                  <a:lnTo>
                    <a:pt x="65" y="126"/>
                  </a:lnTo>
                  <a:lnTo>
                    <a:pt x="65" y="128"/>
                  </a:lnTo>
                  <a:lnTo>
                    <a:pt x="65" y="130"/>
                  </a:lnTo>
                  <a:lnTo>
                    <a:pt x="65" y="136"/>
                  </a:lnTo>
                  <a:lnTo>
                    <a:pt x="67" y="136"/>
                  </a:lnTo>
                  <a:lnTo>
                    <a:pt x="65" y="140"/>
                  </a:lnTo>
                  <a:lnTo>
                    <a:pt x="63" y="142"/>
                  </a:lnTo>
                  <a:lnTo>
                    <a:pt x="61" y="146"/>
                  </a:lnTo>
                  <a:lnTo>
                    <a:pt x="61" y="150"/>
                  </a:lnTo>
                  <a:lnTo>
                    <a:pt x="59" y="152"/>
                  </a:lnTo>
                  <a:lnTo>
                    <a:pt x="57" y="156"/>
                  </a:lnTo>
                  <a:lnTo>
                    <a:pt x="57" y="158"/>
                  </a:lnTo>
                  <a:lnTo>
                    <a:pt x="59" y="163"/>
                  </a:lnTo>
                  <a:lnTo>
                    <a:pt x="61" y="163"/>
                  </a:lnTo>
                  <a:lnTo>
                    <a:pt x="63" y="163"/>
                  </a:lnTo>
                  <a:lnTo>
                    <a:pt x="65" y="160"/>
                  </a:lnTo>
                  <a:lnTo>
                    <a:pt x="63" y="158"/>
                  </a:lnTo>
                  <a:lnTo>
                    <a:pt x="63" y="156"/>
                  </a:lnTo>
                  <a:lnTo>
                    <a:pt x="65" y="154"/>
                  </a:lnTo>
                  <a:lnTo>
                    <a:pt x="67" y="154"/>
                  </a:lnTo>
                  <a:lnTo>
                    <a:pt x="69" y="158"/>
                  </a:lnTo>
                  <a:lnTo>
                    <a:pt x="69" y="160"/>
                  </a:lnTo>
                  <a:lnTo>
                    <a:pt x="69" y="163"/>
                  </a:lnTo>
                  <a:lnTo>
                    <a:pt x="67" y="165"/>
                  </a:lnTo>
                  <a:lnTo>
                    <a:pt x="63" y="165"/>
                  </a:lnTo>
                  <a:lnTo>
                    <a:pt x="61" y="165"/>
                  </a:lnTo>
                  <a:lnTo>
                    <a:pt x="57" y="163"/>
                  </a:lnTo>
                  <a:lnTo>
                    <a:pt x="55" y="160"/>
                  </a:lnTo>
                  <a:lnTo>
                    <a:pt x="53" y="154"/>
                  </a:lnTo>
                  <a:lnTo>
                    <a:pt x="55" y="150"/>
                  </a:lnTo>
                  <a:lnTo>
                    <a:pt x="55" y="146"/>
                  </a:lnTo>
                  <a:lnTo>
                    <a:pt x="57" y="142"/>
                  </a:lnTo>
                  <a:lnTo>
                    <a:pt x="61" y="134"/>
                  </a:lnTo>
                  <a:lnTo>
                    <a:pt x="63" y="130"/>
                  </a:lnTo>
                  <a:lnTo>
                    <a:pt x="65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400520" y="6019920"/>
              <a:ext cx="404640" cy="406440"/>
            </a:xfrm>
            <a:custGeom>
              <a:avLst/>
              <a:gdLst/>
              <a:ahLst/>
              <a:rect l="l" t="t" r="r" b="b"/>
              <a:pathLst>
                <a:path w="276" h="256">
                  <a:moveTo>
                    <a:pt x="78" y="0"/>
                  </a:moveTo>
                  <a:lnTo>
                    <a:pt x="202" y="142"/>
                  </a:lnTo>
                  <a:lnTo>
                    <a:pt x="202" y="49"/>
                  </a:lnTo>
                  <a:lnTo>
                    <a:pt x="200" y="35"/>
                  </a:lnTo>
                  <a:lnTo>
                    <a:pt x="198" y="20"/>
                  </a:lnTo>
                  <a:lnTo>
                    <a:pt x="196" y="10"/>
                  </a:lnTo>
                  <a:lnTo>
                    <a:pt x="190" y="0"/>
                  </a:lnTo>
                  <a:lnTo>
                    <a:pt x="276" y="0"/>
                  </a:lnTo>
                  <a:lnTo>
                    <a:pt x="270" y="10"/>
                  </a:lnTo>
                  <a:lnTo>
                    <a:pt x="265" y="22"/>
                  </a:lnTo>
                  <a:lnTo>
                    <a:pt x="265" y="35"/>
                  </a:lnTo>
                  <a:lnTo>
                    <a:pt x="263" y="49"/>
                  </a:lnTo>
                  <a:lnTo>
                    <a:pt x="263" y="219"/>
                  </a:lnTo>
                  <a:lnTo>
                    <a:pt x="265" y="238"/>
                  </a:lnTo>
                  <a:lnTo>
                    <a:pt x="267" y="256"/>
                  </a:lnTo>
                  <a:lnTo>
                    <a:pt x="206" y="256"/>
                  </a:lnTo>
                  <a:lnTo>
                    <a:pt x="78" y="93"/>
                  </a:lnTo>
                  <a:lnTo>
                    <a:pt x="78" y="207"/>
                  </a:lnTo>
                  <a:lnTo>
                    <a:pt x="78" y="221"/>
                  </a:lnTo>
                  <a:lnTo>
                    <a:pt x="80" y="234"/>
                  </a:lnTo>
                  <a:lnTo>
                    <a:pt x="82" y="246"/>
                  </a:lnTo>
                  <a:lnTo>
                    <a:pt x="88" y="256"/>
                  </a:lnTo>
                  <a:lnTo>
                    <a:pt x="0" y="256"/>
                  </a:lnTo>
                  <a:lnTo>
                    <a:pt x="6" y="246"/>
                  </a:lnTo>
                  <a:lnTo>
                    <a:pt x="8" y="234"/>
                  </a:lnTo>
                  <a:lnTo>
                    <a:pt x="10" y="221"/>
                  </a:lnTo>
                  <a:lnTo>
                    <a:pt x="10" y="207"/>
                  </a:lnTo>
                  <a:lnTo>
                    <a:pt x="10" y="49"/>
                  </a:lnTo>
                  <a:lnTo>
                    <a:pt x="10" y="35"/>
                  </a:lnTo>
                  <a:lnTo>
                    <a:pt x="8" y="20"/>
                  </a:lnTo>
                  <a:lnTo>
                    <a:pt x="4" y="10"/>
                  </a:lnTo>
                  <a:lnTo>
                    <a:pt x="0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63480" y="6019920"/>
              <a:ext cx="290160" cy="406440"/>
            </a:xfrm>
            <a:custGeom>
              <a:avLst/>
              <a:gdLst/>
              <a:ahLst/>
              <a:rect l="l" t="t" r="r" b="b"/>
              <a:pathLst>
                <a:path w="198" h="256">
                  <a:moveTo>
                    <a:pt x="96" y="118"/>
                  </a:moveTo>
                  <a:lnTo>
                    <a:pt x="105" y="118"/>
                  </a:lnTo>
                  <a:lnTo>
                    <a:pt x="113" y="114"/>
                  </a:lnTo>
                  <a:lnTo>
                    <a:pt x="119" y="112"/>
                  </a:lnTo>
                  <a:lnTo>
                    <a:pt x="125" y="106"/>
                  </a:lnTo>
                  <a:lnTo>
                    <a:pt x="127" y="100"/>
                  </a:lnTo>
                  <a:lnTo>
                    <a:pt x="131" y="93"/>
                  </a:lnTo>
                  <a:lnTo>
                    <a:pt x="131" y="89"/>
                  </a:lnTo>
                  <a:lnTo>
                    <a:pt x="133" y="83"/>
                  </a:lnTo>
                  <a:lnTo>
                    <a:pt x="131" y="75"/>
                  </a:lnTo>
                  <a:lnTo>
                    <a:pt x="131" y="69"/>
                  </a:lnTo>
                  <a:lnTo>
                    <a:pt x="129" y="63"/>
                  </a:lnTo>
                  <a:lnTo>
                    <a:pt x="125" y="59"/>
                  </a:lnTo>
                  <a:lnTo>
                    <a:pt x="119" y="55"/>
                  </a:lnTo>
                  <a:lnTo>
                    <a:pt x="115" y="53"/>
                  </a:lnTo>
                  <a:lnTo>
                    <a:pt x="107" y="51"/>
                  </a:lnTo>
                  <a:lnTo>
                    <a:pt x="98" y="49"/>
                  </a:lnTo>
                  <a:lnTo>
                    <a:pt x="82" y="51"/>
                  </a:lnTo>
                  <a:lnTo>
                    <a:pt x="82" y="116"/>
                  </a:lnTo>
                  <a:lnTo>
                    <a:pt x="88" y="118"/>
                  </a:lnTo>
                  <a:lnTo>
                    <a:pt x="96" y="118"/>
                  </a:lnTo>
                  <a:close/>
                  <a:moveTo>
                    <a:pt x="94" y="0"/>
                  </a:moveTo>
                  <a:lnTo>
                    <a:pt x="117" y="0"/>
                  </a:lnTo>
                  <a:lnTo>
                    <a:pt x="133" y="2"/>
                  </a:lnTo>
                  <a:lnTo>
                    <a:pt x="151" y="6"/>
                  </a:lnTo>
                  <a:lnTo>
                    <a:pt x="162" y="10"/>
                  </a:lnTo>
                  <a:lnTo>
                    <a:pt x="170" y="14"/>
                  </a:lnTo>
                  <a:lnTo>
                    <a:pt x="178" y="22"/>
                  </a:lnTo>
                  <a:lnTo>
                    <a:pt x="184" y="28"/>
                  </a:lnTo>
                  <a:lnTo>
                    <a:pt x="190" y="39"/>
                  </a:lnTo>
                  <a:lnTo>
                    <a:pt x="196" y="49"/>
                  </a:lnTo>
                  <a:lnTo>
                    <a:pt x="198" y="63"/>
                  </a:lnTo>
                  <a:lnTo>
                    <a:pt x="198" y="77"/>
                  </a:lnTo>
                  <a:lnTo>
                    <a:pt x="198" y="87"/>
                  </a:lnTo>
                  <a:lnTo>
                    <a:pt x="198" y="98"/>
                  </a:lnTo>
                  <a:lnTo>
                    <a:pt x="196" y="108"/>
                  </a:lnTo>
                  <a:lnTo>
                    <a:pt x="192" y="116"/>
                  </a:lnTo>
                  <a:lnTo>
                    <a:pt x="188" y="124"/>
                  </a:lnTo>
                  <a:lnTo>
                    <a:pt x="184" y="130"/>
                  </a:lnTo>
                  <a:lnTo>
                    <a:pt x="178" y="138"/>
                  </a:lnTo>
                  <a:lnTo>
                    <a:pt x="174" y="144"/>
                  </a:lnTo>
                  <a:lnTo>
                    <a:pt x="166" y="150"/>
                  </a:lnTo>
                  <a:lnTo>
                    <a:pt x="160" y="154"/>
                  </a:lnTo>
                  <a:lnTo>
                    <a:pt x="151" y="158"/>
                  </a:lnTo>
                  <a:lnTo>
                    <a:pt x="141" y="163"/>
                  </a:lnTo>
                  <a:lnTo>
                    <a:pt x="133" y="165"/>
                  </a:lnTo>
                  <a:lnTo>
                    <a:pt x="123" y="167"/>
                  </a:lnTo>
                  <a:lnTo>
                    <a:pt x="100" y="169"/>
                  </a:lnTo>
                  <a:lnTo>
                    <a:pt x="82" y="167"/>
                  </a:lnTo>
                  <a:lnTo>
                    <a:pt x="82" y="207"/>
                  </a:lnTo>
                  <a:lnTo>
                    <a:pt x="82" y="221"/>
                  </a:lnTo>
                  <a:lnTo>
                    <a:pt x="84" y="236"/>
                  </a:lnTo>
                  <a:lnTo>
                    <a:pt x="88" y="246"/>
                  </a:lnTo>
                  <a:lnTo>
                    <a:pt x="92" y="256"/>
                  </a:lnTo>
                  <a:lnTo>
                    <a:pt x="0" y="256"/>
                  </a:lnTo>
                  <a:lnTo>
                    <a:pt x="5" y="246"/>
                  </a:lnTo>
                  <a:lnTo>
                    <a:pt x="9" y="234"/>
                  </a:lnTo>
                  <a:lnTo>
                    <a:pt x="11" y="221"/>
                  </a:lnTo>
                  <a:lnTo>
                    <a:pt x="11" y="207"/>
                  </a:lnTo>
                  <a:lnTo>
                    <a:pt x="11" y="49"/>
                  </a:lnTo>
                  <a:lnTo>
                    <a:pt x="11" y="33"/>
                  </a:lnTo>
                  <a:lnTo>
                    <a:pt x="9" y="20"/>
                  </a:lnTo>
                  <a:lnTo>
                    <a:pt x="5" y="8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193600" y="6019920"/>
              <a:ext cx="278640" cy="406440"/>
            </a:xfrm>
            <a:custGeom>
              <a:avLst/>
              <a:gdLst/>
              <a:ahLst/>
              <a:rect l="l" t="t" r="r" b="b"/>
              <a:pathLst>
                <a:path w="190" h="256">
                  <a:moveTo>
                    <a:pt x="2" y="256"/>
                  </a:moveTo>
                  <a:lnTo>
                    <a:pt x="6" y="248"/>
                  </a:lnTo>
                  <a:lnTo>
                    <a:pt x="10" y="236"/>
                  </a:lnTo>
                  <a:lnTo>
                    <a:pt x="12" y="225"/>
                  </a:lnTo>
                  <a:lnTo>
                    <a:pt x="12" y="215"/>
                  </a:lnTo>
                  <a:lnTo>
                    <a:pt x="12" y="61"/>
                  </a:lnTo>
                  <a:lnTo>
                    <a:pt x="12" y="47"/>
                  </a:lnTo>
                  <a:lnTo>
                    <a:pt x="10" y="33"/>
                  </a:lnTo>
                  <a:lnTo>
                    <a:pt x="8" y="16"/>
                  </a:lnTo>
                  <a:lnTo>
                    <a:pt x="4" y="8"/>
                  </a:lnTo>
                  <a:lnTo>
                    <a:pt x="0" y="0"/>
                  </a:lnTo>
                  <a:lnTo>
                    <a:pt x="94" y="0"/>
                  </a:lnTo>
                  <a:lnTo>
                    <a:pt x="86" y="18"/>
                  </a:lnTo>
                  <a:lnTo>
                    <a:pt x="84" y="33"/>
                  </a:lnTo>
                  <a:lnTo>
                    <a:pt x="82" y="49"/>
                  </a:lnTo>
                  <a:lnTo>
                    <a:pt x="82" y="61"/>
                  </a:lnTo>
                  <a:lnTo>
                    <a:pt x="82" y="197"/>
                  </a:lnTo>
                  <a:lnTo>
                    <a:pt x="155" y="197"/>
                  </a:lnTo>
                  <a:lnTo>
                    <a:pt x="169" y="197"/>
                  </a:lnTo>
                  <a:lnTo>
                    <a:pt x="180" y="195"/>
                  </a:lnTo>
                  <a:lnTo>
                    <a:pt x="190" y="193"/>
                  </a:lnTo>
                  <a:lnTo>
                    <a:pt x="184" y="242"/>
                  </a:lnTo>
                  <a:lnTo>
                    <a:pt x="182" y="250"/>
                  </a:lnTo>
                  <a:lnTo>
                    <a:pt x="180" y="252"/>
                  </a:lnTo>
                  <a:lnTo>
                    <a:pt x="177" y="254"/>
                  </a:lnTo>
                  <a:lnTo>
                    <a:pt x="171" y="256"/>
                  </a:lnTo>
                  <a:lnTo>
                    <a:pt x="163" y="256"/>
                  </a:lnTo>
                  <a:lnTo>
                    <a:pt x="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397640" y="6519960"/>
              <a:ext cx="802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14" y="0"/>
                  </a:moveTo>
                  <a:lnTo>
                    <a:pt x="41" y="36"/>
                  </a:lnTo>
                  <a:lnTo>
                    <a:pt x="41" y="10"/>
                  </a:lnTo>
                  <a:lnTo>
                    <a:pt x="41" y="4"/>
                  </a:lnTo>
                  <a:lnTo>
                    <a:pt x="39" y="0"/>
                  </a:lnTo>
                  <a:lnTo>
                    <a:pt x="55" y="0"/>
                  </a:lnTo>
                  <a:lnTo>
                    <a:pt x="53" y="6"/>
                  </a:lnTo>
                  <a:lnTo>
                    <a:pt x="53" y="10"/>
                  </a:lnTo>
                  <a:lnTo>
                    <a:pt x="53" y="47"/>
                  </a:lnTo>
                  <a:lnTo>
                    <a:pt x="53" y="55"/>
                  </a:lnTo>
                  <a:lnTo>
                    <a:pt x="41" y="55"/>
                  </a:lnTo>
                  <a:lnTo>
                    <a:pt x="14" y="16"/>
                  </a:lnTo>
                  <a:lnTo>
                    <a:pt x="14" y="45"/>
                  </a:lnTo>
                  <a:lnTo>
                    <a:pt x="14" y="49"/>
                  </a:lnTo>
                  <a:lnTo>
                    <a:pt x="16" y="55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546680" y="6526080"/>
              <a:ext cx="39600" cy="8100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16" y="12"/>
                  </a:moveTo>
                  <a:lnTo>
                    <a:pt x="23" y="12"/>
                  </a:lnTo>
                  <a:lnTo>
                    <a:pt x="25" y="12"/>
                  </a:lnTo>
                  <a:lnTo>
                    <a:pt x="25" y="16"/>
                  </a:lnTo>
                  <a:lnTo>
                    <a:pt x="25" y="20"/>
                  </a:lnTo>
                  <a:lnTo>
                    <a:pt x="21" y="20"/>
                  </a:lnTo>
                  <a:lnTo>
                    <a:pt x="16" y="20"/>
                  </a:lnTo>
                  <a:lnTo>
                    <a:pt x="16" y="39"/>
                  </a:lnTo>
                  <a:lnTo>
                    <a:pt x="16" y="41"/>
                  </a:lnTo>
                  <a:lnTo>
                    <a:pt x="18" y="43"/>
                  </a:lnTo>
                  <a:lnTo>
                    <a:pt x="23" y="41"/>
                  </a:lnTo>
                  <a:lnTo>
                    <a:pt x="27" y="36"/>
                  </a:lnTo>
                  <a:lnTo>
                    <a:pt x="27" y="41"/>
                  </a:lnTo>
                  <a:lnTo>
                    <a:pt x="25" y="45"/>
                  </a:lnTo>
                  <a:lnTo>
                    <a:pt x="25" y="49"/>
                  </a:lnTo>
                  <a:lnTo>
                    <a:pt x="21" y="51"/>
                  </a:lnTo>
                  <a:lnTo>
                    <a:pt x="14" y="51"/>
                  </a:lnTo>
                  <a:lnTo>
                    <a:pt x="10" y="51"/>
                  </a:lnTo>
                  <a:lnTo>
                    <a:pt x="6" y="49"/>
                  </a:lnTo>
                  <a:lnTo>
                    <a:pt x="4" y="47"/>
                  </a:lnTo>
                  <a:lnTo>
                    <a:pt x="4" y="43"/>
                  </a:lnTo>
                  <a:lnTo>
                    <a:pt x="4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2"/>
                  </a:lnTo>
                  <a:lnTo>
                    <a:pt x="16" y="0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598160" y="6519960"/>
              <a:ext cx="172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6"/>
                  </a:moveTo>
                  <a:lnTo>
                    <a:pt x="12" y="8"/>
                  </a:lnTo>
                  <a:lnTo>
                    <a:pt x="10" y="10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598160" y="6545160"/>
              <a:ext cx="20520" cy="61920"/>
            </a:xfrm>
            <a:custGeom>
              <a:avLst/>
              <a:gdLst/>
              <a:ahLst/>
              <a:rect l="l" t="t" r="r" b="b"/>
              <a:pathLst>
                <a:path w="14" h="39">
                  <a:moveTo>
                    <a:pt x="12" y="27"/>
                  </a:moveTo>
                  <a:lnTo>
                    <a:pt x="14" y="33"/>
                  </a:lnTo>
                  <a:lnTo>
                    <a:pt x="14" y="35"/>
                  </a:lnTo>
                  <a:lnTo>
                    <a:pt x="14" y="39"/>
                  </a:lnTo>
                  <a:lnTo>
                    <a:pt x="0" y="39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699320" y="6545160"/>
              <a:ext cx="5400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2" y="4"/>
                  </a:moveTo>
                  <a:lnTo>
                    <a:pt x="14" y="2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5" y="6"/>
                  </a:lnTo>
                  <a:lnTo>
                    <a:pt x="37" y="10"/>
                  </a:lnTo>
                  <a:lnTo>
                    <a:pt x="37" y="27"/>
                  </a:lnTo>
                  <a:lnTo>
                    <a:pt x="37" y="33"/>
                  </a:lnTo>
                  <a:lnTo>
                    <a:pt x="37" y="35"/>
                  </a:lnTo>
                  <a:lnTo>
                    <a:pt x="37" y="39"/>
                  </a:lnTo>
                  <a:lnTo>
                    <a:pt x="23" y="39"/>
                  </a:lnTo>
                  <a:lnTo>
                    <a:pt x="25" y="33"/>
                  </a:lnTo>
                  <a:lnTo>
                    <a:pt x="25" y="27"/>
                  </a:lnTo>
                  <a:lnTo>
                    <a:pt x="25" y="14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17" y="10"/>
                  </a:lnTo>
                  <a:lnTo>
                    <a:pt x="12" y="12"/>
                  </a:lnTo>
                  <a:lnTo>
                    <a:pt x="12" y="27"/>
                  </a:lnTo>
                  <a:lnTo>
                    <a:pt x="12" y="33"/>
                  </a:lnTo>
                  <a:lnTo>
                    <a:pt x="14" y="39"/>
                  </a:lnTo>
                  <a:lnTo>
                    <a:pt x="0" y="39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825320" y="6516720"/>
              <a:ext cx="20520" cy="90360"/>
            </a:xfrm>
            <a:custGeom>
              <a:avLst/>
              <a:gdLst/>
              <a:ahLst/>
              <a:rect l="l" t="t" r="r" b="b"/>
              <a:pathLst>
                <a:path w="14" h="57">
                  <a:moveTo>
                    <a:pt x="14" y="45"/>
                  </a:moveTo>
                  <a:lnTo>
                    <a:pt x="14" y="51"/>
                  </a:lnTo>
                  <a:lnTo>
                    <a:pt x="14" y="53"/>
                  </a:lnTo>
                  <a:lnTo>
                    <a:pt x="14" y="57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2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14" y="0"/>
                  </a:lnTo>
                  <a:lnTo>
                    <a:pt x="14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489800" y="6545160"/>
              <a:ext cx="51120" cy="6192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11" y="27"/>
                  </a:moveTo>
                  <a:lnTo>
                    <a:pt x="13" y="31"/>
                  </a:lnTo>
                  <a:lnTo>
                    <a:pt x="17" y="31"/>
                  </a:lnTo>
                  <a:lnTo>
                    <a:pt x="19" y="31"/>
                  </a:lnTo>
                  <a:lnTo>
                    <a:pt x="21" y="29"/>
                  </a:lnTo>
                  <a:lnTo>
                    <a:pt x="21" y="22"/>
                  </a:lnTo>
                  <a:lnTo>
                    <a:pt x="17" y="22"/>
                  </a:lnTo>
                  <a:lnTo>
                    <a:pt x="15" y="22"/>
                  </a:lnTo>
                  <a:lnTo>
                    <a:pt x="13" y="24"/>
                  </a:lnTo>
                  <a:lnTo>
                    <a:pt x="11" y="27"/>
                  </a:lnTo>
                  <a:close/>
                  <a:moveTo>
                    <a:pt x="21" y="12"/>
                  </a:moveTo>
                  <a:lnTo>
                    <a:pt x="19" y="8"/>
                  </a:lnTo>
                  <a:lnTo>
                    <a:pt x="17" y="8"/>
                  </a:lnTo>
                  <a:lnTo>
                    <a:pt x="11" y="8"/>
                  </a:lnTo>
                  <a:lnTo>
                    <a:pt x="4" y="12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1" y="6"/>
                  </a:lnTo>
                  <a:lnTo>
                    <a:pt x="31" y="10"/>
                  </a:lnTo>
                  <a:lnTo>
                    <a:pt x="31" y="27"/>
                  </a:lnTo>
                  <a:lnTo>
                    <a:pt x="31" y="31"/>
                  </a:lnTo>
                  <a:lnTo>
                    <a:pt x="33" y="33"/>
                  </a:lnTo>
                  <a:lnTo>
                    <a:pt x="35" y="35"/>
                  </a:lnTo>
                  <a:lnTo>
                    <a:pt x="27" y="39"/>
                  </a:lnTo>
                  <a:lnTo>
                    <a:pt x="25" y="39"/>
                  </a:lnTo>
                  <a:lnTo>
                    <a:pt x="23" y="39"/>
                  </a:lnTo>
                  <a:lnTo>
                    <a:pt x="23" y="35"/>
                  </a:lnTo>
                  <a:lnTo>
                    <a:pt x="17" y="39"/>
                  </a:lnTo>
                  <a:lnTo>
                    <a:pt x="13" y="39"/>
                  </a:lnTo>
                  <a:lnTo>
                    <a:pt x="9" y="39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2" y="22"/>
                  </a:lnTo>
                  <a:lnTo>
                    <a:pt x="6" y="18"/>
                  </a:lnTo>
                  <a:lnTo>
                    <a:pt x="13" y="16"/>
                  </a:lnTo>
                  <a:lnTo>
                    <a:pt x="21" y="14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633440" y="6545160"/>
              <a:ext cx="5400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1" y="18"/>
                  </a:moveTo>
                  <a:lnTo>
                    <a:pt x="11" y="24"/>
                  </a:lnTo>
                  <a:lnTo>
                    <a:pt x="13" y="27"/>
                  </a:lnTo>
                  <a:lnTo>
                    <a:pt x="15" y="29"/>
                  </a:lnTo>
                  <a:lnTo>
                    <a:pt x="19" y="31"/>
                  </a:lnTo>
                  <a:lnTo>
                    <a:pt x="23" y="29"/>
                  </a:lnTo>
                  <a:lnTo>
                    <a:pt x="25" y="27"/>
                  </a:lnTo>
                  <a:lnTo>
                    <a:pt x="27" y="24"/>
                  </a:lnTo>
                  <a:lnTo>
                    <a:pt x="27" y="18"/>
                  </a:lnTo>
                  <a:lnTo>
                    <a:pt x="27" y="14"/>
                  </a:lnTo>
                  <a:lnTo>
                    <a:pt x="25" y="12"/>
                  </a:lnTo>
                  <a:lnTo>
                    <a:pt x="23" y="10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11" y="18"/>
                  </a:lnTo>
                  <a:close/>
                  <a:moveTo>
                    <a:pt x="37" y="18"/>
                  </a:moveTo>
                  <a:lnTo>
                    <a:pt x="37" y="29"/>
                  </a:lnTo>
                  <a:lnTo>
                    <a:pt x="33" y="35"/>
                  </a:lnTo>
                  <a:lnTo>
                    <a:pt x="27" y="37"/>
                  </a:lnTo>
                  <a:lnTo>
                    <a:pt x="19" y="39"/>
                  </a:lnTo>
                  <a:lnTo>
                    <a:pt x="11" y="37"/>
                  </a:lnTo>
                  <a:lnTo>
                    <a:pt x="6" y="37"/>
                  </a:lnTo>
                  <a:lnTo>
                    <a:pt x="4" y="35"/>
                  </a:lnTo>
                  <a:lnTo>
                    <a:pt x="2" y="31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4" y="4"/>
                  </a:lnTo>
                  <a:lnTo>
                    <a:pt x="6" y="2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3" y="4"/>
                  </a:lnTo>
                  <a:lnTo>
                    <a:pt x="35" y="8"/>
                  </a:lnTo>
                  <a:lnTo>
                    <a:pt x="37" y="10"/>
                  </a:lnTo>
                  <a:lnTo>
                    <a:pt x="37" y="14"/>
                  </a:lnTo>
                  <a:lnTo>
                    <a:pt x="37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768080" y="6545160"/>
              <a:ext cx="48240" cy="6192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8" y="27"/>
                  </a:moveTo>
                  <a:lnTo>
                    <a:pt x="10" y="31"/>
                  </a:lnTo>
                  <a:lnTo>
                    <a:pt x="12" y="31"/>
                  </a:lnTo>
                  <a:lnTo>
                    <a:pt x="16" y="31"/>
                  </a:lnTo>
                  <a:lnTo>
                    <a:pt x="19" y="29"/>
                  </a:lnTo>
                  <a:lnTo>
                    <a:pt x="19" y="22"/>
                  </a:lnTo>
                  <a:lnTo>
                    <a:pt x="14" y="22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8" y="27"/>
                  </a:lnTo>
                  <a:close/>
                  <a:moveTo>
                    <a:pt x="19" y="12"/>
                  </a:moveTo>
                  <a:lnTo>
                    <a:pt x="19" y="8"/>
                  </a:lnTo>
                  <a:lnTo>
                    <a:pt x="14" y="8"/>
                  </a:lnTo>
                  <a:lnTo>
                    <a:pt x="8" y="8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29" y="6"/>
                  </a:lnTo>
                  <a:lnTo>
                    <a:pt x="29" y="10"/>
                  </a:lnTo>
                  <a:lnTo>
                    <a:pt x="29" y="27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25" y="39"/>
                  </a:lnTo>
                  <a:lnTo>
                    <a:pt x="23" y="39"/>
                  </a:lnTo>
                  <a:lnTo>
                    <a:pt x="21" y="39"/>
                  </a:lnTo>
                  <a:lnTo>
                    <a:pt x="21" y="35"/>
                  </a:lnTo>
                  <a:lnTo>
                    <a:pt x="14" y="39"/>
                  </a:lnTo>
                  <a:lnTo>
                    <a:pt x="10" y="39"/>
                  </a:lnTo>
                  <a:lnTo>
                    <a:pt x="6" y="39"/>
                  </a:lnTo>
                  <a:lnTo>
                    <a:pt x="2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4" y="18"/>
                  </a:lnTo>
                  <a:lnTo>
                    <a:pt x="10" y="16"/>
                  </a:lnTo>
                  <a:lnTo>
                    <a:pt x="19" y="14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894440" y="6519960"/>
              <a:ext cx="54000" cy="8712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16" y="26"/>
                  </a:moveTo>
                  <a:lnTo>
                    <a:pt x="20" y="24"/>
                  </a:lnTo>
                  <a:lnTo>
                    <a:pt x="24" y="24"/>
                  </a:lnTo>
                  <a:lnTo>
                    <a:pt x="24" y="20"/>
                  </a:lnTo>
                  <a:lnTo>
                    <a:pt x="26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0" y="10"/>
                  </a:lnTo>
                  <a:lnTo>
                    <a:pt x="16" y="10"/>
                  </a:lnTo>
                  <a:lnTo>
                    <a:pt x="12" y="10"/>
                  </a:lnTo>
                  <a:lnTo>
                    <a:pt x="12" y="26"/>
                  </a:lnTo>
                  <a:lnTo>
                    <a:pt x="16" y="26"/>
                  </a:lnTo>
                  <a:close/>
                  <a:moveTo>
                    <a:pt x="12" y="45"/>
                  </a:moveTo>
                  <a:lnTo>
                    <a:pt x="14" y="51"/>
                  </a:lnTo>
                  <a:lnTo>
                    <a:pt x="16" y="55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3" y="4"/>
                  </a:lnTo>
                  <a:lnTo>
                    <a:pt x="35" y="10"/>
                  </a:lnTo>
                  <a:lnTo>
                    <a:pt x="37" y="16"/>
                  </a:lnTo>
                  <a:lnTo>
                    <a:pt x="35" y="24"/>
                  </a:lnTo>
                  <a:lnTo>
                    <a:pt x="33" y="30"/>
                  </a:lnTo>
                  <a:lnTo>
                    <a:pt x="26" y="34"/>
                  </a:lnTo>
                  <a:lnTo>
                    <a:pt x="16" y="34"/>
                  </a:lnTo>
                  <a:lnTo>
                    <a:pt x="12" y="34"/>
                  </a:lnTo>
                  <a:lnTo>
                    <a:pt x="12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960320" y="6516720"/>
              <a:ext cx="52560" cy="90360"/>
            </a:xfrm>
            <a:custGeom>
              <a:avLst/>
              <a:gdLst/>
              <a:ahLst/>
              <a:rect l="l" t="t" r="r" b="b"/>
              <a:pathLst>
                <a:path w="36" h="57">
                  <a:moveTo>
                    <a:pt x="12" y="20"/>
                  </a:moveTo>
                  <a:lnTo>
                    <a:pt x="16" y="18"/>
                  </a:lnTo>
                  <a:lnTo>
                    <a:pt x="24" y="18"/>
                  </a:lnTo>
                  <a:lnTo>
                    <a:pt x="28" y="18"/>
                  </a:lnTo>
                  <a:lnTo>
                    <a:pt x="32" y="20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4" y="45"/>
                  </a:lnTo>
                  <a:lnTo>
                    <a:pt x="34" y="51"/>
                  </a:lnTo>
                  <a:lnTo>
                    <a:pt x="36" y="57"/>
                  </a:lnTo>
                  <a:lnTo>
                    <a:pt x="22" y="57"/>
                  </a:lnTo>
                  <a:lnTo>
                    <a:pt x="24" y="51"/>
                  </a:lnTo>
                  <a:lnTo>
                    <a:pt x="24" y="45"/>
                  </a:lnTo>
                  <a:lnTo>
                    <a:pt x="24" y="32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4" y="28"/>
                  </a:lnTo>
                  <a:lnTo>
                    <a:pt x="12" y="30"/>
                  </a:lnTo>
                  <a:lnTo>
                    <a:pt x="12" y="45"/>
                  </a:lnTo>
                  <a:lnTo>
                    <a:pt x="12" y="51"/>
                  </a:lnTo>
                  <a:lnTo>
                    <a:pt x="12" y="57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020440" y="6545160"/>
              <a:ext cx="64440" cy="8424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16" y="0"/>
                  </a:moveTo>
                  <a:lnTo>
                    <a:pt x="14" y="2"/>
                  </a:lnTo>
                  <a:lnTo>
                    <a:pt x="16" y="6"/>
                  </a:lnTo>
                  <a:lnTo>
                    <a:pt x="24" y="22"/>
                  </a:lnTo>
                  <a:lnTo>
                    <a:pt x="28" y="10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38" y="12"/>
                  </a:lnTo>
                  <a:lnTo>
                    <a:pt x="32" y="24"/>
                  </a:lnTo>
                  <a:lnTo>
                    <a:pt x="24" y="39"/>
                  </a:lnTo>
                  <a:lnTo>
                    <a:pt x="20" y="45"/>
                  </a:lnTo>
                  <a:lnTo>
                    <a:pt x="18" y="49"/>
                  </a:lnTo>
                  <a:lnTo>
                    <a:pt x="16" y="51"/>
                  </a:lnTo>
                  <a:lnTo>
                    <a:pt x="12" y="53"/>
                  </a:lnTo>
                  <a:lnTo>
                    <a:pt x="0" y="53"/>
                  </a:lnTo>
                  <a:lnTo>
                    <a:pt x="10" y="43"/>
                  </a:lnTo>
                  <a:lnTo>
                    <a:pt x="14" y="37"/>
                  </a:lnTo>
                  <a:lnTo>
                    <a:pt x="16" y="31"/>
                  </a:lnTo>
                  <a:lnTo>
                    <a:pt x="6" y="8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085240" y="6545160"/>
              <a:ext cx="42480" cy="619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27" y="10"/>
                  </a:moveTo>
                  <a:lnTo>
                    <a:pt x="21" y="8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5" y="12"/>
                  </a:lnTo>
                  <a:lnTo>
                    <a:pt x="19" y="14"/>
                  </a:lnTo>
                  <a:lnTo>
                    <a:pt x="25" y="16"/>
                  </a:lnTo>
                  <a:lnTo>
                    <a:pt x="27" y="20"/>
                  </a:lnTo>
                  <a:lnTo>
                    <a:pt x="29" y="22"/>
                  </a:lnTo>
                  <a:lnTo>
                    <a:pt x="29" y="27"/>
                  </a:lnTo>
                  <a:lnTo>
                    <a:pt x="29" y="31"/>
                  </a:lnTo>
                  <a:lnTo>
                    <a:pt x="25" y="35"/>
                  </a:lnTo>
                  <a:lnTo>
                    <a:pt x="21" y="39"/>
                  </a:lnTo>
                  <a:lnTo>
                    <a:pt x="15" y="39"/>
                  </a:lnTo>
                  <a:lnTo>
                    <a:pt x="9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5" y="27"/>
                  </a:lnTo>
                  <a:lnTo>
                    <a:pt x="9" y="31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3" y="22"/>
                  </a:lnTo>
                  <a:lnTo>
                    <a:pt x="9" y="20"/>
                  </a:lnTo>
                  <a:lnTo>
                    <a:pt x="5" y="18"/>
                  </a:lnTo>
                  <a:lnTo>
                    <a:pt x="3" y="14"/>
                  </a:lnTo>
                  <a:lnTo>
                    <a:pt x="3" y="10"/>
                  </a:lnTo>
                  <a:lnTo>
                    <a:pt x="5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139240" y="6519960"/>
              <a:ext cx="172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6"/>
                  </a:moveTo>
                  <a:lnTo>
                    <a:pt x="12" y="8"/>
                  </a:lnTo>
                  <a:lnTo>
                    <a:pt x="10" y="10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139240" y="6545160"/>
              <a:ext cx="20520" cy="61920"/>
            </a:xfrm>
            <a:custGeom>
              <a:avLst/>
              <a:gdLst/>
              <a:ahLst/>
              <a:rect l="l" t="t" r="r" b="b"/>
              <a:pathLst>
                <a:path w="14" h="39">
                  <a:moveTo>
                    <a:pt x="12" y="27"/>
                  </a:moveTo>
                  <a:lnTo>
                    <a:pt x="12" y="33"/>
                  </a:lnTo>
                  <a:lnTo>
                    <a:pt x="14" y="35"/>
                  </a:lnTo>
                  <a:lnTo>
                    <a:pt x="14" y="39"/>
                  </a:lnTo>
                  <a:lnTo>
                    <a:pt x="0" y="39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172720" y="6545160"/>
              <a:ext cx="43920" cy="6192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28" y="12"/>
                  </a:moveTo>
                  <a:lnTo>
                    <a:pt x="24" y="10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0" y="18"/>
                  </a:lnTo>
                  <a:lnTo>
                    <a:pt x="12" y="22"/>
                  </a:lnTo>
                  <a:lnTo>
                    <a:pt x="14" y="27"/>
                  </a:lnTo>
                  <a:lnTo>
                    <a:pt x="16" y="29"/>
                  </a:lnTo>
                  <a:lnTo>
                    <a:pt x="20" y="29"/>
                  </a:lnTo>
                  <a:lnTo>
                    <a:pt x="24" y="29"/>
                  </a:lnTo>
                  <a:lnTo>
                    <a:pt x="30" y="24"/>
                  </a:lnTo>
                  <a:lnTo>
                    <a:pt x="30" y="33"/>
                  </a:lnTo>
                  <a:lnTo>
                    <a:pt x="28" y="35"/>
                  </a:lnTo>
                  <a:lnTo>
                    <a:pt x="26" y="37"/>
                  </a:lnTo>
                  <a:lnTo>
                    <a:pt x="22" y="39"/>
                  </a:lnTo>
                  <a:lnTo>
                    <a:pt x="18" y="39"/>
                  </a:lnTo>
                  <a:lnTo>
                    <a:pt x="14" y="39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228880" y="6545160"/>
              <a:ext cx="48240" cy="6192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9" y="27"/>
                  </a:moveTo>
                  <a:lnTo>
                    <a:pt x="11" y="31"/>
                  </a:lnTo>
                  <a:lnTo>
                    <a:pt x="13" y="31"/>
                  </a:lnTo>
                  <a:lnTo>
                    <a:pt x="17" y="31"/>
                  </a:lnTo>
                  <a:lnTo>
                    <a:pt x="19" y="29"/>
                  </a:lnTo>
                  <a:lnTo>
                    <a:pt x="19" y="22"/>
                  </a:lnTo>
                  <a:lnTo>
                    <a:pt x="15" y="22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9" y="27"/>
                  </a:lnTo>
                  <a:close/>
                  <a:moveTo>
                    <a:pt x="19" y="12"/>
                  </a:moveTo>
                  <a:lnTo>
                    <a:pt x="19" y="8"/>
                  </a:lnTo>
                  <a:lnTo>
                    <a:pt x="15" y="8"/>
                  </a:lnTo>
                  <a:lnTo>
                    <a:pt x="9" y="8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29" y="6"/>
                  </a:lnTo>
                  <a:lnTo>
                    <a:pt x="29" y="10"/>
                  </a:lnTo>
                  <a:lnTo>
                    <a:pt x="29" y="27"/>
                  </a:lnTo>
                  <a:lnTo>
                    <a:pt x="29" y="31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25" y="39"/>
                  </a:lnTo>
                  <a:lnTo>
                    <a:pt x="23" y="39"/>
                  </a:lnTo>
                  <a:lnTo>
                    <a:pt x="21" y="39"/>
                  </a:lnTo>
                  <a:lnTo>
                    <a:pt x="21" y="35"/>
                  </a:lnTo>
                  <a:lnTo>
                    <a:pt x="17" y="39"/>
                  </a:lnTo>
                  <a:lnTo>
                    <a:pt x="11" y="39"/>
                  </a:lnTo>
                  <a:lnTo>
                    <a:pt x="7" y="39"/>
                  </a:lnTo>
                  <a:lnTo>
                    <a:pt x="2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4" y="18"/>
                  </a:lnTo>
                  <a:lnTo>
                    <a:pt x="11" y="16"/>
                  </a:lnTo>
                  <a:lnTo>
                    <a:pt x="19" y="14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760" y="6516720"/>
              <a:ext cx="20520" cy="90360"/>
            </a:xfrm>
            <a:custGeom>
              <a:avLst/>
              <a:gdLst/>
              <a:ahLst/>
              <a:rect l="l" t="t" r="r" b="b"/>
              <a:pathLst>
                <a:path w="14" h="57">
                  <a:moveTo>
                    <a:pt x="12" y="45"/>
                  </a:moveTo>
                  <a:lnTo>
                    <a:pt x="12" y="51"/>
                  </a:lnTo>
                  <a:lnTo>
                    <a:pt x="12" y="53"/>
                  </a:lnTo>
                  <a:lnTo>
                    <a:pt x="14" y="57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51640" y="6519960"/>
              <a:ext cx="51480" cy="8712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16" y="0"/>
                  </a:moveTo>
                  <a:lnTo>
                    <a:pt x="16" y="4"/>
                  </a:lnTo>
                  <a:lnTo>
                    <a:pt x="14" y="8"/>
                  </a:lnTo>
                  <a:lnTo>
                    <a:pt x="14" y="14"/>
                  </a:lnTo>
                  <a:lnTo>
                    <a:pt x="14" y="45"/>
                  </a:lnTo>
                  <a:lnTo>
                    <a:pt x="27" y="45"/>
                  </a:lnTo>
                  <a:lnTo>
                    <a:pt x="31" y="45"/>
                  </a:lnTo>
                  <a:lnTo>
                    <a:pt x="35" y="43"/>
                  </a:lnTo>
                  <a:lnTo>
                    <a:pt x="33" y="51"/>
                  </a:lnTo>
                  <a:lnTo>
                    <a:pt x="33" y="53"/>
                  </a:lnTo>
                  <a:lnTo>
                    <a:pt x="31" y="55"/>
                  </a:lnTo>
                  <a:lnTo>
                    <a:pt x="29" y="55"/>
                  </a:lnTo>
                  <a:lnTo>
                    <a:pt x="8" y="53"/>
                  </a:lnTo>
                  <a:lnTo>
                    <a:pt x="0" y="55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2" y="14"/>
                  </a:lnTo>
                  <a:lnTo>
                    <a:pt x="2" y="8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411760" y="6545160"/>
              <a:ext cx="48240" cy="6192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10" y="27"/>
                  </a:move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29"/>
                  </a:lnTo>
                  <a:lnTo>
                    <a:pt x="18" y="22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10" y="27"/>
                  </a:lnTo>
                  <a:close/>
                  <a:moveTo>
                    <a:pt x="18" y="12"/>
                  </a:moveTo>
                  <a:lnTo>
                    <a:pt x="18" y="8"/>
                  </a:lnTo>
                  <a:lnTo>
                    <a:pt x="14" y="8"/>
                  </a:lnTo>
                  <a:lnTo>
                    <a:pt x="8" y="8"/>
                  </a:lnTo>
                  <a:lnTo>
                    <a:pt x="2" y="12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2"/>
                  </a:lnTo>
                  <a:lnTo>
                    <a:pt x="28" y="6"/>
                  </a:lnTo>
                  <a:lnTo>
                    <a:pt x="31" y="10"/>
                  </a:lnTo>
                  <a:lnTo>
                    <a:pt x="31" y="27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24" y="39"/>
                  </a:lnTo>
                  <a:lnTo>
                    <a:pt x="22" y="39"/>
                  </a:lnTo>
                  <a:lnTo>
                    <a:pt x="20" y="35"/>
                  </a:lnTo>
                  <a:lnTo>
                    <a:pt x="16" y="39"/>
                  </a:lnTo>
                  <a:lnTo>
                    <a:pt x="10" y="39"/>
                  </a:lnTo>
                  <a:lnTo>
                    <a:pt x="6" y="39"/>
                  </a:lnTo>
                  <a:lnTo>
                    <a:pt x="2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2" y="22"/>
                  </a:lnTo>
                  <a:lnTo>
                    <a:pt x="4" y="18"/>
                  </a:lnTo>
                  <a:lnTo>
                    <a:pt x="10" y="16"/>
                  </a:lnTo>
                  <a:lnTo>
                    <a:pt x="18" y="14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69000" y="6516720"/>
              <a:ext cx="52560" cy="90360"/>
            </a:xfrm>
            <a:custGeom>
              <a:avLst/>
              <a:gdLst/>
              <a:ahLst/>
              <a:rect l="l" t="t" r="r" b="b"/>
              <a:pathLst>
                <a:path w="36" h="57">
                  <a:moveTo>
                    <a:pt x="18" y="49"/>
                  </a:moveTo>
                  <a:lnTo>
                    <a:pt x="20" y="47"/>
                  </a:lnTo>
                  <a:lnTo>
                    <a:pt x="22" y="45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24" y="32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18" y="26"/>
                  </a:lnTo>
                  <a:lnTo>
                    <a:pt x="14" y="28"/>
                  </a:lnTo>
                  <a:lnTo>
                    <a:pt x="12" y="30"/>
                  </a:lnTo>
                  <a:lnTo>
                    <a:pt x="12" y="45"/>
                  </a:lnTo>
                  <a:lnTo>
                    <a:pt x="14" y="47"/>
                  </a:lnTo>
                  <a:lnTo>
                    <a:pt x="18" y="49"/>
                  </a:lnTo>
                  <a:close/>
                  <a:moveTo>
                    <a:pt x="12" y="20"/>
                  </a:moveTo>
                  <a:lnTo>
                    <a:pt x="16" y="18"/>
                  </a:lnTo>
                  <a:lnTo>
                    <a:pt x="20" y="18"/>
                  </a:lnTo>
                  <a:lnTo>
                    <a:pt x="26" y="20"/>
                  </a:lnTo>
                  <a:lnTo>
                    <a:pt x="32" y="22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6" y="36"/>
                  </a:lnTo>
                  <a:lnTo>
                    <a:pt x="34" y="45"/>
                  </a:lnTo>
                  <a:lnTo>
                    <a:pt x="30" y="51"/>
                  </a:lnTo>
                  <a:lnTo>
                    <a:pt x="24" y="55"/>
                  </a:lnTo>
                  <a:lnTo>
                    <a:pt x="22" y="57"/>
                  </a:lnTo>
                  <a:lnTo>
                    <a:pt x="18" y="57"/>
                  </a:lnTo>
                  <a:lnTo>
                    <a:pt x="12" y="57"/>
                  </a:lnTo>
                  <a:lnTo>
                    <a:pt x="8" y="55"/>
                  </a:lnTo>
                  <a:lnTo>
                    <a:pt x="0" y="57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535240" y="6545160"/>
              <a:ext cx="55440" cy="619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2" y="18"/>
                  </a:moveTo>
                  <a:lnTo>
                    <a:pt x="12" y="24"/>
                  </a:lnTo>
                  <a:lnTo>
                    <a:pt x="14" y="27"/>
                  </a:lnTo>
                  <a:lnTo>
                    <a:pt x="16" y="29"/>
                  </a:lnTo>
                  <a:lnTo>
                    <a:pt x="18" y="31"/>
                  </a:lnTo>
                  <a:lnTo>
                    <a:pt x="22" y="29"/>
                  </a:lnTo>
                  <a:lnTo>
                    <a:pt x="24" y="27"/>
                  </a:lnTo>
                  <a:lnTo>
                    <a:pt x="26" y="24"/>
                  </a:lnTo>
                  <a:lnTo>
                    <a:pt x="26" y="18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2" y="10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8"/>
                  </a:lnTo>
                  <a:close/>
                  <a:moveTo>
                    <a:pt x="38" y="18"/>
                  </a:moveTo>
                  <a:lnTo>
                    <a:pt x="38" y="24"/>
                  </a:lnTo>
                  <a:lnTo>
                    <a:pt x="36" y="29"/>
                  </a:lnTo>
                  <a:lnTo>
                    <a:pt x="32" y="35"/>
                  </a:lnTo>
                  <a:lnTo>
                    <a:pt x="26" y="37"/>
                  </a:lnTo>
                  <a:lnTo>
                    <a:pt x="18" y="39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4" y="35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36" y="10"/>
                  </a:lnTo>
                  <a:lnTo>
                    <a:pt x="38" y="14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599680" y="6545160"/>
              <a:ext cx="36360" cy="61920"/>
            </a:xfrm>
            <a:custGeom>
              <a:avLst/>
              <a:gdLst/>
              <a:ahLst/>
              <a:rect l="l" t="t" r="r" b="b"/>
              <a:pathLst>
                <a:path w="25" h="39">
                  <a:moveTo>
                    <a:pt x="13" y="27"/>
                  </a:moveTo>
                  <a:lnTo>
                    <a:pt x="13" y="33"/>
                  </a:lnTo>
                  <a:lnTo>
                    <a:pt x="15" y="35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3" y="33"/>
                  </a:lnTo>
                  <a:lnTo>
                    <a:pt x="3" y="27"/>
                  </a:lnTo>
                  <a:lnTo>
                    <a:pt x="3" y="10"/>
                  </a:lnTo>
                  <a:lnTo>
                    <a:pt x="3" y="6"/>
                  </a:lnTo>
                  <a:lnTo>
                    <a:pt x="0" y="2"/>
                  </a:lnTo>
                  <a:lnTo>
                    <a:pt x="11" y="0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5" y="4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3" y="12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642520" y="6545160"/>
              <a:ext cx="51120" cy="6192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10" y="27"/>
                  </a:move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20" y="29"/>
                  </a:lnTo>
                  <a:lnTo>
                    <a:pt x="20" y="22"/>
                  </a:lnTo>
                  <a:lnTo>
                    <a:pt x="16" y="22"/>
                  </a:lnTo>
                  <a:lnTo>
                    <a:pt x="12" y="22"/>
                  </a:lnTo>
                  <a:lnTo>
                    <a:pt x="12" y="24"/>
                  </a:lnTo>
                  <a:lnTo>
                    <a:pt x="10" y="27"/>
                  </a:lnTo>
                  <a:close/>
                  <a:moveTo>
                    <a:pt x="20" y="12"/>
                  </a:moveTo>
                  <a:lnTo>
                    <a:pt x="18" y="8"/>
                  </a:lnTo>
                  <a:lnTo>
                    <a:pt x="16" y="8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6"/>
                  </a:lnTo>
                  <a:lnTo>
                    <a:pt x="2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7" y="2"/>
                  </a:lnTo>
                  <a:lnTo>
                    <a:pt x="31" y="6"/>
                  </a:lnTo>
                  <a:lnTo>
                    <a:pt x="31" y="10"/>
                  </a:lnTo>
                  <a:lnTo>
                    <a:pt x="31" y="27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35" y="35"/>
                  </a:lnTo>
                  <a:lnTo>
                    <a:pt x="27" y="39"/>
                  </a:lnTo>
                  <a:lnTo>
                    <a:pt x="25" y="39"/>
                  </a:lnTo>
                  <a:lnTo>
                    <a:pt x="22" y="39"/>
                  </a:lnTo>
                  <a:lnTo>
                    <a:pt x="20" y="35"/>
                  </a:lnTo>
                  <a:lnTo>
                    <a:pt x="16" y="39"/>
                  </a:lnTo>
                  <a:lnTo>
                    <a:pt x="12" y="39"/>
                  </a:lnTo>
                  <a:lnTo>
                    <a:pt x="6" y="39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2" y="22"/>
                  </a:lnTo>
                  <a:lnTo>
                    <a:pt x="6" y="18"/>
                  </a:lnTo>
                  <a:lnTo>
                    <a:pt x="12" y="16"/>
                  </a:lnTo>
                  <a:lnTo>
                    <a:pt x="20" y="14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99400" y="6526080"/>
              <a:ext cx="37800" cy="8100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16" y="12"/>
                  </a:moveTo>
                  <a:lnTo>
                    <a:pt x="22" y="12"/>
                  </a:lnTo>
                  <a:lnTo>
                    <a:pt x="26" y="12"/>
                  </a:lnTo>
                  <a:lnTo>
                    <a:pt x="26" y="16"/>
                  </a:lnTo>
                  <a:lnTo>
                    <a:pt x="24" y="20"/>
                  </a:lnTo>
                  <a:lnTo>
                    <a:pt x="20" y="20"/>
                  </a:lnTo>
                  <a:lnTo>
                    <a:pt x="16" y="20"/>
                  </a:lnTo>
                  <a:lnTo>
                    <a:pt x="16" y="39"/>
                  </a:lnTo>
                  <a:lnTo>
                    <a:pt x="16" y="41"/>
                  </a:lnTo>
                  <a:lnTo>
                    <a:pt x="18" y="43"/>
                  </a:lnTo>
                  <a:lnTo>
                    <a:pt x="22" y="41"/>
                  </a:lnTo>
                  <a:lnTo>
                    <a:pt x="26" y="36"/>
                  </a:lnTo>
                  <a:lnTo>
                    <a:pt x="26" y="41"/>
                  </a:lnTo>
                  <a:lnTo>
                    <a:pt x="26" y="45"/>
                  </a:lnTo>
                  <a:lnTo>
                    <a:pt x="24" y="49"/>
                  </a:lnTo>
                  <a:lnTo>
                    <a:pt x="20" y="51"/>
                  </a:lnTo>
                  <a:lnTo>
                    <a:pt x="16" y="51"/>
                  </a:lnTo>
                  <a:lnTo>
                    <a:pt x="10" y="51"/>
                  </a:lnTo>
                  <a:lnTo>
                    <a:pt x="8" y="49"/>
                  </a:lnTo>
                  <a:lnTo>
                    <a:pt x="6" y="47"/>
                  </a:lnTo>
                  <a:lnTo>
                    <a:pt x="4" y="43"/>
                  </a:lnTo>
                  <a:lnTo>
                    <a:pt x="4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2"/>
                  </a:lnTo>
                  <a:lnTo>
                    <a:pt x="16" y="0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743320" y="6545160"/>
              <a:ext cx="5688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3" y="18"/>
                  </a:moveTo>
                  <a:lnTo>
                    <a:pt x="13" y="24"/>
                  </a:lnTo>
                  <a:lnTo>
                    <a:pt x="15" y="27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29"/>
                  </a:lnTo>
                  <a:lnTo>
                    <a:pt x="25" y="27"/>
                  </a:lnTo>
                  <a:lnTo>
                    <a:pt x="27" y="24"/>
                  </a:lnTo>
                  <a:lnTo>
                    <a:pt x="27" y="18"/>
                  </a:lnTo>
                  <a:lnTo>
                    <a:pt x="27" y="14"/>
                  </a:lnTo>
                  <a:lnTo>
                    <a:pt x="25" y="12"/>
                  </a:lnTo>
                  <a:lnTo>
                    <a:pt x="23" y="10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3" y="14"/>
                  </a:lnTo>
                  <a:lnTo>
                    <a:pt x="13" y="18"/>
                  </a:lnTo>
                  <a:close/>
                  <a:moveTo>
                    <a:pt x="39" y="18"/>
                  </a:moveTo>
                  <a:lnTo>
                    <a:pt x="39" y="24"/>
                  </a:lnTo>
                  <a:lnTo>
                    <a:pt x="37" y="29"/>
                  </a:lnTo>
                  <a:lnTo>
                    <a:pt x="33" y="35"/>
                  </a:lnTo>
                  <a:lnTo>
                    <a:pt x="27" y="37"/>
                  </a:lnTo>
                  <a:lnTo>
                    <a:pt x="19" y="39"/>
                  </a:lnTo>
                  <a:lnTo>
                    <a:pt x="11" y="37"/>
                  </a:lnTo>
                  <a:lnTo>
                    <a:pt x="9" y="37"/>
                  </a:lnTo>
                  <a:lnTo>
                    <a:pt x="5" y="35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5" y="4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3" y="4"/>
                  </a:lnTo>
                  <a:lnTo>
                    <a:pt x="35" y="8"/>
                  </a:lnTo>
                  <a:lnTo>
                    <a:pt x="37" y="10"/>
                  </a:lnTo>
                  <a:lnTo>
                    <a:pt x="39" y="14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812440" y="6545160"/>
              <a:ext cx="36360" cy="61920"/>
            </a:xfrm>
            <a:custGeom>
              <a:avLst/>
              <a:gdLst/>
              <a:ahLst/>
              <a:rect l="l" t="t" r="r" b="b"/>
              <a:pathLst>
                <a:path w="25" h="39">
                  <a:moveTo>
                    <a:pt x="13" y="27"/>
                  </a:moveTo>
                  <a:lnTo>
                    <a:pt x="13" y="33"/>
                  </a:lnTo>
                  <a:lnTo>
                    <a:pt x="15" y="35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2"/>
                  </a:lnTo>
                  <a:lnTo>
                    <a:pt x="11" y="0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3" y="4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3" y="12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857800" y="6545160"/>
              <a:ext cx="65520" cy="84240"/>
            </a:xfrm>
            <a:custGeom>
              <a:avLst/>
              <a:gdLst/>
              <a:ahLst/>
              <a:rect l="l" t="t" r="r" b="b"/>
              <a:pathLst>
                <a:path w="45" h="53">
                  <a:moveTo>
                    <a:pt x="14" y="0"/>
                  </a:moveTo>
                  <a:lnTo>
                    <a:pt x="14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22" y="22"/>
                  </a:lnTo>
                  <a:lnTo>
                    <a:pt x="29" y="10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45" y="0"/>
                  </a:lnTo>
                  <a:lnTo>
                    <a:pt x="39" y="12"/>
                  </a:lnTo>
                  <a:lnTo>
                    <a:pt x="24" y="39"/>
                  </a:lnTo>
                  <a:lnTo>
                    <a:pt x="18" y="49"/>
                  </a:lnTo>
                  <a:lnTo>
                    <a:pt x="14" y="51"/>
                  </a:lnTo>
                  <a:lnTo>
                    <a:pt x="12" y="53"/>
                  </a:lnTo>
                  <a:lnTo>
                    <a:pt x="0" y="53"/>
                  </a:lnTo>
                  <a:lnTo>
                    <a:pt x="4" y="47"/>
                  </a:lnTo>
                  <a:lnTo>
                    <a:pt x="8" y="43"/>
                  </a:lnTo>
                  <a:lnTo>
                    <a:pt x="12" y="37"/>
                  </a:lnTo>
                  <a:lnTo>
                    <a:pt x="16" y="31"/>
                  </a:lnTo>
                  <a:lnTo>
                    <a:pt x="4" y="8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" name=""/>
          <p:cNvGrpSpPr/>
          <p:nvPr/>
        </p:nvGrpSpPr>
        <p:grpSpPr>
          <a:xfrm>
            <a:off x="563400" y="6076800"/>
            <a:ext cx="1780920" cy="549000"/>
            <a:chOff x="563400" y="6076800"/>
            <a:chExt cx="1780920" cy="549000"/>
          </a:xfrm>
        </p:grpSpPr>
        <p:grpSp>
          <p:nvGrpSpPr>
            <p:cNvPr id="36" name=""/>
            <p:cNvGrpSpPr/>
            <p:nvPr/>
          </p:nvGrpSpPr>
          <p:grpSpPr>
            <a:xfrm>
              <a:off x="563400" y="6076800"/>
              <a:ext cx="1780920" cy="549000"/>
              <a:chOff x="563400" y="6076800"/>
              <a:chExt cx="1780920" cy="549000"/>
            </a:xfrm>
          </p:grpSpPr>
          <p:sp>
            <p:nvSpPr>
              <p:cNvPr id="37" name=""/>
              <p:cNvSpPr/>
              <p:nvPr/>
            </p:nvSpPr>
            <p:spPr>
              <a:xfrm>
                <a:off x="563400" y="6077880"/>
                <a:ext cx="265320" cy="356040"/>
              </a:xfrm>
              <a:custGeom>
                <a:avLst/>
                <a:gdLst/>
                <a:ahLst/>
                <a:rect l="l" t="t" r="r" b="b"/>
                <a:pathLst>
                  <a:path w="2411" h="2979">
                    <a:moveTo>
                      <a:pt x="463" y="2127"/>
                    </a:moveTo>
                    <a:lnTo>
                      <a:pt x="480" y="2154"/>
                    </a:lnTo>
                    <a:lnTo>
                      <a:pt x="497" y="2180"/>
                    </a:lnTo>
                    <a:lnTo>
                      <a:pt x="515" y="2206"/>
                    </a:lnTo>
                    <a:lnTo>
                      <a:pt x="533" y="2231"/>
                    </a:lnTo>
                    <a:lnTo>
                      <a:pt x="552" y="2254"/>
                    </a:lnTo>
                    <a:lnTo>
                      <a:pt x="572" y="2277"/>
                    </a:lnTo>
                    <a:lnTo>
                      <a:pt x="592" y="2300"/>
                    </a:lnTo>
                    <a:lnTo>
                      <a:pt x="613" y="2320"/>
                    </a:lnTo>
                    <a:lnTo>
                      <a:pt x="634" y="2340"/>
                    </a:lnTo>
                    <a:lnTo>
                      <a:pt x="656" y="2360"/>
                    </a:lnTo>
                    <a:lnTo>
                      <a:pt x="679" y="2378"/>
                    </a:lnTo>
                    <a:lnTo>
                      <a:pt x="701" y="2395"/>
                    </a:lnTo>
                    <a:lnTo>
                      <a:pt x="725" y="2413"/>
                    </a:lnTo>
                    <a:lnTo>
                      <a:pt x="748" y="2428"/>
                    </a:lnTo>
                    <a:lnTo>
                      <a:pt x="774" y="2443"/>
                    </a:lnTo>
                    <a:lnTo>
                      <a:pt x="798" y="2457"/>
                    </a:lnTo>
                    <a:lnTo>
                      <a:pt x="824" y="2470"/>
                    </a:lnTo>
                    <a:lnTo>
                      <a:pt x="850" y="2482"/>
                    </a:lnTo>
                    <a:lnTo>
                      <a:pt x="877" y="2494"/>
                    </a:lnTo>
                    <a:lnTo>
                      <a:pt x="904" y="2505"/>
                    </a:lnTo>
                    <a:lnTo>
                      <a:pt x="932" y="2515"/>
                    </a:lnTo>
                    <a:lnTo>
                      <a:pt x="960" y="2524"/>
                    </a:lnTo>
                    <a:lnTo>
                      <a:pt x="989" y="2532"/>
                    </a:lnTo>
                    <a:lnTo>
                      <a:pt x="1018" y="2539"/>
                    </a:lnTo>
                    <a:lnTo>
                      <a:pt x="1048" y="2545"/>
                    </a:lnTo>
                    <a:lnTo>
                      <a:pt x="1079" y="2550"/>
                    </a:lnTo>
                    <a:lnTo>
                      <a:pt x="1110" y="2555"/>
                    </a:lnTo>
                    <a:lnTo>
                      <a:pt x="1141" y="2559"/>
                    </a:lnTo>
                    <a:lnTo>
                      <a:pt x="1174" y="2562"/>
                    </a:lnTo>
                    <a:lnTo>
                      <a:pt x="1206" y="2564"/>
                    </a:lnTo>
                    <a:lnTo>
                      <a:pt x="1239" y="2565"/>
                    </a:lnTo>
                    <a:lnTo>
                      <a:pt x="1274" y="2565"/>
                    </a:lnTo>
                    <a:lnTo>
                      <a:pt x="1307" y="2565"/>
                    </a:lnTo>
                    <a:lnTo>
                      <a:pt x="1339" y="2563"/>
                    </a:lnTo>
                    <a:lnTo>
                      <a:pt x="1371" y="2561"/>
                    </a:lnTo>
                    <a:lnTo>
                      <a:pt x="1403" y="2557"/>
                    </a:lnTo>
                    <a:lnTo>
                      <a:pt x="1433" y="2553"/>
                    </a:lnTo>
                    <a:lnTo>
                      <a:pt x="1462" y="2548"/>
                    </a:lnTo>
                    <a:lnTo>
                      <a:pt x="1492" y="2542"/>
                    </a:lnTo>
                    <a:lnTo>
                      <a:pt x="1519" y="2535"/>
                    </a:lnTo>
                    <a:lnTo>
                      <a:pt x="1546" y="2527"/>
                    </a:lnTo>
                    <a:lnTo>
                      <a:pt x="1572" y="2518"/>
                    </a:lnTo>
                    <a:lnTo>
                      <a:pt x="1598" y="2509"/>
                    </a:lnTo>
                    <a:lnTo>
                      <a:pt x="1622" y="2497"/>
                    </a:lnTo>
                    <a:lnTo>
                      <a:pt x="1644" y="2486"/>
                    </a:lnTo>
                    <a:lnTo>
                      <a:pt x="1666" y="2475"/>
                    </a:lnTo>
                    <a:lnTo>
                      <a:pt x="1688" y="2462"/>
                    </a:lnTo>
                    <a:lnTo>
                      <a:pt x="1708" y="2449"/>
                    </a:lnTo>
                    <a:lnTo>
                      <a:pt x="1727" y="2435"/>
                    </a:lnTo>
                    <a:lnTo>
                      <a:pt x="1744" y="2420"/>
                    </a:lnTo>
                    <a:lnTo>
                      <a:pt x="1761" y="2405"/>
                    </a:lnTo>
                    <a:lnTo>
                      <a:pt x="1777" y="2388"/>
                    </a:lnTo>
                    <a:lnTo>
                      <a:pt x="1792" y="2371"/>
                    </a:lnTo>
                    <a:lnTo>
                      <a:pt x="1805" y="2354"/>
                    </a:lnTo>
                    <a:lnTo>
                      <a:pt x="1817" y="2336"/>
                    </a:lnTo>
                    <a:lnTo>
                      <a:pt x="1828" y="2318"/>
                    </a:lnTo>
                    <a:lnTo>
                      <a:pt x="1838" y="2299"/>
                    </a:lnTo>
                    <a:lnTo>
                      <a:pt x="1846" y="2279"/>
                    </a:lnTo>
                    <a:lnTo>
                      <a:pt x="1853" y="2259"/>
                    </a:lnTo>
                    <a:lnTo>
                      <a:pt x="1859" y="2238"/>
                    </a:lnTo>
                    <a:lnTo>
                      <a:pt x="1864" y="2217"/>
                    </a:lnTo>
                    <a:lnTo>
                      <a:pt x="1867" y="2196"/>
                    </a:lnTo>
                    <a:lnTo>
                      <a:pt x="1869" y="2173"/>
                    </a:lnTo>
                    <a:lnTo>
                      <a:pt x="1870" y="2151"/>
                    </a:lnTo>
                    <a:lnTo>
                      <a:pt x="1870" y="2132"/>
                    </a:lnTo>
                    <a:lnTo>
                      <a:pt x="1868" y="2113"/>
                    </a:lnTo>
                    <a:lnTo>
                      <a:pt x="1866" y="2095"/>
                    </a:lnTo>
                    <a:lnTo>
                      <a:pt x="1862" y="2077"/>
                    </a:lnTo>
                    <a:lnTo>
                      <a:pt x="1858" y="2059"/>
                    </a:lnTo>
                    <a:lnTo>
                      <a:pt x="1853" y="2043"/>
                    </a:lnTo>
                    <a:lnTo>
                      <a:pt x="1847" y="2027"/>
                    </a:lnTo>
                    <a:lnTo>
                      <a:pt x="1840" y="2011"/>
                    </a:lnTo>
                    <a:lnTo>
                      <a:pt x="1831" y="1996"/>
                    </a:lnTo>
                    <a:lnTo>
                      <a:pt x="1822" y="1981"/>
                    </a:lnTo>
                    <a:lnTo>
                      <a:pt x="1812" y="1966"/>
                    </a:lnTo>
                    <a:lnTo>
                      <a:pt x="1801" y="1952"/>
                    </a:lnTo>
                    <a:lnTo>
                      <a:pt x="1789" y="1938"/>
                    </a:lnTo>
                    <a:lnTo>
                      <a:pt x="1775" y="1925"/>
                    </a:lnTo>
                    <a:lnTo>
                      <a:pt x="1762" y="1912"/>
                    </a:lnTo>
                    <a:lnTo>
                      <a:pt x="1747" y="1900"/>
                    </a:lnTo>
                    <a:lnTo>
                      <a:pt x="1731" y="1887"/>
                    </a:lnTo>
                    <a:lnTo>
                      <a:pt x="1714" y="1875"/>
                    </a:lnTo>
                    <a:lnTo>
                      <a:pt x="1696" y="1864"/>
                    </a:lnTo>
                    <a:lnTo>
                      <a:pt x="1678" y="1852"/>
                    </a:lnTo>
                    <a:lnTo>
                      <a:pt x="1657" y="1841"/>
                    </a:lnTo>
                    <a:lnTo>
                      <a:pt x="1636" y="1830"/>
                    </a:lnTo>
                    <a:lnTo>
                      <a:pt x="1614" y="1819"/>
                    </a:lnTo>
                    <a:lnTo>
                      <a:pt x="1592" y="1809"/>
                    </a:lnTo>
                    <a:lnTo>
                      <a:pt x="1567" y="1799"/>
                    </a:lnTo>
                    <a:lnTo>
                      <a:pt x="1543" y="1789"/>
                    </a:lnTo>
                    <a:lnTo>
                      <a:pt x="1517" y="1779"/>
                    </a:lnTo>
                    <a:lnTo>
                      <a:pt x="1490" y="1769"/>
                    </a:lnTo>
                    <a:lnTo>
                      <a:pt x="1433" y="1749"/>
                    </a:lnTo>
                    <a:lnTo>
                      <a:pt x="1373" y="1731"/>
                    </a:lnTo>
                    <a:lnTo>
                      <a:pt x="1230" y="1688"/>
                    </a:lnTo>
                    <a:lnTo>
                      <a:pt x="1094" y="1648"/>
                    </a:lnTo>
                    <a:lnTo>
                      <a:pt x="1029" y="1627"/>
                    </a:lnTo>
                    <a:lnTo>
                      <a:pt x="967" y="1608"/>
                    </a:lnTo>
                    <a:lnTo>
                      <a:pt x="906" y="1588"/>
                    </a:lnTo>
                    <a:lnTo>
                      <a:pt x="847" y="1569"/>
                    </a:lnTo>
                    <a:lnTo>
                      <a:pt x="790" y="1549"/>
                    </a:lnTo>
                    <a:lnTo>
                      <a:pt x="735" y="1528"/>
                    </a:lnTo>
                    <a:lnTo>
                      <a:pt x="683" y="1508"/>
                    </a:lnTo>
                    <a:lnTo>
                      <a:pt x="633" y="1488"/>
                    </a:lnTo>
                    <a:lnTo>
                      <a:pt x="585" y="1467"/>
                    </a:lnTo>
                    <a:lnTo>
                      <a:pt x="538" y="1445"/>
                    </a:lnTo>
                    <a:lnTo>
                      <a:pt x="495" y="1422"/>
                    </a:lnTo>
                    <a:lnTo>
                      <a:pt x="453" y="1399"/>
                    </a:lnTo>
                    <a:lnTo>
                      <a:pt x="414" y="1375"/>
                    </a:lnTo>
                    <a:lnTo>
                      <a:pt x="378" y="1350"/>
                    </a:lnTo>
                    <a:lnTo>
                      <a:pt x="342" y="1322"/>
                    </a:lnTo>
                    <a:lnTo>
                      <a:pt x="311" y="1295"/>
                    </a:lnTo>
                    <a:lnTo>
                      <a:pt x="281" y="1267"/>
                    </a:lnTo>
                    <a:lnTo>
                      <a:pt x="253" y="1237"/>
                    </a:lnTo>
                    <a:lnTo>
                      <a:pt x="229" y="1204"/>
                    </a:lnTo>
                    <a:lnTo>
                      <a:pt x="206" y="1171"/>
                    </a:lnTo>
                    <a:lnTo>
                      <a:pt x="187" y="1136"/>
                    </a:lnTo>
                    <a:lnTo>
                      <a:pt x="170" y="1099"/>
                    </a:lnTo>
                    <a:lnTo>
                      <a:pt x="155" y="1060"/>
                    </a:lnTo>
                    <a:lnTo>
                      <a:pt x="142" y="1020"/>
                    </a:lnTo>
                    <a:lnTo>
                      <a:pt x="133" y="977"/>
                    </a:lnTo>
                    <a:lnTo>
                      <a:pt x="126" y="932"/>
                    </a:lnTo>
                    <a:lnTo>
                      <a:pt x="122" y="884"/>
                    </a:lnTo>
                    <a:lnTo>
                      <a:pt x="121" y="835"/>
                    </a:lnTo>
                    <a:lnTo>
                      <a:pt x="122" y="789"/>
                    </a:lnTo>
                    <a:lnTo>
                      <a:pt x="126" y="746"/>
                    </a:lnTo>
                    <a:lnTo>
                      <a:pt x="132" y="703"/>
                    </a:lnTo>
                    <a:lnTo>
                      <a:pt x="141" y="660"/>
                    </a:lnTo>
                    <a:lnTo>
                      <a:pt x="153" y="619"/>
                    </a:lnTo>
                    <a:lnTo>
                      <a:pt x="167" y="579"/>
                    </a:lnTo>
                    <a:lnTo>
                      <a:pt x="183" y="539"/>
                    </a:lnTo>
                    <a:lnTo>
                      <a:pt x="201" y="501"/>
                    </a:lnTo>
                    <a:lnTo>
                      <a:pt x="222" y="463"/>
                    </a:lnTo>
                    <a:lnTo>
                      <a:pt x="245" y="427"/>
                    </a:lnTo>
                    <a:lnTo>
                      <a:pt x="271" y="393"/>
                    </a:lnTo>
                    <a:lnTo>
                      <a:pt x="298" y="358"/>
                    </a:lnTo>
                    <a:lnTo>
                      <a:pt x="328" y="326"/>
                    </a:lnTo>
                    <a:lnTo>
                      <a:pt x="360" y="295"/>
                    </a:lnTo>
                    <a:lnTo>
                      <a:pt x="394" y="266"/>
                    </a:lnTo>
                    <a:lnTo>
                      <a:pt x="429" y="236"/>
                    </a:lnTo>
                    <a:lnTo>
                      <a:pt x="468" y="210"/>
                    </a:lnTo>
                    <a:lnTo>
                      <a:pt x="507" y="184"/>
                    </a:lnTo>
                    <a:lnTo>
                      <a:pt x="548" y="160"/>
                    </a:lnTo>
                    <a:lnTo>
                      <a:pt x="592" y="137"/>
                    </a:lnTo>
                    <a:lnTo>
                      <a:pt x="637" y="116"/>
                    </a:lnTo>
                    <a:lnTo>
                      <a:pt x="685" y="97"/>
                    </a:lnTo>
                    <a:lnTo>
                      <a:pt x="733" y="79"/>
                    </a:lnTo>
                    <a:lnTo>
                      <a:pt x="784" y="63"/>
                    </a:lnTo>
                    <a:lnTo>
                      <a:pt x="836" y="49"/>
                    </a:lnTo>
                    <a:lnTo>
                      <a:pt x="890" y="36"/>
                    </a:lnTo>
                    <a:lnTo>
                      <a:pt x="945" y="25"/>
                    </a:lnTo>
                    <a:lnTo>
                      <a:pt x="1002" y="16"/>
                    </a:lnTo>
                    <a:lnTo>
                      <a:pt x="1060" y="9"/>
                    </a:lnTo>
                    <a:lnTo>
                      <a:pt x="1121" y="4"/>
                    </a:lnTo>
                    <a:lnTo>
                      <a:pt x="1182" y="1"/>
                    </a:lnTo>
                    <a:lnTo>
                      <a:pt x="1244" y="0"/>
                    </a:lnTo>
                    <a:lnTo>
                      <a:pt x="1296" y="1"/>
                    </a:lnTo>
                    <a:lnTo>
                      <a:pt x="1345" y="2"/>
                    </a:lnTo>
                    <a:lnTo>
                      <a:pt x="1395" y="5"/>
                    </a:lnTo>
                    <a:lnTo>
                      <a:pt x="1443" y="9"/>
                    </a:lnTo>
                    <a:lnTo>
                      <a:pt x="1491" y="14"/>
                    </a:lnTo>
                    <a:lnTo>
                      <a:pt x="1538" y="21"/>
                    </a:lnTo>
                    <a:lnTo>
                      <a:pt x="1584" y="28"/>
                    </a:lnTo>
                    <a:lnTo>
                      <a:pt x="1628" y="36"/>
                    </a:lnTo>
                    <a:lnTo>
                      <a:pt x="1672" y="47"/>
                    </a:lnTo>
                    <a:lnTo>
                      <a:pt x="1715" y="57"/>
                    </a:lnTo>
                    <a:lnTo>
                      <a:pt x="1757" y="69"/>
                    </a:lnTo>
                    <a:lnTo>
                      <a:pt x="1798" y="82"/>
                    </a:lnTo>
                    <a:lnTo>
                      <a:pt x="1838" y="95"/>
                    </a:lnTo>
                    <a:lnTo>
                      <a:pt x="1876" y="110"/>
                    </a:lnTo>
                    <a:lnTo>
                      <a:pt x="1915" y="126"/>
                    </a:lnTo>
                    <a:lnTo>
                      <a:pt x="1951" y="143"/>
                    </a:lnTo>
                    <a:lnTo>
                      <a:pt x="1987" y="162"/>
                    </a:lnTo>
                    <a:lnTo>
                      <a:pt x="2022" y="181"/>
                    </a:lnTo>
                    <a:lnTo>
                      <a:pt x="2055" y="200"/>
                    </a:lnTo>
                    <a:lnTo>
                      <a:pt x="2087" y="221"/>
                    </a:lnTo>
                    <a:lnTo>
                      <a:pt x="2118" y="243"/>
                    </a:lnTo>
                    <a:lnTo>
                      <a:pt x="2148" y="267"/>
                    </a:lnTo>
                    <a:lnTo>
                      <a:pt x="2176" y="291"/>
                    </a:lnTo>
                    <a:lnTo>
                      <a:pt x="2204" y="316"/>
                    </a:lnTo>
                    <a:lnTo>
                      <a:pt x="2230" y="342"/>
                    </a:lnTo>
                    <a:lnTo>
                      <a:pt x="2254" y="369"/>
                    </a:lnTo>
                    <a:lnTo>
                      <a:pt x="2278" y="397"/>
                    </a:lnTo>
                    <a:lnTo>
                      <a:pt x="2301" y="426"/>
                    </a:lnTo>
                    <a:lnTo>
                      <a:pt x="2321" y="455"/>
                    </a:lnTo>
                    <a:lnTo>
                      <a:pt x="2341" y="486"/>
                    </a:lnTo>
                    <a:lnTo>
                      <a:pt x="2359" y="518"/>
                    </a:lnTo>
                    <a:lnTo>
                      <a:pt x="2375" y="550"/>
                    </a:lnTo>
                    <a:lnTo>
                      <a:pt x="1934" y="785"/>
                    </a:lnTo>
                    <a:lnTo>
                      <a:pt x="1922" y="762"/>
                    </a:lnTo>
                    <a:lnTo>
                      <a:pt x="1909" y="739"/>
                    </a:lnTo>
                    <a:lnTo>
                      <a:pt x="1895" y="717"/>
                    </a:lnTo>
                    <a:lnTo>
                      <a:pt x="1881" y="696"/>
                    </a:lnTo>
                    <a:lnTo>
                      <a:pt x="1864" y="674"/>
                    </a:lnTo>
                    <a:lnTo>
                      <a:pt x="1848" y="654"/>
                    </a:lnTo>
                    <a:lnTo>
                      <a:pt x="1832" y="635"/>
                    </a:lnTo>
                    <a:lnTo>
                      <a:pt x="1814" y="617"/>
                    </a:lnTo>
                    <a:lnTo>
                      <a:pt x="1796" y="599"/>
                    </a:lnTo>
                    <a:lnTo>
                      <a:pt x="1776" y="582"/>
                    </a:lnTo>
                    <a:lnTo>
                      <a:pt x="1757" y="564"/>
                    </a:lnTo>
                    <a:lnTo>
                      <a:pt x="1737" y="549"/>
                    </a:lnTo>
                    <a:lnTo>
                      <a:pt x="1716" y="533"/>
                    </a:lnTo>
                    <a:lnTo>
                      <a:pt x="1695" y="519"/>
                    </a:lnTo>
                    <a:lnTo>
                      <a:pt x="1671" y="506"/>
                    </a:lnTo>
                    <a:lnTo>
                      <a:pt x="1649" y="493"/>
                    </a:lnTo>
                    <a:lnTo>
                      <a:pt x="1626" y="481"/>
                    </a:lnTo>
                    <a:lnTo>
                      <a:pt x="1602" y="468"/>
                    </a:lnTo>
                    <a:lnTo>
                      <a:pt x="1577" y="458"/>
                    </a:lnTo>
                    <a:lnTo>
                      <a:pt x="1551" y="448"/>
                    </a:lnTo>
                    <a:lnTo>
                      <a:pt x="1526" y="439"/>
                    </a:lnTo>
                    <a:lnTo>
                      <a:pt x="1500" y="430"/>
                    </a:lnTo>
                    <a:lnTo>
                      <a:pt x="1472" y="423"/>
                    </a:lnTo>
                    <a:lnTo>
                      <a:pt x="1445" y="416"/>
                    </a:lnTo>
                    <a:lnTo>
                      <a:pt x="1418" y="410"/>
                    </a:lnTo>
                    <a:lnTo>
                      <a:pt x="1389" y="405"/>
                    </a:lnTo>
                    <a:lnTo>
                      <a:pt x="1360" y="400"/>
                    </a:lnTo>
                    <a:lnTo>
                      <a:pt x="1331" y="396"/>
                    </a:lnTo>
                    <a:lnTo>
                      <a:pt x="1301" y="394"/>
                    </a:lnTo>
                    <a:lnTo>
                      <a:pt x="1271" y="392"/>
                    </a:lnTo>
                    <a:lnTo>
                      <a:pt x="1240" y="390"/>
                    </a:lnTo>
                    <a:lnTo>
                      <a:pt x="1209" y="390"/>
                    </a:lnTo>
                    <a:lnTo>
                      <a:pt x="1180" y="390"/>
                    </a:lnTo>
                    <a:lnTo>
                      <a:pt x="1150" y="392"/>
                    </a:lnTo>
                    <a:lnTo>
                      <a:pt x="1122" y="394"/>
                    </a:lnTo>
                    <a:lnTo>
                      <a:pt x="1094" y="398"/>
                    </a:lnTo>
                    <a:lnTo>
                      <a:pt x="1066" y="402"/>
                    </a:lnTo>
                    <a:lnTo>
                      <a:pt x="1040" y="407"/>
                    </a:lnTo>
                    <a:lnTo>
                      <a:pt x="1015" y="413"/>
                    </a:lnTo>
                    <a:lnTo>
                      <a:pt x="990" y="420"/>
                    </a:lnTo>
                    <a:lnTo>
                      <a:pt x="966" y="428"/>
                    </a:lnTo>
                    <a:lnTo>
                      <a:pt x="942" y="437"/>
                    </a:lnTo>
                    <a:lnTo>
                      <a:pt x="919" y="446"/>
                    </a:lnTo>
                    <a:lnTo>
                      <a:pt x="898" y="457"/>
                    </a:lnTo>
                    <a:lnTo>
                      <a:pt x="877" y="468"/>
                    </a:lnTo>
                    <a:lnTo>
                      <a:pt x="856" y="481"/>
                    </a:lnTo>
                    <a:lnTo>
                      <a:pt x="837" y="493"/>
                    </a:lnTo>
                    <a:lnTo>
                      <a:pt x="819" y="507"/>
                    </a:lnTo>
                    <a:lnTo>
                      <a:pt x="802" y="521"/>
                    </a:lnTo>
                    <a:lnTo>
                      <a:pt x="785" y="535"/>
                    </a:lnTo>
                    <a:lnTo>
                      <a:pt x="770" y="550"/>
                    </a:lnTo>
                    <a:lnTo>
                      <a:pt x="755" y="566"/>
                    </a:lnTo>
                    <a:lnTo>
                      <a:pt x="741" y="584"/>
                    </a:lnTo>
                    <a:lnTo>
                      <a:pt x="729" y="601"/>
                    </a:lnTo>
                    <a:lnTo>
                      <a:pt x="718" y="619"/>
                    </a:lnTo>
                    <a:lnTo>
                      <a:pt x="708" y="637"/>
                    </a:lnTo>
                    <a:lnTo>
                      <a:pt x="699" y="656"/>
                    </a:lnTo>
                    <a:lnTo>
                      <a:pt x="691" y="676"/>
                    </a:lnTo>
                    <a:lnTo>
                      <a:pt x="684" y="697"/>
                    </a:lnTo>
                    <a:lnTo>
                      <a:pt x="679" y="717"/>
                    </a:lnTo>
                    <a:lnTo>
                      <a:pt x="675" y="738"/>
                    </a:lnTo>
                    <a:lnTo>
                      <a:pt x="672" y="759"/>
                    </a:lnTo>
                    <a:lnTo>
                      <a:pt x="670" y="781"/>
                    </a:lnTo>
                    <a:lnTo>
                      <a:pt x="669" y="804"/>
                    </a:lnTo>
                    <a:lnTo>
                      <a:pt x="670" y="830"/>
                    </a:lnTo>
                    <a:lnTo>
                      <a:pt x="672" y="855"/>
                    </a:lnTo>
                    <a:lnTo>
                      <a:pt x="677" y="879"/>
                    </a:lnTo>
                    <a:lnTo>
                      <a:pt x="682" y="902"/>
                    </a:lnTo>
                    <a:lnTo>
                      <a:pt x="690" y="923"/>
                    </a:lnTo>
                    <a:lnTo>
                      <a:pt x="699" y="943"/>
                    </a:lnTo>
                    <a:lnTo>
                      <a:pt x="710" y="962"/>
                    </a:lnTo>
                    <a:lnTo>
                      <a:pt x="722" y="980"/>
                    </a:lnTo>
                    <a:lnTo>
                      <a:pt x="736" y="996"/>
                    </a:lnTo>
                    <a:lnTo>
                      <a:pt x="752" y="1013"/>
                    </a:lnTo>
                    <a:lnTo>
                      <a:pt x="770" y="1029"/>
                    </a:lnTo>
                    <a:lnTo>
                      <a:pt x="789" y="1043"/>
                    </a:lnTo>
                    <a:lnTo>
                      <a:pt x="809" y="1057"/>
                    </a:lnTo>
                    <a:lnTo>
                      <a:pt x="831" y="1070"/>
                    </a:lnTo>
                    <a:lnTo>
                      <a:pt x="854" y="1083"/>
                    </a:lnTo>
                    <a:lnTo>
                      <a:pt x="880" y="1095"/>
                    </a:lnTo>
                    <a:lnTo>
                      <a:pt x="907" y="1106"/>
                    </a:lnTo>
                    <a:lnTo>
                      <a:pt x="935" y="1119"/>
                    </a:lnTo>
                    <a:lnTo>
                      <a:pt x="966" y="1130"/>
                    </a:lnTo>
                    <a:lnTo>
                      <a:pt x="997" y="1141"/>
                    </a:lnTo>
                    <a:lnTo>
                      <a:pt x="1063" y="1162"/>
                    </a:lnTo>
                    <a:lnTo>
                      <a:pt x="1136" y="1183"/>
                    </a:lnTo>
                    <a:lnTo>
                      <a:pt x="1300" y="1229"/>
                    </a:lnTo>
                    <a:lnTo>
                      <a:pt x="1487" y="1280"/>
                    </a:lnTo>
                    <a:lnTo>
                      <a:pt x="1543" y="1296"/>
                    </a:lnTo>
                    <a:lnTo>
                      <a:pt x="1599" y="1312"/>
                    </a:lnTo>
                    <a:lnTo>
                      <a:pt x="1652" y="1330"/>
                    </a:lnTo>
                    <a:lnTo>
                      <a:pt x="1704" y="1347"/>
                    </a:lnTo>
                    <a:lnTo>
                      <a:pt x="1753" y="1364"/>
                    </a:lnTo>
                    <a:lnTo>
                      <a:pt x="1802" y="1381"/>
                    </a:lnTo>
                    <a:lnTo>
                      <a:pt x="1847" y="1399"/>
                    </a:lnTo>
                    <a:lnTo>
                      <a:pt x="1892" y="1417"/>
                    </a:lnTo>
                    <a:lnTo>
                      <a:pt x="1934" y="1437"/>
                    </a:lnTo>
                    <a:lnTo>
                      <a:pt x="1975" y="1456"/>
                    </a:lnTo>
                    <a:lnTo>
                      <a:pt x="2014" y="1476"/>
                    </a:lnTo>
                    <a:lnTo>
                      <a:pt x="2051" y="1497"/>
                    </a:lnTo>
                    <a:lnTo>
                      <a:pt x="2087" y="1518"/>
                    </a:lnTo>
                    <a:lnTo>
                      <a:pt x="2120" y="1541"/>
                    </a:lnTo>
                    <a:lnTo>
                      <a:pt x="2151" y="1563"/>
                    </a:lnTo>
                    <a:lnTo>
                      <a:pt x="2180" y="1587"/>
                    </a:lnTo>
                    <a:lnTo>
                      <a:pt x="2209" y="1611"/>
                    </a:lnTo>
                    <a:lnTo>
                      <a:pt x="2235" y="1636"/>
                    </a:lnTo>
                    <a:lnTo>
                      <a:pt x="2259" y="1662"/>
                    </a:lnTo>
                    <a:lnTo>
                      <a:pt x="2281" y="1689"/>
                    </a:lnTo>
                    <a:lnTo>
                      <a:pt x="2303" y="1717"/>
                    </a:lnTo>
                    <a:lnTo>
                      <a:pt x="2321" y="1746"/>
                    </a:lnTo>
                    <a:lnTo>
                      <a:pt x="2338" y="1776"/>
                    </a:lnTo>
                    <a:lnTo>
                      <a:pt x="2353" y="1807"/>
                    </a:lnTo>
                    <a:lnTo>
                      <a:pt x="2367" y="1839"/>
                    </a:lnTo>
                    <a:lnTo>
                      <a:pt x="2378" y="1874"/>
                    </a:lnTo>
                    <a:lnTo>
                      <a:pt x="2389" y="1908"/>
                    </a:lnTo>
                    <a:lnTo>
                      <a:pt x="2397" y="1944"/>
                    </a:lnTo>
                    <a:lnTo>
                      <a:pt x="2403" y="1982"/>
                    </a:lnTo>
                    <a:lnTo>
                      <a:pt x="2408" y="2020"/>
                    </a:lnTo>
                    <a:lnTo>
                      <a:pt x="2410" y="2060"/>
                    </a:lnTo>
                    <a:lnTo>
                      <a:pt x="2411" y="2102"/>
                    </a:lnTo>
                    <a:lnTo>
                      <a:pt x="2410" y="2149"/>
                    </a:lnTo>
                    <a:lnTo>
                      <a:pt x="2406" y="2197"/>
                    </a:lnTo>
                    <a:lnTo>
                      <a:pt x="2400" y="2242"/>
                    </a:lnTo>
                    <a:lnTo>
                      <a:pt x="2391" y="2286"/>
                    </a:lnTo>
                    <a:lnTo>
                      <a:pt x="2378" y="2331"/>
                    </a:lnTo>
                    <a:lnTo>
                      <a:pt x="2364" y="2373"/>
                    </a:lnTo>
                    <a:lnTo>
                      <a:pt x="2348" y="2415"/>
                    </a:lnTo>
                    <a:lnTo>
                      <a:pt x="2329" y="2455"/>
                    </a:lnTo>
                    <a:lnTo>
                      <a:pt x="2308" y="2494"/>
                    </a:lnTo>
                    <a:lnTo>
                      <a:pt x="2283" y="2533"/>
                    </a:lnTo>
                    <a:lnTo>
                      <a:pt x="2258" y="2569"/>
                    </a:lnTo>
                    <a:lnTo>
                      <a:pt x="2230" y="2604"/>
                    </a:lnTo>
                    <a:lnTo>
                      <a:pt x="2200" y="2639"/>
                    </a:lnTo>
                    <a:lnTo>
                      <a:pt x="2167" y="2672"/>
                    </a:lnTo>
                    <a:lnTo>
                      <a:pt x="2132" y="2703"/>
                    </a:lnTo>
                    <a:lnTo>
                      <a:pt x="2096" y="2733"/>
                    </a:lnTo>
                    <a:lnTo>
                      <a:pt x="2056" y="2761"/>
                    </a:lnTo>
                    <a:lnTo>
                      <a:pt x="2016" y="2788"/>
                    </a:lnTo>
                    <a:lnTo>
                      <a:pt x="1972" y="2813"/>
                    </a:lnTo>
                    <a:lnTo>
                      <a:pt x="1928" y="2837"/>
                    </a:lnTo>
                    <a:lnTo>
                      <a:pt x="1882" y="2859"/>
                    </a:lnTo>
                    <a:lnTo>
                      <a:pt x="1833" y="2879"/>
                    </a:lnTo>
                    <a:lnTo>
                      <a:pt x="1783" y="2898"/>
                    </a:lnTo>
                    <a:lnTo>
                      <a:pt x="1730" y="2914"/>
                    </a:lnTo>
                    <a:lnTo>
                      <a:pt x="1675" y="2929"/>
                    </a:lnTo>
                    <a:lnTo>
                      <a:pt x="1620" y="2943"/>
                    </a:lnTo>
                    <a:lnTo>
                      <a:pt x="1562" y="2954"/>
                    </a:lnTo>
                    <a:lnTo>
                      <a:pt x="1504" y="2963"/>
                    </a:lnTo>
                    <a:lnTo>
                      <a:pt x="1443" y="2970"/>
                    </a:lnTo>
                    <a:lnTo>
                      <a:pt x="1381" y="2975"/>
                    </a:lnTo>
                    <a:lnTo>
                      <a:pt x="1317" y="2978"/>
                    </a:lnTo>
                    <a:lnTo>
                      <a:pt x="1251" y="2979"/>
                    </a:lnTo>
                    <a:lnTo>
                      <a:pt x="1197" y="2979"/>
                    </a:lnTo>
                    <a:lnTo>
                      <a:pt x="1143" y="2977"/>
                    </a:lnTo>
                    <a:lnTo>
                      <a:pt x="1091" y="2974"/>
                    </a:lnTo>
                    <a:lnTo>
                      <a:pt x="1038" y="2971"/>
                    </a:lnTo>
                    <a:lnTo>
                      <a:pt x="988" y="2966"/>
                    </a:lnTo>
                    <a:lnTo>
                      <a:pt x="938" y="2959"/>
                    </a:lnTo>
                    <a:lnTo>
                      <a:pt x="890" y="2952"/>
                    </a:lnTo>
                    <a:lnTo>
                      <a:pt x="842" y="2944"/>
                    </a:lnTo>
                    <a:lnTo>
                      <a:pt x="796" y="2934"/>
                    </a:lnTo>
                    <a:lnTo>
                      <a:pt x="750" y="2923"/>
                    </a:lnTo>
                    <a:lnTo>
                      <a:pt x="705" y="2911"/>
                    </a:lnTo>
                    <a:lnTo>
                      <a:pt x="662" y="2898"/>
                    </a:lnTo>
                    <a:lnTo>
                      <a:pt x="619" y="2884"/>
                    </a:lnTo>
                    <a:lnTo>
                      <a:pt x="578" y="2869"/>
                    </a:lnTo>
                    <a:lnTo>
                      <a:pt x="537" y="2853"/>
                    </a:lnTo>
                    <a:lnTo>
                      <a:pt x="498" y="2835"/>
                    </a:lnTo>
                    <a:lnTo>
                      <a:pt x="460" y="2816"/>
                    </a:lnTo>
                    <a:lnTo>
                      <a:pt x="422" y="2796"/>
                    </a:lnTo>
                    <a:lnTo>
                      <a:pt x="386" y="2775"/>
                    </a:lnTo>
                    <a:lnTo>
                      <a:pt x="349" y="2754"/>
                    </a:lnTo>
                    <a:lnTo>
                      <a:pt x="315" y="2731"/>
                    </a:lnTo>
                    <a:lnTo>
                      <a:pt x="282" y="2705"/>
                    </a:lnTo>
                    <a:lnTo>
                      <a:pt x="249" y="2680"/>
                    </a:lnTo>
                    <a:lnTo>
                      <a:pt x="217" y="2654"/>
                    </a:lnTo>
                    <a:lnTo>
                      <a:pt x="187" y="2626"/>
                    </a:lnTo>
                    <a:lnTo>
                      <a:pt x="158" y="2596"/>
                    </a:lnTo>
                    <a:lnTo>
                      <a:pt x="128" y="2566"/>
                    </a:lnTo>
                    <a:lnTo>
                      <a:pt x="101" y="2535"/>
                    </a:lnTo>
                    <a:lnTo>
                      <a:pt x="75" y="2502"/>
                    </a:lnTo>
                    <a:lnTo>
                      <a:pt x="48" y="2469"/>
                    </a:lnTo>
                    <a:lnTo>
                      <a:pt x="24" y="2435"/>
                    </a:lnTo>
                    <a:lnTo>
                      <a:pt x="0" y="2399"/>
                    </a:lnTo>
                    <a:lnTo>
                      <a:pt x="463" y="21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905400" y="6076800"/>
                <a:ext cx="342720" cy="357120"/>
              </a:xfrm>
              <a:custGeom>
                <a:avLst/>
                <a:gdLst/>
                <a:ahLst/>
                <a:rect l="l" t="t" r="r" b="b"/>
                <a:pathLst>
                  <a:path w="3116" h="2985">
                    <a:moveTo>
                      <a:pt x="598" y="1558"/>
                    </a:moveTo>
                    <a:lnTo>
                      <a:pt x="598" y="1563"/>
                    </a:lnTo>
                    <a:lnTo>
                      <a:pt x="598" y="1568"/>
                    </a:lnTo>
                    <a:lnTo>
                      <a:pt x="598" y="1574"/>
                    </a:lnTo>
                    <a:lnTo>
                      <a:pt x="598" y="1579"/>
                    </a:lnTo>
                    <a:lnTo>
                      <a:pt x="598" y="1585"/>
                    </a:lnTo>
                    <a:lnTo>
                      <a:pt x="598" y="1591"/>
                    </a:lnTo>
                    <a:lnTo>
                      <a:pt x="598" y="1596"/>
                    </a:lnTo>
                    <a:lnTo>
                      <a:pt x="598" y="1601"/>
                    </a:lnTo>
                    <a:lnTo>
                      <a:pt x="599" y="1657"/>
                    </a:lnTo>
                    <a:lnTo>
                      <a:pt x="603" y="1711"/>
                    </a:lnTo>
                    <a:lnTo>
                      <a:pt x="609" y="1764"/>
                    </a:lnTo>
                    <a:lnTo>
                      <a:pt x="619" y="1816"/>
                    </a:lnTo>
                    <a:lnTo>
                      <a:pt x="630" y="1865"/>
                    </a:lnTo>
                    <a:lnTo>
                      <a:pt x="643" y="1915"/>
                    </a:lnTo>
                    <a:lnTo>
                      <a:pt x="659" y="1962"/>
                    </a:lnTo>
                    <a:lnTo>
                      <a:pt x="677" y="2009"/>
                    </a:lnTo>
                    <a:lnTo>
                      <a:pt x="697" y="2053"/>
                    </a:lnTo>
                    <a:lnTo>
                      <a:pt x="720" y="2096"/>
                    </a:lnTo>
                    <a:lnTo>
                      <a:pt x="744" y="2137"/>
                    </a:lnTo>
                    <a:lnTo>
                      <a:pt x="770" y="2177"/>
                    </a:lnTo>
                    <a:lnTo>
                      <a:pt x="798" y="2216"/>
                    </a:lnTo>
                    <a:lnTo>
                      <a:pt x="829" y="2252"/>
                    </a:lnTo>
                    <a:lnTo>
                      <a:pt x="861" y="2287"/>
                    </a:lnTo>
                    <a:lnTo>
                      <a:pt x="895" y="2321"/>
                    </a:lnTo>
                    <a:lnTo>
                      <a:pt x="931" y="2352"/>
                    </a:lnTo>
                    <a:lnTo>
                      <a:pt x="969" y="2381"/>
                    </a:lnTo>
                    <a:lnTo>
                      <a:pt x="1008" y="2410"/>
                    </a:lnTo>
                    <a:lnTo>
                      <a:pt x="1049" y="2435"/>
                    </a:lnTo>
                    <a:lnTo>
                      <a:pt x="1091" y="2459"/>
                    </a:lnTo>
                    <a:lnTo>
                      <a:pt x="1136" y="2481"/>
                    </a:lnTo>
                    <a:lnTo>
                      <a:pt x="1181" y="2501"/>
                    </a:lnTo>
                    <a:lnTo>
                      <a:pt x="1229" y="2520"/>
                    </a:lnTo>
                    <a:lnTo>
                      <a:pt x="1277" y="2536"/>
                    </a:lnTo>
                    <a:lnTo>
                      <a:pt x="1327" y="2550"/>
                    </a:lnTo>
                    <a:lnTo>
                      <a:pt x="1378" y="2562"/>
                    </a:lnTo>
                    <a:lnTo>
                      <a:pt x="1431" y="2572"/>
                    </a:lnTo>
                    <a:lnTo>
                      <a:pt x="1484" y="2580"/>
                    </a:lnTo>
                    <a:lnTo>
                      <a:pt x="1539" y="2585"/>
                    </a:lnTo>
                    <a:lnTo>
                      <a:pt x="1594" y="2589"/>
                    </a:lnTo>
                    <a:lnTo>
                      <a:pt x="1651" y="2590"/>
                    </a:lnTo>
                    <a:lnTo>
                      <a:pt x="1691" y="2589"/>
                    </a:lnTo>
                    <a:lnTo>
                      <a:pt x="1730" y="2587"/>
                    </a:lnTo>
                    <a:lnTo>
                      <a:pt x="1769" y="2584"/>
                    </a:lnTo>
                    <a:lnTo>
                      <a:pt x="1807" y="2580"/>
                    </a:lnTo>
                    <a:lnTo>
                      <a:pt x="1845" y="2575"/>
                    </a:lnTo>
                    <a:lnTo>
                      <a:pt x="1882" y="2569"/>
                    </a:lnTo>
                    <a:lnTo>
                      <a:pt x="1918" y="2561"/>
                    </a:lnTo>
                    <a:lnTo>
                      <a:pt x="1955" y="2553"/>
                    </a:lnTo>
                    <a:lnTo>
                      <a:pt x="1991" y="2543"/>
                    </a:lnTo>
                    <a:lnTo>
                      <a:pt x="2026" y="2532"/>
                    </a:lnTo>
                    <a:lnTo>
                      <a:pt x="2061" y="2520"/>
                    </a:lnTo>
                    <a:lnTo>
                      <a:pt x="2095" y="2506"/>
                    </a:lnTo>
                    <a:lnTo>
                      <a:pt x="2129" y="2491"/>
                    </a:lnTo>
                    <a:lnTo>
                      <a:pt x="2163" y="2476"/>
                    </a:lnTo>
                    <a:lnTo>
                      <a:pt x="2195" y="2459"/>
                    </a:lnTo>
                    <a:lnTo>
                      <a:pt x="2227" y="2441"/>
                    </a:lnTo>
                    <a:lnTo>
                      <a:pt x="2260" y="2422"/>
                    </a:lnTo>
                    <a:lnTo>
                      <a:pt x="2291" y="2401"/>
                    </a:lnTo>
                    <a:lnTo>
                      <a:pt x="2322" y="2379"/>
                    </a:lnTo>
                    <a:lnTo>
                      <a:pt x="2353" y="2357"/>
                    </a:lnTo>
                    <a:lnTo>
                      <a:pt x="2383" y="2333"/>
                    </a:lnTo>
                    <a:lnTo>
                      <a:pt x="2412" y="2308"/>
                    </a:lnTo>
                    <a:lnTo>
                      <a:pt x="2442" y="2281"/>
                    </a:lnTo>
                    <a:lnTo>
                      <a:pt x="2470" y="2253"/>
                    </a:lnTo>
                    <a:lnTo>
                      <a:pt x="2498" y="2225"/>
                    </a:lnTo>
                    <a:lnTo>
                      <a:pt x="2526" y="2195"/>
                    </a:lnTo>
                    <a:lnTo>
                      <a:pt x="2553" y="2163"/>
                    </a:lnTo>
                    <a:lnTo>
                      <a:pt x="2580" y="2131"/>
                    </a:lnTo>
                    <a:lnTo>
                      <a:pt x="2606" y="2098"/>
                    </a:lnTo>
                    <a:lnTo>
                      <a:pt x="2632" y="2063"/>
                    </a:lnTo>
                    <a:lnTo>
                      <a:pt x="2658" y="2027"/>
                    </a:lnTo>
                    <a:lnTo>
                      <a:pt x="2682" y="1991"/>
                    </a:lnTo>
                    <a:lnTo>
                      <a:pt x="3095" y="2231"/>
                    </a:lnTo>
                    <a:lnTo>
                      <a:pt x="3065" y="2277"/>
                    </a:lnTo>
                    <a:lnTo>
                      <a:pt x="3032" y="2323"/>
                    </a:lnTo>
                    <a:lnTo>
                      <a:pt x="3000" y="2366"/>
                    </a:lnTo>
                    <a:lnTo>
                      <a:pt x="2967" y="2408"/>
                    </a:lnTo>
                    <a:lnTo>
                      <a:pt x="2931" y="2448"/>
                    </a:lnTo>
                    <a:lnTo>
                      <a:pt x="2896" y="2487"/>
                    </a:lnTo>
                    <a:lnTo>
                      <a:pt x="2860" y="2525"/>
                    </a:lnTo>
                    <a:lnTo>
                      <a:pt x="2821" y="2560"/>
                    </a:lnTo>
                    <a:lnTo>
                      <a:pt x="2783" y="2595"/>
                    </a:lnTo>
                    <a:lnTo>
                      <a:pt x="2743" y="2629"/>
                    </a:lnTo>
                    <a:lnTo>
                      <a:pt x="2702" y="2660"/>
                    </a:lnTo>
                    <a:lnTo>
                      <a:pt x="2661" y="2690"/>
                    </a:lnTo>
                    <a:lnTo>
                      <a:pt x="2618" y="2718"/>
                    </a:lnTo>
                    <a:lnTo>
                      <a:pt x="2574" y="2746"/>
                    </a:lnTo>
                    <a:lnTo>
                      <a:pt x="2529" y="2772"/>
                    </a:lnTo>
                    <a:lnTo>
                      <a:pt x="2484" y="2796"/>
                    </a:lnTo>
                    <a:lnTo>
                      <a:pt x="2437" y="2819"/>
                    </a:lnTo>
                    <a:lnTo>
                      <a:pt x="2390" y="2841"/>
                    </a:lnTo>
                    <a:lnTo>
                      <a:pt x="2341" y="2861"/>
                    </a:lnTo>
                    <a:lnTo>
                      <a:pt x="2291" y="2879"/>
                    </a:lnTo>
                    <a:lnTo>
                      <a:pt x="2241" y="2896"/>
                    </a:lnTo>
                    <a:lnTo>
                      <a:pt x="2189" y="2911"/>
                    </a:lnTo>
                    <a:lnTo>
                      <a:pt x="2137" y="2925"/>
                    </a:lnTo>
                    <a:lnTo>
                      <a:pt x="2084" y="2939"/>
                    </a:lnTo>
                    <a:lnTo>
                      <a:pt x="2029" y="2950"/>
                    </a:lnTo>
                    <a:lnTo>
                      <a:pt x="1974" y="2959"/>
                    </a:lnTo>
                    <a:lnTo>
                      <a:pt x="1917" y="2967"/>
                    </a:lnTo>
                    <a:lnTo>
                      <a:pt x="1861" y="2974"/>
                    </a:lnTo>
                    <a:lnTo>
                      <a:pt x="1802" y="2979"/>
                    </a:lnTo>
                    <a:lnTo>
                      <a:pt x="1744" y="2983"/>
                    </a:lnTo>
                    <a:lnTo>
                      <a:pt x="1683" y="2985"/>
                    </a:lnTo>
                    <a:lnTo>
                      <a:pt x="1622" y="2985"/>
                    </a:lnTo>
                    <a:lnTo>
                      <a:pt x="1533" y="2984"/>
                    </a:lnTo>
                    <a:lnTo>
                      <a:pt x="1445" y="2979"/>
                    </a:lnTo>
                    <a:lnTo>
                      <a:pt x="1359" y="2970"/>
                    </a:lnTo>
                    <a:lnTo>
                      <a:pt x="1275" y="2958"/>
                    </a:lnTo>
                    <a:lnTo>
                      <a:pt x="1193" y="2943"/>
                    </a:lnTo>
                    <a:lnTo>
                      <a:pt x="1113" y="2923"/>
                    </a:lnTo>
                    <a:lnTo>
                      <a:pt x="1037" y="2902"/>
                    </a:lnTo>
                    <a:lnTo>
                      <a:pt x="961" y="2877"/>
                    </a:lnTo>
                    <a:lnTo>
                      <a:pt x="888" y="2849"/>
                    </a:lnTo>
                    <a:lnTo>
                      <a:pt x="818" y="2817"/>
                    </a:lnTo>
                    <a:lnTo>
                      <a:pt x="750" y="2783"/>
                    </a:lnTo>
                    <a:lnTo>
                      <a:pt x="684" y="2746"/>
                    </a:lnTo>
                    <a:lnTo>
                      <a:pt x="622" y="2706"/>
                    </a:lnTo>
                    <a:lnTo>
                      <a:pt x="561" y="2664"/>
                    </a:lnTo>
                    <a:lnTo>
                      <a:pt x="503" y="2618"/>
                    </a:lnTo>
                    <a:lnTo>
                      <a:pt x="449" y="2570"/>
                    </a:lnTo>
                    <a:lnTo>
                      <a:pt x="397" y="2519"/>
                    </a:lnTo>
                    <a:lnTo>
                      <a:pt x="348" y="2465"/>
                    </a:lnTo>
                    <a:lnTo>
                      <a:pt x="302" y="2410"/>
                    </a:lnTo>
                    <a:lnTo>
                      <a:pt x="259" y="2351"/>
                    </a:lnTo>
                    <a:lnTo>
                      <a:pt x="219" y="2290"/>
                    </a:lnTo>
                    <a:lnTo>
                      <a:pt x="182" y="2227"/>
                    </a:lnTo>
                    <a:lnTo>
                      <a:pt x="149" y="2161"/>
                    </a:lnTo>
                    <a:lnTo>
                      <a:pt x="119" y="2094"/>
                    </a:lnTo>
                    <a:lnTo>
                      <a:pt x="91" y="2024"/>
                    </a:lnTo>
                    <a:lnTo>
                      <a:pt x="68" y="1951"/>
                    </a:lnTo>
                    <a:lnTo>
                      <a:pt x="48" y="1878"/>
                    </a:lnTo>
                    <a:lnTo>
                      <a:pt x="31" y="1801"/>
                    </a:lnTo>
                    <a:lnTo>
                      <a:pt x="18" y="1723"/>
                    </a:lnTo>
                    <a:lnTo>
                      <a:pt x="9" y="1643"/>
                    </a:lnTo>
                    <a:lnTo>
                      <a:pt x="3" y="1561"/>
                    </a:lnTo>
                    <a:lnTo>
                      <a:pt x="0" y="1477"/>
                    </a:lnTo>
                    <a:lnTo>
                      <a:pt x="3" y="1396"/>
                    </a:lnTo>
                    <a:lnTo>
                      <a:pt x="9" y="1317"/>
                    </a:lnTo>
                    <a:lnTo>
                      <a:pt x="18" y="1240"/>
                    </a:lnTo>
                    <a:lnTo>
                      <a:pt x="31" y="1164"/>
                    </a:lnTo>
                    <a:lnTo>
                      <a:pt x="48" y="1089"/>
                    </a:lnTo>
                    <a:lnTo>
                      <a:pt x="68" y="1018"/>
                    </a:lnTo>
                    <a:lnTo>
                      <a:pt x="91" y="947"/>
                    </a:lnTo>
                    <a:lnTo>
                      <a:pt x="119" y="879"/>
                    </a:lnTo>
                    <a:lnTo>
                      <a:pt x="149" y="813"/>
                    </a:lnTo>
                    <a:lnTo>
                      <a:pt x="182" y="748"/>
                    </a:lnTo>
                    <a:lnTo>
                      <a:pt x="220" y="686"/>
                    </a:lnTo>
                    <a:lnTo>
                      <a:pt x="259" y="627"/>
                    </a:lnTo>
                    <a:lnTo>
                      <a:pt x="301" y="569"/>
                    </a:lnTo>
                    <a:lnTo>
                      <a:pt x="347" y="515"/>
                    </a:lnTo>
                    <a:lnTo>
                      <a:pt x="396" y="462"/>
                    </a:lnTo>
                    <a:lnTo>
                      <a:pt x="447" y="412"/>
                    </a:lnTo>
                    <a:lnTo>
                      <a:pt x="501" y="364"/>
                    </a:lnTo>
                    <a:lnTo>
                      <a:pt x="558" y="319"/>
                    </a:lnTo>
                    <a:lnTo>
                      <a:pt x="618" y="278"/>
                    </a:lnTo>
                    <a:lnTo>
                      <a:pt x="679" y="237"/>
                    </a:lnTo>
                    <a:lnTo>
                      <a:pt x="743" y="201"/>
                    </a:lnTo>
                    <a:lnTo>
                      <a:pt x="809" y="168"/>
                    </a:lnTo>
                    <a:lnTo>
                      <a:pt x="878" y="136"/>
                    </a:lnTo>
                    <a:lnTo>
                      <a:pt x="949" y="108"/>
                    </a:lnTo>
                    <a:lnTo>
                      <a:pt x="1023" y="84"/>
                    </a:lnTo>
                    <a:lnTo>
                      <a:pt x="1097" y="62"/>
                    </a:lnTo>
                    <a:lnTo>
                      <a:pt x="1174" y="43"/>
                    </a:lnTo>
                    <a:lnTo>
                      <a:pt x="1253" y="27"/>
                    </a:lnTo>
                    <a:lnTo>
                      <a:pt x="1335" y="16"/>
                    </a:lnTo>
                    <a:lnTo>
                      <a:pt x="1416" y="7"/>
                    </a:lnTo>
                    <a:lnTo>
                      <a:pt x="1501" y="2"/>
                    </a:lnTo>
                    <a:lnTo>
                      <a:pt x="1587" y="0"/>
                    </a:lnTo>
                    <a:lnTo>
                      <a:pt x="1673" y="2"/>
                    </a:lnTo>
                    <a:lnTo>
                      <a:pt x="1758" y="6"/>
                    </a:lnTo>
                    <a:lnTo>
                      <a:pt x="1840" y="14"/>
                    </a:lnTo>
                    <a:lnTo>
                      <a:pt x="1920" y="25"/>
                    </a:lnTo>
                    <a:lnTo>
                      <a:pt x="1998" y="39"/>
                    </a:lnTo>
                    <a:lnTo>
                      <a:pt x="2074" y="57"/>
                    </a:lnTo>
                    <a:lnTo>
                      <a:pt x="2148" y="77"/>
                    </a:lnTo>
                    <a:lnTo>
                      <a:pt x="2219" y="100"/>
                    </a:lnTo>
                    <a:lnTo>
                      <a:pt x="2288" y="126"/>
                    </a:lnTo>
                    <a:lnTo>
                      <a:pt x="2355" y="155"/>
                    </a:lnTo>
                    <a:lnTo>
                      <a:pt x="2418" y="188"/>
                    </a:lnTo>
                    <a:lnTo>
                      <a:pt x="2480" y="222"/>
                    </a:lnTo>
                    <a:lnTo>
                      <a:pt x="2539" y="260"/>
                    </a:lnTo>
                    <a:lnTo>
                      <a:pt x="2596" y="301"/>
                    </a:lnTo>
                    <a:lnTo>
                      <a:pt x="2650" y="343"/>
                    </a:lnTo>
                    <a:lnTo>
                      <a:pt x="2701" y="390"/>
                    </a:lnTo>
                    <a:lnTo>
                      <a:pt x="2750" y="438"/>
                    </a:lnTo>
                    <a:lnTo>
                      <a:pt x="2795" y="490"/>
                    </a:lnTo>
                    <a:lnTo>
                      <a:pt x="2837" y="543"/>
                    </a:lnTo>
                    <a:lnTo>
                      <a:pt x="2878" y="600"/>
                    </a:lnTo>
                    <a:lnTo>
                      <a:pt x="2915" y="658"/>
                    </a:lnTo>
                    <a:lnTo>
                      <a:pt x="2950" y="720"/>
                    </a:lnTo>
                    <a:lnTo>
                      <a:pt x="2980" y="783"/>
                    </a:lnTo>
                    <a:lnTo>
                      <a:pt x="3008" y="850"/>
                    </a:lnTo>
                    <a:lnTo>
                      <a:pt x="3033" y="919"/>
                    </a:lnTo>
                    <a:lnTo>
                      <a:pt x="3055" y="990"/>
                    </a:lnTo>
                    <a:lnTo>
                      <a:pt x="3074" y="1064"/>
                    </a:lnTo>
                    <a:lnTo>
                      <a:pt x="3089" y="1140"/>
                    </a:lnTo>
                    <a:lnTo>
                      <a:pt x="3100" y="1217"/>
                    </a:lnTo>
                    <a:lnTo>
                      <a:pt x="3109" y="1298"/>
                    </a:lnTo>
                    <a:lnTo>
                      <a:pt x="3114" y="1380"/>
                    </a:lnTo>
                    <a:lnTo>
                      <a:pt x="3116" y="1465"/>
                    </a:lnTo>
                    <a:lnTo>
                      <a:pt x="3116" y="1477"/>
                    </a:lnTo>
                    <a:lnTo>
                      <a:pt x="3116" y="1488"/>
                    </a:lnTo>
                    <a:lnTo>
                      <a:pt x="3116" y="1500"/>
                    </a:lnTo>
                    <a:lnTo>
                      <a:pt x="3116" y="1511"/>
                    </a:lnTo>
                    <a:lnTo>
                      <a:pt x="3116" y="1523"/>
                    </a:lnTo>
                    <a:lnTo>
                      <a:pt x="3116" y="1534"/>
                    </a:lnTo>
                    <a:lnTo>
                      <a:pt x="3116" y="1547"/>
                    </a:lnTo>
                    <a:lnTo>
                      <a:pt x="3116" y="1558"/>
                    </a:lnTo>
                    <a:lnTo>
                      <a:pt x="598" y="1558"/>
                    </a:lnTo>
                    <a:close/>
                    <a:moveTo>
                      <a:pt x="1566" y="414"/>
                    </a:moveTo>
                    <a:lnTo>
                      <a:pt x="1517" y="415"/>
                    </a:lnTo>
                    <a:lnTo>
                      <a:pt x="1470" y="418"/>
                    </a:lnTo>
                    <a:lnTo>
                      <a:pt x="1423" y="422"/>
                    </a:lnTo>
                    <a:lnTo>
                      <a:pt x="1377" y="428"/>
                    </a:lnTo>
                    <a:lnTo>
                      <a:pt x="1333" y="435"/>
                    </a:lnTo>
                    <a:lnTo>
                      <a:pt x="1288" y="444"/>
                    </a:lnTo>
                    <a:lnTo>
                      <a:pt x="1246" y="454"/>
                    </a:lnTo>
                    <a:lnTo>
                      <a:pt x="1203" y="467"/>
                    </a:lnTo>
                    <a:lnTo>
                      <a:pt x="1163" y="481"/>
                    </a:lnTo>
                    <a:lnTo>
                      <a:pt x="1123" y="496"/>
                    </a:lnTo>
                    <a:lnTo>
                      <a:pt x="1084" y="513"/>
                    </a:lnTo>
                    <a:lnTo>
                      <a:pt x="1047" y="531"/>
                    </a:lnTo>
                    <a:lnTo>
                      <a:pt x="1010" y="550"/>
                    </a:lnTo>
                    <a:lnTo>
                      <a:pt x="975" y="571"/>
                    </a:lnTo>
                    <a:lnTo>
                      <a:pt x="941" y="595"/>
                    </a:lnTo>
                    <a:lnTo>
                      <a:pt x="908" y="618"/>
                    </a:lnTo>
                    <a:lnTo>
                      <a:pt x="877" y="643"/>
                    </a:lnTo>
                    <a:lnTo>
                      <a:pt x="848" y="670"/>
                    </a:lnTo>
                    <a:lnTo>
                      <a:pt x="820" y="699"/>
                    </a:lnTo>
                    <a:lnTo>
                      <a:pt x="792" y="728"/>
                    </a:lnTo>
                    <a:lnTo>
                      <a:pt x="767" y="758"/>
                    </a:lnTo>
                    <a:lnTo>
                      <a:pt x="744" y="790"/>
                    </a:lnTo>
                    <a:lnTo>
                      <a:pt x="721" y="823"/>
                    </a:lnTo>
                    <a:lnTo>
                      <a:pt x="700" y="857"/>
                    </a:lnTo>
                    <a:lnTo>
                      <a:pt x="681" y="893"/>
                    </a:lnTo>
                    <a:lnTo>
                      <a:pt x="664" y="930"/>
                    </a:lnTo>
                    <a:lnTo>
                      <a:pt x="649" y="968"/>
                    </a:lnTo>
                    <a:lnTo>
                      <a:pt x="635" y="1006"/>
                    </a:lnTo>
                    <a:lnTo>
                      <a:pt x="623" y="1047"/>
                    </a:lnTo>
                    <a:lnTo>
                      <a:pt x="613" y="1088"/>
                    </a:lnTo>
                    <a:lnTo>
                      <a:pt x="604" y="1131"/>
                    </a:lnTo>
                    <a:lnTo>
                      <a:pt x="598" y="1174"/>
                    </a:lnTo>
                    <a:lnTo>
                      <a:pt x="2532" y="1174"/>
                    </a:lnTo>
                    <a:lnTo>
                      <a:pt x="2528" y="1130"/>
                    </a:lnTo>
                    <a:lnTo>
                      <a:pt x="2522" y="1085"/>
                    </a:lnTo>
                    <a:lnTo>
                      <a:pt x="2514" y="1043"/>
                    </a:lnTo>
                    <a:lnTo>
                      <a:pt x="2505" y="1001"/>
                    </a:lnTo>
                    <a:lnTo>
                      <a:pt x="2493" y="962"/>
                    </a:lnTo>
                    <a:lnTo>
                      <a:pt x="2480" y="923"/>
                    </a:lnTo>
                    <a:lnTo>
                      <a:pt x="2465" y="885"/>
                    </a:lnTo>
                    <a:lnTo>
                      <a:pt x="2448" y="850"/>
                    </a:lnTo>
                    <a:lnTo>
                      <a:pt x="2429" y="815"/>
                    </a:lnTo>
                    <a:lnTo>
                      <a:pt x="2409" y="781"/>
                    </a:lnTo>
                    <a:lnTo>
                      <a:pt x="2387" y="750"/>
                    </a:lnTo>
                    <a:lnTo>
                      <a:pt x="2363" y="720"/>
                    </a:lnTo>
                    <a:lnTo>
                      <a:pt x="2337" y="690"/>
                    </a:lnTo>
                    <a:lnTo>
                      <a:pt x="2310" y="662"/>
                    </a:lnTo>
                    <a:lnTo>
                      <a:pt x="2282" y="636"/>
                    </a:lnTo>
                    <a:lnTo>
                      <a:pt x="2252" y="611"/>
                    </a:lnTo>
                    <a:lnTo>
                      <a:pt x="2220" y="588"/>
                    </a:lnTo>
                    <a:lnTo>
                      <a:pt x="2187" y="565"/>
                    </a:lnTo>
                    <a:lnTo>
                      <a:pt x="2152" y="545"/>
                    </a:lnTo>
                    <a:lnTo>
                      <a:pt x="2115" y="526"/>
                    </a:lnTo>
                    <a:lnTo>
                      <a:pt x="2078" y="509"/>
                    </a:lnTo>
                    <a:lnTo>
                      <a:pt x="2038" y="493"/>
                    </a:lnTo>
                    <a:lnTo>
                      <a:pt x="1997" y="478"/>
                    </a:lnTo>
                    <a:lnTo>
                      <a:pt x="1955" y="464"/>
                    </a:lnTo>
                    <a:lnTo>
                      <a:pt x="1911" y="452"/>
                    </a:lnTo>
                    <a:lnTo>
                      <a:pt x="1866" y="442"/>
                    </a:lnTo>
                    <a:lnTo>
                      <a:pt x="1819" y="434"/>
                    </a:lnTo>
                    <a:lnTo>
                      <a:pt x="1771" y="427"/>
                    </a:lnTo>
                    <a:lnTo>
                      <a:pt x="1721" y="421"/>
                    </a:lnTo>
                    <a:lnTo>
                      <a:pt x="1671" y="417"/>
                    </a:lnTo>
                    <a:lnTo>
                      <a:pt x="1619" y="415"/>
                    </a:lnTo>
                    <a:lnTo>
                      <a:pt x="1566" y="4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1339200" y="6076800"/>
                <a:ext cx="210960" cy="353520"/>
              </a:xfrm>
              <a:custGeom>
                <a:avLst/>
                <a:gdLst/>
                <a:ahLst/>
                <a:rect l="l" t="t" r="r" b="b"/>
                <a:pathLst>
                  <a:path w="1921" h="2955">
                    <a:moveTo>
                      <a:pt x="0" y="59"/>
                    </a:moveTo>
                    <a:lnTo>
                      <a:pt x="540" y="59"/>
                    </a:lnTo>
                    <a:lnTo>
                      <a:pt x="540" y="596"/>
                    </a:lnTo>
                    <a:lnTo>
                      <a:pt x="566" y="558"/>
                    </a:lnTo>
                    <a:lnTo>
                      <a:pt x="592" y="522"/>
                    </a:lnTo>
                    <a:lnTo>
                      <a:pt x="618" y="487"/>
                    </a:lnTo>
                    <a:lnTo>
                      <a:pt x="645" y="453"/>
                    </a:lnTo>
                    <a:lnTo>
                      <a:pt x="671" y="421"/>
                    </a:lnTo>
                    <a:lnTo>
                      <a:pt x="696" y="390"/>
                    </a:lnTo>
                    <a:lnTo>
                      <a:pt x="722" y="359"/>
                    </a:lnTo>
                    <a:lnTo>
                      <a:pt x="749" y="331"/>
                    </a:lnTo>
                    <a:lnTo>
                      <a:pt x="776" y="303"/>
                    </a:lnTo>
                    <a:lnTo>
                      <a:pt x="802" y="277"/>
                    </a:lnTo>
                    <a:lnTo>
                      <a:pt x="829" y="252"/>
                    </a:lnTo>
                    <a:lnTo>
                      <a:pt x="857" y="228"/>
                    </a:lnTo>
                    <a:lnTo>
                      <a:pt x="884" y="206"/>
                    </a:lnTo>
                    <a:lnTo>
                      <a:pt x="912" y="184"/>
                    </a:lnTo>
                    <a:lnTo>
                      <a:pt x="940" y="165"/>
                    </a:lnTo>
                    <a:lnTo>
                      <a:pt x="970" y="145"/>
                    </a:lnTo>
                    <a:lnTo>
                      <a:pt x="999" y="127"/>
                    </a:lnTo>
                    <a:lnTo>
                      <a:pt x="1029" y="111"/>
                    </a:lnTo>
                    <a:lnTo>
                      <a:pt x="1061" y="95"/>
                    </a:lnTo>
                    <a:lnTo>
                      <a:pt x="1092" y="81"/>
                    </a:lnTo>
                    <a:lnTo>
                      <a:pt x="1124" y="68"/>
                    </a:lnTo>
                    <a:lnTo>
                      <a:pt x="1158" y="57"/>
                    </a:lnTo>
                    <a:lnTo>
                      <a:pt x="1192" y="45"/>
                    </a:lnTo>
                    <a:lnTo>
                      <a:pt x="1227" y="35"/>
                    </a:lnTo>
                    <a:lnTo>
                      <a:pt x="1264" y="27"/>
                    </a:lnTo>
                    <a:lnTo>
                      <a:pt x="1301" y="20"/>
                    </a:lnTo>
                    <a:lnTo>
                      <a:pt x="1339" y="14"/>
                    </a:lnTo>
                    <a:lnTo>
                      <a:pt x="1379" y="9"/>
                    </a:lnTo>
                    <a:lnTo>
                      <a:pt x="1419" y="5"/>
                    </a:lnTo>
                    <a:lnTo>
                      <a:pt x="1462" y="2"/>
                    </a:lnTo>
                    <a:lnTo>
                      <a:pt x="1505" y="1"/>
                    </a:lnTo>
                    <a:lnTo>
                      <a:pt x="1549" y="0"/>
                    </a:lnTo>
                    <a:lnTo>
                      <a:pt x="1573" y="0"/>
                    </a:lnTo>
                    <a:lnTo>
                      <a:pt x="1597" y="2"/>
                    </a:lnTo>
                    <a:lnTo>
                      <a:pt x="1620" y="3"/>
                    </a:lnTo>
                    <a:lnTo>
                      <a:pt x="1644" y="6"/>
                    </a:lnTo>
                    <a:lnTo>
                      <a:pt x="1668" y="9"/>
                    </a:lnTo>
                    <a:lnTo>
                      <a:pt x="1691" y="13"/>
                    </a:lnTo>
                    <a:lnTo>
                      <a:pt x="1714" y="17"/>
                    </a:lnTo>
                    <a:lnTo>
                      <a:pt x="1737" y="22"/>
                    </a:lnTo>
                    <a:lnTo>
                      <a:pt x="1784" y="33"/>
                    </a:lnTo>
                    <a:lnTo>
                      <a:pt x="1830" y="45"/>
                    </a:lnTo>
                    <a:lnTo>
                      <a:pt x="1876" y="59"/>
                    </a:lnTo>
                    <a:lnTo>
                      <a:pt x="1921" y="72"/>
                    </a:lnTo>
                    <a:lnTo>
                      <a:pt x="1736" y="499"/>
                    </a:lnTo>
                    <a:lnTo>
                      <a:pt x="1691" y="486"/>
                    </a:lnTo>
                    <a:lnTo>
                      <a:pt x="1646" y="474"/>
                    </a:lnTo>
                    <a:lnTo>
                      <a:pt x="1603" y="464"/>
                    </a:lnTo>
                    <a:lnTo>
                      <a:pt x="1561" y="457"/>
                    </a:lnTo>
                    <a:lnTo>
                      <a:pt x="1519" y="451"/>
                    </a:lnTo>
                    <a:lnTo>
                      <a:pt x="1479" y="446"/>
                    </a:lnTo>
                    <a:lnTo>
                      <a:pt x="1439" y="444"/>
                    </a:lnTo>
                    <a:lnTo>
                      <a:pt x="1402" y="443"/>
                    </a:lnTo>
                    <a:lnTo>
                      <a:pt x="1349" y="444"/>
                    </a:lnTo>
                    <a:lnTo>
                      <a:pt x="1297" y="447"/>
                    </a:lnTo>
                    <a:lnTo>
                      <a:pt x="1248" y="452"/>
                    </a:lnTo>
                    <a:lnTo>
                      <a:pt x="1199" y="459"/>
                    </a:lnTo>
                    <a:lnTo>
                      <a:pt x="1153" y="469"/>
                    </a:lnTo>
                    <a:lnTo>
                      <a:pt x="1108" y="480"/>
                    </a:lnTo>
                    <a:lnTo>
                      <a:pt x="1066" y="495"/>
                    </a:lnTo>
                    <a:lnTo>
                      <a:pt x="1024" y="510"/>
                    </a:lnTo>
                    <a:lnTo>
                      <a:pt x="985" y="528"/>
                    </a:lnTo>
                    <a:lnTo>
                      <a:pt x="947" y="548"/>
                    </a:lnTo>
                    <a:lnTo>
                      <a:pt x="910" y="570"/>
                    </a:lnTo>
                    <a:lnTo>
                      <a:pt x="876" y="595"/>
                    </a:lnTo>
                    <a:lnTo>
                      <a:pt x="844" y="621"/>
                    </a:lnTo>
                    <a:lnTo>
                      <a:pt x="812" y="649"/>
                    </a:lnTo>
                    <a:lnTo>
                      <a:pt x="783" y="679"/>
                    </a:lnTo>
                    <a:lnTo>
                      <a:pt x="756" y="713"/>
                    </a:lnTo>
                    <a:lnTo>
                      <a:pt x="729" y="747"/>
                    </a:lnTo>
                    <a:lnTo>
                      <a:pt x="705" y="784"/>
                    </a:lnTo>
                    <a:lnTo>
                      <a:pt x="682" y="824"/>
                    </a:lnTo>
                    <a:lnTo>
                      <a:pt x="662" y="864"/>
                    </a:lnTo>
                    <a:lnTo>
                      <a:pt x="643" y="907"/>
                    </a:lnTo>
                    <a:lnTo>
                      <a:pt x="624" y="953"/>
                    </a:lnTo>
                    <a:lnTo>
                      <a:pt x="609" y="1000"/>
                    </a:lnTo>
                    <a:lnTo>
                      <a:pt x="594" y="1051"/>
                    </a:lnTo>
                    <a:lnTo>
                      <a:pt x="582" y="1102"/>
                    </a:lnTo>
                    <a:lnTo>
                      <a:pt x="571" y="1156"/>
                    </a:lnTo>
                    <a:lnTo>
                      <a:pt x="562" y="1212"/>
                    </a:lnTo>
                    <a:lnTo>
                      <a:pt x="555" y="1271"/>
                    </a:lnTo>
                    <a:lnTo>
                      <a:pt x="549" y="1330"/>
                    </a:lnTo>
                    <a:lnTo>
                      <a:pt x="545" y="1393"/>
                    </a:lnTo>
                    <a:lnTo>
                      <a:pt x="542" y="1458"/>
                    </a:lnTo>
                    <a:lnTo>
                      <a:pt x="542" y="1524"/>
                    </a:lnTo>
                    <a:lnTo>
                      <a:pt x="542" y="2955"/>
                    </a:lnTo>
                    <a:lnTo>
                      <a:pt x="0" y="2955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1578240" y="6077880"/>
                <a:ext cx="296640" cy="356040"/>
              </a:xfrm>
              <a:custGeom>
                <a:avLst/>
                <a:gdLst/>
                <a:ahLst/>
                <a:rect l="l" t="t" r="r" b="b"/>
                <a:pathLst>
                  <a:path w="2702" h="2979">
                    <a:moveTo>
                      <a:pt x="2702" y="2757"/>
                    </a:moveTo>
                    <a:lnTo>
                      <a:pt x="2675" y="2771"/>
                    </a:lnTo>
                    <a:lnTo>
                      <a:pt x="2647" y="2784"/>
                    </a:lnTo>
                    <a:lnTo>
                      <a:pt x="2618" y="2796"/>
                    </a:lnTo>
                    <a:lnTo>
                      <a:pt x="2589" y="2809"/>
                    </a:lnTo>
                    <a:lnTo>
                      <a:pt x="2560" y="2821"/>
                    </a:lnTo>
                    <a:lnTo>
                      <a:pt x="2530" y="2833"/>
                    </a:lnTo>
                    <a:lnTo>
                      <a:pt x="2500" y="2844"/>
                    </a:lnTo>
                    <a:lnTo>
                      <a:pt x="2470" y="2855"/>
                    </a:lnTo>
                    <a:lnTo>
                      <a:pt x="2440" y="2865"/>
                    </a:lnTo>
                    <a:lnTo>
                      <a:pt x="2408" y="2874"/>
                    </a:lnTo>
                    <a:lnTo>
                      <a:pt x="2377" y="2884"/>
                    </a:lnTo>
                    <a:lnTo>
                      <a:pt x="2345" y="2892"/>
                    </a:lnTo>
                    <a:lnTo>
                      <a:pt x="2312" y="2901"/>
                    </a:lnTo>
                    <a:lnTo>
                      <a:pt x="2280" y="2909"/>
                    </a:lnTo>
                    <a:lnTo>
                      <a:pt x="2247" y="2916"/>
                    </a:lnTo>
                    <a:lnTo>
                      <a:pt x="2213" y="2923"/>
                    </a:lnTo>
                    <a:lnTo>
                      <a:pt x="2146" y="2937"/>
                    </a:lnTo>
                    <a:lnTo>
                      <a:pt x="2077" y="2949"/>
                    </a:lnTo>
                    <a:lnTo>
                      <a:pt x="2006" y="2958"/>
                    </a:lnTo>
                    <a:lnTo>
                      <a:pt x="1935" y="2966"/>
                    </a:lnTo>
                    <a:lnTo>
                      <a:pt x="1862" y="2972"/>
                    </a:lnTo>
                    <a:lnTo>
                      <a:pt x="1787" y="2976"/>
                    </a:lnTo>
                    <a:lnTo>
                      <a:pt x="1711" y="2979"/>
                    </a:lnTo>
                    <a:lnTo>
                      <a:pt x="1635" y="2979"/>
                    </a:lnTo>
                    <a:lnTo>
                      <a:pt x="1544" y="2978"/>
                    </a:lnTo>
                    <a:lnTo>
                      <a:pt x="1454" y="2973"/>
                    </a:lnTo>
                    <a:lnTo>
                      <a:pt x="1366" y="2964"/>
                    </a:lnTo>
                    <a:lnTo>
                      <a:pt x="1281" y="2952"/>
                    </a:lnTo>
                    <a:lnTo>
                      <a:pt x="1197" y="2937"/>
                    </a:lnTo>
                    <a:lnTo>
                      <a:pt x="1117" y="2918"/>
                    </a:lnTo>
                    <a:lnTo>
                      <a:pt x="1039" y="2897"/>
                    </a:lnTo>
                    <a:lnTo>
                      <a:pt x="962" y="2872"/>
                    </a:lnTo>
                    <a:lnTo>
                      <a:pt x="888" y="2845"/>
                    </a:lnTo>
                    <a:lnTo>
                      <a:pt x="818" y="2813"/>
                    </a:lnTo>
                    <a:lnTo>
                      <a:pt x="749" y="2780"/>
                    </a:lnTo>
                    <a:lnTo>
                      <a:pt x="683" y="2744"/>
                    </a:lnTo>
                    <a:lnTo>
                      <a:pt x="620" y="2704"/>
                    </a:lnTo>
                    <a:lnTo>
                      <a:pt x="559" y="2663"/>
                    </a:lnTo>
                    <a:lnTo>
                      <a:pt x="501" y="2618"/>
                    </a:lnTo>
                    <a:lnTo>
                      <a:pt x="447" y="2571"/>
                    </a:lnTo>
                    <a:lnTo>
                      <a:pt x="394" y="2521"/>
                    </a:lnTo>
                    <a:lnTo>
                      <a:pt x="345" y="2468"/>
                    </a:lnTo>
                    <a:lnTo>
                      <a:pt x="299" y="2414"/>
                    </a:lnTo>
                    <a:lnTo>
                      <a:pt x="256" y="2357"/>
                    </a:lnTo>
                    <a:lnTo>
                      <a:pt x="217" y="2298"/>
                    </a:lnTo>
                    <a:lnTo>
                      <a:pt x="179" y="2236"/>
                    </a:lnTo>
                    <a:lnTo>
                      <a:pt x="146" y="2172"/>
                    </a:lnTo>
                    <a:lnTo>
                      <a:pt x="116" y="2106"/>
                    </a:lnTo>
                    <a:lnTo>
                      <a:pt x="89" y="2038"/>
                    </a:lnTo>
                    <a:lnTo>
                      <a:pt x="65" y="1967"/>
                    </a:lnTo>
                    <a:lnTo>
                      <a:pt x="46" y="1896"/>
                    </a:lnTo>
                    <a:lnTo>
                      <a:pt x="29" y="1822"/>
                    </a:lnTo>
                    <a:lnTo>
                      <a:pt x="16" y="1746"/>
                    </a:lnTo>
                    <a:lnTo>
                      <a:pt x="7" y="1669"/>
                    </a:lnTo>
                    <a:lnTo>
                      <a:pt x="2" y="1589"/>
                    </a:lnTo>
                    <a:lnTo>
                      <a:pt x="0" y="1508"/>
                    </a:lnTo>
                    <a:lnTo>
                      <a:pt x="2" y="1424"/>
                    </a:lnTo>
                    <a:lnTo>
                      <a:pt x="8" y="1343"/>
                    </a:lnTo>
                    <a:lnTo>
                      <a:pt x="18" y="1263"/>
                    </a:lnTo>
                    <a:lnTo>
                      <a:pt x="32" y="1184"/>
                    </a:lnTo>
                    <a:lnTo>
                      <a:pt x="49" y="1108"/>
                    </a:lnTo>
                    <a:lnTo>
                      <a:pt x="70" y="1034"/>
                    </a:lnTo>
                    <a:lnTo>
                      <a:pt x="95" y="962"/>
                    </a:lnTo>
                    <a:lnTo>
                      <a:pt x="124" y="892"/>
                    </a:lnTo>
                    <a:lnTo>
                      <a:pt x="156" y="825"/>
                    </a:lnTo>
                    <a:lnTo>
                      <a:pt x="191" y="759"/>
                    </a:lnTo>
                    <a:lnTo>
                      <a:pt x="231" y="696"/>
                    </a:lnTo>
                    <a:lnTo>
                      <a:pt x="272" y="635"/>
                    </a:lnTo>
                    <a:lnTo>
                      <a:pt x="318" y="576"/>
                    </a:lnTo>
                    <a:lnTo>
                      <a:pt x="365" y="520"/>
                    </a:lnTo>
                    <a:lnTo>
                      <a:pt x="417" y="466"/>
                    </a:lnTo>
                    <a:lnTo>
                      <a:pt x="470" y="416"/>
                    </a:lnTo>
                    <a:lnTo>
                      <a:pt x="527" y="368"/>
                    </a:lnTo>
                    <a:lnTo>
                      <a:pt x="586" y="322"/>
                    </a:lnTo>
                    <a:lnTo>
                      <a:pt x="649" y="280"/>
                    </a:lnTo>
                    <a:lnTo>
                      <a:pt x="714" y="239"/>
                    </a:lnTo>
                    <a:lnTo>
                      <a:pt x="780" y="202"/>
                    </a:lnTo>
                    <a:lnTo>
                      <a:pt x="850" y="169"/>
                    </a:lnTo>
                    <a:lnTo>
                      <a:pt x="922" y="137"/>
                    </a:lnTo>
                    <a:lnTo>
                      <a:pt x="995" y="109"/>
                    </a:lnTo>
                    <a:lnTo>
                      <a:pt x="1071" y="84"/>
                    </a:lnTo>
                    <a:lnTo>
                      <a:pt x="1150" y="62"/>
                    </a:lnTo>
                    <a:lnTo>
                      <a:pt x="1230" y="44"/>
                    </a:lnTo>
                    <a:lnTo>
                      <a:pt x="1311" y="28"/>
                    </a:lnTo>
                    <a:lnTo>
                      <a:pt x="1395" y="16"/>
                    </a:lnTo>
                    <a:lnTo>
                      <a:pt x="1481" y="7"/>
                    </a:lnTo>
                    <a:lnTo>
                      <a:pt x="1568" y="2"/>
                    </a:lnTo>
                    <a:lnTo>
                      <a:pt x="1657" y="0"/>
                    </a:lnTo>
                    <a:lnTo>
                      <a:pt x="1722" y="1"/>
                    </a:lnTo>
                    <a:lnTo>
                      <a:pt x="1789" y="3"/>
                    </a:lnTo>
                    <a:lnTo>
                      <a:pt x="1855" y="7"/>
                    </a:lnTo>
                    <a:lnTo>
                      <a:pt x="1919" y="13"/>
                    </a:lnTo>
                    <a:lnTo>
                      <a:pt x="1984" y="20"/>
                    </a:lnTo>
                    <a:lnTo>
                      <a:pt x="2049" y="28"/>
                    </a:lnTo>
                    <a:lnTo>
                      <a:pt x="2112" y="38"/>
                    </a:lnTo>
                    <a:lnTo>
                      <a:pt x="2175" y="50"/>
                    </a:lnTo>
                    <a:lnTo>
                      <a:pt x="2237" y="63"/>
                    </a:lnTo>
                    <a:lnTo>
                      <a:pt x="2298" y="77"/>
                    </a:lnTo>
                    <a:lnTo>
                      <a:pt x="2358" y="93"/>
                    </a:lnTo>
                    <a:lnTo>
                      <a:pt x="2417" y="110"/>
                    </a:lnTo>
                    <a:lnTo>
                      <a:pt x="2476" y="128"/>
                    </a:lnTo>
                    <a:lnTo>
                      <a:pt x="2533" y="148"/>
                    </a:lnTo>
                    <a:lnTo>
                      <a:pt x="2590" y="170"/>
                    </a:lnTo>
                    <a:lnTo>
                      <a:pt x="2645" y="192"/>
                    </a:lnTo>
                    <a:lnTo>
                      <a:pt x="2645" y="699"/>
                    </a:lnTo>
                    <a:lnTo>
                      <a:pt x="2594" y="670"/>
                    </a:lnTo>
                    <a:lnTo>
                      <a:pt x="2543" y="644"/>
                    </a:lnTo>
                    <a:lnTo>
                      <a:pt x="2490" y="619"/>
                    </a:lnTo>
                    <a:lnTo>
                      <a:pt x="2438" y="596"/>
                    </a:lnTo>
                    <a:lnTo>
                      <a:pt x="2384" y="574"/>
                    </a:lnTo>
                    <a:lnTo>
                      <a:pt x="2329" y="554"/>
                    </a:lnTo>
                    <a:lnTo>
                      <a:pt x="2275" y="536"/>
                    </a:lnTo>
                    <a:lnTo>
                      <a:pt x="2220" y="520"/>
                    </a:lnTo>
                    <a:lnTo>
                      <a:pt x="2165" y="506"/>
                    </a:lnTo>
                    <a:lnTo>
                      <a:pt x="2108" y="493"/>
                    </a:lnTo>
                    <a:lnTo>
                      <a:pt x="2052" y="483"/>
                    </a:lnTo>
                    <a:lnTo>
                      <a:pt x="1995" y="474"/>
                    </a:lnTo>
                    <a:lnTo>
                      <a:pt x="1938" y="466"/>
                    </a:lnTo>
                    <a:lnTo>
                      <a:pt x="1880" y="461"/>
                    </a:lnTo>
                    <a:lnTo>
                      <a:pt x="1821" y="458"/>
                    </a:lnTo>
                    <a:lnTo>
                      <a:pt x="1763" y="457"/>
                    </a:lnTo>
                    <a:lnTo>
                      <a:pt x="1698" y="458"/>
                    </a:lnTo>
                    <a:lnTo>
                      <a:pt x="1635" y="462"/>
                    </a:lnTo>
                    <a:lnTo>
                      <a:pt x="1573" y="468"/>
                    </a:lnTo>
                    <a:lnTo>
                      <a:pt x="1512" y="477"/>
                    </a:lnTo>
                    <a:lnTo>
                      <a:pt x="1453" y="487"/>
                    </a:lnTo>
                    <a:lnTo>
                      <a:pt x="1395" y="500"/>
                    </a:lnTo>
                    <a:lnTo>
                      <a:pt x="1339" y="515"/>
                    </a:lnTo>
                    <a:lnTo>
                      <a:pt x="1284" y="532"/>
                    </a:lnTo>
                    <a:lnTo>
                      <a:pt x="1232" y="551"/>
                    </a:lnTo>
                    <a:lnTo>
                      <a:pt x="1180" y="572"/>
                    </a:lnTo>
                    <a:lnTo>
                      <a:pt x="1131" y="596"/>
                    </a:lnTo>
                    <a:lnTo>
                      <a:pt x="1083" y="621"/>
                    </a:lnTo>
                    <a:lnTo>
                      <a:pt x="1038" y="649"/>
                    </a:lnTo>
                    <a:lnTo>
                      <a:pt x="993" y="678"/>
                    </a:lnTo>
                    <a:lnTo>
                      <a:pt x="952" y="710"/>
                    </a:lnTo>
                    <a:lnTo>
                      <a:pt x="912" y="743"/>
                    </a:lnTo>
                    <a:lnTo>
                      <a:pt x="873" y="779"/>
                    </a:lnTo>
                    <a:lnTo>
                      <a:pt x="838" y="817"/>
                    </a:lnTo>
                    <a:lnTo>
                      <a:pt x="803" y="855"/>
                    </a:lnTo>
                    <a:lnTo>
                      <a:pt x="772" y="896"/>
                    </a:lnTo>
                    <a:lnTo>
                      <a:pt x="743" y="939"/>
                    </a:lnTo>
                    <a:lnTo>
                      <a:pt x="716" y="984"/>
                    </a:lnTo>
                    <a:lnTo>
                      <a:pt x="691" y="1030"/>
                    </a:lnTo>
                    <a:lnTo>
                      <a:pt x="669" y="1078"/>
                    </a:lnTo>
                    <a:lnTo>
                      <a:pt x="649" y="1128"/>
                    </a:lnTo>
                    <a:lnTo>
                      <a:pt x="632" y="1179"/>
                    </a:lnTo>
                    <a:lnTo>
                      <a:pt x="617" y="1233"/>
                    </a:lnTo>
                    <a:lnTo>
                      <a:pt x="604" y="1287"/>
                    </a:lnTo>
                    <a:lnTo>
                      <a:pt x="595" y="1344"/>
                    </a:lnTo>
                    <a:lnTo>
                      <a:pt x="588" y="1401"/>
                    </a:lnTo>
                    <a:lnTo>
                      <a:pt x="584" y="1460"/>
                    </a:lnTo>
                    <a:lnTo>
                      <a:pt x="582" y="1520"/>
                    </a:lnTo>
                    <a:lnTo>
                      <a:pt x="584" y="1573"/>
                    </a:lnTo>
                    <a:lnTo>
                      <a:pt x="588" y="1623"/>
                    </a:lnTo>
                    <a:lnTo>
                      <a:pt x="594" y="1674"/>
                    </a:lnTo>
                    <a:lnTo>
                      <a:pt x="604" y="1723"/>
                    </a:lnTo>
                    <a:lnTo>
                      <a:pt x="617" y="1772"/>
                    </a:lnTo>
                    <a:lnTo>
                      <a:pt x="631" y="1820"/>
                    </a:lnTo>
                    <a:lnTo>
                      <a:pt x="648" y="1867"/>
                    </a:lnTo>
                    <a:lnTo>
                      <a:pt x="667" y="1912"/>
                    </a:lnTo>
                    <a:lnTo>
                      <a:pt x="689" y="1956"/>
                    </a:lnTo>
                    <a:lnTo>
                      <a:pt x="714" y="2000"/>
                    </a:lnTo>
                    <a:lnTo>
                      <a:pt x="740" y="2041"/>
                    </a:lnTo>
                    <a:lnTo>
                      <a:pt x="768" y="2082"/>
                    </a:lnTo>
                    <a:lnTo>
                      <a:pt x="798" y="2121"/>
                    </a:lnTo>
                    <a:lnTo>
                      <a:pt x="832" y="2159"/>
                    </a:lnTo>
                    <a:lnTo>
                      <a:pt x="866" y="2196"/>
                    </a:lnTo>
                    <a:lnTo>
                      <a:pt x="903" y="2230"/>
                    </a:lnTo>
                    <a:lnTo>
                      <a:pt x="942" y="2263"/>
                    </a:lnTo>
                    <a:lnTo>
                      <a:pt x="983" y="2295"/>
                    </a:lnTo>
                    <a:lnTo>
                      <a:pt x="1026" y="2324"/>
                    </a:lnTo>
                    <a:lnTo>
                      <a:pt x="1070" y="2352"/>
                    </a:lnTo>
                    <a:lnTo>
                      <a:pt x="1116" y="2378"/>
                    </a:lnTo>
                    <a:lnTo>
                      <a:pt x="1163" y="2402"/>
                    </a:lnTo>
                    <a:lnTo>
                      <a:pt x="1212" y="2424"/>
                    </a:lnTo>
                    <a:lnTo>
                      <a:pt x="1264" y="2444"/>
                    </a:lnTo>
                    <a:lnTo>
                      <a:pt x="1315" y="2462"/>
                    </a:lnTo>
                    <a:lnTo>
                      <a:pt x="1370" y="2477"/>
                    </a:lnTo>
                    <a:lnTo>
                      <a:pt x="1425" y="2490"/>
                    </a:lnTo>
                    <a:lnTo>
                      <a:pt x="1481" y="2501"/>
                    </a:lnTo>
                    <a:lnTo>
                      <a:pt x="1540" y="2511"/>
                    </a:lnTo>
                    <a:lnTo>
                      <a:pt x="1598" y="2517"/>
                    </a:lnTo>
                    <a:lnTo>
                      <a:pt x="1659" y="2521"/>
                    </a:lnTo>
                    <a:lnTo>
                      <a:pt x="1720" y="2522"/>
                    </a:lnTo>
                    <a:lnTo>
                      <a:pt x="1752" y="2522"/>
                    </a:lnTo>
                    <a:lnTo>
                      <a:pt x="1784" y="2521"/>
                    </a:lnTo>
                    <a:lnTo>
                      <a:pt x="1815" y="2520"/>
                    </a:lnTo>
                    <a:lnTo>
                      <a:pt x="1847" y="2518"/>
                    </a:lnTo>
                    <a:lnTo>
                      <a:pt x="1878" y="2515"/>
                    </a:lnTo>
                    <a:lnTo>
                      <a:pt x="1909" y="2511"/>
                    </a:lnTo>
                    <a:lnTo>
                      <a:pt x="1940" y="2507"/>
                    </a:lnTo>
                    <a:lnTo>
                      <a:pt x="1971" y="2502"/>
                    </a:lnTo>
                    <a:lnTo>
                      <a:pt x="2001" y="2497"/>
                    </a:lnTo>
                    <a:lnTo>
                      <a:pt x="2032" y="2491"/>
                    </a:lnTo>
                    <a:lnTo>
                      <a:pt x="2063" y="2485"/>
                    </a:lnTo>
                    <a:lnTo>
                      <a:pt x="2093" y="2478"/>
                    </a:lnTo>
                    <a:lnTo>
                      <a:pt x="2123" y="2470"/>
                    </a:lnTo>
                    <a:lnTo>
                      <a:pt x="2154" y="2462"/>
                    </a:lnTo>
                    <a:lnTo>
                      <a:pt x="2184" y="2453"/>
                    </a:lnTo>
                    <a:lnTo>
                      <a:pt x="2213" y="2443"/>
                    </a:lnTo>
                    <a:lnTo>
                      <a:pt x="2244" y="2433"/>
                    </a:lnTo>
                    <a:lnTo>
                      <a:pt x="2274" y="2423"/>
                    </a:lnTo>
                    <a:lnTo>
                      <a:pt x="2304" y="2411"/>
                    </a:lnTo>
                    <a:lnTo>
                      <a:pt x="2335" y="2399"/>
                    </a:lnTo>
                    <a:lnTo>
                      <a:pt x="2365" y="2386"/>
                    </a:lnTo>
                    <a:lnTo>
                      <a:pt x="2395" y="2373"/>
                    </a:lnTo>
                    <a:lnTo>
                      <a:pt x="2425" y="2359"/>
                    </a:lnTo>
                    <a:lnTo>
                      <a:pt x="2456" y="2345"/>
                    </a:lnTo>
                    <a:lnTo>
                      <a:pt x="2516" y="2314"/>
                    </a:lnTo>
                    <a:lnTo>
                      <a:pt x="2578" y="2280"/>
                    </a:lnTo>
                    <a:lnTo>
                      <a:pt x="2640" y="2245"/>
                    </a:lnTo>
                    <a:lnTo>
                      <a:pt x="2702" y="2207"/>
                    </a:lnTo>
                    <a:lnTo>
                      <a:pt x="2702" y="27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1933560" y="6077880"/>
                <a:ext cx="380520" cy="356040"/>
              </a:xfrm>
              <a:custGeom>
                <a:avLst/>
                <a:gdLst/>
                <a:ahLst/>
                <a:rect l="l" t="t" r="r" b="b"/>
                <a:pathLst>
                  <a:path w="3457" h="2979">
                    <a:moveTo>
                      <a:pt x="505" y="433"/>
                    </a:moveTo>
                    <a:lnTo>
                      <a:pt x="537" y="407"/>
                    </a:lnTo>
                    <a:lnTo>
                      <a:pt x="568" y="382"/>
                    </a:lnTo>
                    <a:lnTo>
                      <a:pt x="600" y="356"/>
                    </a:lnTo>
                    <a:lnTo>
                      <a:pt x="633" y="333"/>
                    </a:lnTo>
                    <a:lnTo>
                      <a:pt x="666" y="310"/>
                    </a:lnTo>
                    <a:lnTo>
                      <a:pt x="700" y="288"/>
                    </a:lnTo>
                    <a:lnTo>
                      <a:pt x="734" y="266"/>
                    </a:lnTo>
                    <a:lnTo>
                      <a:pt x="769" y="245"/>
                    </a:lnTo>
                    <a:lnTo>
                      <a:pt x="804" y="225"/>
                    </a:lnTo>
                    <a:lnTo>
                      <a:pt x="840" y="207"/>
                    </a:lnTo>
                    <a:lnTo>
                      <a:pt x="876" y="189"/>
                    </a:lnTo>
                    <a:lnTo>
                      <a:pt x="912" y="171"/>
                    </a:lnTo>
                    <a:lnTo>
                      <a:pt x="950" y="155"/>
                    </a:lnTo>
                    <a:lnTo>
                      <a:pt x="987" y="138"/>
                    </a:lnTo>
                    <a:lnTo>
                      <a:pt x="1025" y="124"/>
                    </a:lnTo>
                    <a:lnTo>
                      <a:pt x="1064" y="110"/>
                    </a:lnTo>
                    <a:lnTo>
                      <a:pt x="1103" y="97"/>
                    </a:lnTo>
                    <a:lnTo>
                      <a:pt x="1143" y="85"/>
                    </a:lnTo>
                    <a:lnTo>
                      <a:pt x="1182" y="73"/>
                    </a:lnTo>
                    <a:lnTo>
                      <a:pt x="1221" y="63"/>
                    </a:lnTo>
                    <a:lnTo>
                      <a:pt x="1263" y="53"/>
                    </a:lnTo>
                    <a:lnTo>
                      <a:pt x="1303" y="44"/>
                    </a:lnTo>
                    <a:lnTo>
                      <a:pt x="1345" y="35"/>
                    </a:lnTo>
                    <a:lnTo>
                      <a:pt x="1386" y="28"/>
                    </a:lnTo>
                    <a:lnTo>
                      <a:pt x="1427" y="21"/>
                    </a:lnTo>
                    <a:lnTo>
                      <a:pt x="1470" y="16"/>
                    </a:lnTo>
                    <a:lnTo>
                      <a:pt x="1512" y="11"/>
                    </a:lnTo>
                    <a:lnTo>
                      <a:pt x="1555" y="7"/>
                    </a:lnTo>
                    <a:lnTo>
                      <a:pt x="1598" y="4"/>
                    </a:lnTo>
                    <a:lnTo>
                      <a:pt x="1641" y="2"/>
                    </a:lnTo>
                    <a:lnTo>
                      <a:pt x="1685" y="1"/>
                    </a:lnTo>
                    <a:lnTo>
                      <a:pt x="1729" y="0"/>
                    </a:lnTo>
                    <a:lnTo>
                      <a:pt x="1773" y="1"/>
                    </a:lnTo>
                    <a:lnTo>
                      <a:pt x="1816" y="2"/>
                    </a:lnTo>
                    <a:lnTo>
                      <a:pt x="1860" y="4"/>
                    </a:lnTo>
                    <a:lnTo>
                      <a:pt x="1902" y="7"/>
                    </a:lnTo>
                    <a:lnTo>
                      <a:pt x="1945" y="11"/>
                    </a:lnTo>
                    <a:lnTo>
                      <a:pt x="1988" y="16"/>
                    </a:lnTo>
                    <a:lnTo>
                      <a:pt x="2029" y="22"/>
                    </a:lnTo>
                    <a:lnTo>
                      <a:pt x="2071" y="28"/>
                    </a:lnTo>
                    <a:lnTo>
                      <a:pt x="2112" y="36"/>
                    </a:lnTo>
                    <a:lnTo>
                      <a:pt x="2153" y="45"/>
                    </a:lnTo>
                    <a:lnTo>
                      <a:pt x="2194" y="54"/>
                    </a:lnTo>
                    <a:lnTo>
                      <a:pt x="2234" y="64"/>
                    </a:lnTo>
                    <a:lnTo>
                      <a:pt x="2274" y="75"/>
                    </a:lnTo>
                    <a:lnTo>
                      <a:pt x="2313" y="87"/>
                    </a:lnTo>
                    <a:lnTo>
                      <a:pt x="2352" y="100"/>
                    </a:lnTo>
                    <a:lnTo>
                      <a:pt x="2391" y="113"/>
                    </a:lnTo>
                    <a:lnTo>
                      <a:pt x="2429" y="127"/>
                    </a:lnTo>
                    <a:lnTo>
                      <a:pt x="2468" y="142"/>
                    </a:lnTo>
                    <a:lnTo>
                      <a:pt x="2505" y="159"/>
                    </a:lnTo>
                    <a:lnTo>
                      <a:pt x="2542" y="176"/>
                    </a:lnTo>
                    <a:lnTo>
                      <a:pt x="2579" y="193"/>
                    </a:lnTo>
                    <a:lnTo>
                      <a:pt x="2615" y="211"/>
                    </a:lnTo>
                    <a:lnTo>
                      <a:pt x="2650" y="230"/>
                    </a:lnTo>
                    <a:lnTo>
                      <a:pt x="2686" y="250"/>
                    </a:lnTo>
                    <a:lnTo>
                      <a:pt x="2721" y="272"/>
                    </a:lnTo>
                    <a:lnTo>
                      <a:pt x="2755" y="293"/>
                    </a:lnTo>
                    <a:lnTo>
                      <a:pt x="2790" y="315"/>
                    </a:lnTo>
                    <a:lnTo>
                      <a:pt x="2823" y="338"/>
                    </a:lnTo>
                    <a:lnTo>
                      <a:pt x="2855" y="362"/>
                    </a:lnTo>
                    <a:lnTo>
                      <a:pt x="2889" y="388"/>
                    </a:lnTo>
                    <a:lnTo>
                      <a:pt x="2921" y="413"/>
                    </a:lnTo>
                    <a:lnTo>
                      <a:pt x="2952" y="439"/>
                    </a:lnTo>
                    <a:lnTo>
                      <a:pt x="2983" y="465"/>
                    </a:lnTo>
                    <a:lnTo>
                      <a:pt x="3012" y="493"/>
                    </a:lnTo>
                    <a:lnTo>
                      <a:pt x="3040" y="520"/>
                    </a:lnTo>
                    <a:lnTo>
                      <a:pt x="3067" y="547"/>
                    </a:lnTo>
                    <a:lnTo>
                      <a:pt x="3095" y="576"/>
                    </a:lnTo>
                    <a:lnTo>
                      <a:pt x="3120" y="605"/>
                    </a:lnTo>
                    <a:lnTo>
                      <a:pt x="3145" y="634"/>
                    </a:lnTo>
                    <a:lnTo>
                      <a:pt x="3169" y="664"/>
                    </a:lnTo>
                    <a:lnTo>
                      <a:pt x="3192" y="695"/>
                    </a:lnTo>
                    <a:lnTo>
                      <a:pt x="3214" y="725"/>
                    </a:lnTo>
                    <a:lnTo>
                      <a:pt x="3235" y="756"/>
                    </a:lnTo>
                    <a:lnTo>
                      <a:pt x="3255" y="787"/>
                    </a:lnTo>
                    <a:lnTo>
                      <a:pt x="3275" y="820"/>
                    </a:lnTo>
                    <a:lnTo>
                      <a:pt x="3294" y="852"/>
                    </a:lnTo>
                    <a:lnTo>
                      <a:pt x="3311" y="885"/>
                    </a:lnTo>
                    <a:lnTo>
                      <a:pt x="3327" y="918"/>
                    </a:lnTo>
                    <a:lnTo>
                      <a:pt x="3343" y="952"/>
                    </a:lnTo>
                    <a:lnTo>
                      <a:pt x="3357" y="985"/>
                    </a:lnTo>
                    <a:lnTo>
                      <a:pt x="3371" y="1020"/>
                    </a:lnTo>
                    <a:lnTo>
                      <a:pt x="3384" y="1054"/>
                    </a:lnTo>
                    <a:lnTo>
                      <a:pt x="3396" y="1089"/>
                    </a:lnTo>
                    <a:lnTo>
                      <a:pt x="3406" y="1125"/>
                    </a:lnTo>
                    <a:lnTo>
                      <a:pt x="3416" y="1160"/>
                    </a:lnTo>
                    <a:lnTo>
                      <a:pt x="3424" y="1195"/>
                    </a:lnTo>
                    <a:lnTo>
                      <a:pt x="3432" y="1232"/>
                    </a:lnTo>
                    <a:lnTo>
                      <a:pt x="3438" y="1268"/>
                    </a:lnTo>
                    <a:lnTo>
                      <a:pt x="3444" y="1304"/>
                    </a:lnTo>
                    <a:lnTo>
                      <a:pt x="3449" y="1341"/>
                    </a:lnTo>
                    <a:lnTo>
                      <a:pt x="3452" y="1378"/>
                    </a:lnTo>
                    <a:lnTo>
                      <a:pt x="3455" y="1415"/>
                    </a:lnTo>
                    <a:lnTo>
                      <a:pt x="3456" y="1453"/>
                    </a:lnTo>
                    <a:lnTo>
                      <a:pt x="3457" y="1490"/>
                    </a:lnTo>
                    <a:lnTo>
                      <a:pt x="3456" y="1527"/>
                    </a:lnTo>
                    <a:lnTo>
                      <a:pt x="3455" y="1565"/>
                    </a:lnTo>
                    <a:lnTo>
                      <a:pt x="3452" y="1602"/>
                    </a:lnTo>
                    <a:lnTo>
                      <a:pt x="3449" y="1638"/>
                    </a:lnTo>
                    <a:lnTo>
                      <a:pt x="3444" y="1676"/>
                    </a:lnTo>
                    <a:lnTo>
                      <a:pt x="3438" y="1712"/>
                    </a:lnTo>
                    <a:lnTo>
                      <a:pt x="3432" y="1747"/>
                    </a:lnTo>
                    <a:lnTo>
                      <a:pt x="3424" y="1784"/>
                    </a:lnTo>
                    <a:lnTo>
                      <a:pt x="3416" y="1819"/>
                    </a:lnTo>
                    <a:lnTo>
                      <a:pt x="3406" y="1854"/>
                    </a:lnTo>
                    <a:lnTo>
                      <a:pt x="3396" y="1889"/>
                    </a:lnTo>
                    <a:lnTo>
                      <a:pt x="3384" y="1924"/>
                    </a:lnTo>
                    <a:lnTo>
                      <a:pt x="3371" y="1957"/>
                    </a:lnTo>
                    <a:lnTo>
                      <a:pt x="3357" y="1992"/>
                    </a:lnTo>
                    <a:lnTo>
                      <a:pt x="3343" y="2025"/>
                    </a:lnTo>
                    <a:lnTo>
                      <a:pt x="3327" y="2058"/>
                    </a:lnTo>
                    <a:lnTo>
                      <a:pt x="3311" y="2092"/>
                    </a:lnTo>
                    <a:lnTo>
                      <a:pt x="3294" y="2124"/>
                    </a:lnTo>
                    <a:lnTo>
                      <a:pt x="3275" y="2156"/>
                    </a:lnTo>
                    <a:lnTo>
                      <a:pt x="3255" y="2188"/>
                    </a:lnTo>
                    <a:lnTo>
                      <a:pt x="3235" y="2219"/>
                    </a:lnTo>
                    <a:lnTo>
                      <a:pt x="3214" y="2250"/>
                    </a:lnTo>
                    <a:lnTo>
                      <a:pt x="3192" y="2280"/>
                    </a:lnTo>
                    <a:lnTo>
                      <a:pt x="3169" y="2311"/>
                    </a:lnTo>
                    <a:lnTo>
                      <a:pt x="3145" y="2340"/>
                    </a:lnTo>
                    <a:lnTo>
                      <a:pt x="3120" y="2369"/>
                    </a:lnTo>
                    <a:lnTo>
                      <a:pt x="3095" y="2398"/>
                    </a:lnTo>
                    <a:lnTo>
                      <a:pt x="3067" y="2426"/>
                    </a:lnTo>
                    <a:lnTo>
                      <a:pt x="3040" y="2454"/>
                    </a:lnTo>
                    <a:lnTo>
                      <a:pt x="3012" y="2481"/>
                    </a:lnTo>
                    <a:lnTo>
                      <a:pt x="2983" y="2509"/>
                    </a:lnTo>
                    <a:lnTo>
                      <a:pt x="2952" y="2535"/>
                    </a:lnTo>
                    <a:lnTo>
                      <a:pt x="2921" y="2561"/>
                    </a:lnTo>
                    <a:lnTo>
                      <a:pt x="2889" y="2586"/>
                    </a:lnTo>
                    <a:lnTo>
                      <a:pt x="2855" y="2612"/>
                    </a:lnTo>
                    <a:lnTo>
                      <a:pt x="2823" y="2635"/>
                    </a:lnTo>
                    <a:lnTo>
                      <a:pt x="2789" y="2659"/>
                    </a:lnTo>
                    <a:lnTo>
                      <a:pt x="2754" y="2681"/>
                    </a:lnTo>
                    <a:lnTo>
                      <a:pt x="2720" y="2703"/>
                    </a:lnTo>
                    <a:lnTo>
                      <a:pt x="2685" y="2724"/>
                    </a:lnTo>
                    <a:lnTo>
                      <a:pt x="2649" y="2744"/>
                    </a:lnTo>
                    <a:lnTo>
                      <a:pt x="2613" y="2764"/>
                    </a:lnTo>
                    <a:lnTo>
                      <a:pt x="2577" y="2782"/>
                    </a:lnTo>
                    <a:lnTo>
                      <a:pt x="2540" y="2800"/>
                    </a:lnTo>
                    <a:lnTo>
                      <a:pt x="2503" y="2817"/>
                    </a:lnTo>
                    <a:lnTo>
                      <a:pt x="2466" y="2834"/>
                    </a:lnTo>
                    <a:lnTo>
                      <a:pt x="2427" y="2849"/>
                    </a:lnTo>
                    <a:lnTo>
                      <a:pt x="2389" y="2864"/>
                    </a:lnTo>
                    <a:lnTo>
                      <a:pt x="2349" y="2877"/>
                    </a:lnTo>
                    <a:lnTo>
                      <a:pt x="2310" y="2890"/>
                    </a:lnTo>
                    <a:lnTo>
                      <a:pt x="2271" y="2902"/>
                    </a:lnTo>
                    <a:lnTo>
                      <a:pt x="2231" y="2913"/>
                    </a:lnTo>
                    <a:lnTo>
                      <a:pt x="2191" y="2924"/>
                    </a:lnTo>
                    <a:lnTo>
                      <a:pt x="2150" y="2934"/>
                    </a:lnTo>
                    <a:lnTo>
                      <a:pt x="2109" y="2943"/>
                    </a:lnTo>
                    <a:lnTo>
                      <a:pt x="2068" y="2950"/>
                    </a:lnTo>
                    <a:lnTo>
                      <a:pt x="2026" y="2957"/>
                    </a:lnTo>
                    <a:lnTo>
                      <a:pt x="1985" y="2963"/>
                    </a:lnTo>
                    <a:lnTo>
                      <a:pt x="1942" y="2968"/>
                    </a:lnTo>
                    <a:lnTo>
                      <a:pt x="1900" y="2972"/>
                    </a:lnTo>
                    <a:lnTo>
                      <a:pt x="1858" y="2975"/>
                    </a:lnTo>
                    <a:lnTo>
                      <a:pt x="1815" y="2978"/>
                    </a:lnTo>
                    <a:lnTo>
                      <a:pt x="1772" y="2979"/>
                    </a:lnTo>
                    <a:lnTo>
                      <a:pt x="1729" y="2979"/>
                    </a:lnTo>
                    <a:lnTo>
                      <a:pt x="1685" y="2979"/>
                    </a:lnTo>
                    <a:lnTo>
                      <a:pt x="1641" y="2978"/>
                    </a:lnTo>
                    <a:lnTo>
                      <a:pt x="1598" y="2975"/>
                    </a:lnTo>
                    <a:lnTo>
                      <a:pt x="1555" y="2972"/>
                    </a:lnTo>
                    <a:lnTo>
                      <a:pt x="1512" y="2968"/>
                    </a:lnTo>
                    <a:lnTo>
                      <a:pt x="1470" y="2964"/>
                    </a:lnTo>
                    <a:lnTo>
                      <a:pt x="1427" y="2958"/>
                    </a:lnTo>
                    <a:lnTo>
                      <a:pt x="1386" y="2951"/>
                    </a:lnTo>
                    <a:lnTo>
                      <a:pt x="1345" y="2944"/>
                    </a:lnTo>
                    <a:lnTo>
                      <a:pt x="1303" y="2935"/>
                    </a:lnTo>
                    <a:lnTo>
                      <a:pt x="1263" y="2925"/>
                    </a:lnTo>
                    <a:lnTo>
                      <a:pt x="1221" y="2915"/>
                    </a:lnTo>
                    <a:lnTo>
                      <a:pt x="1182" y="2904"/>
                    </a:lnTo>
                    <a:lnTo>
                      <a:pt x="1143" y="2893"/>
                    </a:lnTo>
                    <a:lnTo>
                      <a:pt x="1103" y="2880"/>
                    </a:lnTo>
                    <a:lnTo>
                      <a:pt x="1064" y="2867"/>
                    </a:lnTo>
                    <a:lnTo>
                      <a:pt x="1025" y="2853"/>
                    </a:lnTo>
                    <a:lnTo>
                      <a:pt x="987" y="2838"/>
                    </a:lnTo>
                    <a:lnTo>
                      <a:pt x="950" y="2821"/>
                    </a:lnTo>
                    <a:lnTo>
                      <a:pt x="912" y="2804"/>
                    </a:lnTo>
                    <a:lnTo>
                      <a:pt x="876" y="2787"/>
                    </a:lnTo>
                    <a:lnTo>
                      <a:pt x="840" y="2768"/>
                    </a:lnTo>
                    <a:lnTo>
                      <a:pt x="804" y="2749"/>
                    </a:lnTo>
                    <a:lnTo>
                      <a:pt x="769" y="2730"/>
                    </a:lnTo>
                    <a:lnTo>
                      <a:pt x="734" y="2708"/>
                    </a:lnTo>
                    <a:lnTo>
                      <a:pt x="700" y="2686"/>
                    </a:lnTo>
                    <a:lnTo>
                      <a:pt x="666" y="2664"/>
                    </a:lnTo>
                    <a:lnTo>
                      <a:pt x="633" y="2641"/>
                    </a:lnTo>
                    <a:lnTo>
                      <a:pt x="600" y="2618"/>
                    </a:lnTo>
                    <a:lnTo>
                      <a:pt x="568" y="2592"/>
                    </a:lnTo>
                    <a:lnTo>
                      <a:pt x="537" y="2567"/>
                    </a:lnTo>
                    <a:lnTo>
                      <a:pt x="505" y="2541"/>
                    </a:lnTo>
                    <a:lnTo>
                      <a:pt x="475" y="2514"/>
                    </a:lnTo>
                    <a:lnTo>
                      <a:pt x="445" y="2485"/>
                    </a:lnTo>
                    <a:lnTo>
                      <a:pt x="415" y="2457"/>
                    </a:lnTo>
                    <a:lnTo>
                      <a:pt x="388" y="2429"/>
                    </a:lnTo>
                    <a:lnTo>
                      <a:pt x="361" y="2400"/>
                    </a:lnTo>
                    <a:lnTo>
                      <a:pt x="335" y="2370"/>
                    </a:lnTo>
                    <a:lnTo>
                      <a:pt x="309" y="2341"/>
                    </a:lnTo>
                    <a:lnTo>
                      <a:pt x="286" y="2311"/>
                    </a:lnTo>
                    <a:lnTo>
                      <a:pt x="263" y="2280"/>
                    </a:lnTo>
                    <a:lnTo>
                      <a:pt x="241" y="2249"/>
                    </a:lnTo>
                    <a:lnTo>
                      <a:pt x="219" y="2218"/>
                    </a:lnTo>
                    <a:lnTo>
                      <a:pt x="199" y="2187"/>
                    </a:lnTo>
                    <a:lnTo>
                      <a:pt x="180" y="2154"/>
                    </a:lnTo>
                    <a:lnTo>
                      <a:pt x="161" y="2122"/>
                    </a:lnTo>
                    <a:lnTo>
                      <a:pt x="144" y="2090"/>
                    </a:lnTo>
                    <a:lnTo>
                      <a:pt x="128" y="2057"/>
                    </a:lnTo>
                    <a:lnTo>
                      <a:pt x="112" y="2024"/>
                    </a:lnTo>
                    <a:lnTo>
                      <a:pt x="98" y="1991"/>
                    </a:lnTo>
                    <a:lnTo>
                      <a:pt x="85" y="1956"/>
                    </a:lnTo>
                    <a:lnTo>
                      <a:pt x="72" y="1922"/>
                    </a:lnTo>
                    <a:lnTo>
                      <a:pt x="61" y="1888"/>
                    </a:lnTo>
                    <a:lnTo>
                      <a:pt x="51" y="1853"/>
                    </a:lnTo>
                    <a:lnTo>
                      <a:pt x="41" y="1818"/>
                    </a:lnTo>
                    <a:lnTo>
                      <a:pt x="33" y="1783"/>
                    </a:lnTo>
                    <a:lnTo>
                      <a:pt x="25" y="1747"/>
                    </a:lnTo>
                    <a:lnTo>
                      <a:pt x="18" y="1711"/>
                    </a:lnTo>
                    <a:lnTo>
                      <a:pt x="13" y="1675"/>
                    </a:lnTo>
                    <a:lnTo>
                      <a:pt x="8" y="1638"/>
                    </a:lnTo>
                    <a:lnTo>
                      <a:pt x="5" y="1602"/>
                    </a:lnTo>
                    <a:lnTo>
                      <a:pt x="2" y="1565"/>
                    </a:lnTo>
                    <a:lnTo>
                      <a:pt x="1" y="1527"/>
                    </a:lnTo>
                    <a:lnTo>
                      <a:pt x="0" y="1490"/>
                    </a:lnTo>
                    <a:lnTo>
                      <a:pt x="1" y="1453"/>
                    </a:lnTo>
                    <a:lnTo>
                      <a:pt x="2" y="1415"/>
                    </a:lnTo>
                    <a:lnTo>
                      <a:pt x="5" y="1378"/>
                    </a:lnTo>
                    <a:lnTo>
                      <a:pt x="8" y="1341"/>
                    </a:lnTo>
                    <a:lnTo>
                      <a:pt x="13" y="1304"/>
                    </a:lnTo>
                    <a:lnTo>
                      <a:pt x="18" y="1268"/>
                    </a:lnTo>
                    <a:lnTo>
                      <a:pt x="25" y="1232"/>
                    </a:lnTo>
                    <a:lnTo>
                      <a:pt x="33" y="1195"/>
                    </a:lnTo>
                    <a:lnTo>
                      <a:pt x="41" y="1160"/>
                    </a:lnTo>
                    <a:lnTo>
                      <a:pt x="51" y="1124"/>
                    </a:lnTo>
                    <a:lnTo>
                      <a:pt x="61" y="1089"/>
                    </a:lnTo>
                    <a:lnTo>
                      <a:pt x="72" y="1054"/>
                    </a:lnTo>
                    <a:lnTo>
                      <a:pt x="85" y="1020"/>
                    </a:lnTo>
                    <a:lnTo>
                      <a:pt x="98" y="985"/>
                    </a:lnTo>
                    <a:lnTo>
                      <a:pt x="112" y="951"/>
                    </a:lnTo>
                    <a:lnTo>
                      <a:pt x="128" y="918"/>
                    </a:lnTo>
                    <a:lnTo>
                      <a:pt x="144" y="884"/>
                    </a:lnTo>
                    <a:lnTo>
                      <a:pt x="161" y="851"/>
                    </a:lnTo>
                    <a:lnTo>
                      <a:pt x="180" y="819"/>
                    </a:lnTo>
                    <a:lnTo>
                      <a:pt x="199" y="786"/>
                    </a:lnTo>
                    <a:lnTo>
                      <a:pt x="219" y="754"/>
                    </a:lnTo>
                    <a:lnTo>
                      <a:pt x="241" y="723"/>
                    </a:lnTo>
                    <a:lnTo>
                      <a:pt x="263" y="693"/>
                    </a:lnTo>
                    <a:lnTo>
                      <a:pt x="286" y="661"/>
                    </a:lnTo>
                    <a:lnTo>
                      <a:pt x="309" y="631"/>
                    </a:lnTo>
                    <a:lnTo>
                      <a:pt x="335" y="602"/>
                    </a:lnTo>
                    <a:lnTo>
                      <a:pt x="361" y="572"/>
                    </a:lnTo>
                    <a:lnTo>
                      <a:pt x="388" y="543"/>
                    </a:lnTo>
                    <a:lnTo>
                      <a:pt x="415" y="515"/>
                    </a:lnTo>
                    <a:lnTo>
                      <a:pt x="445" y="488"/>
                    </a:lnTo>
                    <a:lnTo>
                      <a:pt x="475" y="459"/>
                    </a:lnTo>
                    <a:lnTo>
                      <a:pt x="505" y="433"/>
                    </a:lnTo>
                    <a:close/>
                    <a:moveTo>
                      <a:pt x="1729" y="2535"/>
                    </a:moveTo>
                    <a:lnTo>
                      <a:pt x="1788" y="2533"/>
                    </a:lnTo>
                    <a:lnTo>
                      <a:pt x="1846" y="2529"/>
                    </a:lnTo>
                    <a:lnTo>
                      <a:pt x="1903" y="2523"/>
                    </a:lnTo>
                    <a:lnTo>
                      <a:pt x="1960" y="2514"/>
                    </a:lnTo>
                    <a:lnTo>
                      <a:pt x="2015" y="2502"/>
                    </a:lnTo>
                    <a:lnTo>
                      <a:pt x="2070" y="2488"/>
                    </a:lnTo>
                    <a:lnTo>
                      <a:pt x="2123" y="2472"/>
                    </a:lnTo>
                    <a:lnTo>
                      <a:pt x="2175" y="2454"/>
                    </a:lnTo>
                    <a:lnTo>
                      <a:pt x="2225" y="2433"/>
                    </a:lnTo>
                    <a:lnTo>
                      <a:pt x="2275" y="2411"/>
                    </a:lnTo>
                    <a:lnTo>
                      <a:pt x="2323" y="2385"/>
                    </a:lnTo>
                    <a:lnTo>
                      <a:pt x="2370" y="2359"/>
                    </a:lnTo>
                    <a:lnTo>
                      <a:pt x="2414" y="2330"/>
                    </a:lnTo>
                    <a:lnTo>
                      <a:pt x="2457" y="2300"/>
                    </a:lnTo>
                    <a:lnTo>
                      <a:pt x="2499" y="2266"/>
                    </a:lnTo>
                    <a:lnTo>
                      <a:pt x="2538" y="2232"/>
                    </a:lnTo>
                    <a:lnTo>
                      <a:pt x="2577" y="2197"/>
                    </a:lnTo>
                    <a:lnTo>
                      <a:pt x="2613" y="2158"/>
                    </a:lnTo>
                    <a:lnTo>
                      <a:pt x="2646" y="2119"/>
                    </a:lnTo>
                    <a:lnTo>
                      <a:pt x="2679" y="2079"/>
                    </a:lnTo>
                    <a:lnTo>
                      <a:pt x="2708" y="2036"/>
                    </a:lnTo>
                    <a:lnTo>
                      <a:pt x="2736" y="1993"/>
                    </a:lnTo>
                    <a:lnTo>
                      <a:pt x="2761" y="1947"/>
                    </a:lnTo>
                    <a:lnTo>
                      <a:pt x="2784" y="1901"/>
                    </a:lnTo>
                    <a:lnTo>
                      <a:pt x="2805" y="1853"/>
                    </a:lnTo>
                    <a:lnTo>
                      <a:pt x="2822" y="1804"/>
                    </a:lnTo>
                    <a:lnTo>
                      <a:pt x="2838" y="1755"/>
                    </a:lnTo>
                    <a:lnTo>
                      <a:pt x="2850" y="1703"/>
                    </a:lnTo>
                    <a:lnTo>
                      <a:pt x="2860" y="1652"/>
                    </a:lnTo>
                    <a:lnTo>
                      <a:pt x="2868" y="1598"/>
                    </a:lnTo>
                    <a:lnTo>
                      <a:pt x="2873" y="1545"/>
                    </a:lnTo>
                    <a:lnTo>
                      <a:pt x="2874" y="1490"/>
                    </a:lnTo>
                    <a:lnTo>
                      <a:pt x="2873" y="1436"/>
                    </a:lnTo>
                    <a:lnTo>
                      <a:pt x="2868" y="1381"/>
                    </a:lnTo>
                    <a:lnTo>
                      <a:pt x="2860" y="1329"/>
                    </a:lnTo>
                    <a:lnTo>
                      <a:pt x="2850" y="1276"/>
                    </a:lnTo>
                    <a:lnTo>
                      <a:pt x="2838" y="1226"/>
                    </a:lnTo>
                    <a:lnTo>
                      <a:pt x="2822" y="1175"/>
                    </a:lnTo>
                    <a:lnTo>
                      <a:pt x="2805" y="1127"/>
                    </a:lnTo>
                    <a:lnTo>
                      <a:pt x="2784" y="1079"/>
                    </a:lnTo>
                    <a:lnTo>
                      <a:pt x="2761" y="1033"/>
                    </a:lnTo>
                    <a:lnTo>
                      <a:pt x="2736" y="987"/>
                    </a:lnTo>
                    <a:lnTo>
                      <a:pt x="2708" y="944"/>
                    </a:lnTo>
                    <a:lnTo>
                      <a:pt x="2679" y="902"/>
                    </a:lnTo>
                    <a:lnTo>
                      <a:pt x="2646" y="860"/>
                    </a:lnTo>
                    <a:lnTo>
                      <a:pt x="2613" y="821"/>
                    </a:lnTo>
                    <a:lnTo>
                      <a:pt x="2577" y="783"/>
                    </a:lnTo>
                    <a:lnTo>
                      <a:pt x="2538" y="747"/>
                    </a:lnTo>
                    <a:lnTo>
                      <a:pt x="2499" y="713"/>
                    </a:lnTo>
                    <a:lnTo>
                      <a:pt x="2457" y="680"/>
                    </a:lnTo>
                    <a:lnTo>
                      <a:pt x="2414" y="650"/>
                    </a:lnTo>
                    <a:lnTo>
                      <a:pt x="2370" y="621"/>
                    </a:lnTo>
                    <a:lnTo>
                      <a:pt x="2323" y="594"/>
                    </a:lnTo>
                    <a:lnTo>
                      <a:pt x="2275" y="569"/>
                    </a:lnTo>
                    <a:lnTo>
                      <a:pt x="2225" y="546"/>
                    </a:lnTo>
                    <a:lnTo>
                      <a:pt x="2175" y="526"/>
                    </a:lnTo>
                    <a:lnTo>
                      <a:pt x="2123" y="508"/>
                    </a:lnTo>
                    <a:lnTo>
                      <a:pt x="2070" y="492"/>
                    </a:lnTo>
                    <a:lnTo>
                      <a:pt x="2015" y="478"/>
                    </a:lnTo>
                    <a:lnTo>
                      <a:pt x="1960" y="466"/>
                    </a:lnTo>
                    <a:lnTo>
                      <a:pt x="1903" y="457"/>
                    </a:lnTo>
                    <a:lnTo>
                      <a:pt x="1846" y="450"/>
                    </a:lnTo>
                    <a:lnTo>
                      <a:pt x="1788" y="446"/>
                    </a:lnTo>
                    <a:lnTo>
                      <a:pt x="1729" y="445"/>
                    </a:lnTo>
                    <a:lnTo>
                      <a:pt x="1670" y="446"/>
                    </a:lnTo>
                    <a:lnTo>
                      <a:pt x="1610" y="450"/>
                    </a:lnTo>
                    <a:lnTo>
                      <a:pt x="1553" y="457"/>
                    </a:lnTo>
                    <a:lnTo>
                      <a:pt x="1496" y="466"/>
                    </a:lnTo>
                    <a:lnTo>
                      <a:pt x="1439" y="478"/>
                    </a:lnTo>
                    <a:lnTo>
                      <a:pt x="1385" y="492"/>
                    </a:lnTo>
                    <a:lnTo>
                      <a:pt x="1331" y="508"/>
                    </a:lnTo>
                    <a:lnTo>
                      <a:pt x="1279" y="526"/>
                    </a:lnTo>
                    <a:lnTo>
                      <a:pt x="1227" y="546"/>
                    </a:lnTo>
                    <a:lnTo>
                      <a:pt x="1178" y="569"/>
                    </a:lnTo>
                    <a:lnTo>
                      <a:pt x="1129" y="594"/>
                    </a:lnTo>
                    <a:lnTo>
                      <a:pt x="1083" y="621"/>
                    </a:lnTo>
                    <a:lnTo>
                      <a:pt x="1038" y="650"/>
                    </a:lnTo>
                    <a:lnTo>
                      <a:pt x="994" y="680"/>
                    </a:lnTo>
                    <a:lnTo>
                      <a:pt x="953" y="713"/>
                    </a:lnTo>
                    <a:lnTo>
                      <a:pt x="912" y="747"/>
                    </a:lnTo>
                    <a:lnTo>
                      <a:pt x="875" y="783"/>
                    </a:lnTo>
                    <a:lnTo>
                      <a:pt x="839" y="821"/>
                    </a:lnTo>
                    <a:lnTo>
                      <a:pt x="804" y="860"/>
                    </a:lnTo>
                    <a:lnTo>
                      <a:pt x="773" y="902"/>
                    </a:lnTo>
                    <a:lnTo>
                      <a:pt x="743" y="944"/>
                    </a:lnTo>
                    <a:lnTo>
                      <a:pt x="715" y="987"/>
                    </a:lnTo>
                    <a:lnTo>
                      <a:pt x="690" y="1033"/>
                    </a:lnTo>
                    <a:lnTo>
                      <a:pt x="667" y="1079"/>
                    </a:lnTo>
                    <a:lnTo>
                      <a:pt x="647" y="1127"/>
                    </a:lnTo>
                    <a:lnTo>
                      <a:pt x="628" y="1175"/>
                    </a:lnTo>
                    <a:lnTo>
                      <a:pt x="612" y="1226"/>
                    </a:lnTo>
                    <a:lnTo>
                      <a:pt x="600" y="1276"/>
                    </a:lnTo>
                    <a:lnTo>
                      <a:pt x="590" y="1329"/>
                    </a:lnTo>
                    <a:lnTo>
                      <a:pt x="583" y="1381"/>
                    </a:lnTo>
                    <a:lnTo>
                      <a:pt x="578" y="1436"/>
                    </a:lnTo>
                    <a:lnTo>
                      <a:pt x="577" y="1490"/>
                    </a:lnTo>
                    <a:lnTo>
                      <a:pt x="578" y="1545"/>
                    </a:lnTo>
                    <a:lnTo>
                      <a:pt x="583" y="1598"/>
                    </a:lnTo>
                    <a:lnTo>
                      <a:pt x="590" y="1652"/>
                    </a:lnTo>
                    <a:lnTo>
                      <a:pt x="600" y="1703"/>
                    </a:lnTo>
                    <a:lnTo>
                      <a:pt x="613" y="1755"/>
                    </a:lnTo>
                    <a:lnTo>
                      <a:pt x="628" y="1804"/>
                    </a:lnTo>
                    <a:lnTo>
                      <a:pt x="647" y="1853"/>
                    </a:lnTo>
                    <a:lnTo>
                      <a:pt x="668" y="1901"/>
                    </a:lnTo>
                    <a:lnTo>
                      <a:pt x="691" y="1947"/>
                    </a:lnTo>
                    <a:lnTo>
                      <a:pt x="716" y="1993"/>
                    </a:lnTo>
                    <a:lnTo>
                      <a:pt x="745" y="2036"/>
                    </a:lnTo>
                    <a:lnTo>
                      <a:pt x="774" y="2079"/>
                    </a:lnTo>
                    <a:lnTo>
                      <a:pt x="806" y="2119"/>
                    </a:lnTo>
                    <a:lnTo>
                      <a:pt x="841" y="2158"/>
                    </a:lnTo>
                    <a:lnTo>
                      <a:pt x="877" y="2197"/>
                    </a:lnTo>
                    <a:lnTo>
                      <a:pt x="915" y="2232"/>
                    </a:lnTo>
                    <a:lnTo>
                      <a:pt x="956" y="2266"/>
                    </a:lnTo>
                    <a:lnTo>
                      <a:pt x="997" y="2300"/>
                    </a:lnTo>
                    <a:lnTo>
                      <a:pt x="1041" y="2330"/>
                    </a:lnTo>
                    <a:lnTo>
                      <a:pt x="1086" y="2359"/>
                    </a:lnTo>
                    <a:lnTo>
                      <a:pt x="1132" y="2385"/>
                    </a:lnTo>
                    <a:lnTo>
                      <a:pt x="1181" y="2411"/>
                    </a:lnTo>
                    <a:lnTo>
                      <a:pt x="1230" y="2433"/>
                    </a:lnTo>
                    <a:lnTo>
                      <a:pt x="1282" y="2454"/>
                    </a:lnTo>
                    <a:lnTo>
                      <a:pt x="1334" y="2472"/>
                    </a:lnTo>
                    <a:lnTo>
                      <a:pt x="1388" y="2488"/>
                    </a:lnTo>
                    <a:lnTo>
                      <a:pt x="1443" y="2502"/>
                    </a:lnTo>
                    <a:lnTo>
                      <a:pt x="1498" y="2514"/>
                    </a:lnTo>
                    <a:lnTo>
                      <a:pt x="1555" y="2523"/>
                    </a:lnTo>
                    <a:lnTo>
                      <a:pt x="1611" y="2529"/>
                    </a:lnTo>
                    <a:lnTo>
                      <a:pt x="1670" y="2533"/>
                    </a:lnTo>
                    <a:lnTo>
                      <a:pt x="1729" y="25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1951560" y="6491880"/>
                <a:ext cx="392760" cy="133920"/>
              </a:xfrm>
              <a:custGeom>
                <a:avLst/>
                <a:gdLst/>
                <a:ahLst/>
                <a:rect l="l" t="t" r="r" b="b"/>
                <a:pathLst>
                  <a:path w="3565" h="1127">
                    <a:moveTo>
                      <a:pt x="3565" y="555"/>
                    </a:moveTo>
                    <a:lnTo>
                      <a:pt x="3563" y="584"/>
                    </a:lnTo>
                    <a:lnTo>
                      <a:pt x="3556" y="613"/>
                    </a:lnTo>
                    <a:lnTo>
                      <a:pt x="3545" y="641"/>
                    </a:lnTo>
                    <a:lnTo>
                      <a:pt x="3529" y="670"/>
                    </a:lnTo>
                    <a:lnTo>
                      <a:pt x="3508" y="698"/>
                    </a:lnTo>
                    <a:lnTo>
                      <a:pt x="3485" y="725"/>
                    </a:lnTo>
                    <a:lnTo>
                      <a:pt x="3457" y="751"/>
                    </a:lnTo>
                    <a:lnTo>
                      <a:pt x="3425" y="778"/>
                    </a:lnTo>
                    <a:lnTo>
                      <a:pt x="3389" y="803"/>
                    </a:lnTo>
                    <a:lnTo>
                      <a:pt x="3350" y="827"/>
                    </a:lnTo>
                    <a:lnTo>
                      <a:pt x="3306" y="851"/>
                    </a:lnTo>
                    <a:lnTo>
                      <a:pt x="3261" y="875"/>
                    </a:lnTo>
                    <a:lnTo>
                      <a:pt x="3211" y="897"/>
                    </a:lnTo>
                    <a:lnTo>
                      <a:pt x="3158" y="919"/>
                    </a:lnTo>
                    <a:lnTo>
                      <a:pt x="3101" y="939"/>
                    </a:lnTo>
                    <a:lnTo>
                      <a:pt x="3043" y="959"/>
                    </a:lnTo>
                    <a:lnTo>
                      <a:pt x="2981" y="979"/>
                    </a:lnTo>
                    <a:lnTo>
                      <a:pt x="2917" y="997"/>
                    </a:lnTo>
                    <a:lnTo>
                      <a:pt x="2849" y="1013"/>
                    </a:lnTo>
                    <a:lnTo>
                      <a:pt x="2779" y="1029"/>
                    </a:lnTo>
                    <a:lnTo>
                      <a:pt x="2707" y="1044"/>
                    </a:lnTo>
                    <a:lnTo>
                      <a:pt x="2632" y="1058"/>
                    </a:lnTo>
                    <a:lnTo>
                      <a:pt x="2555" y="1070"/>
                    </a:lnTo>
                    <a:lnTo>
                      <a:pt x="2476" y="1082"/>
                    </a:lnTo>
                    <a:lnTo>
                      <a:pt x="2395" y="1093"/>
                    </a:lnTo>
                    <a:lnTo>
                      <a:pt x="2313" y="1102"/>
                    </a:lnTo>
                    <a:lnTo>
                      <a:pt x="2228" y="1109"/>
                    </a:lnTo>
                    <a:lnTo>
                      <a:pt x="2142" y="1115"/>
                    </a:lnTo>
                    <a:lnTo>
                      <a:pt x="2054" y="1120"/>
                    </a:lnTo>
                    <a:lnTo>
                      <a:pt x="1964" y="1124"/>
                    </a:lnTo>
                    <a:lnTo>
                      <a:pt x="1874" y="1126"/>
                    </a:lnTo>
                    <a:lnTo>
                      <a:pt x="1782" y="1127"/>
                    </a:lnTo>
                    <a:lnTo>
                      <a:pt x="1691" y="1126"/>
                    </a:lnTo>
                    <a:lnTo>
                      <a:pt x="1601" y="1124"/>
                    </a:lnTo>
                    <a:lnTo>
                      <a:pt x="1511" y="1120"/>
                    </a:lnTo>
                    <a:lnTo>
                      <a:pt x="1423" y="1115"/>
                    </a:lnTo>
                    <a:lnTo>
                      <a:pt x="1337" y="1109"/>
                    </a:lnTo>
                    <a:lnTo>
                      <a:pt x="1252" y="1102"/>
                    </a:lnTo>
                    <a:lnTo>
                      <a:pt x="1169" y="1093"/>
                    </a:lnTo>
                    <a:lnTo>
                      <a:pt x="1089" y="1082"/>
                    </a:lnTo>
                    <a:lnTo>
                      <a:pt x="1010" y="1070"/>
                    </a:lnTo>
                    <a:lnTo>
                      <a:pt x="933" y="1058"/>
                    </a:lnTo>
                    <a:lnTo>
                      <a:pt x="858" y="1044"/>
                    </a:lnTo>
                    <a:lnTo>
                      <a:pt x="786" y="1029"/>
                    </a:lnTo>
                    <a:lnTo>
                      <a:pt x="716" y="1013"/>
                    </a:lnTo>
                    <a:lnTo>
                      <a:pt x="648" y="997"/>
                    </a:lnTo>
                    <a:lnTo>
                      <a:pt x="584" y="979"/>
                    </a:lnTo>
                    <a:lnTo>
                      <a:pt x="522" y="959"/>
                    </a:lnTo>
                    <a:lnTo>
                      <a:pt x="463" y="939"/>
                    </a:lnTo>
                    <a:lnTo>
                      <a:pt x="407" y="919"/>
                    </a:lnTo>
                    <a:lnTo>
                      <a:pt x="354" y="897"/>
                    </a:lnTo>
                    <a:lnTo>
                      <a:pt x="305" y="875"/>
                    </a:lnTo>
                    <a:lnTo>
                      <a:pt x="258" y="851"/>
                    </a:lnTo>
                    <a:lnTo>
                      <a:pt x="215" y="827"/>
                    </a:lnTo>
                    <a:lnTo>
                      <a:pt x="176" y="803"/>
                    </a:lnTo>
                    <a:lnTo>
                      <a:pt x="140" y="778"/>
                    </a:lnTo>
                    <a:lnTo>
                      <a:pt x="108" y="751"/>
                    </a:lnTo>
                    <a:lnTo>
                      <a:pt x="80" y="725"/>
                    </a:lnTo>
                    <a:lnTo>
                      <a:pt x="56" y="698"/>
                    </a:lnTo>
                    <a:lnTo>
                      <a:pt x="36" y="670"/>
                    </a:lnTo>
                    <a:lnTo>
                      <a:pt x="20" y="641"/>
                    </a:lnTo>
                    <a:lnTo>
                      <a:pt x="9" y="613"/>
                    </a:lnTo>
                    <a:lnTo>
                      <a:pt x="2" y="584"/>
                    </a:lnTo>
                    <a:lnTo>
                      <a:pt x="0" y="555"/>
                    </a:lnTo>
                    <a:lnTo>
                      <a:pt x="2" y="525"/>
                    </a:lnTo>
                    <a:lnTo>
                      <a:pt x="9" y="496"/>
                    </a:lnTo>
                    <a:lnTo>
                      <a:pt x="20" y="468"/>
                    </a:lnTo>
                    <a:lnTo>
                      <a:pt x="36" y="441"/>
                    </a:lnTo>
                    <a:lnTo>
                      <a:pt x="56" y="412"/>
                    </a:lnTo>
                    <a:lnTo>
                      <a:pt x="80" y="386"/>
                    </a:lnTo>
                    <a:lnTo>
                      <a:pt x="108" y="360"/>
                    </a:lnTo>
                    <a:lnTo>
                      <a:pt x="140" y="335"/>
                    </a:lnTo>
                    <a:lnTo>
                      <a:pt x="176" y="310"/>
                    </a:lnTo>
                    <a:lnTo>
                      <a:pt x="215" y="286"/>
                    </a:lnTo>
                    <a:lnTo>
                      <a:pt x="258" y="263"/>
                    </a:lnTo>
                    <a:lnTo>
                      <a:pt x="305" y="241"/>
                    </a:lnTo>
                    <a:lnTo>
                      <a:pt x="354" y="219"/>
                    </a:lnTo>
                    <a:lnTo>
                      <a:pt x="407" y="198"/>
                    </a:lnTo>
                    <a:lnTo>
                      <a:pt x="463" y="178"/>
                    </a:lnTo>
                    <a:lnTo>
                      <a:pt x="522" y="159"/>
                    </a:lnTo>
                    <a:lnTo>
                      <a:pt x="584" y="141"/>
                    </a:lnTo>
                    <a:lnTo>
                      <a:pt x="648" y="124"/>
                    </a:lnTo>
                    <a:lnTo>
                      <a:pt x="716" y="107"/>
                    </a:lnTo>
                    <a:lnTo>
                      <a:pt x="786" y="92"/>
                    </a:lnTo>
                    <a:lnTo>
                      <a:pt x="858" y="78"/>
                    </a:lnTo>
                    <a:lnTo>
                      <a:pt x="933" y="65"/>
                    </a:lnTo>
                    <a:lnTo>
                      <a:pt x="1010" y="53"/>
                    </a:lnTo>
                    <a:lnTo>
                      <a:pt x="1089" y="42"/>
                    </a:lnTo>
                    <a:lnTo>
                      <a:pt x="1169" y="33"/>
                    </a:lnTo>
                    <a:lnTo>
                      <a:pt x="1252" y="24"/>
                    </a:lnTo>
                    <a:lnTo>
                      <a:pt x="1337" y="17"/>
                    </a:lnTo>
                    <a:lnTo>
                      <a:pt x="1423" y="11"/>
                    </a:lnTo>
                    <a:lnTo>
                      <a:pt x="1511" y="7"/>
                    </a:lnTo>
                    <a:lnTo>
                      <a:pt x="1601" y="2"/>
                    </a:lnTo>
                    <a:lnTo>
                      <a:pt x="1691" y="0"/>
                    </a:lnTo>
                    <a:lnTo>
                      <a:pt x="1782" y="0"/>
                    </a:lnTo>
                    <a:lnTo>
                      <a:pt x="1874" y="0"/>
                    </a:lnTo>
                    <a:lnTo>
                      <a:pt x="1964" y="2"/>
                    </a:lnTo>
                    <a:lnTo>
                      <a:pt x="2054" y="7"/>
                    </a:lnTo>
                    <a:lnTo>
                      <a:pt x="2142" y="11"/>
                    </a:lnTo>
                    <a:lnTo>
                      <a:pt x="2228" y="17"/>
                    </a:lnTo>
                    <a:lnTo>
                      <a:pt x="2313" y="24"/>
                    </a:lnTo>
                    <a:lnTo>
                      <a:pt x="2395" y="33"/>
                    </a:lnTo>
                    <a:lnTo>
                      <a:pt x="2476" y="42"/>
                    </a:lnTo>
                    <a:lnTo>
                      <a:pt x="2555" y="53"/>
                    </a:lnTo>
                    <a:lnTo>
                      <a:pt x="2632" y="65"/>
                    </a:lnTo>
                    <a:lnTo>
                      <a:pt x="2707" y="78"/>
                    </a:lnTo>
                    <a:lnTo>
                      <a:pt x="2779" y="92"/>
                    </a:lnTo>
                    <a:lnTo>
                      <a:pt x="2849" y="107"/>
                    </a:lnTo>
                    <a:lnTo>
                      <a:pt x="2917" y="124"/>
                    </a:lnTo>
                    <a:lnTo>
                      <a:pt x="2981" y="141"/>
                    </a:lnTo>
                    <a:lnTo>
                      <a:pt x="3043" y="159"/>
                    </a:lnTo>
                    <a:lnTo>
                      <a:pt x="3101" y="178"/>
                    </a:lnTo>
                    <a:lnTo>
                      <a:pt x="3158" y="198"/>
                    </a:lnTo>
                    <a:lnTo>
                      <a:pt x="3211" y="219"/>
                    </a:lnTo>
                    <a:lnTo>
                      <a:pt x="3261" y="241"/>
                    </a:lnTo>
                    <a:lnTo>
                      <a:pt x="3306" y="263"/>
                    </a:lnTo>
                    <a:lnTo>
                      <a:pt x="3350" y="286"/>
                    </a:lnTo>
                    <a:lnTo>
                      <a:pt x="3389" y="310"/>
                    </a:lnTo>
                    <a:lnTo>
                      <a:pt x="3425" y="335"/>
                    </a:lnTo>
                    <a:lnTo>
                      <a:pt x="3457" y="360"/>
                    </a:lnTo>
                    <a:lnTo>
                      <a:pt x="3485" y="386"/>
                    </a:lnTo>
                    <a:lnTo>
                      <a:pt x="3508" y="412"/>
                    </a:lnTo>
                    <a:lnTo>
                      <a:pt x="3529" y="441"/>
                    </a:lnTo>
                    <a:lnTo>
                      <a:pt x="3545" y="468"/>
                    </a:lnTo>
                    <a:lnTo>
                      <a:pt x="3556" y="496"/>
                    </a:lnTo>
                    <a:lnTo>
                      <a:pt x="3563" y="525"/>
                    </a:lnTo>
                    <a:lnTo>
                      <a:pt x="3565" y="5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1951560" y="6491880"/>
                <a:ext cx="392760" cy="133920"/>
              </a:xfrm>
              <a:custGeom>
                <a:avLst/>
                <a:gdLst/>
                <a:ahLst/>
                <a:rect l="l" t="t" r="r" b="b"/>
                <a:pathLst>
                  <a:path w="3562" h="1126">
                    <a:moveTo>
                      <a:pt x="3562" y="555"/>
                    </a:moveTo>
                    <a:lnTo>
                      <a:pt x="3559" y="584"/>
                    </a:lnTo>
                    <a:lnTo>
                      <a:pt x="3552" y="613"/>
                    </a:lnTo>
                    <a:lnTo>
                      <a:pt x="3541" y="641"/>
                    </a:lnTo>
                    <a:lnTo>
                      <a:pt x="3526" y="670"/>
                    </a:lnTo>
                    <a:lnTo>
                      <a:pt x="3505" y="697"/>
                    </a:lnTo>
                    <a:lnTo>
                      <a:pt x="3481" y="724"/>
                    </a:lnTo>
                    <a:lnTo>
                      <a:pt x="3454" y="751"/>
                    </a:lnTo>
                    <a:lnTo>
                      <a:pt x="3422" y="777"/>
                    </a:lnTo>
                    <a:lnTo>
                      <a:pt x="3386" y="802"/>
                    </a:lnTo>
                    <a:lnTo>
                      <a:pt x="3347" y="827"/>
                    </a:lnTo>
                    <a:lnTo>
                      <a:pt x="3303" y="851"/>
                    </a:lnTo>
                    <a:lnTo>
                      <a:pt x="3257" y="875"/>
                    </a:lnTo>
                    <a:lnTo>
                      <a:pt x="3208" y="897"/>
                    </a:lnTo>
                    <a:lnTo>
                      <a:pt x="3155" y="918"/>
                    </a:lnTo>
                    <a:lnTo>
                      <a:pt x="3098" y="939"/>
                    </a:lnTo>
                    <a:lnTo>
                      <a:pt x="3040" y="958"/>
                    </a:lnTo>
                    <a:lnTo>
                      <a:pt x="2978" y="978"/>
                    </a:lnTo>
                    <a:lnTo>
                      <a:pt x="2914" y="996"/>
                    </a:lnTo>
                    <a:lnTo>
                      <a:pt x="2846" y="1013"/>
                    </a:lnTo>
                    <a:lnTo>
                      <a:pt x="2776" y="1028"/>
                    </a:lnTo>
                    <a:lnTo>
                      <a:pt x="2704" y="1043"/>
                    </a:lnTo>
                    <a:lnTo>
                      <a:pt x="2630" y="1057"/>
                    </a:lnTo>
                    <a:lnTo>
                      <a:pt x="2553" y="1069"/>
                    </a:lnTo>
                    <a:lnTo>
                      <a:pt x="2473" y="1082"/>
                    </a:lnTo>
                    <a:lnTo>
                      <a:pt x="2392" y="1092"/>
                    </a:lnTo>
                    <a:lnTo>
                      <a:pt x="2310" y="1101"/>
                    </a:lnTo>
                    <a:lnTo>
                      <a:pt x="2226" y="1108"/>
                    </a:lnTo>
                    <a:lnTo>
                      <a:pt x="2139" y="1115"/>
                    </a:lnTo>
                    <a:lnTo>
                      <a:pt x="2052" y="1120"/>
                    </a:lnTo>
                    <a:lnTo>
                      <a:pt x="1962" y="1123"/>
                    </a:lnTo>
                    <a:lnTo>
                      <a:pt x="1872" y="1125"/>
                    </a:lnTo>
                    <a:lnTo>
                      <a:pt x="1780" y="1126"/>
                    </a:lnTo>
                    <a:lnTo>
                      <a:pt x="1689" y="1125"/>
                    </a:lnTo>
                    <a:lnTo>
                      <a:pt x="1599" y="1123"/>
                    </a:lnTo>
                    <a:lnTo>
                      <a:pt x="1509" y="1120"/>
                    </a:lnTo>
                    <a:lnTo>
                      <a:pt x="1422" y="1115"/>
                    </a:lnTo>
                    <a:lnTo>
                      <a:pt x="1335" y="1108"/>
                    </a:lnTo>
                    <a:lnTo>
                      <a:pt x="1251" y="1101"/>
                    </a:lnTo>
                    <a:lnTo>
                      <a:pt x="1168" y="1092"/>
                    </a:lnTo>
                    <a:lnTo>
                      <a:pt x="1088" y="1082"/>
                    </a:lnTo>
                    <a:lnTo>
                      <a:pt x="1008" y="1069"/>
                    </a:lnTo>
                    <a:lnTo>
                      <a:pt x="931" y="1057"/>
                    </a:lnTo>
                    <a:lnTo>
                      <a:pt x="857" y="1043"/>
                    </a:lnTo>
                    <a:lnTo>
                      <a:pt x="785" y="1028"/>
                    </a:lnTo>
                    <a:lnTo>
                      <a:pt x="715" y="1013"/>
                    </a:lnTo>
                    <a:lnTo>
                      <a:pt x="647" y="996"/>
                    </a:lnTo>
                    <a:lnTo>
                      <a:pt x="583" y="978"/>
                    </a:lnTo>
                    <a:lnTo>
                      <a:pt x="521" y="958"/>
                    </a:lnTo>
                    <a:lnTo>
                      <a:pt x="462" y="939"/>
                    </a:lnTo>
                    <a:lnTo>
                      <a:pt x="406" y="918"/>
                    </a:lnTo>
                    <a:lnTo>
                      <a:pt x="353" y="897"/>
                    </a:lnTo>
                    <a:lnTo>
                      <a:pt x="304" y="875"/>
                    </a:lnTo>
                    <a:lnTo>
                      <a:pt x="257" y="851"/>
                    </a:lnTo>
                    <a:lnTo>
                      <a:pt x="214" y="827"/>
                    </a:lnTo>
                    <a:lnTo>
                      <a:pt x="175" y="802"/>
                    </a:lnTo>
                    <a:lnTo>
                      <a:pt x="139" y="777"/>
                    </a:lnTo>
                    <a:lnTo>
                      <a:pt x="108" y="751"/>
                    </a:lnTo>
                    <a:lnTo>
                      <a:pt x="80" y="724"/>
                    </a:lnTo>
                    <a:lnTo>
                      <a:pt x="55" y="697"/>
                    </a:lnTo>
                    <a:lnTo>
                      <a:pt x="35" y="670"/>
                    </a:lnTo>
                    <a:lnTo>
                      <a:pt x="20" y="641"/>
                    </a:lnTo>
                    <a:lnTo>
                      <a:pt x="9" y="613"/>
                    </a:lnTo>
                    <a:lnTo>
                      <a:pt x="2" y="584"/>
                    </a:lnTo>
                    <a:lnTo>
                      <a:pt x="0" y="555"/>
                    </a:lnTo>
                    <a:lnTo>
                      <a:pt x="2" y="525"/>
                    </a:lnTo>
                    <a:lnTo>
                      <a:pt x="9" y="496"/>
                    </a:lnTo>
                    <a:lnTo>
                      <a:pt x="20" y="468"/>
                    </a:lnTo>
                    <a:lnTo>
                      <a:pt x="35" y="441"/>
                    </a:lnTo>
                    <a:lnTo>
                      <a:pt x="55" y="413"/>
                    </a:lnTo>
                    <a:lnTo>
                      <a:pt x="80" y="386"/>
                    </a:lnTo>
                    <a:lnTo>
                      <a:pt x="108" y="361"/>
                    </a:lnTo>
                    <a:lnTo>
                      <a:pt x="139" y="335"/>
                    </a:lnTo>
                    <a:lnTo>
                      <a:pt x="175" y="310"/>
                    </a:lnTo>
                    <a:lnTo>
                      <a:pt x="214" y="286"/>
                    </a:lnTo>
                    <a:lnTo>
                      <a:pt x="257" y="263"/>
                    </a:lnTo>
                    <a:lnTo>
                      <a:pt x="304" y="241"/>
                    </a:lnTo>
                    <a:lnTo>
                      <a:pt x="353" y="220"/>
                    </a:lnTo>
                    <a:lnTo>
                      <a:pt x="406" y="198"/>
                    </a:lnTo>
                    <a:lnTo>
                      <a:pt x="462" y="178"/>
                    </a:lnTo>
                    <a:lnTo>
                      <a:pt x="521" y="160"/>
                    </a:lnTo>
                    <a:lnTo>
                      <a:pt x="583" y="142"/>
                    </a:lnTo>
                    <a:lnTo>
                      <a:pt x="647" y="125"/>
                    </a:lnTo>
                    <a:lnTo>
                      <a:pt x="715" y="108"/>
                    </a:lnTo>
                    <a:lnTo>
                      <a:pt x="785" y="93"/>
                    </a:lnTo>
                    <a:lnTo>
                      <a:pt x="857" y="79"/>
                    </a:lnTo>
                    <a:lnTo>
                      <a:pt x="931" y="66"/>
                    </a:lnTo>
                    <a:lnTo>
                      <a:pt x="1008" y="54"/>
                    </a:lnTo>
                    <a:lnTo>
                      <a:pt x="1088" y="43"/>
                    </a:lnTo>
                    <a:lnTo>
                      <a:pt x="1168" y="34"/>
                    </a:lnTo>
                    <a:lnTo>
                      <a:pt x="1251" y="25"/>
                    </a:lnTo>
                    <a:lnTo>
                      <a:pt x="1335" y="18"/>
                    </a:lnTo>
                    <a:lnTo>
                      <a:pt x="1422" y="12"/>
                    </a:lnTo>
                    <a:lnTo>
                      <a:pt x="1509" y="8"/>
                    </a:lnTo>
                    <a:lnTo>
                      <a:pt x="1599" y="3"/>
                    </a:lnTo>
                    <a:lnTo>
                      <a:pt x="1689" y="1"/>
                    </a:lnTo>
                    <a:lnTo>
                      <a:pt x="1780" y="0"/>
                    </a:lnTo>
                    <a:lnTo>
                      <a:pt x="1872" y="1"/>
                    </a:lnTo>
                    <a:lnTo>
                      <a:pt x="1962" y="3"/>
                    </a:lnTo>
                    <a:lnTo>
                      <a:pt x="2052" y="8"/>
                    </a:lnTo>
                    <a:lnTo>
                      <a:pt x="2139" y="12"/>
                    </a:lnTo>
                    <a:lnTo>
                      <a:pt x="2226" y="18"/>
                    </a:lnTo>
                    <a:lnTo>
                      <a:pt x="2310" y="25"/>
                    </a:lnTo>
                    <a:lnTo>
                      <a:pt x="2392" y="34"/>
                    </a:lnTo>
                    <a:lnTo>
                      <a:pt x="2473" y="43"/>
                    </a:lnTo>
                    <a:lnTo>
                      <a:pt x="2553" y="54"/>
                    </a:lnTo>
                    <a:lnTo>
                      <a:pt x="2630" y="66"/>
                    </a:lnTo>
                    <a:lnTo>
                      <a:pt x="2704" y="79"/>
                    </a:lnTo>
                    <a:lnTo>
                      <a:pt x="2776" y="93"/>
                    </a:lnTo>
                    <a:lnTo>
                      <a:pt x="2846" y="108"/>
                    </a:lnTo>
                    <a:lnTo>
                      <a:pt x="2914" y="125"/>
                    </a:lnTo>
                    <a:lnTo>
                      <a:pt x="2978" y="142"/>
                    </a:lnTo>
                    <a:lnTo>
                      <a:pt x="3040" y="160"/>
                    </a:lnTo>
                    <a:lnTo>
                      <a:pt x="3098" y="178"/>
                    </a:lnTo>
                    <a:lnTo>
                      <a:pt x="3155" y="198"/>
                    </a:lnTo>
                    <a:lnTo>
                      <a:pt x="3208" y="220"/>
                    </a:lnTo>
                    <a:lnTo>
                      <a:pt x="3257" y="241"/>
                    </a:lnTo>
                    <a:lnTo>
                      <a:pt x="3303" y="263"/>
                    </a:lnTo>
                    <a:lnTo>
                      <a:pt x="3347" y="286"/>
                    </a:lnTo>
                    <a:lnTo>
                      <a:pt x="3386" y="310"/>
                    </a:lnTo>
                    <a:lnTo>
                      <a:pt x="3422" y="335"/>
                    </a:lnTo>
                    <a:lnTo>
                      <a:pt x="3454" y="361"/>
                    </a:lnTo>
                    <a:lnTo>
                      <a:pt x="3481" y="386"/>
                    </a:lnTo>
                    <a:lnTo>
                      <a:pt x="3505" y="413"/>
                    </a:lnTo>
                    <a:lnTo>
                      <a:pt x="3526" y="441"/>
                    </a:lnTo>
                    <a:lnTo>
                      <a:pt x="3541" y="468"/>
                    </a:lnTo>
                    <a:lnTo>
                      <a:pt x="3552" y="496"/>
                    </a:lnTo>
                    <a:lnTo>
                      <a:pt x="3559" y="525"/>
                    </a:lnTo>
                    <a:lnTo>
                      <a:pt x="3562" y="5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951560" y="6491880"/>
                <a:ext cx="392760" cy="133920"/>
              </a:xfrm>
              <a:custGeom>
                <a:avLst/>
                <a:gdLst/>
                <a:ahLst/>
                <a:rect l="l" t="t" r="r" b="b"/>
                <a:pathLst>
                  <a:path w="3559" h="1124">
                    <a:moveTo>
                      <a:pt x="3559" y="554"/>
                    </a:moveTo>
                    <a:lnTo>
                      <a:pt x="3557" y="583"/>
                    </a:lnTo>
                    <a:lnTo>
                      <a:pt x="3550" y="612"/>
                    </a:lnTo>
                    <a:lnTo>
                      <a:pt x="3539" y="640"/>
                    </a:lnTo>
                    <a:lnTo>
                      <a:pt x="3523" y="669"/>
                    </a:lnTo>
                    <a:lnTo>
                      <a:pt x="3503" y="696"/>
                    </a:lnTo>
                    <a:lnTo>
                      <a:pt x="3479" y="723"/>
                    </a:lnTo>
                    <a:lnTo>
                      <a:pt x="3451" y="749"/>
                    </a:lnTo>
                    <a:lnTo>
                      <a:pt x="3420" y="776"/>
                    </a:lnTo>
                    <a:lnTo>
                      <a:pt x="3383" y="801"/>
                    </a:lnTo>
                    <a:lnTo>
                      <a:pt x="3344" y="825"/>
                    </a:lnTo>
                    <a:lnTo>
                      <a:pt x="3301" y="849"/>
                    </a:lnTo>
                    <a:lnTo>
                      <a:pt x="3255" y="873"/>
                    </a:lnTo>
                    <a:lnTo>
                      <a:pt x="3205" y="895"/>
                    </a:lnTo>
                    <a:lnTo>
                      <a:pt x="3153" y="917"/>
                    </a:lnTo>
                    <a:lnTo>
                      <a:pt x="3096" y="937"/>
                    </a:lnTo>
                    <a:lnTo>
                      <a:pt x="3038" y="957"/>
                    </a:lnTo>
                    <a:lnTo>
                      <a:pt x="2976" y="976"/>
                    </a:lnTo>
                    <a:lnTo>
                      <a:pt x="2912" y="994"/>
                    </a:lnTo>
                    <a:lnTo>
                      <a:pt x="2844" y="1011"/>
                    </a:lnTo>
                    <a:lnTo>
                      <a:pt x="2774" y="1027"/>
                    </a:lnTo>
                    <a:lnTo>
                      <a:pt x="2703" y="1041"/>
                    </a:lnTo>
                    <a:lnTo>
                      <a:pt x="2628" y="1055"/>
                    </a:lnTo>
                    <a:lnTo>
                      <a:pt x="2551" y="1067"/>
                    </a:lnTo>
                    <a:lnTo>
                      <a:pt x="2472" y="1080"/>
                    </a:lnTo>
                    <a:lnTo>
                      <a:pt x="2391" y="1090"/>
                    </a:lnTo>
                    <a:lnTo>
                      <a:pt x="2309" y="1099"/>
                    </a:lnTo>
                    <a:lnTo>
                      <a:pt x="2224" y="1106"/>
                    </a:lnTo>
                    <a:lnTo>
                      <a:pt x="2138" y="1113"/>
                    </a:lnTo>
                    <a:lnTo>
                      <a:pt x="2050" y="1118"/>
                    </a:lnTo>
                    <a:lnTo>
                      <a:pt x="1961" y="1121"/>
                    </a:lnTo>
                    <a:lnTo>
                      <a:pt x="1871" y="1123"/>
                    </a:lnTo>
                    <a:lnTo>
                      <a:pt x="1779" y="1124"/>
                    </a:lnTo>
                    <a:lnTo>
                      <a:pt x="1688" y="1123"/>
                    </a:lnTo>
                    <a:lnTo>
                      <a:pt x="1598" y="1121"/>
                    </a:lnTo>
                    <a:lnTo>
                      <a:pt x="1509" y="1118"/>
                    </a:lnTo>
                    <a:lnTo>
                      <a:pt x="1421" y="1113"/>
                    </a:lnTo>
                    <a:lnTo>
                      <a:pt x="1335" y="1106"/>
                    </a:lnTo>
                    <a:lnTo>
                      <a:pt x="1250" y="1099"/>
                    </a:lnTo>
                    <a:lnTo>
                      <a:pt x="1167" y="1090"/>
                    </a:lnTo>
                    <a:lnTo>
                      <a:pt x="1087" y="1080"/>
                    </a:lnTo>
                    <a:lnTo>
                      <a:pt x="1008" y="1067"/>
                    </a:lnTo>
                    <a:lnTo>
                      <a:pt x="931" y="1055"/>
                    </a:lnTo>
                    <a:lnTo>
                      <a:pt x="856" y="1041"/>
                    </a:lnTo>
                    <a:lnTo>
                      <a:pt x="785" y="1027"/>
                    </a:lnTo>
                    <a:lnTo>
                      <a:pt x="715" y="1011"/>
                    </a:lnTo>
                    <a:lnTo>
                      <a:pt x="647" y="994"/>
                    </a:lnTo>
                    <a:lnTo>
                      <a:pt x="583" y="976"/>
                    </a:lnTo>
                    <a:lnTo>
                      <a:pt x="521" y="957"/>
                    </a:lnTo>
                    <a:lnTo>
                      <a:pt x="463" y="937"/>
                    </a:lnTo>
                    <a:lnTo>
                      <a:pt x="406" y="917"/>
                    </a:lnTo>
                    <a:lnTo>
                      <a:pt x="353" y="895"/>
                    </a:lnTo>
                    <a:lnTo>
                      <a:pt x="304" y="873"/>
                    </a:lnTo>
                    <a:lnTo>
                      <a:pt x="257" y="849"/>
                    </a:lnTo>
                    <a:lnTo>
                      <a:pt x="215" y="825"/>
                    </a:lnTo>
                    <a:lnTo>
                      <a:pt x="176" y="801"/>
                    </a:lnTo>
                    <a:lnTo>
                      <a:pt x="139" y="776"/>
                    </a:lnTo>
                    <a:lnTo>
                      <a:pt x="108" y="749"/>
                    </a:lnTo>
                    <a:lnTo>
                      <a:pt x="80" y="723"/>
                    </a:lnTo>
                    <a:lnTo>
                      <a:pt x="55" y="696"/>
                    </a:lnTo>
                    <a:lnTo>
                      <a:pt x="36" y="669"/>
                    </a:lnTo>
                    <a:lnTo>
                      <a:pt x="20" y="640"/>
                    </a:lnTo>
                    <a:lnTo>
                      <a:pt x="9" y="612"/>
                    </a:lnTo>
                    <a:lnTo>
                      <a:pt x="2" y="583"/>
                    </a:lnTo>
                    <a:lnTo>
                      <a:pt x="0" y="554"/>
                    </a:lnTo>
                    <a:lnTo>
                      <a:pt x="2" y="524"/>
                    </a:lnTo>
                    <a:lnTo>
                      <a:pt x="9" y="495"/>
                    </a:lnTo>
                    <a:lnTo>
                      <a:pt x="20" y="467"/>
                    </a:lnTo>
                    <a:lnTo>
                      <a:pt x="36" y="440"/>
                    </a:lnTo>
                    <a:lnTo>
                      <a:pt x="55" y="412"/>
                    </a:lnTo>
                    <a:lnTo>
                      <a:pt x="80" y="386"/>
                    </a:lnTo>
                    <a:lnTo>
                      <a:pt x="108" y="360"/>
                    </a:lnTo>
                    <a:lnTo>
                      <a:pt x="139" y="335"/>
                    </a:lnTo>
                    <a:lnTo>
                      <a:pt x="176" y="309"/>
                    </a:lnTo>
                    <a:lnTo>
                      <a:pt x="215" y="286"/>
                    </a:lnTo>
                    <a:lnTo>
                      <a:pt x="257" y="263"/>
                    </a:lnTo>
                    <a:lnTo>
                      <a:pt x="304" y="241"/>
                    </a:lnTo>
                    <a:lnTo>
                      <a:pt x="353" y="219"/>
                    </a:lnTo>
                    <a:lnTo>
                      <a:pt x="406" y="198"/>
                    </a:lnTo>
                    <a:lnTo>
                      <a:pt x="463" y="178"/>
                    </a:lnTo>
                    <a:lnTo>
                      <a:pt x="521" y="159"/>
                    </a:lnTo>
                    <a:lnTo>
                      <a:pt x="583" y="141"/>
                    </a:lnTo>
                    <a:lnTo>
                      <a:pt x="647" y="124"/>
                    </a:lnTo>
                    <a:lnTo>
                      <a:pt x="715" y="107"/>
                    </a:lnTo>
                    <a:lnTo>
                      <a:pt x="785" y="92"/>
                    </a:lnTo>
                    <a:lnTo>
                      <a:pt x="856" y="78"/>
                    </a:lnTo>
                    <a:lnTo>
                      <a:pt x="931" y="66"/>
                    </a:lnTo>
                    <a:lnTo>
                      <a:pt x="1008" y="54"/>
                    </a:lnTo>
                    <a:lnTo>
                      <a:pt x="1087" y="43"/>
                    </a:lnTo>
                    <a:lnTo>
                      <a:pt x="1167" y="34"/>
                    </a:lnTo>
                    <a:lnTo>
                      <a:pt x="1250" y="25"/>
                    </a:lnTo>
                    <a:lnTo>
                      <a:pt x="1335" y="18"/>
                    </a:lnTo>
                    <a:lnTo>
                      <a:pt x="1421" y="12"/>
                    </a:lnTo>
                    <a:lnTo>
                      <a:pt x="1509" y="7"/>
                    </a:lnTo>
                    <a:lnTo>
                      <a:pt x="1598" y="4"/>
                    </a:lnTo>
                    <a:lnTo>
                      <a:pt x="1688" y="1"/>
                    </a:lnTo>
                    <a:lnTo>
                      <a:pt x="1779" y="0"/>
                    </a:lnTo>
                    <a:lnTo>
                      <a:pt x="1871" y="1"/>
                    </a:lnTo>
                    <a:lnTo>
                      <a:pt x="1961" y="4"/>
                    </a:lnTo>
                    <a:lnTo>
                      <a:pt x="2050" y="7"/>
                    </a:lnTo>
                    <a:lnTo>
                      <a:pt x="2138" y="12"/>
                    </a:lnTo>
                    <a:lnTo>
                      <a:pt x="2224" y="18"/>
                    </a:lnTo>
                    <a:lnTo>
                      <a:pt x="2309" y="25"/>
                    </a:lnTo>
                    <a:lnTo>
                      <a:pt x="2391" y="34"/>
                    </a:lnTo>
                    <a:lnTo>
                      <a:pt x="2472" y="43"/>
                    </a:lnTo>
                    <a:lnTo>
                      <a:pt x="2551" y="54"/>
                    </a:lnTo>
                    <a:lnTo>
                      <a:pt x="2628" y="66"/>
                    </a:lnTo>
                    <a:lnTo>
                      <a:pt x="2703" y="78"/>
                    </a:lnTo>
                    <a:lnTo>
                      <a:pt x="2774" y="92"/>
                    </a:lnTo>
                    <a:lnTo>
                      <a:pt x="2844" y="107"/>
                    </a:lnTo>
                    <a:lnTo>
                      <a:pt x="2912" y="124"/>
                    </a:lnTo>
                    <a:lnTo>
                      <a:pt x="2976" y="141"/>
                    </a:lnTo>
                    <a:lnTo>
                      <a:pt x="3038" y="159"/>
                    </a:lnTo>
                    <a:lnTo>
                      <a:pt x="3096" y="178"/>
                    </a:lnTo>
                    <a:lnTo>
                      <a:pt x="3153" y="198"/>
                    </a:lnTo>
                    <a:lnTo>
                      <a:pt x="3205" y="219"/>
                    </a:lnTo>
                    <a:lnTo>
                      <a:pt x="3255" y="241"/>
                    </a:lnTo>
                    <a:lnTo>
                      <a:pt x="3301" y="263"/>
                    </a:lnTo>
                    <a:lnTo>
                      <a:pt x="3344" y="286"/>
                    </a:lnTo>
                    <a:lnTo>
                      <a:pt x="3383" y="309"/>
                    </a:lnTo>
                    <a:lnTo>
                      <a:pt x="3420" y="335"/>
                    </a:lnTo>
                    <a:lnTo>
                      <a:pt x="3451" y="360"/>
                    </a:lnTo>
                    <a:lnTo>
                      <a:pt x="3479" y="386"/>
                    </a:lnTo>
                    <a:lnTo>
                      <a:pt x="3503" y="412"/>
                    </a:lnTo>
                    <a:lnTo>
                      <a:pt x="3523" y="440"/>
                    </a:lnTo>
                    <a:lnTo>
                      <a:pt x="3539" y="467"/>
                    </a:lnTo>
                    <a:lnTo>
                      <a:pt x="3550" y="495"/>
                    </a:lnTo>
                    <a:lnTo>
                      <a:pt x="3557" y="524"/>
                    </a:lnTo>
                    <a:lnTo>
                      <a:pt x="3559" y="5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951560" y="6491880"/>
                <a:ext cx="392760" cy="133920"/>
              </a:xfrm>
              <a:custGeom>
                <a:avLst/>
                <a:gdLst/>
                <a:ahLst/>
                <a:rect l="l" t="t" r="r" b="b"/>
                <a:pathLst>
                  <a:path w="3557" h="1122">
                    <a:moveTo>
                      <a:pt x="3557" y="553"/>
                    </a:moveTo>
                    <a:lnTo>
                      <a:pt x="3554" y="582"/>
                    </a:lnTo>
                    <a:lnTo>
                      <a:pt x="3548" y="611"/>
                    </a:lnTo>
                    <a:lnTo>
                      <a:pt x="3536" y="639"/>
                    </a:lnTo>
                    <a:lnTo>
                      <a:pt x="3521" y="668"/>
                    </a:lnTo>
                    <a:lnTo>
                      <a:pt x="3500" y="695"/>
                    </a:lnTo>
                    <a:lnTo>
                      <a:pt x="3477" y="722"/>
                    </a:lnTo>
                    <a:lnTo>
                      <a:pt x="3449" y="748"/>
                    </a:lnTo>
                    <a:lnTo>
                      <a:pt x="3417" y="775"/>
                    </a:lnTo>
                    <a:lnTo>
                      <a:pt x="3381" y="800"/>
                    </a:lnTo>
                    <a:lnTo>
                      <a:pt x="3342" y="824"/>
                    </a:lnTo>
                    <a:lnTo>
                      <a:pt x="3299" y="848"/>
                    </a:lnTo>
                    <a:lnTo>
                      <a:pt x="3253" y="872"/>
                    </a:lnTo>
                    <a:lnTo>
                      <a:pt x="3203" y="894"/>
                    </a:lnTo>
                    <a:lnTo>
                      <a:pt x="3151" y="915"/>
                    </a:lnTo>
                    <a:lnTo>
                      <a:pt x="3094" y="935"/>
                    </a:lnTo>
                    <a:lnTo>
                      <a:pt x="3036" y="955"/>
                    </a:lnTo>
                    <a:lnTo>
                      <a:pt x="2974" y="975"/>
                    </a:lnTo>
                    <a:lnTo>
                      <a:pt x="2910" y="992"/>
                    </a:lnTo>
                    <a:lnTo>
                      <a:pt x="2842" y="1009"/>
                    </a:lnTo>
                    <a:lnTo>
                      <a:pt x="2772" y="1025"/>
                    </a:lnTo>
                    <a:lnTo>
                      <a:pt x="2701" y="1040"/>
                    </a:lnTo>
                    <a:lnTo>
                      <a:pt x="2626" y="1053"/>
                    </a:lnTo>
                    <a:lnTo>
                      <a:pt x="2549" y="1066"/>
                    </a:lnTo>
                    <a:lnTo>
                      <a:pt x="2470" y="1078"/>
                    </a:lnTo>
                    <a:lnTo>
                      <a:pt x="2389" y="1088"/>
                    </a:lnTo>
                    <a:lnTo>
                      <a:pt x="2308" y="1097"/>
                    </a:lnTo>
                    <a:lnTo>
                      <a:pt x="2223" y="1104"/>
                    </a:lnTo>
                    <a:lnTo>
                      <a:pt x="2137" y="1111"/>
                    </a:lnTo>
                    <a:lnTo>
                      <a:pt x="2049" y="1116"/>
                    </a:lnTo>
                    <a:lnTo>
                      <a:pt x="1960" y="1119"/>
                    </a:lnTo>
                    <a:lnTo>
                      <a:pt x="1870" y="1122"/>
                    </a:lnTo>
                    <a:lnTo>
                      <a:pt x="1778" y="1122"/>
                    </a:lnTo>
                    <a:lnTo>
                      <a:pt x="1687" y="1122"/>
                    </a:lnTo>
                    <a:lnTo>
                      <a:pt x="1597" y="1119"/>
                    </a:lnTo>
                    <a:lnTo>
                      <a:pt x="1508" y="1116"/>
                    </a:lnTo>
                    <a:lnTo>
                      <a:pt x="1420" y="1111"/>
                    </a:lnTo>
                    <a:lnTo>
                      <a:pt x="1334" y="1104"/>
                    </a:lnTo>
                    <a:lnTo>
                      <a:pt x="1249" y="1097"/>
                    </a:lnTo>
                    <a:lnTo>
                      <a:pt x="1167" y="1088"/>
                    </a:lnTo>
                    <a:lnTo>
                      <a:pt x="1087" y="1078"/>
                    </a:lnTo>
                    <a:lnTo>
                      <a:pt x="1008" y="1066"/>
                    </a:lnTo>
                    <a:lnTo>
                      <a:pt x="931" y="1053"/>
                    </a:lnTo>
                    <a:lnTo>
                      <a:pt x="856" y="1040"/>
                    </a:lnTo>
                    <a:lnTo>
                      <a:pt x="785" y="1025"/>
                    </a:lnTo>
                    <a:lnTo>
                      <a:pt x="715" y="1009"/>
                    </a:lnTo>
                    <a:lnTo>
                      <a:pt x="647" y="992"/>
                    </a:lnTo>
                    <a:lnTo>
                      <a:pt x="583" y="975"/>
                    </a:lnTo>
                    <a:lnTo>
                      <a:pt x="521" y="955"/>
                    </a:lnTo>
                    <a:lnTo>
                      <a:pt x="463" y="935"/>
                    </a:lnTo>
                    <a:lnTo>
                      <a:pt x="406" y="915"/>
                    </a:lnTo>
                    <a:lnTo>
                      <a:pt x="353" y="894"/>
                    </a:lnTo>
                    <a:lnTo>
                      <a:pt x="304" y="872"/>
                    </a:lnTo>
                    <a:lnTo>
                      <a:pt x="257" y="848"/>
                    </a:lnTo>
                    <a:lnTo>
                      <a:pt x="215" y="824"/>
                    </a:lnTo>
                    <a:lnTo>
                      <a:pt x="176" y="800"/>
                    </a:lnTo>
                    <a:lnTo>
                      <a:pt x="140" y="775"/>
                    </a:lnTo>
                    <a:lnTo>
                      <a:pt x="108" y="748"/>
                    </a:lnTo>
                    <a:lnTo>
                      <a:pt x="81" y="722"/>
                    </a:lnTo>
                    <a:lnTo>
                      <a:pt x="57" y="695"/>
                    </a:lnTo>
                    <a:lnTo>
                      <a:pt x="36" y="668"/>
                    </a:lnTo>
                    <a:lnTo>
                      <a:pt x="21" y="639"/>
                    </a:lnTo>
                    <a:lnTo>
                      <a:pt x="9" y="611"/>
                    </a:lnTo>
                    <a:lnTo>
                      <a:pt x="3" y="582"/>
                    </a:lnTo>
                    <a:lnTo>
                      <a:pt x="0" y="553"/>
                    </a:lnTo>
                    <a:lnTo>
                      <a:pt x="3" y="523"/>
                    </a:lnTo>
                    <a:lnTo>
                      <a:pt x="9" y="495"/>
                    </a:lnTo>
                    <a:lnTo>
                      <a:pt x="21" y="467"/>
                    </a:lnTo>
                    <a:lnTo>
                      <a:pt x="36" y="439"/>
                    </a:lnTo>
                    <a:lnTo>
                      <a:pt x="57" y="411"/>
                    </a:lnTo>
                    <a:lnTo>
                      <a:pt x="81" y="385"/>
                    </a:lnTo>
                    <a:lnTo>
                      <a:pt x="108" y="359"/>
                    </a:lnTo>
                    <a:lnTo>
                      <a:pt x="140" y="334"/>
                    </a:lnTo>
                    <a:lnTo>
                      <a:pt x="176" y="309"/>
                    </a:lnTo>
                    <a:lnTo>
                      <a:pt x="215" y="285"/>
                    </a:lnTo>
                    <a:lnTo>
                      <a:pt x="257" y="262"/>
                    </a:lnTo>
                    <a:lnTo>
                      <a:pt x="304" y="240"/>
                    </a:lnTo>
                    <a:lnTo>
                      <a:pt x="353" y="219"/>
                    </a:lnTo>
                    <a:lnTo>
                      <a:pt x="406" y="197"/>
                    </a:lnTo>
                    <a:lnTo>
                      <a:pt x="463" y="178"/>
                    </a:lnTo>
                    <a:lnTo>
                      <a:pt x="521" y="159"/>
                    </a:lnTo>
                    <a:lnTo>
                      <a:pt x="583" y="141"/>
                    </a:lnTo>
                    <a:lnTo>
                      <a:pt x="647" y="124"/>
                    </a:lnTo>
                    <a:lnTo>
                      <a:pt x="715" y="107"/>
                    </a:lnTo>
                    <a:lnTo>
                      <a:pt x="785" y="92"/>
                    </a:lnTo>
                    <a:lnTo>
                      <a:pt x="856" y="78"/>
                    </a:lnTo>
                    <a:lnTo>
                      <a:pt x="931" y="65"/>
                    </a:lnTo>
                    <a:lnTo>
                      <a:pt x="1008" y="54"/>
                    </a:lnTo>
                    <a:lnTo>
                      <a:pt x="1087" y="43"/>
                    </a:lnTo>
                    <a:lnTo>
                      <a:pt x="1167" y="33"/>
                    </a:lnTo>
                    <a:lnTo>
                      <a:pt x="1249" y="25"/>
                    </a:lnTo>
                    <a:lnTo>
                      <a:pt x="1334" y="18"/>
                    </a:lnTo>
                    <a:lnTo>
                      <a:pt x="1420" y="12"/>
                    </a:lnTo>
                    <a:lnTo>
                      <a:pt x="1508" y="7"/>
                    </a:lnTo>
                    <a:lnTo>
                      <a:pt x="1597" y="4"/>
                    </a:lnTo>
                    <a:lnTo>
                      <a:pt x="1687" y="1"/>
                    </a:lnTo>
                    <a:lnTo>
                      <a:pt x="1778" y="0"/>
                    </a:lnTo>
                    <a:lnTo>
                      <a:pt x="1870" y="1"/>
                    </a:lnTo>
                    <a:lnTo>
                      <a:pt x="1960" y="4"/>
                    </a:lnTo>
                    <a:lnTo>
                      <a:pt x="2049" y="7"/>
                    </a:lnTo>
                    <a:lnTo>
                      <a:pt x="2137" y="12"/>
                    </a:lnTo>
                    <a:lnTo>
                      <a:pt x="2223" y="18"/>
                    </a:lnTo>
                    <a:lnTo>
                      <a:pt x="2308" y="25"/>
                    </a:lnTo>
                    <a:lnTo>
                      <a:pt x="2389" y="33"/>
                    </a:lnTo>
                    <a:lnTo>
                      <a:pt x="2470" y="43"/>
                    </a:lnTo>
                    <a:lnTo>
                      <a:pt x="2549" y="54"/>
                    </a:lnTo>
                    <a:lnTo>
                      <a:pt x="2626" y="65"/>
                    </a:lnTo>
                    <a:lnTo>
                      <a:pt x="2701" y="78"/>
                    </a:lnTo>
                    <a:lnTo>
                      <a:pt x="2772" y="92"/>
                    </a:lnTo>
                    <a:lnTo>
                      <a:pt x="2842" y="107"/>
                    </a:lnTo>
                    <a:lnTo>
                      <a:pt x="2910" y="124"/>
                    </a:lnTo>
                    <a:lnTo>
                      <a:pt x="2974" y="141"/>
                    </a:lnTo>
                    <a:lnTo>
                      <a:pt x="3036" y="159"/>
                    </a:lnTo>
                    <a:lnTo>
                      <a:pt x="3094" y="178"/>
                    </a:lnTo>
                    <a:lnTo>
                      <a:pt x="3151" y="197"/>
                    </a:lnTo>
                    <a:lnTo>
                      <a:pt x="3203" y="219"/>
                    </a:lnTo>
                    <a:lnTo>
                      <a:pt x="3253" y="240"/>
                    </a:lnTo>
                    <a:lnTo>
                      <a:pt x="3299" y="262"/>
                    </a:lnTo>
                    <a:lnTo>
                      <a:pt x="3342" y="285"/>
                    </a:lnTo>
                    <a:lnTo>
                      <a:pt x="3381" y="309"/>
                    </a:lnTo>
                    <a:lnTo>
                      <a:pt x="3417" y="334"/>
                    </a:lnTo>
                    <a:lnTo>
                      <a:pt x="3449" y="359"/>
                    </a:lnTo>
                    <a:lnTo>
                      <a:pt x="3477" y="385"/>
                    </a:lnTo>
                    <a:lnTo>
                      <a:pt x="3500" y="411"/>
                    </a:lnTo>
                    <a:lnTo>
                      <a:pt x="3521" y="439"/>
                    </a:lnTo>
                    <a:lnTo>
                      <a:pt x="3536" y="467"/>
                    </a:lnTo>
                    <a:lnTo>
                      <a:pt x="3548" y="495"/>
                    </a:lnTo>
                    <a:lnTo>
                      <a:pt x="3554" y="523"/>
                    </a:lnTo>
                    <a:lnTo>
                      <a:pt x="3557" y="5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951560" y="6491880"/>
                <a:ext cx="391320" cy="133920"/>
              </a:xfrm>
              <a:custGeom>
                <a:avLst/>
                <a:gdLst/>
                <a:ahLst/>
                <a:rect l="l" t="t" r="r" b="b"/>
                <a:pathLst>
                  <a:path w="3553" h="1120">
                    <a:moveTo>
                      <a:pt x="3553" y="552"/>
                    </a:moveTo>
                    <a:lnTo>
                      <a:pt x="3551" y="581"/>
                    </a:lnTo>
                    <a:lnTo>
                      <a:pt x="3544" y="610"/>
                    </a:lnTo>
                    <a:lnTo>
                      <a:pt x="3533" y="638"/>
                    </a:lnTo>
                    <a:lnTo>
                      <a:pt x="3518" y="667"/>
                    </a:lnTo>
                    <a:lnTo>
                      <a:pt x="3497" y="694"/>
                    </a:lnTo>
                    <a:lnTo>
                      <a:pt x="3473" y="721"/>
                    </a:lnTo>
                    <a:lnTo>
                      <a:pt x="3445" y="747"/>
                    </a:lnTo>
                    <a:lnTo>
                      <a:pt x="3414" y="773"/>
                    </a:lnTo>
                    <a:lnTo>
                      <a:pt x="3378" y="798"/>
                    </a:lnTo>
                    <a:lnTo>
                      <a:pt x="3339" y="823"/>
                    </a:lnTo>
                    <a:lnTo>
                      <a:pt x="3296" y="846"/>
                    </a:lnTo>
                    <a:lnTo>
                      <a:pt x="3250" y="870"/>
                    </a:lnTo>
                    <a:lnTo>
                      <a:pt x="3200" y="892"/>
                    </a:lnTo>
                    <a:lnTo>
                      <a:pt x="3148" y="913"/>
                    </a:lnTo>
                    <a:lnTo>
                      <a:pt x="3091" y="934"/>
                    </a:lnTo>
                    <a:lnTo>
                      <a:pt x="3033" y="953"/>
                    </a:lnTo>
                    <a:lnTo>
                      <a:pt x="2971" y="973"/>
                    </a:lnTo>
                    <a:lnTo>
                      <a:pt x="2907" y="991"/>
                    </a:lnTo>
                    <a:lnTo>
                      <a:pt x="2840" y="1007"/>
                    </a:lnTo>
                    <a:lnTo>
                      <a:pt x="2770" y="1023"/>
                    </a:lnTo>
                    <a:lnTo>
                      <a:pt x="2698" y="1038"/>
                    </a:lnTo>
                    <a:lnTo>
                      <a:pt x="2624" y="1051"/>
                    </a:lnTo>
                    <a:lnTo>
                      <a:pt x="2547" y="1064"/>
                    </a:lnTo>
                    <a:lnTo>
                      <a:pt x="2468" y="1076"/>
                    </a:lnTo>
                    <a:lnTo>
                      <a:pt x="2387" y="1086"/>
                    </a:lnTo>
                    <a:lnTo>
                      <a:pt x="2305" y="1095"/>
                    </a:lnTo>
                    <a:lnTo>
                      <a:pt x="2221" y="1103"/>
                    </a:lnTo>
                    <a:lnTo>
                      <a:pt x="2135" y="1109"/>
                    </a:lnTo>
                    <a:lnTo>
                      <a:pt x="2047" y="1114"/>
                    </a:lnTo>
                    <a:lnTo>
                      <a:pt x="1958" y="1117"/>
                    </a:lnTo>
                    <a:lnTo>
                      <a:pt x="1868" y="1120"/>
                    </a:lnTo>
                    <a:lnTo>
                      <a:pt x="1776" y="1120"/>
                    </a:lnTo>
                    <a:lnTo>
                      <a:pt x="1685" y="1120"/>
                    </a:lnTo>
                    <a:lnTo>
                      <a:pt x="1595" y="1117"/>
                    </a:lnTo>
                    <a:lnTo>
                      <a:pt x="1506" y="1114"/>
                    </a:lnTo>
                    <a:lnTo>
                      <a:pt x="1418" y="1109"/>
                    </a:lnTo>
                    <a:lnTo>
                      <a:pt x="1332" y="1103"/>
                    </a:lnTo>
                    <a:lnTo>
                      <a:pt x="1248" y="1095"/>
                    </a:lnTo>
                    <a:lnTo>
                      <a:pt x="1165" y="1086"/>
                    </a:lnTo>
                    <a:lnTo>
                      <a:pt x="1085" y="1076"/>
                    </a:lnTo>
                    <a:lnTo>
                      <a:pt x="1006" y="1064"/>
                    </a:lnTo>
                    <a:lnTo>
                      <a:pt x="929" y="1051"/>
                    </a:lnTo>
                    <a:lnTo>
                      <a:pt x="855" y="1038"/>
                    </a:lnTo>
                    <a:lnTo>
                      <a:pt x="783" y="1023"/>
                    </a:lnTo>
                    <a:lnTo>
                      <a:pt x="713" y="1007"/>
                    </a:lnTo>
                    <a:lnTo>
                      <a:pt x="646" y="991"/>
                    </a:lnTo>
                    <a:lnTo>
                      <a:pt x="582" y="973"/>
                    </a:lnTo>
                    <a:lnTo>
                      <a:pt x="520" y="953"/>
                    </a:lnTo>
                    <a:lnTo>
                      <a:pt x="462" y="934"/>
                    </a:lnTo>
                    <a:lnTo>
                      <a:pt x="405" y="913"/>
                    </a:lnTo>
                    <a:lnTo>
                      <a:pt x="352" y="892"/>
                    </a:lnTo>
                    <a:lnTo>
                      <a:pt x="303" y="870"/>
                    </a:lnTo>
                    <a:lnTo>
                      <a:pt x="257" y="846"/>
                    </a:lnTo>
                    <a:lnTo>
                      <a:pt x="214" y="823"/>
                    </a:lnTo>
                    <a:lnTo>
                      <a:pt x="175" y="798"/>
                    </a:lnTo>
                    <a:lnTo>
                      <a:pt x="139" y="773"/>
                    </a:lnTo>
                    <a:lnTo>
                      <a:pt x="108" y="747"/>
                    </a:lnTo>
                    <a:lnTo>
                      <a:pt x="80" y="721"/>
                    </a:lnTo>
                    <a:lnTo>
                      <a:pt x="56" y="694"/>
                    </a:lnTo>
                    <a:lnTo>
                      <a:pt x="36" y="667"/>
                    </a:lnTo>
                    <a:lnTo>
                      <a:pt x="20" y="638"/>
                    </a:lnTo>
                    <a:lnTo>
                      <a:pt x="9" y="610"/>
                    </a:lnTo>
                    <a:lnTo>
                      <a:pt x="2" y="581"/>
                    </a:lnTo>
                    <a:lnTo>
                      <a:pt x="0" y="552"/>
                    </a:lnTo>
                    <a:lnTo>
                      <a:pt x="2" y="522"/>
                    </a:lnTo>
                    <a:lnTo>
                      <a:pt x="9" y="494"/>
                    </a:lnTo>
                    <a:lnTo>
                      <a:pt x="20" y="466"/>
                    </a:lnTo>
                    <a:lnTo>
                      <a:pt x="36" y="438"/>
                    </a:lnTo>
                    <a:lnTo>
                      <a:pt x="56" y="410"/>
                    </a:lnTo>
                    <a:lnTo>
                      <a:pt x="80" y="384"/>
                    </a:lnTo>
                    <a:lnTo>
                      <a:pt x="108" y="359"/>
                    </a:lnTo>
                    <a:lnTo>
                      <a:pt x="139" y="334"/>
                    </a:lnTo>
                    <a:lnTo>
                      <a:pt x="175" y="308"/>
                    </a:lnTo>
                    <a:lnTo>
                      <a:pt x="214" y="285"/>
                    </a:lnTo>
                    <a:lnTo>
                      <a:pt x="257" y="262"/>
                    </a:lnTo>
                    <a:lnTo>
                      <a:pt x="303" y="240"/>
                    </a:lnTo>
                    <a:lnTo>
                      <a:pt x="352" y="218"/>
                    </a:lnTo>
                    <a:lnTo>
                      <a:pt x="405" y="197"/>
                    </a:lnTo>
                    <a:lnTo>
                      <a:pt x="462" y="177"/>
                    </a:lnTo>
                    <a:lnTo>
                      <a:pt x="520" y="158"/>
                    </a:lnTo>
                    <a:lnTo>
                      <a:pt x="582" y="141"/>
                    </a:lnTo>
                    <a:lnTo>
                      <a:pt x="646" y="124"/>
                    </a:lnTo>
                    <a:lnTo>
                      <a:pt x="713" y="107"/>
                    </a:lnTo>
                    <a:lnTo>
                      <a:pt x="783" y="92"/>
                    </a:lnTo>
                    <a:lnTo>
                      <a:pt x="855" y="78"/>
                    </a:lnTo>
                    <a:lnTo>
                      <a:pt x="929" y="65"/>
                    </a:lnTo>
                    <a:lnTo>
                      <a:pt x="1006" y="53"/>
                    </a:lnTo>
                    <a:lnTo>
                      <a:pt x="1085" y="43"/>
                    </a:lnTo>
                    <a:lnTo>
                      <a:pt x="1165" y="33"/>
                    </a:lnTo>
                    <a:lnTo>
                      <a:pt x="1248" y="25"/>
                    </a:lnTo>
                    <a:lnTo>
                      <a:pt x="1332" y="18"/>
                    </a:lnTo>
                    <a:lnTo>
                      <a:pt x="1418" y="12"/>
                    </a:lnTo>
                    <a:lnTo>
                      <a:pt x="1506" y="7"/>
                    </a:lnTo>
                    <a:lnTo>
                      <a:pt x="1595" y="4"/>
                    </a:lnTo>
                    <a:lnTo>
                      <a:pt x="1685" y="2"/>
                    </a:lnTo>
                    <a:lnTo>
                      <a:pt x="1776" y="0"/>
                    </a:lnTo>
                    <a:lnTo>
                      <a:pt x="1868" y="2"/>
                    </a:lnTo>
                    <a:lnTo>
                      <a:pt x="1958" y="4"/>
                    </a:lnTo>
                    <a:lnTo>
                      <a:pt x="2047" y="7"/>
                    </a:lnTo>
                    <a:lnTo>
                      <a:pt x="2135" y="12"/>
                    </a:lnTo>
                    <a:lnTo>
                      <a:pt x="2221" y="18"/>
                    </a:lnTo>
                    <a:lnTo>
                      <a:pt x="2305" y="25"/>
                    </a:lnTo>
                    <a:lnTo>
                      <a:pt x="2387" y="33"/>
                    </a:lnTo>
                    <a:lnTo>
                      <a:pt x="2468" y="43"/>
                    </a:lnTo>
                    <a:lnTo>
                      <a:pt x="2547" y="53"/>
                    </a:lnTo>
                    <a:lnTo>
                      <a:pt x="2624" y="65"/>
                    </a:lnTo>
                    <a:lnTo>
                      <a:pt x="2698" y="78"/>
                    </a:lnTo>
                    <a:lnTo>
                      <a:pt x="2770" y="92"/>
                    </a:lnTo>
                    <a:lnTo>
                      <a:pt x="2840" y="107"/>
                    </a:lnTo>
                    <a:lnTo>
                      <a:pt x="2907" y="124"/>
                    </a:lnTo>
                    <a:lnTo>
                      <a:pt x="2971" y="141"/>
                    </a:lnTo>
                    <a:lnTo>
                      <a:pt x="3033" y="158"/>
                    </a:lnTo>
                    <a:lnTo>
                      <a:pt x="3091" y="177"/>
                    </a:lnTo>
                    <a:lnTo>
                      <a:pt x="3148" y="197"/>
                    </a:lnTo>
                    <a:lnTo>
                      <a:pt x="3200" y="218"/>
                    </a:lnTo>
                    <a:lnTo>
                      <a:pt x="3250" y="240"/>
                    </a:lnTo>
                    <a:lnTo>
                      <a:pt x="3296" y="262"/>
                    </a:lnTo>
                    <a:lnTo>
                      <a:pt x="3339" y="285"/>
                    </a:lnTo>
                    <a:lnTo>
                      <a:pt x="3378" y="308"/>
                    </a:lnTo>
                    <a:lnTo>
                      <a:pt x="3414" y="334"/>
                    </a:lnTo>
                    <a:lnTo>
                      <a:pt x="3445" y="359"/>
                    </a:lnTo>
                    <a:lnTo>
                      <a:pt x="3473" y="384"/>
                    </a:lnTo>
                    <a:lnTo>
                      <a:pt x="3497" y="410"/>
                    </a:lnTo>
                    <a:lnTo>
                      <a:pt x="3518" y="438"/>
                    </a:lnTo>
                    <a:lnTo>
                      <a:pt x="3533" y="466"/>
                    </a:lnTo>
                    <a:lnTo>
                      <a:pt x="3544" y="494"/>
                    </a:lnTo>
                    <a:lnTo>
                      <a:pt x="3551" y="522"/>
                    </a:lnTo>
                    <a:lnTo>
                      <a:pt x="3553" y="5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953000" y="6491880"/>
                <a:ext cx="389880" cy="133920"/>
              </a:xfrm>
              <a:custGeom>
                <a:avLst/>
                <a:gdLst/>
                <a:ahLst/>
                <a:rect l="l" t="t" r="r" b="b"/>
                <a:pathLst>
                  <a:path w="3551" h="1117">
                    <a:moveTo>
                      <a:pt x="3551" y="550"/>
                    </a:moveTo>
                    <a:lnTo>
                      <a:pt x="3549" y="579"/>
                    </a:lnTo>
                    <a:lnTo>
                      <a:pt x="3542" y="608"/>
                    </a:lnTo>
                    <a:lnTo>
                      <a:pt x="3531" y="636"/>
                    </a:lnTo>
                    <a:lnTo>
                      <a:pt x="3515" y="664"/>
                    </a:lnTo>
                    <a:lnTo>
                      <a:pt x="3495" y="692"/>
                    </a:lnTo>
                    <a:lnTo>
                      <a:pt x="3471" y="718"/>
                    </a:lnTo>
                    <a:lnTo>
                      <a:pt x="3443" y="744"/>
                    </a:lnTo>
                    <a:lnTo>
                      <a:pt x="3412" y="771"/>
                    </a:lnTo>
                    <a:lnTo>
                      <a:pt x="3376" y="796"/>
                    </a:lnTo>
                    <a:lnTo>
                      <a:pt x="3337" y="820"/>
                    </a:lnTo>
                    <a:lnTo>
                      <a:pt x="3293" y="844"/>
                    </a:lnTo>
                    <a:lnTo>
                      <a:pt x="3248" y="867"/>
                    </a:lnTo>
                    <a:lnTo>
                      <a:pt x="3198" y="890"/>
                    </a:lnTo>
                    <a:lnTo>
                      <a:pt x="3145" y="911"/>
                    </a:lnTo>
                    <a:lnTo>
                      <a:pt x="3089" y="931"/>
                    </a:lnTo>
                    <a:lnTo>
                      <a:pt x="3031" y="951"/>
                    </a:lnTo>
                    <a:lnTo>
                      <a:pt x="2969" y="970"/>
                    </a:lnTo>
                    <a:lnTo>
                      <a:pt x="2905" y="988"/>
                    </a:lnTo>
                    <a:lnTo>
                      <a:pt x="2838" y="1005"/>
                    </a:lnTo>
                    <a:lnTo>
                      <a:pt x="2768" y="1020"/>
                    </a:lnTo>
                    <a:lnTo>
                      <a:pt x="2697" y="1035"/>
                    </a:lnTo>
                    <a:lnTo>
                      <a:pt x="2622" y="1049"/>
                    </a:lnTo>
                    <a:lnTo>
                      <a:pt x="2545" y="1061"/>
                    </a:lnTo>
                    <a:lnTo>
                      <a:pt x="2466" y="1073"/>
                    </a:lnTo>
                    <a:lnTo>
                      <a:pt x="2385" y="1083"/>
                    </a:lnTo>
                    <a:lnTo>
                      <a:pt x="2304" y="1092"/>
                    </a:lnTo>
                    <a:lnTo>
                      <a:pt x="2219" y="1100"/>
                    </a:lnTo>
                    <a:lnTo>
                      <a:pt x="2133" y="1106"/>
                    </a:lnTo>
                    <a:lnTo>
                      <a:pt x="2046" y="1111"/>
                    </a:lnTo>
                    <a:lnTo>
                      <a:pt x="1957" y="1114"/>
                    </a:lnTo>
                    <a:lnTo>
                      <a:pt x="1866" y="1117"/>
                    </a:lnTo>
                    <a:lnTo>
                      <a:pt x="1775" y="1117"/>
                    </a:lnTo>
                    <a:lnTo>
                      <a:pt x="1685" y="1117"/>
                    </a:lnTo>
                    <a:lnTo>
                      <a:pt x="1594" y="1114"/>
                    </a:lnTo>
                    <a:lnTo>
                      <a:pt x="1505" y="1111"/>
                    </a:lnTo>
                    <a:lnTo>
                      <a:pt x="1418" y="1106"/>
                    </a:lnTo>
                    <a:lnTo>
                      <a:pt x="1332" y="1100"/>
                    </a:lnTo>
                    <a:lnTo>
                      <a:pt x="1247" y="1092"/>
                    </a:lnTo>
                    <a:lnTo>
                      <a:pt x="1165" y="1083"/>
                    </a:lnTo>
                    <a:lnTo>
                      <a:pt x="1085" y="1073"/>
                    </a:lnTo>
                    <a:lnTo>
                      <a:pt x="1006" y="1061"/>
                    </a:lnTo>
                    <a:lnTo>
                      <a:pt x="929" y="1049"/>
                    </a:lnTo>
                    <a:lnTo>
                      <a:pt x="854" y="1035"/>
                    </a:lnTo>
                    <a:lnTo>
                      <a:pt x="783" y="1020"/>
                    </a:lnTo>
                    <a:lnTo>
                      <a:pt x="713" y="1005"/>
                    </a:lnTo>
                    <a:lnTo>
                      <a:pt x="646" y="988"/>
                    </a:lnTo>
                    <a:lnTo>
                      <a:pt x="582" y="970"/>
                    </a:lnTo>
                    <a:lnTo>
                      <a:pt x="520" y="951"/>
                    </a:lnTo>
                    <a:lnTo>
                      <a:pt x="462" y="931"/>
                    </a:lnTo>
                    <a:lnTo>
                      <a:pt x="406" y="911"/>
                    </a:lnTo>
                    <a:lnTo>
                      <a:pt x="352" y="890"/>
                    </a:lnTo>
                    <a:lnTo>
                      <a:pt x="303" y="867"/>
                    </a:lnTo>
                    <a:lnTo>
                      <a:pt x="258" y="844"/>
                    </a:lnTo>
                    <a:lnTo>
                      <a:pt x="214" y="820"/>
                    </a:lnTo>
                    <a:lnTo>
                      <a:pt x="176" y="796"/>
                    </a:lnTo>
                    <a:lnTo>
                      <a:pt x="139" y="771"/>
                    </a:lnTo>
                    <a:lnTo>
                      <a:pt x="108" y="744"/>
                    </a:lnTo>
                    <a:lnTo>
                      <a:pt x="80" y="718"/>
                    </a:lnTo>
                    <a:lnTo>
                      <a:pt x="57" y="692"/>
                    </a:lnTo>
                    <a:lnTo>
                      <a:pt x="36" y="664"/>
                    </a:lnTo>
                    <a:lnTo>
                      <a:pt x="20" y="636"/>
                    </a:lnTo>
                    <a:lnTo>
                      <a:pt x="9" y="608"/>
                    </a:lnTo>
                    <a:lnTo>
                      <a:pt x="2" y="579"/>
                    </a:lnTo>
                    <a:lnTo>
                      <a:pt x="0" y="550"/>
                    </a:lnTo>
                    <a:lnTo>
                      <a:pt x="2" y="520"/>
                    </a:lnTo>
                    <a:lnTo>
                      <a:pt x="9" y="492"/>
                    </a:lnTo>
                    <a:lnTo>
                      <a:pt x="20" y="464"/>
                    </a:lnTo>
                    <a:lnTo>
                      <a:pt x="36" y="436"/>
                    </a:lnTo>
                    <a:lnTo>
                      <a:pt x="57" y="409"/>
                    </a:lnTo>
                    <a:lnTo>
                      <a:pt x="80" y="382"/>
                    </a:lnTo>
                    <a:lnTo>
                      <a:pt x="108" y="357"/>
                    </a:lnTo>
                    <a:lnTo>
                      <a:pt x="139" y="332"/>
                    </a:lnTo>
                    <a:lnTo>
                      <a:pt x="176" y="307"/>
                    </a:lnTo>
                    <a:lnTo>
                      <a:pt x="214" y="283"/>
                    </a:lnTo>
                    <a:lnTo>
                      <a:pt x="258" y="260"/>
                    </a:lnTo>
                    <a:lnTo>
                      <a:pt x="303" y="238"/>
                    </a:lnTo>
                    <a:lnTo>
                      <a:pt x="352" y="217"/>
                    </a:lnTo>
                    <a:lnTo>
                      <a:pt x="406" y="195"/>
                    </a:lnTo>
                    <a:lnTo>
                      <a:pt x="462" y="176"/>
                    </a:lnTo>
                    <a:lnTo>
                      <a:pt x="520" y="157"/>
                    </a:lnTo>
                    <a:lnTo>
                      <a:pt x="582" y="139"/>
                    </a:lnTo>
                    <a:lnTo>
                      <a:pt x="646" y="122"/>
                    </a:lnTo>
                    <a:lnTo>
                      <a:pt x="713" y="107"/>
                    </a:lnTo>
                    <a:lnTo>
                      <a:pt x="783" y="91"/>
                    </a:lnTo>
                    <a:lnTo>
                      <a:pt x="854" y="77"/>
                    </a:lnTo>
                    <a:lnTo>
                      <a:pt x="929" y="64"/>
                    </a:lnTo>
                    <a:lnTo>
                      <a:pt x="1006" y="52"/>
                    </a:lnTo>
                    <a:lnTo>
                      <a:pt x="1085" y="42"/>
                    </a:lnTo>
                    <a:lnTo>
                      <a:pt x="1165" y="32"/>
                    </a:lnTo>
                    <a:lnTo>
                      <a:pt x="1247" y="24"/>
                    </a:lnTo>
                    <a:lnTo>
                      <a:pt x="1332" y="17"/>
                    </a:lnTo>
                    <a:lnTo>
                      <a:pt x="1418" y="11"/>
                    </a:lnTo>
                    <a:lnTo>
                      <a:pt x="1505" y="6"/>
                    </a:lnTo>
                    <a:lnTo>
                      <a:pt x="1594" y="3"/>
                    </a:lnTo>
                    <a:lnTo>
                      <a:pt x="1685" y="1"/>
                    </a:lnTo>
                    <a:lnTo>
                      <a:pt x="1775" y="0"/>
                    </a:lnTo>
                    <a:lnTo>
                      <a:pt x="1866" y="1"/>
                    </a:lnTo>
                    <a:lnTo>
                      <a:pt x="1957" y="3"/>
                    </a:lnTo>
                    <a:lnTo>
                      <a:pt x="2046" y="6"/>
                    </a:lnTo>
                    <a:lnTo>
                      <a:pt x="2133" y="11"/>
                    </a:lnTo>
                    <a:lnTo>
                      <a:pt x="2219" y="17"/>
                    </a:lnTo>
                    <a:lnTo>
                      <a:pt x="2304" y="24"/>
                    </a:lnTo>
                    <a:lnTo>
                      <a:pt x="2385" y="32"/>
                    </a:lnTo>
                    <a:lnTo>
                      <a:pt x="2466" y="42"/>
                    </a:lnTo>
                    <a:lnTo>
                      <a:pt x="2545" y="52"/>
                    </a:lnTo>
                    <a:lnTo>
                      <a:pt x="2622" y="64"/>
                    </a:lnTo>
                    <a:lnTo>
                      <a:pt x="2697" y="77"/>
                    </a:lnTo>
                    <a:lnTo>
                      <a:pt x="2768" y="91"/>
                    </a:lnTo>
                    <a:lnTo>
                      <a:pt x="2838" y="107"/>
                    </a:lnTo>
                    <a:lnTo>
                      <a:pt x="2905" y="122"/>
                    </a:lnTo>
                    <a:lnTo>
                      <a:pt x="2969" y="139"/>
                    </a:lnTo>
                    <a:lnTo>
                      <a:pt x="3031" y="157"/>
                    </a:lnTo>
                    <a:lnTo>
                      <a:pt x="3089" y="176"/>
                    </a:lnTo>
                    <a:lnTo>
                      <a:pt x="3145" y="195"/>
                    </a:lnTo>
                    <a:lnTo>
                      <a:pt x="3198" y="217"/>
                    </a:lnTo>
                    <a:lnTo>
                      <a:pt x="3248" y="238"/>
                    </a:lnTo>
                    <a:lnTo>
                      <a:pt x="3293" y="260"/>
                    </a:lnTo>
                    <a:lnTo>
                      <a:pt x="3337" y="283"/>
                    </a:lnTo>
                    <a:lnTo>
                      <a:pt x="3376" y="307"/>
                    </a:lnTo>
                    <a:lnTo>
                      <a:pt x="3412" y="332"/>
                    </a:lnTo>
                    <a:lnTo>
                      <a:pt x="3443" y="357"/>
                    </a:lnTo>
                    <a:lnTo>
                      <a:pt x="3471" y="382"/>
                    </a:lnTo>
                    <a:lnTo>
                      <a:pt x="3495" y="409"/>
                    </a:lnTo>
                    <a:lnTo>
                      <a:pt x="3515" y="436"/>
                    </a:lnTo>
                    <a:lnTo>
                      <a:pt x="3531" y="464"/>
                    </a:lnTo>
                    <a:lnTo>
                      <a:pt x="3542" y="492"/>
                    </a:lnTo>
                    <a:lnTo>
                      <a:pt x="3549" y="520"/>
                    </a:lnTo>
                    <a:lnTo>
                      <a:pt x="3551" y="5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953000" y="6491880"/>
                <a:ext cx="389880" cy="132840"/>
              </a:xfrm>
              <a:custGeom>
                <a:avLst/>
                <a:gdLst/>
                <a:ahLst/>
                <a:rect l="l" t="t" r="r" b="b"/>
                <a:pathLst>
                  <a:path w="3547" h="1115">
                    <a:moveTo>
                      <a:pt x="3547" y="549"/>
                    </a:moveTo>
                    <a:lnTo>
                      <a:pt x="3545" y="578"/>
                    </a:lnTo>
                    <a:lnTo>
                      <a:pt x="3538" y="606"/>
                    </a:lnTo>
                    <a:lnTo>
                      <a:pt x="3527" y="635"/>
                    </a:lnTo>
                    <a:lnTo>
                      <a:pt x="3512" y="663"/>
                    </a:lnTo>
                    <a:lnTo>
                      <a:pt x="3491" y="690"/>
                    </a:lnTo>
                    <a:lnTo>
                      <a:pt x="3467" y="717"/>
                    </a:lnTo>
                    <a:lnTo>
                      <a:pt x="3440" y="743"/>
                    </a:lnTo>
                    <a:lnTo>
                      <a:pt x="3408" y="770"/>
                    </a:lnTo>
                    <a:lnTo>
                      <a:pt x="3372" y="794"/>
                    </a:lnTo>
                    <a:lnTo>
                      <a:pt x="3333" y="819"/>
                    </a:lnTo>
                    <a:lnTo>
                      <a:pt x="3290" y="842"/>
                    </a:lnTo>
                    <a:lnTo>
                      <a:pt x="3244" y="866"/>
                    </a:lnTo>
                    <a:lnTo>
                      <a:pt x="3195" y="888"/>
                    </a:lnTo>
                    <a:lnTo>
                      <a:pt x="3142" y="909"/>
                    </a:lnTo>
                    <a:lnTo>
                      <a:pt x="3086" y="930"/>
                    </a:lnTo>
                    <a:lnTo>
                      <a:pt x="3028" y="949"/>
                    </a:lnTo>
                    <a:lnTo>
                      <a:pt x="2966" y="969"/>
                    </a:lnTo>
                    <a:lnTo>
                      <a:pt x="2902" y="986"/>
                    </a:lnTo>
                    <a:lnTo>
                      <a:pt x="2835" y="1003"/>
                    </a:lnTo>
                    <a:lnTo>
                      <a:pt x="2765" y="1019"/>
                    </a:lnTo>
                    <a:lnTo>
                      <a:pt x="2694" y="1033"/>
                    </a:lnTo>
                    <a:lnTo>
                      <a:pt x="2619" y="1047"/>
                    </a:lnTo>
                    <a:lnTo>
                      <a:pt x="2543" y="1059"/>
                    </a:lnTo>
                    <a:lnTo>
                      <a:pt x="2464" y="1071"/>
                    </a:lnTo>
                    <a:lnTo>
                      <a:pt x="2383" y="1081"/>
                    </a:lnTo>
                    <a:lnTo>
                      <a:pt x="2301" y="1090"/>
                    </a:lnTo>
                    <a:lnTo>
                      <a:pt x="2217" y="1098"/>
                    </a:lnTo>
                    <a:lnTo>
                      <a:pt x="2131" y="1104"/>
                    </a:lnTo>
                    <a:lnTo>
                      <a:pt x="2044" y="1109"/>
                    </a:lnTo>
                    <a:lnTo>
                      <a:pt x="1955" y="1113"/>
                    </a:lnTo>
                    <a:lnTo>
                      <a:pt x="1864" y="1115"/>
                    </a:lnTo>
                    <a:lnTo>
                      <a:pt x="1773" y="1115"/>
                    </a:lnTo>
                    <a:lnTo>
                      <a:pt x="1683" y="1115"/>
                    </a:lnTo>
                    <a:lnTo>
                      <a:pt x="1592" y="1113"/>
                    </a:lnTo>
                    <a:lnTo>
                      <a:pt x="1504" y="1109"/>
                    </a:lnTo>
                    <a:lnTo>
                      <a:pt x="1416" y="1104"/>
                    </a:lnTo>
                    <a:lnTo>
                      <a:pt x="1330" y="1098"/>
                    </a:lnTo>
                    <a:lnTo>
                      <a:pt x="1246" y="1090"/>
                    </a:lnTo>
                    <a:lnTo>
                      <a:pt x="1163" y="1081"/>
                    </a:lnTo>
                    <a:lnTo>
                      <a:pt x="1083" y="1071"/>
                    </a:lnTo>
                    <a:lnTo>
                      <a:pt x="1005" y="1059"/>
                    </a:lnTo>
                    <a:lnTo>
                      <a:pt x="928" y="1047"/>
                    </a:lnTo>
                    <a:lnTo>
                      <a:pt x="853" y="1033"/>
                    </a:lnTo>
                    <a:lnTo>
                      <a:pt x="782" y="1019"/>
                    </a:lnTo>
                    <a:lnTo>
                      <a:pt x="712" y="1003"/>
                    </a:lnTo>
                    <a:lnTo>
                      <a:pt x="645" y="986"/>
                    </a:lnTo>
                    <a:lnTo>
                      <a:pt x="581" y="969"/>
                    </a:lnTo>
                    <a:lnTo>
                      <a:pt x="519" y="949"/>
                    </a:lnTo>
                    <a:lnTo>
                      <a:pt x="461" y="930"/>
                    </a:lnTo>
                    <a:lnTo>
                      <a:pt x="405" y="909"/>
                    </a:lnTo>
                    <a:lnTo>
                      <a:pt x="352" y="888"/>
                    </a:lnTo>
                    <a:lnTo>
                      <a:pt x="303" y="866"/>
                    </a:lnTo>
                    <a:lnTo>
                      <a:pt x="257" y="842"/>
                    </a:lnTo>
                    <a:lnTo>
                      <a:pt x="214" y="819"/>
                    </a:lnTo>
                    <a:lnTo>
                      <a:pt x="175" y="794"/>
                    </a:lnTo>
                    <a:lnTo>
                      <a:pt x="139" y="770"/>
                    </a:lnTo>
                    <a:lnTo>
                      <a:pt x="107" y="743"/>
                    </a:lnTo>
                    <a:lnTo>
                      <a:pt x="80" y="717"/>
                    </a:lnTo>
                    <a:lnTo>
                      <a:pt x="56" y="690"/>
                    </a:lnTo>
                    <a:lnTo>
                      <a:pt x="35" y="663"/>
                    </a:lnTo>
                    <a:lnTo>
                      <a:pt x="20" y="635"/>
                    </a:lnTo>
                    <a:lnTo>
                      <a:pt x="9" y="606"/>
                    </a:lnTo>
                    <a:lnTo>
                      <a:pt x="2" y="578"/>
                    </a:lnTo>
                    <a:lnTo>
                      <a:pt x="0" y="549"/>
                    </a:lnTo>
                    <a:lnTo>
                      <a:pt x="2" y="519"/>
                    </a:lnTo>
                    <a:lnTo>
                      <a:pt x="9" y="491"/>
                    </a:lnTo>
                    <a:lnTo>
                      <a:pt x="20" y="463"/>
                    </a:lnTo>
                    <a:lnTo>
                      <a:pt x="35" y="436"/>
                    </a:lnTo>
                    <a:lnTo>
                      <a:pt x="56" y="408"/>
                    </a:lnTo>
                    <a:lnTo>
                      <a:pt x="80" y="382"/>
                    </a:lnTo>
                    <a:lnTo>
                      <a:pt x="107" y="356"/>
                    </a:lnTo>
                    <a:lnTo>
                      <a:pt x="139" y="331"/>
                    </a:lnTo>
                    <a:lnTo>
                      <a:pt x="175" y="306"/>
                    </a:lnTo>
                    <a:lnTo>
                      <a:pt x="214" y="282"/>
                    </a:lnTo>
                    <a:lnTo>
                      <a:pt x="257" y="260"/>
                    </a:lnTo>
                    <a:lnTo>
                      <a:pt x="303" y="238"/>
                    </a:lnTo>
                    <a:lnTo>
                      <a:pt x="352" y="216"/>
                    </a:lnTo>
                    <a:lnTo>
                      <a:pt x="405" y="195"/>
                    </a:lnTo>
                    <a:lnTo>
                      <a:pt x="461" y="175"/>
                    </a:lnTo>
                    <a:lnTo>
                      <a:pt x="519" y="157"/>
                    </a:lnTo>
                    <a:lnTo>
                      <a:pt x="581" y="139"/>
                    </a:lnTo>
                    <a:lnTo>
                      <a:pt x="645" y="122"/>
                    </a:lnTo>
                    <a:lnTo>
                      <a:pt x="712" y="106"/>
                    </a:lnTo>
                    <a:lnTo>
                      <a:pt x="782" y="90"/>
                    </a:lnTo>
                    <a:lnTo>
                      <a:pt x="853" y="77"/>
                    </a:lnTo>
                    <a:lnTo>
                      <a:pt x="928" y="64"/>
                    </a:lnTo>
                    <a:lnTo>
                      <a:pt x="1005" y="52"/>
                    </a:lnTo>
                    <a:lnTo>
                      <a:pt x="1083" y="41"/>
                    </a:lnTo>
                    <a:lnTo>
                      <a:pt x="1163" y="32"/>
                    </a:lnTo>
                    <a:lnTo>
                      <a:pt x="1246" y="24"/>
                    </a:lnTo>
                    <a:lnTo>
                      <a:pt x="1330" y="17"/>
                    </a:lnTo>
                    <a:lnTo>
                      <a:pt x="1416" y="11"/>
                    </a:lnTo>
                    <a:lnTo>
                      <a:pt x="1504" y="6"/>
                    </a:lnTo>
                    <a:lnTo>
                      <a:pt x="1592" y="3"/>
                    </a:lnTo>
                    <a:lnTo>
                      <a:pt x="1683" y="1"/>
                    </a:lnTo>
                    <a:lnTo>
                      <a:pt x="1773" y="0"/>
                    </a:lnTo>
                    <a:lnTo>
                      <a:pt x="1864" y="1"/>
                    </a:lnTo>
                    <a:lnTo>
                      <a:pt x="1955" y="3"/>
                    </a:lnTo>
                    <a:lnTo>
                      <a:pt x="2044" y="6"/>
                    </a:lnTo>
                    <a:lnTo>
                      <a:pt x="2131" y="11"/>
                    </a:lnTo>
                    <a:lnTo>
                      <a:pt x="2217" y="17"/>
                    </a:lnTo>
                    <a:lnTo>
                      <a:pt x="2301" y="24"/>
                    </a:lnTo>
                    <a:lnTo>
                      <a:pt x="2383" y="32"/>
                    </a:lnTo>
                    <a:lnTo>
                      <a:pt x="2464" y="41"/>
                    </a:lnTo>
                    <a:lnTo>
                      <a:pt x="2543" y="52"/>
                    </a:lnTo>
                    <a:lnTo>
                      <a:pt x="2619" y="64"/>
                    </a:lnTo>
                    <a:lnTo>
                      <a:pt x="2694" y="77"/>
                    </a:lnTo>
                    <a:lnTo>
                      <a:pt x="2765" y="90"/>
                    </a:lnTo>
                    <a:lnTo>
                      <a:pt x="2835" y="106"/>
                    </a:lnTo>
                    <a:lnTo>
                      <a:pt x="2902" y="122"/>
                    </a:lnTo>
                    <a:lnTo>
                      <a:pt x="2966" y="139"/>
                    </a:lnTo>
                    <a:lnTo>
                      <a:pt x="3028" y="157"/>
                    </a:lnTo>
                    <a:lnTo>
                      <a:pt x="3086" y="175"/>
                    </a:lnTo>
                    <a:lnTo>
                      <a:pt x="3142" y="195"/>
                    </a:lnTo>
                    <a:lnTo>
                      <a:pt x="3195" y="216"/>
                    </a:lnTo>
                    <a:lnTo>
                      <a:pt x="3244" y="238"/>
                    </a:lnTo>
                    <a:lnTo>
                      <a:pt x="3290" y="260"/>
                    </a:lnTo>
                    <a:lnTo>
                      <a:pt x="3333" y="282"/>
                    </a:lnTo>
                    <a:lnTo>
                      <a:pt x="3372" y="306"/>
                    </a:lnTo>
                    <a:lnTo>
                      <a:pt x="3408" y="331"/>
                    </a:lnTo>
                    <a:lnTo>
                      <a:pt x="3440" y="356"/>
                    </a:lnTo>
                    <a:lnTo>
                      <a:pt x="3467" y="382"/>
                    </a:lnTo>
                    <a:lnTo>
                      <a:pt x="3491" y="408"/>
                    </a:lnTo>
                    <a:lnTo>
                      <a:pt x="3512" y="436"/>
                    </a:lnTo>
                    <a:lnTo>
                      <a:pt x="3527" y="463"/>
                    </a:lnTo>
                    <a:lnTo>
                      <a:pt x="3538" y="491"/>
                    </a:lnTo>
                    <a:lnTo>
                      <a:pt x="3545" y="519"/>
                    </a:lnTo>
                    <a:lnTo>
                      <a:pt x="3547" y="5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953000" y="6491880"/>
                <a:ext cx="389880" cy="132840"/>
              </a:xfrm>
              <a:custGeom>
                <a:avLst/>
                <a:gdLst/>
                <a:ahLst/>
                <a:rect l="l" t="t" r="r" b="b"/>
                <a:pathLst>
                  <a:path w="3545" h="1114">
                    <a:moveTo>
                      <a:pt x="3545" y="548"/>
                    </a:moveTo>
                    <a:lnTo>
                      <a:pt x="3543" y="577"/>
                    </a:lnTo>
                    <a:lnTo>
                      <a:pt x="3536" y="605"/>
                    </a:lnTo>
                    <a:lnTo>
                      <a:pt x="3525" y="633"/>
                    </a:lnTo>
                    <a:lnTo>
                      <a:pt x="3509" y="662"/>
                    </a:lnTo>
                    <a:lnTo>
                      <a:pt x="3489" y="689"/>
                    </a:lnTo>
                    <a:lnTo>
                      <a:pt x="3465" y="716"/>
                    </a:lnTo>
                    <a:lnTo>
                      <a:pt x="3438" y="742"/>
                    </a:lnTo>
                    <a:lnTo>
                      <a:pt x="3406" y="768"/>
                    </a:lnTo>
                    <a:lnTo>
                      <a:pt x="3370" y="793"/>
                    </a:lnTo>
                    <a:lnTo>
                      <a:pt x="3331" y="817"/>
                    </a:lnTo>
                    <a:lnTo>
                      <a:pt x="3288" y="841"/>
                    </a:lnTo>
                    <a:lnTo>
                      <a:pt x="3242" y="864"/>
                    </a:lnTo>
                    <a:lnTo>
                      <a:pt x="3192" y="886"/>
                    </a:lnTo>
                    <a:lnTo>
                      <a:pt x="3140" y="908"/>
                    </a:lnTo>
                    <a:lnTo>
                      <a:pt x="3084" y="928"/>
                    </a:lnTo>
                    <a:lnTo>
                      <a:pt x="3026" y="947"/>
                    </a:lnTo>
                    <a:lnTo>
                      <a:pt x="2964" y="967"/>
                    </a:lnTo>
                    <a:lnTo>
                      <a:pt x="2900" y="985"/>
                    </a:lnTo>
                    <a:lnTo>
                      <a:pt x="2833" y="1001"/>
                    </a:lnTo>
                    <a:lnTo>
                      <a:pt x="2763" y="1017"/>
                    </a:lnTo>
                    <a:lnTo>
                      <a:pt x="2692" y="1031"/>
                    </a:lnTo>
                    <a:lnTo>
                      <a:pt x="2618" y="1045"/>
                    </a:lnTo>
                    <a:lnTo>
                      <a:pt x="2541" y="1057"/>
                    </a:lnTo>
                    <a:lnTo>
                      <a:pt x="2462" y="1070"/>
                    </a:lnTo>
                    <a:lnTo>
                      <a:pt x="2381" y="1080"/>
                    </a:lnTo>
                    <a:lnTo>
                      <a:pt x="2300" y="1088"/>
                    </a:lnTo>
                    <a:lnTo>
                      <a:pt x="2216" y="1096"/>
                    </a:lnTo>
                    <a:lnTo>
                      <a:pt x="2130" y="1102"/>
                    </a:lnTo>
                    <a:lnTo>
                      <a:pt x="2042" y="1107"/>
                    </a:lnTo>
                    <a:lnTo>
                      <a:pt x="1953" y="1111"/>
                    </a:lnTo>
                    <a:lnTo>
                      <a:pt x="1863" y="1113"/>
                    </a:lnTo>
                    <a:lnTo>
                      <a:pt x="1772" y="1114"/>
                    </a:lnTo>
                    <a:lnTo>
                      <a:pt x="1682" y="1113"/>
                    </a:lnTo>
                    <a:lnTo>
                      <a:pt x="1592" y="1111"/>
                    </a:lnTo>
                    <a:lnTo>
                      <a:pt x="1503" y="1107"/>
                    </a:lnTo>
                    <a:lnTo>
                      <a:pt x="1415" y="1102"/>
                    </a:lnTo>
                    <a:lnTo>
                      <a:pt x="1329" y="1096"/>
                    </a:lnTo>
                    <a:lnTo>
                      <a:pt x="1245" y="1088"/>
                    </a:lnTo>
                    <a:lnTo>
                      <a:pt x="1163" y="1080"/>
                    </a:lnTo>
                    <a:lnTo>
                      <a:pt x="1083" y="1070"/>
                    </a:lnTo>
                    <a:lnTo>
                      <a:pt x="1004" y="1057"/>
                    </a:lnTo>
                    <a:lnTo>
                      <a:pt x="928" y="1045"/>
                    </a:lnTo>
                    <a:lnTo>
                      <a:pt x="853" y="1031"/>
                    </a:lnTo>
                    <a:lnTo>
                      <a:pt x="782" y="1017"/>
                    </a:lnTo>
                    <a:lnTo>
                      <a:pt x="712" y="1001"/>
                    </a:lnTo>
                    <a:lnTo>
                      <a:pt x="645" y="985"/>
                    </a:lnTo>
                    <a:lnTo>
                      <a:pt x="581" y="967"/>
                    </a:lnTo>
                    <a:lnTo>
                      <a:pt x="519" y="947"/>
                    </a:lnTo>
                    <a:lnTo>
                      <a:pt x="461" y="928"/>
                    </a:lnTo>
                    <a:lnTo>
                      <a:pt x="405" y="908"/>
                    </a:lnTo>
                    <a:lnTo>
                      <a:pt x="352" y="886"/>
                    </a:lnTo>
                    <a:lnTo>
                      <a:pt x="303" y="864"/>
                    </a:lnTo>
                    <a:lnTo>
                      <a:pt x="257" y="841"/>
                    </a:lnTo>
                    <a:lnTo>
                      <a:pt x="214" y="817"/>
                    </a:lnTo>
                    <a:lnTo>
                      <a:pt x="175" y="793"/>
                    </a:lnTo>
                    <a:lnTo>
                      <a:pt x="139" y="768"/>
                    </a:lnTo>
                    <a:lnTo>
                      <a:pt x="108" y="742"/>
                    </a:lnTo>
                    <a:lnTo>
                      <a:pt x="80" y="716"/>
                    </a:lnTo>
                    <a:lnTo>
                      <a:pt x="56" y="689"/>
                    </a:lnTo>
                    <a:lnTo>
                      <a:pt x="36" y="662"/>
                    </a:lnTo>
                    <a:lnTo>
                      <a:pt x="20" y="633"/>
                    </a:lnTo>
                    <a:lnTo>
                      <a:pt x="9" y="605"/>
                    </a:lnTo>
                    <a:lnTo>
                      <a:pt x="2" y="577"/>
                    </a:lnTo>
                    <a:lnTo>
                      <a:pt x="0" y="548"/>
                    </a:lnTo>
                    <a:lnTo>
                      <a:pt x="2" y="518"/>
                    </a:lnTo>
                    <a:lnTo>
                      <a:pt x="9" y="490"/>
                    </a:lnTo>
                    <a:lnTo>
                      <a:pt x="20" y="462"/>
                    </a:lnTo>
                    <a:lnTo>
                      <a:pt x="36" y="435"/>
                    </a:lnTo>
                    <a:lnTo>
                      <a:pt x="56" y="407"/>
                    </a:lnTo>
                    <a:lnTo>
                      <a:pt x="80" y="381"/>
                    </a:lnTo>
                    <a:lnTo>
                      <a:pt x="108" y="356"/>
                    </a:lnTo>
                    <a:lnTo>
                      <a:pt x="139" y="331"/>
                    </a:lnTo>
                    <a:lnTo>
                      <a:pt x="175" y="305"/>
                    </a:lnTo>
                    <a:lnTo>
                      <a:pt x="214" y="282"/>
                    </a:lnTo>
                    <a:lnTo>
                      <a:pt x="257" y="259"/>
                    </a:lnTo>
                    <a:lnTo>
                      <a:pt x="303" y="237"/>
                    </a:lnTo>
                    <a:lnTo>
                      <a:pt x="352" y="216"/>
                    </a:lnTo>
                    <a:lnTo>
                      <a:pt x="405" y="195"/>
                    </a:lnTo>
                    <a:lnTo>
                      <a:pt x="461" y="175"/>
                    </a:lnTo>
                    <a:lnTo>
                      <a:pt x="519" y="156"/>
                    </a:lnTo>
                    <a:lnTo>
                      <a:pt x="581" y="139"/>
                    </a:lnTo>
                    <a:lnTo>
                      <a:pt x="645" y="122"/>
                    </a:lnTo>
                    <a:lnTo>
                      <a:pt x="712" y="106"/>
                    </a:lnTo>
                    <a:lnTo>
                      <a:pt x="782" y="90"/>
                    </a:lnTo>
                    <a:lnTo>
                      <a:pt x="853" y="76"/>
                    </a:lnTo>
                    <a:lnTo>
                      <a:pt x="928" y="64"/>
                    </a:lnTo>
                    <a:lnTo>
                      <a:pt x="1004" y="52"/>
                    </a:lnTo>
                    <a:lnTo>
                      <a:pt x="1083" y="41"/>
                    </a:lnTo>
                    <a:lnTo>
                      <a:pt x="1163" y="32"/>
                    </a:lnTo>
                    <a:lnTo>
                      <a:pt x="1245" y="24"/>
                    </a:lnTo>
                    <a:lnTo>
                      <a:pt x="1329" y="17"/>
                    </a:lnTo>
                    <a:lnTo>
                      <a:pt x="1415" y="11"/>
                    </a:lnTo>
                    <a:lnTo>
                      <a:pt x="1503" y="6"/>
                    </a:lnTo>
                    <a:lnTo>
                      <a:pt x="1592" y="3"/>
                    </a:lnTo>
                    <a:lnTo>
                      <a:pt x="1682" y="1"/>
                    </a:lnTo>
                    <a:lnTo>
                      <a:pt x="1772" y="0"/>
                    </a:lnTo>
                    <a:lnTo>
                      <a:pt x="1863" y="1"/>
                    </a:lnTo>
                    <a:lnTo>
                      <a:pt x="1953" y="3"/>
                    </a:lnTo>
                    <a:lnTo>
                      <a:pt x="2042" y="6"/>
                    </a:lnTo>
                    <a:lnTo>
                      <a:pt x="2130" y="11"/>
                    </a:lnTo>
                    <a:lnTo>
                      <a:pt x="2216" y="17"/>
                    </a:lnTo>
                    <a:lnTo>
                      <a:pt x="2300" y="24"/>
                    </a:lnTo>
                    <a:lnTo>
                      <a:pt x="2381" y="32"/>
                    </a:lnTo>
                    <a:lnTo>
                      <a:pt x="2462" y="41"/>
                    </a:lnTo>
                    <a:lnTo>
                      <a:pt x="2541" y="52"/>
                    </a:lnTo>
                    <a:lnTo>
                      <a:pt x="2618" y="64"/>
                    </a:lnTo>
                    <a:lnTo>
                      <a:pt x="2692" y="76"/>
                    </a:lnTo>
                    <a:lnTo>
                      <a:pt x="2763" y="90"/>
                    </a:lnTo>
                    <a:lnTo>
                      <a:pt x="2833" y="106"/>
                    </a:lnTo>
                    <a:lnTo>
                      <a:pt x="2900" y="122"/>
                    </a:lnTo>
                    <a:lnTo>
                      <a:pt x="2964" y="139"/>
                    </a:lnTo>
                    <a:lnTo>
                      <a:pt x="3026" y="156"/>
                    </a:lnTo>
                    <a:lnTo>
                      <a:pt x="3084" y="175"/>
                    </a:lnTo>
                    <a:lnTo>
                      <a:pt x="3140" y="195"/>
                    </a:lnTo>
                    <a:lnTo>
                      <a:pt x="3192" y="216"/>
                    </a:lnTo>
                    <a:lnTo>
                      <a:pt x="3242" y="237"/>
                    </a:lnTo>
                    <a:lnTo>
                      <a:pt x="3288" y="259"/>
                    </a:lnTo>
                    <a:lnTo>
                      <a:pt x="3331" y="282"/>
                    </a:lnTo>
                    <a:lnTo>
                      <a:pt x="3370" y="305"/>
                    </a:lnTo>
                    <a:lnTo>
                      <a:pt x="3406" y="331"/>
                    </a:lnTo>
                    <a:lnTo>
                      <a:pt x="3438" y="356"/>
                    </a:lnTo>
                    <a:lnTo>
                      <a:pt x="3465" y="381"/>
                    </a:lnTo>
                    <a:lnTo>
                      <a:pt x="3489" y="407"/>
                    </a:lnTo>
                    <a:lnTo>
                      <a:pt x="3509" y="435"/>
                    </a:lnTo>
                    <a:lnTo>
                      <a:pt x="3525" y="462"/>
                    </a:lnTo>
                    <a:lnTo>
                      <a:pt x="3536" y="490"/>
                    </a:lnTo>
                    <a:lnTo>
                      <a:pt x="3543" y="518"/>
                    </a:lnTo>
                    <a:lnTo>
                      <a:pt x="3545" y="5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953000" y="6491880"/>
                <a:ext cx="389880" cy="132840"/>
              </a:xfrm>
              <a:custGeom>
                <a:avLst/>
                <a:gdLst/>
                <a:ahLst/>
                <a:rect l="l" t="t" r="r" b="b"/>
                <a:pathLst>
                  <a:path w="3543" h="1112">
                    <a:moveTo>
                      <a:pt x="3543" y="547"/>
                    </a:moveTo>
                    <a:lnTo>
                      <a:pt x="3540" y="576"/>
                    </a:lnTo>
                    <a:lnTo>
                      <a:pt x="3534" y="604"/>
                    </a:lnTo>
                    <a:lnTo>
                      <a:pt x="3522" y="632"/>
                    </a:lnTo>
                    <a:lnTo>
                      <a:pt x="3507" y="661"/>
                    </a:lnTo>
                    <a:lnTo>
                      <a:pt x="3486" y="688"/>
                    </a:lnTo>
                    <a:lnTo>
                      <a:pt x="3463" y="714"/>
                    </a:lnTo>
                    <a:lnTo>
                      <a:pt x="3435" y="740"/>
                    </a:lnTo>
                    <a:lnTo>
                      <a:pt x="3404" y="767"/>
                    </a:lnTo>
                    <a:lnTo>
                      <a:pt x="3368" y="792"/>
                    </a:lnTo>
                    <a:lnTo>
                      <a:pt x="3329" y="816"/>
                    </a:lnTo>
                    <a:lnTo>
                      <a:pt x="3286" y="839"/>
                    </a:lnTo>
                    <a:lnTo>
                      <a:pt x="3240" y="863"/>
                    </a:lnTo>
                    <a:lnTo>
                      <a:pt x="3190" y="885"/>
                    </a:lnTo>
                    <a:lnTo>
                      <a:pt x="3138" y="906"/>
                    </a:lnTo>
                    <a:lnTo>
                      <a:pt x="3082" y="926"/>
                    </a:lnTo>
                    <a:lnTo>
                      <a:pt x="3024" y="946"/>
                    </a:lnTo>
                    <a:lnTo>
                      <a:pt x="2962" y="965"/>
                    </a:lnTo>
                    <a:lnTo>
                      <a:pt x="2898" y="983"/>
                    </a:lnTo>
                    <a:lnTo>
                      <a:pt x="2831" y="1000"/>
                    </a:lnTo>
                    <a:lnTo>
                      <a:pt x="2761" y="1015"/>
                    </a:lnTo>
                    <a:lnTo>
                      <a:pt x="2689" y="1030"/>
                    </a:lnTo>
                    <a:lnTo>
                      <a:pt x="2616" y="1043"/>
                    </a:lnTo>
                    <a:lnTo>
                      <a:pt x="2539" y="1056"/>
                    </a:lnTo>
                    <a:lnTo>
                      <a:pt x="2461" y="1068"/>
                    </a:lnTo>
                    <a:lnTo>
                      <a:pt x="2380" y="1078"/>
                    </a:lnTo>
                    <a:lnTo>
                      <a:pt x="2298" y="1087"/>
                    </a:lnTo>
                    <a:lnTo>
                      <a:pt x="2214" y="1094"/>
                    </a:lnTo>
                    <a:lnTo>
                      <a:pt x="2128" y="1100"/>
                    </a:lnTo>
                    <a:lnTo>
                      <a:pt x="2041" y="1105"/>
                    </a:lnTo>
                    <a:lnTo>
                      <a:pt x="1952" y="1109"/>
                    </a:lnTo>
                    <a:lnTo>
                      <a:pt x="1862" y="1111"/>
                    </a:lnTo>
                    <a:lnTo>
                      <a:pt x="1771" y="1112"/>
                    </a:lnTo>
                    <a:lnTo>
                      <a:pt x="1681" y="1111"/>
                    </a:lnTo>
                    <a:lnTo>
                      <a:pt x="1591" y="1109"/>
                    </a:lnTo>
                    <a:lnTo>
                      <a:pt x="1502" y="1105"/>
                    </a:lnTo>
                    <a:lnTo>
                      <a:pt x="1415" y="1100"/>
                    </a:lnTo>
                    <a:lnTo>
                      <a:pt x="1329" y="1094"/>
                    </a:lnTo>
                    <a:lnTo>
                      <a:pt x="1245" y="1087"/>
                    </a:lnTo>
                    <a:lnTo>
                      <a:pt x="1162" y="1078"/>
                    </a:lnTo>
                    <a:lnTo>
                      <a:pt x="1082" y="1068"/>
                    </a:lnTo>
                    <a:lnTo>
                      <a:pt x="1004" y="1056"/>
                    </a:lnTo>
                    <a:lnTo>
                      <a:pt x="927" y="1043"/>
                    </a:lnTo>
                    <a:lnTo>
                      <a:pt x="853" y="1030"/>
                    </a:lnTo>
                    <a:lnTo>
                      <a:pt x="782" y="1015"/>
                    </a:lnTo>
                    <a:lnTo>
                      <a:pt x="712" y="1000"/>
                    </a:lnTo>
                    <a:lnTo>
                      <a:pt x="645" y="983"/>
                    </a:lnTo>
                    <a:lnTo>
                      <a:pt x="581" y="965"/>
                    </a:lnTo>
                    <a:lnTo>
                      <a:pt x="519" y="946"/>
                    </a:lnTo>
                    <a:lnTo>
                      <a:pt x="461" y="926"/>
                    </a:lnTo>
                    <a:lnTo>
                      <a:pt x="405" y="906"/>
                    </a:lnTo>
                    <a:lnTo>
                      <a:pt x="352" y="885"/>
                    </a:lnTo>
                    <a:lnTo>
                      <a:pt x="303" y="863"/>
                    </a:lnTo>
                    <a:lnTo>
                      <a:pt x="257" y="839"/>
                    </a:lnTo>
                    <a:lnTo>
                      <a:pt x="214" y="816"/>
                    </a:lnTo>
                    <a:lnTo>
                      <a:pt x="175" y="792"/>
                    </a:lnTo>
                    <a:lnTo>
                      <a:pt x="139" y="767"/>
                    </a:lnTo>
                    <a:lnTo>
                      <a:pt x="108" y="740"/>
                    </a:lnTo>
                    <a:lnTo>
                      <a:pt x="80" y="714"/>
                    </a:lnTo>
                    <a:lnTo>
                      <a:pt x="57" y="688"/>
                    </a:lnTo>
                    <a:lnTo>
                      <a:pt x="36" y="661"/>
                    </a:lnTo>
                    <a:lnTo>
                      <a:pt x="21" y="632"/>
                    </a:lnTo>
                    <a:lnTo>
                      <a:pt x="10" y="604"/>
                    </a:lnTo>
                    <a:lnTo>
                      <a:pt x="3" y="576"/>
                    </a:lnTo>
                    <a:lnTo>
                      <a:pt x="0" y="547"/>
                    </a:lnTo>
                    <a:lnTo>
                      <a:pt x="3" y="517"/>
                    </a:lnTo>
                    <a:lnTo>
                      <a:pt x="10" y="489"/>
                    </a:lnTo>
                    <a:lnTo>
                      <a:pt x="21" y="461"/>
                    </a:lnTo>
                    <a:lnTo>
                      <a:pt x="36" y="434"/>
                    </a:lnTo>
                    <a:lnTo>
                      <a:pt x="57" y="406"/>
                    </a:lnTo>
                    <a:lnTo>
                      <a:pt x="80" y="380"/>
                    </a:lnTo>
                    <a:lnTo>
                      <a:pt x="108" y="355"/>
                    </a:lnTo>
                    <a:lnTo>
                      <a:pt x="139" y="330"/>
                    </a:lnTo>
                    <a:lnTo>
                      <a:pt x="175" y="305"/>
                    </a:lnTo>
                    <a:lnTo>
                      <a:pt x="214" y="281"/>
                    </a:lnTo>
                    <a:lnTo>
                      <a:pt x="257" y="259"/>
                    </a:lnTo>
                    <a:lnTo>
                      <a:pt x="303" y="237"/>
                    </a:lnTo>
                    <a:lnTo>
                      <a:pt x="352" y="216"/>
                    </a:lnTo>
                    <a:lnTo>
                      <a:pt x="405" y="194"/>
                    </a:lnTo>
                    <a:lnTo>
                      <a:pt x="461" y="175"/>
                    </a:lnTo>
                    <a:lnTo>
                      <a:pt x="519" y="156"/>
                    </a:lnTo>
                    <a:lnTo>
                      <a:pt x="581" y="138"/>
                    </a:lnTo>
                    <a:lnTo>
                      <a:pt x="645" y="122"/>
                    </a:lnTo>
                    <a:lnTo>
                      <a:pt x="712" y="106"/>
                    </a:lnTo>
                    <a:lnTo>
                      <a:pt x="782" y="90"/>
                    </a:lnTo>
                    <a:lnTo>
                      <a:pt x="853" y="76"/>
                    </a:lnTo>
                    <a:lnTo>
                      <a:pt x="927" y="63"/>
                    </a:lnTo>
                    <a:lnTo>
                      <a:pt x="1004" y="52"/>
                    </a:lnTo>
                    <a:lnTo>
                      <a:pt x="1082" y="41"/>
                    </a:lnTo>
                    <a:lnTo>
                      <a:pt x="1162" y="32"/>
                    </a:lnTo>
                    <a:lnTo>
                      <a:pt x="1245" y="24"/>
                    </a:lnTo>
                    <a:lnTo>
                      <a:pt x="1329" y="16"/>
                    </a:lnTo>
                    <a:lnTo>
                      <a:pt x="1415" y="11"/>
                    </a:lnTo>
                    <a:lnTo>
                      <a:pt x="1502" y="6"/>
                    </a:lnTo>
                    <a:lnTo>
                      <a:pt x="1591" y="3"/>
                    </a:lnTo>
                    <a:lnTo>
                      <a:pt x="1681" y="1"/>
                    </a:lnTo>
                    <a:lnTo>
                      <a:pt x="1771" y="0"/>
                    </a:lnTo>
                    <a:lnTo>
                      <a:pt x="1862" y="1"/>
                    </a:lnTo>
                    <a:lnTo>
                      <a:pt x="1952" y="3"/>
                    </a:lnTo>
                    <a:lnTo>
                      <a:pt x="2041" y="6"/>
                    </a:lnTo>
                    <a:lnTo>
                      <a:pt x="2128" y="11"/>
                    </a:lnTo>
                    <a:lnTo>
                      <a:pt x="2214" y="16"/>
                    </a:lnTo>
                    <a:lnTo>
                      <a:pt x="2298" y="24"/>
                    </a:lnTo>
                    <a:lnTo>
                      <a:pt x="2380" y="32"/>
                    </a:lnTo>
                    <a:lnTo>
                      <a:pt x="2461" y="41"/>
                    </a:lnTo>
                    <a:lnTo>
                      <a:pt x="2539" y="52"/>
                    </a:lnTo>
                    <a:lnTo>
                      <a:pt x="2616" y="63"/>
                    </a:lnTo>
                    <a:lnTo>
                      <a:pt x="2689" y="76"/>
                    </a:lnTo>
                    <a:lnTo>
                      <a:pt x="2761" y="90"/>
                    </a:lnTo>
                    <a:lnTo>
                      <a:pt x="2831" y="106"/>
                    </a:lnTo>
                    <a:lnTo>
                      <a:pt x="2898" y="122"/>
                    </a:lnTo>
                    <a:lnTo>
                      <a:pt x="2962" y="138"/>
                    </a:lnTo>
                    <a:lnTo>
                      <a:pt x="3024" y="156"/>
                    </a:lnTo>
                    <a:lnTo>
                      <a:pt x="3082" y="175"/>
                    </a:lnTo>
                    <a:lnTo>
                      <a:pt x="3138" y="194"/>
                    </a:lnTo>
                    <a:lnTo>
                      <a:pt x="3190" y="216"/>
                    </a:lnTo>
                    <a:lnTo>
                      <a:pt x="3240" y="237"/>
                    </a:lnTo>
                    <a:lnTo>
                      <a:pt x="3286" y="259"/>
                    </a:lnTo>
                    <a:lnTo>
                      <a:pt x="3329" y="281"/>
                    </a:lnTo>
                    <a:lnTo>
                      <a:pt x="3368" y="305"/>
                    </a:lnTo>
                    <a:lnTo>
                      <a:pt x="3404" y="330"/>
                    </a:lnTo>
                    <a:lnTo>
                      <a:pt x="3435" y="355"/>
                    </a:lnTo>
                    <a:lnTo>
                      <a:pt x="3463" y="380"/>
                    </a:lnTo>
                    <a:lnTo>
                      <a:pt x="3486" y="406"/>
                    </a:lnTo>
                    <a:lnTo>
                      <a:pt x="3507" y="434"/>
                    </a:lnTo>
                    <a:lnTo>
                      <a:pt x="3522" y="461"/>
                    </a:lnTo>
                    <a:lnTo>
                      <a:pt x="3534" y="489"/>
                    </a:lnTo>
                    <a:lnTo>
                      <a:pt x="3540" y="517"/>
                    </a:lnTo>
                    <a:lnTo>
                      <a:pt x="3543" y="5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953000" y="6491880"/>
                <a:ext cx="389880" cy="132840"/>
              </a:xfrm>
              <a:custGeom>
                <a:avLst/>
                <a:gdLst/>
                <a:ahLst/>
                <a:rect l="l" t="t" r="r" b="b"/>
                <a:pathLst>
                  <a:path w="3539" h="1110">
                    <a:moveTo>
                      <a:pt x="3539" y="546"/>
                    </a:moveTo>
                    <a:lnTo>
                      <a:pt x="3537" y="575"/>
                    </a:lnTo>
                    <a:lnTo>
                      <a:pt x="3530" y="603"/>
                    </a:lnTo>
                    <a:lnTo>
                      <a:pt x="3519" y="631"/>
                    </a:lnTo>
                    <a:lnTo>
                      <a:pt x="3504" y="660"/>
                    </a:lnTo>
                    <a:lnTo>
                      <a:pt x="3483" y="687"/>
                    </a:lnTo>
                    <a:lnTo>
                      <a:pt x="3459" y="713"/>
                    </a:lnTo>
                    <a:lnTo>
                      <a:pt x="3432" y="739"/>
                    </a:lnTo>
                    <a:lnTo>
                      <a:pt x="3399" y="766"/>
                    </a:lnTo>
                    <a:lnTo>
                      <a:pt x="3364" y="790"/>
                    </a:lnTo>
                    <a:lnTo>
                      <a:pt x="3326" y="814"/>
                    </a:lnTo>
                    <a:lnTo>
                      <a:pt x="3282" y="838"/>
                    </a:lnTo>
                    <a:lnTo>
                      <a:pt x="3237" y="861"/>
                    </a:lnTo>
                    <a:lnTo>
                      <a:pt x="3187" y="883"/>
                    </a:lnTo>
                    <a:lnTo>
                      <a:pt x="3135" y="904"/>
                    </a:lnTo>
                    <a:lnTo>
                      <a:pt x="3079" y="925"/>
                    </a:lnTo>
                    <a:lnTo>
                      <a:pt x="3021" y="944"/>
                    </a:lnTo>
                    <a:lnTo>
                      <a:pt x="2959" y="964"/>
                    </a:lnTo>
                    <a:lnTo>
                      <a:pt x="2896" y="981"/>
                    </a:lnTo>
                    <a:lnTo>
                      <a:pt x="2828" y="998"/>
                    </a:lnTo>
                    <a:lnTo>
                      <a:pt x="2759" y="1013"/>
                    </a:lnTo>
                    <a:lnTo>
                      <a:pt x="2687" y="1028"/>
                    </a:lnTo>
                    <a:lnTo>
                      <a:pt x="2613" y="1041"/>
                    </a:lnTo>
                    <a:lnTo>
                      <a:pt x="2537" y="1054"/>
                    </a:lnTo>
                    <a:lnTo>
                      <a:pt x="2458" y="1066"/>
                    </a:lnTo>
                    <a:lnTo>
                      <a:pt x="2377" y="1076"/>
                    </a:lnTo>
                    <a:lnTo>
                      <a:pt x="2296" y="1085"/>
                    </a:lnTo>
                    <a:lnTo>
                      <a:pt x="2212" y="1092"/>
                    </a:lnTo>
                    <a:lnTo>
                      <a:pt x="2126" y="1098"/>
                    </a:lnTo>
                    <a:lnTo>
                      <a:pt x="2039" y="1103"/>
                    </a:lnTo>
                    <a:lnTo>
                      <a:pt x="1950" y="1107"/>
                    </a:lnTo>
                    <a:lnTo>
                      <a:pt x="1860" y="1109"/>
                    </a:lnTo>
                    <a:lnTo>
                      <a:pt x="1769" y="1110"/>
                    </a:lnTo>
                    <a:lnTo>
                      <a:pt x="1679" y="1109"/>
                    </a:lnTo>
                    <a:lnTo>
                      <a:pt x="1589" y="1107"/>
                    </a:lnTo>
                    <a:lnTo>
                      <a:pt x="1500" y="1103"/>
                    </a:lnTo>
                    <a:lnTo>
                      <a:pt x="1413" y="1098"/>
                    </a:lnTo>
                    <a:lnTo>
                      <a:pt x="1327" y="1092"/>
                    </a:lnTo>
                    <a:lnTo>
                      <a:pt x="1243" y="1085"/>
                    </a:lnTo>
                    <a:lnTo>
                      <a:pt x="1161" y="1076"/>
                    </a:lnTo>
                    <a:lnTo>
                      <a:pt x="1081" y="1066"/>
                    </a:lnTo>
                    <a:lnTo>
                      <a:pt x="1002" y="1054"/>
                    </a:lnTo>
                    <a:lnTo>
                      <a:pt x="926" y="1041"/>
                    </a:lnTo>
                    <a:lnTo>
                      <a:pt x="851" y="1028"/>
                    </a:lnTo>
                    <a:lnTo>
                      <a:pt x="780" y="1013"/>
                    </a:lnTo>
                    <a:lnTo>
                      <a:pt x="711" y="998"/>
                    </a:lnTo>
                    <a:lnTo>
                      <a:pt x="644" y="981"/>
                    </a:lnTo>
                    <a:lnTo>
                      <a:pt x="580" y="964"/>
                    </a:lnTo>
                    <a:lnTo>
                      <a:pt x="518" y="944"/>
                    </a:lnTo>
                    <a:lnTo>
                      <a:pt x="460" y="925"/>
                    </a:lnTo>
                    <a:lnTo>
                      <a:pt x="404" y="904"/>
                    </a:lnTo>
                    <a:lnTo>
                      <a:pt x="352" y="883"/>
                    </a:lnTo>
                    <a:lnTo>
                      <a:pt x="302" y="861"/>
                    </a:lnTo>
                    <a:lnTo>
                      <a:pt x="257" y="838"/>
                    </a:lnTo>
                    <a:lnTo>
                      <a:pt x="213" y="814"/>
                    </a:lnTo>
                    <a:lnTo>
                      <a:pt x="175" y="790"/>
                    </a:lnTo>
                    <a:lnTo>
                      <a:pt x="139" y="766"/>
                    </a:lnTo>
                    <a:lnTo>
                      <a:pt x="107" y="739"/>
                    </a:lnTo>
                    <a:lnTo>
                      <a:pt x="80" y="713"/>
                    </a:lnTo>
                    <a:lnTo>
                      <a:pt x="56" y="687"/>
                    </a:lnTo>
                    <a:lnTo>
                      <a:pt x="36" y="660"/>
                    </a:lnTo>
                    <a:lnTo>
                      <a:pt x="20" y="631"/>
                    </a:lnTo>
                    <a:lnTo>
                      <a:pt x="9" y="603"/>
                    </a:lnTo>
                    <a:lnTo>
                      <a:pt x="2" y="575"/>
                    </a:lnTo>
                    <a:lnTo>
                      <a:pt x="0" y="546"/>
                    </a:lnTo>
                    <a:lnTo>
                      <a:pt x="2" y="516"/>
                    </a:lnTo>
                    <a:lnTo>
                      <a:pt x="9" y="488"/>
                    </a:lnTo>
                    <a:lnTo>
                      <a:pt x="20" y="460"/>
                    </a:lnTo>
                    <a:lnTo>
                      <a:pt x="36" y="433"/>
                    </a:lnTo>
                    <a:lnTo>
                      <a:pt x="56" y="406"/>
                    </a:lnTo>
                    <a:lnTo>
                      <a:pt x="80" y="380"/>
                    </a:lnTo>
                    <a:lnTo>
                      <a:pt x="107" y="354"/>
                    </a:lnTo>
                    <a:lnTo>
                      <a:pt x="139" y="329"/>
                    </a:lnTo>
                    <a:lnTo>
                      <a:pt x="175" y="304"/>
                    </a:lnTo>
                    <a:lnTo>
                      <a:pt x="213" y="281"/>
                    </a:lnTo>
                    <a:lnTo>
                      <a:pt x="257" y="258"/>
                    </a:lnTo>
                    <a:lnTo>
                      <a:pt x="302" y="236"/>
                    </a:lnTo>
                    <a:lnTo>
                      <a:pt x="352" y="215"/>
                    </a:lnTo>
                    <a:lnTo>
                      <a:pt x="404" y="194"/>
                    </a:lnTo>
                    <a:lnTo>
                      <a:pt x="460" y="174"/>
                    </a:lnTo>
                    <a:lnTo>
                      <a:pt x="518" y="156"/>
                    </a:lnTo>
                    <a:lnTo>
                      <a:pt x="580" y="138"/>
                    </a:lnTo>
                    <a:lnTo>
                      <a:pt x="644" y="121"/>
                    </a:lnTo>
                    <a:lnTo>
                      <a:pt x="711" y="106"/>
                    </a:lnTo>
                    <a:lnTo>
                      <a:pt x="780" y="90"/>
                    </a:lnTo>
                    <a:lnTo>
                      <a:pt x="851" y="76"/>
                    </a:lnTo>
                    <a:lnTo>
                      <a:pt x="926" y="63"/>
                    </a:lnTo>
                    <a:lnTo>
                      <a:pt x="1002" y="52"/>
                    </a:lnTo>
                    <a:lnTo>
                      <a:pt x="1081" y="41"/>
                    </a:lnTo>
                    <a:lnTo>
                      <a:pt x="1161" y="32"/>
                    </a:lnTo>
                    <a:lnTo>
                      <a:pt x="1243" y="23"/>
                    </a:lnTo>
                    <a:lnTo>
                      <a:pt x="1327" y="16"/>
                    </a:lnTo>
                    <a:lnTo>
                      <a:pt x="1413" y="10"/>
                    </a:lnTo>
                    <a:lnTo>
                      <a:pt x="1500" y="6"/>
                    </a:lnTo>
                    <a:lnTo>
                      <a:pt x="1589" y="3"/>
                    </a:lnTo>
                    <a:lnTo>
                      <a:pt x="1679" y="1"/>
                    </a:lnTo>
                    <a:lnTo>
                      <a:pt x="1769" y="0"/>
                    </a:lnTo>
                    <a:lnTo>
                      <a:pt x="1860" y="1"/>
                    </a:lnTo>
                    <a:lnTo>
                      <a:pt x="1950" y="3"/>
                    </a:lnTo>
                    <a:lnTo>
                      <a:pt x="2039" y="6"/>
                    </a:lnTo>
                    <a:lnTo>
                      <a:pt x="2126" y="10"/>
                    </a:lnTo>
                    <a:lnTo>
                      <a:pt x="2212" y="16"/>
                    </a:lnTo>
                    <a:lnTo>
                      <a:pt x="2296" y="23"/>
                    </a:lnTo>
                    <a:lnTo>
                      <a:pt x="2377" y="32"/>
                    </a:lnTo>
                    <a:lnTo>
                      <a:pt x="2458" y="41"/>
                    </a:lnTo>
                    <a:lnTo>
                      <a:pt x="2537" y="52"/>
                    </a:lnTo>
                    <a:lnTo>
                      <a:pt x="2613" y="63"/>
                    </a:lnTo>
                    <a:lnTo>
                      <a:pt x="2687" y="76"/>
                    </a:lnTo>
                    <a:lnTo>
                      <a:pt x="2759" y="90"/>
                    </a:lnTo>
                    <a:lnTo>
                      <a:pt x="2828" y="106"/>
                    </a:lnTo>
                    <a:lnTo>
                      <a:pt x="2896" y="121"/>
                    </a:lnTo>
                    <a:lnTo>
                      <a:pt x="2959" y="138"/>
                    </a:lnTo>
                    <a:lnTo>
                      <a:pt x="3021" y="156"/>
                    </a:lnTo>
                    <a:lnTo>
                      <a:pt x="3079" y="174"/>
                    </a:lnTo>
                    <a:lnTo>
                      <a:pt x="3135" y="194"/>
                    </a:lnTo>
                    <a:lnTo>
                      <a:pt x="3187" y="215"/>
                    </a:lnTo>
                    <a:lnTo>
                      <a:pt x="3237" y="236"/>
                    </a:lnTo>
                    <a:lnTo>
                      <a:pt x="3282" y="258"/>
                    </a:lnTo>
                    <a:lnTo>
                      <a:pt x="3326" y="281"/>
                    </a:lnTo>
                    <a:lnTo>
                      <a:pt x="3364" y="304"/>
                    </a:lnTo>
                    <a:lnTo>
                      <a:pt x="3399" y="329"/>
                    </a:lnTo>
                    <a:lnTo>
                      <a:pt x="3432" y="354"/>
                    </a:lnTo>
                    <a:lnTo>
                      <a:pt x="3459" y="380"/>
                    </a:lnTo>
                    <a:lnTo>
                      <a:pt x="3483" y="406"/>
                    </a:lnTo>
                    <a:lnTo>
                      <a:pt x="3504" y="433"/>
                    </a:lnTo>
                    <a:lnTo>
                      <a:pt x="3519" y="460"/>
                    </a:lnTo>
                    <a:lnTo>
                      <a:pt x="3530" y="488"/>
                    </a:lnTo>
                    <a:lnTo>
                      <a:pt x="3537" y="516"/>
                    </a:lnTo>
                    <a:lnTo>
                      <a:pt x="3539" y="5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953000" y="6491880"/>
                <a:ext cx="389880" cy="132840"/>
              </a:xfrm>
              <a:custGeom>
                <a:avLst/>
                <a:gdLst/>
                <a:ahLst/>
                <a:rect l="l" t="t" r="r" b="b"/>
                <a:pathLst>
                  <a:path w="3537" h="1108">
                    <a:moveTo>
                      <a:pt x="3537" y="545"/>
                    </a:moveTo>
                    <a:lnTo>
                      <a:pt x="3534" y="574"/>
                    </a:lnTo>
                    <a:lnTo>
                      <a:pt x="3528" y="602"/>
                    </a:lnTo>
                    <a:lnTo>
                      <a:pt x="3517" y="630"/>
                    </a:lnTo>
                    <a:lnTo>
                      <a:pt x="3501" y="658"/>
                    </a:lnTo>
                    <a:lnTo>
                      <a:pt x="3481" y="685"/>
                    </a:lnTo>
                    <a:lnTo>
                      <a:pt x="3457" y="712"/>
                    </a:lnTo>
                    <a:lnTo>
                      <a:pt x="3430" y="738"/>
                    </a:lnTo>
                    <a:lnTo>
                      <a:pt x="3397" y="764"/>
                    </a:lnTo>
                    <a:lnTo>
                      <a:pt x="3362" y="789"/>
                    </a:lnTo>
                    <a:lnTo>
                      <a:pt x="3323" y="813"/>
                    </a:lnTo>
                    <a:lnTo>
                      <a:pt x="3280" y="836"/>
                    </a:lnTo>
                    <a:lnTo>
                      <a:pt x="3235" y="860"/>
                    </a:lnTo>
                    <a:lnTo>
                      <a:pt x="3185" y="882"/>
                    </a:lnTo>
                    <a:lnTo>
                      <a:pt x="3133" y="903"/>
                    </a:lnTo>
                    <a:lnTo>
                      <a:pt x="3077" y="923"/>
                    </a:lnTo>
                    <a:lnTo>
                      <a:pt x="3019" y="942"/>
                    </a:lnTo>
                    <a:lnTo>
                      <a:pt x="2957" y="962"/>
                    </a:lnTo>
                    <a:lnTo>
                      <a:pt x="2894" y="979"/>
                    </a:lnTo>
                    <a:lnTo>
                      <a:pt x="2827" y="996"/>
                    </a:lnTo>
                    <a:lnTo>
                      <a:pt x="2757" y="1012"/>
                    </a:lnTo>
                    <a:lnTo>
                      <a:pt x="2685" y="1026"/>
                    </a:lnTo>
                    <a:lnTo>
                      <a:pt x="2612" y="1040"/>
                    </a:lnTo>
                    <a:lnTo>
                      <a:pt x="2535" y="1052"/>
                    </a:lnTo>
                    <a:lnTo>
                      <a:pt x="2457" y="1063"/>
                    </a:lnTo>
                    <a:lnTo>
                      <a:pt x="2376" y="1074"/>
                    </a:lnTo>
                    <a:lnTo>
                      <a:pt x="2295" y="1083"/>
                    </a:lnTo>
                    <a:lnTo>
                      <a:pt x="2211" y="1090"/>
                    </a:lnTo>
                    <a:lnTo>
                      <a:pt x="2125" y="1097"/>
                    </a:lnTo>
                    <a:lnTo>
                      <a:pt x="2038" y="1101"/>
                    </a:lnTo>
                    <a:lnTo>
                      <a:pt x="1949" y="1105"/>
                    </a:lnTo>
                    <a:lnTo>
                      <a:pt x="1859" y="1107"/>
                    </a:lnTo>
                    <a:lnTo>
                      <a:pt x="1768" y="1108"/>
                    </a:lnTo>
                    <a:lnTo>
                      <a:pt x="1678" y="1107"/>
                    </a:lnTo>
                    <a:lnTo>
                      <a:pt x="1588" y="1105"/>
                    </a:lnTo>
                    <a:lnTo>
                      <a:pt x="1499" y="1101"/>
                    </a:lnTo>
                    <a:lnTo>
                      <a:pt x="1412" y="1097"/>
                    </a:lnTo>
                    <a:lnTo>
                      <a:pt x="1326" y="1090"/>
                    </a:lnTo>
                    <a:lnTo>
                      <a:pt x="1242" y="1083"/>
                    </a:lnTo>
                    <a:lnTo>
                      <a:pt x="1160" y="1074"/>
                    </a:lnTo>
                    <a:lnTo>
                      <a:pt x="1081" y="1063"/>
                    </a:lnTo>
                    <a:lnTo>
                      <a:pt x="1002" y="1052"/>
                    </a:lnTo>
                    <a:lnTo>
                      <a:pt x="926" y="1040"/>
                    </a:lnTo>
                    <a:lnTo>
                      <a:pt x="851" y="1026"/>
                    </a:lnTo>
                    <a:lnTo>
                      <a:pt x="780" y="1012"/>
                    </a:lnTo>
                    <a:lnTo>
                      <a:pt x="711" y="996"/>
                    </a:lnTo>
                    <a:lnTo>
                      <a:pt x="643" y="979"/>
                    </a:lnTo>
                    <a:lnTo>
                      <a:pt x="580" y="962"/>
                    </a:lnTo>
                    <a:lnTo>
                      <a:pt x="518" y="942"/>
                    </a:lnTo>
                    <a:lnTo>
                      <a:pt x="460" y="923"/>
                    </a:lnTo>
                    <a:lnTo>
                      <a:pt x="404" y="903"/>
                    </a:lnTo>
                    <a:lnTo>
                      <a:pt x="352" y="882"/>
                    </a:lnTo>
                    <a:lnTo>
                      <a:pt x="302" y="860"/>
                    </a:lnTo>
                    <a:lnTo>
                      <a:pt x="257" y="836"/>
                    </a:lnTo>
                    <a:lnTo>
                      <a:pt x="214" y="813"/>
                    </a:lnTo>
                    <a:lnTo>
                      <a:pt x="175" y="789"/>
                    </a:lnTo>
                    <a:lnTo>
                      <a:pt x="139" y="764"/>
                    </a:lnTo>
                    <a:lnTo>
                      <a:pt x="108" y="738"/>
                    </a:lnTo>
                    <a:lnTo>
                      <a:pt x="80" y="712"/>
                    </a:lnTo>
                    <a:lnTo>
                      <a:pt x="56" y="685"/>
                    </a:lnTo>
                    <a:lnTo>
                      <a:pt x="36" y="658"/>
                    </a:lnTo>
                    <a:lnTo>
                      <a:pt x="20" y="630"/>
                    </a:lnTo>
                    <a:lnTo>
                      <a:pt x="9" y="602"/>
                    </a:lnTo>
                    <a:lnTo>
                      <a:pt x="3" y="574"/>
                    </a:lnTo>
                    <a:lnTo>
                      <a:pt x="0" y="545"/>
                    </a:lnTo>
                    <a:lnTo>
                      <a:pt x="3" y="515"/>
                    </a:lnTo>
                    <a:lnTo>
                      <a:pt x="9" y="487"/>
                    </a:lnTo>
                    <a:lnTo>
                      <a:pt x="20" y="460"/>
                    </a:lnTo>
                    <a:lnTo>
                      <a:pt x="36" y="432"/>
                    </a:lnTo>
                    <a:lnTo>
                      <a:pt x="56" y="405"/>
                    </a:lnTo>
                    <a:lnTo>
                      <a:pt x="80" y="379"/>
                    </a:lnTo>
                    <a:lnTo>
                      <a:pt x="108" y="353"/>
                    </a:lnTo>
                    <a:lnTo>
                      <a:pt x="139" y="329"/>
                    </a:lnTo>
                    <a:lnTo>
                      <a:pt x="175" y="304"/>
                    </a:lnTo>
                    <a:lnTo>
                      <a:pt x="214" y="280"/>
                    </a:lnTo>
                    <a:lnTo>
                      <a:pt x="257" y="258"/>
                    </a:lnTo>
                    <a:lnTo>
                      <a:pt x="302" y="236"/>
                    </a:lnTo>
                    <a:lnTo>
                      <a:pt x="352" y="215"/>
                    </a:lnTo>
                    <a:lnTo>
                      <a:pt x="404" y="193"/>
                    </a:lnTo>
                    <a:lnTo>
                      <a:pt x="460" y="174"/>
                    </a:lnTo>
                    <a:lnTo>
                      <a:pt x="518" y="155"/>
                    </a:lnTo>
                    <a:lnTo>
                      <a:pt x="580" y="138"/>
                    </a:lnTo>
                    <a:lnTo>
                      <a:pt x="643" y="121"/>
                    </a:lnTo>
                    <a:lnTo>
                      <a:pt x="711" y="105"/>
                    </a:lnTo>
                    <a:lnTo>
                      <a:pt x="780" y="90"/>
                    </a:lnTo>
                    <a:lnTo>
                      <a:pt x="851" y="76"/>
                    </a:lnTo>
                    <a:lnTo>
                      <a:pt x="926" y="63"/>
                    </a:lnTo>
                    <a:lnTo>
                      <a:pt x="1002" y="51"/>
                    </a:lnTo>
                    <a:lnTo>
                      <a:pt x="1081" y="41"/>
                    </a:lnTo>
                    <a:lnTo>
                      <a:pt x="1160" y="32"/>
                    </a:lnTo>
                    <a:lnTo>
                      <a:pt x="1242" y="23"/>
                    </a:lnTo>
                    <a:lnTo>
                      <a:pt x="1326" y="16"/>
                    </a:lnTo>
                    <a:lnTo>
                      <a:pt x="1412" y="10"/>
                    </a:lnTo>
                    <a:lnTo>
                      <a:pt x="1499" y="6"/>
                    </a:lnTo>
                    <a:lnTo>
                      <a:pt x="1588" y="3"/>
                    </a:lnTo>
                    <a:lnTo>
                      <a:pt x="1678" y="0"/>
                    </a:lnTo>
                    <a:lnTo>
                      <a:pt x="1768" y="0"/>
                    </a:lnTo>
                    <a:lnTo>
                      <a:pt x="1859" y="0"/>
                    </a:lnTo>
                    <a:lnTo>
                      <a:pt x="1949" y="3"/>
                    </a:lnTo>
                    <a:lnTo>
                      <a:pt x="2038" y="6"/>
                    </a:lnTo>
                    <a:lnTo>
                      <a:pt x="2125" y="10"/>
                    </a:lnTo>
                    <a:lnTo>
                      <a:pt x="2211" y="16"/>
                    </a:lnTo>
                    <a:lnTo>
                      <a:pt x="2295" y="23"/>
                    </a:lnTo>
                    <a:lnTo>
                      <a:pt x="2376" y="32"/>
                    </a:lnTo>
                    <a:lnTo>
                      <a:pt x="2457" y="41"/>
                    </a:lnTo>
                    <a:lnTo>
                      <a:pt x="2535" y="51"/>
                    </a:lnTo>
                    <a:lnTo>
                      <a:pt x="2612" y="63"/>
                    </a:lnTo>
                    <a:lnTo>
                      <a:pt x="2685" y="76"/>
                    </a:lnTo>
                    <a:lnTo>
                      <a:pt x="2757" y="90"/>
                    </a:lnTo>
                    <a:lnTo>
                      <a:pt x="2827" y="105"/>
                    </a:lnTo>
                    <a:lnTo>
                      <a:pt x="2894" y="121"/>
                    </a:lnTo>
                    <a:lnTo>
                      <a:pt x="2957" y="138"/>
                    </a:lnTo>
                    <a:lnTo>
                      <a:pt x="3019" y="155"/>
                    </a:lnTo>
                    <a:lnTo>
                      <a:pt x="3077" y="174"/>
                    </a:lnTo>
                    <a:lnTo>
                      <a:pt x="3133" y="193"/>
                    </a:lnTo>
                    <a:lnTo>
                      <a:pt x="3185" y="215"/>
                    </a:lnTo>
                    <a:lnTo>
                      <a:pt x="3235" y="236"/>
                    </a:lnTo>
                    <a:lnTo>
                      <a:pt x="3280" y="258"/>
                    </a:lnTo>
                    <a:lnTo>
                      <a:pt x="3323" y="280"/>
                    </a:lnTo>
                    <a:lnTo>
                      <a:pt x="3362" y="304"/>
                    </a:lnTo>
                    <a:lnTo>
                      <a:pt x="3397" y="329"/>
                    </a:lnTo>
                    <a:lnTo>
                      <a:pt x="3430" y="353"/>
                    </a:lnTo>
                    <a:lnTo>
                      <a:pt x="3457" y="379"/>
                    </a:lnTo>
                    <a:lnTo>
                      <a:pt x="3481" y="405"/>
                    </a:lnTo>
                    <a:lnTo>
                      <a:pt x="3501" y="432"/>
                    </a:lnTo>
                    <a:lnTo>
                      <a:pt x="3517" y="460"/>
                    </a:lnTo>
                    <a:lnTo>
                      <a:pt x="3528" y="487"/>
                    </a:lnTo>
                    <a:lnTo>
                      <a:pt x="3534" y="515"/>
                    </a:lnTo>
                    <a:lnTo>
                      <a:pt x="3537" y="5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953000" y="6493320"/>
                <a:ext cx="389880" cy="131400"/>
              </a:xfrm>
              <a:custGeom>
                <a:avLst/>
                <a:gdLst/>
                <a:ahLst/>
                <a:rect l="l" t="t" r="r" b="b"/>
                <a:pathLst>
                  <a:path w="3533" h="1106">
                    <a:moveTo>
                      <a:pt x="3533" y="544"/>
                    </a:moveTo>
                    <a:lnTo>
                      <a:pt x="3531" y="573"/>
                    </a:lnTo>
                    <a:lnTo>
                      <a:pt x="3524" y="601"/>
                    </a:lnTo>
                    <a:lnTo>
                      <a:pt x="3513" y="629"/>
                    </a:lnTo>
                    <a:lnTo>
                      <a:pt x="3497" y="657"/>
                    </a:lnTo>
                    <a:lnTo>
                      <a:pt x="3477" y="684"/>
                    </a:lnTo>
                    <a:lnTo>
                      <a:pt x="3454" y="711"/>
                    </a:lnTo>
                    <a:lnTo>
                      <a:pt x="3426" y="737"/>
                    </a:lnTo>
                    <a:lnTo>
                      <a:pt x="3394" y="763"/>
                    </a:lnTo>
                    <a:lnTo>
                      <a:pt x="3359" y="788"/>
                    </a:lnTo>
                    <a:lnTo>
                      <a:pt x="3320" y="812"/>
                    </a:lnTo>
                    <a:lnTo>
                      <a:pt x="3277" y="835"/>
                    </a:lnTo>
                    <a:lnTo>
                      <a:pt x="3232" y="858"/>
                    </a:lnTo>
                    <a:lnTo>
                      <a:pt x="3182" y="880"/>
                    </a:lnTo>
                    <a:lnTo>
                      <a:pt x="3130" y="901"/>
                    </a:lnTo>
                    <a:lnTo>
                      <a:pt x="3074" y="921"/>
                    </a:lnTo>
                    <a:lnTo>
                      <a:pt x="3016" y="941"/>
                    </a:lnTo>
                    <a:lnTo>
                      <a:pt x="2954" y="960"/>
                    </a:lnTo>
                    <a:lnTo>
                      <a:pt x="2891" y="978"/>
                    </a:lnTo>
                    <a:lnTo>
                      <a:pt x="2824" y="994"/>
                    </a:lnTo>
                    <a:lnTo>
                      <a:pt x="2754" y="1010"/>
                    </a:lnTo>
                    <a:lnTo>
                      <a:pt x="2682" y="1024"/>
                    </a:lnTo>
                    <a:lnTo>
                      <a:pt x="2609" y="1038"/>
                    </a:lnTo>
                    <a:lnTo>
                      <a:pt x="2532" y="1050"/>
                    </a:lnTo>
                    <a:lnTo>
                      <a:pt x="2454" y="1061"/>
                    </a:lnTo>
                    <a:lnTo>
                      <a:pt x="2373" y="1072"/>
                    </a:lnTo>
                    <a:lnTo>
                      <a:pt x="2292" y="1081"/>
                    </a:lnTo>
                    <a:lnTo>
                      <a:pt x="2208" y="1088"/>
                    </a:lnTo>
                    <a:lnTo>
                      <a:pt x="2123" y="1095"/>
                    </a:lnTo>
                    <a:lnTo>
                      <a:pt x="2035" y="1100"/>
                    </a:lnTo>
                    <a:lnTo>
                      <a:pt x="1947" y="1103"/>
                    </a:lnTo>
                    <a:lnTo>
                      <a:pt x="1857" y="1105"/>
                    </a:lnTo>
                    <a:lnTo>
                      <a:pt x="1766" y="1106"/>
                    </a:lnTo>
                    <a:lnTo>
                      <a:pt x="1676" y="1105"/>
                    </a:lnTo>
                    <a:lnTo>
                      <a:pt x="1586" y="1103"/>
                    </a:lnTo>
                    <a:lnTo>
                      <a:pt x="1498" y="1100"/>
                    </a:lnTo>
                    <a:lnTo>
                      <a:pt x="1410" y="1095"/>
                    </a:lnTo>
                    <a:lnTo>
                      <a:pt x="1325" y="1088"/>
                    </a:lnTo>
                    <a:lnTo>
                      <a:pt x="1241" y="1081"/>
                    </a:lnTo>
                    <a:lnTo>
                      <a:pt x="1159" y="1072"/>
                    </a:lnTo>
                    <a:lnTo>
                      <a:pt x="1079" y="1061"/>
                    </a:lnTo>
                    <a:lnTo>
                      <a:pt x="1001" y="1050"/>
                    </a:lnTo>
                    <a:lnTo>
                      <a:pt x="924" y="1038"/>
                    </a:lnTo>
                    <a:lnTo>
                      <a:pt x="850" y="1024"/>
                    </a:lnTo>
                    <a:lnTo>
                      <a:pt x="779" y="1010"/>
                    </a:lnTo>
                    <a:lnTo>
                      <a:pt x="709" y="994"/>
                    </a:lnTo>
                    <a:lnTo>
                      <a:pt x="642" y="978"/>
                    </a:lnTo>
                    <a:lnTo>
                      <a:pt x="579" y="960"/>
                    </a:lnTo>
                    <a:lnTo>
                      <a:pt x="517" y="941"/>
                    </a:lnTo>
                    <a:lnTo>
                      <a:pt x="459" y="921"/>
                    </a:lnTo>
                    <a:lnTo>
                      <a:pt x="403" y="901"/>
                    </a:lnTo>
                    <a:lnTo>
                      <a:pt x="351" y="880"/>
                    </a:lnTo>
                    <a:lnTo>
                      <a:pt x="301" y="858"/>
                    </a:lnTo>
                    <a:lnTo>
                      <a:pt x="256" y="835"/>
                    </a:lnTo>
                    <a:lnTo>
                      <a:pt x="213" y="812"/>
                    </a:lnTo>
                    <a:lnTo>
                      <a:pt x="174" y="788"/>
                    </a:lnTo>
                    <a:lnTo>
                      <a:pt x="138" y="763"/>
                    </a:lnTo>
                    <a:lnTo>
                      <a:pt x="107" y="737"/>
                    </a:lnTo>
                    <a:lnTo>
                      <a:pt x="79" y="711"/>
                    </a:lnTo>
                    <a:lnTo>
                      <a:pt x="56" y="684"/>
                    </a:lnTo>
                    <a:lnTo>
                      <a:pt x="35" y="657"/>
                    </a:lnTo>
                    <a:lnTo>
                      <a:pt x="20" y="629"/>
                    </a:lnTo>
                    <a:lnTo>
                      <a:pt x="9" y="601"/>
                    </a:lnTo>
                    <a:lnTo>
                      <a:pt x="2" y="573"/>
                    </a:lnTo>
                    <a:lnTo>
                      <a:pt x="0" y="544"/>
                    </a:lnTo>
                    <a:lnTo>
                      <a:pt x="2" y="514"/>
                    </a:lnTo>
                    <a:lnTo>
                      <a:pt x="9" y="486"/>
                    </a:lnTo>
                    <a:lnTo>
                      <a:pt x="20" y="459"/>
                    </a:lnTo>
                    <a:lnTo>
                      <a:pt x="35" y="432"/>
                    </a:lnTo>
                    <a:lnTo>
                      <a:pt x="56" y="404"/>
                    </a:lnTo>
                    <a:lnTo>
                      <a:pt x="79" y="378"/>
                    </a:lnTo>
                    <a:lnTo>
                      <a:pt x="107" y="353"/>
                    </a:lnTo>
                    <a:lnTo>
                      <a:pt x="138" y="328"/>
                    </a:lnTo>
                    <a:lnTo>
                      <a:pt x="174" y="303"/>
                    </a:lnTo>
                    <a:lnTo>
                      <a:pt x="213" y="280"/>
                    </a:lnTo>
                    <a:lnTo>
                      <a:pt x="256" y="257"/>
                    </a:lnTo>
                    <a:lnTo>
                      <a:pt x="301" y="235"/>
                    </a:lnTo>
                    <a:lnTo>
                      <a:pt x="351" y="214"/>
                    </a:lnTo>
                    <a:lnTo>
                      <a:pt x="403" y="193"/>
                    </a:lnTo>
                    <a:lnTo>
                      <a:pt x="459" y="174"/>
                    </a:lnTo>
                    <a:lnTo>
                      <a:pt x="517" y="155"/>
                    </a:lnTo>
                    <a:lnTo>
                      <a:pt x="579" y="137"/>
                    </a:lnTo>
                    <a:lnTo>
                      <a:pt x="642" y="121"/>
                    </a:lnTo>
                    <a:lnTo>
                      <a:pt x="709" y="105"/>
                    </a:lnTo>
                    <a:lnTo>
                      <a:pt x="779" y="89"/>
                    </a:lnTo>
                    <a:lnTo>
                      <a:pt x="850" y="76"/>
                    </a:lnTo>
                    <a:lnTo>
                      <a:pt x="924" y="63"/>
                    </a:lnTo>
                    <a:lnTo>
                      <a:pt x="1001" y="51"/>
                    </a:lnTo>
                    <a:lnTo>
                      <a:pt x="1079" y="41"/>
                    </a:lnTo>
                    <a:lnTo>
                      <a:pt x="1159" y="31"/>
                    </a:lnTo>
                    <a:lnTo>
                      <a:pt x="1241" y="23"/>
                    </a:lnTo>
                    <a:lnTo>
                      <a:pt x="1325" y="16"/>
                    </a:lnTo>
                    <a:lnTo>
                      <a:pt x="1410" y="10"/>
                    </a:lnTo>
                    <a:lnTo>
                      <a:pt x="1498" y="6"/>
                    </a:lnTo>
                    <a:lnTo>
                      <a:pt x="1586" y="2"/>
                    </a:lnTo>
                    <a:lnTo>
                      <a:pt x="1676" y="0"/>
                    </a:lnTo>
                    <a:lnTo>
                      <a:pt x="1766" y="0"/>
                    </a:lnTo>
                    <a:lnTo>
                      <a:pt x="1857" y="0"/>
                    </a:lnTo>
                    <a:lnTo>
                      <a:pt x="1947" y="2"/>
                    </a:lnTo>
                    <a:lnTo>
                      <a:pt x="2035" y="6"/>
                    </a:lnTo>
                    <a:lnTo>
                      <a:pt x="2123" y="10"/>
                    </a:lnTo>
                    <a:lnTo>
                      <a:pt x="2208" y="16"/>
                    </a:lnTo>
                    <a:lnTo>
                      <a:pt x="2292" y="23"/>
                    </a:lnTo>
                    <a:lnTo>
                      <a:pt x="2373" y="31"/>
                    </a:lnTo>
                    <a:lnTo>
                      <a:pt x="2454" y="41"/>
                    </a:lnTo>
                    <a:lnTo>
                      <a:pt x="2532" y="51"/>
                    </a:lnTo>
                    <a:lnTo>
                      <a:pt x="2609" y="63"/>
                    </a:lnTo>
                    <a:lnTo>
                      <a:pt x="2682" y="76"/>
                    </a:lnTo>
                    <a:lnTo>
                      <a:pt x="2754" y="89"/>
                    </a:lnTo>
                    <a:lnTo>
                      <a:pt x="2824" y="105"/>
                    </a:lnTo>
                    <a:lnTo>
                      <a:pt x="2891" y="121"/>
                    </a:lnTo>
                    <a:lnTo>
                      <a:pt x="2954" y="137"/>
                    </a:lnTo>
                    <a:lnTo>
                      <a:pt x="3016" y="155"/>
                    </a:lnTo>
                    <a:lnTo>
                      <a:pt x="3074" y="174"/>
                    </a:lnTo>
                    <a:lnTo>
                      <a:pt x="3130" y="193"/>
                    </a:lnTo>
                    <a:lnTo>
                      <a:pt x="3182" y="214"/>
                    </a:lnTo>
                    <a:lnTo>
                      <a:pt x="3232" y="235"/>
                    </a:lnTo>
                    <a:lnTo>
                      <a:pt x="3277" y="257"/>
                    </a:lnTo>
                    <a:lnTo>
                      <a:pt x="3320" y="280"/>
                    </a:lnTo>
                    <a:lnTo>
                      <a:pt x="3359" y="303"/>
                    </a:lnTo>
                    <a:lnTo>
                      <a:pt x="3394" y="328"/>
                    </a:lnTo>
                    <a:lnTo>
                      <a:pt x="3426" y="353"/>
                    </a:lnTo>
                    <a:lnTo>
                      <a:pt x="3454" y="378"/>
                    </a:lnTo>
                    <a:lnTo>
                      <a:pt x="3477" y="404"/>
                    </a:lnTo>
                    <a:lnTo>
                      <a:pt x="3497" y="432"/>
                    </a:lnTo>
                    <a:lnTo>
                      <a:pt x="3513" y="459"/>
                    </a:lnTo>
                    <a:lnTo>
                      <a:pt x="3524" y="486"/>
                    </a:lnTo>
                    <a:lnTo>
                      <a:pt x="3531" y="514"/>
                    </a:lnTo>
                    <a:lnTo>
                      <a:pt x="3533" y="5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953000" y="6493320"/>
                <a:ext cx="388800" cy="131400"/>
              </a:xfrm>
              <a:custGeom>
                <a:avLst/>
                <a:gdLst/>
                <a:ahLst/>
                <a:rect l="l" t="t" r="r" b="b"/>
                <a:pathLst>
                  <a:path w="3531" h="1104">
                    <a:moveTo>
                      <a:pt x="3531" y="543"/>
                    </a:moveTo>
                    <a:lnTo>
                      <a:pt x="3529" y="572"/>
                    </a:lnTo>
                    <a:lnTo>
                      <a:pt x="3522" y="600"/>
                    </a:lnTo>
                    <a:lnTo>
                      <a:pt x="3511" y="628"/>
                    </a:lnTo>
                    <a:lnTo>
                      <a:pt x="3494" y="656"/>
                    </a:lnTo>
                    <a:lnTo>
                      <a:pt x="3475" y="683"/>
                    </a:lnTo>
                    <a:lnTo>
                      <a:pt x="3451" y="709"/>
                    </a:lnTo>
                    <a:lnTo>
                      <a:pt x="3424" y="735"/>
                    </a:lnTo>
                    <a:lnTo>
                      <a:pt x="3392" y="761"/>
                    </a:lnTo>
                    <a:lnTo>
                      <a:pt x="3357" y="786"/>
                    </a:lnTo>
                    <a:lnTo>
                      <a:pt x="3318" y="810"/>
                    </a:lnTo>
                    <a:lnTo>
                      <a:pt x="3275" y="833"/>
                    </a:lnTo>
                    <a:lnTo>
                      <a:pt x="3229" y="857"/>
                    </a:lnTo>
                    <a:lnTo>
                      <a:pt x="3180" y="879"/>
                    </a:lnTo>
                    <a:lnTo>
                      <a:pt x="3128" y="900"/>
                    </a:lnTo>
                    <a:lnTo>
                      <a:pt x="3072" y="920"/>
                    </a:lnTo>
                    <a:lnTo>
                      <a:pt x="3014" y="939"/>
                    </a:lnTo>
                    <a:lnTo>
                      <a:pt x="2952" y="959"/>
                    </a:lnTo>
                    <a:lnTo>
                      <a:pt x="2889" y="976"/>
                    </a:lnTo>
                    <a:lnTo>
                      <a:pt x="2822" y="993"/>
                    </a:lnTo>
                    <a:lnTo>
                      <a:pt x="2752" y="1008"/>
                    </a:lnTo>
                    <a:lnTo>
                      <a:pt x="2680" y="1023"/>
                    </a:lnTo>
                    <a:lnTo>
                      <a:pt x="2607" y="1036"/>
                    </a:lnTo>
                    <a:lnTo>
                      <a:pt x="2531" y="1048"/>
                    </a:lnTo>
                    <a:lnTo>
                      <a:pt x="2452" y="1059"/>
                    </a:lnTo>
                    <a:lnTo>
                      <a:pt x="2372" y="1070"/>
                    </a:lnTo>
                    <a:lnTo>
                      <a:pt x="2291" y="1079"/>
                    </a:lnTo>
                    <a:lnTo>
                      <a:pt x="2207" y="1087"/>
                    </a:lnTo>
                    <a:lnTo>
                      <a:pt x="2121" y="1093"/>
                    </a:lnTo>
                    <a:lnTo>
                      <a:pt x="2034" y="1098"/>
                    </a:lnTo>
                    <a:lnTo>
                      <a:pt x="1946" y="1101"/>
                    </a:lnTo>
                    <a:lnTo>
                      <a:pt x="1856" y="1103"/>
                    </a:lnTo>
                    <a:lnTo>
                      <a:pt x="1765" y="1104"/>
                    </a:lnTo>
                    <a:lnTo>
                      <a:pt x="1675" y="1103"/>
                    </a:lnTo>
                    <a:lnTo>
                      <a:pt x="1585" y="1101"/>
                    </a:lnTo>
                    <a:lnTo>
                      <a:pt x="1497" y="1098"/>
                    </a:lnTo>
                    <a:lnTo>
                      <a:pt x="1410" y="1093"/>
                    </a:lnTo>
                    <a:lnTo>
                      <a:pt x="1324" y="1087"/>
                    </a:lnTo>
                    <a:lnTo>
                      <a:pt x="1240" y="1079"/>
                    </a:lnTo>
                    <a:lnTo>
                      <a:pt x="1158" y="1070"/>
                    </a:lnTo>
                    <a:lnTo>
                      <a:pt x="1079" y="1059"/>
                    </a:lnTo>
                    <a:lnTo>
                      <a:pt x="1000" y="1048"/>
                    </a:lnTo>
                    <a:lnTo>
                      <a:pt x="924" y="1036"/>
                    </a:lnTo>
                    <a:lnTo>
                      <a:pt x="850" y="1023"/>
                    </a:lnTo>
                    <a:lnTo>
                      <a:pt x="779" y="1008"/>
                    </a:lnTo>
                    <a:lnTo>
                      <a:pt x="709" y="993"/>
                    </a:lnTo>
                    <a:lnTo>
                      <a:pt x="642" y="976"/>
                    </a:lnTo>
                    <a:lnTo>
                      <a:pt x="579" y="959"/>
                    </a:lnTo>
                    <a:lnTo>
                      <a:pt x="517" y="939"/>
                    </a:lnTo>
                    <a:lnTo>
                      <a:pt x="459" y="920"/>
                    </a:lnTo>
                    <a:lnTo>
                      <a:pt x="403" y="900"/>
                    </a:lnTo>
                    <a:lnTo>
                      <a:pt x="351" y="879"/>
                    </a:lnTo>
                    <a:lnTo>
                      <a:pt x="302" y="857"/>
                    </a:lnTo>
                    <a:lnTo>
                      <a:pt x="256" y="833"/>
                    </a:lnTo>
                    <a:lnTo>
                      <a:pt x="213" y="810"/>
                    </a:lnTo>
                    <a:lnTo>
                      <a:pt x="174" y="786"/>
                    </a:lnTo>
                    <a:lnTo>
                      <a:pt x="139" y="761"/>
                    </a:lnTo>
                    <a:lnTo>
                      <a:pt x="107" y="735"/>
                    </a:lnTo>
                    <a:lnTo>
                      <a:pt x="80" y="709"/>
                    </a:lnTo>
                    <a:lnTo>
                      <a:pt x="56" y="683"/>
                    </a:lnTo>
                    <a:lnTo>
                      <a:pt x="36" y="656"/>
                    </a:lnTo>
                    <a:lnTo>
                      <a:pt x="20" y="628"/>
                    </a:lnTo>
                    <a:lnTo>
                      <a:pt x="9" y="600"/>
                    </a:lnTo>
                    <a:lnTo>
                      <a:pt x="2" y="572"/>
                    </a:lnTo>
                    <a:lnTo>
                      <a:pt x="0" y="543"/>
                    </a:lnTo>
                    <a:lnTo>
                      <a:pt x="2" y="514"/>
                    </a:lnTo>
                    <a:lnTo>
                      <a:pt x="9" y="485"/>
                    </a:lnTo>
                    <a:lnTo>
                      <a:pt x="20" y="458"/>
                    </a:lnTo>
                    <a:lnTo>
                      <a:pt x="36" y="431"/>
                    </a:lnTo>
                    <a:lnTo>
                      <a:pt x="56" y="403"/>
                    </a:lnTo>
                    <a:lnTo>
                      <a:pt x="80" y="377"/>
                    </a:lnTo>
                    <a:lnTo>
                      <a:pt x="107" y="352"/>
                    </a:lnTo>
                    <a:lnTo>
                      <a:pt x="139" y="327"/>
                    </a:lnTo>
                    <a:lnTo>
                      <a:pt x="174" y="302"/>
                    </a:lnTo>
                    <a:lnTo>
                      <a:pt x="213" y="279"/>
                    </a:lnTo>
                    <a:lnTo>
                      <a:pt x="256" y="257"/>
                    </a:lnTo>
                    <a:lnTo>
                      <a:pt x="302" y="235"/>
                    </a:lnTo>
                    <a:lnTo>
                      <a:pt x="351" y="214"/>
                    </a:lnTo>
                    <a:lnTo>
                      <a:pt x="403" y="193"/>
                    </a:lnTo>
                    <a:lnTo>
                      <a:pt x="459" y="173"/>
                    </a:lnTo>
                    <a:lnTo>
                      <a:pt x="517" y="155"/>
                    </a:lnTo>
                    <a:lnTo>
                      <a:pt x="579" y="137"/>
                    </a:lnTo>
                    <a:lnTo>
                      <a:pt x="642" y="121"/>
                    </a:lnTo>
                    <a:lnTo>
                      <a:pt x="709" y="105"/>
                    </a:lnTo>
                    <a:lnTo>
                      <a:pt x="779" y="89"/>
                    </a:lnTo>
                    <a:lnTo>
                      <a:pt x="850" y="75"/>
                    </a:lnTo>
                    <a:lnTo>
                      <a:pt x="924" y="63"/>
                    </a:lnTo>
                    <a:lnTo>
                      <a:pt x="1000" y="51"/>
                    </a:lnTo>
                    <a:lnTo>
                      <a:pt x="1079" y="41"/>
                    </a:lnTo>
                    <a:lnTo>
                      <a:pt x="1158" y="31"/>
                    </a:lnTo>
                    <a:lnTo>
                      <a:pt x="1240" y="23"/>
                    </a:lnTo>
                    <a:lnTo>
                      <a:pt x="1324" y="16"/>
                    </a:lnTo>
                    <a:lnTo>
                      <a:pt x="1410" y="10"/>
                    </a:lnTo>
                    <a:lnTo>
                      <a:pt x="1497" y="6"/>
                    </a:lnTo>
                    <a:lnTo>
                      <a:pt x="1585" y="2"/>
                    </a:lnTo>
                    <a:lnTo>
                      <a:pt x="1675" y="0"/>
                    </a:lnTo>
                    <a:lnTo>
                      <a:pt x="1765" y="0"/>
                    </a:lnTo>
                    <a:lnTo>
                      <a:pt x="1856" y="0"/>
                    </a:lnTo>
                    <a:lnTo>
                      <a:pt x="1946" y="2"/>
                    </a:lnTo>
                    <a:lnTo>
                      <a:pt x="2034" y="6"/>
                    </a:lnTo>
                    <a:lnTo>
                      <a:pt x="2121" y="10"/>
                    </a:lnTo>
                    <a:lnTo>
                      <a:pt x="2207" y="16"/>
                    </a:lnTo>
                    <a:lnTo>
                      <a:pt x="2291" y="23"/>
                    </a:lnTo>
                    <a:lnTo>
                      <a:pt x="2372" y="31"/>
                    </a:lnTo>
                    <a:lnTo>
                      <a:pt x="2452" y="41"/>
                    </a:lnTo>
                    <a:lnTo>
                      <a:pt x="2531" y="51"/>
                    </a:lnTo>
                    <a:lnTo>
                      <a:pt x="2607" y="63"/>
                    </a:lnTo>
                    <a:lnTo>
                      <a:pt x="2680" y="75"/>
                    </a:lnTo>
                    <a:lnTo>
                      <a:pt x="2752" y="89"/>
                    </a:lnTo>
                    <a:lnTo>
                      <a:pt x="2822" y="105"/>
                    </a:lnTo>
                    <a:lnTo>
                      <a:pt x="2889" y="121"/>
                    </a:lnTo>
                    <a:lnTo>
                      <a:pt x="2952" y="137"/>
                    </a:lnTo>
                    <a:lnTo>
                      <a:pt x="3014" y="155"/>
                    </a:lnTo>
                    <a:lnTo>
                      <a:pt x="3072" y="173"/>
                    </a:lnTo>
                    <a:lnTo>
                      <a:pt x="3128" y="193"/>
                    </a:lnTo>
                    <a:lnTo>
                      <a:pt x="3180" y="214"/>
                    </a:lnTo>
                    <a:lnTo>
                      <a:pt x="3229" y="235"/>
                    </a:lnTo>
                    <a:lnTo>
                      <a:pt x="3275" y="257"/>
                    </a:lnTo>
                    <a:lnTo>
                      <a:pt x="3318" y="279"/>
                    </a:lnTo>
                    <a:lnTo>
                      <a:pt x="3357" y="302"/>
                    </a:lnTo>
                    <a:lnTo>
                      <a:pt x="3392" y="327"/>
                    </a:lnTo>
                    <a:lnTo>
                      <a:pt x="3424" y="352"/>
                    </a:lnTo>
                    <a:lnTo>
                      <a:pt x="3451" y="377"/>
                    </a:lnTo>
                    <a:lnTo>
                      <a:pt x="3475" y="403"/>
                    </a:lnTo>
                    <a:lnTo>
                      <a:pt x="3494" y="431"/>
                    </a:lnTo>
                    <a:lnTo>
                      <a:pt x="3511" y="458"/>
                    </a:lnTo>
                    <a:lnTo>
                      <a:pt x="3522" y="485"/>
                    </a:lnTo>
                    <a:lnTo>
                      <a:pt x="3529" y="514"/>
                    </a:lnTo>
                    <a:lnTo>
                      <a:pt x="3531" y="5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954080" y="6493320"/>
                <a:ext cx="387720" cy="131400"/>
              </a:xfrm>
              <a:custGeom>
                <a:avLst/>
                <a:gdLst/>
                <a:ahLst/>
                <a:rect l="l" t="t" r="r" b="b"/>
                <a:pathLst>
                  <a:path w="3527" h="1102">
                    <a:moveTo>
                      <a:pt x="3527" y="542"/>
                    </a:moveTo>
                    <a:lnTo>
                      <a:pt x="3525" y="571"/>
                    </a:lnTo>
                    <a:lnTo>
                      <a:pt x="3518" y="599"/>
                    </a:lnTo>
                    <a:lnTo>
                      <a:pt x="3507" y="627"/>
                    </a:lnTo>
                    <a:lnTo>
                      <a:pt x="3491" y="655"/>
                    </a:lnTo>
                    <a:lnTo>
                      <a:pt x="3471" y="682"/>
                    </a:lnTo>
                    <a:lnTo>
                      <a:pt x="3448" y="708"/>
                    </a:lnTo>
                    <a:lnTo>
                      <a:pt x="3420" y="734"/>
                    </a:lnTo>
                    <a:lnTo>
                      <a:pt x="3388" y="760"/>
                    </a:lnTo>
                    <a:lnTo>
                      <a:pt x="3353" y="785"/>
                    </a:lnTo>
                    <a:lnTo>
                      <a:pt x="3315" y="809"/>
                    </a:lnTo>
                    <a:lnTo>
                      <a:pt x="3272" y="832"/>
                    </a:lnTo>
                    <a:lnTo>
                      <a:pt x="3226" y="855"/>
                    </a:lnTo>
                    <a:lnTo>
                      <a:pt x="3177" y="877"/>
                    </a:lnTo>
                    <a:lnTo>
                      <a:pt x="3125" y="898"/>
                    </a:lnTo>
                    <a:lnTo>
                      <a:pt x="3069" y="918"/>
                    </a:lnTo>
                    <a:lnTo>
                      <a:pt x="3011" y="938"/>
                    </a:lnTo>
                    <a:lnTo>
                      <a:pt x="2949" y="957"/>
                    </a:lnTo>
                    <a:lnTo>
                      <a:pt x="2886" y="974"/>
                    </a:lnTo>
                    <a:lnTo>
                      <a:pt x="2819" y="991"/>
                    </a:lnTo>
                    <a:lnTo>
                      <a:pt x="2749" y="1006"/>
                    </a:lnTo>
                    <a:lnTo>
                      <a:pt x="2678" y="1021"/>
                    </a:lnTo>
                    <a:lnTo>
                      <a:pt x="2604" y="1034"/>
                    </a:lnTo>
                    <a:lnTo>
                      <a:pt x="2528" y="1046"/>
                    </a:lnTo>
                    <a:lnTo>
                      <a:pt x="2450" y="1057"/>
                    </a:lnTo>
                    <a:lnTo>
                      <a:pt x="2370" y="1068"/>
                    </a:lnTo>
                    <a:lnTo>
                      <a:pt x="2288" y="1077"/>
                    </a:lnTo>
                    <a:lnTo>
                      <a:pt x="2204" y="1085"/>
                    </a:lnTo>
                    <a:lnTo>
                      <a:pt x="2119" y="1091"/>
                    </a:lnTo>
                    <a:lnTo>
                      <a:pt x="2032" y="1096"/>
                    </a:lnTo>
                    <a:lnTo>
                      <a:pt x="1944" y="1099"/>
                    </a:lnTo>
                    <a:lnTo>
                      <a:pt x="1854" y="1101"/>
                    </a:lnTo>
                    <a:lnTo>
                      <a:pt x="1763" y="1102"/>
                    </a:lnTo>
                    <a:lnTo>
                      <a:pt x="1673" y="1101"/>
                    </a:lnTo>
                    <a:lnTo>
                      <a:pt x="1583" y="1099"/>
                    </a:lnTo>
                    <a:lnTo>
                      <a:pt x="1495" y="1096"/>
                    </a:lnTo>
                    <a:lnTo>
                      <a:pt x="1408" y="1091"/>
                    </a:lnTo>
                    <a:lnTo>
                      <a:pt x="1323" y="1085"/>
                    </a:lnTo>
                    <a:lnTo>
                      <a:pt x="1239" y="1077"/>
                    </a:lnTo>
                    <a:lnTo>
                      <a:pt x="1157" y="1068"/>
                    </a:lnTo>
                    <a:lnTo>
                      <a:pt x="1077" y="1057"/>
                    </a:lnTo>
                    <a:lnTo>
                      <a:pt x="999" y="1046"/>
                    </a:lnTo>
                    <a:lnTo>
                      <a:pt x="923" y="1034"/>
                    </a:lnTo>
                    <a:lnTo>
                      <a:pt x="848" y="1021"/>
                    </a:lnTo>
                    <a:lnTo>
                      <a:pt x="778" y="1006"/>
                    </a:lnTo>
                    <a:lnTo>
                      <a:pt x="708" y="991"/>
                    </a:lnTo>
                    <a:lnTo>
                      <a:pt x="641" y="974"/>
                    </a:lnTo>
                    <a:lnTo>
                      <a:pt x="578" y="957"/>
                    </a:lnTo>
                    <a:lnTo>
                      <a:pt x="516" y="938"/>
                    </a:lnTo>
                    <a:lnTo>
                      <a:pt x="458" y="918"/>
                    </a:lnTo>
                    <a:lnTo>
                      <a:pt x="402" y="898"/>
                    </a:lnTo>
                    <a:lnTo>
                      <a:pt x="351" y="877"/>
                    </a:lnTo>
                    <a:lnTo>
                      <a:pt x="301" y="855"/>
                    </a:lnTo>
                    <a:lnTo>
                      <a:pt x="255" y="832"/>
                    </a:lnTo>
                    <a:lnTo>
                      <a:pt x="212" y="809"/>
                    </a:lnTo>
                    <a:lnTo>
                      <a:pt x="174" y="785"/>
                    </a:lnTo>
                    <a:lnTo>
                      <a:pt x="138" y="760"/>
                    </a:lnTo>
                    <a:lnTo>
                      <a:pt x="107" y="734"/>
                    </a:lnTo>
                    <a:lnTo>
                      <a:pt x="79" y="708"/>
                    </a:lnTo>
                    <a:lnTo>
                      <a:pt x="56" y="682"/>
                    </a:lnTo>
                    <a:lnTo>
                      <a:pt x="35" y="655"/>
                    </a:lnTo>
                    <a:lnTo>
                      <a:pt x="20" y="627"/>
                    </a:lnTo>
                    <a:lnTo>
                      <a:pt x="9" y="599"/>
                    </a:lnTo>
                    <a:lnTo>
                      <a:pt x="2" y="571"/>
                    </a:lnTo>
                    <a:lnTo>
                      <a:pt x="0" y="542"/>
                    </a:lnTo>
                    <a:lnTo>
                      <a:pt x="2" y="513"/>
                    </a:lnTo>
                    <a:lnTo>
                      <a:pt x="9" y="485"/>
                    </a:lnTo>
                    <a:lnTo>
                      <a:pt x="20" y="457"/>
                    </a:lnTo>
                    <a:lnTo>
                      <a:pt x="35" y="430"/>
                    </a:lnTo>
                    <a:lnTo>
                      <a:pt x="56" y="403"/>
                    </a:lnTo>
                    <a:lnTo>
                      <a:pt x="79" y="377"/>
                    </a:lnTo>
                    <a:lnTo>
                      <a:pt x="107" y="351"/>
                    </a:lnTo>
                    <a:lnTo>
                      <a:pt x="138" y="327"/>
                    </a:lnTo>
                    <a:lnTo>
                      <a:pt x="174" y="302"/>
                    </a:lnTo>
                    <a:lnTo>
                      <a:pt x="212" y="279"/>
                    </a:lnTo>
                    <a:lnTo>
                      <a:pt x="255" y="256"/>
                    </a:lnTo>
                    <a:lnTo>
                      <a:pt x="301" y="234"/>
                    </a:lnTo>
                    <a:lnTo>
                      <a:pt x="351" y="213"/>
                    </a:lnTo>
                    <a:lnTo>
                      <a:pt x="402" y="192"/>
                    </a:lnTo>
                    <a:lnTo>
                      <a:pt x="458" y="173"/>
                    </a:lnTo>
                    <a:lnTo>
                      <a:pt x="516" y="154"/>
                    </a:lnTo>
                    <a:lnTo>
                      <a:pt x="578" y="137"/>
                    </a:lnTo>
                    <a:lnTo>
                      <a:pt x="641" y="120"/>
                    </a:lnTo>
                    <a:lnTo>
                      <a:pt x="708" y="105"/>
                    </a:lnTo>
                    <a:lnTo>
                      <a:pt x="778" y="89"/>
                    </a:lnTo>
                    <a:lnTo>
                      <a:pt x="848" y="75"/>
                    </a:lnTo>
                    <a:lnTo>
                      <a:pt x="923" y="63"/>
                    </a:lnTo>
                    <a:lnTo>
                      <a:pt x="999" y="51"/>
                    </a:lnTo>
                    <a:lnTo>
                      <a:pt x="1077" y="40"/>
                    </a:lnTo>
                    <a:lnTo>
                      <a:pt x="1157" y="31"/>
                    </a:lnTo>
                    <a:lnTo>
                      <a:pt x="1239" y="23"/>
                    </a:lnTo>
                    <a:lnTo>
                      <a:pt x="1323" y="16"/>
                    </a:lnTo>
                    <a:lnTo>
                      <a:pt x="1408" y="10"/>
                    </a:lnTo>
                    <a:lnTo>
                      <a:pt x="1495" y="6"/>
                    </a:lnTo>
                    <a:lnTo>
                      <a:pt x="1583" y="2"/>
                    </a:lnTo>
                    <a:lnTo>
                      <a:pt x="1673" y="0"/>
                    </a:lnTo>
                    <a:lnTo>
                      <a:pt x="1763" y="0"/>
                    </a:lnTo>
                    <a:lnTo>
                      <a:pt x="1854" y="0"/>
                    </a:lnTo>
                    <a:lnTo>
                      <a:pt x="1944" y="2"/>
                    </a:lnTo>
                    <a:lnTo>
                      <a:pt x="2032" y="6"/>
                    </a:lnTo>
                    <a:lnTo>
                      <a:pt x="2119" y="10"/>
                    </a:lnTo>
                    <a:lnTo>
                      <a:pt x="2204" y="16"/>
                    </a:lnTo>
                    <a:lnTo>
                      <a:pt x="2288" y="23"/>
                    </a:lnTo>
                    <a:lnTo>
                      <a:pt x="2370" y="31"/>
                    </a:lnTo>
                    <a:lnTo>
                      <a:pt x="2450" y="40"/>
                    </a:lnTo>
                    <a:lnTo>
                      <a:pt x="2528" y="51"/>
                    </a:lnTo>
                    <a:lnTo>
                      <a:pt x="2604" y="63"/>
                    </a:lnTo>
                    <a:lnTo>
                      <a:pt x="2678" y="75"/>
                    </a:lnTo>
                    <a:lnTo>
                      <a:pt x="2749" y="89"/>
                    </a:lnTo>
                    <a:lnTo>
                      <a:pt x="2819" y="105"/>
                    </a:lnTo>
                    <a:lnTo>
                      <a:pt x="2886" y="120"/>
                    </a:lnTo>
                    <a:lnTo>
                      <a:pt x="2949" y="137"/>
                    </a:lnTo>
                    <a:lnTo>
                      <a:pt x="3011" y="154"/>
                    </a:lnTo>
                    <a:lnTo>
                      <a:pt x="3069" y="173"/>
                    </a:lnTo>
                    <a:lnTo>
                      <a:pt x="3125" y="192"/>
                    </a:lnTo>
                    <a:lnTo>
                      <a:pt x="3177" y="213"/>
                    </a:lnTo>
                    <a:lnTo>
                      <a:pt x="3226" y="234"/>
                    </a:lnTo>
                    <a:lnTo>
                      <a:pt x="3272" y="256"/>
                    </a:lnTo>
                    <a:lnTo>
                      <a:pt x="3315" y="279"/>
                    </a:lnTo>
                    <a:lnTo>
                      <a:pt x="3353" y="302"/>
                    </a:lnTo>
                    <a:lnTo>
                      <a:pt x="3388" y="327"/>
                    </a:lnTo>
                    <a:lnTo>
                      <a:pt x="3420" y="351"/>
                    </a:lnTo>
                    <a:lnTo>
                      <a:pt x="3448" y="377"/>
                    </a:lnTo>
                    <a:lnTo>
                      <a:pt x="3471" y="403"/>
                    </a:lnTo>
                    <a:lnTo>
                      <a:pt x="3491" y="430"/>
                    </a:lnTo>
                    <a:lnTo>
                      <a:pt x="3507" y="457"/>
                    </a:lnTo>
                    <a:lnTo>
                      <a:pt x="3518" y="485"/>
                    </a:lnTo>
                    <a:lnTo>
                      <a:pt x="3525" y="513"/>
                    </a:lnTo>
                    <a:lnTo>
                      <a:pt x="3527" y="5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54080" y="6493320"/>
                <a:ext cx="387720" cy="131400"/>
              </a:xfrm>
              <a:custGeom>
                <a:avLst/>
                <a:gdLst/>
                <a:ahLst/>
                <a:rect l="l" t="t" r="r" b="b"/>
                <a:pathLst>
                  <a:path w="3525" h="1100">
                    <a:moveTo>
                      <a:pt x="3525" y="541"/>
                    </a:moveTo>
                    <a:lnTo>
                      <a:pt x="3523" y="570"/>
                    </a:lnTo>
                    <a:lnTo>
                      <a:pt x="3516" y="598"/>
                    </a:lnTo>
                    <a:lnTo>
                      <a:pt x="3505" y="625"/>
                    </a:lnTo>
                    <a:lnTo>
                      <a:pt x="3489" y="654"/>
                    </a:lnTo>
                    <a:lnTo>
                      <a:pt x="3469" y="681"/>
                    </a:lnTo>
                    <a:lnTo>
                      <a:pt x="3446" y="707"/>
                    </a:lnTo>
                    <a:lnTo>
                      <a:pt x="3418" y="733"/>
                    </a:lnTo>
                    <a:lnTo>
                      <a:pt x="3386" y="759"/>
                    </a:lnTo>
                    <a:lnTo>
                      <a:pt x="3351" y="783"/>
                    </a:lnTo>
                    <a:lnTo>
                      <a:pt x="3312" y="807"/>
                    </a:lnTo>
                    <a:lnTo>
                      <a:pt x="3269" y="830"/>
                    </a:lnTo>
                    <a:lnTo>
                      <a:pt x="3224" y="854"/>
                    </a:lnTo>
                    <a:lnTo>
                      <a:pt x="3174" y="876"/>
                    </a:lnTo>
                    <a:lnTo>
                      <a:pt x="3123" y="897"/>
                    </a:lnTo>
                    <a:lnTo>
                      <a:pt x="3067" y="917"/>
                    </a:lnTo>
                    <a:lnTo>
                      <a:pt x="3009" y="936"/>
                    </a:lnTo>
                    <a:lnTo>
                      <a:pt x="2947" y="955"/>
                    </a:lnTo>
                    <a:lnTo>
                      <a:pt x="2883" y="973"/>
                    </a:lnTo>
                    <a:lnTo>
                      <a:pt x="2817" y="989"/>
                    </a:lnTo>
                    <a:lnTo>
                      <a:pt x="2748" y="1005"/>
                    </a:lnTo>
                    <a:lnTo>
                      <a:pt x="2676" y="1019"/>
                    </a:lnTo>
                    <a:lnTo>
                      <a:pt x="2603" y="1032"/>
                    </a:lnTo>
                    <a:lnTo>
                      <a:pt x="2527" y="1044"/>
                    </a:lnTo>
                    <a:lnTo>
                      <a:pt x="2448" y="1056"/>
                    </a:lnTo>
                    <a:lnTo>
                      <a:pt x="2368" y="1067"/>
                    </a:lnTo>
                    <a:lnTo>
                      <a:pt x="2287" y="1075"/>
                    </a:lnTo>
                    <a:lnTo>
                      <a:pt x="2203" y="1083"/>
                    </a:lnTo>
                    <a:lnTo>
                      <a:pt x="2118" y="1089"/>
                    </a:lnTo>
                    <a:lnTo>
                      <a:pt x="2031" y="1094"/>
                    </a:lnTo>
                    <a:lnTo>
                      <a:pt x="1942" y="1097"/>
                    </a:lnTo>
                    <a:lnTo>
                      <a:pt x="1853" y="1099"/>
                    </a:lnTo>
                    <a:lnTo>
                      <a:pt x="1762" y="1100"/>
                    </a:lnTo>
                    <a:lnTo>
                      <a:pt x="1672" y="1099"/>
                    </a:lnTo>
                    <a:lnTo>
                      <a:pt x="1583" y="1097"/>
                    </a:lnTo>
                    <a:lnTo>
                      <a:pt x="1494" y="1094"/>
                    </a:lnTo>
                    <a:lnTo>
                      <a:pt x="1407" y="1089"/>
                    </a:lnTo>
                    <a:lnTo>
                      <a:pt x="1322" y="1083"/>
                    </a:lnTo>
                    <a:lnTo>
                      <a:pt x="1238" y="1075"/>
                    </a:lnTo>
                    <a:lnTo>
                      <a:pt x="1156" y="1067"/>
                    </a:lnTo>
                    <a:lnTo>
                      <a:pt x="1077" y="1056"/>
                    </a:lnTo>
                    <a:lnTo>
                      <a:pt x="998" y="1044"/>
                    </a:lnTo>
                    <a:lnTo>
                      <a:pt x="922" y="1032"/>
                    </a:lnTo>
                    <a:lnTo>
                      <a:pt x="848" y="1019"/>
                    </a:lnTo>
                    <a:lnTo>
                      <a:pt x="777" y="1005"/>
                    </a:lnTo>
                    <a:lnTo>
                      <a:pt x="708" y="989"/>
                    </a:lnTo>
                    <a:lnTo>
                      <a:pt x="641" y="973"/>
                    </a:lnTo>
                    <a:lnTo>
                      <a:pt x="578" y="955"/>
                    </a:lnTo>
                    <a:lnTo>
                      <a:pt x="516" y="936"/>
                    </a:lnTo>
                    <a:lnTo>
                      <a:pt x="458" y="917"/>
                    </a:lnTo>
                    <a:lnTo>
                      <a:pt x="402" y="897"/>
                    </a:lnTo>
                    <a:lnTo>
                      <a:pt x="351" y="876"/>
                    </a:lnTo>
                    <a:lnTo>
                      <a:pt x="301" y="854"/>
                    </a:lnTo>
                    <a:lnTo>
                      <a:pt x="256" y="830"/>
                    </a:lnTo>
                    <a:lnTo>
                      <a:pt x="213" y="807"/>
                    </a:lnTo>
                    <a:lnTo>
                      <a:pt x="174" y="783"/>
                    </a:lnTo>
                    <a:lnTo>
                      <a:pt x="138" y="759"/>
                    </a:lnTo>
                    <a:lnTo>
                      <a:pt x="107" y="733"/>
                    </a:lnTo>
                    <a:lnTo>
                      <a:pt x="80" y="707"/>
                    </a:lnTo>
                    <a:lnTo>
                      <a:pt x="56" y="681"/>
                    </a:lnTo>
                    <a:lnTo>
                      <a:pt x="36" y="654"/>
                    </a:lnTo>
                    <a:lnTo>
                      <a:pt x="20" y="625"/>
                    </a:lnTo>
                    <a:lnTo>
                      <a:pt x="9" y="598"/>
                    </a:lnTo>
                    <a:lnTo>
                      <a:pt x="2" y="570"/>
                    </a:lnTo>
                    <a:lnTo>
                      <a:pt x="0" y="541"/>
                    </a:lnTo>
                    <a:lnTo>
                      <a:pt x="2" y="512"/>
                    </a:lnTo>
                    <a:lnTo>
                      <a:pt x="9" y="484"/>
                    </a:lnTo>
                    <a:lnTo>
                      <a:pt x="20" y="456"/>
                    </a:lnTo>
                    <a:lnTo>
                      <a:pt x="36" y="429"/>
                    </a:lnTo>
                    <a:lnTo>
                      <a:pt x="56" y="402"/>
                    </a:lnTo>
                    <a:lnTo>
                      <a:pt x="80" y="376"/>
                    </a:lnTo>
                    <a:lnTo>
                      <a:pt x="107" y="351"/>
                    </a:lnTo>
                    <a:lnTo>
                      <a:pt x="138" y="326"/>
                    </a:lnTo>
                    <a:lnTo>
                      <a:pt x="174" y="301"/>
                    </a:lnTo>
                    <a:lnTo>
                      <a:pt x="213" y="278"/>
                    </a:lnTo>
                    <a:lnTo>
                      <a:pt x="256" y="256"/>
                    </a:lnTo>
                    <a:lnTo>
                      <a:pt x="301" y="234"/>
                    </a:lnTo>
                    <a:lnTo>
                      <a:pt x="351" y="213"/>
                    </a:lnTo>
                    <a:lnTo>
                      <a:pt x="402" y="192"/>
                    </a:lnTo>
                    <a:lnTo>
                      <a:pt x="458" y="173"/>
                    </a:lnTo>
                    <a:lnTo>
                      <a:pt x="516" y="154"/>
                    </a:lnTo>
                    <a:lnTo>
                      <a:pt x="578" y="137"/>
                    </a:lnTo>
                    <a:lnTo>
                      <a:pt x="641" y="120"/>
                    </a:lnTo>
                    <a:lnTo>
                      <a:pt x="708" y="104"/>
                    </a:lnTo>
                    <a:lnTo>
                      <a:pt x="777" y="89"/>
                    </a:lnTo>
                    <a:lnTo>
                      <a:pt x="848" y="75"/>
                    </a:lnTo>
                    <a:lnTo>
                      <a:pt x="922" y="62"/>
                    </a:lnTo>
                    <a:lnTo>
                      <a:pt x="998" y="51"/>
                    </a:lnTo>
                    <a:lnTo>
                      <a:pt x="1077" y="40"/>
                    </a:lnTo>
                    <a:lnTo>
                      <a:pt x="1156" y="31"/>
                    </a:lnTo>
                    <a:lnTo>
                      <a:pt x="1238" y="23"/>
                    </a:lnTo>
                    <a:lnTo>
                      <a:pt x="1322" y="16"/>
                    </a:lnTo>
                    <a:lnTo>
                      <a:pt x="1407" y="10"/>
                    </a:lnTo>
                    <a:lnTo>
                      <a:pt x="1494" y="6"/>
                    </a:lnTo>
                    <a:lnTo>
                      <a:pt x="1583" y="2"/>
                    </a:lnTo>
                    <a:lnTo>
                      <a:pt x="1672" y="0"/>
                    </a:lnTo>
                    <a:lnTo>
                      <a:pt x="1762" y="0"/>
                    </a:lnTo>
                    <a:lnTo>
                      <a:pt x="1853" y="0"/>
                    </a:lnTo>
                    <a:lnTo>
                      <a:pt x="1942" y="2"/>
                    </a:lnTo>
                    <a:lnTo>
                      <a:pt x="2031" y="6"/>
                    </a:lnTo>
                    <a:lnTo>
                      <a:pt x="2118" y="10"/>
                    </a:lnTo>
                    <a:lnTo>
                      <a:pt x="2203" y="16"/>
                    </a:lnTo>
                    <a:lnTo>
                      <a:pt x="2287" y="23"/>
                    </a:lnTo>
                    <a:lnTo>
                      <a:pt x="2368" y="31"/>
                    </a:lnTo>
                    <a:lnTo>
                      <a:pt x="2448" y="40"/>
                    </a:lnTo>
                    <a:lnTo>
                      <a:pt x="2527" y="51"/>
                    </a:lnTo>
                    <a:lnTo>
                      <a:pt x="2603" y="62"/>
                    </a:lnTo>
                    <a:lnTo>
                      <a:pt x="2676" y="75"/>
                    </a:lnTo>
                    <a:lnTo>
                      <a:pt x="2748" y="89"/>
                    </a:lnTo>
                    <a:lnTo>
                      <a:pt x="2817" y="104"/>
                    </a:lnTo>
                    <a:lnTo>
                      <a:pt x="2883" y="120"/>
                    </a:lnTo>
                    <a:lnTo>
                      <a:pt x="2947" y="137"/>
                    </a:lnTo>
                    <a:lnTo>
                      <a:pt x="3009" y="154"/>
                    </a:lnTo>
                    <a:lnTo>
                      <a:pt x="3067" y="173"/>
                    </a:lnTo>
                    <a:lnTo>
                      <a:pt x="3123" y="192"/>
                    </a:lnTo>
                    <a:lnTo>
                      <a:pt x="3174" y="213"/>
                    </a:lnTo>
                    <a:lnTo>
                      <a:pt x="3224" y="234"/>
                    </a:lnTo>
                    <a:lnTo>
                      <a:pt x="3269" y="256"/>
                    </a:lnTo>
                    <a:lnTo>
                      <a:pt x="3312" y="278"/>
                    </a:lnTo>
                    <a:lnTo>
                      <a:pt x="3351" y="301"/>
                    </a:lnTo>
                    <a:lnTo>
                      <a:pt x="3386" y="326"/>
                    </a:lnTo>
                    <a:lnTo>
                      <a:pt x="3418" y="351"/>
                    </a:lnTo>
                    <a:lnTo>
                      <a:pt x="3446" y="376"/>
                    </a:lnTo>
                    <a:lnTo>
                      <a:pt x="3469" y="402"/>
                    </a:lnTo>
                    <a:lnTo>
                      <a:pt x="3489" y="429"/>
                    </a:lnTo>
                    <a:lnTo>
                      <a:pt x="3505" y="456"/>
                    </a:lnTo>
                    <a:lnTo>
                      <a:pt x="3516" y="484"/>
                    </a:lnTo>
                    <a:lnTo>
                      <a:pt x="3523" y="512"/>
                    </a:lnTo>
                    <a:lnTo>
                      <a:pt x="3525" y="5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54080" y="6493320"/>
                <a:ext cx="387720" cy="131400"/>
              </a:xfrm>
              <a:custGeom>
                <a:avLst/>
                <a:gdLst/>
                <a:ahLst/>
                <a:rect l="l" t="t" r="r" b="b"/>
                <a:pathLst>
                  <a:path w="3523" h="1099">
                    <a:moveTo>
                      <a:pt x="3523" y="541"/>
                    </a:moveTo>
                    <a:lnTo>
                      <a:pt x="3520" y="570"/>
                    </a:lnTo>
                    <a:lnTo>
                      <a:pt x="3514" y="598"/>
                    </a:lnTo>
                    <a:lnTo>
                      <a:pt x="3503" y="625"/>
                    </a:lnTo>
                    <a:lnTo>
                      <a:pt x="3486" y="654"/>
                    </a:lnTo>
                    <a:lnTo>
                      <a:pt x="3467" y="680"/>
                    </a:lnTo>
                    <a:lnTo>
                      <a:pt x="3443" y="707"/>
                    </a:lnTo>
                    <a:lnTo>
                      <a:pt x="3416" y="732"/>
                    </a:lnTo>
                    <a:lnTo>
                      <a:pt x="3384" y="758"/>
                    </a:lnTo>
                    <a:lnTo>
                      <a:pt x="3349" y="783"/>
                    </a:lnTo>
                    <a:lnTo>
                      <a:pt x="3310" y="807"/>
                    </a:lnTo>
                    <a:lnTo>
                      <a:pt x="3267" y="830"/>
                    </a:lnTo>
                    <a:lnTo>
                      <a:pt x="3222" y="853"/>
                    </a:lnTo>
                    <a:lnTo>
                      <a:pt x="3172" y="875"/>
                    </a:lnTo>
                    <a:lnTo>
                      <a:pt x="3120" y="896"/>
                    </a:lnTo>
                    <a:lnTo>
                      <a:pt x="3065" y="916"/>
                    </a:lnTo>
                    <a:lnTo>
                      <a:pt x="3007" y="935"/>
                    </a:lnTo>
                    <a:lnTo>
                      <a:pt x="2945" y="955"/>
                    </a:lnTo>
                    <a:lnTo>
                      <a:pt x="2881" y="972"/>
                    </a:lnTo>
                    <a:lnTo>
                      <a:pt x="2815" y="988"/>
                    </a:lnTo>
                    <a:lnTo>
                      <a:pt x="2746" y="1004"/>
                    </a:lnTo>
                    <a:lnTo>
                      <a:pt x="2674" y="1018"/>
                    </a:lnTo>
                    <a:lnTo>
                      <a:pt x="2601" y="1031"/>
                    </a:lnTo>
                    <a:lnTo>
                      <a:pt x="2525" y="1044"/>
                    </a:lnTo>
                    <a:lnTo>
                      <a:pt x="2447" y="1055"/>
                    </a:lnTo>
                    <a:lnTo>
                      <a:pt x="2367" y="1066"/>
                    </a:lnTo>
                    <a:lnTo>
                      <a:pt x="2286" y="1074"/>
                    </a:lnTo>
                    <a:lnTo>
                      <a:pt x="2202" y="1082"/>
                    </a:lnTo>
                    <a:lnTo>
                      <a:pt x="2116" y="1088"/>
                    </a:lnTo>
                    <a:lnTo>
                      <a:pt x="2030" y="1093"/>
                    </a:lnTo>
                    <a:lnTo>
                      <a:pt x="1941" y="1096"/>
                    </a:lnTo>
                    <a:lnTo>
                      <a:pt x="1852" y="1099"/>
                    </a:lnTo>
                    <a:lnTo>
                      <a:pt x="1761" y="1099"/>
                    </a:lnTo>
                    <a:lnTo>
                      <a:pt x="1671" y="1099"/>
                    </a:lnTo>
                    <a:lnTo>
                      <a:pt x="1582" y="1096"/>
                    </a:lnTo>
                    <a:lnTo>
                      <a:pt x="1493" y="1093"/>
                    </a:lnTo>
                    <a:lnTo>
                      <a:pt x="1407" y="1088"/>
                    </a:lnTo>
                    <a:lnTo>
                      <a:pt x="1321" y="1082"/>
                    </a:lnTo>
                    <a:lnTo>
                      <a:pt x="1238" y="1074"/>
                    </a:lnTo>
                    <a:lnTo>
                      <a:pt x="1157" y="1066"/>
                    </a:lnTo>
                    <a:lnTo>
                      <a:pt x="1076" y="1055"/>
                    </a:lnTo>
                    <a:lnTo>
                      <a:pt x="998" y="1044"/>
                    </a:lnTo>
                    <a:lnTo>
                      <a:pt x="922" y="1031"/>
                    </a:lnTo>
                    <a:lnTo>
                      <a:pt x="848" y="1018"/>
                    </a:lnTo>
                    <a:lnTo>
                      <a:pt x="777" y="1004"/>
                    </a:lnTo>
                    <a:lnTo>
                      <a:pt x="708" y="988"/>
                    </a:lnTo>
                    <a:lnTo>
                      <a:pt x="641" y="972"/>
                    </a:lnTo>
                    <a:lnTo>
                      <a:pt x="578" y="955"/>
                    </a:lnTo>
                    <a:lnTo>
                      <a:pt x="516" y="935"/>
                    </a:lnTo>
                    <a:lnTo>
                      <a:pt x="458" y="916"/>
                    </a:lnTo>
                    <a:lnTo>
                      <a:pt x="403" y="896"/>
                    </a:lnTo>
                    <a:lnTo>
                      <a:pt x="351" y="875"/>
                    </a:lnTo>
                    <a:lnTo>
                      <a:pt x="301" y="853"/>
                    </a:lnTo>
                    <a:lnTo>
                      <a:pt x="256" y="830"/>
                    </a:lnTo>
                    <a:lnTo>
                      <a:pt x="213" y="807"/>
                    </a:lnTo>
                    <a:lnTo>
                      <a:pt x="174" y="783"/>
                    </a:lnTo>
                    <a:lnTo>
                      <a:pt x="138" y="758"/>
                    </a:lnTo>
                    <a:lnTo>
                      <a:pt x="107" y="732"/>
                    </a:lnTo>
                    <a:lnTo>
                      <a:pt x="80" y="707"/>
                    </a:lnTo>
                    <a:lnTo>
                      <a:pt x="56" y="680"/>
                    </a:lnTo>
                    <a:lnTo>
                      <a:pt x="36" y="654"/>
                    </a:lnTo>
                    <a:lnTo>
                      <a:pt x="21" y="625"/>
                    </a:lnTo>
                    <a:lnTo>
                      <a:pt x="9" y="598"/>
                    </a:lnTo>
                    <a:lnTo>
                      <a:pt x="3" y="570"/>
                    </a:lnTo>
                    <a:lnTo>
                      <a:pt x="0" y="541"/>
                    </a:lnTo>
                    <a:lnTo>
                      <a:pt x="3" y="512"/>
                    </a:lnTo>
                    <a:lnTo>
                      <a:pt x="9" y="484"/>
                    </a:lnTo>
                    <a:lnTo>
                      <a:pt x="21" y="456"/>
                    </a:lnTo>
                    <a:lnTo>
                      <a:pt x="36" y="429"/>
                    </a:lnTo>
                    <a:lnTo>
                      <a:pt x="56" y="402"/>
                    </a:lnTo>
                    <a:lnTo>
                      <a:pt x="80" y="376"/>
                    </a:lnTo>
                    <a:lnTo>
                      <a:pt x="107" y="351"/>
                    </a:lnTo>
                    <a:lnTo>
                      <a:pt x="138" y="327"/>
                    </a:lnTo>
                    <a:lnTo>
                      <a:pt x="174" y="302"/>
                    </a:lnTo>
                    <a:lnTo>
                      <a:pt x="213" y="279"/>
                    </a:lnTo>
                    <a:lnTo>
                      <a:pt x="256" y="256"/>
                    </a:lnTo>
                    <a:lnTo>
                      <a:pt x="301" y="234"/>
                    </a:lnTo>
                    <a:lnTo>
                      <a:pt x="351" y="213"/>
                    </a:lnTo>
                    <a:lnTo>
                      <a:pt x="403" y="192"/>
                    </a:lnTo>
                    <a:lnTo>
                      <a:pt x="458" y="173"/>
                    </a:lnTo>
                    <a:lnTo>
                      <a:pt x="516" y="155"/>
                    </a:lnTo>
                    <a:lnTo>
                      <a:pt x="578" y="137"/>
                    </a:lnTo>
                    <a:lnTo>
                      <a:pt x="641" y="121"/>
                    </a:lnTo>
                    <a:lnTo>
                      <a:pt x="708" y="105"/>
                    </a:lnTo>
                    <a:lnTo>
                      <a:pt x="777" y="89"/>
                    </a:lnTo>
                    <a:lnTo>
                      <a:pt x="848" y="76"/>
                    </a:lnTo>
                    <a:lnTo>
                      <a:pt x="922" y="63"/>
                    </a:lnTo>
                    <a:lnTo>
                      <a:pt x="998" y="52"/>
                    </a:lnTo>
                    <a:lnTo>
                      <a:pt x="1076" y="41"/>
                    </a:lnTo>
                    <a:lnTo>
                      <a:pt x="1157" y="32"/>
                    </a:lnTo>
                    <a:lnTo>
                      <a:pt x="1238" y="24"/>
                    </a:lnTo>
                    <a:lnTo>
                      <a:pt x="1321" y="17"/>
                    </a:lnTo>
                    <a:lnTo>
                      <a:pt x="1407" y="11"/>
                    </a:lnTo>
                    <a:lnTo>
                      <a:pt x="1493" y="6"/>
                    </a:lnTo>
                    <a:lnTo>
                      <a:pt x="1582" y="3"/>
                    </a:lnTo>
                    <a:lnTo>
                      <a:pt x="1671" y="1"/>
                    </a:lnTo>
                    <a:lnTo>
                      <a:pt x="1761" y="0"/>
                    </a:lnTo>
                    <a:lnTo>
                      <a:pt x="1852" y="1"/>
                    </a:lnTo>
                    <a:lnTo>
                      <a:pt x="1941" y="3"/>
                    </a:lnTo>
                    <a:lnTo>
                      <a:pt x="2030" y="6"/>
                    </a:lnTo>
                    <a:lnTo>
                      <a:pt x="2116" y="11"/>
                    </a:lnTo>
                    <a:lnTo>
                      <a:pt x="2202" y="17"/>
                    </a:lnTo>
                    <a:lnTo>
                      <a:pt x="2286" y="24"/>
                    </a:lnTo>
                    <a:lnTo>
                      <a:pt x="2367" y="32"/>
                    </a:lnTo>
                    <a:lnTo>
                      <a:pt x="2447" y="41"/>
                    </a:lnTo>
                    <a:lnTo>
                      <a:pt x="2525" y="52"/>
                    </a:lnTo>
                    <a:lnTo>
                      <a:pt x="2601" y="63"/>
                    </a:lnTo>
                    <a:lnTo>
                      <a:pt x="2674" y="76"/>
                    </a:lnTo>
                    <a:lnTo>
                      <a:pt x="2746" y="89"/>
                    </a:lnTo>
                    <a:lnTo>
                      <a:pt x="2815" y="105"/>
                    </a:lnTo>
                    <a:lnTo>
                      <a:pt x="2881" y="121"/>
                    </a:lnTo>
                    <a:lnTo>
                      <a:pt x="2945" y="137"/>
                    </a:lnTo>
                    <a:lnTo>
                      <a:pt x="3007" y="155"/>
                    </a:lnTo>
                    <a:lnTo>
                      <a:pt x="3065" y="173"/>
                    </a:lnTo>
                    <a:lnTo>
                      <a:pt x="3120" y="192"/>
                    </a:lnTo>
                    <a:lnTo>
                      <a:pt x="3172" y="213"/>
                    </a:lnTo>
                    <a:lnTo>
                      <a:pt x="3222" y="234"/>
                    </a:lnTo>
                    <a:lnTo>
                      <a:pt x="3267" y="256"/>
                    </a:lnTo>
                    <a:lnTo>
                      <a:pt x="3310" y="279"/>
                    </a:lnTo>
                    <a:lnTo>
                      <a:pt x="3349" y="302"/>
                    </a:lnTo>
                    <a:lnTo>
                      <a:pt x="3384" y="327"/>
                    </a:lnTo>
                    <a:lnTo>
                      <a:pt x="3416" y="351"/>
                    </a:lnTo>
                    <a:lnTo>
                      <a:pt x="3443" y="376"/>
                    </a:lnTo>
                    <a:lnTo>
                      <a:pt x="3467" y="402"/>
                    </a:lnTo>
                    <a:lnTo>
                      <a:pt x="3486" y="429"/>
                    </a:lnTo>
                    <a:lnTo>
                      <a:pt x="3503" y="456"/>
                    </a:lnTo>
                    <a:lnTo>
                      <a:pt x="3514" y="484"/>
                    </a:lnTo>
                    <a:lnTo>
                      <a:pt x="3520" y="512"/>
                    </a:lnTo>
                    <a:lnTo>
                      <a:pt x="3523" y="5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4080" y="6493320"/>
                <a:ext cx="387720" cy="131400"/>
              </a:xfrm>
              <a:custGeom>
                <a:avLst/>
                <a:gdLst/>
                <a:ahLst/>
                <a:rect l="l" t="t" r="r" b="b"/>
                <a:pathLst>
                  <a:path w="3519" h="1097">
                    <a:moveTo>
                      <a:pt x="3519" y="540"/>
                    </a:moveTo>
                    <a:lnTo>
                      <a:pt x="3517" y="569"/>
                    </a:lnTo>
                    <a:lnTo>
                      <a:pt x="3510" y="597"/>
                    </a:lnTo>
                    <a:lnTo>
                      <a:pt x="3499" y="624"/>
                    </a:lnTo>
                    <a:lnTo>
                      <a:pt x="3483" y="652"/>
                    </a:lnTo>
                    <a:lnTo>
                      <a:pt x="3463" y="679"/>
                    </a:lnTo>
                    <a:lnTo>
                      <a:pt x="3440" y="705"/>
                    </a:lnTo>
                    <a:lnTo>
                      <a:pt x="3412" y="731"/>
                    </a:lnTo>
                    <a:lnTo>
                      <a:pt x="3380" y="757"/>
                    </a:lnTo>
                    <a:lnTo>
                      <a:pt x="3345" y="782"/>
                    </a:lnTo>
                    <a:lnTo>
                      <a:pt x="3307" y="805"/>
                    </a:lnTo>
                    <a:lnTo>
                      <a:pt x="3264" y="828"/>
                    </a:lnTo>
                    <a:lnTo>
                      <a:pt x="3219" y="852"/>
                    </a:lnTo>
                    <a:lnTo>
                      <a:pt x="3169" y="874"/>
                    </a:lnTo>
                    <a:lnTo>
                      <a:pt x="3117" y="894"/>
                    </a:lnTo>
                    <a:lnTo>
                      <a:pt x="3062" y="914"/>
                    </a:lnTo>
                    <a:lnTo>
                      <a:pt x="3004" y="934"/>
                    </a:lnTo>
                    <a:lnTo>
                      <a:pt x="2942" y="953"/>
                    </a:lnTo>
                    <a:lnTo>
                      <a:pt x="2878" y="970"/>
                    </a:lnTo>
                    <a:lnTo>
                      <a:pt x="2812" y="987"/>
                    </a:lnTo>
                    <a:lnTo>
                      <a:pt x="2743" y="1002"/>
                    </a:lnTo>
                    <a:lnTo>
                      <a:pt x="2671" y="1016"/>
                    </a:lnTo>
                    <a:lnTo>
                      <a:pt x="2598" y="1030"/>
                    </a:lnTo>
                    <a:lnTo>
                      <a:pt x="2522" y="1042"/>
                    </a:lnTo>
                    <a:lnTo>
                      <a:pt x="2444" y="1053"/>
                    </a:lnTo>
                    <a:lnTo>
                      <a:pt x="2364" y="1064"/>
                    </a:lnTo>
                    <a:lnTo>
                      <a:pt x="2283" y="1072"/>
                    </a:lnTo>
                    <a:lnTo>
                      <a:pt x="2199" y="1080"/>
                    </a:lnTo>
                    <a:lnTo>
                      <a:pt x="2114" y="1086"/>
                    </a:lnTo>
                    <a:lnTo>
                      <a:pt x="2027" y="1091"/>
                    </a:lnTo>
                    <a:lnTo>
                      <a:pt x="1939" y="1094"/>
                    </a:lnTo>
                    <a:lnTo>
                      <a:pt x="1850" y="1097"/>
                    </a:lnTo>
                    <a:lnTo>
                      <a:pt x="1759" y="1097"/>
                    </a:lnTo>
                    <a:lnTo>
                      <a:pt x="1669" y="1097"/>
                    </a:lnTo>
                    <a:lnTo>
                      <a:pt x="1580" y="1094"/>
                    </a:lnTo>
                    <a:lnTo>
                      <a:pt x="1492" y="1091"/>
                    </a:lnTo>
                    <a:lnTo>
                      <a:pt x="1405" y="1086"/>
                    </a:lnTo>
                    <a:lnTo>
                      <a:pt x="1320" y="1080"/>
                    </a:lnTo>
                    <a:lnTo>
                      <a:pt x="1236" y="1072"/>
                    </a:lnTo>
                    <a:lnTo>
                      <a:pt x="1155" y="1064"/>
                    </a:lnTo>
                    <a:lnTo>
                      <a:pt x="1075" y="1053"/>
                    </a:lnTo>
                    <a:lnTo>
                      <a:pt x="997" y="1042"/>
                    </a:lnTo>
                    <a:lnTo>
                      <a:pt x="921" y="1030"/>
                    </a:lnTo>
                    <a:lnTo>
                      <a:pt x="847" y="1016"/>
                    </a:lnTo>
                    <a:lnTo>
                      <a:pt x="776" y="1002"/>
                    </a:lnTo>
                    <a:lnTo>
                      <a:pt x="707" y="987"/>
                    </a:lnTo>
                    <a:lnTo>
                      <a:pt x="640" y="970"/>
                    </a:lnTo>
                    <a:lnTo>
                      <a:pt x="577" y="953"/>
                    </a:lnTo>
                    <a:lnTo>
                      <a:pt x="515" y="934"/>
                    </a:lnTo>
                    <a:lnTo>
                      <a:pt x="457" y="914"/>
                    </a:lnTo>
                    <a:lnTo>
                      <a:pt x="402" y="894"/>
                    </a:lnTo>
                    <a:lnTo>
                      <a:pt x="350" y="874"/>
                    </a:lnTo>
                    <a:lnTo>
                      <a:pt x="300" y="852"/>
                    </a:lnTo>
                    <a:lnTo>
                      <a:pt x="255" y="828"/>
                    </a:lnTo>
                    <a:lnTo>
                      <a:pt x="212" y="805"/>
                    </a:lnTo>
                    <a:lnTo>
                      <a:pt x="174" y="782"/>
                    </a:lnTo>
                    <a:lnTo>
                      <a:pt x="139" y="757"/>
                    </a:lnTo>
                    <a:lnTo>
                      <a:pt x="107" y="731"/>
                    </a:lnTo>
                    <a:lnTo>
                      <a:pt x="79" y="705"/>
                    </a:lnTo>
                    <a:lnTo>
                      <a:pt x="56" y="679"/>
                    </a:lnTo>
                    <a:lnTo>
                      <a:pt x="35" y="652"/>
                    </a:lnTo>
                    <a:lnTo>
                      <a:pt x="20" y="624"/>
                    </a:lnTo>
                    <a:lnTo>
                      <a:pt x="9" y="597"/>
                    </a:lnTo>
                    <a:lnTo>
                      <a:pt x="2" y="569"/>
                    </a:lnTo>
                    <a:lnTo>
                      <a:pt x="0" y="540"/>
                    </a:lnTo>
                    <a:lnTo>
                      <a:pt x="2" y="511"/>
                    </a:lnTo>
                    <a:lnTo>
                      <a:pt x="9" y="483"/>
                    </a:lnTo>
                    <a:lnTo>
                      <a:pt x="20" y="455"/>
                    </a:lnTo>
                    <a:lnTo>
                      <a:pt x="35" y="429"/>
                    </a:lnTo>
                    <a:lnTo>
                      <a:pt x="56" y="401"/>
                    </a:lnTo>
                    <a:lnTo>
                      <a:pt x="79" y="376"/>
                    </a:lnTo>
                    <a:lnTo>
                      <a:pt x="107" y="350"/>
                    </a:lnTo>
                    <a:lnTo>
                      <a:pt x="139" y="326"/>
                    </a:lnTo>
                    <a:lnTo>
                      <a:pt x="174" y="301"/>
                    </a:lnTo>
                    <a:lnTo>
                      <a:pt x="212" y="278"/>
                    </a:lnTo>
                    <a:lnTo>
                      <a:pt x="255" y="256"/>
                    </a:lnTo>
                    <a:lnTo>
                      <a:pt x="300" y="234"/>
                    </a:lnTo>
                    <a:lnTo>
                      <a:pt x="350" y="213"/>
                    </a:lnTo>
                    <a:lnTo>
                      <a:pt x="402" y="192"/>
                    </a:lnTo>
                    <a:lnTo>
                      <a:pt x="457" y="173"/>
                    </a:lnTo>
                    <a:lnTo>
                      <a:pt x="515" y="154"/>
                    </a:lnTo>
                    <a:lnTo>
                      <a:pt x="577" y="137"/>
                    </a:lnTo>
                    <a:lnTo>
                      <a:pt x="640" y="120"/>
                    </a:lnTo>
                    <a:lnTo>
                      <a:pt x="707" y="105"/>
                    </a:lnTo>
                    <a:lnTo>
                      <a:pt x="776" y="89"/>
                    </a:lnTo>
                    <a:lnTo>
                      <a:pt x="847" y="76"/>
                    </a:lnTo>
                    <a:lnTo>
                      <a:pt x="921" y="63"/>
                    </a:lnTo>
                    <a:lnTo>
                      <a:pt x="997" y="52"/>
                    </a:lnTo>
                    <a:lnTo>
                      <a:pt x="1075" y="41"/>
                    </a:lnTo>
                    <a:lnTo>
                      <a:pt x="1155" y="32"/>
                    </a:lnTo>
                    <a:lnTo>
                      <a:pt x="1236" y="24"/>
                    </a:lnTo>
                    <a:lnTo>
                      <a:pt x="1320" y="17"/>
                    </a:lnTo>
                    <a:lnTo>
                      <a:pt x="1405" y="11"/>
                    </a:lnTo>
                    <a:lnTo>
                      <a:pt x="1492" y="6"/>
                    </a:lnTo>
                    <a:lnTo>
                      <a:pt x="1580" y="3"/>
                    </a:lnTo>
                    <a:lnTo>
                      <a:pt x="1669" y="1"/>
                    </a:lnTo>
                    <a:lnTo>
                      <a:pt x="1759" y="0"/>
                    </a:lnTo>
                    <a:lnTo>
                      <a:pt x="1850" y="1"/>
                    </a:lnTo>
                    <a:lnTo>
                      <a:pt x="1939" y="3"/>
                    </a:lnTo>
                    <a:lnTo>
                      <a:pt x="2027" y="6"/>
                    </a:lnTo>
                    <a:lnTo>
                      <a:pt x="2114" y="11"/>
                    </a:lnTo>
                    <a:lnTo>
                      <a:pt x="2199" y="17"/>
                    </a:lnTo>
                    <a:lnTo>
                      <a:pt x="2283" y="24"/>
                    </a:lnTo>
                    <a:lnTo>
                      <a:pt x="2364" y="32"/>
                    </a:lnTo>
                    <a:lnTo>
                      <a:pt x="2444" y="41"/>
                    </a:lnTo>
                    <a:lnTo>
                      <a:pt x="2522" y="52"/>
                    </a:lnTo>
                    <a:lnTo>
                      <a:pt x="2598" y="63"/>
                    </a:lnTo>
                    <a:lnTo>
                      <a:pt x="2671" y="76"/>
                    </a:lnTo>
                    <a:lnTo>
                      <a:pt x="2743" y="89"/>
                    </a:lnTo>
                    <a:lnTo>
                      <a:pt x="2812" y="105"/>
                    </a:lnTo>
                    <a:lnTo>
                      <a:pt x="2878" y="120"/>
                    </a:lnTo>
                    <a:lnTo>
                      <a:pt x="2942" y="137"/>
                    </a:lnTo>
                    <a:lnTo>
                      <a:pt x="3004" y="154"/>
                    </a:lnTo>
                    <a:lnTo>
                      <a:pt x="3062" y="173"/>
                    </a:lnTo>
                    <a:lnTo>
                      <a:pt x="3117" y="192"/>
                    </a:lnTo>
                    <a:lnTo>
                      <a:pt x="3169" y="213"/>
                    </a:lnTo>
                    <a:lnTo>
                      <a:pt x="3219" y="234"/>
                    </a:lnTo>
                    <a:lnTo>
                      <a:pt x="3264" y="256"/>
                    </a:lnTo>
                    <a:lnTo>
                      <a:pt x="3307" y="278"/>
                    </a:lnTo>
                    <a:lnTo>
                      <a:pt x="3345" y="301"/>
                    </a:lnTo>
                    <a:lnTo>
                      <a:pt x="3380" y="326"/>
                    </a:lnTo>
                    <a:lnTo>
                      <a:pt x="3412" y="350"/>
                    </a:lnTo>
                    <a:lnTo>
                      <a:pt x="3440" y="376"/>
                    </a:lnTo>
                    <a:lnTo>
                      <a:pt x="3463" y="401"/>
                    </a:lnTo>
                    <a:lnTo>
                      <a:pt x="3483" y="429"/>
                    </a:lnTo>
                    <a:lnTo>
                      <a:pt x="3499" y="455"/>
                    </a:lnTo>
                    <a:lnTo>
                      <a:pt x="3510" y="483"/>
                    </a:lnTo>
                    <a:lnTo>
                      <a:pt x="3517" y="511"/>
                    </a:lnTo>
                    <a:lnTo>
                      <a:pt x="3519" y="5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954080" y="6493320"/>
                <a:ext cx="387720" cy="131400"/>
              </a:xfrm>
              <a:custGeom>
                <a:avLst/>
                <a:gdLst/>
                <a:ahLst/>
                <a:rect l="l" t="t" r="r" b="b"/>
                <a:pathLst>
                  <a:path w="3517" h="1095">
                    <a:moveTo>
                      <a:pt x="3517" y="539"/>
                    </a:moveTo>
                    <a:lnTo>
                      <a:pt x="3515" y="568"/>
                    </a:lnTo>
                    <a:lnTo>
                      <a:pt x="3508" y="595"/>
                    </a:lnTo>
                    <a:lnTo>
                      <a:pt x="3497" y="623"/>
                    </a:lnTo>
                    <a:lnTo>
                      <a:pt x="3480" y="651"/>
                    </a:lnTo>
                    <a:lnTo>
                      <a:pt x="3461" y="678"/>
                    </a:lnTo>
                    <a:lnTo>
                      <a:pt x="3438" y="704"/>
                    </a:lnTo>
                    <a:lnTo>
                      <a:pt x="3410" y="730"/>
                    </a:lnTo>
                    <a:lnTo>
                      <a:pt x="3378" y="756"/>
                    </a:lnTo>
                    <a:lnTo>
                      <a:pt x="3343" y="780"/>
                    </a:lnTo>
                    <a:lnTo>
                      <a:pt x="3305" y="804"/>
                    </a:lnTo>
                    <a:lnTo>
                      <a:pt x="3262" y="827"/>
                    </a:lnTo>
                    <a:lnTo>
                      <a:pt x="3217" y="850"/>
                    </a:lnTo>
                    <a:lnTo>
                      <a:pt x="3167" y="872"/>
                    </a:lnTo>
                    <a:lnTo>
                      <a:pt x="3115" y="893"/>
                    </a:lnTo>
                    <a:lnTo>
                      <a:pt x="3060" y="913"/>
                    </a:lnTo>
                    <a:lnTo>
                      <a:pt x="3002" y="932"/>
                    </a:lnTo>
                    <a:lnTo>
                      <a:pt x="2940" y="950"/>
                    </a:lnTo>
                    <a:lnTo>
                      <a:pt x="2876" y="969"/>
                    </a:lnTo>
                    <a:lnTo>
                      <a:pt x="2811" y="985"/>
                    </a:lnTo>
                    <a:lnTo>
                      <a:pt x="2741" y="1000"/>
                    </a:lnTo>
                    <a:lnTo>
                      <a:pt x="2670" y="1015"/>
                    </a:lnTo>
                    <a:lnTo>
                      <a:pt x="2597" y="1028"/>
                    </a:lnTo>
                    <a:lnTo>
                      <a:pt x="2521" y="1040"/>
                    </a:lnTo>
                    <a:lnTo>
                      <a:pt x="2443" y="1051"/>
                    </a:lnTo>
                    <a:lnTo>
                      <a:pt x="2363" y="1062"/>
                    </a:lnTo>
                    <a:lnTo>
                      <a:pt x="2282" y="1071"/>
                    </a:lnTo>
                    <a:lnTo>
                      <a:pt x="2198" y="1078"/>
                    </a:lnTo>
                    <a:lnTo>
                      <a:pt x="2113" y="1084"/>
                    </a:lnTo>
                    <a:lnTo>
                      <a:pt x="2026" y="1089"/>
                    </a:lnTo>
                    <a:lnTo>
                      <a:pt x="1938" y="1093"/>
                    </a:lnTo>
                    <a:lnTo>
                      <a:pt x="1849" y="1095"/>
                    </a:lnTo>
                    <a:lnTo>
                      <a:pt x="1758" y="1095"/>
                    </a:lnTo>
                    <a:lnTo>
                      <a:pt x="1668" y="1095"/>
                    </a:lnTo>
                    <a:lnTo>
                      <a:pt x="1579" y="1093"/>
                    </a:lnTo>
                    <a:lnTo>
                      <a:pt x="1491" y="1089"/>
                    </a:lnTo>
                    <a:lnTo>
                      <a:pt x="1404" y="1084"/>
                    </a:lnTo>
                    <a:lnTo>
                      <a:pt x="1319" y="1078"/>
                    </a:lnTo>
                    <a:lnTo>
                      <a:pt x="1235" y="1071"/>
                    </a:lnTo>
                    <a:lnTo>
                      <a:pt x="1155" y="1062"/>
                    </a:lnTo>
                    <a:lnTo>
                      <a:pt x="1074" y="1051"/>
                    </a:lnTo>
                    <a:lnTo>
                      <a:pt x="996" y="1040"/>
                    </a:lnTo>
                    <a:lnTo>
                      <a:pt x="920" y="1028"/>
                    </a:lnTo>
                    <a:lnTo>
                      <a:pt x="846" y="1015"/>
                    </a:lnTo>
                    <a:lnTo>
                      <a:pt x="776" y="1000"/>
                    </a:lnTo>
                    <a:lnTo>
                      <a:pt x="707" y="985"/>
                    </a:lnTo>
                    <a:lnTo>
                      <a:pt x="640" y="969"/>
                    </a:lnTo>
                    <a:lnTo>
                      <a:pt x="577" y="950"/>
                    </a:lnTo>
                    <a:lnTo>
                      <a:pt x="515" y="932"/>
                    </a:lnTo>
                    <a:lnTo>
                      <a:pt x="457" y="913"/>
                    </a:lnTo>
                    <a:lnTo>
                      <a:pt x="402" y="893"/>
                    </a:lnTo>
                    <a:lnTo>
                      <a:pt x="350" y="872"/>
                    </a:lnTo>
                    <a:lnTo>
                      <a:pt x="301" y="850"/>
                    </a:lnTo>
                    <a:lnTo>
                      <a:pt x="255" y="827"/>
                    </a:lnTo>
                    <a:lnTo>
                      <a:pt x="212" y="804"/>
                    </a:lnTo>
                    <a:lnTo>
                      <a:pt x="174" y="780"/>
                    </a:lnTo>
                    <a:lnTo>
                      <a:pt x="139" y="756"/>
                    </a:lnTo>
                    <a:lnTo>
                      <a:pt x="107" y="730"/>
                    </a:lnTo>
                    <a:lnTo>
                      <a:pt x="80" y="704"/>
                    </a:lnTo>
                    <a:lnTo>
                      <a:pt x="56" y="678"/>
                    </a:lnTo>
                    <a:lnTo>
                      <a:pt x="37" y="651"/>
                    </a:lnTo>
                    <a:lnTo>
                      <a:pt x="20" y="623"/>
                    </a:lnTo>
                    <a:lnTo>
                      <a:pt x="9" y="595"/>
                    </a:lnTo>
                    <a:lnTo>
                      <a:pt x="3" y="568"/>
                    </a:lnTo>
                    <a:lnTo>
                      <a:pt x="0" y="539"/>
                    </a:lnTo>
                    <a:lnTo>
                      <a:pt x="3" y="510"/>
                    </a:lnTo>
                    <a:lnTo>
                      <a:pt x="9" y="482"/>
                    </a:lnTo>
                    <a:lnTo>
                      <a:pt x="20" y="455"/>
                    </a:lnTo>
                    <a:lnTo>
                      <a:pt x="37" y="428"/>
                    </a:lnTo>
                    <a:lnTo>
                      <a:pt x="56" y="401"/>
                    </a:lnTo>
                    <a:lnTo>
                      <a:pt x="80" y="375"/>
                    </a:lnTo>
                    <a:lnTo>
                      <a:pt x="107" y="350"/>
                    </a:lnTo>
                    <a:lnTo>
                      <a:pt x="139" y="325"/>
                    </a:lnTo>
                    <a:lnTo>
                      <a:pt x="174" y="301"/>
                    </a:lnTo>
                    <a:lnTo>
                      <a:pt x="212" y="277"/>
                    </a:lnTo>
                    <a:lnTo>
                      <a:pt x="255" y="255"/>
                    </a:lnTo>
                    <a:lnTo>
                      <a:pt x="301" y="233"/>
                    </a:lnTo>
                    <a:lnTo>
                      <a:pt x="350" y="213"/>
                    </a:lnTo>
                    <a:lnTo>
                      <a:pt x="402" y="192"/>
                    </a:lnTo>
                    <a:lnTo>
                      <a:pt x="457" y="172"/>
                    </a:lnTo>
                    <a:lnTo>
                      <a:pt x="515" y="154"/>
                    </a:lnTo>
                    <a:lnTo>
                      <a:pt x="577" y="137"/>
                    </a:lnTo>
                    <a:lnTo>
                      <a:pt x="640" y="120"/>
                    </a:lnTo>
                    <a:lnTo>
                      <a:pt x="707" y="105"/>
                    </a:lnTo>
                    <a:lnTo>
                      <a:pt x="776" y="89"/>
                    </a:lnTo>
                    <a:lnTo>
                      <a:pt x="846" y="75"/>
                    </a:lnTo>
                    <a:lnTo>
                      <a:pt x="920" y="63"/>
                    </a:lnTo>
                    <a:lnTo>
                      <a:pt x="996" y="51"/>
                    </a:lnTo>
                    <a:lnTo>
                      <a:pt x="1074" y="41"/>
                    </a:lnTo>
                    <a:lnTo>
                      <a:pt x="1155" y="32"/>
                    </a:lnTo>
                    <a:lnTo>
                      <a:pt x="1235" y="24"/>
                    </a:lnTo>
                    <a:lnTo>
                      <a:pt x="1319" y="17"/>
                    </a:lnTo>
                    <a:lnTo>
                      <a:pt x="1404" y="11"/>
                    </a:lnTo>
                    <a:lnTo>
                      <a:pt x="1491" y="6"/>
                    </a:lnTo>
                    <a:lnTo>
                      <a:pt x="1579" y="3"/>
                    </a:lnTo>
                    <a:lnTo>
                      <a:pt x="1668" y="1"/>
                    </a:lnTo>
                    <a:lnTo>
                      <a:pt x="1758" y="0"/>
                    </a:lnTo>
                    <a:lnTo>
                      <a:pt x="1849" y="1"/>
                    </a:lnTo>
                    <a:lnTo>
                      <a:pt x="1938" y="3"/>
                    </a:lnTo>
                    <a:lnTo>
                      <a:pt x="2026" y="6"/>
                    </a:lnTo>
                    <a:lnTo>
                      <a:pt x="2113" y="11"/>
                    </a:lnTo>
                    <a:lnTo>
                      <a:pt x="2198" y="17"/>
                    </a:lnTo>
                    <a:lnTo>
                      <a:pt x="2282" y="24"/>
                    </a:lnTo>
                    <a:lnTo>
                      <a:pt x="2363" y="32"/>
                    </a:lnTo>
                    <a:lnTo>
                      <a:pt x="2443" y="41"/>
                    </a:lnTo>
                    <a:lnTo>
                      <a:pt x="2521" y="51"/>
                    </a:lnTo>
                    <a:lnTo>
                      <a:pt x="2597" y="63"/>
                    </a:lnTo>
                    <a:lnTo>
                      <a:pt x="2670" y="75"/>
                    </a:lnTo>
                    <a:lnTo>
                      <a:pt x="2741" y="89"/>
                    </a:lnTo>
                    <a:lnTo>
                      <a:pt x="2811" y="105"/>
                    </a:lnTo>
                    <a:lnTo>
                      <a:pt x="2876" y="120"/>
                    </a:lnTo>
                    <a:lnTo>
                      <a:pt x="2940" y="137"/>
                    </a:lnTo>
                    <a:lnTo>
                      <a:pt x="3002" y="154"/>
                    </a:lnTo>
                    <a:lnTo>
                      <a:pt x="3060" y="172"/>
                    </a:lnTo>
                    <a:lnTo>
                      <a:pt x="3115" y="192"/>
                    </a:lnTo>
                    <a:lnTo>
                      <a:pt x="3167" y="213"/>
                    </a:lnTo>
                    <a:lnTo>
                      <a:pt x="3217" y="233"/>
                    </a:lnTo>
                    <a:lnTo>
                      <a:pt x="3262" y="255"/>
                    </a:lnTo>
                    <a:lnTo>
                      <a:pt x="3305" y="277"/>
                    </a:lnTo>
                    <a:lnTo>
                      <a:pt x="3343" y="301"/>
                    </a:lnTo>
                    <a:lnTo>
                      <a:pt x="3378" y="325"/>
                    </a:lnTo>
                    <a:lnTo>
                      <a:pt x="3410" y="350"/>
                    </a:lnTo>
                    <a:lnTo>
                      <a:pt x="3438" y="375"/>
                    </a:lnTo>
                    <a:lnTo>
                      <a:pt x="3461" y="401"/>
                    </a:lnTo>
                    <a:lnTo>
                      <a:pt x="3480" y="428"/>
                    </a:lnTo>
                    <a:lnTo>
                      <a:pt x="3497" y="455"/>
                    </a:lnTo>
                    <a:lnTo>
                      <a:pt x="3508" y="482"/>
                    </a:lnTo>
                    <a:lnTo>
                      <a:pt x="3515" y="510"/>
                    </a:lnTo>
                    <a:lnTo>
                      <a:pt x="3517" y="5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4080" y="6493320"/>
                <a:ext cx="387720" cy="129960"/>
              </a:xfrm>
              <a:custGeom>
                <a:avLst/>
                <a:gdLst/>
                <a:ahLst/>
                <a:rect l="l" t="t" r="r" b="b"/>
                <a:pathLst>
                  <a:path w="3513" h="1093">
                    <a:moveTo>
                      <a:pt x="3513" y="538"/>
                    </a:moveTo>
                    <a:lnTo>
                      <a:pt x="3511" y="566"/>
                    </a:lnTo>
                    <a:lnTo>
                      <a:pt x="3504" y="594"/>
                    </a:lnTo>
                    <a:lnTo>
                      <a:pt x="3493" y="622"/>
                    </a:lnTo>
                    <a:lnTo>
                      <a:pt x="3477" y="650"/>
                    </a:lnTo>
                    <a:lnTo>
                      <a:pt x="3458" y="677"/>
                    </a:lnTo>
                    <a:lnTo>
                      <a:pt x="3434" y="703"/>
                    </a:lnTo>
                    <a:lnTo>
                      <a:pt x="3407" y="728"/>
                    </a:lnTo>
                    <a:lnTo>
                      <a:pt x="3375" y="754"/>
                    </a:lnTo>
                    <a:lnTo>
                      <a:pt x="3340" y="779"/>
                    </a:lnTo>
                    <a:lnTo>
                      <a:pt x="3301" y="802"/>
                    </a:lnTo>
                    <a:lnTo>
                      <a:pt x="3259" y="826"/>
                    </a:lnTo>
                    <a:lnTo>
                      <a:pt x="3213" y="849"/>
                    </a:lnTo>
                    <a:lnTo>
                      <a:pt x="3164" y="870"/>
                    </a:lnTo>
                    <a:lnTo>
                      <a:pt x="3112" y="891"/>
                    </a:lnTo>
                    <a:lnTo>
                      <a:pt x="3057" y="911"/>
                    </a:lnTo>
                    <a:lnTo>
                      <a:pt x="2999" y="930"/>
                    </a:lnTo>
                    <a:lnTo>
                      <a:pt x="2938" y="949"/>
                    </a:lnTo>
                    <a:lnTo>
                      <a:pt x="2873" y="967"/>
                    </a:lnTo>
                    <a:lnTo>
                      <a:pt x="2808" y="983"/>
                    </a:lnTo>
                    <a:lnTo>
                      <a:pt x="2739" y="998"/>
                    </a:lnTo>
                    <a:lnTo>
                      <a:pt x="2667" y="1013"/>
                    </a:lnTo>
                    <a:lnTo>
                      <a:pt x="2594" y="1026"/>
                    </a:lnTo>
                    <a:lnTo>
                      <a:pt x="2518" y="1038"/>
                    </a:lnTo>
                    <a:lnTo>
                      <a:pt x="2440" y="1049"/>
                    </a:lnTo>
                    <a:lnTo>
                      <a:pt x="2360" y="1060"/>
                    </a:lnTo>
                    <a:lnTo>
                      <a:pt x="2279" y="1069"/>
                    </a:lnTo>
                    <a:lnTo>
                      <a:pt x="2196" y="1076"/>
                    </a:lnTo>
                    <a:lnTo>
                      <a:pt x="2111" y="1082"/>
                    </a:lnTo>
                    <a:lnTo>
                      <a:pt x="2024" y="1087"/>
                    </a:lnTo>
                    <a:lnTo>
                      <a:pt x="1936" y="1091"/>
                    </a:lnTo>
                    <a:lnTo>
                      <a:pt x="1847" y="1093"/>
                    </a:lnTo>
                    <a:lnTo>
                      <a:pt x="1756" y="1093"/>
                    </a:lnTo>
                    <a:lnTo>
                      <a:pt x="1667" y="1093"/>
                    </a:lnTo>
                    <a:lnTo>
                      <a:pt x="1577" y="1091"/>
                    </a:lnTo>
                    <a:lnTo>
                      <a:pt x="1489" y="1087"/>
                    </a:lnTo>
                    <a:lnTo>
                      <a:pt x="1403" y="1082"/>
                    </a:lnTo>
                    <a:lnTo>
                      <a:pt x="1317" y="1076"/>
                    </a:lnTo>
                    <a:lnTo>
                      <a:pt x="1234" y="1069"/>
                    </a:lnTo>
                    <a:lnTo>
                      <a:pt x="1153" y="1060"/>
                    </a:lnTo>
                    <a:lnTo>
                      <a:pt x="1073" y="1049"/>
                    </a:lnTo>
                    <a:lnTo>
                      <a:pt x="995" y="1038"/>
                    </a:lnTo>
                    <a:lnTo>
                      <a:pt x="919" y="1026"/>
                    </a:lnTo>
                    <a:lnTo>
                      <a:pt x="845" y="1013"/>
                    </a:lnTo>
                    <a:lnTo>
                      <a:pt x="775" y="998"/>
                    </a:lnTo>
                    <a:lnTo>
                      <a:pt x="705" y="983"/>
                    </a:lnTo>
                    <a:lnTo>
                      <a:pt x="639" y="967"/>
                    </a:lnTo>
                    <a:lnTo>
                      <a:pt x="576" y="949"/>
                    </a:lnTo>
                    <a:lnTo>
                      <a:pt x="514" y="930"/>
                    </a:lnTo>
                    <a:lnTo>
                      <a:pt x="457" y="911"/>
                    </a:lnTo>
                    <a:lnTo>
                      <a:pt x="401" y="891"/>
                    </a:lnTo>
                    <a:lnTo>
                      <a:pt x="349" y="870"/>
                    </a:lnTo>
                    <a:lnTo>
                      <a:pt x="300" y="849"/>
                    </a:lnTo>
                    <a:lnTo>
                      <a:pt x="255" y="826"/>
                    </a:lnTo>
                    <a:lnTo>
                      <a:pt x="212" y="802"/>
                    </a:lnTo>
                    <a:lnTo>
                      <a:pt x="173" y="779"/>
                    </a:lnTo>
                    <a:lnTo>
                      <a:pt x="138" y="754"/>
                    </a:lnTo>
                    <a:lnTo>
                      <a:pt x="106" y="728"/>
                    </a:lnTo>
                    <a:lnTo>
                      <a:pt x="79" y="703"/>
                    </a:lnTo>
                    <a:lnTo>
                      <a:pt x="55" y="677"/>
                    </a:lnTo>
                    <a:lnTo>
                      <a:pt x="36" y="650"/>
                    </a:lnTo>
                    <a:lnTo>
                      <a:pt x="20" y="622"/>
                    </a:lnTo>
                    <a:lnTo>
                      <a:pt x="9" y="594"/>
                    </a:lnTo>
                    <a:lnTo>
                      <a:pt x="2" y="566"/>
                    </a:lnTo>
                    <a:lnTo>
                      <a:pt x="0" y="538"/>
                    </a:lnTo>
                    <a:lnTo>
                      <a:pt x="2" y="509"/>
                    </a:lnTo>
                    <a:lnTo>
                      <a:pt x="9" y="481"/>
                    </a:lnTo>
                    <a:lnTo>
                      <a:pt x="20" y="454"/>
                    </a:lnTo>
                    <a:lnTo>
                      <a:pt x="36" y="427"/>
                    </a:lnTo>
                    <a:lnTo>
                      <a:pt x="55" y="400"/>
                    </a:lnTo>
                    <a:lnTo>
                      <a:pt x="79" y="374"/>
                    </a:lnTo>
                    <a:lnTo>
                      <a:pt x="106" y="349"/>
                    </a:lnTo>
                    <a:lnTo>
                      <a:pt x="138" y="325"/>
                    </a:lnTo>
                    <a:lnTo>
                      <a:pt x="173" y="300"/>
                    </a:lnTo>
                    <a:lnTo>
                      <a:pt x="212" y="277"/>
                    </a:lnTo>
                    <a:lnTo>
                      <a:pt x="255" y="255"/>
                    </a:lnTo>
                    <a:lnTo>
                      <a:pt x="300" y="233"/>
                    </a:lnTo>
                    <a:lnTo>
                      <a:pt x="349" y="212"/>
                    </a:lnTo>
                    <a:lnTo>
                      <a:pt x="401" y="191"/>
                    </a:lnTo>
                    <a:lnTo>
                      <a:pt x="457" y="172"/>
                    </a:lnTo>
                    <a:lnTo>
                      <a:pt x="514" y="154"/>
                    </a:lnTo>
                    <a:lnTo>
                      <a:pt x="576" y="136"/>
                    </a:lnTo>
                    <a:lnTo>
                      <a:pt x="639" y="120"/>
                    </a:lnTo>
                    <a:lnTo>
                      <a:pt x="705" y="104"/>
                    </a:lnTo>
                    <a:lnTo>
                      <a:pt x="775" y="89"/>
                    </a:lnTo>
                    <a:lnTo>
                      <a:pt x="845" y="75"/>
                    </a:lnTo>
                    <a:lnTo>
                      <a:pt x="919" y="63"/>
                    </a:lnTo>
                    <a:lnTo>
                      <a:pt x="995" y="51"/>
                    </a:lnTo>
                    <a:lnTo>
                      <a:pt x="1073" y="41"/>
                    </a:lnTo>
                    <a:lnTo>
                      <a:pt x="1153" y="32"/>
                    </a:lnTo>
                    <a:lnTo>
                      <a:pt x="1234" y="23"/>
                    </a:lnTo>
                    <a:lnTo>
                      <a:pt x="1317" y="16"/>
                    </a:lnTo>
                    <a:lnTo>
                      <a:pt x="1403" y="11"/>
                    </a:lnTo>
                    <a:lnTo>
                      <a:pt x="1489" y="6"/>
                    </a:lnTo>
                    <a:lnTo>
                      <a:pt x="1577" y="3"/>
                    </a:lnTo>
                    <a:lnTo>
                      <a:pt x="1667" y="1"/>
                    </a:lnTo>
                    <a:lnTo>
                      <a:pt x="1756" y="0"/>
                    </a:lnTo>
                    <a:lnTo>
                      <a:pt x="1847" y="1"/>
                    </a:lnTo>
                    <a:lnTo>
                      <a:pt x="1936" y="3"/>
                    </a:lnTo>
                    <a:lnTo>
                      <a:pt x="2024" y="6"/>
                    </a:lnTo>
                    <a:lnTo>
                      <a:pt x="2111" y="11"/>
                    </a:lnTo>
                    <a:lnTo>
                      <a:pt x="2196" y="16"/>
                    </a:lnTo>
                    <a:lnTo>
                      <a:pt x="2279" y="23"/>
                    </a:lnTo>
                    <a:lnTo>
                      <a:pt x="2360" y="32"/>
                    </a:lnTo>
                    <a:lnTo>
                      <a:pt x="2440" y="41"/>
                    </a:lnTo>
                    <a:lnTo>
                      <a:pt x="2518" y="51"/>
                    </a:lnTo>
                    <a:lnTo>
                      <a:pt x="2594" y="63"/>
                    </a:lnTo>
                    <a:lnTo>
                      <a:pt x="2667" y="75"/>
                    </a:lnTo>
                    <a:lnTo>
                      <a:pt x="2739" y="89"/>
                    </a:lnTo>
                    <a:lnTo>
                      <a:pt x="2808" y="104"/>
                    </a:lnTo>
                    <a:lnTo>
                      <a:pt x="2873" y="120"/>
                    </a:lnTo>
                    <a:lnTo>
                      <a:pt x="2938" y="136"/>
                    </a:lnTo>
                    <a:lnTo>
                      <a:pt x="2999" y="154"/>
                    </a:lnTo>
                    <a:lnTo>
                      <a:pt x="3057" y="172"/>
                    </a:lnTo>
                    <a:lnTo>
                      <a:pt x="3112" y="191"/>
                    </a:lnTo>
                    <a:lnTo>
                      <a:pt x="3164" y="212"/>
                    </a:lnTo>
                    <a:lnTo>
                      <a:pt x="3213" y="233"/>
                    </a:lnTo>
                    <a:lnTo>
                      <a:pt x="3259" y="255"/>
                    </a:lnTo>
                    <a:lnTo>
                      <a:pt x="3301" y="277"/>
                    </a:lnTo>
                    <a:lnTo>
                      <a:pt x="3340" y="300"/>
                    </a:lnTo>
                    <a:lnTo>
                      <a:pt x="3375" y="325"/>
                    </a:lnTo>
                    <a:lnTo>
                      <a:pt x="3407" y="349"/>
                    </a:lnTo>
                    <a:lnTo>
                      <a:pt x="3434" y="374"/>
                    </a:lnTo>
                    <a:lnTo>
                      <a:pt x="3458" y="400"/>
                    </a:lnTo>
                    <a:lnTo>
                      <a:pt x="3477" y="427"/>
                    </a:lnTo>
                    <a:lnTo>
                      <a:pt x="3493" y="454"/>
                    </a:lnTo>
                    <a:lnTo>
                      <a:pt x="3504" y="481"/>
                    </a:lnTo>
                    <a:lnTo>
                      <a:pt x="3511" y="509"/>
                    </a:lnTo>
                    <a:lnTo>
                      <a:pt x="3513" y="5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954080" y="6493320"/>
                <a:ext cx="387720" cy="129960"/>
              </a:xfrm>
              <a:custGeom>
                <a:avLst/>
                <a:gdLst/>
                <a:ahLst/>
                <a:rect l="l" t="t" r="r" b="b"/>
                <a:pathLst>
                  <a:path w="3511" h="1092">
                    <a:moveTo>
                      <a:pt x="3511" y="537"/>
                    </a:moveTo>
                    <a:lnTo>
                      <a:pt x="3509" y="565"/>
                    </a:lnTo>
                    <a:lnTo>
                      <a:pt x="3502" y="593"/>
                    </a:lnTo>
                    <a:lnTo>
                      <a:pt x="3491" y="621"/>
                    </a:lnTo>
                    <a:lnTo>
                      <a:pt x="3475" y="649"/>
                    </a:lnTo>
                    <a:lnTo>
                      <a:pt x="3455" y="675"/>
                    </a:lnTo>
                    <a:lnTo>
                      <a:pt x="3432" y="702"/>
                    </a:lnTo>
                    <a:lnTo>
                      <a:pt x="3404" y="727"/>
                    </a:lnTo>
                    <a:lnTo>
                      <a:pt x="3372" y="753"/>
                    </a:lnTo>
                    <a:lnTo>
                      <a:pt x="3338" y="777"/>
                    </a:lnTo>
                    <a:lnTo>
                      <a:pt x="3299" y="801"/>
                    </a:lnTo>
                    <a:lnTo>
                      <a:pt x="3256" y="824"/>
                    </a:lnTo>
                    <a:lnTo>
                      <a:pt x="3211" y="847"/>
                    </a:lnTo>
                    <a:lnTo>
                      <a:pt x="3162" y="869"/>
                    </a:lnTo>
                    <a:lnTo>
                      <a:pt x="3110" y="890"/>
                    </a:lnTo>
                    <a:lnTo>
                      <a:pt x="3054" y="910"/>
                    </a:lnTo>
                    <a:lnTo>
                      <a:pt x="2997" y="929"/>
                    </a:lnTo>
                    <a:lnTo>
                      <a:pt x="2936" y="947"/>
                    </a:lnTo>
                    <a:lnTo>
                      <a:pt x="2871" y="965"/>
                    </a:lnTo>
                    <a:lnTo>
                      <a:pt x="2806" y="981"/>
                    </a:lnTo>
                    <a:lnTo>
                      <a:pt x="2737" y="997"/>
                    </a:lnTo>
                    <a:lnTo>
                      <a:pt x="2665" y="1011"/>
                    </a:lnTo>
                    <a:lnTo>
                      <a:pt x="2592" y="1024"/>
                    </a:lnTo>
                    <a:lnTo>
                      <a:pt x="2516" y="1036"/>
                    </a:lnTo>
                    <a:lnTo>
                      <a:pt x="2439" y="1047"/>
                    </a:lnTo>
                    <a:lnTo>
                      <a:pt x="2359" y="1058"/>
                    </a:lnTo>
                    <a:lnTo>
                      <a:pt x="2278" y="1067"/>
                    </a:lnTo>
                    <a:lnTo>
                      <a:pt x="2194" y="1074"/>
                    </a:lnTo>
                    <a:lnTo>
                      <a:pt x="2109" y="1080"/>
                    </a:lnTo>
                    <a:lnTo>
                      <a:pt x="2023" y="1085"/>
                    </a:lnTo>
                    <a:lnTo>
                      <a:pt x="1935" y="1089"/>
                    </a:lnTo>
                    <a:lnTo>
                      <a:pt x="1845" y="1091"/>
                    </a:lnTo>
                    <a:lnTo>
                      <a:pt x="1755" y="1092"/>
                    </a:lnTo>
                    <a:lnTo>
                      <a:pt x="1666" y="1091"/>
                    </a:lnTo>
                    <a:lnTo>
                      <a:pt x="1576" y="1089"/>
                    </a:lnTo>
                    <a:lnTo>
                      <a:pt x="1488" y="1085"/>
                    </a:lnTo>
                    <a:lnTo>
                      <a:pt x="1402" y="1080"/>
                    </a:lnTo>
                    <a:lnTo>
                      <a:pt x="1317" y="1074"/>
                    </a:lnTo>
                    <a:lnTo>
                      <a:pt x="1233" y="1067"/>
                    </a:lnTo>
                    <a:lnTo>
                      <a:pt x="1152" y="1058"/>
                    </a:lnTo>
                    <a:lnTo>
                      <a:pt x="1073" y="1047"/>
                    </a:lnTo>
                    <a:lnTo>
                      <a:pt x="995" y="1036"/>
                    </a:lnTo>
                    <a:lnTo>
                      <a:pt x="919" y="1024"/>
                    </a:lnTo>
                    <a:lnTo>
                      <a:pt x="846" y="1011"/>
                    </a:lnTo>
                    <a:lnTo>
                      <a:pt x="774" y="997"/>
                    </a:lnTo>
                    <a:lnTo>
                      <a:pt x="705" y="981"/>
                    </a:lnTo>
                    <a:lnTo>
                      <a:pt x="639" y="965"/>
                    </a:lnTo>
                    <a:lnTo>
                      <a:pt x="575" y="947"/>
                    </a:lnTo>
                    <a:lnTo>
                      <a:pt x="514" y="929"/>
                    </a:lnTo>
                    <a:lnTo>
                      <a:pt x="457" y="910"/>
                    </a:lnTo>
                    <a:lnTo>
                      <a:pt x="401" y="890"/>
                    </a:lnTo>
                    <a:lnTo>
                      <a:pt x="349" y="869"/>
                    </a:lnTo>
                    <a:lnTo>
                      <a:pt x="300" y="847"/>
                    </a:lnTo>
                    <a:lnTo>
                      <a:pt x="255" y="824"/>
                    </a:lnTo>
                    <a:lnTo>
                      <a:pt x="212" y="801"/>
                    </a:lnTo>
                    <a:lnTo>
                      <a:pt x="173" y="777"/>
                    </a:lnTo>
                    <a:lnTo>
                      <a:pt x="139" y="753"/>
                    </a:lnTo>
                    <a:lnTo>
                      <a:pt x="107" y="727"/>
                    </a:lnTo>
                    <a:lnTo>
                      <a:pt x="79" y="702"/>
                    </a:lnTo>
                    <a:lnTo>
                      <a:pt x="56" y="675"/>
                    </a:lnTo>
                    <a:lnTo>
                      <a:pt x="36" y="649"/>
                    </a:lnTo>
                    <a:lnTo>
                      <a:pt x="20" y="621"/>
                    </a:lnTo>
                    <a:lnTo>
                      <a:pt x="9" y="593"/>
                    </a:lnTo>
                    <a:lnTo>
                      <a:pt x="2" y="565"/>
                    </a:lnTo>
                    <a:lnTo>
                      <a:pt x="0" y="537"/>
                    </a:lnTo>
                    <a:lnTo>
                      <a:pt x="2" y="508"/>
                    </a:lnTo>
                    <a:lnTo>
                      <a:pt x="9" y="480"/>
                    </a:lnTo>
                    <a:lnTo>
                      <a:pt x="20" y="453"/>
                    </a:lnTo>
                    <a:lnTo>
                      <a:pt x="36" y="426"/>
                    </a:lnTo>
                    <a:lnTo>
                      <a:pt x="56" y="399"/>
                    </a:lnTo>
                    <a:lnTo>
                      <a:pt x="79" y="373"/>
                    </a:lnTo>
                    <a:lnTo>
                      <a:pt x="107" y="348"/>
                    </a:lnTo>
                    <a:lnTo>
                      <a:pt x="139" y="324"/>
                    </a:lnTo>
                    <a:lnTo>
                      <a:pt x="173" y="299"/>
                    </a:lnTo>
                    <a:lnTo>
                      <a:pt x="212" y="276"/>
                    </a:lnTo>
                    <a:lnTo>
                      <a:pt x="255" y="254"/>
                    </a:lnTo>
                    <a:lnTo>
                      <a:pt x="300" y="232"/>
                    </a:lnTo>
                    <a:lnTo>
                      <a:pt x="349" y="212"/>
                    </a:lnTo>
                    <a:lnTo>
                      <a:pt x="401" y="191"/>
                    </a:lnTo>
                    <a:lnTo>
                      <a:pt x="457" y="172"/>
                    </a:lnTo>
                    <a:lnTo>
                      <a:pt x="514" y="153"/>
                    </a:lnTo>
                    <a:lnTo>
                      <a:pt x="575" y="136"/>
                    </a:lnTo>
                    <a:lnTo>
                      <a:pt x="639" y="120"/>
                    </a:lnTo>
                    <a:lnTo>
                      <a:pt x="705" y="104"/>
                    </a:lnTo>
                    <a:lnTo>
                      <a:pt x="774" y="89"/>
                    </a:lnTo>
                    <a:lnTo>
                      <a:pt x="846" y="75"/>
                    </a:lnTo>
                    <a:lnTo>
                      <a:pt x="919" y="62"/>
                    </a:lnTo>
                    <a:lnTo>
                      <a:pt x="995" y="51"/>
                    </a:lnTo>
                    <a:lnTo>
                      <a:pt x="1073" y="41"/>
                    </a:lnTo>
                    <a:lnTo>
                      <a:pt x="1152" y="31"/>
                    </a:lnTo>
                    <a:lnTo>
                      <a:pt x="1233" y="23"/>
                    </a:lnTo>
                    <a:lnTo>
                      <a:pt x="1317" y="16"/>
                    </a:lnTo>
                    <a:lnTo>
                      <a:pt x="1402" y="11"/>
                    </a:lnTo>
                    <a:lnTo>
                      <a:pt x="1488" y="6"/>
                    </a:lnTo>
                    <a:lnTo>
                      <a:pt x="1576" y="3"/>
                    </a:lnTo>
                    <a:lnTo>
                      <a:pt x="1666" y="1"/>
                    </a:lnTo>
                    <a:lnTo>
                      <a:pt x="1755" y="0"/>
                    </a:lnTo>
                    <a:lnTo>
                      <a:pt x="1845" y="1"/>
                    </a:lnTo>
                    <a:lnTo>
                      <a:pt x="1935" y="3"/>
                    </a:lnTo>
                    <a:lnTo>
                      <a:pt x="2023" y="6"/>
                    </a:lnTo>
                    <a:lnTo>
                      <a:pt x="2109" y="11"/>
                    </a:lnTo>
                    <a:lnTo>
                      <a:pt x="2194" y="16"/>
                    </a:lnTo>
                    <a:lnTo>
                      <a:pt x="2278" y="23"/>
                    </a:lnTo>
                    <a:lnTo>
                      <a:pt x="2359" y="31"/>
                    </a:lnTo>
                    <a:lnTo>
                      <a:pt x="2439" y="41"/>
                    </a:lnTo>
                    <a:lnTo>
                      <a:pt x="2516" y="51"/>
                    </a:lnTo>
                    <a:lnTo>
                      <a:pt x="2592" y="62"/>
                    </a:lnTo>
                    <a:lnTo>
                      <a:pt x="2665" y="75"/>
                    </a:lnTo>
                    <a:lnTo>
                      <a:pt x="2737" y="89"/>
                    </a:lnTo>
                    <a:lnTo>
                      <a:pt x="2806" y="104"/>
                    </a:lnTo>
                    <a:lnTo>
                      <a:pt x="2871" y="120"/>
                    </a:lnTo>
                    <a:lnTo>
                      <a:pt x="2936" y="136"/>
                    </a:lnTo>
                    <a:lnTo>
                      <a:pt x="2997" y="153"/>
                    </a:lnTo>
                    <a:lnTo>
                      <a:pt x="3054" y="172"/>
                    </a:lnTo>
                    <a:lnTo>
                      <a:pt x="3110" y="191"/>
                    </a:lnTo>
                    <a:lnTo>
                      <a:pt x="3162" y="212"/>
                    </a:lnTo>
                    <a:lnTo>
                      <a:pt x="3211" y="232"/>
                    </a:lnTo>
                    <a:lnTo>
                      <a:pt x="3256" y="254"/>
                    </a:lnTo>
                    <a:lnTo>
                      <a:pt x="3299" y="276"/>
                    </a:lnTo>
                    <a:lnTo>
                      <a:pt x="3338" y="299"/>
                    </a:lnTo>
                    <a:lnTo>
                      <a:pt x="3372" y="324"/>
                    </a:lnTo>
                    <a:lnTo>
                      <a:pt x="3404" y="348"/>
                    </a:lnTo>
                    <a:lnTo>
                      <a:pt x="3432" y="373"/>
                    </a:lnTo>
                    <a:lnTo>
                      <a:pt x="3455" y="399"/>
                    </a:lnTo>
                    <a:lnTo>
                      <a:pt x="3475" y="426"/>
                    </a:lnTo>
                    <a:lnTo>
                      <a:pt x="3491" y="453"/>
                    </a:lnTo>
                    <a:lnTo>
                      <a:pt x="3502" y="480"/>
                    </a:lnTo>
                    <a:lnTo>
                      <a:pt x="3509" y="508"/>
                    </a:lnTo>
                    <a:lnTo>
                      <a:pt x="3511" y="5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55160" y="6493320"/>
                <a:ext cx="385560" cy="129960"/>
              </a:xfrm>
              <a:custGeom>
                <a:avLst/>
                <a:gdLst/>
                <a:ahLst/>
                <a:rect l="l" t="t" r="r" b="b"/>
                <a:pathLst>
                  <a:path w="3508" h="1090">
                    <a:moveTo>
                      <a:pt x="3508" y="536"/>
                    </a:moveTo>
                    <a:lnTo>
                      <a:pt x="3505" y="564"/>
                    </a:lnTo>
                    <a:lnTo>
                      <a:pt x="3499" y="592"/>
                    </a:lnTo>
                    <a:lnTo>
                      <a:pt x="3488" y="620"/>
                    </a:lnTo>
                    <a:lnTo>
                      <a:pt x="3471" y="648"/>
                    </a:lnTo>
                    <a:lnTo>
                      <a:pt x="3452" y="674"/>
                    </a:lnTo>
                    <a:lnTo>
                      <a:pt x="3428" y="700"/>
                    </a:lnTo>
                    <a:lnTo>
                      <a:pt x="3401" y="726"/>
                    </a:lnTo>
                    <a:lnTo>
                      <a:pt x="3369" y="752"/>
                    </a:lnTo>
                    <a:lnTo>
                      <a:pt x="3334" y="776"/>
                    </a:lnTo>
                    <a:lnTo>
                      <a:pt x="3296" y="800"/>
                    </a:lnTo>
                    <a:lnTo>
                      <a:pt x="3253" y="823"/>
                    </a:lnTo>
                    <a:lnTo>
                      <a:pt x="3208" y="846"/>
                    </a:lnTo>
                    <a:lnTo>
                      <a:pt x="3159" y="867"/>
                    </a:lnTo>
                    <a:lnTo>
                      <a:pt x="3107" y="888"/>
                    </a:lnTo>
                    <a:lnTo>
                      <a:pt x="3051" y="908"/>
                    </a:lnTo>
                    <a:lnTo>
                      <a:pt x="2994" y="927"/>
                    </a:lnTo>
                    <a:lnTo>
                      <a:pt x="2933" y="945"/>
                    </a:lnTo>
                    <a:lnTo>
                      <a:pt x="2869" y="963"/>
                    </a:lnTo>
                    <a:lnTo>
                      <a:pt x="2803" y="980"/>
                    </a:lnTo>
                    <a:lnTo>
                      <a:pt x="2734" y="995"/>
                    </a:lnTo>
                    <a:lnTo>
                      <a:pt x="2662" y="1009"/>
                    </a:lnTo>
                    <a:lnTo>
                      <a:pt x="2590" y="1022"/>
                    </a:lnTo>
                    <a:lnTo>
                      <a:pt x="2514" y="1035"/>
                    </a:lnTo>
                    <a:lnTo>
                      <a:pt x="2436" y="1046"/>
                    </a:lnTo>
                    <a:lnTo>
                      <a:pt x="2356" y="1056"/>
                    </a:lnTo>
                    <a:lnTo>
                      <a:pt x="2275" y="1065"/>
                    </a:lnTo>
                    <a:lnTo>
                      <a:pt x="2192" y="1072"/>
                    </a:lnTo>
                    <a:lnTo>
                      <a:pt x="2107" y="1078"/>
                    </a:lnTo>
                    <a:lnTo>
                      <a:pt x="2020" y="1083"/>
                    </a:lnTo>
                    <a:lnTo>
                      <a:pt x="1933" y="1087"/>
                    </a:lnTo>
                    <a:lnTo>
                      <a:pt x="1843" y="1089"/>
                    </a:lnTo>
                    <a:lnTo>
                      <a:pt x="1753" y="1090"/>
                    </a:lnTo>
                    <a:lnTo>
                      <a:pt x="1664" y="1089"/>
                    </a:lnTo>
                    <a:lnTo>
                      <a:pt x="1574" y="1087"/>
                    </a:lnTo>
                    <a:lnTo>
                      <a:pt x="1487" y="1083"/>
                    </a:lnTo>
                    <a:lnTo>
                      <a:pt x="1400" y="1078"/>
                    </a:lnTo>
                    <a:lnTo>
                      <a:pt x="1315" y="1072"/>
                    </a:lnTo>
                    <a:lnTo>
                      <a:pt x="1232" y="1065"/>
                    </a:lnTo>
                    <a:lnTo>
                      <a:pt x="1151" y="1056"/>
                    </a:lnTo>
                    <a:lnTo>
                      <a:pt x="1071" y="1046"/>
                    </a:lnTo>
                    <a:lnTo>
                      <a:pt x="993" y="1035"/>
                    </a:lnTo>
                    <a:lnTo>
                      <a:pt x="917" y="1022"/>
                    </a:lnTo>
                    <a:lnTo>
                      <a:pt x="845" y="1009"/>
                    </a:lnTo>
                    <a:lnTo>
                      <a:pt x="773" y="995"/>
                    </a:lnTo>
                    <a:lnTo>
                      <a:pt x="704" y="980"/>
                    </a:lnTo>
                    <a:lnTo>
                      <a:pt x="637" y="963"/>
                    </a:lnTo>
                    <a:lnTo>
                      <a:pt x="574" y="945"/>
                    </a:lnTo>
                    <a:lnTo>
                      <a:pt x="513" y="927"/>
                    </a:lnTo>
                    <a:lnTo>
                      <a:pt x="456" y="908"/>
                    </a:lnTo>
                    <a:lnTo>
                      <a:pt x="400" y="888"/>
                    </a:lnTo>
                    <a:lnTo>
                      <a:pt x="349" y="867"/>
                    </a:lnTo>
                    <a:lnTo>
                      <a:pt x="299" y="846"/>
                    </a:lnTo>
                    <a:lnTo>
                      <a:pt x="254" y="823"/>
                    </a:lnTo>
                    <a:lnTo>
                      <a:pt x="211" y="800"/>
                    </a:lnTo>
                    <a:lnTo>
                      <a:pt x="173" y="776"/>
                    </a:lnTo>
                    <a:lnTo>
                      <a:pt x="138" y="752"/>
                    </a:lnTo>
                    <a:lnTo>
                      <a:pt x="106" y="726"/>
                    </a:lnTo>
                    <a:lnTo>
                      <a:pt x="79" y="700"/>
                    </a:lnTo>
                    <a:lnTo>
                      <a:pt x="55" y="674"/>
                    </a:lnTo>
                    <a:lnTo>
                      <a:pt x="36" y="648"/>
                    </a:lnTo>
                    <a:lnTo>
                      <a:pt x="20" y="620"/>
                    </a:lnTo>
                    <a:lnTo>
                      <a:pt x="9" y="592"/>
                    </a:lnTo>
                    <a:lnTo>
                      <a:pt x="2" y="564"/>
                    </a:lnTo>
                    <a:lnTo>
                      <a:pt x="0" y="536"/>
                    </a:lnTo>
                    <a:lnTo>
                      <a:pt x="2" y="507"/>
                    </a:lnTo>
                    <a:lnTo>
                      <a:pt x="9" y="479"/>
                    </a:lnTo>
                    <a:lnTo>
                      <a:pt x="20" y="452"/>
                    </a:lnTo>
                    <a:lnTo>
                      <a:pt x="36" y="425"/>
                    </a:lnTo>
                    <a:lnTo>
                      <a:pt x="55" y="398"/>
                    </a:lnTo>
                    <a:lnTo>
                      <a:pt x="79" y="373"/>
                    </a:lnTo>
                    <a:lnTo>
                      <a:pt x="106" y="348"/>
                    </a:lnTo>
                    <a:lnTo>
                      <a:pt x="138" y="323"/>
                    </a:lnTo>
                    <a:lnTo>
                      <a:pt x="173" y="299"/>
                    </a:lnTo>
                    <a:lnTo>
                      <a:pt x="211" y="276"/>
                    </a:lnTo>
                    <a:lnTo>
                      <a:pt x="254" y="254"/>
                    </a:lnTo>
                    <a:lnTo>
                      <a:pt x="299" y="232"/>
                    </a:lnTo>
                    <a:lnTo>
                      <a:pt x="349" y="211"/>
                    </a:lnTo>
                    <a:lnTo>
                      <a:pt x="400" y="190"/>
                    </a:lnTo>
                    <a:lnTo>
                      <a:pt x="456" y="171"/>
                    </a:lnTo>
                    <a:lnTo>
                      <a:pt x="513" y="153"/>
                    </a:lnTo>
                    <a:lnTo>
                      <a:pt x="574" y="136"/>
                    </a:lnTo>
                    <a:lnTo>
                      <a:pt x="637" y="119"/>
                    </a:lnTo>
                    <a:lnTo>
                      <a:pt x="704" y="104"/>
                    </a:lnTo>
                    <a:lnTo>
                      <a:pt x="773" y="88"/>
                    </a:lnTo>
                    <a:lnTo>
                      <a:pt x="845" y="75"/>
                    </a:lnTo>
                    <a:lnTo>
                      <a:pt x="917" y="62"/>
                    </a:lnTo>
                    <a:lnTo>
                      <a:pt x="993" y="51"/>
                    </a:lnTo>
                    <a:lnTo>
                      <a:pt x="1071" y="41"/>
                    </a:lnTo>
                    <a:lnTo>
                      <a:pt x="1151" y="31"/>
                    </a:lnTo>
                    <a:lnTo>
                      <a:pt x="1232" y="23"/>
                    </a:lnTo>
                    <a:lnTo>
                      <a:pt x="1315" y="16"/>
                    </a:lnTo>
                    <a:lnTo>
                      <a:pt x="1400" y="11"/>
                    </a:lnTo>
                    <a:lnTo>
                      <a:pt x="1487" y="6"/>
                    </a:lnTo>
                    <a:lnTo>
                      <a:pt x="1574" y="3"/>
                    </a:lnTo>
                    <a:lnTo>
                      <a:pt x="1664" y="1"/>
                    </a:lnTo>
                    <a:lnTo>
                      <a:pt x="1753" y="0"/>
                    </a:lnTo>
                    <a:lnTo>
                      <a:pt x="1843" y="1"/>
                    </a:lnTo>
                    <a:lnTo>
                      <a:pt x="1933" y="3"/>
                    </a:lnTo>
                    <a:lnTo>
                      <a:pt x="2020" y="6"/>
                    </a:lnTo>
                    <a:lnTo>
                      <a:pt x="2107" y="11"/>
                    </a:lnTo>
                    <a:lnTo>
                      <a:pt x="2192" y="16"/>
                    </a:lnTo>
                    <a:lnTo>
                      <a:pt x="2275" y="23"/>
                    </a:lnTo>
                    <a:lnTo>
                      <a:pt x="2356" y="31"/>
                    </a:lnTo>
                    <a:lnTo>
                      <a:pt x="2436" y="41"/>
                    </a:lnTo>
                    <a:lnTo>
                      <a:pt x="2514" y="51"/>
                    </a:lnTo>
                    <a:lnTo>
                      <a:pt x="2590" y="62"/>
                    </a:lnTo>
                    <a:lnTo>
                      <a:pt x="2662" y="75"/>
                    </a:lnTo>
                    <a:lnTo>
                      <a:pt x="2734" y="88"/>
                    </a:lnTo>
                    <a:lnTo>
                      <a:pt x="2803" y="104"/>
                    </a:lnTo>
                    <a:lnTo>
                      <a:pt x="2869" y="119"/>
                    </a:lnTo>
                    <a:lnTo>
                      <a:pt x="2933" y="136"/>
                    </a:lnTo>
                    <a:lnTo>
                      <a:pt x="2994" y="153"/>
                    </a:lnTo>
                    <a:lnTo>
                      <a:pt x="3051" y="171"/>
                    </a:lnTo>
                    <a:lnTo>
                      <a:pt x="3107" y="190"/>
                    </a:lnTo>
                    <a:lnTo>
                      <a:pt x="3159" y="211"/>
                    </a:lnTo>
                    <a:lnTo>
                      <a:pt x="3208" y="232"/>
                    </a:lnTo>
                    <a:lnTo>
                      <a:pt x="3253" y="254"/>
                    </a:lnTo>
                    <a:lnTo>
                      <a:pt x="3296" y="276"/>
                    </a:lnTo>
                    <a:lnTo>
                      <a:pt x="3334" y="299"/>
                    </a:lnTo>
                    <a:lnTo>
                      <a:pt x="3369" y="323"/>
                    </a:lnTo>
                    <a:lnTo>
                      <a:pt x="3401" y="348"/>
                    </a:lnTo>
                    <a:lnTo>
                      <a:pt x="3428" y="373"/>
                    </a:lnTo>
                    <a:lnTo>
                      <a:pt x="3452" y="398"/>
                    </a:lnTo>
                    <a:lnTo>
                      <a:pt x="3471" y="425"/>
                    </a:lnTo>
                    <a:lnTo>
                      <a:pt x="3488" y="452"/>
                    </a:lnTo>
                    <a:lnTo>
                      <a:pt x="3499" y="479"/>
                    </a:lnTo>
                    <a:lnTo>
                      <a:pt x="3505" y="507"/>
                    </a:lnTo>
                    <a:lnTo>
                      <a:pt x="3508" y="5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955160" y="6493320"/>
                <a:ext cx="385560" cy="129960"/>
              </a:xfrm>
              <a:custGeom>
                <a:avLst/>
                <a:gdLst/>
                <a:ahLst/>
                <a:rect l="l" t="t" r="r" b="b"/>
                <a:pathLst>
                  <a:path w="3505" h="1088">
                    <a:moveTo>
                      <a:pt x="3505" y="535"/>
                    </a:moveTo>
                    <a:lnTo>
                      <a:pt x="3503" y="563"/>
                    </a:lnTo>
                    <a:lnTo>
                      <a:pt x="3496" y="591"/>
                    </a:lnTo>
                    <a:lnTo>
                      <a:pt x="3485" y="619"/>
                    </a:lnTo>
                    <a:lnTo>
                      <a:pt x="3469" y="647"/>
                    </a:lnTo>
                    <a:lnTo>
                      <a:pt x="3449" y="673"/>
                    </a:lnTo>
                    <a:lnTo>
                      <a:pt x="3426" y="699"/>
                    </a:lnTo>
                    <a:lnTo>
                      <a:pt x="3399" y="724"/>
                    </a:lnTo>
                    <a:lnTo>
                      <a:pt x="3367" y="750"/>
                    </a:lnTo>
                    <a:lnTo>
                      <a:pt x="3332" y="775"/>
                    </a:lnTo>
                    <a:lnTo>
                      <a:pt x="3294" y="798"/>
                    </a:lnTo>
                    <a:lnTo>
                      <a:pt x="3251" y="821"/>
                    </a:lnTo>
                    <a:lnTo>
                      <a:pt x="3206" y="844"/>
                    </a:lnTo>
                    <a:lnTo>
                      <a:pt x="3156" y="866"/>
                    </a:lnTo>
                    <a:lnTo>
                      <a:pt x="3105" y="886"/>
                    </a:lnTo>
                    <a:lnTo>
                      <a:pt x="3049" y="906"/>
                    </a:lnTo>
                    <a:lnTo>
                      <a:pt x="2992" y="925"/>
                    </a:lnTo>
                    <a:lnTo>
                      <a:pt x="2931" y="943"/>
                    </a:lnTo>
                    <a:lnTo>
                      <a:pt x="2867" y="962"/>
                    </a:lnTo>
                    <a:lnTo>
                      <a:pt x="2801" y="978"/>
                    </a:lnTo>
                    <a:lnTo>
                      <a:pt x="2732" y="993"/>
                    </a:lnTo>
                    <a:lnTo>
                      <a:pt x="2661" y="1007"/>
                    </a:lnTo>
                    <a:lnTo>
                      <a:pt x="2588" y="1021"/>
                    </a:lnTo>
                    <a:lnTo>
                      <a:pt x="2512" y="1033"/>
                    </a:lnTo>
                    <a:lnTo>
                      <a:pt x="2434" y="1044"/>
                    </a:lnTo>
                    <a:lnTo>
                      <a:pt x="2355" y="1053"/>
                    </a:lnTo>
                    <a:lnTo>
                      <a:pt x="2274" y="1063"/>
                    </a:lnTo>
                    <a:lnTo>
                      <a:pt x="2191" y="1070"/>
                    </a:lnTo>
                    <a:lnTo>
                      <a:pt x="2106" y="1077"/>
                    </a:lnTo>
                    <a:lnTo>
                      <a:pt x="2019" y="1081"/>
                    </a:lnTo>
                    <a:lnTo>
                      <a:pt x="1931" y="1085"/>
                    </a:lnTo>
                    <a:lnTo>
                      <a:pt x="1842" y="1087"/>
                    </a:lnTo>
                    <a:lnTo>
                      <a:pt x="1752" y="1088"/>
                    </a:lnTo>
                    <a:lnTo>
                      <a:pt x="1663" y="1087"/>
                    </a:lnTo>
                    <a:lnTo>
                      <a:pt x="1574" y="1085"/>
                    </a:lnTo>
                    <a:lnTo>
                      <a:pt x="1486" y="1081"/>
                    </a:lnTo>
                    <a:lnTo>
                      <a:pt x="1399" y="1077"/>
                    </a:lnTo>
                    <a:lnTo>
                      <a:pt x="1314" y="1070"/>
                    </a:lnTo>
                    <a:lnTo>
                      <a:pt x="1231" y="1063"/>
                    </a:lnTo>
                    <a:lnTo>
                      <a:pt x="1150" y="1053"/>
                    </a:lnTo>
                    <a:lnTo>
                      <a:pt x="1071" y="1044"/>
                    </a:lnTo>
                    <a:lnTo>
                      <a:pt x="993" y="1033"/>
                    </a:lnTo>
                    <a:lnTo>
                      <a:pt x="917" y="1021"/>
                    </a:lnTo>
                    <a:lnTo>
                      <a:pt x="844" y="1007"/>
                    </a:lnTo>
                    <a:lnTo>
                      <a:pt x="773" y="993"/>
                    </a:lnTo>
                    <a:lnTo>
                      <a:pt x="704" y="978"/>
                    </a:lnTo>
                    <a:lnTo>
                      <a:pt x="637" y="962"/>
                    </a:lnTo>
                    <a:lnTo>
                      <a:pt x="574" y="943"/>
                    </a:lnTo>
                    <a:lnTo>
                      <a:pt x="513" y="925"/>
                    </a:lnTo>
                    <a:lnTo>
                      <a:pt x="456" y="906"/>
                    </a:lnTo>
                    <a:lnTo>
                      <a:pt x="400" y="886"/>
                    </a:lnTo>
                    <a:lnTo>
                      <a:pt x="349" y="866"/>
                    </a:lnTo>
                    <a:lnTo>
                      <a:pt x="299" y="844"/>
                    </a:lnTo>
                    <a:lnTo>
                      <a:pt x="254" y="821"/>
                    </a:lnTo>
                    <a:lnTo>
                      <a:pt x="211" y="798"/>
                    </a:lnTo>
                    <a:lnTo>
                      <a:pt x="173" y="775"/>
                    </a:lnTo>
                    <a:lnTo>
                      <a:pt x="138" y="750"/>
                    </a:lnTo>
                    <a:lnTo>
                      <a:pt x="106" y="724"/>
                    </a:lnTo>
                    <a:lnTo>
                      <a:pt x="79" y="699"/>
                    </a:lnTo>
                    <a:lnTo>
                      <a:pt x="56" y="673"/>
                    </a:lnTo>
                    <a:lnTo>
                      <a:pt x="36" y="647"/>
                    </a:lnTo>
                    <a:lnTo>
                      <a:pt x="20" y="619"/>
                    </a:lnTo>
                    <a:lnTo>
                      <a:pt x="9" y="591"/>
                    </a:lnTo>
                    <a:lnTo>
                      <a:pt x="2" y="563"/>
                    </a:lnTo>
                    <a:lnTo>
                      <a:pt x="0" y="535"/>
                    </a:lnTo>
                    <a:lnTo>
                      <a:pt x="2" y="506"/>
                    </a:lnTo>
                    <a:lnTo>
                      <a:pt x="9" y="478"/>
                    </a:lnTo>
                    <a:lnTo>
                      <a:pt x="20" y="451"/>
                    </a:lnTo>
                    <a:lnTo>
                      <a:pt x="36" y="425"/>
                    </a:lnTo>
                    <a:lnTo>
                      <a:pt x="56" y="397"/>
                    </a:lnTo>
                    <a:lnTo>
                      <a:pt x="79" y="372"/>
                    </a:lnTo>
                    <a:lnTo>
                      <a:pt x="106" y="347"/>
                    </a:lnTo>
                    <a:lnTo>
                      <a:pt x="138" y="323"/>
                    </a:lnTo>
                    <a:lnTo>
                      <a:pt x="173" y="298"/>
                    </a:lnTo>
                    <a:lnTo>
                      <a:pt x="211" y="275"/>
                    </a:lnTo>
                    <a:lnTo>
                      <a:pt x="254" y="253"/>
                    </a:lnTo>
                    <a:lnTo>
                      <a:pt x="299" y="232"/>
                    </a:lnTo>
                    <a:lnTo>
                      <a:pt x="349" y="211"/>
                    </a:lnTo>
                    <a:lnTo>
                      <a:pt x="400" y="190"/>
                    </a:lnTo>
                    <a:lnTo>
                      <a:pt x="456" y="171"/>
                    </a:lnTo>
                    <a:lnTo>
                      <a:pt x="513" y="153"/>
                    </a:lnTo>
                    <a:lnTo>
                      <a:pt x="574" y="135"/>
                    </a:lnTo>
                    <a:lnTo>
                      <a:pt x="637" y="119"/>
                    </a:lnTo>
                    <a:lnTo>
                      <a:pt x="704" y="104"/>
                    </a:lnTo>
                    <a:lnTo>
                      <a:pt x="773" y="88"/>
                    </a:lnTo>
                    <a:lnTo>
                      <a:pt x="844" y="75"/>
                    </a:lnTo>
                    <a:lnTo>
                      <a:pt x="917" y="62"/>
                    </a:lnTo>
                    <a:lnTo>
                      <a:pt x="993" y="51"/>
                    </a:lnTo>
                    <a:lnTo>
                      <a:pt x="1071" y="40"/>
                    </a:lnTo>
                    <a:lnTo>
                      <a:pt x="1150" y="31"/>
                    </a:lnTo>
                    <a:lnTo>
                      <a:pt x="1231" y="23"/>
                    </a:lnTo>
                    <a:lnTo>
                      <a:pt x="1314" y="16"/>
                    </a:lnTo>
                    <a:lnTo>
                      <a:pt x="1399" y="10"/>
                    </a:lnTo>
                    <a:lnTo>
                      <a:pt x="1486" y="6"/>
                    </a:lnTo>
                    <a:lnTo>
                      <a:pt x="1574" y="3"/>
                    </a:lnTo>
                    <a:lnTo>
                      <a:pt x="1663" y="1"/>
                    </a:lnTo>
                    <a:lnTo>
                      <a:pt x="1752" y="0"/>
                    </a:lnTo>
                    <a:lnTo>
                      <a:pt x="1842" y="1"/>
                    </a:lnTo>
                    <a:lnTo>
                      <a:pt x="1931" y="3"/>
                    </a:lnTo>
                    <a:lnTo>
                      <a:pt x="2019" y="6"/>
                    </a:lnTo>
                    <a:lnTo>
                      <a:pt x="2106" y="10"/>
                    </a:lnTo>
                    <a:lnTo>
                      <a:pt x="2191" y="16"/>
                    </a:lnTo>
                    <a:lnTo>
                      <a:pt x="2274" y="23"/>
                    </a:lnTo>
                    <a:lnTo>
                      <a:pt x="2355" y="31"/>
                    </a:lnTo>
                    <a:lnTo>
                      <a:pt x="2434" y="40"/>
                    </a:lnTo>
                    <a:lnTo>
                      <a:pt x="2512" y="51"/>
                    </a:lnTo>
                    <a:lnTo>
                      <a:pt x="2588" y="62"/>
                    </a:lnTo>
                    <a:lnTo>
                      <a:pt x="2661" y="75"/>
                    </a:lnTo>
                    <a:lnTo>
                      <a:pt x="2732" y="88"/>
                    </a:lnTo>
                    <a:lnTo>
                      <a:pt x="2801" y="104"/>
                    </a:lnTo>
                    <a:lnTo>
                      <a:pt x="2867" y="119"/>
                    </a:lnTo>
                    <a:lnTo>
                      <a:pt x="2931" y="135"/>
                    </a:lnTo>
                    <a:lnTo>
                      <a:pt x="2992" y="153"/>
                    </a:lnTo>
                    <a:lnTo>
                      <a:pt x="3049" y="171"/>
                    </a:lnTo>
                    <a:lnTo>
                      <a:pt x="3105" y="190"/>
                    </a:lnTo>
                    <a:lnTo>
                      <a:pt x="3156" y="211"/>
                    </a:lnTo>
                    <a:lnTo>
                      <a:pt x="3206" y="232"/>
                    </a:lnTo>
                    <a:lnTo>
                      <a:pt x="3251" y="253"/>
                    </a:lnTo>
                    <a:lnTo>
                      <a:pt x="3294" y="275"/>
                    </a:lnTo>
                    <a:lnTo>
                      <a:pt x="3332" y="298"/>
                    </a:lnTo>
                    <a:lnTo>
                      <a:pt x="3367" y="323"/>
                    </a:lnTo>
                    <a:lnTo>
                      <a:pt x="3399" y="347"/>
                    </a:lnTo>
                    <a:lnTo>
                      <a:pt x="3426" y="372"/>
                    </a:lnTo>
                    <a:lnTo>
                      <a:pt x="3449" y="397"/>
                    </a:lnTo>
                    <a:lnTo>
                      <a:pt x="3469" y="425"/>
                    </a:lnTo>
                    <a:lnTo>
                      <a:pt x="3485" y="451"/>
                    </a:lnTo>
                    <a:lnTo>
                      <a:pt x="3496" y="478"/>
                    </a:lnTo>
                    <a:lnTo>
                      <a:pt x="3503" y="506"/>
                    </a:lnTo>
                    <a:lnTo>
                      <a:pt x="3505" y="5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955160" y="6493320"/>
                <a:ext cx="385560" cy="129960"/>
              </a:xfrm>
              <a:custGeom>
                <a:avLst/>
                <a:gdLst/>
                <a:ahLst/>
                <a:rect l="l" t="t" r="r" b="b"/>
                <a:pathLst>
                  <a:path w="3503" h="1086">
                    <a:moveTo>
                      <a:pt x="3503" y="534"/>
                    </a:moveTo>
                    <a:lnTo>
                      <a:pt x="3500" y="562"/>
                    </a:lnTo>
                    <a:lnTo>
                      <a:pt x="3494" y="590"/>
                    </a:lnTo>
                    <a:lnTo>
                      <a:pt x="3482" y="617"/>
                    </a:lnTo>
                    <a:lnTo>
                      <a:pt x="3466" y="645"/>
                    </a:lnTo>
                    <a:lnTo>
                      <a:pt x="3447" y="672"/>
                    </a:lnTo>
                    <a:lnTo>
                      <a:pt x="3424" y="698"/>
                    </a:lnTo>
                    <a:lnTo>
                      <a:pt x="3396" y="723"/>
                    </a:lnTo>
                    <a:lnTo>
                      <a:pt x="3364" y="749"/>
                    </a:lnTo>
                    <a:lnTo>
                      <a:pt x="3330" y="773"/>
                    </a:lnTo>
                    <a:lnTo>
                      <a:pt x="3291" y="797"/>
                    </a:lnTo>
                    <a:lnTo>
                      <a:pt x="3249" y="820"/>
                    </a:lnTo>
                    <a:lnTo>
                      <a:pt x="3204" y="843"/>
                    </a:lnTo>
                    <a:lnTo>
                      <a:pt x="3154" y="864"/>
                    </a:lnTo>
                    <a:lnTo>
                      <a:pt x="3103" y="885"/>
                    </a:lnTo>
                    <a:lnTo>
                      <a:pt x="3047" y="905"/>
                    </a:lnTo>
                    <a:lnTo>
                      <a:pt x="2990" y="924"/>
                    </a:lnTo>
                    <a:lnTo>
                      <a:pt x="2929" y="942"/>
                    </a:lnTo>
                    <a:lnTo>
                      <a:pt x="2865" y="960"/>
                    </a:lnTo>
                    <a:lnTo>
                      <a:pt x="2799" y="976"/>
                    </a:lnTo>
                    <a:lnTo>
                      <a:pt x="2730" y="991"/>
                    </a:lnTo>
                    <a:lnTo>
                      <a:pt x="2659" y="1006"/>
                    </a:lnTo>
                    <a:lnTo>
                      <a:pt x="2586" y="1019"/>
                    </a:lnTo>
                    <a:lnTo>
                      <a:pt x="2511" y="1031"/>
                    </a:lnTo>
                    <a:lnTo>
                      <a:pt x="2433" y="1042"/>
                    </a:lnTo>
                    <a:lnTo>
                      <a:pt x="2353" y="1052"/>
                    </a:lnTo>
                    <a:lnTo>
                      <a:pt x="2273" y="1061"/>
                    </a:lnTo>
                    <a:lnTo>
                      <a:pt x="2189" y="1069"/>
                    </a:lnTo>
                    <a:lnTo>
                      <a:pt x="2104" y="1075"/>
                    </a:lnTo>
                    <a:lnTo>
                      <a:pt x="2018" y="1079"/>
                    </a:lnTo>
                    <a:lnTo>
                      <a:pt x="1930" y="1083"/>
                    </a:lnTo>
                    <a:lnTo>
                      <a:pt x="1841" y="1085"/>
                    </a:lnTo>
                    <a:lnTo>
                      <a:pt x="1751" y="1086"/>
                    </a:lnTo>
                    <a:lnTo>
                      <a:pt x="1662" y="1085"/>
                    </a:lnTo>
                    <a:lnTo>
                      <a:pt x="1573" y="1083"/>
                    </a:lnTo>
                    <a:lnTo>
                      <a:pt x="1485" y="1079"/>
                    </a:lnTo>
                    <a:lnTo>
                      <a:pt x="1399" y="1075"/>
                    </a:lnTo>
                    <a:lnTo>
                      <a:pt x="1314" y="1069"/>
                    </a:lnTo>
                    <a:lnTo>
                      <a:pt x="1230" y="1061"/>
                    </a:lnTo>
                    <a:lnTo>
                      <a:pt x="1150" y="1052"/>
                    </a:lnTo>
                    <a:lnTo>
                      <a:pt x="1070" y="1042"/>
                    </a:lnTo>
                    <a:lnTo>
                      <a:pt x="992" y="1031"/>
                    </a:lnTo>
                    <a:lnTo>
                      <a:pt x="917" y="1019"/>
                    </a:lnTo>
                    <a:lnTo>
                      <a:pt x="844" y="1006"/>
                    </a:lnTo>
                    <a:lnTo>
                      <a:pt x="773" y="991"/>
                    </a:lnTo>
                    <a:lnTo>
                      <a:pt x="704" y="976"/>
                    </a:lnTo>
                    <a:lnTo>
                      <a:pt x="637" y="960"/>
                    </a:lnTo>
                    <a:lnTo>
                      <a:pt x="574" y="942"/>
                    </a:lnTo>
                    <a:lnTo>
                      <a:pt x="513" y="924"/>
                    </a:lnTo>
                    <a:lnTo>
                      <a:pt x="456" y="905"/>
                    </a:lnTo>
                    <a:lnTo>
                      <a:pt x="400" y="885"/>
                    </a:lnTo>
                    <a:lnTo>
                      <a:pt x="349" y="864"/>
                    </a:lnTo>
                    <a:lnTo>
                      <a:pt x="299" y="843"/>
                    </a:lnTo>
                    <a:lnTo>
                      <a:pt x="254" y="820"/>
                    </a:lnTo>
                    <a:lnTo>
                      <a:pt x="212" y="797"/>
                    </a:lnTo>
                    <a:lnTo>
                      <a:pt x="173" y="773"/>
                    </a:lnTo>
                    <a:lnTo>
                      <a:pt x="139" y="749"/>
                    </a:lnTo>
                    <a:lnTo>
                      <a:pt x="107" y="723"/>
                    </a:lnTo>
                    <a:lnTo>
                      <a:pt x="79" y="698"/>
                    </a:lnTo>
                    <a:lnTo>
                      <a:pt x="56" y="672"/>
                    </a:lnTo>
                    <a:lnTo>
                      <a:pt x="37" y="645"/>
                    </a:lnTo>
                    <a:lnTo>
                      <a:pt x="20" y="617"/>
                    </a:lnTo>
                    <a:lnTo>
                      <a:pt x="9" y="590"/>
                    </a:lnTo>
                    <a:lnTo>
                      <a:pt x="3" y="562"/>
                    </a:lnTo>
                    <a:lnTo>
                      <a:pt x="0" y="534"/>
                    </a:lnTo>
                    <a:lnTo>
                      <a:pt x="3" y="505"/>
                    </a:lnTo>
                    <a:lnTo>
                      <a:pt x="9" y="477"/>
                    </a:lnTo>
                    <a:lnTo>
                      <a:pt x="20" y="450"/>
                    </a:lnTo>
                    <a:lnTo>
                      <a:pt x="37" y="424"/>
                    </a:lnTo>
                    <a:lnTo>
                      <a:pt x="56" y="397"/>
                    </a:lnTo>
                    <a:lnTo>
                      <a:pt x="79" y="371"/>
                    </a:lnTo>
                    <a:lnTo>
                      <a:pt x="107" y="346"/>
                    </a:lnTo>
                    <a:lnTo>
                      <a:pt x="139" y="322"/>
                    </a:lnTo>
                    <a:lnTo>
                      <a:pt x="173" y="298"/>
                    </a:lnTo>
                    <a:lnTo>
                      <a:pt x="212" y="275"/>
                    </a:lnTo>
                    <a:lnTo>
                      <a:pt x="254" y="252"/>
                    </a:lnTo>
                    <a:lnTo>
                      <a:pt x="299" y="231"/>
                    </a:lnTo>
                    <a:lnTo>
                      <a:pt x="349" y="210"/>
                    </a:lnTo>
                    <a:lnTo>
                      <a:pt x="400" y="190"/>
                    </a:lnTo>
                    <a:lnTo>
                      <a:pt x="456" y="171"/>
                    </a:lnTo>
                    <a:lnTo>
                      <a:pt x="513" y="152"/>
                    </a:lnTo>
                    <a:lnTo>
                      <a:pt x="574" y="135"/>
                    </a:lnTo>
                    <a:lnTo>
                      <a:pt x="637" y="119"/>
                    </a:lnTo>
                    <a:lnTo>
                      <a:pt x="704" y="103"/>
                    </a:lnTo>
                    <a:lnTo>
                      <a:pt x="773" y="88"/>
                    </a:lnTo>
                    <a:lnTo>
                      <a:pt x="844" y="74"/>
                    </a:lnTo>
                    <a:lnTo>
                      <a:pt x="917" y="62"/>
                    </a:lnTo>
                    <a:lnTo>
                      <a:pt x="992" y="51"/>
                    </a:lnTo>
                    <a:lnTo>
                      <a:pt x="1070" y="40"/>
                    </a:lnTo>
                    <a:lnTo>
                      <a:pt x="1150" y="31"/>
                    </a:lnTo>
                    <a:lnTo>
                      <a:pt x="1230" y="23"/>
                    </a:lnTo>
                    <a:lnTo>
                      <a:pt x="1314" y="16"/>
                    </a:lnTo>
                    <a:lnTo>
                      <a:pt x="1399" y="10"/>
                    </a:lnTo>
                    <a:lnTo>
                      <a:pt x="1485" y="6"/>
                    </a:lnTo>
                    <a:lnTo>
                      <a:pt x="1573" y="3"/>
                    </a:lnTo>
                    <a:lnTo>
                      <a:pt x="1662" y="1"/>
                    </a:lnTo>
                    <a:lnTo>
                      <a:pt x="1751" y="0"/>
                    </a:lnTo>
                    <a:lnTo>
                      <a:pt x="1841" y="1"/>
                    </a:lnTo>
                    <a:lnTo>
                      <a:pt x="1930" y="3"/>
                    </a:lnTo>
                    <a:lnTo>
                      <a:pt x="2018" y="6"/>
                    </a:lnTo>
                    <a:lnTo>
                      <a:pt x="2104" y="10"/>
                    </a:lnTo>
                    <a:lnTo>
                      <a:pt x="2189" y="16"/>
                    </a:lnTo>
                    <a:lnTo>
                      <a:pt x="2273" y="23"/>
                    </a:lnTo>
                    <a:lnTo>
                      <a:pt x="2353" y="31"/>
                    </a:lnTo>
                    <a:lnTo>
                      <a:pt x="2433" y="40"/>
                    </a:lnTo>
                    <a:lnTo>
                      <a:pt x="2511" y="51"/>
                    </a:lnTo>
                    <a:lnTo>
                      <a:pt x="2586" y="62"/>
                    </a:lnTo>
                    <a:lnTo>
                      <a:pt x="2659" y="74"/>
                    </a:lnTo>
                    <a:lnTo>
                      <a:pt x="2730" y="88"/>
                    </a:lnTo>
                    <a:lnTo>
                      <a:pt x="2799" y="103"/>
                    </a:lnTo>
                    <a:lnTo>
                      <a:pt x="2865" y="119"/>
                    </a:lnTo>
                    <a:lnTo>
                      <a:pt x="2929" y="135"/>
                    </a:lnTo>
                    <a:lnTo>
                      <a:pt x="2990" y="152"/>
                    </a:lnTo>
                    <a:lnTo>
                      <a:pt x="3047" y="171"/>
                    </a:lnTo>
                    <a:lnTo>
                      <a:pt x="3103" y="190"/>
                    </a:lnTo>
                    <a:lnTo>
                      <a:pt x="3154" y="210"/>
                    </a:lnTo>
                    <a:lnTo>
                      <a:pt x="3204" y="231"/>
                    </a:lnTo>
                    <a:lnTo>
                      <a:pt x="3249" y="252"/>
                    </a:lnTo>
                    <a:lnTo>
                      <a:pt x="3291" y="275"/>
                    </a:lnTo>
                    <a:lnTo>
                      <a:pt x="3330" y="298"/>
                    </a:lnTo>
                    <a:lnTo>
                      <a:pt x="3364" y="322"/>
                    </a:lnTo>
                    <a:lnTo>
                      <a:pt x="3396" y="346"/>
                    </a:lnTo>
                    <a:lnTo>
                      <a:pt x="3424" y="371"/>
                    </a:lnTo>
                    <a:lnTo>
                      <a:pt x="3447" y="397"/>
                    </a:lnTo>
                    <a:lnTo>
                      <a:pt x="3466" y="424"/>
                    </a:lnTo>
                    <a:lnTo>
                      <a:pt x="3482" y="450"/>
                    </a:lnTo>
                    <a:lnTo>
                      <a:pt x="3494" y="477"/>
                    </a:lnTo>
                    <a:lnTo>
                      <a:pt x="3500" y="505"/>
                    </a:lnTo>
                    <a:lnTo>
                      <a:pt x="3503" y="5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955160" y="6494400"/>
                <a:ext cx="385560" cy="128520"/>
              </a:xfrm>
              <a:custGeom>
                <a:avLst/>
                <a:gdLst/>
                <a:ahLst/>
                <a:rect l="l" t="t" r="r" b="b"/>
                <a:pathLst>
                  <a:path w="3499" h="1084">
                    <a:moveTo>
                      <a:pt x="3499" y="533"/>
                    </a:moveTo>
                    <a:lnTo>
                      <a:pt x="3497" y="561"/>
                    </a:lnTo>
                    <a:lnTo>
                      <a:pt x="3490" y="589"/>
                    </a:lnTo>
                    <a:lnTo>
                      <a:pt x="3478" y="616"/>
                    </a:lnTo>
                    <a:lnTo>
                      <a:pt x="3463" y="644"/>
                    </a:lnTo>
                    <a:lnTo>
                      <a:pt x="3444" y="671"/>
                    </a:lnTo>
                    <a:lnTo>
                      <a:pt x="3420" y="696"/>
                    </a:lnTo>
                    <a:lnTo>
                      <a:pt x="3393" y="722"/>
                    </a:lnTo>
                    <a:lnTo>
                      <a:pt x="3361" y="748"/>
                    </a:lnTo>
                    <a:lnTo>
                      <a:pt x="3326" y="772"/>
                    </a:lnTo>
                    <a:lnTo>
                      <a:pt x="3288" y="795"/>
                    </a:lnTo>
                    <a:lnTo>
                      <a:pt x="3245" y="818"/>
                    </a:lnTo>
                    <a:lnTo>
                      <a:pt x="3200" y="841"/>
                    </a:lnTo>
                    <a:lnTo>
                      <a:pt x="3151" y="863"/>
                    </a:lnTo>
                    <a:lnTo>
                      <a:pt x="3100" y="883"/>
                    </a:lnTo>
                    <a:lnTo>
                      <a:pt x="3044" y="903"/>
                    </a:lnTo>
                    <a:lnTo>
                      <a:pt x="2987" y="922"/>
                    </a:lnTo>
                    <a:lnTo>
                      <a:pt x="2926" y="940"/>
                    </a:lnTo>
                    <a:lnTo>
                      <a:pt x="2862" y="958"/>
                    </a:lnTo>
                    <a:lnTo>
                      <a:pt x="2796" y="974"/>
                    </a:lnTo>
                    <a:lnTo>
                      <a:pt x="2728" y="990"/>
                    </a:lnTo>
                    <a:lnTo>
                      <a:pt x="2656" y="1004"/>
                    </a:lnTo>
                    <a:lnTo>
                      <a:pt x="2584" y="1017"/>
                    </a:lnTo>
                    <a:lnTo>
                      <a:pt x="2508" y="1029"/>
                    </a:lnTo>
                    <a:lnTo>
                      <a:pt x="2430" y="1040"/>
                    </a:lnTo>
                    <a:lnTo>
                      <a:pt x="2351" y="1050"/>
                    </a:lnTo>
                    <a:lnTo>
                      <a:pt x="2270" y="1059"/>
                    </a:lnTo>
                    <a:lnTo>
                      <a:pt x="2187" y="1067"/>
                    </a:lnTo>
                    <a:lnTo>
                      <a:pt x="2102" y="1073"/>
                    </a:lnTo>
                    <a:lnTo>
                      <a:pt x="2016" y="1078"/>
                    </a:lnTo>
                    <a:lnTo>
                      <a:pt x="1928" y="1081"/>
                    </a:lnTo>
                    <a:lnTo>
                      <a:pt x="1839" y="1083"/>
                    </a:lnTo>
                    <a:lnTo>
                      <a:pt x="1749" y="1084"/>
                    </a:lnTo>
                    <a:lnTo>
                      <a:pt x="1660" y="1083"/>
                    </a:lnTo>
                    <a:lnTo>
                      <a:pt x="1571" y="1081"/>
                    </a:lnTo>
                    <a:lnTo>
                      <a:pt x="1483" y="1078"/>
                    </a:lnTo>
                    <a:lnTo>
                      <a:pt x="1397" y="1073"/>
                    </a:lnTo>
                    <a:lnTo>
                      <a:pt x="1312" y="1067"/>
                    </a:lnTo>
                    <a:lnTo>
                      <a:pt x="1229" y="1059"/>
                    </a:lnTo>
                    <a:lnTo>
                      <a:pt x="1148" y="1050"/>
                    </a:lnTo>
                    <a:lnTo>
                      <a:pt x="1069" y="1040"/>
                    </a:lnTo>
                    <a:lnTo>
                      <a:pt x="991" y="1029"/>
                    </a:lnTo>
                    <a:lnTo>
                      <a:pt x="915" y="1017"/>
                    </a:lnTo>
                    <a:lnTo>
                      <a:pt x="843" y="1004"/>
                    </a:lnTo>
                    <a:lnTo>
                      <a:pt x="772" y="990"/>
                    </a:lnTo>
                    <a:lnTo>
                      <a:pt x="703" y="974"/>
                    </a:lnTo>
                    <a:lnTo>
                      <a:pt x="637" y="958"/>
                    </a:lnTo>
                    <a:lnTo>
                      <a:pt x="573" y="940"/>
                    </a:lnTo>
                    <a:lnTo>
                      <a:pt x="512" y="922"/>
                    </a:lnTo>
                    <a:lnTo>
                      <a:pt x="455" y="903"/>
                    </a:lnTo>
                    <a:lnTo>
                      <a:pt x="399" y="883"/>
                    </a:lnTo>
                    <a:lnTo>
                      <a:pt x="348" y="863"/>
                    </a:lnTo>
                    <a:lnTo>
                      <a:pt x="299" y="841"/>
                    </a:lnTo>
                    <a:lnTo>
                      <a:pt x="254" y="818"/>
                    </a:lnTo>
                    <a:lnTo>
                      <a:pt x="211" y="795"/>
                    </a:lnTo>
                    <a:lnTo>
                      <a:pt x="173" y="772"/>
                    </a:lnTo>
                    <a:lnTo>
                      <a:pt x="138" y="748"/>
                    </a:lnTo>
                    <a:lnTo>
                      <a:pt x="106" y="722"/>
                    </a:lnTo>
                    <a:lnTo>
                      <a:pt x="79" y="696"/>
                    </a:lnTo>
                    <a:lnTo>
                      <a:pt x="55" y="671"/>
                    </a:lnTo>
                    <a:lnTo>
                      <a:pt x="36" y="644"/>
                    </a:lnTo>
                    <a:lnTo>
                      <a:pt x="20" y="616"/>
                    </a:lnTo>
                    <a:lnTo>
                      <a:pt x="9" y="589"/>
                    </a:lnTo>
                    <a:lnTo>
                      <a:pt x="2" y="561"/>
                    </a:lnTo>
                    <a:lnTo>
                      <a:pt x="0" y="533"/>
                    </a:lnTo>
                    <a:lnTo>
                      <a:pt x="2" y="504"/>
                    </a:lnTo>
                    <a:lnTo>
                      <a:pt x="9" y="477"/>
                    </a:lnTo>
                    <a:lnTo>
                      <a:pt x="20" y="449"/>
                    </a:lnTo>
                    <a:lnTo>
                      <a:pt x="36" y="423"/>
                    </a:lnTo>
                    <a:lnTo>
                      <a:pt x="55" y="396"/>
                    </a:lnTo>
                    <a:lnTo>
                      <a:pt x="79" y="371"/>
                    </a:lnTo>
                    <a:lnTo>
                      <a:pt x="106" y="346"/>
                    </a:lnTo>
                    <a:lnTo>
                      <a:pt x="138" y="321"/>
                    </a:lnTo>
                    <a:lnTo>
                      <a:pt x="173" y="297"/>
                    </a:lnTo>
                    <a:lnTo>
                      <a:pt x="211" y="274"/>
                    </a:lnTo>
                    <a:lnTo>
                      <a:pt x="254" y="252"/>
                    </a:lnTo>
                    <a:lnTo>
                      <a:pt x="299" y="231"/>
                    </a:lnTo>
                    <a:lnTo>
                      <a:pt x="348" y="210"/>
                    </a:lnTo>
                    <a:lnTo>
                      <a:pt x="399" y="189"/>
                    </a:lnTo>
                    <a:lnTo>
                      <a:pt x="455" y="170"/>
                    </a:lnTo>
                    <a:lnTo>
                      <a:pt x="512" y="152"/>
                    </a:lnTo>
                    <a:lnTo>
                      <a:pt x="573" y="135"/>
                    </a:lnTo>
                    <a:lnTo>
                      <a:pt x="637" y="118"/>
                    </a:lnTo>
                    <a:lnTo>
                      <a:pt x="703" y="103"/>
                    </a:lnTo>
                    <a:lnTo>
                      <a:pt x="772" y="88"/>
                    </a:lnTo>
                    <a:lnTo>
                      <a:pt x="843" y="74"/>
                    </a:lnTo>
                    <a:lnTo>
                      <a:pt x="915" y="62"/>
                    </a:lnTo>
                    <a:lnTo>
                      <a:pt x="991" y="50"/>
                    </a:lnTo>
                    <a:lnTo>
                      <a:pt x="1069" y="40"/>
                    </a:lnTo>
                    <a:lnTo>
                      <a:pt x="1148" y="31"/>
                    </a:lnTo>
                    <a:lnTo>
                      <a:pt x="1229" y="23"/>
                    </a:lnTo>
                    <a:lnTo>
                      <a:pt x="1312" y="16"/>
                    </a:lnTo>
                    <a:lnTo>
                      <a:pt x="1397" y="10"/>
                    </a:lnTo>
                    <a:lnTo>
                      <a:pt x="1483" y="6"/>
                    </a:lnTo>
                    <a:lnTo>
                      <a:pt x="1571" y="3"/>
                    </a:lnTo>
                    <a:lnTo>
                      <a:pt x="1660" y="1"/>
                    </a:lnTo>
                    <a:lnTo>
                      <a:pt x="1749" y="0"/>
                    </a:lnTo>
                    <a:lnTo>
                      <a:pt x="1839" y="1"/>
                    </a:lnTo>
                    <a:lnTo>
                      <a:pt x="1928" y="3"/>
                    </a:lnTo>
                    <a:lnTo>
                      <a:pt x="2016" y="6"/>
                    </a:lnTo>
                    <a:lnTo>
                      <a:pt x="2102" y="10"/>
                    </a:lnTo>
                    <a:lnTo>
                      <a:pt x="2187" y="16"/>
                    </a:lnTo>
                    <a:lnTo>
                      <a:pt x="2270" y="23"/>
                    </a:lnTo>
                    <a:lnTo>
                      <a:pt x="2351" y="31"/>
                    </a:lnTo>
                    <a:lnTo>
                      <a:pt x="2430" y="40"/>
                    </a:lnTo>
                    <a:lnTo>
                      <a:pt x="2508" y="50"/>
                    </a:lnTo>
                    <a:lnTo>
                      <a:pt x="2584" y="62"/>
                    </a:lnTo>
                    <a:lnTo>
                      <a:pt x="2656" y="74"/>
                    </a:lnTo>
                    <a:lnTo>
                      <a:pt x="2728" y="88"/>
                    </a:lnTo>
                    <a:lnTo>
                      <a:pt x="2796" y="103"/>
                    </a:lnTo>
                    <a:lnTo>
                      <a:pt x="2862" y="118"/>
                    </a:lnTo>
                    <a:lnTo>
                      <a:pt x="2926" y="135"/>
                    </a:lnTo>
                    <a:lnTo>
                      <a:pt x="2987" y="152"/>
                    </a:lnTo>
                    <a:lnTo>
                      <a:pt x="3044" y="170"/>
                    </a:lnTo>
                    <a:lnTo>
                      <a:pt x="3100" y="189"/>
                    </a:lnTo>
                    <a:lnTo>
                      <a:pt x="3151" y="210"/>
                    </a:lnTo>
                    <a:lnTo>
                      <a:pt x="3200" y="231"/>
                    </a:lnTo>
                    <a:lnTo>
                      <a:pt x="3245" y="252"/>
                    </a:lnTo>
                    <a:lnTo>
                      <a:pt x="3288" y="274"/>
                    </a:lnTo>
                    <a:lnTo>
                      <a:pt x="3326" y="297"/>
                    </a:lnTo>
                    <a:lnTo>
                      <a:pt x="3361" y="321"/>
                    </a:lnTo>
                    <a:lnTo>
                      <a:pt x="3393" y="346"/>
                    </a:lnTo>
                    <a:lnTo>
                      <a:pt x="3420" y="371"/>
                    </a:lnTo>
                    <a:lnTo>
                      <a:pt x="3444" y="396"/>
                    </a:lnTo>
                    <a:lnTo>
                      <a:pt x="3463" y="423"/>
                    </a:lnTo>
                    <a:lnTo>
                      <a:pt x="3478" y="449"/>
                    </a:lnTo>
                    <a:lnTo>
                      <a:pt x="3490" y="477"/>
                    </a:lnTo>
                    <a:lnTo>
                      <a:pt x="3497" y="504"/>
                    </a:lnTo>
                    <a:lnTo>
                      <a:pt x="3499" y="5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955160" y="6494400"/>
                <a:ext cx="385560" cy="128520"/>
              </a:xfrm>
              <a:custGeom>
                <a:avLst/>
                <a:gdLst/>
                <a:ahLst/>
                <a:rect l="l" t="t" r="r" b="b"/>
                <a:pathLst>
                  <a:path w="3497" h="1082">
                    <a:moveTo>
                      <a:pt x="3497" y="532"/>
                    </a:moveTo>
                    <a:lnTo>
                      <a:pt x="3495" y="560"/>
                    </a:lnTo>
                    <a:lnTo>
                      <a:pt x="3488" y="588"/>
                    </a:lnTo>
                    <a:lnTo>
                      <a:pt x="3476" y="615"/>
                    </a:lnTo>
                    <a:lnTo>
                      <a:pt x="3461" y="643"/>
                    </a:lnTo>
                    <a:lnTo>
                      <a:pt x="3441" y="669"/>
                    </a:lnTo>
                    <a:lnTo>
                      <a:pt x="3418" y="695"/>
                    </a:lnTo>
                    <a:lnTo>
                      <a:pt x="3391" y="720"/>
                    </a:lnTo>
                    <a:lnTo>
                      <a:pt x="3359" y="746"/>
                    </a:lnTo>
                    <a:lnTo>
                      <a:pt x="3324" y="770"/>
                    </a:lnTo>
                    <a:lnTo>
                      <a:pt x="3286" y="794"/>
                    </a:lnTo>
                    <a:lnTo>
                      <a:pt x="3243" y="817"/>
                    </a:lnTo>
                    <a:lnTo>
                      <a:pt x="3198" y="840"/>
                    </a:lnTo>
                    <a:lnTo>
                      <a:pt x="3149" y="861"/>
                    </a:lnTo>
                    <a:lnTo>
                      <a:pt x="3098" y="882"/>
                    </a:lnTo>
                    <a:lnTo>
                      <a:pt x="3042" y="901"/>
                    </a:lnTo>
                    <a:lnTo>
                      <a:pt x="2985" y="920"/>
                    </a:lnTo>
                    <a:lnTo>
                      <a:pt x="2924" y="938"/>
                    </a:lnTo>
                    <a:lnTo>
                      <a:pt x="2860" y="957"/>
                    </a:lnTo>
                    <a:lnTo>
                      <a:pt x="2795" y="973"/>
                    </a:lnTo>
                    <a:lnTo>
                      <a:pt x="2726" y="988"/>
                    </a:lnTo>
                    <a:lnTo>
                      <a:pt x="2655" y="1002"/>
                    </a:lnTo>
                    <a:lnTo>
                      <a:pt x="2582" y="1015"/>
                    </a:lnTo>
                    <a:lnTo>
                      <a:pt x="2506" y="1027"/>
                    </a:lnTo>
                    <a:lnTo>
                      <a:pt x="2429" y="1038"/>
                    </a:lnTo>
                    <a:lnTo>
                      <a:pt x="2349" y="1048"/>
                    </a:lnTo>
                    <a:lnTo>
                      <a:pt x="2269" y="1057"/>
                    </a:lnTo>
                    <a:lnTo>
                      <a:pt x="2186" y="1065"/>
                    </a:lnTo>
                    <a:lnTo>
                      <a:pt x="2101" y="1071"/>
                    </a:lnTo>
                    <a:lnTo>
                      <a:pt x="2015" y="1076"/>
                    </a:lnTo>
                    <a:lnTo>
                      <a:pt x="1927" y="1079"/>
                    </a:lnTo>
                    <a:lnTo>
                      <a:pt x="1838" y="1081"/>
                    </a:lnTo>
                    <a:lnTo>
                      <a:pt x="1748" y="1082"/>
                    </a:lnTo>
                    <a:lnTo>
                      <a:pt x="1659" y="1081"/>
                    </a:lnTo>
                    <a:lnTo>
                      <a:pt x="1570" y="1079"/>
                    </a:lnTo>
                    <a:lnTo>
                      <a:pt x="1482" y="1076"/>
                    </a:lnTo>
                    <a:lnTo>
                      <a:pt x="1396" y="1071"/>
                    </a:lnTo>
                    <a:lnTo>
                      <a:pt x="1311" y="1065"/>
                    </a:lnTo>
                    <a:lnTo>
                      <a:pt x="1228" y="1057"/>
                    </a:lnTo>
                    <a:lnTo>
                      <a:pt x="1148" y="1048"/>
                    </a:lnTo>
                    <a:lnTo>
                      <a:pt x="1068" y="1038"/>
                    </a:lnTo>
                    <a:lnTo>
                      <a:pt x="991" y="1027"/>
                    </a:lnTo>
                    <a:lnTo>
                      <a:pt x="915" y="1015"/>
                    </a:lnTo>
                    <a:lnTo>
                      <a:pt x="843" y="1002"/>
                    </a:lnTo>
                    <a:lnTo>
                      <a:pt x="771" y="988"/>
                    </a:lnTo>
                    <a:lnTo>
                      <a:pt x="702" y="973"/>
                    </a:lnTo>
                    <a:lnTo>
                      <a:pt x="637" y="957"/>
                    </a:lnTo>
                    <a:lnTo>
                      <a:pt x="573" y="938"/>
                    </a:lnTo>
                    <a:lnTo>
                      <a:pt x="512" y="920"/>
                    </a:lnTo>
                    <a:lnTo>
                      <a:pt x="455" y="901"/>
                    </a:lnTo>
                    <a:lnTo>
                      <a:pt x="399" y="882"/>
                    </a:lnTo>
                    <a:lnTo>
                      <a:pt x="348" y="861"/>
                    </a:lnTo>
                    <a:lnTo>
                      <a:pt x="299" y="840"/>
                    </a:lnTo>
                    <a:lnTo>
                      <a:pt x="254" y="817"/>
                    </a:lnTo>
                    <a:lnTo>
                      <a:pt x="211" y="794"/>
                    </a:lnTo>
                    <a:lnTo>
                      <a:pt x="173" y="770"/>
                    </a:lnTo>
                    <a:lnTo>
                      <a:pt x="138" y="746"/>
                    </a:lnTo>
                    <a:lnTo>
                      <a:pt x="106" y="720"/>
                    </a:lnTo>
                    <a:lnTo>
                      <a:pt x="79" y="695"/>
                    </a:lnTo>
                    <a:lnTo>
                      <a:pt x="56" y="669"/>
                    </a:lnTo>
                    <a:lnTo>
                      <a:pt x="36" y="643"/>
                    </a:lnTo>
                    <a:lnTo>
                      <a:pt x="20" y="615"/>
                    </a:lnTo>
                    <a:lnTo>
                      <a:pt x="9" y="588"/>
                    </a:lnTo>
                    <a:lnTo>
                      <a:pt x="3" y="560"/>
                    </a:lnTo>
                    <a:lnTo>
                      <a:pt x="0" y="532"/>
                    </a:lnTo>
                    <a:lnTo>
                      <a:pt x="3" y="503"/>
                    </a:lnTo>
                    <a:lnTo>
                      <a:pt x="9" y="476"/>
                    </a:lnTo>
                    <a:lnTo>
                      <a:pt x="20" y="449"/>
                    </a:lnTo>
                    <a:lnTo>
                      <a:pt x="36" y="422"/>
                    </a:lnTo>
                    <a:lnTo>
                      <a:pt x="56" y="395"/>
                    </a:lnTo>
                    <a:lnTo>
                      <a:pt x="79" y="370"/>
                    </a:lnTo>
                    <a:lnTo>
                      <a:pt x="106" y="345"/>
                    </a:lnTo>
                    <a:lnTo>
                      <a:pt x="138" y="321"/>
                    </a:lnTo>
                    <a:lnTo>
                      <a:pt x="173" y="296"/>
                    </a:lnTo>
                    <a:lnTo>
                      <a:pt x="211" y="274"/>
                    </a:lnTo>
                    <a:lnTo>
                      <a:pt x="254" y="251"/>
                    </a:lnTo>
                    <a:lnTo>
                      <a:pt x="299" y="230"/>
                    </a:lnTo>
                    <a:lnTo>
                      <a:pt x="348" y="210"/>
                    </a:lnTo>
                    <a:lnTo>
                      <a:pt x="399" y="189"/>
                    </a:lnTo>
                    <a:lnTo>
                      <a:pt x="455" y="170"/>
                    </a:lnTo>
                    <a:lnTo>
                      <a:pt x="512" y="152"/>
                    </a:lnTo>
                    <a:lnTo>
                      <a:pt x="573" y="134"/>
                    </a:lnTo>
                    <a:lnTo>
                      <a:pt x="637" y="118"/>
                    </a:lnTo>
                    <a:lnTo>
                      <a:pt x="702" y="103"/>
                    </a:lnTo>
                    <a:lnTo>
                      <a:pt x="771" y="87"/>
                    </a:lnTo>
                    <a:lnTo>
                      <a:pt x="843" y="74"/>
                    </a:lnTo>
                    <a:lnTo>
                      <a:pt x="915" y="62"/>
                    </a:lnTo>
                    <a:lnTo>
                      <a:pt x="991" y="50"/>
                    </a:lnTo>
                    <a:lnTo>
                      <a:pt x="1068" y="40"/>
                    </a:lnTo>
                    <a:lnTo>
                      <a:pt x="1148" y="31"/>
                    </a:lnTo>
                    <a:lnTo>
                      <a:pt x="1228" y="23"/>
                    </a:lnTo>
                    <a:lnTo>
                      <a:pt x="1311" y="16"/>
                    </a:lnTo>
                    <a:lnTo>
                      <a:pt x="1396" y="10"/>
                    </a:lnTo>
                    <a:lnTo>
                      <a:pt x="1482" y="6"/>
                    </a:lnTo>
                    <a:lnTo>
                      <a:pt x="1570" y="2"/>
                    </a:lnTo>
                    <a:lnTo>
                      <a:pt x="1659" y="0"/>
                    </a:lnTo>
                    <a:lnTo>
                      <a:pt x="1748" y="0"/>
                    </a:lnTo>
                    <a:lnTo>
                      <a:pt x="1838" y="0"/>
                    </a:lnTo>
                    <a:lnTo>
                      <a:pt x="1927" y="2"/>
                    </a:lnTo>
                    <a:lnTo>
                      <a:pt x="2015" y="6"/>
                    </a:lnTo>
                    <a:lnTo>
                      <a:pt x="2101" y="10"/>
                    </a:lnTo>
                    <a:lnTo>
                      <a:pt x="2186" y="16"/>
                    </a:lnTo>
                    <a:lnTo>
                      <a:pt x="2269" y="23"/>
                    </a:lnTo>
                    <a:lnTo>
                      <a:pt x="2349" y="31"/>
                    </a:lnTo>
                    <a:lnTo>
                      <a:pt x="2429" y="40"/>
                    </a:lnTo>
                    <a:lnTo>
                      <a:pt x="2506" y="50"/>
                    </a:lnTo>
                    <a:lnTo>
                      <a:pt x="2582" y="62"/>
                    </a:lnTo>
                    <a:lnTo>
                      <a:pt x="2655" y="74"/>
                    </a:lnTo>
                    <a:lnTo>
                      <a:pt x="2726" y="87"/>
                    </a:lnTo>
                    <a:lnTo>
                      <a:pt x="2795" y="103"/>
                    </a:lnTo>
                    <a:lnTo>
                      <a:pt x="2860" y="118"/>
                    </a:lnTo>
                    <a:lnTo>
                      <a:pt x="2924" y="134"/>
                    </a:lnTo>
                    <a:lnTo>
                      <a:pt x="2985" y="152"/>
                    </a:lnTo>
                    <a:lnTo>
                      <a:pt x="3042" y="170"/>
                    </a:lnTo>
                    <a:lnTo>
                      <a:pt x="3098" y="189"/>
                    </a:lnTo>
                    <a:lnTo>
                      <a:pt x="3149" y="210"/>
                    </a:lnTo>
                    <a:lnTo>
                      <a:pt x="3198" y="230"/>
                    </a:lnTo>
                    <a:lnTo>
                      <a:pt x="3243" y="251"/>
                    </a:lnTo>
                    <a:lnTo>
                      <a:pt x="3286" y="274"/>
                    </a:lnTo>
                    <a:lnTo>
                      <a:pt x="3324" y="296"/>
                    </a:lnTo>
                    <a:lnTo>
                      <a:pt x="3359" y="321"/>
                    </a:lnTo>
                    <a:lnTo>
                      <a:pt x="3391" y="345"/>
                    </a:lnTo>
                    <a:lnTo>
                      <a:pt x="3418" y="370"/>
                    </a:lnTo>
                    <a:lnTo>
                      <a:pt x="3441" y="395"/>
                    </a:lnTo>
                    <a:lnTo>
                      <a:pt x="3461" y="422"/>
                    </a:lnTo>
                    <a:lnTo>
                      <a:pt x="3476" y="449"/>
                    </a:lnTo>
                    <a:lnTo>
                      <a:pt x="3488" y="476"/>
                    </a:lnTo>
                    <a:lnTo>
                      <a:pt x="3495" y="503"/>
                    </a:lnTo>
                    <a:lnTo>
                      <a:pt x="3497" y="5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955160" y="6494400"/>
                <a:ext cx="385560" cy="128520"/>
              </a:xfrm>
              <a:custGeom>
                <a:avLst/>
                <a:gdLst/>
                <a:ahLst/>
                <a:rect l="l" t="t" r="r" b="b"/>
                <a:pathLst>
                  <a:path w="3493" h="1080">
                    <a:moveTo>
                      <a:pt x="3493" y="531"/>
                    </a:moveTo>
                    <a:lnTo>
                      <a:pt x="3491" y="559"/>
                    </a:lnTo>
                    <a:lnTo>
                      <a:pt x="3485" y="587"/>
                    </a:lnTo>
                    <a:lnTo>
                      <a:pt x="3472" y="614"/>
                    </a:lnTo>
                    <a:lnTo>
                      <a:pt x="3457" y="642"/>
                    </a:lnTo>
                    <a:lnTo>
                      <a:pt x="3438" y="668"/>
                    </a:lnTo>
                    <a:lnTo>
                      <a:pt x="3415" y="694"/>
                    </a:lnTo>
                    <a:lnTo>
                      <a:pt x="3387" y="719"/>
                    </a:lnTo>
                    <a:lnTo>
                      <a:pt x="3356" y="745"/>
                    </a:lnTo>
                    <a:lnTo>
                      <a:pt x="3321" y="769"/>
                    </a:lnTo>
                    <a:lnTo>
                      <a:pt x="3283" y="792"/>
                    </a:lnTo>
                    <a:lnTo>
                      <a:pt x="3240" y="815"/>
                    </a:lnTo>
                    <a:lnTo>
                      <a:pt x="3195" y="838"/>
                    </a:lnTo>
                    <a:lnTo>
                      <a:pt x="3146" y="860"/>
                    </a:lnTo>
                    <a:lnTo>
                      <a:pt x="3094" y="880"/>
                    </a:lnTo>
                    <a:lnTo>
                      <a:pt x="3039" y="900"/>
                    </a:lnTo>
                    <a:lnTo>
                      <a:pt x="2982" y="919"/>
                    </a:lnTo>
                    <a:lnTo>
                      <a:pt x="2921" y="937"/>
                    </a:lnTo>
                    <a:lnTo>
                      <a:pt x="2857" y="955"/>
                    </a:lnTo>
                    <a:lnTo>
                      <a:pt x="2792" y="971"/>
                    </a:lnTo>
                    <a:lnTo>
                      <a:pt x="2723" y="986"/>
                    </a:lnTo>
                    <a:lnTo>
                      <a:pt x="2652" y="1000"/>
                    </a:lnTo>
                    <a:lnTo>
                      <a:pt x="2579" y="1013"/>
                    </a:lnTo>
                    <a:lnTo>
                      <a:pt x="2504" y="1025"/>
                    </a:lnTo>
                    <a:lnTo>
                      <a:pt x="2426" y="1036"/>
                    </a:lnTo>
                    <a:lnTo>
                      <a:pt x="2347" y="1046"/>
                    </a:lnTo>
                    <a:lnTo>
                      <a:pt x="2266" y="1056"/>
                    </a:lnTo>
                    <a:lnTo>
                      <a:pt x="2183" y="1063"/>
                    </a:lnTo>
                    <a:lnTo>
                      <a:pt x="2099" y="1069"/>
                    </a:lnTo>
                    <a:lnTo>
                      <a:pt x="2012" y="1074"/>
                    </a:lnTo>
                    <a:lnTo>
                      <a:pt x="1925" y="1077"/>
                    </a:lnTo>
                    <a:lnTo>
                      <a:pt x="1836" y="1079"/>
                    </a:lnTo>
                    <a:lnTo>
                      <a:pt x="1746" y="1080"/>
                    </a:lnTo>
                    <a:lnTo>
                      <a:pt x="1657" y="1079"/>
                    </a:lnTo>
                    <a:lnTo>
                      <a:pt x="1568" y="1077"/>
                    </a:lnTo>
                    <a:lnTo>
                      <a:pt x="1481" y="1074"/>
                    </a:lnTo>
                    <a:lnTo>
                      <a:pt x="1394" y="1069"/>
                    </a:lnTo>
                    <a:lnTo>
                      <a:pt x="1310" y="1063"/>
                    </a:lnTo>
                    <a:lnTo>
                      <a:pt x="1227" y="1056"/>
                    </a:lnTo>
                    <a:lnTo>
                      <a:pt x="1146" y="1046"/>
                    </a:lnTo>
                    <a:lnTo>
                      <a:pt x="1067" y="1036"/>
                    </a:lnTo>
                    <a:lnTo>
                      <a:pt x="989" y="1025"/>
                    </a:lnTo>
                    <a:lnTo>
                      <a:pt x="914" y="1013"/>
                    </a:lnTo>
                    <a:lnTo>
                      <a:pt x="841" y="1000"/>
                    </a:lnTo>
                    <a:lnTo>
                      <a:pt x="770" y="986"/>
                    </a:lnTo>
                    <a:lnTo>
                      <a:pt x="701" y="971"/>
                    </a:lnTo>
                    <a:lnTo>
                      <a:pt x="636" y="955"/>
                    </a:lnTo>
                    <a:lnTo>
                      <a:pt x="572" y="937"/>
                    </a:lnTo>
                    <a:lnTo>
                      <a:pt x="511" y="919"/>
                    </a:lnTo>
                    <a:lnTo>
                      <a:pt x="454" y="900"/>
                    </a:lnTo>
                    <a:lnTo>
                      <a:pt x="399" y="880"/>
                    </a:lnTo>
                    <a:lnTo>
                      <a:pt x="347" y="860"/>
                    </a:lnTo>
                    <a:lnTo>
                      <a:pt x="298" y="838"/>
                    </a:lnTo>
                    <a:lnTo>
                      <a:pt x="253" y="815"/>
                    </a:lnTo>
                    <a:lnTo>
                      <a:pt x="210" y="792"/>
                    </a:lnTo>
                    <a:lnTo>
                      <a:pt x="172" y="769"/>
                    </a:lnTo>
                    <a:lnTo>
                      <a:pt x="138" y="745"/>
                    </a:lnTo>
                    <a:lnTo>
                      <a:pt x="106" y="719"/>
                    </a:lnTo>
                    <a:lnTo>
                      <a:pt x="78" y="694"/>
                    </a:lnTo>
                    <a:lnTo>
                      <a:pt x="55" y="668"/>
                    </a:lnTo>
                    <a:lnTo>
                      <a:pt x="36" y="642"/>
                    </a:lnTo>
                    <a:lnTo>
                      <a:pt x="20" y="614"/>
                    </a:lnTo>
                    <a:lnTo>
                      <a:pt x="9" y="587"/>
                    </a:lnTo>
                    <a:lnTo>
                      <a:pt x="2" y="559"/>
                    </a:lnTo>
                    <a:lnTo>
                      <a:pt x="0" y="531"/>
                    </a:lnTo>
                    <a:lnTo>
                      <a:pt x="2" y="502"/>
                    </a:lnTo>
                    <a:lnTo>
                      <a:pt x="9" y="475"/>
                    </a:lnTo>
                    <a:lnTo>
                      <a:pt x="20" y="448"/>
                    </a:lnTo>
                    <a:lnTo>
                      <a:pt x="36" y="421"/>
                    </a:lnTo>
                    <a:lnTo>
                      <a:pt x="55" y="394"/>
                    </a:lnTo>
                    <a:lnTo>
                      <a:pt x="78" y="369"/>
                    </a:lnTo>
                    <a:lnTo>
                      <a:pt x="106" y="344"/>
                    </a:lnTo>
                    <a:lnTo>
                      <a:pt x="138" y="320"/>
                    </a:lnTo>
                    <a:lnTo>
                      <a:pt x="172" y="296"/>
                    </a:lnTo>
                    <a:lnTo>
                      <a:pt x="210" y="273"/>
                    </a:lnTo>
                    <a:lnTo>
                      <a:pt x="253" y="251"/>
                    </a:lnTo>
                    <a:lnTo>
                      <a:pt x="298" y="230"/>
                    </a:lnTo>
                    <a:lnTo>
                      <a:pt x="347" y="209"/>
                    </a:lnTo>
                    <a:lnTo>
                      <a:pt x="399" y="188"/>
                    </a:lnTo>
                    <a:lnTo>
                      <a:pt x="454" y="169"/>
                    </a:lnTo>
                    <a:lnTo>
                      <a:pt x="511" y="151"/>
                    </a:lnTo>
                    <a:lnTo>
                      <a:pt x="572" y="134"/>
                    </a:lnTo>
                    <a:lnTo>
                      <a:pt x="636" y="118"/>
                    </a:lnTo>
                    <a:lnTo>
                      <a:pt x="701" y="103"/>
                    </a:lnTo>
                    <a:lnTo>
                      <a:pt x="770" y="88"/>
                    </a:lnTo>
                    <a:lnTo>
                      <a:pt x="841" y="74"/>
                    </a:lnTo>
                    <a:lnTo>
                      <a:pt x="914" y="61"/>
                    </a:lnTo>
                    <a:lnTo>
                      <a:pt x="989" y="50"/>
                    </a:lnTo>
                    <a:lnTo>
                      <a:pt x="1067" y="40"/>
                    </a:lnTo>
                    <a:lnTo>
                      <a:pt x="1146" y="31"/>
                    </a:lnTo>
                    <a:lnTo>
                      <a:pt x="1227" y="23"/>
                    </a:lnTo>
                    <a:lnTo>
                      <a:pt x="1310" y="16"/>
                    </a:lnTo>
                    <a:lnTo>
                      <a:pt x="1394" y="10"/>
                    </a:lnTo>
                    <a:lnTo>
                      <a:pt x="1481" y="6"/>
                    </a:lnTo>
                    <a:lnTo>
                      <a:pt x="1568" y="2"/>
                    </a:lnTo>
                    <a:lnTo>
                      <a:pt x="1657" y="0"/>
                    </a:lnTo>
                    <a:lnTo>
                      <a:pt x="1746" y="0"/>
                    </a:lnTo>
                    <a:lnTo>
                      <a:pt x="1836" y="0"/>
                    </a:lnTo>
                    <a:lnTo>
                      <a:pt x="1925" y="2"/>
                    </a:lnTo>
                    <a:lnTo>
                      <a:pt x="2012" y="6"/>
                    </a:lnTo>
                    <a:lnTo>
                      <a:pt x="2099" y="10"/>
                    </a:lnTo>
                    <a:lnTo>
                      <a:pt x="2183" y="16"/>
                    </a:lnTo>
                    <a:lnTo>
                      <a:pt x="2266" y="23"/>
                    </a:lnTo>
                    <a:lnTo>
                      <a:pt x="2347" y="31"/>
                    </a:lnTo>
                    <a:lnTo>
                      <a:pt x="2426" y="40"/>
                    </a:lnTo>
                    <a:lnTo>
                      <a:pt x="2504" y="50"/>
                    </a:lnTo>
                    <a:lnTo>
                      <a:pt x="2579" y="61"/>
                    </a:lnTo>
                    <a:lnTo>
                      <a:pt x="2652" y="74"/>
                    </a:lnTo>
                    <a:lnTo>
                      <a:pt x="2723" y="88"/>
                    </a:lnTo>
                    <a:lnTo>
                      <a:pt x="2792" y="103"/>
                    </a:lnTo>
                    <a:lnTo>
                      <a:pt x="2857" y="118"/>
                    </a:lnTo>
                    <a:lnTo>
                      <a:pt x="2921" y="134"/>
                    </a:lnTo>
                    <a:lnTo>
                      <a:pt x="2982" y="151"/>
                    </a:lnTo>
                    <a:lnTo>
                      <a:pt x="3039" y="169"/>
                    </a:lnTo>
                    <a:lnTo>
                      <a:pt x="3094" y="188"/>
                    </a:lnTo>
                    <a:lnTo>
                      <a:pt x="3146" y="209"/>
                    </a:lnTo>
                    <a:lnTo>
                      <a:pt x="3195" y="230"/>
                    </a:lnTo>
                    <a:lnTo>
                      <a:pt x="3240" y="251"/>
                    </a:lnTo>
                    <a:lnTo>
                      <a:pt x="3283" y="273"/>
                    </a:lnTo>
                    <a:lnTo>
                      <a:pt x="3321" y="296"/>
                    </a:lnTo>
                    <a:lnTo>
                      <a:pt x="3356" y="320"/>
                    </a:lnTo>
                    <a:lnTo>
                      <a:pt x="3387" y="344"/>
                    </a:lnTo>
                    <a:lnTo>
                      <a:pt x="3415" y="369"/>
                    </a:lnTo>
                    <a:lnTo>
                      <a:pt x="3438" y="394"/>
                    </a:lnTo>
                    <a:lnTo>
                      <a:pt x="3457" y="421"/>
                    </a:lnTo>
                    <a:lnTo>
                      <a:pt x="3472" y="448"/>
                    </a:lnTo>
                    <a:lnTo>
                      <a:pt x="3485" y="475"/>
                    </a:lnTo>
                    <a:lnTo>
                      <a:pt x="3491" y="502"/>
                    </a:lnTo>
                    <a:lnTo>
                      <a:pt x="3493" y="5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955160" y="6494400"/>
                <a:ext cx="385560" cy="128520"/>
              </a:xfrm>
              <a:custGeom>
                <a:avLst/>
                <a:gdLst/>
                <a:ahLst/>
                <a:rect l="l" t="t" r="r" b="b"/>
                <a:pathLst>
                  <a:path w="3491" h="1078">
                    <a:moveTo>
                      <a:pt x="3491" y="530"/>
                    </a:moveTo>
                    <a:lnTo>
                      <a:pt x="3489" y="558"/>
                    </a:lnTo>
                    <a:lnTo>
                      <a:pt x="3482" y="586"/>
                    </a:lnTo>
                    <a:lnTo>
                      <a:pt x="3470" y="613"/>
                    </a:lnTo>
                    <a:lnTo>
                      <a:pt x="3455" y="641"/>
                    </a:lnTo>
                    <a:lnTo>
                      <a:pt x="3436" y="667"/>
                    </a:lnTo>
                    <a:lnTo>
                      <a:pt x="3412" y="693"/>
                    </a:lnTo>
                    <a:lnTo>
                      <a:pt x="3385" y="718"/>
                    </a:lnTo>
                    <a:lnTo>
                      <a:pt x="3353" y="743"/>
                    </a:lnTo>
                    <a:lnTo>
                      <a:pt x="3319" y="768"/>
                    </a:lnTo>
                    <a:lnTo>
                      <a:pt x="3280" y="791"/>
                    </a:lnTo>
                    <a:lnTo>
                      <a:pt x="3238" y="814"/>
                    </a:lnTo>
                    <a:lnTo>
                      <a:pt x="3193" y="837"/>
                    </a:lnTo>
                    <a:lnTo>
                      <a:pt x="3144" y="858"/>
                    </a:lnTo>
                    <a:lnTo>
                      <a:pt x="3092" y="879"/>
                    </a:lnTo>
                    <a:lnTo>
                      <a:pt x="3037" y="898"/>
                    </a:lnTo>
                    <a:lnTo>
                      <a:pt x="2980" y="917"/>
                    </a:lnTo>
                    <a:lnTo>
                      <a:pt x="2919" y="935"/>
                    </a:lnTo>
                    <a:lnTo>
                      <a:pt x="2855" y="953"/>
                    </a:lnTo>
                    <a:lnTo>
                      <a:pt x="2790" y="969"/>
                    </a:lnTo>
                    <a:lnTo>
                      <a:pt x="2721" y="984"/>
                    </a:lnTo>
                    <a:lnTo>
                      <a:pt x="2650" y="999"/>
                    </a:lnTo>
                    <a:lnTo>
                      <a:pt x="2578" y="1012"/>
                    </a:lnTo>
                    <a:lnTo>
                      <a:pt x="2502" y="1024"/>
                    </a:lnTo>
                    <a:lnTo>
                      <a:pt x="2425" y="1034"/>
                    </a:lnTo>
                    <a:lnTo>
                      <a:pt x="2345" y="1044"/>
                    </a:lnTo>
                    <a:lnTo>
                      <a:pt x="2265" y="1054"/>
                    </a:lnTo>
                    <a:lnTo>
                      <a:pt x="2182" y="1061"/>
                    </a:lnTo>
                    <a:lnTo>
                      <a:pt x="2097" y="1067"/>
                    </a:lnTo>
                    <a:lnTo>
                      <a:pt x="2011" y="1072"/>
                    </a:lnTo>
                    <a:lnTo>
                      <a:pt x="1924" y="1075"/>
                    </a:lnTo>
                    <a:lnTo>
                      <a:pt x="1835" y="1077"/>
                    </a:lnTo>
                    <a:lnTo>
                      <a:pt x="1745" y="1078"/>
                    </a:lnTo>
                    <a:lnTo>
                      <a:pt x="1656" y="1077"/>
                    </a:lnTo>
                    <a:lnTo>
                      <a:pt x="1567" y="1075"/>
                    </a:lnTo>
                    <a:lnTo>
                      <a:pt x="1480" y="1072"/>
                    </a:lnTo>
                    <a:lnTo>
                      <a:pt x="1394" y="1067"/>
                    </a:lnTo>
                    <a:lnTo>
                      <a:pt x="1309" y="1061"/>
                    </a:lnTo>
                    <a:lnTo>
                      <a:pt x="1226" y="1054"/>
                    </a:lnTo>
                    <a:lnTo>
                      <a:pt x="1146" y="1044"/>
                    </a:lnTo>
                    <a:lnTo>
                      <a:pt x="1066" y="1034"/>
                    </a:lnTo>
                    <a:lnTo>
                      <a:pt x="989" y="1024"/>
                    </a:lnTo>
                    <a:lnTo>
                      <a:pt x="913" y="1012"/>
                    </a:lnTo>
                    <a:lnTo>
                      <a:pt x="841" y="999"/>
                    </a:lnTo>
                    <a:lnTo>
                      <a:pt x="770" y="984"/>
                    </a:lnTo>
                    <a:lnTo>
                      <a:pt x="701" y="969"/>
                    </a:lnTo>
                    <a:lnTo>
                      <a:pt x="636" y="953"/>
                    </a:lnTo>
                    <a:lnTo>
                      <a:pt x="572" y="935"/>
                    </a:lnTo>
                    <a:lnTo>
                      <a:pt x="511" y="917"/>
                    </a:lnTo>
                    <a:lnTo>
                      <a:pt x="454" y="898"/>
                    </a:lnTo>
                    <a:lnTo>
                      <a:pt x="399" y="879"/>
                    </a:lnTo>
                    <a:lnTo>
                      <a:pt x="347" y="858"/>
                    </a:lnTo>
                    <a:lnTo>
                      <a:pt x="298" y="837"/>
                    </a:lnTo>
                    <a:lnTo>
                      <a:pt x="253" y="814"/>
                    </a:lnTo>
                    <a:lnTo>
                      <a:pt x="211" y="791"/>
                    </a:lnTo>
                    <a:lnTo>
                      <a:pt x="172" y="768"/>
                    </a:lnTo>
                    <a:lnTo>
                      <a:pt x="138" y="743"/>
                    </a:lnTo>
                    <a:lnTo>
                      <a:pt x="106" y="718"/>
                    </a:lnTo>
                    <a:lnTo>
                      <a:pt x="79" y="693"/>
                    </a:lnTo>
                    <a:lnTo>
                      <a:pt x="56" y="667"/>
                    </a:lnTo>
                    <a:lnTo>
                      <a:pt x="36" y="641"/>
                    </a:lnTo>
                    <a:lnTo>
                      <a:pt x="20" y="613"/>
                    </a:lnTo>
                    <a:lnTo>
                      <a:pt x="9" y="586"/>
                    </a:lnTo>
                    <a:lnTo>
                      <a:pt x="2" y="558"/>
                    </a:lnTo>
                    <a:lnTo>
                      <a:pt x="0" y="530"/>
                    </a:lnTo>
                    <a:lnTo>
                      <a:pt x="2" y="501"/>
                    </a:lnTo>
                    <a:lnTo>
                      <a:pt x="9" y="474"/>
                    </a:lnTo>
                    <a:lnTo>
                      <a:pt x="20" y="447"/>
                    </a:lnTo>
                    <a:lnTo>
                      <a:pt x="36" y="421"/>
                    </a:lnTo>
                    <a:lnTo>
                      <a:pt x="56" y="394"/>
                    </a:lnTo>
                    <a:lnTo>
                      <a:pt x="79" y="368"/>
                    </a:lnTo>
                    <a:lnTo>
                      <a:pt x="106" y="344"/>
                    </a:lnTo>
                    <a:lnTo>
                      <a:pt x="138" y="320"/>
                    </a:lnTo>
                    <a:lnTo>
                      <a:pt x="172" y="295"/>
                    </a:lnTo>
                    <a:lnTo>
                      <a:pt x="211" y="272"/>
                    </a:lnTo>
                    <a:lnTo>
                      <a:pt x="253" y="250"/>
                    </a:lnTo>
                    <a:lnTo>
                      <a:pt x="298" y="229"/>
                    </a:lnTo>
                    <a:lnTo>
                      <a:pt x="347" y="209"/>
                    </a:lnTo>
                    <a:lnTo>
                      <a:pt x="399" y="188"/>
                    </a:lnTo>
                    <a:lnTo>
                      <a:pt x="454" y="169"/>
                    </a:lnTo>
                    <a:lnTo>
                      <a:pt x="511" y="151"/>
                    </a:lnTo>
                    <a:lnTo>
                      <a:pt x="572" y="134"/>
                    </a:lnTo>
                    <a:lnTo>
                      <a:pt x="636" y="118"/>
                    </a:lnTo>
                    <a:lnTo>
                      <a:pt x="701" y="102"/>
                    </a:lnTo>
                    <a:lnTo>
                      <a:pt x="770" y="88"/>
                    </a:lnTo>
                    <a:lnTo>
                      <a:pt x="841" y="74"/>
                    </a:lnTo>
                    <a:lnTo>
                      <a:pt x="913" y="61"/>
                    </a:lnTo>
                    <a:lnTo>
                      <a:pt x="989" y="50"/>
                    </a:lnTo>
                    <a:lnTo>
                      <a:pt x="1066" y="40"/>
                    </a:lnTo>
                    <a:lnTo>
                      <a:pt x="1146" y="31"/>
                    </a:lnTo>
                    <a:lnTo>
                      <a:pt x="1226" y="23"/>
                    </a:lnTo>
                    <a:lnTo>
                      <a:pt x="1309" y="16"/>
                    </a:lnTo>
                    <a:lnTo>
                      <a:pt x="1394" y="10"/>
                    </a:lnTo>
                    <a:lnTo>
                      <a:pt x="1480" y="6"/>
                    </a:lnTo>
                    <a:lnTo>
                      <a:pt x="1567" y="2"/>
                    </a:lnTo>
                    <a:lnTo>
                      <a:pt x="1656" y="0"/>
                    </a:lnTo>
                    <a:lnTo>
                      <a:pt x="1745" y="0"/>
                    </a:lnTo>
                    <a:lnTo>
                      <a:pt x="1835" y="0"/>
                    </a:lnTo>
                    <a:lnTo>
                      <a:pt x="1924" y="2"/>
                    </a:lnTo>
                    <a:lnTo>
                      <a:pt x="2011" y="6"/>
                    </a:lnTo>
                    <a:lnTo>
                      <a:pt x="2097" y="10"/>
                    </a:lnTo>
                    <a:lnTo>
                      <a:pt x="2182" y="16"/>
                    </a:lnTo>
                    <a:lnTo>
                      <a:pt x="2265" y="23"/>
                    </a:lnTo>
                    <a:lnTo>
                      <a:pt x="2345" y="31"/>
                    </a:lnTo>
                    <a:lnTo>
                      <a:pt x="2425" y="40"/>
                    </a:lnTo>
                    <a:lnTo>
                      <a:pt x="2502" y="50"/>
                    </a:lnTo>
                    <a:lnTo>
                      <a:pt x="2578" y="61"/>
                    </a:lnTo>
                    <a:lnTo>
                      <a:pt x="2650" y="74"/>
                    </a:lnTo>
                    <a:lnTo>
                      <a:pt x="2721" y="88"/>
                    </a:lnTo>
                    <a:lnTo>
                      <a:pt x="2790" y="102"/>
                    </a:lnTo>
                    <a:lnTo>
                      <a:pt x="2855" y="118"/>
                    </a:lnTo>
                    <a:lnTo>
                      <a:pt x="2919" y="134"/>
                    </a:lnTo>
                    <a:lnTo>
                      <a:pt x="2980" y="151"/>
                    </a:lnTo>
                    <a:lnTo>
                      <a:pt x="3037" y="169"/>
                    </a:lnTo>
                    <a:lnTo>
                      <a:pt x="3092" y="188"/>
                    </a:lnTo>
                    <a:lnTo>
                      <a:pt x="3144" y="209"/>
                    </a:lnTo>
                    <a:lnTo>
                      <a:pt x="3193" y="229"/>
                    </a:lnTo>
                    <a:lnTo>
                      <a:pt x="3238" y="250"/>
                    </a:lnTo>
                    <a:lnTo>
                      <a:pt x="3280" y="272"/>
                    </a:lnTo>
                    <a:lnTo>
                      <a:pt x="3319" y="295"/>
                    </a:lnTo>
                    <a:lnTo>
                      <a:pt x="3353" y="320"/>
                    </a:lnTo>
                    <a:lnTo>
                      <a:pt x="3385" y="344"/>
                    </a:lnTo>
                    <a:lnTo>
                      <a:pt x="3412" y="368"/>
                    </a:lnTo>
                    <a:lnTo>
                      <a:pt x="3436" y="394"/>
                    </a:lnTo>
                    <a:lnTo>
                      <a:pt x="3455" y="421"/>
                    </a:lnTo>
                    <a:lnTo>
                      <a:pt x="3470" y="447"/>
                    </a:lnTo>
                    <a:lnTo>
                      <a:pt x="3482" y="474"/>
                    </a:lnTo>
                    <a:lnTo>
                      <a:pt x="3489" y="501"/>
                    </a:lnTo>
                    <a:lnTo>
                      <a:pt x="3491" y="5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955160" y="6494400"/>
                <a:ext cx="385560" cy="128520"/>
              </a:xfrm>
              <a:custGeom>
                <a:avLst/>
                <a:gdLst/>
                <a:ahLst/>
                <a:rect l="l" t="t" r="r" b="b"/>
                <a:pathLst>
                  <a:path w="3488" h="1076">
                    <a:moveTo>
                      <a:pt x="3488" y="529"/>
                    </a:moveTo>
                    <a:lnTo>
                      <a:pt x="3485" y="557"/>
                    </a:lnTo>
                    <a:lnTo>
                      <a:pt x="3479" y="585"/>
                    </a:lnTo>
                    <a:lnTo>
                      <a:pt x="3467" y="612"/>
                    </a:lnTo>
                    <a:lnTo>
                      <a:pt x="3451" y="639"/>
                    </a:lnTo>
                    <a:lnTo>
                      <a:pt x="3432" y="666"/>
                    </a:lnTo>
                    <a:lnTo>
                      <a:pt x="3409" y="691"/>
                    </a:lnTo>
                    <a:lnTo>
                      <a:pt x="3382" y="717"/>
                    </a:lnTo>
                    <a:lnTo>
                      <a:pt x="3350" y="742"/>
                    </a:lnTo>
                    <a:lnTo>
                      <a:pt x="3315" y="766"/>
                    </a:lnTo>
                    <a:lnTo>
                      <a:pt x="3277" y="790"/>
                    </a:lnTo>
                    <a:lnTo>
                      <a:pt x="3235" y="812"/>
                    </a:lnTo>
                    <a:lnTo>
                      <a:pt x="3190" y="835"/>
                    </a:lnTo>
                    <a:lnTo>
                      <a:pt x="3141" y="856"/>
                    </a:lnTo>
                    <a:lnTo>
                      <a:pt x="3089" y="877"/>
                    </a:lnTo>
                    <a:lnTo>
                      <a:pt x="3034" y="897"/>
                    </a:lnTo>
                    <a:lnTo>
                      <a:pt x="2977" y="915"/>
                    </a:lnTo>
                    <a:lnTo>
                      <a:pt x="2916" y="933"/>
                    </a:lnTo>
                    <a:lnTo>
                      <a:pt x="2852" y="951"/>
                    </a:lnTo>
                    <a:lnTo>
                      <a:pt x="2787" y="968"/>
                    </a:lnTo>
                    <a:lnTo>
                      <a:pt x="2718" y="983"/>
                    </a:lnTo>
                    <a:lnTo>
                      <a:pt x="2647" y="997"/>
                    </a:lnTo>
                    <a:lnTo>
                      <a:pt x="2575" y="1010"/>
                    </a:lnTo>
                    <a:lnTo>
                      <a:pt x="2500" y="1022"/>
                    </a:lnTo>
                    <a:lnTo>
                      <a:pt x="2422" y="1033"/>
                    </a:lnTo>
                    <a:lnTo>
                      <a:pt x="2343" y="1042"/>
                    </a:lnTo>
                    <a:lnTo>
                      <a:pt x="2262" y="1052"/>
                    </a:lnTo>
                    <a:lnTo>
                      <a:pt x="2180" y="1059"/>
                    </a:lnTo>
                    <a:lnTo>
                      <a:pt x="2095" y="1065"/>
                    </a:lnTo>
                    <a:lnTo>
                      <a:pt x="2009" y="1070"/>
                    </a:lnTo>
                    <a:lnTo>
                      <a:pt x="1922" y="1073"/>
                    </a:lnTo>
                    <a:lnTo>
                      <a:pt x="1833" y="1075"/>
                    </a:lnTo>
                    <a:lnTo>
                      <a:pt x="1743" y="1076"/>
                    </a:lnTo>
                    <a:lnTo>
                      <a:pt x="1654" y="1075"/>
                    </a:lnTo>
                    <a:lnTo>
                      <a:pt x="1566" y="1073"/>
                    </a:lnTo>
                    <a:lnTo>
                      <a:pt x="1478" y="1070"/>
                    </a:lnTo>
                    <a:lnTo>
                      <a:pt x="1392" y="1065"/>
                    </a:lnTo>
                    <a:lnTo>
                      <a:pt x="1308" y="1059"/>
                    </a:lnTo>
                    <a:lnTo>
                      <a:pt x="1225" y="1052"/>
                    </a:lnTo>
                    <a:lnTo>
                      <a:pt x="1144" y="1042"/>
                    </a:lnTo>
                    <a:lnTo>
                      <a:pt x="1065" y="1033"/>
                    </a:lnTo>
                    <a:lnTo>
                      <a:pt x="988" y="1022"/>
                    </a:lnTo>
                    <a:lnTo>
                      <a:pt x="912" y="1010"/>
                    </a:lnTo>
                    <a:lnTo>
                      <a:pt x="840" y="997"/>
                    </a:lnTo>
                    <a:lnTo>
                      <a:pt x="769" y="983"/>
                    </a:lnTo>
                    <a:lnTo>
                      <a:pt x="700" y="968"/>
                    </a:lnTo>
                    <a:lnTo>
                      <a:pt x="635" y="951"/>
                    </a:lnTo>
                    <a:lnTo>
                      <a:pt x="571" y="933"/>
                    </a:lnTo>
                    <a:lnTo>
                      <a:pt x="510" y="915"/>
                    </a:lnTo>
                    <a:lnTo>
                      <a:pt x="453" y="897"/>
                    </a:lnTo>
                    <a:lnTo>
                      <a:pt x="398" y="877"/>
                    </a:lnTo>
                    <a:lnTo>
                      <a:pt x="347" y="856"/>
                    </a:lnTo>
                    <a:lnTo>
                      <a:pt x="297" y="835"/>
                    </a:lnTo>
                    <a:lnTo>
                      <a:pt x="252" y="812"/>
                    </a:lnTo>
                    <a:lnTo>
                      <a:pt x="210" y="790"/>
                    </a:lnTo>
                    <a:lnTo>
                      <a:pt x="172" y="766"/>
                    </a:lnTo>
                    <a:lnTo>
                      <a:pt x="137" y="742"/>
                    </a:lnTo>
                    <a:lnTo>
                      <a:pt x="105" y="717"/>
                    </a:lnTo>
                    <a:lnTo>
                      <a:pt x="78" y="691"/>
                    </a:lnTo>
                    <a:lnTo>
                      <a:pt x="55" y="666"/>
                    </a:lnTo>
                    <a:lnTo>
                      <a:pt x="36" y="639"/>
                    </a:lnTo>
                    <a:lnTo>
                      <a:pt x="19" y="612"/>
                    </a:lnTo>
                    <a:lnTo>
                      <a:pt x="8" y="585"/>
                    </a:lnTo>
                    <a:lnTo>
                      <a:pt x="2" y="557"/>
                    </a:lnTo>
                    <a:lnTo>
                      <a:pt x="0" y="529"/>
                    </a:lnTo>
                    <a:lnTo>
                      <a:pt x="2" y="500"/>
                    </a:lnTo>
                    <a:lnTo>
                      <a:pt x="8" y="473"/>
                    </a:lnTo>
                    <a:lnTo>
                      <a:pt x="19" y="446"/>
                    </a:lnTo>
                    <a:lnTo>
                      <a:pt x="36" y="420"/>
                    </a:lnTo>
                    <a:lnTo>
                      <a:pt x="55" y="393"/>
                    </a:lnTo>
                    <a:lnTo>
                      <a:pt x="78" y="368"/>
                    </a:lnTo>
                    <a:lnTo>
                      <a:pt x="105" y="343"/>
                    </a:lnTo>
                    <a:lnTo>
                      <a:pt x="137" y="319"/>
                    </a:lnTo>
                    <a:lnTo>
                      <a:pt x="172" y="295"/>
                    </a:lnTo>
                    <a:lnTo>
                      <a:pt x="210" y="272"/>
                    </a:lnTo>
                    <a:lnTo>
                      <a:pt x="252" y="250"/>
                    </a:lnTo>
                    <a:lnTo>
                      <a:pt x="297" y="229"/>
                    </a:lnTo>
                    <a:lnTo>
                      <a:pt x="347" y="208"/>
                    </a:lnTo>
                    <a:lnTo>
                      <a:pt x="398" y="188"/>
                    </a:lnTo>
                    <a:lnTo>
                      <a:pt x="453" y="169"/>
                    </a:lnTo>
                    <a:lnTo>
                      <a:pt x="510" y="151"/>
                    </a:lnTo>
                    <a:lnTo>
                      <a:pt x="571" y="134"/>
                    </a:lnTo>
                    <a:lnTo>
                      <a:pt x="635" y="117"/>
                    </a:lnTo>
                    <a:lnTo>
                      <a:pt x="700" y="102"/>
                    </a:lnTo>
                    <a:lnTo>
                      <a:pt x="769" y="88"/>
                    </a:lnTo>
                    <a:lnTo>
                      <a:pt x="840" y="73"/>
                    </a:lnTo>
                    <a:lnTo>
                      <a:pt x="912" y="61"/>
                    </a:lnTo>
                    <a:lnTo>
                      <a:pt x="988" y="50"/>
                    </a:lnTo>
                    <a:lnTo>
                      <a:pt x="1065" y="40"/>
                    </a:lnTo>
                    <a:lnTo>
                      <a:pt x="1144" y="30"/>
                    </a:lnTo>
                    <a:lnTo>
                      <a:pt x="1225" y="22"/>
                    </a:lnTo>
                    <a:lnTo>
                      <a:pt x="1308" y="16"/>
                    </a:lnTo>
                    <a:lnTo>
                      <a:pt x="1392" y="10"/>
                    </a:lnTo>
                    <a:lnTo>
                      <a:pt x="1478" y="5"/>
                    </a:lnTo>
                    <a:lnTo>
                      <a:pt x="1566" y="2"/>
                    </a:lnTo>
                    <a:lnTo>
                      <a:pt x="1654" y="0"/>
                    </a:lnTo>
                    <a:lnTo>
                      <a:pt x="1743" y="0"/>
                    </a:lnTo>
                    <a:lnTo>
                      <a:pt x="1833" y="0"/>
                    </a:lnTo>
                    <a:lnTo>
                      <a:pt x="1922" y="2"/>
                    </a:lnTo>
                    <a:lnTo>
                      <a:pt x="2009" y="5"/>
                    </a:lnTo>
                    <a:lnTo>
                      <a:pt x="2095" y="10"/>
                    </a:lnTo>
                    <a:lnTo>
                      <a:pt x="2180" y="16"/>
                    </a:lnTo>
                    <a:lnTo>
                      <a:pt x="2262" y="22"/>
                    </a:lnTo>
                    <a:lnTo>
                      <a:pt x="2343" y="30"/>
                    </a:lnTo>
                    <a:lnTo>
                      <a:pt x="2422" y="40"/>
                    </a:lnTo>
                    <a:lnTo>
                      <a:pt x="2500" y="50"/>
                    </a:lnTo>
                    <a:lnTo>
                      <a:pt x="2575" y="61"/>
                    </a:lnTo>
                    <a:lnTo>
                      <a:pt x="2647" y="73"/>
                    </a:lnTo>
                    <a:lnTo>
                      <a:pt x="2718" y="88"/>
                    </a:lnTo>
                    <a:lnTo>
                      <a:pt x="2787" y="102"/>
                    </a:lnTo>
                    <a:lnTo>
                      <a:pt x="2852" y="117"/>
                    </a:lnTo>
                    <a:lnTo>
                      <a:pt x="2916" y="134"/>
                    </a:lnTo>
                    <a:lnTo>
                      <a:pt x="2977" y="151"/>
                    </a:lnTo>
                    <a:lnTo>
                      <a:pt x="3034" y="169"/>
                    </a:lnTo>
                    <a:lnTo>
                      <a:pt x="3089" y="188"/>
                    </a:lnTo>
                    <a:lnTo>
                      <a:pt x="3141" y="208"/>
                    </a:lnTo>
                    <a:lnTo>
                      <a:pt x="3190" y="229"/>
                    </a:lnTo>
                    <a:lnTo>
                      <a:pt x="3235" y="250"/>
                    </a:lnTo>
                    <a:lnTo>
                      <a:pt x="3277" y="272"/>
                    </a:lnTo>
                    <a:lnTo>
                      <a:pt x="3315" y="295"/>
                    </a:lnTo>
                    <a:lnTo>
                      <a:pt x="3350" y="319"/>
                    </a:lnTo>
                    <a:lnTo>
                      <a:pt x="3382" y="343"/>
                    </a:lnTo>
                    <a:lnTo>
                      <a:pt x="3409" y="368"/>
                    </a:lnTo>
                    <a:lnTo>
                      <a:pt x="3432" y="393"/>
                    </a:lnTo>
                    <a:lnTo>
                      <a:pt x="3451" y="420"/>
                    </a:lnTo>
                    <a:lnTo>
                      <a:pt x="3467" y="446"/>
                    </a:lnTo>
                    <a:lnTo>
                      <a:pt x="3479" y="473"/>
                    </a:lnTo>
                    <a:lnTo>
                      <a:pt x="3485" y="500"/>
                    </a:lnTo>
                    <a:lnTo>
                      <a:pt x="3488" y="5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956600" y="6494400"/>
                <a:ext cx="383040" cy="128520"/>
              </a:xfrm>
              <a:custGeom>
                <a:avLst/>
                <a:gdLst/>
                <a:ahLst/>
                <a:rect l="l" t="t" r="r" b="b"/>
                <a:pathLst>
                  <a:path w="3485" h="1074">
                    <a:moveTo>
                      <a:pt x="3485" y="528"/>
                    </a:moveTo>
                    <a:lnTo>
                      <a:pt x="3483" y="556"/>
                    </a:lnTo>
                    <a:lnTo>
                      <a:pt x="3476" y="584"/>
                    </a:lnTo>
                    <a:lnTo>
                      <a:pt x="3464" y="611"/>
                    </a:lnTo>
                    <a:lnTo>
                      <a:pt x="3449" y="638"/>
                    </a:lnTo>
                    <a:lnTo>
                      <a:pt x="3430" y="664"/>
                    </a:lnTo>
                    <a:lnTo>
                      <a:pt x="3407" y="690"/>
                    </a:lnTo>
                    <a:lnTo>
                      <a:pt x="3379" y="715"/>
                    </a:lnTo>
                    <a:lnTo>
                      <a:pt x="3348" y="741"/>
                    </a:lnTo>
                    <a:lnTo>
                      <a:pt x="3313" y="765"/>
                    </a:lnTo>
                    <a:lnTo>
                      <a:pt x="3275" y="788"/>
                    </a:lnTo>
                    <a:lnTo>
                      <a:pt x="3232" y="811"/>
                    </a:lnTo>
                    <a:lnTo>
                      <a:pt x="3188" y="834"/>
                    </a:lnTo>
                    <a:lnTo>
                      <a:pt x="3138" y="855"/>
                    </a:lnTo>
                    <a:lnTo>
                      <a:pt x="3087" y="875"/>
                    </a:lnTo>
                    <a:lnTo>
                      <a:pt x="3032" y="895"/>
                    </a:lnTo>
                    <a:lnTo>
                      <a:pt x="2975" y="914"/>
                    </a:lnTo>
                    <a:lnTo>
                      <a:pt x="2914" y="932"/>
                    </a:lnTo>
                    <a:lnTo>
                      <a:pt x="2850" y="950"/>
                    </a:lnTo>
                    <a:lnTo>
                      <a:pt x="2785" y="966"/>
                    </a:lnTo>
                    <a:lnTo>
                      <a:pt x="2717" y="981"/>
                    </a:lnTo>
                    <a:lnTo>
                      <a:pt x="2646" y="995"/>
                    </a:lnTo>
                    <a:lnTo>
                      <a:pt x="2573" y="1008"/>
                    </a:lnTo>
                    <a:lnTo>
                      <a:pt x="2498" y="1020"/>
                    </a:lnTo>
                    <a:lnTo>
                      <a:pt x="2421" y="1031"/>
                    </a:lnTo>
                    <a:lnTo>
                      <a:pt x="2341" y="1040"/>
                    </a:lnTo>
                    <a:lnTo>
                      <a:pt x="2261" y="1050"/>
                    </a:lnTo>
                    <a:lnTo>
                      <a:pt x="2178" y="1057"/>
                    </a:lnTo>
                    <a:lnTo>
                      <a:pt x="2094" y="1063"/>
                    </a:lnTo>
                    <a:lnTo>
                      <a:pt x="2008" y="1068"/>
                    </a:lnTo>
                    <a:lnTo>
                      <a:pt x="1920" y="1071"/>
                    </a:lnTo>
                    <a:lnTo>
                      <a:pt x="1832" y="1074"/>
                    </a:lnTo>
                    <a:lnTo>
                      <a:pt x="1742" y="1074"/>
                    </a:lnTo>
                    <a:lnTo>
                      <a:pt x="1653" y="1074"/>
                    </a:lnTo>
                    <a:lnTo>
                      <a:pt x="1565" y="1071"/>
                    </a:lnTo>
                    <a:lnTo>
                      <a:pt x="1477" y="1068"/>
                    </a:lnTo>
                    <a:lnTo>
                      <a:pt x="1391" y="1063"/>
                    </a:lnTo>
                    <a:lnTo>
                      <a:pt x="1307" y="1057"/>
                    </a:lnTo>
                    <a:lnTo>
                      <a:pt x="1224" y="1050"/>
                    </a:lnTo>
                    <a:lnTo>
                      <a:pt x="1144" y="1040"/>
                    </a:lnTo>
                    <a:lnTo>
                      <a:pt x="1065" y="1031"/>
                    </a:lnTo>
                    <a:lnTo>
                      <a:pt x="987" y="1020"/>
                    </a:lnTo>
                    <a:lnTo>
                      <a:pt x="912" y="1008"/>
                    </a:lnTo>
                    <a:lnTo>
                      <a:pt x="840" y="995"/>
                    </a:lnTo>
                    <a:lnTo>
                      <a:pt x="769" y="981"/>
                    </a:lnTo>
                    <a:lnTo>
                      <a:pt x="700" y="966"/>
                    </a:lnTo>
                    <a:lnTo>
                      <a:pt x="635" y="950"/>
                    </a:lnTo>
                    <a:lnTo>
                      <a:pt x="571" y="932"/>
                    </a:lnTo>
                    <a:lnTo>
                      <a:pt x="510" y="914"/>
                    </a:lnTo>
                    <a:lnTo>
                      <a:pt x="453" y="895"/>
                    </a:lnTo>
                    <a:lnTo>
                      <a:pt x="398" y="875"/>
                    </a:lnTo>
                    <a:lnTo>
                      <a:pt x="347" y="855"/>
                    </a:lnTo>
                    <a:lnTo>
                      <a:pt x="298" y="834"/>
                    </a:lnTo>
                    <a:lnTo>
                      <a:pt x="253" y="811"/>
                    </a:lnTo>
                    <a:lnTo>
                      <a:pt x="210" y="788"/>
                    </a:lnTo>
                    <a:lnTo>
                      <a:pt x="172" y="765"/>
                    </a:lnTo>
                    <a:lnTo>
                      <a:pt x="138" y="741"/>
                    </a:lnTo>
                    <a:lnTo>
                      <a:pt x="106" y="715"/>
                    </a:lnTo>
                    <a:lnTo>
                      <a:pt x="79" y="690"/>
                    </a:lnTo>
                    <a:lnTo>
                      <a:pt x="55" y="664"/>
                    </a:lnTo>
                    <a:lnTo>
                      <a:pt x="36" y="638"/>
                    </a:lnTo>
                    <a:lnTo>
                      <a:pt x="21" y="611"/>
                    </a:lnTo>
                    <a:lnTo>
                      <a:pt x="9" y="584"/>
                    </a:lnTo>
                    <a:lnTo>
                      <a:pt x="2" y="556"/>
                    </a:lnTo>
                    <a:lnTo>
                      <a:pt x="0" y="528"/>
                    </a:lnTo>
                    <a:lnTo>
                      <a:pt x="2" y="499"/>
                    </a:lnTo>
                    <a:lnTo>
                      <a:pt x="9" y="472"/>
                    </a:lnTo>
                    <a:lnTo>
                      <a:pt x="21" y="445"/>
                    </a:lnTo>
                    <a:lnTo>
                      <a:pt x="36" y="419"/>
                    </a:lnTo>
                    <a:lnTo>
                      <a:pt x="55" y="392"/>
                    </a:lnTo>
                    <a:lnTo>
                      <a:pt x="79" y="367"/>
                    </a:lnTo>
                    <a:lnTo>
                      <a:pt x="106" y="342"/>
                    </a:lnTo>
                    <a:lnTo>
                      <a:pt x="138" y="318"/>
                    </a:lnTo>
                    <a:lnTo>
                      <a:pt x="172" y="294"/>
                    </a:lnTo>
                    <a:lnTo>
                      <a:pt x="210" y="271"/>
                    </a:lnTo>
                    <a:lnTo>
                      <a:pt x="253" y="249"/>
                    </a:lnTo>
                    <a:lnTo>
                      <a:pt x="298" y="228"/>
                    </a:lnTo>
                    <a:lnTo>
                      <a:pt x="347" y="208"/>
                    </a:lnTo>
                    <a:lnTo>
                      <a:pt x="398" y="187"/>
                    </a:lnTo>
                    <a:lnTo>
                      <a:pt x="453" y="168"/>
                    </a:lnTo>
                    <a:lnTo>
                      <a:pt x="510" y="150"/>
                    </a:lnTo>
                    <a:lnTo>
                      <a:pt x="571" y="133"/>
                    </a:lnTo>
                    <a:lnTo>
                      <a:pt x="635" y="117"/>
                    </a:lnTo>
                    <a:lnTo>
                      <a:pt x="700" y="102"/>
                    </a:lnTo>
                    <a:lnTo>
                      <a:pt x="769" y="87"/>
                    </a:lnTo>
                    <a:lnTo>
                      <a:pt x="840" y="73"/>
                    </a:lnTo>
                    <a:lnTo>
                      <a:pt x="912" y="61"/>
                    </a:lnTo>
                    <a:lnTo>
                      <a:pt x="987" y="50"/>
                    </a:lnTo>
                    <a:lnTo>
                      <a:pt x="1065" y="39"/>
                    </a:lnTo>
                    <a:lnTo>
                      <a:pt x="1144" y="30"/>
                    </a:lnTo>
                    <a:lnTo>
                      <a:pt x="1224" y="22"/>
                    </a:lnTo>
                    <a:lnTo>
                      <a:pt x="1307" y="15"/>
                    </a:lnTo>
                    <a:lnTo>
                      <a:pt x="1391" y="10"/>
                    </a:lnTo>
                    <a:lnTo>
                      <a:pt x="1477" y="5"/>
                    </a:lnTo>
                    <a:lnTo>
                      <a:pt x="1565" y="2"/>
                    </a:lnTo>
                    <a:lnTo>
                      <a:pt x="1653" y="0"/>
                    </a:lnTo>
                    <a:lnTo>
                      <a:pt x="1742" y="0"/>
                    </a:lnTo>
                    <a:lnTo>
                      <a:pt x="1832" y="0"/>
                    </a:lnTo>
                    <a:lnTo>
                      <a:pt x="1920" y="2"/>
                    </a:lnTo>
                    <a:lnTo>
                      <a:pt x="2008" y="5"/>
                    </a:lnTo>
                    <a:lnTo>
                      <a:pt x="2094" y="10"/>
                    </a:lnTo>
                    <a:lnTo>
                      <a:pt x="2178" y="15"/>
                    </a:lnTo>
                    <a:lnTo>
                      <a:pt x="2261" y="22"/>
                    </a:lnTo>
                    <a:lnTo>
                      <a:pt x="2341" y="30"/>
                    </a:lnTo>
                    <a:lnTo>
                      <a:pt x="2421" y="39"/>
                    </a:lnTo>
                    <a:lnTo>
                      <a:pt x="2498" y="50"/>
                    </a:lnTo>
                    <a:lnTo>
                      <a:pt x="2573" y="61"/>
                    </a:lnTo>
                    <a:lnTo>
                      <a:pt x="2646" y="73"/>
                    </a:lnTo>
                    <a:lnTo>
                      <a:pt x="2717" y="87"/>
                    </a:lnTo>
                    <a:lnTo>
                      <a:pt x="2785" y="102"/>
                    </a:lnTo>
                    <a:lnTo>
                      <a:pt x="2850" y="117"/>
                    </a:lnTo>
                    <a:lnTo>
                      <a:pt x="2914" y="133"/>
                    </a:lnTo>
                    <a:lnTo>
                      <a:pt x="2975" y="150"/>
                    </a:lnTo>
                    <a:lnTo>
                      <a:pt x="3032" y="168"/>
                    </a:lnTo>
                    <a:lnTo>
                      <a:pt x="3087" y="187"/>
                    </a:lnTo>
                    <a:lnTo>
                      <a:pt x="3138" y="208"/>
                    </a:lnTo>
                    <a:lnTo>
                      <a:pt x="3188" y="228"/>
                    </a:lnTo>
                    <a:lnTo>
                      <a:pt x="3232" y="249"/>
                    </a:lnTo>
                    <a:lnTo>
                      <a:pt x="3275" y="271"/>
                    </a:lnTo>
                    <a:lnTo>
                      <a:pt x="3313" y="294"/>
                    </a:lnTo>
                    <a:lnTo>
                      <a:pt x="3348" y="318"/>
                    </a:lnTo>
                    <a:lnTo>
                      <a:pt x="3379" y="342"/>
                    </a:lnTo>
                    <a:lnTo>
                      <a:pt x="3407" y="367"/>
                    </a:lnTo>
                    <a:lnTo>
                      <a:pt x="3430" y="392"/>
                    </a:lnTo>
                    <a:lnTo>
                      <a:pt x="3449" y="419"/>
                    </a:lnTo>
                    <a:lnTo>
                      <a:pt x="3464" y="445"/>
                    </a:lnTo>
                    <a:lnTo>
                      <a:pt x="3476" y="472"/>
                    </a:lnTo>
                    <a:lnTo>
                      <a:pt x="3483" y="499"/>
                    </a:lnTo>
                    <a:lnTo>
                      <a:pt x="3485" y="5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56600" y="6494400"/>
                <a:ext cx="383040" cy="128520"/>
              </a:xfrm>
              <a:custGeom>
                <a:avLst/>
                <a:gdLst/>
                <a:ahLst/>
                <a:rect l="l" t="t" r="r" b="b"/>
                <a:pathLst>
                  <a:path w="3483" h="1072">
                    <a:moveTo>
                      <a:pt x="3483" y="527"/>
                    </a:moveTo>
                    <a:lnTo>
                      <a:pt x="3480" y="555"/>
                    </a:lnTo>
                    <a:lnTo>
                      <a:pt x="3474" y="582"/>
                    </a:lnTo>
                    <a:lnTo>
                      <a:pt x="3462" y="609"/>
                    </a:lnTo>
                    <a:lnTo>
                      <a:pt x="3447" y="637"/>
                    </a:lnTo>
                    <a:lnTo>
                      <a:pt x="3427" y="663"/>
                    </a:lnTo>
                    <a:lnTo>
                      <a:pt x="3404" y="689"/>
                    </a:lnTo>
                    <a:lnTo>
                      <a:pt x="3377" y="714"/>
                    </a:lnTo>
                    <a:lnTo>
                      <a:pt x="3345" y="739"/>
                    </a:lnTo>
                    <a:lnTo>
                      <a:pt x="3311" y="763"/>
                    </a:lnTo>
                    <a:lnTo>
                      <a:pt x="3273" y="787"/>
                    </a:lnTo>
                    <a:lnTo>
                      <a:pt x="3230" y="809"/>
                    </a:lnTo>
                    <a:lnTo>
                      <a:pt x="3185" y="831"/>
                    </a:lnTo>
                    <a:lnTo>
                      <a:pt x="3136" y="853"/>
                    </a:lnTo>
                    <a:lnTo>
                      <a:pt x="3085" y="874"/>
                    </a:lnTo>
                    <a:lnTo>
                      <a:pt x="3030" y="893"/>
                    </a:lnTo>
                    <a:lnTo>
                      <a:pt x="2973" y="912"/>
                    </a:lnTo>
                    <a:lnTo>
                      <a:pt x="2912" y="930"/>
                    </a:lnTo>
                    <a:lnTo>
                      <a:pt x="2848" y="948"/>
                    </a:lnTo>
                    <a:lnTo>
                      <a:pt x="2783" y="964"/>
                    </a:lnTo>
                    <a:lnTo>
                      <a:pt x="2715" y="979"/>
                    </a:lnTo>
                    <a:lnTo>
                      <a:pt x="2644" y="993"/>
                    </a:lnTo>
                    <a:lnTo>
                      <a:pt x="2572" y="1006"/>
                    </a:lnTo>
                    <a:lnTo>
                      <a:pt x="2496" y="1018"/>
                    </a:lnTo>
                    <a:lnTo>
                      <a:pt x="2419" y="1029"/>
                    </a:lnTo>
                    <a:lnTo>
                      <a:pt x="2340" y="1039"/>
                    </a:lnTo>
                    <a:lnTo>
                      <a:pt x="2260" y="1048"/>
                    </a:lnTo>
                    <a:lnTo>
                      <a:pt x="2177" y="1055"/>
                    </a:lnTo>
                    <a:lnTo>
                      <a:pt x="2092" y="1061"/>
                    </a:lnTo>
                    <a:lnTo>
                      <a:pt x="2007" y="1066"/>
                    </a:lnTo>
                    <a:lnTo>
                      <a:pt x="1919" y="1070"/>
                    </a:lnTo>
                    <a:lnTo>
                      <a:pt x="1831" y="1072"/>
                    </a:lnTo>
                    <a:lnTo>
                      <a:pt x="1741" y="1072"/>
                    </a:lnTo>
                    <a:lnTo>
                      <a:pt x="1652" y="1072"/>
                    </a:lnTo>
                    <a:lnTo>
                      <a:pt x="1564" y="1070"/>
                    </a:lnTo>
                    <a:lnTo>
                      <a:pt x="1477" y="1066"/>
                    </a:lnTo>
                    <a:lnTo>
                      <a:pt x="1391" y="1061"/>
                    </a:lnTo>
                    <a:lnTo>
                      <a:pt x="1306" y="1055"/>
                    </a:lnTo>
                    <a:lnTo>
                      <a:pt x="1223" y="1048"/>
                    </a:lnTo>
                    <a:lnTo>
                      <a:pt x="1143" y="1039"/>
                    </a:lnTo>
                    <a:lnTo>
                      <a:pt x="1064" y="1029"/>
                    </a:lnTo>
                    <a:lnTo>
                      <a:pt x="987" y="1018"/>
                    </a:lnTo>
                    <a:lnTo>
                      <a:pt x="911" y="1006"/>
                    </a:lnTo>
                    <a:lnTo>
                      <a:pt x="839" y="993"/>
                    </a:lnTo>
                    <a:lnTo>
                      <a:pt x="768" y="979"/>
                    </a:lnTo>
                    <a:lnTo>
                      <a:pt x="700" y="964"/>
                    </a:lnTo>
                    <a:lnTo>
                      <a:pt x="635" y="948"/>
                    </a:lnTo>
                    <a:lnTo>
                      <a:pt x="571" y="930"/>
                    </a:lnTo>
                    <a:lnTo>
                      <a:pt x="510" y="912"/>
                    </a:lnTo>
                    <a:lnTo>
                      <a:pt x="453" y="893"/>
                    </a:lnTo>
                    <a:lnTo>
                      <a:pt x="398" y="874"/>
                    </a:lnTo>
                    <a:lnTo>
                      <a:pt x="347" y="853"/>
                    </a:lnTo>
                    <a:lnTo>
                      <a:pt x="298" y="831"/>
                    </a:lnTo>
                    <a:lnTo>
                      <a:pt x="253" y="809"/>
                    </a:lnTo>
                    <a:lnTo>
                      <a:pt x="210" y="787"/>
                    </a:lnTo>
                    <a:lnTo>
                      <a:pt x="172" y="763"/>
                    </a:lnTo>
                    <a:lnTo>
                      <a:pt x="138" y="739"/>
                    </a:lnTo>
                    <a:lnTo>
                      <a:pt x="106" y="714"/>
                    </a:lnTo>
                    <a:lnTo>
                      <a:pt x="79" y="689"/>
                    </a:lnTo>
                    <a:lnTo>
                      <a:pt x="56" y="663"/>
                    </a:lnTo>
                    <a:lnTo>
                      <a:pt x="36" y="637"/>
                    </a:lnTo>
                    <a:lnTo>
                      <a:pt x="21" y="609"/>
                    </a:lnTo>
                    <a:lnTo>
                      <a:pt x="9" y="582"/>
                    </a:lnTo>
                    <a:lnTo>
                      <a:pt x="3" y="555"/>
                    </a:lnTo>
                    <a:lnTo>
                      <a:pt x="0" y="527"/>
                    </a:lnTo>
                    <a:lnTo>
                      <a:pt x="3" y="498"/>
                    </a:lnTo>
                    <a:lnTo>
                      <a:pt x="9" y="471"/>
                    </a:lnTo>
                    <a:lnTo>
                      <a:pt x="21" y="444"/>
                    </a:lnTo>
                    <a:lnTo>
                      <a:pt x="36" y="418"/>
                    </a:lnTo>
                    <a:lnTo>
                      <a:pt x="56" y="391"/>
                    </a:lnTo>
                    <a:lnTo>
                      <a:pt x="79" y="366"/>
                    </a:lnTo>
                    <a:lnTo>
                      <a:pt x="106" y="342"/>
                    </a:lnTo>
                    <a:lnTo>
                      <a:pt x="138" y="318"/>
                    </a:lnTo>
                    <a:lnTo>
                      <a:pt x="172" y="293"/>
                    </a:lnTo>
                    <a:lnTo>
                      <a:pt x="210" y="271"/>
                    </a:lnTo>
                    <a:lnTo>
                      <a:pt x="253" y="249"/>
                    </a:lnTo>
                    <a:lnTo>
                      <a:pt x="298" y="228"/>
                    </a:lnTo>
                    <a:lnTo>
                      <a:pt x="347" y="207"/>
                    </a:lnTo>
                    <a:lnTo>
                      <a:pt x="398" y="187"/>
                    </a:lnTo>
                    <a:lnTo>
                      <a:pt x="453" y="168"/>
                    </a:lnTo>
                    <a:lnTo>
                      <a:pt x="510" y="150"/>
                    </a:lnTo>
                    <a:lnTo>
                      <a:pt x="571" y="133"/>
                    </a:lnTo>
                    <a:lnTo>
                      <a:pt x="635" y="117"/>
                    </a:lnTo>
                    <a:lnTo>
                      <a:pt x="700" y="102"/>
                    </a:lnTo>
                    <a:lnTo>
                      <a:pt x="768" y="87"/>
                    </a:lnTo>
                    <a:lnTo>
                      <a:pt x="839" y="73"/>
                    </a:lnTo>
                    <a:lnTo>
                      <a:pt x="911" y="61"/>
                    </a:lnTo>
                    <a:lnTo>
                      <a:pt x="987" y="49"/>
                    </a:lnTo>
                    <a:lnTo>
                      <a:pt x="1064" y="39"/>
                    </a:lnTo>
                    <a:lnTo>
                      <a:pt x="1143" y="30"/>
                    </a:lnTo>
                    <a:lnTo>
                      <a:pt x="1223" y="22"/>
                    </a:lnTo>
                    <a:lnTo>
                      <a:pt x="1306" y="15"/>
                    </a:lnTo>
                    <a:lnTo>
                      <a:pt x="1391" y="10"/>
                    </a:lnTo>
                    <a:lnTo>
                      <a:pt x="1477" y="5"/>
                    </a:lnTo>
                    <a:lnTo>
                      <a:pt x="1564" y="2"/>
                    </a:lnTo>
                    <a:lnTo>
                      <a:pt x="1652" y="0"/>
                    </a:lnTo>
                    <a:lnTo>
                      <a:pt x="1741" y="0"/>
                    </a:lnTo>
                    <a:lnTo>
                      <a:pt x="1831" y="0"/>
                    </a:lnTo>
                    <a:lnTo>
                      <a:pt x="1919" y="2"/>
                    </a:lnTo>
                    <a:lnTo>
                      <a:pt x="2007" y="5"/>
                    </a:lnTo>
                    <a:lnTo>
                      <a:pt x="2092" y="10"/>
                    </a:lnTo>
                    <a:lnTo>
                      <a:pt x="2177" y="15"/>
                    </a:lnTo>
                    <a:lnTo>
                      <a:pt x="2260" y="22"/>
                    </a:lnTo>
                    <a:lnTo>
                      <a:pt x="2340" y="30"/>
                    </a:lnTo>
                    <a:lnTo>
                      <a:pt x="2419" y="39"/>
                    </a:lnTo>
                    <a:lnTo>
                      <a:pt x="2496" y="49"/>
                    </a:lnTo>
                    <a:lnTo>
                      <a:pt x="2572" y="61"/>
                    </a:lnTo>
                    <a:lnTo>
                      <a:pt x="2644" y="73"/>
                    </a:lnTo>
                    <a:lnTo>
                      <a:pt x="2715" y="87"/>
                    </a:lnTo>
                    <a:lnTo>
                      <a:pt x="2783" y="102"/>
                    </a:lnTo>
                    <a:lnTo>
                      <a:pt x="2848" y="117"/>
                    </a:lnTo>
                    <a:lnTo>
                      <a:pt x="2912" y="133"/>
                    </a:lnTo>
                    <a:lnTo>
                      <a:pt x="2973" y="150"/>
                    </a:lnTo>
                    <a:lnTo>
                      <a:pt x="3030" y="168"/>
                    </a:lnTo>
                    <a:lnTo>
                      <a:pt x="3085" y="187"/>
                    </a:lnTo>
                    <a:lnTo>
                      <a:pt x="3136" y="207"/>
                    </a:lnTo>
                    <a:lnTo>
                      <a:pt x="3185" y="228"/>
                    </a:lnTo>
                    <a:lnTo>
                      <a:pt x="3230" y="249"/>
                    </a:lnTo>
                    <a:lnTo>
                      <a:pt x="3273" y="271"/>
                    </a:lnTo>
                    <a:lnTo>
                      <a:pt x="3311" y="293"/>
                    </a:lnTo>
                    <a:lnTo>
                      <a:pt x="3345" y="318"/>
                    </a:lnTo>
                    <a:lnTo>
                      <a:pt x="3377" y="342"/>
                    </a:lnTo>
                    <a:lnTo>
                      <a:pt x="3404" y="366"/>
                    </a:lnTo>
                    <a:lnTo>
                      <a:pt x="3427" y="391"/>
                    </a:lnTo>
                    <a:lnTo>
                      <a:pt x="3447" y="418"/>
                    </a:lnTo>
                    <a:lnTo>
                      <a:pt x="3462" y="444"/>
                    </a:lnTo>
                    <a:lnTo>
                      <a:pt x="3474" y="471"/>
                    </a:lnTo>
                    <a:lnTo>
                      <a:pt x="3480" y="498"/>
                    </a:lnTo>
                    <a:lnTo>
                      <a:pt x="3483" y="5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56600" y="6494400"/>
                <a:ext cx="383040" cy="127440"/>
              </a:xfrm>
              <a:custGeom>
                <a:avLst/>
                <a:gdLst/>
                <a:ahLst/>
                <a:rect l="l" t="t" r="r" b="b"/>
                <a:pathLst>
                  <a:path w="3479" h="1071">
                    <a:moveTo>
                      <a:pt x="3479" y="527"/>
                    </a:moveTo>
                    <a:lnTo>
                      <a:pt x="3477" y="555"/>
                    </a:lnTo>
                    <a:lnTo>
                      <a:pt x="3469" y="582"/>
                    </a:lnTo>
                    <a:lnTo>
                      <a:pt x="3458" y="609"/>
                    </a:lnTo>
                    <a:lnTo>
                      <a:pt x="3443" y="637"/>
                    </a:lnTo>
                    <a:lnTo>
                      <a:pt x="3424" y="663"/>
                    </a:lnTo>
                    <a:lnTo>
                      <a:pt x="3401" y="689"/>
                    </a:lnTo>
                    <a:lnTo>
                      <a:pt x="3374" y="714"/>
                    </a:lnTo>
                    <a:lnTo>
                      <a:pt x="3342" y="739"/>
                    </a:lnTo>
                    <a:lnTo>
                      <a:pt x="3307" y="763"/>
                    </a:lnTo>
                    <a:lnTo>
                      <a:pt x="3269" y="786"/>
                    </a:lnTo>
                    <a:lnTo>
                      <a:pt x="3227" y="809"/>
                    </a:lnTo>
                    <a:lnTo>
                      <a:pt x="3182" y="831"/>
                    </a:lnTo>
                    <a:lnTo>
                      <a:pt x="3133" y="853"/>
                    </a:lnTo>
                    <a:lnTo>
                      <a:pt x="3082" y="873"/>
                    </a:lnTo>
                    <a:lnTo>
                      <a:pt x="3027" y="893"/>
                    </a:lnTo>
                    <a:lnTo>
                      <a:pt x="2970" y="911"/>
                    </a:lnTo>
                    <a:lnTo>
                      <a:pt x="2909" y="929"/>
                    </a:lnTo>
                    <a:lnTo>
                      <a:pt x="2846" y="947"/>
                    </a:lnTo>
                    <a:lnTo>
                      <a:pt x="2780" y="963"/>
                    </a:lnTo>
                    <a:lnTo>
                      <a:pt x="2712" y="978"/>
                    </a:lnTo>
                    <a:lnTo>
                      <a:pt x="2641" y="992"/>
                    </a:lnTo>
                    <a:lnTo>
                      <a:pt x="2569" y="1005"/>
                    </a:lnTo>
                    <a:lnTo>
                      <a:pt x="2494" y="1017"/>
                    </a:lnTo>
                    <a:lnTo>
                      <a:pt x="2416" y="1028"/>
                    </a:lnTo>
                    <a:lnTo>
                      <a:pt x="2337" y="1038"/>
                    </a:lnTo>
                    <a:lnTo>
                      <a:pt x="2257" y="1047"/>
                    </a:lnTo>
                    <a:lnTo>
                      <a:pt x="2174" y="1054"/>
                    </a:lnTo>
                    <a:lnTo>
                      <a:pt x="2090" y="1060"/>
                    </a:lnTo>
                    <a:lnTo>
                      <a:pt x="2004" y="1065"/>
                    </a:lnTo>
                    <a:lnTo>
                      <a:pt x="1917" y="1069"/>
                    </a:lnTo>
                    <a:lnTo>
                      <a:pt x="1829" y="1071"/>
                    </a:lnTo>
                    <a:lnTo>
                      <a:pt x="1739" y="1071"/>
                    </a:lnTo>
                    <a:lnTo>
                      <a:pt x="1650" y="1071"/>
                    </a:lnTo>
                    <a:lnTo>
                      <a:pt x="1562" y="1069"/>
                    </a:lnTo>
                    <a:lnTo>
                      <a:pt x="1475" y="1065"/>
                    </a:lnTo>
                    <a:lnTo>
                      <a:pt x="1389" y="1060"/>
                    </a:lnTo>
                    <a:lnTo>
                      <a:pt x="1305" y="1054"/>
                    </a:lnTo>
                    <a:lnTo>
                      <a:pt x="1222" y="1047"/>
                    </a:lnTo>
                    <a:lnTo>
                      <a:pt x="1142" y="1038"/>
                    </a:lnTo>
                    <a:lnTo>
                      <a:pt x="1063" y="1028"/>
                    </a:lnTo>
                    <a:lnTo>
                      <a:pt x="985" y="1017"/>
                    </a:lnTo>
                    <a:lnTo>
                      <a:pt x="910" y="1005"/>
                    </a:lnTo>
                    <a:lnTo>
                      <a:pt x="838" y="992"/>
                    </a:lnTo>
                    <a:lnTo>
                      <a:pt x="767" y="978"/>
                    </a:lnTo>
                    <a:lnTo>
                      <a:pt x="699" y="963"/>
                    </a:lnTo>
                    <a:lnTo>
                      <a:pt x="634" y="947"/>
                    </a:lnTo>
                    <a:lnTo>
                      <a:pt x="570" y="929"/>
                    </a:lnTo>
                    <a:lnTo>
                      <a:pt x="509" y="911"/>
                    </a:lnTo>
                    <a:lnTo>
                      <a:pt x="452" y="893"/>
                    </a:lnTo>
                    <a:lnTo>
                      <a:pt x="397" y="873"/>
                    </a:lnTo>
                    <a:lnTo>
                      <a:pt x="346" y="853"/>
                    </a:lnTo>
                    <a:lnTo>
                      <a:pt x="297" y="831"/>
                    </a:lnTo>
                    <a:lnTo>
                      <a:pt x="252" y="809"/>
                    </a:lnTo>
                    <a:lnTo>
                      <a:pt x="210" y="786"/>
                    </a:lnTo>
                    <a:lnTo>
                      <a:pt x="172" y="763"/>
                    </a:lnTo>
                    <a:lnTo>
                      <a:pt x="137" y="739"/>
                    </a:lnTo>
                    <a:lnTo>
                      <a:pt x="105" y="714"/>
                    </a:lnTo>
                    <a:lnTo>
                      <a:pt x="78" y="689"/>
                    </a:lnTo>
                    <a:lnTo>
                      <a:pt x="55" y="663"/>
                    </a:lnTo>
                    <a:lnTo>
                      <a:pt x="36" y="637"/>
                    </a:lnTo>
                    <a:lnTo>
                      <a:pt x="21" y="609"/>
                    </a:lnTo>
                    <a:lnTo>
                      <a:pt x="9" y="582"/>
                    </a:lnTo>
                    <a:lnTo>
                      <a:pt x="2" y="555"/>
                    </a:lnTo>
                    <a:lnTo>
                      <a:pt x="0" y="527"/>
                    </a:lnTo>
                    <a:lnTo>
                      <a:pt x="2" y="498"/>
                    </a:lnTo>
                    <a:lnTo>
                      <a:pt x="9" y="471"/>
                    </a:lnTo>
                    <a:lnTo>
                      <a:pt x="21" y="445"/>
                    </a:lnTo>
                    <a:lnTo>
                      <a:pt x="36" y="418"/>
                    </a:lnTo>
                    <a:lnTo>
                      <a:pt x="55" y="392"/>
                    </a:lnTo>
                    <a:lnTo>
                      <a:pt x="78" y="366"/>
                    </a:lnTo>
                    <a:lnTo>
                      <a:pt x="105" y="342"/>
                    </a:lnTo>
                    <a:lnTo>
                      <a:pt x="137" y="318"/>
                    </a:lnTo>
                    <a:lnTo>
                      <a:pt x="172" y="294"/>
                    </a:lnTo>
                    <a:lnTo>
                      <a:pt x="210" y="271"/>
                    </a:lnTo>
                    <a:lnTo>
                      <a:pt x="252" y="249"/>
                    </a:lnTo>
                    <a:lnTo>
                      <a:pt x="297" y="228"/>
                    </a:lnTo>
                    <a:lnTo>
                      <a:pt x="346" y="208"/>
                    </a:lnTo>
                    <a:lnTo>
                      <a:pt x="397" y="187"/>
                    </a:lnTo>
                    <a:lnTo>
                      <a:pt x="452" y="169"/>
                    </a:lnTo>
                    <a:lnTo>
                      <a:pt x="509" y="151"/>
                    </a:lnTo>
                    <a:lnTo>
                      <a:pt x="570" y="134"/>
                    </a:lnTo>
                    <a:lnTo>
                      <a:pt x="634" y="117"/>
                    </a:lnTo>
                    <a:lnTo>
                      <a:pt x="699" y="102"/>
                    </a:lnTo>
                    <a:lnTo>
                      <a:pt x="767" y="88"/>
                    </a:lnTo>
                    <a:lnTo>
                      <a:pt x="838" y="74"/>
                    </a:lnTo>
                    <a:lnTo>
                      <a:pt x="910" y="61"/>
                    </a:lnTo>
                    <a:lnTo>
                      <a:pt x="985" y="50"/>
                    </a:lnTo>
                    <a:lnTo>
                      <a:pt x="1063" y="40"/>
                    </a:lnTo>
                    <a:lnTo>
                      <a:pt x="1142" y="31"/>
                    </a:lnTo>
                    <a:lnTo>
                      <a:pt x="1222" y="23"/>
                    </a:lnTo>
                    <a:lnTo>
                      <a:pt x="1305" y="16"/>
                    </a:lnTo>
                    <a:lnTo>
                      <a:pt x="1389" y="11"/>
                    </a:lnTo>
                    <a:lnTo>
                      <a:pt x="1475" y="6"/>
                    </a:lnTo>
                    <a:lnTo>
                      <a:pt x="1562" y="3"/>
                    </a:lnTo>
                    <a:lnTo>
                      <a:pt x="1650" y="1"/>
                    </a:lnTo>
                    <a:lnTo>
                      <a:pt x="1739" y="0"/>
                    </a:lnTo>
                    <a:lnTo>
                      <a:pt x="1829" y="1"/>
                    </a:lnTo>
                    <a:lnTo>
                      <a:pt x="1917" y="3"/>
                    </a:lnTo>
                    <a:lnTo>
                      <a:pt x="2004" y="6"/>
                    </a:lnTo>
                    <a:lnTo>
                      <a:pt x="2090" y="11"/>
                    </a:lnTo>
                    <a:lnTo>
                      <a:pt x="2174" y="16"/>
                    </a:lnTo>
                    <a:lnTo>
                      <a:pt x="2257" y="23"/>
                    </a:lnTo>
                    <a:lnTo>
                      <a:pt x="2337" y="31"/>
                    </a:lnTo>
                    <a:lnTo>
                      <a:pt x="2416" y="40"/>
                    </a:lnTo>
                    <a:lnTo>
                      <a:pt x="2494" y="50"/>
                    </a:lnTo>
                    <a:lnTo>
                      <a:pt x="2569" y="61"/>
                    </a:lnTo>
                    <a:lnTo>
                      <a:pt x="2641" y="74"/>
                    </a:lnTo>
                    <a:lnTo>
                      <a:pt x="2712" y="88"/>
                    </a:lnTo>
                    <a:lnTo>
                      <a:pt x="2780" y="102"/>
                    </a:lnTo>
                    <a:lnTo>
                      <a:pt x="2846" y="117"/>
                    </a:lnTo>
                    <a:lnTo>
                      <a:pt x="2909" y="134"/>
                    </a:lnTo>
                    <a:lnTo>
                      <a:pt x="2970" y="151"/>
                    </a:lnTo>
                    <a:lnTo>
                      <a:pt x="3027" y="169"/>
                    </a:lnTo>
                    <a:lnTo>
                      <a:pt x="3082" y="187"/>
                    </a:lnTo>
                    <a:lnTo>
                      <a:pt x="3133" y="208"/>
                    </a:lnTo>
                    <a:lnTo>
                      <a:pt x="3182" y="228"/>
                    </a:lnTo>
                    <a:lnTo>
                      <a:pt x="3227" y="249"/>
                    </a:lnTo>
                    <a:lnTo>
                      <a:pt x="3269" y="271"/>
                    </a:lnTo>
                    <a:lnTo>
                      <a:pt x="3307" y="294"/>
                    </a:lnTo>
                    <a:lnTo>
                      <a:pt x="3342" y="318"/>
                    </a:lnTo>
                    <a:lnTo>
                      <a:pt x="3374" y="342"/>
                    </a:lnTo>
                    <a:lnTo>
                      <a:pt x="3401" y="366"/>
                    </a:lnTo>
                    <a:lnTo>
                      <a:pt x="3424" y="392"/>
                    </a:lnTo>
                    <a:lnTo>
                      <a:pt x="3443" y="418"/>
                    </a:lnTo>
                    <a:lnTo>
                      <a:pt x="3458" y="445"/>
                    </a:lnTo>
                    <a:lnTo>
                      <a:pt x="3469" y="471"/>
                    </a:lnTo>
                    <a:lnTo>
                      <a:pt x="3477" y="498"/>
                    </a:lnTo>
                    <a:lnTo>
                      <a:pt x="3479" y="5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956600" y="6494400"/>
                <a:ext cx="383040" cy="127440"/>
              </a:xfrm>
              <a:custGeom>
                <a:avLst/>
                <a:gdLst/>
                <a:ahLst/>
                <a:rect l="l" t="t" r="r" b="b"/>
                <a:pathLst>
                  <a:path w="3477" h="1070">
                    <a:moveTo>
                      <a:pt x="3477" y="526"/>
                    </a:moveTo>
                    <a:lnTo>
                      <a:pt x="3475" y="554"/>
                    </a:lnTo>
                    <a:lnTo>
                      <a:pt x="3467" y="581"/>
                    </a:lnTo>
                    <a:lnTo>
                      <a:pt x="3456" y="608"/>
                    </a:lnTo>
                    <a:lnTo>
                      <a:pt x="3441" y="636"/>
                    </a:lnTo>
                    <a:lnTo>
                      <a:pt x="3422" y="662"/>
                    </a:lnTo>
                    <a:lnTo>
                      <a:pt x="3398" y="687"/>
                    </a:lnTo>
                    <a:lnTo>
                      <a:pt x="3371" y="712"/>
                    </a:lnTo>
                    <a:lnTo>
                      <a:pt x="3340" y="738"/>
                    </a:lnTo>
                    <a:lnTo>
                      <a:pt x="3305" y="762"/>
                    </a:lnTo>
                    <a:lnTo>
                      <a:pt x="3266" y="785"/>
                    </a:lnTo>
                    <a:lnTo>
                      <a:pt x="3225" y="807"/>
                    </a:lnTo>
                    <a:lnTo>
                      <a:pt x="3180" y="829"/>
                    </a:lnTo>
                    <a:lnTo>
                      <a:pt x="3131" y="851"/>
                    </a:lnTo>
                    <a:lnTo>
                      <a:pt x="3080" y="872"/>
                    </a:lnTo>
                    <a:lnTo>
                      <a:pt x="3025" y="891"/>
                    </a:lnTo>
                    <a:lnTo>
                      <a:pt x="2968" y="910"/>
                    </a:lnTo>
                    <a:lnTo>
                      <a:pt x="2907" y="928"/>
                    </a:lnTo>
                    <a:lnTo>
                      <a:pt x="2844" y="946"/>
                    </a:lnTo>
                    <a:lnTo>
                      <a:pt x="2779" y="962"/>
                    </a:lnTo>
                    <a:lnTo>
                      <a:pt x="2710" y="977"/>
                    </a:lnTo>
                    <a:lnTo>
                      <a:pt x="2639" y="991"/>
                    </a:lnTo>
                    <a:lnTo>
                      <a:pt x="2567" y="1004"/>
                    </a:lnTo>
                    <a:lnTo>
                      <a:pt x="2492" y="1015"/>
                    </a:lnTo>
                    <a:lnTo>
                      <a:pt x="2415" y="1026"/>
                    </a:lnTo>
                    <a:lnTo>
                      <a:pt x="2336" y="1036"/>
                    </a:lnTo>
                    <a:lnTo>
                      <a:pt x="2256" y="1044"/>
                    </a:lnTo>
                    <a:lnTo>
                      <a:pt x="2173" y="1053"/>
                    </a:lnTo>
                    <a:lnTo>
                      <a:pt x="2089" y="1059"/>
                    </a:lnTo>
                    <a:lnTo>
                      <a:pt x="2003" y="1063"/>
                    </a:lnTo>
                    <a:lnTo>
                      <a:pt x="1916" y="1067"/>
                    </a:lnTo>
                    <a:lnTo>
                      <a:pt x="1828" y="1069"/>
                    </a:lnTo>
                    <a:lnTo>
                      <a:pt x="1738" y="1070"/>
                    </a:lnTo>
                    <a:lnTo>
                      <a:pt x="1650" y="1069"/>
                    </a:lnTo>
                    <a:lnTo>
                      <a:pt x="1561" y="1067"/>
                    </a:lnTo>
                    <a:lnTo>
                      <a:pt x="1474" y="1063"/>
                    </a:lnTo>
                    <a:lnTo>
                      <a:pt x="1388" y="1059"/>
                    </a:lnTo>
                    <a:lnTo>
                      <a:pt x="1304" y="1053"/>
                    </a:lnTo>
                    <a:lnTo>
                      <a:pt x="1221" y="1044"/>
                    </a:lnTo>
                    <a:lnTo>
                      <a:pt x="1141" y="1036"/>
                    </a:lnTo>
                    <a:lnTo>
                      <a:pt x="1062" y="1026"/>
                    </a:lnTo>
                    <a:lnTo>
                      <a:pt x="985" y="1015"/>
                    </a:lnTo>
                    <a:lnTo>
                      <a:pt x="910" y="1004"/>
                    </a:lnTo>
                    <a:lnTo>
                      <a:pt x="838" y="991"/>
                    </a:lnTo>
                    <a:lnTo>
                      <a:pt x="767" y="977"/>
                    </a:lnTo>
                    <a:lnTo>
                      <a:pt x="698" y="962"/>
                    </a:lnTo>
                    <a:lnTo>
                      <a:pt x="633" y="946"/>
                    </a:lnTo>
                    <a:lnTo>
                      <a:pt x="570" y="928"/>
                    </a:lnTo>
                    <a:lnTo>
                      <a:pt x="509" y="910"/>
                    </a:lnTo>
                    <a:lnTo>
                      <a:pt x="452" y="891"/>
                    </a:lnTo>
                    <a:lnTo>
                      <a:pt x="397" y="872"/>
                    </a:lnTo>
                    <a:lnTo>
                      <a:pt x="346" y="851"/>
                    </a:lnTo>
                    <a:lnTo>
                      <a:pt x="297" y="829"/>
                    </a:lnTo>
                    <a:lnTo>
                      <a:pt x="252" y="807"/>
                    </a:lnTo>
                    <a:lnTo>
                      <a:pt x="210" y="785"/>
                    </a:lnTo>
                    <a:lnTo>
                      <a:pt x="172" y="762"/>
                    </a:lnTo>
                    <a:lnTo>
                      <a:pt x="137" y="738"/>
                    </a:lnTo>
                    <a:lnTo>
                      <a:pt x="106" y="712"/>
                    </a:lnTo>
                    <a:lnTo>
                      <a:pt x="79" y="687"/>
                    </a:lnTo>
                    <a:lnTo>
                      <a:pt x="55" y="662"/>
                    </a:lnTo>
                    <a:lnTo>
                      <a:pt x="36" y="636"/>
                    </a:lnTo>
                    <a:lnTo>
                      <a:pt x="21" y="608"/>
                    </a:lnTo>
                    <a:lnTo>
                      <a:pt x="9" y="581"/>
                    </a:lnTo>
                    <a:lnTo>
                      <a:pt x="2" y="554"/>
                    </a:lnTo>
                    <a:lnTo>
                      <a:pt x="0" y="526"/>
                    </a:lnTo>
                    <a:lnTo>
                      <a:pt x="2" y="498"/>
                    </a:lnTo>
                    <a:lnTo>
                      <a:pt x="9" y="470"/>
                    </a:lnTo>
                    <a:lnTo>
                      <a:pt x="21" y="444"/>
                    </a:lnTo>
                    <a:lnTo>
                      <a:pt x="36" y="417"/>
                    </a:lnTo>
                    <a:lnTo>
                      <a:pt x="55" y="391"/>
                    </a:lnTo>
                    <a:lnTo>
                      <a:pt x="79" y="366"/>
                    </a:lnTo>
                    <a:lnTo>
                      <a:pt x="106" y="341"/>
                    </a:lnTo>
                    <a:lnTo>
                      <a:pt x="137" y="317"/>
                    </a:lnTo>
                    <a:lnTo>
                      <a:pt x="172" y="293"/>
                    </a:lnTo>
                    <a:lnTo>
                      <a:pt x="210" y="271"/>
                    </a:lnTo>
                    <a:lnTo>
                      <a:pt x="252" y="249"/>
                    </a:lnTo>
                    <a:lnTo>
                      <a:pt x="297" y="228"/>
                    </a:lnTo>
                    <a:lnTo>
                      <a:pt x="346" y="207"/>
                    </a:lnTo>
                    <a:lnTo>
                      <a:pt x="397" y="187"/>
                    </a:lnTo>
                    <a:lnTo>
                      <a:pt x="452" y="168"/>
                    </a:lnTo>
                    <a:lnTo>
                      <a:pt x="509" y="150"/>
                    </a:lnTo>
                    <a:lnTo>
                      <a:pt x="570" y="133"/>
                    </a:lnTo>
                    <a:lnTo>
                      <a:pt x="633" y="117"/>
                    </a:lnTo>
                    <a:lnTo>
                      <a:pt x="698" y="102"/>
                    </a:lnTo>
                    <a:lnTo>
                      <a:pt x="767" y="88"/>
                    </a:lnTo>
                    <a:lnTo>
                      <a:pt x="838" y="74"/>
                    </a:lnTo>
                    <a:lnTo>
                      <a:pt x="910" y="61"/>
                    </a:lnTo>
                    <a:lnTo>
                      <a:pt x="985" y="50"/>
                    </a:lnTo>
                    <a:lnTo>
                      <a:pt x="1062" y="40"/>
                    </a:lnTo>
                    <a:lnTo>
                      <a:pt x="1141" y="31"/>
                    </a:lnTo>
                    <a:lnTo>
                      <a:pt x="1221" y="23"/>
                    </a:lnTo>
                    <a:lnTo>
                      <a:pt x="1304" y="16"/>
                    </a:lnTo>
                    <a:lnTo>
                      <a:pt x="1388" y="11"/>
                    </a:lnTo>
                    <a:lnTo>
                      <a:pt x="1474" y="6"/>
                    </a:lnTo>
                    <a:lnTo>
                      <a:pt x="1561" y="3"/>
                    </a:lnTo>
                    <a:lnTo>
                      <a:pt x="1650" y="1"/>
                    </a:lnTo>
                    <a:lnTo>
                      <a:pt x="1738" y="0"/>
                    </a:lnTo>
                    <a:lnTo>
                      <a:pt x="1828" y="1"/>
                    </a:lnTo>
                    <a:lnTo>
                      <a:pt x="1916" y="3"/>
                    </a:lnTo>
                    <a:lnTo>
                      <a:pt x="2003" y="6"/>
                    </a:lnTo>
                    <a:lnTo>
                      <a:pt x="2089" y="11"/>
                    </a:lnTo>
                    <a:lnTo>
                      <a:pt x="2173" y="16"/>
                    </a:lnTo>
                    <a:lnTo>
                      <a:pt x="2256" y="23"/>
                    </a:lnTo>
                    <a:lnTo>
                      <a:pt x="2336" y="31"/>
                    </a:lnTo>
                    <a:lnTo>
                      <a:pt x="2415" y="40"/>
                    </a:lnTo>
                    <a:lnTo>
                      <a:pt x="2492" y="50"/>
                    </a:lnTo>
                    <a:lnTo>
                      <a:pt x="2567" y="61"/>
                    </a:lnTo>
                    <a:lnTo>
                      <a:pt x="2639" y="74"/>
                    </a:lnTo>
                    <a:lnTo>
                      <a:pt x="2710" y="88"/>
                    </a:lnTo>
                    <a:lnTo>
                      <a:pt x="2779" y="102"/>
                    </a:lnTo>
                    <a:lnTo>
                      <a:pt x="2844" y="117"/>
                    </a:lnTo>
                    <a:lnTo>
                      <a:pt x="2907" y="133"/>
                    </a:lnTo>
                    <a:lnTo>
                      <a:pt x="2968" y="150"/>
                    </a:lnTo>
                    <a:lnTo>
                      <a:pt x="3025" y="168"/>
                    </a:lnTo>
                    <a:lnTo>
                      <a:pt x="3080" y="187"/>
                    </a:lnTo>
                    <a:lnTo>
                      <a:pt x="3131" y="207"/>
                    </a:lnTo>
                    <a:lnTo>
                      <a:pt x="3180" y="228"/>
                    </a:lnTo>
                    <a:lnTo>
                      <a:pt x="3225" y="249"/>
                    </a:lnTo>
                    <a:lnTo>
                      <a:pt x="3266" y="271"/>
                    </a:lnTo>
                    <a:lnTo>
                      <a:pt x="3305" y="293"/>
                    </a:lnTo>
                    <a:lnTo>
                      <a:pt x="3340" y="317"/>
                    </a:lnTo>
                    <a:lnTo>
                      <a:pt x="3371" y="341"/>
                    </a:lnTo>
                    <a:lnTo>
                      <a:pt x="3398" y="366"/>
                    </a:lnTo>
                    <a:lnTo>
                      <a:pt x="3422" y="391"/>
                    </a:lnTo>
                    <a:lnTo>
                      <a:pt x="3441" y="417"/>
                    </a:lnTo>
                    <a:lnTo>
                      <a:pt x="3456" y="444"/>
                    </a:lnTo>
                    <a:lnTo>
                      <a:pt x="3467" y="470"/>
                    </a:lnTo>
                    <a:lnTo>
                      <a:pt x="3475" y="498"/>
                    </a:lnTo>
                    <a:lnTo>
                      <a:pt x="3477" y="5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956600" y="6494400"/>
                <a:ext cx="383040" cy="127440"/>
              </a:xfrm>
              <a:custGeom>
                <a:avLst/>
                <a:gdLst/>
                <a:ahLst/>
                <a:rect l="l" t="t" r="r" b="b"/>
                <a:pathLst>
                  <a:path w="3473" h="1068">
                    <a:moveTo>
                      <a:pt x="3473" y="525"/>
                    </a:moveTo>
                    <a:lnTo>
                      <a:pt x="3471" y="553"/>
                    </a:lnTo>
                    <a:lnTo>
                      <a:pt x="3464" y="580"/>
                    </a:lnTo>
                    <a:lnTo>
                      <a:pt x="3453" y="607"/>
                    </a:lnTo>
                    <a:lnTo>
                      <a:pt x="3438" y="635"/>
                    </a:lnTo>
                    <a:lnTo>
                      <a:pt x="3418" y="661"/>
                    </a:lnTo>
                    <a:lnTo>
                      <a:pt x="3395" y="686"/>
                    </a:lnTo>
                    <a:lnTo>
                      <a:pt x="3368" y="711"/>
                    </a:lnTo>
                    <a:lnTo>
                      <a:pt x="3336" y="736"/>
                    </a:lnTo>
                    <a:lnTo>
                      <a:pt x="3302" y="760"/>
                    </a:lnTo>
                    <a:lnTo>
                      <a:pt x="3263" y="783"/>
                    </a:lnTo>
                    <a:lnTo>
                      <a:pt x="3221" y="806"/>
                    </a:lnTo>
                    <a:lnTo>
                      <a:pt x="3177" y="828"/>
                    </a:lnTo>
                    <a:lnTo>
                      <a:pt x="3128" y="850"/>
                    </a:lnTo>
                    <a:lnTo>
                      <a:pt x="3077" y="870"/>
                    </a:lnTo>
                    <a:lnTo>
                      <a:pt x="3022" y="890"/>
                    </a:lnTo>
                    <a:lnTo>
                      <a:pt x="2965" y="908"/>
                    </a:lnTo>
                    <a:lnTo>
                      <a:pt x="2904" y="926"/>
                    </a:lnTo>
                    <a:lnTo>
                      <a:pt x="2841" y="944"/>
                    </a:lnTo>
                    <a:lnTo>
                      <a:pt x="2776" y="960"/>
                    </a:lnTo>
                    <a:lnTo>
                      <a:pt x="2707" y="975"/>
                    </a:lnTo>
                    <a:lnTo>
                      <a:pt x="2637" y="989"/>
                    </a:lnTo>
                    <a:lnTo>
                      <a:pt x="2565" y="1002"/>
                    </a:lnTo>
                    <a:lnTo>
                      <a:pt x="2489" y="1014"/>
                    </a:lnTo>
                    <a:lnTo>
                      <a:pt x="2412" y="1024"/>
                    </a:lnTo>
                    <a:lnTo>
                      <a:pt x="2333" y="1034"/>
                    </a:lnTo>
                    <a:lnTo>
                      <a:pt x="2253" y="1042"/>
                    </a:lnTo>
                    <a:lnTo>
                      <a:pt x="2171" y="1051"/>
                    </a:lnTo>
                    <a:lnTo>
                      <a:pt x="2087" y="1057"/>
                    </a:lnTo>
                    <a:lnTo>
                      <a:pt x="2001" y="1061"/>
                    </a:lnTo>
                    <a:lnTo>
                      <a:pt x="1914" y="1065"/>
                    </a:lnTo>
                    <a:lnTo>
                      <a:pt x="1826" y="1067"/>
                    </a:lnTo>
                    <a:lnTo>
                      <a:pt x="1736" y="1068"/>
                    </a:lnTo>
                    <a:lnTo>
                      <a:pt x="1648" y="1067"/>
                    </a:lnTo>
                    <a:lnTo>
                      <a:pt x="1559" y="1065"/>
                    </a:lnTo>
                    <a:lnTo>
                      <a:pt x="1472" y="1061"/>
                    </a:lnTo>
                    <a:lnTo>
                      <a:pt x="1387" y="1057"/>
                    </a:lnTo>
                    <a:lnTo>
                      <a:pt x="1302" y="1051"/>
                    </a:lnTo>
                    <a:lnTo>
                      <a:pt x="1220" y="1042"/>
                    </a:lnTo>
                    <a:lnTo>
                      <a:pt x="1140" y="1034"/>
                    </a:lnTo>
                    <a:lnTo>
                      <a:pt x="1061" y="1024"/>
                    </a:lnTo>
                    <a:lnTo>
                      <a:pt x="984" y="1014"/>
                    </a:lnTo>
                    <a:lnTo>
                      <a:pt x="908" y="1002"/>
                    </a:lnTo>
                    <a:lnTo>
                      <a:pt x="836" y="989"/>
                    </a:lnTo>
                    <a:lnTo>
                      <a:pt x="766" y="975"/>
                    </a:lnTo>
                    <a:lnTo>
                      <a:pt x="697" y="960"/>
                    </a:lnTo>
                    <a:lnTo>
                      <a:pt x="632" y="944"/>
                    </a:lnTo>
                    <a:lnTo>
                      <a:pt x="569" y="926"/>
                    </a:lnTo>
                    <a:lnTo>
                      <a:pt x="508" y="908"/>
                    </a:lnTo>
                    <a:lnTo>
                      <a:pt x="451" y="890"/>
                    </a:lnTo>
                    <a:lnTo>
                      <a:pt x="396" y="870"/>
                    </a:lnTo>
                    <a:lnTo>
                      <a:pt x="345" y="850"/>
                    </a:lnTo>
                    <a:lnTo>
                      <a:pt x="296" y="828"/>
                    </a:lnTo>
                    <a:lnTo>
                      <a:pt x="252" y="806"/>
                    </a:lnTo>
                    <a:lnTo>
                      <a:pt x="209" y="783"/>
                    </a:lnTo>
                    <a:lnTo>
                      <a:pt x="171" y="760"/>
                    </a:lnTo>
                    <a:lnTo>
                      <a:pt x="137" y="736"/>
                    </a:lnTo>
                    <a:lnTo>
                      <a:pt x="105" y="711"/>
                    </a:lnTo>
                    <a:lnTo>
                      <a:pt x="78" y="686"/>
                    </a:lnTo>
                    <a:lnTo>
                      <a:pt x="55" y="661"/>
                    </a:lnTo>
                    <a:lnTo>
                      <a:pt x="36" y="635"/>
                    </a:lnTo>
                    <a:lnTo>
                      <a:pt x="20" y="607"/>
                    </a:lnTo>
                    <a:lnTo>
                      <a:pt x="9" y="580"/>
                    </a:lnTo>
                    <a:lnTo>
                      <a:pt x="2" y="553"/>
                    </a:lnTo>
                    <a:lnTo>
                      <a:pt x="0" y="525"/>
                    </a:lnTo>
                    <a:lnTo>
                      <a:pt x="2" y="497"/>
                    </a:lnTo>
                    <a:lnTo>
                      <a:pt x="9" y="469"/>
                    </a:lnTo>
                    <a:lnTo>
                      <a:pt x="20" y="443"/>
                    </a:lnTo>
                    <a:lnTo>
                      <a:pt x="36" y="417"/>
                    </a:lnTo>
                    <a:lnTo>
                      <a:pt x="55" y="390"/>
                    </a:lnTo>
                    <a:lnTo>
                      <a:pt x="78" y="365"/>
                    </a:lnTo>
                    <a:lnTo>
                      <a:pt x="105" y="341"/>
                    </a:lnTo>
                    <a:lnTo>
                      <a:pt x="137" y="317"/>
                    </a:lnTo>
                    <a:lnTo>
                      <a:pt x="171" y="293"/>
                    </a:lnTo>
                    <a:lnTo>
                      <a:pt x="209" y="270"/>
                    </a:lnTo>
                    <a:lnTo>
                      <a:pt x="252" y="248"/>
                    </a:lnTo>
                    <a:lnTo>
                      <a:pt x="296" y="227"/>
                    </a:lnTo>
                    <a:lnTo>
                      <a:pt x="345" y="207"/>
                    </a:lnTo>
                    <a:lnTo>
                      <a:pt x="396" y="186"/>
                    </a:lnTo>
                    <a:lnTo>
                      <a:pt x="451" y="168"/>
                    </a:lnTo>
                    <a:lnTo>
                      <a:pt x="508" y="150"/>
                    </a:lnTo>
                    <a:lnTo>
                      <a:pt x="569" y="133"/>
                    </a:lnTo>
                    <a:lnTo>
                      <a:pt x="632" y="117"/>
                    </a:lnTo>
                    <a:lnTo>
                      <a:pt x="697" y="102"/>
                    </a:lnTo>
                    <a:lnTo>
                      <a:pt x="766" y="88"/>
                    </a:lnTo>
                    <a:lnTo>
                      <a:pt x="836" y="73"/>
                    </a:lnTo>
                    <a:lnTo>
                      <a:pt x="908" y="61"/>
                    </a:lnTo>
                    <a:lnTo>
                      <a:pt x="984" y="50"/>
                    </a:lnTo>
                    <a:lnTo>
                      <a:pt x="1061" y="40"/>
                    </a:lnTo>
                    <a:lnTo>
                      <a:pt x="1140" y="31"/>
                    </a:lnTo>
                    <a:lnTo>
                      <a:pt x="1220" y="23"/>
                    </a:lnTo>
                    <a:lnTo>
                      <a:pt x="1302" y="16"/>
                    </a:lnTo>
                    <a:lnTo>
                      <a:pt x="1387" y="10"/>
                    </a:lnTo>
                    <a:lnTo>
                      <a:pt x="1472" y="6"/>
                    </a:lnTo>
                    <a:lnTo>
                      <a:pt x="1559" y="3"/>
                    </a:lnTo>
                    <a:lnTo>
                      <a:pt x="1648" y="1"/>
                    </a:lnTo>
                    <a:lnTo>
                      <a:pt x="1736" y="0"/>
                    </a:lnTo>
                    <a:lnTo>
                      <a:pt x="1826" y="1"/>
                    </a:lnTo>
                    <a:lnTo>
                      <a:pt x="1914" y="3"/>
                    </a:lnTo>
                    <a:lnTo>
                      <a:pt x="2001" y="6"/>
                    </a:lnTo>
                    <a:lnTo>
                      <a:pt x="2087" y="10"/>
                    </a:lnTo>
                    <a:lnTo>
                      <a:pt x="2171" y="16"/>
                    </a:lnTo>
                    <a:lnTo>
                      <a:pt x="2253" y="23"/>
                    </a:lnTo>
                    <a:lnTo>
                      <a:pt x="2333" y="31"/>
                    </a:lnTo>
                    <a:lnTo>
                      <a:pt x="2412" y="40"/>
                    </a:lnTo>
                    <a:lnTo>
                      <a:pt x="2489" y="50"/>
                    </a:lnTo>
                    <a:lnTo>
                      <a:pt x="2565" y="61"/>
                    </a:lnTo>
                    <a:lnTo>
                      <a:pt x="2637" y="73"/>
                    </a:lnTo>
                    <a:lnTo>
                      <a:pt x="2707" y="88"/>
                    </a:lnTo>
                    <a:lnTo>
                      <a:pt x="2776" y="102"/>
                    </a:lnTo>
                    <a:lnTo>
                      <a:pt x="2841" y="117"/>
                    </a:lnTo>
                    <a:lnTo>
                      <a:pt x="2904" y="133"/>
                    </a:lnTo>
                    <a:lnTo>
                      <a:pt x="2965" y="150"/>
                    </a:lnTo>
                    <a:lnTo>
                      <a:pt x="3022" y="168"/>
                    </a:lnTo>
                    <a:lnTo>
                      <a:pt x="3077" y="186"/>
                    </a:lnTo>
                    <a:lnTo>
                      <a:pt x="3128" y="207"/>
                    </a:lnTo>
                    <a:lnTo>
                      <a:pt x="3177" y="227"/>
                    </a:lnTo>
                    <a:lnTo>
                      <a:pt x="3221" y="248"/>
                    </a:lnTo>
                    <a:lnTo>
                      <a:pt x="3263" y="270"/>
                    </a:lnTo>
                    <a:lnTo>
                      <a:pt x="3302" y="293"/>
                    </a:lnTo>
                    <a:lnTo>
                      <a:pt x="3336" y="317"/>
                    </a:lnTo>
                    <a:lnTo>
                      <a:pt x="3368" y="341"/>
                    </a:lnTo>
                    <a:lnTo>
                      <a:pt x="3395" y="365"/>
                    </a:lnTo>
                    <a:lnTo>
                      <a:pt x="3418" y="390"/>
                    </a:lnTo>
                    <a:lnTo>
                      <a:pt x="3438" y="417"/>
                    </a:lnTo>
                    <a:lnTo>
                      <a:pt x="3453" y="443"/>
                    </a:lnTo>
                    <a:lnTo>
                      <a:pt x="3464" y="469"/>
                    </a:lnTo>
                    <a:lnTo>
                      <a:pt x="3471" y="497"/>
                    </a:lnTo>
                    <a:lnTo>
                      <a:pt x="3473" y="5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956600" y="6494400"/>
                <a:ext cx="383040" cy="127440"/>
              </a:xfrm>
              <a:custGeom>
                <a:avLst/>
                <a:gdLst/>
                <a:ahLst/>
                <a:rect l="l" t="t" r="r" b="b"/>
                <a:pathLst>
                  <a:path w="3471" h="1066">
                    <a:moveTo>
                      <a:pt x="3471" y="524"/>
                    </a:moveTo>
                    <a:lnTo>
                      <a:pt x="3469" y="552"/>
                    </a:lnTo>
                    <a:lnTo>
                      <a:pt x="3461" y="579"/>
                    </a:lnTo>
                    <a:lnTo>
                      <a:pt x="3450" y="606"/>
                    </a:lnTo>
                    <a:lnTo>
                      <a:pt x="3435" y="633"/>
                    </a:lnTo>
                    <a:lnTo>
                      <a:pt x="3416" y="659"/>
                    </a:lnTo>
                    <a:lnTo>
                      <a:pt x="3393" y="685"/>
                    </a:lnTo>
                    <a:lnTo>
                      <a:pt x="3365" y="710"/>
                    </a:lnTo>
                    <a:lnTo>
                      <a:pt x="3334" y="735"/>
                    </a:lnTo>
                    <a:lnTo>
                      <a:pt x="3300" y="759"/>
                    </a:lnTo>
                    <a:lnTo>
                      <a:pt x="3261" y="782"/>
                    </a:lnTo>
                    <a:lnTo>
                      <a:pt x="3219" y="804"/>
                    </a:lnTo>
                    <a:lnTo>
                      <a:pt x="3175" y="826"/>
                    </a:lnTo>
                    <a:lnTo>
                      <a:pt x="3126" y="848"/>
                    </a:lnTo>
                    <a:lnTo>
                      <a:pt x="3075" y="868"/>
                    </a:lnTo>
                    <a:lnTo>
                      <a:pt x="3020" y="888"/>
                    </a:lnTo>
                    <a:lnTo>
                      <a:pt x="2963" y="907"/>
                    </a:lnTo>
                    <a:lnTo>
                      <a:pt x="2902" y="924"/>
                    </a:lnTo>
                    <a:lnTo>
                      <a:pt x="2839" y="942"/>
                    </a:lnTo>
                    <a:lnTo>
                      <a:pt x="2774" y="958"/>
                    </a:lnTo>
                    <a:lnTo>
                      <a:pt x="2706" y="973"/>
                    </a:lnTo>
                    <a:lnTo>
                      <a:pt x="2635" y="987"/>
                    </a:lnTo>
                    <a:lnTo>
                      <a:pt x="2563" y="1000"/>
                    </a:lnTo>
                    <a:lnTo>
                      <a:pt x="2488" y="1012"/>
                    </a:lnTo>
                    <a:lnTo>
                      <a:pt x="2411" y="1022"/>
                    </a:lnTo>
                    <a:lnTo>
                      <a:pt x="2332" y="1032"/>
                    </a:lnTo>
                    <a:lnTo>
                      <a:pt x="2252" y="1041"/>
                    </a:lnTo>
                    <a:lnTo>
                      <a:pt x="2169" y="1049"/>
                    </a:lnTo>
                    <a:lnTo>
                      <a:pt x="2085" y="1055"/>
                    </a:lnTo>
                    <a:lnTo>
                      <a:pt x="2000" y="1059"/>
                    </a:lnTo>
                    <a:lnTo>
                      <a:pt x="1913" y="1063"/>
                    </a:lnTo>
                    <a:lnTo>
                      <a:pt x="1824" y="1065"/>
                    </a:lnTo>
                    <a:lnTo>
                      <a:pt x="1735" y="1066"/>
                    </a:lnTo>
                    <a:lnTo>
                      <a:pt x="1647" y="1065"/>
                    </a:lnTo>
                    <a:lnTo>
                      <a:pt x="1558" y="1063"/>
                    </a:lnTo>
                    <a:lnTo>
                      <a:pt x="1471" y="1059"/>
                    </a:lnTo>
                    <a:lnTo>
                      <a:pt x="1386" y="1055"/>
                    </a:lnTo>
                    <a:lnTo>
                      <a:pt x="1302" y="1049"/>
                    </a:lnTo>
                    <a:lnTo>
                      <a:pt x="1219" y="1041"/>
                    </a:lnTo>
                    <a:lnTo>
                      <a:pt x="1139" y="1032"/>
                    </a:lnTo>
                    <a:lnTo>
                      <a:pt x="1060" y="1022"/>
                    </a:lnTo>
                    <a:lnTo>
                      <a:pt x="983" y="1012"/>
                    </a:lnTo>
                    <a:lnTo>
                      <a:pt x="908" y="1000"/>
                    </a:lnTo>
                    <a:lnTo>
                      <a:pt x="836" y="987"/>
                    </a:lnTo>
                    <a:lnTo>
                      <a:pt x="766" y="973"/>
                    </a:lnTo>
                    <a:lnTo>
                      <a:pt x="697" y="958"/>
                    </a:lnTo>
                    <a:lnTo>
                      <a:pt x="632" y="942"/>
                    </a:lnTo>
                    <a:lnTo>
                      <a:pt x="569" y="924"/>
                    </a:lnTo>
                    <a:lnTo>
                      <a:pt x="508" y="907"/>
                    </a:lnTo>
                    <a:lnTo>
                      <a:pt x="451" y="888"/>
                    </a:lnTo>
                    <a:lnTo>
                      <a:pt x="396" y="868"/>
                    </a:lnTo>
                    <a:lnTo>
                      <a:pt x="345" y="848"/>
                    </a:lnTo>
                    <a:lnTo>
                      <a:pt x="296" y="826"/>
                    </a:lnTo>
                    <a:lnTo>
                      <a:pt x="252" y="804"/>
                    </a:lnTo>
                    <a:lnTo>
                      <a:pt x="209" y="782"/>
                    </a:lnTo>
                    <a:lnTo>
                      <a:pt x="171" y="759"/>
                    </a:lnTo>
                    <a:lnTo>
                      <a:pt x="137" y="735"/>
                    </a:lnTo>
                    <a:lnTo>
                      <a:pt x="105" y="710"/>
                    </a:lnTo>
                    <a:lnTo>
                      <a:pt x="78" y="685"/>
                    </a:lnTo>
                    <a:lnTo>
                      <a:pt x="55" y="659"/>
                    </a:lnTo>
                    <a:lnTo>
                      <a:pt x="36" y="633"/>
                    </a:lnTo>
                    <a:lnTo>
                      <a:pt x="21" y="606"/>
                    </a:lnTo>
                    <a:lnTo>
                      <a:pt x="9" y="579"/>
                    </a:lnTo>
                    <a:lnTo>
                      <a:pt x="2" y="552"/>
                    </a:lnTo>
                    <a:lnTo>
                      <a:pt x="0" y="524"/>
                    </a:lnTo>
                    <a:lnTo>
                      <a:pt x="2" y="496"/>
                    </a:lnTo>
                    <a:lnTo>
                      <a:pt x="9" y="469"/>
                    </a:lnTo>
                    <a:lnTo>
                      <a:pt x="21" y="442"/>
                    </a:lnTo>
                    <a:lnTo>
                      <a:pt x="36" y="416"/>
                    </a:lnTo>
                    <a:lnTo>
                      <a:pt x="55" y="389"/>
                    </a:lnTo>
                    <a:lnTo>
                      <a:pt x="78" y="364"/>
                    </a:lnTo>
                    <a:lnTo>
                      <a:pt x="105" y="340"/>
                    </a:lnTo>
                    <a:lnTo>
                      <a:pt x="137" y="316"/>
                    </a:lnTo>
                    <a:lnTo>
                      <a:pt x="171" y="292"/>
                    </a:lnTo>
                    <a:lnTo>
                      <a:pt x="209" y="270"/>
                    </a:lnTo>
                    <a:lnTo>
                      <a:pt x="252" y="248"/>
                    </a:lnTo>
                    <a:lnTo>
                      <a:pt x="296" y="227"/>
                    </a:lnTo>
                    <a:lnTo>
                      <a:pt x="345" y="207"/>
                    </a:lnTo>
                    <a:lnTo>
                      <a:pt x="396" y="186"/>
                    </a:lnTo>
                    <a:lnTo>
                      <a:pt x="451" y="167"/>
                    </a:lnTo>
                    <a:lnTo>
                      <a:pt x="508" y="150"/>
                    </a:lnTo>
                    <a:lnTo>
                      <a:pt x="569" y="133"/>
                    </a:lnTo>
                    <a:lnTo>
                      <a:pt x="632" y="117"/>
                    </a:lnTo>
                    <a:lnTo>
                      <a:pt x="697" y="101"/>
                    </a:lnTo>
                    <a:lnTo>
                      <a:pt x="766" y="87"/>
                    </a:lnTo>
                    <a:lnTo>
                      <a:pt x="836" y="73"/>
                    </a:lnTo>
                    <a:lnTo>
                      <a:pt x="908" y="61"/>
                    </a:lnTo>
                    <a:lnTo>
                      <a:pt x="983" y="50"/>
                    </a:lnTo>
                    <a:lnTo>
                      <a:pt x="1060" y="40"/>
                    </a:lnTo>
                    <a:lnTo>
                      <a:pt x="1139" y="31"/>
                    </a:lnTo>
                    <a:lnTo>
                      <a:pt x="1219" y="23"/>
                    </a:lnTo>
                    <a:lnTo>
                      <a:pt x="1302" y="16"/>
                    </a:lnTo>
                    <a:lnTo>
                      <a:pt x="1386" y="10"/>
                    </a:lnTo>
                    <a:lnTo>
                      <a:pt x="1471" y="6"/>
                    </a:lnTo>
                    <a:lnTo>
                      <a:pt x="1558" y="3"/>
                    </a:lnTo>
                    <a:lnTo>
                      <a:pt x="1647" y="1"/>
                    </a:lnTo>
                    <a:lnTo>
                      <a:pt x="1735" y="0"/>
                    </a:lnTo>
                    <a:lnTo>
                      <a:pt x="1824" y="1"/>
                    </a:lnTo>
                    <a:lnTo>
                      <a:pt x="1913" y="3"/>
                    </a:lnTo>
                    <a:lnTo>
                      <a:pt x="2000" y="6"/>
                    </a:lnTo>
                    <a:lnTo>
                      <a:pt x="2085" y="10"/>
                    </a:lnTo>
                    <a:lnTo>
                      <a:pt x="2169" y="16"/>
                    </a:lnTo>
                    <a:lnTo>
                      <a:pt x="2252" y="23"/>
                    </a:lnTo>
                    <a:lnTo>
                      <a:pt x="2332" y="31"/>
                    </a:lnTo>
                    <a:lnTo>
                      <a:pt x="2411" y="40"/>
                    </a:lnTo>
                    <a:lnTo>
                      <a:pt x="2488" y="50"/>
                    </a:lnTo>
                    <a:lnTo>
                      <a:pt x="2563" y="61"/>
                    </a:lnTo>
                    <a:lnTo>
                      <a:pt x="2635" y="73"/>
                    </a:lnTo>
                    <a:lnTo>
                      <a:pt x="2706" y="87"/>
                    </a:lnTo>
                    <a:lnTo>
                      <a:pt x="2774" y="101"/>
                    </a:lnTo>
                    <a:lnTo>
                      <a:pt x="2839" y="117"/>
                    </a:lnTo>
                    <a:lnTo>
                      <a:pt x="2902" y="133"/>
                    </a:lnTo>
                    <a:lnTo>
                      <a:pt x="2963" y="150"/>
                    </a:lnTo>
                    <a:lnTo>
                      <a:pt x="3020" y="167"/>
                    </a:lnTo>
                    <a:lnTo>
                      <a:pt x="3075" y="186"/>
                    </a:lnTo>
                    <a:lnTo>
                      <a:pt x="3126" y="207"/>
                    </a:lnTo>
                    <a:lnTo>
                      <a:pt x="3175" y="227"/>
                    </a:lnTo>
                    <a:lnTo>
                      <a:pt x="3219" y="248"/>
                    </a:lnTo>
                    <a:lnTo>
                      <a:pt x="3261" y="270"/>
                    </a:lnTo>
                    <a:lnTo>
                      <a:pt x="3300" y="292"/>
                    </a:lnTo>
                    <a:lnTo>
                      <a:pt x="3334" y="316"/>
                    </a:lnTo>
                    <a:lnTo>
                      <a:pt x="3365" y="340"/>
                    </a:lnTo>
                    <a:lnTo>
                      <a:pt x="3393" y="364"/>
                    </a:lnTo>
                    <a:lnTo>
                      <a:pt x="3416" y="389"/>
                    </a:lnTo>
                    <a:lnTo>
                      <a:pt x="3435" y="416"/>
                    </a:lnTo>
                    <a:lnTo>
                      <a:pt x="3450" y="442"/>
                    </a:lnTo>
                    <a:lnTo>
                      <a:pt x="3461" y="469"/>
                    </a:lnTo>
                    <a:lnTo>
                      <a:pt x="3469" y="496"/>
                    </a:lnTo>
                    <a:lnTo>
                      <a:pt x="3471" y="5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956600" y="6494400"/>
                <a:ext cx="383040" cy="127440"/>
              </a:xfrm>
              <a:custGeom>
                <a:avLst/>
                <a:gdLst/>
                <a:ahLst/>
                <a:rect l="l" t="t" r="r" b="b"/>
                <a:pathLst>
                  <a:path w="3468" h="1064">
                    <a:moveTo>
                      <a:pt x="3468" y="523"/>
                    </a:moveTo>
                    <a:lnTo>
                      <a:pt x="3464" y="551"/>
                    </a:lnTo>
                    <a:lnTo>
                      <a:pt x="3458" y="578"/>
                    </a:lnTo>
                    <a:lnTo>
                      <a:pt x="3447" y="605"/>
                    </a:lnTo>
                    <a:lnTo>
                      <a:pt x="3432" y="632"/>
                    </a:lnTo>
                    <a:lnTo>
                      <a:pt x="3413" y="658"/>
                    </a:lnTo>
                    <a:lnTo>
                      <a:pt x="3389" y="683"/>
                    </a:lnTo>
                    <a:lnTo>
                      <a:pt x="3361" y="708"/>
                    </a:lnTo>
                    <a:lnTo>
                      <a:pt x="3331" y="734"/>
                    </a:lnTo>
                    <a:lnTo>
                      <a:pt x="3296" y="757"/>
                    </a:lnTo>
                    <a:lnTo>
                      <a:pt x="3257" y="780"/>
                    </a:lnTo>
                    <a:lnTo>
                      <a:pt x="3216" y="803"/>
                    </a:lnTo>
                    <a:lnTo>
                      <a:pt x="3171" y="825"/>
                    </a:lnTo>
                    <a:lnTo>
                      <a:pt x="3123" y="847"/>
                    </a:lnTo>
                    <a:lnTo>
                      <a:pt x="3072" y="867"/>
                    </a:lnTo>
                    <a:lnTo>
                      <a:pt x="3017" y="886"/>
                    </a:lnTo>
                    <a:lnTo>
                      <a:pt x="2960" y="905"/>
                    </a:lnTo>
                    <a:lnTo>
                      <a:pt x="2899" y="923"/>
                    </a:lnTo>
                    <a:lnTo>
                      <a:pt x="2836" y="940"/>
                    </a:lnTo>
                    <a:lnTo>
                      <a:pt x="2771" y="956"/>
                    </a:lnTo>
                    <a:lnTo>
                      <a:pt x="2703" y="971"/>
                    </a:lnTo>
                    <a:lnTo>
                      <a:pt x="2632" y="985"/>
                    </a:lnTo>
                    <a:lnTo>
                      <a:pt x="2560" y="998"/>
                    </a:lnTo>
                    <a:lnTo>
                      <a:pt x="2485" y="1010"/>
                    </a:lnTo>
                    <a:lnTo>
                      <a:pt x="2408" y="1021"/>
                    </a:lnTo>
                    <a:lnTo>
                      <a:pt x="2329" y="1030"/>
                    </a:lnTo>
                    <a:lnTo>
                      <a:pt x="2249" y="1039"/>
                    </a:lnTo>
                    <a:lnTo>
                      <a:pt x="2167" y="1047"/>
                    </a:lnTo>
                    <a:lnTo>
                      <a:pt x="2083" y="1053"/>
                    </a:lnTo>
                    <a:lnTo>
                      <a:pt x="1997" y="1058"/>
                    </a:lnTo>
                    <a:lnTo>
                      <a:pt x="1911" y="1061"/>
                    </a:lnTo>
                    <a:lnTo>
                      <a:pt x="1822" y="1063"/>
                    </a:lnTo>
                    <a:lnTo>
                      <a:pt x="1733" y="1064"/>
                    </a:lnTo>
                    <a:lnTo>
                      <a:pt x="1645" y="1063"/>
                    </a:lnTo>
                    <a:lnTo>
                      <a:pt x="1557" y="1061"/>
                    </a:lnTo>
                    <a:lnTo>
                      <a:pt x="1470" y="1058"/>
                    </a:lnTo>
                    <a:lnTo>
                      <a:pt x="1384" y="1053"/>
                    </a:lnTo>
                    <a:lnTo>
                      <a:pt x="1300" y="1047"/>
                    </a:lnTo>
                    <a:lnTo>
                      <a:pt x="1218" y="1039"/>
                    </a:lnTo>
                    <a:lnTo>
                      <a:pt x="1138" y="1030"/>
                    </a:lnTo>
                    <a:lnTo>
                      <a:pt x="1059" y="1021"/>
                    </a:lnTo>
                    <a:lnTo>
                      <a:pt x="982" y="1010"/>
                    </a:lnTo>
                    <a:lnTo>
                      <a:pt x="907" y="998"/>
                    </a:lnTo>
                    <a:lnTo>
                      <a:pt x="835" y="985"/>
                    </a:lnTo>
                    <a:lnTo>
                      <a:pt x="764" y="971"/>
                    </a:lnTo>
                    <a:lnTo>
                      <a:pt x="696" y="956"/>
                    </a:lnTo>
                    <a:lnTo>
                      <a:pt x="631" y="940"/>
                    </a:lnTo>
                    <a:lnTo>
                      <a:pt x="568" y="923"/>
                    </a:lnTo>
                    <a:lnTo>
                      <a:pt x="507" y="905"/>
                    </a:lnTo>
                    <a:lnTo>
                      <a:pt x="450" y="886"/>
                    </a:lnTo>
                    <a:lnTo>
                      <a:pt x="395" y="867"/>
                    </a:lnTo>
                    <a:lnTo>
                      <a:pt x="345" y="847"/>
                    </a:lnTo>
                    <a:lnTo>
                      <a:pt x="296" y="825"/>
                    </a:lnTo>
                    <a:lnTo>
                      <a:pt x="251" y="803"/>
                    </a:lnTo>
                    <a:lnTo>
                      <a:pt x="209" y="780"/>
                    </a:lnTo>
                    <a:lnTo>
                      <a:pt x="171" y="757"/>
                    </a:lnTo>
                    <a:lnTo>
                      <a:pt x="136" y="734"/>
                    </a:lnTo>
                    <a:lnTo>
                      <a:pt x="105" y="708"/>
                    </a:lnTo>
                    <a:lnTo>
                      <a:pt x="78" y="683"/>
                    </a:lnTo>
                    <a:lnTo>
                      <a:pt x="55" y="658"/>
                    </a:lnTo>
                    <a:lnTo>
                      <a:pt x="35" y="632"/>
                    </a:lnTo>
                    <a:lnTo>
                      <a:pt x="20" y="605"/>
                    </a:lnTo>
                    <a:lnTo>
                      <a:pt x="8" y="578"/>
                    </a:lnTo>
                    <a:lnTo>
                      <a:pt x="2" y="551"/>
                    </a:lnTo>
                    <a:lnTo>
                      <a:pt x="0" y="523"/>
                    </a:lnTo>
                    <a:lnTo>
                      <a:pt x="2" y="495"/>
                    </a:lnTo>
                    <a:lnTo>
                      <a:pt x="8" y="468"/>
                    </a:lnTo>
                    <a:lnTo>
                      <a:pt x="20" y="441"/>
                    </a:lnTo>
                    <a:lnTo>
                      <a:pt x="35" y="415"/>
                    </a:lnTo>
                    <a:lnTo>
                      <a:pt x="55" y="389"/>
                    </a:lnTo>
                    <a:lnTo>
                      <a:pt x="78" y="364"/>
                    </a:lnTo>
                    <a:lnTo>
                      <a:pt x="105" y="339"/>
                    </a:lnTo>
                    <a:lnTo>
                      <a:pt x="136" y="315"/>
                    </a:lnTo>
                    <a:lnTo>
                      <a:pt x="171" y="291"/>
                    </a:lnTo>
                    <a:lnTo>
                      <a:pt x="209" y="269"/>
                    </a:lnTo>
                    <a:lnTo>
                      <a:pt x="251" y="247"/>
                    </a:lnTo>
                    <a:lnTo>
                      <a:pt x="296" y="226"/>
                    </a:lnTo>
                    <a:lnTo>
                      <a:pt x="345" y="206"/>
                    </a:lnTo>
                    <a:lnTo>
                      <a:pt x="395" y="187"/>
                    </a:lnTo>
                    <a:lnTo>
                      <a:pt x="450" y="167"/>
                    </a:lnTo>
                    <a:lnTo>
                      <a:pt x="507" y="149"/>
                    </a:lnTo>
                    <a:lnTo>
                      <a:pt x="568" y="132"/>
                    </a:lnTo>
                    <a:lnTo>
                      <a:pt x="631" y="116"/>
                    </a:lnTo>
                    <a:lnTo>
                      <a:pt x="696" y="101"/>
                    </a:lnTo>
                    <a:lnTo>
                      <a:pt x="764" y="87"/>
                    </a:lnTo>
                    <a:lnTo>
                      <a:pt x="835" y="73"/>
                    </a:lnTo>
                    <a:lnTo>
                      <a:pt x="907" y="61"/>
                    </a:lnTo>
                    <a:lnTo>
                      <a:pt x="982" y="50"/>
                    </a:lnTo>
                    <a:lnTo>
                      <a:pt x="1059" y="40"/>
                    </a:lnTo>
                    <a:lnTo>
                      <a:pt x="1138" y="31"/>
                    </a:lnTo>
                    <a:lnTo>
                      <a:pt x="1218" y="23"/>
                    </a:lnTo>
                    <a:lnTo>
                      <a:pt x="1300" y="16"/>
                    </a:lnTo>
                    <a:lnTo>
                      <a:pt x="1384" y="10"/>
                    </a:lnTo>
                    <a:lnTo>
                      <a:pt x="1470" y="6"/>
                    </a:lnTo>
                    <a:lnTo>
                      <a:pt x="1557" y="3"/>
                    </a:lnTo>
                    <a:lnTo>
                      <a:pt x="1645" y="1"/>
                    </a:lnTo>
                    <a:lnTo>
                      <a:pt x="1733" y="0"/>
                    </a:lnTo>
                    <a:lnTo>
                      <a:pt x="1822" y="1"/>
                    </a:lnTo>
                    <a:lnTo>
                      <a:pt x="1911" y="3"/>
                    </a:lnTo>
                    <a:lnTo>
                      <a:pt x="1997" y="6"/>
                    </a:lnTo>
                    <a:lnTo>
                      <a:pt x="2083" y="10"/>
                    </a:lnTo>
                    <a:lnTo>
                      <a:pt x="2167" y="16"/>
                    </a:lnTo>
                    <a:lnTo>
                      <a:pt x="2249" y="23"/>
                    </a:lnTo>
                    <a:lnTo>
                      <a:pt x="2329" y="31"/>
                    </a:lnTo>
                    <a:lnTo>
                      <a:pt x="2408" y="40"/>
                    </a:lnTo>
                    <a:lnTo>
                      <a:pt x="2485" y="50"/>
                    </a:lnTo>
                    <a:lnTo>
                      <a:pt x="2560" y="61"/>
                    </a:lnTo>
                    <a:lnTo>
                      <a:pt x="2632" y="73"/>
                    </a:lnTo>
                    <a:lnTo>
                      <a:pt x="2703" y="87"/>
                    </a:lnTo>
                    <a:lnTo>
                      <a:pt x="2771" y="101"/>
                    </a:lnTo>
                    <a:lnTo>
                      <a:pt x="2836" y="116"/>
                    </a:lnTo>
                    <a:lnTo>
                      <a:pt x="2899" y="132"/>
                    </a:lnTo>
                    <a:lnTo>
                      <a:pt x="2960" y="149"/>
                    </a:lnTo>
                    <a:lnTo>
                      <a:pt x="3017" y="167"/>
                    </a:lnTo>
                    <a:lnTo>
                      <a:pt x="3072" y="187"/>
                    </a:lnTo>
                    <a:lnTo>
                      <a:pt x="3123" y="206"/>
                    </a:lnTo>
                    <a:lnTo>
                      <a:pt x="3171" y="226"/>
                    </a:lnTo>
                    <a:lnTo>
                      <a:pt x="3216" y="247"/>
                    </a:lnTo>
                    <a:lnTo>
                      <a:pt x="3257" y="269"/>
                    </a:lnTo>
                    <a:lnTo>
                      <a:pt x="3296" y="291"/>
                    </a:lnTo>
                    <a:lnTo>
                      <a:pt x="3331" y="315"/>
                    </a:lnTo>
                    <a:lnTo>
                      <a:pt x="3361" y="339"/>
                    </a:lnTo>
                    <a:lnTo>
                      <a:pt x="3389" y="364"/>
                    </a:lnTo>
                    <a:lnTo>
                      <a:pt x="3413" y="389"/>
                    </a:lnTo>
                    <a:lnTo>
                      <a:pt x="3432" y="415"/>
                    </a:lnTo>
                    <a:lnTo>
                      <a:pt x="3447" y="441"/>
                    </a:lnTo>
                    <a:lnTo>
                      <a:pt x="3458" y="468"/>
                    </a:lnTo>
                    <a:lnTo>
                      <a:pt x="3464" y="495"/>
                    </a:lnTo>
                    <a:lnTo>
                      <a:pt x="3468" y="5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956600" y="6495840"/>
                <a:ext cx="381600" cy="126360"/>
              </a:xfrm>
              <a:custGeom>
                <a:avLst/>
                <a:gdLst/>
                <a:ahLst/>
                <a:rect l="l" t="t" r="r" b="b"/>
                <a:pathLst>
                  <a:path w="3465" h="1062">
                    <a:moveTo>
                      <a:pt x="3465" y="522"/>
                    </a:moveTo>
                    <a:lnTo>
                      <a:pt x="3462" y="550"/>
                    </a:lnTo>
                    <a:lnTo>
                      <a:pt x="3455" y="577"/>
                    </a:lnTo>
                    <a:lnTo>
                      <a:pt x="3444" y="604"/>
                    </a:lnTo>
                    <a:lnTo>
                      <a:pt x="3429" y="631"/>
                    </a:lnTo>
                    <a:lnTo>
                      <a:pt x="3410" y="657"/>
                    </a:lnTo>
                    <a:lnTo>
                      <a:pt x="3387" y="682"/>
                    </a:lnTo>
                    <a:lnTo>
                      <a:pt x="3359" y="707"/>
                    </a:lnTo>
                    <a:lnTo>
                      <a:pt x="3328" y="732"/>
                    </a:lnTo>
                    <a:lnTo>
                      <a:pt x="3294" y="756"/>
                    </a:lnTo>
                    <a:lnTo>
                      <a:pt x="3255" y="779"/>
                    </a:lnTo>
                    <a:lnTo>
                      <a:pt x="3214" y="801"/>
                    </a:lnTo>
                    <a:lnTo>
                      <a:pt x="3169" y="823"/>
                    </a:lnTo>
                    <a:lnTo>
                      <a:pt x="3120" y="845"/>
                    </a:lnTo>
                    <a:lnTo>
                      <a:pt x="3070" y="865"/>
                    </a:lnTo>
                    <a:lnTo>
                      <a:pt x="3015" y="885"/>
                    </a:lnTo>
                    <a:lnTo>
                      <a:pt x="2958" y="903"/>
                    </a:lnTo>
                    <a:lnTo>
                      <a:pt x="2897" y="921"/>
                    </a:lnTo>
                    <a:lnTo>
                      <a:pt x="2834" y="939"/>
                    </a:lnTo>
                    <a:lnTo>
                      <a:pt x="2769" y="955"/>
                    </a:lnTo>
                    <a:lnTo>
                      <a:pt x="2701" y="970"/>
                    </a:lnTo>
                    <a:lnTo>
                      <a:pt x="2630" y="983"/>
                    </a:lnTo>
                    <a:lnTo>
                      <a:pt x="2559" y="996"/>
                    </a:lnTo>
                    <a:lnTo>
                      <a:pt x="2484" y="1008"/>
                    </a:lnTo>
                    <a:lnTo>
                      <a:pt x="2407" y="1019"/>
                    </a:lnTo>
                    <a:lnTo>
                      <a:pt x="2328" y="1028"/>
                    </a:lnTo>
                    <a:lnTo>
                      <a:pt x="2248" y="1037"/>
                    </a:lnTo>
                    <a:lnTo>
                      <a:pt x="2166" y="1045"/>
                    </a:lnTo>
                    <a:lnTo>
                      <a:pt x="2082" y="1051"/>
                    </a:lnTo>
                    <a:lnTo>
                      <a:pt x="1996" y="1056"/>
                    </a:lnTo>
                    <a:lnTo>
                      <a:pt x="1909" y="1059"/>
                    </a:lnTo>
                    <a:lnTo>
                      <a:pt x="1821" y="1061"/>
                    </a:lnTo>
                    <a:lnTo>
                      <a:pt x="1732" y="1062"/>
                    </a:lnTo>
                    <a:lnTo>
                      <a:pt x="1644" y="1061"/>
                    </a:lnTo>
                    <a:lnTo>
                      <a:pt x="1556" y="1059"/>
                    </a:lnTo>
                    <a:lnTo>
                      <a:pt x="1469" y="1056"/>
                    </a:lnTo>
                    <a:lnTo>
                      <a:pt x="1383" y="1051"/>
                    </a:lnTo>
                    <a:lnTo>
                      <a:pt x="1299" y="1045"/>
                    </a:lnTo>
                    <a:lnTo>
                      <a:pt x="1217" y="1037"/>
                    </a:lnTo>
                    <a:lnTo>
                      <a:pt x="1137" y="1028"/>
                    </a:lnTo>
                    <a:lnTo>
                      <a:pt x="1058" y="1019"/>
                    </a:lnTo>
                    <a:lnTo>
                      <a:pt x="981" y="1008"/>
                    </a:lnTo>
                    <a:lnTo>
                      <a:pt x="907" y="996"/>
                    </a:lnTo>
                    <a:lnTo>
                      <a:pt x="835" y="983"/>
                    </a:lnTo>
                    <a:lnTo>
                      <a:pt x="764" y="970"/>
                    </a:lnTo>
                    <a:lnTo>
                      <a:pt x="696" y="955"/>
                    </a:lnTo>
                    <a:lnTo>
                      <a:pt x="631" y="939"/>
                    </a:lnTo>
                    <a:lnTo>
                      <a:pt x="568" y="921"/>
                    </a:lnTo>
                    <a:lnTo>
                      <a:pt x="507" y="903"/>
                    </a:lnTo>
                    <a:lnTo>
                      <a:pt x="450" y="885"/>
                    </a:lnTo>
                    <a:lnTo>
                      <a:pt x="396" y="865"/>
                    </a:lnTo>
                    <a:lnTo>
                      <a:pt x="345" y="845"/>
                    </a:lnTo>
                    <a:lnTo>
                      <a:pt x="296" y="823"/>
                    </a:lnTo>
                    <a:lnTo>
                      <a:pt x="251" y="801"/>
                    </a:lnTo>
                    <a:lnTo>
                      <a:pt x="209" y="779"/>
                    </a:lnTo>
                    <a:lnTo>
                      <a:pt x="171" y="756"/>
                    </a:lnTo>
                    <a:lnTo>
                      <a:pt x="137" y="732"/>
                    </a:lnTo>
                    <a:lnTo>
                      <a:pt x="105" y="707"/>
                    </a:lnTo>
                    <a:lnTo>
                      <a:pt x="78" y="682"/>
                    </a:lnTo>
                    <a:lnTo>
                      <a:pt x="55" y="657"/>
                    </a:lnTo>
                    <a:lnTo>
                      <a:pt x="36" y="631"/>
                    </a:lnTo>
                    <a:lnTo>
                      <a:pt x="21" y="604"/>
                    </a:lnTo>
                    <a:lnTo>
                      <a:pt x="10" y="577"/>
                    </a:lnTo>
                    <a:lnTo>
                      <a:pt x="2" y="550"/>
                    </a:lnTo>
                    <a:lnTo>
                      <a:pt x="0" y="522"/>
                    </a:lnTo>
                    <a:lnTo>
                      <a:pt x="2" y="494"/>
                    </a:lnTo>
                    <a:lnTo>
                      <a:pt x="10" y="467"/>
                    </a:lnTo>
                    <a:lnTo>
                      <a:pt x="21" y="440"/>
                    </a:lnTo>
                    <a:lnTo>
                      <a:pt x="36" y="414"/>
                    </a:lnTo>
                    <a:lnTo>
                      <a:pt x="55" y="388"/>
                    </a:lnTo>
                    <a:lnTo>
                      <a:pt x="78" y="363"/>
                    </a:lnTo>
                    <a:lnTo>
                      <a:pt x="105" y="339"/>
                    </a:lnTo>
                    <a:lnTo>
                      <a:pt x="137" y="315"/>
                    </a:lnTo>
                    <a:lnTo>
                      <a:pt x="171" y="291"/>
                    </a:lnTo>
                    <a:lnTo>
                      <a:pt x="209" y="268"/>
                    </a:lnTo>
                    <a:lnTo>
                      <a:pt x="251" y="247"/>
                    </a:lnTo>
                    <a:lnTo>
                      <a:pt x="296" y="226"/>
                    </a:lnTo>
                    <a:lnTo>
                      <a:pt x="345" y="206"/>
                    </a:lnTo>
                    <a:lnTo>
                      <a:pt x="396" y="186"/>
                    </a:lnTo>
                    <a:lnTo>
                      <a:pt x="450" y="167"/>
                    </a:lnTo>
                    <a:lnTo>
                      <a:pt x="507" y="149"/>
                    </a:lnTo>
                    <a:lnTo>
                      <a:pt x="568" y="132"/>
                    </a:lnTo>
                    <a:lnTo>
                      <a:pt x="631" y="116"/>
                    </a:lnTo>
                    <a:lnTo>
                      <a:pt x="696" y="101"/>
                    </a:lnTo>
                    <a:lnTo>
                      <a:pt x="764" y="87"/>
                    </a:lnTo>
                    <a:lnTo>
                      <a:pt x="835" y="73"/>
                    </a:lnTo>
                    <a:lnTo>
                      <a:pt x="907" y="61"/>
                    </a:lnTo>
                    <a:lnTo>
                      <a:pt x="981" y="49"/>
                    </a:lnTo>
                    <a:lnTo>
                      <a:pt x="1058" y="39"/>
                    </a:lnTo>
                    <a:lnTo>
                      <a:pt x="1137" y="30"/>
                    </a:lnTo>
                    <a:lnTo>
                      <a:pt x="1217" y="23"/>
                    </a:lnTo>
                    <a:lnTo>
                      <a:pt x="1299" y="16"/>
                    </a:lnTo>
                    <a:lnTo>
                      <a:pt x="1383" y="10"/>
                    </a:lnTo>
                    <a:lnTo>
                      <a:pt x="1469" y="6"/>
                    </a:lnTo>
                    <a:lnTo>
                      <a:pt x="1556" y="3"/>
                    </a:lnTo>
                    <a:lnTo>
                      <a:pt x="1644" y="1"/>
                    </a:lnTo>
                    <a:lnTo>
                      <a:pt x="1732" y="0"/>
                    </a:lnTo>
                    <a:lnTo>
                      <a:pt x="1821" y="1"/>
                    </a:lnTo>
                    <a:lnTo>
                      <a:pt x="1909" y="3"/>
                    </a:lnTo>
                    <a:lnTo>
                      <a:pt x="1996" y="6"/>
                    </a:lnTo>
                    <a:lnTo>
                      <a:pt x="2082" y="10"/>
                    </a:lnTo>
                    <a:lnTo>
                      <a:pt x="2166" y="16"/>
                    </a:lnTo>
                    <a:lnTo>
                      <a:pt x="2248" y="23"/>
                    </a:lnTo>
                    <a:lnTo>
                      <a:pt x="2328" y="30"/>
                    </a:lnTo>
                    <a:lnTo>
                      <a:pt x="2407" y="39"/>
                    </a:lnTo>
                    <a:lnTo>
                      <a:pt x="2484" y="49"/>
                    </a:lnTo>
                    <a:lnTo>
                      <a:pt x="2559" y="61"/>
                    </a:lnTo>
                    <a:lnTo>
                      <a:pt x="2630" y="73"/>
                    </a:lnTo>
                    <a:lnTo>
                      <a:pt x="2701" y="87"/>
                    </a:lnTo>
                    <a:lnTo>
                      <a:pt x="2769" y="101"/>
                    </a:lnTo>
                    <a:lnTo>
                      <a:pt x="2834" y="116"/>
                    </a:lnTo>
                    <a:lnTo>
                      <a:pt x="2897" y="132"/>
                    </a:lnTo>
                    <a:lnTo>
                      <a:pt x="2958" y="149"/>
                    </a:lnTo>
                    <a:lnTo>
                      <a:pt x="3015" y="167"/>
                    </a:lnTo>
                    <a:lnTo>
                      <a:pt x="3070" y="186"/>
                    </a:lnTo>
                    <a:lnTo>
                      <a:pt x="3120" y="206"/>
                    </a:lnTo>
                    <a:lnTo>
                      <a:pt x="3169" y="226"/>
                    </a:lnTo>
                    <a:lnTo>
                      <a:pt x="3214" y="247"/>
                    </a:lnTo>
                    <a:lnTo>
                      <a:pt x="3255" y="268"/>
                    </a:lnTo>
                    <a:lnTo>
                      <a:pt x="3294" y="291"/>
                    </a:lnTo>
                    <a:lnTo>
                      <a:pt x="3328" y="315"/>
                    </a:lnTo>
                    <a:lnTo>
                      <a:pt x="3359" y="339"/>
                    </a:lnTo>
                    <a:lnTo>
                      <a:pt x="3387" y="363"/>
                    </a:lnTo>
                    <a:lnTo>
                      <a:pt x="3410" y="388"/>
                    </a:lnTo>
                    <a:lnTo>
                      <a:pt x="3429" y="414"/>
                    </a:lnTo>
                    <a:lnTo>
                      <a:pt x="3444" y="440"/>
                    </a:lnTo>
                    <a:lnTo>
                      <a:pt x="3455" y="467"/>
                    </a:lnTo>
                    <a:lnTo>
                      <a:pt x="3462" y="494"/>
                    </a:lnTo>
                    <a:lnTo>
                      <a:pt x="3465" y="5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957680" y="6495840"/>
                <a:ext cx="380520" cy="126360"/>
              </a:xfrm>
              <a:custGeom>
                <a:avLst/>
                <a:gdLst/>
                <a:ahLst/>
                <a:rect l="l" t="t" r="r" b="b"/>
                <a:pathLst>
                  <a:path w="3462" h="1060">
                    <a:moveTo>
                      <a:pt x="3462" y="521"/>
                    </a:moveTo>
                    <a:lnTo>
                      <a:pt x="3459" y="549"/>
                    </a:lnTo>
                    <a:lnTo>
                      <a:pt x="3453" y="576"/>
                    </a:lnTo>
                    <a:lnTo>
                      <a:pt x="3442" y="602"/>
                    </a:lnTo>
                    <a:lnTo>
                      <a:pt x="3427" y="630"/>
                    </a:lnTo>
                    <a:lnTo>
                      <a:pt x="3408" y="656"/>
                    </a:lnTo>
                    <a:lnTo>
                      <a:pt x="3385" y="681"/>
                    </a:lnTo>
                    <a:lnTo>
                      <a:pt x="3357" y="706"/>
                    </a:lnTo>
                    <a:lnTo>
                      <a:pt x="3326" y="731"/>
                    </a:lnTo>
                    <a:lnTo>
                      <a:pt x="3292" y="755"/>
                    </a:lnTo>
                    <a:lnTo>
                      <a:pt x="3253" y="778"/>
                    </a:lnTo>
                    <a:lnTo>
                      <a:pt x="3212" y="800"/>
                    </a:lnTo>
                    <a:lnTo>
                      <a:pt x="3167" y="822"/>
                    </a:lnTo>
                    <a:lnTo>
                      <a:pt x="3118" y="844"/>
                    </a:lnTo>
                    <a:lnTo>
                      <a:pt x="3067" y="864"/>
                    </a:lnTo>
                    <a:lnTo>
                      <a:pt x="3013" y="883"/>
                    </a:lnTo>
                    <a:lnTo>
                      <a:pt x="2956" y="902"/>
                    </a:lnTo>
                    <a:lnTo>
                      <a:pt x="2895" y="919"/>
                    </a:lnTo>
                    <a:lnTo>
                      <a:pt x="2832" y="937"/>
                    </a:lnTo>
                    <a:lnTo>
                      <a:pt x="2767" y="953"/>
                    </a:lnTo>
                    <a:lnTo>
                      <a:pt x="2699" y="968"/>
                    </a:lnTo>
                    <a:lnTo>
                      <a:pt x="2629" y="982"/>
                    </a:lnTo>
                    <a:lnTo>
                      <a:pt x="2557" y="994"/>
                    </a:lnTo>
                    <a:lnTo>
                      <a:pt x="2482" y="1006"/>
                    </a:lnTo>
                    <a:lnTo>
                      <a:pt x="2405" y="1017"/>
                    </a:lnTo>
                    <a:lnTo>
                      <a:pt x="2326" y="1027"/>
                    </a:lnTo>
                    <a:lnTo>
                      <a:pt x="2247" y="1035"/>
                    </a:lnTo>
                    <a:lnTo>
                      <a:pt x="2164" y="1043"/>
                    </a:lnTo>
                    <a:lnTo>
                      <a:pt x="2080" y="1049"/>
                    </a:lnTo>
                    <a:lnTo>
                      <a:pt x="1995" y="1054"/>
                    </a:lnTo>
                    <a:lnTo>
                      <a:pt x="1908" y="1057"/>
                    </a:lnTo>
                    <a:lnTo>
                      <a:pt x="1820" y="1059"/>
                    </a:lnTo>
                    <a:lnTo>
                      <a:pt x="1731" y="1060"/>
                    </a:lnTo>
                    <a:lnTo>
                      <a:pt x="1643" y="1059"/>
                    </a:lnTo>
                    <a:lnTo>
                      <a:pt x="1555" y="1057"/>
                    </a:lnTo>
                    <a:lnTo>
                      <a:pt x="1468" y="1054"/>
                    </a:lnTo>
                    <a:lnTo>
                      <a:pt x="1383" y="1049"/>
                    </a:lnTo>
                    <a:lnTo>
                      <a:pt x="1299" y="1043"/>
                    </a:lnTo>
                    <a:lnTo>
                      <a:pt x="1216" y="1035"/>
                    </a:lnTo>
                    <a:lnTo>
                      <a:pt x="1137" y="1027"/>
                    </a:lnTo>
                    <a:lnTo>
                      <a:pt x="1058" y="1017"/>
                    </a:lnTo>
                    <a:lnTo>
                      <a:pt x="981" y="1006"/>
                    </a:lnTo>
                    <a:lnTo>
                      <a:pt x="906" y="994"/>
                    </a:lnTo>
                    <a:lnTo>
                      <a:pt x="834" y="982"/>
                    </a:lnTo>
                    <a:lnTo>
                      <a:pt x="764" y="968"/>
                    </a:lnTo>
                    <a:lnTo>
                      <a:pt x="696" y="953"/>
                    </a:lnTo>
                    <a:lnTo>
                      <a:pt x="631" y="937"/>
                    </a:lnTo>
                    <a:lnTo>
                      <a:pt x="568" y="919"/>
                    </a:lnTo>
                    <a:lnTo>
                      <a:pt x="507" y="902"/>
                    </a:lnTo>
                    <a:lnTo>
                      <a:pt x="451" y="883"/>
                    </a:lnTo>
                    <a:lnTo>
                      <a:pt x="396" y="864"/>
                    </a:lnTo>
                    <a:lnTo>
                      <a:pt x="345" y="844"/>
                    </a:lnTo>
                    <a:lnTo>
                      <a:pt x="296" y="822"/>
                    </a:lnTo>
                    <a:lnTo>
                      <a:pt x="251" y="800"/>
                    </a:lnTo>
                    <a:lnTo>
                      <a:pt x="209" y="778"/>
                    </a:lnTo>
                    <a:lnTo>
                      <a:pt x="171" y="755"/>
                    </a:lnTo>
                    <a:lnTo>
                      <a:pt x="137" y="731"/>
                    </a:lnTo>
                    <a:lnTo>
                      <a:pt x="105" y="706"/>
                    </a:lnTo>
                    <a:lnTo>
                      <a:pt x="78" y="681"/>
                    </a:lnTo>
                    <a:lnTo>
                      <a:pt x="55" y="656"/>
                    </a:lnTo>
                    <a:lnTo>
                      <a:pt x="36" y="630"/>
                    </a:lnTo>
                    <a:lnTo>
                      <a:pt x="21" y="602"/>
                    </a:lnTo>
                    <a:lnTo>
                      <a:pt x="10" y="576"/>
                    </a:lnTo>
                    <a:lnTo>
                      <a:pt x="3" y="549"/>
                    </a:lnTo>
                    <a:lnTo>
                      <a:pt x="0" y="521"/>
                    </a:lnTo>
                    <a:lnTo>
                      <a:pt x="3" y="493"/>
                    </a:lnTo>
                    <a:lnTo>
                      <a:pt x="10" y="466"/>
                    </a:lnTo>
                    <a:lnTo>
                      <a:pt x="21" y="439"/>
                    </a:lnTo>
                    <a:lnTo>
                      <a:pt x="36" y="413"/>
                    </a:lnTo>
                    <a:lnTo>
                      <a:pt x="55" y="387"/>
                    </a:lnTo>
                    <a:lnTo>
                      <a:pt x="78" y="362"/>
                    </a:lnTo>
                    <a:lnTo>
                      <a:pt x="105" y="338"/>
                    </a:lnTo>
                    <a:lnTo>
                      <a:pt x="137" y="314"/>
                    </a:lnTo>
                    <a:lnTo>
                      <a:pt x="171" y="290"/>
                    </a:lnTo>
                    <a:lnTo>
                      <a:pt x="209" y="268"/>
                    </a:lnTo>
                    <a:lnTo>
                      <a:pt x="251" y="246"/>
                    </a:lnTo>
                    <a:lnTo>
                      <a:pt x="296" y="225"/>
                    </a:lnTo>
                    <a:lnTo>
                      <a:pt x="345" y="205"/>
                    </a:lnTo>
                    <a:lnTo>
                      <a:pt x="396" y="186"/>
                    </a:lnTo>
                    <a:lnTo>
                      <a:pt x="451" y="166"/>
                    </a:lnTo>
                    <a:lnTo>
                      <a:pt x="507" y="149"/>
                    </a:lnTo>
                    <a:lnTo>
                      <a:pt x="568" y="132"/>
                    </a:lnTo>
                    <a:lnTo>
                      <a:pt x="631" y="116"/>
                    </a:lnTo>
                    <a:lnTo>
                      <a:pt x="696" y="101"/>
                    </a:lnTo>
                    <a:lnTo>
                      <a:pt x="764" y="87"/>
                    </a:lnTo>
                    <a:lnTo>
                      <a:pt x="834" y="73"/>
                    </a:lnTo>
                    <a:lnTo>
                      <a:pt x="906" y="60"/>
                    </a:lnTo>
                    <a:lnTo>
                      <a:pt x="981" y="49"/>
                    </a:lnTo>
                    <a:lnTo>
                      <a:pt x="1058" y="39"/>
                    </a:lnTo>
                    <a:lnTo>
                      <a:pt x="1137" y="30"/>
                    </a:lnTo>
                    <a:lnTo>
                      <a:pt x="1216" y="22"/>
                    </a:lnTo>
                    <a:lnTo>
                      <a:pt x="1299" y="16"/>
                    </a:lnTo>
                    <a:lnTo>
                      <a:pt x="1383" y="10"/>
                    </a:lnTo>
                    <a:lnTo>
                      <a:pt x="1468" y="6"/>
                    </a:lnTo>
                    <a:lnTo>
                      <a:pt x="1555" y="3"/>
                    </a:lnTo>
                    <a:lnTo>
                      <a:pt x="1643" y="1"/>
                    </a:lnTo>
                    <a:lnTo>
                      <a:pt x="1731" y="0"/>
                    </a:lnTo>
                    <a:lnTo>
                      <a:pt x="1820" y="1"/>
                    </a:lnTo>
                    <a:lnTo>
                      <a:pt x="1908" y="3"/>
                    </a:lnTo>
                    <a:lnTo>
                      <a:pt x="1995" y="6"/>
                    </a:lnTo>
                    <a:lnTo>
                      <a:pt x="2080" y="10"/>
                    </a:lnTo>
                    <a:lnTo>
                      <a:pt x="2164" y="16"/>
                    </a:lnTo>
                    <a:lnTo>
                      <a:pt x="2247" y="22"/>
                    </a:lnTo>
                    <a:lnTo>
                      <a:pt x="2326" y="30"/>
                    </a:lnTo>
                    <a:lnTo>
                      <a:pt x="2405" y="39"/>
                    </a:lnTo>
                    <a:lnTo>
                      <a:pt x="2482" y="49"/>
                    </a:lnTo>
                    <a:lnTo>
                      <a:pt x="2557" y="60"/>
                    </a:lnTo>
                    <a:lnTo>
                      <a:pt x="2629" y="73"/>
                    </a:lnTo>
                    <a:lnTo>
                      <a:pt x="2699" y="87"/>
                    </a:lnTo>
                    <a:lnTo>
                      <a:pt x="2767" y="101"/>
                    </a:lnTo>
                    <a:lnTo>
                      <a:pt x="2832" y="116"/>
                    </a:lnTo>
                    <a:lnTo>
                      <a:pt x="2895" y="132"/>
                    </a:lnTo>
                    <a:lnTo>
                      <a:pt x="2956" y="149"/>
                    </a:lnTo>
                    <a:lnTo>
                      <a:pt x="3013" y="166"/>
                    </a:lnTo>
                    <a:lnTo>
                      <a:pt x="3067" y="186"/>
                    </a:lnTo>
                    <a:lnTo>
                      <a:pt x="3118" y="205"/>
                    </a:lnTo>
                    <a:lnTo>
                      <a:pt x="3167" y="225"/>
                    </a:lnTo>
                    <a:lnTo>
                      <a:pt x="3212" y="246"/>
                    </a:lnTo>
                    <a:lnTo>
                      <a:pt x="3253" y="268"/>
                    </a:lnTo>
                    <a:lnTo>
                      <a:pt x="3292" y="290"/>
                    </a:lnTo>
                    <a:lnTo>
                      <a:pt x="3326" y="314"/>
                    </a:lnTo>
                    <a:lnTo>
                      <a:pt x="3357" y="338"/>
                    </a:lnTo>
                    <a:lnTo>
                      <a:pt x="3385" y="362"/>
                    </a:lnTo>
                    <a:lnTo>
                      <a:pt x="3408" y="387"/>
                    </a:lnTo>
                    <a:lnTo>
                      <a:pt x="3427" y="413"/>
                    </a:lnTo>
                    <a:lnTo>
                      <a:pt x="3442" y="439"/>
                    </a:lnTo>
                    <a:lnTo>
                      <a:pt x="3453" y="466"/>
                    </a:lnTo>
                    <a:lnTo>
                      <a:pt x="3459" y="493"/>
                    </a:lnTo>
                    <a:lnTo>
                      <a:pt x="3462" y="5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957680" y="6495840"/>
                <a:ext cx="380520" cy="126360"/>
              </a:xfrm>
              <a:custGeom>
                <a:avLst/>
                <a:gdLst/>
                <a:ahLst/>
                <a:rect l="l" t="t" r="r" b="b"/>
                <a:pathLst>
                  <a:path w="3458" h="1058">
                    <a:moveTo>
                      <a:pt x="3458" y="520"/>
                    </a:moveTo>
                    <a:lnTo>
                      <a:pt x="3456" y="548"/>
                    </a:lnTo>
                    <a:lnTo>
                      <a:pt x="3450" y="575"/>
                    </a:lnTo>
                    <a:lnTo>
                      <a:pt x="3439" y="601"/>
                    </a:lnTo>
                    <a:lnTo>
                      <a:pt x="3424" y="629"/>
                    </a:lnTo>
                    <a:lnTo>
                      <a:pt x="3404" y="654"/>
                    </a:lnTo>
                    <a:lnTo>
                      <a:pt x="3381" y="680"/>
                    </a:lnTo>
                    <a:lnTo>
                      <a:pt x="3353" y="704"/>
                    </a:lnTo>
                    <a:lnTo>
                      <a:pt x="3323" y="730"/>
                    </a:lnTo>
                    <a:lnTo>
                      <a:pt x="3288" y="753"/>
                    </a:lnTo>
                    <a:lnTo>
                      <a:pt x="3250" y="776"/>
                    </a:lnTo>
                    <a:lnTo>
                      <a:pt x="3208" y="798"/>
                    </a:lnTo>
                    <a:lnTo>
                      <a:pt x="3164" y="820"/>
                    </a:lnTo>
                    <a:lnTo>
                      <a:pt x="3115" y="842"/>
                    </a:lnTo>
                    <a:lnTo>
                      <a:pt x="3064" y="862"/>
                    </a:lnTo>
                    <a:lnTo>
                      <a:pt x="3009" y="881"/>
                    </a:lnTo>
                    <a:lnTo>
                      <a:pt x="2952" y="900"/>
                    </a:lnTo>
                    <a:lnTo>
                      <a:pt x="2892" y="918"/>
                    </a:lnTo>
                    <a:lnTo>
                      <a:pt x="2829" y="935"/>
                    </a:lnTo>
                    <a:lnTo>
                      <a:pt x="2764" y="951"/>
                    </a:lnTo>
                    <a:lnTo>
                      <a:pt x="2696" y="966"/>
                    </a:lnTo>
                    <a:lnTo>
                      <a:pt x="2626" y="980"/>
                    </a:lnTo>
                    <a:lnTo>
                      <a:pt x="2554" y="993"/>
                    </a:lnTo>
                    <a:lnTo>
                      <a:pt x="2479" y="1004"/>
                    </a:lnTo>
                    <a:lnTo>
                      <a:pt x="2403" y="1015"/>
                    </a:lnTo>
                    <a:lnTo>
                      <a:pt x="2324" y="1025"/>
                    </a:lnTo>
                    <a:lnTo>
                      <a:pt x="2244" y="1033"/>
                    </a:lnTo>
                    <a:lnTo>
                      <a:pt x="2162" y="1041"/>
                    </a:lnTo>
                    <a:lnTo>
                      <a:pt x="2078" y="1047"/>
                    </a:lnTo>
                    <a:lnTo>
                      <a:pt x="1993" y="1052"/>
                    </a:lnTo>
                    <a:lnTo>
                      <a:pt x="1906" y="1055"/>
                    </a:lnTo>
                    <a:lnTo>
                      <a:pt x="1818" y="1057"/>
                    </a:lnTo>
                    <a:lnTo>
                      <a:pt x="1729" y="1058"/>
                    </a:lnTo>
                    <a:lnTo>
                      <a:pt x="1641" y="1057"/>
                    </a:lnTo>
                    <a:lnTo>
                      <a:pt x="1553" y="1055"/>
                    </a:lnTo>
                    <a:lnTo>
                      <a:pt x="1466" y="1052"/>
                    </a:lnTo>
                    <a:lnTo>
                      <a:pt x="1381" y="1047"/>
                    </a:lnTo>
                    <a:lnTo>
                      <a:pt x="1297" y="1041"/>
                    </a:lnTo>
                    <a:lnTo>
                      <a:pt x="1215" y="1033"/>
                    </a:lnTo>
                    <a:lnTo>
                      <a:pt x="1135" y="1025"/>
                    </a:lnTo>
                    <a:lnTo>
                      <a:pt x="1057" y="1015"/>
                    </a:lnTo>
                    <a:lnTo>
                      <a:pt x="980" y="1004"/>
                    </a:lnTo>
                    <a:lnTo>
                      <a:pt x="905" y="993"/>
                    </a:lnTo>
                    <a:lnTo>
                      <a:pt x="833" y="980"/>
                    </a:lnTo>
                    <a:lnTo>
                      <a:pt x="763" y="966"/>
                    </a:lnTo>
                    <a:lnTo>
                      <a:pt x="695" y="951"/>
                    </a:lnTo>
                    <a:lnTo>
                      <a:pt x="630" y="935"/>
                    </a:lnTo>
                    <a:lnTo>
                      <a:pt x="567" y="918"/>
                    </a:lnTo>
                    <a:lnTo>
                      <a:pt x="506" y="900"/>
                    </a:lnTo>
                    <a:lnTo>
                      <a:pt x="450" y="881"/>
                    </a:lnTo>
                    <a:lnTo>
                      <a:pt x="395" y="862"/>
                    </a:lnTo>
                    <a:lnTo>
                      <a:pt x="344" y="842"/>
                    </a:lnTo>
                    <a:lnTo>
                      <a:pt x="295" y="820"/>
                    </a:lnTo>
                    <a:lnTo>
                      <a:pt x="251" y="798"/>
                    </a:lnTo>
                    <a:lnTo>
                      <a:pt x="208" y="776"/>
                    </a:lnTo>
                    <a:lnTo>
                      <a:pt x="171" y="753"/>
                    </a:lnTo>
                    <a:lnTo>
                      <a:pt x="136" y="730"/>
                    </a:lnTo>
                    <a:lnTo>
                      <a:pt x="105" y="704"/>
                    </a:lnTo>
                    <a:lnTo>
                      <a:pt x="78" y="680"/>
                    </a:lnTo>
                    <a:lnTo>
                      <a:pt x="55" y="654"/>
                    </a:lnTo>
                    <a:lnTo>
                      <a:pt x="36" y="629"/>
                    </a:lnTo>
                    <a:lnTo>
                      <a:pt x="20" y="601"/>
                    </a:lnTo>
                    <a:lnTo>
                      <a:pt x="10" y="575"/>
                    </a:lnTo>
                    <a:lnTo>
                      <a:pt x="2" y="548"/>
                    </a:lnTo>
                    <a:lnTo>
                      <a:pt x="0" y="520"/>
                    </a:lnTo>
                    <a:lnTo>
                      <a:pt x="2" y="492"/>
                    </a:lnTo>
                    <a:lnTo>
                      <a:pt x="10" y="465"/>
                    </a:lnTo>
                    <a:lnTo>
                      <a:pt x="20" y="439"/>
                    </a:lnTo>
                    <a:lnTo>
                      <a:pt x="36" y="413"/>
                    </a:lnTo>
                    <a:lnTo>
                      <a:pt x="55" y="386"/>
                    </a:lnTo>
                    <a:lnTo>
                      <a:pt x="78" y="361"/>
                    </a:lnTo>
                    <a:lnTo>
                      <a:pt x="105" y="337"/>
                    </a:lnTo>
                    <a:lnTo>
                      <a:pt x="136" y="314"/>
                    </a:lnTo>
                    <a:lnTo>
                      <a:pt x="171" y="291"/>
                    </a:lnTo>
                    <a:lnTo>
                      <a:pt x="208" y="267"/>
                    </a:lnTo>
                    <a:lnTo>
                      <a:pt x="251" y="246"/>
                    </a:lnTo>
                    <a:lnTo>
                      <a:pt x="295" y="225"/>
                    </a:lnTo>
                    <a:lnTo>
                      <a:pt x="344" y="205"/>
                    </a:lnTo>
                    <a:lnTo>
                      <a:pt x="395" y="185"/>
                    </a:lnTo>
                    <a:lnTo>
                      <a:pt x="450" y="166"/>
                    </a:lnTo>
                    <a:lnTo>
                      <a:pt x="506" y="148"/>
                    </a:lnTo>
                    <a:lnTo>
                      <a:pt x="567" y="131"/>
                    </a:lnTo>
                    <a:lnTo>
                      <a:pt x="630" y="116"/>
                    </a:lnTo>
                    <a:lnTo>
                      <a:pt x="695" y="100"/>
                    </a:lnTo>
                    <a:lnTo>
                      <a:pt x="763" y="86"/>
                    </a:lnTo>
                    <a:lnTo>
                      <a:pt x="833" y="72"/>
                    </a:lnTo>
                    <a:lnTo>
                      <a:pt x="905" y="60"/>
                    </a:lnTo>
                    <a:lnTo>
                      <a:pt x="980" y="49"/>
                    </a:lnTo>
                    <a:lnTo>
                      <a:pt x="1057" y="39"/>
                    </a:lnTo>
                    <a:lnTo>
                      <a:pt x="1135" y="30"/>
                    </a:lnTo>
                    <a:lnTo>
                      <a:pt x="1215" y="22"/>
                    </a:lnTo>
                    <a:lnTo>
                      <a:pt x="1297" y="16"/>
                    </a:lnTo>
                    <a:lnTo>
                      <a:pt x="1381" y="10"/>
                    </a:lnTo>
                    <a:lnTo>
                      <a:pt x="1466" y="6"/>
                    </a:lnTo>
                    <a:lnTo>
                      <a:pt x="1553" y="3"/>
                    </a:lnTo>
                    <a:lnTo>
                      <a:pt x="1641" y="1"/>
                    </a:lnTo>
                    <a:lnTo>
                      <a:pt x="1729" y="0"/>
                    </a:lnTo>
                    <a:lnTo>
                      <a:pt x="1818" y="1"/>
                    </a:lnTo>
                    <a:lnTo>
                      <a:pt x="1906" y="3"/>
                    </a:lnTo>
                    <a:lnTo>
                      <a:pt x="1993" y="6"/>
                    </a:lnTo>
                    <a:lnTo>
                      <a:pt x="2078" y="10"/>
                    </a:lnTo>
                    <a:lnTo>
                      <a:pt x="2162" y="16"/>
                    </a:lnTo>
                    <a:lnTo>
                      <a:pt x="2244" y="22"/>
                    </a:lnTo>
                    <a:lnTo>
                      <a:pt x="2324" y="30"/>
                    </a:lnTo>
                    <a:lnTo>
                      <a:pt x="2403" y="39"/>
                    </a:lnTo>
                    <a:lnTo>
                      <a:pt x="2479" y="49"/>
                    </a:lnTo>
                    <a:lnTo>
                      <a:pt x="2554" y="60"/>
                    </a:lnTo>
                    <a:lnTo>
                      <a:pt x="2626" y="72"/>
                    </a:lnTo>
                    <a:lnTo>
                      <a:pt x="2696" y="86"/>
                    </a:lnTo>
                    <a:lnTo>
                      <a:pt x="2764" y="100"/>
                    </a:lnTo>
                    <a:lnTo>
                      <a:pt x="2829" y="116"/>
                    </a:lnTo>
                    <a:lnTo>
                      <a:pt x="2892" y="131"/>
                    </a:lnTo>
                    <a:lnTo>
                      <a:pt x="2952" y="148"/>
                    </a:lnTo>
                    <a:lnTo>
                      <a:pt x="3009" y="166"/>
                    </a:lnTo>
                    <a:lnTo>
                      <a:pt x="3064" y="185"/>
                    </a:lnTo>
                    <a:lnTo>
                      <a:pt x="3115" y="205"/>
                    </a:lnTo>
                    <a:lnTo>
                      <a:pt x="3164" y="225"/>
                    </a:lnTo>
                    <a:lnTo>
                      <a:pt x="3208" y="246"/>
                    </a:lnTo>
                    <a:lnTo>
                      <a:pt x="3250" y="267"/>
                    </a:lnTo>
                    <a:lnTo>
                      <a:pt x="3288" y="291"/>
                    </a:lnTo>
                    <a:lnTo>
                      <a:pt x="3323" y="314"/>
                    </a:lnTo>
                    <a:lnTo>
                      <a:pt x="3353" y="337"/>
                    </a:lnTo>
                    <a:lnTo>
                      <a:pt x="3381" y="361"/>
                    </a:lnTo>
                    <a:lnTo>
                      <a:pt x="3404" y="386"/>
                    </a:lnTo>
                    <a:lnTo>
                      <a:pt x="3424" y="413"/>
                    </a:lnTo>
                    <a:lnTo>
                      <a:pt x="3439" y="439"/>
                    </a:lnTo>
                    <a:lnTo>
                      <a:pt x="3450" y="465"/>
                    </a:lnTo>
                    <a:lnTo>
                      <a:pt x="3456" y="492"/>
                    </a:lnTo>
                    <a:lnTo>
                      <a:pt x="3458" y="5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957680" y="6495840"/>
                <a:ext cx="380520" cy="126360"/>
              </a:xfrm>
              <a:custGeom>
                <a:avLst/>
                <a:gdLst/>
                <a:ahLst/>
                <a:rect l="l" t="t" r="r" b="b"/>
                <a:pathLst>
                  <a:path w="3456" h="1056">
                    <a:moveTo>
                      <a:pt x="3456" y="519"/>
                    </a:moveTo>
                    <a:lnTo>
                      <a:pt x="3454" y="547"/>
                    </a:lnTo>
                    <a:lnTo>
                      <a:pt x="3447" y="574"/>
                    </a:lnTo>
                    <a:lnTo>
                      <a:pt x="3436" y="600"/>
                    </a:lnTo>
                    <a:lnTo>
                      <a:pt x="3421" y="627"/>
                    </a:lnTo>
                    <a:lnTo>
                      <a:pt x="3402" y="653"/>
                    </a:lnTo>
                    <a:lnTo>
                      <a:pt x="3379" y="678"/>
                    </a:lnTo>
                    <a:lnTo>
                      <a:pt x="3351" y="703"/>
                    </a:lnTo>
                    <a:lnTo>
                      <a:pt x="3320" y="728"/>
                    </a:lnTo>
                    <a:lnTo>
                      <a:pt x="3286" y="752"/>
                    </a:lnTo>
                    <a:lnTo>
                      <a:pt x="3247" y="775"/>
                    </a:lnTo>
                    <a:lnTo>
                      <a:pt x="3206" y="797"/>
                    </a:lnTo>
                    <a:lnTo>
                      <a:pt x="3162" y="819"/>
                    </a:lnTo>
                    <a:lnTo>
                      <a:pt x="3113" y="840"/>
                    </a:lnTo>
                    <a:lnTo>
                      <a:pt x="3062" y="861"/>
                    </a:lnTo>
                    <a:lnTo>
                      <a:pt x="3007" y="880"/>
                    </a:lnTo>
                    <a:lnTo>
                      <a:pt x="2950" y="898"/>
                    </a:lnTo>
                    <a:lnTo>
                      <a:pt x="2890" y="916"/>
                    </a:lnTo>
                    <a:lnTo>
                      <a:pt x="2827" y="934"/>
                    </a:lnTo>
                    <a:lnTo>
                      <a:pt x="2763" y="949"/>
                    </a:lnTo>
                    <a:lnTo>
                      <a:pt x="2695" y="964"/>
                    </a:lnTo>
                    <a:lnTo>
                      <a:pt x="2624" y="978"/>
                    </a:lnTo>
                    <a:lnTo>
                      <a:pt x="2553" y="991"/>
                    </a:lnTo>
                    <a:lnTo>
                      <a:pt x="2478" y="1003"/>
                    </a:lnTo>
                    <a:lnTo>
                      <a:pt x="2401" y="1013"/>
                    </a:lnTo>
                    <a:lnTo>
                      <a:pt x="2322" y="1023"/>
                    </a:lnTo>
                    <a:lnTo>
                      <a:pt x="2243" y="1031"/>
                    </a:lnTo>
                    <a:lnTo>
                      <a:pt x="2161" y="1039"/>
                    </a:lnTo>
                    <a:lnTo>
                      <a:pt x="2077" y="1045"/>
                    </a:lnTo>
                    <a:lnTo>
                      <a:pt x="1992" y="1050"/>
                    </a:lnTo>
                    <a:lnTo>
                      <a:pt x="1905" y="1053"/>
                    </a:lnTo>
                    <a:lnTo>
                      <a:pt x="1817" y="1055"/>
                    </a:lnTo>
                    <a:lnTo>
                      <a:pt x="1728" y="1056"/>
                    </a:lnTo>
                    <a:lnTo>
                      <a:pt x="1640" y="1055"/>
                    </a:lnTo>
                    <a:lnTo>
                      <a:pt x="1552" y="1053"/>
                    </a:lnTo>
                    <a:lnTo>
                      <a:pt x="1465" y="1050"/>
                    </a:lnTo>
                    <a:lnTo>
                      <a:pt x="1380" y="1045"/>
                    </a:lnTo>
                    <a:lnTo>
                      <a:pt x="1296" y="1039"/>
                    </a:lnTo>
                    <a:lnTo>
                      <a:pt x="1214" y="1031"/>
                    </a:lnTo>
                    <a:lnTo>
                      <a:pt x="1135" y="1023"/>
                    </a:lnTo>
                    <a:lnTo>
                      <a:pt x="1056" y="1013"/>
                    </a:lnTo>
                    <a:lnTo>
                      <a:pt x="979" y="1003"/>
                    </a:lnTo>
                    <a:lnTo>
                      <a:pt x="905" y="991"/>
                    </a:lnTo>
                    <a:lnTo>
                      <a:pt x="833" y="978"/>
                    </a:lnTo>
                    <a:lnTo>
                      <a:pt x="762" y="964"/>
                    </a:lnTo>
                    <a:lnTo>
                      <a:pt x="694" y="949"/>
                    </a:lnTo>
                    <a:lnTo>
                      <a:pt x="630" y="934"/>
                    </a:lnTo>
                    <a:lnTo>
                      <a:pt x="567" y="916"/>
                    </a:lnTo>
                    <a:lnTo>
                      <a:pt x="506" y="898"/>
                    </a:lnTo>
                    <a:lnTo>
                      <a:pt x="450" y="880"/>
                    </a:lnTo>
                    <a:lnTo>
                      <a:pt x="395" y="861"/>
                    </a:lnTo>
                    <a:lnTo>
                      <a:pt x="344" y="840"/>
                    </a:lnTo>
                    <a:lnTo>
                      <a:pt x="295" y="819"/>
                    </a:lnTo>
                    <a:lnTo>
                      <a:pt x="251" y="797"/>
                    </a:lnTo>
                    <a:lnTo>
                      <a:pt x="210" y="775"/>
                    </a:lnTo>
                    <a:lnTo>
                      <a:pt x="171" y="752"/>
                    </a:lnTo>
                    <a:lnTo>
                      <a:pt x="137" y="728"/>
                    </a:lnTo>
                    <a:lnTo>
                      <a:pt x="105" y="703"/>
                    </a:lnTo>
                    <a:lnTo>
                      <a:pt x="78" y="678"/>
                    </a:lnTo>
                    <a:lnTo>
                      <a:pt x="55" y="653"/>
                    </a:lnTo>
                    <a:lnTo>
                      <a:pt x="36" y="627"/>
                    </a:lnTo>
                    <a:lnTo>
                      <a:pt x="21" y="600"/>
                    </a:lnTo>
                    <a:lnTo>
                      <a:pt x="10" y="574"/>
                    </a:lnTo>
                    <a:lnTo>
                      <a:pt x="2" y="547"/>
                    </a:lnTo>
                    <a:lnTo>
                      <a:pt x="0" y="519"/>
                    </a:lnTo>
                    <a:lnTo>
                      <a:pt x="2" y="491"/>
                    </a:lnTo>
                    <a:lnTo>
                      <a:pt x="10" y="464"/>
                    </a:lnTo>
                    <a:lnTo>
                      <a:pt x="21" y="438"/>
                    </a:lnTo>
                    <a:lnTo>
                      <a:pt x="36" y="412"/>
                    </a:lnTo>
                    <a:lnTo>
                      <a:pt x="55" y="385"/>
                    </a:lnTo>
                    <a:lnTo>
                      <a:pt x="78" y="361"/>
                    </a:lnTo>
                    <a:lnTo>
                      <a:pt x="105" y="337"/>
                    </a:lnTo>
                    <a:lnTo>
                      <a:pt x="137" y="313"/>
                    </a:lnTo>
                    <a:lnTo>
                      <a:pt x="171" y="290"/>
                    </a:lnTo>
                    <a:lnTo>
                      <a:pt x="210" y="267"/>
                    </a:lnTo>
                    <a:lnTo>
                      <a:pt x="251" y="245"/>
                    </a:lnTo>
                    <a:lnTo>
                      <a:pt x="295" y="224"/>
                    </a:lnTo>
                    <a:lnTo>
                      <a:pt x="344" y="204"/>
                    </a:lnTo>
                    <a:lnTo>
                      <a:pt x="395" y="185"/>
                    </a:lnTo>
                    <a:lnTo>
                      <a:pt x="450" y="166"/>
                    </a:lnTo>
                    <a:lnTo>
                      <a:pt x="506" y="148"/>
                    </a:lnTo>
                    <a:lnTo>
                      <a:pt x="567" y="131"/>
                    </a:lnTo>
                    <a:lnTo>
                      <a:pt x="630" y="115"/>
                    </a:lnTo>
                    <a:lnTo>
                      <a:pt x="694" y="100"/>
                    </a:lnTo>
                    <a:lnTo>
                      <a:pt x="762" y="86"/>
                    </a:lnTo>
                    <a:lnTo>
                      <a:pt x="833" y="72"/>
                    </a:lnTo>
                    <a:lnTo>
                      <a:pt x="905" y="60"/>
                    </a:lnTo>
                    <a:lnTo>
                      <a:pt x="979" y="49"/>
                    </a:lnTo>
                    <a:lnTo>
                      <a:pt x="1056" y="39"/>
                    </a:lnTo>
                    <a:lnTo>
                      <a:pt x="1135" y="30"/>
                    </a:lnTo>
                    <a:lnTo>
                      <a:pt x="1214" y="22"/>
                    </a:lnTo>
                    <a:lnTo>
                      <a:pt x="1296" y="16"/>
                    </a:lnTo>
                    <a:lnTo>
                      <a:pt x="1380" y="10"/>
                    </a:lnTo>
                    <a:lnTo>
                      <a:pt x="1465" y="6"/>
                    </a:lnTo>
                    <a:lnTo>
                      <a:pt x="1552" y="2"/>
                    </a:lnTo>
                    <a:lnTo>
                      <a:pt x="1640" y="1"/>
                    </a:lnTo>
                    <a:lnTo>
                      <a:pt x="1728" y="0"/>
                    </a:lnTo>
                    <a:lnTo>
                      <a:pt x="1817" y="1"/>
                    </a:lnTo>
                    <a:lnTo>
                      <a:pt x="1905" y="2"/>
                    </a:lnTo>
                    <a:lnTo>
                      <a:pt x="1992" y="6"/>
                    </a:lnTo>
                    <a:lnTo>
                      <a:pt x="2077" y="10"/>
                    </a:lnTo>
                    <a:lnTo>
                      <a:pt x="2161" y="16"/>
                    </a:lnTo>
                    <a:lnTo>
                      <a:pt x="2243" y="22"/>
                    </a:lnTo>
                    <a:lnTo>
                      <a:pt x="2322" y="30"/>
                    </a:lnTo>
                    <a:lnTo>
                      <a:pt x="2401" y="39"/>
                    </a:lnTo>
                    <a:lnTo>
                      <a:pt x="2478" y="49"/>
                    </a:lnTo>
                    <a:lnTo>
                      <a:pt x="2553" y="60"/>
                    </a:lnTo>
                    <a:lnTo>
                      <a:pt x="2624" y="72"/>
                    </a:lnTo>
                    <a:lnTo>
                      <a:pt x="2695" y="86"/>
                    </a:lnTo>
                    <a:lnTo>
                      <a:pt x="2763" y="100"/>
                    </a:lnTo>
                    <a:lnTo>
                      <a:pt x="2827" y="115"/>
                    </a:lnTo>
                    <a:lnTo>
                      <a:pt x="2890" y="131"/>
                    </a:lnTo>
                    <a:lnTo>
                      <a:pt x="2950" y="148"/>
                    </a:lnTo>
                    <a:lnTo>
                      <a:pt x="3007" y="166"/>
                    </a:lnTo>
                    <a:lnTo>
                      <a:pt x="3062" y="185"/>
                    </a:lnTo>
                    <a:lnTo>
                      <a:pt x="3113" y="204"/>
                    </a:lnTo>
                    <a:lnTo>
                      <a:pt x="3162" y="224"/>
                    </a:lnTo>
                    <a:lnTo>
                      <a:pt x="3206" y="245"/>
                    </a:lnTo>
                    <a:lnTo>
                      <a:pt x="3247" y="267"/>
                    </a:lnTo>
                    <a:lnTo>
                      <a:pt x="3286" y="290"/>
                    </a:lnTo>
                    <a:lnTo>
                      <a:pt x="3320" y="313"/>
                    </a:lnTo>
                    <a:lnTo>
                      <a:pt x="3351" y="337"/>
                    </a:lnTo>
                    <a:lnTo>
                      <a:pt x="3379" y="361"/>
                    </a:lnTo>
                    <a:lnTo>
                      <a:pt x="3402" y="385"/>
                    </a:lnTo>
                    <a:lnTo>
                      <a:pt x="3421" y="412"/>
                    </a:lnTo>
                    <a:lnTo>
                      <a:pt x="3436" y="438"/>
                    </a:lnTo>
                    <a:lnTo>
                      <a:pt x="3447" y="464"/>
                    </a:lnTo>
                    <a:lnTo>
                      <a:pt x="3454" y="491"/>
                    </a:lnTo>
                    <a:lnTo>
                      <a:pt x="3456" y="5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957680" y="6495840"/>
                <a:ext cx="380520" cy="126360"/>
              </a:xfrm>
              <a:custGeom>
                <a:avLst/>
                <a:gdLst/>
                <a:ahLst/>
                <a:rect l="l" t="t" r="r" b="b"/>
                <a:pathLst>
                  <a:path w="3453" h="1054">
                    <a:moveTo>
                      <a:pt x="3453" y="518"/>
                    </a:moveTo>
                    <a:lnTo>
                      <a:pt x="3450" y="546"/>
                    </a:lnTo>
                    <a:lnTo>
                      <a:pt x="3444" y="573"/>
                    </a:lnTo>
                    <a:lnTo>
                      <a:pt x="3433" y="599"/>
                    </a:lnTo>
                    <a:lnTo>
                      <a:pt x="3418" y="626"/>
                    </a:lnTo>
                    <a:lnTo>
                      <a:pt x="3399" y="652"/>
                    </a:lnTo>
                    <a:lnTo>
                      <a:pt x="3376" y="677"/>
                    </a:lnTo>
                    <a:lnTo>
                      <a:pt x="3348" y="702"/>
                    </a:lnTo>
                    <a:lnTo>
                      <a:pt x="3317" y="727"/>
                    </a:lnTo>
                    <a:lnTo>
                      <a:pt x="3283" y="750"/>
                    </a:lnTo>
                    <a:lnTo>
                      <a:pt x="3244" y="773"/>
                    </a:lnTo>
                    <a:lnTo>
                      <a:pt x="3203" y="796"/>
                    </a:lnTo>
                    <a:lnTo>
                      <a:pt x="3159" y="817"/>
                    </a:lnTo>
                    <a:lnTo>
                      <a:pt x="3110" y="839"/>
                    </a:lnTo>
                    <a:lnTo>
                      <a:pt x="3059" y="859"/>
                    </a:lnTo>
                    <a:lnTo>
                      <a:pt x="3004" y="878"/>
                    </a:lnTo>
                    <a:lnTo>
                      <a:pt x="2947" y="897"/>
                    </a:lnTo>
                    <a:lnTo>
                      <a:pt x="2887" y="914"/>
                    </a:lnTo>
                    <a:lnTo>
                      <a:pt x="2824" y="932"/>
                    </a:lnTo>
                    <a:lnTo>
                      <a:pt x="2760" y="948"/>
                    </a:lnTo>
                    <a:lnTo>
                      <a:pt x="2692" y="962"/>
                    </a:lnTo>
                    <a:lnTo>
                      <a:pt x="2621" y="976"/>
                    </a:lnTo>
                    <a:lnTo>
                      <a:pt x="2550" y="989"/>
                    </a:lnTo>
                    <a:lnTo>
                      <a:pt x="2475" y="1001"/>
                    </a:lnTo>
                    <a:lnTo>
                      <a:pt x="2398" y="1011"/>
                    </a:lnTo>
                    <a:lnTo>
                      <a:pt x="2320" y="1021"/>
                    </a:lnTo>
                    <a:lnTo>
                      <a:pt x="2240" y="1029"/>
                    </a:lnTo>
                    <a:lnTo>
                      <a:pt x="2158" y="1036"/>
                    </a:lnTo>
                    <a:lnTo>
                      <a:pt x="2075" y="1043"/>
                    </a:lnTo>
                    <a:lnTo>
                      <a:pt x="1989" y="1048"/>
                    </a:lnTo>
                    <a:lnTo>
                      <a:pt x="1903" y="1051"/>
                    </a:lnTo>
                    <a:lnTo>
                      <a:pt x="1815" y="1053"/>
                    </a:lnTo>
                    <a:lnTo>
                      <a:pt x="1726" y="1054"/>
                    </a:lnTo>
                    <a:lnTo>
                      <a:pt x="1638" y="1053"/>
                    </a:lnTo>
                    <a:lnTo>
                      <a:pt x="1550" y="1051"/>
                    </a:lnTo>
                    <a:lnTo>
                      <a:pt x="1464" y="1048"/>
                    </a:lnTo>
                    <a:lnTo>
                      <a:pt x="1379" y="1043"/>
                    </a:lnTo>
                    <a:lnTo>
                      <a:pt x="1295" y="1036"/>
                    </a:lnTo>
                    <a:lnTo>
                      <a:pt x="1213" y="1029"/>
                    </a:lnTo>
                    <a:lnTo>
                      <a:pt x="1133" y="1021"/>
                    </a:lnTo>
                    <a:lnTo>
                      <a:pt x="1055" y="1011"/>
                    </a:lnTo>
                    <a:lnTo>
                      <a:pt x="978" y="1001"/>
                    </a:lnTo>
                    <a:lnTo>
                      <a:pt x="903" y="989"/>
                    </a:lnTo>
                    <a:lnTo>
                      <a:pt x="832" y="976"/>
                    </a:lnTo>
                    <a:lnTo>
                      <a:pt x="761" y="962"/>
                    </a:lnTo>
                    <a:lnTo>
                      <a:pt x="693" y="948"/>
                    </a:lnTo>
                    <a:lnTo>
                      <a:pt x="629" y="932"/>
                    </a:lnTo>
                    <a:lnTo>
                      <a:pt x="566" y="914"/>
                    </a:lnTo>
                    <a:lnTo>
                      <a:pt x="505" y="897"/>
                    </a:lnTo>
                    <a:lnTo>
                      <a:pt x="449" y="878"/>
                    </a:lnTo>
                    <a:lnTo>
                      <a:pt x="394" y="859"/>
                    </a:lnTo>
                    <a:lnTo>
                      <a:pt x="343" y="839"/>
                    </a:lnTo>
                    <a:lnTo>
                      <a:pt x="295" y="817"/>
                    </a:lnTo>
                    <a:lnTo>
                      <a:pt x="250" y="796"/>
                    </a:lnTo>
                    <a:lnTo>
                      <a:pt x="209" y="773"/>
                    </a:lnTo>
                    <a:lnTo>
                      <a:pt x="170" y="750"/>
                    </a:lnTo>
                    <a:lnTo>
                      <a:pt x="136" y="727"/>
                    </a:lnTo>
                    <a:lnTo>
                      <a:pt x="105" y="702"/>
                    </a:lnTo>
                    <a:lnTo>
                      <a:pt x="77" y="677"/>
                    </a:lnTo>
                    <a:lnTo>
                      <a:pt x="54" y="652"/>
                    </a:lnTo>
                    <a:lnTo>
                      <a:pt x="35" y="626"/>
                    </a:lnTo>
                    <a:lnTo>
                      <a:pt x="20" y="599"/>
                    </a:lnTo>
                    <a:lnTo>
                      <a:pt x="9" y="573"/>
                    </a:lnTo>
                    <a:lnTo>
                      <a:pt x="2" y="546"/>
                    </a:lnTo>
                    <a:lnTo>
                      <a:pt x="0" y="518"/>
                    </a:lnTo>
                    <a:lnTo>
                      <a:pt x="2" y="490"/>
                    </a:lnTo>
                    <a:lnTo>
                      <a:pt x="9" y="463"/>
                    </a:lnTo>
                    <a:lnTo>
                      <a:pt x="20" y="437"/>
                    </a:lnTo>
                    <a:lnTo>
                      <a:pt x="35" y="411"/>
                    </a:lnTo>
                    <a:lnTo>
                      <a:pt x="54" y="385"/>
                    </a:lnTo>
                    <a:lnTo>
                      <a:pt x="77" y="360"/>
                    </a:lnTo>
                    <a:lnTo>
                      <a:pt x="105" y="336"/>
                    </a:lnTo>
                    <a:lnTo>
                      <a:pt x="136" y="312"/>
                    </a:lnTo>
                    <a:lnTo>
                      <a:pt x="170" y="289"/>
                    </a:lnTo>
                    <a:lnTo>
                      <a:pt x="209" y="266"/>
                    </a:lnTo>
                    <a:lnTo>
                      <a:pt x="250" y="245"/>
                    </a:lnTo>
                    <a:lnTo>
                      <a:pt x="295" y="224"/>
                    </a:lnTo>
                    <a:lnTo>
                      <a:pt x="343" y="204"/>
                    </a:lnTo>
                    <a:lnTo>
                      <a:pt x="394" y="185"/>
                    </a:lnTo>
                    <a:lnTo>
                      <a:pt x="449" y="165"/>
                    </a:lnTo>
                    <a:lnTo>
                      <a:pt x="505" y="148"/>
                    </a:lnTo>
                    <a:lnTo>
                      <a:pt x="566" y="131"/>
                    </a:lnTo>
                    <a:lnTo>
                      <a:pt x="629" y="115"/>
                    </a:lnTo>
                    <a:lnTo>
                      <a:pt x="693" y="100"/>
                    </a:lnTo>
                    <a:lnTo>
                      <a:pt x="761" y="86"/>
                    </a:lnTo>
                    <a:lnTo>
                      <a:pt x="832" y="72"/>
                    </a:lnTo>
                    <a:lnTo>
                      <a:pt x="903" y="60"/>
                    </a:lnTo>
                    <a:lnTo>
                      <a:pt x="978" y="49"/>
                    </a:lnTo>
                    <a:lnTo>
                      <a:pt x="1055" y="39"/>
                    </a:lnTo>
                    <a:lnTo>
                      <a:pt x="1133" y="30"/>
                    </a:lnTo>
                    <a:lnTo>
                      <a:pt x="1213" y="22"/>
                    </a:lnTo>
                    <a:lnTo>
                      <a:pt x="1295" y="15"/>
                    </a:lnTo>
                    <a:lnTo>
                      <a:pt x="1379" y="10"/>
                    </a:lnTo>
                    <a:lnTo>
                      <a:pt x="1464" y="5"/>
                    </a:lnTo>
                    <a:lnTo>
                      <a:pt x="1550" y="2"/>
                    </a:lnTo>
                    <a:lnTo>
                      <a:pt x="1638" y="0"/>
                    </a:lnTo>
                    <a:lnTo>
                      <a:pt x="1726" y="0"/>
                    </a:lnTo>
                    <a:lnTo>
                      <a:pt x="1815" y="0"/>
                    </a:lnTo>
                    <a:lnTo>
                      <a:pt x="1903" y="2"/>
                    </a:lnTo>
                    <a:lnTo>
                      <a:pt x="1989" y="5"/>
                    </a:lnTo>
                    <a:lnTo>
                      <a:pt x="2075" y="10"/>
                    </a:lnTo>
                    <a:lnTo>
                      <a:pt x="2158" y="15"/>
                    </a:lnTo>
                    <a:lnTo>
                      <a:pt x="2240" y="22"/>
                    </a:lnTo>
                    <a:lnTo>
                      <a:pt x="2320" y="30"/>
                    </a:lnTo>
                    <a:lnTo>
                      <a:pt x="2398" y="39"/>
                    </a:lnTo>
                    <a:lnTo>
                      <a:pt x="2475" y="49"/>
                    </a:lnTo>
                    <a:lnTo>
                      <a:pt x="2550" y="60"/>
                    </a:lnTo>
                    <a:lnTo>
                      <a:pt x="2621" y="72"/>
                    </a:lnTo>
                    <a:lnTo>
                      <a:pt x="2692" y="86"/>
                    </a:lnTo>
                    <a:lnTo>
                      <a:pt x="2760" y="100"/>
                    </a:lnTo>
                    <a:lnTo>
                      <a:pt x="2824" y="115"/>
                    </a:lnTo>
                    <a:lnTo>
                      <a:pt x="2887" y="131"/>
                    </a:lnTo>
                    <a:lnTo>
                      <a:pt x="2947" y="148"/>
                    </a:lnTo>
                    <a:lnTo>
                      <a:pt x="3004" y="165"/>
                    </a:lnTo>
                    <a:lnTo>
                      <a:pt x="3059" y="185"/>
                    </a:lnTo>
                    <a:lnTo>
                      <a:pt x="3110" y="204"/>
                    </a:lnTo>
                    <a:lnTo>
                      <a:pt x="3159" y="224"/>
                    </a:lnTo>
                    <a:lnTo>
                      <a:pt x="3203" y="245"/>
                    </a:lnTo>
                    <a:lnTo>
                      <a:pt x="3244" y="266"/>
                    </a:lnTo>
                    <a:lnTo>
                      <a:pt x="3283" y="289"/>
                    </a:lnTo>
                    <a:lnTo>
                      <a:pt x="3317" y="312"/>
                    </a:lnTo>
                    <a:lnTo>
                      <a:pt x="3348" y="336"/>
                    </a:lnTo>
                    <a:lnTo>
                      <a:pt x="3376" y="360"/>
                    </a:lnTo>
                    <a:lnTo>
                      <a:pt x="3399" y="385"/>
                    </a:lnTo>
                    <a:lnTo>
                      <a:pt x="3418" y="411"/>
                    </a:lnTo>
                    <a:lnTo>
                      <a:pt x="3433" y="437"/>
                    </a:lnTo>
                    <a:lnTo>
                      <a:pt x="3444" y="463"/>
                    </a:lnTo>
                    <a:lnTo>
                      <a:pt x="3450" y="490"/>
                    </a:lnTo>
                    <a:lnTo>
                      <a:pt x="3453" y="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957680" y="6495840"/>
                <a:ext cx="380520" cy="126360"/>
              </a:xfrm>
              <a:custGeom>
                <a:avLst/>
                <a:gdLst/>
                <a:ahLst/>
                <a:rect l="l" t="t" r="r" b="b"/>
                <a:pathLst>
                  <a:path w="3450" h="1052">
                    <a:moveTo>
                      <a:pt x="3450" y="517"/>
                    </a:moveTo>
                    <a:lnTo>
                      <a:pt x="3448" y="545"/>
                    </a:lnTo>
                    <a:lnTo>
                      <a:pt x="3441" y="571"/>
                    </a:lnTo>
                    <a:lnTo>
                      <a:pt x="3430" y="598"/>
                    </a:lnTo>
                    <a:lnTo>
                      <a:pt x="3415" y="625"/>
                    </a:lnTo>
                    <a:lnTo>
                      <a:pt x="3396" y="651"/>
                    </a:lnTo>
                    <a:lnTo>
                      <a:pt x="3373" y="676"/>
                    </a:lnTo>
                    <a:lnTo>
                      <a:pt x="3345" y="700"/>
                    </a:lnTo>
                    <a:lnTo>
                      <a:pt x="3315" y="726"/>
                    </a:lnTo>
                    <a:lnTo>
                      <a:pt x="3281" y="749"/>
                    </a:lnTo>
                    <a:lnTo>
                      <a:pt x="3242" y="772"/>
                    </a:lnTo>
                    <a:lnTo>
                      <a:pt x="3201" y="794"/>
                    </a:lnTo>
                    <a:lnTo>
                      <a:pt x="3156" y="816"/>
                    </a:lnTo>
                    <a:lnTo>
                      <a:pt x="3108" y="837"/>
                    </a:lnTo>
                    <a:lnTo>
                      <a:pt x="3057" y="857"/>
                    </a:lnTo>
                    <a:lnTo>
                      <a:pt x="3002" y="877"/>
                    </a:lnTo>
                    <a:lnTo>
                      <a:pt x="2945" y="895"/>
                    </a:lnTo>
                    <a:lnTo>
                      <a:pt x="2885" y="913"/>
                    </a:lnTo>
                    <a:lnTo>
                      <a:pt x="2822" y="930"/>
                    </a:lnTo>
                    <a:lnTo>
                      <a:pt x="2758" y="946"/>
                    </a:lnTo>
                    <a:lnTo>
                      <a:pt x="2690" y="961"/>
                    </a:lnTo>
                    <a:lnTo>
                      <a:pt x="2620" y="974"/>
                    </a:lnTo>
                    <a:lnTo>
                      <a:pt x="2548" y="987"/>
                    </a:lnTo>
                    <a:lnTo>
                      <a:pt x="2474" y="999"/>
                    </a:lnTo>
                    <a:lnTo>
                      <a:pt x="2397" y="1010"/>
                    </a:lnTo>
                    <a:lnTo>
                      <a:pt x="2318" y="1019"/>
                    </a:lnTo>
                    <a:lnTo>
                      <a:pt x="2239" y="1027"/>
                    </a:lnTo>
                    <a:lnTo>
                      <a:pt x="2157" y="1035"/>
                    </a:lnTo>
                    <a:lnTo>
                      <a:pt x="2073" y="1041"/>
                    </a:lnTo>
                    <a:lnTo>
                      <a:pt x="1988" y="1046"/>
                    </a:lnTo>
                    <a:lnTo>
                      <a:pt x="1902" y="1049"/>
                    </a:lnTo>
                    <a:lnTo>
                      <a:pt x="1814" y="1052"/>
                    </a:lnTo>
                    <a:lnTo>
                      <a:pt x="1725" y="1052"/>
                    </a:lnTo>
                    <a:lnTo>
                      <a:pt x="1637" y="1052"/>
                    </a:lnTo>
                    <a:lnTo>
                      <a:pt x="1549" y="1049"/>
                    </a:lnTo>
                    <a:lnTo>
                      <a:pt x="1463" y="1046"/>
                    </a:lnTo>
                    <a:lnTo>
                      <a:pt x="1378" y="1041"/>
                    </a:lnTo>
                    <a:lnTo>
                      <a:pt x="1294" y="1035"/>
                    </a:lnTo>
                    <a:lnTo>
                      <a:pt x="1212" y="1027"/>
                    </a:lnTo>
                    <a:lnTo>
                      <a:pt x="1133" y="1019"/>
                    </a:lnTo>
                    <a:lnTo>
                      <a:pt x="1054" y="1010"/>
                    </a:lnTo>
                    <a:lnTo>
                      <a:pt x="978" y="999"/>
                    </a:lnTo>
                    <a:lnTo>
                      <a:pt x="903" y="987"/>
                    </a:lnTo>
                    <a:lnTo>
                      <a:pt x="831" y="974"/>
                    </a:lnTo>
                    <a:lnTo>
                      <a:pt x="761" y="961"/>
                    </a:lnTo>
                    <a:lnTo>
                      <a:pt x="693" y="946"/>
                    </a:lnTo>
                    <a:lnTo>
                      <a:pt x="629" y="930"/>
                    </a:lnTo>
                    <a:lnTo>
                      <a:pt x="566" y="913"/>
                    </a:lnTo>
                    <a:lnTo>
                      <a:pt x="505" y="895"/>
                    </a:lnTo>
                    <a:lnTo>
                      <a:pt x="449" y="877"/>
                    </a:lnTo>
                    <a:lnTo>
                      <a:pt x="394" y="857"/>
                    </a:lnTo>
                    <a:lnTo>
                      <a:pt x="343" y="837"/>
                    </a:lnTo>
                    <a:lnTo>
                      <a:pt x="295" y="816"/>
                    </a:lnTo>
                    <a:lnTo>
                      <a:pt x="250" y="794"/>
                    </a:lnTo>
                    <a:lnTo>
                      <a:pt x="209" y="772"/>
                    </a:lnTo>
                    <a:lnTo>
                      <a:pt x="170" y="749"/>
                    </a:lnTo>
                    <a:lnTo>
                      <a:pt x="136" y="726"/>
                    </a:lnTo>
                    <a:lnTo>
                      <a:pt x="106" y="700"/>
                    </a:lnTo>
                    <a:lnTo>
                      <a:pt x="78" y="676"/>
                    </a:lnTo>
                    <a:lnTo>
                      <a:pt x="55" y="651"/>
                    </a:lnTo>
                    <a:lnTo>
                      <a:pt x="36" y="625"/>
                    </a:lnTo>
                    <a:lnTo>
                      <a:pt x="21" y="598"/>
                    </a:lnTo>
                    <a:lnTo>
                      <a:pt x="10" y="571"/>
                    </a:lnTo>
                    <a:lnTo>
                      <a:pt x="3" y="545"/>
                    </a:lnTo>
                    <a:lnTo>
                      <a:pt x="0" y="517"/>
                    </a:lnTo>
                    <a:lnTo>
                      <a:pt x="3" y="489"/>
                    </a:lnTo>
                    <a:lnTo>
                      <a:pt x="10" y="462"/>
                    </a:lnTo>
                    <a:lnTo>
                      <a:pt x="21" y="436"/>
                    </a:lnTo>
                    <a:lnTo>
                      <a:pt x="36" y="410"/>
                    </a:lnTo>
                    <a:lnTo>
                      <a:pt x="55" y="384"/>
                    </a:lnTo>
                    <a:lnTo>
                      <a:pt x="78" y="359"/>
                    </a:lnTo>
                    <a:lnTo>
                      <a:pt x="106" y="335"/>
                    </a:lnTo>
                    <a:lnTo>
                      <a:pt x="136" y="312"/>
                    </a:lnTo>
                    <a:lnTo>
                      <a:pt x="170" y="289"/>
                    </a:lnTo>
                    <a:lnTo>
                      <a:pt x="209" y="266"/>
                    </a:lnTo>
                    <a:lnTo>
                      <a:pt x="250" y="244"/>
                    </a:lnTo>
                    <a:lnTo>
                      <a:pt x="295" y="223"/>
                    </a:lnTo>
                    <a:lnTo>
                      <a:pt x="343" y="203"/>
                    </a:lnTo>
                    <a:lnTo>
                      <a:pt x="394" y="184"/>
                    </a:lnTo>
                    <a:lnTo>
                      <a:pt x="449" y="165"/>
                    </a:lnTo>
                    <a:lnTo>
                      <a:pt x="505" y="147"/>
                    </a:lnTo>
                    <a:lnTo>
                      <a:pt x="566" y="131"/>
                    </a:lnTo>
                    <a:lnTo>
                      <a:pt x="629" y="115"/>
                    </a:lnTo>
                    <a:lnTo>
                      <a:pt x="693" y="100"/>
                    </a:lnTo>
                    <a:lnTo>
                      <a:pt x="761" y="86"/>
                    </a:lnTo>
                    <a:lnTo>
                      <a:pt x="831" y="72"/>
                    </a:lnTo>
                    <a:lnTo>
                      <a:pt x="903" y="60"/>
                    </a:lnTo>
                    <a:lnTo>
                      <a:pt x="978" y="49"/>
                    </a:lnTo>
                    <a:lnTo>
                      <a:pt x="1054" y="39"/>
                    </a:lnTo>
                    <a:lnTo>
                      <a:pt x="1133" y="30"/>
                    </a:lnTo>
                    <a:lnTo>
                      <a:pt x="1212" y="22"/>
                    </a:lnTo>
                    <a:lnTo>
                      <a:pt x="1294" y="15"/>
                    </a:lnTo>
                    <a:lnTo>
                      <a:pt x="1378" y="10"/>
                    </a:lnTo>
                    <a:lnTo>
                      <a:pt x="1463" y="5"/>
                    </a:lnTo>
                    <a:lnTo>
                      <a:pt x="1549" y="2"/>
                    </a:lnTo>
                    <a:lnTo>
                      <a:pt x="1637" y="0"/>
                    </a:lnTo>
                    <a:lnTo>
                      <a:pt x="1725" y="0"/>
                    </a:lnTo>
                    <a:lnTo>
                      <a:pt x="1814" y="0"/>
                    </a:lnTo>
                    <a:lnTo>
                      <a:pt x="1902" y="2"/>
                    </a:lnTo>
                    <a:lnTo>
                      <a:pt x="1988" y="5"/>
                    </a:lnTo>
                    <a:lnTo>
                      <a:pt x="2073" y="10"/>
                    </a:lnTo>
                    <a:lnTo>
                      <a:pt x="2157" y="15"/>
                    </a:lnTo>
                    <a:lnTo>
                      <a:pt x="2239" y="22"/>
                    </a:lnTo>
                    <a:lnTo>
                      <a:pt x="2318" y="30"/>
                    </a:lnTo>
                    <a:lnTo>
                      <a:pt x="2397" y="39"/>
                    </a:lnTo>
                    <a:lnTo>
                      <a:pt x="2474" y="49"/>
                    </a:lnTo>
                    <a:lnTo>
                      <a:pt x="2548" y="60"/>
                    </a:lnTo>
                    <a:lnTo>
                      <a:pt x="2620" y="72"/>
                    </a:lnTo>
                    <a:lnTo>
                      <a:pt x="2690" y="86"/>
                    </a:lnTo>
                    <a:lnTo>
                      <a:pt x="2758" y="100"/>
                    </a:lnTo>
                    <a:lnTo>
                      <a:pt x="2822" y="115"/>
                    </a:lnTo>
                    <a:lnTo>
                      <a:pt x="2885" y="131"/>
                    </a:lnTo>
                    <a:lnTo>
                      <a:pt x="2945" y="147"/>
                    </a:lnTo>
                    <a:lnTo>
                      <a:pt x="3002" y="165"/>
                    </a:lnTo>
                    <a:lnTo>
                      <a:pt x="3057" y="184"/>
                    </a:lnTo>
                    <a:lnTo>
                      <a:pt x="3108" y="203"/>
                    </a:lnTo>
                    <a:lnTo>
                      <a:pt x="3156" y="223"/>
                    </a:lnTo>
                    <a:lnTo>
                      <a:pt x="3201" y="244"/>
                    </a:lnTo>
                    <a:lnTo>
                      <a:pt x="3242" y="266"/>
                    </a:lnTo>
                    <a:lnTo>
                      <a:pt x="3281" y="289"/>
                    </a:lnTo>
                    <a:lnTo>
                      <a:pt x="3315" y="312"/>
                    </a:lnTo>
                    <a:lnTo>
                      <a:pt x="3345" y="335"/>
                    </a:lnTo>
                    <a:lnTo>
                      <a:pt x="3373" y="359"/>
                    </a:lnTo>
                    <a:lnTo>
                      <a:pt x="3396" y="384"/>
                    </a:lnTo>
                    <a:lnTo>
                      <a:pt x="3415" y="410"/>
                    </a:lnTo>
                    <a:lnTo>
                      <a:pt x="3430" y="436"/>
                    </a:lnTo>
                    <a:lnTo>
                      <a:pt x="3441" y="462"/>
                    </a:lnTo>
                    <a:lnTo>
                      <a:pt x="3448" y="489"/>
                    </a:lnTo>
                    <a:lnTo>
                      <a:pt x="3450" y="5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57680" y="6495840"/>
                <a:ext cx="380520" cy="126360"/>
              </a:xfrm>
              <a:custGeom>
                <a:avLst/>
                <a:gdLst/>
                <a:ahLst/>
                <a:rect l="l" t="t" r="r" b="b"/>
                <a:pathLst>
                  <a:path w="3448" h="1050">
                    <a:moveTo>
                      <a:pt x="3448" y="516"/>
                    </a:moveTo>
                    <a:lnTo>
                      <a:pt x="3445" y="544"/>
                    </a:lnTo>
                    <a:lnTo>
                      <a:pt x="3439" y="570"/>
                    </a:lnTo>
                    <a:lnTo>
                      <a:pt x="3428" y="597"/>
                    </a:lnTo>
                    <a:lnTo>
                      <a:pt x="3413" y="624"/>
                    </a:lnTo>
                    <a:lnTo>
                      <a:pt x="3394" y="650"/>
                    </a:lnTo>
                    <a:lnTo>
                      <a:pt x="3371" y="675"/>
                    </a:lnTo>
                    <a:lnTo>
                      <a:pt x="3343" y="699"/>
                    </a:lnTo>
                    <a:lnTo>
                      <a:pt x="3313" y="724"/>
                    </a:lnTo>
                    <a:lnTo>
                      <a:pt x="3278" y="748"/>
                    </a:lnTo>
                    <a:lnTo>
                      <a:pt x="3240" y="770"/>
                    </a:lnTo>
                    <a:lnTo>
                      <a:pt x="3199" y="793"/>
                    </a:lnTo>
                    <a:lnTo>
                      <a:pt x="3154" y="814"/>
                    </a:lnTo>
                    <a:lnTo>
                      <a:pt x="3106" y="836"/>
                    </a:lnTo>
                    <a:lnTo>
                      <a:pt x="3055" y="856"/>
                    </a:lnTo>
                    <a:lnTo>
                      <a:pt x="3000" y="875"/>
                    </a:lnTo>
                    <a:lnTo>
                      <a:pt x="2943" y="893"/>
                    </a:lnTo>
                    <a:lnTo>
                      <a:pt x="2883" y="911"/>
                    </a:lnTo>
                    <a:lnTo>
                      <a:pt x="2821" y="929"/>
                    </a:lnTo>
                    <a:lnTo>
                      <a:pt x="2756" y="944"/>
                    </a:lnTo>
                    <a:lnTo>
                      <a:pt x="2688" y="959"/>
                    </a:lnTo>
                    <a:lnTo>
                      <a:pt x="2618" y="973"/>
                    </a:lnTo>
                    <a:lnTo>
                      <a:pt x="2546" y="985"/>
                    </a:lnTo>
                    <a:lnTo>
                      <a:pt x="2472" y="997"/>
                    </a:lnTo>
                    <a:lnTo>
                      <a:pt x="2395" y="1008"/>
                    </a:lnTo>
                    <a:lnTo>
                      <a:pt x="2317" y="1017"/>
                    </a:lnTo>
                    <a:lnTo>
                      <a:pt x="2238" y="1026"/>
                    </a:lnTo>
                    <a:lnTo>
                      <a:pt x="2156" y="1033"/>
                    </a:lnTo>
                    <a:lnTo>
                      <a:pt x="2072" y="1040"/>
                    </a:lnTo>
                    <a:lnTo>
                      <a:pt x="1987" y="1044"/>
                    </a:lnTo>
                    <a:lnTo>
                      <a:pt x="1901" y="1048"/>
                    </a:lnTo>
                    <a:lnTo>
                      <a:pt x="1813" y="1050"/>
                    </a:lnTo>
                    <a:lnTo>
                      <a:pt x="1724" y="1050"/>
                    </a:lnTo>
                    <a:lnTo>
                      <a:pt x="1636" y="1050"/>
                    </a:lnTo>
                    <a:lnTo>
                      <a:pt x="1549" y="1048"/>
                    </a:lnTo>
                    <a:lnTo>
                      <a:pt x="1462" y="1044"/>
                    </a:lnTo>
                    <a:lnTo>
                      <a:pt x="1377" y="1040"/>
                    </a:lnTo>
                    <a:lnTo>
                      <a:pt x="1294" y="1033"/>
                    </a:lnTo>
                    <a:lnTo>
                      <a:pt x="1212" y="1026"/>
                    </a:lnTo>
                    <a:lnTo>
                      <a:pt x="1132" y="1017"/>
                    </a:lnTo>
                    <a:lnTo>
                      <a:pt x="1054" y="1008"/>
                    </a:lnTo>
                    <a:lnTo>
                      <a:pt x="977" y="997"/>
                    </a:lnTo>
                    <a:lnTo>
                      <a:pt x="903" y="985"/>
                    </a:lnTo>
                    <a:lnTo>
                      <a:pt x="831" y="973"/>
                    </a:lnTo>
                    <a:lnTo>
                      <a:pt x="761" y="959"/>
                    </a:lnTo>
                    <a:lnTo>
                      <a:pt x="693" y="944"/>
                    </a:lnTo>
                    <a:lnTo>
                      <a:pt x="628" y="929"/>
                    </a:lnTo>
                    <a:lnTo>
                      <a:pt x="566" y="911"/>
                    </a:lnTo>
                    <a:lnTo>
                      <a:pt x="505" y="893"/>
                    </a:lnTo>
                    <a:lnTo>
                      <a:pt x="449" y="875"/>
                    </a:lnTo>
                    <a:lnTo>
                      <a:pt x="394" y="856"/>
                    </a:lnTo>
                    <a:lnTo>
                      <a:pt x="343" y="836"/>
                    </a:lnTo>
                    <a:lnTo>
                      <a:pt x="295" y="814"/>
                    </a:lnTo>
                    <a:lnTo>
                      <a:pt x="251" y="793"/>
                    </a:lnTo>
                    <a:lnTo>
                      <a:pt x="209" y="770"/>
                    </a:lnTo>
                    <a:lnTo>
                      <a:pt x="171" y="748"/>
                    </a:lnTo>
                    <a:lnTo>
                      <a:pt x="137" y="724"/>
                    </a:lnTo>
                    <a:lnTo>
                      <a:pt x="106" y="699"/>
                    </a:lnTo>
                    <a:lnTo>
                      <a:pt x="78" y="675"/>
                    </a:lnTo>
                    <a:lnTo>
                      <a:pt x="55" y="650"/>
                    </a:lnTo>
                    <a:lnTo>
                      <a:pt x="36" y="624"/>
                    </a:lnTo>
                    <a:lnTo>
                      <a:pt x="21" y="597"/>
                    </a:lnTo>
                    <a:lnTo>
                      <a:pt x="10" y="570"/>
                    </a:lnTo>
                    <a:lnTo>
                      <a:pt x="4" y="544"/>
                    </a:lnTo>
                    <a:lnTo>
                      <a:pt x="0" y="516"/>
                    </a:lnTo>
                    <a:lnTo>
                      <a:pt x="4" y="488"/>
                    </a:lnTo>
                    <a:lnTo>
                      <a:pt x="10" y="461"/>
                    </a:lnTo>
                    <a:lnTo>
                      <a:pt x="21" y="435"/>
                    </a:lnTo>
                    <a:lnTo>
                      <a:pt x="36" y="409"/>
                    </a:lnTo>
                    <a:lnTo>
                      <a:pt x="55" y="383"/>
                    </a:lnTo>
                    <a:lnTo>
                      <a:pt x="78" y="359"/>
                    </a:lnTo>
                    <a:lnTo>
                      <a:pt x="106" y="335"/>
                    </a:lnTo>
                    <a:lnTo>
                      <a:pt x="137" y="311"/>
                    </a:lnTo>
                    <a:lnTo>
                      <a:pt x="171" y="288"/>
                    </a:lnTo>
                    <a:lnTo>
                      <a:pt x="209" y="265"/>
                    </a:lnTo>
                    <a:lnTo>
                      <a:pt x="251" y="244"/>
                    </a:lnTo>
                    <a:lnTo>
                      <a:pt x="295" y="223"/>
                    </a:lnTo>
                    <a:lnTo>
                      <a:pt x="343" y="203"/>
                    </a:lnTo>
                    <a:lnTo>
                      <a:pt x="394" y="184"/>
                    </a:lnTo>
                    <a:lnTo>
                      <a:pt x="449" y="164"/>
                    </a:lnTo>
                    <a:lnTo>
                      <a:pt x="505" y="147"/>
                    </a:lnTo>
                    <a:lnTo>
                      <a:pt x="566" y="130"/>
                    </a:lnTo>
                    <a:lnTo>
                      <a:pt x="628" y="114"/>
                    </a:lnTo>
                    <a:lnTo>
                      <a:pt x="693" y="99"/>
                    </a:lnTo>
                    <a:lnTo>
                      <a:pt x="761" y="86"/>
                    </a:lnTo>
                    <a:lnTo>
                      <a:pt x="831" y="73"/>
                    </a:lnTo>
                    <a:lnTo>
                      <a:pt x="903" y="59"/>
                    </a:lnTo>
                    <a:lnTo>
                      <a:pt x="977" y="48"/>
                    </a:lnTo>
                    <a:lnTo>
                      <a:pt x="1054" y="39"/>
                    </a:lnTo>
                    <a:lnTo>
                      <a:pt x="1132" y="30"/>
                    </a:lnTo>
                    <a:lnTo>
                      <a:pt x="1212" y="22"/>
                    </a:lnTo>
                    <a:lnTo>
                      <a:pt x="1294" y="15"/>
                    </a:lnTo>
                    <a:lnTo>
                      <a:pt x="1377" y="10"/>
                    </a:lnTo>
                    <a:lnTo>
                      <a:pt x="1462" y="5"/>
                    </a:lnTo>
                    <a:lnTo>
                      <a:pt x="1549" y="2"/>
                    </a:lnTo>
                    <a:lnTo>
                      <a:pt x="1636" y="0"/>
                    </a:lnTo>
                    <a:lnTo>
                      <a:pt x="1724" y="0"/>
                    </a:lnTo>
                    <a:lnTo>
                      <a:pt x="1813" y="0"/>
                    </a:lnTo>
                    <a:lnTo>
                      <a:pt x="1901" y="2"/>
                    </a:lnTo>
                    <a:lnTo>
                      <a:pt x="1987" y="5"/>
                    </a:lnTo>
                    <a:lnTo>
                      <a:pt x="2072" y="10"/>
                    </a:lnTo>
                    <a:lnTo>
                      <a:pt x="2156" y="15"/>
                    </a:lnTo>
                    <a:lnTo>
                      <a:pt x="2238" y="22"/>
                    </a:lnTo>
                    <a:lnTo>
                      <a:pt x="2317" y="30"/>
                    </a:lnTo>
                    <a:lnTo>
                      <a:pt x="2395" y="39"/>
                    </a:lnTo>
                    <a:lnTo>
                      <a:pt x="2472" y="48"/>
                    </a:lnTo>
                    <a:lnTo>
                      <a:pt x="2546" y="59"/>
                    </a:lnTo>
                    <a:lnTo>
                      <a:pt x="2618" y="73"/>
                    </a:lnTo>
                    <a:lnTo>
                      <a:pt x="2688" y="86"/>
                    </a:lnTo>
                    <a:lnTo>
                      <a:pt x="2756" y="99"/>
                    </a:lnTo>
                    <a:lnTo>
                      <a:pt x="2821" y="114"/>
                    </a:lnTo>
                    <a:lnTo>
                      <a:pt x="2883" y="130"/>
                    </a:lnTo>
                    <a:lnTo>
                      <a:pt x="2943" y="147"/>
                    </a:lnTo>
                    <a:lnTo>
                      <a:pt x="3000" y="164"/>
                    </a:lnTo>
                    <a:lnTo>
                      <a:pt x="3055" y="184"/>
                    </a:lnTo>
                    <a:lnTo>
                      <a:pt x="3106" y="203"/>
                    </a:lnTo>
                    <a:lnTo>
                      <a:pt x="3154" y="223"/>
                    </a:lnTo>
                    <a:lnTo>
                      <a:pt x="3199" y="244"/>
                    </a:lnTo>
                    <a:lnTo>
                      <a:pt x="3240" y="265"/>
                    </a:lnTo>
                    <a:lnTo>
                      <a:pt x="3278" y="288"/>
                    </a:lnTo>
                    <a:lnTo>
                      <a:pt x="3313" y="311"/>
                    </a:lnTo>
                    <a:lnTo>
                      <a:pt x="3343" y="335"/>
                    </a:lnTo>
                    <a:lnTo>
                      <a:pt x="3371" y="359"/>
                    </a:lnTo>
                    <a:lnTo>
                      <a:pt x="3394" y="383"/>
                    </a:lnTo>
                    <a:lnTo>
                      <a:pt x="3413" y="409"/>
                    </a:lnTo>
                    <a:lnTo>
                      <a:pt x="3428" y="435"/>
                    </a:lnTo>
                    <a:lnTo>
                      <a:pt x="3439" y="461"/>
                    </a:lnTo>
                    <a:lnTo>
                      <a:pt x="3445" y="488"/>
                    </a:lnTo>
                    <a:lnTo>
                      <a:pt x="3448" y="5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957680" y="6495840"/>
                <a:ext cx="379440" cy="124560"/>
              </a:xfrm>
              <a:custGeom>
                <a:avLst/>
                <a:gdLst/>
                <a:ahLst/>
                <a:rect l="l" t="t" r="r" b="b"/>
                <a:pathLst>
                  <a:path w="3443" h="1048">
                    <a:moveTo>
                      <a:pt x="3443" y="515"/>
                    </a:moveTo>
                    <a:lnTo>
                      <a:pt x="3441" y="542"/>
                    </a:lnTo>
                    <a:lnTo>
                      <a:pt x="3434" y="569"/>
                    </a:lnTo>
                    <a:lnTo>
                      <a:pt x="3424" y="596"/>
                    </a:lnTo>
                    <a:lnTo>
                      <a:pt x="3409" y="623"/>
                    </a:lnTo>
                    <a:lnTo>
                      <a:pt x="3390" y="648"/>
                    </a:lnTo>
                    <a:lnTo>
                      <a:pt x="3367" y="673"/>
                    </a:lnTo>
                    <a:lnTo>
                      <a:pt x="3339" y="698"/>
                    </a:lnTo>
                    <a:lnTo>
                      <a:pt x="3308" y="723"/>
                    </a:lnTo>
                    <a:lnTo>
                      <a:pt x="3274" y="746"/>
                    </a:lnTo>
                    <a:lnTo>
                      <a:pt x="3235" y="769"/>
                    </a:lnTo>
                    <a:lnTo>
                      <a:pt x="3194" y="791"/>
                    </a:lnTo>
                    <a:lnTo>
                      <a:pt x="3150" y="813"/>
                    </a:lnTo>
                    <a:lnTo>
                      <a:pt x="3101" y="834"/>
                    </a:lnTo>
                    <a:lnTo>
                      <a:pt x="3051" y="854"/>
                    </a:lnTo>
                    <a:lnTo>
                      <a:pt x="2996" y="873"/>
                    </a:lnTo>
                    <a:lnTo>
                      <a:pt x="2939" y="892"/>
                    </a:lnTo>
                    <a:lnTo>
                      <a:pt x="2880" y="909"/>
                    </a:lnTo>
                    <a:lnTo>
                      <a:pt x="2817" y="926"/>
                    </a:lnTo>
                    <a:lnTo>
                      <a:pt x="2752" y="942"/>
                    </a:lnTo>
                    <a:lnTo>
                      <a:pt x="2684" y="957"/>
                    </a:lnTo>
                    <a:lnTo>
                      <a:pt x="2614" y="971"/>
                    </a:lnTo>
                    <a:lnTo>
                      <a:pt x="2543" y="984"/>
                    </a:lnTo>
                    <a:lnTo>
                      <a:pt x="2468" y="995"/>
                    </a:lnTo>
                    <a:lnTo>
                      <a:pt x="2392" y="1006"/>
                    </a:lnTo>
                    <a:lnTo>
                      <a:pt x="2313" y="1015"/>
                    </a:lnTo>
                    <a:lnTo>
                      <a:pt x="2233" y="1024"/>
                    </a:lnTo>
                    <a:lnTo>
                      <a:pt x="2152" y="1031"/>
                    </a:lnTo>
                    <a:lnTo>
                      <a:pt x="2069" y="1038"/>
                    </a:lnTo>
                    <a:lnTo>
                      <a:pt x="1984" y="1042"/>
                    </a:lnTo>
                    <a:lnTo>
                      <a:pt x="1897" y="1046"/>
                    </a:lnTo>
                    <a:lnTo>
                      <a:pt x="1810" y="1048"/>
                    </a:lnTo>
                    <a:lnTo>
                      <a:pt x="1721" y="1048"/>
                    </a:lnTo>
                    <a:lnTo>
                      <a:pt x="1633" y="1048"/>
                    </a:lnTo>
                    <a:lnTo>
                      <a:pt x="1546" y="1046"/>
                    </a:lnTo>
                    <a:lnTo>
                      <a:pt x="1459" y="1042"/>
                    </a:lnTo>
                    <a:lnTo>
                      <a:pt x="1374" y="1038"/>
                    </a:lnTo>
                    <a:lnTo>
                      <a:pt x="1291" y="1031"/>
                    </a:lnTo>
                    <a:lnTo>
                      <a:pt x="1209" y="1024"/>
                    </a:lnTo>
                    <a:lnTo>
                      <a:pt x="1130" y="1015"/>
                    </a:lnTo>
                    <a:lnTo>
                      <a:pt x="1051" y="1006"/>
                    </a:lnTo>
                    <a:lnTo>
                      <a:pt x="975" y="995"/>
                    </a:lnTo>
                    <a:lnTo>
                      <a:pt x="900" y="984"/>
                    </a:lnTo>
                    <a:lnTo>
                      <a:pt x="829" y="971"/>
                    </a:lnTo>
                    <a:lnTo>
                      <a:pt x="759" y="957"/>
                    </a:lnTo>
                    <a:lnTo>
                      <a:pt x="691" y="942"/>
                    </a:lnTo>
                    <a:lnTo>
                      <a:pt x="626" y="926"/>
                    </a:lnTo>
                    <a:lnTo>
                      <a:pt x="564" y="909"/>
                    </a:lnTo>
                    <a:lnTo>
                      <a:pt x="503" y="892"/>
                    </a:lnTo>
                    <a:lnTo>
                      <a:pt x="447" y="873"/>
                    </a:lnTo>
                    <a:lnTo>
                      <a:pt x="392" y="854"/>
                    </a:lnTo>
                    <a:lnTo>
                      <a:pt x="342" y="834"/>
                    </a:lnTo>
                    <a:lnTo>
                      <a:pt x="293" y="813"/>
                    </a:lnTo>
                    <a:lnTo>
                      <a:pt x="249" y="791"/>
                    </a:lnTo>
                    <a:lnTo>
                      <a:pt x="208" y="769"/>
                    </a:lnTo>
                    <a:lnTo>
                      <a:pt x="169" y="746"/>
                    </a:lnTo>
                    <a:lnTo>
                      <a:pt x="135" y="723"/>
                    </a:lnTo>
                    <a:lnTo>
                      <a:pt x="104" y="698"/>
                    </a:lnTo>
                    <a:lnTo>
                      <a:pt x="77" y="673"/>
                    </a:lnTo>
                    <a:lnTo>
                      <a:pt x="54" y="648"/>
                    </a:lnTo>
                    <a:lnTo>
                      <a:pt x="35" y="623"/>
                    </a:lnTo>
                    <a:lnTo>
                      <a:pt x="20" y="596"/>
                    </a:lnTo>
                    <a:lnTo>
                      <a:pt x="9" y="569"/>
                    </a:lnTo>
                    <a:lnTo>
                      <a:pt x="2" y="542"/>
                    </a:lnTo>
                    <a:lnTo>
                      <a:pt x="0" y="515"/>
                    </a:lnTo>
                    <a:lnTo>
                      <a:pt x="2" y="487"/>
                    </a:lnTo>
                    <a:lnTo>
                      <a:pt x="9" y="460"/>
                    </a:lnTo>
                    <a:lnTo>
                      <a:pt x="20" y="434"/>
                    </a:lnTo>
                    <a:lnTo>
                      <a:pt x="35" y="409"/>
                    </a:lnTo>
                    <a:lnTo>
                      <a:pt x="54" y="382"/>
                    </a:lnTo>
                    <a:lnTo>
                      <a:pt x="77" y="358"/>
                    </a:lnTo>
                    <a:lnTo>
                      <a:pt x="104" y="334"/>
                    </a:lnTo>
                    <a:lnTo>
                      <a:pt x="135" y="310"/>
                    </a:lnTo>
                    <a:lnTo>
                      <a:pt x="169" y="288"/>
                    </a:lnTo>
                    <a:lnTo>
                      <a:pt x="208" y="265"/>
                    </a:lnTo>
                    <a:lnTo>
                      <a:pt x="249" y="243"/>
                    </a:lnTo>
                    <a:lnTo>
                      <a:pt x="293" y="223"/>
                    </a:lnTo>
                    <a:lnTo>
                      <a:pt x="342" y="203"/>
                    </a:lnTo>
                    <a:lnTo>
                      <a:pt x="392" y="183"/>
                    </a:lnTo>
                    <a:lnTo>
                      <a:pt x="447" y="164"/>
                    </a:lnTo>
                    <a:lnTo>
                      <a:pt x="503" y="147"/>
                    </a:lnTo>
                    <a:lnTo>
                      <a:pt x="564" y="130"/>
                    </a:lnTo>
                    <a:lnTo>
                      <a:pt x="626" y="114"/>
                    </a:lnTo>
                    <a:lnTo>
                      <a:pt x="691" y="99"/>
                    </a:lnTo>
                    <a:lnTo>
                      <a:pt x="759" y="85"/>
                    </a:lnTo>
                    <a:lnTo>
                      <a:pt x="829" y="72"/>
                    </a:lnTo>
                    <a:lnTo>
                      <a:pt x="900" y="59"/>
                    </a:lnTo>
                    <a:lnTo>
                      <a:pt x="975" y="48"/>
                    </a:lnTo>
                    <a:lnTo>
                      <a:pt x="1051" y="38"/>
                    </a:lnTo>
                    <a:lnTo>
                      <a:pt x="1130" y="30"/>
                    </a:lnTo>
                    <a:lnTo>
                      <a:pt x="1209" y="22"/>
                    </a:lnTo>
                    <a:lnTo>
                      <a:pt x="1291" y="15"/>
                    </a:lnTo>
                    <a:lnTo>
                      <a:pt x="1374" y="10"/>
                    </a:lnTo>
                    <a:lnTo>
                      <a:pt x="1459" y="5"/>
                    </a:lnTo>
                    <a:lnTo>
                      <a:pt x="1546" y="2"/>
                    </a:lnTo>
                    <a:lnTo>
                      <a:pt x="1633" y="0"/>
                    </a:lnTo>
                    <a:lnTo>
                      <a:pt x="1721" y="0"/>
                    </a:lnTo>
                    <a:lnTo>
                      <a:pt x="1810" y="0"/>
                    </a:lnTo>
                    <a:lnTo>
                      <a:pt x="1897" y="2"/>
                    </a:lnTo>
                    <a:lnTo>
                      <a:pt x="1984" y="5"/>
                    </a:lnTo>
                    <a:lnTo>
                      <a:pt x="2069" y="10"/>
                    </a:lnTo>
                    <a:lnTo>
                      <a:pt x="2152" y="15"/>
                    </a:lnTo>
                    <a:lnTo>
                      <a:pt x="2233" y="22"/>
                    </a:lnTo>
                    <a:lnTo>
                      <a:pt x="2313" y="30"/>
                    </a:lnTo>
                    <a:lnTo>
                      <a:pt x="2392" y="38"/>
                    </a:lnTo>
                    <a:lnTo>
                      <a:pt x="2468" y="48"/>
                    </a:lnTo>
                    <a:lnTo>
                      <a:pt x="2543" y="59"/>
                    </a:lnTo>
                    <a:lnTo>
                      <a:pt x="2614" y="72"/>
                    </a:lnTo>
                    <a:lnTo>
                      <a:pt x="2684" y="85"/>
                    </a:lnTo>
                    <a:lnTo>
                      <a:pt x="2752" y="99"/>
                    </a:lnTo>
                    <a:lnTo>
                      <a:pt x="2817" y="114"/>
                    </a:lnTo>
                    <a:lnTo>
                      <a:pt x="2880" y="130"/>
                    </a:lnTo>
                    <a:lnTo>
                      <a:pt x="2939" y="147"/>
                    </a:lnTo>
                    <a:lnTo>
                      <a:pt x="2996" y="164"/>
                    </a:lnTo>
                    <a:lnTo>
                      <a:pt x="3051" y="183"/>
                    </a:lnTo>
                    <a:lnTo>
                      <a:pt x="3101" y="203"/>
                    </a:lnTo>
                    <a:lnTo>
                      <a:pt x="3150" y="223"/>
                    </a:lnTo>
                    <a:lnTo>
                      <a:pt x="3194" y="243"/>
                    </a:lnTo>
                    <a:lnTo>
                      <a:pt x="3235" y="265"/>
                    </a:lnTo>
                    <a:lnTo>
                      <a:pt x="3274" y="288"/>
                    </a:lnTo>
                    <a:lnTo>
                      <a:pt x="3308" y="310"/>
                    </a:lnTo>
                    <a:lnTo>
                      <a:pt x="3339" y="334"/>
                    </a:lnTo>
                    <a:lnTo>
                      <a:pt x="3367" y="358"/>
                    </a:lnTo>
                    <a:lnTo>
                      <a:pt x="3390" y="382"/>
                    </a:lnTo>
                    <a:lnTo>
                      <a:pt x="3409" y="409"/>
                    </a:lnTo>
                    <a:lnTo>
                      <a:pt x="3424" y="434"/>
                    </a:lnTo>
                    <a:lnTo>
                      <a:pt x="3434" y="460"/>
                    </a:lnTo>
                    <a:lnTo>
                      <a:pt x="3441" y="487"/>
                    </a:lnTo>
                    <a:lnTo>
                      <a:pt x="3443" y="5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959120" y="6495840"/>
                <a:ext cx="378000" cy="124560"/>
              </a:xfrm>
              <a:custGeom>
                <a:avLst/>
                <a:gdLst/>
                <a:ahLst/>
                <a:rect l="l" t="t" r="r" b="b"/>
                <a:pathLst>
                  <a:path w="3441" h="1046">
                    <a:moveTo>
                      <a:pt x="3441" y="514"/>
                    </a:moveTo>
                    <a:lnTo>
                      <a:pt x="3439" y="541"/>
                    </a:lnTo>
                    <a:lnTo>
                      <a:pt x="3432" y="568"/>
                    </a:lnTo>
                    <a:lnTo>
                      <a:pt x="3421" y="595"/>
                    </a:lnTo>
                    <a:lnTo>
                      <a:pt x="3406" y="622"/>
                    </a:lnTo>
                    <a:lnTo>
                      <a:pt x="3387" y="647"/>
                    </a:lnTo>
                    <a:lnTo>
                      <a:pt x="3364" y="672"/>
                    </a:lnTo>
                    <a:lnTo>
                      <a:pt x="3336" y="697"/>
                    </a:lnTo>
                    <a:lnTo>
                      <a:pt x="3306" y="721"/>
                    </a:lnTo>
                    <a:lnTo>
                      <a:pt x="3272" y="745"/>
                    </a:lnTo>
                    <a:lnTo>
                      <a:pt x="3233" y="768"/>
                    </a:lnTo>
                    <a:lnTo>
                      <a:pt x="3192" y="790"/>
                    </a:lnTo>
                    <a:lnTo>
                      <a:pt x="3148" y="811"/>
                    </a:lnTo>
                    <a:lnTo>
                      <a:pt x="3099" y="833"/>
                    </a:lnTo>
                    <a:lnTo>
                      <a:pt x="3049" y="853"/>
                    </a:lnTo>
                    <a:lnTo>
                      <a:pt x="2994" y="872"/>
                    </a:lnTo>
                    <a:lnTo>
                      <a:pt x="2937" y="890"/>
                    </a:lnTo>
                    <a:lnTo>
                      <a:pt x="2878" y="907"/>
                    </a:lnTo>
                    <a:lnTo>
                      <a:pt x="2815" y="924"/>
                    </a:lnTo>
                    <a:lnTo>
                      <a:pt x="2750" y="941"/>
                    </a:lnTo>
                    <a:lnTo>
                      <a:pt x="2683" y="955"/>
                    </a:lnTo>
                    <a:lnTo>
                      <a:pt x="2612" y="969"/>
                    </a:lnTo>
                    <a:lnTo>
                      <a:pt x="2541" y="982"/>
                    </a:lnTo>
                    <a:lnTo>
                      <a:pt x="2467" y="993"/>
                    </a:lnTo>
                    <a:lnTo>
                      <a:pt x="2390" y="1004"/>
                    </a:lnTo>
                    <a:lnTo>
                      <a:pt x="2312" y="1013"/>
                    </a:lnTo>
                    <a:lnTo>
                      <a:pt x="2232" y="1022"/>
                    </a:lnTo>
                    <a:lnTo>
                      <a:pt x="2151" y="1029"/>
                    </a:lnTo>
                    <a:lnTo>
                      <a:pt x="2067" y="1036"/>
                    </a:lnTo>
                    <a:lnTo>
                      <a:pt x="1983" y="1040"/>
                    </a:lnTo>
                    <a:lnTo>
                      <a:pt x="1896" y="1044"/>
                    </a:lnTo>
                    <a:lnTo>
                      <a:pt x="1809" y="1046"/>
                    </a:lnTo>
                    <a:lnTo>
                      <a:pt x="1720" y="1046"/>
                    </a:lnTo>
                    <a:lnTo>
                      <a:pt x="1632" y="1046"/>
                    </a:lnTo>
                    <a:lnTo>
                      <a:pt x="1545" y="1044"/>
                    </a:lnTo>
                    <a:lnTo>
                      <a:pt x="1459" y="1040"/>
                    </a:lnTo>
                    <a:lnTo>
                      <a:pt x="1374" y="1036"/>
                    </a:lnTo>
                    <a:lnTo>
                      <a:pt x="1290" y="1029"/>
                    </a:lnTo>
                    <a:lnTo>
                      <a:pt x="1208" y="1022"/>
                    </a:lnTo>
                    <a:lnTo>
                      <a:pt x="1129" y="1013"/>
                    </a:lnTo>
                    <a:lnTo>
                      <a:pt x="1051" y="1004"/>
                    </a:lnTo>
                    <a:lnTo>
                      <a:pt x="974" y="993"/>
                    </a:lnTo>
                    <a:lnTo>
                      <a:pt x="900" y="982"/>
                    </a:lnTo>
                    <a:lnTo>
                      <a:pt x="829" y="969"/>
                    </a:lnTo>
                    <a:lnTo>
                      <a:pt x="758" y="955"/>
                    </a:lnTo>
                    <a:lnTo>
                      <a:pt x="691" y="941"/>
                    </a:lnTo>
                    <a:lnTo>
                      <a:pt x="626" y="924"/>
                    </a:lnTo>
                    <a:lnTo>
                      <a:pt x="563" y="907"/>
                    </a:lnTo>
                    <a:lnTo>
                      <a:pt x="503" y="890"/>
                    </a:lnTo>
                    <a:lnTo>
                      <a:pt x="447" y="872"/>
                    </a:lnTo>
                    <a:lnTo>
                      <a:pt x="392" y="853"/>
                    </a:lnTo>
                    <a:lnTo>
                      <a:pt x="342" y="833"/>
                    </a:lnTo>
                    <a:lnTo>
                      <a:pt x="293" y="811"/>
                    </a:lnTo>
                    <a:lnTo>
                      <a:pt x="249" y="790"/>
                    </a:lnTo>
                    <a:lnTo>
                      <a:pt x="208" y="768"/>
                    </a:lnTo>
                    <a:lnTo>
                      <a:pt x="169" y="745"/>
                    </a:lnTo>
                    <a:lnTo>
                      <a:pt x="135" y="721"/>
                    </a:lnTo>
                    <a:lnTo>
                      <a:pt x="105" y="697"/>
                    </a:lnTo>
                    <a:lnTo>
                      <a:pt x="77" y="672"/>
                    </a:lnTo>
                    <a:lnTo>
                      <a:pt x="54" y="647"/>
                    </a:lnTo>
                    <a:lnTo>
                      <a:pt x="35" y="622"/>
                    </a:lnTo>
                    <a:lnTo>
                      <a:pt x="20" y="595"/>
                    </a:lnTo>
                    <a:lnTo>
                      <a:pt x="9" y="568"/>
                    </a:lnTo>
                    <a:lnTo>
                      <a:pt x="3" y="541"/>
                    </a:lnTo>
                    <a:lnTo>
                      <a:pt x="0" y="514"/>
                    </a:lnTo>
                    <a:lnTo>
                      <a:pt x="3" y="486"/>
                    </a:lnTo>
                    <a:lnTo>
                      <a:pt x="9" y="460"/>
                    </a:lnTo>
                    <a:lnTo>
                      <a:pt x="20" y="433"/>
                    </a:lnTo>
                    <a:lnTo>
                      <a:pt x="35" y="408"/>
                    </a:lnTo>
                    <a:lnTo>
                      <a:pt x="54" y="382"/>
                    </a:lnTo>
                    <a:lnTo>
                      <a:pt x="77" y="357"/>
                    </a:lnTo>
                    <a:lnTo>
                      <a:pt x="105" y="333"/>
                    </a:lnTo>
                    <a:lnTo>
                      <a:pt x="135" y="310"/>
                    </a:lnTo>
                    <a:lnTo>
                      <a:pt x="169" y="287"/>
                    </a:lnTo>
                    <a:lnTo>
                      <a:pt x="208" y="264"/>
                    </a:lnTo>
                    <a:lnTo>
                      <a:pt x="249" y="243"/>
                    </a:lnTo>
                    <a:lnTo>
                      <a:pt x="293" y="222"/>
                    </a:lnTo>
                    <a:lnTo>
                      <a:pt x="342" y="202"/>
                    </a:lnTo>
                    <a:lnTo>
                      <a:pt x="392" y="183"/>
                    </a:lnTo>
                    <a:lnTo>
                      <a:pt x="447" y="164"/>
                    </a:lnTo>
                    <a:lnTo>
                      <a:pt x="503" y="146"/>
                    </a:lnTo>
                    <a:lnTo>
                      <a:pt x="563" y="130"/>
                    </a:lnTo>
                    <a:lnTo>
                      <a:pt x="626" y="114"/>
                    </a:lnTo>
                    <a:lnTo>
                      <a:pt x="691" y="99"/>
                    </a:lnTo>
                    <a:lnTo>
                      <a:pt x="758" y="85"/>
                    </a:lnTo>
                    <a:lnTo>
                      <a:pt x="829" y="72"/>
                    </a:lnTo>
                    <a:lnTo>
                      <a:pt x="900" y="59"/>
                    </a:lnTo>
                    <a:lnTo>
                      <a:pt x="974" y="48"/>
                    </a:lnTo>
                    <a:lnTo>
                      <a:pt x="1051" y="38"/>
                    </a:lnTo>
                    <a:lnTo>
                      <a:pt x="1129" y="29"/>
                    </a:lnTo>
                    <a:lnTo>
                      <a:pt x="1208" y="22"/>
                    </a:lnTo>
                    <a:lnTo>
                      <a:pt x="1290" y="15"/>
                    </a:lnTo>
                    <a:lnTo>
                      <a:pt x="1374" y="9"/>
                    </a:lnTo>
                    <a:lnTo>
                      <a:pt x="1459" y="5"/>
                    </a:lnTo>
                    <a:lnTo>
                      <a:pt x="1545" y="2"/>
                    </a:lnTo>
                    <a:lnTo>
                      <a:pt x="1632" y="0"/>
                    </a:lnTo>
                    <a:lnTo>
                      <a:pt x="1720" y="0"/>
                    </a:lnTo>
                    <a:lnTo>
                      <a:pt x="1809" y="0"/>
                    </a:lnTo>
                    <a:lnTo>
                      <a:pt x="1896" y="2"/>
                    </a:lnTo>
                    <a:lnTo>
                      <a:pt x="1983" y="5"/>
                    </a:lnTo>
                    <a:lnTo>
                      <a:pt x="2067" y="9"/>
                    </a:lnTo>
                    <a:lnTo>
                      <a:pt x="2151" y="15"/>
                    </a:lnTo>
                    <a:lnTo>
                      <a:pt x="2232" y="22"/>
                    </a:lnTo>
                    <a:lnTo>
                      <a:pt x="2312" y="29"/>
                    </a:lnTo>
                    <a:lnTo>
                      <a:pt x="2390" y="38"/>
                    </a:lnTo>
                    <a:lnTo>
                      <a:pt x="2467" y="48"/>
                    </a:lnTo>
                    <a:lnTo>
                      <a:pt x="2541" y="59"/>
                    </a:lnTo>
                    <a:lnTo>
                      <a:pt x="2612" y="72"/>
                    </a:lnTo>
                    <a:lnTo>
                      <a:pt x="2683" y="85"/>
                    </a:lnTo>
                    <a:lnTo>
                      <a:pt x="2750" y="99"/>
                    </a:lnTo>
                    <a:lnTo>
                      <a:pt x="2815" y="114"/>
                    </a:lnTo>
                    <a:lnTo>
                      <a:pt x="2878" y="130"/>
                    </a:lnTo>
                    <a:lnTo>
                      <a:pt x="2937" y="146"/>
                    </a:lnTo>
                    <a:lnTo>
                      <a:pt x="2994" y="164"/>
                    </a:lnTo>
                    <a:lnTo>
                      <a:pt x="3049" y="183"/>
                    </a:lnTo>
                    <a:lnTo>
                      <a:pt x="3099" y="202"/>
                    </a:lnTo>
                    <a:lnTo>
                      <a:pt x="3148" y="222"/>
                    </a:lnTo>
                    <a:lnTo>
                      <a:pt x="3192" y="243"/>
                    </a:lnTo>
                    <a:lnTo>
                      <a:pt x="3233" y="264"/>
                    </a:lnTo>
                    <a:lnTo>
                      <a:pt x="3272" y="287"/>
                    </a:lnTo>
                    <a:lnTo>
                      <a:pt x="3306" y="310"/>
                    </a:lnTo>
                    <a:lnTo>
                      <a:pt x="3336" y="333"/>
                    </a:lnTo>
                    <a:lnTo>
                      <a:pt x="3364" y="357"/>
                    </a:lnTo>
                    <a:lnTo>
                      <a:pt x="3387" y="382"/>
                    </a:lnTo>
                    <a:lnTo>
                      <a:pt x="3406" y="408"/>
                    </a:lnTo>
                    <a:lnTo>
                      <a:pt x="3421" y="433"/>
                    </a:lnTo>
                    <a:lnTo>
                      <a:pt x="3432" y="460"/>
                    </a:lnTo>
                    <a:lnTo>
                      <a:pt x="3439" y="486"/>
                    </a:lnTo>
                    <a:lnTo>
                      <a:pt x="3441" y="5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959120" y="6495840"/>
                <a:ext cx="378000" cy="124560"/>
              </a:xfrm>
              <a:custGeom>
                <a:avLst/>
                <a:gdLst/>
                <a:ahLst/>
                <a:rect l="l" t="t" r="r" b="b"/>
                <a:pathLst>
                  <a:path w="3437" h="1046">
                    <a:moveTo>
                      <a:pt x="3437" y="514"/>
                    </a:moveTo>
                    <a:lnTo>
                      <a:pt x="3435" y="541"/>
                    </a:lnTo>
                    <a:lnTo>
                      <a:pt x="3429" y="568"/>
                    </a:lnTo>
                    <a:lnTo>
                      <a:pt x="3418" y="594"/>
                    </a:lnTo>
                    <a:lnTo>
                      <a:pt x="3403" y="621"/>
                    </a:lnTo>
                    <a:lnTo>
                      <a:pt x="3384" y="647"/>
                    </a:lnTo>
                    <a:lnTo>
                      <a:pt x="3361" y="672"/>
                    </a:lnTo>
                    <a:lnTo>
                      <a:pt x="3333" y="696"/>
                    </a:lnTo>
                    <a:lnTo>
                      <a:pt x="3303" y="721"/>
                    </a:lnTo>
                    <a:lnTo>
                      <a:pt x="3268" y="744"/>
                    </a:lnTo>
                    <a:lnTo>
                      <a:pt x="3230" y="767"/>
                    </a:lnTo>
                    <a:lnTo>
                      <a:pt x="3189" y="789"/>
                    </a:lnTo>
                    <a:lnTo>
                      <a:pt x="3144" y="811"/>
                    </a:lnTo>
                    <a:lnTo>
                      <a:pt x="3096" y="832"/>
                    </a:lnTo>
                    <a:lnTo>
                      <a:pt x="3046" y="852"/>
                    </a:lnTo>
                    <a:lnTo>
                      <a:pt x="2991" y="871"/>
                    </a:lnTo>
                    <a:lnTo>
                      <a:pt x="2934" y="889"/>
                    </a:lnTo>
                    <a:lnTo>
                      <a:pt x="2875" y="907"/>
                    </a:lnTo>
                    <a:lnTo>
                      <a:pt x="2812" y="923"/>
                    </a:lnTo>
                    <a:lnTo>
                      <a:pt x="2748" y="940"/>
                    </a:lnTo>
                    <a:lnTo>
                      <a:pt x="2680" y="955"/>
                    </a:lnTo>
                    <a:lnTo>
                      <a:pt x="2610" y="968"/>
                    </a:lnTo>
                    <a:lnTo>
                      <a:pt x="2538" y="981"/>
                    </a:lnTo>
                    <a:lnTo>
                      <a:pt x="2464" y="993"/>
                    </a:lnTo>
                    <a:lnTo>
                      <a:pt x="2388" y="1003"/>
                    </a:lnTo>
                    <a:lnTo>
                      <a:pt x="2309" y="1013"/>
                    </a:lnTo>
                    <a:lnTo>
                      <a:pt x="2229" y="1021"/>
                    </a:lnTo>
                    <a:lnTo>
                      <a:pt x="2148" y="1028"/>
                    </a:lnTo>
                    <a:lnTo>
                      <a:pt x="2065" y="1035"/>
                    </a:lnTo>
                    <a:lnTo>
                      <a:pt x="1980" y="1039"/>
                    </a:lnTo>
                    <a:lnTo>
                      <a:pt x="1894" y="1043"/>
                    </a:lnTo>
                    <a:lnTo>
                      <a:pt x="1807" y="1045"/>
                    </a:lnTo>
                    <a:lnTo>
                      <a:pt x="1718" y="1046"/>
                    </a:lnTo>
                    <a:lnTo>
                      <a:pt x="1630" y="1045"/>
                    </a:lnTo>
                    <a:lnTo>
                      <a:pt x="1543" y="1043"/>
                    </a:lnTo>
                    <a:lnTo>
                      <a:pt x="1457" y="1039"/>
                    </a:lnTo>
                    <a:lnTo>
                      <a:pt x="1372" y="1035"/>
                    </a:lnTo>
                    <a:lnTo>
                      <a:pt x="1289" y="1028"/>
                    </a:lnTo>
                    <a:lnTo>
                      <a:pt x="1207" y="1021"/>
                    </a:lnTo>
                    <a:lnTo>
                      <a:pt x="1128" y="1013"/>
                    </a:lnTo>
                    <a:lnTo>
                      <a:pt x="1049" y="1003"/>
                    </a:lnTo>
                    <a:lnTo>
                      <a:pt x="973" y="993"/>
                    </a:lnTo>
                    <a:lnTo>
                      <a:pt x="899" y="981"/>
                    </a:lnTo>
                    <a:lnTo>
                      <a:pt x="827" y="968"/>
                    </a:lnTo>
                    <a:lnTo>
                      <a:pt x="757" y="955"/>
                    </a:lnTo>
                    <a:lnTo>
                      <a:pt x="690" y="940"/>
                    </a:lnTo>
                    <a:lnTo>
                      <a:pt x="625" y="923"/>
                    </a:lnTo>
                    <a:lnTo>
                      <a:pt x="562" y="907"/>
                    </a:lnTo>
                    <a:lnTo>
                      <a:pt x="502" y="889"/>
                    </a:lnTo>
                    <a:lnTo>
                      <a:pt x="446" y="871"/>
                    </a:lnTo>
                    <a:lnTo>
                      <a:pt x="391" y="852"/>
                    </a:lnTo>
                    <a:lnTo>
                      <a:pt x="341" y="832"/>
                    </a:lnTo>
                    <a:lnTo>
                      <a:pt x="292" y="811"/>
                    </a:lnTo>
                    <a:lnTo>
                      <a:pt x="248" y="789"/>
                    </a:lnTo>
                    <a:lnTo>
                      <a:pt x="207" y="767"/>
                    </a:lnTo>
                    <a:lnTo>
                      <a:pt x="169" y="744"/>
                    </a:lnTo>
                    <a:lnTo>
                      <a:pt x="135" y="721"/>
                    </a:lnTo>
                    <a:lnTo>
                      <a:pt x="104" y="696"/>
                    </a:lnTo>
                    <a:lnTo>
                      <a:pt x="76" y="672"/>
                    </a:lnTo>
                    <a:lnTo>
                      <a:pt x="53" y="647"/>
                    </a:lnTo>
                    <a:lnTo>
                      <a:pt x="34" y="621"/>
                    </a:lnTo>
                    <a:lnTo>
                      <a:pt x="19" y="594"/>
                    </a:lnTo>
                    <a:lnTo>
                      <a:pt x="9" y="568"/>
                    </a:lnTo>
                    <a:lnTo>
                      <a:pt x="2" y="541"/>
                    </a:lnTo>
                    <a:lnTo>
                      <a:pt x="0" y="514"/>
                    </a:lnTo>
                    <a:lnTo>
                      <a:pt x="2" y="486"/>
                    </a:lnTo>
                    <a:lnTo>
                      <a:pt x="9" y="460"/>
                    </a:lnTo>
                    <a:lnTo>
                      <a:pt x="19" y="434"/>
                    </a:lnTo>
                    <a:lnTo>
                      <a:pt x="34" y="408"/>
                    </a:lnTo>
                    <a:lnTo>
                      <a:pt x="53" y="382"/>
                    </a:lnTo>
                    <a:lnTo>
                      <a:pt x="76" y="357"/>
                    </a:lnTo>
                    <a:lnTo>
                      <a:pt x="104" y="333"/>
                    </a:lnTo>
                    <a:lnTo>
                      <a:pt x="135" y="310"/>
                    </a:lnTo>
                    <a:lnTo>
                      <a:pt x="169" y="287"/>
                    </a:lnTo>
                    <a:lnTo>
                      <a:pt x="207" y="264"/>
                    </a:lnTo>
                    <a:lnTo>
                      <a:pt x="248" y="243"/>
                    </a:lnTo>
                    <a:lnTo>
                      <a:pt x="292" y="223"/>
                    </a:lnTo>
                    <a:lnTo>
                      <a:pt x="341" y="203"/>
                    </a:lnTo>
                    <a:lnTo>
                      <a:pt x="391" y="184"/>
                    </a:lnTo>
                    <a:lnTo>
                      <a:pt x="446" y="164"/>
                    </a:lnTo>
                    <a:lnTo>
                      <a:pt x="502" y="147"/>
                    </a:lnTo>
                    <a:lnTo>
                      <a:pt x="562" y="130"/>
                    </a:lnTo>
                    <a:lnTo>
                      <a:pt x="625" y="115"/>
                    </a:lnTo>
                    <a:lnTo>
                      <a:pt x="690" y="100"/>
                    </a:lnTo>
                    <a:lnTo>
                      <a:pt x="757" y="86"/>
                    </a:lnTo>
                    <a:lnTo>
                      <a:pt x="827" y="73"/>
                    </a:lnTo>
                    <a:lnTo>
                      <a:pt x="899" y="60"/>
                    </a:lnTo>
                    <a:lnTo>
                      <a:pt x="973" y="49"/>
                    </a:lnTo>
                    <a:lnTo>
                      <a:pt x="1049" y="39"/>
                    </a:lnTo>
                    <a:lnTo>
                      <a:pt x="1128" y="30"/>
                    </a:lnTo>
                    <a:lnTo>
                      <a:pt x="1207" y="23"/>
                    </a:lnTo>
                    <a:lnTo>
                      <a:pt x="1289" y="16"/>
                    </a:lnTo>
                    <a:lnTo>
                      <a:pt x="1372" y="10"/>
                    </a:lnTo>
                    <a:lnTo>
                      <a:pt x="1457" y="6"/>
                    </a:lnTo>
                    <a:lnTo>
                      <a:pt x="1543" y="3"/>
                    </a:lnTo>
                    <a:lnTo>
                      <a:pt x="1630" y="1"/>
                    </a:lnTo>
                    <a:lnTo>
                      <a:pt x="1718" y="0"/>
                    </a:lnTo>
                    <a:lnTo>
                      <a:pt x="1807" y="1"/>
                    </a:lnTo>
                    <a:lnTo>
                      <a:pt x="1894" y="3"/>
                    </a:lnTo>
                    <a:lnTo>
                      <a:pt x="1980" y="6"/>
                    </a:lnTo>
                    <a:lnTo>
                      <a:pt x="2065" y="10"/>
                    </a:lnTo>
                    <a:lnTo>
                      <a:pt x="2148" y="16"/>
                    </a:lnTo>
                    <a:lnTo>
                      <a:pt x="2229" y="23"/>
                    </a:lnTo>
                    <a:lnTo>
                      <a:pt x="2309" y="30"/>
                    </a:lnTo>
                    <a:lnTo>
                      <a:pt x="2388" y="39"/>
                    </a:lnTo>
                    <a:lnTo>
                      <a:pt x="2464" y="49"/>
                    </a:lnTo>
                    <a:lnTo>
                      <a:pt x="2538" y="60"/>
                    </a:lnTo>
                    <a:lnTo>
                      <a:pt x="2610" y="73"/>
                    </a:lnTo>
                    <a:lnTo>
                      <a:pt x="2680" y="86"/>
                    </a:lnTo>
                    <a:lnTo>
                      <a:pt x="2748" y="100"/>
                    </a:lnTo>
                    <a:lnTo>
                      <a:pt x="2812" y="115"/>
                    </a:lnTo>
                    <a:lnTo>
                      <a:pt x="2875" y="130"/>
                    </a:lnTo>
                    <a:lnTo>
                      <a:pt x="2934" y="147"/>
                    </a:lnTo>
                    <a:lnTo>
                      <a:pt x="2991" y="164"/>
                    </a:lnTo>
                    <a:lnTo>
                      <a:pt x="3046" y="184"/>
                    </a:lnTo>
                    <a:lnTo>
                      <a:pt x="3096" y="203"/>
                    </a:lnTo>
                    <a:lnTo>
                      <a:pt x="3144" y="223"/>
                    </a:lnTo>
                    <a:lnTo>
                      <a:pt x="3189" y="243"/>
                    </a:lnTo>
                    <a:lnTo>
                      <a:pt x="3230" y="264"/>
                    </a:lnTo>
                    <a:lnTo>
                      <a:pt x="3268" y="287"/>
                    </a:lnTo>
                    <a:lnTo>
                      <a:pt x="3303" y="310"/>
                    </a:lnTo>
                    <a:lnTo>
                      <a:pt x="3333" y="333"/>
                    </a:lnTo>
                    <a:lnTo>
                      <a:pt x="3361" y="357"/>
                    </a:lnTo>
                    <a:lnTo>
                      <a:pt x="3384" y="382"/>
                    </a:lnTo>
                    <a:lnTo>
                      <a:pt x="3403" y="408"/>
                    </a:lnTo>
                    <a:lnTo>
                      <a:pt x="3418" y="434"/>
                    </a:lnTo>
                    <a:lnTo>
                      <a:pt x="3429" y="460"/>
                    </a:lnTo>
                    <a:lnTo>
                      <a:pt x="3435" y="486"/>
                    </a:lnTo>
                    <a:lnTo>
                      <a:pt x="3437" y="5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59120" y="6495840"/>
                <a:ext cx="378000" cy="124560"/>
              </a:xfrm>
              <a:custGeom>
                <a:avLst/>
                <a:gdLst/>
                <a:ahLst/>
                <a:rect l="l" t="t" r="r" b="b"/>
                <a:pathLst>
                  <a:path w="3435" h="1044">
                    <a:moveTo>
                      <a:pt x="3435" y="513"/>
                    </a:moveTo>
                    <a:lnTo>
                      <a:pt x="3433" y="540"/>
                    </a:lnTo>
                    <a:lnTo>
                      <a:pt x="3426" y="567"/>
                    </a:lnTo>
                    <a:lnTo>
                      <a:pt x="3415" y="593"/>
                    </a:lnTo>
                    <a:lnTo>
                      <a:pt x="3400" y="620"/>
                    </a:lnTo>
                    <a:lnTo>
                      <a:pt x="3381" y="646"/>
                    </a:lnTo>
                    <a:lnTo>
                      <a:pt x="3358" y="671"/>
                    </a:lnTo>
                    <a:lnTo>
                      <a:pt x="3331" y="695"/>
                    </a:lnTo>
                    <a:lnTo>
                      <a:pt x="3300" y="720"/>
                    </a:lnTo>
                    <a:lnTo>
                      <a:pt x="3266" y="743"/>
                    </a:lnTo>
                    <a:lnTo>
                      <a:pt x="3228" y="766"/>
                    </a:lnTo>
                    <a:lnTo>
                      <a:pt x="3187" y="788"/>
                    </a:lnTo>
                    <a:lnTo>
                      <a:pt x="3141" y="809"/>
                    </a:lnTo>
                    <a:lnTo>
                      <a:pt x="3094" y="831"/>
                    </a:lnTo>
                    <a:lnTo>
                      <a:pt x="3044" y="850"/>
                    </a:lnTo>
                    <a:lnTo>
                      <a:pt x="2989" y="870"/>
                    </a:lnTo>
                    <a:lnTo>
                      <a:pt x="2932" y="888"/>
                    </a:lnTo>
                    <a:lnTo>
                      <a:pt x="2873" y="905"/>
                    </a:lnTo>
                    <a:lnTo>
                      <a:pt x="2810" y="922"/>
                    </a:lnTo>
                    <a:lnTo>
                      <a:pt x="2746" y="938"/>
                    </a:lnTo>
                    <a:lnTo>
                      <a:pt x="2678" y="953"/>
                    </a:lnTo>
                    <a:lnTo>
                      <a:pt x="2608" y="967"/>
                    </a:lnTo>
                    <a:lnTo>
                      <a:pt x="2537" y="979"/>
                    </a:lnTo>
                    <a:lnTo>
                      <a:pt x="2462" y="991"/>
                    </a:lnTo>
                    <a:lnTo>
                      <a:pt x="2386" y="1001"/>
                    </a:lnTo>
                    <a:lnTo>
                      <a:pt x="2308" y="1011"/>
                    </a:lnTo>
                    <a:lnTo>
                      <a:pt x="2228" y="1019"/>
                    </a:lnTo>
                    <a:lnTo>
                      <a:pt x="2147" y="1026"/>
                    </a:lnTo>
                    <a:lnTo>
                      <a:pt x="2064" y="1033"/>
                    </a:lnTo>
                    <a:lnTo>
                      <a:pt x="1979" y="1038"/>
                    </a:lnTo>
                    <a:lnTo>
                      <a:pt x="1893" y="1041"/>
                    </a:lnTo>
                    <a:lnTo>
                      <a:pt x="1806" y="1043"/>
                    </a:lnTo>
                    <a:lnTo>
                      <a:pt x="1717" y="1044"/>
                    </a:lnTo>
                    <a:lnTo>
                      <a:pt x="1630" y="1043"/>
                    </a:lnTo>
                    <a:lnTo>
                      <a:pt x="1542" y="1041"/>
                    </a:lnTo>
                    <a:lnTo>
                      <a:pt x="1456" y="1038"/>
                    </a:lnTo>
                    <a:lnTo>
                      <a:pt x="1371" y="1033"/>
                    </a:lnTo>
                    <a:lnTo>
                      <a:pt x="1288" y="1026"/>
                    </a:lnTo>
                    <a:lnTo>
                      <a:pt x="1206" y="1019"/>
                    </a:lnTo>
                    <a:lnTo>
                      <a:pt x="1127" y="1011"/>
                    </a:lnTo>
                    <a:lnTo>
                      <a:pt x="1049" y="1001"/>
                    </a:lnTo>
                    <a:lnTo>
                      <a:pt x="973" y="991"/>
                    </a:lnTo>
                    <a:lnTo>
                      <a:pt x="898" y="979"/>
                    </a:lnTo>
                    <a:lnTo>
                      <a:pt x="827" y="967"/>
                    </a:lnTo>
                    <a:lnTo>
                      <a:pt x="757" y="953"/>
                    </a:lnTo>
                    <a:lnTo>
                      <a:pt x="689" y="938"/>
                    </a:lnTo>
                    <a:lnTo>
                      <a:pt x="625" y="922"/>
                    </a:lnTo>
                    <a:lnTo>
                      <a:pt x="562" y="905"/>
                    </a:lnTo>
                    <a:lnTo>
                      <a:pt x="503" y="888"/>
                    </a:lnTo>
                    <a:lnTo>
                      <a:pt x="446" y="870"/>
                    </a:lnTo>
                    <a:lnTo>
                      <a:pt x="392" y="850"/>
                    </a:lnTo>
                    <a:lnTo>
                      <a:pt x="341" y="831"/>
                    </a:lnTo>
                    <a:lnTo>
                      <a:pt x="293" y="809"/>
                    </a:lnTo>
                    <a:lnTo>
                      <a:pt x="248" y="788"/>
                    </a:lnTo>
                    <a:lnTo>
                      <a:pt x="207" y="766"/>
                    </a:lnTo>
                    <a:lnTo>
                      <a:pt x="169" y="743"/>
                    </a:lnTo>
                    <a:lnTo>
                      <a:pt x="135" y="720"/>
                    </a:lnTo>
                    <a:lnTo>
                      <a:pt x="104" y="695"/>
                    </a:lnTo>
                    <a:lnTo>
                      <a:pt x="77" y="671"/>
                    </a:lnTo>
                    <a:lnTo>
                      <a:pt x="54" y="646"/>
                    </a:lnTo>
                    <a:lnTo>
                      <a:pt x="35" y="620"/>
                    </a:lnTo>
                    <a:lnTo>
                      <a:pt x="20" y="593"/>
                    </a:lnTo>
                    <a:lnTo>
                      <a:pt x="9" y="567"/>
                    </a:lnTo>
                    <a:lnTo>
                      <a:pt x="2" y="540"/>
                    </a:lnTo>
                    <a:lnTo>
                      <a:pt x="0" y="513"/>
                    </a:lnTo>
                    <a:lnTo>
                      <a:pt x="2" y="485"/>
                    </a:lnTo>
                    <a:lnTo>
                      <a:pt x="9" y="459"/>
                    </a:lnTo>
                    <a:lnTo>
                      <a:pt x="20" y="433"/>
                    </a:lnTo>
                    <a:lnTo>
                      <a:pt x="35" y="407"/>
                    </a:lnTo>
                    <a:lnTo>
                      <a:pt x="54" y="381"/>
                    </a:lnTo>
                    <a:lnTo>
                      <a:pt x="77" y="357"/>
                    </a:lnTo>
                    <a:lnTo>
                      <a:pt x="104" y="333"/>
                    </a:lnTo>
                    <a:lnTo>
                      <a:pt x="135" y="310"/>
                    </a:lnTo>
                    <a:lnTo>
                      <a:pt x="169" y="287"/>
                    </a:lnTo>
                    <a:lnTo>
                      <a:pt x="207" y="264"/>
                    </a:lnTo>
                    <a:lnTo>
                      <a:pt x="248" y="243"/>
                    </a:lnTo>
                    <a:lnTo>
                      <a:pt x="293" y="222"/>
                    </a:lnTo>
                    <a:lnTo>
                      <a:pt x="341" y="202"/>
                    </a:lnTo>
                    <a:lnTo>
                      <a:pt x="392" y="183"/>
                    </a:lnTo>
                    <a:lnTo>
                      <a:pt x="446" y="164"/>
                    </a:lnTo>
                    <a:lnTo>
                      <a:pt x="503" y="147"/>
                    </a:lnTo>
                    <a:lnTo>
                      <a:pt x="562" y="130"/>
                    </a:lnTo>
                    <a:lnTo>
                      <a:pt x="625" y="114"/>
                    </a:lnTo>
                    <a:lnTo>
                      <a:pt x="689" y="99"/>
                    </a:lnTo>
                    <a:lnTo>
                      <a:pt x="757" y="86"/>
                    </a:lnTo>
                    <a:lnTo>
                      <a:pt x="827" y="73"/>
                    </a:lnTo>
                    <a:lnTo>
                      <a:pt x="898" y="60"/>
                    </a:lnTo>
                    <a:lnTo>
                      <a:pt x="973" y="49"/>
                    </a:lnTo>
                    <a:lnTo>
                      <a:pt x="1049" y="39"/>
                    </a:lnTo>
                    <a:lnTo>
                      <a:pt x="1127" y="30"/>
                    </a:lnTo>
                    <a:lnTo>
                      <a:pt x="1206" y="22"/>
                    </a:lnTo>
                    <a:lnTo>
                      <a:pt x="1288" y="16"/>
                    </a:lnTo>
                    <a:lnTo>
                      <a:pt x="1371" y="10"/>
                    </a:lnTo>
                    <a:lnTo>
                      <a:pt x="1456" y="6"/>
                    </a:lnTo>
                    <a:lnTo>
                      <a:pt x="1542" y="3"/>
                    </a:lnTo>
                    <a:lnTo>
                      <a:pt x="1630" y="1"/>
                    </a:lnTo>
                    <a:lnTo>
                      <a:pt x="1717" y="0"/>
                    </a:lnTo>
                    <a:lnTo>
                      <a:pt x="1806" y="1"/>
                    </a:lnTo>
                    <a:lnTo>
                      <a:pt x="1893" y="3"/>
                    </a:lnTo>
                    <a:lnTo>
                      <a:pt x="1979" y="6"/>
                    </a:lnTo>
                    <a:lnTo>
                      <a:pt x="2064" y="10"/>
                    </a:lnTo>
                    <a:lnTo>
                      <a:pt x="2147" y="16"/>
                    </a:lnTo>
                    <a:lnTo>
                      <a:pt x="2228" y="22"/>
                    </a:lnTo>
                    <a:lnTo>
                      <a:pt x="2308" y="30"/>
                    </a:lnTo>
                    <a:lnTo>
                      <a:pt x="2386" y="39"/>
                    </a:lnTo>
                    <a:lnTo>
                      <a:pt x="2462" y="49"/>
                    </a:lnTo>
                    <a:lnTo>
                      <a:pt x="2537" y="60"/>
                    </a:lnTo>
                    <a:lnTo>
                      <a:pt x="2608" y="73"/>
                    </a:lnTo>
                    <a:lnTo>
                      <a:pt x="2678" y="86"/>
                    </a:lnTo>
                    <a:lnTo>
                      <a:pt x="2746" y="99"/>
                    </a:lnTo>
                    <a:lnTo>
                      <a:pt x="2810" y="114"/>
                    </a:lnTo>
                    <a:lnTo>
                      <a:pt x="2873" y="130"/>
                    </a:lnTo>
                    <a:lnTo>
                      <a:pt x="2932" y="147"/>
                    </a:lnTo>
                    <a:lnTo>
                      <a:pt x="2989" y="164"/>
                    </a:lnTo>
                    <a:lnTo>
                      <a:pt x="3044" y="183"/>
                    </a:lnTo>
                    <a:lnTo>
                      <a:pt x="3094" y="202"/>
                    </a:lnTo>
                    <a:lnTo>
                      <a:pt x="3141" y="222"/>
                    </a:lnTo>
                    <a:lnTo>
                      <a:pt x="3187" y="243"/>
                    </a:lnTo>
                    <a:lnTo>
                      <a:pt x="3228" y="264"/>
                    </a:lnTo>
                    <a:lnTo>
                      <a:pt x="3266" y="287"/>
                    </a:lnTo>
                    <a:lnTo>
                      <a:pt x="3300" y="310"/>
                    </a:lnTo>
                    <a:lnTo>
                      <a:pt x="3331" y="333"/>
                    </a:lnTo>
                    <a:lnTo>
                      <a:pt x="3358" y="357"/>
                    </a:lnTo>
                    <a:lnTo>
                      <a:pt x="3381" y="381"/>
                    </a:lnTo>
                    <a:lnTo>
                      <a:pt x="3400" y="407"/>
                    </a:lnTo>
                    <a:lnTo>
                      <a:pt x="3415" y="433"/>
                    </a:lnTo>
                    <a:lnTo>
                      <a:pt x="3426" y="459"/>
                    </a:lnTo>
                    <a:lnTo>
                      <a:pt x="3433" y="485"/>
                    </a:lnTo>
                    <a:lnTo>
                      <a:pt x="3435" y="5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59120" y="6495840"/>
                <a:ext cx="378000" cy="124560"/>
              </a:xfrm>
              <a:custGeom>
                <a:avLst/>
                <a:gdLst/>
                <a:ahLst/>
                <a:rect l="l" t="t" r="r" b="b"/>
                <a:pathLst>
                  <a:path w="3432" h="1042">
                    <a:moveTo>
                      <a:pt x="3432" y="512"/>
                    </a:moveTo>
                    <a:lnTo>
                      <a:pt x="3429" y="539"/>
                    </a:lnTo>
                    <a:lnTo>
                      <a:pt x="3423" y="566"/>
                    </a:lnTo>
                    <a:lnTo>
                      <a:pt x="3412" y="592"/>
                    </a:lnTo>
                    <a:lnTo>
                      <a:pt x="3397" y="619"/>
                    </a:lnTo>
                    <a:lnTo>
                      <a:pt x="3378" y="644"/>
                    </a:lnTo>
                    <a:lnTo>
                      <a:pt x="3355" y="669"/>
                    </a:lnTo>
                    <a:lnTo>
                      <a:pt x="3327" y="694"/>
                    </a:lnTo>
                    <a:lnTo>
                      <a:pt x="3297" y="718"/>
                    </a:lnTo>
                    <a:lnTo>
                      <a:pt x="3263" y="742"/>
                    </a:lnTo>
                    <a:lnTo>
                      <a:pt x="3224" y="764"/>
                    </a:lnTo>
                    <a:lnTo>
                      <a:pt x="3183" y="786"/>
                    </a:lnTo>
                    <a:lnTo>
                      <a:pt x="3138" y="807"/>
                    </a:lnTo>
                    <a:lnTo>
                      <a:pt x="3091" y="829"/>
                    </a:lnTo>
                    <a:lnTo>
                      <a:pt x="3039" y="849"/>
                    </a:lnTo>
                    <a:lnTo>
                      <a:pt x="2986" y="868"/>
                    </a:lnTo>
                    <a:lnTo>
                      <a:pt x="2929" y="886"/>
                    </a:lnTo>
                    <a:lnTo>
                      <a:pt x="2870" y="903"/>
                    </a:lnTo>
                    <a:lnTo>
                      <a:pt x="2807" y="920"/>
                    </a:lnTo>
                    <a:lnTo>
                      <a:pt x="2743" y="937"/>
                    </a:lnTo>
                    <a:lnTo>
                      <a:pt x="2675" y="951"/>
                    </a:lnTo>
                    <a:lnTo>
                      <a:pt x="2605" y="965"/>
                    </a:lnTo>
                    <a:lnTo>
                      <a:pt x="2534" y="977"/>
                    </a:lnTo>
                    <a:lnTo>
                      <a:pt x="2460" y="989"/>
                    </a:lnTo>
                    <a:lnTo>
                      <a:pt x="2384" y="999"/>
                    </a:lnTo>
                    <a:lnTo>
                      <a:pt x="2305" y="1009"/>
                    </a:lnTo>
                    <a:lnTo>
                      <a:pt x="2225" y="1017"/>
                    </a:lnTo>
                    <a:lnTo>
                      <a:pt x="2145" y="1024"/>
                    </a:lnTo>
                    <a:lnTo>
                      <a:pt x="2062" y="1030"/>
                    </a:lnTo>
                    <a:lnTo>
                      <a:pt x="1977" y="1036"/>
                    </a:lnTo>
                    <a:lnTo>
                      <a:pt x="1891" y="1039"/>
                    </a:lnTo>
                    <a:lnTo>
                      <a:pt x="1803" y="1041"/>
                    </a:lnTo>
                    <a:lnTo>
                      <a:pt x="1715" y="1042"/>
                    </a:lnTo>
                    <a:lnTo>
                      <a:pt x="1628" y="1041"/>
                    </a:lnTo>
                    <a:lnTo>
                      <a:pt x="1540" y="1039"/>
                    </a:lnTo>
                    <a:lnTo>
                      <a:pt x="1454" y="1036"/>
                    </a:lnTo>
                    <a:lnTo>
                      <a:pt x="1370" y="1030"/>
                    </a:lnTo>
                    <a:lnTo>
                      <a:pt x="1286" y="1024"/>
                    </a:lnTo>
                    <a:lnTo>
                      <a:pt x="1205" y="1017"/>
                    </a:lnTo>
                    <a:lnTo>
                      <a:pt x="1126" y="1009"/>
                    </a:lnTo>
                    <a:lnTo>
                      <a:pt x="1048" y="999"/>
                    </a:lnTo>
                    <a:lnTo>
                      <a:pt x="971" y="989"/>
                    </a:lnTo>
                    <a:lnTo>
                      <a:pt x="897" y="977"/>
                    </a:lnTo>
                    <a:lnTo>
                      <a:pt x="826" y="965"/>
                    </a:lnTo>
                    <a:lnTo>
                      <a:pt x="756" y="951"/>
                    </a:lnTo>
                    <a:lnTo>
                      <a:pt x="688" y="937"/>
                    </a:lnTo>
                    <a:lnTo>
                      <a:pt x="624" y="920"/>
                    </a:lnTo>
                    <a:lnTo>
                      <a:pt x="561" y="903"/>
                    </a:lnTo>
                    <a:lnTo>
                      <a:pt x="502" y="886"/>
                    </a:lnTo>
                    <a:lnTo>
                      <a:pt x="445" y="868"/>
                    </a:lnTo>
                    <a:lnTo>
                      <a:pt x="391" y="849"/>
                    </a:lnTo>
                    <a:lnTo>
                      <a:pt x="340" y="829"/>
                    </a:lnTo>
                    <a:lnTo>
                      <a:pt x="292" y="807"/>
                    </a:lnTo>
                    <a:lnTo>
                      <a:pt x="248" y="786"/>
                    </a:lnTo>
                    <a:lnTo>
                      <a:pt x="207" y="764"/>
                    </a:lnTo>
                    <a:lnTo>
                      <a:pt x="168" y="742"/>
                    </a:lnTo>
                    <a:lnTo>
                      <a:pt x="134" y="718"/>
                    </a:lnTo>
                    <a:lnTo>
                      <a:pt x="104" y="694"/>
                    </a:lnTo>
                    <a:lnTo>
                      <a:pt x="76" y="669"/>
                    </a:lnTo>
                    <a:lnTo>
                      <a:pt x="53" y="644"/>
                    </a:lnTo>
                    <a:lnTo>
                      <a:pt x="34" y="619"/>
                    </a:lnTo>
                    <a:lnTo>
                      <a:pt x="19" y="592"/>
                    </a:lnTo>
                    <a:lnTo>
                      <a:pt x="8" y="566"/>
                    </a:lnTo>
                    <a:lnTo>
                      <a:pt x="2" y="539"/>
                    </a:lnTo>
                    <a:lnTo>
                      <a:pt x="0" y="512"/>
                    </a:lnTo>
                    <a:lnTo>
                      <a:pt x="2" y="484"/>
                    </a:lnTo>
                    <a:lnTo>
                      <a:pt x="8" y="458"/>
                    </a:lnTo>
                    <a:lnTo>
                      <a:pt x="19" y="432"/>
                    </a:lnTo>
                    <a:lnTo>
                      <a:pt x="34" y="406"/>
                    </a:lnTo>
                    <a:lnTo>
                      <a:pt x="53" y="380"/>
                    </a:lnTo>
                    <a:lnTo>
                      <a:pt x="76" y="356"/>
                    </a:lnTo>
                    <a:lnTo>
                      <a:pt x="104" y="332"/>
                    </a:lnTo>
                    <a:lnTo>
                      <a:pt x="134" y="309"/>
                    </a:lnTo>
                    <a:lnTo>
                      <a:pt x="168" y="286"/>
                    </a:lnTo>
                    <a:lnTo>
                      <a:pt x="207" y="263"/>
                    </a:lnTo>
                    <a:lnTo>
                      <a:pt x="248" y="242"/>
                    </a:lnTo>
                    <a:lnTo>
                      <a:pt x="292" y="222"/>
                    </a:lnTo>
                    <a:lnTo>
                      <a:pt x="340" y="202"/>
                    </a:lnTo>
                    <a:lnTo>
                      <a:pt x="391" y="183"/>
                    </a:lnTo>
                    <a:lnTo>
                      <a:pt x="445" y="164"/>
                    </a:lnTo>
                    <a:lnTo>
                      <a:pt x="502" y="146"/>
                    </a:lnTo>
                    <a:lnTo>
                      <a:pt x="561" y="130"/>
                    </a:lnTo>
                    <a:lnTo>
                      <a:pt x="624" y="114"/>
                    </a:lnTo>
                    <a:lnTo>
                      <a:pt x="688" y="99"/>
                    </a:lnTo>
                    <a:lnTo>
                      <a:pt x="756" y="85"/>
                    </a:lnTo>
                    <a:lnTo>
                      <a:pt x="826" y="72"/>
                    </a:lnTo>
                    <a:lnTo>
                      <a:pt x="897" y="60"/>
                    </a:lnTo>
                    <a:lnTo>
                      <a:pt x="971" y="49"/>
                    </a:lnTo>
                    <a:lnTo>
                      <a:pt x="1048" y="39"/>
                    </a:lnTo>
                    <a:lnTo>
                      <a:pt x="1126" y="30"/>
                    </a:lnTo>
                    <a:lnTo>
                      <a:pt x="1205" y="22"/>
                    </a:lnTo>
                    <a:lnTo>
                      <a:pt x="1286" y="16"/>
                    </a:lnTo>
                    <a:lnTo>
                      <a:pt x="1370" y="10"/>
                    </a:lnTo>
                    <a:lnTo>
                      <a:pt x="1454" y="6"/>
                    </a:lnTo>
                    <a:lnTo>
                      <a:pt x="1540" y="3"/>
                    </a:lnTo>
                    <a:lnTo>
                      <a:pt x="1628" y="1"/>
                    </a:lnTo>
                    <a:lnTo>
                      <a:pt x="1715" y="0"/>
                    </a:lnTo>
                    <a:lnTo>
                      <a:pt x="1803" y="1"/>
                    </a:lnTo>
                    <a:lnTo>
                      <a:pt x="1891" y="3"/>
                    </a:lnTo>
                    <a:lnTo>
                      <a:pt x="1977" y="6"/>
                    </a:lnTo>
                    <a:lnTo>
                      <a:pt x="2062" y="10"/>
                    </a:lnTo>
                    <a:lnTo>
                      <a:pt x="2145" y="16"/>
                    </a:lnTo>
                    <a:lnTo>
                      <a:pt x="2225" y="22"/>
                    </a:lnTo>
                    <a:lnTo>
                      <a:pt x="2305" y="30"/>
                    </a:lnTo>
                    <a:lnTo>
                      <a:pt x="2384" y="39"/>
                    </a:lnTo>
                    <a:lnTo>
                      <a:pt x="2460" y="49"/>
                    </a:lnTo>
                    <a:lnTo>
                      <a:pt x="2534" y="60"/>
                    </a:lnTo>
                    <a:lnTo>
                      <a:pt x="2605" y="72"/>
                    </a:lnTo>
                    <a:lnTo>
                      <a:pt x="2675" y="85"/>
                    </a:lnTo>
                    <a:lnTo>
                      <a:pt x="2743" y="99"/>
                    </a:lnTo>
                    <a:lnTo>
                      <a:pt x="2807" y="114"/>
                    </a:lnTo>
                    <a:lnTo>
                      <a:pt x="2870" y="130"/>
                    </a:lnTo>
                    <a:lnTo>
                      <a:pt x="2929" y="146"/>
                    </a:lnTo>
                    <a:lnTo>
                      <a:pt x="2986" y="164"/>
                    </a:lnTo>
                    <a:lnTo>
                      <a:pt x="3039" y="183"/>
                    </a:lnTo>
                    <a:lnTo>
                      <a:pt x="3091" y="202"/>
                    </a:lnTo>
                    <a:lnTo>
                      <a:pt x="3138" y="222"/>
                    </a:lnTo>
                    <a:lnTo>
                      <a:pt x="3183" y="242"/>
                    </a:lnTo>
                    <a:lnTo>
                      <a:pt x="3224" y="263"/>
                    </a:lnTo>
                    <a:lnTo>
                      <a:pt x="3263" y="286"/>
                    </a:lnTo>
                    <a:lnTo>
                      <a:pt x="3297" y="309"/>
                    </a:lnTo>
                    <a:lnTo>
                      <a:pt x="3327" y="332"/>
                    </a:lnTo>
                    <a:lnTo>
                      <a:pt x="3355" y="356"/>
                    </a:lnTo>
                    <a:lnTo>
                      <a:pt x="3378" y="380"/>
                    </a:lnTo>
                    <a:lnTo>
                      <a:pt x="3397" y="406"/>
                    </a:lnTo>
                    <a:lnTo>
                      <a:pt x="3412" y="432"/>
                    </a:lnTo>
                    <a:lnTo>
                      <a:pt x="3423" y="458"/>
                    </a:lnTo>
                    <a:lnTo>
                      <a:pt x="3429" y="484"/>
                    </a:lnTo>
                    <a:lnTo>
                      <a:pt x="3432" y="5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59120" y="6497280"/>
                <a:ext cx="378000" cy="123120"/>
              </a:xfrm>
              <a:custGeom>
                <a:avLst/>
                <a:gdLst/>
                <a:ahLst/>
                <a:rect l="l" t="t" r="r" b="b"/>
                <a:pathLst>
                  <a:path w="3429" h="1040">
                    <a:moveTo>
                      <a:pt x="3429" y="511"/>
                    </a:moveTo>
                    <a:lnTo>
                      <a:pt x="3427" y="538"/>
                    </a:lnTo>
                    <a:lnTo>
                      <a:pt x="3420" y="565"/>
                    </a:lnTo>
                    <a:lnTo>
                      <a:pt x="3409" y="591"/>
                    </a:lnTo>
                    <a:lnTo>
                      <a:pt x="3395" y="618"/>
                    </a:lnTo>
                    <a:lnTo>
                      <a:pt x="3376" y="643"/>
                    </a:lnTo>
                    <a:lnTo>
                      <a:pt x="3353" y="668"/>
                    </a:lnTo>
                    <a:lnTo>
                      <a:pt x="3325" y="692"/>
                    </a:lnTo>
                    <a:lnTo>
                      <a:pt x="3295" y="717"/>
                    </a:lnTo>
                    <a:lnTo>
                      <a:pt x="3261" y="740"/>
                    </a:lnTo>
                    <a:lnTo>
                      <a:pt x="3222" y="763"/>
                    </a:lnTo>
                    <a:lnTo>
                      <a:pt x="3181" y="785"/>
                    </a:lnTo>
                    <a:lnTo>
                      <a:pt x="3136" y="806"/>
                    </a:lnTo>
                    <a:lnTo>
                      <a:pt x="3089" y="828"/>
                    </a:lnTo>
                    <a:lnTo>
                      <a:pt x="3037" y="847"/>
                    </a:lnTo>
                    <a:lnTo>
                      <a:pt x="2984" y="866"/>
                    </a:lnTo>
                    <a:lnTo>
                      <a:pt x="2927" y="884"/>
                    </a:lnTo>
                    <a:lnTo>
                      <a:pt x="2868" y="902"/>
                    </a:lnTo>
                    <a:lnTo>
                      <a:pt x="2805" y="918"/>
                    </a:lnTo>
                    <a:lnTo>
                      <a:pt x="2741" y="935"/>
                    </a:lnTo>
                    <a:lnTo>
                      <a:pt x="2673" y="949"/>
                    </a:lnTo>
                    <a:lnTo>
                      <a:pt x="2604" y="963"/>
                    </a:lnTo>
                    <a:lnTo>
                      <a:pt x="2531" y="976"/>
                    </a:lnTo>
                    <a:lnTo>
                      <a:pt x="2458" y="987"/>
                    </a:lnTo>
                    <a:lnTo>
                      <a:pt x="2382" y="998"/>
                    </a:lnTo>
                    <a:lnTo>
                      <a:pt x="2304" y="1007"/>
                    </a:lnTo>
                    <a:lnTo>
                      <a:pt x="2224" y="1015"/>
                    </a:lnTo>
                    <a:lnTo>
                      <a:pt x="2143" y="1022"/>
                    </a:lnTo>
                    <a:lnTo>
                      <a:pt x="2060" y="1028"/>
                    </a:lnTo>
                    <a:lnTo>
                      <a:pt x="1976" y="1034"/>
                    </a:lnTo>
                    <a:lnTo>
                      <a:pt x="1890" y="1037"/>
                    </a:lnTo>
                    <a:lnTo>
                      <a:pt x="1802" y="1039"/>
                    </a:lnTo>
                    <a:lnTo>
                      <a:pt x="1714" y="1040"/>
                    </a:lnTo>
                    <a:lnTo>
                      <a:pt x="1627" y="1039"/>
                    </a:lnTo>
                    <a:lnTo>
                      <a:pt x="1539" y="1037"/>
                    </a:lnTo>
                    <a:lnTo>
                      <a:pt x="1453" y="1034"/>
                    </a:lnTo>
                    <a:lnTo>
                      <a:pt x="1369" y="1028"/>
                    </a:lnTo>
                    <a:lnTo>
                      <a:pt x="1286" y="1022"/>
                    </a:lnTo>
                    <a:lnTo>
                      <a:pt x="1204" y="1015"/>
                    </a:lnTo>
                    <a:lnTo>
                      <a:pt x="1125" y="1007"/>
                    </a:lnTo>
                    <a:lnTo>
                      <a:pt x="1047" y="998"/>
                    </a:lnTo>
                    <a:lnTo>
                      <a:pt x="971" y="987"/>
                    </a:lnTo>
                    <a:lnTo>
                      <a:pt x="897" y="976"/>
                    </a:lnTo>
                    <a:lnTo>
                      <a:pt x="826" y="963"/>
                    </a:lnTo>
                    <a:lnTo>
                      <a:pt x="756" y="949"/>
                    </a:lnTo>
                    <a:lnTo>
                      <a:pt x="688" y="935"/>
                    </a:lnTo>
                    <a:lnTo>
                      <a:pt x="624" y="918"/>
                    </a:lnTo>
                    <a:lnTo>
                      <a:pt x="561" y="902"/>
                    </a:lnTo>
                    <a:lnTo>
                      <a:pt x="502" y="884"/>
                    </a:lnTo>
                    <a:lnTo>
                      <a:pt x="445" y="866"/>
                    </a:lnTo>
                    <a:lnTo>
                      <a:pt x="391" y="847"/>
                    </a:lnTo>
                    <a:lnTo>
                      <a:pt x="340" y="828"/>
                    </a:lnTo>
                    <a:lnTo>
                      <a:pt x="292" y="806"/>
                    </a:lnTo>
                    <a:lnTo>
                      <a:pt x="248" y="785"/>
                    </a:lnTo>
                    <a:lnTo>
                      <a:pt x="207" y="763"/>
                    </a:lnTo>
                    <a:lnTo>
                      <a:pt x="168" y="740"/>
                    </a:lnTo>
                    <a:lnTo>
                      <a:pt x="134" y="717"/>
                    </a:lnTo>
                    <a:lnTo>
                      <a:pt x="104" y="692"/>
                    </a:lnTo>
                    <a:lnTo>
                      <a:pt x="76" y="668"/>
                    </a:lnTo>
                    <a:lnTo>
                      <a:pt x="53" y="643"/>
                    </a:lnTo>
                    <a:lnTo>
                      <a:pt x="35" y="618"/>
                    </a:lnTo>
                    <a:lnTo>
                      <a:pt x="20" y="591"/>
                    </a:lnTo>
                    <a:lnTo>
                      <a:pt x="9" y="565"/>
                    </a:lnTo>
                    <a:lnTo>
                      <a:pt x="2" y="538"/>
                    </a:lnTo>
                    <a:lnTo>
                      <a:pt x="0" y="511"/>
                    </a:lnTo>
                    <a:lnTo>
                      <a:pt x="2" y="483"/>
                    </a:lnTo>
                    <a:lnTo>
                      <a:pt x="9" y="457"/>
                    </a:lnTo>
                    <a:lnTo>
                      <a:pt x="20" y="431"/>
                    </a:lnTo>
                    <a:lnTo>
                      <a:pt x="35" y="406"/>
                    </a:lnTo>
                    <a:lnTo>
                      <a:pt x="53" y="380"/>
                    </a:lnTo>
                    <a:lnTo>
                      <a:pt x="76" y="355"/>
                    </a:lnTo>
                    <a:lnTo>
                      <a:pt x="104" y="331"/>
                    </a:lnTo>
                    <a:lnTo>
                      <a:pt x="134" y="308"/>
                    </a:lnTo>
                    <a:lnTo>
                      <a:pt x="168" y="286"/>
                    </a:lnTo>
                    <a:lnTo>
                      <a:pt x="207" y="263"/>
                    </a:lnTo>
                    <a:lnTo>
                      <a:pt x="248" y="242"/>
                    </a:lnTo>
                    <a:lnTo>
                      <a:pt x="292" y="221"/>
                    </a:lnTo>
                    <a:lnTo>
                      <a:pt x="340" y="201"/>
                    </a:lnTo>
                    <a:lnTo>
                      <a:pt x="391" y="182"/>
                    </a:lnTo>
                    <a:lnTo>
                      <a:pt x="445" y="163"/>
                    </a:lnTo>
                    <a:lnTo>
                      <a:pt x="502" y="146"/>
                    </a:lnTo>
                    <a:lnTo>
                      <a:pt x="561" y="129"/>
                    </a:lnTo>
                    <a:lnTo>
                      <a:pt x="624" y="114"/>
                    </a:lnTo>
                    <a:lnTo>
                      <a:pt x="688" y="99"/>
                    </a:lnTo>
                    <a:lnTo>
                      <a:pt x="756" y="85"/>
                    </a:lnTo>
                    <a:lnTo>
                      <a:pt x="826" y="72"/>
                    </a:lnTo>
                    <a:lnTo>
                      <a:pt x="897" y="59"/>
                    </a:lnTo>
                    <a:lnTo>
                      <a:pt x="971" y="49"/>
                    </a:lnTo>
                    <a:lnTo>
                      <a:pt x="1047" y="39"/>
                    </a:lnTo>
                    <a:lnTo>
                      <a:pt x="1125" y="30"/>
                    </a:lnTo>
                    <a:lnTo>
                      <a:pt x="1204" y="22"/>
                    </a:lnTo>
                    <a:lnTo>
                      <a:pt x="1286" y="16"/>
                    </a:lnTo>
                    <a:lnTo>
                      <a:pt x="1369" y="10"/>
                    </a:lnTo>
                    <a:lnTo>
                      <a:pt x="1453" y="6"/>
                    </a:lnTo>
                    <a:lnTo>
                      <a:pt x="1539" y="3"/>
                    </a:lnTo>
                    <a:lnTo>
                      <a:pt x="1627" y="1"/>
                    </a:lnTo>
                    <a:lnTo>
                      <a:pt x="1714" y="0"/>
                    </a:lnTo>
                    <a:lnTo>
                      <a:pt x="1802" y="1"/>
                    </a:lnTo>
                    <a:lnTo>
                      <a:pt x="1890" y="3"/>
                    </a:lnTo>
                    <a:lnTo>
                      <a:pt x="1976" y="6"/>
                    </a:lnTo>
                    <a:lnTo>
                      <a:pt x="2060" y="10"/>
                    </a:lnTo>
                    <a:lnTo>
                      <a:pt x="2143" y="16"/>
                    </a:lnTo>
                    <a:lnTo>
                      <a:pt x="2224" y="22"/>
                    </a:lnTo>
                    <a:lnTo>
                      <a:pt x="2304" y="30"/>
                    </a:lnTo>
                    <a:lnTo>
                      <a:pt x="2382" y="39"/>
                    </a:lnTo>
                    <a:lnTo>
                      <a:pt x="2458" y="49"/>
                    </a:lnTo>
                    <a:lnTo>
                      <a:pt x="2531" y="59"/>
                    </a:lnTo>
                    <a:lnTo>
                      <a:pt x="2604" y="72"/>
                    </a:lnTo>
                    <a:lnTo>
                      <a:pt x="2673" y="85"/>
                    </a:lnTo>
                    <a:lnTo>
                      <a:pt x="2741" y="99"/>
                    </a:lnTo>
                    <a:lnTo>
                      <a:pt x="2805" y="114"/>
                    </a:lnTo>
                    <a:lnTo>
                      <a:pt x="2868" y="129"/>
                    </a:lnTo>
                    <a:lnTo>
                      <a:pt x="2927" y="146"/>
                    </a:lnTo>
                    <a:lnTo>
                      <a:pt x="2984" y="163"/>
                    </a:lnTo>
                    <a:lnTo>
                      <a:pt x="3037" y="182"/>
                    </a:lnTo>
                    <a:lnTo>
                      <a:pt x="3089" y="201"/>
                    </a:lnTo>
                    <a:lnTo>
                      <a:pt x="3136" y="221"/>
                    </a:lnTo>
                    <a:lnTo>
                      <a:pt x="3181" y="242"/>
                    </a:lnTo>
                    <a:lnTo>
                      <a:pt x="3222" y="263"/>
                    </a:lnTo>
                    <a:lnTo>
                      <a:pt x="3261" y="286"/>
                    </a:lnTo>
                    <a:lnTo>
                      <a:pt x="3295" y="308"/>
                    </a:lnTo>
                    <a:lnTo>
                      <a:pt x="3325" y="331"/>
                    </a:lnTo>
                    <a:lnTo>
                      <a:pt x="3353" y="355"/>
                    </a:lnTo>
                    <a:lnTo>
                      <a:pt x="3376" y="380"/>
                    </a:lnTo>
                    <a:lnTo>
                      <a:pt x="3395" y="406"/>
                    </a:lnTo>
                    <a:lnTo>
                      <a:pt x="3409" y="431"/>
                    </a:lnTo>
                    <a:lnTo>
                      <a:pt x="3420" y="457"/>
                    </a:lnTo>
                    <a:lnTo>
                      <a:pt x="3427" y="483"/>
                    </a:lnTo>
                    <a:lnTo>
                      <a:pt x="3429" y="5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959120" y="6497280"/>
                <a:ext cx="378000" cy="123120"/>
              </a:xfrm>
              <a:custGeom>
                <a:avLst/>
                <a:gdLst/>
                <a:ahLst/>
                <a:rect l="l" t="t" r="r" b="b"/>
                <a:pathLst>
                  <a:path w="3427" h="1038">
                    <a:moveTo>
                      <a:pt x="3427" y="510"/>
                    </a:moveTo>
                    <a:lnTo>
                      <a:pt x="3424" y="537"/>
                    </a:lnTo>
                    <a:lnTo>
                      <a:pt x="3418" y="564"/>
                    </a:lnTo>
                    <a:lnTo>
                      <a:pt x="3407" y="590"/>
                    </a:lnTo>
                    <a:lnTo>
                      <a:pt x="3392" y="617"/>
                    </a:lnTo>
                    <a:lnTo>
                      <a:pt x="3373" y="642"/>
                    </a:lnTo>
                    <a:lnTo>
                      <a:pt x="3350" y="667"/>
                    </a:lnTo>
                    <a:lnTo>
                      <a:pt x="3323" y="691"/>
                    </a:lnTo>
                    <a:lnTo>
                      <a:pt x="3292" y="716"/>
                    </a:lnTo>
                    <a:lnTo>
                      <a:pt x="3258" y="739"/>
                    </a:lnTo>
                    <a:lnTo>
                      <a:pt x="3220" y="761"/>
                    </a:lnTo>
                    <a:lnTo>
                      <a:pt x="3179" y="783"/>
                    </a:lnTo>
                    <a:lnTo>
                      <a:pt x="3134" y="804"/>
                    </a:lnTo>
                    <a:lnTo>
                      <a:pt x="3087" y="826"/>
                    </a:lnTo>
                    <a:lnTo>
                      <a:pt x="3035" y="846"/>
                    </a:lnTo>
                    <a:lnTo>
                      <a:pt x="2982" y="865"/>
                    </a:lnTo>
                    <a:lnTo>
                      <a:pt x="2925" y="883"/>
                    </a:lnTo>
                    <a:lnTo>
                      <a:pt x="2866" y="900"/>
                    </a:lnTo>
                    <a:lnTo>
                      <a:pt x="2803" y="917"/>
                    </a:lnTo>
                    <a:lnTo>
                      <a:pt x="2739" y="933"/>
                    </a:lnTo>
                    <a:lnTo>
                      <a:pt x="2672" y="948"/>
                    </a:lnTo>
                    <a:lnTo>
                      <a:pt x="2602" y="961"/>
                    </a:lnTo>
                    <a:lnTo>
                      <a:pt x="2530" y="974"/>
                    </a:lnTo>
                    <a:lnTo>
                      <a:pt x="2457" y="985"/>
                    </a:lnTo>
                    <a:lnTo>
                      <a:pt x="2380" y="996"/>
                    </a:lnTo>
                    <a:lnTo>
                      <a:pt x="2302" y="1005"/>
                    </a:lnTo>
                    <a:lnTo>
                      <a:pt x="2223" y="1013"/>
                    </a:lnTo>
                    <a:lnTo>
                      <a:pt x="2142" y="1020"/>
                    </a:lnTo>
                    <a:lnTo>
                      <a:pt x="2059" y="1026"/>
                    </a:lnTo>
                    <a:lnTo>
                      <a:pt x="1974" y="1032"/>
                    </a:lnTo>
                    <a:lnTo>
                      <a:pt x="1889" y="1035"/>
                    </a:lnTo>
                    <a:lnTo>
                      <a:pt x="1801" y="1037"/>
                    </a:lnTo>
                    <a:lnTo>
                      <a:pt x="1713" y="1038"/>
                    </a:lnTo>
                    <a:lnTo>
                      <a:pt x="1626" y="1037"/>
                    </a:lnTo>
                    <a:lnTo>
                      <a:pt x="1539" y="1035"/>
                    </a:lnTo>
                    <a:lnTo>
                      <a:pt x="1453" y="1032"/>
                    </a:lnTo>
                    <a:lnTo>
                      <a:pt x="1368" y="1026"/>
                    </a:lnTo>
                    <a:lnTo>
                      <a:pt x="1285" y="1020"/>
                    </a:lnTo>
                    <a:lnTo>
                      <a:pt x="1204" y="1013"/>
                    </a:lnTo>
                    <a:lnTo>
                      <a:pt x="1125" y="1005"/>
                    </a:lnTo>
                    <a:lnTo>
                      <a:pt x="1047" y="996"/>
                    </a:lnTo>
                    <a:lnTo>
                      <a:pt x="970" y="985"/>
                    </a:lnTo>
                    <a:lnTo>
                      <a:pt x="896" y="974"/>
                    </a:lnTo>
                    <a:lnTo>
                      <a:pt x="825" y="961"/>
                    </a:lnTo>
                    <a:lnTo>
                      <a:pt x="755" y="948"/>
                    </a:lnTo>
                    <a:lnTo>
                      <a:pt x="688" y="933"/>
                    </a:lnTo>
                    <a:lnTo>
                      <a:pt x="624" y="917"/>
                    </a:lnTo>
                    <a:lnTo>
                      <a:pt x="561" y="900"/>
                    </a:lnTo>
                    <a:lnTo>
                      <a:pt x="502" y="883"/>
                    </a:lnTo>
                    <a:lnTo>
                      <a:pt x="445" y="865"/>
                    </a:lnTo>
                    <a:lnTo>
                      <a:pt x="391" y="846"/>
                    </a:lnTo>
                    <a:lnTo>
                      <a:pt x="340" y="826"/>
                    </a:lnTo>
                    <a:lnTo>
                      <a:pt x="292" y="804"/>
                    </a:lnTo>
                    <a:lnTo>
                      <a:pt x="248" y="783"/>
                    </a:lnTo>
                    <a:lnTo>
                      <a:pt x="207" y="761"/>
                    </a:lnTo>
                    <a:lnTo>
                      <a:pt x="169" y="739"/>
                    </a:lnTo>
                    <a:lnTo>
                      <a:pt x="135" y="716"/>
                    </a:lnTo>
                    <a:lnTo>
                      <a:pt x="104" y="691"/>
                    </a:lnTo>
                    <a:lnTo>
                      <a:pt x="77" y="667"/>
                    </a:lnTo>
                    <a:lnTo>
                      <a:pt x="54" y="642"/>
                    </a:lnTo>
                    <a:lnTo>
                      <a:pt x="35" y="617"/>
                    </a:lnTo>
                    <a:lnTo>
                      <a:pt x="20" y="590"/>
                    </a:lnTo>
                    <a:lnTo>
                      <a:pt x="9" y="564"/>
                    </a:lnTo>
                    <a:lnTo>
                      <a:pt x="3" y="537"/>
                    </a:lnTo>
                    <a:lnTo>
                      <a:pt x="0" y="510"/>
                    </a:lnTo>
                    <a:lnTo>
                      <a:pt x="3" y="482"/>
                    </a:lnTo>
                    <a:lnTo>
                      <a:pt x="9" y="456"/>
                    </a:lnTo>
                    <a:lnTo>
                      <a:pt x="20" y="430"/>
                    </a:lnTo>
                    <a:lnTo>
                      <a:pt x="35" y="405"/>
                    </a:lnTo>
                    <a:lnTo>
                      <a:pt x="54" y="379"/>
                    </a:lnTo>
                    <a:lnTo>
                      <a:pt x="77" y="355"/>
                    </a:lnTo>
                    <a:lnTo>
                      <a:pt x="104" y="331"/>
                    </a:lnTo>
                    <a:lnTo>
                      <a:pt x="135" y="308"/>
                    </a:lnTo>
                    <a:lnTo>
                      <a:pt x="169" y="285"/>
                    </a:lnTo>
                    <a:lnTo>
                      <a:pt x="207" y="262"/>
                    </a:lnTo>
                    <a:lnTo>
                      <a:pt x="248" y="241"/>
                    </a:lnTo>
                    <a:lnTo>
                      <a:pt x="292" y="221"/>
                    </a:lnTo>
                    <a:lnTo>
                      <a:pt x="340" y="201"/>
                    </a:lnTo>
                    <a:lnTo>
                      <a:pt x="391" y="182"/>
                    </a:lnTo>
                    <a:lnTo>
                      <a:pt x="445" y="163"/>
                    </a:lnTo>
                    <a:lnTo>
                      <a:pt x="502" y="146"/>
                    </a:lnTo>
                    <a:lnTo>
                      <a:pt x="561" y="129"/>
                    </a:lnTo>
                    <a:lnTo>
                      <a:pt x="624" y="113"/>
                    </a:lnTo>
                    <a:lnTo>
                      <a:pt x="688" y="99"/>
                    </a:lnTo>
                    <a:lnTo>
                      <a:pt x="755" y="85"/>
                    </a:lnTo>
                    <a:lnTo>
                      <a:pt x="825" y="72"/>
                    </a:lnTo>
                    <a:lnTo>
                      <a:pt x="896" y="59"/>
                    </a:lnTo>
                    <a:lnTo>
                      <a:pt x="970" y="48"/>
                    </a:lnTo>
                    <a:lnTo>
                      <a:pt x="1047" y="39"/>
                    </a:lnTo>
                    <a:lnTo>
                      <a:pt x="1125" y="30"/>
                    </a:lnTo>
                    <a:lnTo>
                      <a:pt x="1204" y="22"/>
                    </a:lnTo>
                    <a:lnTo>
                      <a:pt x="1285" y="16"/>
                    </a:lnTo>
                    <a:lnTo>
                      <a:pt x="1368" y="10"/>
                    </a:lnTo>
                    <a:lnTo>
                      <a:pt x="1453" y="6"/>
                    </a:lnTo>
                    <a:lnTo>
                      <a:pt x="1539" y="3"/>
                    </a:lnTo>
                    <a:lnTo>
                      <a:pt x="1626" y="1"/>
                    </a:lnTo>
                    <a:lnTo>
                      <a:pt x="1713" y="0"/>
                    </a:lnTo>
                    <a:lnTo>
                      <a:pt x="1801" y="1"/>
                    </a:lnTo>
                    <a:lnTo>
                      <a:pt x="1889" y="3"/>
                    </a:lnTo>
                    <a:lnTo>
                      <a:pt x="1974" y="6"/>
                    </a:lnTo>
                    <a:lnTo>
                      <a:pt x="2059" y="10"/>
                    </a:lnTo>
                    <a:lnTo>
                      <a:pt x="2142" y="16"/>
                    </a:lnTo>
                    <a:lnTo>
                      <a:pt x="2223" y="22"/>
                    </a:lnTo>
                    <a:lnTo>
                      <a:pt x="2302" y="30"/>
                    </a:lnTo>
                    <a:lnTo>
                      <a:pt x="2380" y="39"/>
                    </a:lnTo>
                    <a:lnTo>
                      <a:pt x="2457" y="48"/>
                    </a:lnTo>
                    <a:lnTo>
                      <a:pt x="2530" y="59"/>
                    </a:lnTo>
                    <a:lnTo>
                      <a:pt x="2602" y="72"/>
                    </a:lnTo>
                    <a:lnTo>
                      <a:pt x="2672" y="85"/>
                    </a:lnTo>
                    <a:lnTo>
                      <a:pt x="2739" y="99"/>
                    </a:lnTo>
                    <a:lnTo>
                      <a:pt x="2803" y="113"/>
                    </a:lnTo>
                    <a:lnTo>
                      <a:pt x="2866" y="129"/>
                    </a:lnTo>
                    <a:lnTo>
                      <a:pt x="2925" y="146"/>
                    </a:lnTo>
                    <a:lnTo>
                      <a:pt x="2982" y="163"/>
                    </a:lnTo>
                    <a:lnTo>
                      <a:pt x="3035" y="182"/>
                    </a:lnTo>
                    <a:lnTo>
                      <a:pt x="3087" y="201"/>
                    </a:lnTo>
                    <a:lnTo>
                      <a:pt x="3134" y="221"/>
                    </a:lnTo>
                    <a:lnTo>
                      <a:pt x="3179" y="241"/>
                    </a:lnTo>
                    <a:lnTo>
                      <a:pt x="3220" y="262"/>
                    </a:lnTo>
                    <a:lnTo>
                      <a:pt x="3258" y="285"/>
                    </a:lnTo>
                    <a:lnTo>
                      <a:pt x="3292" y="308"/>
                    </a:lnTo>
                    <a:lnTo>
                      <a:pt x="3323" y="331"/>
                    </a:lnTo>
                    <a:lnTo>
                      <a:pt x="3350" y="355"/>
                    </a:lnTo>
                    <a:lnTo>
                      <a:pt x="3373" y="379"/>
                    </a:lnTo>
                    <a:lnTo>
                      <a:pt x="3392" y="405"/>
                    </a:lnTo>
                    <a:lnTo>
                      <a:pt x="3407" y="430"/>
                    </a:lnTo>
                    <a:lnTo>
                      <a:pt x="3418" y="456"/>
                    </a:lnTo>
                    <a:lnTo>
                      <a:pt x="3424" y="482"/>
                    </a:lnTo>
                    <a:lnTo>
                      <a:pt x="3427" y="5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959120" y="6497280"/>
                <a:ext cx="378000" cy="123120"/>
              </a:xfrm>
              <a:custGeom>
                <a:avLst/>
                <a:gdLst/>
                <a:ahLst/>
                <a:rect l="l" t="t" r="r" b="b"/>
                <a:pathLst>
                  <a:path w="3423" h="1036">
                    <a:moveTo>
                      <a:pt x="3423" y="509"/>
                    </a:moveTo>
                    <a:lnTo>
                      <a:pt x="3421" y="536"/>
                    </a:lnTo>
                    <a:lnTo>
                      <a:pt x="3414" y="563"/>
                    </a:lnTo>
                    <a:lnTo>
                      <a:pt x="3404" y="589"/>
                    </a:lnTo>
                    <a:lnTo>
                      <a:pt x="3389" y="615"/>
                    </a:lnTo>
                    <a:lnTo>
                      <a:pt x="3370" y="641"/>
                    </a:lnTo>
                    <a:lnTo>
                      <a:pt x="3347" y="665"/>
                    </a:lnTo>
                    <a:lnTo>
                      <a:pt x="3319" y="690"/>
                    </a:lnTo>
                    <a:lnTo>
                      <a:pt x="3289" y="714"/>
                    </a:lnTo>
                    <a:lnTo>
                      <a:pt x="3255" y="737"/>
                    </a:lnTo>
                    <a:lnTo>
                      <a:pt x="3217" y="760"/>
                    </a:lnTo>
                    <a:lnTo>
                      <a:pt x="3176" y="782"/>
                    </a:lnTo>
                    <a:lnTo>
                      <a:pt x="3131" y="803"/>
                    </a:lnTo>
                    <a:lnTo>
                      <a:pt x="3083" y="824"/>
                    </a:lnTo>
                    <a:lnTo>
                      <a:pt x="3032" y="844"/>
                    </a:lnTo>
                    <a:lnTo>
                      <a:pt x="2979" y="863"/>
                    </a:lnTo>
                    <a:lnTo>
                      <a:pt x="2922" y="881"/>
                    </a:lnTo>
                    <a:lnTo>
                      <a:pt x="2863" y="898"/>
                    </a:lnTo>
                    <a:lnTo>
                      <a:pt x="2800" y="915"/>
                    </a:lnTo>
                    <a:lnTo>
                      <a:pt x="2736" y="931"/>
                    </a:lnTo>
                    <a:lnTo>
                      <a:pt x="2669" y="946"/>
                    </a:lnTo>
                    <a:lnTo>
                      <a:pt x="2599" y="959"/>
                    </a:lnTo>
                    <a:lnTo>
                      <a:pt x="2527" y="972"/>
                    </a:lnTo>
                    <a:lnTo>
                      <a:pt x="2454" y="984"/>
                    </a:lnTo>
                    <a:lnTo>
                      <a:pt x="2378" y="994"/>
                    </a:lnTo>
                    <a:lnTo>
                      <a:pt x="2300" y="1003"/>
                    </a:lnTo>
                    <a:lnTo>
                      <a:pt x="2220" y="1011"/>
                    </a:lnTo>
                    <a:lnTo>
                      <a:pt x="2140" y="1019"/>
                    </a:lnTo>
                    <a:lnTo>
                      <a:pt x="2057" y="1024"/>
                    </a:lnTo>
                    <a:lnTo>
                      <a:pt x="1972" y="1030"/>
                    </a:lnTo>
                    <a:lnTo>
                      <a:pt x="1886" y="1033"/>
                    </a:lnTo>
                    <a:lnTo>
                      <a:pt x="1799" y="1035"/>
                    </a:lnTo>
                    <a:lnTo>
                      <a:pt x="1711" y="1036"/>
                    </a:lnTo>
                    <a:lnTo>
                      <a:pt x="1624" y="1035"/>
                    </a:lnTo>
                    <a:lnTo>
                      <a:pt x="1537" y="1033"/>
                    </a:lnTo>
                    <a:lnTo>
                      <a:pt x="1451" y="1030"/>
                    </a:lnTo>
                    <a:lnTo>
                      <a:pt x="1366" y="1024"/>
                    </a:lnTo>
                    <a:lnTo>
                      <a:pt x="1283" y="1019"/>
                    </a:lnTo>
                    <a:lnTo>
                      <a:pt x="1202" y="1011"/>
                    </a:lnTo>
                    <a:lnTo>
                      <a:pt x="1123" y="1003"/>
                    </a:lnTo>
                    <a:lnTo>
                      <a:pt x="1045" y="994"/>
                    </a:lnTo>
                    <a:lnTo>
                      <a:pt x="969" y="984"/>
                    </a:lnTo>
                    <a:lnTo>
                      <a:pt x="895" y="972"/>
                    </a:lnTo>
                    <a:lnTo>
                      <a:pt x="824" y="959"/>
                    </a:lnTo>
                    <a:lnTo>
                      <a:pt x="754" y="946"/>
                    </a:lnTo>
                    <a:lnTo>
                      <a:pt x="687" y="931"/>
                    </a:lnTo>
                    <a:lnTo>
                      <a:pt x="623" y="915"/>
                    </a:lnTo>
                    <a:lnTo>
                      <a:pt x="560" y="898"/>
                    </a:lnTo>
                    <a:lnTo>
                      <a:pt x="501" y="881"/>
                    </a:lnTo>
                    <a:lnTo>
                      <a:pt x="444" y="863"/>
                    </a:lnTo>
                    <a:lnTo>
                      <a:pt x="390" y="844"/>
                    </a:lnTo>
                    <a:lnTo>
                      <a:pt x="340" y="824"/>
                    </a:lnTo>
                    <a:lnTo>
                      <a:pt x="291" y="803"/>
                    </a:lnTo>
                    <a:lnTo>
                      <a:pt x="247" y="782"/>
                    </a:lnTo>
                    <a:lnTo>
                      <a:pt x="206" y="760"/>
                    </a:lnTo>
                    <a:lnTo>
                      <a:pt x="168" y="737"/>
                    </a:lnTo>
                    <a:lnTo>
                      <a:pt x="134" y="714"/>
                    </a:lnTo>
                    <a:lnTo>
                      <a:pt x="104" y="690"/>
                    </a:lnTo>
                    <a:lnTo>
                      <a:pt x="76" y="665"/>
                    </a:lnTo>
                    <a:lnTo>
                      <a:pt x="53" y="641"/>
                    </a:lnTo>
                    <a:lnTo>
                      <a:pt x="34" y="615"/>
                    </a:lnTo>
                    <a:lnTo>
                      <a:pt x="19" y="589"/>
                    </a:lnTo>
                    <a:lnTo>
                      <a:pt x="9" y="563"/>
                    </a:lnTo>
                    <a:lnTo>
                      <a:pt x="2" y="536"/>
                    </a:lnTo>
                    <a:lnTo>
                      <a:pt x="0" y="509"/>
                    </a:lnTo>
                    <a:lnTo>
                      <a:pt x="2" y="482"/>
                    </a:lnTo>
                    <a:lnTo>
                      <a:pt x="9" y="455"/>
                    </a:lnTo>
                    <a:lnTo>
                      <a:pt x="19" y="429"/>
                    </a:lnTo>
                    <a:lnTo>
                      <a:pt x="34" y="404"/>
                    </a:lnTo>
                    <a:lnTo>
                      <a:pt x="53" y="378"/>
                    </a:lnTo>
                    <a:lnTo>
                      <a:pt x="76" y="354"/>
                    </a:lnTo>
                    <a:lnTo>
                      <a:pt x="104" y="330"/>
                    </a:lnTo>
                    <a:lnTo>
                      <a:pt x="134" y="307"/>
                    </a:lnTo>
                    <a:lnTo>
                      <a:pt x="168" y="285"/>
                    </a:lnTo>
                    <a:lnTo>
                      <a:pt x="206" y="262"/>
                    </a:lnTo>
                    <a:lnTo>
                      <a:pt x="247" y="241"/>
                    </a:lnTo>
                    <a:lnTo>
                      <a:pt x="291" y="220"/>
                    </a:lnTo>
                    <a:lnTo>
                      <a:pt x="340" y="200"/>
                    </a:lnTo>
                    <a:lnTo>
                      <a:pt x="390" y="182"/>
                    </a:lnTo>
                    <a:lnTo>
                      <a:pt x="444" y="162"/>
                    </a:lnTo>
                    <a:lnTo>
                      <a:pt x="501" y="145"/>
                    </a:lnTo>
                    <a:lnTo>
                      <a:pt x="560" y="129"/>
                    </a:lnTo>
                    <a:lnTo>
                      <a:pt x="623" y="113"/>
                    </a:lnTo>
                    <a:lnTo>
                      <a:pt x="687" y="98"/>
                    </a:lnTo>
                    <a:lnTo>
                      <a:pt x="754" y="85"/>
                    </a:lnTo>
                    <a:lnTo>
                      <a:pt x="824" y="72"/>
                    </a:lnTo>
                    <a:lnTo>
                      <a:pt x="895" y="59"/>
                    </a:lnTo>
                    <a:lnTo>
                      <a:pt x="969" y="48"/>
                    </a:lnTo>
                    <a:lnTo>
                      <a:pt x="1045" y="38"/>
                    </a:lnTo>
                    <a:lnTo>
                      <a:pt x="1123" y="30"/>
                    </a:lnTo>
                    <a:lnTo>
                      <a:pt x="1202" y="22"/>
                    </a:lnTo>
                    <a:lnTo>
                      <a:pt x="1283" y="15"/>
                    </a:lnTo>
                    <a:lnTo>
                      <a:pt x="1366" y="10"/>
                    </a:lnTo>
                    <a:lnTo>
                      <a:pt x="1451" y="6"/>
                    </a:lnTo>
                    <a:lnTo>
                      <a:pt x="1537" y="3"/>
                    </a:lnTo>
                    <a:lnTo>
                      <a:pt x="1624" y="1"/>
                    </a:lnTo>
                    <a:lnTo>
                      <a:pt x="1711" y="0"/>
                    </a:lnTo>
                    <a:lnTo>
                      <a:pt x="1799" y="1"/>
                    </a:lnTo>
                    <a:lnTo>
                      <a:pt x="1886" y="3"/>
                    </a:lnTo>
                    <a:lnTo>
                      <a:pt x="1972" y="6"/>
                    </a:lnTo>
                    <a:lnTo>
                      <a:pt x="2057" y="10"/>
                    </a:lnTo>
                    <a:lnTo>
                      <a:pt x="2140" y="15"/>
                    </a:lnTo>
                    <a:lnTo>
                      <a:pt x="2220" y="22"/>
                    </a:lnTo>
                    <a:lnTo>
                      <a:pt x="2300" y="30"/>
                    </a:lnTo>
                    <a:lnTo>
                      <a:pt x="2378" y="38"/>
                    </a:lnTo>
                    <a:lnTo>
                      <a:pt x="2454" y="48"/>
                    </a:lnTo>
                    <a:lnTo>
                      <a:pt x="2527" y="59"/>
                    </a:lnTo>
                    <a:lnTo>
                      <a:pt x="2599" y="72"/>
                    </a:lnTo>
                    <a:lnTo>
                      <a:pt x="2669" y="85"/>
                    </a:lnTo>
                    <a:lnTo>
                      <a:pt x="2736" y="98"/>
                    </a:lnTo>
                    <a:lnTo>
                      <a:pt x="2800" y="113"/>
                    </a:lnTo>
                    <a:lnTo>
                      <a:pt x="2863" y="129"/>
                    </a:lnTo>
                    <a:lnTo>
                      <a:pt x="2922" y="145"/>
                    </a:lnTo>
                    <a:lnTo>
                      <a:pt x="2979" y="162"/>
                    </a:lnTo>
                    <a:lnTo>
                      <a:pt x="3032" y="182"/>
                    </a:lnTo>
                    <a:lnTo>
                      <a:pt x="3083" y="200"/>
                    </a:lnTo>
                    <a:lnTo>
                      <a:pt x="3131" y="220"/>
                    </a:lnTo>
                    <a:lnTo>
                      <a:pt x="3176" y="241"/>
                    </a:lnTo>
                    <a:lnTo>
                      <a:pt x="3217" y="262"/>
                    </a:lnTo>
                    <a:lnTo>
                      <a:pt x="3255" y="285"/>
                    </a:lnTo>
                    <a:lnTo>
                      <a:pt x="3289" y="307"/>
                    </a:lnTo>
                    <a:lnTo>
                      <a:pt x="3319" y="330"/>
                    </a:lnTo>
                    <a:lnTo>
                      <a:pt x="3347" y="354"/>
                    </a:lnTo>
                    <a:lnTo>
                      <a:pt x="3370" y="378"/>
                    </a:lnTo>
                    <a:lnTo>
                      <a:pt x="3389" y="404"/>
                    </a:lnTo>
                    <a:lnTo>
                      <a:pt x="3404" y="429"/>
                    </a:lnTo>
                    <a:lnTo>
                      <a:pt x="3414" y="455"/>
                    </a:lnTo>
                    <a:lnTo>
                      <a:pt x="3421" y="482"/>
                    </a:lnTo>
                    <a:lnTo>
                      <a:pt x="3423" y="5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959120" y="6497280"/>
                <a:ext cx="376920" cy="123120"/>
              </a:xfrm>
              <a:custGeom>
                <a:avLst/>
                <a:gdLst/>
                <a:ahLst/>
                <a:rect l="l" t="t" r="r" b="b"/>
                <a:pathLst>
                  <a:path w="3421" h="1034">
                    <a:moveTo>
                      <a:pt x="3421" y="508"/>
                    </a:moveTo>
                    <a:lnTo>
                      <a:pt x="3419" y="535"/>
                    </a:lnTo>
                    <a:lnTo>
                      <a:pt x="3412" y="562"/>
                    </a:lnTo>
                    <a:lnTo>
                      <a:pt x="3401" y="588"/>
                    </a:lnTo>
                    <a:lnTo>
                      <a:pt x="3386" y="614"/>
                    </a:lnTo>
                    <a:lnTo>
                      <a:pt x="3367" y="639"/>
                    </a:lnTo>
                    <a:lnTo>
                      <a:pt x="3345" y="664"/>
                    </a:lnTo>
                    <a:lnTo>
                      <a:pt x="3317" y="688"/>
                    </a:lnTo>
                    <a:lnTo>
                      <a:pt x="3287" y="713"/>
                    </a:lnTo>
                    <a:lnTo>
                      <a:pt x="3253" y="736"/>
                    </a:lnTo>
                    <a:lnTo>
                      <a:pt x="3214" y="759"/>
                    </a:lnTo>
                    <a:lnTo>
                      <a:pt x="3174" y="780"/>
                    </a:lnTo>
                    <a:lnTo>
                      <a:pt x="3129" y="801"/>
                    </a:lnTo>
                    <a:lnTo>
                      <a:pt x="3081" y="823"/>
                    </a:lnTo>
                    <a:lnTo>
                      <a:pt x="3030" y="843"/>
                    </a:lnTo>
                    <a:lnTo>
                      <a:pt x="2977" y="861"/>
                    </a:lnTo>
                    <a:lnTo>
                      <a:pt x="2920" y="880"/>
                    </a:lnTo>
                    <a:lnTo>
                      <a:pt x="2861" y="897"/>
                    </a:lnTo>
                    <a:lnTo>
                      <a:pt x="2798" y="913"/>
                    </a:lnTo>
                    <a:lnTo>
                      <a:pt x="2734" y="930"/>
                    </a:lnTo>
                    <a:lnTo>
                      <a:pt x="2667" y="944"/>
                    </a:lnTo>
                    <a:lnTo>
                      <a:pt x="2597" y="958"/>
                    </a:lnTo>
                    <a:lnTo>
                      <a:pt x="2525" y="970"/>
                    </a:lnTo>
                    <a:lnTo>
                      <a:pt x="2452" y="982"/>
                    </a:lnTo>
                    <a:lnTo>
                      <a:pt x="2376" y="992"/>
                    </a:lnTo>
                    <a:lnTo>
                      <a:pt x="2298" y="1001"/>
                    </a:lnTo>
                    <a:lnTo>
                      <a:pt x="2219" y="1010"/>
                    </a:lnTo>
                    <a:lnTo>
                      <a:pt x="2138" y="1017"/>
                    </a:lnTo>
                    <a:lnTo>
                      <a:pt x="2055" y="1022"/>
                    </a:lnTo>
                    <a:lnTo>
                      <a:pt x="1971" y="1028"/>
                    </a:lnTo>
                    <a:lnTo>
                      <a:pt x="1885" y="1031"/>
                    </a:lnTo>
                    <a:lnTo>
                      <a:pt x="1798" y="1033"/>
                    </a:lnTo>
                    <a:lnTo>
                      <a:pt x="1710" y="1034"/>
                    </a:lnTo>
                    <a:lnTo>
                      <a:pt x="1623" y="1033"/>
                    </a:lnTo>
                    <a:lnTo>
                      <a:pt x="1536" y="1031"/>
                    </a:lnTo>
                    <a:lnTo>
                      <a:pt x="1450" y="1028"/>
                    </a:lnTo>
                    <a:lnTo>
                      <a:pt x="1366" y="1022"/>
                    </a:lnTo>
                    <a:lnTo>
                      <a:pt x="1283" y="1017"/>
                    </a:lnTo>
                    <a:lnTo>
                      <a:pt x="1201" y="1010"/>
                    </a:lnTo>
                    <a:lnTo>
                      <a:pt x="1123" y="1001"/>
                    </a:lnTo>
                    <a:lnTo>
                      <a:pt x="1045" y="992"/>
                    </a:lnTo>
                    <a:lnTo>
                      <a:pt x="969" y="982"/>
                    </a:lnTo>
                    <a:lnTo>
                      <a:pt x="895" y="970"/>
                    </a:lnTo>
                    <a:lnTo>
                      <a:pt x="824" y="958"/>
                    </a:lnTo>
                    <a:lnTo>
                      <a:pt x="754" y="944"/>
                    </a:lnTo>
                    <a:lnTo>
                      <a:pt x="687" y="930"/>
                    </a:lnTo>
                    <a:lnTo>
                      <a:pt x="623" y="913"/>
                    </a:lnTo>
                    <a:lnTo>
                      <a:pt x="560" y="897"/>
                    </a:lnTo>
                    <a:lnTo>
                      <a:pt x="501" y="880"/>
                    </a:lnTo>
                    <a:lnTo>
                      <a:pt x="444" y="861"/>
                    </a:lnTo>
                    <a:lnTo>
                      <a:pt x="390" y="843"/>
                    </a:lnTo>
                    <a:lnTo>
                      <a:pt x="340" y="823"/>
                    </a:lnTo>
                    <a:lnTo>
                      <a:pt x="293" y="801"/>
                    </a:lnTo>
                    <a:lnTo>
                      <a:pt x="247" y="780"/>
                    </a:lnTo>
                    <a:lnTo>
                      <a:pt x="207" y="759"/>
                    </a:lnTo>
                    <a:lnTo>
                      <a:pt x="168" y="736"/>
                    </a:lnTo>
                    <a:lnTo>
                      <a:pt x="134" y="713"/>
                    </a:lnTo>
                    <a:lnTo>
                      <a:pt x="104" y="688"/>
                    </a:lnTo>
                    <a:lnTo>
                      <a:pt x="76" y="664"/>
                    </a:lnTo>
                    <a:lnTo>
                      <a:pt x="54" y="639"/>
                    </a:lnTo>
                    <a:lnTo>
                      <a:pt x="35" y="614"/>
                    </a:lnTo>
                    <a:lnTo>
                      <a:pt x="20" y="588"/>
                    </a:lnTo>
                    <a:lnTo>
                      <a:pt x="9" y="562"/>
                    </a:lnTo>
                    <a:lnTo>
                      <a:pt x="3" y="535"/>
                    </a:lnTo>
                    <a:lnTo>
                      <a:pt x="0" y="508"/>
                    </a:lnTo>
                    <a:lnTo>
                      <a:pt x="3" y="481"/>
                    </a:lnTo>
                    <a:lnTo>
                      <a:pt x="9" y="454"/>
                    </a:lnTo>
                    <a:lnTo>
                      <a:pt x="20" y="428"/>
                    </a:lnTo>
                    <a:lnTo>
                      <a:pt x="35" y="403"/>
                    </a:lnTo>
                    <a:lnTo>
                      <a:pt x="54" y="377"/>
                    </a:lnTo>
                    <a:lnTo>
                      <a:pt x="76" y="353"/>
                    </a:lnTo>
                    <a:lnTo>
                      <a:pt x="104" y="329"/>
                    </a:lnTo>
                    <a:lnTo>
                      <a:pt x="134" y="306"/>
                    </a:lnTo>
                    <a:lnTo>
                      <a:pt x="168" y="284"/>
                    </a:lnTo>
                    <a:lnTo>
                      <a:pt x="207" y="261"/>
                    </a:lnTo>
                    <a:lnTo>
                      <a:pt x="247" y="240"/>
                    </a:lnTo>
                    <a:lnTo>
                      <a:pt x="293" y="220"/>
                    </a:lnTo>
                    <a:lnTo>
                      <a:pt x="340" y="200"/>
                    </a:lnTo>
                    <a:lnTo>
                      <a:pt x="390" y="181"/>
                    </a:lnTo>
                    <a:lnTo>
                      <a:pt x="444" y="162"/>
                    </a:lnTo>
                    <a:lnTo>
                      <a:pt x="501" y="145"/>
                    </a:lnTo>
                    <a:lnTo>
                      <a:pt x="560" y="128"/>
                    </a:lnTo>
                    <a:lnTo>
                      <a:pt x="623" y="113"/>
                    </a:lnTo>
                    <a:lnTo>
                      <a:pt x="687" y="98"/>
                    </a:lnTo>
                    <a:lnTo>
                      <a:pt x="754" y="84"/>
                    </a:lnTo>
                    <a:lnTo>
                      <a:pt x="824" y="72"/>
                    </a:lnTo>
                    <a:lnTo>
                      <a:pt x="895" y="59"/>
                    </a:lnTo>
                    <a:lnTo>
                      <a:pt x="969" y="48"/>
                    </a:lnTo>
                    <a:lnTo>
                      <a:pt x="1045" y="38"/>
                    </a:lnTo>
                    <a:lnTo>
                      <a:pt x="1123" y="30"/>
                    </a:lnTo>
                    <a:lnTo>
                      <a:pt x="1201" y="22"/>
                    </a:lnTo>
                    <a:lnTo>
                      <a:pt x="1283" y="15"/>
                    </a:lnTo>
                    <a:lnTo>
                      <a:pt x="1366" y="10"/>
                    </a:lnTo>
                    <a:lnTo>
                      <a:pt x="1450" y="6"/>
                    </a:lnTo>
                    <a:lnTo>
                      <a:pt x="1536" y="3"/>
                    </a:lnTo>
                    <a:lnTo>
                      <a:pt x="1623" y="1"/>
                    </a:lnTo>
                    <a:lnTo>
                      <a:pt x="1710" y="0"/>
                    </a:lnTo>
                    <a:lnTo>
                      <a:pt x="1798" y="1"/>
                    </a:lnTo>
                    <a:lnTo>
                      <a:pt x="1885" y="3"/>
                    </a:lnTo>
                    <a:lnTo>
                      <a:pt x="1971" y="6"/>
                    </a:lnTo>
                    <a:lnTo>
                      <a:pt x="2055" y="10"/>
                    </a:lnTo>
                    <a:lnTo>
                      <a:pt x="2138" y="15"/>
                    </a:lnTo>
                    <a:lnTo>
                      <a:pt x="2219" y="22"/>
                    </a:lnTo>
                    <a:lnTo>
                      <a:pt x="2298" y="30"/>
                    </a:lnTo>
                    <a:lnTo>
                      <a:pt x="2376" y="38"/>
                    </a:lnTo>
                    <a:lnTo>
                      <a:pt x="2452" y="48"/>
                    </a:lnTo>
                    <a:lnTo>
                      <a:pt x="2525" y="59"/>
                    </a:lnTo>
                    <a:lnTo>
                      <a:pt x="2597" y="72"/>
                    </a:lnTo>
                    <a:lnTo>
                      <a:pt x="2667" y="84"/>
                    </a:lnTo>
                    <a:lnTo>
                      <a:pt x="2734" y="98"/>
                    </a:lnTo>
                    <a:lnTo>
                      <a:pt x="2798" y="113"/>
                    </a:lnTo>
                    <a:lnTo>
                      <a:pt x="2861" y="128"/>
                    </a:lnTo>
                    <a:lnTo>
                      <a:pt x="2920" y="145"/>
                    </a:lnTo>
                    <a:lnTo>
                      <a:pt x="2977" y="162"/>
                    </a:lnTo>
                    <a:lnTo>
                      <a:pt x="3030" y="181"/>
                    </a:lnTo>
                    <a:lnTo>
                      <a:pt x="3081" y="200"/>
                    </a:lnTo>
                    <a:lnTo>
                      <a:pt x="3129" y="220"/>
                    </a:lnTo>
                    <a:lnTo>
                      <a:pt x="3174" y="240"/>
                    </a:lnTo>
                    <a:lnTo>
                      <a:pt x="3214" y="261"/>
                    </a:lnTo>
                    <a:lnTo>
                      <a:pt x="3253" y="284"/>
                    </a:lnTo>
                    <a:lnTo>
                      <a:pt x="3287" y="306"/>
                    </a:lnTo>
                    <a:lnTo>
                      <a:pt x="3317" y="329"/>
                    </a:lnTo>
                    <a:lnTo>
                      <a:pt x="3345" y="353"/>
                    </a:lnTo>
                    <a:lnTo>
                      <a:pt x="3367" y="377"/>
                    </a:lnTo>
                    <a:lnTo>
                      <a:pt x="3386" y="403"/>
                    </a:lnTo>
                    <a:lnTo>
                      <a:pt x="3401" y="428"/>
                    </a:lnTo>
                    <a:lnTo>
                      <a:pt x="3412" y="454"/>
                    </a:lnTo>
                    <a:lnTo>
                      <a:pt x="3419" y="481"/>
                    </a:lnTo>
                    <a:lnTo>
                      <a:pt x="3421" y="5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60200" y="6497280"/>
                <a:ext cx="375840" cy="123120"/>
              </a:xfrm>
              <a:custGeom>
                <a:avLst/>
                <a:gdLst/>
                <a:ahLst/>
                <a:rect l="l" t="t" r="r" b="b"/>
                <a:pathLst>
                  <a:path w="3417" h="1032">
                    <a:moveTo>
                      <a:pt x="3417" y="507"/>
                    </a:moveTo>
                    <a:lnTo>
                      <a:pt x="3415" y="534"/>
                    </a:lnTo>
                    <a:lnTo>
                      <a:pt x="3409" y="560"/>
                    </a:lnTo>
                    <a:lnTo>
                      <a:pt x="3398" y="586"/>
                    </a:lnTo>
                    <a:lnTo>
                      <a:pt x="3383" y="613"/>
                    </a:lnTo>
                    <a:lnTo>
                      <a:pt x="3364" y="638"/>
                    </a:lnTo>
                    <a:lnTo>
                      <a:pt x="3341" y="663"/>
                    </a:lnTo>
                    <a:lnTo>
                      <a:pt x="3314" y="687"/>
                    </a:lnTo>
                    <a:lnTo>
                      <a:pt x="3283" y="712"/>
                    </a:lnTo>
                    <a:lnTo>
                      <a:pt x="3250" y="735"/>
                    </a:lnTo>
                    <a:lnTo>
                      <a:pt x="3211" y="757"/>
                    </a:lnTo>
                    <a:lnTo>
                      <a:pt x="3170" y="779"/>
                    </a:lnTo>
                    <a:lnTo>
                      <a:pt x="3125" y="800"/>
                    </a:lnTo>
                    <a:lnTo>
                      <a:pt x="3078" y="821"/>
                    </a:lnTo>
                    <a:lnTo>
                      <a:pt x="3027" y="841"/>
                    </a:lnTo>
                    <a:lnTo>
                      <a:pt x="2974" y="860"/>
                    </a:lnTo>
                    <a:lnTo>
                      <a:pt x="2917" y="878"/>
                    </a:lnTo>
                    <a:lnTo>
                      <a:pt x="2858" y="895"/>
                    </a:lnTo>
                    <a:lnTo>
                      <a:pt x="2796" y="911"/>
                    </a:lnTo>
                    <a:lnTo>
                      <a:pt x="2732" y="928"/>
                    </a:lnTo>
                    <a:lnTo>
                      <a:pt x="2664" y="942"/>
                    </a:lnTo>
                    <a:lnTo>
                      <a:pt x="2595" y="956"/>
                    </a:lnTo>
                    <a:lnTo>
                      <a:pt x="2523" y="968"/>
                    </a:lnTo>
                    <a:lnTo>
                      <a:pt x="2450" y="980"/>
                    </a:lnTo>
                    <a:lnTo>
                      <a:pt x="2374" y="990"/>
                    </a:lnTo>
                    <a:lnTo>
                      <a:pt x="2296" y="1000"/>
                    </a:lnTo>
                    <a:lnTo>
                      <a:pt x="2216" y="1008"/>
                    </a:lnTo>
                    <a:lnTo>
                      <a:pt x="2136" y="1015"/>
                    </a:lnTo>
                    <a:lnTo>
                      <a:pt x="2053" y="1021"/>
                    </a:lnTo>
                    <a:lnTo>
                      <a:pt x="1969" y="1025"/>
                    </a:lnTo>
                    <a:lnTo>
                      <a:pt x="1883" y="1029"/>
                    </a:lnTo>
                    <a:lnTo>
                      <a:pt x="1796" y="1031"/>
                    </a:lnTo>
                    <a:lnTo>
                      <a:pt x="1708" y="1032"/>
                    </a:lnTo>
                    <a:lnTo>
                      <a:pt x="1621" y="1031"/>
                    </a:lnTo>
                    <a:lnTo>
                      <a:pt x="1534" y="1029"/>
                    </a:lnTo>
                    <a:lnTo>
                      <a:pt x="1448" y="1025"/>
                    </a:lnTo>
                    <a:lnTo>
                      <a:pt x="1364" y="1021"/>
                    </a:lnTo>
                    <a:lnTo>
                      <a:pt x="1281" y="1015"/>
                    </a:lnTo>
                    <a:lnTo>
                      <a:pt x="1200" y="1008"/>
                    </a:lnTo>
                    <a:lnTo>
                      <a:pt x="1121" y="1000"/>
                    </a:lnTo>
                    <a:lnTo>
                      <a:pt x="1043" y="990"/>
                    </a:lnTo>
                    <a:lnTo>
                      <a:pt x="967" y="980"/>
                    </a:lnTo>
                    <a:lnTo>
                      <a:pt x="893" y="968"/>
                    </a:lnTo>
                    <a:lnTo>
                      <a:pt x="822" y="956"/>
                    </a:lnTo>
                    <a:lnTo>
                      <a:pt x="753" y="942"/>
                    </a:lnTo>
                    <a:lnTo>
                      <a:pt x="685" y="928"/>
                    </a:lnTo>
                    <a:lnTo>
                      <a:pt x="622" y="911"/>
                    </a:lnTo>
                    <a:lnTo>
                      <a:pt x="559" y="895"/>
                    </a:lnTo>
                    <a:lnTo>
                      <a:pt x="500" y="878"/>
                    </a:lnTo>
                    <a:lnTo>
                      <a:pt x="443" y="860"/>
                    </a:lnTo>
                    <a:lnTo>
                      <a:pt x="389" y="841"/>
                    </a:lnTo>
                    <a:lnTo>
                      <a:pt x="339" y="821"/>
                    </a:lnTo>
                    <a:lnTo>
                      <a:pt x="292" y="800"/>
                    </a:lnTo>
                    <a:lnTo>
                      <a:pt x="247" y="779"/>
                    </a:lnTo>
                    <a:lnTo>
                      <a:pt x="206" y="757"/>
                    </a:lnTo>
                    <a:lnTo>
                      <a:pt x="168" y="735"/>
                    </a:lnTo>
                    <a:lnTo>
                      <a:pt x="134" y="712"/>
                    </a:lnTo>
                    <a:lnTo>
                      <a:pt x="103" y="687"/>
                    </a:lnTo>
                    <a:lnTo>
                      <a:pt x="76" y="663"/>
                    </a:lnTo>
                    <a:lnTo>
                      <a:pt x="53" y="638"/>
                    </a:lnTo>
                    <a:lnTo>
                      <a:pt x="34" y="613"/>
                    </a:lnTo>
                    <a:lnTo>
                      <a:pt x="19" y="586"/>
                    </a:lnTo>
                    <a:lnTo>
                      <a:pt x="8" y="560"/>
                    </a:lnTo>
                    <a:lnTo>
                      <a:pt x="2" y="534"/>
                    </a:lnTo>
                    <a:lnTo>
                      <a:pt x="0" y="507"/>
                    </a:lnTo>
                    <a:lnTo>
                      <a:pt x="2" y="480"/>
                    </a:lnTo>
                    <a:lnTo>
                      <a:pt x="8" y="453"/>
                    </a:lnTo>
                    <a:lnTo>
                      <a:pt x="19" y="428"/>
                    </a:lnTo>
                    <a:lnTo>
                      <a:pt x="34" y="402"/>
                    </a:lnTo>
                    <a:lnTo>
                      <a:pt x="53" y="377"/>
                    </a:lnTo>
                    <a:lnTo>
                      <a:pt x="76" y="352"/>
                    </a:lnTo>
                    <a:lnTo>
                      <a:pt x="103" y="329"/>
                    </a:lnTo>
                    <a:lnTo>
                      <a:pt x="134" y="306"/>
                    </a:lnTo>
                    <a:lnTo>
                      <a:pt x="168" y="283"/>
                    </a:lnTo>
                    <a:lnTo>
                      <a:pt x="206" y="261"/>
                    </a:lnTo>
                    <a:lnTo>
                      <a:pt x="247" y="240"/>
                    </a:lnTo>
                    <a:lnTo>
                      <a:pt x="292" y="219"/>
                    </a:lnTo>
                    <a:lnTo>
                      <a:pt x="339" y="200"/>
                    </a:lnTo>
                    <a:lnTo>
                      <a:pt x="389" y="181"/>
                    </a:lnTo>
                    <a:lnTo>
                      <a:pt x="443" y="162"/>
                    </a:lnTo>
                    <a:lnTo>
                      <a:pt x="500" y="144"/>
                    </a:lnTo>
                    <a:lnTo>
                      <a:pt x="559" y="128"/>
                    </a:lnTo>
                    <a:lnTo>
                      <a:pt x="622" y="113"/>
                    </a:lnTo>
                    <a:lnTo>
                      <a:pt x="685" y="98"/>
                    </a:lnTo>
                    <a:lnTo>
                      <a:pt x="753" y="84"/>
                    </a:lnTo>
                    <a:lnTo>
                      <a:pt x="822" y="71"/>
                    </a:lnTo>
                    <a:lnTo>
                      <a:pt x="893" y="59"/>
                    </a:lnTo>
                    <a:lnTo>
                      <a:pt x="967" y="48"/>
                    </a:lnTo>
                    <a:lnTo>
                      <a:pt x="1043" y="38"/>
                    </a:lnTo>
                    <a:lnTo>
                      <a:pt x="1121" y="29"/>
                    </a:lnTo>
                    <a:lnTo>
                      <a:pt x="1200" y="22"/>
                    </a:lnTo>
                    <a:lnTo>
                      <a:pt x="1281" y="15"/>
                    </a:lnTo>
                    <a:lnTo>
                      <a:pt x="1364" y="10"/>
                    </a:lnTo>
                    <a:lnTo>
                      <a:pt x="1448" y="6"/>
                    </a:lnTo>
                    <a:lnTo>
                      <a:pt x="1534" y="2"/>
                    </a:lnTo>
                    <a:lnTo>
                      <a:pt x="1621" y="1"/>
                    </a:lnTo>
                    <a:lnTo>
                      <a:pt x="1708" y="0"/>
                    </a:lnTo>
                    <a:lnTo>
                      <a:pt x="1796" y="1"/>
                    </a:lnTo>
                    <a:lnTo>
                      <a:pt x="1883" y="2"/>
                    </a:lnTo>
                    <a:lnTo>
                      <a:pt x="1969" y="6"/>
                    </a:lnTo>
                    <a:lnTo>
                      <a:pt x="2053" y="10"/>
                    </a:lnTo>
                    <a:lnTo>
                      <a:pt x="2136" y="15"/>
                    </a:lnTo>
                    <a:lnTo>
                      <a:pt x="2216" y="22"/>
                    </a:lnTo>
                    <a:lnTo>
                      <a:pt x="2296" y="29"/>
                    </a:lnTo>
                    <a:lnTo>
                      <a:pt x="2374" y="38"/>
                    </a:lnTo>
                    <a:lnTo>
                      <a:pt x="2450" y="48"/>
                    </a:lnTo>
                    <a:lnTo>
                      <a:pt x="2523" y="59"/>
                    </a:lnTo>
                    <a:lnTo>
                      <a:pt x="2595" y="71"/>
                    </a:lnTo>
                    <a:lnTo>
                      <a:pt x="2664" y="84"/>
                    </a:lnTo>
                    <a:lnTo>
                      <a:pt x="2732" y="98"/>
                    </a:lnTo>
                    <a:lnTo>
                      <a:pt x="2796" y="113"/>
                    </a:lnTo>
                    <a:lnTo>
                      <a:pt x="2858" y="128"/>
                    </a:lnTo>
                    <a:lnTo>
                      <a:pt x="2917" y="144"/>
                    </a:lnTo>
                    <a:lnTo>
                      <a:pt x="2974" y="162"/>
                    </a:lnTo>
                    <a:lnTo>
                      <a:pt x="3027" y="181"/>
                    </a:lnTo>
                    <a:lnTo>
                      <a:pt x="3078" y="200"/>
                    </a:lnTo>
                    <a:lnTo>
                      <a:pt x="3125" y="219"/>
                    </a:lnTo>
                    <a:lnTo>
                      <a:pt x="3170" y="240"/>
                    </a:lnTo>
                    <a:lnTo>
                      <a:pt x="3211" y="261"/>
                    </a:lnTo>
                    <a:lnTo>
                      <a:pt x="3250" y="283"/>
                    </a:lnTo>
                    <a:lnTo>
                      <a:pt x="3283" y="306"/>
                    </a:lnTo>
                    <a:lnTo>
                      <a:pt x="3314" y="329"/>
                    </a:lnTo>
                    <a:lnTo>
                      <a:pt x="3341" y="352"/>
                    </a:lnTo>
                    <a:lnTo>
                      <a:pt x="3364" y="377"/>
                    </a:lnTo>
                    <a:lnTo>
                      <a:pt x="3383" y="402"/>
                    </a:lnTo>
                    <a:lnTo>
                      <a:pt x="3398" y="428"/>
                    </a:lnTo>
                    <a:lnTo>
                      <a:pt x="3409" y="453"/>
                    </a:lnTo>
                    <a:lnTo>
                      <a:pt x="3415" y="480"/>
                    </a:lnTo>
                    <a:lnTo>
                      <a:pt x="3417" y="5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60200" y="6497280"/>
                <a:ext cx="375840" cy="123120"/>
              </a:xfrm>
              <a:custGeom>
                <a:avLst/>
                <a:gdLst/>
                <a:ahLst/>
                <a:rect l="l" t="t" r="r" b="b"/>
                <a:pathLst>
                  <a:path w="3415" h="1030">
                    <a:moveTo>
                      <a:pt x="3415" y="506"/>
                    </a:moveTo>
                    <a:lnTo>
                      <a:pt x="3413" y="533"/>
                    </a:lnTo>
                    <a:lnTo>
                      <a:pt x="3406" y="559"/>
                    </a:lnTo>
                    <a:lnTo>
                      <a:pt x="3395" y="585"/>
                    </a:lnTo>
                    <a:lnTo>
                      <a:pt x="3381" y="612"/>
                    </a:lnTo>
                    <a:lnTo>
                      <a:pt x="3362" y="637"/>
                    </a:lnTo>
                    <a:lnTo>
                      <a:pt x="3339" y="662"/>
                    </a:lnTo>
                    <a:lnTo>
                      <a:pt x="3311" y="686"/>
                    </a:lnTo>
                    <a:lnTo>
                      <a:pt x="3281" y="710"/>
                    </a:lnTo>
                    <a:lnTo>
                      <a:pt x="3247" y="733"/>
                    </a:lnTo>
                    <a:lnTo>
                      <a:pt x="3209" y="756"/>
                    </a:lnTo>
                    <a:lnTo>
                      <a:pt x="3168" y="777"/>
                    </a:lnTo>
                    <a:lnTo>
                      <a:pt x="3123" y="798"/>
                    </a:lnTo>
                    <a:lnTo>
                      <a:pt x="3076" y="820"/>
                    </a:lnTo>
                    <a:lnTo>
                      <a:pt x="3025" y="839"/>
                    </a:lnTo>
                    <a:lnTo>
                      <a:pt x="2972" y="858"/>
                    </a:lnTo>
                    <a:lnTo>
                      <a:pt x="2915" y="876"/>
                    </a:lnTo>
                    <a:lnTo>
                      <a:pt x="2856" y="893"/>
                    </a:lnTo>
                    <a:lnTo>
                      <a:pt x="2794" y="910"/>
                    </a:lnTo>
                    <a:lnTo>
                      <a:pt x="2730" y="926"/>
                    </a:lnTo>
                    <a:lnTo>
                      <a:pt x="2662" y="941"/>
                    </a:lnTo>
                    <a:lnTo>
                      <a:pt x="2593" y="954"/>
                    </a:lnTo>
                    <a:lnTo>
                      <a:pt x="2521" y="967"/>
                    </a:lnTo>
                    <a:lnTo>
                      <a:pt x="2448" y="978"/>
                    </a:lnTo>
                    <a:lnTo>
                      <a:pt x="2372" y="988"/>
                    </a:lnTo>
                    <a:lnTo>
                      <a:pt x="2294" y="998"/>
                    </a:lnTo>
                    <a:lnTo>
                      <a:pt x="2215" y="1006"/>
                    </a:lnTo>
                    <a:lnTo>
                      <a:pt x="2135" y="1013"/>
                    </a:lnTo>
                    <a:lnTo>
                      <a:pt x="2052" y="1019"/>
                    </a:lnTo>
                    <a:lnTo>
                      <a:pt x="1968" y="1023"/>
                    </a:lnTo>
                    <a:lnTo>
                      <a:pt x="1882" y="1027"/>
                    </a:lnTo>
                    <a:lnTo>
                      <a:pt x="1795" y="1029"/>
                    </a:lnTo>
                    <a:lnTo>
                      <a:pt x="1707" y="1030"/>
                    </a:lnTo>
                    <a:lnTo>
                      <a:pt x="1620" y="1029"/>
                    </a:lnTo>
                    <a:lnTo>
                      <a:pt x="1533" y="1027"/>
                    </a:lnTo>
                    <a:lnTo>
                      <a:pt x="1448" y="1023"/>
                    </a:lnTo>
                    <a:lnTo>
                      <a:pt x="1363" y="1019"/>
                    </a:lnTo>
                    <a:lnTo>
                      <a:pt x="1280" y="1013"/>
                    </a:lnTo>
                    <a:lnTo>
                      <a:pt x="1199" y="1006"/>
                    </a:lnTo>
                    <a:lnTo>
                      <a:pt x="1121" y="998"/>
                    </a:lnTo>
                    <a:lnTo>
                      <a:pt x="1043" y="988"/>
                    </a:lnTo>
                    <a:lnTo>
                      <a:pt x="967" y="978"/>
                    </a:lnTo>
                    <a:lnTo>
                      <a:pt x="893" y="967"/>
                    </a:lnTo>
                    <a:lnTo>
                      <a:pt x="822" y="954"/>
                    </a:lnTo>
                    <a:lnTo>
                      <a:pt x="753" y="941"/>
                    </a:lnTo>
                    <a:lnTo>
                      <a:pt x="685" y="926"/>
                    </a:lnTo>
                    <a:lnTo>
                      <a:pt x="621" y="910"/>
                    </a:lnTo>
                    <a:lnTo>
                      <a:pt x="559" y="893"/>
                    </a:lnTo>
                    <a:lnTo>
                      <a:pt x="500" y="876"/>
                    </a:lnTo>
                    <a:lnTo>
                      <a:pt x="443" y="858"/>
                    </a:lnTo>
                    <a:lnTo>
                      <a:pt x="389" y="839"/>
                    </a:lnTo>
                    <a:lnTo>
                      <a:pt x="339" y="820"/>
                    </a:lnTo>
                    <a:lnTo>
                      <a:pt x="292" y="798"/>
                    </a:lnTo>
                    <a:lnTo>
                      <a:pt x="247" y="777"/>
                    </a:lnTo>
                    <a:lnTo>
                      <a:pt x="206" y="756"/>
                    </a:lnTo>
                    <a:lnTo>
                      <a:pt x="168" y="733"/>
                    </a:lnTo>
                    <a:lnTo>
                      <a:pt x="134" y="710"/>
                    </a:lnTo>
                    <a:lnTo>
                      <a:pt x="104" y="686"/>
                    </a:lnTo>
                    <a:lnTo>
                      <a:pt x="76" y="662"/>
                    </a:lnTo>
                    <a:lnTo>
                      <a:pt x="53" y="637"/>
                    </a:lnTo>
                    <a:lnTo>
                      <a:pt x="34" y="612"/>
                    </a:lnTo>
                    <a:lnTo>
                      <a:pt x="20" y="585"/>
                    </a:lnTo>
                    <a:lnTo>
                      <a:pt x="9" y="559"/>
                    </a:lnTo>
                    <a:lnTo>
                      <a:pt x="2" y="533"/>
                    </a:lnTo>
                    <a:lnTo>
                      <a:pt x="0" y="506"/>
                    </a:lnTo>
                    <a:lnTo>
                      <a:pt x="2" y="479"/>
                    </a:lnTo>
                    <a:lnTo>
                      <a:pt x="9" y="452"/>
                    </a:lnTo>
                    <a:lnTo>
                      <a:pt x="20" y="427"/>
                    </a:lnTo>
                    <a:lnTo>
                      <a:pt x="34" y="402"/>
                    </a:lnTo>
                    <a:lnTo>
                      <a:pt x="53" y="376"/>
                    </a:lnTo>
                    <a:lnTo>
                      <a:pt x="76" y="352"/>
                    </a:lnTo>
                    <a:lnTo>
                      <a:pt x="104" y="328"/>
                    </a:lnTo>
                    <a:lnTo>
                      <a:pt x="134" y="305"/>
                    </a:lnTo>
                    <a:lnTo>
                      <a:pt x="168" y="283"/>
                    </a:lnTo>
                    <a:lnTo>
                      <a:pt x="206" y="260"/>
                    </a:lnTo>
                    <a:lnTo>
                      <a:pt x="247" y="239"/>
                    </a:lnTo>
                    <a:lnTo>
                      <a:pt x="292" y="219"/>
                    </a:lnTo>
                    <a:lnTo>
                      <a:pt x="339" y="199"/>
                    </a:lnTo>
                    <a:lnTo>
                      <a:pt x="389" y="180"/>
                    </a:lnTo>
                    <a:lnTo>
                      <a:pt x="443" y="161"/>
                    </a:lnTo>
                    <a:lnTo>
                      <a:pt x="500" y="144"/>
                    </a:lnTo>
                    <a:lnTo>
                      <a:pt x="559" y="128"/>
                    </a:lnTo>
                    <a:lnTo>
                      <a:pt x="621" y="112"/>
                    </a:lnTo>
                    <a:lnTo>
                      <a:pt x="685" y="98"/>
                    </a:lnTo>
                    <a:lnTo>
                      <a:pt x="753" y="84"/>
                    </a:lnTo>
                    <a:lnTo>
                      <a:pt x="822" y="71"/>
                    </a:lnTo>
                    <a:lnTo>
                      <a:pt x="893" y="59"/>
                    </a:lnTo>
                    <a:lnTo>
                      <a:pt x="967" y="48"/>
                    </a:lnTo>
                    <a:lnTo>
                      <a:pt x="1043" y="38"/>
                    </a:lnTo>
                    <a:lnTo>
                      <a:pt x="1121" y="29"/>
                    </a:lnTo>
                    <a:lnTo>
                      <a:pt x="1199" y="22"/>
                    </a:lnTo>
                    <a:lnTo>
                      <a:pt x="1280" y="15"/>
                    </a:lnTo>
                    <a:lnTo>
                      <a:pt x="1363" y="10"/>
                    </a:lnTo>
                    <a:lnTo>
                      <a:pt x="1448" y="6"/>
                    </a:lnTo>
                    <a:lnTo>
                      <a:pt x="1533" y="2"/>
                    </a:lnTo>
                    <a:lnTo>
                      <a:pt x="1620" y="1"/>
                    </a:lnTo>
                    <a:lnTo>
                      <a:pt x="1707" y="0"/>
                    </a:lnTo>
                    <a:lnTo>
                      <a:pt x="1795" y="1"/>
                    </a:lnTo>
                    <a:lnTo>
                      <a:pt x="1882" y="2"/>
                    </a:lnTo>
                    <a:lnTo>
                      <a:pt x="1968" y="6"/>
                    </a:lnTo>
                    <a:lnTo>
                      <a:pt x="2052" y="10"/>
                    </a:lnTo>
                    <a:lnTo>
                      <a:pt x="2135" y="15"/>
                    </a:lnTo>
                    <a:lnTo>
                      <a:pt x="2215" y="22"/>
                    </a:lnTo>
                    <a:lnTo>
                      <a:pt x="2294" y="29"/>
                    </a:lnTo>
                    <a:lnTo>
                      <a:pt x="2372" y="38"/>
                    </a:lnTo>
                    <a:lnTo>
                      <a:pt x="2448" y="48"/>
                    </a:lnTo>
                    <a:lnTo>
                      <a:pt x="2521" y="59"/>
                    </a:lnTo>
                    <a:lnTo>
                      <a:pt x="2593" y="71"/>
                    </a:lnTo>
                    <a:lnTo>
                      <a:pt x="2662" y="84"/>
                    </a:lnTo>
                    <a:lnTo>
                      <a:pt x="2730" y="98"/>
                    </a:lnTo>
                    <a:lnTo>
                      <a:pt x="2794" y="112"/>
                    </a:lnTo>
                    <a:lnTo>
                      <a:pt x="2856" y="128"/>
                    </a:lnTo>
                    <a:lnTo>
                      <a:pt x="2915" y="144"/>
                    </a:lnTo>
                    <a:lnTo>
                      <a:pt x="2972" y="161"/>
                    </a:lnTo>
                    <a:lnTo>
                      <a:pt x="3025" y="180"/>
                    </a:lnTo>
                    <a:lnTo>
                      <a:pt x="3076" y="199"/>
                    </a:lnTo>
                    <a:lnTo>
                      <a:pt x="3123" y="219"/>
                    </a:lnTo>
                    <a:lnTo>
                      <a:pt x="3168" y="239"/>
                    </a:lnTo>
                    <a:lnTo>
                      <a:pt x="3209" y="260"/>
                    </a:lnTo>
                    <a:lnTo>
                      <a:pt x="3247" y="283"/>
                    </a:lnTo>
                    <a:lnTo>
                      <a:pt x="3281" y="305"/>
                    </a:lnTo>
                    <a:lnTo>
                      <a:pt x="3311" y="328"/>
                    </a:lnTo>
                    <a:lnTo>
                      <a:pt x="3339" y="352"/>
                    </a:lnTo>
                    <a:lnTo>
                      <a:pt x="3362" y="376"/>
                    </a:lnTo>
                    <a:lnTo>
                      <a:pt x="3381" y="402"/>
                    </a:lnTo>
                    <a:lnTo>
                      <a:pt x="3395" y="427"/>
                    </a:lnTo>
                    <a:lnTo>
                      <a:pt x="3406" y="452"/>
                    </a:lnTo>
                    <a:lnTo>
                      <a:pt x="3413" y="479"/>
                    </a:lnTo>
                    <a:lnTo>
                      <a:pt x="3415" y="5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960200" y="6497280"/>
                <a:ext cx="375840" cy="123120"/>
              </a:xfrm>
              <a:custGeom>
                <a:avLst/>
                <a:gdLst/>
                <a:ahLst/>
                <a:rect l="l" t="t" r="r" b="b"/>
                <a:pathLst>
                  <a:path w="3412" h="1028">
                    <a:moveTo>
                      <a:pt x="3412" y="505"/>
                    </a:moveTo>
                    <a:lnTo>
                      <a:pt x="3409" y="532"/>
                    </a:lnTo>
                    <a:lnTo>
                      <a:pt x="3403" y="558"/>
                    </a:lnTo>
                    <a:lnTo>
                      <a:pt x="3392" y="584"/>
                    </a:lnTo>
                    <a:lnTo>
                      <a:pt x="3377" y="611"/>
                    </a:lnTo>
                    <a:lnTo>
                      <a:pt x="3358" y="636"/>
                    </a:lnTo>
                    <a:lnTo>
                      <a:pt x="3335" y="660"/>
                    </a:lnTo>
                    <a:lnTo>
                      <a:pt x="3308" y="684"/>
                    </a:lnTo>
                    <a:lnTo>
                      <a:pt x="3278" y="709"/>
                    </a:lnTo>
                    <a:lnTo>
                      <a:pt x="3244" y="732"/>
                    </a:lnTo>
                    <a:lnTo>
                      <a:pt x="3206" y="754"/>
                    </a:lnTo>
                    <a:lnTo>
                      <a:pt x="3165" y="776"/>
                    </a:lnTo>
                    <a:lnTo>
                      <a:pt x="3120" y="797"/>
                    </a:lnTo>
                    <a:lnTo>
                      <a:pt x="3073" y="818"/>
                    </a:lnTo>
                    <a:lnTo>
                      <a:pt x="3022" y="838"/>
                    </a:lnTo>
                    <a:lnTo>
                      <a:pt x="2969" y="857"/>
                    </a:lnTo>
                    <a:lnTo>
                      <a:pt x="2912" y="875"/>
                    </a:lnTo>
                    <a:lnTo>
                      <a:pt x="2853" y="892"/>
                    </a:lnTo>
                    <a:lnTo>
                      <a:pt x="2791" y="908"/>
                    </a:lnTo>
                    <a:lnTo>
                      <a:pt x="2727" y="924"/>
                    </a:lnTo>
                    <a:lnTo>
                      <a:pt x="2660" y="939"/>
                    </a:lnTo>
                    <a:lnTo>
                      <a:pt x="2590" y="952"/>
                    </a:lnTo>
                    <a:lnTo>
                      <a:pt x="2518" y="965"/>
                    </a:lnTo>
                    <a:lnTo>
                      <a:pt x="2445" y="976"/>
                    </a:lnTo>
                    <a:lnTo>
                      <a:pt x="2370" y="987"/>
                    </a:lnTo>
                    <a:lnTo>
                      <a:pt x="2292" y="996"/>
                    </a:lnTo>
                    <a:lnTo>
                      <a:pt x="2212" y="1004"/>
                    </a:lnTo>
                    <a:lnTo>
                      <a:pt x="2132" y="1011"/>
                    </a:lnTo>
                    <a:lnTo>
                      <a:pt x="2050" y="1017"/>
                    </a:lnTo>
                    <a:lnTo>
                      <a:pt x="1965" y="1021"/>
                    </a:lnTo>
                    <a:lnTo>
                      <a:pt x="1880" y="1026"/>
                    </a:lnTo>
                    <a:lnTo>
                      <a:pt x="1793" y="1028"/>
                    </a:lnTo>
                    <a:lnTo>
                      <a:pt x="1705" y="1028"/>
                    </a:lnTo>
                    <a:lnTo>
                      <a:pt x="1618" y="1028"/>
                    </a:lnTo>
                    <a:lnTo>
                      <a:pt x="1531" y="1026"/>
                    </a:lnTo>
                    <a:lnTo>
                      <a:pt x="1446" y="1021"/>
                    </a:lnTo>
                    <a:lnTo>
                      <a:pt x="1362" y="1017"/>
                    </a:lnTo>
                    <a:lnTo>
                      <a:pt x="1279" y="1011"/>
                    </a:lnTo>
                    <a:lnTo>
                      <a:pt x="1198" y="1004"/>
                    </a:lnTo>
                    <a:lnTo>
                      <a:pt x="1119" y="996"/>
                    </a:lnTo>
                    <a:lnTo>
                      <a:pt x="1041" y="987"/>
                    </a:lnTo>
                    <a:lnTo>
                      <a:pt x="966" y="976"/>
                    </a:lnTo>
                    <a:lnTo>
                      <a:pt x="892" y="965"/>
                    </a:lnTo>
                    <a:lnTo>
                      <a:pt x="821" y="952"/>
                    </a:lnTo>
                    <a:lnTo>
                      <a:pt x="751" y="939"/>
                    </a:lnTo>
                    <a:lnTo>
                      <a:pt x="684" y="924"/>
                    </a:lnTo>
                    <a:lnTo>
                      <a:pt x="620" y="908"/>
                    </a:lnTo>
                    <a:lnTo>
                      <a:pt x="558" y="892"/>
                    </a:lnTo>
                    <a:lnTo>
                      <a:pt x="499" y="875"/>
                    </a:lnTo>
                    <a:lnTo>
                      <a:pt x="442" y="857"/>
                    </a:lnTo>
                    <a:lnTo>
                      <a:pt x="389" y="838"/>
                    </a:lnTo>
                    <a:lnTo>
                      <a:pt x="338" y="818"/>
                    </a:lnTo>
                    <a:lnTo>
                      <a:pt x="291" y="797"/>
                    </a:lnTo>
                    <a:lnTo>
                      <a:pt x="246" y="776"/>
                    </a:lnTo>
                    <a:lnTo>
                      <a:pt x="205" y="754"/>
                    </a:lnTo>
                    <a:lnTo>
                      <a:pt x="167" y="732"/>
                    </a:lnTo>
                    <a:lnTo>
                      <a:pt x="133" y="709"/>
                    </a:lnTo>
                    <a:lnTo>
                      <a:pt x="103" y="684"/>
                    </a:lnTo>
                    <a:lnTo>
                      <a:pt x="75" y="660"/>
                    </a:lnTo>
                    <a:lnTo>
                      <a:pt x="53" y="636"/>
                    </a:lnTo>
                    <a:lnTo>
                      <a:pt x="34" y="611"/>
                    </a:lnTo>
                    <a:lnTo>
                      <a:pt x="19" y="584"/>
                    </a:lnTo>
                    <a:lnTo>
                      <a:pt x="8" y="558"/>
                    </a:lnTo>
                    <a:lnTo>
                      <a:pt x="2" y="532"/>
                    </a:lnTo>
                    <a:lnTo>
                      <a:pt x="0" y="505"/>
                    </a:lnTo>
                    <a:lnTo>
                      <a:pt x="2" y="478"/>
                    </a:lnTo>
                    <a:lnTo>
                      <a:pt x="8" y="452"/>
                    </a:lnTo>
                    <a:lnTo>
                      <a:pt x="19" y="426"/>
                    </a:lnTo>
                    <a:lnTo>
                      <a:pt x="34" y="401"/>
                    </a:lnTo>
                    <a:lnTo>
                      <a:pt x="53" y="375"/>
                    </a:lnTo>
                    <a:lnTo>
                      <a:pt x="75" y="351"/>
                    </a:lnTo>
                    <a:lnTo>
                      <a:pt x="103" y="327"/>
                    </a:lnTo>
                    <a:lnTo>
                      <a:pt x="133" y="304"/>
                    </a:lnTo>
                    <a:lnTo>
                      <a:pt x="167" y="282"/>
                    </a:lnTo>
                    <a:lnTo>
                      <a:pt x="205" y="259"/>
                    </a:lnTo>
                    <a:lnTo>
                      <a:pt x="246" y="239"/>
                    </a:lnTo>
                    <a:lnTo>
                      <a:pt x="291" y="218"/>
                    </a:lnTo>
                    <a:lnTo>
                      <a:pt x="338" y="199"/>
                    </a:lnTo>
                    <a:lnTo>
                      <a:pt x="389" y="180"/>
                    </a:lnTo>
                    <a:lnTo>
                      <a:pt x="442" y="161"/>
                    </a:lnTo>
                    <a:lnTo>
                      <a:pt x="499" y="144"/>
                    </a:lnTo>
                    <a:lnTo>
                      <a:pt x="558" y="127"/>
                    </a:lnTo>
                    <a:lnTo>
                      <a:pt x="620" y="112"/>
                    </a:lnTo>
                    <a:lnTo>
                      <a:pt x="684" y="97"/>
                    </a:lnTo>
                    <a:lnTo>
                      <a:pt x="751" y="84"/>
                    </a:lnTo>
                    <a:lnTo>
                      <a:pt x="821" y="71"/>
                    </a:lnTo>
                    <a:lnTo>
                      <a:pt x="892" y="58"/>
                    </a:lnTo>
                    <a:lnTo>
                      <a:pt x="966" y="48"/>
                    </a:lnTo>
                    <a:lnTo>
                      <a:pt x="1041" y="38"/>
                    </a:lnTo>
                    <a:lnTo>
                      <a:pt x="1119" y="29"/>
                    </a:lnTo>
                    <a:lnTo>
                      <a:pt x="1198" y="22"/>
                    </a:lnTo>
                    <a:lnTo>
                      <a:pt x="1279" y="15"/>
                    </a:lnTo>
                    <a:lnTo>
                      <a:pt x="1362" y="10"/>
                    </a:lnTo>
                    <a:lnTo>
                      <a:pt x="1446" y="5"/>
                    </a:lnTo>
                    <a:lnTo>
                      <a:pt x="1531" y="2"/>
                    </a:lnTo>
                    <a:lnTo>
                      <a:pt x="1618" y="0"/>
                    </a:lnTo>
                    <a:lnTo>
                      <a:pt x="1705" y="0"/>
                    </a:lnTo>
                    <a:lnTo>
                      <a:pt x="1793" y="0"/>
                    </a:lnTo>
                    <a:lnTo>
                      <a:pt x="1880" y="2"/>
                    </a:lnTo>
                    <a:lnTo>
                      <a:pt x="1965" y="5"/>
                    </a:lnTo>
                    <a:lnTo>
                      <a:pt x="2050" y="10"/>
                    </a:lnTo>
                    <a:lnTo>
                      <a:pt x="2132" y="15"/>
                    </a:lnTo>
                    <a:lnTo>
                      <a:pt x="2212" y="22"/>
                    </a:lnTo>
                    <a:lnTo>
                      <a:pt x="2292" y="29"/>
                    </a:lnTo>
                    <a:lnTo>
                      <a:pt x="2370" y="38"/>
                    </a:lnTo>
                    <a:lnTo>
                      <a:pt x="2445" y="48"/>
                    </a:lnTo>
                    <a:lnTo>
                      <a:pt x="2518" y="58"/>
                    </a:lnTo>
                    <a:lnTo>
                      <a:pt x="2590" y="71"/>
                    </a:lnTo>
                    <a:lnTo>
                      <a:pt x="2660" y="84"/>
                    </a:lnTo>
                    <a:lnTo>
                      <a:pt x="2727" y="97"/>
                    </a:lnTo>
                    <a:lnTo>
                      <a:pt x="2791" y="112"/>
                    </a:lnTo>
                    <a:lnTo>
                      <a:pt x="2853" y="127"/>
                    </a:lnTo>
                    <a:lnTo>
                      <a:pt x="2912" y="144"/>
                    </a:lnTo>
                    <a:lnTo>
                      <a:pt x="2969" y="161"/>
                    </a:lnTo>
                    <a:lnTo>
                      <a:pt x="3022" y="180"/>
                    </a:lnTo>
                    <a:lnTo>
                      <a:pt x="3073" y="199"/>
                    </a:lnTo>
                    <a:lnTo>
                      <a:pt x="3120" y="218"/>
                    </a:lnTo>
                    <a:lnTo>
                      <a:pt x="3165" y="239"/>
                    </a:lnTo>
                    <a:lnTo>
                      <a:pt x="3206" y="259"/>
                    </a:lnTo>
                    <a:lnTo>
                      <a:pt x="3244" y="282"/>
                    </a:lnTo>
                    <a:lnTo>
                      <a:pt x="3278" y="304"/>
                    </a:lnTo>
                    <a:lnTo>
                      <a:pt x="3308" y="327"/>
                    </a:lnTo>
                    <a:lnTo>
                      <a:pt x="3335" y="351"/>
                    </a:lnTo>
                    <a:lnTo>
                      <a:pt x="3358" y="375"/>
                    </a:lnTo>
                    <a:lnTo>
                      <a:pt x="3377" y="401"/>
                    </a:lnTo>
                    <a:lnTo>
                      <a:pt x="3392" y="426"/>
                    </a:lnTo>
                    <a:lnTo>
                      <a:pt x="3403" y="452"/>
                    </a:lnTo>
                    <a:lnTo>
                      <a:pt x="3409" y="478"/>
                    </a:lnTo>
                    <a:lnTo>
                      <a:pt x="3412" y="5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960200" y="6497280"/>
                <a:ext cx="375840" cy="122040"/>
              </a:xfrm>
              <a:custGeom>
                <a:avLst/>
                <a:gdLst/>
                <a:ahLst/>
                <a:rect l="l" t="t" r="r" b="b"/>
                <a:pathLst>
                  <a:path w="3409" h="1026">
                    <a:moveTo>
                      <a:pt x="3409" y="504"/>
                    </a:moveTo>
                    <a:lnTo>
                      <a:pt x="3407" y="531"/>
                    </a:lnTo>
                    <a:lnTo>
                      <a:pt x="3400" y="557"/>
                    </a:lnTo>
                    <a:lnTo>
                      <a:pt x="3390" y="583"/>
                    </a:lnTo>
                    <a:lnTo>
                      <a:pt x="3375" y="610"/>
                    </a:lnTo>
                    <a:lnTo>
                      <a:pt x="3356" y="635"/>
                    </a:lnTo>
                    <a:lnTo>
                      <a:pt x="3332" y="659"/>
                    </a:lnTo>
                    <a:lnTo>
                      <a:pt x="3306" y="683"/>
                    </a:lnTo>
                    <a:lnTo>
                      <a:pt x="3275" y="708"/>
                    </a:lnTo>
                    <a:lnTo>
                      <a:pt x="3242" y="731"/>
                    </a:lnTo>
                    <a:lnTo>
                      <a:pt x="3203" y="753"/>
                    </a:lnTo>
                    <a:lnTo>
                      <a:pt x="3163" y="774"/>
                    </a:lnTo>
                    <a:lnTo>
                      <a:pt x="3118" y="795"/>
                    </a:lnTo>
                    <a:lnTo>
                      <a:pt x="3071" y="817"/>
                    </a:lnTo>
                    <a:lnTo>
                      <a:pt x="3020" y="836"/>
                    </a:lnTo>
                    <a:lnTo>
                      <a:pt x="2967" y="855"/>
                    </a:lnTo>
                    <a:lnTo>
                      <a:pt x="2910" y="873"/>
                    </a:lnTo>
                    <a:lnTo>
                      <a:pt x="2851" y="890"/>
                    </a:lnTo>
                    <a:lnTo>
                      <a:pt x="2789" y="906"/>
                    </a:lnTo>
                    <a:lnTo>
                      <a:pt x="2724" y="923"/>
                    </a:lnTo>
                    <a:lnTo>
                      <a:pt x="2658" y="937"/>
                    </a:lnTo>
                    <a:lnTo>
                      <a:pt x="2588" y="951"/>
                    </a:lnTo>
                    <a:lnTo>
                      <a:pt x="2517" y="963"/>
                    </a:lnTo>
                    <a:lnTo>
                      <a:pt x="2444" y="974"/>
                    </a:lnTo>
                    <a:lnTo>
                      <a:pt x="2368" y="985"/>
                    </a:lnTo>
                    <a:lnTo>
                      <a:pt x="2290" y="994"/>
                    </a:lnTo>
                    <a:lnTo>
                      <a:pt x="2211" y="1002"/>
                    </a:lnTo>
                    <a:lnTo>
                      <a:pt x="2131" y="1009"/>
                    </a:lnTo>
                    <a:lnTo>
                      <a:pt x="2048" y="1015"/>
                    </a:lnTo>
                    <a:lnTo>
                      <a:pt x="1964" y="1019"/>
                    </a:lnTo>
                    <a:lnTo>
                      <a:pt x="1879" y="1024"/>
                    </a:lnTo>
                    <a:lnTo>
                      <a:pt x="1792" y="1026"/>
                    </a:lnTo>
                    <a:lnTo>
                      <a:pt x="1704" y="1026"/>
                    </a:lnTo>
                    <a:lnTo>
                      <a:pt x="1617" y="1026"/>
                    </a:lnTo>
                    <a:lnTo>
                      <a:pt x="1530" y="1024"/>
                    </a:lnTo>
                    <a:lnTo>
                      <a:pt x="1445" y="1019"/>
                    </a:lnTo>
                    <a:lnTo>
                      <a:pt x="1361" y="1015"/>
                    </a:lnTo>
                    <a:lnTo>
                      <a:pt x="1278" y="1009"/>
                    </a:lnTo>
                    <a:lnTo>
                      <a:pt x="1197" y="1002"/>
                    </a:lnTo>
                    <a:lnTo>
                      <a:pt x="1119" y="994"/>
                    </a:lnTo>
                    <a:lnTo>
                      <a:pt x="1041" y="985"/>
                    </a:lnTo>
                    <a:lnTo>
                      <a:pt x="965" y="974"/>
                    </a:lnTo>
                    <a:lnTo>
                      <a:pt x="891" y="963"/>
                    </a:lnTo>
                    <a:lnTo>
                      <a:pt x="821" y="951"/>
                    </a:lnTo>
                    <a:lnTo>
                      <a:pt x="751" y="937"/>
                    </a:lnTo>
                    <a:lnTo>
                      <a:pt x="684" y="923"/>
                    </a:lnTo>
                    <a:lnTo>
                      <a:pt x="620" y="906"/>
                    </a:lnTo>
                    <a:lnTo>
                      <a:pt x="558" y="890"/>
                    </a:lnTo>
                    <a:lnTo>
                      <a:pt x="499" y="873"/>
                    </a:lnTo>
                    <a:lnTo>
                      <a:pt x="442" y="855"/>
                    </a:lnTo>
                    <a:lnTo>
                      <a:pt x="389" y="836"/>
                    </a:lnTo>
                    <a:lnTo>
                      <a:pt x="338" y="817"/>
                    </a:lnTo>
                    <a:lnTo>
                      <a:pt x="291" y="795"/>
                    </a:lnTo>
                    <a:lnTo>
                      <a:pt x="246" y="774"/>
                    </a:lnTo>
                    <a:lnTo>
                      <a:pt x="206" y="753"/>
                    </a:lnTo>
                    <a:lnTo>
                      <a:pt x="167" y="731"/>
                    </a:lnTo>
                    <a:lnTo>
                      <a:pt x="134" y="708"/>
                    </a:lnTo>
                    <a:lnTo>
                      <a:pt x="103" y="683"/>
                    </a:lnTo>
                    <a:lnTo>
                      <a:pt x="76" y="659"/>
                    </a:lnTo>
                    <a:lnTo>
                      <a:pt x="53" y="635"/>
                    </a:lnTo>
                    <a:lnTo>
                      <a:pt x="34" y="610"/>
                    </a:lnTo>
                    <a:lnTo>
                      <a:pt x="19" y="583"/>
                    </a:lnTo>
                    <a:lnTo>
                      <a:pt x="9" y="557"/>
                    </a:lnTo>
                    <a:lnTo>
                      <a:pt x="2" y="531"/>
                    </a:lnTo>
                    <a:lnTo>
                      <a:pt x="0" y="504"/>
                    </a:lnTo>
                    <a:lnTo>
                      <a:pt x="2" y="477"/>
                    </a:lnTo>
                    <a:lnTo>
                      <a:pt x="9" y="451"/>
                    </a:lnTo>
                    <a:lnTo>
                      <a:pt x="19" y="425"/>
                    </a:lnTo>
                    <a:lnTo>
                      <a:pt x="34" y="400"/>
                    </a:lnTo>
                    <a:lnTo>
                      <a:pt x="53" y="374"/>
                    </a:lnTo>
                    <a:lnTo>
                      <a:pt x="76" y="350"/>
                    </a:lnTo>
                    <a:lnTo>
                      <a:pt x="103" y="327"/>
                    </a:lnTo>
                    <a:lnTo>
                      <a:pt x="134" y="304"/>
                    </a:lnTo>
                    <a:lnTo>
                      <a:pt x="167" y="282"/>
                    </a:lnTo>
                    <a:lnTo>
                      <a:pt x="206" y="259"/>
                    </a:lnTo>
                    <a:lnTo>
                      <a:pt x="246" y="238"/>
                    </a:lnTo>
                    <a:lnTo>
                      <a:pt x="291" y="218"/>
                    </a:lnTo>
                    <a:lnTo>
                      <a:pt x="338" y="198"/>
                    </a:lnTo>
                    <a:lnTo>
                      <a:pt x="389" y="180"/>
                    </a:lnTo>
                    <a:lnTo>
                      <a:pt x="442" y="161"/>
                    </a:lnTo>
                    <a:lnTo>
                      <a:pt x="499" y="143"/>
                    </a:lnTo>
                    <a:lnTo>
                      <a:pt x="558" y="127"/>
                    </a:lnTo>
                    <a:lnTo>
                      <a:pt x="620" y="112"/>
                    </a:lnTo>
                    <a:lnTo>
                      <a:pt x="684" y="97"/>
                    </a:lnTo>
                    <a:lnTo>
                      <a:pt x="751" y="84"/>
                    </a:lnTo>
                    <a:lnTo>
                      <a:pt x="821" y="71"/>
                    </a:lnTo>
                    <a:lnTo>
                      <a:pt x="891" y="58"/>
                    </a:lnTo>
                    <a:lnTo>
                      <a:pt x="965" y="47"/>
                    </a:lnTo>
                    <a:lnTo>
                      <a:pt x="1041" y="38"/>
                    </a:lnTo>
                    <a:lnTo>
                      <a:pt x="1119" y="29"/>
                    </a:lnTo>
                    <a:lnTo>
                      <a:pt x="1197" y="21"/>
                    </a:lnTo>
                    <a:lnTo>
                      <a:pt x="1278" y="15"/>
                    </a:lnTo>
                    <a:lnTo>
                      <a:pt x="1361" y="10"/>
                    </a:lnTo>
                    <a:lnTo>
                      <a:pt x="1445" y="5"/>
                    </a:lnTo>
                    <a:lnTo>
                      <a:pt x="1530" y="2"/>
                    </a:lnTo>
                    <a:lnTo>
                      <a:pt x="1617" y="0"/>
                    </a:lnTo>
                    <a:lnTo>
                      <a:pt x="1704" y="0"/>
                    </a:lnTo>
                    <a:lnTo>
                      <a:pt x="1792" y="0"/>
                    </a:lnTo>
                    <a:lnTo>
                      <a:pt x="1879" y="2"/>
                    </a:lnTo>
                    <a:lnTo>
                      <a:pt x="1964" y="5"/>
                    </a:lnTo>
                    <a:lnTo>
                      <a:pt x="2048" y="10"/>
                    </a:lnTo>
                    <a:lnTo>
                      <a:pt x="2131" y="15"/>
                    </a:lnTo>
                    <a:lnTo>
                      <a:pt x="2211" y="21"/>
                    </a:lnTo>
                    <a:lnTo>
                      <a:pt x="2290" y="29"/>
                    </a:lnTo>
                    <a:lnTo>
                      <a:pt x="2368" y="38"/>
                    </a:lnTo>
                    <a:lnTo>
                      <a:pt x="2444" y="47"/>
                    </a:lnTo>
                    <a:lnTo>
                      <a:pt x="2517" y="58"/>
                    </a:lnTo>
                    <a:lnTo>
                      <a:pt x="2588" y="71"/>
                    </a:lnTo>
                    <a:lnTo>
                      <a:pt x="2658" y="84"/>
                    </a:lnTo>
                    <a:lnTo>
                      <a:pt x="2724" y="97"/>
                    </a:lnTo>
                    <a:lnTo>
                      <a:pt x="2789" y="112"/>
                    </a:lnTo>
                    <a:lnTo>
                      <a:pt x="2851" y="127"/>
                    </a:lnTo>
                    <a:lnTo>
                      <a:pt x="2910" y="143"/>
                    </a:lnTo>
                    <a:lnTo>
                      <a:pt x="2967" y="161"/>
                    </a:lnTo>
                    <a:lnTo>
                      <a:pt x="3020" y="180"/>
                    </a:lnTo>
                    <a:lnTo>
                      <a:pt x="3071" y="198"/>
                    </a:lnTo>
                    <a:lnTo>
                      <a:pt x="3118" y="218"/>
                    </a:lnTo>
                    <a:lnTo>
                      <a:pt x="3163" y="238"/>
                    </a:lnTo>
                    <a:lnTo>
                      <a:pt x="3203" y="259"/>
                    </a:lnTo>
                    <a:lnTo>
                      <a:pt x="3242" y="282"/>
                    </a:lnTo>
                    <a:lnTo>
                      <a:pt x="3275" y="304"/>
                    </a:lnTo>
                    <a:lnTo>
                      <a:pt x="3306" y="327"/>
                    </a:lnTo>
                    <a:lnTo>
                      <a:pt x="3332" y="350"/>
                    </a:lnTo>
                    <a:lnTo>
                      <a:pt x="3356" y="374"/>
                    </a:lnTo>
                    <a:lnTo>
                      <a:pt x="3375" y="400"/>
                    </a:lnTo>
                    <a:lnTo>
                      <a:pt x="3390" y="425"/>
                    </a:lnTo>
                    <a:lnTo>
                      <a:pt x="3400" y="451"/>
                    </a:lnTo>
                    <a:lnTo>
                      <a:pt x="3407" y="477"/>
                    </a:lnTo>
                    <a:lnTo>
                      <a:pt x="3409" y="5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960200" y="6497280"/>
                <a:ext cx="375840" cy="122040"/>
              </a:xfrm>
              <a:custGeom>
                <a:avLst/>
                <a:gdLst/>
                <a:ahLst/>
                <a:rect l="l" t="t" r="r" b="b"/>
                <a:pathLst>
                  <a:path w="3407" h="1024">
                    <a:moveTo>
                      <a:pt x="3407" y="503"/>
                    </a:moveTo>
                    <a:lnTo>
                      <a:pt x="3404" y="530"/>
                    </a:lnTo>
                    <a:lnTo>
                      <a:pt x="3398" y="556"/>
                    </a:lnTo>
                    <a:lnTo>
                      <a:pt x="3387" y="582"/>
                    </a:lnTo>
                    <a:lnTo>
                      <a:pt x="3372" y="608"/>
                    </a:lnTo>
                    <a:lnTo>
                      <a:pt x="3354" y="633"/>
                    </a:lnTo>
                    <a:lnTo>
                      <a:pt x="3330" y="658"/>
                    </a:lnTo>
                    <a:lnTo>
                      <a:pt x="3303" y="682"/>
                    </a:lnTo>
                    <a:lnTo>
                      <a:pt x="3273" y="706"/>
                    </a:lnTo>
                    <a:lnTo>
                      <a:pt x="3239" y="729"/>
                    </a:lnTo>
                    <a:lnTo>
                      <a:pt x="3201" y="751"/>
                    </a:lnTo>
                    <a:lnTo>
                      <a:pt x="3160" y="773"/>
                    </a:lnTo>
                    <a:lnTo>
                      <a:pt x="3116" y="794"/>
                    </a:lnTo>
                    <a:lnTo>
                      <a:pt x="3069" y="815"/>
                    </a:lnTo>
                    <a:lnTo>
                      <a:pt x="3018" y="835"/>
                    </a:lnTo>
                    <a:lnTo>
                      <a:pt x="2965" y="853"/>
                    </a:lnTo>
                    <a:lnTo>
                      <a:pt x="2908" y="871"/>
                    </a:lnTo>
                    <a:lnTo>
                      <a:pt x="2849" y="888"/>
                    </a:lnTo>
                    <a:lnTo>
                      <a:pt x="2787" y="905"/>
                    </a:lnTo>
                    <a:lnTo>
                      <a:pt x="2722" y="921"/>
                    </a:lnTo>
                    <a:lnTo>
                      <a:pt x="2656" y="935"/>
                    </a:lnTo>
                    <a:lnTo>
                      <a:pt x="2587" y="949"/>
                    </a:lnTo>
                    <a:lnTo>
                      <a:pt x="2515" y="961"/>
                    </a:lnTo>
                    <a:lnTo>
                      <a:pt x="2442" y="973"/>
                    </a:lnTo>
                    <a:lnTo>
                      <a:pt x="2367" y="983"/>
                    </a:lnTo>
                    <a:lnTo>
                      <a:pt x="2289" y="992"/>
                    </a:lnTo>
                    <a:lnTo>
                      <a:pt x="2210" y="1000"/>
                    </a:lnTo>
                    <a:lnTo>
                      <a:pt x="2130" y="1007"/>
                    </a:lnTo>
                    <a:lnTo>
                      <a:pt x="2047" y="1013"/>
                    </a:lnTo>
                    <a:lnTo>
                      <a:pt x="1963" y="1018"/>
                    </a:lnTo>
                    <a:lnTo>
                      <a:pt x="1878" y="1021"/>
                    </a:lnTo>
                    <a:lnTo>
                      <a:pt x="1791" y="1024"/>
                    </a:lnTo>
                    <a:lnTo>
                      <a:pt x="1703" y="1024"/>
                    </a:lnTo>
                    <a:lnTo>
                      <a:pt x="1616" y="1024"/>
                    </a:lnTo>
                    <a:lnTo>
                      <a:pt x="1530" y="1021"/>
                    </a:lnTo>
                    <a:lnTo>
                      <a:pt x="1444" y="1018"/>
                    </a:lnTo>
                    <a:lnTo>
                      <a:pt x="1360" y="1013"/>
                    </a:lnTo>
                    <a:lnTo>
                      <a:pt x="1278" y="1007"/>
                    </a:lnTo>
                    <a:lnTo>
                      <a:pt x="1196" y="1000"/>
                    </a:lnTo>
                    <a:lnTo>
                      <a:pt x="1118" y="992"/>
                    </a:lnTo>
                    <a:lnTo>
                      <a:pt x="1041" y="983"/>
                    </a:lnTo>
                    <a:lnTo>
                      <a:pt x="965" y="973"/>
                    </a:lnTo>
                    <a:lnTo>
                      <a:pt x="891" y="961"/>
                    </a:lnTo>
                    <a:lnTo>
                      <a:pt x="820" y="949"/>
                    </a:lnTo>
                    <a:lnTo>
                      <a:pt x="751" y="935"/>
                    </a:lnTo>
                    <a:lnTo>
                      <a:pt x="684" y="921"/>
                    </a:lnTo>
                    <a:lnTo>
                      <a:pt x="620" y="905"/>
                    </a:lnTo>
                    <a:lnTo>
                      <a:pt x="558" y="888"/>
                    </a:lnTo>
                    <a:lnTo>
                      <a:pt x="499" y="871"/>
                    </a:lnTo>
                    <a:lnTo>
                      <a:pt x="443" y="853"/>
                    </a:lnTo>
                    <a:lnTo>
                      <a:pt x="390" y="835"/>
                    </a:lnTo>
                    <a:lnTo>
                      <a:pt x="338" y="815"/>
                    </a:lnTo>
                    <a:lnTo>
                      <a:pt x="291" y="794"/>
                    </a:lnTo>
                    <a:lnTo>
                      <a:pt x="247" y="773"/>
                    </a:lnTo>
                    <a:lnTo>
                      <a:pt x="206" y="751"/>
                    </a:lnTo>
                    <a:lnTo>
                      <a:pt x="168" y="729"/>
                    </a:lnTo>
                    <a:lnTo>
                      <a:pt x="134" y="706"/>
                    </a:lnTo>
                    <a:lnTo>
                      <a:pt x="104" y="682"/>
                    </a:lnTo>
                    <a:lnTo>
                      <a:pt x="76" y="658"/>
                    </a:lnTo>
                    <a:lnTo>
                      <a:pt x="53" y="633"/>
                    </a:lnTo>
                    <a:lnTo>
                      <a:pt x="35" y="608"/>
                    </a:lnTo>
                    <a:lnTo>
                      <a:pt x="20" y="582"/>
                    </a:lnTo>
                    <a:lnTo>
                      <a:pt x="9" y="556"/>
                    </a:lnTo>
                    <a:lnTo>
                      <a:pt x="3" y="530"/>
                    </a:lnTo>
                    <a:lnTo>
                      <a:pt x="0" y="503"/>
                    </a:lnTo>
                    <a:lnTo>
                      <a:pt x="3" y="476"/>
                    </a:lnTo>
                    <a:lnTo>
                      <a:pt x="9" y="450"/>
                    </a:lnTo>
                    <a:lnTo>
                      <a:pt x="20" y="424"/>
                    </a:lnTo>
                    <a:lnTo>
                      <a:pt x="35" y="399"/>
                    </a:lnTo>
                    <a:lnTo>
                      <a:pt x="53" y="374"/>
                    </a:lnTo>
                    <a:lnTo>
                      <a:pt x="76" y="349"/>
                    </a:lnTo>
                    <a:lnTo>
                      <a:pt x="104" y="326"/>
                    </a:lnTo>
                    <a:lnTo>
                      <a:pt x="134" y="303"/>
                    </a:lnTo>
                    <a:lnTo>
                      <a:pt x="168" y="281"/>
                    </a:lnTo>
                    <a:lnTo>
                      <a:pt x="206" y="258"/>
                    </a:lnTo>
                    <a:lnTo>
                      <a:pt x="247" y="238"/>
                    </a:lnTo>
                    <a:lnTo>
                      <a:pt x="291" y="217"/>
                    </a:lnTo>
                    <a:lnTo>
                      <a:pt x="338" y="198"/>
                    </a:lnTo>
                    <a:lnTo>
                      <a:pt x="390" y="179"/>
                    </a:lnTo>
                    <a:lnTo>
                      <a:pt x="443" y="160"/>
                    </a:lnTo>
                    <a:lnTo>
                      <a:pt x="499" y="143"/>
                    </a:lnTo>
                    <a:lnTo>
                      <a:pt x="558" y="127"/>
                    </a:lnTo>
                    <a:lnTo>
                      <a:pt x="620" y="111"/>
                    </a:lnTo>
                    <a:lnTo>
                      <a:pt x="684" y="97"/>
                    </a:lnTo>
                    <a:lnTo>
                      <a:pt x="751" y="83"/>
                    </a:lnTo>
                    <a:lnTo>
                      <a:pt x="820" y="71"/>
                    </a:lnTo>
                    <a:lnTo>
                      <a:pt x="891" y="58"/>
                    </a:lnTo>
                    <a:lnTo>
                      <a:pt x="965" y="47"/>
                    </a:lnTo>
                    <a:lnTo>
                      <a:pt x="1041" y="38"/>
                    </a:lnTo>
                    <a:lnTo>
                      <a:pt x="1118" y="29"/>
                    </a:lnTo>
                    <a:lnTo>
                      <a:pt x="1196" y="21"/>
                    </a:lnTo>
                    <a:lnTo>
                      <a:pt x="1278" y="15"/>
                    </a:lnTo>
                    <a:lnTo>
                      <a:pt x="1360" y="9"/>
                    </a:lnTo>
                    <a:lnTo>
                      <a:pt x="1444" y="5"/>
                    </a:lnTo>
                    <a:lnTo>
                      <a:pt x="1530" y="2"/>
                    </a:lnTo>
                    <a:lnTo>
                      <a:pt x="1616" y="0"/>
                    </a:lnTo>
                    <a:lnTo>
                      <a:pt x="1703" y="0"/>
                    </a:lnTo>
                    <a:lnTo>
                      <a:pt x="1791" y="0"/>
                    </a:lnTo>
                    <a:lnTo>
                      <a:pt x="1878" y="2"/>
                    </a:lnTo>
                    <a:lnTo>
                      <a:pt x="1963" y="5"/>
                    </a:lnTo>
                    <a:lnTo>
                      <a:pt x="2047" y="9"/>
                    </a:lnTo>
                    <a:lnTo>
                      <a:pt x="2130" y="15"/>
                    </a:lnTo>
                    <a:lnTo>
                      <a:pt x="2210" y="21"/>
                    </a:lnTo>
                    <a:lnTo>
                      <a:pt x="2289" y="29"/>
                    </a:lnTo>
                    <a:lnTo>
                      <a:pt x="2367" y="38"/>
                    </a:lnTo>
                    <a:lnTo>
                      <a:pt x="2442" y="47"/>
                    </a:lnTo>
                    <a:lnTo>
                      <a:pt x="2515" y="58"/>
                    </a:lnTo>
                    <a:lnTo>
                      <a:pt x="2587" y="71"/>
                    </a:lnTo>
                    <a:lnTo>
                      <a:pt x="2656" y="83"/>
                    </a:lnTo>
                    <a:lnTo>
                      <a:pt x="2722" y="97"/>
                    </a:lnTo>
                    <a:lnTo>
                      <a:pt x="2787" y="111"/>
                    </a:lnTo>
                    <a:lnTo>
                      <a:pt x="2849" y="127"/>
                    </a:lnTo>
                    <a:lnTo>
                      <a:pt x="2908" y="143"/>
                    </a:lnTo>
                    <a:lnTo>
                      <a:pt x="2965" y="160"/>
                    </a:lnTo>
                    <a:lnTo>
                      <a:pt x="3018" y="179"/>
                    </a:lnTo>
                    <a:lnTo>
                      <a:pt x="3069" y="198"/>
                    </a:lnTo>
                    <a:lnTo>
                      <a:pt x="3116" y="217"/>
                    </a:lnTo>
                    <a:lnTo>
                      <a:pt x="3160" y="238"/>
                    </a:lnTo>
                    <a:lnTo>
                      <a:pt x="3201" y="258"/>
                    </a:lnTo>
                    <a:lnTo>
                      <a:pt x="3239" y="281"/>
                    </a:lnTo>
                    <a:lnTo>
                      <a:pt x="3273" y="303"/>
                    </a:lnTo>
                    <a:lnTo>
                      <a:pt x="3303" y="326"/>
                    </a:lnTo>
                    <a:lnTo>
                      <a:pt x="3330" y="349"/>
                    </a:lnTo>
                    <a:lnTo>
                      <a:pt x="3354" y="374"/>
                    </a:lnTo>
                    <a:lnTo>
                      <a:pt x="3372" y="399"/>
                    </a:lnTo>
                    <a:lnTo>
                      <a:pt x="3387" y="424"/>
                    </a:lnTo>
                    <a:lnTo>
                      <a:pt x="3398" y="450"/>
                    </a:lnTo>
                    <a:lnTo>
                      <a:pt x="3404" y="476"/>
                    </a:lnTo>
                    <a:lnTo>
                      <a:pt x="3407" y="5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60200" y="6497280"/>
                <a:ext cx="375840" cy="122040"/>
              </a:xfrm>
              <a:custGeom>
                <a:avLst/>
                <a:gdLst/>
                <a:ahLst/>
                <a:rect l="l" t="t" r="r" b="b"/>
                <a:pathLst>
                  <a:path w="3403" h="1022">
                    <a:moveTo>
                      <a:pt x="3403" y="502"/>
                    </a:moveTo>
                    <a:lnTo>
                      <a:pt x="3401" y="529"/>
                    </a:lnTo>
                    <a:lnTo>
                      <a:pt x="3395" y="555"/>
                    </a:lnTo>
                    <a:lnTo>
                      <a:pt x="3384" y="581"/>
                    </a:lnTo>
                    <a:lnTo>
                      <a:pt x="3369" y="607"/>
                    </a:lnTo>
                    <a:lnTo>
                      <a:pt x="3350" y="632"/>
                    </a:lnTo>
                    <a:lnTo>
                      <a:pt x="3327" y="657"/>
                    </a:lnTo>
                    <a:lnTo>
                      <a:pt x="3300" y="680"/>
                    </a:lnTo>
                    <a:lnTo>
                      <a:pt x="3270" y="705"/>
                    </a:lnTo>
                    <a:lnTo>
                      <a:pt x="3236" y="728"/>
                    </a:lnTo>
                    <a:lnTo>
                      <a:pt x="3198" y="750"/>
                    </a:lnTo>
                    <a:lnTo>
                      <a:pt x="3157" y="771"/>
                    </a:lnTo>
                    <a:lnTo>
                      <a:pt x="3112" y="792"/>
                    </a:lnTo>
                    <a:lnTo>
                      <a:pt x="3065" y="814"/>
                    </a:lnTo>
                    <a:lnTo>
                      <a:pt x="3014" y="833"/>
                    </a:lnTo>
                    <a:lnTo>
                      <a:pt x="2961" y="852"/>
                    </a:lnTo>
                    <a:lnTo>
                      <a:pt x="2905" y="870"/>
                    </a:lnTo>
                    <a:lnTo>
                      <a:pt x="2846" y="887"/>
                    </a:lnTo>
                    <a:lnTo>
                      <a:pt x="2784" y="903"/>
                    </a:lnTo>
                    <a:lnTo>
                      <a:pt x="2719" y="919"/>
                    </a:lnTo>
                    <a:lnTo>
                      <a:pt x="2653" y="934"/>
                    </a:lnTo>
                    <a:lnTo>
                      <a:pt x="2584" y="947"/>
                    </a:lnTo>
                    <a:lnTo>
                      <a:pt x="2512" y="959"/>
                    </a:lnTo>
                    <a:lnTo>
                      <a:pt x="2440" y="971"/>
                    </a:lnTo>
                    <a:lnTo>
                      <a:pt x="2364" y="981"/>
                    </a:lnTo>
                    <a:lnTo>
                      <a:pt x="2286" y="990"/>
                    </a:lnTo>
                    <a:lnTo>
                      <a:pt x="2207" y="998"/>
                    </a:lnTo>
                    <a:lnTo>
                      <a:pt x="2127" y="1005"/>
                    </a:lnTo>
                    <a:lnTo>
                      <a:pt x="2045" y="1011"/>
                    </a:lnTo>
                    <a:lnTo>
                      <a:pt x="1961" y="1016"/>
                    </a:lnTo>
                    <a:lnTo>
                      <a:pt x="1875" y="1019"/>
                    </a:lnTo>
                    <a:lnTo>
                      <a:pt x="1789" y="1022"/>
                    </a:lnTo>
                    <a:lnTo>
                      <a:pt x="1701" y="1022"/>
                    </a:lnTo>
                    <a:lnTo>
                      <a:pt x="1614" y="1022"/>
                    </a:lnTo>
                    <a:lnTo>
                      <a:pt x="1528" y="1019"/>
                    </a:lnTo>
                    <a:lnTo>
                      <a:pt x="1442" y="1016"/>
                    </a:lnTo>
                    <a:lnTo>
                      <a:pt x="1358" y="1011"/>
                    </a:lnTo>
                    <a:lnTo>
                      <a:pt x="1276" y="1005"/>
                    </a:lnTo>
                    <a:lnTo>
                      <a:pt x="1195" y="998"/>
                    </a:lnTo>
                    <a:lnTo>
                      <a:pt x="1117" y="990"/>
                    </a:lnTo>
                    <a:lnTo>
                      <a:pt x="1039" y="981"/>
                    </a:lnTo>
                    <a:lnTo>
                      <a:pt x="963" y="971"/>
                    </a:lnTo>
                    <a:lnTo>
                      <a:pt x="890" y="959"/>
                    </a:lnTo>
                    <a:lnTo>
                      <a:pt x="819" y="947"/>
                    </a:lnTo>
                    <a:lnTo>
                      <a:pt x="750" y="934"/>
                    </a:lnTo>
                    <a:lnTo>
                      <a:pt x="683" y="919"/>
                    </a:lnTo>
                    <a:lnTo>
                      <a:pt x="619" y="903"/>
                    </a:lnTo>
                    <a:lnTo>
                      <a:pt x="557" y="887"/>
                    </a:lnTo>
                    <a:lnTo>
                      <a:pt x="498" y="870"/>
                    </a:lnTo>
                    <a:lnTo>
                      <a:pt x="442" y="852"/>
                    </a:lnTo>
                    <a:lnTo>
                      <a:pt x="389" y="833"/>
                    </a:lnTo>
                    <a:lnTo>
                      <a:pt x="338" y="814"/>
                    </a:lnTo>
                    <a:lnTo>
                      <a:pt x="291" y="792"/>
                    </a:lnTo>
                    <a:lnTo>
                      <a:pt x="246" y="771"/>
                    </a:lnTo>
                    <a:lnTo>
                      <a:pt x="205" y="750"/>
                    </a:lnTo>
                    <a:lnTo>
                      <a:pt x="167" y="728"/>
                    </a:lnTo>
                    <a:lnTo>
                      <a:pt x="133" y="705"/>
                    </a:lnTo>
                    <a:lnTo>
                      <a:pt x="103" y="680"/>
                    </a:lnTo>
                    <a:lnTo>
                      <a:pt x="76" y="657"/>
                    </a:lnTo>
                    <a:lnTo>
                      <a:pt x="53" y="632"/>
                    </a:lnTo>
                    <a:lnTo>
                      <a:pt x="34" y="607"/>
                    </a:lnTo>
                    <a:lnTo>
                      <a:pt x="19" y="581"/>
                    </a:lnTo>
                    <a:lnTo>
                      <a:pt x="9" y="555"/>
                    </a:lnTo>
                    <a:lnTo>
                      <a:pt x="2" y="529"/>
                    </a:lnTo>
                    <a:lnTo>
                      <a:pt x="0" y="502"/>
                    </a:lnTo>
                    <a:lnTo>
                      <a:pt x="2" y="475"/>
                    </a:lnTo>
                    <a:lnTo>
                      <a:pt x="9" y="449"/>
                    </a:lnTo>
                    <a:lnTo>
                      <a:pt x="19" y="423"/>
                    </a:lnTo>
                    <a:lnTo>
                      <a:pt x="34" y="398"/>
                    </a:lnTo>
                    <a:lnTo>
                      <a:pt x="53" y="373"/>
                    </a:lnTo>
                    <a:lnTo>
                      <a:pt x="76" y="349"/>
                    </a:lnTo>
                    <a:lnTo>
                      <a:pt x="103" y="325"/>
                    </a:lnTo>
                    <a:lnTo>
                      <a:pt x="133" y="303"/>
                    </a:lnTo>
                    <a:lnTo>
                      <a:pt x="167" y="280"/>
                    </a:lnTo>
                    <a:lnTo>
                      <a:pt x="205" y="258"/>
                    </a:lnTo>
                    <a:lnTo>
                      <a:pt x="246" y="237"/>
                    </a:lnTo>
                    <a:lnTo>
                      <a:pt x="291" y="217"/>
                    </a:lnTo>
                    <a:lnTo>
                      <a:pt x="338" y="197"/>
                    </a:lnTo>
                    <a:lnTo>
                      <a:pt x="389" y="179"/>
                    </a:lnTo>
                    <a:lnTo>
                      <a:pt x="442" y="160"/>
                    </a:lnTo>
                    <a:lnTo>
                      <a:pt x="498" y="143"/>
                    </a:lnTo>
                    <a:lnTo>
                      <a:pt x="557" y="127"/>
                    </a:lnTo>
                    <a:lnTo>
                      <a:pt x="619" y="111"/>
                    </a:lnTo>
                    <a:lnTo>
                      <a:pt x="683" y="97"/>
                    </a:lnTo>
                    <a:lnTo>
                      <a:pt x="750" y="83"/>
                    </a:lnTo>
                    <a:lnTo>
                      <a:pt x="819" y="70"/>
                    </a:lnTo>
                    <a:lnTo>
                      <a:pt x="890" y="59"/>
                    </a:lnTo>
                    <a:lnTo>
                      <a:pt x="963" y="47"/>
                    </a:lnTo>
                    <a:lnTo>
                      <a:pt x="1039" y="37"/>
                    </a:lnTo>
                    <a:lnTo>
                      <a:pt x="1117" y="29"/>
                    </a:lnTo>
                    <a:lnTo>
                      <a:pt x="1195" y="21"/>
                    </a:lnTo>
                    <a:lnTo>
                      <a:pt x="1276" y="15"/>
                    </a:lnTo>
                    <a:lnTo>
                      <a:pt x="1358" y="9"/>
                    </a:lnTo>
                    <a:lnTo>
                      <a:pt x="1442" y="5"/>
                    </a:lnTo>
                    <a:lnTo>
                      <a:pt x="1528" y="2"/>
                    </a:lnTo>
                    <a:lnTo>
                      <a:pt x="1614" y="0"/>
                    </a:lnTo>
                    <a:lnTo>
                      <a:pt x="1701" y="0"/>
                    </a:lnTo>
                    <a:lnTo>
                      <a:pt x="1789" y="0"/>
                    </a:lnTo>
                    <a:lnTo>
                      <a:pt x="1875" y="2"/>
                    </a:lnTo>
                    <a:lnTo>
                      <a:pt x="1961" y="5"/>
                    </a:lnTo>
                    <a:lnTo>
                      <a:pt x="2045" y="9"/>
                    </a:lnTo>
                    <a:lnTo>
                      <a:pt x="2127" y="15"/>
                    </a:lnTo>
                    <a:lnTo>
                      <a:pt x="2207" y="21"/>
                    </a:lnTo>
                    <a:lnTo>
                      <a:pt x="2286" y="29"/>
                    </a:lnTo>
                    <a:lnTo>
                      <a:pt x="2364" y="37"/>
                    </a:lnTo>
                    <a:lnTo>
                      <a:pt x="2440" y="47"/>
                    </a:lnTo>
                    <a:lnTo>
                      <a:pt x="2512" y="59"/>
                    </a:lnTo>
                    <a:lnTo>
                      <a:pt x="2584" y="70"/>
                    </a:lnTo>
                    <a:lnTo>
                      <a:pt x="2653" y="83"/>
                    </a:lnTo>
                    <a:lnTo>
                      <a:pt x="2719" y="97"/>
                    </a:lnTo>
                    <a:lnTo>
                      <a:pt x="2784" y="111"/>
                    </a:lnTo>
                    <a:lnTo>
                      <a:pt x="2846" y="127"/>
                    </a:lnTo>
                    <a:lnTo>
                      <a:pt x="2905" y="143"/>
                    </a:lnTo>
                    <a:lnTo>
                      <a:pt x="2961" y="160"/>
                    </a:lnTo>
                    <a:lnTo>
                      <a:pt x="3014" y="179"/>
                    </a:lnTo>
                    <a:lnTo>
                      <a:pt x="3065" y="197"/>
                    </a:lnTo>
                    <a:lnTo>
                      <a:pt x="3112" y="217"/>
                    </a:lnTo>
                    <a:lnTo>
                      <a:pt x="3157" y="237"/>
                    </a:lnTo>
                    <a:lnTo>
                      <a:pt x="3198" y="258"/>
                    </a:lnTo>
                    <a:lnTo>
                      <a:pt x="3236" y="280"/>
                    </a:lnTo>
                    <a:lnTo>
                      <a:pt x="3270" y="303"/>
                    </a:lnTo>
                    <a:lnTo>
                      <a:pt x="3300" y="325"/>
                    </a:lnTo>
                    <a:lnTo>
                      <a:pt x="3327" y="349"/>
                    </a:lnTo>
                    <a:lnTo>
                      <a:pt x="3350" y="373"/>
                    </a:lnTo>
                    <a:lnTo>
                      <a:pt x="3369" y="398"/>
                    </a:lnTo>
                    <a:lnTo>
                      <a:pt x="3384" y="423"/>
                    </a:lnTo>
                    <a:lnTo>
                      <a:pt x="3395" y="449"/>
                    </a:lnTo>
                    <a:lnTo>
                      <a:pt x="3401" y="475"/>
                    </a:lnTo>
                    <a:lnTo>
                      <a:pt x="3403" y="5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960200" y="6497280"/>
                <a:ext cx="375840" cy="122040"/>
              </a:xfrm>
              <a:custGeom>
                <a:avLst/>
                <a:gdLst/>
                <a:ahLst/>
                <a:rect l="l" t="t" r="r" b="b"/>
                <a:pathLst>
                  <a:path w="3401" h="1021">
                    <a:moveTo>
                      <a:pt x="3401" y="501"/>
                    </a:moveTo>
                    <a:lnTo>
                      <a:pt x="3399" y="528"/>
                    </a:lnTo>
                    <a:lnTo>
                      <a:pt x="3392" y="554"/>
                    </a:lnTo>
                    <a:lnTo>
                      <a:pt x="3381" y="580"/>
                    </a:lnTo>
                    <a:lnTo>
                      <a:pt x="3367" y="606"/>
                    </a:lnTo>
                    <a:lnTo>
                      <a:pt x="3348" y="631"/>
                    </a:lnTo>
                    <a:lnTo>
                      <a:pt x="3324" y="655"/>
                    </a:lnTo>
                    <a:lnTo>
                      <a:pt x="3298" y="679"/>
                    </a:lnTo>
                    <a:lnTo>
                      <a:pt x="3268" y="704"/>
                    </a:lnTo>
                    <a:lnTo>
                      <a:pt x="3234" y="726"/>
                    </a:lnTo>
                    <a:lnTo>
                      <a:pt x="3196" y="748"/>
                    </a:lnTo>
                    <a:lnTo>
                      <a:pt x="3155" y="770"/>
                    </a:lnTo>
                    <a:lnTo>
                      <a:pt x="3110" y="791"/>
                    </a:lnTo>
                    <a:lnTo>
                      <a:pt x="3063" y="812"/>
                    </a:lnTo>
                    <a:lnTo>
                      <a:pt x="3012" y="831"/>
                    </a:lnTo>
                    <a:lnTo>
                      <a:pt x="2959" y="850"/>
                    </a:lnTo>
                    <a:lnTo>
                      <a:pt x="2903" y="868"/>
                    </a:lnTo>
                    <a:lnTo>
                      <a:pt x="2844" y="885"/>
                    </a:lnTo>
                    <a:lnTo>
                      <a:pt x="2782" y="901"/>
                    </a:lnTo>
                    <a:lnTo>
                      <a:pt x="2717" y="917"/>
                    </a:lnTo>
                    <a:lnTo>
                      <a:pt x="2651" y="932"/>
                    </a:lnTo>
                    <a:lnTo>
                      <a:pt x="2582" y="945"/>
                    </a:lnTo>
                    <a:lnTo>
                      <a:pt x="2511" y="958"/>
                    </a:lnTo>
                    <a:lnTo>
                      <a:pt x="2438" y="969"/>
                    </a:lnTo>
                    <a:lnTo>
                      <a:pt x="2362" y="979"/>
                    </a:lnTo>
                    <a:lnTo>
                      <a:pt x="2285" y="988"/>
                    </a:lnTo>
                    <a:lnTo>
                      <a:pt x="2206" y="996"/>
                    </a:lnTo>
                    <a:lnTo>
                      <a:pt x="2126" y="1003"/>
                    </a:lnTo>
                    <a:lnTo>
                      <a:pt x="2043" y="1009"/>
                    </a:lnTo>
                    <a:lnTo>
                      <a:pt x="1959" y="1014"/>
                    </a:lnTo>
                    <a:lnTo>
                      <a:pt x="1874" y="1017"/>
                    </a:lnTo>
                    <a:lnTo>
                      <a:pt x="1788" y="1019"/>
                    </a:lnTo>
                    <a:lnTo>
                      <a:pt x="1700" y="1021"/>
                    </a:lnTo>
                    <a:lnTo>
                      <a:pt x="1613" y="1019"/>
                    </a:lnTo>
                    <a:lnTo>
                      <a:pt x="1527" y="1017"/>
                    </a:lnTo>
                    <a:lnTo>
                      <a:pt x="1442" y="1014"/>
                    </a:lnTo>
                    <a:lnTo>
                      <a:pt x="1358" y="1009"/>
                    </a:lnTo>
                    <a:lnTo>
                      <a:pt x="1275" y="1003"/>
                    </a:lnTo>
                    <a:lnTo>
                      <a:pt x="1194" y="996"/>
                    </a:lnTo>
                    <a:lnTo>
                      <a:pt x="1116" y="988"/>
                    </a:lnTo>
                    <a:lnTo>
                      <a:pt x="1039" y="979"/>
                    </a:lnTo>
                    <a:lnTo>
                      <a:pt x="963" y="969"/>
                    </a:lnTo>
                    <a:lnTo>
                      <a:pt x="889" y="958"/>
                    </a:lnTo>
                    <a:lnTo>
                      <a:pt x="819" y="945"/>
                    </a:lnTo>
                    <a:lnTo>
                      <a:pt x="750" y="932"/>
                    </a:lnTo>
                    <a:lnTo>
                      <a:pt x="683" y="917"/>
                    </a:lnTo>
                    <a:lnTo>
                      <a:pt x="619" y="901"/>
                    </a:lnTo>
                    <a:lnTo>
                      <a:pt x="557" y="885"/>
                    </a:lnTo>
                    <a:lnTo>
                      <a:pt x="498" y="868"/>
                    </a:lnTo>
                    <a:lnTo>
                      <a:pt x="442" y="850"/>
                    </a:lnTo>
                    <a:lnTo>
                      <a:pt x="389" y="831"/>
                    </a:lnTo>
                    <a:lnTo>
                      <a:pt x="338" y="812"/>
                    </a:lnTo>
                    <a:lnTo>
                      <a:pt x="291" y="791"/>
                    </a:lnTo>
                    <a:lnTo>
                      <a:pt x="246" y="770"/>
                    </a:lnTo>
                    <a:lnTo>
                      <a:pt x="205" y="748"/>
                    </a:lnTo>
                    <a:lnTo>
                      <a:pt x="167" y="726"/>
                    </a:lnTo>
                    <a:lnTo>
                      <a:pt x="134" y="704"/>
                    </a:lnTo>
                    <a:lnTo>
                      <a:pt x="103" y="679"/>
                    </a:lnTo>
                    <a:lnTo>
                      <a:pt x="76" y="655"/>
                    </a:lnTo>
                    <a:lnTo>
                      <a:pt x="53" y="631"/>
                    </a:lnTo>
                    <a:lnTo>
                      <a:pt x="34" y="606"/>
                    </a:lnTo>
                    <a:lnTo>
                      <a:pt x="20" y="580"/>
                    </a:lnTo>
                    <a:lnTo>
                      <a:pt x="9" y="554"/>
                    </a:lnTo>
                    <a:lnTo>
                      <a:pt x="2" y="528"/>
                    </a:lnTo>
                    <a:lnTo>
                      <a:pt x="0" y="501"/>
                    </a:lnTo>
                    <a:lnTo>
                      <a:pt x="2" y="474"/>
                    </a:lnTo>
                    <a:lnTo>
                      <a:pt x="9" y="448"/>
                    </a:lnTo>
                    <a:lnTo>
                      <a:pt x="20" y="422"/>
                    </a:lnTo>
                    <a:lnTo>
                      <a:pt x="34" y="397"/>
                    </a:lnTo>
                    <a:lnTo>
                      <a:pt x="53" y="372"/>
                    </a:lnTo>
                    <a:lnTo>
                      <a:pt x="76" y="348"/>
                    </a:lnTo>
                    <a:lnTo>
                      <a:pt x="103" y="325"/>
                    </a:lnTo>
                    <a:lnTo>
                      <a:pt x="134" y="302"/>
                    </a:lnTo>
                    <a:lnTo>
                      <a:pt x="167" y="280"/>
                    </a:lnTo>
                    <a:lnTo>
                      <a:pt x="205" y="257"/>
                    </a:lnTo>
                    <a:lnTo>
                      <a:pt x="246" y="236"/>
                    </a:lnTo>
                    <a:lnTo>
                      <a:pt x="291" y="216"/>
                    </a:lnTo>
                    <a:lnTo>
                      <a:pt x="338" y="197"/>
                    </a:lnTo>
                    <a:lnTo>
                      <a:pt x="389" y="178"/>
                    </a:lnTo>
                    <a:lnTo>
                      <a:pt x="442" y="160"/>
                    </a:lnTo>
                    <a:lnTo>
                      <a:pt x="498" y="142"/>
                    </a:lnTo>
                    <a:lnTo>
                      <a:pt x="557" y="126"/>
                    </a:lnTo>
                    <a:lnTo>
                      <a:pt x="619" y="111"/>
                    </a:lnTo>
                    <a:lnTo>
                      <a:pt x="683" y="96"/>
                    </a:lnTo>
                    <a:lnTo>
                      <a:pt x="750" y="83"/>
                    </a:lnTo>
                    <a:lnTo>
                      <a:pt x="819" y="70"/>
                    </a:lnTo>
                    <a:lnTo>
                      <a:pt x="889" y="59"/>
                    </a:lnTo>
                    <a:lnTo>
                      <a:pt x="963" y="47"/>
                    </a:lnTo>
                    <a:lnTo>
                      <a:pt x="1039" y="37"/>
                    </a:lnTo>
                    <a:lnTo>
                      <a:pt x="1116" y="29"/>
                    </a:lnTo>
                    <a:lnTo>
                      <a:pt x="1194" y="21"/>
                    </a:lnTo>
                    <a:lnTo>
                      <a:pt x="1275" y="15"/>
                    </a:lnTo>
                    <a:lnTo>
                      <a:pt x="1358" y="9"/>
                    </a:lnTo>
                    <a:lnTo>
                      <a:pt x="1442" y="5"/>
                    </a:lnTo>
                    <a:lnTo>
                      <a:pt x="1527" y="2"/>
                    </a:lnTo>
                    <a:lnTo>
                      <a:pt x="1613" y="0"/>
                    </a:lnTo>
                    <a:lnTo>
                      <a:pt x="1700" y="0"/>
                    </a:lnTo>
                    <a:lnTo>
                      <a:pt x="1788" y="0"/>
                    </a:lnTo>
                    <a:lnTo>
                      <a:pt x="1874" y="2"/>
                    </a:lnTo>
                    <a:lnTo>
                      <a:pt x="1959" y="5"/>
                    </a:lnTo>
                    <a:lnTo>
                      <a:pt x="2043" y="9"/>
                    </a:lnTo>
                    <a:lnTo>
                      <a:pt x="2126" y="15"/>
                    </a:lnTo>
                    <a:lnTo>
                      <a:pt x="2206" y="21"/>
                    </a:lnTo>
                    <a:lnTo>
                      <a:pt x="2285" y="29"/>
                    </a:lnTo>
                    <a:lnTo>
                      <a:pt x="2362" y="37"/>
                    </a:lnTo>
                    <a:lnTo>
                      <a:pt x="2438" y="47"/>
                    </a:lnTo>
                    <a:lnTo>
                      <a:pt x="2511" y="59"/>
                    </a:lnTo>
                    <a:lnTo>
                      <a:pt x="2582" y="70"/>
                    </a:lnTo>
                    <a:lnTo>
                      <a:pt x="2651" y="83"/>
                    </a:lnTo>
                    <a:lnTo>
                      <a:pt x="2717" y="96"/>
                    </a:lnTo>
                    <a:lnTo>
                      <a:pt x="2782" y="111"/>
                    </a:lnTo>
                    <a:lnTo>
                      <a:pt x="2844" y="126"/>
                    </a:lnTo>
                    <a:lnTo>
                      <a:pt x="2903" y="142"/>
                    </a:lnTo>
                    <a:lnTo>
                      <a:pt x="2959" y="160"/>
                    </a:lnTo>
                    <a:lnTo>
                      <a:pt x="3012" y="178"/>
                    </a:lnTo>
                    <a:lnTo>
                      <a:pt x="3063" y="197"/>
                    </a:lnTo>
                    <a:lnTo>
                      <a:pt x="3110" y="216"/>
                    </a:lnTo>
                    <a:lnTo>
                      <a:pt x="3155" y="236"/>
                    </a:lnTo>
                    <a:lnTo>
                      <a:pt x="3196" y="257"/>
                    </a:lnTo>
                    <a:lnTo>
                      <a:pt x="3234" y="280"/>
                    </a:lnTo>
                    <a:lnTo>
                      <a:pt x="3268" y="302"/>
                    </a:lnTo>
                    <a:lnTo>
                      <a:pt x="3298" y="325"/>
                    </a:lnTo>
                    <a:lnTo>
                      <a:pt x="3324" y="348"/>
                    </a:lnTo>
                    <a:lnTo>
                      <a:pt x="3348" y="372"/>
                    </a:lnTo>
                    <a:lnTo>
                      <a:pt x="3367" y="397"/>
                    </a:lnTo>
                    <a:lnTo>
                      <a:pt x="3381" y="422"/>
                    </a:lnTo>
                    <a:lnTo>
                      <a:pt x="3392" y="448"/>
                    </a:lnTo>
                    <a:lnTo>
                      <a:pt x="3399" y="474"/>
                    </a:lnTo>
                    <a:lnTo>
                      <a:pt x="3401" y="5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961280" y="6498360"/>
                <a:ext cx="373680" cy="120960"/>
              </a:xfrm>
              <a:custGeom>
                <a:avLst/>
                <a:gdLst/>
                <a:ahLst/>
                <a:rect l="l" t="t" r="r" b="b"/>
                <a:pathLst>
                  <a:path w="3397" h="1018">
                    <a:moveTo>
                      <a:pt x="3397" y="500"/>
                    </a:moveTo>
                    <a:lnTo>
                      <a:pt x="3395" y="527"/>
                    </a:lnTo>
                    <a:lnTo>
                      <a:pt x="3389" y="553"/>
                    </a:lnTo>
                    <a:lnTo>
                      <a:pt x="3378" y="579"/>
                    </a:lnTo>
                    <a:lnTo>
                      <a:pt x="3363" y="605"/>
                    </a:lnTo>
                    <a:lnTo>
                      <a:pt x="3344" y="630"/>
                    </a:lnTo>
                    <a:lnTo>
                      <a:pt x="3321" y="654"/>
                    </a:lnTo>
                    <a:lnTo>
                      <a:pt x="3294" y="678"/>
                    </a:lnTo>
                    <a:lnTo>
                      <a:pt x="3264" y="702"/>
                    </a:lnTo>
                    <a:lnTo>
                      <a:pt x="3231" y="725"/>
                    </a:lnTo>
                    <a:lnTo>
                      <a:pt x="3192" y="747"/>
                    </a:lnTo>
                    <a:lnTo>
                      <a:pt x="3152" y="769"/>
                    </a:lnTo>
                    <a:lnTo>
                      <a:pt x="3107" y="789"/>
                    </a:lnTo>
                    <a:lnTo>
                      <a:pt x="3060" y="810"/>
                    </a:lnTo>
                    <a:lnTo>
                      <a:pt x="3009" y="830"/>
                    </a:lnTo>
                    <a:lnTo>
                      <a:pt x="2956" y="848"/>
                    </a:lnTo>
                    <a:lnTo>
                      <a:pt x="2900" y="866"/>
                    </a:lnTo>
                    <a:lnTo>
                      <a:pt x="2841" y="883"/>
                    </a:lnTo>
                    <a:lnTo>
                      <a:pt x="2779" y="899"/>
                    </a:lnTo>
                    <a:lnTo>
                      <a:pt x="2715" y="916"/>
                    </a:lnTo>
                    <a:lnTo>
                      <a:pt x="2649" y="930"/>
                    </a:lnTo>
                    <a:lnTo>
                      <a:pt x="2579" y="943"/>
                    </a:lnTo>
                    <a:lnTo>
                      <a:pt x="2508" y="956"/>
                    </a:lnTo>
                    <a:lnTo>
                      <a:pt x="2435" y="967"/>
                    </a:lnTo>
                    <a:lnTo>
                      <a:pt x="2360" y="977"/>
                    </a:lnTo>
                    <a:lnTo>
                      <a:pt x="2282" y="987"/>
                    </a:lnTo>
                    <a:lnTo>
                      <a:pt x="2203" y="995"/>
                    </a:lnTo>
                    <a:lnTo>
                      <a:pt x="2124" y="1001"/>
                    </a:lnTo>
                    <a:lnTo>
                      <a:pt x="2041" y="1007"/>
                    </a:lnTo>
                    <a:lnTo>
                      <a:pt x="1957" y="1012"/>
                    </a:lnTo>
                    <a:lnTo>
                      <a:pt x="1872" y="1015"/>
                    </a:lnTo>
                    <a:lnTo>
                      <a:pt x="1786" y="1017"/>
                    </a:lnTo>
                    <a:lnTo>
                      <a:pt x="1698" y="1018"/>
                    </a:lnTo>
                    <a:lnTo>
                      <a:pt x="1611" y="1017"/>
                    </a:lnTo>
                    <a:lnTo>
                      <a:pt x="1525" y="1015"/>
                    </a:lnTo>
                    <a:lnTo>
                      <a:pt x="1440" y="1012"/>
                    </a:lnTo>
                    <a:lnTo>
                      <a:pt x="1356" y="1007"/>
                    </a:lnTo>
                    <a:lnTo>
                      <a:pt x="1274" y="1001"/>
                    </a:lnTo>
                    <a:lnTo>
                      <a:pt x="1193" y="995"/>
                    </a:lnTo>
                    <a:lnTo>
                      <a:pt x="1115" y="987"/>
                    </a:lnTo>
                    <a:lnTo>
                      <a:pt x="1037" y="977"/>
                    </a:lnTo>
                    <a:lnTo>
                      <a:pt x="962" y="967"/>
                    </a:lnTo>
                    <a:lnTo>
                      <a:pt x="888" y="956"/>
                    </a:lnTo>
                    <a:lnTo>
                      <a:pt x="818" y="943"/>
                    </a:lnTo>
                    <a:lnTo>
                      <a:pt x="748" y="930"/>
                    </a:lnTo>
                    <a:lnTo>
                      <a:pt x="681" y="916"/>
                    </a:lnTo>
                    <a:lnTo>
                      <a:pt x="618" y="899"/>
                    </a:lnTo>
                    <a:lnTo>
                      <a:pt x="556" y="883"/>
                    </a:lnTo>
                    <a:lnTo>
                      <a:pt x="497" y="866"/>
                    </a:lnTo>
                    <a:lnTo>
                      <a:pt x="441" y="848"/>
                    </a:lnTo>
                    <a:lnTo>
                      <a:pt x="388" y="830"/>
                    </a:lnTo>
                    <a:lnTo>
                      <a:pt x="337" y="810"/>
                    </a:lnTo>
                    <a:lnTo>
                      <a:pt x="290" y="789"/>
                    </a:lnTo>
                    <a:lnTo>
                      <a:pt x="245" y="769"/>
                    </a:lnTo>
                    <a:lnTo>
                      <a:pt x="205" y="747"/>
                    </a:lnTo>
                    <a:lnTo>
                      <a:pt x="167" y="725"/>
                    </a:lnTo>
                    <a:lnTo>
                      <a:pt x="133" y="702"/>
                    </a:lnTo>
                    <a:lnTo>
                      <a:pt x="103" y="678"/>
                    </a:lnTo>
                    <a:lnTo>
                      <a:pt x="75" y="654"/>
                    </a:lnTo>
                    <a:lnTo>
                      <a:pt x="53" y="630"/>
                    </a:lnTo>
                    <a:lnTo>
                      <a:pt x="34" y="605"/>
                    </a:lnTo>
                    <a:lnTo>
                      <a:pt x="19" y="579"/>
                    </a:lnTo>
                    <a:lnTo>
                      <a:pt x="8" y="553"/>
                    </a:lnTo>
                    <a:lnTo>
                      <a:pt x="2" y="527"/>
                    </a:lnTo>
                    <a:lnTo>
                      <a:pt x="0" y="500"/>
                    </a:lnTo>
                    <a:lnTo>
                      <a:pt x="2" y="473"/>
                    </a:lnTo>
                    <a:lnTo>
                      <a:pt x="8" y="447"/>
                    </a:lnTo>
                    <a:lnTo>
                      <a:pt x="19" y="422"/>
                    </a:lnTo>
                    <a:lnTo>
                      <a:pt x="34" y="397"/>
                    </a:lnTo>
                    <a:lnTo>
                      <a:pt x="53" y="371"/>
                    </a:lnTo>
                    <a:lnTo>
                      <a:pt x="75" y="347"/>
                    </a:lnTo>
                    <a:lnTo>
                      <a:pt x="103" y="324"/>
                    </a:lnTo>
                    <a:lnTo>
                      <a:pt x="133" y="301"/>
                    </a:lnTo>
                    <a:lnTo>
                      <a:pt x="167" y="279"/>
                    </a:lnTo>
                    <a:lnTo>
                      <a:pt x="205" y="257"/>
                    </a:lnTo>
                    <a:lnTo>
                      <a:pt x="245" y="236"/>
                    </a:lnTo>
                    <a:lnTo>
                      <a:pt x="290" y="216"/>
                    </a:lnTo>
                    <a:lnTo>
                      <a:pt x="337" y="197"/>
                    </a:lnTo>
                    <a:lnTo>
                      <a:pt x="388" y="178"/>
                    </a:lnTo>
                    <a:lnTo>
                      <a:pt x="441" y="159"/>
                    </a:lnTo>
                    <a:lnTo>
                      <a:pt x="497" y="142"/>
                    </a:lnTo>
                    <a:lnTo>
                      <a:pt x="556" y="126"/>
                    </a:lnTo>
                    <a:lnTo>
                      <a:pt x="618" y="111"/>
                    </a:lnTo>
                    <a:lnTo>
                      <a:pt x="681" y="96"/>
                    </a:lnTo>
                    <a:lnTo>
                      <a:pt x="748" y="83"/>
                    </a:lnTo>
                    <a:lnTo>
                      <a:pt x="818" y="70"/>
                    </a:lnTo>
                    <a:lnTo>
                      <a:pt x="888" y="58"/>
                    </a:lnTo>
                    <a:lnTo>
                      <a:pt x="962" y="47"/>
                    </a:lnTo>
                    <a:lnTo>
                      <a:pt x="1037" y="37"/>
                    </a:lnTo>
                    <a:lnTo>
                      <a:pt x="1115" y="29"/>
                    </a:lnTo>
                    <a:lnTo>
                      <a:pt x="1193" y="21"/>
                    </a:lnTo>
                    <a:lnTo>
                      <a:pt x="1274" y="15"/>
                    </a:lnTo>
                    <a:lnTo>
                      <a:pt x="1356" y="9"/>
                    </a:lnTo>
                    <a:lnTo>
                      <a:pt x="1440" y="5"/>
                    </a:lnTo>
                    <a:lnTo>
                      <a:pt x="1525" y="2"/>
                    </a:lnTo>
                    <a:lnTo>
                      <a:pt x="1611" y="0"/>
                    </a:lnTo>
                    <a:lnTo>
                      <a:pt x="1698" y="0"/>
                    </a:lnTo>
                    <a:lnTo>
                      <a:pt x="1786" y="0"/>
                    </a:lnTo>
                    <a:lnTo>
                      <a:pt x="1872" y="2"/>
                    </a:lnTo>
                    <a:lnTo>
                      <a:pt x="1957" y="5"/>
                    </a:lnTo>
                    <a:lnTo>
                      <a:pt x="2041" y="9"/>
                    </a:lnTo>
                    <a:lnTo>
                      <a:pt x="2124" y="15"/>
                    </a:lnTo>
                    <a:lnTo>
                      <a:pt x="2203" y="21"/>
                    </a:lnTo>
                    <a:lnTo>
                      <a:pt x="2282" y="29"/>
                    </a:lnTo>
                    <a:lnTo>
                      <a:pt x="2360" y="37"/>
                    </a:lnTo>
                    <a:lnTo>
                      <a:pt x="2435" y="47"/>
                    </a:lnTo>
                    <a:lnTo>
                      <a:pt x="2508" y="58"/>
                    </a:lnTo>
                    <a:lnTo>
                      <a:pt x="2579" y="70"/>
                    </a:lnTo>
                    <a:lnTo>
                      <a:pt x="2649" y="83"/>
                    </a:lnTo>
                    <a:lnTo>
                      <a:pt x="2715" y="96"/>
                    </a:lnTo>
                    <a:lnTo>
                      <a:pt x="2779" y="111"/>
                    </a:lnTo>
                    <a:lnTo>
                      <a:pt x="2841" y="126"/>
                    </a:lnTo>
                    <a:lnTo>
                      <a:pt x="2900" y="142"/>
                    </a:lnTo>
                    <a:lnTo>
                      <a:pt x="2956" y="159"/>
                    </a:lnTo>
                    <a:lnTo>
                      <a:pt x="3009" y="178"/>
                    </a:lnTo>
                    <a:lnTo>
                      <a:pt x="3060" y="197"/>
                    </a:lnTo>
                    <a:lnTo>
                      <a:pt x="3107" y="216"/>
                    </a:lnTo>
                    <a:lnTo>
                      <a:pt x="3152" y="236"/>
                    </a:lnTo>
                    <a:lnTo>
                      <a:pt x="3192" y="257"/>
                    </a:lnTo>
                    <a:lnTo>
                      <a:pt x="3231" y="279"/>
                    </a:lnTo>
                    <a:lnTo>
                      <a:pt x="3264" y="301"/>
                    </a:lnTo>
                    <a:lnTo>
                      <a:pt x="3294" y="324"/>
                    </a:lnTo>
                    <a:lnTo>
                      <a:pt x="3321" y="347"/>
                    </a:lnTo>
                    <a:lnTo>
                      <a:pt x="3344" y="371"/>
                    </a:lnTo>
                    <a:lnTo>
                      <a:pt x="3363" y="397"/>
                    </a:lnTo>
                    <a:lnTo>
                      <a:pt x="3378" y="422"/>
                    </a:lnTo>
                    <a:lnTo>
                      <a:pt x="3389" y="447"/>
                    </a:lnTo>
                    <a:lnTo>
                      <a:pt x="3395" y="473"/>
                    </a:lnTo>
                    <a:lnTo>
                      <a:pt x="3397" y="5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961280" y="6498360"/>
                <a:ext cx="373680" cy="120960"/>
              </a:xfrm>
              <a:custGeom>
                <a:avLst/>
                <a:gdLst/>
                <a:ahLst/>
                <a:rect l="l" t="t" r="r" b="b"/>
                <a:pathLst>
                  <a:path w="3395" h="1017">
                    <a:moveTo>
                      <a:pt x="3395" y="500"/>
                    </a:moveTo>
                    <a:lnTo>
                      <a:pt x="3393" y="527"/>
                    </a:lnTo>
                    <a:lnTo>
                      <a:pt x="3386" y="553"/>
                    </a:lnTo>
                    <a:lnTo>
                      <a:pt x="3376" y="578"/>
                    </a:lnTo>
                    <a:lnTo>
                      <a:pt x="3361" y="605"/>
                    </a:lnTo>
                    <a:lnTo>
                      <a:pt x="3342" y="629"/>
                    </a:lnTo>
                    <a:lnTo>
                      <a:pt x="3318" y="654"/>
                    </a:lnTo>
                    <a:lnTo>
                      <a:pt x="3292" y="678"/>
                    </a:lnTo>
                    <a:lnTo>
                      <a:pt x="3262" y="702"/>
                    </a:lnTo>
                    <a:lnTo>
                      <a:pt x="3228" y="724"/>
                    </a:lnTo>
                    <a:lnTo>
                      <a:pt x="3190" y="747"/>
                    </a:lnTo>
                    <a:lnTo>
                      <a:pt x="3150" y="768"/>
                    </a:lnTo>
                    <a:lnTo>
                      <a:pt x="3105" y="789"/>
                    </a:lnTo>
                    <a:lnTo>
                      <a:pt x="3058" y="810"/>
                    </a:lnTo>
                    <a:lnTo>
                      <a:pt x="3007" y="829"/>
                    </a:lnTo>
                    <a:lnTo>
                      <a:pt x="2954" y="848"/>
                    </a:lnTo>
                    <a:lnTo>
                      <a:pt x="2898" y="866"/>
                    </a:lnTo>
                    <a:lnTo>
                      <a:pt x="2839" y="883"/>
                    </a:lnTo>
                    <a:lnTo>
                      <a:pt x="2777" y="899"/>
                    </a:lnTo>
                    <a:lnTo>
                      <a:pt x="2713" y="915"/>
                    </a:lnTo>
                    <a:lnTo>
                      <a:pt x="2647" y="929"/>
                    </a:lnTo>
                    <a:lnTo>
                      <a:pt x="2578" y="943"/>
                    </a:lnTo>
                    <a:lnTo>
                      <a:pt x="2506" y="955"/>
                    </a:lnTo>
                    <a:lnTo>
                      <a:pt x="2434" y="966"/>
                    </a:lnTo>
                    <a:lnTo>
                      <a:pt x="2358" y="976"/>
                    </a:lnTo>
                    <a:lnTo>
                      <a:pt x="2281" y="986"/>
                    </a:lnTo>
                    <a:lnTo>
                      <a:pt x="2202" y="994"/>
                    </a:lnTo>
                    <a:lnTo>
                      <a:pt x="2122" y="1001"/>
                    </a:lnTo>
                    <a:lnTo>
                      <a:pt x="2040" y="1006"/>
                    </a:lnTo>
                    <a:lnTo>
                      <a:pt x="1956" y="1011"/>
                    </a:lnTo>
                    <a:lnTo>
                      <a:pt x="1871" y="1014"/>
                    </a:lnTo>
                    <a:lnTo>
                      <a:pt x="1785" y="1016"/>
                    </a:lnTo>
                    <a:lnTo>
                      <a:pt x="1697" y="1017"/>
                    </a:lnTo>
                    <a:lnTo>
                      <a:pt x="1611" y="1016"/>
                    </a:lnTo>
                    <a:lnTo>
                      <a:pt x="1524" y="1014"/>
                    </a:lnTo>
                    <a:lnTo>
                      <a:pt x="1439" y="1011"/>
                    </a:lnTo>
                    <a:lnTo>
                      <a:pt x="1355" y="1006"/>
                    </a:lnTo>
                    <a:lnTo>
                      <a:pt x="1273" y="1001"/>
                    </a:lnTo>
                    <a:lnTo>
                      <a:pt x="1192" y="994"/>
                    </a:lnTo>
                    <a:lnTo>
                      <a:pt x="1114" y="986"/>
                    </a:lnTo>
                    <a:lnTo>
                      <a:pt x="1037" y="976"/>
                    </a:lnTo>
                    <a:lnTo>
                      <a:pt x="961" y="966"/>
                    </a:lnTo>
                    <a:lnTo>
                      <a:pt x="889" y="955"/>
                    </a:lnTo>
                    <a:lnTo>
                      <a:pt x="817" y="943"/>
                    </a:lnTo>
                    <a:lnTo>
                      <a:pt x="748" y="929"/>
                    </a:lnTo>
                    <a:lnTo>
                      <a:pt x="681" y="915"/>
                    </a:lnTo>
                    <a:lnTo>
                      <a:pt x="618" y="899"/>
                    </a:lnTo>
                    <a:lnTo>
                      <a:pt x="556" y="883"/>
                    </a:lnTo>
                    <a:lnTo>
                      <a:pt x="497" y="866"/>
                    </a:lnTo>
                    <a:lnTo>
                      <a:pt x="441" y="848"/>
                    </a:lnTo>
                    <a:lnTo>
                      <a:pt x="388" y="829"/>
                    </a:lnTo>
                    <a:lnTo>
                      <a:pt x="337" y="810"/>
                    </a:lnTo>
                    <a:lnTo>
                      <a:pt x="290" y="789"/>
                    </a:lnTo>
                    <a:lnTo>
                      <a:pt x="245" y="768"/>
                    </a:lnTo>
                    <a:lnTo>
                      <a:pt x="205" y="747"/>
                    </a:lnTo>
                    <a:lnTo>
                      <a:pt x="167" y="724"/>
                    </a:lnTo>
                    <a:lnTo>
                      <a:pt x="133" y="702"/>
                    </a:lnTo>
                    <a:lnTo>
                      <a:pt x="103" y="678"/>
                    </a:lnTo>
                    <a:lnTo>
                      <a:pt x="77" y="654"/>
                    </a:lnTo>
                    <a:lnTo>
                      <a:pt x="53" y="629"/>
                    </a:lnTo>
                    <a:lnTo>
                      <a:pt x="34" y="605"/>
                    </a:lnTo>
                    <a:lnTo>
                      <a:pt x="19" y="578"/>
                    </a:lnTo>
                    <a:lnTo>
                      <a:pt x="9" y="553"/>
                    </a:lnTo>
                    <a:lnTo>
                      <a:pt x="2" y="527"/>
                    </a:lnTo>
                    <a:lnTo>
                      <a:pt x="0" y="500"/>
                    </a:lnTo>
                    <a:lnTo>
                      <a:pt x="2" y="473"/>
                    </a:lnTo>
                    <a:lnTo>
                      <a:pt x="9" y="447"/>
                    </a:lnTo>
                    <a:lnTo>
                      <a:pt x="19" y="422"/>
                    </a:lnTo>
                    <a:lnTo>
                      <a:pt x="34" y="397"/>
                    </a:lnTo>
                    <a:lnTo>
                      <a:pt x="53" y="371"/>
                    </a:lnTo>
                    <a:lnTo>
                      <a:pt x="77" y="348"/>
                    </a:lnTo>
                    <a:lnTo>
                      <a:pt x="103" y="324"/>
                    </a:lnTo>
                    <a:lnTo>
                      <a:pt x="133" y="302"/>
                    </a:lnTo>
                    <a:lnTo>
                      <a:pt x="167" y="280"/>
                    </a:lnTo>
                    <a:lnTo>
                      <a:pt x="205" y="257"/>
                    </a:lnTo>
                    <a:lnTo>
                      <a:pt x="245" y="236"/>
                    </a:lnTo>
                    <a:lnTo>
                      <a:pt x="290" y="216"/>
                    </a:lnTo>
                    <a:lnTo>
                      <a:pt x="337" y="197"/>
                    </a:lnTo>
                    <a:lnTo>
                      <a:pt x="388" y="179"/>
                    </a:lnTo>
                    <a:lnTo>
                      <a:pt x="441" y="160"/>
                    </a:lnTo>
                    <a:lnTo>
                      <a:pt x="497" y="143"/>
                    </a:lnTo>
                    <a:lnTo>
                      <a:pt x="556" y="127"/>
                    </a:lnTo>
                    <a:lnTo>
                      <a:pt x="618" y="111"/>
                    </a:lnTo>
                    <a:lnTo>
                      <a:pt x="681" y="97"/>
                    </a:lnTo>
                    <a:lnTo>
                      <a:pt x="748" y="83"/>
                    </a:lnTo>
                    <a:lnTo>
                      <a:pt x="817" y="71"/>
                    </a:lnTo>
                    <a:lnTo>
                      <a:pt x="889" y="59"/>
                    </a:lnTo>
                    <a:lnTo>
                      <a:pt x="961" y="48"/>
                    </a:lnTo>
                    <a:lnTo>
                      <a:pt x="1037" y="38"/>
                    </a:lnTo>
                    <a:lnTo>
                      <a:pt x="1114" y="29"/>
                    </a:lnTo>
                    <a:lnTo>
                      <a:pt x="1192" y="22"/>
                    </a:lnTo>
                    <a:lnTo>
                      <a:pt x="1273" y="15"/>
                    </a:lnTo>
                    <a:lnTo>
                      <a:pt x="1355" y="10"/>
                    </a:lnTo>
                    <a:lnTo>
                      <a:pt x="1439" y="6"/>
                    </a:lnTo>
                    <a:lnTo>
                      <a:pt x="1524" y="3"/>
                    </a:lnTo>
                    <a:lnTo>
                      <a:pt x="1611" y="1"/>
                    </a:lnTo>
                    <a:lnTo>
                      <a:pt x="1697" y="0"/>
                    </a:lnTo>
                    <a:lnTo>
                      <a:pt x="1785" y="1"/>
                    </a:lnTo>
                    <a:lnTo>
                      <a:pt x="1871" y="3"/>
                    </a:lnTo>
                    <a:lnTo>
                      <a:pt x="1956" y="6"/>
                    </a:lnTo>
                    <a:lnTo>
                      <a:pt x="2040" y="10"/>
                    </a:lnTo>
                    <a:lnTo>
                      <a:pt x="2122" y="15"/>
                    </a:lnTo>
                    <a:lnTo>
                      <a:pt x="2202" y="22"/>
                    </a:lnTo>
                    <a:lnTo>
                      <a:pt x="2281" y="29"/>
                    </a:lnTo>
                    <a:lnTo>
                      <a:pt x="2358" y="38"/>
                    </a:lnTo>
                    <a:lnTo>
                      <a:pt x="2434" y="48"/>
                    </a:lnTo>
                    <a:lnTo>
                      <a:pt x="2506" y="59"/>
                    </a:lnTo>
                    <a:lnTo>
                      <a:pt x="2578" y="71"/>
                    </a:lnTo>
                    <a:lnTo>
                      <a:pt x="2647" y="83"/>
                    </a:lnTo>
                    <a:lnTo>
                      <a:pt x="2713" y="97"/>
                    </a:lnTo>
                    <a:lnTo>
                      <a:pt x="2777" y="111"/>
                    </a:lnTo>
                    <a:lnTo>
                      <a:pt x="2839" y="127"/>
                    </a:lnTo>
                    <a:lnTo>
                      <a:pt x="2898" y="143"/>
                    </a:lnTo>
                    <a:lnTo>
                      <a:pt x="2954" y="160"/>
                    </a:lnTo>
                    <a:lnTo>
                      <a:pt x="3007" y="179"/>
                    </a:lnTo>
                    <a:lnTo>
                      <a:pt x="3058" y="197"/>
                    </a:lnTo>
                    <a:lnTo>
                      <a:pt x="3105" y="216"/>
                    </a:lnTo>
                    <a:lnTo>
                      <a:pt x="3150" y="236"/>
                    </a:lnTo>
                    <a:lnTo>
                      <a:pt x="3190" y="257"/>
                    </a:lnTo>
                    <a:lnTo>
                      <a:pt x="3228" y="280"/>
                    </a:lnTo>
                    <a:lnTo>
                      <a:pt x="3262" y="302"/>
                    </a:lnTo>
                    <a:lnTo>
                      <a:pt x="3292" y="324"/>
                    </a:lnTo>
                    <a:lnTo>
                      <a:pt x="3318" y="348"/>
                    </a:lnTo>
                    <a:lnTo>
                      <a:pt x="3342" y="371"/>
                    </a:lnTo>
                    <a:lnTo>
                      <a:pt x="3361" y="397"/>
                    </a:lnTo>
                    <a:lnTo>
                      <a:pt x="3376" y="422"/>
                    </a:lnTo>
                    <a:lnTo>
                      <a:pt x="3386" y="447"/>
                    </a:lnTo>
                    <a:lnTo>
                      <a:pt x="3393" y="473"/>
                    </a:lnTo>
                    <a:lnTo>
                      <a:pt x="3395" y="5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961280" y="6498360"/>
                <a:ext cx="373680" cy="120960"/>
              </a:xfrm>
              <a:custGeom>
                <a:avLst/>
                <a:gdLst/>
                <a:ahLst/>
                <a:rect l="l" t="t" r="r" b="b"/>
                <a:pathLst>
                  <a:path w="3392" h="1015">
                    <a:moveTo>
                      <a:pt x="3392" y="499"/>
                    </a:moveTo>
                    <a:lnTo>
                      <a:pt x="3389" y="526"/>
                    </a:lnTo>
                    <a:lnTo>
                      <a:pt x="3383" y="552"/>
                    </a:lnTo>
                    <a:lnTo>
                      <a:pt x="3372" y="577"/>
                    </a:lnTo>
                    <a:lnTo>
                      <a:pt x="3357" y="603"/>
                    </a:lnTo>
                    <a:lnTo>
                      <a:pt x="3339" y="628"/>
                    </a:lnTo>
                    <a:lnTo>
                      <a:pt x="3315" y="652"/>
                    </a:lnTo>
                    <a:lnTo>
                      <a:pt x="3289" y="676"/>
                    </a:lnTo>
                    <a:lnTo>
                      <a:pt x="3259" y="700"/>
                    </a:lnTo>
                    <a:lnTo>
                      <a:pt x="3225" y="723"/>
                    </a:lnTo>
                    <a:lnTo>
                      <a:pt x="3187" y="745"/>
                    </a:lnTo>
                    <a:lnTo>
                      <a:pt x="3146" y="767"/>
                    </a:lnTo>
                    <a:lnTo>
                      <a:pt x="3102" y="787"/>
                    </a:lnTo>
                    <a:lnTo>
                      <a:pt x="3055" y="808"/>
                    </a:lnTo>
                    <a:lnTo>
                      <a:pt x="3004" y="828"/>
                    </a:lnTo>
                    <a:lnTo>
                      <a:pt x="2951" y="846"/>
                    </a:lnTo>
                    <a:lnTo>
                      <a:pt x="2895" y="864"/>
                    </a:lnTo>
                    <a:lnTo>
                      <a:pt x="2836" y="881"/>
                    </a:lnTo>
                    <a:lnTo>
                      <a:pt x="2774" y="897"/>
                    </a:lnTo>
                    <a:lnTo>
                      <a:pt x="2710" y="913"/>
                    </a:lnTo>
                    <a:lnTo>
                      <a:pt x="2644" y="927"/>
                    </a:lnTo>
                    <a:lnTo>
                      <a:pt x="2575" y="941"/>
                    </a:lnTo>
                    <a:lnTo>
                      <a:pt x="2504" y="953"/>
                    </a:lnTo>
                    <a:lnTo>
                      <a:pt x="2431" y="964"/>
                    </a:lnTo>
                    <a:lnTo>
                      <a:pt x="2356" y="975"/>
                    </a:lnTo>
                    <a:lnTo>
                      <a:pt x="2279" y="984"/>
                    </a:lnTo>
                    <a:lnTo>
                      <a:pt x="2199" y="992"/>
                    </a:lnTo>
                    <a:lnTo>
                      <a:pt x="2120" y="999"/>
                    </a:lnTo>
                    <a:lnTo>
                      <a:pt x="2038" y="1004"/>
                    </a:lnTo>
                    <a:lnTo>
                      <a:pt x="1954" y="1009"/>
                    </a:lnTo>
                    <a:lnTo>
                      <a:pt x="1869" y="1012"/>
                    </a:lnTo>
                    <a:lnTo>
                      <a:pt x="1782" y="1014"/>
                    </a:lnTo>
                    <a:lnTo>
                      <a:pt x="1695" y="1015"/>
                    </a:lnTo>
                    <a:lnTo>
                      <a:pt x="1609" y="1014"/>
                    </a:lnTo>
                    <a:lnTo>
                      <a:pt x="1522" y="1012"/>
                    </a:lnTo>
                    <a:lnTo>
                      <a:pt x="1437" y="1009"/>
                    </a:lnTo>
                    <a:lnTo>
                      <a:pt x="1354" y="1004"/>
                    </a:lnTo>
                    <a:lnTo>
                      <a:pt x="1271" y="999"/>
                    </a:lnTo>
                    <a:lnTo>
                      <a:pt x="1192" y="992"/>
                    </a:lnTo>
                    <a:lnTo>
                      <a:pt x="1113" y="984"/>
                    </a:lnTo>
                    <a:lnTo>
                      <a:pt x="1035" y="975"/>
                    </a:lnTo>
                    <a:lnTo>
                      <a:pt x="960" y="964"/>
                    </a:lnTo>
                    <a:lnTo>
                      <a:pt x="887" y="953"/>
                    </a:lnTo>
                    <a:lnTo>
                      <a:pt x="816" y="941"/>
                    </a:lnTo>
                    <a:lnTo>
                      <a:pt x="747" y="927"/>
                    </a:lnTo>
                    <a:lnTo>
                      <a:pt x="680" y="913"/>
                    </a:lnTo>
                    <a:lnTo>
                      <a:pt x="617" y="897"/>
                    </a:lnTo>
                    <a:lnTo>
                      <a:pt x="555" y="881"/>
                    </a:lnTo>
                    <a:lnTo>
                      <a:pt x="496" y="864"/>
                    </a:lnTo>
                    <a:lnTo>
                      <a:pt x="440" y="846"/>
                    </a:lnTo>
                    <a:lnTo>
                      <a:pt x="387" y="828"/>
                    </a:lnTo>
                    <a:lnTo>
                      <a:pt x="336" y="808"/>
                    </a:lnTo>
                    <a:lnTo>
                      <a:pt x="289" y="787"/>
                    </a:lnTo>
                    <a:lnTo>
                      <a:pt x="245" y="767"/>
                    </a:lnTo>
                    <a:lnTo>
                      <a:pt x="204" y="745"/>
                    </a:lnTo>
                    <a:lnTo>
                      <a:pt x="166" y="723"/>
                    </a:lnTo>
                    <a:lnTo>
                      <a:pt x="133" y="700"/>
                    </a:lnTo>
                    <a:lnTo>
                      <a:pt x="102" y="676"/>
                    </a:lnTo>
                    <a:lnTo>
                      <a:pt x="76" y="652"/>
                    </a:lnTo>
                    <a:lnTo>
                      <a:pt x="52" y="628"/>
                    </a:lnTo>
                    <a:lnTo>
                      <a:pt x="34" y="603"/>
                    </a:lnTo>
                    <a:lnTo>
                      <a:pt x="19" y="577"/>
                    </a:lnTo>
                    <a:lnTo>
                      <a:pt x="8" y="552"/>
                    </a:lnTo>
                    <a:lnTo>
                      <a:pt x="2" y="526"/>
                    </a:lnTo>
                    <a:lnTo>
                      <a:pt x="0" y="499"/>
                    </a:lnTo>
                    <a:lnTo>
                      <a:pt x="2" y="472"/>
                    </a:lnTo>
                    <a:lnTo>
                      <a:pt x="8" y="446"/>
                    </a:lnTo>
                    <a:lnTo>
                      <a:pt x="19" y="421"/>
                    </a:lnTo>
                    <a:lnTo>
                      <a:pt x="34" y="396"/>
                    </a:lnTo>
                    <a:lnTo>
                      <a:pt x="52" y="371"/>
                    </a:lnTo>
                    <a:lnTo>
                      <a:pt x="76" y="347"/>
                    </a:lnTo>
                    <a:lnTo>
                      <a:pt x="102" y="324"/>
                    </a:lnTo>
                    <a:lnTo>
                      <a:pt x="133" y="301"/>
                    </a:lnTo>
                    <a:lnTo>
                      <a:pt x="166" y="279"/>
                    </a:lnTo>
                    <a:lnTo>
                      <a:pt x="204" y="257"/>
                    </a:lnTo>
                    <a:lnTo>
                      <a:pt x="245" y="236"/>
                    </a:lnTo>
                    <a:lnTo>
                      <a:pt x="289" y="216"/>
                    </a:lnTo>
                    <a:lnTo>
                      <a:pt x="336" y="197"/>
                    </a:lnTo>
                    <a:lnTo>
                      <a:pt x="387" y="178"/>
                    </a:lnTo>
                    <a:lnTo>
                      <a:pt x="440" y="159"/>
                    </a:lnTo>
                    <a:lnTo>
                      <a:pt x="496" y="142"/>
                    </a:lnTo>
                    <a:lnTo>
                      <a:pt x="555" y="126"/>
                    </a:lnTo>
                    <a:lnTo>
                      <a:pt x="617" y="111"/>
                    </a:lnTo>
                    <a:lnTo>
                      <a:pt x="680" y="97"/>
                    </a:lnTo>
                    <a:lnTo>
                      <a:pt x="747" y="83"/>
                    </a:lnTo>
                    <a:lnTo>
                      <a:pt x="816" y="71"/>
                    </a:lnTo>
                    <a:lnTo>
                      <a:pt x="887" y="59"/>
                    </a:lnTo>
                    <a:lnTo>
                      <a:pt x="960" y="47"/>
                    </a:lnTo>
                    <a:lnTo>
                      <a:pt x="1035" y="38"/>
                    </a:lnTo>
                    <a:lnTo>
                      <a:pt x="1113" y="29"/>
                    </a:lnTo>
                    <a:lnTo>
                      <a:pt x="1192" y="22"/>
                    </a:lnTo>
                    <a:lnTo>
                      <a:pt x="1271" y="15"/>
                    </a:lnTo>
                    <a:lnTo>
                      <a:pt x="1354" y="10"/>
                    </a:lnTo>
                    <a:lnTo>
                      <a:pt x="1437" y="6"/>
                    </a:lnTo>
                    <a:lnTo>
                      <a:pt x="1522" y="3"/>
                    </a:lnTo>
                    <a:lnTo>
                      <a:pt x="1609" y="1"/>
                    </a:lnTo>
                    <a:lnTo>
                      <a:pt x="1695" y="0"/>
                    </a:lnTo>
                    <a:lnTo>
                      <a:pt x="1782" y="1"/>
                    </a:lnTo>
                    <a:lnTo>
                      <a:pt x="1869" y="3"/>
                    </a:lnTo>
                    <a:lnTo>
                      <a:pt x="1954" y="6"/>
                    </a:lnTo>
                    <a:lnTo>
                      <a:pt x="2038" y="10"/>
                    </a:lnTo>
                    <a:lnTo>
                      <a:pt x="2120" y="15"/>
                    </a:lnTo>
                    <a:lnTo>
                      <a:pt x="2199" y="22"/>
                    </a:lnTo>
                    <a:lnTo>
                      <a:pt x="2279" y="29"/>
                    </a:lnTo>
                    <a:lnTo>
                      <a:pt x="2356" y="38"/>
                    </a:lnTo>
                    <a:lnTo>
                      <a:pt x="2431" y="47"/>
                    </a:lnTo>
                    <a:lnTo>
                      <a:pt x="2504" y="59"/>
                    </a:lnTo>
                    <a:lnTo>
                      <a:pt x="2575" y="71"/>
                    </a:lnTo>
                    <a:lnTo>
                      <a:pt x="2644" y="83"/>
                    </a:lnTo>
                    <a:lnTo>
                      <a:pt x="2710" y="97"/>
                    </a:lnTo>
                    <a:lnTo>
                      <a:pt x="2774" y="111"/>
                    </a:lnTo>
                    <a:lnTo>
                      <a:pt x="2836" y="126"/>
                    </a:lnTo>
                    <a:lnTo>
                      <a:pt x="2895" y="142"/>
                    </a:lnTo>
                    <a:lnTo>
                      <a:pt x="2951" y="159"/>
                    </a:lnTo>
                    <a:lnTo>
                      <a:pt x="3004" y="178"/>
                    </a:lnTo>
                    <a:lnTo>
                      <a:pt x="3055" y="197"/>
                    </a:lnTo>
                    <a:lnTo>
                      <a:pt x="3102" y="216"/>
                    </a:lnTo>
                    <a:lnTo>
                      <a:pt x="3146" y="236"/>
                    </a:lnTo>
                    <a:lnTo>
                      <a:pt x="3187" y="257"/>
                    </a:lnTo>
                    <a:lnTo>
                      <a:pt x="3225" y="279"/>
                    </a:lnTo>
                    <a:lnTo>
                      <a:pt x="3259" y="301"/>
                    </a:lnTo>
                    <a:lnTo>
                      <a:pt x="3289" y="324"/>
                    </a:lnTo>
                    <a:lnTo>
                      <a:pt x="3315" y="347"/>
                    </a:lnTo>
                    <a:lnTo>
                      <a:pt x="3339" y="371"/>
                    </a:lnTo>
                    <a:lnTo>
                      <a:pt x="3357" y="396"/>
                    </a:lnTo>
                    <a:lnTo>
                      <a:pt x="3372" y="421"/>
                    </a:lnTo>
                    <a:lnTo>
                      <a:pt x="3383" y="446"/>
                    </a:lnTo>
                    <a:lnTo>
                      <a:pt x="3389" y="472"/>
                    </a:lnTo>
                    <a:lnTo>
                      <a:pt x="3392" y="4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61280" y="6498360"/>
                <a:ext cx="373680" cy="120960"/>
              </a:xfrm>
              <a:custGeom>
                <a:avLst/>
                <a:gdLst/>
                <a:ahLst/>
                <a:rect l="l" t="t" r="r" b="b"/>
                <a:pathLst>
                  <a:path w="3389" h="1013">
                    <a:moveTo>
                      <a:pt x="3389" y="498"/>
                    </a:moveTo>
                    <a:lnTo>
                      <a:pt x="3387" y="525"/>
                    </a:lnTo>
                    <a:lnTo>
                      <a:pt x="3381" y="551"/>
                    </a:lnTo>
                    <a:lnTo>
                      <a:pt x="3370" y="576"/>
                    </a:lnTo>
                    <a:lnTo>
                      <a:pt x="3355" y="602"/>
                    </a:lnTo>
                    <a:lnTo>
                      <a:pt x="3336" y="627"/>
                    </a:lnTo>
                    <a:lnTo>
                      <a:pt x="3313" y="651"/>
                    </a:lnTo>
                    <a:lnTo>
                      <a:pt x="3286" y="675"/>
                    </a:lnTo>
                    <a:lnTo>
                      <a:pt x="3256" y="699"/>
                    </a:lnTo>
                    <a:lnTo>
                      <a:pt x="3222" y="722"/>
                    </a:lnTo>
                    <a:lnTo>
                      <a:pt x="3185" y="744"/>
                    </a:lnTo>
                    <a:lnTo>
                      <a:pt x="3144" y="765"/>
                    </a:lnTo>
                    <a:lnTo>
                      <a:pt x="3100" y="786"/>
                    </a:lnTo>
                    <a:lnTo>
                      <a:pt x="3053" y="807"/>
                    </a:lnTo>
                    <a:lnTo>
                      <a:pt x="3002" y="826"/>
                    </a:lnTo>
                    <a:lnTo>
                      <a:pt x="2949" y="845"/>
                    </a:lnTo>
                    <a:lnTo>
                      <a:pt x="2893" y="862"/>
                    </a:lnTo>
                    <a:lnTo>
                      <a:pt x="2834" y="879"/>
                    </a:lnTo>
                    <a:lnTo>
                      <a:pt x="2772" y="895"/>
                    </a:lnTo>
                    <a:lnTo>
                      <a:pt x="2708" y="911"/>
                    </a:lnTo>
                    <a:lnTo>
                      <a:pt x="2642" y="926"/>
                    </a:lnTo>
                    <a:lnTo>
                      <a:pt x="2573" y="939"/>
                    </a:lnTo>
                    <a:lnTo>
                      <a:pt x="2502" y="951"/>
                    </a:lnTo>
                    <a:lnTo>
                      <a:pt x="2430" y="963"/>
                    </a:lnTo>
                    <a:lnTo>
                      <a:pt x="2354" y="973"/>
                    </a:lnTo>
                    <a:lnTo>
                      <a:pt x="2277" y="982"/>
                    </a:lnTo>
                    <a:lnTo>
                      <a:pt x="2198" y="990"/>
                    </a:lnTo>
                    <a:lnTo>
                      <a:pt x="2118" y="997"/>
                    </a:lnTo>
                    <a:lnTo>
                      <a:pt x="2036" y="1003"/>
                    </a:lnTo>
                    <a:lnTo>
                      <a:pt x="1953" y="1007"/>
                    </a:lnTo>
                    <a:lnTo>
                      <a:pt x="1868" y="1010"/>
                    </a:lnTo>
                    <a:lnTo>
                      <a:pt x="1781" y="1012"/>
                    </a:lnTo>
                    <a:lnTo>
                      <a:pt x="1694" y="1013"/>
                    </a:lnTo>
                    <a:lnTo>
                      <a:pt x="1608" y="1012"/>
                    </a:lnTo>
                    <a:lnTo>
                      <a:pt x="1521" y="1010"/>
                    </a:lnTo>
                    <a:lnTo>
                      <a:pt x="1436" y="1007"/>
                    </a:lnTo>
                    <a:lnTo>
                      <a:pt x="1353" y="1003"/>
                    </a:lnTo>
                    <a:lnTo>
                      <a:pt x="1271" y="997"/>
                    </a:lnTo>
                    <a:lnTo>
                      <a:pt x="1191" y="990"/>
                    </a:lnTo>
                    <a:lnTo>
                      <a:pt x="1112" y="982"/>
                    </a:lnTo>
                    <a:lnTo>
                      <a:pt x="1035" y="973"/>
                    </a:lnTo>
                    <a:lnTo>
                      <a:pt x="960" y="963"/>
                    </a:lnTo>
                    <a:lnTo>
                      <a:pt x="887" y="951"/>
                    </a:lnTo>
                    <a:lnTo>
                      <a:pt x="816" y="939"/>
                    </a:lnTo>
                    <a:lnTo>
                      <a:pt x="747" y="926"/>
                    </a:lnTo>
                    <a:lnTo>
                      <a:pt x="680" y="911"/>
                    </a:lnTo>
                    <a:lnTo>
                      <a:pt x="617" y="895"/>
                    </a:lnTo>
                    <a:lnTo>
                      <a:pt x="555" y="879"/>
                    </a:lnTo>
                    <a:lnTo>
                      <a:pt x="496" y="862"/>
                    </a:lnTo>
                    <a:lnTo>
                      <a:pt x="440" y="845"/>
                    </a:lnTo>
                    <a:lnTo>
                      <a:pt x="387" y="826"/>
                    </a:lnTo>
                    <a:lnTo>
                      <a:pt x="336" y="807"/>
                    </a:lnTo>
                    <a:lnTo>
                      <a:pt x="290" y="786"/>
                    </a:lnTo>
                    <a:lnTo>
                      <a:pt x="245" y="765"/>
                    </a:lnTo>
                    <a:lnTo>
                      <a:pt x="204" y="744"/>
                    </a:lnTo>
                    <a:lnTo>
                      <a:pt x="166" y="722"/>
                    </a:lnTo>
                    <a:lnTo>
                      <a:pt x="133" y="699"/>
                    </a:lnTo>
                    <a:lnTo>
                      <a:pt x="103" y="675"/>
                    </a:lnTo>
                    <a:lnTo>
                      <a:pt x="76" y="651"/>
                    </a:lnTo>
                    <a:lnTo>
                      <a:pt x="53" y="627"/>
                    </a:lnTo>
                    <a:lnTo>
                      <a:pt x="34" y="602"/>
                    </a:lnTo>
                    <a:lnTo>
                      <a:pt x="19" y="576"/>
                    </a:lnTo>
                    <a:lnTo>
                      <a:pt x="9" y="551"/>
                    </a:lnTo>
                    <a:lnTo>
                      <a:pt x="2" y="525"/>
                    </a:lnTo>
                    <a:lnTo>
                      <a:pt x="0" y="498"/>
                    </a:lnTo>
                    <a:lnTo>
                      <a:pt x="2" y="471"/>
                    </a:lnTo>
                    <a:lnTo>
                      <a:pt x="9" y="445"/>
                    </a:lnTo>
                    <a:lnTo>
                      <a:pt x="19" y="420"/>
                    </a:lnTo>
                    <a:lnTo>
                      <a:pt x="34" y="395"/>
                    </a:lnTo>
                    <a:lnTo>
                      <a:pt x="53" y="370"/>
                    </a:lnTo>
                    <a:lnTo>
                      <a:pt x="76" y="346"/>
                    </a:lnTo>
                    <a:lnTo>
                      <a:pt x="103" y="323"/>
                    </a:lnTo>
                    <a:lnTo>
                      <a:pt x="133" y="300"/>
                    </a:lnTo>
                    <a:lnTo>
                      <a:pt x="166" y="278"/>
                    </a:lnTo>
                    <a:lnTo>
                      <a:pt x="204" y="256"/>
                    </a:lnTo>
                    <a:lnTo>
                      <a:pt x="245" y="235"/>
                    </a:lnTo>
                    <a:lnTo>
                      <a:pt x="290" y="215"/>
                    </a:lnTo>
                    <a:lnTo>
                      <a:pt x="336" y="196"/>
                    </a:lnTo>
                    <a:lnTo>
                      <a:pt x="387" y="178"/>
                    </a:lnTo>
                    <a:lnTo>
                      <a:pt x="440" y="159"/>
                    </a:lnTo>
                    <a:lnTo>
                      <a:pt x="496" y="142"/>
                    </a:lnTo>
                    <a:lnTo>
                      <a:pt x="555" y="126"/>
                    </a:lnTo>
                    <a:lnTo>
                      <a:pt x="617" y="111"/>
                    </a:lnTo>
                    <a:lnTo>
                      <a:pt x="680" y="96"/>
                    </a:lnTo>
                    <a:lnTo>
                      <a:pt x="747" y="83"/>
                    </a:lnTo>
                    <a:lnTo>
                      <a:pt x="816" y="70"/>
                    </a:lnTo>
                    <a:lnTo>
                      <a:pt x="887" y="59"/>
                    </a:lnTo>
                    <a:lnTo>
                      <a:pt x="960" y="47"/>
                    </a:lnTo>
                    <a:lnTo>
                      <a:pt x="1035" y="38"/>
                    </a:lnTo>
                    <a:lnTo>
                      <a:pt x="1112" y="29"/>
                    </a:lnTo>
                    <a:lnTo>
                      <a:pt x="1191" y="22"/>
                    </a:lnTo>
                    <a:lnTo>
                      <a:pt x="1271" y="15"/>
                    </a:lnTo>
                    <a:lnTo>
                      <a:pt x="1353" y="10"/>
                    </a:lnTo>
                    <a:lnTo>
                      <a:pt x="1436" y="6"/>
                    </a:lnTo>
                    <a:lnTo>
                      <a:pt x="1521" y="3"/>
                    </a:lnTo>
                    <a:lnTo>
                      <a:pt x="1608" y="1"/>
                    </a:lnTo>
                    <a:lnTo>
                      <a:pt x="1694" y="0"/>
                    </a:lnTo>
                    <a:lnTo>
                      <a:pt x="1781" y="1"/>
                    </a:lnTo>
                    <a:lnTo>
                      <a:pt x="1868" y="3"/>
                    </a:lnTo>
                    <a:lnTo>
                      <a:pt x="1953" y="6"/>
                    </a:lnTo>
                    <a:lnTo>
                      <a:pt x="2036" y="10"/>
                    </a:lnTo>
                    <a:lnTo>
                      <a:pt x="2118" y="15"/>
                    </a:lnTo>
                    <a:lnTo>
                      <a:pt x="2198" y="22"/>
                    </a:lnTo>
                    <a:lnTo>
                      <a:pt x="2277" y="29"/>
                    </a:lnTo>
                    <a:lnTo>
                      <a:pt x="2354" y="38"/>
                    </a:lnTo>
                    <a:lnTo>
                      <a:pt x="2430" y="47"/>
                    </a:lnTo>
                    <a:lnTo>
                      <a:pt x="2502" y="59"/>
                    </a:lnTo>
                    <a:lnTo>
                      <a:pt x="2573" y="70"/>
                    </a:lnTo>
                    <a:lnTo>
                      <a:pt x="2642" y="83"/>
                    </a:lnTo>
                    <a:lnTo>
                      <a:pt x="2708" y="96"/>
                    </a:lnTo>
                    <a:lnTo>
                      <a:pt x="2772" y="111"/>
                    </a:lnTo>
                    <a:lnTo>
                      <a:pt x="2834" y="126"/>
                    </a:lnTo>
                    <a:lnTo>
                      <a:pt x="2893" y="142"/>
                    </a:lnTo>
                    <a:lnTo>
                      <a:pt x="2949" y="159"/>
                    </a:lnTo>
                    <a:lnTo>
                      <a:pt x="3002" y="178"/>
                    </a:lnTo>
                    <a:lnTo>
                      <a:pt x="3053" y="196"/>
                    </a:lnTo>
                    <a:lnTo>
                      <a:pt x="3100" y="215"/>
                    </a:lnTo>
                    <a:lnTo>
                      <a:pt x="3144" y="235"/>
                    </a:lnTo>
                    <a:lnTo>
                      <a:pt x="3185" y="256"/>
                    </a:lnTo>
                    <a:lnTo>
                      <a:pt x="3222" y="278"/>
                    </a:lnTo>
                    <a:lnTo>
                      <a:pt x="3256" y="300"/>
                    </a:lnTo>
                    <a:lnTo>
                      <a:pt x="3286" y="323"/>
                    </a:lnTo>
                    <a:lnTo>
                      <a:pt x="3313" y="346"/>
                    </a:lnTo>
                    <a:lnTo>
                      <a:pt x="3336" y="370"/>
                    </a:lnTo>
                    <a:lnTo>
                      <a:pt x="3355" y="395"/>
                    </a:lnTo>
                    <a:lnTo>
                      <a:pt x="3370" y="420"/>
                    </a:lnTo>
                    <a:lnTo>
                      <a:pt x="3381" y="445"/>
                    </a:lnTo>
                    <a:lnTo>
                      <a:pt x="3387" y="471"/>
                    </a:lnTo>
                    <a:lnTo>
                      <a:pt x="3389" y="4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961280" y="6498360"/>
                <a:ext cx="373680" cy="120960"/>
              </a:xfrm>
              <a:custGeom>
                <a:avLst/>
                <a:gdLst/>
                <a:ahLst/>
                <a:rect l="l" t="t" r="r" b="b"/>
                <a:pathLst>
                  <a:path w="3387" h="1011">
                    <a:moveTo>
                      <a:pt x="3387" y="497"/>
                    </a:moveTo>
                    <a:lnTo>
                      <a:pt x="3385" y="524"/>
                    </a:lnTo>
                    <a:lnTo>
                      <a:pt x="3378" y="549"/>
                    </a:lnTo>
                    <a:lnTo>
                      <a:pt x="3367" y="575"/>
                    </a:lnTo>
                    <a:lnTo>
                      <a:pt x="3353" y="601"/>
                    </a:lnTo>
                    <a:lnTo>
                      <a:pt x="3334" y="626"/>
                    </a:lnTo>
                    <a:lnTo>
                      <a:pt x="3310" y="650"/>
                    </a:lnTo>
                    <a:lnTo>
                      <a:pt x="3284" y="674"/>
                    </a:lnTo>
                    <a:lnTo>
                      <a:pt x="3254" y="698"/>
                    </a:lnTo>
                    <a:lnTo>
                      <a:pt x="3219" y="720"/>
                    </a:lnTo>
                    <a:lnTo>
                      <a:pt x="3182" y="742"/>
                    </a:lnTo>
                    <a:lnTo>
                      <a:pt x="3142" y="764"/>
                    </a:lnTo>
                    <a:lnTo>
                      <a:pt x="3097" y="784"/>
                    </a:lnTo>
                    <a:lnTo>
                      <a:pt x="3051" y="805"/>
                    </a:lnTo>
                    <a:lnTo>
                      <a:pt x="3000" y="825"/>
                    </a:lnTo>
                    <a:lnTo>
                      <a:pt x="2947" y="843"/>
                    </a:lnTo>
                    <a:lnTo>
                      <a:pt x="2891" y="861"/>
                    </a:lnTo>
                    <a:lnTo>
                      <a:pt x="2832" y="878"/>
                    </a:lnTo>
                    <a:lnTo>
                      <a:pt x="2771" y="894"/>
                    </a:lnTo>
                    <a:lnTo>
                      <a:pt x="2706" y="910"/>
                    </a:lnTo>
                    <a:lnTo>
                      <a:pt x="2641" y="924"/>
                    </a:lnTo>
                    <a:lnTo>
                      <a:pt x="2571" y="937"/>
                    </a:lnTo>
                    <a:lnTo>
                      <a:pt x="2500" y="949"/>
                    </a:lnTo>
                    <a:lnTo>
                      <a:pt x="2428" y="961"/>
                    </a:lnTo>
                    <a:lnTo>
                      <a:pt x="2353" y="971"/>
                    </a:lnTo>
                    <a:lnTo>
                      <a:pt x="2276" y="980"/>
                    </a:lnTo>
                    <a:lnTo>
                      <a:pt x="2197" y="988"/>
                    </a:lnTo>
                    <a:lnTo>
                      <a:pt x="2117" y="995"/>
                    </a:lnTo>
                    <a:lnTo>
                      <a:pt x="2035" y="1001"/>
                    </a:lnTo>
                    <a:lnTo>
                      <a:pt x="1951" y="1005"/>
                    </a:lnTo>
                    <a:lnTo>
                      <a:pt x="1866" y="1008"/>
                    </a:lnTo>
                    <a:lnTo>
                      <a:pt x="1780" y="1010"/>
                    </a:lnTo>
                    <a:lnTo>
                      <a:pt x="1693" y="1011"/>
                    </a:lnTo>
                    <a:lnTo>
                      <a:pt x="1607" y="1010"/>
                    </a:lnTo>
                    <a:lnTo>
                      <a:pt x="1521" y="1008"/>
                    </a:lnTo>
                    <a:lnTo>
                      <a:pt x="1436" y="1005"/>
                    </a:lnTo>
                    <a:lnTo>
                      <a:pt x="1352" y="1001"/>
                    </a:lnTo>
                    <a:lnTo>
                      <a:pt x="1270" y="995"/>
                    </a:lnTo>
                    <a:lnTo>
                      <a:pt x="1190" y="988"/>
                    </a:lnTo>
                    <a:lnTo>
                      <a:pt x="1112" y="980"/>
                    </a:lnTo>
                    <a:lnTo>
                      <a:pt x="1034" y="971"/>
                    </a:lnTo>
                    <a:lnTo>
                      <a:pt x="959" y="961"/>
                    </a:lnTo>
                    <a:lnTo>
                      <a:pt x="887" y="949"/>
                    </a:lnTo>
                    <a:lnTo>
                      <a:pt x="816" y="937"/>
                    </a:lnTo>
                    <a:lnTo>
                      <a:pt x="747" y="924"/>
                    </a:lnTo>
                    <a:lnTo>
                      <a:pt x="680" y="910"/>
                    </a:lnTo>
                    <a:lnTo>
                      <a:pt x="617" y="894"/>
                    </a:lnTo>
                    <a:lnTo>
                      <a:pt x="555" y="878"/>
                    </a:lnTo>
                    <a:lnTo>
                      <a:pt x="496" y="861"/>
                    </a:lnTo>
                    <a:lnTo>
                      <a:pt x="440" y="843"/>
                    </a:lnTo>
                    <a:lnTo>
                      <a:pt x="387" y="825"/>
                    </a:lnTo>
                    <a:lnTo>
                      <a:pt x="336" y="805"/>
                    </a:lnTo>
                    <a:lnTo>
                      <a:pt x="290" y="784"/>
                    </a:lnTo>
                    <a:lnTo>
                      <a:pt x="245" y="764"/>
                    </a:lnTo>
                    <a:lnTo>
                      <a:pt x="205" y="742"/>
                    </a:lnTo>
                    <a:lnTo>
                      <a:pt x="167" y="720"/>
                    </a:lnTo>
                    <a:lnTo>
                      <a:pt x="133" y="698"/>
                    </a:lnTo>
                    <a:lnTo>
                      <a:pt x="103" y="674"/>
                    </a:lnTo>
                    <a:lnTo>
                      <a:pt x="77" y="650"/>
                    </a:lnTo>
                    <a:lnTo>
                      <a:pt x="53" y="626"/>
                    </a:lnTo>
                    <a:lnTo>
                      <a:pt x="34" y="601"/>
                    </a:lnTo>
                    <a:lnTo>
                      <a:pt x="20" y="575"/>
                    </a:lnTo>
                    <a:lnTo>
                      <a:pt x="9" y="549"/>
                    </a:lnTo>
                    <a:lnTo>
                      <a:pt x="3" y="524"/>
                    </a:lnTo>
                    <a:lnTo>
                      <a:pt x="0" y="497"/>
                    </a:lnTo>
                    <a:lnTo>
                      <a:pt x="3" y="470"/>
                    </a:lnTo>
                    <a:lnTo>
                      <a:pt x="9" y="444"/>
                    </a:lnTo>
                    <a:lnTo>
                      <a:pt x="20" y="419"/>
                    </a:lnTo>
                    <a:lnTo>
                      <a:pt x="34" y="394"/>
                    </a:lnTo>
                    <a:lnTo>
                      <a:pt x="53" y="369"/>
                    </a:lnTo>
                    <a:lnTo>
                      <a:pt x="77" y="345"/>
                    </a:lnTo>
                    <a:lnTo>
                      <a:pt x="103" y="322"/>
                    </a:lnTo>
                    <a:lnTo>
                      <a:pt x="133" y="300"/>
                    </a:lnTo>
                    <a:lnTo>
                      <a:pt x="167" y="278"/>
                    </a:lnTo>
                    <a:lnTo>
                      <a:pt x="205" y="256"/>
                    </a:lnTo>
                    <a:lnTo>
                      <a:pt x="245" y="235"/>
                    </a:lnTo>
                    <a:lnTo>
                      <a:pt x="290" y="215"/>
                    </a:lnTo>
                    <a:lnTo>
                      <a:pt x="336" y="196"/>
                    </a:lnTo>
                    <a:lnTo>
                      <a:pt x="387" y="177"/>
                    </a:lnTo>
                    <a:lnTo>
                      <a:pt x="440" y="159"/>
                    </a:lnTo>
                    <a:lnTo>
                      <a:pt x="496" y="142"/>
                    </a:lnTo>
                    <a:lnTo>
                      <a:pt x="555" y="126"/>
                    </a:lnTo>
                    <a:lnTo>
                      <a:pt x="617" y="111"/>
                    </a:lnTo>
                    <a:lnTo>
                      <a:pt x="680" y="96"/>
                    </a:lnTo>
                    <a:lnTo>
                      <a:pt x="747" y="83"/>
                    </a:lnTo>
                    <a:lnTo>
                      <a:pt x="816" y="70"/>
                    </a:lnTo>
                    <a:lnTo>
                      <a:pt x="887" y="59"/>
                    </a:lnTo>
                    <a:lnTo>
                      <a:pt x="959" y="47"/>
                    </a:lnTo>
                    <a:lnTo>
                      <a:pt x="1034" y="38"/>
                    </a:lnTo>
                    <a:lnTo>
                      <a:pt x="1112" y="29"/>
                    </a:lnTo>
                    <a:lnTo>
                      <a:pt x="1190" y="22"/>
                    </a:lnTo>
                    <a:lnTo>
                      <a:pt x="1270" y="15"/>
                    </a:lnTo>
                    <a:lnTo>
                      <a:pt x="1352" y="10"/>
                    </a:lnTo>
                    <a:lnTo>
                      <a:pt x="1436" y="6"/>
                    </a:lnTo>
                    <a:lnTo>
                      <a:pt x="1521" y="3"/>
                    </a:lnTo>
                    <a:lnTo>
                      <a:pt x="1607" y="1"/>
                    </a:lnTo>
                    <a:lnTo>
                      <a:pt x="1693" y="0"/>
                    </a:lnTo>
                    <a:lnTo>
                      <a:pt x="1780" y="1"/>
                    </a:lnTo>
                    <a:lnTo>
                      <a:pt x="1866" y="3"/>
                    </a:lnTo>
                    <a:lnTo>
                      <a:pt x="1951" y="6"/>
                    </a:lnTo>
                    <a:lnTo>
                      <a:pt x="2035" y="10"/>
                    </a:lnTo>
                    <a:lnTo>
                      <a:pt x="2117" y="15"/>
                    </a:lnTo>
                    <a:lnTo>
                      <a:pt x="2197" y="22"/>
                    </a:lnTo>
                    <a:lnTo>
                      <a:pt x="2276" y="29"/>
                    </a:lnTo>
                    <a:lnTo>
                      <a:pt x="2353" y="38"/>
                    </a:lnTo>
                    <a:lnTo>
                      <a:pt x="2428" y="47"/>
                    </a:lnTo>
                    <a:lnTo>
                      <a:pt x="2500" y="59"/>
                    </a:lnTo>
                    <a:lnTo>
                      <a:pt x="2571" y="70"/>
                    </a:lnTo>
                    <a:lnTo>
                      <a:pt x="2641" y="83"/>
                    </a:lnTo>
                    <a:lnTo>
                      <a:pt x="2706" y="96"/>
                    </a:lnTo>
                    <a:lnTo>
                      <a:pt x="2771" y="111"/>
                    </a:lnTo>
                    <a:lnTo>
                      <a:pt x="2832" y="126"/>
                    </a:lnTo>
                    <a:lnTo>
                      <a:pt x="2891" y="142"/>
                    </a:lnTo>
                    <a:lnTo>
                      <a:pt x="2947" y="159"/>
                    </a:lnTo>
                    <a:lnTo>
                      <a:pt x="3000" y="177"/>
                    </a:lnTo>
                    <a:lnTo>
                      <a:pt x="3051" y="196"/>
                    </a:lnTo>
                    <a:lnTo>
                      <a:pt x="3097" y="215"/>
                    </a:lnTo>
                    <a:lnTo>
                      <a:pt x="3142" y="235"/>
                    </a:lnTo>
                    <a:lnTo>
                      <a:pt x="3182" y="256"/>
                    </a:lnTo>
                    <a:lnTo>
                      <a:pt x="3219" y="278"/>
                    </a:lnTo>
                    <a:lnTo>
                      <a:pt x="3254" y="300"/>
                    </a:lnTo>
                    <a:lnTo>
                      <a:pt x="3284" y="322"/>
                    </a:lnTo>
                    <a:lnTo>
                      <a:pt x="3310" y="345"/>
                    </a:lnTo>
                    <a:lnTo>
                      <a:pt x="3334" y="369"/>
                    </a:lnTo>
                    <a:lnTo>
                      <a:pt x="3353" y="394"/>
                    </a:lnTo>
                    <a:lnTo>
                      <a:pt x="3367" y="419"/>
                    </a:lnTo>
                    <a:lnTo>
                      <a:pt x="3378" y="444"/>
                    </a:lnTo>
                    <a:lnTo>
                      <a:pt x="3385" y="470"/>
                    </a:lnTo>
                    <a:lnTo>
                      <a:pt x="3387" y="4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961280" y="6498360"/>
                <a:ext cx="373680" cy="120960"/>
              </a:xfrm>
              <a:custGeom>
                <a:avLst/>
                <a:gdLst/>
                <a:ahLst/>
                <a:rect l="l" t="t" r="r" b="b"/>
                <a:pathLst>
                  <a:path w="3383" h="1009">
                    <a:moveTo>
                      <a:pt x="3383" y="496"/>
                    </a:moveTo>
                    <a:lnTo>
                      <a:pt x="3381" y="523"/>
                    </a:lnTo>
                    <a:lnTo>
                      <a:pt x="3375" y="548"/>
                    </a:lnTo>
                    <a:lnTo>
                      <a:pt x="3364" y="574"/>
                    </a:lnTo>
                    <a:lnTo>
                      <a:pt x="3349" y="600"/>
                    </a:lnTo>
                    <a:lnTo>
                      <a:pt x="3331" y="625"/>
                    </a:lnTo>
                    <a:lnTo>
                      <a:pt x="3307" y="649"/>
                    </a:lnTo>
                    <a:lnTo>
                      <a:pt x="3281" y="672"/>
                    </a:lnTo>
                    <a:lnTo>
                      <a:pt x="3251" y="696"/>
                    </a:lnTo>
                    <a:lnTo>
                      <a:pt x="3216" y="719"/>
                    </a:lnTo>
                    <a:lnTo>
                      <a:pt x="3179" y="741"/>
                    </a:lnTo>
                    <a:lnTo>
                      <a:pt x="3139" y="762"/>
                    </a:lnTo>
                    <a:lnTo>
                      <a:pt x="3094" y="783"/>
                    </a:lnTo>
                    <a:lnTo>
                      <a:pt x="3047" y="804"/>
                    </a:lnTo>
                    <a:lnTo>
                      <a:pt x="2997" y="823"/>
                    </a:lnTo>
                    <a:lnTo>
                      <a:pt x="2944" y="841"/>
                    </a:lnTo>
                    <a:lnTo>
                      <a:pt x="2888" y="859"/>
                    </a:lnTo>
                    <a:lnTo>
                      <a:pt x="2829" y="876"/>
                    </a:lnTo>
                    <a:lnTo>
                      <a:pt x="2768" y="892"/>
                    </a:lnTo>
                    <a:lnTo>
                      <a:pt x="2703" y="907"/>
                    </a:lnTo>
                    <a:lnTo>
                      <a:pt x="2638" y="922"/>
                    </a:lnTo>
                    <a:lnTo>
                      <a:pt x="2569" y="935"/>
                    </a:lnTo>
                    <a:lnTo>
                      <a:pt x="2498" y="948"/>
                    </a:lnTo>
                    <a:lnTo>
                      <a:pt x="2425" y="959"/>
                    </a:lnTo>
                    <a:lnTo>
                      <a:pt x="2350" y="969"/>
                    </a:lnTo>
                    <a:lnTo>
                      <a:pt x="2273" y="978"/>
                    </a:lnTo>
                    <a:lnTo>
                      <a:pt x="2194" y="986"/>
                    </a:lnTo>
                    <a:lnTo>
                      <a:pt x="2115" y="993"/>
                    </a:lnTo>
                    <a:lnTo>
                      <a:pt x="2033" y="999"/>
                    </a:lnTo>
                    <a:lnTo>
                      <a:pt x="1949" y="1003"/>
                    </a:lnTo>
                    <a:lnTo>
                      <a:pt x="1864" y="1006"/>
                    </a:lnTo>
                    <a:lnTo>
                      <a:pt x="1778" y="1008"/>
                    </a:lnTo>
                    <a:lnTo>
                      <a:pt x="1691" y="1009"/>
                    </a:lnTo>
                    <a:lnTo>
                      <a:pt x="1605" y="1008"/>
                    </a:lnTo>
                    <a:lnTo>
                      <a:pt x="1519" y="1006"/>
                    </a:lnTo>
                    <a:lnTo>
                      <a:pt x="1434" y="1003"/>
                    </a:lnTo>
                    <a:lnTo>
                      <a:pt x="1350" y="999"/>
                    </a:lnTo>
                    <a:lnTo>
                      <a:pt x="1268" y="993"/>
                    </a:lnTo>
                    <a:lnTo>
                      <a:pt x="1189" y="986"/>
                    </a:lnTo>
                    <a:lnTo>
                      <a:pt x="1110" y="978"/>
                    </a:lnTo>
                    <a:lnTo>
                      <a:pt x="1033" y="969"/>
                    </a:lnTo>
                    <a:lnTo>
                      <a:pt x="958" y="959"/>
                    </a:lnTo>
                    <a:lnTo>
                      <a:pt x="885" y="948"/>
                    </a:lnTo>
                    <a:lnTo>
                      <a:pt x="814" y="935"/>
                    </a:lnTo>
                    <a:lnTo>
                      <a:pt x="745" y="922"/>
                    </a:lnTo>
                    <a:lnTo>
                      <a:pt x="680" y="907"/>
                    </a:lnTo>
                    <a:lnTo>
                      <a:pt x="615" y="892"/>
                    </a:lnTo>
                    <a:lnTo>
                      <a:pt x="554" y="876"/>
                    </a:lnTo>
                    <a:lnTo>
                      <a:pt x="495" y="859"/>
                    </a:lnTo>
                    <a:lnTo>
                      <a:pt x="439" y="841"/>
                    </a:lnTo>
                    <a:lnTo>
                      <a:pt x="386" y="823"/>
                    </a:lnTo>
                    <a:lnTo>
                      <a:pt x="336" y="804"/>
                    </a:lnTo>
                    <a:lnTo>
                      <a:pt x="289" y="783"/>
                    </a:lnTo>
                    <a:lnTo>
                      <a:pt x="244" y="762"/>
                    </a:lnTo>
                    <a:lnTo>
                      <a:pt x="204" y="741"/>
                    </a:lnTo>
                    <a:lnTo>
                      <a:pt x="166" y="719"/>
                    </a:lnTo>
                    <a:lnTo>
                      <a:pt x="132" y="696"/>
                    </a:lnTo>
                    <a:lnTo>
                      <a:pt x="102" y="672"/>
                    </a:lnTo>
                    <a:lnTo>
                      <a:pt x="76" y="649"/>
                    </a:lnTo>
                    <a:lnTo>
                      <a:pt x="53" y="625"/>
                    </a:lnTo>
                    <a:lnTo>
                      <a:pt x="34" y="600"/>
                    </a:lnTo>
                    <a:lnTo>
                      <a:pt x="19" y="574"/>
                    </a:lnTo>
                    <a:lnTo>
                      <a:pt x="8" y="548"/>
                    </a:lnTo>
                    <a:lnTo>
                      <a:pt x="2" y="523"/>
                    </a:lnTo>
                    <a:lnTo>
                      <a:pt x="0" y="496"/>
                    </a:lnTo>
                    <a:lnTo>
                      <a:pt x="2" y="469"/>
                    </a:lnTo>
                    <a:lnTo>
                      <a:pt x="8" y="444"/>
                    </a:lnTo>
                    <a:lnTo>
                      <a:pt x="19" y="418"/>
                    </a:lnTo>
                    <a:lnTo>
                      <a:pt x="34" y="394"/>
                    </a:lnTo>
                    <a:lnTo>
                      <a:pt x="53" y="368"/>
                    </a:lnTo>
                    <a:lnTo>
                      <a:pt x="76" y="345"/>
                    </a:lnTo>
                    <a:lnTo>
                      <a:pt x="102" y="322"/>
                    </a:lnTo>
                    <a:lnTo>
                      <a:pt x="132" y="299"/>
                    </a:lnTo>
                    <a:lnTo>
                      <a:pt x="166" y="277"/>
                    </a:lnTo>
                    <a:lnTo>
                      <a:pt x="204" y="255"/>
                    </a:lnTo>
                    <a:lnTo>
                      <a:pt x="244" y="234"/>
                    </a:lnTo>
                    <a:lnTo>
                      <a:pt x="289" y="214"/>
                    </a:lnTo>
                    <a:lnTo>
                      <a:pt x="336" y="195"/>
                    </a:lnTo>
                    <a:lnTo>
                      <a:pt x="386" y="177"/>
                    </a:lnTo>
                    <a:lnTo>
                      <a:pt x="439" y="158"/>
                    </a:lnTo>
                    <a:lnTo>
                      <a:pt x="495" y="141"/>
                    </a:lnTo>
                    <a:lnTo>
                      <a:pt x="554" y="125"/>
                    </a:lnTo>
                    <a:lnTo>
                      <a:pt x="615" y="110"/>
                    </a:lnTo>
                    <a:lnTo>
                      <a:pt x="680" y="96"/>
                    </a:lnTo>
                    <a:lnTo>
                      <a:pt x="745" y="83"/>
                    </a:lnTo>
                    <a:lnTo>
                      <a:pt x="814" y="70"/>
                    </a:lnTo>
                    <a:lnTo>
                      <a:pt x="885" y="59"/>
                    </a:lnTo>
                    <a:lnTo>
                      <a:pt x="958" y="47"/>
                    </a:lnTo>
                    <a:lnTo>
                      <a:pt x="1033" y="37"/>
                    </a:lnTo>
                    <a:lnTo>
                      <a:pt x="1110" y="29"/>
                    </a:lnTo>
                    <a:lnTo>
                      <a:pt x="1189" y="21"/>
                    </a:lnTo>
                    <a:lnTo>
                      <a:pt x="1268" y="15"/>
                    </a:lnTo>
                    <a:lnTo>
                      <a:pt x="1350" y="10"/>
                    </a:lnTo>
                    <a:lnTo>
                      <a:pt x="1434" y="6"/>
                    </a:lnTo>
                    <a:lnTo>
                      <a:pt x="1519" y="3"/>
                    </a:lnTo>
                    <a:lnTo>
                      <a:pt x="1605" y="1"/>
                    </a:lnTo>
                    <a:lnTo>
                      <a:pt x="1691" y="0"/>
                    </a:lnTo>
                    <a:lnTo>
                      <a:pt x="1778" y="1"/>
                    </a:lnTo>
                    <a:lnTo>
                      <a:pt x="1864" y="3"/>
                    </a:lnTo>
                    <a:lnTo>
                      <a:pt x="1949" y="6"/>
                    </a:lnTo>
                    <a:lnTo>
                      <a:pt x="2033" y="10"/>
                    </a:lnTo>
                    <a:lnTo>
                      <a:pt x="2115" y="15"/>
                    </a:lnTo>
                    <a:lnTo>
                      <a:pt x="2194" y="21"/>
                    </a:lnTo>
                    <a:lnTo>
                      <a:pt x="2273" y="29"/>
                    </a:lnTo>
                    <a:lnTo>
                      <a:pt x="2350" y="37"/>
                    </a:lnTo>
                    <a:lnTo>
                      <a:pt x="2425" y="47"/>
                    </a:lnTo>
                    <a:lnTo>
                      <a:pt x="2498" y="59"/>
                    </a:lnTo>
                    <a:lnTo>
                      <a:pt x="2569" y="70"/>
                    </a:lnTo>
                    <a:lnTo>
                      <a:pt x="2638" y="83"/>
                    </a:lnTo>
                    <a:lnTo>
                      <a:pt x="2703" y="96"/>
                    </a:lnTo>
                    <a:lnTo>
                      <a:pt x="2768" y="110"/>
                    </a:lnTo>
                    <a:lnTo>
                      <a:pt x="2829" y="125"/>
                    </a:lnTo>
                    <a:lnTo>
                      <a:pt x="2888" y="141"/>
                    </a:lnTo>
                    <a:lnTo>
                      <a:pt x="2944" y="158"/>
                    </a:lnTo>
                    <a:lnTo>
                      <a:pt x="2997" y="177"/>
                    </a:lnTo>
                    <a:lnTo>
                      <a:pt x="3047" y="195"/>
                    </a:lnTo>
                    <a:lnTo>
                      <a:pt x="3094" y="214"/>
                    </a:lnTo>
                    <a:lnTo>
                      <a:pt x="3139" y="234"/>
                    </a:lnTo>
                    <a:lnTo>
                      <a:pt x="3179" y="255"/>
                    </a:lnTo>
                    <a:lnTo>
                      <a:pt x="3216" y="277"/>
                    </a:lnTo>
                    <a:lnTo>
                      <a:pt x="3251" y="299"/>
                    </a:lnTo>
                    <a:lnTo>
                      <a:pt x="3281" y="322"/>
                    </a:lnTo>
                    <a:lnTo>
                      <a:pt x="3307" y="345"/>
                    </a:lnTo>
                    <a:lnTo>
                      <a:pt x="3331" y="368"/>
                    </a:lnTo>
                    <a:lnTo>
                      <a:pt x="3349" y="394"/>
                    </a:lnTo>
                    <a:lnTo>
                      <a:pt x="3364" y="418"/>
                    </a:lnTo>
                    <a:lnTo>
                      <a:pt x="3375" y="444"/>
                    </a:lnTo>
                    <a:lnTo>
                      <a:pt x="3381" y="469"/>
                    </a:lnTo>
                    <a:lnTo>
                      <a:pt x="3383" y="4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961280" y="6498360"/>
                <a:ext cx="373680" cy="120960"/>
              </a:xfrm>
              <a:custGeom>
                <a:avLst/>
                <a:gdLst/>
                <a:ahLst/>
                <a:rect l="l" t="t" r="r" b="b"/>
                <a:pathLst>
                  <a:path w="3381" h="1007">
                    <a:moveTo>
                      <a:pt x="3381" y="495"/>
                    </a:moveTo>
                    <a:lnTo>
                      <a:pt x="3379" y="521"/>
                    </a:lnTo>
                    <a:lnTo>
                      <a:pt x="3372" y="547"/>
                    </a:lnTo>
                    <a:lnTo>
                      <a:pt x="3362" y="573"/>
                    </a:lnTo>
                    <a:lnTo>
                      <a:pt x="3347" y="599"/>
                    </a:lnTo>
                    <a:lnTo>
                      <a:pt x="3328" y="623"/>
                    </a:lnTo>
                    <a:lnTo>
                      <a:pt x="3305" y="647"/>
                    </a:lnTo>
                    <a:lnTo>
                      <a:pt x="3278" y="671"/>
                    </a:lnTo>
                    <a:lnTo>
                      <a:pt x="3248" y="695"/>
                    </a:lnTo>
                    <a:lnTo>
                      <a:pt x="3214" y="718"/>
                    </a:lnTo>
                    <a:lnTo>
                      <a:pt x="3177" y="739"/>
                    </a:lnTo>
                    <a:lnTo>
                      <a:pt x="3137" y="761"/>
                    </a:lnTo>
                    <a:lnTo>
                      <a:pt x="3092" y="781"/>
                    </a:lnTo>
                    <a:lnTo>
                      <a:pt x="3045" y="802"/>
                    </a:lnTo>
                    <a:lnTo>
                      <a:pt x="2995" y="821"/>
                    </a:lnTo>
                    <a:lnTo>
                      <a:pt x="2942" y="840"/>
                    </a:lnTo>
                    <a:lnTo>
                      <a:pt x="2886" y="857"/>
                    </a:lnTo>
                    <a:lnTo>
                      <a:pt x="2828" y="874"/>
                    </a:lnTo>
                    <a:lnTo>
                      <a:pt x="2766" y="890"/>
                    </a:lnTo>
                    <a:lnTo>
                      <a:pt x="2702" y="905"/>
                    </a:lnTo>
                    <a:lnTo>
                      <a:pt x="2636" y="920"/>
                    </a:lnTo>
                    <a:lnTo>
                      <a:pt x="2567" y="934"/>
                    </a:lnTo>
                    <a:lnTo>
                      <a:pt x="2496" y="946"/>
                    </a:lnTo>
                    <a:lnTo>
                      <a:pt x="2424" y="957"/>
                    </a:lnTo>
                    <a:lnTo>
                      <a:pt x="2349" y="967"/>
                    </a:lnTo>
                    <a:lnTo>
                      <a:pt x="2272" y="976"/>
                    </a:lnTo>
                    <a:lnTo>
                      <a:pt x="2193" y="984"/>
                    </a:lnTo>
                    <a:lnTo>
                      <a:pt x="2113" y="991"/>
                    </a:lnTo>
                    <a:lnTo>
                      <a:pt x="2031" y="997"/>
                    </a:lnTo>
                    <a:lnTo>
                      <a:pt x="1948" y="1001"/>
                    </a:lnTo>
                    <a:lnTo>
                      <a:pt x="1863" y="1004"/>
                    </a:lnTo>
                    <a:lnTo>
                      <a:pt x="1777" y="1006"/>
                    </a:lnTo>
                    <a:lnTo>
                      <a:pt x="1690" y="1007"/>
                    </a:lnTo>
                    <a:lnTo>
                      <a:pt x="1604" y="1006"/>
                    </a:lnTo>
                    <a:lnTo>
                      <a:pt x="1518" y="1004"/>
                    </a:lnTo>
                    <a:lnTo>
                      <a:pt x="1433" y="1001"/>
                    </a:lnTo>
                    <a:lnTo>
                      <a:pt x="1350" y="997"/>
                    </a:lnTo>
                    <a:lnTo>
                      <a:pt x="1268" y="991"/>
                    </a:lnTo>
                    <a:lnTo>
                      <a:pt x="1188" y="984"/>
                    </a:lnTo>
                    <a:lnTo>
                      <a:pt x="1110" y="976"/>
                    </a:lnTo>
                    <a:lnTo>
                      <a:pt x="1033" y="967"/>
                    </a:lnTo>
                    <a:lnTo>
                      <a:pt x="957" y="957"/>
                    </a:lnTo>
                    <a:lnTo>
                      <a:pt x="885" y="946"/>
                    </a:lnTo>
                    <a:lnTo>
                      <a:pt x="814" y="934"/>
                    </a:lnTo>
                    <a:lnTo>
                      <a:pt x="745" y="920"/>
                    </a:lnTo>
                    <a:lnTo>
                      <a:pt x="680" y="905"/>
                    </a:lnTo>
                    <a:lnTo>
                      <a:pt x="615" y="890"/>
                    </a:lnTo>
                    <a:lnTo>
                      <a:pt x="554" y="874"/>
                    </a:lnTo>
                    <a:lnTo>
                      <a:pt x="495" y="857"/>
                    </a:lnTo>
                    <a:lnTo>
                      <a:pt x="439" y="840"/>
                    </a:lnTo>
                    <a:lnTo>
                      <a:pt x="386" y="821"/>
                    </a:lnTo>
                    <a:lnTo>
                      <a:pt x="336" y="802"/>
                    </a:lnTo>
                    <a:lnTo>
                      <a:pt x="289" y="781"/>
                    </a:lnTo>
                    <a:lnTo>
                      <a:pt x="245" y="761"/>
                    </a:lnTo>
                    <a:lnTo>
                      <a:pt x="204" y="739"/>
                    </a:lnTo>
                    <a:lnTo>
                      <a:pt x="166" y="718"/>
                    </a:lnTo>
                    <a:lnTo>
                      <a:pt x="133" y="695"/>
                    </a:lnTo>
                    <a:lnTo>
                      <a:pt x="103" y="671"/>
                    </a:lnTo>
                    <a:lnTo>
                      <a:pt x="76" y="647"/>
                    </a:lnTo>
                    <a:lnTo>
                      <a:pt x="53" y="623"/>
                    </a:lnTo>
                    <a:lnTo>
                      <a:pt x="34" y="599"/>
                    </a:lnTo>
                    <a:lnTo>
                      <a:pt x="20" y="573"/>
                    </a:lnTo>
                    <a:lnTo>
                      <a:pt x="9" y="547"/>
                    </a:lnTo>
                    <a:lnTo>
                      <a:pt x="2" y="521"/>
                    </a:lnTo>
                    <a:lnTo>
                      <a:pt x="0" y="495"/>
                    </a:lnTo>
                    <a:lnTo>
                      <a:pt x="2" y="468"/>
                    </a:lnTo>
                    <a:lnTo>
                      <a:pt x="9" y="443"/>
                    </a:lnTo>
                    <a:lnTo>
                      <a:pt x="20" y="417"/>
                    </a:lnTo>
                    <a:lnTo>
                      <a:pt x="34" y="393"/>
                    </a:lnTo>
                    <a:lnTo>
                      <a:pt x="53" y="368"/>
                    </a:lnTo>
                    <a:lnTo>
                      <a:pt x="76" y="344"/>
                    </a:lnTo>
                    <a:lnTo>
                      <a:pt x="103" y="321"/>
                    </a:lnTo>
                    <a:lnTo>
                      <a:pt x="133" y="298"/>
                    </a:lnTo>
                    <a:lnTo>
                      <a:pt x="166" y="277"/>
                    </a:lnTo>
                    <a:lnTo>
                      <a:pt x="204" y="254"/>
                    </a:lnTo>
                    <a:lnTo>
                      <a:pt x="245" y="234"/>
                    </a:lnTo>
                    <a:lnTo>
                      <a:pt x="289" y="214"/>
                    </a:lnTo>
                    <a:lnTo>
                      <a:pt x="336" y="195"/>
                    </a:lnTo>
                    <a:lnTo>
                      <a:pt x="386" y="176"/>
                    </a:lnTo>
                    <a:lnTo>
                      <a:pt x="439" y="159"/>
                    </a:lnTo>
                    <a:lnTo>
                      <a:pt x="495" y="141"/>
                    </a:lnTo>
                    <a:lnTo>
                      <a:pt x="554" y="125"/>
                    </a:lnTo>
                    <a:lnTo>
                      <a:pt x="615" y="110"/>
                    </a:lnTo>
                    <a:lnTo>
                      <a:pt x="680" y="96"/>
                    </a:lnTo>
                    <a:lnTo>
                      <a:pt x="745" y="82"/>
                    </a:lnTo>
                    <a:lnTo>
                      <a:pt x="814" y="70"/>
                    </a:lnTo>
                    <a:lnTo>
                      <a:pt x="885" y="58"/>
                    </a:lnTo>
                    <a:lnTo>
                      <a:pt x="957" y="47"/>
                    </a:lnTo>
                    <a:lnTo>
                      <a:pt x="1033" y="37"/>
                    </a:lnTo>
                    <a:lnTo>
                      <a:pt x="1110" y="29"/>
                    </a:lnTo>
                    <a:lnTo>
                      <a:pt x="1188" y="21"/>
                    </a:lnTo>
                    <a:lnTo>
                      <a:pt x="1268" y="15"/>
                    </a:lnTo>
                    <a:lnTo>
                      <a:pt x="1350" y="10"/>
                    </a:lnTo>
                    <a:lnTo>
                      <a:pt x="1433" y="6"/>
                    </a:lnTo>
                    <a:lnTo>
                      <a:pt x="1518" y="3"/>
                    </a:lnTo>
                    <a:lnTo>
                      <a:pt x="1604" y="1"/>
                    </a:lnTo>
                    <a:lnTo>
                      <a:pt x="1690" y="0"/>
                    </a:lnTo>
                    <a:lnTo>
                      <a:pt x="1777" y="1"/>
                    </a:lnTo>
                    <a:lnTo>
                      <a:pt x="1863" y="3"/>
                    </a:lnTo>
                    <a:lnTo>
                      <a:pt x="1948" y="6"/>
                    </a:lnTo>
                    <a:lnTo>
                      <a:pt x="2031" y="10"/>
                    </a:lnTo>
                    <a:lnTo>
                      <a:pt x="2113" y="15"/>
                    </a:lnTo>
                    <a:lnTo>
                      <a:pt x="2193" y="21"/>
                    </a:lnTo>
                    <a:lnTo>
                      <a:pt x="2272" y="29"/>
                    </a:lnTo>
                    <a:lnTo>
                      <a:pt x="2349" y="37"/>
                    </a:lnTo>
                    <a:lnTo>
                      <a:pt x="2424" y="47"/>
                    </a:lnTo>
                    <a:lnTo>
                      <a:pt x="2496" y="58"/>
                    </a:lnTo>
                    <a:lnTo>
                      <a:pt x="2567" y="70"/>
                    </a:lnTo>
                    <a:lnTo>
                      <a:pt x="2636" y="82"/>
                    </a:lnTo>
                    <a:lnTo>
                      <a:pt x="2702" y="96"/>
                    </a:lnTo>
                    <a:lnTo>
                      <a:pt x="2766" y="110"/>
                    </a:lnTo>
                    <a:lnTo>
                      <a:pt x="2828" y="125"/>
                    </a:lnTo>
                    <a:lnTo>
                      <a:pt x="2886" y="141"/>
                    </a:lnTo>
                    <a:lnTo>
                      <a:pt x="2942" y="159"/>
                    </a:lnTo>
                    <a:lnTo>
                      <a:pt x="2995" y="176"/>
                    </a:lnTo>
                    <a:lnTo>
                      <a:pt x="3045" y="195"/>
                    </a:lnTo>
                    <a:lnTo>
                      <a:pt x="3092" y="214"/>
                    </a:lnTo>
                    <a:lnTo>
                      <a:pt x="3137" y="234"/>
                    </a:lnTo>
                    <a:lnTo>
                      <a:pt x="3177" y="254"/>
                    </a:lnTo>
                    <a:lnTo>
                      <a:pt x="3214" y="277"/>
                    </a:lnTo>
                    <a:lnTo>
                      <a:pt x="3248" y="298"/>
                    </a:lnTo>
                    <a:lnTo>
                      <a:pt x="3278" y="321"/>
                    </a:lnTo>
                    <a:lnTo>
                      <a:pt x="3305" y="344"/>
                    </a:lnTo>
                    <a:lnTo>
                      <a:pt x="3328" y="368"/>
                    </a:lnTo>
                    <a:lnTo>
                      <a:pt x="3347" y="393"/>
                    </a:lnTo>
                    <a:lnTo>
                      <a:pt x="3362" y="417"/>
                    </a:lnTo>
                    <a:lnTo>
                      <a:pt x="3372" y="443"/>
                    </a:lnTo>
                    <a:lnTo>
                      <a:pt x="3379" y="468"/>
                    </a:lnTo>
                    <a:lnTo>
                      <a:pt x="3381" y="4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961280" y="6498360"/>
                <a:ext cx="372240" cy="119520"/>
              </a:xfrm>
              <a:custGeom>
                <a:avLst/>
                <a:gdLst/>
                <a:ahLst/>
                <a:rect l="l" t="t" r="r" b="b"/>
                <a:pathLst>
                  <a:path w="3377" h="1005">
                    <a:moveTo>
                      <a:pt x="3377" y="494"/>
                    </a:moveTo>
                    <a:lnTo>
                      <a:pt x="3375" y="520"/>
                    </a:lnTo>
                    <a:lnTo>
                      <a:pt x="3369" y="546"/>
                    </a:lnTo>
                    <a:lnTo>
                      <a:pt x="3358" y="572"/>
                    </a:lnTo>
                    <a:lnTo>
                      <a:pt x="3344" y="598"/>
                    </a:lnTo>
                    <a:lnTo>
                      <a:pt x="3325" y="622"/>
                    </a:lnTo>
                    <a:lnTo>
                      <a:pt x="3301" y="646"/>
                    </a:lnTo>
                    <a:lnTo>
                      <a:pt x="3275" y="670"/>
                    </a:lnTo>
                    <a:lnTo>
                      <a:pt x="3245" y="694"/>
                    </a:lnTo>
                    <a:lnTo>
                      <a:pt x="3211" y="716"/>
                    </a:lnTo>
                    <a:lnTo>
                      <a:pt x="3174" y="738"/>
                    </a:lnTo>
                    <a:lnTo>
                      <a:pt x="3133" y="759"/>
                    </a:lnTo>
                    <a:lnTo>
                      <a:pt x="3089" y="780"/>
                    </a:lnTo>
                    <a:lnTo>
                      <a:pt x="3042" y="801"/>
                    </a:lnTo>
                    <a:lnTo>
                      <a:pt x="2992" y="820"/>
                    </a:lnTo>
                    <a:lnTo>
                      <a:pt x="2939" y="838"/>
                    </a:lnTo>
                    <a:lnTo>
                      <a:pt x="2883" y="856"/>
                    </a:lnTo>
                    <a:lnTo>
                      <a:pt x="2825" y="873"/>
                    </a:lnTo>
                    <a:lnTo>
                      <a:pt x="2763" y="889"/>
                    </a:lnTo>
                    <a:lnTo>
                      <a:pt x="2699" y="904"/>
                    </a:lnTo>
                    <a:lnTo>
                      <a:pt x="2633" y="919"/>
                    </a:lnTo>
                    <a:lnTo>
                      <a:pt x="2564" y="932"/>
                    </a:lnTo>
                    <a:lnTo>
                      <a:pt x="2493" y="944"/>
                    </a:lnTo>
                    <a:lnTo>
                      <a:pt x="2421" y="955"/>
                    </a:lnTo>
                    <a:lnTo>
                      <a:pt x="2346" y="965"/>
                    </a:lnTo>
                    <a:lnTo>
                      <a:pt x="2269" y="974"/>
                    </a:lnTo>
                    <a:lnTo>
                      <a:pt x="2190" y="982"/>
                    </a:lnTo>
                    <a:lnTo>
                      <a:pt x="2111" y="989"/>
                    </a:lnTo>
                    <a:lnTo>
                      <a:pt x="2029" y="995"/>
                    </a:lnTo>
                    <a:lnTo>
                      <a:pt x="1946" y="999"/>
                    </a:lnTo>
                    <a:lnTo>
                      <a:pt x="1861" y="1003"/>
                    </a:lnTo>
                    <a:lnTo>
                      <a:pt x="1775" y="1005"/>
                    </a:lnTo>
                    <a:lnTo>
                      <a:pt x="1688" y="1005"/>
                    </a:lnTo>
                    <a:lnTo>
                      <a:pt x="1602" y="1005"/>
                    </a:lnTo>
                    <a:lnTo>
                      <a:pt x="1516" y="1003"/>
                    </a:lnTo>
                    <a:lnTo>
                      <a:pt x="1431" y="999"/>
                    </a:lnTo>
                    <a:lnTo>
                      <a:pt x="1348" y="995"/>
                    </a:lnTo>
                    <a:lnTo>
                      <a:pt x="1266" y="989"/>
                    </a:lnTo>
                    <a:lnTo>
                      <a:pt x="1187" y="982"/>
                    </a:lnTo>
                    <a:lnTo>
                      <a:pt x="1108" y="974"/>
                    </a:lnTo>
                    <a:lnTo>
                      <a:pt x="1031" y="965"/>
                    </a:lnTo>
                    <a:lnTo>
                      <a:pt x="956" y="955"/>
                    </a:lnTo>
                    <a:lnTo>
                      <a:pt x="884" y="944"/>
                    </a:lnTo>
                    <a:lnTo>
                      <a:pt x="813" y="932"/>
                    </a:lnTo>
                    <a:lnTo>
                      <a:pt x="744" y="919"/>
                    </a:lnTo>
                    <a:lnTo>
                      <a:pt x="678" y="904"/>
                    </a:lnTo>
                    <a:lnTo>
                      <a:pt x="614" y="889"/>
                    </a:lnTo>
                    <a:lnTo>
                      <a:pt x="553" y="873"/>
                    </a:lnTo>
                    <a:lnTo>
                      <a:pt x="494" y="856"/>
                    </a:lnTo>
                    <a:lnTo>
                      <a:pt x="438" y="838"/>
                    </a:lnTo>
                    <a:lnTo>
                      <a:pt x="386" y="820"/>
                    </a:lnTo>
                    <a:lnTo>
                      <a:pt x="335" y="801"/>
                    </a:lnTo>
                    <a:lnTo>
                      <a:pt x="288" y="780"/>
                    </a:lnTo>
                    <a:lnTo>
                      <a:pt x="244" y="759"/>
                    </a:lnTo>
                    <a:lnTo>
                      <a:pt x="203" y="738"/>
                    </a:lnTo>
                    <a:lnTo>
                      <a:pt x="166" y="716"/>
                    </a:lnTo>
                    <a:lnTo>
                      <a:pt x="132" y="694"/>
                    </a:lnTo>
                    <a:lnTo>
                      <a:pt x="102" y="670"/>
                    </a:lnTo>
                    <a:lnTo>
                      <a:pt x="76" y="646"/>
                    </a:lnTo>
                    <a:lnTo>
                      <a:pt x="52" y="622"/>
                    </a:lnTo>
                    <a:lnTo>
                      <a:pt x="34" y="598"/>
                    </a:lnTo>
                    <a:lnTo>
                      <a:pt x="19" y="572"/>
                    </a:lnTo>
                    <a:lnTo>
                      <a:pt x="8" y="546"/>
                    </a:lnTo>
                    <a:lnTo>
                      <a:pt x="2" y="520"/>
                    </a:lnTo>
                    <a:lnTo>
                      <a:pt x="0" y="494"/>
                    </a:lnTo>
                    <a:lnTo>
                      <a:pt x="2" y="467"/>
                    </a:lnTo>
                    <a:lnTo>
                      <a:pt x="8" y="442"/>
                    </a:lnTo>
                    <a:lnTo>
                      <a:pt x="19" y="417"/>
                    </a:lnTo>
                    <a:lnTo>
                      <a:pt x="34" y="392"/>
                    </a:lnTo>
                    <a:lnTo>
                      <a:pt x="52" y="367"/>
                    </a:lnTo>
                    <a:lnTo>
                      <a:pt x="76" y="343"/>
                    </a:lnTo>
                    <a:lnTo>
                      <a:pt x="102" y="320"/>
                    </a:lnTo>
                    <a:lnTo>
                      <a:pt x="132" y="298"/>
                    </a:lnTo>
                    <a:lnTo>
                      <a:pt x="166" y="276"/>
                    </a:lnTo>
                    <a:lnTo>
                      <a:pt x="203" y="254"/>
                    </a:lnTo>
                    <a:lnTo>
                      <a:pt x="244" y="233"/>
                    </a:lnTo>
                    <a:lnTo>
                      <a:pt x="288" y="214"/>
                    </a:lnTo>
                    <a:lnTo>
                      <a:pt x="335" y="194"/>
                    </a:lnTo>
                    <a:lnTo>
                      <a:pt x="386" y="176"/>
                    </a:lnTo>
                    <a:lnTo>
                      <a:pt x="438" y="159"/>
                    </a:lnTo>
                    <a:lnTo>
                      <a:pt x="494" y="141"/>
                    </a:lnTo>
                    <a:lnTo>
                      <a:pt x="553" y="125"/>
                    </a:lnTo>
                    <a:lnTo>
                      <a:pt x="614" y="110"/>
                    </a:lnTo>
                    <a:lnTo>
                      <a:pt x="678" y="95"/>
                    </a:lnTo>
                    <a:lnTo>
                      <a:pt x="744" y="82"/>
                    </a:lnTo>
                    <a:lnTo>
                      <a:pt x="813" y="70"/>
                    </a:lnTo>
                    <a:lnTo>
                      <a:pt x="884" y="58"/>
                    </a:lnTo>
                    <a:lnTo>
                      <a:pt x="956" y="47"/>
                    </a:lnTo>
                    <a:lnTo>
                      <a:pt x="1031" y="37"/>
                    </a:lnTo>
                    <a:lnTo>
                      <a:pt x="1108" y="29"/>
                    </a:lnTo>
                    <a:lnTo>
                      <a:pt x="1187" y="21"/>
                    </a:lnTo>
                    <a:lnTo>
                      <a:pt x="1266" y="15"/>
                    </a:lnTo>
                    <a:lnTo>
                      <a:pt x="1348" y="10"/>
                    </a:lnTo>
                    <a:lnTo>
                      <a:pt x="1431" y="5"/>
                    </a:lnTo>
                    <a:lnTo>
                      <a:pt x="1516" y="2"/>
                    </a:lnTo>
                    <a:lnTo>
                      <a:pt x="1602" y="1"/>
                    </a:lnTo>
                    <a:lnTo>
                      <a:pt x="1688" y="0"/>
                    </a:lnTo>
                    <a:lnTo>
                      <a:pt x="1775" y="1"/>
                    </a:lnTo>
                    <a:lnTo>
                      <a:pt x="1861" y="2"/>
                    </a:lnTo>
                    <a:lnTo>
                      <a:pt x="1946" y="5"/>
                    </a:lnTo>
                    <a:lnTo>
                      <a:pt x="2029" y="10"/>
                    </a:lnTo>
                    <a:lnTo>
                      <a:pt x="2111" y="15"/>
                    </a:lnTo>
                    <a:lnTo>
                      <a:pt x="2190" y="21"/>
                    </a:lnTo>
                    <a:lnTo>
                      <a:pt x="2269" y="29"/>
                    </a:lnTo>
                    <a:lnTo>
                      <a:pt x="2346" y="37"/>
                    </a:lnTo>
                    <a:lnTo>
                      <a:pt x="2421" y="47"/>
                    </a:lnTo>
                    <a:lnTo>
                      <a:pt x="2493" y="58"/>
                    </a:lnTo>
                    <a:lnTo>
                      <a:pt x="2564" y="70"/>
                    </a:lnTo>
                    <a:lnTo>
                      <a:pt x="2633" y="82"/>
                    </a:lnTo>
                    <a:lnTo>
                      <a:pt x="2699" y="95"/>
                    </a:lnTo>
                    <a:lnTo>
                      <a:pt x="2763" y="110"/>
                    </a:lnTo>
                    <a:lnTo>
                      <a:pt x="2825" y="125"/>
                    </a:lnTo>
                    <a:lnTo>
                      <a:pt x="2883" y="141"/>
                    </a:lnTo>
                    <a:lnTo>
                      <a:pt x="2939" y="159"/>
                    </a:lnTo>
                    <a:lnTo>
                      <a:pt x="2992" y="176"/>
                    </a:lnTo>
                    <a:lnTo>
                      <a:pt x="3042" y="194"/>
                    </a:lnTo>
                    <a:lnTo>
                      <a:pt x="3089" y="214"/>
                    </a:lnTo>
                    <a:lnTo>
                      <a:pt x="3133" y="233"/>
                    </a:lnTo>
                    <a:lnTo>
                      <a:pt x="3174" y="254"/>
                    </a:lnTo>
                    <a:lnTo>
                      <a:pt x="3211" y="276"/>
                    </a:lnTo>
                    <a:lnTo>
                      <a:pt x="3245" y="298"/>
                    </a:lnTo>
                    <a:lnTo>
                      <a:pt x="3275" y="320"/>
                    </a:lnTo>
                    <a:lnTo>
                      <a:pt x="3301" y="343"/>
                    </a:lnTo>
                    <a:lnTo>
                      <a:pt x="3325" y="367"/>
                    </a:lnTo>
                    <a:lnTo>
                      <a:pt x="3344" y="392"/>
                    </a:lnTo>
                    <a:lnTo>
                      <a:pt x="3358" y="417"/>
                    </a:lnTo>
                    <a:lnTo>
                      <a:pt x="3369" y="442"/>
                    </a:lnTo>
                    <a:lnTo>
                      <a:pt x="3375" y="467"/>
                    </a:lnTo>
                    <a:lnTo>
                      <a:pt x="3377" y="4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962720" y="6498360"/>
                <a:ext cx="370800" cy="119520"/>
              </a:xfrm>
              <a:custGeom>
                <a:avLst/>
                <a:gdLst/>
                <a:ahLst/>
                <a:rect l="l" t="t" r="r" b="b"/>
                <a:pathLst>
                  <a:path w="3375" h="1003">
                    <a:moveTo>
                      <a:pt x="3375" y="493"/>
                    </a:moveTo>
                    <a:lnTo>
                      <a:pt x="3373" y="519"/>
                    </a:lnTo>
                    <a:lnTo>
                      <a:pt x="3366" y="545"/>
                    </a:lnTo>
                    <a:lnTo>
                      <a:pt x="3356" y="570"/>
                    </a:lnTo>
                    <a:lnTo>
                      <a:pt x="3341" y="596"/>
                    </a:lnTo>
                    <a:lnTo>
                      <a:pt x="3322" y="621"/>
                    </a:lnTo>
                    <a:lnTo>
                      <a:pt x="3299" y="645"/>
                    </a:lnTo>
                    <a:lnTo>
                      <a:pt x="3273" y="668"/>
                    </a:lnTo>
                    <a:lnTo>
                      <a:pt x="3243" y="692"/>
                    </a:lnTo>
                    <a:lnTo>
                      <a:pt x="3208" y="715"/>
                    </a:lnTo>
                    <a:lnTo>
                      <a:pt x="3171" y="737"/>
                    </a:lnTo>
                    <a:lnTo>
                      <a:pt x="3131" y="758"/>
                    </a:lnTo>
                    <a:lnTo>
                      <a:pt x="3087" y="778"/>
                    </a:lnTo>
                    <a:lnTo>
                      <a:pt x="3040" y="799"/>
                    </a:lnTo>
                    <a:lnTo>
                      <a:pt x="2989" y="818"/>
                    </a:lnTo>
                    <a:lnTo>
                      <a:pt x="2937" y="837"/>
                    </a:lnTo>
                    <a:lnTo>
                      <a:pt x="2881" y="854"/>
                    </a:lnTo>
                    <a:lnTo>
                      <a:pt x="2823" y="871"/>
                    </a:lnTo>
                    <a:lnTo>
                      <a:pt x="2761" y="887"/>
                    </a:lnTo>
                    <a:lnTo>
                      <a:pt x="2697" y="902"/>
                    </a:lnTo>
                    <a:lnTo>
                      <a:pt x="2631" y="917"/>
                    </a:lnTo>
                    <a:lnTo>
                      <a:pt x="2563" y="930"/>
                    </a:lnTo>
                    <a:lnTo>
                      <a:pt x="2492" y="942"/>
                    </a:lnTo>
                    <a:lnTo>
                      <a:pt x="2419" y="953"/>
                    </a:lnTo>
                    <a:lnTo>
                      <a:pt x="2344" y="964"/>
                    </a:lnTo>
                    <a:lnTo>
                      <a:pt x="2268" y="973"/>
                    </a:lnTo>
                    <a:lnTo>
                      <a:pt x="2189" y="981"/>
                    </a:lnTo>
                    <a:lnTo>
                      <a:pt x="2110" y="987"/>
                    </a:lnTo>
                    <a:lnTo>
                      <a:pt x="2028" y="993"/>
                    </a:lnTo>
                    <a:lnTo>
                      <a:pt x="1945" y="997"/>
                    </a:lnTo>
                    <a:lnTo>
                      <a:pt x="1860" y="1001"/>
                    </a:lnTo>
                    <a:lnTo>
                      <a:pt x="1774" y="1003"/>
                    </a:lnTo>
                    <a:lnTo>
                      <a:pt x="1687" y="1003"/>
                    </a:lnTo>
                    <a:lnTo>
                      <a:pt x="1601" y="1003"/>
                    </a:lnTo>
                    <a:lnTo>
                      <a:pt x="1515" y="1001"/>
                    </a:lnTo>
                    <a:lnTo>
                      <a:pt x="1431" y="997"/>
                    </a:lnTo>
                    <a:lnTo>
                      <a:pt x="1347" y="993"/>
                    </a:lnTo>
                    <a:lnTo>
                      <a:pt x="1265" y="987"/>
                    </a:lnTo>
                    <a:lnTo>
                      <a:pt x="1186" y="981"/>
                    </a:lnTo>
                    <a:lnTo>
                      <a:pt x="1107" y="973"/>
                    </a:lnTo>
                    <a:lnTo>
                      <a:pt x="1031" y="964"/>
                    </a:lnTo>
                    <a:lnTo>
                      <a:pt x="956" y="953"/>
                    </a:lnTo>
                    <a:lnTo>
                      <a:pt x="884" y="942"/>
                    </a:lnTo>
                    <a:lnTo>
                      <a:pt x="813" y="930"/>
                    </a:lnTo>
                    <a:lnTo>
                      <a:pt x="744" y="917"/>
                    </a:lnTo>
                    <a:lnTo>
                      <a:pt x="678" y="902"/>
                    </a:lnTo>
                    <a:lnTo>
                      <a:pt x="614" y="887"/>
                    </a:lnTo>
                    <a:lnTo>
                      <a:pt x="553" y="871"/>
                    </a:lnTo>
                    <a:lnTo>
                      <a:pt x="494" y="854"/>
                    </a:lnTo>
                    <a:lnTo>
                      <a:pt x="438" y="837"/>
                    </a:lnTo>
                    <a:lnTo>
                      <a:pt x="386" y="818"/>
                    </a:lnTo>
                    <a:lnTo>
                      <a:pt x="335" y="799"/>
                    </a:lnTo>
                    <a:lnTo>
                      <a:pt x="288" y="778"/>
                    </a:lnTo>
                    <a:lnTo>
                      <a:pt x="244" y="758"/>
                    </a:lnTo>
                    <a:lnTo>
                      <a:pt x="204" y="737"/>
                    </a:lnTo>
                    <a:lnTo>
                      <a:pt x="166" y="715"/>
                    </a:lnTo>
                    <a:lnTo>
                      <a:pt x="132" y="692"/>
                    </a:lnTo>
                    <a:lnTo>
                      <a:pt x="102" y="668"/>
                    </a:lnTo>
                    <a:lnTo>
                      <a:pt x="76" y="645"/>
                    </a:lnTo>
                    <a:lnTo>
                      <a:pt x="53" y="621"/>
                    </a:lnTo>
                    <a:lnTo>
                      <a:pt x="34" y="596"/>
                    </a:lnTo>
                    <a:lnTo>
                      <a:pt x="19" y="570"/>
                    </a:lnTo>
                    <a:lnTo>
                      <a:pt x="9" y="545"/>
                    </a:lnTo>
                    <a:lnTo>
                      <a:pt x="2" y="519"/>
                    </a:lnTo>
                    <a:lnTo>
                      <a:pt x="0" y="493"/>
                    </a:lnTo>
                    <a:lnTo>
                      <a:pt x="2" y="466"/>
                    </a:lnTo>
                    <a:lnTo>
                      <a:pt x="9" y="441"/>
                    </a:lnTo>
                    <a:lnTo>
                      <a:pt x="19" y="416"/>
                    </a:lnTo>
                    <a:lnTo>
                      <a:pt x="34" y="391"/>
                    </a:lnTo>
                    <a:lnTo>
                      <a:pt x="53" y="366"/>
                    </a:lnTo>
                    <a:lnTo>
                      <a:pt x="76" y="343"/>
                    </a:lnTo>
                    <a:lnTo>
                      <a:pt x="102" y="320"/>
                    </a:lnTo>
                    <a:lnTo>
                      <a:pt x="132" y="297"/>
                    </a:lnTo>
                    <a:lnTo>
                      <a:pt x="166" y="275"/>
                    </a:lnTo>
                    <a:lnTo>
                      <a:pt x="204" y="253"/>
                    </a:lnTo>
                    <a:lnTo>
                      <a:pt x="244" y="233"/>
                    </a:lnTo>
                    <a:lnTo>
                      <a:pt x="288" y="213"/>
                    </a:lnTo>
                    <a:lnTo>
                      <a:pt x="335" y="194"/>
                    </a:lnTo>
                    <a:lnTo>
                      <a:pt x="386" y="176"/>
                    </a:lnTo>
                    <a:lnTo>
                      <a:pt x="438" y="158"/>
                    </a:lnTo>
                    <a:lnTo>
                      <a:pt x="494" y="140"/>
                    </a:lnTo>
                    <a:lnTo>
                      <a:pt x="553" y="124"/>
                    </a:lnTo>
                    <a:lnTo>
                      <a:pt x="614" y="109"/>
                    </a:lnTo>
                    <a:lnTo>
                      <a:pt x="678" y="95"/>
                    </a:lnTo>
                    <a:lnTo>
                      <a:pt x="744" y="82"/>
                    </a:lnTo>
                    <a:lnTo>
                      <a:pt x="813" y="69"/>
                    </a:lnTo>
                    <a:lnTo>
                      <a:pt x="884" y="58"/>
                    </a:lnTo>
                    <a:lnTo>
                      <a:pt x="956" y="46"/>
                    </a:lnTo>
                    <a:lnTo>
                      <a:pt x="1031" y="37"/>
                    </a:lnTo>
                    <a:lnTo>
                      <a:pt x="1107" y="29"/>
                    </a:lnTo>
                    <a:lnTo>
                      <a:pt x="1186" y="21"/>
                    </a:lnTo>
                    <a:lnTo>
                      <a:pt x="1265" y="15"/>
                    </a:lnTo>
                    <a:lnTo>
                      <a:pt x="1347" y="9"/>
                    </a:lnTo>
                    <a:lnTo>
                      <a:pt x="1431" y="5"/>
                    </a:lnTo>
                    <a:lnTo>
                      <a:pt x="1515" y="2"/>
                    </a:lnTo>
                    <a:lnTo>
                      <a:pt x="1601" y="1"/>
                    </a:lnTo>
                    <a:lnTo>
                      <a:pt x="1687" y="0"/>
                    </a:lnTo>
                    <a:lnTo>
                      <a:pt x="1774" y="1"/>
                    </a:lnTo>
                    <a:lnTo>
                      <a:pt x="1860" y="2"/>
                    </a:lnTo>
                    <a:lnTo>
                      <a:pt x="1945" y="5"/>
                    </a:lnTo>
                    <a:lnTo>
                      <a:pt x="2028" y="9"/>
                    </a:lnTo>
                    <a:lnTo>
                      <a:pt x="2110" y="15"/>
                    </a:lnTo>
                    <a:lnTo>
                      <a:pt x="2189" y="21"/>
                    </a:lnTo>
                    <a:lnTo>
                      <a:pt x="2268" y="29"/>
                    </a:lnTo>
                    <a:lnTo>
                      <a:pt x="2344" y="37"/>
                    </a:lnTo>
                    <a:lnTo>
                      <a:pt x="2419" y="46"/>
                    </a:lnTo>
                    <a:lnTo>
                      <a:pt x="2492" y="58"/>
                    </a:lnTo>
                    <a:lnTo>
                      <a:pt x="2563" y="69"/>
                    </a:lnTo>
                    <a:lnTo>
                      <a:pt x="2631" y="82"/>
                    </a:lnTo>
                    <a:lnTo>
                      <a:pt x="2697" y="95"/>
                    </a:lnTo>
                    <a:lnTo>
                      <a:pt x="2761" y="109"/>
                    </a:lnTo>
                    <a:lnTo>
                      <a:pt x="2823" y="124"/>
                    </a:lnTo>
                    <a:lnTo>
                      <a:pt x="2881" y="140"/>
                    </a:lnTo>
                    <a:lnTo>
                      <a:pt x="2937" y="158"/>
                    </a:lnTo>
                    <a:lnTo>
                      <a:pt x="2989" y="176"/>
                    </a:lnTo>
                    <a:lnTo>
                      <a:pt x="3040" y="194"/>
                    </a:lnTo>
                    <a:lnTo>
                      <a:pt x="3087" y="213"/>
                    </a:lnTo>
                    <a:lnTo>
                      <a:pt x="3131" y="233"/>
                    </a:lnTo>
                    <a:lnTo>
                      <a:pt x="3171" y="253"/>
                    </a:lnTo>
                    <a:lnTo>
                      <a:pt x="3208" y="275"/>
                    </a:lnTo>
                    <a:lnTo>
                      <a:pt x="3243" y="297"/>
                    </a:lnTo>
                    <a:lnTo>
                      <a:pt x="3273" y="320"/>
                    </a:lnTo>
                    <a:lnTo>
                      <a:pt x="3299" y="343"/>
                    </a:lnTo>
                    <a:lnTo>
                      <a:pt x="3322" y="366"/>
                    </a:lnTo>
                    <a:lnTo>
                      <a:pt x="3341" y="391"/>
                    </a:lnTo>
                    <a:lnTo>
                      <a:pt x="3356" y="416"/>
                    </a:lnTo>
                    <a:lnTo>
                      <a:pt x="3366" y="441"/>
                    </a:lnTo>
                    <a:lnTo>
                      <a:pt x="3373" y="466"/>
                    </a:lnTo>
                    <a:lnTo>
                      <a:pt x="3375" y="4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62720" y="6498360"/>
                <a:ext cx="370800" cy="119520"/>
              </a:xfrm>
              <a:custGeom>
                <a:avLst/>
                <a:gdLst/>
                <a:ahLst/>
                <a:rect l="l" t="t" r="r" b="b"/>
                <a:pathLst>
                  <a:path w="3373" h="1001">
                    <a:moveTo>
                      <a:pt x="3373" y="492"/>
                    </a:moveTo>
                    <a:lnTo>
                      <a:pt x="3370" y="518"/>
                    </a:lnTo>
                    <a:lnTo>
                      <a:pt x="3364" y="544"/>
                    </a:lnTo>
                    <a:lnTo>
                      <a:pt x="3353" y="569"/>
                    </a:lnTo>
                    <a:lnTo>
                      <a:pt x="3339" y="595"/>
                    </a:lnTo>
                    <a:lnTo>
                      <a:pt x="3320" y="620"/>
                    </a:lnTo>
                    <a:lnTo>
                      <a:pt x="3297" y="644"/>
                    </a:lnTo>
                    <a:lnTo>
                      <a:pt x="3270" y="667"/>
                    </a:lnTo>
                    <a:lnTo>
                      <a:pt x="3240" y="691"/>
                    </a:lnTo>
                    <a:lnTo>
                      <a:pt x="3206" y="713"/>
                    </a:lnTo>
                    <a:lnTo>
                      <a:pt x="3169" y="735"/>
                    </a:lnTo>
                    <a:lnTo>
                      <a:pt x="3129" y="756"/>
                    </a:lnTo>
                    <a:lnTo>
                      <a:pt x="3084" y="777"/>
                    </a:lnTo>
                    <a:lnTo>
                      <a:pt x="3038" y="798"/>
                    </a:lnTo>
                    <a:lnTo>
                      <a:pt x="2987" y="817"/>
                    </a:lnTo>
                    <a:lnTo>
                      <a:pt x="2935" y="835"/>
                    </a:lnTo>
                    <a:lnTo>
                      <a:pt x="2879" y="852"/>
                    </a:lnTo>
                    <a:lnTo>
                      <a:pt x="2821" y="869"/>
                    </a:lnTo>
                    <a:lnTo>
                      <a:pt x="2759" y="885"/>
                    </a:lnTo>
                    <a:lnTo>
                      <a:pt x="2695" y="900"/>
                    </a:lnTo>
                    <a:lnTo>
                      <a:pt x="2630" y="915"/>
                    </a:lnTo>
                    <a:lnTo>
                      <a:pt x="2561" y="928"/>
                    </a:lnTo>
                    <a:lnTo>
                      <a:pt x="2490" y="940"/>
                    </a:lnTo>
                    <a:lnTo>
                      <a:pt x="2418" y="952"/>
                    </a:lnTo>
                    <a:lnTo>
                      <a:pt x="2343" y="962"/>
                    </a:lnTo>
                    <a:lnTo>
                      <a:pt x="2266" y="971"/>
                    </a:lnTo>
                    <a:lnTo>
                      <a:pt x="2188" y="979"/>
                    </a:lnTo>
                    <a:lnTo>
                      <a:pt x="2108" y="986"/>
                    </a:lnTo>
                    <a:lnTo>
                      <a:pt x="2027" y="991"/>
                    </a:lnTo>
                    <a:lnTo>
                      <a:pt x="1943" y="996"/>
                    </a:lnTo>
                    <a:lnTo>
                      <a:pt x="1859" y="999"/>
                    </a:lnTo>
                    <a:lnTo>
                      <a:pt x="1773" y="1001"/>
                    </a:lnTo>
                    <a:lnTo>
                      <a:pt x="1686" y="1001"/>
                    </a:lnTo>
                    <a:lnTo>
                      <a:pt x="1600" y="1001"/>
                    </a:lnTo>
                    <a:lnTo>
                      <a:pt x="1514" y="999"/>
                    </a:lnTo>
                    <a:lnTo>
                      <a:pt x="1430" y="996"/>
                    </a:lnTo>
                    <a:lnTo>
                      <a:pt x="1347" y="991"/>
                    </a:lnTo>
                    <a:lnTo>
                      <a:pt x="1265" y="986"/>
                    </a:lnTo>
                    <a:lnTo>
                      <a:pt x="1186" y="979"/>
                    </a:lnTo>
                    <a:lnTo>
                      <a:pt x="1107" y="971"/>
                    </a:lnTo>
                    <a:lnTo>
                      <a:pt x="1030" y="962"/>
                    </a:lnTo>
                    <a:lnTo>
                      <a:pt x="955" y="952"/>
                    </a:lnTo>
                    <a:lnTo>
                      <a:pt x="883" y="940"/>
                    </a:lnTo>
                    <a:lnTo>
                      <a:pt x="812" y="928"/>
                    </a:lnTo>
                    <a:lnTo>
                      <a:pt x="744" y="915"/>
                    </a:lnTo>
                    <a:lnTo>
                      <a:pt x="678" y="900"/>
                    </a:lnTo>
                    <a:lnTo>
                      <a:pt x="614" y="885"/>
                    </a:lnTo>
                    <a:lnTo>
                      <a:pt x="552" y="869"/>
                    </a:lnTo>
                    <a:lnTo>
                      <a:pt x="494" y="852"/>
                    </a:lnTo>
                    <a:lnTo>
                      <a:pt x="438" y="835"/>
                    </a:lnTo>
                    <a:lnTo>
                      <a:pt x="386" y="817"/>
                    </a:lnTo>
                    <a:lnTo>
                      <a:pt x="335" y="798"/>
                    </a:lnTo>
                    <a:lnTo>
                      <a:pt x="289" y="777"/>
                    </a:lnTo>
                    <a:lnTo>
                      <a:pt x="244" y="756"/>
                    </a:lnTo>
                    <a:lnTo>
                      <a:pt x="204" y="735"/>
                    </a:lnTo>
                    <a:lnTo>
                      <a:pt x="167" y="713"/>
                    </a:lnTo>
                    <a:lnTo>
                      <a:pt x="133" y="691"/>
                    </a:lnTo>
                    <a:lnTo>
                      <a:pt x="103" y="667"/>
                    </a:lnTo>
                    <a:lnTo>
                      <a:pt x="77" y="644"/>
                    </a:lnTo>
                    <a:lnTo>
                      <a:pt x="53" y="620"/>
                    </a:lnTo>
                    <a:lnTo>
                      <a:pt x="34" y="595"/>
                    </a:lnTo>
                    <a:lnTo>
                      <a:pt x="20" y="569"/>
                    </a:lnTo>
                    <a:lnTo>
                      <a:pt x="9" y="544"/>
                    </a:lnTo>
                    <a:lnTo>
                      <a:pt x="3" y="518"/>
                    </a:lnTo>
                    <a:lnTo>
                      <a:pt x="0" y="492"/>
                    </a:lnTo>
                    <a:lnTo>
                      <a:pt x="3" y="465"/>
                    </a:lnTo>
                    <a:lnTo>
                      <a:pt x="9" y="440"/>
                    </a:lnTo>
                    <a:lnTo>
                      <a:pt x="20" y="415"/>
                    </a:lnTo>
                    <a:lnTo>
                      <a:pt x="34" y="390"/>
                    </a:lnTo>
                    <a:lnTo>
                      <a:pt x="53" y="365"/>
                    </a:lnTo>
                    <a:lnTo>
                      <a:pt x="77" y="342"/>
                    </a:lnTo>
                    <a:lnTo>
                      <a:pt x="103" y="319"/>
                    </a:lnTo>
                    <a:lnTo>
                      <a:pt x="133" y="297"/>
                    </a:lnTo>
                    <a:lnTo>
                      <a:pt x="167" y="275"/>
                    </a:lnTo>
                    <a:lnTo>
                      <a:pt x="204" y="253"/>
                    </a:lnTo>
                    <a:lnTo>
                      <a:pt x="244" y="232"/>
                    </a:lnTo>
                    <a:lnTo>
                      <a:pt x="289" y="213"/>
                    </a:lnTo>
                    <a:lnTo>
                      <a:pt x="335" y="194"/>
                    </a:lnTo>
                    <a:lnTo>
                      <a:pt x="386" y="175"/>
                    </a:lnTo>
                    <a:lnTo>
                      <a:pt x="438" y="158"/>
                    </a:lnTo>
                    <a:lnTo>
                      <a:pt x="494" y="140"/>
                    </a:lnTo>
                    <a:lnTo>
                      <a:pt x="552" y="124"/>
                    </a:lnTo>
                    <a:lnTo>
                      <a:pt x="614" y="109"/>
                    </a:lnTo>
                    <a:lnTo>
                      <a:pt x="678" y="95"/>
                    </a:lnTo>
                    <a:lnTo>
                      <a:pt x="744" y="82"/>
                    </a:lnTo>
                    <a:lnTo>
                      <a:pt x="812" y="69"/>
                    </a:lnTo>
                    <a:lnTo>
                      <a:pt x="883" y="58"/>
                    </a:lnTo>
                    <a:lnTo>
                      <a:pt x="955" y="46"/>
                    </a:lnTo>
                    <a:lnTo>
                      <a:pt x="1030" y="37"/>
                    </a:lnTo>
                    <a:lnTo>
                      <a:pt x="1107" y="28"/>
                    </a:lnTo>
                    <a:lnTo>
                      <a:pt x="1186" y="21"/>
                    </a:lnTo>
                    <a:lnTo>
                      <a:pt x="1265" y="15"/>
                    </a:lnTo>
                    <a:lnTo>
                      <a:pt x="1347" y="9"/>
                    </a:lnTo>
                    <a:lnTo>
                      <a:pt x="1430" y="5"/>
                    </a:lnTo>
                    <a:lnTo>
                      <a:pt x="1514" y="2"/>
                    </a:lnTo>
                    <a:lnTo>
                      <a:pt x="1600" y="0"/>
                    </a:lnTo>
                    <a:lnTo>
                      <a:pt x="1686" y="0"/>
                    </a:lnTo>
                    <a:lnTo>
                      <a:pt x="1773" y="0"/>
                    </a:lnTo>
                    <a:lnTo>
                      <a:pt x="1859" y="2"/>
                    </a:lnTo>
                    <a:lnTo>
                      <a:pt x="1943" y="5"/>
                    </a:lnTo>
                    <a:lnTo>
                      <a:pt x="2027" y="9"/>
                    </a:lnTo>
                    <a:lnTo>
                      <a:pt x="2108" y="15"/>
                    </a:lnTo>
                    <a:lnTo>
                      <a:pt x="2188" y="21"/>
                    </a:lnTo>
                    <a:lnTo>
                      <a:pt x="2266" y="28"/>
                    </a:lnTo>
                    <a:lnTo>
                      <a:pt x="2343" y="37"/>
                    </a:lnTo>
                    <a:lnTo>
                      <a:pt x="2418" y="46"/>
                    </a:lnTo>
                    <a:lnTo>
                      <a:pt x="2490" y="58"/>
                    </a:lnTo>
                    <a:lnTo>
                      <a:pt x="2561" y="69"/>
                    </a:lnTo>
                    <a:lnTo>
                      <a:pt x="2630" y="82"/>
                    </a:lnTo>
                    <a:lnTo>
                      <a:pt x="2695" y="95"/>
                    </a:lnTo>
                    <a:lnTo>
                      <a:pt x="2759" y="109"/>
                    </a:lnTo>
                    <a:lnTo>
                      <a:pt x="2821" y="124"/>
                    </a:lnTo>
                    <a:lnTo>
                      <a:pt x="2879" y="140"/>
                    </a:lnTo>
                    <a:lnTo>
                      <a:pt x="2935" y="158"/>
                    </a:lnTo>
                    <a:lnTo>
                      <a:pt x="2987" y="175"/>
                    </a:lnTo>
                    <a:lnTo>
                      <a:pt x="3038" y="194"/>
                    </a:lnTo>
                    <a:lnTo>
                      <a:pt x="3084" y="213"/>
                    </a:lnTo>
                    <a:lnTo>
                      <a:pt x="3129" y="232"/>
                    </a:lnTo>
                    <a:lnTo>
                      <a:pt x="3169" y="253"/>
                    </a:lnTo>
                    <a:lnTo>
                      <a:pt x="3206" y="275"/>
                    </a:lnTo>
                    <a:lnTo>
                      <a:pt x="3240" y="297"/>
                    </a:lnTo>
                    <a:lnTo>
                      <a:pt x="3270" y="319"/>
                    </a:lnTo>
                    <a:lnTo>
                      <a:pt x="3297" y="342"/>
                    </a:lnTo>
                    <a:lnTo>
                      <a:pt x="3320" y="365"/>
                    </a:lnTo>
                    <a:lnTo>
                      <a:pt x="3339" y="390"/>
                    </a:lnTo>
                    <a:lnTo>
                      <a:pt x="3353" y="415"/>
                    </a:lnTo>
                    <a:lnTo>
                      <a:pt x="3364" y="440"/>
                    </a:lnTo>
                    <a:lnTo>
                      <a:pt x="3370" y="465"/>
                    </a:lnTo>
                    <a:lnTo>
                      <a:pt x="3373" y="4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62720" y="6498360"/>
                <a:ext cx="370800" cy="119520"/>
              </a:xfrm>
              <a:custGeom>
                <a:avLst/>
                <a:gdLst/>
                <a:ahLst/>
                <a:rect l="l" t="t" r="r" b="b"/>
                <a:pathLst>
                  <a:path w="3369" h="999">
                    <a:moveTo>
                      <a:pt x="3369" y="491"/>
                    </a:moveTo>
                    <a:lnTo>
                      <a:pt x="3367" y="517"/>
                    </a:lnTo>
                    <a:lnTo>
                      <a:pt x="3361" y="543"/>
                    </a:lnTo>
                    <a:lnTo>
                      <a:pt x="3350" y="568"/>
                    </a:lnTo>
                    <a:lnTo>
                      <a:pt x="3335" y="594"/>
                    </a:lnTo>
                    <a:lnTo>
                      <a:pt x="3317" y="618"/>
                    </a:lnTo>
                    <a:lnTo>
                      <a:pt x="3293" y="642"/>
                    </a:lnTo>
                    <a:lnTo>
                      <a:pt x="3267" y="666"/>
                    </a:lnTo>
                    <a:lnTo>
                      <a:pt x="3237" y="690"/>
                    </a:lnTo>
                    <a:lnTo>
                      <a:pt x="3203" y="712"/>
                    </a:lnTo>
                    <a:lnTo>
                      <a:pt x="3166" y="734"/>
                    </a:lnTo>
                    <a:lnTo>
                      <a:pt x="3126" y="755"/>
                    </a:lnTo>
                    <a:lnTo>
                      <a:pt x="3081" y="775"/>
                    </a:lnTo>
                    <a:lnTo>
                      <a:pt x="3035" y="795"/>
                    </a:lnTo>
                    <a:lnTo>
                      <a:pt x="2984" y="815"/>
                    </a:lnTo>
                    <a:lnTo>
                      <a:pt x="2932" y="833"/>
                    </a:lnTo>
                    <a:lnTo>
                      <a:pt x="2876" y="851"/>
                    </a:lnTo>
                    <a:lnTo>
                      <a:pt x="2818" y="868"/>
                    </a:lnTo>
                    <a:lnTo>
                      <a:pt x="2756" y="883"/>
                    </a:lnTo>
                    <a:lnTo>
                      <a:pt x="2692" y="898"/>
                    </a:lnTo>
                    <a:lnTo>
                      <a:pt x="2627" y="913"/>
                    </a:lnTo>
                    <a:lnTo>
                      <a:pt x="2558" y="926"/>
                    </a:lnTo>
                    <a:lnTo>
                      <a:pt x="2487" y="939"/>
                    </a:lnTo>
                    <a:lnTo>
                      <a:pt x="2415" y="950"/>
                    </a:lnTo>
                    <a:lnTo>
                      <a:pt x="2340" y="960"/>
                    </a:lnTo>
                    <a:lnTo>
                      <a:pt x="2264" y="969"/>
                    </a:lnTo>
                    <a:lnTo>
                      <a:pt x="2185" y="977"/>
                    </a:lnTo>
                    <a:lnTo>
                      <a:pt x="2106" y="984"/>
                    </a:lnTo>
                    <a:lnTo>
                      <a:pt x="2024" y="989"/>
                    </a:lnTo>
                    <a:lnTo>
                      <a:pt x="1941" y="994"/>
                    </a:lnTo>
                    <a:lnTo>
                      <a:pt x="1857" y="997"/>
                    </a:lnTo>
                    <a:lnTo>
                      <a:pt x="1771" y="999"/>
                    </a:lnTo>
                    <a:lnTo>
                      <a:pt x="1684" y="999"/>
                    </a:lnTo>
                    <a:lnTo>
                      <a:pt x="1598" y="999"/>
                    </a:lnTo>
                    <a:lnTo>
                      <a:pt x="1513" y="997"/>
                    </a:lnTo>
                    <a:lnTo>
                      <a:pt x="1428" y="994"/>
                    </a:lnTo>
                    <a:lnTo>
                      <a:pt x="1345" y="989"/>
                    </a:lnTo>
                    <a:lnTo>
                      <a:pt x="1263" y="984"/>
                    </a:lnTo>
                    <a:lnTo>
                      <a:pt x="1184" y="977"/>
                    </a:lnTo>
                    <a:lnTo>
                      <a:pt x="1105" y="969"/>
                    </a:lnTo>
                    <a:lnTo>
                      <a:pt x="1029" y="960"/>
                    </a:lnTo>
                    <a:lnTo>
                      <a:pt x="954" y="950"/>
                    </a:lnTo>
                    <a:lnTo>
                      <a:pt x="882" y="939"/>
                    </a:lnTo>
                    <a:lnTo>
                      <a:pt x="811" y="926"/>
                    </a:lnTo>
                    <a:lnTo>
                      <a:pt x="742" y="913"/>
                    </a:lnTo>
                    <a:lnTo>
                      <a:pt x="677" y="898"/>
                    </a:lnTo>
                    <a:lnTo>
                      <a:pt x="613" y="883"/>
                    </a:lnTo>
                    <a:lnTo>
                      <a:pt x="551" y="868"/>
                    </a:lnTo>
                    <a:lnTo>
                      <a:pt x="494" y="851"/>
                    </a:lnTo>
                    <a:lnTo>
                      <a:pt x="437" y="833"/>
                    </a:lnTo>
                    <a:lnTo>
                      <a:pt x="385" y="815"/>
                    </a:lnTo>
                    <a:lnTo>
                      <a:pt x="334" y="795"/>
                    </a:lnTo>
                    <a:lnTo>
                      <a:pt x="288" y="775"/>
                    </a:lnTo>
                    <a:lnTo>
                      <a:pt x="243" y="755"/>
                    </a:lnTo>
                    <a:lnTo>
                      <a:pt x="203" y="734"/>
                    </a:lnTo>
                    <a:lnTo>
                      <a:pt x="166" y="712"/>
                    </a:lnTo>
                    <a:lnTo>
                      <a:pt x="132" y="690"/>
                    </a:lnTo>
                    <a:lnTo>
                      <a:pt x="102" y="666"/>
                    </a:lnTo>
                    <a:lnTo>
                      <a:pt x="76" y="642"/>
                    </a:lnTo>
                    <a:lnTo>
                      <a:pt x="52" y="618"/>
                    </a:lnTo>
                    <a:lnTo>
                      <a:pt x="34" y="594"/>
                    </a:lnTo>
                    <a:lnTo>
                      <a:pt x="19" y="568"/>
                    </a:lnTo>
                    <a:lnTo>
                      <a:pt x="9" y="543"/>
                    </a:lnTo>
                    <a:lnTo>
                      <a:pt x="2" y="517"/>
                    </a:lnTo>
                    <a:lnTo>
                      <a:pt x="0" y="491"/>
                    </a:lnTo>
                    <a:lnTo>
                      <a:pt x="2" y="464"/>
                    </a:lnTo>
                    <a:lnTo>
                      <a:pt x="9" y="439"/>
                    </a:lnTo>
                    <a:lnTo>
                      <a:pt x="19" y="414"/>
                    </a:lnTo>
                    <a:lnTo>
                      <a:pt x="34" y="390"/>
                    </a:lnTo>
                    <a:lnTo>
                      <a:pt x="52" y="365"/>
                    </a:lnTo>
                    <a:lnTo>
                      <a:pt x="76" y="341"/>
                    </a:lnTo>
                    <a:lnTo>
                      <a:pt x="102" y="318"/>
                    </a:lnTo>
                    <a:lnTo>
                      <a:pt x="132" y="296"/>
                    </a:lnTo>
                    <a:lnTo>
                      <a:pt x="166" y="274"/>
                    </a:lnTo>
                    <a:lnTo>
                      <a:pt x="203" y="252"/>
                    </a:lnTo>
                    <a:lnTo>
                      <a:pt x="243" y="232"/>
                    </a:lnTo>
                    <a:lnTo>
                      <a:pt x="288" y="212"/>
                    </a:lnTo>
                    <a:lnTo>
                      <a:pt x="334" y="193"/>
                    </a:lnTo>
                    <a:lnTo>
                      <a:pt x="385" y="175"/>
                    </a:lnTo>
                    <a:lnTo>
                      <a:pt x="437" y="157"/>
                    </a:lnTo>
                    <a:lnTo>
                      <a:pt x="494" y="140"/>
                    </a:lnTo>
                    <a:lnTo>
                      <a:pt x="551" y="124"/>
                    </a:lnTo>
                    <a:lnTo>
                      <a:pt x="613" y="109"/>
                    </a:lnTo>
                    <a:lnTo>
                      <a:pt x="677" y="95"/>
                    </a:lnTo>
                    <a:lnTo>
                      <a:pt x="742" y="81"/>
                    </a:lnTo>
                    <a:lnTo>
                      <a:pt x="811" y="69"/>
                    </a:lnTo>
                    <a:lnTo>
                      <a:pt x="882" y="58"/>
                    </a:lnTo>
                    <a:lnTo>
                      <a:pt x="954" y="46"/>
                    </a:lnTo>
                    <a:lnTo>
                      <a:pt x="1029" y="37"/>
                    </a:lnTo>
                    <a:lnTo>
                      <a:pt x="1105" y="28"/>
                    </a:lnTo>
                    <a:lnTo>
                      <a:pt x="1184" y="21"/>
                    </a:lnTo>
                    <a:lnTo>
                      <a:pt x="1263" y="15"/>
                    </a:lnTo>
                    <a:lnTo>
                      <a:pt x="1345" y="9"/>
                    </a:lnTo>
                    <a:lnTo>
                      <a:pt x="1428" y="5"/>
                    </a:lnTo>
                    <a:lnTo>
                      <a:pt x="1513" y="2"/>
                    </a:lnTo>
                    <a:lnTo>
                      <a:pt x="1598" y="0"/>
                    </a:lnTo>
                    <a:lnTo>
                      <a:pt x="1684" y="0"/>
                    </a:lnTo>
                    <a:lnTo>
                      <a:pt x="1771" y="0"/>
                    </a:lnTo>
                    <a:lnTo>
                      <a:pt x="1857" y="2"/>
                    </a:lnTo>
                    <a:lnTo>
                      <a:pt x="1941" y="5"/>
                    </a:lnTo>
                    <a:lnTo>
                      <a:pt x="2024" y="9"/>
                    </a:lnTo>
                    <a:lnTo>
                      <a:pt x="2106" y="15"/>
                    </a:lnTo>
                    <a:lnTo>
                      <a:pt x="2185" y="21"/>
                    </a:lnTo>
                    <a:lnTo>
                      <a:pt x="2264" y="28"/>
                    </a:lnTo>
                    <a:lnTo>
                      <a:pt x="2340" y="37"/>
                    </a:lnTo>
                    <a:lnTo>
                      <a:pt x="2415" y="46"/>
                    </a:lnTo>
                    <a:lnTo>
                      <a:pt x="2487" y="58"/>
                    </a:lnTo>
                    <a:lnTo>
                      <a:pt x="2558" y="69"/>
                    </a:lnTo>
                    <a:lnTo>
                      <a:pt x="2627" y="81"/>
                    </a:lnTo>
                    <a:lnTo>
                      <a:pt x="2692" y="95"/>
                    </a:lnTo>
                    <a:lnTo>
                      <a:pt x="2756" y="109"/>
                    </a:lnTo>
                    <a:lnTo>
                      <a:pt x="2818" y="124"/>
                    </a:lnTo>
                    <a:lnTo>
                      <a:pt x="2876" y="140"/>
                    </a:lnTo>
                    <a:lnTo>
                      <a:pt x="2932" y="157"/>
                    </a:lnTo>
                    <a:lnTo>
                      <a:pt x="2984" y="175"/>
                    </a:lnTo>
                    <a:lnTo>
                      <a:pt x="3035" y="193"/>
                    </a:lnTo>
                    <a:lnTo>
                      <a:pt x="3081" y="212"/>
                    </a:lnTo>
                    <a:lnTo>
                      <a:pt x="3126" y="232"/>
                    </a:lnTo>
                    <a:lnTo>
                      <a:pt x="3166" y="252"/>
                    </a:lnTo>
                    <a:lnTo>
                      <a:pt x="3203" y="274"/>
                    </a:lnTo>
                    <a:lnTo>
                      <a:pt x="3237" y="296"/>
                    </a:lnTo>
                    <a:lnTo>
                      <a:pt x="3267" y="318"/>
                    </a:lnTo>
                    <a:lnTo>
                      <a:pt x="3293" y="341"/>
                    </a:lnTo>
                    <a:lnTo>
                      <a:pt x="3317" y="365"/>
                    </a:lnTo>
                    <a:lnTo>
                      <a:pt x="3335" y="390"/>
                    </a:lnTo>
                    <a:lnTo>
                      <a:pt x="3350" y="414"/>
                    </a:lnTo>
                    <a:lnTo>
                      <a:pt x="3361" y="439"/>
                    </a:lnTo>
                    <a:lnTo>
                      <a:pt x="3367" y="464"/>
                    </a:lnTo>
                    <a:lnTo>
                      <a:pt x="3369" y="4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962720" y="6498360"/>
                <a:ext cx="370800" cy="119520"/>
              </a:xfrm>
              <a:custGeom>
                <a:avLst/>
                <a:gdLst/>
                <a:ahLst/>
                <a:rect l="l" t="t" r="r" b="b"/>
                <a:pathLst>
                  <a:path w="3367" h="998">
                    <a:moveTo>
                      <a:pt x="3367" y="490"/>
                    </a:moveTo>
                    <a:lnTo>
                      <a:pt x="3365" y="516"/>
                    </a:lnTo>
                    <a:lnTo>
                      <a:pt x="3358" y="542"/>
                    </a:lnTo>
                    <a:lnTo>
                      <a:pt x="3348" y="567"/>
                    </a:lnTo>
                    <a:lnTo>
                      <a:pt x="3333" y="593"/>
                    </a:lnTo>
                    <a:lnTo>
                      <a:pt x="3313" y="617"/>
                    </a:lnTo>
                    <a:lnTo>
                      <a:pt x="3291" y="641"/>
                    </a:lnTo>
                    <a:lnTo>
                      <a:pt x="3265" y="664"/>
                    </a:lnTo>
                    <a:lnTo>
                      <a:pt x="3235" y="687"/>
                    </a:lnTo>
                    <a:lnTo>
                      <a:pt x="3200" y="711"/>
                    </a:lnTo>
                    <a:lnTo>
                      <a:pt x="3164" y="732"/>
                    </a:lnTo>
                    <a:lnTo>
                      <a:pt x="3123" y="753"/>
                    </a:lnTo>
                    <a:lnTo>
                      <a:pt x="3079" y="774"/>
                    </a:lnTo>
                    <a:lnTo>
                      <a:pt x="3033" y="793"/>
                    </a:lnTo>
                    <a:lnTo>
                      <a:pt x="2982" y="813"/>
                    </a:lnTo>
                    <a:lnTo>
                      <a:pt x="2930" y="832"/>
                    </a:lnTo>
                    <a:lnTo>
                      <a:pt x="2874" y="849"/>
                    </a:lnTo>
                    <a:lnTo>
                      <a:pt x="2816" y="866"/>
                    </a:lnTo>
                    <a:lnTo>
                      <a:pt x="2754" y="882"/>
                    </a:lnTo>
                    <a:lnTo>
                      <a:pt x="2690" y="897"/>
                    </a:lnTo>
                    <a:lnTo>
                      <a:pt x="2625" y="912"/>
                    </a:lnTo>
                    <a:lnTo>
                      <a:pt x="2556" y="925"/>
                    </a:lnTo>
                    <a:lnTo>
                      <a:pt x="2486" y="937"/>
                    </a:lnTo>
                    <a:lnTo>
                      <a:pt x="2414" y="948"/>
                    </a:lnTo>
                    <a:lnTo>
                      <a:pt x="2339" y="958"/>
                    </a:lnTo>
                    <a:lnTo>
                      <a:pt x="2262" y="967"/>
                    </a:lnTo>
                    <a:lnTo>
                      <a:pt x="2184" y="975"/>
                    </a:lnTo>
                    <a:lnTo>
                      <a:pt x="2105" y="982"/>
                    </a:lnTo>
                    <a:lnTo>
                      <a:pt x="2023" y="987"/>
                    </a:lnTo>
                    <a:lnTo>
                      <a:pt x="1940" y="992"/>
                    </a:lnTo>
                    <a:lnTo>
                      <a:pt x="1855" y="995"/>
                    </a:lnTo>
                    <a:lnTo>
                      <a:pt x="1770" y="997"/>
                    </a:lnTo>
                    <a:lnTo>
                      <a:pt x="1683" y="998"/>
                    </a:lnTo>
                    <a:lnTo>
                      <a:pt x="1597" y="997"/>
                    </a:lnTo>
                    <a:lnTo>
                      <a:pt x="1512" y="995"/>
                    </a:lnTo>
                    <a:lnTo>
                      <a:pt x="1427" y="992"/>
                    </a:lnTo>
                    <a:lnTo>
                      <a:pt x="1344" y="987"/>
                    </a:lnTo>
                    <a:lnTo>
                      <a:pt x="1263" y="982"/>
                    </a:lnTo>
                    <a:lnTo>
                      <a:pt x="1183" y="975"/>
                    </a:lnTo>
                    <a:lnTo>
                      <a:pt x="1105" y="967"/>
                    </a:lnTo>
                    <a:lnTo>
                      <a:pt x="1028" y="958"/>
                    </a:lnTo>
                    <a:lnTo>
                      <a:pt x="953" y="948"/>
                    </a:lnTo>
                    <a:lnTo>
                      <a:pt x="882" y="937"/>
                    </a:lnTo>
                    <a:lnTo>
                      <a:pt x="811" y="925"/>
                    </a:lnTo>
                    <a:lnTo>
                      <a:pt x="742" y="912"/>
                    </a:lnTo>
                    <a:lnTo>
                      <a:pt x="677" y="897"/>
                    </a:lnTo>
                    <a:lnTo>
                      <a:pt x="613" y="882"/>
                    </a:lnTo>
                    <a:lnTo>
                      <a:pt x="551" y="866"/>
                    </a:lnTo>
                    <a:lnTo>
                      <a:pt x="493" y="849"/>
                    </a:lnTo>
                    <a:lnTo>
                      <a:pt x="437" y="832"/>
                    </a:lnTo>
                    <a:lnTo>
                      <a:pt x="385" y="813"/>
                    </a:lnTo>
                    <a:lnTo>
                      <a:pt x="334" y="793"/>
                    </a:lnTo>
                    <a:lnTo>
                      <a:pt x="288" y="774"/>
                    </a:lnTo>
                    <a:lnTo>
                      <a:pt x="244" y="753"/>
                    </a:lnTo>
                    <a:lnTo>
                      <a:pt x="203" y="732"/>
                    </a:lnTo>
                    <a:lnTo>
                      <a:pt x="167" y="711"/>
                    </a:lnTo>
                    <a:lnTo>
                      <a:pt x="132" y="687"/>
                    </a:lnTo>
                    <a:lnTo>
                      <a:pt x="102" y="664"/>
                    </a:lnTo>
                    <a:lnTo>
                      <a:pt x="76" y="641"/>
                    </a:lnTo>
                    <a:lnTo>
                      <a:pt x="53" y="617"/>
                    </a:lnTo>
                    <a:lnTo>
                      <a:pt x="34" y="593"/>
                    </a:lnTo>
                    <a:lnTo>
                      <a:pt x="20" y="567"/>
                    </a:lnTo>
                    <a:lnTo>
                      <a:pt x="9" y="542"/>
                    </a:lnTo>
                    <a:lnTo>
                      <a:pt x="3" y="516"/>
                    </a:lnTo>
                    <a:lnTo>
                      <a:pt x="0" y="490"/>
                    </a:lnTo>
                    <a:lnTo>
                      <a:pt x="3" y="464"/>
                    </a:lnTo>
                    <a:lnTo>
                      <a:pt x="9" y="438"/>
                    </a:lnTo>
                    <a:lnTo>
                      <a:pt x="20" y="413"/>
                    </a:lnTo>
                    <a:lnTo>
                      <a:pt x="34" y="389"/>
                    </a:lnTo>
                    <a:lnTo>
                      <a:pt x="53" y="364"/>
                    </a:lnTo>
                    <a:lnTo>
                      <a:pt x="76" y="340"/>
                    </a:lnTo>
                    <a:lnTo>
                      <a:pt x="102" y="318"/>
                    </a:lnTo>
                    <a:lnTo>
                      <a:pt x="132" y="295"/>
                    </a:lnTo>
                    <a:lnTo>
                      <a:pt x="167" y="274"/>
                    </a:lnTo>
                    <a:lnTo>
                      <a:pt x="203" y="252"/>
                    </a:lnTo>
                    <a:lnTo>
                      <a:pt x="244" y="231"/>
                    </a:lnTo>
                    <a:lnTo>
                      <a:pt x="288" y="212"/>
                    </a:lnTo>
                    <a:lnTo>
                      <a:pt x="334" y="193"/>
                    </a:lnTo>
                    <a:lnTo>
                      <a:pt x="385" y="174"/>
                    </a:lnTo>
                    <a:lnTo>
                      <a:pt x="437" y="157"/>
                    </a:lnTo>
                    <a:lnTo>
                      <a:pt x="493" y="139"/>
                    </a:lnTo>
                    <a:lnTo>
                      <a:pt x="551" y="124"/>
                    </a:lnTo>
                    <a:lnTo>
                      <a:pt x="613" y="109"/>
                    </a:lnTo>
                    <a:lnTo>
                      <a:pt x="677" y="94"/>
                    </a:lnTo>
                    <a:lnTo>
                      <a:pt x="742" y="81"/>
                    </a:lnTo>
                    <a:lnTo>
                      <a:pt x="811" y="69"/>
                    </a:lnTo>
                    <a:lnTo>
                      <a:pt x="882" y="57"/>
                    </a:lnTo>
                    <a:lnTo>
                      <a:pt x="953" y="47"/>
                    </a:lnTo>
                    <a:lnTo>
                      <a:pt x="1028" y="37"/>
                    </a:lnTo>
                    <a:lnTo>
                      <a:pt x="1105" y="28"/>
                    </a:lnTo>
                    <a:lnTo>
                      <a:pt x="1183" y="21"/>
                    </a:lnTo>
                    <a:lnTo>
                      <a:pt x="1263" y="14"/>
                    </a:lnTo>
                    <a:lnTo>
                      <a:pt x="1344" y="9"/>
                    </a:lnTo>
                    <a:lnTo>
                      <a:pt x="1427" y="5"/>
                    </a:lnTo>
                    <a:lnTo>
                      <a:pt x="1512" y="2"/>
                    </a:lnTo>
                    <a:lnTo>
                      <a:pt x="1597" y="0"/>
                    </a:lnTo>
                    <a:lnTo>
                      <a:pt x="1683" y="0"/>
                    </a:lnTo>
                    <a:lnTo>
                      <a:pt x="1770" y="0"/>
                    </a:lnTo>
                    <a:lnTo>
                      <a:pt x="1855" y="2"/>
                    </a:lnTo>
                    <a:lnTo>
                      <a:pt x="1940" y="5"/>
                    </a:lnTo>
                    <a:lnTo>
                      <a:pt x="2023" y="9"/>
                    </a:lnTo>
                    <a:lnTo>
                      <a:pt x="2105" y="14"/>
                    </a:lnTo>
                    <a:lnTo>
                      <a:pt x="2184" y="21"/>
                    </a:lnTo>
                    <a:lnTo>
                      <a:pt x="2262" y="28"/>
                    </a:lnTo>
                    <a:lnTo>
                      <a:pt x="2339" y="37"/>
                    </a:lnTo>
                    <a:lnTo>
                      <a:pt x="2414" y="47"/>
                    </a:lnTo>
                    <a:lnTo>
                      <a:pt x="2486" y="57"/>
                    </a:lnTo>
                    <a:lnTo>
                      <a:pt x="2556" y="69"/>
                    </a:lnTo>
                    <a:lnTo>
                      <a:pt x="2625" y="81"/>
                    </a:lnTo>
                    <a:lnTo>
                      <a:pt x="2690" y="94"/>
                    </a:lnTo>
                    <a:lnTo>
                      <a:pt x="2754" y="109"/>
                    </a:lnTo>
                    <a:lnTo>
                      <a:pt x="2816" y="124"/>
                    </a:lnTo>
                    <a:lnTo>
                      <a:pt x="2874" y="139"/>
                    </a:lnTo>
                    <a:lnTo>
                      <a:pt x="2930" y="157"/>
                    </a:lnTo>
                    <a:lnTo>
                      <a:pt x="2982" y="174"/>
                    </a:lnTo>
                    <a:lnTo>
                      <a:pt x="3033" y="193"/>
                    </a:lnTo>
                    <a:lnTo>
                      <a:pt x="3079" y="212"/>
                    </a:lnTo>
                    <a:lnTo>
                      <a:pt x="3123" y="231"/>
                    </a:lnTo>
                    <a:lnTo>
                      <a:pt x="3164" y="252"/>
                    </a:lnTo>
                    <a:lnTo>
                      <a:pt x="3200" y="274"/>
                    </a:lnTo>
                    <a:lnTo>
                      <a:pt x="3235" y="295"/>
                    </a:lnTo>
                    <a:lnTo>
                      <a:pt x="3265" y="318"/>
                    </a:lnTo>
                    <a:lnTo>
                      <a:pt x="3291" y="340"/>
                    </a:lnTo>
                    <a:lnTo>
                      <a:pt x="3313" y="364"/>
                    </a:lnTo>
                    <a:lnTo>
                      <a:pt x="3333" y="389"/>
                    </a:lnTo>
                    <a:lnTo>
                      <a:pt x="3348" y="413"/>
                    </a:lnTo>
                    <a:lnTo>
                      <a:pt x="3358" y="438"/>
                    </a:lnTo>
                    <a:lnTo>
                      <a:pt x="3365" y="464"/>
                    </a:lnTo>
                    <a:lnTo>
                      <a:pt x="3367" y="4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62720" y="6499800"/>
                <a:ext cx="370800" cy="118080"/>
              </a:xfrm>
              <a:custGeom>
                <a:avLst/>
                <a:gdLst/>
                <a:ahLst/>
                <a:rect l="l" t="t" r="r" b="b"/>
                <a:pathLst>
                  <a:path w="3363" h="996">
                    <a:moveTo>
                      <a:pt x="3363" y="489"/>
                    </a:moveTo>
                    <a:lnTo>
                      <a:pt x="3361" y="515"/>
                    </a:lnTo>
                    <a:lnTo>
                      <a:pt x="3355" y="541"/>
                    </a:lnTo>
                    <a:lnTo>
                      <a:pt x="3344" y="566"/>
                    </a:lnTo>
                    <a:lnTo>
                      <a:pt x="3330" y="592"/>
                    </a:lnTo>
                    <a:lnTo>
                      <a:pt x="3310" y="616"/>
                    </a:lnTo>
                    <a:lnTo>
                      <a:pt x="3287" y="640"/>
                    </a:lnTo>
                    <a:lnTo>
                      <a:pt x="3261" y="663"/>
                    </a:lnTo>
                    <a:lnTo>
                      <a:pt x="3231" y="686"/>
                    </a:lnTo>
                    <a:lnTo>
                      <a:pt x="3197" y="709"/>
                    </a:lnTo>
                    <a:lnTo>
                      <a:pt x="3160" y="731"/>
                    </a:lnTo>
                    <a:lnTo>
                      <a:pt x="3120" y="752"/>
                    </a:lnTo>
                    <a:lnTo>
                      <a:pt x="3076" y="772"/>
                    </a:lnTo>
                    <a:lnTo>
                      <a:pt x="3029" y="792"/>
                    </a:lnTo>
                    <a:lnTo>
                      <a:pt x="2979" y="812"/>
                    </a:lnTo>
                    <a:lnTo>
                      <a:pt x="2927" y="830"/>
                    </a:lnTo>
                    <a:lnTo>
                      <a:pt x="2871" y="848"/>
                    </a:lnTo>
                    <a:lnTo>
                      <a:pt x="2813" y="864"/>
                    </a:lnTo>
                    <a:lnTo>
                      <a:pt x="2751" y="880"/>
                    </a:lnTo>
                    <a:lnTo>
                      <a:pt x="2687" y="895"/>
                    </a:lnTo>
                    <a:lnTo>
                      <a:pt x="2622" y="910"/>
                    </a:lnTo>
                    <a:lnTo>
                      <a:pt x="2554" y="923"/>
                    </a:lnTo>
                    <a:lnTo>
                      <a:pt x="2483" y="935"/>
                    </a:lnTo>
                    <a:lnTo>
                      <a:pt x="2411" y="946"/>
                    </a:lnTo>
                    <a:lnTo>
                      <a:pt x="2336" y="956"/>
                    </a:lnTo>
                    <a:lnTo>
                      <a:pt x="2260" y="965"/>
                    </a:lnTo>
                    <a:lnTo>
                      <a:pt x="2181" y="973"/>
                    </a:lnTo>
                    <a:lnTo>
                      <a:pt x="2102" y="980"/>
                    </a:lnTo>
                    <a:lnTo>
                      <a:pt x="2021" y="985"/>
                    </a:lnTo>
                    <a:lnTo>
                      <a:pt x="1938" y="990"/>
                    </a:lnTo>
                    <a:lnTo>
                      <a:pt x="1853" y="993"/>
                    </a:lnTo>
                    <a:lnTo>
                      <a:pt x="1768" y="995"/>
                    </a:lnTo>
                    <a:lnTo>
                      <a:pt x="1681" y="996"/>
                    </a:lnTo>
                    <a:lnTo>
                      <a:pt x="1595" y="995"/>
                    </a:lnTo>
                    <a:lnTo>
                      <a:pt x="1510" y="993"/>
                    </a:lnTo>
                    <a:lnTo>
                      <a:pt x="1425" y="990"/>
                    </a:lnTo>
                    <a:lnTo>
                      <a:pt x="1342" y="985"/>
                    </a:lnTo>
                    <a:lnTo>
                      <a:pt x="1261" y="980"/>
                    </a:lnTo>
                    <a:lnTo>
                      <a:pt x="1182" y="973"/>
                    </a:lnTo>
                    <a:lnTo>
                      <a:pt x="1103" y="965"/>
                    </a:lnTo>
                    <a:lnTo>
                      <a:pt x="1027" y="956"/>
                    </a:lnTo>
                    <a:lnTo>
                      <a:pt x="952" y="946"/>
                    </a:lnTo>
                    <a:lnTo>
                      <a:pt x="880" y="935"/>
                    </a:lnTo>
                    <a:lnTo>
                      <a:pt x="810" y="923"/>
                    </a:lnTo>
                    <a:lnTo>
                      <a:pt x="741" y="910"/>
                    </a:lnTo>
                    <a:lnTo>
                      <a:pt x="676" y="895"/>
                    </a:lnTo>
                    <a:lnTo>
                      <a:pt x="612" y="880"/>
                    </a:lnTo>
                    <a:lnTo>
                      <a:pt x="550" y="864"/>
                    </a:lnTo>
                    <a:lnTo>
                      <a:pt x="493" y="848"/>
                    </a:lnTo>
                    <a:lnTo>
                      <a:pt x="436" y="830"/>
                    </a:lnTo>
                    <a:lnTo>
                      <a:pt x="384" y="812"/>
                    </a:lnTo>
                    <a:lnTo>
                      <a:pt x="334" y="792"/>
                    </a:lnTo>
                    <a:lnTo>
                      <a:pt x="287" y="772"/>
                    </a:lnTo>
                    <a:lnTo>
                      <a:pt x="243" y="752"/>
                    </a:lnTo>
                    <a:lnTo>
                      <a:pt x="203" y="731"/>
                    </a:lnTo>
                    <a:lnTo>
                      <a:pt x="166" y="709"/>
                    </a:lnTo>
                    <a:lnTo>
                      <a:pt x="132" y="686"/>
                    </a:lnTo>
                    <a:lnTo>
                      <a:pt x="102" y="663"/>
                    </a:lnTo>
                    <a:lnTo>
                      <a:pt x="76" y="640"/>
                    </a:lnTo>
                    <a:lnTo>
                      <a:pt x="52" y="616"/>
                    </a:lnTo>
                    <a:lnTo>
                      <a:pt x="34" y="592"/>
                    </a:lnTo>
                    <a:lnTo>
                      <a:pt x="19" y="566"/>
                    </a:lnTo>
                    <a:lnTo>
                      <a:pt x="8" y="541"/>
                    </a:lnTo>
                    <a:lnTo>
                      <a:pt x="2" y="515"/>
                    </a:lnTo>
                    <a:lnTo>
                      <a:pt x="0" y="489"/>
                    </a:lnTo>
                    <a:lnTo>
                      <a:pt x="2" y="463"/>
                    </a:lnTo>
                    <a:lnTo>
                      <a:pt x="8" y="437"/>
                    </a:lnTo>
                    <a:lnTo>
                      <a:pt x="19" y="412"/>
                    </a:lnTo>
                    <a:lnTo>
                      <a:pt x="34" y="388"/>
                    </a:lnTo>
                    <a:lnTo>
                      <a:pt x="52" y="363"/>
                    </a:lnTo>
                    <a:lnTo>
                      <a:pt x="76" y="340"/>
                    </a:lnTo>
                    <a:lnTo>
                      <a:pt x="102" y="317"/>
                    </a:lnTo>
                    <a:lnTo>
                      <a:pt x="132" y="295"/>
                    </a:lnTo>
                    <a:lnTo>
                      <a:pt x="166" y="273"/>
                    </a:lnTo>
                    <a:lnTo>
                      <a:pt x="203" y="251"/>
                    </a:lnTo>
                    <a:lnTo>
                      <a:pt x="243" y="231"/>
                    </a:lnTo>
                    <a:lnTo>
                      <a:pt x="287" y="211"/>
                    </a:lnTo>
                    <a:lnTo>
                      <a:pt x="334" y="192"/>
                    </a:lnTo>
                    <a:lnTo>
                      <a:pt x="384" y="174"/>
                    </a:lnTo>
                    <a:lnTo>
                      <a:pt x="436" y="157"/>
                    </a:lnTo>
                    <a:lnTo>
                      <a:pt x="493" y="139"/>
                    </a:lnTo>
                    <a:lnTo>
                      <a:pt x="550" y="123"/>
                    </a:lnTo>
                    <a:lnTo>
                      <a:pt x="612" y="108"/>
                    </a:lnTo>
                    <a:lnTo>
                      <a:pt x="676" y="94"/>
                    </a:lnTo>
                    <a:lnTo>
                      <a:pt x="741" y="81"/>
                    </a:lnTo>
                    <a:lnTo>
                      <a:pt x="810" y="69"/>
                    </a:lnTo>
                    <a:lnTo>
                      <a:pt x="880" y="57"/>
                    </a:lnTo>
                    <a:lnTo>
                      <a:pt x="952" y="47"/>
                    </a:lnTo>
                    <a:lnTo>
                      <a:pt x="1027" y="36"/>
                    </a:lnTo>
                    <a:lnTo>
                      <a:pt x="1103" y="28"/>
                    </a:lnTo>
                    <a:lnTo>
                      <a:pt x="1182" y="21"/>
                    </a:lnTo>
                    <a:lnTo>
                      <a:pt x="1261" y="14"/>
                    </a:lnTo>
                    <a:lnTo>
                      <a:pt x="1342" y="9"/>
                    </a:lnTo>
                    <a:lnTo>
                      <a:pt x="1425" y="5"/>
                    </a:lnTo>
                    <a:lnTo>
                      <a:pt x="1510" y="2"/>
                    </a:lnTo>
                    <a:lnTo>
                      <a:pt x="1595" y="0"/>
                    </a:lnTo>
                    <a:lnTo>
                      <a:pt x="1681" y="0"/>
                    </a:lnTo>
                    <a:lnTo>
                      <a:pt x="1768" y="0"/>
                    </a:lnTo>
                    <a:lnTo>
                      <a:pt x="1853" y="2"/>
                    </a:lnTo>
                    <a:lnTo>
                      <a:pt x="1938" y="5"/>
                    </a:lnTo>
                    <a:lnTo>
                      <a:pt x="2021" y="9"/>
                    </a:lnTo>
                    <a:lnTo>
                      <a:pt x="2102" y="14"/>
                    </a:lnTo>
                    <a:lnTo>
                      <a:pt x="2181" y="21"/>
                    </a:lnTo>
                    <a:lnTo>
                      <a:pt x="2260" y="28"/>
                    </a:lnTo>
                    <a:lnTo>
                      <a:pt x="2336" y="36"/>
                    </a:lnTo>
                    <a:lnTo>
                      <a:pt x="2411" y="47"/>
                    </a:lnTo>
                    <a:lnTo>
                      <a:pt x="2483" y="57"/>
                    </a:lnTo>
                    <a:lnTo>
                      <a:pt x="2554" y="69"/>
                    </a:lnTo>
                    <a:lnTo>
                      <a:pt x="2622" y="81"/>
                    </a:lnTo>
                    <a:lnTo>
                      <a:pt x="2687" y="94"/>
                    </a:lnTo>
                    <a:lnTo>
                      <a:pt x="2751" y="108"/>
                    </a:lnTo>
                    <a:lnTo>
                      <a:pt x="2813" y="123"/>
                    </a:lnTo>
                    <a:lnTo>
                      <a:pt x="2871" y="139"/>
                    </a:lnTo>
                    <a:lnTo>
                      <a:pt x="2927" y="157"/>
                    </a:lnTo>
                    <a:lnTo>
                      <a:pt x="2979" y="174"/>
                    </a:lnTo>
                    <a:lnTo>
                      <a:pt x="3029" y="192"/>
                    </a:lnTo>
                    <a:lnTo>
                      <a:pt x="3076" y="211"/>
                    </a:lnTo>
                    <a:lnTo>
                      <a:pt x="3120" y="231"/>
                    </a:lnTo>
                    <a:lnTo>
                      <a:pt x="3160" y="251"/>
                    </a:lnTo>
                    <a:lnTo>
                      <a:pt x="3197" y="273"/>
                    </a:lnTo>
                    <a:lnTo>
                      <a:pt x="3231" y="295"/>
                    </a:lnTo>
                    <a:lnTo>
                      <a:pt x="3261" y="317"/>
                    </a:lnTo>
                    <a:lnTo>
                      <a:pt x="3287" y="340"/>
                    </a:lnTo>
                    <a:lnTo>
                      <a:pt x="3310" y="363"/>
                    </a:lnTo>
                    <a:lnTo>
                      <a:pt x="3330" y="388"/>
                    </a:lnTo>
                    <a:lnTo>
                      <a:pt x="3344" y="412"/>
                    </a:lnTo>
                    <a:lnTo>
                      <a:pt x="3355" y="437"/>
                    </a:lnTo>
                    <a:lnTo>
                      <a:pt x="3361" y="463"/>
                    </a:lnTo>
                    <a:lnTo>
                      <a:pt x="3363" y="4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62720" y="6499800"/>
                <a:ext cx="370800" cy="118080"/>
              </a:xfrm>
              <a:custGeom>
                <a:avLst/>
                <a:gdLst/>
                <a:ahLst/>
                <a:rect l="l" t="t" r="r" b="b"/>
                <a:pathLst>
                  <a:path w="3361" h="994">
                    <a:moveTo>
                      <a:pt x="3361" y="488"/>
                    </a:moveTo>
                    <a:lnTo>
                      <a:pt x="3359" y="514"/>
                    </a:lnTo>
                    <a:lnTo>
                      <a:pt x="3352" y="540"/>
                    </a:lnTo>
                    <a:lnTo>
                      <a:pt x="3342" y="565"/>
                    </a:lnTo>
                    <a:lnTo>
                      <a:pt x="3327" y="590"/>
                    </a:lnTo>
                    <a:lnTo>
                      <a:pt x="3308" y="615"/>
                    </a:lnTo>
                    <a:lnTo>
                      <a:pt x="3285" y="639"/>
                    </a:lnTo>
                    <a:lnTo>
                      <a:pt x="3259" y="662"/>
                    </a:lnTo>
                    <a:lnTo>
                      <a:pt x="3229" y="685"/>
                    </a:lnTo>
                    <a:lnTo>
                      <a:pt x="3195" y="708"/>
                    </a:lnTo>
                    <a:lnTo>
                      <a:pt x="3158" y="729"/>
                    </a:lnTo>
                    <a:lnTo>
                      <a:pt x="3118" y="750"/>
                    </a:lnTo>
                    <a:lnTo>
                      <a:pt x="3074" y="771"/>
                    </a:lnTo>
                    <a:lnTo>
                      <a:pt x="3027" y="790"/>
                    </a:lnTo>
                    <a:lnTo>
                      <a:pt x="2977" y="810"/>
                    </a:lnTo>
                    <a:lnTo>
                      <a:pt x="2925" y="828"/>
                    </a:lnTo>
                    <a:lnTo>
                      <a:pt x="2869" y="846"/>
                    </a:lnTo>
                    <a:lnTo>
                      <a:pt x="2811" y="862"/>
                    </a:lnTo>
                    <a:lnTo>
                      <a:pt x="2749" y="878"/>
                    </a:lnTo>
                    <a:lnTo>
                      <a:pt x="2686" y="893"/>
                    </a:lnTo>
                    <a:lnTo>
                      <a:pt x="2620" y="908"/>
                    </a:lnTo>
                    <a:lnTo>
                      <a:pt x="2552" y="921"/>
                    </a:lnTo>
                    <a:lnTo>
                      <a:pt x="2481" y="933"/>
                    </a:lnTo>
                    <a:lnTo>
                      <a:pt x="2409" y="944"/>
                    </a:lnTo>
                    <a:lnTo>
                      <a:pt x="2335" y="954"/>
                    </a:lnTo>
                    <a:lnTo>
                      <a:pt x="2258" y="963"/>
                    </a:lnTo>
                    <a:lnTo>
                      <a:pt x="2180" y="971"/>
                    </a:lnTo>
                    <a:lnTo>
                      <a:pt x="2101" y="978"/>
                    </a:lnTo>
                    <a:lnTo>
                      <a:pt x="2019" y="984"/>
                    </a:lnTo>
                    <a:lnTo>
                      <a:pt x="1936" y="988"/>
                    </a:lnTo>
                    <a:lnTo>
                      <a:pt x="1852" y="991"/>
                    </a:lnTo>
                    <a:lnTo>
                      <a:pt x="1767" y="993"/>
                    </a:lnTo>
                    <a:lnTo>
                      <a:pt x="1680" y="994"/>
                    </a:lnTo>
                    <a:lnTo>
                      <a:pt x="1594" y="993"/>
                    </a:lnTo>
                    <a:lnTo>
                      <a:pt x="1509" y="991"/>
                    </a:lnTo>
                    <a:lnTo>
                      <a:pt x="1425" y="988"/>
                    </a:lnTo>
                    <a:lnTo>
                      <a:pt x="1342" y="984"/>
                    </a:lnTo>
                    <a:lnTo>
                      <a:pt x="1260" y="978"/>
                    </a:lnTo>
                    <a:lnTo>
                      <a:pt x="1181" y="971"/>
                    </a:lnTo>
                    <a:lnTo>
                      <a:pt x="1103" y="963"/>
                    </a:lnTo>
                    <a:lnTo>
                      <a:pt x="1026" y="954"/>
                    </a:lnTo>
                    <a:lnTo>
                      <a:pt x="952" y="944"/>
                    </a:lnTo>
                    <a:lnTo>
                      <a:pt x="880" y="933"/>
                    </a:lnTo>
                    <a:lnTo>
                      <a:pt x="809" y="921"/>
                    </a:lnTo>
                    <a:lnTo>
                      <a:pt x="741" y="908"/>
                    </a:lnTo>
                    <a:lnTo>
                      <a:pt x="676" y="893"/>
                    </a:lnTo>
                    <a:lnTo>
                      <a:pt x="612" y="878"/>
                    </a:lnTo>
                    <a:lnTo>
                      <a:pt x="550" y="862"/>
                    </a:lnTo>
                    <a:lnTo>
                      <a:pt x="493" y="846"/>
                    </a:lnTo>
                    <a:lnTo>
                      <a:pt x="436" y="828"/>
                    </a:lnTo>
                    <a:lnTo>
                      <a:pt x="384" y="810"/>
                    </a:lnTo>
                    <a:lnTo>
                      <a:pt x="334" y="790"/>
                    </a:lnTo>
                    <a:lnTo>
                      <a:pt x="287" y="771"/>
                    </a:lnTo>
                    <a:lnTo>
                      <a:pt x="243" y="750"/>
                    </a:lnTo>
                    <a:lnTo>
                      <a:pt x="203" y="729"/>
                    </a:lnTo>
                    <a:lnTo>
                      <a:pt x="166" y="708"/>
                    </a:lnTo>
                    <a:lnTo>
                      <a:pt x="132" y="685"/>
                    </a:lnTo>
                    <a:lnTo>
                      <a:pt x="102" y="662"/>
                    </a:lnTo>
                    <a:lnTo>
                      <a:pt x="76" y="639"/>
                    </a:lnTo>
                    <a:lnTo>
                      <a:pt x="53" y="615"/>
                    </a:lnTo>
                    <a:lnTo>
                      <a:pt x="34" y="590"/>
                    </a:lnTo>
                    <a:lnTo>
                      <a:pt x="19" y="565"/>
                    </a:lnTo>
                    <a:lnTo>
                      <a:pt x="9" y="540"/>
                    </a:lnTo>
                    <a:lnTo>
                      <a:pt x="2" y="514"/>
                    </a:lnTo>
                    <a:lnTo>
                      <a:pt x="0" y="488"/>
                    </a:lnTo>
                    <a:lnTo>
                      <a:pt x="2" y="462"/>
                    </a:lnTo>
                    <a:lnTo>
                      <a:pt x="9" y="436"/>
                    </a:lnTo>
                    <a:lnTo>
                      <a:pt x="19" y="412"/>
                    </a:lnTo>
                    <a:lnTo>
                      <a:pt x="34" y="387"/>
                    </a:lnTo>
                    <a:lnTo>
                      <a:pt x="53" y="362"/>
                    </a:lnTo>
                    <a:lnTo>
                      <a:pt x="76" y="339"/>
                    </a:lnTo>
                    <a:lnTo>
                      <a:pt x="102" y="316"/>
                    </a:lnTo>
                    <a:lnTo>
                      <a:pt x="132" y="294"/>
                    </a:lnTo>
                    <a:lnTo>
                      <a:pt x="166" y="272"/>
                    </a:lnTo>
                    <a:lnTo>
                      <a:pt x="203" y="251"/>
                    </a:lnTo>
                    <a:lnTo>
                      <a:pt x="243" y="230"/>
                    </a:lnTo>
                    <a:lnTo>
                      <a:pt x="287" y="211"/>
                    </a:lnTo>
                    <a:lnTo>
                      <a:pt x="334" y="192"/>
                    </a:lnTo>
                    <a:lnTo>
                      <a:pt x="384" y="174"/>
                    </a:lnTo>
                    <a:lnTo>
                      <a:pt x="436" y="156"/>
                    </a:lnTo>
                    <a:lnTo>
                      <a:pt x="493" y="139"/>
                    </a:lnTo>
                    <a:lnTo>
                      <a:pt x="550" y="123"/>
                    </a:lnTo>
                    <a:lnTo>
                      <a:pt x="612" y="108"/>
                    </a:lnTo>
                    <a:lnTo>
                      <a:pt x="676" y="94"/>
                    </a:lnTo>
                    <a:lnTo>
                      <a:pt x="741" y="81"/>
                    </a:lnTo>
                    <a:lnTo>
                      <a:pt x="809" y="68"/>
                    </a:lnTo>
                    <a:lnTo>
                      <a:pt x="880" y="57"/>
                    </a:lnTo>
                    <a:lnTo>
                      <a:pt x="952" y="47"/>
                    </a:lnTo>
                    <a:lnTo>
                      <a:pt x="1026" y="36"/>
                    </a:lnTo>
                    <a:lnTo>
                      <a:pt x="1103" y="28"/>
                    </a:lnTo>
                    <a:lnTo>
                      <a:pt x="1181" y="21"/>
                    </a:lnTo>
                    <a:lnTo>
                      <a:pt x="1260" y="14"/>
                    </a:lnTo>
                    <a:lnTo>
                      <a:pt x="1342" y="9"/>
                    </a:lnTo>
                    <a:lnTo>
                      <a:pt x="1425" y="5"/>
                    </a:lnTo>
                    <a:lnTo>
                      <a:pt x="1509" y="2"/>
                    </a:lnTo>
                    <a:lnTo>
                      <a:pt x="1594" y="0"/>
                    </a:lnTo>
                    <a:lnTo>
                      <a:pt x="1680" y="0"/>
                    </a:lnTo>
                    <a:lnTo>
                      <a:pt x="1767" y="0"/>
                    </a:lnTo>
                    <a:lnTo>
                      <a:pt x="1852" y="2"/>
                    </a:lnTo>
                    <a:lnTo>
                      <a:pt x="1936" y="5"/>
                    </a:lnTo>
                    <a:lnTo>
                      <a:pt x="2019" y="9"/>
                    </a:lnTo>
                    <a:lnTo>
                      <a:pt x="2101" y="14"/>
                    </a:lnTo>
                    <a:lnTo>
                      <a:pt x="2180" y="21"/>
                    </a:lnTo>
                    <a:lnTo>
                      <a:pt x="2258" y="28"/>
                    </a:lnTo>
                    <a:lnTo>
                      <a:pt x="2335" y="36"/>
                    </a:lnTo>
                    <a:lnTo>
                      <a:pt x="2409" y="47"/>
                    </a:lnTo>
                    <a:lnTo>
                      <a:pt x="2481" y="57"/>
                    </a:lnTo>
                    <a:lnTo>
                      <a:pt x="2552" y="68"/>
                    </a:lnTo>
                    <a:lnTo>
                      <a:pt x="2620" y="81"/>
                    </a:lnTo>
                    <a:lnTo>
                      <a:pt x="2686" y="94"/>
                    </a:lnTo>
                    <a:lnTo>
                      <a:pt x="2749" y="108"/>
                    </a:lnTo>
                    <a:lnTo>
                      <a:pt x="2811" y="123"/>
                    </a:lnTo>
                    <a:lnTo>
                      <a:pt x="2869" y="139"/>
                    </a:lnTo>
                    <a:lnTo>
                      <a:pt x="2925" y="156"/>
                    </a:lnTo>
                    <a:lnTo>
                      <a:pt x="2977" y="174"/>
                    </a:lnTo>
                    <a:lnTo>
                      <a:pt x="3027" y="192"/>
                    </a:lnTo>
                    <a:lnTo>
                      <a:pt x="3074" y="211"/>
                    </a:lnTo>
                    <a:lnTo>
                      <a:pt x="3118" y="230"/>
                    </a:lnTo>
                    <a:lnTo>
                      <a:pt x="3158" y="251"/>
                    </a:lnTo>
                    <a:lnTo>
                      <a:pt x="3195" y="272"/>
                    </a:lnTo>
                    <a:lnTo>
                      <a:pt x="3229" y="294"/>
                    </a:lnTo>
                    <a:lnTo>
                      <a:pt x="3259" y="316"/>
                    </a:lnTo>
                    <a:lnTo>
                      <a:pt x="3285" y="339"/>
                    </a:lnTo>
                    <a:lnTo>
                      <a:pt x="3308" y="362"/>
                    </a:lnTo>
                    <a:lnTo>
                      <a:pt x="3327" y="387"/>
                    </a:lnTo>
                    <a:lnTo>
                      <a:pt x="3342" y="412"/>
                    </a:lnTo>
                    <a:lnTo>
                      <a:pt x="3352" y="436"/>
                    </a:lnTo>
                    <a:lnTo>
                      <a:pt x="3359" y="462"/>
                    </a:lnTo>
                    <a:lnTo>
                      <a:pt x="3361" y="4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962720" y="6499800"/>
                <a:ext cx="370800" cy="118080"/>
              </a:xfrm>
              <a:custGeom>
                <a:avLst/>
                <a:gdLst/>
                <a:ahLst/>
                <a:rect l="l" t="t" r="r" b="b"/>
                <a:pathLst>
                  <a:path w="3358" h="992">
                    <a:moveTo>
                      <a:pt x="3358" y="487"/>
                    </a:moveTo>
                    <a:lnTo>
                      <a:pt x="3355" y="513"/>
                    </a:lnTo>
                    <a:lnTo>
                      <a:pt x="3349" y="539"/>
                    </a:lnTo>
                    <a:lnTo>
                      <a:pt x="3338" y="564"/>
                    </a:lnTo>
                    <a:lnTo>
                      <a:pt x="3324" y="589"/>
                    </a:lnTo>
                    <a:lnTo>
                      <a:pt x="3304" y="613"/>
                    </a:lnTo>
                    <a:lnTo>
                      <a:pt x="3282" y="637"/>
                    </a:lnTo>
                    <a:lnTo>
                      <a:pt x="3256" y="660"/>
                    </a:lnTo>
                    <a:lnTo>
                      <a:pt x="3226" y="683"/>
                    </a:lnTo>
                    <a:lnTo>
                      <a:pt x="3192" y="706"/>
                    </a:lnTo>
                    <a:lnTo>
                      <a:pt x="3155" y="728"/>
                    </a:lnTo>
                    <a:lnTo>
                      <a:pt x="3115" y="749"/>
                    </a:lnTo>
                    <a:lnTo>
                      <a:pt x="3071" y="769"/>
                    </a:lnTo>
                    <a:lnTo>
                      <a:pt x="3024" y="789"/>
                    </a:lnTo>
                    <a:lnTo>
                      <a:pt x="2974" y="809"/>
                    </a:lnTo>
                    <a:lnTo>
                      <a:pt x="2922" y="827"/>
                    </a:lnTo>
                    <a:lnTo>
                      <a:pt x="2866" y="844"/>
                    </a:lnTo>
                    <a:lnTo>
                      <a:pt x="2808" y="861"/>
                    </a:lnTo>
                    <a:lnTo>
                      <a:pt x="2747" y="877"/>
                    </a:lnTo>
                    <a:lnTo>
                      <a:pt x="2683" y="891"/>
                    </a:lnTo>
                    <a:lnTo>
                      <a:pt x="2618" y="906"/>
                    </a:lnTo>
                    <a:lnTo>
                      <a:pt x="2549" y="919"/>
                    </a:lnTo>
                    <a:lnTo>
                      <a:pt x="2478" y="931"/>
                    </a:lnTo>
                    <a:lnTo>
                      <a:pt x="2407" y="942"/>
                    </a:lnTo>
                    <a:lnTo>
                      <a:pt x="2332" y="952"/>
                    </a:lnTo>
                    <a:lnTo>
                      <a:pt x="2256" y="961"/>
                    </a:lnTo>
                    <a:lnTo>
                      <a:pt x="2177" y="969"/>
                    </a:lnTo>
                    <a:lnTo>
                      <a:pt x="2099" y="976"/>
                    </a:lnTo>
                    <a:lnTo>
                      <a:pt x="2017" y="982"/>
                    </a:lnTo>
                    <a:lnTo>
                      <a:pt x="1934" y="986"/>
                    </a:lnTo>
                    <a:lnTo>
                      <a:pt x="1850" y="989"/>
                    </a:lnTo>
                    <a:lnTo>
                      <a:pt x="1765" y="991"/>
                    </a:lnTo>
                    <a:lnTo>
                      <a:pt x="1678" y="992"/>
                    </a:lnTo>
                    <a:lnTo>
                      <a:pt x="1593" y="991"/>
                    </a:lnTo>
                    <a:lnTo>
                      <a:pt x="1507" y="989"/>
                    </a:lnTo>
                    <a:lnTo>
                      <a:pt x="1423" y="986"/>
                    </a:lnTo>
                    <a:lnTo>
                      <a:pt x="1340" y="982"/>
                    </a:lnTo>
                    <a:lnTo>
                      <a:pt x="1259" y="976"/>
                    </a:lnTo>
                    <a:lnTo>
                      <a:pt x="1180" y="969"/>
                    </a:lnTo>
                    <a:lnTo>
                      <a:pt x="1101" y="961"/>
                    </a:lnTo>
                    <a:lnTo>
                      <a:pt x="1025" y="952"/>
                    </a:lnTo>
                    <a:lnTo>
                      <a:pt x="950" y="942"/>
                    </a:lnTo>
                    <a:lnTo>
                      <a:pt x="879" y="931"/>
                    </a:lnTo>
                    <a:lnTo>
                      <a:pt x="808" y="919"/>
                    </a:lnTo>
                    <a:lnTo>
                      <a:pt x="740" y="906"/>
                    </a:lnTo>
                    <a:lnTo>
                      <a:pt x="674" y="891"/>
                    </a:lnTo>
                    <a:lnTo>
                      <a:pt x="611" y="877"/>
                    </a:lnTo>
                    <a:lnTo>
                      <a:pt x="549" y="861"/>
                    </a:lnTo>
                    <a:lnTo>
                      <a:pt x="492" y="844"/>
                    </a:lnTo>
                    <a:lnTo>
                      <a:pt x="435" y="827"/>
                    </a:lnTo>
                    <a:lnTo>
                      <a:pt x="383" y="809"/>
                    </a:lnTo>
                    <a:lnTo>
                      <a:pt x="333" y="789"/>
                    </a:lnTo>
                    <a:lnTo>
                      <a:pt x="287" y="769"/>
                    </a:lnTo>
                    <a:lnTo>
                      <a:pt x="242" y="749"/>
                    </a:lnTo>
                    <a:lnTo>
                      <a:pt x="202" y="728"/>
                    </a:lnTo>
                    <a:lnTo>
                      <a:pt x="166" y="706"/>
                    </a:lnTo>
                    <a:lnTo>
                      <a:pt x="131" y="683"/>
                    </a:lnTo>
                    <a:lnTo>
                      <a:pt x="101" y="660"/>
                    </a:lnTo>
                    <a:lnTo>
                      <a:pt x="75" y="637"/>
                    </a:lnTo>
                    <a:lnTo>
                      <a:pt x="52" y="613"/>
                    </a:lnTo>
                    <a:lnTo>
                      <a:pt x="33" y="589"/>
                    </a:lnTo>
                    <a:lnTo>
                      <a:pt x="19" y="564"/>
                    </a:lnTo>
                    <a:lnTo>
                      <a:pt x="8" y="539"/>
                    </a:lnTo>
                    <a:lnTo>
                      <a:pt x="2" y="513"/>
                    </a:lnTo>
                    <a:lnTo>
                      <a:pt x="0" y="487"/>
                    </a:lnTo>
                    <a:lnTo>
                      <a:pt x="2" y="461"/>
                    </a:lnTo>
                    <a:lnTo>
                      <a:pt x="8" y="435"/>
                    </a:lnTo>
                    <a:lnTo>
                      <a:pt x="19" y="411"/>
                    </a:lnTo>
                    <a:lnTo>
                      <a:pt x="33" y="386"/>
                    </a:lnTo>
                    <a:lnTo>
                      <a:pt x="52" y="362"/>
                    </a:lnTo>
                    <a:lnTo>
                      <a:pt x="75" y="338"/>
                    </a:lnTo>
                    <a:lnTo>
                      <a:pt x="101" y="316"/>
                    </a:lnTo>
                    <a:lnTo>
                      <a:pt x="131" y="293"/>
                    </a:lnTo>
                    <a:lnTo>
                      <a:pt x="166" y="272"/>
                    </a:lnTo>
                    <a:lnTo>
                      <a:pt x="202" y="250"/>
                    </a:lnTo>
                    <a:lnTo>
                      <a:pt x="242" y="230"/>
                    </a:lnTo>
                    <a:lnTo>
                      <a:pt x="287" y="210"/>
                    </a:lnTo>
                    <a:lnTo>
                      <a:pt x="333" y="191"/>
                    </a:lnTo>
                    <a:lnTo>
                      <a:pt x="383" y="173"/>
                    </a:lnTo>
                    <a:lnTo>
                      <a:pt x="435" y="156"/>
                    </a:lnTo>
                    <a:lnTo>
                      <a:pt x="492" y="138"/>
                    </a:lnTo>
                    <a:lnTo>
                      <a:pt x="549" y="123"/>
                    </a:lnTo>
                    <a:lnTo>
                      <a:pt x="611" y="108"/>
                    </a:lnTo>
                    <a:lnTo>
                      <a:pt x="674" y="94"/>
                    </a:lnTo>
                    <a:lnTo>
                      <a:pt x="740" y="80"/>
                    </a:lnTo>
                    <a:lnTo>
                      <a:pt x="808" y="68"/>
                    </a:lnTo>
                    <a:lnTo>
                      <a:pt x="879" y="57"/>
                    </a:lnTo>
                    <a:lnTo>
                      <a:pt x="950" y="46"/>
                    </a:lnTo>
                    <a:lnTo>
                      <a:pt x="1025" y="36"/>
                    </a:lnTo>
                    <a:lnTo>
                      <a:pt x="1101" y="28"/>
                    </a:lnTo>
                    <a:lnTo>
                      <a:pt x="1180" y="20"/>
                    </a:lnTo>
                    <a:lnTo>
                      <a:pt x="1259" y="14"/>
                    </a:lnTo>
                    <a:lnTo>
                      <a:pt x="1340" y="9"/>
                    </a:lnTo>
                    <a:lnTo>
                      <a:pt x="1423" y="5"/>
                    </a:lnTo>
                    <a:lnTo>
                      <a:pt x="1507" y="2"/>
                    </a:lnTo>
                    <a:lnTo>
                      <a:pt x="1593" y="0"/>
                    </a:lnTo>
                    <a:lnTo>
                      <a:pt x="1678" y="0"/>
                    </a:lnTo>
                    <a:lnTo>
                      <a:pt x="1765" y="0"/>
                    </a:lnTo>
                    <a:lnTo>
                      <a:pt x="1850" y="2"/>
                    </a:lnTo>
                    <a:lnTo>
                      <a:pt x="1934" y="5"/>
                    </a:lnTo>
                    <a:lnTo>
                      <a:pt x="2017" y="9"/>
                    </a:lnTo>
                    <a:lnTo>
                      <a:pt x="2099" y="14"/>
                    </a:lnTo>
                    <a:lnTo>
                      <a:pt x="2177" y="20"/>
                    </a:lnTo>
                    <a:lnTo>
                      <a:pt x="2256" y="28"/>
                    </a:lnTo>
                    <a:lnTo>
                      <a:pt x="2332" y="36"/>
                    </a:lnTo>
                    <a:lnTo>
                      <a:pt x="2407" y="46"/>
                    </a:lnTo>
                    <a:lnTo>
                      <a:pt x="2478" y="57"/>
                    </a:lnTo>
                    <a:lnTo>
                      <a:pt x="2549" y="68"/>
                    </a:lnTo>
                    <a:lnTo>
                      <a:pt x="2618" y="80"/>
                    </a:lnTo>
                    <a:lnTo>
                      <a:pt x="2683" y="94"/>
                    </a:lnTo>
                    <a:lnTo>
                      <a:pt x="2747" y="108"/>
                    </a:lnTo>
                    <a:lnTo>
                      <a:pt x="2808" y="123"/>
                    </a:lnTo>
                    <a:lnTo>
                      <a:pt x="2866" y="138"/>
                    </a:lnTo>
                    <a:lnTo>
                      <a:pt x="2922" y="156"/>
                    </a:lnTo>
                    <a:lnTo>
                      <a:pt x="2974" y="173"/>
                    </a:lnTo>
                    <a:lnTo>
                      <a:pt x="3024" y="191"/>
                    </a:lnTo>
                    <a:lnTo>
                      <a:pt x="3071" y="210"/>
                    </a:lnTo>
                    <a:lnTo>
                      <a:pt x="3115" y="230"/>
                    </a:lnTo>
                    <a:lnTo>
                      <a:pt x="3155" y="250"/>
                    </a:lnTo>
                    <a:lnTo>
                      <a:pt x="3192" y="272"/>
                    </a:lnTo>
                    <a:lnTo>
                      <a:pt x="3226" y="293"/>
                    </a:lnTo>
                    <a:lnTo>
                      <a:pt x="3256" y="316"/>
                    </a:lnTo>
                    <a:lnTo>
                      <a:pt x="3282" y="338"/>
                    </a:lnTo>
                    <a:lnTo>
                      <a:pt x="3304" y="362"/>
                    </a:lnTo>
                    <a:lnTo>
                      <a:pt x="3324" y="386"/>
                    </a:lnTo>
                    <a:lnTo>
                      <a:pt x="3338" y="411"/>
                    </a:lnTo>
                    <a:lnTo>
                      <a:pt x="3349" y="435"/>
                    </a:lnTo>
                    <a:lnTo>
                      <a:pt x="3355" y="461"/>
                    </a:lnTo>
                    <a:lnTo>
                      <a:pt x="3358" y="4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962720" y="6499800"/>
                <a:ext cx="369720" cy="118080"/>
              </a:xfrm>
              <a:custGeom>
                <a:avLst/>
                <a:gdLst/>
                <a:ahLst/>
                <a:rect l="l" t="t" r="r" b="b"/>
                <a:pathLst>
                  <a:path w="3355" h="991">
                    <a:moveTo>
                      <a:pt x="3355" y="487"/>
                    </a:moveTo>
                    <a:lnTo>
                      <a:pt x="3353" y="513"/>
                    </a:lnTo>
                    <a:lnTo>
                      <a:pt x="3347" y="539"/>
                    </a:lnTo>
                    <a:lnTo>
                      <a:pt x="3336" y="564"/>
                    </a:lnTo>
                    <a:lnTo>
                      <a:pt x="3321" y="589"/>
                    </a:lnTo>
                    <a:lnTo>
                      <a:pt x="3302" y="613"/>
                    </a:lnTo>
                    <a:lnTo>
                      <a:pt x="3279" y="637"/>
                    </a:lnTo>
                    <a:lnTo>
                      <a:pt x="3253" y="660"/>
                    </a:lnTo>
                    <a:lnTo>
                      <a:pt x="3224" y="683"/>
                    </a:lnTo>
                    <a:lnTo>
                      <a:pt x="3189" y="706"/>
                    </a:lnTo>
                    <a:lnTo>
                      <a:pt x="3153" y="727"/>
                    </a:lnTo>
                    <a:lnTo>
                      <a:pt x="3113" y="748"/>
                    </a:lnTo>
                    <a:lnTo>
                      <a:pt x="3068" y="769"/>
                    </a:lnTo>
                    <a:lnTo>
                      <a:pt x="3022" y="788"/>
                    </a:lnTo>
                    <a:lnTo>
                      <a:pt x="2972" y="808"/>
                    </a:lnTo>
                    <a:lnTo>
                      <a:pt x="2920" y="826"/>
                    </a:lnTo>
                    <a:lnTo>
                      <a:pt x="2864" y="844"/>
                    </a:lnTo>
                    <a:lnTo>
                      <a:pt x="2806" y="860"/>
                    </a:lnTo>
                    <a:lnTo>
                      <a:pt x="2745" y="876"/>
                    </a:lnTo>
                    <a:lnTo>
                      <a:pt x="2681" y="891"/>
                    </a:lnTo>
                    <a:lnTo>
                      <a:pt x="2616" y="906"/>
                    </a:lnTo>
                    <a:lnTo>
                      <a:pt x="2547" y="919"/>
                    </a:lnTo>
                    <a:lnTo>
                      <a:pt x="2477" y="931"/>
                    </a:lnTo>
                    <a:lnTo>
                      <a:pt x="2405" y="942"/>
                    </a:lnTo>
                    <a:lnTo>
                      <a:pt x="2331" y="952"/>
                    </a:lnTo>
                    <a:lnTo>
                      <a:pt x="2254" y="961"/>
                    </a:lnTo>
                    <a:lnTo>
                      <a:pt x="2176" y="968"/>
                    </a:lnTo>
                    <a:lnTo>
                      <a:pt x="2097" y="975"/>
                    </a:lnTo>
                    <a:lnTo>
                      <a:pt x="2016" y="981"/>
                    </a:lnTo>
                    <a:lnTo>
                      <a:pt x="1933" y="985"/>
                    </a:lnTo>
                    <a:lnTo>
                      <a:pt x="1849" y="988"/>
                    </a:lnTo>
                    <a:lnTo>
                      <a:pt x="1764" y="990"/>
                    </a:lnTo>
                    <a:lnTo>
                      <a:pt x="1677" y="991"/>
                    </a:lnTo>
                    <a:lnTo>
                      <a:pt x="1592" y="990"/>
                    </a:lnTo>
                    <a:lnTo>
                      <a:pt x="1506" y="988"/>
                    </a:lnTo>
                    <a:lnTo>
                      <a:pt x="1422" y="985"/>
                    </a:lnTo>
                    <a:lnTo>
                      <a:pt x="1339" y="981"/>
                    </a:lnTo>
                    <a:lnTo>
                      <a:pt x="1258" y="975"/>
                    </a:lnTo>
                    <a:lnTo>
                      <a:pt x="1179" y="968"/>
                    </a:lnTo>
                    <a:lnTo>
                      <a:pt x="1101" y="961"/>
                    </a:lnTo>
                    <a:lnTo>
                      <a:pt x="1025" y="952"/>
                    </a:lnTo>
                    <a:lnTo>
                      <a:pt x="950" y="942"/>
                    </a:lnTo>
                    <a:lnTo>
                      <a:pt x="878" y="931"/>
                    </a:lnTo>
                    <a:lnTo>
                      <a:pt x="808" y="919"/>
                    </a:lnTo>
                    <a:lnTo>
                      <a:pt x="739" y="906"/>
                    </a:lnTo>
                    <a:lnTo>
                      <a:pt x="674" y="891"/>
                    </a:lnTo>
                    <a:lnTo>
                      <a:pt x="610" y="876"/>
                    </a:lnTo>
                    <a:lnTo>
                      <a:pt x="549" y="860"/>
                    </a:lnTo>
                    <a:lnTo>
                      <a:pt x="492" y="844"/>
                    </a:lnTo>
                    <a:lnTo>
                      <a:pt x="436" y="826"/>
                    </a:lnTo>
                    <a:lnTo>
                      <a:pt x="383" y="808"/>
                    </a:lnTo>
                    <a:lnTo>
                      <a:pt x="333" y="788"/>
                    </a:lnTo>
                    <a:lnTo>
                      <a:pt x="287" y="769"/>
                    </a:lnTo>
                    <a:lnTo>
                      <a:pt x="242" y="748"/>
                    </a:lnTo>
                    <a:lnTo>
                      <a:pt x="202" y="727"/>
                    </a:lnTo>
                    <a:lnTo>
                      <a:pt x="166" y="706"/>
                    </a:lnTo>
                    <a:lnTo>
                      <a:pt x="132" y="683"/>
                    </a:lnTo>
                    <a:lnTo>
                      <a:pt x="102" y="660"/>
                    </a:lnTo>
                    <a:lnTo>
                      <a:pt x="76" y="637"/>
                    </a:lnTo>
                    <a:lnTo>
                      <a:pt x="52" y="613"/>
                    </a:lnTo>
                    <a:lnTo>
                      <a:pt x="34" y="589"/>
                    </a:lnTo>
                    <a:lnTo>
                      <a:pt x="19" y="564"/>
                    </a:lnTo>
                    <a:lnTo>
                      <a:pt x="9" y="539"/>
                    </a:lnTo>
                    <a:lnTo>
                      <a:pt x="2" y="513"/>
                    </a:lnTo>
                    <a:lnTo>
                      <a:pt x="0" y="487"/>
                    </a:lnTo>
                    <a:lnTo>
                      <a:pt x="2" y="461"/>
                    </a:lnTo>
                    <a:lnTo>
                      <a:pt x="9" y="436"/>
                    </a:lnTo>
                    <a:lnTo>
                      <a:pt x="19" y="411"/>
                    </a:lnTo>
                    <a:lnTo>
                      <a:pt x="34" y="387"/>
                    </a:lnTo>
                    <a:lnTo>
                      <a:pt x="52" y="362"/>
                    </a:lnTo>
                    <a:lnTo>
                      <a:pt x="76" y="339"/>
                    </a:lnTo>
                    <a:lnTo>
                      <a:pt x="102" y="316"/>
                    </a:lnTo>
                    <a:lnTo>
                      <a:pt x="132" y="294"/>
                    </a:lnTo>
                    <a:lnTo>
                      <a:pt x="166" y="272"/>
                    </a:lnTo>
                    <a:lnTo>
                      <a:pt x="202" y="250"/>
                    </a:lnTo>
                    <a:lnTo>
                      <a:pt x="242" y="230"/>
                    </a:lnTo>
                    <a:lnTo>
                      <a:pt x="287" y="211"/>
                    </a:lnTo>
                    <a:lnTo>
                      <a:pt x="333" y="192"/>
                    </a:lnTo>
                    <a:lnTo>
                      <a:pt x="383" y="174"/>
                    </a:lnTo>
                    <a:lnTo>
                      <a:pt x="436" y="157"/>
                    </a:lnTo>
                    <a:lnTo>
                      <a:pt x="492" y="139"/>
                    </a:lnTo>
                    <a:lnTo>
                      <a:pt x="549" y="123"/>
                    </a:lnTo>
                    <a:lnTo>
                      <a:pt x="610" y="108"/>
                    </a:lnTo>
                    <a:lnTo>
                      <a:pt x="674" y="94"/>
                    </a:lnTo>
                    <a:lnTo>
                      <a:pt x="739" y="81"/>
                    </a:lnTo>
                    <a:lnTo>
                      <a:pt x="808" y="69"/>
                    </a:lnTo>
                    <a:lnTo>
                      <a:pt x="878" y="58"/>
                    </a:lnTo>
                    <a:lnTo>
                      <a:pt x="950" y="47"/>
                    </a:lnTo>
                    <a:lnTo>
                      <a:pt x="1025" y="37"/>
                    </a:lnTo>
                    <a:lnTo>
                      <a:pt x="1101" y="29"/>
                    </a:lnTo>
                    <a:lnTo>
                      <a:pt x="1179" y="21"/>
                    </a:lnTo>
                    <a:lnTo>
                      <a:pt x="1258" y="15"/>
                    </a:lnTo>
                    <a:lnTo>
                      <a:pt x="1339" y="10"/>
                    </a:lnTo>
                    <a:lnTo>
                      <a:pt x="1422" y="6"/>
                    </a:lnTo>
                    <a:lnTo>
                      <a:pt x="1506" y="3"/>
                    </a:lnTo>
                    <a:lnTo>
                      <a:pt x="1592" y="1"/>
                    </a:lnTo>
                    <a:lnTo>
                      <a:pt x="1677" y="0"/>
                    </a:lnTo>
                    <a:lnTo>
                      <a:pt x="1764" y="1"/>
                    </a:lnTo>
                    <a:lnTo>
                      <a:pt x="1849" y="3"/>
                    </a:lnTo>
                    <a:lnTo>
                      <a:pt x="1933" y="6"/>
                    </a:lnTo>
                    <a:lnTo>
                      <a:pt x="2016" y="10"/>
                    </a:lnTo>
                    <a:lnTo>
                      <a:pt x="2097" y="15"/>
                    </a:lnTo>
                    <a:lnTo>
                      <a:pt x="2176" y="21"/>
                    </a:lnTo>
                    <a:lnTo>
                      <a:pt x="2254" y="29"/>
                    </a:lnTo>
                    <a:lnTo>
                      <a:pt x="2331" y="37"/>
                    </a:lnTo>
                    <a:lnTo>
                      <a:pt x="2405" y="47"/>
                    </a:lnTo>
                    <a:lnTo>
                      <a:pt x="2477" y="58"/>
                    </a:lnTo>
                    <a:lnTo>
                      <a:pt x="2547" y="69"/>
                    </a:lnTo>
                    <a:lnTo>
                      <a:pt x="2616" y="81"/>
                    </a:lnTo>
                    <a:lnTo>
                      <a:pt x="2681" y="94"/>
                    </a:lnTo>
                    <a:lnTo>
                      <a:pt x="2745" y="108"/>
                    </a:lnTo>
                    <a:lnTo>
                      <a:pt x="2806" y="123"/>
                    </a:lnTo>
                    <a:lnTo>
                      <a:pt x="2864" y="139"/>
                    </a:lnTo>
                    <a:lnTo>
                      <a:pt x="2920" y="157"/>
                    </a:lnTo>
                    <a:lnTo>
                      <a:pt x="2972" y="174"/>
                    </a:lnTo>
                    <a:lnTo>
                      <a:pt x="3022" y="192"/>
                    </a:lnTo>
                    <a:lnTo>
                      <a:pt x="3068" y="211"/>
                    </a:lnTo>
                    <a:lnTo>
                      <a:pt x="3113" y="230"/>
                    </a:lnTo>
                    <a:lnTo>
                      <a:pt x="3153" y="250"/>
                    </a:lnTo>
                    <a:lnTo>
                      <a:pt x="3189" y="272"/>
                    </a:lnTo>
                    <a:lnTo>
                      <a:pt x="3224" y="294"/>
                    </a:lnTo>
                    <a:lnTo>
                      <a:pt x="3253" y="316"/>
                    </a:lnTo>
                    <a:lnTo>
                      <a:pt x="3279" y="339"/>
                    </a:lnTo>
                    <a:lnTo>
                      <a:pt x="3302" y="362"/>
                    </a:lnTo>
                    <a:lnTo>
                      <a:pt x="3321" y="387"/>
                    </a:lnTo>
                    <a:lnTo>
                      <a:pt x="3336" y="411"/>
                    </a:lnTo>
                    <a:lnTo>
                      <a:pt x="3347" y="436"/>
                    </a:lnTo>
                    <a:lnTo>
                      <a:pt x="3353" y="461"/>
                    </a:lnTo>
                    <a:lnTo>
                      <a:pt x="3355" y="4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963800" y="6499800"/>
                <a:ext cx="368640" cy="118080"/>
              </a:xfrm>
              <a:custGeom>
                <a:avLst/>
                <a:gdLst/>
                <a:ahLst/>
                <a:rect l="l" t="t" r="r" b="b"/>
                <a:pathLst>
                  <a:path w="3353" h="989">
                    <a:moveTo>
                      <a:pt x="3353" y="486"/>
                    </a:moveTo>
                    <a:lnTo>
                      <a:pt x="3350" y="512"/>
                    </a:lnTo>
                    <a:lnTo>
                      <a:pt x="3344" y="537"/>
                    </a:lnTo>
                    <a:lnTo>
                      <a:pt x="3334" y="562"/>
                    </a:lnTo>
                    <a:lnTo>
                      <a:pt x="3319" y="588"/>
                    </a:lnTo>
                    <a:lnTo>
                      <a:pt x="3299" y="612"/>
                    </a:lnTo>
                    <a:lnTo>
                      <a:pt x="3277" y="636"/>
                    </a:lnTo>
                    <a:lnTo>
                      <a:pt x="3251" y="659"/>
                    </a:lnTo>
                    <a:lnTo>
                      <a:pt x="3221" y="681"/>
                    </a:lnTo>
                    <a:lnTo>
                      <a:pt x="3187" y="705"/>
                    </a:lnTo>
                    <a:lnTo>
                      <a:pt x="3150" y="726"/>
                    </a:lnTo>
                    <a:lnTo>
                      <a:pt x="3110" y="747"/>
                    </a:lnTo>
                    <a:lnTo>
                      <a:pt x="3066" y="767"/>
                    </a:lnTo>
                    <a:lnTo>
                      <a:pt x="3020" y="787"/>
                    </a:lnTo>
                    <a:lnTo>
                      <a:pt x="2970" y="807"/>
                    </a:lnTo>
                    <a:lnTo>
                      <a:pt x="2918" y="825"/>
                    </a:lnTo>
                    <a:lnTo>
                      <a:pt x="2862" y="842"/>
                    </a:lnTo>
                    <a:lnTo>
                      <a:pt x="2804" y="858"/>
                    </a:lnTo>
                    <a:lnTo>
                      <a:pt x="2743" y="874"/>
                    </a:lnTo>
                    <a:lnTo>
                      <a:pt x="2679" y="889"/>
                    </a:lnTo>
                    <a:lnTo>
                      <a:pt x="2614" y="904"/>
                    </a:lnTo>
                    <a:lnTo>
                      <a:pt x="2546" y="917"/>
                    </a:lnTo>
                    <a:lnTo>
                      <a:pt x="2475" y="929"/>
                    </a:lnTo>
                    <a:lnTo>
                      <a:pt x="2404" y="940"/>
                    </a:lnTo>
                    <a:lnTo>
                      <a:pt x="2329" y="950"/>
                    </a:lnTo>
                    <a:lnTo>
                      <a:pt x="2253" y="959"/>
                    </a:lnTo>
                    <a:lnTo>
                      <a:pt x="2175" y="967"/>
                    </a:lnTo>
                    <a:lnTo>
                      <a:pt x="2096" y="973"/>
                    </a:lnTo>
                    <a:lnTo>
                      <a:pt x="2015" y="979"/>
                    </a:lnTo>
                    <a:lnTo>
                      <a:pt x="1932" y="983"/>
                    </a:lnTo>
                    <a:lnTo>
                      <a:pt x="1848" y="986"/>
                    </a:lnTo>
                    <a:lnTo>
                      <a:pt x="1762" y="988"/>
                    </a:lnTo>
                    <a:lnTo>
                      <a:pt x="1676" y="989"/>
                    </a:lnTo>
                    <a:lnTo>
                      <a:pt x="1591" y="988"/>
                    </a:lnTo>
                    <a:lnTo>
                      <a:pt x="1505" y="986"/>
                    </a:lnTo>
                    <a:lnTo>
                      <a:pt x="1421" y="983"/>
                    </a:lnTo>
                    <a:lnTo>
                      <a:pt x="1339" y="979"/>
                    </a:lnTo>
                    <a:lnTo>
                      <a:pt x="1257" y="973"/>
                    </a:lnTo>
                    <a:lnTo>
                      <a:pt x="1179" y="967"/>
                    </a:lnTo>
                    <a:lnTo>
                      <a:pt x="1100" y="959"/>
                    </a:lnTo>
                    <a:lnTo>
                      <a:pt x="1024" y="950"/>
                    </a:lnTo>
                    <a:lnTo>
                      <a:pt x="950" y="940"/>
                    </a:lnTo>
                    <a:lnTo>
                      <a:pt x="878" y="929"/>
                    </a:lnTo>
                    <a:lnTo>
                      <a:pt x="807" y="917"/>
                    </a:lnTo>
                    <a:lnTo>
                      <a:pt x="739" y="904"/>
                    </a:lnTo>
                    <a:lnTo>
                      <a:pt x="674" y="889"/>
                    </a:lnTo>
                    <a:lnTo>
                      <a:pt x="610" y="874"/>
                    </a:lnTo>
                    <a:lnTo>
                      <a:pt x="549" y="858"/>
                    </a:lnTo>
                    <a:lnTo>
                      <a:pt x="492" y="842"/>
                    </a:lnTo>
                    <a:lnTo>
                      <a:pt x="436" y="825"/>
                    </a:lnTo>
                    <a:lnTo>
                      <a:pt x="383" y="807"/>
                    </a:lnTo>
                    <a:lnTo>
                      <a:pt x="333" y="787"/>
                    </a:lnTo>
                    <a:lnTo>
                      <a:pt x="287" y="767"/>
                    </a:lnTo>
                    <a:lnTo>
                      <a:pt x="243" y="747"/>
                    </a:lnTo>
                    <a:lnTo>
                      <a:pt x="203" y="726"/>
                    </a:lnTo>
                    <a:lnTo>
                      <a:pt x="166" y="705"/>
                    </a:lnTo>
                    <a:lnTo>
                      <a:pt x="132" y="681"/>
                    </a:lnTo>
                    <a:lnTo>
                      <a:pt x="102" y="659"/>
                    </a:lnTo>
                    <a:lnTo>
                      <a:pt x="76" y="636"/>
                    </a:lnTo>
                    <a:lnTo>
                      <a:pt x="53" y="612"/>
                    </a:lnTo>
                    <a:lnTo>
                      <a:pt x="34" y="588"/>
                    </a:lnTo>
                    <a:lnTo>
                      <a:pt x="20" y="562"/>
                    </a:lnTo>
                    <a:lnTo>
                      <a:pt x="9" y="537"/>
                    </a:lnTo>
                    <a:lnTo>
                      <a:pt x="3" y="512"/>
                    </a:lnTo>
                    <a:lnTo>
                      <a:pt x="0" y="486"/>
                    </a:lnTo>
                    <a:lnTo>
                      <a:pt x="3" y="460"/>
                    </a:lnTo>
                    <a:lnTo>
                      <a:pt x="9" y="435"/>
                    </a:lnTo>
                    <a:lnTo>
                      <a:pt x="20" y="410"/>
                    </a:lnTo>
                    <a:lnTo>
                      <a:pt x="34" y="386"/>
                    </a:lnTo>
                    <a:lnTo>
                      <a:pt x="53" y="361"/>
                    </a:lnTo>
                    <a:lnTo>
                      <a:pt x="76" y="338"/>
                    </a:lnTo>
                    <a:lnTo>
                      <a:pt x="102" y="315"/>
                    </a:lnTo>
                    <a:lnTo>
                      <a:pt x="132" y="293"/>
                    </a:lnTo>
                    <a:lnTo>
                      <a:pt x="166" y="272"/>
                    </a:lnTo>
                    <a:lnTo>
                      <a:pt x="203" y="250"/>
                    </a:lnTo>
                    <a:lnTo>
                      <a:pt x="243" y="230"/>
                    </a:lnTo>
                    <a:lnTo>
                      <a:pt x="287" y="210"/>
                    </a:lnTo>
                    <a:lnTo>
                      <a:pt x="333" y="191"/>
                    </a:lnTo>
                    <a:lnTo>
                      <a:pt x="383" y="173"/>
                    </a:lnTo>
                    <a:lnTo>
                      <a:pt x="436" y="156"/>
                    </a:lnTo>
                    <a:lnTo>
                      <a:pt x="492" y="139"/>
                    </a:lnTo>
                    <a:lnTo>
                      <a:pt x="549" y="123"/>
                    </a:lnTo>
                    <a:lnTo>
                      <a:pt x="610" y="108"/>
                    </a:lnTo>
                    <a:lnTo>
                      <a:pt x="674" y="94"/>
                    </a:lnTo>
                    <a:lnTo>
                      <a:pt x="739" y="81"/>
                    </a:lnTo>
                    <a:lnTo>
                      <a:pt x="807" y="69"/>
                    </a:lnTo>
                    <a:lnTo>
                      <a:pt x="878" y="58"/>
                    </a:lnTo>
                    <a:lnTo>
                      <a:pt x="950" y="47"/>
                    </a:lnTo>
                    <a:lnTo>
                      <a:pt x="1024" y="37"/>
                    </a:lnTo>
                    <a:lnTo>
                      <a:pt x="1100" y="28"/>
                    </a:lnTo>
                    <a:lnTo>
                      <a:pt x="1179" y="21"/>
                    </a:lnTo>
                    <a:lnTo>
                      <a:pt x="1257" y="15"/>
                    </a:lnTo>
                    <a:lnTo>
                      <a:pt x="1339" y="10"/>
                    </a:lnTo>
                    <a:lnTo>
                      <a:pt x="1421" y="6"/>
                    </a:lnTo>
                    <a:lnTo>
                      <a:pt x="1505" y="3"/>
                    </a:lnTo>
                    <a:lnTo>
                      <a:pt x="1591" y="1"/>
                    </a:lnTo>
                    <a:lnTo>
                      <a:pt x="1676" y="0"/>
                    </a:lnTo>
                    <a:lnTo>
                      <a:pt x="1762" y="1"/>
                    </a:lnTo>
                    <a:lnTo>
                      <a:pt x="1848" y="3"/>
                    </a:lnTo>
                    <a:lnTo>
                      <a:pt x="1932" y="6"/>
                    </a:lnTo>
                    <a:lnTo>
                      <a:pt x="2015" y="10"/>
                    </a:lnTo>
                    <a:lnTo>
                      <a:pt x="2096" y="15"/>
                    </a:lnTo>
                    <a:lnTo>
                      <a:pt x="2175" y="21"/>
                    </a:lnTo>
                    <a:lnTo>
                      <a:pt x="2253" y="28"/>
                    </a:lnTo>
                    <a:lnTo>
                      <a:pt x="2329" y="37"/>
                    </a:lnTo>
                    <a:lnTo>
                      <a:pt x="2404" y="47"/>
                    </a:lnTo>
                    <a:lnTo>
                      <a:pt x="2475" y="58"/>
                    </a:lnTo>
                    <a:lnTo>
                      <a:pt x="2546" y="69"/>
                    </a:lnTo>
                    <a:lnTo>
                      <a:pt x="2614" y="81"/>
                    </a:lnTo>
                    <a:lnTo>
                      <a:pt x="2679" y="94"/>
                    </a:lnTo>
                    <a:lnTo>
                      <a:pt x="2743" y="108"/>
                    </a:lnTo>
                    <a:lnTo>
                      <a:pt x="2804" y="123"/>
                    </a:lnTo>
                    <a:lnTo>
                      <a:pt x="2862" y="139"/>
                    </a:lnTo>
                    <a:lnTo>
                      <a:pt x="2918" y="156"/>
                    </a:lnTo>
                    <a:lnTo>
                      <a:pt x="2970" y="173"/>
                    </a:lnTo>
                    <a:lnTo>
                      <a:pt x="3020" y="191"/>
                    </a:lnTo>
                    <a:lnTo>
                      <a:pt x="3066" y="210"/>
                    </a:lnTo>
                    <a:lnTo>
                      <a:pt x="3110" y="230"/>
                    </a:lnTo>
                    <a:lnTo>
                      <a:pt x="3150" y="250"/>
                    </a:lnTo>
                    <a:lnTo>
                      <a:pt x="3187" y="272"/>
                    </a:lnTo>
                    <a:lnTo>
                      <a:pt x="3221" y="293"/>
                    </a:lnTo>
                    <a:lnTo>
                      <a:pt x="3251" y="315"/>
                    </a:lnTo>
                    <a:lnTo>
                      <a:pt x="3277" y="338"/>
                    </a:lnTo>
                    <a:lnTo>
                      <a:pt x="3299" y="361"/>
                    </a:lnTo>
                    <a:lnTo>
                      <a:pt x="3319" y="386"/>
                    </a:lnTo>
                    <a:lnTo>
                      <a:pt x="3334" y="410"/>
                    </a:lnTo>
                    <a:lnTo>
                      <a:pt x="3344" y="435"/>
                    </a:lnTo>
                    <a:lnTo>
                      <a:pt x="3350" y="460"/>
                    </a:lnTo>
                    <a:lnTo>
                      <a:pt x="3353" y="4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963800" y="6499800"/>
                <a:ext cx="368640" cy="118080"/>
              </a:xfrm>
              <a:custGeom>
                <a:avLst/>
                <a:gdLst/>
                <a:ahLst/>
                <a:rect l="l" t="t" r="r" b="b"/>
                <a:pathLst>
                  <a:path w="3349" h="987">
                    <a:moveTo>
                      <a:pt x="3349" y="485"/>
                    </a:moveTo>
                    <a:lnTo>
                      <a:pt x="3347" y="511"/>
                    </a:lnTo>
                    <a:lnTo>
                      <a:pt x="3341" y="536"/>
                    </a:lnTo>
                    <a:lnTo>
                      <a:pt x="3330" y="561"/>
                    </a:lnTo>
                    <a:lnTo>
                      <a:pt x="3316" y="587"/>
                    </a:lnTo>
                    <a:lnTo>
                      <a:pt x="3296" y="611"/>
                    </a:lnTo>
                    <a:lnTo>
                      <a:pt x="3274" y="634"/>
                    </a:lnTo>
                    <a:lnTo>
                      <a:pt x="3248" y="658"/>
                    </a:lnTo>
                    <a:lnTo>
                      <a:pt x="3218" y="680"/>
                    </a:lnTo>
                    <a:lnTo>
                      <a:pt x="3184" y="703"/>
                    </a:lnTo>
                    <a:lnTo>
                      <a:pt x="3147" y="725"/>
                    </a:lnTo>
                    <a:lnTo>
                      <a:pt x="3107" y="745"/>
                    </a:lnTo>
                    <a:lnTo>
                      <a:pt x="3063" y="766"/>
                    </a:lnTo>
                    <a:lnTo>
                      <a:pt x="3017" y="785"/>
                    </a:lnTo>
                    <a:lnTo>
                      <a:pt x="2967" y="805"/>
                    </a:lnTo>
                    <a:lnTo>
                      <a:pt x="2914" y="823"/>
                    </a:lnTo>
                    <a:lnTo>
                      <a:pt x="2859" y="840"/>
                    </a:lnTo>
                    <a:lnTo>
                      <a:pt x="2801" y="857"/>
                    </a:lnTo>
                    <a:lnTo>
                      <a:pt x="2740" y="872"/>
                    </a:lnTo>
                    <a:lnTo>
                      <a:pt x="2676" y="887"/>
                    </a:lnTo>
                    <a:lnTo>
                      <a:pt x="2611" y="902"/>
                    </a:lnTo>
                    <a:lnTo>
                      <a:pt x="2543" y="915"/>
                    </a:lnTo>
                    <a:lnTo>
                      <a:pt x="2472" y="927"/>
                    </a:lnTo>
                    <a:lnTo>
                      <a:pt x="2401" y="938"/>
                    </a:lnTo>
                    <a:lnTo>
                      <a:pt x="2327" y="948"/>
                    </a:lnTo>
                    <a:lnTo>
                      <a:pt x="2250" y="957"/>
                    </a:lnTo>
                    <a:lnTo>
                      <a:pt x="2172" y="965"/>
                    </a:lnTo>
                    <a:lnTo>
                      <a:pt x="2093" y="971"/>
                    </a:lnTo>
                    <a:lnTo>
                      <a:pt x="2012" y="977"/>
                    </a:lnTo>
                    <a:lnTo>
                      <a:pt x="1930" y="981"/>
                    </a:lnTo>
                    <a:lnTo>
                      <a:pt x="1846" y="984"/>
                    </a:lnTo>
                    <a:lnTo>
                      <a:pt x="1760" y="986"/>
                    </a:lnTo>
                    <a:lnTo>
                      <a:pt x="1674" y="987"/>
                    </a:lnTo>
                    <a:lnTo>
                      <a:pt x="1589" y="986"/>
                    </a:lnTo>
                    <a:lnTo>
                      <a:pt x="1504" y="984"/>
                    </a:lnTo>
                    <a:lnTo>
                      <a:pt x="1420" y="981"/>
                    </a:lnTo>
                    <a:lnTo>
                      <a:pt x="1337" y="977"/>
                    </a:lnTo>
                    <a:lnTo>
                      <a:pt x="1256" y="971"/>
                    </a:lnTo>
                    <a:lnTo>
                      <a:pt x="1177" y="965"/>
                    </a:lnTo>
                    <a:lnTo>
                      <a:pt x="1099" y="957"/>
                    </a:lnTo>
                    <a:lnTo>
                      <a:pt x="1023" y="948"/>
                    </a:lnTo>
                    <a:lnTo>
                      <a:pt x="948" y="938"/>
                    </a:lnTo>
                    <a:lnTo>
                      <a:pt x="877" y="927"/>
                    </a:lnTo>
                    <a:lnTo>
                      <a:pt x="806" y="915"/>
                    </a:lnTo>
                    <a:lnTo>
                      <a:pt x="738" y="902"/>
                    </a:lnTo>
                    <a:lnTo>
                      <a:pt x="673" y="887"/>
                    </a:lnTo>
                    <a:lnTo>
                      <a:pt x="609" y="872"/>
                    </a:lnTo>
                    <a:lnTo>
                      <a:pt x="548" y="857"/>
                    </a:lnTo>
                    <a:lnTo>
                      <a:pt x="491" y="840"/>
                    </a:lnTo>
                    <a:lnTo>
                      <a:pt x="435" y="823"/>
                    </a:lnTo>
                    <a:lnTo>
                      <a:pt x="383" y="805"/>
                    </a:lnTo>
                    <a:lnTo>
                      <a:pt x="332" y="785"/>
                    </a:lnTo>
                    <a:lnTo>
                      <a:pt x="286" y="766"/>
                    </a:lnTo>
                    <a:lnTo>
                      <a:pt x="242" y="745"/>
                    </a:lnTo>
                    <a:lnTo>
                      <a:pt x="202" y="725"/>
                    </a:lnTo>
                    <a:lnTo>
                      <a:pt x="165" y="703"/>
                    </a:lnTo>
                    <a:lnTo>
                      <a:pt x="131" y="680"/>
                    </a:lnTo>
                    <a:lnTo>
                      <a:pt x="101" y="658"/>
                    </a:lnTo>
                    <a:lnTo>
                      <a:pt x="75" y="634"/>
                    </a:lnTo>
                    <a:lnTo>
                      <a:pt x="53" y="611"/>
                    </a:lnTo>
                    <a:lnTo>
                      <a:pt x="34" y="587"/>
                    </a:lnTo>
                    <a:lnTo>
                      <a:pt x="19" y="561"/>
                    </a:lnTo>
                    <a:lnTo>
                      <a:pt x="8" y="536"/>
                    </a:lnTo>
                    <a:lnTo>
                      <a:pt x="2" y="511"/>
                    </a:lnTo>
                    <a:lnTo>
                      <a:pt x="0" y="485"/>
                    </a:lnTo>
                    <a:lnTo>
                      <a:pt x="2" y="459"/>
                    </a:lnTo>
                    <a:lnTo>
                      <a:pt x="8" y="434"/>
                    </a:lnTo>
                    <a:lnTo>
                      <a:pt x="19" y="409"/>
                    </a:lnTo>
                    <a:lnTo>
                      <a:pt x="34" y="385"/>
                    </a:lnTo>
                    <a:lnTo>
                      <a:pt x="53" y="360"/>
                    </a:lnTo>
                    <a:lnTo>
                      <a:pt x="75" y="337"/>
                    </a:lnTo>
                    <a:lnTo>
                      <a:pt x="101" y="314"/>
                    </a:lnTo>
                    <a:lnTo>
                      <a:pt x="131" y="292"/>
                    </a:lnTo>
                    <a:lnTo>
                      <a:pt x="165" y="271"/>
                    </a:lnTo>
                    <a:lnTo>
                      <a:pt x="202" y="249"/>
                    </a:lnTo>
                    <a:lnTo>
                      <a:pt x="242" y="229"/>
                    </a:lnTo>
                    <a:lnTo>
                      <a:pt x="286" y="210"/>
                    </a:lnTo>
                    <a:lnTo>
                      <a:pt x="332" y="191"/>
                    </a:lnTo>
                    <a:lnTo>
                      <a:pt x="383" y="173"/>
                    </a:lnTo>
                    <a:lnTo>
                      <a:pt x="435" y="156"/>
                    </a:lnTo>
                    <a:lnTo>
                      <a:pt x="491" y="138"/>
                    </a:lnTo>
                    <a:lnTo>
                      <a:pt x="548" y="123"/>
                    </a:lnTo>
                    <a:lnTo>
                      <a:pt x="609" y="108"/>
                    </a:lnTo>
                    <a:lnTo>
                      <a:pt x="673" y="94"/>
                    </a:lnTo>
                    <a:lnTo>
                      <a:pt x="738" y="81"/>
                    </a:lnTo>
                    <a:lnTo>
                      <a:pt x="806" y="69"/>
                    </a:lnTo>
                    <a:lnTo>
                      <a:pt x="877" y="57"/>
                    </a:lnTo>
                    <a:lnTo>
                      <a:pt x="948" y="47"/>
                    </a:lnTo>
                    <a:lnTo>
                      <a:pt x="1023" y="37"/>
                    </a:lnTo>
                    <a:lnTo>
                      <a:pt x="1099" y="28"/>
                    </a:lnTo>
                    <a:lnTo>
                      <a:pt x="1177" y="21"/>
                    </a:lnTo>
                    <a:lnTo>
                      <a:pt x="1256" y="15"/>
                    </a:lnTo>
                    <a:lnTo>
                      <a:pt x="1337" y="10"/>
                    </a:lnTo>
                    <a:lnTo>
                      <a:pt x="1420" y="6"/>
                    </a:lnTo>
                    <a:lnTo>
                      <a:pt x="1504" y="3"/>
                    </a:lnTo>
                    <a:lnTo>
                      <a:pt x="1589" y="1"/>
                    </a:lnTo>
                    <a:lnTo>
                      <a:pt x="1674" y="0"/>
                    </a:lnTo>
                    <a:lnTo>
                      <a:pt x="1760" y="1"/>
                    </a:lnTo>
                    <a:lnTo>
                      <a:pt x="1846" y="3"/>
                    </a:lnTo>
                    <a:lnTo>
                      <a:pt x="1930" y="6"/>
                    </a:lnTo>
                    <a:lnTo>
                      <a:pt x="2012" y="10"/>
                    </a:lnTo>
                    <a:lnTo>
                      <a:pt x="2093" y="15"/>
                    </a:lnTo>
                    <a:lnTo>
                      <a:pt x="2172" y="21"/>
                    </a:lnTo>
                    <a:lnTo>
                      <a:pt x="2250" y="28"/>
                    </a:lnTo>
                    <a:lnTo>
                      <a:pt x="2327" y="37"/>
                    </a:lnTo>
                    <a:lnTo>
                      <a:pt x="2401" y="47"/>
                    </a:lnTo>
                    <a:lnTo>
                      <a:pt x="2472" y="57"/>
                    </a:lnTo>
                    <a:lnTo>
                      <a:pt x="2543" y="69"/>
                    </a:lnTo>
                    <a:lnTo>
                      <a:pt x="2611" y="81"/>
                    </a:lnTo>
                    <a:lnTo>
                      <a:pt x="2676" y="94"/>
                    </a:lnTo>
                    <a:lnTo>
                      <a:pt x="2740" y="108"/>
                    </a:lnTo>
                    <a:lnTo>
                      <a:pt x="2801" y="123"/>
                    </a:lnTo>
                    <a:lnTo>
                      <a:pt x="2859" y="138"/>
                    </a:lnTo>
                    <a:lnTo>
                      <a:pt x="2914" y="156"/>
                    </a:lnTo>
                    <a:lnTo>
                      <a:pt x="2967" y="173"/>
                    </a:lnTo>
                    <a:lnTo>
                      <a:pt x="3017" y="191"/>
                    </a:lnTo>
                    <a:lnTo>
                      <a:pt x="3063" y="210"/>
                    </a:lnTo>
                    <a:lnTo>
                      <a:pt x="3107" y="229"/>
                    </a:lnTo>
                    <a:lnTo>
                      <a:pt x="3147" y="249"/>
                    </a:lnTo>
                    <a:lnTo>
                      <a:pt x="3184" y="271"/>
                    </a:lnTo>
                    <a:lnTo>
                      <a:pt x="3218" y="292"/>
                    </a:lnTo>
                    <a:lnTo>
                      <a:pt x="3248" y="314"/>
                    </a:lnTo>
                    <a:lnTo>
                      <a:pt x="3274" y="337"/>
                    </a:lnTo>
                    <a:lnTo>
                      <a:pt x="3296" y="360"/>
                    </a:lnTo>
                    <a:lnTo>
                      <a:pt x="3316" y="385"/>
                    </a:lnTo>
                    <a:lnTo>
                      <a:pt x="3330" y="409"/>
                    </a:lnTo>
                    <a:lnTo>
                      <a:pt x="3341" y="434"/>
                    </a:lnTo>
                    <a:lnTo>
                      <a:pt x="3347" y="459"/>
                    </a:lnTo>
                    <a:lnTo>
                      <a:pt x="3349" y="4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63800" y="6499800"/>
                <a:ext cx="368640" cy="118080"/>
              </a:xfrm>
              <a:custGeom>
                <a:avLst/>
                <a:gdLst/>
                <a:ahLst/>
                <a:rect l="l" t="t" r="r" b="b"/>
                <a:pathLst>
                  <a:path w="3347" h="985">
                    <a:moveTo>
                      <a:pt x="3347" y="484"/>
                    </a:moveTo>
                    <a:lnTo>
                      <a:pt x="3345" y="510"/>
                    </a:lnTo>
                    <a:lnTo>
                      <a:pt x="3338" y="535"/>
                    </a:lnTo>
                    <a:lnTo>
                      <a:pt x="3328" y="560"/>
                    </a:lnTo>
                    <a:lnTo>
                      <a:pt x="3313" y="586"/>
                    </a:lnTo>
                    <a:lnTo>
                      <a:pt x="3294" y="610"/>
                    </a:lnTo>
                    <a:lnTo>
                      <a:pt x="3271" y="633"/>
                    </a:lnTo>
                    <a:lnTo>
                      <a:pt x="3245" y="656"/>
                    </a:lnTo>
                    <a:lnTo>
                      <a:pt x="3216" y="679"/>
                    </a:lnTo>
                    <a:lnTo>
                      <a:pt x="3181" y="702"/>
                    </a:lnTo>
                    <a:lnTo>
                      <a:pt x="3145" y="723"/>
                    </a:lnTo>
                    <a:lnTo>
                      <a:pt x="3105" y="744"/>
                    </a:lnTo>
                    <a:lnTo>
                      <a:pt x="3061" y="764"/>
                    </a:lnTo>
                    <a:lnTo>
                      <a:pt x="3015" y="784"/>
                    </a:lnTo>
                    <a:lnTo>
                      <a:pt x="2964" y="803"/>
                    </a:lnTo>
                    <a:lnTo>
                      <a:pt x="2912" y="821"/>
                    </a:lnTo>
                    <a:lnTo>
                      <a:pt x="2857" y="839"/>
                    </a:lnTo>
                    <a:lnTo>
                      <a:pt x="2799" y="855"/>
                    </a:lnTo>
                    <a:lnTo>
                      <a:pt x="2738" y="871"/>
                    </a:lnTo>
                    <a:lnTo>
                      <a:pt x="2674" y="885"/>
                    </a:lnTo>
                    <a:lnTo>
                      <a:pt x="2609" y="900"/>
                    </a:lnTo>
                    <a:lnTo>
                      <a:pt x="2541" y="913"/>
                    </a:lnTo>
                    <a:lnTo>
                      <a:pt x="2471" y="925"/>
                    </a:lnTo>
                    <a:lnTo>
                      <a:pt x="2399" y="936"/>
                    </a:lnTo>
                    <a:lnTo>
                      <a:pt x="2325" y="946"/>
                    </a:lnTo>
                    <a:lnTo>
                      <a:pt x="2249" y="955"/>
                    </a:lnTo>
                    <a:lnTo>
                      <a:pt x="2171" y="963"/>
                    </a:lnTo>
                    <a:lnTo>
                      <a:pt x="2092" y="969"/>
                    </a:lnTo>
                    <a:lnTo>
                      <a:pt x="2011" y="975"/>
                    </a:lnTo>
                    <a:lnTo>
                      <a:pt x="1928" y="979"/>
                    </a:lnTo>
                    <a:lnTo>
                      <a:pt x="1844" y="983"/>
                    </a:lnTo>
                    <a:lnTo>
                      <a:pt x="1759" y="984"/>
                    </a:lnTo>
                    <a:lnTo>
                      <a:pt x="1673" y="985"/>
                    </a:lnTo>
                    <a:lnTo>
                      <a:pt x="1588" y="984"/>
                    </a:lnTo>
                    <a:lnTo>
                      <a:pt x="1503" y="983"/>
                    </a:lnTo>
                    <a:lnTo>
                      <a:pt x="1419" y="979"/>
                    </a:lnTo>
                    <a:lnTo>
                      <a:pt x="1336" y="975"/>
                    </a:lnTo>
                    <a:lnTo>
                      <a:pt x="1255" y="969"/>
                    </a:lnTo>
                    <a:lnTo>
                      <a:pt x="1176" y="963"/>
                    </a:lnTo>
                    <a:lnTo>
                      <a:pt x="1098" y="955"/>
                    </a:lnTo>
                    <a:lnTo>
                      <a:pt x="1022" y="946"/>
                    </a:lnTo>
                    <a:lnTo>
                      <a:pt x="948" y="936"/>
                    </a:lnTo>
                    <a:lnTo>
                      <a:pt x="876" y="925"/>
                    </a:lnTo>
                    <a:lnTo>
                      <a:pt x="806" y="913"/>
                    </a:lnTo>
                    <a:lnTo>
                      <a:pt x="738" y="900"/>
                    </a:lnTo>
                    <a:lnTo>
                      <a:pt x="673" y="885"/>
                    </a:lnTo>
                    <a:lnTo>
                      <a:pt x="609" y="871"/>
                    </a:lnTo>
                    <a:lnTo>
                      <a:pt x="548" y="855"/>
                    </a:lnTo>
                    <a:lnTo>
                      <a:pt x="491" y="839"/>
                    </a:lnTo>
                    <a:lnTo>
                      <a:pt x="435" y="821"/>
                    </a:lnTo>
                    <a:lnTo>
                      <a:pt x="383" y="803"/>
                    </a:lnTo>
                    <a:lnTo>
                      <a:pt x="332" y="784"/>
                    </a:lnTo>
                    <a:lnTo>
                      <a:pt x="286" y="764"/>
                    </a:lnTo>
                    <a:lnTo>
                      <a:pt x="242" y="744"/>
                    </a:lnTo>
                    <a:lnTo>
                      <a:pt x="202" y="723"/>
                    </a:lnTo>
                    <a:lnTo>
                      <a:pt x="166" y="702"/>
                    </a:lnTo>
                    <a:lnTo>
                      <a:pt x="132" y="679"/>
                    </a:lnTo>
                    <a:lnTo>
                      <a:pt x="102" y="656"/>
                    </a:lnTo>
                    <a:lnTo>
                      <a:pt x="76" y="633"/>
                    </a:lnTo>
                    <a:lnTo>
                      <a:pt x="53" y="610"/>
                    </a:lnTo>
                    <a:lnTo>
                      <a:pt x="34" y="586"/>
                    </a:lnTo>
                    <a:lnTo>
                      <a:pt x="19" y="560"/>
                    </a:lnTo>
                    <a:lnTo>
                      <a:pt x="9" y="535"/>
                    </a:lnTo>
                    <a:lnTo>
                      <a:pt x="2" y="510"/>
                    </a:lnTo>
                    <a:lnTo>
                      <a:pt x="0" y="484"/>
                    </a:lnTo>
                    <a:lnTo>
                      <a:pt x="2" y="458"/>
                    </a:lnTo>
                    <a:lnTo>
                      <a:pt x="9" y="433"/>
                    </a:lnTo>
                    <a:lnTo>
                      <a:pt x="19" y="408"/>
                    </a:lnTo>
                    <a:lnTo>
                      <a:pt x="34" y="384"/>
                    </a:lnTo>
                    <a:lnTo>
                      <a:pt x="53" y="359"/>
                    </a:lnTo>
                    <a:lnTo>
                      <a:pt x="76" y="336"/>
                    </a:lnTo>
                    <a:lnTo>
                      <a:pt x="102" y="314"/>
                    </a:lnTo>
                    <a:lnTo>
                      <a:pt x="132" y="292"/>
                    </a:lnTo>
                    <a:lnTo>
                      <a:pt x="166" y="270"/>
                    </a:lnTo>
                    <a:lnTo>
                      <a:pt x="202" y="249"/>
                    </a:lnTo>
                    <a:lnTo>
                      <a:pt x="242" y="229"/>
                    </a:lnTo>
                    <a:lnTo>
                      <a:pt x="286" y="209"/>
                    </a:lnTo>
                    <a:lnTo>
                      <a:pt x="332" y="191"/>
                    </a:lnTo>
                    <a:lnTo>
                      <a:pt x="383" y="173"/>
                    </a:lnTo>
                    <a:lnTo>
                      <a:pt x="435" y="155"/>
                    </a:lnTo>
                    <a:lnTo>
                      <a:pt x="491" y="138"/>
                    </a:lnTo>
                    <a:lnTo>
                      <a:pt x="548" y="122"/>
                    </a:lnTo>
                    <a:lnTo>
                      <a:pt x="609" y="108"/>
                    </a:lnTo>
                    <a:lnTo>
                      <a:pt x="673" y="94"/>
                    </a:lnTo>
                    <a:lnTo>
                      <a:pt x="738" y="81"/>
                    </a:lnTo>
                    <a:lnTo>
                      <a:pt x="806" y="68"/>
                    </a:lnTo>
                    <a:lnTo>
                      <a:pt x="876" y="57"/>
                    </a:lnTo>
                    <a:lnTo>
                      <a:pt x="948" y="47"/>
                    </a:lnTo>
                    <a:lnTo>
                      <a:pt x="1022" y="37"/>
                    </a:lnTo>
                    <a:lnTo>
                      <a:pt x="1098" y="28"/>
                    </a:lnTo>
                    <a:lnTo>
                      <a:pt x="1176" y="21"/>
                    </a:lnTo>
                    <a:lnTo>
                      <a:pt x="1255" y="15"/>
                    </a:lnTo>
                    <a:lnTo>
                      <a:pt x="1336" y="10"/>
                    </a:lnTo>
                    <a:lnTo>
                      <a:pt x="1419" y="6"/>
                    </a:lnTo>
                    <a:lnTo>
                      <a:pt x="1503" y="3"/>
                    </a:lnTo>
                    <a:lnTo>
                      <a:pt x="1588" y="1"/>
                    </a:lnTo>
                    <a:lnTo>
                      <a:pt x="1673" y="0"/>
                    </a:lnTo>
                    <a:lnTo>
                      <a:pt x="1759" y="1"/>
                    </a:lnTo>
                    <a:lnTo>
                      <a:pt x="1844" y="3"/>
                    </a:lnTo>
                    <a:lnTo>
                      <a:pt x="1928" y="6"/>
                    </a:lnTo>
                    <a:lnTo>
                      <a:pt x="2011" y="10"/>
                    </a:lnTo>
                    <a:lnTo>
                      <a:pt x="2092" y="15"/>
                    </a:lnTo>
                    <a:lnTo>
                      <a:pt x="2171" y="21"/>
                    </a:lnTo>
                    <a:lnTo>
                      <a:pt x="2249" y="28"/>
                    </a:lnTo>
                    <a:lnTo>
                      <a:pt x="2325" y="37"/>
                    </a:lnTo>
                    <a:lnTo>
                      <a:pt x="2399" y="47"/>
                    </a:lnTo>
                    <a:lnTo>
                      <a:pt x="2471" y="57"/>
                    </a:lnTo>
                    <a:lnTo>
                      <a:pt x="2541" y="68"/>
                    </a:lnTo>
                    <a:lnTo>
                      <a:pt x="2609" y="81"/>
                    </a:lnTo>
                    <a:lnTo>
                      <a:pt x="2674" y="94"/>
                    </a:lnTo>
                    <a:lnTo>
                      <a:pt x="2738" y="108"/>
                    </a:lnTo>
                    <a:lnTo>
                      <a:pt x="2799" y="122"/>
                    </a:lnTo>
                    <a:lnTo>
                      <a:pt x="2857" y="138"/>
                    </a:lnTo>
                    <a:lnTo>
                      <a:pt x="2912" y="155"/>
                    </a:lnTo>
                    <a:lnTo>
                      <a:pt x="2964" y="173"/>
                    </a:lnTo>
                    <a:lnTo>
                      <a:pt x="3015" y="191"/>
                    </a:lnTo>
                    <a:lnTo>
                      <a:pt x="3061" y="209"/>
                    </a:lnTo>
                    <a:lnTo>
                      <a:pt x="3105" y="229"/>
                    </a:lnTo>
                    <a:lnTo>
                      <a:pt x="3145" y="249"/>
                    </a:lnTo>
                    <a:lnTo>
                      <a:pt x="3181" y="270"/>
                    </a:lnTo>
                    <a:lnTo>
                      <a:pt x="3216" y="292"/>
                    </a:lnTo>
                    <a:lnTo>
                      <a:pt x="3245" y="314"/>
                    </a:lnTo>
                    <a:lnTo>
                      <a:pt x="3271" y="336"/>
                    </a:lnTo>
                    <a:lnTo>
                      <a:pt x="3294" y="359"/>
                    </a:lnTo>
                    <a:lnTo>
                      <a:pt x="3313" y="384"/>
                    </a:lnTo>
                    <a:lnTo>
                      <a:pt x="3328" y="408"/>
                    </a:lnTo>
                    <a:lnTo>
                      <a:pt x="3338" y="433"/>
                    </a:lnTo>
                    <a:lnTo>
                      <a:pt x="3345" y="458"/>
                    </a:lnTo>
                    <a:lnTo>
                      <a:pt x="3347" y="4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63800" y="6499800"/>
                <a:ext cx="368640" cy="116640"/>
              </a:xfrm>
              <a:custGeom>
                <a:avLst/>
                <a:gdLst/>
                <a:ahLst/>
                <a:rect l="l" t="t" r="r" b="b"/>
                <a:pathLst>
                  <a:path w="3343" h="983">
                    <a:moveTo>
                      <a:pt x="3343" y="483"/>
                    </a:moveTo>
                    <a:lnTo>
                      <a:pt x="3341" y="509"/>
                    </a:lnTo>
                    <a:lnTo>
                      <a:pt x="3335" y="534"/>
                    </a:lnTo>
                    <a:lnTo>
                      <a:pt x="3324" y="559"/>
                    </a:lnTo>
                    <a:lnTo>
                      <a:pt x="3310" y="584"/>
                    </a:lnTo>
                    <a:lnTo>
                      <a:pt x="3290" y="608"/>
                    </a:lnTo>
                    <a:lnTo>
                      <a:pt x="3268" y="632"/>
                    </a:lnTo>
                    <a:lnTo>
                      <a:pt x="3242" y="655"/>
                    </a:lnTo>
                    <a:lnTo>
                      <a:pt x="3212" y="677"/>
                    </a:lnTo>
                    <a:lnTo>
                      <a:pt x="3178" y="700"/>
                    </a:lnTo>
                    <a:lnTo>
                      <a:pt x="3142" y="722"/>
                    </a:lnTo>
                    <a:lnTo>
                      <a:pt x="3102" y="743"/>
                    </a:lnTo>
                    <a:lnTo>
                      <a:pt x="3058" y="763"/>
                    </a:lnTo>
                    <a:lnTo>
                      <a:pt x="3012" y="782"/>
                    </a:lnTo>
                    <a:lnTo>
                      <a:pt x="2961" y="802"/>
                    </a:lnTo>
                    <a:lnTo>
                      <a:pt x="2909" y="820"/>
                    </a:lnTo>
                    <a:lnTo>
                      <a:pt x="2854" y="837"/>
                    </a:lnTo>
                    <a:lnTo>
                      <a:pt x="2796" y="853"/>
                    </a:lnTo>
                    <a:lnTo>
                      <a:pt x="2735" y="869"/>
                    </a:lnTo>
                    <a:lnTo>
                      <a:pt x="2671" y="884"/>
                    </a:lnTo>
                    <a:lnTo>
                      <a:pt x="2607" y="899"/>
                    </a:lnTo>
                    <a:lnTo>
                      <a:pt x="2538" y="911"/>
                    </a:lnTo>
                    <a:lnTo>
                      <a:pt x="2468" y="923"/>
                    </a:lnTo>
                    <a:lnTo>
                      <a:pt x="2397" y="934"/>
                    </a:lnTo>
                    <a:lnTo>
                      <a:pt x="2322" y="944"/>
                    </a:lnTo>
                    <a:lnTo>
                      <a:pt x="2246" y="953"/>
                    </a:lnTo>
                    <a:lnTo>
                      <a:pt x="2168" y="961"/>
                    </a:lnTo>
                    <a:lnTo>
                      <a:pt x="2090" y="968"/>
                    </a:lnTo>
                    <a:lnTo>
                      <a:pt x="2009" y="973"/>
                    </a:lnTo>
                    <a:lnTo>
                      <a:pt x="1926" y="977"/>
                    </a:lnTo>
                    <a:lnTo>
                      <a:pt x="1842" y="981"/>
                    </a:lnTo>
                    <a:lnTo>
                      <a:pt x="1757" y="983"/>
                    </a:lnTo>
                    <a:lnTo>
                      <a:pt x="1671" y="983"/>
                    </a:lnTo>
                    <a:lnTo>
                      <a:pt x="1586" y="983"/>
                    </a:lnTo>
                    <a:lnTo>
                      <a:pt x="1501" y="981"/>
                    </a:lnTo>
                    <a:lnTo>
                      <a:pt x="1417" y="977"/>
                    </a:lnTo>
                    <a:lnTo>
                      <a:pt x="1334" y="973"/>
                    </a:lnTo>
                    <a:lnTo>
                      <a:pt x="1253" y="968"/>
                    </a:lnTo>
                    <a:lnTo>
                      <a:pt x="1175" y="961"/>
                    </a:lnTo>
                    <a:lnTo>
                      <a:pt x="1097" y="953"/>
                    </a:lnTo>
                    <a:lnTo>
                      <a:pt x="1021" y="944"/>
                    </a:lnTo>
                    <a:lnTo>
                      <a:pt x="946" y="934"/>
                    </a:lnTo>
                    <a:lnTo>
                      <a:pt x="875" y="923"/>
                    </a:lnTo>
                    <a:lnTo>
                      <a:pt x="805" y="911"/>
                    </a:lnTo>
                    <a:lnTo>
                      <a:pt x="737" y="899"/>
                    </a:lnTo>
                    <a:lnTo>
                      <a:pt x="672" y="884"/>
                    </a:lnTo>
                    <a:lnTo>
                      <a:pt x="608" y="869"/>
                    </a:lnTo>
                    <a:lnTo>
                      <a:pt x="547" y="853"/>
                    </a:lnTo>
                    <a:lnTo>
                      <a:pt x="490" y="837"/>
                    </a:lnTo>
                    <a:lnTo>
                      <a:pt x="434" y="820"/>
                    </a:lnTo>
                    <a:lnTo>
                      <a:pt x="382" y="802"/>
                    </a:lnTo>
                    <a:lnTo>
                      <a:pt x="332" y="782"/>
                    </a:lnTo>
                    <a:lnTo>
                      <a:pt x="285" y="763"/>
                    </a:lnTo>
                    <a:lnTo>
                      <a:pt x="241" y="743"/>
                    </a:lnTo>
                    <a:lnTo>
                      <a:pt x="202" y="722"/>
                    </a:lnTo>
                    <a:lnTo>
                      <a:pt x="165" y="700"/>
                    </a:lnTo>
                    <a:lnTo>
                      <a:pt x="131" y="677"/>
                    </a:lnTo>
                    <a:lnTo>
                      <a:pt x="101" y="655"/>
                    </a:lnTo>
                    <a:lnTo>
                      <a:pt x="75" y="632"/>
                    </a:lnTo>
                    <a:lnTo>
                      <a:pt x="53" y="608"/>
                    </a:lnTo>
                    <a:lnTo>
                      <a:pt x="33" y="584"/>
                    </a:lnTo>
                    <a:lnTo>
                      <a:pt x="19" y="559"/>
                    </a:lnTo>
                    <a:lnTo>
                      <a:pt x="8" y="534"/>
                    </a:lnTo>
                    <a:lnTo>
                      <a:pt x="2" y="509"/>
                    </a:lnTo>
                    <a:lnTo>
                      <a:pt x="0" y="483"/>
                    </a:lnTo>
                    <a:lnTo>
                      <a:pt x="2" y="457"/>
                    </a:lnTo>
                    <a:lnTo>
                      <a:pt x="8" y="432"/>
                    </a:lnTo>
                    <a:lnTo>
                      <a:pt x="19" y="407"/>
                    </a:lnTo>
                    <a:lnTo>
                      <a:pt x="33" y="383"/>
                    </a:lnTo>
                    <a:lnTo>
                      <a:pt x="53" y="359"/>
                    </a:lnTo>
                    <a:lnTo>
                      <a:pt x="75" y="336"/>
                    </a:lnTo>
                    <a:lnTo>
                      <a:pt x="101" y="313"/>
                    </a:lnTo>
                    <a:lnTo>
                      <a:pt x="131" y="291"/>
                    </a:lnTo>
                    <a:lnTo>
                      <a:pt x="165" y="270"/>
                    </a:lnTo>
                    <a:lnTo>
                      <a:pt x="202" y="248"/>
                    </a:lnTo>
                    <a:lnTo>
                      <a:pt x="241" y="228"/>
                    </a:lnTo>
                    <a:lnTo>
                      <a:pt x="285" y="209"/>
                    </a:lnTo>
                    <a:lnTo>
                      <a:pt x="332" y="190"/>
                    </a:lnTo>
                    <a:lnTo>
                      <a:pt x="382" y="172"/>
                    </a:lnTo>
                    <a:lnTo>
                      <a:pt x="434" y="155"/>
                    </a:lnTo>
                    <a:lnTo>
                      <a:pt x="490" y="138"/>
                    </a:lnTo>
                    <a:lnTo>
                      <a:pt x="547" y="122"/>
                    </a:lnTo>
                    <a:lnTo>
                      <a:pt x="608" y="107"/>
                    </a:lnTo>
                    <a:lnTo>
                      <a:pt x="672" y="93"/>
                    </a:lnTo>
                    <a:lnTo>
                      <a:pt x="737" y="80"/>
                    </a:lnTo>
                    <a:lnTo>
                      <a:pt x="805" y="68"/>
                    </a:lnTo>
                    <a:lnTo>
                      <a:pt x="875" y="57"/>
                    </a:lnTo>
                    <a:lnTo>
                      <a:pt x="946" y="47"/>
                    </a:lnTo>
                    <a:lnTo>
                      <a:pt x="1021" y="36"/>
                    </a:lnTo>
                    <a:lnTo>
                      <a:pt x="1097" y="28"/>
                    </a:lnTo>
                    <a:lnTo>
                      <a:pt x="1175" y="21"/>
                    </a:lnTo>
                    <a:lnTo>
                      <a:pt x="1253" y="15"/>
                    </a:lnTo>
                    <a:lnTo>
                      <a:pt x="1334" y="9"/>
                    </a:lnTo>
                    <a:lnTo>
                      <a:pt x="1417" y="5"/>
                    </a:lnTo>
                    <a:lnTo>
                      <a:pt x="1501" y="3"/>
                    </a:lnTo>
                    <a:lnTo>
                      <a:pt x="1586" y="1"/>
                    </a:lnTo>
                    <a:lnTo>
                      <a:pt x="1671" y="0"/>
                    </a:lnTo>
                    <a:lnTo>
                      <a:pt x="1757" y="1"/>
                    </a:lnTo>
                    <a:lnTo>
                      <a:pt x="1842" y="3"/>
                    </a:lnTo>
                    <a:lnTo>
                      <a:pt x="1926" y="5"/>
                    </a:lnTo>
                    <a:lnTo>
                      <a:pt x="2009" y="9"/>
                    </a:lnTo>
                    <a:lnTo>
                      <a:pt x="2090" y="15"/>
                    </a:lnTo>
                    <a:lnTo>
                      <a:pt x="2168" y="21"/>
                    </a:lnTo>
                    <a:lnTo>
                      <a:pt x="2246" y="28"/>
                    </a:lnTo>
                    <a:lnTo>
                      <a:pt x="2322" y="36"/>
                    </a:lnTo>
                    <a:lnTo>
                      <a:pt x="2397" y="47"/>
                    </a:lnTo>
                    <a:lnTo>
                      <a:pt x="2468" y="57"/>
                    </a:lnTo>
                    <a:lnTo>
                      <a:pt x="2538" y="68"/>
                    </a:lnTo>
                    <a:lnTo>
                      <a:pt x="2607" y="80"/>
                    </a:lnTo>
                    <a:lnTo>
                      <a:pt x="2671" y="93"/>
                    </a:lnTo>
                    <a:lnTo>
                      <a:pt x="2735" y="107"/>
                    </a:lnTo>
                    <a:lnTo>
                      <a:pt x="2796" y="122"/>
                    </a:lnTo>
                    <a:lnTo>
                      <a:pt x="2854" y="138"/>
                    </a:lnTo>
                    <a:lnTo>
                      <a:pt x="2909" y="155"/>
                    </a:lnTo>
                    <a:lnTo>
                      <a:pt x="2961" y="172"/>
                    </a:lnTo>
                    <a:lnTo>
                      <a:pt x="3012" y="190"/>
                    </a:lnTo>
                    <a:lnTo>
                      <a:pt x="3058" y="209"/>
                    </a:lnTo>
                    <a:lnTo>
                      <a:pt x="3102" y="228"/>
                    </a:lnTo>
                    <a:lnTo>
                      <a:pt x="3142" y="248"/>
                    </a:lnTo>
                    <a:lnTo>
                      <a:pt x="3178" y="270"/>
                    </a:lnTo>
                    <a:lnTo>
                      <a:pt x="3212" y="291"/>
                    </a:lnTo>
                    <a:lnTo>
                      <a:pt x="3242" y="313"/>
                    </a:lnTo>
                    <a:lnTo>
                      <a:pt x="3268" y="336"/>
                    </a:lnTo>
                    <a:lnTo>
                      <a:pt x="3290" y="359"/>
                    </a:lnTo>
                    <a:lnTo>
                      <a:pt x="3310" y="383"/>
                    </a:lnTo>
                    <a:lnTo>
                      <a:pt x="3324" y="407"/>
                    </a:lnTo>
                    <a:lnTo>
                      <a:pt x="3335" y="432"/>
                    </a:lnTo>
                    <a:lnTo>
                      <a:pt x="3341" y="457"/>
                    </a:lnTo>
                    <a:lnTo>
                      <a:pt x="3343" y="4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63800" y="6499800"/>
                <a:ext cx="368640" cy="116640"/>
              </a:xfrm>
              <a:custGeom>
                <a:avLst/>
                <a:gdLst/>
                <a:ahLst/>
                <a:rect l="l" t="t" r="r" b="b"/>
                <a:pathLst>
                  <a:path w="3341" h="981">
                    <a:moveTo>
                      <a:pt x="3341" y="482"/>
                    </a:moveTo>
                    <a:lnTo>
                      <a:pt x="3339" y="508"/>
                    </a:lnTo>
                    <a:lnTo>
                      <a:pt x="3332" y="533"/>
                    </a:lnTo>
                    <a:lnTo>
                      <a:pt x="3322" y="558"/>
                    </a:lnTo>
                    <a:lnTo>
                      <a:pt x="3307" y="583"/>
                    </a:lnTo>
                    <a:lnTo>
                      <a:pt x="3288" y="607"/>
                    </a:lnTo>
                    <a:lnTo>
                      <a:pt x="3266" y="631"/>
                    </a:lnTo>
                    <a:lnTo>
                      <a:pt x="3240" y="654"/>
                    </a:lnTo>
                    <a:lnTo>
                      <a:pt x="3210" y="676"/>
                    </a:lnTo>
                    <a:lnTo>
                      <a:pt x="3176" y="699"/>
                    </a:lnTo>
                    <a:lnTo>
                      <a:pt x="3139" y="720"/>
                    </a:lnTo>
                    <a:lnTo>
                      <a:pt x="3100" y="741"/>
                    </a:lnTo>
                    <a:lnTo>
                      <a:pt x="3056" y="761"/>
                    </a:lnTo>
                    <a:lnTo>
                      <a:pt x="3009" y="781"/>
                    </a:lnTo>
                    <a:lnTo>
                      <a:pt x="2959" y="800"/>
                    </a:lnTo>
                    <a:lnTo>
                      <a:pt x="2907" y="818"/>
                    </a:lnTo>
                    <a:lnTo>
                      <a:pt x="2852" y="835"/>
                    </a:lnTo>
                    <a:lnTo>
                      <a:pt x="2794" y="852"/>
                    </a:lnTo>
                    <a:lnTo>
                      <a:pt x="2733" y="867"/>
                    </a:lnTo>
                    <a:lnTo>
                      <a:pt x="2670" y="882"/>
                    </a:lnTo>
                    <a:lnTo>
                      <a:pt x="2605" y="897"/>
                    </a:lnTo>
                    <a:lnTo>
                      <a:pt x="2537" y="910"/>
                    </a:lnTo>
                    <a:lnTo>
                      <a:pt x="2466" y="922"/>
                    </a:lnTo>
                    <a:lnTo>
                      <a:pt x="2395" y="932"/>
                    </a:lnTo>
                    <a:lnTo>
                      <a:pt x="2321" y="942"/>
                    </a:lnTo>
                    <a:lnTo>
                      <a:pt x="2245" y="951"/>
                    </a:lnTo>
                    <a:lnTo>
                      <a:pt x="2167" y="959"/>
                    </a:lnTo>
                    <a:lnTo>
                      <a:pt x="2088" y="966"/>
                    </a:lnTo>
                    <a:lnTo>
                      <a:pt x="2007" y="971"/>
                    </a:lnTo>
                    <a:lnTo>
                      <a:pt x="1925" y="976"/>
                    </a:lnTo>
                    <a:lnTo>
                      <a:pt x="1841" y="979"/>
                    </a:lnTo>
                    <a:lnTo>
                      <a:pt x="1756" y="981"/>
                    </a:lnTo>
                    <a:lnTo>
                      <a:pt x="1670" y="981"/>
                    </a:lnTo>
                    <a:lnTo>
                      <a:pt x="1585" y="981"/>
                    </a:lnTo>
                    <a:lnTo>
                      <a:pt x="1500" y="979"/>
                    </a:lnTo>
                    <a:lnTo>
                      <a:pt x="1416" y="976"/>
                    </a:lnTo>
                    <a:lnTo>
                      <a:pt x="1334" y="971"/>
                    </a:lnTo>
                    <a:lnTo>
                      <a:pt x="1253" y="966"/>
                    </a:lnTo>
                    <a:lnTo>
                      <a:pt x="1174" y="959"/>
                    </a:lnTo>
                    <a:lnTo>
                      <a:pt x="1096" y="951"/>
                    </a:lnTo>
                    <a:lnTo>
                      <a:pt x="1020" y="942"/>
                    </a:lnTo>
                    <a:lnTo>
                      <a:pt x="946" y="932"/>
                    </a:lnTo>
                    <a:lnTo>
                      <a:pt x="875" y="922"/>
                    </a:lnTo>
                    <a:lnTo>
                      <a:pt x="804" y="910"/>
                    </a:lnTo>
                    <a:lnTo>
                      <a:pt x="736" y="897"/>
                    </a:lnTo>
                    <a:lnTo>
                      <a:pt x="671" y="882"/>
                    </a:lnTo>
                    <a:lnTo>
                      <a:pt x="608" y="867"/>
                    </a:lnTo>
                    <a:lnTo>
                      <a:pt x="547" y="852"/>
                    </a:lnTo>
                    <a:lnTo>
                      <a:pt x="490" y="835"/>
                    </a:lnTo>
                    <a:lnTo>
                      <a:pt x="434" y="818"/>
                    </a:lnTo>
                    <a:lnTo>
                      <a:pt x="382" y="800"/>
                    </a:lnTo>
                    <a:lnTo>
                      <a:pt x="332" y="781"/>
                    </a:lnTo>
                    <a:lnTo>
                      <a:pt x="286" y="761"/>
                    </a:lnTo>
                    <a:lnTo>
                      <a:pt x="242" y="741"/>
                    </a:lnTo>
                    <a:lnTo>
                      <a:pt x="202" y="720"/>
                    </a:lnTo>
                    <a:lnTo>
                      <a:pt x="165" y="699"/>
                    </a:lnTo>
                    <a:lnTo>
                      <a:pt x="131" y="676"/>
                    </a:lnTo>
                    <a:lnTo>
                      <a:pt x="102" y="654"/>
                    </a:lnTo>
                    <a:lnTo>
                      <a:pt x="76" y="631"/>
                    </a:lnTo>
                    <a:lnTo>
                      <a:pt x="53" y="607"/>
                    </a:lnTo>
                    <a:lnTo>
                      <a:pt x="34" y="583"/>
                    </a:lnTo>
                    <a:lnTo>
                      <a:pt x="19" y="558"/>
                    </a:lnTo>
                    <a:lnTo>
                      <a:pt x="9" y="533"/>
                    </a:lnTo>
                    <a:lnTo>
                      <a:pt x="2" y="508"/>
                    </a:lnTo>
                    <a:lnTo>
                      <a:pt x="0" y="482"/>
                    </a:lnTo>
                    <a:lnTo>
                      <a:pt x="2" y="456"/>
                    </a:lnTo>
                    <a:lnTo>
                      <a:pt x="9" y="431"/>
                    </a:lnTo>
                    <a:lnTo>
                      <a:pt x="19" y="407"/>
                    </a:lnTo>
                    <a:lnTo>
                      <a:pt x="34" y="382"/>
                    </a:lnTo>
                    <a:lnTo>
                      <a:pt x="53" y="358"/>
                    </a:lnTo>
                    <a:lnTo>
                      <a:pt x="76" y="335"/>
                    </a:lnTo>
                    <a:lnTo>
                      <a:pt x="102" y="312"/>
                    </a:lnTo>
                    <a:lnTo>
                      <a:pt x="131" y="291"/>
                    </a:lnTo>
                    <a:lnTo>
                      <a:pt x="165" y="269"/>
                    </a:lnTo>
                    <a:lnTo>
                      <a:pt x="202" y="248"/>
                    </a:lnTo>
                    <a:lnTo>
                      <a:pt x="242" y="228"/>
                    </a:lnTo>
                    <a:lnTo>
                      <a:pt x="286" y="208"/>
                    </a:lnTo>
                    <a:lnTo>
                      <a:pt x="332" y="190"/>
                    </a:lnTo>
                    <a:lnTo>
                      <a:pt x="382" y="172"/>
                    </a:lnTo>
                    <a:lnTo>
                      <a:pt x="434" y="155"/>
                    </a:lnTo>
                    <a:lnTo>
                      <a:pt x="490" y="137"/>
                    </a:lnTo>
                    <a:lnTo>
                      <a:pt x="547" y="122"/>
                    </a:lnTo>
                    <a:lnTo>
                      <a:pt x="608" y="107"/>
                    </a:lnTo>
                    <a:lnTo>
                      <a:pt x="671" y="93"/>
                    </a:lnTo>
                    <a:lnTo>
                      <a:pt x="736" y="80"/>
                    </a:lnTo>
                    <a:lnTo>
                      <a:pt x="804" y="68"/>
                    </a:lnTo>
                    <a:lnTo>
                      <a:pt x="875" y="57"/>
                    </a:lnTo>
                    <a:lnTo>
                      <a:pt x="946" y="47"/>
                    </a:lnTo>
                    <a:lnTo>
                      <a:pt x="1020" y="36"/>
                    </a:lnTo>
                    <a:lnTo>
                      <a:pt x="1096" y="28"/>
                    </a:lnTo>
                    <a:lnTo>
                      <a:pt x="1174" y="21"/>
                    </a:lnTo>
                    <a:lnTo>
                      <a:pt x="1253" y="15"/>
                    </a:lnTo>
                    <a:lnTo>
                      <a:pt x="1334" y="9"/>
                    </a:lnTo>
                    <a:lnTo>
                      <a:pt x="1416" y="5"/>
                    </a:lnTo>
                    <a:lnTo>
                      <a:pt x="1500" y="2"/>
                    </a:lnTo>
                    <a:lnTo>
                      <a:pt x="1585" y="1"/>
                    </a:lnTo>
                    <a:lnTo>
                      <a:pt x="1670" y="0"/>
                    </a:lnTo>
                    <a:lnTo>
                      <a:pt x="1756" y="1"/>
                    </a:lnTo>
                    <a:lnTo>
                      <a:pt x="1841" y="2"/>
                    </a:lnTo>
                    <a:lnTo>
                      <a:pt x="1925" y="5"/>
                    </a:lnTo>
                    <a:lnTo>
                      <a:pt x="2007" y="9"/>
                    </a:lnTo>
                    <a:lnTo>
                      <a:pt x="2088" y="15"/>
                    </a:lnTo>
                    <a:lnTo>
                      <a:pt x="2167" y="21"/>
                    </a:lnTo>
                    <a:lnTo>
                      <a:pt x="2245" y="28"/>
                    </a:lnTo>
                    <a:lnTo>
                      <a:pt x="2321" y="36"/>
                    </a:lnTo>
                    <a:lnTo>
                      <a:pt x="2395" y="47"/>
                    </a:lnTo>
                    <a:lnTo>
                      <a:pt x="2466" y="57"/>
                    </a:lnTo>
                    <a:lnTo>
                      <a:pt x="2537" y="68"/>
                    </a:lnTo>
                    <a:lnTo>
                      <a:pt x="2605" y="80"/>
                    </a:lnTo>
                    <a:lnTo>
                      <a:pt x="2670" y="93"/>
                    </a:lnTo>
                    <a:lnTo>
                      <a:pt x="2733" y="107"/>
                    </a:lnTo>
                    <a:lnTo>
                      <a:pt x="2794" y="122"/>
                    </a:lnTo>
                    <a:lnTo>
                      <a:pt x="2852" y="137"/>
                    </a:lnTo>
                    <a:lnTo>
                      <a:pt x="2907" y="155"/>
                    </a:lnTo>
                    <a:lnTo>
                      <a:pt x="2959" y="172"/>
                    </a:lnTo>
                    <a:lnTo>
                      <a:pt x="3009" y="190"/>
                    </a:lnTo>
                    <a:lnTo>
                      <a:pt x="3056" y="208"/>
                    </a:lnTo>
                    <a:lnTo>
                      <a:pt x="3100" y="228"/>
                    </a:lnTo>
                    <a:lnTo>
                      <a:pt x="3139" y="248"/>
                    </a:lnTo>
                    <a:lnTo>
                      <a:pt x="3176" y="269"/>
                    </a:lnTo>
                    <a:lnTo>
                      <a:pt x="3210" y="291"/>
                    </a:lnTo>
                    <a:lnTo>
                      <a:pt x="3240" y="312"/>
                    </a:lnTo>
                    <a:lnTo>
                      <a:pt x="3266" y="335"/>
                    </a:lnTo>
                    <a:lnTo>
                      <a:pt x="3288" y="358"/>
                    </a:lnTo>
                    <a:lnTo>
                      <a:pt x="3307" y="382"/>
                    </a:lnTo>
                    <a:lnTo>
                      <a:pt x="3322" y="407"/>
                    </a:lnTo>
                    <a:lnTo>
                      <a:pt x="3332" y="431"/>
                    </a:lnTo>
                    <a:lnTo>
                      <a:pt x="3339" y="456"/>
                    </a:lnTo>
                    <a:lnTo>
                      <a:pt x="3341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63800" y="6499800"/>
                <a:ext cx="368640" cy="116640"/>
              </a:xfrm>
              <a:custGeom>
                <a:avLst/>
                <a:gdLst/>
                <a:ahLst/>
                <a:rect l="l" t="t" r="r" b="b"/>
                <a:pathLst>
                  <a:path w="3338" h="979">
                    <a:moveTo>
                      <a:pt x="3338" y="481"/>
                    </a:moveTo>
                    <a:lnTo>
                      <a:pt x="3335" y="507"/>
                    </a:lnTo>
                    <a:lnTo>
                      <a:pt x="3329" y="532"/>
                    </a:lnTo>
                    <a:lnTo>
                      <a:pt x="3318" y="557"/>
                    </a:lnTo>
                    <a:lnTo>
                      <a:pt x="3304" y="582"/>
                    </a:lnTo>
                    <a:lnTo>
                      <a:pt x="3284" y="606"/>
                    </a:lnTo>
                    <a:lnTo>
                      <a:pt x="3262" y="629"/>
                    </a:lnTo>
                    <a:lnTo>
                      <a:pt x="3236" y="652"/>
                    </a:lnTo>
                    <a:lnTo>
                      <a:pt x="3207" y="675"/>
                    </a:lnTo>
                    <a:lnTo>
                      <a:pt x="3173" y="698"/>
                    </a:lnTo>
                    <a:lnTo>
                      <a:pt x="3136" y="719"/>
                    </a:lnTo>
                    <a:lnTo>
                      <a:pt x="3096" y="740"/>
                    </a:lnTo>
                    <a:lnTo>
                      <a:pt x="3052" y="760"/>
                    </a:lnTo>
                    <a:lnTo>
                      <a:pt x="3006" y="779"/>
                    </a:lnTo>
                    <a:lnTo>
                      <a:pt x="2956" y="799"/>
                    </a:lnTo>
                    <a:lnTo>
                      <a:pt x="2904" y="817"/>
                    </a:lnTo>
                    <a:lnTo>
                      <a:pt x="2849" y="834"/>
                    </a:lnTo>
                    <a:lnTo>
                      <a:pt x="2791" y="850"/>
                    </a:lnTo>
                    <a:lnTo>
                      <a:pt x="2730" y="866"/>
                    </a:lnTo>
                    <a:lnTo>
                      <a:pt x="2667" y="880"/>
                    </a:lnTo>
                    <a:lnTo>
                      <a:pt x="2602" y="895"/>
                    </a:lnTo>
                    <a:lnTo>
                      <a:pt x="2534" y="908"/>
                    </a:lnTo>
                    <a:lnTo>
                      <a:pt x="2464" y="920"/>
                    </a:lnTo>
                    <a:lnTo>
                      <a:pt x="2392" y="931"/>
                    </a:lnTo>
                    <a:lnTo>
                      <a:pt x="2318" y="941"/>
                    </a:lnTo>
                    <a:lnTo>
                      <a:pt x="2242" y="949"/>
                    </a:lnTo>
                    <a:lnTo>
                      <a:pt x="2164" y="957"/>
                    </a:lnTo>
                    <a:lnTo>
                      <a:pt x="2086" y="964"/>
                    </a:lnTo>
                    <a:lnTo>
                      <a:pt x="2005" y="969"/>
                    </a:lnTo>
                    <a:lnTo>
                      <a:pt x="1923" y="974"/>
                    </a:lnTo>
                    <a:lnTo>
                      <a:pt x="1839" y="977"/>
                    </a:lnTo>
                    <a:lnTo>
                      <a:pt x="1754" y="979"/>
                    </a:lnTo>
                    <a:lnTo>
                      <a:pt x="1668" y="979"/>
                    </a:lnTo>
                    <a:lnTo>
                      <a:pt x="1583" y="979"/>
                    </a:lnTo>
                    <a:lnTo>
                      <a:pt x="1498" y="977"/>
                    </a:lnTo>
                    <a:lnTo>
                      <a:pt x="1414" y="974"/>
                    </a:lnTo>
                    <a:lnTo>
                      <a:pt x="1332" y="969"/>
                    </a:lnTo>
                    <a:lnTo>
                      <a:pt x="1251" y="964"/>
                    </a:lnTo>
                    <a:lnTo>
                      <a:pt x="1173" y="957"/>
                    </a:lnTo>
                    <a:lnTo>
                      <a:pt x="1095" y="949"/>
                    </a:lnTo>
                    <a:lnTo>
                      <a:pt x="1019" y="941"/>
                    </a:lnTo>
                    <a:lnTo>
                      <a:pt x="945" y="931"/>
                    </a:lnTo>
                    <a:lnTo>
                      <a:pt x="873" y="920"/>
                    </a:lnTo>
                    <a:lnTo>
                      <a:pt x="803" y="908"/>
                    </a:lnTo>
                    <a:lnTo>
                      <a:pt x="735" y="895"/>
                    </a:lnTo>
                    <a:lnTo>
                      <a:pt x="670" y="880"/>
                    </a:lnTo>
                    <a:lnTo>
                      <a:pt x="607" y="866"/>
                    </a:lnTo>
                    <a:lnTo>
                      <a:pt x="546" y="850"/>
                    </a:lnTo>
                    <a:lnTo>
                      <a:pt x="489" y="834"/>
                    </a:lnTo>
                    <a:lnTo>
                      <a:pt x="433" y="817"/>
                    </a:lnTo>
                    <a:lnTo>
                      <a:pt x="381" y="799"/>
                    </a:lnTo>
                    <a:lnTo>
                      <a:pt x="331" y="779"/>
                    </a:lnTo>
                    <a:lnTo>
                      <a:pt x="285" y="760"/>
                    </a:lnTo>
                    <a:lnTo>
                      <a:pt x="241" y="740"/>
                    </a:lnTo>
                    <a:lnTo>
                      <a:pt x="201" y="719"/>
                    </a:lnTo>
                    <a:lnTo>
                      <a:pt x="165" y="698"/>
                    </a:lnTo>
                    <a:lnTo>
                      <a:pt x="130" y="675"/>
                    </a:lnTo>
                    <a:lnTo>
                      <a:pt x="101" y="652"/>
                    </a:lnTo>
                    <a:lnTo>
                      <a:pt x="75" y="629"/>
                    </a:lnTo>
                    <a:lnTo>
                      <a:pt x="53" y="606"/>
                    </a:lnTo>
                    <a:lnTo>
                      <a:pt x="33" y="582"/>
                    </a:lnTo>
                    <a:lnTo>
                      <a:pt x="19" y="557"/>
                    </a:lnTo>
                    <a:lnTo>
                      <a:pt x="8" y="532"/>
                    </a:lnTo>
                    <a:lnTo>
                      <a:pt x="2" y="507"/>
                    </a:lnTo>
                    <a:lnTo>
                      <a:pt x="0" y="481"/>
                    </a:lnTo>
                    <a:lnTo>
                      <a:pt x="2" y="455"/>
                    </a:lnTo>
                    <a:lnTo>
                      <a:pt x="8" y="430"/>
                    </a:lnTo>
                    <a:lnTo>
                      <a:pt x="19" y="406"/>
                    </a:lnTo>
                    <a:lnTo>
                      <a:pt x="33" y="382"/>
                    </a:lnTo>
                    <a:lnTo>
                      <a:pt x="53" y="357"/>
                    </a:lnTo>
                    <a:lnTo>
                      <a:pt x="75" y="334"/>
                    </a:lnTo>
                    <a:lnTo>
                      <a:pt x="101" y="312"/>
                    </a:lnTo>
                    <a:lnTo>
                      <a:pt x="130" y="290"/>
                    </a:lnTo>
                    <a:lnTo>
                      <a:pt x="165" y="269"/>
                    </a:lnTo>
                    <a:lnTo>
                      <a:pt x="201" y="247"/>
                    </a:lnTo>
                    <a:lnTo>
                      <a:pt x="241" y="227"/>
                    </a:lnTo>
                    <a:lnTo>
                      <a:pt x="285" y="208"/>
                    </a:lnTo>
                    <a:lnTo>
                      <a:pt x="331" y="189"/>
                    </a:lnTo>
                    <a:lnTo>
                      <a:pt x="381" y="171"/>
                    </a:lnTo>
                    <a:lnTo>
                      <a:pt x="433" y="154"/>
                    </a:lnTo>
                    <a:lnTo>
                      <a:pt x="489" y="137"/>
                    </a:lnTo>
                    <a:lnTo>
                      <a:pt x="546" y="121"/>
                    </a:lnTo>
                    <a:lnTo>
                      <a:pt x="607" y="107"/>
                    </a:lnTo>
                    <a:lnTo>
                      <a:pt x="670" y="93"/>
                    </a:lnTo>
                    <a:lnTo>
                      <a:pt x="735" y="80"/>
                    </a:lnTo>
                    <a:lnTo>
                      <a:pt x="803" y="68"/>
                    </a:lnTo>
                    <a:lnTo>
                      <a:pt x="873" y="57"/>
                    </a:lnTo>
                    <a:lnTo>
                      <a:pt x="945" y="46"/>
                    </a:lnTo>
                    <a:lnTo>
                      <a:pt x="1019" y="36"/>
                    </a:lnTo>
                    <a:lnTo>
                      <a:pt x="1095" y="28"/>
                    </a:lnTo>
                    <a:lnTo>
                      <a:pt x="1173" y="21"/>
                    </a:lnTo>
                    <a:lnTo>
                      <a:pt x="1251" y="14"/>
                    </a:lnTo>
                    <a:lnTo>
                      <a:pt x="1332" y="9"/>
                    </a:lnTo>
                    <a:lnTo>
                      <a:pt x="1414" y="5"/>
                    </a:lnTo>
                    <a:lnTo>
                      <a:pt x="1498" y="2"/>
                    </a:lnTo>
                    <a:lnTo>
                      <a:pt x="1583" y="1"/>
                    </a:lnTo>
                    <a:lnTo>
                      <a:pt x="1668" y="0"/>
                    </a:lnTo>
                    <a:lnTo>
                      <a:pt x="1754" y="1"/>
                    </a:lnTo>
                    <a:lnTo>
                      <a:pt x="1839" y="2"/>
                    </a:lnTo>
                    <a:lnTo>
                      <a:pt x="1923" y="5"/>
                    </a:lnTo>
                    <a:lnTo>
                      <a:pt x="2005" y="9"/>
                    </a:lnTo>
                    <a:lnTo>
                      <a:pt x="2086" y="14"/>
                    </a:lnTo>
                    <a:lnTo>
                      <a:pt x="2164" y="21"/>
                    </a:lnTo>
                    <a:lnTo>
                      <a:pt x="2242" y="28"/>
                    </a:lnTo>
                    <a:lnTo>
                      <a:pt x="2318" y="36"/>
                    </a:lnTo>
                    <a:lnTo>
                      <a:pt x="2392" y="46"/>
                    </a:lnTo>
                    <a:lnTo>
                      <a:pt x="2464" y="57"/>
                    </a:lnTo>
                    <a:lnTo>
                      <a:pt x="2534" y="68"/>
                    </a:lnTo>
                    <a:lnTo>
                      <a:pt x="2602" y="80"/>
                    </a:lnTo>
                    <a:lnTo>
                      <a:pt x="2667" y="93"/>
                    </a:lnTo>
                    <a:lnTo>
                      <a:pt x="2730" y="107"/>
                    </a:lnTo>
                    <a:lnTo>
                      <a:pt x="2791" y="121"/>
                    </a:lnTo>
                    <a:lnTo>
                      <a:pt x="2849" y="137"/>
                    </a:lnTo>
                    <a:lnTo>
                      <a:pt x="2904" y="154"/>
                    </a:lnTo>
                    <a:lnTo>
                      <a:pt x="2956" y="171"/>
                    </a:lnTo>
                    <a:lnTo>
                      <a:pt x="3006" y="189"/>
                    </a:lnTo>
                    <a:lnTo>
                      <a:pt x="3052" y="208"/>
                    </a:lnTo>
                    <a:lnTo>
                      <a:pt x="3096" y="227"/>
                    </a:lnTo>
                    <a:lnTo>
                      <a:pt x="3136" y="247"/>
                    </a:lnTo>
                    <a:lnTo>
                      <a:pt x="3173" y="269"/>
                    </a:lnTo>
                    <a:lnTo>
                      <a:pt x="3207" y="290"/>
                    </a:lnTo>
                    <a:lnTo>
                      <a:pt x="3236" y="312"/>
                    </a:lnTo>
                    <a:lnTo>
                      <a:pt x="3262" y="334"/>
                    </a:lnTo>
                    <a:lnTo>
                      <a:pt x="3284" y="357"/>
                    </a:lnTo>
                    <a:lnTo>
                      <a:pt x="3304" y="382"/>
                    </a:lnTo>
                    <a:lnTo>
                      <a:pt x="3318" y="406"/>
                    </a:lnTo>
                    <a:lnTo>
                      <a:pt x="3329" y="430"/>
                    </a:lnTo>
                    <a:lnTo>
                      <a:pt x="3335" y="455"/>
                    </a:lnTo>
                    <a:lnTo>
                      <a:pt x="3338" y="4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963800" y="6499800"/>
                <a:ext cx="368640" cy="116640"/>
              </a:xfrm>
              <a:custGeom>
                <a:avLst/>
                <a:gdLst/>
                <a:ahLst/>
                <a:rect l="l" t="t" r="r" b="b"/>
                <a:pathLst>
                  <a:path w="3335" h="977">
                    <a:moveTo>
                      <a:pt x="3335" y="480"/>
                    </a:moveTo>
                    <a:lnTo>
                      <a:pt x="3333" y="506"/>
                    </a:lnTo>
                    <a:lnTo>
                      <a:pt x="3327" y="531"/>
                    </a:lnTo>
                    <a:lnTo>
                      <a:pt x="3316" y="556"/>
                    </a:lnTo>
                    <a:lnTo>
                      <a:pt x="3302" y="581"/>
                    </a:lnTo>
                    <a:lnTo>
                      <a:pt x="3282" y="605"/>
                    </a:lnTo>
                    <a:lnTo>
                      <a:pt x="3260" y="628"/>
                    </a:lnTo>
                    <a:lnTo>
                      <a:pt x="3234" y="651"/>
                    </a:lnTo>
                    <a:lnTo>
                      <a:pt x="3204" y="673"/>
                    </a:lnTo>
                    <a:lnTo>
                      <a:pt x="3170" y="696"/>
                    </a:lnTo>
                    <a:lnTo>
                      <a:pt x="3134" y="717"/>
                    </a:lnTo>
                    <a:lnTo>
                      <a:pt x="3093" y="738"/>
                    </a:lnTo>
                    <a:lnTo>
                      <a:pt x="3050" y="758"/>
                    </a:lnTo>
                    <a:lnTo>
                      <a:pt x="3004" y="777"/>
                    </a:lnTo>
                    <a:lnTo>
                      <a:pt x="2954" y="797"/>
                    </a:lnTo>
                    <a:lnTo>
                      <a:pt x="2902" y="815"/>
                    </a:lnTo>
                    <a:lnTo>
                      <a:pt x="2847" y="832"/>
                    </a:lnTo>
                    <a:lnTo>
                      <a:pt x="2788" y="848"/>
                    </a:lnTo>
                    <a:lnTo>
                      <a:pt x="2728" y="864"/>
                    </a:lnTo>
                    <a:lnTo>
                      <a:pt x="2665" y="878"/>
                    </a:lnTo>
                    <a:lnTo>
                      <a:pt x="2600" y="893"/>
                    </a:lnTo>
                    <a:lnTo>
                      <a:pt x="2532" y="906"/>
                    </a:lnTo>
                    <a:lnTo>
                      <a:pt x="2462" y="918"/>
                    </a:lnTo>
                    <a:lnTo>
                      <a:pt x="2391" y="929"/>
                    </a:lnTo>
                    <a:lnTo>
                      <a:pt x="2317" y="939"/>
                    </a:lnTo>
                    <a:lnTo>
                      <a:pt x="2241" y="948"/>
                    </a:lnTo>
                    <a:lnTo>
                      <a:pt x="2163" y="955"/>
                    </a:lnTo>
                    <a:lnTo>
                      <a:pt x="2085" y="962"/>
                    </a:lnTo>
                    <a:lnTo>
                      <a:pt x="2004" y="967"/>
                    </a:lnTo>
                    <a:lnTo>
                      <a:pt x="1921" y="972"/>
                    </a:lnTo>
                    <a:lnTo>
                      <a:pt x="1838" y="975"/>
                    </a:lnTo>
                    <a:lnTo>
                      <a:pt x="1753" y="977"/>
                    </a:lnTo>
                    <a:lnTo>
                      <a:pt x="1667" y="977"/>
                    </a:lnTo>
                    <a:lnTo>
                      <a:pt x="1582" y="977"/>
                    </a:lnTo>
                    <a:lnTo>
                      <a:pt x="1497" y="975"/>
                    </a:lnTo>
                    <a:lnTo>
                      <a:pt x="1414" y="972"/>
                    </a:lnTo>
                    <a:lnTo>
                      <a:pt x="1331" y="967"/>
                    </a:lnTo>
                    <a:lnTo>
                      <a:pt x="1250" y="962"/>
                    </a:lnTo>
                    <a:lnTo>
                      <a:pt x="1172" y="955"/>
                    </a:lnTo>
                    <a:lnTo>
                      <a:pt x="1094" y="948"/>
                    </a:lnTo>
                    <a:lnTo>
                      <a:pt x="1018" y="939"/>
                    </a:lnTo>
                    <a:lnTo>
                      <a:pt x="944" y="929"/>
                    </a:lnTo>
                    <a:lnTo>
                      <a:pt x="873" y="918"/>
                    </a:lnTo>
                    <a:lnTo>
                      <a:pt x="803" y="906"/>
                    </a:lnTo>
                    <a:lnTo>
                      <a:pt x="735" y="893"/>
                    </a:lnTo>
                    <a:lnTo>
                      <a:pt x="670" y="878"/>
                    </a:lnTo>
                    <a:lnTo>
                      <a:pt x="607" y="864"/>
                    </a:lnTo>
                    <a:lnTo>
                      <a:pt x="546" y="848"/>
                    </a:lnTo>
                    <a:lnTo>
                      <a:pt x="489" y="832"/>
                    </a:lnTo>
                    <a:lnTo>
                      <a:pt x="433" y="815"/>
                    </a:lnTo>
                    <a:lnTo>
                      <a:pt x="381" y="797"/>
                    </a:lnTo>
                    <a:lnTo>
                      <a:pt x="331" y="777"/>
                    </a:lnTo>
                    <a:lnTo>
                      <a:pt x="285" y="758"/>
                    </a:lnTo>
                    <a:lnTo>
                      <a:pt x="241" y="738"/>
                    </a:lnTo>
                    <a:lnTo>
                      <a:pt x="201" y="717"/>
                    </a:lnTo>
                    <a:lnTo>
                      <a:pt x="165" y="696"/>
                    </a:lnTo>
                    <a:lnTo>
                      <a:pt x="131" y="673"/>
                    </a:lnTo>
                    <a:lnTo>
                      <a:pt x="101" y="651"/>
                    </a:lnTo>
                    <a:lnTo>
                      <a:pt x="75" y="628"/>
                    </a:lnTo>
                    <a:lnTo>
                      <a:pt x="53" y="605"/>
                    </a:lnTo>
                    <a:lnTo>
                      <a:pt x="34" y="581"/>
                    </a:lnTo>
                    <a:lnTo>
                      <a:pt x="19" y="556"/>
                    </a:lnTo>
                    <a:lnTo>
                      <a:pt x="9" y="531"/>
                    </a:lnTo>
                    <a:lnTo>
                      <a:pt x="2" y="506"/>
                    </a:lnTo>
                    <a:lnTo>
                      <a:pt x="0" y="480"/>
                    </a:lnTo>
                    <a:lnTo>
                      <a:pt x="2" y="454"/>
                    </a:lnTo>
                    <a:lnTo>
                      <a:pt x="9" y="429"/>
                    </a:lnTo>
                    <a:lnTo>
                      <a:pt x="19" y="405"/>
                    </a:lnTo>
                    <a:lnTo>
                      <a:pt x="34" y="381"/>
                    </a:lnTo>
                    <a:lnTo>
                      <a:pt x="53" y="356"/>
                    </a:lnTo>
                    <a:lnTo>
                      <a:pt x="75" y="334"/>
                    </a:lnTo>
                    <a:lnTo>
                      <a:pt x="101" y="311"/>
                    </a:lnTo>
                    <a:lnTo>
                      <a:pt x="131" y="289"/>
                    </a:lnTo>
                    <a:lnTo>
                      <a:pt x="165" y="268"/>
                    </a:lnTo>
                    <a:lnTo>
                      <a:pt x="201" y="247"/>
                    </a:lnTo>
                    <a:lnTo>
                      <a:pt x="241" y="227"/>
                    </a:lnTo>
                    <a:lnTo>
                      <a:pt x="285" y="207"/>
                    </a:lnTo>
                    <a:lnTo>
                      <a:pt x="331" y="189"/>
                    </a:lnTo>
                    <a:lnTo>
                      <a:pt x="381" y="171"/>
                    </a:lnTo>
                    <a:lnTo>
                      <a:pt x="433" y="154"/>
                    </a:lnTo>
                    <a:lnTo>
                      <a:pt x="489" y="137"/>
                    </a:lnTo>
                    <a:lnTo>
                      <a:pt x="546" y="121"/>
                    </a:lnTo>
                    <a:lnTo>
                      <a:pt x="607" y="106"/>
                    </a:lnTo>
                    <a:lnTo>
                      <a:pt x="670" y="93"/>
                    </a:lnTo>
                    <a:lnTo>
                      <a:pt x="735" y="80"/>
                    </a:lnTo>
                    <a:lnTo>
                      <a:pt x="803" y="68"/>
                    </a:lnTo>
                    <a:lnTo>
                      <a:pt x="873" y="56"/>
                    </a:lnTo>
                    <a:lnTo>
                      <a:pt x="944" y="46"/>
                    </a:lnTo>
                    <a:lnTo>
                      <a:pt x="1018" y="37"/>
                    </a:lnTo>
                    <a:lnTo>
                      <a:pt x="1094" y="28"/>
                    </a:lnTo>
                    <a:lnTo>
                      <a:pt x="1172" y="21"/>
                    </a:lnTo>
                    <a:lnTo>
                      <a:pt x="1250" y="14"/>
                    </a:lnTo>
                    <a:lnTo>
                      <a:pt x="1331" y="9"/>
                    </a:lnTo>
                    <a:lnTo>
                      <a:pt x="1414" y="5"/>
                    </a:lnTo>
                    <a:lnTo>
                      <a:pt x="1497" y="2"/>
                    </a:lnTo>
                    <a:lnTo>
                      <a:pt x="1582" y="1"/>
                    </a:lnTo>
                    <a:lnTo>
                      <a:pt x="1667" y="0"/>
                    </a:lnTo>
                    <a:lnTo>
                      <a:pt x="1753" y="1"/>
                    </a:lnTo>
                    <a:lnTo>
                      <a:pt x="1838" y="2"/>
                    </a:lnTo>
                    <a:lnTo>
                      <a:pt x="1921" y="5"/>
                    </a:lnTo>
                    <a:lnTo>
                      <a:pt x="2004" y="9"/>
                    </a:lnTo>
                    <a:lnTo>
                      <a:pt x="2085" y="14"/>
                    </a:lnTo>
                    <a:lnTo>
                      <a:pt x="2163" y="21"/>
                    </a:lnTo>
                    <a:lnTo>
                      <a:pt x="2241" y="28"/>
                    </a:lnTo>
                    <a:lnTo>
                      <a:pt x="2317" y="37"/>
                    </a:lnTo>
                    <a:lnTo>
                      <a:pt x="2391" y="46"/>
                    </a:lnTo>
                    <a:lnTo>
                      <a:pt x="2462" y="56"/>
                    </a:lnTo>
                    <a:lnTo>
                      <a:pt x="2532" y="68"/>
                    </a:lnTo>
                    <a:lnTo>
                      <a:pt x="2600" y="80"/>
                    </a:lnTo>
                    <a:lnTo>
                      <a:pt x="2665" y="93"/>
                    </a:lnTo>
                    <a:lnTo>
                      <a:pt x="2728" y="106"/>
                    </a:lnTo>
                    <a:lnTo>
                      <a:pt x="2788" y="121"/>
                    </a:lnTo>
                    <a:lnTo>
                      <a:pt x="2847" y="137"/>
                    </a:lnTo>
                    <a:lnTo>
                      <a:pt x="2902" y="154"/>
                    </a:lnTo>
                    <a:lnTo>
                      <a:pt x="2954" y="171"/>
                    </a:lnTo>
                    <a:lnTo>
                      <a:pt x="3004" y="189"/>
                    </a:lnTo>
                    <a:lnTo>
                      <a:pt x="3050" y="207"/>
                    </a:lnTo>
                    <a:lnTo>
                      <a:pt x="3093" y="227"/>
                    </a:lnTo>
                    <a:lnTo>
                      <a:pt x="3134" y="247"/>
                    </a:lnTo>
                    <a:lnTo>
                      <a:pt x="3170" y="268"/>
                    </a:lnTo>
                    <a:lnTo>
                      <a:pt x="3204" y="289"/>
                    </a:lnTo>
                    <a:lnTo>
                      <a:pt x="3234" y="311"/>
                    </a:lnTo>
                    <a:lnTo>
                      <a:pt x="3260" y="334"/>
                    </a:lnTo>
                    <a:lnTo>
                      <a:pt x="3282" y="356"/>
                    </a:lnTo>
                    <a:lnTo>
                      <a:pt x="3302" y="381"/>
                    </a:lnTo>
                    <a:lnTo>
                      <a:pt x="3316" y="405"/>
                    </a:lnTo>
                    <a:lnTo>
                      <a:pt x="3327" y="429"/>
                    </a:lnTo>
                    <a:lnTo>
                      <a:pt x="3333" y="454"/>
                    </a:lnTo>
                    <a:lnTo>
                      <a:pt x="3335" y="4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963800" y="6499800"/>
                <a:ext cx="367200" cy="116640"/>
              </a:xfrm>
              <a:custGeom>
                <a:avLst/>
                <a:gdLst/>
                <a:ahLst/>
                <a:rect l="l" t="t" r="r" b="b"/>
                <a:pathLst>
                  <a:path w="3333" h="976">
                    <a:moveTo>
                      <a:pt x="3333" y="479"/>
                    </a:moveTo>
                    <a:lnTo>
                      <a:pt x="3331" y="505"/>
                    </a:lnTo>
                    <a:lnTo>
                      <a:pt x="3324" y="530"/>
                    </a:lnTo>
                    <a:lnTo>
                      <a:pt x="3314" y="554"/>
                    </a:lnTo>
                    <a:lnTo>
                      <a:pt x="3299" y="580"/>
                    </a:lnTo>
                    <a:lnTo>
                      <a:pt x="3280" y="603"/>
                    </a:lnTo>
                    <a:lnTo>
                      <a:pt x="3258" y="627"/>
                    </a:lnTo>
                    <a:lnTo>
                      <a:pt x="3232" y="650"/>
                    </a:lnTo>
                    <a:lnTo>
                      <a:pt x="3202" y="672"/>
                    </a:lnTo>
                    <a:lnTo>
                      <a:pt x="3168" y="695"/>
                    </a:lnTo>
                    <a:lnTo>
                      <a:pt x="3132" y="716"/>
                    </a:lnTo>
                    <a:lnTo>
                      <a:pt x="3091" y="737"/>
                    </a:lnTo>
                    <a:lnTo>
                      <a:pt x="3048" y="757"/>
                    </a:lnTo>
                    <a:lnTo>
                      <a:pt x="3002" y="776"/>
                    </a:lnTo>
                    <a:lnTo>
                      <a:pt x="2952" y="795"/>
                    </a:lnTo>
                    <a:lnTo>
                      <a:pt x="2900" y="813"/>
                    </a:lnTo>
                    <a:lnTo>
                      <a:pt x="2845" y="830"/>
                    </a:lnTo>
                    <a:lnTo>
                      <a:pt x="2786" y="847"/>
                    </a:lnTo>
                    <a:lnTo>
                      <a:pt x="2726" y="862"/>
                    </a:lnTo>
                    <a:lnTo>
                      <a:pt x="2663" y="877"/>
                    </a:lnTo>
                    <a:lnTo>
                      <a:pt x="2598" y="890"/>
                    </a:lnTo>
                    <a:lnTo>
                      <a:pt x="2530" y="904"/>
                    </a:lnTo>
                    <a:lnTo>
                      <a:pt x="2460" y="916"/>
                    </a:lnTo>
                    <a:lnTo>
                      <a:pt x="2389" y="927"/>
                    </a:lnTo>
                    <a:lnTo>
                      <a:pt x="2315" y="937"/>
                    </a:lnTo>
                    <a:lnTo>
                      <a:pt x="2239" y="946"/>
                    </a:lnTo>
                    <a:lnTo>
                      <a:pt x="2162" y="953"/>
                    </a:lnTo>
                    <a:lnTo>
                      <a:pt x="2083" y="960"/>
                    </a:lnTo>
                    <a:lnTo>
                      <a:pt x="2003" y="966"/>
                    </a:lnTo>
                    <a:lnTo>
                      <a:pt x="1920" y="970"/>
                    </a:lnTo>
                    <a:lnTo>
                      <a:pt x="1837" y="973"/>
                    </a:lnTo>
                    <a:lnTo>
                      <a:pt x="1752" y="975"/>
                    </a:lnTo>
                    <a:lnTo>
                      <a:pt x="1666" y="976"/>
                    </a:lnTo>
                    <a:lnTo>
                      <a:pt x="1581" y="975"/>
                    </a:lnTo>
                    <a:lnTo>
                      <a:pt x="1496" y="973"/>
                    </a:lnTo>
                    <a:lnTo>
                      <a:pt x="1413" y="970"/>
                    </a:lnTo>
                    <a:lnTo>
                      <a:pt x="1331" y="966"/>
                    </a:lnTo>
                    <a:lnTo>
                      <a:pt x="1250" y="960"/>
                    </a:lnTo>
                    <a:lnTo>
                      <a:pt x="1171" y="953"/>
                    </a:lnTo>
                    <a:lnTo>
                      <a:pt x="1094" y="946"/>
                    </a:lnTo>
                    <a:lnTo>
                      <a:pt x="1018" y="937"/>
                    </a:lnTo>
                    <a:lnTo>
                      <a:pt x="944" y="927"/>
                    </a:lnTo>
                    <a:lnTo>
                      <a:pt x="873" y="916"/>
                    </a:lnTo>
                    <a:lnTo>
                      <a:pt x="803" y="904"/>
                    </a:lnTo>
                    <a:lnTo>
                      <a:pt x="735" y="890"/>
                    </a:lnTo>
                    <a:lnTo>
                      <a:pt x="670" y="877"/>
                    </a:lnTo>
                    <a:lnTo>
                      <a:pt x="607" y="862"/>
                    </a:lnTo>
                    <a:lnTo>
                      <a:pt x="546" y="847"/>
                    </a:lnTo>
                    <a:lnTo>
                      <a:pt x="489" y="830"/>
                    </a:lnTo>
                    <a:lnTo>
                      <a:pt x="433" y="813"/>
                    </a:lnTo>
                    <a:lnTo>
                      <a:pt x="381" y="795"/>
                    </a:lnTo>
                    <a:lnTo>
                      <a:pt x="331" y="776"/>
                    </a:lnTo>
                    <a:lnTo>
                      <a:pt x="285" y="757"/>
                    </a:lnTo>
                    <a:lnTo>
                      <a:pt x="241" y="737"/>
                    </a:lnTo>
                    <a:lnTo>
                      <a:pt x="202" y="716"/>
                    </a:lnTo>
                    <a:lnTo>
                      <a:pt x="165" y="695"/>
                    </a:lnTo>
                    <a:lnTo>
                      <a:pt x="131" y="672"/>
                    </a:lnTo>
                    <a:lnTo>
                      <a:pt x="102" y="650"/>
                    </a:lnTo>
                    <a:lnTo>
                      <a:pt x="76" y="627"/>
                    </a:lnTo>
                    <a:lnTo>
                      <a:pt x="53" y="603"/>
                    </a:lnTo>
                    <a:lnTo>
                      <a:pt x="34" y="580"/>
                    </a:lnTo>
                    <a:lnTo>
                      <a:pt x="19" y="554"/>
                    </a:lnTo>
                    <a:lnTo>
                      <a:pt x="9" y="530"/>
                    </a:lnTo>
                    <a:lnTo>
                      <a:pt x="3" y="505"/>
                    </a:lnTo>
                    <a:lnTo>
                      <a:pt x="0" y="479"/>
                    </a:lnTo>
                    <a:lnTo>
                      <a:pt x="3" y="453"/>
                    </a:lnTo>
                    <a:lnTo>
                      <a:pt x="9" y="428"/>
                    </a:lnTo>
                    <a:lnTo>
                      <a:pt x="19" y="404"/>
                    </a:lnTo>
                    <a:lnTo>
                      <a:pt x="34" y="380"/>
                    </a:lnTo>
                    <a:lnTo>
                      <a:pt x="53" y="357"/>
                    </a:lnTo>
                    <a:lnTo>
                      <a:pt x="76" y="333"/>
                    </a:lnTo>
                    <a:lnTo>
                      <a:pt x="102" y="310"/>
                    </a:lnTo>
                    <a:lnTo>
                      <a:pt x="131" y="289"/>
                    </a:lnTo>
                    <a:lnTo>
                      <a:pt x="165" y="268"/>
                    </a:lnTo>
                    <a:lnTo>
                      <a:pt x="202" y="246"/>
                    </a:lnTo>
                    <a:lnTo>
                      <a:pt x="241" y="226"/>
                    </a:lnTo>
                    <a:lnTo>
                      <a:pt x="285" y="207"/>
                    </a:lnTo>
                    <a:lnTo>
                      <a:pt x="331" y="188"/>
                    </a:lnTo>
                    <a:lnTo>
                      <a:pt x="381" y="171"/>
                    </a:lnTo>
                    <a:lnTo>
                      <a:pt x="433" y="154"/>
                    </a:lnTo>
                    <a:lnTo>
                      <a:pt x="489" y="136"/>
                    </a:lnTo>
                    <a:lnTo>
                      <a:pt x="546" y="121"/>
                    </a:lnTo>
                    <a:lnTo>
                      <a:pt x="607" y="106"/>
                    </a:lnTo>
                    <a:lnTo>
                      <a:pt x="670" y="92"/>
                    </a:lnTo>
                    <a:lnTo>
                      <a:pt x="735" y="79"/>
                    </a:lnTo>
                    <a:lnTo>
                      <a:pt x="803" y="67"/>
                    </a:lnTo>
                    <a:lnTo>
                      <a:pt x="873" y="56"/>
                    </a:lnTo>
                    <a:lnTo>
                      <a:pt x="944" y="46"/>
                    </a:lnTo>
                    <a:lnTo>
                      <a:pt x="1018" y="37"/>
                    </a:lnTo>
                    <a:lnTo>
                      <a:pt x="1094" y="28"/>
                    </a:lnTo>
                    <a:lnTo>
                      <a:pt x="1171" y="20"/>
                    </a:lnTo>
                    <a:lnTo>
                      <a:pt x="1250" y="14"/>
                    </a:lnTo>
                    <a:lnTo>
                      <a:pt x="1331" y="9"/>
                    </a:lnTo>
                    <a:lnTo>
                      <a:pt x="1413" y="5"/>
                    </a:lnTo>
                    <a:lnTo>
                      <a:pt x="1496" y="2"/>
                    </a:lnTo>
                    <a:lnTo>
                      <a:pt x="1581" y="0"/>
                    </a:lnTo>
                    <a:lnTo>
                      <a:pt x="1666" y="0"/>
                    </a:lnTo>
                    <a:lnTo>
                      <a:pt x="1752" y="0"/>
                    </a:lnTo>
                    <a:lnTo>
                      <a:pt x="1837" y="2"/>
                    </a:lnTo>
                    <a:lnTo>
                      <a:pt x="1920" y="5"/>
                    </a:lnTo>
                    <a:lnTo>
                      <a:pt x="2003" y="9"/>
                    </a:lnTo>
                    <a:lnTo>
                      <a:pt x="2083" y="14"/>
                    </a:lnTo>
                    <a:lnTo>
                      <a:pt x="2162" y="20"/>
                    </a:lnTo>
                    <a:lnTo>
                      <a:pt x="2239" y="28"/>
                    </a:lnTo>
                    <a:lnTo>
                      <a:pt x="2315" y="37"/>
                    </a:lnTo>
                    <a:lnTo>
                      <a:pt x="2389" y="46"/>
                    </a:lnTo>
                    <a:lnTo>
                      <a:pt x="2460" y="56"/>
                    </a:lnTo>
                    <a:lnTo>
                      <a:pt x="2530" y="67"/>
                    </a:lnTo>
                    <a:lnTo>
                      <a:pt x="2598" y="79"/>
                    </a:lnTo>
                    <a:lnTo>
                      <a:pt x="2663" y="92"/>
                    </a:lnTo>
                    <a:lnTo>
                      <a:pt x="2726" y="106"/>
                    </a:lnTo>
                    <a:lnTo>
                      <a:pt x="2786" y="121"/>
                    </a:lnTo>
                    <a:lnTo>
                      <a:pt x="2845" y="136"/>
                    </a:lnTo>
                    <a:lnTo>
                      <a:pt x="2900" y="154"/>
                    </a:lnTo>
                    <a:lnTo>
                      <a:pt x="2952" y="171"/>
                    </a:lnTo>
                    <a:lnTo>
                      <a:pt x="3002" y="188"/>
                    </a:lnTo>
                    <a:lnTo>
                      <a:pt x="3048" y="207"/>
                    </a:lnTo>
                    <a:lnTo>
                      <a:pt x="3091" y="226"/>
                    </a:lnTo>
                    <a:lnTo>
                      <a:pt x="3132" y="246"/>
                    </a:lnTo>
                    <a:lnTo>
                      <a:pt x="3168" y="268"/>
                    </a:lnTo>
                    <a:lnTo>
                      <a:pt x="3202" y="289"/>
                    </a:lnTo>
                    <a:lnTo>
                      <a:pt x="3232" y="310"/>
                    </a:lnTo>
                    <a:lnTo>
                      <a:pt x="3258" y="333"/>
                    </a:lnTo>
                    <a:lnTo>
                      <a:pt x="3280" y="357"/>
                    </a:lnTo>
                    <a:lnTo>
                      <a:pt x="3299" y="380"/>
                    </a:lnTo>
                    <a:lnTo>
                      <a:pt x="3314" y="404"/>
                    </a:lnTo>
                    <a:lnTo>
                      <a:pt x="3324" y="428"/>
                    </a:lnTo>
                    <a:lnTo>
                      <a:pt x="3331" y="453"/>
                    </a:lnTo>
                    <a:lnTo>
                      <a:pt x="3333" y="4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965240" y="6501240"/>
                <a:ext cx="365760" cy="115560"/>
              </a:xfrm>
              <a:custGeom>
                <a:avLst/>
                <a:gdLst/>
                <a:ahLst/>
                <a:rect l="l" t="t" r="r" b="b"/>
                <a:pathLst>
                  <a:path w="3329" h="974">
                    <a:moveTo>
                      <a:pt x="3329" y="478"/>
                    </a:moveTo>
                    <a:lnTo>
                      <a:pt x="3327" y="504"/>
                    </a:lnTo>
                    <a:lnTo>
                      <a:pt x="3321" y="529"/>
                    </a:lnTo>
                    <a:lnTo>
                      <a:pt x="3310" y="553"/>
                    </a:lnTo>
                    <a:lnTo>
                      <a:pt x="3296" y="578"/>
                    </a:lnTo>
                    <a:lnTo>
                      <a:pt x="3276" y="602"/>
                    </a:lnTo>
                    <a:lnTo>
                      <a:pt x="3254" y="626"/>
                    </a:lnTo>
                    <a:lnTo>
                      <a:pt x="3228" y="648"/>
                    </a:lnTo>
                    <a:lnTo>
                      <a:pt x="3199" y="671"/>
                    </a:lnTo>
                    <a:lnTo>
                      <a:pt x="3165" y="693"/>
                    </a:lnTo>
                    <a:lnTo>
                      <a:pt x="3128" y="715"/>
                    </a:lnTo>
                    <a:lnTo>
                      <a:pt x="3088" y="735"/>
                    </a:lnTo>
                    <a:lnTo>
                      <a:pt x="3045" y="755"/>
                    </a:lnTo>
                    <a:lnTo>
                      <a:pt x="2999" y="774"/>
                    </a:lnTo>
                    <a:lnTo>
                      <a:pt x="2949" y="794"/>
                    </a:lnTo>
                    <a:lnTo>
                      <a:pt x="2897" y="812"/>
                    </a:lnTo>
                    <a:lnTo>
                      <a:pt x="2842" y="829"/>
                    </a:lnTo>
                    <a:lnTo>
                      <a:pt x="2783" y="845"/>
                    </a:lnTo>
                    <a:lnTo>
                      <a:pt x="2723" y="860"/>
                    </a:lnTo>
                    <a:lnTo>
                      <a:pt x="2660" y="875"/>
                    </a:lnTo>
                    <a:lnTo>
                      <a:pt x="2596" y="889"/>
                    </a:lnTo>
                    <a:lnTo>
                      <a:pt x="2528" y="902"/>
                    </a:lnTo>
                    <a:lnTo>
                      <a:pt x="2458" y="914"/>
                    </a:lnTo>
                    <a:lnTo>
                      <a:pt x="2387" y="925"/>
                    </a:lnTo>
                    <a:lnTo>
                      <a:pt x="2313" y="935"/>
                    </a:lnTo>
                    <a:lnTo>
                      <a:pt x="2237" y="944"/>
                    </a:lnTo>
                    <a:lnTo>
                      <a:pt x="2159" y="951"/>
                    </a:lnTo>
                    <a:lnTo>
                      <a:pt x="2081" y="958"/>
                    </a:lnTo>
                    <a:lnTo>
                      <a:pt x="2000" y="964"/>
                    </a:lnTo>
                    <a:lnTo>
                      <a:pt x="1918" y="968"/>
                    </a:lnTo>
                    <a:lnTo>
                      <a:pt x="1835" y="971"/>
                    </a:lnTo>
                    <a:lnTo>
                      <a:pt x="1750" y="973"/>
                    </a:lnTo>
                    <a:lnTo>
                      <a:pt x="1664" y="974"/>
                    </a:lnTo>
                    <a:lnTo>
                      <a:pt x="1579" y="973"/>
                    </a:lnTo>
                    <a:lnTo>
                      <a:pt x="1495" y="971"/>
                    </a:lnTo>
                    <a:lnTo>
                      <a:pt x="1411" y="968"/>
                    </a:lnTo>
                    <a:lnTo>
                      <a:pt x="1329" y="964"/>
                    </a:lnTo>
                    <a:lnTo>
                      <a:pt x="1248" y="958"/>
                    </a:lnTo>
                    <a:lnTo>
                      <a:pt x="1170" y="951"/>
                    </a:lnTo>
                    <a:lnTo>
                      <a:pt x="1092" y="944"/>
                    </a:lnTo>
                    <a:lnTo>
                      <a:pt x="1017" y="935"/>
                    </a:lnTo>
                    <a:lnTo>
                      <a:pt x="942" y="925"/>
                    </a:lnTo>
                    <a:lnTo>
                      <a:pt x="871" y="914"/>
                    </a:lnTo>
                    <a:lnTo>
                      <a:pt x="801" y="902"/>
                    </a:lnTo>
                    <a:lnTo>
                      <a:pt x="734" y="889"/>
                    </a:lnTo>
                    <a:lnTo>
                      <a:pt x="669" y="875"/>
                    </a:lnTo>
                    <a:lnTo>
                      <a:pt x="606" y="860"/>
                    </a:lnTo>
                    <a:lnTo>
                      <a:pt x="545" y="845"/>
                    </a:lnTo>
                    <a:lnTo>
                      <a:pt x="488" y="829"/>
                    </a:lnTo>
                    <a:lnTo>
                      <a:pt x="432" y="812"/>
                    </a:lnTo>
                    <a:lnTo>
                      <a:pt x="380" y="794"/>
                    </a:lnTo>
                    <a:lnTo>
                      <a:pt x="330" y="774"/>
                    </a:lnTo>
                    <a:lnTo>
                      <a:pt x="284" y="755"/>
                    </a:lnTo>
                    <a:lnTo>
                      <a:pt x="240" y="735"/>
                    </a:lnTo>
                    <a:lnTo>
                      <a:pt x="201" y="715"/>
                    </a:lnTo>
                    <a:lnTo>
                      <a:pt x="164" y="693"/>
                    </a:lnTo>
                    <a:lnTo>
                      <a:pt x="130" y="671"/>
                    </a:lnTo>
                    <a:lnTo>
                      <a:pt x="101" y="648"/>
                    </a:lnTo>
                    <a:lnTo>
                      <a:pt x="75" y="626"/>
                    </a:lnTo>
                    <a:lnTo>
                      <a:pt x="53" y="602"/>
                    </a:lnTo>
                    <a:lnTo>
                      <a:pt x="33" y="578"/>
                    </a:lnTo>
                    <a:lnTo>
                      <a:pt x="19" y="553"/>
                    </a:lnTo>
                    <a:lnTo>
                      <a:pt x="8" y="529"/>
                    </a:lnTo>
                    <a:lnTo>
                      <a:pt x="2" y="504"/>
                    </a:lnTo>
                    <a:lnTo>
                      <a:pt x="0" y="478"/>
                    </a:lnTo>
                    <a:lnTo>
                      <a:pt x="2" y="452"/>
                    </a:lnTo>
                    <a:lnTo>
                      <a:pt x="8" y="427"/>
                    </a:lnTo>
                    <a:lnTo>
                      <a:pt x="19" y="403"/>
                    </a:lnTo>
                    <a:lnTo>
                      <a:pt x="33" y="379"/>
                    </a:lnTo>
                    <a:lnTo>
                      <a:pt x="53" y="356"/>
                    </a:lnTo>
                    <a:lnTo>
                      <a:pt x="75" y="332"/>
                    </a:lnTo>
                    <a:lnTo>
                      <a:pt x="101" y="310"/>
                    </a:lnTo>
                    <a:lnTo>
                      <a:pt x="130" y="288"/>
                    </a:lnTo>
                    <a:lnTo>
                      <a:pt x="164" y="267"/>
                    </a:lnTo>
                    <a:lnTo>
                      <a:pt x="201" y="245"/>
                    </a:lnTo>
                    <a:lnTo>
                      <a:pt x="240" y="226"/>
                    </a:lnTo>
                    <a:lnTo>
                      <a:pt x="284" y="206"/>
                    </a:lnTo>
                    <a:lnTo>
                      <a:pt x="330" y="188"/>
                    </a:lnTo>
                    <a:lnTo>
                      <a:pt x="380" y="170"/>
                    </a:lnTo>
                    <a:lnTo>
                      <a:pt x="432" y="153"/>
                    </a:lnTo>
                    <a:lnTo>
                      <a:pt x="488" y="136"/>
                    </a:lnTo>
                    <a:lnTo>
                      <a:pt x="545" y="121"/>
                    </a:lnTo>
                    <a:lnTo>
                      <a:pt x="606" y="106"/>
                    </a:lnTo>
                    <a:lnTo>
                      <a:pt x="669" y="92"/>
                    </a:lnTo>
                    <a:lnTo>
                      <a:pt x="734" y="79"/>
                    </a:lnTo>
                    <a:lnTo>
                      <a:pt x="801" y="67"/>
                    </a:lnTo>
                    <a:lnTo>
                      <a:pt x="871" y="56"/>
                    </a:lnTo>
                    <a:lnTo>
                      <a:pt x="942" y="46"/>
                    </a:lnTo>
                    <a:lnTo>
                      <a:pt x="1017" y="37"/>
                    </a:lnTo>
                    <a:lnTo>
                      <a:pt x="1092" y="28"/>
                    </a:lnTo>
                    <a:lnTo>
                      <a:pt x="1170" y="20"/>
                    </a:lnTo>
                    <a:lnTo>
                      <a:pt x="1248" y="14"/>
                    </a:lnTo>
                    <a:lnTo>
                      <a:pt x="1329" y="9"/>
                    </a:lnTo>
                    <a:lnTo>
                      <a:pt x="1411" y="5"/>
                    </a:lnTo>
                    <a:lnTo>
                      <a:pt x="1495" y="2"/>
                    </a:lnTo>
                    <a:lnTo>
                      <a:pt x="1579" y="0"/>
                    </a:lnTo>
                    <a:lnTo>
                      <a:pt x="1664" y="0"/>
                    </a:lnTo>
                    <a:lnTo>
                      <a:pt x="1750" y="0"/>
                    </a:lnTo>
                    <a:lnTo>
                      <a:pt x="1835" y="2"/>
                    </a:lnTo>
                    <a:lnTo>
                      <a:pt x="1918" y="5"/>
                    </a:lnTo>
                    <a:lnTo>
                      <a:pt x="2000" y="9"/>
                    </a:lnTo>
                    <a:lnTo>
                      <a:pt x="2081" y="14"/>
                    </a:lnTo>
                    <a:lnTo>
                      <a:pt x="2159" y="20"/>
                    </a:lnTo>
                    <a:lnTo>
                      <a:pt x="2237" y="28"/>
                    </a:lnTo>
                    <a:lnTo>
                      <a:pt x="2313" y="37"/>
                    </a:lnTo>
                    <a:lnTo>
                      <a:pt x="2387" y="46"/>
                    </a:lnTo>
                    <a:lnTo>
                      <a:pt x="2458" y="56"/>
                    </a:lnTo>
                    <a:lnTo>
                      <a:pt x="2528" y="67"/>
                    </a:lnTo>
                    <a:lnTo>
                      <a:pt x="2596" y="79"/>
                    </a:lnTo>
                    <a:lnTo>
                      <a:pt x="2660" y="92"/>
                    </a:lnTo>
                    <a:lnTo>
                      <a:pt x="2723" y="106"/>
                    </a:lnTo>
                    <a:lnTo>
                      <a:pt x="2783" y="121"/>
                    </a:lnTo>
                    <a:lnTo>
                      <a:pt x="2842" y="136"/>
                    </a:lnTo>
                    <a:lnTo>
                      <a:pt x="2897" y="153"/>
                    </a:lnTo>
                    <a:lnTo>
                      <a:pt x="2949" y="170"/>
                    </a:lnTo>
                    <a:lnTo>
                      <a:pt x="2999" y="188"/>
                    </a:lnTo>
                    <a:lnTo>
                      <a:pt x="3045" y="206"/>
                    </a:lnTo>
                    <a:lnTo>
                      <a:pt x="3088" y="226"/>
                    </a:lnTo>
                    <a:lnTo>
                      <a:pt x="3128" y="245"/>
                    </a:lnTo>
                    <a:lnTo>
                      <a:pt x="3165" y="267"/>
                    </a:lnTo>
                    <a:lnTo>
                      <a:pt x="3199" y="288"/>
                    </a:lnTo>
                    <a:lnTo>
                      <a:pt x="3228" y="310"/>
                    </a:lnTo>
                    <a:lnTo>
                      <a:pt x="3254" y="332"/>
                    </a:lnTo>
                    <a:lnTo>
                      <a:pt x="3276" y="356"/>
                    </a:lnTo>
                    <a:lnTo>
                      <a:pt x="3296" y="379"/>
                    </a:lnTo>
                    <a:lnTo>
                      <a:pt x="3310" y="403"/>
                    </a:lnTo>
                    <a:lnTo>
                      <a:pt x="3321" y="427"/>
                    </a:lnTo>
                    <a:lnTo>
                      <a:pt x="3327" y="452"/>
                    </a:lnTo>
                    <a:lnTo>
                      <a:pt x="3329" y="4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965240" y="6501240"/>
                <a:ext cx="365760" cy="115560"/>
              </a:xfrm>
              <a:custGeom>
                <a:avLst/>
                <a:gdLst/>
                <a:ahLst/>
                <a:rect l="l" t="t" r="r" b="b"/>
                <a:pathLst>
                  <a:path w="3327" h="972">
                    <a:moveTo>
                      <a:pt x="3327" y="478"/>
                    </a:moveTo>
                    <a:lnTo>
                      <a:pt x="3325" y="503"/>
                    </a:lnTo>
                    <a:lnTo>
                      <a:pt x="3318" y="528"/>
                    </a:lnTo>
                    <a:lnTo>
                      <a:pt x="3308" y="552"/>
                    </a:lnTo>
                    <a:lnTo>
                      <a:pt x="3292" y="577"/>
                    </a:lnTo>
                    <a:lnTo>
                      <a:pt x="3274" y="601"/>
                    </a:lnTo>
                    <a:lnTo>
                      <a:pt x="3252" y="624"/>
                    </a:lnTo>
                    <a:lnTo>
                      <a:pt x="3226" y="647"/>
                    </a:lnTo>
                    <a:lnTo>
                      <a:pt x="3196" y="669"/>
                    </a:lnTo>
                    <a:lnTo>
                      <a:pt x="3162" y="692"/>
                    </a:lnTo>
                    <a:lnTo>
                      <a:pt x="3126" y="713"/>
                    </a:lnTo>
                    <a:lnTo>
                      <a:pt x="3085" y="734"/>
                    </a:lnTo>
                    <a:lnTo>
                      <a:pt x="3043" y="754"/>
                    </a:lnTo>
                    <a:lnTo>
                      <a:pt x="2997" y="773"/>
                    </a:lnTo>
                    <a:lnTo>
                      <a:pt x="2947" y="792"/>
                    </a:lnTo>
                    <a:lnTo>
                      <a:pt x="2895" y="810"/>
                    </a:lnTo>
                    <a:lnTo>
                      <a:pt x="2840" y="827"/>
                    </a:lnTo>
                    <a:lnTo>
                      <a:pt x="2781" y="843"/>
                    </a:lnTo>
                    <a:lnTo>
                      <a:pt x="2722" y="859"/>
                    </a:lnTo>
                    <a:lnTo>
                      <a:pt x="2658" y="873"/>
                    </a:lnTo>
                    <a:lnTo>
                      <a:pt x="2594" y="887"/>
                    </a:lnTo>
                    <a:lnTo>
                      <a:pt x="2526" y="901"/>
                    </a:lnTo>
                    <a:lnTo>
                      <a:pt x="2456" y="913"/>
                    </a:lnTo>
                    <a:lnTo>
                      <a:pt x="2385" y="923"/>
                    </a:lnTo>
                    <a:lnTo>
                      <a:pt x="2311" y="933"/>
                    </a:lnTo>
                    <a:lnTo>
                      <a:pt x="2235" y="942"/>
                    </a:lnTo>
                    <a:lnTo>
                      <a:pt x="2158" y="950"/>
                    </a:lnTo>
                    <a:lnTo>
                      <a:pt x="2080" y="956"/>
                    </a:lnTo>
                    <a:lnTo>
                      <a:pt x="1999" y="962"/>
                    </a:lnTo>
                    <a:lnTo>
                      <a:pt x="1917" y="966"/>
                    </a:lnTo>
                    <a:lnTo>
                      <a:pt x="1833" y="969"/>
                    </a:lnTo>
                    <a:lnTo>
                      <a:pt x="1749" y="971"/>
                    </a:lnTo>
                    <a:lnTo>
                      <a:pt x="1663" y="972"/>
                    </a:lnTo>
                    <a:lnTo>
                      <a:pt x="1578" y="971"/>
                    </a:lnTo>
                    <a:lnTo>
                      <a:pt x="1494" y="969"/>
                    </a:lnTo>
                    <a:lnTo>
                      <a:pt x="1410" y="966"/>
                    </a:lnTo>
                    <a:lnTo>
                      <a:pt x="1328" y="962"/>
                    </a:lnTo>
                    <a:lnTo>
                      <a:pt x="1247" y="956"/>
                    </a:lnTo>
                    <a:lnTo>
                      <a:pt x="1169" y="950"/>
                    </a:lnTo>
                    <a:lnTo>
                      <a:pt x="1092" y="942"/>
                    </a:lnTo>
                    <a:lnTo>
                      <a:pt x="1016" y="933"/>
                    </a:lnTo>
                    <a:lnTo>
                      <a:pt x="942" y="923"/>
                    </a:lnTo>
                    <a:lnTo>
                      <a:pt x="871" y="913"/>
                    </a:lnTo>
                    <a:lnTo>
                      <a:pt x="801" y="901"/>
                    </a:lnTo>
                    <a:lnTo>
                      <a:pt x="733" y="887"/>
                    </a:lnTo>
                    <a:lnTo>
                      <a:pt x="669" y="873"/>
                    </a:lnTo>
                    <a:lnTo>
                      <a:pt x="606" y="859"/>
                    </a:lnTo>
                    <a:lnTo>
                      <a:pt x="545" y="843"/>
                    </a:lnTo>
                    <a:lnTo>
                      <a:pt x="488" y="827"/>
                    </a:lnTo>
                    <a:lnTo>
                      <a:pt x="432" y="810"/>
                    </a:lnTo>
                    <a:lnTo>
                      <a:pt x="380" y="792"/>
                    </a:lnTo>
                    <a:lnTo>
                      <a:pt x="330" y="773"/>
                    </a:lnTo>
                    <a:lnTo>
                      <a:pt x="285" y="754"/>
                    </a:lnTo>
                    <a:lnTo>
                      <a:pt x="241" y="734"/>
                    </a:lnTo>
                    <a:lnTo>
                      <a:pt x="201" y="713"/>
                    </a:lnTo>
                    <a:lnTo>
                      <a:pt x="165" y="692"/>
                    </a:lnTo>
                    <a:lnTo>
                      <a:pt x="131" y="669"/>
                    </a:lnTo>
                    <a:lnTo>
                      <a:pt x="101" y="647"/>
                    </a:lnTo>
                    <a:lnTo>
                      <a:pt x="75" y="624"/>
                    </a:lnTo>
                    <a:lnTo>
                      <a:pt x="53" y="601"/>
                    </a:lnTo>
                    <a:lnTo>
                      <a:pt x="34" y="577"/>
                    </a:lnTo>
                    <a:lnTo>
                      <a:pt x="19" y="552"/>
                    </a:lnTo>
                    <a:lnTo>
                      <a:pt x="9" y="528"/>
                    </a:lnTo>
                    <a:lnTo>
                      <a:pt x="2" y="503"/>
                    </a:lnTo>
                    <a:lnTo>
                      <a:pt x="0" y="478"/>
                    </a:lnTo>
                    <a:lnTo>
                      <a:pt x="2" y="451"/>
                    </a:lnTo>
                    <a:lnTo>
                      <a:pt x="9" y="427"/>
                    </a:lnTo>
                    <a:lnTo>
                      <a:pt x="19" y="402"/>
                    </a:lnTo>
                    <a:lnTo>
                      <a:pt x="34" y="378"/>
                    </a:lnTo>
                    <a:lnTo>
                      <a:pt x="53" y="355"/>
                    </a:lnTo>
                    <a:lnTo>
                      <a:pt x="75" y="331"/>
                    </a:lnTo>
                    <a:lnTo>
                      <a:pt x="101" y="309"/>
                    </a:lnTo>
                    <a:lnTo>
                      <a:pt x="131" y="287"/>
                    </a:lnTo>
                    <a:lnTo>
                      <a:pt x="165" y="266"/>
                    </a:lnTo>
                    <a:lnTo>
                      <a:pt x="201" y="245"/>
                    </a:lnTo>
                    <a:lnTo>
                      <a:pt x="241" y="225"/>
                    </a:lnTo>
                    <a:lnTo>
                      <a:pt x="285" y="206"/>
                    </a:lnTo>
                    <a:lnTo>
                      <a:pt x="330" y="188"/>
                    </a:lnTo>
                    <a:lnTo>
                      <a:pt x="380" y="170"/>
                    </a:lnTo>
                    <a:lnTo>
                      <a:pt x="432" y="153"/>
                    </a:lnTo>
                    <a:lnTo>
                      <a:pt x="488" y="136"/>
                    </a:lnTo>
                    <a:lnTo>
                      <a:pt x="545" y="120"/>
                    </a:lnTo>
                    <a:lnTo>
                      <a:pt x="606" y="106"/>
                    </a:lnTo>
                    <a:lnTo>
                      <a:pt x="669" y="92"/>
                    </a:lnTo>
                    <a:lnTo>
                      <a:pt x="733" y="79"/>
                    </a:lnTo>
                    <a:lnTo>
                      <a:pt x="801" y="67"/>
                    </a:lnTo>
                    <a:lnTo>
                      <a:pt x="871" y="56"/>
                    </a:lnTo>
                    <a:lnTo>
                      <a:pt x="942" y="46"/>
                    </a:lnTo>
                    <a:lnTo>
                      <a:pt x="1016" y="37"/>
                    </a:lnTo>
                    <a:lnTo>
                      <a:pt x="1092" y="27"/>
                    </a:lnTo>
                    <a:lnTo>
                      <a:pt x="1169" y="20"/>
                    </a:lnTo>
                    <a:lnTo>
                      <a:pt x="1247" y="14"/>
                    </a:lnTo>
                    <a:lnTo>
                      <a:pt x="1328" y="9"/>
                    </a:lnTo>
                    <a:lnTo>
                      <a:pt x="1410" y="5"/>
                    </a:lnTo>
                    <a:lnTo>
                      <a:pt x="1494" y="2"/>
                    </a:lnTo>
                    <a:lnTo>
                      <a:pt x="1578" y="0"/>
                    </a:lnTo>
                    <a:lnTo>
                      <a:pt x="1663" y="0"/>
                    </a:lnTo>
                    <a:lnTo>
                      <a:pt x="1749" y="0"/>
                    </a:lnTo>
                    <a:lnTo>
                      <a:pt x="1833" y="2"/>
                    </a:lnTo>
                    <a:lnTo>
                      <a:pt x="1917" y="5"/>
                    </a:lnTo>
                    <a:lnTo>
                      <a:pt x="1999" y="9"/>
                    </a:lnTo>
                    <a:lnTo>
                      <a:pt x="2080" y="14"/>
                    </a:lnTo>
                    <a:lnTo>
                      <a:pt x="2158" y="20"/>
                    </a:lnTo>
                    <a:lnTo>
                      <a:pt x="2235" y="27"/>
                    </a:lnTo>
                    <a:lnTo>
                      <a:pt x="2311" y="37"/>
                    </a:lnTo>
                    <a:lnTo>
                      <a:pt x="2385" y="46"/>
                    </a:lnTo>
                    <a:lnTo>
                      <a:pt x="2456" y="56"/>
                    </a:lnTo>
                    <a:lnTo>
                      <a:pt x="2526" y="67"/>
                    </a:lnTo>
                    <a:lnTo>
                      <a:pt x="2594" y="79"/>
                    </a:lnTo>
                    <a:lnTo>
                      <a:pt x="2658" y="92"/>
                    </a:lnTo>
                    <a:lnTo>
                      <a:pt x="2722" y="106"/>
                    </a:lnTo>
                    <a:lnTo>
                      <a:pt x="2781" y="120"/>
                    </a:lnTo>
                    <a:lnTo>
                      <a:pt x="2840" y="136"/>
                    </a:lnTo>
                    <a:lnTo>
                      <a:pt x="2895" y="153"/>
                    </a:lnTo>
                    <a:lnTo>
                      <a:pt x="2947" y="170"/>
                    </a:lnTo>
                    <a:lnTo>
                      <a:pt x="2997" y="188"/>
                    </a:lnTo>
                    <a:lnTo>
                      <a:pt x="3043" y="206"/>
                    </a:lnTo>
                    <a:lnTo>
                      <a:pt x="3085" y="225"/>
                    </a:lnTo>
                    <a:lnTo>
                      <a:pt x="3126" y="245"/>
                    </a:lnTo>
                    <a:lnTo>
                      <a:pt x="3162" y="266"/>
                    </a:lnTo>
                    <a:lnTo>
                      <a:pt x="3196" y="287"/>
                    </a:lnTo>
                    <a:lnTo>
                      <a:pt x="3226" y="309"/>
                    </a:lnTo>
                    <a:lnTo>
                      <a:pt x="3252" y="331"/>
                    </a:lnTo>
                    <a:lnTo>
                      <a:pt x="3274" y="355"/>
                    </a:lnTo>
                    <a:lnTo>
                      <a:pt x="3292" y="378"/>
                    </a:lnTo>
                    <a:lnTo>
                      <a:pt x="3308" y="402"/>
                    </a:lnTo>
                    <a:lnTo>
                      <a:pt x="3318" y="427"/>
                    </a:lnTo>
                    <a:lnTo>
                      <a:pt x="3325" y="451"/>
                    </a:lnTo>
                    <a:lnTo>
                      <a:pt x="3327" y="4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965240" y="6501240"/>
                <a:ext cx="365760" cy="115560"/>
              </a:xfrm>
              <a:custGeom>
                <a:avLst/>
                <a:gdLst/>
                <a:ahLst/>
                <a:rect l="l" t="t" r="r" b="b"/>
                <a:pathLst>
                  <a:path w="3323" h="970">
                    <a:moveTo>
                      <a:pt x="3323" y="477"/>
                    </a:moveTo>
                    <a:lnTo>
                      <a:pt x="3321" y="502"/>
                    </a:lnTo>
                    <a:lnTo>
                      <a:pt x="3315" y="527"/>
                    </a:lnTo>
                    <a:lnTo>
                      <a:pt x="3304" y="551"/>
                    </a:lnTo>
                    <a:lnTo>
                      <a:pt x="3289" y="576"/>
                    </a:lnTo>
                    <a:lnTo>
                      <a:pt x="3271" y="600"/>
                    </a:lnTo>
                    <a:lnTo>
                      <a:pt x="3248" y="623"/>
                    </a:lnTo>
                    <a:lnTo>
                      <a:pt x="3223" y="646"/>
                    </a:lnTo>
                    <a:lnTo>
                      <a:pt x="3193" y="668"/>
                    </a:lnTo>
                    <a:lnTo>
                      <a:pt x="3159" y="691"/>
                    </a:lnTo>
                    <a:lnTo>
                      <a:pt x="3123" y="712"/>
                    </a:lnTo>
                    <a:lnTo>
                      <a:pt x="3082" y="732"/>
                    </a:lnTo>
                    <a:lnTo>
                      <a:pt x="3039" y="752"/>
                    </a:lnTo>
                    <a:lnTo>
                      <a:pt x="2994" y="771"/>
                    </a:lnTo>
                    <a:lnTo>
                      <a:pt x="2944" y="791"/>
                    </a:lnTo>
                    <a:lnTo>
                      <a:pt x="2892" y="808"/>
                    </a:lnTo>
                    <a:lnTo>
                      <a:pt x="2837" y="825"/>
                    </a:lnTo>
                    <a:lnTo>
                      <a:pt x="2778" y="842"/>
                    </a:lnTo>
                    <a:lnTo>
                      <a:pt x="2719" y="857"/>
                    </a:lnTo>
                    <a:lnTo>
                      <a:pt x="2656" y="872"/>
                    </a:lnTo>
                    <a:lnTo>
                      <a:pt x="2591" y="885"/>
                    </a:lnTo>
                    <a:lnTo>
                      <a:pt x="2523" y="899"/>
                    </a:lnTo>
                    <a:lnTo>
                      <a:pt x="2453" y="911"/>
                    </a:lnTo>
                    <a:lnTo>
                      <a:pt x="2382" y="921"/>
                    </a:lnTo>
                    <a:lnTo>
                      <a:pt x="2309" y="931"/>
                    </a:lnTo>
                    <a:lnTo>
                      <a:pt x="2233" y="940"/>
                    </a:lnTo>
                    <a:lnTo>
                      <a:pt x="2155" y="948"/>
                    </a:lnTo>
                    <a:lnTo>
                      <a:pt x="2077" y="954"/>
                    </a:lnTo>
                    <a:lnTo>
                      <a:pt x="1997" y="960"/>
                    </a:lnTo>
                    <a:lnTo>
                      <a:pt x="1915" y="964"/>
                    </a:lnTo>
                    <a:lnTo>
                      <a:pt x="1831" y="967"/>
                    </a:lnTo>
                    <a:lnTo>
                      <a:pt x="1747" y="969"/>
                    </a:lnTo>
                    <a:lnTo>
                      <a:pt x="1661" y="970"/>
                    </a:lnTo>
                    <a:lnTo>
                      <a:pt x="1576" y="969"/>
                    </a:lnTo>
                    <a:lnTo>
                      <a:pt x="1492" y="967"/>
                    </a:lnTo>
                    <a:lnTo>
                      <a:pt x="1408" y="964"/>
                    </a:lnTo>
                    <a:lnTo>
                      <a:pt x="1326" y="960"/>
                    </a:lnTo>
                    <a:lnTo>
                      <a:pt x="1246" y="954"/>
                    </a:lnTo>
                    <a:lnTo>
                      <a:pt x="1168" y="948"/>
                    </a:lnTo>
                    <a:lnTo>
                      <a:pt x="1090" y="940"/>
                    </a:lnTo>
                    <a:lnTo>
                      <a:pt x="1015" y="931"/>
                    </a:lnTo>
                    <a:lnTo>
                      <a:pt x="941" y="921"/>
                    </a:lnTo>
                    <a:lnTo>
                      <a:pt x="870" y="911"/>
                    </a:lnTo>
                    <a:lnTo>
                      <a:pt x="800" y="899"/>
                    </a:lnTo>
                    <a:lnTo>
                      <a:pt x="732" y="885"/>
                    </a:lnTo>
                    <a:lnTo>
                      <a:pt x="668" y="872"/>
                    </a:lnTo>
                    <a:lnTo>
                      <a:pt x="604" y="857"/>
                    </a:lnTo>
                    <a:lnTo>
                      <a:pt x="544" y="842"/>
                    </a:lnTo>
                    <a:lnTo>
                      <a:pt x="487" y="825"/>
                    </a:lnTo>
                    <a:lnTo>
                      <a:pt x="431" y="808"/>
                    </a:lnTo>
                    <a:lnTo>
                      <a:pt x="379" y="791"/>
                    </a:lnTo>
                    <a:lnTo>
                      <a:pt x="330" y="771"/>
                    </a:lnTo>
                    <a:lnTo>
                      <a:pt x="284" y="752"/>
                    </a:lnTo>
                    <a:lnTo>
                      <a:pt x="240" y="732"/>
                    </a:lnTo>
                    <a:lnTo>
                      <a:pt x="200" y="712"/>
                    </a:lnTo>
                    <a:lnTo>
                      <a:pt x="164" y="691"/>
                    </a:lnTo>
                    <a:lnTo>
                      <a:pt x="130" y="668"/>
                    </a:lnTo>
                    <a:lnTo>
                      <a:pt x="101" y="646"/>
                    </a:lnTo>
                    <a:lnTo>
                      <a:pt x="75" y="623"/>
                    </a:lnTo>
                    <a:lnTo>
                      <a:pt x="52" y="600"/>
                    </a:lnTo>
                    <a:lnTo>
                      <a:pt x="33" y="576"/>
                    </a:lnTo>
                    <a:lnTo>
                      <a:pt x="19" y="551"/>
                    </a:lnTo>
                    <a:lnTo>
                      <a:pt x="8" y="527"/>
                    </a:lnTo>
                    <a:lnTo>
                      <a:pt x="2" y="502"/>
                    </a:lnTo>
                    <a:lnTo>
                      <a:pt x="0" y="477"/>
                    </a:lnTo>
                    <a:lnTo>
                      <a:pt x="2" y="450"/>
                    </a:lnTo>
                    <a:lnTo>
                      <a:pt x="8" y="426"/>
                    </a:lnTo>
                    <a:lnTo>
                      <a:pt x="19" y="401"/>
                    </a:lnTo>
                    <a:lnTo>
                      <a:pt x="33" y="378"/>
                    </a:lnTo>
                    <a:lnTo>
                      <a:pt x="52" y="354"/>
                    </a:lnTo>
                    <a:lnTo>
                      <a:pt x="75" y="331"/>
                    </a:lnTo>
                    <a:lnTo>
                      <a:pt x="101" y="308"/>
                    </a:lnTo>
                    <a:lnTo>
                      <a:pt x="130" y="287"/>
                    </a:lnTo>
                    <a:lnTo>
                      <a:pt x="164" y="266"/>
                    </a:lnTo>
                    <a:lnTo>
                      <a:pt x="200" y="244"/>
                    </a:lnTo>
                    <a:lnTo>
                      <a:pt x="240" y="225"/>
                    </a:lnTo>
                    <a:lnTo>
                      <a:pt x="284" y="205"/>
                    </a:lnTo>
                    <a:lnTo>
                      <a:pt x="330" y="187"/>
                    </a:lnTo>
                    <a:lnTo>
                      <a:pt x="379" y="169"/>
                    </a:lnTo>
                    <a:lnTo>
                      <a:pt x="431" y="152"/>
                    </a:lnTo>
                    <a:lnTo>
                      <a:pt x="487" y="135"/>
                    </a:lnTo>
                    <a:lnTo>
                      <a:pt x="544" y="120"/>
                    </a:lnTo>
                    <a:lnTo>
                      <a:pt x="604" y="105"/>
                    </a:lnTo>
                    <a:lnTo>
                      <a:pt x="668" y="92"/>
                    </a:lnTo>
                    <a:lnTo>
                      <a:pt x="732" y="79"/>
                    </a:lnTo>
                    <a:lnTo>
                      <a:pt x="800" y="67"/>
                    </a:lnTo>
                    <a:lnTo>
                      <a:pt x="870" y="56"/>
                    </a:lnTo>
                    <a:lnTo>
                      <a:pt x="941" y="46"/>
                    </a:lnTo>
                    <a:lnTo>
                      <a:pt x="1015" y="36"/>
                    </a:lnTo>
                    <a:lnTo>
                      <a:pt x="1090" y="27"/>
                    </a:lnTo>
                    <a:lnTo>
                      <a:pt x="1168" y="20"/>
                    </a:lnTo>
                    <a:lnTo>
                      <a:pt x="1246" y="14"/>
                    </a:lnTo>
                    <a:lnTo>
                      <a:pt x="1326" y="9"/>
                    </a:lnTo>
                    <a:lnTo>
                      <a:pt x="1408" y="5"/>
                    </a:lnTo>
                    <a:lnTo>
                      <a:pt x="1492" y="2"/>
                    </a:lnTo>
                    <a:lnTo>
                      <a:pt x="1576" y="0"/>
                    </a:lnTo>
                    <a:lnTo>
                      <a:pt x="1661" y="0"/>
                    </a:lnTo>
                    <a:lnTo>
                      <a:pt x="1747" y="0"/>
                    </a:lnTo>
                    <a:lnTo>
                      <a:pt x="1831" y="2"/>
                    </a:lnTo>
                    <a:lnTo>
                      <a:pt x="1915" y="5"/>
                    </a:lnTo>
                    <a:lnTo>
                      <a:pt x="1997" y="9"/>
                    </a:lnTo>
                    <a:lnTo>
                      <a:pt x="2077" y="14"/>
                    </a:lnTo>
                    <a:lnTo>
                      <a:pt x="2155" y="20"/>
                    </a:lnTo>
                    <a:lnTo>
                      <a:pt x="2233" y="27"/>
                    </a:lnTo>
                    <a:lnTo>
                      <a:pt x="2309" y="36"/>
                    </a:lnTo>
                    <a:lnTo>
                      <a:pt x="2382" y="46"/>
                    </a:lnTo>
                    <a:lnTo>
                      <a:pt x="2453" y="56"/>
                    </a:lnTo>
                    <a:lnTo>
                      <a:pt x="2523" y="67"/>
                    </a:lnTo>
                    <a:lnTo>
                      <a:pt x="2591" y="79"/>
                    </a:lnTo>
                    <a:lnTo>
                      <a:pt x="2656" y="92"/>
                    </a:lnTo>
                    <a:lnTo>
                      <a:pt x="2719" y="105"/>
                    </a:lnTo>
                    <a:lnTo>
                      <a:pt x="2778" y="120"/>
                    </a:lnTo>
                    <a:lnTo>
                      <a:pt x="2837" y="135"/>
                    </a:lnTo>
                    <a:lnTo>
                      <a:pt x="2892" y="152"/>
                    </a:lnTo>
                    <a:lnTo>
                      <a:pt x="2944" y="169"/>
                    </a:lnTo>
                    <a:lnTo>
                      <a:pt x="2994" y="187"/>
                    </a:lnTo>
                    <a:lnTo>
                      <a:pt x="3039" y="205"/>
                    </a:lnTo>
                    <a:lnTo>
                      <a:pt x="3082" y="225"/>
                    </a:lnTo>
                    <a:lnTo>
                      <a:pt x="3123" y="244"/>
                    </a:lnTo>
                    <a:lnTo>
                      <a:pt x="3159" y="266"/>
                    </a:lnTo>
                    <a:lnTo>
                      <a:pt x="3193" y="287"/>
                    </a:lnTo>
                    <a:lnTo>
                      <a:pt x="3223" y="308"/>
                    </a:lnTo>
                    <a:lnTo>
                      <a:pt x="3248" y="331"/>
                    </a:lnTo>
                    <a:lnTo>
                      <a:pt x="3271" y="354"/>
                    </a:lnTo>
                    <a:lnTo>
                      <a:pt x="3289" y="378"/>
                    </a:lnTo>
                    <a:lnTo>
                      <a:pt x="3304" y="401"/>
                    </a:lnTo>
                    <a:lnTo>
                      <a:pt x="3315" y="426"/>
                    </a:lnTo>
                    <a:lnTo>
                      <a:pt x="3321" y="450"/>
                    </a:lnTo>
                    <a:lnTo>
                      <a:pt x="3323" y="4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65240" y="6501240"/>
                <a:ext cx="365760" cy="115560"/>
              </a:xfrm>
              <a:custGeom>
                <a:avLst/>
                <a:gdLst/>
                <a:ahLst/>
                <a:rect l="l" t="t" r="r" b="b"/>
                <a:pathLst>
                  <a:path w="3321" h="968">
                    <a:moveTo>
                      <a:pt x="3321" y="476"/>
                    </a:moveTo>
                    <a:lnTo>
                      <a:pt x="3319" y="501"/>
                    </a:lnTo>
                    <a:lnTo>
                      <a:pt x="3313" y="525"/>
                    </a:lnTo>
                    <a:lnTo>
                      <a:pt x="3302" y="550"/>
                    </a:lnTo>
                    <a:lnTo>
                      <a:pt x="3287" y="575"/>
                    </a:lnTo>
                    <a:lnTo>
                      <a:pt x="3268" y="599"/>
                    </a:lnTo>
                    <a:lnTo>
                      <a:pt x="3246" y="622"/>
                    </a:lnTo>
                    <a:lnTo>
                      <a:pt x="3220" y="644"/>
                    </a:lnTo>
                    <a:lnTo>
                      <a:pt x="3191" y="667"/>
                    </a:lnTo>
                    <a:lnTo>
                      <a:pt x="3157" y="689"/>
                    </a:lnTo>
                    <a:lnTo>
                      <a:pt x="3121" y="710"/>
                    </a:lnTo>
                    <a:lnTo>
                      <a:pt x="3080" y="731"/>
                    </a:lnTo>
                    <a:lnTo>
                      <a:pt x="3037" y="751"/>
                    </a:lnTo>
                    <a:lnTo>
                      <a:pt x="2991" y="770"/>
                    </a:lnTo>
                    <a:lnTo>
                      <a:pt x="2942" y="789"/>
                    </a:lnTo>
                    <a:lnTo>
                      <a:pt x="2890" y="807"/>
                    </a:lnTo>
                    <a:lnTo>
                      <a:pt x="2834" y="824"/>
                    </a:lnTo>
                    <a:lnTo>
                      <a:pt x="2776" y="840"/>
                    </a:lnTo>
                    <a:lnTo>
                      <a:pt x="2717" y="855"/>
                    </a:lnTo>
                    <a:lnTo>
                      <a:pt x="2654" y="870"/>
                    </a:lnTo>
                    <a:lnTo>
                      <a:pt x="2589" y="883"/>
                    </a:lnTo>
                    <a:lnTo>
                      <a:pt x="2521" y="897"/>
                    </a:lnTo>
                    <a:lnTo>
                      <a:pt x="2452" y="909"/>
                    </a:lnTo>
                    <a:lnTo>
                      <a:pt x="2381" y="920"/>
                    </a:lnTo>
                    <a:lnTo>
                      <a:pt x="2307" y="929"/>
                    </a:lnTo>
                    <a:lnTo>
                      <a:pt x="2231" y="938"/>
                    </a:lnTo>
                    <a:lnTo>
                      <a:pt x="2154" y="946"/>
                    </a:lnTo>
                    <a:lnTo>
                      <a:pt x="2076" y="952"/>
                    </a:lnTo>
                    <a:lnTo>
                      <a:pt x="1995" y="958"/>
                    </a:lnTo>
                    <a:lnTo>
                      <a:pt x="1913" y="962"/>
                    </a:lnTo>
                    <a:lnTo>
                      <a:pt x="1830" y="965"/>
                    </a:lnTo>
                    <a:lnTo>
                      <a:pt x="1746" y="967"/>
                    </a:lnTo>
                    <a:lnTo>
                      <a:pt x="1660" y="968"/>
                    </a:lnTo>
                    <a:lnTo>
                      <a:pt x="1575" y="967"/>
                    </a:lnTo>
                    <a:lnTo>
                      <a:pt x="1491" y="965"/>
                    </a:lnTo>
                    <a:lnTo>
                      <a:pt x="1408" y="962"/>
                    </a:lnTo>
                    <a:lnTo>
                      <a:pt x="1326" y="958"/>
                    </a:lnTo>
                    <a:lnTo>
                      <a:pt x="1245" y="952"/>
                    </a:lnTo>
                    <a:lnTo>
                      <a:pt x="1167" y="946"/>
                    </a:lnTo>
                    <a:lnTo>
                      <a:pt x="1090" y="938"/>
                    </a:lnTo>
                    <a:lnTo>
                      <a:pt x="1014" y="929"/>
                    </a:lnTo>
                    <a:lnTo>
                      <a:pt x="940" y="920"/>
                    </a:lnTo>
                    <a:lnTo>
                      <a:pt x="869" y="909"/>
                    </a:lnTo>
                    <a:lnTo>
                      <a:pt x="800" y="897"/>
                    </a:lnTo>
                    <a:lnTo>
                      <a:pt x="732" y="883"/>
                    </a:lnTo>
                    <a:lnTo>
                      <a:pt x="667" y="870"/>
                    </a:lnTo>
                    <a:lnTo>
                      <a:pt x="604" y="855"/>
                    </a:lnTo>
                    <a:lnTo>
                      <a:pt x="544" y="840"/>
                    </a:lnTo>
                    <a:lnTo>
                      <a:pt x="487" y="824"/>
                    </a:lnTo>
                    <a:lnTo>
                      <a:pt x="431" y="807"/>
                    </a:lnTo>
                    <a:lnTo>
                      <a:pt x="380" y="789"/>
                    </a:lnTo>
                    <a:lnTo>
                      <a:pt x="330" y="770"/>
                    </a:lnTo>
                    <a:lnTo>
                      <a:pt x="284" y="751"/>
                    </a:lnTo>
                    <a:lnTo>
                      <a:pt x="240" y="731"/>
                    </a:lnTo>
                    <a:lnTo>
                      <a:pt x="201" y="710"/>
                    </a:lnTo>
                    <a:lnTo>
                      <a:pt x="164" y="689"/>
                    </a:lnTo>
                    <a:lnTo>
                      <a:pt x="130" y="667"/>
                    </a:lnTo>
                    <a:lnTo>
                      <a:pt x="101" y="644"/>
                    </a:lnTo>
                    <a:lnTo>
                      <a:pt x="75" y="622"/>
                    </a:lnTo>
                    <a:lnTo>
                      <a:pt x="53" y="599"/>
                    </a:lnTo>
                    <a:lnTo>
                      <a:pt x="34" y="575"/>
                    </a:lnTo>
                    <a:lnTo>
                      <a:pt x="19" y="550"/>
                    </a:lnTo>
                    <a:lnTo>
                      <a:pt x="9" y="525"/>
                    </a:lnTo>
                    <a:lnTo>
                      <a:pt x="2" y="501"/>
                    </a:lnTo>
                    <a:lnTo>
                      <a:pt x="0" y="476"/>
                    </a:lnTo>
                    <a:lnTo>
                      <a:pt x="2" y="449"/>
                    </a:lnTo>
                    <a:lnTo>
                      <a:pt x="9" y="425"/>
                    </a:lnTo>
                    <a:lnTo>
                      <a:pt x="19" y="401"/>
                    </a:lnTo>
                    <a:lnTo>
                      <a:pt x="34" y="377"/>
                    </a:lnTo>
                    <a:lnTo>
                      <a:pt x="53" y="354"/>
                    </a:lnTo>
                    <a:lnTo>
                      <a:pt x="75" y="330"/>
                    </a:lnTo>
                    <a:lnTo>
                      <a:pt x="101" y="308"/>
                    </a:lnTo>
                    <a:lnTo>
                      <a:pt x="130" y="286"/>
                    </a:lnTo>
                    <a:lnTo>
                      <a:pt x="164" y="265"/>
                    </a:lnTo>
                    <a:lnTo>
                      <a:pt x="201" y="244"/>
                    </a:lnTo>
                    <a:lnTo>
                      <a:pt x="240" y="224"/>
                    </a:lnTo>
                    <a:lnTo>
                      <a:pt x="284" y="205"/>
                    </a:lnTo>
                    <a:lnTo>
                      <a:pt x="330" y="187"/>
                    </a:lnTo>
                    <a:lnTo>
                      <a:pt x="380" y="169"/>
                    </a:lnTo>
                    <a:lnTo>
                      <a:pt x="431" y="152"/>
                    </a:lnTo>
                    <a:lnTo>
                      <a:pt x="487" y="135"/>
                    </a:lnTo>
                    <a:lnTo>
                      <a:pt x="544" y="120"/>
                    </a:lnTo>
                    <a:lnTo>
                      <a:pt x="604" y="105"/>
                    </a:lnTo>
                    <a:lnTo>
                      <a:pt x="667" y="91"/>
                    </a:lnTo>
                    <a:lnTo>
                      <a:pt x="732" y="79"/>
                    </a:lnTo>
                    <a:lnTo>
                      <a:pt x="800" y="67"/>
                    </a:lnTo>
                    <a:lnTo>
                      <a:pt x="869" y="56"/>
                    </a:lnTo>
                    <a:lnTo>
                      <a:pt x="940" y="45"/>
                    </a:lnTo>
                    <a:lnTo>
                      <a:pt x="1014" y="36"/>
                    </a:lnTo>
                    <a:lnTo>
                      <a:pt x="1090" y="27"/>
                    </a:lnTo>
                    <a:lnTo>
                      <a:pt x="1167" y="20"/>
                    </a:lnTo>
                    <a:lnTo>
                      <a:pt x="1245" y="14"/>
                    </a:lnTo>
                    <a:lnTo>
                      <a:pt x="1326" y="9"/>
                    </a:lnTo>
                    <a:lnTo>
                      <a:pt x="1408" y="5"/>
                    </a:lnTo>
                    <a:lnTo>
                      <a:pt x="1491" y="2"/>
                    </a:lnTo>
                    <a:lnTo>
                      <a:pt x="1575" y="0"/>
                    </a:lnTo>
                    <a:lnTo>
                      <a:pt x="1660" y="0"/>
                    </a:lnTo>
                    <a:lnTo>
                      <a:pt x="1746" y="0"/>
                    </a:lnTo>
                    <a:lnTo>
                      <a:pt x="1830" y="2"/>
                    </a:lnTo>
                    <a:lnTo>
                      <a:pt x="1913" y="5"/>
                    </a:lnTo>
                    <a:lnTo>
                      <a:pt x="1995" y="9"/>
                    </a:lnTo>
                    <a:lnTo>
                      <a:pt x="2076" y="14"/>
                    </a:lnTo>
                    <a:lnTo>
                      <a:pt x="2154" y="20"/>
                    </a:lnTo>
                    <a:lnTo>
                      <a:pt x="2231" y="27"/>
                    </a:lnTo>
                    <a:lnTo>
                      <a:pt x="2307" y="36"/>
                    </a:lnTo>
                    <a:lnTo>
                      <a:pt x="2381" y="45"/>
                    </a:lnTo>
                    <a:lnTo>
                      <a:pt x="2452" y="56"/>
                    </a:lnTo>
                    <a:lnTo>
                      <a:pt x="2521" y="67"/>
                    </a:lnTo>
                    <a:lnTo>
                      <a:pt x="2589" y="79"/>
                    </a:lnTo>
                    <a:lnTo>
                      <a:pt x="2654" y="91"/>
                    </a:lnTo>
                    <a:lnTo>
                      <a:pt x="2717" y="105"/>
                    </a:lnTo>
                    <a:lnTo>
                      <a:pt x="2776" y="120"/>
                    </a:lnTo>
                    <a:lnTo>
                      <a:pt x="2834" y="135"/>
                    </a:lnTo>
                    <a:lnTo>
                      <a:pt x="2890" y="152"/>
                    </a:lnTo>
                    <a:lnTo>
                      <a:pt x="2942" y="169"/>
                    </a:lnTo>
                    <a:lnTo>
                      <a:pt x="2991" y="187"/>
                    </a:lnTo>
                    <a:lnTo>
                      <a:pt x="3037" y="205"/>
                    </a:lnTo>
                    <a:lnTo>
                      <a:pt x="3080" y="224"/>
                    </a:lnTo>
                    <a:lnTo>
                      <a:pt x="3121" y="244"/>
                    </a:lnTo>
                    <a:lnTo>
                      <a:pt x="3157" y="265"/>
                    </a:lnTo>
                    <a:lnTo>
                      <a:pt x="3191" y="286"/>
                    </a:lnTo>
                    <a:lnTo>
                      <a:pt x="3220" y="308"/>
                    </a:lnTo>
                    <a:lnTo>
                      <a:pt x="3246" y="330"/>
                    </a:lnTo>
                    <a:lnTo>
                      <a:pt x="3268" y="354"/>
                    </a:lnTo>
                    <a:lnTo>
                      <a:pt x="3287" y="377"/>
                    </a:lnTo>
                    <a:lnTo>
                      <a:pt x="3302" y="401"/>
                    </a:lnTo>
                    <a:lnTo>
                      <a:pt x="3313" y="425"/>
                    </a:lnTo>
                    <a:lnTo>
                      <a:pt x="3319" y="449"/>
                    </a:lnTo>
                    <a:lnTo>
                      <a:pt x="3321" y="4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965240" y="6501240"/>
                <a:ext cx="365760" cy="115560"/>
              </a:xfrm>
              <a:custGeom>
                <a:avLst/>
                <a:gdLst/>
                <a:ahLst/>
                <a:rect l="l" t="t" r="r" b="b"/>
                <a:pathLst>
                  <a:path w="3318" h="966">
                    <a:moveTo>
                      <a:pt x="3318" y="475"/>
                    </a:moveTo>
                    <a:lnTo>
                      <a:pt x="3315" y="500"/>
                    </a:lnTo>
                    <a:lnTo>
                      <a:pt x="3309" y="524"/>
                    </a:lnTo>
                    <a:lnTo>
                      <a:pt x="3299" y="549"/>
                    </a:lnTo>
                    <a:lnTo>
                      <a:pt x="3283" y="574"/>
                    </a:lnTo>
                    <a:lnTo>
                      <a:pt x="3265" y="597"/>
                    </a:lnTo>
                    <a:lnTo>
                      <a:pt x="3243" y="620"/>
                    </a:lnTo>
                    <a:lnTo>
                      <a:pt x="3217" y="643"/>
                    </a:lnTo>
                    <a:lnTo>
                      <a:pt x="3186" y="665"/>
                    </a:lnTo>
                    <a:lnTo>
                      <a:pt x="3154" y="688"/>
                    </a:lnTo>
                    <a:lnTo>
                      <a:pt x="3117" y="709"/>
                    </a:lnTo>
                    <a:lnTo>
                      <a:pt x="3077" y="729"/>
                    </a:lnTo>
                    <a:lnTo>
                      <a:pt x="3034" y="749"/>
                    </a:lnTo>
                    <a:lnTo>
                      <a:pt x="2988" y="768"/>
                    </a:lnTo>
                    <a:lnTo>
                      <a:pt x="2938" y="788"/>
                    </a:lnTo>
                    <a:lnTo>
                      <a:pt x="2887" y="805"/>
                    </a:lnTo>
                    <a:lnTo>
                      <a:pt x="2831" y="822"/>
                    </a:lnTo>
                    <a:lnTo>
                      <a:pt x="2773" y="838"/>
                    </a:lnTo>
                    <a:lnTo>
                      <a:pt x="2714" y="854"/>
                    </a:lnTo>
                    <a:lnTo>
                      <a:pt x="2651" y="868"/>
                    </a:lnTo>
                    <a:lnTo>
                      <a:pt x="2586" y="882"/>
                    </a:lnTo>
                    <a:lnTo>
                      <a:pt x="2519" y="895"/>
                    </a:lnTo>
                    <a:lnTo>
                      <a:pt x="2449" y="907"/>
                    </a:lnTo>
                    <a:lnTo>
                      <a:pt x="2378" y="918"/>
                    </a:lnTo>
                    <a:lnTo>
                      <a:pt x="2304" y="928"/>
                    </a:lnTo>
                    <a:lnTo>
                      <a:pt x="2229" y="936"/>
                    </a:lnTo>
                    <a:lnTo>
                      <a:pt x="2151" y="944"/>
                    </a:lnTo>
                    <a:lnTo>
                      <a:pt x="2074" y="951"/>
                    </a:lnTo>
                    <a:lnTo>
                      <a:pt x="1993" y="956"/>
                    </a:lnTo>
                    <a:lnTo>
                      <a:pt x="1911" y="960"/>
                    </a:lnTo>
                    <a:lnTo>
                      <a:pt x="1828" y="963"/>
                    </a:lnTo>
                    <a:lnTo>
                      <a:pt x="1744" y="965"/>
                    </a:lnTo>
                    <a:lnTo>
                      <a:pt x="1658" y="966"/>
                    </a:lnTo>
                    <a:lnTo>
                      <a:pt x="1574" y="965"/>
                    </a:lnTo>
                    <a:lnTo>
                      <a:pt x="1489" y="963"/>
                    </a:lnTo>
                    <a:lnTo>
                      <a:pt x="1406" y="960"/>
                    </a:lnTo>
                    <a:lnTo>
                      <a:pt x="1324" y="956"/>
                    </a:lnTo>
                    <a:lnTo>
                      <a:pt x="1244" y="951"/>
                    </a:lnTo>
                    <a:lnTo>
                      <a:pt x="1166" y="944"/>
                    </a:lnTo>
                    <a:lnTo>
                      <a:pt x="1088" y="936"/>
                    </a:lnTo>
                    <a:lnTo>
                      <a:pt x="1013" y="928"/>
                    </a:lnTo>
                    <a:lnTo>
                      <a:pt x="939" y="918"/>
                    </a:lnTo>
                    <a:lnTo>
                      <a:pt x="868" y="907"/>
                    </a:lnTo>
                    <a:lnTo>
                      <a:pt x="798" y="895"/>
                    </a:lnTo>
                    <a:lnTo>
                      <a:pt x="731" y="882"/>
                    </a:lnTo>
                    <a:lnTo>
                      <a:pt x="666" y="868"/>
                    </a:lnTo>
                    <a:lnTo>
                      <a:pt x="603" y="854"/>
                    </a:lnTo>
                    <a:lnTo>
                      <a:pt x="543" y="838"/>
                    </a:lnTo>
                    <a:lnTo>
                      <a:pt x="486" y="822"/>
                    </a:lnTo>
                    <a:lnTo>
                      <a:pt x="430" y="805"/>
                    </a:lnTo>
                    <a:lnTo>
                      <a:pt x="379" y="788"/>
                    </a:lnTo>
                    <a:lnTo>
                      <a:pt x="329" y="768"/>
                    </a:lnTo>
                    <a:lnTo>
                      <a:pt x="283" y="749"/>
                    </a:lnTo>
                    <a:lnTo>
                      <a:pt x="239" y="729"/>
                    </a:lnTo>
                    <a:lnTo>
                      <a:pt x="200" y="709"/>
                    </a:lnTo>
                    <a:lnTo>
                      <a:pt x="164" y="688"/>
                    </a:lnTo>
                    <a:lnTo>
                      <a:pt x="130" y="665"/>
                    </a:lnTo>
                    <a:lnTo>
                      <a:pt x="100" y="643"/>
                    </a:lnTo>
                    <a:lnTo>
                      <a:pt x="74" y="620"/>
                    </a:lnTo>
                    <a:lnTo>
                      <a:pt x="52" y="597"/>
                    </a:lnTo>
                    <a:lnTo>
                      <a:pt x="33" y="574"/>
                    </a:lnTo>
                    <a:lnTo>
                      <a:pt x="18" y="549"/>
                    </a:lnTo>
                    <a:lnTo>
                      <a:pt x="8" y="524"/>
                    </a:lnTo>
                    <a:lnTo>
                      <a:pt x="2" y="500"/>
                    </a:lnTo>
                    <a:lnTo>
                      <a:pt x="0" y="475"/>
                    </a:lnTo>
                    <a:lnTo>
                      <a:pt x="2" y="448"/>
                    </a:lnTo>
                    <a:lnTo>
                      <a:pt x="8" y="424"/>
                    </a:lnTo>
                    <a:lnTo>
                      <a:pt x="18" y="400"/>
                    </a:lnTo>
                    <a:lnTo>
                      <a:pt x="33" y="376"/>
                    </a:lnTo>
                    <a:lnTo>
                      <a:pt x="52" y="353"/>
                    </a:lnTo>
                    <a:lnTo>
                      <a:pt x="74" y="329"/>
                    </a:lnTo>
                    <a:lnTo>
                      <a:pt x="100" y="307"/>
                    </a:lnTo>
                    <a:lnTo>
                      <a:pt x="130" y="286"/>
                    </a:lnTo>
                    <a:lnTo>
                      <a:pt x="164" y="265"/>
                    </a:lnTo>
                    <a:lnTo>
                      <a:pt x="200" y="243"/>
                    </a:lnTo>
                    <a:lnTo>
                      <a:pt x="239" y="224"/>
                    </a:lnTo>
                    <a:lnTo>
                      <a:pt x="283" y="205"/>
                    </a:lnTo>
                    <a:lnTo>
                      <a:pt x="329" y="186"/>
                    </a:lnTo>
                    <a:lnTo>
                      <a:pt x="379" y="169"/>
                    </a:lnTo>
                    <a:lnTo>
                      <a:pt x="430" y="152"/>
                    </a:lnTo>
                    <a:lnTo>
                      <a:pt x="486" y="135"/>
                    </a:lnTo>
                    <a:lnTo>
                      <a:pt x="543" y="119"/>
                    </a:lnTo>
                    <a:lnTo>
                      <a:pt x="603" y="105"/>
                    </a:lnTo>
                    <a:lnTo>
                      <a:pt x="666" y="91"/>
                    </a:lnTo>
                    <a:lnTo>
                      <a:pt x="731" y="78"/>
                    </a:lnTo>
                    <a:lnTo>
                      <a:pt x="798" y="66"/>
                    </a:lnTo>
                    <a:lnTo>
                      <a:pt x="868" y="55"/>
                    </a:lnTo>
                    <a:lnTo>
                      <a:pt x="939" y="45"/>
                    </a:lnTo>
                    <a:lnTo>
                      <a:pt x="1013" y="36"/>
                    </a:lnTo>
                    <a:lnTo>
                      <a:pt x="1088" y="27"/>
                    </a:lnTo>
                    <a:lnTo>
                      <a:pt x="1166" y="20"/>
                    </a:lnTo>
                    <a:lnTo>
                      <a:pt x="1244" y="14"/>
                    </a:lnTo>
                    <a:lnTo>
                      <a:pt x="1324" y="9"/>
                    </a:lnTo>
                    <a:lnTo>
                      <a:pt x="1406" y="5"/>
                    </a:lnTo>
                    <a:lnTo>
                      <a:pt x="1489" y="2"/>
                    </a:lnTo>
                    <a:lnTo>
                      <a:pt x="1574" y="0"/>
                    </a:lnTo>
                    <a:lnTo>
                      <a:pt x="1658" y="0"/>
                    </a:lnTo>
                    <a:lnTo>
                      <a:pt x="1744" y="0"/>
                    </a:lnTo>
                    <a:lnTo>
                      <a:pt x="1828" y="2"/>
                    </a:lnTo>
                    <a:lnTo>
                      <a:pt x="1911" y="5"/>
                    </a:lnTo>
                    <a:lnTo>
                      <a:pt x="1993" y="9"/>
                    </a:lnTo>
                    <a:lnTo>
                      <a:pt x="2074" y="14"/>
                    </a:lnTo>
                    <a:lnTo>
                      <a:pt x="2151" y="20"/>
                    </a:lnTo>
                    <a:lnTo>
                      <a:pt x="2229" y="27"/>
                    </a:lnTo>
                    <a:lnTo>
                      <a:pt x="2304" y="36"/>
                    </a:lnTo>
                    <a:lnTo>
                      <a:pt x="2378" y="45"/>
                    </a:lnTo>
                    <a:lnTo>
                      <a:pt x="2449" y="55"/>
                    </a:lnTo>
                    <a:lnTo>
                      <a:pt x="2519" y="66"/>
                    </a:lnTo>
                    <a:lnTo>
                      <a:pt x="2586" y="78"/>
                    </a:lnTo>
                    <a:lnTo>
                      <a:pt x="2651" y="91"/>
                    </a:lnTo>
                    <a:lnTo>
                      <a:pt x="2714" y="105"/>
                    </a:lnTo>
                    <a:lnTo>
                      <a:pt x="2773" y="119"/>
                    </a:lnTo>
                    <a:lnTo>
                      <a:pt x="2831" y="135"/>
                    </a:lnTo>
                    <a:lnTo>
                      <a:pt x="2887" y="152"/>
                    </a:lnTo>
                    <a:lnTo>
                      <a:pt x="2938" y="169"/>
                    </a:lnTo>
                    <a:lnTo>
                      <a:pt x="2988" y="186"/>
                    </a:lnTo>
                    <a:lnTo>
                      <a:pt x="3034" y="205"/>
                    </a:lnTo>
                    <a:lnTo>
                      <a:pt x="3077" y="224"/>
                    </a:lnTo>
                    <a:lnTo>
                      <a:pt x="3117" y="243"/>
                    </a:lnTo>
                    <a:lnTo>
                      <a:pt x="3154" y="265"/>
                    </a:lnTo>
                    <a:lnTo>
                      <a:pt x="3186" y="286"/>
                    </a:lnTo>
                    <a:lnTo>
                      <a:pt x="3217" y="307"/>
                    </a:lnTo>
                    <a:lnTo>
                      <a:pt x="3243" y="329"/>
                    </a:lnTo>
                    <a:lnTo>
                      <a:pt x="3265" y="353"/>
                    </a:lnTo>
                    <a:lnTo>
                      <a:pt x="3283" y="376"/>
                    </a:lnTo>
                    <a:lnTo>
                      <a:pt x="3299" y="400"/>
                    </a:lnTo>
                    <a:lnTo>
                      <a:pt x="3309" y="424"/>
                    </a:lnTo>
                    <a:lnTo>
                      <a:pt x="3315" y="448"/>
                    </a:lnTo>
                    <a:lnTo>
                      <a:pt x="3318" y="4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65240" y="6501240"/>
                <a:ext cx="365760" cy="115560"/>
              </a:xfrm>
              <a:custGeom>
                <a:avLst/>
                <a:gdLst/>
                <a:ahLst/>
                <a:rect l="l" t="t" r="r" b="b"/>
                <a:pathLst>
                  <a:path w="3315" h="965">
                    <a:moveTo>
                      <a:pt x="3315" y="475"/>
                    </a:moveTo>
                    <a:lnTo>
                      <a:pt x="3313" y="500"/>
                    </a:lnTo>
                    <a:lnTo>
                      <a:pt x="3307" y="524"/>
                    </a:lnTo>
                    <a:lnTo>
                      <a:pt x="3296" y="549"/>
                    </a:lnTo>
                    <a:lnTo>
                      <a:pt x="3281" y="574"/>
                    </a:lnTo>
                    <a:lnTo>
                      <a:pt x="3262" y="597"/>
                    </a:lnTo>
                    <a:lnTo>
                      <a:pt x="3240" y="620"/>
                    </a:lnTo>
                    <a:lnTo>
                      <a:pt x="3215" y="643"/>
                    </a:lnTo>
                    <a:lnTo>
                      <a:pt x="3184" y="665"/>
                    </a:lnTo>
                    <a:lnTo>
                      <a:pt x="3151" y="687"/>
                    </a:lnTo>
                    <a:lnTo>
                      <a:pt x="3115" y="708"/>
                    </a:lnTo>
                    <a:lnTo>
                      <a:pt x="3075" y="729"/>
                    </a:lnTo>
                    <a:lnTo>
                      <a:pt x="3032" y="749"/>
                    </a:lnTo>
                    <a:lnTo>
                      <a:pt x="2986" y="768"/>
                    </a:lnTo>
                    <a:lnTo>
                      <a:pt x="2936" y="787"/>
                    </a:lnTo>
                    <a:lnTo>
                      <a:pt x="2885" y="805"/>
                    </a:lnTo>
                    <a:lnTo>
                      <a:pt x="2830" y="821"/>
                    </a:lnTo>
                    <a:lnTo>
                      <a:pt x="2771" y="838"/>
                    </a:lnTo>
                    <a:lnTo>
                      <a:pt x="2712" y="853"/>
                    </a:lnTo>
                    <a:lnTo>
                      <a:pt x="2649" y="867"/>
                    </a:lnTo>
                    <a:lnTo>
                      <a:pt x="2585" y="881"/>
                    </a:lnTo>
                    <a:lnTo>
                      <a:pt x="2517" y="895"/>
                    </a:lnTo>
                    <a:lnTo>
                      <a:pt x="2447" y="906"/>
                    </a:lnTo>
                    <a:lnTo>
                      <a:pt x="2377" y="917"/>
                    </a:lnTo>
                    <a:lnTo>
                      <a:pt x="2303" y="927"/>
                    </a:lnTo>
                    <a:lnTo>
                      <a:pt x="2227" y="935"/>
                    </a:lnTo>
                    <a:lnTo>
                      <a:pt x="2150" y="943"/>
                    </a:lnTo>
                    <a:lnTo>
                      <a:pt x="2072" y="950"/>
                    </a:lnTo>
                    <a:lnTo>
                      <a:pt x="1992" y="955"/>
                    </a:lnTo>
                    <a:lnTo>
                      <a:pt x="1910" y="959"/>
                    </a:lnTo>
                    <a:lnTo>
                      <a:pt x="1827" y="962"/>
                    </a:lnTo>
                    <a:lnTo>
                      <a:pt x="1742" y="964"/>
                    </a:lnTo>
                    <a:lnTo>
                      <a:pt x="1657" y="965"/>
                    </a:lnTo>
                    <a:lnTo>
                      <a:pt x="1573" y="964"/>
                    </a:lnTo>
                    <a:lnTo>
                      <a:pt x="1488" y="962"/>
                    </a:lnTo>
                    <a:lnTo>
                      <a:pt x="1405" y="959"/>
                    </a:lnTo>
                    <a:lnTo>
                      <a:pt x="1323" y="955"/>
                    </a:lnTo>
                    <a:lnTo>
                      <a:pt x="1243" y="950"/>
                    </a:lnTo>
                    <a:lnTo>
                      <a:pt x="1165" y="943"/>
                    </a:lnTo>
                    <a:lnTo>
                      <a:pt x="1088" y="935"/>
                    </a:lnTo>
                    <a:lnTo>
                      <a:pt x="1012" y="927"/>
                    </a:lnTo>
                    <a:lnTo>
                      <a:pt x="939" y="917"/>
                    </a:lnTo>
                    <a:lnTo>
                      <a:pt x="868" y="906"/>
                    </a:lnTo>
                    <a:lnTo>
                      <a:pt x="798" y="895"/>
                    </a:lnTo>
                    <a:lnTo>
                      <a:pt x="731" y="881"/>
                    </a:lnTo>
                    <a:lnTo>
                      <a:pt x="666" y="867"/>
                    </a:lnTo>
                    <a:lnTo>
                      <a:pt x="603" y="853"/>
                    </a:lnTo>
                    <a:lnTo>
                      <a:pt x="543" y="838"/>
                    </a:lnTo>
                    <a:lnTo>
                      <a:pt x="486" y="821"/>
                    </a:lnTo>
                    <a:lnTo>
                      <a:pt x="430" y="805"/>
                    </a:lnTo>
                    <a:lnTo>
                      <a:pt x="379" y="787"/>
                    </a:lnTo>
                    <a:lnTo>
                      <a:pt x="329" y="768"/>
                    </a:lnTo>
                    <a:lnTo>
                      <a:pt x="283" y="749"/>
                    </a:lnTo>
                    <a:lnTo>
                      <a:pt x="241" y="729"/>
                    </a:lnTo>
                    <a:lnTo>
                      <a:pt x="200" y="708"/>
                    </a:lnTo>
                    <a:lnTo>
                      <a:pt x="164" y="687"/>
                    </a:lnTo>
                    <a:lnTo>
                      <a:pt x="130" y="665"/>
                    </a:lnTo>
                    <a:lnTo>
                      <a:pt x="101" y="643"/>
                    </a:lnTo>
                    <a:lnTo>
                      <a:pt x="75" y="620"/>
                    </a:lnTo>
                    <a:lnTo>
                      <a:pt x="53" y="597"/>
                    </a:lnTo>
                    <a:lnTo>
                      <a:pt x="33" y="574"/>
                    </a:lnTo>
                    <a:lnTo>
                      <a:pt x="19" y="549"/>
                    </a:lnTo>
                    <a:lnTo>
                      <a:pt x="8" y="524"/>
                    </a:lnTo>
                    <a:lnTo>
                      <a:pt x="2" y="500"/>
                    </a:lnTo>
                    <a:lnTo>
                      <a:pt x="0" y="475"/>
                    </a:lnTo>
                    <a:lnTo>
                      <a:pt x="2" y="449"/>
                    </a:lnTo>
                    <a:lnTo>
                      <a:pt x="8" y="424"/>
                    </a:lnTo>
                    <a:lnTo>
                      <a:pt x="19" y="400"/>
                    </a:lnTo>
                    <a:lnTo>
                      <a:pt x="33" y="376"/>
                    </a:lnTo>
                    <a:lnTo>
                      <a:pt x="53" y="353"/>
                    </a:lnTo>
                    <a:lnTo>
                      <a:pt x="75" y="329"/>
                    </a:lnTo>
                    <a:lnTo>
                      <a:pt x="101" y="307"/>
                    </a:lnTo>
                    <a:lnTo>
                      <a:pt x="130" y="286"/>
                    </a:lnTo>
                    <a:lnTo>
                      <a:pt x="164" y="265"/>
                    </a:lnTo>
                    <a:lnTo>
                      <a:pt x="200" y="245"/>
                    </a:lnTo>
                    <a:lnTo>
                      <a:pt x="241" y="224"/>
                    </a:lnTo>
                    <a:lnTo>
                      <a:pt x="283" y="205"/>
                    </a:lnTo>
                    <a:lnTo>
                      <a:pt x="329" y="187"/>
                    </a:lnTo>
                    <a:lnTo>
                      <a:pt x="379" y="169"/>
                    </a:lnTo>
                    <a:lnTo>
                      <a:pt x="430" y="152"/>
                    </a:lnTo>
                    <a:lnTo>
                      <a:pt x="486" y="135"/>
                    </a:lnTo>
                    <a:lnTo>
                      <a:pt x="543" y="120"/>
                    </a:lnTo>
                    <a:lnTo>
                      <a:pt x="603" y="105"/>
                    </a:lnTo>
                    <a:lnTo>
                      <a:pt x="666" y="92"/>
                    </a:lnTo>
                    <a:lnTo>
                      <a:pt x="731" y="79"/>
                    </a:lnTo>
                    <a:lnTo>
                      <a:pt x="798" y="67"/>
                    </a:lnTo>
                    <a:lnTo>
                      <a:pt x="868" y="56"/>
                    </a:lnTo>
                    <a:lnTo>
                      <a:pt x="939" y="46"/>
                    </a:lnTo>
                    <a:lnTo>
                      <a:pt x="1012" y="37"/>
                    </a:lnTo>
                    <a:lnTo>
                      <a:pt x="1088" y="28"/>
                    </a:lnTo>
                    <a:lnTo>
                      <a:pt x="1165" y="21"/>
                    </a:lnTo>
                    <a:lnTo>
                      <a:pt x="1243" y="15"/>
                    </a:lnTo>
                    <a:lnTo>
                      <a:pt x="1323" y="10"/>
                    </a:lnTo>
                    <a:lnTo>
                      <a:pt x="1405" y="6"/>
                    </a:lnTo>
                    <a:lnTo>
                      <a:pt x="1488" y="3"/>
                    </a:lnTo>
                    <a:lnTo>
                      <a:pt x="1573" y="1"/>
                    </a:lnTo>
                    <a:lnTo>
                      <a:pt x="1657" y="0"/>
                    </a:lnTo>
                    <a:lnTo>
                      <a:pt x="1742" y="1"/>
                    </a:lnTo>
                    <a:lnTo>
                      <a:pt x="1827" y="3"/>
                    </a:lnTo>
                    <a:lnTo>
                      <a:pt x="1910" y="6"/>
                    </a:lnTo>
                    <a:lnTo>
                      <a:pt x="1992" y="10"/>
                    </a:lnTo>
                    <a:lnTo>
                      <a:pt x="2072" y="15"/>
                    </a:lnTo>
                    <a:lnTo>
                      <a:pt x="2150" y="21"/>
                    </a:lnTo>
                    <a:lnTo>
                      <a:pt x="2227" y="28"/>
                    </a:lnTo>
                    <a:lnTo>
                      <a:pt x="2303" y="37"/>
                    </a:lnTo>
                    <a:lnTo>
                      <a:pt x="2377" y="46"/>
                    </a:lnTo>
                    <a:lnTo>
                      <a:pt x="2447" y="56"/>
                    </a:lnTo>
                    <a:lnTo>
                      <a:pt x="2517" y="67"/>
                    </a:lnTo>
                    <a:lnTo>
                      <a:pt x="2585" y="79"/>
                    </a:lnTo>
                    <a:lnTo>
                      <a:pt x="2649" y="92"/>
                    </a:lnTo>
                    <a:lnTo>
                      <a:pt x="2712" y="105"/>
                    </a:lnTo>
                    <a:lnTo>
                      <a:pt x="2771" y="120"/>
                    </a:lnTo>
                    <a:lnTo>
                      <a:pt x="2830" y="135"/>
                    </a:lnTo>
                    <a:lnTo>
                      <a:pt x="2885" y="152"/>
                    </a:lnTo>
                    <a:lnTo>
                      <a:pt x="2936" y="169"/>
                    </a:lnTo>
                    <a:lnTo>
                      <a:pt x="2986" y="187"/>
                    </a:lnTo>
                    <a:lnTo>
                      <a:pt x="3032" y="205"/>
                    </a:lnTo>
                    <a:lnTo>
                      <a:pt x="3075" y="224"/>
                    </a:lnTo>
                    <a:lnTo>
                      <a:pt x="3115" y="245"/>
                    </a:lnTo>
                    <a:lnTo>
                      <a:pt x="3151" y="265"/>
                    </a:lnTo>
                    <a:lnTo>
                      <a:pt x="3184" y="286"/>
                    </a:lnTo>
                    <a:lnTo>
                      <a:pt x="3215" y="307"/>
                    </a:lnTo>
                    <a:lnTo>
                      <a:pt x="3240" y="329"/>
                    </a:lnTo>
                    <a:lnTo>
                      <a:pt x="3262" y="353"/>
                    </a:lnTo>
                    <a:lnTo>
                      <a:pt x="3281" y="376"/>
                    </a:lnTo>
                    <a:lnTo>
                      <a:pt x="3296" y="400"/>
                    </a:lnTo>
                    <a:lnTo>
                      <a:pt x="3307" y="424"/>
                    </a:lnTo>
                    <a:lnTo>
                      <a:pt x="3313" y="449"/>
                    </a:lnTo>
                    <a:lnTo>
                      <a:pt x="3315" y="4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965240" y="6501240"/>
                <a:ext cx="365760" cy="115560"/>
              </a:xfrm>
              <a:custGeom>
                <a:avLst/>
                <a:gdLst/>
                <a:ahLst/>
                <a:rect l="l" t="t" r="r" b="b"/>
                <a:pathLst>
                  <a:path w="3313" h="963">
                    <a:moveTo>
                      <a:pt x="3313" y="474"/>
                    </a:moveTo>
                    <a:lnTo>
                      <a:pt x="3311" y="499"/>
                    </a:lnTo>
                    <a:lnTo>
                      <a:pt x="3304" y="523"/>
                    </a:lnTo>
                    <a:lnTo>
                      <a:pt x="3294" y="547"/>
                    </a:lnTo>
                    <a:lnTo>
                      <a:pt x="3278" y="572"/>
                    </a:lnTo>
                    <a:lnTo>
                      <a:pt x="3260" y="596"/>
                    </a:lnTo>
                    <a:lnTo>
                      <a:pt x="3238" y="619"/>
                    </a:lnTo>
                    <a:lnTo>
                      <a:pt x="3212" y="641"/>
                    </a:lnTo>
                    <a:lnTo>
                      <a:pt x="3182" y="664"/>
                    </a:lnTo>
                    <a:lnTo>
                      <a:pt x="3149" y="686"/>
                    </a:lnTo>
                    <a:lnTo>
                      <a:pt x="3113" y="707"/>
                    </a:lnTo>
                    <a:lnTo>
                      <a:pt x="3072" y="727"/>
                    </a:lnTo>
                    <a:lnTo>
                      <a:pt x="3030" y="747"/>
                    </a:lnTo>
                    <a:lnTo>
                      <a:pt x="2984" y="766"/>
                    </a:lnTo>
                    <a:lnTo>
                      <a:pt x="2934" y="785"/>
                    </a:lnTo>
                    <a:lnTo>
                      <a:pt x="2883" y="803"/>
                    </a:lnTo>
                    <a:lnTo>
                      <a:pt x="2827" y="820"/>
                    </a:lnTo>
                    <a:lnTo>
                      <a:pt x="2770" y="836"/>
                    </a:lnTo>
                    <a:lnTo>
                      <a:pt x="2710" y="851"/>
                    </a:lnTo>
                    <a:lnTo>
                      <a:pt x="2647" y="866"/>
                    </a:lnTo>
                    <a:lnTo>
                      <a:pt x="2583" y="879"/>
                    </a:lnTo>
                    <a:lnTo>
                      <a:pt x="2515" y="893"/>
                    </a:lnTo>
                    <a:lnTo>
                      <a:pt x="2446" y="904"/>
                    </a:lnTo>
                    <a:lnTo>
                      <a:pt x="2375" y="915"/>
                    </a:lnTo>
                    <a:lnTo>
                      <a:pt x="2301" y="925"/>
                    </a:lnTo>
                    <a:lnTo>
                      <a:pt x="2226" y="934"/>
                    </a:lnTo>
                    <a:lnTo>
                      <a:pt x="2149" y="941"/>
                    </a:lnTo>
                    <a:lnTo>
                      <a:pt x="2071" y="948"/>
                    </a:lnTo>
                    <a:lnTo>
                      <a:pt x="1991" y="953"/>
                    </a:lnTo>
                    <a:lnTo>
                      <a:pt x="1909" y="957"/>
                    </a:lnTo>
                    <a:lnTo>
                      <a:pt x="1826" y="961"/>
                    </a:lnTo>
                    <a:lnTo>
                      <a:pt x="1741" y="962"/>
                    </a:lnTo>
                    <a:lnTo>
                      <a:pt x="1656" y="963"/>
                    </a:lnTo>
                    <a:lnTo>
                      <a:pt x="1572" y="962"/>
                    </a:lnTo>
                    <a:lnTo>
                      <a:pt x="1487" y="961"/>
                    </a:lnTo>
                    <a:lnTo>
                      <a:pt x="1404" y="957"/>
                    </a:lnTo>
                    <a:lnTo>
                      <a:pt x="1323" y="953"/>
                    </a:lnTo>
                    <a:lnTo>
                      <a:pt x="1242" y="948"/>
                    </a:lnTo>
                    <a:lnTo>
                      <a:pt x="1164" y="941"/>
                    </a:lnTo>
                    <a:lnTo>
                      <a:pt x="1087" y="934"/>
                    </a:lnTo>
                    <a:lnTo>
                      <a:pt x="1012" y="925"/>
                    </a:lnTo>
                    <a:lnTo>
                      <a:pt x="938" y="915"/>
                    </a:lnTo>
                    <a:lnTo>
                      <a:pt x="867" y="904"/>
                    </a:lnTo>
                    <a:lnTo>
                      <a:pt x="798" y="893"/>
                    </a:lnTo>
                    <a:lnTo>
                      <a:pt x="730" y="879"/>
                    </a:lnTo>
                    <a:lnTo>
                      <a:pt x="666" y="866"/>
                    </a:lnTo>
                    <a:lnTo>
                      <a:pt x="603" y="851"/>
                    </a:lnTo>
                    <a:lnTo>
                      <a:pt x="544" y="836"/>
                    </a:lnTo>
                    <a:lnTo>
                      <a:pt x="486" y="820"/>
                    </a:lnTo>
                    <a:lnTo>
                      <a:pt x="430" y="803"/>
                    </a:lnTo>
                    <a:lnTo>
                      <a:pt x="379" y="785"/>
                    </a:lnTo>
                    <a:lnTo>
                      <a:pt x="329" y="766"/>
                    </a:lnTo>
                    <a:lnTo>
                      <a:pt x="283" y="747"/>
                    </a:lnTo>
                    <a:lnTo>
                      <a:pt x="241" y="727"/>
                    </a:lnTo>
                    <a:lnTo>
                      <a:pt x="200" y="707"/>
                    </a:lnTo>
                    <a:lnTo>
                      <a:pt x="164" y="686"/>
                    </a:lnTo>
                    <a:lnTo>
                      <a:pt x="130" y="664"/>
                    </a:lnTo>
                    <a:lnTo>
                      <a:pt x="101" y="641"/>
                    </a:lnTo>
                    <a:lnTo>
                      <a:pt x="75" y="619"/>
                    </a:lnTo>
                    <a:lnTo>
                      <a:pt x="53" y="596"/>
                    </a:lnTo>
                    <a:lnTo>
                      <a:pt x="35" y="572"/>
                    </a:lnTo>
                    <a:lnTo>
                      <a:pt x="19" y="547"/>
                    </a:lnTo>
                    <a:lnTo>
                      <a:pt x="9" y="523"/>
                    </a:lnTo>
                    <a:lnTo>
                      <a:pt x="3" y="499"/>
                    </a:lnTo>
                    <a:lnTo>
                      <a:pt x="0" y="474"/>
                    </a:lnTo>
                    <a:lnTo>
                      <a:pt x="3" y="448"/>
                    </a:lnTo>
                    <a:lnTo>
                      <a:pt x="9" y="423"/>
                    </a:lnTo>
                    <a:lnTo>
                      <a:pt x="19" y="399"/>
                    </a:lnTo>
                    <a:lnTo>
                      <a:pt x="35" y="375"/>
                    </a:lnTo>
                    <a:lnTo>
                      <a:pt x="53" y="352"/>
                    </a:lnTo>
                    <a:lnTo>
                      <a:pt x="75" y="329"/>
                    </a:lnTo>
                    <a:lnTo>
                      <a:pt x="101" y="307"/>
                    </a:lnTo>
                    <a:lnTo>
                      <a:pt x="130" y="285"/>
                    </a:lnTo>
                    <a:lnTo>
                      <a:pt x="164" y="264"/>
                    </a:lnTo>
                    <a:lnTo>
                      <a:pt x="200" y="244"/>
                    </a:lnTo>
                    <a:lnTo>
                      <a:pt x="241" y="223"/>
                    </a:lnTo>
                    <a:lnTo>
                      <a:pt x="283" y="205"/>
                    </a:lnTo>
                    <a:lnTo>
                      <a:pt x="329" y="186"/>
                    </a:lnTo>
                    <a:lnTo>
                      <a:pt x="379" y="169"/>
                    </a:lnTo>
                    <a:lnTo>
                      <a:pt x="430" y="152"/>
                    </a:lnTo>
                    <a:lnTo>
                      <a:pt x="486" y="135"/>
                    </a:lnTo>
                    <a:lnTo>
                      <a:pt x="544" y="120"/>
                    </a:lnTo>
                    <a:lnTo>
                      <a:pt x="603" y="105"/>
                    </a:lnTo>
                    <a:lnTo>
                      <a:pt x="666" y="92"/>
                    </a:lnTo>
                    <a:lnTo>
                      <a:pt x="730" y="79"/>
                    </a:lnTo>
                    <a:lnTo>
                      <a:pt x="798" y="67"/>
                    </a:lnTo>
                    <a:lnTo>
                      <a:pt x="867" y="56"/>
                    </a:lnTo>
                    <a:lnTo>
                      <a:pt x="938" y="46"/>
                    </a:lnTo>
                    <a:lnTo>
                      <a:pt x="1012" y="37"/>
                    </a:lnTo>
                    <a:lnTo>
                      <a:pt x="1087" y="28"/>
                    </a:lnTo>
                    <a:lnTo>
                      <a:pt x="1164" y="21"/>
                    </a:lnTo>
                    <a:lnTo>
                      <a:pt x="1242" y="15"/>
                    </a:lnTo>
                    <a:lnTo>
                      <a:pt x="1323" y="10"/>
                    </a:lnTo>
                    <a:lnTo>
                      <a:pt x="1404" y="6"/>
                    </a:lnTo>
                    <a:lnTo>
                      <a:pt x="1487" y="3"/>
                    </a:lnTo>
                    <a:lnTo>
                      <a:pt x="1572" y="1"/>
                    </a:lnTo>
                    <a:lnTo>
                      <a:pt x="1656" y="0"/>
                    </a:lnTo>
                    <a:lnTo>
                      <a:pt x="1741" y="1"/>
                    </a:lnTo>
                    <a:lnTo>
                      <a:pt x="1826" y="3"/>
                    </a:lnTo>
                    <a:lnTo>
                      <a:pt x="1909" y="6"/>
                    </a:lnTo>
                    <a:lnTo>
                      <a:pt x="1991" y="10"/>
                    </a:lnTo>
                    <a:lnTo>
                      <a:pt x="2071" y="15"/>
                    </a:lnTo>
                    <a:lnTo>
                      <a:pt x="2149" y="21"/>
                    </a:lnTo>
                    <a:lnTo>
                      <a:pt x="2226" y="28"/>
                    </a:lnTo>
                    <a:lnTo>
                      <a:pt x="2301" y="37"/>
                    </a:lnTo>
                    <a:lnTo>
                      <a:pt x="2375" y="46"/>
                    </a:lnTo>
                    <a:lnTo>
                      <a:pt x="2446" y="56"/>
                    </a:lnTo>
                    <a:lnTo>
                      <a:pt x="2515" y="67"/>
                    </a:lnTo>
                    <a:lnTo>
                      <a:pt x="2583" y="79"/>
                    </a:lnTo>
                    <a:lnTo>
                      <a:pt x="2647" y="92"/>
                    </a:lnTo>
                    <a:lnTo>
                      <a:pt x="2710" y="105"/>
                    </a:lnTo>
                    <a:lnTo>
                      <a:pt x="2770" y="120"/>
                    </a:lnTo>
                    <a:lnTo>
                      <a:pt x="2827" y="135"/>
                    </a:lnTo>
                    <a:lnTo>
                      <a:pt x="2883" y="152"/>
                    </a:lnTo>
                    <a:lnTo>
                      <a:pt x="2934" y="169"/>
                    </a:lnTo>
                    <a:lnTo>
                      <a:pt x="2984" y="186"/>
                    </a:lnTo>
                    <a:lnTo>
                      <a:pt x="3030" y="205"/>
                    </a:lnTo>
                    <a:lnTo>
                      <a:pt x="3072" y="223"/>
                    </a:lnTo>
                    <a:lnTo>
                      <a:pt x="3113" y="244"/>
                    </a:lnTo>
                    <a:lnTo>
                      <a:pt x="3149" y="264"/>
                    </a:lnTo>
                    <a:lnTo>
                      <a:pt x="3182" y="285"/>
                    </a:lnTo>
                    <a:lnTo>
                      <a:pt x="3212" y="307"/>
                    </a:lnTo>
                    <a:lnTo>
                      <a:pt x="3238" y="329"/>
                    </a:lnTo>
                    <a:lnTo>
                      <a:pt x="3260" y="352"/>
                    </a:lnTo>
                    <a:lnTo>
                      <a:pt x="3278" y="375"/>
                    </a:lnTo>
                    <a:lnTo>
                      <a:pt x="3294" y="399"/>
                    </a:lnTo>
                    <a:lnTo>
                      <a:pt x="3304" y="423"/>
                    </a:lnTo>
                    <a:lnTo>
                      <a:pt x="3311" y="448"/>
                    </a:lnTo>
                    <a:lnTo>
                      <a:pt x="3313" y="4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966320" y="6501240"/>
                <a:ext cx="363600" cy="114120"/>
              </a:xfrm>
              <a:custGeom>
                <a:avLst/>
                <a:gdLst/>
                <a:ahLst/>
                <a:rect l="l" t="t" r="r" b="b"/>
                <a:pathLst>
                  <a:path w="3309" h="961">
                    <a:moveTo>
                      <a:pt x="3309" y="473"/>
                    </a:moveTo>
                    <a:lnTo>
                      <a:pt x="3307" y="497"/>
                    </a:lnTo>
                    <a:lnTo>
                      <a:pt x="3301" y="522"/>
                    </a:lnTo>
                    <a:lnTo>
                      <a:pt x="3290" y="546"/>
                    </a:lnTo>
                    <a:lnTo>
                      <a:pt x="3275" y="571"/>
                    </a:lnTo>
                    <a:lnTo>
                      <a:pt x="3257" y="595"/>
                    </a:lnTo>
                    <a:lnTo>
                      <a:pt x="3235" y="618"/>
                    </a:lnTo>
                    <a:lnTo>
                      <a:pt x="3209" y="640"/>
                    </a:lnTo>
                    <a:lnTo>
                      <a:pt x="3179" y="662"/>
                    </a:lnTo>
                    <a:lnTo>
                      <a:pt x="3146" y="685"/>
                    </a:lnTo>
                    <a:lnTo>
                      <a:pt x="3110" y="706"/>
                    </a:lnTo>
                    <a:lnTo>
                      <a:pt x="3069" y="726"/>
                    </a:lnTo>
                    <a:lnTo>
                      <a:pt x="3027" y="745"/>
                    </a:lnTo>
                    <a:lnTo>
                      <a:pt x="2981" y="764"/>
                    </a:lnTo>
                    <a:lnTo>
                      <a:pt x="2931" y="784"/>
                    </a:lnTo>
                    <a:lnTo>
                      <a:pt x="2880" y="801"/>
                    </a:lnTo>
                    <a:lnTo>
                      <a:pt x="2824" y="818"/>
                    </a:lnTo>
                    <a:lnTo>
                      <a:pt x="2767" y="834"/>
                    </a:lnTo>
                    <a:lnTo>
                      <a:pt x="2707" y="849"/>
                    </a:lnTo>
                    <a:lnTo>
                      <a:pt x="2644" y="864"/>
                    </a:lnTo>
                    <a:lnTo>
                      <a:pt x="2580" y="877"/>
                    </a:lnTo>
                    <a:lnTo>
                      <a:pt x="2513" y="891"/>
                    </a:lnTo>
                    <a:lnTo>
                      <a:pt x="2443" y="903"/>
                    </a:lnTo>
                    <a:lnTo>
                      <a:pt x="2372" y="913"/>
                    </a:lnTo>
                    <a:lnTo>
                      <a:pt x="2299" y="923"/>
                    </a:lnTo>
                    <a:lnTo>
                      <a:pt x="2223" y="932"/>
                    </a:lnTo>
                    <a:lnTo>
                      <a:pt x="2146" y="939"/>
                    </a:lnTo>
                    <a:lnTo>
                      <a:pt x="2068" y="946"/>
                    </a:lnTo>
                    <a:lnTo>
                      <a:pt x="1988" y="951"/>
                    </a:lnTo>
                    <a:lnTo>
                      <a:pt x="1907" y="956"/>
                    </a:lnTo>
                    <a:lnTo>
                      <a:pt x="1824" y="959"/>
                    </a:lnTo>
                    <a:lnTo>
                      <a:pt x="1739" y="961"/>
                    </a:lnTo>
                    <a:lnTo>
                      <a:pt x="1654" y="961"/>
                    </a:lnTo>
                    <a:lnTo>
                      <a:pt x="1570" y="961"/>
                    </a:lnTo>
                    <a:lnTo>
                      <a:pt x="1486" y="959"/>
                    </a:lnTo>
                    <a:lnTo>
                      <a:pt x="1403" y="956"/>
                    </a:lnTo>
                    <a:lnTo>
                      <a:pt x="1321" y="951"/>
                    </a:lnTo>
                    <a:lnTo>
                      <a:pt x="1241" y="946"/>
                    </a:lnTo>
                    <a:lnTo>
                      <a:pt x="1163" y="939"/>
                    </a:lnTo>
                    <a:lnTo>
                      <a:pt x="1086" y="932"/>
                    </a:lnTo>
                    <a:lnTo>
                      <a:pt x="1010" y="923"/>
                    </a:lnTo>
                    <a:lnTo>
                      <a:pt x="937" y="913"/>
                    </a:lnTo>
                    <a:lnTo>
                      <a:pt x="866" y="903"/>
                    </a:lnTo>
                    <a:lnTo>
                      <a:pt x="797" y="891"/>
                    </a:lnTo>
                    <a:lnTo>
                      <a:pt x="729" y="877"/>
                    </a:lnTo>
                    <a:lnTo>
                      <a:pt x="665" y="864"/>
                    </a:lnTo>
                    <a:lnTo>
                      <a:pt x="602" y="849"/>
                    </a:lnTo>
                    <a:lnTo>
                      <a:pt x="543" y="834"/>
                    </a:lnTo>
                    <a:lnTo>
                      <a:pt x="485" y="818"/>
                    </a:lnTo>
                    <a:lnTo>
                      <a:pt x="429" y="801"/>
                    </a:lnTo>
                    <a:lnTo>
                      <a:pt x="378" y="784"/>
                    </a:lnTo>
                    <a:lnTo>
                      <a:pt x="328" y="764"/>
                    </a:lnTo>
                    <a:lnTo>
                      <a:pt x="283" y="745"/>
                    </a:lnTo>
                    <a:lnTo>
                      <a:pt x="240" y="726"/>
                    </a:lnTo>
                    <a:lnTo>
                      <a:pt x="200" y="706"/>
                    </a:lnTo>
                    <a:lnTo>
                      <a:pt x="163" y="685"/>
                    </a:lnTo>
                    <a:lnTo>
                      <a:pt x="130" y="662"/>
                    </a:lnTo>
                    <a:lnTo>
                      <a:pt x="100" y="640"/>
                    </a:lnTo>
                    <a:lnTo>
                      <a:pt x="74" y="618"/>
                    </a:lnTo>
                    <a:lnTo>
                      <a:pt x="52" y="595"/>
                    </a:lnTo>
                    <a:lnTo>
                      <a:pt x="34" y="571"/>
                    </a:lnTo>
                    <a:lnTo>
                      <a:pt x="19" y="546"/>
                    </a:lnTo>
                    <a:lnTo>
                      <a:pt x="8" y="522"/>
                    </a:lnTo>
                    <a:lnTo>
                      <a:pt x="2" y="497"/>
                    </a:lnTo>
                    <a:lnTo>
                      <a:pt x="0" y="473"/>
                    </a:lnTo>
                    <a:lnTo>
                      <a:pt x="2" y="447"/>
                    </a:lnTo>
                    <a:lnTo>
                      <a:pt x="8" y="422"/>
                    </a:lnTo>
                    <a:lnTo>
                      <a:pt x="19" y="398"/>
                    </a:lnTo>
                    <a:lnTo>
                      <a:pt x="34" y="375"/>
                    </a:lnTo>
                    <a:lnTo>
                      <a:pt x="52" y="352"/>
                    </a:lnTo>
                    <a:lnTo>
                      <a:pt x="74" y="328"/>
                    </a:lnTo>
                    <a:lnTo>
                      <a:pt x="100" y="306"/>
                    </a:lnTo>
                    <a:lnTo>
                      <a:pt x="130" y="285"/>
                    </a:lnTo>
                    <a:lnTo>
                      <a:pt x="163" y="264"/>
                    </a:lnTo>
                    <a:lnTo>
                      <a:pt x="200" y="244"/>
                    </a:lnTo>
                    <a:lnTo>
                      <a:pt x="240" y="223"/>
                    </a:lnTo>
                    <a:lnTo>
                      <a:pt x="283" y="204"/>
                    </a:lnTo>
                    <a:lnTo>
                      <a:pt x="328" y="186"/>
                    </a:lnTo>
                    <a:lnTo>
                      <a:pt x="378" y="168"/>
                    </a:lnTo>
                    <a:lnTo>
                      <a:pt x="429" y="152"/>
                    </a:lnTo>
                    <a:lnTo>
                      <a:pt x="485" y="136"/>
                    </a:lnTo>
                    <a:lnTo>
                      <a:pt x="543" y="119"/>
                    </a:lnTo>
                    <a:lnTo>
                      <a:pt x="602" y="105"/>
                    </a:lnTo>
                    <a:lnTo>
                      <a:pt x="665" y="91"/>
                    </a:lnTo>
                    <a:lnTo>
                      <a:pt x="729" y="79"/>
                    </a:lnTo>
                    <a:lnTo>
                      <a:pt x="797" y="67"/>
                    </a:lnTo>
                    <a:lnTo>
                      <a:pt x="866" y="56"/>
                    </a:lnTo>
                    <a:lnTo>
                      <a:pt x="937" y="46"/>
                    </a:lnTo>
                    <a:lnTo>
                      <a:pt x="1010" y="37"/>
                    </a:lnTo>
                    <a:lnTo>
                      <a:pt x="1086" y="29"/>
                    </a:lnTo>
                    <a:lnTo>
                      <a:pt x="1163" y="21"/>
                    </a:lnTo>
                    <a:lnTo>
                      <a:pt x="1241" y="14"/>
                    </a:lnTo>
                    <a:lnTo>
                      <a:pt x="1321" y="9"/>
                    </a:lnTo>
                    <a:lnTo>
                      <a:pt x="1403" y="6"/>
                    </a:lnTo>
                    <a:lnTo>
                      <a:pt x="1486" y="3"/>
                    </a:lnTo>
                    <a:lnTo>
                      <a:pt x="1570" y="1"/>
                    </a:lnTo>
                    <a:lnTo>
                      <a:pt x="1654" y="0"/>
                    </a:lnTo>
                    <a:lnTo>
                      <a:pt x="1739" y="1"/>
                    </a:lnTo>
                    <a:lnTo>
                      <a:pt x="1824" y="3"/>
                    </a:lnTo>
                    <a:lnTo>
                      <a:pt x="1907" y="6"/>
                    </a:lnTo>
                    <a:lnTo>
                      <a:pt x="1988" y="9"/>
                    </a:lnTo>
                    <a:lnTo>
                      <a:pt x="2068" y="14"/>
                    </a:lnTo>
                    <a:lnTo>
                      <a:pt x="2146" y="21"/>
                    </a:lnTo>
                    <a:lnTo>
                      <a:pt x="2223" y="29"/>
                    </a:lnTo>
                    <a:lnTo>
                      <a:pt x="2299" y="37"/>
                    </a:lnTo>
                    <a:lnTo>
                      <a:pt x="2372" y="46"/>
                    </a:lnTo>
                    <a:lnTo>
                      <a:pt x="2443" y="56"/>
                    </a:lnTo>
                    <a:lnTo>
                      <a:pt x="2513" y="67"/>
                    </a:lnTo>
                    <a:lnTo>
                      <a:pt x="2580" y="79"/>
                    </a:lnTo>
                    <a:lnTo>
                      <a:pt x="2644" y="91"/>
                    </a:lnTo>
                    <a:lnTo>
                      <a:pt x="2707" y="105"/>
                    </a:lnTo>
                    <a:lnTo>
                      <a:pt x="2767" y="119"/>
                    </a:lnTo>
                    <a:lnTo>
                      <a:pt x="2824" y="136"/>
                    </a:lnTo>
                    <a:lnTo>
                      <a:pt x="2880" y="152"/>
                    </a:lnTo>
                    <a:lnTo>
                      <a:pt x="2931" y="168"/>
                    </a:lnTo>
                    <a:lnTo>
                      <a:pt x="2981" y="186"/>
                    </a:lnTo>
                    <a:lnTo>
                      <a:pt x="3027" y="204"/>
                    </a:lnTo>
                    <a:lnTo>
                      <a:pt x="3069" y="223"/>
                    </a:lnTo>
                    <a:lnTo>
                      <a:pt x="3110" y="244"/>
                    </a:lnTo>
                    <a:lnTo>
                      <a:pt x="3146" y="264"/>
                    </a:lnTo>
                    <a:lnTo>
                      <a:pt x="3179" y="285"/>
                    </a:lnTo>
                    <a:lnTo>
                      <a:pt x="3209" y="306"/>
                    </a:lnTo>
                    <a:lnTo>
                      <a:pt x="3235" y="328"/>
                    </a:lnTo>
                    <a:lnTo>
                      <a:pt x="3257" y="352"/>
                    </a:lnTo>
                    <a:lnTo>
                      <a:pt x="3275" y="375"/>
                    </a:lnTo>
                    <a:lnTo>
                      <a:pt x="3290" y="398"/>
                    </a:lnTo>
                    <a:lnTo>
                      <a:pt x="3301" y="422"/>
                    </a:lnTo>
                    <a:lnTo>
                      <a:pt x="3307" y="447"/>
                    </a:lnTo>
                    <a:lnTo>
                      <a:pt x="3309" y="4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966320" y="6501240"/>
                <a:ext cx="363600" cy="114120"/>
              </a:xfrm>
              <a:custGeom>
                <a:avLst/>
                <a:gdLst/>
                <a:ahLst/>
                <a:rect l="l" t="t" r="r" b="b"/>
                <a:pathLst>
                  <a:path w="3307" h="959">
                    <a:moveTo>
                      <a:pt x="3307" y="472"/>
                    </a:moveTo>
                    <a:lnTo>
                      <a:pt x="3305" y="496"/>
                    </a:lnTo>
                    <a:lnTo>
                      <a:pt x="3298" y="521"/>
                    </a:lnTo>
                    <a:lnTo>
                      <a:pt x="3288" y="545"/>
                    </a:lnTo>
                    <a:lnTo>
                      <a:pt x="3273" y="570"/>
                    </a:lnTo>
                    <a:lnTo>
                      <a:pt x="3254" y="593"/>
                    </a:lnTo>
                    <a:lnTo>
                      <a:pt x="3232" y="616"/>
                    </a:lnTo>
                    <a:lnTo>
                      <a:pt x="3207" y="639"/>
                    </a:lnTo>
                    <a:lnTo>
                      <a:pt x="3176" y="661"/>
                    </a:lnTo>
                    <a:lnTo>
                      <a:pt x="3143" y="683"/>
                    </a:lnTo>
                    <a:lnTo>
                      <a:pt x="3107" y="704"/>
                    </a:lnTo>
                    <a:lnTo>
                      <a:pt x="3067" y="724"/>
                    </a:lnTo>
                    <a:lnTo>
                      <a:pt x="3024" y="744"/>
                    </a:lnTo>
                    <a:lnTo>
                      <a:pt x="2978" y="763"/>
                    </a:lnTo>
                    <a:lnTo>
                      <a:pt x="2929" y="782"/>
                    </a:lnTo>
                    <a:lnTo>
                      <a:pt x="2878" y="800"/>
                    </a:lnTo>
                    <a:lnTo>
                      <a:pt x="2822" y="817"/>
                    </a:lnTo>
                    <a:lnTo>
                      <a:pt x="2765" y="833"/>
                    </a:lnTo>
                    <a:lnTo>
                      <a:pt x="2705" y="848"/>
                    </a:lnTo>
                    <a:lnTo>
                      <a:pt x="2642" y="862"/>
                    </a:lnTo>
                    <a:lnTo>
                      <a:pt x="2578" y="876"/>
                    </a:lnTo>
                    <a:lnTo>
                      <a:pt x="2511" y="889"/>
                    </a:lnTo>
                    <a:lnTo>
                      <a:pt x="2441" y="901"/>
                    </a:lnTo>
                    <a:lnTo>
                      <a:pt x="2371" y="912"/>
                    </a:lnTo>
                    <a:lnTo>
                      <a:pt x="2297" y="921"/>
                    </a:lnTo>
                    <a:lnTo>
                      <a:pt x="2222" y="930"/>
                    </a:lnTo>
                    <a:lnTo>
                      <a:pt x="2145" y="937"/>
                    </a:lnTo>
                    <a:lnTo>
                      <a:pt x="2067" y="944"/>
                    </a:lnTo>
                    <a:lnTo>
                      <a:pt x="1987" y="949"/>
                    </a:lnTo>
                    <a:lnTo>
                      <a:pt x="1905" y="954"/>
                    </a:lnTo>
                    <a:lnTo>
                      <a:pt x="1822" y="957"/>
                    </a:lnTo>
                    <a:lnTo>
                      <a:pt x="1738" y="959"/>
                    </a:lnTo>
                    <a:lnTo>
                      <a:pt x="1653" y="959"/>
                    </a:lnTo>
                    <a:lnTo>
                      <a:pt x="1569" y="959"/>
                    </a:lnTo>
                    <a:lnTo>
                      <a:pt x="1485" y="957"/>
                    </a:lnTo>
                    <a:lnTo>
                      <a:pt x="1402" y="954"/>
                    </a:lnTo>
                    <a:lnTo>
                      <a:pt x="1320" y="949"/>
                    </a:lnTo>
                    <a:lnTo>
                      <a:pt x="1240" y="944"/>
                    </a:lnTo>
                    <a:lnTo>
                      <a:pt x="1162" y="937"/>
                    </a:lnTo>
                    <a:lnTo>
                      <a:pt x="1085" y="930"/>
                    </a:lnTo>
                    <a:lnTo>
                      <a:pt x="1010" y="921"/>
                    </a:lnTo>
                    <a:lnTo>
                      <a:pt x="936" y="912"/>
                    </a:lnTo>
                    <a:lnTo>
                      <a:pt x="866" y="901"/>
                    </a:lnTo>
                    <a:lnTo>
                      <a:pt x="796" y="889"/>
                    </a:lnTo>
                    <a:lnTo>
                      <a:pt x="729" y="876"/>
                    </a:lnTo>
                    <a:lnTo>
                      <a:pt x="665" y="862"/>
                    </a:lnTo>
                    <a:lnTo>
                      <a:pt x="602" y="848"/>
                    </a:lnTo>
                    <a:lnTo>
                      <a:pt x="542" y="833"/>
                    </a:lnTo>
                    <a:lnTo>
                      <a:pt x="485" y="817"/>
                    </a:lnTo>
                    <a:lnTo>
                      <a:pt x="429" y="800"/>
                    </a:lnTo>
                    <a:lnTo>
                      <a:pt x="378" y="782"/>
                    </a:lnTo>
                    <a:lnTo>
                      <a:pt x="328" y="763"/>
                    </a:lnTo>
                    <a:lnTo>
                      <a:pt x="283" y="744"/>
                    </a:lnTo>
                    <a:lnTo>
                      <a:pt x="240" y="724"/>
                    </a:lnTo>
                    <a:lnTo>
                      <a:pt x="200" y="704"/>
                    </a:lnTo>
                    <a:lnTo>
                      <a:pt x="164" y="683"/>
                    </a:lnTo>
                    <a:lnTo>
                      <a:pt x="130" y="661"/>
                    </a:lnTo>
                    <a:lnTo>
                      <a:pt x="101" y="639"/>
                    </a:lnTo>
                    <a:lnTo>
                      <a:pt x="75" y="616"/>
                    </a:lnTo>
                    <a:lnTo>
                      <a:pt x="53" y="593"/>
                    </a:lnTo>
                    <a:lnTo>
                      <a:pt x="34" y="570"/>
                    </a:lnTo>
                    <a:lnTo>
                      <a:pt x="19" y="545"/>
                    </a:lnTo>
                    <a:lnTo>
                      <a:pt x="9" y="521"/>
                    </a:lnTo>
                    <a:lnTo>
                      <a:pt x="2" y="496"/>
                    </a:lnTo>
                    <a:lnTo>
                      <a:pt x="0" y="472"/>
                    </a:lnTo>
                    <a:lnTo>
                      <a:pt x="2" y="446"/>
                    </a:lnTo>
                    <a:lnTo>
                      <a:pt x="9" y="421"/>
                    </a:lnTo>
                    <a:lnTo>
                      <a:pt x="19" y="397"/>
                    </a:lnTo>
                    <a:lnTo>
                      <a:pt x="34" y="374"/>
                    </a:lnTo>
                    <a:lnTo>
                      <a:pt x="53" y="351"/>
                    </a:lnTo>
                    <a:lnTo>
                      <a:pt x="75" y="327"/>
                    </a:lnTo>
                    <a:lnTo>
                      <a:pt x="101" y="305"/>
                    </a:lnTo>
                    <a:lnTo>
                      <a:pt x="130" y="284"/>
                    </a:lnTo>
                    <a:lnTo>
                      <a:pt x="164" y="263"/>
                    </a:lnTo>
                    <a:lnTo>
                      <a:pt x="200" y="243"/>
                    </a:lnTo>
                    <a:lnTo>
                      <a:pt x="240" y="222"/>
                    </a:lnTo>
                    <a:lnTo>
                      <a:pt x="283" y="204"/>
                    </a:lnTo>
                    <a:lnTo>
                      <a:pt x="328" y="185"/>
                    </a:lnTo>
                    <a:lnTo>
                      <a:pt x="378" y="168"/>
                    </a:lnTo>
                    <a:lnTo>
                      <a:pt x="429" y="151"/>
                    </a:lnTo>
                    <a:lnTo>
                      <a:pt x="485" y="135"/>
                    </a:lnTo>
                    <a:lnTo>
                      <a:pt x="542" y="119"/>
                    </a:lnTo>
                    <a:lnTo>
                      <a:pt x="602" y="105"/>
                    </a:lnTo>
                    <a:lnTo>
                      <a:pt x="665" y="91"/>
                    </a:lnTo>
                    <a:lnTo>
                      <a:pt x="729" y="78"/>
                    </a:lnTo>
                    <a:lnTo>
                      <a:pt x="796" y="67"/>
                    </a:lnTo>
                    <a:lnTo>
                      <a:pt x="866" y="56"/>
                    </a:lnTo>
                    <a:lnTo>
                      <a:pt x="936" y="46"/>
                    </a:lnTo>
                    <a:lnTo>
                      <a:pt x="1010" y="37"/>
                    </a:lnTo>
                    <a:lnTo>
                      <a:pt x="1085" y="28"/>
                    </a:lnTo>
                    <a:lnTo>
                      <a:pt x="1162" y="20"/>
                    </a:lnTo>
                    <a:lnTo>
                      <a:pt x="1240" y="14"/>
                    </a:lnTo>
                    <a:lnTo>
                      <a:pt x="1320" y="9"/>
                    </a:lnTo>
                    <a:lnTo>
                      <a:pt x="1402" y="5"/>
                    </a:lnTo>
                    <a:lnTo>
                      <a:pt x="1485" y="3"/>
                    </a:lnTo>
                    <a:lnTo>
                      <a:pt x="1569" y="1"/>
                    </a:lnTo>
                    <a:lnTo>
                      <a:pt x="1653" y="0"/>
                    </a:lnTo>
                    <a:lnTo>
                      <a:pt x="1738" y="1"/>
                    </a:lnTo>
                    <a:lnTo>
                      <a:pt x="1822" y="3"/>
                    </a:lnTo>
                    <a:lnTo>
                      <a:pt x="1905" y="5"/>
                    </a:lnTo>
                    <a:lnTo>
                      <a:pt x="1987" y="9"/>
                    </a:lnTo>
                    <a:lnTo>
                      <a:pt x="2067" y="14"/>
                    </a:lnTo>
                    <a:lnTo>
                      <a:pt x="2145" y="20"/>
                    </a:lnTo>
                    <a:lnTo>
                      <a:pt x="2222" y="28"/>
                    </a:lnTo>
                    <a:lnTo>
                      <a:pt x="2297" y="37"/>
                    </a:lnTo>
                    <a:lnTo>
                      <a:pt x="2371" y="46"/>
                    </a:lnTo>
                    <a:lnTo>
                      <a:pt x="2441" y="56"/>
                    </a:lnTo>
                    <a:lnTo>
                      <a:pt x="2511" y="67"/>
                    </a:lnTo>
                    <a:lnTo>
                      <a:pt x="2578" y="78"/>
                    </a:lnTo>
                    <a:lnTo>
                      <a:pt x="2642" y="91"/>
                    </a:lnTo>
                    <a:lnTo>
                      <a:pt x="2705" y="105"/>
                    </a:lnTo>
                    <a:lnTo>
                      <a:pt x="2765" y="119"/>
                    </a:lnTo>
                    <a:lnTo>
                      <a:pt x="2822" y="135"/>
                    </a:lnTo>
                    <a:lnTo>
                      <a:pt x="2878" y="151"/>
                    </a:lnTo>
                    <a:lnTo>
                      <a:pt x="2929" y="168"/>
                    </a:lnTo>
                    <a:lnTo>
                      <a:pt x="2978" y="185"/>
                    </a:lnTo>
                    <a:lnTo>
                      <a:pt x="3024" y="204"/>
                    </a:lnTo>
                    <a:lnTo>
                      <a:pt x="3067" y="222"/>
                    </a:lnTo>
                    <a:lnTo>
                      <a:pt x="3107" y="243"/>
                    </a:lnTo>
                    <a:lnTo>
                      <a:pt x="3143" y="263"/>
                    </a:lnTo>
                    <a:lnTo>
                      <a:pt x="3176" y="284"/>
                    </a:lnTo>
                    <a:lnTo>
                      <a:pt x="3207" y="305"/>
                    </a:lnTo>
                    <a:lnTo>
                      <a:pt x="3232" y="327"/>
                    </a:lnTo>
                    <a:lnTo>
                      <a:pt x="3254" y="351"/>
                    </a:lnTo>
                    <a:lnTo>
                      <a:pt x="3273" y="374"/>
                    </a:lnTo>
                    <a:lnTo>
                      <a:pt x="3288" y="397"/>
                    </a:lnTo>
                    <a:lnTo>
                      <a:pt x="3298" y="421"/>
                    </a:lnTo>
                    <a:lnTo>
                      <a:pt x="3305" y="446"/>
                    </a:lnTo>
                    <a:lnTo>
                      <a:pt x="3307" y="4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966320" y="6501240"/>
                <a:ext cx="363600" cy="114120"/>
              </a:xfrm>
              <a:custGeom>
                <a:avLst/>
                <a:gdLst/>
                <a:ahLst/>
                <a:rect l="l" t="t" r="r" b="b"/>
                <a:pathLst>
                  <a:path w="3303" h="957">
                    <a:moveTo>
                      <a:pt x="3303" y="471"/>
                    </a:moveTo>
                    <a:lnTo>
                      <a:pt x="3301" y="495"/>
                    </a:lnTo>
                    <a:lnTo>
                      <a:pt x="3295" y="520"/>
                    </a:lnTo>
                    <a:lnTo>
                      <a:pt x="3285" y="544"/>
                    </a:lnTo>
                    <a:lnTo>
                      <a:pt x="3269" y="569"/>
                    </a:lnTo>
                    <a:lnTo>
                      <a:pt x="3251" y="592"/>
                    </a:lnTo>
                    <a:lnTo>
                      <a:pt x="3229" y="615"/>
                    </a:lnTo>
                    <a:lnTo>
                      <a:pt x="3203" y="638"/>
                    </a:lnTo>
                    <a:lnTo>
                      <a:pt x="3173" y="659"/>
                    </a:lnTo>
                    <a:lnTo>
                      <a:pt x="3140" y="682"/>
                    </a:lnTo>
                    <a:lnTo>
                      <a:pt x="3104" y="703"/>
                    </a:lnTo>
                    <a:lnTo>
                      <a:pt x="3064" y="723"/>
                    </a:lnTo>
                    <a:lnTo>
                      <a:pt x="3021" y="742"/>
                    </a:lnTo>
                    <a:lnTo>
                      <a:pt x="2975" y="761"/>
                    </a:lnTo>
                    <a:lnTo>
                      <a:pt x="2926" y="781"/>
                    </a:lnTo>
                    <a:lnTo>
                      <a:pt x="2874" y="798"/>
                    </a:lnTo>
                    <a:lnTo>
                      <a:pt x="2819" y="815"/>
                    </a:lnTo>
                    <a:lnTo>
                      <a:pt x="2762" y="831"/>
                    </a:lnTo>
                    <a:lnTo>
                      <a:pt x="2702" y="846"/>
                    </a:lnTo>
                    <a:lnTo>
                      <a:pt x="2640" y="860"/>
                    </a:lnTo>
                    <a:lnTo>
                      <a:pt x="2575" y="874"/>
                    </a:lnTo>
                    <a:lnTo>
                      <a:pt x="2508" y="887"/>
                    </a:lnTo>
                    <a:lnTo>
                      <a:pt x="2439" y="899"/>
                    </a:lnTo>
                    <a:lnTo>
                      <a:pt x="2368" y="910"/>
                    </a:lnTo>
                    <a:lnTo>
                      <a:pt x="2295" y="919"/>
                    </a:lnTo>
                    <a:lnTo>
                      <a:pt x="2219" y="928"/>
                    </a:lnTo>
                    <a:lnTo>
                      <a:pt x="2142" y="936"/>
                    </a:lnTo>
                    <a:lnTo>
                      <a:pt x="2065" y="942"/>
                    </a:lnTo>
                    <a:lnTo>
                      <a:pt x="1985" y="947"/>
                    </a:lnTo>
                    <a:lnTo>
                      <a:pt x="1903" y="952"/>
                    </a:lnTo>
                    <a:lnTo>
                      <a:pt x="1820" y="955"/>
                    </a:lnTo>
                    <a:lnTo>
                      <a:pt x="1736" y="957"/>
                    </a:lnTo>
                    <a:lnTo>
                      <a:pt x="1651" y="957"/>
                    </a:lnTo>
                    <a:lnTo>
                      <a:pt x="1567" y="957"/>
                    </a:lnTo>
                    <a:lnTo>
                      <a:pt x="1483" y="955"/>
                    </a:lnTo>
                    <a:lnTo>
                      <a:pt x="1400" y="952"/>
                    </a:lnTo>
                    <a:lnTo>
                      <a:pt x="1318" y="947"/>
                    </a:lnTo>
                    <a:lnTo>
                      <a:pt x="1238" y="942"/>
                    </a:lnTo>
                    <a:lnTo>
                      <a:pt x="1161" y="936"/>
                    </a:lnTo>
                    <a:lnTo>
                      <a:pt x="1084" y="928"/>
                    </a:lnTo>
                    <a:lnTo>
                      <a:pt x="1008" y="919"/>
                    </a:lnTo>
                    <a:lnTo>
                      <a:pt x="935" y="910"/>
                    </a:lnTo>
                    <a:lnTo>
                      <a:pt x="865" y="899"/>
                    </a:lnTo>
                    <a:lnTo>
                      <a:pt x="795" y="887"/>
                    </a:lnTo>
                    <a:lnTo>
                      <a:pt x="728" y="874"/>
                    </a:lnTo>
                    <a:lnTo>
                      <a:pt x="664" y="860"/>
                    </a:lnTo>
                    <a:lnTo>
                      <a:pt x="601" y="846"/>
                    </a:lnTo>
                    <a:lnTo>
                      <a:pt x="541" y="831"/>
                    </a:lnTo>
                    <a:lnTo>
                      <a:pt x="484" y="815"/>
                    </a:lnTo>
                    <a:lnTo>
                      <a:pt x="428" y="798"/>
                    </a:lnTo>
                    <a:lnTo>
                      <a:pt x="377" y="781"/>
                    </a:lnTo>
                    <a:lnTo>
                      <a:pt x="328" y="761"/>
                    </a:lnTo>
                    <a:lnTo>
                      <a:pt x="282" y="742"/>
                    </a:lnTo>
                    <a:lnTo>
                      <a:pt x="239" y="723"/>
                    </a:lnTo>
                    <a:lnTo>
                      <a:pt x="199" y="703"/>
                    </a:lnTo>
                    <a:lnTo>
                      <a:pt x="163" y="682"/>
                    </a:lnTo>
                    <a:lnTo>
                      <a:pt x="129" y="659"/>
                    </a:lnTo>
                    <a:lnTo>
                      <a:pt x="100" y="638"/>
                    </a:lnTo>
                    <a:lnTo>
                      <a:pt x="74" y="615"/>
                    </a:lnTo>
                    <a:lnTo>
                      <a:pt x="52" y="592"/>
                    </a:lnTo>
                    <a:lnTo>
                      <a:pt x="34" y="569"/>
                    </a:lnTo>
                    <a:lnTo>
                      <a:pt x="18" y="544"/>
                    </a:lnTo>
                    <a:lnTo>
                      <a:pt x="8" y="520"/>
                    </a:lnTo>
                    <a:lnTo>
                      <a:pt x="2" y="495"/>
                    </a:lnTo>
                    <a:lnTo>
                      <a:pt x="0" y="471"/>
                    </a:lnTo>
                    <a:lnTo>
                      <a:pt x="2" y="445"/>
                    </a:lnTo>
                    <a:lnTo>
                      <a:pt x="8" y="420"/>
                    </a:lnTo>
                    <a:lnTo>
                      <a:pt x="18" y="396"/>
                    </a:lnTo>
                    <a:lnTo>
                      <a:pt x="34" y="373"/>
                    </a:lnTo>
                    <a:lnTo>
                      <a:pt x="52" y="350"/>
                    </a:lnTo>
                    <a:lnTo>
                      <a:pt x="74" y="327"/>
                    </a:lnTo>
                    <a:lnTo>
                      <a:pt x="100" y="305"/>
                    </a:lnTo>
                    <a:lnTo>
                      <a:pt x="129" y="283"/>
                    </a:lnTo>
                    <a:lnTo>
                      <a:pt x="163" y="263"/>
                    </a:lnTo>
                    <a:lnTo>
                      <a:pt x="199" y="242"/>
                    </a:lnTo>
                    <a:lnTo>
                      <a:pt x="239" y="222"/>
                    </a:lnTo>
                    <a:lnTo>
                      <a:pt x="282" y="203"/>
                    </a:lnTo>
                    <a:lnTo>
                      <a:pt x="328" y="185"/>
                    </a:lnTo>
                    <a:lnTo>
                      <a:pt x="377" y="168"/>
                    </a:lnTo>
                    <a:lnTo>
                      <a:pt x="428" y="151"/>
                    </a:lnTo>
                    <a:lnTo>
                      <a:pt x="484" y="135"/>
                    </a:lnTo>
                    <a:lnTo>
                      <a:pt x="541" y="119"/>
                    </a:lnTo>
                    <a:lnTo>
                      <a:pt x="601" y="104"/>
                    </a:lnTo>
                    <a:lnTo>
                      <a:pt x="664" y="91"/>
                    </a:lnTo>
                    <a:lnTo>
                      <a:pt x="728" y="78"/>
                    </a:lnTo>
                    <a:lnTo>
                      <a:pt x="795" y="66"/>
                    </a:lnTo>
                    <a:lnTo>
                      <a:pt x="865" y="55"/>
                    </a:lnTo>
                    <a:lnTo>
                      <a:pt x="935" y="45"/>
                    </a:lnTo>
                    <a:lnTo>
                      <a:pt x="1008" y="36"/>
                    </a:lnTo>
                    <a:lnTo>
                      <a:pt x="1084" y="28"/>
                    </a:lnTo>
                    <a:lnTo>
                      <a:pt x="1161" y="20"/>
                    </a:lnTo>
                    <a:lnTo>
                      <a:pt x="1238" y="14"/>
                    </a:lnTo>
                    <a:lnTo>
                      <a:pt x="1318" y="9"/>
                    </a:lnTo>
                    <a:lnTo>
                      <a:pt x="1400" y="5"/>
                    </a:lnTo>
                    <a:lnTo>
                      <a:pt x="1483" y="3"/>
                    </a:lnTo>
                    <a:lnTo>
                      <a:pt x="1567" y="1"/>
                    </a:lnTo>
                    <a:lnTo>
                      <a:pt x="1651" y="0"/>
                    </a:lnTo>
                    <a:lnTo>
                      <a:pt x="1736" y="1"/>
                    </a:lnTo>
                    <a:lnTo>
                      <a:pt x="1820" y="3"/>
                    </a:lnTo>
                    <a:lnTo>
                      <a:pt x="1903" y="5"/>
                    </a:lnTo>
                    <a:lnTo>
                      <a:pt x="1985" y="9"/>
                    </a:lnTo>
                    <a:lnTo>
                      <a:pt x="2065" y="14"/>
                    </a:lnTo>
                    <a:lnTo>
                      <a:pt x="2142" y="20"/>
                    </a:lnTo>
                    <a:lnTo>
                      <a:pt x="2219" y="28"/>
                    </a:lnTo>
                    <a:lnTo>
                      <a:pt x="2295" y="36"/>
                    </a:lnTo>
                    <a:lnTo>
                      <a:pt x="2368" y="45"/>
                    </a:lnTo>
                    <a:lnTo>
                      <a:pt x="2439" y="55"/>
                    </a:lnTo>
                    <a:lnTo>
                      <a:pt x="2508" y="66"/>
                    </a:lnTo>
                    <a:lnTo>
                      <a:pt x="2575" y="78"/>
                    </a:lnTo>
                    <a:lnTo>
                      <a:pt x="2640" y="91"/>
                    </a:lnTo>
                    <a:lnTo>
                      <a:pt x="2702" y="104"/>
                    </a:lnTo>
                    <a:lnTo>
                      <a:pt x="2762" y="119"/>
                    </a:lnTo>
                    <a:lnTo>
                      <a:pt x="2819" y="135"/>
                    </a:lnTo>
                    <a:lnTo>
                      <a:pt x="2874" y="151"/>
                    </a:lnTo>
                    <a:lnTo>
                      <a:pt x="2926" y="168"/>
                    </a:lnTo>
                    <a:lnTo>
                      <a:pt x="2975" y="185"/>
                    </a:lnTo>
                    <a:lnTo>
                      <a:pt x="3021" y="203"/>
                    </a:lnTo>
                    <a:lnTo>
                      <a:pt x="3064" y="222"/>
                    </a:lnTo>
                    <a:lnTo>
                      <a:pt x="3104" y="242"/>
                    </a:lnTo>
                    <a:lnTo>
                      <a:pt x="3140" y="263"/>
                    </a:lnTo>
                    <a:lnTo>
                      <a:pt x="3173" y="283"/>
                    </a:lnTo>
                    <a:lnTo>
                      <a:pt x="3203" y="305"/>
                    </a:lnTo>
                    <a:lnTo>
                      <a:pt x="3229" y="327"/>
                    </a:lnTo>
                    <a:lnTo>
                      <a:pt x="3251" y="350"/>
                    </a:lnTo>
                    <a:lnTo>
                      <a:pt x="3269" y="373"/>
                    </a:lnTo>
                    <a:lnTo>
                      <a:pt x="3285" y="396"/>
                    </a:lnTo>
                    <a:lnTo>
                      <a:pt x="3295" y="420"/>
                    </a:lnTo>
                    <a:lnTo>
                      <a:pt x="3301" y="445"/>
                    </a:lnTo>
                    <a:lnTo>
                      <a:pt x="3303" y="4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966320" y="6501240"/>
                <a:ext cx="363600" cy="114120"/>
              </a:xfrm>
              <a:custGeom>
                <a:avLst/>
                <a:gdLst/>
                <a:ahLst/>
                <a:rect l="l" t="t" r="r" b="b"/>
                <a:pathLst>
                  <a:path w="3301" h="955">
                    <a:moveTo>
                      <a:pt x="3301" y="470"/>
                    </a:moveTo>
                    <a:lnTo>
                      <a:pt x="3299" y="494"/>
                    </a:lnTo>
                    <a:lnTo>
                      <a:pt x="3293" y="519"/>
                    </a:lnTo>
                    <a:lnTo>
                      <a:pt x="3282" y="543"/>
                    </a:lnTo>
                    <a:lnTo>
                      <a:pt x="3267" y="568"/>
                    </a:lnTo>
                    <a:lnTo>
                      <a:pt x="3249" y="591"/>
                    </a:lnTo>
                    <a:lnTo>
                      <a:pt x="3227" y="614"/>
                    </a:lnTo>
                    <a:lnTo>
                      <a:pt x="3201" y="636"/>
                    </a:lnTo>
                    <a:lnTo>
                      <a:pt x="3171" y="658"/>
                    </a:lnTo>
                    <a:lnTo>
                      <a:pt x="3138" y="680"/>
                    </a:lnTo>
                    <a:lnTo>
                      <a:pt x="3102" y="701"/>
                    </a:lnTo>
                    <a:lnTo>
                      <a:pt x="3061" y="721"/>
                    </a:lnTo>
                    <a:lnTo>
                      <a:pt x="3019" y="741"/>
                    </a:lnTo>
                    <a:lnTo>
                      <a:pt x="2972" y="760"/>
                    </a:lnTo>
                    <a:lnTo>
                      <a:pt x="2924" y="779"/>
                    </a:lnTo>
                    <a:lnTo>
                      <a:pt x="2872" y="797"/>
                    </a:lnTo>
                    <a:lnTo>
                      <a:pt x="2817" y="813"/>
                    </a:lnTo>
                    <a:lnTo>
                      <a:pt x="2760" y="829"/>
                    </a:lnTo>
                    <a:lnTo>
                      <a:pt x="2700" y="844"/>
                    </a:lnTo>
                    <a:lnTo>
                      <a:pt x="2638" y="859"/>
                    </a:lnTo>
                    <a:lnTo>
                      <a:pt x="2574" y="872"/>
                    </a:lnTo>
                    <a:lnTo>
                      <a:pt x="2506" y="886"/>
                    </a:lnTo>
                    <a:lnTo>
                      <a:pt x="2437" y="897"/>
                    </a:lnTo>
                    <a:lnTo>
                      <a:pt x="2365" y="908"/>
                    </a:lnTo>
                    <a:lnTo>
                      <a:pt x="2293" y="917"/>
                    </a:lnTo>
                    <a:lnTo>
                      <a:pt x="2218" y="926"/>
                    </a:lnTo>
                    <a:lnTo>
                      <a:pt x="2141" y="934"/>
                    </a:lnTo>
                    <a:lnTo>
                      <a:pt x="2063" y="940"/>
                    </a:lnTo>
                    <a:lnTo>
                      <a:pt x="1983" y="946"/>
                    </a:lnTo>
                    <a:lnTo>
                      <a:pt x="1902" y="950"/>
                    </a:lnTo>
                    <a:lnTo>
                      <a:pt x="1819" y="953"/>
                    </a:lnTo>
                    <a:lnTo>
                      <a:pt x="1735" y="955"/>
                    </a:lnTo>
                    <a:lnTo>
                      <a:pt x="1650" y="955"/>
                    </a:lnTo>
                    <a:lnTo>
                      <a:pt x="1566" y="955"/>
                    </a:lnTo>
                    <a:lnTo>
                      <a:pt x="1482" y="953"/>
                    </a:lnTo>
                    <a:lnTo>
                      <a:pt x="1399" y="950"/>
                    </a:lnTo>
                    <a:lnTo>
                      <a:pt x="1318" y="946"/>
                    </a:lnTo>
                    <a:lnTo>
                      <a:pt x="1238" y="940"/>
                    </a:lnTo>
                    <a:lnTo>
                      <a:pt x="1160" y="934"/>
                    </a:lnTo>
                    <a:lnTo>
                      <a:pt x="1083" y="926"/>
                    </a:lnTo>
                    <a:lnTo>
                      <a:pt x="1008" y="917"/>
                    </a:lnTo>
                    <a:lnTo>
                      <a:pt x="935" y="908"/>
                    </a:lnTo>
                    <a:lnTo>
                      <a:pt x="864" y="897"/>
                    </a:lnTo>
                    <a:lnTo>
                      <a:pt x="795" y="886"/>
                    </a:lnTo>
                    <a:lnTo>
                      <a:pt x="727" y="872"/>
                    </a:lnTo>
                    <a:lnTo>
                      <a:pt x="663" y="859"/>
                    </a:lnTo>
                    <a:lnTo>
                      <a:pt x="601" y="844"/>
                    </a:lnTo>
                    <a:lnTo>
                      <a:pt x="541" y="829"/>
                    </a:lnTo>
                    <a:lnTo>
                      <a:pt x="484" y="813"/>
                    </a:lnTo>
                    <a:lnTo>
                      <a:pt x="429" y="797"/>
                    </a:lnTo>
                    <a:lnTo>
                      <a:pt x="377" y="779"/>
                    </a:lnTo>
                    <a:lnTo>
                      <a:pt x="328" y="760"/>
                    </a:lnTo>
                    <a:lnTo>
                      <a:pt x="282" y="741"/>
                    </a:lnTo>
                    <a:lnTo>
                      <a:pt x="240" y="721"/>
                    </a:lnTo>
                    <a:lnTo>
                      <a:pt x="199" y="701"/>
                    </a:lnTo>
                    <a:lnTo>
                      <a:pt x="163" y="680"/>
                    </a:lnTo>
                    <a:lnTo>
                      <a:pt x="129" y="658"/>
                    </a:lnTo>
                    <a:lnTo>
                      <a:pt x="100" y="636"/>
                    </a:lnTo>
                    <a:lnTo>
                      <a:pt x="75" y="614"/>
                    </a:lnTo>
                    <a:lnTo>
                      <a:pt x="53" y="591"/>
                    </a:lnTo>
                    <a:lnTo>
                      <a:pt x="34" y="568"/>
                    </a:lnTo>
                    <a:lnTo>
                      <a:pt x="19" y="543"/>
                    </a:lnTo>
                    <a:lnTo>
                      <a:pt x="9" y="519"/>
                    </a:lnTo>
                    <a:lnTo>
                      <a:pt x="2" y="494"/>
                    </a:lnTo>
                    <a:lnTo>
                      <a:pt x="0" y="470"/>
                    </a:lnTo>
                    <a:lnTo>
                      <a:pt x="2" y="444"/>
                    </a:lnTo>
                    <a:lnTo>
                      <a:pt x="9" y="419"/>
                    </a:lnTo>
                    <a:lnTo>
                      <a:pt x="19" y="396"/>
                    </a:lnTo>
                    <a:lnTo>
                      <a:pt x="34" y="372"/>
                    </a:lnTo>
                    <a:lnTo>
                      <a:pt x="53" y="349"/>
                    </a:lnTo>
                    <a:lnTo>
                      <a:pt x="75" y="326"/>
                    </a:lnTo>
                    <a:lnTo>
                      <a:pt x="100" y="304"/>
                    </a:lnTo>
                    <a:lnTo>
                      <a:pt x="129" y="283"/>
                    </a:lnTo>
                    <a:lnTo>
                      <a:pt x="163" y="262"/>
                    </a:lnTo>
                    <a:lnTo>
                      <a:pt x="199" y="242"/>
                    </a:lnTo>
                    <a:lnTo>
                      <a:pt x="240" y="221"/>
                    </a:lnTo>
                    <a:lnTo>
                      <a:pt x="282" y="203"/>
                    </a:lnTo>
                    <a:lnTo>
                      <a:pt x="328" y="185"/>
                    </a:lnTo>
                    <a:lnTo>
                      <a:pt x="377" y="167"/>
                    </a:lnTo>
                    <a:lnTo>
                      <a:pt x="429" y="150"/>
                    </a:lnTo>
                    <a:lnTo>
                      <a:pt x="484" y="135"/>
                    </a:lnTo>
                    <a:lnTo>
                      <a:pt x="541" y="118"/>
                    </a:lnTo>
                    <a:lnTo>
                      <a:pt x="601" y="104"/>
                    </a:lnTo>
                    <a:lnTo>
                      <a:pt x="663" y="91"/>
                    </a:lnTo>
                    <a:lnTo>
                      <a:pt x="727" y="78"/>
                    </a:lnTo>
                    <a:lnTo>
                      <a:pt x="795" y="66"/>
                    </a:lnTo>
                    <a:lnTo>
                      <a:pt x="864" y="55"/>
                    </a:lnTo>
                    <a:lnTo>
                      <a:pt x="935" y="45"/>
                    </a:lnTo>
                    <a:lnTo>
                      <a:pt x="1008" y="36"/>
                    </a:lnTo>
                    <a:lnTo>
                      <a:pt x="1083" y="28"/>
                    </a:lnTo>
                    <a:lnTo>
                      <a:pt x="1160" y="20"/>
                    </a:lnTo>
                    <a:lnTo>
                      <a:pt x="1238" y="14"/>
                    </a:lnTo>
                    <a:lnTo>
                      <a:pt x="1318" y="9"/>
                    </a:lnTo>
                    <a:lnTo>
                      <a:pt x="1399" y="5"/>
                    </a:lnTo>
                    <a:lnTo>
                      <a:pt x="1482" y="2"/>
                    </a:lnTo>
                    <a:lnTo>
                      <a:pt x="1566" y="1"/>
                    </a:lnTo>
                    <a:lnTo>
                      <a:pt x="1650" y="0"/>
                    </a:lnTo>
                    <a:lnTo>
                      <a:pt x="1735" y="1"/>
                    </a:lnTo>
                    <a:lnTo>
                      <a:pt x="1819" y="2"/>
                    </a:lnTo>
                    <a:lnTo>
                      <a:pt x="1902" y="5"/>
                    </a:lnTo>
                    <a:lnTo>
                      <a:pt x="1983" y="9"/>
                    </a:lnTo>
                    <a:lnTo>
                      <a:pt x="2063" y="14"/>
                    </a:lnTo>
                    <a:lnTo>
                      <a:pt x="2141" y="20"/>
                    </a:lnTo>
                    <a:lnTo>
                      <a:pt x="2218" y="28"/>
                    </a:lnTo>
                    <a:lnTo>
                      <a:pt x="2293" y="36"/>
                    </a:lnTo>
                    <a:lnTo>
                      <a:pt x="2365" y="45"/>
                    </a:lnTo>
                    <a:lnTo>
                      <a:pt x="2437" y="55"/>
                    </a:lnTo>
                    <a:lnTo>
                      <a:pt x="2506" y="66"/>
                    </a:lnTo>
                    <a:lnTo>
                      <a:pt x="2574" y="78"/>
                    </a:lnTo>
                    <a:lnTo>
                      <a:pt x="2638" y="91"/>
                    </a:lnTo>
                    <a:lnTo>
                      <a:pt x="2700" y="104"/>
                    </a:lnTo>
                    <a:lnTo>
                      <a:pt x="2760" y="118"/>
                    </a:lnTo>
                    <a:lnTo>
                      <a:pt x="2817" y="135"/>
                    </a:lnTo>
                    <a:lnTo>
                      <a:pt x="2872" y="150"/>
                    </a:lnTo>
                    <a:lnTo>
                      <a:pt x="2924" y="167"/>
                    </a:lnTo>
                    <a:lnTo>
                      <a:pt x="2972" y="185"/>
                    </a:lnTo>
                    <a:lnTo>
                      <a:pt x="3019" y="203"/>
                    </a:lnTo>
                    <a:lnTo>
                      <a:pt x="3061" y="221"/>
                    </a:lnTo>
                    <a:lnTo>
                      <a:pt x="3102" y="242"/>
                    </a:lnTo>
                    <a:lnTo>
                      <a:pt x="3138" y="262"/>
                    </a:lnTo>
                    <a:lnTo>
                      <a:pt x="3171" y="283"/>
                    </a:lnTo>
                    <a:lnTo>
                      <a:pt x="3201" y="304"/>
                    </a:lnTo>
                    <a:lnTo>
                      <a:pt x="3227" y="326"/>
                    </a:lnTo>
                    <a:lnTo>
                      <a:pt x="3249" y="349"/>
                    </a:lnTo>
                    <a:lnTo>
                      <a:pt x="3267" y="372"/>
                    </a:lnTo>
                    <a:lnTo>
                      <a:pt x="3282" y="396"/>
                    </a:lnTo>
                    <a:lnTo>
                      <a:pt x="3293" y="419"/>
                    </a:lnTo>
                    <a:lnTo>
                      <a:pt x="3299" y="444"/>
                    </a:lnTo>
                    <a:lnTo>
                      <a:pt x="3301" y="4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66320" y="6501240"/>
                <a:ext cx="363600" cy="114120"/>
              </a:xfrm>
              <a:custGeom>
                <a:avLst/>
                <a:gdLst/>
                <a:ahLst/>
                <a:rect l="l" t="t" r="r" b="b"/>
                <a:pathLst>
                  <a:path w="3298" h="953">
                    <a:moveTo>
                      <a:pt x="3298" y="469"/>
                    </a:moveTo>
                    <a:lnTo>
                      <a:pt x="3295" y="493"/>
                    </a:lnTo>
                    <a:lnTo>
                      <a:pt x="3289" y="518"/>
                    </a:lnTo>
                    <a:lnTo>
                      <a:pt x="3278" y="542"/>
                    </a:lnTo>
                    <a:lnTo>
                      <a:pt x="3263" y="566"/>
                    </a:lnTo>
                    <a:lnTo>
                      <a:pt x="3245" y="590"/>
                    </a:lnTo>
                    <a:lnTo>
                      <a:pt x="3223" y="613"/>
                    </a:lnTo>
                    <a:lnTo>
                      <a:pt x="3198" y="635"/>
                    </a:lnTo>
                    <a:lnTo>
                      <a:pt x="3167" y="657"/>
                    </a:lnTo>
                    <a:lnTo>
                      <a:pt x="3135" y="679"/>
                    </a:lnTo>
                    <a:lnTo>
                      <a:pt x="3099" y="700"/>
                    </a:lnTo>
                    <a:lnTo>
                      <a:pt x="3058" y="720"/>
                    </a:lnTo>
                    <a:lnTo>
                      <a:pt x="3016" y="739"/>
                    </a:lnTo>
                    <a:lnTo>
                      <a:pt x="2969" y="758"/>
                    </a:lnTo>
                    <a:lnTo>
                      <a:pt x="2921" y="777"/>
                    </a:lnTo>
                    <a:lnTo>
                      <a:pt x="2868" y="795"/>
                    </a:lnTo>
                    <a:lnTo>
                      <a:pt x="2814" y="812"/>
                    </a:lnTo>
                    <a:lnTo>
                      <a:pt x="2757" y="828"/>
                    </a:lnTo>
                    <a:lnTo>
                      <a:pt x="2697" y="843"/>
                    </a:lnTo>
                    <a:lnTo>
                      <a:pt x="2635" y="857"/>
                    </a:lnTo>
                    <a:lnTo>
                      <a:pt x="2571" y="870"/>
                    </a:lnTo>
                    <a:lnTo>
                      <a:pt x="2504" y="884"/>
                    </a:lnTo>
                    <a:lnTo>
                      <a:pt x="2434" y="895"/>
                    </a:lnTo>
                    <a:lnTo>
                      <a:pt x="2363" y="906"/>
                    </a:lnTo>
                    <a:lnTo>
                      <a:pt x="2291" y="916"/>
                    </a:lnTo>
                    <a:lnTo>
                      <a:pt x="2215" y="924"/>
                    </a:lnTo>
                    <a:lnTo>
                      <a:pt x="2139" y="932"/>
                    </a:lnTo>
                    <a:lnTo>
                      <a:pt x="2061" y="938"/>
                    </a:lnTo>
                    <a:lnTo>
                      <a:pt x="1981" y="944"/>
                    </a:lnTo>
                    <a:lnTo>
                      <a:pt x="1900" y="948"/>
                    </a:lnTo>
                    <a:lnTo>
                      <a:pt x="1817" y="951"/>
                    </a:lnTo>
                    <a:lnTo>
                      <a:pt x="1733" y="953"/>
                    </a:lnTo>
                    <a:lnTo>
                      <a:pt x="1648" y="953"/>
                    </a:lnTo>
                    <a:lnTo>
                      <a:pt x="1564" y="953"/>
                    </a:lnTo>
                    <a:lnTo>
                      <a:pt x="1480" y="951"/>
                    </a:lnTo>
                    <a:lnTo>
                      <a:pt x="1397" y="948"/>
                    </a:lnTo>
                    <a:lnTo>
                      <a:pt x="1316" y="944"/>
                    </a:lnTo>
                    <a:lnTo>
                      <a:pt x="1236" y="938"/>
                    </a:lnTo>
                    <a:lnTo>
                      <a:pt x="1159" y="932"/>
                    </a:lnTo>
                    <a:lnTo>
                      <a:pt x="1082" y="924"/>
                    </a:lnTo>
                    <a:lnTo>
                      <a:pt x="1007" y="916"/>
                    </a:lnTo>
                    <a:lnTo>
                      <a:pt x="933" y="906"/>
                    </a:lnTo>
                    <a:lnTo>
                      <a:pt x="863" y="895"/>
                    </a:lnTo>
                    <a:lnTo>
                      <a:pt x="793" y="884"/>
                    </a:lnTo>
                    <a:lnTo>
                      <a:pt x="726" y="870"/>
                    </a:lnTo>
                    <a:lnTo>
                      <a:pt x="662" y="857"/>
                    </a:lnTo>
                    <a:lnTo>
                      <a:pt x="600" y="843"/>
                    </a:lnTo>
                    <a:lnTo>
                      <a:pt x="540" y="828"/>
                    </a:lnTo>
                    <a:lnTo>
                      <a:pt x="483" y="812"/>
                    </a:lnTo>
                    <a:lnTo>
                      <a:pt x="428" y="795"/>
                    </a:lnTo>
                    <a:lnTo>
                      <a:pt x="376" y="777"/>
                    </a:lnTo>
                    <a:lnTo>
                      <a:pt x="327" y="758"/>
                    </a:lnTo>
                    <a:lnTo>
                      <a:pt x="281" y="739"/>
                    </a:lnTo>
                    <a:lnTo>
                      <a:pt x="239" y="720"/>
                    </a:lnTo>
                    <a:lnTo>
                      <a:pt x="199" y="700"/>
                    </a:lnTo>
                    <a:lnTo>
                      <a:pt x="162" y="679"/>
                    </a:lnTo>
                    <a:lnTo>
                      <a:pt x="130" y="657"/>
                    </a:lnTo>
                    <a:lnTo>
                      <a:pt x="100" y="635"/>
                    </a:lnTo>
                    <a:lnTo>
                      <a:pt x="74" y="613"/>
                    </a:lnTo>
                    <a:lnTo>
                      <a:pt x="52" y="590"/>
                    </a:lnTo>
                    <a:lnTo>
                      <a:pt x="34" y="566"/>
                    </a:lnTo>
                    <a:lnTo>
                      <a:pt x="18" y="542"/>
                    </a:lnTo>
                    <a:lnTo>
                      <a:pt x="8" y="518"/>
                    </a:lnTo>
                    <a:lnTo>
                      <a:pt x="2" y="493"/>
                    </a:lnTo>
                    <a:lnTo>
                      <a:pt x="0" y="469"/>
                    </a:lnTo>
                    <a:lnTo>
                      <a:pt x="2" y="443"/>
                    </a:lnTo>
                    <a:lnTo>
                      <a:pt x="8" y="419"/>
                    </a:lnTo>
                    <a:lnTo>
                      <a:pt x="18" y="395"/>
                    </a:lnTo>
                    <a:lnTo>
                      <a:pt x="34" y="371"/>
                    </a:lnTo>
                    <a:lnTo>
                      <a:pt x="52" y="348"/>
                    </a:lnTo>
                    <a:lnTo>
                      <a:pt x="74" y="325"/>
                    </a:lnTo>
                    <a:lnTo>
                      <a:pt x="100" y="303"/>
                    </a:lnTo>
                    <a:lnTo>
                      <a:pt x="130" y="282"/>
                    </a:lnTo>
                    <a:lnTo>
                      <a:pt x="162" y="261"/>
                    </a:lnTo>
                    <a:lnTo>
                      <a:pt x="199" y="241"/>
                    </a:lnTo>
                    <a:lnTo>
                      <a:pt x="239" y="221"/>
                    </a:lnTo>
                    <a:lnTo>
                      <a:pt x="281" y="202"/>
                    </a:lnTo>
                    <a:lnTo>
                      <a:pt x="327" y="184"/>
                    </a:lnTo>
                    <a:lnTo>
                      <a:pt x="376" y="167"/>
                    </a:lnTo>
                    <a:lnTo>
                      <a:pt x="428" y="150"/>
                    </a:lnTo>
                    <a:lnTo>
                      <a:pt x="483" y="134"/>
                    </a:lnTo>
                    <a:lnTo>
                      <a:pt x="540" y="118"/>
                    </a:lnTo>
                    <a:lnTo>
                      <a:pt x="600" y="104"/>
                    </a:lnTo>
                    <a:lnTo>
                      <a:pt x="662" y="90"/>
                    </a:lnTo>
                    <a:lnTo>
                      <a:pt x="726" y="78"/>
                    </a:lnTo>
                    <a:lnTo>
                      <a:pt x="793" y="66"/>
                    </a:lnTo>
                    <a:lnTo>
                      <a:pt x="863" y="55"/>
                    </a:lnTo>
                    <a:lnTo>
                      <a:pt x="933" y="45"/>
                    </a:lnTo>
                    <a:lnTo>
                      <a:pt x="1007" y="36"/>
                    </a:lnTo>
                    <a:lnTo>
                      <a:pt x="1082" y="28"/>
                    </a:lnTo>
                    <a:lnTo>
                      <a:pt x="1159" y="20"/>
                    </a:lnTo>
                    <a:lnTo>
                      <a:pt x="1236" y="14"/>
                    </a:lnTo>
                    <a:lnTo>
                      <a:pt x="1316" y="9"/>
                    </a:lnTo>
                    <a:lnTo>
                      <a:pt x="1397" y="5"/>
                    </a:lnTo>
                    <a:lnTo>
                      <a:pt x="1480" y="2"/>
                    </a:lnTo>
                    <a:lnTo>
                      <a:pt x="1564" y="1"/>
                    </a:lnTo>
                    <a:lnTo>
                      <a:pt x="1648" y="0"/>
                    </a:lnTo>
                    <a:lnTo>
                      <a:pt x="1733" y="1"/>
                    </a:lnTo>
                    <a:lnTo>
                      <a:pt x="1817" y="2"/>
                    </a:lnTo>
                    <a:lnTo>
                      <a:pt x="1900" y="5"/>
                    </a:lnTo>
                    <a:lnTo>
                      <a:pt x="1981" y="9"/>
                    </a:lnTo>
                    <a:lnTo>
                      <a:pt x="2061" y="14"/>
                    </a:lnTo>
                    <a:lnTo>
                      <a:pt x="2139" y="20"/>
                    </a:lnTo>
                    <a:lnTo>
                      <a:pt x="2215" y="28"/>
                    </a:lnTo>
                    <a:lnTo>
                      <a:pt x="2291" y="36"/>
                    </a:lnTo>
                    <a:lnTo>
                      <a:pt x="2363" y="45"/>
                    </a:lnTo>
                    <a:lnTo>
                      <a:pt x="2434" y="55"/>
                    </a:lnTo>
                    <a:lnTo>
                      <a:pt x="2504" y="66"/>
                    </a:lnTo>
                    <a:lnTo>
                      <a:pt x="2571" y="78"/>
                    </a:lnTo>
                    <a:lnTo>
                      <a:pt x="2635" y="90"/>
                    </a:lnTo>
                    <a:lnTo>
                      <a:pt x="2697" y="104"/>
                    </a:lnTo>
                    <a:lnTo>
                      <a:pt x="2757" y="118"/>
                    </a:lnTo>
                    <a:lnTo>
                      <a:pt x="2814" y="134"/>
                    </a:lnTo>
                    <a:lnTo>
                      <a:pt x="2868" y="150"/>
                    </a:lnTo>
                    <a:lnTo>
                      <a:pt x="2921" y="167"/>
                    </a:lnTo>
                    <a:lnTo>
                      <a:pt x="2969" y="184"/>
                    </a:lnTo>
                    <a:lnTo>
                      <a:pt x="3016" y="202"/>
                    </a:lnTo>
                    <a:lnTo>
                      <a:pt x="3058" y="221"/>
                    </a:lnTo>
                    <a:lnTo>
                      <a:pt x="3099" y="241"/>
                    </a:lnTo>
                    <a:lnTo>
                      <a:pt x="3135" y="261"/>
                    </a:lnTo>
                    <a:lnTo>
                      <a:pt x="3167" y="282"/>
                    </a:lnTo>
                    <a:lnTo>
                      <a:pt x="3198" y="303"/>
                    </a:lnTo>
                    <a:lnTo>
                      <a:pt x="3223" y="325"/>
                    </a:lnTo>
                    <a:lnTo>
                      <a:pt x="3245" y="348"/>
                    </a:lnTo>
                    <a:lnTo>
                      <a:pt x="3263" y="371"/>
                    </a:lnTo>
                    <a:lnTo>
                      <a:pt x="3278" y="395"/>
                    </a:lnTo>
                    <a:lnTo>
                      <a:pt x="3289" y="419"/>
                    </a:lnTo>
                    <a:lnTo>
                      <a:pt x="3295" y="443"/>
                    </a:lnTo>
                    <a:lnTo>
                      <a:pt x="3298" y="4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66320" y="6502320"/>
                <a:ext cx="363600" cy="113040"/>
              </a:xfrm>
              <a:custGeom>
                <a:avLst/>
                <a:gdLst/>
                <a:ahLst/>
                <a:rect l="l" t="t" r="r" b="b"/>
                <a:pathLst>
                  <a:path w="3295" h="952">
                    <a:moveTo>
                      <a:pt x="3295" y="468"/>
                    </a:moveTo>
                    <a:lnTo>
                      <a:pt x="3293" y="492"/>
                    </a:lnTo>
                    <a:lnTo>
                      <a:pt x="3287" y="517"/>
                    </a:lnTo>
                    <a:lnTo>
                      <a:pt x="3275" y="541"/>
                    </a:lnTo>
                    <a:lnTo>
                      <a:pt x="3261" y="565"/>
                    </a:lnTo>
                    <a:lnTo>
                      <a:pt x="3243" y="589"/>
                    </a:lnTo>
                    <a:lnTo>
                      <a:pt x="3221" y="611"/>
                    </a:lnTo>
                    <a:lnTo>
                      <a:pt x="3195" y="634"/>
                    </a:lnTo>
                    <a:lnTo>
                      <a:pt x="3165" y="655"/>
                    </a:lnTo>
                    <a:lnTo>
                      <a:pt x="3132" y="678"/>
                    </a:lnTo>
                    <a:lnTo>
                      <a:pt x="3096" y="698"/>
                    </a:lnTo>
                    <a:lnTo>
                      <a:pt x="3056" y="718"/>
                    </a:lnTo>
                    <a:lnTo>
                      <a:pt x="3014" y="738"/>
                    </a:lnTo>
                    <a:lnTo>
                      <a:pt x="2967" y="757"/>
                    </a:lnTo>
                    <a:lnTo>
                      <a:pt x="2919" y="776"/>
                    </a:lnTo>
                    <a:lnTo>
                      <a:pt x="2866" y="793"/>
                    </a:lnTo>
                    <a:lnTo>
                      <a:pt x="2812" y="810"/>
                    </a:lnTo>
                    <a:lnTo>
                      <a:pt x="2755" y="826"/>
                    </a:lnTo>
                    <a:lnTo>
                      <a:pt x="2696" y="841"/>
                    </a:lnTo>
                    <a:lnTo>
                      <a:pt x="2633" y="855"/>
                    </a:lnTo>
                    <a:lnTo>
                      <a:pt x="2569" y="869"/>
                    </a:lnTo>
                    <a:lnTo>
                      <a:pt x="2502" y="882"/>
                    </a:lnTo>
                    <a:lnTo>
                      <a:pt x="2433" y="894"/>
                    </a:lnTo>
                    <a:lnTo>
                      <a:pt x="2361" y="904"/>
                    </a:lnTo>
                    <a:lnTo>
                      <a:pt x="2289" y="914"/>
                    </a:lnTo>
                    <a:lnTo>
                      <a:pt x="2214" y="922"/>
                    </a:lnTo>
                    <a:lnTo>
                      <a:pt x="2137" y="930"/>
                    </a:lnTo>
                    <a:lnTo>
                      <a:pt x="2060" y="936"/>
                    </a:lnTo>
                    <a:lnTo>
                      <a:pt x="1980" y="942"/>
                    </a:lnTo>
                    <a:lnTo>
                      <a:pt x="1898" y="946"/>
                    </a:lnTo>
                    <a:lnTo>
                      <a:pt x="1816" y="949"/>
                    </a:lnTo>
                    <a:lnTo>
                      <a:pt x="1732" y="951"/>
                    </a:lnTo>
                    <a:lnTo>
                      <a:pt x="1647" y="952"/>
                    </a:lnTo>
                    <a:lnTo>
                      <a:pt x="1563" y="951"/>
                    </a:lnTo>
                    <a:lnTo>
                      <a:pt x="1479" y="949"/>
                    </a:lnTo>
                    <a:lnTo>
                      <a:pt x="1397" y="946"/>
                    </a:lnTo>
                    <a:lnTo>
                      <a:pt x="1315" y="942"/>
                    </a:lnTo>
                    <a:lnTo>
                      <a:pt x="1235" y="936"/>
                    </a:lnTo>
                    <a:lnTo>
                      <a:pt x="1158" y="930"/>
                    </a:lnTo>
                    <a:lnTo>
                      <a:pt x="1081" y="922"/>
                    </a:lnTo>
                    <a:lnTo>
                      <a:pt x="1006" y="914"/>
                    </a:lnTo>
                    <a:lnTo>
                      <a:pt x="933" y="904"/>
                    </a:lnTo>
                    <a:lnTo>
                      <a:pt x="863" y="894"/>
                    </a:lnTo>
                    <a:lnTo>
                      <a:pt x="793" y="882"/>
                    </a:lnTo>
                    <a:lnTo>
                      <a:pt x="726" y="869"/>
                    </a:lnTo>
                    <a:lnTo>
                      <a:pt x="662" y="855"/>
                    </a:lnTo>
                    <a:lnTo>
                      <a:pt x="600" y="841"/>
                    </a:lnTo>
                    <a:lnTo>
                      <a:pt x="540" y="826"/>
                    </a:lnTo>
                    <a:lnTo>
                      <a:pt x="483" y="810"/>
                    </a:lnTo>
                    <a:lnTo>
                      <a:pt x="428" y="793"/>
                    </a:lnTo>
                    <a:lnTo>
                      <a:pt x="376" y="776"/>
                    </a:lnTo>
                    <a:lnTo>
                      <a:pt x="327" y="757"/>
                    </a:lnTo>
                    <a:lnTo>
                      <a:pt x="282" y="738"/>
                    </a:lnTo>
                    <a:lnTo>
                      <a:pt x="239" y="718"/>
                    </a:lnTo>
                    <a:lnTo>
                      <a:pt x="199" y="698"/>
                    </a:lnTo>
                    <a:lnTo>
                      <a:pt x="163" y="678"/>
                    </a:lnTo>
                    <a:lnTo>
                      <a:pt x="130" y="655"/>
                    </a:lnTo>
                    <a:lnTo>
                      <a:pt x="100" y="634"/>
                    </a:lnTo>
                    <a:lnTo>
                      <a:pt x="74" y="611"/>
                    </a:lnTo>
                    <a:lnTo>
                      <a:pt x="52" y="589"/>
                    </a:lnTo>
                    <a:lnTo>
                      <a:pt x="34" y="565"/>
                    </a:lnTo>
                    <a:lnTo>
                      <a:pt x="19" y="541"/>
                    </a:lnTo>
                    <a:lnTo>
                      <a:pt x="8" y="517"/>
                    </a:lnTo>
                    <a:lnTo>
                      <a:pt x="2" y="492"/>
                    </a:lnTo>
                    <a:lnTo>
                      <a:pt x="0" y="468"/>
                    </a:lnTo>
                    <a:lnTo>
                      <a:pt x="2" y="442"/>
                    </a:lnTo>
                    <a:lnTo>
                      <a:pt x="8" y="418"/>
                    </a:lnTo>
                    <a:lnTo>
                      <a:pt x="19" y="394"/>
                    </a:lnTo>
                    <a:lnTo>
                      <a:pt x="34" y="371"/>
                    </a:lnTo>
                    <a:lnTo>
                      <a:pt x="52" y="348"/>
                    </a:lnTo>
                    <a:lnTo>
                      <a:pt x="74" y="324"/>
                    </a:lnTo>
                    <a:lnTo>
                      <a:pt x="100" y="303"/>
                    </a:lnTo>
                    <a:lnTo>
                      <a:pt x="130" y="281"/>
                    </a:lnTo>
                    <a:lnTo>
                      <a:pt x="163" y="261"/>
                    </a:lnTo>
                    <a:lnTo>
                      <a:pt x="199" y="241"/>
                    </a:lnTo>
                    <a:lnTo>
                      <a:pt x="239" y="220"/>
                    </a:lnTo>
                    <a:lnTo>
                      <a:pt x="282" y="202"/>
                    </a:lnTo>
                    <a:lnTo>
                      <a:pt x="327" y="184"/>
                    </a:lnTo>
                    <a:lnTo>
                      <a:pt x="376" y="166"/>
                    </a:lnTo>
                    <a:lnTo>
                      <a:pt x="428" y="150"/>
                    </a:lnTo>
                    <a:lnTo>
                      <a:pt x="483" y="134"/>
                    </a:lnTo>
                    <a:lnTo>
                      <a:pt x="540" y="118"/>
                    </a:lnTo>
                    <a:lnTo>
                      <a:pt x="600" y="104"/>
                    </a:lnTo>
                    <a:lnTo>
                      <a:pt x="662" y="90"/>
                    </a:lnTo>
                    <a:lnTo>
                      <a:pt x="726" y="77"/>
                    </a:lnTo>
                    <a:lnTo>
                      <a:pt x="793" y="66"/>
                    </a:lnTo>
                    <a:lnTo>
                      <a:pt x="863" y="55"/>
                    </a:lnTo>
                    <a:lnTo>
                      <a:pt x="933" y="45"/>
                    </a:lnTo>
                    <a:lnTo>
                      <a:pt x="1006" y="36"/>
                    </a:lnTo>
                    <a:lnTo>
                      <a:pt x="1081" y="28"/>
                    </a:lnTo>
                    <a:lnTo>
                      <a:pt x="1158" y="20"/>
                    </a:lnTo>
                    <a:lnTo>
                      <a:pt x="1235" y="14"/>
                    </a:lnTo>
                    <a:lnTo>
                      <a:pt x="1315" y="9"/>
                    </a:lnTo>
                    <a:lnTo>
                      <a:pt x="1397" y="5"/>
                    </a:lnTo>
                    <a:lnTo>
                      <a:pt x="1479" y="2"/>
                    </a:lnTo>
                    <a:lnTo>
                      <a:pt x="1563" y="1"/>
                    </a:lnTo>
                    <a:lnTo>
                      <a:pt x="1647" y="0"/>
                    </a:lnTo>
                    <a:lnTo>
                      <a:pt x="1732" y="1"/>
                    </a:lnTo>
                    <a:lnTo>
                      <a:pt x="1816" y="2"/>
                    </a:lnTo>
                    <a:lnTo>
                      <a:pt x="1898" y="5"/>
                    </a:lnTo>
                    <a:lnTo>
                      <a:pt x="1980" y="9"/>
                    </a:lnTo>
                    <a:lnTo>
                      <a:pt x="2060" y="14"/>
                    </a:lnTo>
                    <a:lnTo>
                      <a:pt x="2137" y="20"/>
                    </a:lnTo>
                    <a:lnTo>
                      <a:pt x="2214" y="28"/>
                    </a:lnTo>
                    <a:lnTo>
                      <a:pt x="2289" y="36"/>
                    </a:lnTo>
                    <a:lnTo>
                      <a:pt x="2361" y="45"/>
                    </a:lnTo>
                    <a:lnTo>
                      <a:pt x="2433" y="55"/>
                    </a:lnTo>
                    <a:lnTo>
                      <a:pt x="2502" y="66"/>
                    </a:lnTo>
                    <a:lnTo>
                      <a:pt x="2569" y="77"/>
                    </a:lnTo>
                    <a:lnTo>
                      <a:pt x="2633" y="90"/>
                    </a:lnTo>
                    <a:lnTo>
                      <a:pt x="2696" y="104"/>
                    </a:lnTo>
                    <a:lnTo>
                      <a:pt x="2755" y="118"/>
                    </a:lnTo>
                    <a:lnTo>
                      <a:pt x="2812" y="134"/>
                    </a:lnTo>
                    <a:lnTo>
                      <a:pt x="2866" y="150"/>
                    </a:lnTo>
                    <a:lnTo>
                      <a:pt x="2919" y="166"/>
                    </a:lnTo>
                    <a:lnTo>
                      <a:pt x="2967" y="184"/>
                    </a:lnTo>
                    <a:lnTo>
                      <a:pt x="3014" y="202"/>
                    </a:lnTo>
                    <a:lnTo>
                      <a:pt x="3056" y="220"/>
                    </a:lnTo>
                    <a:lnTo>
                      <a:pt x="3096" y="241"/>
                    </a:lnTo>
                    <a:lnTo>
                      <a:pt x="3132" y="261"/>
                    </a:lnTo>
                    <a:lnTo>
                      <a:pt x="3165" y="281"/>
                    </a:lnTo>
                    <a:lnTo>
                      <a:pt x="3195" y="303"/>
                    </a:lnTo>
                    <a:lnTo>
                      <a:pt x="3221" y="324"/>
                    </a:lnTo>
                    <a:lnTo>
                      <a:pt x="3243" y="348"/>
                    </a:lnTo>
                    <a:lnTo>
                      <a:pt x="3261" y="371"/>
                    </a:lnTo>
                    <a:lnTo>
                      <a:pt x="3275" y="394"/>
                    </a:lnTo>
                    <a:lnTo>
                      <a:pt x="3287" y="418"/>
                    </a:lnTo>
                    <a:lnTo>
                      <a:pt x="3293" y="442"/>
                    </a:lnTo>
                    <a:lnTo>
                      <a:pt x="3295" y="4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966320" y="6502320"/>
                <a:ext cx="363600" cy="113040"/>
              </a:xfrm>
              <a:custGeom>
                <a:avLst/>
                <a:gdLst/>
                <a:ahLst/>
                <a:rect l="l" t="t" r="r" b="b"/>
                <a:pathLst>
                  <a:path w="3293" h="950">
                    <a:moveTo>
                      <a:pt x="3293" y="467"/>
                    </a:moveTo>
                    <a:lnTo>
                      <a:pt x="3291" y="491"/>
                    </a:lnTo>
                    <a:lnTo>
                      <a:pt x="3284" y="516"/>
                    </a:lnTo>
                    <a:lnTo>
                      <a:pt x="3273" y="540"/>
                    </a:lnTo>
                    <a:lnTo>
                      <a:pt x="3259" y="564"/>
                    </a:lnTo>
                    <a:lnTo>
                      <a:pt x="3240" y="587"/>
                    </a:lnTo>
                    <a:lnTo>
                      <a:pt x="3219" y="610"/>
                    </a:lnTo>
                    <a:lnTo>
                      <a:pt x="3193" y="632"/>
                    </a:lnTo>
                    <a:lnTo>
                      <a:pt x="3163" y="654"/>
                    </a:lnTo>
                    <a:lnTo>
                      <a:pt x="3130" y="676"/>
                    </a:lnTo>
                    <a:lnTo>
                      <a:pt x="3094" y="697"/>
                    </a:lnTo>
                    <a:lnTo>
                      <a:pt x="3054" y="717"/>
                    </a:lnTo>
                    <a:lnTo>
                      <a:pt x="3011" y="736"/>
                    </a:lnTo>
                    <a:lnTo>
                      <a:pt x="2965" y="755"/>
                    </a:lnTo>
                    <a:lnTo>
                      <a:pt x="2917" y="774"/>
                    </a:lnTo>
                    <a:lnTo>
                      <a:pt x="2864" y="792"/>
                    </a:lnTo>
                    <a:lnTo>
                      <a:pt x="2810" y="808"/>
                    </a:lnTo>
                    <a:lnTo>
                      <a:pt x="2753" y="824"/>
                    </a:lnTo>
                    <a:lnTo>
                      <a:pt x="2694" y="839"/>
                    </a:lnTo>
                    <a:lnTo>
                      <a:pt x="2631" y="853"/>
                    </a:lnTo>
                    <a:lnTo>
                      <a:pt x="2567" y="867"/>
                    </a:lnTo>
                    <a:lnTo>
                      <a:pt x="2500" y="880"/>
                    </a:lnTo>
                    <a:lnTo>
                      <a:pt x="2431" y="892"/>
                    </a:lnTo>
                    <a:lnTo>
                      <a:pt x="2360" y="902"/>
                    </a:lnTo>
                    <a:lnTo>
                      <a:pt x="2287" y="912"/>
                    </a:lnTo>
                    <a:lnTo>
                      <a:pt x="2212" y="921"/>
                    </a:lnTo>
                    <a:lnTo>
                      <a:pt x="2136" y="928"/>
                    </a:lnTo>
                    <a:lnTo>
                      <a:pt x="2058" y="935"/>
                    </a:lnTo>
                    <a:lnTo>
                      <a:pt x="1979" y="940"/>
                    </a:lnTo>
                    <a:lnTo>
                      <a:pt x="1897" y="944"/>
                    </a:lnTo>
                    <a:lnTo>
                      <a:pt x="1815" y="947"/>
                    </a:lnTo>
                    <a:lnTo>
                      <a:pt x="1731" y="949"/>
                    </a:lnTo>
                    <a:lnTo>
                      <a:pt x="1646" y="950"/>
                    </a:lnTo>
                    <a:lnTo>
                      <a:pt x="1562" y="949"/>
                    </a:lnTo>
                    <a:lnTo>
                      <a:pt x="1478" y="947"/>
                    </a:lnTo>
                    <a:lnTo>
                      <a:pt x="1396" y="944"/>
                    </a:lnTo>
                    <a:lnTo>
                      <a:pt x="1315" y="940"/>
                    </a:lnTo>
                    <a:lnTo>
                      <a:pt x="1235" y="935"/>
                    </a:lnTo>
                    <a:lnTo>
                      <a:pt x="1157" y="928"/>
                    </a:lnTo>
                    <a:lnTo>
                      <a:pt x="1081" y="921"/>
                    </a:lnTo>
                    <a:lnTo>
                      <a:pt x="1006" y="912"/>
                    </a:lnTo>
                    <a:lnTo>
                      <a:pt x="932" y="902"/>
                    </a:lnTo>
                    <a:lnTo>
                      <a:pt x="862" y="892"/>
                    </a:lnTo>
                    <a:lnTo>
                      <a:pt x="793" y="880"/>
                    </a:lnTo>
                    <a:lnTo>
                      <a:pt x="726" y="867"/>
                    </a:lnTo>
                    <a:lnTo>
                      <a:pt x="662" y="853"/>
                    </a:lnTo>
                    <a:lnTo>
                      <a:pt x="599" y="839"/>
                    </a:lnTo>
                    <a:lnTo>
                      <a:pt x="540" y="824"/>
                    </a:lnTo>
                    <a:lnTo>
                      <a:pt x="483" y="808"/>
                    </a:lnTo>
                    <a:lnTo>
                      <a:pt x="428" y="792"/>
                    </a:lnTo>
                    <a:lnTo>
                      <a:pt x="376" y="774"/>
                    </a:lnTo>
                    <a:lnTo>
                      <a:pt x="327" y="755"/>
                    </a:lnTo>
                    <a:lnTo>
                      <a:pt x="282" y="736"/>
                    </a:lnTo>
                    <a:lnTo>
                      <a:pt x="239" y="717"/>
                    </a:lnTo>
                    <a:lnTo>
                      <a:pt x="199" y="697"/>
                    </a:lnTo>
                    <a:lnTo>
                      <a:pt x="163" y="676"/>
                    </a:lnTo>
                    <a:lnTo>
                      <a:pt x="130" y="654"/>
                    </a:lnTo>
                    <a:lnTo>
                      <a:pt x="100" y="632"/>
                    </a:lnTo>
                    <a:lnTo>
                      <a:pt x="75" y="610"/>
                    </a:lnTo>
                    <a:lnTo>
                      <a:pt x="53" y="587"/>
                    </a:lnTo>
                    <a:lnTo>
                      <a:pt x="34" y="564"/>
                    </a:lnTo>
                    <a:lnTo>
                      <a:pt x="19" y="540"/>
                    </a:lnTo>
                    <a:lnTo>
                      <a:pt x="9" y="516"/>
                    </a:lnTo>
                    <a:lnTo>
                      <a:pt x="2" y="491"/>
                    </a:lnTo>
                    <a:lnTo>
                      <a:pt x="0" y="467"/>
                    </a:lnTo>
                    <a:lnTo>
                      <a:pt x="2" y="441"/>
                    </a:lnTo>
                    <a:lnTo>
                      <a:pt x="9" y="417"/>
                    </a:lnTo>
                    <a:lnTo>
                      <a:pt x="19" y="393"/>
                    </a:lnTo>
                    <a:lnTo>
                      <a:pt x="34" y="370"/>
                    </a:lnTo>
                    <a:lnTo>
                      <a:pt x="53" y="347"/>
                    </a:lnTo>
                    <a:lnTo>
                      <a:pt x="75" y="324"/>
                    </a:lnTo>
                    <a:lnTo>
                      <a:pt x="100" y="302"/>
                    </a:lnTo>
                    <a:lnTo>
                      <a:pt x="130" y="281"/>
                    </a:lnTo>
                    <a:lnTo>
                      <a:pt x="163" y="260"/>
                    </a:lnTo>
                    <a:lnTo>
                      <a:pt x="199" y="240"/>
                    </a:lnTo>
                    <a:lnTo>
                      <a:pt x="239" y="220"/>
                    </a:lnTo>
                    <a:lnTo>
                      <a:pt x="282" y="201"/>
                    </a:lnTo>
                    <a:lnTo>
                      <a:pt x="327" y="183"/>
                    </a:lnTo>
                    <a:lnTo>
                      <a:pt x="376" y="166"/>
                    </a:lnTo>
                    <a:lnTo>
                      <a:pt x="428" y="149"/>
                    </a:lnTo>
                    <a:lnTo>
                      <a:pt x="483" y="134"/>
                    </a:lnTo>
                    <a:lnTo>
                      <a:pt x="540" y="117"/>
                    </a:lnTo>
                    <a:lnTo>
                      <a:pt x="599" y="103"/>
                    </a:lnTo>
                    <a:lnTo>
                      <a:pt x="662" y="90"/>
                    </a:lnTo>
                    <a:lnTo>
                      <a:pt x="726" y="77"/>
                    </a:lnTo>
                    <a:lnTo>
                      <a:pt x="793" y="66"/>
                    </a:lnTo>
                    <a:lnTo>
                      <a:pt x="862" y="55"/>
                    </a:lnTo>
                    <a:lnTo>
                      <a:pt x="932" y="45"/>
                    </a:lnTo>
                    <a:lnTo>
                      <a:pt x="1006" y="36"/>
                    </a:lnTo>
                    <a:lnTo>
                      <a:pt x="1081" y="28"/>
                    </a:lnTo>
                    <a:lnTo>
                      <a:pt x="1157" y="20"/>
                    </a:lnTo>
                    <a:lnTo>
                      <a:pt x="1235" y="14"/>
                    </a:lnTo>
                    <a:lnTo>
                      <a:pt x="1315" y="9"/>
                    </a:lnTo>
                    <a:lnTo>
                      <a:pt x="1396" y="5"/>
                    </a:lnTo>
                    <a:lnTo>
                      <a:pt x="1478" y="2"/>
                    </a:lnTo>
                    <a:lnTo>
                      <a:pt x="1562" y="1"/>
                    </a:lnTo>
                    <a:lnTo>
                      <a:pt x="1646" y="0"/>
                    </a:lnTo>
                    <a:lnTo>
                      <a:pt x="1731" y="1"/>
                    </a:lnTo>
                    <a:lnTo>
                      <a:pt x="1815" y="2"/>
                    </a:lnTo>
                    <a:lnTo>
                      <a:pt x="1897" y="5"/>
                    </a:lnTo>
                    <a:lnTo>
                      <a:pt x="1979" y="9"/>
                    </a:lnTo>
                    <a:lnTo>
                      <a:pt x="2058" y="14"/>
                    </a:lnTo>
                    <a:lnTo>
                      <a:pt x="2136" y="20"/>
                    </a:lnTo>
                    <a:lnTo>
                      <a:pt x="2212" y="28"/>
                    </a:lnTo>
                    <a:lnTo>
                      <a:pt x="2287" y="36"/>
                    </a:lnTo>
                    <a:lnTo>
                      <a:pt x="2360" y="45"/>
                    </a:lnTo>
                    <a:lnTo>
                      <a:pt x="2431" y="55"/>
                    </a:lnTo>
                    <a:lnTo>
                      <a:pt x="2500" y="66"/>
                    </a:lnTo>
                    <a:lnTo>
                      <a:pt x="2567" y="77"/>
                    </a:lnTo>
                    <a:lnTo>
                      <a:pt x="2631" y="90"/>
                    </a:lnTo>
                    <a:lnTo>
                      <a:pt x="2694" y="103"/>
                    </a:lnTo>
                    <a:lnTo>
                      <a:pt x="2753" y="117"/>
                    </a:lnTo>
                    <a:lnTo>
                      <a:pt x="2810" y="134"/>
                    </a:lnTo>
                    <a:lnTo>
                      <a:pt x="2864" y="149"/>
                    </a:lnTo>
                    <a:lnTo>
                      <a:pt x="2917" y="166"/>
                    </a:lnTo>
                    <a:lnTo>
                      <a:pt x="2965" y="183"/>
                    </a:lnTo>
                    <a:lnTo>
                      <a:pt x="3011" y="201"/>
                    </a:lnTo>
                    <a:lnTo>
                      <a:pt x="3054" y="220"/>
                    </a:lnTo>
                    <a:lnTo>
                      <a:pt x="3094" y="240"/>
                    </a:lnTo>
                    <a:lnTo>
                      <a:pt x="3130" y="260"/>
                    </a:lnTo>
                    <a:lnTo>
                      <a:pt x="3163" y="281"/>
                    </a:lnTo>
                    <a:lnTo>
                      <a:pt x="3193" y="302"/>
                    </a:lnTo>
                    <a:lnTo>
                      <a:pt x="3219" y="324"/>
                    </a:lnTo>
                    <a:lnTo>
                      <a:pt x="3240" y="347"/>
                    </a:lnTo>
                    <a:lnTo>
                      <a:pt x="3259" y="370"/>
                    </a:lnTo>
                    <a:lnTo>
                      <a:pt x="3273" y="393"/>
                    </a:lnTo>
                    <a:lnTo>
                      <a:pt x="3284" y="417"/>
                    </a:lnTo>
                    <a:lnTo>
                      <a:pt x="3291" y="441"/>
                    </a:lnTo>
                    <a:lnTo>
                      <a:pt x="3293" y="4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966320" y="6502320"/>
                <a:ext cx="362520" cy="113040"/>
              </a:xfrm>
              <a:custGeom>
                <a:avLst/>
                <a:gdLst/>
                <a:ahLst/>
                <a:rect l="l" t="t" r="r" b="b"/>
                <a:pathLst>
                  <a:path w="3289" h="948">
                    <a:moveTo>
                      <a:pt x="3289" y="466"/>
                    </a:moveTo>
                    <a:lnTo>
                      <a:pt x="3287" y="490"/>
                    </a:lnTo>
                    <a:lnTo>
                      <a:pt x="3281" y="514"/>
                    </a:lnTo>
                    <a:lnTo>
                      <a:pt x="3270" y="538"/>
                    </a:lnTo>
                    <a:lnTo>
                      <a:pt x="3255" y="563"/>
                    </a:lnTo>
                    <a:lnTo>
                      <a:pt x="3237" y="586"/>
                    </a:lnTo>
                    <a:lnTo>
                      <a:pt x="3215" y="609"/>
                    </a:lnTo>
                    <a:lnTo>
                      <a:pt x="3190" y="631"/>
                    </a:lnTo>
                    <a:lnTo>
                      <a:pt x="3159" y="653"/>
                    </a:lnTo>
                    <a:lnTo>
                      <a:pt x="3127" y="675"/>
                    </a:lnTo>
                    <a:lnTo>
                      <a:pt x="3091" y="695"/>
                    </a:lnTo>
                    <a:lnTo>
                      <a:pt x="3051" y="716"/>
                    </a:lnTo>
                    <a:lnTo>
                      <a:pt x="3008" y="735"/>
                    </a:lnTo>
                    <a:lnTo>
                      <a:pt x="2962" y="754"/>
                    </a:lnTo>
                    <a:lnTo>
                      <a:pt x="2913" y="773"/>
                    </a:lnTo>
                    <a:lnTo>
                      <a:pt x="2861" y="790"/>
                    </a:lnTo>
                    <a:lnTo>
                      <a:pt x="2807" y="807"/>
                    </a:lnTo>
                    <a:lnTo>
                      <a:pt x="2750" y="823"/>
                    </a:lnTo>
                    <a:lnTo>
                      <a:pt x="2691" y="838"/>
                    </a:lnTo>
                    <a:lnTo>
                      <a:pt x="2628" y="852"/>
                    </a:lnTo>
                    <a:lnTo>
                      <a:pt x="2564" y="865"/>
                    </a:lnTo>
                    <a:lnTo>
                      <a:pt x="2497" y="878"/>
                    </a:lnTo>
                    <a:lnTo>
                      <a:pt x="2428" y="890"/>
                    </a:lnTo>
                    <a:lnTo>
                      <a:pt x="2357" y="901"/>
                    </a:lnTo>
                    <a:lnTo>
                      <a:pt x="2285" y="910"/>
                    </a:lnTo>
                    <a:lnTo>
                      <a:pt x="2210" y="919"/>
                    </a:lnTo>
                    <a:lnTo>
                      <a:pt x="2133" y="926"/>
                    </a:lnTo>
                    <a:lnTo>
                      <a:pt x="2056" y="933"/>
                    </a:lnTo>
                    <a:lnTo>
                      <a:pt x="1976" y="938"/>
                    </a:lnTo>
                    <a:lnTo>
                      <a:pt x="1895" y="942"/>
                    </a:lnTo>
                    <a:lnTo>
                      <a:pt x="1813" y="945"/>
                    </a:lnTo>
                    <a:lnTo>
                      <a:pt x="1729" y="947"/>
                    </a:lnTo>
                    <a:lnTo>
                      <a:pt x="1644" y="948"/>
                    </a:lnTo>
                    <a:lnTo>
                      <a:pt x="1560" y="947"/>
                    </a:lnTo>
                    <a:lnTo>
                      <a:pt x="1477" y="945"/>
                    </a:lnTo>
                    <a:lnTo>
                      <a:pt x="1394" y="942"/>
                    </a:lnTo>
                    <a:lnTo>
                      <a:pt x="1313" y="938"/>
                    </a:lnTo>
                    <a:lnTo>
                      <a:pt x="1233" y="933"/>
                    </a:lnTo>
                    <a:lnTo>
                      <a:pt x="1156" y="926"/>
                    </a:lnTo>
                    <a:lnTo>
                      <a:pt x="1079" y="919"/>
                    </a:lnTo>
                    <a:lnTo>
                      <a:pt x="1004" y="910"/>
                    </a:lnTo>
                    <a:lnTo>
                      <a:pt x="931" y="901"/>
                    </a:lnTo>
                    <a:lnTo>
                      <a:pt x="861" y="890"/>
                    </a:lnTo>
                    <a:lnTo>
                      <a:pt x="792" y="878"/>
                    </a:lnTo>
                    <a:lnTo>
                      <a:pt x="725" y="865"/>
                    </a:lnTo>
                    <a:lnTo>
                      <a:pt x="661" y="852"/>
                    </a:lnTo>
                    <a:lnTo>
                      <a:pt x="598" y="838"/>
                    </a:lnTo>
                    <a:lnTo>
                      <a:pt x="539" y="823"/>
                    </a:lnTo>
                    <a:lnTo>
                      <a:pt x="482" y="807"/>
                    </a:lnTo>
                    <a:lnTo>
                      <a:pt x="427" y="790"/>
                    </a:lnTo>
                    <a:lnTo>
                      <a:pt x="376" y="773"/>
                    </a:lnTo>
                    <a:lnTo>
                      <a:pt x="326" y="754"/>
                    </a:lnTo>
                    <a:lnTo>
                      <a:pt x="281" y="735"/>
                    </a:lnTo>
                    <a:lnTo>
                      <a:pt x="239" y="716"/>
                    </a:lnTo>
                    <a:lnTo>
                      <a:pt x="198" y="695"/>
                    </a:lnTo>
                    <a:lnTo>
                      <a:pt x="162" y="675"/>
                    </a:lnTo>
                    <a:lnTo>
                      <a:pt x="130" y="653"/>
                    </a:lnTo>
                    <a:lnTo>
                      <a:pt x="100" y="631"/>
                    </a:lnTo>
                    <a:lnTo>
                      <a:pt x="74" y="609"/>
                    </a:lnTo>
                    <a:lnTo>
                      <a:pt x="52" y="586"/>
                    </a:lnTo>
                    <a:lnTo>
                      <a:pt x="34" y="563"/>
                    </a:lnTo>
                    <a:lnTo>
                      <a:pt x="19" y="538"/>
                    </a:lnTo>
                    <a:lnTo>
                      <a:pt x="8" y="514"/>
                    </a:lnTo>
                    <a:lnTo>
                      <a:pt x="2" y="490"/>
                    </a:lnTo>
                    <a:lnTo>
                      <a:pt x="0" y="466"/>
                    </a:lnTo>
                    <a:lnTo>
                      <a:pt x="2" y="440"/>
                    </a:lnTo>
                    <a:lnTo>
                      <a:pt x="8" y="416"/>
                    </a:lnTo>
                    <a:lnTo>
                      <a:pt x="19" y="392"/>
                    </a:lnTo>
                    <a:lnTo>
                      <a:pt x="34" y="369"/>
                    </a:lnTo>
                    <a:lnTo>
                      <a:pt x="52" y="346"/>
                    </a:lnTo>
                    <a:lnTo>
                      <a:pt x="74" y="323"/>
                    </a:lnTo>
                    <a:lnTo>
                      <a:pt x="100" y="301"/>
                    </a:lnTo>
                    <a:lnTo>
                      <a:pt x="130" y="280"/>
                    </a:lnTo>
                    <a:lnTo>
                      <a:pt x="162" y="260"/>
                    </a:lnTo>
                    <a:lnTo>
                      <a:pt x="198" y="240"/>
                    </a:lnTo>
                    <a:lnTo>
                      <a:pt x="239" y="219"/>
                    </a:lnTo>
                    <a:lnTo>
                      <a:pt x="281" y="201"/>
                    </a:lnTo>
                    <a:lnTo>
                      <a:pt x="326" y="183"/>
                    </a:lnTo>
                    <a:lnTo>
                      <a:pt x="376" y="165"/>
                    </a:lnTo>
                    <a:lnTo>
                      <a:pt x="427" y="149"/>
                    </a:lnTo>
                    <a:lnTo>
                      <a:pt x="482" y="133"/>
                    </a:lnTo>
                    <a:lnTo>
                      <a:pt x="539" y="117"/>
                    </a:lnTo>
                    <a:lnTo>
                      <a:pt x="598" y="103"/>
                    </a:lnTo>
                    <a:lnTo>
                      <a:pt x="661" y="90"/>
                    </a:lnTo>
                    <a:lnTo>
                      <a:pt x="725" y="77"/>
                    </a:lnTo>
                    <a:lnTo>
                      <a:pt x="792" y="65"/>
                    </a:lnTo>
                    <a:lnTo>
                      <a:pt x="861" y="55"/>
                    </a:lnTo>
                    <a:lnTo>
                      <a:pt x="931" y="45"/>
                    </a:lnTo>
                    <a:lnTo>
                      <a:pt x="1004" y="36"/>
                    </a:lnTo>
                    <a:lnTo>
                      <a:pt x="1079" y="28"/>
                    </a:lnTo>
                    <a:lnTo>
                      <a:pt x="1156" y="20"/>
                    </a:lnTo>
                    <a:lnTo>
                      <a:pt x="1233" y="14"/>
                    </a:lnTo>
                    <a:lnTo>
                      <a:pt x="1313" y="9"/>
                    </a:lnTo>
                    <a:lnTo>
                      <a:pt x="1394" y="5"/>
                    </a:lnTo>
                    <a:lnTo>
                      <a:pt x="1477" y="2"/>
                    </a:lnTo>
                    <a:lnTo>
                      <a:pt x="1560" y="0"/>
                    </a:lnTo>
                    <a:lnTo>
                      <a:pt x="1644" y="0"/>
                    </a:lnTo>
                    <a:lnTo>
                      <a:pt x="1729" y="0"/>
                    </a:lnTo>
                    <a:lnTo>
                      <a:pt x="1813" y="2"/>
                    </a:lnTo>
                    <a:lnTo>
                      <a:pt x="1895" y="5"/>
                    </a:lnTo>
                    <a:lnTo>
                      <a:pt x="1976" y="9"/>
                    </a:lnTo>
                    <a:lnTo>
                      <a:pt x="2056" y="14"/>
                    </a:lnTo>
                    <a:lnTo>
                      <a:pt x="2133" y="20"/>
                    </a:lnTo>
                    <a:lnTo>
                      <a:pt x="2210" y="28"/>
                    </a:lnTo>
                    <a:lnTo>
                      <a:pt x="2285" y="36"/>
                    </a:lnTo>
                    <a:lnTo>
                      <a:pt x="2357" y="45"/>
                    </a:lnTo>
                    <a:lnTo>
                      <a:pt x="2428" y="55"/>
                    </a:lnTo>
                    <a:lnTo>
                      <a:pt x="2497" y="65"/>
                    </a:lnTo>
                    <a:lnTo>
                      <a:pt x="2564" y="77"/>
                    </a:lnTo>
                    <a:lnTo>
                      <a:pt x="2628" y="90"/>
                    </a:lnTo>
                    <a:lnTo>
                      <a:pt x="2691" y="103"/>
                    </a:lnTo>
                    <a:lnTo>
                      <a:pt x="2750" y="117"/>
                    </a:lnTo>
                    <a:lnTo>
                      <a:pt x="2807" y="133"/>
                    </a:lnTo>
                    <a:lnTo>
                      <a:pt x="2861" y="149"/>
                    </a:lnTo>
                    <a:lnTo>
                      <a:pt x="2913" y="165"/>
                    </a:lnTo>
                    <a:lnTo>
                      <a:pt x="2962" y="183"/>
                    </a:lnTo>
                    <a:lnTo>
                      <a:pt x="3008" y="201"/>
                    </a:lnTo>
                    <a:lnTo>
                      <a:pt x="3051" y="219"/>
                    </a:lnTo>
                    <a:lnTo>
                      <a:pt x="3091" y="240"/>
                    </a:lnTo>
                    <a:lnTo>
                      <a:pt x="3127" y="260"/>
                    </a:lnTo>
                    <a:lnTo>
                      <a:pt x="3159" y="280"/>
                    </a:lnTo>
                    <a:lnTo>
                      <a:pt x="3190" y="301"/>
                    </a:lnTo>
                    <a:lnTo>
                      <a:pt x="3215" y="323"/>
                    </a:lnTo>
                    <a:lnTo>
                      <a:pt x="3237" y="346"/>
                    </a:lnTo>
                    <a:lnTo>
                      <a:pt x="3255" y="369"/>
                    </a:lnTo>
                    <a:lnTo>
                      <a:pt x="3270" y="392"/>
                    </a:lnTo>
                    <a:lnTo>
                      <a:pt x="3281" y="416"/>
                    </a:lnTo>
                    <a:lnTo>
                      <a:pt x="3287" y="440"/>
                    </a:lnTo>
                    <a:lnTo>
                      <a:pt x="3289" y="4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67400" y="6502320"/>
                <a:ext cx="361440" cy="113040"/>
              </a:xfrm>
              <a:custGeom>
                <a:avLst/>
                <a:gdLst/>
                <a:ahLst/>
                <a:rect l="l" t="t" r="r" b="b"/>
                <a:pathLst>
                  <a:path w="3287" h="946">
                    <a:moveTo>
                      <a:pt x="3287" y="465"/>
                    </a:moveTo>
                    <a:lnTo>
                      <a:pt x="3285" y="489"/>
                    </a:lnTo>
                    <a:lnTo>
                      <a:pt x="3279" y="513"/>
                    </a:lnTo>
                    <a:lnTo>
                      <a:pt x="3267" y="537"/>
                    </a:lnTo>
                    <a:lnTo>
                      <a:pt x="3253" y="562"/>
                    </a:lnTo>
                    <a:lnTo>
                      <a:pt x="3235" y="585"/>
                    </a:lnTo>
                    <a:lnTo>
                      <a:pt x="3213" y="607"/>
                    </a:lnTo>
                    <a:lnTo>
                      <a:pt x="3187" y="630"/>
                    </a:lnTo>
                    <a:lnTo>
                      <a:pt x="3157" y="651"/>
                    </a:lnTo>
                    <a:lnTo>
                      <a:pt x="3124" y="673"/>
                    </a:lnTo>
                    <a:lnTo>
                      <a:pt x="3089" y="694"/>
                    </a:lnTo>
                    <a:lnTo>
                      <a:pt x="3048" y="714"/>
                    </a:lnTo>
                    <a:lnTo>
                      <a:pt x="3006" y="733"/>
                    </a:lnTo>
                    <a:lnTo>
                      <a:pt x="2960" y="752"/>
                    </a:lnTo>
                    <a:lnTo>
                      <a:pt x="2911" y="771"/>
                    </a:lnTo>
                    <a:lnTo>
                      <a:pt x="2859" y="788"/>
                    </a:lnTo>
                    <a:lnTo>
                      <a:pt x="2805" y="805"/>
                    </a:lnTo>
                    <a:lnTo>
                      <a:pt x="2748" y="821"/>
                    </a:lnTo>
                    <a:lnTo>
                      <a:pt x="2689" y="836"/>
                    </a:lnTo>
                    <a:lnTo>
                      <a:pt x="2626" y="850"/>
                    </a:lnTo>
                    <a:lnTo>
                      <a:pt x="2563" y="863"/>
                    </a:lnTo>
                    <a:lnTo>
                      <a:pt x="2496" y="877"/>
                    </a:lnTo>
                    <a:lnTo>
                      <a:pt x="2427" y="888"/>
                    </a:lnTo>
                    <a:lnTo>
                      <a:pt x="2355" y="899"/>
                    </a:lnTo>
                    <a:lnTo>
                      <a:pt x="2283" y="908"/>
                    </a:lnTo>
                    <a:lnTo>
                      <a:pt x="2208" y="917"/>
                    </a:lnTo>
                    <a:lnTo>
                      <a:pt x="2132" y="924"/>
                    </a:lnTo>
                    <a:lnTo>
                      <a:pt x="2055" y="931"/>
                    </a:lnTo>
                    <a:lnTo>
                      <a:pt x="1975" y="936"/>
                    </a:lnTo>
                    <a:lnTo>
                      <a:pt x="1894" y="940"/>
                    </a:lnTo>
                    <a:lnTo>
                      <a:pt x="1811" y="943"/>
                    </a:lnTo>
                    <a:lnTo>
                      <a:pt x="1728" y="945"/>
                    </a:lnTo>
                    <a:lnTo>
                      <a:pt x="1643" y="946"/>
                    </a:lnTo>
                    <a:lnTo>
                      <a:pt x="1559" y="945"/>
                    </a:lnTo>
                    <a:lnTo>
                      <a:pt x="1476" y="943"/>
                    </a:lnTo>
                    <a:lnTo>
                      <a:pt x="1393" y="940"/>
                    </a:lnTo>
                    <a:lnTo>
                      <a:pt x="1312" y="936"/>
                    </a:lnTo>
                    <a:lnTo>
                      <a:pt x="1232" y="931"/>
                    </a:lnTo>
                    <a:lnTo>
                      <a:pt x="1155" y="924"/>
                    </a:lnTo>
                    <a:lnTo>
                      <a:pt x="1079" y="917"/>
                    </a:lnTo>
                    <a:lnTo>
                      <a:pt x="1004" y="908"/>
                    </a:lnTo>
                    <a:lnTo>
                      <a:pt x="931" y="899"/>
                    </a:lnTo>
                    <a:lnTo>
                      <a:pt x="861" y="888"/>
                    </a:lnTo>
                    <a:lnTo>
                      <a:pt x="791" y="877"/>
                    </a:lnTo>
                    <a:lnTo>
                      <a:pt x="724" y="863"/>
                    </a:lnTo>
                    <a:lnTo>
                      <a:pt x="661" y="850"/>
                    </a:lnTo>
                    <a:lnTo>
                      <a:pt x="598" y="836"/>
                    </a:lnTo>
                    <a:lnTo>
                      <a:pt x="539" y="821"/>
                    </a:lnTo>
                    <a:lnTo>
                      <a:pt x="482" y="805"/>
                    </a:lnTo>
                    <a:lnTo>
                      <a:pt x="427" y="788"/>
                    </a:lnTo>
                    <a:lnTo>
                      <a:pt x="376" y="771"/>
                    </a:lnTo>
                    <a:lnTo>
                      <a:pt x="327" y="752"/>
                    </a:lnTo>
                    <a:lnTo>
                      <a:pt x="281" y="733"/>
                    </a:lnTo>
                    <a:lnTo>
                      <a:pt x="239" y="714"/>
                    </a:lnTo>
                    <a:lnTo>
                      <a:pt x="199" y="694"/>
                    </a:lnTo>
                    <a:lnTo>
                      <a:pt x="163" y="673"/>
                    </a:lnTo>
                    <a:lnTo>
                      <a:pt x="130" y="651"/>
                    </a:lnTo>
                    <a:lnTo>
                      <a:pt x="100" y="630"/>
                    </a:lnTo>
                    <a:lnTo>
                      <a:pt x="74" y="607"/>
                    </a:lnTo>
                    <a:lnTo>
                      <a:pt x="52" y="585"/>
                    </a:lnTo>
                    <a:lnTo>
                      <a:pt x="34" y="562"/>
                    </a:lnTo>
                    <a:lnTo>
                      <a:pt x="19" y="537"/>
                    </a:lnTo>
                    <a:lnTo>
                      <a:pt x="9" y="513"/>
                    </a:lnTo>
                    <a:lnTo>
                      <a:pt x="2" y="489"/>
                    </a:lnTo>
                    <a:lnTo>
                      <a:pt x="0" y="465"/>
                    </a:lnTo>
                    <a:lnTo>
                      <a:pt x="2" y="439"/>
                    </a:lnTo>
                    <a:lnTo>
                      <a:pt x="9" y="415"/>
                    </a:lnTo>
                    <a:lnTo>
                      <a:pt x="19" y="391"/>
                    </a:lnTo>
                    <a:lnTo>
                      <a:pt x="34" y="368"/>
                    </a:lnTo>
                    <a:lnTo>
                      <a:pt x="52" y="345"/>
                    </a:lnTo>
                    <a:lnTo>
                      <a:pt x="74" y="322"/>
                    </a:lnTo>
                    <a:lnTo>
                      <a:pt x="100" y="301"/>
                    </a:lnTo>
                    <a:lnTo>
                      <a:pt x="130" y="280"/>
                    </a:lnTo>
                    <a:lnTo>
                      <a:pt x="163" y="259"/>
                    </a:lnTo>
                    <a:lnTo>
                      <a:pt x="199" y="239"/>
                    </a:lnTo>
                    <a:lnTo>
                      <a:pt x="239" y="219"/>
                    </a:lnTo>
                    <a:lnTo>
                      <a:pt x="281" y="200"/>
                    </a:lnTo>
                    <a:lnTo>
                      <a:pt x="327" y="182"/>
                    </a:lnTo>
                    <a:lnTo>
                      <a:pt x="376" y="165"/>
                    </a:lnTo>
                    <a:lnTo>
                      <a:pt x="427" y="149"/>
                    </a:lnTo>
                    <a:lnTo>
                      <a:pt x="482" y="133"/>
                    </a:lnTo>
                    <a:lnTo>
                      <a:pt x="539" y="117"/>
                    </a:lnTo>
                    <a:lnTo>
                      <a:pt x="598" y="103"/>
                    </a:lnTo>
                    <a:lnTo>
                      <a:pt x="661" y="89"/>
                    </a:lnTo>
                    <a:lnTo>
                      <a:pt x="724" y="77"/>
                    </a:lnTo>
                    <a:lnTo>
                      <a:pt x="791" y="65"/>
                    </a:lnTo>
                    <a:lnTo>
                      <a:pt x="861" y="54"/>
                    </a:lnTo>
                    <a:lnTo>
                      <a:pt x="931" y="44"/>
                    </a:lnTo>
                    <a:lnTo>
                      <a:pt x="1004" y="36"/>
                    </a:lnTo>
                    <a:lnTo>
                      <a:pt x="1079" y="28"/>
                    </a:lnTo>
                    <a:lnTo>
                      <a:pt x="1155" y="21"/>
                    </a:lnTo>
                    <a:lnTo>
                      <a:pt x="1232" y="14"/>
                    </a:lnTo>
                    <a:lnTo>
                      <a:pt x="1312" y="9"/>
                    </a:lnTo>
                    <a:lnTo>
                      <a:pt x="1393" y="5"/>
                    </a:lnTo>
                    <a:lnTo>
                      <a:pt x="1476" y="2"/>
                    </a:lnTo>
                    <a:lnTo>
                      <a:pt x="1559" y="0"/>
                    </a:lnTo>
                    <a:lnTo>
                      <a:pt x="1643" y="0"/>
                    </a:lnTo>
                    <a:lnTo>
                      <a:pt x="1728" y="0"/>
                    </a:lnTo>
                    <a:lnTo>
                      <a:pt x="1811" y="2"/>
                    </a:lnTo>
                    <a:lnTo>
                      <a:pt x="1894" y="5"/>
                    </a:lnTo>
                    <a:lnTo>
                      <a:pt x="1975" y="9"/>
                    </a:lnTo>
                    <a:lnTo>
                      <a:pt x="2055" y="14"/>
                    </a:lnTo>
                    <a:lnTo>
                      <a:pt x="2132" y="21"/>
                    </a:lnTo>
                    <a:lnTo>
                      <a:pt x="2208" y="28"/>
                    </a:lnTo>
                    <a:lnTo>
                      <a:pt x="2283" y="36"/>
                    </a:lnTo>
                    <a:lnTo>
                      <a:pt x="2355" y="44"/>
                    </a:lnTo>
                    <a:lnTo>
                      <a:pt x="2427" y="54"/>
                    </a:lnTo>
                    <a:lnTo>
                      <a:pt x="2496" y="65"/>
                    </a:lnTo>
                    <a:lnTo>
                      <a:pt x="2563" y="77"/>
                    </a:lnTo>
                    <a:lnTo>
                      <a:pt x="2626" y="89"/>
                    </a:lnTo>
                    <a:lnTo>
                      <a:pt x="2689" y="103"/>
                    </a:lnTo>
                    <a:lnTo>
                      <a:pt x="2748" y="117"/>
                    </a:lnTo>
                    <a:lnTo>
                      <a:pt x="2805" y="133"/>
                    </a:lnTo>
                    <a:lnTo>
                      <a:pt x="2859" y="149"/>
                    </a:lnTo>
                    <a:lnTo>
                      <a:pt x="2911" y="165"/>
                    </a:lnTo>
                    <a:lnTo>
                      <a:pt x="2960" y="182"/>
                    </a:lnTo>
                    <a:lnTo>
                      <a:pt x="3006" y="200"/>
                    </a:lnTo>
                    <a:lnTo>
                      <a:pt x="3048" y="219"/>
                    </a:lnTo>
                    <a:lnTo>
                      <a:pt x="3089" y="239"/>
                    </a:lnTo>
                    <a:lnTo>
                      <a:pt x="3124" y="259"/>
                    </a:lnTo>
                    <a:lnTo>
                      <a:pt x="3157" y="280"/>
                    </a:lnTo>
                    <a:lnTo>
                      <a:pt x="3187" y="301"/>
                    </a:lnTo>
                    <a:lnTo>
                      <a:pt x="3213" y="322"/>
                    </a:lnTo>
                    <a:lnTo>
                      <a:pt x="3235" y="345"/>
                    </a:lnTo>
                    <a:lnTo>
                      <a:pt x="3253" y="368"/>
                    </a:lnTo>
                    <a:lnTo>
                      <a:pt x="3267" y="391"/>
                    </a:lnTo>
                    <a:lnTo>
                      <a:pt x="3279" y="415"/>
                    </a:lnTo>
                    <a:lnTo>
                      <a:pt x="3285" y="439"/>
                    </a:lnTo>
                    <a:lnTo>
                      <a:pt x="3287" y="4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967400" y="6502320"/>
                <a:ext cx="361440" cy="113040"/>
              </a:xfrm>
              <a:custGeom>
                <a:avLst/>
                <a:gdLst/>
                <a:ahLst/>
                <a:rect l="l" t="t" r="r" b="b"/>
                <a:pathLst>
                  <a:path w="3283" h="944">
                    <a:moveTo>
                      <a:pt x="3283" y="464"/>
                    </a:moveTo>
                    <a:lnTo>
                      <a:pt x="3281" y="488"/>
                    </a:lnTo>
                    <a:lnTo>
                      <a:pt x="3275" y="512"/>
                    </a:lnTo>
                    <a:lnTo>
                      <a:pt x="3264" y="536"/>
                    </a:lnTo>
                    <a:lnTo>
                      <a:pt x="3249" y="561"/>
                    </a:lnTo>
                    <a:lnTo>
                      <a:pt x="3231" y="584"/>
                    </a:lnTo>
                    <a:lnTo>
                      <a:pt x="3209" y="606"/>
                    </a:lnTo>
                    <a:lnTo>
                      <a:pt x="3184" y="628"/>
                    </a:lnTo>
                    <a:lnTo>
                      <a:pt x="3154" y="650"/>
                    </a:lnTo>
                    <a:lnTo>
                      <a:pt x="3121" y="672"/>
                    </a:lnTo>
                    <a:lnTo>
                      <a:pt x="3085" y="693"/>
                    </a:lnTo>
                    <a:lnTo>
                      <a:pt x="3045" y="713"/>
                    </a:lnTo>
                    <a:lnTo>
                      <a:pt x="3003" y="732"/>
                    </a:lnTo>
                    <a:lnTo>
                      <a:pt x="2957" y="751"/>
                    </a:lnTo>
                    <a:lnTo>
                      <a:pt x="2908" y="770"/>
                    </a:lnTo>
                    <a:lnTo>
                      <a:pt x="2856" y="787"/>
                    </a:lnTo>
                    <a:lnTo>
                      <a:pt x="2802" y="803"/>
                    </a:lnTo>
                    <a:lnTo>
                      <a:pt x="2745" y="819"/>
                    </a:lnTo>
                    <a:lnTo>
                      <a:pt x="2686" y="834"/>
                    </a:lnTo>
                    <a:lnTo>
                      <a:pt x="2624" y="848"/>
                    </a:lnTo>
                    <a:lnTo>
                      <a:pt x="2559" y="862"/>
                    </a:lnTo>
                    <a:lnTo>
                      <a:pt x="2493" y="874"/>
                    </a:lnTo>
                    <a:lnTo>
                      <a:pt x="2424" y="886"/>
                    </a:lnTo>
                    <a:lnTo>
                      <a:pt x="2353" y="897"/>
                    </a:lnTo>
                    <a:lnTo>
                      <a:pt x="2281" y="906"/>
                    </a:lnTo>
                    <a:lnTo>
                      <a:pt x="2206" y="915"/>
                    </a:lnTo>
                    <a:lnTo>
                      <a:pt x="2129" y="922"/>
                    </a:lnTo>
                    <a:lnTo>
                      <a:pt x="2051" y="929"/>
                    </a:lnTo>
                    <a:lnTo>
                      <a:pt x="1973" y="934"/>
                    </a:lnTo>
                    <a:lnTo>
                      <a:pt x="1892" y="938"/>
                    </a:lnTo>
                    <a:lnTo>
                      <a:pt x="1809" y="941"/>
                    </a:lnTo>
                    <a:lnTo>
                      <a:pt x="1726" y="943"/>
                    </a:lnTo>
                    <a:lnTo>
                      <a:pt x="1641" y="944"/>
                    </a:lnTo>
                    <a:lnTo>
                      <a:pt x="1557" y="943"/>
                    </a:lnTo>
                    <a:lnTo>
                      <a:pt x="1474" y="941"/>
                    </a:lnTo>
                    <a:lnTo>
                      <a:pt x="1392" y="938"/>
                    </a:lnTo>
                    <a:lnTo>
                      <a:pt x="1310" y="934"/>
                    </a:lnTo>
                    <a:lnTo>
                      <a:pt x="1231" y="929"/>
                    </a:lnTo>
                    <a:lnTo>
                      <a:pt x="1154" y="922"/>
                    </a:lnTo>
                    <a:lnTo>
                      <a:pt x="1077" y="915"/>
                    </a:lnTo>
                    <a:lnTo>
                      <a:pt x="1002" y="906"/>
                    </a:lnTo>
                    <a:lnTo>
                      <a:pt x="929" y="897"/>
                    </a:lnTo>
                    <a:lnTo>
                      <a:pt x="859" y="886"/>
                    </a:lnTo>
                    <a:lnTo>
                      <a:pt x="790" y="874"/>
                    </a:lnTo>
                    <a:lnTo>
                      <a:pt x="723" y="862"/>
                    </a:lnTo>
                    <a:lnTo>
                      <a:pt x="660" y="848"/>
                    </a:lnTo>
                    <a:lnTo>
                      <a:pt x="597" y="834"/>
                    </a:lnTo>
                    <a:lnTo>
                      <a:pt x="538" y="819"/>
                    </a:lnTo>
                    <a:lnTo>
                      <a:pt x="481" y="803"/>
                    </a:lnTo>
                    <a:lnTo>
                      <a:pt x="427" y="787"/>
                    </a:lnTo>
                    <a:lnTo>
                      <a:pt x="375" y="770"/>
                    </a:lnTo>
                    <a:lnTo>
                      <a:pt x="327" y="751"/>
                    </a:lnTo>
                    <a:lnTo>
                      <a:pt x="280" y="732"/>
                    </a:lnTo>
                    <a:lnTo>
                      <a:pt x="238" y="713"/>
                    </a:lnTo>
                    <a:lnTo>
                      <a:pt x="198" y="693"/>
                    </a:lnTo>
                    <a:lnTo>
                      <a:pt x="162" y="672"/>
                    </a:lnTo>
                    <a:lnTo>
                      <a:pt x="129" y="650"/>
                    </a:lnTo>
                    <a:lnTo>
                      <a:pt x="99" y="628"/>
                    </a:lnTo>
                    <a:lnTo>
                      <a:pt x="74" y="606"/>
                    </a:lnTo>
                    <a:lnTo>
                      <a:pt x="52" y="584"/>
                    </a:lnTo>
                    <a:lnTo>
                      <a:pt x="34" y="561"/>
                    </a:lnTo>
                    <a:lnTo>
                      <a:pt x="18" y="536"/>
                    </a:lnTo>
                    <a:lnTo>
                      <a:pt x="8" y="512"/>
                    </a:lnTo>
                    <a:lnTo>
                      <a:pt x="2" y="488"/>
                    </a:lnTo>
                    <a:lnTo>
                      <a:pt x="0" y="464"/>
                    </a:lnTo>
                    <a:lnTo>
                      <a:pt x="2" y="438"/>
                    </a:lnTo>
                    <a:lnTo>
                      <a:pt x="8" y="414"/>
                    </a:lnTo>
                    <a:lnTo>
                      <a:pt x="18" y="390"/>
                    </a:lnTo>
                    <a:lnTo>
                      <a:pt x="34" y="367"/>
                    </a:lnTo>
                    <a:lnTo>
                      <a:pt x="52" y="345"/>
                    </a:lnTo>
                    <a:lnTo>
                      <a:pt x="74" y="322"/>
                    </a:lnTo>
                    <a:lnTo>
                      <a:pt x="99" y="300"/>
                    </a:lnTo>
                    <a:lnTo>
                      <a:pt x="129" y="279"/>
                    </a:lnTo>
                    <a:lnTo>
                      <a:pt x="162" y="258"/>
                    </a:lnTo>
                    <a:lnTo>
                      <a:pt x="198" y="239"/>
                    </a:lnTo>
                    <a:lnTo>
                      <a:pt x="238" y="218"/>
                    </a:lnTo>
                    <a:lnTo>
                      <a:pt x="280" y="200"/>
                    </a:lnTo>
                    <a:lnTo>
                      <a:pt x="327" y="182"/>
                    </a:lnTo>
                    <a:lnTo>
                      <a:pt x="375" y="165"/>
                    </a:lnTo>
                    <a:lnTo>
                      <a:pt x="427" y="148"/>
                    </a:lnTo>
                    <a:lnTo>
                      <a:pt x="481" y="132"/>
                    </a:lnTo>
                    <a:lnTo>
                      <a:pt x="538" y="117"/>
                    </a:lnTo>
                    <a:lnTo>
                      <a:pt x="597" y="102"/>
                    </a:lnTo>
                    <a:lnTo>
                      <a:pt x="660" y="89"/>
                    </a:lnTo>
                    <a:lnTo>
                      <a:pt x="723" y="77"/>
                    </a:lnTo>
                    <a:lnTo>
                      <a:pt x="790" y="65"/>
                    </a:lnTo>
                    <a:lnTo>
                      <a:pt x="859" y="54"/>
                    </a:lnTo>
                    <a:lnTo>
                      <a:pt x="929" y="44"/>
                    </a:lnTo>
                    <a:lnTo>
                      <a:pt x="1002" y="35"/>
                    </a:lnTo>
                    <a:lnTo>
                      <a:pt x="1077" y="27"/>
                    </a:lnTo>
                    <a:lnTo>
                      <a:pt x="1154" y="21"/>
                    </a:lnTo>
                    <a:lnTo>
                      <a:pt x="1231" y="14"/>
                    </a:lnTo>
                    <a:lnTo>
                      <a:pt x="1310" y="9"/>
                    </a:lnTo>
                    <a:lnTo>
                      <a:pt x="1392" y="5"/>
                    </a:lnTo>
                    <a:lnTo>
                      <a:pt x="1474" y="2"/>
                    </a:lnTo>
                    <a:lnTo>
                      <a:pt x="1557" y="0"/>
                    </a:lnTo>
                    <a:lnTo>
                      <a:pt x="1641" y="0"/>
                    </a:lnTo>
                    <a:lnTo>
                      <a:pt x="1726" y="0"/>
                    </a:lnTo>
                    <a:lnTo>
                      <a:pt x="1809" y="2"/>
                    </a:lnTo>
                    <a:lnTo>
                      <a:pt x="1892" y="5"/>
                    </a:lnTo>
                    <a:lnTo>
                      <a:pt x="1973" y="9"/>
                    </a:lnTo>
                    <a:lnTo>
                      <a:pt x="2051" y="14"/>
                    </a:lnTo>
                    <a:lnTo>
                      <a:pt x="2129" y="21"/>
                    </a:lnTo>
                    <a:lnTo>
                      <a:pt x="2206" y="27"/>
                    </a:lnTo>
                    <a:lnTo>
                      <a:pt x="2281" y="35"/>
                    </a:lnTo>
                    <a:lnTo>
                      <a:pt x="2353" y="44"/>
                    </a:lnTo>
                    <a:lnTo>
                      <a:pt x="2424" y="54"/>
                    </a:lnTo>
                    <a:lnTo>
                      <a:pt x="2493" y="65"/>
                    </a:lnTo>
                    <a:lnTo>
                      <a:pt x="2559" y="77"/>
                    </a:lnTo>
                    <a:lnTo>
                      <a:pt x="2624" y="89"/>
                    </a:lnTo>
                    <a:lnTo>
                      <a:pt x="2686" y="102"/>
                    </a:lnTo>
                    <a:lnTo>
                      <a:pt x="2745" y="117"/>
                    </a:lnTo>
                    <a:lnTo>
                      <a:pt x="2802" y="132"/>
                    </a:lnTo>
                    <a:lnTo>
                      <a:pt x="2856" y="148"/>
                    </a:lnTo>
                    <a:lnTo>
                      <a:pt x="2908" y="165"/>
                    </a:lnTo>
                    <a:lnTo>
                      <a:pt x="2957" y="182"/>
                    </a:lnTo>
                    <a:lnTo>
                      <a:pt x="3003" y="200"/>
                    </a:lnTo>
                    <a:lnTo>
                      <a:pt x="3045" y="218"/>
                    </a:lnTo>
                    <a:lnTo>
                      <a:pt x="3085" y="239"/>
                    </a:lnTo>
                    <a:lnTo>
                      <a:pt x="3121" y="258"/>
                    </a:lnTo>
                    <a:lnTo>
                      <a:pt x="3154" y="279"/>
                    </a:lnTo>
                    <a:lnTo>
                      <a:pt x="3184" y="300"/>
                    </a:lnTo>
                    <a:lnTo>
                      <a:pt x="3209" y="322"/>
                    </a:lnTo>
                    <a:lnTo>
                      <a:pt x="3231" y="345"/>
                    </a:lnTo>
                    <a:lnTo>
                      <a:pt x="3249" y="367"/>
                    </a:lnTo>
                    <a:lnTo>
                      <a:pt x="3264" y="390"/>
                    </a:lnTo>
                    <a:lnTo>
                      <a:pt x="3275" y="414"/>
                    </a:lnTo>
                    <a:lnTo>
                      <a:pt x="3281" y="438"/>
                    </a:lnTo>
                    <a:lnTo>
                      <a:pt x="3283" y="4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967400" y="6502320"/>
                <a:ext cx="361440" cy="113040"/>
              </a:xfrm>
              <a:custGeom>
                <a:avLst/>
                <a:gdLst/>
                <a:ahLst/>
                <a:rect l="l" t="t" r="r" b="b"/>
                <a:pathLst>
                  <a:path w="3281" h="942">
                    <a:moveTo>
                      <a:pt x="3281" y="463"/>
                    </a:moveTo>
                    <a:lnTo>
                      <a:pt x="3279" y="487"/>
                    </a:lnTo>
                    <a:lnTo>
                      <a:pt x="3273" y="511"/>
                    </a:lnTo>
                    <a:lnTo>
                      <a:pt x="3261" y="535"/>
                    </a:lnTo>
                    <a:lnTo>
                      <a:pt x="3247" y="559"/>
                    </a:lnTo>
                    <a:lnTo>
                      <a:pt x="3229" y="582"/>
                    </a:lnTo>
                    <a:lnTo>
                      <a:pt x="3207" y="605"/>
                    </a:lnTo>
                    <a:lnTo>
                      <a:pt x="3182" y="627"/>
                    </a:lnTo>
                    <a:lnTo>
                      <a:pt x="3151" y="649"/>
                    </a:lnTo>
                    <a:lnTo>
                      <a:pt x="3119" y="671"/>
                    </a:lnTo>
                    <a:lnTo>
                      <a:pt x="3083" y="691"/>
                    </a:lnTo>
                    <a:lnTo>
                      <a:pt x="3043" y="711"/>
                    </a:lnTo>
                    <a:lnTo>
                      <a:pt x="3001" y="730"/>
                    </a:lnTo>
                    <a:lnTo>
                      <a:pt x="2954" y="749"/>
                    </a:lnTo>
                    <a:lnTo>
                      <a:pt x="2906" y="768"/>
                    </a:lnTo>
                    <a:lnTo>
                      <a:pt x="2854" y="785"/>
                    </a:lnTo>
                    <a:lnTo>
                      <a:pt x="2800" y="802"/>
                    </a:lnTo>
                    <a:lnTo>
                      <a:pt x="2743" y="817"/>
                    </a:lnTo>
                    <a:lnTo>
                      <a:pt x="2684" y="832"/>
                    </a:lnTo>
                    <a:lnTo>
                      <a:pt x="2622" y="847"/>
                    </a:lnTo>
                    <a:lnTo>
                      <a:pt x="2557" y="860"/>
                    </a:lnTo>
                    <a:lnTo>
                      <a:pt x="2491" y="872"/>
                    </a:lnTo>
                    <a:lnTo>
                      <a:pt x="2422" y="885"/>
                    </a:lnTo>
                    <a:lnTo>
                      <a:pt x="2351" y="895"/>
                    </a:lnTo>
                    <a:lnTo>
                      <a:pt x="2279" y="905"/>
                    </a:lnTo>
                    <a:lnTo>
                      <a:pt x="2204" y="913"/>
                    </a:lnTo>
                    <a:lnTo>
                      <a:pt x="2128" y="921"/>
                    </a:lnTo>
                    <a:lnTo>
                      <a:pt x="2050" y="927"/>
                    </a:lnTo>
                    <a:lnTo>
                      <a:pt x="1971" y="932"/>
                    </a:lnTo>
                    <a:lnTo>
                      <a:pt x="1890" y="936"/>
                    </a:lnTo>
                    <a:lnTo>
                      <a:pt x="1808" y="939"/>
                    </a:lnTo>
                    <a:lnTo>
                      <a:pt x="1725" y="941"/>
                    </a:lnTo>
                    <a:lnTo>
                      <a:pt x="1640" y="942"/>
                    </a:lnTo>
                    <a:lnTo>
                      <a:pt x="1556" y="941"/>
                    </a:lnTo>
                    <a:lnTo>
                      <a:pt x="1473" y="939"/>
                    </a:lnTo>
                    <a:lnTo>
                      <a:pt x="1391" y="936"/>
                    </a:lnTo>
                    <a:lnTo>
                      <a:pt x="1310" y="932"/>
                    </a:lnTo>
                    <a:lnTo>
                      <a:pt x="1230" y="927"/>
                    </a:lnTo>
                    <a:lnTo>
                      <a:pt x="1153" y="921"/>
                    </a:lnTo>
                    <a:lnTo>
                      <a:pt x="1077" y="913"/>
                    </a:lnTo>
                    <a:lnTo>
                      <a:pt x="1002" y="905"/>
                    </a:lnTo>
                    <a:lnTo>
                      <a:pt x="929" y="895"/>
                    </a:lnTo>
                    <a:lnTo>
                      <a:pt x="859" y="885"/>
                    </a:lnTo>
                    <a:lnTo>
                      <a:pt x="790" y="872"/>
                    </a:lnTo>
                    <a:lnTo>
                      <a:pt x="723" y="860"/>
                    </a:lnTo>
                    <a:lnTo>
                      <a:pt x="659" y="847"/>
                    </a:lnTo>
                    <a:lnTo>
                      <a:pt x="597" y="832"/>
                    </a:lnTo>
                    <a:lnTo>
                      <a:pt x="538" y="817"/>
                    </a:lnTo>
                    <a:lnTo>
                      <a:pt x="481" y="802"/>
                    </a:lnTo>
                    <a:lnTo>
                      <a:pt x="427" y="785"/>
                    </a:lnTo>
                    <a:lnTo>
                      <a:pt x="375" y="768"/>
                    </a:lnTo>
                    <a:lnTo>
                      <a:pt x="327" y="749"/>
                    </a:lnTo>
                    <a:lnTo>
                      <a:pt x="280" y="730"/>
                    </a:lnTo>
                    <a:lnTo>
                      <a:pt x="238" y="711"/>
                    </a:lnTo>
                    <a:lnTo>
                      <a:pt x="198" y="691"/>
                    </a:lnTo>
                    <a:lnTo>
                      <a:pt x="162" y="671"/>
                    </a:lnTo>
                    <a:lnTo>
                      <a:pt x="130" y="649"/>
                    </a:lnTo>
                    <a:lnTo>
                      <a:pt x="100" y="627"/>
                    </a:lnTo>
                    <a:lnTo>
                      <a:pt x="74" y="605"/>
                    </a:lnTo>
                    <a:lnTo>
                      <a:pt x="52" y="582"/>
                    </a:lnTo>
                    <a:lnTo>
                      <a:pt x="34" y="559"/>
                    </a:lnTo>
                    <a:lnTo>
                      <a:pt x="20" y="535"/>
                    </a:lnTo>
                    <a:lnTo>
                      <a:pt x="8" y="511"/>
                    </a:lnTo>
                    <a:lnTo>
                      <a:pt x="2" y="487"/>
                    </a:lnTo>
                    <a:lnTo>
                      <a:pt x="0" y="463"/>
                    </a:lnTo>
                    <a:lnTo>
                      <a:pt x="2" y="437"/>
                    </a:lnTo>
                    <a:lnTo>
                      <a:pt x="8" y="413"/>
                    </a:lnTo>
                    <a:lnTo>
                      <a:pt x="20" y="390"/>
                    </a:lnTo>
                    <a:lnTo>
                      <a:pt x="34" y="367"/>
                    </a:lnTo>
                    <a:lnTo>
                      <a:pt x="52" y="344"/>
                    </a:lnTo>
                    <a:lnTo>
                      <a:pt x="74" y="321"/>
                    </a:lnTo>
                    <a:lnTo>
                      <a:pt x="100" y="299"/>
                    </a:lnTo>
                    <a:lnTo>
                      <a:pt x="130" y="278"/>
                    </a:lnTo>
                    <a:lnTo>
                      <a:pt x="162" y="258"/>
                    </a:lnTo>
                    <a:lnTo>
                      <a:pt x="198" y="238"/>
                    </a:lnTo>
                    <a:lnTo>
                      <a:pt x="238" y="218"/>
                    </a:lnTo>
                    <a:lnTo>
                      <a:pt x="280" y="199"/>
                    </a:lnTo>
                    <a:lnTo>
                      <a:pt x="327" y="181"/>
                    </a:lnTo>
                    <a:lnTo>
                      <a:pt x="375" y="164"/>
                    </a:lnTo>
                    <a:lnTo>
                      <a:pt x="427" y="148"/>
                    </a:lnTo>
                    <a:lnTo>
                      <a:pt x="481" y="132"/>
                    </a:lnTo>
                    <a:lnTo>
                      <a:pt x="538" y="116"/>
                    </a:lnTo>
                    <a:lnTo>
                      <a:pt x="597" y="102"/>
                    </a:lnTo>
                    <a:lnTo>
                      <a:pt x="659" y="89"/>
                    </a:lnTo>
                    <a:lnTo>
                      <a:pt x="723" y="76"/>
                    </a:lnTo>
                    <a:lnTo>
                      <a:pt x="790" y="65"/>
                    </a:lnTo>
                    <a:lnTo>
                      <a:pt x="859" y="54"/>
                    </a:lnTo>
                    <a:lnTo>
                      <a:pt x="929" y="44"/>
                    </a:lnTo>
                    <a:lnTo>
                      <a:pt x="1002" y="35"/>
                    </a:lnTo>
                    <a:lnTo>
                      <a:pt x="1077" y="27"/>
                    </a:lnTo>
                    <a:lnTo>
                      <a:pt x="1153" y="20"/>
                    </a:lnTo>
                    <a:lnTo>
                      <a:pt x="1230" y="13"/>
                    </a:lnTo>
                    <a:lnTo>
                      <a:pt x="1310" y="9"/>
                    </a:lnTo>
                    <a:lnTo>
                      <a:pt x="1391" y="5"/>
                    </a:lnTo>
                    <a:lnTo>
                      <a:pt x="1473" y="2"/>
                    </a:lnTo>
                    <a:lnTo>
                      <a:pt x="1556" y="0"/>
                    </a:lnTo>
                    <a:lnTo>
                      <a:pt x="1640" y="0"/>
                    </a:lnTo>
                    <a:lnTo>
                      <a:pt x="1725" y="0"/>
                    </a:lnTo>
                    <a:lnTo>
                      <a:pt x="1808" y="2"/>
                    </a:lnTo>
                    <a:lnTo>
                      <a:pt x="1890" y="5"/>
                    </a:lnTo>
                    <a:lnTo>
                      <a:pt x="1971" y="9"/>
                    </a:lnTo>
                    <a:lnTo>
                      <a:pt x="2050" y="13"/>
                    </a:lnTo>
                    <a:lnTo>
                      <a:pt x="2128" y="20"/>
                    </a:lnTo>
                    <a:lnTo>
                      <a:pt x="2204" y="27"/>
                    </a:lnTo>
                    <a:lnTo>
                      <a:pt x="2279" y="35"/>
                    </a:lnTo>
                    <a:lnTo>
                      <a:pt x="2351" y="44"/>
                    </a:lnTo>
                    <a:lnTo>
                      <a:pt x="2422" y="54"/>
                    </a:lnTo>
                    <a:lnTo>
                      <a:pt x="2491" y="65"/>
                    </a:lnTo>
                    <a:lnTo>
                      <a:pt x="2557" y="76"/>
                    </a:lnTo>
                    <a:lnTo>
                      <a:pt x="2622" y="89"/>
                    </a:lnTo>
                    <a:lnTo>
                      <a:pt x="2684" y="102"/>
                    </a:lnTo>
                    <a:lnTo>
                      <a:pt x="2743" y="116"/>
                    </a:lnTo>
                    <a:lnTo>
                      <a:pt x="2800" y="132"/>
                    </a:lnTo>
                    <a:lnTo>
                      <a:pt x="2854" y="148"/>
                    </a:lnTo>
                    <a:lnTo>
                      <a:pt x="2906" y="164"/>
                    </a:lnTo>
                    <a:lnTo>
                      <a:pt x="2954" y="181"/>
                    </a:lnTo>
                    <a:lnTo>
                      <a:pt x="3001" y="199"/>
                    </a:lnTo>
                    <a:lnTo>
                      <a:pt x="3043" y="218"/>
                    </a:lnTo>
                    <a:lnTo>
                      <a:pt x="3083" y="238"/>
                    </a:lnTo>
                    <a:lnTo>
                      <a:pt x="3119" y="258"/>
                    </a:lnTo>
                    <a:lnTo>
                      <a:pt x="3151" y="278"/>
                    </a:lnTo>
                    <a:lnTo>
                      <a:pt x="3182" y="299"/>
                    </a:lnTo>
                    <a:lnTo>
                      <a:pt x="3207" y="321"/>
                    </a:lnTo>
                    <a:lnTo>
                      <a:pt x="3229" y="344"/>
                    </a:lnTo>
                    <a:lnTo>
                      <a:pt x="3247" y="367"/>
                    </a:lnTo>
                    <a:lnTo>
                      <a:pt x="3261" y="390"/>
                    </a:lnTo>
                    <a:lnTo>
                      <a:pt x="3273" y="413"/>
                    </a:lnTo>
                    <a:lnTo>
                      <a:pt x="3279" y="437"/>
                    </a:lnTo>
                    <a:lnTo>
                      <a:pt x="3281" y="4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967400" y="6502320"/>
                <a:ext cx="361440" cy="113040"/>
              </a:xfrm>
              <a:custGeom>
                <a:avLst/>
                <a:gdLst/>
                <a:ahLst/>
                <a:rect l="l" t="t" r="r" b="b"/>
                <a:pathLst>
                  <a:path w="3278" h="940">
                    <a:moveTo>
                      <a:pt x="3278" y="462"/>
                    </a:moveTo>
                    <a:lnTo>
                      <a:pt x="3276" y="486"/>
                    </a:lnTo>
                    <a:lnTo>
                      <a:pt x="3268" y="510"/>
                    </a:lnTo>
                    <a:lnTo>
                      <a:pt x="3258" y="534"/>
                    </a:lnTo>
                    <a:lnTo>
                      <a:pt x="3244" y="558"/>
                    </a:lnTo>
                    <a:lnTo>
                      <a:pt x="3226" y="581"/>
                    </a:lnTo>
                    <a:lnTo>
                      <a:pt x="3204" y="604"/>
                    </a:lnTo>
                    <a:lnTo>
                      <a:pt x="3178" y="626"/>
                    </a:lnTo>
                    <a:lnTo>
                      <a:pt x="3148" y="647"/>
                    </a:lnTo>
                    <a:lnTo>
                      <a:pt x="3116" y="669"/>
                    </a:lnTo>
                    <a:lnTo>
                      <a:pt x="3080" y="690"/>
                    </a:lnTo>
                    <a:lnTo>
                      <a:pt x="3040" y="710"/>
                    </a:lnTo>
                    <a:lnTo>
                      <a:pt x="2998" y="729"/>
                    </a:lnTo>
                    <a:lnTo>
                      <a:pt x="2951" y="747"/>
                    </a:lnTo>
                    <a:lnTo>
                      <a:pt x="2903" y="765"/>
                    </a:lnTo>
                    <a:lnTo>
                      <a:pt x="2851" y="784"/>
                    </a:lnTo>
                    <a:lnTo>
                      <a:pt x="2797" y="800"/>
                    </a:lnTo>
                    <a:lnTo>
                      <a:pt x="2740" y="816"/>
                    </a:lnTo>
                    <a:lnTo>
                      <a:pt x="2681" y="831"/>
                    </a:lnTo>
                    <a:lnTo>
                      <a:pt x="2619" y="845"/>
                    </a:lnTo>
                    <a:lnTo>
                      <a:pt x="2554" y="858"/>
                    </a:lnTo>
                    <a:lnTo>
                      <a:pt x="2488" y="870"/>
                    </a:lnTo>
                    <a:lnTo>
                      <a:pt x="2419" y="883"/>
                    </a:lnTo>
                    <a:lnTo>
                      <a:pt x="2348" y="893"/>
                    </a:lnTo>
                    <a:lnTo>
                      <a:pt x="2277" y="903"/>
                    </a:lnTo>
                    <a:lnTo>
                      <a:pt x="2202" y="911"/>
                    </a:lnTo>
                    <a:lnTo>
                      <a:pt x="2126" y="919"/>
                    </a:lnTo>
                    <a:lnTo>
                      <a:pt x="2048" y="925"/>
                    </a:lnTo>
                    <a:lnTo>
                      <a:pt x="1969" y="930"/>
                    </a:lnTo>
                    <a:lnTo>
                      <a:pt x="1888" y="935"/>
                    </a:lnTo>
                    <a:lnTo>
                      <a:pt x="1806" y="938"/>
                    </a:lnTo>
                    <a:lnTo>
                      <a:pt x="1723" y="939"/>
                    </a:lnTo>
                    <a:lnTo>
                      <a:pt x="1638" y="940"/>
                    </a:lnTo>
                    <a:lnTo>
                      <a:pt x="1555" y="939"/>
                    </a:lnTo>
                    <a:lnTo>
                      <a:pt x="1471" y="938"/>
                    </a:lnTo>
                    <a:lnTo>
                      <a:pt x="1389" y="935"/>
                    </a:lnTo>
                    <a:lnTo>
                      <a:pt x="1308" y="930"/>
                    </a:lnTo>
                    <a:lnTo>
                      <a:pt x="1229" y="925"/>
                    </a:lnTo>
                    <a:lnTo>
                      <a:pt x="1152" y="919"/>
                    </a:lnTo>
                    <a:lnTo>
                      <a:pt x="1075" y="911"/>
                    </a:lnTo>
                    <a:lnTo>
                      <a:pt x="1000" y="903"/>
                    </a:lnTo>
                    <a:lnTo>
                      <a:pt x="928" y="893"/>
                    </a:lnTo>
                    <a:lnTo>
                      <a:pt x="858" y="883"/>
                    </a:lnTo>
                    <a:lnTo>
                      <a:pt x="789" y="870"/>
                    </a:lnTo>
                    <a:lnTo>
                      <a:pt x="722" y="858"/>
                    </a:lnTo>
                    <a:lnTo>
                      <a:pt x="658" y="845"/>
                    </a:lnTo>
                    <a:lnTo>
                      <a:pt x="596" y="831"/>
                    </a:lnTo>
                    <a:lnTo>
                      <a:pt x="537" y="816"/>
                    </a:lnTo>
                    <a:lnTo>
                      <a:pt x="480" y="800"/>
                    </a:lnTo>
                    <a:lnTo>
                      <a:pt x="426" y="784"/>
                    </a:lnTo>
                    <a:lnTo>
                      <a:pt x="374" y="765"/>
                    </a:lnTo>
                    <a:lnTo>
                      <a:pt x="326" y="747"/>
                    </a:lnTo>
                    <a:lnTo>
                      <a:pt x="280" y="729"/>
                    </a:lnTo>
                    <a:lnTo>
                      <a:pt x="237" y="710"/>
                    </a:lnTo>
                    <a:lnTo>
                      <a:pt x="197" y="690"/>
                    </a:lnTo>
                    <a:lnTo>
                      <a:pt x="161" y="669"/>
                    </a:lnTo>
                    <a:lnTo>
                      <a:pt x="129" y="647"/>
                    </a:lnTo>
                    <a:lnTo>
                      <a:pt x="99" y="626"/>
                    </a:lnTo>
                    <a:lnTo>
                      <a:pt x="73" y="604"/>
                    </a:lnTo>
                    <a:lnTo>
                      <a:pt x="52" y="581"/>
                    </a:lnTo>
                    <a:lnTo>
                      <a:pt x="33" y="558"/>
                    </a:lnTo>
                    <a:lnTo>
                      <a:pt x="19" y="534"/>
                    </a:lnTo>
                    <a:lnTo>
                      <a:pt x="8" y="510"/>
                    </a:lnTo>
                    <a:lnTo>
                      <a:pt x="2" y="486"/>
                    </a:lnTo>
                    <a:lnTo>
                      <a:pt x="0" y="462"/>
                    </a:lnTo>
                    <a:lnTo>
                      <a:pt x="2" y="436"/>
                    </a:lnTo>
                    <a:lnTo>
                      <a:pt x="8" y="412"/>
                    </a:lnTo>
                    <a:lnTo>
                      <a:pt x="19" y="389"/>
                    </a:lnTo>
                    <a:lnTo>
                      <a:pt x="33" y="366"/>
                    </a:lnTo>
                    <a:lnTo>
                      <a:pt x="52" y="343"/>
                    </a:lnTo>
                    <a:lnTo>
                      <a:pt x="73" y="320"/>
                    </a:lnTo>
                    <a:lnTo>
                      <a:pt x="99" y="299"/>
                    </a:lnTo>
                    <a:lnTo>
                      <a:pt x="129" y="278"/>
                    </a:lnTo>
                    <a:lnTo>
                      <a:pt x="161" y="257"/>
                    </a:lnTo>
                    <a:lnTo>
                      <a:pt x="197" y="237"/>
                    </a:lnTo>
                    <a:lnTo>
                      <a:pt x="237" y="217"/>
                    </a:lnTo>
                    <a:lnTo>
                      <a:pt x="280" y="199"/>
                    </a:lnTo>
                    <a:lnTo>
                      <a:pt x="326" y="181"/>
                    </a:lnTo>
                    <a:lnTo>
                      <a:pt x="374" y="164"/>
                    </a:lnTo>
                    <a:lnTo>
                      <a:pt x="426" y="147"/>
                    </a:lnTo>
                    <a:lnTo>
                      <a:pt x="480" y="132"/>
                    </a:lnTo>
                    <a:lnTo>
                      <a:pt x="537" y="116"/>
                    </a:lnTo>
                    <a:lnTo>
                      <a:pt x="596" y="102"/>
                    </a:lnTo>
                    <a:lnTo>
                      <a:pt x="658" y="89"/>
                    </a:lnTo>
                    <a:lnTo>
                      <a:pt x="722" y="76"/>
                    </a:lnTo>
                    <a:lnTo>
                      <a:pt x="789" y="64"/>
                    </a:lnTo>
                    <a:lnTo>
                      <a:pt x="858" y="54"/>
                    </a:lnTo>
                    <a:lnTo>
                      <a:pt x="928" y="44"/>
                    </a:lnTo>
                    <a:lnTo>
                      <a:pt x="1000" y="35"/>
                    </a:lnTo>
                    <a:lnTo>
                      <a:pt x="1075" y="27"/>
                    </a:lnTo>
                    <a:lnTo>
                      <a:pt x="1152" y="20"/>
                    </a:lnTo>
                    <a:lnTo>
                      <a:pt x="1229" y="13"/>
                    </a:lnTo>
                    <a:lnTo>
                      <a:pt x="1308" y="8"/>
                    </a:lnTo>
                    <a:lnTo>
                      <a:pt x="1389" y="5"/>
                    </a:lnTo>
                    <a:lnTo>
                      <a:pt x="1471" y="2"/>
                    </a:lnTo>
                    <a:lnTo>
                      <a:pt x="1555" y="0"/>
                    </a:lnTo>
                    <a:lnTo>
                      <a:pt x="1638" y="0"/>
                    </a:lnTo>
                    <a:lnTo>
                      <a:pt x="1723" y="0"/>
                    </a:lnTo>
                    <a:lnTo>
                      <a:pt x="1806" y="2"/>
                    </a:lnTo>
                    <a:lnTo>
                      <a:pt x="1888" y="5"/>
                    </a:lnTo>
                    <a:lnTo>
                      <a:pt x="1969" y="8"/>
                    </a:lnTo>
                    <a:lnTo>
                      <a:pt x="2048" y="13"/>
                    </a:lnTo>
                    <a:lnTo>
                      <a:pt x="2126" y="20"/>
                    </a:lnTo>
                    <a:lnTo>
                      <a:pt x="2202" y="27"/>
                    </a:lnTo>
                    <a:lnTo>
                      <a:pt x="2277" y="35"/>
                    </a:lnTo>
                    <a:lnTo>
                      <a:pt x="2348" y="44"/>
                    </a:lnTo>
                    <a:lnTo>
                      <a:pt x="2419" y="54"/>
                    </a:lnTo>
                    <a:lnTo>
                      <a:pt x="2488" y="64"/>
                    </a:lnTo>
                    <a:lnTo>
                      <a:pt x="2554" y="76"/>
                    </a:lnTo>
                    <a:lnTo>
                      <a:pt x="2619" y="89"/>
                    </a:lnTo>
                    <a:lnTo>
                      <a:pt x="2681" y="102"/>
                    </a:lnTo>
                    <a:lnTo>
                      <a:pt x="2740" y="116"/>
                    </a:lnTo>
                    <a:lnTo>
                      <a:pt x="2797" y="132"/>
                    </a:lnTo>
                    <a:lnTo>
                      <a:pt x="2851" y="147"/>
                    </a:lnTo>
                    <a:lnTo>
                      <a:pt x="2903" y="164"/>
                    </a:lnTo>
                    <a:lnTo>
                      <a:pt x="2951" y="181"/>
                    </a:lnTo>
                    <a:lnTo>
                      <a:pt x="2998" y="199"/>
                    </a:lnTo>
                    <a:lnTo>
                      <a:pt x="3040" y="217"/>
                    </a:lnTo>
                    <a:lnTo>
                      <a:pt x="3080" y="237"/>
                    </a:lnTo>
                    <a:lnTo>
                      <a:pt x="3116" y="257"/>
                    </a:lnTo>
                    <a:lnTo>
                      <a:pt x="3148" y="278"/>
                    </a:lnTo>
                    <a:lnTo>
                      <a:pt x="3178" y="299"/>
                    </a:lnTo>
                    <a:lnTo>
                      <a:pt x="3204" y="320"/>
                    </a:lnTo>
                    <a:lnTo>
                      <a:pt x="3226" y="343"/>
                    </a:lnTo>
                    <a:lnTo>
                      <a:pt x="3244" y="366"/>
                    </a:lnTo>
                    <a:lnTo>
                      <a:pt x="3258" y="389"/>
                    </a:lnTo>
                    <a:lnTo>
                      <a:pt x="3268" y="412"/>
                    </a:lnTo>
                    <a:lnTo>
                      <a:pt x="3276" y="436"/>
                    </a:lnTo>
                    <a:lnTo>
                      <a:pt x="3278" y="4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967400" y="6502320"/>
                <a:ext cx="361440" cy="111600"/>
              </a:xfrm>
              <a:custGeom>
                <a:avLst/>
                <a:gdLst/>
                <a:ahLst/>
                <a:rect l="l" t="t" r="r" b="b"/>
                <a:pathLst>
                  <a:path w="3275" h="938">
                    <a:moveTo>
                      <a:pt x="3275" y="461"/>
                    </a:moveTo>
                    <a:lnTo>
                      <a:pt x="3273" y="485"/>
                    </a:lnTo>
                    <a:lnTo>
                      <a:pt x="3266" y="509"/>
                    </a:lnTo>
                    <a:lnTo>
                      <a:pt x="3256" y="533"/>
                    </a:lnTo>
                    <a:lnTo>
                      <a:pt x="3241" y="557"/>
                    </a:lnTo>
                    <a:lnTo>
                      <a:pt x="3223" y="580"/>
                    </a:lnTo>
                    <a:lnTo>
                      <a:pt x="3201" y="602"/>
                    </a:lnTo>
                    <a:lnTo>
                      <a:pt x="3176" y="624"/>
                    </a:lnTo>
                    <a:lnTo>
                      <a:pt x="3146" y="646"/>
                    </a:lnTo>
                    <a:lnTo>
                      <a:pt x="3113" y="668"/>
                    </a:lnTo>
                    <a:lnTo>
                      <a:pt x="3078" y="688"/>
                    </a:lnTo>
                    <a:lnTo>
                      <a:pt x="3037" y="708"/>
                    </a:lnTo>
                    <a:lnTo>
                      <a:pt x="2995" y="727"/>
                    </a:lnTo>
                    <a:lnTo>
                      <a:pt x="2949" y="746"/>
                    </a:lnTo>
                    <a:lnTo>
                      <a:pt x="2901" y="764"/>
                    </a:lnTo>
                    <a:lnTo>
                      <a:pt x="2849" y="782"/>
                    </a:lnTo>
                    <a:lnTo>
                      <a:pt x="2795" y="798"/>
                    </a:lnTo>
                    <a:lnTo>
                      <a:pt x="2738" y="814"/>
                    </a:lnTo>
                    <a:lnTo>
                      <a:pt x="2679" y="829"/>
                    </a:lnTo>
                    <a:lnTo>
                      <a:pt x="2617" y="843"/>
                    </a:lnTo>
                    <a:lnTo>
                      <a:pt x="2552" y="856"/>
                    </a:lnTo>
                    <a:lnTo>
                      <a:pt x="2487" y="869"/>
                    </a:lnTo>
                    <a:lnTo>
                      <a:pt x="2418" y="881"/>
                    </a:lnTo>
                    <a:lnTo>
                      <a:pt x="2347" y="891"/>
                    </a:lnTo>
                    <a:lnTo>
                      <a:pt x="2275" y="901"/>
                    </a:lnTo>
                    <a:lnTo>
                      <a:pt x="2200" y="909"/>
                    </a:lnTo>
                    <a:lnTo>
                      <a:pt x="2124" y="917"/>
                    </a:lnTo>
                    <a:lnTo>
                      <a:pt x="2046" y="923"/>
                    </a:lnTo>
                    <a:lnTo>
                      <a:pt x="1968" y="928"/>
                    </a:lnTo>
                    <a:lnTo>
                      <a:pt x="1887" y="933"/>
                    </a:lnTo>
                    <a:lnTo>
                      <a:pt x="1805" y="936"/>
                    </a:lnTo>
                    <a:lnTo>
                      <a:pt x="1721" y="937"/>
                    </a:lnTo>
                    <a:lnTo>
                      <a:pt x="1637" y="938"/>
                    </a:lnTo>
                    <a:lnTo>
                      <a:pt x="1554" y="937"/>
                    </a:lnTo>
                    <a:lnTo>
                      <a:pt x="1470" y="936"/>
                    </a:lnTo>
                    <a:lnTo>
                      <a:pt x="1388" y="933"/>
                    </a:lnTo>
                    <a:lnTo>
                      <a:pt x="1307" y="928"/>
                    </a:lnTo>
                    <a:lnTo>
                      <a:pt x="1228" y="923"/>
                    </a:lnTo>
                    <a:lnTo>
                      <a:pt x="1151" y="917"/>
                    </a:lnTo>
                    <a:lnTo>
                      <a:pt x="1075" y="909"/>
                    </a:lnTo>
                    <a:lnTo>
                      <a:pt x="1000" y="901"/>
                    </a:lnTo>
                    <a:lnTo>
                      <a:pt x="927" y="891"/>
                    </a:lnTo>
                    <a:lnTo>
                      <a:pt x="857" y="881"/>
                    </a:lnTo>
                    <a:lnTo>
                      <a:pt x="788" y="869"/>
                    </a:lnTo>
                    <a:lnTo>
                      <a:pt x="722" y="856"/>
                    </a:lnTo>
                    <a:lnTo>
                      <a:pt x="658" y="843"/>
                    </a:lnTo>
                    <a:lnTo>
                      <a:pt x="596" y="829"/>
                    </a:lnTo>
                    <a:lnTo>
                      <a:pt x="537" y="814"/>
                    </a:lnTo>
                    <a:lnTo>
                      <a:pt x="480" y="798"/>
                    </a:lnTo>
                    <a:lnTo>
                      <a:pt x="426" y="782"/>
                    </a:lnTo>
                    <a:lnTo>
                      <a:pt x="374" y="764"/>
                    </a:lnTo>
                    <a:lnTo>
                      <a:pt x="326" y="746"/>
                    </a:lnTo>
                    <a:lnTo>
                      <a:pt x="280" y="727"/>
                    </a:lnTo>
                    <a:lnTo>
                      <a:pt x="238" y="708"/>
                    </a:lnTo>
                    <a:lnTo>
                      <a:pt x="198" y="688"/>
                    </a:lnTo>
                    <a:lnTo>
                      <a:pt x="162" y="668"/>
                    </a:lnTo>
                    <a:lnTo>
                      <a:pt x="129" y="646"/>
                    </a:lnTo>
                    <a:lnTo>
                      <a:pt x="99" y="624"/>
                    </a:lnTo>
                    <a:lnTo>
                      <a:pt x="74" y="602"/>
                    </a:lnTo>
                    <a:lnTo>
                      <a:pt x="52" y="580"/>
                    </a:lnTo>
                    <a:lnTo>
                      <a:pt x="34" y="557"/>
                    </a:lnTo>
                    <a:lnTo>
                      <a:pt x="20" y="533"/>
                    </a:lnTo>
                    <a:lnTo>
                      <a:pt x="8" y="509"/>
                    </a:lnTo>
                    <a:lnTo>
                      <a:pt x="2" y="485"/>
                    </a:lnTo>
                    <a:lnTo>
                      <a:pt x="0" y="461"/>
                    </a:lnTo>
                    <a:lnTo>
                      <a:pt x="2" y="435"/>
                    </a:lnTo>
                    <a:lnTo>
                      <a:pt x="8" y="411"/>
                    </a:lnTo>
                    <a:lnTo>
                      <a:pt x="20" y="388"/>
                    </a:lnTo>
                    <a:lnTo>
                      <a:pt x="34" y="365"/>
                    </a:lnTo>
                    <a:lnTo>
                      <a:pt x="52" y="342"/>
                    </a:lnTo>
                    <a:lnTo>
                      <a:pt x="74" y="319"/>
                    </a:lnTo>
                    <a:lnTo>
                      <a:pt x="99" y="298"/>
                    </a:lnTo>
                    <a:lnTo>
                      <a:pt x="129" y="277"/>
                    </a:lnTo>
                    <a:lnTo>
                      <a:pt x="162" y="257"/>
                    </a:lnTo>
                    <a:lnTo>
                      <a:pt x="198" y="237"/>
                    </a:lnTo>
                    <a:lnTo>
                      <a:pt x="238" y="217"/>
                    </a:lnTo>
                    <a:lnTo>
                      <a:pt x="280" y="198"/>
                    </a:lnTo>
                    <a:lnTo>
                      <a:pt x="326" y="181"/>
                    </a:lnTo>
                    <a:lnTo>
                      <a:pt x="374" y="163"/>
                    </a:lnTo>
                    <a:lnTo>
                      <a:pt x="426" y="147"/>
                    </a:lnTo>
                    <a:lnTo>
                      <a:pt x="480" y="131"/>
                    </a:lnTo>
                    <a:lnTo>
                      <a:pt x="537" y="116"/>
                    </a:lnTo>
                    <a:lnTo>
                      <a:pt x="596" y="102"/>
                    </a:lnTo>
                    <a:lnTo>
                      <a:pt x="658" y="88"/>
                    </a:lnTo>
                    <a:lnTo>
                      <a:pt x="722" y="76"/>
                    </a:lnTo>
                    <a:lnTo>
                      <a:pt x="788" y="64"/>
                    </a:lnTo>
                    <a:lnTo>
                      <a:pt x="857" y="54"/>
                    </a:lnTo>
                    <a:lnTo>
                      <a:pt x="927" y="44"/>
                    </a:lnTo>
                    <a:lnTo>
                      <a:pt x="1000" y="35"/>
                    </a:lnTo>
                    <a:lnTo>
                      <a:pt x="1075" y="27"/>
                    </a:lnTo>
                    <a:lnTo>
                      <a:pt x="1151" y="20"/>
                    </a:lnTo>
                    <a:lnTo>
                      <a:pt x="1228" y="13"/>
                    </a:lnTo>
                    <a:lnTo>
                      <a:pt x="1307" y="8"/>
                    </a:lnTo>
                    <a:lnTo>
                      <a:pt x="1388" y="5"/>
                    </a:lnTo>
                    <a:lnTo>
                      <a:pt x="1470" y="2"/>
                    </a:lnTo>
                    <a:lnTo>
                      <a:pt x="1554" y="0"/>
                    </a:lnTo>
                    <a:lnTo>
                      <a:pt x="1637" y="0"/>
                    </a:lnTo>
                    <a:lnTo>
                      <a:pt x="1721" y="0"/>
                    </a:lnTo>
                    <a:lnTo>
                      <a:pt x="1805" y="2"/>
                    </a:lnTo>
                    <a:lnTo>
                      <a:pt x="1887" y="5"/>
                    </a:lnTo>
                    <a:lnTo>
                      <a:pt x="1968" y="8"/>
                    </a:lnTo>
                    <a:lnTo>
                      <a:pt x="2046" y="13"/>
                    </a:lnTo>
                    <a:lnTo>
                      <a:pt x="2124" y="20"/>
                    </a:lnTo>
                    <a:lnTo>
                      <a:pt x="2200" y="27"/>
                    </a:lnTo>
                    <a:lnTo>
                      <a:pt x="2275" y="35"/>
                    </a:lnTo>
                    <a:lnTo>
                      <a:pt x="2347" y="44"/>
                    </a:lnTo>
                    <a:lnTo>
                      <a:pt x="2418" y="54"/>
                    </a:lnTo>
                    <a:lnTo>
                      <a:pt x="2487" y="64"/>
                    </a:lnTo>
                    <a:lnTo>
                      <a:pt x="2552" y="76"/>
                    </a:lnTo>
                    <a:lnTo>
                      <a:pt x="2617" y="88"/>
                    </a:lnTo>
                    <a:lnTo>
                      <a:pt x="2679" y="102"/>
                    </a:lnTo>
                    <a:lnTo>
                      <a:pt x="2738" y="116"/>
                    </a:lnTo>
                    <a:lnTo>
                      <a:pt x="2795" y="131"/>
                    </a:lnTo>
                    <a:lnTo>
                      <a:pt x="2849" y="147"/>
                    </a:lnTo>
                    <a:lnTo>
                      <a:pt x="2901" y="163"/>
                    </a:lnTo>
                    <a:lnTo>
                      <a:pt x="2949" y="181"/>
                    </a:lnTo>
                    <a:lnTo>
                      <a:pt x="2995" y="198"/>
                    </a:lnTo>
                    <a:lnTo>
                      <a:pt x="3037" y="217"/>
                    </a:lnTo>
                    <a:lnTo>
                      <a:pt x="3078" y="237"/>
                    </a:lnTo>
                    <a:lnTo>
                      <a:pt x="3113" y="257"/>
                    </a:lnTo>
                    <a:lnTo>
                      <a:pt x="3146" y="277"/>
                    </a:lnTo>
                    <a:lnTo>
                      <a:pt x="3176" y="298"/>
                    </a:lnTo>
                    <a:lnTo>
                      <a:pt x="3201" y="319"/>
                    </a:lnTo>
                    <a:lnTo>
                      <a:pt x="3223" y="342"/>
                    </a:lnTo>
                    <a:lnTo>
                      <a:pt x="3241" y="365"/>
                    </a:lnTo>
                    <a:lnTo>
                      <a:pt x="3256" y="388"/>
                    </a:lnTo>
                    <a:lnTo>
                      <a:pt x="3266" y="411"/>
                    </a:lnTo>
                    <a:lnTo>
                      <a:pt x="3273" y="435"/>
                    </a:lnTo>
                    <a:lnTo>
                      <a:pt x="3275" y="4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967400" y="6502320"/>
                <a:ext cx="361440" cy="111600"/>
              </a:xfrm>
              <a:custGeom>
                <a:avLst/>
                <a:gdLst/>
                <a:ahLst/>
                <a:rect l="l" t="t" r="r" b="b"/>
                <a:pathLst>
                  <a:path w="3273" h="937">
                    <a:moveTo>
                      <a:pt x="3273" y="461"/>
                    </a:moveTo>
                    <a:lnTo>
                      <a:pt x="3271" y="485"/>
                    </a:lnTo>
                    <a:lnTo>
                      <a:pt x="3263" y="509"/>
                    </a:lnTo>
                    <a:lnTo>
                      <a:pt x="3253" y="533"/>
                    </a:lnTo>
                    <a:lnTo>
                      <a:pt x="3239" y="557"/>
                    </a:lnTo>
                    <a:lnTo>
                      <a:pt x="3221" y="580"/>
                    </a:lnTo>
                    <a:lnTo>
                      <a:pt x="3199" y="602"/>
                    </a:lnTo>
                    <a:lnTo>
                      <a:pt x="3173" y="624"/>
                    </a:lnTo>
                    <a:lnTo>
                      <a:pt x="3144" y="646"/>
                    </a:lnTo>
                    <a:lnTo>
                      <a:pt x="3111" y="668"/>
                    </a:lnTo>
                    <a:lnTo>
                      <a:pt x="3075" y="688"/>
                    </a:lnTo>
                    <a:lnTo>
                      <a:pt x="3035" y="708"/>
                    </a:lnTo>
                    <a:lnTo>
                      <a:pt x="2993" y="727"/>
                    </a:lnTo>
                    <a:lnTo>
                      <a:pt x="2947" y="745"/>
                    </a:lnTo>
                    <a:lnTo>
                      <a:pt x="2899" y="763"/>
                    </a:lnTo>
                    <a:lnTo>
                      <a:pt x="2847" y="781"/>
                    </a:lnTo>
                    <a:lnTo>
                      <a:pt x="2793" y="798"/>
                    </a:lnTo>
                    <a:lnTo>
                      <a:pt x="2736" y="813"/>
                    </a:lnTo>
                    <a:lnTo>
                      <a:pt x="2677" y="828"/>
                    </a:lnTo>
                    <a:lnTo>
                      <a:pt x="2615" y="842"/>
                    </a:lnTo>
                    <a:lnTo>
                      <a:pt x="2551" y="855"/>
                    </a:lnTo>
                    <a:lnTo>
                      <a:pt x="2485" y="868"/>
                    </a:lnTo>
                    <a:lnTo>
                      <a:pt x="2416" y="880"/>
                    </a:lnTo>
                    <a:lnTo>
                      <a:pt x="2345" y="891"/>
                    </a:lnTo>
                    <a:lnTo>
                      <a:pt x="2274" y="900"/>
                    </a:lnTo>
                    <a:lnTo>
                      <a:pt x="2199" y="909"/>
                    </a:lnTo>
                    <a:lnTo>
                      <a:pt x="2123" y="916"/>
                    </a:lnTo>
                    <a:lnTo>
                      <a:pt x="2045" y="922"/>
                    </a:lnTo>
                    <a:lnTo>
                      <a:pt x="1966" y="928"/>
                    </a:lnTo>
                    <a:lnTo>
                      <a:pt x="1886" y="932"/>
                    </a:lnTo>
                    <a:lnTo>
                      <a:pt x="1804" y="935"/>
                    </a:lnTo>
                    <a:lnTo>
                      <a:pt x="1720" y="937"/>
                    </a:lnTo>
                    <a:lnTo>
                      <a:pt x="1636" y="937"/>
                    </a:lnTo>
                    <a:lnTo>
                      <a:pt x="1553" y="937"/>
                    </a:lnTo>
                    <a:lnTo>
                      <a:pt x="1469" y="935"/>
                    </a:lnTo>
                    <a:lnTo>
                      <a:pt x="1387" y="932"/>
                    </a:lnTo>
                    <a:lnTo>
                      <a:pt x="1307" y="928"/>
                    </a:lnTo>
                    <a:lnTo>
                      <a:pt x="1227" y="922"/>
                    </a:lnTo>
                    <a:lnTo>
                      <a:pt x="1150" y="916"/>
                    </a:lnTo>
                    <a:lnTo>
                      <a:pt x="1074" y="909"/>
                    </a:lnTo>
                    <a:lnTo>
                      <a:pt x="1000" y="900"/>
                    </a:lnTo>
                    <a:lnTo>
                      <a:pt x="927" y="891"/>
                    </a:lnTo>
                    <a:lnTo>
                      <a:pt x="857" y="880"/>
                    </a:lnTo>
                    <a:lnTo>
                      <a:pt x="788" y="868"/>
                    </a:lnTo>
                    <a:lnTo>
                      <a:pt x="721" y="855"/>
                    </a:lnTo>
                    <a:lnTo>
                      <a:pt x="658" y="842"/>
                    </a:lnTo>
                    <a:lnTo>
                      <a:pt x="596" y="828"/>
                    </a:lnTo>
                    <a:lnTo>
                      <a:pt x="537" y="813"/>
                    </a:lnTo>
                    <a:lnTo>
                      <a:pt x="480" y="798"/>
                    </a:lnTo>
                    <a:lnTo>
                      <a:pt x="426" y="781"/>
                    </a:lnTo>
                    <a:lnTo>
                      <a:pt x="374" y="763"/>
                    </a:lnTo>
                    <a:lnTo>
                      <a:pt x="326" y="745"/>
                    </a:lnTo>
                    <a:lnTo>
                      <a:pt x="280" y="727"/>
                    </a:lnTo>
                    <a:lnTo>
                      <a:pt x="238" y="708"/>
                    </a:lnTo>
                    <a:lnTo>
                      <a:pt x="198" y="688"/>
                    </a:lnTo>
                    <a:lnTo>
                      <a:pt x="162" y="668"/>
                    </a:lnTo>
                    <a:lnTo>
                      <a:pt x="130" y="646"/>
                    </a:lnTo>
                    <a:lnTo>
                      <a:pt x="100" y="624"/>
                    </a:lnTo>
                    <a:lnTo>
                      <a:pt x="74" y="602"/>
                    </a:lnTo>
                    <a:lnTo>
                      <a:pt x="52" y="580"/>
                    </a:lnTo>
                    <a:lnTo>
                      <a:pt x="34" y="557"/>
                    </a:lnTo>
                    <a:lnTo>
                      <a:pt x="20" y="533"/>
                    </a:lnTo>
                    <a:lnTo>
                      <a:pt x="9" y="509"/>
                    </a:lnTo>
                    <a:lnTo>
                      <a:pt x="2" y="485"/>
                    </a:lnTo>
                    <a:lnTo>
                      <a:pt x="0" y="461"/>
                    </a:lnTo>
                    <a:lnTo>
                      <a:pt x="2" y="435"/>
                    </a:lnTo>
                    <a:lnTo>
                      <a:pt x="9" y="411"/>
                    </a:lnTo>
                    <a:lnTo>
                      <a:pt x="20" y="388"/>
                    </a:lnTo>
                    <a:lnTo>
                      <a:pt x="34" y="365"/>
                    </a:lnTo>
                    <a:lnTo>
                      <a:pt x="52" y="343"/>
                    </a:lnTo>
                    <a:lnTo>
                      <a:pt x="74" y="320"/>
                    </a:lnTo>
                    <a:lnTo>
                      <a:pt x="100" y="298"/>
                    </a:lnTo>
                    <a:lnTo>
                      <a:pt x="130" y="277"/>
                    </a:lnTo>
                    <a:lnTo>
                      <a:pt x="162" y="257"/>
                    </a:lnTo>
                    <a:lnTo>
                      <a:pt x="198" y="237"/>
                    </a:lnTo>
                    <a:lnTo>
                      <a:pt x="238" y="217"/>
                    </a:lnTo>
                    <a:lnTo>
                      <a:pt x="280" y="199"/>
                    </a:lnTo>
                    <a:lnTo>
                      <a:pt x="326" y="181"/>
                    </a:lnTo>
                    <a:lnTo>
                      <a:pt x="374" y="164"/>
                    </a:lnTo>
                    <a:lnTo>
                      <a:pt x="426" y="148"/>
                    </a:lnTo>
                    <a:lnTo>
                      <a:pt x="480" y="132"/>
                    </a:lnTo>
                    <a:lnTo>
                      <a:pt x="537" y="116"/>
                    </a:lnTo>
                    <a:lnTo>
                      <a:pt x="596" y="102"/>
                    </a:lnTo>
                    <a:lnTo>
                      <a:pt x="658" y="89"/>
                    </a:lnTo>
                    <a:lnTo>
                      <a:pt x="721" y="77"/>
                    </a:lnTo>
                    <a:lnTo>
                      <a:pt x="788" y="65"/>
                    </a:lnTo>
                    <a:lnTo>
                      <a:pt x="857" y="54"/>
                    </a:lnTo>
                    <a:lnTo>
                      <a:pt x="927" y="45"/>
                    </a:lnTo>
                    <a:lnTo>
                      <a:pt x="1000" y="36"/>
                    </a:lnTo>
                    <a:lnTo>
                      <a:pt x="1074" y="28"/>
                    </a:lnTo>
                    <a:lnTo>
                      <a:pt x="1150" y="21"/>
                    </a:lnTo>
                    <a:lnTo>
                      <a:pt x="1227" y="14"/>
                    </a:lnTo>
                    <a:lnTo>
                      <a:pt x="1307" y="9"/>
                    </a:lnTo>
                    <a:lnTo>
                      <a:pt x="1387" y="6"/>
                    </a:lnTo>
                    <a:lnTo>
                      <a:pt x="1469" y="3"/>
                    </a:lnTo>
                    <a:lnTo>
                      <a:pt x="1553" y="1"/>
                    </a:lnTo>
                    <a:lnTo>
                      <a:pt x="1636" y="0"/>
                    </a:lnTo>
                    <a:lnTo>
                      <a:pt x="1720" y="1"/>
                    </a:lnTo>
                    <a:lnTo>
                      <a:pt x="1804" y="3"/>
                    </a:lnTo>
                    <a:lnTo>
                      <a:pt x="1886" y="6"/>
                    </a:lnTo>
                    <a:lnTo>
                      <a:pt x="1966" y="9"/>
                    </a:lnTo>
                    <a:lnTo>
                      <a:pt x="2045" y="14"/>
                    </a:lnTo>
                    <a:lnTo>
                      <a:pt x="2123" y="21"/>
                    </a:lnTo>
                    <a:lnTo>
                      <a:pt x="2199" y="28"/>
                    </a:lnTo>
                    <a:lnTo>
                      <a:pt x="2274" y="36"/>
                    </a:lnTo>
                    <a:lnTo>
                      <a:pt x="2345" y="45"/>
                    </a:lnTo>
                    <a:lnTo>
                      <a:pt x="2416" y="54"/>
                    </a:lnTo>
                    <a:lnTo>
                      <a:pt x="2485" y="65"/>
                    </a:lnTo>
                    <a:lnTo>
                      <a:pt x="2551" y="77"/>
                    </a:lnTo>
                    <a:lnTo>
                      <a:pt x="2615" y="89"/>
                    </a:lnTo>
                    <a:lnTo>
                      <a:pt x="2677" y="102"/>
                    </a:lnTo>
                    <a:lnTo>
                      <a:pt x="2736" y="116"/>
                    </a:lnTo>
                    <a:lnTo>
                      <a:pt x="2793" y="132"/>
                    </a:lnTo>
                    <a:lnTo>
                      <a:pt x="2847" y="148"/>
                    </a:lnTo>
                    <a:lnTo>
                      <a:pt x="2899" y="164"/>
                    </a:lnTo>
                    <a:lnTo>
                      <a:pt x="2947" y="181"/>
                    </a:lnTo>
                    <a:lnTo>
                      <a:pt x="2993" y="199"/>
                    </a:lnTo>
                    <a:lnTo>
                      <a:pt x="3035" y="217"/>
                    </a:lnTo>
                    <a:lnTo>
                      <a:pt x="3075" y="237"/>
                    </a:lnTo>
                    <a:lnTo>
                      <a:pt x="3111" y="257"/>
                    </a:lnTo>
                    <a:lnTo>
                      <a:pt x="3144" y="277"/>
                    </a:lnTo>
                    <a:lnTo>
                      <a:pt x="3173" y="298"/>
                    </a:lnTo>
                    <a:lnTo>
                      <a:pt x="3199" y="320"/>
                    </a:lnTo>
                    <a:lnTo>
                      <a:pt x="3221" y="343"/>
                    </a:lnTo>
                    <a:lnTo>
                      <a:pt x="3239" y="365"/>
                    </a:lnTo>
                    <a:lnTo>
                      <a:pt x="3253" y="388"/>
                    </a:lnTo>
                    <a:lnTo>
                      <a:pt x="3263" y="411"/>
                    </a:lnTo>
                    <a:lnTo>
                      <a:pt x="3271" y="435"/>
                    </a:lnTo>
                    <a:lnTo>
                      <a:pt x="3273" y="4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967400" y="6502320"/>
                <a:ext cx="361440" cy="111600"/>
              </a:xfrm>
              <a:custGeom>
                <a:avLst/>
                <a:gdLst/>
                <a:ahLst/>
                <a:rect l="l" t="t" r="r" b="b"/>
                <a:pathLst>
                  <a:path w="3269" h="935">
                    <a:moveTo>
                      <a:pt x="3269" y="460"/>
                    </a:moveTo>
                    <a:lnTo>
                      <a:pt x="3267" y="484"/>
                    </a:lnTo>
                    <a:lnTo>
                      <a:pt x="3260" y="508"/>
                    </a:lnTo>
                    <a:lnTo>
                      <a:pt x="3250" y="531"/>
                    </a:lnTo>
                    <a:lnTo>
                      <a:pt x="3235" y="556"/>
                    </a:lnTo>
                    <a:lnTo>
                      <a:pt x="3217" y="578"/>
                    </a:lnTo>
                    <a:lnTo>
                      <a:pt x="3196" y="601"/>
                    </a:lnTo>
                    <a:lnTo>
                      <a:pt x="3170" y="623"/>
                    </a:lnTo>
                    <a:lnTo>
                      <a:pt x="3140" y="644"/>
                    </a:lnTo>
                    <a:lnTo>
                      <a:pt x="3108" y="666"/>
                    </a:lnTo>
                    <a:lnTo>
                      <a:pt x="3072" y="686"/>
                    </a:lnTo>
                    <a:lnTo>
                      <a:pt x="3032" y="706"/>
                    </a:lnTo>
                    <a:lnTo>
                      <a:pt x="2990" y="725"/>
                    </a:lnTo>
                    <a:lnTo>
                      <a:pt x="2944" y="744"/>
                    </a:lnTo>
                    <a:lnTo>
                      <a:pt x="2896" y="762"/>
                    </a:lnTo>
                    <a:lnTo>
                      <a:pt x="2844" y="780"/>
                    </a:lnTo>
                    <a:lnTo>
                      <a:pt x="2790" y="796"/>
                    </a:lnTo>
                    <a:lnTo>
                      <a:pt x="2733" y="812"/>
                    </a:lnTo>
                    <a:lnTo>
                      <a:pt x="2674" y="827"/>
                    </a:lnTo>
                    <a:lnTo>
                      <a:pt x="2612" y="841"/>
                    </a:lnTo>
                    <a:lnTo>
                      <a:pt x="2548" y="854"/>
                    </a:lnTo>
                    <a:lnTo>
                      <a:pt x="2482" y="866"/>
                    </a:lnTo>
                    <a:lnTo>
                      <a:pt x="2413" y="878"/>
                    </a:lnTo>
                    <a:lnTo>
                      <a:pt x="2343" y="889"/>
                    </a:lnTo>
                    <a:lnTo>
                      <a:pt x="2271" y="898"/>
                    </a:lnTo>
                    <a:lnTo>
                      <a:pt x="2196" y="907"/>
                    </a:lnTo>
                    <a:lnTo>
                      <a:pt x="2120" y="914"/>
                    </a:lnTo>
                    <a:lnTo>
                      <a:pt x="2042" y="920"/>
                    </a:lnTo>
                    <a:lnTo>
                      <a:pt x="1964" y="926"/>
                    </a:lnTo>
                    <a:lnTo>
                      <a:pt x="1883" y="930"/>
                    </a:lnTo>
                    <a:lnTo>
                      <a:pt x="1802" y="933"/>
                    </a:lnTo>
                    <a:lnTo>
                      <a:pt x="1718" y="935"/>
                    </a:lnTo>
                    <a:lnTo>
                      <a:pt x="1634" y="935"/>
                    </a:lnTo>
                    <a:lnTo>
                      <a:pt x="1551" y="935"/>
                    </a:lnTo>
                    <a:lnTo>
                      <a:pt x="1468" y="933"/>
                    </a:lnTo>
                    <a:lnTo>
                      <a:pt x="1386" y="930"/>
                    </a:lnTo>
                    <a:lnTo>
                      <a:pt x="1305" y="926"/>
                    </a:lnTo>
                    <a:lnTo>
                      <a:pt x="1226" y="920"/>
                    </a:lnTo>
                    <a:lnTo>
                      <a:pt x="1149" y="914"/>
                    </a:lnTo>
                    <a:lnTo>
                      <a:pt x="1073" y="907"/>
                    </a:lnTo>
                    <a:lnTo>
                      <a:pt x="998" y="898"/>
                    </a:lnTo>
                    <a:lnTo>
                      <a:pt x="925" y="889"/>
                    </a:lnTo>
                    <a:lnTo>
                      <a:pt x="856" y="878"/>
                    </a:lnTo>
                    <a:lnTo>
                      <a:pt x="787" y="866"/>
                    </a:lnTo>
                    <a:lnTo>
                      <a:pt x="720" y="854"/>
                    </a:lnTo>
                    <a:lnTo>
                      <a:pt x="657" y="841"/>
                    </a:lnTo>
                    <a:lnTo>
                      <a:pt x="595" y="827"/>
                    </a:lnTo>
                    <a:lnTo>
                      <a:pt x="536" y="812"/>
                    </a:lnTo>
                    <a:lnTo>
                      <a:pt x="479" y="796"/>
                    </a:lnTo>
                    <a:lnTo>
                      <a:pt x="425" y="780"/>
                    </a:lnTo>
                    <a:lnTo>
                      <a:pt x="373" y="762"/>
                    </a:lnTo>
                    <a:lnTo>
                      <a:pt x="325" y="744"/>
                    </a:lnTo>
                    <a:lnTo>
                      <a:pt x="279" y="725"/>
                    </a:lnTo>
                    <a:lnTo>
                      <a:pt x="237" y="706"/>
                    </a:lnTo>
                    <a:lnTo>
                      <a:pt x="197" y="686"/>
                    </a:lnTo>
                    <a:lnTo>
                      <a:pt x="161" y="666"/>
                    </a:lnTo>
                    <a:lnTo>
                      <a:pt x="129" y="644"/>
                    </a:lnTo>
                    <a:lnTo>
                      <a:pt x="99" y="623"/>
                    </a:lnTo>
                    <a:lnTo>
                      <a:pt x="74" y="601"/>
                    </a:lnTo>
                    <a:lnTo>
                      <a:pt x="52" y="578"/>
                    </a:lnTo>
                    <a:lnTo>
                      <a:pt x="34" y="556"/>
                    </a:lnTo>
                    <a:lnTo>
                      <a:pt x="19" y="531"/>
                    </a:lnTo>
                    <a:lnTo>
                      <a:pt x="8" y="508"/>
                    </a:lnTo>
                    <a:lnTo>
                      <a:pt x="2" y="484"/>
                    </a:lnTo>
                    <a:lnTo>
                      <a:pt x="0" y="460"/>
                    </a:lnTo>
                    <a:lnTo>
                      <a:pt x="2" y="434"/>
                    </a:lnTo>
                    <a:lnTo>
                      <a:pt x="8" y="411"/>
                    </a:lnTo>
                    <a:lnTo>
                      <a:pt x="19" y="387"/>
                    </a:lnTo>
                    <a:lnTo>
                      <a:pt x="34" y="364"/>
                    </a:lnTo>
                    <a:lnTo>
                      <a:pt x="52" y="342"/>
                    </a:lnTo>
                    <a:lnTo>
                      <a:pt x="74" y="319"/>
                    </a:lnTo>
                    <a:lnTo>
                      <a:pt x="99" y="298"/>
                    </a:lnTo>
                    <a:lnTo>
                      <a:pt x="129" y="277"/>
                    </a:lnTo>
                    <a:lnTo>
                      <a:pt x="161" y="256"/>
                    </a:lnTo>
                    <a:lnTo>
                      <a:pt x="197" y="237"/>
                    </a:lnTo>
                    <a:lnTo>
                      <a:pt x="237" y="217"/>
                    </a:lnTo>
                    <a:lnTo>
                      <a:pt x="279" y="198"/>
                    </a:lnTo>
                    <a:lnTo>
                      <a:pt x="325" y="181"/>
                    </a:lnTo>
                    <a:lnTo>
                      <a:pt x="373" y="164"/>
                    </a:lnTo>
                    <a:lnTo>
                      <a:pt x="425" y="147"/>
                    </a:lnTo>
                    <a:lnTo>
                      <a:pt x="479" y="132"/>
                    </a:lnTo>
                    <a:lnTo>
                      <a:pt x="536" y="116"/>
                    </a:lnTo>
                    <a:lnTo>
                      <a:pt x="595" y="102"/>
                    </a:lnTo>
                    <a:lnTo>
                      <a:pt x="657" y="89"/>
                    </a:lnTo>
                    <a:lnTo>
                      <a:pt x="720" y="76"/>
                    </a:lnTo>
                    <a:lnTo>
                      <a:pt x="787" y="65"/>
                    </a:lnTo>
                    <a:lnTo>
                      <a:pt x="856" y="54"/>
                    </a:lnTo>
                    <a:lnTo>
                      <a:pt x="925" y="45"/>
                    </a:lnTo>
                    <a:lnTo>
                      <a:pt x="998" y="36"/>
                    </a:lnTo>
                    <a:lnTo>
                      <a:pt x="1073" y="28"/>
                    </a:lnTo>
                    <a:lnTo>
                      <a:pt x="1149" y="21"/>
                    </a:lnTo>
                    <a:lnTo>
                      <a:pt x="1226" y="14"/>
                    </a:lnTo>
                    <a:lnTo>
                      <a:pt x="1305" y="9"/>
                    </a:lnTo>
                    <a:lnTo>
                      <a:pt x="1386" y="5"/>
                    </a:lnTo>
                    <a:lnTo>
                      <a:pt x="1468" y="3"/>
                    </a:lnTo>
                    <a:lnTo>
                      <a:pt x="1551" y="1"/>
                    </a:lnTo>
                    <a:lnTo>
                      <a:pt x="1634" y="0"/>
                    </a:lnTo>
                    <a:lnTo>
                      <a:pt x="1718" y="1"/>
                    </a:lnTo>
                    <a:lnTo>
                      <a:pt x="1802" y="3"/>
                    </a:lnTo>
                    <a:lnTo>
                      <a:pt x="1883" y="5"/>
                    </a:lnTo>
                    <a:lnTo>
                      <a:pt x="1964" y="9"/>
                    </a:lnTo>
                    <a:lnTo>
                      <a:pt x="2042" y="14"/>
                    </a:lnTo>
                    <a:lnTo>
                      <a:pt x="2120" y="21"/>
                    </a:lnTo>
                    <a:lnTo>
                      <a:pt x="2196" y="28"/>
                    </a:lnTo>
                    <a:lnTo>
                      <a:pt x="2271" y="36"/>
                    </a:lnTo>
                    <a:lnTo>
                      <a:pt x="2343" y="45"/>
                    </a:lnTo>
                    <a:lnTo>
                      <a:pt x="2413" y="54"/>
                    </a:lnTo>
                    <a:lnTo>
                      <a:pt x="2482" y="65"/>
                    </a:lnTo>
                    <a:lnTo>
                      <a:pt x="2548" y="76"/>
                    </a:lnTo>
                    <a:lnTo>
                      <a:pt x="2612" y="89"/>
                    </a:lnTo>
                    <a:lnTo>
                      <a:pt x="2674" y="102"/>
                    </a:lnTo>
                    <a:lnTo>
                      <a:pt x="2733" y="116"/>
                    </a:lnTo>
                    <a:lnTo>
                      <a:pt x="2790" y="132"/>
                    </a:lnTo>
                    <a:lnTo>
                      <a:pt x="2844" y="147"/>
                    </a:lnTo>
                    <a:lnTo>
                      <a:pt x="2896" y="164"/>
                    </a:lnTo>
                    <a:lnTo>
                      <a:pt x="2944" y="181"/>
                    </a:lnTo>
                    <a:lnTo>
                      <a:pt x="2990" y="198"/>
                    </a:lnTo>
                    <a:lnTo>
                      <a:pt x="3032" y="217"/>
                    </a:lnTo>
                    <a:lnTo>
                      <a:pt x="3072" y="237"/>
                    </a:lnTo>
                    <a:lnTo>
                      <a:pt x="3108" y="256"/>
                    </a:lnTo>
                    <a:lnTo>
                      <a:pt x="3140" y="277"/>
                    </a:lnTo>
                    <a:lnTo>
                      <a:pt x="3170" y="298"/>
                    </a:lnTo>
                    <a:lnTo>
                      <a:pt x="3196" y="319"/>
                    </a:lnTo>
                    <a:lnTo>
                      <a:pt x="3217" y="342"/>
                    </a:lnTo>
                    <a:lnTo>
                      <a:pt x="3235" y="364"/>
                    </a:lnTo>
                    <a:lnTo>
                      <a:pt x="3250" y="387"/>
                    </a:lnTo>
                    <a:lnTo>
                      <a:pt x="3260" y="411"/>
                    </a:lnTo>
                    <a:lnTo>
                      <a:pt x="3267" y="434"/>
                    </a:lnTo>
                    <a:lnTo>
                      <a:pt x="3269" y="4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967400" y="6502320"/>
                <a:ext cx="360000" cy="111600"/>
              </a:xfrm>
              <a:custGeom>
                <a:avLst/>
                <a:gdLst/>
                <a:ahLst/>
                <a:rect l="l" t="t" r="r" b="b"/>
                <a:pathLst>
                  <a:path w="3267" h="933">
                    <a:moveTo>
                      <a:pt x="3267" y="459"/>
                    </a:moveTo>
                    <a:lnTo>
                      <a:pt x="3265" y="483"/>
                    </a:lnTo>
                    <a:lnTo>
                      <a:pt x="3258" y="507"/>
                    </a:lnTo>
                    <a:lnTo>
                      <a:pt x="3247" y="530"/>
                    </a:lnTo>
                    <a:lnTo>
                      <a:pt x="3233" y="554"/>
                    </a:lnTo>
                    <a:lnTo>
                      <a:pt x="3215" y="577"/>
                    </a:lnTo>
                    <a:lnTo>
                      <a:pt x="3193" y="600"/>
                    </a:lnTo>
                    <a:lnTo>
                      <a:pt x="3168" y="621"/>
                    </a:lnTo>
                    <a:lnTo>
                      <a:pt x="3138" y="643"/>
                    </a:lnTo>
                    <a:lnTo>
                      <a:pt x="3106" y="665"/>
                    </a:lnTo>
                    <a:lnTo>
                      <a:pt x="3070" y="685"/>
                    </a:lnTo>
                    <a:lnTo>
                      <a:pt x="3030" y="705"/>
                    </a:lnTo>
                    <a:lnTo>
                      <a:pt x="2988" y="724"/>
                    </a:lnTo>
                    <a:lnTo>
                      <a:pt x="2942" y="742"/>
                    </a:lnTo>
                    <a:lnTo>
                      <a:pt x="2894" y="760"/>
                    </a:lnTo>
                    <a:lnTo>
                      <a:pt x="2842" y="778"/>
                    </a:lnTo>
                    <a:lnTo>
                      <a:pt x="2788" y="794"/>
                    </a:lnTo>
                    <a:lnTo>
                      <a:pt x="2731" y="810"/>
                    </a:lnTo>
                    <a:lnTo>
                      <a:pt x="2673" y="825"/>
                    </a:lnTo>
                    <a:lnTo>
                      <a:pt x="2610" y="839"/>
                    </a:lnTo>
                    <a:lnTo>
                      <a:pt x="2546" y="852"/>
                    </a:lnTo>
                    <a:lnTo>
                      <a:pt x="2480" y="864"/>
                    </a:lnTo>
                    <a:lnTo>
                      <a:pt x="2412" y="877"/>
                    </a:lnTo>
                    <a:lnTo>
                      <a:pt x="2341" y="887"/>
                    </a:lnTo>
                    <a:lnTo>
                      <a:pt x="2269" y="896"/>
                    </a:lnTo>
                    <a:lnTo>
                      <a:pt x="2195" y="905"/>
                    </a:lnTo>
                    <a:lnTo>
                      <a:pt x="2119" y="912"/>
                    </a:lnTo>
                    <a:lnTo>
                      <a:pt x="2041" y="919"/>
                    </a:lnTo>
                    <a:lnTo>
                      <a:pt x="1963" y="924"/>
                    </a:lnTo>
                    <a:lnTo>
                      <a:pt x="1882" y="928"/>
                    </a:lnTo>
                    <a:lnTo>
                      <a:pt x="1800" y="931"/>
                    </a:lnTo>
                    <a:lnTo>
                      <a:pt x="1717" y="933"/>
                    </a:lnTo>
                    <a:lnTo>
                      <a:pt x="1633" y="933"/>
                    </a:lnTo>
                    <a:lnTo>
                      <a:pt x="1550" y="933"/>
                    </a:lnTo>
                    <a:lnTo>
                      <a:pt x="1467" y="931"/>
                    </a:lnTo>
                    <a:lnTo>
                      <a:pt x="1385" y="928"/>
                    </a:lnTo>
                    <a:lnTo>
                      <a:pt x="1304" y="924"/>
                    </a:lnTo>
                    <a:lnTo>
                      <a:pt x="1225" y="919"/>
                    </a:lnTo>
                    <a:lnTo>
                      <a:pt x="1148" y="912"/>
                    </a:lnTo>
                    <a:lnTo>
                      <a:pt x="1072" y="905"/>
                    </a:lnTo>
                    <a:lnTo>
                      <a:pt x="998" y="896"/>
                    </a:lnTo>
                    <a:lnTo>
                      <a:pt x="925" y="887"/>
                    </a:lnTo>
                    <a:lnTo>
                      <a:pt x="855" y="877"/>
                    </a:lnTo>
                    <a:lnTo>
                      <a:pt x="787" y="864"/>
                    </a:lnTo>
                    <a:lnTo>
                      <a:pt x="720" y="852"/>
                    </a:lnTo>
                    <a:lnTo>
                      <a:pt x="657" y="839"/>
                    </a:lnTo>
                    <a:lnTo>
                      <a:pt x="595" y="825"/>
                    </a:lnTo>
                    <a:lnTo>
                      <a:pt x="536" y="810"/>
                    </a:lnTo>
                    <a:lnTo>
                      <a:pt x="479" y="794"/>
                    </a:lnTo>
                    <a:lnTo>
                      <a:pt x="425" y="778"/>
                    </a:lnTo>
                    <a:lnTo>
                      <a:pt x="373" y="760"/>
                    </a:lnTo>
                    <a:lnTo>
                      <a:pt x="325" y="742"/>
                    </a:lnTo>
                    <a:lnTo>
                      <a:pt x="279" y="724"/>
                    </a:lnTo>
                    <a:lnTo>
                      <a:pt x="237" y="705"/>
                    </a:lnTo>
                    <a:lnTo>
                      <a:pt x="197" y="685"/>
                    </a:lnTo>
                    <a:lnTo>
                      <a:pt x="162" y="665"/>
                    </a:lnTo>
                    <a:lnTo>
                      <a:pt x="129" y="643"/>
                    </a:lnTo>
                    <a:lnTo>
                      <a:pt x="99" y="621"/>
                    </a:lnTo>
                    <a:lnTo>
                      <a:pt x="74" y="600"/>
                    </a:lnTo>
                    <a:lnTo>
                      <a:pt x="52" y="577"/>
                    </a:lnTo>
                    <a:lnTo>
                      <a:pt x="34" y="554"/>
                    </a:lnTo>
                    <a:lnTo>
                      <a:pt x="20" y="530"/>
                    </a:lnTo>
                    <a:lnTo>
                      <a:pt x="9" y="507"/>
                    </a:lnTo>
                    <a:lnTo>
                      <a:pt x="2" y="483"/>
                    </a:lnTo>
                    <a:lnTo>
                      <a:pt x="0" y="459"/>
                    </a:lnTo>
                    <a:lnTo>
                      <a:pt x="2" y="433"/>
                    </a:lnTo>
                    <a:lnTo>
                      <a:pt x="9" y="410"/>
                    </a:lnTo>
                    <a:lnTo>
                      <a:pt x="20" y="386"/>
                    </a:lnTo>
                    <a:lnTo>
                      <a:pt x="34" y="363"/>
                    </a:lnTo>
                    <a:lnTo>
                      <a:pt x="52" y="341"/>
                    </a:lnTo>
                    <a:lnTo>
                      <a:pt x="74" y="318"/>
                    </a:lnTo>
                    <a:lnTo>
                      <a:pt x="99" y="297"/>
                    </a:lnTo>
                    <a:lnTo>
                      <a:pt x="129" y="276"/>
                    </a:lnTo>
                    <a:lnTo>
                      <a:pt x="162" y="256"/>
                    </a:lnTo>
                    <a:lnTo>
                      <a:pt x="197" y="236"/>
                    </a:lnTo>
                    <a:lnTo>
                      <a:pt x="237" y="216"/>
                    </a:lnTo>
                    <a:lnTo>
                      <a:pt x="279" y="198"/>
                    </a:lnTo>
                    <a:lnTo>
                      <a:pt x="325" y="180"/>
                    </a:lnTo>
                    <a:lnTo>
                      <a:pt x="373" y="163"/>
                    </a:lnTo>
                    <a:lnTo>
                      <a:pt x="425" y="147"/>
                    </a:lnTo>
                    <a:lnTo>
                      <a:pt x="479" y="131"/>
                    </a:lnTo>
                    <a:lnTo>
                      <a:pt x="536" y="116"/>
                    </a:lnTo>
                    <a:lnTo>
                      <a:pt x="595" y="102"/>
                    </a:lnTo>
                    <a:lnTo>
                      <a:pt x="657" y="89"/>
                    </a:lnTo>
                    <a:lnTo>
                      <a:pt x="720" y="76"/>
                    </a:lnTo>
                    <a:lnTo>
                      <a:pt x="787" y="65"/>
                    </a:lnTo>
                    <a:lnTo>
                      <a:pt x="855" y="54"/>
                    </a:lnTo>
                    <a:lnTo>
                      <a:pt x="925" y="44"/>
                    </a:lnTo>
                    <a:lnTo>
                      <a:pt x="998" y="36"/>
                    </a:lnTo>
                    <a:lnTo>
                      <a:pt x="1072" y="28"/>
                    </a:lnTo>
                    <a:lnTo>
                      <a:pt x="1148" y="21"/>
                    </a:lnTo>
                    <a:lnTo>
                      <a:pt x="1225" y="15"/>
                    </a:lnTo>
                    <a:lnTo>
                      <a:pt x="1304" y="9"/>
                    </a:lnTo>
                    <a:lnTo>
                      <a:pt x="1385" y="5"/>
                    </a:lnTo>
                    <a:lnTo>
                      <a:pt x="1467" y="3"/>
                    </a:lnTo>
                    <a:lnTo>
                      <a:pt x="1550" y="1"/>
                    </a:lnTo>
                    <a:lnTo>
                      <a:pt x="1633" y="0"/>
                    </a:lnTo>
                    <a:lnTo>
                      <a:pt x="1717" y="1"/>
                    </a:lnTo>
                    <a:lnTo>
                      <a:pt x="1800" y="3"/>
                    </a:lnTo>
                    <a:lnTo>
                      <a:pt x="1882" y="5"/>
                    </a:lnTo>
                    <a:lnTo>
                      <a:pt x="1963" y="9"/>
                    </a:lnTo>
                    <a:lnTo>
                      <a:pt x="2041" y="15"/>
                    </a:lnTo>
                    <a:lnTo>
                      <a:pt x="2119" y="21"/>
                    </a:lnTo>
                    <a:lnTo>
                      <a:pt x="2195" y="28"/>
                    </a:lnTo>
                    <a:lnTo>
                      <a:pt x="2269" y="36"/>
                    </a:lnTo>
                    <a:lnTo>
                      <a:pt x="2341" y="44"/>
                    </a:lnTo>
                    <a:lnTo>
                      <a:pt x="2412" y="54"/>
                    </a:lnTo>
                    <a:lnTo>
                      <a:pt x="2480" y="65"/>
                    </a:lnTo>
                    <a:lnTo>
                      <a:pt x="2546" y="76"/>
                    </a:lnTo>
                    <a:lnTo>
                      <a:pt x="2610" y="89"/>
                    </a:lnTo>
                    <a:lnTo>
                      <a:pt x="2673" y="102"/>
                    </a:lnTo>
                    <a:lnTo>
                      <a:pt x="2731" y="116"/>
                    </a:lnTo>
                    <a:lnTo>
                      <a:pt x="2788" y="131"/>
                    </a:lnTo>
                    <a:lnTo>
                      <a:pt x="2842" y="147"/>
                    </a:lnTo>
                    <a:lnTo>
                      <a:pt x="2894" y="163"/>
                    </a:lnTo>
                    <a:lnTo>
                      <a:pt x="2942" y="180"/>
                    </a:lnTo>
                    <a:lnTo>
                      <a:pt x="2988" y="198"/>
                    </a:lnTo>
                    <a:lnTo>
                      <a:pt x="3030" y="216"/>
                    </a:lnTo>
                    <a:lnTo>
                      <a:pt x="3070" y="236"/>
                    </a:lnTo>
                    <a:lnTo>
                      <a:pt x="3106" y="256"/>
                    </a:lnTo>
                    <a:lnTo>
                      <a:pt x="3138" y="276"/>
                    </a:lnTo>
                    <a:lnTo>
                      <a:pt x="3168" y="297"/>
                    </a:lnTo>
                    <a:lnTo>
                      <a:pt x="3193" y="318"/>
                    </a:lnTo>
                    <a:lnTo>
                      <a:pt x="3215" y="341"/>
                    </a:lnTo>
                    <a:lnTo>
                      <a:pt x="3233" y="363"/>
                    </a:lnTo>
                    <a:lnTo>
                      <a:pt x="3247" y="386"/>
                    </a:lnTo>
                    <a:lnTo>
                      <a:pt x="3258" y="410"/>
                    </a:lnTo>
                    <a:lnTo>
                      <a:pt x="3265" y="433"/>
                    </a:lnTo>
                    <a:lnTo>
                      <a:pt x="3267" y="4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968840" y="6502320"/>
                <a:ext cx="358560" cy="111600"/>
              </a:xfrm>
              <a:custGeom>
                <a:avLst/>
                <a:gdLst/>
                <a:ahLst/>
                <a:rect l="l" t="t" r="r" b="b"/>
                <a:pathLst>
                  <a:path w="3264" h="931">
                    <a:moveTo>
                      <a:pt x="3264" y="458"/>
                    </a:moveTo>
                    <a:lnTo>
                      <a:pt x="3260" y="482"/>
                    </a:lnTo>
                    <a:lnTo>
                      <a:pt x="3254" y="506"/>
                    </a:lnTo>
                    <a:lnTo>
                      <a:pt x="3244" y="529"/>
                    </a:lnTo>
                    <a:lnTo>
                      <a:pt x="3230" y="553"/>
                    </a:lnTo>
                    <a:lnTo>
                      <a:pt x="3212" y="576"/>
                    </a:lnTo>
                    <a:lnTo>
                      <a:pt x="3190" y="598"/>
                    </a:lnTo>
                    <a:lnTo>
                      <a:pt x="3164" y="620"/>
                    </a:lnTo>
                    <a:lnTo>
                      <a:pt x="3135" y="641"/>
                    </a:lnTo>
                    <a:lnTo>
                      <a:pt x="3102" y="663"/>
                    </a:lnTo>
                    <a:lnTo>
                      <a:pt x="3067" y="684"/>
                    </a:lnTo>
                    <a:lnTo>
                      <a:pt x="3027" y="703"/>
                    </a:lnTo>
                    <a:lnTo>
                      <a:pt x="2985" y="722"/>
                    </a:lnTo>
                    <a:lnTo>
                      <a:pt x="2939" y="741"/>
                    </a:lnTo>
                    <a:lnTo>
                      <a:pt x="2891" y="758"/>
                    </a:lnTo>
                    <a:lnTo>
                      <a:pt x="2839" y="777"/>
                    </a:lnTo>
                    <a:lnTo>
                      <a:pt x="2785" y="793"/>
                    </a:lnTo>
                    <a:lnTo>
                      <a:pt x="2728" y="808"/>
                    </a:lnTo>
                    <a:lnTo>
                      <a:pt x="2670" y="823"/>
                    </a:lnTo>
                    <a:lnTo>
                      <a:pt x="2608" y="837"/>
                    </a:lnTo>
                    <a:lnTo>
                      <a:pt x="2543" y="850"/>
                    </a:lnTo>
                    <a:lnTo>
                      <a:pt x="2478" y="862"/>
                    </a:lnTo>
                    <a:lnTo>
                      <a:pt x="2409" y="875"/>
                    </a:lnTo>
                    <a:lnTo>
                      <a:pt x="2338" y="885"/>
                    </a:lnTo>
                    <a:lnTo>
                      <a:pt x="2267" y="894"/>
                    </a:lnTo>
                    <a:lnTo>
                      <a:pt x="2193" y="903"/>
                    </a:lnTo>
                    <a:lnTo>
                      <a:pt x="2116" y="910"/>
                    </a:lnTo>
                    <a:lnTo>
                      <a:pt x="2039" y="917"/>
                    </a:lnTo>
                    <a:lnTo>
                      <a:pt x="1961" y="922"/>
                    </a:lnTo>
                    <a:lnTo>
                      <a:pt x="1880" y="926"/>
                    </a:lnTo>
                    <a:lnTo>
                      <a:pt x="1798" y="929"/>
                    </a:lnTo>
                    <a:lnTo>
                      <a:pt x="1715" y="931"/>
                    </a:lnTo>
                    <a:lnTo>
                      <a:pt x="1631" y="931"/>
                    </a:lnTo>
                    <a:lnTo>
                      <a:pt x="1548" y="931"/>
                    </a:lnTo>
                    <a:lnTo>
                      <a:pt x="1465" y="929"/>
                    </a:lnTo>
                    <a:lnTo>
                      <a:pt x="1383" y="926"/>
                    </a:lnTo>
                    <a:lnTo>
                      <a:pt x="1302" y="922"/>
                    </a:lnTo>
                    <a:lnTo>
                      <a:pt x="1223" y="917"/>
                    </a:lnTo>
                    <a:lnTo>
                      <a:pt x="1147" y="910"/>
                    </a:lnTo>
                    <a:lnTo>
                      <a:pt x="1071" y="903"/>
                    </a:lnTo>
                    <a:lnTo>
                      <a:pt x="996" y="894"/>
                    </a:lnTo>
                    <a:lnTo>
                      <a:pt x="925" y="885"/>
                    </a:lnTo>
                    <a:lnTo>
                      <a:pt x="854" y="875"/>
                    </a:lnTo>
                    <a:lnTo>
                      <a:pt x="785" y="862"/>
                    </a:lnTo>
                    <a:lnTo>
                      <a:pt x="719" y="850"/>
                    </a:lnTo>
                    <a:lnTo>
                      <a:pt x="655" y="837"/>
                    </a:lnTo>
                    <a:lnTo>
                      <a:pt x="593" y="823"/>
                    </a:lnTo>
                    <a:lnTo>
                      <a:pt x="535" y="808"/>
                    </a:lnTo>
                    <a:lnTo>
                      <a:pt x="478" y="793"/>
                    </a:lnTo>
                    <a:lnTo>
                      <a:pt x="424" y="777"/>
                    </a:lnTo>
                    <a:lnTo>
                      <a:pt x="372" y="758"/>
                    </a:lnTo>
                    <a:lnTo>
                      <a:pt x="325" y="741"/>
                    </a:lnTo>
                    <a:lnTo>
                      <a:pt x="278" y="722"/>
                    </a:lnTo>
                    <a:lnTo>
                      <a:pt x="236" y="703"/>
                    </a:lnTo>
                    <a:lnTo>
                      <a:pt x="197" y="684"/>
                    </a:lnTo>
                    <a:lnTo>
                      <a:pt x="161" y="663"/>
                    </a:lnTo>
                    <a:lnTo>
                      <a:pt x="129" y="641"/>
                    </a:lnTo>
                    <a:lnTo>
                      <a:pt x="99" y="620"/>
                    </a:lnTo>
                    <a:lnTo>
                      <a:pt x="73" y="598"/>
                    </a:lnTo>
                    <a:lnTo>
                      <a:pt x="51" y="576"/>
                    </a:lnTo>
                    <a:lnTo>
                      <a:pt x="33" y="553"/>
                    </a:lnTo>
                    <a:lnTo>
                      <a:pt x="19" y="529"/>
                    </a:lnTo>
                    <a:lnTo>
                      <a:pt x="8" y="506"/>
                    </a:lnTo>
                    <a:lnTo>
                      <a:pt x="2" y="482"/>
                    </a:lnTo>
                    <a:lnTo>
                      <a:pt x="0" y="458"/>
                    </a:lnTo>
                    <a:lnTo>
                      <a:pt x="2" y="432"/>
                    </a:lnTo>
                    <a:lnTo>
                      <a:pt x="8" y="409"/>
                    </a:lnTo>
                    <a:lnTo>
                      <a:pt x="19" y="385"/>
                    </a:lnTo>
                    <a:lnTo>
                      <a:pt x="33" y="363"/>
                    </a:lnTo>
                    <a:lnTo>
                      <a:pt x="51" y="340"/>
                    </a:lnTo>
                    <a:lnTo>
                      <a:pt x="73" y="318"/>
                    </a:lnTo>
                    <a:lnTo>
                      <a:pt x="99" y="296"/>
                    </a:lnTo>
                    <a:lnTo>
                      <a:pt x="129" y="275"/>
                    </a:lnTo>
                    <a:lnTo>
                      <a:pt x="161" y="255"/>
                    </a:lnTo>
                    <a:lnTo>
                      <a:pt x="197" y="236"/>
                    </a:lnTo>
                    <a:lnTo>
                      <a:pt x="236" y="216"/>
                    </a:lnTo>
                    <a:lnTo>
                      <a:pt x="278" y="197"/>
                    </a:lnTo>
                    <a:lnTo>
                      <a:pt x="325" y="180"/>
                    </a:lnTo>
                    <a:lnTo>
                      <a:pt x="372" y="163"/>
                    </a:lnTo>
                    <a:lnTo>
                      <a:pt x="424" y="147"/>
                    </a:lnTo>
                    <a:lnTo>
                      <a:pt x="478" y="131"/>
                    </a:lnTo>
                    <a:lnTo>
                      <a:pt x="535" y="115"/>
                    </a:lnTo>
                    <a:lnTo>
                      <a:pt x="593" y="101"/>
                    </a:lnTo>
                    <a:lnTo>
                      <a:pt x="655" y="88"/>
                    </a:lnTo>
                    <a:lnTo>
                      <a:pt x="719" y="76"/>
                    </a:lnTo>
                    <a:lnTo>
                      <a:pt x="785" y="65"/>
                    </a:lnTo>
                    <a:lnTo>
                      <a:pt x="854" y="54"/>
                    </a:lnTo>
                    <a:lnTo>
                      <a:pt x="925" y="44"/>
                    </a:lnTo>
                    <a:lnTo>
                      <a:pt x="996" y="35"/>
                    </a:lnTo>
                    <a:lnTo>
                      <a:pt x="1071" y="28"/>
                    </a:lnTo>
                    <a:lnTo>
                      <a:pt x="1147" y="21"/>
                    </a:lnTo>
                    <a:lnTo>
                      <a:pt x="1223" y="15"/>
                    </a:lnTo>
                    <a:lnTo>
                      <a:pt x="1302" y="9"/>
                    </a:lnTo>
                    <a:lnTo>
                      <a:pt x="1383" y="5"/>
                    </a:lnTo>
                    <a:lnTo>
                      <a:pt x="1465" y="2"/>
                    </a:lnTo>
                    <a:lnTo>
                      <a:pt x="1548" y="1"/>
                    </a:lnTo>
                    <a:lnTo>
                      <a:pt x="1631" y="0"/>
                    </a:lnTo>
                    <a:lnTo>
                      <a:pt x="1715" y="1"/>
                    </a:lnTo>
                    <a:lnTo>
                      <a:pt x="1798" y="2"/>
                    </a:lnTo>
                    <a:lnTo>
                      <a:pt x="1880" y="5"/>
                    </a:lnTo>
                    <a:lnTo>
                      <a:pt x="1961" y="9"/>
                    </a:lnTo>
                    <a:lnTo>
                      <a:pt x="2039" y="15"/>
                    </a:lnTo>
                    <a:lnTo>
                      <a:pt x="2116" y="21"/>
                    </a:lnTo>
                    <a:lnTo>
                      <a:pt x="2193" y="28"/>
                    </a:lnTo>
                    <a:lnTo>
                      <a:pt x="2267" y="35"/>
                    </a:lnTo>
                    <a:lnTo>
                      <a:pt x="2338" y="44"/>
                    </a:lnTo>
                    <a:lnTo>
                      <a:pt x="2409" y="54"/>
                    </a:lnTo>
                    <a:lnTo>
                      <a:pt x="2478" y="65"/>
                    </a:lnTo>
                    <a:lnTo>
                      <a:pt x="2543" y="76"/>
                    </a:lnTo>
                    <a:lnTo>
                      <a:pt x="2608" y="88"/>
                    </a:lnTo>
                    <a:lnTo>
                      <a:pt x="2670" y="101"/>
                    </a:lnTo>
                    <a:lnTo>
                      <a:pt x="2728" y="115"/>
                    </a:lnTo>
                    <a:lnTo>
                      <a:pt x="2785" y="131"/>
                    </a:lnTo>
                    <a:lnTo>
                      <a:pt x="2839" y="147"/>
                    </a:lnTo>
                    <a:lnTo>
                      <a:pt x="2891" y="163"/>
                    </a:lnTo>
                    <a:lnTo>
                      <a:pt x="2939" y="180"/>
                    </a:lnTo>
                    <a:lnTo>
                      <a:pt x="2985" y="197"/>
                    </a:lnTo>
                    <a:lnTo>
                      <a:pt x="3027" y="216"/>
                    </a:lnTo>
                    <a:lnTo>
                      <a:pt x="3067" y="236"/>
                    </a:lnTo>
                    <a:lnTo>
                      <a:pt x="3102" y="255"/>
                    </a:lnTo>
                    <a:lnTo>
                      <a:pt x="3135" y="275"/>
                    </a:lnTo>
                    <a:lnTo>
                      <a:pt x="3164" y="296"/>
                    </a:lnTo>
                    <a:lnTo>
                      <a:pt x="3190" y="318"/>
                    </a:lnTo>
                    <a:lnTo>
                      <a:pt x="3212" y="340"/>
                    </a:lnTo>
                    <a:lnTo>
                      <a:pt x="3230" y="363"/>
                    </a:lnTo>
                    <a:lnTo>
                      <a:pt x="3244" y="385"/>
                    </a:lnTo>
                    <a:lnTo>
                      <a:pt x="3254" y="409"/>
                    </a:lnTo>
                    <a:lnTo>
                      <a:pt x="3260" y="432"/>
                    </a:lnTo>
                    <a:lnTo>
                      <a:pt x="3264" y="4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968840" y="6503760"/>
                <a:ext cx="358560" cy="110160"/>
              </a:xfrm>
              <a:custGeom>
                <a:avLst/>
                <a:gdLst/>
                <a:ahLst/>
                <a:rect l="l" t="t" r="r" b="b"/>
                <a:pathLst>
                  <a:path w="3260" h="930">
                    <a:moveTo>
                      <a:pt x="3260" y="457"/>
                    </a:moveTo>
                    <a:lnTo>
                      <a:pt x="3258" y="481"/>
                    </a:lnTo>
                    <a:lnTo>
                      <a:pt x="3252" y="505"/>
                    </a:lnTo>
                    <a:lnTo>
                      <a:pt x="3241" y="528"/>
                    </a:lnTo>
                    <a:lnTo>
                      <a:pt x="3227" y="552"/>
                    </a:lnTo>
                    <a:lnTo>
                      <a:pt x="3209" y="575"/>
                    </a:lnTo>
                    <a:lnTo>
                      <a:pt x="3188" y="597"/>
                    </a:lnTo>
                    <a:lnTo>
                      <a:pt x="3162" y="619"/>
                    </a:lnTo>
                    <a:lnTo>
                      <a:pt x="3132" y="640"/>
                    </a:lnTo>
                    <a:lnTo>
                      <a:pt x="3100" y="662"/>
                    </a:lnTo>
                    <a:lnTo>
                      <a:pt x="3064" y="682"/>
                    </a:lnTo>
                    <a:lnTo>
                      <a:pt x="3024" y="702"/>
                    </a:lnTo>
                    <a:lnTo>
                      <a:pt x="2982" y="721"/>
                    </a:lnTo>
                    <a:lnTo>
                      <a:pt x="2936" y="739"/>
                    </a:lnTo>
                    <a:lnTo>
                      <a:pt x="2889" y="757"/>
                    </a:lnTo>
                    <a:lnTo>
                      <a:pt x="2837" y="775"/>
                    </a:lnTo>
                    <a:lnTo>
                      <a:pt x="2783" y="791"/>
                    </a:lnTo>
                    <a:lnTo>
                      <a:pt x="2726" y="807"/>
                    </a:lnTo>
                    <a:lnTo>
                      <a:pt x="2668" y="821"/>
                    </a:lnTo>
                    <a:lnTo>
                      <a:pt x="2606" y="835"/>
                    </a:lnTo>
                    <a:lnTo>
                      <a:pt x="2541" y="848"/>
                    </a:lnTo>
                    <a:lnTo>
                      <a:pt x="2476" y="861"/>
                    </a:lnTo>
                    <a:lnTo>
                      <a:pt x="2407" y="873"/>
                    </a:lnTo>
                    <a:lnTo>
                      <a:pt x="2337" y="883"/>
                    </a:lnTo>
                    <a:lnTo>
                      <a:pt x="2265" y="893"/>
                    </a:lnTo>
                    <a:lnTo>
                      <a:pt x="2191" y="901"/>
                    </a:lnTo>
                    <a:lnTo>
                      <a:pt x="2115" y="908"/>
                    </a:lnTo>
                    <a:lnTo>
                      <a:pt x="2037" y="915"/>
                    </a:lnTo>
                    <a:lnTo>
                      <a:pt x="1959" y="920"/>
                    </a:lnTo>
                    <a:lnTo>
                      <a:pt x="1879" y="924"/>
                    </a:lnTo>
                    <a:lnTo>
                      <a:pt x="1797" y="927"/>
                    </a:lnTo>
                    <a:lnTo>
                      <a:pt x="1714" y="929"/>
                    </a:lnTo>
                    <a:lnTo>
                      <a:pt x="1630" y="930"/>
                    </a:lnTo>
                    <a:lnTo>
                      <a:pt x="1547" y="929"/>
                    </a:lnTo>
                    <a:lnTo>
                      <a:pt x="1464" y="927"/>
                    </a:lnTo>
                    <a:lnTo>
                      <a:pt x="1382" y="924"/>
                    </a:lnTo>
                    <a:lnTo>
                      <a:pt x="1302" y="920"/>
                    </a:lnTo>
                    <a:lnTo>
                      <a:pt x="1223" y="915"/>
                    </a:lnTo>
                    <a:lnTo>
                      <a:pt x="1146" y="908"/>
                    </a:lnTo>
                    <a:lnTo>
                      <a:pt x="1070" y="901"/>
                    </a:lnTo>
                    <a:lnTo>
                      <a:pt x="996" y="893"/>
                    </a:lnTo>
                    <a:lnTo>
                      <a:pt x="924" y="883"/>
                    </a:lnTo>
                    <a:lnTo>
                      <a:pt x="854" y="873"/>
                    </a:lnTo>
                    <a:lnTo>
                      <a:pt x="785" y="861"/>
                    </a:lnTo>
                    <a:lnTo>
                      <a:pt x="719" y="848"/>
                    </a:lnTo>
                    <a:lnTo>
                      <a:pt x="655" y="835"/>
                    </a:lnTo>
                    <a:lnTo>
                      <a:pt x="593" y="821"/>
                    </a:lnTo>
                    <a:lnTo>
                      <a:pt x="535" y="807"/>
                    </a:lnTo>
                    <a:lnTo>
                      <a:pt x="478" y="791"/>
                    </a:lnTo>
                    <a:lnTo>
                      <a:pt x="424" y="775"/>
                    </a:lnTo>
                    <a:lnTo>
                      <a:pt x="373" y="757"/>
                    </a:lnTo>
                    <a:lnTo>
                      <a:pt x="325" y="739"/>
                    </a:lnTo>
                    <a:lnTo>
                      <a:pt x="279" y="721"/>
                    </a:lnTo>
                    <a:lnTo>
                      <a:pt x="237" y="702"/>
                    </a:lnTo>
                    <a:lnTo>
                      <a:pt x="197" y="682"/>
                    </a:lnTo>
                    <a:lnTo>
                      <a:pt x="161" y="662"/>
                    </a:lnTo>
                    <a:lnTo>
                      <a:pt x="129" y="640"/>
                    </a:lnTo>
                    <a:lnTo>
                      <a:pt x="99" y="619"/>
                    </a:lnTo>
                    <a:lnTo>
                      <a:pt x="74" y="597"/>
                    </a:lnTo>
                    <a:lnTo>
                      <a:pt x="52" y="575"/>
                    </a:lnTo>
                    <a:lnTo>
                      <a:pt x="34" y="552"/>
                    </a:lnTo>
                    <a:lnTo>
                      <a:pt x="20" y="528"/>
                    </a:lnTo>
                    <a:lnTo>
                      <a:pt x="9" y="505"/>
                    </a:lnTo>
                    <a:lnTo>
                      <a:pt x="2" y="481"/>
                    </a:lnTo>
                    <a:lnTo>
                      <a:pt x="0" y="457"/>
                    </a:lnTo>
                    <a:lnTo>
                      <a:pt x="2" y="432"/>
                    </a:lnTo>
                    <a:lnTo>
                      <a:pt x="9" y="408"/>
                    </a:lnTo>
                    <a:lnTo>
                      <a:pt x="20" y="385"/>
                    </a:lnTo>
                    <a:lnTo>
                      <a:pt x="34" y="362"/>
                    </a:lnTo>
                    <a:lnTo>
                      <a:pt x="52" y="340"/>
                    </a:lnTo>
                    <a:lnTo>
                      <a:pt x="74" y="317"/>
                    </a:lnTo>
                    <a:lnTo>
                      <a:pt x="99" y="296"/>
                    </a:lnTo>
                    <a:lnTo>
                      <a:pt x="129" y="275"/>
                    </a:lnTo>
                    <a:lnTo>
                      <a:pt x="161" y="255"/>
                    </a:lnTo>
                    <a:lnTo>
                      <a:pt x="197" y="235"/>
                    </a:lnTo>
                    <a:lnTo>
                      <a:pt x="237" y="215"/>
                    </a:lnTo>
                    <a:lnTo>
                      <a:pt x="279" y="197"/>
                    </a:lnTo>
                    <a:lnTo>
                      <a:pt x="325" y="179"/>
                    </a:lnTo>
                    <a:lnTo>
                      <a:pt x="373" y="162"/>
                    </a:lnTo>
                    <a:lnTo>
                      <a:pt x="424" y="146"/>
                    </a:lnTo>
                    <a:lnTo>
                      <a:pt x="478" y="131"/>
                    </a:lnTo>
                    <a:lnTo>
                      <a:pt x="535" y="115"/>
                    </a:lnTo>
                    <a:lnTo>
                      <a:pt x="593" y="101"/>
                    </a:lnTo>
                    <a:lnTo>
                      <a:pt x="655" y="88"/>
                    </a:lnTo>
                    <a:lnTo>
                      <a:pt x="719" y="76"/>
                    </a:lnTo>
                    <a:lnTo>
                      <a:pt x="785" y="64"/>
                    </a:lnTo>
                    <a:lnTo>
                      <a:pt x="854" y="54"/>
                    </a:lnTo>
                    <a:lnTo>
                      <a:pt x="924" y="44"/>
                    </a:lnTo>
                    <a:lnTo>
                      <a:pt x="996" y="35"/>
                    </a:lnTo>
                    <a:lnTo>
                      <a:pt x="1070" y="27"/>
                    </a:lnTo>
                    <a:lnTo>
                      <a:pt x="1146" y="21"/>
                    </a:lnTo>
                    <a:lnTo>
                      <a:pt x="1223" y="15"/>
                    </a:lnTo>
                    <a:lnTo>
                      <a:pt x="1302" y="9"/>
                    </a:lnTo>
                    <a:lnTo>
                      <a:pt x="1382" y="5"/>
                    </a:lnTo>
                    <a:lnTo>
                      <a:pt x="1464" y="2"/>
                    </a:lnTo>
                    <a:lnTo>
                      <a:pt x="1547" y="1"/>
                    </a:lnTo>
                    <a:lnTo>
                      <a:pt x="1630" y="0"/>
                    </a:lnTo>
                    <a:lnTo>
                      <a:pt x="1714" y="1"/>
                    </a:lnTo>
                    <a:lnTo>
                      <a:pt x="1797" y="2"/>
                    </a:lnTo>
                    <a:lnTo>
                      <a:pt x="1879" y="5"/>
                    </a:lnTo>
                    <a:lnTo>
                      <a:pt x="1959" y="9"/>
                    </a:lnTo>
                    <a:lnTo>
                      <a:pt x="2037" y="15"/>
                    </a:lnTo>
                    <a:lnTo>
                      <a:pt x="2115" y="21"/>
                    </a:lnTo>
                    <a:lnTo>
                      <a:pt x="2191" y="27"/>
                    </a:lnTo>
                    <a:lnTo>
                      <a:pt x="2265" y="35"/>
                    </a:lnTo>
                    <a:lnTo>
                      <a:pt x="2337" y="44"/>
                    </a:lnTo>
                    <a:lnTo>
                      <a:pt x="2407" y="54"/>
                    </a:lnTo>
                    <a:lnTo>
                      <a:pt x="2476" y="64"/>
                    </a:lnTo>
                    <a:lnTo>
                      <a:pt x="2541" y="76"/>
                    </a:lnTo>
                    <a:lnTo>
                      <a:pt x="2606" y="88"/>
                    </a:lnTo>
                    <a:lnTo>
                      <a:pt x="2668" y="101"/>
                    </a:lnTo>
                    <a:lnTo>
                      <a:pt x="2726" y="115"/>
                    </a:lnTo>
                    <a:lnTo>
                      <a:pt x="2783" y="131"/>
                    </a:lnTo>
                    <a:lnTo>
                      <a:pt x="2837" y="146"/>
                    </a:lnTo>
                    <a:lnTo>
                      <a:pt x="2889" y="162"/>
                    </a:lnTo>
                    <a:lnTo>
                      <a:pt x="2936" y="179"/>
                    </a:lnTo>
                    <a:lnTo>
                      <a:pt x="2982" y="197"/>
                    </a:lnTo>
                    <a:lnTo>
                      <a:pt x="3024" y="215"/>
                    </a:lnTo>
                    <a:lnTo>
                      <a:pt x="3064" y="235"/>
                    </a:lnTo>
                    <a:lnTo>
                      <a:pt x="3100" y="255"/>
                    </a:lnTo>
                    <a:lnTo>
                      <a:pt x="3132" y="275"/>
                    </a:lnTo>
                    <a:lnTo>
                      <a:pt x="3162" y="296"/>
                    </a:lnTo>
                    <a:lnTo>
                      <a:pt x="3188" y="317"/>
                    </a:lnTo>
                    <a:lnTo>
                      <a:pt x="3209" y="340"/>
                    </a:lnTo>
                    <a:lnTo>
                      <a:pt x="3227" y="362"/>
                    </a:lnTo>
                    <a:lnTo>
                      <a:pt x="3241" y="385"/>
                    </a:lnTo>
                    <a:lnTo>
                      <a:pt x="3252" y="408"/>
                    </a:lnTo>
                    <a:lnTo>
                      <a:pt x="3258" y="432"/>
                    </a:lnTo>
                    <a:lnTo>
                      <a:pt x="3260" y="4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968840" y="6503760"/>
                <a:ext cx="358560" cy="110160"/>
              </a:xfrm>
              <a:custGeom>
                <a:avLst/>
                <a:gdLst/>
                <a:ahLst/>
                <a:rect l="l" t="t" r="r" b="b"/>
                <a:pathLst>
                  <a:path w="3258" h="928">
                    <a:moveTo>
                      <a:pt x="3258" y="456"/>
                    </a:moveTo>
                    <a:lnTo>
                      <a:pt x="3256" y="480"/>
                    </a:lnTo>
                    <a:lnTo>
                      <a:pt x="3249" y="503"/>
                    </a:lnTo>
                    <a:lnTo>
                      <a:pt x="3239" y="527"/>
                    </a:lnTo>
                    <a:lnTo>
                      <a:pt x="3225" y="551"/>
                    </a:lnTo>
                    <a:lnTo>
                      <a:pt x="3207" y="574"/>
                    </a:lnTo>
                    <a:lnTo>
                      <a:pt x="3185" y="596"/>
                    </a:lnTo>
                    <a:lnTo>
                      <a:pt x="3160" y="618"/>
                    </a:lnTo>
                    <a:lnTo>
                      <a:pt x="3130" y="639"/>
                    </a:lnTo>
                    <a:lnTo>
                      <a:pt x="3098" y="661"/>
                    </a:lnTo>
                    <a:lnTo>
                      <a:pt x="3062" y="681"/>
                    </a:lnTo>
                    <a:lnTo>
                      <a:pt x="3022" y="700"/>
                    </a:lnTo>
                    <a:lnTo>
                      <a:pt x="2980" y="719"/>
                    </a:lnTo>
                    <a:lnTo>
                      <a:pt x="2934" y="738"/>
                    </a:lnTo>
                    <a:lnTo>
                      <a:pt x="2886" y="755"/>
                    </a:lnTo>
                    <a:lnTo>
                      <a:pt x="2835" y="773"/>
                    </a:lnTo>
                    <a:lnTo>
                      <a:pt x="2781" y="790"/>
                    </a:lnTo>
                    <a:lnTo>
                      <a:pt x="2724" y="805"/>
                    </a:lnTo>
                    <a:lnTo>
                      <a:pt x="2666" y="820"/>
                    </a:lnTo>
                    <a:lnTo>
                      <a:pt x="2604" y="834"/>
                    </a:lnTo>
                    <a:lnTo>
                      <a:pt x="2540" y="847"/>
                    </a:lnTo>
                    <a:lnTo>
                      <a:pt x="2474" y="859"/>
                    </a:lnTo>
                    <a:lnTo>
                      <a:pt x="2406" y="871"/>
                    </a:lnTo>
                    <a:lnTo>
                      <a:pt x="2335" y="881"/>
                    </a:lnTo>
                    <a:lnTo>
                      <a:pt x="2264" y="891"/>
                    </a:lnTo>
                    <a:lnTo>
                      <a:pt x="2190" y="899"/>
                    </a:lnTo>
                    <a:lnTo>
                      <a:pt x="2114" y="907"/>
                    </a:lnTo>
                    <a:lnTo>
                      <a:pt x="2036" y="913"/>
                    </a:lnTo>
                    <a:lnTo>
                      <a:pt x="1958" y="918"/>
                    </a:lnTo>
                    <a:lnTo>
                      <a:pt x="1878" y="922"/>
                    </a:lnTo>
                    <a:lnTo>
                      <a:pt x="1796" y="925"/>
                    </a:lnTo>
                    <a:lnTo>
                      <a:pt x="1713" y="927"/>
                    </a:lnTo>
                    <a:lnTo>
                      <a:pt x="1629" y="928"/>
                    </a:lnTo>
                    <a:lnTo>
                      <a:pt x="1546" y="927"/>
                    </a:lnTo>
                    <a:lnTo>
                      <a:pt x="1463" y="925"/>
                    </a:lnTo>
                    <a:lnTo>
                      <a:pt x="1381" y="922"/>
                    </a:lnTo>
                    <a:lnTo>
                      <a:pt x="1301" y="918"/>
                    </a:lnTo>
                    <a:lnTo>
                      <a:pt x="1222" y="913"/>
                    </a:lnTo>
                    <a:lnTo>
                      <a:pt x="1146" y="907"/>
                    </a:lnTo>
                    <a:lnTo>
                      <a:pt x="1070" y="899"/>
                    </a:lnTo>
                    <a:lnTo>
                      <a:pt x="995" y="891"/>
                    </a:lnTo>
                    <a:lnTo>
                      <a:pt x="924" y="881"/>
                    </a:lnTo>
                    <a:lnTo>
                      <a:pt x="853" y="871"/>
                    </a:lnTo>
                    <a:lnTo>
                      <a:pt x="785" y="859"/>
                    </a:lnTo>
                    <a:lnTo>
                      <a:pt x="718" y="847"/>
                    </a:lnTo>
                    <a:lnTo>
                      <a:pt x="655" y="834"/>
                    </a:lnTo>
                    <a:lnTo>
                      <a:pt x="593" y="820"/>
                    </a:lnTo>
                    <a:lnTo>
                      <a:pt x="535" y="805"/>
                    </a:lnTo>
                    <a:lnTo>
                      <a:pt x="478" y="790"/>
                    </a:lnTo>
                    <a:lnTo>
                      <a:pt x="424" y="773"/>
                    </a:lnTo>
                    <a:lnTo>
                      <a:pt x="373" y="755"/>
                    </a:lnTo>
                    <a:lnTo>
                      <a:pt x="325" y="738"/>
                    </a:lnTo>
                    <a:lnTo>
                      <a:pt x="279" y="719"/>
                    </a:lnTo>
                    <a:lnTo>
                      <a:pt x="237" y="700"/>
                    </a:lnTo>
                    <a:lnTo>
                      <a:pt x="197" y="681"/>
                    </a:lnTo>
                    <a:lnTo>
                      <a:pt x="161" y="661"/>
                    </a:lnTo>
                    <a:lnTo>
                      <a:pt x="129" y="639"/>
                    </a:lnTo>
                    <a:lnTo>
                      <a:pt x="99" y="618"/>
                    </a:lnTo>
                    <a:lnTo>
                      <a:pt x="74" y="596"/>
                    </a:lnTo>
                    <a:lnTo>
                      <a:pt x="52" y="574"/>
                    </a:lnTo>
                    <a:lnTo>
                      <a:pt x="34" y="551"/>
                    </a:lnTo>
                    <a:lnTo>
                      <a:pt x="20" y="527"/>
                    </a:lnTo>
                    <a:lnTo>
                      <a:pt x="10" y="503"/>
                    </a:lnTo>
                    <a:lnTo>
                      <a:pt x="3" y="480"/>
                    </a:lnTo>
                    <a:lnTo>
                      <a:pt x="0" y="456"/>
                    </a:lnTo>
                    <a:lnTo>
                      <a:pt x="3" y="431"/>
                    </a:lnTo>
                    <a:lnTo>
                      <a:pt x="10" y="407"/>
                    </a:lnTo>
                    <a:lnTo>
                      <a:pt x="20" y="384"/>
                    </a:lnTo>
                    <a:lnTo>
                      <a:pt x="34" y="361"/>
                    </a:lnTo>
                    <a:lnTo>
                      <a:pt x="52" y="339"/>
                    </a:lnTo>
                    <a:lnTo>
                      <a:pt x="74" y="316"/>
                    </a:lnTo>
                    <a:lnTo>
                      <a:pt x="99" y="295"/>
                    </a:lnTo>
                    <a:lnTo>
                      <a:pt x="129" y="274"/>
                    </a:lnTo>
                    <a:lnTo>
                      <a:pt x="161" y="254"/>
                    </a:lnTo>
                    <a:lnTo>
                      <a:pt x="197" y="235"/>
                    </a:lnTo>
                    <a:lnTo>
                      <a:pt x="237" y="215"/>
                    </a:lnTo>
                    <a:lnTo>
                      <a:pt x="279" y="196"/>
                    </a:lnTo>
                    <a:lnTo>
                      <a:pt x="325" y="179"/>
                    </a:lnTo>
                    <a:lnTo>
                      <a:pt x="373" y="162"/>
                    </a:lnTo>
                    <a:lnTo>
                      <a:pt x="424" y="146"/>
                    </a:lnTo>
                    <a:lnTo>
                      <a:pt x="478" y="130"/>
                    </a:lnTo>
                    <a:lnTo>
                      <a:pt x="535" y="115"/>
                    </a:lnTo>
                    <a:lnTo>
                      <a:pt x="593" y="101"/>
                    </a:lnTo>
                    <a:lnTo>
                      <a:pt x="655" y="88"/>
                    </a:lnTo>
                    <a:lnTo>
                      <a:pt x="718" y="76"/>
                    </a:lnTo>
                    <a:lnTo>
                      <a:pt x="785" y="64"/>
                    </a:lnTo>
                    <a:lnTo>
                      <a:pt x="853" y="54"/>
                    </a:lnTo>
                    <a:lnTo>
                      <a:pt x="924" y="44"/>
                    </a:lnTo>
                    <a:lnTo>
                      <a:pt x="995" y="35"/>
                    </a:lnTo>
                    <a:lnTo>
                      <a:pt x="1070" y="27"/>
                    </a:lnTo>
                    <a:lnTo>
                      <a:pt x="1146" y="21"/>
                    </a:lnTo>
                    <a:lnTo>
                      <a:pt x="1222" y="15"/>
                    </a:lnTo>
                    <a:lnTo>
                      <a:pt x="1301" y="9"/>
                    </a:lnTo>
                    <a:lnTo>
                      <a:pt x="1381" y="5"/>
                    </a:lnTo>
                    <a:lnTo>
                      <a:pt x="1463" y="2"/>
                    </a:lnTo>
                    <a:lnTo>
                      <a:pt x="1546" y="1"/>
                    </a:lnTo>
                    <a:lnTo>
                      <a:pt x="1629" y="0"/>
                    </a:lnTo>
                    <a:lnTo>
                      <a:pt x="1713" y="1"/>
                    </a:lnTo>
                    <a:lnTo>
                      <a:pt x="1796" y="2"/>
                    </a:lnTo>
                    <a:lnTo>
                      <a:pt x="1878" y="5"/>
                    </a:lnTo>
                    <a:lnTo>
                      <a:pt x="1958" y="9"/>
                    </a:lnTo>
                    <a:lnTo>
                      <a:pt x="2036" y="15"/>
                    </a:lnTo>
                    <a:lnTo>
                      <a:pt x="2114" y="21"/>
                    </a:lnTo>
                    <a:lnTo>
                      <a:pt x="2190" y="27"/>
                    </a:lnTo>
                    <a:lnTo>
                      <a:pt x="2264" y="35"/>
                    </a:lnTo>
                    <a:lnTo>
                      <a:pt x="2335" y="44"/>
                    </a:lnTo>
                    <a:lnTo>
                      <a:pt x="2406" y="54"/>
                    </a:lnTo>
                    <a:lnTo>
                      <a:pt x="2474" y="64"/>
                    </a:lnTo>
                    <a:lnTo>
                      <a:pt x="2540" y="76"/>
                    </a:lnTo>
                    <a:lnTo>
                      <a:pt x="2604" y="88"/>
                    </a:lnTo>
                    <a:lnTo>
                      <a:pt x="2666" y="101"/>
                    </a:lnTo>
                    <a:lnTo>
                      <a:pt x="2724" y="115"/>
                    </a:lnTo>
                    <a:lnTo>
                      <a:pt x="2781" y="130"/>
                    </a:lnTo>
                    <a:lnTo>
                      <a:pt x="2835" y="146"/>
                    </a:lnTo>
                    <a:lnTo>
                      <a:pt x="2886" y="162"/>
                    </a:lnTo>
                    <a:lnTo>
                      <a:pt x="2934" y="179"/>
                    </a:lnTo>
                    <a:lnTo>
                      <a:pt x="2980" y="196"/>
                    </a:lnTo>
                    <a:lnTo>
                      <a:pt x="3022" y="215"/>
                    </a:lnTo>
                    <a:lnTo>
                      <a:pt x="3062" y="235"/>
                    </a:lnTo>
                    <a:lnTo>
                      <a:pt x="3098" y="254"/>
                    </a:lnTo>
                    <a:lnTo>
                      <a:pt x="3130" y="274"/>
                    </a:lnTo>
                    <a:lnTo>
                      <a:pt x="3160" y="295"/>
                    </a:lnTo>
                    <a:lnTo>
                      <a:pt x="3185" y="316"/>
                    </a:lnTo>
                    <a:lnTo>
                      <a:pt x="3207" y="339"/>
                    </a:lnTo>
                    <a:lnTo>
                      <a:pt x="3225" y="361"/>
                    </a:lnTo>
                    <a:lnTo>
                      <a:pt x="3239" y="384"/>
                    </a:lnTo>
                    <a:lnTo>
                      <a:pt x="3249" y="407"/>
                    </a:lnTo>
                    <a:lnTo>
                      <a:pt x="3256" y="431"/>
                    </a:lnTo>
                    <a:lnTo>
                      <a:pt x="3258" y="4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968840" y="6503760"/>
                <a:ext cx="358560" cy="110160"/>
              </a:xfrm>
              <a:custGeom>
                <a:avLst/>
                <a:gdLst/>
                <a:ahLst/>
                <a:rect l="l" t="t" r="r" b="b"/>
                <a:pathLst>
                  <a:path w="3254" h="926">
                    <a:moveTo>
                      <a:pt x="3254" y="455"/>
                    </a:moveTo>
                    <a:lnTo>
                      <a:pt x="3252" y="479"/>
                    </a:lnTo>
                    <a:lnTo>
                      <a:pt x="3246" y="502"/>
                    </a:lnTo>
                    <a:lnTo>
                      <a:pt x="3236" y="526"/>
                    </a:lnTo>
                    <a:lnTo>
                      <a:pt x="3222" y="550"/>
                    </a:lnTo>
                    <a:lnTo>
                      <a:pt x="3204" y="572"/>
                    </a:lnTo>
                    <a:lnTo>
                      <a:pt x="3182" y="594"/>
                    </a:lnTo>
                    <a:lnTo>
                      <a:pt x="3155" y="616"/>
                    </a:lnTo>
                    <a:lnTo>
                      <a:pt x="3127" y="637"/>
                    </a:lnTo>
                    <a:lnTo>
                      <a:pt x="3094" y="659"/>
                    </a:lnTo>
                    <a:lnTo>
                      <a:pt x="3059" y="679"/>
                    </a:lnTo>
                    <a:lnTo>
                      <a:pt x="3019" y="699"/>
                    </a:lnTo>
                    <a:lnTo>
                      <a:pt x="2977" y="718"/>
                    </a:lnTo>
                    <a:lnTo>
                      <a:pt x="2931" y="736"/>
                    </a:lnTo>
                    <a:lnTo>
                      <a:pt x="2883" y="754"/>
                    </a:lnTo>
                    <a:lnTo>
                      <a:pt x="2832" y="772"/>
                    </a:lnTo>
                    <a:lnTo>
                      <a:pt x="2778" y="788"/>
                    </a:lnTo>
                    <a:lnTo>
                      <a:pt x="2721" y="803"/>
                    </a:lnTo>
                    <a:lnTo>
                      <a:pt x="2663" y="818"/>
                    </a:lnTo>
                    <a:lnTo>
                      <a:pt x="2601" y="832"/>
                    </a:lnTo>
                    <a:lnTo>
                      <a:pt x="2537" y="845"/>
                    </a:lnTo>
                    <a:lnTo>
                      <a:pt x="2472" y="857"/>
                    </a:lnTo>
                    <a:lnTo>
                      <a:pt x="2403" y="869"/>
                    </a:lnTo>
                    <a:lnTo>
                      <a:pt x="2333" y="880"/>
                    </a:lnTo>
                    <a:lnTo>
                      <a:pt x="2261" y="889"/>
                    </a:lnTo>
                    <a:lnTo>
                      <a:pt x="2187" y="897"/>
                    </a:lnTo>
                    <a:lnTo>
                      <a:pt x="2111" y="905"/>
                    </a:lnTo>
                    <a:lnTo>
                      <a:pt x="2034" y="911"/>
                    </a:lnTo>
                    <a:lnTo>
                      <a:pt x="1956" y="916"/>
                    </a:lnTo>
                    <a:lnTo>
                      <a:pt x="1875" y="920"/>
                    </a:lnTo>
                    <a:lnTo>
                      <a:pt x="1794" y="923"/>
                    </a:lnTo>
                    <a:lnTo>
                      <a:pt x="1711" y="925"/>
                    </a:lnTo>
                    <a:lnTo>
                      <a:pt x="1627" y="926"/>
                    </a:lnTo>
                    <a:lnTo>
                      <a:pt x="1544" y="925"/>
                    </a:lnTo>
                    <a:lnTo>
                      <a:pt x="1461" y="923"/>
                    </a:lnTo>
                    <a:lnTo>
                      <a:pt x="1380" y="920"/>
                    </a:lnTo>
                    <a:lnTo>
                      <a:pt x="1299" y="916"/>
                    </a:lnTo>
                    <a:lnTo>
                      <a:pt x="1220" y="911"/>
                    </a:lnTo>
                    <a:lnTo>
                      <a:pt x="1144" y="905"/>
                    </a:lnTo>
                    <a:lnTo>
                      <a:pt x="1068" y="897"/>
                    </a:lnTo>
                    <a:lnTo>
                      <a:pt x="994" y="889"/>
                    </a:lnTo>
                    <a:lnTo>
                      <a:pt x="923" y="880"/>
                    </a:lnTo>
                    <a:lnTo>
                      <a:pt x="852" y="869"/>
                    </a:lnTo>
                    <a:lnTo>
                      <a:pt x="784" y="857"/>
                    </a:lnTo>
                    <a:lnTo>
                      <a:pt x="718" y="845"/>
                    </a:lnTo>
                    <a:lnTo>
                      <a:pt x="654" y="832"/>
                    </a:lnTo>
                    <a:lnTo>
                      <a:pt x="592" y="818"/>
                    </a:lnTo>
                    <a:lnTo>
                      <a:pt x="534" y="803"/>
                    </a:lnTo>
                    <a:lnTo>
                      <a:pt x="477" y="788"/>
                    </a:lnTo>
                    <a:lnTo>
                      <a:pt x="423" y="772"/>
                    </a:lnTo>
                    <a:lnTo>
                      <a:pt x="372" y="754"/>
                    </a:lnTo>
                    <a:lnTo>
                      <a:pt x="324" y="736"/>
                    </a:lnTo>
                    <a:lnTo>
                      <a:pt x="278" y="718"/>
                    </a:lnTo>
                    <a:lnTo>
                      <a:pt x="236" y="699"/>
                    </a:lnTo>
                    <a:lnTo>
                      <a:pt x="196" y="679"/>
                    </a:lnTo>
                    <a:lnTo>
                      <a:pt x="161" y="659"/>
                    </a:lnTo>
                    <a:lnTo>
                      <a:pt x="128" y="637"/>
                    </a:lnTo>
                    <a:lnTo>
                      <a:pt x="99" y="616"/>
                    </a:lnTo>
                    <a:lnTo>
                      <a:pt x="73" y="594"/>
                    </a:lnTo>
                    <a:lnTo>
                      <a:pt x="52" y="572"/>
                    </a:lnTo>
                    <a:lnTo>
                      <a:pt x="34" y="550"/>
                    </a:lnTo>
                    <a:lnTo>
                      <a:pt x="19" y="526"/>
                    </a:lnTo>
                    <a:lnTo>
                      <a:pt x="9" y="502"/>
                    </a:lnTo>
                    <a:lnTo>
                      <a:pt x="2" y="479"/>
                    </a:lnTo>
                    <a:lnTo>
                      <a:pt x="0" y="455"/>
                    </a:lnTo>
                    <a:lnTo>
                      <a:pt x="2" y="430"/>
                    </a:lnTo>
                    <a:lnTo>
                      <a:pt x="9" y="406"/>
                    </a:lnTo>
                    <a:lnTo>
                      <a:pt x="19" y="383"/>
                    </a:lnTo>
                    <a:lnTo>
                      <a:pt x="34" y="360"/>
                    </a:lnTo>
                    <a:lnTo>
                      <a:pt x="52" y="338"/>
                    </a:lnTo>
                    <a:lnTo>
                      <a:pt x="73" y="315"/>
                    </a:lnTo>
                    <a:lnTo>
                      <a:pt x="99" y="294"/>
                    </a:lnTo>
                    <a:lnTo>
                      <a:pt x="128" y="274"/>
                    </a:lnTo>
                    <a:lnTo>
                      <a:pt x="161" y="254"/>
                    </a:lnTo>
                    <a:lnTo>
                      <a:pt x="196" y="234"/>
                    </a:lnTo>
                    <a:lnTo>
                      <a:pt x="236" y="214"/>
                    </a:lnTo>
                    <a:lnTo>
                      <a:pt x="278" y="196"/>
                    </a:lnTo>
                    <a:lnTo>
                      <a:pt x="324" y="178"/>
                    </a:lnTo>
                    <a:lnTo>
                      <a:pt x="372" y="162"/>
                    </a:lnTo>
                    <a:lnTo>
                      <a:pt x="423" y="145"/>
                    </a:lnTo>
                    <a:lnTo>
                      <a:pt x="477" y="130"/>
                    </a:lnTo>
                    <a:lnTo>
                      <a:pt x="534" y="114"/>
                    </a:lnTo>
                    <a:lnTo>
                      <a:pt x="592" y="101"/>
                    </a:lnTo>
                    <a:lnTo>
                      <a:pt x="654" y="88"/>
                    </a:lnTo>
                    <a:lnTo>
                      <a:pt x="718" y="75"/>
                    </a:lnTo>
                    <a:lnTo>
                      <a:pt x="784" y="64"/>
                    </a:lnTo>
                    <a:lnTo>
                      <a:pt x="852" y="53"/>
                    </a:lnTo>
                    <a:lnTo>
                      <a:pt x="923" y="44"/>
                    </a:lnTo>
                    <a:lnTo>
                      <a:pt x="994" y="35"/>
                    </a:lnTo>
                    <a:lnTo>
                      <a:pt x="1068" y="27"/>
                    </a:lnTo>
                    <a:lnTo>
                      <a:pt x="1144" y="20"/>
                    </a:lnTo>
                    <a:lnTo>
                      <a:pt x="1220" y="15"/>
                    </a:lnTo>
                    <a:lnTo>
                      <a:pt x="1299" y="9"/>
                    </a:lnTo>
                    <a:lnTo>
                      <a:pt x="1380" y="5"/>
                    </a:lnTo>
                    <a:lnTo>
                      <a:pt x="1461" y="2"/>
                    </a:lnTo>
                    <a:lnTo>
                      <a:pt x="1544" y="1"/>
                    </a:lnTo>
                    <a:lnTo>
                      <a:pt x="1627" y="0"/>
                    </a:lnTo>
                    <a:lnTo>
                      <a:pt x="1711" y="1"/>
                    </a:lnTo>
                    <a:lnTo>
                      <a:pt x="1794" y="2"/>
                    </a:lnTo>
                    <a:lnTo>
                      <a:pt x="1875" y="5"/>
                    </a:lnTo>
                    <a:lnTo>
                      <a:pt x="1956" y="9"/>
                    </a:lnTo>
                    <a:lnTo>
                      <a:pt x="2034" y="15"/>
                    </a:lnTo>
                    <a:lnTo>
                      <a:pt x="2111" y="20"/>
                    </a:lnTo>
                    <a:lnTo>
                      <a:pt x="2187" y="27"/>
                    </a:lnTo>
                    <a:lnTo>
                      <a:pt x="2261" y="35"/>
                    </a:lnTo>
                    <a:lnTo>
                      <a:pt x="2333" y="44"/>
                    </a:lnTo>
                    <a:lnTo>
                      <a:pt x="2403" y="53"/>
                    </a:lnTo>
                    <a:lnTo>
                      <a:pt x="2472" y="64"/>
                    </a:lnTo>
                    <a:lnTo>
                      <a:pt x="2537" y="75"/>
                    </a:lnTo>
                    <a:lnTo>
                      <a:pt x="2601" y="88"/>
                    </a:lnTo>
                    <a:lnTo>
                      <a:pt x="2663" y="101"/>
                    </a:lnTo>
                    <a:lnTo>
                      <a:pt x="2721" y="114"/>
                    </a:lnTo>
                    <a:lnTo>
                      <a:pt x="2778" y="130"/>
                    </a:lnTo>
                    <a:lnTo>
                      <a:pt x="2832" y="145"/>
                    </a:lnTo>
                    <a:lnTo>
                      <a:pt x="2883" y="162"/>
                    </a:lnTo>
                    <a:lnTo>
                      <a:pt x="2931" y="178"/>
                    </a:lnTo>
                    <a:lnTo>
                      <a:pt x="2977" y="196"/>
                    </a:lnTo>
                    <a:lnTo>
                      <a:pt x="3019" y="214"/>
                    </a:lnTo>
                    <a:lnTo>
                      <a:pt x="3059" y="234"/>
                    </a:lnTo>
                    <a:lnTo>
                      <a:pt x="3094" y="254"/>
                    </a:lnTo>
                    <a:lnTo>
                      <a:pt x="3127" y="274"/>
                    </a:lnTo>
                    <a:lnTo>
                      <a:pt x="3155" y="294"/>
                    </a:lnTo>
                    <a:lnTo>
                      <a:pt x="3182" y="315"/>
                    </a:lnTo>
                    <a:lnTo>
                      <a:pt x="3204" y="338"/>
                    </a:lnTo>
                    <a:lnTo>
                      <a:pt x="3222" y="360"/>
                    </a:lnTo>
                    <a:lnTo>
                      <a:pt x="3236" y="383"/>
                    </a:lnTo>
                    <a:lnTo>
                      <a:pt x="3246" y="406"/>
                    </a:lnTo>
                    <a:lnTo>
                      <a:pt x="3252" y="430"/>
                    </a:lnTo>
                    <a:lnTo>
                      <a:pt x="3254" y="4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968840" y="6503760"/>
                <a:ext cx="358560" cy="110160"/>
              </a:xfrm>
              <a:custGeom>
                <a:avLst/>
                <a:gdLst/>
                <a:ahLst/>
                <a:rect l="l" t="t" r="r" b="b"/>
                <a:pathLst>
                  <a:path w="3252" h="924">
                    <a:moveTo>
                      <a:pt x="3252" y="454"/>
                    </a:moveTo>
                    <a:lnTo>
                      <a:pt x="3250" y="478"/>
                    </a:lnTo>
                    <a:lnTo>
                      <a:pt x="3243" y="501"/>
                    </a:lnTo>
                    <a:lnTo>
                      <a:pt x="3233" y="525"/>
                    </a:lnTo>
                    <a:lnTo>
                      <a:pt x="3219" y="549"/>
                    </a:lnTo>
                    <a:lnTo>
                      <a:pt x="3201" y="571"/>
                    </a:lnTo>
                    <a:lnTo>
                      <a:pt x="3179" y="593"/>
                    </a:lnTo>
                    <a:lnTo>
                      <a:pt x="3153" y="615"/>
                    </a:lnTo>
                    <a:lnTo>
                      <a:pt x="3124" y="636"/>
                    </a:lnTo>
                    <a:lnTo>
                      <a:pt x="3092" y="658"/>
                    </a:lnTo>
                    <a:lnTo>
                      <a:pt x="3057" y="678"/>
                    </a:lnTo>
                    <a:lnTo>
                      <a:pt x="3017" y="697"/>
                    </a:lnTo>
                    <a:lnTo>
                      <a:pt x="2975" y="716"/>
                    </a:lnTo>
                    <a:lnTo>
                      <a:pt x="2929" y="735"/>
                    </a:lnTo>
                    <a:lnTo>
                      <a:pt x="2881" y="752"/>
                    </a:lnTo>
                    <a:lnTo>
                      <a:pt x="2830" y="770"/>
                    </a:lnTo>
                    <a:lnTo>
                      <a:pt x="2776" y="786"/>
                    </a:lnTo>
                    <a:lnTo>
                      <a:pt x="2719" y="802"/>
                    </a:lnTo>
                    <a:lnTo>
                      <a:pt x="2661" y="816"/>
                    </a:lnTo>
                    <a:lnTo>
                      <a:pt x="2599" y="830"/>
                    </a:lnTo>
                    <a:lnTo>
                      <a:pt x="2535" y="843"/>
                    </a:lnTo>
                    <a:lnTo>
                      <a:pt x="2470" y="855"/>
                    </a:lnTo>
                    <a:lnTo>
                      <a:pt x="2401" y="867"/>
                    </a:lnTo>
                    <a:lnTo>
                      <a:pt x="2331" y="878"/>
                    </a:lnTo>
                    <a:lnTo>
                      <a:pt x="2260" y="887"/>
                    </a:lnTo>
                    <a:lnTo>
                      <a:pt x="2186" y="895"/>
                    </a:lnTo>
                    <a:lnTo>
                      <a:pt x="2110" y="903"/>
                    </a:lnTo>
                    <a:lnTo>
                      <a:pt x="2032" y="909"/>
                    </a:lnTo>
                    <a:lnTo>
                      <a:pt x="1954" y="914"/>
                    </a:lnTo>
                    <a:lnTo>
                      <a:pt x="1874" y="918"/>
                    </a:lnTo>
                    <a:lnTo>
                      <a:pt x="1793" y="921"/>
                    </a:lnTo>
                    <a:lnTo>
                      <a:pt x="1710" y="923"/>
                    </a:lnTo>
                    <a:lnTo>
                      <a:pt x="1626" y="924"/>
                    </a:lnTo>
                    <a:lnTo>
                      <a:pt x="1543" y="923"/>
                    </a:lnTo>
                    <a:lnTo>
                      <a:pt x="1460" y="921"/>
                    </a:lnTo>
                    <a:lnTo>
                      <a:pt x="1379" y="918"/>
                    </a:lnTo>
                    <a:lnTo>
                      <a:pt x="1299" y="914"/>
                    </a:lnTo>
                    <a:lnTo>
                      <a:pt x="1220" y="909"/>
                    </a:lnTo>
                    <a:lnTo>
                      <a:pt x="1143" y="903"/>
                    </a:lnTo>
                    <a:lnTo>
                      <a:pt x="1068" y="895"/>
                    </a:lnTo>
                    <a:lnTo>
                      <a:pt x="993" y="887"/>
                    </a:lnTo>
                    <a:lnTo>
                      <a:pt x="922" y="878"/>
                    </a:lnTo>
                    <a:lnTo>
                      <a:pt x="852" y="867"/>
                    </a:lnTo>
                    <a:lnTo>
                      <a:pt x="783" y="855"/>
                    </a:lnTo>
                    <a:lnTo>
                      <a:pt x="718" y="843"/>
                    </a:lnTo>
                    <a:lnTo>
                      <a:pt x="654" y="830"/>
                    </a:lnTo>
                    <a:lnTo>
                      <a:pt x="592" y="816"/>
                    </a:lnTo>
                    <a:lnTo>
                      <a:pt x="534" y="802"/>
                    </a:lnTo>
                    <a:lnTo>
                      <a:pt x="477" y="786"/>
                    </a:lnTo>
                    <a:lnTo>
                      <a:pt x="423" y="770"/>
                    </a:lnTo>
                    <a:lnTo>
                      <a:pt x="372" y="752"/>
                    </a:lnTo>
                    <a:lnTo>
                      <a:pt x="324" y="735"/>
                    </a:lnTo>
                    <a:lnTo>
                      <a:pt x="278" y="716"/>
                    </a:lnTo>
                    <a:lnTo>
                      <a:pt x="236" y="697"/>
                    </a:lnTo>
                    <a:lnTo>
                      <a:pt x="197" y="678"/>
                    </a:lnTo>
                    <a:lnTo>
                      <a:pt x="161" y="658"/>
                    </a:lnTo>
                    <a:lnTo>
                      <a:pt x="129" y="636"/>
                    </a:lnTo>
                    <a:lnTo>
                      <a:pt x="99" y="615"/>
                    </a:lnTo>
                    <a:lnTo>
                      <a:pt x="74" y="593"/>
                    </a:lnTo>
                    <a:lnTo>
                      <a:pt x="52" y="571"/>
                    </a:lnTo>
                    <a:lnTo>
                      <a:pt x="34" y="549"/>
                    </a:lnTo>
                    <a:lnTo>
                      <a:pt x="20" y="525"/>
                    </a:lnTo>
                    <a:lnTo>
                      <a:pt x="10" y="501"/>
                    </a:lnTo>
                    <a:lnTo>
                      <a:pt x="2" y="478"/>
                    </a:lnTo>
                    <a:lnTo>
                      <a:pt x="0" y="454"/>
                    </a:lnTo>
                    <a:lnTo>
                      <a:pt x="2" y="429"/>
                    </a:lnTo>
                    <a:lnTo>
                      <a:pt x="10" y="405"/>
                    </a:lnTo>
                    <a:lnTo>
                      <a:pt x="20" y="382"/>
                    </a:lnTo>
                    <a:lnTo>
                      <a:pt x="34" y="359"/>
                    </a:lnTo>
                    <a:lnTo>
                      <a:pt x="52" y="337"/>
                    </a:lnTo>
                    <a:lnTo>
                      <a:pt x="74" y="315"/>
                    </a:lnTo>
                    <a:lnTo>
                      <a:pt x="99" y="293"/>
                    </a:lnTo>
                    <a:lnTo>
                      <a:pt x="129" y="273"/>
                    </a:lnTo>
                    <a:lnTo>
                      <a:pt x="161" y="253"/>
                    </a:lnTo>
                    <a:lnTo>
                      <a:pt x="197" y="233"/>
                    </a:lnTo>
                    <a:lnTo>
                      <a:pt x="236" y="214"/>
                    </a:lnTo>
                    <a:lnTo>
                      <a:pt x="278" y="196"/>
                    </a:lnTo>
                    <a:lnTo>
                      <a:pt x="324" y="178"/>
                    </a:lnTo>
                    <a:lnTo>
                      <a:pt x="372" y="161"/>
                    </a:lnTo>
                    <a:lnTo>
                      <a:pt x="423" y="145"/>
                    </a:lnTo>
                    <a:lnTo>
                      <a:pt x="477" y="130"/>
                    </a:lnTo>
                    <a:lnTo>
                      <a:pt x="534" y="114"/>
                    </a:lnTo>
                    <a:lnTo>
                      <a:pt x="592" y="100"/>
                    </a:lnTo>
                    <a:lnTo>
                      <a:pt x="654" y="87"/>
                    </a:lnTo>
                    <a:lnTo>
                      <a:pt x="718" y="75"/>
                    </a:lnTo>
                    <a:lnTo>
                      <a:pt x="783" y="64"/>
                    </a:lnTo>
                    <a:lnTo>
                      <a:pt x="852" y="53"/>
                    </a:lnTo>
                    <a:lnTo>
                      <a:pt x="922" y="44"/>
                    </a:lnTo>
                    <a:lnTo>
                      <a:pt x="993" y="35"/>
                    </a:lnTo>
                    <a:lnTo>
                      <a:pt x="1068" y="27"/>
                    </a:lnTo>
                    <a:lnTo>
                      <a:pt x="1143" y="20"/>
                    </a:lnTo>
                    <a:lnTo>
                      <a:pt x="1220" y="15"/>
                    </a:lnTo>
                    <a:lnTo>
                      <a:pt x="1299" y="10"/>
                    </a:lnTo>
                    <a:lnTo>
                      <a:pt x="1379" y="5"/>
                    </a:lnTo>
                    <a:lnTo>
                      <a:pt x="1460" y="2"/>
                    </a:lnTo>
                    <a:lnTo>
                      <a:pt x="1543" y="1"/>
                    </a:lnTo>
                    <a:lnTo>
                      <a:pt x="1626" y="0"/>
                    </a:lnTo>
                    <a:lnTo>
                      <a:pt x="1710" y="1"/>
                    </a:lnTo>
                    <a:lnTo>
                      <a:pt x="1793" y="2"/>
                    </a:lnTo>
                    <a:lnTo>
                      <a:pt x="1874" y="5"/>
                    </a:lnTo>
                    <a:lnTo>
                      <a:pt x="1954" y="10"/>
                    </a:lnTo>
                    <a:lnTo>
                      <a:pt x="2032" y="15"/>
                    </a:lnTo>
                    <a:lnTo>
                      <a:pt x="2110" y="20"/>
                    </a:lnTo>
                    <a:lnTo>
                      <a:pt x="2186" y="27"/>
                    </a:lnTo>
                    <a:lnTo>
                      <a:pt x="2260" y="35"/>
                    </a:lnTo>
                    <a:lnTo>
                      <a:pt x="2331" y="44"/>
                    </a:lnTo>
                    <a:lnTo>
                      <a:pt x="2401" y="53"/>
                    </a:lnTo>
                    <a:lnTo>
                      <a:pt x="2470" y="64"/>
                    </a:lnTo>
                    <a:lnTo>
                      <a:pt x="2535" y="75"/>
                    </a:lnTo>
                    <a:lnTo>
                      <a:pt x="2599" y="87"/>
                    </a:lnTo>
                    <a:lnTo>
                      <a:pt x="2661" y="100"/>
                    </a:lnTo>
                    <a:lnTo>
                      <a:pt x="2719" y="114"/>
                    </a:lnTo>
                    <a:lnTo>
                      <a:pt x="2776" y="130"/>
                    </a:lnTo>
                    <a:lnTo>
                      <a:pt x="2830" y="145"/>
                    </a:lnTo>
                    <a:lnTo>
                      <a:pt x="2881" y="161"/>
                    </a:lnTo>
                    <a:lnTo>
                      <a:pt x="2929" y="178"/>
                    </a:lnTo>
                    <a:lnTo>
                      <a:pt x="2975" y="196"/>
                    </a:lnTo>
                    <a:lnTo>
                      <a:pt x="3017" y="214"/>
                    </a:lnTo>
                    <a:lnTo>
                      <a:pt x="3057" y="233"/>
                    </a:lnTo>
                    <a:lnTo>
                      <a:pt x="3092" y="253"/>
                    </a:lnTo>
                    <a:lnTo>
                      <a:pt x="3124" y="273"/>
                    </a:lnTo>
                    <a:lnTo>
                      <a:pt x="3153" y="293"/>
                    </a:lnTo>
                    <a:lnTo>
                      <a:pt x="3179" y="315"/>
                    </a:lnTo>
                    <a:lnTo>
                      <a:pt x="3201" y="337"/>
                    </a:lnTo>
                    <a:lnTo>
                      <a:pt x="3219" y="359"/>
                    </a:lnTo>
                    <a:lnTo>
                      <a:pt x="3233" y="382"/>
                    </a:lnTo>
                    <a:lnTo>
                      <a:pt x="3243" y="405"/>
                    </a:lnTo>
                    <a:lnTo>
                      <a:pt x="3250" y="429"/>
                    </a:lnTo>
                    <a:lnTo>
                      <a:pt x="3252" y="4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68840" y="6503760"/>
                <a:ext cx="358560" cy="110160"/>
              </a:xfrm>
              <a:custGeom>
                <a:avLst/>
                <a:gdLst/>
                <a:ahLst/>
                <a:rect l="l" t="t" r="r" b="b"/>
                <a:pathLst>
                  <a:path w="3248" h="922">
                    <a:moveTo>
                      <a:pt x="3248" y="453"/>
                    </a:moveTo>
                    <a:lnTo>
                      <a:pt x="3246" y="477"/>
                    </a:lnTo>
                    <a:lnTo>
                      <a:pt x="3240" y="500"/>
                    </a:lnTo>
                    <a:lnTo>
                      <a:pt x="3230" y="523"/>
                    </a:lnTo>
                    <a:lnTo>
                      <a:pt x="3216" y="547"/>
                    </a:lnTo>
                    <a:lnTo>
                      <a:pt x="3198" y="570"/>
                    </a:lnTo>
                    <a:lnTo>
                      <a:pt x="3176" y="592"/>
                    </a:lnTo>
                    <a:lnTo>
                      <a:pt x="3150" y="614"/>
                    </a:lnTo>
                    <a:lnTo>
                      <a:pt x="3121" y="635"/>
                    </a:lnTo>
                    <a:lnTo>
                      <a:pt x="3089" y="656"/>
                    </a:lnTo>
                    <a:lnTo>
                      <a:pt x="3053" y="676"/>
                    </a:lnTo>
                    <a:lnTo>
                      <a:pt x="3014" y="696"/>
                    </a:lnTo>
                    <a:lnTo>
                      <a:pt x="2972" y="715"/>
                    </a:lnTo>
                    <a:lnTo>
                      <a:pt x="2926" y="733"/>
                    </a:lnTo>
                    <a:lnTo>
                      <a:pt x="2878" y="751"/>
                    </a:lnTo>
                    <a:lnTo>
                      <a:pt x="2827" y="768"/>
                    </a:lnTo>
                    <a:lnTo>
                      <a:pt x="2773" y="785"/>
                    </a:lnTo>
                    <a:lnTo>
                      <a:pt x="2716" y="800"/>
                    </a:lnTo>
                    <a:lnTo>
                      <a:pt x="2658" y="815"/>
                    </a:lnTo>
                    <a:lnTo>
                      <a:pt x="2596" y="828"/>
                    </a:lnTo>
                    <a:lnTo>
                      <a:pt x="2532" y="841"/>
                    </a:lnTo>
                    <a:lnTo>
                      <a:pt x="2467" y="853"/>
                    </a:lnTo>
                    <a:lnTo>
                      <a:pt x="2399" y="866"/>
                    </a:lnTo>
                    <a:lnTo>
                      <a:pt x="2328" y="876"/>
                    </a:lnTo>
                    <a:lnTo>
                      <a:pt x="2257" y="885"/>
                    </a:lnTo>
                    <a:lnTo>
                      <a:pt x="2183" y="894"/>
                    </a:lnTo>
                    <a:lnTo>
                      <a:pt x="2107" y="901"/>
                    </a:lnTo>
                    <a:lnTo>
                      <a:pt x="2030" y="907"/>
                    </a:lnTo>
                    <a:lnTo>
                      <a:pt x="1952" y="912"/>
                    </a:lnTo>
                    <a:lnTo>
                      <a:pt x="1872" y="916"/>
                    </a:lnTo>
                    <a:lnTo>
                      <a:pt x="1791" y="919"/>
                    </a:lnTo>
                    <a:lnTo>
                      <a:pt x="1708" y="921"/>
                    </a:lnTo>
                    <a:lnTo>
                      <a:pt x="1624" y="922"/>
                    </a:lnTo>
                    <a:lnTo>
                      <a:pt x="1541" y="921"/>
                    </a:lnTo>
                    <a:lnTo>
                      <a:pt x="1459" y="919"/>
                    </a:lnTo>
                    <a:lnTo>
                      <a:pt x="1377" y="916"/>
                    </a:lnTo>
                    <a:lnTo>
                      <a:pt x="1297" y="912"/>
                    </a:lnTo>
                    <a:lnTo>
                      <a:pt x="1218" y="907"/>
                    </a:lnTo>
                    <a:lnTo>
                      <a:pt x="1142" y="901"/>
                    </a:lnTo>
                    <a:lnTo>
                      <a:pt x="1066" y="894"/>
                    </a:lnTo>
                    <a:lnTo>
                      <a:pt x="992" y="885"/>
                    </a:lnTo>
                    <a:lnTo>
                      <a:pt x="921" y="876"/>
                    </a:lnTo>
                    <a:lnTo>
                      <a:pt x="850" y="866"/>
                    </a:lnTo>
                    <a:lnTo>
                      <a:pt x="782" y="853"/>
                    </a:lnTo>
                    <a:lnTo>
                      <a:pt x="717" y="841"/>
                    </a:lnTo>
                    <a:lnTo>
                      <a:pt x="653" y="828"/>
                    </a:lnTo>
                    <a:lnTo>
                      <a:pt x="591" y="815"/>
                    </a:lnTo>
                    <a:lnTo>
                      <a:pt x="533" y="800"/>
                    </a:lnTo>
                    <a:lnTo>
                      <a:pt x="476" y="785"/>
                    </a:lnTo>
                    <a:lnTo>
                      <a:pt x="423" y="768"/>
                    </a:lnTo>
                    <a:lnTo>
                      <a:pt x="371" y="751"/>
                    </a:lnTo>
                    <a:lnTo>
                      <a:pt x="323" y="733"/>
                    </a:lnTo>
                    <a:lnTo>
                      <a:pt x="277" y="715"/>
                    </a:lnTo>
                    <a:lnTo>
                      <a:pt x="236" y="696"/>
                    </a:lnTo>
                    <a:lnTo>
                      <a:pt x="196" y="676"/>
                    </a:lnTo>
                    <a:lnTo>
                      <a:pt x="160" y="656"/>
                    </a:lnTo>
                    <a:lnTo>
                      <a:pt x="128" y="635"/>
                    </a:lnTo>
                    <a:lnTo>
                      <a:pt x="98" y="614"/>
                    </a:lnTo>
                    <a:lnTo>
                      <a:pt x="73" y="592"/>
                    </a:lnTo>
                    <a:lnTo>
                      <a:pt x="51" y="570"/>
                    </a:lnTo>
                    <a:lnTo>
                      <a:pt x="33" y="547"/>
                    </a:lnTo>
                    <a:lnTo>
                      <a:pt x="19" y="523"/>
                    </a:lnTo>
                    <a:lnTo>
                      <a:pt x="9" y="500"/>
                    </a:lnTo>
                    <a:lnTo>
                      <a:pt x="3" y="477"/>
                    </a:lnTo>
                    <a:lnTo>
                      <a:pt x="0" y="453"/>
                    </a:lnTo>
                    <a:lnTo>
                      <a:pt x="3" y="428"/>
                    </a:lnTo>
                    <a:lnTo>
                      <a:pt x="9" y="404"/>
                    </a:lnTo>
                    <a:lnTo>
                      <a:pt x="19" y="381"/>
                    </a:lnTo>
                    <a:lnTo>
                      <a:pt x="33" y="359"/>
                    </a:lnTo>
                    <a:lnTo>
                      <a:pt x="51" y="337"/>
                    </a:lnTo>
                    <a:lnTo>
                      <a:pt x="73" y="314"/>
                    </a:lnTo>
                    <a:lnTo>
                      <a:pt x="98" y="293"/>
                    </a:lnTo>
                    <a:lnTo>
                      <a:pt x="128" y="272"/>
                    </a:lnTo>
                    <a:lnTo>
                      <a:pt x="160" y="252"/>
                    </a:lnTo>
                    <a:lnTo>
                      <a:pt x="196" y="233"/>
                    </a:lnTo>
                    <a:lnTo>
                      <a:pt x="236" y="213"/>
                    </a:lnTo>
                    <a:lnTo>
                      <a:pt x="277" y="195"/>
                    </a:lnTo>
                    <a:lnTo>
                      <a:pt x="323" y="178"/>
                    </a:lnTo>
                    <a:lnTo>
                      <a:pt x="371" y="161"/>
                    </a:lnTo>
                    <a:lnTo>
                      <a:pt x="423" y="145"/>
                    </a:lnTo>
                    <a:lnTo>
                      <a:pt x="476" y="129"/>
                    </a:lnTo>
                    <a:lnTo>
                      <a:pt x="533" y="114"/>
                    </a:lnTo>
                    <a:lnTo>
                      <a:pt x="591" y="100"/>
                    </a:lnTo>
                    <a:lnTo>
                      <a:pt x="653" y="87"/>
                    </a:lnTo>
                    <a:lnTo>
                      <a:pt x="717" y="75"/>
                    </a:lnTo>
                    <a:lnTo>
                      <a:pt x="782" y="63"/>
                    </a:lnTo>
                    <a:lnTo>
                      <a:pt x="850" y="53"/>
                    </a:lnTo>
                    <a:lnTo>
                      <a:pt x="921" y="43"/>
                    </a:lnTo>
                    <a:lnTo>
                      <a:pt x="992" y="35"/>
                    </a:lnTo>
                    <a:lnTo>
                      <a:pt x="1066" y="27"/>
                    </a:lnTo>
                    <a:lnTo>
                      <a:pt x="1142" y="20"/>
                    </a:lnTo>
                    <a:lnTo>
                      <a:pt x="1218" y="14"/>
                    </a:lnTo>
                    <a:lnTo>
                      <a:pt x="1297" y="10"/>
                    </a:lnTo>
                    <a:lnTo>
                      <a:pt x="1377" y="5"/>
                    </a:lnTo>
                    <a:lnTo>
                      <a:pt x="1459" y="2"/>
                    </a:lnTo>
                    <a:lnTo>
                      <a:pt x="1541" y="0"/>
                    </a:lnTo>
                    <a:lnTo>
                      <a:pt x="1624" y="0"/>
                    </a:lnTo>
                    <a:lnTo>
                      <a:pt x="1708" y="0"/>
                    </a:lnTo>
                    <a:lnTo>
                      <a:pt x="1791" y="2"/>
                    </a:lnTo>
                    <a:lnTo>
                      <a:pt x="1872" y="5"/>
                    </a:lnTo>
                    <a:lnTo>
                      <a:pt x="1952" y="10"/>
                    </a:lnTo>
                    <a:lnTo>
                      <a:pt x="2030" y="14"/>
                    </a:lnTo>
                    <a:lnTo>
                      <a:pt x="2107" y="20"/>
                    </a:lnTo>
                    <a:lnTo>
                      <a:pt x="2183" y="27"/>
                    </a:lnTo>
                    <a:lnTo>
                      <a:pt x="2257" y="35"/>
                    </a:lnTo>
                    <a:lnTo>
                      <a:pt x="2328" y="43"/>
                    </a:lnTo>
                    <a:lnTo>
                      <a:pt x="2399" y="53"/>
                    </a:lnTo>
                    <a:lnTo>
                      <a:pt x="2467" y="63"/>
                    </a:lnTo>
                    <a:lnTo>
                      <a:pt x="2532" y="75"/>
                    </a:lnTo>
                    <a:lnTo>
                      <a:pt x="2596" y="87"/>
                    </a:lnTo>
                    <a:lnTo>
                      <a:pt x="2658" y="100"/>
                    </a:lnTo>
                    <a:lnTo>
                      <a:pt x="2716" y="114"/>
                    </a:lnTo>
                    <a:lnTo>
                      <a:pt x="2773" y="129"/>
                    </a:lnTo>
                    <a:lnTo>
                      <a:pt x="2827" y="145"/>
                    </a:lnTo>
                    <a:lnTo>
                      <a:pt x="2878" y="161"/>
                    </a:lnTo>
                    <a:lnTo>
                      <a:pt x="2926" y="178"/>
                    </a:lnTo>
                    <a:lnTo>
                      <a:pt x="2972" y="195"/>
                    </a:lnTo>
                    <a:lnTo>
                      <a:pt x="3014" y="213"/>
                    </a:lnTo>
                    <a:lnTo>
                      <a:pt x="3053" y="233"/>
                    </a:lnTo>
                    <a:lnTo>
                      <a:pt x="3089" y="252"/>
                    </a:lnTo>
                    <a:lnTo>
                      <a:pt x="3121" y="272"/>
                    </a:lnTo>
                    <a:lnTo>
                      <a:pt x="3150" y="293"/>
                    </a:lnTo>
                    <a:lnTo>
                      <a:pt x="3176" y="314"/>
                    </a:lnTo>
                    <a:lnTo>
                      <a:pt x="3198" y="337"/>
                    </a:lnTo>
                    <a:lnTo>
                      <a:pt x="3216" y="359"/>
                    </a:lnTo>
                    <a:lnTo>
                      <a:pt x="3230" y="381"/>
                    </a:lnTo>
                    <a:lnTo>
                      <a:pt x="3240" y="404"/>
                    </a:lnTo>
                    <a:lnTo>
                      <a:pt x="3246" y="428"/>
                    </a:lnTo>
                    <a:lnTo>
                      <a:pt x="3248" y="4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68840" y="6503760"/>
                <a:ext cx="357480" cy="110160"/>
              </a:xfrm>
              <a:custGeom>
                <a:avLst/>
                <a:gdLst/>
                <a:ahLst/>
                <a:rect l="l" t="t" r="r" b="b"/>
                <a:pathLst>
                  <a:path w="3246" h="920">
                    <a:moveTo>
                      <a:pt x="3246" y="452"/>
                    </a:moveTo>
                    <a:lnTo>
                      <a:pt x="3244" y="476"/>
                    </a:lnTo>
                    <a:lnTo>
                      <a:pt x="3238" y="499"/>
                    </a:lnTo>
                    <a:lnTo>
                      <a:pt x="3227" y="522"/>
                    </a:lnTo>
                    <a:lnTo>
                      <a:pt x="3213" y="546"/>
                    </a:lnTo>
                    <a:lnTo>
                      <a:pt x="3195" y="569"/>
                    </a:lnTo>
                    <a:lnTo>
                      <a:pt x="3174" y="591"/>
                    </a:lnTo>
                    <a:lnTo>
                      <a:pt x="3147" y="612"/>
                    </a:lnTo>
                    <a:lnTo>
                      <a:pt x="3119" y="633"/>
                    </a:lnTo>
                    <a:lnTo>
                      <a:pt x="3087" y="655"/>
                    </a:lnTo>
                    <a:lnTo>
                      <a:pt x="3051" y="675"/>
                    </a:lnTo>
                    <a:lnTo>
                      <a:pt x="3011" y="694"/>
                    </a:lnTo>
                    <a:lnTo>
                      <a:pt x="2970" y="713"/>
                    </a:lnTo>
                    <a:lnTo>
                      <a:pt x="2924" y="731"/>
                    </a:lnTo>
                    <a:lnTo>
                      <a:pt x="2876" y="749"/>
                    </a:lnTo>
                    <a:lnTo>
                      <a:pt x="2825" y="767"/>
                    </a:lnTo>
                    <a:lnTo>
                      <a:pt x="2771" y="783"/>
                    </a:lnTo>
                    <a:lnTo>
                      <a:pt x="2715" y="798"/>
                    </a:lnTo>
                    <a:lnTo>
                      <a:pt x="2656" y="813"/>
                    </a:lnTo>
                    <a:lnTo>
                      <a:pt x="2594" y="827"/>
                    </a:lnTo>
                    <a:lnTo>
                      <a:pt x="2530" y="840"/>
                    </a:lnTo>
                    <a:lnTo>
                      <a:pt x="2465" y="852"/>
                    </a:lnTo>
                    <a:lnTo>
                      <a:pt x="2397" y="864"/>
                    </a:lnTo>
                    <a:lnTo>
                      <a:pt x="2327" y="874"/>
                    </a:lnTo>
                    <a:lnTo>
                      <a:pt x="2256" y="883"/>
                    </a:lnTo>
                    <a:lnTo>
                      <a:pt x="2182" y="892"/>
                    </a:lnTo>
                    <a:lnTo>
                      <a:pt x="2106" y="899"/>
                    </a:lnTo>
                    <a:lnTo>
                      <a:pt x="2029" y="905"/>
                    </a:lnTo>
                    <a:lnTo>
                      <a:pt x="1951" y="910"/>
                    </a:lnTo>
                    <a:lnTo>
                      <a:pt x="1871" y="915"/>
                    </a:lnTo>
                    <a:lnTo>
                      <a:pt x="1789" y="918"/>
                    </a:lnTo>
                    <a:lnTo>
                      <a:pt x="1707" y="919"/>
                    </a:lnTo>
                    <a:lnTo>
                      <a:pt x="1623" y="920"/>
                    </a:lnTo>
                    <a:lnTo>
                      <a:pt x="1540" y="919"/>
                    </a:lnTo>
                    <a:lnTo>
                      <a:pt x="1458" y="918"/>
                    </a:lnTo>
                    <a:lnTo>
                      <a:pt x="1376" y="915"/>
                    </a:lnTo>
                    <a:lnTo>
                      <a:pt x="1296" y="910"/>
                    </a:lnTo>
                    <a:lnTo>
                      <a:pt x="1217" y="905"/>
                    </a:lnTo>
                    <a:lnTo>
                      <a:pt x="1141" y="899"/>
                    </a:lnTo>
                    <a:lnTo>
                      <a:pt x="1066" y="892"/>
                    </a:lnTo>
                    <a:lnTo>
                      <a:pt x="992" y="883"/>
                    </a:lnTo>
                    <a:lnTo>
                      <a:pt x="920" y="874"/>
                    </a:lnTo>
                    <a:lnTo>
                      <a:pt x="850" y="864"/>
                    </a:lnTo>
                    <a:lnTo>
                      <a:pt x="782" y="852"/>
                    </a:lnTo>
                    <a:lnTo>
                      <a:pt x="717" y="840"/>
                    </a:lnTo>
                    <a:lnTo>
                      <a:pt x="653" y="827"/>
                    </a:lnTo>
                    <a:lnTo>
                      <a:pt x="591" y="813"/>
                    </a:lnTo>
                    <a:lnTo>
                      <a:pt x="533" y="798"/>
                    </a:lnTo>
                    <a:lnTo>
                      <a:pt x="476" y="783"/>
                    </a:lnTo>
                    <a:lnTo>
                      <a:pt x="423" y="767"/>
                    </a:lnTo>
                    <a:lnTo>
                      <a:pt x="371" y="749"/>
                    </a:lnTo>
                    <a:lnTo>
                      <a:pt x="323" y="731"/>
                    </a:lnTo>
                    <a:lnTo>
                      <a:pt x="278" y="713"/>
                    </a:lnTo>
                    <a:lnTo>
                      <a:pt x="236" y="694"/>
                    </a:lnTo>
                    <a:lnTo>
                      <a:pt x="196" y="675"/>
                    </a:lnTo>
                    <a:lnTo>
                      <a:pt x="161" y="655"/>
                    </a:lnTo>
                    <a:lnTo>
                      <a:pt x="128" y="633"/>
                    </a:lnTo>
                    <a:lnTo>
                      <a:pt x="99" y="612"/>
                    </a:lnTo>
                    <a:lnTo>
                      <a:pt x="73" y="591"/>
                    </a:lnTo>
                    <a:lnTo>
                      <a:pt x="52" y="569"/>
                    </a:lnTo>
                    <a:lnTo>
                      <a:pt x="34" y="546"/>
                    </a:lnTo>
                    <a:lnTo>
                      <a:pt x="20" y="522"/>
                    </a:lnTo>
                    <a:lnTo>
                      <a:pt x="9" y="499"/>
                    </a:lnTo>
                    <a:lnTo>
                      <a:pt x="3" y="476"/>
                    </a:lnTo>
                    <a:lnTo>
                      <a:pt x="0" y="452"/>
                    </a:lnTo>
                    <a:lnTo>
                      <a:pt x="3" y="427"/>
                    </a:lnTo>
                    <a:lnTo>
                      <a:pt x="9" y="403"/>
                    </a:lnTo>
                    <a:lnTo>
                      <a:pt x="20" y="380"/>
                    </a:lnTo>
                    <a:lnTo>
                      <a:pt x="34" y="358"/>
                    </a:lnTo>
                    <a:lnTo>
                      <a:pt x="52" y="336"/>
                    </a:lnTo>
                    <a:lnTo>
                      <a:pt x="73" y="313"/>
                    </a:lnTo>
                    <a:lnTo>
                      <a:pt x="99" y="292"/>
                    </a:lnTo>
                    <a:lnTo>
                      <a:pt x="128" y="272"/>
                    </a:lnTo>
                    <a:lnTo>
                      <a:pt x="161" y="252"/>
                    </a:lnTo>
                    <a:lnTo>
                      <a:pt x="196" y="232"/>
                    </a:lnTo>
                    <a:lnTo>
                      <a:pt x="236" y="213"/>
                    </a:lnTo>
                    <a:lnTo>
                      <a:pt x="278" y="195"/>
                    </a:lnTo>
                    <a:lnTo>
                      <a:pt x="323" y="177"/>
                    </a:lnTo>
                    <a:lnTo>
                      <a:pt x="371" y="160"/>
                    </a:lnTo>
                    <a:lnTo>
                      <a:pt x="423" y="144"/>
                    </a:lnTo>
                    <a:lnTo>
                      <a:pt x="476" y="129"/>
                    </a:lnTo>
                    <a:lnTo>
                      <a:pt x="533" y="115"/>
                    </a:lnTo>
                    <a:lnTo>
                      <a:pt x="591" y="100"/>
                    </a:lnTo>
                    <a:lnTo>
                      <a:pt x="653" y="87"/>
                    </a:lnTo>
                    <a:lnTo>
                      <a:pt x="717" y="75"/>
                    </a:lnTo>
                    <a:lnTo>
                      <a:pt x="782" y="63"/>
                    </a:lnTo>
                    <a:lnTo>
                      <a:pt x="850" y="53"/>
                    </a:lnTo>
                    <a:lnTo>
                      <a:pt x="920" y="43"/>
                    </a:lnTo>
                    <a:lnTo>
                      <a:pt x="992" y="35"/>
                    </a:lnTo>
                    <a:lnTo>
                      <a:pt x="1066" y="27"/>
                    </a:lnTo>
                    <a:lnTo>
                      <a:pt x="1141" y="20"/>
                    </a:lnTo>
                    <a:lnTo>
                      <a:pt x="1217" y="14"/>
                    </a:lnTo>
                    <a:lnTo>
                      <a:pt x="1296" y="10"/>
                    </a:lnTo>
                    <a:lnTo>
                      <a:pt x="1376" y="5"/>
                    </a:lnTo>
                    <a:lnTo>
                      <a:pt x="1458" y="2"/>
                    </a:lnTo>
                    <a:lnTo>
                      <a:pt x="1540" y="0"/>
                    </a:lnTo>
                    <a:lnTo>
                      <a:pt x="1623" y="0"/>
                    </a:lnTo>
                    <a:lnTo>
                      <a:pt x="1707" y="0"/>
                    </a:lnTo>
                    <a:lnTo>
                      <a:pt x="1789" y="2"/>
                    </a:lnTo>
                    <a:lnTo>
                      <a:pt x="1871" y="5"/>
                    </a:lnTo>
                    <a:lnTo>
                      <a:pt x="1951" y="10"/>
                    </a:lnTo>
                    <a:lnTo>
                      <a:pt x="2029" y="14"/>
                    </a:lnTo>
                    <a:lnTo>
                      <a:pt x="2106" y="20"/>
                    </a:lnTo>
                    <a:lnTo>
                      <a:pt x="2182" y="27"/>
                    </a:lnTo>
                    <a:lnTo>
                      <a:pt x="2256" y="35"/>
                    </a:lnTo>
                    <a:lnTo>
                      <a:pt x="2327" y="43"/>
                    </a:lnTo>
                    <a:lnTo>
                      <a:pt x="2397" y="53"/>
                    </a:lnTo>
                    <a:lnTo>
                      <a:pt x="2465" y="63"/>
                    </a:lnTo>
                    <a:lnTo>
                      <a:pt x="2530" y="75"/>
                    </a:lnTo>
                    <a:lnTo>
                      <a:pt x="2594" y="87"/>
                    </a:lnTo>
                    <a:lnTo>
                      <a:pt x="2656" y="100"/>
                    </a:lnTo>
                    <a:lnTo>
                      <a:pt x="2715" y="115"/>
                    </a:lnTo>
                    <a:lnTo>
                      <a:pt x="2771" y="129"/>
                    </a:lnTo>
                    <a:lnTo>
                      <a:pt x="2825" y="144"/>
                    </a:lnTo>
                    <a:lnTo>
                      <a:pt x="2876" y="160"/>
                    </a:lnTo>
                    <a:lnTo>
                      <a:pt x="2924" y="177"/>
                    </a:lnTo>
                    <a:lnTo>
                      <a:pt x="2970" y="195"/>
                    </a:lnTo>
                    <a:lnTo>
                      <a:pt x="3011" y="213"/>
                    </a:lnTo>
                    <a:lnTo>
                      <a:pt x="3051" y="232"/>
                    </a:lnTo>
                    <a:lnTo>
                      <a:pt x="3087" y="252"/>
                    </a:lnTo>
                    <a:lnTo>
                      <a:pt x="3119" y="272"/>
                    </a:lnTo>
                    <a:lnTo>
                      <a:pt x="3147" y="292"/>
                    </a:lnTo>
                    <a:lnTo>
                      <a:pt x="3174" y="313"/>
                    </a:lnTo>
                    <a:lnTo>
                      <a:pt x="3195" y="336"/>
                    </a:lnTo>
                    <a:lnTo>
                      <a:pt x="3213" y="358"/>
                    </a:lnTo>
                    <a:lnTo>
                      <a:pt x="3227" y="380"/>
                    </a:lnTo>
                    <a:lnTo>
                      <a:pt x="3238" y="403"/>
                    </a:lnTo>
                    <a:lnTo>
                      <a:pt x="3244" y="427"/>
                    </a:lnTo>
                    <a:lnTo>
                      <a:pt x="3246" y="4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969920" y="6503760"/>
                <a:ext cx="356400" cy="110160"/>
              </a:xfrm>
              <a:custGeom>
                <a:avLst/>
                <a:gdLst/>
                <a:ahLst/>
                <a:rect l="l" t="t" r="r" b="b"/>
                <a:pathLst>
                  <a:path w="3242" h="918">
                    <a:moveTo>
                      <a:pt x="3242" y="451"/>
                    </a:moveTo>
                    <a:lnTo>
                      <a:pt x="3239" y="475"/>
                    </a:lnTo>
                    <a:lnTo>
                      <a:pt x="3233" y="498"/>
                    </a:lnTo>
                    <a:lnTo>
                      <a:pt x="3223" y="521"/>
                    </a:lnTo>
                    <a:lnTo>
                      <a:pt x="3209" y="545"/>
                    </a:lnTo>
                    <a:lnTo>
                      <a:pt x="3191" y="567"/>
                    </a:lnTo>
                    <a:lnTo>
                      <a:pt x="3169" y="589"/>
                    </a:lnTo>
                    <a:lnTo>
                      <a:pt x="3143" y="611"/>
                    </a:lnTo>
                    <a:lnTo>
                      <a:pt x="3114" y="632"/>
                    </a:lnTo>
                    <a:lnTo>
                      <a:pt x="3082" y="654"/>
                    </a:lnTo>
                    <a:lnTo>
                      <a:pt x="3046" y="674"/>
                    </a:lnTo>
                    <a:lnTo>
                      <a:pt x="3007" y="693"/>
                    </a:lnTo>
                    <a:lnTo>
                      <a:pt x="2965" y="712"/>
                    </a:lnTo>
                    <a:lnTo>
                      <a:pt x="2920" y="730"/>
                    </a:lnTo>
                    <a:lnTo>
                      <a:pt x="2872" y="747"/>
                    </a:lnTo>
                    <a:lnTo>
                      <a:pt x="2820" y="765"/>
                    </a:lnTo>
                    <a:lnTo>
                      <a:pt x="2767" y="781"/>
                    </a:lnTo>
                    <a:lnTo>
                      <a:pt x="2711" y="797"/>
                    </a:lnTo>
                    <a:lnTo>
                      <a:pt x="2652" y="811"/>
                    </a:lnTo>
                    <a:lnTo>
                      <a:pt x="2591" y="825"/>
                    </a:lnTo>
                    <a:lnTo>
                      <a:pt x="2527" y="838"/>
                    </a:lnTo>
                    <a:lnTo>
                      <a:pt x="2462" y="850"/>
                    </a:lnTo>
                    <a:lnTo>
                      <a:pt x="2393" y="861"/>
                    </a:lnTo>
                    <a:lnTo>
                      <a:pt x="2323" y="872"/>
                    </a:lnTo>
                    <a:lnTo>
                      <a:pt x="2252" y="882"/>
                    </a:lnTo>
                    <a:lnTo>
                      <a:pt x="2178" y="890"/>
                    </a:lnTo>
                    <a:lnTo>
                      <a:pt x="2102" y="897"/>
                    </a:lnTo>
                    <a:lnTo>
                      <a:pt x="2025" y="903"/>
                    </a:lnTo>
                    <a:lnTo>
                      <a:pt x="1948" y="909"/>
                    </a:lnTo>
                    <a:lnTo>
                      <a:pt x="1868" y="913"/>
                    </a:lnTo>
                    <a:lnTo>
                      <a:pt x="1786" y="916"/>
                    </a:lnTo>
                    <a:lnTo>
                      <a:pt x="1704" y="917"/>
                    </a:lnTo>
                    <a:lnTo>
                      <a:pt x="1620" y="918"/>
                    </a:lnTo>
                    <a:lnTo>
                      <a:pt x="1537" y="917"/>
                    </a:lnTo>
                    <a:lnTo>
                      <a:pt x="1455" y="916"/>
                    </a:lnTo>
                    <a:lnTo>
                      <a:pt x="1374" y="913"/>
                    </a:lnTo>
                    <a:lnTo>
                      <a:pt x="1293" y="909"/>
                    </a:lnTo>
                    <a:lnTo>
                      <a:pt x="1215" y="903"/>
                    </a:lnTo>
                    <a:lnTo>
                      <a:pt x="1139" y="897"/>
                    </a:lnTo>
                    <a:lnTo>
                      <a:pt x="1063" y="890"/>
                    </a:lnTo>
                    <a:lnTo>
                      <a:pt x="989" y="882"/>
                    </a:lnTo>
                    <a:lnTo>
                      <a:pt x="918" y="872"/>
                    </a:lnTo>
                    <a:lnTo>
                      <a:pt x="848" y="861"/>
                    </a:lnTo>
                    <a:lnTo>
                      <a:pt x="780" y="850"/>
                    </a:lnTo>
                    <a:lnTo>
                      <a:pt x="714" y="838"/>
                    </a:lnTo>
                    <a:lnTo>
                      <a:pt x="650" y="825"/>
                    </a:lnTo>
                    <a:lnTo>
                      <a:pt x="589" y="811"/>
                    </a:lnTo>
                    <a:lnTo>
                      <a:pt x="531" y="797"/>
                    </a:lnTo>
                    <a:lnTo>
                      <a:pt x="474" y="781"/>
                    </a:lnTo>
                    <a:lnTo>
                      <a:pt x="421" y="765"/>
                    </a:lnTo>
                    <a:lnTo>
                      <a:pt x="369" y="747"/>
                    </a:lnTo>
                    <a:lnTo>
                      <a:pt x="321" y="730"/>
                    </a:lnTo>
                    <a:lnTo>
                      <a:pt x="276" y="712"/>
                    </a:lnTo>
                    <a:lnTo>
                      <a:pt x="234" y="693"/>
                    </a:lnTo>
                    <a:lnTo>
                      <a:pt x="194" y="674"/>
                    </a:lnTo>
                    <a:lnTo>
                      <a:pt x="159" y="654"/>
                    </a:lnTo>
                    <a:lnTo>
                      <a:pt x="127" y="632"/>
                    </a:lnTo>
                    <a:lnTo>
                      <a:pt x="97" y="611"/>
                    </a:lnTo>
                    <a:lnTo>
                      <a:pt x="72" y="589"/>
                    </a:lnTo>
                    <a:lnTo>
                      <a:pt x="50" y="567"/>
                    </a:lnTo>
                    <a:lnTo>
                      <a:pt x="32" y="545"/>
                    </a:lnTo>
                    <a:lnTo>
                      <a:pt x="18" y="521"/>
                    </a:lnTo>
                    <a:lnTo>
                      <a:pt x="8" y="498"/>
                    </a:lnTo>
                    <a:lnTo>
                      <a:pt x="2" y="475"/>
                    </a:lnTo>
                    <a:lnTo>
                      <a:pt x="0" y="451"/>
                    </a:lnTo>
                    <a:lnTo>
                      <a:pt x="2" y="426"/>
                    </a:lnTo>
                    <a:lnTo>
                      <a:pt x="8" y="402"/>
                    </a:lnTo>
                    <a:lnTo>
                      <a:pt x="18" y="380"/>
                    </a:lnTo>
                    <a:lnTo>
                      <a:pt x="32" y="357"/>
                    </a:lnTo>
                    <a:lnTo>
                      <a:pt x="50" y="335"/>
                    </a:lnTo>
                    <a:lnTo>
                      <a:pt x="72" y="312"/>
                    </a:lnTo>
                    <a:lnTo>
                      <a:pt x="97" y="291"/>
                    </a:lnTo>
                    <a:lnTo>
                      <a:pt x="127" y="271"/>
                    </a:lnTo>
                    <a:lnTo>
                      <a:pt x="159" y="251"/>
                    </a:lnTo>
                    <a:lnTo>
                      <a:pt x="194" y="232"/>
                    </a:lnTo>
                    <a:lnTo>
                      <a:pt x="234" y="212"/>
                    </a:lnTo>
                    <a:lnTo>
                      <a:pt x="276" y="194"/>
                    </a:lnTo>
                    <a:lnTo>
                      <a:pt x="321" y="177"/>
                    </a:lnTo>
                    <a:lnTo>
                      <a:pt x="369" y="160"/>
                    </a:lnTo>
                    <a:lnTo>
                      <a:pt x="421" y="144"/>
                    </a:lnTo>
                    <a:lnTo>
                      <a:pt x="474" y="129"/>
                    </a:lnTo>
                    <a:lnTo>
                      <a:pt x="531" y="114"/>
                    </a:lnTo>
                    <a:lnTo>
                      <a:pt x="589" y="99"/>
                    </a:lnTo>
                    <a:lnTo>
                      <a:pt x="650" y="87"/>
                    </a:lnTo>
                    <a:lnTo>
                      <a:pt x="714" y="74"/>
                    </a:lnTo>
                    <a:lnTo>
                      <a:pt x="780" y="63"/>
                    </a:lnTo>
                    <a:lnTo>
                      <a:pt x="848" y="53"/>
                    </a:lnTo>
                    <a:lnTo>
                      <a:pt x="918" y="43"/>
                    </a:lnTo>
                    <a:lnTo>
                      <a:pt x="989" y="34"/>
                    </a:lnTo>
                    <a:lnTo>
                      <a:pt x="1063" y="27"/>
                    </a:lnTo>
                    <a:lnTo>
                      <a:pt x="1139" y="20"/>
                    </a:lnTo>
                    <a:lnTo>
                      <a:pt x="1215" y="14"/>
                    </a:lnTo>
                    <a:lnTo>
                      <a:pt x="1293" y="9"/>
                    </a:lnTo>
                    <a:lnTo>
                      <a:pt x="1374" y="5"/>
                    </a:lnTo>
                    <a:lnTo>
                      <a:pt x="1455" y="2"/>
                    </a:lnTo>
                    <a:lnTo>
                      <a:pt x="1537" y="0"/>
                    </a:lnTo>
                    <a:lnTo>
                      <a:pt x="1620" y="0"/>
                    </a:lnTo>
                    <a:lnTo>
                      <a:pt x="1704" y="0"/>
                    </a:lnTo>
                    <a:lnTo>
                      <a:pt x="1786" y="2"/>
                    </a:lnTo>
                    <a:lnTo>
                      <a:pt x="1868" y="5"/>
                    </a:lnTo>
                    <a:lnTo>
                      <a:pt x="1948" y="9"/>
                    </a:lnTo>
                    <a:lnTo>
                      <a:pt x="2025" y="14"/>
                    </a:lnTo>
                    <a:lnTo>
                      <a:pt x="2102" y="20"/>
                    </a:lnTo>
                    <a:lnTo>
                      <a:pt x="2178" y="27"/>
                    </a:lnTo>
                    <a:lnTo>
                      <a:pt x="2252" y="34"/>
                    </a:lnTo>
                    <a:lnTo>
                      <a:pt x="2323" y="43"/>
                    </a:lnTo>
                    <a:lnTo>
                      <a:pt x="2393" y="53"/>
                    </a:lnTo>
                    <a:lnTo>
                      <a:pt x="2462" y="63"/>
                    </a:lnTo>
                    <a:lnTo>
                      <a:pt x="2527" y="74"/>
                    </a:lnTo>
                    <a:lnTo>
                      <a:pt x="2591" y="87"/>
                    </a:lnTo>
                    <a:lnTo>
                      <a:pt x="2652" y="99"/>
                    </a:lnTo>
                    <a:lnTo>
                      <a:pt x="2711" y="114"/>
                    </a:lnTo>
                    <a:lnTo>
                      <a:pt x="2767" y="129"/>
                    </a:lnTo>
                    <a:lnTo>
                      <a:pt x="2820" y="144"/>
                    </a:lnTo>
                    <a:lnTo>
                      <a:pt x="2872" y="160"/>
                    </a:lnTo>
                    <a:lnTo>
                      <a:pt x="2920" y="177"/>
                    </a:lnTo>
                    <a:lnTo>
                      <a:pt x="2965" y="194"/>
                    </a:lnTo>
                    <a:lnTo>
                      <a:pt x="3007" y="212"/>
                    </a:lnTo>
                    <a:lnTo>
                      <a:pt x="3046" y="232"/>
                    </a:lnTo>
                    <a:lnTo>
                      <a:pt x="3082" y="251"/>
                    </a:lnTo>
                    <a:lnTo>
                      <a:pt x="3114" y="271"/>
                    </a:lnTo>
                    <a:lnTo>
                      <a:pt x="3143" y="291"/>
                    </a:lnTo>
                    <a:lnTo>
                      <a:pt x="3169" y="312"/>
                    </a:lnTo>
                    <a:lnTo>
                      <a:pt x="3191" y="335"/>
                    </a:lnTo>
                    <a:lnTo>
                      <a:pt x="3209" y="357"/>
                    </a:lnTo>
                    <a:lnTo>
                      <a:pt x="3223" y="380"/>
                    </a:lnTo>
                    <a:lnTo>
                      <a:pt x="3233" y="402"/>
                    </a:lnTo>
                    <a:lnTo>
                      <a:pt x="3239" y="426"/>
                    </a:lnTo>
                    <a:lnTo>
                      <a:pt x="3242" y="4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969920" y="6503760"/>
                <a:ext cx="356400" cy="109080"/>
              </a:xfrm>
              <a:custGeom>
                <a:avLst/>
                <a:gdLst/>
                <a:ahLst/>
                <a:rect l="l" t="t" r="r" b="b"/>
                <a:pathLst>
                  <a:path w="3239" h="916">
                    <a:moveTo>
                      <a:pt x="3239" y="450"/>
                    </a:moveTo>
                    <a:lnTo>
                      <a:pt x="3237" y="473"/>
                    </a:lnTo>
                    <a:lnTo>
                      <a:pt x="3231" y="497"/>
                    </a:lnTo>
                    <a:lnTo>
                      <a:pt x="3221" y="520"/>
                    </a:lnTo>
                    <a:lnTo>
                      <a:pt x="3207" y="544"/>
                    </a:lnTo>
                    <a:lnTo>
                      <a:pt x="3189" y="566"/>
                    </a:lnTo>
                    <a:lnTo>
                      <a:pt x="3167" y="588"/>
                    </a:lnTo>
                    <a:lnTo>
                      <a:pt x="3141" y="610"/>
                    </a:lnTo>
                    <a:lnTo>
                      <a:pt x="3112" y="631"/>
                    </a:lnTo>
                    <a:lnTo>
                      <a:pt x="3080" y="652"/>
                    </a:lnTo>
                    <a:lnTo>
                      <a:pt x="3044" y="672"/>
                    </a:lnTo>
                    <a:lnTo>
                      <a:pt x="3005" y="691"/>
                    </a:lnTo>
                    <a:lnTo>
                      <a:pt x="2963" y="710"/>
                    </a:lnTo>
                    <a:lnTo>
                      <a:pt x="2917" y="728"/>
                    </a:lnTo>
                    <a:lnTo>
                      <a:pt x="2870" y="746"/>
                    </a:lnTo>
                    <a:lnTo>
                      <a:pt x="2818" y="764"/>
                    </a:lnTo>
                    <a:lnTo>
                      <a:pt x="2765" y="780"/>
                    </a:lnTo>
                    <a:lnTo>
                      <a:pt x="2709" y="795"/>
                    </a:lnTo>
                    <a:lnTo>
                      <a:pt x="2650" y="809"/>
                    </a:lnTo>
                    <a:lnTo>
                      <a:pt x="2589" y="823"/>
                    </a:lnTo>
                    <a:lnTo>
                      <a:pt x="2525" y="836"/>
                    </a:lnTo>
                    <a:lnTo>
                      <a:pt x="2460" y="848"/>
                    </a:lnTo>
                    <a:lnTo>
                      <a:pt x="2392" y="859"/>
                    </a:lnTo>
                    <a:lnTo>
                      <a:pt x="2321" y="870"/>
                    </a:lnTo>
                    <a:lnTo>
                      <a:pt x="2250" y="880"/>
                    </a:lnTo>
                    <a:lnTo>
                      <a:pt x="2177" y="888"/>
                    </a:lnTo>
                    <a:lnTo>
                      <a:pt x="2101" y="895"/>
                    </a:lnTo>
                    <a:lnTo>
                      <a:pt x="2024" y="901"/>
                    </a:lnTo>
                    <a:lnTo>
                      <a:pt x="1946" y="907"/>
                    </a:lnTo>
                    <a:lnTo>
                      <a:pt x="1866" y="911"/>
                    </a:lnTo>
                    <a:lnTo>
                      <a:pt x="1785" y="914"/>
                    </a:lnTo>
                    <a:lnTo>
                      <a:pt x="1703" y="915"/>
                    </a:lnTo>
                    <a:lnTo>
                      <a:pt x="1619" y="916"/>
                    </a:lnTo>
                    <a:lnTo>
                      <a:pt x="1537" y="915"/>
                    </a:lnTo>
                    <a:lnTo>
                      <a:pt x="1454" y="914"/>
                    </a:lnTo>
                    <a:lnTo>
                      <a:pt x="1373" y="911"/>
                    </a:lnTo>
                    <a:lnTo>
                      <a:pt x="1293" y="907"/>
                    </a:lnTo>
                    <a:lnTo>
                      <a:pt x="1214" y="901"/>
                    </a:lnTo>
                    <a:lnTo>
                      <a:pt x="1138" y="895"/>
                    </a:lnTo>
                    <a:lnTo>
                      <a:pt x="1062" y="888"/>
                    </a:lnTo>
                    <a:lnTo>
                      <a:pt x="989" y="880"/>
                    </a:lnTo>
                    <a:lnTo>
                      <a:pt x="918" y="870"/>
                    </a:lnTo>
                    <a:lnTo>
                      <a:pt x="847" y="859"/>
                    </a:lnTo>
                    <a:lnTo>
                      <a:pt x="779" y="848"/>
                    </a:lnTo>
                    <a:lnTo>
                      <a:pt x="714" y="836"/>
                    </a:lnTo>
                    <a:lnTo>
                      <a:pt x="650" y="823"/>
                    </a:lnTo>
                    <a:lnTo>
                      <a:pt x="589" y="809"/>
                    </a:lnTo>
                    <a:lnTo>
                      <a:pt x="530" y="795"/>
                    </a:lnTo>
                    <a:lnTo>
                      <a:pt x="474" y="780"/>
                    </a:lnTo>
                    <a:lnTo>
                      <a:pt x="421" y="764"/>
                    </a:lnTo>
                    <a:lnTo>
                      <a:pt x="369" y="746"/>
                    </a:lnTo>
                    <a:lnTo>
                      <a:pt x="322" y="728"/>
                    </a:lnTo>
                    <a:lnTo>
                      <a:pt x="276" y="710"/>
                    </a:lnTo>
                    <a:lnTo>
                      <a:pt x="234" y="691"/>
                    </a:lnTo>
                    <a:lnTo>
                      <a:pt x="195" y="672"/>
                    </a:lnTo>
                    <a:lnTo>
                      <a:pt x="159" y="652"/>
                    </a:lnTo>
                    <a:lnTo>
                      <a:pt x="127" y="631"/>
                    </a:lnTo>
                    <a:lnTo>
                      <a:pt x="97" y="610"/>
                    </a:lnTo>
                    <a:lnTo>
                      <a:pt x="72" y="588"/>
                    </a:lnTo>
                    <a:lnTo>
                      <a:pt x="50" y="566"/>
                    </a:lnTo>
                    <a:lnTo>
                      <a:pt x="33" y="544"/>
                    </a:lnTo>
                    <a:lnTo>
                      <a:pt x="18" y="520"/>
                    </a:lnTo>
                    <a:lnTo>
                      <a:pt x="8" y="497"/>
                    </a:lnTo>
                    <a:lnTo>
                      <a:pt x="2" y="473"/>
                    </a:lnTo>
                    <a:lnTo>
                      <a:pt x="0" y="450"/>
                    </a:lnTo>
                    <a:lnTo>
                      <a:pt x="2" y="425"/>
                    </a:lnTo>
                    <a:lnTo>
                      <a:pt x="8" y="402"/>
                    </a:lnTo>
                    <a:lnTo>
                      <a:pt x="18" y="379"/>
                    </a:lnTo>
                    <a:lnTo>
                      <a:pt x="33" y="356"/>
                    </a:lnTo>
                    <a:lnTo>
                      <a:pt x="50" y="334"/>
                    </a:lnTo>
                    <a:lnTo>
                      <a:pt x="72" y="312"/>
                    </a:lnTo>
                    <a:lnTo>
                      <a:pt x="97" y="291"/>
                    </a:lnTo>
                    <a:lnTo>
                      <a:pt x="127" y="270"/>
                    </a:lnTo>
                    <a:lnTo>
                      <a:pt x="159" y="251"/>
                    </a:lnTo>
                    <a:lnTo>
                      <a:pt x="195" y="231"/>
                    </a:lnTo>
                    <a:lnTo>
                      <a:pt x="234" y="212"/>
                    </a:lnTo>
                    <a:lnTo>
                      <a:pt x="276" y="194"/>
                    </a:lnTo>
                    <a:lnTo>
                      <a:pt x="322" y="176"/>
                    </a:lnTo>
                    <a:lnTo>
                      <a:pt x="369" y="160"/>
                    </a:lnTo>
                    <a:lnTo>
                      <a:pt x="421" y="144"/>
                    </a:lnTo>
                    <a:lnTo>
                      <a:pt x="474" y="128"/>
                    </a:lnTo>
                    <a:lnTo>
                      <a:pt x="530" y="114"/>
                    </a:lnTo>
                    <a:lnTo>
                      <a:pt x="589" y="99"/>
                    </a:lnTo>
                    <a:lnTo>
                      <a:pt x="650" y="86"/>
                    </a:lnTo>
                    <a:lnTo>
                      <a:pt x="714" y="74"/>
                    </a:lnTo>
                    <a:lnTo>
                      <a:pt x="779" y="63"/>
                    </a:lnTo>
                    <a:lnTo>
                      <a:pt x="847" y="52"/>
                    </a:lnTo>
                    <a:lnTo>
                      <a:pt x="918" y="43"/>
                    </a:lnTo>
                    <a:lnTo>
                      <a:pt x="989" y="34"/>
                    </a:lnTo>
                    <a:lnTo>
                      <a:pt x="1062" y="27"/>
                    </a:lnTo>
                    <a:lnTo>
                      <a:pt x="1138" y="20"/>
                    </a:lnTo>
                    <a:lnTo>
                      <a:pt x="1214" y="14"/>
                    </a:lnTo>
                    <a:lnTo>
                      <a:pt x="1293" y="9"/>
                    </a:lnTo>
                    <a:lnTo>
                      <a:pt x="1373" y="6"/>
                    </a:lnTo>
                    <a:lnTo>
                      <a:pt x="1454" y="2"/>
                    </a:lnTo>
                    <a:lnTo>
                      <a:pt x="1537" y="0"/>
                    </a:lnTo>
                    <a:lnTo>
                      <a:pt x="1619" y="0"/>
                    </a:lnTo>
                    <a:lnTo>
                      <a:pt x="1703" y="0"/>
                    </a:lnTo>
                    <a:lnTo>
                      <a:pt x="1785" y="2"/>
                    </a:lnTo>
                    <a:lnTo>
                      <a:pt x="1866" y="6"/>
                    </a:lnTo>
                    <a:lnTo>
                      <a:pt x="1946" y="9"/>
                    </a:lnTo>
                    <a:lnTo>
                      <a:pt x="2024" y="14"/>
                    </a:lnTo>
                    <a:lnTo>
                      <a:pt x="2101" y="20"/>
                    </a:lnTo>
                    <a:lnTo>
                      <a:pt x="2177" y="27"/>
                    </a:lnTo>
                    <a:lnTo>
                      <a:pt x="2250" y="34"/>
                    </a:lnTo>
                    <a:lnTo>
                      <a:pt x="2321" y="43"/>
                    </a:lnTo>
                    <a:lnTo>
                      <a:pt x="2392" y="52"/>
                    </a:lnTo>
                    <a:lnTo>
                      <a:pt x="2460" y="63"/>
                    </a:lnTo>
                    <a:lnTo>
                      <a:pt x="2525" y="74"/>
                    </a:lnTo>
                    <a:lnTo>
                      <a:pt x="2589" y="86"/>
                    </a:lnTo>
                    <a:lnTo>
                      <a:pt x="2650" y="99"/>
                    </a:lnTo>
                    <a:lnTo>
                      <a:pt x="2709" y="114"/>
                    </a:lnTo>
                    <a:lnTo>
                      <a:pt x="2765" y="128"/>
                    </a:lnTo>
                    <a:lnTo>
                      <a:pt x="2818" y="144"/>
                    </a:lnTo>
                    <a:lnTo>
                      <a:pt x="2870" y="160"/>
                    </a:lnTo>
                    <a:lnTo>
                      <a:pt x="2917" y="176"/>
                    </a:lnTo>
                    <a:lnTo>
                      <a:pt x="2963" y="194"/>
                    </a:lnTo>
                    <a:lnTo>
                      <a:pt x="3005" y="212"/>
                    </a:lnTo>
                    <a:lnTo>
                      <a:pt x="3044" y="231"/>
                    </a:lnTo>
                    <a:lnTo>
                      <a:pt x="3080" y="251"/>
                    </a:lnTo>
                    <a:lnTo>
                      <a:pt x="3112" y="270"/>
                    </a:lnTo>
                    <a:lnTo>
                      <a:pt x="3141" y="291"/>
                    </a:lnTo>
                    <a:lnTo>
                      <a:pt x="3167" y="312"/>
                    </a:lnTo>
                    <a:lnTo>
                      <a:pt x="3189" y="334"/>
                    </a:lnTo>
                    <a:lnTo>
                      <a:pt x="3207" y="356"/>
                    </a:lnTo>
                    <a:lnTo>
                      <a:pt x="3221" y="379"/>
                    </a:lnTo>
                    <a:lnTo>
                      <a:pt x="3231" y="402"/>
                    </a:lnTo>
                    <a:lnTo>
                      <a:pt x="3237" y="425"/>
                    </a:lnTo>
                    <a:lnTo>
                      <a:pt x="3239" y="4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969920" y="6503760"/>
                <a:ext cx="356400" cy="109080"/>
              </a:xfrm>
              <a:custGeom>
                <a:avLst/>
                <a:gdLst/>
                <a:ahLst/>
                <a:rect l="l" t="t" r="r" b="b"/>
                <a:pathLst>
                  <a:path w="3237" h="914">
                    <a:moveTo>
                      <a:pt x="3237" y="449"/>
                    </a:moveTo>
                    <a:lnTo>
                      <a:pt x="3235" y="472"/>
                    </a:lnTo>
                    <a:lnTo>
                      <a:pt x="3228" y="496"/>
                    </a:lnTo>
                    <a:lnTo>
                      <a:pt x="3218" y="519"/>
                    </a:lnTo>
                    <a:lnTo>
                      <a:pt x="3204" y="543"/>
                    </a:lnTo>
                    <a:lnTo>
                      <a:pt x="3186" y="565"/>
                    </a:lnTo>
                    <a:lnTo>
                      <a:pt x="3165" y="587"/>
                    </a:lnTo>
                    <a:lnTo>
                      <a:pt x="3138" y="608"/>
                    </a:lnTo>
                    <a:lnTo>
                      <a:pt x="3110" y="629"/>
                    </a:lnTo>
                    <a:lnTo>
                      <a:pt x="3078" y="651"/>
                    </a:lnTo>
                    <a:lnTo>
                      <a:pt x="3041" y="671"/>
                    </a:lnTo>
                    <a:lnTo>
                      <a:pt x="3003" y="690"/>
                    </a:lnTo>
                    <a:lnTo>
                      <a:pt x="2961" y="709"/>
                    </a:lnTo>
                    <a:lnTo>
                      <a:pt x="2915" y="727"/>
                    </a:lnTo>
                    <a:lnTo>
                      <a:pt x="2868" y="744"/>
                    </a:lnTo>
                    <a:lnTo>
                      <a:pt x="2816" y="762"/>
                    </a:lnTo>
                    <a:lnTo>
                      <a:pt x="2763" y="778"/>
                    </a:lnTo>
                    <a:lnTo>
                      <a:pt x="2707" y="793"/>
                    </a:lnTo>
                    <a:lnTo>
                      <a:pt x="2648" y="808"/>
                    </a:lnTo>
                    <a:lnTo>
                      <a:pt x="2587" y="821"/>
                    </a:lnTo>
                    <a:lnTo>
                      <a:pt x="2523" y="834"/>
                    </a:lnTo>
                    <a:lnTo>
                      <a:pt x="2458" y="846"/>
                    </a:lnTo>
                    <a:lnTo>
                      <a:pt x="2390" y="857"/>
                    </a:lnTo>
                    <a:lnTo>
                      <a:pt x="2320" y="869"/>
                    </a:lnTo>
                    <a:lnTo>
                      <a:pt x="2249" y="878"/>
                    </a:lnTo>
                    <a:lnTo>
                      <a:pt x="2175" y="886"/>
                    </a:lnTo>
                    <a:lnTo>
                      <a:pt x="2100" y="893"/>
                    </a:lnTo>
                    <a:lnTo>
                      <a:pt x="2023" y="900"/>
                    </a:lnTo>
                    <a:lnTo>
                      <a:pt x="1945" y="905"/>
                    </a:lnTo>
                    <a:lnTo>
                      <a:pt x="1865" y="909"/>
                    </a:lnTo>
                    <a:lnTo>
                      <a:pt x="1784" y="912"/>
                    </a:lnTo>
                    <a:lnTo>
                      <a:pt x="1702" y="914"/>
                    </a:lnTo>
                    <a:lnTo>
                      <a:pt x="1618" y="914"/>
                    </a:lnTo>
                    <a:lnTo>
                      <a:pt x="1536" y="914"/>
                    </a:lnTo>
                    <a:lnTo>
                      <a:pt x="1453" y="912"/>
                    </a:lnTo>
                    <a:lnTo>
                      <a:pt x="1372" y="909"/>
                    </a:lnTo>
                    <a:lnTo>
                      <a:pt x="1292" y="905"/>
                    </a:lnTo>
                    <a:lnTo>
                      <a:pt x="1214" y="900"/>
                    </a:lnTo>
                    <a:lnTo>
                      <a:pt x="1137" y="893"/>
                    </a:lnTo>
                    <a:lnTo>
                      <a:pt x="1062" y="886"/>
                    </a:lnTo>
                    <a:lnTo>
                      <a:pt x="988" y="878"/>
                    </a:lnTo>
                    <a:lnTo>
                      <a:pt x="917" y="869"/>
                    </a:lnTo>
                    <a:lnTo>
                      <a:pt x="847" y="857"/>
                    </a:lnTo>
                    <a:lnTo>
                      <a:pt x="779" y="846"/>
                    </a:lnTo>
                    <a:lnTo>
                      <a:pt x="714" y="834"/>
                    </a:lnTo>
                    <a:lnTo>
                      <a:pt x="650" y="821"/>
                    </a:lnTo>
                    <a:lnTo>
                      <a:pt x="589" y="808"/>
                    </a:lnTo>
                    <a:lnTo>
                      <a:pt x="530" y="793"/>
                    </a:lnTo>
                    <a:lnTo>
                      <a:pt x="474" y="778"/>
                    </a:lnTo>
                    <a:lnTo>
                      <a:pt x="421" y="762"/>
                    </a:lnTo>
                    <a:lnTo>
                      <a:pt x="369" y="744"/>
                    </a:lnTo>
                    <a:lnTo>
                      <a:pt x="322" y="727"/>
                    </a:lnTo>
                    <a:lnTo>
                      <a:pt x="276" y="709"/>
                    </a:lnTo>
                    <a:lnTo>
                      <a:pt x="234" y="690"/>
                    </a:lnTo>
                    <a:lnTo>
                      <a:pt x="195" y="671"/>
                    </a:lnTo>
                    <a:lnTo>
                      <a:pt x="159" y="651"/>
                    </a:lnTo>
                    <a:lnTo>
                      <a:pt x="127" y="629"/>
                    </a:lnTo>
                    <a:lnTo>
                      <a:pt x="99" y="608"/>
                    </a:lnTo>
                    <a:lnTo>
                      <a:pt x="72" y="587"/>
                    </a:lnTo>
                    <a:lnTo>
                      <a:pt x="51" y="565"/>
                    </a:lnTo>
                    <a:lnTo>
                      <a:pt x="33" y="543"/>
                    </a:lnTo>
                    <a:lnTo>
                      <a:pt x="19" y="519"/>
                    </a:lnTo>
                    <a:lnTo>
                      <a:pt x="9" y="496"/>
                    </a:lnTo>
                    <a:lnTo>
                      <a:pt x="3" y="472"/>
                    </a:lnTo>
                    <a:lnTo>
                      <a:pt x="0" y="449"/>
                    </a:lnTo>
                    <a:lnTo>
                      <a:pt x="3" y="424"/>
                    </a:lnTo>
                    <a:lnTo>
                      <a:pt x="9" y="401"/>
                    </a:lnTo>
                    <a:lnTo>
                      <a:pt x="19" y="378"/>
                    </a:lnTo>
                    <a:lnTo>
                      <a:pt x="33" y="355"/>
                    </a:lnTo>
                    <a:lnTo>
                      <a:pt x="51" y="333"/>
                    </a:lnTo>
                    <a:lnTo>
                      <a:pt x="72" y="311"/>
                    </a:lnTo>
                    <a:lnTo>
                      <a:pt x="99" y="290"/>
                    </a:lnTo>
                    <a:lnTo>
                      <a:pt x="127" y="270"/>
                    </a:lnTo>
                    <a:lnTo>
                      <a:pt x="159" y="250"/>
                    </a:lnTo>
                    <a:lnTo>
                      <a:pt x="195" y="231"/>
                    </a:lnTo>
                    <a:lnTo>
                      <a:pt x="234" y="211"/>
                    </a:lnTo>
                    <a:lnTo>
                      <a:pt x="276" y="193"/>
                    </a:lnTo>
                    <a:lnTo>
                      <a:pt x="322" y="176"/>
                    </a:lnTo>
                    <a:lnTo>
                      <a:pt x="369" y="159"/>
                    </a:lnTo>
                    <a:lnTo>
                      <a:pt x="421" y="143"/>
                    </a:lnTo>
                    <a:lnTo>
                      <a:pt x="474" y="128"/>
                    </a:lnTo>
                    <a:lnTo>
                      <a:pt x="530" y="114"/>
                    </a:lnTo>
                    <a:lnTo>
                      <a:pt x="589" y="99"/>
                    </a:lnTo>
                    <a:lnTo>
                      <a:pt x="650" y="86"/>
                    </a:lnTo>
                    <a:lnTo>
                      <a:pt x="714" y="74"/>
                    </a:lnTo>
                    <a:lnTo>
                      <a:pt x="779" y="63"/>
                    </a:lnTo>
                    <a:lnTo>
                      <a:pt x="847" y="52"/>
                    </a:lnTo>
                    <a:lnTo>
                      <a:pt x="917" y="43"/>
                    </a:lnTo>
                    <a:lnTo>
                      <a:pt x="988" y="34"/>
                    </a:lnTo>
                    <a:lnTo>
                      <a:pt x="1062" y="26"/>
                    </a:lnTo>
                    <a:lnTo>
                      <a:pt x="1137" y="20"/>
                    </a:lnTo>
                    <a:lnTo>
                      <a:pt x="1214" y="14"/>
                    </a:lnTo>
                    <a:lnTo>
                      <a:pt x="1292" y="9"/>
                    </a:lnTo>
                    <a:lnTo>
                      <a:pt x="1372" y="6"/>
                    </a:lnTo>
                    <a:lnTo>
                      <a:pt x="1453" y="2"/>
                    </a:lnTo>
                    <a:lnTo>
                      <a:pt x="1536" y="0"/>
                    </a:lnTo>
                    <a:lnTo>
                      <a:pt x="1618" y="0"/>
                    </a:lnTo>
                    <a:lnTo>
                      <a:pt x="1702" y="0"/>
                    </a:lnTo>
                    <a:lnTo>
                      <a:pt x="1784" y="2"/>
                    </a:lnTo>
                    <a:lnTo>
                      <a:pt x="1865" y="6"/>
                    </a:lnTo>
                    <a:lnTo>
                      <a:pt x="1945" y="9"/>
                    </a:lnTo>
                    <a:lnTo>
                      <a:pt x="2023" y="14"/>
                    </a:lnTo>
                    <a:lnTo>
                      <a:pt x="2100" y="20"/>
                    </a:lnTo>
                    <a:lnTo>
                      <a:pt x="2175" y="26"/>
                    </a:lnTo>
                    <a:lnTo>
                      <a:pt x="2249" y="34"/>
                    </a:lnTo>
                    <a:lnTo>
                      <a:pt x="2320" y="43"/>
                    </a:lnTo>
                    <a:lnTo>
                      <a:pt x="2390" y="52"/>
                    </a:lnTo>
                    <a:lnTo>
                      <a:pt x="2458" y="63"/>
                    </a:lnTo>
                    <a:lnTo>
                      <a:pt x="2523" y="74"/>
                    </a:lnTo>
                    <a:lnTo>
                      <a:pt x="2587" y="86"/>
                    </a:lnTo>
                    <a:lnTo>
                      <a:pt x="2648" y="99"/>
                    </a:lnTo>
                    <a:lnTo>
                      <a:pt x="2707" y="114"/>
                    </a:lnTo>
                    <a:lnTo>
                      <a:pt x="2763" y="128"/>
                    </a:lnTo>
                    <a:lnTo>
                      <a:pt x="2816" y="143"/>
                    </a:lnTo>
                    <a:lnTo>
                      <a:pt x="2868" y="159"/>
                    </a:lnTo>
                    <a:lnTo>
                      <a:pt x="2915" y="176"/>
                    </a:lnTo>
                    <a:lnTo>
                      <a:pt x="2961" y="193"/>
                    </a:lnTo>
                    <a:lnTo>
                      <a:pt x="3003" y="211"/>
                    </a:lnTo>
                    <a:lnTo>
                      <a:pt x="3041" y="231"/>
                    </a:lnTo>
                    <a:lnTo>
                      <a:pt x="3078" y="250"/>
                    </a:lnTo>
                    <a:lnTo>
                      <a:pt x="3110" y="270"/>
                    </a:lnTo>
                    <a:lnTo>
                      <a:pt x="3138" y="290"/>
                    </a:lnTo>
                    <a:lnTo>
                      <a:pt x="3165" y="311"/>
                    </a:lnTo>
                    <a:lnTo>
                      <a:pt x="3186" y="333"/>
                    </a:lnTo>
                    <a:lnTo>
                      <a:pt x="3204" y="355"/>
                    </a:lnTo>
                    <a:lnTo>
                      <a:pt x="3218" y="378"/>
                    </a:lnTo>
                    <a:lnTo>
                      <a:pt x="3228" y="401"/>
                    </a:lnTo>
                    <a:lnTo>
                      <a:pt x="3235" y="424"/>
                    </a:lnTo>
                    <a:lnTo>
                      <a:pt x="3237" y="4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969920" y="6503760"/>
                <a:ext cx="356400" cy="109080"/>
              </a:xfrm>
              <a:custGeom>
                <a:avLst/>
                <a:gdLst/>
                <a:ahLst/>
                <a:rect l="l" t="t" r="r" b="b"/>
                <a:pathLst>
                  <a:path w="3233" h="912">
                    <a:moveTo>
                      <a:pt x="3233" y="448"/>
                    </a:moveTo>
                    <a:lnTo>
                      <a:pt x="3231" y="471"/>
                    </a:lnTo>
                    <a:lnTo>
                      <a:pt x="3225" y="495"/>
                    </a:lnTo>
                    <a:lnTo>
                      <a:pt x="3215" y="518"/>
                    </a:lnTo>
                    <a:lnTo>
                      <a:pt x="3201" y="541"/>
                    </a:lnTo>
                    <a:lnTo>
                      <a:pt x="3183" y="564"/>
                    </a:lnTo>
                    <a:lnTo>
                      <a:pt x="3161" y="586"/>
                    </a:lnTo>
                    <a:lnTo>
                      <a:pt x="3135" y="607"/>
                    </a:lnTo>
                    <a:lnTo>
                      <a:pt x="3106" y="628"/>
                    </a:lnTo>
                    <a:lnTo>
                      <a:pt x="3074" y="649"/>
                    </a:lnTo>
                    <a:lnTo>
                      <a:pt x="3038" y="669"/>
                    </a:lnTo>
                    <a:lnTo>
                      <a:pt x="2999" y="688"/>
                    </a:lnTo>
                    <a:lnTo>
                      <a:pt x="2958" y="707"/>
                    </a:lnTo>
                    <a:lnTo>
                      <a:pt x="2912" y="725"/>
                    </a:lnTo>
                    <a:lnTo>
                      <a:pt x="2865" y="743"/>
                    </a:lnTo>
                    <a:lnTo>
                      <a:pt x="2813" y="760"/>
                    </a:lnTo>
                    <a:lnTo>
                      <a:pt x="2760" y="776"/>
                    </a:lnTo>
                    <a:lnTo>
                      <a:pt x="2704" y="792"/>
                    </a:lnTo>
                    <a:lnTo>
                      <a:pt x="2646" y="806"/>
                    </a:lnTo>
                    <a:lnTo>
                      <a:pt x="2584" y="820"/>
                    </a:lnTo>
                    <a:lnTo>
                      <a:pt x="2520" y="833"/>
                    </a:lnTo>
                    <a:lnTo>
                      <a:pt x="2455" y="845"/>
                    </a:lnTo>
                    <a:lnTo>
                      <a:pt x="2387" y="856"/>
                    </a:lnTo>
                    <a:lnTo>
                      <a:pt x="2317" y="867"/>
                    </a:lnTo>
                    <a:lnTo>
                      <a:pt x="2246" y="876"/>
                    </a:lnTo>
                    <a:lnTo>
                      <a:pt x="2173" y="884"/>
                    </a:lnTo>
                    <a:lnTo>
                      <a:pt x="2097" y="892"/>
                    </a:lnTo>
                    <a:lnTo>
                      <a:pt x="2020" y="898"/>
                    </a:lnTo>
                    <a:lnTo>
                      <a:pt x="1943" y="903"/>
                    </a:lnTo>
                    <a:lnTo>
                      <a:pt x="1863" y="907"/>
                    </a:lnTo>
                    <a:lnTo>
                      <a:pt x="1782" y="910"/>
                    </a:lnTo>
                    <a:lnTo>
                      <a:pt x="1699" y="912"/>
                    </a:lnTo>
                    <a:lnTo>
                      <a:pt x="1616" y="912"/>
                    </a:lnTo>
                    <a:lnTo>
                      <a:pt x="1534" y="912"/>
                    </a:lnTo>
                    <a:lnTo>
                      <a:pt x="1451" y="910"/>
                    </a:lnTo>
                    <a:lnTo>
                      <a:pt x="1370" y="907"/>
                    </a:lnTo>
                    <a:lnTo>
                      <a:pt x="1290" y="903"/>
                    </a:lnTo>
                    <a:lnTo>
                      <a:pt x="1212" y="898"/>
                    </a:lnTo>
                    <a:lnTo>
                      <a:pt x="1136" y="892"/>
                    </a:lnTo>
                    <a:lnTo>
                      <a:pt x="1060" y="884"/>
                    </a:lnTo>
                    <a:lnTo>
                      <a:pt x="987" y="876"/>
                    </a:lnTo>
                    <a:lnTo>
                      <a:pt x="916" y="867"/>
                    </a:lnTo>
                    <a:lnTo>
                      <a:pt x="846" y="856"/>
                    </a:lnTo>
                    <a:lnTo>
                      <a:pt x="778" y="845"/>
                    </a:lnTo>
                    <a:lnTo>
                      <a:pt x="713" y="833"/>
                    </a:lnTo>
                    <a:lnTo>
                      <a:pt x="649" y="820"/>
                    </a:lnTo>
                    <a:lnTo>
                      <a:pt x="588" y="806"/>
                    </a:lnTo>
                    <a:lnTo>
                      <a:pt x="529" y="792"/>
                    </a:lnTo>
                    <a:lnTo>
                      <a:pt x="473" y="776"/>
                    </a:lnTo>
                    <a:lnTo>
                      <a:pt x="420" y="760"/>
                    </a:lnTo>
                    <a:lnTo>
                      <a:pt x="368" y="743"/>
                    </a:lnTo>
                    <a:lnTo>
                      <a:pt x="321" y="725"/>
                    </a:lnTo>
                    <a:lnTo>
                      <a:pt x="275" y="707"/>
                    </a:lnTo>
                    <a:lnTo>
                      <a:pt x="234" y="688"/>
                    </a:lnTo>
                    <a:lnTo>
                      <a:pt x="194" y="669"/>
                    </a:lnTo>
                    <a:lnTo>
                      <a:pt x="159" y="649"/>
                    </a:lnTo>
                    <a:lnTo>
                      <a:pt x="127" y="628"/>
                    </a:lnTo>
                    <a:lnTo>
                      <a:pt x="98" y="607"/>
                    </a:lnTo>
                    <a:lnTo>
                      <a:pt x="72" y="586"/>
                    </a:lnTo>
                    <a:lnTo>
                      <a:pt x="50" y="564"/>
                    </a:lnTo>
                    <a:lnTo>
                      <a:pt x="32" y="541"/>
                    </a:lnTo>
                    <a:lnTo>
                      <a:pt x="18" y="518"/>
                    </a:lnTo>
                    <a:lnTo>
                      <a:pt x="8" y="495"/>
                    </a:lnTo>
                    <a:lnTo>
                      <a:pt x="2" y="471"/>
                    </a:lnTo>
                    <a:lnTo>
                      <a:pt x="0" y="448"/>
                    </a:lnTo>
                    <a:lnTo>
                      <a:pt x="2" y="423"/>
                    </a:lnTo>
                    <a:lnTo>
                      <a:pt x="8" y="400"/>
                    </a:lnTo>
                    <a:lnTo>
                      <a:pt x="18" y="377"/>
                    </a:lnTo>
                    <a:lnTo>
                      <a:pt x="32" y="355"/>
                    </a:lnTo>
                    <a:lnTo>
                      <a:pt x="50" y="333"/>
                    </a:lnTo>
                    <a:lnTo>
                      <a:pt x="72" y="310"/>
                    </a:lnTo>
                    <a:lnTo>
                      <a:pt x="98" y="289"/>
                    </a:lnTo>
                    <a:lnTo>
                      <a:pt x="127" y="269"/>
                    </a:lnTo>
                    <a:lnTo>
                      <a:pt x="159" y="249"/>
                    </a:lnTo>
                    <a:lnTo>
                      <a:pt x="194" y="230"/>
                    </a:lnTo>
                    <a:lnTo>
                      <a:pt x="234" y="211"/>
                    </a:lnTo>
                    <a:lnTo>
                      <a:pt x="275" y="193"/>
                    </a:lnTo>
                    <a:lnTo>
                      <a:pt x="321" y="175"/>
                    </a:lnTo>
                    <a:lnTo>
                      <a:pt x="368" y="159"/>
                    </a:lnTo>
                    <a:lnTo>
                      <a:pt x="420" y="143"/>
                    </a:lnTo>
                    <a:lnTo>
                      <a:pt x="473" y="128"/>
                    </a:lnTo>
                    <a:lnTo>
                      <a:pt x="529" y="113"/>
                    </a:lnTo>
                    <a:lnTo>
                      <a:pt x="588" y="99"/>
                    </a:lnTo>
                    <a:lnTo>
                      <a:pt x="649" y="86"/>
                    </a:lnTo>
                    <a:lnTo>
                      <a:pt x="713" y="74"/>
                    </a:lnTo>
                    <a:lnTo>
                      <a:pt x="778" y="62"/>
                    </a:lnTo>
                    <a:lnTo>
                      <a:pt x="846" y="52"/>
                    </a:lnTo>
                    <a:lnTo>
                      <a:pt x="916" y="43"/>
                    </a:lnTo>
                    <a:lnTo>
                      <a:pt x="987" y="34"/>
                    </a:lnTo>
                    <a:lnTo>
                      <a:pt x="1060" y="26"/>
                    </a:lnTo>
                    <a:lnTo>
                      <a:pt x="1136" y="20"/>
                    </a:lnTo>
                    <a:lnTo>
                      <a:pt x="1212" y="14"/>
                    </a:lnTo>
                    <a:lnTo>
                      <a:pt x="1290" y="9"/>
                    </a:lnTo>
                    <a:lnTo>
                      <a:pt x="1370" y="5"/>
                    </a:lnTo>
                    <a:lnTo>
                      <a:pt x="1451" y="2"/>
                    </a:lnTo>
                    <a:lnTo>
                      <a:pt x="1534" y="0"/>
                    </a:lnTo>
                    <a:lnTo>
                      <a:pt x="1616" y="0"/>
                    </a:lnTo>
                    <a:lnTo>
                      <a:pt x="1699" y="0"/>
                    </a:lnTo>
                    <a:lnTo>
                      <a:pt x="1782" y="2"/>
                    </a:lnTo>
                    <a:lnTo>
                      <a:pt x="1863" y="5"/>
                    </a:lnTo>
                    <a:lnTo>
                      <a:pt x="1943" y="9"/>
                    </a:lnTo>
                    <a:lnTo>
                      <a:pt x="2020" y="14"/>
                    </a:lnTo>
                    <a:lnTo>
                      <a:pt x="2097" y="20"/>
                    </a:lnTo>
                    <a:lnTo>
                      <a:pt x="2173" y="26"/>
                    </a:lnTo>
                    <a:lnTo>
                      <a:pt x="2246" y="34"/>
                    </a:lnTo>
                    <a:lnTo>
                      <a:pt x="2317" y="43"/>
                    </a:lnTo>
                    <a:lnTo>
                      <a:pt x="2387" y="52"/>
                    </a:lnTo>
                    <a:lnTo>
                      <a:pt x="2455" y="62"/>
                    </a:lnTo>
                    <a:lnTo>
                      <a:pt x="2520" y="74"/>
                    </a:lnTo>
                    <a:lnTo>
                      <a:pt x="2584" y="86"/>
                    </a:lnTo>
                    <a:lnTo>
                      <a:pt x="2646" y="99"/>
                    </a:lnTo>
                    <a:lnTo>
                      <a:pt x="2704" y="113"/>
                    </a:lnTo>
                    <a:lnTo>
                      <a:pt x="2760" y="128"/>
                    </a:lnTo>
                    <a:lnTo>
                      <a:pt x="2813" y="143"/>
                    </a:lnTo>
                    <a:lnTo>
                      <a:pt x="2865" y="159"/>
                    </a:lnTo>
                    <a:lnTo>
                      <a:pt x="2912" y="175"/>
                    </a:lnTo>
                    <a:lnTo>
                      <a:pt x="2958" y="193"/>
                    </a:lnTo>
                    <a:lnTo>
                      <a:pt x="2999" y="211"/>
                    </a:lnTo>
                    <a:lnTo>
                      <a:pt x="3038" y="230"/>
                    </a:lnTo>
                    <a:lnTo>
                      <a:pt x="3074" y="249"/>
                    </a:lnTo>
                    <a:lnTo>
                      <a:pt x="3106" y="269"/>
                    </a:lnTo>
                    <a:lnTo>
                      <a:pt x="3135" y="289"/>
                    </a:lnTo>
                    <a:lnTo>
                      <a:pt x="3161" y="310"/>
                    </a:lnTo>
                    <a:lnTo>
                      <a:pt x="3183" y="333"/>
                    </a:lnTo>
                    <a:lnTo>
                      <a:pt x="3201" y="355"/>
                    </a:lnTo>
                    <a:lnTo>
                      <a:pt x="3215" y="377"/>
                    </a:lnTo>
                    <a:lnTo>
                      <a:pt x="3225" y="400"/>
                    </a:lnTo>
                    <a:lnTo>
                      <a:pt x="3231" y="423"/>
                    </a:lnTo>
                    <a:lnTo>
                      <a:pt x="3233" y="4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969920" y="6503760"/>
                <a:ext cx="356400" cy="109080"/>
              </a:xfrm>
              <a:custGeom>
                <a:avLst/>
                <a:gdLst/>
                <a:ahLst/>
                <a:rect l="l" t="t" r="r" b="b"/>
                <a:pathLst>
                  <a:path w="3231" h="911">
                    <a:moveTo>
                      <a:pt x="3231" y="448"/>
                    </a:moveTo>
                    <a:lnTo>
                      <a:pt x="3229" y="471"/>
                    </a:lnTo>
                    <a:lnTo>
                      <a:pt x="3223" y="495"/>
                    </a:lnTo>
                    <a:lnTo>
                      <a:pt x="3212" y="518"/>
                    </a:lnTo>
                    <a:lnTo>
                      <a:pt x="3198" y="541"/>
                    </a:lnTo>
                    <a:lnTo>
                      <a:pt x="3180" y="564"/>
                    </a:lnTo>
                    <a:lnTo>
                      <a:pt x="3159" y="585"/>
                    </a:lnTo>
                    <a:lnTo>
                      <a:pt x="3133" y="607"/>
                    </a:lnTo>
                    <a:lnTo>
                      <a:pt x="3104" y="628"/>
                    </a:lnTo>
                    <a:lnTo>
                      <a:pt x="3072" y="649"/>
                    </a:lnTo>
                    <a:lnTo>
                      <a:pt x="3036" y="669"/>
                    </a:lnTo>
                    <a:lnTo>
                      <a:pt x="2997" y="688"/>
                    </a:lnTo>
                    <a:lnTo>
                      <a:pt x="2956" y="707"/>
                    </a:lnTo>
                    <a:lnTo>
                      <a:pt x="2910" y="725"/>
                    </a:lnTo>
                    <a:lnTo>
                      <a:pt x="2863" y="742"/>
                    </a:lnTo>
                    <a:lnTo>
                      <a:pt x="2811" y="760"/>
                    </a:lnTo>
                    <a:lnTo>
                      <a:pt x="2758" y="776"/>
                    </a:lnTo>
                    <a:lnTo>
                      <a:pt x="2702" y="791"/>
                    </a:lnTo>
                    <a:lnTo>
                      <a:pt x="2644" y="805"/>
                    </a:lnTo>
                    <a:lnTo>
                      <a:pt x="2582" y="819"/>
                    </a:lnTo>
                    <a:lnTo>
                      <a:pt x="2519" y="832"/>
                    </a:lnTo>
                    <a:lnTo>
                      <a:pt x="2454" y="844"/>
                    </a:lnTo>
                    <a:lnTo>
                      <a:pt x="2386" y="855"/>
                    </a:lnTo>
                    <a:lnTo>
                      <a:pt x="2316" y="866"/>
                    </a:lnTo>
                    <a:lnTo>
                      <a:pt x="2245" y="875"/>
                    </a:lnTo>
                    <a:lnTo>
                      <a:pt x="2171" y="883"/>
                    </a:lnTo>
                    <a:lnTo>
                      <a:pt x="2096" y="891"/>
                    </a:lnTo>
                    <a:lnTo>
                      <a:pt x="2019" y="897"/>
                    </a:lnTo>
                    <a:lnTo>
                      <a:pt x="1941" y="902"/>
                    </a:lnTo>
                    <a:lnTo>
                      <a:pt x="1862" y="906"/>
                    </a:lnTo>
                    <a:lnTo>
                      <a:pt x="1781" y="909"/>
                    </a:lnTo>
                    <a:lnTo>
                      <a:pt x="1698" y="911"/>
                    </a:lnTo>
                    <a:lnTo>
                      <a:pt x="1615" y="911"/>
                    </a:lnTo>
                    <a:lnTo>
                      <a:pt x="1533" y="911"/>
                    </a:lnTo>
                    <a:lnTo>
                      <a:pt x="1450" y="909"/>
                    </a:lnTo>
                    <a:lnTo>
                      <a:pt x="1369" y="906"/>
                    </a:lnTo>
                    <a:lnTo>
                      <a:pt x="1290" y="902"/>
                    </a:lnTo>
                    <a:lnTo>
                      <a:pt x="1211" y="897"/>
                    </a:lnTo>
                    <a:lnTo>
                      <a:pt x="1135" y="891"/>
                    </a:lnTo>
                    <a:lnTo>
                      <a:pt x="1060" y="883"/>
                    </a:lnTo>
                    <a:lnTo>
                      <a:pt x="986" y="875"/>
                    </a:lnTo>
                    <a:lnTo>
                      <a:pt x="915" y="866"/>
                    </a:lnTo>
                    <a:lnTo>
                      <a:pt x="845" y="855"/>
                    </a:lnTo>
                    <a:lnTo>
                      <a:pt x="777" y="844"/>
                    </a:lnTo>
                    <a:lnTo>
                      <a:pt x="713" y="832"/>
                    </a:lnTo>
                    <a:lnTo>
                      <a:pt x="649" y="819"/>
                    </a:lnTo>
                    <a:lnTo>
                      <a:pt x="587" y="805"/>
                    </a:lnTo>
                    <a:lnTo>
                      <a:pt x="529" y="791"/>
                    </a:lnTo>
                    <a:lnTo>
                      <a:pt x="473" y="776"/>
                    </a:lnTo>
                    <a:lnTo>
                      <a:pt x="420" y="760"/>
                    </a:lnTo>
                    <a:lnTo>
                      <a:pt x="369" y="742"/>
                    </a:lnTo>
                    <a:lnTo>
                      <a:pt x="321" y="725"/>
                    </a:lnTo>
                    <a:lnTo>
                      <a:pt x="275" y="707"/>
                    </a:lnTo>
                    <a:lnTo>
                      <a:pt x="234" y="688"/>
                    </a:lnTo>
                    <a:lnTo>
                      <a:pt x="194" y="669"/>
                    </a:lnTo>
                    <a:lnTo>
                      <a:pt x="159" y="649"/>
                    </a:lnTo>
                    <a:lnTo>
                      <a:pt x="127" y="628"/>
                    </a:lnTo>
                    <a:lnTo>
                      <a:pt x="98" y="607"/>
                    </a:lnTo>
                    <a:lnTo>
                      <a:pt x="72" y="585"/>
                    </a:lnTo>
                    <a:lnTo>
                      <a:pt x="51" y="564"/>
                    </a:lnTo>
                    <a:lnTo>
                      <a:pt x="33" y="541"/>
                    </a:lnTo>
                    <a:lnTo>
                      <a:pt x="19" y="518"/>
                    </a:lnTo>
                    <a:lnTo>
                      <a:pt x="9" y="495"/>
                    </a:lnTo>
                    <a:lnTo>
                      <a:pt x="2" y="471"/>
                    </a:lnTo>
                    <a:lnTo>
                      <a:pt x="0" y="448"/>
                    </a:lnTo>
                    <a:lnTo>
                      <a:pt x="2" y="423"/>
                    </a:lnTo>
                    <a:lnTo>
                      <a:pt x="9" y="400"/>
                    </a:lnTo>
                    <a:lnTo>
                      <a:pt x="19" y="377"/>
                    </a:lnTo>
                    <a:lnTo>
                      <a:pt x="33" y="355"/>
                    </a:lnTo>
                    <a:lnTo>
                      <a:pt x="51" y="333"/>
                    </a:lnTo>
                    <a:lnTo>
                      <a:pt x="72" y="311"/>
                    </a:lnTo>
                    <a:lnTo>
                      <a:pt x="98" y="290"/>
                    </a:lnTo>
                    <a:lnTo>
                      <a:pt x="127" y="269"/>
                    </a:lnTo>
                    <a:lnTo>
                      <a:pt x="159" y="250"/>
                    </a:lnTo>
                    <a:lnTo>
                      <a:pt x="194" y="231"/>
                    </a:lnTo>
                    <a:lnTo>
                      <a:pt x="234" y="211"/>
                    </a:lnTo>
                    <a:lnTo>
                      <a:pt x="275" y="193"/>
                    </a:lnTo>
                    <a:lnTo>
                      <a:pt x="321" y="176"/>
                    </a:lnTo>
                    <a:lnTo>
                      <a:pt x="369" y="159"/>
                    </a:lnTo>
                    <a:lnTo>
                      <a:pt x="420" y="144"/>
                    </a:lnTo>
                    <a:lnTo>
                      <a:pt x="473" y="128"/>
                    </a:lnTo>
                    <a:lnTo>
                      <a:pt x="529" y="114"/>
                    </a:lnTo>
                    <a:lnTo>
                      <a:pt x="587" y="99"/>
                    </a:lnTo>
                    <a:lnTo>
                      <a:pt x="649" y="87"/>
                    </a:lnTo>
                    <a:lnTo>
                      <a:pt x="713" y="74"/>
                    </a:lnTo>
                    <a:lnTo>
                      <a:pt x="777" y="63"/>
                    </a:lnTo>
                    <a:lnTo>
                      <a:pt x="845" y="53"/>
                    </a:lnTo>
                    <a:lnTo>
                      <a:pt x="915" y="43"/>
                    </a:lnTo>
                    <a:lnTo>
                      <a:pt x="986" y="35"/>
                    </a:lnTo>
                    <a:lnTo>
                      <a:pt x="1060" y="27"/>
                    </a:lnTo>
                    <a:lnTo>
                      <a:pt x="1135" y="21"/>
                    </a:lnTo>
                    <a:lnTo>
                      <a:pt x="1211" y="15"/>
                    </a:lnTo>
                    <a:lnTo>
                      <a:pt x="1290" y="10"/>
                    </a:lnTo>
                    <a:lnTo>
                      <a:pt x="1369" y="6"/>
                    </a:lnTo>
                    <a:lnTo>
                      <a:pt x="1450" y="4"/>
                    </a:lnTo>
                    <a:lnTo>
                      <a:pt x="1533" y="1"/>
                    </a:lnTo>
                    <a:lnTo>
                      <a:pt x="1615" y="0"/>
                    </a:lnTo>
                    <a:lnTo>
                      <a:pt x="1698" y="1"/>
                    </a:lnTo>
                    <a:lnTo>
                      <a:pt x="1781" y="4"/>
                    </a:lnTo>
                    <a:lnTo>
                      <a:pt x="1862" y="6"/>
                    </a:lnTo>
                    <a:lnTo>
                      <a:pt x="1941" y="10"/>
                    </a:lnTo>
                    <a:lnTo>
                      <a:pt x="2019" y="15"/>
                    </a:lnTo>
                    <a:lnTo>
                      <a:pt x="2096" y="21"/>
                    </a:lnTo>
                    <a:lnTo>
                      <a:pt x="2171" y="27"/>
                    </a:lnTo>
                    <a:lnTo>
                      <a:pt x="2245" y="35"/>
                    </a:lnTo>
                    <a:lnTo>
                      <a:pt x="2316" y="43"/>
                    </a:lnTo>
                    <a:lnTo>
                      <a:pt x="2386" y="53"/>
                    </a:lnTo>
                    <a:lnTo>
                      <a:pt x="2454" y="63"/>
                    </a:lnTo>
                    <a:lnTo>
                      <a:pt x="2519" y="74"/>
                    </a:lnTo>
                    <a:lnTo>
                      <a:pt x="2582" y="87"/>
                    </a:lnTo>
                    <a:lnTo>
                      <a:pt x="2644" y="99"/>
                    </a:lnTo>
                    <a:lnTo>
                      <a:pt x="2702" y="114"/>
                    </a:lnTo>
                    <a:lnTo>
                      <a:pt x="2758" y="128"/>
                    </a:lnTo>
                    <a:lnTo>
                      <a:pt x="2811" y="144"/>
                    </a:lnTo>
                    <a:lnTo>
                      <a:pt x="2863" y="159"/>
                    </a:lnTo>
                    <a:lnTo>
                      <a:pt x="2910" y="176"/>
                    </a:lnTo>
                    <a:lnTo>
                      <a:pt x="2956" y="193"/>
                    </a:lnTo>
                    <a:lnTo>
                      <a:pt x="2997" y="211"/>
                    </a:lnTo>
                    <a:lnTo>
                      <a:pt x="3036" y="231"/>
                    </a:lnTo>
                    <a:lnTo>
                      <a:pt x="3072" y="250"/>
                    </a:lnTo>
                    <a:lnTo>
                      <a:pt x="3104" y="269"/>
                    </a:lnTo>
                    <a:lnTo>
                      <a:pt x="3133" y="290"/>
                    </a:lnTo>
                    <a:lnTo>
                      <a:pt x="3159" y="311"/>
                    </a:lnTo>
                    <a:lnTo>
                      <a:pt x="3180" y="333"/>
                    </a:lnTo>
                    <a:lnTo>
                      <a:pt x="3198" y="355"/>
                    </a:lnTo>
                    <a:lnTo>
                      <a:pt x="3212" y="377"/>
                    </a:lnTo>
                    <a:lnTo>
                      <a:pt x="3223" y="400"/>
                    </a:lnTo>
                    <a:lnTo>
                      <a:pt x="3229" y="423"/>
                    </a:lnTo>
                    <a:lnTo>
                      <a:pt x="3231" y="4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969920" y="6503760"/>
                <a:ext cx="356400" cy="109080"/>
              </a:xfrm>
              <a:custGeom>
                <a:avLst/>
                <a:gdLst/>
                <a:ahLst/>
                <a:rect l="l" t="t" r="r" b="b"/>
                <a:pathLst>
                  <a:path w="3227" h="909">
                    <a:moveTo>
                      <a:pt x="3227" y="447"/>
                    </a:moveTo>
                    <a:lnTo>
                      <a:pt x="3225" y="470"/>
                    </a:lnTo>
                    <a:lnTo>
                      <a:pt x="3219" y="494"/>
                    </a:lnTo>
                    <a:lnTo>
                      <a:pt x="3209" y="517"/>
                    </a:lnTo>
                    <a:lnTo>
                      <a:pt x="3195" y="540"/>
                    </a:lnTo>
                    <a:lnTo>
                      <a:pt x="3177" y="562"/>
                    </a:lnTo>
                    <a:lnTo>
                      <a:pt x="3156" y="584"/>
                    </a:lnTo>
                    <a:lnTo>
                      <a:pt x="3129" y="605"/>
                    </a:lnTo>
                    <a:lnTo>
                      <a:pt x="3101" y="626"/>
                    </a:lnTo>
                    <a:lnTo>
                      <a:pt x="3069" y="648"/>
                    </a:lnTo>
                    <a:lnTo>
                      <a:pt x="3033" y="667"/>
                    </a:lnTo>
                    <a:lnTo>
                      <a:pt x="2994" y="687"/>
                    </a:lnTo>
                    <a:lnTo>
                      <a:pt x="2952" y="705"/>
                    </a:lnTo>
                    <a:lnTo>
                      <a:pt x="2907" y="723"/>
                    </a:lnTo>
                    <a:lnTo>
                      <a:pt x="2859" y="740"/>
                    </a:lnTo>
                    <a:lnTo>
                      <a:pt x="2808" y="758"/>
                    </a:lnTo>
                    <a:lnTo>
                      <a:pt x="2755" y="774"/>
                    </a:lnTo>
                    <a:lnTo>
                      <a:pt x="2699" y="789"/>
                    </a:lnTo>
                    <a:lnTo>
                      <a:pt x="2641" y="804"/>
                    </a:lnTo>
                    <a:lnTo>
                      <a:pt x="2579" y="817"/>
                    </a:lnTo>
                    <a:lnTo>
                      <a:pt x="2516" y="830"/>
                    </a:lnTo>
                    <a:lnTo>
                      <a:pt x="2451" y="842"/>
                    </a:lnTo>
                    <a:lnTo>
                      <a:pt x="2383" y="853"/>
                    </a:lnTo>
                    <a:lnTo>
                      <a:pt x="2313" y="864"/>
                    </a:lnTo>
                    <a:lnTo>
                      <a:pt x="2242" y="873"/>
                    </a:lnTo>
                    <a:lnTo>
                      <a:pt x="2169" y="882"/>
                    </a:lnTo>
                    <a:lnTo>
                      <a:pt x="2093" y="889"/>
                    </a:lnTo>
                    <a:lnTo>
                      <a:pt x="2017" y="895"/>
                    </a:lnTo>
                    <a:lnTo>
                      <a:pt x="1939" y="900"/>
                    </a:lnTo>
                    <a:lnTo>
                      <a:pt x="1859" y="904"/>
                    </a:lnTo>
                    <a:lnTo>
                      <a:pt x="1778" y="907"/>
                    </a:lnTo>
                    <a:lnTo>
                      <a:pt x="1696" y="909"/>
                    </a:lnTo>
                    <a:lnTo>
                      <a:pt x="1613" y="909"/>
                    </a:lnTo>
                    <a:lnTo>
                      <a:pt x="1531" y="909"/>
                    </a:lnTo>
                    <a:lnTo>
                      <a:pt x="1449" y="907"/>
                    </a:lnTo>
                    <a:lnTo>
                      <a:pt x="1368" y="904"/>
                    </a:lnTo>
                    <a:lnTo>
                      <a:pt x="1288" y="900"/>
                    </a:lnTo>
                    <a:lnTo>
                      <a:pt x="1210" y="895"/>
                    </a:lnTo>
                    <a:lnTo>
                      <a:pt x="1134" y="889"/>
                    </a:lnTo>
                    <a:lnTo>
                      <a:pt x="1058" y="882"/>
                    </a:lnTo>
                    <a:lnTo>
                      <a:pt x="985" y="873"/>
                    </a:lnTo>
                    <a:lnTo>
                      <a:pt x="914" y="864"/>
                    </a:lnTo>
                    <a:lnTo>
                      <a:pt x="844" y="853"/>
                    </a:lnTo>
                    <a:lnTo>
                      <a:pt x="776" y="842"/>
                    </a:lnTo>
                    <a:lnTo>
                      <a:pt x="711" y="830"/>
                    </a:lnTo>
                    <a:lnTo>
                      <a:pt x="648" y="817"/>
                    </a:lnTo>
                    <a:lnTo>
                      <a:pt x="586" y="804"/>
                    </a:lnTo>
                    <a:lnTo>
                      <a:pt x="528" y="789"/>
                    </a:lnTo>
                    <a:lnTo>
                      <a:pt x="472" y="774"/>
                    </a:lnTo>
                    <a:lnTo>
                      <a:pt x="419" y="758"/>
                    </a:lnTo>
                    <a:lnTo>
                      <a:pt x="368" y="740"/>
                    </a:lnTo>
                    <a:lnTo>
                      <a:pt x="320" y="723"/>
                    </a:lnTo>
                    <a:lnTo>
                      <a:pt x="275" y="705"/>
                    </a:lnTo>
                    <a:lnTo>
                      <a:pt x="233" y="687"/>
                    </a:lnTo>
                    <a:lnTo>
                      <a:pt x="194" y="667"/>
                    </a:lnTo>
                    <a:lnTo>
                      <a:pt x="158" y="648"/>
                    </a:lnTo>
                    <a:lnTo>
                      <a:pt x="126" y="626"/>
                    </a:lnTo>
                    <a:lnTo>
                      <a:pt x="98" y="605"/>
                    </a:lnTo>
                    <a:lnTo>
                      <a:pt x="72" y="584"/>
                    </a:lnTo>
                    <a:lnTo>
                      <a:pt x="50" y="562"/>
                    </a:lnTo>
                    <a:lnTo>
                      <a:pt x="32" y="540"/>
                    </a:lnTo>
                    <a:lnTo>
                      <a:pt x="18" y="517"/>
                    </a:lnTo>
                    <a:lnTo>
                      <a:pt x="8" y="494"/>
                    </a:lnTo>
                    <a:lnTo>
                      <a:pt x="2" y="470"/>
                    </a:lnTo>
                    <a:lnTo>
                      <a:pt x="0" y="447"/>
                    </a:lnTo>
                    <a:lnTo>
                      <a:pt x="2" y="422"/>
                    </a:lnTo>
                    <a:lnTo>
                      <a:pt x="8" y="399"/>
                    </a:lnTo>
                    <a:lnTo>
                      <a:pt x="18" y="376"/>
                    </a:lnTo>
                    <a:lnTo>
                      <a:pt x="32" y="354"/>
                    </a:lnTo>
                    <a:lnTo>
                      <a:pt x="50" y="332"/>
                    </a:lnTo>
                    <a:lnTo>
                      <a:pt x="72" y="310"/>
                    </a:lnTo>
                    <a:lnTo>
                      <a:pt x="98" y="289"/>
                    </a:lnTo>
                    <a:lnTo>
                      <a:pt x="126" y="269"/>
                    </a:lnTo>
                    <a:lnTo>
                      <a:pt x="158" y="249"/>
                    </a:lnTo>
                    <a:lnTo>
                      <a:pt x="194" y="230"/>
                    </a:lnTo>
                    <a:lnTo>
                      <a:pt x="233" y="211"/>
                    </a:lnTo>
                    <a:lnTo>
                      <a:pt x="275" y="193"/>
                    </a:lnTo>
                    <a:lnTo>
                      <a:pt x="320" y="176"/>
                    </a:lnTo>
                    <a:lnTo>
                      <a:pt x="368" y="159"/>
                    </a:lnTo>
                    <a:lnTo>
                      <a:pt x="419" y="143"/>
                    </a:lnTo>
                    <a:lnTo>
                      <a:pt x="472" y="128"/>
                    </a:lnTo>
                    <a:lnTo>
                      <a:pt x="528" y="114"/>
                    </a:lnTo>
                    <a:lnTo>
                      <a:pt x="586" y="99"/>
                    </a:lnTo>
                    <a:lnTo>
                      <a:pt x="648" y="86"/>
                    </a:lnTo>
                    <a:lnTo>
                      <a:pt x="711" y="74"/>
                    </a:lnTo>
                    <a:lnTo>
                      <a:pt x="776" y="63"/>
                    </a:lnTo>
                    <a:lnTo>
                      <a:pt x="844" y="53"/>
                    </a:lnTo>
                    <a:lnTo>
                      <a:pt x="914" y="43"/>
                    </a:lnTo>
                    <a:lnTo>
                      <a:pt x="985" y="35"/>
                    </a:lnTo>
                    <a:lnTo>
                      <a:pt x="1058" y="27"/>
                    </a:lnTo>
                    <a:lnTo>
                      <a:pt x="1134" y="20"/>
                    </a:lnTo>
                    <a:lnTo>
                      <a:pt x="1210" y="15"/>
                    </a:lnTo>
                    <a:lnTo>
                      <a:pt x="1288" y="10"/>
                    </a:lnTo>
                    <a:lnTo>
                      <a:pt x="1368" y="6"/>
                    </a:lnTo>
                    <a:lnTo>
                      <a:pt x="1449" y="4"/>
                    </a:lnTo>
                    <a:lnTo>
                      <a:pt x="1531" y="1"/>
                    </a:lnTo>
                    <a:lnTo>
                      <a:pt x="1613" y="0"/>
                    </a:lnTo>
                    <a:lnTo>
                      <a:pt x="1696" y="1"/>
                    </a:lnTo>
                    <a:lnTo>
                      <a:pt x="1778" y="4"/>
                    </a:lnTo>
                    <a:lnTo>
                      <a:pt x="1859" y="6"/>
                    </a:lnTo>
                    <a:lnTo>
                      <a:pt x="1939" y="10"/>
                    </a:lnTo>
                    <a:lnTo>
                      <a:pt x="2017" y="15"/>
                    </a:lnTo>
                    <a:lnTo>
                      <a:pt x="2093" y="20"/>
                    </a:lnTo>
                    <a:lnTo>
                      <a:pt x="2169" y="27"/>
                    </a:lnTo>
                    <a:lnTo>
                      <a:pt x="2242" y="35"/>
                    </a:lnTo>
                    <a:lnTo>
                      <a:pt x="2313" y="43"/>
                    </a:lnTo>
                    <a:lnTo>
                      <a:pt x="2383" y="53"/>
                    </a:lnTo>
                    <a:lnTo>
                      <a:pt x="2451" y="63"/>
                    </a:lnTo>
                    <a:lnTo>
                      <a:pt x="2516" y="74"/>
                    </a:lnTo>
                    <a:lnTo>
                      <a:pt x="2579" y="86"/>
                    </a:lnTo>
                    <a:lnTo>
                      <a:pt x="2641" y="99"/>
                    </a:lnTo>
                    <a:lnTo>
                      <a:pt x="2699" y="114"/>
                    </a:lnTo>
                    <a:lnTo>
                      <a:pt x="2755" y="128"/>
                    </a:lnTo>
                    <a:lnTo>
                      <a:pt x="2808" y="143"/>
                    </a:lnTo>
                    <a:lnTo>
                      <a:pt x="2859" y="159"/>
                    </a:lnTo>
                    <a:lnTo>
                      <a:pt x="2907" y="176"/>
                    </a:lnTo>
                    <a:lnTo>
                      <a:pt x="2952" y="193"/>
                    </a:lnTo>
                    <a:lnTo>
                      <a:pt x="2994" y="211"/>
                    </a:lnTo>
                    <a:lnTo>
                      <a:pt x="3033" y="230"/>
                    </a:lnTo>
                    <a:lnTo>
                      <a:pt x="3069" y="249"/>
                    </a:lnTo>
                    <a:lnTo>
                      <a:pt x="3101" y="269"/>
                    </a:lnTo>
                    <a:lnTo>
                      <a:pt x="3129" y="289"/>
                    </a:lnTo>
                    <a:lnTo>
                      <a:pt x="3156" y="310"/>
                    </a:lnTo>
                    <a:lnTo>
                      <a:pt x="3177" y="332"/>
                    </a:lnTo>
                    <a:lnTo>
                      <a:pt x="3195" y="354"/>
                    </a:lnTo>
                    <a:lnTo>
                      <a:pt x="3209" y="376"/>
                    </a:lnTo>
                    <a:lnTo>
                      <a:pt x="3219" y="399"/>
                    </a:lnTo>
                    <a:lnTo>
                      <a:pt x="3225" y="422"/>
                    </a:lnTo>
                    <a:lnTo>
                      <a:pt x="3227" y="4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69920" y="6504840"/>
                <a:ext cx="356400" cy="107640"/>
              </a:xfrm>
              <a:custGeom>
                <a:avLst/>
                <a:gdLst/>
                <a:ahLst/>
                <a:rect l="l" t="t" r="r" b="b"/>
                <a:pathLst>
                  <a:path w="3225" h="907">
                    <a:moveTo>
                      <a:pt x="3225" y="446"/>
                    </a:moveTo>
                    <a:lnTo>
                      <a:pt x="3223" y="469"/>
                    </a:lnTo>
                    <a:lnTo>
                      <a:pt x="3217" y="492"/>
                    </a:lnTo>
                    <a:lnTo>
                      <a:pt x="3207" y="515"/>
                    </a:lnTo>
                    <a:lnTo>
                      <a:pt x="3193" y="539"/>
                    </a:lnTo>
                    <a:lnTo>
                      <a:pt x="3175" y="561"/>
                    </a:lnTo>
                    <a:lnTo>
                      <a:pt x="3153" y="583"/>
                    </a:lnTo>
                    <a:lnTo>
                      <a:pt x="3127" y="604"/>
                    </a:lnTo>
                    <a:lnTo>
                      <a:pt x="3099" y="625"/>
                    </a:lnTo>
                    <a:lnTo>
                      <a:pt x="3067" y="646"/>
                    </a:lnTo>
                    <a:lnTo>
                      <a:pt x="3030" y="666"/>
                    </a:lnTo>
                    <a:lnTo>
                      <a:pt x="2992" y="685"/>
                    </a:lnTo>
                    <a:lnTo>
                      <a:pt x="2950" y="704"/>
                    </a:lnTo>
                    <a:lnTo>
                      <a:pt x="2905" y="722"/>
                    </a:lnTo>
                    <a:lnTo>
                      <a:pt x="2857" y="739"/>
                    </a:lnTo>
                    <a:lnTo>
                      <a:pt x="2806" y="756"/>
                    </a:lnTo>
                    <a:lnTo>
                      <a:pt x="2753" y="772"/>
                    </a:lnTo>
                    <a:lnTo>
                      <a:pt x="2697" y="788"/>
                    </a:lnTo>
                    <a:lnTo>
                      <a:pt x="2639" y="802"/>
                    </a:lnTo>
                    <a:lnTo>
                      <a:pt x="2578" y="816"/>
                    </a:lnTo>
                    <a:lnTo>
                      <a:pt x="2514" y="828"/>
                    </a:lnTo>
                    <a:lnTo>
                      <a:pt x="2449" y="840"/>
                    </a:lnTo>
                    <a:lnTo>
                      <a:pt x="2381" y="851"/>
                    </a:lnTo>
                    <a:lnTo>
                      <a:pt x="2311" y="862"/>
                    </a:lnTo>
                    <a:lnTo>
                      <a:pt x="2241" y="871"/>
                    </a:lnTo>
                    <a:lnTo>
                      <a:pt x="2167" y="880"/>
                    </a:lnTo>
                    <a:lnTo>
                      <a:pt x="2092" y="887"/>
                    </a:lnTo>
                    <a:lnTo>
                      <a:pt x="2015" y="893"/>
                    </a:lnTo>
                    <a:lnTo>
                      <a:pt x="1938" y="898"/>
                    </a:lnTo>
                    <a:lnTo>
                      <a:pt x="1858" y="902"/>
                    </a:lnTo>
                    <a:lnTo>
                      <a:pt x="1777" y="905"/>
                    </a:lnTo>
                    <a:lnTo>
                      <a:pt x="1695" y="907"/>
                    </a:lnTo>
                    <a:lnTo>
                      <a:pt x="1612" y="907"/>
                    </a:lnTo>
                    <a:lnTo>
                      <a:pt x="1530" y="907"/>
                    </a:lnTo>
                    <a:lnTo>
                      <a:pt x="1448" y="905"/>
                    </a:lnTo>
                    <a:lnTo>
                      <a:pt x="1367" y="902"/>
                    </a:lnTo>
                    <a:lnTo>
                      <a:pt x="1287" y="898"/>
                    </a:lnTo>
                    <a:lnTo>
                      <a:pt x="1209" y="893"/>
                    </a:lnTo>
                    <a:lnTo>
                      <a:pt x="1133" y="887"/>
                    </a:lnTo>
                    <a:lnTo>
                      <a:pt x="1058" y="880"/>
                    </a:lnTo>
                    <a:lnTo>
                      <a:pt x="984" y="871"/>
                    </a:lnTo>
                    <a:lnTo>
                      <a:pt x="914" y="862"/>
                    </a:lnTo>
                    <a:lnTo>
                      <a:pt x="844" y="851"/>
                    </a:lnTo>
                    <a:lnTo>
                      <a:pt x="776" y="840"/>
                    </a:lnTo>
                    <a:lnTo>
                      <a:pt x="711" y="828"/>
                    </a:lnTo>
                    <a:lnTo>
                      <a:pt x="648" y="816"/>
                    </a:lnTo>
                    <a:lnTo>
                      <a:pt x="586" y="802"/>
                    </a:lnTo>
                    <a:lnTo>
                      <a:pt x="528" y="788"/>
                    </a:lnTo>
                    <a:lnTo>
                      <a:pt x="472" y="772"/>
                    </a:lnTo>
                    <a:lnTo>
                      <a:pt x="419" y="756"/>
                    </a:lnTo>
                    <a:lnTo>
                      <a:pt x="368" y="739"/>
                    </a:lnTo>
                    <a:lnTo>
                      <a:pt x="320" y="722"/>
                    </a:lnTo>
                    <a:lnTo>
                      <a:pt x="275" y="704"/>
                    </a:lnTo>
                    <a:lnTo>
                      <a:pt x="233" y="685"/>
                    </a:lnTo>
                    <a:lnTo>
                      <a:pt x="195" y="666"/>
                    </a:lnTo>
                    <a:lnTo>
                      <a:pt x="159" y="646"/>
                    </a:lnTo>
                    <a:lnTo>
                      <a:pt x="127" y="625"/>
                    </a:lnTo>
                    <a:lnTo>
                      <a:pt x="98" y="604"/>
                    </a:lnTo>
                    <a:lnTo>
                      <a:pt x="72" y="583"/>
                    </a:lnTo>
                    <a:lnTo>
                      <a:pt x="50" y="561"/>
                    </a:lnTo>
                    <a:lnTo>
                      <a:pt x="33" y="539"/>
                    </a:lnTo>
                    <a:lnTo>
                      <a:pt x="18" y="515"/>
                    </a:lnTo>
                    <a:lnTo>
                      <a:pt x="8" y="492"/>
                    </a:lnTo>
                    <a:lnTo>
                      <a:pt x="2" y="469"/>
                    </a:lnTo>
                    <a:lnTo>
                      <a:pt x="0" y="446"/>
                    </a:lnTo>
                    <a:lnTo>
                      <a:pt x="2" y="421"/>
                    </a:lnTo>
                    <a:lnTo>
                      <a:pt x="8" y="398"/>
                    </a:lnTo>
                    <a:lnTo>
                      <a:pt x="18" y="375"/>
                    </a:lnTo>
                    <a:lnTo>
                      <a:pt x="33" y="353"/>
                    </a:lnTo>
                    <a:lnTo>
                      <a:pt x="50" y="331"/>
                    </a:lnTo>
                    <a:lnTo>
                      <a:pt x="72" y="309"/>
                    </a:lnTo>
                    <a:lnTo>
                      <a:pt x="98" y="288"/>
                    </a:lnTo>
                    <a:lnTo>
                      <a:pt x="127" y="268"/>
                    </a:lnTo>
                    <a:lnTo>
                      <a:pt x="159" y="249"/>
                    </a:lnTo>
                    <a:lnTo>
                      <a:pt x="195" y="230"/>
                    </a:lnTo>
                    <a:lnTo>
                      <a:pt x="233" y="210"/>
                    </a:lnTo>
                    <a:lnTo>
                      <a:pt x="275" y="192"/>
                    </a:lnTo>
                    <a:lnTo>
                      <a:pt x="320" y="175"/>
                    </a:lnTo>
                    <a:lnTo>
                      <a:pt x="368" y="159"/>
                    </a:lnTo>
                    <a:lnTo>
                      <a:pt x="419" y="143"/>
                    </a:lnTo>
                    <a:lnTo>
                      <a:pt x="472" y="128"/>
                    </a:lnTo>
                    <a:lnTo>
                      <a:pt x="528" y="113"/>
                    </a:lnTo>
                    <a:lnTo>
                      <a:pt x="586" y="99"/>
                    </a:lnTo>
                    <a:lnTo>
                      <a:pt x="648" y="86"/>
                    </a:lnTo>
                    <a:lnTo>
                      <a:pt x="711" y="74"/>
                    </a:lnTo>
                    <a:lnTo>
                      <a:pt x="776" y="63"/>
                    </a:lnTo>
                    <a:lnTo>
                      <a:pt x="844" y="53"/>
                    </a:lnTo>
                    <a:lnTo>
                      <a:pt x="914" y="43"/>
                    </a:lnTo>
                    <a:lnTo>
                      <a:pt x="984" y="35"/>
                    </a:lnTo>
                    <a:lnTo>
                      <a:pt x="1058" y="27"/>
                    </a:lnTo>
                    <a:lnTo>
                      <a:pt x="1133" y="20"/>
                    </a:lnTo>
                    <a:lnTo>
                      <a:pt x="1209" y="15"/>
                    </a:lnTo>
                    <a:lnTo>
                      <a:pt x="1287" y="10"/>
                    </a:lnTo>
                    <a:lnTo>
                      <a:pt x="1367" y="6"/>
                    </a:lnTo>
                    <a:lnTo>
                      <a:pt x="1448" y="4"/>
                    </a:lnTo>
                    <a:lnTo>
                      <a:pt x="1530" y="2"/>
                    </a:lnTo>
                    <a:lnTo>
                      <a:pt x="1612" y="0"/>
                    </a:lnTo>
                    <a:lnTo>
                      <a:pt x="1695" y="2"/>
                    </a:lnTo>
                    <a:lnTo>
                      <a:pt x="1777" y="4"/>
                    </a:lnTo>
                    <a:lnTo>
                      <a:pt x="1858" y="6"/>
                    </a:lnTo>
                    <a:lnTo>
                      <a:pt x="1938" y="10"/>
                    </a:lnTo>
                    <a:lnTo>
                      <a:pt x="2015" y="15"/>
                    </a:lnTo>
                    <a:lnTo>
                      <a:pt x="2092" y="20"/>
                    </a:lnTo>
                    <a:lnTo>
                      <a:pt x="2167" y="27"/>
                    </a:lnTo>
                    <a:lnTo>
                      <a:pt x="2241" y="35"/>
                    </a:lnTo>
                    <a:lnTo>
                      <a:pt x="2311" y="43"/>
                    </a:lnTo>
                    <a:lnTo>
                      <a:pt x="2381" y="53"/>
                    </a:lnTo>
                    <a:lnTo>
                      <a:pt x="2449" y="63"/>
                    </a:lnTo>
                    <a:lnTo>
                      <a:pt x="2514" y="74"/>
                    </a:lnTo>
                    <a:lnTo>
                      <a:pt x="2578" y="86"/>
                    </a:lnTo>
                    <a:lnTo>
                      <a:pt x="2639" y="99"/>
                    </a:lnTo>
                    <a:lnTo>
                      <a:pt x="2697" y="113"/>
                    </a:lnTo>
                    <a:lnTo>
                      <a:pt x="2753" y="128"/>
                    </a:lnTo>
                    <a:lnTo>
                      <a:pt x="2806" y="143"/>
                    </a:lnTo>
                    <a:lnTo>
                      <a:pt x="2857" y="159"/>
                    </a:lnTo>
                    <a:lnTo>
                      <a:pt x="2905" y="175"/>
                    </a:lnTo>
                    <a:lnTo>
                      <a:pt x="2950" y="192"/>
                    </a:lnTo>
                    <a:lnTo>
                      <a:pt x="2992" y="210"/>
                    </a:lnTo>
                    <a:lnTo>
                      <a:pt x="3030" y="230"/>
                    </a:lnTo>
                    <a:lnTo>
                      <a:pt x="3067" y="249"/>
                    </a:lnTo>
                    <a:lnTo>
                      <a:pt x="3099" y="268"/>
                    </a:lnTo>
                    <a:lnTo>
                      <a:pt x="3127" y="288"/>
                    </a:lnTo>
                    <a:lnTo>
                      <a:pt x="3153" y="309"/>
                    </a:lnTo>
                    <a:lnTo>
                      <a:pt x="3175" y="331"/>
                    </a:lnTo>
                    <a:lnTo>
                      <a:pt x="3193" y="353"/>
                    </a:lnTo>
                    <a:lnTo>
                      <a:pt x="3207" y="375"/>
                    </a:lnTo>
                    <a:lnTo>
                      <a:pt x="3217" y="398"/>
                    </a:lnTo>
                    <a:lnTo>
                      <a:pt x="3223" y="421"/>
                    </a:lnTo>
                    <a:lnTo>
                      <a:pt x="3225" y="4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71000" y="6504840"/>
                <a:ext cx="353880" cy="107640"/>
              </a:xfrm>
              <a:custGeom>
                <a:avLst/>
                <a:gdLst/>
                <a:ahLst/>
                <a:rect l="l" t="t" r="r" b="b"/>
                <a:pathLst>
                  <a:path w="3222" h="905">
                    <a:moveTo>
                      <a:pt x="3222" y="444"/>
                    </a:moveTo>
                    <a:lnTo>
                      <a:pt x="3219" y="467"/>
                    </a:lnTo>
                    <a:lnTo>
                      <a:pt x="3213" y="490"/>
                    </a:lnTo>
                    <a:lnTo>
                      <a:pt x="3203" y="513"/>
                    </a:lnTo>
                    <a:lnTo>
                      <a:pt x="3189" y="537"/>
                    </a:lnTo>
                    <a:lnTo>
                      <a:pt x="3171" y="559"/>
                    </a:lnTo>
                    <a:lnTo>
                      <a:pt x="3150" y="581"/>
                    </a:lnTo>
                    <a:lnTo>
                      <a:pt x="3124" y="602"/>
                    </a:lnTo>
                    <a:lnTo>
                      <a:pt x="3095" y="623"/>
                    </a:lnTo>
                    <a:lnTo>
                      <a:pt x="3063" y="644"/>
                    </a:lnTo>
                    <a:lnTo>
                      <a:pt x="3027" y="663"/>
                    </a:lnTo>
                    <a:lnTo>
                      <a:pt x="2989" y="683"/>
                    </a:lnTo>
                    <a:lnTo>
                      <a:pt x="2947" y="701"/>
                    </a:lnTo>
                    <a:lnTo>
                      <a:pt x="2902" y="719"/>
                    </a:lnTo>
                    <a:lnTo>
                      <a:pt x="2854" y="736"/>
                    </a:lnTo>
                    <a:lnTo>
                      <a:pt x="2803" y="754"/>
                    </a:lnTo>
                    <a:lnTo>
                      <a:pt x="2750" y="770"/>
                    </a:lnTo>
                    <a:lnTo>
                      <a:pt x="2694" y="785"/>
                    </a:lnTo>
                    <a:lnTo>
                      <a:pt x="2636" y="799"/>
                    </a:lnTo>
                    <a:lnTo>
                      <a:pt x="2575" y="813"/>
                    </a:lnTo>
                    <a:lnTo>
                      <a:pt x="2511" y="826"/>
                    </a:lnTo>
                    <a:lnTo>
                      <a:pt x="2446" y="837"/>
                    </a:lnTo>
                    <a:lnTo>
                      <a:pt x="2379" y="848"/>
                    </a:lnTo>
                    <a:lnTo>
                      <a:pt x="2309" y="859"/>
                    </a:lnTo>
                    <a:lnTo>
                      <a:pt x="2238" y="869"/>
                    </a:lnTo>
                    <a:lnTo>
                      <a:pt x="2165" y="877"/>
                    </a:lnTo>
                    <a:lnTo>
                      <a:pt x="2090" y="884"/>
                    </a:lnTo>
                    <a:lnTo>
                      <a:pt x="2013" y="890"/>
                    </a:lnTo>
                    <a:lnTo>
                      <a:pt x="1936" y="895"/>
                    </a:lnTo>
                    <a:lnTo>
                      <a:pt x="1856" y="899"/>
                    </a:lnTo>
                    <a:lnTo>
                      <a:pt x="1775" y="902"/>
                    </a:lnTo>
                    <a:lnTo>
                      <a:pt x="1693" y="904"/>
                    </a:lnTo>
                    <a:lnTo>
                      <a:pt x="1610" y="905"/>
                    </a:lnTo>
                    <a:lnTo>
                      <a:pt x="1528" y="904"/>
                    </a:lnTo>
                    <a:lnTo>
                      <a:pt x="1446" y="902"/>
                    </a:lnTo>
                    <a:lnTo>
                      <a:pt x="1365" y="899"/>
                    </a:lnTo>
                    <a:lnTo>
                      <a:pt x="1286" y="895"/>
                    </a:lnTo>
                    <a:lnTo>
                      <a:pt x="1207" y="890"/>
                    </a:lnTo>
                    <a:lnTo>
                      <a:pt x="1132" y="884"/>
                    </a:lnTo>
                    <a:lnTo>
                      <a:pt x="1056" y="877"/>
                    </a:lnTo>
                    <a:lnTo>
                      <a:pt x="983" y="869"/>
                    </a:lnTo>
                    <a:lnTo>
                      <a:pt x="912" y="859"/>
                    </a:lnTo>
                    <a:lnTo>
                      <a:pt x="843" y="848"/>
                    </a:lnTo>
                    <a:lnTo>
                      <a:pt x="775" y="837"/>
                    </a:lnTo>
                    <a:lnTo>
                      <a:pt x="710" y="826"/>
                    </a:lnTo>
                    <a:lnTo>
                      <a:pt x="646" y="813"/>
                    </a:lnTo>
                    <a:lnTo>
                      <a:pt x="585" y="799"/>
                    </a:lnTo>
                    <a:lnTo>
                      <a:pt x="527" y="785"/>
                    </a:lnTo>
                    <a:lnTo>
                      <a:pt x="471" y="770"/>
                    </a:lnTo>
                    <a:lnTo>
                      <a:pt x="418" y="754"/>
                    </a:lnTo>
                    <a:lnTo>
                      <a:pt x="367" y="736"/>
                    </a:lnTo>
                    <a:lnTo>
                      <a:pt x="319" y="719"/>
                    </a:lnTo>
                    <a:lnTo>
                      <a:pt x="274" y="701"/>
                    </a:lnTo>
                    <a:lnTo>
                      <a:pt x="233" y="683"/>
                    </a:lnTo>
                    <a:lnTo>
                      <a:pt x="194" y="663"/>
                    </a:lnTo>
                    <a:lnTo>
                      <a:pt x="158" y="644"/>
                    </a:lnTo>
                    <a:lnTo>
                      <a:pt x="126" y="623"/>
                    </a:lnTo>
                    <a:lnTo>
                      <a:pt x="97" y="602"/>
                    </a:lnTo>
                    <a:lnTo>
                      <a:pt x="71" y="581"/>
                    </a:lnTo>
                    <a:lnTo>
                      <a:pt x="50" y="559"/>
                    </a:lnTo>
                    <a:lnTo>
                      <a:pt x="32" y="537"/>
                    </a:lnTo>
                    <a:lnTo>
                      <a:pt x="18" y="513"/>
                    </a:lnTo>
                    <a:lnTo>
                      <a:pt x="8" y="490"/>
                    </a:lnTo>
                    <a:lnTo>
                      <a:pt x="2" y="467"/>
                    </a:lnTo>
                    <a:lnTo>
                      <a:pt x="0" y="444"/>
                    </a:lnTo>
                    <a:lnTo>
                      <a:pt x="2" y="419"/>
                    </a:lnTo>
                    <a:lnTo>
                      <a:pt x="8" y="396"/>
                    </a:lnTo>
                    <a:lnTo>
                      <a:pt x="18" y="374"/>
                    </a:lnTo>
                    <a:lnTo>
                      <a:pt x="32" y="351"/>
                    </a:lnTo>
                    <a:lnTo>
                      <a:pt x="50" y="330"/>
                    </a:lnTo>
                    <a:lnTo>
                      <a:pt x="71" y="307"/>
                    </a:lnTo>
                    <a:lnTo>
                      <a:pt x="97" y="287"/>
                    </a:lnTo>
                    <a:lnTo>
                      <a:pt x="126" y="267"/>
                    </a:lnTo>
                    <a:lnTo>
                      <a:pt x="158" y="247"/>
                    </a:lnTo>
                    <a:lnTo>
                      <a:pt x="194" y="228"/>
                    </a:lnTo>
                    <a:lnTo>
                      <a:pt x="233" y="209"/>
                    </a:lnTo>
                    <a:lnTo>
                      <a:pt x="274" y="191"/>
                    </a:lnTo>
                    <a:lnTo>
                      <a:pt x="319" y="174"/>
                    </a:lnTo>
                    <a:lnTo>
                      <a:pt x="367" y="157"/>
                    </a:lnTo>
                    <a:lnTo>
                      <a:pt x="418" y="141"/>
                    </a:lnTo>
                    <a:lnTo>
                      <a:pt x="471" y="126"/>
                    </a:lnTo>
                    <a:lnTo>
                      <a:pt x="527" y="112"/>
                    </a:lnTo>
                    <a:lnTo>
                      <a:pt x="585" y="97"/>
                    </a:lnTo>
                    <a:lnTo>
                      <a:pt x="646" y="85"/>
                    </a:lnTo>
                    <a:lnTo>
                      <a:pt x="710" y="73"/>
                    </a:lnTo>
                    <a:lnTo>
                      <a:pt x="775" y="62"/>
                    </a:lnTo>
                    <a:lnTo>
                      <a:pt x="843" y="51"/>
                    </a:lnTo>
                    <a:lnTo>
                      <a:pt x="912" y="42"/>
                    </a:lnTo>
                    <a:lnTo>
                      <a:pt x="983" y="33"/>
                    </a:lnTo>
                    <a:lnTo>
                      <a:pt x="1056" y="26"/>
                    </a:lnTo>
                    <a:lnTo>
                      <a:pt x="1132" y="19"/>
                    </a:lnTo>
                    <a:lnTo>
                      <a:pt x="1207" y="14"/>
                    </a:lnTo>
                    <a:lnTo>
                      <a:pt x="1286" y="9"/>
                    </a:lnTo>
                    <a:lnTo>
                      <a:pt x="1365" y="5"/>
                    </a:lnTo>
                    <a:lnTo>
                      <a:pt x="1446" y="2"/>
                    </a:lnTo>
                    <a:lnTo>
                      <a:pt x="1528" y="1"/>
                    </a:lnTo>
                    <a:lnTo>
                      <a:pt x="1610" y="0"/>
                    </a:lnTo>
                    <a:lnTo>
                      <a:pt x="1693" y="1"/>
                    </a:lnTo>
                    <a:lnTo>
                      <a:pt x="1775" y="2"/>
                    </a:lnTo>
                    <a:lnTo>
                      <a:pt x="1856" y="5"/>
                    </a:lnTo>
                    <a:lnTo>
                      <a:pt x="1936" y="9"/>
                    </a:lnTo>
                    <a:lnTo>
                      <a:pt x="2013" y="14"/>
                    </a:lnTo>
                    <a:lnTo>
                      <a:pt x="2090" y="19"/>
                    </a:lnTo>
                    <a:lnTo>
                      <a:pt x="2165" y="26"/>
                    </a:lnTo>
                    <a:lnTo>
                      <a:pt x="2238" y="33"/>
                    </a:lnTo>
                    <a:lnTo>
                      <a:pt x="2309" y="42"/>
                    </a:lnTo>
                    <a:lnTo>
                      <a:pt x="2379" y="51"/>
                    </a:lnTo>
                    <a:lnTo>
                      <a:pt x="2446" y="62"/>
                    </a:lnTo>
                    <a:lnTo>
                      <a:pt x="2511" y="73"/>
                    </a:lnTo>
                    <a:lnTo>
                      <a:pt x="2575" y="85"/>
                    </a:lnTo>
                    <a:lnTo>
                      <a:pt x="2636" y="97"/>
                    </a:lnTo>
                    <a:lnTo>
                      <a:pt x="2694" y="112"/>
                    </a:lnTo>
                    <a:lnTo>
                      <a:pt x="2750" y="126"/>
                    </a:lnTo>
                    <a:lnTo>
                      <a:pt x="2803" y="141"/>
                    </a:lnTo>
                    <a:lnTo>
                      <a:pt x="2854" y="157"/>
                    </a:lnTo>
                    <a:lnTo>
                      <a:pt x="2902" y="174"/>
                    </a:lnTo>
                    <a:lnTo>
                      <a:pt x="2947" y="191"/>
                    </a:lnTo>
                    <a:lnTo>
                      <a:pt x="2989" y="209"/>
                    </a:lnTo>
                    <a:lnTo>
                      <a:pt x="3027" y="228"/>
                    </a:lnTo>
                    <a:lnTo>
                      <a:pt x="3063" y="247"/>
                    </a:lnTo>
                    <a:lnTo>
                      <a:pt x="3095" y="267"/>
                    </a:lnTo>
                    <a:lnTo>
                      <a:pt x="3124" y="287"/>
                    </a:lnTo>
                    <a:lnTo>
                      <a:pt x="3150" y="307"/>
                    </a:lnTo>
                    <a:lnTo>
                      <a:pt x="3171" y="330"/>
                    </a:lnTo>
                    <a:lnTo>
                      <a:pt x="3189" y="351"/>
                    </a:lnTo>
                    <a:lnTo>
                      <a:pt x="3203" y="374"/>
                    </a:lnTo>
                    <a:lnTo>
                      <a:pt x="3213" y="396"/>
                    </a:lnTo>
                    <a:lnTo>
                      <a:pt x="3219" y="419"/>
                    </a:lnTo>
                    <a:lnTo>
                      <a:pt x="3222" y="4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971000" y="6504840"/>
                <a:ext cx="353880" cy="107640"/>
              </a:xfrm>
              <a:custGeom>
                <a:avLst/>
                <a:gdLst/>
                <a:ahLst/>
                <a:rect l="l" t="t" r="r" b="b"/>
                <a:pathLst>
                  <a:path w="3219" h="903">
                    <a:moveTo>
                      <a:pt x="3219" y="443"/>
                    </a:moveTo>
                    <a:lnTo>
                      <a:pt x="3217" y="466"/>
                    </a:lnTo>
                    <a:lnTo>
                      <a:pt x="3211" y="489"/>
                    </a:lnTo>
                    <a:lnTo>
                      <a:pt x="3201" y="512"/>
                    </a:lnTo>
                    <a:lnTo>
                      <a:pt x="3187" y="536"/>
                    </a:lnTo>
                    <a:lnTo>
                      <a:pt x="3169" y="558"/>
                    </a:lnTo>
                    <a:lnTo>
                      <a:pt x="3148" y="579"/>
                    </a:lnTo>
                    <a:lnTo>
                      <a:pt x="3121" y="600"/>
                    </a:lnTo>
                    <a:lnTo>
                      <a:pt x="3093" y="621"/>
                    </a:lnTo>
                    <a:lnTo>
                      <a:pt x="3061" y="642"/>
                    </a:lnTo>
                    <a:lnTo>
                      <a:pt x="3025" y="662"/>
                    </a:lnTo>
                    <a:lnTo>
                      <a:pt x="2986" y="681"/>
                    </a:lnTo>
                    <a:lnTo>
                      <a:pt x="2945" y="700"/>
                    </a:lnTo>
                    <a:lnTo>
                      <a:pt x="2899" y="717"/>
                    </a:lnTo>
                    <a:lnTo>
                      <a:pt x="2852" y="735"/>
                    </a:lnTo>
                    <a:lnTo>
                      <a:pt x="2801" y="752"/>
                    </a:lnTo>
                    <a:lnTo>
                      <a:pt x="2748" y="768"/>
                    </a:lnTo>
                    <a:lnTo>
                      <a:pt x="2692" y="783"/>
                    </a:lnTo>
                    <a:lnTo>
                      <a:pt x="2634" y="798"/>
                    </a:lnTo>
                    <a:lnTo>
                      <a:pt x="2573" y="811"/>
                    </a:lnTo>
                    <a:lnTo>
                      <a:pt x="2509" y="824"/>
                    </a:lnTo>
                    <a:lnTo>
                      <a:pt x="2445" y="836"/>
                    </a:lnTo>
                    <a:lnTo>
                      <a:pt x="2377" y="847"/>
                    </a:lnTo>
                    <a:lnTo>
                      <a:pt x="2307" y="858"/>
                    </a:lnTo>
                    <a:lnTo>
                      <a:pt x="2237" y="867"/>
                    </a:lnTo>
                    <a:lnTo>
                      <a:pt x="2163" y="875"/>
                    </a:lnTo>
                    <a:lnTo>
                      <a:pt x="2088" y="882"/>
                    </a:lnTo>
                    <a:lnTo>
                      <a:pt x="2011" y="888"/>
                    </a:lnTo>
                    <a:lnTo>
                      <a:pt x="1934" y="893"/>
                    </a:lnTo>
                    <a:lnTo>
                      <a:pt x="1855" y="897"/>
                    </a:lnTo>
                    <a:lnTo>
                      <a:pt x="1774" y="900"/>
                    </a:lnTo>
                    <a:lnTo>
                      <a:pt x="1692" y="902"/>
                    </a:lnTo>
                    <a:lnTo>
                      <a:pt x="1609" y="903"/>
                    </a:lnTo>
                    <a:lnTo>
                      <a:pt x="1527" y="902"/>
                    </a:lnTo>
                    <a:lnTo>
                      <a:pt x="1445" y="900"/>
                    </a:lnTo>
                    <a:lnTo>
                      <a:pt x="1364" y="897"/>
                    </a:lnTo>
                    <a:lnTo>
                      <a:pt x="1285" y="893"/>
                    </a:lnTo>
                    <a:lnTo>
                      <a:pt x="1208" y="888"/>
                    </a:lnTo>
                    <a:lnTo>
                      <a:pt x="1131" y="882"/>
                    </a:lnTo>
                    <a:lnTo>
                      <a:pt x="1056" y="875"/>
                    </a:lnTo>
                    <a:lnTo>
                      <a:pt x="983" y="867"/>
                    </a:lnTo>
                    <a:lnTo>
                      <a:pt x="912" y="858"/>
                    </a:lnTo>
                    <a:lnTo>
                      <a:pt x="842" y="847"/>
                    </a:lnTo>
                    <a:lnTo>
                      <a:pt x="774" y="836"/>
                    </a:lnTo>
                    <a:lnTo>
                      <a:pt x="710" y="824"/>
                    </a:lnTo>
                    <a:lnTo>
                      <a:pt x="646" y="811"/>
                    </a:lnTo>
                    <a:lnTo>
                      <a:pt x="585" y="798"/>
                    </a:lnTo>
                    <a:lnTo>
                      <a:pt x="527" y="783"/>
                    </a:lnTo>
                    <a:lnTo>
                      <a:pt x="471" y="768"/>
                    </a:lnTo>
                    <a:lnTo>
                      <a:pt x="418" y="752"/>
                    </a:lnTo>
                    <a:lnTo>
                      <a:pt x="367" y="735"/>
                    </a:lnTo>
                    <a:lnTo>
                      <a:pt x="320" y="717"/>
                    </a:lnTo>
                    <a:lnTo>
                      <a:pt x="274" y="700"/>
                    </a:lnTo>
                    <a:lnTo>
                      <a:pt x="233" y="681"/>
                    </a:lnTo>
                    <a:lnTo>
                      <a:pt x="194" y="662"/>
                    </a:lnTo>
                    <a:lnTo>
                      <a:pt x="158" y="642"/>
                    </a:lnTo>
                    <a:lnTo>
                      <a:pt x="126" y="621"/>
                    </a:lnTo>
                    <a:lnTo>
                      <a:pt x="98" y="600"/>
                    </a:lnTo>
                    <a:lnTo>
                      <a:pt x="72" y="579"/>
                    </a:lnTo>
                    <a:lnTo>
                      <a:pt x="50" y="558"/>
                    </a:lnTo>
                    <a:lnTo>
                      <a:pt x="32" y="536"/>
                    </a:lnTo>
                    <a:lnTo>
                      <a:pt x="18" y="512"/>
                    </a:lnTo>
                    <a:lnTo>
                      <a:pt x="8" y="489"/>
                    </a:lnTo>
                    <a:lnTo>
                      <a:pt x="2" y="466"/>
                    </a:lnTo>
                    <a:lnTo>
                      <a:pt x="0" y="443"/>
                    </a:lnTo>
                    <a:lnTo>
                      <a:pt x="2" y="418"/>
                    </a:lnTo>
                    <a:lnTo>
                      <a:pt x="8" y="395"/>
                    </a:lnTo>
                    <a:lnTo>
                      <a:pt x="18" y="373"/>
                    </a:lnTo>
                    <a:lnTo>
                      <a:pt x="32" y="351"/>
                    </a:lnTo>
                    <a:lnTo>
                      <a:pt x="50" y="329"/>
                    </a:lnTo>
                    <a:lnTo>
                      <a:pt x="72" y="307"/>
                    </a:lnTo>
                    <a:lnTo>
                      <a:pt x="98" y="286"/>
                    </a:lnTo>
                    <a:lnTo>
                      <a:pt x="126" y="266"/>
                    </a:lnTo>
                    <a:lnTo>
                      <a:pt x="158" y="246"/>
                    </a:lnTo>
                    <a:lnTo>
                      <a:pt x="194" y="227"/>
                    </a:lnTo>
                    <a:lnTo>
                      <a:pt x="233" y="208"/>
                    </a:lnTo>
                    <a:lnTo>
                      <a:pt x="274" y="190"/>
                    </a:lnTo>
                    <a:lnTo>
                      <a:pt x="320" y="173"/>
                    </a:lnTo>
                    <a:lnTo>
                      <a:pt x="367" y="157"/>
                    </a:lnTo>
                    <a:lnTo>
                      <a:pt x="418" y="141"/>
                    </a:lnTo>
                    <a:lnTo>
                      <a:pt x="471" y="126"/>
                    </a:lnTo>
                    <a:lnTo>
                      <a:pt x="527" y="112"/>
                    </a:lnTo>
                    <a:lnTo>
                      <a:pt x="585" y="97"/>
                    </a:lnTo>
                    <a:lnTo>
                      <a:pt x="646" y="84"/>
                    </a:lnTo>
                    <a:lnTo>
                      <a:pt x="710" y="73"/>
                    </a:lnTo>
                    <a:lnTo>
                      <a:pt x="774" y="61"/>
                    </a:lnTo>
                    <a:lnTo>
                      <a:pt x="842" y="51"/>
                    </a:lnTo>
                    <a:lnTo>
                      <a:pt x="912" y="42"/>
                    </a:lnTo>
                    <a:lnTo>
                      <a:pt x="983" y="33"/>
                    </a:lnTo>
                    <a:lnTo>
                      <a:pt x="1056" y="26"/>
                    </a:lnTo>
                    <a:lnTo>
                      <a:pt x="1131" y="19"/>
                    </a:lnTo>
                    <a:lnTo>
                      <a:pt x="1208" y="13"/>
                    </a:lnTo>
                    <a:lnTo>
                      <a:pt x="1285" y="9"/>
                    </a:lnTo>
                    <a:lnTo>
                      <a:pt x="1364" y="5"/>
                    </a:lnTo>
                    <a:lnTo>
                      <a:pt x="1445" y="2"/>
                    </a:lnTo>
                    <a:lnTo>
                      <a:pt x="1527" y="1"/>
                    </a:lnTo>
                    <a:lnTo>
                      <a:pt x="1609" y="0"/>
                    </a:lnTo>
                    <a:lnTo>
                      <a:pt x="1692" y="1"/>
                    </a:lnTo>
                    <a:lnTo>
                      <a:pt x="1774" y="2"/>
                    </a:lnTo>
                    <a:lnTo>
                      <a:pt x="1855" y="5"/>
                    </a:lnTo>
                    <a:lnTo>
                      <a:pt x="1934" y="9"/>
                    </a:lnTo>
                    <a:lnTo>
                      <a:pt x="2011" y="13"/>
                    </a:lnTo>
                    <a:lnTo>
                      <a:pt x="2088" y="19"/>
                    </a:lnTo>
                    <a:lnTo>
                      <a:pt x="2163" y="26"/>
                    </a:lnTo>
                    <a:lnTo>
                      <a:pt x="2237" y="33"/>
                    </a:lnTo>
                    <a:lnTo>
                      <a:pt x="2307" y="42"/>
                    </a:lnTo>
                    <a:lnTo>
                      <a:pt x="2377" y="51"/>
                    </a:lnTo>
                    <a:lnTo>
                      <a:pt x="2445" y="61"/>
                    </a:lnTo>
                    <a:lnTo>
                      <a:pt x="2509" y="73"/>
                    </a:lnTo>
                    <a:lnTo>
                      <a:pt x="2573" y="84"/>
                    </a:lnTo>
                    <a:lnTo>
                      <a:pt x="2634" y="97"/>
                    </a:lnTo>
                    <a:lnTo>
                      <a:pt x="2692" y="112"/>
                    </a:lnTo>
                    <a:lnTo>
                      <a:pt x="2748" y="126"/>
                    </a:lnTo>
                    <a:lnTo>
                      <a:pt x="2801" y="141"/>
                    </a:lnTo>
                    <a:lnTo>
                      <a:pt x="2852" y="157"/>
                    </a:lnTo>
                    <a:lnTo>
                      <a:pt x="2899" y="173"/>
                    </a:lnTo>
                    <a:lnTo>
                      <a:pt x="2945" y="190"/>
                    </a:lnTo>
                    <a:lnTo>
                      <a:pt x="2986" y="208"/>
                    </a:lnTo>
                    <a:lnTo>
                      <a:pt x="3025" y="227"/>
                    </a:lnTo>
                    <a:lnTo>
                      <a:pt x="3061" y="246"/>
                    </a:lnTo>
                    <a:lnTo>
                      <a:pt x="3093" y="266"/>
                    </a:lnTo>
                    <a:lnTo>
                      <a:pt x="3121" y="286"/>
                    </a:lnTo>
                    <a:lnTo>
                      <a:pt x="3148" y="307"/>
                    </a:lnTo>
                    <a:lnTo>
                      <a:pt x="3169" y="329"/>
                    </a:lnTo>
                    <a:lnTo>
                      <a:pt x="3187" y="351"/>
                    </a:lnTo>
                    <a:lnTo>
                      <a:pt x="3201" y="373"/>
                    </a:lnTo>
                    <a:lnTo>
                      <a:pt x="3211" y="395"/>
                    </a:lnTo>
                    <a:lnTo>
                      <a:pt x="3217" y="418"/>
                    </a:lnTo>
                    <a:lnTo>
                      <a:pt x="3219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971000" y="6504840"/>
                <a:ext cx="353880" cy="107640"/>
              </a:xfrm>
              <a:custGeom>
                <a:avLst/>
                <a:gdLst/>
                <a:ahLst/>
                <a:rect l="l" t="t" r="r" b="b"/>
                <a:pathLst>
                  <a:path w="3217" h="901">
                    <a:moveTo>
                      <a:pt x="3217" y="442"/>
                    </a:moveTo>
                    <a:lnTo>
                      <a:pt x="3215" y="465"/>
                    </a:lnTo>
                    <a:lnTo>
                      <a:pt x="3209" y="488"/>
                    </a:lnTo>
                    <a:lnTo>
                      <a:pt x="3198" y="511"/>
                    </a:lnTo>
                    <a:lnTo>
                      <a:pt x="3184" y="534"/>
                    </a:lnTo>
                    <a:lnTo>
                      <a:pt x="3167" y="556"/>
                    </a:lnTo>
                    <a:lnTo>
                      <a:pt x="3145" y="578"/>
                    </a:lnTo>
                    <a:lnTo>
                      <a:pt x="3119" y="599"/>
                    </a:lnTo>
                    <a:lnTo>
                      <a:pt x="3091" y="620"/>
                    </a:lnTo>
                    <a:lnTo>
                      <a:pt x="3059" y="641"/>
                    </a:lnTo>
                    <a:lnTo>
                      <a:pt x="3023" y="661"/>
                    </a:lnTo>
                    <a:lnTo>
                      <a:pt x="2984" y="680"/>
                    </a:lnTo>
                    <a:lnTo>
                      <a:pt x="2943" y="698"/>
                    </a:lnTo>
                    <a:lnTo>
                      <a:pt x="2897" y="716"/>
                    </a:lnTo>
                    <a:lnTo>
                      <a:pt x="2850" y="733"/>
                    </a:lnTo>
                    <a:lnTo>
                      <a:pt x="2799" y="751"/>
                    </a:lnTo>
                    <a:lnTo>
                      <a:pt x="2746" y="766"/>
                    </a:lnTo>
                    <a:lnTo>
                      <a:pt x="2690" y="782"/>
                    </a:lnTo>
                    <a:lnTo>
                      <a:pt x="2632" y="796"/>
                    </a:lnTo>
                    <a:lnTo>
                      <a:pt x="2571" y="809"/>
                    </a:lnTo>
                    <a:lnTo>
                      <a:pt x="2508" y="822"/>
                    </a:lnTo>
                    <a:lnTo>
                      <a:pt x="2443" y="834"/>
                    </a:lnTo>
                    <a:lnTo>
                      <a:pt x="2375" y="845"/>
                    </a:lnTo>
                    <a:lnTo>
                      <a:pt x="2306" y="856"/>
                    </a:lnTo>
                    <a:lnTo>
                      <a:pt x="2235" y="865"/>
                    </a:lnTo>
                    <a:lnTo>
                      <a:pt x="2162" y="873"/>
                    </a:lnTo>
                    <a:lnTo>
                      <a:pt x="2087" y="880"/>
                    </a:lnTo>
                    <a:lnTo>
                      <a:pt x="2010" y="886"/>
                    </a:lnTo>
                    <a:lnTo>
                      <a:pt x="1933" y="891"/>
                    </a:lnTo>
                    <a:lnTo>
                      <a:pt x="1854" y="895"/>
                    </a:lnTo>
                    <a:lnTo>
                      <a:pt x="1773" y="898"/>
                    </a:lnTo>
                    <a:lnTo>
                      <a:pt x="1691" y="900"/>
                    </a:lnTo>
                    <a:lnTo>
                      <a:pt x="1608" y="901"/>
                    </a:lnTo>
                    <a:lnTo>
                      <a:pt x="1526" y="900"/>
                    </a:lnTo>
                    <a:lnTo>
                      <a:pt x="1444" y="898"/>
                    </a:lnTo>
                    <a:lnTo>
                      <a:pt x="1364" y="895"/>
                    </a:lnTo>
                    <a:lnTo>
                      <a:pt x="1284" y="891"/>
                    </a:lnTo>
                    <a:lnTo>
                      <a:pt x="1207" y="886"/>
                    </a:lnTo>
                    <a:lnTo>
                      <a:pt x="1130" y="880"/>
                    </a:lnTo>
                    <a:lnTo>
                      <a:pt x="1055" y="873"/>
                    </a:lnTo>
                    <a:lnTo>
                      <a:pt x="982" y="865"/>
                    </a:lnTo>
                    <a:lnTo>
                      <a:pt x="912" y="856"/>
                    </a:lnTo>
                    <a:lnTo>
                      <a:pt x="842" y="845"/>
                    </a:lnTo>
                    <a:lnTo>
                      <a:pt x="774" y="834"/>
                    </a:lnTo>
                    <a:lnTo>
                      <a:pt x="710" y="822"/>
                    </a:lnTo>
                    <a:lnTo>
                      <a:pt x="646" y="809"/>
                    </a:lnTo>
                    <a:lnTo>
                      <a:pt x="585" y="796"/>
                    </a:lnTo>
                    <a:lnTo>
                      <a:pt x="527" y="782"/>
                    </a:lnTo>
                    <a:lnTo>
                      <a:pt x="471" y="766"/>
                    </a:lnTo>
                    <a:lnTo>
                      <a:pt x="418" y="751"/>
                    </a:lnTo>
                    <a:lnTo>
                      <a:pt x="367" y="733"/>
                    </a:lnTo>
                    <a:lnTo>
                      <a:pt x="320" y="716"/>
                    </a:lnTo>
                    <a:lnTo>
                      <a:pt x="274" y="698"/>
                    </a:lnTo>
                    <a:lnTo>
                      <a:pt x="233" y="680"/>
                    </a:lnTo>
                    <a:lnTo>
                      <a:pt x="195" y="661"/>
                    </a:lnTo>
                    <a:lnTo>
                      <a:pt x="158" y="641"/>
                    </a:lnTo>
                    <a:lnTo>
                      <a:pt x="127" y="620"/>
                    </a:lnTo>
                    <a:lnTo>
                      <a:pt x="98" y="599"/>
                    </a:lnTo>
                    <a:lnTo>
                      <a:pt x="72" y="578"/>
                    </a:lnTo>
                    <a:lnTo>
                      <a:pt x="51" y="556"/>
                    </a:lnTo>
                    <a:lnTo>
                      <a:pt x="33" y="534"/>
                    </a:lnTo>
                    <a:lnTo>
                      <a:pt x="19" y="511"/>
                    </a:lnTo>
                    <a:lnTo>
                      <a:pt x="9" y="488"/>
                    </a:lnTo>
                    <a:lnTo>
                      <a:pt x="2" y="465"/>
                    </a:lnTo>
                    <a:lnTo>
                      <a:pt x="0" y="442"/>
                    </a:lnTo>
                    <a:lnTo>
                      <a:pt x="2" y="417"/>
                    </a:lnTo>
                    <a:lnTo>
                      <a:pt x="9" y="394"/>
                    </a:lnTo>
                    <a:lnTo>
                      <a:pt x="19" y="372"/>
                    </a:lnTo>
                    <a:lnTo>
                      <a:pt x="33" y="350"/>
                    </a:lnTo>
                    <a:lnTo>
                      <a:pt x="51" y="328"/>
                    </a:lnTo>
                    <a:lnTo>
                      <a:pt x="72" y="306"/>
                    </a:lnTo>
                    <a:lnTo>
                      <a:pt x="98" y="285"/>
                    </a:lnTo>
                    <a:lnTo>
                      <a:pt x="127" y="265"/>
                    </a:lnTo>
                    <a:lnTo>
                      <a:pt x="158" y="246"/>
                    </a:lnTo>
                    <a:lnTo>
                      <a:pt x="195" y="227"/>
                    </a:lnTo>
                    <a:lnTo>
                      <a:pt x="233" y="208"/>
                    </a:lnTo>
                    <a:lnTo>
                      <a:pt x="274" y="190"/>
                    </a:lnTo>
                    <a:lnTo>
                      <a:pt x="320" y="173"/>
                    </a:lnTo>
                    <a:lnTo>
                      <a:pt x="367" y="156"/>
                    </a:lnTo>
                    <a:lnTo>
                      <a:pt x="418" y="141"/>
                    </a:lnTo>
                    <a:lnTo>
                      <a:pt x="471" y="126"/>
                    </a:lnTo>
                    <a:lnTo>
                      <a:pt x="527" y="111"/>
                    </a:lnTo>
                    <a:lnTo>
                      <a:pt x="585" y="97"/>
                    </a:lnTo>
                    <a:lnTo>
                      <a:pt x="646" y="84"/>
                    </a:lnTo>
                    <a:lnTo>
                      <a:pt x="710" y="72"/>
                    </a:lnTo>
                    <a:lnTo>
                      <a:pt x="774" y="61"/>
                    </a:lnTo>
                    <a:lnTo>
                      <a:pt x="842" y="51"/>
                    </a:lnTo>
                    <a:lnTo>
                      <a:pt x="912" y="42"/>
                    </a:lnTo>
                    <a:lnTo>
                      <a:pt x="982" y="33"/>
                    </a:lnTo>
                    <a:lnTo>
                      <a:pt x="1055" y="26"/>
                    </a:lnTo>
                    <a:lnTo>
                      <a:pt x="1130" y="19"/>
                    </a:lnTo>
                    <a:lnTo>
                      <a:pt x="1207" y="13"/>
                    </a:lnTo>
                    <a:lnTo>
                      <a:pt x="1284" y="9"/>
                    </a:lnTo>
                    <a:lnTo>
                      <a:pt x="1364" y="5"/>
                    </a:lnTo>
                    <a:lnTo>
                      <a:pt x="1444" y="2"/>
                    </a:lnTo>
                    <a:lnTo>
                      <a:pt x="1526" y="1"/>
                    </a:lnTo>
                    <a:lnTo>
                      <a:pt x="1608" y="0"/>
                    </a:lnTo>
                    <a:lnTo>
                      <a:pt x="1691" y="1"/>
                    </a:lnTo>
                    <a:lnTo>
                      <a:pt x="1773" y="2"/>
                    </a:lnTo>
                    <a:lnTo>
                      <a:pt x="1854" y="5"/>
                    </a:lnTo>
                    <a:lnTo>
                      <a:pt x="1933" y="9"/>
                    </a:lnTo>
                    <a:lnTo>
                      <a:pt x="2010" y="13"/>
                    </a:lnTo>
                    <a:lnTo>
                      <a:pt x="2087" y="19"/>
                    </a:lnTo>
                    <a:lnTo>
                      <a:pt x="2162" y="26"/>
                    </a:lnTo>
                    <a:lnTo>
                      <a:pt x="2235" y="33"/>
                    </a:lnTo>
                    <a:lnTo>
                      <a:pt x="2306" y="42"/>
                    </a:lnTo>
                    <a:lnTo>
                      <a:pt x="2375" y="51"/>
                    </a:lnTo>
                    <a:lnTo>
                      <a:pt x="2443" y="61"/>
                    </a:lnTo>
                    <a:lnTo>
                      <a:pt x="2508" y="72"/>
                    </a:lnTo>
                    <a:lnTo>
                      <a:pt x="2571" y="84"/>
                    </a:lnTo>
                    <a:lnTo>
                      <a:pt x="2632" y="97"/>
                    </a:lnTo>
                    <a:lnTo>
                      <a:pt x="2690" y="111"/>
                    </a:lnTo>
                    <a:lnTo>
                      <a:pt x="2746" y="126"/>
                    </a:lnTo>
                    <a:lnTo>
                      <a:pt x="2799" y="141"/>
                    </a:lnTo>
                    <a:lnTo>
                      <a:pt x="2850" y="156"/>
                    </a:lnTo>
                    <a:lnTo>
                      <a:pt x="2897" y="173"/>
                    </a:lnTo>
                    <a:lnTo>
                      <a:pt x="2943" y="190"/>
                    </a:lnTo>
                    <a:lnTo>
                      <a:pt x="2984" y="208"/>
                    </a:lnTo>
                    <a:lnTo>
                      <a:pt x="3023" y="227"/>
                    </a:lnTo>
                    <a:lnTo>
                      <a:pt x="3059" y="246"/>
                    </a:lnTo>
                    <a:lnTo>
                      <a:pt x="3091" y="265"/>
                    </a:lnTo>
                    <a:lnTo>
                      <a:pt x="3119" y="285"/>
                    </a:lnTo>
                    <a:lnTo>
                      <a:pt x="3145" y="306"/>
                    </a:lnTo>
                    <a:lnTo>
                      <a:pt x="3167" y="328"/>
                    </a:lnTo>
                    <a:lnTo>
                      <a:pt x="3184" y="350"/>
                    </a:lnTo>
                    <a:lnTo>
                      <a:pt x="3198" y="372"/>
                    </a:lnTo>
                    <a:lnTo>
                      <a:pt x="3209" y="394"/>
                    </a:lnTo>
                    <a:lnTo>
                      <a:pt x="3215" y="417"/>
                    </a:lnTo>
                    <a:lnTo>
                      <a:pt x="3217" y="4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971000" y="6504840"/>
                <a:ext cx="353880" cy="107640"/>
              </a:xfrm>
              <a:custGeom>
                <a:avLst/>
                <a:gdLst/>
                <a:ahLst/>
                <a:rect l="l" t="t" r="r" b="b"/>
                <a:pathLst>
                  <a:path w="3213" h="899">
                    <a:moveTo>
                      <a:pt x="3213" y="441"/>
                    </a:moveTo>
                    <a:lnTo>
                      <a:pt x="3211" y="464"/>
                    </a:lnTo>
                    <a:lnTo>
                      <a:pt x="3205" y="487"/>
                    </a:lnTo>
                    <a:lnTo>
                      <a:pt x="3195" y="510"/>
                    </a:lnTo>
                    <a:lnTo>
                      <a:pt x="3181" y="533"/>
                    </a:lnTo>
                    <a:lnTo>
                      <a:pt x="3163" y="555"/>
                    </a:lnTo>
                    <a:lnTo>
                      <a:pt x="3142" y="577"/>
                    </a:lnTo>
                    <a:lnTo>
                      <a:pt x="3116" y="598"/>
                    </a:lnTo>
                    <a:lnTo>
                      <a:pt x="3087" y="618"/>
                    </a:lnTo>
                    <a:lnTo>
                      <a:pt x="3055" y="640"/>
                    </a:lnTo>
                    <a:lnTo>
                      <a:pt x="3019" y="659"/>
                    </a:lnTo>
                    <a:lnTo>
                      <a:pt x="2981" y="678"/>
                    </a:lnTo>
                    <a:lnTo>
                      <a:pt x="2940" y="697"/>
                    </a:lnTo>
                    <a:lnTo>
                      <a:pt x="2894" y="714"/>
                    </a:lnTo>
                    <a:lnTo>
                      <a:pt x="2847" y="732"/>
                    </a:lnTo>
                    <a:lnTo>
                      <a:pt x="2796" y="749"/>
                    </a:lnTo>
                    <a:lnTo>
                      <a:pt x="2743" y="765"/>
                    </a:lnTo>
                    <a:lnTo>
                      <a:pt x="2687" y="780"/>
                    </a:lnTo>
                    <a:lnTo>
                      <a:pt x="2629" y="794"/>
                    </a:lnTo>
                    <a:lnTo>
                      <a:pt x="2568" y="808"/>
                    </a:lnTo>
                    <a:lnTo>
                      <a:pt x="2505" y="820"/>
                    </a:lnTo>
                    <a:lnTo>
                      <a:pt x="2440" y="832"/>
                    </a:lnTo>
                    <a:lnTo>
                      <a:pt x="2373" y="843"/>
                    </a:lnTo>
                    <a:lnTo>
                      <a:pt x="2303" y="854"/>
                    </a:lnTo>
                    <a:lnTo>
                      <a:pt x="2232" y="863"/>
                    </a:lnTo>
                    <a:lnTo>
                      <a:pt x="2159" y="871"/>
                    </a:lnTo>
                    <a:lnTo>
                      <a:pt x="2084" y="878"/>
                    </a:lnTo>
                    <a:lnTo>
                      <a:pt x="2008" y="884"/>
                    </a:lnTo>
                    <a:lnTo>
                      <a:pt x="1931" y="890"/>
                    </a:lnTo>
                    <a:lnTo>
                      <a:pt x="1851" y="894"/>
                    </a:lnTo>
                    <a:lnTo>
                      <a:pt x="1771" y="896"/>
                    </a:lnTo>
                    <a:lnTo>
                      <a:pt x="1689" y="898"/>
                    </a:lnTo>
                    <a:lnTo>
                      <a:pt x="1606" y="899"/>
                    </a:lnTo>
                    <a:lnTo>
                      <a:pt x="1524" y="898"/>
                    </a:lnTo>
                    <a:lnTo>
                      <a:pt x="1442" y="896"/>
                    </a:lnTo>
                    <a:lnTo>
                      <a:pt x="1362" y="894"/>
                    </a:lnTo>
                    <a:lnTo>
                      <a:pt x="1282" y="890"/>
                    </a:lnTo>
                    <a:lnTo>
                      <a:pt x="1205" y="884"/>
                    </a:lnTo>
                    <a:lnTo>
                      <a:pt x="1129" y="878"/>
                    </a:lnTo>
                    <a:lnTo>
                      <a:pt x="1054" y="871"/>
                    </a:lnTo>
                    <a:lnTo>
                      <a:pt x="981" y="863"/>
                    </a:lnTo>
                    <a:lnTo>
                      <a:pt x="910" y="854"/>
                    </a:lnTo>
                    <a:lnTo>
                      <a:pt x="841" y="843"/>
                    </a:lnTo>
                    <a:lnTo>
                      <a:pt x="773" y="832"/>
                    </a:lnTo>
                    <a:lnTo>
                      <a:pt x="708" y="820"/>
                    </a:lnTo>
                    <a:lnTo>
                      <a:pt x="645" y="808"/>
                    </a:lnTo>
                    <a:lnTo>
                      <a:pt x="584" y="794"/>
                    </a:lnTo>
                    <a:lnTo>
                      <a:pt x="526" y="780"/>
                    </a:lnTo>
                    <a:lnTo>
                      <a:pt x="470" y="765"/>
                    </a:lnTo>
                    <a:lnTo>
                      <a:pt x="417" y="749"/>
                    </a:lnTo>
                    <a:lnTo>
                      <a:pt x="366" y="732"/>
                    </a:lnTo>
                    <a:lnTo>
                      <a:pt x="319" y="714"/>
                    </a:lnTo>
                    <a:lnTo>
                      <a:pt x="274" y="697"/>
                    </a:lnTo>
                    <a:lnTo>
                      <a:pt x="232" y="678"/>
                    </a:lnTo>
                    <a:lnTo>
                      <a:pt x="194" y="659"/>
                    </a:lnTo>
                    <a:lnTo>
                      <a:pt x="158" y="640"/>
                    </a:lnTo>
                    <a:lnTo>
                      <a:pt x="126" y="618"/>
                    </a:lnTo>
                    <a:lnTo>
                      <a:pt x="97" y="598"/>
                    </a:lnTo>
                    <a:lnTo>
                      <a:pt x="71" y="577"/>
                    </a:lnTo>
                    <a:lnTo>
                      <a:pt x="50" y="555"/>
                    </a:lnTo>
                    <a:lnTo>
                      <a:pt x="32" y="533"/>
                    </a:lnTo>
                    <a:lnTo>
                      <a:pt x="18" y="510"/>
                    </a:lnTo>
                    <a:lnTo>
                      <a:pt x="8" y="487"/>
                    </a:lnTo>
                    <a:lnTo>
                      <a:pt x="2" y="464"/>
                    </a:lnTo>
                    <a:lnTo>
                      <a:pt x="0" y="441"/>
                    </a:lnTo>
                    <a:lnTo>
                      <a:pt x="2" y="416"/>
                    </a:lnTo>
                    <a:lnTo>
                      <a:pt x="8" y="393"/>
                    </a:lnTo>
                    <a:lnTo>
                      <a:pt x="18" y="371"/>
                    </a:lnTo>
                    <a:lnTo>
                      <a:pt x="32" y="349"/>
                    </a:lnTo>
                    <a:lnTo>
                      <a:pt x="50" y="327"/>
                    </a:lnTo>
                    <a:lnTo>
                      <a:pt x="71" y="305"/>
                    </a:lnTo>
                    <a:lnTo>
                      <a:pt x="97" y="285"/>
                    </a:lnTo>
                    <a:lnTo>
                      <a:pt x="126" y="265"/>
                    </a:lnTo>
                    <a:lnTo>
                      <a:pt x="158" y="245"/>
                    </a:lnTo>
                    <a:lnTo>
                      <a:pt x="194" y="226"/>
                    </a:lnTo>
                    <a:lnTo>
                      <a:pt x="232" y="207"/>
                    </a:lnTo>
                    <a:lnTo>
                      <a:pt x="274" y="189"/>
                    </a:lnTo>
                    <a:lnTo>
                      <a:pt x="319" y="172"/>
                    </a:lnTo>
                    <a:lnTo>
                      <a:pt x="366" y="156"/>
                    </a:lnTo>
                    <a:lnTo>
                      <a:pt x="417" y="140"/>
                    </a:lnTo>
                    <a:lnTo>
                      <a:pt x="470" y="125"/>
                    </a:lnTo>
                    <a:lnTo>
                      <a:pt x="526" y="111"/>
                    </a:lnTo>
                    <a:lnTo>
                      <a:pt x="584" y="97"/>
                    </a:lnTo>
                    <a:lnTo>
                      <a:pt x="645" y="84"/>
                    </a:lnTo>
                    <a:lnTo>
                      <a:pt x="708" y="72"/>
                    </a:lnTo>
                    <a:lnTo>
                      <a:pt x="773" y="61"/>
                    </a:lnTo>
                    <a:lnTo>
                      <a:pt x="841" y="51"/>
                    </a:lnTo>
                    <a:lnTo>
                      <a:pt x="910" y="41"/>
                    </a:lnTo>
                    <a:lnTo>
                      <a:pt x="981" y="33"/>
                    </a:lnTo>
                    <a:lnTo>
                      <a:pt x="1054" y="25"/>
                    </a:lnTo>
                    <a:lnTo>
                      <a:pt x="1129" y="19"/>
                    </a:lnTo>
                    <a:lnTo>
                      <a:pt x="1205" y="13"/>
                    </a:lnTo>
                    <a:lnTo>
                      <a:pt x="1282" y="9"/>
                    </a:lnTo>
                    <a:lnTo>
                      <a:pt x="1362" y="5"/>
                    </a:lnTo>
                    <a:lnTo>
                      <a:pt x="1442" y="2"/>
                    </a:lnTo>
                    <a:lnTo>
                      <a:pt x="1524" y="1"/>
                    </a:lnTo>
                    <a:lnTo>
                      <a:pt x="1606" y="0"/>
                    </a:lnTo>
                    <a:lnTo>
                      <a:pt x="1689" y="1"/>
                    </a:lnTo>
                    <a:lnTo>
                      <a:pt x="1771" y="2"/>
                    </a:lnTo>
                    <a:lnTo>
                      <a:pt x="1851" y="5"/>
                    </a:lnTo>
                    <a:lnTo>
                      <a:pt x="1931" y="9"/>
                    </a:lnTo>
                    <a:lnTo>
                      <a:pt x="2008" y="13"/>
                    </a:lnTo>
                    <a:lnTo>
                      <a:pt x="2084" y="19"/>
                    </a:lnTo>
                    <a:lnTo>
                      <a:pt x="2159" y="25"/>
                    </a:lnTo>
                    <a:lnTo>
                      <a:pt x="2232" y="33"/>
                    </a:lnTo>
                    <a:lnTo>
                      <a:pt x="2303" y="41"/>
                    </a:lnTo>
                    <a:lnTo>
                      <a:pt x="2373" y="51"/>
                    </a:lnTo>
                    <a:lnTo>
                      <a:pt x="2440" y="61"/>
                    </a:lnTo>
                    <a:lnTo>
                      <a:pt x="2505" y="72"/>
                    </a:lnTo>
                    <a:lnTo>
                      <a:pt x="2568" y="84"/>
                    </a:lnTo>
                    <a:lnTo>
                      <a:pt x="2629" y="97"/>
                    </a:lnTo>
                    <a:lnTo>
                      <a:pt x="2687" y="111"/>
                    </a:lnTo>
                    <a:lnTo>
                      <a:pt x="2743" y="125"/>
                    </a:lnTo>
                    <a:lnTo>
                      <a:pt x="2796" y="140"/>
                    </a:lnTo>
                    <a:lnTo>
                      <a:pt x="2847" y="156"/>
                    </a:lnTo>
                    <a:lnTo>
                      <a:pt x="2894" y="172"/>
                    </a:lnTo>
                    <a:lnTo>
                      <a:pt x="2940" y="189"/>
                    </a:lnTo>
                    <a:lnTo>
                      <a:pt x="2981" y="207"/>
                    </a:lnTo>
                    <a:lnTo>
                      <a:pt x="3019" y="226"/>
                    </a:lnTo>
                    <a:lnTo>
                      <a:pt x="3055" y="245"/>
                    </a:lnTo>
                    <a:lnTo>
                      <a:pt x="3087" y="265"/>
                    </a:lnTo>
                    <a:lnTo>
                      <a:pt x="3116" y="285"/>
                    </a:lnTo>
                    <a:lnTo>
                      <a:pt x="3142" y="305"/>
                    </a:lnTo>
                    <a:lnTo>
                      <a:pt x="3163" y="327"/>
                    </a:lnTo>
                    <a:lnTo>
                      <a:pt x="3181" y="349"/>
                    </a:lnTo>
                    <a:lnTo>
                      <a:pt x="3195" y="371"/>
                    </a:lnTo>
                    <a:lnTo>
                      <a:pt x="3205" y="393"/>
                    </a:lnTo>
                    <a:lnTo>
                      <a:pt x="3211" y="416"/>
                    </a:lnTo>
                    <a:lnTo>
                      <a:pt x="3213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71000" y="6504840"/>
                <a:ext cx="353880" cy="107640"/>
              </a:xfrm>
              <a:custGeom>
                <a:avLst/>
                <a:gdLst/>
                <a:ahLst/>
                <a:rect l="l" t="t" r="r" b="b"/>
                <a:pathLst>
                  <a:path w="3211" h="897">
                    <a:moveTo>
                      <a:pt x="3211" y="440"/>
                    </a:moveTo>
                    <a:lnTo>
                      <a:pt x="3209" y="463"/>
                    </a:lnTo>
                    <a:lnTo>
                      <a:pt x="3203" y="486"/>
                    </a:lnTo>
                    <a:lnTo>
                      <a:pt x="3193" y="509"/>
                    </a:lnTo>
                    <a:lnTo>
                      <a:pt x="3179" y="532"/>
                    </a:lnTo>
                    <a:lnTo>
                      <a:pt x="3161" y="554"/>
                    </a:lnTo>
                    <a:lnTo>
                      <a:pt x="3139" y="575"/>
                    </a:lnTo>
                    <a:lnTo>
                      <a:pt x="3113" y="597"/>
                    </a:lnTo>
                    <a:lnTo>
                      <a:pt x="3085" y="617"/>
                    </a:lnTo>
                    <a:lnTo>
                      <a:pt x="3053" y="638"/>
                    </a:lnTo>
                    <a:lnTo>
                      <a:pt x="3017" y="658"/>
                    </a:lnTo>
                    <a:lnTo>
                      <a:pt x="2979" y="677"/>
                    </a:lnTo>
                    <a:lnTo>
                      <a:pt x="2937" y="695"/>
                    </a:lnTo>
                    <a:lnTo>
                      <a:pt x="2892" y="713"/>
                    </a:lnTo>
                    <a:lnTo>
                      <a:pt x="2845" y="730"/>
                    </a:lnTo>
                    <a:lnTo>
                      <a:pt x="2794" y="747"/>
                    </a:lnTo>
                    <a:lnTo>
                      <a:pt x="2741" y="763"/>
                    </a:lnTo>
                    <a:lnTo>
                      <a:pt x="2685" y="778"/>
                    </a:lnTo>
                    <a:lnTo>
                      <a:pt x="2627" y="792"/>
                    </a:lnTo>
                    <a:lnTo>
                      <a:pt x="2566" y="806"/>
                    </a:lnTo>
                    <a:lnTo>
                      <a:pt x="2503" y="818"/>
                    </a:lnTo>
                    <a:lnTo>
                      <a:pt x="2438" y="830"/>
                    </a:lnTo>
                    <a:lnTo>
                      <a:pt x="2371" y="841"/>
                    </a:lnTo>
                    <a:lnTo>
                      <a:pt x="2301" y="852"/>
                    </a:lnTo>
                    <a:lnTo>
                      <a:pt x="2231" y="861"/>
                    </a:lnTo>
                    <a:lnTo>
                      <a:pt x="2158" y="869"/>
                    </a:lnTo>
                    <a:lnTo>
                      <a:pt x="2083" y="876"/>
                    </a:lnTo>
                    <a:lnTo>
                      <a:pt x="2006" y="883"/>
                    </a:lnTo>
                    <a:lnTo>
                      <a:pt x="1929" y="888"/>
                    </a:lnTo>
                    <a:lnTo>
                      <a:pt x="1850" y="892"/>
                    </a:lnTo>
                    <a:lnTo>
                      <a:pt x="1770" y="895"/>
                    </a:lnTo>
                    <a:lnTo>
                      <a:pt x="1688" y="896"/>
                    </a:lnTo>
                    <a:lnTo>
                      <a:pt x="1605" y="897"/>
                    </a:lnTo>
                    <a:lnTo>
                      <a:pt x="1523" y="896"/>
                    </a:lnTo>
                    <a:lnTo>
                      <a:pt x="1442" y="895"/>
                    </a:lnTo>
                    <a:lnTo>
                      <a:pt x="1361" y="892"/>
                    </a:lnTo>
                    <a:lnTo>
                      <a:pt x="1282" y="888"/>
                    </a:lnTo>
                    <a:lnTo>
                      <a:pt x="1205" y="883"/>
                    </a:lnTo>
                    <a:lnTo>
                      <a:pt x="1128" y="876"/>
                    </a:lnTo>
                    <a:lnTo>
                      <a:pt x="1053" y="869"/>
                    </a:lnTo>
                    <a:lnTo>
                      <a:pt x="980" y="861"/>
                    </a:lnTo>
                    <a:lnTo>
                      <a:pt x="910" y="852"/>
                    </a:lnTo>
                    <a:lnTo>
                      <a:pt x="840" y="841"/>
                    </a:lnTo>
                    <a:lnTo>
                      <a:pt x="773" y="830"/>
                    </a:lnTo>
                    <a:lnTo>
                      <a:pt x="708" y="818"/>
                    </a:lnTo>
                    <a:lnTo>
                      <a:pt x="645" y="806"/>
                    </a:lnTo>
                    <a:lnTo>
                      <a:pt x="584" y="792"/>
                    </a:lnTo>
                    <a:lnTo>
                      <a:pt x="526" y="778"/>
                    </a:lnTo>
                    <a:lnTo>
                      <a:pt x="470" y="763"/>
                    </a:lnTo>
                    <a:lnTo>
                      <a:pt x="417" y="747"/>
                    </a:lnTo>
                    <a:lnTo>
                      <a:pt x="366" y="730"/>
                    </a:lnTo>
                    <a:lnTo>
                      <a:pt x="319" y="713"/>
                    </a:lnTo>
                    <a:lnTo>
                      <a:pt x="274" y="695"/>
                    </a:lnTo>
                    <a:lnTo>
                      <a:pt x="232" y="677"/>
                    </a:lnTo>
                    <a:lnTo>
                      <a:pt x="194" y="658"/>
                    </a:lnTo>
                    <a:lnTo>
                      <a:pt x="158" y="638"/>
                    </a:lnTo>
                    <a:lnTo>
                      <a:pt x="126" y="617"/>
                    </a:lnTo>
                    <a:lnTo>
                      <a:pt x="98" y="597"/>
                    </a:lnTo>
                    <a:lnTo>
                      <a:pt x="72" y="575"/>
                    </a:lnTo>
                    <a:lnTo>
                      <a:pt x="50" y="554"/>
                    </a:lnTo>
                    <a:lnTo>
                      <a:pt x="33" y="532"/>
                    </a:lnTo>
                    <a:lnTo>
                      <a:pt x="19" y="509"/>
                    </a:lnTo>
                    <a:lnTo>
                      <a:pt x="8" y="486"/>
                    </a:lnTo>
                    <a:lnTo>
                      <a:pt x="2" y="463"/>
                    </a:lnTo>
                    <a:lnTo>
                      <a:pt x="0" y="440"/>
                    </a:lnTo>
                    <a:lnTo>
                      <a:pt x="2" y="415"/>
                    </a:lnTo>
                    <a:lnTo>
                      <a:pt x="8" y="393"/>
                    </a:lnTo>
                    <a:lnTo>
                      <a:pt x="19" y="370"/>
                    </a:lnTo>
                    <a:lnTo>
                      <a:pt x="33" y="348"/>
                    </a:lnTo>
                    <a:lnTo>
                      <a:pt x="50" y="327"/>
                    </a:lnTo>
                    <a:lnTo>
                      <a:pt x="72" y="305"/>
                    </a:lnTo>
                    <a:lnTo>
                      <a:pt x="98" y="284"/>
                    </a:lnTo>
                    <a:lnTo>
                      <a:pt x="126" y="264"/>
                    </a:lnTo>
                    <a:lnTo>
                      <a:pt x="158" y="245"/>
                    </a:lnTo>
                    <a:lnTo>
                      <a:pt x="194" y="226"/>
                    </a:lnTo>
                    <a:lnTo>
                      <a:pt x="232" y="206"/>
                    </a:lnTo>
                    <a:lnTo>
                      <a:pt x="274" y="189"/>
                    </a:lnTo>
                    <a:lnTo>
                      <a:pt x="319" y="172"/>
                    </a:lnTo>
                    <a:lnTo>
                      <a:pt x="366" y="156"/>
                    </a:lnTo>
                    <a:lnTo>
                      <a:pt x="417" y="140"/>
                    </a:lnTo>
                    <a:lnTo>
                      <a:pt x="470" y="125"/>
                    </a:lnTo>
                    <a:lnTo>
                      <a:pt x="526" y="111"/>
                    </a:lnTo>
                    <a:lnTo>
                      <a:pt x="584" y="96"/>
                    </a:lnTo>
                    <a:lnTo>
                      <a:pt x="645" y="84"/>
                    </a:lnTo>
                    <a:lnTo>
                      <a:pt x="708" y="72"/>
                    </a:lnTo>
                    <a:lnTo>
                      <a:pt x="773" y="61"/>
                    </a:lnTo>
                    <a:lnTo>
                      <a:pt x="840" y="51"/>
                    </a:lnTo>
                    <a:lnTo>
                      <a:pt x="910" y="41"/>
                    </a:lnTo>
                    <a:lnTo>
                      <a:pt x="980" y="33"/>
                    </a:lnTo>
                    <a:lnTo>
                      <a:pt x="1053" y="25"/>
                    </a:lnTo>
                    <a:lnTo>
                      <a:pt x="1128" y="19"/>
                    </a:lnTo>
                    <a:lnTo>
                      <a:pt x="1205" y="13"/>
                    </a:lnTo>
                    <a:lnTo>
                      <a:pt x="1282" y="8"/>
                    </a:lnTo>
                    <a:lnTo>
                      <a:pt x="1361" y="5"/>
                    </a:lnTo>
                    <a:lnTo>
                      <a:pt x="1442" y="2"/>
                    </a:lnTo>
                    <a:lnTo>
                      <a:pt x="1523" y="1"/>
                    </a:lnTo>
                    <a:lnTo>
                      <a:pt x="1605" y="0"/>
                    </a:lnTo>
                    <a:lnTo>
                      <a:pt x="1688" y="1"/>
                    </a:lnTo>
                    <a:lnTo>
                      <a:pt x="1770" y="2"/>
                    </a:lnTo>
                    <a:lnTo>
                      <a:pt x="1850" y="5"/>
                    </a:lnTo>
                    <a:lnTo>
                      <a:pt x="1929" y="8"/>
                    </a:lnTo>
                    <a:lnTo>
                      <a:pt x="2006" y="13"/>
                    </a:lnTo>
                    <a:lnTo>
                      <a:pt x="2083" y="19"/>
                    </a:lnTo>
                    <a:lnTo>
                      <a:pt x="2158" y="25"/>
                    </a:lnTo>
                    <a:lnTo>
                      <a:pt x="2231" y="33"/>
                    </a:lnTo>
                    <a:lnTo>
                      <a:pt x="2301" y="41"/>
                    </a:lnTo>
                    <a:lnTo>
                      <a:pt x="2371" y="51"/>
                    </a:lnTo>
                    <a:lnTo>
                      <a:pt x="2438" y="61"/>
                    </a:lnTo>
                    <a:lnTo>
                      <a:pt x="2503" y="72"/>
                    </a:lnTo>
                    <a:lnTo>
                      <a:pt x="2566" y="84"/>
                    </a:lnTo>
                    <a:lnTo>
                      <a:pt x="2627" y="96"/>
                    </a:lnTo>
                    <a:lnTo>
                      <a:pt x="2685" y="111"/>
                    </a:lnTo>
                    <a:lnTo>
                      <a:pt x="2741" y="125"/>
                    </a:lnTo>
                    <a:lnTo>
                      <a:pt x="2794" y="140"/>
                    </a:lnTo>
                    <a:lnTo>
                      <a:pt x="2845" y="156"/>
                    </a:lnTo>
                    <a:lnTo>
                      <a:pt x="2892" y="172"/>
                    </a:lnTo>
                    <a:lnTo>
                      <a:pt x="2937" y="189"/>
                    </a:lnTo>
                    <a:lnTo>
                      <a:pt x="2979" y="206"/>
                    </a:lnTo>
                    <a:lnTo>
                      <a:pt x="3017" y="226"/>
                    </a:lnTo>
                    <a:lnTo>
                      <a:pt x="3053" y="245"/>
                    </a:lnTo>
                    <a:lnTo>
                      <a:pt x="3085" y="264"/>
                    </a:lnTo>
                    <a:lnTo>
                      <a:pt x="3113" y="284"/>
                    </a:lnTo>
                    <a:lnTo>
                      <a:pt x="3139" y="305"/>
                    </a:lnTo>
                    <a:lnTo>
                      <a:pt x="3161" y="327"/>
                    </a:lnTo>
                    <a:lnTo>
                      <a:pt x="3179" y="348"/>
                    </a:lnTo>
                    <a:lnTo>
                      <a:pt x="3193" y="370"/>
                    </a:lnTo>
                    <a:lnTo>
                      <a:pt x="3203" y="393"/>
                    </a:lnTo>
                    <a:lnTo>
                      <a:pt x="3209" y="415"/>
                    </a:lnTo>
                    <a:lnTo>
                      <a:pt x="3211" y="4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971000" y="6504840"/>
                <a:ext cx="353880" cy="107640"/>
              </a:xfrm>
              <a:custGeom>
                <a:avLst/>
                <a:gdLst/>
                <a:ahLst/>
                <a:rect l="l" t="t" r="r" b="b"/>
                <a:pathLst>
                  <a:path w="3207" h="895">
                    <a:moveTo>
                      <a:pt x="3207" y="439"/>
                    </a:moveTo>
                    <a:lnTo>
                      <a:pt x="3205" y="462"/>
                    </a:lnTo>
                    <a:lnTo>
                      <a:pt x="3199" y="485"/>
                    </a:lnTo>
                    <a:lnTo>
                      <a:pt x="3189" y="508"/>
                    </a:lnTo>
                    <a:lnTo>
                      <a:pt x="3175" y="531"/>
                    </a:lnTo>
                    <a:lnTo>
                      <a:pt x="3157" y="553"/>
                    </a:lnTo>
                    <a:lnTo>
                      <a:pt x="3136" y="574"/>
                    </a:lnTo>
                    <a:lnTo>
                      <a:pt x="3110" y="595"/>
                    </a:lnTo>
                    <a:lnTo>
                      <a:pt x="3082" y="616"/>
                    </a:lnTo>
                    <a:lnTo>
                      <a:pt x="3050" y="637"/>
                    </a:lnTo>
                    <a:lnTo>
                      <a:pt x="3014" y="656"/>
                    </a:lnTo>
                    <a:lnTo>
                      <a:pt x="2975" y="675"/>
                    </a:lnTo>
                    <a:lnTo>
                      <a:pt x="2934" y="694"/>
                    </a:lnTo>
                    <a:lnTo>
                      <a:pt x="2889" y="711"/>
                    </a:lnTo>
                    <a:lnTo>
                      <a:pt x="2842" y="728"/>
                    </a:lnTo>
                    <a:lnTo>
                      <a:pt x="2791" y="746"/>
                    </a:lnTo>
                    <a:lnTo>
                      <a:pt x="2738" y="761"/>
                    </a:lnTo>
                    <a:lnTo>
                      <a:pt x="2682" y="776"/>
                    </a:lnTo>
                    <a:lnTo>
                      <a:pt x="2623" y="791"/>
                    </a:lnTo>
                    <a:lnTo>
                      <a:pt x="2563" y="804"/>
                    </a:lnTo>
                    <a:lnTo>
                      <a:pt x="2500" y="817"/>
                    </a:lnTo>
                    <a:lnTo>
                      <a:pt x="2436" y="828"/>
                    </a:lnTo>
                    <a:lnTo>
                      <a:pt x="2368" y="839"/>
                    </a:lnTo>
                    <a:lnTo>
                      <a:pt x="2299" y="849"/>
                    </a:lnTo>
                    <a:lnTo>
                      <a:pt x="2228" y="859"/>
                    </a:lnTo>
                    <a:lnTo>
                      <a:pt x="2155" y="868"/>
                    </a:lnTo>
                    <a:lnTo>
                      <a:pt x="2080" y="875"/>
                    </a:lnTo>
                    <a:lnTo>
                      <a:pt x="2004" y="881"/>
                    </a:lnTo>
                    <a:lnTo>
                      <a:pt x="1927" y="886"/>
                    </a:lnTo>
                    <a:lnTo>
                      <a:pt x="1848" y="890"/>
                    </a:lnTo>
                    <a:lnTo>
                      <a:pt x="1767" y="893"/>
                    </a:lnTo>
                    <a:lnTo>
                      <a:pt x="1686" y="894"/>
                    </a:lnTo>
                    <a:lnTo>
                      <a:pt x="1603" y="895"/>
                    </a:lnTo>
                    <a:lnTo>
                      <a:pt x="1521" y="894"/>
                    </a:lnTo>
                    <a:lnTo>
                      <a:pt x="1440" y="893"/>
                    </a:lnTo>
                    <a:lnTo>
                      <a:pt x="1359" y="890"/>
                    </a:lnTo>
                    <a:lnTo>
                      <a:pt x="1280" y="886"/>
                    </a:lnTo>
                    <a:lnTo>
                      <a:pt x="1203" y="881"/>
                    </a:lnTo>
                    <a:lnTo>
                      <a:pt x="1127" y="875"/>
                    </a:lnTo>
                    <a:lnTo>
                      <a:pt x="1052" y="868"/>
                    </a:lnTo>
                    <a:lnTo>
                      <a:pt x="979" y="859"/>
                    </a:lnTo>
                    <a:lnTo>
                      <a:pt x="908" y="849"/>
                    </a:lnTo>
                    <a:lnTo>
                      <a:pt x="839" y="839"/>
                    </a:lnTo>
                    <a:lnTo>
                      <a:pt x="771" y="828"/>
                    </a:lnTo>
                    <a:lnTo>
                      <a:pt x="707" y="817"/>
                    </a:lnTo>
                    <a:lnTo>
                      <a:pt x="644" y="804"/>
                    </a:lnTo>
                    <a:lnTo>
                      <a:pt x="583" y="791"/>
                    </a:lnTo>
                    <a:lnTo>
                      <a:pt x="525" y="776"/>
                    </a:lnTo>
                    <a:lnTo>
                      <a:pt x="469" y="761"/>
                    </a:lnTo>
                    <a:lnTo>
                      <a:pt x="416" y="746"/>
                    </a:lnTo>
                    <a:lnTo>
                      <a:pt x="365" y="728"/>
                    </a:lnTo>
                    <a:lnTo>
                      <a:pt x="318" y="711"/>
                    </a:lnTo>
                    <a:lnTo>
                      <a:pt x="273" y="694"/>
                    </a:lnTo>
                    <a:lnTo>
                      <a:pt x="232" y="675"/>
                    </a:lnTo>
                    <a:lnTo>
                      <a:pt x="193" y="656"/>
                    </a:lnTo>
                    <a:lnTo>
                      <a:pt x="157" y="637"/>
                    </a:lnTo>
                    <a:lnTo>
                      <a:pt x="125" y="616"/>
                    </a:lnTo>
                    <a:lnTo>
                      <a:pt x="97" y="595"/>
                    </a:lnTo>
                    <a:lnTo>
                      <a:pt x="71" y="574"/>
                    </a:lnTo>
                    <a:lnTo>
                      <a:pt x="50" y="553"/>
                    </a:lnTo>
                    <a:lnTo>
                      <a:pt x="32" y="531"/>
                    </a:lnTo>
                    <a:lnTo>
                      <a:pt x="18" y="508"/>
                    </a:lnTo>
                    <a:lnTo>
                      <a:pt x="8" y="485"/>
                    </a:lnTo>
                    <a:lnTo>
                      <a:pt x="2" y="462"/>
                    </a:lnTo>
                    <a:lnTo>
                      <a:pt x="0" y="439"/>
                    </a:lnTo>
                    <a:lnTo>
                      <a:pt x="2" y="414"/>
                    </a:lnTo>
                    <a:lnTo>
                      <a:pt x="8" y="392"/>
                    </a:lnTo>
                    <a:lnTo>
                      <a:pt x="18" y="369"/>
                    </a:lnTo>
                    <a:lnTo>
                      <a:pt x="32" y="347"/>
                    </a:lnTo>
                    <a:lnTo>
                      <a:pt x="50" y="326"/>
                    </a:lnTo>
                    <a:lnTo>
                      <a:pt x="71" y="304"/>
                    </a:lnTo>
                    <a:lnTo>
                      <a:pt x="97" y="283"/>
                    </a:lnTo>
                    <a:lnTo>
                      <a:pt x="125" y="263"/>
                    </a:lnTo>
                    <a:lnTo>
                      <a:pt x="157" y="244"/>
                    </a:lnTo>
                    <a:lnTo>
                      <a:pt x="193" y="225"/>
                    </a:lnTo>
                    <a:lnTo>
                      <a:pt x="232" y="206"/>
                    </a:lnTo>
                    <a:lnTo>
                      <a:pt x="273" y="188"/>
                    </a:lnTo>
                    <a:lnTo>
                      <a:pt x="318" y="171"/>
                    </a:lnTo>
                    <a:lnTo>
                      <a:pt x="365" y="155"/>
                    </a:lnTo>
                    <a:lnTo>
                      <a:pt x="416" y="140"/>
                    </a:lnTo>
                    <a:lnTo>
                      <a:pt x="469" y="125"/>
                    </a:lnTo>
                    <a:lnTo>
                      <a:pt x="525" y="110"/>
                    </a:lnTo>
                    <a:lnTo>
                      <a:pt x="583" y="96"/>
                    </a:lnTo>
                    <a:lnTo>
                      <a:pt x="644" y="83"/>
                    </a:lnTo>
                    <a:lnTo>
                      <a:pt x="707" y="72"/>
                    </a:lnTo>
                    <a:lnTo>
                      <a:pt x="771" y="61"/>
                    </a:lnTo>
                    <a:lnTo>
                      <a:pt x="839" y="50"/>
                    </a:lnTo>
                    <a:lnTo>
                      <a:pt x="908" y="41"/>
                    </a:lnTo>
                    <a:lnTo>
                      <a:pt x="979" y="33"/>
                    </a:lnTo>
                    <a:lnTo>
                      <a:pt x="1052" y="25"/>
                    </a:lnTo>
                    <a:lnTo>
                      <a:pt x="1127" y="19"/>
                    </a:lnTo>
                    <a:lnTo>
                      <a:pt x="1203" y="13"/>
                    </a:lnTo>
                    <a:lnTo>
                      <a:pt x="1280" y="8"/>
                    </a:lnTo>
                    <a:lnTo>
                      <a:pt x="1359" y="5"/>
                    </a:lnTo>
                    <a:lnTo>
                      <a:pt x="1440" y="2"/>
                    </a:lnTo>
                    <a:lnTo>
                      <a:pt x="1521" y="0"/>
                    </a:lnTo>
                    <a:lnTo>
                      <a:pt x="1603" y="0"/>
                    </a:lnTo>
                    <a:lnTo>
                      <a:pt x="1686" y="0"/>
                    </a:lnTo>
                    <a:lnTo>
                      <a:pt x="1767" y="2"/>
                    </a:lnTo>
                    <a:lnTo>
                      <a:pt x="1848" y="5"/>
                    </a:lnTo>
                    <a:lnTo>
                      <a:pt x="1927" y="8"/>
                    </a:lnTo>
                    <a:lnTo>
                      <a:pt x="2004" y="13"/>
                    </a:lnTo>
                    <a:lnTo>
                      <a:pt x="2080" y="19"/>
                    </a:lnTo>
                    <a:lnTo>
                      <a:pt x="2155" y="25"/>
                    </a:lnTo>
                    <a:lnTo>
                      <a:pt x="2228" y="33"/>
                    </a:lnTo>
                    <a:lnTo>
                      <a:pt x="2299" y="41"/>
                    </a:lnTo>
                    <a:lnTo>
                      <a:pt x="2368" y="50"/>
                    </a:lnTo>
                    <a:lnTo>
                      <a:pt x="2436" y="61"/>
                    </a:lnTo>
                    <a:lnTo>
                      <a:pt x="2500" y="72"/>
                    </a:lnTo>
                    <a:lnTo>
                      <a:pt x="2563" y="83"/>
                    </a:lnTo>
                    <a:lnTo>
                      <a:pt x="2623" y="96"/>
                    </a:lnTo>
                    <a:lnTo>
                      <a:pt x="2682" y="110"/>
                    </a:lnTo>
                    <a:lnTo>
                      <a:pt x="2738" y="125"/>
                    </a:lnTo>
                    <a:lnTo>
                      <a:pt x="2791" y="140"/>
                    </a:lnTo>
                    <a:lnTo>
                      <a:pt x="2842" y="155"/>
                    </a:lnTo>
                    <a:lnTo>
                      <a:pt x="2889" y="171"/>
                    </a:lnTo>
                    <a:lnTo>
                      <a:pt x="2934" y="188"/>
                    </a:lnTo>
                    <a:lnTo>
                      <a:pt x="2975" y="206"/>
                    </a:lnTo>
                    <a:lnTo>
                      <a:pt x="3014" y="225"/>
                    </a:lnTo>
                    <a:lnTo>
                      <a:pt x="3050" y="244"/>
                    </a:lnTo>
                    <a:lnTo>
                      <a:pt x="3082" y="263"/>
                    </a:lnTo>
                    <a:lnTo>
                      <a:pt x="3110" y="283"/>
                    </a:lnTo>
                    <a:lnTo>
                      <a:pt x="3136" y="304"/>
                    </a:lnTo>
                    <a:lnTo>
                      <a:pt x="3157" y="326"/>
                    </a:lnTo>
                    <a:lnTo>
                      <a:pt x="3175" y="347"/>
                    </a:lnTo>
                    <a:lnTo>
                      <a:pt x="3189" y="369"/>
                    </a:lnTo>
                    <a:lnTo>
                      <a:pt x="3199" y="392"/>
                    </a:lnTo>
                    <a:lnTo>
                      <a:pt x="3205" y="414"/>
                    </a:lnTo>
                    <a:lnTo>
                      <a:pt x="3207" y="4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71000" y="6504840"/>
                <a:ext cx="353880" cy="106200"/>
              </a:xfrm>
              <a:custGeom>
                <a:avLst/>
                <a:gdLst/>
                <a:ahLst/>
                <a:rect l="l" t="t" r="r" b="b"/>
                <a:pathLst>
                  <a:path w="3205" h="893">
                    <a:moveTo>
                      <a:pt x="3205" y="438"/>
                    </a:moveTo>
                    <a:lnTo>
                      <a:pt x="3203" y="461"/>
                    </a:lnTo>
                    <a:lnTo>
                      <a:pt x="3197" y="484"/>
                    </a:lnTo>
                    <a:lnTo>
                      <a:pt x="3187" y="506"/>
                    </a:lnTo>
                    <a:lnTo>
                      <a:pt x="3173" y="530"/>
                    </a:lnTo>
                    <a:lnTo>
                      <a:pt x="3155" y="552"/>
                    </a:lnTo>
                    <a:lnTo>
                      <a:pt x="3134" y="573"/>
                    </a:lnTo>
                    <a:lnTo>
                      <a:pt x="3108" y="594"/>
                    </a:lnTo>
                    <a:lnTo>
                      <a:pt x="3079" y="614"/>
                    </a:lnTo>
                    <a:lnTo>
                      <a:pt x="3048" y="634"/>
                    </a:lnTo>
                    <a:lnTo>
                      <a:pt x="3011" y="655"/>
                    </a:lnTo>
                    <a:lnTo>
                      <a:pt x="2973" y="674"/>
                    </a:lnTo>
                    <a:lnTo>
                      <a:pt x="2932" y="692"/>
                    </a:lnTo>
                    <a:lnTo>
                      <a:pt x="2887" y="710"/>
                    </a:lnTo>
                    <a:lnTo>
                      <a:pt x="2840" y="727"/>
                    </a:lnTo>
                    <a:lnTo>
                      <a:pt x="2789" y="744"/>
                    </a:lnTo>
                    <a:lnTo>
                      <a:pt x="2736" y="760"/>
                    </a:lnTo>
                    <a:lnTo>
                      <a:pt x="2680" y="775"/>
                    </a:lnTo>
                    <a:lnTo>
                      <a:pt x="2622" y="789"/>
                    </a:lnTo>
                    <a:lnTo>
                      <a:pt x="2562" y="802"/>
                    </a:lnTo>
                    <a:lnTo>
                      <a:pt x="2498" y="815"/>
                    </a:lnTo>
                    <a:lnTo>
                      <a:pt x="2434" y="827"/>
                    </a:lnTo>
                    <a:lnTo>
                      <a:pt x="2367" y="838"/>
                    </a:lnTo>
                    <a:lnTo>
                      <a:pt x="2297" y="848"/>
                    </a:lnTo>
                    <a:lnTo>
                      <a:pt x="2227" y="858"/>
                    </a:lnTo>
                    <a:lnTo>
                      <a:pt x="2154" y="866"/>
                    </a:lnTo>
                    <a:lnTo>
                      <a:pt x="2079" y="873"/>
                    </a:lnTo>
                    <a:lnTo>
                      <a:pt x="2003" y="879"/>
                    </a:lnTo>
                    <a:lnTo>
                      <a:pt x="1926" y="884"/>
                    </a:lnTo>
                    <a:lnTo>
                      <a:pt x="1847" y="888"/>
                    </a:lnTo>
                    <a:lnTo>
                      <a:pt x="1766" y="891"/>
                    </a:lnTo>
                    <a:lnTo>
                      <a:pt x="1685" y="892"/>
                    </a:lnTo>
                    <a:lnTo>
                      <a:pt x="1602" y="893"/>
                    </a:lnTo>
                    <a:lnTo>
                      <a:pt x="1520" y="892"/>
                    </a:lnTo>
                    <a:lnTo>
                      <a:pt x="1439" y="891"/>
                    </a:lnTo>
                    <a:lnTo>
                      <a:pt x="1358" y="888"/>
                    </a:lnTo>
                    <a:lnTo>
                      <a:pt x="1279" y="884"/>
                    </a:lnTo>
                    <a:lnTo>
                      <a:pt x="1202" y="879"/>
                    </a:lnTo>
                    <a:lnTo>
                      <a:pt x="1126" y="873"/>
                    </a:lnTo>
                    <a:lnTo>
                      <a:pt x="1051" y="866"/>
                    </a:lnTo>
                    <a:lnTo>
                      <a:pt x="978" y="858"/>
                    </a:lnTo>
                    <a:lnTo>
                      <a:pt x="908" y="848"/>
                    </a:lnTo>
                    <a:lnTo>
                      <a:pt x="839" y="838"/>
                    </a:lnTo>
                    <a:lnTo>
                      <a:pt x="771" y="827"/>
                    </a:lnTo>
                    <a:lnTo>
                      <a:pt x="707" y="815"/>
                    </a:lnTo>
                    <a:lnTo>
                      <a:pt x="644" y="802"/>
                    </a:lnTo>
                    <a:lnTo>
                      <a:pt x="583" y="789"/>
                    </a:lnTo>
                    <a:lnTo>
                      <a:pt x="525" y="775"/>
                    </a:lnTo>
                    <a:lnTo>
                      <a:pt x="469" y="760"/>
                    </a:lnTo>
                    <a:lnTo>
                      <a:pt x="416" y="744"/>
                    </a:lnTo>
                    <a:lnTo>
                      <a:pt x="365" y="727"/>
                    </a:lnTo>
                    <a:lnTo>
                      <a:pt x="318" y="710"/>
                    </a:lnTo>
                    <a:lnTo>
                      <a:pt x="273" y="692"/>
                    </a:lnTo>
                    <a:lnTo>
                      <a:pt x="232" y="674"/>
                    </a:lnTo>
                    <a:lnTo>
                      <a:pt x="194" y="655"/>
                    </a:lnTo>
                    <a:lnTo>
                      <a:pt x="158" y="634"/>
                    </a:lnTo>
                    <a:lnTo>
                      <a:pt x="126" y="614"/>
                    </a:lnTo>
                    <a:lnTo>
                      <a:pt x="97" y="594"/>
                    </a:lnTo>
                    <a:lnTo>
                      <a:pt x="71" y="573"/>
                    </a:lnTo>
                    <a:lnTo>
                      <a:pt x="50" y="552"/>
                    </a:lnTo>
                    <a:lnTo>
                      <a:pt x="32" y="530"/>
                    </a:lnTo>
                    <a:lnTo>
                      <a:pt x="18" y="506"/>
                    </a:lnTo>
                    <a:lnTo>
                      <a:pt x="8" y="484"/>
                    </a:lnTo>
                    <a:lnTo>
                      <a:pt x="2" y="461"/>
                    </a:lnTo>
                    <a:lnTo>
                      <a:pt x="0" y="438"/>
                    </a:lnTo>
                    <a:lnTo>
                      <a:pt x="2" y="414"/>
                    </a:lnTo>
                    <a:lnTo>
                      <a:pt x="8" y="391"/>
                    </a:lnTo>
                    <a:lnTo>
                      <a:pt x="18" y="368"/>
                    </a:lnTo>
                    <a:lnTo>
                      <a:pt x="32" y="346"/>
                    </a:lnTo>
                    <a:lnTo>
                      <a:pt x="50" y="325"/>
                    </a:lnTo>
                    <a:lnTo>
                      <a:pt x="71" y="303"/>
                    </a:lnTo>
                    <a:lnTo>
                      <a:pt x="97" y="283"/>
                    </a:lnTo>
                    <a:lnTo>
                      <a:pt x="126" y="263"/>
                    </a:lnTo>
                    <a:lnTo>
                      <a:pt x="158" y="243"/>
                    </a:lnTo>
                    <a:lnTo>
                      <a:pt x="194" y="225"/>
                    </a:lnTo>
                    <a:lnTo>
                      <a:pt x="232" y="205"/>
                    </a:lnTo>
                    <a:lnTo>
                      <a:pt x="273" y="188"/>
                    </a:lnTo>
                    <a:lnTo>
                      <a:pt x="318" y="171"/>
                    </a:lnTo>
                    <a:lnTo>
                      <a:pt x="365" y="155"/>
                    </a:lnTo>
                    <a:lnTo>
                      <a:pt x="416" y="139"/>
                    </a:lnTo>
                    <a:lnTo>
                      <a:pt x="469" y="124"/>
                    </a:lnTo>
                    <a:lnTo>
                      <a:pt x="525" y="110"/>
                    </a:lnTo>
                    <a:lnTo>
                      <a:pt x="583" y="96"/>
                    </a:lnTo>
                    <a:lnTo>
                      <a:pt x="644" y="83"/>
                    </a:lnTo>
                    <a:lnTo>
                      <a:pt x="707" y="71"/>
                    </a:lnTo>
                    <a:lnTo>
                      <a:pt x="771" y="60"/>
                    </a:lnTo>
                    <a:lnTo>
                      <a:pt x="839" y="50"/>
                    </a:lnTo>
                    <a:lnTo>
                      <a:pt x="908" y="41"/>
                    </a:lnTo>
                    <a:lnTo>
                      <a:pt x="978" y="33"/>
                    </a:lnTo>
                    <a:lnTo>
                      <a:pt x="1051" y="25"/>
                    </a:lnTo>
                    <a:lnTo>
                      <a:pt x="1126" y="19"/>
                    </a:lnTo>
                    <a:lnTo>
                      <a:pt x="1202" y="13"/>
                    </a:lnTo>
                    <a:lnTo>
                      <a:pt x="1279" y="8"/>
                    </a:lnTo>
                    <a:lnTo>
                      <a:pt x="1358" y="5"/>
                    </a:lnTo>
                    <a:lnTo>
                      <a:pt x="1439" y="2"/>
                    </a:lnTo>
                    <a:lnTo>
                      <a:pt x="1520" y="0"/>
                    </a:lnTo>
                    <a:lnTo>
                      <a:pt x="1602" y="0"/>
                    </a:lnTo>
                    <a:lnTo>
                      <a:pt x="1685" y="0"/>
                    </a:lnTo>
                    <a:lnTo>
                      <a:pt x="1766" y="2"/>
                    </a:lnTo>
                    <a:lnTo>
                      <a:pt x="1847" y="5"/>
                    </a:lnTo>
                    <a:lnTo>
                      <a:pt x="1926" y="8"/>
                    </a:lnTo>
                    <a:lnTo>
                      <a:pt x="2003" y="13"/>
                    </a:lnTo>
                    <a:lnTo>
                      <a:pt x="2079" y="19"/>
                    </a:lnTo>
                    <a:lnTo>
                      <a:pt x="2154" y="25"/>
                    </a:lnTo>
                    <a:lnTo>
                      <a:pt x="2227" y="33"/>
                    </a:lnTo>
                    <a:lnTo>
                      <a:pt x="2297" y="41"/>
                    </a:lnTo>
                    <a:lnTo>
                      <a:pt x="2367" y="50"/>
                    </a:lnTo>
                    <a:lnTo>
                      <a:pt x="2434" y="60"/>
                    </a:lnTo>
                    <a:lnTo>
                      <a:pt x="2498" y="71"/>
                    </a:lnTo>
                    <a:lnTo>
                      <a:pt x="2562" y="83"/>
                    </a:lnTo>
                    <a:lnTo>
                      <a:pt x="2622" y="96"/>
                    </a:lnTo>
                    <a:lnTo>
                      <a:pt x="2680" y="110"/>
                    </a:lnTo>
                    <a:lnTo>
                      <a:pt x="2736" y="124"/>
                    </a:lnTo>
                    <a:lnTo>
                      <a:pt x="2789" y="139"/>
                    </a:lnTo>
                    <a:lnTo>
                      <a:pt x="2840" y="155"/>
                    </a:lnTo>
                    <a:lnTo>
                      <a:pt x="2887" y="171"/>
                    </a:lnTo>
                    <a:lnTo>
                      <a:pt x="2932" y="188"/>
                    </a:lnTo>
                    <a:lnTo>
                      <a:pt x="2973" y="205"/>
                    </a:lnTo>
                    <a:lnTo>
                      <a:pt x="3011" y="225"/>
                    </a:lnTo>
                    <a:lnTo>
                      <a:pt x="3048" y="243"/>
                    </a:lnTo>
                    <a:lnTo>
                      <a:pt x="3079" y="263"/>
                    </a:lnTo>
                    <a:lnTo>
                      <a:pt x="3108" y="283"/>
                    </a:lnTo>
                    <a:lnTo>
                      <a:pt x="3134" y="303"/>
                    </a:lnTo>
                    <a:lnTo>
                      <a:pt x="3155" y="325"/>
                    </a:lnTo>
                    <a:lnTo>
                      <a:pt x="3173" y="346"/>
                    </a:lnTo>
                    <a:lnTo>
                      <a:pt x="3187" y="368"/>
                    </a:lnTo>
                    <a:lnTo>
                      <a:pt x="3197" y="391"/>
                    </a:lnTo>
                    <a:lnTo>
                      <a:pt x="3203" y="414"/>
                    </a:lnTo>
                    <a:lnTo>
                      <a:pt x="3205" y="4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71000" y="6504840"/>
                <a:ext cx="353880" cy="106200"/>
              </a:xfrm>
              <a:custGeom>
                <a:avLst/>
                <a:gdLst/>
                <a:ahLst/>
                <a:rect l="l" t="t" r="r" b="b"/>
                <a:pathLst>
                  <a:path w="3202" h="891">
                    <a:moveTo>
                      <a:pt x="3202" y="437"/>
                    </a:moveTo>
                    <a:lnTo>
                      <a:pt x="3200" y="460"/>
                    </a:lnTo>
                    <a:lnTo>
                      <a:pt x="3193" y="483"/>
                    </a:lnTo>
                    <a:lnTo>
                      <a:pt x="3183" y="505"/>
                    </a:lnTo>
                    <a:lnTo>
                      <a:pt x="3169" y="528"/>
                    </a:lnTo>
                    <a:lnTo>
                      <a:pt x="3152" y="550"/>
                    </a:lnTo>
                    <a:lnTo>
                      <a:pt x="3130" y="572"/>
                    </a:lnTo>
                    <a:lnTo>
                      <a:pt x="3104" y="593"/>
                    </a:lnTo>
                    <a:lnTo>
                      <a:pt x="3076" y="613"/>
                    </a:lnTo>
                    <a:lnTo>
                      <a:pt x="3044" y="633"/>
                    </a:lnTo>
                    <a:lnTo>
                      <a:pt x="3008" y="653"/>
                    </a:lnTo>
                    <a:lnTo>
                      <a:pt x="2970" y="672"/>
                    </a:lnTo>
                    <a:lnTo>
                      <a:pt x="2929" y="691"/>
                    </a:lnTo>
                    <a:lnTo>
                      <a:pt x="2884" y="708"/>
                    </a:lnTo>
                    <a:lnTo>
                      <a:pt x="2837" y="725"/>
                    </a:lnTo>
                    <a:lnTo>
                      <a:pt x="2786" y="743"/>
                    </a:lnTo>
                    <a:lnTo>
                      <a:pt x="2733" y="758"/>
                    </a:lnTo>
                    <a:lnTo>
                      <a:pt x="2677" y="773"/>
                    </a:lnTo>
                    <a:lnTo>
                      <a:pt x="2619" y="787"/>
                    </a:lnTo>
                    <a:lnTo>
                      <a:pt x="2559" y="801"/>
                    </a:lnTo>
                    <a:lnTo>
                      <a:pt x="2496" y="813"/>
                    </a:lnTo>
                    <a:lnTo>
                      <a:pt x="2431" y="825"/>
                    </a:lnTo>
                    <a:lnTo>
                      <a:pt x="2364" y="836"/>
                    </a:lnTo>
                    <a:lnTo>
                      <a:pt x="2294" y="846"/>
                    </a:lnTo>
                    <a:lnTo>
                      <a:pt x="2224" y="856"/>
                    </a:lnTo>
                    <a:lnTo>
                      <a:pt x="2151" y="864"/>
                    </a:lnTo>
                    <a:lnTo>
                      <a:pt x="2077" y="871"/>
                    </a:lnTo>
                    <a:lnTo>
                      <a:pt x="2000" y="877"/>
                    </a:lnTo>
                    <a:lnTo>
                      <a:pt x="1924" y="882"/>
                    </a:lnTo>
                    <a:lnTo>
                      <a:pt x="1845" y="886"/>
                    </a:lnTo>
                    <a:lnTo>
                      <a:pt x="1764" y="889"/>
                    </a:lnTo>
                    <a:lnTo>
                      <a:pt x="1683" y="890"/>
                    </a:lnTo>
                    <a:lnTo>
                      <a:pt x="1600" y="891"/>
                    </a:lnTo>
                    <a:lnTo>
                      <a:pt x="1518" y="890"/>
                    </a:lnTo>
                    <a:lnTo>
                      <a:pt x="1437" y="889"/>
                    </a:lnTo>
                    <a:lnTo>
                      <a:pt x="1357" y="886"/>
                    </a:lnTo>
                    <a:lnTo>
                      <a:pt x="1278" y="882"/>
                    </a:lnTo>
                    <a:lnTo>
                      <a:pt x="1201" y="877"/>
                    </a:lnTo>
                    <a:lnTo>
                      <a:pt x="1125" y="871"/>
                    </a:lnTo>
                    <a:lnTo>
                      <a:pt x="1050" y="864"/>
                    </a:lnTo>
                    <a:lnTo>
                      <a:pt x="977" y="856"/>
                    </a:lnTo>
                    <a:lnTo>
                      <a:pt x="907" y="846"/>
                    </a:lnTo>
                    <a:lnTo>
                      <a:pt x="837" y="836"/>
                    </a:lnTo>
                    <a:lnTo>
                      <a:pt x="770" y="825"/>
                    </a:lnTo>
                    <a:lnTo>
                      <a:pt x="706" y="813"/>
                    </a:lnTo>
                    <a:lnTo>
                      <a:pt x="642" y="801"/>
                    </a:lnTo>
                    <a:lnTo>
                      <a:pt x="581" y="787"/>
                    </a:lnTo>
                    <a:lnTo>
                      <a:pt x="524" y="773"/>
                    </a:lnTo>
                    <a:lnTo>
                      <a:pt x="468" y="758"/>
                    </a:lnTo>
                    <a:lnTo>
                      <a:pt x="415" y="743"/>
                    </a:lnTo>
                    <a:lnTo>
                      <a:pt x="365" y="725"/>
                    </a:lnTo>
                    <a:lnTo>
                      <a:pt x="317" y="708"/>
                    </a:lnTo>
                    <a:lnTo>
                      <a:pt x="272" y="691"/>
                    </a:lnTo>
                    <a:lnTo>
                      <a:pt x="231" y="672"/>
                    </a:lnTo>
                    <a:lnTo>
                      <a:pt x="193" y="653"/>
                    </a:lnTo>
                    <a:lnTo>
                      <a:pt x="157" y="633"/>
                    </a:lnTo>
                    <a:lnTo>
                      <a:pt x="125" y="613"/>
                    </a:lnTo>
                    <a:lnTo>
                      <a:pt x="97" y="593"/>
                    </a:lnTo>
                    <a:lnTo>
                      <a:pt x="71" y="572"/>
                    </a:lnTo>
                    <a:lnTo>
                      <a:pt x="49" y="550"/>
                    </a:lnTo>
                    <a:lnTo>
                      <a:pt x="32" y="528"/>
                    </a:lnTo>
                    <a:lnTo>
                      <a:pt x="18" y="505"/>
                    </a:lnTo>
                    <a:lnTo>
                      <a:pt x="8" y="483"/>
                    </a:lnTo>
                    <a:lnTo>
                      <a:pt x="2" y="460"/>
                    </a:lnTo>
                    <a:lnTo>
                      <a:pt x="0" y="437"/>
                    </a:lnTo>
                    <a:lnTo>
                      <a:pt x="2" y="413"/>
                    </a:lnTo>
                    <a:lnTo>
                      <a:pt x="8" y="390"/>
                    </a:lnTo>
                    <a:lnTo>
                      <a:pt x="18" y="368"/>
                    </a:lnTo>
                    <a:lnTo>
                      <a:pt x="32" y="346"/>
                    </a:lnTo>
                    <a:lnTo>
                      <a:pt x="49" y="324"/>
                    </a:lnTo>
                    <a:lnTo>
                      <a:pt x="71" y="302"/>
                    </a:lnTo>
                    <a:lnTo>
                      <a:pt x="97" y="282"/>
                    </a:lnTo>
                    <a:lnTo>
                      <a:pt x="125" y="262"/>
                    </a:lnTo>
                    <a:lnTo>
                      <a:pt x="157" y="243"/>
                    </a:lnTo>
                    <a:lnTo>
                      <a:pt x="193" y="224"/>
                    </a:lnTo>
                    <a:lnTo>
                      <a:pt x="231" y="205"/>
                    </a:lnTo>
                    <a:lnTo>
                      <a:pt x="272" y="187"/>
                    </a:lnTo>
                    <a:lnTo>
                      <a:pt x="317" y="171"/>
                    </a:lnTo>
                    <a:lnTo>
                      <a:pt x="365" y="154"/>
                    </a:lnTo>
                    <a:lnTo>
                      <a:pt x="415" y="139"/>
                    </a:lnTo>
                    <a:lnTo>
                      <a:pt x="468" y="124"/>
                    </a:lnTo>
                    <a:lnTo>
                      <a:pt x="524" y="110"/>
                    </a:lnTo>
                    <a:lnTo>
                      <a:pt x="581" y="96"/>
                    </a:lnTo>
                    <a:lnTo>
                      <a:pt x="642" y="83"/>
                    </a:lnTo>
                    <a:lnTo>
                      <a:pt x="706" y="71"/>
                    </a:lnTo>
                    <a:lnTo>
                      <a:pt x="770" y="60"/>
                    </a:lnTo>
                    <a:lnTo>
                      <a:pt x="837" y="50"/>
                    </a:lnTo>
                    <a:lnTo>
                      <a:pt x="907" y="41"/>
                    </a:lnTo>
                    <a:lnTo>
                      <a:pt x="977" y="32"/>
                    </a:lnTo>
                    <a:lnTo>
                      <a:pt x="1050" y="25"/>
                    </a:lnTo>
                    <a:lnTo>
                      <a:pt x="1125" y="18"/>
                    </a:lnTo>
                    <a:lnTo>
                      <a:pt x="1201" y="13"/>
                    </a:lnTo>
                    <a:lnTo>
                      <a:pt x="1278" y="8"/>
                    </a:lnTo>
                    <a:lnTo>
                      <a:pt x="1357" y="5"/>
                    </a:lnTo>
                    <a:lnTo>
                      <a:pt x="1437" y="2"/>
                    </a:lnTo>
                    <a:lnTo>
                      <a:pt x="1518" y="0"/>
                    </a:lnTo>
                    <a:lnTo>
                      <a:pt x="1600" y="0"/>
                    </a:lnTo>
                    <a:lnTo>
                      <a:pt x="1683" y="0"/>
                    </a:lnTo>
                    <a:lnTo>
                      <a:pt x="1764" y="2"/>
                    </a:lnTo>
                    <a:lnTo>
                      <a:pt x="1845" y="5"/>
                    </a:lnTo>
                    <a:lnTo>
                      <a:pt x="1924" y="8"/>
                    </a:lnTo>
                    <a:lnTo>
                      <a:pt x="2000" y="13"/>
                    </a:lnTo>
                    <a:lnTo>
                      <a:pt x="2077" y="18"/>
                    </a:lnTo>
                    <a:lnTo>
                      <a:pt x="2151" y="25"/>
                    </a:lnTo>
                    <a:lnTo>
                      <a:pt x="2224" y="32"/>
                    </a:lnTo>
                    <a:lnTo>
                      <a:pt x="2294" y="41"/>
                    </a:lnTo>
                    <a:lnTo>
                      <a:pt x="2364" y="50"/>
                    </a:lnTo>
                    <a:lnTo>
                      <a:pt x="2431" y="60"/>
                    </a:lnTo>
                    <a:lnTo>
                      <a:pt x="2496" y="71"/>
                    </a:lnTo>
                    <a:lnTo>
                      <a:pt x="2559" y="83"/>
                    </a:lnTo>
                    <a:lnTo>
                      <a:pt x="2619" y="96"/>
                    </a:lnTo>
                    <a:lnTo>
                      <a:pt x="2677" y="110"/>
                    </a:lnTo>
                    <a:lnTo>
                      <a:pt x="2733" y="124"/>
                    </a:lnTo>
                    <a:lnTo>
                      <a:pt x="2786" y="139"/>
                    </a:lnTo>
                    <a:lnTo>
                      <a:pt x="2837" y="154"/>
                    </a:lnTo>
                    <a:lnTo>
                      <a:pt x="2884" y="171"/>
                    </a:lnTo>
                    <a:lnTo>
                      <a:pt x="2929" y="187"/>
                    </a:lnTo>
                    <a:lnTo>
                      <a:pt x="2970" y="205"/>
                    </a:lnTo>
                    <a:lnTo>
                      <a:pt x="3008" y="224"/>
                    </a:lnTo>
                    <a:lnTo>
                      <a:pt x="3044" y="243"/>
                    </a:lnTo>
                    <a:lnTo>
                      <a:pt x="3076" y="262"/>
                    </a:lnTo>
                    <a:lnTo>
                      <a:pt x="3104" y="282"/>
                    </a:lnTo>
                    <a:lnTo>
                      <a:pt x="3130" y="302"/>
                    </a:lnTo>
                    <a:lnTo>
                      <a:pt x="3152" y="324"/>
                    </a:lnTo>
                    <a:lnTo>
                      <a:pt x="3169" y="346"/>
                    </a:lnTo>
                    <a:lnTo>
                      <a:pt x="3183" y="368"/>
                    </a:lnTo>
                    <a:lnTo>
                      <a:pt x="3193" y="390"/>
                    </a:lnTo>
                    <a:lnTo>
                      <a:pt x="3200" y="413"/>
                    </a:lnTo>
                    <a:lnTo>
                      <a:pt x="3202" y="4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972080" y="6504840"/>
                <a:ext cx="351360" cy="106200"/>
              </a:xfrm>
              <a:custGeom>
                <a:avLst/>
                <a:gdLst/>
                <a:ahLst/>
                <a:rect l="l" t="t" r="r" b="b"/>
                <a:pathLst>
                  <a:path w="3199" h="889">
                    <a:moveTo>
                      <a:pt x="3199" y="436"/>
                    </a:moveTo>
                    <a:lnTo>
                      <a:pt x="3197" y="459"/>
                    </a:lnTo>
                    <a:lnTo>
                      <a:pt x="3191" y="482"/>
                    </a:lnTo>
                    <a:lnTo>
                      <a:pt x="3181" y="504"/>
                    </a:lnTo>
                    <a:lnTo>
                      <a:pt x="3167" y="527"/>
                    </a:lnTo>
                    <a:lnTo>
                      <a:pt x="3149" y="549"/>
                    </a:lnTo>
                    <a:lnTo>
                      <a:pt x="3127" y="570"/>
                    </a:lnTo>
                    <a:lnTo>
                      <a:pt x="3102" y="591"/>
                    </a:lnTo>
                    <a:lnTo>
                      <a:pt x="3074" y="612"/>
                    </a:lnTo>
                    <a:lnTo>
                      <a:pt x="3042" y="632"/>
                    </a:lnTo>
                    <a:lnTo>
                      <a:pt x="3006" y="652"/>
                    </a:lnTo>
                    <a:lnTo>
                      <a:pt x="2968" y="671"/>
                    </a:lnTo>
                    <a:lnTo>
                      <a:pt x="2927" y="689"/>
                    </a:lnTo>
                    <a:lnTo>
                      <a:pt x="2881" y="707"/>
                    </a:lnTo>
                    <a:lnTo>
                      <a:pt x="2834" y="724"/>
                    </a:lnTo>
                    <a:lnTo>
                      <a:pt x="2784" y="741"/>
                    </a:lnTo>
                    <a:lnTo>
                      <a:pt x="2731" y="757"/>
                    </a:lnTo>
                    <a:lnTo>
                      <a:pt x="2675" y="771"/>
                    </a:lnTo>
                    <a:lnTo>
                      <a:pt x="2617" y="786"/>
                    </a:lnTo>
                    <a:lnTo>
                      <a:pt x="2557" y="799"/>
                    </a:lnTo>
                    <a:lnTo>
                      <a:pt x="2494" y="811"/>
                    </a:lnTo>
                    <a:lnTo>
                      <a:pt x="2429" y="823"/>
                    </a:lnTo>
                    <a:lnTo>
                      <a:pt x="2362" y="834"/>
                    </a:lnTo>
                    <a:lnTo>
                      <a:pt x="2293" y="844"/>
                    </a:lnTo>
                    <a:lnTo>
                      <a:pt x="2223" y="854"/>
                    </a:lnTo>
                    <a:lnTo>
                      <a:pt x="2150" y="862"/>
                    </a:lnTo>
                    <a:lnTo>
                      <a:pt x="2075" y="869"/>
                    </a:lnTo>
                    <a:lnTo>
                      <a:pt x="1999" y="875"/>
                    </a:lnTo>
                    <a:lnTo>
                      <a:pt x="1922" y="880"/>
                    </a:lnTo>
                    <a:lnTo>
                      <a:pt x="1843" y="884"/>
                    </a:lnTo>
                    <a:lnTo>
                      <a:pt x="1763" y="887"/>
                    </a:lnTo>
                    <a:lnTo>
                      <a:pt x="1682" y="889"/>
                    </a:lnTo>
                    <a:lnTo>
                      <a:pt x="1599" y="889"/>
                    </a:lnTo>
                    <a:lnTo>
                      <a:pt x="1518" y="889"/>
                    </a:lnTo>
                    <a:lnTo>
                      <a:pt x="1436" y="887"/>
                    </a:lnTo>
                    <a:lnTo>
                      <a:pt x="1356" y="884"/>
                    </a:lnTo>
                    <a:lnTo>
                      <a:pt x="1277" y="880"/>
                    </a:lnTo>
                    <a:lnTo>
                      <a:pt x="1200" y="875"/>
                    </a:lnTo>
                    <a:lnTo>
                      <a:pt x="1124" y="869"/>
                    </a:lnTo>
                    <a:lnTo>
                      <a:pt x="1049" y="862"/>
                    </a:lnTo>
                    <a:lnTo>
                      <a:pt x="976" y="854"/>
                    </a:lnTo>
                    <a:lnTo>
                      <a:pt x="906" y="844"/>
                    </a:lnTo>
                    <a:lnTo>
                      <a:pt x="837" y="834"/>
                    </a:lnTo>
                    <a:lnTo>
                      <a:pt x="770" y="823"/>
                    </a:lnTo>
                    <a:lnTo>
                      <a:pt x="705" y="811"/>
                    </a:lnTo>
                    <a:lnTo>
                      <a:pt x="642" y="799"/>
                    </a:lnTo>
                    <a:lnTo>
                      <a:pt x="581" y="786"/>
                    </a:lnTo>
                    <a:lnTo>
                      <a:pt x="524" y="771"/>
                    </a:lnTo>
                    <a:lnTo>
                      <a:pt x="468" y="757"/>
                    </a:lnTo>
                    <a:lnTo>
                      <a:pt x="415" y="741"/>
                    </a:lnTo>
                    <a:lnTo>
                      <a:pt x="365" y="724"/>
                    </a:lnTo>
                    <a:lnTo>
                      <a:pt x="318" y="707"/>
                    </a:lnTo>
                    <a:lnTo>
                      <a:pt x="272" y="689"/>
                    </a:lnTo>
                    <a:lnTo>
                      <a:pt x="231" y="671"/>
                    </a:lnTo>
                    <a:lnTo>
                      <a:pt x="193" y="652"/>
                    </a:lnTo>
                    <a:lnTo>
                      <a:pt x="157" y="632"/>
                    </a:lnTo>
                    <a:lnTo>
                      <a:pt x="125" y="612"/>
                    </a:lnTo>
                    <a:lnTo>
                      <a:pt x="97" y="591"/>
                    </a:lnTo>
                    <a:lnTo>
                      <a:pt x="71" y="570"/>
                    </a:lnTo>
                    <a:lnTo>
                      <a:pt x="50" y="549"/>
                    </a:lnTo>
                    <a:lnTo>
                      <a:pt x="32" y="527"/>
                    </a:lnTo>
                    <a:lnTo>
                      <a:pt x="18" y="504"/>
                    </a:lnTo>
                    <a:lnTo>
                      <a:pt x="8" y="482"/>
                    </a:lnTo>
                    <a:lnTo>
                      <a:pt x="2" y="459"/>
                    </a:lnTo>
                    <a:lnTo>
                      <a:pt x="0" y="436"/>
                    </a:lnTo>
                    <a:lnTo>
                      <a:pt x="2" y="412"/>
                    </a:lnTo>
                    <a:lnTo>
                      <a:pt x="8" y="389"/>
                    </a:lnTo>
                    <a:lnTo>
                      <a:pt x="18" y="367"/>
                    </a:lnTo>
                    <a:lnTo>
                      <a:pt x="32" y="345"/>
                    </a:lnTo>
                    <a:lnTo>
                      <a:pt x="50" y="324"/>
                    </a:lnTo>
                    <a:lnTo>
                      <a:pt x="71" y="302"/>
                    </a:lnTo>
                    <a:lnTo>
                      <a:pt x="97" y="281"/>
                    </a:lnTo>
                    <a:lnTo>
                      <a:pt x="125" y="261"/>
                    </a:lnTo>
                    <a:lnTo>
                      <a:pt x="157" y="242"/>
                    </a:lnTo>
                    <a:lnTo>
                      <a:pt x="193" y="224"/>
                    </a:lnTo>
                    <a:lnTo>
                      <a:pt x="231" y="204"/>
                    </a:lnTo>
                    <a:lnTo>
                      <a:pt x="272" y="187"/>
                    </a:lnTo>
                    <a:lnTo>
                      <a:pt x="318" y="170"/>
                    </a:lnTo>
                    <a:lnTo>
                      <a:pt x="365" y="154"/>
                    </a:lnTo>
                    <a:lnTo>
                      <a:pt x="415" y="138"/>
                    </a:lnTo>
                    <a:lnTo>
                      <a:pt x="468" y="124"/>
                    </a:lnTo>
                    <a:lnTo>
                      <a:pt x="524" y="110"/>
                    </a:lnTo>
                    <a:lnTo>
                      <a:pt x="581" y="95"/>
                    </a:lnTo>
                    <a:lnTo>
                      <a:pt x="642" y="83"/>
                    </a:lnTo>
                    <a:lnTo>
                      <a:pt x="705" y="71"/>
                    </a:lnTo>
                    <a:lnTo>
                      <a:pt x="770" y="60"/>
                    </a:lnTo>
                    <a:lnTo>
                      <a:pt x="837" y="50"/>
                    </a:lnTo>
                    <a:lnTo>
                      <a:pt x="906" y="41"/>
                    </a:lnTo>
                    <a:lnTo>
                      <a:pt x="976" y="32"/>
                    </a:lnTo>
                    <a:lnTo>
                      <a:pt x="1049" y="25"/>
                    </a:lnTo>
                    <a:lnTo>
                      <a:pt x="1124" y="18"/>
                    </a:lnTo>
                    <a:lnTo>
                      <a:pt x="1200" y="13"/>
                    </a:lnTo>
                    <a:lnTo>
                      <a:pt x="1277" y="8"/>
                    </a:lnTo>
                    <a:lnTo>
                      <a:pt x="1356" y="4"/>
                    </a:lnTo>
                    <a:lnTo>
                      <a:pt x="1436" y="2"/>
                    </a:lnTo>
                    <a:lnTo>
                      <a:pt x="1518" y="0"/>
                    </a:lnTo>
                    <a:lnTo>
                      <a:pt x="1599" y="0"/>
                    </a:lnTo>
                    <a:lnTo>
                      <a:pt x="1682" y="0"/>
                    </a:lnTo>
                    <a:lnTo>
                      <a:pt x="1763" y="2"/>
                    </a:lnTo>
                    <a:lnTo>
                      <a:pt x="1843" y="4"/>
                    </a:lnTo>
                    <a:lnTo>
                      <a:pt x="1922" y="8"/>
                    </a:lnTo>
                    <a:lnTo>
                      <a:pt x="1999" y="13"/>
                    </a:lnTo>
                    <a:lnTo>
                      <a:pt x="2075" y="18"/>
                    </a:lnTo>
                    <a:lnTo>
                      <a:pt x="2150" y="25"/>
                    </a:lnTo>
                    <a:lnTo>
                      <a:pt x="2223" y="32"/>
                    </a:lnTo>
                    <a:lnTo>
                      <a:pt x="2293" y="41"/>
                    </a:lnTo>
                    <a:lnTo>
                      <a:pt x="2362" y="50"/>
                    </a:lnTo>
                    <a:lnTo>
                      <a:pt x="2429" y="60"/>
                    </a:lnTo>
                    <a:lnTo>
                      <a:pt x="2494" y="71"/>
                    </a:lnTo>
                    <a:lnTo>
                      <a:pt x="2557" y="83"/>
                    </a:lnTo>
                    <a:lnTo>
                      <a:pt x="2617" y="95"/>
                    </a:lnTo>
                    <a:lnTo>
                      <a:pt x="2675" y="110"/>
                    </a:lnTo>
                    <a:lnTo>
                      <a:pt x="2731" y="124"/>
                    </a:lnTo>
                    <a:lnTo>
                      <a:pt x="2784" y="138"/>
                    </a:lnTo>
                    <a:lnTo>
                      <a:pt x="2834" y="154"/>
                    </a:lnTo>
                    <a:lnTo>
                      <a:pt x="2881" y="170"/>
                    </a:lnTo>
                    <a:lnTo>
                      <a:pt x="2927" y="187"/>
                    </a:lnTo>
                    <a:lnTo>
                      <a:pt x="2968" y="204"/>
                    </a:lnTo>
                    <a:lnTo>
                      <a:pt x="3006" y="224"/>
                    </a:lnTo>
                    <a:lnTo>
                      <a:pt x="3042" y="242"/>
                    </a:lnTo>
                    <a:lnTo>
                      <a:pt x="3074" y="261"/>
                    </a:lnTo>
                    <a:lnTo>
                      <a:pt x="3102" y="281"/>
                    </a:lnTo>
                    <a:lnTo>
                      <a:pt x="3127" y="302"/>
                    </a:lnTo>
                    <a:lnTo>
                      <a:pt x="3149" y="324"/>
                    </a:lnTo>
                    <a:lnTo>
                      <a:pt x="3167" y="345"/>
                    </a:lnTo>
                    <a:lnTo>
                      <a:pt x="3181" y="367"/>
                    </a:lnTo>
                    <a:lnTo>
                      <a:pt x="3191" y="389"/>
                    </a:lnTo>
                    <a:lnTo>
                      <a:pt x="3197" y="412"/>
                    </a:lnTo>
                    <a:lnTo>
                      <a:pt x="3199" y="4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972080" y="6506640"/>
                <a:ext cx="351360" cy="104760"/>
              </a:xfrm>
              <a:custGeom>
                <a:avLst/>
                <a:gdLst/>
                <a:ahLst/>
                <a:rect l="l" t="t" r="r" b="b"/>
                <a:pathLst>
                  <a:path w="3197" h="887">
                    <a:moveTo>
                      <a:pt x="3197" y="435"/>
                    </a:moveTo>
                    <a:lnTo>
                      <a:pt x="3195" y="458"/>
                    </a:lnTo>
                    <a:lnTo>
                      <a:pt x="3189" y="481"/>
                    </a:lnTo>
                    <a:lnTo>
                      <a:pt x="3179" y="503"/>
                    </a:lnTo>
                    <a:lnTo>
                      <a:pt x="3165" y="526"/>
                    </a:lnTo>
                    <a:lnTo>
                      <a:pt x="3147" y="548"/>
                    </a:lnTo>
                    <a:lnTo>
                      <a:pt x="3125" y="569"/>
                    </a:lnTo>
                    <a:lnTo>
                      <a:pt x="3100" y="590"/>
                    </a:lnTo>
                    <a:lnTo>
                      <a:pt x="3071" y="610"/>
                    </a:lnTo>
                    <a:lnTo>
                      <a:pt x="3040" y="630"/>
                    </a:lnTo>
                    <a:lnTo>
                      <a:pt x="3004" y="651"/>
                    </a:lnTo>
                    <a:lnTo>
                      <a:pt x="2966" y="669"/>
                    </a:lnTo>
                    <a:lnTo>
                      <a:pt x="2923" y="688"/>
                    </a:lnTo>
                    <a:lnTo>
                      <a:pt x="2879" y="705"/>
                    </a:lnTo>
                    <a:lnTo>
                      <a:pt x="2832" y="722"/>
                    </a:lnTo>
                    <a:lnTo>
                      <a:pt x="2782" y="738"/>
                    </a:lnTo>
                    <a:lnTo>
                      <a:pt x="2729" y="755"/>
                    </a:lnTo>
                    <a:lnTo>
                      <a:pt x="2673" y="770"/>
                    </a:lnTo>
                    <a:lnTo>
                      <a:pt x="2615" y="784"/>
                    </a:lnTo>
                    <a:lnTo>
                      <a:pt x="2555" y="797"/>
                    </a:lnTo>
                    <a:lnTo>
                      <a:pt x="2492" y="810"/>
                    </a:lnTo>
                    <a:lnTo>
                      <a:pt x="2428" y="821"/>
                    </a:lnTo>
                    <a:lnTo>
                      <a:pt x="2360" y="832"/>
                    </a:lnTo>
                    <a:lnTo>
                      <a:pt x="2291" y="842"/>
                    </a:lnTo>
                    <a:lnTo>
                      <a:pt x="2221" y="852"/>
                    </a:lnTo>
                    <a:lnTo>
                      <a:pt x="2148" y="860"/>
                    </a:lnTo>
                    <a:lnTo>
                      <a:pt x="2074" y="867"/>
                    </a:lnTo>
                    <a:lnTo>
                      <a:pt x="1998" y="873"/>
                    </a:lnTo>
                    <a:lnTo>
                      <a:pt x="1921" y="878"/>
                    </a:lnTo>
                    <a:lnTo>
                      <a:pt x="1842" y="882"/>
                    </a:lnTo>
                    <a:lnTo>
                      <a:pt x="1762" y="885"/>
                    </a:lnTo>
                    <a:lnTo>
                      <a:pt x="1681" y="887"/>
                    </a:lnTo>
                    <a:lnTo>
                      <a:pt x="1598" y="887"/>
                    </a:lnTo>
                    <a:lnTo>
                      <a:pt x="1517" y="887"/>
                    </a:lnTo>
                    <a:lnTo>
                      <a:pt x="1435" y="885"/>
                    </a:lnTo>
                    <a:lnTo>
                      <a:pt x="1355" y="882"/>
                    </a:lnTo>
                    <a:lnTo>
                      <a:pt x="1276" y="878"/>
                    </a:lnTo>
                    <a:lnTo>
                      <a:pt x="1199" y="873"/>
                    </a:lnTo>
                    <a:lnTo>
                      <a:pt x="1123" y="867"/>
                    </a:lnTo>
                    <a:lnTo>
                      <a:pt x="1049" y="860"/>
                    </a:lnTo>
                    <a:lnTo>
                      <a:pt x="976" y="852"/>
                    </a:lnTo>
                    <a:lnTo>
                      <a:pt x="906" y="842"/>
                    </a:lnTo>
                    <a:lnTo>
                      <a:pt x="837" y="832"/>
                    </a:lnTo>
                    <a:lnTo>
                      <a:pt x="769" y="821"/>
                    </a:lnTo>
                    <a:lnTo>
                      <a:pt x="705" y="810"/>
                    </a:lnTo>
                    <a:lnTo>
                      <a:pt x="642" y="797"/>
                    </a:lnTo>
                    <a:lnTo>
                      <a:pt x="581" y="784"/>
                    </a:lnTo>
                    <a:lnTo>
                      <a:pt x="524" y="770"/>
                    </a:lnTo>
                    <a:lnTo>
                      <a:pt x="468" y="755"/>
                    </a:lnTo>
                    <a:lnTo>
                      <a:pt x="416" y="738"/>
                    </a:lnTo>
                    <a:lnTo>
                      <a:pt x="365" y="722"/>
                    </a:lnTo>
                    <a:lnTo>
                      <a:pt x="318" y="705"/>
                    </a:lnTo>
                    <a:lnTo>
                      <a:pt x="273" y="688"/>
                    </a:lnTo>
                    <a:lnTo>
                      <a:pt x="231" y="669"/>
                    </a:lnTo>
                    <a:lnTo>
                      <a:pt x="193" y="651"/>
                    </a:lnTo>
                    <a:lnTo>
                      <a:pt x="157" y="630"/>
                    </a:lnTo>
                    <a:lnTo>
                      <a:pt x="126" y="610"/>
                    </a:lnTo>
                    <a:lnTo>
                      <a:pt x="97" y="590"/>
                    </a:lnTo>
                    <a:lnTo>
                      <a:pt x="72" y="569"/>
                    </a:lnTo>
                    <a:lnTo>
                      <a:pt x="50" y="548"/>
                    </a:lnTo>
                    <a:lnTo>
                      <a:pt x="33" y="526"/>
                    </a:lnTo>
                    <a:lnTo>
                      <a:pt x="19" y="503"/>
                    </a:lnTo>
                    <a:lnTo>
                      <a:pt x="9" y="481"/>
                    </a:lnTo>
                    <a:lnTo>
                      <a:pt x="2" y="458"/>
                    </a:lnTo>
                    <a:lnTo>
                      <a:pt x="0" y="435"/>
                    </a:lnTo>
                    <a:lnTo>
                      <a:pt x="2" y="411"/>
                    </a:lnTo>
                    <a:lnTo>
                      <a:pt x="9" y="388"/>
                    </a:lnTo>
                    <a:lnTo>
                      <a:pt x="19" y="366"/>
                    </a:lnTo>
                    <a:lnTo>
                      <a:pt x="33" y="344"/>
                    </a:lnTo>
                    <a:lnTo>
                      <a:pt x="50" y="323"/>
                    </a:lnTo>
                    <a:lnTo>
                      <a:pt x="72" y="301"/>
                    </a:lnTo>
                    <a:lnTo>
                      <a:pt x="97" y="281"/>
                    </a:lnTo>
                    <a:lnTo>
                      <a:pt x="126" y="261"/>
                    </a:lnTo>
                    <a:lnTo>
                      <a:pt x="157" y="242"/>
                    </a:lnTo>
                    <a:lnTo>
                      <a:pt x="193" y="223"/>
                    </a:lnTo>
                    <a:lnTo>
                      <a:pt x="231" y="205"/>
                    </a:lnTo>
                    <a:lnTo>
                      <a:pt x="273" y="186"/>
                    </a:lnTo>
                    <a:lnTo>
                      <a:pt x="318" y="170"/>
                    </a:lnTo>
                    <a:lnTo>
                      <a:pt x="365" y="153"/>
                    </a:lnTo>
                    <a:lnTo>
                      <a:pt x="416" y="138"/>
                    </a:lnTo>
                    <a:lnTo>
                      <a:pt x="468" y="123"/>
                    </a:lnTo>
                    <a:lnTo>
                      <a:pt x="524" y="109"/>
                    </a:lnTo>
                    <a:lnTo>
                      <a:pt x="581" y="95"/>
                    </a:lnTo>
                    <a:lnTo>
                      <a:pt x="642" y="82"/>
                    </a:lnTo>
                    <a:lnTo>
                      <a:pt x="705" y="71"/>
                    </a:lnTo>
                    <a:lnTo>
                      <a:pt x="769" y="60"/>
                    </a:lnTo>
                    <a:lnTo>
                      <a:pt x="837" y="50"/>
                    </a:lnTo>
                    <a:lnTo>
                      <a:pt x="906" y="41"/>
                    </a:lnTo>
                    <a:lnTo>
                      <a:pt x="976" y="32"/>
                    </a:lnTo>
                    <a:lnTo>
                      <a:pt x="1049" y="25"/>
                    </a:lnTo>
                    <a:lnTo>
                      <a:pt x="1123" y="18"/>
                    </a:lnTo>
                    <a:lnTo>
                      <a:pt x="1199" y="13"/>
                    </a:lnTo>
                    <a:lnTo>
                      <a:pt x="1276" y="8"/>
                    </a:lnTo>
                    <a:lnTo>
                      <a:pt x="1355" y="4"/>
                    </a:lnTo>
                    <a:lnTo>
                      <a:pt x="1435" y="2"/>
                    </a:lnTo>
                    <a:lnTo>
                      <a:pt x="1517" y="0"/>
                    </a:lnTo>
                    <a:lnTo>
                      <a:pt x="1598" y="0"/>
                    </a:lnTo>
                    <a:lnTo>
                      <a:pt x="1681" y="0"/>
                    </a:lnTo>
                    <a:lnTo>
                      <a:pt x="1762" y="2"/>
                    </a:lnTo>
                    <a:lnTo>
                      <a:pt x="1842" y="4"/>
                    </a:lnTo>
                    <a:lnTo>
                      <a:pt x="1921" y="8"/>
                    </a:lnTo>
                    <a:lnTo>
                      <a:pt x="1998" y="13"/>
                    </a:lnTo>
                    <a:lnTo>
                      <a:pt x="2074" y="18"/>
                    </a:lnTo>
                    <a:lnTo>
                      <a:pt x="2148" y="25"/>
                    </a:lnTo>
                    <a:lnTo>
                      <a:pt x="2221" y="32"/>
                    </a:lnTo>
                    <a:lnTo>
                      <a:pt x="2291" y="41"/>
                    </a:lnTo>
                    <a:lnTo>
                      <a:pt x="2360" y="50"/>
                    </a:lnTo>
                    <a:lnTo>
                      <a:pt x="2428" y="60"/>
                    </a:lnTo>
                    <a:lnTo>
                      <a:pt x="2492" y="71"/>
                    </a:lnTo>
                    <a:lnTo>
                      <a:pt x="2555" y="82"/>
                    </a:lnTo>
                    <a:lnTo>
                      <a:pt x="2615" y="95"/>
                    </a:lnTo>
                    <a:lnTo>
                      <a:pt x="2673" y="109"/>
                    </a:lnTo>
                    <a:lnTo>
                      <a:pt x="2729" y="123"/>
                    </a:lnTo>
                    <a:lnTo>
                      <a:pt x="2782" y="138"/>
                    </a:lnTo>
                    <a:lnTo>
                      <a:pt x="2832" y="153"/>
                    </a:lnTo>
                    <a:lnTo>
                      <a:pt x="2879" y="170"/>
                    </a:lnTo>
                    <a:lnTo>
                      <a:pt x="2923" y="186"/>
                    </a:lnTo>
                    <a:lnTo>
                      <a:pt x="2966" y="205"/>
                    </a:lnTo>
                    <a:lnTo>
                      <a:pt x="3004" y="223"/>
                    </a:lnTo>
                    <a:lnTo>
                      <a:pt x="3040" y="242"/>
                    </a:lnTo>
                    <a:lnTo>
                      <a:pt x="3071" y="261"/>
                    </a:lnTo>
                    <a:lnTo>
                      <a:pt x="3100" y="281"/>
                    </a:lnTo>
                    <a:lnTo>
                      <a:pt x="3125" y="301"/>
                    </a:lnTo>
                    <a:lnTo>
                      <a:pt x="3147" y="323"/>
                    </a:lnTo>
                    <a:lnTo>
                      <a:pt x="3165" y="344"/>
                    </a:lnTo>
                    <a:lnTo>
                      <a:pt x="3179" y="366"/>
                    </a:lnTo>
                    <a:lnTo>
                      <a:pt x="3189" y="388"/>
                    </a:lnTo>
                    <a:lnTo>
                      <a:pt x="3195" y="411"/>
                    </a:lnTo>
                    <a:lnTo>
                      <a:pt x="3197" y="4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972080" y="6506640"/>
                <a:ext cx="351360" cy="104760"/>
              </a:xfrm>
              <a:custGeom>
                <a:avLst/>
                <a:gdLst/>
                <a:ahLst/>
                <a:rect l="l" t="t" r="r" b="b"/>
                <a:pathLst>
                  <a:path w="3193" h="885">
                    <a:moveTo>
                      <a:pt x="3193" y="434"/>
                    </a:moveTo>
                    <a:lnTo>
                      <a:pt x="3191" y="457"/>
                    </a:lnTo>
                    <a:lnTo>
                      <a:pt x="3185" y="479"/>
                    </a:lnTo>
                    <a:lnTo>
                      <a:pt x="3175" y="502"/>
                    </a:lnTo>
                    <a:lnTo>
                      <a:pt x="3161" y="525"/>
                    </a:lnTo>
                    <a:lnTo>
                      <a:pt x="3144" y="547"/>
                    </a:lnTo>
                    <a:lnTo>
                      <a:pt x="3121" y="568"/>
                    </a:lnTo>
                    <a:lnTo>
                      <a:pt x="3096" y="589"/>
                    </a:lnTo>
                    <a:lnTo>
                      <a:pt x="3068" y="609"/>
                    </a:lnTo>
                    <a:lnTo>
                      <a:pt x="3036" y="629"/>
                    </a:lnTo>
                    <a:lnTo>
                      <a:pt x="3000" y="649"/>
                    </a:lnTo>
                    <a:lnTo>
                      <a:pt x="2962" y="668"/>
                    </a:lnTo>
                    <a:lnTo>
                      <a:pt x="2920" y="686"/>
                    </a:lnTo>
                    <a:lnTo>
                      <a:pt x="2876" y="704"/>
                    </a:lnTo>
                    <a:lnTo>
                      <a:pt x="2829" y="720"/>
                    </a:lnTo>
                    <a:lnTo>
                      <a:pt x="2779" y="737"/>
                    </a:lnTo>
                    <a:lnTo>
                      <a:pt x="2726" y="753"/>
                    </a:lnTo>
                    <a:lnTo>
                      <a:pt x="2670" y="768"/>
                    </a:lnTo>
                    <a:lnTo>
                      <a:pt x="2612" y="782"/>
                    </a:lnTo>
                    <a:lnTo>
                      <a:pt x="2552" y="795"/>
                    </a:lnTo>
                    <a:lnTo>
                      <a:pt x="2489" y="808"/>
                    </a:lnTo>
                    <a:lnTo>
                      <a:pt x="2425" y="820"/>
                    </a:lnTo>
                    <a:lnTo>
                      <a:pt x="2358" y="830"/>
                    </a:lnTo>
                    <a:lnTo>
                      <a:pt x="2289" y="840"/>
                    </a:lnTo>
                    <a:lnTo>
                      <a:pt x="2219" y="850"/>
                    </a:lnTo>
                    <a:lnTo>
                      <a:pt x="2146" y="858"/>
                    </a:lnTo>
                    <a:lnTo>
                      <a:pt x="2071" y="865"/>
                    </a:lnTo>
                    <a:lnTo>
                      <a:pt x="1995" y="871"/>
                    </a:lnTo>
                    <a:lnTo>
                      <a:pt x="1919" y="876"/>
                    </a:lnTo>
                    <a:lnTo>
                      <a:pt x="1840" y="880"/>
                    </a:lnTo>
                    <a:lnTo>
                      <a:pt x="1760" y="883"/>
                    </a:lnTo>
                    <a:lnTo>
                      <a:pt x="1678" y="885"/>
                    </a:lnTo>
                    <a:lnTo>
                      <a:pt x="1596" y="885"/>
                    </a:lnTo>
                    <a:lnTo>
                      <a:pt x="1515" y="885"/>
                    </a:lnTo>
                    <a:lnTo>
                      <a:pt x="1433" y="883"/>
                    </a:lnTo>
                    <a:lnTo>
                      <a:pt x="1353" y="880"/>
                    </a:lnTo>
                    <a:lnTo>
                      <a:pt x="1274" y="876"/>
                    </a:lnTo>
                    <a:lnTo>
                      <a:pt x="1198" y="871"/>
                    </a:lnTo>
                    <a:lnTo>
                      <a:pt x="1122" y="865"/>
                    </a:lnTo>
                    <a:lnTo>
                      <a:pt x="1047" y="858"/>
                    </a:lnTo>
                    <a:lnTo>
                      <a:pt x="975" y="850"/>
                    </a:lnTo>
                    <a:lnTo>
                      <a:pt x="904" y="840"/>
                    </a:lnTo>
                    <a:lnTo>
                      <a:pt x="835" y="830"/>
                    </a:lnTo>
                    <a:lnTo>
                      <a:pt x="768" y="820"/>
                    </a:lnTo>
                    <a:lnTo>
                      <a:pt x="704" y="808"/>
                    </a:lnTo>
                    <a:lnTo>
                      <a:pt x="641" y="795"/>
                    </a:lnTo>
                    <a:lnTo>
                      <a:pt x="580" y="782"/>
                    </a:lnTo>
                    <a:lnTo>
                      <a:pt x="523" y="768"/>
                    </a:lnTo>
                    <a:lnTo>
                      <a:pt x="467" y="753"/>
                    </a:lnTo>
                    <a:lnTo>
                      <a:pt x="415" y="737"/>
                    </a:lnTo>
                    <a:lnTo>
                      <a:pt x="364" y="720"/>
                    </a:lnTo>
                    <a:lnTo>
                      <a:pt x="317" y="704"/>
                    </a:lnTo>
                    <a:lnTo>
                      <a:pt x="272" y="686"/>
                    </a:lnTo>
                    <a:lnTo>
                      <a:pt x="231" y="668"/>
                    </a:lnTo>
                    <a:lnTo>
                      <a:pt x="193" y="649"/>
                    </a:lnTo>
                    <a:lnTo>
                      <a:pt x="157" y="629"/>
                    </a:lnTo>
                    <a:lnTo>
                      <a:pt x="125" y="609"/>
                    </a:lnTo>
                    <a:lnTo>
                      <a:pt x="97" y="589"/>
                    </a:lnTo>
                    <a:lnTo>
                      <a:pt x="71" y="568"/>
                    </a:lnTo>
                    <a:lnTo>
                      <a:pt x="50" y="547"/>
                    </a:lnTo>
                    <a:lnTo>
                      <a:pt x="32" y="525"/>
                    </a:lnTo>
                    <a:lnTo>
                      <a:pt x="18" y="502"/>
                    </a:lnTo>
                    <a:lnTo>
                      <a:pt x="8" y="479"/>
                    </a:lnTo>
                    <a:lnTo>
                      <a:pt x="2" y="457"/>
                    </a:lnTo>
                    <a:lnTo>
                      <a:pt x="0" y="434"/>
                    </a:lnTo>
                    <a:lnTo>
                      <a:pt x="2" y="410"/>
                    </a:lnTo>
                    <a:lnTo>
                      <a:pt x="8" y="387"/>
                    </a:lnTo>
                    <a:lnTo>
                      <a:pt x="18" y="365"/>
                    </a:lnTo>
                    <a:lnTo>
                      <a:pt x="32" y="343"/>
                    </a:lnTo>
                    <a:lnTo>
                      <a:pt x="50" y="322"/>
                    </a:lnTo>
                    <a:lnTo>
                      <a:pt x="71" y="300"/>
                    </a:lnTo>
                    <a:lnTo>
                      <a:pt x="97" y="280"/>
                    </a:lnTo>
                    <a:lnTo>
                      <a:pt x="125" y="260"/>
                    </a:lnTo>
                    <a:lnTo>
                      <a:pt x="157" y="241"/>
                    </a:lnTo>
                    <a:lnTo>
                      <a:pt x="193" y="222"/>
                    </a:lnTo>
                    <a:lnTo>
                      <a:pt x="231" y="204"/>
                    </a:lnTo>
                    <a:lnTo>
                      <a:pt x="272" y="186"/>
                    </a:lnTo>
                    <a:lnTo>
                      <a:pt x="317" y="169"/>
                    </a:lnTo>
                    <a:lnTo>
                      <a:pt x="364" y="153"/>
                    </a:lnTo>
                    <a:lnTo>
                      <a:pt x="415" y="138"/>
                    </a:lnTo>
                    <a:lnTo>
                      <a:pt x="467" y="123"/>
                    </a:lnTo>
                    <a:lnTo>
                      <a:pt x="523" y="109"/>
                    </a:lnTo>
                    <a:lnTo>
                      <a:pt x="580" y="95"/>
                    </a:lnTo>
                    <a:lnTo>
                      <a:pt x="641" y="82"/>
                    </a:lnTo>
                    <a:lnTo>
                      <a:pt x="704" y="71"/>
                    </a:lnTo>
                    <a:lnTo>
                      <a:pt x="768" y="60"/>
                    </a:lnTo>
                    <a:lnTo>
                      <a:pt x="835" y="50"/>
                    </a:lnTo>
                    <a:lnTo>
                      <a:pt x="904" y="40"/>
                    </a:lnTo>
                    <a:lnTo>
                      <a:pt x="975" y="32"/>
                    </a:lnTo>
                    <a:lnTo>
                      <a:pt x="1047" y="25"/>
                    </a:lnTo>
                    <a:lnTo>
                      <a:pt x="1122" y="18"/>
                    </a:lnTo>
                    <a:lnTo>
                      <a:pt x="1198" y="13"/>
                    </a:lnTo>
                    <a:lnTo>
                      <a:pt x="1274" y="8"/>
                    </a:lnTo>
                    <a:lnTo>
                      <a:pt x="1353" y="4"/>
                    </a:lnTo>
                    <a:lnTo>
                      <a:pt x="1433" y="2"/>
                    </a:lnTo>
                    <a:lnTo>
                      <a:pt x="1515" y="0"/>
                    </a:lnTo>
                    <a:lnTo>
                      <a:pt x="1596" y="0"/>
                    </a:lnTo>
                    <a:lnTo>
                      <a:pt x="1678" y="0"/>
                    </a:lnTo>
                    <a:lnTo>
                      <a:pt x="1760" y="2"/>
                    </a:lnTo>
                    <a:lnTo>
                      <a:pt x="1840" y="4"/>
                    </a:lnTo>
                    <a:lnTo>
                      <a:pt x="1919" y="8"/>
                    </a:lnTo>
                    <a:lnTo>
                      <a:pt x="1995" y="13"/>
                    </a:lnTo>
                    <a:lnTo>
                      <a:pt x="2071" y="18"/>
                    </a:lnTo>
                    <a:lnTo>
                      <a:pt x="2146" y="25"/>
                    </a:lnTo>
                    <a:lnTo>
                      <a:pt x="2219" y="32"/>
                    </a:lnTo>
                    <a:lnTo>
                      <a:pt x="2289" y="40"/>
                    </a:lnTo>
                    <a:lnTo>
                      <a:pt x="2358" y="50"/>
                    </a:lnTo>
                    <a:lnTo>
                      <a:pt x="2425" y="60"/>
                    </a:lnTo>
                    <a:lnTo>
                      <a:pt x="2489" y="71"/>
                    </a:lnTo>
                    <a:lnTo>
                      <a:pt x="2552" y="82"/>
                    </a:lnTo>
                    <a:lnTo>
                      <a:pt x="2612" y="95"/>
                    </a:lnTo>
                    <a:lnTo>
                      <a:pt x="2670" y="109"/>
                    </a:lnTo>
                    <a:lnTo>
                      <a:pt x="2726" y="123"/>
                    </a:lnTo>
                    <a:lnTo>
                      <a:pt x="2779" y="138"/>
                    </a:lnTo>
                    <a:lnTo>
                      <a:pt x="2829" y="153"/>
                    </a:lnTo>
                    <a:lnTo>
                      <a:pt x="2876" y="169"/>
                    </a:lnTo>
                    <a:lnTo>
                      <a:pt x="2920" y="186"/>
                    </a:lnTo>
                    <a:lnTo>
                      <a:pt x="2962" y="204"/>
                    </a:lnTo>
                    <a:lnTo>
                      <a:pt x="3000" y="222"/>
                    </a:lnTo>
                    <a:lnTo>
                      <a:pt x="3036" y="241"/>
                    </a:lnTo>
                    <a:lnTo>
                      <a:pt x="3068" y="260"/>
                    </a:lnTo>
                    <a:lnTo>
                      <a:pt x="3096" y="280"/>
                    </a:lnTo>
                    <a:lnTo>
                      <a:pt x="3121" y="300"/>
                    </a:lnTo>
                    <a:lnTo>
                      <a:pt x="3144" y="322"/>
                    </a:lnTo>
                    <a:lnTo>
                      <a:pt x="3161" y="343"/>
                    </a:lnTo>
                    <a:lnTo>
                      <a:pt x="3175" y="365"/>
                    </a:lnTo>
                    <a:lnTo>
                      <a:pt x="3185" y="387"/>
                    </a:lnTo>
                    <a:lnTo>
                      <a:pt x="3191" y="410"/>
                    </a:lnTo>
                    <a:lnTo>
                      <a:pt x="3193" y="4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972080" y="6506640"/>
                <a:ext cx="351360" cy="104760"/>
              </a:xfrm>
              <a:custGeom>
                <a:avLst/>
                <a:gdLst/>
                <a:ahLst/>
                <a:rect l="l" t="t" r="r" b="b"/>
                <a:pathLst>
                  <a:path w="3191" h="883">
                    <a:moveTo>
                      <a:pt x="3191" y="433"/>
                    </a:moveTo>
                    <a:lnTo>
                      <a:pt x="3189" y="456"/>
                    </a:lnTo>
                    <a:lnTo>
                      <a:pt x="3183" y="478"/>
                    </a:lnTo>
                    <a:lnTo>
                      <a:pt x="3173" y="501"/>
                    </a:lnTo>
                    <a:lnTo>
                      <a:pt x="3159" y="524"/>
                    </a:lnTo>
                    <a:lnTo>
                      <a:pt x="3141" y="545"/>
                    </a:lnTo>
                    <a:lnTo>
                      <a:pt x="3119" y="567"/>
                    </a:lnTo>
                    <a:lnTo>
                      <a:pt x="3094" y="587"/>
                    </a:lnTo>
                    <a:lnTo>
                      <a:pt x="3066" y="608"/>
                    </a:lnTo>
                    <a:lnTo>
                      <a:pt x="3034" y="627"/>
                    </a:lnTo>
                    <a:lnTo>
                      <a:pt x="2998" y="648"/>
                    </a:lnTo>
                    <a:lnTo>
                      <a:pt x="2960" y="666"/>
                    </a:lnTo>
                    <a:lnTo>
                      <a:pt x="2918" y="684"/>
                    </a:lnTo>
                    <a:lnTo>
                      <a:pt x="2874" y="702"/>
                    </a:lnTo>
                    <a:lnTo>
                      <a:pt x="2827" y="719"/>
                    </a:lnTo>
                    <a:lnTo>
                      <a:pt x="2777" y="735"/>
                    </a:lnTo>
                    <a:lnTo>
                      <a:pt x="2724" y="752"/>
                    </a:lnTo>
                    <a:lnTo>
                      <a:pt x="2668" y="766"/>
                    </a:lnTo>
                    <a:lnTo>
                      <a:pt x="2610" y="780"/>
                    </a:lnTo>
                    <a:lnTo>
                      <a:pt x="2550" y="794"/>
                    </a:lnTo>
                    <a:lnTo>
                      <a:pt x="2487" y="806"/>
                    </a:lnTo>
                    <a:lnTo>
                      <a:pt x="2423" y="818"/>
                    </a:lnTo>
                    <a:lnTo>
                      <a:pt x="2356" y="829"/>
                    </a:lnTo>
                    <a:lnTo>
                      <a:pt x="2287" y="838"/>
                    </a:lnTo>
                    <a:lnTo>
                      <a:pt x="2217" y="848"/>
                    </a:lnTo>
                    <a:lnTo>
                      <a:pt x="2144" y="856"/>
                    </a:lnTo>
                    <a:lnTo>
                      <a:pt x="2070" y="863"/>
                    </a:lnTo>
                    <a:lnTo>
                      <a:pt x="1994" y="869"/>
                    </a:lnTo>
                    <a:lnTo>
                      <a:pt x="1917" y="874"/>
                    </a:lnTo>
                    <a:lnTo>
                      <a:pt x="1839" y="878"/>
                    </a:lnTo>
                    <a:lnTo>
                      <a:pt x="1759" y="881"/>
                    </a:lnTo>
                    <a:lnTo>
                      <a:pt x="1677" y="883"/>
                    </a:lnTo>
                    <a:lnTo>
                      <a:pt x="1595" y="883"/>
                    </a:lnTo>
                    <a:lnTo>
                      <a:pt x="1514" y="883"/>
                    </a:lnTo>
                    <a:lnTo>
                      <a:pt x="1433" y="881"/>
                    </a:lnTo>
                    <a:lnTo>
                      <a:pt x="1352" y="878"/>
                    </a:lnTo>
                    <a:lnTo>
                      <a:pt x="1274" y="874"/>
                    </a:lnTo>
                    <a:lnTo>
                      <a:pt x="1197" y="869"/>
                    </a:lnTo>
                    <a:lnTo>
                      <a:pt x="1121" y="863"/>
                    </a:lnTo>
                    <a:lnTo>
                      <a:pt x="1047" y="856"/>
                    </a:lnTo>
                    <a:lnTo>
                      <a:pt x="974" y="848"/>
                    </a:lnTo>
                    <a:lnTo>
                      <a:pt x="904" y="838"/>
                    </a:lnTo>
                    <a:lnTo>
                      <a:pt x="835" y="829"/>
                    </a:lnTo>
                    <a:lnTo>
                      <a:pt x="768" y="818"/>
                    </a:lnTo>
                    <a:lnTo>
                      <a:pt x="704" y="806"/>
                    </a:lnTo>
                    <a:lnTo>
                      <a:pt x="641" y="794"/>
                    </a:lnTo>
                    <a:lnTo>
                      <a:pt x="580" y="780"/>
                    </a:lnTo>
                    <a:lnTo>
                      <a:pt x="523" y="766"/>
                    </a:lnTo>
                    <a:lnTo>
                      <a:pt x="467" y="752"/>
                    </a:lnTo>
                    <a:lnTo>
                      <a:pt x="415" y="735"/>
                    </a:lnTo>
                    <a:lnTo>
                      <a:pt x="364" y="719"/>
                    </a:lnTo>
                    <a:lnTo>
                      <a:pt x="317" y="702"/>
                    </a:lnTo>
                    <a:lnTo>
                      <a:pt x="272" y="684"/>
                    </a:lnTo>
                    <a:lnTo>
                      <a:pt x="231" y="666"/>
                    </a:lnTo>
                    <a:lnTo>
                      <a:pt x="193" y="648"/>
                    </a:lnTo>
                    <a:lnTo>
                      <a:pt x="157" y="627"/>
                    </a:lnTo>
                    <a:lnTo>
                      <a:pt x="125" y="608"/>
                    </a:lnTo>
                    <a:lnTo>
                      <a:pt x="97" y="587"/>
                    </a:lnTo>
                    <a:lnTo>
                      <a:pt x="71" y="567"/>
                    </a:lnTo>
                    <a:lnTo>
                      <a:pt x="50" y="545"/>
                    </a:lnTo>
                    <a:lnTo>
                      <a:pt x="32" y="524"/>
                    </a:lnTo>
                    <a:lnTo>
                      <a:pt x="18" y="501"/>
                    </a:lnTo>
                    <a:lnTo>
                      <a:pt x="8" y="478"/>
                    </a:lnTo>
                    <a:lnTo>
                      <a:pt x="2" y="456"/>
                    </a:lnTo>
                    <a:lnTo>
                      <a:pt x="0" y="433"/>
                    </a:lnTo>
                    <a:lnTo>
                      <a:pt x="2" y="409"/>
                    </a:lnTo>
                    <a:lnTo>
                      <a:pt x="8" y="386"/>
                    </a:lnTo>
                    <a:lnTo>
                      <a:pt x="18" y="364"/>
                    </a:lnTo>
                    <a:lnTo>
                      <a:pt x="32" y="342"/>
                    </a:lnTo>
                    <a:lnTo>
                      <a:pt x="50" y="321"/>
                    </a:lnTo>
                    <a:lnTo>
                      <a:pt x="71" y="300"/>
                    </a:lnTo>
                    <a:lnTo>
                      <a:pt x="97" y="279"/>
                    </a:lnTo>
                    <a:lnTo>
                      <a:pt x="125" y="260"/>
                    </a:lnTo>
                    <a:lnTo>
                      <a:pt x="157" y="240"/>
                    </a:lnTo>
                    <a:lnTo>
                      <a:pt x="193" y="222"/>
                    </a:lnTo>
                    <a:lnTo>
                      <a:pt x="231" y="204"/>
                    </a:lnTo>
                    <a:lnTo>
                      <a:pt x="272" y="186"/>
                    </a:lnTo>
                    <a:lnTo>
                      <a:pt x="317" y="169"/>
                    </a:lnTo>
                    <a:lnTo>
                      <a:pt x="364" y="153"/>
                    </a:lnTo>
                    <a:lnTo>
                      <a:pt x="415" y="137"/>
                    </a:lnTo>
                    <a:lnTo>
                      <a:pt x="467" y="123"/>
                    </a:lnTo>
                    <a:lnTo>
                      <a:pt x="523" y="109"/>
                    </a:lnTo>
                    <a:lnTo>
                      <a:pt x="580" y="94"/>
                    </a:lnTo>
                    <a:lnTo>
                      <a:pt x="641" y="82"/>
                    </a:lnTo>
                    <a:lnTo>
                      <a:pt x="704" y="70"/>
                    </a:lnTo>
                    <a:lnTo>
                      <a:pt x="768" y="59"/>
                    </a:lnTo>
                    <a:lnTo>
                      <a:pt x="835" y="49"/>
                    </a:lnTo>
                    <a:lnTo>
                      <a:pt x="904" y="40"/>
                    </a:lnTo>
                    <a:lnTo>
                      <a:pt x="974" y="32"/>
                    </a:lnTo>
                    <a:lnTo>
                      <a:pt x="1047" y="24"/>
                    </a:lnTo>
                    <a:lnTo>
                      <a:pt x="1121" y="18"/>
                    </a:lnTo>
                    <a:lnTo>
                      <a:pt x="1197" y="12"/>
                    </a:lnTo>
                    <a:lnTo>
                      <a:pt x="1274" y="8"/>
                    </a:lnTo>
                    <a:lnTo>
                      <a:pt x="1352" y="4"/>
                    </a:lnTo>
                    <a:lnTo>
                      <a:pt x="1433" y="2"/>
                    </a:lnTo>
                    <a:lnTo>
                      <a:pt x="1514" y="0"/>
                    </a:lnTo>
                    <a:lnTo>
                      <a:pt x="1595" y="0"/>
                    </a:lnTo>
                    <a:lnTo>
                      <a:pt x="1677" y="0"/>
                    </a:lnTo>
                    <a:lnTo>
                      <a:pt x="1759" y="2"/>
                    </a:lnTo>
                    <a:lnTo>
                      <a:pt x="1839" y="4"/>
                    </a:lnTo>
                    <a:lnTo>
                      <a:pt x="1917" y="8"/>
                    </a:lnTo>
                    <a:lnTo>
                      <a:pt x="1994" y="12"/>
                    </a:lnTo>
                    <a:lnTo>
                      <a:pt x="2070" y="18"/>
                    </a:lnTo>
                    <a:lnTo>
                      <a:pt x="2144" y="24"/>
                    </a:lnTo>
                    <a:lnTo>
                      <a:pt x="2217" y="32"/>
                    </a:lnTo>
                    <a:lnTo>
                      <a:pt x="2287" y="40"/>
                    </a:lnTo>
                    <a:lnTo>
                      <a:pt x="2356" y="49"/>
                    </a:lnTo>
                    <a:lnTo>
                      <a:pt x="2423" y="59"/>
                    </a:lnTo>
                    <a:lnTo>
                      <a:pt x="2487" y="70"/>
                    </a:lnTo>
                    <a:lnTo>
                      <a:pt x="2550" y="82"/>
                    </a:lnTo>
                    <a:lnTo>
                      <a:pt x="2610" y="94"/>
                    </a:lnTo>
                    <a:lnTo>
                      <a:pt x="2668" y="109"/>
                    </a:lnTo>
                    <a:lnTo>
                      <a:pt x="2724" y="123"/>
                    </a:lnTo>
                    <a:lnTo>
                      <a:pt x="2777" y="137"/>
                    </a:lnTo>
                    <a:lnTo>
                      <a:pt x="2827" y="153"/>
                    </a:lnTo>
                    <a:lnTo>
                      <a:pt x="2874" y="169"/>
                    </a:lnTo>
                    <a:lnTo>
                      <a:pt x="2918" y="186"/>
                    </a:lnTo>
                    <a:lnTo>
                      <a:pt x="2960" y="204"/>
                    </a:lnTo>
                    <a:lnTo>
                      <a:pt x="2998" y="222"/>
                    </a:lnTo>
                    <a:lnTo>
                      <a:pt x="3034" y="240"/>
                    </a:lnTo>
                    <a:lnTo>
                      <a:pt x="3066" y="260"/>
                    </a:lnTo>
                    <a:lnTo>
                      <a:pt x="3094" y="279"/>
                    </a:lnTo>
                    <a:lnTo>
                      <a:pt x="3119" y="300"/>
                    </a:lnTo>
                    <a:lnTo>
                      <a:pt x="3141" y="321"/>
                    </a:lnTo>
                    <a:lnTo>
                      <a:pt x="3159" y="342"/>
                    </a:lnTo>
                    <a:lnTo>
                      <a:pt x="3173" y="364"/>
                    </a:lnTo>
                    <a:lnTo>
                      <a:pt x="3183" y="386"/>
                    </a:lnTo>
                    <a:lnTo>
                      <a:pt x="3189" y="409"/>
                    </a:lnTo>
                    <a:lnTo>
                      <a:pt x="3191" y="4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972080" y="6506640"/>
                <a:ext cx="351360" cy="104760"/>
              </a:xfrm>
              <a:custGeom>
                <a:avLst/>
                <a:gdLst/>
                <a:ahLst/>
                <a:rect l="l" t="t" r="r" b="b"/>
                <a:pathLst>
                  <a:path w="3188" h="882">
                    <a:moveTo>
                      <a:pt x="3188" y="433"/>
                    </a:moveTo>
                    <a:lnTo>
                      <a:pt x="3185" y="456"/>
                    </a:lnTo>
                    <a:lnTo>
                      <a:pt x="3179" y="478"/>
                    </a:lnTo>
                    <a:lnTo>
                      <a:pt x="3169" y="501"/>
                    </a:lnTo>
                    <a:lnTo>
                      <a:pt x="3155" y="524"/>
                    </a:lnTo>
                    <a:lnTo>
                      <a:pt x="3138" y="545"/>
                    </a:lnTo>
                    <a:lnTo>
                      <a:pt x="3116" y="566"/>
                    </a:lnTo>
                    <a:lnTo>
                      <a:pt x="3091" y="587"/>
                    </a:lnTo>
                    <a:lnTo>
                      <a:pt x="3062" y="607"/>
                    </a:lnTo>
                    <a:lnTo>
                      <a:pt x="3031" y="627"/>
                    </a:lnTo>
                    <a:lnTo>
                      <a:pt x="2995" y="647"/>
                    </a:lnTo>
                    <a:lnTo>
                      <a:pt x="2957" y="666"/>
                    </a:lnTo>
                    <a:lnTo>
                      <a:pt x="2915" y="684"/>
                    </a:lnTo>
                    <a:lnTo>
                      <a:pt x="2871" y="701"/>
                    </a:lnTo>
                    <a:lnTo>
                      <a:pt x="2824" y="718"/>
                    </a:lnTo>
                    <a:lnTo>
                      <a:pt x="2773" y="734"/>
                    </a:lnTo>
                    <a:lnTo>
                      <a:pt x="2721" y="751"/>
                    </a:lnTo>
                    <a:lnTo>
                      <a:pt x="2665" y="766"/>
                    </a:lnTo>
                    <a:lnTo>
                      <a:pt x="2607" y="780"/>
                    </a:lnTo>
                    <a:lnTo>
                      <a:pt x="2547" y="793"/>
                    </a:lnTo>
                    <a:lnTo>
                      <a:pt x="2485" y="805"/>
                    </a:lnTo>
                    <a:lnTo>
                      <a:pt x="2421" y="817"/>
                    </a:lnTo>
                    <a:lnTo>
                      <a:pt x="2353" y="828"/>
                    </a:lnTo>
                    <a:lnTo>
                      <a:pt x="2284" y="838"/>
                    </a:lnTo>
                    <a:lnTo>
                      <a:pt x="2214" y="847"/>
                    </a:lnTo>
                    <a:lnTo>
                      <a:pt x="2142" y="855"/>
                    </a:lnTo>
                    <a:lnTo>
                      <a:pt x="2067" y="862"/>
                    </a:lnTo>
                    <a:lnTo>
                      <a:pt x="1992" y="868"/>
                    </a:lnTo>
                    <a:lnTo>
                      <a:pt x="1915" y="873"/>
                    </a:lnTo>
                    <a:lnTo>
                      <a:pt x="1836" y="877"/>
                    </a:lnTo>
                    <a:lnTo>
                      <a:pt x="1756" y="880"/>
                    </a:lnTo>
                    <a:lnTo>
                      <a:pt x="1675" y="882"/>
                    </a:lnTo>
                    <a:lnTo>
                      <a:pt x="1593" y="882"/>
                    </a:lnTo>
                    <a:lnTo>
                      <a:pt x="1512" y="882"/>
                    </a:lnTo>
                    <a:lnTo>
                      <a:pt x="1431" y="880"/>
                    </a:lnTo>
                    <a:lnTo>
                      <a:pt x="1351" y="877"/>
                    </a:lnTo>
                    <a:lnTo>
                      <a:pt x="1272" y="873"/>
                    </a:lnTo>
                    <a:lnTo>
                      <a:pt x="1196" y="868"/>
                    </a:lnTo>
                    <a:lnTo>
                      <a:pt x="1120" y="862"/>
                    </a:lnTo>
                    <a:lnTo>
                      <a:pt x="1045" y="855"/>
                    </a:lnTo>
                    <a:lnTo>
                      <a:pt x="973" y="847"/>
                    </a:lnTo>
                    <a:lnTo>
                      <a:pt x="903" y="838"/>
                    </a:lnTo>
                    <a:lnTo>
                      <a:pt x="834" y="828"/>
                    </a:lnTo>
                    <a:lnTo>
                      <a:pt x="767" y="817"/>
                    </a:lnTo>
                    <a:lnTo>
                      <a:pt x="703" y="805"/>
                    </a:lnTo>
                    <a:lnTo>
                      <a:pt x="640" y="793"/>
                    </a:lnTo>
                    <a:lnTo>
                      <a:pt x="579" y="780"/>
                    </a:lnTo>
                    <a:lnTo>
                      <a:pt x="522" y="766"/>
                    </a:lnTo>
                    <a:lnTo>
                      <a:pt x="466" y="751"/>
                    </a:lnTo>
                    <a:lnTo>
                      <a:pt x="414" y="734"/>
                    </a:lnTo>
                    <a:lnTo>
                      <a:pt x="363" y="718"/>
                    </a:lnTo>
                    <a:lnTo>
                      <a:pt x="316" y="701"/>
                    </a:lnTo>
                    <a:lnTo>
                      <a:pt x="271" y="684"/>
                    </a:lnTo>
                    <a:lnTo>
                      <a:pt x="230" y="666"/>
                    </a:lnTo>
                    <a:lnTo>
                      <a:pt x="192" y="647"/>
                    </a:lnTo>
                    <a:lnTo>
                      <a:pt x="156" y="627"/>
                    </a:lnTo>
                    <a:lnTo>
                      <a:pt x="125" y="607"/>
                    </a:lnTo>
                    <a:lnTo>
                      <a:pt x="96" y="587"/>
                    </a:lnTo>
                    <a:lnTo>
                      <a:pt x="71" y="566"/>
                    </a:lnTo>
                    <a:lnTo>
                      <a:pt x="49" y="545"/>
                    </a:lnTo>
                    <a:lnTo>
                      <a:pt x="32" y="524"/>
                    </a:lnTo>
                    <a:lnTo>
                      <a:pt x="18" y="501"/>
                    </a:lnTo>
                    <a:lnTo>
                      <a:pt x="8" y="478"/>
                    </a:lnTo>
                    <a:lnTo>
                      <a:pt x="2" y="456"/>
                    </a:lnTo>
                    <a:lnTo>
                      <a:pt x="0" y="433"/>
                    </a:lnTo>
                    <a:lnTo>
                      <a:pt x="2" y="409"/>
                    </a:lnTo>
                    <a:lnTo>
                      <a:pt x="8" y="386"/>
                    </a:lnTo>
                    <a:lnTo>
                      <a:pt x="18" y="364"/>
                    </a:lnTo>
                    <a:lnTo>
                      <a:pt x="32" y="343"/>
                    </a:lnTo>
                    <a:lnTo>
                      <a:pt x="49" y="321"/>
                    </a:lnTo>
                    <a:lnTo>
                      <a:pt x="71" y="300"/>
                    </a:lnTo>
                    <a:lnTo>
                      <a:pt x="96" y="280"/>
                    </a:lnTo>
                    <a:lnTo>
                      <a:pt x="125" y="260"/>
                    </a:lnTo>
                    <a:lnTo>
                      <a:pt x="156" y="241"/>
                    </a:lnTo>
                    <a:lnTo>
                      <a:pt x="192" y="222"/>
                    </a:lnTo>
                    <a:lnTo>
                      <a:pt x="230" y="204"/>
                    </a:lnTo>
                    <a:lnTo>
                      <a:pt x="271" y="186"/>
                    </a:lnTo>
                    <a:lnTo>
                      <a:pt x="316" y="169"/>
                    </a:lnTo>
                    <a:lnTo>
                      <a:pt x="363" y="153"/>
                    </a:lnTo>
                    <a:lnTo>
                      <a:pt x="414" y="138"/>
                    </a:lnTo>
                    <a:lnTo>
                      <a:pt x="466" y="123"/>
                    </a:lnTo>
                    <a:lnTo>
                      <a:pt x="522" y="109"/>
                    </a:lnTo>
                    <a:lnTo>
                      <a:pt x="579" y="96"/>
                    </a:lnTo>
                    <a:lnTo>
                      <a:pt x="640" y="83"/>
                    </a:lnTo>
                    <a:lnTo>
                      <a:pt x="703" y="71"/>
                    </a:lnTo>
                    <a:lnTo>
                      <a:pt x="767" y="60"/>
                    </a:lnTo>
                    <a:lnTo>
                      <a:pt x="834" y="50"/>
                    </a:lnTo>
                    <a:lnTo>
                      <a:pt x="903" y="41"/>
                    </a:lnTo>
                    <a:lnTo>
                      <a:pt x="973" y="33"/>
                    </a:lnTo>
                    <a:lnTo>
                      <a:pt x="1045" y="25"/>
                    </a:lnTo>
                    <a:lnTo>
                      <a:pt x="1120" y="19"/>
                    </a:lnTo>
                    <a:lnTo>
                      <a:pt x="1196" y="13"/>
                    </a:lnTo>
                    <a:lnTo>
                      <a:pt x="1272" y="9"/>
                    </a:lnTo>
                    <a:lnTo>
                      <a:pt x="1351" y="5"/>
                    </a:lnTo>
                    <a:lnTo>
                      <a:pt x="1431" y="3"/>
                    </a:lnTo>
                    <a:lnTo>
                      <a:pt x="1512" y="1"/>
                    </a:lnTo>
                    <a:lnTo>
                      <a:pt x="1593" y="0"/>
                    </a:lnTo>
                    <a:lnTo>
                      <a:pt x="1675" y="1"/>
                    </a:lnTo>
                    <a:lnTo>
                      <a:pt x="1756" y="3"/>
                    </a:lnTo>
                    <a:lnTo>
                      <a:pt x="1836" y="5"/>
                    </a:lnTo>
                    <a:lnTo>
                      <a:pt x="1915" y="9"/>
                    </a:lnTo>
                    <a:lnTo>
                      <a:pt x="1992" y="13"/>
                    </a:lnTo>
                    <a:lnTo>
                      <a:pt x="2067" y="19"/>
                    </a:lnTo>
                    <a:lnTo>
                      <a:pt x="2142" y="25"/>
                    </a:lnTo>
                    <a:lnTo>
                      <a:pt x="2214" y="33"/>
                    </a:lnTo>
                    <a:lnTo>
                      <a:pt x="2284" y="41"/>
                    </a:lnTo>
                    <a:lnTo>
                      <a:pt x="2353" y="50"/>
                    </a:lnTo>
                    <a:lnTo>
                      <a:pt x="2421" y="60"/>
                    </a:lnTo>
                    <a:lnTo>
                      <a:pt x="2485" y="71"/>
                    </a:lnTo>
                    <a:lnTo>
                      <a:pt x="2547" y="83"/>
                    </a:lnTo>
                    <a:lnTo>
                      <a:pt x="2607" y="96"/>
                    </a:lnTo>
                    <a:lnTo>
                      <a:pt x="2665" y="109"/>
                    </a:lnTo>
                    <a:lnTo>
                      <a:pt x="2721" y="123"/>
                    </a:lnTo>
                    <a:lnTo>
                      <a:pt x="2773" y="138"/>
                    </a:lnTo>
                    <a:lnTo>
                      <a:pt x="2824" y="153"/>
                    </a:lnTo>
                    <a:lnTo>
                      <a:pt x="2871" y="169"/>
                    </a:lnTo>
                    <a:lnTo>
                      <a:pt x="2915" y="186"/>
                    </a:lnTo>
                    <a:lnTo>
                      <a:pt x="2957" y="204"/>
                    </a:lnTo>
                    <a:lnTo>
                      <a:pt x="2995" y="222"/>
                    </a:lnTo>
                    <a:lnTo>
                      <a:pt x="3031" y="241"/>
                    </a:lnTo>
                    <a:lnTo>
                      <a:pt x="3062" y="260"/>
                    </a:lnTo>
                    <a:lnTo>
                      <a:pt x="3091" y="280"/>
                    </a:lnTo>
                    <a:lnTo>
                      <a:pt x="3116" y="300"/>
                    </a:lnTo>
                    <a:lnTo>
                      <a:pt x="3138" y="321"/>
                    </a:lnTo>
                    <a:lnTo>
                      <a:pt x="3155" y="343"/>
                    </a:lnTo>
                    <a:lnTo>
                      <a:pt x="3169" y="364"/>
                    </a:lnTo>
                    <a:lnTo>
                      <a:pt x="3179" y="386"/>
                    </a:lnTo>
                    <a:lnTo>
                      <a:pt x="3185" y="409"/>
                    </a:lnTo>
                    <a:lnTo>
                      <a:pt x="3188" y="4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972080" y="6506640"/>
                <a:ext cx="351360" cy="104760"/>
              </a:xfrm>
              <a:custGeom>
                <a:avLst/>
                <a:gdLst/>
                <a:ahLst/>
                <a:rect l="l" t="t" r="r" b="b"/>
                <a:pathLst>
                  <a:path w="3185" h="881">
                    <a:moveTo>
                      <a:pt x="3185" y="432"/>
                    </a:moveTo>
                    <a:lnTo>
                      <a:pt x="3183" y="455"/>
                    </a:lnTo>
                    <a:lnTo>
                      <a:pt x="3177" y="477"/>
                    </a:lnTo>
                    <a:lnTo>
                      <a:pt x="3167" y="500"/>
                    </a:lnTo>
                    <a:lnTo>
                      <a:pt x="3153" y="521"/>
                    </a:lnTo>
                    <a:lnTo>
                      <a:pt x="3135" y="544"/>
                    </a:lnTo>
                    <a:lnTo>
                      <a:pt x="3113" y="565"/>
                    </a:lnTo>
                    <a:lnTo>
                      <a:pt x="3088" y="586"/>
                    </a:lnTo>
                    <a:lnTo>
                      <a:pt x="3060" y="606"/>
                    </a:lnTo>
                    <a:lnTo>
                      <a:pt x="3029" y="626"/>
                    </a:lnTo>
                    <a:lnTo>
                      <a:pt x="2993" y="646"/>
                    </a:lnTo>
                    <a:lnTo>
                      <a:pt x="2955" y="664"/>
                    </a:lnTo>
                    <a:lnTo>
                      <a:pt x="2913" y="682"/>
                    </a:lnTo>
                    <a:lnTo>
                      <a:pt x="2869" y="700"/>
                    </a:lnTo>
                    <a:lnTo>
                      <a:pt x="2822" y="717"/>
                    </a:lnTo>
                    <a:lnTo>
                      <a:pt x="2771" y="733"/>
                    </a:lnTo>
                    <a:lnTo>
                      <a:pt x="2719" y="749"/>
                    </a:lnTo>
                    <a:lnTo>
                      <a:pt x="2663" y="764"/>
                    </a:lnTo>
                    <a:lnTo>
                      <a:pt x="2605" y="778"/>
                    </a:lnTo>
                    <a:lnTo>
                      <a:pt x="2546" y="791"/>
                    </a:lnTo>
                    <a:lnTo>
                      <a:pt x="2483" y="804"/>
                    </a:lnTo>
                    <a:lnTo>
                      <a:pt x="2419" y="815"/>
                    </a:lnTo>
                    <a:lnTo>
                      <a:pt x="2352" y="826"/>
                    </a:lnTo>
                    <a:lnTo>
                      <a:pt x="2283" y="836"/>
                    </a:lnTo>
                    <a:lnTo>
                      <a:pt x="2213" y="846"/>
                    </a:lnTo>
                    <a:lnTo>
                      <a:pt x="2140" y="854"/>
                    </a:lnTo>
                    <a:lnTo>
                      <a:pt x="2066" y="861"/>
                    </a:lnTo>
                    <a:lnTo>
                      <a:pt x="1990" y="867"/>
                    </a:lnTo>
                    <a:lnTo>
                      <a:pt x="1914" y="872"/>
                    </a:lnTo>
                    <a:lnTo>
                      <a:pt x="1835" y="875"/>
                    </a:lnTo>
                    <a:lnTo>
                      <a:pt x="1755" y="878"/>
                    </a:lnTo>
                    <a:lnTo>
                      <a:pt x="1674" y="880"/>
                    </a:lnTo>
                    <a:lnTo>
                      <a:pt x="1592" y="881"/>
                    </a:lnTo>
                    <a:lnTo>
                      <a:pt x="1511" y="880"/>
                    </a:lnTo>
                    <a:lnTo>
                      <a:pt x="1430" y="878"/>
                    </a:lnTo>
                    <a:lnTo>
                      <a:pt x="1350" y="875"/>
                    </a:lnTo>
                    <a:lnTo>
                      <a:pt x="1271" y="872"/>
                    </a:lnTo>
                    <a:lnTo>
                      <a:pt x="1195" y="867"/>
                    </a:lnTo>
                    <a:lnTo>
                      <a:pt x="1119" y="861"/>
                    </a:lnTo>
                    <a:lnTo>
                      <a:pt x="1045" y="854"/>
                    </a:lnTo>
                    <a:lnTo>
                      <a:pt x="972" y="846"/>
                    </a:lnTo>
                    <a:lnTo>
                      <a:pt x="902" y="836"/>
                    </a:lnTo>
                    <a:lnTo>
                      <a:pt x="833" y="826"/>
                    </a:lnTo>
                    <a:lnTo>
                      <a:pt x="766" y="815"/>
                    </a:lnTo>
                    <a:lnTo>
                      <a:pt x="702" y="804"/>
                    </a:lnTo>
                    <a:lnTo>
                      <a:pt x="639" y="791"/>
                    </a:lnTo>
                    <a:lnTo>
                      <a:pt x="579" y="778"/>
                    </a:lnTo>
                    <a:lnTo>
                      <a:pt x="522" y="764"/>
                    </a:lnTo>
                    <a:lnTo>
                      <a:pt x="466" y="749"/>
                    </a:lnTo>
                    <a:lnTo>
                      <a:pt x="414" y="733"/>
                    </a:lnTo>
                    <a:lnTo>
                      <a:pt x="363" y="717"/>
                    </a:lnTo>
                    <a:lnTo>
                      <a:pt x="316" y="700"/>
                    </a:lnTo>
                    <a:lnTo>
                      <a:pt x="271" y="682"/>
                    </a:lnTo>
                    <a:lnTo>
                      <a:pt x="230" y="664"/>
                    </a:lnTo>
                    <a:lnTo>
                      <a:pt x="192" y="646"/>
                    </a:lnTo>
                    <a:lnTo>
                      <a:pt x="157" y="626"/>
                    </a:lnTo>
                    <a:lnTo>
                      <a:pt x="125" y="606"/>
                    </a:lnTo>
                    <a:lnTo>
                      <a:pt x="97" y="586"/>
                    </a:lnTo>
                    <a:lnTo>
                      <a:pt x="71" y="565"/>
                    </a:lnTo>
                    <a:lnTo>
                      <a:pt x="50" y="544"/>
                    </a:lnTo>
                    <a:lnTo>
                      <a:pt x="32" y="521"/>
                    </a:lnTo>
                    <a:lnTo>
                      <a:pt x="18" y="500"/>
                    </a:lnTo>
                    <a:lnTo>
                      <a:pt x="8" y="477"/>
                    </a:lnTo>
                    <a:lnTo>
                      <a:pt x="2" y="455"/>
                    </a:lnTo>
                    <a:lnTo>
                      <a:pt x="0" y="432"/>
                    </a:lnTo>
                    <a:lnTo>
                      <a:pt x="2" y="408"/>
                    </a:lnTo>
                    <a:lnTo>
                      <a:pt x="8" y="385"/>
                    </a:lnTo>
                    <a:lnTo>
                      <a:pt x="18" y="363"/>
                    </a:lnTo>
                    <a:lnTo>
                      <a:pt x="32" y="342"/>
                    </a:lnTo>
                    <a:lnTo>
                      <a:pt x="50" y="321"/>
                    </a:lnTo>
                    <a:lnTo>
                      <a:pt x="71" y="299"/>
                    </a:lnTo>
                    <a:lnTo>
                      <a:pt x="97" y="279"/>
                    </a:lnTo>
                    <a:lnTo>
                      <a:pt x="125" y="259"/>
                    </a:lnTo>
                    <a:lnTo>
                      <a:pt x="157" y="240"/>
                    </a:lnTo>
                    <a:lnTo>
                      <a:pt x="192" y="222"/>
                    </a:lnTo>
                    <a:lnTo>
                      <a:pt x="230" y="204"/>
                    </a:lnTo>
                    <a:lnTo>
                      <a:pt x="271" y="186"/>
                    </a:lnTo>
                    <a:lnTo>
                      <a:pt x="316" y="169"/>
                    </a:lnTo>
                    <a:lnTo>
                      <a:pt x="363" y="153"/>
                    </a:lnTo>
                    <a:lnTo>
                      <a:pt x="414" y="138"/>
                    </a:lnTo>
                    <a:lnTo>
                      <a:pt x="466" y="123"/>
                    </a:lnTo>
                    <a:lnTo>
                      <a:pt x="522" y="109"/>
                    </a:lnTo>
                    <a:lnTo>
                      <a:pt x="579" y="96"/>
                    </a:lnTo>
                    <a:lnTo>
                      <a:pt x="639" y="82"/>
                    </a:lnTo>
                    <a:lnTo>
                      <a:pt x="702" y="71"/>
                    </a:lnTo>
                    <a:lnTo>
                      <a:pt x="766" y="60"/>
                    </a:lnTo>
                    <a:lnTo>
                      <a:pt x="833" y="50"/>
                    </a:lnTo>
                    <a:lnTo>
                      <a:pt x="902" y="41"/>
                    </a:lnTo>
                    <a:lnTo>
                      <a:pt x="972" y="33"/>
                    </a:lnTo>
                    <a:lnTo>
                      <a:pt x="1045" y="25"/>
                    </a:lnTo>
                    <a:lnTo>
                      <a:pt x="1119" y="19"/>
                    </a:lnTo>
                    <a:lnTo>
                      <a:pt x="1195" y="13"/>
                    </a:lnTo>
                    <a:lnTo>
                      <a:pt x="1271" y="9"/>
                    </a:lnTo>
                    <a:lnTo>
                      <a:pt x="1350" y="5"/>
                    </a:lnTo>
                    <a:lnTo>
                      <a:pt x="1430" y="2"/>
                    </a:lnTo>
                    <a:lnTo>
                      <a:pt x="1511" y="1"/>
                    </a:lnTo>
                    <a:lnTo>
                      <a:pt x="1592" y="0"/>
                    </a:lnTo>
                    <a:lnTo>
                      <a:pt x="1674" y="1"/>
                    </a:lnTo>
                    <a:lnTo>
                      <a:pt x="1755" y="2"/>
                    </a:lnTo>
                    <a:lnTo>
                      <a:pt x="1835" y="5"/>
                    </a:lnTo>
                    <a:lnTo>
                      <a:pt x="1914" y="9"/>
                    </a:lnTo>
                    <a:lnTo>
                      <a:pt x="1990" y="13"/>
                    </a:lnTo>
                    <a:lnTo>
                      <a:pt x="2066" y="19"/>
                    </a:lnTo>
                    <a:lnTo>
                      <a:pt x="2140" y="25"/>
                    </a:lnTo>
                    <a:lnTo>
                      <a:pt x="2213" y="33"/>
                    </a:lnTo>
                    <a:lnTo>
                      <a:pt x="2283" y="41"/>
                    </a:lnTo>
                    <a:lnTo>
                      <a:pt x="2352" y="50"/>
                    </a:lnTo>
                    <a:lnTo>
                      <a:pt x="2419" y="60"/>
                    </a:lnTo>
                    <a:lnTo>
                      <a:pt x="2483" y="71"/>
                    </a:lnTo>
                    <a:lnTo>
                      <a:pt x="2546" y="82"/>
                    </a:lnTo>
                    <a:lnTo>
                      <a:pt x="2605" y="96"/>
                    </a:lnTo>
                    <a:lnTo>
                      <a:pt x="2663" y="109"/>
                    </a:lnTo>
                    <a:lnTo>
                      <a:pt x="2719" y="123"/>
                    </a:lnTo>
                    <a:lnTo>
                      <a:pt x="2771" y="138"/>
                    </a:lnTo>
                    <a:lnTo>
                      <a:pt x="2822" y="153"/>
                    </a:lnTo>
                    <a:lnTo>
                      <a:pt x="2869" y="169"/>
                    </a:lnTo>
                    <a:lnTo>
                      <a:pt x="2913" y="186"/>
                    </a:lnTo>
                    <a:lnTo>
                      <a:pt x="2955" y="204"/>
                    </a:lnTo>
                    <a:lnTo>
                      <a:pt x="2993" y="222"/>
                    </a:lnTo>
                    <a:lnTo>
                      <a:pt x="3029" y="240"/>
                    </a:lnTo>
                    <a:lnTo>
                      <a:pt x="3060" y="259"/>
                    </a:lnTo>
                    <a:lnTo>
                      <a:pt x="3088" y="279"/>
                    </a:lnTo>
                    <a:lnTo>
                      <a:pt x="3113" y="299"/>
                    </a:lnTo>
                    <a:lnTo>
                      <a:pt x="3135" y="321"/>
                    </a:lnTo>
                    <a:lnTo>
                      <a:pt x="3153" y="342"/>
                    </a:lnTo>
                    <a:lnTo>
                      <a:pt x="3167" y="363"/>
                    </a:lnTo>
                    <a:lnTo>
                      <a:pt x="3177" y="385"/>
                    </a:lnTo>
                    <a:lnTo>
                      <a:pt x="3183" y="408"/>
                    </a:lnTo>
                    <a:lnTo>
                      <a:pt x="3185" y="4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972080" y="6506640"/>
                <a:ext cx="351360" cy="104760"/>
              </a:xfrm>
              <a:custGeom>
                <a:avLst/>
                <a:gdLst/>
                <a:ahLst/>
                <a:rect l="l" t="t" r="r" b="b"/>
                <a:pathLst>
                  <a:path w="3182" h="879">
                    <a:moveTo>
                      <a:pt x="3182" y="431"/>
                    </a:moveTo>
                    <a:lnTo>
                      <a:pt x="3180" y="454"/>
                    </a:lnTo>
                    <a:lnTo>
                      <a:pt x="3174" y="476"/>
                    </a:lnTo>
                    <a:lnTo>
                      <a:pt x="3164" y="498"/>
                    </a:lnTo>
                    <a:lnTo>
                      <a:pt x="3150" y="520"/>
                    </a:lnTo>
                    <a:lnTo>
                      <a:pt x="3132" y="543"/>
                    </a:lnTo>
                    <a:lnTo>
                      <a:pt x="3110" y="564"/>
                    </a:lnTo>
                    <a:lnTo>
                      <a:pt x="3085" y="584"/>
                    </a:lnTo>
                    <a:lnTo>
                      <a:pt x="3057" y="605"/>
                    </a:lnTo>
                    <a:lnTo>
                      <a:pt x="3025" y="624"/>
                    </a:lnTo>
                    <a:lnTo>
                      <a:pt x="2990" y="644"/>
                    </a:lnTo>
                    <a:lnTo>
                      <a:pt x="2952" y="663"/>
                    </a:lnTo>
                    <a:lnTo>
                      <a:pt x="2910" y="681"/>
                    </a:lnTo>
                    <a:lnTo>
                      <a:pt x="2866" y="698"/>
                    </a:lnTo>
                    <a:lnTo>
                      <a:pt x="2819" y="715"/>
                    </a:lnTo>
                    <a:lnTo>
                      <a:pt x="2768" y="731"/>
                    </a:lnTo>
                    <a:lnTo>
                      <a:pt x="2716" y="748"/>
                    </a:lnTo>
                    <a:lnTo>
                      <a:pt x="2660" y="762"/>
                    </a:lnTo>
                    <a:lnTo>
                      <a:pt x="2602" y="776"/>
                    </a:lnTo>
                    <a:lnTo>
                      <a:pt x="2543" y="789"/>
                    </a:lnTo>
                    <a:lnTo>
                      <a:pt x="2480" y="802"/>
                    </a:lnTo>
                    <a:lnTo>
                      <a:pt x="2416" y="813"/>
                    </a:lnTo>
                    <a:lnTo>
                      <a:pt x="2349" y="824"/>
                    </a:lnTo>
                    <a:lnTo>
                      <a:pt x="2280" y="834"/>
                    </a:lnTo>
                    <a:lnTo>
                      <a:pt x="2210" y="844"/>
                    </a:lnTo>
                    <a:lnTo>
                      <a:pt x="2138" y="852"/>
                    </a:lnTo>
                    <a:lnTo>
                      <a:pt x="2064" y="859"/>
                    </a:lnTo>
                    <a:lnTo>
                      <a:pt x="1988" y="865"/>
                    </a:lnTo>
                    <a:lnTo>
                      <a:pt x="1912" y="870"/>
                    </a:lnTo>
                    <a:lnTo>
                      <a:pt x="1833" y="874"/>
                    </a:lnTo>
                    <a:lnTo>
                      <a:pt x="1753" y="876"/>
                    </a:lnTo>
                    <a:lnTo>
                      <a:pt x="1672" y="878"/>
                    </a:lnTo>
                    <a:lnTo>
                      <a:pt x="1590" y="879"/>
                    </a:lnTo>
                    <a:lnTo>
                      <a:pt x="1509" y="878"/>
                    </a:lnTo>
                    <a:lnTo>
                      <a:pt x="1428" y="876"/>
                    </a:lnTo>
                    <a:lnTo>
                      <a:pt x="1348" y="874"/>
                    </a:lnTo>
                    <a:lnTo>
                      <a:pt x="1270" y="870"/>
                    </a:lnTo>
                    <a:lnTo>
                      <a:pt x="1193" y="865"/>
                    </a:lnTo>
                    <a:lnTo>
                      <a:pt x="1118" y="859"/>
                    </a:lnTo>
                    <a:lnTo>
                      <a:pt x="1043" y="852"/>
                    </a:lnTo>
                    <a:lnTo>
                      <a:pt x="971" y="844"/>
                    </a:lnTo>
                    <a:lnTo>
                      <a:pt x="901" y="834"/>
                    </a:lnTo>
                    <a:lnTo>
                      <a:pt x="832" y="824"/>
                    </a:lnTo>
                    <a:lnTo>
                      <a:pt x="765" y="813"/>
                    </a:lnTo>
                    <a:lnTo>
                      <a:pt x="701" y="802"/>
                    </a:lnTo>
                    <a:lnTo>
                      <a:pt x="638" y="789"/>
                    </a:lnTo>
                    <a:lnTo>
                      <a:pt x="579" y="776"/>
                    </a:lnTo>
                    <a:lnTo>
                      <a:pt x="521" y="762"/>
                    </a:lnTo>
                    <a:lnTo>
                      <a:pt x="465" y="748"/>
                    </a:lnTo>
                    <a:lnTo>
                      <a:pt x="413" y="731"/>
                    </a:lnTo>
                    <a:lnTo>
                      <a:pt x="362" y="715"/>
                    </a:lnTo>
                    <a:lnTo>
                      <a:pt x="315" y="698"/>
                    </a:lnTo>
                    <a:lnTo>
                      <a:pt x="271" y="681"/>
                    </a:lnTo>
                    <a:lnTo>
                      <a:pt x="230" y="663"/>
                    </a:lnTo>
                    <a:lnTo>
                      <a:pt x="192" y="644"/>
                    </a:lnTo>
                    <a:lnTo>
                      <a:pt x="156" y="624"/>
                    </a:lnTo>
                    <a:lnTo>
                      <a:pt x="124" y="605"/>
                    </a:lnTo>
                    <a:lnTo>
                      <a:pt x="96" y="584"/>
                    </a:lnTo>
                    <a:lnTo>
                      <a:pt x="71" y="564"/>
                    </a:lnTo>
                    <a:lnTo>
                      <a:pt x="49" y="543"/>
                    </a:lnTo>
                    <a:lnTo>
                      <a:pt x="32" y="520"/>
                    </a:lnTo>
                    <a:lnTo>
                      <a:pt x="18" y="498"/>
                    </a:lnTo>
                    <a:lnTo>
                      <a:pt x="8" y="476"/>
                    </a:lnTo>
                    <a:lnTo>
                      <a:pt x="2" y="454"/>
                    </a:lnTo>
                    <a:lnTo>
                      <a:pt x="0" y="431"/>
                    </a:lnTo>
                    <a:lnTo>
                      <a:pt x="2" y="407"/>
                    </a:lnTo>
                    <a:lnTo>
                      <a:pt x="8" y="385"/>
                    </a:lnTo>
                    <a:lnTo>
                      <a:pt x="18" y="363"/>
                    </a:lnTo>
                    <a:lnTo>
                      <a:pt x="32" y="341"/>
                    </a:lnTo>
                    <a:lnTo>
                      <a:pt x="49" y="320"/>
                    </a:lnTo>
                    <a:lnTo>
                      <a:pt x="71" y="298"/>
                    </a:lnTo>
                    <a:lnTo>
                      <a:pt x="96" y="278"/>
                    </a:lnTo>
                    <a:lnTo>
                      <a:pt x="124" y="259"/>
                    </a:lnTo>
                    <a:lnTo>
                      <a:pt x="156" y="240"/>
                    </a:lnTo>
                    <a:lnTo>
                      <a:pt x="192" y="221"/>
                    </a:lnTo>
                    <a:lnTo>
                      <a:pt x="230" y="203"/>
                    </a:lnTo>
                    <a:lnTo>
                      <a:pt x="271" y="185"/>
                    </a:lnTo>
                    <a:lnTo>
                      <a:pt x="315" y="168"/>
                    </a:lnTo>
                    <a:lnTo>
                      <a:pt x="362" y="152"/>
                    </a:lnTo>
                    <a:lnTo>
                      <a:pt x="413" y="137"/>
                    </a:lnTo>
                    <a:lnTo>
                      <a:pt x="465" y="123"/>
                    </a:lnTo>
                    <a:lnTo>
                      <a:pt x="521" y="109"/>
                    </a:lnTo>
                    <a:lnTo>
                      <a:pt x="579" y="96"/>
                    </a:lnTo>
                    <a:lnTo>
                      <a:pt x="638" y="82"/>
                    </a:lnTo>
                    <a:lnTo>
                      <a:pt x="701" y="71"/>
                    </a:lnTo>
                    <a:lnTo>
                      <a:pt x="765" y="60"/>
                    </a:lnTo>
                    <a:lnTo>
                      <a:pt x="832" y="50"/>
                    </a:lnTo>
                    <a:lnTo>
                      <a:pt x="901" y="41"/>
                    </a:lnTo>
                    <a:lnTo>
                      <a:pt x="971" y="32"/>
                    </a:lnTo>
                    <a:lnTo>
                      <a:pt x="1043" y="25"/>
                    </a:lnTo>
                    <a:lnTo>
                      <a:pt x="1118" y="19"/>
                    </a:lnTo>
                    <a:lnTo>
                      <a:pt x="1193" y="13"/>
                    </a:lnTo>
                    <a:lnTo>
                      <a:pt x="1270" y="9"/>
                    </a:lnTo>
                    <a:lnTo>
                      <a:pt x="1348" y="5"/>
                    </a:lnTo>
                    <a:lnTo>
                      <a:pt x="1428" y="2"/>
                    </a:lnTo>
                    <a:lnTo>
                      <a:pt x="1509" y="1"/>
                    </a:lnTo>
                    <a:lnTo>
                      <a:pt x="1590" y="0"/>
                    </a:lnTo>
                    <a:lnTo>
                      <a:pt x="1672" y="1"/>
                    </a:lnTo>
                    <a:lnTo>
                      <a:pt x="1753" y="2"/>
                    </a:lnTo>
                    <a:lnTo>
                      <a:pt x="1833" y="5"/>
                    </a:lnTo>
                    <a:lnTo>
                      <a:pt x="1912" y="9"/>
                    </a:lnTo>
                    <a:lnTo>
                      <a:pt x="1988" y="13"/>
                    </a:lnTo>
                    <a:lnTo>
                      <a:pt x="2064" y="19"/>
                    </a:lnTo>
                    <a:lnTo>
                      <a:pt x="2138" y="25"/>
                    </a:lnTo>
                    <a:lnTo>
                      <a:pt x="2210" y="32"/>
                    </a:lnTo>
                    <a:lnTo>
                      <a:pt x="2280" y="41"/>
                    </a:lnTo>
                    <a:lnTo>
                      <a:pt x="2349" y="50"/>
                    </a:lnTo>
                    <a:lnTo>
                      <a:pt x="2416" y="60"/>
                    </a:lnTo>
                    <a:lnTo>
                      <a:pt x="2480" y="71"/>
                    </a:lnTo>
                    <a:lnTo>
                      <a:pt x="2543" y="82"/>
                    </a:lnTo>
                    <a:lnTo>
                      <a:pt x="2602" y="96"/>
                    </a:lnTo>
                    <a:lnTo>
                      <a:pt x="2660" y="109"/>
                    </a:lnTo>
                    <a:lnTo>
                      <a:pt x="2716" y="123"/>
                    </a:lnTo>
                    <a:lnTo>
                      <a:pt x="2768" y="137"/>
                    </a:lnTo>
                    <a:lnTo>
                      <a:pt x="2819" y="152"/>
                    </a:lnTo>
                    <a:lnTo>
                      <a:pt x="2866" y="168"/>
                    </a:lnTo>
                    <a:lnTo>
                      <a:pt x="2910" y="185"/>
                    </a:lnTo>
                    <a:lnTo>
                      <a:pt x="2952" y="203"/>
                    </a:lnTo>
                    <a:lnTo>
                      <a:pt x="2990" y="221"/>
                    </a:lnTo>
                    <a:lnTo>
                      <a:pt x="3025" y="240"/>
                    </a:lnTo>
                    <a:lnTo>
                      <a:pt x="3057" y="259"/>
                    </a:lnTo>
                    <a:lnTo>
                      <a:pt x="3085" y="278"/>
                    </a:lnTo>
                    <a:lnTo>
                      <a:pt x="3110" y="298"/>
                    </a:lnTo>
                    <a:lnTo>
                      <a:pt x="3132" y="320"/>
                    </a:lnTo>
                    <a:lnTo>
                      <a:pt x="3150" y="341"/>
                    </a:lnTo>
                    <a:lnTo>
                      <a:pt x="3164" y="363"/>
                    </a:lnTo>
                    <a:lnTo>
                      <a:pt x="3174" y="385"/>
                    </a:lnTo>
                    <a:lnTo>
                      <a:pt x="3180" y="407"/>
                    </a:lnTo>
                    <a:lnTo>
                      <a:pt x="3182" y="4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72080" y="6506640"/>
                <a:ext cx="350280" cy="104760"/>
              </a:xfrm>
              <a:custGeom>
                <a:avLst/>
                <a:gdLst/>
                <a:ahLst/>
                <a:rect l="l" t="t" r="r" b="b"/>
                <a:pathLst>
                  <a:path w="3179" h="877">
                    <a:moveTo>
                      <a:pt x="3179" y="430"/>
                    </a:moveTo>
                    <a:lnTo>
                      <a:pt x="3177" y="453"/>
                    </a:lnTo>
                    <a:lnTo>
                      <a:pt x="3171" y="475"/>
                    </a:lnTo>
                    <a:lnTo>
                      <a:pt x="3161" y="497"/>
                    </a:lnTo>
                    <a:lnTo>
                      <a:pt x="3147" y="519"/>
                    </a:lnTo>
                    <a:lnTo>
                      <a:pt x="3130" y="541"/>
                    </a:lnTo>
                    <a:lnTo>
                      <a:pt x="3107" y="562"/>
                    </a:lnTo>
                    <a:lnTo>
                      <a:pt x="3083" y="583"/>
                    </a:lnTo>
                    <a:lnTo>
                      <a:pt x="3055" y="603"/>
                    </a:lnTo>
                    <a:lnTo>
                      <a:pt x="3023" y="623"/>
                    </a:lnTo>
                    <a:lnTo>
                      <a:pt x="2987" y="643"/>
                    </a:lnTo>
                    <a:lnTo>
                      <a:pt x="2949" y="661"/>
                    </a:lnTo>
                    <a:lnTo>
                      <a:pt x="2907" y="679"/>
                    </a:lnTo>
                    <a:lnTo>
                      <a:pt x="2864" y="697"/>
                    </a:lnTo>
                    <a:lnTo>
                      <a:pt x="2817" y="714"/>
                    </a:lnTo>
                    <a:lnTo>
                      <a:pt x="2766" y="730"/>
                    </a:lnTo>
                    <a:lnTo>
                      <a:pt x="2714" y="746"/>
                    </a:lnTo>
                    <a:lnTo>
                      <a:pt x="2659" y="761"/>
                    </a:lnTo>
                    <a:lnTo>
                      <a:pt x="2600" y="775"/>
                    </a:lnTo>
                    <a:lnTo>
                      <a:pt x="2541" y="788"/>
                    </a:lnTo>
                    <a:lnTo>
                      <a:pt x="2478" y="800"/>
                    </a:lnTo>
                    <a:lnTo>
                      <a:pt x="2414" y="812"/>
                    </a:lnTo>
                    <a:lnTo>
                      <a:pt x="2347" y="822"/>
                    </a:lnTo>
                    <a:lnTo>
                      <a:pt x="2279" y="832"/>
                    </a:lnTo>
                    <a:lnTo>
                      <a:pt x="2209" y="842"/>
                    </a:lnTo>
                    <a:lnTo>
                      <a:pt x="2136" y="850"/>
                    </a:lnTo>
                    <a:lnTo>
                      <a:pt x="2062" y="857"/>
                    </a:lnTo>
                    <a:lnTo>
                      <a:pt x="1986" y="863"/>
                    </a:lnTo>
                    <a:lnTo>
                      <a:pt x="1910" y="868"/>
                    </a:lnTo>
                    <a:lnTo>
                      <a:pt x="1832" y="872"/>
                    </a:lnTo>
                    <a:lnTo>
                      <a:pt x="1752" y="874"/>
                    </a:lnTo>
                    <a:lnTo>
                      <a:pt x="1671" y="876"/>
                    </a:lnTo>
                    <a:lnTo>
                      <a:pt x="1589" y="877"/>
                    </a:lnTo>
                    <a:lnTo>
                      <a:pt x="1508" y="876"/>
                    </a:lnTo>
                    <a:lnTo>
                      <a:pt x="1427" y="874"/>
                    </a:lnTo>
                    <a:lnTo>
                      <a:pt x="1347" y="872"/>
                    </a:lnTo>
                    <a:lnTo>
                      <a:pt x="1269" y="868"/>
                    </a:lnTo>
                    <a:lnTo>
                      <a:pt x="1193" y="863"/>
                    </a:lnTo>
                    <a:lnTo>
                      <a:pt x="1117" y="857"/>
                    </a:lnTo>
                    <a:lnTo>
                      <a:pt x="1043" y="850"/>
                    </a:lnTo>
                    <a:lnTo>
                      <a:pt x="970" y="842"/>
                    </a:lnTo>
                    <a:lnTo>
                      <a:pt x="901" y="832"/>
                    </a:lnTo>
                    <a:lnTo>
                      <a:pt x="832" y="822"/>
                    </a:lnTo>
                    <a:lnTo>
                      <a:pt x="765" y="812"/>
                    </a:lnTo>
                    <a:lnTo>
                      <a:pt x="701" y="800"/>
                    </a:lnTo>
                    <a:lnTo>
                      <a:pt x="638" y="788"/>
                    </a:lnTo>
                    <a:lnTo>
                      <a:pt x="579" y="775"/>
                    </a:lnTo>
                    <a:lnTo>
                      <a:pt x="521" y="761"/>
                    </a:lnTo>
                    <a:lnTo>
                      <a:pt x="465" y="746"/>
                    </a:lnTo>
                    <a:lnTo>
                      <a:pt x="413" y="730"/>
                    </a:lnTo>
                    <a:lnTo>
                      <a:pt x="362" y="714"/>
                    </a:lnTo>
                    <a:lnTo>
                      <a:pt x="316" y="697"/>
                    </a:lnTo>
                    <a:lnTo>
                      <a:pt x="271" y="679"/>
                    </a:lnTo>
                    <a:lnTo>
                      <a:pt x="230" y="661"/>
                    </a:lnTo>
                    <a:lnTo>
                      <a:pt x="192" y="643"/>
                    </a:lnTo>
                    <a:lnTo>
                      <a:pt x="156" y="623"/>
                    </a:lnTo>
                    <a:lnTo>
                      <a:pt x="125" y="603"/>
                    </a:lnTo>
                    <a:lnTo>
                      <a:pt x="96" y="583"/>
                    </a:lnTo>
                    <a:lnTo>
                      <a:pt x="72" y="562"/>
                    </a:lnTo>
                    <a:lnTo>
                      <a:pt x="49" y="541"/>
                    </a:lnTo>
                    <a:lnTo>
                      <a:pt x="32" y="519"/>
                    </a:lnTo>
                    <a:lnTo>
                      <a:pt x="18" y="497"/>
                    </a:lnTo>
                    <a:lnTo>
                      <a:pt x="8" y="475"/>
                    </a:lnTo>
                    <a:lnTo>
                      <a:pt x="2" y="453"/>
                    </a:lnTo>
                    <a:lnTo>
                      <a:pt x="0" y="430"/>
                    </a:lnTo>
                    <a:lnTo>
                      <a:pt x="2" y="406"/>
                    </a:lnTo>
                    <a:lnTo>
                      <a:pt x="8" y="384"/>
                    </a:lnTo>
                    <a:lnTo>
                      <a:pt x="18" y="362"/>
                    </a:lnTo>
                    <a:lnTo>
                      <a:pt x="32" y="340"/>
                    </a:lnTo>
                    <a:lnTo>
                      <a:pt x="49" y="319"/>
                    </a:lnTo>
                    <a:lnTo>
                      <a:pt x="72" y="298"/>
                    </a:lnTo>
                    <a:lnTo>
                      <a:pt x="96" y="278"/>
                    </a:lnTo>
                    <a:lnTo>
                      <a:pt x="125" y="258"/>
                    </a:lnTo>
                    <a:lnTo>
                      <a:pt x="156" y="239"/>
                    </a:lnTo>
                    <a:lnTo>
                      <a:pt x="192" y="221"/>
                    </a:lnTo>
                    <a:lnTo>
                      <a:pt x="230" y="203"/>
                    </a:lnTo>
                    <a:lnTo>
                      <a:pt x="271" y="185"/>
                    </a:lnTo>
                    <a:lnTo>
                      <a:pt x="316" y="168"/>
                    </a:lnTo>
                    <a:lnTo>
                      <a:pt x="362" y="152"/>
                    </a:lnTo>
                    <a:lnTo>
                      <a:pt x="413" y="137"/>
                    </a:lnTo>
                    <a:lnTo>
                      <a:pt x="465" y="122"/>
                    </a:lnTo>
                    <a:lnTo>
                      <a:pt x="521" y="108"/>
                    </a:lnTo>
                    <a:lnTo>
                      <a:pt x="579" y="95"/>
                    </a:lnTo>
                    <a:lnTo>
                      <a:pt x="638" y="82"/>
                    </a:lnTo>
                    <a:lnTo>
                      <a:pt x="701" y="70"/>
                    </a:lnTo>
                    <a:lnTo>
                      <a:pt x="765" y="60"/>
                    </a:lnTo>
                    <a:lnTo>
                      <a:pt x="832" y="50"/>
                    </a:lnTo>
                    <a:lnTo>
                      <a:pt x="901" y="41"/>
                    </a:lnTo>
                    <a:lnTo>
                      <a:pt x="970" y="32"/>
                    </a:lnTo>
                    <a:lnTo>
                      <a:pt x="1043" y="25"/>
                    </a:lnTo>
                    <a:lnTo>
                      <a:pt x="1117" y="19"/>
                    </a:lnTo>
                    <a:lnTo>
                      <a:pt x="1193" y="13"/>
                    </a:lnTo>
                    <a:lnTo>
                      <a:pt x="1269" y="8"/>
                    </a:lnTo>
                    <a:lnTo>
                      <a:pt x="1347" y="5"/>
                    </a:lnTo>
                    <a:lnTo>
                      <a:pt x="1427" y="2"/>
                    </a:lnTo>
                    <a:lnTo>
                      <a:pt x="1508" y="1"/>
                    </a:lnTo>
                    <a:lnTo>
                      <a:pt x="1589" y="0"/>
                    </a:lnTo>
                    <a:lnTo>
                      <a:pt x="1671" y="1"/>
                    </a:lnTo>
                    <a:lnTo>
                      <a:pt x="1752" y="2"/>
                    </a:lnTo>
                    <a:lnTo>
                      <a:pt x="1832" y="5"/>
                    </a:lnTo>
                    <a:lnTo>
                      <a:pt x="1910" y="8"/>
                    </a:lnTo>
                    <a:lnTo>
                      <a:pt x="1986" y="13"/>
                    </a:lnTo>
                    <a:lnTo>
                      <a:pt x="2062" y="19"/>
                    </a:lnTo>
                    <a:lnTo>
                      <a:pt x="2136" y="25"/>
                    </a:lnTo>
                    <a:lnTo>
                      <a:pt x="2209" y="32"/>
                    </a:lnTo>
                    <a:lnTo>
                      <a:pt x="2279" y="41"/>
                    </a:lnTo>
                    <a:lnTo>
                      <a:pt x="2347" y="50"/>
                    </a:lnTo>
                    <a:lnTo>
                      <a:pt x="2414" y="60"/>
                    </a:lnTo>
                    <a:lnTo>
                      <a:pt x="2478" y="70"/>
                    </a:lnTo>
                    <a:lnTo>
                      <a:pt x="2541" y="82"/>
                    </a:lnTo>
                    <a:lnTo>
                      <a:pt x="2600" y="95"/>
                    </a:lnTo>
                    <a:lnTo>
                      <a:pt x="2659" y="108"/>
                    </a:lnTo>
                    <a:lnTo>
                      <a:pt x="2714" y="122"/>
                    </a:lnTo>
                    <a:lnTo>
                      <a:pt x="2766" y="137"/>
                    </a:lnTo>
                    <a:lnTo>
                      <a:pt x="2817" y="152"/>
                    </a:lnTo>
                    <a:lnTo>
                      <a:pt x="2864" y="168"/>
                    </a:lnTo>
                    <a:lnTo>
                      <a:pt x="2907" y="185"/>
                    </a:lnTo>
                    <a:lnTo>
                      <a:pt x="2949" y="203"/>
                    </a:lnTo>
                    <a:lnTo>
                      <a:pt x="2987" y="221"/>
                    </a:lnTo>
                    <a:lnTo>
                      <a:pt x="3023" y="239"/>
                    </a:lnTo>
                    <a:lnTo>
                      <a:pt x="3055" y="258"/>
                    </a:lnTo>
                    <a:lnTo>
                      <a:pt x="3083" y="278"/>
                    </a:lnTo>
                    <a:lnTo>
                      <a:pt x="3107" y="298"/>
                    </a:lnTo>
                    <a:lnTo>
                      <a:pt x="3130" y="319"/>
                    </a:lnTo>
                    <a:lnTo>
                      <a:pt x="3147" y="340"/>
                    </a:lnTo>
                    <a:lnTo>
                      <a:pt x="3161" y="362"/>
                    </a:lnTo>
                    <a:lnTo>
                      <a:pt x="3171" y="384"/>
                    </a:lnTo>
                    <a:lnTo>
                      <a:pt x="3177" y="406"/>
                    </a:lnTo>
                    <a:lnTo>
                      <a:pt x="3179" y="4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973520" y="6506640"/>
                <a:ext cx="349200" cy="104760"/>
              </a:xfrm>
              <a:custGeom>
                <a:avLst/>
                <a:gdLst/>
                <a:ahLst/>
                <a:rect l="l" t="t" r="r" b="b"/>
                <a:pathLst>
                  <a:path w="3177" h="875">
                    <a:moveTo>
                      <a:pt x="3177" y="429"/>
                    </a:moveTo>
                    <a:lnTo>
                      <a:pt x="3175" y="452"/>
                    </a:lnTo>
                    <a:lnTo>
                      <a:pt x="3169" y="474"/>
                    </a:lnTo>
                    <a:lnTo>
                      <a:pt x="3159" y="496"/>
                    </a:lnTo>
                    <a:lnTo>
                      <a:pt x="3145" y="518"/>
                    </a:lnTo>
                    <a:lnTo>
                      <a:pt x="3127" y="540"/>
                    </a:lnTo>
                    <a:lnTo>
                      <a:pt x="3105" y="561"/>
                    </a:lnTo>
                    <a:lnTo>
                      <a:pt x="3080" y="582"/>
                    </a:lnTo>
                    <a:lnTo>
                      <a:pt x="3052" y="602"/>
                    </a:lnTo>
                    <a:lnTo>
                      <a:pt x="3021" y="621"/>
                    </a:lnTo>
                    <a:lnTo>
                      <a:pt x="2985" y="641"/>
                    </a:lnTo>
                    <a:lnTo>
                      <a:pt x="2947" y="660"/>
                    </a:lnTo>
                    <a:lnTo>
                      <a:pt x="2905" y="678"/>
                    </a:lnTo>
                    <a:lnTo>
                      <a:pt x="2861" y="695"/>
                    </a:lnTo>
                    <a:lnTo>
                      <a:pt x="2815" y="712"/>
                    </a:lnTo>
                    <a:lnTo>
                      <a:pt x="2764" y="728"/>
                    </a:lnTo>
                    <a:lnTo>
                      <a:pt x="2712" y="744"/>
                    </a:lnTo>
                    <a:lnTo>
                      <a:pt x="2657" y="759"/>
                    </a:lnTo>
                    <a:lnTo>
                      <a:pt x="2598" y="773"/>
                    </a:lnTo>
                    <a:lnTo>
                      <a:pt x="2539" y="786"/>
                    </a:lnTo>
                    <a:lnTo>
                      <a:pt x="2476" y="798"/>
                    </a:lnTo>
                    <a:lnTo>
                      <a:pt x="2413" y="810"/>
                    </a:lnTo>
                    <a:lnTo>
                      <a:pt x="2346" y="820"/>
                    </a:lnTo>
                    <a:lnTo>
                      <a:pt x="2277" y="830"/>
                    </a:lnTo>
                    <a:lnTo>
                      <a:pt x="2207" y="839"/>
                    </a:lnTo>
                    <a:lnTo>
                      <a:pt x="2135" y="848"/>
                    </a:lnTo>
                    <a:lnTo>
                      <a:pt x="2061" y="855"/>
                    </a:lnTo>
                    <a:lnTo>
                      <a:pt x="1985" y="861"/>
                    </a:lnTo>
                    <a:lnTo>
                      <a:pt x="1909" y="866"/>
                    </a:lnTo>
                    <a:lnTo>
                      <a:pt x="1831" y="870"/>
                    </a:lnTo>
                    <a:lnTo>
                      <a:pt x="1751" y="873"/>
                    </a:lnTo>
                    <a:lnTo>
                      <a:pt x="1670" y="874"/>
                    </a:lnTo>
                    <a:lnTo>
                      <a:pt x="1588" y="875"/>
                    </a:lnTo>
                    <a:lnTo>
                      <a:pt x="1507" y="874"/>
                    </a:lnTo>
                    <a:lnTo>
                      <a:pt x="1426" y="873"/>
                    </a:lnTo>
                    <a:lnTo>
                      <a:pt x="1347" y="870"/>
                    </a:lnTo>
                    <a:lnTo>
                      <a:pt x="1268" y="866"/>
                    </a:lnTo>
                    <a:lnTo>
                      <a:pt x="1192" y="861"/>
                    </a:lnTo>
                    <a:lnTo>
                      <a:pt x="1116" y="855"/>
                    </a:lnTo>
                    <a:lnTo>
                      <a:pt x="1042" y="848"/>
                    </a:lnTo>
                    <a:lnTo>
                      <a:pt x="970" y="839"/>
                    </a:lnTo>
                    <a:lnTo>
                      <a:pt x="900" y="830"/>
                    </a:lnTo>
                    <a:lnTo>
                      <a:pt x="831" y="820"/>
                    </a:lnTo>
                    <a:lnTo>
                      <a:pt x="765" y="810"/>
                    </a:lnTo>
                    <a:lnTo>
                      <a:pt x="701" y="798"/>
                    </a:lnTo>
                    <a:lnTo>
                      <a:pt x="638" y="786"/>
                    </a:lnTo>
                    <a:lnTo>
                      <a:pt x="579" y="773"/>
                    </a:lnTo>
                    <a:lnTo>
                      <a:pt x="521" y="759"/>
                    </a:lnTo>
                    <a:lnTo>
                      <a:pt x="465" y="744"/>
                    </a:lnTo>
                    <a:lnTo>
                      <a:pt x="413" y="728"/>
                    </a:lnTo>
                    <a:lnTo>
                      <a:pt x="362" y="712"/>
                    </a:lnTo>
                    <a:lnTo>
                      <a:pt x="316" y="695"/>
                    </a:lnTo>
                    <a:lnTo>
                      <a:pt x="272" y="678"/>
                    </a:lnTo>
                    <a:lnTo>
                      <a:pt x="230" y="660"/>
                    </a:lnTo>
                    <a:lnTo>
                      <a:pt x="192" y="641"/>
                    </a:lnTo>
                    <a:lnTo>
                      <a:pt x="156" y="621"/>
                    </a:lnTo>
                    <a:lnTo>
                      <a:pt x="125" y="602"/>
                    </a:lnTo>
                    <a:lnTo>
                      <a:pt x="97" y="582"/>
                    </a:lnTo>
                    <a:lnTo>
                      <a:pt x="72" y="561"/>
                    </a:lnTo>
                    <a:lnTo>
                      <a:pt x="50" y="540"/>
                    </a:lnTo>
                    <a:lnTo>
                      <a:pt x="32" y="518"/>
                    </a:lnTo>
                    <a:lnTo>
                      <a:pt x="18" y="496"/>
                    </a:lnTo>
                    <a:lnTo>
                      <a:pt x="8" y="474"/>
                    </a:lnTo>
                    <a:lnTo>
                      <a:pt x="2" y="452"/>
                    </a:lnTo>
                    <a:lnTo>
                      <a:pt x="0" y="429"/>
                    </a:lnTo>
                    <a:lnTo>
                      <a:pt x="2" y="405"/>
                    </a:lnTo>
                    <a:lnTo>
                      <a:pt x="8" y="383"/>
                    </a:lnTo>
                    <a:lnTo>
                      <a:pt x="18" y="361"/>
                    </a:lnTo>
                    <a:lnTo>
                      <a:pt x="32" y="339"/>
                    </a:lnTo>
                    <a:lnTo>
                      <a:pt x="50" y="318"/>
                    </a:lnTo>
                    <a:lnTo>
                      <a:pt x="72" y="297"/>
                    </a:lnTo>
                    <a:lnTo>
                      <a:pt x="97" y="277"/>
                    </a:lnTo>
                    <a:lnTo>
                      <a:pt x="125" y="257"/>
                    </a:lnTo>
                    <a:lnTo>
                      <a:pt x="156" y="238"/>
                    </a:lnTo>
                    <a:lnTo>
                      <a:pt x="192" y="220"/>
                    </a:lnTo>
                    <a:lnTo>
                      <a:pt x="230" y="202"/>
                    </a:lnTo>
                    <a:lnTo>
                      <a:pt x="272" y="184"/>
                    </a:lnTo>
                    <a:lnTo>
                      <a:pt x="316" y="168"/>
                    </a:lnTo>
                    <a:lnTo>
                      <a:pt x="362" y="152"/>
                    </a:lnTo>
                    <a:lnTo>
                      <a:pt x="413" y="136"/>
                    </a:lnTo>
                    <a:lnTo>
                      <a:pt x="465" y="122"/>
                    </a:lnTo>
                    <a:lnTo>
                      <a:pt x="521" y="108"/>
                    </a:lnTo>
                    <a:lnTo>
                      <a:pt x="579" y="95"/>
                    </a:lnTo>
                    <a:lnTo>
                      <a:pt x="638" y="82"/>
                    </a:lnTo>
                    <a:lnTo>
                      <a:pt x="701" y="70"/>
                    </a:lnTo>
                    <a:lnTo>
                      <a:pt x="765" y="59"/>
                    </a:lnTo>
                    <a:lnTo>
                      <a:pt x="831" y="49"/>
                    </a:lnTo>
                    <a:lnTo>
                      <a:pt x="900" y="40"/>
                    </a:lnTo>
                    <a:lnTo>
                      <a:pt x="970" y="32"/>
                    </a:lnTo>
                    <a:lnTo>
                      <a:pt x="1042" y="25"/>
                    </a:lnTo>
                    <a:lnTo>
                      <a:pt x="1116" y="18"/>
                    </a:lnTo>
                    <a:lnTo>
                      <a:pt x="1192" y="13"/>
                    </a:lnTo>
                    <a:lnTo>
                      <a:pt x="1268" y="8"/>
                    </a:lnTo>
                    <a:lnTo>
                      <a:pt x="1347" y="5"/>
                    </a:lnTo>
                    <a:lnTo>
                      <a:pt x="1426" y="2"/>
                    </a:lnTo>
                    <a:lnTo>
                      <a:pt x="1507" y="1"/>
                    </a:lnTo>
                    <a:lnTo>
                      <a:pt x="1588" y="0"/>
                    </a:lnTo>
                    <a:lnTo>
                      <a:pt x="1670" y="1"/>
                    </a:lnTo>
                    <a:lnTo>
                      <a:pt x="1751" y="2"/>
                    </a:lnTo>
                    <a:lnTo>
                      <a:pt x="1831" y="5"/>
                    </a:lnTo>
                    <a:lnTo>
                      <a:pt x="1909" y="8"/>
                    </a:lnTo>
                    <a:lnTo>
                      <a:pt x="1985" y="13"/>
                    </a:lnTo>
                    <a:lnTo>
                      <a:pt x="2061" y="18"/>
                    </a:lnTo>
                    <a:lnTo>
                      <a:pt x="2135" y="25"/>
                    </a:lnTo>
                    <a:lnTo>
                      <a:pt x="2207" y="32"/>
                    </a:lnTo>
                    <a:lnTo>
                      <a:pt x="2277" y="40"/>
                    </a:lnTo>
                    <a:lnTo>
                      <a:pt x="2346" y="49"/>
                    </a:lnTo>
                    <a:lnTo>
                      <a:pt x="2413" y="59"/>
                    </a:lnTo>
                    <a:lnTo>
                      <a:pt x="2476" y="70"/>
                    </a:lnTo>
                    <a:lnTo>
                      <a:pt x="2539" y="82"/>
                    </a:lnTo>
                    <a:lnTo>
                      <a:pt x="2598" y="95"/>
                    </a:lnTo>
                    <a:lnTo>
                      <a:pt x="2657" y="108"/>
                    </a:lnTo>
                    <a:lnTo>
                      <a:pt x="2712" y="122"/>
                    </a:lnTo>
                    <a:lnTo>
                      <a:pt x="2764" y="136"/>
                    </a:lnTo>
                    <a:lnTo>
                      <a:pt x="2815" y="152"/>
                    </a:lnTo>
                    <a:lnTo>
                      <a:pt x="2861" y="168"/>
                    </a:lnTo>
                    <a:lnTo>
                      <a:pt x="2905" y="184"/>
                    </a:lnTo>
                    <a:lnTo>
                      <a:pt x="2947" y="202"/>
                    </a:lnTo>
                    <a:lnTo>
                      <a:pt x="2985" y="220"/>
                    </a:lnTo>
                    <a:lnTo>
                      <a:pt x="3021" y="238"/>
                    </a:lnTo>
                    <a:lnTo>
                      <a:pt x="3052" y="257"/>
                    </a:lnTo>
                    <a:lnTo>
                      <a:pt x="3080" y="277"/>
                    </a:lnTo>
                    <a:lnTo>
                      <a:pt x="3105" y="297"/>
                    </a:lnTo>
                    <a:lnTo>
                      <a:pt x="3127" y="318"/>
                    </a:lnTo>
                    <a:lnTo>
                      <a:pt x="3145" y="339"/>
                    </a:lnTo>
                    <a:lnTo>
                      <a:pt x="3159" y="361"/>
                    </a:lnTo>
                    <a:lnTo>
                      <a:pt x="3169" y="383"/>
                    </a:lnTo>
                    <a:lnTo>
                      <a:pt x="3175" y="405"/>
                    </a:lnTo>
                    <a:lnTo>
                      <a:pt x="3177" y="4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973520" y="6506640"/>
                <a:ext cx="349200" cy="104760"/>
              </a:xfrm>
              <a:custGeom>
                <a:avLst/>
                <a:gdLst/>
                <a:ahLst/>
                <a:rect l="l" t="t" r="r" b="b"/>
                <a:pathLst>
                  <a:path w="3173" h="873">
                    <a:moveTo>
                      <a:pt x="3173" y="428"/>
                    </a:moveTo>
                    <a:lnTo>
                      <a:pt x="3171" y="450"/>
                    </a:lnTo>
                    <a:lnTo>
                      <a:pt x="3165" y="473"/>
                    </a:lnTo>
                    <a:lnTo>
                      <a:pt x="3155" y="495"/>
                    </a:lnTo>
                    <a:lnTo>
                      <a:pt x="3141" y="517"/>
                    </a:lnTo>
                    <a:lnTo>
                      <a:pt x="3124" y="539"/>
                    </a:lnTo>
                    <a:lnTo>
                      <a:pt x="3102" y="560"/>
                    </a:lnTo>
                    <a:lnTo>
                      <a:pt x="3077" y="580"/>
                    </a:lnTo>
                    <a:lnTo>
                      <a:pt x="3049" y="600"/>
                    </a:lnTo>
                    <a:lnTo>
                      <a:pt x="3017" y="620"/>
                    </a:lnTo>
                    <a:lnTo>
                      <a:pt x="2982" y="640"/>
                    </a:lnTo>
                    <a:lnTo>
                      <a:pt x="2944" y="659"/>
                    </a:lnTo>
                    <a:lnTo>
                      <a:pt x="2902" y="676"/>
                    </a:lnTo>
                    <a:lnTo>
                      <a:pt x="2858" y="694"/>
                    </a:lnTo>
                    <a:lnTo>
                      <a:pt x="2812" y="710"/>
                    </a:lnTo>
                    <a:lnTo>
                      <a:pt x="2761" y="726"/>
                    </a:lnTo>
                    <a:lnTo>
                      <a:pt x="2709" y="743"/>
                    </a:lnTo>
                    <a:lnTo>
                      <a:pt x="2654" y="757"/>
                    </a:lnTo>
                    <a:lnTo>
                      <a:pt x="2596" y="771"/>
                    </a:lnTo>
                    <a:lnTo>
                      <a:pt x="2536" y="784"/>
                    </a:lnTo>
                    <a:lnTo>
                      <a:pt x="2474" y="797"/>
                    </a:lnTo>
                    <a:lnTo>
                      <a:pt x="2410" y="808"/>
                    </a:lnTo>
                    <a:lnTo>
                      <a:pt x="2343" y="819"/>
                    </a:lnTo>
                    <a:lnTo>
                      <a:pt x="2274" y="828"/>
                    </a:lnTo>
                    <a:lnTo>
                      <a:pt x="2205" y="837"/>
                    </a:lnTo>
                    <a:lnTo>
                      <a:pt x="2132" y="846"/>
                    </a:lnTo>
                    <a:lnTo>
                      <a:pt x="2058" y="853"/>
                    </a:lnTo>
                    <a:lnTo>
                      <a:pt x="1983" y="859"/>
                    </a:lnTo>
                    <a:lnTo>
                      <a:pt x="1907" y="864"/>
                    </a:lnTo>
                    <a:lnTo>
                      <a:pt x="1828" y="868"/>
                    </a:lnTo>
                    <a:lnTo>
                      <a:pt x="1749" y="871"/>
                    </a:lnTo>
                    <a:lnTo>
                      <a:pt x="1668" y="872"/>
                    </a:lnTo>
                    <a:lnTo>
                      <a:pt x="1586" y="873"/>
                    </a:lnTo>
                    <a:lnTo>
                      <a:pt x="1505" y="872"/>
                    </a:lnTo>
                    <a:lnTo>
                      <a:pt x="1424" y="871"/>
                    </a:lnTo>
                    <a:lnTo>
                      <a:pt x="1345" y="868"/>
                    </a:lnTo>
                    <a:lnTo>
                      <a:pt x="1266" y="864"/>
                    </a:lnTo>
                    <a:lnTo>
                      <a:pt x="1190" y="859"/>
                    </a:lnTo>
                    <a:lnTo>
                      <a:pt x="1115" y="853"/>
                    </a:lnTo>
                    <a:lnTo>
                      <a:pt x="1041" y="846"/>
                    </a:lnTo>
                    <a:lnTo>
                      <a:pt x="968" y="837"/>
                    </a:lnTo>
                    <a:lnTo>
                      <a:pt x="899" y="828"/>
                    </a:lnTo>
                    <a:lnTo>
                      <a:pt x="830" y="819"/>
                    </a:lnTo>
                    <a:lnTo>
                      <a:pt x="763" y="808"/>
                    </a:lnTo>
                    <a:lnTo>
                      <a:pt x="700" y="797"/>
                    </a:lnTo>
                    <a:lnTo>
                      <a:pt x="637" y="784"/>
                    </a:lnTo>
                    <a:lnTo>
                      <a:pt x="578" y="771"/>
                    </a:lnTo>
                    <a:lnTo>
                      <a:pt x="520" y="757"/>
                    </a:lnTo>
                    <a:lnTo>
                      <a:pt x="464" y="743"/>
                    </a:lnTo>
                    <a:lnTo>
                      <a:pt x="412" y="726"/>
                    </a:lnTo>
                    <a:lnTo>
                      <a:pt x="362" y="710"/>
                    </a:lnTo>
                    <a:lnTo>
                      <a:pt x="315" y="694"/>
                    </a:lnTo>
                    <a:lnTo>
                      <a:pt x="271" y="676"/>
                    </a:lnTo>
                    <a:lnTo>
                      <a:pt x="229" y="659"/>
                    </a:lnTo>
                    <a:lnTo>
                      <a:pt x="191" y="640"/>
                    </a:lnTo>
                    <a:lnTo>
                      <a:pt x="156" y="620"/>
                    </a:lnTo>
                    <a:lnTo>
                      <a:pt x="124" y="600"/>
                    </a:lnTo>
                    <a:lnTo>
                      <a:pt x="96" y="580"/>
                    </a:lnTo>
                    <a:lnTo>
                      <a:pt x="71" y="560"/>
                    </a:lnTo>
                    <a:lnTo>
                      <a:pt x="49" y="539"/>
                    </a:lnTo>
                    <a:lnTo>
                      <a:pt x="32" y="517"/>
                    </a:lnTo>
                    <a:lnTo>
                      <a:pt x="18" y="495"/>
                    </a:lnTo>
                    <a:lnTo>
                      <a:pt x="8" y="473"/>
                    </a:lnTo>
                    <a:lnTo>
                      <a:pt x="2" y="450"/>
                    </a:lnTo>
                    <a:lnTo>
                      <a:pt x="0" y="428"/>
                    </a:lnTo>
                    <a:lnTo>
                      <a:pt x="2" y="404"/>
                    </a:lnTo>
                    <a:lnTo>
                      <a:pt x="8" y="382"/>
                    </a:lnTo>
                    <a:lnTo>
                      <a:pt x="18" y="360"/>
                    </a:lnTo>
                    <a:lnTo>
                      <a:pt x="32" y="339"/>
                    </a:lnTo>
                    <a:lnTo>
                      <a:pt x="49" y="318"/>
                    </a:lnTo>
                    <a:lnTo>
                      <a:pt x="71" y="296"/>
                    </a:lnTo>
                    <a:lnTo>
                      <a:pt x="96" y="276"/>
                    </a:lnTo>
                    <a:lnTo>
                      <a:pt x="124" y="257"/>
                    </a:lnTo>
                    <a:lnTo>
                      <a:pt x="156" y="238"/>
                    </a:lnTo>
                    <a:lnTo>
                      <a:pt x="191" y="220"/>
                    </a:lnTo>
                    <a:lnTo>
                      <a:pt x="229" y="202"/>
                    </a:lnTo>
                    <a:lnTo>
                      <a:pt x="271" y="184"/>
                    </a:lnTo>
                    <a:lnTo>
                      <a:pt x="315" y="167"/>
                    </a:lnTo>
                    <a:lnTo>
                      <a:pt x="362" y="151"/>
                    </a:lnTo>
                    <a:lnTo>
                      <a:pt x="412" y="136"/>
                    </a:lnTo>
                    <a:lnTo>
                      <a:pt x="464" y="122"/>
                    </a:lnTo>
                    <a:lnTo>
                      <a:pt x="520" y="108"/>
                    </a:lnTo>
                    <a:lnTo>
                      <a:pt x="578" y="95"/>
                    </a:lnTo>
                    <a:lnTo>
                      <a:pt x="637" y="81"/>
                    </a:lnTo>
                    <a:lnTo>
                      <a:pt x="700" y="70"/>
                    </a:lnTo>
                    <a:lnTo>
                      <a:pt x="763" y="59"/>
                    </a:lnTo>
                    <a:lnTo>
                      <a:pt x="830" y="49"/>
                    </a:lnTo>
                    <a:lnTo>
                      <a:pt x="899" y="40"/>
                    </a:lnTo>
                    <a:lnTo>
                      <a:pt x="968" y="32"/>
                    </a:lnTo>
                    <a:lnTo>
                      <a:pt x="1041" y="25"/>
                    </a:lnTo>
                    <a:lnTo>
                      <a:pt x="1115" y="18"/>
                    </a:lnTo>
                    <a:lnTo>
                      <a:pt x="1190" y="13"/>
                    </a:lnTo>
                    <a:lnTo>
                      <a:pt x="1266" y="8"/>
                    </a:lnTo>
                    <a:lnTo>
                      <a:pt x="1345" y="5"/>
                    </a:lnTo>
                    <a:lnTo>
                      <a:pt x="1424" y="2"/>
                    </a:lnTo>
                    <a:lnTo>
                      <a:pt x="1505" y="1"/>
                    </a:lnTo>
                    <a:lnTo>
                      <a:pt x="1586" y="0"/>
                    </a:lnTo>
                    <a:lnTo>
                      <a:pt x="1668" y="1"/>
                    </a:lnTo>
                    <a:lnTo>
                      <a:pt x="1749" y="2"/>
                    </a:lnTo>
                    <a:lnTo>
                      <a:pt x="1828" y="5"/>
                    </a:lnTo>
                    <a:lnTo>
                      <a:pt x="1907" y="8"/>
                    </a:lnTo>
                    <a:lnTo>
                      <a:pt x="1983" y="13"/>
                    </a:lnTo>
                    <a:lnTo>
                      <a:pt x="2058" y="18"/>
                    </a:lnTo>
                    <a:lnTo>
                      <a:pt x="2132" y="25"/>
                    </a:lnTo>
                    <a:lnTo>
                      <a:pt x="2205" y="32"/>
                    </a:lnTo>
                    <a:lnTo>
                      <a:pt x="2274" y="40"/>
                    </a:lnTo>
                    <a:lnTo>
                      <a:pt x="2343" y="49"/>
                    </a:lnTo>
                    <a:lnTo>
                      <a:pt x="2410" y="59"/>
                    </a:lnTo>
                    <a:lnTo>
                      <a:pt x="2474" y="70"/>
                    </a:lnTo>
                    <a:lnTo>
                      <a:pt x="2536" y="81"/>
                    </a:lnTo>
                    <a:lnTo>
                      <a:pt x="2596" y="95"/>
                    </a:lnTo>
                    <a:lnTo>
                      <a:pt x="2654" y="108"/>
                    </a:lnTo>
                    <a:lnTo>
                      <a:pt x="2709" y="122"/>
                    </a:lnTo>
                    <a:lnTo>
                      <a:pt x="2761" y="136"/>
                    </a:lnTo>
                    <a:lnTo>
                      <a:pt x="2812" y="151"/>
                    </a:lnTo>
                    <a:lnTo>
                      <a:pt x="2858" y="167"/>
                    </a:lnTo>
                    <a:lnTo>
                      <a:pt x="2902" y="184"/>
                    </a:lnTo>
                    <a:lnTo>
                      <a:pt x="2944" y="202"/>
                    </a:lnTo>
                    <a:lnTo>
                      <a:pt x="2982" y="220"/>
                    </a:lnTo>
                    <a:lnTo>
                      <a:pt x="3017" y="238"/>
                    </a:lnTo>
                    <a:lnTo>
                      <a:pt x="3049" y="257"/>
                    </a:lnTo>
                    <a:lnTo>
                      <a:pt x="3077" y="276"/>
                    </a:lnTo>
                    <a:lnTo>
                      <a:pt x="3102" y="296"/>
                    </a:lnTo>
                    <a:lnTo>
                      <a:pt x="3124" y="318"/>
                    </a:lnTo>
                    <a:lnTo>
                      <a:pt x="3141" y="339"/>
                    </a:lnTo>
                    <a:lnTo>
                      <a:pt x="3155" y="360"/>
                    </a:lnTo>
                    <a:lnTo>
                      <a:pt x="3165" y="382"/>
                    </a:lnTo>
                    <a:lnTo>
                      <a:pt x="3171" y="404"/>
                    </a:lnTo>
                    <a:lnTo>
                      <a:pt x="3173" y="4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73520" y="6506640"/>
                <a:ext cx="349200" cy="103680"/>
              </a:xfrm>
              <a:custGeom>
                <a:avLst/>
                <a:gdLst/>
                <a:ahLst/>
                <a:rect l="l" t="t" r="r" b="b"/>
                <a:pathLst>
                  <a:path w="3171" h="871">
                    <a:moveTo>
                      <a:pt x="3171" y="427"/>
                    </a:moveTo>
                    <a:lnTo>
                      <a:pt x="3169" y="449"/>
                    </a:lnTo>
                    <a:lnTo>
                      <a:pt x="3163" y="472"/>
                    </a:lnTo>
                    <a:lnTo>
                      <a:pt x="3153" y="494"/>
                    </a:lnTo>
                    <a:lnTo>
                      <a:pt x="3139" y="515"/>
                    </a:lnTo>
                    <a:lnTo>
                      <a:pt x="3122" y="538"/>
                    </a:lnTo>
                    <a:lnTo>
                      <a:pt x="3099" y="559"/>
                    </a:lnTo>
                    <a:lnTo>
                      <a:pt x="3075" y="579"/>
                    </a:lnTo>
                    <a:lnTo>
                      <a:pt x="3047" y="599"/>
                    </a:lnTo>
                    <a:lnTo>
                      <a:pt x="3015" y="619"/>
                    </a:lnTo>
                    <a:lnTo>
                      <a:pt x="2979" y="639"/>
                    </a:lnTo>
                    <a:lnTo>
                      <a:pt x="2942" y="657"/>
                    </a:lnTo>
                    <a:lnTo>
                      <a:pt x="2900" y="675"/>
                    </a:lnTo>
                    <a:lnTo>
                      <a:pt x="2856" y="692"/>
                    </a:lnTo>
                    <a:lnTo>
                      <a:pt x="2808" y="709"/>
                    </a:lnTo>
                    <a:lnTo>
                      <a:pt x="2759" y="725"/>
                    </a:lnTo>
                    <a:lnTo>
                      <a:pt x="2706" y="741"/>
                    </a:lnTo>
                    <a:lnTo>
                      <a:pt x="2652" y="756"/>
                    </a:lnTo>
                    <a:lnTo>
                      <a:pt x="2594" y="769"/>
                    </a:lnTo>
                    <a:lnTo>
                      <a:pt x="2534" y="783"/>
                    </a:lnTo>
                    <a:lnTo>
                      <a:pt x="2472" y="795"/>
                    </a:lnTo>
                    <a:lnTo>
                      <a:pt x="2408" y="806"/>
                    </a:lnTo>
                    <a:lnTo>
                      <a:pt x="2341" y="817"/>
                    </a:lnTo>
                    <a:lnTo>
                      <a:pt x="2273" y="827"/>
                    </a:lnTo>
                    <a:lnTo>
                      <a:pt x="2203" y="835"/>
                    </a:lnTo>
                    <a:lnTo>
                      <a:pt x="2131" y="844"/>
                    </a:lnTo>
                    <a:lnTo>
                      <a:pt x="2057" y="851"/>
                    </a:lnTo>
                    <a:lnTo>
                      <a:pt x="1981" y="857"/>
                    </a:lnTo>
                    <a:lnTo>
                      <a:pt x="1905" y="862"/>
                    </a:lnTo>
                    <a:lnTo>
                      <a:pt x="1827" y="866"/>
                    </a:lnTo>
                    <a:lnTo>
                      <a:pt x="1748" y="869"/>
                    </a:lnTo>
                    <a:lnTo>
                      <a:pt x="1667" y="870"/>
                    </a:lnTo>
                    <a:lnTo>
                      <a:pt x="1585" y="871"/>
                    </a:lnTo>
                    <a:lnTo>
                      <a:pt x="1504" y="870"/>
                    </a:lnTo>
                    <a:lnTo>
                      <a:pt x="1424" y="869"/>
                    </a:lnTo>
                    <a:lnTo>
                      <a:pt x="1344" y="866"/>
                    </a:lnTo>
                    <a:lnTo>
                      <a:pt x="1266" y="862"/>
                    </a:lnTo>
                    <a:lnTo>
                      <a:pt x="1190" y="857"/>
                    </a:lnTo>
                    <a:lnTo>
                      <a:pt x="1114" y="851"/>
                    </a:lnTo>
                    <a:lnTo>
                      <a:pt x="1040" y="844"/>
                    </a:lnTo>
                    <a:lnTo>
                      <a:pt x="968" y="835"/>
                    </a:lnTo>
                    <a:lnTo>
                      <a:pt x="898" y="827"/>
                    </a:lnTo>
                    <a:lnTo>
                      <a:pt x="830" y="817"/>
                    </a:lnTo>
                    <a:lnTo>
                      <a:pt x="763" y="806"/>
                    </a:lnTo>
                    <a:lnTo>
                      <a:pt x="699" y="795"/>
                    </a:lnTo>
                    <a:lnTo>
                      <a:pt x="637" y="783"/>
                    </a:lnTo>
                    <a:lnTo>
                      <a:pt x="577" y="769"/>
                    </a:lnTo>
                    <a:lnTo>
                      <a:pt x="519" y="756"/>
                    </a:lnTo>
                    <a:lnTo>
                      <a:pt x="464" y="741"/>
                    </a:lnTo>
                    <a:lnTo>
                      <a:pt x="412" y="725"/>
                    </a:lnTo>
                    <a:lnTo>
                      <a:pt x="362" y="709"/>
                    </a:lnTo>
                    <a:lnTo>
                      <a:pt x="315" y="692"/>
                    </a:lnTo>
                    <a:lnTo>
                      <a:pt x="271" y="675"/>
                    </a:lnTo>
                    <a:lnTo>
                      <a:pt x="229" y="657"/>
                    </a:lnTo>
                    <a:lnTo>
                      <a:pt x="192" y="639"/>
                    </a:lnTo>
                    <a:lnTo>
                      <a:pt x="156" y="619"/>
                    </a:lnTo>
                    <a:lnTo>
                      <a:pt x="125" y="599"/>
                    </a:lnTo>
                    <a:lnTo>
                      <a:pt x="96" y="579"/>
                    </a:lnTo>
                    <a:lnTo>
                      <a:pt x="72" y="559"/>
                    </a:lnTo>
                    <a:lnTo>
                      <a:pt x="50" y="538"/>
                    </a:lnTo>
                    <a:lnTo>
                      <a:pt x="32" y="515"/>
                    </a:lnTo>
                    <a:lnTo>
                      <a:pt x="18" y="494"/>
                    </a:lnTo>
                    <a:lnTo>
                      <a:pt x="8" y="472"/>
                    </a:lnTo>
                    <a:lnTo>
                      <a:pt x="2" y="449"/>
                    </a:lnTo>
                    <a:lnTo>
                      <a:pt x="0" y="427"/>
                    </a:lnTo>
                    <a:lnTo>
                      <a:pt x="2" y="403"/>
                    </a:lnTo>
                    <a:lnTo>
                      <a:pt x="8" y="381"/>
                    </a:lnTo>
                    <a:lnTo>
                      <a:pt x="18" y="359"/>
                    </a:lnTo>
                    <a:lnTo>
                      <a:pt x="32" y="338"/>
                    </a:lnTo>
                    <a:lnTo>
                      <a:pt x="50" y="317"/>
                    </a:lnTo>
                    <a:lnTo>
                      <a:pt x="72" y="295"/>
                    </a:lnTo>
                    <a:lnTo>
                      <a:pt x="96" y="276"/>
                    </a:lnTo>
                    <a:lnTo>
                      <a:pt x="125" y="256"/>
                    </a:lnTo>
                    <a:lnTo>
                      <a:pt x="156" y="237"/>
                    </a:lnTo>
                    <a:lnTo>
                      <a:pt x="192" y="219"/>
                    </a:lnTo>
                    <a:lnTo>
                      <a:pt x="229" y="201"/>
                    </a:lnTo>
                    <a:lnTo>
                      <a:pt x="271" y="183"/>
                    </a:lnTo>
                    <a:lnTo>
                      <a:pt x="315" y="167"/>
                    </a:lnTo>
                    <a:lnTo>
                      <a:pt x="362" y="151"/>
                    </a:lnTo>
                    <a:lnTo>
                      <a:pt x="412" y="136"/>
                    </a:lnTo>
                    <a:lnTo>
                      <a:pt x="464" y="121"/>
                    </a:lnTo>
                    <a:lnTo>
                      <a:pt x="519" y="107"/>
                    </a:lnTo>
                    <a:lnTo>
                      <a:pt x="577" y="94"/>
                    </a:lnTo>
                    <a:lnTo>
                      <a:pt x="637" y="81"/>
                    </a:lnTo>
                    <a:lnTo>
                      <a:pt x="699" y="70"/>
                    </a:lnTo>
                    <a:lnTo>
                      <a:pt x="763" y="59"/>
                    </a:lnTo>
                    <a:lnTo>
                      <a:pt x="830" y="49"/>
                    </a:lnTo>
                    <a:lnTo>
                      <a:pt x="898" y="40"/>
                    </a:lnTo>
                    <a:lnTo>
                      <a:pt x="968" y="32"/>
                    </a:lnTo>
                    <a:lnTo>
                      <a:pt x="1040" y="25"/>
                    </a:lnTo>
                    <a:lnTo>
                      <a:pt x="1114" y="18"/>
                    </a:lnTo>
                    <a:lnTo>
                      <a:pt x="1190" y="13"/>
                    </a:lnTo>
                    <a:lnTo>
                      <a:pt x="1266" y="8"/>
                    </a:lnTo>
                    <a:lnTo>
                      <a:pt x="1344" y="5"/>
                    </a:lnTo>
                    <a:lnTo>
                      <a:pt x="1424" y="2"/>
                    </a:lnTo>
                    <a:lnTo>
                      <a:pt x="1504" y="1"/>
                    </a:lnTo>
                    <a:lnTo>
                      <a:pt x="1585" y="0"/>
                    </a:lnTo>
                    <a:lnTo>
                      <a:pt x="1667" y="1"/>
                    </a:lnTo>
                    <a:lnTo>
                      <a:pt x="1748" y="2"/>
                    </a:lnTo>
                    <a:lnTo>
                      <a:pt x="1827" y="5"/>
                    </a:lnTo>
                    <a:lnTo>
                      <a:pt x="1905" y="8"/>
                    </a:lnTo>
                    <a:lnTo>
                      <a:pt x="1981" y="13"/>
                    </a:lnTo>
                    <a:lnTo>
                      <a:pt x="2057" y="18"/>
                    </a:lnTo>
                    <a:lnTo>
                      <a:pt x="2131" y="25"/>
                    </a:lnTo>
                    <a:lnTo>
                      <a:pt x="2203" y="32"/>
                    </a:lnTo>
                    <a:lnTo>
                      <a:pt x="2273" y="40"/>
                    </a:lnTo>
                    <a:lnTo>
                      <a:pt x="2341" y="49"/>
                    </a:lnTo>
                    <a:lnTo>
                      <a:pt x="2408" y="59"/>
                    </a:lnTo>
                    <a:lnTo>
                      <a:pt x="2472" y="70"/>
                    </a:lnTo>
                    <a:lnTo>
                      <a:pt x="2534" y="81"/>
                    </a:lnTo>
                    <a:lnTo>
                      <a:pt x="2594" y="94"/>
                    </a:lnTo>
                    <a:lnTo>
                      <a:pt x="2652" y="107"/>
                    </a:lnTo>
                    <a:lnTo>
                      <a:pt x="2706" y="121"/>
                    </a:lnTo>
                    <a:lnTo>
                      <a:pt x="2759" y="136"/>
                    </a:lnTo>
                    <a:lnTo>
                      <a:pt x="2808" y="151"/>
                    </a:lnTo>
                    <a:lnTo>
                      <a:pt x="2856" y="167"/>
                    </a:lnTo>
                    <a:lnTo>
                      <a:pt x="2900" y="183"/>
                    </a:lnTo>
                    <a:lnTo>
                      <a:pt x="2942" y="201"/>
                    </a:lnTo>
                    <a:lnTo>
                      <a:pt x="2979" y="219"/>
                    </a:lnTo>
                    <a:lnTo>
                      <a:pt x="3015" y="237"/>
                    </a:lnTo>
                    <a:lnTo>
                      <a:pt x="3047" y="256"/>
                    </a:lnTo>
                    <a:lnTo>
                      <a:pt x="3075" y="276"/>
                    </a:lnTo>
                    <a:lnTo>
                      <a:pt x="3099" y="295"/>
                    </a:lnTo>
                    <a:lnTo>
                      <a:pt x="3122" y="317"/>
                    </a:lnTo>
                    <a:lnTo>
                      <a:pt x="3139" y="338"/>
                    </a:lnTo>
                    <a:lnTo>
                      <a:pt x="3153" y="359"/>
                    </a:lnTo>
                    <a:lnTo>
                      <a:pt x="3163" y="381"/>
                    </a:lnTo>
                    <a:lnTo>
                      <a:pt x="3169" y="403"/>
                    </a:lnTo>
                    <a:lnTo>
                      <a:pt x="3171" y="4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73520" y="6506640"/>
                <a:ext cx="349200" cy="103680"/>
              </a:xfrm>
              <a:custGeom>
                <a:avLst/>
                <a:gdLst/>
                <a:ahLst/>
                <a:rect l="l" t="t" r="r" b="b"/>
                <a:pathLst>
                  <a:path w="3168" h="869">
                    <a:moveTo>
                      <a:pt x="3168" y="426"/>
                    </a:moveTo>
                    <a:lnTo>
                      <a:pt x="3165" y="448"/>
                    </a:lnTo>
                    <a:lnTo>
                      <a:pt x="3159" y="471"/>
                    </a:lnTo>
                    <a:lnTo>
                      <a:pt x="3149" y="493"/>
                    </a:lnTo>
                    <a:lnTo>
                      <a:pt x="3136" y="514"/>
                    </a:lnTo>
                    <a:lnTo>
                      <a:pt x="3118" y="537"/>
                    </a:lnTo>
                    <a:lnTo>
                      <a:pt x="3096" y="557"/>
                    </a:lnTo>
                    <a:lnTo>
                      <a:pt x="3071" y="578"/>
                    </a:lnTo>
                    <a:lnTo>
                      <a:pt x="3043" y="598"/>
                    </a:lnTo>
                    <a:lnTo>
                      <a:pt x="3012" y="617"/>
                    </a:lnTo>
                    <a:lnTo>
                      <a:pt x="2976" y="637"/>
                    </a:lnTo>
                    <a:lnTo>
                      <a:pt x="2938" y="656"/>
                    </a:lnTo>
                    <a:lnTo>
                      <a:pt x="2897" y="673"/>
                    </a:lnTo>
                    <a:lnTo>
                      <a:pt x="2853" y="691"/>
                    </a:lnTo>
                    <a:lnTo>
                      <a:pt x="2805" y="707"/>
                    </a:lnTo>
                    <a:lnTo>
                      <a:pt x="2756" y="723"/>
                    </a:lnTo>
                    <a:lnTo>
                      <a:pt x="2703" y="739"/>
                    </a:lnTo>
                    <a:lnTo>
                      <a:pt x="2649" y="754"/>
                    </a:lnTo>
                    <a:lnTo>
                      <a:pt x="2591" y="768"/>
                    </a:lnTo>
                    <a:lnTo>
                      <a:pt x="2531" y="781"/>
                    </a:lnTo>
                    <a:lnTo>
                      <a:pt x="2469" y="793"/>
                    </a:lnTo>
                    <a:lnTo>
                      <a:pt x="2405" y="804"/>
                    </a:lnTo>
                    <a:lnTo>
                      <a:pt x="2339" y="815"/>
                    </a:lnTo>
                    <a:lnTo>
                      <a:pt x="2270" y="825"/>
                    </a:lnTo>
                    <a:lnTo>
                      <a:pt x="2201" y="834"/>
                    </a:lnTo>
                    <a:lnTo>
                      <a:pt x="2128" y="842"/>
                    </a:lnTo>
                    <a:lnTo>
                      <a:pt x="2054" y="849"/>
                    </a:lnTo>
                    <a:lnTo>
                      <a:pt x="1979" y="855"/>
                    </a:lnTo>
                    <a:lnTo>
                      <a:pt x="1903" y="860"/>
                    </a:lnTo>
                    <a:lnTo>
                      <a:pt x="1825" y="864"/>
                    </a:lnTo>
                    <a:lnTo>
                      <a:pt x="1745" y="867"/>
                    </a:lnTo>
                    <a:lnTo>
                      <a:pt x="1665" y="869"/>
                    </a:lnTo>
                    <a:lnTo>
                      <a:pt x="1583" y="869"/>
                    </a:lnTo>
                    <a:lnTo>
                      <a:pt x="1502" y="869"/>
                    </a:lnTo>
                    <a:lnTo>
                      <a:pt x="1422" y="867"/>
                    </a:lnTo>
                    <a:lnTo>
                      <a:pt x="1342" y="864"/>
                    </a:lnTo>
                    <a:lnTo>
                      <a:pt x="1264" y="860"/>
                    </a:lnTo>
                    <a:lnTo>
                      <a:pt x="1188" y="855"/>
                    </a:lnTo>
                    <a:lnTo>
                      <a:pt x="1113" y="849"/>
                    </a:lnTo>
                    <a:lnTo>
                      <a:pt x="1039" y="842"/>
                    </a:lnTo>
                    <a:lnTo>
                      <a:pt x="967" y="834"/>
                    </a:lnTo>
                    <a:lnTo>
                      <a:pt x="897" y="825"/>
                    </a:lnTo>
                    <a:lnTo>
                      <a:pt x="828" y="815"/>
                    </a:lnTo>
                    <a:lnTo>
                      <a:pt x="762" y="804"/>
                    </a:lnTo>
                    <a:lnTo>
                      <a:pt x="698" y="793"/>
                    </a:lnTo>
                    <a:lnTo>
                      <a:pt x="636" y="781"/>
                    </a:lnTo>
                    <a:lnTo>
                      <a:pt x="576" y="768"/>
                    </a:lnTo>
                    <a:lnTo>
                      <a:pt x="518" y="754"/>
                    </a:lnTo>
                    <a:lnTo>
                      <a:pt x="463" y="739"/>
                    </a:lnTo>
                    <a:lnTo>
                      <a:pt x="411" y="723"/>
                    </a:lnTo>
                    <a:lnTo>
                      <a:pt x="361" y="707"/>
                    </a:lnTo>
                    <a:lnTo>
                      <a:pt x="314" y="691"/>
                    </a:lnTo>
                    <a:lnTo>
                      <a:pt x="270" y="673"/>
                    </a:lnTo>
                    <a:lnTo>
                      <a:pt x="229" y="656"/>
                    </a:lnTo>
                    <a:lnTo>
                      <a:pt x="191" y="637"/>
                    </a:lnTo>
                    <a:lnTo>
                      <a:pt x="155" y="617"/>
                    </a:lnTo>
                    <a:lnTo>
                      <a:pt x="124" y="598"/>
                    </a:lnTo>
                    <a:lnTo>
                      <a:pt x="96" y="578"/>
                    </a:lnTo>
                    <a:lnTo>
                      <a:pt x="71" y="557"/>
                    </a:lnTo>
                    <a:lnTo>
                      <a:pt x="49" y="537"/>
                    </a:lnTo>
                    <a:lnTo>
                      <a:pt x="31" y="514"/>
                    </a:lnTo>
                    <a:lnTo>
                      <a:pt x="18" y="493"/>
                    </a:lnTo>
                    <a:lnTo>
                      <a:pt x="8" y="471"/>
                    </a:lnTo>
                    <a:lnTo>
                      <a:pt x="2" y="448"/>
                    </a:lnTo>
                    <a:lnTo>
                      <a:pt x="0" y="426"/>
                    </a:lnTo>
                    <a:lnTo>
                      <a:pt x="2" y="402"/>
                    </a:lnTo>
                    <a:lnTo>
                      <a:pt x="8" y="380"/>
                    </a:lnTo>
                    <a:lnTo>
                      <a:pt x="18" y="358"/>
                    </a:lnTo>
                    <a:lnTo>
                      <a:pt x="31" y="337"/>
                    </a:lnTo>
                    <a:lnTo>
                      <a:pt x="49" y="316"/>
                    </a:lnTo>
                    <a:lnTo>
                      <a:pt x="71" y="295"/>
                    </a:lnTo>
                    <a:lnTo>
                      <a:pt x="96" y="275"/>
                    </a:lnTo>
                    <a:lnTo>
                      <a:pt x="124" y="256"/>
                    </a:lnTo>
                    <a:lnTo>
                      <a:pt x="155" y="237"/>
                    </a:lnTo>
                    <a:lnTo>
                      <a:pt x="191" y="218"/>
                    </a:lnTo>
                    <a:lnTo>
                      <a:pt x="229" y="201"/>
                    </a:lnTo>
                    <a:lnTo>
                      <a:pt x="270" y="183"/>
                    </a:lnTo>
                    <a:lnTo>
                      <a:pt x="314" y="166"/>
                    </a:lnTo>
                    <a:lnTo>
                      <a:pt x="361" y="150"/>
                    </a:lnTo>
                    <a:lnTo>
                      <a:pt x="411" y="135"/>
                    </a:lnTo>
                    <a:lnTo>
                      <a:pt x="463" y="121"/>
                    </a:lnTo>
                    <a:lnTo>
                      <a:pt x="518" y="107"/>
                    </a:lnTo>
                    <a:lnTo>
                      <a:pt x="576" y="94"/>
                    </a:lnTo>
                    <a:lnTo>
                      <a:pt x="636" y="81"/>
                    </a:lnTo>
                    <a:lnTo>
                      <a:pt x="698" y="69"/>
                    </a:lnTo>
                    <a:lnTo>
                      <a:pt x="762" y="59"/>
                    </a:lnTo>
                    <a:lnTo>
                      <a:pt x="828" y="49"/>
                    </a:lnTo>
                    <a:lnTo>
                      <a:pt x="897" y="40"/>
                    </a:lnTo>
                    <a:lnTo>
                      <a:pt x="967" y="32"/>
                    </a:lnTo>
                    <a:lnTo>
                      <a:pt x="1039" y="24"/>
                    </a:lnTo>
                    <a:lnTo>
                      <a:pt x="1113" y="18"/>
                    </a:lnTo>
                    <a:lnTo>
                      <a:pt x="1188" y="13"/>
                    </a:lnTo>
                    <a:lnTo>
                      <a:pt x="1264" y="8"/>
                    </a:lnTo>
                    <a:lnTo>
                      <a:pt x="1342" y="5"/>
                    </a:lnTo>
                    <a:lnTo>
                      <a:pt x="1422" y="2"/>
                    </a:lnTo>
                    <a:lnTo>
                      <a:pt x="1502" y="0"/>
                    </a:lnTo>
                    <a:lnTo>
                      <a:pt x="1583" y="0"/>
                    </a:lnTo>
                    <a:lnTo>
                      <a:pt x="1665" y="0"/>
                    </a:lnTo>
                    <a:lnTo>
                      <a:pt x="1745" y="2"/>
                    </a:lnTo>
                    <a:lnTo>
                      <a:pt x="1825" y="5"/>
                    </a:lnTo>
                    <a:lnTo>
                      <a:pt x="1903" y="8"/>
                    </a:lnTo>
                    <a:lnTo>
                      <a:pt x="1979" y="13"/>
                    </a:lnTo>
                    <a:lnTo>
                      <a:pt x="2054" y="18"/>
                    </a:lnTo>
                    <a:lnTo>
                      <a:pt x="2128" y="24"/>
                    </a:lnTo>
                    <a:lnTo>
                      <a:pt x="2201" y="32"/>
                    </a:lnTo>
                    <a:lnTo>
                      <a:pt x="2270" y="40"/>
                    </a:lnTo>
                    <a:lnTo>
                      <a:pt x="2339" y="49"/>
                    </a:lnTo>
                    <a:lnTo>
                      <a:pt x="2405" y="59"/>
                    </a:lnTo>
                    <a:lnTo>
                      <a:pt x="2469" y="69"/>
                    </a:lnTo>
                    <a:lnTo>
                      <a:pt x="2531" y="81"/>
                    </a:lnTo>
                    <a:lnTo>
                      <a:pt x="2591" y="94"/>
                    </a:lnTo>
                    <a:lnTo>
                      <a:pt x="2649" y="107"/>
                    </a:lnTo>
                    <a:lnTo>
                      <a:pt x="2703" y="121"/>
                    </a:lnTo>
                    <a:lnTo>
                      <a:pt x="2756" y="135"/>
                    </a:lnTo>
                    <a:lnTo>
                      <a:pt x="2805" y="150"/>
                    </a:lnTo>
                    <a:lnTo>
                      <a:pt x="2853" y="166"/>
                    </a:lnTo>
                    <a:lnTo>
                      <a:pt x="2897" y="183"/>
                    </a:lnTo>
                    <a:lnTo>
                      <a:pt x="2938" y="201"/>
                    </a:lnTo>
                    <a:lnTo>
                      <a:pt x="2976" y="218"/>
                    </a:lnTo>
                    <a:lnTo>
                      <a:pt x="3012" y="237"/>
                    </a:lnTo>
                    <a:lnTo>
                      <a:pt x="3043" y="256"/>
                    </a:lnTo>
                    <a:lnTo>
                      <a:pt x="3071" y="275"/>
                    </a:lnTo>
                    <a:lnTo>
                      <a:pt x="3096" y="295"/>
                    </a:lnTo>
                    <a:lnTo>
                      <a:pt x="3118" y="316"/>
                    </a:lnTo>
                    <a:lnTo>
                      <a:pt x="3136" y="337"/>
                    </a:lnTo>
                    <a:lnTo>
                      <a:pt x="3149" y="358"/>
                    </a:lnTo>
                    <a:lnTo>
                      <a:pt x="3159" y="380"/>
                    </a:lnTo>
                    <a:lnTo>
                      <a:pt x="3165" y="402"/>
                    </a:lnTo>
                    <a:lnTo>
                      <a:pt x="3168" y="4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73520" y="6506640"/>
                <a:ext cx="349200" cy="103680"/>
              </a:xfrm>
              <a:custGeom>
                <a:avLst/>
                <a:gdLst/>
                <a:ahLst/>
                <a:rect l="l" t="t" r="r" b="b"/>
                <a:pathLst>
                  <a:path w="3165" h="867">
                    <a:moveTo>
                      <a:pt x="3165" y="425"/>
                    </a:moveTo>
                    <a:lnTo>
                      <a:pt x="3163" y="447"/>
                    </a:lnTo>
                    <a:lnTo>
                      <a:pt x="3157" y="470"/>
                    </a:lnTo>
                    <a:lnTo>
                      <a:pt x="3147" y="492"/>
                    </a:lnTo>
                    <a:lnTo>
                      <a:pt x="3133" y="513"/>
                    </a:lnTo>
                    <a:lnTo>
                      <a:pt x="3116" y="535"/>
                    </a:lnTo>
                    <a:lnTo>
                      <a:pt x="3094" y="556"/>
                    </a:lnTo>
                    <a:lnTo>
                      <a:pt x="3069" y="577"/>
                    </a:lnTo>
                    <a:lnTo>
                      <a:pt x="3041" y="596"/>
                    </a:lnTo>
                    <a:lnTo>
                      <a:pt x="3010" y="616"/>
                    </a:lnTo>
                    <a:lnTo>
                      <a:pt x="2974" y="636"/>
                    </a:lnTo>
                    <a:lnTo>
                      <a:pt x="2936" y="654"/>
                    </a:lnTo>
                    <a:lnTo>
                      <a:pt x="2894" y="672"/>
                    </a:lnTo>
                    <a:lnTo>
                      <a:pt x="2851" y="689"/>
                    </a:lnTo>
                    <a:lnTo>
                      <a:pt x="2803" y="706"/>
                    </a:lnTo>
                    <a:lnTo>
                      <a:pt x="2754" y="722"/>
                    </a:lnTo>
                    <a:lnTo>
                      <a:pt x="2701" y="738"/>
                    </a:lnTo>
                    <a:lnTo>
                      <a:pt x="2647" y="752"/>
                    </a:lnTo>
                    <a:lnTo>
                      <a:pt x="2589" y="766"/>
                    </a:lnTo>
                    <a:lnTo>
                      <a:pt x="2530" y="779"/>
                    </a:lnTo>
                    <a:lnTo>
                      <a:pt x="2467" y="791"/>
                    </a:lnTo>
                    <a:lnTo>
                      <a:pt x="2404" y="803"/>
                    </a:lnTo>
                    <a:lnTo>
                      <a:pt x="2337" y="813"/>
                    </a:lnTo>
                    <a:lnTo>
                      <a:pt x="2268" y="823"/>
                    </a:lnTo>
                    <a:lnTo>
                      <a:pt x="2199" y="832"/>
                    </a:lnTo>
                    <a:lnTo>
                      <a:pt x="2127" y="841"/>
                    </a:lnTo>
                    <a:lnTo>
                      <a:pt x="2053" y="847"/>
                    </a:lnTo>
                    <a:lnTo>
                      <a:pt x="1978" y="853"/>
                    </a:lnTo>
                    <a:lnTo>
                      <a:pt x="1902" y="858"/>
                    </a:lnTo>
                    <a:lnTo>
                      <a:pt x="1824" y="862"/>
                    </a:lnTo>
                    <a:lnTo>
                      <a:pt x="1744" y="865"/>
                    </a:lnTo>
                    <a:lnTo>
                      <a:pt x="1664" y="867"/>
                    </a:lnTo>
                    <a:lnTo>
                      <a:pt x="1582" y="867"/>
                    </a:lnTo>
                    <a:lnTo>
                      <a:pt x="1501" y="867"/>
                    </a:lnTo>
                    <a:lnTo>
                      <a:pt x="1421" y="865"/>
                    </a:lnTo>
                    <a:lnTo>
                      <a:pt x="1341" y="862"/>
                    </a:lnTo>
                    <a:lnTo>
                      <a:pt x="1263" y="858"/>
                    </a:lnTo>
                    <a:lnTo>
                      <a:pt x="1187" y="853"/>
                    </a:lnTo>
                    <a:lnTo>
                      <a:pt x="1112" y="847"/>
                    </a:lnTo>
                    <a:lnTo>
                      <a:pt x="1038" y="841"/>
                    </a:lnTo>
                    <a:lnTo>
                      <a:pt x="966" y="832"/>
                    </a:lnTo>
                    <a:lnTo>
                      <a:pt x="897" y="823"/>
                    </a:lnTo>
                    <a:lnTo>
                      <a:pt x="828" y="813"/>
                    </a:lnTo>
                    <a:lnTo>
                      <a:pt x="761" y="803"/>
                    </a:lnTo>
                    <a:lnTo>
                      <a:pt x="698" y="791"/>
                    </a:lnTo>
                    <a:lnTo>
                      <a:pt x="635" y="779"/>
                    </a:lnTo>
                    <a:lnTo>
                      <a:pt x="576" y="766"/>
                    </a:lnTo>
                    <a:lnTo>
                      <a:pt x="518" y="752"/>
                    </a:lnTo>
                    <a:lnTo>
                      <a:pt x="463" y="738"/>
                    </a:lnTo>
                    <a:lnTo>
                      <a:pt x="411" y="722"/>
                    </a:lnTo>
                    <a:lnTo>
                      <a:pt x="361" y="706"/>
                    </a:lnTo>
                    <a:lnTo>
                      <a:pt x="314" y="689"/>
                    </a:lnTo>
                    <a:lnTo>
                      <a:pt x="271" y="672"/>
                    </a:lnTo>
                    <a:lnTo>
                      <a:pt x="229" y="654"/>
                    </a:lnTo>
                    <a:lnTo>
                      <a:pt x="191" y="636"/>
                    </a:lnTo>
                    <a:lnTo>
                      <a:pt x="156" y="616"/>
                    </a:lnTo>
                    <a:lnTo>
                      <a:pt x="124" y="596"/>
                    </a:lnTo>
                    <a:lnTo>
                      <a:pt x="96" y="577"/>
                    </a:lnTo>
                    <a:lnTo>
                      <a:pt x="71" y="556"/>
                    </a:lnTo>
                    <a:lnTo>
                      <a:pt x="49" y="535"/>
                    </a:lnTo>
                    <a:lnTo>
                      <a:pt x="32" y="513"/>
                    </a:lnTo>
                    <a:lnTo>
                      <a:pt x="18" y="492"/>
                    </a:lnTo>
                    <a:lnTo>
                      <a:pt x="8" y="470"/>
                    </a:lnTo>
                    <a:lnTo>
                      <a:pt x="2" y="447"/>
                    </a:lnTo>
                    <a:lnTo>
                      <a:pt x="0" y="425"/>
                    </a:lnTo>
                    <a:lnTo>
                      <a:pt x="2" y="401"/>
                    </a:lnTo>
                    <a:lnTo>
                      <a:pt x="8" y="379"/>
                    </a:lnTo>
                    <a:lnTo>
                      <a:pt x="18" y="357"/>
                    </a:lnTo>
                    <a:lnTo>
                      <a:pt x="32" y="336"/>
                    </a:lnTo>
                    <a:lnTo>
                      <a:pt x="49" y="315"/>
                    </a:lnTo>
                    <a:lnTo>
                      <a:pt x="71" y="294"/>
                    </a:lnTo>
                    <a:lnTo>
                      <a:pt x="96" y="274"/>
                    </a:lnTo>
                    <a:lnTo>
                      <a:pt x="124" y="255"/>
                    </a:lnTo>
                    <a:lnTo>
                      <a:pt x="156" y="236"/>
                    </a:lnTo>
                    <a:lnTo>
                      <a:pt x="191" y="218"/>
                    </a:lnTo>
                    <a:lnTo>
                      <a:pt x="229" y="200"/>
                    </a:lnTo>
                    <a:lnTo>
                      <a:pt x="271" y="182"/>
                    </a:lnTo>
                    <a:lnTo>
                      <a:pt x="314" y="166"/>
                    </a:lnTo>
                    <a:lnTo>
                      <a:pt x="361" y="150"/>
                    </a:lnTo>
                    <a:lnTo>
                      <a:pt x="411" y="135"/>
                    </a:lnTo>
                    <a:lnTo>
                      <a:pt x="463" y="121"/>
                    </a:lnTo>
                    <a:lnTo>
                      <a:pt x="518" y="107"/>
                    </a:lnTo>
                    <a:lnTo>
                      <a:pt x="576" y="94"/>
                    </a:lnTo>
                    <a:lnTo>
                      <a:pt x="635" y="81"/>
                    </a:lnTo>
                    <a:lnTo>
                      <a:pt x="698" y="69"/>
                    </a:lnTo>
                    <a:lnTo>
                      <a:pt x="761" y="59"/>
                    </a:lnTo>
                    <a:lnTo>
                      <a:pt x="828" y="49"/>
                    </a:lnTo>
                    <a:lnTo>
                      <a:pt x="897" y="40"/>
                    </a:lnTo>
                    <a:lnTo>
                      <a:pt x="966" y="32"/>
                    </a:lnTo>
                    <a:lnTo>
                      <a:pt x="1038" y="24"/>
                    </a:lnTo>
                    <a:lnTo>
                      <a:pt x="1112" y="18"/>
                    </a:lnTo>
                    <a:lnTo>
                      <a:pt x="1187" y="13"/>
                    </a:lnTo>
                    <a:lnTo>
                      <a:pt x="1263" y="8"/>
                    </a:lnTo>
                    <a:lnTo>
                      <a:pt x="1341" y="5"/>
                    </a:lnTo>
                    <a:lnTo>
                      <a:pt x="1421" y="2"/>
                    </a:lnTo>
                    <a:lnTo>
                      <a:pt x="1501" y="0"/>
                    </a:lnTo>
                    <a:lnTo>
                      <a:pt x="1582" y="0"/>
                    </a:lnTo>
                    <a:lnTo>
                      <a:pt x="1664" y="0"/>
                    </a:lnTo>
                    <a:lnTo>
                      <a:pt x="1744" y="2"/>
                    </a:lnTo>
                    <a:lnTo>
                      <a:pt x="1824" y="5"/>
                    </a:lnTo>
                    <a:lnTo>
                      <a:pt x="1902" y="8"/>
                    </a:lnTo>
                    <a:lnTo>
                      <a:pt x="1978" y="13"/>
                    </a:lnTo>
                    <a:lnTo>
                      <a:pt x="2053" y="18"/>
                    </a:lnTo>
                    <a:lnTo>
                      <a:pt x="2127" y="24"/>
                    </a:lnTo>
                    <a:lnTo>
                      <a:pt x="2199" y="32"/>
                    </a:lnTo>
                    <a:lnTo>
                      <a:pt x="2268" y="40"/>
                    </a:lnTo>
                    <a:lnTo>
                      <a:pt x="2337" y="49"/>
                    </a:lnTo>
                    <a:lnTo>
                      <a:pt x="2404" y="59"/>
                    </a:lnTo>
                    <a:lnTo>
                      <a:pt x="2467" y="69"/>
                    </a:lnTo>
                    <a:lnTo>
                      <a:pt x="2530" y="81"/>
                    </a:lnTo>
                    <a:lnTo>
                      <a:pt x="2589" y="94"/>
                    </a:lnTo>
                    <a:lnTo>
                      <a:pt x="2647" y="107"/>
                    </a:lnTo>
                    <a:lnTo>
                      <a:pt x="2701" y="121"/>
                    </a:lnTo>
                    <a:lnTo>
                      <a:pt x="2754" y="135"/>
                    </a:lnTo>
                    <a:lnTo>
                      <a:pt x="2803" y="150"/>
                    </a:lnTo>
                    <a:lnTo>
                      <a:pt x="2851" y="166"/>
                    </a:lnTo>
                    <a:lnTo>
                      <a:pt x="2894" y="182"/>
                    </a:lnTo>
                    <a:lnTo>
                      <a:pt x="2936" y="200"/>
                    </a:lnTo>
                    <a:lnTo>
                      <a:pt x="2974" y="218"/>
                    </a:lnTo>
                    <a:lnTo>
                      <a:pt x="3010" y="236"/>
                    </a:lnTo>
                    <a:lnTo>
                      <a:pt x="3041" y="255"/>
                    </a:lnTo>
                    <a:lnTo>
                      <a:pt x="3069" y="274"/>
                    </a:lnTo>
                    <a:lnTo>
                      <a:pt x="3094" y="294"/>
                    </a:lnTo>
                    <a:lnTo>
                      <a:pt x="3116" y="315"/>
                    </a:lnTo>
                    <a:lnTo>
                      <a:pt x="3133" y="336"/>
                    </a:lnTo>
                    <a:lnTo>
                      <a:pt x="3147" y="357"/>
                    </a:lnTo>
                    <a:lnTo>
                      <a:pt x="3157" y="379"/>
                    </a:lnTo>
                    <a:lnTo>
                      <a:pt x="3163" y="401"/>
                    </a:lnTo>
                    <a:lnTo>
                      <a:pt x="3165" y="4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973520" y="6507720"/>
                <a:ext cx="349200" cy="102240"/>
              </a:xfrm>
              <a:custGeom>
                <a:avLst/>
                <a:gdLst/>
                <a:ahLst/>
                <a:rect l="l" t="t" r="r" b="b"/>
                <a:pathLst>
                  <a:path w="3163" h="865">
                    <a:moveTo>
                      <a:pt x="3163" y="424"/>
                    </a:moveTo>
                    <a:lnTo>
                      <a:pt x="3161" y="446"/>
                    </a:lnTo>
                    <a:lnTo>
                      <a:pt x="3155" y="469"/>
                    </a:lnTo>
                    <a:lnTo>
                      <a:pt x="3145" y="490"/>
                    </a:lnTo>
                    <a:lnTo>
                      <a:pt x="3131" y="512"/>
                    </a:lnTo>
                    <a:lnTo>
                      <a:pt x="3113" y="534"/>
                    </a:lnTo>
                    <a:lnTo>
                      <a:pt x="3091" y="555"/>
                    </a:lnTo>
                    <a:lnTo>
                      <a:pt x="3067" y="575"/>
                    </a:lnTo>
                    <a:lnTo>
                      <a:pt x="3039" y="595"/>
                    </a:lnTo>
                    <a:lnTo>
                      <a:pt x="3006" y="614"/>
                    </a:lnTo>
                    <a:lnTo>
                      <a:pt x="2972" y="634"/>
                    </a:lnTo>
                    <a:lnTo>
                      <a:pt x="2934" y="653"/>
                    </a:lnTo>
                    <a:lnTo>
                      <a:pt x="2892" y="670"/>
                    </a:lnTo>
                    <a:lnTo>
                      <a:pt x="2849" y="688"/>
                    </a:lnTo>
                    <a:lnTo>
                      <a:pt x="2801" y="704"/>
                    </a:lnTo>
                    <a:lnTo>
                      <a:pt x="2752" y="720"/>
                    </a:lnTo>
                    <a:lnTo>
                      <a:pt x="2699" y="736"/>
                    </a:lnTo>
                    <a:lnTo>
                      <a:pt x="2645" y="751"/>
                    </a:lnTo>
                    <a:lnTo>
                      <a:pt x="2587" y="764"/>
                    </a:lnTo>
                    <a:lnTo>
                      <a:pt x="2528" y="777"/>
                    </a:lnTo>
                    <a:lnTo>
                      <a:pt x="2465" y="790"/>
                    </a:lnTo>
                    <a:lnTo>
                      <a:pt x="2402" y="801"/>
                    </a:lnTo>
                    <a:lnTo>
                      <a:pt x="2335" y="811"/>
                    </a:lnTo>
                    <a:lnTo>
                      <a:pt x="2267" y="821"/>
                    </a:lnTo>
                    <a:lnTo>
                      <a:pt x="2197" y="830"/>
                    </a:lnTo>
                    <a:lnTo>
                      <a:pt x="2125" y="839"/>
                    </a:lnTo>
                    <a:lnTo>
                      <a:pt x="2052" y="846"/>
                    </a:lnTo>
                    <a:lnTo>
                      <a:pt x="1976" y="851"/>
                    </a:lnTo>
                    <a:lnTo>
                      <a:pt x="1901" y="856"/>
                    </a:lnTo>
                    <a:lnTo>
                      <a:pt x="1822" y="860"/>
                    </a:lnTo>
                    <a:lnTo>
                      <a:pt x="1743" y="863"/>
                    </a:lnTo>
                    <a:lnTo>
                      <a:pt x="1663" y="865"/>
                    </a:lnTo>
                    <a:lnTo>
                      <a:pt x="1581" y="865"/>
                    </a:lnTo>
                    <a:lnTo>
                      <a:pt x="1500" y="865"/>
                    </a:lnTo>
                    <a:lnTo>
                      <a:pt x="1420" y="863"/>
                    </a:lnTo>
                    <a:lnTo>
                      <a:pt x="1341" y="860"/>
                    </a:lnTo>
                    <a:lnTo>
                      <a:pt x="1263" y="856"/>
                    </a:lnTo>
                    <a:lnTo>
                      <a:pt x="1187" y="851"/>
                    </a:lnTo>
                    <a:lnTo>
                      <a:pt x="1111" y="846"/>
                    </a:lnTo>
                    <a:lnTo>
                      <a:pt x="1038" y="839"/>
                    </a:lnTo>
                    <a:lnTo>
                      <a:pt x="966" y="830"/>
                    </a:lnTo>
                    <a:lnTo>
                      <a:pt x="896" y="821"/>
                    </a:lnTo>
                    <a:lnTo>
                      <a:pt x="828" y="811"/>
                    </a:lnTo>
                    <a:lnTo>
                      <a:pt x="761" y="801"/>
                    </a:lnTo>
                    <a:lnTo>
                      <a:pt x="698" y="790"/>
                    </a:lnTo>
                    <a:lnTo>
                      <a:pt x="635" y="777"/>
                    </a:lnTo>
                    <a:lnTo>
                      <a:pt x="576" y="764"/>
                    </a:lnTo>
                    <a:lnTo>
                      <a:pt x="518" y="751"/>
                    </a:lnTo>
                    <a:lnTo>
                      <a:pt x="463" y="736"/>
                    </a:lnTo>
                    <a:lnTo>
                      <a:pt x="411" y="720"/>
                    </a:lnTo>
                    <a:lnTo>
                      <a:pt x="361" y="704"/>
                    </a:lnTo>
                    <a:lnTo>
                      <a:pt x="314" y="688"/>
                    </a:lnTo>
                    <a:lnTo>
                      <a:pt x="271" y="670"/>
                    </a:lnTo>
                    <a:lnTo>
                      <a:pt x="229" y="653"/>
                    </a:lnTo>
                    <a:lnTo>
                      <a:pt x="191" y="634"/>
                    </a:lnTo>
                    <a:lnTo>
                      <a:pt x="156" y="614"/>
                    </a:lnTo>
                    <a:lnTo>
                      <a:pt x="124" y="595"/>
                    </a:lnTo>
                    <a:lnTo>
                      <a:pt x="96" y="575"/>
                    </a:lnTo>
                    <a:lnTo>
                      <a:pt x="72" y="555"/>
                    </a:lnTo>
                    <a:lnTo>
                      <a:pt x="50" y="534"/>
                    </a:lnTo>
                    <a:lnTo>
                      <a:pt x="32" y="512"/>
                    </a:lnTo>
                    <a:lnTo>
                      <a:pt x="18" y="490"/>
                    </a:lnTo>
                    <a:lnTo>
                      <a:pt x="9" y="469"/>
                    </a:lnTo>
                    <a:lnTo>
                      <a:pt x="2" y="446"/>
                    </a:lnTo>
                    <a:lnTo>
                      <a:pt x="0" y="424"/>
                    </a:lnTo>
                    <a:lnTo>
                      <a:pt x="2" y="400"/>
                    </a:lnTo>
                    <a:lnTo>
                      <a:pt x="9" y="378"/>
                    </a:lnTo>
                    <a:lnTo>
                      <a:pt x="18" y="357"/>
                    </a:lnTo>
                    <a:lnTo>
                      <a:pt x="32" y="335"/>
                    </a:lnTo>
                    <a:lnTo>
                      <a:pt x="50" y="315"/>
                    </a:lnTo>
                    <a:lnTo>
                      <a:pt x="72" y="293"/>
                    </a:lnTo>
                    <a:lnTo>
                      <a:pt x="96" y="274"/>
                    </a:lnTo>
                    <a:lnTo>
                      <a:pt x="124" y="254"/>
                    </a:lnTo>
                    <a:lnTo>
                      <a:pt x="156" y="236"/>
                    </a:lnTo>
                    <a:lnTo>
                      <a:pt x="191" y="217"/>
                    </a:lnTo>
                    <a:lnTo>
                      <a:pt x="229" y="200"/>
                    </a:lnTo>
                    <a:lnTo>
                      <a:pt x="271" y="182"/>
                    </a:lnTo>
                    <a:lnTo>
                      <a:pt x="314" y="165"/>
                    </a:lnTo>
                    <a:lnTo>
                      <a:pt x="361" y="150"/>
                    </a:lnTo>
                    <a:lnTo>
                      <a:pt x="411" y="135"/>
                    </a:lnTo>
                    <a:lnTo>
                      <a:pt x="463" y="120"/>
                    </a:lnTo>
                    <a:lnTo>
                      <a:pt x="518" y="107"/>
                    </a:lnTo>
                    <a:lnTo>
                      <a:pt x="576" y="94"/>
                    </a:lnTo>
                    <a:lnTo>
                      <a:pt x="635" y="80"/>
                    </a:lnTo>
                    <a:lnTo>
                      <a:pt x="698" y="69"/>
                    </a:lnTo>
                    <a:lnTo>
                      <a:pt x="761" y="58"/>
                    </a:lnTo>
                    <a:lnTo>
                      <a:pt x="828" y="49"/>
                    </a:lnTo>
                    <a:lnTo>
                      <a:pt x="896" y="40"/>
                    </a:lnTo>
                    <a:lnTo>
                      <a:pt x="966" y="31"/>
                    </a:lnTo>
                    <a:lnTo>
                      <a:pt x="1038" y="24"/>
                    </a:lnTo>
                    <a:lnTo>
                      <a:pt x="1111" y="18"/>
                    </a:lnTo>
                    <a:lnTo>
                      <a:pt x="1187" y="12"/>
                    </a:lnTo>
                    <a:lnTo>
                      <a:pt x="1263" y="8"/>
                    </a:lnTo>
                    <a:lnTo>
                      <a:pt x="1341" y="4"/>
                    </a:lnTo>
                    <a:lnTo>
                      <a:pt x="1420" y="2"/>
                    </a:lnTo>
                    <a:lnTo>
                      <a:pt x="1500" y="0"/>
                    </a:lnTo>
                    <a:lnTo>
                      <a:pt x="1581" y="0"/>
                    </a:lnTo>
                    <a:lnTo>
                      <a:pt x="1663" y="0"/>
                    </a:lnTo>
                    <a:lnTo>
                      <a:pt x="1743" y="2"/>
                    </a:lnTo>
                    <a:lnTo>
                      <a:pt x="1822" y="4"/>
                    </a:lnTo>
                    <a:lnTo>
                      <a:pt x="1901" y="8"/>
                    </a:lnTo>
                    <a:lnTo>
                      <a:pt x="1976" y="12"/>
                    </a:lnTo>
                    <a:lnTo>
                      <a:pt x="2052" y="18"/>
                    </a:lnTo>
                    <a:lnTo>
                      <a:pt x="2125" y="24"/>
                    </a:lnTo>
                    <a:lnTo>
                      <a:pt x="2197" y="31"/>
                    </a:lnTo>
                    <a:lnTo>
                      <a:pt x="2267" y="40"/>
                    </a:lnTo>
                    <a:lnTo>
                      <a:pt x="2335" y="49"/>
                    </a:lnTo>
                    <a:lnTo>
                      <a:pt x="2402" y="58"/>
                    </a:lnTo>
                    <a:lnTo>
                      <a:pt x="2465" y="69"/>
                    </a:lnTo>
                    <a:lnTo>
                      <a:pt x="2528" y="80"/>
                    </a:lnTo>
                    <a:lnTo>
                      <a:pt x="2587" y="94"/>
                    </a:lnTo>
                    <a:lnTo>
                      <a:pt x="2645" y="107"/>
                    </a:lnTo>
                    <a:lnTo>
                      <a:pt x="2699" y="120"/>
                    </a:lnTo>
                    <a:lnTo>
                      <a:pt x="2752" y="135"/>
                    </a:lnTo>
                    <a:lnTo>
                      <a:pt x="2801" y="150"/>
                    </a:lnTo>
                    <a:lnTo>
                      <a:pt x="2849" y="165"/>
                    </a:lnTo>
                    <a:lnTo>
                      <a:pt x="2892" y="182"/>
                    </a:lnTo>
                    <a:lnTo>
                      <a:pt x="2934" y="200"/>
                    </a:lnTo>
                    <a:lnTo>
                      <a:pt x="2972" y="217"/>
                    </a:lnTo>
                    <a:lnTo>
                      <a:pt x="3006" y="236"/>
                    </a:lnTo>
                    <a:lnTo>
                      <a:pt x="3039" y="254"/>
                    </a:lnTo>
                    <a:lnTo>
                      <a:pt x="3067" y="274"/>
                    </a:lnTo>
                    <a:lnTo>
                      <a:pt x="3091" y="293"/>
                    </a:lnTo>
                    <a:lnTo>
                      <a:pt x="3113" y="315"/>
                    </a:lnTo>
                    <a:lnTo>
                      <a:pt x="3131" y="335"/>
                    </a:lnTo>
                    <a:lnTo>
                      <a:pt x="3145" y="357"/>
                    </a:lnTo>
                    <a:lnTo>
                      <a:pt x="3155" y="378"/>
                    </a:lnTo>
                    <a:lnTo>
                      <a:pt x="3161" y="400"/>
                    </a:lnTo>
                    <a:lnTo>
                      <a:pt x="3163" y="4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73520" y="6507720"/>
                <a:ext cx="349200" cy="102240"/>
              </a:xfrm>
              <a:custGeom>
                <a:avLst/>
                <a:gdLst/>
                <a:ahLst/>
                <a:rect l="l" t="t" r="r" b="b"/>
                <a:pathLst>
                  <a:path w="3159" h="863">
                    <a:moveTo>
                      <a:pt x="3159" y="423"/>
                    </a:moveTo>
                    <a:lnTo>
                      <a:pt x="3157" y="445"/>
                    </a:lnTo>
                    <a:lnTo>
                      <a:pt x="3151" y="467"/>
                    </a:lnTo>
                    <a:lnTo>
                      <a:pt x="3141" y="489"/>
                    </a:lnTo>
                    <a:lnTo>
                      <a:pt x="3127" y="511"/>
                    </a:lnTo>
                    <a:lnTo>
                      <a:pt x="3110" y="533"/>
                    </a:lnTo>
                    <a:lnTo>
                      <a:pt x="3088" y="554"/>
                    </a:lnTo>
                    <a:lnTo>
                      <a:pt x="3063" y="574"/>
                    </a:lnTo>
                    <a:lnTo>
                      <a:pt x="3035" y="594"/>
                    </a:lnTo>
                    <a:lnTo>
                      <a:pt x="3003" y="613"/>
                    </a:lnTo>
                    <a:lnTo>
                      <a:pt x="2968" y="633"/>
                    </a:lnTo>
                    <a:lnTo>
                      <a:pt x="2931" y="651"/>
                    </a:lnTo>
                    <a:lnTo>
                      <a:pt x="2889" y="669"/>
                    </a:lnTo>
                    <a:lnTo>
                      <a:pt x="2846" y="686"/>
                    </a:lnTo>
                    <a:lnTo>
                      <a:pt x="2798" y="702"/>
                    </a:lnTo>
                    <a:lnTo>
                      <a:pt x="2749" y="718"/>
                    </a:lnTo>
                    <a:lnTo>
                      <a:pt x="2696" y="734"/>
                    </a:lnTo>
                    <a:lnTo>
                      <a:pt x="2642" y="749"/>
                    </a:lnTo>
                    <a:lnTo>
                      <a:pt x="2584" y="763"/>
                    </a:lnTo>
                    <a:lnTo>
                      <a:pt x="2525" y="776"/>
                    </a:lnTo>
                    <a:lnTo>
                      <a:pt x="2463" y="788"/>
                    </a:lnTo>
                    <a:lnTo>
                      <a:pt x="2399" y="799"/>
                    </a:lnTo>
                    <a:lnTo>
                      <a:pt x="2333" y="810"/>
                    </a:lnTo>
                    <a:lnTo>
                      <a:pt x="2264" y="819"/>
                    </a:lnTo>
                    <a:lnTo>
                      <a:pt x="2195" y="828"/>
                    </a:lnTo>
                    <a:lnTo>
                      <a:pt x="2123" y="837"/>
                    </a:lnTo>
                    <a:lnTo>
                      <a:pt x="2049" y="844"/>
                    </a:lnTo>
                    <a:lnTo>
                      <a:pt x="1974" y="850"/>
                    </a:lnTo>
                    <a:lnTo>
                      <a:pt x="1898" y="854"/>
                    </a:lnTo>
                    <a:lnTo>
                      <a:pt x="1820" y="858"/>
                    </a:lnTo>
                    <a:lnTo>
                      <a:pt x="1741" y="861"/>
                    </a:lnTo>
                    <a:lnTo>
                      <a:pt x="1661" y="863"/>
                    </a:lnTo>
                    <a:lnTo>
                      <a:pt x="1579" y="863"/>
                    </a:lnTo>
                    <a:lnTo>
                      <a:pt x="1499" y="863"/>
                    </a:lnTo>
                    <a:lnTo>
                      <a:pt x="1418" y="861"/>
                    </a:lnTo>
                    <a:lnTo>
                      <a:pt x="1339" y="858"/>
                    </a:lnTo>
                    <a:lnTo>
                      <a:pt x="1261" y="854"/>
                    </a:lnTo>
                    <a:lnTo>
                      <a:pt x="1185" y="850"/>
                    </a:lnTo>
                    <a:lnTo>
                      <a:pt x="1110" y="844"/>
                    </a:lnTo>
                    <a:lnTo>
                      <a:pt x="1036" y="837"/>
                    </a:lnTo>
                    <a:lnTo>
                      <a:pt x="964" y="828"/>
                    </a:lnTo>
                    <a:lnTo>
                      <a:pt x="895" y="819"/>
                    </a:lnTo>
                    <a:lnTo>
                      <a:pt x="826" y="810"/>
                    </a:lnTo>
                    <a:lnTo>
                      <a:pt x="760" y="799"/>
                    </a:lnTo>
                    <a:lnTo>
                      <a:pt x="696" y="788"/>
                    </a:lnTo>
                    <a:lnTo>
                      <a:pt x="634" y="776"/>
                    </a:lnTo>
                    <a:lnTo>
                      <a:pt x="575" y="763"/>
                    </a:lnTo>
                    <a:lnTo>
                      <a:pt x="517" y="749"/>
                    </a:lnTo>
                    <a:lnTo>
                      <a:pt x="462" y="734"/>
                    </a:lnTo>
                    <a:lnTo>
                      <a:pt x="410" y="718"/>
                    </a:lnTo>
                    <a:lnTo>
                      <a:pt x="360" y="702"/>
                    </a:lnTo>
                    <a:lnTo>
                      <a:pt x="314" y="686"/>
                    </a:lnTo>
                    <a:lnTo>
                      <a:pt x="270" y="669"/>
                    </a:lnTo>
                    <a:lnTo>
                      <a:pt x="228" y="651"/>
                    </a:lnTo>
                    <a:lnTo>
                      <a:pt x="191" y="633"/>
                    </a:lnTo>
                    <a:lnTo>
                      <a:pt x="155" y="613"/>
                    </a:lnTo>
                    <a:lnTo>
                      <a:pt x="124" y="594"/>
                    </a:lnTo>
                    <a:lnTo>
                      <a:pt x="96" y="574"/>
                    </a:lnTo>
                    <a:lnTo>
                      <a:pt x="71" y="554"/>
                    </a:lnTo>
                    <a:lnTo>
                      <a:pt x="49" y="533"/>
                    </a:lnTo>
                    <a:lnTo>
                      <a:pt x="32" y="511"/>
                    </a:lnTo>
                    <a:lnTo>
                      <a:pt x="18" y="489"/>
                    </a:lnTo>
                    <a:lnTo>
                      <a:pt x="8" y="467"/>
                    </a:lnTo>
                    <a:lnTo>
                      <a:pt x="2" y="445"/>
                    </a:lnTo>
                    <a:lnTo>
                      <a:pt x="0" y="423"/>
                    </a:lnTo>
                    <a:lnTo>
                      <a:pt x="2" y="399"/>
                    </a:lnTo>
                    <a:lnTo>
                      <a:pt x="8" y="377"/>
                    </a:lnTo>
                    <a:lnTo>
                      <a:pt x="18" y="356"/>
                    </a:lnTo>
                    <a:lnTo>
                      <a:pt x="32" y="335"/>
                    </a:lnTo>
                    <a:lnTo>
                      <a:pt x="49" y="314"/>
                    </a:lnTo>
                    <a:lnTo>
                      <a:pt x="71" y="293"/>
                    </a:lnTo>
                    <a:lnTo>
                      <a:pt x="96" y="273"/>
                    </a:lnTo>
                    <a:lnTo>
                      <a:pt x="124" y="254"/>
                    </a:lnTo>
                    <a:lnTo>
                      <a:pt x="155" y="235"/>
                    </a:lnTo>
                    <a:lnTo>
                      <a:pt x="191" y="217"/>
                    </a:lnTo>
                    <a:lnTo>
                      <a:pt x="228" y="199"/>
                    </a:lnTo>
                    <a:lnTo>
                      <a:pt x="270" y="181"/>
                    </a:lnTo>
                    <a:lnTo>
                      <a:pt x="314" y="165"/>
                    </a:lnTo>
                    <a:lnTo>
                      <a:pt x="360" y="149"/>
                    </a:lnTo>
                    <a:lnTo>
                      <a:pt x="410" y="134"/>
                    </a:lnTo>
                    <a:lnTo>
                      <a:pt x="462" y="120"/>
                    </a:lnTo>
                    <a:lnTo>
                      <a:pt x="517" y="106"/>
                    </a:lnTo>
                    <a:lnTo>
                      <a:pt x="575" y="93"/>
                    </a:lnTo>
                    <a:lnTo>
                      <a:pt x="634" y="80"/>
                    </a:lnTo>
                    <a:lnTo>
                      <a:pt x="696" y="69"/>
                    </a:lnTo>
                    <a:lnTo>
                      <a:pt x="760" y="58"/>
                    </a:lnTo>
                    <a:lnTo>
                      <a:pt x="826" y="48"/>
                    </a:lnTo>
                    <a:lnTo>
                      <a:pt x="895" y="39"/>
                    </a:lnTo>
                    <a:lnTo>
                      <a:pt x="964" y="31"/>
                    </a:lnTo>
                    <a:lnTo>
                      <a:pt x="1036" y="24"/>
                    </a:lnTo>
                    <a:lnTo>
                      <a:pt x="1110" y="18"/>
                    </a:lnTo>
                    <a:lnTo>
                      <a:pt x="1185" y="12"/>
                    </a:lnTo>
                    <a:lnTo>
                      <a:pt x="1261" y="8"/>
                    </a:lnTo>
                    <a:lnTo>
                      <a:pt x="1339" y="4"/>
                    </a:lnTo>
                    <a:lnTo>
                      <a:pt x="1418" y="2"/>
                    </a:lnTo>
                    <a:lnTo>
                      <a:pt x="1499" y="0"/>
                    </a:lnTo>
                    <a:lnTo>
                      <a:pt x="1579" y="0"/>
                    </a:lnTo>
                    <a:lnTo>
                      <a:pt x="1661" y="0"/>
                    </a:lnTo>
                    <a:lnTo>
                      <a:pt x="1741" y="2"/>
                    </a:lnTo>
                    <a:lnTo>
                      <a:pt x="1820" y="4"/>
                    </a:lnTo>
                    <a:lnTo>
                      <a:pt x="1898" y="8"/>
                    </a:lnTo>
                    <a:lnTo>
                      <a:pt x="1974" y="12"/>
                    </a:lnTo>
                    <a:lnTo>
                      <a:pt x="2049" y="18"/>
                    </a:lnTo>
                    <a:lnTo>
                      <a:pt x="2123" y="24"/>
                    </a:lnTo>
                    <a:lnTo>
                      <a:pt x="2195" y="31"/>
                    </a:lnTo>
                    <a:lnTo>
                      <a:pt x="2264" y="39"/>
                    </a:lnTo>
                    <a:lnTo>
                      <a:pt x="2333" y="48"/>
                    </a:lnTo>
                    <a:lnTo>
                      <a:pt x="2399" y="58"/>
                    </a:lnTo>
                    <a:lnTo>
                      <a:pt x="2463" y="69"/>
                    </a:lnTo>
                    <a:lnTo>
                      <a:pt x="2525" y="80"/>
                    </a:lnTo>
                    <a:lnTo>
                      <a:pt x="2584" y="93"/>
                    </a:lnTo>
                    <a:lnTo>
                      <a:pt x="2642" y="106"/>
                    </a:lnTo>
                    <a:lnTo>
                      <a:pt x="2696" y="120"/>
                    </a:lnTo>
                    <a:lnTo>
                      <a:pt x="2749" y="134"/>
                    </a:lnTo>
                    <a:lnTo>
                      <a:pt x="2798" y="149"/>
                    </a:lnTo>
                    <a:lnTo>
                      <a:pt x="2846" y="165"/>
                    </a:lnTo>
                    <a:lnTo>
                      <a:pt x="2889" y="181"/>
                    </a:lnTo>
                    <a:lnTo>
                      <a:pt x="2931" y="199"/>
                    </a:lnTo>
                    <a:lnTo>
                      <a:pt x="2968" y="217"/>
                    </a:lnTo>
                    <a:lnTo>
                      <a:pt x="3003" y="235"/>
                    </a:lnTo>
                    <a:lnTo>
                      <a:pt x="3035" y="254"/>
                    </a:lnTo>
                    <a:lnTo>
                      <a:pt x="3063" y="273"/>
                    </a:lnTo>
                    <a:lnTo>
                      <a:pt x="3088" y="293"/>
                    </a:lnTo>
                    <a:lnTo>
                      <a:pt x="3110" y="314"/>
                    </a:lnTo>
                    <a:lnTo>
                      <a:pt x="3127" y="335"/>
                    </a:lnTo>
                    <a:lnTo>
                      <a:pt x="3141" y="356"/>
                    </a:lnTo>
                    <a:lnTo>
                      <a:pt x="3151" y="377"/>
                    </a:lnTo>
                    <a:lnTo>
                      <a:pt x="3157" y="399"/>
                    </a:lnTo>
                    <a:lnTo>
                      <a:pt x="3159" y="4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973520" y="6507720"/>
                <a:ext cx="347760" cy="102240"/>
              </a:xfrm>
              <a:custGeom>
                <a:avLst/>
                <a:gdLst/>
                <a:ahLst/>
                <a:rect l="l" t="t" r="r" b="b"/>
                <a:pathLst>
                  <a:path w="3157" h="861">
                    <a:moveTo>
                      <a:pt x="3157" y="422"/>
                    </a:moveTo>
                    <a:lnTo>
                      <a:pt x="3155" y="444"/>
                    </a:lnTo>
                    <a:lnTo>
                      <a:pt x="3149" y="466"/>
                    </a:lnTo>
                    <a:lnTo>
                      <a:pt x="3139" y="488"/>
                    </a:lnTo>
                    <a:lnTo>
                      <a:pt x="3125" y="510"/>
                    </a:lnTo>
                    <a:lnTo>
                      <a:pt x="3108" y="532"/>
                    </a:lnTo>
                    <a:lnTo>
                      <a:pt x="3086" y="552"/>
                    </a:lnTo>
                    <a:lnTo>
                      <a:pt x="3061" y="573"/>
                    </a:lnTo>
                    <a:lnTo>
                      <a:pt x="3033" y="592"/>
                    </a:lnTo>
                    <a:lnTo>
                      <a:pt x="3001" y="612"/>
                    </a:lnTo>
                    <a:lnTo>
                      <a:pt x="2966" y="631"/>
                    </a:lnTo>
                    <a:lnTo>
                      <a:pt x="2929" y="650"/>
                    </a:lnTo>
                    <a:lnTo>
                      <a:pt x="2887" y="667"/>
                    </a:lnTo>
                    <a:lnTo>
                      <a:pt x="2843" y="684"/>
                    </a:lnTo>
                    <a:lnTo>
                      <a:pt x="2796" y="701"/>
                    </a:lnTo>
                    <a:lnTo>
                      <a:pt x="2747" y="717"/>
                    </a:lnTo>
                    <a:lnTo>
                      <a:pt x="2694" y="733"/>
                    </a:lnTo>
                    <a:lnTo>
                      <a:pt x="2640" y="747"/>
                    </a:lnTo>
                    <a:lnTo>
                      <a:pt x="2582" y="761"/>
                    </a:lnTo>
                    <a:lnTo>
                      <a:pt x="2523" y="774"/>
                    </a:lnTo>
                    <a:lnTo>
                      <a:pt x="2461" y="786"/>
                    </a:lnTo>
                    <a:lnTo>
                      <a:pt x="2397" y="797"/>
                    </a:lnTo>
                    <a:lnTo>
                      <a:pt x="2331" y="808"/>
                    </a:lnTo>
                    <a:lnTo>
                      <a:pt x="2263" y="817"/>
                    </a:lnTo>
                    <a:lnTo>
                      <a:pt x="2193" y="826"/>
                    </a:lnTo>
                    <a:lnTo>
                      <a:pt x="2121" y="835"/>
                    </a:lnTo>
                    <a:lnTo>
                      <a:pt x="2048" y="842"/>
                    </a:lnTo>
                    <a:lnTo>
                      <a:pt x="1973" y="848"/>
                    </a:lnTo>
                    <a:lnTo>
                      <a:pt x="1897" y="853"/>
                    </a:lnTo>
                    <a:lnTo>
                      <a:pt x="1819" y="856"/>
                    </a:lnTo>
                    <a:lnTo>
                      <a:pt x="1740" y="859"/>
                    </a:lnTo>
                    <a:lnTo>
                      <a:pt x="1659" y="861"/>
                    </a:lnTo>
                    <a:lnTo>
                      <a:pt x="1578" y="861"/>
                    </a:lnTo>
                    <a:lnTo>
                      <a:pt x="1498" y="861"/>
                    </a:lnTo>
                    <a:lnTo>
                      <a:pt x="1417" y="859"/>
                    </a:lnTo>
                    <a:lnTo>
                      <a:pt x="1338" y="856"/>
                    </a:lnTo>
                    <a:lnTo>
                      <a:pt x="1260" y="853"/>
                    </a:lnTo>
                    <a:lnTo>
                      <a:pt x="1184" y="848"/>
                    </a:lnTo>
                    <a:lnTo>
                      <a:pt x="1109" y="842"/>
                    </a:lnTo>
                    <a:lnTo>
                      <a:pt x="1036" y="835"/>
                    </a:lnTo>
                    <a:lnTo>
                      <a:pt x="964" y="826"/>
                    </a:lnTo>
                    <a:lnTo>
                      <a:pt x="894" y="817"/>
                    </a:lnTo>
                    <a:lnTo>
                      <a:pt x="826" y="808"/>
                    </a:lnTo>
                    <a:lnTo>
                      <a:pt x="760" y="797"/>
                    </a:lnTo>
                    <a:lnTo>
                      <a:pt x="696" y="786"/>
                    </a:lnTo>
                    <a:lnTo>
                      <a:pt x="634" y="774"/>
                    </a:lnTo>
                    <a:lnTo>
                      <a:pt x="575" y="761"/>
                    </a:lnTo>
                    <a:lnTo>
                      <a:pt x="517" y="747"/>
                    </a:lnTo>
                    <a:lnTo>
                      <a:pt x="462" y="733"/>
                    </a:lnTo>
                    <a:lnTo>
                      <a:pt x="410" y="717"/>
                    </a:lnTo>
                    <a:lnTo>
                      <a:pt x="360" y="701"/>
                    </a:lnTo>
                    <a:lnTo>
                      <a:pt x="314" y="684"/>
                    </a:lnTo>
                    <a:lnTo>
                      <a:pt x="270" y="667"/>
                    </a:lnTo>
                    <a:lnTo>
                      <a:pt x="229" y="650"/>
                    </a:lnTo>
                    <a:lnTo>
                      <a:pt x="191" y="631"/>
                    </a:lnTo>
                    <a:lnTo>
                      <a:pt x="155" y="612"/>
                    </a:lnTo>
                    <a:lnTo>
                      <a:pt x="124" y="592"/>
                    </a:lnTo>
                    <a:lnTo>
                      <a:pt x="96" y="573"/>
                    </a:lnTo>
                    <a:lnTo>
                      <a:pt x="72" y="552"/>
                    </a:lnTo>
                    <a:lnTo>
                      <a:pt x="49" y="532"/>
                    </a:lnTo>
                    <a:lnTo>
                      <a:pt x="32" y="510"/>
                    </a:lnTo>
                    <a:lnTo>
                      <a:pt x="18" y="488"/>
                    </a:lnTo>
                    <a:lnTo>
                      <a:pt x="8" y="466"/>
                    </a:lnTo>
                    <a:lnTo>
                      <a:pt x="2" y="444"/>
                    </a:lnTo>
                    <a:lnTo>
                      <a:pt x="0" y="422"/>
                    </a:lnTo>
                    <a:lnTo>
                      <a:pt x="2" y="398"/>
                    </a:lnTo>
                    <a:lnTo>
                      <a:pt x="8" y="376"/>
                    </a:lnTo>
                    <a:lnTo>
                      <a:pt x="18" y="355"/>
                    </a:lnTo>
                    <a:lnTo>
                      <a:pt x="32" y="334"/>
                    </a:lnTo>
                    <a:lnTo>
                      <a:pt x="49" y="313"/>
                    </a:lnTo>
                    <a:lnTo>
                      <a:pt x="72" y="292"/>
                    </a:lnTo>
                    <a:lnTo>
                      <a:pt x="96" y="272"/>
                    </a:lnTo>
                    <a:lnTo>
                      <a:pt x="124" y="253"/>
                    </a:lnTo>
                    <a:lnTo>
                      <a:pt x="155" y="234"/>
                    </a:lnTo>
                    <a:lnTo>
                      <a:pt x="191" y="216"/>
                    </a:lnTo>
                    <a:lnTo>
                      <a:pt x="229" y="199"/>
                    </a:lnTo>
                    <a:lnTo>
                      <a:pt x="270" y="181"/>
                    </a:lnTo>
                    <a:lnTo>
                      <a:pt x="314" y="164"/>
                    </a:lnTo>
                    <a:lnTo>
                      <a:pt x="360" y="149"/>
                    </a:lnTo>
                    <a:lnTo>
                      <a:pt x="410" y="134"/>
                    </a:lnTo>
                    <a:lnTo>
                      <a:pt x="462" y="119"/>
                    </a:lnTo>
                    <a:lnTo>
                      <a:pt x="517" y="106"/>
                    </a:lnTo>
                    <a:lnTo>
                      <a:pt x="575" y="93"/>
                    </a:lnTo>
                    <a:lnTo>
                      <a:pt x="634" y="80"/>
                    </a:lnTo>
                    <a:lnTo>
                      <a:pt x="696" y="69"/>
                    </a:lnTo>
                    <a:lnTo>
                      <a:pt x="760" y="58"/>
                    </a:lnTo>
                    <a:lnTo>
                      <a:pt x="826" y="48"/>
                    </a:lnTo>
                    <a:lnTo>
                      <a:pt x="894" y="39"/>
                    </a:lnTo>
                    <a:lnTo>
                      <a:pt x="964" y="31"/>
                    </a:lnTo>
                    <a:lnTo>
                      <a:pt x="1036" y="24"/>
                    </a:lnTo>
                    <a:lnTo>
                      <a:pt x="1109" y="18"/>
                    </a:lnTo>
                    <a:lnTo>
                      <a:pt x="1184" y="12"/>
                    </a:lnTo>
                    <a:lnTo>
                      <a:pt x="1260" y="8"/>
                    </a:lnTo>
                    <a:lnTo>
                      <a:pt x="1338" y="4"/>
                    </a:lnTo>
                    <a:lnTo>
                      <a:pt x="1417" y="2"/>
                    </a:lnTo>
                    <a:lnTo>
                      <a:pt x="1498" y="0"/>
                    </a:lnTo>
                    <a:lnTo>
                      <a:pt x="1578" y="0"/>
                    </a:lnTo>
                    <a:lnTo>
                      <a:pt x="1659" y="0"/>
                    </a:lnTo>
                    <a:lnTo>
                      <a:pt x="1740" y="2"/>
                    </a:lnTo>
                    <a:lnTo>
                      <a:pt x="1819" y="4"/>
                    </a:lnTo>
                    <a:lnTo>
                      <a:pt x="1897" y="8"/>
                    </a:lnTo>
                    <a:lnTo>
                      <a:pt x="1973" y="12"/>
                    </a:lnTo>
                    <a:lnTo>
                      <a:pt x="2048" y="18"/>
                    </a:lnTo>
                    <a:lnTo>
                      <a:pt x="2121" y="24"/>
                    </a:lnTo>
                    <a:lnTo>
                      <a:pt x="2193" y="31"/>
                    </a:lnTo>
                    <a:lnTo>
                      <a:pt x="2263" y="39"/>
                    </a:lnTo>
                    <a:lnTo>
                      <a:pt x="2331" y="48"/>
                    </a:lnTo>
                    <a:lnTo>
                      <a:pt x="2397" y="58"/>
                    </a:lnTo>
                    <a:lnTo>
                      <a:pt x="2461" y="69"/>
                    </a:lnTo>
                    <a:lnTo>
                      <a:pt x="2523" y="80"/>
                    </a:lnTo>
                    <a:lnTo>
                      <a:pt x="2582" y="93"/>
                    </a:lnTo>
                    <a:lnTo>
                      <a:pt x="2640" y="106"/>
                    </a:lnTo>
                    <a:lnTo>
                      <a:pt x="2694" y="119"/>
                    </a:lnTo>
                    <a:lnTo>
                      <a:pt x="2747" y="134"/>
                    </a:lnTo>
                    <a:lnTo>
                      <a:pt x="2796" y="149"/>
                    </a:lnTo>
                    <a:lnTo>
                      <a:pt x="2843" y="164"/>
                    </a:lnTo>
                    <a:lnTo>
                      <a:pt x="2887" y="181"/>
                    </a:lnTo>
                    <a:lnTo>
                      <a:pt x="2929" y="199"/>
                    </a:lnTo>
                    <a:lnTo>
                      <a:pt x="2966" y="216"/>
                    </a:lnTo>
                    <a:lnTo>
                      <a:pt x="3001" y="234"/>
                    </a:lnTo>
                    <a:lnTo>
                      <a:pt x="3033" y="253"/>
                    </a:lnTo>
                    <a:lnTo>
                      <a:pt x="3061" y="272"/>
                    </a:lnTo>
                    <a:lnTo>
                      <a:pt x="3086" y="292"/>
                    </a:lnTo>
                    <a:lnTo>
                      <a:pt x="3108" y="313"/>
                    </a:lnTo>
                    <a:lnTo>
                      <a:pt x="3125" y="334"/>
                    </a:lnTo>
                    <a:lnTo>
                      <a:pt x="3139" y="355"/>
                    </a:lnTo>
                    <a:lnTo>
                      <a:pt x="3149" y="376"/>
                    </a:lnTo>
                    <a:lnTo>
                      <a:pt x="3155" y="398"/>
                    </a:lnTo>
                    <a:lnTo>
                      <a:pt x="3157" y="4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974600" y="6507720"/>
                <a:ext cx="346680" cy="102240"/>
              </a:xfrm>
              <a:custGeom>
                <a:avLst/>
                <a:gdLst/>
                <a:ahLst/>
                <a:rect l="l" t="t" r="r" b="b"/>
                <a:pathLst>
                  <a:path w="3153" h="859">
                    <a:moveTo>
                      <a:pt x="3153" y="421"/>
                    </a:moveTo>
                    <a:lnTo>
                      <a:pt x="3151" y="443"/>
                    </a:lnTo>
                    <a:lnTo>
                      <a:pt x="3145" y="465"/>
                    </a:lnTo>
                    <a:lnTo>
                      <a:pt x="3135" y="487"/>
                    </a:lnTo>
                    <a:lnTo>
                      <a:pt x="3122" y="508"/>
                    </a:lnTo>
                    <a:lnTo>
                      <a:pt x="3103" y="530"/>
                    </a:lnTo>
                    <a:lnTo>
                      <a:pt x="3082" y="551"/>
                    </a:lnTo>
                    <a:lnTo>
                      <a:pt x="3058" y="571"/>
                    </a:lnTo>
                    <a:lnTo>
                      <a:pt x="3030" y="591"/>
                    </a:lnTo>
                    <a:lnTo>
                      <a:pt x="2997" y="610"/>
                    </a:lnTo>
                    <a:lnTo>
                      <a:pt x="2963" y="630"/>
                    </a:lnTo>
                    <a:lnTo>
                      <a:pt x="2925" y="648"/>
                    </a:lnTo>
                    <a:lnTo>
                      <a:pt x="2884" y="666"/>
                    </a:lnTo>
                    <a:lnTo>
                      <a:pt x="2840" y="683"/>
                    </a:lnTo>
                    <a:lnTo>
                      <a:pt x="2793" y="699"/>
                    </a:lnTo>
                    <a:lnTo>
                      <a:pt x="2744" y="715"/>
                    </a:lnTo>
                    <a:lnTo>
                      <a:pt x="2691" y="731"/>
                    </a:lnTo>
                    <a:lnTo>
                      <a:pt x="2637" y="746"/>
                    </a:lnTo>
                    <a:lnTo>
                      <a:pt x="2579" y="759"/>
                    </a:lnTo>
                    <a:lnTo>
                      <a:pt x="2520" y="772"/>
                    </a:lnTo>
                    <a:lnTo>
                      <a:pt x="2458" y="784"/>
                    </a:lnTo>
                    <a:lnTo>
                      <a:pt x="2395" y="796"/>
                    </a:lnTo>
                    <a:lnTo>
                      <a:pt x="2328" y="806"/>
                    </a:lnTo>
                    <a:lnTo>
                      <a:pt x="2260" y="816"/>
                    </a:lnTo>
                    <a:lnTo>
                      <a:pt x="2191" y="824"/>
                    </a:lnTo>
                    <a:lnTo>
                      <a:pt x="2119" y="833"/>
                    </a:lnTo>
                    <a:lnTo>
                      <a:pt x="2045" y="840"/>
                    </a:lnTo>
                    <a:lnTo>
                      <a:pt x="1970" y="846"/>
                    </a:lnTo>
                    <a:lnTo>
                      <a:pt x="1895" y="851"/>
                    </a:lnTo>
                    <a:lnTo>
                      <a:pt x="1817" y="854"/>
                    </a:lnTo>
                    <a:lnTo>
                      <a:pt x="1738" y="857"/>
                    </a:lnTo>
                    <a:lnTo>
                      <a:pt x="1657" y="859"/>
                    </a:lnTo>
                    <a:lnTo>
                      <a:pt x="1576" y="859"/>
                    </a:lnTo>
                    <a:lnTo>
                      <a:pt x="1496" y="859"/>
                    </a:lnTo>
                    <a:lnTo>
                      <a:pt x="1415" y="857"/>
                    </a:lnTo>
                    <a:lnTo>
                      <a:pt x="1336" y="854"/>
                    </a:lnTo>
                    <a:lnTo>
                      <a:pt x="1258" y="851"/>
                    </a:lnTo>
                    <a:lnTo>
                      <a:pt x="1183" y="846"/>
                    </a:lnTo>
                    <a:lnTo>
                      <a:pt x="1108" y="840"/>
                    </a:lnTo>
                    <a:lnTo>
                      <a:pt x="1034" y="833"/>
                    </a:lnTo>
                    <a:lnTo>
                      <a:pt x="962" y="824"/>
                    </a:lnTo>
                    <a:lnTo>
                      <a:pt x="893" y="816"/>
                    </a:lnTo>
                    <a:lnTo>
                      <a:pt x="825" y="806"/>
                    </a:lnTo>
                    <a:lnTo>
                      <a:pt x="758" y="796"/>
                    </a:lnTo>
                    <a:lnTo>
                      <a:pt x="695" y="784"/>
                    </a:lnTo>
                    <a:lnTo>
                      <a:pt x="633" y="772"/>
                    </a:lnTo>
                    <a:lnTo>
                      <a:pt x="574" y="759"/>
                    </a:lnTo>
                    <a:lnTo>
                      <a:pt x="516" y="746"/>
                    </a:lnTo>
                    <a:lnTo>
                      <a:pt x="461" y="731"/>
                    </a:lnTo>
                    <a:lnTo>
                      <a:pt x="409" y="715"/>
                    </a:lnTo>
                    <a:lnTo>
                      <a:pt x="359" y="699"/>
                    </a:lnTo>
                    <a:lnTo>
                      <a:pt x="313" y="683"/>
                    </a:lnTo>
                    <a:lnTo>
                      <a:pt x="269" y="666"/>
                    </a:lnTo>
                    <a:lnTo>
                      <a:pt x="228" y="648"/>
                    </a:lnTo>
                    <a:lnTo>
                      <a:pt x="190" y="630"/>
                    </a:lnTo>
                    <a:lnTo>
                      <a:pt x="155" y="610"/>
                    </a:lnTo>
                    <a:lnTo>
                      <a:pt x="123" y="591"/>
                    </a:lnTo>
                    <a:lnTo>
                      <a:pt x="95" y="571"/>
                    </a:lnTo>
                    <a:lnTo>
                      <a:pt x="71" y="551"/>
                    </a:lnTo>
                    <a:lnTo>
                      <a:pt x="49" y="530"/>
                    </a:lnTo>
                    <a:lnTo>
                      <a:pt x="31" y="508"/>
                    </a:lnTo>
                    <a:lnTo>
                      <a:pt x="18" y="487"/>
                    </a:lnTo>
                    <a:lnTo>
                      <a:pt x="8" y="465"/>
                    </a:lnTo>
                    <a:lnTo>
                      <a:pt x="2" y="443"/>
                    </a:lnTo>
                    <a:lnTo>
                      <a:pt x="0" y="421"/>
                    </a:lnTo>
                    <a:lnTo>
                      <a:pt x="2" y="398"/>
                    </a:lnTo>
                    <a:lnTo>
                      <a:pt x="8" y="376"/>
                    </a:lnTo>
                    <a:lnTo>
                      <a:pt x="18" y="354"/>
                    </a:lnTo>
                    <a:lnTo>
                      <a:pt x="31" y="333"/>
                    </a:lnTo>
                    <a:lnTo>
                      <a:pt x="49" y="312"/>
                    </a:lnTo>
                    <a:lnTo>
                      <a:pt x="71" y="291"/>
                    </a:lnTo>
                    <a:lnTo>
                      <a:pt x="95" y="272"/>
                    </a:lnTo>
                    <a:lnTo>
                      <a:pt x="123" y="252"/>
                    </a:lnTo>
                    <a:lnTo>
                      <a:pt x="155" y="234"/>
                    </a:lnTo>
                    <a:lnTo>
                      <a:pt x="190" y="216"/>
                    </a:lnTo>
                    <a:lnTo>
                      <a:pt x="228" y="198"/>
                    </a:lnTo>
                    <a:lnTo>
                      <a:pt x="269" y="180"/>
                    </a:lnTo>
                    <a:lnTo>
                      <a:pt x="313" y="164"/>
                    </a:lnTo>
                    <a:lnTo>
                      <a:pt x="359" y="148"/>
                    </a:lnTo>
                    <a:lnTo>
                      <a:pt x="409" y="133"/>
                    </a:lnTo>
                    <a:lnTo>
                      <a:pt x="461" y="119"/>
                    </a:lnTo>
                    <a:lnTo>
                      <a:pt x="516" y="106"/>
                    </a:lnTo>
                    <a:lnTo>
                      <a:pt x="574" y="93"/>
                    </a:lnTo>
                    <a:lnTo>
                      <a:pt x="633" y="80"/>
                    </a:lnTo>
                    <a:lnTo>
                      <a:pt x="695" y="68"/>
                    </a:lnTo>
                    <a:lnTo>
                      <a:pt x="758" y="58"/>
                    </a:lnTo>
                    <a:lnTo>
                      <a:pt x="825" y="48"/>
                    </a:lnTo>
                    <a:lnTo>
                      <a:pt x="893" y="39"/>
                    </a:lnTo>
                    <a:lnTo>
                      <a:pt x="962" y="31"/>
                    </a:lnTo>
                    <a:lnTo>
                      <a:pt x="1034" y="24"/>
                    </a:lnTo>
                    <a:lnTo>
                      <a:pt x="1108" y="18"/>
                    </a:lnTo>
                    <a:lnTo>
                      <a:pt x="1183" y="12"/>
                    </a:lnTo>
                    <a:lnTo>
                      <a:pt x="1258" y="8"/>
                    </a:lnTo>
                    <a:lnTo>
                      <a:pt x="1336" y="4"/>
                    </a:lnTo>
                    <a:lnTo>
                      <a:pt x="1415" y="2"/>
                    </a:lnTo>
                    <a:lnTo>
                      <a:pt x="1496" y="0"/>
                    </a:lnTo>
                    <a:lnTo>
                      <a:pt x="1576" y="0"/>
                    </a:lnTo>
                    <a:lnTo>
                      <a:pt x="1657" y="0"/>
                    </a:lnTo>
                    <a:lnTo>
                      <a:pt x="1738" y="2"/>
                    </a:lnTo>
                    <a:lnTo>
                      <a:pt x="1817" y="4"/>
                    </a:lnTo>
                    <a:lnTo>
                      <a:pt x="1895" y="8"/>
                    </a:lnTo>
                    <a:lnTo>
                      <a:pt x="1970" y="12"/>
                    </a:lnTo>
                    <a:lnTo>
                      <a:pt x="2045" y="18"/>
                    </a:lnTo>
                    <a:lnTo>
                      <a:pt x="2119" y="24"/>
                    </a:lnTo>
                    <a:lnTo>
                      <a:pt x="2191" y="31"/>
                    </a:lnTo>
                    <a:lnTo>
                      <a:pt x="2260" y="39"/>
                    </a:lnTo>
                    <a:lnTo>
                      <a:pt x="2328" y="48"/>
                    </a:lnTo>
                    <a:lnTo>
                      <a:pt x="2395" y="58"/>
                    </a:lnTo>
                    <a:lnTo>
                      <a:pt x="2458" y="68"/>
                    </a:lnTo>
                    <a:lnTo>
                      <a:pt x="2520" y="80"/>
                    </a:lnTo>
                    <a:lnTo>
                      <a:pt x="2579" y="93"/>
                    </a:lnTo>
                    <a:lnTo>
                      <a:pt x="2637" y="106"/>
                    </a:lnTo>
                    <a:lnTo>
                      <a:pt x="2691" y="119"/>
                    </a:lnTo>
                    <a:lnTo>
                      <a:pt x="2744" y="133"/>
                    </a:lnTo>
                    <a:lnTo>
                      <a:pt x="2793" y="148"/>
                    </a:lnTo>
                    <a:lnTo>
                      <a:pt x="2840" y="164"/>
                    </a:lnTo>
                    <a:lnTo>
                      <a:pt x="2884" y="180"/>
                    </a:lnTo>
                    <a:lnTo>
                      <a:pt x="2925" y="198"/>
                    </a:lnTo>
                    <a:lnTo>
                      <a:pt x="2963" y="216"/>
                    </a:lnTo>
                    <a:lnTo>
                      <a:pt x="2997" y="234"/>
                    </a:lnTo>
                    <a:lnTo>
                      <a:pt x="3030" y="252"/>
                    </a:lnTo>
                    <a:lnTo>
                      <a:pt x="3058" y="272"/>
                    </a:lnTo>
                    <a:lnTo>
                      <a:pt x="3082" y="291"/>
                    </a:lnTo>
                    <a:lnTo>
                      <a:pt x="3103" y="312"/>
                    </a:lnTo>
                    <a:lnTo>
                      <a:pt x="3122" y="333"/>
                    </a:lnTo>
                    <a:lnTo>
                      <a:pt x="3135" y="354"/>
                    </a:lnTo>
                    <a:lnTo>
                      <a:pt x="3145" y="376"/>
                    </a:lnTo>
                    <a:lnTo>
                      <a:pt x="3151" y="398"/>
                    </a:lnTo>
                    <a:lnTo>
                      <a:pt x="3153" y="4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4600" y="6507720"/>
                <a:ext cx="346680" cy="102240"/>
              </a:xfrm>
              <a:custGeom>
                <a:avLst/>
                <a:gdLst/>
                <a:ahLst/>
                <a:rect l="l" t="t" r="r" b="b"/>
                <a:pathLst>
                  <a:path w="3151" h="858">
                    <a:moveTo>
                      <a:pt x="3151" y="420"/>
                    </a:moveTo>
                    <a:lnTo>
                      <a:pt x="3149" y="442"/>
                    </a:lnTo>
                    <a:lnTo>
                      <a:pt x="3143" y="464"/>
                    </a:lnTo>
                    <a:lnTo>
                      <a:pt x="3133" y="486"/>
                    </a:lnTo>
                    <a:lnTo>
                      <a:pt x="3119" y="507"/>
                    </a:lnTo>
                    <a:lnTo>
                      <a:pt x="3101" y="529"/>
                    </a:lnTo>
                    <a:lnTo>
                      <a:pt x="3080" y="550"/>
                    </a:lnTo>
                    <a:lnTo>
                      <a:pt x="3055" y="570"/>
                    </a:lnTo>
                    <a:lnTo>
                      <a:pt x="3027" y="590"/>
                    </a:lnTo>
                    <a:lnTo>
                      <a:pt x="2995" y="609"/>
                    </a:lnTo>
                    <a:lnTo>
                      <a:pt x="2961" y="629"/>
                    </a:lnTo>
                    <a:lnTo>
                      <a:pt x="2923" y="647"/>
                    </a:lnTo>
                    <a:lnTo>
                      <a:pt x="2882" y="664"/>
                    </a:lnTo>
                    <a:lnTo>
                      <a:pt x="2838" y="681"/>
                    </a:lnTo>
                    <a:lnTo>
                      <a:pt x="2791" y="698"/>
                    </a:lnTo>
                    <a:lnTo>
                      <a:pt x="2742" y="713"/>
                    </a:lnTo>
                    <a:lnTo>
                      <a:pt x="2689" y="729"/>
                    </a:lnTo>
                    <a:lnTo>
                      <a:pt x="2635" y="744"/>
                    </a:lnTo>
                    <a:lnTo>
                      <a:pt x="2577" y="758"/>
                    </a:lnTo>
                    <a:lnTo>
                      <a:pt x="2518" y="770"/>
                    </a:lnTo>
                    <a:lnTo>
                      <a:pt x="2456" y="782"/>
                    </a:lnTo>
                    <a:lnTo>
                      <a:pt x="2392" y="794"/>
                    </a:lnTo>
                    <a:lnTo>
                      <a:pt x="2327" y="804"/>
                    </a:lnTo>
                    <a:lnTo>
                      <a:pt x="2258" y="814"/>
                    </a:lnTo>
                    <a:lnTo>
                      <a:pt x="2188" y="822"/>
                    </a:lnTo>
                    <a:lnTo>
                      <a:pt x="2117" y="830"/>
                    </a:lnTo>
                    <a:lnTo>
                      <a:pt x="2044" y="838"/>
                    </a:lnTo>
                    <a:lnTo>
                      <a:pt x="1969" y="844"/>
                    </a:lnTo>
                    <a:lnTo>
                      <a:pt x="1893" y="849"/>
                    </a:lnTo>
                    <a:lnTo>
                      <a:pt x="1816" y="853"/>
                    </a:lnTo>
                    <a:lnTo>
                      <a:pt x="1737" y="855"/>
                    </a:lnTo>
                    <a:lnTo>
                      <a:pt x="1656" y="857"/>
                    </a:lnTo>
                    <a:lnTo>
                      <a:pt x="1575" y="858"/>
                    </a:lnTo>
                    <a:lnTo>
                      <a:pt x="1495" y="857"/>
                    </a:lnTo>
                    <a:lnTo>
                      <a:pt x="1415" y="855"/>
                    </a:lnTo>
                    <a:lnTo>
                      <a:pt x="1335" y="853"/>
                    </a:lnTo>
                    <a:lnTo>
                      <a:pt x="1258" y="849"/>
                    </a:lnTo>
                    <a:lnTo>
                      <a:pt x="1182" y="844"/>
                    </a:lnTo>
                    <a:lnTo>
                      <a:pt x="1107" y="838"/>
                    </a:lnTo>
                    <a:lnTo>
                      <a:pt x="1034" y="830"/>
                    </a:lnTo>
                    <a:lnTo>
                      <a:pt x="962" y="822"/>
                    </a:lnTo>
                    <a:lnTo>
                      <a:pt x="893" y="814"/>
                    </a:lnTo>
                    <a:lnTo>
                      <a:pt x="825" y="804"/>
                    </a:lnTo>
                    <a:lnTo>
                      <a:pt x="758" y="794"/>
                    </a:lnTo>
                    <a:lnTo>
                      <a:pt x="695" y="782"/>
                    </a:lnTo>
                    <a:lnTo>
                      <a:pt x="633" y="770"/>
                    </a:lnTo>
                    <a:lnTo>
                      <a:pt x="574" y="758"/>
                    </a:lnTo>
                    <a:lnTo>
                      <a:pt x="516" y="744"/>
                    </a:lnTo>
                    <a:lnTo>
                      <a:pt x="461" y="729"/>
                    </a:lnTo>
                    <a:lnTo>
                      <a:pt x="409" y="713"/>
                    </a:lnTo>
                    <a:lnTo>
                      <a:pt x="359" y="698"/>
                    </a:lnTo>
                    <a:lnTo>
                      <a:pt x="313" y="681"/>
                    </a:lnTo>
                    <a:lnTo>
                      <a:pt x="270" y="664"/>
                    </a:lnTo>
                    <a:lnTo>
                      <a:pt x="228" y="647"/>
                    </a:lnTo>
                    <a:lnTo>
                      <a:pt x="190" y="629"/>
                    </a:lnTo>
                    <a:lnTo>
                      <a:pt x="155" y="609"/>
                    </a:lnTo>
                    <a:lnTo>
                      <a:pt x="124" y="590"/>
                    </a:lnTo>
                    <a:lnTo>
                      <a:pt x="96" y="570"/>
                    </a:lnTo>
                    <a:lnTo>
                      <a:pt x="71" y="550"/>
                    </a:lnTo>
                    <a:lnTo>
                      <a:pt x="49" y="529"/>
                    </a:lnTo>
                    <a:lnTo>
                      <a:pt x="32" y="507"/>
                    </a:lnTo>
                    <a:lnTo>
                      <a:pt x="18" y="486"/>
                    </a:lnTo>
                    <a:lnTo>
                      <a:pt x="8" y="464"/>
                    </a:lnTo>
                    <a:lnTo>
                      <a:pt x="2" y="442"/>
                    </a:lnTo>
                    <a:lnTo>
                      <a:pt x="0" y="420"/>
                    </a:lnTo>
                    <a:lnTo>
                      <a:pt x="2" y="397"/>
                    </a:lnTo>
                    <a:lnTo>
                      <a:pt x="8" y="375"/>
                    </a:lnTo>
                    <a:lnTo>
                      <a:pt x="18" y="353"/>
                    </a:lnTo>
                    <a:lnTo>
                      <a:pt x="32" y="332"/>
                    </a:lnTo>
                    <a:lnTo>
                      <a:pt x="49" y="312"/>
                    </a:lnTo>
                    <a:lnTo>
                      <a:pt x="71" y="290"/>
                    </a:lnTo>
                    <a:lnTo>
                      <a:pt x="96" y="271"/>
                    </a:lnTo>
                    <a:lnTo>
                      <a:pt x="124" y="252"/>
                    </a:lnTo>
                    <a:lnTo>
                      <a:pt x="155" y="233"/>
                    </a:lnTo>
                    <a:lnTo>
                      <a:pt x="190" y="215"/>
                    </a:lnTo>
                    <a:lnTo>
                      <a:pt x="228" y="198"/>
                    </a:lnTo>
                    <a:lnTo>
                      <a:pt x="270" y="180"/>
                    </a:lnTo>
                    <a:lnTo>
                      <a:pt x="313" y="164"/>
                    </a:lnTo>
                    <a:lnTo>
                      <a:pt x="359" y="148"/>
                    </a:lnTo>
                    <a:lnTo>
                      <a:pt x="409" y="133"/>
                    </a:lnTo>
                    <a:lnTo>
                      <a:pt x="461" y="119"/>
                    </a:lnTo>
                    <a:lnTo>
                      <a:pt x="516" y="105"/>
                    </a:lnTo>
                    <a:lnTo>
                      <a:pt x="574" y="92"/>
                    </a:lnTo>
                    <a:lnTo>
                      <a:pt x="633" y="79"/>
                    </a:lnTo>
                    <a:lnTo>
                      <a:pt x="695" y="68"/>
                    </a:lnTo>
                    <a:lnTo>
                      <a:pt x="758" y="58"/>
                    </a:lnTo>
                    <a:lnTo>
                      <a:pt x="825" y="48"/>
                    </a:lnTo>
                    <a:lnTo>
                      <a:pt x="893" y="39"/>
                    </a:lnTo>
                    <a:lnTo>
                      <a:pt x="962" y="31"/>
                    </a:lnTo>
                    <a:lnTo>
                      <a:pt x="1034" y="24"/>
                    </a:lnTo>
                    <a:lnTo>
                      <a:pt x="1107" y="17"/>
                    </a:lnTo>
                    <a:lnTo>
                      <a:pt x="1182" y="12"/>
                    </a:lnTo>
                    <a:lnTo>
                      <a:pt x="1258" y="8"/>
                    </a:lnTo>
                    <a:lnTo>
                      <a:pt x="1335" y="4"/>
                    </a:lnTo>
                    <a:lnTo>
                      <a:pt x="1415" y="2"/>
                    </a:lnTo>
                    <a:lnTo>
                      <a:pt x="1495" y="0"/>
                    </a:lnTo>
                    <a:lnTo>
                      <a:pt x="1575" y="0"/>
                    </a:lnTo>
                    <a:lnTo>
                      <a:pt x="1656" y="0"/>
                    </a:lnTo>
                    <a:lnTo>
                      <a:pt x="1737" y="2"/>
                    </a:lnTo>
                    <a:lnTo>
                      <a:pt x="1816" y="4"/>
                    </a:lnTo>
                    <a:lnTo>
                      <a:pt x="1893" y="8"/>
                    </a:lnTo>
                    <a:lnTo>
                      <a:pt x="1969" y="12"/>
                    </a:lnTo>
                    <a:lnTo>
                      <a:pt x="2044" y="17"/>
                    </a:lnTo>
                    <a:lnTo>
                      <a:pt x="2117" y="24"/>
                    </a:lnTo>
                    <a:lnTo>
                      <a:pt x="2188" y="31"/>
                    </a:lnTo>
                    <a:lnTo>
                      <a:pt x="2258" y="39"/>
                    </a:lnTo>
                    <a:lnTo>
                      <a:pt x="2327" y="48"/>
                    </a:lnTo>
                    <a:lnTo>
                      <a:pt x="2392" y="58"/>
                    </a:lnTo>
                    <a:lnTo>
                      <a:pt x="2456" y="68"/>
                    </a:lnTo>
                    <a:lnTo>
                      <a:pt x="2518" y="79"/>
                    </a:lnTo>
                    <a:lnTo>
                      <a:pt x="2577" y="92"/>
                    </a:lnTo>
                    <a:lnTo>
                      <a:pt x="2635" y="105"/>
                    </a:lnTo>
                    <a:lnTo>
                      <a:pt x="2689" y="119"/>
                    </a:lnTo>
                    <a:lnTo>
                      <a:pt x="2742" y="133"/>
                    </a:lnTo>
                    <a:lnTo>
                      <a:pt x="2791" y="148"/>
                    </a:lnTo>
                    <a:lnTo>
                      <a:pt x="2838" y="164"/>
                    </a:lnTo>
                    <a:lnTo>
                      <a:pt x="2882" y="180"/>
                    </a:lnTo>
                    <a:lnTo>
                      <a:pt x="2923" y="198"/>
                    </a:lnTo>
                    <a:lnTo>
                      <a:pt x="2961" y="215"/>
                    </a:lnTo>
                    <a:lnTo>
                      <a:pt x="2995" y="233"/>
                    </a:lnTo>
                    <a:lnTo>
                      <a:pt x="3027" y="252"/>
                    </a:lnTo>
                    <a:lnTo>
                      <a:pt x="3055" y="271"/>
                    </a:lnTo>
                    <a:lnTo>
                      <a:pt x="3080" y="290"/>
                    </a:lnTo>
                    <a:lnTo>
                      <a:pt x="3101" y="312"/>
                    </a:lnTo>
                    <a:lnTo>
                      <a:pt x="3119" y="332"/>
                    </a:lnTo>
                    <a:lnTo>
                      <a:pt x="3133" y="353"/>
                    </a:lnTo>
                    <a:lnTo>
                      <a:pt x="3143" y="375"/>
                    </a:lnTo>
                    <a:lnTo>
                      <a:pt x="3149" y="397"/>
                    </a:lnTo>
                    <a:lnTo>
                      <a:pt x="3151" y="4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4600" y="6507720"/>
                <a:ext cx="346680" cy="102240"/>
              </a:xfrm>
              <a:custGeom>
                <a:avLst/>
                <a:gdLst/>
                <a:ahLst/>
                <a:rect l="l" t="t" r="r" b="b"/>
                <a:pathLst>
                  <a:path w="3148" h="857">
                    <a:moveTo>
                      <a:pt x="3148" y="420"/>
                    </a:moveTo>
                    <a:lnTo>
                      <a:pt x="3146" y="442"/>
                    </a:lnTo>
                    <a:lnTo>
                      <a:pt x="3140" y="464"/>
                    </a:lnTo>
                    <a:lnTo>
                      <a:pt x="3130" y="486"/>
                    </a:lnTo>
                    <a:lnTo>
                      <a:pt x="3116" y="507"/>
                    </a:lnTo>
                    <a:lnTo>
                      <a:pt x="3098" y="529"/>
                    </a:lnTo>
                    <a:lnTo>
                      <a:pt x="3077" y="550"/>
                    </a:lnTo>
                    <a:lnTo>
                      <a:pt x="3052" y="570"/>
                    </a:lnTo>
                    <a:lnTo>
                      <a:pt x="3024" y="589"/>
                    </a:lnTo>
                    <a:lnTo>
                      <a:pt x="2992" y="608"/>
                    </a:lnTo>
                    <a:lnTo>
                      <a:pt x="2957" y="628"/>
                    </a:lnTo>
                    <a:lnTo>
                      <a:pt x="2920" y="646"/>
                    </a:lnTo>
                    <a:lnTo>
                      <a:pt x="2878" y="664"/>
                    </a:lnTo>
                    <a:lnTo>
                      <a:pt x="2835" y="681"/>
                    </a:lnTo>
                    <a:lnTo>
                      <a:pt x="2788" y="697"/>
                    </a:lnTo>
                    <a:lnTo>
                      <a:pt x="2739" y="713"/>
                    </a:lnTo>
                    <a:lnTo>
                      <a:pt x="2686" y="729"/>
                    </a:lnTo>
                    <a:lnTo>
                      <a:pt x="2632" y="743"/>
                    </a:lnTo>
                    <a:lnTo>
                      <a:pt x="2574" y="757"/>
                    </a:lnTo>
                    <a:lnTo>
                      <a:pt x="2516" y="770"/>
                    </a:lnTo>
                    <a:lnTo>
                      <a:pt x="2453" y="782"/>
                    </a:lnTo>
                    <a:lnTo>
                      <a:pt x="2389" y="793"/>
                    </a:lnTo>
                    <a:lnTo>
                      <a:pt x="2324" y="803"/>
                    </a:lnTo>
                    <a:lnTo>
                      <a:pt x="2256" y="813"/>
                    </a:lnTo>
                    <a:lnTo>
                      <a:pt x="2186" y="822"/>
                    </a:lnTo>
                    <a:lnTo>
                      <a:pt x="2115" y="829"/>
                    </a:lnTo>
                    <a:lnTo>
                      <a:pt x="2042" y="837"/>
                    </a:lnTo>
                    <a:lnTo>
                      <a:pt x="1967" y="843"/>
                    </a:lnTo>
                    <a:lnTo>
                      <a:pt x="1891" y="848"/>
                    </a:lnTo>
                    <a:lnTo>
                      <a:pt x="1813" y="852"/>
                    </a:lnTo>
                    <a:lnTo>
                      <a:pt x="1734" y="854"/>
                    </a:lnTo>
                    <a:lnTo>
                      <a:pt x="1654" y="856"/>
                    </a:lnTo>
                    <a:lnTo>
                      <a:pt x="1573" y="857"/>
                    </a:lnTo>
                    <a:lnTo>
                      <a:pt x="1493" y="856"/>
                    </a:lnTo>
                    <a:lnTo>
                      <a:pt x="1413" y="854"/>
                    </a:lnTo>
                    <a:lnTo>
                      <a:pt x="1334" y="852"/>
                    </a:lnTo>
                    <a:lnTo>
                      <a:pt x="1256" y="848"/>
                    </a:lnTo>
                    <a:lnTo>
                      <a:pt x="1181" y="843"/>
                    </a:lnTo>
                    <a:lnTo>
                      <a:pt x="1106" y="837"/>
                    </a:lnTo>
                    <a:lnTo>
                      <a:pt x="1032" y="829"/>
                    </a:lnTo>
                    <a:lnTo>
                      <a:pt x="960" y="822"/>
                    </a:lnTo>
                    <a:lnTo>
                      <a:pt x="891" y="813"/>
                    </a:lnTo>
                    <a:lnTo>
                      <a:pt x="823" y="803"/>
                    </a:lnTo>
                    <a:lnTo>
                      <a:pt x="757" y="793"/>
                    </a:lnTo>
                    <a:lnTo>
                      <a:pt x="694" y="782"/>
                    </a:lnTo>
                    <a:lnTo>
                      <a:pt x="632" y="770"/>
                    </a:lnTo>
                    <a:lnTo>
                      <a:pt x="573" y="757"/>
                    </a:lnTo>
                    <a:lnTo>
                      <a:pt x="515" y="743"/>
                    </a:lnTo>
                    <a:lnTo>
                      <a:pt x="461" y="729"/>
                    </a:lnTo>
                    <a:lnTo>
                      <a:pt x="408" y="713"/>
                    </a:lnTo>
                    <a:lnTo>
                      <a:pt x="359" y="697"/>
                    </a:lnTo>
                    <a:lnTo>
                      <a:pt x="312" y="681"/>
                    </a:lnTo>
                    <a:lnTo>
                      <a:pt x="269" y="664"/>
                    </a:lnTo>
                    <a:lnTo>
                      <a:pt x="227" y="646"/>
                    </a:lnTo>
                    <a:lnTo>
                      <a:pt x="190" y="628"/>
                    </a:lnTo>
                    <a:lnTo>
                      <a:pt x="154" y="608"/>
                    </a:lnTo>
                    <a:lnTo>
                      <a:pt x="123" y="589"/>
                    </a:lnTo>
                    <a:lnTo>
                      <a:pt x="95" y="570"/>
                    </a:lnTo>
                    <a:lnTo>
                      <a:pt x="71" y="550"/>
                    </a:lnTo>
                    <a:lnTo>
                      <a:pt x="49" y="529"/>
                    </a:lnTo>
                    <a:lnTo>
                      <a:pt x="31" y="507"/>
                    </a:lnTo>
                    <a:lnTo>
                      <a:pt x="18" y="486"/>
                    </a:lnTo>
                    <a:lnTo>
                      <a:pt x="8" y="464"/>
                    </a:lnTo>
                    <a:lnTo>
                      <a:pt x="2" y="442"/>
                    </a:lnTo>
                    <a:lnTo>
                      <a:pt x="0" y="420"/>
                    </a:lnTo>
                    <a:lnTo>
                      <a:pt x="2" y="397"/>
                    </a:lnTo>
                    <a:lnTo>
                      <a:pt x="8" y="375"/>
                    </a:lnTo>
                    <a:lnTo>
                      <a:pt x="18" y="353"/>
                    </a:lnTo>
                    <a:lnTo>
                      <a:pt x="31" y="332"/>
                    </a:lnTo>
                    <a:lnTo>
                      <a:pt x="49" y="312"/>
                    </a:lnTo>
                    <a:lnTo>
                      <a:pt x="71" y="291"/>
                    </a:lnTo>
                    <a:lnTo>
                      <a:pt x="95" y="271"/>
                    </a:lnTo>
                    <a:lnTo>
                      <a:pt x="123" y="252"/>
                    </a:lnTo>
                    <a:lnTo>
                      <a:pt x="154" y="234"/>
                    </a:lnTo>
                    <a:lnTo>
                      <a:pt x="190" y="216"/>
                    </a:lnTo>
                    <a:lnTo>
                      <a:pt x="227" y="198"/>
                    </a:lnTo>
                    <a:lnTo>
                      <a:pt x="269" y="180"/>
                    </a:lnTo>
                    <a:lnTo>
                      <a:pt x="312" y="164"/>
                    </a:lnTo>
                    <a:lnTo>
                      <a:pt x="359" y="149"/>
                    </a:lnTo>
                    <a:lnTo>
                      <a:pt x="408" y="134"/>
                    </a:lnTo>
                    <a:lnTo>
                      <a:pt x="461" y="120"/>
                    </a:lnTo>
                    <a:lnTo>
                      <a:pt x="515" y="106"/>
                    </a:lnTo>
                    <a:lnTo>
                      <a:pt x="573" y="93"/>
                    </a:lnTo>
                    <a:lnTo>
                      <a:pt x="632" y="80"/>
                    </a:lnTo>
                    <a:lnTo>
                      <a:pt x="694" y="69"/>
                    </a:lnTo>
                    <a:lnTo>
                      <a:pt x="757" y="58"/>
                    </a:lnTo>
                    <a:lnTo>
                      <a:pt x="823" y="49"/>
                    </a:lnTo>
                    <a:lnTo>
                      <a:pt x="891" y="40"/>
                    </a:lnTo>
                    <a:lnTo>
                      <a:pt x="960" y="32"/>
                    </a:lnTo>
                    <a:lnTo>
                      <a:pt x="1032" y="25"/>
                    </a:lnTo>
                    <a:lnTo>
                      <a:pt x="1106" y="18"/>
                    </a:lnTo>
                    <a:lnTo>
                      <a:pt x="1181" y="13"/>
                    </a:lnTo>
                    <a:lnTo>
                      <a:pt x="1256" y="9"/>
                    </a:lnTo>
                    <a:lnTo>
                      <a:pt x="1334" y="5"/>
                    </a:lnTo>
                    <a:lnTo>
                      <a:pt x="1413" y="3"/>
                    </a:lnTo>
                    <a:lnTo>
                      <a:pt x="1493" y="1"/>
                    </a:lnTo>
                    <a:lnTo>
                      <a:pt x="1573" y="0"/>
                    </a:lnTo>
                    <a:lnTo>
                      <a:pt x="1654" y="1"/>
                    </a:lnTo>
                    <a:lnTo>
                      <a:pt x="1734" y="3"/>
                    </a:lnTo>
                    <a:lnTo>
                      <a:pt x="1813" y="5"/>
                    </a:lnTo>
                    <a:lnTo>
                      <a:pt x="1891" y="9"/>
                    </a:lnTo>
                    <a:lnTo>
                      <a:pt x="1967" y="13"/>
                    </a:lnTo>
                    <a:lnTo>
                      <a:pt x="2042" y="18"/>
                    </a:lnTo>
                    <a:lnTo>
                      <a:pt x="2115" y="25"/>
                    </a:lnTo>
                    <a:lnTo>
                      <a:pt x="2186" y="32"/>
                    </a:lnTo>
                    <a:lnTo>
                      <a:pt x="2256" y="40"/>
                    </a:lnTo>
                    <a:lnTo>
                      <a:pt x="2324" y="49"/>
                    </a:lnTo>
                    <a:lnTo>
                      <a:pt x="2389" y="58"/>
                    </a:lnTo>
                    <a:lnTo>
                      <a:pt x="2453" y="69"/>
                    </a:lnTo>
                    <a:lnTo>
                      <a:pt x="2516" y="80"/>
                    </a:lnTo>
                    <a:lnTo>
                      <a:pt x="2574" y="93"/>
                    </a:lnTo>
                    <a:lnTo>
                      <a:pt x="2632" y="106"/>
                    </a:lnTo>
                    <a:lnTo>
                      <a:pt x="2686" y="120"/>
                    </a:lnTo>
                    <a:lnTo>
                      <a:pt x="2739" y="134"/>
                    </a:lnTo>
                    <a:lnTo>
                      <a:pt x="2788" y="149"/>
                    </a:lnTo>
                    <a:lnTo>
                      <a:pt x="2835" y="164"/>
                    </a:lnTo>
                    <a:lnTo>
                      <a:pt x="2878" y="180"/>
                    </a:lnTo>
                    <a:lnTo>
                      <a:pt x="2920" y="198"/>
                    </a:lnTo>
                    <a:lnTo>
                      <a:pt x="2957" y="216"/>
                    </a:lnTo>
                    <a:lnTo>
                      <a:pt x="2992" y="234"/>
                    </a:lnTo>
                    <a:lnTo>
                      <a:pt x="3024" y="252"/>
                    </a:lnTo>
                    <a:lnTo>
                      <a:pt x="3052" y="271"/>
                    </a:lnTo>
                    <a:lnTo>
                      <a:pt x="3077" y="291"/>
                    </a:lnTo>
                    <a:lnTo>
                      <a:pt x="3098" y="312"/>
                    </a:lnTo>
                    <a:lnTo>
                      <a:pt x="3116" y="332"/>
                    </a:lnTo>
                    <a:lnTo>
                      <a:pt x="3130" y="353"/>
                    </a:lnTo>
                    <a:lnTo>
                      <a:pt x="3140" y="375"/>
                    </a:lnTo>
                    <a:lnTo>
                      <a:pt x="3146" y="397"/>
                    </a:lnTo>
                    <a:lnTo>
                      <a:pt x="3148" y="4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4600" y="6507720"/>
                <a:ext cx="346680" cy="102240"/>
              </a:xfrm>
              <a:custGeom>
                <a:avLst/>
                <a:gdLst/>
                <a:ahLst/>
                <a:rect l="l" t="t" r="r" b="b"/>
                <a:pathLst>
                  <a:path w="3145" h="855">
                    <a:moveTo>
                      <a:pt x="3145" y="419"/>
                    </a:moveTo>
                    <a:lnTo>
                      <a:pt x="3143" y="441"/>
                    </a:lnTo>
                    <a:lnTo>
                      <a:pt x="3137" y="463"/>
                    </a:lnTo>
                    <a:lnTo>
                      <a:pt x="3127" y="485"/>
                    </a:lnTo>
                    <a:lnTo>
                      <a:pt x="3114" y="506"/>
                    </a:lnTo>
                    <a:lnTo>
                      <a:pt x="3095" y="528"/>
                    </a:lnTo>
                    <a:lnTo>
                      <a:pt x="3074" y="548"/>
                    </a:lnTo>
                    <a:lnTo>
                      <a:pt x="3050" y="568"/>
                    </a:lnTo>
                    <a:lnTo>
                      <a:pt x="3022" y="588"/>
                    </a:lnTo>
                    <a:lnTo>
                      <a:pt x="2990" y="607"/>
                    </a:lnTo>
                    <a:lnTo>
                      <a:pt x="2955" y="627"/>
                    </a:lnTo>
                    <a:lnTo>
                      <a:pt x="2918" y="645"/>
                    </a:lnTo>
                    <a:lnTo>
                      <a:pt x="2876" y="662"/>
                    </a:lnTo>
                    <a:lnTo>
                      <a:pt x="2833" y="679"/>
                    </a:lnTo>
                    <a:lnTo>
                      <a:pt x="2786" y="696"/>
                    </a:lnTo>
                    <a:lnTo>
                      <a:pt x="2737" y="711"/>
                    </a:lnTo>
                    <a:lnTo>
                      <a:pt x="2684" y="727"/>
                    </a:lnTo>
                    <a:lnTo>
                      <a:pt x="2630" y="742"/>
                    </a:lnTo>
                    <a:lnTo>
                      <a:pt x="2573" y="755"/>
                    </a:lnTo>
                    <a:lnTo>
                      <a:pt x="2514" y="768"/>
                    </a:lnTo>
                    <a:lnTo>
                      <a:pt x="2452" y="780"/>
                    </a:lnTo>
                    <a:lnTo>
                      <a:pt x="2387" y="791"/>
                    </a:lnTo>
                    <a:lnTo>
                      <a:pt x="2322" y="802"/>
                    </a:lnTo>
                    <a:lnTo>
                      <a:pt x="2254" y="811"/>
                    </a:lnTo>
                    <a:lnTo>
                      <a:pt x="2184" y="820"/>
                    </a:lnTo>
                    <a:lnTo>
                      <a:pt x="2113" y="828"/>
                    </a:lnTo>
                    <a:lnTo>
                      <a:pt x="2040" y="835"/>
                    </a:lnTo>
                    <a:lnTo>
                      <a:pt x="1965" y="841"/>
                    </a:lnTo>
                    <a:lnTo>
                      <a:pt x="1890" y="846"/>
                    </a:lnTo>
                    <a:lnTo>
                      <a:pt x="1812" y="850"/>
                    </a:lnTo>
                    <a:lnTo>
                      <a:pt x="1733" y="852"/>
                    </a:lnTo>
                    <a:lnTo>
                      <a:pt x="1653" y="854"/>
                    </a:lnTo>
                    <a:lnTo>
                      <a:pt x="1572" y="855"/>
                    </a:lnTo>
                    <a:lnTo>
                      <a:pt x="1492" y="854"/>
                    </a:lnTo>
                    <a:lnTo>
                      <a:pt x="1412" y="852"/>
                    </a:lnTo>
                    <a:lnTo>
                      <a:pt x="1333" y="850"/>
                    </a:lnTo>
                    <a:lnTo>
                      <a:pt x="1255" y="846"/>
                    </a:lnTo>
                    <a:lnTo>
                      <a:pt x="1180" y="841"/>
                    </a:lnTo>
                    <a:lnTo>
                      <a:pt x="1105" y="835"/>
                    </a:lnTo>
                    <a:lnTo>
                      <a:pt x="1032" y="828"/>
                    </a:lnTo>
                    <a:lnTo>
                      <a:pt x="960" y="820"/>
                    </a:lnTo>
                    <a:lnTo>
                      <a:pt x="891" y="811"/>
                    </a:lnTo>
                    <a:lnTo>
                      <a:pt x="823" y="802"/>
                    </a:lnTo>
                    <a:lnTo>
                      <a:pt x="757" y="791"/>
                    </a:lnTo>
                    <a:lnTo>
                      <a:pt x="693" y="780"/>
                    </a:lnTo>
                    <a:lnTo>
                      <a:pt x="631" y="768"/>
                    </a:lnTo>
                    <a:lnTo>
                      <a:pt x="573" y="755"/>
                    </a:lnTo>
                    <a:lnTo>
                      <a:pt x="515" y="742"/>
                    </a:lnTo>
                    <a:lnTo>
                      <a:pt x="461" y="727"/>
                    </a:lnTo>
                    <a:lnTo>
                      <a:pt x="408" y="711"/>
                    </a:lnTo>
                    <a:lnTo>
                      <a:pt x="360" y="696"/>
                    </a:lnTo>
                    <a:lnTo>
                      <a:pt x="312" y="679"/>
                    </a:lnTo>
                    <a:lnTo>
                      <a:pt x="269" y="662"/>
                    </a:lnTo>
                    <a:lnTo>
                      <a:pt x="227" y="645"/>
                    </a:lnTo>
                    <a:lnTo>
                      <a:pt x="190" y="627"/>
                    </a:lnTo>
                    <a:lnTo>
                      <a:pt x="156" y="607"/>
                    </a:lnTo>
                    <a:lnTo>
                      <a:pt x="123" y="588"/>
                    </a:lnTo>
                    <a:lnTo>
                      <a:pt x="95" y="568"/>
                    </a:lnTo>
                    <a:lnTo>
                      <a:pt x="71" y="548"/>
                    </a:lnTo>
                    <a:lnTo>
                      <a:pt x="49" y="528"/>
                    </a:lnTo>
                    <a:lnTo>
                      <a:pt x="32" y="506"/>
                    </a:lnTo>
                    <a:lnTo>
                      <a:pt x="18" y="485"/>
                    </a:lnTo>
                    <a:lnTo>
                      <a:pt x="8" y="463"/>
                    </a:lnTo>
                    <a:lnTo>
                      <a:pt x="2" y="441"/>
                    </a:lnTo>
                    <a:lnTo>
                      <a:pt x="0" y="419"/>
                    </a:lnTo>
                    <a:lnTo>
                      <a:pt x="2" y="396"/>
                    </a:lnTo>
                    <a:lnTo>
                      <a:pt x="8" y="374"/>
                    </a:lnTo>
                    <a:lnTo>
                      <a:pt x="18" y="352"/>
                    </a:lnTo>
                    <a:lnTo>
                      <a:pt x="32" y="332"/>
                    </a:lnTo>
                    <a:lnTo>
                      <a:pt x="49" y="311"/>
                    </a:lnTo>
                    <a:lnTo>
                      <a:pt x="71" y="290"/>
                    </a:lnTo>
                    <a:lnTo>
                      <a:pt x="95" y="270"/>
                    </a:lnTo>
                    <a:lnTo>
                      <a:pt x="123" y="251"/>
                    </a:lnTo>
                    <a:lnTo>
                      <a:pt x="156" y="233"/>
                    </a:lnTo>
                    <a:lnTo>
                      <a:pt x="190" y="215"/>
                    </a:lnTo>
                    <a:lnTo>
                      <a:pt x="227" y="198"/>
                    </a:lnTo>
                    <a:lnTo>
                      <a:pt x="269" y="180"/>
                    </a:lnTo>
                    <a:lnTo>
                      <a:pt x="312" y="164"/>
                    </a:lnTo>
                    <a:lnTo>
                      <a:pt x="360" y="148"/>
                    </a:lnTo>
                    <a:lnTo>
                      <a:pt x="408" y="133"/>
                    </a:lnTo>
                    <a:lnTo>
                      <a:pt x="461" y="119"/>
                    </a:lnTo>
                    <a:lnTo>
                      <a:pt x="515" y="106"/>
                    </a:lnTo>
                    <a:lnTo>
                      <a:pt x="573" y="93"/>
                    </a:lnTo>
                    <a:lnTo>
                      <a:pt x="631" y="80"/>
                    </a:lnTo>
                    <a:lnTo>
                      <a:pt x="693" y="69"/>
                    </a:lnTo>
                    <a:lnTo>
                      <a:pt x="757" y="58"/>
                    </a:lnTo>
                    <a:lnTo>
                      <a:pt x="823" y="48"/>
                    </a:lnTo>
                    <a:lnTo>
                      <a:pt x="891" y="40"/>
                    </a:lnTo>
                    <a:lnTo>
                      <a:pt x="960" y="32"/>
                    </a:lnTo>
                    <a:lnTo>
                      <a:pt x="1032" y="24"/>
                    </a:lnTo>
                    <a:lnTo>
                      <a:pt x="1105" y="18"/>
                    </a:lnTo>
                    <a:lnTo>
                      <a:pt x="1180" y="13"/>
                    </a:lnTo>
                    <a:lnTo>
                      <a:pt x="1255" y="8"/>
                    </a:lnTo>
                    <a:lnTo>
                      <a:pt x="1333" y="5"/>
                    </a:lnTo>
                    <a:lnTo>
                      <a:pt x="1412" y="2"/>
                    </a:lnTo>
                    <a:lnTo>
                      <a:pt x="1492" y="1"/>
                    </a:lnTo>
                    <a:lnTo>
                      <a:pt x="1572" y="0"/>
                    </a:lnTo>
                    <a:lnTo>
                      <a:pt x="1653" y="1"/>
                    </a:lnTo>
                    <a:lnTo>
                      <a:pt x="1733" y="2"/>
                    </a:lnTo>
                    <a:lnTo>
                      <a:pt x="1812" y="5"/>
                    </a:lnTo>
                    <a:lnTo>
                      <a:pt x="1890" y="8"/>
                    </a:lnTo>
                    <a:lnTo>
                      <a:pt x="1965" y="13"/>
                    </a:lnTo>
                    <a:lnTo>
                      <a:pt x="2040" y="18"/>
                    </a:lnTo>
                    <a:lnTo>
                      <a:pt x="2113" y="24"/>
                    </a:lnTo>
                    <a:lnTo>
                      <a:pt x="2184" y="32"/>
                    </a:lnTo>
                    <a:lnTo>
                      <a:pt x="2254" y="40"/>
                    </a:lnTo>
                    <a:lnTo>
                      <a:pt x="2322" y="48"/>
                    </a:lnTo>
                    <a:lnTo>
                      <a:pt x="2387" y="58"/>
                    </a:lnTo>
                    <a:lnTo>
                      <a:pt x="2452" y="69"/>
                    </a:lnTo>
                    <a:lnTo>
                      <a:pt x="2514" y="80"/>
                    </a:lnTo>
                    <a:lnTo>
                      <a:pt x="2573" y="93"/>
                    </a:lnTo>
                    <a:lnTo>
                      <a:pt x="2630" y="106"/>
                    </a:lnTo>
                    <a:lnTo>
                      <a:pt x="2684" y="119"/>
                    </a:lnTo>
                    <a:lnTo>
                      <a:pt x="2737" y="133"/>
                    </a:lnTo>
                    <a:lnTo>
                      <a:pt x="2786" y="148"/>
                    </a:lnTo>
                    <a:lnTo>
                      <a:pt x="2833" y="164"/>
                    </a:lnTo>
                    <a:lnTo>
                      <a:pt x="2876" y="180"/>
                    </a:lnTo>
                    <a:lnTo>
                      <a:pt x="2918" y="198"/>
                    </a:lnTo>
                    <a:lnTo>
                      <a:pt x="2955" y="215"/>
                    </a:lnTo>
                    <a:lnTo>
                      <a:pt x="2990" y="233"/>
                    </a:lnTo>
                    <a:lnTo>
                      <a:pt x="3022" y="251"/>
                    </a:lnTo>
                    <a:lnTo>
                      <a:pt x="3050" y="270"/>
                    </a:lnTo>
                    <a:lnTo>
                      <a:pt x="3074" y="290"/>
                    </a:lnTo>
                    <a:lnTo>
                      <a:pt x="3095" y="311"/>
                    </a:lnTo>
                    <a:lnTo>
                      <a:pt x="3114" y="332"/>
                    </a:lnTo>
                    <a:lnTo>
                      <a:pt x="3127" y="352"/>
                    </a:lnTo>
                    <a:lnTo>
                      <a:pt x="3137" y="374"/>
                    </a:lnTo>
                    <a:lnTo>
                      <a:pt x="3143" y="396"/>
                    </a:lnTo>
                    <a:lnTo>
                      <a:pt x="3145" y="4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4600" y="6507720"/>
                <a:ext cx="346680" cy="102240"/>
              </a:xfrm>
              <a:custGeom>
                <a:avLst/>
                <a:gdLst/>
                <a:ahLst/>
                <a:rect l="l" t="t" r="r" b="b"/>
                <a:pathLst>
                  <a:path w="3143" h="853">
                    <a:moveTo>
                      <a:pt x="3143" y="418"/>
                    </a:moveTo>
                    <a:lnTo>
                      <a:pt x="3141" y="440"/>
                    </a:lnTo>
                    <a:lnTo>
                      <a:pt x="3135" y="462"/>
                    </a:lnTo>
                    <a:lnTo>
                      <a:pt x="3125" y="483"/>
                    </a:lnTo>
                    <a:lnTo>
                      <a:pt x="3111" y="505"/>
                    </a:lnTo>
                    <a:lnTo>
                      <a:pt x="3093" y="527"/>
                    </a:lnTo>
                    <a:lnTo>
                      <a:pt x="3072" y="547"/>
                    </a:lnTo>
                    <a:lnTo>
                      <a:pt x="3047" y="567"/>
                    </a:lnTo>
                    <a:lnTo>
                      <a:pt x="3019" y="587"/>
                    </a:lnTo>
                    <a:lnTo>
                      <a:pt x="2987" y="606"/>
                    </a:lnTo>
                    <a:lnTo>
                      <a:pt x="2953" y="625"/>
                    </a:lnTo>
                    <a:lnTo>
                      <a:pt x="2916" y="643"/>
                    </a:lnTo>
                    <a:lnTo>
                      <a:pt x="2874" y="661"/>
                    </a:lnTo>
                    <a:lnTo>
                      <a:pt x="2831" y="678"/>
                    </a:lnTo>
                    <a:lnTo>
                      <a:pt x="2783" y="694"/>
                    </a:lnTo>
                    <a:lnTo>
                      <a:pt x="2735" y="710"/>
                    </a:lnTo>
                    <a:lnTo>
                      <a:pt x="2682" y="726"/>
                    </a:lnTo>
                    <a:lnTo>
                      <a:pt x="2628" y="740"/>
                    </a:lnTo>
                    <a:lnTo>
                      <a:pt x="2571" y="753"/>
                    </a:lnTo>
                    <a:lnTo>
                      <a:pt x="2512" y="766"/>
                    </a:lnTo>
                    <a:lnTo>
                      <a:pt x="2450" y="778"/>
                    </a:lnTo>
                    <a:lnTo>
                      <a:pt x="2386" y="789"/>
                    </a:lnTo>
                    <a:lnTo>
                      <a:pt x="2321" y="800"/>
                    </a:lnTo>
                    <a:lnTo>
                      <a:pt x="2252" y="809"/>
                    </a:lnTo>
                    <a:lnTo>
                      <a:pt x="2183" y="818"/>
                    </a:lnTo>
                    <a:lnTo>
                      <a:pt x="2112" y="826"/>
                    </a:lnTo>
                    <a:lnTo>
                      <a:pt x="2039" y="833"/>
                    </a:lnTo>
                    <a:lnTo>
                      <a:pt x="1964" y="839"/>
                    </a:lnTo>
                    <a:lnTo>
                      <a:pt x="1889" y="844"/>
                    </a:lnTo>
                    <a:lnTo>
                      <a:pt x="1811" y="848"/>
                    </a:lnTo>
                    <a:lnTo>
                      <a:pt x="1732" y="851"/>
                    </a:lnTo>
                    <a:lnTo>
                      <a:pt x="1652" y="852"/>
                    </a:lnTo>
                    <a:lnTo>
                      <a:pt x="1571" y="853"/>
                    </a:lnTo>
                    <a:lnTo>
                      <a:pt x="1491" y="852"/>
                    </a:lnTo>
                    <a:lnTo>
                      <a:pt x="1411" y="851"/>
                    </a:lnTo>
                    <a:lnTo>
                      <a:pt x="1332" y="848"/>
                    </a:lnTo>
                    <a:lnTo>
                      <a:pt x="1255" y="844"/>
                    </a:lnTo>
                    <a:lnTo>
                      <a:pt x="1179" y="839"/>
                    </a:lnTo>
                    <a:lnTo>
                      <a:pt x="1104" y="833"/>
                    </a:lnTo>
                    <a:lnTo>
                      <a:pt x="1031" y="826"/>
                    </a:lnTo>
                    <a:lnTo>
                      <a:pt x="960" y="818"/>
                    </a:lnTo>
                    <a:lnTo>
                      <a:pt x="891" y="809"/>
                    </a:lnTo>
                    <a:lnTo>
                      <a:pt x="823" y="800"/>
                    </a:lnTo>
                    <a:lnTo>
                      <a:pt x="756" y="789"/>
                    </a:lnTo>
                    <a:lnTo>
                      <a:pt x="693" y="778"/>
                    </a:lnTo>
                    <a:lnTo>
                      <a:pt x="631" y="766"/>
                    </a:lnTo>
                    <a:lnTo>
                      <a:pt x="573" y="753"/>
                    </a:lnTo>
                    <a:lnTo>
                      <a:pt x="515" y="740"/>
                    </a:lnTo>
                    <a:lnTo>
                      <a:pt x="461" y="726"/>
                    </a:lnTo>
                    <a:lnTo>
                      <a:pt x="409" y="710"/>
                    </a:lnTo>
                    <a:lnTo>
                      <a:pt x="360" y="694"/>
                    </a:lnTo>
                    <a:lnTo>
                      <a:pt x="312" y="678"/>
                    </a:lnTo>
                    <a:lnTo>
                      <a:pt x="269" y="661"/>
                    </a:lnTo>
                    <a:lnTo>
                      <a:pt x="228" y="643"/>
                    </a:lnTo>
                    <a:lnTo>
                      <a:pt x="190" y="625"/>
                    </a:lnTo>
                    <a:lnTo>
                      <a:pt x="156" y="606"/>
                    </a:lnTo>
                    <a:lnTo>
                      <a:pt x="124" y="587"/>
                    </a:lnTo>
                    <a:lnTo>
                      <a:pt x="96" y="567"/>
                    </a:lnTo>
                    <a:lnTo>
                      <a:pt x="71" y="547"/>
                    </a:lnTo>
                    <a:lnTo>
                      <a:pt x="49" y="527"/>
                    </a:lnTo>
                    <a:lnTo>
                      <a:pt x="32" y="505"/>
                    </a:lnTo>
                    <a:lnTo>
                      <a:pt x="18" y="483"/>
                    </a:lnTo>
                    <a:lnTo>
                      <a:pt x="8" y="462"/>
                    </a:lnTo>
                    <a:lnTo>
                      <a:pt x="2" y="440"/>
                    </a:lnTo>
                    <a:lnTo>
                      <a:pt x="0" y="418"/>
                    </a:lnTo>
                    <a:lnTo>
                      <a:pt x="2" y="395"/>
                    </a:lnTo>
                    <a:lnTo>
                      <a:pt x="8" y="373"/>
                    </a:lnTo>
                    <a:lnTo>
                      <a:pt x="18" y="352"/>
                    </a:lnTo>
                    <a:lnTo>
                      <a:pt x="32" y="331"/>
                    </a:lnTo>
                    <a:lnTo>
                      <a:pt x="49" y="310"/>
                    </a:lnTo>
                    <a:lnTo>
                      <a:pt x="71" y="289"/>
                    </a:lnTo>
                    <a:lnTo>
                      <a:pt x="96" y="270"/>
                    </a:lnTo>
                    <a:lnTo>
                      <a:pt x="124" y="251"/>
                    </a:lnTo>
                    <a:lnTo>
                      <a:pt x="156" y="232"/>
                    </a:lnTo>
                    <a:lnTo>
                      <a:pt x="190" y="214"/>
                    </a:lnTo>
                    <a:lnTo>
                      <a:pt x="228" y="197"/>
                    </a:lnTo>
                    <a:lnTo>
                      <a:pt x="269" y="179"/>
                    </a:lnTo>
                    <a:lnTo>
                      <a:pt x="312" y="163"/>
                    </a:lnTo>
                    <a:lnTo>
                      <a:pt x="360" y="148"/>
                    </a:lnTo>
                    <a:lnTo>
                      <a:pt x="409" y="133"/>
                    </a:lnTo>
                    <a:lnTo>
                      <a:pt x="461" y="119"/>
                    </a:lnTo>
                    <a:lnTo>
                      <a:pt x="515" y="105"/>
                    </a:lnTo>
                    <a:lnTo>
                      <a:pt x="573" y="93"/>
                    </a:lnTo>
                    <a:lnTo>
                      <a:pt x="631" y="81"/>
                    </a:lnTo>
                    <a:lnTo>
                      <a:pt x="693" y="68"/>
                    </a:lnTo>
                    <a:lnTo>
                      <a:pt x="756" y="58"/>
                    </a:lnTo>
                    <a:lnTo>
                      <a:pt x="823" y="48"/>
                    </a:lnTo>
                    <a:lnTo>
                      <a:pt x="891" y="39"/>
                    </a:lnTo>
                    <a:lnTo>
                      <a:pt x="960" y="31"/>
                    </a:lnTo>
                    <a:lnTo>
                      <a:pt x="1031" y="24"/>
                    </a:lnTo>
                    <a:lnTo>
                      <a:pt x="1104" y="18"/>
                    </a:lnTo>
                    <a:lnTo>
                      <a:pt x="1179" y="13"/>
                    </a:lnTo>
                    <a:lnTo>
                      <a:pt x="1255" y="8"/>
                    </a:lnTo>
                    <a:lnTo>
                      <a:pt x="1332" y="5"/>
                    </a:lnTo>
                    <a:lnTo>
                      <a:pt x="1411" y="2"/>
                    </a:lnTo>
                    <a:lnTo>
                      <a:pt x="1491" y="1"/>
                    </a:lnTo>
                    <a:lnTo>
                      <a:pt x="1571" y="0"/>
                    </a:lnTo>
                    <a:lnTo>
                      <a:pt x="1652" y="1"/>
                    </a:lnTo>
                    <a:lnTo>
                      <a:pt x="1732" y="2"/>
                    </a:lnTo>
                    <a:lnTo>
                      <a:pt x="1811" y="5"/>
                    </a:lnTo>
                    <a:lnTo>
                      <a:pt x="1889" y="8"/>
                    </a:lnTo>
                    <a:lnTo>
                      <a:pt x="1964" y="13"/>
                    </a:lnTo>
                    <a:lnTo>
                      <a:pt x="2039" y="18"/>
                    </a:lnTo>
                    <a:lnTo>
                      <a:pt x="2112" y="24"/>
                    </a:lnTo>
                    <a:lnTo>
                      <a:pt x="2183" y="31"/>
                    </a:lnTo>
                    <a:lnTo>
                      <a:pt x="2252" y="39"/>
                    </a:lnTo>
                    <a:lnTo>
                      <a:pt x="2321" y="48"/>
                    </a:lnTo>
                    <a:lnTo>
                      <a:pt x="2386" y="58"/>
                    </a:lnTo>
                    <a:lnTo>
                      <a:pt x="2450" y="68"/>
                    </a:lnTo>
                    <a:lnTo>
                      <a:pt x="2512" y="81"/>
                    </a:lnTo>
                    <a:lnTo>
                      <a:pt x="2571" y="93"/>
                    </a:lnTo>
                    <a:lnTo>
                      <a:pt x="2628" y="105"/>
                    </a:lnTo>
                    <a:lnTo>
                      <a:pt x="2682" y="119"/>
                    </a:lnTo>
                    <a:lnTo>
                      <a:pt x="2735" y="133"/>
                    </a:lnTo>
                    <a:lnTo>
                      <a:pt x="2783" y="148"/>
                    </a:lnTo>
                    <a:lnTo>
                      <a:pt x="2831" y="163"/>
                    </a:lnTo>
                    <a:lnTo>
                      <a:pt x="2874" y="179"/>
                    </a:lnTo>
                    <a:lnTo>
                      <a:pt x="2916" y="197"/>
                    </a:lnTo>
                    <a:lnTo>
                      <a:pt x="2953" y="214"/>
                    </a:lnTo>
                    <a:lnTo>
                      <a:pt x="2987" y="232"/>
                    </a:lnTo>
                    <a:lnTo>
                      <a:pt x="3019" y="251"/>
                    </a:lnTo>
                    <a:lnTo>
                      <a:pt x="3047" y="270"/>
                    </a:lnTo>
                    <a:lnTo>
                      <a:pt x="3072" y="289"/>
                    </a:lnTo>
                    <a:lnTo>
                      <a:pt x="3093" y="310"/>
                    </a:lnTo>
                    <a:lnTo>
                      <a:pt x="3111" y="331"/>
                    </a:lnTo>
                    <a:lnTo>
                      <a:pt x="3125" y="352"/>
                    </a:lnTo>
                    <a:lnTo>
                      <a:pt x="3135" y="373"/>
                    </a:lnTo>
                    <a:lnTo>
                      <a:pt x="3141" y="395"/>
                    </a:lnTo>
                    <a:lnTo>
                      <a:pt x="3143" y="4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4600" y="6507720"/>
                <a:ext cx="346680" cy="102240"/>
              </a:xfrm>
              <a:custGeom>
                <a:avLst/>
                <a:gdLst/>
                <a:ahLst/>
                <a:rect l="l" t="t" r="r" b="b"/>
                <a:pathLst>
                  <a:path w="3139" h="851">
                    <a:moveTo>
                      <a:pt x="3139" y="417"/>
                    </a:moveTo>
                    <a:lnTo>
                      <a:pt x="3137" y="439"/>
                    </a:lnTo>
                    <a:lnTo>
                      <a:pt x="3131" y="461"/>
                    </a:lnTo>
                    <a:lnTo>
                      <a:pt x="3121" y="482"/>
                    </a:lnTo>
                    <a:lnTo>
                      <a:pt x="3108" y="504"/>
                    </a:lnTo>
                    <a:lnTo>
                      <a:pt x="3089" y="525"/>
                    </a:lnTo>
                    <a:lnTo>
                      <a:pt x="3068" y="546"/>
                    </a:lnTo>
                    <a:lnTo>
                      <a:pt x="3044" y="566"/>
                    </a:lnTo>
                    <a:lnTo>
                      <a:pt x="3016" y="585"/>
                    </a:lnTo>
                    <a:lnTo>
                      <a:pt x="2984" y="604"/>
                    </a:lnTo>
                    <a:lnTo>
                      <a:pt x="2950" y="624"/>
                    </a:lnTo>
                    <a:lnTo>
                      <a:pt x="2912" y="642"/>
                    </a:lnTo>
                    <a:lnTo>
                      <a:pt x="2871" y="659"/>
                    </a:lnTo>
                    <a:lnTo>
                      <a:pt x="2828" y="676"/>
                    </a:lnTo>
                    <a:lnTo>
                      <a:pt x="2780" y="692"/>
                    </a:lnTo>
                    <a:lnTo>
                      <a:pt x="2732" y="708"/>
                    </a:lnTo>
                    <a:lnTo>
                      <a:pt x="2679" y="724"/>
                    </a:lnTo>
                    <a:lnTo>
                      <a:pt x="2625" y="738"/>
                    </a:lnTo>
                    <a:lnTo>
                      <a:pt x="2568" y="752"/>
                    </a:lnTo>
                    <a:lnTo>
                      <a:pt x="2509" y="764"/>
                    </a:lnTo>
                    <a:lnTo>
                      <a:pt x="2447" y="776"/>
                    </a:lnTo>
                    <a:lnTo>
                      <a:pt x="2383" y="788"/>
                    </a:lnTo>
                    <a:lnTo>
                      <a:pt x="2318" y="798"/>
                    </a:lnTo>
                    <a:lnTo>
                      <a:pt x="2250" y="807"/>
                    </a:lnTo>
                    <a:lnTo>
                      <a:pt x="2180" y="816"/>
                    </a:lnTo>
                    <a:lnTo>
                      <a:pt x="2109" y="824"/>
                    </a:lnTo>
                    <a:lnTo>
                      <a:pt x="2036" y="832"/>
                    </a:lnTo>
                    <a:lnTo>
                      <a:pt x="1961" y="837"/>
                    </a:lnTo>
                    <a:lnTo>
                      <a:pt x="1886" y="842"/>
                    </a:lnTo>
                    <a:lnTo>
                      <a:pt x="1809" y="846"/>
                    </a:lnTo>
                    <a:lnTo>
                      <a:pt x="1730" y="849"/>
                    </a:lnTo>
                    <a:lnTo>
                      <a:pt x="1650" y="850"/>
                    </a:lnTo>
                    <a:lnTo>
                      <a:pt x="1569" y="851"/>
                    </a:lnTo>
                    <a:lnTo>
                      <a:pt x="1489" y="850"/>
                    </a:lnTo>
                    <a:lnTo>
                      <a:pt x="1409" y="849"/>
                    </a:lnTo>
                    <a:lnTo>
                      <a:pt x="1330" y="846"/>
                    </a:lnTo>
                    <a:lnTo>
                      <a:pt x="1253" y="842"/>
                    </a:lnTo>
                    <a:lnTo>
                      <a:pt x="1178" y="837"/>
                    </a:lnTo>
                    <a:lnTo>
                      <a:pt x="1103" y="832"/>
                    </a:lnTo>
                    <a:lnTo>
                      <a:pt x="1030" y="824"/>
                    </a:lnTo>
                    <a:lnTo>
                      <a:pt x="958" y="816"/>
                    </a:lnTo>
                    <a:lnTo>
                      <a:pt x="889" y="807"/>
                    </a:lnTo>
                    <a:lnTo>
                      <a:pt x="821" y="798"/>
                    </a:lnTo>
                    <a:lnTo>
                      <a:pt x="755" y="788"/>
                    </a:lnTo>
                    <a:lnTo>
                      <a:pt x="692" y="776"/>
                    </a:lnTo>
                    <a:lnTo>
                      <a:pt x="630" y="764"/>
                    </a:lnTo>
                    <a:lnTo>
                      <a:pt x="571" y="752"/>
                    </a:lnTo>
                    <a:lnTo>
                      <a:pt x="514" y="738"/>
                    </a:lnTo>
                    <a:lnTo>
                      <a:pt x="460" y="724"/>
                    </a:lnTo>
                    <a:lnTo>
                      <a:pt x="408" y="708"/>
                    </a:lnTo>
                    <a:lnTo>
                      <a:pt x="359" y="692"/>
                    </a:lnTo>
                    <a:lnTo>
                      <a:pt x="312" y="676"/>
                    </a:lnTo>
                    <a:lnTo>
                      <a:pt x="268" y="659"/>
                    </a:lnTo>
                    <a:lnTo>
                      <a:pt x="227" y="642"/>
                    </a:lnTo>
                    <a:lnTo>
                      <a:pt x="189" y="624"/>
                    </a:lnTo>
                    <a:lnTo>
                      <a:pt x="155" y="604"/>
                    </a:lnTo>
                    <a:lnTo>
                      <a:pt x="123" y="585"/>
                    </a:lnTo>
                    <a:lnTo>
                      <a:pt x="95" y="566"/>
                    </a:lnTo>
                    <a:lnTo>
                      <a:pt x="71" y="546"/>
                    </a:lnTo>
                    <a:lnTo>
                      <a:pt x="50" y="525"/>
                    </a:lnTo>
                    <a:lnTo>
                      <a:pt x="31" y="504"/>
                    </a:lnTo>
                    <a:lnTo>
                      <a:pt x="18" y="482"/>
                    </a:lnTo>
                    <a:lnTo>
                      <a:pt x="8" y="461"/>
                    </a:lnTo>
                    <a:lnTo>
                      <a:pt x="2" y="439"/>
                    </a:lnTo>
                    <a:lnTo>
                      <a:pt x="0" y="417"/>
                    </a:lnTo>
                    <a:lnTo>
                      <a:pt x="2" y="394"/>
                    </a:lnTo>
                    <a:lnTo>
                      <a:pt x="8" y="372"/>
                    </a:lnTo>
                    <a:lnTo>
                      <a:pt x="18" y="351"/>
                    </a:lnTo>
                    <a:lnTo>
                      <a:pt x="31" y="330"/>
                    </a:lnTo>
                    <a:lnTo>
                      <a:pt x="50" y="310"/>
                    </a:lnTo>
                    <a:lnTo>
                      <a:pt x="71" y="289"/>
                    </a:lnTo>
                    <a:lnTo>
                      <a:pt x="95" y="269"/>
                    </a:lnTo>
                    <a:lnTo>
                      <a:pt x="123" y="250"/>
                    </a:lnTo>
                    <a:lnTo>
                      <a:pt x="155" y="232"/>
                    </a:lnTo>
                    <a:lnTo>
                      <a:pt x="189" y="214"/>
                    </a:lnTo>
                    <a:lnTo>
                      <a:pt x="227" y="197"/>
                    </a:lnTo>
                    <a:lnTo>
                      <a:pt x="268" y="179"/>
                    </a:lnTo>
                    <a:lnTo>
                      <a:pt x="312" y="163"/>
                    </a:lnTo>
                    <a:lnTo>
                      <a:pt x="359" y="147"/>
                    </a:lnTo>
                    <a:lnTo>
                      <a:pt x="408" y="133"/>
                    </a:lnTo>
                    <a:lnTo>
                      <a:pt x="460" y="118"/>
                    </a:lnTo>
                    <a:lnTo>
                      <a:pt x="514" y="105"/>
                    </a:lnTo>
                    <a:lnTo>
                      <a:pt x="571" y="92"/>
                    </a:lnTo>
                    <a:lnTo>
                      <a:pt x="630" y="80"/>
                    </a:lnTo>
                    <a:lnTo>
                      <a:pt x="692" y="68"/>
                    </a:lnTo>
                    <a:lnTo>
                      <a:pt x="755" y="58"/>
                    </a:lnTo>
                    <a:lnTo>
                      <a:pt x="821" y="48"/>
                    </a:lnTo>
                    <a:lnTo>
                      <a:pt x="889" y="39"/>
                    </a:lnTo>
                    <a:lnTo>
                      <a:pt x="958" y="31"/>
                    </a:lnTo>
                    <a:lnTo>
                      <a:pt x="1030" y="24"/>
                    </a:lnTo>
                    <a:lnTo>
                      <a:pt x="1103" y="18"/>
                    </a:lnTo>
                    <a:lnTo>
                      <a:pt x="1178" y="13"/>
                    </a:lnTo>
                    <a:lnTo>
                      <a:pt x="1253" y="8"/>
                    </a:lnTo>
                    <a:lnTo>
                      <a:pt x="1330" y="5"/>
                    </a:lnTo>
                    <a:lnTo>
                      <a:pt x="1409" y="2"/>
                    </a:lnTo>
                    <a:lnTo>
                      <a:pt x="1489" y="1"/>
                    </a:lnTo>
                    <a:lnTo>
                      <a:pt x="1569" y="0"/>
                    </a:lnTo>
                    <a:lnTo>
                      <a:pt x="1650" y="1"/>
                    </a:lnTo>
                    <a:lnTo>
                      <a:pt x="1730" y="2"/>
                    </a:lnTo>
                    <a:lnTo>
                      <a:pt x="1809" y="5"/>
                    </a:lnTo>
                    <a:lnTo>
                      <a:pt x="1886" y="8"/>
                    </a:lnTo>
                    <a:lnTo>
                      <a:pt x="1961" y="13"/>
                    </a:lnTo>
                    <a:lnTo>
                      <a:pt x="2036" y="18"/>
                    </a:lnTo>
                    <a:lnTo>
                      <a:pt x="2109" y="24"/>
                    </a:lnTo>
                    <a:lnTo>
                      <a:pt x="2180" y="31"/>
                    </a:lnTo>
                    <a:lnTo>
                      <a:pt x="2250" y="39"/>
                    </a:lnTo>
                    <a:lnTo>
                      <a:pt x="2318" y="48"/>
                    </a:lnTo>
                    <a:lnTo>
                      <a:pt x="2383" y="58"/>
                    </a:lnTo>
                    <a:lnTo>
                      <a:pt x="2447" y="68"/>
                    </a:lnTo>
                    <a:lnTo>
                      <a:pt x="2509" y="80"/>
                    </a:lnTo>
                    <a:lnTo>
                      <a:pt x="2568" y="92"/>
                    </a:lnTo>
                    <a:lnTo>
                      <a:pt x="2625" y="105"/>
                    </a:lnTo>
                    <a:lnTo>
                      <a:pt x="2679" y="118"/>
                    </a:lnTo>
                    <a:lnTo>
                      <a:pt x="2732" y="133"/>
                    </a:lnTo>
                    <a:lnTo>
                      <a:pt x="2780" y="147"/>
                    </a:lnTo>
                    <a:lnTo>
                      <a:pt x="2828" y="163"/>
                    </a:lnTo>
                    <a:lnTo>
                      <a:pt x="2871" y="179"/>
                    </a:lnTo>
                    <a:lnTo>
                      <a:pt x="2912" y="197"/>
                    </a:lnTo>
                    <a:lnTo>
                      <a:pt x="2950" y="214"/>
                    </a:lnTo>
                    <a:lnTo>
                      <a:pt x="2984" y="232"/>
                    </a:lnTo>
                    <a:lnTo>
                      <a:pt x="3016" y="250"/>
                    </a:lnTo>
                    <a:lnTo>
                      <a:pt x="3044" y="269"/>
                    </a:lnTo>
                    <a:lnTo>
                      <a:pt x="3068" y="289"/>
                    </a:lnTo>
                    <a:lnTo>
                      <a:pt x="3089" y="310"/>
                    </a:lnTo>
                    <a:lnTo>
                      <a:pt x="3108" y="330"/>
                    </a:lnTo>
                    <a:lnTo>
                      <a:pt x="3121" y="351"/>
                    </a:lnTo>
                    <a:lnTo>
                      <a:pt x="3131" y="372"/>
                    </a:lnTo>
                    <a:lnTo>
                      <a:pt x="3137" y="394"/>
                    </a:lnTo>
                    <a:lnTo>
                      <a:pt x="3139" y="4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4600" y="6507720"/>
                <a:ext cx="346680" cy="101160"/>
              </a:xfrm>
              <a:custGeom>
                <a:avLst/>
                <a:gdLst/>
                <a:ahLst/>
                <a:rect l="l" t="t" r="r" b="b"/>
                <a:pathLst>
                  <a:path w="3137" h="849">
                    <a:moveTo>
                      <a:pt x="3137" y="416"/>
                    </a:moveTo>
                    <a:lnTo>
                      <a:pt x="3135" y="438"/>
                    </a:lnTo>
                    <a:lnTo>
                      <a:pt x="3129" y="460"/>
                    </a:lnTo>
                    <a:lnTo>
                      <a:pt x="3119" y="481"/>
                    </a:lnTo>
                    <a:lnTo>
                      <a:pt x="3105" y="502"/>
                    </a:lnTo>
                    <a:lnTo>
                      <a:pt x="3087" y="524"/>
                    </a:lnTo>
                    <a:lnTo>
                      <a:pt x="3066" y="544"/>
                    </a:lnTo>
                    <a:lnTo>
                      <a:pt x="3042" y="564"/>
                    </a:lnTo>
                    <a:lnTo>
                      <a:pt x="3014" y="584"/>
                    </a:lnTo>
                    <a:lnTo>
                      <a:pt x="2982" y="603"/>
                    </a:lnTo>
                    <a:lnTo>
                      <a:pt x="2947" y="622"/>
                    </a:lnTo>
                    <a:lnTo>
                      <a:pt x="2910" y="640"/>
                    </a:lnTo>
                    <a:lnTo>
                      <a:pt x="2869" y="658"/>
                    </a:lnTo>
                    <a:lnTo>
                      <a:pt x="2825" y="675"/>
                    </a:lnTo>
                    <a:lnTo>
                      <a:pt x="2778" y="691"/>
                    </a:lnTo>
                    <a:lnTo>
                      <a:pt x="2729" y="706"/>
                    </a:lnTo>
                    <a:lnTo>
                      <a:pt x="2677" y="722"/>
                    </a:lnTo>
                    <a:lnTo>
                      <a:pt x="2623" y="736"/>
                    </a:lnTo>
                    <a:lnTo>
                      <a:pt x="2566" y="750"/>
                    </a:lnTo>
                    <a:lnTo>
                      <a:pt x="2507" y="763"/>
                    </a:lnTo>
                    <a:lnTo>
                      <a:pt x="2445" y="775"/>
                    </a:lnTo>
                    <a:lnTo>
                      <a:pt x="2381" y="786"/>
                    </a:lnTo>
                    <a:lnTo>
                      <a:pt x="2316" y="796"/>
                    </a:lnTo>
                    <a:lnTo>
                      <a:pt x="2248" y="806"/>
                    </a:lnTo>
                    <a:lnTo>
                      <a:pt x="2178" y="814"/>
                    </a:lnTo>
                    <a:lnTo>
                      <a:pt x="2108" y="822"/>
                    </a:lnTo>
                    <a:lnTo>
                      <a:pt x="2035" y="830"/>
                    </a:lnTo>
                    <a:lnTo>
                      <a:pt x="1960" y="835"/>
                    </a:lnTo>
                    <a:lnTo>
                      <a:pt x="1885" y="840"/>
                    </a:lnTo>
                    <a:lnTo>
                      <a:pt x="1808" y="844"/>
                    </a:lnTo>
                    <a:lnTo>
                      <a:pt x="1729" y="847"/>
                    </a:lnTo>
                    <a:lnTo>
                      <a:pt x="1649" y="848"/>
                    </a:lnTo>
                    <a:lnTo>
                      <a:pt x="1568" y="849"/>
                    </a:lnTo>
                    <a:lnTo>
                      <a:pt x="1488" y="848"/>
                    </a:lnTo>
                    <a:lnTo>
                      <a:pt x="1408" y="847"/>
                    </a:lnTo>
                    <a:lnTo>
                      <a:pt x="1330" y="844"/>
                    </a:lnTo>
                    <a:lnTo>
                      <a:pt x="1252" y="840"/>
                    </a:lnTo>
                    <a:lnTo>
                      <a:pt x="1177" y="835"/>
                    </a:lnTo>
                    <a:lnTo>
                      <a:pt x="1102" y="830"/>
                    </a:lnTo>
                    <a:lnTo>
                      <a:pt x="1029" y="822"/>
                    </a:lnTo>
                    <a:lnTo>
                      <a:pt x="958" y="814"/>
                    </a:lnTo>
                    <a:lnTo>
                      <a:pt x="889" y="806"/>
                    </a:lnTo>
                    <a:lnTo>
                      <a:pt x="821" y="796"/>
                    </a:lnTo>
                    <a:lnTo>
                      <a:pt x="755" y="786"/>
                    </a:lnTo>
                    <a:lnTo>
                      <a:pt x="692" y="775"/>
                    </a:lnTo>
                    <a:lnTo>
                      <a:pt x="630" y="763"/>
                    </a:lnTo>
                    <a:lnTo>
                      <a:pt x="571" y="750"/>
                    </a:lnTo>
                    <a:lnTo>
                      <a:pt x="514" y="736"/>
                    </a:lnTo>
                    <a:lnTo>
                      <a:pt x="460" y="722"/>
                    </a:lnTo>
                    <a:lnTo>
                      <a:pt x="408" y="706"/>
                    </a:lnTo>
                    <a:lnTo>
                      <a:pt x="359" y="691"/>
                    </a:lnTo>
                    <a:lnTo>
                      <a:pt x="312" y="675"/>
                    </a:lnTo>
                    <a:lnTo>
                      <a:pt x="268" y="658"/>
                    </a:lnTo>
                    <a:lnTo>
                      <a:pt x="227" y="640"/>
                    </a:lnTo>
                    <a:lnTo>
                      <a:pt x="190" y="622"/>
                    </a:lnTo>
                    <a:lnTo>
                      <a:pt x="155" y="603"/>
                    </a:lnTo>
                    <a:lnTo>
                      <a:pt x="123" y="584"/>
                    </a:lnTo>
                    <a:lnTo>
                      <a:pt x="95" y="564"/>
                    </a:lnTo>
                    <a:lnTo>
                      <a:pt x="71" y="544"/>
                    </a:lnTo>
                    <a:lnTo>
                      <a:pt x="50" y="524"/>
                    </a:lnTo>
                    <a:lnTo>
                      <a:pt x="32" y="502"/>
                    </a:lnTo>
                    <a:lnTo>
                      <a:pt x="18" y="481"/>
                    </a:lnTo>
                    <a:lnTo>
                      <a:pt x="8" y="460"/>
                    </a:lnTo>
                    <a:lnTo>
                      <a:pt x="2" y="438"/>
                    </a:lnTo>
                    <a:lnTo>
                      <a:pt x="0" y="416"/>
                    </a:lnTo>
                    <a:lnTo>
                      <a:pt x="2" y="393"/>
                    </a:lnTo>
                    <a:lnTo>
                      <a:pt x="8" y="371"/>
                    </a:lnTo>
                    <a:lnTo>
                      <a:pt x="18" y="350"/>
                    </a:lnTo>
                    <a:lnTo>
                      <a:pt x="32" y="329"/>
                    </a:lnTo>
                    <a:lnTo>
                      <a:pt x="50" y="309"/>
                    </a:lnTo>
                    <a:lnTo>
                      <a:pt x="71" y="288"/>
                    </a:lnTo>
                    <a:lnTo>
                      <a:pt x="95" y="268"/>
                    </a:lnTo>
                    <a:lnTo>
                      <a:pt x="123" y="250"/>
                    </a:lnTo>
                    <a:lnTo>
                      <a:pt x="155" y="231"/>
                    </a:lnTo>
                    <a:lnTo>
                      <a:pt x="190" y="213"/>
                    </a:lnTo>
                    <a:lnTo>
                      <a:pt x="227" y="196"/>
                    </a:lnTo>
                    <a:lnTo>
                      <a:pt x="268" y="178"/>
                    </a:lnTo>
                    <a:lnTo>
                      <a:pt x="312" y="162"/>
                    </a:lnTo>
                    <a:lnTo>
                      <a:pt x="359" y="147"/>
                    </a:lnTo>
                    <a:lnTo>
                      <a:pt x="408" y="132"/>
                    </a:lnTo>
                    <a:lnTo>
                      <a:pt x="460" y="118"/>
                    </a:lnTo>
                    <a:lnTo>
                      <a:pt x="514" y="105"/>
                    </a:lnTo>
                    <a:lnTo>
                      <a:pt x="571" y="92"/>
                    </a:lnTo>
                    <a:lnTo>
                      <a:pt x="630" y="80"/>
                    </a:lnTo>
                    <a:lnTo>
                      <a:pt x="692" y="68"/>
                    </a:lnTo>
                    <a:lnTo>
                      <a:pt x="755" y="58"/>
                    </a:lnTo>
                    <a:lnTo>
                      <a:pt x="821" y="48"/>
                    </a:lnTo>
                    <a:lnTo>
                      <a:pt x="889" y="39"/>
                    </a:lnTo>
                    <a:lnTo>
                      <a:pt x="958" y="31"/>
                    </a:lnTo>
                    <a:lnTo>
                      <a:pt x="1029" y="24"/>
                    </a:lnTo>
                    <a:lnTo>
                      <a:pt x="1102" y="18"/>
                    </a:lnTo>
                    <a:lnTo>
                      <a:pt x="1177" y="13"/>
                    </a:lnTo>
                    <a:lnTo>
                      <a:pt x="1252" y="8"/>
                    </a:lnTo>
                    <a:lnTo>
                      <a:pt x="1330" y="5"/>
                    </a:lnTo>
                    <a:lnTo>
                      <a:pt x="1408" y="2"/>
                    </a:lnTo>
                    <a:lnTo>
                      <a:pt x="1488" y="1"/>
                    </a:lnTo>
                    <a:lnTo>
                      <a:pt x="1568" y="0"/>
                    </a:lnTo>
                    <a:lnTo>
                      <a:pt x="1649" y="1"/>
                    </a:lnTo>
                    <a:lnTo>
                      <a:pt x="1729" y="2"/>
                    </a:lnTo>
                    <a:lnTo>
                      <a:pt x="1808" y="5"/>
                    </a:lnTo>
                    <a:lnTo>
                      <a:pt x="1885" y="8"/>
                    </a:lnTo>
                    <a:lnTo>
                      <a:pt x="1960" y="13"/>
                    </a:lnTo>
                    <a:lnTo>
                      <a:pt x="2035" y="18"/>
                    </a:lnTo>
                    <a:lnTo>
                      <a:pt x="2108" y="24"/>
                    </a:lnTo>
                    <a:lnTo>
                      <a:pt x="2178" y="31"/>
                    </a:lnTo>
                    <a:lnTo>
                      <a:pt x="2248" y="39"/>
                    </a:lnTo>
                    <a:lnTo>
                      <a:pt x="2316" y="48"/>
                    </a:lnTo>
                    <a:lnTo>
                      <a:pt x="2381" y="58"/>
                    </a:lnTo>
                    <a:lnTo>
                      <a:pt x="2445" y="68"/>
                    </a:lnTo>
                    <a:lnTo>
                      <a:pt x="2507" y="80"/>
                    </a:lnTo>
                    <a:lnTo>
                      <a:pt x="2566" y="92"/>
                    </a:lnTo>
                    <a:lnTo>
                      <a:pt x="2623" y="105"/>
                    </a:lnTo>
                    <a:lnTo>
                      <a:pt x="2677" y="118"/>
                    </a:lnTo>
                    <a:lnTo>
                      <a:pt x="2729" y="132"/>
                    </a:lnTo>
                    <a:lnTo>
                      <a:pt x="2778" y="147"/>
                    </a:lnTo>
                    <a:lnTo>
                      <a:pt x="2825" y="162"/>
                    </a:lnTo>
                    <a:lnTo>
                      <a:pt x="2869" y="178"/>
                    </a:lnTo>
                    <a:lnTo>
                      <a:pt x="2910" y="196"/>
                    </a:lnTo>
                    <a:lnTo>
                      <a:pt x="2947" y="213"/>
                    </a:lnTo>
                    <a:lnTo>
                      <a:pt x="2982" y="231"/>
                    </a:lnTo>
                    <a:lnTo>
                      <a:pt x="3014" y="250"/>
                    </a:lnTo>
                    <a:lnTo>
                      <a:pt x="3042" y="268"/>
                    </a:lnTo>
                    <a:lnTo>
                      <a:pt x="3066" y="288"/>
                    </a:lnTo>
                    <a:lnTo>
                      <a:pt x="3087" y="309"/>
                    </a:lnTo>
                    <a:lnTo>
                      <a:pt x="3105" y="329"/>
                    </a:lnTo>
                    <a:lnTo>
                      <a:pt x="3119" y="350"/>
                    </a:lnTo>
                    <a:lnTo>
                      <a:pt x="3129" y="371"/>
                    </a:lnTo>
                    <a:lnTo>
                      <a:pt x="3135" y="393"/>
                    </a:lnTo>
                    <a:lnTo>
                      <a:pt x="3137" y="4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975680" y="6507720"/>
                <a:ext cx="344520" cy="101160"/>
              </a:xfrm>
              <a:custGeom>
                <a:avLst/>
                <a:gdLst/>
                <a:ahLst/>
                <a:rect l="l" t="t" r="r" b="b"/>
                <a:pathLst>
                  <a:path w="3133" h="847">
                    <a:moveTo>
                      <a:pt x="3133" y="415"/>
                    </a:moveTo>
                    <a:lnTo>
                      <a:pt x="3131" y="437"/>
                    </a:lnTo>
                    <a:lnTo>
                      <a:pt x="3125" y="459"/>
                    </a:lnTo>
                    <a:lnTo>
                      <a:pt x="3116" y="480"/>
                    </a:lnTo>
                    <a:lnTo>
                      <a:pt x="3102" y="501"/>
                    </a:lnTo>
                    <a:lnTo>
                      <a:pt x="3084" y="523"/>
                    </a:lnTo>
                    <a:lnTo>
                      <a:pt x="3063" y="543"/>
                    </a:lnTo>
                    <a:lnTo>
                      <a:pt x="3038" y="563"/>
                    </a:lnTo>
                    <a:lnTo>
                      <a:pt x="3011" y="583"/>
                    </a:lnTo>
                    <a:lnTo>
                      <a:pt x="2978" y="601"/>
                    </a:lnTo>
                    <a:lnTo>
                      <a:pt x="2944" y="621"/>
                    </a:lnTo>
                    <a:lnTo>
                      <a:pt x="2907" y="639"/>
                    </a:lnTo>
                    <a:lnTo>
                      <a:pt x="2865" y="656"/>
                    </a:lnTo>
                    <a:lnTo>
                      <a:pt x="2822" y="673"/>
                    </a:lnTo>
                    <a:lnTo>
                      <a:pt x="2775" y="689"/>
                    </a:lnTo>
                    <a:lnTo>
                      <a:pt x="2726" y="705"/>
                    </a:lnTo>
                    <a:lnTo>
                      <a:pt x="2674" y="721"/>
                    </a:lnTo>
                    <a:lnTo>
                      <a:pt x="2620" y="735"/>
                    </a:lnTo>
                    <a:lnTo>
                      <a:pt x="2563" y="748"/>
                    </a:lnTo>
                    <a:lnTo>
                      <a:pt x="2504" y="761"/>
                    </a:lnTo>
                    <a:lnTo>
                      <a:pt x="2442" y="773"/>
                    </a:lnTo>
                    <a:lnTo>
                      <a:pt x="2379" y="784"/>
                    </a:lnTo>
                    <a:lnTo>
                      <a:pt x="2314" y="794"/>
                    </a:lnTo>
                    <a:lnTo>
                      <a:pt x="2246" y="804"/>
                    </a:lnTo>
                    <a:lnTo>
                      <a:pt x="2176" y="812"/>
                    </a:lnTo>
                    <a:lnTo>
                      <a:pt x="2105" y="820"/>
                    </a:lnTo>
                    <a:lnTo>
                      <a:pt x="2032" y="828"/>
                    </a:lnTo>
                    <a:lnTo>
                      <a:pt x="1958" y="834"/>
                    </a:lnTo>
                    <a:lnTo>
                      <a:pt x="1883" y="838"/>
                    </a:lnTo>
                    <a:lnTo>
                      <a:pt x="1805" y="842"/>
                    </a:lnTo>
                    <a:lnTo>
                      <a:pt x="1727" y="845"/>
                    </a:lnTo>
                    <a:lnTo>
                      <a:pt x="1647" y="846"/>
                    </a:lnTo>
                    <a:lnTo>
                      <a:pt x="1566" y="847"/>
                    </a:lnTo>
                    <a:lnTo>
                      <a:pt x="1486" y="846"/>
                    </a:lnTo>
                    <a:lnTo>
                      <a:pt x="1406" y="845"/>
                    </a:lnTo>
                    <a:lnTo>
                      <a:pt x="1328" y="842"/>
                    </a:lnTo>
                    <a:lnTo>
                      <a:pt x="1250" y="838"/>
                    </a:lnTo>
                    <a:lnTo>
                      <a:pt x="1175" y="834"/>
                    </a:lnTo>
                    <a:lnTo>
                      <a:pt x="1101" y="828"/>
                    </a:lnTo>
                    <a:lnTo>
                      <a:pt x="1028" y="820"/>
                    </a:lnTo>
                    <a:lnTo>
                      <a:pt x="956" y="812"/>
                    </a:lnTo>
                    <a:lnTo>
                      <a:pt x="887" y="804"/>
                    </a:lnTo>
                    <a:lnTo>
                      <a:pt x="820" y="794"/>
                    </a:lnTo>
                    <a:lnTo>
                      <a:pt x="754" y="784"/>
                    </a:lnTo>
                    <a:lnTo>
                      <a:pt x="691" y="773"/>
                    </a:lnTo>
                    <a:lnTo>
                      <a:pt x="629" y="761"/>
                    </a:lnTo>
                    <a:lnTo>
                      <a:pt x="570" y="748"/>
                    </a:lnTo>
                    <a:lnTo>
                      <a:pt x="513" y="735"/>
                    </a:lnTo>
                    <a:lnTo>
                      <a:pt x="459" y="721"/>
                    </a:lnTo>
                    <a:lnTo>
                      <a:pt x="407" y="705"/>
                    </a:lnTo>
                    <a:lnTo>
                      <a:pt x="358" y="689"/>
                    </a:lnTo>
                    <a:lnTo>
                      <a:pt x="311" y="673"/>
                    </a:lnTo>
                    <a:lnTo>
                      <a:pt x="268" y="656"/>
                    </a:lnTo>
                    <a:lnTo>
                      <a:pt x="226" y="639"/>
                    </a:lnTo>
                    <a:lnTo>
                      <a:pt x="189" y="621"/>
                    </a:lnTo>
                    <a:lnTo>
                      <a:pt x="155" y="601"/>
                    </a:lnTo>
                    <a:lnTo>
                      <a:pt x="123" y="583"/>
                    </a:lnTo>
                    <a:lnTo>
                      <a:pt x="95" y="563"/>
                    </a:lnTo>
                    <a:lnTo>
                      <a:pt x="70" y="543"/>
                    </a:lnTo>
                    <a:lnTo>
                      <a:pt x="50" y="523"/>
                    </a:lnTo>
                    <a:lnTo>
                      <a:pt x="31" y="501"/>
                    </a:lnTo>
                    <a:lnTo>
                      <a:pt x="18" y="480"/>
                    </a:lnTo>
                    <a:lnTo>
                      <a:pt x="8" y="459"/>
                    </a:lnTo>
                    <a:lnTo>
                      <a:pt x="2" y="437"/>
                    </a:lnTo>
                    <a:lnTo>
                      <a:pt x="0" y="415"/>
                    </a:lnTo>
                    <a:lnTo>
                      <a:pt x="2" y="392"/>
                    </a:lnTo>
                    <a:lnTo>
                      <a:pt x="8" y="370"/>
                    </a:lnTo>
                    <a:lnTo>
                      <a:pt x="18" y="349"/>
                    </a:lnTo>
                    <a:lnTo>
                      <a:pt x="31" y="328"/>
                    </a:lnTo>
                    <a:lnTo>
                      <a:pt x="50" y="308"/>
                    </a:lnTo>
                    <a:lnTo>
                      <a:pt x="70" y="287"/>
                    </a:lnTo>
                    <a:lnTo>
                      <a:pt x="95" y="268"/>
                    </a:lnTo>
                    <a:lnTo>
                      <a:pt x="123" y="249"/>
                    </a:lnTo>
                    <a:lnTo>
                      <a:pt x="155" y="231"/>
                    </a:lnTo>
                    <a:lnTo>
                      <a:pt x="189" y="213"/>
                    </a:lnTo>
                    <a:lnTo>
                      <a:pt x="226" y="196"/>
                    </a:lnTo>
                    <a:lnTo>
                      <a:pt x="268" y="178"/>
                    </a:lnTo>
                    <a:lnTo>
                      <a:pt x="311" y="162"/>
                    </a:lnTo>
                    <a:lnTo>
                      <a:pt x="358" y="147"/>
                    </a:lnTo>
                    <a:lnTo>
                      <a:pt x="407" y="132"/>
                    </a:lnTo>
                    <a:lnTo>
                      <a:pt x="459" y="118"/>
                    </a:lnTo>
                    <a:lnTo>
                      <a:pt x="513" y="104"/>
                    </a:lnTo>
                    <a:lnTo>
                      <a:pt x="570" y="92"/>
                    </a:lnTo>
                    <a:lnTo>
                      <a:pt x="629" y="80"/>
                    </a:lnTo>
                    <a:lnTo>
                      <a:pt x="691" y="68"/>
                    </a:lnTo>
                    <a:lnTo>
                      <a:pt x="754" y="57"/>
                    </a:lnTo>
                    <a:lnTo>
                      <a:pt x="820" y="48"/>
                    </a:lnTo>
                    <a:lnTo>
                      <a:pt x="887" y="39"/>
                    </a:lnTo>
                    <a:lnTo>
                      <a:pt x="956" y="31"/>
                    </a:lnTo>
                    <a:lnTo>
                      <a:pt x="1028" y="24"/>
                    </a:lnTo>
                    <a:lnTo>
                      <a:pt x="1101" y="18"/>
                    </a:lnTo>
                    <a:lnTo>
                      <a:pt x="1175" y="12"/>
                    </a:lnTo>
                    <a:lnTo>
                      <a:pt x="1250" y="8"/>
                    </a:lnTo>
                    <a:lnTo>
                      <a:pt x="1328" y="5"/>
                    </a:lnTo>
                    <a:lnTo>
                      <a:pt x="1406" y="2"/>
                    </a:lnTo>
                    <a:lnTo>
                      <a:pt x="1486" y="1"/>
                    </a:lnTo>
                    <a:lnTo>
                      <a:pt x="1566" y="0"/>
                    </a:lnTo>
                    <a:lnTo>
                      <a:pt x="1647" y="1"/>
                    </a:lnTo>
                    <a:lnTo>
                      <a:pt x="1727" y="2"/>
                    </a:lnTo>
                    <a:lnTo>
                      <a:pt x="1805" y="5"/>
                    </a:lnTo>
                    <a:lnTo>
                      <a:pt x="1883" y="8"/>
                    </a:lnTo>
                    <a:lnTo>
                      <a:pt x="1958" y="12"/>
                    </a:lnTo>
                    <a:lnTo>
                      <a:pt x="2032" y="18"/>
                    </a:lnTo>
                    <a:lnTo>
                      <a:pt x="2105" y="24"/>
                    </a:lnTo>
                    <a:lnTo>
                      <a:pt x="2176" y="31"/>
                    </a:lnTo>
                    <a:lnTo>
                      <a:pt x="2246" y="39"/>
                    </a:lnTo>
                    <a:lnTo>
                      <a:pt x="2314" y="48"/>
                    </a:lnTo>
                    <a:lnTo>
                      <a:pt x="2379" y="57"/>
                    </a:lnTo>
                    <a:lnTo>
                      <a:pt x="2442" y="68"/>
                    </a:lnTo>
                    <a:lnTo>
                      <a:pt x="2504" y="80"/>
                    </a:lnTo>
                    <a:lnTo>
                      <a:pt x="2563" y="92"/>
                    </a:lnTo>
                    <a:lnTo>
                      <a:pt x="2620" y="104"/>
                    </a:lnTo>
                    <a:lnTo>
                      <a:pt x="2674" y="118"/>
                    </a:lnTo>
                    <a:lnTo>
                      <a:pt x="2726" y="132"/>
                    </a:lnTo>
                    <a:lnTo>
                      <a:pt x="2775" y="147"/>
                    </a:lnTo>
                    <a:lnTo>
                      <a:pt x="2822" y="162"/>
                    </a:lnTo>
                    <a:lnTo>
                      <a:pt x="2865" y="178"/>
                    </a:lnTo>
                    <a:lnTo>
                      <a:pt x="2907" y="196"/>
                    </a:lnTo>
                    <a:lnTo>
                      <a:pt x="2944" y="213"/>
                    </a:lnTo>
                    <a:lnTo>
                      <a:pt x="2978" y="231"/>
                    </a:lnTo>
                    <a:lnTo>
                      <a:pt x="3011" y="249"/>
                    </a:lnTo>
                    <a:lnTo>
                      <a:pt x="3038" y="268"/>
                    </a:lnTo>
                    <a:lnTo>
                      <a:pt x="3063" y="287"/>
                    </a:lnTo>
                    <a:lnTo>
                      <a:pt x="3084" y="308"/>
                    </a:lnTo>
                    <a:lnTo>
                      <a:pt x="3102" y="328"/>
                    </a:lnTo>
                    <a:lnTo>
                      <a:pt x="3116" y="349"/>
                    </a:lnTo>
                    <a:lnTo>
                      <a:pt x="3125" y="370"/>
                    </a:lnTo>
                    <a:lnTo>
                      <a:pt x="3131" y="392"/>
                    </a:lnTo>
                    <a:lnTo>
                      <a:pt x="3133" y="4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975680" y="6507720"/>
                <a:ext cx="344520" cy="101160"/>
              </a:xfrm>
              <a:custGeom>
                <a:avLst/>
                <a:gdLst/>
                <a:ahLst/>
                <a:rect l="l" t="t" r="r" b="b"/>
                <a:pathLst>
                  <a:path w="3131" h="845">
                    <a:moveTo>
                      <a:pt x="3131" y="414"/>
                    </a:moveTo>
                    <a:lnTo>
                      <a:pt x="3129" y="436"/>
                    </a:lnTo>
                    <a:lnTo>
                      <a:pt x="3123" y="458"/>
                    </a:lnTo>
                    <a:lnTo>
                      <a:pt x="3113" y="479"/>
                    </a:lnTo>
                    <a:lnTo>
                      <a:pt x="3100" y="500"/>
                    </a:lnTo>
                    <a:lnTo>
                      <a:pt x="3081" y="522"/>
                    </a:lnTo>
                    <a:lnTo>
                      <a:pt x="3060" y="542"/>
                    </a:lnTo>
                    <a:lnTo>
                      <a:pt x="3036" y="562"/>
                    </a:lnTo>
                    <a:lnTo>
                      <a:pt x="3008" y="581"/>
                    </a:lnTo>
                    <a:lnTo>
                      <a:pt x="2976" y="600"/>
                    </a:lnTo>
                    <a:lnTo>
                      <a:pt x="2942" y="620"/>
                    </a:lnTo>
                    <a:lnTo>
                      <a:pt x="2905" y="637"/>
                    </a:lnTo>
                    <a:lnTo>
                      <a:pt x="2863" y="655"/>
                    </a:lnTo>
                    <a:lnTo>
                      <a:pt x="2820" y="671"/>
                    </a:lnTo>
                    <a:lnTo>
                      <a:pt x="2773" y="688"/>
                    </a:lnTo>
                    <a:lnTo>
                      <a:pt x="2724" y="703"/>
                    </a:lnTo>
                    <a:lnTo>
                      <a:pt x="2672" y="719"/>
                    </a:lnTo>
                    <a:lnTo>
                      <a:pt x="2618" y="733"/>
                    </a:lnTo>
                    <a:lnTo>
                      <a:pt x="2561" y="747"/>
                    </a:lnTo>
                    <a:lnTo>
                      <a:pt x="2502" y="759"/>
                    </a:lnTo>
                    <a:lnTo>
                      <a:pt x="2441" y="771"/>
                    </a:lnTo>
                    <a:lnTo>
                      <a:pt x="2377" y="782"/>
                    </a:lnTo>
                    <a:lnTo>
                      <a:pt x="2312" y="793"/>
                    </a:lnTo>
                    <a:lnTo>
                      <a:pt x="2244" y="802"/>
                    </a:lnTo>
                    <a:lnTo>
                      <a:pt x="2174" y="811"/>
                    </a:lnTo>
                    <a:lnTo>
                      <a:pt x="2104" y="818"/>
                    </a:lnTo>
                    <a:lnTo>
                      <a:pt x="2031" y="826"/>
                    </a:lnTo>
                    <a:lnTo>
                      <a:pt x="1956" y="832"/>
                    </a:lnTo>
                    <a:lnTo>
                      <a:pt x="1881" y="836"/>
                    </a:lnTo>
                    <a:lnTo>
                      <a:pt x="1804" y="840"/>
                    </a:lnTo>
                    <a:lnTo>
                      <a:pt x="1726" y="843"/>
                    </a:lnTo>
                    <a:lnTo>
                      <a:pt x="1646" y="845"/>
                    </a:lnTo>
                    <a:lnTo>
                      <a:pt x="1565" y="845"/>
                    </a:lnTo>
                    <a:lnTo>
                      <a:pt x="1485" y="845"/>
                    </a:lnTo>
                    <a:lnTo>
                      <a:pt x="1406" y="843"/>
                    </a:lnTo>
                    <a:lnTo>
                      <a:pt x="1327" y="840"/>
                    </a:lnTo>
                    <a:lnTo>
                      <a:pt x="1250" y="836"/>
                    </a:lnTo>
                    <a:lnTo>
                      <a:pt x="1175" y="832"/>
                    </a:lnTo>
                    <a:lnTo>
                      <a:pt x="1100" y="826"/>
                    </a:lnTo>
                    <a:lnTo>
                      <a:pt x="1027" y="818"/>
                    </a:lnTo>
                    <a:lnTo>
                      <a:pt x="956" y="811"/>
                    </a:lnTo>
                    <a:lnTo>
                      <a:pt x="887" y="802"/>
                    </a:lnTo>
                    <a:lnTo>
                      <a:pt x="819" y="793"/>
                    </a:lnTo>
                    <a:lnTo>
                      <a:pt x="753" y="782"/>
                    </a:lnTo>
                    <a:lnTo>
                      <a:pt x="690" y="771"/>
                    </a:lnTo>
                    <a:lnTo>
                      <a:pt x="629" y="759"/>
                    </a:lnTo>
                    <a:lnTo>
                      <a:pt x="570" y="747"/>
                    </a:lnTo>
                    <a:lnTo>
                      <a:pt x="513" y="733"/>
                    </a:lnTo>
                    <a:lnTo>
                      <a:pt x="459" y="719"/>
                    </a:lnTo>
                    <a:lnTo>
                      <a:pt x="407" y="703"/>
                    </a:lnTo>
                    <a:lnTo>
                      <a:pt x="358" y="688"/>
                    </a:lnTo>
                    <a:lnTo>
                      <a:pt x="311" y="671"/>
                    </a:lnTo>
                    <a:lnTo>
                      <a:pt x="268" y="655"/>
                    </a:lnTo>
                    <a:lnTo>
                      <a:pt x="226" y="637"/>
                    </a:lnTo>
                    <a:lnTo>
                      <a:pt x="189" y="620"/>
                    </a:lnTo>
                    <a:lnTo>
                      <a:pt x="155" y="600"/>
                    </a:lnTo>
                    <a:lnTo>
                      <a:pt x="123" y="581"/>
                    </a:lnTo>
                    <a:lnTo>
                      <a:pt x="95" y="562"/>
                    </a:lnTo>
                    <a:lnTo>
                      <a:pt x="71" y="542"/>
                    </a:lnTo>
                    <a:lnTo>
                      <a:pt x="50" y="522"/>
                    </a:lnTo>
                    <a:lnTo>
                      <a:pt x="32" y="500"/>
                    </a:lnTo>
                    <a:lnTo>
                      <a:pt x="18" y="479"/>
                    </a:lnTo>
                    <a:lnTo>
                      <a:pt x="8" y="458"/>
                    </a:lnTo>
                    <a:lnTo>
                      <a:pt x="2" y="436"/>
                    </a:lnTo>
                    <a:lnTo>
                      <a:pt x="0" y="414"/>
                    </a:lnTo>
                    <a:lnTo>
                      <a:pt x="2" y="391"/>
                    </a:lnTo>
                    <a:lnTo>
                      <a:pt x="8" y="369"/>
                    </a:lnTo>
                    <a:lnTo>
                      <a:pt x="18" y="348"/>
                    </a:lnTo>
                    <a:lnTo>
                      <a:pt x="32" y="328"/>
                    </a:lnTo>
                    <a:lnTo>
                      <a:pt x="50" y="307"/>
                    </a:lnTo>
                    <a:lnTo>
                      <a:pt x="71" y="286"/>
                    </a:lnTo>
                    <a:lnTo>
                      <a:pt x="95" y="267"/>
                    </a:lnTo>
                    <a:lnTo>
                      <a:pt x="123" y="248"/>
                    </a:lnTo>
                    <a:lnTo>
                      <a:pt x="155" y="230"/>
                    </a:lnTo>
                    <a:lnTo>
                      <a:pt x="189" y="212"/>
                    </a:lnTo>
                    <a:lnTo>
                      <a:pt x="226" y="195"/>
                    </a:lnTo>
                    <a:lnTo>
                      <a:pt x="268" y="177"/>
                    </a:lnTo>
                    <a:lnTo>
                      <a:pt x="311" y="162"/>
                    </a:lnTo>
                    <a:lnTo>
                      <a:pt x="358" y="146"/>
                    </a:lnTo>
                    <a:lnTo>
                      <a:pt x="407" y="131"/>
                    </a:lnTo>
                    <a:lnTo>
                      <a:pt x="459" y="117"/>
                    </a:lnTo>
                    <a:lnTo>
                      <a:pt x="513" y="104"/>
                    </a:lnTo>
                    <a:lnTo>
                      <a:pt x="570" y="92"/>
                    </a:lnTo>
                    <a:lnTo>
                      <a:pt x="629" y="80"/>
                    </a:lnTo>
                    <a:lnTo>
                      <a:pt x="690" y="67"/>
                    </a:lnTo>
                    <a:lnTo>
                      <a:pt x="753" y="57"/>
                    </a:lnTo>
                    <a:lnTo>
                      <a:pt x="819" y="48"/>
                    </a:lnTo>
                    <a:lnTo>
                      <a:pt x="887" y="39"/>
                    </a:lnTo>
                    <a:lnTo>
                      <a:pt x="956" y="31"/>
                    </a:lnTo>
                    <a:lnTo>
                      <a:pt x="1027" y="24"/>
                    </a:lnTo>
                    <a:lnTo>
                      <a:pt x="1100" y="18"/>
                    </a:lnTo>
                    <a:lnTo>
                      <a:pt x="1175" y="12"/>
                    </a:lnTo>
                    <a:lnTo>
                      <a:pt x="1250" y="8"/>
                    </a:lnTo>
                    <a:lnTo>
                      <a:pt x="1327" y="5"/>
                    </a:lnTo>
                    <a:lnTo>
                      <a:pt x="1406" y="2"/>
                    </a:lnTo>
                    <a:lnTo>
                      <a:pt x="1485" y="1"/>
                    </a:lnTo>
                    <a:lnTo>
                      <a:pt x="1565" y="0"/>
                    </a:lnTo>
                    <a:lnTo>
                      <a:pt x="1646" y="1"/>
                    </a:lnTo>
                    <a:lnTo>
                      <a:pt x="1726" y="2"/>
                    </a:lnTo>
                    <a:lnTo>
                      <a:pt x="1804" y="5"/>
                    </a:lnTo>
                    <a:lnTo>
                      <a:pt x="1881" y="8"/>
                    </a:lnTo>
                    <a:lnTo>
                      <a:pt x="1956" y="12"/>
                    </a:lnTo>
                    <a:lnTo>
                      <a:pt x="2031" y="18"/>
                    </a:lnTo>
                    <a:lnTo>
                      <a:pt x="2104" y="24"/>
                    </a:lnTo>
                    <a:lnTo>
                      <a:pt x="2174" y="31"/>
                    </a:lnTo>
                    <a:lnTo>
                      <a:pt x="2244" y="39"/>
                    </a:lnTo>
                    <a:lnTo>
                      <a:pt x="2312" y="48"/>
                    </a:lnTo>
                    <a:lnTo>
                      <a:pt x="2377" y="57"/>
                    </a:lnTo>
                    <a:lnTo>
                      <a:pt x="2441" y="67"/>
                    </a:lnTo>
                    <a:lnTo>
                      <a:pt x="2502" y="80"/>
                    </a:lnTo>
                    <a:lnTo>
                      <a:pt x="2561" y="92"/>
                    </a:lnTo>
                    <a:lnTo>
                      <a:pt x="2618" y="104"/>
                    </a:lnTo>
                    <a:lnTo>
                      <a:pt x="2672" y="117"/>
                    </a:lnTo>
                    <a:lnTo>
                      <a:pt x="2724" y="131"/>
                    </a:lnTo>
                    <a:lnTo>
                      <a:pt x="2773" y="146"/>
                    </a:lnTo>
                    <a:lnTo>
                      <a:pt x="2820" y="162"/>
                    </a:lnTo>
                    <a:lnTo>
                      <a:pt x="2863" y="177"/>
                    </a:lnTo>
                    <a:lnTo>
                      <a:pt x="2905" y="195"/>
                    </a:lnTo>
                    <a:lnTo>
                      <a:pt x="2942" y="212"/>
                    </a:lnTo>
                    <a:lnTo>
                      <a:pt x="2976" y="230"/>
                    </a:lnTo>
                    <a:lnTo>
                      <a:pt x="3008" y="248"/>
                    </a:lnTo>
                    <a:lnTo>
                      <a:pt x="3036" y="267"/>
                    </a:lnTo>
                    <a:lnTo>
                      <a:pt x="3060" y="286"/>
                    </a:lnTo>
                    <a:lnTo>
                      <a:pt x="3081" y="307"/>
                    </a:lnTo>
                    <a:lnTo>
                      <a:pt x="3100" y="328"/>
                    </a:lnTo>
                    <a:lnTo>
                      <a:pt x="3113" y="348"/>
                    </a:lnTo>
                    <a:lnTo>
                      <a:pt x="3123" y="369"/>
                    </a:lnTo>
                    <a:lnTo>
                      <a:pt x="3129" y="391"/>
                    </a:lnTo>
                    <a:lnTo>
                      <a:pt x="3131" y="4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975680" y="6509160"/>
                <a:ext cx="344520" cy="99720"/>
              </a:xfrm>
              <a:custGeom>
                <a:avLst/>
                <a:gdLst/>
                <a:ahLst/>
                <a:rect l="l" t="t" r="r" b="b"/>
                <a:pathLst>
                  <a:path w="3128" h="843">
                    <a:moveTo>
                      <a:pt x="3128" y="413"/>
                    </a:moveTo>
                    <a:lnTo>
                      <a:pt x="3126" y="435"/>
                    </a:lnTo>
                    <a:lnTo>
                      <a:pt x="3120" y="456"/>
                    </a:lnTo>
                    <a:lnTo>
                      <a:pt x="3110" y="478"/>
                    </a:lnTo>
                    <a:lnTo>
                      <a:pt x="3096" y="499"/>
                    </a:lnTo>
                    <a:lnTo>
                      <a:pt x="3078" y="520"/>
                    </a:lnTo>
                    <a:lnTo>
                      <a:pt x="3057" y="541"/>
                    </a:lnTo>
                    <a:lnTo>
                      <a:pt x="3033" y="560"/>
                    </a:lnTo>
                    <a:lnTo>
                      <a:pt x="3005" y="580"/>
                    </a:lnTo>
                    <a:lnTo>
                      <a:pt x="2973" y="599"/>
                    </a:lnTo>
                    <a:lnTo>
                      <a:pt x="2939" y="618"/>
                    </a:lnTo>
                    <a:lnTo>
                      <a:pt x="2901" y="636"/>
                    </a:lnTo>
                    <a:lnTo>
                      <a:pt x="2860" y="653"/>
                    </a:lnTo>
                    <a:lnTo>
                      <a:pt x="2817" y="670"/>
                    </a:lnTo>
                    <a:lnTo>
                      <a:pt x="2770" y="686"/>
                    </a:lnTo>
                    <a:lnTo>
                      <a:pt x="2721" y="702"/>
                    </a:lnTo>
                    <a:lnTo>
                      <a:pt x="2669" y="716"/>
                    </a:lnTo>
                    <a:lnTo>
                      <a:pt x="2615" y="731"/>
                    </a:lnTo>
                    <a:lnTo>
                      <a:pt x="2558" y="745"/>
                    </a:lnTo>
                    <a:lnTo>
                      <a:pt x="2500" y="757"/>
                    </a:lnTo>
                    <a:lnTo>
                      <a:pt x="2438" y="769"/>
                    </a:lnTo>
                    <a:lnTo>
                      <a:pt x="2374" y="780"/>
                    </a:lnTo>
                    <a:lnTo>
                      <a:pt x="2309" y="791"/>
                    </a:lnTo>
                    <a:lnTo>
                      <a:pt x="2241" y="800"/>
                    </a:lnTo>
                    <a:lnTo>
                      <a:pt x="2172" y="809"/>
                    </a:lnTo>
                    <a:lnTo>
                      <a:pt x="2101" y="816"/>
                    </a:lnTo>
                    <a:lnTo>
                      <a:pt x="2029" y="823"/>
                    </a:lnTo>
                    <a:lnTo>
                      <a:pt x="1954" y="830"/>
                    </a:lnTo>
                    <a:lnTo>
                      <a:pt x="1879" y="835"/>
                    </a:lnTo>
                    <a:lnTo>
                      <a:pt x="1802" y="838"/>
                    </a:lnTo>
                    <a:lnTo>
                      <a:pt x="1723" y="841"/>
                    </a:lnTo>
                    <a:lnTo>
                      <a:pt x="1644" y="843"/>
                    </a:lnTo>
                    <a:lnTo>
                      <a:pt x="1563" y="843"/>
                    </a:lnTo>
                    <a:lnTo>
                      <a:pt x="1483" y="843"/>
                    </a:lnTo>
                    <a:lnTo>
                      <a:pt x="1404" y="841"/>
                    </a:lnTo>
                    <a:lnTo>
                      <a:pt x="1325" y="838"/>
                    </a:lnTo>
                    <a:lnTo>
                      <a:pt x="1248" y="835"/>
                    </a:lnTo>
                    <a:lnTo>
                      <a:pt x="1173" y="830"/>
                    </a:lnTo>
                    <a:lnTo>
                      <a:pt x="1099" y="823"/>
                    </a:lnTo>
                    <a:lnTo>
                      <a:pt x="1026" y="816"/>
                    </a:lnTo>
                    <a:lnTo>
                      <a:pt x="954" y="809"/>
                    </a:lnTo>
                    <a:lnTo>
                      <a:pt x="886" y="800"/>
                    </a:lnTo>
                    <a:lnTo>
                      <a:pt x="818" y="791"/>
                    </a:lnTo>
                    <a:lnTo>
                      <a:pt x="752" y="780"/>
                    </a:lnTo>
                    <a:lnTo>
                      <a:pt x="689" y="769"/>
                    </a:lnTo>
                    <a:lnTo>
                      <a:pt x="628" y="757"/>
                    </a:lnTo>
                    <a:lnTo>
                      <a:pt x="569" y="745"/>
                    </a:lnTo>
                    <a:lnTo>
                      <a:pt x="512" y="731"/>
                    </a:lnTo>
                    <a:lnTo>
                      <a:pt x="458" y="716"/>
                    </a:lnTo>
                    <a:lnTo>
                      <a:pt x="406" y="702"/>
                    </a:lnTo>
                    <a:lnTo>
                      <a:pt x="357" y="686"/>
                    </a:lnTo>
                    <a:lnTo>
                      <a:pt x="310" y="670"/>
                    </a:lnTo>
                    <a:lnTo>
                      <a:pt x="267" y="653"/>
                    </a:lnTo>
                    <a:lnTo>
                      <a:pt x="226" y="636"/>
                    </a:lnTo>
                    <a:lnTo>
                      <a:pt x="188" y="618"/>
                    </a:lnTo>
                    <a:lnTo>
                      <a:pt x="154" y="599"/>
                    </a:lnTo>
                    <a:lnTo>
                      <a:pt x="122" y="580"/>
                    </a:lnTo>
                    <a:lnTo>
                      <a:pt x="94" y="560"/>
                    </a:lnTo>
                    <a:lnTo>
                      <a:pt x="70" y="541"/>
                    </a:lnTo>
                    <a:lnTo>
                      <a:pt x="49" y="520"/>
                    </a:lnTo>
                    <a:lnTo>
                      <a:pt x="31" y="499"/>
                    </a:lnTo>
                    <a:lnTo>
                      <a:pt x="17" y="478"/>
                    </a:lnTo>
                    <a:lnTo>
                      <a:pt x="8" y="456"/>
                    </a:lnTo>
                    <a:lnTo>
                      <a:pt x="2" y="435"/>
                    </a:lnTo>
                    <a:lnTo>
                      <a:pt x="0" y="413"/>
                    </a:lnTo>
                    <a:lnTo>
                      <a:pt x="2" y="390"/>
                    </a:lnTo>
                    <a:lnTo>
                      <a:pt x="8" y="368"/>
                    </a:lnTo>
                    <a:lnTo>
                      <a:pt x="17" y="347"/>
                    </a:lnTo>
                    <a:lnTo>
                      <a:pt x="31" y="327"/>
                    </a:lnTo>
                    <a:lnTo>
                      <a:pt x="49" y="306"/>
                    </a:lnTo>
                    <a:lnTo>
                      <a:pt x="70" y="286"/>
                    </a:lnTo>
                    <a:lnTo>
                      <a:pt x="94" y="266"/>
                    </a:lnTo>
                    <a:lnTo>
                      <a:pt x="122" y="248"/>
                    </a:lnTo>
                    <a:lnTo>
                      <a:pt x="154" y="229"/>
                    </a:lnTo>
                    <a:lnTo>
                      <a:pt x="188" y="212"/>
                    </a:lnTo>
                    <a:lnTo>
                      <a:pt x="226" y="195"/>
                    </a:lnTo>
                    <a:lnTo>
                      <a:pt x="267" y="177"/>
                    </a:lnTo>
                    <a:lnTo>
                      <a:pt x="310" y="161"/>
                    </a:lnTo>
                    <a:lnTo>
                      <a:pt x="357" y="146"/>
                    </a:lnTo>
                    <a:lnTo>
                      <a:pt x="406" y="131"/>
                    </a:lnTo>
                    <a:lnTo>
                      <a:pt x="458" y="117"/>
                    </a:lnTo>
                    <a:lnTo>
                      <a:pt x="512" y="104"/>
                    </a:lnTo>
                    <a:lnTo>
                      <a:pt x="569" y="91"/>
                    </a:lnTo>
                    <a:lnTo>
                      <a:pt x="628" y="79"/>
                    </a:lnTo>
                    <a:lnTo>
                      <a:pt x="689" y="67"/>
                    </a:lnTo>
                    <a:lnTo>
                      <a:pt x="752" y="57"/>
                    </a:lnTo>
                    <a:lnTo>
                      <a:pt x="818" y="47"/>
                    </a:lnTo>
                    <a:lnTo>
                      <a:pt x="886" y="39"/>
                    </a:lnTo>
                    <a:lnTo>
                      <a:pt x="954" y="31"/>
                    </a:lnTo>
                    <a:lnTo>
                      <a:pt x="1026" y="24"/>
                    </a:lnTo>
                    <a:lnTo>
                      <a:pt x="1099" y="18"/>
                    </a:lnTo>
                    <a:lnTo>
                      <a:pt x="1173" y="12"/>
                    </a:lnTo>
                    <a:lnTo>
                      <a:pt x="1248" y="8"/>
                    </a:lnTo>
                    <a:lnTo>
                      <a:pt x="1325" y="4"/>
                    </a:lnTo>
                    <a:lnTo>
                      <a:pt x="1404" y="2"/>
                    </a:lnTo>
                    <a:lnTo>
                      <a:pt x="1483" y="0"/>
                    </a:lnTo>
                    <a:lnTo>
                      <a:pt x="1563" y="0"/>
                    </a:lnTo>
                    <a:lnTo>
                      <a:pt x="1644" y="0"/>
                    </a:lnTo>
                    <a:lnTo>
                      <a:pt x="1723" y="2"/>
                    </a:lnTo>
                    <a:lnTo>
                      <a:pt x="1802" y="4"/>
                    </a:lnTo>
                    <a:lnTo>
                      <a:pt x="1879" y="8"/>
                    </a:lnTo>
                    <a:lnTo>
                      <a:pt x="1954" y="12"/>
                    </a:lnTo>
                    <a:lnTo>
                      <a:pt x="2029" y="18"/>
                    </a:lnTo>
                    <a:lnTo>
                      <a:pt x="2101" y="24"/>
                    </a:lnTo>
                    <a:lnTo>
                      <a:pt x="2172" y="31"/>
                    </a:lnTo>
                    <a:lnTo>
                      <a:pt x="2241" y="39"/>
                    </a:lnTo>
                    <a:lnTo>
                      <a:pt x="2309" y="47"/>
                    </a:lnTo>
                    <a:lnTo>
                      <a:pt x="2374" y="57"/>
                    </a:lnTo>
                    <a:lnTo>
                      <a:pt x="2438" y="67"/>
                    </a:lnTo>
                    <a:lnTo>
                      <a:pt x="2500" y="79"/>
                    </a:lnTo>
                    <a:lnTo>
                      <a:pt x="2558" y="91"/>
                    </a:lnTo>
                    <a:lnTo>
                      <a:pt x="2615" y="104"/>
                    </a:lnTo>
                    <a:lnTo>
                      <a:pt x="2669" y="117"/>
                    </a:lnTo>
                    <a:lnTo>
                      <a:pt x="2721" y="131"/>
                    </a:lnTo>
                    <a:lnTo>
                      <a:pt x="2770" y="146"/>
                    </a:lnTo>
                    <a:lnTo>
                      <a:pt x="2817" y="161"/>
                    </a:lnTo>
                    <a:lnTo>
                      <a:pt x="2860" y="177"/>
                    </a:lnTo>
                    <a:lnTo>
                      <a:pt x="2901" y="195"/>
                    </a:lnTo>
                    <a:lnTo>
                      <a:pt x="2939" y="212"/>
                    </a:lnTo>
                    <a:lnTo>
                      <a:pt x="2973" y="229"/>
                    </a:lnTo>
                    <a:lnTo>
                      <a:pt x="3005" y="248"/>
                    </a:lnTo>
                    <a:lnTo>
                      <a:pt x="3033" y="266"/>
                    </a:lnTo>
                    <a:lnTo>
                      <a:pt x="3057" y="286"/>
                    </a:lnTo>
                    <a:lnTo>
                      <a:pt x="3078" y="306"/>
                    </a:lnTo>
                    <a:lnTo>
                      <a:pt x="3096" y="327"/>
                    </a:lnTo>
                    <a:lnTo>
                      <a:pt x="3110" y="347"/>
                    </a:lnTo>
                    <a:lnTo>
                      <a:pt x="3120" y="368"/>
                    </a:lnTo>
                    <a:lnTo>
                      <a:pt x="3126" y="390"/>
                    </a:lnTo>
                    <a:lnTo>
                      <a:pt x="3128" y="4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975680" y="6509160"/>
                <a:ext cx="344520" cy="99720"/>
              </a:xfrm>
              <a:custGeom>
                <a:avLst/>
                <a:gdLst/>
                <a:ahLst/>
                <a:rect l="l" t="t" r="r" b="b"/>
                <a:pathLst>
                  <a:path w="3125" h="841">
                    <a:moveTo>
                      <a:pt x="3125" y="412"/>
                    </a:moveTo>
                    <a:lnTo>
                      <a:pt x="3123" y="434"/>
                    </a:lnTo>
                    <a:lnTo>
                      <a:pt x="3117" y="455"/>
                    </a:lnTo>
                    <a:lnTo>
                      <a:pt x="3107" y="477"/>
                    </a:lnTo>
                    <a:lnTo>
                      <a:pt x="3094" y="498"/>
                    </a:lnTo>
                    <a:lnTo>
                      <a:pt x="3075" y="519"/>
                    </a:lnTo>
                    <a:lnTo>
                      <a:pt x="3055" y="539"/>
                    </a:lnTo>
                    <a:lnTo>
                      <a:pt x="3030" y="559"/>
                    </a:lnTo>
                    <a:lnTo>
                      <a:pt x="3003" y="578"/>
                    </a:lnTo>
                    <a:lnTo>
                      <a:pt x="2971" y="597"/>
                    </a:lnTo>
                    <a:lnTo>
                      <a:pt x="2936" y="617"/>
                    </a:lnTo>
                    <a:lnTo>
                      <a:pt x="2899" y="634"/>
                    </a:lnTo>
                    <a:lnTo>
                      <a:pt x="2858" y="652"/>
                    </a:lnTo>
                    <a:lnTo>
                      <a:pt x="2815" y="668"/>
                    </a:lnTo>
                    <a:lnTo>
                      <a:pt x="2768" y="684"/>
                    </a:lnTo>
                    <a:lnTo>
                      <a:pt x="2719" y="700"/>
                    </a:lnTo>
                    <a:lnTo>
                      <a:pt x="2667" y="715"/>
                    </a:lnTo>
                    <a:lnTo>
                      <a:pt x="2613" y="730"/>
                    </a:lnTo>
                    <a:lnTo>
                      <a:pt x="2556" y="743"/>
                    </a:lnTo>
                    <a:lnTo>
                      <a:pt x="2498" y="756"/>
                    </a:lnTo>
                    <a:lnTo>
                      <a:pt x="2436" y="768"/>
                    </a:lnTo>
                    <a:lnTo>
                      <a:pt x="2372" y="779"/>
                    </a:lnTo>
                    <a:lnTo>
                      <a:pt x="2308" y="789"/>
                    </a:lnTo>
                    <a:lnTo>
                      <a:pt x="2240" y="798"/>
                    </a:lnTo>
                    <a:lnTo>
                      <a:pt x="2170" y="807"/>
                    </a:lnTo>
                    <a:lnTo>
                      <a:pt x="2100" y="814"/>
                    </a:lnTo>
                    <a:lnTo>
                      <a:pt x="2027" y="821"/>
                    </a:lnTo>
                    <a:lnTo>
                      <a:pt x="1953" y="828"/>
                    </a:lnTo>
                    <a:lnTo>
                      <a:pt x="1878" y="833"/>
                    </a:lnTo>
                    <a:lnTo>
                      <a:pt x="1801" y="836"/>
                    </a:lnTo>
                    <a:lnTo>
                      <a:pt x="1722" y="839"/>
                    </a:lnTo>
                    <a:lnTo>
                      <a:pt x="1643" y="841"/>
                    </a:lnTo>
                    <a:lnTo>
                      <a:pt x="1562" y="841"/>
                    </a:lnTo>
                    <a:lnTo>
                      <a:pt x="1482" y="841"/>
                    </a:lnTo>
                    <a:lnTo>
                      <a:pt x="1403" y="839"/>
                    </a:lnTo>
                    <a:lnTo>
                      <a:pt x="1324" y="836"/>
                    </a:lnTo>
                    <a:lnTo>
                      <a:pt x="1247" y="833"/>
                    </a:lnTo>
                    <a:lnTo>
                      <a:pt x="1172" y="828"/>
                    </a:lnTo>
                    <a:lnTo>
                      <a:pt x="1098" y="821"/>
                    </a:lnTo>
                    <a:lnTo>
                      <a:pt x="1025" y="814"/>
                    </a:lnTo>
                    <a:lnTo>
                      <a:pt x="954" y="807"/>
                    </a:lnTo>
                    <a:lnTo>
                      <a:pt x="885" y="798"/>
                    </a:lnTo>
                    <a:lnTo>
                      <a:pt x="818" y="789"/>
                    </a:lnTo>
                    <a:lnTo>
                      <a:pt x="752" y="779"/>
                    </a:lnTo>
                    <a:lnTo>
                      <a:pt x="689" y="768"/>
                    </a:lnTo>
                    <a:lnTo>
                      <a:pt x="627" y="756"/>
                    </a:lnTo>
                    <a:lnTo>
                      <a:pt x="569" y="743"/>
                    </a:lnTo>
                    <a:lnTo>
                      <a:pt x="512" y="730"/>
                    </a:lnTo>
                    <a:lnTo>
                      <a:pt x="458" y="715"/>
                    </a:lnTo>
                    <a:lnTo>
                      <a:pt x="406" y="700"/>
                    </a:lnTo>
                    <a:lnTo>
                      <a:pt x="357" y="684"/>
                    </a:lnTo>
                    <a:lnTo>
                      <a:pt x="310" y="668"/>
                    </a:lnTo>
                    <a:lnTo>
                      <a:pt x="267" y="652"/>
                    </a:lnTo>
                    <a:lnTo>
                      <a:pt x="226" y="634"/>
                    </a:lnTo>
                    <a:lnTo>
                      <a:pt x="189" y="617"/>
                    </a:lnTo>
                    <a:lnTo>
                      <a:pt x="155" y="597"/>
                    </a:lnTo>
                    <a:lnTo>
                      <a:pt x="123" y="578"/>
                    </a:lnTo>
                    <a:lnTo>
                      <a:pt x="95" y="559"/>
                    </a:lnTo>
                    <a:lnTo>
                      <a:pt x="71" y="539"/>
                    </a:lnTo>
                    <a:lnTo>
                      <a:pt x="50" y="519"/>
                    </a:lnTo>
                    <a:lnTo>
                      <a:pt x="31" y="498"/>
                    </a:lnTo>
                    <a:lnTo>
                      <a:pt x="18" y="477"/>
                    </a:lnTo>
                    <a:lnTo>
                      <a:pt x="8" y="455"/>
                    </a:lnTo>
                    <a:lnTo>
                      <a:pt x="2" y="434"/>
                    </a:lnTo>
                    <a:lnTo>
                      <a:pt x="0" y="412"/>
                    </a:lnTo>
                    <a:lnTo>
                      <a:pt x="2" y="389"/>
                    </a:lnTo>
                    <a:lnTo>
                      <a:pt x="8" y="368"/>
                    </a:lnTo>
                    <a:lnTo>
                      <a:pt x="18" y="347"/>
                    </a:lnTo>
                    <a:lnTo>
                      <a:pt x="31" y="326"/>
                    </a:lnTo>
                    <a:lnTo>
                      <a:pt x="50" y="306"/>
                    </a:lnTo>
                    <a:lnTo>
                      <a:pt x="71" y="285"/>
                    </a:lnTo>
                    <a:lnTo>
                      <a:pt x="95" y="266"/>
                    </a:lnTo>
                    <a:lnTo>
                      <a:pt x="123" y="247"/>
                    </a:lnTo>
                    <a:lnTo>
                      <a:pt x="155" y="229"/>
                    </a:lnTo>
                    <a:lnTo>
                      <a:pt x="189" y="211"/>
                    </a:lnTo>
                    <a:lnTo>
                      <a:pt x="226" y="194"/>
                    </a:lnTo>
                    <a:lnTo>
                      <a:pt x="267" y="177"/>
                    </a:lnTo>
                    <a:lnTo>
                      <a:pt x="310" y="161"/>
                    </a:lnTo>
                    <a:lnTo>
                      <a:pt x="357" y="145"/>
                    </a:lnTo>
                    <a:lnTo>
                      <a:pt x="406" y="131"/>
                    </a:lnTo>
                    <a:lnTo>
                      <a:pt x="458" y="117"/>
                    </a:lnTo>
                    <a:lnTo>
                      <a:pt x="512" y="104"/>
                    </a:lnTo>
                    <a:lnTo>
                      <a:pt x="569" y="91"/>
                    </a:lnTo>
                    <a:lnTo>
                      <a:pt x="627" y="79"/>
                    </a:lnTo>
                    <a:lnTo>
                      <a:pt x="689" y="67"/>
                    </a:lnTo>
                    <a:lnTo>
                      <a:pt x="752" y="57"/>
                    </a:lnTo>
                    <a:lnTo>
                      <a:pt x="818" y="47"/>
                    </a:lnTo>
                    <a:lnTo>
                      <a:pt x="885" y="39"/>
                    </a:lnTo>
                    <a:lnTo>
                      <a:pt x="954" y="31"/>
                    </a:lnTo>
                    <a:lnTo>
                      <a:pt x="1025" y="24"/>
                    </a:lnTo>
                    <a:lnTo>
                      <a:pt x="1098" y="17"/>
                    </a:lnTo>
                    <a:lnTo>
                      <a:pt x="1172" y="12"/>
                    </a:lnTo>
                    <a:lnTo>
                      <a:pt x="1247" y="8"/>
                    </a:lnTo>
                    <a:lnTo>
                      <a:pt x="1324" y="4"/>
                    </a:lnTo>
                    <a:lnTo>
                      <a:pt x="1403" y="2"/>
                    </a:lnTo>
                    <a:lnTo>
                      <a:pt x="1482" y="0"/>
                    </a:lnTo>
                    <a:lnTo>
                      <a:pt x="1562" y="0"/>
                    </a:lnTo>
                    <a:lnTo>
                      <a:pt x="1643" y="0"/>
                    </a:lnTo>
                    <a:lnTo>
                      <a:pt x="1722" y="2"/>
                    </a:lnTo>
                    <a:lnTo>
                      <a:pt x="1801" y="4"/>
                    </a:lnTo>
                    <a:lnTo>
                      <a:pt x="1878" y="8"/>
                    </a:lnTo>
                    <a:lnTo>
                      <a:pt x="1953" y="12"/>
                    </a:lnTo>
                    <a:lnTo>
                      <a:pt x="2027" y="17"/>
                    </a:lnTo>
                    <a:lnTo>
                      <a:pt x="2100" y="24"/>
                    </a:lnTo>
                    <a:lnTo>
                      <a:pt x="2170" y="31"/>
                    </a:lnTo>
                    <a:lnTo>
                      <a:pt x="2240" y="39"/>
                    </a:lnTo>
                    <a:lnTo>
                      <a:pt x="2308" y="47"/>
                    </a:lnTo>
                    <a:lnTo>
                      <a:pt x="2372" y="57"/>
                    </a:lnTo>
                    <a:lnTo>
                      <a:pt x="2436" y="67"/>
                    </a:lnTo>
                    <a:lnTo>
                      <a:pt x="2498" y="79"/>
                    </a:lnTo>
                    <a:lnTo>
                      <a:pt x="2556" y="91"/>
                    </a:lnTo>
                    <a:lnTo>
                      <a:pt x="2613" y="104"/>
                    </a:lnTo>
                    <a:lnTo>
                      <a:pt x="2667" y="117"/>
                    </a:lnTo>
                    <a:lnTo>
                      <a:pt x="2719" y="131"/>
                    </a:lnTo>
                    <a:lnTo>
                      <a:pt x="2768" y="145"/>
                    </a:lnTo>
                    <a:lnTo>
                      <a:pt x="2815" y="161"/>
                    </a:lnTo>
                    <a:lnTo>
                      <a:pt x="2858" y="177"/>
                    </a:lnTo>
                    <a:lnTo>
                      <a:pt x="2899" y="194"/>
                    </a:lnTo>
                    <a:lnTo>
                      <a:pt x="2936" y="211"/>
                    </a:lnTo>
                    <a:lnTo>
                      <a:pt x="2971" y="229"/>
                    </a:lnTo>
                    <a:lnTo>
                      <a:pt x="3003" y="247"/>
                    </a:lnTo>
                    <a:lnTo>
                      <a:pt x="3030" y="266"/>
                    </a:lnTo>
                    <a:lnTo>
                      <a:pt x="3055" y="285"/>
                    </a:lnTo>
                    <a:lnTo>
                      <a:pt x="3075" y="306"/>
                    </a:lnTo>
                    <a:lnTo>
                      <a:pt x="3094" y="326"/>
                    </a:lnTo>
                    <a:lnTo>
                      <a:pt x="3107" y="347"/>
                    </a:lnTo>
                    <a:lnTo>
                      <a:pt x="3117" y="368"/>
                    </a:lnTo>
                    <a:lnTo>
                      <a:pt x="3123" y="389"/>
                    </a:lnTo>
                    <a:lnTo>
                      <a:pt x="3125" y="4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975680" y="6509160"/>
                <a:ext cx="344520" cy="99720"/>
              </a:xfrm>
              <a:custGeom>
                <a:avLst/>
                <a:gdLst/>
                <a:ahLst/>
                <a:rect l="l" t="t" r="r" b="b"/>
                <a:pathLst>
                  <a:path w="3123" h="839">
                    <a:moveTo>
                      <a:pt x="3123" y="411"/>
                    </a:moveTo>
                    <a:lnTo>
                      <a:pt x="3121" y="433"/>
                    </a:lnTo>
                    <a:lnTo>
                      <a:pt x="3115" y="454"/>
                    </a:lnTo>
                    <a:lnTo>
                      <a:pt x="3105" y="476"/>
                    </a:lnTo>
                    <a:lnTo>
                      <a:pt x="3091" y="496"/>
                    </a:lnTo>
                    <a:lnTo>
                      <a:pt x="3073" y="518"/>
                    </a:lnTo>
                    <a:lnTo>
                      <a:pt x="3052" y="538"/>
                    </a:lnTo>
                    <a:lnTo>
                      <a:pt x="3028" y="558"/>
                    </a:lnTo>
                    <a:lnTo>
                      <a:pt x="3000" y="577"/>
                    </a:lnTo>
                    <a:lnTo>
                      <a:pt x="2968" y="596"/>
                    </a:lnTo>
                    <a:lnTo>
                      <a:pt x="2934" y="615"/>
                    </a:lnTo>
                    <a:lnTo>
                      <a:pt x="2897" y="633"/>
                    </a:lnTo>
                    <a:lnTo>
                      <a:pt x="2856" y="650"/>
                    </a:lnTo>
                    <a:lnTo>
                      <a:pt x="2813" y="667"/>
                    </a:lnTo>
                    <a:lnTo>
                      <a:pt x="2766" y="683"/>
                    </a:lnTo>
                    <a:lnTo>
                      <a:pt x="2717" y="698"/>
                    </a:lnTo>
                    <a:lnTo>
                      <a:pt x="2665" y="713"/>
                    </a:lnTo>
                    <a:lnTo>
                      <a:pt x="2611" y="728"/>
                    </a:lnTo>
                    <a:lnTo>
                      <a:pt x="2554" y="741"/>
                    </a:lnTo>
                    <a:lnTo>
                      <a:pt x="2496" y="754"/>
                    </a:lnTo>
                    <a:lnTo>
                      <a:pt x="2434" y="766"/>
                    </a:lnTo>
                    <a:lnTo>
                      <a:pt x="2371" y="777"/>
                    </a:lnTo>
                    <a:lnTo>
                      <a:pt x="2306" y="787"/>
                    </a:lnTo>
                    <a:lnTo>
                      <a:pt x="2238" y="796"/>
                    </a:lnTo>
                    <a:lnTo>
                      <a:pt x="2169" y="805"/>
                    </a:lnTo>
                    <a:lnTo>
                      <a:pt x="2099" y="813"/>
                    </a:lnTo>
                    <a:lnTo>
                      <a:pt x="2026" y="819"/>
                    </a:lnTo>
                    <a:lnTo>
                      <a:pt x="1951" y="826"/>
                    </a:lnTo>
                    <a:lnTo>
                      <a:pt x="1877" y="831"/>
                    </a:lnTo>
                    <a:lnTo>
                      <a:pt x="1799" y="834"/>
                    </a:lnTo>
                    <a:lnTo>
                      <a:pt x="1721" y="837"/>
                    </a:lnTo>
                    <a:lnTo>
                      <a:pt x="1642" y="839"/>
                    </a:lnTo>
                    <a:lnTo>
                      <a:pt x="1561" y="839"/>
                    </a:lnTo>
                    <a:lnTo>
                      <a:pt x="1482" y="839"/>
                    </a:lnTo>
                    <a:lnTo>
                      <a:pt x="1402" y="837"/>
                    </a:lnTo>
                    <a:lnTo>
                      <a:pt x="1324" y="834"/>
                    </a:lnTo>
                    <a:lnTo>
                      <a:pt x="1247" y="831"/>
                    </a:lnTo>
                    <a:lnTo>
                      <a:pt x="1172" y="826"/>
                    </a:lnTo>
                    <a:lnTo>
                      <a:pt x="1097" y="819"/>
                    </a:lnTo>
                    <a:lnTo>
                      <a:pt x="1025" y="813"/>
                    </a:lnTo>
                    <a:lnTo>
                      <a:pt x="953" y="805"/>
                    </a:lnTo>
                    <a:lnTo>
                      <a:pt x="885" y="796"/>
                    </a:lnTo>
                    <a:lnTo>
                      <a:pt x="817" y="787"/>
                    </a:lnTo>
                    <a:lnTo>
                      <a:pt x="753" y="777"/>
                    </a:lnTo>
                    <a:lnTo>
                      <a:pt x="689" y="766"/>
                    </a:lnTo>
                    <a:lnTo>
                      <a:pt x="627" y="754"/>
                    </a:lnTo>
                    <a:lnTo>
                      <a:pt x="569" y="741"/>
                    </a:lnTo>
                    <a:lnTo>
                      <a:pt x="512" y="728"/>
                    </a:lnTo>
                    <a:lnTo>
                      <a:pt x="458" y="713"/>
                    </a:lnTo>
                    <a:lnTo>
                      <a:pt x="406" y="698"/>
                    </a:lnTo>
                    <a:lnTo>
                      <a:pt x="357" y="683"/>
                    </a:lnTo>
                    <a:lnTo>
                      <a:pt x="310" y="667"/>
                    </a:lnTo>
                    <a:lnTo>
                      <a:pt x="267" y="650"/>
                    </a:lnTo>
                    <a:lnTo>
                      <a:pt x="226" y="633"/>
                    </a:lnTo>
                    <a:lnTo>
                      <a:pt x="189" y="615"/>
                    </a:lnTo>
                    <a:lnTo>
                      <a:pt x="155" y="596"/>
                    </a:lnTo>
                    <a:lnTo>
                      <a:pt x="123" y="577"/>
                    </a:lnTo>
                    <a:lnTo>
                      <a:pt x="95" y="558"/>
                    </a:lnTo>
                    <a:lnTo>
                      <a:pt x="71" y="538"/>
                    </a:lnTo>
                    <a:lnTo>
                      <a:pt x="50" y="518"/>
                    </a:lnTo>
                    <a:lnTo>
                      <a:pt x="32" y="496"/>
                    </a:lnTo>
                    <a:lnTo>
                      <a:pt x="18" y="476"/>
                    </a:lnTo>
                    <a:lnTo>
                      <a:pt x="8" y="454"/>
                    </a:lnTo>
                    <a:lnTo>
                      <a:pt x="2" y="433"/>
                    </a:lnTo>
                    <a:lnTo>
                      <a:pt x="0" y="411"/>
                    </a:lnTo>
                    <a:lnTo>
                      <a:pt x="2" y="388"/>
                    </a:lnTo>
                    <a:lnTo>
                      <a:pt x="8" y="367"/>
                    </a:lnTo>
                    <a:lnTo>
                      <a:pt x="18" y="346"/>
                    </a:lnTo>
                    <a:lnTo>
                      <a:pt x="32" y="325"/>
                    </a:lnTo>
                    <a:lnTo>
                      <a:pt x="50" y="305"/>
                    </a:lnTo>
                    <a:lnTo>
                      <a:pt x="71" y="284"/>
                    </a:lnTo>
                    <a:lnTo>
                      <a:pt x="95" y="265"/>
                    </a:lnTo>
                    <a:lnTo>
                      <a:pt x="123" y="246"/>
                    </a:lnTo>
                    <a:lnTo>
                      <a:pt x="155" y="228"/>
                    </a:lnTo>
                    <a:lnTo>
                      <a:pt x="189" y="211"/>
                    </a:lnTo>
                    <a:lnTo>
                      <a:pt x="226" y="194"/>
                    </a:lnTo>
                    <a:lnTo>
                      <a:pt x="267" y="176"/>
                    </a:lnTo>
                    <a:lnTo>
                      <a:pt x="310" y="160"/>
                    </a:lnTo>
                    <a:lnTo>
                      <a:pt x="357" y="145"/>
                    </a:lnTo>
                    <a:lnTo>
                      <a:pt x="406" y="130"/>
                    </a:lnTo>
                    <a:lnTo>
                      <a:pt x="458" y="116"/>
                    </a:lnTo>
                    <a:lnTo>
                      <a:pt x="512" y="103"/>
                    </a:lnTo>
                    <a:lnTo>
                      <a:pt x="569" y="91"/>
                    </a:lnTo>
                    <a:lnTo>
                      <a:pt x="627" y="79"/>
                    </a:lnTo>
                    <a:lnTo>
                      <a:pt x="689" y="67"/>
                    </a:lnTo>
                    <a:lnTo>
                      <a:pt x="753" y="57"/>
                    </a:lnTo>
                    <a:lnTo>
                      <a:pt x="817" y="47"/>
                    </a:lnTo>
                    <a:lnTo>
                      <a:pt x="885" y="38"/>
                    </a:lnTo>
                    <a:lnTo>
                      <a:pt x="953" y="30"/>
                    </a:lnTo>
                    <a:lnTo>
                      <a:pt x="1025" y="23"/>
                    </a:lnTo>
                    <a:lnTo>
                      <a:pt x="1097" y="17"/>
                    </a:lnTo>
                    <a:lnTo>
                      <a:pt x="1172" y="12"/>
                    </a:lnTo>
                    <a:lnTo>
                      <a:pt x="1247" y="8"/>
                    </a:lnTo>
                    <a:lnTo>
                      <a:pt x="1324" y="4"/>
                    </a:lnTo>
                    <a:lnTo>
                      <a:pt x="1402" y="2"/>
                    </a:lnTo>
                    <a:lnTo>
                      <a:pt x="1482" y="0"/>
                    </a:lnTo>
                    <a:lnTo>
                      <a:pt x="1561" y="0"/>
                    </a:lnTo>
                    <a:lnTo>
                      <a:pt x="1642" y="0"/>
                    </a:lnTo>
                    <a:lnTo>
                      <a:pt x="1721" y="2"/>
                    </a:lnTo>
                    <a:lnTo>
                      <a:pt x="1799" y="4"/>
                    </a:lnTo>
                    <a:lnTo>
                      <a:pt x="1877" y="8"/>
                    </a:lnTo>
                    <a:lnTo>
                      <a:pt x="1951" y="12"/>
                    </a:lnTo>
                    <a:lnTo>
                      <a:pt x="2026" y="17"/>
                    </a:lnTo>
                    <a:lnTo>
                      <a:pt x="2099" y="23"/>
                    </a:lnTo>
                    <a:lnTo>
                      <a:pt x="2169" y="30"/>
                    </a:lnTo>
                    <a:lnTo>
                      <a:pt x="2238" y="38"/>
                    </a:lnTo>
                    <a:lnTo>
                      <a:pt x="2306" y="47"/>
                    </a:lnTo>
                    <a:lnTo>
                      <a:pt x="2371" y="57"/>
                    </a:lnTo>
                    <a:lnTo>
                      <a:pt x="2434" y="67"/>
                    </a:lnTo>
                    <a:lnTo>
                      <a:pt x="2496" y="79"/>
                    </a:lnTo>
                    <a:lnTo>
                      <a:pt x="2554" y="91"/>
                    </a:lnTo>
                    <a:lnTo>
                      <a:pt x="2611" y="103"/>
                    </a:lnTo>
                    <a:lnTo>
                      <a:pt x="2665" y="116"/>
                    </a:lnTo>
                    <a:lnTo>
                      <a:pt x="2717" y="130"/>
                    </a:lnTo>
                    <a:lnTo>
                      <a:pt x="2766" y="145"/>
                    </a:lnTo>
                    <a:lnTo>
                      <a:pt x="2813" y="160"/>
                    </a:lnTo>
                    <a:lnTo>
                      <a:pt x="2856" y="176"/>
                    </a:lnTo>
                    <a:lnTo>
                      <a:pt x="2897" y="194"/>
                    </a:lnTo>
                    <a:lnTo>
                      <a:pt x="2934" y="211"/>
                    </a:lnTo>
                    <a:lnTo>
                      <a:pt x="2968" y="228"/>
                    </a:lnTo>
                    <a:lnTo>
                      <a:pt x="3000" y="246"/>
                    </a:lnTo>
                    <a:lnTo>
                      <a:pt x="3028" y="265"/>
                    </a:lnTo>
                    <a:lnTo>
                      <a:pt x="3052" y="284"/>
                    </a:lnTo>
                    <a:lnTo>
                      <a:pt x="3073" y="305"/>
                    </a:lnTo>
                    <a:lnTo>
                      <a:pt x="3091" y="325"/>
                    </a:lnTo>
                    <a:lnTo>
                      <a:pt x="3105" y="346"/>
                    </a:lnTo>
                    <a:lnTo>
                      <a:pt x="3115" y="367"/>
                    </a:lnTo>
                    <a:lnTo>
                      <a:pt x="3121" y="388"/>
                    </a:lnTo>
                    <a:lnTo>
                      <a:pt x="3123" y="4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975680" y="6509160"/>
                <a:ext cx="344520" cy="99720"/>
              </a:xfrm>
              <a:custGeom>
                <a:avLst/>
                <a:gdLst/>
                <a:ahLst/>
                <a:rect l="l" t="t" r="r" b="b"/>
                <a:pathLst>
                  <a:path w="3119" h="837">
                    <a:moveTo>
                      <a:pt x="3119" y="410"/>
                    </a:moveTo>
                    <a:lnTo>
                      <a:pt x="3117" y="432"/>
                    </a:lnTo>
                    <a:lnTo>
                      <a:pt x="3111" y="453"/>
                    </a:lnTo>
                    <a:lnTo>
                      <a:pt x="3102" y="474"/>
                    </a:lnTo>
                    <a:lnTo>
                      <a:pt x="3087" y="495"/>
                    </a:lnTo>
                    <a:lnTo>
                      <a:pt x="3070" y="517"/>
                    </a:lnTo>
                    <a:lnTo>
                      <a:pt x="3049" y="537"/>
                    </a:lnTo>
                    <a:lnTo>
                      <a:pt x="3025" y="557"/>
                    </a:lnTo>
                    <a:lnTo>
                      <a:pt x="2997" y="576"/>
                    </a:lnTo>
                    <a:lnTo>
                      <a:pt x="2965" y="595"/>
                    </a:lnTo>
                    <a:lnTo>
                      <a:pt x="2931" y="614"/>
                    </a:lnTo>
                    <a:lnTo>
                      <a:pt x="2894" y="632"/>
                    </a:lnTo>
                    <a:lnTo>
                      <a:pt x="2853" y="649"/>
                    </a:lnTo>
                    <a:lnTo>
                      <a:pt x="2810" y="665"/>
                    </a:lnTo>
                    <a:lnTo>
                      <a:pt x="2763" y="681"/>
                    </a:lnTo>
                    <a:lnTo>
                      <a:pt x="2714" y="697"/>
                    </a:lnTo>
                    <a:lnTo>
                      <a:pt x="2662" y="711"/>
                    </a:lnTo>
                    <a:lnTo>
                      <a:pt x="2608" y="726"/>
                    </a:lnTo>
                    <a:lnTo>
                      <a:pt x="2551" y="740"/>
                    </a:lnTo>
                    <a:lnTo>
                      <a:pt x="2493" y="752"/>
                    </a:lnTo>
                    <a:lnTo>
                      <a:pt x="2431" y="764"/>
                    </a:lnTo>
                    <a:lnTo>
                      <a:pt x="2368" y="775"/>
                    </a:lnTo>
                    <a:lnTo>
                      <a:pt x="2303" y="785"/>
                    </a:lnTo>
                    <a:lnTo>
                      <a:pt x="2236" y="795"/>
                    </a:lnTo>
                    <a:lnTo>
                      <a:pt x="2166" y="803"/>
                    </a:lnTo>
                    <a:lnTo>
                      <a:pt x="2096" y="811"/>
                    </a:lnTo>
                    <a:lnTo>
                      <a:pt x="2023" y="817"/>
                    </a:lnTo>
                    <a:lnTo>
                      <a:pt x="1949" y="824"/>
                    </a:lnTo>
                    <a:lnTo>
                      <a:pt x="1874" y="829"/>
                    </a:lnTo>
                    <a:lnTo>
                      <a:pt x="1797" y="833"/>
                    </a:lnTo>
                    <a:lnTo>
                      <a:pt x="1719" y="835"/>
                    </a:lnTo>
                    <a:lnTo>
                      <a:pt x="1640" y="837"/>
                    </a:lnTo>
                    <a:lnTo>
                      <a:pt x="1559" y="837"/>
                    </a:lnTo>
                    <a:lnTo>
                      <a:pt x="1480" y="837"/>
                    </a:lnTo>
                    <a:lnTo>
                      <a:pt x="1400" y="835"/>
                    </a:lnTo>
                    <a:lnTo>
                      <a:pt x="1322" y="833"/>
                    </a:lnTo>
                    <a:lnTo>
                      <a:pt x="1245" y="829"/>
                    </a:lnTo>
                    <a:lnTo>
                      <a:pt x="1170" y="824"/>
                    </a:lnTo>
                    <a:lnTo>
                      <a:pt x="1096" y="817"/>
                    </a:lnTo>
                    <a:lnTo>
                      <a:pt x="1023" y="811"/>
                    </a:lnTo>
                    <a:lnTo>
                      <a:pt x="952" y="803"/>
                    </a:lnTo>
                    <a:lnTo>
                      <a:pt x="884" y="795"/>
                    </a:lnTo>
                    <a:lnTo>
                      <a:pt x="816" y="785"/>
                    </a:lnTo>
                    <a:lnTo>
                      <a:pt x="751" y="775"/>
                    </a:lnTo>
                    <a:lnTo>
                      <a:pt x="688" y="764"/>
                    </a:lnTo>
                    <a:lnTo>
                      <a:pt x="626" y="752"/>
                    </a:lnTo>
                    <a:lnTo>
                      <a:pt x="568" y="740"/>
                    </a:lnTo>
                    <a:lnTo>
                      <a:pt x="511" y="726"/>
                    </a:lnTo>
                    <a:lnTo>
                      <a:pt x="457" y="711"/>
                    </a:lnTo>
                    <a:lnTo>
                      <a:pt x="405" y="697"/>
                    </a:lnTo>
                    <a:lnTo>
                      <a:pt x="356" y="681"/>
                    </a:lnTo>
                    <a:lnTo>
                      <a:pt x="310" y="665"/>
                    </a:lnTo>
                    <a:lnTo>
                      <a:pt x="267" y="649"/>
                    </a:lnTo>
                    <a:lnTo>
                      <a:pt x="225" y="632"/>
                    </a:lnTo>
                    <a:lnTo>
                      <a:pt x="188" y="614"/>
                    </a:lnTo>
                    <a:lnTo>
                      <a:pt x="154" y="595"/>
                    </a:lnTo>
                    <a:lnTo>
                      <a:pt x="122" y="576"/>
                    </a:lnTo>
                    <a:lnTo>
                      <a:pt x="94" y="557"/>
                    </a:lnTo>
                    <a:lnTo>
                      <a:pt x="70" y="537"/>
                    </a:lnTo>
                    <a:lnTo>
                      <a:pt x="49" y="517"/>
                    </a:lnTo>
                    <a:lnTo>
                      <a:pt x="31" y="495"/>
                    </a:lnTo>
                    <a:lnTo>
                      <a:pt x="18" y="474"/>
                    </a:lnTo>
                    <a:lnTo>
                      <a:pt x="8" y="453"/>
                    </a:lnTo>
                    <a:lnTo>
                      <a:pt x="2" y="432"/>
                    </a:lnTo>
                    <a:lnTo>
                      <a:pt x="0" y="410"/>
                    </a:lnTo>
                    <a:lnTo>
                      <a:pt x="2" y="387"/>
                    </a:lnTo>
                    <a:lnTo>
                      <a:pt x="8" y="366"/>
                    </a:lnTo>
                    <a:lnTo>
                      <a:pt x="18" y="345"/>
                    </a:lnTo>
                    <a:lnTo>
                      <a:pt x="31" y="324"/>
                    </a:lnTo>
                    <a:lnTo>
                      <a:pt x="49" y="304"/>
                    </a:lnTo>
                    <a:lnTo>
                      <a:pt x="70" y="284"/>
                    </a:lnTo>
                    <a:lnTo>
                      <a:pt x="94" y="264"/>
                    </a:lnTo>
                    <a:lnTo>
                      <a:pt x="122" y="246"/>
                    </a:lnTo>
                    <a:lnTo>
                      <a:pt x="154" y="228"/>
                    </a:lnTo>
                    <a:lnTo>
                      <a:pt x="188" y="210"/>
                    </a:lnTo>
                    <a:lnTo>
                      <a:pt x="225" y="193"/>
                    </a:lnTo>
                    <a:lnTo>
                      <a:pt x="267" y="176"/>
                    </a:lnTo>
                    <a:lnTo>
                      <a:pt x="310" y="160"/>
                    </a:lnTo>
                    <a:lnTo>
                      <a:pt x="356" y="145"/>
                    </a:lnTo>
                    <a:lnTo>
                      <a:pt x="405" y="130"/>
                    </a:lnTo>
                    <a:lnTo>
                      <a:pt x="457" y="116"/>
                    </a:lnTo>
                    <a:lnTo>
                      <a:pt x="511" y="103"/>
                    </a:lnTo>
                    <a:lnTo>
                      <a:pt x="568" y="90"/>
                    </a:lnTo>
                    <a:lnTo>
                      <a:pt x="626" y="79"/>
                    </a:lnTo>
                    <a:lnTo>
                      <a:pt x="688" y="67"/>
                    </a:lnTo>
                    <a:lnTo>
                      <a:pt x="751" y="56"/>
                    </a:lnTo>
                    <a:lnTo>
                      <a:pt x="816" y="47"/>
                    </a:lnTo>
                    <a:lnTo>
                      <a:pt x="884" y="38"/>
                    </a:lnTo>
                    <a:lnTo>
                      <a:pt x="952" y="30"/>
                    </a:lnTo>
                    <a:lnTo>
                      <a:pt x="1023" y="23"/>
                    </a:lnTo>
                    <a:lnTo>
                      <a:pt x="1096" y="17"/>
                    </a:lnTo>
                    <a:lnTo>
                      <a:pt x="1170" y="12"/>
                    </a:lnTo>
                    <a:lnTo>
                      <a:pt x="1245" y="8"/>
                    </a:lnTo>
                    <a:lnTo>
                      <a:pt x="1322" y="4"/>
                    </a:lnTo>
                    <a:lnTo>
                      <a:pt x="1400" y="2"/>
                    </a:lnTo>
                    <a:lnTo>
                      <a:pt x="1480" y="0"/>
                    </a:lnTo>
                    <a:lnTo>
                      <a:pt x="1559" y="0"/>
                    </a:lnTo>
                    <a:lnTo>
                      <a:pt x="1640" y="0"/>
                    </a:lnTo>
                    <a:lnTo>
                      <a:pt x="1719" y="2"/>
                    </a:lnTo>
                    <a:lnTo>
                      <a:pt x="1797" y="4"/>
                    </a:lnTo>
                    <a:lnTo>
                      <a:pt x="1874" y="8"/>
                    </a:lnTo>
                    <a:lnTo>
                      <a:pt x="1949" y="12"/>
                    </a:lnTo>
                    <a:lnTo>
                      <a:pt x="2023" y="17"/>
                    </a:lnTo>
                    <a:lnTo>
                      <a:pt x="2096" y="23"/>
                    </a:lnTo>
                    <a:lnTo>
                      <a:pt x="2166" y="30"/>
                    </a:lnTo>
                    <a:lnTo>
                      <a:pt x="2236" y="38"/>
                    </a:lnTo>
                    <a:lnTo>
                      <a:pt x="2303" y="47"/>
                    </a:lnTo>
                    <a:lnTo>
                      <a:pt x="2368" y="56"/>
                    </a:lnTo>
                    <a:lnTo>
                      <a:pt x="2431" y="67"/>
                    </a:lnTo>
                    <a:lnTo>
                      <a:pt x="2493" y="79"/>
                    </a:lnTo>
                    <a:lnTo>
                      <a:pt x="2551" y="90"/>
                    </a:lnTo>
                    <a:lnTo>
                      <a:pt x="2608" y="103"/>
                    </a:lnTo>
                    <a:lnTo>
                      <a:pt x="2662" y="116"/>
                    </a:lnTo>
                    <a:lnTo>
                      <a:pt x="2714" y="130"/>
                    </a:lnTo>
                    <a:lnTo>
                      <a:pt x="2763" y="145"/>
                    </a:lnTo>
                    <a:lnTo>
                      <a:pt x="2810" y="160"/>
                    </a:lnTo>
                    <a:lnTo>
                      <a:pt x="2853" y="176"/>
                    </a:lnTo>
                    <a:lnTo>
                      <a:pt x="2894" y="193"/>
                    </a:lnTo>
                    <a:lnTo>
                      <a:pt x="2931" y="210"/>
                    </a:lnTo>
                    <a:lnTo>
                      <a:pt x="2965" y="228"/>
                    </a:lnTo>
                    <a:lnTo>
                      <a:pt x="2997" y="246"/>
                    </a:lnTo>
                    <a:lnTo>
                      <a:pt x="3025" y="264"/>
                    </a:lnTo>
                    <a:lnTo>
                      <a:pt x="3049" y="284"/>
                    </a:lnTo>
                    <a:lnTo>
                      <a:pt x="3070" y="304"/>
                    </a:lnTo>
                    <a:lnTo>
                      <a:pt x="3087" y="324"/>
                    </a:lnTo>
                    <a:lnTo>
                      <a:pt x="3102" y="345"/>
                    </a:lnTo>
                    <a:lnTo>
                      <a:pt x="3111" y="366"/>
                    </a:lnTo>
                    <a:lnTo>
                      <a:pt x="3117" y="387"/>
                    </a:lnTo>
                    <a:lnTo>
                      <a:pt x="3119" y="4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975680" y="6509160"/>
                <a:ext cx="344520" cy="99720"/>
              </a:xfrm>
              <a:custGeom>
                <a:avLst/>
                <a:gdLst/>
                <a:ahLst/>
                <a:rect l="l" t="t" r="r" b="b"/>
                <a:pathLst>
                  <a:path w="3117" h="836">
                    <a:moveTo>
                      <a:pt x="3117" y="409"/>
                    </a:moveTo>
                    <a:lnTo>
                      <a:pt x="3115" y="431"/>
                    </a:lnTo>
                    <a:lnTo>
                      <a:pt x="3109" y="452"/>
                    </a:lnTo>
                    <a:lnTo>
                      <a:pt x="3099" y="473"/>
                    </a:lnTo>
                    <a:lnTo>
                      <a:pt x="3085" y="494"/>
                    </a:lnTo>
                    <a:lnTo>
                      <a:pt x="3067" y="516"/>
                    </a:lnTo>
                    <a:lnTo>
                      <a:pt x="3047" y="536"/>
                    </a:lnTo>
                    <a:lnTo>
                      <a:pt x="3022" y="555"/>
                    </a:lnTo>
                    <a:lnTo>
                      <a:pt x="2995" y="574"/>
                    </a:lnTo>
                    <a:lnTo>
                      <a:pt x="2963" y="593"/>
                    </a:lnTo>
                    <a:lnTo>
                      <a:pt x="2929" y="612"/>
                    </a:lnTo>
                    <a:lnTo>
                      <a:pt x="2892" y="630"/>
                    </a:lnTo>
                    <a:lnTo>
                      <a:pt x="2850" y="647"/>
                    </a:lnTo>
                    <a:lnTo>
                      <a:pt x="2807" y="664"/>
                    </a:lnTo>
                    <a:lnTo>
                      <a:pt x="2761" y="680"/>
                    </a:lnTo>
                    <a:lnTo>
                      <a:pt x="2712" y="695"/>
                    </a:lnTo>
                    <a:lnTo>
                      <a:pt x="2660" y="710"/>
                    </a:lnTo>
                    <a:lnTo>
                      <a:pt x="2606" y="725"/>
                    </a:lnTo>
                    <a:lnTo>
                      <a:pt x="2549" y="738"/>
                    </a:lnTo>
                    <a:lnTo>
                      <a:pt x="2491" y="751"/>
                    </a:lnTo>
                    <a:lnTo>
                      <a:pt x="2430" y="762"/>
                    </a:lnTo>
                    <a:lnTo>
                      <a:pt x="2366" y="773"/>
                    </a:lnTo>
                    <a:lnTo>
                      <a:pt x="2301" y="784"/>
                    </a:lnTo>
                    <a:lnTo>
                      <a:pt x="2234" y="793"/>
                    </a:lnTo>
                    <a:lnTo>
                      <a:pt x="2165" y="801"/>
                    </a:lnTo>
                    <a:lnTo>
                      <a:pt x="2095" y="809"/>
                    </a:lnTo>
                    <a:lnTo>
                      <a:pt x="2022" y="816"/>
                    </a:lnTo>
                    <a:lnTo>
                      <a:pt x="1948" y="822"/>
                    </a:lnTo>
                    <a:lnTo>
                      <a:pt x="1873" y="827"/>
                    </a:lnTo>
                    <a:lnTo>
                      <a:pt x="1796" y="831"/>
                    </a:lnTo>
                    <a:lnTo>
                      <a:pt x="1718" y="833"/>
                    </a:lnTo>
                    <a:lnTo>
                      <a:pt x="1638" y="835"/>
                    </a:lnTo>
                    <a:lnTo>
                      <a:pt x="1558" y="836"/>
                    </a:lnTo>
                    <a:lnTo>
                      <a:pt x="1479" y="835"/>
                    </a:lnTo>
                    <a:lnTo>
                      <a:pt x="1399" y="833"/>
                    </a:lnTo>
                    <a:lnTo>
                      <a:pt x="1321" y="831"/>
                    </a:lnTo>
                    <a:lnTo>
                      <a:pt x="1244" y="827"/>
                    </a:lnTo>
                    <a:lnTo>
                      <a:pt x="1169" y="822"/>
                    </a:lnTo>
                    <a:lnTo>
                      <a:pt x="1095" y="816"/>
                    </a:lnTo>
                    <a:lnTo>
                      <a:pt x="1023" y="809"/>
                    </a:lnTo>
                    <a:lnTo>
                      <a:pt x="951" y="801"/>
                    </a:lnTo>
                    <a:lnTo>
                      <a:pt x="883" y="793"/>
                    </a:lnTo>
                    <a:lnTo>
                      <a:pt x="816" y="784"/>
                    </a:lnTo>
                    <a:lnTo>
                      <a:pt x="751" y="773"/>
                    </a:lnTo>
                    <a:lnTo>
                      <a:pt x="687" y="762"/>
                    </a:lnTo>
                    <a:lnTo>
                      <a:pt x="626" y="751"/>
                    </a:lnTo>
                    <a:lnTo>
                      <a:pt x="568" y="738"/>
                    </a:lnTo>
                    <a:lnTo>
                      <a:pt x="511" y="725"/>
                    </a:lnTo>
                    <a:lnTo>
                      <a:pt x="457" y="710"/>
                    </a:lnTo>
                    <a:lnTo>
                      <a:pt x="405" y="695"/>
                    </a:lnTo>
                    <a:lnTo>
                      <a:pt x="357" y="680"/>
                    </a:lnTo>
                    <a:lnTo>
                      <a:pt x="310" y="664"/>
                    </a:lnTo>
                    <a:lnTo>
                      <a:pt x="267" y="647"/>
                    </a:lnTo>
                    <a:lnTo>
                      <a:pt x="226" y="630"/>
                    </a:lnTo>
                    <a:lnTo>
                      <a:pt x="188" y="612"/>
                    </a:lnTo>
                    <a:lnTo>
                      <a:pt x="154" y="593"/>
                    </a:lnTo>
                    <a:lnTo>
                      <a:pt x="122" y="574"/>
                    </a:lnTo>
                    <a:lnTo>
                      <a:pt x="95" y="555"/>
                    </a:lnTo>
                    <a:lnTo>
                      <a:pt x="71" y="536"/>
                    </a:lnTo>
                    <a:lnTo>
                      <a:pt x="50" y="516"/>
                    </a:lnTo>
                    <a:lnTo>
                      <a:pt x="32" y="494"/>
                    </a:lnTo>
                    <a:lnTo>
                      <a:pt x="18" y="473"/>
                    </a:lnTo>
                    <a:lnTo>
                      <a:pt x="8" y="452"/>
                    </a:lnTo>
                    <a:lnTo>
                      <a:pt x="2" y="431"/>
                    </a:lnTo>
                    <a:lnTo>
                      <a:pt x="0" y="409"/>
                    </a:lnTo>
                    <a:lnTo>
                      <a:pt x="2" y="386"/>
                    </a:lnTo>
                    <a:lnTo>
                      <a:pt x="8" y="365"/>
                    </a:lnTo>
                    <a:lnTo>
                      <a:pt x="18" y="344"/>
                    </a:lnTo>
                    <a:lnTo>
                      <a:pt x="32" y="323"/>
                    </a:lnTo>
                    <a:lnTo>
                      <a:pt x="50" y="303"/>
                    </a:lnTo>
                    <a:lnTo>
                      <a:pt x="71" y="283"/>
                    </a:lnTo>
                    <a:lnTo>
                      <a:pt x="95" y="264"/>
                    </a:lnTo>
                    <a:lnTo>
                      <a:pt x="122" y="245"/>
                    </a:lnTo>
                    <a:lnTo>
                      <a:pt x="154" y="227"/>
                    </a:lnTo>
                    <a:lnTo>
                      <a:pt x="188" y="209"/>
                    </a:lnTo>
                    <a:lnTo>
                      <a:pt x="226" y="193"/>
                    </a:lnTo>
                    <a:lnTo>
                      <a:pt x="267" y="175"/>
                    </a:lnTo>
                    <a:lnTo>
                      <a:pt x="310" y="159"/>
                    </a:lnTo>
                    <a:lnTo>
                      <a:pt x="357" y="144"/>
                    </a:lnTo>
                    <a:lnTo>
                      <a:pt x="405" y="130"/>
                    </a:lnTo>
                    <a:lnTo>
                      <a:pt x="457" y="116"/>
                    </a:lnTo>
                    <a:lnTo>
                      <a:pt x="511" y="103"/>
                    </a:lnTo>
                    <a:lnTo>
                      <a:pt x="568" y="90"/>
                    </a:lnTo>
                    <a:lnTo>
                      <a:pt x="626" y="78"/>
                    </a:lnTo>
                    <a:lnTo>
                      <a:pt x="687" y="66"/>
                    </a:lnTo>
                    <a:lnTo>
                      <a:pt x="751" y="56"/>
                    </a:lnTo>
                    <a:lnTo>
                      <a:pt x="816" y="47"/>
                    </a:lnTo>
                    <a:lnTo>
                      <a:pt x="883" y="38"/>
                    </a:lnTo>
                    <a:lnTo>
                      <a:pt x="951" y="30"/>
                    </a:lnTo>
                    <a:lnTo>
                      <a:pt x="1023" y="23"/>
                    </a:lnTo>
                    <a:lnTo>
                      <a:pt x="1095" y="17"/>
                    </a:lnTo>
                    <a:lnTo>
                      <a:pt x="1169" y="12"/>
                    </a:lnTo>
                    <a:lnTo>
                      <a:pt x="1244" y="8"/>
                    </a:lnTo>
                    <a:lnTo>
                      <a:pt x="1321" y="4"/>
                    </a:lnTo>
                    <a:lnTo>
                      <a:pt x="1399" y="2"/>
                    </a:lnTo>
                    <a:lnTo>
                      <a:pt x="1479" y="0"/>
                    </a:lnTo>
                    <a:lnTo>
                      <a:pt x="1558" y="0"/>
                    </a:lnTo>
                    <a:lnTo>
                      <a:pt x="1638" y="0"/>
                    </a:lnTo>
                    <a:lnTo>
                      <a:pt x="1718" y="2"/>
                    </a:lnTo>
                    <a:lnTo>
                      <a:pt x="1796" y="4"/>
                    </a:lnTo>
                    <a:lnTo>
                      <a:pt x="1873" y="8"/>
                    </a:lnTo>
                    <a:lnTo>
                      <a:pt x="1948" y="12"/>
                    </a:lnTo>
                    <a:lnTo>
                      <a:pt x="2022" y="17"/>
                    </a:lnTo>
                    <a:lnTo>
                      <a:pt x="2095" y="23"/>
                    </a:lnTo>
                    <a:lnTo>
                      <a:pt x="2165" y="30"/>
                    </a:lnTo>
                    <a:lnTo>
                      <a:pt x="2234" y="38"/>
                    </a:lnTo>
                    <a:lnTo>
                      <a:pt x="2301" y="47"/>
                    </a:lnTo>
                    <a:lnTo>
                      <a:pt x="2366" y="56"/>
                    </a:lnTo>
                    <a:lnTo>
                      <a:pt x="2430" y="66"/>
                    </a:lnTo>
                    <a:lnTo>
                      <a:pt x="2491" y="78"/>
                    </a:lnTo>
                    <a:lnTo>
                      <a:pt x="2549" y="90"/>
                    </a:lnTo>
                    <a:lnTo>
                      <a:pt x="2606" y="103"/>
                    </a:lnTo>
                    <a:lnTo>
                      <a:pt x="2660" y="116"/>
                    </a:lnTo>
                    <a:lnTo>
                      <a:pt x="2712" y="130"/>
                    </a:lnTo>
                    <a:lnTo>
                      <a:pt x="2761" y="144"/>
                    </a:lnTo>
                    <a:lnTo>
                      <a:pt x="2807" y="159"/>
                    </a:lnTo>
                    <a:lnTo>
                      <a:pt x="2850" y="175"/>
                    </a:lnTo>
                    <a:lnTo>
                      <a:pt x="2892" y="193"/>
                    </a:lnTo>
                    <a:lnTo>
                      <a:pt x="2929" y="209"/>
                    </a:lnTo>
                    <a:lnTo>
                      <a:pt x="2963" y="227"/>
                    </a:lnTo>
                    <a:lnTo>
                      <a:pt x="2995" y="245"/>
                    </a:lnTo>
                    <a:lnTo>
                      <a:pt x="3022" y="264"/>
                    </a:lnTo>
                    <a:lnTo>
                      <a:pt x="3047" y="283"/>
                    </a:lnTo>
                    <a:lnTo>
                      <a:pt x="3067" y="303"/>
                    </a:lnTo>
                    <a:lnTo>
                      <a:pt x="3085" y="323"/>
                    </a:lnTo>
                    <a:lnTo>
                      <a:pt x="3099" y="344"/>
                    </a:lnTo>
                    <a:lnTo>
                      <a:pt x="3109" y="365"/>
                    </a:lnTo>
                    <a:lnTo>
                      <a:pt x="3115" y="386"/>
                    </a:lnTo>
                    <a:lnTo>
                      <a:pt x="3117" y="4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975680" y="6509160"/>
                <a:ext cx="344520" cy="99720"/>
              </a:xfrm>
              <a:custGeom>
                <a:avLst/>
                <a:gdLst/>
                <a:ahLst/>
                <a:rect l="l" t="t" r="r" b="b"/>
                <a:pathLst>
                  <a:path w="3114" h="834">
                    <a:moveTo>
                      <a:pt x="3114" y="408"/>
                    </a:moveTo>
                    <a:lnTo>
                      <a:pt x="3111" y="430"/>
                    </a:lnTo>
                    <a:lnTo>
                      <a:pt x="3106" y="451"/>
                    </a:lnTo>
                    <a:lnTo>
                      <a:pt x="3096" y="472"/>
                    </a:lnTo>
                    <a:lnTo>
                      <a:pt x="3081" y="493"/>
                    </a:lnTo>
                    <a:lnTo>
                      <a:pt x="3064" y="514"/>
                    </a:lnTo>
                    <a:lnTo>
                      <a:pt x="3043" y="534"/>
                    </a:lnTo>
                    <a:lnTo>
                      <a:pt x="3019" y="554"/>
                    </a:lnTo>
                    <a:lnTo>
                      <a:pt x="2991" y="573"/>
                    </a:lnTo>
                    <a:lnTo>
                      <a:pt x="2959" y="592"/>
                    </a:lnTo>
                    <a:lnTo>
                      <a:pt x="2925" y="611"/>
                    </a:lnTo>
                    <a:lnTo>
                      <a:pt x="2888" y="629"/>
                    </a:lnTo>
                    <a:lnTo>
                      <a:pt x="2847" y="646"/>
                    </a:lnTo>
                    <a:lnTo>
                      <a:pt x="2804" y="662"/>
                    </a:lnTo>
                    <a:lnTo>
                      <a:pt x="2758" y="678"/>
                    </a:lnTo>
                    <a:lnTo>
                      <a:pt x="2709" y="693"/>
                    </a:lnTo>
                    <a:lnTo>
                      <a:pt x="2657" y="708"/>
                    </a:lnTo>
                    <a:lnTo>
                      <a:pt x="2603" y="723"/>
                    </a:lnTo>
                    <a:lnTo>
                      <a:pt x="2547" y="736"/>
                    </a:lnTo>
                    <a:lnTo>
                      <a:pt x="2488" y="749"/>
                    </a:lnTo>
                    <a:lnTo>
                      <a:pt x="2427" y="761"/>
                    </a:lnTo>
                    <a:lnTo>
                      <a:pt x="2363" y="772"/>
                    </a:lnTo>
                    <a:lnTo>
                      <a:pt x="2299" y="782"/>
                    </a:lnTo>
                    <a:lnTo>
                      <a:pt x="2231" y="791"/>
                    </a:lnTo>
                    <a:lnTo>
                      <a:pt x="2162" y="799"/>
                    </a:lnTo>
                    <a:lnTo>
                      <a:pt x="2092" y="807"/>
                    </a:lnTo>
                    <a:lnTo>
                      <a:pt x="2019" y="814"/>
                    </a:lnTo>
                    <a:lnTo>
                      <a:pt x="1945" y="820"/>
                    </a:lnTo>
                    <a:lnTo>
                      <a:pt x="1871" y="825"/>
                    </a:lnTo>
                    <a:lnTo>
                      <a:pt x="1794" y="829"/>
                    </a:lnTo>
                    <a:lnTo>
                      <a:pt x="1716" y="831"/>
                    </a:lnTo>
                    <a:lnTo>
                      <a:pt x="1636" y="833"/>
                    </a:lnTo>
                    <a:lnTo>
                      <a:pt x="1556" y="834"/>
                    </a:lnTo>
                    <a:lnTo>
                      <a:pt x="1477" y="833"/>
                    </a:lnTo>
                    <a:lnTo>
                      <a:pt x="1397" y="831"/>
                    </a:lnTo>
                    <a:lnTo>
                      <a:pt x="1319" y="829"/>
                    </a:lnTo>
                    <a:lnTo>
                      <a:pt x="1242" y="825"/>
                    </a:lnTo>
                    <a:lnTo>
                      <a:pt x="1168" y="820"/>
                    </a:lnTo>
                    <a:lnTo>
                      <a:pt x="1094" y="814"/>
                    </a:lnTo>
                    <a:lnTo>
                      <a:pt x="1021" y="807"/>
                    </a:lnTo>
                    <a:lnTo>
                      <a:pt x="950" y="799"/>
                    </a:lnTo>
                    <a:lnTo>
                      <a:pt x="882" y="791"/>
                    </a:lnTo>
                    <a:lnTo>
                      <a:pt x="814" y="782"/>
                    </a:lnTo>
                    <a:lnTo>
                      <a:pt x="750" y="772"/>
                    </a:lnTo>
                    <a:lnTo>
                      <a:pt x="686" y="761"/>
                    </a:lnTo>
                    <a:lnTo>
                      <a:pt x="625" y="749"/>
                    </a:lnTo>
                    <a:lnTo>
                      <a:pt x="567" y="736"/>
                    </a:lnTo>
                    <a:lnTo>
                      <a:pt x="510" y="723"/>
                    </a:lnTo>
                    <a:lnTo>
                      <a:pt x="456" y="708"/>
                    </a:lnTo>
                    <a:lnTo>
                      <a:pt x="404" y="693"/>
                    </a:lnTo>
                    <a:lnTo>
                      <a:pt x="356" y="678"/>
                    </a:lnTo>
                    <a:lnTo>
                      <a:pt x="309" y="662"/>
                    </a:lnTo>
                    <a:lnTo>
                      <a:pt x="266" y="646"/>
                    </a:lnTo>
                    <a:lnTo>
                      <a:pt x="225" y="629"/>
                    </a:lnTo>
                    <a:lnTo>
                      <a:pt x="188" y="611"/>
                    </a:lnTo>
                    <a:lnTo>
                      <a:pt x="154" y="592"/>
                    </a:lnTo>
                    <a:lnTo>
                      <a:pt x="122" y="573"/>
                    </a:lnTo>
                    <a:lnTo>
                      <a:pt x="94" y="554"/>
                    </a:lnTo>
                    <a:lnTo>
                      <a:pt x="70" y="534"/>
                    </a:lnTo>
                    <a:lnTo>
                      <a:pt x="49" y="514"/>
                    </a:lnTo>
                    <a:lnTo>
                      <a:pt x="31" y="493"/>
                    </a:lnTo>
                    <a:lnTo>
                      <a:pt x="17" y="472"/>
                    </a:lnTo>
                    <a:lnTo>
                      <a:pt x="8" y="451"/>
                    </a:lnTo>
                    <a:lnTo>
                      <a:pt x="2" y="430"/>
                    </a:lnTo>
                    <a:lnTo>
                      <a:pt x="0" y="408"/>
                    </a:lnTo>
                    <a:lnTo>
                      <a:pt x="2" y="385"/>
                    </a:lnTo>
                    <a:lnTo>
                      <a:pt x="8" y="364"/>
                    </a:lnTo>
                    <a:lnTo>
                      <a:pt x="17" y="343"/>
                    </a:lnTo>
                    <a:lnTo>
                      <a:pt x="31" y="323"/>
                    </a:lnTo>
                    <a:lnTo>
                      <a:pt x="49" y="303"/>
                    </a:lnTo>
                    <a:lnTo>
                      <a:pt x="70" y="282"/>
                    </a:lnTo>
                    <a:lnTo>
                      <a:pt x="94" y="263"/>
                    </a:lnTo>
                    <a:lnTo>
                      <a:pt x="122" y="244"/>
                    </a:lnTo>
                    <a:lnTo>
                      <a:pt x="154" y="226"/>
                    </a:lnTo>
                    <a:lnTo>
                      <a:pt x="188" y="209"/>
                    </a:lnTo>
                    <a:lnTo>
                      <a:pt x="225" y="192"/>
                    </a:lnTo>
                    <a:lnTo>
                      <a:pt x="266" y="175"/>
                    </a:lnTo>
                    <a:lnTo>
                      <a:pt x="309" y="159"/>
                    </a:lnTo>
                    <a:lnTo>
                      <a:pt x="356" y="144"/>
                    </a:lnTo>
                    <a:lnTo>
                      <a:pt x="404" y="129"/>
                    </a:lnTo>
                    <a:lnTo>
                      <a:pt x="456" y="115"/>
                    </a:lnTo>
                    <a:lnTo>
                      <a:pt x="510" y="102"/>
                    </a:lnTo>
                    <a:lnTo>
                      <a:pt x="567" y="90"/>
                    </a:lnTo>
                    <a:lnTo>
                      <a:pt x="625" y="78"/>
                    </a:lnTo>
                    <a:lnTo>
                      <a:pt x="686" y="66"/>
                    </a:lnTo>
                    <a:lnTo>
                      <a:pt x="750" y="56"/>
                    </a:lnTo>
                    <a:lnTo>
                      <a:pt x="814" y="46"/>
                    </a:lnTo>
                    <a:lnTo>
                      <a:pt x="882" y="38"/>
                    </a:lnTo>
                    <a:lnTo>
                      <a:pt x="950" y="30"/>
                    </a:lnTo>
                    <a:lnTo>
                      <a:pt x="1021" y="23"/>
                    </a:lnTo>
                    <a:lnTo>
                      <a:pt x="1094" y="17"/>
                    </a:lnTo>
                    <a:lnTo>
                      <a:pt x="1168" y="12"/>
                    </a:lnTo>
                    <a:lnTo>
                      <a:pt x="1242" y="7"/>
                    </a:lnTo>
                    <a:lnTo>
                      <a:pt x="1319" y="4"/>
                    </a:lnTo>
                    <a:lnTo>
                      <a:pt x="1397" y="2"/>
                    </a:lnTo>
                    <a:lnTo>
                      <a:pt x="1477" y="0"/>
                    </a:lnTo>
                    <a:lnTo>
                      <a:pt x="1556" y="0"/>
                    </a:lnTo>
                    <a:lnTo>
                      <a:pt x="1636" y="0"/>
                    </a:lnTo>
                    <a:lnTo>
                      <a:pt x="1716" y="2"/>
                    </a:lnTo>
                    <a:lnTo>
                      <a:pt x="1794" y="4"/>
                    </a:lnTo>
                    <a:lnTo>
                      <a:pt x="1871" y="7"/>
                    </a:lnTo>
                    <a:lnTo>
                      <a:pt x="1945" y="12"/>
                    </a:lnTo>
                    <a:lnTo>
                      <a:pt x="2019" y="17"/>
                    </a:lnTo>
                    <a:lnTo>
                      <a:pt x="2092" y="23"/>
                    </a:lnTo>
                    <a:lnTo>
                      <a:pt x="2162" y="30"/>
                    </a:lnTo>
                    <a:lnTo>
                      <a:pt x="2231" y="38"/>
                    </a:lnTo>
                    <a:lnTo>
                      <a:pt x="2299" y="46"/>
                    </a:lnTo>
                    <a:lnTo>
                      <a:pt x="2363" y="56"/>
                    </a:lnTo>
                    <a:lnTo>
                      <a:pt x="2427" y="66"/>
                    </a:lnTo>
                    <a:lnTo>
                      <a:pt x="2488" y="78"/>
                    </a:lnTo>
                    <a:lnTo>
                      <a:pt x="2547" y="90"/>
                    </a:lnTo>
                    <a:lnTo>
                      <a:pt x="2603" y="102"/>
                    </a:lnTo>
                    <a:lnTo>
                      <a:pt x="2657" y="115"/>
                    </a:lnTo>
                    <a:lnTo>
                      <a:pt x="2709" y="129"/>
                    </a:lnTo>
                    <a:lnTo>
                      <a:pt x="2758" y="144"/>
                    </a:lnTo>
                    <a:lnTo>
                      <a:pt x="2804" y="159"/>
                    </a:lnTo>
                    <a:lnTo>
                      <a:pt x="2847" y="175"/>
                    </a:lnTo>
                    <a:lnTo>
                      <a:pt x="2888" y="192"/>
                    </a:lnTo>
                    <a:lnTo>
                      <a:pt x="2925" y="209"/>
                    </a:lnTo>
                    <a:lnTo>
                      <a:pt x="2959" y="226"/>
                    </a:lnTo>
                    <a:lnTo>
                      <a:pt x="2991" y="244"/>
                    </a:lnTo>
                    <a:lnTo>
                      <a:pt x="3019" y="263"/>
                    </a:lnTo>
                    <a:lnTo>
                      <a:pt x="3043" y="282"/>
                    </a:lnTo>
                    <a:lnTo>
                      <a:pt x="3064" y="303"/>
                    </a:lnTo>
                    <a:lnTo>
                      <a:pt x="3081" y="323"/>
                    </a:lnTo>
                    <a:lnTo>
                      <a:pt x="3096" y="343"/>
                    </a:lnTo>
                    <a:lnTo>
                      <a:pt x="3106" y="364"/>
                    </a:lnTo>
                    <a:lnTo>
                      <a:pt x="3111" y="385"/>
                    </a:lnTo>
                    <a:lnTo>
                      <a:pt x="3114" y="4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977120" y="6509160"/>
                <a:ext cx="341640" cy="99720"/>
              </a:xfrm>
              <a:custGeom>
                <a:avLst/>
                <a:gdLst/>
                <a:ahLst/>
                <a:rect l="l" t="t" r="r" b="b"/>
                <a:pathLst>
                  <a:path w="3111" h="832">
                    <a:moveTo>
                      <a:pt x="3111" y="407"/>
                    </a:moveTo>
                    <a:lnTo>
                      <a:pt x="3109" y="429"/>
                    </a:lnTo>
                    <a:lnTo>
                      <a:pt x="3103" y="450"/>
                    </a:lnTo>
                    <a:lnTo>
                      <a:pt x="3093" y="471"/>
                    </a:lnTo>
                    <a:lnTo>
                      <a:pt x="3079" y="492"/>
                    </a:lnTo>
                    <a:lnTo>
                      <a:pt x="3062" y="513"/>
                    </a:lnTo>
                    <a:lnTo>
                      <a:pt x="3041" y="533"/>
                    </a:lnTo>
                    <a:lnTo>
                      <a:pt x="3017" y="553"/>
                    </a:lnTo>
                    <a:lnTo>
                      <a:pt x="2989" y="572"/>
                    </a:lnTo>
                    <a:lnTo>
                      <a:pt x="2957" y="590"/>
                    </a:lnTo>
                    <a:lnTo>
                      <a:pt x="2923" y="609"/>
                    </a:lnTo>
                    <a:lnTo>
                      <a:pt x="2886" y="627"/>
                    </a:lnTo>
                    <a:lnTo>
                      <a:pt x="2845" y="644"/>
                    </a:lnTo>
                    <a:lnTo>
                      <a:pt x="2802" y="661"/>
                    </a:lnTo>
                    <a:lnTo>
                      <a:pt x="2755" y="677"/>
                    </a:lnTo>
                    <a:lnTo>
                      <a:pt x="2707" y="692"/>
                    </a:lnTo>
                    <a:lnTo>
                      <a:pt x="2655" y="706"/>
                    </a:lnTo>
                    <a:lnTo>
                      <a:pt x="2602" y="721"/>
                    </a:lnTo>
                    <a:lnTo>
                      <a:pt x="2545" y="735"/>
                    </a:lnTo>
                    <a:lnTo>
                      <a:pt x="2486" y="747"/>
                    </a:lnTo>
                    <a:lnTo>
                      <a:pt x="2425" y="759"/>
                    </a:lnTo>
                    <a:lnTo>
                      <a:pt x="2362" y="770"/>
                    </a:lnTo>
                    <a:lnTo>
                      <a:pt x="2297" y="780"/>
                    </a:lnTo>
                    <a:lnTo>
                      <a:pt x="2230" y="789"/>
                    </a:lnTo>
                    <a:lnTo>
                      <a:pt x="2160" y="798"/>
                    </a:lnTo>
                    <a:lnTo>
                      <a:pt x="2091" y="805"/>
                    </a:lnTo>
                    <a:lnTo>
                      <a:pt x="2018" y="812"/>
                    </a:lnTo>
                    <a:lnTo>
                      <a:pt x="1944" y="817"/>
                    </a:lnTo>
                    <a:lnTo>
                      <a:pt x="1869" y="823"/>
                    </a:lnTo>
                    <a:lnTo>
                      <a:pt x="1793" y="827"/>
                    </a:lnTo>
                    <a:lnTo>
                      <a:pt x="1715" y="830"/>
                    </a:lnTo>
                    <a:lnTo>
                      <a:pt x="1635" y="831"/>
                    </a:lnTo>
                    <a:lnTo>
                      <a:pt x="1555" y="832"/>
                    </a:lnTo>
                    <a:lnTo>
                      <a:pt x="1476" y="831"/>
                    </a:lnTo>
                    <a:lnTo>
                      <a:pt x="1397" y="830"/>
                    </a:lnTo>
                    <a:lnTo>
                      <a:pt x="1319" y="827"/>
                    </a:lnTo>
                    <a:lnTo>
                      <a:pt x="1242" y="823"/>
                    </a:lnTo>
                    <a:lnTo>
                      <a:pt x="1167" y="817"/>
                    </a:lnTo>
                    <a:lnTo>
                      <a:pt x="1093" y="812"/>
                    </a:lnTo>
                    <a:lnTo>
                      <a:pt x="1021" y="805"/>
                    </a:lnTo>
                    <a:lnTo>
                      <a:pt x="951" y="798"/>
                    </a:lnTo>
                    <a:lnTo>
                      <a:pt x="881" y="789"/>
                    </a:lnTo>
                    <a:lnTo>
                      <a:pt x="814" y="780"/>
                    </a:lnTo>
                    <a:lnTo>
                      <a:pt x="749" y="770"/>
                    </a:lnTo>
                    <a:lnTo>
                      <a:pt x="686" y="759"/>
                    </a:lnTo>
                    <a:lnTo>
                      <a:pt x="625" y="747"/>
                    </a:lnTo>
                    <a:lnTo>
                      <a:pt x="566" y="735"/>
                    </a:lnTo>
                    <a:lnTo>
                      <a:pt x="510" y="721"/>
                    </a:lnTo>
                    <a:lnTo>
                      <a:pt x="456" y="706"/>
                    </a:lnTo>
                    <a:lnTo>
                      <a:pt x="404" y="692"/>
                    </a:lnTo>
                    <a:lnTo>
                      <a:pt x="356" y="677"/>
                    </a:lnTo>
                    <a:lnTo>
                      <a:pt x="309" y="661"/>
                    </a:lnTo>
                    <a:lnTo>
                      <a:pt x="266" y="644"/>
                    </a:lnTo>
                    <a:lnTo>
                      <a:pt x="225" y="627"/>
                    </a:lnTo>
                    <a:lnTo>
                      <a:pt x="188" y="609"/>
                    </a:lnTo>
                    <a:lnTo>
                      <a:pt x="154" y="590"/>
                    </a:lnTo>
                    <a:lnTo>
                      <a:pt x="122" y="572"/>
                    </a:lnTo>
                    <a:lnTo>
                      <a:pt x="94" y="553"/>
                    </a:lnTo>
                    <a:lnTo>
                      <a:pt x="70" y="533"/>
                    </a:lnTo>
                    <a:lnTo>
                      <a:pt x="50" y="513"/>
                    </a:lnTo>
                    <a:lnTo>
                      <a:pt x="31" y="492"/>
                    </a:lnTo>
                    <a:lnTo>
                      <a:pt x="18" y="471"/>
                    </a:lnTo>
                    <a:lnTo>
                      <a:pt x="8" y="450"/>
                    </a:lnTo>
                    <a:lnTo>
                      <a:pt x="2" y="429"/>
                    </a:lnTo>
                    <a:lnTo>
                      <a:pt x="0" y="407"/>
                    </a:lnTo>
                    <a:lnTo>
                      <a:pt x="2" y="384"/>
                    </a:lnTo>
                    <a:lnTo>
                      <a:pt x="8" y="363"/>
                    </a:lnTo>
                    <a:lnTo>
                      <a:pt x="18" y="342"/>
                    </a:lnTo>
                    <a:lnTo>
                      <a:pt x="31" y="322"/>
                    </a:lnTo>
                    <a:lnTo>
                      <a:pt x="50" y="302"/>
                    </a:lnTo>
                    <a:lnTo>
                      <a:pt x="70" y="281"/>
                    </a:lnTo>
                    <a:lnTo>
                      <a:pt x="94" y="262"/>
                    </a:lnTo>
                    <a:lnTo>
                      <a:pt x="122" y="244"/>
                    </a:lnTo>
                    <a:lnTo>
                      <a:pt x="154" y="226"/>
                    </a:lnTo>
                    <a:lnTo>
                      <a:pt x="188" y="208"/>
                    </a:lnTo>
                    <a:lnTo>
                      <a:pt x="225" y="191"/>
                    </a:lnTo>
                    <a:lnTo>
                      <a:pt x="266" y="174"/>
                    </a:lnTo>
                    <a:lnTo>
                      <a:pt x="309" y="158"/>
                    </a:lnTo>
                    <a:lnTo>
                      <a:pt x="356" y="143"/>
                    </a:lnTo>
                    <a:lnTo>
                      <a:pt x="404" y="129"/>
                    </a:lnTo>
                    <a:lnTo>
                      <a:pt x="456" y="115"/>
                    </a:lnTo>
                    <a:lnTo>
                      <a:pt x="510" y="102"/>
                    </a:lnTo>
                    <a:lnTo>
                      <a:pt x="566" y="90"/>
                    </a:lnTo>
                    <a:lnTo>
                      <a:pt x="625" y="78"/>
                    </a:lnTo>
                    <a:lnTo>
                      <a:pt x="686" y="66"/>
                    </a:lnTo>
                    <a:lnTo>
                      <a:pt x="749" y="56"/>
                    </a:lnTo>
                    <a:lnTo>
                      <a:pt x="814" y="46"/>
                    </a:lnTo>
                    <a:lnTo>
                      <a:pt x="881" y="38"/>
                    </a:lnTo>
                    <a:lnTo>
                      <a:pt x="951" y="30"/>
                    </a:lnTo>
                    <a:lnTo>
                      <a:pt x="1021" y="23"/>
                    </a:lnTo>
                    <a:lnTo>
                      <a:pt x="1093" y="17"/>
                    </a:lnTo>
                    <a:lnTo>
                      <a:pt x="1167" y="12"/>
                    </a:lnTo>
                    <a:lnTo>
                      <a:pt x="1242" y="7"/>
                    </a:lnTo>
                    <a:lnTo>
                      <a:pt x="1319" y="4"/>
                    </a:lnTo>
                    <a:lnTo>
                      <a:pt x="1397" y="2"/>
                    </a:lnTo>
                    <a:lnTo>
                      <a:pt x="1476" y="0"/>
                    </a:lnTo>
                    <a:lnTo>
                      <a:pt x="1555" y="0"/>
                    </a:lnTo>
                    <a:lnTo>
                      <a:pt x="1635" y="0"/>
                    </a:lnTo>
                    <a:lnTo>
                      <a:pt x="1715" y="2"/>
                    </a:lnTo>
                    <a:lnTo>
                      <a:pt x="1793" y="4"/>
                    </a:lnTo>
                    <a:lnTo>
                      <a:pt x="1869" y="7"/>
                    </a:lnTo>
                    <a:lnTo>
                      <a:pt x="1944" y="12"/>
                    </a:lnTo>
                    <a:lnTo>
                      <a:pt x="2018" y="17"/>
                    </a:lnTo>
                    <a:lnTo>
                      <a:pt x="2091" y="23"/>
                    </a:lnTo>
                    <a:lnTo>
                      <a:pt x="2160" y="30"/>
                    </a:lnTo>
                    <a:lnTo>
                      <a:pt x="2230" y="38"/>
                    </a:lnTo>
                    <a:lnTo>
                      <a:pt x="2297" y="46"/>
                    </a:lnTo>
                    <a:lnTo>
                      <a:pt x="2362" y="56"/>
                    </a:lnTo>
                    <a:lnTo>
                      <a:pt x="2425" y="66"/>
                    </a:lnTo>
                    <a:lnTo>
                      <a:pt x="2486" y="78"/>
                    </a:lnTo>
                    <a:lnTo>
                      <a:pt x="2545" y="90"/>
                    </a:lnTo>
                    <a:lnTo>
                      <a:pt x="2602" y="102"/>
                    </a:lnTo>
                    <a:lnTo>
                      <a:pt x="2655" y="115"/>
                    </a:lnTo>
                    <a:lnTo>
                      <a:pt x="2707" y="129"/>
                    </a:lnTo>
                    <a:lnTo>
                      <a:pt x="2755" y="143"/>
                    </a:lnTo>
                    <a:lnTo>
                      <a:pt x="2802" y="158"/>
                    </a:lnTo>
                    <a:lnTo>
                      <a:pt x="2845" y="174"/>
                    </a:lnTo>
                    <a:lnTo>
                      <a:pt x="2886" y="191"/>
                    </a:lnTo>
                    <a:lnTo>
                      <a:pt x="2923" y="208"/>
                    </a:lnTo>
                    <a:lnTo>
                      <a:pt x="2957" y="226"/>
                    </a:lnTo>
                    <a:lnTo>
                      <a:pt x="2989" y="244"/>
                    </a:lnTo>
                    <a:lnTo>
                      <a:pt x="3017" y="262"/>
                    </a:lnTo>
                    <a:lnTo>
                      <a:pt x="3041" y="281"/>
                    </a:lnTo>
                    <a:lnTo>
                      <a:pt x="3062" y="302"/>
                    </a:lnTo>
                    <a:lnTo>
                      <a:pt x="3079" y="322"/>
                    </a:lnTo>
                    <a:lnTo>
                      <a:pt x="3093" y="342"/>
                    </a:lnTo>
                    <a:lnTo>
                      <a:pt x="3103" y="363"/>
                    </a:lnTo>
                    <a:lnTo>
                      <a:pt x="3109" y="384"/>
                    </a:lnTo>
                    <a:lnTo>
                      <a:pt x="3111" y="4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977120" y="6509160"/>
                <a:ext cx="341640" cy="99720"/>
              </a:xfrm>
              <a:custGeom>
                <a:avLst/>
                <a:gdLst/>
                <a:ahLst/>
                <a:rect l="l" t="t" r="r" b="b"/>
                <a:pathLst>
                  <a:path w="3108" h="831">
                    <a:moveTo>
                      <a:pt x="3108" y="407"/>
                    </a:moveTo>
                    <a:lnTo>
                      <a:pt x="3106" y="429"/>
                    </a:lnTo>
                    <a:lnTo>
                      <a:pt x="3100" y="450"/>
                    </a:lnTo>
                    <a:lnTo>
                      <a:pt x="3090" y="471"/>
                    </a:lnTo>
                    <a:lnTo>
                      <a:pt x="3075" y="492"/>
                    </a:lnTo>
                    <a:lnTo>
                      <a:pt x="3058" y="513"/>
                    </a:lnTo>
                    <a:lnTo>
                      <a:pt x="3037" y="533"/>
                    </a:lnTo>
                    <a:lnTo>
                      <a:pt x="3013" y="552"/>
                    </a:lnTo>
                    <a:lnTo>
                      <a:pt x="2986" y="571"/>
                    </a:lnTo>
                    <a:lnTo>
                      <a:pt x="2954" y="590"/>
                    </a:lnTo>
                    <a:lnTo>
                      <a:pt x="2920" y="609"/>
                    </a:lnTo>
                    <a:lnTo>
                      <a:pt x="2883" y="627"/>
                    </a:lnTo>
                    <a:lnTo>
                      <a:pt x="2842" y="644"/>
                    </a:lnTo>
                    <a:lnTo>
                      <a:pt x="2799" y="660"/>
                    </a:lnTo>
                    <a:lnTo>
                      <a:pt x="2752" y="676"/>
                    </a:lnTo>
                    <a:lnTo>
                      <a:pt x="2704" y="691"/>
                    </a:lnTo>
                    <a:lnTo>
                      <a:pt x="2652" y="706"/>
                    </a:lnTo>
                    <a:lnTo>
                      <a:pt x="2599" y="721"/>
                    </a:lnTo>
                    <a:lnTo>
                      <a:pt x="2542" y="734"/>
                    </a:lnTo>
                    <a:lnTo>
                      <a:pt x="2484" y="746"/>
                    </a:lnTo>
                    <a:lnTo>
                      <a:pt x="2422" y="758"/>
                    </a:lnTo>
                    <a:lnTo>
                      <a:pt x="2359" y="769"/>
                    </a:lnTo>
                    <a:lnTo>
                      <a:pt x="2294" y="779"/>
                    </a:lnTo>
                    <a:lnTo>
                      <a:pt x="2227" y="788"/>
                    </a:lnTo>
                    <a:lnTo>
                      <a:pt x="2158" y="797"/>
                    </a:lnTo>
                    <a:lnTo>
                      <a:pt x="2088" y="804"/>
                    </a:lnTo>
                    <a:lnTo>
                      <a:pt x="2016" y="811"/>
                    </a:lnTo>
                    <a:lnTo>
                      <a:pt x="1942" y="817"/>
                    </a:lnTo>
                    <a:lnTo>
                      <a:pt x="1867" y="822"/>
                    </a:lnTo>
                    <a:lnTo>
                      <a:pt x="1790" y="826"/>
                    </a:lnTo>
                    <a:lnTo>
                      <a:pt x="1712" y="829"/>
                    </a:lnTo>
                    <a:lnTo>
                      <a:pt x="1633" y="830"/>
                    </a:lnTo>
                    <a:lnTo>
                      <a:pt x="1553" y="831"/>
                    </a:lnTo>
                    <a:lnTo>
                      <a:pt x="1474" y="830"/>
                    </a:lnTo>
                    <a:lnTo>
                      <a:pt x="1395" y="829"/>
                    </a:lnTo>
                    <a:lnTo>
                      <a:pt x="1317" y="826"/>
                    </a:lnTo>
                    <a:lnTo>
                      <a:pt x="1240" y="822"/>
                    </a:lnTo>
                    <a:lnTo>
                      <a:pt x="1166" y="817"/>
                    </a:lnTo>
                    <a:lnTo>
                      <a:pt x="1092" y="811"/>
                    </a:lnTo>
                    <a:lnTo>
                      <a:pt x="1019" y="804"/>
                    </a:lnTo>
                    <a:lnTo>
                      <a:pt x="949" y="797"/>
                    </a:lnTo>
                    <a:lnTo>
                      <a:pt x="880" y="788"/>
                    </a:lnTo>
                    <a:lnTo>
                      <a:pt x="813" y="779"/>
                    </a:lnTo>
                    <a:lnTo>
                      <a:pt x="748" y="769"/>
                    </a:lnTo>
                    <a:lnTo>
                      <a:pt x="685" y="758"/>
                    </a:lnTo>
                    <a:lnTo>
                      <a:pt x="623" y="746"/>
                    </a:lnTo>
                    <a:lnTo>
                      <a:pt x="565" y="734"/>
                    </a:lnTo>
                    <a:lnTo>
                      <a:pt x="509" y="721"/>
                    </a:lnTo>
                    <a:lnTo>
                      <a:pt x="455" y="706"/>
                    </a:lnTo>
                    <a:lnTo>
                      <a:pt x="403" y="691"/>
                    </a:lnTo>
                    <a:lnTo>
                      <a:pt x="355" y="676"/>
                    </a:lnTo>
                    <a:lnTo>
                      <a:pt x="308" y="660"/>
                    </a:lnTo>
                    <a:lnTo>
                      <a:pt x="265" y="644"/>
                    </a:lnTo>
                    <a:lnTo>
                      <a:pt x="224" y="627"/>
                    </a:lnTo>
                    <a:lnTo>
                      <a:pt x="187" y="609"/>
                    </a:lnTo>
                    <a:lnTo>
                      <a:pt x="153" y="590"/>
                    </a:lnTo>
                    <a:lnTo>
                      <a:pt x="121" y="571"/>
                    </a:lnTo>
                    <a:lnTo>
                      <a:pt x="94" y="552"/>
                    </a:lnTo>
                    <a:lnTo>
                      <a:pt x="70" y="533"/>
                    </a:lnTo>
                    <a:lnTo>
                      <a:pt x="49" y="513"/>
                    </a:lnTo>
                    <a:lnTo>
                      <a:pt x="31" y="492"/>
                    </a:lnTo>
                    <a:lnTo>
                      <a:pt x="17" y="471"/>
                    </a:lnTo>
                    <a:lnTo>
                      <a:pt x="7" y="450"/>
                    </a:lnTo>
                    <a:lnTo>
                      <a:pt x="2" y="429"/>
                    </a:lnTo>
                    <a:lnTo>
                      <a:pt x="0" y="407"/>
                    </a:lnTo>
                    <a:lnTo>
                      <a:pt x="2" y="384"/>
                    </a:lnTo>
                    <a:lnTo>
                      <a:pt x="7" y="363"/>
                    </a:lnTo>
                    <a:lnTo>
                      <a:pt x="17" y="342"/>
                    </a:lnTo>
                    <a:lnTo>
                      <a:pt x="31" y="322"/>
                    </a:lnTo>
                    <a:lnTo>
                      <a:pt x="49" y="302"/>
                    </a:lnTo>
                    <a:lnTo>
                      <a:pt x="70" y="282"/>
                    </a:lnTo>
                    <a:lnTo>
                      <a:pt x="94" y="263"/>
                    </a:lnTo>
                    <a:lnTo>
                      <a:pt x="121" y="244"/>
                    </a:lnTo>
                    <a:lnTo>
                      <a:pt x="153" y="226"/>
                    </a:lnTo>
                    <a:lnTo>
                      <a:pt x="187" y="209"/>
                    </a:lnTo>
                    <a:lnTo>
                      <a:pt x="224" y="192"/>
                    </a:lnTo>
                    <a:lnTo>
                      <a:pt x="265" y="175"/>
                    </a:lnTo>
                    <a:lnTo>
                      <a:pt x="308" y="159"/>
                    </a:lnTo>
                    <a:lnTo>
                      <a:pt x="355" y="144"/>
                    </a:lnTo>
                    <a:lnTo>
                      <a:pt x="403" y="129"/>
                    </a:lnTo>
                    <a:lnTo>
                      <a:pt x="455" y="116"/>
                    </a:lnTo>
                    <a:lnTo>
                      <a:pt x="509" y="103"/>
                    </a:lnTo>
                    <a:lnTo>
                      <a:pt x="565" y="90"/>
                    </a:lnTo>
                    <a:lnTo>
                      <a:pt x="623" y="79"/>
                    </a:lnTo>
                    <a:lnTo>
                      <a:pt x="685" y="67"/>
                    </a:lnTo>
                    <a:lnTo>
                      <a:pt x="748" y="57"/>
                    </a:lnTo>
                    <a:lnTo>
                      <a:pt x="813" y="47"/>
                    </a:lnTo>
                    <a:lnTo>
                      <a:pt x="880" y="39"/>
                    </a:lnTo>
                    <a:lnTo>
                      <a:pt x="949" y="31"/>
                    </a:lnTo>
                    <a:lnTo>
                      <a:pt x="1019" y="24"/>
                    </a:lnTo>
                    <a:lnTo>
                      <a:pt x="1092" y="18"/>
                    </a:lnTo>
                    <a:lnTo>
                      <a:pt x="1166" y="13"/>
                    </a:lnTo>
                    <a:lnTo>
                      <a:pt x="1240" y="8"/>
                    </a:lnTo>
                    <a:lnTo>
                      <a:pt x="1317" y="5"/>
                    </a:lnTo>
                    <a:lnTo>
                      <a:pt x="1395" y="2"/>
                    </a:lnTo>
                    <a:lnTo>
                      <a:pt x="1474" y="1"/>
                    </a:lnTo>
                    <a:lnTo>
                      <a:pt x="1553" y="0"/>
                    </a:lnTo>
                    <a:lnTo>
                      <a:pt x="1633" y="1"/>
                    </a:lnTo>
                    <a:lnTo>
                      <a:pt x="1712" y="2"/>
                    </a:lnTo>
                    <a:lnTo>
                      <a:pt x="1790" y="5"/>
                    </a:lnTo>
                    <a:lnTo>
                      <a:pt x="1867" y="8"/>
                    </a:lnTo>
                    <a:lnTo>
                      <a:pt x="1942" y="13"/>
                    </a:lnTo>
                    <a:lnTo>
                      <a:pt x="2016" y="18"/>
                    </a:lnTo>
                    <a:lnTo>
                      <a:pt x="2088" y="24"/>
                    </a:lnTo>
                    <a:lnTo>
                      <a:pt x="2158" y="31"/>
                    </a:lnTo>
                    <a:lnTo>
                      <a:pt x="2227" y="39"/>
                    </a:lnTo>
                    <a:lnTo>
                      <a:pt x="2294" y="47"/>
                    </a:lnTo>
                    <a:lnTo>
                      <a:pt x="2359" y="57"/>
                    </a:lnTo>
                    <a:lnTo>
                      <a:pt x="2422" y="67"/>
                    </a:lnTo>
                    <a:lnTo>
                      <a:pt x="2484" y="79"/>
                    </a:lnTo>
                    <a:lnTo>
                      <a:pt x="2542" y="90"/>
                    </a:lnTo>
                    <a:lnTo>
                      <a:pt x="2599" y="103"/>
                    </a:lnTo>
                    <a:lnTo>
                      <a:pt x="2652" y="116"/>
                    </a:lnTo>
                    <a:lnTo>
                      <a:pt x="2704" y="129"/>
                    </a:lnTo>
                    <a:lnTo>
                      <a:pt x="2752" y="144"/>
                    </a:lnTo>
                    <a:lnTo>
                      <a:pt x="2799" y="159"/>
                    </a:lnTo>
                    <a:lnTo>
                      <a:pt x="2842" y="175"/>
                    </a:lnTo>
                    <a:lnTo>
                      <a:pt x="2883" y="192"/>
                    </a:lnTo>
                    <a:lnTo>
                      <a:pt x="2920" y="209"/>
                    </a:lnTo>
                    <a:lnTo>
                      <a:pt x="2954" y="226"/>
                    </a:lnTo>
                    <a:lnTo>
                      <a:pt x="2986" y="244"/>
                    </a:lnTo>
                    <a:lnTo>
                      <a:pt x="3013" y="263"/>
                    </a:lnTo>
                    <a:lnTo>
                      <a:pt x="3037" y="282"/>
                    </a:lnTo>
                    <a:lnTo>
                      <a:pt x="3058" y="302"/>
                    </a:lnTo>
                    <a:lnTo>
                      <a:pt x="3075" y="322"/>
                    </a:lnTo>
                    <a:lnTo>
                      <a:pt x="3090" y="342"/>
                    </a:lnTo>
                    <a:lnTo>
                      <a:pt x="3100" y="363"/>
                    </a:lnTo>
                    <a:lnTo>
                      <a:pt x="3106" y="384"/>
                    </a:lnTo>
                    <a:lnTo>
                      <a:pt x="3108" y="4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977120" y="6509160"/>
                <a:ext cx="341640" cy="99720"/>
              </a:xfrm>
              <a:custGeom>
                <a:avLst/>
                <a:gdLst/>
                <a:ahLst/>
                <a:rect l="l" t="t" r="r" b="b"/>
                <a:pathLst>
                  <a:path w="3105" h="829">
                    <a:moveTo>
                      <a:pt x="3105" y="406"/>
                    </a:moveTo>
                    <a:lnTo>
                      <a:pt x="3103" y="427"/>
                    </a:lnTo>
                    <a:lnTo>
                      <a:pt x="3097" y="449"/>
                    </a:lnTo>
                    <a:lnTo>
                      <a:pt x="3087" y="470"/>
                    </a:lnTo>
                    <a:lnTo>
                      <a:pt x="3073" y="490"/>
                    </a:lnTo>
                    <a:lnTo>
                      <a:pt x="3056" y="512"/>
                    </a:lnTo>
                    <a:lnTo>
                      <a:pt x="3035" y="531"/>
                    </a:lnTo>
                    <a:lnTo>
                      <a:pt x="3011" y="551"/>
                    </a:lnTo>
                    <a:lnTo>
                      <a:pt x="2983" y="570"/>
                    </a:lnTo>
                    <a:lnTo>
                      <a:pt x="2952" y="589"/>
                    </a:lnTo>
                    <a:lnTo>
                      <a:pt x="2918" y="608"/>
                    </a:lnTo>
                    <a:lnTo>
                      <a:pt x="2881" y="625"/>
                    </a:lnTo>
                    <a:lnTo>
                      <a:pt x="2840" y="642"/>
                    </a:lnTo>
                    <a:lnTo>
                      <a:pt x="2797" y="659"/>
                    </a:lnTo>
                    <a:lnTo>
                      <a:pt x="2750" y="674"/>
                    </a:lnTo>
                    <a:lnTo>
                      <a:pt x="2702" y="690"/>
                    </a:lnTo>
                    <a:lnTo>
                      <a:pt x="2650" y="704"/>
                    </a:lnTo>
                    <a:lnTo>
                      <a:pt x="2597" y="719"/>
                    </a:lnTo>
                    <a:lnTo>
                      <a:pt x="2540" y="732"/>
                    </a:lnTo>
                    <a:lnTo>
                      <a:pt x="2482" y="745"/>
                    </a:lnTo>
                    <a:lnTo>
                      <a:pt x="2421" y="756"/>
                    </a:lnTo>
                    <a:lnTo>
                      <a:pt x="2357" y="767"/>
                    </a:lnTo>
                    <a:lnTo>
                      <a:pt x="2293" y="777"/>
                    </a:lnTo>
                    <a:lnTo>
                      <a:pt x="2225" y="787"/>
                    </a:lnTo>
                    <a:lnTo>
                      <a:pt x="2156" y="795"/>
                    </a:lnTo>
                    <a:lnTo>
                      <a:pt x="2087" y="802"/>
                    </a:lnTo>
                    <a:lnTo>
                      <a:pt x="2014" y="809"/>
                    </a:lnTo>
                    <a:lnTo>
                      <a:pt x="1940" y="815"/>
                    </a:lnTo>
                    <a:lnTo>
                      <a:pt x="1866" y="820"/>
                    </a:lnTo>
                    <a:lnTo>
                      <a:pt x="1789" y="824"/>
                    </a:lnTo>
                    <a:lnTo>
                      <a:pt x="1711" y="827"/>
                    </a:lnTo>
                    <a:lnTo>
                      <a:pt x="1632" y="828"/>
                    </a:lnTo>
                    <a:lnTo>
                      <a:pt x="1552" y="829"/>
                    </a:lnTo>
                    <a:lnTo>
                      <a:pt x="1473" y="828"/>
                    </a:lnTo>
                    <a:lnTo>
                      <a:pt x="1394" y="827"/>
                    </a:lnTo>
                    <a:lnTo>
                      <a:pt x="1316" y="824"/>
                    </a:lnTo>
                    <a:lnTo>
                      <a:pt x="1239" y="820"/>
                    </a:lnTo>
                    <a:lnTo>
                      <a:pt x="1165" y="815"/>
                    </a:lnTo>
                    <a:lnTo>
                      <a:pt x="1091" y="809"/>
                    </a:lnTo>
                    <a:lnTo>
                      <a:pt x="1019" y="802"/>
                    </a:lnTo>
                    <a:lnTo>
                      <a:pt x="949" y="795"/>
                    </a:lnTo>
                    <a:lnTo>
                      <a:pt x="880" y="787"/>
                    </a:lnTo>
                    <a:lnTo>
                      <a:pt x="812" y="777"/>
                    </a:lnTo>
                    <a:lnTo>
                      <a:pt x="748" y="767"/>
                    </a:lnTo>
                    <a:lnTo>
                      <a:pt x="685" y="756"/>
                    </a:lnTo>
                    <a:lnTo>
                      <a:pt x="623" y="745"/>
                    </a:lnTo>
                    <a:lnTo>
                      <a:pt x="565" y="732"/>
                    </a:lnTo>
                    <a:lnTo>
                      <a:pt x="509" y="719"/>
                    </a:lnTo>
                    <a:lnTo>
                      <a:pt x="455" y="704"/>
                    </a:lnTo>
                    <a:lnTo>
                      <a:pt x="403" y="690"/>
                    </a:lnTo>
                    <a:lnTo>
                      <a:pt x="355" y="674"/>
                    </a:lnTo>
                    <a:lnTo>
                      <a:pt x="308" y="659"/>
                    </a:lnTo>
                    <a:lnTo>
                      <a:pt x="265" y="642"/>
                    </a:lnTo>
                    <a:lnTo>
                      <a:pt x="224" y="625"/>
                    </a:lnTo>
                    <a:lnTo>
                      <a:pt x="187" y="608"/>
                    </a:lnTo>
                    <a:lnTo>
                      <a:pt x="153" y="589"/>
                    </a:lnTo>
                    <a:lnTo>
                      <a:pt x="122" y="570"/>
                    </a:lnTo>
                    <a:lnTo>
                      <a:pt x="94" y="551"/>
                    </a:lnTo>
                    <a:lnTo>
                      <a:pt x="70" y="531"/>
                    </a:lnTo>
                    <a:lnTo>
                      <a:pt x="49" y="512"/>
                    </a:lnTo>
                    <a:lnTo>
                      <a:pt x="31" y="490"/>
                    </a:lnTo>
                    <a:lnTo>
                      <a:pt x="18" y="470"/>
                    </a:lnTo>
                    <a:lnTo>
                      <a:pt x="8" y="449"/>
                    </a:lnTo>
                    <a:lnTo>
                      <a:pt x="2" y="427"/>
                    </a:lnTo>
                    <a:lnTo>
                      <a:pt x="0" y="406"/>
                    </a:lnTo>
                    <a:lnTo>
                      <a:pt x="2" y="383"/>
                    </a:lnTo>
                    <a:lnTo>
                      <a:pt x="8" y="362"/>
                    </a:lnTo>
                    <a:lnTo>
                      <a:pt x="18" y="342"/>
                    </a:lnTo>
                    <a:lnTo>
                      <a:pt x="31" y="321"/>
                    </a:lnTo>
                    <a:lnTo>
                      <a:pt x="49" y="301"/>
                    </a:lnTo>
                    <a:lnTo>
                      <a:pt x="70" y="281"/>
                    </a:lnTo>
                    <a:lnTo>
                      <a:pt x="94" y="262"/>
                    </a:lnTo>
                    <a:lnTo>
                      <a:pt x="122" y="244"/>
                    </a:lnTo>
                    <a:lnTo>
                      <a:pt x="153" y="226"/>
                    </a:lnTo>
                    <a:lnTo>
                      <a:pt x="187" y="208"/>
                    </a:lnTo>
                    <a:lnTo>
                      <a:pt x="224" y="191"/>
                    </a:lnTo>
                    <a:lnTo>
                      <a:pt x="265" y="174"/>
                    </a:lnTo>
                    <a:lnTo>
                      <a:pt x="308" y="159"/>
                    </a:lnTo>
                    <a:lnTo>
                      <a:pt x="355" y="144"/>
                    </a:lnTo>
                    <a:lnTo>
                      <a:pt x="403" y="129"/>
                    </a:lnTo>
                    <a:lnTo>
                      <a:pt x="455" y="115"/>
                    </a:lnTo>
                    <a:lnTo>
                      <a:pt x="509" y="102"/>
                    </a:lnTo>
                    <a:lnTo>
                      <a:pt x="565" y="90"/>
                    </a:lnTo>
                    <a:lnTo>
                      <a:pt x="623" y="78"/>
                    </a:lnTo>
                    <a:lnTo>
                      <a:pt x="685" y="66"/>
                    </a:lnTo>
                    <a:lnTo>
                      <a:pt x="748" y="56"/>
                    </a:lnTo>
                    <a:lnTo>
                      <a:pt x="812" y="47"/>
                    </a:lnTo>
                    <a:lnTo>
                      <a:pt x="880" y="38"/>
                    </a:lnTo>
                    <a:lnTo>
                      <a:pt x="949" y="31"/>
                    </a:lnTo>
                    <a:lnTo>
                      <a:pt x="1019" y="24"/>
                    </a:lnTo>
                    <a:lnTo>
                      <a:pt x="1091" y="18"/>
                    </a:lnTo>
                    <a:lnTo>
                      <a:pt x="1165" y="12"/>
                    </a:lnTo>
                    <a:lnTo>
                      <a:pt x="1239" y="8"/>
                    </a:lnTo>
                    <a:lnTo>
                      <a:pt x="1316" y="5"/>
                    </a:lnTo>
                    <a:lnTo>
                      <a:pt x="1394" y="2"/>
                    </a:lnTo>
                    <a:lnTo>
                      <a:pt x="1473" y="1"/>
                    </a:lnTo>
                    <a:lnTo>
                      <a:pt x="1552" y="0"/>
                    </a:lnTo>
                    <a:lnTo>
                      <a:pt x="1632" y="1"/>
                    </a:lnTo>
                    <a:lnTo>
                      <a:pt x="1711" y="2"/>
                    </a:lnTo>
                    <a:lnTo>
                      <a:pt x="1789" y="5"/>
                    </a:lnTo>
                    <a:lnTo>
                      <a:pt x="1866" y="8"/>
                    </a:lnTo>
                    <a:lnTo>
                      <a:pt x="1940" y="12"/>
                    </a:lnTo>
                    <a:lnTo>
                      <a:pt x="2014" y="18"/>
                    </a:lnTo>
                    <a:lnTo>
                      <a:pt x="2087" y="24"/>
                    </a:lnTo>
                    <a:lnTo>
                      <a:pt x="2156" y="31"/>
                    </a:lnTo>
                    <a:lnTo>
                      <a:pt x="2225" y="38"/>
                    </a:lnTo>
                    <a:lnTo>
                      <a:pt x="2293" y="47"/>
                    </a:lnTo>
                    <a:lnTo>
                      <a:pt x="2357" y="56"/>
                    </a:lnTo>
                    <a:lnTo>
                      <a:pt x="2421" y="66"/>
                    </a:lnTo>
                    <a:lnTo>
                      <a:pt x="2482" y="78"/>
                    </a:lnTo>
                    <a:lnTo>
                      <a:pt x="2540" y="90"/>
                    </a:lnTo>
                    <a:lnTo>
                      <a:pt x="2597" y="102"/>
                    </a:lnTo>
                    <a:lnTo>
                      <a:pt x="2650" y="115"/>
                    </a:lnTo>
                    <a:lnTo>
                      <a:pt x="2702" y="129"/>
                    </a:lnTo>
                    <a:lnTo>
                      <a:pt x="2750" y="144"/>
                    </a:lnTo>
                    <a:lnTo>
                      <a:pt x="2797" y="159"/>
                    </a:lnTo>
                    <a:lnTo>
                      <a:pt x="2840" y="174"/>
                    </a:lnTo>
                    <a:lnTo>
                      <a:pt x="2881" y="191"/>
                    </a:lnTo>
                    <a:lnTo>
                      <a:pt x="2918" y="208"/>
                    </a:lnTo>
                    <a:lnTo>
                      <a:pt x="2952" y="226"/>
                    </a:lnTo>
                    <a:lnTo>
                      <a:pt x="2983" y="244"/>
                    </a:lnTo>
                    <a:lnTo>
                      <a:pt x="3011" y="262"/>
                    </a:lnTo>
                    <a:lnTo>
                      <a:pt x="3035" y="281"/>
                    </a:lnTo>
                    <a:lnTo>
                      <a:pt x="3056" y="301"/>
                    </a:lnTo>
                    <a:lnTo>
                      <a:pt x="3073" y="321"/>
                    </a:lnTo>
                    <a:lnTo>
                      <a:pt x="3087" y="342"/>
                    </a:lnTo>
                    <a:lnTo>
                      <a:pt x="3097" y="362"/>
                    </a:lnTo>
                    <a:lnTo>
                      <a:pt x="3103" y="383"/>
                    </a:lnTo>
                    <a:lnTo>
                      <a:pt x="3105" y="4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77120" y="6509160"/>
                <a:ext cx="341640" cy="98280"/>
              </a:xfrm>
              <a:custGeom>
                <a:avLst/>
                <a:gdLst/>
                <a:ahLst/>
                <a:rect l="l" t="t" r="r" b="b"/>
                <a:pathLst>
                  <a:path w="3103" h="827">
                    <a:moveTo>
                      <a:pt x="3103" y="405"/>
                    </a:moveTo>
                    <a:lnTo>
                      <a:pt x="3101" y="426"/>
                    </a:lnTo>
                    <a:lnTo>
                      <a:pt x="3095" y="448"/>
                    </a:lnTo>
                    <a:lnTo>
                      <a:pt x="3085" y="469"/>
                    </a:lnTo>
                    <a:lnTo>
                      <a:pt x="3071" y="489"/>
                    </a:lnTo>
                    <a:lnTo>
                      <a:pt x="3053" y="510"/>
                    </a:lnTo>
                    <a:lnTo>
                      <a:pt x="3033" y="530"/>
                    </a:lnTo>
                    <a:lnTo>
                      <a:pt x="3009" y="550"/>
                    </a:lnTo>
                    <a:lnTo>
                      <a:pt x="2981" y="569"/>
                    </a:lnTo>
                    <a:lnTo>
                      <a:pt x="2949" y="587"/>
                    </a:lnTo>
                    <a:lnTo>
                      <a:pt x="2915" y="606"/>
                    </a:lnTo>
                    <a:lnTo>
                      <a:pt x="2878" y="624"/>
                    </a:lnTo>
                    <a:lnTo>
                      <a:pt x="2838" y="641"/>
                    </a:lnTo>
                    <a:lnTo>
                      <a:pt x="2795" y="657"/>
                    </a:lnTo>
                    <a:lnTo>
                      <a:pt x="2748" y="673"/>
                    </a:lnTo>
                    <a:lnTo>
                      <a:pt x="2700" y="688"/>
                    </a:lnTo>
                    <a:lnTo>
                      <a:pt x="2648" y="702"/>
                    </a:lnTo>
                    <a:lnTo>
                      <a:pt x="2595" y="717"/>
                    </a:lnTo>
                    <a:lnTo>
                      <a:pt x="2538" y="730"/>
                    </a:lnTo>
                    <a:lnTo>
                      <a:pt x="2480" y="743"/>
                    </a:lnTo>
                    <a:lnTo>
                      <a:pt x="2419" y="755"/>
                    </a:lnTo>
                    <a:lnTo>
                      <a:pt x="2355" y="765"/>
                    </a:lnTo>
                    <a:lnTo>
                      <a:pt x="2291" y="775"/>
                    </a:lnTo>
                    <a:lnTo>
                      <a:pt x="2224" y="785"/>
                    </a:lnTo>
                    <a:lnTo>
                      <a:pt x="2155" y="793"/>
                    </a:lnTo>
                    <a:lnTo>
                      <a:pt x="2085" y="801"/>
                    </a:lnTo>
                    <a:lnTo>
                      <a:pt x="2013" y="807"/>
                    </a:lnTo>
                    <a:lnTo>
                      <a:pt x="1939" y="813"/>
                    </a:lnTo>
                    <a:lnTo>
                      <a:pt x="1865" y="818"/>
                    </a:lnTo>
                    <a:lnTo>
                      <a:pt x="1788" y="822"/>
                    </a:lnTo>
                    <a:lnTo>
                      <a:pt x="1710" y="825"/>
                    </a:lnTo>
                    <a:lnTo>
                      <a:pt x="1631" y="826"/>
                    </a:lnTo>
                    <a:lnTo>
                      <a:pt x="1551" y="827"/>
                    </a:lnTo>
                    <a:lnTo>
                      <a:pt x="1472" y="826"/>
                    </a:lnTo>
                    <a:lnTo>
                      <a:pt x="1393" y="825"/>
                    </a:lnTo>
                    <a:lnTo>
                      <a:pt x="1315" y="822"/>
                    </a:lnTo>
                    <a:lnTo>
                      <a:pt x="1239" y="818"/>
                    </a:lnTo>
                    <a:lnTo>
                      <a:pt x="1164" y="813"/>
                    </a:lnTo>
                    <a:lnTo>
                      <a:pt x="1090" y="807"/>
                    </a:lnTo>
                    <a:lnTo>
                      <a:pt x="1018" y="801"/>
                    </a:lnTo>
                    <a:lnTo>
                      <a:pt x="948" y="793"/>
                    </a:lnTo>
                    <a:lnTo>
                      <a:pt x="879" y="785"/>
                    </a:lnTo>
                    <a:lnTo>
                      <a:pt x="812" y="775"/>
                    </a:lnTo>
                    <a:lnTo>
                      <a:pt x="748" y="765"/>
                    </a:lnTo>
                    <a:lnTo>
                      <a:pt x="684" y="755"/>
                    </a:lnTo>
                    <a:lnTo>
                      <a:pt x="623" y="743"/>
                    </a:lnTo>
                    <a:lnTo>
                      <a:pt x="565" y="730"/>
                    </a:lnTo>
                    <a:lnTo>
                      <a:pt x="508" y="717"/>
                    </a:lnTo>
                    <a:lnTo>
                      <a:pt x="455" y="702"/>
                    </a:lnTo>
                    <a:lnTo>
                      <a:pt x="403" y="688"/>
                    </a:lnTo>
                    <a:lnTo>
                      <a:pt x="355" y="673"/>
                    </a:lnTo>
                    <a:lnTo>
                      <a:pt x="308" y="657"/>
                    </a:lnTo>
                    <a:lnTo>
                      <a:pt x="266" y="641"/>
                    </a:lnTo>
                    <a:lnTo>
                      <a:pt x="225" y="624"/>
                    </a:lnTo>
                    <a:lnTo>
                      <a:pt x="188" y="606"/>
                    </a:lnTo>
                    <a:lnTo>
                      <a:pt x="154" y="587"/>
                    </a:lnTo>
                    <a:lnTo>
                      <a:pt x="122" y="569"/>
                    </a:lnTo>
                    <a:lnTo>
                      <a:pt x="95" y="550"/>
                    </a:lnTo>
                    <a:lnTo>
                      <a:pt x="70" y="530"/>
                    </a:lnTo>
                    <a:lnTo>
                      <a:pt x="50" y="510"/>
                    </a:lnTo>
                    <a:lnTo>
                      <a:pt x="33" y="489"/>
                    </a:lnTo>
                    <a:lnTo>
                      <a:pt x="18" y="469"/>
                    </a:lnTo>
                    <a:lnTo>
                      <a:pt x="8" y="448"/>
                    </a:lnTo>
                    <a:lnTo>
                      <a:pt x="2" y="426"/>
                    </a:lnTo>
                    <a:lnTo>
                      <a:pt x="0" y="405"/>
                    </a:lnTo>
                    <a:lnTo>
                      <a:pt x="2" y="382"/>
                    </a:lnTo>
                    <a:lnTo>
                      <a:pt x="8" y="361"/>
                    </a:lnTo>
                    <a:lnTo>
                      <a:pt x="18" y="341"/>
                    </a:lnTo>
                    <a:lnTo>
                      <a:pt x="33" y="320"/>
                    </a:lnTo>
                    <a:lnTo>
                      <a:pt x="50" y="301"/>
                    </a:lnTo>
                    <a:lnTo>
                      <a:pt x="70" y="280"/>
                    </a:lnTo>
                    <a:lnTo>
                      <a:pt x="95" y="261"/>
                    </a:lnTo>
                    <a:lnTo>
                      <a:pt x="122" y="243"/>
                    </a:lnTo>
                    <a:lnTo>
                      <a:pt x="154" y="225"/>
                    </a:lnTo>
                    <a:lnTo>
                      <a:pt x="188" y="208"/>
                    </a:lnTo>
                    <a:lnTo>
                      <a:pt x="225" y="191"/>
                    </a:lnTo>
                    <a:lnTo>
                      <a:pt x="266" y="175"/>
                    </a:lnTo>
                    <a:lnTo>
                      <a:pt x="308" y="158"/>
                    </a:lnTo>
                    <a:lnTo>
                      <a:pt x="355" y="143"/>
                    </a:lnTo>
                    <a:lnTo>
                      <a:pt x="403" y="129"/>
                    </a:lnTo>
                    <a:lnTo>
                      <a:pt x="455" y="115"/>
                    </a:lnTo>
                    <a:lnTo>
                      <a:pt x="508" y="102"/>
                    </a:lnTo>
                    <a:lnTo>
                      <a:pt x="565" y="90"/>
                    </a:lnTo>
                    <a:lnTo>
                      <a:pt x="623" y="78"/>
                    </a:lnTo>
                    <a:lnTo>
                      <a:pt x="684" y="66"/>
                    </a:lnTo>
                    <a:lnTo>
                      <a:pt x="748" y="56"/>
                    </a:lnTo>
                    <a:lnTo>
                      <a:pt x="812" y="47"/>
                    </a:lnTo>
                    <a:lnTo>
                      <a:pt x="879" y="38"/>
                    </a:lnTo>
                    <a:lnTo>
                      <a:pt x="948" y="30"/>
                    </a:lnTo>
                    <a:lnTo>
                      <a:pt x="1018" y="24"/>
                    </a:lnTo>
                    <a:lnTo>
                      <a:pt x="1090" y="18"/>
                    </a:lnTo>
                    <a:lnTo>
                      <a:pt x="1164" y="12"/>
                    </a:lnTo>
                    <a:lnTo>
                      <a:pt x="1239" y="8"/>
                    </a:lnTo>
                    <a:lnTo>
                      <a:pt x="1315" y="5"/>
                    </a:lnTo>
                    <a:lnTo>
                      <a:pt x="1393" y="2"/>
                    </a:lnTo>
                    <a:lnTo>
                      <a:pt x="1472" y="1"/>
                    </a:lnTo>
                    <a:lnTo>
                      <a:pt x="1551" y="0"/>
                    </a:lnTo>
                    <a:lnTo>
                      <a:pt x="1631" y="1"/>
                    </a:lnTo>
                    <a:lnTo>
                      <a:pt x="1710" y="2"/>
                    </a:lnTo>
                    <a:lnTo>
                      <a:pt x="1788" y="5"/>
                    </a:lnTo>
                    <a:lnTo>
                      <a:pt x="1865" y="8"/>
                    </a:lnTo>
                    <a:lnTo>
                      <a:pt x="1939" y="12"/>
                    </a:lnTo>
                    <a:lnTo>
                      <a:pt x="2013" y="18"/>
                    </a:lnTo>
                    <a:lnTo>
                      <a:pt x="2085" y="24"/>
                    </a:lnTo>
                    <a:lnTo>
                      <a:pt x="2155" y="30"/>
                    </a:lnTo>
                    <a:lnTo>
                      <a:pt x="2224" y="38"/>
                    </a:lnTo>
                    <a:lnTo>
                      <a:pt x="2291" y="47"/>
                    </a:lnTo>
                    <a:lnTo>
                      <a:pt x="2355" y="56"/>
                    </a:lnTo>
                    <a:lnTo>
                      <a:pt x="2419" y="66"/>
                    </a:lnTo>
                    <a:lnTo>
                      <a:pt x="2480" y="78"/>
                    </a:lnTo>
                    <a:lnTo>
                      <a:pt x="2538" y="90"/>
                    </a:lnTo>
                    <a:lnTo>
                      <a:pt x="2595" y="102"/>
                    </a:lnTo>
                    <a:lnTo>
                      <a:pt x="2648" y="115"/>
                    </a:lnTo>
                    <a:lnTo>
                      <a:pt x="2700" y="129"/>
                    </a:lnTo>
                    <a:lnTo>
                      <a:pt x="2748" y="143"/>
                    </a:lnTo>
                    <a:lnTo>
                      <a:pt x="2795" y="158"/>
                    </a:lnTo>
                    <a:lnTo>
                      <a:pt x="2838" y="175"/>
                    </a:lnTo>
                    <a:lnTo>
                      <a:pt x="2878" y="191"/>
                    </a:lnTo>
                    <a:lnTo>
                      <a:pt x="2915" y="208"/>
                    </a:lnTo>
                    <a:lnTo>
                      <a:pt x="2949" y="225"/>
                    </a:lnTo>
                    <a:lnTo>
                      <a:pt x="2981" y="243"/>
                    </a:lnTo>
                    <a:lnTo>
                      <a:pt x="3009" y="261"/>
                    </a:lnTo>
                    <a:lnTo>
                      <a:pt x="3033" y="280"/>
                    </a:lnTo>
                    <a:lnTo>
                      <a:pt x="3053" y="301"/>
                    </a:lnTo>
                    <a:lnTo>
                      <a:pt x="3071" y="320"/>
                    </a:lnTo>
                    <a:lnTo>
                      <a:pt x="3085" y="341"/>
                    </a:lnTo>
                    <a:lnTo>
                      <a:pt x="3095" y="361"/>
                    </a:lnTo>
                    <a:lnTo>
                      <a:pt x="3101" y="382"/>
                    </a:lnTo>
                    <a:lnTo>
                      <a:pt x="3103" y="4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977120" y="6509160"/>
                <a:ext cx="341640" cy="98280"/>
              </a:xfrm>
              <a:custGeom>
                <a:avLst/>
                <a:gdLst/>
                <a:ahLst/>
                <a:rect l="l" t="t" r="r" b="b"/>
                <a:pathLst>
                  <a:path w="3099" h="825">
                    <a:moveTo>
                      <a:pt x="3099" y="404"/>
                    </a:moveTo>
                    <a:lnTo>
                      <a:pt x="3097" y="425"/>
                    </a:lnTo>
                    <a:lnTo>
                      <a:pt x="3091" y="447"/>
                    </a:lnTo>
                    <a:lnTo>
                      <a:pt x="3082" y="467"/>
                    </a:lnTo>
                    <a:lnTo>
                      <a:pt x="3067" y="488"/>
                    </a:lnTo>
                    <a:lnTo>
                      <a:pt x="3050" y="509"/>
                    </a:lnTo>
                    <a:lnTo>
                      <a:pt x="3029" y="529"/>
                    </a:lnTo>
                    <a:lnTo>
                      <a:pt x="3005" y="548"/>
                    </a:lnTo>
                    <a:lnTo>
                      <a:pt x="2978" y="567"/>
                    </a:lnTo>
                    <a:lnTo>
                      <a:pt x="2946" y="586"/>
                    </a:lnTo>
                    <a:lnTo>
                      <a:pt x="2912" y="605"/>
                    </a:lnTo>
                    <a:lnTo>
                      <a:pt x="2874" y="622"/>
                    </a:lnTo>
                    <a:lnTo>
                      <a:pt x="2834" y="639"/>
                    </a:lnTo>
                    <a:lnTo>
                      <a:pt x="2792" y="655"/>
                    </a:lnTo>
                    <a:lnTo>
                      <a:pt x="2745" y="671"/>
                    </a:lnTo>
                    <a:lnTo>
                      <a:pt x="2697" y="686"/>
                    </a:lnTo>
                    <a:lnTo>
                      <a:pt x="2645" y="701"/>
                    </a:lnTo>
                    <a:lnTo>
                      <a:pt x="2592" y="716"/>
                    </a:lnTo>
                    <a:lnTo>
                      <a:pt x="2535" y="729"/>
                    </a:lnTo>
                    <a:lnTo>
                      <a:pt x="2477" y="741"/>
                    </a:lnTo>
                    <a:lnTo>
                      <a:pt x="2416" y="753"/>
                    </a:lnTo>
                    <a:lnTo>
                      <a:pt x="2353" y="764"/>
                    </a:lnTo>
                    <a:lnTo>
                      <a:pt x="2288" y="774"/>
                    </a:lnTo>
                    <a:lnTo>
                      <a:pt x="2221" y="783"/>
                    </a:lnTo>
                    <a:lnTo>
                      <a:pt x="2152" y="791"/>
                    </a:lnTo>
                    <a:lnTo>
                      <a:pt x="2083" y="799"/>
                    </a:lnTo>
                    <a:lnTo>
                      <a:pt x="2010" y="805"/>
                    </a:lnTo>
                    <a:lnTo>
                      <a:pt x="1937" y="811"/>
                    </a:lnTo>
                    <a:lnTo>
                      <a:pt x="1862" y="816"/>
                    </a:lnTo>
                    <a:lnTo>
                      <a:pt x="1786" y="820"/>
                    </a:lnTo>
                    <a:lnTo>
                      <a:pt x="1708" y="823"/>
                    </a:lnTo>
                    <a:lnTo>
                      <a:pt x="1629" y="824"/>
                    </a:lnTo>
                    <a:lnTo>
                      <a:pt x="1549" y="825"/>
                    </a:lnTo>
                    <a:lnTo>
                      <a:pt x="1470" y="824"/>
                    </a:lnTo>
                    <a:lnTo>
                      <a:pt x="1391" y="823"/>
                    </a:lnTo>
                    <a:lnTo>
                      <a:pt x="1313" y="820"/>
                    </a:lnTo>
                    <a:lnTo>
                      <a:pt x="1237" y="816"/>
                    </a:lnTo>
                    <a:lnTo>
                      <a:pt x="1163" y="811"/>
                    </a:lnTo>
                    <a:lnTo>
                      <a:pt x="1089" y="805"/>
                    </a:lnTo>
                    <a:lnTo>
                      <a:pt x="1016" y="799"/>
                    </a:lnTo>
                    <a:lnTo>
                      <a:pt x="947" y="791"/>
                    </a:lnTo>
                    <a:lnTo>
                      <a:pt x="878" y="783"/>
                    </a:lnTo>
                    <a:lnTo>
                      <a:pt x="811" y="774"/>
                    </a:lnTo>
                    <a:lnTo>
                      <a:pt x="746" y="764"/>
                    </a:lnTo>
                    <a:lnTo>
                      <a:pt x="683" y="753"/>
                    </a:lnTo>
                    <a:lnTo>
                      <a:pt x="622" y="741"/>
                    </a:lnTo>
                    <a:lnTo>
                      <a:pt x="564" y="729"/>
                    </a:lnTo>
                    <a:lnTo>
                      <a:pt x="507" y="716"/>
                    </a:lnTo>
                    <a:lnTo>
                      <a:pt x="454" y="701"/>
                    </a:lnTo>
                    <a:lnTo>
                      <a:pt x="402" y="686"/>
                    </a:lnTo>
                    <a:lnTo>
                      <a:pt x="354" y="671"/>
                    </a:lnTo>
                    <a:lnTo>
                      <a:pt x="308" y="655"/>
                    </a:lnTo>
                    <a:lnTo>
                      <a:pt x="265" y="639"/>
                    </a:lnTo>
                    <a:lnTo>
                      <a:pt x="224" y="622"/>
                    </a:lnTo>
                    <a:lnTo>
                      <a:pt x="187" y="605"/>
                    </a:lnTo>
                    <a:lnTo>
                      <a:pt x="153" y="586"/>
                    </a:lnTo>
                    <a:lnTo>
                      <a:pt x="121" y="567"/>
                    </a:lnTo>
                    <a:lnTo>
                      <a:pt x="94" y="548"/>
                    </a:lnTo>
                    <a:lnTo>
                      <a:pt x="70" y="529"/>
                    </a:lnTo>
                    <a:lnTo>
                      <a:pt x="49" y="509"/>
                    </a:lnTo>
                    <a:lnTo>
                      <a:pt x="32" y="488"/>
                    </a:lnTo>
                    <a:lnTo>
                      <a:pt x="17" y="467"/>
                    </a:lnTo>
                    <a:lnTo>
                      <a:pt x="8" y="447"/>
                    </a:lnTo>
                    <a:lnTo>
                      <a:pt x="2" y="425"/>
                    </a:lnTo>
                    <a:lnTo>
                      <a:pt x="0" y="404"/>
                    </a:lnTo>
                    <a:lnTo>
                      <a:pt x="2" y="381"/>
                    </a:lnTo>
                    <a:lnTo>
                      <a:pt x="8" y="360"/>
                    </a:lnTo>
                    <a:lnTo>
                      <a:pt x="17" y="340"/>
                    </a:lnTo>
                    <a:lnTo>
                      <a:pt x="32" y="320"/>
                    </a:lnTo>
                    <a:lnTo>
                      <a:pt x="49" y="300"/>
                    </a:lnTo>
                    <a:lnTo>
                      <a:pt x="70" y="279"/>
                    </a:lnTo>
                    <a:lnTo>
                      <a:pt x="94" y="261"/>
                    </a:lnTo>
                    <a:lnTo>
                      <a:pt x="121" y="242"/>
                    </a:lnTo>
                    <a:lnTo>
                      <a:pt x="153" y="224"/>
                    </a:lnTo>
                    <a:lnTo>
                      <a:pt x="187" y="207"/>
                    </a:lnTo>
                    <a:lnTo>
                      <a:pt x="224" y="190"/>
                    </a:lnTo>
                    <a:lnTo>
                      <a:pt x="265" y="174"/>
                    </a:lnTo>
                    <a:lnTo>
                      <a:pt x="308" y="158"/>
                    </a:lnTo>
                    <a:lnTo>
                      <a:pt x="354" y="143"/>
                    </a:lnTo>
                    <a:lnTo>
                      <a:pt x="402" y="128"/>
                    </a:lnTo>
                    <a:lnTo>
                      <a:pt x="454" y="115"/>
                    </a:lnTo>
                    <a:lnTo>
                      <a:pt x="507" y="102"/>
                    </a:lnTo>
                    <a:lnTo>
                      <a:pt x="564" y="89"/>
                    </a:lnTo>
                    <a:lnTo>
                      <a:pt x="622" y="78"/>
                    </a:lnTo>
                    <a:lnTo>
                      <a:pt x="683" y="67"/>
                    </a:lnTo>
                    <a:lnTo>
                      <a:pt x="746" y="56"/>
                    </a:lnTo>
                    <a:lnTo>
                      <a:pt x="811" y="47"/>
                    </a:lnTo>
                    <a:lnTo>
                      <a:pt x="878" y="38"/>
                    </a:lnTo>
                    <a:lnTo>
                      <a:pt x="947" y="30"/>
                    </a:lnTo>
                    <a:lnTo>
                      <a:pt x="1016" y="23"/>
                    </a:lnTo>
                    <a:lnTo>
                      <a:pt x="1089" y="17"/>
                    </a:lnTo>
                    <a:lnTo>
                      <a:pt x="1163" y="12"/>
                    </a:lnTo>
                    <a:lnTo>
                      <a:pt x="1237" y="8"/>
                    </a:lnTo>
                    <a:lnTo>
                      <a:pt x="1313" y="5"/>
                    </a:lnTo>
                    <a:lnTo>
                      <a:pt x="1391" y="2"/>
                    </a:lnTo>
                    <a:lnTo>
                      <a:pt x="1470" y="1"/>
                    </a:lnTo>
                    <a:lnTo>
                      <a:pt x="1549" y="0"/>
                    </a:lnTo>
                    <a:lnTo>
                      <a:pt x="1629" y="1"/>
                    </a:lnTo>
                    <a:lnTo>
                      <a:pt x="1708" y="2"/>
                    </a:lnTo>
                    <a:lnTo>
                      <a:pt x="1786" y="5"/>
                    </a:lnTo>
                    <a:lnTo>
                      <a:pt x="1862" y="8"/>
                    </a:lnTo>
                    <a:lnTo>
                      <a:pt x="1937" y="12"/>
                    </a:lnTo>
                    <a:lnTo>
                      <a:pt x="2010" y="17"/>
                    </a:lnTo>
                    <a:lnTo>
                      <a:pt x="2083" y="23"/>
                    </a:lnTo>
                    <a:lnTo>
                      <a:pt x="2152" y="30"/>
                    </a:lnTo>
                    <a:lnTo>
                      <a:pt x="2221" y="38"/>
                    </a:lnTo>
                    <a:lnTo>
                      <a:pt x="2288" y="47"/>
                    </a:lnTo>
                    <a:lnTo>
                      <a:pt x="2353" y="56"/>
                    </a:lnTo>
                    <a:lnTo>
                      <a:pt x="2416" y="67"/>
                    </a:lnTo>
                    <a:lnTo>
                      <a:pt x="2477" y="78"/>
                    </a:lnTo>
                    <a:lnTo>
                      <a:pt x="2535" y="89"/>
                    </a:lnTo>
                    <a:lnTo>
                      <a:pt x="2592" y="102"/>
                    </a:lnTo>
                    <a:lnTo>
                      <a:pt x="2645" y="115"/>
                    </a:lnTo>
                    <a:lnTo>
                      <a:pt x="2697" y="128"/>
                    </a:lnTo>
                    <a:lnTo>
                      <a:pt x="2745" y="143"/>
                    </a:lnTo>
                    <a:lnTo>
                      <a:pt x="2792" y="158"/>
                    </a:lnTo>
                    <a:lnTo>
                      <a:pt x="2834" y="174"/>
                    </a:lnTo>
                    <a:lnTo>
                      <a:pt x="2874" y="190"/>
                    </a:lnTo>
                    <a:lnTo>
                      <a:pt x="2912" y="207"/>
                    </a:lnTo>
                    <a:lnTo>
                      <a:pt x="2946" y="224"/>
                    </a:lnTo>
                    <a:lnTo>
                      <a:pt x="2978" y="242"/>
                    </a:lnTo>
                    <a:lnTo>
                      <a:pt x="3005" y="261"/>
                    </a:lnTo>
                    <a:lnTo>
                      <a:pt x="3029" y="279"/>
                    </a:lnTo>
                    <a:lnTo>
                      <a:pt x="3050" y="300"/>
                    </a:lnTo>
                    <a:lnTo>
                      <a:pt x="3067" y="320"/>
                    </a:lnTo>
                    <a:lnTo>
                      <a:pt x="3082" y="340"/>
                    </a:lnTo>
                    <a:lnTo>
                      <a:pt x="3091" y="360"/>
                    </a:lnTo>
                    <a:lnTo>
                      <a:pt x="3097" y="381"/>
                    </a:lnTo>
                    <a:lnTo>
                      <a:pt x="3099" y="4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77120" y="6509160"/>
                <a:ext cx="341640" cy="98280"/>
              </a:xfrm>
              <a:custGeom>
                <a:avLst/>
                <a:gdLst/>
                <a:ahLst/>
                <a:rect l="l" t="t" r="r" b="b"/>
                <a:pathLst>
                  <a:path w="3097" h="823">
                    <a:moveTo>
                      <a:pt x="3097" y="403"/>
                    </a:moveTo>
                    <a:lnTo>
                      <a:pt x="3095" y="424"/>
                    </a:lnTo>
                    <a:lnTo>
                      <a:pt x="3089" y="445"/>
                    </a:lnTo>
                    <a:lnTo>
                      <a:pt x="3079" y="466"/>
                    </a:lnTo>
                    <a:lnTo>
                      <a:pt x="3065" y="487"/>
                    </a:lnTo>
                    <a:lnTo>
                      <a:pt x="3048" y="508"/>
                    </a:lnTo>
                    <a:lnTo>
                      <a:pt x="3027" y="528"/>
                    </a:lnTo>
                    <a:lnTo>
                      <a:pt x="3003" y="547"/>
                    </a:lnTo>
                    <a:lnTo>
                      <a:pt x="2976" y="566"/>
                    </a:lnTo>
                    <a:lnTo>
                      <a:pt x="2944" y="584"/>
                    </a:lnTo>
                    <a:lnTo>
                      <a:pt x="2910" y="603"/>
                    </a:lnTo>
                    <a:lnTo>
                      <a:pt x="2872" y="621"/>
                    </a:lnTo>
                    <a:lnTo>
                      <a:pt x="2832" y="638"/>
                    </a:lnTo>
                    <a:lnTo>
                      <a:pt x="2789" y="654"/>
                    </a:lnTo>
                    <a:lnTo>
                      <a:pt x="2743" y="670"/>
                    </a:lnTo>
                    <a:lnTo>
                      <a:pt x="2695" y="685"/>
                    </a:lnTo>
                    <a:lnTo>
                      <a:pt x="2643" y="699"/>
                    </a:lnTo>
                    <a:lnTo>
                      <a:pt x="2590" y="714"/>
                    </a:lnTo>
                    <a:lnTo>
                      <a:pt x="2533" y="727"/>
                    </a:lnTo>
                    <a:lnTo>
                      <a:pt x="2475" y="739"/>
                    </a:lnTo>
                    <a:lnTo>
                      <a:pt x="2414" y="751"/>
                    </a:lnTo>
                    <a:lnTo>
                      <a:pt x="2351" y="762"/>
                    </a:lnTo>
                    <a:lnTo>
                      <a:pt x="2287" y="772"/>
                    </a:lnTo>
                    <a:lnTo>
                      <a:pt x="2220" y="781"/>
                    </a:lnTo>
                    <a:lnTo>
                      <a:pt x="2151" y="789"/>
                    </a:lnTo>
                    <a:lnTo>
                      <a:pt x="2081" y="797"/>
                    </a:lnTo>
                    <a:lnTo>
                      <a:pt x="2009" y="803"/>
                    </a:lnTo>
                    <a:lnTo>
                      <a:pt x="1935" y="809"/>
                    </a:lnTo>
                    <a:lnTo>
                      <a:pt x="1861" y="815"/>
                    </a:lnTo>
                    <a:lnTo>
                      <a:pt x="1785" y="818"/>
                    </a:lnTo>
                    <a:lnTo>
                      <a:pt x="1707" y="821"/>
                    </a:lnTo>
                    <a:lnTo>
                      <a:pt x="1628" y="823"/>
                    </a:lnTo>
                    <a:lnTo>
                      <a:pt x="1548" y="823"/>
                    </a:lnTo>
                    <a:lnTo>
                      <a:pt x="1469" y="823"/>
                    </a:lnTo>
                    <a:lnTo>
                      <a:pt x="1390" y="821"/>
                    </a:lnTo>
                    <a:lnTo>
                      <a:pt x="1313" y="818"/>
                    </a:lnTo>
                    <a:lnTo>
                      <a:pt x="1236" y="815"/>
                    </a:lnTo>
                    <a:lnTo>
                      <a:pt x="1162" y="809"/>
                    </a:lnTo>
                    <a:lnTo>
                      <a:pt x="1088" y="803"/>
                    </a:lnTo>
                    <a:lnTo>
                      <a:pt x="1016" y="797"/>
                    </a:lnTo>
                    <a:lnTo>
                      <a:pt x="946" y="789"/>
                    </a:lnTo>
                    <a:lnTo>
                      <a:pt x="877" y="781"/>
                    </a:lnTo>
                    <a:lnTo>
                      <a:pt x="810" y="772"/>
                    </a:lnTo>
                    <a:lnTo>
                      <a:pt x="746" y="762"/>
                    </a:lnTo>
                    <a:lnTo>
                      <a:pt x="683" y="751"/>
                    </a:lnTo>
                    <a:lnTo>
                      <a:pt x="622" y="739"/>
                    </a:lnTo>
                    <a:lnTo>
                      <a:pt x="564" y="727"/>
                    </a:lnTo>
                    <a:lnTo>
                      <a:pt x="507" y="714"/>
                    </a:lnTo>
                    <a:lnTo>
                      <a:pt x="454" y="699"/>
                    </a:lnTo>
                    <a:lnTo>
                      <a:pt x="402" y="685"/>
                    </a:lnTo>
                    <a:lnTo>
                      <a:pt x="354" y="670"/>
                    </a:lnTo>
                    <a:lnTo>
                      <a:pt x="308" y="654"/>
                    </a:lnTo>
                    <a:lnTo>
                      <a:pt x="265" y="638"/>
                    </a:lnTo>
                    <a:lnTo>
                      <a:pt x="224" y="621"/>
                    </a:lnTo>
                    <a:lnTo>
                      <a:pt x="187" y="603"/>
                    </a:lnTo>
                    <a:lnTo>
                      <a:pt x="153" y="584"/>
                    </a:lnTo>
                    <a:lnTo>
                      <a:pt x="122" y="566"/>
                    </a:lnTo>
                    <a:lnTo>
                      <a:pt x="94" y="547"/>
                    </a:lnTo>
                    <a:lnTo>
                      <a:pt x="70" y="528"/>
                    </a:lnTo>
                    <a:lnTo>
                      <a:pt x="49" y="508"/>
                    </a:lnTo>
                    <a:lnTo>
                      <a:pt x="32" y="487"/>
                    </a:lnTo>
                    <a:lnTo>
                      <a:pt x="18" y="466"/>
                    </a:lnTo>
                    <a:lnTo>
                      <a:pt x="8" y="445"/>
                    </a:lnTo>
                    <a:lnTo>
                      <a:pt x="2" y="424"/>
                    </a:lnTo>
                    <a:lnTo>
                      <a:pt x="0" y="403"/>
                    </a:lnTo>
                    <a:lnTo>
                      <a:pt x="2" y="381"/>
                    </a:lnTo>
                    <a:lnTo>
                      <a:pt x="8" y="360"/>
                    </a:lnTo>
                    <a:lnTo>
                      <a:pt x="18" y="339"/>
                    </a:lnTo>
                    <a:lnTo>
                      <a:pt x="32" y="319"/>
                    </a:lnTo>
                    <a:lnTo>
                      <a:pt x="49" y="299"/>
                    </a:lnTo>
                    <a:lnTo>
                      <a:pt x="70" y="280"/>
                    </a:lnTo>
                    <a:lnTo>
                      <a:pt x="94" y="260"/>
                    </a:lnTo>
                    <a:lnTo>
                      <a:pt x="122" y="242"/>
                    </a:lnTo>
                    <a:lnTo>
                      <a:pt x="153" y="224"/>
                    </a:lnTo>
                    <a:lnTo>
                      <a:pt x="187" y="207"/>
                    </a:lnTo>
                    <a:lnTo>
                      <a:pt x="224" y="190"/>
                    </a:lnTo>
                    <a:lnTo>
                      <a:pt x="265" y="174"/>
                    </a:lnTo>
                    <a:lnTo>
                      <a:pt x="308" y="157"/>
                    </a:lnTo>
                    <a:lnTo>
                      <a:pt x="354" y="142"/>
                    </a:lnTo>
                    <a:lnTo>
                      <a:pt x="402" y="128"/>
                    </a:lnTo>
                    <a:lnTo>
                      <a:pt x="454" y="114"/>
                    </a:lnTo>
                    <a:lnTo>
                      <a:pt x="507" y="101"/>
                    </a:lnTo>
                    <a:lnTo>
                      <a:pt x="564" y="89"/>
                    </a:lnTo>
                    <a:lnTo>
                      <a:pt x="622" y="78"/>
                    </a:lnTo>
                    <a:lnTo>
                      <a:pt x="683" y="67"/>
                    </a:lnTo>
                    <a:lnTo>
                      <a:pt x="746" y="56"/>
                    </a:lnTo>
                    <a:lnTo>
                      <a:pt x="810" y="46"/>
                    </a:lnTo>
                    <a:lnTo>
                      <a:pt x="877" y="38"/>
                    </a:lnTo>
                    <a:lnTo>
                      <a:pt x="946" y="30"/>
                    </a:lnTo>
                    <a:lnTo>
                      <a:pt x="1016" y="23"/>
                    </a:lnTo>
                    <a:lnTo>
                      <a:pt x="1088" y="17"/>
                    </a:lnTo>
                    <a:lnTo>
                      <a:pt x="1162" y="12"/>
                    </a:lnTo>
                    <a:lnTo>
                      <a:pt x="1236" y="8"/>
                    </a:lnTo>
                    <a:lnTo>
                      <a:pt x="1313" y="5"/>
                    </a:lnTo>
                    <a:lnTo>
                      <a:pt x="1390" y="2"/>
                    </a:lnTo>
                    <a:lnTo>
                      <a:pt x="1469" y="1"/>
                    </a:lnTo>
                    <a:lnTo>
                      <a:pt x="1548" y="0"/>
                    </a:lnTo>
                    <a:lnTo>
                      <a:pt x="1628" y="1"/>
                    </a:lnTo>
                    <a:lnTo>
                      <a:pt x="1707" y="2"/>
                    </a:lnTo>
                    <a:lnTo>
                      <a:pt x="1785" y="5"/>
                    </a:lnTo>
                    <a:lnTo>
                      <a:pt x="1861" y="8"/>
                    </a:lnTo>
                    <a:lnTo>
                      <a:pt x="1935" y="12"/>
                    </a:lnTo>
                    <a:lnTo>
                      <a:pt x="2009" y="17"/>
                    </a:lnTo>
                    <a:lnTo>
                      <a:pt x="2081" y="23"/>
                    </a:lnTo>
                    <a:lnTo>
                      <a:pt x="2151" y="30"/>
                    </a:lnTo>
                    <a:lnTo>
                      <a:pt x="2220" y="38"/>
                    </a:lnTo>
                    <a:lnTo>
                      <a:pt x="2287" y="46"/>
                    </a:lnTo>
                    <a:lnTo>
                      <a:pt x="2351" y="56"/>
                    </a:lnTo>
                    <a:lnTo>
                      <a:pt x="2414" y="67"/>
                    </a:lnTo>
                    <a:lnTo>
                      <a:pt x="2475" y="78"/>
                    </a:lnTo>
                    <a:lnTo>
                      <a:pt x="2533" y="89"/>
                    </a:lnTo>
                    <a:lnTo>
                      <a:pt x="2590" y="101"/>
                    </a:lnTo>
                    <a:lnTo>
                      <a:pt x="2643" y="114"/>
                    </a:lnTo>
                    <a:lnTo>
                      <a:pt x="2695" y="128"/>
                    </a:lnTo>
                    <a:lnTo>
                      <a:pt x="2743" y="142"/>
                    </a:lnTo>
                    <a:lnTo>
                      <a:pt x="2789" y="157"/>
                    </a:lnTo>
                    <a:lnTo>
                      <a:pt x="2832" y="174"/>
                    </a:lnTo>
                    <a:lnTo>
                      <a:pt x="2872" y="190"/>
                    </a:lnTo>
                    <a:lnTo>
                      <a:pt x="2910" y="207"/>
                    </a:lnTo>
                    <a:lnTo>
                      <a:pt x="2944" y="224"/>
                    </a:lnTo>
                    <a:lnTo>
                      <a:pt x="2976" y="242"/>
                    </a:lnTo>
                    <a:lnTo>
                      <a:pt x="3003" y="260"/>
                    </a:lnTo>
                    <a:lnTo>
                      <a:pt x="3027" y="280"/>
                    </a:lnTo>
                    <a:lnTo>
                      <a:pt x="3048" y="299"/>
                    </a:lnTo>
                    <a:lnTo>
                      <a:pt x="3065" y="319"/>
                    </a:lnTo>
                    <a:lnTo>
                      <a:pt x="3079" y="339"/>
                    </a:lnTo>
                    <a:lnTo>
                      <a:pt x="3089" y="360"/>
                    </a:lnTo>
                    <a:lnTo>
                      <a:pt x="3095" y="381"/>
                    </a:lnTo>
                    <a:lnTo>
                      <a:pt x="3097" y="4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977120" y="6510240"/>
                <a:ext cx="341640" cy="96840"/>
              </a:xfrm>
              <a:custGeom>
                <a:avLst/>
                <a:gdLst/>
                <a:ahLst/>
                <a:rect l="l" t="t" r="r" b="b"/>
                <a:pathLst>
                  <a:path w="3094" h="821">
                    <a:moveTo>
                      <a:pt x="3094" y="402"/>
                    </a:moveTo>
                    <a:lnTo>
                      <a:pt x="3092" y="423"/>
                    </a:lnTo>
                    <a:lnTo>
                      <a:pt x="3086" y="444"/>
                    </a:lnTo>
                    <a:lnTo>
                      <a:pt x="3076" y="465"/>
                    </a:lnTo>
                    <a:lnTo>
                      <a:pt x="3061" y="486"/>
                    </a:lnTo>
                    <a:lnTo>
                      <a:pt x="3044" y="507"/>
                    </a:lnTo>
                    <a:lnTo>
                      <a:pt x="3024" y="526"/>
                    </a:lnTo>
                    <a:lnTo>
                      <a:pt x="3000" y="546"/>
                    </a:lnTo>
                    <a:lnTo>
                      <a:pt x="2971" y="565"/>
                    </a:lnTo>
                    <a:lnTo>
                      <a:pt x="2940" y="583"/>
                    </a:lnTo>
                    <a:lnTo>
                      <a:pt x="2907" y="602"/>
                    </a:lnTo>
                    <a:lnTo>
                      <a:pt x="2869" y="619"/>
                    </a:lnTo>
                    <a:lnTo>
                      <a:pt x="2829" y="636"/>
                    </a:lnTo>
                    <a:lnTo>
                      <a:pt x="2786" y="652"/>
                    </a:lnTo>
                    <a:lnTo>
                      <a:pt x="2740" y="668"/>
                    </a:lnTo>
                    <a:lnTo>
                      <a:pt x="2692" y="683"/>
                    </a:lnTo>
                    <a:lnTo>
                      <a:pt x="2640" y="698"/>
                    </a:lnTo>
                    <a:lnTo>
                      <a:pt x="2587" y="712"/>
                    </a:lnTo>
                    <a:lnTo>
                      <a:pt x="2530" y="725"/>
                    </a:lnTo>
                    <a:lnTo>
                      <a:pt x="2472" y="738"/>
                    </a:lnTo>
                    <a:lnTo>
                      <a:pt x="2411" y="749"/>
                    </a:lnTo>
                    <a:lnTo>
                      <a:pt x="2348" y="760"/>
                    </a:lnTo>
                    <a:lnTo>
                      <a:pt x="2284" y="770"/>
                    </a:lnTo>
                    <a:lnTo>
                      <a:pt x="2217" y="779"/>
                    </a:lnTo>
                    <a:lnTo>
                      <a:pt x="2148" y="788"/>
                    </a:lnTo>
                    <a:lnTo>
                      <a:pt x="2079" y="795"/>
                    </a:lnTo>
                    <a:lnTo>
                      <a:pt x="2006" y="801"/>
                    </a:lnTo>
                    <a:lnTo>
                      <a:pt x="1933" y="807"/>
                    </a:lnTo>
                    <a:lnTo>
                      <a:pt x="1859" y="812"/>
                    </a:lnTo>
                    <a:lnTo>
                      <a:pt x="1782" y="816"/>
                    </a:lnTo>
                    <a:lnTo>
                      <a:pt x="1705" y="819"/>
                    </a:lnTo>
                    <a:lnTo>
                      <a:pt x="1626" y="821"/>
                    </a:lnTo>
                    <a:lnTo>
                      <a:pt x="1546" y="821"/>
                    </a:lnTo>
                    <a:lnTo>
                      <a:pt x="1467" y="821"/>
                    </a:lnTo>
                    <a:lnTo>
                      <a:pt x="1388" y="819"/>
                    </a:lnTo>
                    <a:lnTo>
                      <a:pt x="1311" y="816"/>
                    </a:lnTo>
                    <a:lnTo>
                      <a:pt x="1234" y="812"/>
                    </a:lnTo>
                    <a:lnTo>
                      <a:pt x="1160" y="807"/>
                    </a:lnTo>
                    <a:lnTo>
                      <a:pt x="1087" y="801"/>
                    </a:lnTo>
                    <a:lnTo>
                      <a:pt x="1014" y="795"/>
                    </a:lnTo>
                    <a:lnTo>
                      <a:pt x="945" y="788"/>
                    </a:lnTo>
                    <a:lnTo>
                      <a:pt x="876" y="779"/>
                    </a:lnTo>
                    <a:lnTo>
                      <a:pt x="809" y="770"/>
                    </a:lnTo>
                    <a:lnTo>
                      <a:pt x="745" y="760"/>
                    </a:lnTo>
                    <a:lnTo>
                      <a:pt x="682" y="749"/>
                    </a:lnTo>
                    <a:lnTo>
                      <a:pt x="621" y="738"/>
                    </a:lnTo>
                    <a:lnTo>
                      <a:pt x="563" y="725"/>
                    </a:lnTo>
                    <a:lnTo>
                      <a:pt x="506" y="712"/>
                    </a:lnTo>
                    <a:lnTo>
                      <a:pt x="453" y="698"/>
                    </a:lnTo>
                    <a:lnTo>
                      <a:pt x="401" y="683"/>
                    </a:lnTo>
                    <a:lnTo>
                      <a:pt x="353" y="668"/>
                    </a:lnTo>
                    <a:lnTo>
                      <a:pt x="307" y="652"/>
                    </a:lnTo>
                    <a:lnTo>
                      <a:pt x="264" y="636"/>
                    </a:lnTo>
                    <a:lnTo>
                      <a:pt x="223" y="619"/>
                    </a:lnTo>
                    <a:lnTo>
                      <a:pt x="186" y="602"/>
                    </a:lnTo>
                    <a:lnTo>
                      <a:pt x="153" y="583"/>
                    </a:lnTo>
                    <a:lnTo>
                      <a:pt x="121" y="565"/>
                    </a:lnTo>
                    <a:lnTo>
                      <a:pt x="94" y="546"/>
                    </a:lnTo>
                    <a:lnTo>
                      <a:pt x="69" y="526"/>
                    </a:lnTo>
                    <a:lnTo>
                      <a:pt x="49" y="507"/>
                    </a:lnTo>
                    <a:lnTo>
                      <a:pt x="32" y="486"/>
                    </a:lnTo>
                    <a:lnTo>
                      <a:pt x="17" y="465"/>
                    </a:lnTo>
                    <a:lnTo>
                      <a:pt x="8" y="444"/>
                    </a:lnTo>
                    <a:lnTo>
                      <a:pt x="2" y="423"/>
                    </a:lnTo>
                    <a:lnTo>
                      <a:pt x="0" y="402"/>
                    </a:lnTo>
                    <a:lnTo>
                      <a:pt x="2" y="380"/>
                    </a:lnTo>
                    <a:lnTo>
                      <a:pt x="8" y="359"/>
                    </a:lnTo>
                    <a:lnTo>
                      <a:pt x="17" y="338"/>
                    </a:lnTo>
                    <a:lnTo>
                      <a:pt x="32" y="318"/>
                    </a:lnTo>
                    <a:lnTo>
                      <a:pt x="49" y="298"/>
                    </a:lnTo>
                    <a:lnTo>
                      <a:pt x="69" y="279"/>
                    </a:lnTo>
                    <a:lnTo>
                      <a:pt x="94" y="259"/>
                    </a:lnTo>
                    <a:lnTo>
                      <a:pt x="121" y="241"/>
                    </a:lnTo>
                    <a:lnTo>
                      <a:pt x="153" y="223"/>
                    </a:lnTo>
                    <a:lnTo>
                      <a:pt x="186" y="206"/>
                    </a:lnTo>
                    <a:lnTo>
                      <a:pt x="223" y="189"/>
                    </a:lnTo>
                    <a:lnTo>
                      <a:pt x="264" y="173"/>
                    </a:lnTo>
                    <a:lnTo>
                      <a:pt x="307" y="157"/>
                    </a:lnTo>
                    <a:lnTo>
                      <a:pt x="353" y="142"/>
                    </a:lnTo>
                    <a:lnTo>
                      <a:pt x="401" y="128"/>
                    </a:lnTo>
                    <a:lnTo>
                      <a:pt x="453" y="114"/>
                    </a:lnTo>
                    <a:lnTo>
                      <a:pt x="506" y="101"/>
                    </a:lnTo>
                    <a:lnTo>
                      <a:pt x="563" y="89"/>
                    </a:lnTo>
                    <a:lnTo>
                      <a:pt x="621" y="77"/>
                    </a:lnTo>
                    <a:lnTo>
                      <a:pt x="682" y="67"/>
                    </a:lnTo>
                    <a:lnTo>
                      <a:pt x="745" y="56"/>
                    </a:lnTo>
                    <a:lnTo>
                      <a:pt x="809" y="46"/>
                    </a:lnTo>
                    <a:lnTo>
                      <a:pt x="876" y="38"/>
                    </a:lnTo>
                    <a:lnTo>
                      <a:pt x="945" y="30"/>
                    </a:lnTo>
                    <a:lnTo>
                      <a:pt x="1014" y="23"/>
                    </a:lnTo>
                    <a:lnTo>
                      <a:pt x="1087" y="17"/>
                    </a:lnTo>
                    <a:lnTo>
                      <a:pt x="1160" y="12"/>
                    </a:lnTo>
                    <a:lnTo>
                      <a:pt x="1234" y="8"/>
                    </a:lnTo>
                    <a:lnTo>
                      <a:pt x="1311" y="5"/>
                    </a:lnTo>
                    <a:lnTo>
                      <a:pt x="1388" y="2"/>
                    </a:lnTo>
                    <a:lnTo>
                      <a:pt x="1467" y="1"/>
                    </a:lnTo>
                    <a:lnTo>
                      <a:pt x="1546" y="0"/>
                    </a:lnTo>
                    <a:lnTo>
                      <a:pt x="1626" y="1"/>
                    </a:lnTo>
                    <a:lnTo>
                      <a:pt x="1705" y="2"/>
                    </a:lnTo>
                    <a:lnTo>
                      <a:pt x="1782" y="5"/>
                    </a:lnTo>
                    <a:lnTo>
                      <a:pt x="1859" y="8"/>
                    </a:lnTo>
                    <a:lnTo>
                      <a:pt x="1933" y="12"/>
                    </a:lnTo>
                    <a:lnTo>
                      <a:pt x="2006" y="17"/>
                    </a:lnTo>
                    <a:lnTo>
                      <a:pt x="2079" y="23"/>
                    </a:lnTo>
                    <a:lnTo>
                      <a:pt x="2148" y="30"/>
                    </a:lnTo>
                    <a:lnTo>
                      <a:pt x="2217" y="38"/>
                    </a:lnTo>
                    <a:lnTo>
                      <a:pt x="2284" y="46"/>
                    </a:lnTo>
                    <a:lnTo>
                      <a:pt x="2348" y="56"/>
                    </a:lnTo>
                    <a:lnTo>
                      <a:pt x="2411" y="67"/>
                    </a:lnTo>
                    <a:lnTo>
                      <a:pt x="2472" y="77"/>
                    </a:lnTo>
                    <a:lnTo>
                      <a:pt x="2530" y="89"/>
                    </a:lnTo>
                    <a:lnTo>
                      <a:pt x="2587" y="101"/>
                    </a:lnTo>
                    <a:lnTo>
                      <a:pt x="2640" y="114"/>
                    </a:lnTo>
                    <a:lnTo>
                      <a:pt x="2692" y="128"/>
                    </a:lnTo>
                    <a:lnTo>
                      <a:pt x="2740" y="142"/>
                    </a:lnTo>
                    <a:lnTo>
                      <a:pt x="2786" y="157"/>
                    </a:lnTo>
                    <a:lnTo>
                      <a:pt x="2829" y="173"/>
                    </a:lnTo>
                    <a:lnTo>
                      <a:pt x="2869" y="189"/>
                    </a:lnTo>
                    <a:lnTo>
                      <a:pt x="2907" y="206"/>
                    </a:lnTo>
                    <a:lnTo>
                      <a:pt x="2940" y="223"/>
                    </a:lnTo>
                    <a:lnTo>
                      <a:pt x="2971" y="241"/>
                    </a:lnTo>
                    <a:lnTo>
                      <a:pt x="3000" y="259"/>
                    </a:lnTo>
                    <a:lnTo>
                      <a:pt x="3024" y="279"/>
                    </a:lnTo>
                    <a:lnTo>
                      <a:pt x="3044" y="298"/>
                    </a:lnTo>
                    <a:lnTo>
                      <a:pt x="3061" y="318"/>
                    </a:lnTo>
                    <a:lnTo>
                      <a:pt x="3076" y="338"/>
                    </a:lnTo>
                    <a:lnTo>
                      <a:pt x="3086" y="359"/>
                    </a:lnTo>
                    <a:lnTo>
                      <a:pt x="3092" y="380"/>
                    </a:lnTo>
                    <a:lnTo>
                      <a:pt x="3094" y="4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977120" y="6510240"/>
                <a:ext cx="340560" cy="96840"/>
              </a:xfrm>
              <a:custGeom>
                <a:avLst/>
                <a:gdLst/>
                <a:ahLst/>
                <a:rect l="l" t="t" r="r" b="b"/>
                <a:pathLst>
                  <a:path w="3091" h="819">
                    <a:moveTo>
                      <a:pt x="3091" y="401"/>
                    </a:moveTo>
                    <a:lnTo>
                      <a:pt x="3089" y="422"/>
                    </a:lnTo>
                    <a:lnTo>
                      <a:pt x="3083" y="443"/>
                    </a:lnTo>
                    <a:lnTo>
                      <a:pt x="3072" y="464"/>
                    </a:lnTo>
                    <a:lnTo>
                      <a:pt x="3059" y="484"/>
                    </a:lnTo>
                    <a:lnTo>
                      <a:pt x="3042" y="505"/>
                    </a:lnTo>
                    <a:lnTo>
                      <a:pt x="3021" y="525"/>
                    </a:lnTo>
                    <a:lnTo>
                      <a:pt x="2997" y="544"/>
                    </a:lnTo>
                    <a:lnTo>
                      <a:pt x="2969" y="563"/>
                    </a:lnTo>
                    <a:lnTo>
                      <a:pt x="2938" y="582"/>
                    </a:lnTo>
                    <a:lnTo>
                      <a:pt x="2904" y="600"/>
                    </a:lnTo>
                    <a:lnTo>
                      <a:pt x="2867" y="618"/>
                    </a:lnTo>
                    <a:lnTo>
                      <a:pt x="2827" y="635"/>
                    </a:lnTo>
                    <a:lnTo>
                      <a:pt x="2784" y="651"/>
                    </a:lnTo>
                    <a:lnTo>
                      <a:pt x="2738" y="666"/>
                    </a:lnTo>
                    <a:lnTo>
                      <a:pt x="2690" y="681"/>
                    </a:lnTo>
                    <a:lnTo>
                      <a:pt x="2638" y="696"/>
                    </a:lnTo>
                    <a:lnTo>
                      <a:pt x="2585" y="711"/>
                    </a:lnTo>
                    <a:lnTo>
                      <a:pt x="2528" y="724"/>
                    </a:lnTo>
                    <a:lnTo>
                      <a:pt x="2470" y="736"/>
                    </a:lnTo>
                    <a:lnTo>
                      <a:pt x="2410" y="747"/>
                    </a:lnTo>
                    <a:lnTo>
                      <a:pt x="2346" y="758"/>
                    </a:lnTo>
                    <a:lnTo>
                      <a:pt x="2282" y="768"/>
                    </a:lnTo>
                    <a:lnTo>
                      <a:pt x="2215" y="777"/>
                    </a:lnTo>
                    <a:lnTo>
                      <a:pt x="2147" y="786"/>
                    </a:lnTo>
                    <a:lnTo>
                      <a:pt x="2077" y="793"/>
                    </a:lnTo>
                    <a:lnTo>
                      <a:pt x="2005" y="800"/>
                    </a:lnTo>
                    <a:lnTo>
                      <a:pt x="1931" y="805"/>
                    </a:lnTo>
                    <a:lnTo>
                      <a:pt x="1857" y="810"/>
                    </a:lnTo>
                    <a:lnTo>
                      <a:pt x="1781" y="814"/>
                    </a:lnTo>
                    <a:lnTo>
                      <a:pt x="1703" y="817"/>
                    </a:lnTo>
                    <a:lnTo>
                      <a:pt x="1625" y="819"/>
                    </a:lnTo>
                    <a:lnTo>
                      <a:pt x="1545" y="819"/>
                    </a:lnTo>
                    <a:lnTo>
                      <a:pt x="1466" y="819"/>
                    </a:lnTo>
                    <a:lnTo>
                      <a:pt x="1388" y="817"/>
                    </a:lnTo>
                    <a:lnTo>
                      <a:pt x="1310" y="814"/>
                    </a:lnTo>
                    <a:lnTo>
                      <a:pt x="1234" y="810"/>
                    </a:lnTo>
                    <a:lnTo>
                      <a:pt x="1160" y="805"/>
                    </a:lnTo>
                    <a:lnTo>
                      <a:pt x="1086" y="800"/>
                    </a:lnTo>
                    <a:lnTo>
                      <a:pt x="1014" y="793"/>
                    </a:lnTo>
                    <a:lnTo>
                      <a:pt x="944" y="786"/>
                    </a:lnTo>
                    <a:lnTo>
                      <a:pt x="876" y="777"/>
                    </a:lnTo>
                    <a:lnTo>
                      <a:pt x="809" y="768"/>
                    </a:lnTo>
                    <a:lnTo>
                      <a:pt x="745" y="758"/>
                    </a:lnTo>
                    <a:lnTo>
                      <a:pt x="682" y="747"/>
                    </a:lnTo>
                    <a:lnTo>
                      <a:pt x="621" y="736"/>
                    </a:lnTo>
                    <a:lnTo>
                      <a:pt x="563" y="724"/>
                    </a:lnTo>
                    <a:lnTo>
                      <a:pt x="506" y="711"/>
                    </a:lnTo>
                    <a:lnTo>
                      <a:pt x="453" y="696"/>
                    </a:lnTo>
                    <a:lnTo>
                      <a:pt x="401" y="681"/>
                    </a:lnTo>
                    <a:lnTo>
                      <a:pt x="353" y="666"/>
                    </a:lnTo>
                    <a:lnTo>
                      <a:pt x="307" y="651"/>
                    </a:lnTo>
                    <a:lnTo>
                      <a:pt x="264" y="635"/>
                    </a:lnTo>
                    <a:lnTo>
                      <a:pt x="224" y="618"/>
                    </a:lnTo>
                    <a:lnTo>
                      <a:pt x="187" y="600"/>
                    </a:lnTo>
                    <a:lnTo>
                      <a:pt x="153" y="582"/>
                    </a:lnTo>
                    <a:lnTo>
                      <a:pt x="121" y="563"/>
                    </a:lnTo>
                    <a:lnTo>
                      <a:pt x="94" y="544"/>
                    </a:lnTo>
                    <a:lnTo>
                      <a:pt x="70" y="525"/>
                    </a:lnTo>
                    <a:lnTo>
                      <a:pt x="49" y="505"/>
                    </a:lnTo>
                    <a:lnTo>
                      <a:pt x="32" y="484"/>
                    </a:lnTo>
                    <a:lnTo>
                      <a:pt x="18" y="464"/>
                    </a:lnTo>
                    <a:lnTo>
                      <a:pt x="8" y="443"/>
                    </a:lnTo>
                    <a:lnTo>
                      <a:pt x="2" y="422"/>
                    </a:lnTo>
                    <a:lnTo>
                      <a:pt x="0" y="401"/>
                    </a:lnTo>
                    <a:lnTo>
                      <a:pt x="2" y="379"/>
                    </a:lnTo>
                    <a:lnTo>
                      <a:pt x="8" y="358"/>
                    </a:lnTo>
                    <a:lnTo>
                      <a:pt x="18" y="337"/>
                    </a:lnTo>
                    <a:lnTo>
                      <a:pt x="32" y="317"/>
                    </a:lnTo>
                    <a:lnTo>
                      <a:pt x="49" y="298"/>
                    </a:lnTo>
                    <a:lnTo>
                      <a:pt x="70" y="278"/>
                    </a:lnTo>
                    <a:lnTo>
                      <a:pt x="94" y="259"/>
                    </a:lnTo>
                    <a:lnTo>
                      <a:pt x="121" y="240"/>
                    </a:lnTo>
                    <a:lnTo>
                      <a:pt x="153" y="223"/>
                    </a:lnTo>
                    <a:lnTo>
                      <a:pt x="187" y="206"/>
                    </a:lnTo>
                    <a:lnTo>
                      <a:pt x="224" y="189"/>
                    </a:lnTo>
                    <a:lnTo>
                      <a:pt x="264" y="173"/>
                    </a:lnTo>
                    <a:lnTo>
                      <a:pt x="307" y="156"/>
                    </a:lnTo>
                    <a:lnTo>
                      <a:pt x="353" y="142"/>
                    </a:lnTo>
                    <a:lnTo>
                      <a:pt x="401" y="127"/>
                    </a:lnTo>
                    <a:lnTo>
                      <a:pt x="453" y="114"/>
                    </a:lnTo>
                    <a:lnTo>
                      <a:pt x="506" y="101"/>
                    </a:lnTo>
                    <a:lnTo>
                      <a:pt x="563" y="89"/>
                    </a:lnTo>
                    <a:lnTo>
                      <a:pt x="621" y="77"/>
                    </a:lnTo>
                    <a:lnTo>
                      <a:pt x="682" y="66"/>
                    </a:lnTo>
                    <a:lnTo>
                      <a:pt x="745" y="55"/>
                    </a:lnTo>
                    <a:lnTo>
                      <a:pt x="809" y="46"/>
                    </a:lnTo>
                    <a:lnTo>
                      <a:pt x="876" y="38"/>
                    </a:lnTo>
                    <a:lnTo>
                      <a:pt x="944" y="30"/>
                    </a:lnTo>
                    <a:lnTo>
                      <a:pt x="1014" y="23"/>
                    </a:lnTo>
                    <a:lnTo>
                      <a:pt x="1086" y="17"/>
                    </a:lnTo>
                    <a:lnTo>
                      <a:pt x="1160" y="12"/>
                    </a:lnTo>
                    <a:lnTo>
                      <a:pt x="1234" y="8"/>
                    </a:lnTo>
                    <a:lnTo>
                      <a:pt x="1310" y="4"/>
                    </a:lnTo>
                    <a:lnTo>
                      <a:pt x="1388" y="2"/>
                    </a:lnTo>
                    <a:lnTo>
                      <a:pt x="1466" y="1"/>
                    </a:lnTo>
                    <a:lnTo>
                      <a:pt x="1545" y="0"/>
                    </a:lnTo>
                    <a:lnTo>
                      <a:pt x="1625" y="1"/>
                    </a:lnTo>
                    <a:lnTo>
                      <a:pt x="1703" y="2"/>
                    </a:lnTo>
                    <a:lnTo>
                      <a:pt x="1781" y="4"/>
                    </a:lnTo>
                    <a:lnTo>
                      <a:pt x="1857" y="8"/>
                    </a:lnTo>
                    <a:lnTo>
                      <a:pt x="1931" y="12"/>
                    </a:lnTo>
                    <a:lnTo>
                      <a:pt x="2005" y="17"/>
                    </a:lnTo>
                    <a:lnTo>
                      <a:pt x="2077" y="23"/>
                    </a:lnTo>
                    <a:lnTo>
                      <a:pt x="2147" y="30"/>
                    </a:lnTo>
                    <a:lnTo>
                      <a:pt x="2215" y="38"/>
                    </a:lnTo>
                    <a:lnTo>
                      <a:pt x="2282" y="46"/>
                    </a:lnTo>
                    <a:lnTo>
                      <a:pt x="2346" y="55"/>
                    </a:lnTo>
                    <a:lnTo>
                      <a:pt x="2410" y="66"/>
                    </a:lnTo>
                    <a:lnTo>
                      <a:pt x="2470" y="77"/>
                    </a:lnTo>
                    <a:lnTo>
                      <a:pt x="2528" y="89"/>
                    </a:lnTo>
                    <a:lnTo>
                      <a:pt x="2585" y="101"/>
                    </a:lnTo>
                    <a:lnTo>
                      <a:pt x="2638" y="114"/>
                    </a:lnTo>
                    <a:lnTo>
                      <a:pt x="2690" y="127"/>
                    </a:lnTo>
                    <a:lnTo>
                      <a:pt x="2738" y="142"/>
                    </a:lnTo>
                    <a:lnTo>
                      <a:pt x="2784" y="156"/>
                    </a:lnTo>
                    <a:lnTo>
                      <a:pt x="2827" y="173"/>
                    </a:lnTo>
                    <a:lnTo>
                      <a:pt x="2867" y="189"/>
                    </a:lnTo>
                    <a:lnTo>
                      <a:pt x="2904" y="206"/>
                    </a:lnTo>
                    <a:lnTo>
                      <a:pt x="2938" y="223"/>
                    </a:lnTo>
                    <a:lnTo>
                      <a:pt x="2969" y="240"/>
                    </a:lnTo>
                    <a:lnTo>
                      <a:pt x="2997" y="259"/>
                    </a:lnTo>
                    <a:lnTo>
                      <a:pt x="3021" y="278"/>
                    </a:lnTo>
                    <a:lnTo>
                      <a:pt x="3042" y="298"/>
                    </a:lnTo>
                    <a:lnTo>
                      <a:pt x="3059" y="317"/>
                    </a:lnTo>
                    <a:lnTo>
                      <a:pt x="3072" y="337"/>
                    </a:lnTo>
                    <a:lnTo>
                      <a:pt x="3083" y="358"/>
                    </a:lnTo>
                    <a:lnTo>
                      <a:pt x="3089" y="379"/>
                    </a:lnTo>
                    <a:lnTo>
                      <a:pt x="3091" y="4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978200" y="6510240"/>
                <a:ext cx="339480" cy="96840"/>
              </a:xfrm>
              <a:custGeom>
                <a:avLst/>
                <a:gdLst/>
                <a:ahLst/>
                <a:rect l="l" t="t" r="r" b="b"/>
                <a:pathLst>
                  <a:path w="3089" h="817">
                    <a:moveTo>
                      <a:pt x="3089" y="400"/>
                    </a:moveTo>
                    <a:lnTo>
                      <a:pt x="3087" y="421"/>
                    </a:lnTo>
                    <a:lnTo>
                      <a:pt x="3081" y="442"/>
                    </a:lnTo>
                    <a:lnTo>
                      <a:pt x="3070" y="463"/>
                    </a:lnTo>
                    <a:lnTo>
                      <a:pt x="3057" y="483"/>
                    </a:lnTo>
                    <a:lnTo>
                      <a:pt x="3040" y="504"/>
                    </a:lnTo>
                    <a:lnTo>
                      <a:pt x="3019" y="524"/>
                    </a:lnTo>
                    <a:lnTo>
                      <a:pt x="2995" y="543"/>
                    </a:lnTo>
                    <a:lnTo>
                      <a:pt x="2967" y="562"/>
                    </a:lnTo>
                    <a:lnTo>
                      <a:pt x="2936" y="580"/>
                    </a:lnTo>
                    <a:lnTo>
                      <a:pt x="2902" y="599"/>
                    </a:lnTo>
                    <a:lnTo>
                      <a:pt x="2864" y="616"/>
                    </a:lnTo>
                    <a:lnTo>
                      <a:pt x="2825" y="633"/>
                    </a:lnTo>
                    <a:lnTo>
                      <a:pt x="2782" y="649"/>
                    </a:lnTo>
                    <a:lnTo>
                      <a:pt x="2736" y="665"/>
                    </a:lnTo>
                    <a:lnTo>
                      <a:pt x="2688" y="680"/>
                    </a:lnTo>
                    <a:lnTo>
                      <a:pt x="2636" y="694"/>
                    </a:lnTo>
                    <a:lnTo>
                      <a:pt x="2583" y="709"/>
                    </a:lnTo>
                    <a:lnTo>
                      <a:pt x="2526" y="722"/>
                    </a:lnTo>
                    <a:lnTo>
                      <a:pt x="2469" y="734"/>
                    </a:lnTo>
                    <a:lnTo>
                      <a:pt x="2408" y="746"/>
                    </a:lnTo>
                    <a:lnTo>
                      <a:pt x="2345" y="756"/>
                    </a:lnTo>
                    <a:lnTo>
                      <a:pt x="2281" y="766"/>
                    </a:lnTo>
                    <a:lnTo>
                      <a:pt x="2214" y="776"/>
                    </a:lnTo>
                    <a:lnTo>
                      <a:pt x="2145" y="784"/>
                    </a:lnTo>
                    <a:lnTo>
                      <a:pt x="2076" y="791"/>
                    </a:lnTo>
                    <a:lnTo>
                      <a:pt x="2004" y="798"/>
                    </a:lnTo>
                    <a:lnTo>
                      <a:pt x="1930" y="803"/>
                    </a:lnTo>
                    <a:lnTo>
                      <a:pt x="1856" y="808"/>
                    </a:lnTo>
                    <a:lnTo>
                      <a:pt x="1780" y="813"/>
                    </a:lnTo>
                    <a:lnTo>
                      <a:pt x="1702" y="815"/>
                    </a:lnTo>
                    <a:lnTo>
                      <a:pt x="1624" y="817"/>
                    </a:lnTo>
                    <a:lnTo>
                      <a:pt x="1544" y="817"/>
                    </a:lnTo>
                    <a:lnTo>
                      <a:pt x="1465" y="817"/>
                    </a:lnTo>
                    <a:lnTo>
                      <a:pt x="1387" y="815"/>
                    </a:lnTo>
                    <a:lnTo>
                      <a:pt x="1309" y="813"/>
                    </a:lnTo>
                    <a:lnTo>
                      <a:pt x="1233" y="808"/>
                    </a:lnTo>
                    <a:lnTo>
                      <a:pt x="1159" y="803"/>
                    </a:lnTo>
                    <a:lnTo>
                      <a:pt x="1085" y="798"/>
                    </a:lnTo>
                    <a:lnTo>
                      <a:pt x="1013" y="791"/>
                    </a:lnTo>
                    <a:lnTo>
                      <a:pt x="944" y="784"/>
                    </a:lnTo>
                    <a:lnTo>
                      <a:pt x="875" y="776"/>
                    </a:lnTo>
                    <a:lnTo>
                      <a:pt x="808" y="766"/>
                    </a:lnTo>
                    <a:lnTo>
                      <a:pt x="744" y="756"/>
                    </a:lnTo>
                    <a:lnTo>
                      <a:pt x="681" y="746"/>
                    </a:lnTo>
                    <a:lnTo>
                      <a:pt x="620" y="734"/>
                    </a:lnTo>
                    <a:lnTo>
                      <a:pt x="563" y="722"/>
                    </a:lnTo>
                    <a:lnTo>
                      <a:pt x="506" y="709"/>
                    </a:lnTo>
                    <a:lnTo>
                      <a:pt x="453" y="694"/>
                    </a:lnTo>
                    <a:lnTo>
                      <a:pt x="402" y="680"/>
                    </a:lnTo>
                    <a:lnTo>
                      <a:pt x="354" y="665"/>
                    </a:lnTo>
                    <a:lnTo>
                      <a:pt x="307" y="649"/>
                    </a:lnTo>
                    <a:lnTo>
                      <a:pt x="265" y="633"/>
                    </a:lnTo>
                    <a:lnTo>
                      <a:pt x="224" y="616"/>
                    </a:lnTo>
                    <a:lnTo>
                      <a:pt x="187" y="599"/>
                    </a:lnTo>
                    <a:lnTo>
                      <a:pt x="153" y="580"/>
                    </a:lnTo>
                    <a:lnTo>
                      <a:pt x="122" y="562"/>
                    </a:lnTo>
                    <a:lnTo>
                      <a:pt x="94" y="543"/>
                    </a:lnTo>
                    <a:lnTo>
                      <a:pt x="70" y="524"/>
                    </a:lnTo>
                    <a:lnTo>
                      <a:pt x="50" y="504"/>
                    </a:lnTo>
                    <a:lnTo>
                      <a:pt x="33" y="483"/>
                    </a:lnTo>
                    <a:lnTo>
                      <a:pt x="18" y="463"/>
                    </a:lnTo>
                    <a:lnTo>
                      <a:pt x="8" y="442"/>
                    </a:lnTo>
                    <a:lnTo>
                      <a:pt x="2" y="421"/>
                    </a:lnTo>
                    <a:lnTo>
                      <a:pt x="0" y="400"/>
                    </a:lnTo>
                    <a:lnTo>
                      <a:pt x="2" y="378"/>
                    </a:lnTo>
                    <a:lnTo>
                      <a:pt x="8" y="357"/>
                    </a:lnTo>
                    <a:lnTo>
                      <a:pt x="18" y="336"/>
                    </a:lnTo>
                    <a:lnTo>
                      <a:pt x="33" y="316"/>
                    </a:lnTo>
                    <a:lnTo>
                      <a:pt x="50" y="297"/>
                    </a:lnTo>
                    <a:lnTo>
                      <a:pt x="70" y="278"/>
                    </a:lnTo>
                    <a:lnTo>
                      <a:pt x="94" y="258"/>
                    </a:lnTo>
                    <a:lnTo>
                      <a:pt x="122" y="240"/>
                    </a:lnTo>
                    <a:lnTo>
                      <a:pt x="153" y="222"/>
                    </a:lnTo>
                    <a:lnTo>
                      <a:pt x="187" y="205"/>
                    </a:lnTo>
                    <a:lnTo>
                      <a:pt x="224" y="188"/>
                    </a:lnTo>
                    <a:lnTo>
                      <a:pt x="265" y="172"/>
                    </a:lnTo>
                    <a:lnTo>
                      <a:pt x="307" y="156"/>
                    </a:lnTo>
                    <a:lnTo>
                      <a:pt x="354" y="141"/>
                    </a:lnTo>
                    <a:lnTo>
                      <a:pt x="402" y="127"/>
                    </a:lnTo>
                    <a:lnTo>
                      <a:pt x="453" y="113"/>
                    </a:lnTo>
                    <a:lnTo>
                      <a:pt x="506" y="100"/>
                    </a:lnTo>
                    <a:lnTo>
                      <a:pt x="563" y="88"/>
                    </a:lnTo>
                    <a:lnTo>
                      <a:pt x="620" y="77"/>
                    </a:lnTo>
                    <a:lnTo>
                      <a:pt x="681" y="66"/>
                    </a:lnTo>
                    <a:lnTo>
                      <a:pt x="744" y="55"/>
                    </a:lnTo>
                    <a:lnTo>
                      <a:pt x="808" y="46"/>
                    </a:lnTo>
                    <a:lnTo>
                      <a:pt x="875" y="37"/>
                    </a:lnTo>
                    <a:lnTo>
                      <a:pt x="944" y="30"/>
                    </a:lnTo>
                    <a:lnTo>
                      <a:pt x="1013" y="23"/>
                    </a:lnTo>
                    <a:lnTo>
                      <a:pt x="1085" y="17"/>
                    </a:lnTo>
                    <a:lnTo>
                      <a:pt x="1159" y="12"/>
                    </a:lnTo>
                    <a:lnTo>
                      <a:pt x="1233" y="8"/>
                    </a:lnTo>
                    <a:lnTo>
                      <a:pt x="1309" y="4"/>
                    </a:lnTo>
                    <a:lnTo>
                      <a:pt x="1387" y="2"/>
                    </a:lnTo>
                    <a:lnTo>
                      <a:pt x="1465" y="0"/>
                    </a:lnTo>
                    <a:lnTo>
                      <a:pt x="1544" y="0"/>
                    </a:lnTo>
                    <a:lnTo>
                      <a:pt x="1624" y="0"/>
                    </a:lnTo>
                    <a:lnTo>
                      <a:pt x="1702" y="2"/>
                    </a:lnTo>
                    <a:lnTo>
                      <a:pt x="1780" y="4"/>
                    </a:lnTo>
                    <a:lnTo>
                      <a:pt x="1856" y="8"/>
                    </a:lnTo>
                    <a:lnTo>
                      <a:pt x="1930" y="12"/>
                    </a:lnTo>
                    <a:lnTo>
                      <a:pt x="2004" y="17"/>
                    </a:lnTo>
                    <a:lnTo>
                      <a:pt x="2076" y="23"/>
                    </a:lnTo>
                    <a:lnTo>
                      <a:pt x="2145" y="30"/>
                    </a:lnTo>
                    <a:lnTo>
                      <a:pt x="2214" y="37"/>
                    </a:lnTo>
                    <a:lnTo>
                      <a:pt x="2281" y="46"/>
                    </a:lnTo>
                    <a:lnTo>
                      <a:pt x="2345" y="55"/>
                    </a:lnTo>
                    <a:lnTo>
                      <a:pt x="2408" y="66"/>
                    </a:lnTo>
                    <a:lnTo>
                      <a:pt x="2469" y="77"/>
                    </a:lnTo>
                    <a:lnTo>
                      <a:pt x="2526" y="88"/>
                    </a:lnTo>
                    <a:lnTo>
                      <a:pt x="2583" y="100"/>
                    </a:lnTo>
                    <a:lnTo>
                      <a:pt x="2636" y="113"/>
                    </a:lnTo>
                    <a:lnTo>
                      <a:pt x="2688" y="127"/>
                    </a:lnTo>
                    <a:lnTo>
                      <a:pt x="2736" y="141"/>
                    </a:lnTo>
                    <a:lnTo>
                      <a:pt x="2782" y="156"/>
                    </a:lnTo>
                    <a:lnTo>
                      <a:pt x="2825" y="172"/>
                    </a:lnTo>
                    <a:lnTo>
                      <a:pt x="2864" y="188"/>
                    </a:lnTo>
                    <a:lnTo>
                      <a:pt x="2902" y="205"/>
                    </a:lnTo>
                    <a:lnTo>
                      <a:pt x="2936" y="222"/>
                    </a:lnTo>
                    <a:lnTo>
                      <a:pt x="2967" y="240"/>
                    </a:lnTo>
                    <a:lnTo>
                      <a:pt x="2995" y="258"/>
                    </a:lnTo>
                    <a:lnTo>
                      <a:pt x="3019" y="278"/>
                    </a:lnTo>
                    <a:lnTo>
                      <a:pt x="3040" y="297"/>
                    </a:lnTo>
                    <a:lnTo>
                      <a:pt x="3057" y="316"/>
                    </a:lnTo>
                    <a:lnTo>
                      <a:pt x="3070" y="336"/>
                    </a:lnTo>
                    <a:lnTo>
                      <a:pt x="3081" y="357"/>
                    </a:lnTo>
                    <a:lnTo>
                      <a:pt x="3087" y="378"/>
                    </a:lnTo>
                    <a:lnTo>
                      <a:pt x="3089" y="4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978200" y="6510240"/>
                <a:ext cx="339480" cy="96840"/>
              </a:xfrm>
              <a:custGeom>
                <a:avLst/>
                <a:gdLst/>
                <a:ahLst/>
                <a:rect l="l" t="t" r="r" b="b"/>
                <a:pathLst>
                  <a:path w="3085" h="815">
                    <a:moveTo>
                      <a:pt x="3085" y="399"/>
                    </a:moveTo>
                    <a:lnTo>
                      <a:pt x="3083" y="420"/>
                    </a:lnTo>
                    <a:lnTo>
                      <a:pt x="3077" y="441"/>
                    </a:lnTo>
                    <a:lnTo>
                      <a:pt x="3067" y="462"/>
                    </a:lnTo>
                    <a:lnTo>
                      <a:pt x="3053" y="482"/>
                    </a:lnTo>
                    <a:lnTo>
                      <a:pt x="3036" y="503"/>
                    </a:lnTo>
                    <a:lnTo>
                      <a:pt x="3016" y="523"/>
                    </a:lnTo>
                    <a:lnTo>
                      <a:pt x="2992" y="542"/>
                    </a:lnTo>
                    <a:lnTo>
                      <a:pt x="2963" y="560"/>
                    </a:lnTo>
                    <a:lnTo>
                      <a:pt x="2933" y="579"/>
                    </a:lnTo>
                    <a:lnTo>
                      <a:pt x="2899" y="598"/>
                    </a:lnTo>
                    <a:lnTo>
                      <a:pt x="2861" y="615"/>
                    </a:lnTo>
                    <a:lnTo>
                      <a:pt x="2821" y="632"/>
                    </a:lnTo>
                    <a:lnTo>
                      <a:pt x="2779" y="648"/>
                    </a:lnTo>
                    <a:lnTo>
                      <a:pt x="2733" y="663"/>
                    </a:lnTo>
                    <a:lnTo>
                      <a:pt x="2685" y="678"/>
                    </a:lnTo>
                    <a:lnTo>
                      <a:pt x="2633" y="693"/>
                    </a:lnTo>
                    <a:lnTo>
                      <a:pt x="2580" y="707"/>
                    </a:lnTo>
                    <a:lnTo>
                      <a:pt x="2523" y="720"/>
                    </a:lnTo>
                    <a:lnTo>
                      <a:pt x="2466" y="732"/>
                    </a:lnTo>
                    <a:lnTo>
                      <a:pt x="2405" y="744"/>
                    </a:lnTo>
                    <a:lnTo>
                      <a:pt x="2342" y="755"/>
                    </a:lnTo>
                    <a:lnTo>
                      <a:pt x="2278" y="765"/>
                    </a:lnTo>
                    <a:lnTo>
                      <a:pt x="2211" y="774"/>
                    </a:lnTo>
                    <a:lnTo>
                      <a:pt x="2143" y="782"/>
                    </a:lnTo>
                    <a:lnTo>
                      <a:pt x="2073" y="789"/>
                    </a:lnTo>
                    <a:lnTo>
                      <a:pt x="2001" y="796"/>
                    </a:lnTo>
                    <a:lnTo>
                      <a:pt x="1928" y="801"/>
                    </a:lnTo>
                    <a:lnTo>
                      <a:pt x="1854" y="806"/>
                    </a:lnTo>
                    <a:lnTo>
                      <a:pt x="1778" y="811"/>
                    </a:lnTo>
                    <a:lnTo>
                      <a:pt x="1700" y="813"/>
                    </a:lnTo>
                    <a:lnTo>
                      <a:pt x="1622" y="815"/>
                    </a:lnTo>
                    <a:lnTo>
                      <a:pt x="1542" y="815"/>
                    </a:lnTo>
                    <a:lnTo>
                      <a:pt x="1463" y="815"/>
                    </a:lnTo>
                    <a:lnTo>
                      <a:pt x="1385" y="813"/>
                    </a:lnTo>
                    <a:lnTo>
                      <a:pt x="1307" y="811"/>
                    </a:lnTo>
                    <a:lnTo>
                      <a:pt x="1231" y="806"/>
                    </a:lnTo>
                    <a:lnTo>
                      <a:pt x="1157" y="801"/>
                    </a:lnTo>
                    <a:lnTo>
                      <a:pt x="1084" y="796"/>
                    </a:lnTo>
                    <a:lnTo>
                      <a:pt x="1012" y="789"/>
                    </a:lnTo>
                    <a:lnTo>
                      <a:pt x="943" y="782"/>
                    </a:lnTo>
                    <a:lnTo>
                      <a:pt x="874" y="774"/>
                    </a:lnTo>
                    <a:lnTo>
                      <a:pt x="807" y="765"/>
                    </a:lnTo>
                    <a:lnTo>
                      <a:pt x="743" y="755"/>
                    </a:lnTo>
                    <a:lnTo>
                      <a:pt x="680" y="744"/>
                    </a:lnTo>
                    <a:lnTo>
                      <a:pt x="619" y="732"/>
                    </a:lnTo>
                    <a:lnTo>
                      <a:pt x="562" y="720"/>
                    </a:lnTo>
                    <a:lnTo>
                      <a:pt x="505" y="707"/>
                    </a:lnTo>
                    <a:lnTo>
                      <a:pt x="452" y="693"/>
                    </a:lnTo>
                    <a:lnTo>
                      <a:pt x="401" y="678"/>
                    </a:lnTo>
                    <a:lnTo>
                      <a:pt x="353" y="663"/>
                    </a:lnTo>
                    <a:lnTo>
                      <a:pt x="306" y="648"/>
                    </a:lnTo>
                    <a:lnTo>
                      <a:pt x="264" y="632"/>
                    </a:lnTo>
                    <a:lnTo>
                      <a:pt x="223" y="615"/>
                    </a:lnTo>
                    <a:lnTo>
                      <a:pt x="186" y="598"/>
                    </a:lnTo>
                    <a:lnTo>
                      <a:pt x="152" y="579"/>
                    </a:lnTo>
                    <a:lnTo>
                      <a:pt x="121" y="560"/>
                    </a:lnTo>
                    <a:lnTo>
                      <a:pt x="94" y="542"/>
                    </a:lnTo>
                    <a:lnTo>
                      <a:pt x="70" y="523"/>
                    </a:lnTo>
                    <a:lnTo>
                      <a:pt x="49" y="503"/>
                    </a:lnTo>
                    <a:lnTo>
                      <a:pt x="32" y="482"/>
                    </a:lnTo>
                    <a:lnTo>
                      <a:pt x="17" y="462"/>
                    </a:lnTo>
                    <a:lnTo>
                      <a:pt x="8" y="441"/>
                    </a:lnTo>
                    <a:lnTo>
                      <a:pt x="2" y="420"/>
                    </a:lnTo>
                    <a:lnTo>
                      <a:pt x="0" y="399"/>
                    </a:lnTo>
                    <a:lnTo>
                      <a:pt x="2" y="377"/>
                    </a:lnTo>
                    <a:lnTo>
                      <a:pt x="8" y="356"/>
                    </a:lnTo>
                    <a:lnTo>
                      <a:pt x="17" y="336"/>
                    </a:lnTo>
                    <a:lnTo>
                      <a:pt x="32" y="316"/>
                    </a:lnTo>
                    <a:lnTo>
                      <a:pt x="49" y="296"/>
                    </a:lnTo>
                    <a:lnTo>
                      <a:pt x="70" y="277"/>
                    </a:lnTo>
                    <a:lnTo>
                      <a:pt x="94" y="257"/>
                    </a:lnTo>
                    <a:lnTo>
                      <a:pt x="121" y="239"/>
                    </a:lnTo>
                    <a:lnTo>
                      <a:pt x="152" y="221"/>
                    </a:lnTo>
                    <a:lnTo>
                      <a:pt x="186" y="204"/>
                    </a:lnTo>
                    <a:lnTo>
                      <a:pt x="223" y="188"/>
                    </a:lnTo>
                    <a:lnTo>
                      <a:pt x="264" y="172"/>
                    </a:lnTo>
                    <a:lnTo>
                      <a:pt x="306" y="155"/>
                    </a:lnTo>
                    <a:lnTo>
                      <a:pt x="353" y="141"/>
                    </a:lnTo>
                    <a:lnTo>
                      <a:pt x="401" y="127"/>
                    </a:lnTo>
                    <a:lnTo>
                      <a:pt x="452" y="113"/>
                    </a:lnTo>
                    <a:lnTo>
                      <a:pt x="505" y="100"/>
                    </a:lnTo>
                    <a:lnTo>
                      <a:pt x="562" y="88"/>
                    </a:lnTo>
                    <a:lnTo>
                      <a:pt x="619" y="77"/>
                    </a:lnTo>
                    <a:lnTo>
                      <a:pt x="680" y="66"/>
                    </a:lnTo>
                    <a:lnTo>
                      <a:pt x="743" y="55"/>
                    </a:lnTo>
                    <a:lnTo>
                      <a:pt x="807" y="46"/>
                    </a:lnTo>
                    <a:lnTo>
                      <a:pt x="874" y="37"/>
                    </a:lnTo>
                    <a:lnTo>
                      <a:pt x="943" y="30"/>
                    </a:lnTo>
                    <a:lnTo>
                      <a:pt x="1012" y="23"/>
                    </a:lnTo>
                    <a:lnTo>
                      <a:pt x="1084" y="17"/>
                    </a:lnTo>
                    <a:lnTo>
                      <a:pt x="1157" y="12"/>
                    </a:lnTo>
                    <a:lnTo>
                      <a:pt x="1231" y="8"/>
                    </a:lnTo>
                    <a:lnTo>
                      <a:pt x="1307" y="4"/>
                    </a:lnTo>
                    <a:lnTo>
                      <a:pt x="1385" y="2"/>
                    </a:lnTo>
                    <a:lnTo>
                      <a:pt x="1463" y="0"/>
                    </a:lnTo>
                    <a:lnTo>
                      <a:pt x="1542" y="0"/>
                    </a:lnTo>
                    <a:lnTo>
                      <a:pt x="1622" y="0"/>
                    </a:lnTo>
                    <a:lnTo>
                      <a:pt x="1700" y="2"/>
                    </a:lnTo>
                    <a:lnTo>
                      <a:pt x="1778" y="4"/>
                    </a:lnTo>
                    <a:lnTo>
                      <a:pt x="1854" y="8"/>
                    </a:lnTo>
                    <a:lnTo>
                      <a:pt x="1928" y="12"/>
                    </a:lnTo>
                    <a:lnTo>
                      <a:pt x="2001" y="17"/>
                    </a:lnTo>
                    <a:lnTo>
                      <a:pt x="2073" y="23"/>
                    </a:lnTo>
                    <a:lnTo>
                      <a:pt x="2143" y="30"/>
                    </a:lnTo>
                    <a:lnTo>
                      <a:pt x="2211" y="37"/>
                    </a:lnTo>
                    <a:lnTo>
                      <a:pt x="2278" y="46"/>
                    </a:lnTo>
                    <a:lnTo>
                      <a:pt x="2342" y="55"/>
                    </a:lnTo>
                    <a:lnTo>
                      <a:pt x="2405" y="66"/>
                    </a:lnTo>
                    <a:lnTo>
                      <a:pt x="2466" y="77"/>
                    </a:lnTo>
                    <a:lnTo>
                      <a:pt x="2523" y="88"/>
                    </a:lnTo>
                    <a:lnTo>
                      <a:pt x="2580" y="100"/>
                    </a:lnTo>
                    <a:lnTo>
                      <a:pt x="2633" y="113"/>
                    </a:lnTo>
                    <a:lnTo>
                      <a:pt x="2685" y="127"/>
                    </a:lnTo>
                    <a:lnTo>
                      <a:pt x="2733" y="141"/>
                    </a:lnTo>
                    <a:lnTo>
                      <a:pt x="2779" y="155"/>
                    </a:lnTo>
                    <a:lnTo>
                      <a:pt x="2821" y="172"/>
                    </a:lnTo>
                    <a:lnTo>
                      <a:pt x="2861" y="188"/>
                    </a:lnTo>
                    <a:lnTo>
                      <a:pt x="2899" y="204"/>
                    </a:lnTo>
                    <a:lnTo>
                      <a:pt x="2933" y="221"/>
                    </a:lnTo>
                    <a:lnTo>
                      <a:pt x="2963" y="239"/>
                    </a:lnTo>
                    <a:lnTo>
                      <a:pt x="2992" y="257"/>
                    </a:lnTo>
                    <a:lnTo>
                      <a:pt x="3016" y="277"/>
                    </a:lnTo>
                    <a:lnTo>
                      <a:pt x="3036" y="296"/>
                    </a:lnTo>
                    <a:lnTo>
                      <a:pt x="3053" y="316"/>
                    </a:lnTo>
                    <a:lnTo>
                      <a:pt x="3067" y="336"/>
                    </a:lnTo>
                    <a:lnTo>
                      <a:pt x="3077" y="356"/>
                    </a:lnTo>
                    <a:lnTo>
                      <a:pt x="3083" y="377"/>
                    </a:lnTo>
                    <a:lnTo>
                      <a:pt x="3085" y="3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978200" y="6510240"/>
                <a:ext cx="339480" cy="96840"/>
              </a:xfrm>
              <a:custGeom>
                <a:avLst/>
                <a:gdLst/>
                <a:ahLst/>
                <a:rect l="l" t="t" r="r" b="b"/>
                <a:pathLst>
                  <a:path w="3083" h="813">
                    <a:moveTo>
                      <a:pt x="3083" y="398"/>
                    </a:moveTo>
                    <a:lnTo>
                      <a:pt x="3081" y="419"/>
                    </a:lnTo>
                    <a:lnTo>
                      <a:pt x="3075" y="440"/>
                    </a:lnTo>
                    <a:lnTo>
                      <a:pt x="3064" y="461"/>
                    </a:lnTo>
                    <a:lnTo>
                      <a:pt x="3051" y="481"/>
                    </a:lnTo>
                    <a:lnTo>
                      <a:pt x="3034" y="502"/>
                    </a:lnTo>
                    <a:lnTo>
                      <a:pt x="3013" y="521"/>
                    </a:lnTo>
                    <a:lnTo>
                      <a:pt x="2989" y="540"/>
                    </a:lnTo>
                    <a:lnTo>
                      <a:pt x="2961" y="559"/>
                    </a:lnTo>
                    <a:lnTo>
                      <a:pt x="2930" y="577"/>
                    </a:lnTo>
                    <a:lnTo>
                      <a:pt x="2897" y="596"/>
                    </a:lnTo>
                    <a:lnTo>
                      <a:pt x="2859" y="613"/>
                    </a:lnTo>
                    <a:lnTo>
                      <a:pt x="2819" y="630"/>
                    </a:lnTo>
                    <a:lnTo>
                      <a:pt x="2777" y="646"/>
                    </a:lnTo>
                    <a:lnTo>
                      <a:pt x="2730" y="662"/>
                    </a:lnTo>
                    <a:lnTo>
                      <a:pt x="2682" y="677"/>
                    </a:lnTo>
                    <a:lnTo>
                      <a:pt x="2631" y="691"/>
                    </a:lnTo>
                    <a:lnTo>
                      <a:pt x="2578" y="706"/>
                    </a:lnTo>
                    <a:lnTo>
                      <a:pt x="2522" y="719"/>
                    </a:lnTo>
                    <a:lnTo>
                      <a:pt x="2464" y="731"/>
                    </a:lnTo>
                    <a:lnTo>
                      <a:pt x="2403" y="742"/>
                    </a:lnTo>
                    <a:lnTo>
                      <a:pt x="2340" y="753"/>
                    </a:lnTo>
                    <a:lnTo>
                      <a:pt x="2276" y="763"/>
                    </a:lnTo>
                    <a:lnTo>
                      <a:pt x="2210" y="772"/>
                    </a:lnTo>
                    <a:lnTo>
                      <a:pt x="2141" y="780"/>
                    </a:lnTo>
                    <a:lnTo>
                      <a:pt x="2072" y="787"/>
                    </a:lnTo>
                    <a:lnTo>
                      <a:pt x="2000" y="794"/>
                    </a:lnTo>
                    <a:lnTo>
                      <a:pt x="1926" y="800"/>
                    </a:lnTo>
                    <a:lnTo>
                      <a:pt x="1853" y="804"/>
                    </a:lnTo>
                    <a:lnTo>
                      <a:pt x="1776" y="808"/>
                    </a:lnTo>
                    <a:lnTo>
                      <a:pt x="1699" y="811"/>
                    </a:lnTo>
                    <a:lnTo>
                      <a:pt x="1621" y="813"/>
                    </a:lnTo>
                    <a:lnTo>
                      <a:pt x="1541" y="813"/>
                    </a:lnTo>
                    <a:lnTo>
                      <a:pt x="1463" y="813"/>
                    </a:lnTo>
                    <a:lnTo>
                      <a:pt x="1384" y="811"/>
                    </a:lnTo>
                    <a:lnTo>
                      <a:pt x="1307" y="808"/>
                    </a:lnTo>
                    <a:lnTo>
                      <a:pt x="1231" y="804"/>
                    </a:lnTo>
                    <a:lnTo>
                      <a:pt x="1157" y="800"/>
                    </a:lnTo>
                    <a:lnTo>
                      <a:pt x="1083" y="794"/>
                    </a:lnTo>
                    <a:lnTo>
                      <a:pt x="1011" y="787"/>
                    </a:lnTo>
                    <a:lnTo>
                      <a:pt x="942" y="780"/>
                    </a:lnTo>
                    <a:lnTo>
                      <a:pt x="874" y="772"/>
                    </a:lnTo>
                    <a:lnTo>
                      <a:pt x="807" y="763"/>
                    </a:lnTo>
                    <a:lnTo>
                      <a:pt x="743" y="753"/>
                    </a:lnTo>
                    <a:lnTo>
                      <a:pt x="680" y="742"/>
                    </a:lnTo>
                    <a:lnTo>
                      <a:pt x="619" y="731"/>
                    </a:lnTo>
                    <a:lnTo>
                      <a:pt x="562" y="719"/>
                    </a:lnTo>
                    <a:lnTo>
                      <a:pt x="505" y="706"/>
                    </a:lnTo>
                    <a:lnTo>
                      <a:pt x="452" y="691"/>
                    </a:lnTo>
                    <a:lnTo>
                      <a:pt x="401" y="677"/>
                    </a:lnTo>
                    <a:lnTo>
                      <a:pt x="353" y="662"/>
                    </a:lnTo>
                    <a:lnTo>
                      <a:pt x="306" y="646"/>
                    </a:lnTo>
                    <a:lnTo>
                      <a:pt x="264" y="630"/>
                    </a:lnTo>
                    <a:lnTo>
                      <a:pt x="223" y="613"/>
                    </a:lnTo>
                    <a:lnTo>
                      <a:pt x="186" y="596"/>
                    </a:lnTo>
                    <a:lnTo>
                      <a:pt x="153" y="577"/>
                    </a:lnTo>
                    <a:lnTo>
                      <a:pt x="121" y="559"/>
                    </a:lnTo>
                    <a:lnTo>
                      <a:pt x="94" y="540"/>
                    </a:lnTo>
                    <a:lnTo>
                      <a:pt x="70" y="521"/>
                    </a:lnTo>
                    <a:lnTo>
                      <a:pt x="49" y="502"/>
                    </a:lnTo>
                    <a:lnTo>
                      <a:pt x="32" y="481"/>
                    </a:lnTo>
                    <a:lnTo>
                      <a:pt x="18" y="461"/>
                    </a:lnTo>
                    <a:lnTo>
                      <a:pt x="8" y="440"/>
                    </a:lnTo>
                    <a:lnTo>
                      <a:pt x="2" y="419"/>
                    </a:lnTo>
                    <a:lnTo>
                      <a:pt x="0" y="398"/>
                    </a:lnTo>
                    <a:lnTo>
                      <a:pt x="2" y="376"/>
                    </a:lnTo>
                    <a:lnTo>
                      <a:pt x="8" y="355"/>
                    </a:lnTo>
                    <a:lnTo>
                      <a:pt x="18" y="335"/>
                    </a:lnTo>
                    <a:lnTo>
                      <a:pt x="32" y="315"/>
                    </a:lnTo>
                    <a:lnTo>
                      <a:pt x="49" y="295"/>
                    </a:lnTo>
                    <a:lnTo>
                      <a:pt x="70" y="276"/>
                    </a:lnTo>
                    <a:lnTo>
                      <a:pt x="94" y="257"/>
                    </a:lnTo>
                    <a:lnTo>
                      <a:pt x="121" y="238"/>
                    </a:lnTo>
                    <a:lnTo>
                      <a:pt x="153" y="221"/>
                    </a:lnTo>
                    <a:lnTo>
                      <a:pt x="186" y="204"/>
                    </a:lnTo>
                    <a:lnTo>
                      <a:pt x="223" y="187"/>
                    </a:lnTo>
                    <a:lnTo>
                      <a:pt x="264" y="171"/>
                    </a:lnTo>
                    <a:lnTo>
                      <a:pt x="306" y="155"/>
                    </a:lnTo>
                    <a:lnTo>
                      <a:pt x="353" y="140"/>
                    </a:lnTo>
                    <a:lnTo>
                      <a:pt x="401" y="126"/>
                    </a:lnTo>
                    <a:lnTo>
                      <a:pt x="452" y="113"/>
                    </a:lnTo>
                    <a:lnTo>
                      <a:pt x="505" y="100"/>
                    </a:lnTo>
                    <a:lnTo>
                      <a:pt x="562" y="88"/>
                    </a:lnTo>
                    <a:lnTo>
                      <a:pt x="619" y="76"/>
                    </a:lnTo>
                    <a:lnTo>
                      <a:pt x="680" y="66"/>
                    </a:lnTo>
                    <a:lnTo>
                      <a:pt x="743" y="55"/>
                    </a:lnTo>
                    <a:lnTo>
                      <a:pt x="807" y="46"/>
                    </a:lnTo>
                    <a:lnTo>
                      <a:pt x="874" y="37"/>
                    </a:lnTo>
                    <a:lnTo>
                      <a:pt x="942" y="29"/>
                    </a:lnTo>
                    <a:lnTo>
                      <a:pt x="1011" y="23"/>
                    </a:lnTo>
                    <a:lnTo>
                      <a:pt x="1083" y="17"/>
                    </a:lnTo>
                    <a:lnTo>
                      <a:pt x="1157" y="12"/>
                    </a:lnTo>
                    <a:lnTo>
                      <a:pt x="1231" y="7"/>
                    </a:lnTo>
                    <a:lnTo>
                      <a:pt x="1307" y="4"/>
                    </a:lnTo>
                    <a:lnTo>
                      <a:pt x="1384" y="2"/>
                    </a:lnTo>
                    <a:lnTo>
                      <a:pt x="1463" y="0"/>
                    </a:lnTo>
                    <a:lnTo>
                      <a:pt x="1541" y="0"/>
                    </a:lnTo>
                    <a:lnTo>
                      <a:pt x="1621" y="0"/>
                    </a:lnTo>
                    <a:lnTo>
                      <a:pt x="1699" y="2"/>
                    </a:lnTo>
                    <a:lnTo>
                      <a:pt x="1776" y="4"/>
                    </a:lnTo>
                    <a:lnTo>
                      <a:pt x="1853" y="7"/>
                    </a:lnTo>
                    <a:lnTo>
                      <a:pt x="1926" y="12"/>
                    </a:lnTo>
                    <a:lnTo>
                      <a:pt x="2000" y="17"/>
                    </a:lnTo>
                    <a:lnTo>
                      <a:pt x="2072" y="23"/>
                    </a:lnTo>
                    <a:lnTo>
                      <a:pt x="2141" y="29"/>
                    </a:lnTo>
                    <a:lnTo>
                      <a:pt x="2210" y="37"/>
                    </a:lnTo>
                    <a:lnTo>
                      <a:pt x="2276" y="46"/>
                    </a:lnTo>
                    <a:lnTo>
                      <a:pt x="2340" y="55"/>
                    </a:lnTo>
                    <a:lnTo>
                      <a:pt x="2403" y="66"/>
                    </a:lnTo>
                    <a:lnTo>
                      <a:pt x="2464" y="76"/>
                    </a:lnTo>
                    <a:lnTo>
                      <a:pt x="2522" y="88"/>
                    </a:lnTo>
                    <a:lnTo>
                      <a:pt x="2578" y="100"/>
                    </a:lnTo>
                    <a:lnTo>
                      <a:pt x="2631" y="113"/>
                    </a:lnTo>
                    <a:lnTo>
                      <a:pt x="2682" y="126"/>
                    </a:lnTo>
                    <a:lnTo>
                      <a:pt x="2730" y="140"/>
                    </a:lnTo>
                    <a:lnTo>
                      <a:pt x="2777" y="155"/>
                    </a:lnTo>
                    <a:lnTo>
                      <a:pt x="2819" y="171"/>
                    </a:lnTo>
                    <a:lnTo>
                      <a:pt x="2859" y="187"/>
                    </a:lnTo>
                    <a:lnTo>
                      <a:pt x="2897" y="204"/>
                    </a:lnTo>
                    <a:lnTo>
                      <a:pt x="2930" y="221"/>
                    </a:lnTo>
                    <a:lnTo>
                      <a:pt x="2961" y="238"/>
                    </a:lnTo>
                    <a:lnTo>
                      <a:pt x="2989" y="257"/>
                    </a:lnTo>
                    <a:lnTo>
                      <a:pt x="3013" y="276"/>
                    </a:lnTo>
                    <a:lnTo>
                      <a:pt x="3034" y="295"/>
                    </a:lnTo>
                    <a:lnTo>
                      <a:pt x="3051" y="315"/>
                    </a:lnTo>
                    <a:lnTo>
                      <a:pt x="3064" y="335"/>
                    </a:lnTo>
                    <a:lnTo>
                      <a:pt x="3075" y="355"/>
                    </a:lnTo>
                    <a:lnTo>
                      <a:pt x="3081" y="376"/>
                    </a:lnTo>
                    <a:lnTo>
                      <a:pt x="3083" y="3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78200" y="6510240"/>
                <a:ext cx="339480" cy="96840"/>
              </a:xfrm>
              <a:custGeom>
                <a:avLst/>
                <a:gdLst/>
                <a:ahLst/>
                <a:rect l="l" t="t" r="r" b="b"/>
                <a:pathLst>
                  <a:path w="3079" h="812">
                    <a:moveTo>
                      <a:pt x="3079" y="397"/>
                    </a:moveTo>
                    <a:lnTo>
                      <a:pt x="3077" y="418"/>
                    </a:lnTo>
                    <a:lnTo>
                      <a:pt x="3072" y="439"/>
                    </a:lnTo>
                    <a:lnTo>
                      <a:pt x="3061" y="460"/>
                    </a:lnTo>
                    <a:lnTo>
                      <a:pt x="3047" y="480"/>
                    </a:lnTo>
                    <a:lnTo>
                      <a:pt x="3030" y="501"/>
                    </a:lnTo>
                    <a:lnTo>
                      <a:pt x="3010" y="520"/>
                    </a:lnTo>
                    <a:lnTo>
                      <a:pt x="2986" y="539"/>
                    </a:lnTo>
                    <a:lnTo>
                      <a:pt x="2958" y="558"/>
                    </a:lnTo>
                    <a:lnTo>
                      <a:pt x="2927" y="576"/>
                    </a:lnTo>
                    <a:lnTo>
                      <a:pt x="2893" y="595"/>
                    </a:lnTo>
                    <a:lnTo>
                      <a:pt x="2856" y="612"/>
                    </a:lnTo>
                    <a:lnTo>
                      <a:pt x="2816" y="629"/>
                    </a:lnTo>
                    <a:lnTo>
                      <a:pt x="2774" y="645"/>
                    </a:lnTo>
                    <a:lnTo>
                      <a:pt x="2727" y="660"/>
                    </a:lnTo>
                    <a:lnTo>
                      <a:pt x="2679" y="675"/>
                    </a:lnTo>
                    <a:lnTo>
                      <a:pt x="2628" y="689"/>
                    </a:lnTo>
                    <a:lnTo>
                      <a:pt x="2575" y="704"/>
                    </a:lnTo>
                    <a:lnTo>
                      <a:pt x="2519" y="717"/>
                    </a:lnTo>
                    <a:lnTo>
                      <a:pt x="2461" y="729"/>
                    </a:lnTo>
                    <a:lnTo>
                      <a:pt x="2400" y="740"/>
                    </a:lnTo>
                    <a:lnTo>
                      <a:pt x="2337" y="751"/>
                    </a:lnTo>
                    <a:lnTo>
                      <a:pt x="2274" y="761"/>
                    </a:lnTo>
                    <a:lnTo>
                      <a:pt x="2207" y="770"/>
                    </a:lnTo>
                    <a:lnTo>
                      <a:pt x="2138" y="778"/>
                    </a:lnTo>
                    <a:lnTo>
                      <a:pt x="2069" y="786"/>
                    </a:lnTo>
                    <a:lnTo>
                      <a:pt x="1997" y="792"/>
                    </a:lnTo>
                    <a:lnTo>
                      <a:pt x="1924" y="798"/>
                    </a:lnTo>
                    <a:lnTo>
                      <a:pt x="1850" y="802"/>
                    </a:lnTo>
                    <a:lnTo>
                      <a:pt x="1774" y="806"/>
                    </a:lnTo>
                    <a:lnTo>
                      <a:pt x="1697" y="809"/>
                    </a:lnTo>
                    <a:lnTo>
                      <a:pt x="1619" y="811"/>
                    </a:lnTo>
                    <a:lnTo>
                      <a:pt x="1539" y="812"/>
                    </a:lnTo>
                    <a:lnTo>
                      <a:pt x="1461" y="811"/>
                    </a:lnTo>
                    <a:lnTo>
                      <a:pt x="1382" y="809"/>
                    </a:lnTo>
                    <a:lnTo>
                      <a:pt x="1305" y="806"/>
                    </a:lnTo>
                    <a:lnTo>
                      <a:pt x="1229" y="802"/>
                    </a:lnTo>
                    <a:lnTo>
                      <a:pt x="1155" y="798"/>
                    </a:lnTo>
                    <a:lnTo>
                      <a:pt x="1082" y="792"/>
                    </a:lnTo>
                    <a:lnTo>
                      <a:pt x="1010" y="786"/>
                    </a:lnTo>
                    <a:lnTo>
                      <a:pt x="941" y="778"/>
                    </a:lnTo>
                    <a:lnTo>
                      <a:pt x="872" y="770"/>
                    </a:lnTo>
                    <a:lnTo>
                      <a:pt x="805" y="761"/>
                    </a:lnTo>
                    <a:lnTo>
                      <a:pt x="742" y="751"/>
                    </a:lnTo>
                    <a:lnTo>
                      <a:pt x="679" y="740"/>
                    </a:lnTo>
                    <a:lnTo>
                      <a:pt x="618" y="729"/>
                    </a:lnTo>
                    <a:lnTo>
                      <a:pt x="560" y="717"/>
                    </a:lnTo>
                    <a:lnTo>
                      <a:pt x="504" y="704"/>
                    </a:lnTo>
                    <a:lnTo>
                      <a:pt x="451" y="689"/>
                    </a:lnTo>
                    <a:lnTo>
                      <a:pt x="400" y="675"/>
                    </a:lnTo>
                    <a:lnTo>
                      <a:pt x="352" y="660"/>
                    </a:lnTo>
                    <a:lnTo>
                      <a:pt x="306" y="645"/>
                    </a:lnTo>
                    <a:lnTo>
                      <a:pt x="263" y="629"/>
                    </a:lnTo>
                    <a:lnTo>
                      <a:pt x="223" y="612"/>
                    </a:lnTo>
                    <a:lnTo>
                      <a:pt x="186" y="595"/>
                    </a:lnTo>
                    <a:lnTo>
                      <a:pt x="152" y="576"/>
                    </a:lnTo>
                    <a:lnTo>
                      <a:pt x="122" y="558"/>
                    </a:lnTo>
                    <a:lnTo>
                      <a:pt x="93" y="539"/>
                    </a:lnTo>
                    <a:lnTo>
                      <a:pt x="69" y="520"/>
                    </a:lnTo>
                    <a:lnTo>
                      <a:pt x="49" y="501"/>
                    </a:lnTo>
                    <a:lnTo>
                      <a:pt x="32" y="480"/>
                    </a:lnTo>
                    <a:lnTo>
                      <a:pt x="17" y="460"/>
                    </a:lnTo>
                    <a:lnTo>
                      <a:pt x="8" y="439"/>
                    </a:lnTo>
                    <a:lnTo>
                      <a:pt x="2" y="418"/>
                    </a:lnTo>
                    <a:lnTo>
                      <a:pt x="0" y="397"/>
                    </a:lnTo>
                    <a:lnTo>
                      <a:pt x="2" y="375"/>
                    </a:lnTo>
                    <a:lnTo>
                      <a:pt x="8" y="354"/>
                    </a:lnTo>
                    <a:lnTo>
                      <a:pt x="17" y="334"/>
                    </a:lnTo>
                    <a:lnTo>
                      <a:pt x="32" y="314"/>
                    </a:lnTo>
                    <a:lnTo>
                      <a:pt x="49" y="294"/>
                    </a:lnTo>
                    <a:lnTo>
                      <a:pt x="69" y="275"/>
                    </a:lnTo>
                    <a:lnTo>
                      <a:pt x="93" y="256"/>
                    </a:lnTo>
                    <a:lnTo>
                      <a:pt x="122" y="238"/>
                    </a:lnTo>
                    <a:lnTo>
                      <a:pt x="152" y="220"/>
                    </a:lnTo>
                    <a:lnTo>
                      <a:pt x="186" y="203"/>
                    </a:lnTo>
                    <a:lnTo>
                      <a:pt x="223" y="187"/>
                    </a:lnTo>
                    <a:lnTo>
                      <a:pt x="263" y="171"/>
                    </a:lnTo>
                    <a:lnTo>
                      <a:pt x="306" y="155"/>
                    </a:lnTo>
                    <a:lnTo>
                      <a:pt x="352" y="140"/>
                    </a:lnTo>
                    <a:lnTo>
                      <a:pt x="400" y="126"/>
                    </a:lnTo>
                    <a:lnTo>
                      <a:pt x="451" y="112"/>
                    </a:lnTo>
                    <a:lnTo>
                      <a:pt x="504" y="100"/>
                    </a:lnTo>
                    <a:lnTo>
                      <a:pt x="560" y="87"/>
                    </a:lnTo>
                    <a:lnTo>
                      <a:pt x="618" y="76"/>
                    </a:lnTo>
                    <a:lnTo>
                      <a:pt x="679" y="65"/>
                    </a:lnTo>
                    <a:lnTo>
                      <a:pt x="742" y="54"/>
                    </a:lnTo>
                    <a:lnTo>
                      <a:pt x="805" y="45"/>
                    </a:lnTo>
                    <a:lnTo>
                      <a:pt x="872" y="37"/>
                    </a:lnTo>
                    <a:lnTo>
                      <a:pt x="941" y="29"/>
                    </a:lnTo>
                    <a:lnTo>
                      <a:pt x="1010" y="23"/>
                    </a:lnTo>
                    <a:lnTo>
                      <a:pt x="1082" y="17"/>
                    </a:lnTo>
                    <a:lnTo>
                      <a:pt x="1155" y="12"/>
                    </a:lnTo>
                    <a:lnTo>
                      <a:pt x="1229" y="7"/>
                    </a:lnTo>
                    <a:lnTo>
                      <a:pt x="1305" y="4"/>
                    </a:lnTo>
                    <a:lnTo>
                      <a:pt x="1382" y="2"/>
                    </a:lnTo>
                    <a:lnTo>
                      <a:pt x="1461" y="0"/>
                    </a:lnTo>
                    <a:lnTo>
                      <a:pt x="1539" y="0"/>
                    </a:lnTo>
                    <a:lnTo>
                      <a:pt x="1619" y="0"/>
                    </a:lnTo>
                    <a:lnTo>
                      <a:pt x="1697" y="2"/>
                    </a:lnTo>
                    <a:lnTo>
                      <a:pt x="1774" y="4"/>
                    </a:lnTo>
                    <a:lnTo>
                      <a:pt x="1850" y="7"/>
                    </a:lnTo>
                    <a:lnTo>
                      <a:pt x="1924" y="12"/>
                    </a:lnTo>
                    <a:lnTo>
                      <a:pt x="1997" y="17"/>
                    </a:lnTo>
                    <a:lnTo>
                      <a:pt x="2069" y="23"/>
                    </a:lnTo>
                    <a:lnTo>
                      <a:pt x="2138" y="29"/>
                    </a:lnTo>
                    <a:lnTo>
                      <a:pt x="2207" y="37"/>
                    </a:lnTo>
                    <a:lnTo>
                      <a:pt x="2274" y="45"/>
                    </a:lnTo>
                    <a:lnTo>
                      <a:pt x="2337" y="54"/>
                    </a:lnTo>
                    <a:lnTo>
                      <a:pt x="2400" y="65"/>
                    </a:lnTo>
                    <a:lnTo>
                      <a:pt x="2461" y="76"/>
                    </a:lnTo>
                    <a:lnTo>
                      <a:pt x="2519" y="87"/>
                    </a:lnTo>
                    <a:lnTo>
                      <a:pt x="2575" y="100"/>
                    </a:lnTo>
                    <a:lnTo>
                      <a:pt x="2628" y="112"/>
                    </a:lnTo>
                    <a:lnTo>
                      <a:pt x="2679" y="126"/>
                    </a:lnTo>
                    <a:lnTo>
                      <a:pt x="2727" y="140"/>
                    </a:lnTo>
                    <a:lnTo>
                      <a:pt x="2774" y="155"/>
                    </a:lnTo>
                    <a:lnTo>
                      <a:pt x="2816" y="171"/>
                    </a:lnTo>
                    <a:lnTo>
                      <a:pt x="2856" y="187"/>
                    </a:lnTo>
                    <a:lnTo>
                      <a:pt x="2893" y="203"/>
                    </a:lnTo>
                    <a:lnTo>
                      <a:pt x="2927" y="220"/>
                    </a:lnTo>
                    <a:lnTo>
                      <a:pt x="2958" y="238"/>
                    </a:lnTo>
                    <a:lnTo>
                      <a:pt x="2986" y="256"/>
                    </a:lnTo>
                    <a:lnTo>
                      <a:pt x="3010" y="275"/>
                    </a:lnTo>
                    <a:lnTo>
                      <a:pt x="3030" y="294"/>
                    </a:lnTo>
                    <a:lnTo>
                      <a:pt x="3047" y="314"/>
                    </a:lnTo>
                    <a:lnTo>
                      <a:pt x="3061" y="334"/>
                    </a:lnTo>
                    <a:lnTo>
                      <a:pt x="3072" y="354"/>
                    </a:lnTo>
                    <a:lnTo>
                      <a:pt x="3077" y="375"/>
                    </a:lnTo>
                    <a:lnTo>
                      <a:pt x="3079" y="3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78200" y="6510240"/>
                <a:ext cx="339480" cy="96840"/>
              </a:xfrm>
              <a:custGeom>
                <a:avLst/>
                <a:gdLst/>
                <a:ahLst/>
                <a:rect l="l" t="t" r="r" b="b"/>
                <a:pathLst>
                  <a:path w="3077" h="810">
                    <a:moveTo>
                      <a:pt x="3077" y="396"/>
                    </a:moveTo>
                    <a:lnTo>
                      <a:pt x="3075" y="417"/>
                    </a:lnTo>
                    <a:lnTo>
                      <a:pt x="3069" y="438"/>
                    </a:lnTo>
                    <a:lnTo>
                      <a:pt x="3058" y="458"/>
                    </a:lnTo>
                    <a:lnTo>
                      <a:pt x="3045" y="479"/>
                    </a:lnTo>
                    <a:lnTo>
                      <a:pt x="3028" y="499"/>
                    </a:lnTo>
                    <a:lnTo>
                      <a:pt x="3008" y="519"/>
                    </a:lnTo>
                    <a:lnTo>
                      <a:pt x="2984" y="538"/>
                    </a:lnTo>
                    <a:lnTo>
                      <a:pt x="2955" y="556"/>
                    </a:lnTo>
                    <a:lnTo>
                      <a:pt x="2925" y="575"/>
                    </a:lnTo>
                    <a:lnTo>
                      <a:pt x="2891" y="592"/>
                    </a:lnTo>
                    <a:lnTo>
                      <a:pt x="2853" y="610"/>
                    </a:lnTo>
                    <a:lnTo>
                      <a:pt x="2814" y="627"/>
                    </a:lnTo>
                    <a:lnTo>
                      <a:pt x="2771" y="643"/>
                    </a:lnTo>
                    <a:lnTo>
                      <a:pt x="2725" y="659"/>
                    </a:lnTo>
                    <a:lnTo>
                      <a:pt x="2677" y="673"/>
                    </a:lnTo>
                    <a:lnTo>
                      <a:pt x="2626" y="688"/>
                    </a:lnTo>
                    <a:lnTo>
                      <a:pt x="2573" y="702"/>
                    </a:lnTo>
                    <a:lnTo>
                      <a:pt x="2517" y="715"/>
                    </a:lnTo>
                    <a:lnTo>
                      <a:pt x="2459" y="727"/>
                    </a:lnTo>
                    <a:lnTo>
                      <a:pt x="2399" y="739"/>
                    </a:lnTo>
                    <a:lnTo>
                      <a:pt x="2336" y="749"/>
                    </a:lnTo>
                    <a:lnTo>
                      <a:pt x="2272" y="759"/>
                    </a:lnTo>
                    <a:lnTo>
                      <a:pt x="2205" y="768"/>
                    </a:lnTo>
                    <a:lnTo>
                      <a:pt x="2137" y="776"/>
                    </a:lnTo>
                    <a:lnTo>
                      <a:pt x="2068" y="784"/>
                    </a:lnTo>
                    <a:lnTo>
                      <a:pt x="1996" y="790"/>
                    </a:lnTo>
                    <a:lnTo>
                      <a:pt x="1923" y="796"/>
                    </a:lnTo>
                    <a:lnTo>
                      <a:pt x="1849" y="800"/>
                    </a:lnTo>
                    <a:lnTo>
                      <a:pt x="1773" y="804"/>
                    </a:lnTo>
                    <a:lnTo>
                      <a:pt x="1696" y="806"/>
                    </a:lnTo>
                    <a:lnTo>
                      <a:pt x="1617" y="809"/>
                    </a:lnTo>
                    <a:lnTo>
                      <a:pt x="1538" y="810"/>
                    </a:lnTo>
                    <a:lnTo>
                      <a:pt x="1460" y="809"/>
                    </a:lnTo>
                    <a:lnTo>
                      <a:pt x="1381" y="806"/>
                    </a:lnTo>
                    <a:lnTo>
                      <a:pt x="1304" y="804"/>
                    </a:lnTo>
                    <a:lnTo>
                      <a:pt x="1228" y="800"/>
                    </a:lnTo>
                    <a:lnTo>
                      <a:pt x="1154" y="796"/>
                    </a:lnTo>
                    <a:lnTo>
                      <a:pt x="1081" y="790"/>
                    </a:lnTo>
                    <a:lnTo>
                      <a:pt x="1009" y="784"/>
                    </a:lnTo>
                    <a:lnTo>
                      <a:pt x="940" y="776"/>
                    </a:lnTo>
                    <a:lnTo>
                      <a:pt x="872" y="768"/>
                    </a:lnTo>
                    <a:lnTo>
                      <a:pt x="805" y="759"/>
                    </a:lnTo>
                    <a:lnTo>
                      <a:pt x="741" y="749"/>
                    </a:lnTo>
                    <a:lnTo>
                      <a:pt x="679" y="739"/>
                    </a:lnTo>
                    <a:lnTo>
                      <a:pt x="618" y="727"/>
                    </a:lnTo>
                    <a:lnTo>
                      <a:pt x="560" y="715"/>
                    </a:lnTo>
                    <a:lnTo>
                      <a:pt x="504" y="702"/>
                    </a:lnTo>
                    <a:lnTo>
                      <a:pt x="451" y="688"/>
                    </a:lnTo>
                    <a:lnTo>
                      <a:pt x="400" y="673"/>
                    </a:lnTo>
                    <a:lnTo>
                      <a:pt x="352" y="659"/>
                    </a:lnTo>
                    <a:lnTo>
                      <a:pt x="306" y="643"/>
                    </a:lnTo>
                    <a:lnTo>
                      <a:pt x="263" y="627"/>
                    </a:lnTo>
                    <a:lnTo>
                      <a:pt x="224" y="610"/>
                    </a:lnTo>
                    <a:lnTo>
                      <a:pt x="186" y="592"/>
                    </a:lnTo>
                    <a:lnTo>
                      <a:pt x="152" y="575"/>
                    </a:lnTo>
                    <a:lnTo>
                      <a:pt x="122" y="556"/>
                    </a:lnTo>
                    <a:lnTo>
                      <a:pt x="94" y="538"/>
                    </a:lnTo>
                    <a:lnTo>
                      <a:pt x="70" y="519"/>
                    </a:lnTo>
                    <a:lnTo>
                      <a:pt x="49" y="499"/>
                    </a:lnTo>
                    <a:lnTo>
                      <a:pt x="32" y="479"/>
                    </a:lnTo>
                    <a:lnTo>
                      <a:pt x="19" y="458"/>
                    </a:lnTo>
                    <a:lnTo>
                      <a:pt x="8" y="438"/>
                    </a:lnTo>
                    <a:lnTo>
                      <a:pt x="2" y="417"/>
                    </a:lnTo>
                    <a:lnTo>
                      <a:pt x="0" y="396"/>
                    </a:lnTo>
                    <a:lnTo>
                      <a:pt x="2" y="374"/>
                    </a:lnTo>
                    <a:lnTo>
                      <a:pt x="8" y="353"/>
                    </a:lnTo>
                    <a:lnTo>
                      <a:pt x="19" y="333"/>
                    </a:lnTo>
                    <a:lnTo>
                      <a:pt x="32" y="313"/>
                    </a:lnTo>
                    <a:lnTo>
                      <a:pt x="49" y="294"/>
                    </a:lnTo>
                    <a:lnTo>
                      <a:pt x="70" y="275"/>
                    </a:lnTo>
                    <a:lnTo>
                      <a:pt x="94" y="255"/>
                    </a:lnTo>
                    <a:lnTo>
                      <a:pt x="122" y="237"/>
                    </a:lnTo>
                    <a:lnTo>
                      <a:pt x="152" y="220"/>
                    </a:lnTo>
                    <a:lnTo>
                      <a:pt x="186" y="203"/>
                    </a:lnTo>
                    <a:lnTo>
                      <a:pt x="224" y="186"/>
                    </a:lnTo>
                    <a:lnTo>
                      <a:pt x="263" y="170"/>
                    </a:lnTo>
                    <a:lnTo>
                      <a:pt x="306" y="154"/>
                    </a:lnTo>
                    <a:lnTo>
                      <a:pt x="352" y="139"/>
                    </a:lnTo>
                    <a:lnTo>
                      <a:pt x="400" y="125"/>
                    </a:lnTo>
                    <a:lnTo>
                      <a:pt x="451" y="112"/>
                    </a:lnTo>
                    <a:lnTo>
                      <a:pt x="504" y="99"/>
                    </a:lnTo>
                    <a:lnTo>
                      <a:pt x="560" y="87"/>
                    </a:lnTo>
                    <a:lnTo>
                      <a:pt x="618" y="76"/>
                    </a:lnTo>
                    <a:lnTo>
                      <a:pt x="679" y="65"/>
                    </a:lnTo>
                    <a:lnTo>
                      <a:pt x="741" y="54"/>
                    </a:lnTo>
                    <a:lnTo>
                      <a:pt x="805" y="45"/>
                    </a:lnTo>
                    <a:lnTo>
                      <a:pt x="872" y="37"/>
                    </a:lnTo>
                    <a:lnTo>
                      <a:pt x="940" y="29"/>
                    </a:lnTo>
                    <a:lnTo>
                      <a:pt x="1009" y="22"/>
                    </a:lnTo>
                    <a:lnTo>
                      <a:pt x="1081" y="17"/>
                    </a:lnTo>
                    <a:lnTo>
                      <a:pt x="1154" y="12"/>
                    </a:lnTo>
                    <a:lnTo>
                      <a:pt x="1228" y="7"/>
                    </a:lnTo>
                    <a:lnTo>
                      <a:pt x="1304" y="4"/>
                    </a:lnTo>
                    <a:lnTo>
                      <a:pt x="1381" y="2"/>
                    </a:lnTo>
                    <a:lnTo>
                      <a:pt x="1460" y="0"/>
                    </a:lnTo>
                    <a:lnTo>
                      <a:pt x="1538" y="0"/>
                    </a:lnTo>
                    <a:lnTo>
                      <a:pt x="1617" y="0"/>
                    </a:lnTo>
                    <a:lnTo>
                      <a:pt x="1696" y="2"/>
                    </a:lnTo>
                    <a:lnTo>
                      <a:pt x="1773" y="4"/>
                    </a:lnTo>
                    <a:lnTo>
                      <a:pt x="1849" y="7"/>
                    </a:lnTo>
                    <a:lnTo>
                      <a:pt x="1923" y="12"/>
                    </a:lnTo>
                    <a:lnTo>
                      <a:pt x="1996" y="17"/>
                    </a:lnTo>
                    <a:lnTo>
                      <a:pt x="2068" y="22"/>
                    </a:lnTo>
                    <a:lnTo>
                      <a:pt x="2137" y="29"/>
                    </a:lnTo>
                    <a:lnTo>
                      <a:pt x="2205" y="37"/>
                    </a:lnTo>
                    <a:lnTo>
                      <a:pt x="2272" y="45"/>
                    </a:lnTo>
                    <a:lnTo>
                      <a:pt x="2336" y="54"/>
                    </a:lnTo>
                    <a:lnTo>
                      <a:pt x="2399" y="65"/>
                    </a:lnTo>
                    <a:lnTo>
                      <a:pt x="2459" y="76"/>
                    </a:lnTo>
                    <a:lnTo>
                      <a:pt x="2517" y="87"/>
                    </a:lnTo>
                    <a:lnTo>
                      <a:pt x="2573" y="99"/>
                    </a:lnTo>
                    <a:lnTo>
                      <a:pt x="2626" y="112"/>
                    </a:lnTo>
                    <a:lnTo>
                      <a:pt x="2677" y="125"/>
                    </a:lnTo>
                    <a:lnTo>
                      <a:pt x="2725" y="139"/>
                    </a:lnTo>
                    <a:lnTo>
                      <a:pt x="2771" y="154"/>
                    </a:lnTo>
                    <a:lnTo>
                      <a:pt x="2814" y="170"/>
                    </a:lnTo>
                    <a:lnTo>
                      <a:pt x="2853" y="186"/>
                    </a:lnTo>
                    <a:lnTo>
                      <a:pt x="2891" y="203"/>
                    </a:lnTo>
                    <a:lnTo>
                      <a:pt x="2925" y="220"/>
                    </a:lnTo>
                    <a:lnTo>
                      <a:pt x="2955" y="237"/>
                    </a:lnTo>
                    <a:lnTo>
                      <a:pt x="2984" y="255"/>
                    </a:lnTo>
                    <a:lnTo>
                      <a:pt x="3008" y="275"/>
                    </a:lnTo>
                    <a:lnTo>
                      <a:pt x="3028" y="294"/>
                    </a:lnTo>
                    <a:lnTo>
                      <a:pt x="3045" y="313"/>
                    </a:lnTo>
                    <a:lnTo>
                      <a:pt x="3058" y="333"/>
                    </a:lnTo>
                    <a:lnTo>
                      <a:pt x="3069" y="353"/>
                    </a:lnTo>
                    <a:lnTo>
                      <a:pt x="3075" y="374"/>
                    </a:lnTo>
                    <a:lnTo>
                      <a:pt x="3077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978200" y="6510240"/>
                <a:ext cx="339480" cy="96840"/>
              </a:xfrm>
              <a:custGeom>
                <a:avLst/>
                <a:gdLst/>
                <a:ahLst/>
                <a:rect l="l" t="t" r="r" b="b"/>
                <a:pathLst>
                  <a:path w="3074" h="808">
                    <a:moveTo>
                      <a:pt x="3074" y="395"/>
                    </a:moveTo>
                    <a:lnTo>
                      <a:pt x="3072" y="416"/>
                    </a:lnTo>
                    <a:lnTo>
                      <a:pt x="3066" y="437"/>
                    </a:lnTo>
                    <a:lnTo>
                      <a:pt x="3055" y="457"/>
                    </a:lnTo>
                    <a:lnTo>
                      <a:pt x="3042" y="477"/>
                    </a:lnTo>
                    <a:lnTo>
                      <a:pt x="3025" y="498"/>
                    </a:lnTo>
                    <a:lnTo>
                      <a:pt x="3004" y="518"/>
                    </a:lnTo>
                    <a:lnTo>
                      <a:pt x="2980" y="536"/>
                    </a:lnTo>
                    <a:lnTo>
                      <a:pt x="2952" y="555"/>
                    </a:lnTo>
                    <a:lnTo>
                      <a:pt x="2922" y="573"/>
                    </a:lnTo>
                    <a:lnTo>
                      <a:pt x="2888" y="591"/>
                    </a:lnTo>
                    <a:lnTo>
                      <a:pt x="2850" y="609"/>
                    </a:lnTo>
                    <a:lnTo>
                      <a:pt x="2811" y="625"/>
                    </a:lnTo>
                    <a:lnTo>
                      <a:pt x="2768" y="642"/>
                    </a:lnTo>
                    <a:lnTo>
                      <a:pt x="2722" y="657"/>
                    </a:lnTo>
                    <a:lnTo>
                      <a:pt x="2674" y="672"/>
                    </a:lnTo>
                    <a:lnTo>
                      <a:pt x="2623" y="686"/>
                    </a:lnTo>
                    <a:lnTo>
                      <a:pt x="2570" y="701"/>
                    </a:lnTo>
                    <a:lnTo>
                      <a:pt x="2514" y="713"/>
                    </a:lnTo>
                    <a:lnTo>
                      <a:pt x="2456" y="725"/>
                    </a:lnTo>
                    <a:lnTo>
                      <a:pt x="2396" y="737"/>
                    </a:lnTo>
                    <a:lnTo>
                      <a:pt x="2333" y="748"/>
                    </a:lnTo>
                    <a:lnTo>
                      <a:pt x="2269" y="757"/>
                    </a:lnTo>
                    <a:lnTo>
                      <a:pt x="2203" y="766"/>
                    </a:lnTo>
                    <a:lnTo>
                      <a:pt x="2134" y="775"/>
                    </a:lnTo>
                    <a:lnTo>
                      <a:pt x="2065" y="782"/>
                    </a:lnTo>
                    <a:lnTo>
                      <a:pt x="1994" y="788"/>
                    </a:lnTo>
                    <a:lnTo>
                      <a:pt x="1920" y="794"/>
                    </a:lnTo>
                    <a:lnTo>
                      <a:pt x="1847" y="798"/>
                    </a:lnTo>
                    <a:lnTo>
                      <a:pt x="1771" y="802"/>
                    </a:lnTo>
                    <a:lnTo>
                      <a:pt x="1694" y="805"/>
                    </a:lnTo>
                    <a:lnTo>
                      <a:pt x="1615" y="807"/>
                    </a:lnTo>
                    <a:lnTo>
                      <a:pt x="1536" y="808"/>
                    </a:lnTo>
                    <a:lnTo>
                      <a:pt x="1458" y="807"/>
                    </a:lnTo>
                    <a:lnTo>
                      <a:pt x="1379" y="805"/>
                    </a:lnTo>
                    <a:lnTo>
                      <a:pt x="1302" y="802"/>
                    </a:lnTo>
                    <a:lnTo>
                      <a:pt x="1226" y="798"/>
                    </a:lnTo>
                    <a:lnTo>
                      <a:pt x="1153" y="794"/>
                    </a:lnTo>
                    <a:lnTo>
                      <a:pt x="1080" y="788"/>
                    </a:lnTo>
                    <a:lnTo>
                      <a:pt x="1008" y="782"/>
                    </a:lnTo>
                    <a:lnTo>
                      <a:pt x="939" y="775"/>
                    </a:lnTo>
                    <a:lnTo>
                      <a:pt x="870" y="766"/>
                    </a:lnTo>
                    <a:lnTo>
                      <a:pt x="804" y="757"/>
                    </a:lnTo>
                    <a:lnTo>
                      <a:pt x="740" y="748"/>
                    </a:lnTo>
                    <a:lnTo>
                      <a:pt x="677" y="737"/>
                    </a:lnTo>
                    <a:lnTo>
                      <a:pt x="617" y="725"/>
                    </a:lnTo>
                    <a:lnTo>
                      <a:pt x="559" y="713"/>
                    </a:lnTo>
                    <a:lnTo>
                      <a:pt x="503" y="701"/>
                    </a:lnTo>
                    <a:lnTo>
                      <a:pt x="450" y="686"/>
                    </a:lnTo>
                    <a:lnTo>
                      <a:pt x="399" y="672"/>
                    </a:lnTo>
                    <a:lnTo>
                      <a:pt x="351" y="657"/>
                    </a:lnTo>
                    <a:lnTo>
                      <a:pt x="305" y="642"/>
                    </a:lnTo>
                    <a:lnTo>
                      <a:pt x="262" y="625"/>
                    </a:lnTo>
                    <a:lnTo>
                      <a:pt x="223" y="609"/>
                    </a:lnTo>
                    <a:lnTo>
                      <a:pt x="185" y="591"/>
                    </a:lnTo>
                    <a:lnTo>
                      <a:pt x="152" y="573"/>
                    </a:lnTo>
                    <a:lnTo>
                      <a:pt x="121" y="555"/>
                    </a:lnTo>
                    <a:lnTo>
                      <a:pt x="93" y="536"/>
                    </a:lnTo>
                    <a:lnTo>
                      <a:pt x="69" y="518"/>
                    </a:lnTo>
                    <a:lnTo>
                      <a:pt x="48" y="498"/>
                    </a:lnTo>
                    <a:lnTo>
                      <a:pt x="31" y="477"/>
                    </a:lnTo>
                    <a:lnTo>
                      <a:pt x="18" y="457"/>
                    </a:lnTo>
                    <a:lnTo>
                      <a:pt x="7" y="437"/>
                    </a:lnTo>
                    <a:lnTo>
                      <a:pt x="2" y="416"/>
                    </a:lnTo>
                    <a:lnTo>
                      <a:pt x="0" y="395"/>
                    </a:lnTo>
                    <a:lnTo>
                      <a:pt x="2" y="373"/>
                    </a:lnTo>
                    <a:lnTo>
                      <a:pt x="7" y="352"/>
                    </a:lnTo>
                    <a:lnTo>
                      <a:pt x="18" y="332"/>
                    </a:lnTo>
                    <a:lnTo>
                      <a:pt x="31" y="312"/>
                    </a:lnTo>
                    <a:lnTo>
                      <a:pt x="48" y="293"/>
                    </a:lnTo>
                    <a:lnTo>
                      <a:pt x="69" y="274"/>
                    </a:lnTo>
                    <a:lnTo>
                      <a:pt x="93" y="255"/>
                    </a:lnTo>
                    <a:lnTo>
                      <a:pt x="121" y="237"/>
                    </a:lnTo>
                    <a:lnTo>
                      <a:pt x="152" y="219"/>
                    </a:lnTo>
                    <a:lnTo>
                      <a:pt x="185" y="202"/>
                    </a:lnTo>
                    <a:lnTo>
                      <a:pt x="223" y="186"/>
                    </a:lnTo>
                    <a:lnTo>
                      <a:pt x="262" y="170"/>
                    </a:lnTo>
                    <a:lnTo>
                      <a:pt x="305" y="154"/>
                    </a:lnTo>
                    <a:lnTo>
                      <a:pt x="351" y="139"/>
                    </a:lnTo>
                    <a:lnTo>
                      <a:pt x="399" y="125"/>
                    </a:lnTo>
                    <a:lnTo>
                      <a:pt x="450" y="112"/>
                    </a:lnTo>
                    <a:lnTo>
                      <a:pt x="503" y="99"/>
                    </a:lnTo>
                    <a:lnTo>
                      <a:pt x="559" y="87"/>
                    </a:lnTo>
                    <a:lnTo>
                      <a:pt x="617" y="76"/>
                    </a:lnTo>
                    <a:lnTo>
                      <a:pt x="677" y="65"/>
                    </a:lnTo>
                    <a:lnTo>
                      <a:pt x="740" y="54"/>
                    </a:lnTo>
                    <a:lnTo>
                      <a:pt x="804" y="45"/>
                    </a:lnTo>
                    <a:lnTo>
                      <a:pt x="870" y="37"/>
                    </a:lnTo>
                    <a:lnTo>
                      <a:pt x="939" y="29"/>
                    </a:lnTo>
                    <a:lnTo>
                      <a:pt x="1008" y="22"/>
                    </a:lnTo>
                    <a:lnTo>
                      <a:pt x="1080" y="16"/>
                    </a:lnTo>
                    <a:lnTo>
                      <a:pt x="1153" y="11"/>
                    </a:lnTo>
                    <a:lnTo>
                      <a:pt x="1226" y="7"/>
                    </a:lnTo>
                    <a:lnTo>
                      <a:pt x="1302" y="4"/>
                    </a:lnTo>
                    <a:lnTo>
                      <a:pt x="1379" y="2"/>
                    </a:lnTo>
                    <a:lnTo>
                      <a:pt x="1458" y="0"/>
                    </a:lnTo>
                    <a:lnTo>
                      <a:pt x="1536" y="0"/>
                    </a:lnTo>
                    <a:lnTo>
                      <a:pt x="1615" y="0"/>
                    </a:lnTo>
                    <a:lnTo>
                      <a:pt x="1694" y="2"/>
                    </a:lnTo>
                    <a:lnTo>
                      <a:pt x="1771" y="4"/>
                    </a:lnTo>
                    <a:lnTo>
                      <a:pt x="1847" y="7"/>
                    </a:lnTo>
                    <a:lnTo>
                      <a:pt x="1920" y="11"/>
                    </a:lnTo>
                    <a:lnTo>
                      <a:pt x="1994" y="16"/>
                    </a:lnTo>
                    <a:lnTo>
                      <a:pt x="2065" y="22"/>
                    </a:lnTo>
                    <a:lnTo>
                      <a:pt x="2134" y="29"/>
                    </a:lnTo>
                    <a:lnTo>
                      <a:pt x="2203" y="37"/>
                    </a:lnTo>
                    <a:lnTo>
                      <a:pt x="2269" y="45"/>
                    </a:lnTo>
                    <a:lnTo>
                      <a:pt x="2333" y="54"/>
                    </a:lnTo>
                    <a:lnTo>
                      <a:pt x="2396" y="65"/>
                    </a:lnTo>
                    <a:lnTo>
                      <a:pt x="2456" y="76"/>
                    </a:lnTo>
                    <a:lnTo>
                      <a:pt x="2514" y="87"/>
                    </a:lnTo>
                    <a:lnTo>
                      <a:pt x="2570" y="99"/>
                    </a:lnTo>
                    <a:lnTo>
                      <a:pt x="2623" y="112"/>
                    </a:lnTo>
                    <a:lnTo>
                      <a:pt x="2674" y="125"/>
                    </a:lnTo>
                    <a:lnTo>
                      <a:pt x="2722" y="139"/>
                    </a:lnTo>
                    <a:lnTo>
                      <a:pt x="2768" y="154"/>
                    </a:lnTo>
                    <a:lnTo>
                      <a:pt x="2811" y="170"/>
                    </a:lnTo>
                    <a:lnTo>
                      <a:pt x="2850" y="186"/>
                    </a:lnTo>
                    <a:lnTo>
                      <a:pt x="2888" y="202"/>
                    </a:lnTo>
                    <a:lnTo>
                      <a:pt x="2922" y="219"/>
                    </a:lnTo>
                    <a:lnTo>
                      <a:pt x="2952" y="237"/>
                    </a:lnTo>
                    <a:lnTo>
                      <a:pt x="2980" y="255"/>
                    </a:lnTo>
                    <a:lnTo>
                      <a:pt x="3004" y="274"/>
                    </a:lnTo>
                    <a:lnTo>
                      <a:pt x="3025" y="293"/>
                    </a:lnTo>
                    <a:lnTo>
                      <a:pt x="3042" y="312"/>
                    </a:lnTo>
                    <a:lnTo>
                      <a:pt x="3055" y="332"/>
                    </a:lnTo>
                    <a:lnTo>
                      <a:pt x="3066" y="352"/>
                    </a:lnTo>
                    <a:lnTo>
                      <a:pt x="3072" y="373"/>
                    </a:lnTo>
                    <a:lnTo>
                      <a:pt x="3074" y="3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978200" y="6510240"/>
                <a:ext cx="339480" cy="96840"/>
              </a:xfrm>
              <a:custGeom>
                <a:avLst/>
                <a:gdLst/>
                <a:ahLst/>
                <a:rect l="l" t="t" r="r" b="b"/>
                <a:pathLst>
                  <a:path w="3071" h="806">
                    <a:moveTo>
                      <a:pt x="3071" y="394"/>
                    </a:moveTo>
                    <a:lnTo>
                      <a:pt x="3069" y="415"/>
                    </a:lnTo>
                    <a:lnTo>
                      <a:pt x="3062" y="436"/>
                    </a:lnTo>
                    <a:lnTo>
                      <a:pt x="3053" y="456"/>
                    </a:lnTo>
                    <a:lnTo>
                      <a:pt x="3039" y="476"/>
                    </a:lnTo>
                    <a:lnTo>
                      <a:pt x="3022" y="497"/>
                    </a:lnTo>
                    <a:lnTo>
                      <a:pt x="3002" y="516"/>
                    </a:lnTo>
                    <a:lnTo>
                      <a:pt x="2978" y="535"/>
                    </a:lnTo>
                    <a:lnTo>
                      <a:pt x="2950" y="554"/>
                    </a:lnTo>
                    <a:lnTo>
                      <a:pt x="2919" y="572"/>
                    </a:lnTo>
                    <a:lnTo>
                      <a:pt x="2886" y="589"/>
                    </a:lnTo>
                    <a:lnTo>
                      <a:pt x="2848" y="607"/>
                    </a:lnTo>
                    <a:lnTo>
                      <a:pt x="2809" y="624"/>
                    </a:lnTo>
                    <a:lnTo>
                      <a:pt x="2766" y="640"/>
                    </a:lnTo>
                    <a:lnTo>
                      <a:pt x="2720" y="655"/>
                    </a:lnTo>
                    <a:lnTo>
                      <a:pt x="2672" y="670"/>
                    </a:lnTo>
                    <a:lnTo>
                      <a:pt x="2621" y="684"/>
                    </a:lnTo>
                    <a:lnTo>
                      <a:pt x="2568" y="699"/>
                    </a:lnTo>
                    <a:lnTo>
                      <a:pt x="2512" y="712"/>
                    </a:lnTo>
                    <a:lnTo>
                      <a:pt x="2455" y="724"/>
                    </a:lnTo>
                    <a:lnTo>
                      <a:pt x="2394" y="735"/>
                    </a:lnTo>
                    <a:lnTo>
                      <a:pt x="2331" y="746"/>
                    </a:lnTo>
                    <a:lnTo>
                      <a:pt x="2268" y="756"/>
                    </a:lnTo>
                    <a:lnTo>
                      <a:pt x="2201" y="765"/>
                    </a:lnTo>
                    <a:lnTo>
                      <a:pt x="2133" y="773"/>
                    </a:lnTo>
                    <a:lnTo>
                      <a:pt x="2064" y="780"/>
                    </a:lnTo>
                    <a:lnTo>
                      <a:pt x="1992" y="786"/>
                    </a:lnTo>
                    <a:lnTo>
                      <a:pt x="1919" y="792"/>
                    </a:lnTo>
                    <a:lnTo>
                      <a:pt x="1845" y="796"/>
                    </a:lnTo>
                    <a:lnTo>
                      <a:pt x="1770" y="800"/>
                    </a:lnTo>
                    <a:lnTo>
                      <a:pt x="1692" y="803"/>
                    </a:lnTo>
                    <a:lnTo>
                      <a:pt x="1614" y="804"/>
                    </a:lnTo>
                    <a:lnTo>
                      <a:pt x="1535" y="806"/>
                    </a:lnTo>
                    <a:lnTo>
                      <a:pt x="1457" y="804"/>
                    </a:lnTo>
                    <a:lnTo>
                      <a:pt x="1379" y="803"/>
                    </a:lnTo>
                    <a:lnTo>
                      <a:pt x="1302" y="800"/>
                    </a:lnTo>
                    <a:lnTo>
                      <a:pt x="1226" y="796"/>
                    </a:lnTo>
                    <a:lnTo>
                      <a:pt x="1152" y="792"/>
                    </a:lnTo>
                    <a:lnTo>
                      <a:pt x="1079" y="786"/>
                    </a:lnTo>
                    <a:lnTo>
                      <a:pt x="1007" y="780"/>
                    </a:lnTo>
                    <a:lnTo>
                      <a:pt x="938" y="773"/>
                    </a:lnTo>
                    <a:lnTo>
                      <a:pt x="870" y="765"/>
                    </a:lnTo>
                    <a:lnTo>
                      <a:pt x="803" y="756"/>
                    </a:lnTo>
                    <a:lnTo>
                      <a:pt x="740" y="746"/>
                    </a:lnTo>
                    <a:lnTo>
                      <a:pt x="677" y="735"/>
                    </a:lnTo>
                    <a:lnTo>
                      <a:pt x="617" y="724"/>
                    </a:lnTo>
                    <a:lnTo>
                      <a:pt x="559" y="712"/>
                    </a:lnTo>
                    <a:lnTo>
                      <a:pt x="503" y="699"/>
                    </a:lnTo>
                    <a:lnTo>
                      <a:pt x="450" y="684"/>
                    </a:lnTo>
                    <a:lnTo>
                      <a:pt x="399" y="670"/>
                    </a:lnTo>
                    <a:lnTo>
                      <a:pt x="351" y="655"/>
                    </a:lnTo>
                    <a:lnTo>
                      <a:pt x="305" y="640"/>
                    </a:lnTo>
                    <a:lnTo>
                      <a:pt x="263" y="624"/>
                    </a:lnTo>
                    <a:lnTo>
                      <a:pt x="223" y="607"/>
                    </a:lnTo>
                    <a:lnTo>
                      <a:pt x="185" y="589"/>
                    </a:lnTo>
                    <a:lnTo>
                      <a:pt x="152" y="572"/>
                    </a:lnTo>
                    <a:lnTo>
                      <a:pt x="121" y="554"/>
                    </a:lnTo>
                    <a:lnTo>
                      <a:pt x="93" y="535"/>
                    </a:lnTo>
                    <a:lnTo>
                      <a:pt x="69" y="516"/>
                    </a:lnTo>
                    <a:lnTo>
                      <a:pt x="49" y="497"/>
                    </a:lnTo>
                    <a:lnTo>
                      <a:pt x="32" y="476"/>
                    </a:lnTo>
                    <a:lnTo>
                      <a:pt x="19" y="456"/>
                    </a:lnTo>
                    <a:lnTo>
                      <a:pt x="8" y="436"/>
                    </a:lnTo>
                    <a:lnTo>
                      <a:pt x="2" y="415"/>
                    </a:lnTo>
                    <a:lnTo>
                      <a:pt x="0" y="394"/>
                    </a:lnTo>
                    <a:lnTo>
                      <a:pt x="2" y="372"/>
                    </a:lnTo>
                    <a:lnTo>
                      <a:pt x="8" y="351"/>
                    </a:lnTo>
                    <a:lnTo>
                      <a:pt x="19" y="331"/>
                    </a:lnTo>
                    <a:lnTo>
                      <a:pt x="32" y="312"/>
                    </a:lnTo>
                    <a:lnTo>
                      <a:pt x="49" y="292"/>
                    </a:lnTo>
                    <a:lnTo>
                      <a:pt x="69" y="273"/>
                    </a:lnTo>
                    <a:lnTo>
                      <a:pt x="93" y="254"/>
                    </a:lnTo>
                    <a:lnTo>
                      <a:pt x="121" y="236"/>
                    </a:lnTo>
                    <a:lnTo>
                      <a:pt x="152" y="219"/>
                    </a:lnTo>
                    <a:lnTo>
                      <a:pt x="185" y="202"/>
                    </a:lnTo>
                    <a:lnTo>
                      <a:pt x="223" y="185"/>
                    </a:lnTo>
                    <a:lnTo>
                      <a:pt x="263" y="169"/>
                    </a:lnTo>
                    <a:lnTo>
                      <a:pt x="305" y="153"/>
                    </a:lnTo>
                    <a:lnTo>
                      <a:pt x="351" y="139"/>
                    </a:lnTo>
                    <a:lnTo>
                      <a:pt x="399" y="125"/>
                    </a:lnTo>
                    <a:lnTo>
                      <a:pt x="450" y="111"/>
                    </a:lnTo>
                    <a:lnTo>
                      <a:pt x="503" y="99"/>
                    </a:lnTo>
                    <a:lnTo>
                      <a:pt x="559" y="87"/>
                    </a:lnTo>
                    <a:lnTo>
                      <a:pt x="617" y="75"/>
                    </a:lnTo>
                    <a:lnTo>
                      <a:pt x="677" y="65"/>
                    </a:lnTo>
                    <a:lnTo>
                      <a:pt x="740" y="54"/>
                    </a:lnTo>
                    <a:lnTo>
                      <a:pt x="803" y="45"/>
                    </a:lnTo>
                    <a:lnTo>
                      <a:pt x="870" y="36"/>
                    </a:lnTo>
                    <a:lnTo>
                      <a:pt x="938" y="29"/>
                    </a:lnTo>
                    <a:lnTo>
                      <a:pt x="1007" y="22"/>
                    </a:lnTo>
                    <a:lnTo>
                      <a:pt x="1079" y="16"/>
                    </a:lnTo>
                    <a:lnTo>
                      <a:pt x="1152" y="11"/>
                    </a:lnTo>
                    <a:lnTo>
                      <a:pt x="1226" y="7"/>
                    </a:lnTo>
                    <a:lnTo>
                      <a:pt x="1302" y="4"/>
                    </a:lnTo>
                    <a:lnTo>
                      <a:pt x="1379" y="2"/>
                    </a:lnTo>
                    <a:lnTo>
                      <a:pt x="1457" y="0"/>
                    </a:lnTo>
                    <a:lnTo>
                      <a:pt x="1535" y="0"/>
                    </a:lnTo>
                    <a:lnTo>
                      <a:pt x="1614" y="0"/>
                    </a:lnTo>
                    <a:lnTo>
                      <a:pt x="1692" y="2"/>
                    </a:lnTo>
                    <a:lnTo>
                      <a:pt x="1770" y="4"/>
                    </a:lnTo>
                    <a:lnTo>
                      <a:pt x="1845" y="7"/>
                    </a:lnTo>
                    <a:lnTo>
                      <a:pt x="1919" y="11"/>
                    </a:lnTo>
                    <a:lnTo>
                      <a:pt x="1992" y="16"/>
                    </a:lnTo>
                    <a:lnTo>
                      <a:pt x="2064" y="22"/>
                    </a:lnTo>
                    <a:lnTo>
                      <a:pt x="2133" y="29"/>
                    </a:lnTo>
                    <a:lnTo>
                      <a:pt x="2201" y="36"/>
                    </a:lnTo>
                    <a:lnTo>
                      <a:pt x="2268" y="45"/>
                    </a:lnTo>
                    <a:lnTo>
                      <a:pt x="2331" y="54"/>
                    </a:lnTo>
                    <a:lnTo>
                      <a:pt x="2394" y="65"/>
                    </a:lnTo>
                    <a:lnTo>
                      <a:pt x="2455" y="75"/>
                    </a:lnTo>
                    <a:lnTo>
                      <a:pt x="2512" y="87"/>
                    </a:lnTo>
                    <a:lnTo>
                      <a:pt x="2568" y="99"/>
                    </a:lnTo>
                    <a:lnTo>
                      <a:pt x="2621" y="111"/>
                    </a:lnTo>
                    <a:lnTo>
                      <a:pt x="2672" y="125"/>
                    </a:lnTo>
                    <a:lnTo>
                      <a:pt x="2720" y="139"/>
                    </a:lnTo>
                    <a:lnTo>
                      <a:pt x="2766" y="153"/>
                    </a:lnTo>
                    <a:lnTo>
                      <a:pt x="2809" y="169"/>
                    </a:lnTo>
                    <a:lnTo>
                      <a:pt x="2848" y="185"/>
                    </a:lnTo>
                    <a:lnTo>
                      <a:pt x="2886" y="202"/>
                    </a:lnTo>
                    <a:lnTo>
                      <a:pt x="2919" y="219"/>
                    </a:lnTo>
                    <a:lnTo>
                      <a:pt x="2950" y="236"/>
                    </a:lnTo>
                    <a:lnTo>
                      <a:pt x="2978" y="254"/>
                    </a:lnTo>
                    <a:lnTo>
                      <a:pt x="3002" y="273"/>
                    </a:lnTo>
                    <a:lnTo>
                      <a:pt x="3022" y="292"/>
                    </a:lnTo>
                    <a:lnTo>
                      <a:pt x="3039" y="312"/>
                    </a:lnTo>
                    <a:lnTo>
                      <a:pt x="3053" y="331"/>
                    </a:lnTo>
                    <a:lnTo>
                      <a:pt x="3062" y="351"/>
                    </a:lnTo>
                    <a:lnTo>
                      <a:pt x="3069" y="372"/>
                    </a:lnTo>
                    <a:lnTo>
                      <a:pt x="3071" y="3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978200" y="6510240"/>
                <a:ext cx="338040" cy="95760"/>
              </a:xfrm>
              <a:custGeom>
                <a:avLst/>
                <a:gdLst/>
                <a:ahLst/>
                <a:rect l="l" t="t" r="r" b="b"/>
                <a:pathLst>
                  <a:path w="3069" h="803">
                    <a:moveTo>
                      <a:pt x="3069" y="393"/>
                    </a:moveTo>
                    <a:lnTo>
                      <a:pt x="3067" y="414"/>
                    </a:lnTo>
                    <a:lnTo>
                      <a:pt x="3060" y="435"/>
                    </a:lnTo>
                    <a:lnTo>
                      <a:pt x="3050" y="455"/>
                    </a:lnTo>
                    <a:lnTo>
                      <a:pt x="3037" y="475"/>
                    </a:lnTo>
                    <a:lnTo>
                      <a:pt x="3020" y="496"/>
                    </a:lnTo>
                    <a:lnTo>
                      <a:pt x="2999" y="515"/>
                    </a:lnTo>
                    <a:lnTo>
                      <a:pt x="2976" y="534"/>
                    </a:lnTo>
                    <a:lnTo>
                      <a:pt x="2947" y="552"/>
                    </a:lnTo>
                    <a:lnTo>
                      <a:pt x="2917" y="570"/>
                    </a:lnTo>
                    <a:lnTo>
                      <a:pt x="2883" y="588"/>
                    </a:lnTo>
                    <a:lnTo>
                      <a:pt x="2846" y="606"/>
                    </a:lnTo>
                    <a:lnTo>
                      <a:pt x="2806" y="622"/>
                    </a:lnTo>
                    <a:lnTo>
                      <a:pt x="2764" y="638"/>
                    </a:lnTo>
                    <a:lnTo>
                      <a:pt x="2718" y="654"/>
                    </a:lnTo>
                    <a:lnTo>
                      <a:pt x="2670" y="669"/>
                    </a:lnTo>
                    <a:lnTo>
                      <a:pt x="2619" y="683"/>
                    </a:lnTo>
                    <a:lnTo>
                      <a:pt x="2566" y="696"/>
                    </a:lnTo>
                    <a:lnTo>
                      <a:pt x="2510" y="710"/>
                    </a:lnTo>
                    <a:lnTo>
                      <a:pt x="2452" y="722"/>
                    </a:lnTo>
                    <a:lnTo>
                      <a:pt x="2392" y="733"/>
                    </a:lnTo>
                    <a:lnTo>
                      <a:pt x="2330" y="744"/>
                    </a:lnTo>
                    <a:lnTo>
                      <a:pt x="2266" y="754"/>
                    </a:lnTo>
                    <a:lnTo>
                      <a:pt x="2199" y="763"/>
                    </a:lnTo>
                    <a:lnTo>
                      <a:pt x="2131" y="771"/>
                    </a:lnTo>
                    <a:lnTo>
                      <a:pt x="2062" y="778"/>
                    </a:lnTo>
                    <a:lnTo>
                      <a:pt x="1991" y="785"/>
                    </a:lnTo>
                    <a:lnTo>
                      <a:pt x="1918" y="790"/>
                    </a:lnTo>
                    <a:lnTo>
                      <a:pt x="1844" y="795"/>
                    </a:lnTo>
                    <a:lnTo>
                      <a:pt x="1768" y="798"/>
                    </a:lnTo>
                    <a:lnTo>
                      <a:pt x="1691" y="801"/>
                    </a:lnTo>
                    <a:lnTo>
                      <a:pt x="1613" y="802"/>
                    </a:lnTo>
                    <a:lnTo>
                      <a:pt x="1534" y="803"/>
                    </a:lnTo>
                    <a:lnTo>
                      <a:pt x="1456" y="802"/>
                    </a:lnTo>
                    <a:lnTo>
                      <a:pt x="1378" y="801"/>
                    </a:lnTo>
                    <a:lnTo>
                      <a:pt x="1301" y="798"/>
                    </a:lnTo>
                    <a:lnTo>
                      <a:pt x="1225" y="795"/>
                    </a:lnTo>
                    <a:lnTo>
                      <a:pt x="1152" y="790"/>
                    </a:lnTo>
                    <a:lnTo>
                      <a:pt x="1078" y="785"/>
                    </a:lnTo>
                    <a:lnTo>
                      <a:pt x="1007" y="778"/>
                    </a:lnTo>
                    <a:lnTo>
                      <a:pt x="938" y="771"/>
                    </a:lnTo>
                    <a:lnTo>
                      <a:pt x="870" y="763"/>
                    </a:lnTo>
                    <a:lnTo>
                      <a:pt x="803" y="754"/>
                    </a:lnTo>
                    <a:lnTo>
                      <a:pt x="740" y="744"/>
                    </a:lnTo>
                    <a:lnTo>
                      <a:pt x="677" y="733"/>
                    </a:lnTo>
                    <a:lnTo>
                      <a:pt x="616" y="722"/>
                    </a:lnTo>
                    <a:lnTo>
                      <a:pt x="559" y="710"/>
                    </a:lnTo>
                    <a:lnTo>
                      <a:pt x="503" y="696"/>
                    </a:lnTo>
                    <a:lnTo>
                      <a:pt x="450" y="683"/>
                    </a:lnTo>
                    <a:lnTo>
                      <a:pt x="399" y="669"/>
                    </a:lnTo>
                    <a:lnTo>
                      <a:pt x="351" y="654"/>
                    </a:lnTo>
                    <a:lnTo>
                      <a:pt x="305" y="638"/>
                    </a:lnTo>
                    <a:lnTo>
                      <a:pt x="263" y="622"/>
                    </a:lnTo>
                    <a:lnTo>
                      <a:pt x="223" y="606"/>
                    </a:lnTo>
                    <a:lnTo>
                      <a:pt x="186" y="588"/>
                    </a:lnTo>
                    <a:lnTo>
                      <a:pt x="152" y="570"/>
                    </a:lnTo>
                    <a:lnTo>
                      <a:pt x="122" y="552"/>
                    </a:lnTo>
                    <a:lnTo>
                      <a:pt x="94" y="534"/>
                    </a:lnTo>
                    <a:lnTo>
                      <a:pt x="70" y="515"/>
                    </a:lnTo>
                    <a:lnTo>
                      <a:pt x="49" y="496"/>
                    </a:lnTo>
                    <a:lnTo>
                      <a:pt x="32" y="475"/>
                    </a:lnTo>
                    <a:lnTo>
                      <a:pt x="19" y="455"/>
                    </a:lnTo>
                    <a:lnTo>
                      <a:pt x="8" y="435"/>
                    </a:lnTo>
                    <a:lnTo>
                      <a:pt x="2" y="414"/>
                    </a:lnTo>
                    <a:lnTo>
                      <a:pt x="0" y="393"/>
                    </a:lnTo>
                    <a:lnTo>
                      <a:pt x="2" y="371"/>
                    </a:lnTo>
                    <a:lnTo>
                      <a:pt x="8" y="351"/>
                    </a:lnTo>
                    <a:lnTo>
                      <a:pt x="19" y="330"/>
                    </a:lnTo>
                    <a:lnTo>
                      <a:pt x="32" y="311"/>
                    </a:lnTo>
                    <a:lnTo>
                      <a:pt x="49" y="291"/>
                    </a:lnTo>
                    <a:lnTo>
                      <a:pt x="70" y="273"/>
                    </a:lnTo>
                    <a:lnTo>
                      <a:pt x="94" y="253"/>
                    </a:lnTo>
                    <a:lnTo>
                      <a:pt x="122" y="235"/>
                    </a:lnTo>
                    <a:lnTo>
                      <a:pt x="152" y="218"/>
                    </a:lnTo>
                    <a:lnTo>
                      <a:pt x="186" y="201"/>
                    </a:lnTo>
                    <a:lnTo>
                      <a:pt x="223" y="185"/>
                    </a:lnTo>
                    <a:lnTo>
                      <a:pt x="263" y="169"/>
                    </a:lnTo>
                    <a:lnTo>
                      <a:pt x="305" y="153"/>
                    </a:lnTo>
                    <a:lnTo>
                      <a:pt x="351" y="138"/>
                    </a:lnTo>
                    <a:lnTo>
                      <a:pt x="399" y="124"/>
                    </a:lnTo>
                    <a:lnTo>
                      <a:pt x="450" y="111"/>
                    </a:lnTo>
                    <a:lnTo>
                      <a:pt x="503" y="98"/>
                    </a:lnTo>
                    <a:lnTo>
                      <a:pt x="559" y="86"/>
                    </a:lnTo>
                    <a:lnTo>
                      <a:pt x="616" y="75"/>
                    </a:lnTo>
                    <a:lnTo>
                      <a:pt x="677" y="64"/>
                    </a:lnTo>
                    <a:lnTo>
                      <a:pt x="740" y="54"/>
                    </a:lnTo>
                    <a:lnTo>
                      <a:pt x="803" y="45"/>
                    </a:lnTo>
                    <a:lnTo>
                      <a:pt x="870" y="36"/>
                    </a:lnTo>
                    <a:lnTo>
                      <a:pt x="938" y="29"/>
                    </a:lnTo>
                    <a:lnTo>
                      <a:pt x="1007" y="22"/>
                    </a:lnTo>
                    <a:lnTo>
                      <a:pt x="1078" y="16"/>
                    </a:lnTo>
                    <a:lnTo>
                      <a:pt x="1152" y="11"/>
                    </a:lnTo>
                    <a:lnTo>
                      <a:pt x="1225" y="7"/>
                    </a:lnTo>
                    <a:lnTo>
                      <a:pt x="1301" y="4"/>
                    </a:lnTo>
                    <a:lnTo>
                      <a:pt x="1378" y="1"/>
                    </a:lnTo>
                    <a:lnTo>
                      <a:pt x="1456" y="0"/>
                    </a:lnTo>
                    <a:lnTo>
                      <a:pt x="1534" y="0"/>
                    </a:lnTo>
                    <a:lnTo>
                      <a:pt x="1613" y="0"/>
                    </a:lnTo>
                    <a:lnTo>
                      <a:pt x="1691" y="1"/>
                    </a:lnTo>
                    <a:lnTo>
                      <a:pt x="1768" y="4"/>
                    </a:lnTo>
                    <a:lnTo>
                      <a:pt x="1844" y="7"/>
                    </a:lnTo>
                    <a:lnTo>
                      <a:pt x="1918" y="11"/>
                    </a:lnTo>
                    <a:lnTo>
                      <a:pt x="1991" y="16"/>
                    </a:lnTo>
                    <a:lnTo>
                      <a:pt x="2062" y="22"/>
                    </a:lnTo>
                    <a:lnTo>
                      <a:pt x="2131" y="29"/>
                    </a:lnTo>
                    <a:lnTo>
                      <a:pt x="2199" y="36"/>
                    </a:lnTo>
                    <a:lnTo>
                      <a:pt x="2266" y="45"/>
                    </a:lnTo>
                    <a:lnTo>
                      <a:pt x="2330" y="54"/>
                    </a:lnTo>
                    <a:lnTo>
                      <a:pt x="2392" y="64"/>
                    </a:lnTo>
                    <a:lnTo>
                      <a:pt x="2452" y="75"/>
                    </a:lnTo>
                    <a:lnTo>
                      <a:pt x="2510" y="86"/>
                    </a:lnTo>
                    <a:lnTo>
                      <a:pt x="2566" y="98"/>
                    </a:lnTo>
                    <a:lnTo>
                      <a:pt x="2619" y="111"/>
                    </a:lnTo>
                    <a:lnTo>
                      <a:pt x="2670" y="124"/>
                    </a:lnTo>
                    <a:lnTo>
                      <a:pt x="2718" y="138"/>
                    </a:lnTo>
                    <a:lnTo>
                      <a:pt x="2764" y="153"/>
                    </a:lnTo>
                    <a:lnTo>
                      <a:pt x="2806" y="169"/>
                    </a:lnTo>
                    <a:lnTo>
                      <a:pt x="2846" y="185"/>
                    </a:lnTo>
                    <a:lnTo>
                      <a:pt x="2883" y="201"/>
                    </a:lnTo>
                    <a:lnTo>
                      <a:pt x="2917" y="218"/>
                    </a:lnTo>
                    <a:lnTo>
                      <a:pt x="2947" y="235"/>
                    </a:lnTo>
                    <a:lnTo>
                      <a:pt x="2976" y="253"/>
                    </a:lnTo>
                    <a:lnTo>
                      <a:pt x="2999" y="273"/>
                    </a:lnTo>
                    <a:lnTo>
                      <a:pt x="3020" y="291"/>
                    </a:lnTo>
                    <a:lnTo>
                      <a:pt x="3037" y="311"/>
                    </a:lnTo>
                    <a:lnTo>
                      <a:pt x="3050" y="330"/>
                    </a:lnTo>
                    <a:lnTo>
                      <a:pt x="3060" y="351"/>
                    </a:lnTo>
                    <a:lnTo>
                      <a:pt x="3067" y="371"/>
                    </a:lnTo>
                    <a:lnTo>
                      <a:pt x="3069" y="3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979640" y="6510240"/>
                <a:ext cx="336600" cy="95760"/>
              </a:xfrm>
              <a:custGeom>
                <a:avLst/>
                <a:gdLst/>
                <a:ahLst/>
                <a:rect l="l" t="t" r="r" b="b"/>
                <a:pathLst>
                  <a:path w="3065" h="802">
                    <a:moveTo>
                      <a:pt x="3065" y="393"/>
                    </a:moveTo>
                    <a:lnTo>
                      <a:pt x="3063" y="414"/>
                    </a:lnTo>
                    <a:lnTo>
                      <a:pt x="3056" y="434"/>
                    </a:lnTo>
                    <a:lnTo>
                      <a:pt x="3047" y="455"/>
                    </a:lnTo>
                    <a:lnTo>
                      <a:pt x="3033" y="475"/>
                    </a:lnTo>
                    <a:lnTo>
                      <a:pt x="3017" y="495"/>
                    </a:lnTo>
                    <a:lnTo>
                      <a:pt x="2996" y="515"/>
                    </a:lnTo>
                    <a:lnTo>
                      <a:pt x="2972" y="534"/>
                    </a:lnTo>
                    <a:lnTo>
                      <a:pt x="2944" y="552"/>
                    </a:lnTo>
                    <a:lnTo>
                      <a:pt x="2914" y="570"/>
                    </a:lnTo>
                    <a:lnTo>
                      <a:pt x="2880" y="587"/>
                    </a:lnTo>
                    <a:lnTo>
                      <a:pt x="2843" y="605"/>
                    </a:lnTo>
                    <a:lnTo>
                      <a:pt x="2803" y="622"/>
                    </a:lnTo>
                    <a:lnTo>
                      <a:pt x="2761" y="638"/>
                    </a:lnTo>
                    <a:lnTo>
                      <a:pt x="2715" y="653"/>
                    </a:lnTo>
                    <a:lnTo>
                      <a:pt x="2667" y="668"/>
                    </a:lnTo>
                    <a:lnTo>
                      <a:pt x="2616" y="682"/>
                    </a:lnTo>
                    <a:lnTo>
                      <a:pt x="2563" y="695"/>
                    </a:lnTo>
                    <a:lnTo>
                      <a:pt x="2507" y="709"/>
                    </a:lnTo>
                    <a:lnTo>
                      <a:pt x="2449" y="721"/>
                    </a:lnTo>
                    <a:lnTo>
                      <a:pt x="2389" y="733"/>
                    </a:lnTo>
                    <a:lnTo>
                      <a:pt x="2327" y="743"/>
                    </a:lnTo>
                    <a:lnTo>
                      <a:pt x="2263" y="753"/>
                    </a:lnTo>
                    <a:lnTo>
                      <a:pt x="2197" y="762"/>
                    </a:lnTo>
                    <a:lnTo>
                      <a:pt x="2129" y="770"/>
                    </a:lnTo>
                    <a:lnTo>
                      <a:pt x="2060" y="777"/>
                    </a:lnTo>
                    <a:lnTo>
                      <a:pt x="1988" y="784"/>
                    </a:lnTo>
                    <a:lnTo>
                      <a:pt x="1915" y="789"/>
                    </a:lnTo>
                    <a:lnTo>
                      <a:pt x="1842" y="794"/>
                    </a:lnTo>
                    <a:lnTo>
                      <a:pt x="1766" y="797"/>
                    </a:lnTo>
                    <a:lnTo>
                      <a:pt x="1689" y="800"/>
                    </a:lnTo>
                    <a:lnTo>
                      <a:pt x="1611" y="801"/>
                    </a:lnTo>
                    <a:lnTo>
                      <a:pt x="1532" y="802"/>
                    </a:lnTo>
                    <a:lnTo>
                      <a:pt x="1454" y="801"/>
                    </a:lnTo>
                    <a:lnTo>
                      <a:pt x="1376" y="800"/>
                    </a:lnTo>
                    <a:lnTo>
                      <a:pt x="1299" y="797"/>
                    </a:lnTo>
                    <a:lnTo>
                      <a:pt x="1223" y="794"/>
                    </a:lnTo>
                    <a:lnTo>
                      <a:pt x="1150" y="789"/>
                    </a:lnTo>
                    <a:lnTo>
                      <a:pt x="1077" y="784"/>
                    </a:lnTo>
                    <a:lnTo>
                      <a:pt x="1005" y="777"/>
                    </a:lnTo>
                    <a:lnTo>
                      <a:pt x="936" y="770"/>
                    </a:lnTo>
                    <a:lnTo>
                      <a:pt x="868" y="762"/>
                    </a:lnTo>
                    <a:lnTo>
                      <a:pt x="802" y="753"/>
                    </a:lnTo>
                    <a:lnTo>
                      <a:pt x="738" y="743"/>
                    </a:lnTo>
                    <a:lnTo>
                      <a:pt x="676" y="733"/>
                    </a:lnTo>
                    <a:lnTo>
                      <a:pt x="615" y="721"/>
                    </a:lnTo>
                    <a:lnTo>
                      <a:pt x="558" y="709"/>
                    </a:lnTo>
                    <a:lnTo>
                      <a:pt x="502" y="695"/>
                    </a:lnTo>
                    <a:lnTo>
                      <a:pt x="449" y="682"/>
                    </a:lnTo>
                    <a:lnTo>
                      <a:pt x="398" y="668"/>
                    </a:lnTo>
                    <a:lnTo>
                      <a:pt x="350" y="653"/>
                    </a:lnTo>
                    <a:lnTo>
                      <a:pt x="304" y="638"/>
                    </a:lnTo>
                    <a:lnTo>
                      <a:pt x="262" y="622"/>
                    </a:lnTo>
                    <a:lnTo>
                      <a:pt x="223" y="605"/>
                    </a:lnTo>
                    <a:lnTo>
                      <a:pt x="185" y="587"/>
                    </a:lnTo>
                    <a:lnTo>
                      <a:pt x="151" y="570"/>
                    </a:lnTo>
                    <a:lnTo>
                      <a:pt x="121" y="552"/>
                    </a:lnTo>
                    <a:lnTo>
                      <a:pt x="93" y="534"/>
                    </a:lnTo>
                    <a:lnTo>
                      <a:pt x="69" y="515"/>
                    </a:lnTo>
                    <a:lnTo>
                      <a:pt x="49" y="495"/>
                    </a:lnTo>
                    <a:lnTo>
                      <a:pt x="32" y="475"/>
                    </a:lnTo>
                    <a:lnTo>
                      <a:pt x="18" y="455"/>
                    </a:lnTo>
                    <a:lnTo>
                      <a:pt x="8" y="434"/>
                    </a:lnTo>
                    <a:lnTo>
                      <a:pt x="2" y="414"/>
                    </a:lnTo>
                    <a:lnTo>
                      <a:pt x="0" y="393"/>
                    </a:lnTo>
                    <a:lnTo>
                      <a:pt x="2" y="371"/>
                    </a:lnTo>
                    <a:lnTo>
                      <a:pt x="8" y="351"/>
                    </a:lnTo>
                    <a:lnTo>
                      <a:pt x="18" y="331"/>
                    </a:lnTo>
                    <a:lnTo>
                      <a:pt x="32" y="311"/>
                    </a:lnTo>
                    <a:lnTo>
                      <a:pt x="49" y="292"/>
                    </a:lnTo>
                    <a:lnTo>
                      <a:pt x="69" y="273"/>
                    </a:lnTo>
                    <a:lnTo>
                      <a:pt x="93" y="254"/>
                    </a:lnTo>
                    <a:lnTo>
                      <a:pt x="121" y="236"/>
                    </a:lnTo>
                    <a:lnTo>
                      <a:pt x="151" y="218"/>
                    </a:lnTo>
                    <a:lnTo>
                      <a:pt x="185" y="202"/>
                    </a:lnTo>
                    <a:lnTo>
                      <a:pt x="223" y="185"/>
                    </a:lnTo>
                    <a:lnTo>
                      <a:pt x="262" y="169"/>
                    </a:lnTo>
                    <a:lnTo>
                      <a:pt x="304" y="153"/>
                    </a:lnTo>
                    <a:lnTo>
                      <a:pt x="350" y="139"/>
                    </a:lnTo>
                    <a:lnTo>
                      <a:pt x="398" y="125"/>
                    </a:lnTo>
                    <a:lnTo>
                      <a:pt x="449" y="112"/>
                    </a:lnTo>
                    <a:lnTo>
                      <a:pt x="502" y="99"/>
                    </a:lnTo>
                    <a:lnTo>
                      <a:pt x="558" y="87"/>
                    </a:lnTo>
                    <a:lnTo>
                      <a:pt x="615" y="76"/>
                    </a:lnTo>
                    <a:lnTo>
                      <a:pt x="676" y="65"/>
                    </a:lnTo>
                    <a:lnTo>
                      <a:pt x="738" y="54"/>
                    </a:lnTo>
                    <a:lnTo>
                      <a:pt x="802" y="45"/>
                    </a:lnTo>
                    <a:lnTo>
                      <a:pt x="868" y="37"/>
                    </a:lnTo>
                    <a:lnTo>
                      <a:pt x="936" y="30"/>
                    </a:lnTo>
                    <a:lnTo>
                      <a:pt x="1005" y="23"/>
                    </a:lnTo>
                    <a:lnTo>
                      <a:pt x="1077" y="17"/>
                    </a:lnTo>
                    <a:lnTo>
                      <a:pt x="1150" y="12"/>
                    </a:lnTo>
                    <a:lnTo>
                      <a:pt x="1223" y="8"/>
                    </a:lnTo>
                    <a:lnTo>
                      <a:pt x="1299" y="5"/>
                    </a:lnTo>
                    <a:lnTo>
                      <a:pt x="1376" y="2"/>
                    </a:lnTo>
                    <a:lnTo>
                      <a:pt x="1454" y="1"/>
                    </a:lnTo>
                    <a:lnTo>
                      <a:pt x="1532" y="0"/>
                    </a:lnTo>
                    <a:lnTo>
                      <a:pt x="1611" y="1"/>
                    </a:lnTo>
                    <a:lnTo>
                      <a:pt x="1689" y="2"/>
                    </a:lnTo>
                    <a:lnTo>
                      <a:pt x="1766" y="5"/>
                    </a:lnTo>
                    <a:lnTo>
                      <a:pt x="1842" y="8"/>
                    </a:lnTo>
                    <a:lnTo>
                      <a:pt x="1915" y="12"/>
                    </a:lnTo>
                    <a:lnTo>
                      <a:pt x="1988" y="17"/>
                    </a:lnTo>
                    <a:lnTo>
                      <a:pt x="2060" y="23"/>
                    </a:lnTo>
                    <a:lnTo>
                      <a:pt x="2129" y="30"/>
                    </a:lnTo>
                    <a:lnTo>
                      <a:pt x="2197" y="37"/>
                    </a:lnTo>
                    <a:lnTo>
                      <a:pt x="2263" y="45"/>
                    </a:lnTo>
                    <a:lnTo>
                      <a:pt x="2327" y="54"/>
                    </a:lnTo>
                    <a:lnTo>
                      <a:pt x="2389" y="65"/>
                    </a:lnTo>
                    <a:lnTo>
                      <a:pt x="2449" y="76"/>
                    </a:lnTo>
                    <a:lnTo>
                      <a:pt x="2507" y="87"/>
                    </a:lnTo>
                    <a:lnTo>
                      <a:pt x="2563" y="99"/>
                    </a:lnTo>
                    <a:lnTo>
                      <a:pt x="2616" y="112"/>
                    </a:lnTo>
                    <a:lnTo>
                      <a:pt x="2667" y="125"/>
                    </a:lnTo>
                    <a:lnTo>
                      <a:pt x="2715" y="139"/>
                    </a:lnTo>
                    <a:lnTo>
                      <a:pt x="2761" y="153"/>
                    </a:lnTo>
                    <a:lnTo>
                      <a:pt x="2803" y="169"/>
                    </a:lnTo>
                    <a:lnTo>
                      <a:pt x="2843" y="185"/>
                    </a:lnTo>
                    <a:lnTo>
                      <a:pt x="2880" y="202"/>
                    </a:lnTo>
                    <a:lnTo>
                      <a:pt x="2914" y="218"/>
                    </a:lnTo>
                    <a:lnTo>
                      <a:pt x="2944" y="236"/>
                    </a:lnTo>
                    <a:lnTo>
                      <a:pt x="2972" y="254"/>
                    </a:lnTo>
                    <a:lnTo>
                      <a:pt x="2996" y="273"/>
                    </a:lnTo>
                    <a:lnTo>
                      <a:pt x="3017" y="292"/>
                    </a:lnTo>
                    <a:lnTo>
                      <a:pt x="3033" y="311"/>
                    </a:lnTo>
                    <a:lnTo>
                      <a:pt x="3047" y="331"/>
                    </a:lnTo>
                    <a:lnTo>
                      <a:pt x="3056" y="351"/>
                    </a:lnTo>
                    <a:lnTo>
                      <a:pt x="3063" y="371"/>
                    </a:lnTo>
                    <a:lnTo>
                      <a:pt x="3065" y="3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979640" y="6510240"/>
                <a:ext cx="336600" cy="95760"/>
              </a:xfrm>
              <a:custGeom>
                <a:avLst/>
                <a:gdLst/>
                <a:ahLst/>
                <a:rect l="l" t="t" r="r" b="b"/>
                <a:pathLst>
                  <a:path w="3063" h="800">
                    <a:moveTo>
                      <a:pt x="3063" y="392"/>
                    </a:moveTo>
                    <a:lnTo>
                      <a:pt x="3061" y="413"/>
                    </a:lnTo>
                    <a:lnTo>
                      <a:pt x="3054" y="433"/>
                    </a:lnTo>
                    <a:lnTo>
                      <a:pt x="3044" y="454"/>
                    </a:lnTo>
                    <a:lnTo>
                      <a:pt x="3031" y="474"/>
                    </a:lnTo>
                    <a:lnTo>
                      <a:pt x="3014" y="494"/>
                    </a:lnTo>
                    <a:lnTo>
                      <a:pt x="2994" y="513"/>
                    </a:lnTo>
                    <a:lnTo>
                      <a:pt x="2970" y="532"/>
                    </a:lnTo>
                    <a:lnTo>
                      <a:pt x="2942" y="551"/>
                    </a:lnTo>
                    <a:lnTo>
                      <a:pt x="2911" y="569"/>
                    </a:lnTo>
                    <a:lnTo>
                      <a:pt x="2878" y="586"/>
                    </a:lnTo>
                    <a:lnTo>
                      <a:pt x="2840" y="604"/>
                    </a:lnTo>
                    <a:lnTo>
                      <a:pt x="2801" y="620"/>
                    </a:lnTo>
                    <a:lnTo>
                      <a:pt x="2759" y="636"/>
                    </a:lnTo>
                    <a:lnTo>
                      <a:pt x="2713" y="652"/>
                    </a:lnTo>
                    <a:lnTo>
                      <a:pt x="2665" y="666"/>
                    </a:lnTo>
                    <a:lnTo>
                      <a:pt x="2614" y="680"/>
                    </a:lnTo>
                    <a:lnTo>
                      <a:pt x="2561" y="694"/>
                    </a:lnTo>
                    <a:lnTo>
                      <a:pt x="2505" y="708"/>
                    </a:lnTo>
                    <a:lnTo>
                      <a:pt x="2447" y="720"/>
                    </a:lnTo>
                    <a:lnTo>
                      <a:pt x="2388" y="731"/>
                    </a:lnTo>
                    <a:lnTo>
                      <a:pt x="2325" y="741"/>
                    </a:lnTo>
                    <a:lnTo>
                      <a:pt x="2262" y="751"/>
                    </a:lnTo>
                    <a:lnTo>
                      <a:pt x="2195" y="760"/>
                    </a:lnTo>
                    <a:lnTo>
                      <a:pt x="2127" y="768"/>
                    </a:lnTo>
                    <a:lnTo>
                      <a:pt x="2058" y="775"/>
                    </a:lnTo>
                    <a:lnTo>
                      <a:pt x="1987" y="782"/>
                    </a:lnTo>
                    <a:lnTo>
                      <a:pt x="1914" y="787"/>
                    </a:lnTo>
                    <a:lnTo>
                      <a:pt x="1841" y="792"/>
                    </a:lnTo>
                    <a:lnTo>
                      <a:pt x="1765" y="795"/>
                    </a:lnTo>
                    <a:lnTo>
                      <a:pt x="1688" y="798"/>
                    </a:lnTo>
                    <a:lnTo>
                      <a:pt x="1610" y="799"/>
                    </a:lnTo>
                    <a:lnTo>
                      <a:pt x="1531" y="800"/>
                    </a:lnTo>
                    <a:lnTo>
                      <a:pt x="1453" y="799"/>
                    </a:lnTo>
                    <a:lnTo>
                      <a:pt x="1375" y="798"/>
                    </a:lnTo>
                    <a:lnTo>
                      <a:pt x="1298" y="795"/>
                    </a:lnTo>
                    <a:lnTo>
                      <a:pt x="1223" y="792"/>
                    </a:lnTo>
                    <a:lnTo>
                      <a:pt x="1149" y="787"/>
                    </a:lnTo>
                    <a:lnTo>
                      <a:pt x="1076" y="782"/>
                    </a:lnTo>
                    <a:lnTo>
                      <a:pt x="1005" y="775"/>
                    </a:lnTo>
                    <a:lnTo>
                      <a:pt x="936" y="768"/>
                    </a:lnTo>
                    <a:lnTo>
                      <a:pt x="868" y="760"/>
                    </a:lnTo>
                    <a:lnTo>
                      <a:pt x="802" y="751"/>
                    </a:lnTo>
                    <a:lnTo>
                      <a:pt x="738" y="741"/>
                    </a:lnTo>
                    <a:lnTo>
                      <a:pt x="676" y="731"/>
                    </a:lnTo>
                    <a:lnTo>
                      <a:pt x="615" y="720"/>
                    </a:lnTo>
                    <a:lnTo>
                      <a:pt x="558" y="708"/>
                    </a:lnTo>
                    <a:lnTo>
                      <a:pt x="502" y="694"/>
                    </a:lnTo>
                    <a:lnTo>
                      <a:pt x="449" y="680"/>
                    </a:lnTo>
                    <a:lnTo>
                      <a:pt x="398" y="666"/>
                    </a:lnTo>
                    <a:lnTo>
                      <a:pt x="350" y="652"/>
                    </a:lnTo>
                    <a:lnTo>
                      <a:pt x="304" y="636"/>
                    </a:lnTo>
                    <a:lnTo>
                      <a:pt x="262" y="620"/>
                    </a:lnTo>
                    <a:lnTo>
                      <a:pt x="223" y="604"/>
                    </a:lnTo>
                    <a:lnTo>
                      <a:pt x="185" y="586"/>
                    </a:lnTo>
                    <a:lnTo>
                      <a:pt x="152" y="569"/>
                    </a:lnTo>
                    <a:lnTo>
                      <a:pt x="121" y="551"/>
                    </a:lnTo>
                    <a:lnTo>
                      <a:pt x="93" y="532"/>
                    </a:lnTo>
                    <a:lnTo>
                      <a:pt x="69" y="513"/>
                    </a:lnTo>
                    <a:lnTo>
                      <a:pt x="49" y="494"/>
                    </a:lnTo>
                    <a:lnTo>
                      <a:pt x="32" y="474"/>
                    </a:lnTo>
                    <a:lnTo>
                      <a:pt x="19" y="454"/>
                    </a:lnTo>
                    <a:lnTo>
                      <a:pt x="8" y="433"/>
                    </a:lnTo>
                    <a:lnTo>
                      <a:pt x="2" y="413"/>
                    </a:lnTo>
                    <a:lnTo>
                      <a:pt x="0" y="392"/>
                    </a:lnTo>
                    <a:lnTo>
                      <a:pt x="2" y="370"/>
                    </a:lnTo>
                    <a:lnTo>
                      <a:pt x="8" y="350"/>
                    </a:lnTo>
                    <a:lnTo>
                      <a:pt x="19" y="330"/>
                    </a:lnTo>
                    <a:lnTo>
                      <a:pt x="32" y="310"/>
                    </a:lnTo>
                    <a:lnTo>
                      <a:pt x="49" y="291"/>
                    </a:lnTo>
                    <a:lnTo>
                      <a:pt x="69" y="272"/>
                    </a:lnTo>
                    <a:lnTo>
                      <a:pt x="93" y="253"/>
                    </a:lnTo>
                    <a:lnTo>
                      <a:pt x="121" y="235"/>
                    </a:lnTo>
                    <a:lnTo>
                      <a:pt x="152" y="218"/>
                    </a:lnTo>
                    <a:lnTo>
                      <a:pt x="185" y="201"/>
                    </a:lnTo>
                    <a:lnTo>
                      <a:pt x="223" y="185"/>
                    </a:lnTo>
                    <a:lnTo>
                      <a:pt x="262" y="169"/>
                    </a:lnTo>
                    <a:lnTo>
                      <a:pt x="304" y="153"/>
                    </a:lnTo>
                    <a:lnTo>
                      <a:pt x="350" y="138"/>
                    </a:lnTo>
                    <a:lnTo>
                      <a:pt x="398" y="125"/>
                    </a:lnTo>
                    <a:lnTo>
                      <a:pt x="449" y="111"/>
                    </a:lnTo>
                    <a:lnTo>
                      <a:pt x="502" y="99"/>
                    </a:lnTo>
                    <a:lnTo>
                      <a:pt x="558" y="87"/>
                    </a:lnTo>
                    <a:lnTo>
                      <a:pt x="615" y="76"/>
                    </a:lnTo>
                    <a:lnTo>
                      <a:pt x="676" y="65"/>
                    </a:lnTo>
                    <a:lnTo>
                      <a:pt x="738" y="55"/>
                    </a:lnTo>
                    <a:lnTo>
                      <a:pt x="802" y="45"/>
                    </a:lnTo>
                    <a:lnTo>
                      <a:pt x="868" y="37"/>
                    </a:lnTo>
                    <a:lnTo>
                      <a:pt x="936" y="29"/>
                    </a:lnTo>
                    <a:lnTo>
                      <a:pt x="1005" y="23"/>
                    </a:lnTo>
                    <a:lnTo>
                      <a:pt x="1076" y="17"/>
                    </a:lnTo>
                    <a:lnTo>
                      <a:pt x="1149" y="12"/>
                    </a:lnTo>
                    <a:lnTo>
                      <a:pt x="1223" y="8"/>
                    </a:lnTo>
                    <a:lnTo>
                      <a:pt x="1298" y="5"/>
                    </a:lnTo>
                    <a:lnTo>
                      <a:pt x="1375" y="2"/>
                    </a:lnTo>
                    <a:lnTo>
                      <a:pt x="1453" y="1"/>
                    </a:lnTo>
                    <a:lnTo>
                      <a:pt x="1531" y="0"/>
                    </a:lnTo>
                    <a:lnTo>
                      <a:pt x="1610" y="1"/>
                    </a:lnTo>
                    <a:lnTo>
                      <a:pt x="1688" y="2"/>
                    </a:lnTo>
                    <a:lnTo>
                      <a:pt x="1765" y="5"/>
                    </a:lnTo>
                    <a:lnTo>
                      <a:pt x="1841" y="8"/>
                    </a:lnTo>
                    <a:lnTo>
                      <a:pt x="1914" y="12"/>
                    </a:lnTo>
                    <a:lnTo>
                      <a:pt x="1987" y="17"/>
                    </a:lnTo>
                    <a:lnTo>
                      <a:pt x="2058" y="23"/>
                    </a:lnTo>
                    <a:lnTo>
                      <a:pt x="2127" y="29"/>
                    </a:lnTo>
                    <a:lnTo>
                      <a:pt x="2195" y="37"/>
                    </a:lnTo>
                    <a:lnTo>
                      <a:pt x="2262" y="45"/>
                    </a:lnTo>
                    <a:lnTo>
                      <a:pt x="2325" y="55"/>
                    </a:lnTo>
                    <a:lnTo>
                      <a:pt x="2388" y="65"/>
                    </a:lnTo>
                    <a:lnTo>
                      <a:pt x="2447" y="76"/>
                    </a:lnTo>
                    <a:lnTo>
                      <a:pt x="2505" y="87"/>
                    </a:lnTo>
                    <a:lnTo>
                      <a:pt x="2561" y="99"/>
                    </a:lnTo>
                    <a:lnTo>
                      <a:pt x="2614" y="111"/>
                    </a:lnTo>
                    <a:lnTo>
                      <a:pt x="2665" y="125"/>
                    </a:lnTo>
                    <a:lnTo>
                      <a:pt x="2713" y="138"/>
                    </a:lnTo>
                    <a:lnTo>
                      <a:pt x="2759" y="153"/>
                    </a:lnTo>
                    <a:lnTo>
                      <a:pt x="2801" y="169"/>
                    </a:lnTo>
                    <a:lnTo>
                      <a:pt x="2840" y="185"/>
                    </a:lnTo>
                    <a:lnTo>
                      <a:pt x="2878" y="201"/>
                    </a:lnTo>
                    <a:lnTo>
                      <a:pt x="2911" y="218"/>
                    </a:lnTo>
                    <a:lnTo>
                      <a:pt x="2942" y="235"/>
                    </a:lnTo>
                    <a:lnTo>
                      <a:pt x="2970" y="253"/>
                    </a:lnTo>
                    <a:lnTo>
                      <a:pt x="2994" y="272"/>
                    </a:lnTo>
                    <a:lnTo>
                      <a:pt x="3014" y="291"/>
                    </a:lnTo>
                    <a:lnTo>
                      <a:pt x="3031" y="310"/>
                    </a:lnTo>
                    <a:lnTo>
                      <a:pt x="3044" y="330"/>
                    </a:lnTo>
                    <a:lnTo>
                      <a:pt x="3054" y="350"/>
                    </a:lnTo>
                    <a:lnTo>
                      <a:pt x="3061" y="370"/>
                    </a:lnTo>
                    <a:lnTo>
                      <a:pt x="3063" y="3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979640" y="6511680"/>
                <a:ext cx="336600" cy="94680"/>
              </a:xfrm>
              <a:custGeom>
                <a:avLst/>
                <a:gdLst/>
                <a:ahLst/>
                <a:rect l="l" t="t" r="r" b="b"/>
                <a:pathLst>
                  <a:path w="3059" h="798">
                    <a:moveTo>
                      <a:pt x="3059" y="391"/>
                    </a:moveTo>
                    <a:lnTo>
                      <a:pt x="3056" y="412"/>
                    </a:lnTo>
                    <a:lnTo>
                      <a:pt x="3051" y="432"/>
                    </a:lnTo>
                    <a:lnTo>
                      <a:pt x="3041" y="453"/>
                    </a:lnTo>
                    <a:lnTo>
                      <a:pt x="3028" y="472"/>
                    </a:lnTo>
                    <a:lnTo>
                      <a:pt x="3011" y="493"/>
                    </a:lnTo>
                    <a:lnTo>
                      <a:pt x="2990" y="512"/>
                    </a:lnTo>
                    <a:lnTo>
                      <a:pt x="2967" y="531"/>
                    </a:lnTo>
                    <a:lnTo>
                      <a:pt x="2938" y="549"/>
                    </a:lnTo>
                    <a:lnTo>
                      <a:pt x="2908" y="567"/>
                    </a:lnTo>
                    <a:lnTo>
                      <a:pt x="2875" y="585"/>
                    </a:lnTo>
                    <a:lnTo>
                      <a:pt x="2837" y="603"/>
                    </a:lnTo>
                    <a:lnTo>
                      <a:pt x="2798" y="619"/>
                    </a:lnTo>
                    <a:lnTo>
                      <a:pt x="2756" y="635"/>
                    </a:lnTo>
                    <a:lnTo>
                      <a:pt x="2710" y="650"/>
                    </a:lnTo>
                    <a:lnTo>
                      <a:pt x="2662" y="665"/>
                    </a:lnTo>
                    <a:lnTo>
                      <a:pt x="2611" y="679"/>
                    </a:lnTo>
                    <a:lnTo>
                      <a:pt x="2558" y="692"/>
                    </a:lnTo>
                    <a:lnTo>
                      <a:pt x="2502" y="706"/>
                    </a:lnTo>
                    <a:lnTo>
                      <a:pt x="2444" y="718"/>
                    </a:lnTo>
                    <a:lnTo>
                      <a:pt x="2385" y="729"/>
                    </a:lnTo>
                    <a:lnTo>
                      <a:pt x="2322" y="740"/>
                    </a:lnTo>
                    <a:lnTo>
                      <a:pt x="2259" y="749"/>
                    </a:lnTo>
                    <a:lnTo>
                      <a:pt x="2193" y="758"/>
                    </a:lnTo>
                    <a:lnTo>
                      <a:pt x="2125" y="766"/>
                    </a:lnTo>
                    <a:lnTo>
                      <a:pt x="2056" y="774"/>
                    </a:lnTo>
                    <a:lnTo>
                      <a:pt x="1984" y="780"/>
                    </a:lnTo>
                    <a:lnTo>
                      <a:pt x="1912" y="785"/>
                    </a:lnTo>
                    <a:lnTo>
                      <a:pt x="1837" y="790"/>
                    </a:lnTo>
                    <a:lnTo>
                      <a:pt x="1763" y="793"/>
                    </a:lnTo>
                    <a:lnTo>
                      <a:pt x="1686" y="796"/>
                    </a:lnTo>
                    <a:lnTo>
                      <a:pt x="1608" y="798"/>
                    </a:lnTo>
                    <a:lnTo>
                      <a:pt x="1529" y="798"/>
                    </a:lnTo>
                    <a:lnTo>
                      <a:pt x="1451" y="798"/>
                    </a:lnTo>
                    <a:lnTo>
                      <a:pt x="1373" y="796"/>
                    </a:lnTo>
                    <a:lnTo>
                      <a:pt x="1296" y="793"/>
                    </a:lnTo>
                    <a:lnTo>
                      <a:pt x="1221" y="790"/>
                    </a:lnTo>
                    <a:lnTo>
                      <a:pt x="1148" y="785"/>
                    </a:lnTo>
                    <a:lnTo>
                      <a:pt x="1075" y="780"/>
                    </a:lnTo>
                    <a:lnTo>
                      <a:pt x="1003" y="774"/>
                    </a:lnTo>
                    <a:lnTo>
                      <a:pt x="935" y="766"/>
                    </a:lnTo>
                    <a:lnTo>
                      <a:pt x="867" y="758"/>
                    </a:lnTo>
                    <a:lnTo>
                      <a:pt x="800" y="749"/>
                    </a:lnTo>
                    <a:lnTo>
                      <a:pt x="737" y="740"/>
                    </a:lnTo>
                    <a:lnTo>
                      <a:pt x="674" y="729"/>
                    </a:lnTo>
                    <a:lnTo>
                      <a:pt x="614" y="718"/>
                    </a:lnTo>
                    <a:lnTo>
                      <a:pt x="557" y="706"/>
                    </a:lnTo>
                    <a:lnTo>
                      <a:pt x="501" y="692"/>
                    </a:lnTo>
                    <a:lnTo>
                      <a:pt x="448" y="679"/>
                    </a:lnTo>
                    <a:lnTo>
                      <a:pt x="397" y="665"/>
                    </a:lnTo>
                    <a:lnTo>
                      <a:pt x="349" y="650"/>
                    </a:lnTo>
                    <a:lnTo>
                      <a:pt x="304" y="635"/>
                    </a:lnTo>
                    <a:lnTo>
                      <a:pt x="261" y="619"/>
                    </a:lnTo>
                    <a:lnTo>
                      <a:pt x="222" y="603"/>
                    </a:lnTo>
                    <a:lnTo>
                      <a:pt x="184" y="585"/>
                    </a:lnTo>
                    <a:lnTo>
                      <a:pt x="151" y="567"/>
                    </a:lnTo>
                    <a:lnTo>
                      <a:pt x="121" y="549"/>
                    </a:lnTo>
                    <a:lnTo>
                      <a:pt x="93" y="531"/>
                    </a:lnTo>
                    <a:lnTo>
                      <a:pt x="69" y="512"/>
                    </a:lnTo>
                    <a:lnTo>
                      <a:pt x="48" y="493"/>
                    </a:lnTo>
                    <a:lnTo>
                      <a:pt x="31" y="472"/>
                    </a:lnTo>
                    <a:lnTo>
                      <a:pt x="18" y="453"/>
                    </a:lnTo>
                    <a:lnTo>
                      <a:pt x="8" y="432"/>
                    </a:lnTo>
                    <a:lnTo>
                      <a:pt x="2" y="412"/>
                    </a:lnTo>
                    <a:lnTo>
                      <a:pt x="0" y="391"/>
                    </a:lnTo>
                    <a:lnTo>
                      <a:pt x="2" y="369"/>
                    </a:lnTo>
                    <a:lnTo>
                      <a:pt x="8" y="349"/>
                    </a:lnTo>
                    <a:lnTo>
                      <a:pt x="18" y="329"/>
                    </a:lnTo>
                    <a:lnTo>
                      <a:pt x="31" y="309"/>
                    </a:lnTo>
                    <a:lnTo>
                      <a:pt x="48" y="290"/>
                    </a:lnTo>
                    <a:lnTo>
                      <a:pt x="69" y="271"/>
                    </a:lnTo>
                    <a:lnTo>
                      <a:pt x="93" y="252"/>
                    </a:lnTo>
                    <a:lnTo>
                      <a:pt x="121" y="234"/>
                    </a:lnTo>
                    <a:lnTo>
                      <a:pt x="151" y="217"/>
                    </a:lnTo>
                    <a:lnTo>
                      <a:pt x="184" y="200"/>
                    </a:lnTo>
                    <a:lnTo>
                      <a:pt x="222" y="184"/>
                    </a:lnTo>
                    <a:lnTo>
                      <a:pt x="261" y="169"/>
                    </a:lnTo>
                    <a:lnTo>
                      <a:pt x="304" y="153"/>
                    </a:lnTo>
                    <a:lnTo>
                      <a:pt x="349" y="138"/>
                    </a:lnTo>
                    <a:lnTo>
                      <a:pt x="397" y="124"/>
                    </a:lnTo>
                    <a:lnTo>
                      <a:pt x="448" y="111"/>
                    </a:lnTo>
                    <a:lnTo>
                      <a:pt x="501" y="98"/>
                    </a:lnTo>
                    <a:lnTo>
                      <a:pt x="557" y="87"/>
                    </a:lnTo>
                    <a:lnTo>
                      <a:pt x="614" y="75"/>
                    </a:lnTo>
                    <a:lnTo>
                      <a:pt x="674" y="65"/>
                    </a:lnTo>
                    <a:lnTo>
                      <a:pt x="737" y="55"/>
                    </a:lnTo>
                    <a:lnTo>
                      <a:pt x="800" y="45"/>
                    </a:lnTo>
                    <a:lnTo>
                      <a:pt x="867" y="37"/>
                    </a:lnTo>
                    <a:lnTo>
                      <a:pt x="935" y="29"/>
                    </a:lnTo>
                    <a:lnTo>
                      <a:pt x="1003" y="23"/>
                    </a:lnTo>
                    <a:lnTo>
                      <a:pt x="1075" y="17"/>
                    </a:lnTo>
                    <a:lnTo>
                      <a:pt x="1148" y="12"/>
                    </a:lnTo>
                    <a:lnTo>
                      <a:pt x="1221" y="8"/>
                    </a:lnTo>
                    <a:lnTo>
                      <a:pt x="1296" y="5"/>
                    </a:lnTo>
                    <a:lnTo>
                      <a:pt x="1373" y="2"/>
                    </a:lnTo>
                    <a:lnTo>
                      <a:pt x="1451" y="1"/>
                    </a:lnTo>
                    <a:lnTo>
                      <a:pt x="1529" y="0"/>
                    </a:lnTo>
                    <a:lnTo>
                      <a:pt x="1608" y="1"/>
                    </a:lnTo>
                    <a:lnTo>
                      <a:pt x="1686" y="2"/>
                    </a:lnTo>
                    <a:lnTo>
                      <a:pt x="1763" y="5"/>
                    </a:lnTo>
                    <a:lnTo>
                      <a:pt x="1837" y="8"/>
                    </a:lnTo>
                    <a:lnTo>
                      <a:pt x="1912" y="12"/>
                    </a:lnTo>
                    <a:lnTo>
                      <a:pt x="1984" y="17"/>
                    </a:lnTo>
                    <a:lnTo>
                      <a:pt x="2056" y="23"/>
                    </a:lnTo>
                    <a:lnTo>
                      <a:pt x="2125" y="29"/>
                    </a:lnTo>
                    <a:lnTo>
                      <a:pt x="2193" y="37"/>
                    </a:lnTo>
                    <a:lnTo>
                      <a:pt x="2259" y="45"/>
                    </a:lnTo>
                    <a:lnTo>
                      <a:pt x="2322" y="55"/>
                    </a:lnTo>
                    <a:lnTo>
                      <a:pt x="2385" y="65"/>
                    </a:lnTo>
                    <a:lnTo>
                      <a:pt x="2444" y="75"/>
                    </a:lnTo>
                    <a:lnTo>
                      <a:pt x="2502" y="87"/>
                    </a:lnTo>
                    <a:lnTo>
                      <a:pt x="2558" y="98"/>
                    </a:lnTo>
                    <a:lnTo>
                      <a:pt x="2611" y="111"/>
                    </a:lnTo>
                    <a:lnTo>
                      <a:pt x="2662" y="124"/>
                    </a:lnTo>
                    <a:lnTo>
                      <a:pt x="2710" y="138"/>
                    </a:lnTo>
                    <a:lnTo>
                      <a:pt x="2756" y="153"/>
                    </a:lnTo>
                    <a:lnTo>
                      <a:pt x="2798" y="169"/>
                    </a:lnTo>
                    <a:lnTo>
                      <a:pt x="2837" y="184"/>
                    </a:lnTo>
                    <a:lnTo>
                      <a:pt x="2875" y="200"/>
                    </a:lnTo>
                    <a:lnTo>
                      <a:pt x="2908" y="217"/>
                    </a:lnTo>
                    <a:lnTo>
                      <a:pt x="2938" y="234"/>
                    </a:lnTo>
                    <a:lnTo>
                      <a:pt x="2967" y="252"/>
                    </a:lnTo>
                    <a:lnTo>
                      <a:pt x="2990" y="271"/>
                    </a:lnTo>
                    <a:lnTo>
                      <a:pt x="3011" y="290"/>
                    </a:lnTo>
                    <a:lnTo>
                      <a:pt x="3028" y="309"/>
                    </a:lnTo>
                    <a:lnTo>
                      <a:pt x="3041" y="329"/>
                    </a:lnTo>
                    <a:lnTo>
                      <a:pt x="3051" y="349"/>
                    </a:lnTo>
                    <a:lnTo>
                      <a:pt x="3056" y="369"/>
                    </a:lnTo>
                    <a:lnTo>
                      <a:pt x="3059" y="3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979640" y="6511680"/>
                <a:ext cx="336600" cy="94680"/>
              </a:xfrm>
              <a:custGeom>
                <a:avLst/>
                <a:gdLst/>
                <a:ahLst/>
                <a:rect l="l" t="t" r="r" b="b"/>
                <a:pathLst>
                  <a:path w="3056" h="796">
                    <a:moveTo>
                      <a:pt x="3056" y="390"/>
                    </a:moveTo>
                    <a:lnTo>
                      <a:pt x="3054" y="411"/>
                    </a:lnTo>
                    <a:lnTo>
                      <a:pt x="3048" y="431"/>
                    </a:lnTo>
                    <a:lnTo>
                      <a:pt x="3039" y="451"/>
                    </a:lnTo>
                    <a:lnTo>
                      <a:pt x="3025" y="471"/>
                    </a:lnTo>
                    <a:lnTo>
                      <a:pt x="3008" y="492"/>
                    </a:lnTo>
                    <a:lnTo>
                      <a:pt x="2988" y="511"/>
                    </a:lnTo>
                    <a:lnTo>
                      <a:pt x="2964" y="530"/>
                    </a:lnTo>
                    <a:lnTo>
                      <a:pt x="2936" y="548"/>
                    </a:lnTo>
                    <a:lnTo>
                      <a:pt x="2906" y="566"/>
                    </a:lnTo>
                    <a:lnTo>
                      <a:pt x="2872" y="583"/>
                    </a:lnTo>
                    <a:lnTo>
                      <a:pt x="2835" y="601"/>
                    </a:lnTo>
                    <a:lnTo>
                      <a:pt x="2796" y="617"/>
                    </a:lnTo>
                    <a:lnTo>
                      <a:pt x="2753" y="633"/>
                    </a:lnTo>
                    <a:lnTo>
                      <a:pt x="2708" y="648"/>
                    </a:lnTo>
                    <a:lnTo>
                      <a:pt x="2660" y="663"/>
                    </a:lnTo>
                    <a:lnTo>
                      <a:pt x="2609" y="677"/>
                    </a:lnTo>
                    <a:lnTo>
                      <a:pt x="2556" y="690"/>
                    </a:lnTo>
                    <a:lnTo>
                      <a:pt x="2500" y="704"/>
                    </a:lnTo>
                    <a:lnTo>
                      <a:pt x="2442" y="716"/>
                    </a:lnTo>
                    <a:lnTo>
                      <a:pt x="2383" y="727"/>
                    </a:lnTo>
                    <a:lnTo>
                      <a:pt x="2321" y="738"/>
                    </a:lnTo>
                    <a:lnTo>
                      <a:pt x="2257" y="748"/>
                    </a:lnTo>
                    <a:lnTo>
                      <a:pt x="2191" y="756"/>
                    </a:lnTo>
                    <a:lnTo>
                      <a:pt x="2123" y="765"/>
                    </a:lnTo>
                    <a:lnTo>
                      <a:pt x="2054" y="772"/>
                    </a:lnTo>
                    <a:lnTo>
                      <a:pt x="1983" y="778"/>
                    </a:lnTo>
                    <a:lnTo>
                      <a:pt x="1910" y="784"/>
                    </a:lnTo>
                    <a:lnTo>
                      <a:pt x="1836" y="788"/>
                    </a:lnTo>
                    <a:lnTo>
                      <a:pt x="1761" y="792"/>
                    </a:lnTo>
                    <a:lnTo>
                      <a:pt x="1685" y="794"/>
                    </a:lnTo>
                    <a:lnTo>
                      <a:pt x="1607" y="796"/>
                    </a:lnTo>
                    <a:lnTo>
                      <a:pt x="1528" y="796"/>
                    </a:lnTo>
                    <a:lnTo>
                      <a:pt x="1450" y="796"/>
                    </a:lnTo>
                    <a:lnTo>
                      <a:pt x="1372" y="794"/>
                    </a:lnTo>
                    <a:lnTo>
                      <a:pt x="1296" y="792"/>
                    </a:lnTo>
                    <a:lnTo>
                      <a:pt x="1220" y="788"/>
                    </a:lnTo>
                    <a:lnTo>
                      <a:pt x="1147" y="784"/>
                    </a:lnTo>
                    <a:lnTo>
                      <a:pt x="1074" y="778"/>
                    </a:lnTo>
                    <a:lnTo>
                      <a:pt x="1003" y="772"/>
                    </a:lnTo>
                    <a:lnTo>
                      <a:pt x="934" y="765"/>
                    </a:lnTo>
                    <a:lnTo>
                      <a:pt x="866" y="756"/>
                    </a:lnTo>
                    <a:lnTo>
                      <a:pt x="800" y="748"/>
                    </a:lnTo>
                    <a:lnTo>
                      <a:pt x="737" y="738"/>
                    </a:lnTo>
                    <a:lnTo>
                      <a:pt x="674" y="727"/>
                    </a:lnTo>
                    <a:lnTo>
                      <a:pt x="614" y="716"/>
                    </a:lnTo>
                    <a:lnTo>
                      <a:pt x="557" y="704"/>
                    </a:lnTo>
                    <a:lnTo>
                      <a:pt x="501" y="690"/>
                    </a:lnTo>
                    <a:lnTo>
                      <a:pt x="448" y="677"/>
                    </a:lnTo>
                    <a:lnTo>
                      <a:pt x="397" y="663"/>
                    </a:lnTo>
                    <a:lnTo>
                      <a:pt x="350" y="648"/>
                    </a:lnTo>
                    <a:lnTo>
                      <a:pt x="304" y="633"/>
                    </a:lnTo>
                    <a:lnTo>
                      <a:pt x="262" y="617"/>
                    </a:lnTo>
                    <a:lnTo>
                      <a:pt x="222" y="601"/>
                    </a:lnTo>
                    <a:lnTo>
                      <a:pt x="185" y="583"/>
                    </a:lnTo>
                    <a:lnTo>
                      <a:pt x="151" y="566"/>
                    </a:lnTo>
                    <a:lnTo>
                      <a:pt x="121" y="548"/>
                    </a:lnTo>
                    <a:lnTo>
                      <a:pt x="93" y="530"/>
                    </a:lnTo>
                    <a:lnTo>
                      <a:pt x="69" y="511"/>
                    </a:lnTo>
                    <a:lnTo>
                      <a:pt x="49" y="492"/>
                    </a:lnTo>
                    <a:lnTo>
                      <a:pt x="32" y="471"/>
                    </a:lnTo>
                    <a:lnTo>
                      <a:pt x="19" y="451"/>
                    </a:lnTo>
                    <a:lnTo>
                      <a:pt x="9" y="431"/>
                    </a:lnTo>
                    <a:lnTo>
                      <a:pt x="2" y="411"/>
                    </a:lnTo>
                    <a:lnTo>
                      <a:pt x="0" y="390"/>
                    </a:lnTo>
                    <a:lnTo>
                      <a:pt x="2" y="368"/>
                    </a:lnTo>
                    <a:lnTo>
                      <a:pt x="9" y="348"/>
                    </a:lnTo>
                    <a:lnTo>
                      <a:pt x="19" y="328"/>
                    </a:lnTo>
                    <a:lnTo>
                      <a:pt x="32" y="308"/>
                    </a:lnTo>
                    <a:lnTo>
                      <a:pt x="49" y="289"/>
                    </a:lnTo>
                    <a:lnTo>
                      <a:pt x="69" y="271"/>
                    </a:lnTo>
                    <a:lnTo>
                      <a:pt x="93" y="251"/>
                    </a:lnTo>
                    <a:lnTo>
                      <a:pt x="121" y="234"/>
                    </a:lnTo>
                    <a:lnTo>
                      <a:pt x="151" y="217"/>
                    </a:lnTo>
                    <a:lnTo>
                      <a:pt x="185" y="200"/>
                    </a:lnTo>
                    <a:lnTo>
                      <a:pt x="222" y="184"/>
                    </a:lnTo>
                    <a:lnTo>
                      <a:pt x="262" y="168"/>
                    </a:lnTo>
                    <a:lnTo>
                      <a:pt x="304" y="152"/>
                    </a:lnTo>
                    <a:lnTo>
                      <a:pt x="350" y="138"/>
                    </a:lnTo>
                    <a:lnTo>
                      <a:pt x="397" y="124"/>
                    </a:lnTo>
                    <a:lnTo>
                      <a:pt x="448" y="111"/>
                    </a:lnTo>
                    <a:lnTo>
                      <a:pt x="501" y="98"/>
                    </a:lnTo>
                    <a:lnTo>
                      <a:pt x="557" y="86"/>
                    </a:lnTo>
                    <a:lnTo>
                      <a:pt x="614" y="75"/>
                    </a:lnTo>
                    <a:lnTo>
                      <a:pt x="674" y="65"/>
                    </a:lnTo>
                    <a:lnTo>
                      <a:pt x="737" y="55"/>
                    </a:lnTo>
                    <a:lnTo>
                      <a:pt x="800" y="45"/>
                    </a:lnTo>
                    <a:lnTo>
                      <a:pt x="866" y="37"/>
                    </a:lnTo>
                    <a:lnTo>
                      <a:pt x="934" y="29"/>
                    </a:lnTo>
                    <a:lnTo>
                      <a:pt x="1003" y="23"/>
                    </a:lnTo>
                    <a:lnTo>
                      <a:pt x="1074" y="17"/>
                    </a:lnTo>
                    <a:lnTo>
                      <a:pt x="1147" y="12"/>
                    </a:lnTo>
                    <a:lnTo>
                      <a:pt x="1220" y="8"/>
                    </a:lnTo>
                    <a:lnTo>
                      <a:pt x="1296" y="4"/>
                    </a:lnTo>
                    <a:lnTo>
                      <a:pt x="1372" y="2"/>
                    </a:lnTo>
                    <a:lnTo>
                      <a:pt x="1450" y="1"/>
                    </a:lnTo>
                    <a:lnTo>
                      <a:pt x="1528" y="0"/>
                    </a:lnTo>
                    <a:lnTo>
                      <a:pt x="1607" y="1"/>
                    </a:lnTo>
                    <a:lnTo>
                      <a:pt x="1685" y="2"/>
                    </a:lnTo>
                    <a:lnTo>
                      <a:pt x="1761" y="4"/>
                    </a:lnTo>
                    <a:lnTo>
                      <a:pt x="1836" y="8"/>
                    </a:lnTo>
                    <a:lnTo>
                      <a:pt x="1910" y="12"/>
                    </a:lnTo>
                    <a:lnTo>
                      <a:pt x="1983" y="17"/>
                    </a:lnTo>
                    <a:lnTo>
                      <a:pt x="2054" y="23"/>
                    </a:lnTo>
                    <a:lnTo>
                      <a:pt x="2123" y="29"/>
                    </a:lnTo>
                    <a:lnTo>
                      <a:pt x="2191" y="37"/>
                    </a:lnTo>
                    <a:lnTo>
                      <a:pt x="2257" y="45"/>
                    </a:lnTo>
                    <a:lnTo>
                      <a:pt x="2321" y="55"/>
                    </a:lnTo>
                    <a:lnTo>
                      <a:pt x="2383" y="65"/>
                    </a:lnTo>
                    <a:lnTo>
                      <a:pt x="2442" y="75"/>
                    </a:lnTo>
                    <a:lnTo>
                      <a:pt x="2500" y="86"/>
                    </a:lnTo>
                    <a:lnTo>
                      <a:pt x="2556" y="98"/>
                    </a:lnTo>
                    <a:lnTo>
                      <a:pt x="2609" y="111"/>
                    </a:lnTo>
                    <a:lnTo>
                      <a:pt x="2660" y="124"/>
                    </a:lnTo>
                    <a:lnTo>
                      <a:pt x="2708" y="138"/>
                    </a:lnTo>
                    <a:lnTo>
                      <a:pt x="2753" y="152"/>
                    </a:lnTo>
                    <a:lnTo>
                      <a:pt x="2796" y="168"/>
                    </a:lnTo>
                    <a:lnTo>
                      <a:pt x="2835" y="184"/>
                    </a:lnTo>
                    <a:lnTo>
                      <a:pt x="2872" y="200"/>
                    </a:lnTo>
                    <a:lnTo>
                      <a:pt x="2906" y="217"/>
                    </a:lnTo>
                    <a:lnTo>
                      <a:pt x="2936" y="234"/>
                    </a:lnTo>
                    <a:lnTo>
                      <a:pt x="2964" y="251"/>
                    </a:lnTo>
                    <a:lnTo>
                      <a:pt x="2988" y="271"/>
                    </a:lnTo>
                    <a:lnTo>
                      <a:pt x="3008" y="289"/>
                    </a:lnTo>
                    <a:lnTo>
                      <a:pt x="3025" y="308"/>
                    </a:lnTo>
                    <a:lnTo>
                      <a:pt x="3039" y="328"/>
                    </a:lnTo>
                    <a:lnTo>
                      <a:pt x="3048" y="348"/>
                    </a:lnTo>
                    <a:lnTo>
                      <a:pt x="3054" y="368"/>
                    </a:lnTo>
                    <a:lnTo>
                      <a:pt x="3056" y="3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979640" y="6511680"/>
                <a:ext cx="336600" cy="94680"/>
              </a:xfrm>
              <a:custGeom>
                <a:avLst/>
                <a:gdLst/>
                <a:ahLst/>
                <a:rect l="l" t="t" r="r" b="b"/>
                <a:pathLst>
                  <a:path w="3053" h="794">
                    <a:moveTo>
                      <a:pt x="3053" y="389"/>
                    </a:moveTo>
                    <a:lnTo>
                      <a:pt x="3051" y="410"/>
                    </a:lnTo>
                    <a:lnTo>
                      <a:pt x="3045" y="430"/>
                    </a:lnTo>
                    <a:lnTo>
                      <a:pt x="3035" y="450"/>
                    </a:lnTo>
                    <a:lnTo>
                      <a:pt x="3022" y="470"/>
                    </a:lnTo>
                    <a:lnTo>
                      <a:pt x="3005" y="491"/>
                    </a:lnTo>
                    <a:lnTo>
                      <a:pt x="2985" y="510"/>
                    </a:lnTo>
                    <a:lnTo>
                      <a:pt x="2961" y="528"/>
                    </a:lnTo>
                    <a:lnTo>
                      <a:pt x="2933" y="547"/>
                    </a:lnTo>
                    <a:lnTo>
                      <a:pt x="2903" y="564"/>
                    </a:lnTo>
                    <a:lnTo>
                      <a:pt x="2869" y="582"/>
                    </a:lnTo>
                    <a:lnTo>
                      <a:pt x="2832" y="600"/>
                    </a:lnTo>
                    <a:lnTo>
                      <a:pt x="2792" y="616"/>
                    </a:lnTo>
                    <a:lnTo>
                      <a:pt x="2749" y="632"/>
                    </a:lnTo>
                    <a:lnTo>
                      <a:pt x="2704" y="647"/>
                    </a:lnTo>
                    <a:lnTo>
                      <a:pt x="2657" y="661"/>
                    </a:lnTo>
                    <a:lnTo>
                      <a:pt x="2606" y="675"/>
                    </a:lnTo>
                    <a:lnTo>
                      <a:pt x="2553" y="689"/>
                    </a:lnTo>
                    <a:lnTo>
                      <a:pt x="2498" y="702"/>
                    </a:lnTo>
                    <a:lnTo>
                      <a:pt x="2439" y="714"/>
                    </a:lnTo>
                    <a:lnTo>
                      <a:pt x="2380" y="726"/>
                    </a:lnTo>
                    <a:lnTo>
                      <a:pt x="2318" y="736"/>
                    </a:lnTo>
                    <a:lnTo>
                      <a:pt x="2255" y="746"/>
                    </a:lnTo>
                    <a:lnTo>
                      <a:pt x="2188" y="755"/>
                    </a:lnTo>
                    <a:lnTo>
                      <a:pt x="2120" y="763"/>
                    </a:lnTo>
                    <a:lnTo>
                      <a:pt x="2052" y="770"/>
                    </a:lnTo>
                    <a:lnTo>
                      <a:pt x="1981" y="776"/>
                    </a:lnTo>
                    <a:lnTo>
                      <a:pt x="1908" y="782"/>
                    </a:lnTo>
                    <a:lnTo>
                      <a:pt x="1834" y="786"/>
                    </a:lnTo>
                    <a:lnTo>
                      <a:pt x="1759" y="790"/>
                    </a:lnTo>
                    <a:lnTo>
                      <a:pt x="1683" y="792"/>
                    </a:lnTo>
                    <a:lnTo>
                      <a:pt x="1605" y="794"/>
                    </a:lnTo>
                    <a:lnTo>
                      <a:pt x="1526" y="794"/>
                    </a:lnTo>
                    <a:lnTo>
                      <a:pt x="1448" y="794"/>
                    </a:lnTo>
                    <a:lnTo>
                      <a:pt x="1371" y="792"/>
                    </a:lnTo>
                    <a:lnTo>
                      <a:pt x="1294" y="790"/>
                    </a:lnTo>
                    <a:lnTo>
                      <a:pt x="1218" y="786"/>
                    </a:lnTo>
                    <a:lnTo>
                      <a:pt x="1145" y="782"/>
                    </a:lnTo>
                    <a:lnTo>
                      <a:pt x="1073" y="776"/>
                    </a:lnTo>
                    <a:lnTo>
                      <a:pt x="1001" y="770"/>
                    </a:lnTo>
                    <a:lnTo>
                      <a:pt x="933" y="763"/>
                    </a:lnTo>
                    <a:lnTo>
                      <a:pt x="865" y="755"/>
                    </a:lnTo>
                    <a:lnTo>
                      <a:pt x="799" y="746"/>
                    </a:lnTo>
                    <a:lnTo>
                      <a:pt x="735" y="736"/>
                    </a:lnTo>
                    <a:lnTo>
                      <a:pt x="673" y="726"/>
                    </a:lnTo>
                    <a:lnTo>
                      <a:pt x="613" y="714"/>
                    </a:lnTo>
                    <a:lnTo>
                      <a:pt x="556" y="702"/>
                    </a:lnTo>
                    <a:lnTo>
                      <a:pt x="500" y="689"/>
                    </a:lnTo>
                    <a:lnTo>
                      <a:pt x="447" y="675"/>
                    </a:lnTo>
                    <a:lnTo>
                      <a:pt x="396" y="661"/>
                    </a:lnTo>
                    <a:lnTo>
                      <a:pt x="349" y="647"/>
                    </a:lnTo>
                    <a:lnTo>
                      <a:pt x="303" y="632"/>
                    </a:lnTo>
                    <a:lnTo>
                      <a:pt x="261" y="616"/>
                    </a:lnTo>
                    <a:lnTo>
                      <a:pt x="221" y="600"/>
                    </a:lnTo>
                    <a:lnTo>
                      <a:pt x="184" y="582"/>
                    </a:lnTo>
                    <a:lnTo>
                      <a:pt x="151" y="564"/>
                    </a:lnTo>
                    <a:lnTo>
                      <a:pt x="120" y="547"/>
                    </a:lnTo>
                    <a:lnTo>
                      <a:pt x="92" y="528"/>
                    </a:lnTo>
                    <a:lnTo>
                      <a:pt x="68" y="510"/>
                    </a:lnTo>
                    <a:lnTo>
                      <a:pt x="48" y="491"/>
                    </a:lnTo>
                    <a:lnTo>
                      <a:pt x="31" y="470"/>
                    </a:lnTo>
                    <a:lnTo>
                      <a:pt x="18" y="450"/>
                    </a:lnTo>
                    <a:lnTo>
                      <a:pt x="8" y="430"/>
                    </a:lnTo>
                    <a:lnTo>
                      <a:pt x="2" y="410"/>
                    </a:lnTo>
                    <a:lnTo>
                      <a:pt x="0" y="389"/>
                    </a:lnTo>
                    <a:lnTo>
                      <a:pt x="2" y="367"/>
                    </a:lnTo>
                    <a:lnTo>
                      <a:pt x="8" y="347"/>
                    </a:lnTo>
                    <a:lnTo>
                      <a:pt x="18" y="327"/>
                    </a:lnTo>
                    <a:lnTo>
                      <a:pt x="31" y="308"/>
                    </a:lnTo>
                    <a:lnTo>
                      <a:pt x="48" y="289"/>
                    </a:lnTo>
                    <a:lnTo>
                      <a:pt x="68" y="270"/>
                    </a:lnTo>
                    <a:lnTo>
                      <a:pt x="92" y="251"/>
                    </a:lnTo>
                    <a:lnTo>
                      <a:pt x="120" y="233"/>
                    </a:lnTo>
                    <a:lnTo>
                      <a:pt x="151" y="216"/>
                    </a:lnTo>
                    <a:lnTo>
                      <a:pt x="184" y="199"/>
                    </a:lnTo>
                    <a:lnTo>
                      <a:pt x="221" y="183"/>
                    </a:lnTo>
                    <a:lnTo>
                      <a:pt x="261" y="168"/>
                    </a:lnTo>
                    <a:lnTo>
                      <a:pt x="303" y="152"/>
                    </a:lnTo>
                    <a:lnTo>
                      <a:pt x="349" y="137"/>
                    </a:lnTo>
                    <a:lnTo>
                      <a:pt x="396" y="123"/>
                    </a:lnTo>
                    <a:lnTo>
                      <a:pt x="447" y="110"/>
                    </a:lnTo>
                    <a:lnTo>
                      <a:pt x="500" y="98"/>
                    </a:lnTo>
                    <a:lnTo>
                      <a:pt x="556" y="86"/>
                    </a:lnTo>
                    <a:lnTo>
                      <a:pt x="613" y="75"/>
                    </a:lnTo>
                    <a:lnTo>
                      <a:pt x="673" y="64"/>
                    </a:lnTo>
                    <a:lnTo>
                      <a:pt x="735" y="55"/>
                    </a:lnTo>
                    <a:lnTo>
                      <a:pt x="799" y="45"/>
                    </a:lnTo>
                    <a:lnTo>
                      <a:pt x="865" y="36"/>
                    </a:lnTo>
                    <a:lnTo>
                      <a:pt x="933" y="29"/>
                    </a:lnTo>
                    <a:lnTo>
                      <a:pt x="1001" y="22"/>
                    </a:lnTo>
                    <a:lnTo>
                      <a:pt x="1073" y="17"/>
                    </a:lnTo>
                    <a:lnTo>
                      <a:pt x="1145" y="12"/>
                    </a:lnTo>
                    <a:lnTo>
                      <a:pt x="1218" y="8"/>
                    </a:lnTo>
                    <a:lnTo>
                      <a:pt x="1294" y="4"/>
                    </a:lnTo>
                    <a:lnTo>
                      <a:pt x="1371" y="2"/>
                    </a:lnTo>
                    <a:lnTo>
                      <a:pt x="1448" y="1"/>
                    </a:lnTo>
                    <a:lnTo>
                      <a:pt x="1526" y="0"/>
                    </a:lnTo>
                    <a:lnTo>
                      <a:pt x="1605" y="1"/>
                    </a:lnTo>
                    <a:lnTo>
                      <a:pt x="1683" y="2"/>
                    </a:lnTo>
                    <a:lnTo>
                      <a:pt x="1759" y="4"/>
                    </a:lnTo>
                    <a:lnTo>
                      <a:pt x="1834" y="8"/>
                    </a:lnTo>
                    <a:lnTo>
                      <a:pt x="1908" y="12"/>
                    </a:lnTo>
                    <a:lnTo>
                      <a:pt x="1981" y="17"/>
                    </a:lnTo>
                    <a:lnTo>
                      <a:pt x="2052" y="22"/>
                    </a:lnTo>
                    <a:lnTo>
                      <a:pt x="2120" y="29"/>
                    </a:lnTo>
                    <a:lnTo>
                      <a:pt x="2188" y="36"/>
                    </a:lnTo>
                    <a:lnTo>
                      <a:pt x="2255" y="45"/>
                    </a:lnTo>
                    <a:lnTo>
                      <a:pt x="2318" y="55"/>
                    </a:lnTo>
                    <a:lnTo>
                      <a:pt x="2380" y="64"/>
                    </a:lnTo>
                    <a:lnTo>
                      <a:pt x="2439" y="75"/>
                    </a:lnTo>
                    <a:lnTo>
                      <a:pt x="2498" y="86"/>
                    </a:lnTo>
                    <a:lnTo>
                      <a:pt x="2553" y="98"/>
                    </a:lnTo>
                    <a:lnTo>
                      <a:pt x="2606" y="110"/>
                    </a:lnTo>
                    <a:lnTo>
                      <a:pt x="2657" y="123"/>
                    </a:lnTo>
                    <a:lnTo>
                      <a:pt x="2704" y="137"/>
                    </a:lnTo>
                    <a:lnTo>
                      <a:pt x="2749" y="152"/>
                    </a:lnTo>
                    <a:lnTo>
                      <a:pt x="2792" y="168"/>
                    </a:lnTo>
                    <a:lnTo>
                      <a:pt x="2832" y="183"/>
                    </a:lnTo>
                    <a:lnTo>
                      <a:pt x="2869" y="199"/>
                    </a:lnTo>
                    <a:lnTo>
                      <a:pt x="2903" y="216"/>
                    </a:lnTo>
                    <a:lnTo>
                      <a:pt x="2933" y="233"/>
                    </a:lnTo>
                    <a:lnTo>
                      <a:pt x="2961" y="251"/>
                    </a:lnTo>
                    <a:lnTo>
                      <a:pt x="2985" y="270"/>
                    </a:lnTo>
                    <a:lnTo>
                      <a:pt x="3005" y="289"/>
                    </a:lnTo>
                    <a:lnTo>
                      <a:pt x="3022" y="308"/>
                    </a:lnTo>
                    <a:lnTo>
                      <a:pt x="3035" y="327"/>
                    </a:lnTo>
                    <a:lnTo>
                      <a:pt x="3045" y="347"/>
                    </a:lnTo>
                    <a:lnTo>
                      <a:pt x="3051" y="367"/>
                    </a:lnTo>
                    <a:lnTo>
                      <a:pt x="3053" y="3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979640" y="6511680"/>
                <a:ext cx="336600" cy="94680"/>
              </a:xfrm>
              <a:custGeom>
                <a:avLst/>
                <a:gdLst/>
                <a:ahLst/>
                <a:rect l="l" t="t" r="r" b="b"/>
                <a:pathLst>
                  <a:path w="3050" h="792">
                    <a:moveTo>
                      <a:pt x="3050" y="388"/>
                    </a:moveTo>
                    <a:lnTo>
                      <a:pt x="3048" y="409"/>
                    </a:lnTo>
                    <a:lnTo>
                      <a:pt x="3042" y="429"/>
                    </a:lnTo>
                    <a:lnTo>
                      <a:pt x="3033" y="449"/>
                    </a:lnTo>
                    <a:lnTo>
                      <a:pt x="3020" y="469"/>
                    </a:lnTo>
                    <a:lnTo>
                      <a:pt x="3003" y="489"/>
                    </a:lnTo>
                    <a:lnTo>
                      <a:pt x="2982" y="508"/>
                    </a:lnTo>
                    <a:lnTo>
                      <a:pt x="2959" y="527"/>
                    </a:lnTo>
                    <a:lnTo>
                      <a:pt x="2931" y="545"/>
                    </a:lnTo>
                    <a:lnTo>
                      <a:pt x="2900" y="563"/>
                    </a:lnTo>
                    <a:lnTo>
                      <a:pt x="2867" y="580"/>
                    </a:lnTo>
                    <a:lnTo>
                      <a:pt x="2830" y="598"/>
                    </a:lnTo>
                    <a:lnTo>
                      <a:pt x="2790" y="614"/>
                    </a:lnTo>
                    <a:lnTo>
                      <a:pt x="2747" y="630"/>
                    </a:lnTo>
                    <a:lnTo>
                      <a:pt x="2702" y="645"/>
                    </a:lnTo>
                    <a:lnTo>
                      <a:pt x="2655" y="660"/>
                    </a:lnTo>
                    <a:lnTo>
                      <a:pt x="2604" y="674"/>
                    </a:lnTo>
                    <a:lnTo>
                      <a:pt x="2551" y="687"/>
                    </a:lnTo>
                    <a:lnTo>
                      <a:pt x="2496" y="701"/>
                    </a:lnTo>
                    <a:lnTo>
                      <a:pt x="2438" y="713"/>
                    </a:lnTo>
                    <a:lnTo>
                      <a:pt x="2378" y="724"/>
                    </a:lnTo>
                    <a:lnTo>
                      <a:pt x="2316" y="734"/>
                    </a:lnTo>
                    <a:lnTo>
                      <a:pt x="2253" y="744"/>
                    </a:lnTo>
                    <a:lnTo>
                      <a:pt x="2187" y="753"/>
                    </a:lnTo>
                    <a:lnTo>
                      <a:pt x="2119" y="761"/>
                    </a:lnTo>
                    <a:lnTo>
                      <a:pt x="2050" y="768"/>
                    </a:lnTo>
                    <a:lnTo>
                      <a:pt x="1979" y="774"/>
                    </a:lnTo>
                    <a:lnTo>
                      <a:pt x="1906" y="780"/>
                    </a:lnTo>
                    <a:lnTo>
                      <a:pt x="1832" y="784"/>
                    </a:lnTo>
                    <a:lnTo>
                      <a:pt x="1758" y="788"/>
                    </a:lnTo>
                    <a:lnTo>
                      <a:pt x="1681" y="790"/>
                    </a:lnTo>
                    <a:lnTo>
                      <a:pt x="1604" y="792"/>
                    </a:lnTo>
                    <a:lnTo>
                      <a:pt x="1525" y="792"/>
                    </a:lnTo>
                    <a:lnTo>
                      <a:pt x="1447" y="792"/>
                    </a:lnTo>
                    <a:lnTo>
                      <a:pt x="1370" y="790"/>
                    </a:lnTo>
                    <a:lnTo>
                      <a:pt x="1293" y="788"/>
                    </a:lnTo>
                    <a:lnTo>
                      <a:pt x="1218" y="784"/>
                    </a:lnTo>
                    <a:lnTo>
                      <a:pt x="1145" y="780"/>
                    </a:lnTo>
                    <a:lnTo>
                      <a:pt x="1072" y="774"/>
                    </a:lnTo>
                    <a:lnTo>
                      <a:pt x="1001" y="768"/>
                    </a:lnTo>
                    <a:lnTo>
                      <a:pt x="932" y="761"/>
                    </a:lnTo>
                    <a:lnTo>
                      <a:pt x="864" y="753"/>
                    </a:lnTo>
                    <a:lnTo>
                      <a:pt x="798" y="744"/>
                    </a:lnTo>
                    <a:lnTo>
                      <a:pt x="735" y="734"/>
                    </a:lnTo>
                    <a:lnTo>
                      <a:pt x="673" y="724"/>
                    </a:lnTo>
                    <a:lnTo>
                      <a:pt x="613" y="713"/>
                    </a:lnTo>
                    <a:lnTo>
                      <a:pt x="555" y="701"/>
                    </a:lnTo>
                    <a:lnTo>
                      <a:pt x="500" y="687"/>
                    </a:lnTo>
                    <a:lnTo>
                      <a:pt x="447" y="674"/>
                    </a:lnTo>
                    <a:lnTo>
                      <a:pt x="396" y="660"/>
                    </a:lnTo>
                    <a:lnTo>
                      <a:pt x="349" y="645"/>
                    </a:lnTo>
                    <a:lnTo>
                      <a:pt x="303" y="630"/>
                    </a:lnTo>
                    <a:lnTo>
                      <a:pt x="261" y="614"/>
                    </a:lnTo>
                    <a:lnTo>
                      <a:pt x="222" y="598"/>
                    </a:lnTo>
                    <a:lnTo>
                      <a:pt x="184" y="580"/>
                    </a:lnTo>
                    <a:lnTo>
                      <a:pt x="151" y="563"/>
                    </a:lnTo>
                    <a:lnTo>
                      <a:pt x="121" y="545"/>
                    </a:lnTo>
                    <a:lnTo>
                      <a:pt x="93" y="527"/>
                    </a:lnTo>
                    <a:lnTo>
                      <a:pt x="69" y="508"/>
                    </a:lnTo>
                    <a:lnTo>
                      <a:pt x="48" y="489"/>
                    </a:lnTo>
                    <a:lnTo>
                      <a:pt x="32" y="469"/>
                    </a:lnTo>
                    <a:lnTo>
                      <a:pt x="18" y="449"/>
                    </a:lnTo>
                    <a:lnTo>
                      <a:pt x="9" y="429"/>
                    </a:lnTo>
                    <a:lnTo>
                      <a:pt x="2" y="409"/>
                    </a:lnTo>
                    <a:lnTo>
                      <a:pt x="0" y="388"/>
                    </a:lnTo>
                    <a:lnTo>
                      <a:pt x="2" y="366"/>
                    </a:lnTo>
                    <a:lnTo>
                      <a:pt x="9" y="346"/>
                    </a:lnTo>
                    <a:lnTo>
                      <a:pt x="18" y="326"/>
                    </a:lnTo>
                    <a:lnTo>
                      <a:pt x="32" y="307"/>
                    </a:lnTo>
                    <a:lnTo>
                      <a:pt x="48" y="288"/>
                    </a:lnTo>
                    <a:lnTo>
                      <a:pt x="69" y="269"/>
                    </a:lnTo>
                    <a:lnTo>
                      <a:pt x="93" y="250"/>
                    </a:lnTo>
                    <a:lnTo>
                      <a:pt x="121" y="233"/>
                    </a:lnTo>
                    <a:lnTo>
                      <a:pt x="151" y="215"/>
                    </a:lnTo>
                    <a:lnTo>
                      <a:pt x="184" y="199"/>
                    </a:lnTo>
                    <a:lnTo>
                      <a:pt x="222" y="183"/>
                    </a:lnTo>
                    <a:lnTo>
                      <a:pt x="261" y="167"/>
                    </a:lnTo>
                    <a:lnTo>
                      <a:pt x="303" y="151"/>
                    </a:lnTo>
                    <a:lnTo>
                      <a:pt x="349" y="137"/>
                    </a:lnTo>
                    <a:lnTo>
                      <a:pt x="396" y="123"/>
                    </a:lnTo>
                    <a:lnTo>
                      <a:pt x="447" y="110"/>
                    </a:lnTo>
                    <a:lnTo>
                      <a:pt x="500" y="97"/>
                    </a:lnTo>
                    <a:lnTo>
                      <a:pt x="555" y="86"/>
                    </a:lnTo>
                    <a:lnTo>
                      <a:pt x="613" y="75"/>
                    </a:lnTo>
                    <a:lnTo>
                      <a:pt x="673" y="64"/>
                    </a:lnTo>
                    <a:lnTo>
                      <a:pt x="735" y="54"/>
                    </a:lnTo>
                    <a:lnTo>
                      <a:pt x="798" y="45"/>
                    </a:lnTo>
                    <a:lnTo>
                      <a:pt x="864" y="36"/>
                    </a:lnTo>
                    <a:lnTo>
                      <a:pt x="932" y="29"/>
                    </a:lnTo>
                    <a:lnTo>
                      <a:pt x="1001" y="22"/>
                    </a:lnTo>
                    <a:lnTo>
                      <a:pt x="1072" y="17"/>
                    </a:lnTo>
                    <a:lnTo>
                      <a:pt x="1145" y="12"/>
                    </a:lnTo>
                    <a:lnTo>
                      <a:pt x="1218" y="8"/>
                    </a:lnTo>
                    <a:lnTo>
                      <a:pt x="1293" y="4"/>
                    </a:lnTo>
                    <a:lnTo>
                      <a:pt x="1370" y="2"/>
                    </a:lnTo>
                    <a:lnTo>
                      <a:pt x="1447" y="1"/>
                    </a:lnTo>
                    <a:lnTo>
                      <a:pt x="1525" y="0"/>
                    </a:lnTo>
                    <a:lnTo>
                      <a:pt x="1604" y="1"/>
                    </a:lnTo>
                    <a:lnTo>
                      <a:pt x="1681" y="2"/>
                    </a:lnTo>
                    <a:lnTo>
                      <a:pt x="1758" y="4"/>
                    </a:lnTo>
                    <a:lnTo>
                      <a:pt x="1832" y="8"/>
                    </a:lnTo>
                    <a:lnTo>
                      <a:pt x="1906" y="12"/>
                    </a:lnTo>
                    <a:lnTo>
                      <a:pt x="1979" y="17"/>
                    </a:lnTo>
                    <a:lnTo>
                      <a:pt x="2050" y="22"/>
                    </a:lnTo>
                    <a:lnTo>
                      <a:pt x="2119" y="29"/>
                    </a:lnTo>
                    <a:lnTo>
                      <a:pt x="2187" y="36"/>
                    </a:lnTo>
                    <a:lnTo>
                      <a:pt x="2253" y="45"/>
                    </a:lnTo>
                    <a:lnTo>
                      <a:pt x="2316" y="54"/>
                    </a:lnTo>
                    <a:lnTo>
                      <a:pt x="2378" y="64"/>
                    </a:lnTo>
                    <a:lnTo>
                      <a:pt x="2438" y="75"/>
                    </a:lnTo>
                    <a:lnTo>
                      <a:pt x="2496" y="86"/>
                    </a:lnTo>
                    <a:lnTo>
                      <a:pt x="2551" y="97"/>
                    </a:lnTo>
                    <a:lnTo>
                      <a:pt x="2604" y="110"/>
                    </a:lnTo>
                    <a:lnTo>
                      <a:pt x="2655" y="123"/>
                    </a:lnTo>
                    <a:lnTo>
                      <a:pt x="2702" y="137"/>
                    </a:lnTo>
                    <a:lnTo>
                      <a:pt x="2747" y="151"/>
                    </a:lnTo>
                    <a:lnTo>
                      <a:pt x="2790" y="167"/>
                    </a:lnTo>
                    <a:lnTo>
                      <a:pt x="2830" y="183"/>
                    </a:lnTo>
                    <a:lnTo>
                      <a:pt x="2867" y="199"/>
                    </a:lnTo>
                    <a:lnTo>
                      <a:pt x="2900" y="215"/>
                    </a:lnTo>
                    <a:lnTo>
                      <a:pt x="2931" y="233"/>
                    </a:lnTo>
                    <a:lnTo>
                      <a:pt x="2959" y="250"/>
                    </a:lnTo>
                    <a:lnTo>
                      <a:pt x="2982" y="269"/>
                    </a:lnTo>
                    <a:lnTo>
                      <a:pt x="3003" y="288"/>
                    </a:lnTo>
                    <a:lnTo>
                      <a:pt x="3020" y="307"/>
                    </a:lnTo>
                    <a:lnTo>
                      <a:pt x="3033" y="326"/>
                    </a:lnTo>
                    <a:lnTo>
                      <a:pt x="3042" y="346"/>
                    </a:lnTo>
                    <a:lnTo>
                      <a:pt x="3048" y="366"/>
                    </a:lnTo>
                    <a:lnTo>
                      <a:pt x="3050" y="3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979640" y="6511680"/>
                <a:ext cx="335520" cy="94680"/>
              </a:xfrm>
              <a:custGeom>
                <a:avLst/>
                <a:gdLst/>
                <a:ahLst/>
                <a:rect l="l" t="t" r="r" b="b"/>
                <a:pathLst>
                  <a:path w="3048" h="790">
                    <a:moveTo>
                      <a:pt x="3048" y="387"/>
                    </a:moveTo>
                    <a:lnTo>
                      <a:pt x="3046" y="408"/>
                    </a:lnTo>
                    <a:lnTo>
                      <a:pt x="3040" y="428"/>
                    </a:lnTo>
                    <a:lnTo>
                      <a:pt x="3030" y="448"/>
                    </a:lnTo>
                    <a:lnTo>
                      <a:pt x="3017" y="468"/>
                    </a:lnTo>
                    <a:lnTo>
                      <a:pt x="3000" y="488"/>
                    </a:lnTo>
                    <a:lnTo>
                      <a:pt x="2980" y="507"/>
                    </a:lnTo>
                    <a:lnTo>
                      <a:pt x="2956" y="526"/>
                    </a:lnTo>
                    <a:lnTo>
                      <a:pt x="2928" y="544"/>
                    </a:lnTo>
                    <a:lnTo>
                      <a:pt x="2898" y="562"/>
                    </a:lnTo>
                    <a:lnTo>
                      <a:pt x="2865" y="579"/>
                    </a:lnTo>
                    <a:lnTo>
                      <a:pt x="2827" y="597"/>
                    </a:lnTo>
                    <a:lnTo>
                      <a:pt x="2788" y="613"/>
                    </a:lnTo>
                    <a:lnTo>
                      <a:pt x="2745" y="629"/>
                    </a:lnTo>
                    <a:lnTo>
                      <a:pt x="2700" y="644"/>
                    </a:lnTo>
                    <a:lnTo>
                      <a:pt x="2653" y="658"/>
                    </a:lnTo>
                    <a:lnTo>
                      <a:pt x="2602" y="672"/>
                    </a:lnTo>
                    <a:lnTo>
                      <a:pt x="2549" y="685"/>
                    </a:lnTo>
                    <a:lnTo>
                      <a:pt x="2494" y="699"/>
                    </a:lnTo>
                    <a:lnTo>
                      <a:pt x="2436" y="711"/>
                    </a:lnTo>
                    <a:lnTo>
                      <a:pt x="2377" y="722"/>
                    </a:lnTo>
                    <a:lnTo>
                      <a:pt x="2314" y="732"/>
                    </a:lnTo>
                    <a:lnTo>
                      <a:pt x="2251" y="742"/>
                    </a:lnTo>
                    <a:lnTo>
                      <a:pt x="2185" y="751"/>
                    </a:lnTo>
                    <a:lnTo>
                      <a:pt x="2117" y="759"/>
                    </a:lnTo>
                    <a:lnTo>
                      <a:pt x="2049" y="766"/>
                    </a:lnTo>
                    <a:lnTo>
                      <a:pt x="1978" y="772"/>
                    </a:lnTo>
                    <a:lnTo>
                      <a:pt x="1905" y="778"/>
                    </a:lnTo>
                    <a:lnTo>
                      <a:pt x="1831" y="782"/>
                    </a:lnTo>
                    <a:lnTo>
                      <a:pt x="1757" y="786"/>
                    </a:lnTo>
                    <a:lnTo>
                      <a:pt x="1680" y="788"/>
                    </a:lnTo>
                    <a:lnTo>
                      <a:pt x="1603" y="790"/>
                    </a:lnTo>
                    <a:lnTo>
                      <a:pt x="1524" y="790"/>
                    </a:lnTo>
                    <a:lnTo>
                      <a:pt x="1446" y="790"/>
                    </a:lnTo>
                    <a:lnTo>
                      <a:pt x="1369" y="788"/>
                    </a:lnTo>
                    <a:lnTo>
                      <a:pt x="1292" y="786"/>
                    </a:lnTo>
                    <a:lnTo>
                      <a:pt x="1217" y="782"/>
                    </a:lnTo>
                    <a:lnTo>
                      <a:pt x="1144" y="778"/>
                    </a:lnTo>
                    <a:lnTo>
                      <a:pt x="1071" y="772"/>
                    </a:lnTo>
                    <a:lnTo>
                      <a:pt x="1000" y="766"/>
                    </a:lnTo>
                    <a:lnTo>
                      <a:pt x="932" y="759"/>
                    </a:lnTo>
                    <a:lnTo>
                      <a:pt x="864" y="751"/>
                    </a:lnTo>
                    <a:lnTo>
                      <a:pt x="798" y="742"/>
                    </a:lnTo>
                    <a:lnTo>
                      <a:pt x="735" y="732"/>
                    </a:lnTo>
                    <a:lnTo>
                      <a:pt x="673" y="722"/>
                    </a:lnTo>
                    <a:lnTo>
                      <a:pt x="612" y="711"/>
                    </a:lnTo>
                    <a:lnTo>
                      <a:pt x="555" y="699"/>
                    </a:lnTo>
                    <a:lnTo>
                      <a:pt x="500" y="685"/>
                    </a:lnTo>
                    <a:lnTo>
                      <a:pt x="447" y="672"/>
                    </a:lnTo>
                    <a:lnTo>
                      <a:pt x="396" y="658"/>
                    </a:lnTo>
                    <a:lnTo>
                      <a:pt x="349" y="644"/>
                    </a:lnTo>
                    <a:lnTo>
                      <a:pt x="303" y="629"/>
                    </a:lnTo>
                    <a:lnTo>
                      <a:pt x="261" y="613"/>
                    </a:lnTo>
                    <a:lnTo>
                      <a:pt x="222" y="597"/>
                    </a:lnTo>
                    <a:lnTo>
                      <a:pt x="184" y="579"/>
                    </a:lnTo>
                    <a:lnTo>
                      <a:pt x="151" y="562"/>
                    </a:lnTo>
                    <a:lnTo>
                      <a:pt x="121" y="544"/>
                    </a:lnTo>
                    <a:lnTo>
                      <a:pt x="93" y="526"/>
                    </a:lnTo>
                    <a:lnTo>
                      <a:pt x="69" y="507"/>
                    </a:lnTo>
                    <a:lnTo>
                      <a:pt x="49" y="488"/>
                    </a:lnTo>
                    <a:lnTo>
                      <a:pt x="32" y="468"/>
                    </a:lnTo>
                    <a:lnTo>
                      <a:pt x="19" y="448"/>
                    </a:lnTo>
                    <a:lnTo>
                      <a:pt x="9" y="428"/>
                    </a:lnTo>
                    <a:lnTo>
                      <a:pt x="2" y="408"/>
                    </a:lnTo>
                    <a:lnTo>
                      <a:pt x="0" y="387"/>
                    </a:lnTo>
                    <a:lnTo>
                      <a:pt x="2" y="365"/>
                    </a:lnTo>
                    <a:lnTo>
                      <a:pt x="9" y="345"/>
                    </a:lnTo>
                    <a:lnTo>
                      <a:pt x="19" y="325"/>
                    </a:lnTo>
                    <a:lnTo>
                      <a:pt x="32" y="306"/>
                    </a:lnTo>
                    <a:lnTo>
                      <a:pt x="49" y="287"/>
                    </a:lnTo>
                    <a:lnTo>
                      <a:pt x="69" y="269"/>
                    </a:lnTo>
                    <a:lnTo>
                      <a:pt x="93" y="249"/>
                    </a:lnTo>
                    <a:lnTo>
                      <a:pt x="121" y="232"/>
                    </a:lnTo>
                    <a:lnTo>
                      <a:pt x="151" y="215"/>
                    </a:lnTo>
                    <a:lnTo>
                      <a:pt x="184" y="198"/>
                    </a:lnTo>
                    <a:lnTo>
                      <a:pt x="222" y="182"/>
                    </a:lnTo>
                    <a:lnTo>
                      <a:pt x="261" y="167"/>
                    </a:lnTo>
                    <a:lnTo>
                      <a:pt x="303" y="151"/>
                    </a:lnTo>
                    <a:lnTo>
                      <a:pt x="349" y="136"/>
                    </a:lnTo>
                    <a:lnTo>
                      <a:pt x="396" y="123"/>
                    </a:lnTo>
                    <a:lnTo>
                      <a:pt x="447" y="110"/>
                    </a:lnTo>
                    <a:lnTo>
                      <a:pt x="500" y="97"/>
                    </a:lnTo>
                    <a:lnTo>
                      <a:pt x="555" y="85"/>
                    </a:lnTo>
                    <a:lnTo>
                      <a:pt x="612" y="74"/>
                    </a:lnTo>
                    <a:lnTo>
                      <a:pt x="673" y="64"/>
                    </a:lnTo>
                    <a:lnTo>
                      <a:pt x="735" y="54"/>
                    </a:lnTo>
                    <a:lnTo>
                      <a:pt x="798" y="44"/>
                    </a:lnTo>
                    <a:lnTo>
                      <a:pt x="864" y="36"/>
                    </a:lnTo>
                    <a:lnTo>
                      <a:pt x="932" y="29"/>
                    </a:lnTo>
                    <a:lnTo>
                      <a:pt x="1000" y="22"/>
                    </a:lnTo>
                    <a:lnTo>
                      <a:pt x="1071" y="16"/>
                    </a:lnTo>
                    <a:lnTo>
                      <a:pt x="1144" y="12"/>
                    </a:lnTo>
                    <a:lnTo>
                      <a:pt x="1217" y="7"/>
                    </a:lnTo>
                    <a:lnTo>
                      <a:pt x="1292" y="4"/>
                    </a:lnTo>
                    <a:lnTo>
                      <a:pt x="1369" y="2"/>
                    </a:lnTo>
                    <a:lnTo>
                      <a:pt x="1446" y="1"/>
                    </a:lnTo>
                    <a:lnTo>
                      <a:pt x="1524" y="0"/>
                    </a:lnTo>
                    <a:lnTo>
                      <a:pt x="1603" y="1"/>
                    </a:lnTo>
                    <a:lnTo>
                      <a:pt x="1680" y="2"/>
                    </a:lnTo>
                    <a:lnTo>
                      <a:pt x="1757" y="4"/>
                    </a:lnTo>
                    <a:lnTo>
                      <a:pt x="1831" y="7"/>
                    </a:lnTo>
                    <a:lnTo>
                      <a:pt x="1905" y="12"/>
                    </a:lnTo>
                    <a:lnTo>
                      <a:pt x="1978" y="16"/>
                    </a:lnTo>
                    <a:lnTo>
                      <a:pt x="2049" y="22"/>
                    </a:lnTo>
                    <a:lnTo>
                      <a:pt x="2117" y="29"/>
                    </a:lnTo>
                    <a:lnTo>
                      <a:pt x="2185" y="36"/>
                    </a:lnTo>
                    <a:lnTo>
                      <a:pt x="2251" y="44"/>
                    </a:lnTo>
                    <a:lnTo>
                      <a:pt x="2314" y="54"/>
                    </a:lnTo>
                    <a:lnTo>
                      <a:pt x="2377" y="64"/>
                    </a:lnTo>
                    <a:lnTo>
                      <a:pt x="2436" y="74"/>
                    </a:lnTo>
                    <a:lnTo>
                      <a:pt x="2494" y="85"/>
                    </a:lnTo>
                    <a:lnTo>
                      <a:pt x="2549" y="97"/>
                    </a:lnTo>
                    <a:lnTo>
                      <a:pt x="2602" y="110"/>
                    </a:lnTo>
                    <a:lnTo>
                      <a:pt x="2653" y="123"/>
                    </a:lnTo>
                    <a:lnTo>
                      <a:pt x="2700" y="136"/>
                    </a:lnTo>
                    <a:lnTo>
                      <a:pt x="2745" y="151"/>
                    </a:lnTo>
                    <a:lnTo>
                      <a:pt x="2788" y="167"/>
                    </a:lnTo>
                    <a:lnTo>
                      <a:pt x="2827" y="182"/>
                    </a:lnTo>
                    <a:lnTo>
                      <a:pt x="2865" y="198"/>
                    </a:lnTo>
                    <a:lnTo>
                      <a:pt x="2898" y="215"/>
                    </a:lnTo>
                    <a:lnTo>
                      <a:pt x="2928" y="232"/>
                    </a:lnTo>
                    <a:lnTo>
                      <a:pt x="2956" y="249"/>
                    </a:lnTo>
                    <a:lnTo>
                      <a:pt x="2980" y="269"/>
                    </a:lnTo>
                    <a:lnTo>
                      <a:pt x="3000" y="287"/>
                    </a:lnTo>
                    <a:lnTo>
                      <a:pt x="3017" y="306"/>
                    </a:lnTo>
                    <a:lnTo>
                      <a:pt x="3030" y="325"/>
                    </a:lnTo>
                    <a:lnTo>
                      <a:pt x="3040" y="345"/>
                    </a:lnTo>
                    <a:lnTo>
                      <a:pt x="3046" y="365"/>
                    </a:lnTo>
                    <a:lnTo>
                      <a:pt x="3048" y="3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980720" y="6511680"/>
                <a:ext cx="334440" cy="94680"/>
              </a:xfrm>
              <a:custGeom>
                <a:avLst/>
                <a:gdLst/>
                <a:ahLst/>
                <a:rect l="l" t="t" r="r" b="b"/>
                <a:pathLst>
                  <a:path w="3044" h="788">
                    <a:moveTo>
                      <a:pt x="3044" y="386"/>
                    </a:moveTo>
                    <a:lnTo>
                      <a:pt x="3042" y="407"/>
                    </a:lnTo>
                    <a:lnTo>
                      <a:pt x="3037" y="427"/>
                    </a:lnTo>
                    <a:lnTo>
                      <a:pt x="3027" y="447"/>
                    </a:lnTo>
                    <a:lnTo>
                      <a:pt x="3014" y="467"/>
                    </a:lnTo>
                    <a:lnTo>
                      <a:pt x="2997" y="487"/>
                    </a:lnTo>
                    <a:lnTo>
                      <a:pt x="2977" y="506"/>
                    </a:lnTo>
                    <a:lnTo>
                      <a:pt x="2953" y="524"/>
                    </a:lnTo>
                    <a:lnTo>
                      <a:pt x="2925" y="543"/>
                    </a:lnTo>
                    <a:lnTo>
                      <a:pt x="2895" y="560"/>
                    </a:lnTo>
                    <a:lnTo>
                      <a:pt x="2861" y="577"/>
                    </a:lnTo>
                    <a:lnTo>
                      <a:pt x="2824" y="595"/>
                    </a:lnTo>
                    <a:lnTo>
                      <a:pt x="2785" y="611"/>
                    </a:lnTo>
                    <a:lnTo>
                      <a:pt x="2742" y="627"/>
                    </a:lnTo>
                    <a:lnTo>
                      <a:pt x="2697" y="642"/>
                    </a:lnTo>
                    <a:lnTo>
                      <a:pt x="2650" y="657"/>
                    </a:lnTo>
                    <a:lnTo>
                      <a:pt x="2599" y="670"/>
                    </a:lnTo>
                    <a:lnTo>
                      <a:pt x="2547" y="684"/>
                    </a:lnTo>
                    <a:lnTo>
                      <a:pt x="2491" y="697"/>
                    </a:lnTo>
                    <a:lnTo>
                      <a:pt x="2433" y="709"/>
                    </a:lnTo>
                    <a:lnTo>
                      <a:pt x="2374" y="720"/>
                    </a:lnTo>
                    <a:lnTo>
                      <a:pt x="2312" y="731"/>
                    </a:lnTo>
                    <a:lnTo>
                      <a:pt x="2249" y="740"/>
                    </a:lnTo>
                    <a:lnTo>
                      <a:pt x="2183" y="749"/>
                    </a:lnTo>
                    <a:lnTo>
                      <a:pt x="2115" y="757"/>
                    </a:lnTo>
                    <a:lnTo>
                      <a:pt x="2046" y="764"/>
                    </a:lnTo>
                    <a:lnTo>
                      <a:pt x="1975" y="771"/>
                    </a:lnTo>
                    <a:lnTo>
                      <a:pt x="1903" y="776"/>
                    </a:lnTo>
                    <a:lnTo>
                      <a:pt x="1829" y="780"/>
                    </a:lnTo>
                    <a:lnTo>
                      <a:pt x="1755" y="784"/>
                    </a:lnTo>
                    <a:lnTo>
                      <a:pt x="1678" y="786"/>
                    </a:lnTo>
                    <a:lnTo>
                      <a:pt x="1601" y="788"/>
                    </a:lnTo>
                    <a:lnTo>
                      <a:pt x="1522" y="788"/>
                    </a:lnTo>
                    <a:lnTo>
                      <a:pt x="1445" y="788"/>
                    </a:lnTo>
                    <a:lnTo>
                      <a:pt x="1367" y="786"/>
                    </a:lnTo>
                    <a:lnTo>
                      <a:pt x="1291" y="784"/>
                    </a:lnTo>
                    <a:lnTo>
                      <a:pt x="1215" y="780"/>
                    </a:lnTo>
                    <a:lnTo>
                      <a:pt x="1142" y="776"/>
                    </a:lnTo>
                    <a:lnTo>
                      <a:pt x="1070" y="771"/>
                    </a:lnTo>
                    <a:lnTo>
                      <a:pt x="999" y="764"/>
                    </a:lnTo>
                    <a:lnTo>
                      <a:pt x="930" y="757"/>
                    </a:lnTo>
                    <a:lnTo>
                      <a:pt x="863" y="749"/>
                    </a:lnTo>
                    <a:lnTo>
                      <a:pt x="797" y="740"/>
                    </a:lnTo>
                    <a:lnTo>
                      <a:pt x="733" y="731"/>
                    </a:lnTo>
                    <a:lnTo>
                      <a:pt x="671" y="720"/>
                    </a:lnTo>
                    <a:lnTo>
                      <a:pt x="611" y="709"/>
                    </a:lnTo>
                    <a:lnTo>
                      <a:pt x="554" y="697"/>
                    </a:lnTo>
                    <a:lnTo>
                      <a:pt x="499" y="684"/>
                    </a:lnTo>
                    <a:lnTo>
                      <a:pt x="446" y="670"/>
                    </a:lnTo>
                    <a:lnTo>
                      <a:pt x="395" y="657"/>
                    </a:lnTo>
                    <a:lnTo>
                      <a:pt x="348" y="642"/>
                    </a:lnTo>
                    <a:lnTo>
                      <a:pt x="302" y="627"/>
                    </a:lnTo>
                    <a:lnTo>
                      <a:pt x="260" y="611"/>
                    </a:lnTo>
                    <a:lnTo>
                      <a:pt x="221" y="595"/>
                    </a:lnTo>
                    <a:lnTo>
                      <a:pt x="184" y="577"/>
                    </a:lnTo>
                    <a:lnTo>
                      <a:pt x="150" y="560"/>
                    </a:lnTo>
                    <a:lnTo>
                      <a:pt x="120" y="543"/>
                    </a:lnTo>
                    <a:lnTo>
                      <a:pt x="92" y="524"/>
                    </a:lnTo>
                    <a:lnTo>
                      <a:pt x="69" y="506"/>
                    </a:lnTo>
                    <a:lnTo>
                      <a:pt x="48" y="487"/>
                    </a:lnTo>
                    <a:lnTo>
                      <a:pt x="31" y="467"/>
                    </a:lnTo>
                    <a:lnTo>
                      <a:pt x="18" y="447"/>
                    </a:lnTo>
                    <a:lnTo>
                      <a:pt x="9" y="427"/>
                    </a:lnTo>
                    <a:lnTo>
                      <a:pt x="3" y="407"/>
                    </a:lnTo>
                    <a:lnTo>
                      <a:pt x="0" y="386"/>
                    </a:lnTo>
                    <a:lnTo>
                      <a:pt x="3" y="364"/>
                    </a:lnTo>
                    <a:lnTo>
                      <a:pt x="9" y="344"/>
                    </a:lnTo>
                    <a:lnTo>
                      <a:pt x="18" y="325"/>
                    </a:lnTo>
                    <a:lnTo>
                      <a:pt x="31" y="305"/>
                    </a:lnTo>
                    <a:lnTo>
                      <a:pt x="48" y="286"/>
                    </a:lnTo>
                    <a:lnTo>
                      <a:pt x="69" y="268"/>
                    </a:lnTo>
                    <a:lnTo>
                      <a:pt x="92" y="249"/>
                    </a:lnTo>
                    <a:lnTo>
                      <a:pt x="120" y="231"/>
                    </a:lnTo>
                    <a:lnTo>
                      <a:pt x="150" y="214"/>
                    </a:lnTo>
                    <a:lnTo>
                      <a:pt x="184" y="198"/>
                    </a:lnTo>
                    <a:lnTo>
                      <a:pt x="221" y="182"/>
                    </a:lnTo>
                    <a:lnTo>
                      <a:pt x="260" y="166"/>
                    </a:lnTo>
                    <a:lnTo>
                      <a:pt x="302" y="150"/>
                    </a:lnTo>
                    <a:lnTo>
                      <a:pt x="348" y="136"/>
                    </a:lnTo>
                    <a:lnTo>
                      <a:pt x="395" y="122"/>
                    </a:lnTo>
                    <a:lnTo>
                      <a:pt x="446" y="109"/>
                    </a:lnTo>
                    <a:lnTo>
                      <a:pt x="499" y="97"/>
                    </a:lnTo>
                    <a:lnTo>
                      <a:pt x="554" y="85"/>
                    </a:lnTo>
                    <a:lnTo>
                      <a:pt x="611" y="74"/>
                    </a:lnTo>
                    <a:lnTo>
                      <a:pt x="671" y="64"/>
                    </a:lnTo>
                    <a:lnTo>
                      <a:pt x="733" y="54"/>
                    </a:lnTo>
                    <a:lnTo>
                      <a:pt x="797" y="44"/>
                    </a:lnTo>
                    <a:lnTo>
                      <a:pt x="863" y="36"/>
                    </a:lnTo>
                    <a:lnTo>
                      <a:pt x="930" y="29"/>
                    </a:lnTo>
                    <a:lnTo>
                      <a:pt x="999" y="22"/>
                    </a:lnTo>
                    <a:lnTo>
                      <a:pt x="1070" y="16"/>
                    </a:lnTo>
                    <a:lnTo>
                      <a:pt x="1142" y="11"/>
                    </a:lnTo>
                    <a:lnTo>
                      <a:pt x="1215" y="7"/>
                    </a:lnTo>
                    <a:lnTo>
                      <a:pt x="1291" y="4"/>
                    </a:lnTo>
                    <a:lnTo>
                      <a:pt x="1367" y="2"/>
                    </a:lnTo>
                    <a:lnTo>
                      <a:pt x="1445" y="0"/>
                    </a:lnTo>
                    <a:lnTo>
                      <a:pt x="1522" y="0"/>
                    </a:lnTo>
                    <a:lnTo>
                      <a:pt x="1601" y="0"/>
                    </a:lnTo>
                    <a:lnTo>
                      <a:pt x="1678" y="2"/>
                    </a:lnTo>
                    <a:lnTo>
                      <a:pt x="1755" y="4"/>
                    </a:lnTo>
                    <a:lnTo>
                      <a:pt x="1829" y="7"/>
                    </a:lnTo>
                    <a:lnTo>
                      <a:pt x="1903" y="11"/>
                    </a:lnTo>
                    <a:lnTo>
                      <a:pt x="1975" y="16"/>
                    </a:lnTo>
                    <a:lnTo>
                      <a:pt x="2046" y="22"/>
                    </a:lnTo>
                    <a:lnTo>
                      <a:pt x="2115" y="29"/>
                    </a:lnTo>
                    <a:lnTo>
                      <a:pt x="2183" y="36"/>
                    </a:lnTo>
                    <a:lnTo>
                      <a:pt x="2249" y="44"/>
                    </a:lnTo>
                    <a:lnTo>
                      <a:pt x="2312" y="54"/>
                    </a:lnTo>
                    <a:lnTo>
                      <a:pt x="2374" y="64"/>
                    </a:lnTo>
                    <a:lnTo>
                      <a:pt x="2433" y="74"/>
                    </a:lnTo>
                    <a:lnTo>
                      <a:pt x="2491" y="85"/>
                    </a:lnTo>
                    <a:lnTo>
                      <a:pt x="2547" y="97"/>
                    </a:lnTo>
                    <a:lnTo>
                      <a:pt x="2599" y="109"/>
                    </a:lnTo>
                    <a:lnTo>
                      <a:pt x="2650" y="122"/>
                    </a:lnTo>
                    <a:lnTo>
                      <a:pt x="2697" y="136"/>
                    </a:lnTo>
                    <a:lnTo>
                      <a:pt x="2742" y="150"/>
                    </a:lnTo>
                    <a:lnTo>
                      <a:pt x="2785" y="166"/>
                    </a:lnTo>
                    <a:lnTo>
                      <a:pt x="2824" y="182"/>
                    </a:lnTo>
                    <a:lnTo>
                      <a:pt x="2861" y="198"/>
                    </a:lnTo>
                    <a:lnTo>
                      <a:pt x="2895" y="214"/>
                    </a:lnTo>
                    <a:lnTo>
                      <a:pt x="2925" y="231"/>
                    </a:lnTo>
                    <a:lnTo>
                      <a:pt x="2953" y="249"/>
                    </a:lnTo>
                    <a:lnTo>
                      <a:pt x="2977" y="268"/>
                    </a:lnTo>
                    <a:lnTo>
                      <a:pt x="2997" y="286"/>
                    </a:lnTo>
                    <a:lnTo>
                      <a:pt x="3014" y="305"/>
                    </a:lnTo>
                    <a:lnTo>
                      <a:pt x="3027" y="325"/>
                    </a:lnTo>
                    <a:lnTo>
                      <a:pt x="3037" y="344"/>
                    </a:lnTo>
                    <a:lnTo>
                      <a:pt x="3042" y="364"/>
                    </a:lnTo>
                    <a:lnTo>
                      <a:pt x="3044" y="3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980720" y="6511680"/>
                <a:ext cx="334440" cy="94680"/>
              </a:xfrm>
              <a:custGeom>
                <a:avLst/>
                <a:gdLst/>
                <a:ahLst/>
                <a:rect l="l" t="t" r="r" b="b"/>
                <a:pathLst>
                  <a:path w="3042" h="787">
                    <a:moveTo>
                      <a:pt x="3042" y="385"/>
                    </a:moveTo>
                    <a:lnTo>
                      <a:pt x="3040" y="406"/>
                    </a:lnTo>
                    <a:lnTo>
                      <a:pt x="3034" y="426"/>
                    </a:lnTo>
                    <a:lnTo>
                      <a:pt x="3025" y="446"/>
                    </a:lnTo>
                    <a:lnTo>
                      <a:pt x="3011" y="465"/>
                    </a:lnTo>
                    <a:lnTo>
                      <a:pt x="2995" y="486"/>
                    </a:lnTo>
                    <a:lnTo>
                      <a:pt x="2974" y="505"/>
                    </a:lnTo>
                    <a:lnTo>
                      <a:pt x="2951" y="523"/>
                    </a:lnTo>
                    <a:lnTo>
                      <a:pt x="2923" y="541"/>
                    </a:lnTo>
                    <a:lnTo>
                      <a:pt x="2892" y="559"/>
                    </a:lnTo>
                    <a:lnTo>
                      <a:pt x="2859" y="576"/>
                    </a:lnTo>
                    <a:lnTo>
                      <a:pt x="2822" y="594"/>
                    </a:lnTo>
                    <a:lnTo>
                      <a:pt x="2783" y="610"/>
                    </a:lnTo>
                    <a:lnTo>
                      <a:pt x="2740" y="626"/>
                    </a:lnTo>
                    <a:lnTo>
                      <a:pt x="2695" y="641"/>
                    </a:lnTo>
                    <a:lnTo>
                      <a:pt x="2648" y="655"/>
                    </a:lnTo>
                    <a:lnTo>
                      <a:pt x="2597" y="669"/>
                    </a:lnTo>
                    <a:lnTo>
                      <a:pt x="2545" y="682"/>
                    </a:lnTo>
                    <a:lnTo>
                      <a:pt x="2489" y="696"/>
                    </a:lnTo>
                    <a:lnTo>
                      <a:pt x="2431" y="707"/>
                    </a:lnTo>
                    <a:lnTo>
                      <a:pt x="2372" y="719"/>
                    </a:lnTo>
                    <a:lnTo>
                      <a:pt x="2310" y="729"/>
                    </a:lnTo>
                    <a:lnTo>
                      <a:pt x="2247" y="739"/>
                    </a:lnTo>
                    <a:lnTo>
                      <a:pt x="2181" y="747"/>
                    </a:lnTo>
                    <a:lnTo>
                      <a:pt x="2113" y="755"/>
                    </a:lnTo>
                    <a:lnTo>
                      <a:pt x="2045" y="762"/>
                    </a:lnTo>
                    <a:lnTo>
                      <a:pt x="1974" y="769"/>
                    </a:lnTo>
                    <a:lnTo>
                      <a:pt x="1901" y="774"/>
                    </a:lnTo>
                    <a:lnTo>
                      <a:pt x="1828" y="778"/>
                    </a:lnTo>
                    <a:lnTo>
                      <a:pt x="1753" y="782"/>
                    </a:lnTo>
                    <a:lnTo>
                      <a:pt x="1677" y="785"/>
                    </a:lnTo>
                    <a:lnTo>
                      <a:pt x="1600" y="786"/>
                    </a:lnTo>
                    <a:lnTo>
                      <a:pt x="1521" y="787"/>
                    </a:lnTo>
                    <a:lnTo>
                      <a:pt x="1444" y="786"/>
                    </a:lnTo>
                    <a:lnTo>
                      <a:pt x="1366" y="785"/>
                    </a:lnTo>
                    <a:lnTo>
                      <a:pt x="1290" y="782"/>
                    </a:lnTo>
                    <a:lnTo>
                      <a:pt x="1215" y="778"/>
                    </a:lnTo>
                    <a:lnTo>
                      <a:pt x="1142" y="774"/>
                    </a:lnTo>
                    <a:lnTo>
                      <a:pt x="1069" y="769"/>
                    </a:lnTo>
                    <a:lnTo>
                      <a:pt x="998" y="762"/>
                    </a:lnTo>
                    <a:lnTo>
                      <a:pt x="930" y="755"/>
                    </a:lnTo>
                    <a:lnTo>
                      <a:pt x="862" y="747"/>
                    </a:lnTo>
                    <a:lnTo>
                      <a:pt x="796" y="739"/>
                    </a:lnTo>
                    <a:lnTo>
                      <a:pt x="733" y="729"/>
                    </a:lnTo>
                    <a:lnTo>
                      <a:pt x="671" y="719"/>
                    </a:lnTo>
                    <a:lnTo>
                      <a:pt x="612" y="707"/>
                    </a:lnTo>
                    <a:lnTo>
                      <a:pt x="554" y="696"/>
                    </a:lnTo>
                    <a:lnTo>
                      <a:pt x="499" y="682"/>
                    </a:lnTo>
                    <a:lnTo>
                      <a:pt x="446" y="669"/>
                    </a:lnTo>
                    <a:lnTo>
                      <a:pt x="395" y="655"/>
                    </a:lnTo>
                    <a:lnTo>
                      <a:pt x="348" y="641"/>
                    </a:lnTo>
                    <a:lnTo>
                      <a:pt x="302" y="626"/>
                    </a:lnTo>
                    <a:lnTo>
                      <a:pt x="260" y="610"/>
                    </a:lnTo>
                    <a:lnTo>
                      <a:pt x="221" y="594"/>
                    </a:lnTo>
                    <a:lnTo>
                      <a:pt x="184" y="576"/>
                    </a:lnTo>
                    <a:lnTo>
                      <a:pt x="151" y="559"/>
                    </a:lnTo>
                    <a:lnTo>
                      <a:pt x="121" y="541"/>
                    </a:lnTo>
                    <a:lnTo>
                      <a:pt x="93" y="523"/>
                    </a:lnTo>
                    <a:lnTo>
                      <a:pt x="69" y="505"/>
                    </a:lnTo>
                    <a:lnTo>
                      <a:pt x="49" y="486"/>
                    </a:lnTo>
                    <a:lnTo>
                      <a:pt x="32" y="465"/>
                    </a:lnTo>
                    <a:lnTo>
                      <a:pt x="19" y="446"/>
                    </a:lnTo>
                    <a:lnTo>
                      <a:pt x="9" y="426"/>
                    </a:lnTo>
                    <a:lnTo>
                      <a:pt x="3" y="406"/>
                    </a:lnTo>
                    <a:lnTo>
                      <a:pt x="0" y="385"/>
                    </a:lnTo>
                    <a:lnTo>
                      <a:pt x="3" y="364"/>
                    </a:lnTo>
                    <a:lnTo>
                      <a:pt x="9" y="343"/>
                    </a:lnTo>
                    <a:lnTo>
                      <a:pt x="19" y="324"/>
                    </a:lnTo>
                    <a:lnTo>
                      <a:pt x="32" y="304"/>
                    </a:lnTo>
                    <a:lnTo>
                      <a:pt x="49" y="286"/>
                    </a:lnTo>
                    <a:lnTo>
                      <a:pt x="69" y="267"/>
                    </a:lnTo>
                    <a:lnTo>
                      <a:pt x="93" y="248"/>
                    </a:lnTo>
                    <a:lnTo>
                      <a:pt x="121" y="231"/>
                    </a:lnTo>
                    <a:lnTo>
                      <a:pt x="151" y="214"/>
                    </a:lnTo>
                    <a:lnTo>
                      <a:pt x="184" y="197"/>
                    </a:lnTo>
                    <a:lnTo>
                      <a:pt x="221" y="181"/>
                    </a:lnTo>
                    <a:lnTo>
                      <a:pt x="260" y="166"/>
                    </a:lnTo>
                    <a:lnTo>
                      <a:pt x="302" y="150"/>
                    </a:lnTo>
                    <a:lnTo>
                      <a:pt x="348" y="136"/>
                    </a:lnTo>
                    <a:lnTo>
                      <a:pt x="395" y="122"/>
                    </a:lnTo>
                    <a:lnTo>
                      <a:pt x="446" y="109"/>
                    </a:lnTo>
                    <a:lnTo>
                      <a:pt x="499" y="97"/>
                    </a:lnTo>
                    <a:lnTo>
                      <a:pt x="554" y="85"/>
                    </a:lnTo>
                    <a:lnTo>
                      <a:pt x="612" y="74"/>
                    </a:lnTo>
                    <a:lnTo>
                      <a:pt x="671" y="63"/>
                    </a:lnTo>
                    <a:lnTo>
                      <a:pt x="733" y="54"/>
                    </a:lnTo>
                    <a:lnTo>
                      <a:pt x="796" y="44"/>
                    </a:lnTo>
                    <a:lnTo>
                      <a:pt x="862" y="36"/>
                    </a:lnTo>
                    <a:lnTo>
                      <a:pt x="930" y="28"/>
                    </a:lnTo>
                    <a:lnTo>
                      <a:pt x="998" y="22"/>
                    </a:lnTo>
                    <a:lnTo>
                      <a:pt x="1069" y="16"/>
                    </a:lnTo>
                    <a:lnTo>
                      <a:pt x="1142" y="11"/>
                    </a:lnTo>
                    <a:lnTo>
                      <a:pt x="1215" y="7"/>
                    </a:lnTo>
                    <a:lnTo>
                      <a:pt x="1290" y="4"/>
                    </a:lnTo>
                    <a:lnTo>
                      <a:pt x="1366" y="2"/>
                    </a:lnTo>
                    <a:lnTo>
                      <a:pt x="1444" y="0"/>
                    </a:lnTo>
                    <a:lnTo>
                      <a:pt x="1521" y="0"/>
                    </a:lnTo>
                    <a:lnTo>
                      <a:pt x="1600" y="0"/>
                    </a:lnTo>
                    <a:lnTo>
                      <a:pt x="1677" y="2"/>
                    </a:lnTo>
                    <a:lnTo>
                      <a:pt x="1753" y="4"/>
                    </a:lnTo>
                    <a:lnTo>
                      <a:pt x="1828" y="7"/>
                    </a:lnTo>
                    <a:lnTo>
                      <a:pt x="1901" y="11"/>
                    </a:lnTo>
                    <a:lnTo>
                      <a:pt x="1974" y="16"/>
                    </a:lnTo>
                    <a:lnTo>
                      <a:pt x="2045" y="22"/>
                    </a:lnTo>
                    <a:lnTo>
                      <a:pt x="2113" y="28"/>
                    </a:lnTo>
                    <a:lnTo>
                      <a:pt x="2181" y="36"/>
                    </a:lnTo>
                    <a:lnTo>
                      <a:pt x="2247" y="44"/>
                    </a:lnTo>
                    <a:lnTo>
                      <a:pt x="2310" y="54"/>
                    </a:lnTo>
                    <a:lnTo>
                      <a:pt x="2372" y="63"/>
                    </a:lnTo>
                    <a:lnTo>
                      <a:pt x="2431" y="74"/>
                    </a:lnTo>
                    <a:lnTo>
                      <a:pt x="2489" y="85"/>
                    </a:lnTo>
                    <a:lnTo>
                      <a:pt x="2545" y="97"/>
                    </a:lnTo>
                    <a:lnTo>
                      <a:pt x="2597" y="109"/>
                    </a:lnTo>
                    <a:lnTo>
                      <a:pt x="2648" y="122"/>
                    </a:lnTo>
                    <a:lnTo>
                      <a:pt x="2695" y="136"/>
                    </a:lnTo>
                    <a:lnTo>
                      <a:pt x="2740" y="150"/>
                    </a:lnTo>
                    <a:lnTo>
                      <a:pt x="2783" y="166"/>
                    </a:lnTo>
                    <a:lnTo>
                      <a:pt x="2822" y="181"/>
                    </a:lnTo>
                    <a:lnTo>
                      <a:pt x="2859" y="197"/>
                    </a:lnTo>
                    <a:lnTo>
                      <a:pt x="2892" y="214"/>
                    </a:lnTo>
                    <a:lnTo>
                      <a:pt x="2923" y="231"/>
                    </a:lnTo>
                    <a:lnTo>
                      <a:pt x="2951" y="248"/>
                    </a:lnTo>
                    <a:lnTo>
                      <a:pt x="2974" y="267"/>
                    </a:lnTo>
                    <a:lnTo>
                      <a:pt x="2995" y="286"/>
                    </a:lnTo>
                    <a:lnTo>
                      <a:pt x="3011" y="304"/>
                    </a:lnTo>
                    <a:lnTo>
                      <a:pt x="3025" y="324"/>
                    </a:lnTo>
                    <a:lnTo>
                      <a:pt x="3034" y="343"/>
                    </a:lnTo>
                    <a:lnTo>
                      <a:pt x="3040" y="364"/>
                    </a:lnTo>
                    <a:lnTo>
                      <a:pt x="3042" y="3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980720" y="6511680"/>
                <a:ext cx="334440" cy="94680"/>
              </a:xfrm>
              <a:custGeom>
                <a:avLst/>
                <a:gdLst/>
                <a:ahLst/>
                <a:rect l="l" t="t" r="r" b="b"/>
                <a:pathLst>
                  <a:path w="3037" h="785">
                    <a:moveTo>
                      <a:pt x="3037" y="384"/>
                    </a:moveTo>
                    <a:lnTo>
                      <a:pt x="3036" y="404"/>
                    </a:lnTo>
                    <a:lnTo>
                      <a:pt x="3030" y="425"/>
                    </a:lnTo>
                    <a:lnTo>
                      <a:pt x="3020" y="445"/>
                    </a:lnTo>
                    <a:lnTo>
                      <a:pt x="3007" y="464"/>
                    </a:lnTo>
                    <a:lnTo>
                      <a:pt x="2990" y="484"/>
                    </a:lnTo>
                    <a:lnTo>
                      <a:pt x="2970" y="503"/>
                    </a:lnTo>
                    <a:lnTo>
                      <a:pt x="2946" y="522"/>
                    </a:lnTo>
                    <a:lnTo>
                      <a:pt x="2918" y="540"/>
                    </a:lnTo>
                    <a:lnTo>
                      <a:pt x="2888" y="557"/>
                    </a:lnTo>
                    <a:lnTo>
                      <a:pt x="2855" y="575"/>
                    </a:lnTo>
                    <a:lnTo>
                      <a:pt x="2818" y="592"/>
                    </a:lnTo>
                    <a:lnTo>
                      <a:pt x="2779" y="608"/>
                    </a:lnTo>
                    <a:lnTo>
                      <a:pt x="2736" y="624"/>
                    </a:lnTo>
                    <a:lnTo>
                      <a:pt x="2691" y="639"/>
                    </a:lnTo>
                    <a:lnTo>
                      <a:pt x="2644" y="653"/>
                    </a:lnTo>
                    <a:lnTo>
                      <a:pt x="2593" y="667"/>
                    </a:lnTo>
                    <a:lnTo>
                      <a:pt x="2541" y="680"/>
                    </a:lnTo>
                    <a:lnTo>
                      <a:pt x="2485" y="694"/>
                    </a:lnTo>
                    <a:lnTo>
                      <a:pt x="2427" y="706"/>
                    </a:lnTo>
                    <a:lnTo>
                      <a:pt x="2368" y="717"/>
                    </a:lnTo>
                    <a:lnTo>
                      <a:pt x="2306" y="727"/>
                    </a:lnTo>
                    <a:lnTo>
                      <a:pt x="2243" y="737"/>
                    </a:lnTo>
                    <a:lnTo>
                      <a:pt x="2177" y="745"/>
                    </a:lnTo>
                    <a:lnTo>
                      <a:pt x="2110" y="753"/>
                    </a:lnTo>
                    <a:lnTo>
                      <a:pt x="2041" y="761"/>
                    </a:lnTo>
                    <a:lnTo>
                      <a:pt x="1970" y="767"/>
                    </a:lnTo>
                    <a:lnTo>
                      <a:pt x="1898" y="772"/>
                    </a:lnTo>
                    <a:lnTo>
                      <a:pt x="1824" y="777"/>
                    </a:lnTo>
                    <a:lnTo>
                      <a:pt x="1750" y="780"/>
                    </a:lnTo>
                    <a:lnTo>
                      <a:pt x="1674" y="783"/>
                    </a:lnTo>
                    <a:lnTo>
                      <a:pt x="1596" y="784"/>
                    </a:lnTo>
                    <a:lnTo>
                      <a:pt x="1518" y="785"/>
                    </a:lnTo>
                    <a:lnTo>
                      <a:pt x="1441" y="784"/>
                    </a:lnTo>
                    <a:lnTo>
                      <a:pt x="1363" y="783"/>
                    </a:lnTo>
                    <a:lnTo>
                      <a:pt x="1287" y="780"/>
                    </a:lnTo>
                    <a:lnTo>
                      <a:pt x="1212" y="777"/>
                    </a:lnTo>
                    <a:lnTo>
                      <a:pt x="1139" y="772"/>
                    </a:lnTo>
                    <a:lnTo>
                      <a:pt x="1067" y="767"/>
                    </a:lnTo>
                    <a:lnTo>
                      <a:pt x="996" y="761"/>
                    </a:lnTo>
                    <a:lnTo>
                      <a:pt x="927" y="753"/>
                    </a:lnTo>
                    <a:lnTo>
                      <a:pt x="860" y="745"/>
                    </a:lnTo>
                    <a:lnTo>
                      <a:pt x="794" y="737"/>
                    </a:lnTo>
                    <a:lnTo>
                      <a:pt x="731" y="727"/>
                    </a:lnTo>
                    <a:lnTo>
                      <a:pt x="669" y="717"/>
                    </a:lnTo>
                    <a:lnTo>
                      <a:pt x="610" y="706"/>
                    </a:lnTo>
                    <a:lnTo>
                      <a:pt x="552" y="694"/>
                    </a:lnTo>
                    <a:lnTo>
                      <a:pt x="497" y="680"/>
                    </a:lnTo>
                    <a:lnTo>
                      <a:pt x="444" y="667"/>
                    </a:lnTo>
                    <a:lnTo>
                      <a:pt x="393" y="653"/>
                    </a:lnTo>
                    <a:lnTo>
                      <a:pt x="346" y="639"/>
                    </a:lnTo>
                    <a:lnTo>
                      <a:pt x="301" y="624"/>
                    </a:lnTo>
                    <a:lnTo>
                      <a:pt x="259" y="608"/>
                    </a:lnTo>
                    <a:lnTo>
                      <a:pt x="219" y="592"/>
                    </a:lnTo>
                    <a:lnTo>
                      <a:pt x="182" y="575"/>
                    </a:lnTo>
                    <a:lnTo>
                      <a:pt x="149" y="557"/>
                    </a:lnTo>
                    <a:lnTo>
                      <a:pt x="119" y="540"/>
                    </a:lnTo>
                    <a:lnTo>
                      <a:pt x="91" y="522"/>
                    </a:lnTo>
                    <a:lnTo>
                      <a:pt x="67" y="503"/>
                    </a:lnTo>
                    <a:lnTo>
                      <a:pt x="47" y="484"/>
                    </a:lnTo>
                    <a:lnTo>
                      <a:pt x="30" y="464"/>
                    </a:lnTo>
                    <a:lnTo>
                      <a:pt x="17" y="445"/>
                    </a:lnTo>
                    <a:lnTo>
                      <a:pt x="7" y="425"/>
                    </a:lnTo>
                    <a:lnTo>
                      <a:pt x="2" y="404"/>
                    </a:lnTo>
                    <a:lnTo>
                      <a:pt x="0" y="384"/>
                    </a:lnTo>
                    <a:lnTo>
                      <a:pt x="2" y="363"/>
                    </a:lnTo>
                    <a:lnTo>
                      <a:pt x="7" y="343"/>
                    </a:lnTo>
                    <a:lnTo>
                      <a:pt x="17" y="323"/>
                    </a:lnTo>
                    <a:lnTo>
                      <a:pt x="30" y="304"/>
                    </a:lnTo>
                    <a:lnTo>
                      <a:pt x="47" y="285"/>
                    </a:lnTo>
                    <a:lnTo>
                      <a:pt x="67" y="266"/>
                    </a:lnTo>
                    <a:lnTo>
                      <a:pt x="91" y="247"/>
                    </a:lnTo>
                    <a:lnTo>
                      <a:pt x="119" y="230"/>
                    </a:lnTo>
                    <a:lnTo>
                      <a:pt x="149" y="213"/>
                    </a:lnTo>
                    <a:lnTo>
                      <a:pt x="182" y="197"/>
                    </a:lnTo>
                    <a:lnTo>
                      <a:pt x="219" y="181"/>
                    </a:lnTo>
                    <a:lnTo>
                      <a:pt x="259" y="165"/>
                    </a:lnTo>
                    <a:lnTo>
                      <a:pt x="301" y="149"/>
                    </a:lnTo>
                    <a:lnTo>
                      <a:pt x="346" y="135"/>
                    </a:lnTo>
                    <a:lnTo>
                      <a:pt x="393" y="122"/>
                    </a:lnTo>
                    <a:lnTo>
                      <a:pt x="444" y="109"/>
                    </a:lnTo>
                    <a:lnTo>
                      <a:pt x="497" y="96"/>
                    </a:lnTo>
                    <a:lnTo>
                      <a:pt x="552" y="85"/>
                    </a:lnTo>
                    <a:lnTo>
                      <a:pt x="610" y="74"/>
                    </a:lnTo>
                    <a:lnTo>
                      <a:pt x="669" y="63"/>
                    </a:lnTo>
                    <a:lnTo>
                      <a:pt x="731" y="54"/>
                    </a:lnTo>
                    <a:lnTo>
                      <a:pt x="794" y="44"/>
                    </a:lnTo>
                    <a:lnTo>
                      <a:pt x="860" y="36"/>
                    </a:lnTo>
                    <a:lnTo>
                      <a:pt x="927" y="28"/>
                    </a:lnTo>
                    <a:lnTo>
                      <a:pt x="996" y="22"/>
                    </a:lnTo>
                    <a:lnTo>
                      <a:pt x="1067" y="16"/>
                    </a:lnTo>
                    <a:lnTo>
                      <a:pt x="1139" y="11"/>
                    </a:lnTo>
                    <a:lnTo>
                      <a:pt x="1212" y="7"/>
                    </a:lnTo>
                    <a:lnTo>
                      <a:pt x="1287" y="4"/>
                    </a:lnTo>
                    <a:lnTo>
                      <a:pt x="1363" y="2"/>
                    </a:lnTo>
                    <a:lnTo>
                      <a:pt x="1441" y="0"/>
                    </a:lnTo>
                    <a:lnTo>
                      <a:pt x="1518" y="0"/>
                    </a:lnTo>
                    <a:lnTo>
                      <a:pt x="1596" y="0"/>
                    </a:lnTo>
                    <a:lnTo>
                      <a:pt x="1674" y="2"/>
                    </a:lnTo>
                    <a:lnTo>
                      <a:pt x="1750" y="4"/>
                    </a:lnTo>
                    <a:lnTo>
                      <a:pt x="1824" y="7"/>
                    </a:lnTo>
                    <a:lnTo>
                      <a:pt x="1898" y="11"/>
                    </a:lnTo>
                    <a:lnTo>
                      <a:pt x="1970" y="16"/>
                    </a:lnTo>
                    <a:lnTo>
                      <a:pt x="2041" y="22"/>
                    </a:lnTo>
                    <a:lnTo>
                      <a:pt x="2110" y="28"/>
                    </a:lnTo>
                    <a:lnTo>
                      <a:pt x="2177" y="36"/>
                    </a:lnTo>
                    <a:lnTo>
                      <a:pt x="2243" y="44"/>
                    </a:lnTo>
                    <a:lnTo>
                      <a:pt x="2306" y="54"/>
                    </a:lnTo>
                    <a:lnTo>
                      <a:pt x="2368" y="63"/>
                    </a:lnTo>
                    <a:lnTo>
                      <a:pt x="2427" y="74"/>
                    </a:lnTo>
                    <a:lnTo>
                      <a:pt x="2485" y="85"/>
                    </a:lnTo>
                    <a:lnTo>
                      <a:pt x="2541" y="96"/>
                    </a:lnTo>
                    <a:lnTo>
                      <a:pt x="2593" y="109"/>
                    </a:lnTo>
                    <a:lnTo>
                      <a:pt x="2644" y="122"/>
                    </a:lnTo>
                    <a:lnTo>
                      <a:pt x="2691" y="135"/>
                    </a:lnTo>
                    <a:lnTo>
                      <a:pt x="2736" y="149"/>
                    </a:lnTo>
                    <a:lnTo>
                      <a:pt x="2779" y="165"/>
                    </a:lnTo>
                    <a:lnTo>
                      <a:pt x="2818" y="181"/>
                    </a:lnTo>
                    <a:lnTo>
                      <a:pt x="2855" y="197"/>
                    </a:lnTo>
                    <a:lnTo>
                      <a:pt x="2888" y="213"/>
                    </a:lnTo>
                    <a:lnTo>
                      <a:pt x="2918" y="230"/>
                    </a:lnTo>
                    <a:lnTo>
                      <a:pt x="2946" y="247"/>
                    </a:lnTo>
                    <a:lnTo>
                      <a:pt x="2970" y="266"/>
                    </a:lnTo>
                    <a:lnTo>
                      <a:pt x="2990" y="285"/>
                    </a:lnTo>
                    <a:lnTo>
                      <a:pt x="3007" y="304"/>
                    </a:lnTo>
                    <a:lnTo>
                      <a:pt x="3020" y="323"/>
                    </a:lnTo>
                    <a:lnTo>
                      <a:pt x="3030" y="343"/>
                    </a:lnTo>
                    <a:lnTo>
                      <a:pt x="3036" y="363"/>
                    </a:lnTo>
                    <a:lnTo>
                      <a:pt x="3037" y="3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980720" y="6511680"/>
                <a:ext cx="334440" cy="93240"/>
              </a:xfrm>
              <a:custGeom>
                <a:avLst/>
                <a:gdLst/>
                <a:ahLst/>
                <a:rect l="l" t="t" r="r" b="b"/>
                <a:pathLst>
                  <a:path w="3035" h="783">
                    <a:moveTo>
                      <a:pt x="3035" y="383"/>
                    </a:moveTo>
                    <a:lnTo>
                      <a:pt x="3033" y="403"/>
                    </a:lnTo>
                    <a:lnTo>
                      <a:pt x="3027" y="424"/>
                    </a:lnTo>
                    <a:lnTo>
                      <a:pt x="3018" y="443"/>
                    </a:lnTo>
                    <a:lnTo>
                      <a:pt x="3005" y="463"/>
                    </a:lnTo>
                    <a:lnTo>
                      <a:pt x="2988" y="483"/>
                    </a:lnTo>
                    <a:lnTo>
                      <a:pt x="2967" y="502"/>
                    </a:lnTo>
                    <a:lnTo>
                      <a:pt x="2943" y="520"/>
                    </a:lnTo>
                    <a:lnTo>
                      <a:pt x="2916" y="538"/>
                    </a:lnTo>
                    <a:lnTo>
                      <a:pt x="2886" y="556"/>
                    </a:lnTo>
                    <a:lnTo>
                      <a:pt x="2853" y="573"/>
                    </a:lnTo>
                    <a:lnTo>
                      <a:pt x="2815" y="591"/>
                    </a:lnTo>
                    <a:lnTo>
                      <a:pt x="2776" y="607"/>
                    </a:lnTo>
                    <a:lnTo>
                      <a:pt x="2733" y="622"/>
                    </a:lnTo>
                    <a:lnTo>
                      <a:pt x="2689" y="637"/>
                    </a:lnTo>
                    <a:lnTo>
                      <a:pt x="2642" y="652"/>
                    </a:lnTo>
                    <a:lnTo>
                      <a:pt x="2591" y="666"/>
                    </a:lnTo>
                    <a:lnTo>
                      <a:pt x="2539" y="679"/>
                    </a:lnTo>
                    <a:lnTo>
                      <a:pt x="2483" y="692"/>
                    </a:lnTo>
                    <a:lnTo>
                      <a:pt x="2425" y="704"/>
                    </a:lnTo>
                    <a:lnTo>
                      <a:pt x="2366" y="715"/>
                    </a:lnTo>
                    <a:lnTo>
                      <a:pt x="2304" y="725"/>
                    </a:lnTo>
                    <a:lnTo>
                      <a:pt x="2241" y="735"/>
                    </a:lnTo>
                    <a:lnTo>
                      <a:pt x="2176" y="744"/>
                    </a:lnTo>
                    <a:lnTo>
                      <a:pt x="2108" y="752"/>
                    </a:lnTo>
                    <a:lnTo>
                      <a:pt x="2040" y="759"/>
                    </a:lnTo>
                    <a:lnTo>
                      <a:pt x="1969" y="765"/>
                    </a:lnTo>
                    <a:lnTo>
                      <a:pt x="1897" y="770"/>
                    </a:lnTo>
                    <a:lnTo>
                      <a:pt x="1823" y="775"/>
                    </a:lnTo>
                    <a:lnTo>
                      <a:pt x="1749" y="778"/>
                    </a:lnTo>
                    <a:lnTo>
                      <a:pt x="1673" y="781"/>
                    </a:lnTo>
                    <a:lnTo>
                      <a:pt x="1595" y="782"/>
                    </a:lnTo>
                    <a:lnTo>
                      <a:pt x="1517" y="783"/>
                    </a:lnTo>
                    <a:lnTo>
                      <a:pt x="1440" y="782"/>
                    </a:lnTo>
                    <a:lnTo>
                      <a:pt x="1362" y="781"/>
                    </a:lnTo>
                    <a:lnTo>
                      <a:pt x="1286" y="778"/>
                    </a:lnTo>
                    <a:lnTo>
                      <a:pt x="1211" y="775"/>
                    </a:lnTo>
                    <a:lnTo>
                      <a:pt x="1138" y="770"/>
                    </a:lnTo>
                    <a:lnTo>
                      <a:pt x="1066" y="765"/>
                    </a:lnTo>
                    <a:lnTo>
                      <a:pt x="995" y="759"/>
                    </a:lnTo>
                    <a:lnTo>
                      <a:pt x="927" y="752"/>
                    </a:lnTo>
                    <a:lnTo>
                      <a:pt x="859" y="744"/>
                    </a:lnTo>
                    <a:lnTo>
                      <a:pt x="794" y="735"/>
                    </a:lnTo>
                    <a:lnTo>
                      <a:pt x="731" y="725"/>
                    </a:lnTo>
                    <a:lnTo>
                      <a:pt x="669" y="715"/>
                    </a:lnTo>
                    <a:lnTo>
                      <a:pt x="610" y="704"/>
                    </a:lnTo>
                    <a:lnTo>
                      <a:pt x="552" y="692"/>
                    </a:lnTo>
                    <a:lnTo>
                      <a:pt x="496" y="679"/>
                    </a:lnTo>
                    <a:lnTo>
                      <a:pt x="444" y="666"/>
                    </a:lnTo>
                    <a:lnTo>
                      <a:pt x="394" y="652"/>
                    </a:lnTo>
                    <a:lnTo>
                      <a:pt x="346" y="637"/>
                    </a:lnTo>
                    <a:lnTo>
                      <a:pt x="301" y="622"/>
                    </a:lnTo>
                    <a:lnTo>
                      <a:pt x="259" y="607"/>
                    </a:lnTo>
                    <a:lnTo>
                      <a:pt x="220" y="591"/>
                    </a:lnTo>
                    <a:lnTo>
                      <a:pt x="182" y="573"/>
                    </a:lnTo>
                    <a:lnTo>
                      <a:pt x="149" y="556"/>
                    </a:lnTo>
                    <a:lnTo>
                      <a:pt x="119" y="538"/>
                    </a:lnTo>
                    <a:lnTo>
                      <a:pt x="91" y="520"/>
                    </a:lnTo>
                    <a:lnTo>
                      <a:pt x="68" y="502"/>
                    </a:lnTo>
                    <a:lnTo>
                      <a:pt x="47" y="483"/>
                    </a:lnTo>
                    <a:lnTo>
                      <a:pt x="31" y="463"/>
                    </a:lnTo>
                    <a:lnTo>
                      <a:pt x="17" y="443"/>
                    </a:lnTo>
                    <a:lnTo>
                      <a:pt x="8" y="424"/>
                    </a:lnTo>
                    <a:lnTo>
                      <a:pt x="2" y="403"/>
                    </a:lnTo>
                    <a:lnTo>
                      <a:pt x="0" y="383"/>
                    </a:lnTo>
                    <a:lnTo>
                      <a:pt x="2" y="362"/>
                    </a:lnTo>
                    <a:lnTo>
                      <a:pt x="8" y="342"/>
                    </a:lnTo>
                    <a:lnTo>
                      <a:pt x="17" y="322"/>
                    </a:lnTo>
                    <a:lnTo>
                      <a:pt x="31" y="303"/>
                    </a:lnTo>
                    <a:lnTo>
                      <a:pt x="47" y="284"/>
                    </a:lnTo>
                    <a:lnTo>
                      <a:pt x="68" y="266"/>
                    </a:lnTo>
                    <a:lnTo>
                      <a:pt x="91" y="247"/>
                    </a:lnTo>
                    <a:lnTo>
                      <a:pt x="119" y="229"/>
                    </a:lnTo>
                    <a:lnTo>
                      <a:pt x="149" y="212"/>
                    </a:lnTo>
                    <a:lnTo>
                      <a:pt x="182" y="196"/>
                    </a:lnTo>
                    <a:lnTo>
                      <a:pt x="220" y="180"/>
                    </a:lnTo>
                    <a:lnTo>
                      <a:pt x="259" y="165"/>
                    </a:lnTo>
                    <a:lnTo>
                      <a:pt x="301" y="149"/>
                    </a:lnTo>
                    <a:lnTo>
                      <a:pt x="346" y="135"/>
                    </a:lnTo>
                    <a:lnTo>
                      <a:pt x="394" y="121"/>
                    </a:lnTo>
                    <a:lnTo>
                      <a:pt x="444" y="108"/>
                    </a:lnTo>
                    <a:lnTo>
                      <a:pt x="496" y="96"/>
                    </a:lnTo>
                    <a:lnTo>
                      <a:pt x="552" y="84"/>
                    </a:lnTo>
                    <a:lnTo>
                      <a:pt x="610" y="73"/>
                    </a:lnTo>
                    <a:lnTo>
                      <a:pt x="669" y="63"/>
                    </a:lnTo>
                    <a:lnTo>
                      <a:pt x="731" y="53"/>
                    </a:lnTo>
                    <a:lnTo>
                      <a:pt x="794" y="44"/>
                    </a:lnTo>
                    <a:lnTo>
                      <a:pt x="859" y="36"/>
                    </a:lnTo>
                    <a:lnTo>
                      <a:pt x="927" y="28"/>
                    </a:lnTo>
                    <a:lnTo>
                      <a:pt x="995" y="22"/>
                    </a:lnTo>
                    <a:lnTo>
                      <a:pt x="1066" y="16"/>
                    </a:lnTo>
                    <a:lnTo>
                      <a:pt x="1138" y="11"/>
                    </a:lnTo>
                    <a:lnTo>
                      <a:pt x="1211" y="7"/>
                    </a:lnTo>
                    <a:lnTo>
                      <a:pt x="1286" y="4"/>
                    </a:lnTo>
                    <a:lnTo>
                      <a:pt x="1362" y="2"/>
                    </a:lnTo>
                    <a:lnTo>
                      <a:pt x="1440" y="0"/>
                    </a:lnTo>
                    <a:lnTo>
                      <a:pt x="1517" y="0"/>
                    </a:lnTo>
                    <a:lnTo>
                      <a:pt x="1595" y="0"/>
                    </a:lnTo>
                    <a:lnTo>
                      <a:pt x="1673" y="2"/>
                    </a:lnTo>
                    <a:lnTo>
                      <a:pt x="1749" y="4"/>
                    </a:lnTo>
                    <a:lnTo>
                      <a:pt x="1823" y="7"/>
                    </a:lnTo>
                    <a:lnTo>
                      <a:pt x="1897" y="11"/>
                    </a:lnTo>
                    <a:lnTo>
                      <a:pt x="1969" y="16"/>
                    </a:lnTo>
                    <a:lnTo>
                      <a:pt x="2040" y="22"/>
                    </a:lnTo>
                    <a:lnTo>
                      <a:pt x="2108" y="28"/>
                    </a:lnTo>
                    <a:lnTo>
                      <a:pt x="2176" y="36"/>
                    </a:lnTo>
                    <a:lnTo>
                      <a:pt x="2241" y="44"/>
                    </a:lnTo>
                    <a:lnTo>
                      <a:pt x="2304" y="53"/>
                    </a:lnTo>
                    <a:lnTo>
                      <a:pt x="2366" y="63"/>
                    </a:lnTo>
                    <a:lnTo>
                      <a:pt x="2425" y="73"/>
                    </a:lnTo>
                    <a:lnTo>
                      <a:pt x="2483" y="84"/>
                    </a:lnTo>
                    <a:lnTo>
                      <a:pt x="2539" y="96"/>
                    </a:lnTo>
                    <a:lnTo>
                      <a:pt x="2591" y="108"/>
                    </a:lnTo>
                    <a:lnTo>
                      <a:pt x="2642" y="121"/>
                    </a:lnTo>
                    <a:lnTo>
                      <a:pt x="2689" y="135"/>
                    </a:lnTo>
                    <a:lnTo>
                      <a:pt x="2733" y="149"/>
                    </a:lnTo>
                    <a:lnTo>
                      <a:pt x="2776" y="165"/>
                    </a:lnTo>
                    <a:lnTo>
                      <a:pt x="2815" y="180"/>
                    </a:lnTo>
                    <a:lnTo>
                      <a:pt x="2853" y="196"/>
                    </a:lnTo>
                    <a:lnTo>
                      <a:pt x="2886" y="212"/>
                    </a:lnTo>
                    <a:lnTo>
                      <a:pt x="2916" y="229"/>
                    </a:lnTo>
                    <a:lnTo>
                      <a:pt x="2943" y="247"/>
                    </a:lnTo>
                    <a:lnTo>
                      <a:pt x="2967" y="266"/>
                    </a:lnTo>
                    <a:lnTo>
                      <a:pt x="2988" y="284"/>
                    </a:lnTo>
                    <a:lnTo>
                      <a:pt x="3005" y="303"/>
                    </a:lnTo>
                    <a:lnTo>
                      <a:pt x="3018" y="322"/>
                    </a:lnTo>
                    <a:lnTo>
                      <a:pt x="3027" y="342"/>
                    </a:lnTo>
                    <a:lnTo>
                      <a:pt x="3033" y="362"/>
                    </a:lnTo>
                    <a:lnTo>
                      <a:pt x="3035" y="3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980720" y="6511680"/>
                <a:ext cx="334440" cy="93240"/>
              </a:xfrm>
              <a:custGeom>
                <a:avLst/>
                <a:gdLst/>
                <a:ahLst/>
                <a:rect l="l" t="t" r="r" b="b"/>
                <a:pathLst>
                  <a:path w="3032" h="781">
                    <a:moveTo>
                      <a:pt x="3032" y="382"/>
                    </a:moveTo>
                    <a:lnTo>
                      <a:pt x="3030" y="402"/>
                    </a:lnTo>
                    <a:lnTo>
                      <a:pt x="3024" y="422"/>
                    </a:lnTo>
                    <a:lnTo>
                      <a:pt x="3014" y="442"/>
                    </a:lnTo>
                    <a:lnTo>
                      <a:pt x="3001" y="462"/>
                    </a:lnTo>
                    <a:lnTo>
                      <a:pt x="2984" y="482"/>
                    </a:lnTo>
                    <a:lnTo>
                      <a:pt x="2964" y="501"/>
                    </a:lnTo>
                    <a:lnTo>
                      <a:pt x="2940" y="519"/>
                    </a:lnTo>
                    <a:lnTo>
                      <a:pt x="2913" y="537"/>
                    </a:lnTo>
                    <a:lnTo>
                      <a:pt x="2883" y="555"/>
                    </a:lnTo>
                    <a:lnTo>
                      <a:pt x="2849" y="572"/>
                    </a:lnTo>
                    <a:lnTo>
                      <a:pt x="2812" y="589"/>
                    </a:lnTo>
                    <a:lnTo>
                      <a:pt x="2773" y="605"/>
                    </a:lnTo>
                    <a:lnTo>
                      <a:pt x="2730" y="621"/>
                    </a:lnTo>
                    <a:lnTo>
                      <a:pt x="2686" y="636"/>
                    </a:lnTo>
                    <a:lnTo>
                      <a:pt x="2639" y="650"/>
                    </a:lnTo>
                    <a:lnTo>
                      <a:pt x="2588" y="664"/>
                    </a:lnTo>
                    <a:lnTo>
                      <a:pt x="2535" y="677"/>
                    </a:lnTo>
                    <a:lnTo>
                      <a:pt x="2480" y="690"/>
                    </a:lnTo>
                    <a:lnTo>
                      <a:pt x="2422" y="702"/>
                    </a:lnTo>
                    <a:lnTo>
                      <a:pt x="2364" y="713"/>
                    </a:lnTo>
                    <a:lnTo>
                      <a:pt x="2302" y="724"/>
                    </a:lnTo>
                    <a:lnTo>
                      <a:pt x="2239" y="733"/>
                    </a:lnTo>
                    <a:lnTo>
                      <a:pt x="2173" y="742"/>
                    </a:lnTo>
                    <a:lnTo>
                      <a:pt x="2106" y="750"/>
                    </a:lnTo>
                    <a:lnTo>
                      <a:pt x="2037" y="757"/>
                    </a:lnTo>
                    <a:lnTo>
                      <a:pt x="1967" y="763"/>
                    </a:lnTo>
                    <a:lnTo>
                      <a:pt x="1894" y="768"/>
                    </a:lnTo>
                    <a:lnTo>
                      <a:pt x="1821" y="773"/>
                    </a:lnTo>
                    <a:lnTo>
                      <a:pt x="1747" y="776"/>
                    </a:lnTo>
                    <a:lnTo>
                      <a:pt x="1671" y="779"/>
                    </a:lnTo>
                    <a:lnTo>
                      <a:pt x="1593" y="780"/>
                    </a:lnTo>
                    <a:lnTo>
                      <a:pt x="1515" y="781"/>
                    </a:lnTo>
                    <a:lnTo>
                      <a:pt x="1438" y="780"/>
                    </a:lnTo>
                    <a:lnTo>
                      <a:pt x="1361" y="779"/>
                    </a:lnTo>
                    <a:lnTo>
                      <a:pt x="1284" y="776"/>
                    </a:lnTo>
                    <a:lnTo>
                      <a:pt x="1209" y="773"/>
                    </a:lnTo>
                    <a:lnTo>
                      <a:pt x="1137" y="768"/>
                    </a:lnTo>
                    <a:lnTo>
                      <a:pt x="1065" y="763"/>
                    </a:lnTo>
                    <a:lnTo>
                      <a:pt x="994" y="757"/>
                    </a:lnTo>
                    <a:lnTo>
                      <a:pt x="926" y="750"/>
                    </a:lnTo>
                    <a:lnTo>
                      <a:pt x="858" y="742"/>
                    </a:lnTo>
                    <a:lnTo>
                      <a:pt x="792" y="733"/>
                    </a:lnTo>
                    <a:lnTo>
                      <a:pt x="729" y="724"/>
                    </a:lnTo>
                    <a:lnTo>
                      <a:pt x="668" y="713"/>
                    </a:lnTo>
                    <a:lnTo>
                      <a:pt x="609" y="702"/>
                    </a:lnTo>
                    <a:lnTo>
                      <a:pt x="551" y="690"/>
                    </a:lnTo>
                    <a:lnTo>
                      <a:pt x="495" y="677"/>
                    </a:lnTo>
                    <a:lnTo>
                      <a:pt x="443" y="664"/>
                    </a:lnTo>
                    <a:lnTo>
                      <a:pt x="393" y="650"/>
                    </a:lnTo>
                    <a:lnTo>
                      <a:pt x="345" y="636"/>
                    </a:lnTo>
                    <a:lnTo>
                      <a:pt x="301" y="621"/>
                    </a:lnTo>
                    <a:lnTo>
                      <a:pt x="258" y="605"/>
                    </a:lnTo>
                    <a:lnTo>
                      <a:pt x="219" y="589"/>
                    </a:lnTo>
                    <a:lnTo>
                      <a:pt x="182" y="572"/>
                    </a:lnTo>
                    <a:lnTo>
                      <a:pt x="149" y="555"/>
                    </a:lnTo>
                    <a:lnTo>
                      <a:pt x="119" y="537"/>
                    </a:lnTo>
                    <a:lnTo>
                      <a:pt x="91" y="519"/>
                    </a:lnTo>
                    <a:lnTo>
                      <a:pt x="67" y="501"/>
                    </a:lnTo>
                    <a:lnTo>
                      <a:pt x="47" y="482"/>
                    </a:lnTo>
                    <a:lnTo>
                      <a:pt x="30" y="462"/>
                    </a:lnTo>
                    <a:lnTo>
                      <a:pt x="17" y="442"/>
                    </a:lnTo>
                    <a:lnTo>
                      <a:pt x="7" y="422"/>
                    </a:lnTo>
                    <a:lnTo>
                      <a:pt x="1" y="402"/>
                    </a:lnTo>
                    <a:lnTo>
                      <a:pt x="0" y="382"/>
                    </a:lnTo>
                    <a:lnTo>
                      <a:pt x="1" y="361"/>
                    </a:lnTo>
                    <a:lnTo>
                      <a:pt x="7" y="341"/>
                    </a:lnTo>
                    <a:lnTo>
                      <a:pt x="17" y="321"/>
                    </a:lnTo>
                    <a:lnTo>
                      <a:pt x="30" y="302"/>
                    </a:lnTo>
                    <a:lnTo>
                      <a:pt x="47" y="283"/>
                    </a:lnTo>
                    <a:lnTo>
                      <a:pt x="67" y="265"/>
                    </a:lnTo>
                    <a:lnTo>
                      <a:pt x="91" y="246"/>
                    </a:lnTo>
                    <a:lnTo>
                      <a:pt x="119" y="229"/>
                    </a:lnTo>
                    <a:lnTo>
                      <a:pt x="149" y="212"/>
                    </a:lnTo>
                    <a:lnTo>
                      <a:pt x="182" y="195"/>
                    </a:lnTo>
                    <a:lnTo>
                      <a:pt x="219" y="180"/>
                    </a:lnTo>
                    <a:lnTo>
                      <a:pt x="258" y="164"/>
                    </a:lnTo>
                    <a:lnTo>
                      <a:pt x="301" y="149"/>
                    </a:lnTo>
                    <a:lnTo>
                      <a:pt x="345" y="134"/>
                    </a:lnTo>
                    <a:lnTo>
                      <a:pt x="393" y="121"/>
                    </a:lnTo>
                    <a:lnTo>
                      <a:pt x="443" y="108"/>
                    </a:lnTo>
                    <a:lnTo>
                      <a:pt x="495" y="96"/>
                    </a:lnTo>
                    <a:lnTo>
                      <a:pt x="551" y="84"/>
                    </a:lnTo>
                    <a:lnTo>
                      <a:pt x="609" y="73"/>
                    </a:lnTo>
                    <a:lnTo>
                      <a:pt x="668" y="63"/>
                    </a:lnTo>
                    <a:lnTo>
                      <a:pt x="729" y="53"/>
                    </a:lnTo>
                    <a:lnTo>
                      <a:pt x="792" y="43"/>
                    </a:lnTo>
                    <a:lnTo>
                      <a:pt x="858" y="35"/>
                    </a:lnTo>
                    <a:lnTo>
                      <a:pt x="926" y="28"/>
                    </a:lnTo>
                    <a:lnTo>
                      <a:pt x="994" y="22"/>
                    </a:lnTo>
                    <a:lnTo>
                      <a:pt x="1065" y="16"/>
                    </a:lnTo>
                    <a:lnTo>
                      <a:pt x="1137" y="11"/>
                    </a:lnTo>
                    <a:lnTo>
                      <a:pt x="1209" y="7"/>
                    </a:lnTo>
                    <a:lnTo>
                      <a:pt x="1284" y="4"/>
                    </a:lnTo>
                    <a:lnTo>
                      <a:pt x="1361" y="2"/>
                    </a:lnTo>
                    <a:lnTo>
                      <a:pt x="1438" y="0"/>
                    </a:lnTo>
                    <a:lnTo>
                      <a:pt x="1515" y="0"/>
                    </a:lnTo>
                    <a:lnTo>
                      <a:pt x="1593" y="0"/>
                    </a:lnTo>
                    <a:lnTo>
                      <a:pt x="1671" y="2"/>
                    </a:lnTo>
                    <a:lnTo>
                      <a:pt x="1747" y="4"/>
                    </a:lnTo>
                    <a:lnTo>
                      <a:pt x="1821" y="7"/>
                    </a:lnTo>
                    <a:lnTo>
                      <a:pt x="1894" y="11"/>
                    </a:lnTo>
                    <a:lnTo>
                      <a:pt x="1967" y="16"/>
                    </a:lnTo>
                    <a:lnTo>
                      <a:pt x="2037" y="22"/>
                    </a:lnTo>
                    <a:lnTo>
                      <a:pt x="2106" y="28"/>
                    </a:lnTo>
                    <a:lnTo>
                      <a:pt x="2173" y="35"/>
                    </a:lnTo>
                    <a:lnTo>
                      <a:pt x="2239" y="43"/>
                    </a:lnTo>
                    <a:lnTo>
                      <a:pt x="2302" y="53"/>
                    </a:lnTo>
                    <a:lnTo>
                      <a:pt x="2364" y="63"/>
                    </a:lnTo>
                    <a:lnTo>
                      <a:pt x="2422" y="73"/>
                    </a:lnTo>
                    <a:lnTo>
                      <a:pt x="2480" y="84"/>
                    </a:lnTo>
                    <a:lnTo>
                      <a:pt x="2535" y="96"/>
                    </a:lnTo>
                    <a:lnTo>
                      <a:pt x="2588" y="108"/>
                    </a:lnTo>
                    <a:lnTo>
                      <a:pt x="2639" y="121"/>
                    </a:lnTo>
                    <a:lnTo>
                      <a:pt x="2686" y="134"/>
                    </a:lnTo>
                    <a:lnTo>
                      <a:pt x="2730" y="149"/>
                    </a:lnTo>
                    <a:lnTo>
                      <a:pt x="2773" y="164"/>
                    </a:lnTo>
                    <a:lnTo>
                      <a:pt x="2812" y="180"/>
                    </a:lnTo>
                    <a:lnTo>
                      <a:pt x="2849" y="195"/>
                    </a:lnTo>
                    <a:lnTo>
                      <a:pt x="2883" y="212"/>
                    </a:lnTo>
                    <a:lnTo>
                      <a:pt x="2913" y="229"/>
                    </a:lnTo>
                    <a:lnTo>
                      <a:pt x="2940" y="246"/>
                    </a:lnTo>
                    <a:lnTo>
                      <a:pt x="2964" y="265"/>
                    </a:lnTo>
                    <a:lnTo>
                      <a:pt x="2984" y="283"/>
                    </a:lnTo>
                    <a:lnTo>
                      <a:pt x="3001" y="302"/>
                    </a:lnTo>
                    <a:lnTo>
                      <a:pt x="3014" y="321"/>
                    </a:lnTo>
                    <a:lnTo>
                      <a:pt x="3024" y="341"/>
                    </a:lnTo>
                    <a:lnTo>
                      <a:pt x="3030" y="361"/>
                    </a:lnTo>
                    <a:lnTo>
                      <a:pt x="3032" y="3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980720" y="6511680"/>
                <a:ext cx="334440" cy="93240"/>
              </a:xfrm>
              <a:custGeom>
                <a:avLst/>
                <a:gdLst/>
                <a:ahLst/>
                <a:rect l="l" t="t" r="r" b="b"/>
                <a:pathLst>
                  <a:path w="3029" h="779">
                    <a:moveTo>
                      <a:pt x="3029" y="381"/>
                    </a:moveTo>
                    <a:lnTo>
                      <a:pt x="3027" y="401"/>
                    </a:lnTo>
                    <a:lnTo>
                      <a:pt x="3021" y="421"/>
                    </a:lnTo>
                    <a:lnTo>
                      <a:pt x="3012" y="441"/>
                    </a:lnTo>
                    <a:lnTo>
                      <a:pt x="2999" y="461"/>
                    </a:lnTo>
                    <a:lnTo>
                      <a:pt x="2982" y="481"/>
                    </a:lnTo>
                    <a:lnTo>
                      <a:pt x="2962" y="499"/>
                    </a:lnTo>
                    <a:lnTo>
                      <a:pt x="2937" y="518"/>
                    </a:lnTo>
                    <a:lnTo>
                      <a:pt x="2910" y="536"/>
                    </a:lnTo>
                    <a:lnTo>
                      <a:pt x="2880" y="553"/>
                    </a:lnTo>
                    <a:lnTo>
                      <a:pt x="2847" y="570"/>
                    </a:lnTo>
                    <a:lnTo>
                      <a:pt x="2810" y="588"/>
                    </a:lnTo>
                    <a:lnTo>
                      <a:pt x="2771" y="604"/>
                    </a:lnTo>
                    <a:lnTo>
                      <a:pt x="2728" y="619"/>
                    </a:lnTo>
                    <a:lnTo>
                      <a:pt x="2684" y="634"/>
                    </a:lnTo>
                    <a:lnTo>
                      <a:pt x="2635" y="649"/>
                    </a:lnTo>
                    <a:lnTo>
                      <a:pt x="2586" y="662"/>
                    </a:lnTo>
                    <a:lnTo>
                      <a:pt x="2533" y="675"/>
                    </a:lnTo>
                    <a:lnTo>
                      <a:pt x="2478" y="689"/>
                    </a:lnTo>
                    <a:lnTo>
                      <a:pt x="2421" y="700"/>
                    </a:lnTo>
                    <a:lnTo>
                      <a:pt x="2362" y="711"/>
                    </a:lnTo>
                    <a:lnTo>
                      <a:pt x="2300" y="722"/>
                    </a:lnTo>
                    <a:lnTo>
                      <a:pt x="2237" y="731"/>
                    </a:lnTo>
                    <a:lnTo>
                      <a:pt x="2171" y="740"/>
                    </a:lnTo>
                    <a:lnTo>
                      <a:pt x="2104" y="748"/>
                    </a:lnTo>
                    <a:lnTo>
                      <a:pt x="2036" y="755"/>
                    </a:lnTo>
                    <a:lnTo>
                      <a:pt x="1965" y="761"/>
                    </a:lnTo>
                    <a:lnTo>
                      <a:pt x="1893" y="766"/>
                    </a:lnTo>
                    <a:lnTo>
                      <a:pt x="1819" y="771"/>
                    </a:lnTo>
                    <a:lnTo>
                      <a:pt x="1746" y="774"/>
                    </a:lnTo>
                    <a:lnTo>
                      <a:pt x="1669" y="777"/>
                    </a:lnTo>
                    <a:lnTo>
                      <a:pt x="1592" y="778"/>
                    </a:lnTo>
                    <a:lnTo>
                      <a:pt x="1514" y="779"/>
                    </a:lnTo>
                    <a:lnTo>
                      <a:pt x="1437" y="778"/>
                    </a:lnTo>
                    <a:lnTo>
                      <a:pt x="1360" y="777"/>
                    </a:lnTo>
                    <a:lnTo>
                      <a:pt x="1284" y="774"/>
                    </a:lnTo>
                    <a:lnTo>
                      <a:pt x="1209" y="771"/>
                    </a:lnTo>
                    <a:lnTo>
                      <a:pt x="1136" y="766"/>
                    </a:lnTo>
                    <a:lnTo>
                      <a:pt x="1064" y="761"/>
                    </a:lnTo>
                    <a:lnTo>
                      <a:pt x="993" y="755"/>
                    </a:lnTo>
                    <a:lnTo>
                      <a:pt x="925" y="748"/>
                    </a:lnTo>
                    <a:lnTo>
                      <a:pt x="858" y="740"/>
                    </a:lnTo>
                    <a:lnTo>
                      <a:pt x="792" y="731"/>
                    </a:lnTo>
                    <a:lnTo>
                      <a:pt x="729" y="722"/>
                    </a:lnTo>
                    <a:lnTo>
                      <a:pt x="667" y="711"/>
                    </a:lnTo>
                    <a:lnTo>
                      <a:pt x="609" y="700"/>
                    </a:lnTo>
                    <a:lnTo>
                      <a:pt x="551" y="689"/>
                    </a:lnTo>
                    <a:lnTo>
                      <a:pt x="495" y="675"/>
                    </a:lnTo>
                    <a:lnTo>
                      <a:pt x="443" y="662"/>
                    </a:lnTo>
                    <a:lnTo>
                      <a:pt x="393" y="649"/>
                    </a:lnTo>
                    <a:lnTo>
                      <a:pt x="345" y="634"/>
                    </a:lnTo>
                    <a:lnTo>
                      <a:pt x="301" y="619"/>
                    </a:lnTo>
                    <a:lnTo>
                      <a:pt x="258" y="604"/>
                    </a:lnTo>
                    <a:lnTo>
                      <a:pt x="219" y="588"/>
                    </a:lnTo>
                    <a:lnTo>
                      <a:pt x="182" y="570"/>
                    </a:lnTo>
                    <a:lnTo>
                      <a:pt x="149" y="553"/>
                    </a:lnTo>
                    <a:lnTo>
                      <a:pt x="119" y="536"/>
                    </a:lnTo>
                    <a:lnTo>
                      <a:pt x="91" y="518"/>
                    </a:lnTo>
                    <a:lnTo>
                      <a:pt x="67" y="499"/>
                    </a:lnTo>
                    <a:lnTo>
                      <a:pt x="47" y="481"/>
                    </a:lnTo>
                    <a:lnTo>
                      <a:pt x="30" y="461"/>
                    </a:lnTo>
                    <a:lnTo>
                      <a:pt x="17" y="441"/>
                    </a:lnTo>
                    <a:lnTo>
                      <a:pt x="8" y="421"/>
                    </a:lnTo>
                    <a:lnTo>
                      <a:pt x="2" y="401"/>
                    </a:lnTo>
                    <a:lnTo>
                      <a:pt x="0" y="381"/>
                    </a:lnTo>
                    <a:lnTo>
                      <a:pt x="2" y="360"/>
                    </a:lnTo>
                    <a:lnTo>
                      <a:pt x="8" y="340"/>
                    </a:lnTo>
                    <a:lnTo>
                      <a:pt x="17" y="320"/>
                    </a:lnTo>
                    <a:lnTo>
                      <a:pt x="30" y="301"/>
                    </a:lnTo>
                    <a:lnTo>
                      <a:pt x="47" y="282"/>
                    </a:lnTo>
                    <a:lnTo>
                      <a:pt x="67" y="264"/>
                    </a:lnTo>
                    <a:lnTo>
                      <a:pt x="91" y="245"/>
                    </a:lnTo>
                    <a:lnTo>
                      <a:pt x="119" y="228"/>
                    </a:lnTo>
                    <a:lnTo>
                      <a:pt x="149" y="211"/>
                    </a:lnTo>
                    <a:lnTo>
                      <a:pt x="182" y="195"/>
                    </a:lnTo>
                    <a:lnTo>
                      <a:pt x="219" y="179"/>
                    </a:lnTo>
                    <a:lnTo>
                      <a:pt x="258" y="164"/>
                    </a:lnTo>
                    <a:lnTo>
                      <a:pt x="301" y="148"/>
                    </a:lnTo>
                    <a:lnTo>
                      <a:pt x="345" y="134"/>
                    </a:lnTo>
                    <a:lnTo>
                      <a:pt x="393" y="120"/>
                    </a:lnTo>
                    <a:lnTo>
                      <a:pt x="443" y="108"/>
                    </a:lnTo>
                    <a:lnTo>
                      <a:pt x="495" y="95"/>
                    </a:lnTo>
                    <a:lnTo>
                      <a:pt x="551" y="84"/>
                    </a:lnTo>
                    <a:lnTo>
                      <a:pt x="609" y="73"/>
                    </a:lnTo>
                    <a:lnTo>
                      <a:pt x="667" y="63"/>
                    </a:lnTo>
                    <a:lnTo>
                      <a:pt x="729" y="53"/>
                    </a:lnTo>
                    <a:lnTo>
                      <a:pt x="792" y="44"/>
                    </a:lnTo>
                    <a:lnTo>
                      <a:pt x="858" y="35"/>
                    </a:lnTo>
                    <a:lnTo>
                      <a:pt x="925" y="28"/>
                    </a:lnTo>
                    <a:lnTo>
                      <a:pt x="993" y="21"/>
                    </a:lnTo>
                    <a:lnTo>
                      <a:pt x="1064" y="16"/>
                    </a:lnTo>
                    <a:lnTo>
                      <a:pt x="1136" y="11"/>
                    </a:lnTo>
                    <a:lnTo>
                      <a:pt x="1209" y="7"/>
                    </a:lnTo>
                    <a:lnTo>
                      <a:pt x="1284" y="4"/>
                    </a:lnTo>
                    <a:lnTo>
                      <a:pt x="1360" y="1"/>
                    </a:lnTo>
                    <a:lnTo>
                      <a:pt x="1437" y="0"/>
                    </a:lnTo>
                    <a:lnTo>
                      <a:pt x="1514" y="0"/>
                    </a:lnTo>
                    <a:lnTo>
                      <a:pt x="1592" y="0"/>
                    </a:lnTo>
                    <a:lnTo>
                      <a:pt x="1669" y="1"/>
                    </a:lnTo>
                    <a:lnTo>
                      <a:pt x="1746" y="4"/>
                    </a:lnTo>
                    <a:lnTo>
                      <a:pt x="1819" y="7"/>
                    </a:lnTo>
                    <a:lnTo>
                      <a:pt x="1893" y="11"/>
                    </a:lnTo>
                    <a:lnTo>
                      <a:pt x="1965" y="16"/>
                    </a:lnTo>
                    <a:lnTo>
                      <a:pt x="2036" y="21"/>
                    </a:lnTo>
                    <a:lnTo>
                      <a:pt x="2104" y="28"/>
                    </a:lnTo>
                    <a:lnTo>
                      <a:pt x="2171" y="35"/>
                    </a:lnTo>
                    <a:lnTo>
                      <a:pt x="2237" y="44"/>
                    </a:lnTo>
                    <a:lnTo>
                      <a:pt x="2300" y="53"/>
                    </a:lnTo>
                    <a:lnTo>
                      <a:pt x="2362" y="63"/>
                    </a:lnTo>
                    <a:lnTo>
                      <a:pt x="2421" y="73"/>
                    </a:lnTo>
                    <a:lnTo>
                      <a:pt x="2478" y="84"/>
                    </a:lnTo>
                    <a:lnTo>
                      <a:pt x="2533" y="95"/>
                    </a:lnTo>
                    <a:lnTo>
                      <a:pt x="2586" y="108"/>
                    </a:lnTo>
                    <a:lnTo>
                      <a:pt x="2635" y="120"/>
                    </a:lnTo>
                    <a:lnTo>
                      <a:pt x="2684" y="134"/>
                    </a:lnTo>
                    <a:lnTo>
                      <a:pt x="2728" y="148"/>
                    </a:lnTo>
                    <a:lnTo>
                      <a:pt x="2771" y="164"/>
                    </a:lnTo>
                    <a:lnTo>
                      <a:pt x="2810" y="179"/>
                    </a:lnTo>
                    <a:lnTo>
                      <a:pt x="2847" y="195"/>
                    </a:lnTo>
                    <a:lnTo>
                      <a:pt x="2880" y="211"/>
                    </a:lnTo>
                    <a:lnTo>
                      <a:pt x="2910" y="228"/>
                    </a:lnTo>
                    <a:lnTo>
                      <a:pt x="2937" y="245"/>
                    </a:lnTo>
                    <a:lnTo>
                      <a:pt x="2962" y="264"/>
                    </a:lnTo>
                    <a:lnTo>
                      <a:pt x="2982" y="282"/>
                    </a:lnTo>
                    <a:lnTo>
                      <a:pt x="2999" y="301"/>
                    </a:lnTo>
                    <a:lnTo>
                      <a:pt x="3012" y="320"/>
                    </a:lnTo>
                    <a:lnTo>
                      <a:pt x="3021" y="340"/>
                    </a:lnTo>
                    <a:lnTo>
                      <a:pt x="3027" y="360"/>
                    </a:lnTo>
                    <a:lnTo>
                      <a:pt x="3029" y="3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80720" y="6513120"/>
                <a:ext cx="334440" cy="91800"/>
              </a:xfrm>
              <a:custGeom>
                <a:avLst/>
                <a:gdLst/>
                <a:ahLst/>
                <a:rect l="l" t="t" r="r" b="b"/>
                <a:pathLst>
                  <a:path w="3027" h="777">
                    <a:moveTo>
                      <a:pt x="3027" y="380"/>
                    </a:moveTo>
                    <a:lnTo>
                      <a:pt x="3025" y="400"/>
                    </a:lnTo>
                    <a:lnTo>
                      <a:pt x="3019" y="420"/>
                    </a:lnTo>
                    <a:lnTo>
                      <a:pt x="3010" y="440"/>
                    </a:lnTo>
                    <a:lnTo>
                      <a:pt x="2996" y="459"/>
                    </a:lnTo>
                    <a:lnTo>
                      <a:pt x="2980" y="480"/>
                    </a:lnTo>
                    <a:lnTo>
                      <a:pt x="2959" y="498"/>
                    </a:lnTo>
                    <a:lnTo>
                      <a:pt x="2935" y="517"/>
                    </a:lnTo>
                    <a:lnTo>
                      <a:pt x="2908" y="534"/>
                    </a:lnTo>
                    <a:lnTo>
                      <a:pt x="2878" y="552"/>
                    </a:lnTo>
                    <a:lnTo>
                      <a:pt x="2845" y="569"/>
                    </a:lnTo>
                    <a:lnTo>
                      <a:pt x="2808" y="586"/>
                    </a:lnTo>
                    <a:lnTo>
                      <a:pt x="2769" y="602"/>
                    </a:lnTo>
                    <a:lnTo>
                      <a:pt x="2726" y="618"/>
                    </a:lnTo>
                    <a:lnTo>
                      <a:pt x="2682" y="633"/>
                    </a:lnTo>
                    <a:lnTo>
                      <a:pt x="2633" y="647"/>
                    </a:lnTo>
                    <a:lnTo>
                      <a:pt x="2584" y="661"/>
                    </a:lnTo>
                    <a:lnTo>
                      <a:pt x="2531" y="674"/>
                    </a:lnTo>
                    <a:lnTo>
                      <a:pt x="2476" y="687"/>
                    </a:lnTo>
                    <a:lnTo>
                      <a:pt x="2419" y="699"/>
                    </a:lnTo>
                    <a:lnTo>
                      <a:pt x="2360" y="710"/>
                    </a:lnTo>
                    <a:lnTo>
                      <a:pt x="2298" y="720"/>
                    </a:lnTo>
                    <a:lnTo>
                      <a:pt x="2235" y="729"/>
                    </a:lnTo>
                    <a:lnTo>
                      <a:pt x="2170" y="738"/>
                    </a:lnTo>
                    <a:lnTo>
                      <a:pt x="2102" y="746"/>
                    </a:lnTo>
                    <a:lnTo>
                      <a:pt x="2034" y="753"/>
                    </a:lnTo>
                    <a:lnTo>
                      <a:pt x="1964" y="759"/>
                    </a:lnTo>
                    <a:lnTo>
                      <a:pt x="1892" y="765"/>
                    </a:lnTo>
                    <a:lnTo>
                      <a:pt x="1818" y="769"/>
                    </a:lnTo>
                    <a:lnTo>
                      <a:pt x="1744" y="772"/>
                    </a:lnTo>
                    <a:lnTo>
                      <a:pt x="1668" y="775"/>
                    </a:lnTo>
                    <a:lnTo>
                      <a:pt x="1591" y="776"/>
                    </a:lnTo>
                    <a:lnTo>
                      <a:pt x="1513" y="777"/>
                    </a:lnTo>
                    <a:lnTo>
                      <a:pt x="1436" y="776"/>
                    </a:lnTo>
                    <a:lnTo>
                      <a:pt x="1359" y="775"/>
                    </a:lnTo>
                    <a:lnTo>
                      <a:pt x="1283" y="772"/>
                    </a:lnTo>
                    <a:lnTo>
                      <a:pt x="1208" y="769"/>
                    </a:lnTo>
                    <a:lnTo>
                      <a:pt x="1136" y="765"/>
                    </a:lnTo>
                    <a:lnTo>
                      <a:pt x="1063" y="759"/>
                    </a:lnTo>
                    <a:lnTo>
                      <a:pt x="993" y="753"/>
                    </a:lnTo>
                    <a:lnTo>
                      <a:pt x="925" y="746"/>
                    </a:lnTo>
                    <a:lnTo>
                      <a:pt x="857" y="738"/>
                    </a:lnTo>
                    <a:lnTo>
                      <a:pt x="792" y="729"/>
                    </a:lnTo>
                    <a:lnTo>
                      <a:pt x="729" y="720"/>
                    </a:lnTo>
                    <a:lnTo>
                      <a:pt x="667" y="710"/>
                    </a:lnTo>
                    <a:lnTo>
                      <a:pt x="608" y="699"/>
                    </a:lnTo>
                    <a:lnTo>
                      <a:pt x="551" y="687"/>
                    </a:lnTo>
                    <a:lnTo>
                      <a:pt x="495" y="674"/>
                    </a:lnTo>
                    <a:lnTo>
                      <a:pt x="443" y="661"/>
                    </a:lnTo>
                    <a:lnTo>
                      <a:pt x="393" y="647"/>
                    </a:lnTo>
                    <a:lnTo>
                      <a:pt x="346" y="633"/>
                    </a:lnTo>
                    <a:lnTo>
                      <a:pt x="301" y="618"/>
                    </a:lnTo>
                    <a:lnTo>
                      <a:pt x="258" y="602"/>
                    </a:lnTo>
                    <a:lnTo>
                      <a:pt x="219" y="586"/>
                    </a:lnTo>
                    <a:lnTo>
                      <a:pt x="182" y="569"/>
                    </a:lnTo>
                    <a:lnTo>
                      <a:pt x="149" y="552"/>
                    </a:lnTo>
                    <a:lnTo>
                      <a:pt x="119" y="534"/>
                    </a:lnTo>
                    <a:lnTo>
                      <a:pt x="91" y="517"/>
                    </a:lnTo>
                    <a:lnTo>
                      <a:pt x="68" y="498"/>
                    </a:lnTo>
                    <a:lnTo>
                      <a:pt x="48" y="480"/>
                    </a:lnTo>
                    <a:lnTo>
                      <a:pt x="31" y="459"/>
                    </a:lnTo>
                    <a:lnTo>
                      <a:pt x="18" y="440"/>
                    </a:lnTo>
                    <a:lnTo>
                      <a:pt x="8" y="420"/>
                    </a:lnTo>
                    <a:lnTo>
                      <a:pt x="2" y="400"/>
                    </a:lnTo>
                    <a:lnTo>
                      <a:pt x="0" y="380"/>
                    </a:lnTo>
                    <a:lnTo>
                      <a:pt x="2" y="359"/>
                    </a:lnTo>
                    <a:lnTo>
                      <a:pt x="8" y="339"/>
                    </a:lnTo>
                    <a:lnTo>
                      <a:pt x="18" y="319"/>
                    </a:lnTo>
                    <a:lnTo>
                      <a:pt x="31" y="300"/>
                    </a:lnTo>
                    <a:lnTo>
                      <a:pt x="48" y="282"/>
                    </a:lnTo>
                    <a:lnTo>
                      <a:pt x="68" y="264"/>
                    </a:lnTo>
                    <a:lnTo>
                      <a:pt x="91" y="245"/>
                    </a:lnTo>
                    <a:lnTo>
                      <a:pt x="119" y="227"/>
                    </a:lnTo>
                    <a:lnTo>
                      <a:pt x="149" y="211"/>
                    </a:lnTo>
                    <a:lnTo>
                      <a:pt x="182" y="194"/>
                    </a:lnTo>
                    <a:lnTo>
                      <a:pt x="219" y="179"/>
                    </a:lnTo>
                    <a:lnTo>
                      <a:pt x="258" y="163"/>
                    </a:lnTo>
                    <a:lnTo>
                      <a:pt x="301" y="148"/>
                    </a:lnTo>
                    <a:lnTo>
                      <a:pt x="346" y="134"/>
                    </a:lnTo>
                    <a:lnTo>
                      <a:pt x="393" y="120"/>
                    </a:lnTo>
                    <a:lnTo>
                      <a:pt x="443" y="107"/>
                    </a:lnTo>
                    <a:lnTo>
                      <a:pt x="495" y="95"/>
                    </a:lnTo>
                    <a:lnTo>
                      <a:pt x="551" y="83"/>
                    </a:lnTo>
                    <a:lnTo>
                      <a:pt x="608" y="73"/>
                    </a:lnTo>
                    <a:lnTo>
                      <a:pt x="667" y="62"/>
                    </a:lnTo>
                    <a:lnTo>
                      <a:pt x="729" y="53"/>
                    </a:lnTo>
                    <a:lnTo>
                      <a:pt x="792" y="44"/>
                    </a:lnTo>
                    <a:lnTo>
                      <a:pt x="857" y="35"/>
                    </a:lnTo>
                    <a:lnTo>
                      <a:pt x="925" y="28"/>
                    </a:lnTo>
                    <a:lnTo>
                      <a:pt x="993" y="21"/>
                    </a:lnTo>
                    <a:lnTo>
                      <a:pt x="1063" y="16"/>
                    </a:lnTo>
                    <a:lnTo>
                      <a:pt x="1136" y="11"/>
                    </a:lnTo>
                    <a:lnTo>
                      <a:pt x="1208" y="7"/>
                    </a:lnTo>
                    <a:lnTo>
                      <a:pt x="1283" y="4"/>
                    </a:lnTo>
                    <a:lnTo>
                      <a:pt x="1359" y="1"/>
                    </a:lnTo>
                    <a:lnTo>
                      <a:pt x="1436" y="0"/>
                    </a:lnTo>
                    <a:lnTo>
                      <a:pt x="1513" y="0"/>
                    </a:lnTo>
                    <a:lnTo>
                      <a:pt x="1591" y="0"/>
                    </a:lnTo>
                    <a:lnTo>
                      <a:pt x="1668" y="1"/>
                    </a:lnTo>
                    <a:lnTo>
                      <a:pt x="1744" y="4"/>
                    </a:lnTo>
                    <a:lnTo>
                      <a:pt x="1818" y="7"/>
                    </a:lnTo>
                    <a:lnTo>
                      <a:pt x="1892" y="11"/>
                    </a:lnTo>
                    <a:lnTo>
                      <a:pt x="1964" y="16"/>
                    </a:lnTo>
                    <a:lnTo>
                      <a:pt x="2034" y="21"/>
                    </a:lnTo>
                    <a:lnTo>
                      <a:pt x="2102" y="28"/>
                    </a:lnTo>
                    <a:lnTo>
                      <a:pt x="2170" y="35"/>
                    </a:lnTo>
                    <a:lnTo>
                      <a:pt x="2235" y="44"/>
                    </a:lnTo>
                    <a:lnTo>
                      <a:pt x="2298" y="53"/>
                    </a:lnTo>
                    <a:lnTo>
                      <a:pt x="2360" y="62"/>
                    </a:lnTo>
                    <a:lnTo>
                      <a:pt x="2419" y="73"/>
                    </a:lnTo>
                    <a:lnTo>
                      <a:pt x="2476" y="83"/>
                    </a:lnTo>
                    <a:lnTo>
                      <a:pt x="2531" y="95"/>
                    </a:lnTo>
                    <a:lnTo>
                      <a:pt x="2584" y="107"/>
                    </a:lnTo>
                    <a:lnTo>
                      <a:pt x="2633" y="120"/>
                    </a:lnTo>
                    <a:lnTo>
                      <a:pt x="2682" y="134"/>
                    </a:lnTo>
                    <a:lnTo>
                      <a:pt x="2726" y="148"/>
                    </a:lnTo>
                    <a:lnTo>
                      <a:pt x="2769" y="163"/>
                    </a:lnTo>
                    <a:lnTo>
                      <a:pt x="2808" y="179"/>
                    </a:lnTo>
                    <a:lnTo>
                      <a:pt x="2845" y="194"/>
                    </a:lnTo>
                    <a:lnTo>
                      <a:pt x="2878" y="211"/>
                    </a:lnTo>
                    <a:lnTo>
                      <a:pt x="2908" y="227"/>
                    </a:lnTo>
                    <a:lnTo>
                      <a:pt x="2935" y="245"/>
                    </a:lnTo>
                    <a:lnTo>
                      <a:pt x="2959" y="264"/>
                    </a:lnTo>
                    <a:lnTo>
                      <a:pt x="2980" y="282"/>
                    </a:lnTo>
                    <a:lnTo>
                      <a:pt x="2996" y="300"/>
                    </a:lnTo>
                    <a:lnTo>
                      <a:pt x="3010" y="319"/>
                    </a:lnTo>
                    <a:lnTo>
                      <a:pt x="3019" y="339"/>
                    </a:lnTo>
                    <a:lnTo>
                      <a:pt x="3025" y="359"/>
                    </a:lnTo>
                    <a:lnTo>
                      <a:pt x="3027" y="3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981800" y="6513120"/>
                <a:ext cx="332280" cy="91800"/>
              </a:xfrm>
              <a:custGeom>
                <a:avLst/>
                <a:gdLst/>
                <a:ahLst/>
                <a:rect l="l" t="t" r="r" b="b"/>
                <a:pathLst>
                  <a:path w="3023" h="776">
                    <a:moveTo>
                      <a:pt x="3023" y="380"/>
                    </a:moveTo>
                    <a:lnTo>
                      <a:pt x="3021" y="400"/>
                    </a:lnTo>
                    <a:lnTo>
                      <a:pt x="3016" y="420"/>
                    </a:lnTo>
                    <a:lnTo>
                      <a:pt x="3006" y="440"/>
                    </a:lnTo>
                    <a:lnTo>
                      <a:pt x="2993" y="459"/>
                    </a:lnTo>
                    <a:lnTo>
                      <a:pt x="2976" y="479"/>
                    </a:lnTo>
                    <a:lnTo>
                      <a:pt x="2956" y="498"/>
                    </a:lnTo>
                    <a:lnTo>
                      <a:pt x="2932" y="516"/>
                    </a:lnTo>
                    <a:lnTo>
                      <a:pt x="2905" y="534"/>
                    </a:lnTo>
                    <a:lnTo>
                      <a:pt x="2875" y="551"/>
                    </a:lnTo>
                    <a:lnTo>
                      <a:pt x="2842" y="568"/>
                    </a:lnTo>
                    <a:lnTo>
                      <a:pt x="2805" y="586"/>
                    </a:lnTo>
                    <a:lnTo>
                      <a:pt x="2766" y="602"/>
                    </a:lnTo>
                    <a:lnTo>
                      <a:pt x="2723" y="617"/>
                    </a:lnTo>
                    <a:lnTo>
                      <a:pt x="2678" y="632"/>
                    </a:lnTo>
                    <a:lnTo>
                      <a:pt x="2630" y="646"/>
                    </a:lnTo>
                    <a:lnTo>
                      <a:pt x="2581" y="660"/>
                    </a:lnTo>
                    <a:lnTo>
                      <a:pt x="2528" y="673"/>
                    </a:lnTo>
                    <a:lnTo>
                      <a:pt x="2473" y="686"/>
                    </a:lnTo>
                    <a:lnTo>
                      <a:pt x="2416" y="698"/>
                    </a:lnTo>
                    <a:lnTo>
                      <a:pt x="2357" y="709"/>
                    </a:lnTo>
                    <a:lnTo>
                      <a:pt x="2295" y="719"/>
                    </a:lnTo>
                    <a:lnTo>
                      <a:pt x="2233" y="729"/>
                    </a:lnTo>
                    <a:lnTo>
                      <a:pt x="2167" y="737"/>
                    </a:lnTo>
                    <a:lnTo>
                      <a:pt x="2100" y="745"/>
                    </a:lnTo>
                    <a:lnTo>
                      <a:pt x="2032" y="752"/>
                    </a:lnTo>
                    <a:lnTo>
                      <a:pt x="1961" y="758"/>
                    </a:lnTo>
                    <a:lnTo>
                      <a:pt x="1889" y="764"/>
                    </a:lnTo>
                    <a:lnTo>
                      <a:pt x="1816" y="768"/>
                    </a:lnTo>
                    <a:lnTo>
                      <a:pt x="1742" y="772"/>
                    </a:lnTo>
                    <a:lnTo>
                      <a:pt x="1666" y="774"/>
                    </a:lnTo>
                    <a:lnTo>
                      <a:pt x="1589" y="776"/>
                    </a:lnTo>
                    <a:lnTo>
                      <a:pt x="1511" y="776"/>
                    </a:lnTo>
                    <a:lnTo>
                      <a:pt x="1434" y="776"/>
                    </a:lnTo>
                    <a:lnTo>
                      <a:pt x="1357" y="774"/>
                    </a:lnTo>
                    <a:lnTo>
                      <a:pt x="1281" y="772"/>
                    </a:lnTo>
                    <a:lnTo>
                      <a:pt x="1206" y="768"/>
                    </a:lnTo>
                    <a:lnTo>
                      <a:pt x="1134" y="764"/>
                    </a:lnTo>
                    <a:lnTo>
                      <a:pt x="1062" y="758"/>
                    </a:lnTo>
                    <a:lnTo>
                      <a:pt x="991" y="752"/>
                    </a:lnTo>
                    <a:lnTo>
                      <a:pt x="923" y="745"/>
                    </a:lnTo>
                    <a:lnTo>
                      <a:pt x="856" y="737"/>
                    </a:lnTo>
                    <a:lnTo>
                      <a:pt x="790" y="729"/>
                    </a:lnTo>
                    <a:lnTo>
                      <a:pt x="728" y="719"/>
                    </a:lnTo>
                    <a:lnTo>
                      <a:pt x="666" y="709"/>
                    </a:lnTo>
                    <a:lnTo>
                      <a:pt x="607" y="698"/>
                    </a:lnTo>
                    <a:lnTo>
                      <a:pt x="550" y="686"/>
                    </a:lnTo>
                    <a:lnTo>
                      <a:pt x="494" y="673"/>
                    </a:lnTo>
                    <a:lnTo>
                      <a:pt x="442" y="660"/>
                    </a:lnTo>
                    <a:lnTo>
                      <a:pt x="392" y="646"/>
                    </a:lnTo>
                    <a:lnTo>
                      <a:pt x="345" y="632"/>
                    </a:lnTo>
                    <a:lnTo>
                      <a:pt x="300" y="617"/>
                    </a:lnTo>
                    <a:lnTo>
                      <a:pt x="257" y="602"/>
                    </a:lnTo>
                    <a:lnTo>
                      <a:pt x="219" y="586"/>
                    </a:lnTo>
                    <a:lnTo>
                      <a:pt x="181" y="568"/>
                    </a:lnTo>
                    <a:lnTo>
                      <a:pt x="148" y="551"/>
                    </a:lnTo>
                    <a:lnTo>
                      <a:pt x="118" y="534"/>
                    </a:lnTo>
                    <a:lnTo>
                      <a:pt x="91" y="516"/>
                    </a:lnTo>
                    <a:lnTo>
                      <a:pt x="67" y="498"/>
                    </a:lnTo>
                    <a:lnTo>
                      <a:pt x="47" y="479"/>
                    </a:lnTo>
                    <a:lnTo>
                      <a:pt x="30" y="459"/>
                    </a:lnTo>
                    <a:lnTo>
                      <a:pt x="17" y="440"/>
                    </a:lnTo>
                    <a:lnTo>
                      <a:pt x="8" y="420"/>
                    </a:lnTo>
                    <a:lnTo>
                      <a:pt x="2" y="400"/>
                    </a:lnTo>
                    <a:lnTo>
                      <a:pt x="0" y="380"/>
                    </a:lnTo>
                    <a:lnTo>
                      <a:pt x="2" y="359"/>
                    </a:lnTo>
                    <a:lnTo>
                      <a:pt x="8" y="339"/>
                    </a:lnTo>
                    <a:lnTo>
                      <a:pt x="17" y="320"/>
                    </a:lnTo>
                    <a:lnTo>
                      <a:pt x="30" y="301"/>
                    </a:lnTo>
                    <a:lnTo>
                      <a:pt x="47" y="282"/>
                    </a:lnTo>
                    <a:lnTo>
                      <a:pt x="67" y="264"/>
                    </a:lnTo>
                    <a:lnTo>
                      <a:pt x="91" y="245"/>
                    </a:lnTo>
                    <a:lnTo>
                      <a:pt x="118" y="228"/>
                    </a:lnTo>
                    <a:lnTo>
                      <a:pt x="148" y="211"/>
                    </a:lnTo>
                    <a:lnTo>
                      <a:pt x="181" y="195"/>
                    </a:lnTo>
                    <a:lnTo>
                      <a:pt x="219" y="179"/>
                    </a:lnTo>
                    <a:lnTo>
                      <a:pt x="257" y="164"/>
                    </a:lnTo>
                    <a:lnTo>
                      <a:pt x="300" y="148"/>
                    </a:lnTo>
                    <a:lnTo>
                      <a:pt x="345" y="134"/>
                    </a:lnTo>
                    <a:lnTo>
                      <a:pt x="392" y="121"/>
                    </a:lnTo>
                    <a:lnTo>
                      <a:pt x="442" y="108"/>
                    </a:lnTo>
                    <a:lnTo>
                      <a:pt x="494" y="96"/>
                    </a:lnTo>
                    <a:lnTo>
                      <a:pt x="550" y="84"/>
                    </a:lnTo>
                    <a:lnTo>
                      <a:pt x="607" y="73"/>
                    </a:lnTo>
                    <a:lnTo>
                      <a:pt x="666" y="63"/>
                    </a:lnTo>
                    <a:lnTo>
                      <a:pt x="728" y="54"/>
                    </a:lnTo>
                    <a:lnTo>
                      <a:pt x="790" y="45"/>
                    </a:lnTo>
                    <a:lnTo>
                      <a:pt x="856" y="36"/>
                    </a:lnTo>
                    <a:lnTo>
                      <a:pt x="923" y="29"/>
                    </a:lnTo>
                    <a:lnTo>
                      <a:pt x="991" y="22"/>
                    </a:lnTo>
                    <a:lnTo>
                      <a:pt x="1062" y="17"/>
                    </a:lnTo>
                    <a:lnTo>
                      <a:pt x="1134" y="12"/>
                    </a:lnTo>
                    <a:lnTo>
                      <a:pt x="1206" y="8"/>
                    </a:lnTo>
                    <a:lnTo>
                      <a:pt x="1281" y="5"/>
                    </a:lnTo>
                    <a:lnTo>
                      <a:pt x="1357" y="2"/>
                    </a:lnTo>
                    <a:lnTo>
                      <a:pt x="1434" y="1"/>
                    </a:lnTo>
                    <a:lnTo>
                      <a:pt x="1511" y="0"/>
                    </a:lnTo>
                    <a:lnTo>
                      <a:pt x="1589" y="1"/>
                    </a:lnTo>
                    <a:lnTo>
                      <a:pt x="1666" y="2"/>
                    </a:lnTo>
                    <a:lnTo>
                      <a:pt x="1742" y="5"/>
                    </a:lnTo>
                    <a:lnTo>
                      <a:pt x="1816" y="8"/>
                    </a:lnTo>
                    <a:lnTo>
                      <a:pt x="1889" y="12"/>
                    </a:lnTo>
                    <a:lnTo>
                      <a:pt x="1961" y="17"/>
                    </a:lnTo>
                    <a:lnTo>
                      <a:pt x="2032" y="22"/>
                    </a:lnTo>
                    <a:lnTo>
                      <a:pt x="2100" y="29"/>
                    </a:lnTo>
                    <a:lnTo>
                      <a:pt x="2167" y="36"/>
                    </a:lnTo>
                    <a:lnTo>
                      <a:pt x="2233" y="45"/>
                    </a:lnTo>
                    <a:lnTo>
                      <a:pt x="2295" y="54"/>
                    </a:lnTo>
                    <a:lnTo>
                      <a:pt x="2357" y="63"/>
                    </a:lnTo>
                    <a:lnTo>
                      <a:pt x="2416" y="73"/>
                    </a:lnTo>
                    <a:lnTo>
                      <a:pt x="2473" y="84"/>
                    </a:lnTo>
                    <a:lnTo>
                      <a:pt x="2528" y="96"/>
                    </a:lnTo>
                    <a:lnTo>
                      <a:pt x="2581" y="108"/>
                    </a:lnTo>
                    <a:lnTo>
                      <a:pt x="2630" y="121"/>
                    </a:lnTo>
                    <a:lnTo>
                      <a:pt x="2678" y="134"/>
                    </a:lnTo>
                    <a:lnTo>
                      <a:pt x="2723" y="148"/>
                    </a:lnTo>
                    <a:lnTo>
                      <a:pt x="2766" y="164"/>
                    </a:lnTo>
                    <a:lnTo>
                      <a:pt x="2805" y="179"/>
                    </a:lnTo>
                    <a:lnTo>
                      <a:pt x="2842" y="195"/>
                    </a:lnTo>
                    <a:lnTo>
                      <a:pt x="2875" y="211"/>
                    </a:lnTo>
                    <a:lnTo>
                      <a:pt x="2905" y="228"/>
                    </a:lnTo>
                    <a:lnTo>
                      <a:pt x="2932" y="245"/>
                    </a:lnTo>
                    <a:lnTo>
                      <a:pt x="2956" y="264"/>
                    </a:lnTo>
                    <a:lnTo>
                      <a:pt x="2976" y="282"/>
                    </a:lnTo>
                    <a:lnTo>
                      <a:pt x="2993" y="301"/>
                    </a:lnTo>
                    <a:lnTo>
                      <a:pt x="3006" y="320"/>
                    </a:lnTo>
                    <a:lnTo>
                      <a:pt x="3016" y="339"/>
                    </a:lnTo>
                    <a:lnTo>
                      <a:pt x="3021" y="359"/>
                    </a:lnTo>
                    <a:lnTo>
                      <a:pt x="3023" y="3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981800" y="6513120"/>
                <a:ext cx="332280" cy="91800"/>
              </a:xfrm>
              <a:custGeom>
                <a:avLst/>
                <a:gdLst/>
                <a:ahLst/>
                <a:rect l="l" t="t" r="r" b="b"/>
                <a:pathLst>
                  <a:path w="3021" h="774">
                    <a:moveTo>
                      <a:pt x="3021" y="379"/>
                    </a:moveTo>
                    <a:lnTo>
                      <a:pt x="3019" y="399"/>
                    </a:lnTo>
                    <a:lnTo>
                      <a:pt x="3013" y="419"/>
                    </a:lnTo>
                    <a:lnTo>
                      <a:pt x="3004" y="439"/>
                    </a:lnTo>
                    <a:lnTo>
                      <a:pt x="2991" y="458"/>
                    </a:lnTo>
                    <a:lnTo>
                      <a:pt x="2974" y="478"/>
                    </a:lnTo>
                    <a:lnTo>
                      <a:pt x="2954" y="497"/>
                    </a:lnTo>
                    <a:lnTo>
                      <a:pt x="2929" y="515"/>
                    </a:lnTo>
                    <a:lnTo>
                      <a:pt x="2902" y="533"/>
                    </a:lnTo>
                    <a:lnTo>
                      <a:pt x="2872" y="550"/>
                    </a:lnTo>
                    <a:lnTo>
                      <a:pt x="2839" y="567"/>
                    </a:lnTo>
                    <a:lnTo>
                      <a:pt x="2802" y="584"/>
                    </a:lnTo>
                    <a:lnTo>
                      <a:pt x="2763" y="600"/>
                    </a:lnTo>
                    <a:lnTo>
                      <a:pt x="2721" y="616"/>
                    </a:lnTo>
                    <a:lnTo>
                      <a:pt x="2676" y="630"/>
                    </a:lnTo>
                    <a:lnTo>
                      <a:pt x="2628" y="645"/>
                    </a:lnTo>
                    <a:lnTo>
                      <a:pt x="2579" y="658"/>
                    </a:lnTo>
                    <a:lnTo>
                      <a:pt x="2526" y="671"/>
                    </a:lnTo>
                    <a:lnTo>
                      <a:pt x="2472" y="685"/>
                    </a:lnTo>
                    <a:lnTo>
                      <a:pt x="2414" y="696"/>
                    </a:lnTo>
                    <a:lnTo>
                      <a:pt x="2355" y="707"/>
                    </a:lnTo>
                    <a:lnTo>
                      <a:pt x="2294" y="717"/>
                    </a:lnTo>
                    <a:lnTo>
                      <a:pt x="2231" y="727"/>
                    </a:lnTo>
                    <a:lnTo>
                      <a:pt x="2166" y="735"/>
                    </a:lnTo>
                    <a:lnTo>
                      <a:pt x="2098" y="743"/>
                    </a:lnTo>
                    <a:lnTo>
                      <a:pt x="2030" y="750"/>
                    </a:lnTo>
                    <a:lnTo>
                      <a:pt x="1960" y="757"/>
                    </a:lnTo>
                    <a:lnTo>
                      <a:pt x="1888" y="762"/>
                    </a:lnTo>
                    <a:lnTo>
                      <a:pt x="1815" y="766"/>
                    </a:lnTo>
                    <a:lnTo>
                      <a:pt x="1741" y="770"/>
                    </a:lnTo>
                    <a:lnTo>
                      <a:pt x="1665" y="772"/>
                    </a:lnTo>
                    <a:lnTo>
                      <a:pt x="1588" y="774"/>
                    </a:lnTo>
                    <a:lnTo>
                      <a:pt x="1510" y="774"/>
                    </a:lnTo>
                    <a:lnTo>
                      <a:pt x="1433" y="774"/>
                    </a:lnTo>
                    <a:lnTo>
                      <a:pt x="1356" y="772"/>
                    </a:lnTo>
                    <a:lnTo>
                      <a:pt x="1280" y="770"/>
                    </a:lnTo>
                    <a:lnTo>
                      <a:pt x="1206" y="766"/>
                    </a:lnTo>
                    <a:lnTo>
                      <a:pt x="1133" y="762"/>
                    </a:lnTo>
                    <a:lnTo>
                      <a:pt x="1061" y="757"/>
                    </a:lnTo>
                    <a:lnTo>
                      <a:pt x="991" y="750"/>
                    </a:lnTo>
                    <a:lnTo>
                      <a:pt x="923" y="743"/>
                    </a:lnTo>
                    <a:lnTo>
                      <a:pt x="856" y="735"/>
                    </a:lnTo>
                    <a:lnTo>
                      <a:pt x="790" y="727"/>
                    </a:lnTo>
                    <a:lnTo>
                      <a:pt x="727" y="717"/>
                    </a:lnTo>
                    <a:lnTo>
                      <a:pt x="666" y="707"/>
                    </a:lnTo>
                    <a:lnTo>
                      <a:pt x="607" y="696"/>
                    </a:lnTo>
                    <a:lnTo>
                      <a:pt x="550" y="685"/>
                    </a:lnTo>
                    <a:lnTo>
                      <a:pt x="494" y="671"/>
                    </a:lnTo>
                    <a:lnTo>
                      <a:pt x="442" y="658"/>
                    </a:lnTo>
                    <a:lnTo>
                      <a:pt x="392" y="645"/>
                    </a:lnTo>
                    <a:lnTo>
                      <a:pt x="345" y="630"/>
                    </a:lnTo>
                    <a:lnTo>
                      <a:pt x="300" y="616"/>
                    </a:lnTo>
                    <a:lnTo>
                      <a:pt x="258" y="600"/>
                    </a:lnTo>
                    <a:lnTo>
                      <a:pt x="219" y="584"/>
                    </a:lnTo>
                    <a:lnTo>
                      <a:pt x="182" y="567"/>
                    </a:lnTo>
                    <a:lnTo>
                      <a:pt x="149" y="550"/>
                    </a:lnTo>
                    <a:lnTo>
                      <a:pt x="119" y="533"/>
                    </a:lnTo>
                    <a:lnTo>
                      <a:pt x="91" y="515"/>
                    </a:lnTo>
                    <a:lnTo>
                      <a:pt x="67" y="497"/>
                    </a:lnTo>
                    <a:lnTo>
                      <a:pt x="47" y="478"/>
                    </a:lnTo>
                    <a:lnTo>
                      <a:pt x="31" y="458"/>
                    </a:lnTo>
                    <a:lnTo>
                      <a:pt x="17" y="439"/>
                    </a:lnTo>
                    <a:lnTo>
                      <a:pt x="8" y="419"/>
                    </a:lnTo>
                    <a:lnTo>
                      <a:pt x="2" y="399"/>
                    </a:lnTo>
                    <a:lnTo>
                      <a:pt x="0" y="379"/>
                    </a:lnTo>
                    <a:lnTo>
                      <a:pt x="2" y="358"/>
                    </a:lnTo>
                    <a:lnTo>
                      <a:pt x="8" y="338"/>
                    </a:lnTo>
                    <a:lnTo>
                      <a:pt x="17" y="319"/>
                    </a:lnTo>
                    <a:lnTo>
                      <a:pt x="31" y="300"/>
                    </a:lnTo>
                    <a:lnTo>
                      <a:pt x="47" y="281"/>
                    </a:lnTo>
                    <a:lnTo>
                      <a:pt x="67" y="263"/>
                    </a:lnTo>
                    <a:lnTo>
                      <a:pt x="91" y="244"/>
                    </a:lnTo>
                    <a:lnTo>
                      <a:pt x="119" y="227"/>
                    </a:lnTo>
                    <a:lnTo>
                      <a:pt x="149" y="210"/>
                    </a:lnTo>
                    <a:lnTo>
                      <a:pt x="182" y="194"/>
                    </a:lnTo>
                    <a:lnTo>
                      <a:pt x="219" y="179"/>
                    </a:lnTo>
                    <a:lnTo>
                      <a:pt x="258" y="163"/>
                    </a:lnTo>
                    <a:lnTo>
                      <a:pt x="300" y="149"/>
                    </a:lnTo>
                    <a:lnTo>
                      <a:pt x="345" y="134"/>
                    </a:lnTo>
                    <a:lnTo>
                      <a:pt x="392" y="120"/>
                    </a:lnTo>
                    <a:lnTo>
                      <a:pt x="442" y="108"/>
                    </a:lnTo>
                    <a:lnTo>
                      <a:pt x="494" y="95"/>
                    </a:lnTo>
                    <a:lnTo>
                      <a:pt x="550" y="84"/>
                    </a:lnTo>
                    <a:lnTo>
                      <a:pt x="607" y="73"/>
                    </a:lnTo>
                    <a:lnTo>
                      <a:pt x="666" y="63"/>
                    </a:lnTo>
                    <a:lnTo>
                      <a:pt x="727" y="53"/>
                    </a:lnTo>
                    <a:lnTo>
                      <a:pt x="790" y="45"/>
                    </a:lnTo>
                    <a:lnTo>
                      <a:pt x="856" y="36"/>
                    </a:lnTo>
                    <a:lnTo>
                      <a:pt x="923" y="29"/>
                    </a:lnTo>
                    <a:lnTo>
                      <a:pt x="991" y="22"/>
                    </a:lnTo>
                    <a:lnTo>
                      <a:pt x="1061" y="16"/>
                    </a:lnTo>
                    <a:lnTo>
                      <a:pt x="1133" y="12"/>
                    </a:lnTo>
                    <a:lnTo>
                      <a:pt x="1206" y="8"/>
                    </a:lnTo>
                    <a:lnTo>
                      <a:pt x="1280" y="5"/>
                    </a:lnTo>
                    <a:lnTo>
                      <a:pt x="1356" y="2"/>
                    </a:lnTo>
                    <a:lnTo>
                      <a:pt x="1433" y="1"/>
                    </a:lnTo>
                    <a:lnTo>
                      <a:pt x="1510" y="0"/>
                    </a:lnTo>
                    <a:lnTo>
                      <a:pt x="1588" y="1"/>
                    </a:lnTo>
                    <a:lnTo>
                      <a:pt x="1665" y="2"/>
                    </a:lnTo>
                    <a:lnTo>
                      <a:pt x="1741" y="5"/>
                    </a:lnTo>
                    <a:lnTo>
                      <a:pt x="1815" y="8"/>
                    </a:lnTo>
                    <a:lnTo>
                      <a:pt x="1888" y="12"/>
                    </a:lnTo>
                    <a:lnTo>
                      <a:pt x="1960" y="16"/>
                    </a:lnTo>
                    <a:lnTo>
                      <a:pt x="2030" y="22"/>
                    </a:lnTo>
                    <a:lnTo>
                      <a:pt x="2098" y="29"/>
                    </a:lnTo>
                    <a:lnTo>
                      <a:pt x="2166" y="36"/>
                    </a:lnTo>
                    <a:lnTo>
                      <a:pt x="2231" y="45"/>
                    </a:lnTo>
                    <a:lnTo>
                      <a:pt x="2294" y="53"/>
                    </a:lnTo>
                    <a:lnTo>
                      <a:pt x="2355" y="63"/>
                    </a:lnTo>
                    <a:lnTo>
                      <a:pt x="2414" y="73"/>
                    </a:lnTo>
                    <a:lnTo>
                      <a:pt x="2472" y="84"/>
                    </a:lnTo>
                    <a:lnTo>
                      <a:pt x="2526" y="95"/>
                    </a:lnTo>
                    <a:lnTo>
                      <a:pt x="2579" y="108"/>
                    </a:lnTo>
                    <a:lnTo>
                      <a:pt x="2628" y="120"/>
                    </a:lnTo>
                    <a:lnTo>
                      <a:pt x="2676" y="134"/>
                    </a:lnTo>
                    <a:lnTo>
                      <a:pt x="2721" y="149"/>
                    </a:lnTo>
                    <a:lnTo>
                      <a:pt x="2763" y="163"/>
                    </a:lnTo>
                    <a:lnTo>
                      <a:pt x="2802" y="179"/>
                    </a:lnTo>
                    <a:lnTo>
                      <a:pt x="2839" y="194"/>
                    </a:lnTo>
                    <a:lnTo>
                      <a:pt x="2872" y="210"/>
                    </a:lnTo>
                    <a:lnTo>
                      <a:pt x="2902" y="227"/>
                    </a:lnTo>
                    <a:lnTo>
                      <a:pt x="2929" y="244"/>
                    </a:lnTo>
                    <a:lnTo>
                      <a:pt x="2954" y="263"/>
                    </a:lnTo>
                    <a:lnTo>
                      <a:pt x="2974" y="281"/>
                    </a:lnTo>
                    <a:lnTo>
                      <a:pt x="2991" y="300"/>
                    </a:lnTo>
                    <a:lnTo>
                      <a:pt x="3004" y="319"/>
                    </a:lnTo>
                    <a:lnTo>
                      <a:pt x="3013" y="338"/>
                    </a:lnTo>
                    <a:lnTo>
                      <a:pt x="3019" y="358"/>
                    </a:lnTo>
                    <a:lnTo>
                      <a:pt x="3021" y="3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981800" y="6513120"/>
                <a:ext cx="332280" cy="91800"/>
              </a:xfrm>
              <a:custGeom>
                <a:avLst/>
                <a:gdLst/>
                <a:ahLst/>
                <a:rect l="l" t="t" r="r" b="b"/>
                <a:pathLst>
                  <a:path w="3018" h="772">
                    <a:moveTo>
                      <a:pt x="3018" y="378"/>
                    </a:moveTo>
                    <a:lnTo>
                      <a:pt x="3016" y="398"/>
                    </a:lnTo>
                    <a:lnTo>
                      <a:pt x="3010" y="418"/>
                    </a:lnTo>
                    <a:lnTo>
                      <a:pt x="3000" y="438"/>
                    </a:lnTo>
                    <a:lnTo>
                      <a:pt x="2987" y="457"/>
                    </a:lnTo>
                    <a:lnTo>
                      <a:pt x="2970" y="477"/>
                    </a:lnTo>
                    <a:lnTo>
                      <a:pt x="2950" y="495"/>
                    </a:lnTo>
                    <a:lnTo>
                      <a:pt x="2926" y="514"/>
                    </a:lnTo>
                    <a:lnTo>
                      <a:pt x="2899" y="531"/>
                    </a:lnTo>
                    <a:lnTo>
                      <a:pt x="2869" y="549"/>
                    </a:lnTo>
                    <a:lnTo>
                      <a:pt x="2836" y="566"/>
                    </a:lnTo>
                    <a:lnTo>
                      <a:pt x="2799" y="583"/>
                    </a:lnTo>
                    <a:lnTo>
                      <a:pt x="2760" y="599"/>
                    </a:lnTo>
                    <a:lnTo>
                      <a:pt x="2718" y="614"/>
                    </a:lnTo>
                    <a:lnTo>
                      <a:pt x="2673" y="629"/>
                    </a:lnTo>
                    <a:lnTo>
                      <a:pt x="2625" y="643"/>
                    </a:lnTo>
                    <a:lnTo>
                      <a:pt x="2576" y="657"/>
                    </a:lnTo>
                    <a:lnTo>
                      <a:pt x="2523" y="670"/>
                    </a:lnTo>
                    <a:lnTo>
                      <a:pt x="2469" y="683"/>
                    </a:lnTo>
                    <a:lnTo>
                      <a:pt x="2411" y="695"/>
                    </a:lnTo>
                    <a:lnTo>
                      <a:pt x="2353" y="705"/>
                    </a:lnTo>
                    <a:lnTo>
                      <a:pt x="2291" y="716"/>
                    </a:lnTo>
                    <a:lnTo>
                      <a:pt x="2228" y="725"/>
                    </a:lnTo>
                    <a:lnTo>
                      <a:pt x="2163" y="734"/>
                    </a:lnTo>
                    <a:lnTo>
                      <a:pt x="2096" y="741"/>
                    </a:lnTo>
                    <a:lnTo>
                      <a:pt x="2028" y="749"/>
                    </a:lnTo>
                    <a:lnTo>
                      <a:pt x="1957" y="755"/>
                    </a:lnTo>
                    <a:lnTo>
                      <a:pt x="1886" y="760"/>
                    </a:lnTo>
                    <a:lnTo>
                      <a:pt x="1812" y="764"/>
                    </a:lnTo>
                    <a:lnTo>
                      <a:pt x="1739" y="768"/>
                    </a:lnTo>
                    <a:lnTo>
                      <a:pt x="1663" y="770"/>
                    </a:lnTo>
                    <a:lnTo>
                      <a:pt x="1586" y="772"/>
                    </a:lnTo>
                    <a:lnTo>
                      <a:pt x="1508" y="772"/>
                    </a:lnTo>
                    <a:lnTo>
                      <a:pt x="1431" y="772"/>
                    </a:lnTo>
                    <a:lnTo>
                      <a:pt x="1354" y="770"/>
                    </a:lnTo>
                    <a:lnTo>
                      <a:pt x="1278" y="768"/>
                    </a:lnTo>
                    <a:lnTo>
                      <a:pt x="1204" y="764"/>
                    </a:lnTo>
                    <a:lnTo>
                      <a:pt x="1132" y="760"/>
                    </a:lnTo>
                    <a:lnTo>
                      <a:pt x="1060" y="755"/>
                    </a:lnTo>
                    <a:lnTo>
                      <a:pt x="989" y="749"/>
                    </a:lnTo>
                    <a:lnTo>
                      <a:pt x="921" y="741"/>
                    </a:lnTo>
                    <a:lnTo>
                      <a:pt x="854" y="734"/>
                    </a:lnTo>
                    <a:lnTo>
                      <a:pt x="789" y="725"/>
                    </a:lnTo>
                    <a:lnTo>
                      <a:pt x="726" y="716"/>
                    </a:lnTo>
                    <a:lnTo>
                      <a:pt x="664" y="705"/>
                    </a:lnTo>
                    <a:lnTo>
                      <a:pt x="606" y="695"/>
                    </a:lnTo>
                    <a:lnTo>
                      <a:pt x="548" y="683"/>
                    </a:lnTo>
                    <a:lnTo>
                      <a:pt x="493" y="670"/>
                    </a:lnTo>
                    <a:lnTo>
                      <a:pt x="441" y="657"/>
                    </a:lnTo>
                    <a:lnTo>
                      <a:pt x="391" y="643"/>
                    </a:lnTo>
                    <a:lnTo>
                      <a:pt x="344" y="629"/>
                    </a:lnTo>
                    <a:lnTo>
                      <a:pt x="300" y="614"/>
                    </a:lnTo>
                    <a:lnTo>
                      <a:pt x="257" y="599"/>
                    </a:lnTo>
                    <a:lnTo>
                      <a:pt x="218" y="583"/>
                    </a:lnTo>
                    <a:lnTo>
                      <a:pt x="181" y="566"/>
                    </a:lnTo>
                    <a:lnTo>
                      <a:pt x="148" y="549"/>
                    </a:lnTo>
                    <a:lnTo>
                      <a:pt x="118" y="531"/>
                    </a:lnTo>
                    <a:lnTo>
                      <a:pt x="91" y="514"/>
                    </a:lnTo>
                    <a:lnTo>
                      <a:pt x="67" y="495"/>
                    </a:lnTo>
                    <a:lnTo>
                      <a:pt x="47" y="477"/>
                    </a:lnTo>
                    <a:lnTo>
                      <a:pt x="30" y="457"/>
                    </a:lnTo>
                    <a:lnTo>
                      <a:pt x="17" y="438"/>
                    </a:lnTo>
                    <a:lnTo>
                      <a:pt x="7" y="418"/>
                    </a:lnTo>
                    <a:lnTo>
                      <a:pt x="2" y="398"/>
                    </a:lnTo>
                    <a:lnTo>
                      <a:pt x="0" y="378"/>
                    </a:lnTo>
                    <a:lnTo>
                      <a:pt x="2" y="357"/>
                    </a:lnTo>
                    <a:lnTo>
                      <a:pt x="7" y="337"/>
                    </a:lnTo>
                    <a:lnTo>
                      <a:pt x="17" y="318"/>
                    </a:lnTo>
                    <a:lnTo>
                      <a:pt x="30" y="299"/>
                    </a:lnTo>
                    <a:lnTo>
                      <a:pt x="47" y="280"/>
                    </a:lnTo>
                    <a:lnTo>
                      <a:pt x="67" y="262"/>
                    </a:lnTo>
                    <a:lnTo>
                      <a:pt x="91" y="244"/>
                    </a:lnTo>
                    <a:lnTo>
                      <a:pt x="118" y="227"/>
                    </a:lnTo>
                    <a:lnTo>
                      <a:pt x="148" y="210"/>
                    </a:lnTo>
                    <a:lnTo>
                      <a:pt x="181" y="194"/>
                    </a:lnTo>
                    <a:lnTo>
                      <a:pt x="218" y="178"/>
                    </a:lnTo>
                    <a:lnTo>
                      <a:pt x="257" y="163"/>
                    </a:lnTo>
                    <a:lnTo>
                      <a:pt x="300" y="148"/>
                    </a:lnTo>
                    <a:lnTo>
                      <a:pt x="344" y="133"/>
                    </a:lnTo>
                    <a:lnTo>
                      <a:pt x="391" y="120"/>
                    </a:lnTo>
                    <a:lnTo>
                      <a:pt x="441" y="107"/>
                    </a:lnTo>
                    <a:lnTo>
                      <a:pt x="493" y="95"/>
                    </a:lnTo>
                    <a:lnTo>
                      <a:pt x="548" y="84"/>
                    </a:lnTo>
                    <a:lnTo>
                      <a:pt x="606" y="73"/>
                    </a:lnTo>
                    <a:lnTo>
                      <a:pt x="664" y="63"/>
                    </a:lnTo>
                    <a:lnTo>
                      <a:pt x="726" y="53"/>
                    </a:lnTo>
                    <a:lnTo>
                      <a:pt x="789" y="45"/>
                    </a:lnTo>
                    <a:lnTo>
                      <a:pt x="854" y="36"/>
                    </a:lnTo>
                    <a:lnTo>
                      <a:pt x="921" y="28"/>
                    </a:lnTo>
                    <a:lnTo>
                      <a:pt x="989" y="22"/>
                    </a:lnTo>
                    <a:lnTo>
                      <a:pt x="1060" y="16"/>
                    </a:lnTo>
                    <a:lnTo>
                      <a:pt x="1132" y="12"/>
                    </a:lnTo>
                    <a:lnTo>
                      <a:pt x="1204" y="8"/>
                    </a:lnTo>
                    <a:lnTo>
                      <a:pt x="1278" y="4"/>
                    </a:lnTo>
                    <a:lnTo>
                      <a:pt x="1354" y="2"/>
                    </a:lnTo>
                    <a:lnTo>
                      <a:pt x="1431" y="1"/>
                    </a:lnTo>
                    <a:lnTo>
                      <a:pt x="1508" y="0"/>
                    </a:lnTo>
                    <a:lnTo>
                      <a:pt x="1586" y="1"/>
                    </a:lnTo>
                    <a:lnTo>
                      <a:pt x="1663" y="2"/>
                    </a:lnTo>
                    <a:lnTo>
                      <a:pt x="1739" y="4"/>
                    </a:lnTo>
                    <a:lnTo>
                      <a:pt x="1812" y="8"/>
                    </a:lnTo>
                    <a:lnTo>
                      <a:pt x="1886" y="12"/>
                    </a:lnTo>
                    <a:lnTo>
                      <a:pt x="1957" y="16"/>
                    </a:lnTo>
                    <a:lnTo>
                      <a:pt x="2028" y="22"/>
                    </a:lnTo>
                    <a:lnTo>
                      <a:pt x="2096" y="28"/>
                    </a:lnTo>
                    <a:lnTo>
                      <a:pt x="2163" y="36"/>
                    </a:lnTo>
                    <a:lnTo>
                      <a:pt x="2228" y="45"/>
                    </a:lnTo>
                    <a:lnTo>
                      <a:pt x="2291" y="53"/>
                    </a:lnTo>
                    <a:lnTo>
                      <a:pt x="2353" y="63"/>
                    </a:lnTo>
                    <a:lnTo>
                      <a:pt x="2411" y="73"/>
                    </a:lnTo>
                    <a:lnTo>
                      <a:pt x="2469" y="84"/>
                    </a:lnTo>
                    <a:lnTo>
                      <a:pt x="2523" y="95"/>
                    </a:lnTo>
                    <a:lnTo>
                      <a:pt x="2576" y="107"/>
                    </a:lnTo>
                    <a:lnTo>
                      <a:pt x="2625" y="120"/>
                    </a:lnTo>
                    <a:lnTo>
                      <a:pt x="2673" y="133"/>
                    </a:lnTo>
                    <a:lnTo>
                      <a:pt x="2718" y="148"/>
                    </a:lnTo>
                    <a:lnTo>
                      <a:pt x="2760" y="163"/>
                    </a:lnTo>
                    <a:lnTo>
                      <a:pt x="2799" y="178"/>
                    </a:lnTo>
                    <a:lnTo>
                      <a:pt x="2836" y="194"/>
                    </a:lnTo>
                    <a:lnTo>
                      <a:pt x="2869" y="210"/>
                    </a:lnTo>
                    <a:lnTo>
                      <a:pt x="2899" y="227"/>
                    </a:lnTo>
                    <a:lnTo>
                      <a:pt x="2926" y="244"/>
                    </a:lnTo>
                    <a:lnTo>
                      <a:pt x="2950" y="262"/>
                    </a:lnTo>
                    <a:lnTo>
                      <a:pt x="2970" y="280"/>
                    </a:lnTo>
                    <a:lnTo>
                      <a:pt x="2987" y="299"/>
                    </a:lnTo>
                    <a:lnTo>
                      <a:pt x="3000" y="318"/>
                    </a:lnTo>
                    <a:lnTo>
                      <a:pt x="3010" y="337"/>
                    </a:lnTo>
                    <a:lnTo>
                      <a:pt x="3016" y="357"/>
                    </a:lnTo>
                    <a:lnTo>
                      <a:pt x="3018" y="3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981800" y="6513120"/>
                <a:ext cx="332280" cy="91800"/>
              </a:xfrm>
              <a:custGeom>
                <a:avLst/>
                <a:gdLst/>
                <a:ahLst/>
                <a:rect l="l" t="t" r="r" b="b"/>
                <a:pathLst>
                  <a:path w="3015" h="770">
                    <a:moveTo>
                      <a:pt x="3015" y="377"/>
                    </a:moveTo>
                    <a:lnTo>
                      <a:pt x="3013" y="397"/>
                    </a:lnTo>
                    <a:lnTo>
                      <a:pt x="3007" y="417"/>
                    </a:lnTo>
                    <a:lnTo>
                      <a:pt x="2998" y="436"/>
                    </a:lnTo>
                    <a:lnTo>
                      <a:pt x="2985" y="456"/>
                    </a:lnTo>
                    <a:lnTo>
                      <a:pt x="2968" y="476"/>
                    </a:lnTo>
                    <a:lnTo>
                      <a:pt x="2948" y="494"/>
                    </a:lnTo>
                    <a:lnTo>
                      <a:pt x="2924" y="512"/>
                    </a:lnTo>
                    <a:lnTo>
                      <a:pt x="2897" y="530"/>
                    </a:lnTo>
                    <a:lnTo>
                      <a:pt x="2867" y="547"/>
                    </a:lnTo>
                    <a:lnTo>
                      <a:pt x="2834" y="564"/>
                    </a:lnTo>
                    <a:lnTo>
                      <a:pt x="2797" y="581"/>
                    </a:lnTo>
                    <a:lnTo>
                      <a:pt x="2758" y="597"/>
                    </a:lnTo>
                    <a:lnTo>
                      <a:pt x="2715" y="613"/>
                    </a:lnTo>
                    <a:lnTo>
                      <a:pt x="2671" y="627"/>
                    </a:lnTo>
                    <a:lnTo>
                      <a:pt x="2623" y="641"/>
                    </a:lnTo>
                    <a:lnTo>
                      <a:pt x="2574" y="655"/>
                    </a:lnTo>
                    <a:lnTo>
                      <a:pt x="2521" y="668"/>
                    </a:lnTo>
                    <a:lnTo>
                      <a:pt x="2467" y="680"/>
                    </a:lnTo>
                    <a:lnTo>
                      <a:pt x="2409" y="693"/>
                    </a:lnTo>
                    <a:lnTo>
                      <a:pt x="2351" y="704"/>
                    </a:lnTo>
                    <a:lnTo>
                      <a:pt x="2289" y="714"/>
                    </a:lnTo>
                    <a:lnTo>
                      <a:pt x="2227" y="723"/>
                    </a:lnTo>
                    <a:lnTo>
                      <a:pt x="2161" y="732"/>
                    </a:lnTo>
                    <a:lnTo>
                      <a:pt x="2094" y="740"/>
                    </a:lnTo>
                    <a:lnTo>
                      <a:pt x="2026" y="747"/>
                    </a:lnTo>
                    <a:lnTo>
                      <a:pt x="1956" y="753"/>
                    </a:lnTo>
                    <a:lnTo>
                      <a:pt x="1884" y="758"/>
                    </a:lnTo>
                    <a:lnTo>
                      <a:pt x="1811" y="762"/>
                    </a:lnTo>
                    <a:lnTo>
                      <a:pt x="1737" y="766"/>
                    </a:lnTo>
                    <a:lnTo>
                      <a:pt x="1662" y="768"/>
                    </a:lnTo>
                    <a:lnTo>
                      <a:pt x="1585" y="770"/>
                    </a:lnTo>
                    <a:lnTo>
                      <a:pt x="1507" y="770"/>
                    </a:lnTo>
                    <a:lnTo>
                      <a:pt x="1430" y="770"/>
                    </a:lnTo>
                    <a:lnTo>
                      <a:pt x="1353" y="768"/>
                    </a:lnTo>
                    <a:lnTo>
                      <a:pt x="1278" y="766"/>
                    </a:lnTo>
                    <a:lnTo>
                      <a:pt x="1203" y="762"/>
                    </a:lnTo>
                    <a:lnTo>
                      <a:pt x="1131" y="758"/>
                    </a:lnTo>
                    <a:lnTo>
                      <a:pt x="1059" y="753"/>
                    </a:lnTo>
                    <a:lnTo>
                      <a:pt x="989" y="747"/>
                    </a:lnTo>
                    <a:lnTo>
                      <a:pt x="921" y="740"/>
                    </a:lnTo>
                    <a:lnTo>
                      <a:pt x="854" y="732"/>
                    </a:lnTo>
                    <a:lnTo>
                      <a:pt x="788" y="723"/>
                    </a:lnTo>
                    <a:lnTo>
                      <a:pt x="726" y="714"/>
                    </a:lnTo>
                    <a:lnTo>
                      <a:pt x="664" y="704"/>
                    </a:lnTo>
                    <a:lnTo>
                      <a:pt x="606" y="693"/>
                    </a:lnTo>
                    <a:lnTo>
                      <a:pt x="548" y="680"/>
                    </a:lnTo>
                    <a:lnTo>
                      <a:pt x="493" y="668"/>
                    </a:lnTo>
                    <a:lnTo>
                      <a:pt x="441" y="655"/>
                    </a:lnTo>
                    <a:lnTo>
                      <a:pt x="391" y="641"/>
                    </a:lnTo>
                    <a:lnTo>
                      <a:pt x="344" y="627"/>
                    </a:lnTo>
                    <a:lnTo>
                      <a:pt x="300" y="613"/>
                    </a:lnTo>
                    <a:lnTo>
                      <a:pt x="257" y="597"/>
                    </a:lnTo>
                    <a:lnTo>
                      <a:pt x="218" y="581"/>
                    </a:lnTo>
                    <a:lnTo>
                      <a:pt x="181" y="564"/>
                    </a:lnTo>
                    <a:lnTo>
                      <a:pt x="148" y="547"/>
                    </a:lnTo>
                    <a:lnTo>
                      <a:pt x="118" y="530"/>
                    </a:lnTo>
                    <a:lnTo>
                      <a:pt x="92" y="512"/>
                    </a:lnTo>
                    <a:lnTo>
                      <a:pt x="67" y="494"/>
                    </a:lnTo>
                    <a:lnTo>
                      <a:pt x="47" y="476"/>
                    </a:lnTo>
                    <a:lnTo>
                      <a:pt x="30" y="456"/>
                    </a:lnTo>
                    <a:lnTo>
                      <a:pt x="17" y="436"/>
                    </a:lnTo>
                    <a:lnTo>
                      <a:pt x="8" y="417"/>
                    </a:lnTo>
                    <a:lnTo>
                      <a:pt x="2" y="397"/>
                    </a:lnTo>
                    <a:lnTo>
                      <a:pt x="0" y="377"/>
                    </a:lnTo>
                    <a:lnTo>
                      <a:pt x="2" y="356"/>
                    </a:lnTo>
                    <a:lnTo>
                      <a:pt x="8" y="336"/>
                    </a:lnTo>
                    <a:lnTo>
                      <a:pt x="17" y="317"/>
                    </a:lnTo>
                    <a:lnTo>
                      <a:pt x="30" y="298"/>
                    </a:lnTo>
                    <a:lnTo>
                      <a:pt x="47" y="280"/>
                    </a:lnTo>
                    <a:lnTo>
                      <a:pt x="67" y="262"/>
                    </a:lnTo>
                    <a:lnTo>
                      <a:pt x="92" y="243"/>
                    </a:lnTo>
                    <a:lnTo>
                      <a:pt x="118" y="226"/>
                    </a:lnTo>
                    <a:lnTo>
                      <a:pt x="148" y="209"/>
                    </a:lnTo>
                    <a:lnTo>
                      <a:pt x="181" y="193"/>
                    </a:lnTo>
                    <a:lnTo>
                      <a:pt x="218" y="177"/>
                    </a:lnTo>
                    <a:lnTo>
                      <a:pt x="257" y="162"/>
                    </a:lnTo>
                    <a:lnTo>
                      <a:pt x="300" y="148"/>
                    </a:lnTo>
                    <a:lnTo>
                      <a:pt x="344" y="133"/>
                    </a:lnTo>
                    <a:lnTo>
                      <a:pt x="391" y="120"/>
                    </a:lnTo>
                    <a:lnTo>
                      <a:pt x="441" y="107"/>
                    </a:lnTo>
                    <a:lnTo>
                      <a:pt x="493" y="95"/>
                    </a:lnTo>
                    <a:lnTo>
                      <a:pt x="548" y="83"/>
                    </a:lnTo>
                    <a:lnTo>
                      <a:pt x="606" y="73"/>
                    </a:lnTo>
                    <a:lnTo>
                      <a:pt x="664" y="62"/>
                    </a:lnTo>
                    <a:lnTo>
                      <a:pt x="726" y="53"/>
                    </a:lnTo>
                    <a:lnTo>
                      <a:pt x="788" y="44"/>
                    </a:lnTo>
                    <a:lnTo>
                      <a:pt x="854" y="35"/>
                    </a:lnTo>
                    <a:lnTo>
                      <a:pt x="921" y="28"/>
                    </a:lnTo>
                    <a:lnTo>
                      <a:pt x="989" y="22"/>
                    </a:lnTo>
                    <a:lnTo>
                      <a:pt x="1059" y="16"/>
                    </a:lnTo>
                    <a:lnTo>
                      <a:pt x="1131" y="11"/>
                    </a:lnTo>
                    <a:lnTo>
                      <a:pt x="1203" y="7"/>
                    </a:lnTo>
                    <a:lnTo>
                      <a:pt x="1278" y="4"/>
                    </a:lnTo>
                    <a:lnTo>
                      <a:pt x="1353" y="2"/>
                    </a:lnTo>
                    <a:lnTo>
                      <a:pt x="1430" y="1"/>
                    </a:lnTo>
                    <a:lnTo>
                      <a:pt x="1507" y="0"/>
                    </a:lnTo>
                    <a:lnTo>
                      <a:pt x="1585" y="1"/>
                    </a:lnTo>
                    <a:lnTo>
                      <a:pt x="1662" y="2"/>
                    </a:lnTo>
                    <a:lnTo>
                      <a:pt x="1737" y="4"/>
                    </a:lnTo>
                    <a:lnTo>
                      <a:pt x="1811" y="7"/>
                    </a:lnTo>
                    <a:lnTo>
                      <a:pt x="1884" y="11"/>
                    </a:lnTo>
                    <a:lnTo>
                      <a:pt x="1956" y="16"/>
                    </a:lnTo>
                    <a:lnTo>
                      <a:pt x="2026" y="22"/>
                    </a:lnTo>
                    <a:lnTo>
                      <a:pt x="2094" y="28"/>
                    </a:lnTo>
                    <a:lnTo>
                      <a:pt x="2161" y="35"/>
                    </a:lnTo>
                    <a:lnTo>
                      <a:pt x="2227" y="44"/>
                    </a:lnTo>
                    <a:lnTo>
                      <a:pt x="2289" y="53"/>
                    </a:lnTo>
                    <a:lnTo>
                      <a:pt x="2351" y="62"/>
                    </a:lnTo>
                    <a:lnTo>
                      <a:pt x="2409" y="73"/>
                    </a:lnTo>
                    <a:lnTo>
                      <a:pt x="2467" y="83"/>
                    </a:lnTo>
                    <a:lnTo>
                      <a:pt x="2521" y="95"/>
                    </a:lnTo>
                    <a:lnTo>
                      <a:pt x="2574" y="107"/>
                    </a:lnTo>
                    <a:lnTo>
                      <a:pt x="2623" y="120"/>
                    </a:lnTo>
                    <a:lnTo>
                      <a:pt x="2671" y="133"/>
                    </a:lnTo>
                    <a:lnTo>
                      <a:pt x="2715" y="148"/>
                    </a:lnTo>
                    <a:lnTo>
                      <a:pt x="2758" y="162"/>
                    </a:lnTo>
                    <a:lnTo>
                      <a:pt x="2797" y="177"/>
                    </a:lnTo>
                    <a:lnTo>
                      <a:pt x="2834" y="193"/>
                    </a:lnTo>
                    <a:lnTo>
                      <a:pt x="2867" y="209"/>
                    </a:lnTo>
                    <a:lnTo>
                      <a:pt x="2897" y="226"/>
                    </a:lnTo>
                    <a:lnTo>
                      <a:pt x="2924" y="243"/>
                    </a:lnTo>
                    <a:lnTo>
                      <a:pt x="2948" y="262"/>
                    </a:lnTo>
                    <a:lnTo>
                      <a:pt x="2968" y="280"/>
                    </a:lnTo>
                    <a:lnTo>
                      <a:pt x="2985" y="298"/>
                    </a:lnTo>
                    <a:lnTo>
                      <a:pt x="2998" y="317"/>
                    </a:lnTo>
                    <a:lnTo>
                      <a:pt x="3007" y="336"/>
                    </a:lnTo>
                    <a:lnTo>
                      <a:pt x="3013" y="356"/>
                    </a:lnTo>
                    <a:lnTo>
                      <a:pt x="3015" y="3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981800" y="6513120"/>
                <a:ext cx="332280" cy="91800"/>
              </a:xfrm>
              <a:custGeom>
                <a:avLst/>
                <a:gdLst/>
                <a:ahLst/>
                <a:rect l="l" t="t" r="r" b="b"/>
                <a:pathLst>
                  <a:path w="3013" h="768">
                    <a:moveTo>
                      <a:pt x="3013" y="376"/>
                    </a:moveTo>
                    <a:lnTo>
                      <a:pt x="3011" y="396"/>
                    </a:lnTo>
                    <a:lnTo>
                      <a:pt x="3005" y="416"/>
                    </a:lnTo>
                    <a:lnTo>
                      <a:pt x="2995" y="435"/>
                    </a:lnTo>
                    <a:lnTo>
                      <a:pt x="2982" y="455"/>
                    </a:lnTo>
                    <a:lnTo>
                      <a:pt x="2966" y="474"/>
                    </a:lnTo>
                    <a:lnTo>
                      <a:pt x="2946" y="493"/>
                    </a:lnTo>
                    <a:lnTo>
                      <a:pt x="2921" y="511"/>
                    </a:lnTo>
                    <a:lnTo>
                      <a:pt x="2894" y="529"/>
                    </a:lnTo>
                    <a:lnTo>
                      <a:pt x="2865" y="546"/>
                    </a:lnTo>
                    <a:lnTo>
                      <a:pt x="2831" y="563"/>
                    </a:lnTo>
                    <a:lnTo>
                      <a:pt x="2795" y="580"/>
                    </a:lnTo>
                    <a:lnTo>
                      <a:pt x="2756" y="596"/>
                    </a:lnTo>
                    <a:lnTo>
                      <a:pt x="2713" y="611"/>
                    </a:lnTo>
                    <a:lnTo>
                      <a:pt x="2669" y="626"/>
                    </a:lnTo>
                    <a:lnTo>
                      <a:pt x="2621" y="640"/>
                    </a:lnTo>
                    <a:lnTo>
                      <a:pt x="2572" y="653"/>
                    </a:lnTo>
                    <a:lnTo>
                      <a:pt x="2519" y="666"/>
                    </a:lnTo>
                    <a:lnTo>
                      <a:pt x="2465" y="678"/>
                    </a:lnTo>
                    <a:lnTo>
                      <a:pt x="2408" y="691"/>
                    </a:lnTo>
                    <a:lnTo>
                      <a:pt x="2349" y="702"/>
                    </a:lnTo>
                    <a:lnTo>
                      <a:pt x="2288" y="712"/>
                    </a:lnTo>
                    <a:lnTo>
                      <a:pt x="2225" y="721"/>
                    </a:lnTo>
                    <a:lnTo>
                      <a:pt x="2160" y="730"/>
                    </a:lnTo>
                    <a:lnTo>
                      <a:pt x="2093" y="738"/>
                    </a:lnTo>
                    <a:lnTo>
                      <a:pt x="2025" y="745"/>
                    </a:lnTo>
                    <a:lnTo>
                      <a:pt x="1955" y="751"/>
                    </a:lnTo>
                    <a:lnTo>
                      <a:pt x="1883" y="756"/>
                    </a:lnTo>
                    <a:lnTo>
                      <a:pt x="1810" y="760"/>
                    </a:lnTo>
                    <a:lnTo>
                      <a:pt x="1736" y="764"/>
                    </a:lnTo>
                    <a:lnTo>
                      <a:pt x="1661" y="766"/>
                    </a:lnTo>
                    <a:lnTo>
                      <a:pt x="1584" y="768"/>
                    </a:lnTo>
                    <a:lnTo>
                      <a:pt x="1506" y="768"/>
                    </a:lnTo>
                    <a:lnTo>
                      <a:pt x="1429" y="768"/>
                    </a:lnTo>
                    <a:lnTo>
                      <a:pt x="1353" y="766"/>
                    </a:lnTo>
                    <a:lnTo>
                      <a:pt x="1277" y="764"/>
                    </a:lnTo>
                    <a:lnTo>
                      <a:pt x="1202" y="760"/>
                    </a:lnTo>
                    <a:lnTo>
                      <a:pt x="1130" y="756"/>
                    </a:lnTo>
                    <a:lnTo>
                      <a:pt x="1058" y="751"/>
                    </a:lnTo>
                    <a:lnTo>
                      <a:pt x="988" y="745"/>
                    </a:lnTo>
                    <a:lnTo>
                      <a:pt x="920" y="738"/>
                    </a:lnTo>
                    <a:lnTo>
                      <a:pt x="853" y="730"/>
                    </a:lnTo>
                    <a:lnTo>
                      <a:pt x="788" y="721"/>
                    </a:lnTo>
                    <a:lnTo>
                      <a:pt x="726" y="712"/>
                    </a:lnTo>
                    <a:lnTo>
                      <a:pt x="664" y="702"/>
                    </a:lnTo>
                    <a:lnTo>
                      <a:pt x="606" y="691"/>
                    </a:lnTo>
                    <a:lnTo>
                      <a:pt x="548" y="678"/>
                    </a:lnTo>
                    <a:lnTo>
                      <a:pt x="493" y="666"/>
                    </a:lnTo>
                    <a:lnTo>
                      <a:pt x="441" y="653"/>
                    </a:lnTo>
                    <a:lnTo>
                      <a:pt x="391" y="640"/>
                    </a:lnTo>
                    <a:lnTo>
                      <a:pt x="344" y="626"/>
                    </a:lnTo>
                    <a:lnTo>
                      <a:pt x="300" y="611"/>
                    </a:lnTo>
                    <a:lnTo>
                      <a:pt x="257" y="596"/>
                    </a:lnTo>
                    <a:lnTo>
                      <a:pt x="218" y="580"/>
                    </a:lnTo>
                    <a:lnTo>
                      <a:pt x="181" y="563"/>
                    </a:lnTo>
                    <a:lnTo>
                      <a:pt x="149" y="546"/>
                    </a:lnTo>
                    <a:lnTo>
                      <a:pt x="119" y="529"/>
                    </a:lnTo>
                    <a:lnTo>
                      <a:pt x="92" y="511"/>
                    </a:lnTo>
                    <a:lnTo>
                      <a:pt x="68" y="493"/>
                    </a:lnTo>
                    <a:lnTo>
                      <a:pt x="47" y="474"/>
                    </a:lnTo>
                    <a:lnTo>
                      <a:pt x="31" y="455"/>
                    </a:lnTo>
                    <a:lnTo>
                      <a:pt x="18" y="435"/>
                    </a:lnTo>
                    <a:lnTo>
                      <a:pt x="8" y="416"/>
                    </a:lnTo>
                    <a:lnTo>
                      <a:pt x="2" y="396"/>
                    </a:lnTo>
                    <a:lnTo>
                      <a:pt x="0" y="376"/>
                    </a:lnTo>
                    <a:lnTo>
                      <a:pt x="2" y="355"/>
                    </a:lnTo>
                    <a:lnTo>
                      <a:pt x="8" y="335"/>
                    </a:lnTo>
                    <a:lnTo>
                      <a:pt x="18" y="316"/>
                    </a:lnTo>
                    <a:lnTo>
                      <a:pt x="31" y="297"/>
                    </a:lnTo>
                    <a:lnTo>
                      <a:pt x="47" y="279"/>
                    </a:lnTo>
                    <a:lnTo>
                      <a:pt x="68" y="261"/>
                    </a:lnTo>
                    <a:lnTo>
                      <a:pt x="92" y="242"/>
                    </a:lnTo>
                    <a:lnTo>
                      <a:pt x="119" y="225"/>
                    </a:lnTo>
                    <a:lnTo>
                      <a:pt x="149" y="209"/>
                    </a:lnTo>
                    <a:lnTo>
                      <a:pt x="181" y="193"/>
                    </a:lnTo>
                    <a:lnTo>
                      <a:pt x="218" y="177"/>
                    </a:lnTo>
                    <a:lnTo>
                      <a:pt x="257" y="162"/>
                    </a:lnTo>
                    <a:lnTo>
                      <a:pt x="300" y="147"/>
                    </a:lnTo>
                    <a:lnTo>
                      <a:pt x="344" y="133"/>
                    </a:lnTo>
                    <a:lnTo>
                      <a:pt x="391" y="119"/>
                    </a:lnTo>
                    <a:lnTo>
                      <a:pt x="441" y="107"/>
                    </a:lnTo>
                    <a:lnTo>
                      <a:pt x="493" y="94"/>
                    </a:lnTo>
                    <a:lnTo>
                      <a:pt x="548" y="83"/>
                    </a:lnTo>
                    <a:lnTo>
                      <a:pt x="606" y="72"/>
                    </a:lnTo>
                    <a:lnTo>
                      <a:pt x="664" y="62"/>
                    </a:lnTo>
                    <a:lnTo>
                      <a:pt x="726" y="53"/>
                    </a:lnTo>
                    <a:lnTo>
                      <a:pt x="788" y="44"/>
                    </a:lnTo>
                    <a:lnTo>
                      <a:pt x="853" y="35"/>
                    </a:lnTo>
                    <a:lnTo>
                      <a:pt x="920" y="28"/>
                    </a:lnTo>
                    <a:lnTo>
                      <a:pt x="988" y="22"/>
                    </a:lnTo>
                    <a:lnTo>
                      <a:pt x="1058" y="16"/>
                    </a:lnTo>
                    <a:lnTo>
                      <a:pt x="1130" y="11"/>
                    </a:lnTo>
                    <a:lnTo>
                      <a:pt x="1202" y="7"/>
                    </a:lnTo>
                    <a:lnTo>
                      <a:pt x="1277" y="4"/>
                    </a:lnTo>
                    <a:lnTo>
                      <a:pt x="1353" y="2"/>
                    </a:lnTo>
                    <a:lnTo>
                      <a:pt x="1429" y="1"/>
                    </a:lnTo>
                    <a:lnTo>
                      <a:pt x="1506" y="0"/>
                    </a:lnTo>
                    <a:lnTo>
                      <a:pt x="1584" y="1"/>
                    </a:lnTo>
                    <a:lnTo>
                      <a:pt x="1661" y="2"/>
                    </a:lnTo>
                    <a:lnTo>
                      <a:pt x="1736" y="4"/>
                    </a:lnTo>
                    <a:lnTo>
                      <a:pt x="1810" y="7"/>
                    </a:lnTo>
                    <a:lnTo>
                      <a:pt x="1883" y="11"/>
                    </a:lnTo>
                    <a:lnTo>
                      <a:pt x="1955" y="16"/>
                    </a:lnTo>
                    <a:lnTo>
                      <a:pt x="2025" y="22"/>
                    </a:lnTo>
                    <a:lnTo>
                      <a:pt x="2093" y="28"/>
                    </a:lnTo>
                    <a:lnTo>
                      <a:pt x="2160" y="35"/>
                    </a:lnTo>
                    <a:lnTo>
                      <a:pt x="2225" y="44"/>
                    </a:lnTo>
                    <a:lnTo>
                      <a:pt x="2288" y="53"/>
                    </a:lnTo>
                    <a:lnTo>
                      <a:pt x="2349" y="62"/>
                    </a:lnTo>
                    <a:lnTo>
                      <a:pt x="2408" y="72"/>
                    </a:lnTo>
                    <a:lnTo>
                      <a:pt x="2465" y="83"/>
                    </a:lnTo>
                    <a:lnTo>
                      <a:pt x="2519" y="94"/>
                    </a:lnTo>
                    <a:lnTo>
                      <a:pt x="2572" y="107"/>
                    </a:lnTo>
                    <a:lnTo>
                      <a:pt x="2621" y="119"/>
                    </a:lnTo>
                    <a:lnTo>
                      <a:pt x="2669" y="133"/>
                    </a:lnTo>
                    <a:lnTo>
                      <a:pt x="2713" y="147"/>
                    </a:lnTo>
                    <a:lnTo>
                      <a:pt x="2756" y="162"/>
                    </a:lnTo>
                    <a:lnTo>
                      <a:pt x="2795" y="177"/>
                    </a:lnTo>
                    <a:lnTo>
                      <a:pt x="2831" y="193"/>
                    </a:lnTo>
                    <a:lnTo>
                      <a:pt x="2865" y="209"/>
                    </a:lnTo>
                    <a:lnTo>
                      <a:pt x="2894" y="225"/>
                    </a:lnTo>
                    <a:lnTo>
                      <a:pt x="2921" y="242"/>
                    </a:lnTo>
                    <a:lnTo>
                      <a:pt x="2946" y="261"/>
                    </a:lnTo>
                    <a:lnTo>
                      <a:pt x="2966" y="279"/>
                    </a:lnTo>
                    <a:lnTo>
                      <a:pt x="2982" y="297"/>
                    </a:lnTo>
                    <a:lnTo>
                      <a:pt x="2995" y="316"/>
                    </a:lnTo>
                    <a:lnTo>
                      <a:pt x="3005" y="335"/>
                    </a:lnTo>
                    <a:lnTo>
                      <a:pt x="3011" y="355"/>
                    </a:lnTo>
                    <a:lnTo>
                      <a:pt x="3013" y="3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981800" y="6513120"/>
                <a:ext cx="332280" cy="91800"/>
              </a:xfrm>
              <a:custGeom>
                <a:avLst/>
                <a:gdLst/>
                <a:ahLst/>
                <a:rect l="l" t="t" r="r" b="b"/>
                <a:pathLst>
                  <a:path w="3009" h="766">
                    <a:moveTo>
                      <a:pt x="3009" y="375"/>
                    </a:moveTo>
                    <a:lnTo>
                      <a:pt x="3007" y="395"/>
                    </a:lnTo>
                    <a:lnTo>
                      <a:pt x="3002" y="415"/>
                    </a:lnTo>
                    <a:lnTo>
                      <a:pt x="2992" y="434"/>
                    </a:lnTo>
                    <a:lnTo>
                      <a:pt x="2979" y="453"/>
                    </a:lnTo>
                    <a:lnTo>
                      <a:pt x="2962" y="473"/>
                    </a:lnTo>
                    <a:lnTo>
                      <a:pt x="2942" y="492"/>
                    </a:lnTo>
                    <a:lnTo>
                      <a:pt x="2918" y="510"/>
                    </a:lnTo>
                    <a:lnTo>
                      <a:pt x="2891" y="527"/>
                    </a:lnTo>
                    <a:lnTo>
                      <a:pt x="2861" y="544"/>
                    </a:lnTo>
                    <a:lnTo>
                      <a:pt x="2827" y="561"/>
                    </a:lnTo>
                    <a:lnTo>
                      <a:pt x="2792" y="578"/>
                    </a:lnTo>
                    <a:lnTo>
                      <a:pt x="2753" y="594"/>
                    </a:lnTo>
                    <a:lnTo>
                      <a:pt x="2710" y="609"/>
                    </a:lnTo>
                    <a:lnTo>
                      <a:pt x="2666" y="624"/>
                    </a:lnTo>
                    <a:lnTo>
                      <a:pt x="2618" y="638"/>
                    </a:lnTo>
                    <a:lnTo>
                      <a:pt x="2569" y="652"/>
                    </a:lnTo>
                    <a:lnTo>
                      <a:pt x="2516" y="665"/>
                    </a:lnTo>
                    <a:lnTo>
                      <a:pt x="2462" y="677"/>
                    </a:lnTo>
                    <a:lnTo>
                      <a:pt x="2405" y="689"/>
                    </a:lnTo>
                    <a:lnTo>
                      <a:pt x="2346" y="700"/>
                    </a:lnTo>
                    <a:lnTo>
                      <a:pt x="2285" y="710"/>
                    </a:lnTo>
                    <a:lnTo>
                      <a:pt x="2222" y="720"/>
                    </a:lnTo>
                    <a:lnTo>
                      <a:pt x="2157" y="728"/>
                    </a:lnTo>
                    <a:lnTo>
                      <a:pt x="2090" y="736"/>
                    </a:lnTo>
                    <a:lnTo>
                      <a:pt x="2022" y="743"/>
                    </a:lnTo>
                    <a:lnTo>
                      <a:pt x="1952" y="749"/>
                    </a:lnTo>
                    <a:lnTo>
                      <a:pt x="1880" y="754"/>
                    </a:lnTo>
                    <a:lnTo>
                      <a:pt x="1807" y="759"/>
                    </a:lnTo>
                    <a:lnTo>
                      <a:pt x="1734" y="762"/>
                    </a:lnTo>
                    <a:lnTo>
                      <a:pt x="1658" y="764"/>
                    </a:lnTo>
                    <a:lnTo>
                      <a:pt x="1582" y="766"/>
                    </a:lnTo>
                    <a:lnTo>
                      <a:pt x="1504" y="766"/>
                    </a:lnTo>
                    <a:lnTo>
                      <a:pt x="1427" y="766"/>
                    </a:lnTo>
                    <a:lnTo>
                      <a:pt x="1351" y="764"/>
                    </a:lnTo>
                    <a:lnTo>
                      <a:pt x="1275" y="762"/>
                    </a:lnTo>
                    <a:lnTo>
                      <a:pt x="1201" y="759"/>
                    </a:lnTo>
                    <a:lnTo>
                      <a:pt x="1129" y="754"/>
                    </a:lnTo>
                    <a:lnTo>
                      <a:pt x="1057" y="749"/>
                    </a:lnTo>
                    <a:lnTo>
                      <a:pt x="987" y="743"/>
                    </a:lnTo>
                    <a:lnTo>
                      <a:pt x="919" y="736"/>
                    </a:lnTo>
                    <a:lnTo>
                      <a:pt x="852" y="728"/>
                    </a:lnTo>
                    <a:lnTo>
                      <a:pt x="787" y="720"/>
                    </a:lnTo>
                    <a:lnTo>
                      <a:pt x="724" y="710"/>
                    </a:lnTo>
                    <a:lnTo>
                      <a:pt x="663" y="700"/>
                    </a:lnTo>
                    <a:lnTo>
                      <a:pt x="604" y="689"/>
                    </a:lnTo>
                    <a:lnTo>
                      <a:pt x="547" y="677"/>
                    </a:lnTo>
                    <a:lnTo>
                      <a:pt x="493" y="665"/>
                    </a:lnTo>
                    <a:lnTo>
                      <a:pt x="440" y="652"/>
                    </a:lnTo>
                    <a:lnTo>
                      <a:pt x="390" y="638"/>
                    </a:lnTo>
                    <a:lnTo>
                      <a:pt x="343" y="624"/>
                    </a:lnTo>
                    <a:lnTo>
                      <a:pt x="299" y="609"/>
                    </a:lnTo>
                    <a:lnTo>
                      <a:pt x="256" y="594"/>
                    </a:lnTo>
                    <a:lnTo>
                      <a:pt x="218" y="578"/>
                    </a:lnTo>
                    <a:lnTo>
                      <a:pt x="181" y="561"/>
                    </a:lnTo>
                    <a:lnTo>
                      <a:pt x="148" y="544"/>
                    </a:lnTo>
                    <a:lnTo>
                      <a:pt x="118" y="527"/>
                    </a:lnTo>
                    <a:lnTo>
                      <a:pt x="91" y="510"/>
                    </a:lnTo>
                    <a:lnTo>
                      <a:pt x="67" y="492"/>
                    </a:lnTo>
                    <a:lnTo>
                      <a:pt x="47" y="473"/>
                    </a:lnTo>
                    <a:lnTo>
                      <a:pt x="30" y="453"/>
                    </a:lnTo>
                    <a:lnTo>
                      <a:pt x="17" y="434"/>
                    </a:lnTo>
                    <a:lnTo>
                      <a:pt x="8" y="415"/>
                    </a:lnTo>
                    <a:lnTo>
                      <a:pt x="2" y="395"/>
                    </a:lnTo>
                    <a:lnTo>
                      <a:pt x="0" y="375"/>
                    </a:lnTo>
                    <a:lnTo>
                      <a:pt x="2" y="354"/>
                    </a:lnTo>
                    <a:lnTo>
                      <a:pt x="8" y="335"/>
                    </a:lnTo>
                    <a:lnTo>
                      <a:pt x="17" y="315"/>
                    </a:lnTo>
                    <a:lnTo>
                      <a:pt x="30" y="297"/>
                    </a:lnTo>
                    <a:lnTo>
                      <a:pt x="47" y="278"/>
                    </a:lnTo>
                    <a:lnTo>
                      <a:pt x="67" y="260"/>
                    </a:lnTo>
                    <a:lnTo>
                      <a:pt x="91" y="242"/>
                    </a:lnTo>
                    <a:lnTo>
                      <a:pt x="118" y="225"/>
                    </a:lnTo>
                    <a:lnTo>
                      <a:pt x="148" y="208"/>
                    </a:lnTo>
                    <a:lnTo>
                      <a:pt x="181" y="192"/>
                    </a:lnTo>
                    <a:lnTo>
                      <a:pt x="218" y="176"/>
                    </a:lnTo>
                    <a:lnTo>
                      <a:pt x="256" y="161"/>
                    </a:lnTo>
                    <a:lnTo>
                      <a:pt x="299" y="147"/>
                    </a:lnTo>
                    <a:lnTo>
                      <a:pt x="343" y="132"/>
                    </a:lnTo>
                    <a:lnTo>
                      <a:pt x="390" y="119"/>
                    </a:lnTo>
                    <a:lnTo>
                      <a:pt x="440" y="106"/>
                    </a:lnTo>
                    <a:lnTo>
                      <a:pt x="493" y="94"/>
                    </a:lnTo>
                    <a:lnTo>
                      <a:pt x="547" y="83"/>
                    </a:lnTo>
                    <a:lnTo>
                      <a:pt x="604" y="72"/>
                    </a:lnTo>
                    <a:lnTo>
                      <a:pt x="663" y="62"/>
                    </a:lnTo>
                    <a:lnTo>
                      <a:pt x="724" y="53"/>
                    </a:lnTo>
                    <a:lnTo>
                      <a:pt x="787" y="44"/>
                    </a:lnTo>
                    <a:lnTo>
                      <a:pt x="852" y="35"/>
                    </a:lnTo>
                    <a:lnTo>
                      <a:pt x="919" y="28"/>
                    </a:lnTo>
                    <a:lnTo>
                      <a:pt x="987" y="22"/>
                    </a:lnTo>
                    <a:lnTo>
                      <a:pt x="1057" y="16"/>
                    </a:lnTo>
                    <a:lnTo>
                      <a:pt x="1129" y="11"/>
                    </a:lnTo>
                    <a:lnTo>
                      <a:pt x="1201" y="7"/>
                    </a:lnTo>
                    <a:lnTo>
                      <a:pt x="1275" y="4"/>
                    </a:lnTo>
                    <a:lnTo>
                      <a:pt x="1351" y="2"/>
                    </a:lnTo>
                    <a:lnTo>
                      <a:pt x="1427" y="1"/>
                    </a:lnTo>
                    <a:lnTo>
                      <a:pt x="1504" y="0"/>
                    </a:lnTo>
                    <a:lnTo>
                      <a:pt x="1582" y="1"/>
                    </a:lnTo>
                    <a:lnTo>
                      <a:pt x="1658" y="2"/>
                    </a:lnTo>
                    <a:lnTo>
                      <a:pt x="1734" y="4"/>
                    </a:lnTo>
                    <a:lnTo>
                      <a:pt x="1807" y="7"/>
                    </a:lnTo>
                    <a:lnTo>
                      <a:pt x="1880" y="11"/>
                    </a:lnTo>
                    <a:lnTo>
                      <a:pt x="1952" y="16"/>
                    </a:lnTo>
                    <a:lnTo>
                      <a:pt x="2022" y="22"/>
                    </a:lnTo>
                    <a:lnTo>
                      <a:pt x="2090" y="28"/>
                    </a:lnTo>
                    <a:lnTo>
                      <a:pt x="2157" y="35"/>
                    </a:lnTo>
                    <a:lnTo>
                      <a:pt x="2222" y="44"/>
                    </a:lnTo>
                    <a:lnTo>
                      <a:pt x="2285" y="53"/>
                    </a:lnTo>
                    <a:lnTo>
                      <a:pt x="2346" y="62"/>
                    </a:lnTo>
                    <a:lnTo>
                      <a:pt x="2405" y="72"/>
                    </a:lnTo>
                    <a:lnTo>
                      <a:pt x="2462" y="83"/>
                    </a:lnTo>
                    <a:lnTo>
                      <a:pt x="2516" y="94"/>
                    </a:lnTo>
                    <a:lnTo>
                      <a:pt x="2569" y="106"/>
                    </a:lnTo>
                    <a:lnTo>
                      <a:pt x="2618" y="119"/>
                    </a:lnTo>
                    <a:lnTo>
                      <a:pt x="2666" y="132"/>
                    </a:lnTo>
                    <a:lnTo>
                      <a:pt x="2710" y="147"/>
                    </a:lnTo>
                    <a:lnTo>
                      <a:pt x="2753" y="161"/>
                    </a:lnTo>
                    <a:lnTo>
                      <a:pt x="2792" y="176"/>
                    </a:lnTo>
                    <a:lnTo>
                      <a:pt x="2827" y="192"/>
                    </a:lnTo>
                    <a:lnTo>
                      <a:pt x="2861" y="208"/>
                    </a:lnTo>
                    <a:lnTo>
                      <a:pt x="2891" y="225"/>
                    </a:lnTo>
                    <a:lnTo>
                      <a:pt x="2918" y="242"/>
                    </a:lnTo>
                    <a:lnTo>
                      <a:pt x="2942" y="260"/>
                    </a:lnTo>
                    <a:lnTo>
                      <a:pt x="2962" y="278"/>
                    </a:lnTo>
                    <a:lnTo>
                      <a:pt x="2979" y="297"/>
                    </a:lnTo>
                    <a:lnTo>
                      <a:pt x="2992" y="315"/>
                    </a:lnTo>
                    <a:lnTo>
                      <a:pt x="3002" y="335"/>
                    </a:lnTo>
                    <a:lnTo>
                      <a:pt x="3007" y="354"/>
                    </a:lnTo>
                    <a:lnTo>
                      <a:pt x="3009" y="3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81800" y="6513120"/>
                <a:ext cx="332280" cy="91800"/>
              </a:xfrm>
              <a:custGeom>
                <a:avLst/>
                <a:gdLst/>
                <a:ahLst/>
                <a:rect l="l" t="t" r="r" b="b"/>
                <a:pathLst>
                  <a:path w="3007" h="765">
                    <a:moveTo>
                      <a:pt x="3007" y="374"/>
                    </a:moveTo>
                    <a:lnTo>
                      <a:pt x="3005" y="394"/>
                    </a:lnTo>
                    <a:lnTo>
                      <a:pt x="2999" y="414"/>
                    </a:lnTo>
                    <a:lnTo>
                      <a:pt x="2990" y="433"/>
                    </a:lnTo>
                    <a:lnTo>
                      <a:pt x="2977" y="452"/>
                    </a:lnTo>
                    <a:lnTo>
                      <a:pt x="2960" y="472"/>
                    </a:lnTo>
                    <a:lnTo>
                      <a:pt x="2940" y="490"/>
                    </a:lnTo>
                    <a:lnTo>
                      <a:pt x="2915" y="508"/>
                    </a:lnTo>
                    <a:lnTo>
                      <a:pt x="2889" y="526"/>
                    </a:lnTo>
                    <a:lnTo>
                      <a:pt x="2859" y="543"/>
                    </a:lnTo>
                    <a:lnTo>
                      <a:pt x="2825" y="560"/>
                    </a:lnTo>
                    <a:lnTo>
                      <a:pt x="2789" y="577"/>
                    </a:lnTo>
                    <a:lnTo>
                      <a:pt x="2751" y="593"/>
                    </a:lnTo>
                    <a:lnTo>
                      <a:pt x="2708" y="608"/>
                    </a:lnTo>
                    <a:lnTo>
                      <a:pt x="2664" y="623"/>
                    </a:lnTo>
                    <a:lnTo>
                      <a:pt x="2616" y="637"/>
                    </a:lnTo>
                    <a:lnTo>
                      <a:pt x="2567" y="650"/>
                    </a:lnTo>
                    <a:lnTo>
                      <a:pt x="2514" y="663"/>
                    </a:lnTo>
                    <a:lnTo>
                      <a:pt x="2460" y="675"/>
                    </a:lnTo>
                    <a:lnTo>
                      <a:pt x="2403" y="688"/>
                    </a:lnTo>
                    <a:lnTo>
                      <a:pt x="2344" y="698"/>
                    </a:lnTo>
                    <a:lnTo>
                      <a:pt x="2283" y="708"/>
                    </a:lnTo>
                    <a:lnTo>
                      <a:pt x="2221" y="718"/>
                    </a:lnTo>
                    <a:lnTo>
                      <a:pt x="2156" y="726"/>
                    </a:lnTo>
                    <a:lnTo>
                      <a:pt x="2089" y="734"/>
                    </a:lnTo>
                    <a:lnTo>
                      <a:pt x="2021" y="741"/>
                    </a:lnTo>
                    <a:lnTo>
                      <a:pt x="1951" y="747"/>
                    </a:lnTo>
                    <a:lnTo>
                      <a:pt x="1879" y="752"/>
                    </a:lnTo>
                    <a:lnTo>
                      <a:pt x="1806" y="757"/>
                    </a:lnTo>
                    <a:lnTo>
                      <a:pt x="1733" y="760"/>
                    </a:lnTo>
                    <a:lnTo>
                      <a:pt x="1657" y="763"/>
                    </a:lnTo>
                    <a:lnTo>
                      <a:pt x="1581" y="764"/>
                    </a:lnTo>
                    <a:lnTo>
                      <a:pt x="1503" y="765"/>
                    </a:lnTo>
                    <a:lnTo>
                      <a:pt x="1426" y="764"/>
                    </a:lnTo>
                    <a:lnTo>
                      <a:pt x="1350" y="763"/>
                    </a:lnTo>
                    <a:lnTo>
                      <a:pt x="1274" y="760"/>
                    </a:lnTo>
                    <a:lnTo>
                      <a:pt x="1200" y="757"/>
                    </a:lnTo>
                    <a:lnTo>
                      <a:pt x="1128" y="752"/>
                    </a:lnTo>
                    <a:lnTo>
                      <a:pt x="1056" y="747"/>
                    </a:lnTo>
                    <a:lnTo>
                      <a:pt x="986" y="741"/>
                    </a:lnTo>
                    <a:lnTo>
                      <a:pt x="919" y="734"/>
                    </a:lnTo>
                    <a:lnTo>
                      <a:pt x="852" y="726"/>
                    </a:lnTo>
                    <a:lnTo>
                      <a:pt x="786" y="718"/>
                    </a:lnTo>
                    <a:lnTo>
                      <a:pt x="724" y="708"/>
                    </a:lnTo>
                    <a:lnTo>
                      <a:pt x="663" y="698"/>
                    </a:lnTo>
                    <a:lnTo>
                      <a:pt x="604" y="688"/>
                    </a:lnTo>
                    <a:lnTo>
                      <a:pt x="547" y="675"/>
                    </a:lnTo>
                    <a:lnTo>
                      <a:pt x="493" y="663"/>
                    </a:lnTo>
                    <a:lnTo>
                      <a:pt x="440" y="650"/>
                    </a:lnTo>
                    <a:lnTo>
                      <a:pt x="391" y="637"/>
                    </a:lnTo>
                    <a:lnTo>
                      <a:pt x="343" y="623"/>
                    </a:lnTo>
                    <a:lnTo>
                      <a:pt x="299" y="608"/>
                    </a:lnTo>
                    <a:lnTo>
                      <a:pt x="257" y="593"/>
                    </a:lnTo>
                    <a:lnTo>
                      <a:pt x="218" y="577"/>
                    </a:lnTo>
                    <a:lnTo>
                      <a:pt x="181" y="560"/>
                    </a:lnTo>
                    <a:lnTo>
                      <a:pt x="148" y="543"/>
                    </a:lnTo>
                    <a:lnTo>
                      <a:pt x="118" y="526"/>
                    </a:lnTo>
                    <a:lnTo>
                      <a:pt x="92" y="508"/>
                    </a:lnTo>
                    <a:lnTo>
                      <a:pt x="67" y="490"/>
                    </a:lnTo>
                    <a:lnTo>
                      <a:pt x="47" y="472"/>
                    </a:lnTo>
                    <a:lnTo>
                      <a:pt x="31" y="452"/>
                    </a:lnTo>
                    <a:lnTo>
                      <a:pt x="17" y="433"/>
                    </a:lnTo>
                    <a:lnTo>
                      <a:pt x="8" y="414"/>
                    </a:lnTo>
                    <a:lnTo>
                      <a:pt x="2" y="394"/>
                    </a:lnTo>
                    <a:lnTo>
                      <a:pt x="0" y="374"/>
                    </a:lnTo>
                    <a:lnTo>
                      <a:pt x="2" y="353"/>
                    </a:lnTo>
                    <a:lnTo>
                      <a:pt x="8" y="334"/>
                    </a:lnTo>
                    <a:lnTo>
                      <a:pt x="17" y="315"/>
                    </a:lnTo>
                    <a:lnTo>
                      <a:pt x="31" y="296"/>
                    </a:lnTo>
                    <a:lnTo>
                      <a:pt x="47" y="277"/>
                    </a:lnTo>
                    <a:lnTo>
                      <a:pt x="67" y="259"/>
                    </a:lnTo>
                    <a:lnTo>
                      <a:pt x="92" y="241"/>
                    </a:lnTo>
                    <a:lnTo>
                      <a:pt x="118" y="224"/>
                    </a:lnTo>
                    <a:lnTo>
                      <a:pt x="148" y="207"/>
                    </a:lnTo>
                    <a:lnTo>
                      <a:pt x="181" y="191"/>
                    </a:lnTo>
                    <a:lnTo>
                      <a:pt x="218" y="176"/>
                    </a:lnTo>
                    <a:lnTo>
                      <a:pt x="257" y="161"/>
                    </a:lnTo>
                    <a:lnTo>
                      <a:pt x="299" y="147"/>
                    </a:lnTo>
                    <a:lnTo>
                      <a:pt x="343" y="132"/>
                    </a:lnTo>
                    <a:lnTo>
                      <a:pt x="391" y="118"/>
                    </a:lnTo>
                    <a:lnTo>
                      <a:pt x="440" y="106"/>
                    </a:lnTo>
                    <a:lnTo>
                      <a:pt x="493" y="94"/>
                    </a:lnTo>
                    <a:lnTo>
                      <a:pt x="547" y="82"/>
                    </a:lnTo>
                    <a:lnTo>
                      <a:pt x="604" y="72"/>
                    </a:lnTo>
                    <a:lnTo>
                      <a:pt x="663" y="62"/>
                    </a:lnTo>
                    <a:lnTo>
                      <a:pt x="724" y="52"/>
                    </a:lnTo>
                    <a:lnTo>
                      <a:pt x="786" y="44"/>
                    </a:lnTo>
                    <a:lnTo>
                      <a:pt x="852" y="35"/>
                    </a:lnTo>
                    <a:lnTo>
                      <a:pt x="919" y="28"/>
                    </a:lnTo>
                    <a:lnTo>
                      <a:pt x="986" y="21"/>
                    </a:lnTo>
                    <a:lnTo>
                      <a:pt x="1056" y="16"/>
                    </a:lnTo>
                    <a:lnTo>
                      <a:pt x="1128" y="11"/>
                    </a:lnTo>
                    <a:lnTo>
                      <a:pt x="1200" y="7"/>
                    </a:lnTo>
                    <a:lnTo>
                      <a:pt x="1274" y="4"/>
                    </a:lnTo>
                    <a:lnTo>
                      <a:pt x="1350" y="2"/>
                    </a:lnTo>
                    <a:lnTo>
                      <a:pt x="1426" y="1"/>
                    </a:lnTo>
                    <a:lnTo>
                      <a:pt x="1503" y="0"/>
                    </a:lnTo>
                    <a:lnTo>
                      <a:pt x="1581" y="1"/>
                    </a:lnTo>
                    <a:lnTo>
                      <a:pt x="1657" y="2"/>
                    </a:lnTo>
                    <a:lnTo>
                      <a:pt x="1733" y="4"/>
                    </a:lnTo>
                    <a:lnTo>
                      <a:pt x="1806" y="7"/>
                    </a:lnTo>
                    <a:lnTo>
                      <a:pt x="1879" y="11"/>
                    </a:lnTo>
                    <a:lnTo>
                      <a:pt x="1951" y="16"/>
                    </a:lnTo>
                    <a:lnTo>
                      <a:pt x="2021" y="21"/>
                    </a:lnTo>
                    <a:lnTo>
                      <a:pt x="2089" y="28"/>
                    </a:lnTo>
                    <a:lnTo>
                      <a:pt x="2156" y="35"/>
                    </a:lnTo>
                    <a:lnTo>
                      <a:pt x="2221" y="44"/>
                    </a:lnTo>
                    <a:lnTo>
                      <a:pt x="2283" y="52"/>
                    </a:lnTo>
                    <a:lnTo>
                      <a:pt x="2344" y="62"/>
                    </a:lnTo>
                    <a:lnTo>
                      <a:pt x="2403" y="72"/>
                    </a:lnTo>
                    <a:lnTo>
                      <a:pt x="2460" y="82"/>
                    </a:lnTo>
                    <a:lnTo>
                      <a:pt x="2514" y="94"/>
                    </a:lnTo>
                    <a:lnTo>
                      <a:pt x="2567" y="106"/>
                    </a:lnTo>
                    <a:lnTo>
                      <a:pt x="2616" y="118"/>
                    </a:lnTo>
                    <a:lnTo>
                      <a:pt x="2664" y="132"/>
                    </a:lnTo>
                    <a:lnTo>
                      <a:pt x="2708" y="147"/>
                    </a:lnTo>
                    <a:lnTo>
                      <a:pt x="2751" y="161"/>
                    </a:lnTo>
                    <a:lnTo>
                      <a:pt x="2789" y="176"/>
                    </a:lnTo>
                    <a:lnTo>
                      <a:pt x="2825" y="191"/>
                    </a:lnTo>
                    <a:lnTo>
                      <a:pt x="2859" y="207"/>
                    </a:lnTo>
                    <a:lnTo>
                      <a:pt x="2889" y="224"/>
                    </a:lnTo>
                    <a:lnTo>
                      <a:pt x="2915" y="241"/>
                    </a:lnTo>
                    <a:lnTo>
                      <a:pt x="2940" y="259"/>
                    </a:lnTo>
                    <a:lnTo>
                      <a:pt x="2960" y="277"/>
                    </a:lnTo>
                    <a:lnTo>
                      <a:pt x="2977" y="296"/>
                    </a:lnTo>
                    <a:lnTo>
                      <a:pt x="2990" y="315"/>
                    </a:lnTo>
                    <a:lnTo>
                      <a:pt x="2999" y="334"/>
                    </a:lnTo>
                    <a:lnTo>
                      <a:pt x="3005" y="353"/>
                    </a:lnTo>
                    <a:lnTo>
                      <a:pt x="3007" y="3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1981800" y="6513120"/>
              <a:ext cx="330840" cy="91800"/>
            </a:xfrm>
            <a:custGeom>
              <a:avLst/>
              <a:gdLst/>
              <a:ahLst/>
              <a:rect l="l" t="t" r="r" b="b"/>
              <a:pathLst>
                <a:path w="3003" h="763">
                  <a:moveTo>
                    <a:pt x="3003" y="373"/>
                  </a:moveTo>
                  <a:lnTo>
                    <a:pt x="3001" y="393"/>
                  </a:lnTo>
                  <a:lnTo>
                    <a:pt x="2996" y="413"/>
                  </a:lnTo>
                  <a:lnTo>
                    <a:pt x="2986" y="432"/>
                  </a:lnTo>
                  <a:lnTo>
                    <a:pt x="2973" y="451"/>
                  </a:lnTo>
                  <a:lnTo>
                    <a:pt x="2957" y="471"/>
                  </a:lnTo>
                  <a:lnTo>
                    <a:pt x="2937" y="489"/>
                  </a:lnTo>
                  <a:lnTo>
                    <a:pt x="2912" y="507"/>
                  </a:lnTo>
                  <a:lnTo>
                    <a:pt x="2886" y="525"/>
                  </a:lnTo>
                  <a:lnTo>
                    <a:pt x="2856" y="542"/>
                  </a:lnTo>
                  <a:lnTo>
                    <a:pt x="2822" y="558"/>
                  </a:lnTo>
                  <a:lnTo>
                    <a:pt x="2786" y="576"/>
                  </a:lnTo>
                  <a:lnTo>
                    <a:pt x="2747" y="591"/>
                  </a:lnTo>
                  <a:lnTo>
                    <a:pt x="2705" y="606"/>
                  </a:lnTo>
                  <a:lnTo>
                    <a:pt x="2661" y="621"/>
                  </a:lnTo>
                  <a:lnTo>
                    <a:pt x="2613" y="635"/>
                  </a:lnTo>
                  <a:lnTo>
                    <a:pt x="2564" y="648"/>
                  </a:lnTo>
                  <a:lnTo>
                    <a:pt x="2511" y="661"/>
                  </a:lnTo>
                  <a:lnTo>
                    <a:pt x="2457" y="673"/>
                  </a:lnTo>
                  <a:lnTo>
                    <a:pt x="2400" y="686"/>
                  </a:lnTo>
                  <a:lnTo>
                    <a:pt x="2342" y="697"/>
                  </a:lnTo>
                  <a:lnTo>
                    <a:pt x="2280" y="707"/>
                  </a:lnTo>
                  <a:lnTo>
                    <a:pt x="2218" y="716"/>
                  </a:lnTo>
                  <a:lnTo>
                    <a:pt x="2153" y="725"/>
                  </a:lnTo>
                  <a:lnTo>
                    <a:pt x="2086" y="732"/>
                  </a:lnTo>
                  <a:lnTo>
                    <a:pt x="2018" y="739"/>
                  </a:lnTo>
                  <a:lnTo>
                    <a:pt x="1948" y="745"/>
                  </a:lnTo>
                  <a:lnTo>
                    <a:pt x="1877" y="750"/>
                  </a:lnTo>
                  <a:lnTo>
                    <a:pt x="1804" y="755"/>
                  </a:lnTo>
                  <a:lnTo>
                    <a:pt x="1731" y="758"/>
                  </a:lnTo>
                  <a:lnTo>
                    <a:pt x="1655" y="761"/>
                  </a:lnTo>
                  <a:lnTo>
                    <a:pt x="1579" y="762"/>
                  </a:lnTo>
                  <a:lnTo>
                    <a:pt x="1501" y="763"/>
                  </a:lnTo>
                  <a:lnTo>
                    <a:pt x="1425" y="762"/>
                  </a:lnTo>
                  <a:lnTo>
                    <a:pt x="1348" y="761"/>
                  </a:lnTo>
                  <a:lnTo>
                    <a:pt x="1273" y="758"/>
                  </a:lnTo>
                  <a:lnTo>
                    <a:pt x="1198" y="755"/>
                  </a:lnTo>
                  <a:lnTo>
                    <a:pt x="1126" y="750"/>
                  </a:lnTo>
                  <a:lnTo>
                    <a:pt x="1055" y="745"/>
                  </a:lnTo>
                  <a:lnTo>
                    <a:pt x="985" y="739"/>
                  </a:lnTo>
                  <a:lnTo>
                    <a:pt x="917" y="732"/>
                  </a:lnTo>
                  <a:lnTo>
                    <a:pt x="850" y="725"/>
                  </a:lnTo>
                  <a:lnTo>
                    <a:pt x="785" y="716"/>
                  </a:lnTo>
                  <a:lnTo>
                    <a:pt x="723" y="707"/>
                  </a:lnTo>
                  <a:lnTo>
                    <a:pt x="661" y="697"/>
                  </a:lnTo>
                  <a:lnTo>
                    <a:pt x="603" y="686"/>
                  </a:lnTo>
                  <a:lnTo>
                    <a:pt x="546" y="673"/>
                  </a:lnTo>
                  <a:lnTo>
                    <a:pt x="492" y="661"/>
                  </a:lnTo>
                  <a:lnTo>
                    <a:pt x="439" y="648"/>
                  </a:lnTo>
                  <a:lnTo>
                    <a:pt x="390" y="635"/>
                  </a:lnTo>
                  <a:lnTo>
                    <a:pt x="342" y="621"/>
                  </a:lnTo>
                  <a:lnTo>
                    <a:pt x="298" y="606"/>
                  </a:lnTo>
                  <a:lnTo>
                    <a:pt x="256" y="591"/>
                  </a:lnTo>
                  <a:lnTo>
                    <a:pt x="217" y="576"/>
                  </a:lnTo>
                  <a:lnTo>
                    <a:pt x="180" y="558"/>
                  </a:lnTo>
                  <a:lnTo>
                    <a:pt x="147" y="542"/>
                  </a:lnTo>
                  <a:lnTo>
                    <a:pt x="118" y="525"/>
                  </a:lnTo>
                  <a:lnTo>
                    <a:pt x="91" y="507"/>
                  </a:lnTo>
                  <a:lnTo>
                    <a:pt x="67" y="489"/>
                  </a:lnTo>
                  <a:lnTo>
                    <a:pt x="47" y="471"/>
                  </a:lnTo>
                  <a:lnTo>
                    <a:pt x="30" y="451"/>
                  </a:lnTo>
                  <a:lnTo>
                    <a:pt x="17" y="432"/>
                  </a:lnTo>
                  <a:lnTo>
                    <a:pt x="7" y="413"/>
                  </a:lnTo>
                  <a:lnTo>
                    <a:pt x="2" y="393"/>
                  </a:lnTo>
                  <a:lnTo>
                    <a:pt x="0" y="373"/>
                  </a:lnTo>
                  <a:lnTo>
                    <a:pt x="2" y="352"/>
                  </a:lnTo>
                  <a:lnTo>
                    <a:pt x="7" y="333"/>
                  </a:lnTo>
                  <a:lnTo>
                    <a:pt x="17" y="314"/>
                  </a:lnTo>
                  <a:lnTo>
                    <a:pt x="30" y="295"/>
                  </a:lnTo>
                  <a:lnTo>
                    <a:pt x="47" y="277"/>
                  </a:lnTo>
                  <a:lnTo>
                    <a:pt x="67" y="259"/>
                  </a:lnTo>
                  <a:lnTo>
                    <a:pt x="91" y="240"/>
                  </a:lnTo>
                  <a:lnTo>
                    <a:pt x="118" y="223"/>
                  </a:lnTo>
                  <a:lnTo>
                    <a:pt x="147" y="207"/>
                  </a:lnTo>
                  <a:lnTo>
                    <a:pt x="180" y="191"/>
                  </a:lnTo>
                  <a:lnTo>
                    <a:pt x="217" y="175"/>
                  </a:lnTo>
                  <a:lnTo>
                    <a:pt x="256" y="160"/>
                  </a:lnTo>
                  <a:lnTo>
                    <a:pt x="298" y="146"/>
                  </a:lnTo>
                  <a:lnTo>
                    <a:pt x="342" y="131"/>
                  </a:lnTo>
                  <a:lnTo>
                    <a:pt x="390" y="118"/>
                  </a:lnTo>
                  <a:lnTo>
                    <a:pt x="439" y="105"/>
                  </a:lnTo>
                  <a:lnTo>
                    <a:pt x="492" y="94"/>
                  </a:lnTo>
                  <a:lnTo>
                    <a:pt x="546" y="82"/>
                  </a:lnTo>
                  <a:lnTo>
                    <a:pt x="603" y="72"/>
                  </a:lnTo>
                  <a:lnTo>
                    <a:pt x="661" y="62"/>
                  </a:lnTo>
                  <a:lnTo>
                    <a:pt x="723" y="52"/>
                  </a:lnTo>
                  <a:lnTo>
                    <a:pt x="785" y="44"/>
                  </a:lnTo>
                  <a:lnTo>
                    <a:pt x="850" y="36"/>
                  </a:lnTo>
                  <a:lnTo>
                    <a:pt x="917" y="28"/>
                  </a:lnTo>
                  <a:lnTo>
                    <a:pt x="985" y="21"/>
                  </a:lnTo>
                  <a:lnTo>
                    <a:pt x="1055" y="16"/>
                  </a:lnTo>
                  <a:lnTo>
                    <a:pt x="1126" y="11"/>
                  </a:lnTo>
                  <a:lnTo>
                    <a:pt x="1198" y="7"/>
                  </a:lnTo>
                  <a:lnTo>
                    <a:pt x="1273" y="4"/>
                  </a:lnTo>
                  <a:lnTo>
                    <a:pt x="1348" y="2"/>
                  </a:lnTo>
                  <a:lnTo>
                    <a:pt x="1425" y="0"/>
                  </a:lnTo>
                  <a:lnTo>
                    <a:pt x="1501" y="0"/>
                  </a:lnTo>
                  <a:lnTo>
                    <a:pt x="1579" y="0"/>
                  </a:lnTo>
                  <a:lnTo>
                    <a:pt x="1655" y="2"/>
                  </a:lnTo>
                  <a:lnTo>
                    <a:pt x="1731" y="4"/>
                  </a:lnTo>
                  <a:lnTo>
                    <a:pt x="1804" y="7"/>
                  </a:lnTo>
                  <a:lnTo>
                    <a:pt x="1877" y="11"/>
                  </a:lnTo>
                  <a:lnTo>
                    <a:pt x="1948" y="16"/>
                  </a:lnTo>
                  <a:lnTo>
                    <a:pt x="2018" y="21"/>
                  </a:lnTo>
                  <a:lnTo>
                    <a:pt x="2086" y="28"/>
                  </a:lnTo>
                  <a:lnTo>
                    <a:pt x="2153" y="36"/>
                  </a:lnTo>
                  <a:lnTo>
                    <a:pt x="2218" y="44"/>
                  </a:lnTo>
                  <a:lnTo>
                    <a:pt x="2280" y="52"/>
                  </a:lnTo>
                  <a:lnTo>
                    <a:pt x="2342" y="62"/>
                  </a:lnTo>
                  <a:lnTo>
                    <a:pt x="2400" y="72"/>
                  </a:lnTo>
                  <a:lnTo>
                    <a:pt x="2457" y="82"/>
                  </a:lnTo>
                  <a:lnTo>
                    <a:pt x="2511" y="94"/>
                  </a:lnTo>
                  <a:lnTo>
                    <a:pt x="2564" y="105"/>
                  </a:lnTo>
                  <a:lnTo>
                    <a:pt x="2613" y="118"/>
                  </a:lnTo>
                  <a:lnTo>
                    <a:pt x="2661" y="131"/>
                  </a:lnTo>
                  <a:lnTo>
                    <a:pt x="2705" y="146"/>
                  </a:lnTo>
                  <a:lnTo>
                    <a:pt x="2747" y="160"/>
                  </a:lnTo>
                  <a:lnTo>
                    <a:pt x="2786" y="175"/>
                  </a:lnTo>
                  <a:lnTo>
                    <a:pt x="2822" y="191"/>
                  </a:lnTo>
                  <a:lnTo>
                    <a:pt x="2856" y="207"/>
                  </a:lnTo>
                  <a:lnTo>
                    <a:pt x="2886" y="223"/>
                  </a:lnTo>
                  <a:lnTo>
                    <a:pt x="2912" y="240"/>
                  </a:lnTo>
                  <a:lnTo>
                    <a:pt x="2937" y="259"/>
                  </a:lnTo>
                  <a:lnTo>
                    <a:pt x="2957" y="277"/>
                  </a:lnTo>
                  <a:lnTo>
                    <a:pt x="2973" y="295"/>
                  </a:lnTo>
                  <a:lnTo>
                    <a:pt x="2986" y="314"/>
                  </a:lnTo>
                  <a:lnTo>
                    <a:pt x="2996" y="333"/>
                  </a:lnTo>
                  <a:lnTo>
                    <a:pt x="3001" y="352"/>
                  </a:lnTo>
                  <a:lnTo>
                    <a:pt x="3003" y="373"/>
                  </a:lnTo>
                  <a:close/>
                </a:path>
              </a:pathLst>
            </a:custGeom>
            <a:solidFill>
              <a:srgbClr val="fc6e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983240" y="6513120"/>
              <a:ext cx="329400" cy="90360"/>
            </a:xfrm>
            <a:custGeom>
              <a:avLst/>
              <a:gdLst/>
              <a:ahLst/>
              <a:rect l="l" t="t" r="r" b="b"/>
              <a:pathLst>
                <a:path w="3001" h="761">
                  <a:moveTo>
                    <a:pt x="3001" y="372"/>
                  </a:moveTo>
                  <a:lnTo>
                    <a:pt x="2999" y="392"/>
                  </a:lnTo>
                  <a:lnTo>
                    <a:pt x="2993" y="412"/>
                  </a:lnTo>
                  <a:lnTo>
                    <a:pt x="2984" y="431"/>
                  </a:lnTo>
                  <a:lnTo>
                    <a:pt x="2971" y="450"/>
                  </a:lnTo>
                  <a:lnTo>
                    <a:pt x="2954" y="469"/>
                  </a:lnTo>
                  <a:lnTo>
                    <a:pt x="2934" y="488"/>
                  </a:lnTo>
                  <a:lnTo>
                    <a:pt x="2910" y="506"/>
                  </a:lnTo>
                  <a:lnTo>
                    <a:pt x="2883" y="523"/>
                  </a:lnTo>
                  <a:lnTo>
                    <a:pt x="2853" y="540"/>
                  </a:lnTo>
                  <a:lnTo>
                    <a:pt x="2820" y="557"/>
                  </a:lnTo>
                  <a:lnTo>
                    <a:pt x="2784" y="574"/>
                  </a:lnTo>
                  <a:lnTo>
                    <a:pt x="2745" y="590"/>
                  </a:lnTo>
                  <a:lnTo>
                    <a:pt x="2703" y="605"/>
                  </a:lnTo>
                  <a:lnTo>
                    <a:pt x="2659" y="619"/>
                  </a:lnTo>
                  <a:lnTo>
                    <a:pt x="2611" y="633"/>
                  </a:lnTo>
                  <a:lnTo>
                    <a:pt x="2562" y="647"/>
                  </a:lnTo>
                  <a:lnTo>
                    <a:pt x="2509" y="660"/>
                  </a:lnTo>
                  <a:lnTo>
                    <a:pt x="2455" y="672"/>
                  </a:lnTo>
                  <a:lnTo>
                    <a:pt x="2398" y="684"/>
                  </a:lnTo>
                  <a:lnTo>
                    <a:pt x="2340" y="695"/>
                  </a:lnTo>
                  <a:lnTo>
                    <a:pt x="2279" y="705"/>
                  </a:lnTo>
                  <a:lnTo>
                    <a:pt x="2215" y="714"/>
                  </a:lnTo>
                  <a:lnTo>
                    <a:pt x="2151" y="723"/>
                  </a:lnTo>
                  <a:lnTo>
                    <a:pt x="2084" y="730"/>
                  </a:lnTo>
                  <a:lnTo>
                    <a:pt x="2017" y="737"/>
                  </a:lnTo>
                  <a:lnTo>
                    <a:pt x="1947" y="743"/>
                  </a:lnTo>
                  <a:lnTo>
                    <a:pt x="1875" y="749"/>
                  </a:lnTo>
                  <a:lnTo>
                    <a:pt x="1803" y="753"/>
                  </a:lnTo>
                  <a:lnTo>
                    <a:pt x="1729" y="756"/>
                  </a:lnTo>
                  <a:lnTo>
                    <a:pt x="1654" y="759"/>
                  </a:lnTo>
                  <a:lnTo>
                    <a:pt x="1578" y="760"/>
                  </a:lnTo>
                  <a:lnTo>
                    <a:pt x="1500" y="761"/>
                  </a:lnTo>
                  <a:lnTo>
                    <a:pt x="1424" y="760"/>
                  </a:lnTo>
                  <a:lnTo>
                    <a:pt x="1347" y="759"/>
                  </a:lnTo>
                  <a:lnTo>
                    <a:pt x="1272" y="756"/>
                  </a:lnTo>
                  <a:lnTo>
                    <a:pt x="1198" y="753"/>
                  </a:lnTo>
                  <a:lnTo>
                    <a:pt x="1126" y="749"/>
                  </a:lnTo>
                  <a:lnTo>
                    <a:pt x="1054" y="743"/>
                  </a:lnTo>
                  <a:lnTo>
                    <a:pt x="984" y="737"/>
                  </a:lnTo>
                  <a:lnTo>
                    <a:pt x="917" y="730"/>
                  </a:lnTo>
                  <a:lnTo>
                    <a:pt x="850" y="723"/>
                  </a:lnTo>
                  <a:lnTo>
                    <a:pt x="785" y="714"/>
                  </a:lnTo>
                  <a:lnTo>
                    <a:pt x="723" y="705"/>
                  </a:lnTo>
                  <a:lnTo>
                    <a:pt x="661" y="695"/>
                  </a:lnTo>
                  <a:lnTo>
                    <a:pt x="603" y="684"/>
                  </a:lnTo>
                  <a:lnTo>
                    <a:pt x="546" y="672"/>
                  </a:lnTo>
                  <a:lnTo>
                    <a:pt x="492" y="660"/>
                  </a:lnTo>
                  <a:lnTo>
                    <a:pt x="439" y="647"/>
                  </a:lnTo>
                  <a:lnTo>
                    <a:pt x="390" y="633"/>
                  </a:lnTo>
                  <a:lnTo>
                    <a:pt x="342" y="619"/>
                  </a:lnTo>
                  <a:lnTo>
                    <a:pt x="298" y="605"/>
                  </a:lnTo>
                  <a:lnTo>
                    <a:pt x="256" y="590"/>
                  </a:lnTo>
                  <a:lnTo>
                    <a:pt x="217" y="574"/>
                  </a:lnTo>
                  <a:lnTo>
                    <a:pt x="181" y="557"/>
                  </a:lnTo>
                  <a:lnTo>
                    <a:pt x="148" y="540"/>
                  </a:lnTo>
                  <a:lnTo>
                    <a:pt x="118" y="523"/>
                  </a:lnTo>
                  <a:lnTo>
                    <a:pt x="91" y="506"/>
                  </a:lnTo>
                  <a:lnTo>
                    <a:pt x="67" y="488"/>
                  </a:lnTo>
                  <a:lnTo>
                    <a:pt x="47" y="469"/>
                  </a:lnTo>
                  <a:lnTo>
                    <a:pt x="30" y="450"/>
                  </a:lnTo>
                  <a:lnTo>
                    <a:pt x="17" y="431"/>
                  </a:lnTo>
                  <a:lnTo>
                    <a:pt x="8" y="412"/>
                  </a:lnTo>
                  <a:lnTo>
                    <a:pt x="2" y="392"/>
                  </a:lnTo>
                  <a:lnTo>
                    <a:pt x="0" y="372"/>
                  </a:lnTo>
                  <a:lnTo>
                    <a:pt x="2" y="351"/>
                  </a:lnTo>
                  <a:lnTo>
                    <a:pt x="8" y="332"/>
                  </a:lnTo>
                  <a:lnTo>
                    <a:pt x="17" y="313"/>
                  </a:lnTo>
                  <a:lnTo>
                    <a:pt x="30" y="294"/>
                  </a:lnTo>
                  <a:lnTo>
                    <a:pt x="47" y="276"/>
                  </a:lnTo>
                  <a:lnTo>
                    <a:pt x="67" y="258"/>
                  </a:lnTo>
                  <a:lnTo>
                    <a:pt x="91" y="240"/>
                  </a:lnTo>
                  <a:lnTo>
                    <a:pt x="118" y="223"/>
                  </a:lnTo>
                  <a:lnTo>
                    <a:pt x="148" y="206"/>
                  </a:lnTo>
                  <a:lnTo>
                    <a:pt x="181" y="190"/>
                  </a:lnTo>
                  <a:lnTo>
                    <a:pt x="217" y="175"/>
                  </a:lnTo>
                  <a:lnTo>
                    <a:pt x="256" y="160"/>
                  </a:lnTo>
                  <a:lnTo>
                    <a:pt x="298" y="146"/>
                  </a:lnTo>
                  <a:lnTo>
                    <a:pt x="342" y="131"/>
                  </a:lnTo>
                  <a:lnTo>
                    <a:pt x="390" y="118"/>
                  </a:lnTo>
                  <a:lnTo>
                    <a:pt x="439" y="105"/>
                  </a:lnTo>
                  <a:lnTo>
                    <a:pt x="492" y="93"/>
                  </a:lnTo>
                  <a:lnTo>
                    <a:pt x="546" y="82"/>
                  </a:lnTo>
                  <a:lnTo>
                    <a:pt x="603" y="71"/>
                  </a:lnTo>
                  <a:lnTo>
                    <a:pt x="661" y="61"/>
                  </a:lnTo>
                  <a:lnTo>
                    <a:pt x="723" y="52"/>
                  </a:lnTo>
                  <a:lnTo>
                    <a:pt x="785" y="43"/>
                  </a:lnTo>
                  <a:lnTo>
                    <a:pt x="850" y="36"/>
                  </a:lnTo>
                  <a:lnTo>
                    <a:pt x="917" y="28"/>
                  </a:lnTo>
                  <a:lnTo>
                    <a:pt x="984" y="21"/>
                  </a:lnTo>
                  <a:lnTo>
                    <a:pt x="1054" y="16"/>
                  </a:lnTo>
                  <a:lnTo>
                    <a:pt x="1126" y="11"/>
                  </a:lnTo>
                  <a:lnTo>
                    <a:pt x="1198" y="7"/>
                  </a:lnTo>
                  <a:lnTo>
                    <a:pt x="1272" y="4"/>
                  </a:lnTo>
                  <a:lnTo>
                    <a:pt x="1347" y="2"/>
                  </a:lnTo>
                  <a:lnTo>
                    <a:pt x="1424" y="0"/>
                  </a:lnTo>
                  <a:lnTo>
                    <a:pt x="1500" y="0"/>
                  </a:lnTo>
                  <a:lnTo>
                    <a:pt x="1578" y="0"/>
                  </a:lnTo>
                  <a:lnTo>
                    <a:pt x="1654" y="2"/>
                  </a:lnTo>
                  <a:lnTo>
                    <a:pt x="1729" y="4"/>
                  </a:lnTo>
                  <a:lnTo>
                    <a:pt x="1803" y="7"/>
                  </a:lnTo>
                  <a:lnTo>
                    <a:pt x="1875" y="11"/>
                  </a:lnTo>
                  <a:lnTo>
                    <a:pt x="1947" y="16"/>
                  </a:lnTo>
                  <a:lnTo>
                    <a:pt x="2017" y="21"/>
                  </a:lnTo>
                  <a:lnTo>
                    <a:pt x="2084" y="28"/>
                  </a:lnTo>
                  <a:lnTo>
                    <a:pt x="2151" y="36"/>
                  </a:lnTo>
                  <a:lnTo>
                    <a:pt x="2215" y="43"/>
                  </a:lnTo>
                  <a:lnTo>
                    <a:pt x="2279" y="52"/>
                  </a:lnTo>
                  <a:lnTo>
                    <a:pt x="2340" y="61"/>
                  </a:lnTo>
                  <a:lnTo>
                    <a:pt x="2398" y="71"/>
                  </a:lnTo>
                  <a:lnTo>
                    <a:pt x="2455" y="82"/>
                  </a:lnTo>
                  <a:lnTo>
                    <a:pt x="2509" y="93"/>
                  </a:lnTo>
                  <a:lnTo>
                    <a:pt x="2562" y="105"/>
                  </a:lnTo>
                  <a:lnTo>
                    <a:pt x="2611" y="118"/>
                  </a:lnTo>
                  <a:lnTo>
                    <a:pt x="2659" y="131"/>
                  </a:lnTo>
                  <a:lnTo>
                    <a:pt x="2703" y="146"/>
                  </a:lnTo>
                  <a:lnTo>
                    <a:pt x="2745" y="160"/>
                  </a:lnTo>
                  <a:lnTo>
                    <a:pt x="2784" y="175"/>
                  </a:lnTo>
                  <a:lnTo>
                    <a:pt x="2820" y="190"/>
                  </a:lnTo>
                  <a:lnTo>
                    <a:pt x="2853" y="206"/>
                  </a:lnTo>
                  <a:lnTo>
                    <a:pt x="2883" y="223"/>
                  </a:lnTo>
                  <a:lnTo>
                    <a:pt x="2910" y="240"/>
                  </a:lnTo>
                  <a:lnTo>
                    <a:pt x="2934" y="258"/>
                  </a:lnTo>
                  <a:lnTo>
                    <a:pt x="2954" y="276"/>
                  </a:lnTo>
                  <a:lnTo>
                    <a:pt x="2971" y="294"/>
                  </a:lnTo>
                  <a:lnTo>
                    <a:pt x="2984" y="313"/>
                  </a:lnTo>
                  <a:lnTo>
                    <a:pt x="2993" y="332"/>
                  </a:lnTo>
                  <a:lnTo>
                    <a:pt x="2999" y="351"/>
                  </a:lnTo>
                  <a:lnTo>
                    <a:pt x="3001" y="372"/>
                  </a:lnTo>
                  <a:close/>
                </a:path>
              </a:pathLst>
            </a:custGeom>
            <a:solidFill>
              <a:srgbClr val="fc6e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83240" y="6513120"/>
              <a:ext cx="329400" cy="90360"/>
            </a:xfrm>
            <a:custGeom>
              <a:avLst/>
              <a:gdLst/>
              <a:ahLst/>
              <a:rect l="l" t="t" r="r" b="b"/>
              <a:pathLst>
                <a:path w="2998" h="759">
                  <a:moveTo>
                    <a:pt x="2998" y="371"/>
                  </a:moveTo>
                  <a:lnTo>
                    <a:pt x="2996" y="391"/>
                  </a:lnTo>
                  <a:lnTo>
                    <a:pt x="2990" y="410"/>
                  </a:lnTo>
                  <a:lnTo>
                    <a:pt x="2980" y="430"/>
                  </a:lnTo>
                  <a:lnTo>
                    <a:pt x="2967" y="449"/>
                  </a:lnTo>
                  <a:lnTo>
                    <a:pt x="2951" y="468"/>
                  </a:lnTo>
                  <a:lnTo>
                    <a:pt x="2931" y="487"/>
                  </a:lnTo>
                  <a:lnTo>
                    <a:pt x="2906" y="504"/>
                  </a:lnTo>
                  <a:lnTo>
                    <a:pt x="2880" y="522"/>
                  </a:lnTo>
                  <a:lnTo>
                    <a:pt x="2850" y="539"/>
                  </a:lnTo>
                  <a:lnTo>
                    <a:pt x="2816" y="555"/>
                  </a:lnTo>
                  <a:lnTo>
                    <a:pt x="2781" y="573"/>
                  </a:lnTo>
                  <a:lnTo>
                    <a:pt x="2742" y="588"/>
                  </a:lnTo>
                  <a:lnTo>
                    <a:pt x="2700" y="603"/>
                  </a:lnTo>
                  <a:lnTo>
                    <a:pt x="2656" y="618"/>
                  </a:lnTo>
                  <a:lnTo>
                    <a:pt x="2608" y="632"/>
                  </a:lnTo>
                  <a:lnTo>
                    <a:pt x="2559" y="645"/>
                  </a:lnTo>
                  <a:lnTo>
                    <a:pt x="2506" y="658"/>
                  </a:lnTo>
                  <a:lnTo>
                    <a:pt x="2452" y="670"/>
                  </a:lnTo>
                  <a:lnTo>
                    <a:pt x="2395" y="682"/>
                  </a:lnTo>
                  <a:lnTo>
                    <a:pt x="2337" y="693"/>
                  </a:lnTo>
                  <a:lnTo>
                    <a:pt x="2276" y="703"/>
                  </a:lnTo>
                  <a:lnTo>
                    <a:pt x="2213" y="712"/>
                  </a:lnTo>
                  <a:lnTo>
                    <a:pt x="2149" y="721"/>
                  </a:lnTo>
                  <a:lnTo>
                    <a:pt x="2082" y="729"/>
                  </a:lnTo>
                  <a:lnTo>
                    <a:pt x="2014" y="735"/>
                  </a:lnTo>
                  <a:lnTo>
                    <a:pt x="1945" y="741"/>
                  </a:lnTo>
                  <a:lnTo>
                    <a:pt x="1873" y="747"/>
                  </a:lnTo>
                  <a:lnTo>
                    <a:pt x="1800" y="751"/>
                  </a:lnTo>
                  <a:lnTo>
                    <a:pt x="1727" y="754"/>
                  </a:lnTo>
                  <a:lnTo>
                    <a:pt x="1652" y="757"/>
                  </a:lnTo>
                  <a:lnTo>
                    <a:pt x="1575" y="758"/>
                  </a:lnTo>
                  <a:lnTo>
                    <a:pt x="1498" y="759"/>
                  </a:lnTo>
                  <a:lnTo>
                    <a:pt x="1422" y="758"/>
                  </a:lnTo>
                  <a:lnTo>
                    <a:pt x="1345" y="757"/>
                  </a:lnTo>
                  <a:lnTo>
                    <a:pt x="1270" y="754"/>
                  </a:lnTo>
                  <a:lnTo>
                    <a:pt x="1196" y="751"/>
                  </a:lnTo>
                  <a:lnTo>
                    <a:pt x="1124" y="747"/>
                  </a:lnTo>
                  <a:lnTo>
                    <a:pt x="1053" y="741"/>
                  </a:lnTo>
                  <a:lnTo>
                    <a:pt x="983" y="735"/>
                  </a:lnTo>
                  <a:lnTo>
                    <a:pt x="915" y="729"/>
                  </a:lnTo>
                  <a:lnTo>
                    <a:pt x="848" y="721"/>
                  </a:lnTo>
                  <a:lnTo>
                    <a:pt x="783" y="712"/>
                  </a:lnTo>
                  <a:lnTo>
                    <a:pt x="721" y="703"/>
                  </a:lnTo>
                  <a:lnTo>
                    <a:pt x="660" y="693"/>
                  </a:lnTo>
                  <a:lnTo>
                    <a:pt x="602" y="682"/>
                  </a:lnTo>
                  <a:lnTo>
                    <a:pt x="545" y="670"/>
                  </a:lnTo>
                  <a:lnTo>
                    <a:pt x="491" y="658"/>
                  </a:lnTo>
                  <a:lnTo>
                    <a:pt x="438" y="645"/>
                  </a:lnTo>
                  <a:lnTo>
                    <a:pt x="389" y="632"/>
                  </a:lnTo>
                  <a:lnTo>
                    <a:pt x="342" y="618"/>
                  </a:lnTo>
                  <a:lnTo>
                    <a:pt x="297" y="603"/>
                  </a:lnTo>
                  <a:lnTo>
                    <a:pt x="255" y="588"/>
                  </a:lnTo>
                  <a:lnTo>
                    <a:pt x="216" y="573"/>
                  </a:lnTo>
                  <a:lnTo>
                    <a:pt x="180" y="555"/>
                  </a:lnTo>
                  <a:lnTo>
                    <a:pt x="147" y="539"/>
                  </a:lnTo>
                  <a:lnTo>
                    <a:pt x="117" y="522"/>
                  </a:lnTo>
                  <a:lnTo>
                    <a:pt x="91" y="504"/>
                  </a:lnTo>
                  <a:lnTo>
                    <a:pt x="66" y="487"/>
                  </a:lnTo>
                  <a:lnTo>
                    <a:pt x="46" y="468"/>
                  </a:lnTo>
                  <a:lnTo>
                    <a:pt x="30" y="449"/>
                  </a:lnTo>
                  <a:lnTo>
                    <a:pt x="17" y="430"/>
                  </a:lnTo>
                  <a:lnTo>
                    <a:pt x="7" y="410"/>
                  </a:lnTo>
                  <a:lnTo>
                    <a:pt x="2" y="391"/>
                  </a:lnTo>
                  <a:lnTo>
                    <a:pt x="0" y="371"/>
                  </a:lnTo>
                  <a:lnTo>
                    <a:pt x="2" y="350"/>
                  </a:lnTo>
                  <a:lnTo>
                    <a:pt x="7" y="331"/>
                  </a:lnTo>
                  <a:lnTo>
                    <a:pt x="17" y="312"/>
                  </a:lnTo>
                  <a:lnTo>
                    <a:pt x="30" y="293"/>
                  </a:lnTo>
                  <a:lnTo>
                    <a:pt x="46" y="275"/>
                  </a:lnTo>
                  <a:lnTo>
                    <a:pt x="66" y="257"/>
                  </a:lnTo>
                  <a:lnTo>
                    <a:pt x="91" y="239"/>
                  </a:lnTo>
                  <a:lnTo>
                    <a:pt x="117" y="222"/>
                  </a:lnTo>
                  <a:lnTo>
                    <a:pt x="147" y="206"/>
                  </a:lnTo>
                  <a:lnTo>
                    <a:pt x="180" y="190"/>
                  </a:lnTo>
                  <a:lnTo>
                    <a:pt x="216" y="174"/>
                  </a:lnTo>
                  <a:lnTo>
                    <a:pt x="255" y="160"/>
                  </a:lnTo>
                  <a:lnTo>
                    <a:pt x="297" y="145"/>
                  </a:lnTo>
                  <a:lnTo>
                    <a:pt x="342" y="131"/>
                  </a:lnTo>
                  <a:lnTo>
                    <a:pt x="389" y="117"/>
                  </a:lnTo>
                  <a:lnTo>
                    <a:pt x="438" y="105"/>
                  </a:lnTo>
                  <a:lnTo>
                    <a:pt x="491" y="93"/>
                  </a:lnTo>
                  <a:lnTo>
                    <a:pt x="545" y="82"/>
                  </a:lnTo>
                  <a:lnTo>
                    <a:pt x="602" y="71"/>
                  </a:lnTo>
                  <a:lnTo>
                    <a:pt x="660" y="61"/>
                  </a:lnTo>
                  <a:lnTo>
                    <a:pt x="721" y="52"/>
                  </a:lnTo>
                  <a:lnTo>
                    <a:pt x="783" y="43"/>
                  </a:lnTo>
                  <a:lnTo>
                    <a:pt x="848" y="35"/>
                  </a:lnTo>
                  <a:lnTo>
                    <a:pt x="915" y="27"/>
                  </a:lnTo>
                  <a:lnTo>
                    <a:pt x="983" y="21"/>
                  </a:lnTo>
                  <a:lnTo>
                    <a:pt x="1053" y="16"/>
                  </a:lnTo>
                  <a:lnTo>
                    <a:pt x="1124" y="11"/>
                  </a:lnTo>
                  <a:lnTo>
                    <a:pt x="1196" y="7"/>
                  </a:lnTo>
                  <a:lnTo>
                    <a:pt x="1270" y="4"/>
                  </a:lnTo>
                  <a:lnTo>
                    <a:pt x="1345" y="2"/>
                  </a:lnTo>
                  <a:lnTo>
                    <a:pt x="1422" y="0"/>
                  </a:lnTo>
                  <a:lnTo>
                    <a:pt x="1498" y="0"/>
                  </a:lnTo>
                  <a:lnTo>
                    <a:pt x="1575" y="0"/>
                  </a:lnTo>
                  <a:lnTo>
                    <a:pt x="1652" y="2"/>
                  </a:lnTo>
                  <a:lnTo>
                    <a:pt x="1727" y="4"/>
                  </a:lnTo>
                  <a:lnTo>
                    <a:pt x="1800" y="7"/>
                  </a:lnTo>
                  <a:lnTo>
                    <a:pt x="1873" y="11"/>
                  </a:lnTo>
                  <a:lnTo>
                    <a:pt x="1945" y="16"/>
                  </a:lnTo>
                  <a:lnTo>
                    <a:pt x="2014" y="21"/>
                  </a:lnTo>
                  <a:lnTo>
                    <a:pt x="2082" y="27"/>
                  </a:lnTo>
                  <a:lnTo>
                    <a:pt x="2149" y="35"/>
                  </a:lnTo>
                  <a:lnTo>
                    <a:pt x="2213" y="43"/>
                  </a:lnTo>
                  <a:lnTo>
                    <a:pt x="2276" y="52"/>
                  </a:lnTo>
                  <a:lnTo>
                    <a:pt x="2337" y="61"/>
                  </a:lnTo>
                  <a:lnTo>
                    <a:pt x="2395" y="71"/>
                  </a:lnTo>
                  <a:lnTo>
                    <a:pt x="2452" y="82"/>
                  </a:lnTo>
                  <a:lnTo>
                    <a:pt x="2506" y="93"/>
                  </a:lnTo>
                  <a:lnTo>
                    <a:pt x="2559" y="105"/>
                  </a:lnTo>
                  <a:lnTo>
                    <a:pt x="2608" y="117"/>
                  </a:lnTo>
                  <a:lnTo>
                    <a:pt x="2656" y="131"/>
                  </a:lnTo>
                  <a:lnTo>
                    <a:pt x="2700" y="145"/>
                  </a:lnTo>
                  <a:lnTo>
                    <a:pt x="2742" y="160"/>
                  </a:lnTo>
                  <a:lnTo>
                    <a:pt x="2781" y="174"/>
                  </a:lnTo>
                  <a:lnTo>
                    <a:pt x="2816" y="190"/>
                  </a:lnTo>
                  <a:lnTo>
                    <a:pt x="2850" y="206"/>
                  </a:lnTo>
                  <a:lnTo>
                    <a:pt x="2880" y="222"/>
                  </a:lnTo>
                  <a:lnTo>
                    <a:pt x="2906" y="239"/>
                  </a:lnTo>
                  <a:lnTo>
                    <a:pt x="2931" y="257"/>
                  </a:lnTo>
                  <a:lnTo>
                    <a:pt x="2951" y="275"/>
                  </a:lnTo>
                  <a:lnTo>
                    <a:pt x="2967" y="293"/>
                  </a:lnTo>
                  <a:lnTo>
                    <a:pt x="2980" y="312"/>
                  </a:lnTo>
                  <a:lnTo>
                    <a:pt x="2990" y="331"/>
                  </a:lnTo>
                  <a:lnTo>
                    <a:pt x="2996" y="350"/>
                  </a:lnTo>
                  <a:lnTo>
                    <a:pt x="2998" y="371"/>
                  </a:lnTo>
                  <a:close/>
                </a:path>
              </a:pathLst>
            </a:custGeom>
            <a:solidFill>
              <a:srgbClr val="fc6c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83240" y="6513120"/>
              <a:ext cx="329400" cy="90360"/>
            </a:xfrm>
            <a:custGeom>
              <a:avLst/>
              <a:gdLst/>
              <a:ahLst/>
              <a:rect l="l" t="t" r="r" b="b"/>
              <a:pathLst>
                <a:path w="2995" h="757">
                  <a:moveTo>
                    <a:pt x="2995" y="370"/>
                  </a:moveTo>
                  <a:lnTo>
                    <a:pt x="2993" y="390"/>
                  </a:lnTo>
                  <a:lnTo>
                    <a:pt x="2988" y="409"/>
                  </a:lnTo>
                  <a:lnTo>
                    <a:pt x="2978" y="429"/>
                  </a:lnTo>
                  <a:lnTo>
                    <a:pt x="2965" y="447"/>
                  </a:lnTo>
                  <a:lnTo>
                    <a:pt x="2948" y="467"/>
                  </a:lnTo>
                  <a:lnTo>
                    <a:pt x="2928" y="485"/>
                  </a:lnTo>
                  <a:lnTo>
                    <a:pt x="2904" y="503"/>
                  </a:lnTo>
                  <a:lnTo>
                    <a:pt x="2878" y="520"/>
                  </a:lnTo>
                  <a:lnTo>
                    <a:pt x="2848" y="538"/>
                  </a:lnTo>
                  <a:lnTo>
                    <a:pt x="2814" y="554"/>
                  </a:lnTo>
                  <a:lnTo>
                    <a:pt x="2778" y="571"/>
                  </a:lnTo>
                  <a:lnTo>
                    <a:pt x="2740" y="587"/>
                  </a:lnTo>
                  <a:lnTo>
                    <a:pt x="2698" y="602"/>
                  </a:lnTo>
                  <a:lnTo>
                    <a:pt x="2653" y="616"/>
                  </a:lnTo>
                  <a:lnTo>
                    <a:pt x="2606" y="630"/>
                  </a:lnTo>
                  <a:lnTo>
                    <a:pt x="2557" y="643"/>
                  </a:lnTo>
                  <a:lnTo>
                    <a:pt x="2504" y="656"/>
                  </a:lnTo>
                  <a:lnTo>
                    <a:pt x="2450" y="668"/>
                  </a:lnTo>
                  <a:lnTo>
                    <a:pt x="2393" y="681"/>
                  </a:lnTo>
                  <a:lnTo>
                    <a:pt x="2335" y="691"/>
                  </a:lnTo>
                  <a:lnTo>
                    <a:pt x="2274" y="701"/>
                  </a:lnTo>
                  <a:lnTo>
                    <a:pt x="2211" y="711"/>
                  </a:lnTo>
                  <a:lnTo>
                    <a:pt x="2147" y="719"/>
                  </a:lnTo>
                  <a:lnTo>
                    <a:pt x="2080" y="727"/>
                  </a:lnTo>
                  <a:lnTo>
                    <a:pt x="2013" y="734"/>
                  </a:lnTo>
                  <a:lnTo>
                    <a:pt x="1943" y="740"/>
                  </a:lnTo>
                  <a:lnTo>
                    <a:pt x="1872" y="745"/>
                  </a:lnTo>
                  <a:lnTo>
                    <a:pt x="1799" y="749"/>
                  </a:lnTo>
                  <a:lnTo>
                    <a:pt x="1726" y="752"/>
                  </a:lnTo>
                  <a:lnTo>
                    <a:pt x="1651" y="755"/>
                  </a:lnTo>
                  <a:lnTo>
                    <a:pt x="1574" y="756"/>
                  </a:lnTo>
                  <a:lnTo>
                    <a:pt x="1497" y="757"/>
                  </a:lnTo>
                  <a:lnTo>
                    <a:pt x="1421" y="756"/>
                  </a:lnTo>
                  <a:lnTo>
                    <a:pt x="1344" y="755"/>
                  </a:lnTo>
                  <a:lnTo>
                    <a:pt x="1269" y="752"/>
                  </a:lnTo>
                  <a:lnTo>
                    <a:pt x="1195" y="749"/>
                  </a:lnTo>
                  <a:lnTo>
                    <a:pt x="1123" y="745"/>
                  </a:lnTo>
                  <a:lnTo>
                    <a:pt x="1052" y="740"/>
                  </a:lnTo>
                  <a:lnTo>
                    <a:pt x="982" y="734"/>
                  </a:lnTo>
                  <a:lnTo>
                    <a:pt x="915" y="727"/>
                  </a:lnTo>
                  <a:lnTo>
                    <a:pt x="848" y="719"/>
                  </a:lnTo>
                  <a:lnTo>
                    <a:pt x="783" y="711"/>
                  </a:lnTo>
                  <a:lnTo>
                    <a:pt x="721" y="701"/>
                  </a:lnTo>
                  <a:lnTo>
                    <a:pt x="660" y="691"/>
                  </a:lnTo>
                  <a:lnTo>
                    <a:pt x="602" y="681"/>
                  </a:lnTo>
                  <a:lnTo>
                    <a:pt x="545" y="668"/>
                  </a:lnTo>
                  <a:lnTo>
                    <a:pt x="491" y="656"/>
                  </a:lnTo>
                  <a:lnTo>
                    <a:pt x="438" y="643"/>
                  </a:lnTo>
                  <a:lnTo>
                    <a:pt x="389" y="630"/>
                  </a:lnTo>
                  <a:lnTo>
                    <a:pt x="342" y="616"/>
                  </a:lnTo>
                  <a:lnTo>
                    <a:pt x="298" y="602"/>
                  </a:lnTo>
                  <a:lnTo>
                    <a:pt x="255" y="587"/>
                  </a:lnTo>
                  <a:lnTo>
                    <a:pt x="217" y="571"/>
                  </a:lnTo>
                  <a:lnTo>
                    <a:pt x="181" y="554"/>
                  </a:lnTo>
                  <a:lnTo>
                    <a:pt x="147" y="538"/>
                  </a:lnTo>
                  <a:lnTo>
                    <a:pt x="118" y="520"/>
                  </a:lnTo>
                  <a:lnTo>
                    <a:pt x="91" y="503"/>
                  </a:lnTo>
                  <a:lnTo>
                    <a:pt x="67" y="485"/>
                  </a:lnTo>
                  <a:lnTo>
                    <a:pt x="47" y="467"/>
                  </a:lnTo>
                  <a:lnTo>
                    <a:pt x="30" y="447"/>
                  </a:lnTo>
                  <a:lnTo>
                    <a:pt x="17" y="429"/>
                  </a:lnTo>
                  <a:lnTo>
                    <a:pt x="8" y="409"/>
                  </a:lnTo>
                  <a:lnTo>
                    <a:pt x="2" y="390"/>
                  </a:lnTo>
                  <a:lnTo>
                    <a:pt x="0" y="370"/>
                  </a:lnTo>
                  <a:lnTo>
                    <a:pt x="2" y="349"/>
                  </a:lnTo>
                  <a:lnTo>
                    <a:pt x="8" y="330"/>
                  </a:lnTo>
                  <a:lnTo>
                    <a:pt x="17" y="311"/>
                  </a:lnTo>
                  <a:lnTo>
                    <a:pt x="30" y="293"/>
                  </a:lnTo>
                  <a:lnTo>
                    <a:pt x="47" y="274"/>
                  </a:lnTo>
                  <a:lnTo>
                    <a:pt x="67" y="257"/>
                  </a:lnTo>
                  <a:lnTo>
                    <a:pt x="91" y="238"/>
                  </a:lnTo>
                  <a:lnTo>
                    <a:pt x="118" y="221"/>
                  </a:lnTo>
                  <a:lnTo>
                    <a:pt x="147" y="205"/>
                  </a:lnTo>
                  <a:lnTo>
                    <a:pt x="181" y="189"/>
                  </a:lnTo>
                  <a:lnTo>
                    <a:pt x="217" y="174"/>
                  </a:lnTo>
                  <a:lnTo>
                    <a:pt x="255" y="159"/>
                  </a:lnTo>
                  <a:lnTo>
                    <a:pt x="298" y="145"/>
                  </a:lnTo>
                  <a:lnTo>
                    <a:pt x="342" y="130"/>
                  </a:lnTo>
                  <a:lnTo>
                    <a:pt x="389" y="117"/>
                  </a:lnTo>
                  <a:lnTo>
                    <a:pt x="438" y="104"/>
                  </a:lnTo>
                  <a:lnTo>
                    <a:pt x="491" y="93"/>
                  </a:lnTo>
                  <a:lnTo>
                    <a:pt x="545" y="81"/>
                  </a:lnTo>
                  <a:lnTo>
                    <a:pt x="602" y="71"/>
                  </a:lnTo>
                  <a:lnTo>
                    <a:pt x="660" y="61"/>
                  </a:lnTo>
                  <a:lnTo>
                    <a:pt x="721" y="52"/>
                  </a:lnTo>
                  <a:lnTo>
                    <a:pt x="783" y="43"/>
                  </a:lnTo>
                  <a:lnTo>
                    <a:pt x="848" y="35"/>
                  </a:lnTo>
                  <a:lnTo>
                    <a:pt x="915" y="27"/>
                  </a:lnTo>
                  <a:lnTo>
                    <a:pt x="982" y="21"/>
                  </a:lnTo>
                  <a:lnTo>
                    <a:pt x="1052" y="15"/>
                  </a:lnTo>
                  <a:lnTo>
                    <a:pt x="1123" y="11"/>
                  </a:lnTo>
                  <a:lnTo>
                    <a:pt x="1195" y="7"/>
                  </a:lnTo>
                  <a:lnTo>
                    <a:pt x="1269" y="4"/>
                  </a:lnTo>
                  <a:lnTo>
                    <a:pt x="1344" y="2"/>
                  </a:lnTo>
                  <a:lnTo>
                    <a:pt x="1421" y="0"/>
                  </a:lnTo>
                  <a:lnTo>
                    <a:pt x="1497" y="0"/>
                  </a:lnTo>
                  <a:lnTo>
                    <a:pt x="1574" y="0"/>
                  </a:lnTo>
                  <a:lnTo>
                    <a:pt x="1651" y="2"/>
                  </a:lnTo>
                  <a:lnTo>
                    <a:pt x="1726" y="4"/>
                  </a:lnTo>
                  <a:lnTo>
                    <a:pt x="1799" y="7"/>
                  </a:lnTo>
                  <a:lnTo>
                    <a:pt x="1872" y="11"/>
                  </a:lnTo>
                  <a:lnTo>
                    <a:pt x="1943" y="15"/>
                  </a:lnTo>
                  <a:lnTo>
                    <a:pt x="2013" y="21"/>
                  </a:lnTo>
                  <a:lnTo>
                    <a:pt x="2080" y="27"/>
                  </a:lnTo>
                  <a:lnTo>
                    <a:pt x="2147" y="35"/>
                  </a:lnTo>
                  <a:lnTo>
                    <a:pt x="2211" y="43"/>
                  </a:lnTo>
                  <a:lnTo>
                    <a:pt x="2274" y="52"/>
                  </a:lnTo>
                  <a:lnTo>
                    <a:pt x="2335" y="61"/>
                  </a:lnTo>
                  <a:lnTo>
                    <a:pt x="2393" y="71"/>
                  </a:lnTo>
                  <a:lnTo>
                    <a:pt x="2450" y="81"/>
                  </a:lnTo>
                  <a:lnTo>
                    <a:pt x="2504" y="93"/>
                  </a:lnTo>
                  <a:lnTo>
                    <a:pt x="2557" y="104"/>
                  </a:lnTo>
                  <a:lnTo>
                    <a:pt x="2606" y="117"/>
                  </a:lnTo>
                  <a:lnTo>
                    <a:pt x="2653" y="130"/>
                  </a:lnTo>
                  <a:lnTo>
                    <a:pt x="2698" y="145"/>
                  </a:lnTo>
                  <a:lnTo>
                    <a:pt x="2740" y="159"/>
                  </a:lnTo>
                  <a:lnTo>
                    <a:pt x="2778" y="174"/>
                  </a:lnTo>
                  <a:lnTo>
                    <a:pt x="2814" y="189"/>
                  </a:lnTo>
                  <a:lnTo>
                    <a:pt x="2848" y="205"/>
                  </a:lnTo>
                  <a:lnTo>
                    <a:pt x="2878" y="221"/>
                  </a:lnTo>
                  <a:lnTo>
                    <a:pt x="2904" y="238"/>
                  </a:lnTo>
                  <a:lnTo>
                    <a:pt x="2928" y="257"/>
                  </a:lnTo>
                  <a:lnTo>
                    <a:pt x="2948" y="274"/>
                  </a:lnTo>
                  <a:lnTo>
                    <a:pt x="2965" y="293"/>
                  </a:lnTo>
                  <a:lnTo>
                    <a:pt x="2978" y="311"/>
                  </a:lnTo>
                  <a:lnTo>
                    <a:pt x="2988" y="330"/>
                  </a:lnTo>
                  <a:lnTo>
                    <a:pt x="2993" y="349"/>
                  </a:lnTo>
                  <a:lnTo>
                    <a:pt x="2995" y="370"/>
                  </a:lnTo>
                  <a:close/>
                </a:path>
              </a:pathLst>
            </a:custGeom>
            <a:solidFill>
              <a:srgbClr val="fc6c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83240" y="6514200"/>
              <a:ext cx="329400" cy="89280"/>
            </a:xfrm>
            <a:custGeom>
              <a:avLst/>
              <a:gdLst/>
              <a:ahLst/>
              <a:rect l="l" t="t" r="r" b="b"/>
              <a:pathLst>
                <a:path w="2993" h="755">
                  <a:moveTo>
                    <a:pt x="2993" y="369"/>
                  </a:moveTo>
                  <a:lnTo>
                    <a:pt x="2991" y="389"/>
                  </a:lnTo>
                  <a:lnTo>
                    <a:pt x="2985" y="408"/>
                  </a:lnTo>
                  <a:lnTo>
                    <a:pt x="2976" y="427"/>
                  </a:lnTo>
                  <a:lnTo>
                    <a:pt x="2963" y="446"/>
                  </a:lnTo>
                  <a:lnTo>
                    <a:pt x="2946" y="466"/>
                  </a:lnTo>
                  <a:lnTo>
                    <a:pt x="2926" y="484"/>
                  </a:lnTo>
                  <a:lnTo>
                    <a:pt x="2902" y="502"/>
                  </a:lnTo>
                  <a:lnTo>
                    <a:pt x="2875" y="519"/>
                  </a:lnTo>
                  <a:lnTo>
                    <a:pt x="2846" y="536"/>
                  </a:lnTo>
                  <a:lnTo>
                    <a:pt x="2812" y="553"/>
                  </a:lnTo>
                  <a:lnTo>
                    <a:pt x="2776" y="570"/>
                  </a:lnTo>
                  <a:lnTo>
                    <a:pt x="2738" y="585"/>
                  </a:lnTo>
                  <a:lnTo>
                    <a:pt x="2695" y="600"/>
                  </a:lnTo>
                  <a:lnTo>
                    <a:pt x="2651" y="615"/>
                  </a:lnTo>
                  <a:lnTo>
                    <a:pt x="2604" y="629"/>
                  </a:lnTo>
                  <a:lnTo>
                    <a:pt x="2555" y="642"/>
                  </a:lnTo>
                  <a:lnTo>
                    <a:pt x="2502" y="654"/>
                  </a:lnTo>
                  <a:lnTo>
                    <a:pt x="2449" y="667"/>
                  </a:lnTo>
                  <a:lnTo>
                    <a:pt x="2392" y="679"/>
                  </a:lnTo>
                  <a:lnTo>
                    <a:pt x="2333" y="690"/>
                  </a:lnTo>
                  <a:lnTo>
                    <a:pt x="2272" y="700"/>
                  </a:lnTo>
                  <a:lnTo>
                    <a:pt x="2209" y="709"/>
                  </a:lnTo>
                  <a:lnTo>
                    <a:pt x="2145" y="717"/>
                  </a:lnTo>
                  <a:lnTo>
                    <a:pt x="2079" y="725"/>
                  </a:lnTo>
                  <a:lnTo>
                    <a:pt x="2011" y="732"/>
                  </a:lnTo>
                  <a:lnTo>
                    <a:pt x="1942" y="738"/>
                  </a:lnTo>
                  <a:lnTo>
                    <a:pt x="1870" y="743"/>
                  </a:lnTo>
                  <a:lnTo>
                    <a:pt x="1798" y="747"/>
                  </a:lnTo>
                  <a:lnTo>
                    <a:pt x="1725" y="751"/>
                  </a:lnTo>
                  <a:lnTo>
                    <a:pt x="1650" y="753"/>
                  </a:lnTo>
                  <a:lnTo>
                    <a:pt x="1573" y="754"/>
                  </a:lnTo>
                  <a:lnTo>
                    <a:pt x="1496" y="755"/>
                  </a:lnTo>
                  <a:lnTo>
                    <a:pt x="1420" y="754"/>
                  </a:lnTo>
                  <a:lnTo>
                    <a:pt x="1344" y="753"/>
                  </a:lnTo>
                  <a:lnTo>
                    <a:pt x="1268" y="751"/>
                  </a:lnTo>
                  <a:lnTo>
                    <a:pt x="1194" y="747"/>
                  </a:lnTo>
                  <a:lnTo>
                    <a:pt x="1123" y="743"/>
                  </a:lnTo>
                  <a:lnTo>
                    <a:pt x="1051" y="738"/>
                  </a:lnTo>
                  <a:lnTo>
                    <a:pt x="982" y="732"/>
                  </a:lnTo>
                  <a:lnTo>
                    <a:pt x="914" y="725"/>
                  </a:lnTo>
                  <a:lnTo>
                    <a:pt x="848" y="717"/>
                  </a:lnTo>
                  <a:lnTo>
                    <a:pt x="783" y="709"/>
                  </a:lnTo>
                  <a:lnTo>
                    <a:pt x="721" y="700"/>
                  </a:lnTo>
                  <a:lnTo>
                    <a:pt x="660" y="690"/>
                  </a:lnTo>
                  <a:lnTo>
                    <a:pt x="602" y="679"/>
                  </a:lnTo>
                  <a:lnTo>
                    <a:pt x="545" y="667"/>
                  </a:lnTo>
                  <a:lnTo>
                    <a:pt x="491" y="654"/>
                  </a:lnTo>
                  <a:lnTo>
                    <a:pt x="438" y="642"/>
                  </a:lnTo>
                  <a:lnTo>
                    <a:pt x="389" y="629"/>
                  </a:lnTo>
                  <a:lnTo>
                    <a:pt x="342" y="615"/>
                  </a:lnTo>
                  <a:lnTo>
                    <a:pt x="298" y="600"/>
                  </a:lnTo>
                  <a:lnTo>
                    <a:pt x="255" y="585"/>
                  </a:lnTo>
                  <a:lnTo>
                    <a:pt x="217" y="570"/>
                  </a:lnTo>
                  <a:lnTo>
                    <a:pt x="181" y="553"/>
                  </a:lnTo>
                  <a:lnTo>
                    <a:pt x="148" y="536"/>
                  </a:lnTo>
                  <a:lnTo>
                    <a:pt x="118" y="519"/>
                  </a:lnTo>
                  <a:lnTo>
                    <a:pt x="91" y="502"/>
                  </a:lnTo>
                  <a:lnTo>
                    <a:pt x="67" y="484"/>
                  </a:lnTo>
                  <a:lnTo>
                    <a:pt x="47" y="466"/>
                  </a:lnTo>
                  <a:lnTo>
                    <a:pt x="31" y="446"/>
                  </a:lnTo>
                  <a:lnTo>
                    <a:pt x="18" y="427"/>
                  </a:lnTo>
                  <a:lnTo>
                    <a:pt x="8" y="408"/>
                  </a:lnTo>
                  <a:lnTo>
                    <a:pt x="2" y="389"/>
                  </a:lnTo>
                  <a:lnTo>
                    <a:pt x="0" y="369"/>
                  </a:lnTo>
                  <a:lnTo>
                    <a:pt x="2" y="348"/>
                  </a:lnTo>
                  <a:lnTo>
                    <a:pt x="8" y="329"/>
                  </a:lnTo>
                  <a:lnTo>
                    <a:pt x="18" y="310"/>
                  </a:lnTo>
                  <a:lnTo>
                    <a:pt x="31" y="292"/>
                  </a:lnTo>
                  <a:lnTo>
                    <a:pt x="47" y="274"/>
                  </a:lnTo>
                  <a:lnTo>
                    <a:pt x="67" y="256"/>
                  </a:lnTo>
                  <a:lnTo>
                    <a:pt x="91" y="238"/>
                  </a:lnTo>
                  <a:lnTo>
                    <a:pt x="118" y="221"/>
                  </a:lnTo>
                  <a:lnTo>
                    <a:pt x="148" y="205"/>
                  </a:lnTo>
                  <a:lnTo>
                    <a:pt x="181" y="189"/>
                  </a:lnTo>
                  <a:lnTo>
                    <a:pt x="217" y="173"/>
                  </a:lnTo>
                  <a:lnTo>
                    <a:pt x="255" y="159"/>
                  </a:lnTo>
                  <a:lnTo>
                    <a:pt x="298" y="144"/>
                  </a:lnTo>
                  <a:lnTo>
                    <a:pt x="342" y="130"/>
                  </a:lnTo>
                  <a:lnTo>
                    <a:pt x="389" y="117"/>
                  </a:lnTo>
                  <a:lnTo>
                    <a:pt x="438" y="104"/>
                  </a:lnTo>
                  <a:lnTo>
                    <a:pt x="491" y="92"/>
                  </a:lnTo>
                  <a:lnTo>
                    <a:pt x="545" y="81"/>
                  </a:lnTo>
                  <a:lnTo>
                    <a:pt x="602" y="70"/>
                  </a:lnTo>
                  <a:lnTo>
                    <a:pt x="660" y="61"/>
                  </a:lnTo>
                  <a:lnTo>
                    <a:pt x="721" y="51"/>
                  </a:lnTo>
                  <a:lnTo>
                    <a:pt x="783" y="43"/>
                  </a:lnTo>
                  <a:lnTo>
                    <a:pt x="848" y="35"/>
                  </a:lnTo>
                  <a:lnTo>
                    <a:pt x="914" y="27"/>
                  </a:lnTo>
                  <a:lnTo>
                    <a:pt x="982" y="21"/>
                  </a:lnTo>
                  <a:lnTo>
                    <a:pt x="1051" y="15"/>
                  </a:lnTo>
                  <a:lnTo>
                    <a:pt x="1123" y="11"/>
                  </a:lnTo>
                  <a:lnTo>
                    <a:pt x="1194" y="7"/>
                  </a:lnTo>
                  <a:lnTo>
                    <a:pt x="1268" y="4"/>
                  </a:lnTo>
                  <a:lnTo>
                    <a:pt x="1344" y="1"/>
                  </a:lnTo>
                  <a:lnTo>
                    <a:pt x="1420" y="0"/>
                  </a:lnTo>
                  <a:lnTo>
                    <a:pt x="1496" y="0"/>
                  </a:lnTo>
                  <a:lnTo>
                    <a:pt x="1573" y="0"/>
                  </a:lnTo>
                  <a:lnTo>
                    <a:pt x="1650" y="1"/>
                  </a:lnTo>
                  <a:lnTo>
                    <a:pt x="1725" y="4"/>
                  </a:lnTo>
                  <a:lnTo>
                    <a:pt x="1798" y="7"/>
                  </a:lnTo>
                  <a:lnTo>
                    <a:pt x="1870" y="11"/>
                  </a:lnTo>
                  <a:lnTo>
                    <a:pt x="1942" y="15"/>
                  </a:lnTo>
                  <a:lnTo>
                    <a:pt x="2011" y="21"/>
                  </a:lnTo>
                  <a:lnTo>
                    <a:pt x="2079" y="27"/>
                  </a:lnTo>
                  <a:lnTo>
                    <a:pt x="2145" y="35"/>
                  </a:lnTo>
                  <a:lnTo>
                    <a:pt x="2209" y="43"/>
                  </a:lnTo>
                  <a:lnTo>
                    <a:pt x="2272" y="51"/>
                  </a:lnTo>
                  <a:lnTo>
                    <a:pt x="2333" y="61"/>
                  </a:lnTo>
                  <a:lnTo>
                    <a:pt x="2392" y="70"/>
                  </a:lnTo>
                  <a:lnTo>
                    <a:pt x="2449" y="81"/>
                  </a:lnTo>
                  <a:lnTo>
                    <a:pt x="2502" y="92"/>
                  </a:lnTo>
                  <a:lnTo>
                    <a:pt x="2555" y="104"/>
                  </a:lnTo>
                  <a:lnTo>
                    <a:pt x="2604" y="117"/>
                  </a:lnTo>
                  <a:lnTo>
                    <a:pt x="2651" y="130"/>
                  </a:lnTo>
                  <a:lnTo>
                    <a:pt x="2695" y="144"/>
                  </a:lnTo>
                  <a:lnTo>
                    <a:pt x="2738" y="159"/>
                  </a:lnTo>
                  <a:lnTo>
                    <a:pt x="2776" y="173"/>
                  </a:lnTo>
                  <a:lnTo>
                    <a:pt x="2812" y="189"/>
                  </a:lnTo>
                  <a:lnTo>
                    <a:pt x="2846" y="205"/>
                  </a:lnTo>
                  <a:lnTo>
                    <a:pt x="2875" y="221"/>
                  </a:lnTo>
                  <a:lnTo>
                    <a:pt x="2902" y="238"/>
                  </a:lnTo>
                  <a:lnTo>
                    <a:pt x="2926" y="256"/>
                  </a:lnTo>
                  <a:lnTo>
                    <a:pt x="2946" y="274"/>
                  </a:lnTo>
                  <a:lnTo>
                    <a:pt x="2963" y="292"/>
                  </a:lnTo>
                  <a:lnTo>
                    <a:pt x="2976" y="310"/>
                  </a:lnTo>
                  <a:lnTo>
                    <a:pt x="2985" y="329"/>
                  </a:lnTo>
                  <a:lnTo>
                    <a:pt x="2991" y="348"/>
                  </a:lnTo>
                  <a:lnTo>
                    <a:pt x="2993" y="369"/>
                  </a:lnTo>
                  <a:close/>
                </a:path>
              </a:pathLst>
            </a:custGeom>
            <a:solidFill>
              <a:srgbClr val="fc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83240" y="6514200"/>
              <a:ext cx="329400" cy="89280"/>
            </a:xfrm>
            <a:custGeom>
              <a:avLst/>
              <a:gdLst/>
              <a:ahLst/>
              <a:rect l="l" t="t" r="r" b="b"/>
              <a:pathLst>
                <a:path w="2989" h="753">
                  <a:moveTo>
                    <a:pt x="2989" y="368"/>
                  </a:moveTo>
                  <a:lnTo>
                    <a:pt x="2987" y="388"/>
                  </a:lnTo>
                  <a:lnTo>
                    <a:pt x="2982" y="407"/>
                  </a:lnTo>
                  <a:lnTo>
                    <a:pt x="2972" y="426"/>
                  </a:lnTo>
                  <a:lnTo>
                    <a:pt x="2959" y="445"/>
                  </a:lnTo>
                  <a:lnTo>
                    <a:pt x="2943" y="465"/>
                  </a:lnTo>
                  <a:lnTo>
                    <a:pt x="2923" y="483"/>
                  </a:lnTo>
                  <a:lnTo>
                    <a:pt x="2898" y="500"/>
                  </a:lnTo>
                  <a:lnTo>
                    <a:pt x="2872" y="518"/>
                  </a:lnTo>
                  <a:lnTo>
                    <a:pt x="2842" y="535"/>
                  </a:lnTo>
                  <a:lnTo>
                    <a:pt x="2809" y="551"/>
                  </a:lnTo>
                  <a:lnTo>
                    <a:pt x="2773" y="568"/>
                  </a:lnTo>
                  <a:lnTo>
                    <a:pt x="2735" y="584"/>
                  </a:lnTo>
                  <a:lnTo>
                    <a:pt x="2692" y="599"/>
                  </a:lnTo>
                  <a:lnTo>
                    <a:pt x="2648" y="613"/>
                  </a:lnTo>
                  <a:lnTo>
                    <a:pt x="2601" y="627"/>
                  </a:lnTo>
                  <a:lnTo>
                    <a:pt x="2552" y="640"/>
                  </a:lnTo>
                  <a:lnTo>
                    <a:pt x="2499" y="653"/>
                  </a:lnTo>
                  <a:lnTo>
                    <a:pt x="2446" y="665"/>
                  </a:lnTo>
                  <a:lnTo>
                    <a:pt x="2389" y="677"/>
                  </a:lnTo>
                  <a:lnTo>
                    <a:pt x="2331" y="688"/>
                  </a:lnTo>
                  <a:lnTo>
                    <a:pt x="2270" y="698"/>
                  </a:lnTo>
                  <a:lnTo>
                    <a:pt x="2207" y="707"/>
                  </a:lnTo>
                  <a:lnTo>
                    <a:pt x="2143" y="715"/>
                  </a:lnTo>
                  <a:lnTo>
                    <a:pt x="2076" y="723"/>
                  </a:lnTo>
                  <a:lnTo>
                    <a:pt x="2009" y="730"/>
                  </a:lnTo>
                  <a:lnTo>
                    <a:pt x="1939" y="736"/>
                  </a:lnTo>
                  <a:lnTo>
                    <a:pt x="1868" y="741"/>
                  </a:lnTo>
                  <a:lnTo>
                    <a:pt x="1795" y="745"/>
                  </a:lnTo>
                  <a:lnTo>
                    <a:pt x="1722" y="749"/>
                  </a:lnTo>
                  <a:lnTo>
                    <a:pt x="1647" y="751"/>
                  </a:lnTo>
                  <a:lnTo>
                    <a:pt x="1571" y="753"/>
                  </a:lnTo>
                  <a:lnTo>
                    <a:pt x="1494" y="753"/>
                  </a:lnTo>
                  <a:lnTo>
                    <a:pt x="1418" y="753"/>
                  </a:lnTo>
                  <a:lnTo>
                    <a:pt x="1342" y="751"/>
                  </a:lnTo>
                  <a:lnTo>
                    <a:pt x="1267" y="749"/>
                  </a:lnTo>
                  <a:lnTo>
                    <a:pt x="1193" y="745"/>
                  </a:lnTo>
                  <a:lnTo>
                    <a:pt x="1121" y="741"/>
                  </a:lnTo>
                  <a:lnTo>
                    <a:pt x="1050" y="736"/>
                  </a:lnTo>
                  <a:lnTo>
                    <a:pt x="980" y="730"/>
                  </a:lnTo>
                  <a:lnTo>
                    <a:pt x="913" y="723"/>
                  </a:lnTo>
                  <a:lnTo>
                    <a:pt x="846" y="715"/>
                  </a:lnTo>
                  <a:lnTo>
                    <a:pt x="782" y="707"/>
                  </a:lnTo>
                  <a:lnTo>
                    <a:pt x="720" y="698"/>
                  </a:lnTo>
                  <a:lnTo>
                    <a:pt x="658" y="688"/>
                  </a:lnTo>
                  <a:lnTo>
                    <a:pt x="600" y="677"/>
                  </a:lnTo>
                  <a:lnTo>
                    <a:pt x="544" y="665"/>
                  </a:lnTo>
                  <a:lnTo>
                    <a:pt x="490" y="653"/>
                  </a:lnTo>
                  <a:lnTo>
                    <a:pt x="437" y="640"/>
                  </a:lnTo>
                  <a:lnTo>
                    <a:pt x="388" y="627"/>
                  </a:lnTo>
                  <a:lnTo>
                    <a:pt x="341" y="613"/>
                  </a:lnTo>
                  <a:lnTo>
                    <a:pt x="297" y="599"/>
                  </a:lnTo>
                  <a:lnTo>
                    <a:pt x="255" y="584"/>
                  </a:lnTo>
                  <a:lnTo>
                    <a:pt x="216" y="568"/>
                  </a:lnTo>
                  <a:lnTo>
                    <a:pt x="181" y="551"/>
                  </a:lnTo>
                  <a:lnTo>
                    <a:pt x="147" y="535"/>
                  </a:lnTo>
                  <a:lnTo>
                    <a:pt x="117" y="518"/>
                  </a:lnTo>
                  <a:lnTo>
                    <a:pt x="91" y="500"/>
                  </a:lnTo>
                  <a:lnTo>
                    <a:pt x="66" y="483"/>
                  </a:lnTo>
                  <a:lnTo>
                    <a:pt x="46" y="465"/>
                  </a:lnTo>
                  <a:lnTo>
                    <a:pt x="30" y="445"/>
                  </a:lnTo>
                  <a:lnTo>
                    <a:pt x="17" y="426"/>
                  </a:lnTo>
                  <a:lnTo>
                    <a:pt x="8" y="407"/>
                  </a:lnTo>
                  <a:lnTo>
                    <a:pt x="2" y="388"/>
                  </a:lnTo>
                  <a:lnTo>
                    <a:pt x="0" y="368"/>
                  </a:lnTo>
                  <a:lnTo>
                    <a:pt x="2" y="348"/>
                  </a:lnTo>
                  <a:lnTo>
                    <a:pt x="8" y="328"/>
                  </a:lnTo>
                  <a:lnTo>
                    <a:pt x="17" y="309"/>
                  </a:lnTo>
                  <a:lnTo>
                    <a:pt x="30" y="291"/>
                  </a:lnTo>
                  <a:lnTo>
                    <a:pt x="46" y="273"/>
                  </a:lnTo>
                  <a:lnTo>
                    <a:pt x="66" y="255"/>
                  </a:lnTo>
                  <a:lnTo>
                    <a:pt x="91" y="237"/>
                  </a:lnTo>
                  <a:lnTo>
                    <a:pt x="117" y="220"/>
                  </a:lnTo>
                  <a:lnTo>
                    <a:pt x="147" y="204"/>
                  </a:lnTo>
                  <a:lnTo>
                    <a:pt x="181" y="188"/>
                  </a:lnTo>
                  <a:lnTo>
                    <a:pt x="216" y="173"/>
                  </a:lnTo>
                  <a:lnTo>
                    <a:pt x="255" y="158"/>
                  </a:lnTo>
                  <a:lnTo>
                    <a:pt x="297" y="144"/>
                  </a:lnTo>
                  <a:lnTo>
                    <a:pt x="341" y="129"/>
                  </a:lnTo>
                  <a:lnTo>
                    <a:pt x="388" y="116"/>
                  </a:lnTo>
                  <a:lnTo>
                    <a:pt x="437" y="104"/>
                  </a:lnTo>
                  <a:lnTo>
                    <a:pt x="490" y="92"/>
                  </a:lnTo>
                  <a:lnTo>
                    <a:pt x="544" y="81"/>
                  </a:lnTo>
                  <a:lnTo>
                    <a:pt x="600" y="70"/>
                  </a:lnTo>
                  <a:lnTo>
                    <a:pt x="658" y="60"/>
                  </a:lnTo>
                  <a:lnTo>
                    <a:pt x="720" y="51"/>
                  </a:lnTo>
                  <a:lnTo>
                    <a:pt x="782" y="43"/>
                  </a:lnTo>
                  <a:lnTo>
                    <a:pt x="846" y="35"/>
                  </a:lnTo>
                  <a:lnTo>
                    <a:pt x="913" y="27"/>
                  </a:lnTo>
                  <a:lnTo>
                    <a:pt x="980" y="21"/>
                  </a:lnTo>
                  <a:lnTo>
                    <a:pt x="1050" y="15"/>
                  </a:lnTo>
                  <a:lnTo>
                    <a:pt x="1121" y="11"/>
                  </a:lnTo>
                  <a:lnTo>
                    <a:pt x="1193" y="7"/>
                  </a:lnTo>
                  <a:lnTo>
                    <a:pt x="1267" y="4"/>
                  </a:lnTo>
                  <a:lnTo>
                    <a:pt x="1342" y="1"/>
                  </a:lnTo>
                  <a:lnTo>
                    <a:pt x="1418" y="0"/>
                  </a:lnTo>
                  <a:lnTo>
                    <a:pt x="1494" y="0"/>
                  </a:lnTo>
                  <a:lnTo>
                    <a:pt x="1571" y="0"/>
                  </a:lnTo>
                  <a:lnTo>
                    <a:pt x="1647" y="1"/>
                  </a:lnTo>
                  <a:lnTo>
                    <a:pt x="1722" y="4"/>
                  </a:lnTo>
                  <a:lnTo>
                    <a:pt x="1795" y="7"/>
                  </a:lnTo>
                  <a:lnTo>
                    <a:pt x="1868" y="11"/>
                  </a:lnTo>
                  <a:lnTo>
                    <a:pt x="1939" y="15"/>
                  </a:lnTo>
                  <a:lnTo>
                    <a:pt x="2009" y="21"/>
                  </a:lnTo>
                  <a:lnTo>
                    <a:pt x="2076" y="27"/>
                  </a:lnTo>
                  <a:lnTo>
                    <a:pt x="2143" y="35"/>
                  </a:lnTo>
                  <a:lnTo>
                    <a:pt x="2207" y="43"/>
                  </a:lnTo>
                  <a:lnTo>
                    <a:pt x="2270" y="51"/>
                  </a:lnTo>
                  <a:lnTo>
                    <a:pt x="2331" y="60"/>
                  </a:lnTo>
                  <a:lnTo>
                    <a:pt x="2389" y="70"/>
                  </a:lnTo>
                  <a:lnTo>
                    <a:pt x="2446" y="81"/>
                  </a:lnTo>
                  <a:lnTo>
                    <a:pt x="2499" y="92"/>
                  </a:lnTo>
                  <a:lnTo>
                    <a:pt x="2552" y="104"/>
                  </a:lnTo>
                  <a:lnTo>
                    <a:pt x="2601" y="116"/>
                  </a:lnTo>
                  <a:lnTo>
                    <a:pt x="2648" y="129"/>
                  </a:lnTo>
                  <a:lnTo>
                    <a:pt x="2692" y="144"/>
                  </a:lnTo>
                  <a:lnTo>
                    <a:pt x="2735" y="158"/>
                  </a:lnTo>
                  <a:lnTo>
                    <a:pt x="2773" y="173"/>
                  </a:lnTo>
                  <a:lnTo>
                    <a:pt x="2809" y="188"/>
                  </a:lnTo>
                  <a:lnTo>
                    <a:pt x="2842" y="204"/>
                  </a:lnTo>
                  <a:lnTo>
                    <a:pt x="2872" y="220"/>
                  </a:lnTo>
                  <a:lnTo>
                    <a:pt x="2898" y="237"/>
                  </a:lnTo>
                  <a:lnTo>
                    <a:pt x="2923" y="255"/>
                  </a:lnTo>
                  <a:lnTo>
                    <a:pt x="2943" y="273"/>
                  </a:lnTo>
                  <a:lnTo>
                    <a:pt x="2959" y="291"/>
                  </a:lnTo>
                  <a:lnTo>
                    <a:pt x="2972" y="309"/>
                  </a:lnTo>
                  <a:lnTo>
                    <a:pt x="2982" y="328"/>
                  </a:lnTo>
                  <a:lnTo>
                    <a:pt x="2987" y="348"/>
                  </a:lnTo>
                  <a:lnTo>
                    <a:pt x="2989" y="368"/>
                  </a:lnTo>
                  <a:close/>
                </a:path>
              </a:pathLst>
            </a:custGeom>
            <a:solidFill>
              <a:srgbClr val="fc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83240" y="6514200"/>
              <a:ext cx="329400" cy="89280"/>
            </a:xfrm>
            <a:custGeom>
              <a:avLst/>
              <a:gdLst/>
              <a:ahLst/>
              <a:rect l="l" t="t" r="r" b="b"/>
              <a:pathLst>
                <a:path w="2987" h="751">
                  <a:moveTo>
                    <a:pt x="2987" y="367"/>
                  </a:moveTo>
                  <a:lnTo>
                    <a:pt x="2985" y="387"/>
                  </a:lnTo>
                  <a:lnTo>
                    <a:pt x="2979" y="406"/>
                  </a:lnTo>
                  <a:lnTo>
                    <a:pt x="2970" y="425"/>
                  </a:lnTo>
                  <a:lnTo>
                    <a:pt x="2957" y="444"/>
                  </a:lnTo>
                  <a:lnTo>
                    <a:pt x="2940" y="463"/>
                  </a:lnTo>
                  <a:lnTo>
                    <a:pt x="2919" y="481"/>
                  </a:lnTo>
                  <a:lnTo>
                    <a:pt x="2896" y="499"/>
                  </a:lnTo>
                  <a:lnTo>
                    <a:pt x="2870" y="516"/>
                  </a:lnTo>
                  <a:lnTo>
                    <a:pt x="2840" y="533"/>
                  </a:lnTo>
                  <a:lnTo>
                    <a:pt x="2806" y="550"/>
                  </a:lnTo>
                  <a:lnTo>
                    <a:pt x="2771" y="567"/>
                  </a:lnTo>
                  <a:lnTo>
                    <a:pt x="2732" y="582"/>
                  </a:lnTo>
                  <a:lnTo>
                    <a:pt x="2690" y="597"/>
                  </a:lnTo>
                  <a:lnTo>
                    <a:pt x="2646" y="611"/>
                  </a:lnTo>
                  <a:lnTo>
                    <a:pt x="2599" y="625"/>
                  </a:lnTo>
                  <a:lnTo>
                    <a:pt x="2550" y="639"/>
                  </a:lnTo>
                  <a:lnTo>
                    <a:pt x="2497" y="651"/>
                  </a:lnTo>
                  <a:lnTo>
                    <a:pt x="2444" y="663"/>
                  </a:lnTo>
                  <a:lnTo>
                    <a:pt x="2387" y="675"/>
                  </a:lnTo>
                  <a:lnTo>
                    <a:pt x="2329" y="686"/>
                  </a:lnTo>
                  <a:lnTo>
                    <a:pt x="2268" y="696"/>
                  </a:lnTo>
                  <a:lnTo>
                    <a:pt x="2205" y="705"/>
                  </a:lnTo>
                  <a:lnTo>
                    <a:pt x="2141" y="714"/>
                  </a:lnTo>
                  <a:lnTo>
                    <a:pt x="2075" y="721"/>
                  </a:lnTo>
                  <a:lnTo>
                    <a:pt x="2008" y="728"/>
                  </a:lnTo>
                  <a:lnTo>
                    <a:pt x="1938" y="734"/>
                  </a:lnTo>
                  <a:lnTo>
                    <a:pt x="1867" y="739"/>
                  </a:lnTo>
                  <a:lnTo>
                    <a:pt x="1794" y="743"/>
                  </a:lnTo>
                  <a:lnTo>
                    <a:pt x="1721" y="747"/>
                  </a:lnTo>
                  <a:lnTo>
                    <a:pt x="1646" y="749"/>
                  </a:lnTo>
                  <a:lnTo>
                    <a:pt x="1570" y="751"/>
                  </a:lnTo>
                  <a:lnTo>
                    <a:pt x="1493" y="751"/>
                  </a:lnTo>
                  <a:lnTo>
                    <a:pt x="1417" y="751"/>
                  </a:lnTo>
                  <a:lnTo>
                    <a:pt x="1341" y="749"/>
                  </a:lnTo>
                  <a:lnTo>
                    <a:pt x="1266" y="747"/>
                  </a:lnTo>
                  <a:lnTo>
                    <a:pt x="1192" y="743"/>
                  </a:lnTo>
                  <a:lnTo>
                    <a:pt x="1120" y="739"/>
                  </a:lnTo>
                  <a:lnTo>
                    <a:pt x="1049" y="734"/>
                  </a:lnTo>
                  <a:lnTo>
                    <a:pt x="980" y="728"/>
                  </a:lnTo>
                  <a:lnTo>
                    <a:pt x="912" y="721"/>
                  </a:lnTo>
                  <a:lnTo>
                    <a:pt x="846" y="714"/>
                  </a:lnTo>
                  <a:lnTo>
                    <a:pt x="781" y="705"/>
                  </a:lnTo>
                  <a:lnTo>
                    <a:pt x="719" y="696"/>
                  </a:lnTo>
                  <a:lnTo>
                    <a:pt x="658" y="686"/>
                  </a:lnTo>
                  <a:lnTo>
                    <a:pt x="600" y="675"/>
                  </a:lnTo>
                  <a:lnTo>
                    <a:pt x="543" y="663"/>
                  </a:lnTo>
                  <a:lnTo>
                    <a:pt x="490" y="651"/>
                  </a:lnTo>
                  <a:lnTo>
                    <a:pt x="437" y="639"/>
                  </a:lnTo>
                  <a:lnTo>
                    <a:pt x="388" y="625"/>
                  </a:lnTo>
                  <a:lnTo>
                    <a:pt x="341" y="611"/>
                  </a:lnTo>
                  <a:lnTo>
                    <a:pt x="297" y="597"/>
                  </a:lnTo>
                  <a:lnTo>
                    <a:pt x="255" y="582"/>
                  </a:lnTo>
                  <a:lnTo>
                    <a:pt x="216" y="567"/>
                  </a:lnTo>
                  <a:lnTo>
                    <a:pt x="181" y="550"/>
                  </a:lnTo>
                  <a:lnTo>
                    <a:pt x="147" y="533"/>
                  </a:lnTo>
                  <a:lnTo>
                    <a:pt x="118" y="516"/>
                  </a:lnTo>
                  <a:lnTo>
                    <a:pt x="91" y="499"/>
                  </a:lnTo>
                  <a:lnTo>
                    <a:pt x="67" y="481"/>
                  </a:lnTo>
                  <a:lnTo>
                    <a:pt x="47" y="463"/>
                  </a:lnTo>
                  <a:lnTo>
                    <a:pt x="30" y="444"/>
                  </a:lnTo>
                  <a:lnTo>
                    <a:pt x="17" y="425"/>
                  </a:lnTo>
                  <a:lnTo>
                    <a:pt x="8" y="406"/>
                  </a:lnTo>
                  <a:lnTo>
                    <a:pt x="2" y="387"/>
                  </a:lnTo>
                  <a:lnTo>
                    <a:pt x="0" y="367"/>
                  </a:lnTo>
                  <a:lnTo>
                    <a:pt x="2" y="347"/>
                  </a:lnTo>
                  <a:lnTo>
                    <a:pt x="8" y="327"/>
                  </a:lnTo>
                  <a:lnTo>
                    <a:pt x="17" y="309"/>
                  </a:lnTo>
                  <a:lnTo>
                    <a:pt x="30" y="290"/>
                  </a:lnTo>
                  <a:lnTo>
                    <a:pt x="47" y="272"/>
                  </a:lnTo>
                  <a:lnTo>
                    <a:pt x="67" y="254"/>
                  </a:lnTo>
                  <a:lnTo>
                    <a:pt x="91" y="236"/>
                  </a:lnTo>
                  <a:lnTo>
                    <a:pt x="118" y="220"/>
                  </a:lnTo>
                  <a:lnTo>
                    <a:pt x="147" y="203"/>
                  </a:lnTo>
                  <a:lnTo>
                    <a:pt x="181" y="188"/>
                  </a:lnTo>
                  <a:lnTo>
                    <a:pt x="216" y="172"/>
                  </a:lnTo>
                  <a:lnTo>
                    <a:pt x="255" y="158"/>
                  </a:lnTo>
                  <a:lnTo>
                    <a:pt x="297" y="143"/>
                  </a:lnTo>
                  <a:lnTo>
                    <a:pt x="341" y="129"/>
                  </a:lnTo>
                  <a:lnTo>
                    <a:pt x="388" y="116"/>
                  </a:lnTo>
                  <a:lnTo>
                    <a:pt x="437" y="103"/>
                  </a:lnTo>
                  <a:lnTo>
                    <a:pt x="490" y="92"/>
                  </a:lnTo>
                  <a:lnTo>
                    <a:pt x="543" y="80"/>
                  </a:lnTo>
                  <a:lnTo>
                    <a:pt x="600" y="70"/>
                  </a:lnTo>
                  <a:lnTo>
                    <a:pt x="658" y="60"/>
                  </a:lnTo>
                  <a:lnTo>
                    <a:pt x="719" y="51"/>
                  </a:lnTo>
                  <a:lnTo>
                    <a:pt x="781" y="43"/>
                  </a:lnTo>
                  <a:lnTo>
                    <a:pt x="846" y="35"/>
                  </a:lnTo>
                  <a:lnTo>
                    <a:pt x="912" y="27"/>
                  </a:lnTo>
                  <a:lnTo>
                    <a:pt x="980" y="21"/>
                  </a:lnTo>
                  <a:lnTo>
                    <a:pt x="1049" y="15"/>
                  </a:lnTo>
                  <a:lnTo>
                    <a:pt x="1120" y="10"/>
                  </a:lnTo>
                  <a:lnTo>
                    <a:pt x="1192" y="7"/>
                  </a:lnTo>
                  <a:lnTo>
                    <a:pt x="1266" y="4"/>
                  </a:lnTo>
                  <a:lnTo>
                    <a:pt x="1341" y="1"/>
                  </a:lnTo>
                  <a:lnTo>
                    <a:pt x="1417" y="0"/>
                  </a:lnTo>
                  <a:lnTo>
                    <a:pt x="1493" y="0"/>
                  </a:lnTo>
                  <a:lnTo>
                    <a:pt x="1570" y="0"/>
                  </a:lnTo>
                  <a:lnTo>
                    <a:pt x="1646" y="1"/>
                  </a:lnTo>
                  <a:lnTo>
                    <a:pt x="1721" y="4"/>
                  </a:lnTo>
                  <a:lnTo>
                    <a:pt x="1794" y="7"/>
                  </a:lnTo>
                  <a:lnTo>
                    <a:pt x="1867" y="10"/>
                  </a:lnTo>
                  <a:lnTo>
                    <a:pt x="1938" y="15"/>
                  </a:lnTo>
                  <a:lnTo>
                    <a:pt x="2008" y="21"/>
                  </a:lnTo>
                  <a:lnTo>
                    <a:pt x="2075" y="27"/>
                  </a:lnTo>
                  <a:lnTo>
                    <a:pt x="2141" y="35"/>
                  </a:lnTo>
                  <a:lnTo>
                    <a:pt x="2205" y="43"/>
                  </a:lnTo>
                  <a:lnTo>
                    <a:pt x="2268" y="51"/>
                  </a:lnTo>
                  <a:lnTo>
                    <a:pt x="2329" y="60"/>
                  </a:lnTo>
                  <a:lnTo>
                    <a:pt x="2387" y="70"/>
                  </a:lnTo>
                  <a:lnTo>
                    <a:pt x="2444" y="80"/>
                  </a:lnTo>
                  <a:lnTo>
                    <a:pt x="2497" y="92"/>
                  </a:lnTo>
                  <a:lnTo>
                    <a:pt x="2550" y="103"/>
                  </a:lnTo>
                  <a:lnTo>
                    <a:pt x="2599" y="116"/>
                  </a:lnTo>
                  <a:lnTo>
                    <a:pt x="2646" y="129"/>
                  </a:lnTo>
                  <a:lnTo>
                    <a:pt x="2690" y="143"/>
                  </a:lnTo>
                  <a:lnTo>
                    <a:pt x="2732" y="158"/>
                  </a:lnTo>
                  <a:lnTo>
                    <a:pt x="2771" y="172"/>
                  </a:lnTo>
                  <a:lnTo>
                    <a:pt x="2806" y="188"/>
                  </a:lnTo>
                  <a:lnTo>
                    <a:pt x="2840" y="203"/>
                  </a:lnTo>
                  <a:lnTo>
                    <a:pt x="2870" y="220"/>
                  </a:lnTo>
                  <a:lnTo>
                    <a:pt x="2896" y="236"/>
                  </a:lnTo>
                  <a:lnTo>
                    <a:pt x="2919" y="254"/>
                  </a:lnTo>
                  <a:lnTo>
                    <a:pt x="2940" y="272"/>
                  </a:lnTo>
                  <a:lnTo>
                    <a:pt x="2957" y="290"/>
                  </a:lnTo>
                  <a:lnTo>
                    <a:pt x="2970" y="309"/>
                  </a:lnTo>
                  <a:lnTo>
                    <a:pt x="2979" y="327"/>
                  </a:lnTo>
                  <a:lnTo>
                    <a:pt x="2985" y="347"/>
                  </a:lnTo>
                  <a:lnTo>
                    <a:pt x="2987" y="367"/>
                  </a:lnTo>
                  <a:close/>
                </a:path>
              </a:pathLst>
            </a:custGeom>
            <a:solidFill>
              <a:srgbClr val="fc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83240" y="6514200"/>
              <a:ext cx="329400" cy="89280"/>
            </a:xfrm>
            <a:custGeom>
              <a:avLst/>
              <a:gdLst/>
              <a:ahLst/>
              <a:rect l="l" t="t" r="r" b="b"/>
              <a:pathLst>
                <a:path w="2983" h="749">
                  <a:moveTo>
                    <a:pt x="2983" y="366"/>
                  </a:moveTo>
                  <a:lnTo>
                    <a:pt x="2982" y="386"/>
                  </a:lnTo>
                  <a:lnTo>
                    <a:pt x="2976" y="405"/>
                  </a:lnTo>
                  <a:lnTo>
                    <a:pt x="2966" y="424"/>
                  </a:lnTo>
                  <a:lnTo>
                    <a:pt x="2953" y="443"/>
                  </a:lnTo>
                  <a:lnTo>
                    <a:pt x="2937" y="462"/>
                  </a:lnTo>
                  <a:lnTo>
                    <a:pt x="2916" y="480"/>
                  </a:lnTo>
                  <a:lnTo>
                    <a:pt x="2893" y="498"/>
                  </a:lnTo>
                  <a:lnTo>
                    <a:pt x="2866" y="515"/>
                  </a:lnTo>
                  <a:lnTo>
                    <a:pt x="2837" y="532"/>
                  </a:lnTo>
                  <a:lnTo>
                    <a:pt x="2803" y="548"/>
                  </a:lnTo>
                  <a:lnTo>
                    <a:pt x="2768" y="565"/>
                  </a:lnTo>
                  <a:lnTo>
                    <a:pt x="2729" y="581"/>
                  </a:lnTo>
                  <a:lnTo>
                    <a:pt x="2687" y="596"/>
                  </a:lnTo>
                  <a:lnTo>
                    <a:pt x="2643" y="610"/>
                  </a:lnTo>
                  <a:lnTo>
                    <a:pt x="2596" y="624"/>
                  </a:lnTo>
                  <a:lnTo>
                    <a:pt x="2547" y="637"/>
                  </a:lnTo>
                  <a:lnTo>
                    <a:pt x="2494" y="649"/>
                  </a:lnTo>
                  <a:lnTo>
                    <a:pt x="2441" y="661"/>
                  </a:lnTo>
                  <a:lnTo>
                    <a:pt x="2384" y="674"/>
                  </a:lnTo>
                  <a:lnTo>
                    <a:pt x="2326" y="684"/>
                  </a:lnTo>
                  <a:lnTo>
                    <a:pt x="2265" y="694"/>
                  </a:lnTo>
                  <a:lnTo>
                    <a:pt x="2202" y="703"/>
                  </a:lnTo>
                  <a:lnTo>
                    <a:pt x="2139" y="712"/>
                  </a:lnTo>
                  <a:lnTo>
                    <a:pt x="2072" y="719"/>
                  </a:lnTo>
                  <a:lnTo>
                    <a:pt x="2005" y="726"/>
                  </a:lnTo>
                  <a:lnTo>
                    <a:pt x="1935" y="732"/>
                  </a:lnTo>
                  <a:lnTo>
                    <a:pt x="1864" y="737"/>
                  </a:lnTo>
                  <a:lnTo>
                    <a:pt x="1792" y="741"/>
                  </a:lnTo>
                  <a:lnTo>
                    <a:pt x="1719" y="745"/>
                  </a:lnTo>
                  <a:lnTo>
                    <a:pt x="1644" y="747"/>
                  </a:lnTo>
                  <a:lnTo>
                    <a:pt x="1568" y="749"/>
                  </a:lnTo>
                  <a:lnTo>
                    <a:pt x="1491" y="749"/>
                  </a:lnTo>
                  <a:lnTo>
                    <a:pt x="1415" y="749"/>
                  </a:lnTo>
                  <a:lnTo>
                    <a:pt x="1339" y="747"/>
                  </a:lnTo>
                  <a:lnTo>
                    <a:pt x="1264" y="745"/>
                  </a:lnTo>
                  <a:lnTo>
                    <a:pt x="1190" y="741"/>
                  </a:lnTo>
                  <a:lnTo>
                    <a:pt x="1119" y="737"/>
                  </a:lnTo>
                  <a:lnTo>
                    <a:pt x="1048" y="732"/>
                  </a:lnTo>
                  <a:lnTo>
                    <a:pt x="978" y="726"/>
                  </a:lnTo>
                  <a:lnTo>
                    <a:pt x="911" y="719"/>
                  </a:lnTo>
                  <a:lnTo>
                    <a:pt x="845" y="712"/>
                  </a:lnTo>
                  <a:lnTo>
                    <a:pt x="780" y="703"/>
                  </a:lnTo>
                  <a:lnTo>
                    <a:pt x="718" y="694"/>
                  </a:lnTo>
                  <a:lnTo>
                    <a:pt x="657" y="684"/>
                  </a:lnTo>
                  <a:lnTo>
                    <a:pt x="599" y="674"/>
                  </a:lnTo>
                  <a:lnTo>
                    <a:pt x="542" y="661"/>
                  </a:lnTo>
                  <a:lnTo>
                    <a:pt x="489" y="649"/>
                  </a:lnTo>
                  <a:lnTo>
                    <a:pt x="436" y="637"/>
                  </a:lnTo>
                  <a:lnTo>
                    <a:pt x="388" y="624"/>
                  </a:lnTo>
                  <a:lnTo>
                    <a:pt x="340" y="610"/>
                  </a:lnTo>
                  <a:lnTo>
                    <a:pt x="296" y="596"/>
                  </a:lnTo>
                  <a:lnTo>
                    <a:pt x="254" y="581"/>
                  </a:lnTo>
                  <a:lnTo>
                    <a:pt x="216" y="565"/>
                  </a:lnTo>
                  <a:lnTo>
                    <a:pt x="180" y="548"/>
                  </a:lnTo>
                  <a:lnTo>
                    <a:pt x="146" y="532"/>
                  </a:lnTo>
                  <a:lnTo>
                    <a:pt x="117" y="515"/>
                  </a:lnTo>
                  <a:lnTo>
                    <a:pt x="90" y="498"/>
                  </a:lnTo>
                  <a:lnTo>
                    <a:pt x="66" y="480"/>
                  </a:lnTo>
                  <a:lnTo>
                    <a:pt x="46" y="462"/>
                  </a:lnTo>
                  <a:lnTo>
                    <a:pt x="30" y="443"/>
                  </a:lnTo>
                  <a:lnTo>
                    <a:pt x="17" y="424"/>
                  </a:lnTo>
                  <a:lnTo>
                    <a:pt x="7" y="405"/>
                  </a:lnTo>
                  <a:lnTo>
                    <a:pt x="2" y="386"/>
                  </a:lnTo>
                  <a:lnTo>
                    <a:pt x="0" y="366"/>
                  </a:lnTo>
                  <a:lnTo>
                    <a:pt x="2" y="346"/>
                  </a:lnTo>
                  <a:lnTo>
                    <a:pt x="7" y="326"/>
                  </a:lnTo>
                  <a:lnTo>
                    <a:pt x="17" y="308"/>
                  </a:lnTo>
                  <a:lnTo>
                    <a:pt x="30" y="289"/>
                  </a:lnTo>
                  <a:lnTo>
                    <a:pt x="46" y="271"/>
                  </a:lnTo>
                  <a:lnTo>
                    <a:pt x="66" y="254"/>
                  </a:lnTo>
                  <a:lnTo>
                    <a:pt x="90" y="236"/>
                  </a:lnTo>
                  <a:lnTo>
                    <a:pt x="117" y="219"/>
                  </a:lnTo>
                  <a:lnTo>
                    <a:pt x="146" y="203"/>
                  </a:lnTo>
                  <a:lnTo>
                    <a:pt x="180" y="187"/>
                  </a:lnTo>
                  <a:lnTo>
                    <a:pt x="216" y="172"/>
                  </a:lnTo>
                  <a:lnTo>
                    <a:pt x="254" y="157"/>
                  </a:lnTo>
                  <a:lnTo>
                    <a:pt x="296" y="143"/>
                  </a:lnTo>
                  <a:lnTo>
                    <a:pt x="340" y="128"/>
                  </a:lnTo>
                  <a:lnTo>
                    <a:pt x="388" y="115"/>
                  </a:lnTo>
                  <a:lnTo>
                    <a:pt x="436" y="103"/>
                  </a:lnTo>
                  <a:lnTo>
                    <a:pt x="489" y="91"/>
                  </a:lnTo>
                  <a:lnTo>
                    <a:pt x="542" y="80"/>
                  </a:lnTo>
                  <a:lnTo>
                    <a:pt x="599" y="70"/>
                  </a:lnTo>
                  <a:lnTo>
                    <a:pt x="657" y="60"/>
                  </a:lnTo>
                  <a:lnTo>
                    <a:pt x="718" y="51"/>
                  </a:lnTo>
                  <a:lnTo>
                    <a:pt x="780" y="42"/>
                  </a:lnTo>
                  <a:lnTo>
                    <a:pt x="845" y="35"/>
                  </a:lnTo>
                  <a:lnTo>
                    <a:pt x="911" y="27"/>
                  </a:lnTo>
                  <a:lnTo>
                    <a:pt x="978" y="20"/>
                  </a:lnTo>
                  <a:lnTo>
                    <a:pt x="1048" y="15"/>
                  </a:lnTo>
                  <a:lnTo>
                    <a:pt x="1119" y="10"/>
                  </a:lnTo>
                  <a:lnTo>
                    <a:pt x="1190" y="7"/>
                  </a:lnTo>
                  <a:lnTo>
                    <a:pt x="1264" y="3"/>
                  </a:lnTo>
                  <a:lnTo>
                    <a:pt x="1339" y="1"/>
                  </a:lnTo>
                  <a:lnTo>
                    <a:pt x="1415" y="0"/>
                  </a:lnTo>
                  <a:lnTo>
                    <a:pt x="1491" y="0"/>
                  </a:lnTo>
                  <a:lnTo>
                    <a:pt x="1568" y="0"/>
                  </a:lnTo>
                  <a:lnTo>
                    <a:pt x="1644" y="1"/>
                  </a:lnTo>
                  <a:lnTo>
                    <a:pt x="1719" y="3"/>
                  </a:lnTo>
                  <a:lnTo>
                    <a:pt x="1792" y="7"/>
                  </a:lnTo>
                  <a:lnTo>
                    <a:pt x="1864" y="10"/>
                  </a:lnTo>
                  <a:lnTo>
                    <a:pt x="1935" y="15"/>
                  </a:lnTo>
                  <a:lnTo>
                    <a:pt x="2005" y="20"/>
                  </a:lnTo>
                  <a:lnTo>
                    <a:pt x="2072" y="27"/>
                  </a:lnTo>
                  <a:lnTo>
                    <a:pt x="2139" y="35"/>
                  </a:lnTo>
                  <a:lnTo>
                    <a:pt x="2202" y="42"/>
                  </a:lnTo>
                  <a:lnTo>
                    <a:pt x="2265" y="51"/>
                  </a:lnTo>
                  <a:lnTo>
                    <a:pt x="2326" y="60"/>
                  </a:lnTo>
                  <a:lnTo>
                    <a:pt x="2384" y="70"/>
                  </a:lnTo>
                  <a:lnTo>
                    <a:pt x="2441" y="80"/>
                  </a:lnTo>
                  <a:lnTo>
                    <a:pt x="2494" y="91"/>
                  </a:lnTo>
                  <a:lnTo>
                    <a:pt x="2547" y="103"/>
                  </a:lnTo>
                  <a:lnTo>
                    <a:pt x="2596" y="115"/>
                  </a:lnTo>
                  <a:lnTo>
                    <a:pt x="2643" y="128"/>
                  </a:lnTo>
                  <a:lnTo>
                    <a:pt x="2687" y="143"/>
                  </a:lnTo>
                  <a:lnTo>
                    <a:pt x="2729" y="157"/>
                  </a:lnTo>
                  <a:lnTo>
                    <a:pt x="2768" y="172"/>
                  </a:lnTo>
                  <a:lnTo>
                    <a:pt x="2803" y="187"/>
                  </a:lnTo>
                  <a:lnTo>
                    <a:pt x="2837" y="203"/>
                  </a:lnTo>
                  <a:lnTo>
                    <a:pt x="2866" y="219"/>
                  </a:lnTo>
                  <a:lnTo>
                    <a:pt x="2893" y="236"/>
                  </a:lnTo>
                  <a:lnTo>
                    <a:pt x="2916" y="254"/>
                  </a:lnTo>
                  <a:lnTo>
                    <a:pt x="2937" y="271"/>
                  </a:lnTo>
                  <a:lnTo>
                    <a:pt x="2953" y="289"/>
                  </a:lnTo>
                  <a:lnTo>
                    <a:pt x="2966" y="308"/>
                  </a:lnTo>
                  <a:lnTo>
                    <a:pt x="2976" y="326"/>
                  </a:lnTo>
                  <a:lnTo>
                    <a:pt x="2982" y="346"/>
                  </a:lnTo>
                  <a:lnTo>
                    <a:pt x="2983" y="366"/>
                  </a:lnTo>
                  <a:close/>
                </a:path>
              </a:pathLst>
            </a:custGeom>
            <a:solidFill>
              <a:srgbClr val="fc6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83240" y="6514200"/>
              <a:ext cx="328320" cy="89280"/>
            </a:xfrm>
            <a:custGeom>
              <a:avLst/>
              <a:gdLst/>
              <a:ahLst/>
              <a:rect l="l" t="t" r="r" b="b"/>
              <a:pathLst>
                <a:path w="2981" h="748">
                  <a:moveTo>
                    <a:pt x="2981" y="366"/>
                  </a:moveTo>
                  <a:lnTo>
                    <a:pt x="2979" y="386"/>
                  </a:lnTo>
                  <a:lnTo>
                    <a:pt x="2973" y="405"/>
                  </a:lnTo>
                  <a:lnTo>
                    <a:pt x="2964" y="424"/>
                  </a:lnTo>
                  <a:lnTo>
                    <a:pt x="2951" y="443"/>
                  </a:lnTo>
                  <a:lnTo>
                    <a:pt x="2935" y="462"/>
                  </a:lnTo>
                  <a:lnTo>
                    <a:pt x="2914" y="480"/>
                  </a:lnTo>
                  <a:lnTo>
                    <a:pt x="2890" y="498"/>
                  </a:lnTo>
                  <a:lnTo>
                    <a:pt x="2864" y="515"/>
                  </a:lnTo>
                  <a:lnTo>
                    <a:pt x="2834" y="532"/>
                  </a:lnTo>
                  <a:lnTo>
                    <a:pt x="2801" y="548"/>
                  </a:lnTo>
                  <a:lnTo>
                    <a:pt x="2765" y="565"/>
                  </a:lnTo>
                  <a:lnTo>
                    <a:pt x="2727" y="580"/>
                  </a:lnTo>
                  <a:lnTo>
                    <a:pt x="2685" y="595"/>
                  </a:lnTo>
                  <a:lnTo>
                    <a:pt x="2641" y="609"/>
                  </a:lnTo>
                  <a:lnTo>
                    <a:pt x="2594" y="623"/>
                  </a:lnTo>
                  <a:lnTo>
                    <a:pt x="2545" y="636"/>
                  </a:lnTo>
                  <a:lnTo>
                    <a:pt x="2492" y="649"/>
                  </a:lnTo>
                  <a:lnTo>
                    <a:pt x="2439" y="661"/>
                  </a:lnTo>
                  <a:lnTo>
                    <a:pt x="2382" y="673"/>
                  </a:lnTo>
                  <a:lnTo>
                    <a:pt x="2324" y="684"/>
                  </a:lnTo>
                  <a:lnTo>
                    <a:pt x="2263" y="693"/>
                  </a:lnTo>
                  <a:lnTo>
                    <a:pt x="2201" y="703"/>
                  </a:lnTo>
                  <a:lnTo>
                    <a:pt x="2137" y="711"/>
                  </a:lnTo>
                  <a:lnTo>
                    <a:pt x="2071" y="718"/>
                  </a:lnTo>
                  <a:lnTo>
                    <a:pt x="2004" y="725"/>
                  </a:lnTo>
                  <a:lnTo>
                    <a:pt x="1934" y="731"/>
                  </a:lnTo>
                  <a:lnTo>
                    <a:pt x="1863" y="736"/>
                  </a:lnTo>
                  <a:lnTo>
                    <a:pt x="1791" y="741"/>
                  </a:lnTo>
                  <a:lnTo>
                    <a:pt x="1718" y="744"/>
                  </a:lnTo>
                  <a:lnTo>
                    <a:pt x="1643" y="746"/>
                  </a:lnTo>
                  <a:lnTo>
                    <a:pt x="1567" y="748"/>
                  </a:lnTo>
                  <a:lnTo>
                    <a:pt x="1490" y="748"/>
                  </a:lnTo>
                  <a:lnTo>
                    <a:pt x="1414" y="748"/>
                  </a:lnTo>
                  <a:lnTo>
                    <a:pt x="1338" y="746"/>
                  </a:lnTo>
                  <a:lnTo>
                    <a:pt x="1263" y="744"/>
                  </a:lnTo>
                  <a:lnTo>
                    <a:pt x="1191" y="741"/>
                  </a:lnTo>
                  <a:lnTo>
                    <a:pt x="1118" y="736"/>
                  </a:lnTo>
                  <a:lnTo>
                    <a:pt x="1047" y="731"/>
                  </a:lnTo>
                  <a:lnTo>
                    <a:pt x="978" y="725"/>
                  </a:lnTo>
                  <a:lnTo>
                    <a:pt x="911" y="718"/>
                  </a:lnTo>
                  <a:lnTo>
                    <a:pt x="844" y="711"/>
                  </a:lnTo>
                  <a:lnTo>
                    <a:pt x="780" y="703"/>
                  </a:lnTo>
                  <a:lnTo>
                    <a:pt x="718" y="693"/>
                  </a:lnTo>
                  <a:lnTo>
                    <a:pt x="657" y="684"/>
                  </a:lnTo>
                  <a:lnTo>
                    <a:pt x="599" y="673"/>
                  </a:lnTo>
                  <a:lnTo>
                    <a:pt x="542" y="661"/>
                  </a:lnTo>
                  <a:lnTo>
                    <a:pt x="489" y="649"/>
                  </a:lnTo>
                  <a:lnTo>
                    <a:pt x="436" y="636"/>
                  </a:lnTo>
                  <a:lnTo>
                    <a:pt x="388" y="623"/>
                  </a:lnTo>
                  <a:lnTo>
                    <a:pt x="340" y="609"/>
                  </a:lnTo>
                  <a:lnTo>
                    <a:pt x="296" y="595"/>
                  </a:lnTo>
                  <a:lnTo>
                    <a:pt x="254" y="580"/>
                  </a:lnTo>
                  <a:lnTo>
                    <a:pt x="216" y="565"/>
                  </a:lnTo>
                  <a:lnTo>
                    <a:pt x="180" y="548"/>
                  </a:lnTo>
                  <a:lnTo>
                    <a:pt x="147" y="532"/>
                  </a:lnTo>
                  <a:lnTo>
                    <a:pt x="117" y="515"/>
                  </a:lnTo>
                  <a:lnTo>
                    <a:pt x="91" y="498"/>
                  </a:lnTo>
                  <a:lnTo>
                    <a:pt x="67" y="480"/>
                  </a:lnTo>
                  <a:lnTo>
                    <a:pt x="47" y="462"/>
                  </a:lnTo>
                  <a:lnTo>
                    <a:pt x="30" y="443"/>
                  </a:lnTo>
                  <a:lnTo>
                    <a:pt x="17" y="424"/>
                  </a:lnTo>
                  <a:lnTo>
                    <a:pt x="8" y="405"/>
                  </a:lnTo>
                  <a:lnTo>
                    <a:pt x="2" y="386"/>
                  </a:lnTo>
                  <a:lnTo>
                    <a:pt x="0" y="366"/>
                  </a:lnTo>
                  <a:lnTo>
                    <a:pt x="2" y="346"/>
                  </a:lnTo>
                  <a:lnTo>
                    <a:pt x="8" y="327"/>
                  </a:lnTo>
                  <a:lnTo>
                    <a:pt x="17" y="308"/>
                  </a:lnTo>
                  <a:lnTo>
                    <a:pt x="30" y="289"/>
                  </a:lnTo>
                  <a:lnTo>
                    <a:pt x="47" y="272"/>
                  </a:lnTo>
                  <a:lnTo>
                    <a:pt x="67" y="254"/>
                  </a:lnTo>
                  <a:lnTo>
                    <a:pt x="91" y="236"/>
                  </a:lnTo>
                  <a:lnTo>
                    <a:pt x="117" y="219"/>
                  </a:lnTo>
                  <a:lnTo>
                    <a:pt x="147" y="203"/>
                  </a:lnTo>
                  <a:lnTo>
                    <a:pt x="180" y="187"/>
                  </a:lnTo>
                  <a:lnTo>
                    <a:pt x="216" y="172"/>
                  </a:lnTo>
                  <a:lnTo>
                    <a:pt x="254" y="158"/>
                  </a:lnTo>
                  <a:lnTo>
                    <a:pt x="296" y="144"/>
                  </a:lnTo>
                  <a:lnTo>
                    <a:pt x="340" y="129"/>
                  </a:lnTo>
                  <a:lnTo>
                    <a:pt x="388" y="116"/>
                  </a:lnTo>
                  <a:lnTo>
                    <a:pt x="436" y="104"/>
                  </a:lnTo>
                  <a:lnTo>
                    <a:pt x="489" y="92"/>
                  </a:lnTo>
                  <a:lnTo>
                    <a:pt x="542" y="81"/>
                  </a:lnTo>
                  <a:lnTo>
                    <a:pt x="599" y="70"/>
                  </a:lnTo>
                  <a:lnTo>
                    <a:pt x="657" y="61"/>
                  </a:lnTo>
                  <a:lnTo>
                    <a:pt x="718" y="52"/>
                  </a:lnTo>
                  <a:lnTo>
                    <a:pt x="780" y="43"/>
                  </a:lnTo>
                  <a:lnTo>
                    <a:pt x="844" y="35"/>
                  </a:lnTo>
                  <a:lnTo>
                    <a:pt x="911" y="29"/>
                  </a:lnTo>
                  <a:lnTo>
                    <a:pt x="978" y="21"/>
                  </a:lnTo>
                  <a:lnTo>
                    <a:pt x="1047" y="16"/>
                  </a:lnTo>
                  <a:lnTo>
                    <a:pt x="1118" y="11"/>
                  </a:lnTo>
                  <a:lnTo>
                    <a:pt x="1191" y="7"/>
                  </a:lnTo>
                  <a:lnTo>
                    <a:pt x="1263" y="4"/>
                  </a:lnTo>
                  <a:lnTo>
                    <a:pt x="1338" y="2"/>
                  </a:lnTo>
                  <a:lnTo>
                    <a:pt x="1414" y="1"/>
                  </a:lnTo>
                  <a:lnTo>
                    <a:pt x="1490" y="0"/>
                  </a:lnTo>
                  <a:lnTo>
                    <a:pt x="1567" y="1"/>
                  </a:lnTo>
                  <a:lnTo>
                    <a:pt x="1643" y="2"/>
                  </a:lnTo>
                  <a:lnTo>
                    <a:pt x="1718" y="4"/>
                  </a:lnTo>
                  <a:lnTo>
                    <a:pt x="1791" y="7"/>
                  </a:lnTo>
                  <a:lnTo>
                    <a:pt x="1863" y="11"/>
                  </a:lnTo>
                  <a:lnTo>
                    <a:pt x="1934" y="16"/>
                  </a:lnTo>
                  <a:lnTo>
                    <a:pt x="2004" y="21"/>
                  </a:lnTo>
                  <a:lnTo>
                    <a:pt x="2071" y="29"/>
                  </a:lnTo>
                  <a:lnTo>
                    <a:pt x="2137" y="35"/>
                  </a:lnTo>
                  <a:lnTo>
                    <a:pt x="2201" y="43"/>
                  </a:lnTo>
                  <a:lnTo>
                    <a:pt x="2263" y="52"/>
                  </a:lnTo>
                  <a:lnTo>
                    <a:pt x="2324" y="61"/>
                  </a:lnTo>
                  <a:lnTo>
                    <a:pt x="2382" y="70"/>
                  </a:lnTo>
                  <a:lnTo>
                    <a:pt x="2439" y="81"/>
                  </a:lnTo>
                  <a:lnTo>
                    <a:pt x="2492" y="92"/>
                  </a:lnTo>
                  <a:lnTo>
                    <a:pt x="2545" y="104"/>
                  </a:lnTo>
                  <a:lnTo>
                    <a:pt x="2594" y="116"/>
                  </a:lnTo>
                  <a:lnTo>
                    <a:pt x="2641" y="129"/>
                  </a:lnTo>
                  <a:lnTo>
                    <a:pt x="2685" y="144"/>
                  </a:lnTo>
                  <a:lnTo>
                    <a:pt x="2727" y="158"/>
                  </a:lnTo>
                  <a:lnTo>
                    <a:pt x="2765" y="172"/>
                  </a:lnTo>
                  <a:lnTo>
                    <a:pt x="2801" y="187"/>
                  </a:lnTo>
                  <a:lnTo>
                    <a:pt x="2834" y="203"/>
                  </a:lnTo>
                  <a:lnTo>
                    <a:pt x="2864" y="219"/>
                  </a:lnTo>
                  <a:lnTo>
                    <a:pt x="2890" y="236"/>
                  </a:lnTo>
                  <a:lnTo>
                    <a:pt x="2914" y="254"/>
                  </a:lnTo>
                  <a:lnTo>
                    <a:pt x="2935" y="272"/>
                  </a:lnTo>
                  <a:lnTo>
                    <a:pt x="2951" y="289"/>
                  </a:lnTo>
                  <a:lnTo>
                    <a:pt x="2964" y="308"/>
                  </a:lnTo>
                  <a:lnTo>
                    <a:pt x="2973" y="327"/>
                  </a:lnTo>
                  <a:lnTo>
                    <a:pt x="2979" y="346"/>
                  </a:lnTo>
                  <a:lnTo>
                    <a:pt x="2981" y="366"/>
                  </a:lnTo>
                  <a:close/>
                </a:path>
              </a:pathLst>
            </a:custGeom>
            <a:solidFill>
              <a:srgbClr val="fc6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84320" y="6514200"/>
              <a:ext cx="327240" cy="89280"/>
            </a:xfrm>
            <a:custGeom>
              <a:avLst/>
              <a:gdLst/>
              <a:ahLst/>
              <a:rect l="l" t="t" r="r" b="b"/>
              <a:pathLst>
                <a:path w="2978" h="746">
                  <a:moveTo>
                    <a:pt x="2978" y="365"/>
                  </a:moveTo>
                  <a:lnTo>
                    <a:pt x="2976" y="385"/>
                  </a:lnTo>
                  <a:lnTo>
                    <a:pt x="2970" y="404"/>
                  </a:lnTo>
                  <a:lnTo>
                    <a:pt x="2961" y="423"/>
                  </a:lnTo>
                  <a:lnTo>
                    <a:pt x="2948" y="441"/>
                  </a:lnTo>
                  <a:lnTo>
                    <a:pt x="2931" y="461"/>
                  </a:lnTo>
                  <a:lnTo>
                    <a:pt x="2910" y="479"/>
                  </a:lnTo>
                  <a:lnTo>
                    <a:pt x="2887" y="496"/>
                  </a:lnTo>
                  <a:lnTo>
                    <a:pt x="2861" y="513"/>
                  </a:lnTo>
                  <a:lnTo>
                    <a:pt x="2831" y="530"/>
                  </a:lnTo>
                  <a:lnTo>
                    <a:pt x="2798" y="546"/>
                  </a:lnTo>
                  <a:lnTo>
                    <a:pt x="2762" y="563"/>
                  </a:lnTo>
                  <a:lnTo>
                    <a:pt x="2724" y="579"/>
                  </a:lnTo>
                  <a:lnTo>
                    <a:pt x="2682" y="593"/>
                  </a:lnTo>
                  <a:lnTo>
                    <a:pt x="2638" y="608"/>
                  </a:lnTo>
                  <a:lnTo>
                    <a:pt x="2591" y="621"/>
                  </a:lnTo>
                  <a:lnTo>
                    <a:pt x="2542" y="635"/>
                  </a:lnTo>
                  <a:lnTo>
                    <a:pt x="2490" y="647"/>
                  </a:lnTo>
                  <a:lnTo>
                    <a:pt x="2436" y="659"/>
                  </a:lnTo>
                  <a:lnTo>
                    <a:pt x="2379" y="671"/>
                  </a:lnTo>
                  <a:lnTo>
                    <a:pt x="2321" y="682"/>
                  </a:lnTo>
                  <a:lnTo>
                    <a:pt x="2261" y="692"/>
                  </a:lnTo>
                  <a:lnTo>
                    <a:pt x="2198" y="701"/>
                  </a:lnTo>
                  <a:lnTo>
                    <a:pt x="2134" y="709"/>
                  </a:lnTo>
                  <a:lnTo>
                    <a:pt x="2068" y="717"/>
                  </a:lnTo>
                  <a:lnTo>
                    <a:pt x="2000" y="723"/>
                  </a:lnTo>
                  <a:lnTo>
                    <a:pt x="1932" y="729"/>
                  </a:lnTo>
                  <a:lnTo>
                    <a:pt x="1861" y="734"/>
                  </a:lnTo>
                  <a:lnTo>
                    <a:pt x="1788" y="739"/>
                  </a:lnTo>
                  <a:lnTo>
                    <a:pt x="1716" y="742"/>
                  </a:lnTo>
                  <a:lnTo>
                    <a:pt x="1641" y="744"/>
                  </a:lnTo>
                  <a:lnTo>
                    <a:pt x="1565" y="746"/>
                  </a:lnTo>
                  <a:lnTo>
                    <a:pt x="1488" y="746"/>
                  </a:lnTo>
                  <a:lnTo>
                    <a:pt x="1412" y="746"/>
                  </a:lnTo>
                  <a:lnTo>
                    <a:pt x="1336" y="744"/>
                  </a:lnTo>
                  <a:lnTo>
                    <a:pt x="1262" y="742"/>
                  </a:lnTo>
                  <a:lnTo>
                    <a:pt x="1189" y="739"/>
                  </a:lnTo>
                  <a:lnTo>
                    <a:pt x="1117" y="734"/>
                  </a:lnTo>
                  <a:lnTo>
                    <a:pt x="1046" y="729"/>
                  </a:lnTo>
                  <a:lnTo>
                    <a:pt x="976" y="723"/>
                  </a:lnTo>
                  <a:lnTo>
                    <a:pt x="909" y="717"/>
                  </a:lnTo>
                  <a:lnTo>
                    <a:pt x="843" y="709"/>
                  </a:lnTo>
                  <a:lnTo>
                    <a:pt x="778" y="701"/>
                  </a:lnTo>
                  <a:lnTo>
                    <a:pt x="716" y="692"/>
                  </a:lnTo>
                  <a:lnTo>
                    <a:pt x="656" y="682"/>
                  </a:lnTo>
                  <a:lnTo>
                    <a:pt x="598" y="671"/>
                  </a:lnTo>
                  <a:lnTo>
                    <a:pt x="541" y="659"/>
                  </a:lnTo>
                  <a:lnTo>
                    <a:pt x="488" y="647"/>
                  </a:lnTo>
                  <a:lnTo>
                    <a:pt x="435" y="635"/>
                  </a:lnTo>
                  <a:lnTo>
                    <a:pt x="387" y="621"/>
                  </a:lnTo>
                  <a:lnTo>
                    <a:pt x="339" y="608"/>
                  </a:lnTo>
                  <a:lnTo>
                    <a:pt x="295" y="593"/>
                  </a:lnTo>
                  <a:lnTo>
                    <a:pt x="253" y="579"/>
                  </a:lnTo>
                  <a:lnTo>
                    <a:pt x="215" y="563"/>
                  </a:lnTo>
                  <a:lnTo>
                    <a:pt x="180" y="546"/>
                  </a:lnTo>
                  <a:lnTo>
                    <a:pt x="146" y="530"/>
                  </a:lnTo>
                  <a:lnTo>
                    <a:pt x="116" y="513"/>
                  </a:lnTo>
                  <a:lnTo>
                    <a:pt x="90" y="496"/>
                  </a:lnTo>
                  <a:lnTo>
                    <a:pt x="66" y="479"/>
                  </a:lnTo>
                  <a:lnTo>
                    <a:pt x="46" y="461"/>
                  </a:lnTo>
                  <a:lnTo>
                    <a:pt x="30" y="441"/>
                  </a:lnTo>
                  <a:lnTo>
                    <a:pt x="17" y="423"/>
                  </a:lnTo>
                  <a:lnTo>
                    <a:pt x="7" y="404"/>
                  </a:lnTo>
                  <a:lnTo>
                    <a:pt x="1" y="385"/>
                  </a:lnTo>
                  <a:lnTo>
                    <a:pt x="0" y="365"/>
                  </a:lnTo>
                  <a:lnTo>
                    <a:pt x="1" y="345"/>
                  </a:lnTo>
                  <a:lnTo>
                    <a:pt x="7" y="326"/>
                  </a:lnTo>
                  <a:lnTo>
                    <a:pt x="17" y="307"/>
                  </a:lnTo>
                  <a:lnTo>
                    <a:pt x="30" y="289"/>
                  </a:lnTo>
                  <a:lnTo>
                    <a:pt x="46" y="271"/>
                  </a:lnTo>
                  <a:lnTo>
                    <a:pt x="66" y="253"/>
                  </a:lnTo>
                  <a:lnTo>
                    <a:pt x="90" y="235"/>
                  </a:lnTo>
                  <a:lnTo>
                    <a:pt x="116" y="219"/>
                  </a:lnTo>
                  <a:lnTo>
                    <a:pt x="146" y="203"/>
                  </a:lnTo>
                  <a:lnTo>
                    <a:pt x="180" y="187"/>
                  </a:lnTo>
                  <a:lnTo>
                    <a:pt x="215" y="172"/>
                  </a:lnTo>
                  <a:lnTo>
                    <a:pt x="253" y="157"/>
                  </a:lnTo>
                  <a:lnTo>
                    <a:pt x="295" y="143"/>
                  </a:lnTo>
                  <a:lnTo>
                    <a:pt x="339" y="129"/>
                  </a:lnTo>
                  <a:lnTo>
                    <a:pt x="387" y="116"/>
                  </a:lnTo>
                  <a:lnTo>
                    <a:pt x="435" y="103"/>
                  </a:lnTo>
                  <a:lnTo>
                    <a:pt x="488" y="92"/>
                  </a:lnTo>
                  <a:lnTo>
                    <a:pt x="541" y="81"/>
                  </a:lnTo>
                  <a:lnTo>
                    <a:pt x="598" y="70"/>
                  </a:lnTo>
                  <a:lnTo>
                    <a:pt x="656" y="60"/>
                  </a:lnTo>
                  <a:lnTo>
                    <a:pt x="716" y="51"/>
                  </a:lnTo>
                  <a:lnTo>
                    <a:pt x="778" y="43"/>
                  </a:lnTo>
                  <a:lnTo>
                    <a:pt x="843" y="35"/>
                  </a:lnTo>
                  <a:lnTo>
                    <a:pt x="909" y="28"/>
                  </a:lnTo>
                  <a:lnTo>
                    <a:pt x="976" y="21"/>
                  </a:lnTo>
                  <a:lnTo>
                    <a:pt x="1046" y="16"/>
                  </a:lnTo>
                  <a:lnTo>
                    <a:pt x="1117" y="11"/>
                  </a:lnTo>
                  <a:lnTo>
                    <a:pt x="1189" y="7"/>
                  </a:lnTo>
                  <a:lnTo>
                    <a:pt x="1262" y="4"/>
                  </a:lnTo>
                  <a:lnTo>
                    <a:pt x="1336" y="2"/>
                  </a:lnTo>
                  <a:lnTo>
                    <a:pt x="1412" y="1"/>
                  </a:lnTo>
                  <a:lnTo>
                    <a:pt x="1488" y="0"/>
                  </a:lnTo>
                  <a:lnTo>
                    <a:pt x="1565" y="1"/>
                  </a:lnTo>
                  <a:lnTo>
                    <a:pt x="1641" y="2"/>
                  </a:lnTo>
                  <a:lnTo>
                    <a:pt x="1716" y="4"/>
                  </a:lnTo>
                  <a:lnTo>
                    <a:pt x="1788" y="7"/>
                  </a:lnTo>
                  <a:lnTo>
                    <a:pt x="1861" y="11"/>
                  </a:lnTo>
                  <a:lnTo>
                    <a:pt x="1932" y="16"/>
                  </a:lnTo>
                  <a:lnTo>
                    <a:pt x="2000" y="21"/>
                  </a:lnTo>
                  <a:lnTo>
                    <a:pt x="2068" y="28"/>
                  </a:lnTo>
                  <a:lnTo>
                    <a:pt x="2134" y="35"/>
                  </a:lnTo>
                  <a:lnTo>
                    <a:pt x="2198" y="43"/>
                  </a:lnTo>
                  <a:lnTo>
                    <a:pt x="2261" y="51"/>
                  </a:lnTo>
                  <a:lnTo>
                    <a:pt x="2321" y="60"/>
                  </a:lnTo>
                  <a:lnTo>
                    <a:pt x="2379" y="70"/>
                  </a:lnTo>
                  <a:lnTo>
                    <a:pt x="2436" y="81"/>
                  </a:lnTo>
                  <a:lnTo>
                    <a:pt x="2490" y="92"/>
                  </a:lnTo>
                  <a:lnTo>
                    <a:pt x="2542" y="103"/>
                  </a:lnTo>
                  <a:lnTo>
                    <a:pt x="2591" y="116"/>
                  </a:lnTo>
                  <a:lnTo>
                    <a:pt x="2638" y="129"/>
                  </a:lnTo>
                  <a:lnTo>
                    <a:pt x="2682" y="143"/>
                  </a:lnTo>
                  <a:lnTo>
                    <a:pt x="2724" y="157"/>
                  </a:lnTo>
                  <a:lnTo>
                    <a:pt x="2762" y="172"/>
                  </a:lnTo>
                  <a:lnTo>
                    <a:pt x="2798" y="187"/>
                  </a:lnTo>
                  <a:lnTo>
                    <a:pt x="2831" y="203"/>
                  </a:lnTo>
                  <a:lnTo>
                    <a:pt x="2861" y="219"/>
                  </a:lnTo>
                  <a:lnTo>
                    <a:pt x="2887" y="235"/>
                  </a:lnTo>
                  <a:lnTo>
                    <a:pt x="2910" y="253"/>
                  </a:lnTo>
                  <a:lnTo>
                    <a:pt x="2931" y="271"/>
                  </a:lnTo>
                  <a:lnTo>
                    <a:pt x="2948" y="289"/>
                  </a:lnTo>
                  <a:lnTo>
                    <a:pt x="2961" y="307"/>
                  </a:lnTo>
                  <a:lnTo>
                    <a:pt x="2970" y="326"/>
                  </a:lnTo>
                  <a:lnTo>
                    <a:pt x="2976" y="345"/>
                  </a:lnTo>
                  <a:lnTo>
                    <a:pt x="2978" y="365"/>
                  </a:lnTo>
                  <a:close/>
                </a:path>
              </a:pathLst>
            </a:custGeom>
            <a:solidFill>
              <a:srgbClr val="fb6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984320" y="6514200"/>
              <a:ext cx="327240" cy="89280"/>
            </a:xfrm>
            <a:custGeom>
              <a:avLst/>
              <a:gdLst/>
              <a:ahLst/>
              <a:rect l="l" t="t" r="r" b="b"/>
              <a:pathLst>
                <a:path w="2975" h="744">
                  <a:moveTo>
                    <a:pt x="2975" y="364"/>
                  </a:moveTo>
                  <a:lnTo>
                    <a:pt x="2973" y="384"/>
                  </a:lnTo>
                  <a:lnTo>
                    <a:pt x="2968" y="403"/>
                  </a:lnTo>
                  <a:lnTo>
                    <a:pt x="2958" y="422"/>
                  </a:lnTo>
                  <a:lnTo>
                    <a:pt x="2945" y="440"/>
                  </a:lnTo>
                  <a:lnTo>
                    <a:pt x="2929" y="459"/>
                  </a:lnTo>
                  <a:lnTo>
                    <a:pt x="2908" y="477"/>
                  </a:lnTo>
                  <a:lnTo>
                    <a:pt x="2885" y="495"/>
                  </a:lnTo>
                  <a:lnTo>
                    <a:pt x="2858" y="512"/>
                  </a:lnTo>
                  <a:lnTo>
                    <a:pt x="2829" y="529"/>
                  </a:lnTo>
                  <a:lnTo>
                    <a:pt x="2795" y="545"/>
                  </a:lnTo>
                  <a:lnTo>
                    <a:pt x="2760" y="562"/>
                  </a:lnTo>
                  <a:lnTo>
                    <a:pt x="2722" y="577"/>
                  </a:lnTo>
                  <a:lnTo>
                    <a:pt x="2680" y="592"/>
                  </a:lnTo>
                  <a:lnTo>
                    <a:pt x="2636" y="606"/>
                  </a:lnTo>
                  <a:lnTo>
                    <a:pt x="2588" y="620"/>
                  </a:lnTo>
                  <a:lnTo>
                    <a:pt x="2540" y="633"/>
                  </a:lnTo>
                  <a:lnTo>
                    <a:pt x="2488" y="645"/>
                  </a:lnTo>
                  <a:lnTo>
                    <a:pt x="2434" y="657"/>
                  </a:lnTo>
                  <a:lnTo>
                    <a:pt x="2377" y="670"/>
                  </a:lnTo>
                  <a:lnTo>
                    <a:pt x="2320" y="680"/>
                  </a:lnTo>
                  <a:lnTo>
                    <a:pt x="2259" y="690"/>
                  </a:lnTo>
                  <a:lnTo>
                    <a:pt x="2196" y="699"/>
                  </a:lnTo>
                  <a:lnTo>
                    <a:pt x="2133" y="707"/>
                  </a:lnTo>
                  <a:lnTo>
                    <a:pt x="2066" y="715"/>
                  </a:lnTo>
                  <a:lnTo>
                    <a:pt x="1999" y="722"/>
                  </a:lnTo>
                  <a:lnTo>
                    <a:pt x="1930" y="727"/>
                  </a:lnTo>
                  <a:lnTo>
                    <a:pt x="1859" y="733"/>
                  </a:lnTo>
                  <a:lnTo>
                    <a:pt x="1787" y="737"/>
                  </a:lnTo>
                  <a:lnTo>
                    <a:pt x="1714" y="740"/>
                  </a:lnTo>
                  <a:lnTo>
                    <a:pt x="1640" y="742"/>
                  </a:lnTo>
                  <a:lnTo>
                    <a:pt x="1564" y="744"/>
                  </a:lnTo>
                  <a:lnTo>
                    <a:pt x="1487" y="744"/>
                  </a:lnTo>
                  <a:lnTo>
                    <a:pt x="1411" y="744"/>
                  </a:lnTo>
                  <a:lnTo>
                    <a:pt x="1335" y="742"/>
                  </a:lnTo>
                  <a:lnTo>
                    <a:pt x="1261" y="740"/>
                  </a:lnTo>
                  <a:lnTo>
                    <a:pt x="1188" y="737"/>
                  </a:lnTo>
                  <a:lnTo>
                    <a:pt x="1116" y="733"/>
                  </a:lnTo>
                  <a:lnTo>
                    <a:pt x="1045" y="727"/>
                  </a:lnTo>
                  <a:lnTo>
                    <a:pt x="976" y="722"/>
                  </a:lnTo>
                  <a:lnTo>
                    <a:pt x="909" y="715"/>
                  </a:lnTo>
                  <a:lnTo>
                    <a:pt x="842" y="707"/>
                  </a:lnTo>
                  <a:lnTo>
                    <a:pt x="778" y="699"/>
                  </a:lnTo>
                  <a:lnTo>
                    <a:pt x="716" y="690"/>
                  </a:lnTo>
                  <a:lnTo>
                    <a:pt x="655" y="680"/>
                  </a:lnTo>
                  <a:lnTo>
                    <a:pt x="598" y="670"/>
                  </a:lnTo>
                  <a:lnTo>
                    <a:pt x="541" y="657"/>
                  </a:lnTo>
                  <a:lnTo>
                    <a:pt x="488" y="645"/>
                  </a:lnTo>
                  <a:lnTo>
                    <a:pt x="435" y="633"/>
                  </a:lnTo>
                  <a:lnTo>
                    <a:pt x="387" y="620"/>
                  </a:lnTo>
                  <a:lnTo>
                    <a:pt x="339" y="606"/>
                  </a:lnTo>
                  <a:lnTo>
                    <a:pt x="296" y="592"/>
                  </a:lnTo>
                  <a:lnTo>
                    <a:pt x="254" y="577"/>
                  </a:lnTo>
                  <a:lnTo>
                    <a:pt x="215" y="562"/>
                  </a:lnTo>
                  <a:lnTo>
                    <a:pt x="180" y="545"/>
                  </a:lnTo>
                  <a:lnTo>
                    <a:pt x="146" y="529"/>
                  </a:lnTo>
                  <a:lnTo>
                    <a:pt x="117" y="512"/>
                  </a:lnTo>
                  <a:lnTo>
                    <a:pt x="90" y="495"/>
                  </a:lnTo>
                  <a:lnTo>
                    <a:pt x="66" y="477"/>
                  </a:lnTo>
                  <a:lnTo>
                    <a:pt x="46" y="459"/>
                  </a:lnTo>
                  <a:lnTo>
                    <a:pt x="30" y="440"/>
                  </a:lnTo>
                  <a:lnTo>
                    <a:pt x="17" y="422"/>
                  </a:lnTo>
                  <a:lnTo>
                    <a:pt x="8" y="403"/>
                  </a:lnTo>
                  <a:lnTo>
                    <a:pt x="2" y="384"/>
                  </a:lnTo>
                  <a:lnTo>
                    <a:pt x="0" y="364"/>
                  </a:lnTo>
                  <a:lnTo>
                    <a:pt x="2" y="344"/>
                  </a:lnTo>
                  <a:lnTo>
                    <a:pt x="8" y="325"/>
                  </a:lnTo>
                  <a:lnTo>
                    <a:pt x="17" y="306"/>
                  </a:lnTo>
                  <a:lnTo>
                    <a:pt x="30" y="288"/>
                  </a:lnTo>
                  <a:lnTo>
                    <a:pt x="46" y="270"/>
                  </a:lnTo>
                  <a:lnTo>
                    <a:pt x="66" y="253"/>
                  </a:lnTo>
                  <a:lnTo>
                    <a:pt x="90" y="235"/>
                  </a:lnTo>
                  <a:lnTo>
                    <a:pt x="117" y="218"/>
                  </a:lnTo>
                  <a:lnTo>
                    <a:pt x="146" y="202"/>
                  </a:lnTo>
                  <a:lnTo>
                    <a:pt x="180" y="186"/>
                  </a:lnTo>
                  <a:lnTo>
                    <a:pt x="215" y="171"/>
                  </a:lnTo>
                  <a:lnTo>
                    <a:pt x="254" y="157"/>
                  </a:lnTo>
                  <a:lnTo>
                    <a:pt x="296" y="143"/>
                  </a:lnTo>
                  <a:lnTo>
                    <a:pt x="339" y="128"/>
                  </a:lnTo>
                  <a:lnTo>
                    <a:pt x="387" y="115"/>
                  </a:lnTo>
                  <a:lnTo>
                    <a:pt x="435" y="103"/>
                  </a:lnTo>
                  <a:lnTo>
                    <a:pt x="488" y="91"/>
                  </a:lnTo>
                  <a:lnTo>
                    <a:pt x="541" y="80"/>
                  </a:lnTo>
                  <a:lnTo>
                    <a:pt x="598" y="70"/>
                  </a:lnTo>
                  <a:lnTo>
                    <a:pt x="655" y="60"/>
                  </a:lnTo>
                  <a:lnTo>
                    <a:pt x="716" y="51"/>
                  </a:lnTo>
                  <a:lnTo>
                    <a:pt x="778" y="43"/>
                  </a:lnTo>
                  <a:lnTo>
                    <a:pt x="842" y="35"/>
                  </a:lnTo>
                  <a:lnTo>
                    <a:pt x="909" y="28"/>
                  </a:lnTo>
                  <a:lnTo>
                    <a:pt x="976" y="21"/>
                  </a:lnTo>
                  <a:lnTo>
                    <a:pt x="1045" y="16"/>
                  </a:lnTo>
                  <a:lnTo>
                    <a:pt x="1116" y="11"/>
                  </a:lnTo>
                  <a:lnTo>
                    <a:pt x="1188" y="7"/>
                  </a:lnTo>
                  <a:lnTo>
                    <a:pt x="1261" y="4"/>
                  </a:lnTo>
                  <a:lnTo>
                    <a:pt x="1335" y="2"/>
                  </a:lnTo>
                  <a:lnTo>
                    <a:pt x="1411" y="1"/>
                  </a:lnTo>
                  <a:lnTo>
                    <a:pt x="1487" y="0"/>
                  </a:lnTo>
                  <a:lnTo>
                    <a:pt x="1564" y="1"/>
                  </a:lnTo>
                  <a:lnTo>
                    <a:pt x="1640" y="2"/>
                  </a:lnTo>
                  <a:lnTo>
                    <a:pt x="1714" y="4"/>
                  </a:lnTo>
                  <a:lnTo>
                    <a:pt x="1787" y="7"/>
                  </a:lnTo>
                  <a:lnTo>
                    <a:pt x="1859" y="11"/>
                  </a:lnTo>
                  <a:lnTo>
                    <a:pt x="1930" y="16"/>
                  </a:lnTo>
                  <a:lnTo>
                    <a:pt x="1999" y="21"/>
                  </a:lnTo>
                  <a:lnTo>
                    <a:pt x="2066" y="28"/>
                  </a:lnTo>
                  <a:lnTo>
                    <a:pt x="2133" y="35"/>
                  </a:lnTo>
                  <a:lnTo>
                    <a:pt x="2196" y="43"/>
                  </a:lnTo>
                  <a:lnTo>
                    <a:pt x="2259" y="51"/>
                  </a:lnTo>
                  <a:lnTo>
                    <a:pt x="2320" y="60"/>
                  </a:lnTo>
                  <a:lnTo>
                    <a:pt x="2377" y="70"/>
                  </a:lnTo>
                  <a:lnTo>
                    <a:pt x="2434" y="80"/>
                  </a:lnTo>
                  <a:lnTo>
                    <a:pt x="2488" y="91"/>
                  </a:lnTo>
                  <a:lnTo>
                    <a:pt x="2540" y="103"/>
                  </a:lnTo>
                  <a:lnTo>
                    <a:pt x="2588" y="115"/>
                  </a:lnTo>
                  <a:lnTo>
                    <a:pt x="2636" y="128"/>
                  </a:lnTo>
                  <a:lnTo>
                    <a:pt x="2680" y="143"/>
                  </a:lnTo>
                  <a:lnTo>
                    <a:pt x="2722" y="157"/>
                  </a:lnTo>
                  <a:lnTo>
                    <a:pt x="2760" y="171"/>
                  </a:lnTo>
                  <a:lnTo>
                    <a:pt x="2795" y="186"/>
                  </a:lnTo>
                  <a:lnTo>
                    <a:pt x="2829" y="202"/>
                  </a:lnTo>
                  <a:lnTo>
                    <a:pt x="2858" y="218"/>
                  </a:lnTo>
                  <a:lnTo>
                    <a:pt x="2885" y="235"/>
                  </a:lnTo>
                  <a:lnTo>
                    <a:pt x="2908" y="253"/>
                  </a:lnTo>
                  <a:lnTo>
                    <a:pt x="2929" y="270"/>
                  </a:lnTo>
                  <a:lnTo>
                    <a:pt x="2945" y="288"/>
                  </a:lnTo>
                  <a:lnTo>
                    <a:pt x="2958" y="306"/>
                  </a:lnTo>
                  <a:lnTo>
                    <a:pt x="2968" y="325"/>
                  </a:lnTo>
                  <a:lnTo>
                    <a:pt x="2973" y="344"/>
                  </a:lnTo>
                  <a:lnTo>
                    <a:pt x="2975" y="364"/>
                  </a:lnTo>
                  <a:close/>
                </a:path>
              </a:pathLst>
            </a:custGeom>
            <a:solidFill>
              <a:srgbClr val="fb6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984320" y="6514200"/>
              <a:ext cx="327240" cy="89280"/>
            </a:xfrm>
            <a:custGeom>
              <a:avLst/>
              <a:gdLst/>
              <a:ahLst/>
              <a:rect l="l" t="t" r="r" b="b"/>
              <a:pathLst>
                <a:path w="2973" h="743">
                  <a:moveTo>
                    <a:pt x="2973" y="363"/>
                  </a:moveTo>
                  <a:lnTo>
                    <a:pt x="2971" y="383"/>
                  </a:lnTo>
                  <a:lnTo>
                    <a:pt x="2965" y="402"/>
                  </a:lnTo>
                  <a:lnTo>
                    <a:pt x="2956" y="420"/>
                  </a:lnTo>
                  <a:lnTo>
                    <a:pt x="2943" y="439"/>
                  </a:lnTo>
                  <a:lnTo>
                    <a:pt x="2926" y="458"/>
                  </a:lnTo>
                  <a:lnTo>
                    <a:pt x="2906" y="476"/>
                  </a:lnTo>
                  <a:lnTo>
                    <a:pt x="2882" y="494"/>
                  </a:lnTo>
                  <a:lnTo>
                    <a:pt x="2856" y="511"/>
                  </a:lnTo>
                  <a:lnTo>
                    <a:pt x="2827" y="527"/>
                  </a:lnTo>
                  <a:lnTo>
                    <a:pt x="2793" y="544"/>
                  </a:lnTo>
                  <a:lnTo>
                    <a:pt x="2758" y="559"/>
                  </a:lnTo>
                  <a:lnTo>
                    <a:pt x="2719" y="576"/>
                  </a:lnTo>
                  <a:lnTo>
                    <a:pt x="2677" y="590"/>
                  </a:lnTo>
                  <a:lnTo>
                    <a:pt x="2634" y="605"/>
                  </a:lnTo>
                  <a:lnTo>
                    <a:pt x="2586" y="618"/>
                  </a:lnTo>
                  <a:lnTo>
                    <a:pt x="2538" y="631"/>
                  </a:lnTo>
                  <a:lnTo>
                    <a:pt x="2486" y="644"/>
                  </a:lnTo>
                  <a:lnTo>
                    <a:pt x="2432" y="656"/>
                  </a:lnTo>
                  <a:lnTo>
                    <a:pt x="2376" y="668"/>
                  </a:lnTo>
                  <a:lnTo>
                    <a:pt x="2318" y="678"/>
                  </a:lnTo>
                  <a:lnTo>
                    <a:pt x="2257" y="688"/>
                  </a:lnTo>
                  <a:lnTo>
                    <a:pt x="2195" y="697"/>
                  </a:lnTo>
                  <a:lnTo>
                    <a:pt x="2131" y="705"/>
                  </a:lnTo>
                  <a:lnTo>
                    <a:pt x="2065" y="713"/>
                  </a:lnTo>
                  <a:lnTo>
                    <a:pt x="1997" y="720"/>
                  </a:lnTo>
                  <a:lnTo>
                    <a:pt x="1929" y="726"/>
                  </a:lnTo>
                  <a:lnTo>
                    <a:pt x="1858" y="731"/>
                  </a:lnTo>
                  <a:lnTo>
                    <a:pt x="1786" y="735"/>
                  </a:lnTo>
                  <a:lnTo>
                    <a:pt x="1713" y="738"/>
                  </a:lnTo>
                  <a:lnTo>
                    <a:pt x="1639" y="741"/>
                  </a:lnTo>
                  <a:lnTo>
                    <a:pt x="1563" y="742"/>
                  </a:lnTo>
                  <a:lnTo>
                    <a:pt x="1486" y="743"/>
                  </a:lnTo>
                  <a:lnTo>
                    <a:pt x="1410" y="742"/>
                  </a:lnTo>
                  <a:lnTo>
                    <a:pt x="1335" y="741"/>
                  </a:lnTo>
                  <a:lnTo>
                    <a:pt x="1260" y="738"/>
                  </a:lnTo>
                  <a:lnTo>
                    <a:pt x="1187" y="735"/>
                  </a:lnTo>
                  <a:lnTo>
                    <a:pt x="1115" y="731"/>
                  </a:lnTo>
                  <a:lnTo>
                    <a:pt x="1044" y="726"/>
                  </a:lnTo>
                  <a:lnTo>
                    <a:pt x="975" y="720"/>
                  </a:lnTo>
                  <a:lnTo>
                    <a:pt x="908" y="713"/>
                  </a:lnTo>
                  <a:lnTo>
                    <a:pt x="842" y="705"/>
                  </a:lnTo>
                  <a:lnTo>
                    <a:pt x="778" y="697"/>
                  </a:lnTo>
                  <a:lnTo>
                    <a:pt x="716" y="688"/>
                  </a:lnTo>
                  <a:lnTo>
                    <a:pt x="655" y="678"/>
                  </a:lnTo>
                  <a:lnTo>
                    <a:pt x="598" y="668"/>
                  </a:lnTo>
                  <a:lnTo>
                    <a:pt x="541" y="656"/>
                  </a:lnTo>
                  <a:lnTo>
                    <a:pt x="488" y="644"/>
                  </a:lnTo>
                  <a:lnTo>
                    <a:pt x="435" y="631"/>
                  </a:lnTo>
                  <a:lnTo>
                    <a:pt x="387" y="618"/>
                  </a:lnTo>
                  <a:lnTo>
                    <a:pt x="339" y="605"/>
                  </a:lnTo>
                  <a:lnTo>
                    <a:pt x="296" y="590"/>
                  </a:lnTo>
                  <a:lnTo>
                    <a:pt x="254" y="576"/>
                  </a:lnTo>
                  <a:lnTo>
                    <a:pt x="215" y="559"/>
                  </a:lnTo>
                  <a:lnTo>
                    <a:pt x="180" y="544"/>
                  </a:lnTo>
                  <a:lnTo>
                    <a:pt x="147" y="527"/>
                  </a:lnTo>
                  <a:lnTo>
                    <a:pt x="117" y="511"/>
                  </a:lnTo>
                  <a:lnTo>
                    <a:pt x="91" y="494"/>
                  </a:lnTo>
                  <a:lnTo>
                    <a:pt x="67" y="476"/>
                  </a:lnTo>
                  <a:lnTo>
                    <a:pt x="47" y="458"/>
                  </a:lnTo>
                  <a:lnTo>
                    <a:pt x="30" y="439"/>
                  </a:lnTo>
                  <a:lnTo>
                    <a:pt x="17" y="420"/>
                  </a:lnTo>
                  <a:lnTo>
                    <a:pt x="8" y="402"/>
                  </a:lnTo>
                  <a:lnTo>
                    <a:pt x="2" y="383"/>
                  </a:lnTo>
                  <a:lnTo>
                    <a:pt x="0" y="363"/>
                  </a:lnTo>
                  <a:lnTo>
                    <a:pt x="2" y="343"/>
                  </a:lnTo>
                  <a:lnTo>
                    <a:pt x="8" y="324"/>
                  </a:lnTo>
                  <a:lnTo>
                    <a:pt x="17" y="305"/>
                  </a:lnTo>
                  <a:lnTo>
                    <a:pt x="30" y="287"/>
                  </a:lnTo>
                  <a:lnTo>
                    <a:pt x="47" y="269"/>
                  </a:lnTo>
                  <a:lnTo>
                    <a:pt x="67" y="252"/>
                  </a:lnTo>
                  <a:lnTo>
                    <a:pt x="91" y="234"/>
                  </a:lnTo>
                  <a:lnTo>
                    <a:pt x="117" y="217"/>
                  </a:lnTo>
                  <a:lnTo>
                    <a:pt x="147" y="201"/>
                  </a:lnTo>
                  <a:lnTo>
                    <a:pt x="180" y="186"/>
                  </a:lnTo>
                  <a:lnTo>
                    <a:pt x="215" y="171"/>
                  </a:lnTo>
                  <a:lnTo>
                    <a:pt x="254" y="156"/>
                  </a:lnTo>
                  <a:lnTo>
                    <a:pt x="296" y="142"/>
                  </a:lnTo>
                  <a:lnTo>
                    <a:pt x="339" y="128"/>
                  </a:lnTo>
                  <a:lnTo>
                    <a:pt x="387" y="115"/>
                  </a:lnTo>
                  <a:lnTo>
                    <a:pt x="435" y="103"/>
                  </a:lnTo>
                  <a:lnTo>
                    <a:pt x="488" y="91"/>
                  </a:lnTo>
                  <a:lnTo>
                    <a:pt x="541" y="80"/>
                  </a:lnTo>
                  <a:lnTo>
                    <a:pt x="598" y="70"/>
                  </a:lnTo>
                  <a:lnTo>
                    <a:pt x="655" y="60"/>
                  </a:lnTo>
                  <a:lnTo>
                    <a:pt x="716" y="51"/>
                  </a:lnTo>
                  <a:lnTo>
                    <a:pt x="778" y="43"/>
                  </a:lnTo>
                  <a:lnTo>
                    <a:pt x="842" y="35"/>
                  </a:lnTo>
                  <a:lnTo>
                    <a:pt x="908" y="28"/>
                  </a:lnTo>
                  <a:lnTo>
                    <a:pt x="975" y="21"/>
                  </a:lnTo>
                  <a:lnTo>
                    <a:pt x="1044" y="16"/>
                  </a:lnTo>
                  <a:lnTo>
                    <a:pt x="1115" y="11"/>
                  </a:lnTo>
                  <a:lnTo>
                    <a:pt x="1187" y="7"/>
                  </a:lnTo>
                  <a:lnTo>
                    <a:pt x="1260" y="4"/>
                  </a:lnTo>
                  <a:lnTo>
                    <a:pt x="1335" y="2"/>
                  </a:lnTo>
                  <a:lnTo>
                    <a:pt x="1410" y="1"/>
                  </a:lnTo>
                  <a:lnTo>
                    <a:pt x="1486" y="0"/>
                  </a:lnTo>
                  <a:lnTo>
                    <a:pt x="1563" y="1"/>
                  </a:lnTo>
                  <a:lnTo>
                    <a:pt x="1639" y="2"/>
                  </a:lnTo>
                  <a:lnTo>
                    <a:pt x="1713" y="4"/>
                  </a:lnTo>
                  <a:lnTo>
                    <a:pt x="1786" y="7"/>
                  </a:lnTo>
                  <a:lnTo>
                    <a:pt x="1858" y="11"/>
                  </a:lnTo>
                  <a:lnTo>
                    <a:pt x="1929" y="16"/>
                  </a:lnTo>
                  <a:lnTo>
                    <a:pt x="1997" y="21"/>
                  </a:lnTo>
                  <a:lnTo>
                    <a:pt x="2065" y="28"/>
                  </a:lnTo>
                  <a:lnTo>
                    <a:pt x="2131" y="35"/>
                  </a:lnTo>
                  <a:lnTo>
                    <a:pt x="2195" y="43"/>
                  </a:lnTo>
                  <a:lnTo>
                    <a:pt x="2257" y="51"/>
                  </a:lnTo>
                  <a:lnTo>
                    <a:pt x="2318" y="60"/>
                  </a:lnTo>
                  <a:lnTo>
                    <a:pt x="2376" y="70"/>
                  </a:lnTo>
                  <a:lnTo>
                    <a:pt x="2432" y="80"/>
                  </a:lnTo>
                  <a:lnTo>
                    <a:pt x="2486" y="91"/>
                  </a:lnTo>
                  <a:lnTo>
                    <a:pt x="2538" y="103"/>
                  </a:lnTo>
                  <a:lnTo>
                    <a:pt x="2586" y="115"/>
                  </a:lnTo>
                  <a:lnTo>
                    <a:pt x="2634" y="128"/>
                  </a:lnTo>
                  <a:lnTo>
                    <a:pt x="2677" y="142"/>
                  </a:lnTo>
                  <a:lnTo>
                    <a:pt x="2719" y="156"/>
                  </a:lnTo>
                  <a:lnTo>
                    <a:pt x="2758" y="171"/>
                  </a:lnTo>
                  <a:lnTo>
                    <a:pt x="2793" y="186"/>
                  </a:lnTo>
                  <a:lnTo>
                    <a:pt x="2827" y="201"/>
                  </a:lnTo>
                  <a:lnTo>
                    <a:pt x="2856" y="217"/>
                  </a:lnTo>
                  <a:lnTo>
                    <a:pt x="2882" y="234"/>
                  </a:lnTo>
                  <a:lnTo>
                    <a:pt x="2906" y="252"/>
                  </a:lnTo>
                  <a:lnTo>
                    <a:pt x="2926" y="269"/>
                  </a:lnTo>
                  <a:lnTo>
                    <a:pt x="2943" y="287"/>
                  </a:lnTo>
                  <a:lnTo>
                    <a:pt x="2956" y="305"/>
                  </a:lnTo>
                  <a:lnTo>
                    <a:pt x="2965" y="324"/>
                  </a:lnTo>
                  <a:lnTo>
                    <a:pt x="2971" y="343"/>
                  </a:lnTo>
                  <a:lnTo>
                    <a:pt x="2973" y="363"/>
                  </a:lnTo>
                  <a:close/>
                </a:path>
              </a:pathLst>
            </a:custGeom>
            <a:solidFill>
              <a:srgbClr val="fb6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84320" y="6514200"/>
              <a:ext cx="327240" cy="89280"/>
            </a:xfrm>
            <a:custGeom>
              <a:avLst/>
              <a:gdLst/>
              <a:ahLst/>
              <a:rect l="l" t="t" r="r" b="b"/>
              <a:pathLst>
                <a:path w="2969" h="741">
                  <a:moveTo>
                    <a:pt x="2969" y="362"/>
                  </a:moveTo>
                  <a:lnTo>
                    <a:pt x="2967" y="381"/>
                  </a:lnTo>
                  <a:lnTo>
                    <a:pt x="2962" y="401"/>
                  </a:lnTo>
                  <a:lnTo>
                    <a:pt x="2952" y="419"/>
                  </a:lnTo>
                  <a:lnTo>
                    <a:pt x="2939" y="438"/>
                  </a:lnTo>
                  <a:lnTo>
                    <a:pt x="2923" y="457"/>
                  </a:lnTo>
                  <a:lnTo>
                    <a:pt x="2902" y="475"/>
                  </a:lnTo>
                  <a:lnTo>
                    <a:pt x="2879" y="492"/>
                  </a:lnTo>
                  <a:lnTo>
                    <a:pt x="2853" y="509"/>
                  </a:lnTo>
                  <a:lnTo>
                    <a:pt x="2823" y="526"/>
                  </a:lnTo>
                  <a:lnTo>
                    <a:pt x="2790" y="542"/>
                  </a:lnTo>
                  <a:lnTo>
                    <a:pt x="2754" y="558"/>
                  </a:lnTo>
                  <a:lnTo>
                    <a:pt x="2716" y="574"/>
                  </a:lnTo>
                  <a:lnTo>
                    <a:pt x="2674" y="589"/>
                  </a:lnTo>
                  <a:lnTo>
                    <a:pt x="2631" y="603"/>
                  </a:lnTo>
                  <a:lnTo>
                    <a:pt x="2583" y="617"/>
                  </a:lnTo>
                  <a:lnTo>
                    <a:pt x="2535" y="630"/>
                  </a:lnTo>
                  <a:lnTo>
                    <a:pt x="2483" y="642"/>
                  </a:lnTo>
                  <a:lnTo>
                    <a:pt x="2429" y="654"/>
                  </a:lnTo>
                  <a:lnTo>
                    <a:pt x="2373" y="665"/>
                  </a:lnTo>
                  <a:lnTo>
                    <a:pt x="2315" y="676"/>
                  </a:lnTo>
                  <a:lnTo>
                    <a:pt x="2254" y="686"/>
                  </a:lnTo>
                  <a:lnTo>
                    <a:pt x="2192" y="695"/>
                  </a:lnTo>
                  <a:lnTo>
                    <a:pt x="2128" y="704"/>
                  </a:lnTo>
                  <a:lnTo>
                    <a:pt x="2062" y="711"/>
                  </a:lnTo>
                  <a:lnTo>
                    <a:pt x="1995" y="718"/>
                  </a:lnTo>
                  <a:lnTo>
                    <a:pt x="1926" y="724"/>
                  </a:lnTo>
                  <a:lnTo>
                    <a:pt x="1855" y="729"/>
                  </a:lnTo>
                  <a:lnTo>
                    <a:pt x="1783" y="733"/>
                  </a:lnTo>
                  <a:lnTo>
                    <a:pt x="1711" y="736"/>
                  </a:lnTo>
                  <a:lnTo>
                    <a:pt x="1636" y="739"/>
                  </a:lnTo>
                  <a:lnTo>
                    <a:pt x="1561" y="740"/>
                  </a:lnTo>
                  <a:lnTo>
                    <a:pt x="1484" y="741"/>
                  </a:lnTo>
                  <a:lnTo>
                    <a:pt x="1408" y="740"/>
                  </a:lnTo>
                  <a:lnTo>
                    <a:pt x="1333" y="739"/>
                  </a:lnTo>
                  <a:lnTo>
                    <a:pt x="1258" y="736"/>
                  </a:lnTo>
                  <a:lnTo>
                    <a:pt x="1186" y="733"/>
                  </a:lnTo>
                  <a:lnTo>
                    <a:pt x="1114" y="729"/>
                  </a:lnTo>
                  <a:lnTo>
                    <a:pt x="1043" y="724"/>
                  </a:lnTo>
                  <a:lnTo>
                    <a:pt x="974" y="718"/>
                  </a:lnTo>
                  <a:lnTo>
                    <a:pt x="907" y="711"/>
                  </a:lnTo>
                  <a:lnTo>
                    <a:pt x="841" y="704"/>
                  </a:lnTo>
                  <a:lnTo>
                    <a:pt x="776" y="695"/>
                  </a:lnTo>
                  <a:lnTo>
                    <a:pt x="715" y="686"/>
                  </a:lnTo>
                  <a:lnTo>
                    <a:pt x="654" y="676"/>
                  </a:lnTo>
                  <a:lnTo>
                    <a:pt x="596" y="665"/>
                  </a:lnTo>
                  <a:lnTo>
                    <a:pt x="540" y="654"/>
                  </a:lnTo>
                  <a:lnTo>
                    <a:pt x="487" y="642"/>
                  </a:lnTo>
                  <a:lnTo>
                    <a:pt x="434" y="630"/>
                  </a:lnTo>
                  <a:lnTo>
                    <a:pt x="386" y="617"/>
                  </a:lnTo>
                  <a:lnTo>
                    <a:pt x="339" y="603"/>
                  </a:lnTo>
                  <a:lnTo>
                    <a:pt x="295" y="589"/>
                  </a:lnTo>
                  <a:lnTo>
                    <a:pt x="253" y="574"/>
                  </a:lnTo>
                  <a:lnTo>
                    <a:pt x="215" y="558"/>
                  </a:lnTo>
                  <a:lnTo>
                    <a:pt x="179" y="542"/>
                  </a:lnTo>
                  <a:lnTo>
                    <a:pt x="146" y="526"/>
                  </a:lnTo>
                  <a:lnTo>
                    <a:pt x="116" y="509"/>
                  </a:lnTo>
                  <a:lnTo>
                    <a:pt x="90" y="492"/>
                  </a:lnTo>
                  <a:lnTo>
                    <a:pt x="67" y="475"/>
                  </a:lnTo>
                  <a:lnTo>
                    <a:pt x="46" y="457"/>
                  </a:lnTo>
                  <a:lnTo>
                    <a:pt x="30" y="438"/>
                  </a:lnTo>
                  <a:lnTo>
                    <a:pt x="17" y="419"/>
                  </a:lnTo>
                  <a:lnTo>
                    <a:pt x="7" y="401"/>
                  </a:lnTo>
                  <a:lnTo>
                    <a:pt x="2" y="381"/>
                  </a:lnTo>
                  <a:lnTo>
                    <a:pt x="0" y="362"/>
                  </a:lnTo>
                  <a:lnTo>
                    <a:pt x="2" y="342"/>
                  </a:lnTo>
                  <a:lnTo>
                    <a:pt x="7" y="323"/>
                  </a:lnTo>
                  <a:lnTo>
                    <a:pt x="17" y="304"/>
                  </a:lnTo>
                  <a:lnTo>
                    <a:pt x="30" y="286"/>
                  </a:lnTo>
                  <a:lnTo>
                    <a:pt x="46" y="268"/>
                  </a:lnTo>
                  <a:lnTo>
                    <a:pt x="67" y="251"/>
                  </a:lnTo>
                  <a:lnTo>
                    <a:pt x="90" y="233"/>
                  </a:lnTo>
                  <a:lnTo>
                    <a:pt x="116" y="217"/>
                  </a:lnTo>
                  <a:lnTo>
                    <a:pt x="146" y="201"/>
                  </a:lnTo>
                  <a:lnTo>
                    <a:pt x="179" y="185"/>
                  </a:lnTo>
                  <a:lnTo>
                    <a:pt x="215" y="170"/>
                  </a:lnTo>
                  <a:lnTo>
                    <a:pt x="253" y="156"/>
                  </a:lnTo>
                  <a:lnTo>
                    <a:pt x="295" y="142"/>
                  </a:lnTo>
                  <a:lnTo>
                    <a:pt x="339" y="127"/>
                  </a:lnTo>
                  <a:lnTo>
                    <a:pt x="386" y="115"/>
                  </a:lnTo>
                  <a:lnTo>
                    <a:pt x="434" y="102"/>
                  </a:lnTo>
                  <a:lnTo>
                    <a:pt x="487" y="91"/>
                  </a:lnTo>
                  <a:lnTo>
                    <a:pt x="540" y="80"/>
                  </a:lnTo>
                  <a:lnTo>
                    <a:pt x="596" y="69"/>
                  </a:lnTo>
                  <a:lnTo>
                    <a:pt x="654" y="60"/>
                  </a:lnTo>
                  <a:lnTo>
                    <a:pt x="715" y="51"/>
                  </a:lnTo>
                  <a:lnTo>
                    <a:pt x="776" y="42"/>
                  </a:lnTo>
                  <a:lnTo>
                    <a:pt x="841" y="35"/>
                  </a:lnTo>
                  <a:lnTo>
                    <a:pt x="907" y="28"/>
                  </a:lnTo>
                  <a:lnTo>
                    <a:pt x="974" y="21"/>
                  </a:lnTo>
                  <a:lnTo>
                    <a:pt x="1043" y="15"/>
                  </a:lnTo>
                  <a:lnTo>
                    <a:pt x="1114" y="11"/>
                  </a:lnTo>
                  <a:lnTo>
                    <a:pt x="1186" y="7"/>
                  </a:lnTo>
                  <a:lnTo>
                    <a:pt x="1258" y="4"/>
                  </a:lnTo>
                  <a:lnTo>
                    <a:pt x="1333" y="2"/>
                  </a:lnTo>
                  <a:lnTo>
                    <a:pt x="1408" y="1"/>
                  </a:lnTo>
                  <a:lnTo>
                    <a:pt x="1484" y="0"/>
                  </a:lnTo>
                  <a:lnTo>
                    <a:pt x="1561" y="1"/>
                  </a:lnTo>
                  <a:lnTo>
                    <a:pt x="1636" y="2"/>
                  </a:lnTo>
                  <a:lnTo>
                    <a:pt x="1711" y="4"/>
                  </a:lnTo>
                  <a:lnTo>
                    <a:pt x="1783" y="7"/>
                  </a:lnTo>
                  <a:lnTo>
                    <a:pt x="1855" y="11"/>
                  </a:lnTo>
                  <a:lnTo>
                    <a:pt x="1926" y="15"/>
                  </a:lnTo>
                  <a:lnTo>
                    <a:pt x="1995" y="21"/>
                  </a:lnTo>
                  <a:lnTo>
                    <a:pt x="2062" y="28"/>
                  </a:lnTo>
                  <a:lnTo>
                    <a:pt x="2128" y="35"/>
                  </a:lnTo>
                  <a:lnTo>
                    <a:pt x="2192" y="42"/>
                  </a:lnTo>
                  <a:lnTo>
                    <a:pt x="2254" y="51"/>
                  </a:lnTo>
                  <a:lnTo>
                    <a:pt x="2315" y="60"/>
                  </a:lnTo>
                  <a:lnTo>
                    <a:pt x="2373" y="69"/>
                  </a:lnTo>
                  <a:lnTo>
                    <a:pt x="2429" y="80"/>
                  </a:lnTo>
                  <a:lnTo>
                    <a:pt x="2483" y="91"/>
                  </a:lnTo>
                  <a:lnTo>
                    <a:pt x="2535" y="102"/>
                  </a:lnTo>
                  <a:lnTo>
                    <a:pt x="2583" y="115"/>
                  </a:lnTo>
                  <a:lnTo>
                    <a:pt x="2631" y="127"/>
                  </a:lnTo>
                  <a:lnTo>
                    <a:pt x="2674" y="142"/>
                  </a:lnTo>
                  <a:lnTo>
                    <a:pt x="2716" y="156"/>
                  </a:lnTo>
                  <a:lnTo>
                    <a:pt x="2754" y="170"/>
                  </a:lnTo>
                  <a:lnTo>
                    <a:pt x="2790" y="185"/>
                  </a:lnTo>
                  <a:lnTo>
                    <a:pt x="2823" y="201"/>
                  </a:lnTo>
                  <a:lnTo>
                    <a:pt x="2853" y="217"/>
                  </a:lnTo>
                  <a:lnTo>
                    <a:pt x="2879" y="233"/>
                  </a:lnTo>
                  <a:lnTo>
                    <a:pt x="2902" y="251"/>
                  </a:lnTo>
                  <a:lnTo>
                    <a:pt x="2923" y="268"/>
                  </a:lnTo>
                  <a:lnTo>
                    <a:pt x="2939" y="286"/>
                  </a:lnTo>
                  <a:lnTo>
                    <a:pt x="2952" y="304"/>
                  </a:lnTo>
                  <a:lnTo>
                    <a:pt x="2962" y="323"/>
                  </a:lnTo>
                  <a:lnTo>
                    <a:pt x="2967" y="342"/>
                  </a:lnTo>
                  <a:lnTo>
                    <a:pt x="2969" y="362"/>
                  </a:lnTo>
                  <a:close/>
                </a:path>
              </a:pathLst>
            </a:custGeom>
            <a:solidFill>
              <a:srgbClr val="fb6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84320" y="6514200"/>
              <a:ext cx="327240" cy="88200"/>
            </a:xfrm>
            <a:custGeom>
              <a:avLst/>
              <a:gdLst/>
              <a:ahLst/>
              <a:rect l="l" t="t" r="r" b="b"/>
              <a:pathLst>
                <a:path w="2967" h="739">
                  <a:moveTo>
                    <a:pt x="2967" y="361"/>
                  </a:moveTo>
                  <a:lnTo>
                    <a:pt x="2965" y="380"/>
                  </a:lnTo>
                  <a:lnTo>
                    <a:pt x="2959" y="399"/>
                  </a:lnTo>
                  <a:lnTo>
                    <a:pt x="2950" y="418"/>
                  </a:lnTo>
                  <a:lnTo>
                    <a:pt x="2937" y="437"/>
                  </a:lnTo>
                  <a:lnTo>
                    <a:pt x="2921" y="456"/>
                  </a:lnTo>
                  <a:lnTo>
                    <a:pt x="2900" y="474"/>
                  </a:lnTo>
                  <a:lnTo>
                    <a:pt x="2877" y="491"/>
                  </a:lnTo>
                  <a:lnTo>
                    <a:pt x="2850" y="508"/>
                  </a:lnTo>
                  <a:lnTo>
                    <a:pt x="2821" y="525"/>
                  </a:lnTo>
                  <a:lnTo>
                    <a:pt x="2788" y="541"/>
                  </a:lnTo>
                  <a:lnTo>
                    <a:pt x="2752" y="556"/>
                  </a:lnTo>
                  <a:lnTo>
                    <a:pt x="2714" y="573"/>
                  </a:lnTo>
                  <a:lnTo>
                    <a:pt x="2672" y="587"/>
                  </a:lnTo>
                  <a:lnTo>
                    <a:pt x="2628" y="601"/>
                  </a:lnTo>
                  <a:lnTo>
                    <a:pt x="2581" y="615"/>
                  </a:lnTo>
                  <a:lnTo>
                    <a:pt x="2533" y="628"/>
                  </a:lnTo>
                  <a:lnTo>
                    <a:pt x="2481" y="640"/>
                  </a:lnTo>
                  <a:lnTo>
                    <a:pt x="2427" y="652"/>
                  </a:lnTo>
                  <a:lnTo>
                    <a:pt x="2371" y="663"/>
                  </a:lnTo>
                  <a:lnTo>
                    <a:pt x="2313" y="675"/>
                  </a:lnTo>
                  <a:lnTo>
                    <a:pt x="2253" y="684"/>
                  </a:lnTo>
                  <a:lnTo>
                    <a:pt x="2190" y="693"/>
                  </a:lnTo>
                  <a:lnTo>
                    <a:pt x="2127" y="702"/>
                  </a:lnTo>
                  <a:lnTo>
                    <a:pt x="2061" y="709"/>
                  </a:lnTo>
                  <a:lnTo>
                    <a:pt x="1993" y="716"/>
                  </a:lnTo>
                  <a:lnTo>
                    <a:pt x="1925" y="722"/>
                  </a:lnTo>
                  <a:lnTo>
                    <a:pt x="1854" y="727"/>
                  </a:lnTo>
                  <a:lnTo>
                    <a:pt x="1782" y="731"/>
                  </a:lnTo>
                  <a:lnTo>
                    <a:pt x="1710" y="734"/>
                  </a:lnTo>
                  <a:lnTo>
                    <a:pt x="1635" y="737"/>
                  </a:lnTo>
                  <a:lnTo>
                    <a:pt x="1560" y="738"/>
                  </a:lnTo>
                  <a:lnTo>
                    <a:pt x="1483" y="739"/>
                  </a:lnTo>
                  <a:lnTo>
                    <a:pt x="1407" y="738"/>
                  </a:lnTo>
                  <a:lnTo>
                    <a:pt x="1332" y="737"/>
                  </a:lnTo>
                  <a:lnTo>
                    <a:pt x="1257" y="734"/>
                  </a:lnTo>
                  <a:lnTo>
                    <a:pt x="1185" y="731"/>
                  </a:lnTo>
                  <a:lnTo>
                    <a:pt x="1113" y="727"/>
                  </a:lnTo>
                  <a:lnTo>
                    <a:pt x="1042" y="722"/>
                  </a:lnTo>
                  <a:lnTo>
                    <a:pt x="973" y="716"/>
                  </a:lnTo>
                  <a:lnTo>
                    <a:pt x="906" y="709"/>
                  </a:lnTo>
                  <a:lnTo>
                    <a:pt x="840" y="702"/>
                  </a:lnTo>
                  <a:lnTo>
                    <a:pt x="777" y="693"/>
                  </a:lnTo>
                  <a:lnTo>
                    <a:pt x="714" y="684"/>
                  </a:lnTo>
                  <a:lnTo>
                    <a:pt x="654" y="675"/>
                  </a:lnTo>
                  <a:lnTo>
                    <a:pt x="596" y="663"/>
                  </a:lnTo>
                  <a:lnTo>
                    <a:pt x="540" y="652"/>
                  </a:lnTo>
                  <a:lnTo>
                    <a:pt x="486" y="640"/>
                  </a:lnTo>
                  <a:lnTo>
                    <a:pt x="434" y="628"/>
                  </a:lnTo>
                  <a:lnTo>
                    <a:pt x="386" y="615"/>
                  </a:lnTo>
                  <a:lnTo>
                    <a:pt x="339" y="601"/>
                  </a:lnTo>
                  <a:lnTo>
                    <a:pt x="295" y="587"/>
                  </a:lnTo>
                  <a:lnTo>
                    <a:pt x="253" y="573"/>
                  </a:lnTo>
                  <a:lnTo>
                    <a:pt x="215" y="556"/>
                  </a:lnTo>
                  <a:lnTo>
                    <a:pt x="180" y="541"/>
                  </a:lnTo>
                  <a:lnTo>
                    <a:pt x="146" y="525"/>
                  </a:lnTo>
                  <a:lnTo>
                    <a:pt x="117" y="508"/>
                  </a:lnTo>
                  <a:lnTo>
                    <a:pt x="90" y="491"/>
                  </a:lnTo>
                  <a:lnTo>
                    <a:pt x="67" y="474"/>
                  </a:lnTo>
                  <a:lnTo>
                    <a:pt x="46" y="456"/>
                  </a:lnTo>
                  <a:lnTo>
                    <a:pt x="30" y="437"/>
                  </a:lnTo>
                  <a:lnTo>
                    <a:pt x="17" y="418"/>
                  </a:lnTo>
                  <a:lnTo>
                    <a:pt x="8" y="399"/>
                  </a:lnTo>
                  <a:lnTo>
                    <a:pt x="2" y="380"/>
                  </a:lnTo>
                  <a:lnTo>
                    <a:pt x="0" y="361"/>
                  </a:lnTo>
                  <a:lnTo>
                    <a:pt x="2" y="341"/>
                  </a:lnTo>
                  <a:lnTo>
                    <a:pt x="8" y="322"/>
                  </a:lnTo>
                  <a:lnTo>
                    <a:pt x="17" y="304"/>
                  </a:lnTo>
                  <a:lnTo>
                    <a:pt x="30" y="285"/>
                  </a:lnTo>
                  <a:lnTo>
                    <a:pt x="46" y="268"/>
                  </a:lnTo>
                  <a:lnTo>
                    <a:pt x="67" y="250"/>
                  </a:lnTo>
                  <a:lnTo>
                    <a:pt x="90" y="233"/>
                  </a:lnTo>
                  <a:lnTo>
                    <a:pt x="117" y="216"/>
                  </a:lnTo>
                  <a:lnTo>
                    <a:pt x="146" y="200"/>
                  </a:lnTo>
                  <a:lnTo>
                    <a:pt x="180" y="185"/>
                  </a:lnTo>
                  <a:lnTo>
                    <a:pt x="215" y="170"/>
                  </a:lnTo>
                  <a:lnTo>
                    <a:pt x="253" y="155"/>
                  </a:lnTo>
                  <a:lnTo>
                    <a:pt x="295" y="141"/>
                  </a:lnTo>
                  <a:lnTo>
                    <a:pt x="339" y="127"/>
                  </a:lnTo>
                  <a:lnTo>
                    <a:pt x="386" y="114"/>
                  </a:lnTo>
                  <a:lnTo>
                    <a:pt x="434" y="102"/>
                  </a:lnTo>
                  <a:lnTo>
                    <a:pt x="486" y="90"/>
                  </a:lnTo>
                  <a:lnTo>
                    <a:pt x="540" y="80"/>
                  </a:lnTo>
                  <a:lnTo>
                    <a:pt x="596" y="69"/>
                  </a:lnTo>
                  <a:lnTo>
                    <a:pt x="654" y="60"/>
                  </a:lnTo>
                  <a:lnTo>
                    <a:pt x="714" y="51"/>
                  </a:lnTo>
                  <a:lnTo>
                    <a:pt x="777" y="42"/>
                  </a:lnTo>
                  <a:lnTo>
                    <a:pt x="840" y="35"/>
                  </a:lnTo>
                  <a:lnTo>
                    <a:pt x="906" y="28"/>
                  </a:lnTo>
                  <a:lnTo>
                    <a:pt x="973" y="21"/>
                  </a:lnTo>
                  <a:lnTo>
                    <a:pt x="1042" y="15"/>
                  </a:lnTo>
                  <a:lnTo>
                    <a:pt x="1113" y="11"/>
                  </a:lnTo>
                  <a:lnTo>
                    <a:pt x="1185" y="7"/>
                  </a:lnTo>
                  <a:lnTo>
                    <a:pt x="1257" y="4"/>
                  </a:lnTo>
                  <a:lnTo>
                    <a:pt x="1332" y="2"/>
                  </a:lnTo>
                  <a:lnTo>
                    <a:pt x="1407" y="1"/>
                  </a:lnTo>
                  <a:lnTo>
                    <a:pt x="1483" y="0"/>
                  </a:lnTo>
                  <a:lnTo>
                    <a:pt x="1560" y="1"/>
                  </a:lnTo>
                  <a:lnTo>
                    <a:pt x="1635" y="2"/>
                  </a:lnTo>
                  <a:lnTo>
                    <a:pt x="1710" y="4"/>
                  </a:lnTo>
                  <a:lnTo>
                    <a:pt x="1782" y="7"/>
                  </a:lnTo>
                  <a:lnTo>
                    <a:pt x="1854" y="11"/>
                  </a:lnTo>
                  <a:lnTo>
                    <a:pt x="1925" y="15"/>
                  </a:lnTo>
                  <a:lnTo>
                    <a:pt x="1993" y="21"/>
                  </a:lnTo>
                  <a:lnTo>
                    <a:pt x="2061" y="28"/>
                  </a:lnTo>
                  <a:lnTo>
                    <a:pt x="2127" y="35"/>
                  </a:lnTo>
                  <a:lnTo>
                    <a:pt x="2190" y="42"/>
                  </a:lnTo>
                  <a:lnTo>
                    <a:pt x="2253" y="51"/>
                  </a:lnTo>
                  <a:lnTo>
                    <a:pt x="2313" y="60"/>
                  </a:lnTo>
                  <a:lnTo>
                    <a:pt x="2371" y="69"/>
                  </a:lnTo>
                  <a:lnTo>
                    <a:pt x="2427" y="80"/>
                  </a:lnTo>
                  <a:lnTo>
                    <a:pt x="2481" y="90"/>
                  </a:lnTo>
                  <a:lnTo>
                    <a:pt x="2533" y="102"/>
                  </a:lnTo>
                  <a:lnTo>
                    <a:pt x="2581" y="114"/>
                  </a:lnTo>
                  <a:lnTo>
                    <a:pt x="2628" y="127"/>
                  </a:lnTo>
                  <a:lnTo>
                    <a:pt x="2672" y="141"/>
                  </a:lnTo>
                  <a:lnTo>
                    <a:pt x="2714" y="155"/>
                  </a:lnTo>
                  <a:lnTo>
                    <a:pt x="2752" y="170"/>
                  </a:lnTo>
                  <a:lnTo>
                    <a:pt x="2788" y="185"/>
                  </a:lnTo>
                  <a:lnTo>
                    <a:pt x="2821" y="200"/>
                  </a:lnTo>
                  <a:lnTo>
                    <a:pt x="2850" y="216"/>
                  </a:lnTo>
                  <a:lnTo>
                    <a:pt x="2877" y="233"/>
                  </a:lnTo>
                  <a:lnTo>
                    <a:pt x="2900" y="250"/>
                  </a:lnTo>
                  <a:lnTo>
                    <a:pt x="2921" y="268"/>
                  </a:lnTo>
                  <a:lnTo>
                    <a:pt x="2937" y="285"/>
                  </a:lnTo>
                  <a:lnTo>
                    <a:pt x="2950" y="304"/>
                  </a:lnTo>
                  <a:lnTo>
                    <a:pt x="2959" y="322"/>
                  </a:lnTo>
                  <a:lnTo>
                    <a:pt x="2965" y="341"/>
                  </a:lnTo>
                  <a:lnTo>
                    <a:pt x="2967" y="361"/>
                  </a:lnTo>
                  <a:close/>
                </a:path>
              </a:pathLst>
            </a:custGeom>
            <a:solidFill>
              <a:srgbClr val="fb6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84320" y="6514200"/>
              <a:ext cx="327240" cy="88200"/>
            </a:xfrm>
            <a:custGeom>
              <a:avLst/>
              <a:gdLst/>
              <a:ahLst/>
              <a:rect l="l" t="t" r="r" b="b"/>
              <a:pathLst>
                <a:path w="2963" h="737">
                  <a:moveTo>
                    <a:pt x="2963" y="360"/>
                  </a:moveTo>
                  <a:lnTo>
                    <a:pt x="2962" y="379"/>
                  </a:lnTo>
                  <a:lnTo>
                    <a:pt x="2956" y="398"/>
                  </a:lnTo>
                  <a:lnTo>
                    <a:pt x="2947" y="417"/>
                  </a:lnTo>
                  <a:lnTo>
                    <a:pt x="2934" y="435"/>
                  </a:lnTo>
                  <a:lnTo>
                    <a:pt x="2917" y="455"/>
                  </a:lnTo>
                  <a:lnTo>
                    <a:pt x="2897" y="472"/>
                  </a:lnTo>
                  <a:lnTo>
                    <a:pt x="2873" y="490"/>
                  </a:lnTo>
                  <a:lnTo>
                    <a:pt x="2847" y="507"/>
                  </a:lnTo>
                  <a:lnTo>
                    <a:pt x="2818" y="523"/>
                  </a:lnTo>
                  <a:lnTo>
                    <a:pt x="2784" y="539"/>
                  </a:lnTo>
                  <a:lnTo>
                    <a:pt x="2749" y="555"/>
                  </a:lnTo>
                  <a:lnTo>
                    <a:pt x="2711" y="571"/>
                  </a:lnTo>
                  <a:lnTo>
                    <a:pt x="2669" y="586"/>
                  </a:lnTo>
                  <a:lnTo>
                    <a:pt x="2625" y="600"/>
                  </a:lnTo>
                  <a:lnTo>
                    <a:pt x="2578" y="613"/>
                  </a:lnTo>
                  <a:lnTo>
                    <a:pt x="2530" y="626"/>
                  </a:lnTo>
                  <a:lnTo>
                    <a:pt x="2478" y="639"/>
                  </a:lnTo>
                  <a:lnTo>
                    <a:pt x="2424" y="650"/>
                  </a:lnTo>
                  <a:lnTo>
                    <a:pt x="2368" y="662"/>
                  </a:lnTo>
                  <a:lnTo>
                    <a:pt x="2311" y="673"/>
                  </a:lnTo>
                  <a:lnTo>
                    <a:pt x="2250" y="683"/>
                  </a:lnTo>
                  <a:lnTo>
                    <a:pt x="2188" y="692"/>
                  </a:lnTo>
                  <a:lnTo>
                    <a:pt x="2124" y="700"/>
                  </a:lnTo>
                  <a:lnTo>
                    <a:pt x="2058" y="707"/>
                  </a:lnTo>
                  <a:lnTo>
                    <a:pt x="1991" y="714"/>
                  </a:lnTo>
                  <a:lnTo>
                    <a:pt x="1922" y="720"/>
                  </a:lnTo>
                  <a:lnTo>
                    <a:pt x="1852" y="725"/>
                  </a:lnTo>
                  <a:lnTo>
                    <a:pt x="1780" y="729"/>
                  </a:lnTo>
                  <a:lnTo>
                    <a:pt x="1708" y="732"/>
                  </a:lnTo>
                  <a:lnTo>
                    <a:pt x="1633" y="735"/>
                  </a:lnTo>
                  <a:lnTo>
                    <a:pt x="1558" y="736"/>
                  </a:lnTo>
                  <a:lnTo>
                    <a:pt x="1481" y="737"/>
                  </a:lnTo>
                  <a:lnTo>
                    <a:pt x="1406" y="736"/>
                  </a:lnTo>
                  <a:lnTo>
                    <a:pt x="1330" y="735"/>
                  </a:lnTo>
                  <a:lnTo>
                    <a:pt x="1256" y="732"/>
                  </a:lnTo>
                  <a:lnTo>
                    <a:pt x="1183" y="729"/>
                  </a:lnTo>
                  <a:lnTo>
                    <a:pt x="1111" y="725"/>
                  </a:lnTo>
                  <a:lnTo>
                    <a:pt x="1041" y="720"/>
                  </a:lnTo>
                  <a:lnTo>
                    <a:pt x="972" y="714"/>
                  </a:lnTo>
                  <a:lnTo>
                    <a:pt x="905" y="707"/>
                  </a:lnTo>
                  <a:lnTo>
                    <a:pt x="839" y="700"/>
                  </a:lnTo>
                  <a:lnTo>
                    <a:pt x="776" y="692"/>
                  </a:lnTo>
                  <a:lnTo>
                    <a:pt x="713" y="683"/>
                  </a:lnTo>
                  <a:lnTo>
                    <a:pt x="653" y="673"/>
                  </a:lnTo>
                  <a:lnTo>
                    <a:pt x="595" y="662"/>
                  </a:lnTo>
                  <a:lnTo>
                    <a:pt x="539" y="650"/>
                  </a:lnTo>
                  <a:lnTo>
                    <a:pt x="485" y="639"/>
                  </a:lnTo>
                  <a:lnTo>
                    <a:pt x="433" y="626"/>
                  </a:lnTo>
                  <a:lnTo>
                    <a:pt x="385" y="613"/>
                  </a:lnTo>
                  <a:lnTo>
                    <a:pt x="338" y="600"/>
                  </a:lnTo>
                  <a:lnTo>
                    <a:pt x="294" y="586"/>
                  </a:lnTo>
                  <a:lnTo>
                    <a:pt x="252" y="571"/>
                  </a:lnTo>
                  <a:lnTo>
                    <a:pt x="214" y="555"/>
                  </a:lnTo>
                  <a:lnTo>
                    <a:pt x="179" y="539"/>
                  </a:lnTo>
                  <a:lnTo>
                    <a:pt x="145" y="523"/>
                  </a:lnTo>
                  <a:lnTo>
                    <a:pt x="116" y="507"/>
                  </a:lnTo>
                  <a:lnTo>
                    <a:pt x="90" y="490"/>
                  </a:lnTo>
                  <a:lnTo>
                    <a:pt x="67" y="472"/>
                  </a:lnTo>
                  <a:lnTo>
                    <a:pt x="46" y="455"/>
                  </a:lnTo>
                  <a:lnTo>
                    <a:pt x="30" y="435"/>
                  </a:lnTo>
                  <a:lnTo>
                    <a:pt x="17" y="417"/>
                  </a:lnTo>
                  <a:lnTo>
                    <a:pt x="7" y="398"/>
                  </a:lnTo>
                  <a:lnTo>
                    <a:pt x="2" y="379"/>
                  </a:lnTo>
                  <a:lnTo>
                    <a:pt x="0" y="360"/>
                  </a:lnTo>
                  <a:lnTo>
                    <a:pt x="2" y="340"/>
                  </a:lnTo>
                  <a:lnTo>
                    <a:pt x="7" y="321"/>
                  </a:lnTo>
                  <a:lnTo>
                    <a:pt x="17" y="303"/>
                  </a:lnTo>
                  <a:lnTo>
                    <a:pt x="30" y="285"/>
                  </a:lnTo>
                  <a:lnTo>
                    <a:pt x="46" y="267"/>
                  </a:lnTo>
                  <a:lnTo>
                    <a:pt x="67" y="250"/>
                  </a:lnTo>
                  <a:lnTo>
                    <a:pt x="90" y="232"/>
                  </a:lnTo>
                  <a:lnTo>
                    <a:pt x="116" y="215"/>
                  </a:lnTo>
                  <a:lnTo>
                    <a:pt x="145" y="200"/>
                  </a:lnTo>
                  <a:lnTo>
                    <a:pt x="179" y="184"/>
                  </a:lnTo>
                  <a:lnTo>
                    <a:pt x="214" y="169"/>
                  </a:lnTo>
                  <a:lnTo>
                    <a:pt x="252" y="155"/>
                  </a:lnTo>
                  <a:lnTo>
                    <a:pt x="294" y="141"/>
                  </a:lnTo>
                  <a:lnTo>
                    <a:pt x="338" y="127"/>
                  </a:lnTo>
                  <a:lnTo>
                    <a:pt x="385" y="114"/>
                  </a:lnTo>
                  <a:lnTo>
                    <a:pt x="433" y="102"/>
                  </a:lnTo>
                  <a:lnTo>
                    <a:pt x="485" y="90"/>
                  </a:lnTo>
                  <a:lnTo>
                    <a:pt x="539" y="79"/>
                  </a:lnTo>
                  <a:lnTo>
                    <a:pt x="595" y="69"/>
                  </a:lnTo>
                  <a:lnTo>
                    <a:pt x="653" y="59"/>
                  </a:lnTo>
                  <a:lnTo>
                    <a:pt x="713" y="50"/>
                  </a:lnTo>
                  <a:lnTo>
                    <a:pt x="776" y="42"/>
                  </a:lnTo>
                  <a:lnTo>
                    <a:pt x="839" y="34"/>
                  </a:lnTo>
                  <a:lnTo>
                    <a:pt x="905" y="28"/>
                  </a:lnTo>
                  <a:lnTo>
                    <a:pt x="972" y="21"/>
                  </a:lnTo>
                  <a:lnTo>
                    <a:pt x="1041" y="15"/>
                  </a:lnTo>
                  <a:lnTo>
                    <a:pt x="1111" y="11"/>
                  </a:lnTo>
                  <a:lnTo>
                    <a:pt x="1183" y="7"/>
                  </a:lnTo>
                  <a:lnTo>
                    <a:pt x="1256" y="4"/>
                  </a:lnTo>
                  <a:lnTo>
                    <a:pt x="1330" y="2"/>
                  </a:lnTo>
                  <a:lnTo>
                    <a:pt x="1406" y="0"/>
                  </a:lnTo>
                  <a:lnTo>
                    <a:pt x="1481" y="0"/>
                  </a:lnTo>
                  <a:lnTo>
                    <a:pt x="1558" y="0"/>
                  </a:lnTo>
                  <a:lnTo>
                    <a:pt x="1633" y="2"/>
                  </a:lnTo>
                  <a:lnTo>
                    <a:pt x="1708" y="4"/>
                  </a:lnTo>
                  <a:lnTo>
                    <a:pt x="1780" y="7"/>
                  </a:lnTo>
                  <a:lnTo>
                    <a:pt x="1852" y="11"/>
                  </a:lnTo>
                  <a:lnTo>
                    <a:pt x="1922" y="15"/>
                  </a:lnTo>
                  <a:lnTo>
                    <a:pt x="1991" y="21"/>
                  </a:lnTo>
                  <a:lnTo>
                    <a:pt x="2058" y="28"/>
                  </a:lnTo>
                  <a:lnTo>
                    <a:pt x="2124" y="34"/>
                  </a:lnTo>
                  <a:lnTo>
                    <a:pt x="2188" y="42"/>
                  </a:lnTo>
                  <a:lnTo>
                    <a:pt x="2250" y="50"/>
                  </a:lnTo>
                  <a:lnTo>
                    <a:pt x="2311" y="59"/>
                  </a:lnTo>
                  <a:lnTo>
                    <a:pt x="2368" y="69"/>
                  </a:lnTo>
                  <a:lnTo>
                    <a:pt x="2424" y="79"/>
                  </a:lnTo>
                  <a:lnTo>
                    <a:pt x="2478" y="90"/>
                  </a:lnTo>
                  <a:lnTo>
                    <a:pt x="2530" y="102"/>
                  </a:lnTo>
                  <a:lnTo>
                    <a:pt x="2578" y="114"/>
                  </a:lnTo>
                  <a:lnTo>
                    <a:pt x="2625" y="127"/>
                  </a:lnTo>
                  <a:lnTo>
                    <a:pt x="2669" y="141"/>
                  </a:lnTo>
                  <a:lnTo>
                    <a:pt x="2711" y="155"/>
                  </a:lnTo>
                  <a:lnTo>
                    <a:pt x="2749" y="169"/>
                  </a:lnTo>
                  <a:lnTo>
                    <a:pt x="2784" y="184"/>
                  </a:lnTo>
                  <a:lnTo>
                    <a:pt x="2818" y="200"/>
                  </a:lnTo>
                  <a:lnTo>
                    <a:pt x="2847" y="215"/>
                  </a:lnTo>
                  <a:lnTo>
                    <a:pt x="2873" y="232"/>
                  </a:lnTo>
                  <a:lnTo>
                    <a:pt x="2897" y="250"/>
                  </a:lnTo>
                  <a:lnTo>
                    <a:pt x="2917" y="267"/>
                  </a:lnTo>
                  <a:lnTo>
                    <a:pt x="2934" y="285"/>
                  </a:lnTo>
                  <a:lnTo>
                    <a:pt x="2947" y="303"/>
                  </a:lnTo>
                  <a:lnTo>
                    <a:pt x="2956" y="321"/>
                  </a:lnTo>
                  <a:lnTo>
                    <a:pt x="2962" y="340"/>
                  </a:lnTo>
                  <a:lnTo>
                    <a:pt x="2963" y="360"/>
                  </a:lnTo>
                  <a:close/>
                </a:path>
              </a:pathLst>
            </a:custGeom>
            <a:solidFill>
              <a:srgbClr val="fb6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84320" y="6514200"/>
              <a:ext cx="327240" cy="88200"/>
            </a:xfrm>
            <a:custGeom>
              <a:avLst/>
              <a:gdLst/>
              <a:ahLst/>
              <a:rect l="l" t="t" r="r" b="b"/>
              <a:pathLst>
                <a:path w="2961" h="735">
                  <a:moveTo>
                    <a:pt x="2961" y="359"/>
                  </a:moveTo>
                  <a:lnTo>
                    <a:pt x="2959" y="378"/>
                  </a:lnTo>
                  <a:lnTo>
                    <a:pt x="2953" y="397"/>
                  </a:lnTo>
                  <a:lnTo>
                    <a:pt x="2944" y="416"/>
                  </a:lnTo>
                  <a:lnTo>
                    <a:pt x="2931" y="434"/>
                  </a:lnTo>
                  <a:lnTo>
                    <a:pt x="2915" y="453"/>
                  </a:lnTo>
                  <a:lnTo>
                    <a:pt x="2894" y="471"/>
                  </a:lnTo>
                  <a:lnTo>
                    <a:pt x="2871" y="488"/>
                  </a:lnTo>
                  <a:lnTo>
                    <a:pt x="2845" y="505"/>
                  </a:lnTo>
                  <a:lnTo>
                    <a:pt x="2815" y="522"/>
                  </a:lnTo>
                  <a:lnTo>
                    <a:pt x="2782" y="538"/>
                  </a:lnTo>
                  <a:lnTo>
                    <a:pt x="2747" y="553"/>
                  </a:lnTo>
                  <a:lnTo>
                    <a:pt x="2709" y="570"/>
                  </a:lnTo>
                  <a:lnTo>
                    <a:pt x="2667" y="584"/>
                  </a:lnTo>
                  <a:lnTo>
                    <a:pt x="2623" y="598"/>
                  </a:lnTo>
                  <a:lnTo>
                    <a:pt x="2576" y="612"/>
                  </a:lnTo>
                  <a:lnTo>
                    <a:pt x="2528" y="625"/>
                  </a:lnTo>
                  <a:lnTo>
                    <a:pt x="2476" y="637"/>
                  </a:lnTo>
                  <a:lnTo>
                    <a:pt x="2423" y="649"/>
                  </a:lnTo>
                  <a:lnTo>
                    <a:pt x="2366" y="660"/>
                  </a:lnTo>
                  <a:lnTo>
                    <a:pt x="2309" y="671"/>
                  </a:lnTo>
                  <a:lnTo>
                    <a:pt x="2248" y="681"/>
                  </a:lnTo>
                  <a:lnTo>
                    <a:pt x="2186" y="690"/>
                  </a:lnTo>
                  <a:lnTo>
                    <a:pt x="2123" y="698"/>
                  </a:lnTo>
                  <a:lnTo>
                    <a:pt x="2057" y="706"/>
                  </a:lnTo>
                  <a:lnTo>
                    <a:pt x="1989" y="712"/>
                  </a:lnTo>
                  <a:lnTo>
                    <a:pt x="1921" y="718"/>
                  </a:lnTo>
                  <a:lnTo>
                    <a:pt x="1850" y="723"/>
                  </a:lnTo>
                  <a:lnTo>
                    <a:pt x="1779" y="727"/>
                  </a:lnTo>
                  <a:lnTo>
                    <a:pt x="1706" y="731"/>
                  </a:lnTo>
                  <a:lnTo>
                    <a:pt x="1632" y="733"/>
                  </a:lnTo>
                  <a:lnTo>
                    <a:pt x="1556" y="734"/>
                  </a:lnTo>
                  <a:lnTo>
                    <a:pt x="1480" y="735"/>
                  </a:lnTo>
                  <a:lnTo>
                    <a:pt x="1405" y="734"/>
                  </a:lnTo>
                  <a:lnTo>
                    <a:pt x="1329" y="733"/>
                  </a:lnTo>
                  <a:lnTo>
                    <a:pt x="1255" y="731"/>
                  </a:lnTo>
                  <a:lnTo>
                    <a:pt x="1183" y="727"/>
                  </a:lnTo>
                  <a:lnTo>
                    <a:pt x="1111" y="723"/>
                  </a:lnTo>
                  <a:lnTo>
                    <a:pt x="1040" y="718"/>
                  </a:lnTo>
                  <a:lnTo>
                    <a:pt x="971" y="712"/>
                  </a:lnTo>
                  <a:lnTo>
                    <a:pt x="904" y="706"/>
                  </a:lnTo>
                  <a:lnTo>
                    <a:pt x="838" y="698"/>
                  </a:lnTo>
                  <a:lnTo>
                    <a:pt x="775" y="690"/>
                  </a:lnTo>
                  <a:lnTo>
                    <a:pt x="713" y="681"/>
                  </a:lnTo>
                  <a:lnTo>
                    <a:pt x="652" y="671"/>
                  </a:lnTo>
                  <a:lnTo>
                    <a:pt x="595" y="660"/>
                  </a:lnTo>
                  <a:lnTo>
                    <a:pt x="539" y="649"/>
                  </a:lnTo>
                  <a:lnTo>
                    <a:pt x="485" y="637"/>
                  </a:lnTo>
                  <a:lnTo>
                    <a:pt x="433" y="625"/>
                  </a:lnTo>
                  <a:lnTo>
                    <a:pt x="385" y="612"/>
                  </a:lnTo>
                  <a:lnTo>
                    <a:pt x="338" y="598"/>
                  </a:lnTo>
                  <a:lnTo>
                    <a:pt x="294" y="584"/>
                  </a:lnTo>
                  <a:lnTo>
                    <a:pt x="252" y="570"/>
                  </a:lnTo>
                  <a:lnTo>
                    <a:pt x="214" y="553"/>
                  </a:lnTo>
                  <a:lnTo>
                    <a:pt x="179" y="538"/>
                  </a:lnTo>
                  <a:lnTo>
                    <a:pt x="146" y="522"/>
                  </a:lnTo>
                  <a:lnTo>
                    <a:pt x="116" y="505"/>
                  </a:lnTo>
                  <a:lnTo>
                    <a:pt x="90" y="488"/>
                  </a:lnTo>
                  <a:lnTo>
                    <a:pt x="67" y="471"/>
                  </a:lnTo>
                  <a:lnTo>
                    <a:pt x="46" y="453"/>
                  </a:lnTo>
                  <a:lnTo>
                    <a:pt x="30" y="434"/>
                  </a:lnTo>
                  <a:lnTo>
                    <a:pt x="17" y="416"/>
                  </a:lnTo>
                  <a:lnTo>
                    <a:pt x="8" y="397"/>
                  </a:lnTo>
                  <a:lnTo>
                    <a:pt x="2" y="378"/>
                  </a:lnTo>
                  <a:lnTo>
                    <a:pt x="0" y="359"/>
                  </a:lnTo>
                  <a:lnTo>
                    <a:pt x="2" y="339"/>
                  </a:lnTo>
                  <a:lnTo>
                    <a:pt x="8" y="320"/>
                  </a:lnTo>
                  <a:lnTo>
                    <a:pt x="17" y="302"/>
                  </a:lnTo>
                  <a:lnTo>
                    <a:pt x="30" y="284"/>
                  </a:lnTo>
                  <a:lnTo>
                    <a:pt x="46" y="266"/>
                  </a:lnTo>
                  <a:lnTo>
                    <a:pt x="67" y="249"/>
                  </a:lnTo>
                  <a:lnTo>
                    <a:pt x="90" y="231"/>
                  </a:lnTo>
                  <a:lnTo>
                    <a:pt x="116" y="215"/>
                  </a:lnTo>
                  <a:lnTo>
                    <a:pt x="146" y="199"/>
                  </a:lnTo>
                  <a:lnTo>
                    <a:pt x="179" y="184"/>
                  </a:lnTo>
                  <a:lnTo>
                    <a:pt x="214" y="169"/>
                  </a:lnTo>
                  <a:lnTo>
                    <a:pt x="252" y="154"/>
                  </a:lnTo>
                  <a:lnTo>
                    <a:pt x="294" y="141"/>
                  </a:lnTo>
                  <a:lnTo>
                    <a:pt x="338" y="126"/>
                  </a:lnTo>
                  <a:lnTo>
                    <a:pt x="385" y="113"/>
                  </a:lnTo>
                  <a:lnTo>
                    <a:pt x="433" y="101"/>
                  </a:lnTo>
                  <a:lnTo>
                    <a:pt x="485" y="90"/>
                  </a:lnTo>
                  <a:lnTo>
                    <a:pt x="539" y="79"/>
                  </a:lnTo>
                  <a:lnTo>
                    <a:pt x="595" y="69"/>
                  </a:lnTo>
                  <a:lnTo>
                    <a:pt x="652" y="59"/>
                  </a:lnTo>
                  <a:lnTo>
                    <a:pt x="713" y="50"/>
                  </a:lnTo>
                  <a:lnTo>
                    <a:pt x="775" y="42"/>
                  </a:lnTo>
                  <a:lnTo>
                    <a:pt x="838" y="34"/>
                  </a:lnTo>
                  <a:lnTo>
                    <a:pt x="904" y="28"/>
                  </a:lnTo>
                  <a:lnTo>
                    <a:pt x="971" y="20"/>
                  </a:lnTo>
                  <a:lnTo>
                    <a:pt x="1040" y="15"/>
                  </a:lnTo>
                  <a:lnTo>
                    <a:pt x="1111" y="11"/>
                  </a:lnTo>
                  <a:lnTo>
                    <a:pt x="1183" y="7"/>
                  </a:lnTo>
                  <a:lnTo>
                    <a:pt x="1255" y="4"/>
                  </a:lnTo>
                  <a:lnTo>
                    <a:pt x="1329" y="2"/>
                  </a:lnTo>
                  <a:lnTo>
                    <a:pt x="1405" y="0"/>
                  </a:lnTo>
                  <a:lnTo>
                    <a:pt x="1480" y="0"/>
                  </a:lnTo>
                  <a:lnTo>
                    <a:pt x="1556" y="0"/>
                  </a:lnTo>
                  <a:lnTo>
                    <a:pt x="1632" y="2"/>
                  </a:lnTo>
                  <a:lnTo>
                    <a:pt x="1706" y="4"/>
                  </a:lnTo>
                  <a:lnTo>
                    <a:pt x="1779" y="7"/>
                  </a:lnTo>
                  <a:lnTo>
                    <a:pt x="1850" y="11"/>
                  </a:lnTo>
                  <a:lnTo>
                    <a:pt x="1921" y="15"/>
                  </a:lnTo>
                  <a:lnTo>
                    <a:pt x="1989" y="20"/>
                  </a:lnTo>
                  <a:lnTo>
                    <a:pt x="2057" y="28"/>
                  </a:lnTo>
                  <a:lnTo>
                    <a:pt x="2123" y="34"/>
                  </a:lnTo>
                  <a:lnTo>
                    <a:pt x="2186" y="42"/>
                  </a:lnTo>
                  <a:lnTo>
                    <a:pt x="2248" y="50"/>
                  </a:lnTo>
                  <a:lnTo>
                    <a:pt x="2309" y="59"/>
                  </a:lnTo>
                  <a:lnTo>
                    <a:pt x="2366" y="69"/>
                  </a:lnTo>
                  <a:lnTo>
                    <a:pt x="2423" y="79"/>
                  </a:lnTo>
                  <a:lnTo>
                    <a:pt x="2476" y="90"/>
                  </a:lnTo>
                  <a:lnTo>
                    <a:pt x="2528" y="101"/>
                  </a:lnTo>
                  <a:lnTo>
                    <a:pt x="2576" y="113"/>
                  </a:lnTo>
                  <a:lnTo>
                    <a:pt x="2623" y="126"/>
                  </a:lnTo>
                  <a:lnTo>
                    <a:pt x="2667" y="141"/>
                  </a:lnTo>
                  <a:lnTo>
                    <a:pt x="2709" y="154"/>
                  </a:lnTo>
                  <a:lnTo>
                    <a:pt x="2747" y="169"/>
                  </a:lnTo>
                  <a:lnTo>
                    <a:pt x="2782" y="184"/>
                  </a:lnTo>
                  <a:lnTo>
                    <a:pt x="2815" y="199"/>
                  </a:lnTo>
                  <a:lnTo>
                    <a:pt x="2845" y="215"/>
                  </a:lnTo>
                  <a:lnTo>
                    <a:pt x="2871" y="231"/>
                  </a:lnTo>
                  <a:lnTo>
                    <a:pt x="2894" y="249"/>
                  </a:lnTo>
                  <a:lnTo>
                    <a:pt x="2915" y="266"/>
                  </a:lnTo>
                  <a:lnTo>
                    <a:pt x="2931" y="284"/>
                  </a:lnTo>
                  <a:lnTo>
                    <a:pt x="2944" y="302"/>
                  </a:lnTo>
                  <a:lnTo>
                    <a:pt x="2953" y="320"/>
                  </a:lnTo>
                  <a:lnTo>
                    <a:pt x="2959" y="339"/>
                  </a:lnTo>
                  <a:lnTo>
                    <a:pt x="2961" y="359"/>
                  </a:lnTo>
                  <a:close/>
                </a:path>
              </a:pathLst>
            </a:custGeom>
            <a:solidFill>
              <a:srgbClr val="fb6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85760" y="6515640"/>
              <a:ext cx="324720" cy="86400"/>
            </a:xfrm>
            <a:custGeom>
              <a:avLst/>
              <a:gdLst/>
              <a:ahLst/>
              <a:rect l="l" t="t" r="r" b="b"/>
              <a:pathLst>
                <a:path w="2958" h="733">
                  <a:moveTo>
                    <a:pt x="2958" y="358"/>
                  </a:moveTo>
                  <a:lnTo>
                    <a:pt x="2956" y="377"/>
                  </a:lnTo>
                  <a:lnTo>
                    <a:pt x="2950" y="396"/>
                  </a:lnTo>
                  <a:lnTo>
                    <a:pt x="2941" y="415"/>
                  </a:lnTo>
                  <a:lnTo>
                    <a:pt x="2928" y="433"/>
                  </a:lnTo>
                  <a:lnTo>
                    <a:pt x="2912" y="452"/>
                  </a:lnTo>
                  <a:lnTo>
                    <a:pt x="2891" y="470"/>
                  </a:lnTo>
                  <a:lnTo>
                    <a:pt x="2868" y="487"/>
                  </a:lnTo>
                  <a:lnTo>
                    <a:pt x="2842" y="504"/>
                  </a:lnTo>
                  <a:lnTo>
                    <a:pt x="2812" y="520"/>
                  </a:lnTo>
                  <a:lnTo>
                    <a:pt x="2779" y="536"/>
                  </a:lnTo>
                  <a:lnTo>
                    <a:pt x="2744" y="552"/>
                  </a:lnTo>
                  <a:lnTo>
                    <a:pt x="2706" y="568"/>
                  </a:lnTo>
                  <a:lnTo>
                    <a:pt x="2664" y="583"/>
                  </a:lnTo>
                  <a:lnTo>
                    <a:pt x="2620" y="597"/>
                  </a:lnTo>
                  <a:lnTo>
                    <a:pt x="2573" y="610"/>
                  </a:lnTo>
                  <a:lnTo>
                    <a:pt x="2525" y="623"/>
                  </a:lnTo>
                  <a:lnTo>
                    <a:pt x="2473" y="635"/>
                  </a:lnTo>
                  <a:lnTo>
                    <a:pt x="2420" y="647"/>
                  </a:lnTo>
                  <a:lnTo>
                    <a:pt x="2363" y="658"/>
                  </a:lnTo>
                  <a:lnTo>
                    <a:pt x="2306" y="669"/>
                  </a:lnTo>
                  <a:lnTo>
                    <a:pt x="2245" y="679"/>
                  </a:lnTo>
                  <a:lnTo>
                    <a:pt x="2183" y="688"/>
                  </a:lnTo>
                  <a:lnTo>
                    <a:pt x="2120" y="696"/>
                  </a:lnTo>
                  <a:lnTo>
                    <a:pt x="2054" y="704"/>
                  </a:lnTo>
                  <a:lnTo>
                    <a:pt x="1987" y="710"/>
                  </a:lnTo>
                  <a:lnTo>
                    <a:pt x="1919" y="716"/>
                  </a:lnTo>
                  <a:lnTo>
                    <a:pt x="1848" y="721"/>
                  </a:lnTo>
                  <a:lnTo>
                    <a:pt x="1776" y="725"/>
                  </a:lnTo>
                  <a:lnTo>
                    <a:pt x="1704" y="729"/>
                  </a:lnTo>
                  <a:lnTo>
                    <a:pt x="1630" y="731"/>
                  </a:lnTo>
                  <a:lnTo>
                    <a:pt x="1554" y="732"/>
                  </a:lnTo>
                  <a:lnTo>
                    <a:pt x="1478" y="733"/>
                  </a:lnTo>
                  <a:lnTo>
                    <a:pt x="1403" y="732"/>
                  </a:lnTo>
                  <a:lnTo>
                    <a:pt x="1327" y="731"/>
                  </a:lnTo>
                  <a:lnTo>
                    <a:pt x="1253" y="729"/>
                  </a:lnTo>
                  <a:lnTo>
                    <a:pt x="1181" y="725"/>
                  </a:lnTo>
                  <a:lnTo>
                    <a:pt x="1109" y="721"/>
                  </a:lnTo>
                  <a:lnTo>
                    <a:pt x="1039" y="716"/>
                  </a:lnTo>
                  <a:lnTo>
                    <a:pt x="969" y="710"/>
                  </a:lnTo>
                  <a:lnTo>
                    <a:pt x="903" y="704"/>
                  </a:lnTo>
                  <a:lnTo>
                    <a:pt x="837" y="696"/>
                  </a:lnTo>
                  <a:lnTo>
                    <a:pt x="774" y="688"/>
                  </a:lnTo>
                  <a:lnTo>
                    <a:pt x="712" y="679"/>
                  </a:lnTo>
                  <a:lnTo>
                    <a:pt x="651" y="669"/>
                  </a:lnTo>
                  <a:lnTo>
                    <a:pt x="594" y="658"/>
                  </a:lnTo>
                  <a:lnTo>
                    <a:pt x="537" y="647"/>
                  </a:lnTo>
                  <a:lnTo>
                    <a:pt x="484" y="635"/>
                  </a:lnTo>
                  <a:lnTo>
                    <a:pt x="432" y="623"/>
                  </a:lnTo>
                  <a:lnTo>
                    <a:pt x="384" y="610"/>
                  </a:lnTo>
                  <a:lnTo>
                    <a:pt x="337" y="597"/>
                  </a:lnTo>
                  <a:lnTo>
                    <a:pt x="293" y="583"/>
                  </a:lnTo>
                  <a:lnTo>
                    <a:pt x="252" y="568"/>
                  </a:lnTo>
                  <a:lnTo>
                    <a:pt x="214" y="552"/>
                  </a:lnTo>
                  <a:lnTo>
                    <a:pt x="178" y="536"/>
                  </a:lnTo>
                  <a:lnTo>
                    <a:pt x="145" y="520"/>
                  </a:lnTo>
                  <a:lnTo>
                    <a:pt x="116" y="504"/>
                  </a:lnTo>
                  <a:lnTo>
                    <a:pt x="89" y="487"/>
                  </a:lnTo>
                  <a:lnTo>
                    <a:pt x="66" y="470"/>
                  </a:lnTo>
                  <a:lnTo>
                    <a:pt x="46" y="452"/>
                  </a:lnTo>
                  <a:lnTo>
                    <a:pt x="29" y="433"/>
                  </a:lnTo>
                  <a:lnTo>
                    <a:pt x="16" y="415"/>
                  </a:lnTo>
                  <a:lnTo>
                    <a:pt x="7" y="396"/>
                  </a:lnTo>
                  <a:lnTo>
                    <a:pt x="1" y="377"/>
                  </a:lnTo>
                  <a:lnTo>
                    <a:pt x="0" y="358"/>
                  </a:lnTo>
                  <a:lnTo>
                    <a:pt x="1" y="338"/>
                  </a:lnTo>
                  <a:lnTo>
                    <a:pt x="7" y="319"/>
                  </a:lnTo>
                  <a:lnTo>
                    <a:pt x="16" y="301"/>
                  </a:lnTo>
                  <a:lnTo>
                    <a:pt x="29" y="283"/>
                  </a:lnTo>
                  <a:lnTo>
                    <a:pt x="46" y="265"/>
                  </a:lnTo>
                  <a:lnTo>
                    <a:pt x="66" y="248"/>
                  </a:lnTo>
                  <a:lnTo>
                    <a:pt x="89" y="230"/>
                  </a:lnTo>
                  <a:lnTo>
                    <a:pt x="116" y="214"/>
                  </a:lnTo>
                  <a:lnTo>
                    <a:pt x="145" y="198"/>
                  </a:lnTo>
                  <a:lnTo>
                    <a:pt x="178" y="183"/>
                  </a:lnTo>
                  <a:lnTo>
                    <a:pt x="214" y="168"/>
                  </a:lnTo>
                  <a:lnTo>
                    <a:pt x="252" y="154"/>
                  </a:lnTo>
                  <a:lnTo>
                    <a:pt x="293" y="140"/>
                  </a:lnTo>
                  <a:lnTo>
                    <a:pt x="337" y="126"/>
                  </a:lnTo>
                  <a:lnTo>
                    <a:pt x="384" y="113"/>
                  </a:lnTo>
                  <a:lnTo>
                    <a:pt x="432" y="101"/>
                  </a:lnTo>
                  <a:lnTo>
                    <a:pt x="484" y="90"/>
                  </a:lnTo>
                  <a:lnTo>
                    <a:pt x="537" y="79"/>
                  </a:lnTo>
                  <a:lnTo>
                    <a:pt x="594" y="68"/>
                  </a:lnTo>
                  <a:lnTo>
                    <a:pt x="651" y="59"/>
                  </a:lnTo>
                  <a:lnTo>
                    <a:pt x="712" y="50"/>
                  </a:lnTo>
                  <a:lnTo>
                    <a:pt x="774" y="42"/>
                  </a:lnTo>
                  <a:lnTo>
                    <a:pt x="837" y="34"/>
                  </a:lnTo>
                  <a:lnTo>
                    <a:pt x="903" y="27"/>
                  </a:lnTo>
                  <a:lnTo>
                    <a:pt x="969" y="21"/>
                  </a:lnTo>
                  <a:lnTo>
                    <a:pt x="1039" y="15"/>
                  </a:lnTo>
                  <a:lnTo>
                    <a:pt x="1109" y="10"/>
                  </a:lnTo>
                  <a:lnTo>
                    <a:pt x="1181" y="7"/>
                  </a:lnTo>
                  <a:lnTo>
                    <a:pt x="1253" y="4"/>
                  </a:lnTo>
                  <a:lnTo>
                    <a:pt x="1327" y="2"/>
                  </a:lnTo>
                  <a:lnTo>
                    <a:pt x="1403" y="0"/>
                  </a:lnTo>
                  <a:lnTo>
                    <a:pt x="1478" y="0"/>
                  </a:lnTo>
                  <a:lnTo>
                    <a:pt x="1554" y="0"/>
                  </a:lnTo>
                  <a:lnTo>
                    <a:pt x="1630" y="2"/>
                  </a:lnTo>
                  <a:lnTo>
                    <a:pt x="1704" y="4"/>
                  </a:lnTo>
                  <a:lnTo>
                    <a:pt x="1776" y="7"/>
                  </a:lnTo>
                  <a:lnTo>
                    <a:pt x="1848" y="10"/>
                  </a:lnTo>
                  <a:lnTo>
                    <a:pt x="1919" y="15"/>
                  </a:lnTo>
                  <a:lnTo>
                    <a:pt x="1987" y="21"/>
                  </a:lnTo>
                  <a:lnTo>
                    <a:pt x="2054" y="27"/>
                  </a:lnTo>
                  <a:lnTo>
                    <a:pt x="2120" y="34"/>
                  </a:lnTo>
                  <a:lnTo>
                    <a:pt x="2183" y="42"/>
                  </a:lnTo>
                  <a:lnTo>
                    <a:pt x="2245" y="50"/>
                  </a:lnTo>
                  <a:lnTo>
                    <a:pt x="2306" y="59"/>
                  </a:lnTo>
                  <a:lnTo>
                    <a:pt x="2363" y="68"/>
                  </a:lnTo>
                  <a:lnTo>
                    <a:pt x="2420" y="79"/>
                  </a:lnTo>
                  <a:lnTo>
                    <a:pt x="2473" y="90"/>
                  </a:lnTo>
                  <a:lnTo>
                    <a:pt x="2525" y="101"/>
                  </a:lnTo>
                  <a:lnTo>
                    <a:pt x="2573" y="113"/>
                  </a:lnTo>
                  <a:lnTo>
                    <a:pt x="2620" y="126"/>
                  </a:lnTo>
                  <a:lnTo>
                    <a:pt x="2664" y="140"/>
                  </a:lnTo>
                  <a:lnTo>
                    <a:pt x="2706" y="154"/>
                  </a:lnTo>
                  <a:lnTo>
                    <a:pt x="2744" y="168"/>
                  </a:lnTo>
                  <a:lnTo>
                    <a:pt x="2779" y="183"/>
                  </a:lnTo>
                  <a:lnTo>
                    <a:pt x="2812" y="198"/>
                  </a:lnTo>
                  <a:lnTo>
                    <a:pt x="2842" y="214"/>
                  </a:lnTo>
                  <a:lnTo>
                    <a:pt x="2868" y="230"/>
                  </a:lnTo>
                  <a:lnTo>
                    <a:pt x="2891" y="248"/>
                  </a:lnTo>
                  <a:lnTo>
                    <a:pt x="2912" y="265"/>
                  </a:lnTo>
                  <a:lnTo>
                    <a:pt x="2928" y="283"/>
                  </a:lnTo>
                  <a:lnTo>
                    <a:pt x="2941" y="301"/>
                  </a:lnTo>
                  <a:lnTo>
                    <a:pt x="2950" y="319"/>
                  </a:lnTo>
                  <a:lnTo>
                    <a:pt x="2956" y="338"/>
                  </a:lnTo>
                  <a:lnTo>
                    <a:pt x="2958" y="358"/>
                  </a:lnTo>
                  <a:close/>
                </a:path>
              </a:pathLst>
            </a:custGeom>
            <a:solidFill>
              <a:srgbClr val="fb6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85760" y="6515640"/>
              <a:ext cx="324720" cy="86400"/>
            </a:xfrm>
            <a:custGeom>
              <a:avLst/>
              <a:gdLst/>
              <a:ahLst/>
              <a:rect l="l" t="t" r="r" b="b"/>
              <a:pathLst>
                <a:path w="2955" h="731">
                  <a:moveTo>
                    <a:pt x="2955" y="357"/>
                  </a:moveTo>
                  <a:lnTo>
                    <a:pt x="2953" y="376"/>
                  </a:lnTo>
                  <a:lnTo>
                    <a:pt x="2948" y="395"/>
                  </a:lnTo>
                  <a:lnTo>
                    <a:pt x="2938" y="414"/>
                  </a:lnTo>
                  <a:lnTo>
                    <a:pt x="2925" y="432"/>
                  </a:lnTo>
                  <a:lnTo>
                    <a:pt x="2909" y="451"/>
                  </a:lnTo>
                  <a:lnTo>
                    <a:pt x="2888" y="468"/>
                  </a:lnTo>
                  <a:lnTo>
                    <a:pt x="2865" y="486"/>
                  </a:lnTo>
                  <a:lnTo>
                    <a:pt x="2839" y="502"/>
                  </a:lnTo>
                  <a:lnTo>
                    <a:pt x="2810" y="519"/>
                  </a:lnTo>
                  <a:lnTo>
                    <a:pt x="2777" y="535"/>
                  </a:lnTo>
                  <a:lnTo>
                    <a:pt x="2741" y="550"/>
                  </a:lnTo>
                  <a:lnTo>
                    <a:pt x="2703" y="566"/>
                  </a:lnTo>
                  <a:lnTo>
                    <a:pt x="2662" y="581"/>
                  </a:lnTo>
                  <a:lnTo>
                    <a:pt x="2618" y="595"/>
                  </a:lnTo>
                  <a:lnTo>
                    <a:pt x="2571" y="608"/>
                  </a:lnTo>
                  <a:lnTo>
                    <a:pt x="2523" y="621"/>
                  </a:lnTo>
                  <a:lnTo>
                    <a:pt x="2471" y="634"/>
                  </a:lnTo>
                  <a:lnTo>
                    <a:pt x="2418" y="645"/>
                  </a:lnTo>
                  <a:lnTo>
                    <a:pt x="2361" y="656"/>
                  </a:lnTo>
                  <a:lnTo>
                    <a:pt x="2304" y="668"/>
                  </a:lnTo>
                  <a:lnTo>
                    <a:pt x="2244" y="677"/>
                  </a:lnTo>
                  <a:lnTo>
                    <a:pt x="2181" y="686"/>
                  </a:lnTo>
                  <a:lnTo>
                    <a:pt x="2118" y="694"/>
                  </a:lnTo>
                  <a:lnTo>
                    <a:pt x="2053" y="702"/>
                  </a:lnTo>
                  <a:lnTo>
                    <a:pt x="1985" y="708"/>
                  </a:lnTo>
                  <a:lnTo>
                    <a:pt x="1917" y="714"/>
                  </a:lnTo>
                  <a:lnTo>
                    <a:pt x="1847" y="719"/>
                  </a:lnTo>
                  <a:lnTo>
                    <a:pt x="1775" y="723"/>
                  </a:lnTo>
                  <a:lnTo>
                    <a:pt x="1703" y="727"/>
                  </a:lnTo>
                  <a:lnTo>
                    <a:pt x="1629" y="729"/>
                  </a:lnTo>
                  <a:lnTo>
                    <a:pt x="1553" y="730"/>
                  </a:lnTo>
                  <a:lnTo>
                    <a:pt x="1477" y="731"/>
                  </a:lnTo>
                  <a:lnTo>
                    <a:pt x="1402" y="730"/>
                  </a:lnTo>
                  <a:lnTo>
                    <a:pt x="1326" y="729"/>
                  </a:lnTo>
                  <a:lnTo>
                    <a:pt x="1252" y="727"/>
                  </a:lnTo>
                  <a:lnTo>
                    <a:pt x="1180" y="723"/>
                  </a:lnTo>
                  <a:lnTo>
                    <a:pt x="1108" y="719"/>
                  </a:lnTo>
                  <a:lnTo>
                    <a:pt x="1038" y="714"/>
                  </a:lnTo>
                  <a:lnTo>
                    <a:pt x="969" y="708"/>
                  </a:lnTo>
                  <a:lnTo>
                    <a:pt x="903" y="702"/>
                  </a:lnTo>
                  <a:lnTo>
                    <a:pt x="837" y="694"/>
                  </a:lnTo>
                  <a:lnTo>
                    <a:pt x="774" y="686"/>
                  </a:lnTo>
                  <a:lnTo>
                    <a:pt x="711" y="677"/>
                  </a:lnTo>
                  <a:lnTo>
                    <a:pt x="651" y="668"/>
                  </a:lnTo>
                  <a:lnTo>
                    <a:pt x="594" y="656"/>
                  </a:lnTo>
                  <a:lnTo>
                    <a:pt x="537" y="645"/>
                  </a:lnTo>
                  <a:lnTo>
                    <a:pt x="484" y="634"/>
                  </a:lnTo>
                  <a:lnTo>
                    <a:pt x="433" y="621"/>
                  </a:lnTo>
                  <a:lnTo>
                    <a:pt x="384" y="608"/>
                  </a:lnTo>
                  <a:lnTo>
                    <a:pt x="337" y="595"/>
                  </a:lnTo>
                  <a:lnTo>
                    <a:pt x="294" y="581"/>
                  </a:lnTo>
                  <a:lnTo>
                    <a:pt x="252" y="566"/>
                  </a:lnTo>
                  <a:lnTo>
                    <a:pt x="214" y="550"/>
                  </a:lnTo>
                  <a:lnTo>
                    <a:pt x="179" y="535"/>
                  </a:lnTo>
                  <a:lnTo>
                    <a:pt x="145" y="519"/>
                  </a:lnTo>
                  <a:lnTo>
                    <a:pt x="116" y="502"/>
                  </a:lnTo>
                  <a:lnTo>
                    <a:pt x="90" y="486"/>
                  </a:lnTo>
                  <a:lnTo>
                    <a:pt x="67" y="468"/>
                  </a:lnTo>
                  <a:lnTo>
                    <a:pt x="46" y="451"/>
                  </a:lnTo>
                  <a:lnTo>
                    <a:pt x="30" y="432"/>
                  </a:lnTo>
                  <a:lnTo>
                    <a:pt x="17" y="414"/>
                  </a:lnTo>
                  <a:lnTo>
                    <a:pt x="8" y="395"/>
                  </a:lnTo>
                  <a:lnTo>
                    <a:pt x="2" y="376"/>
                  </a:lnTo>
                  <a:lnTo>
                    <a:pt x="0" y="357"/>
                  </a:lnTo>
                  <a:lnTo>
                    <a:pt x="2" y="337"/>
                  </a:lnTo>
                  <a:lnTo>
                    <a:pt x="8" y="318"/>
                  </a:lnTo>
                  <a:lnTo>
                    <a:pt x="17" y="300"/>
                  </a:lnTo>
                  <a:lnTo>
                    <a:pt x="30" y="282"/>
                  </a:lnTo>
                  <a:lnTo>
                    <a:pt x="46" y="265"/>
                  </a:lnTo>
                  <a:lnTo>
                    <a:pt x="67" y="248"/>
                  </a:lnTo>
                  <a:lnTo>
                    <a:pt x="90" y="230"/>
                  </a:lnTo>
                  <a:lnTo>
                    <a:pt x="116" y="214"/>
                  </a:lnTo>
                  <a:lnTo>
                    <a:pt x="145" y="198"/>
                  </a:lnTo>
                  <a:lnTo>
                    <a:pt x="179" y="182"/>
                  </a:lnTo>
                  <a:lnTo>
                    <a:pt x="214" y="168"/>
                  </a:lnTo>
                  <a:lnTo>
                    <a:pt x="252" y="153"/>
                  </a:lnTo>
                  <a:lnTo>
                    <a:pt x="294" y="140"/>
                  </a:lnTo>
                  <a:lnTo>
                    <a:pt x="337" y="125"/>
                  </a:lnTo>
                  <a:lnTo>
                    <a:pt x="384" y="113"/>
                  </a:lnTo>
                  <a:lnTo>
                    <a:pt x="433" y="101"/>
                  </a:lnTo>
                  <a:lnTo>
                    <a:pt x="484" y="89"/>
                  </a:lnTo>
                  <a:lnTo>
                    <a:pt x="537" y="78"/>
                  </a:lnTo>
                  <a:lnTo>
                    <a:pt x="594" y="68"/>
                  </a:lnTo>
                  <a:lnTo>
                    <a:pt x="651" y="59"/>
                  </a:lnTo>
                  <a:lnTo>
                    <a:pt x="711" y="50"/>
                  </a:lnTo>
                  <a:lnTo>
                    <a:pt x="774" y="42"/>
                  </a:lnTo>
                  <a:lnTo>
                    <a:pt x="837" y="34"/>
                  </a:lnTo>
                  <a:lnTo>
                    <a:pt x="903" y="27"/>
                  </a:lnTo>
                  <a:lnTo>
                    <a:pt x="969" y="21"/>
                  </a:lnTo>
                  <a:lnTo>
                    <a:pt x="1038" y="15"/>
                  </a:lnTo>
                  <a:lnTo>
                    <a:pt x="1108" y="10"/>
                  </a:lnTo>
                  <a:lnTo>
                    <a:pt x="1180" y="7"/>
                  </a:lnTo>
                  <a:lnTo>
                    <a:pt x="1252" y="4"/>
                  </a:lnTo>
                  <a:lnTo>
                    <a:pt x="1326" y="2"/>
                  </a:lnTo>
                  <a:lnTo>
                    <a:pt x="1402" y="0"/>
                  </a:lnTo>
                  <a:lnTo>
                    <a:pt x="1477" y="0"/>
                  </a:lnTo>
                  <a:lnTo>
                    <a:pt x="1553" y="0"/>
                  </a:lnTo>
                  <a:lnTo>
                    <a:pt x="1629" y="2"/>
                  </a:lnTo>
                  <a:lnTo>
                    <a:pt x="1703" y="4"/>
                  </a:lnTo>
                  <a:lnTo>
                    <a:pt x="1775" y="7"/>
                  </a:lnTo>
                  <a:lnTo>
                    <a:pt x="1847" y="10"/>
                  </a:lnTo>
                  <a:lnTo>
                    <a:pt x="1917" y="15"/>
                  </a:lnTo>
                  <a:lnTo>
                    <a:pt x="1985" y="21"/>
                  </a:lnTo>
                  <a:lnTo>
                    <a:pt x="2053" y="27"/>
                  </a:lnTo>
                  <a:lnTo>
                    <a:pt x="2118" y="34"/>
                  </a:lnTo>
                  <a:lnTo>
                    <a:pt x="2181" y="42"/>
                  </a:lnTo>
                  <a:lnTo>
                    <a:pt x="2244" y="50"/>
                  </a:lnTo>
                  <a:lnTo>
                    <a:pt x="2304" y="59"/>
                  </a:lnTo>
                  <a:lnTo>
                    <a:pt x="2361" y="68"/>
                  </a:lnTo>
                  <a:lnTo>
                    <a:pt x="2418" y="78"/>
                  </a:lnTo>
                  <a:lnTo>
                    <a:pt x="2471" y="89"/>
                  </a:lnTo>
                  <a:lnTo>
                    <a:pt x="2523" y="101"/>
                  </a:lnTo>
                  <a:lnTo>
                    <a:pt x="2571" y="113"/>
                  </a:lnTo>
                  <a:lnTo>
                    <a:pt x="2618" y="125"/>
                  </a:lnTo>
                  <a:lnTo>
                    <a:pt x="2662" y="140"/>
                  </a:lnTo>
                  <a:lnTo>
                    <a:pt x="2703" y="153"/>
                  </a:lnTo>
                  <a:lnTo>
                    <a:pt x="2741" y="168"/>
                  </a:lnTo>
                  <a:lnTo>
                    <a:pt x="2777" y="182"/>
                  </a:lnTo>
                  <a:lnTo>
                    <a:pt x="2810" y="198"/>
                  </a:lnTo>
                  <a:lnTo>
                    <a:pt x="2839" y="214"/>
                  </a:lnTo>
                  <a:lnTo>
                    <a:pt x="2865" y="230"/>
                  </a:lnTo>
                  <a:lnTo>
                    <a:pt x="2888" y="248"/>
                  </a:lnTo>
                  <a:lnTo>
                    <a:pt x="2909" y="265"/>
                  </a:lnTo>
                  <a:lnTo>
                    <a:pt x="2925" y="282"/>
                  </a:lnTo>
                  <a:lnTo>
                    <a:pt x="2938" y="300"/>
                  </a:lnTo>
                  <a:lnTo>
                    <a:pt x="2948" y="318"/>
                  </a:lnTo>
                  <a:lnTo>
                    <a:pt x="2953" y="337"/>
                  </a:lnTo>
                  <a:lnTo>
                    <a:pt x="2955" y="357"/>
                  </a:lnTo>
                  <a:close/>
                </a:path>
              </a:pathLst>
            </a:custGeom>
            <a:solidFill>
              <a:srgbClr val="fb6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85760" y="6515640"/>
              <a:ext cx="324720" cy="86400"/>
            </a:xfrm>
            <a:custGeom>
              <a:avLst/>
              <a:gdLst/>
              <a:ahLst/>
              <a:rect l="l" t="t" r="r" b="b"/>
              <a:pathLst>
                <a:path w="2953" h="729">
                  <a:moveTo>
                    <a:pt x="2953" y="356"/>
                  </a:moveTo>
                  <a:lnTo>
                    <a:pt x="2951" y="375"/>
                  </a:lnTo>
                  <a:lnTo>
                    <a:pt x="2945" y="394"/>
                  </a:lnTo>
                  <a:lnTo>
                    <a:pt x="2936" y="413"/>
                  </a:lnTo>
                  <a:lnTo>
                    <a:pt x="2923" y="431"/>
                  </a:lnTo>
                  <a:lnTo>
                    <a:pt x="2907" y="450"/>
                  </a:lnTo>
                  <a:lnTo>
                    <a:pt x="2886" y="467"/>
                  </a:lnTo>
                  <a:lnTo>
                    <a:pt x="2863" y="484"/>
                  </a:lnTo>
                  <a:lnTo>
                    <a:pt x="2837" y="501"/>
                  </a:lnTo>
                  <a:lnTo>
                    <a:pt x="2808" y="518"/>
                  </a:lnTo>
                  <a:lnTo>
                    <a:pt x="2774" y="534"/>
                  </a:lnTo>
                  <a:lnTo>
                    <a:pt x="2739" y="549"/>
                  </a:lnTo>
                  <a:lnTo>
                    <a:pt x="2701" y="565"/>
                  </a:lnTo>
                  <a:lnTo>
                    <a:pt x="2659" y="580"/>
                  </a:lnTo>
                  <a:lnTo>
                    <a:pt x="2616" y="593"/>
                  </a:lnTo>
                  <a:lnTo>
                    <a:pt x="2569" y="607"/>
                  </a:lnTo>
                  <a:lnTo>
                    <a:pt x="2521" y="620"/>
                  </a:lnTo>
                  <a:lnTo>
                    <a:pt x="2469" y="632"/>
                  </a:lnTo>
                  <a:lnTo>
                    <a:pt x="2416" y="644"/>
                  </a:lnTo>
                  <a:lnTo>
                    <a:pt x="2360" y="655"/>
                  </a:lnTo>
                  <a:lnTo>
                    <a:pt x="2302" y="666"/>
                  </a:lnTo>
                  <a:lnTo>
                    <a:pt x="2242" y="676"/>
                  </a:lnTo>
                  <a:lnTo>
                    <a:pt x="2180" y="684"/>
                  </a:lnTo>
                  <a:lnTo>
                    <a:pt x="2117" y="693"/>
                  </a:lnTo>
                  <a:lnTo>
                    <a:pt x="2051" y="700"/>
                  </a:lnTo>
                  <a:lnTo>
                    <a:pt x="1984" y="707"/>
                  </a:lnTo>
                  <a:lnTo>
                    <a:pt x="1916" y="712"/>
                  </a:lnTo>
                  <a:lnTo>
                    <a:pt x="1845" y="717"/>
                  </a:lnTo>
                  <a:lnTo>
                    <a:pt x="1774" y="722"/>
                  </a:lnTo>
                  <a:lnTo>
                    <a:pt x="1702" y="725"/>
                  </a:lnTo>
                  <a:lnTo>
                    <a:pt x="1628" y="727"/>
                  </a:lnTo>
                  <a:lnTo>
                    <a:pt x="1552" y="729"/>
                  </a:lnTo>
                  <a:lnTo>
                    <a:pt x="1476" y="729"/>
                  </a:lnTo>
                  <a:lnTo>
                    <a:pt x="1401" y="729"/>
                  </a:lnTo>
                  <a:lnTo>
                    <a:pt x="1326" y="727"/>
                  </a:lnTo>
                  <a:lnTo>
                    <a:pt x="1251" y="725"/>
                  </a:lnTo>
                  <a:lnTo>
                    <a:pt x="1179" y="722"/>
                  </a:lnTo>
                  <a:lnTo>
                    <a:pt x="1108" y="717"/>
                  </a:lnTo>
                  <a:lnTo>
                    <a:pt x="1037" y="712"/>
                  </a:lnTo>
                  <a:lnTo>
                    <a:pt x="968" y="707"/>
                  </a:lnTo>
                  <a:lnTo>
                    <a:pt x="902" y="700"/>
                  </a:lnTo>
                  <a:lnTo>
                    <a:pt x="836" y="693"/>
                  </a:lnTo>
                  <a:lnTo>
                    <a:pt x="773" y="684"/>
                  </a:lnTo>
                  <a:lnTo>
                    <a:pt x="711" y="676"/>
                  </a:lnTo>
                  <a:lnTo>
                    <a:pt x="651" y="666"/>
                  </a:lnTo>
                  <a:lnTo>
                    <a:pt x="594" y="655"/>
                  </a:lnTo>
                  <a:lnTo>
                    <a:pt x="537" y="644"/>
                  </a:lnTo>
                  <a:lnTo>
                    <a:pt x="484" y="632"/>
                  </a:lnTo>
                  <a:lnTo>
                    <a:pt x="433" y="620"/>
                  </a:lnTo>
                  <a:lnTo>
                    <a:pt x="384" y="607"/>
                  </a:lnTo>
                  <a:lnTo>
                    <a:pt x="337" y="593"/>
                  </a:lnTo>
                  <a:lnTo>
                    <a:pt x="294" y="580"/>
                  </a:lnTo>
                  <a:lnTo>
                    <a:pt x="252" y="565"/>
                  </a:lnTo>
                  <a:lnTo>
                    <a:pt x="214" y="549"/>
                  </a:lnTo>
                  <a:lnTo>
                    <a:pt x="179" y="534"/>
                  </a:lnTo>
                  <a:lnTo>
                    <a:pt x="146" y="518"/>
                  </a:lnTo>
                  <a:lnTo>
                    <a:pt x="116" y="501"/>
                  </a:lnTo>
                  <a:lnTo>
                    <a:pt x="90" y="484"/>
                  </a:lnTo>
                  <a:lnTo>
                    <a:pt x="67" y="467"/>
                  </a:lnTo>
                  <a:lnTo>
                    <a:pt x="46" y="450"/>
                  </a:lnTo>
                  <a:lnTo>
                    <a:pt x="30" y="431"/>
                  </a:lnTo>
                  <a:lnTo>
                    <a:pt x="17" y="413"/>
                  </a:lnTo>
                  <a:lnTo>
                    <a:pt x="8" y="394"/>
                  </a:lnTo>
                  <a:lnTo>
                    <a:pt x="2" y="375"/>
                  </a:lnTo>
                  <a:lnTo>
                    <a:pt x="0" y="356"/>
                  </a:lnTo>
                  <a:lnTo>
                    <a:pt x="2" y="336"/>
                  </a:lnTo>
                  <a:lnTo>
                    <a:pt x="8" y="318"/>
                  </a:lnTo>
                  <a:lnTo>
                    <a:pt x="17" y="299"/>
                  </a:lnTo>
                  <a:lnTo>
                    <a:pt x="30" y="281"/>
                  </a:lnTo>
                  <a:lnTo>
                    <a:pt x="46" y="264"/>
                  </a:lnTo>
                  <a:lnTo>
                    <a:pt x="67" y="247"/>
                  </a:lnTo>
                  <a:lnTo>
                    <a:pt x="90" y="229"/>
                  </a:lnTo>
                  <a:lnTo>
                    <a:pt x="116" y="213"/>
                  </a:lnTo>
                  <a:lnTo>
                    <a:pt x="146" y="197"/>
                  </a:lnTo>
                  <a:lnTo>
                    <a:pt x="179" y="182"/>
                  </a:lnTo>
                  <a:lnTo>
                    <a:pt x="214" y="167"/>
                  </a:lnTo>
                  <a:lnTo>
                    <a:pt x="252" y="153"/>
                  </a:lnTo>
                  <a:lnTo>
                    <a:pt x="294" y="139"/>
                  </a:lnTo>
                  <a:lnTo>
                    <a:pt x="337" y="126"/>
                  </a:lnTo>
                  <a:lnTo>
                    <a:pt x="384" y="112"/>
                  </a:lnTo>
                  <a:lnTo>
                    <a:pt x="433" y="100"/>
                  </a:lnTo>
                  <a:lnTo>
                    <a:pt x="484" y="89"/>
                  </a:lnTo>
                  <a:lnTo>
                    <a:pt x="537" y="78"/>
                  </a:lnTo>
                  <a:lnTo>
                    <a:pt x="594" y="68"/>
                  </a:lnTo>
                  <a:lnTo>
                    <a:pt x="651" y="58"/>
                  </a:lnTo>
                  <a:lnTo>
                    <a:pt x="711" y="50"/>
                  </a:lnTo>
                  <a:lnTo>
                    <a:pt x="773" y="41"/>
                  </a:lnTo>
                  <a:lnTo>
                    <a:pt x="836" y="34"/>
                  </a:lnTo>
                  <a:lnTo>
                    <a:pt x="902" y="27"/>
                  </a:lnTo>
                  <a:lnTo>
                    <a:pt x="968" y="21"/>
                  </a:lnTo>
                  <a:lnTo>
                    <a:pt x="1037" y="15"/>
                  </a:lnTo>
                  <a:lnTo>
                    <a:pt x="1108" y="10"/>
                  </a:lnTo>
                  <a:lnTo>
                    <a:pt x="1179" y="6"/>
                  </a:lnTo>
                  <a:lnTo>
                    <a:pt x="1251" y="4"/>
                  </a:lnTo>
                  <a:lnTo>
                    <a:pt x="1326" y="1"/>
                  </a:lnTo>
                  <a:lnTo>
                    <a:pt x="1401" y="0"/>
                  </a:lnTo>
                  <a:lnTo>
                    <a:pt x="1476" y="0"/>
                  </a:lnTo>
                  <a:lnTo>
                    <a:pt x="1552" y="0"/>
                  </a:lnTo>
                  <a:lnTo>
                    <a:pt x="1628" y="1"/>
                  </a:lnTo>
                  <a:lnTo>
                    <a:pt x="1702" y="4"/>
                  </a:lnTo>
                  <a:lnTo>
                    <a:pt x="1774" y="6"/>
                  </a:lnTo>
                  <a:lnTo>
                    <a:pt x="1845" y="10"/>
                  </a:lnTo>
                  <a:lnTo>
                    <a:pt x="1916" y="15"/>
                  </a:lnTo>
                  <a:lnTo>
                    <a:pt x="1984" y="21"/>
                  </a:lnTo>
                  <a:lnTo>
                    <a:pt x="2051" y="27"/>
                  </a:lnTo>
                  <a:lnTo>
                    <a:pt x="2117" y="34"/>
                  </a:lnTo>
                  <a:lnTo>
                    <a:pt x="2180" y="41"/>
                  </a:lnTo>
                  <a:lnTo>
                    <a:pt x="2242" y="50"/>
                  </a:lnTo>
                  <a:lnTo>
                    <a:pt x="2302" y="58"/>
                  </a:lnTo>
                  <a:lnTo>
                    <a:pt x="2360" y="68"/>
                  </a:lnTo>
                  <a:lnTo>
                    <a:pt x="2416" y="78"/>
                  </a:lnTo>
                  <a:lnTo>
                    <a:pt x="2469" y="89"/>
                  </a:lnTo>
                  <a:lnTo>
                    <a:pt x="2521" y="100"/>
                  </a:lnTo>
                  <a:lnTo>
                    <a:pt x="2569" y="112"/>
                  </a:lnTo>
                  <a:lnTo>
                    <a:pt x="2616" y="126"/>
                  </a:lnTo>
                  <a:lnTo>
                    <a:pt x="2659" y="139"/>
                  </a:lnTo>
                  <a:lnTo>
                    <a:pt x="2701" y="153"/>
                  </a:lnTo>
                  <a:lnTo>
                    <a:pt x="2739" y="167"/>
                  </a:lnTo>
                  <a:lnTo>
                    <a:pt x="2774" y="182"/>
                  </a:lnTo>
                  <a:lnTo>
                    <a:pt x="2808" y="197"/>
                  </a:lnTo>
                  <a:lnTo>
                    <a:pt x="2837" y="213"/>
                  </a:lnTo>
                  <a:lnTo>
                    <a:pt x="2863" y="229"/>
                  </a:lnTo>
                  <a:lnTo>
                    <a:pt x="2886" y="247"/>
                  </a:lnTo>
                  <a:lnTo>
                    <a:pt x="2907" y="264"/>
                  </a:lnTo>
                  <a:lnTo>
                    <a:pt x="2923" y="281"/>
                  </a:lnTo>
                  <a:lnTo>
                    <a:pt x="2936" y="299"/>
                  </a:lnTo>
                  <a:lnTo>
                    <a:pt x="2945" y="318"/>
                  </a:lnTo>
                  <a:lnTo>
                    <a:pt x="2951" y="336"/>
                  </a:lnTo>
                  <a:lnTo>
                    <a:pt x="2953" y="356"/>
                  </a:lnTo>
                  <a:close/>
                </a:path>
              </a:pathLst>
            </a:custGeom>
            <a:solidFill>
              <a:srgbClr val="fb6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85760" y="6515640"/>
              <a:ext cx="324720" cy="86400"/>
            </a:xfrm>
            <a:custGeom>
              <a:avLst/>
              <a:gdLst/>
              <a:ahLst/>
              <a:rect l="l" t="t" r="r" b="b"/>
              <a:pathLst>
                <a:path w="2949" h="727">
                  <a:moveTo>
                    <a:pt x="2949" y="355"/>
                  </a:moveTo>
                  <a:lnTo>
                    <a:pt x="2947" y="374"/>
                  </a:lnTo>
                  <a:lnTo>
                    <a:pt x="2942" y="393"/>
                  </a:lnTo>
                  <a:lnTo>
                    <a:pt x="2933" y="411"/>
                  </a:lnTo>
                  <a:lnTo>
                    <a:pt x="2920" y="430"/>
                  </a:lnTo>
                  <a:lnTo>
                    <a:pt x="2903" y="448"/>
                  </a:lnTo>
                  <a:lnTo>
                    <a:pt x="2883" y="466"/>
                  </a:lnTo>
                  <a:lnTo>
                    <a:pt x="2860" y="483"/>
                  </a:lnTo>
                  <a:lnTo>
                    <a:pt x="2834" y="500"/>
                  </a:lnTo>
                  <a:lnTo>
                    <a:pt x="2804" y="516"/>
                  </a:lnTo>
                  <a:lnTo>
                    <a:pt x="2771" y="532"/>
                  </a:lnTo>
                  <a:lnTo>
                    <a:pt x="2736" y="548"/>
                  </a:lnTo>
                  <a:lnTo>
                    <a:pt x="2697" y="563"/>
                  </a:lnTo>
                  <a:lnTo>
                    <a:pt x="2656" y="578"/>
                  </a:lnTo>
                  <a:lnTo>
                    <a:pt x="2613" y="592"/>
                  </a:lnTo>
                  <a:lnTo>
                    <a:pt x="2566" y="605"/>
                  </a:lnTo>
                  <a:lnTo>
                    <a:pt x="2518" y="618"/>
                  </a:lnTo>
                  <a:lnTo>
                    <a:pt x="2466" y="630"/>
                  </a:lnTo>
                  <a:lnTo>
                    <a:pt x="2413" y="642"/>
                  </a:lnTo>
                  <a:lnTo>
                    <a:pt x="2357" y="653"/>
                  </a:lnTo>
                  <a:lnTo>
                    <a:pt x="2300" y="664"/>
                  </a:lnTo>
                  <a:lnTo>
                    <a:pt x="2239" y="674"/>
                  </a:lnTo>
                  <a:lnTo>
                    <a:pt x="2177" y="683"/>
                  </a:lnTo>
                  <a:lnTo>
                    <a:pt x="2114" y="691"/>
                  </a:lnTo>
                  <a:lnTo>
                    <a:pt x="2048" y="698"/>
                  </a:lnTo>
                  <a:lnTo>
                    <a:pt x="1981" y="705"/>
                  </a:lnTo>
                  <a:lnTo>
                    <a:pt x="1913" y="711"/>
                  </a:lnTo>
                  <a:lnTo>
                    <a:pt x="1843" y="716"/>
                  </a:lnTo>
                  <a:lnTo>
                    <a:pt x="1771" y="720"/>
                  </a:lnTo>
                  <a:lnTo>
                    <a:pt x="1699" y="723"/>
                  </a:lnTo>
                  <a:lnTo>
                    <a:pt x="1625" y="725"/>
                  </a:lnTo>
                  <a:lnTo>
                    <a:pt x="1550" y="727"/>
                  </a:lnTo>
                  <a:lnTo>
                    <a:pt x="1474" y="727"/>
                  </a:lnTo>
                  <a:lnTo>
                    <a:pt x="1399" y="727"/>
                  </a:lnTo>
                  <a:lnTo>
                    <a:pt x="1324" y="725"/>
                  </a:lnTo>
                  <a:lnTo>
                    <a:pt x="1250" y="723"/>
                  </a:lnTo>
                  <a:lnTo>
                    <a:pt x="1178" y="720"/>
                  </a:lnTo>
                  <a:lnTo>
                    <a:pt x="1106" y="716"/>
                  </a:lnTo>
                  <a:lnTo>
                    <a:pt x="1036" y="711"/>
                  </a:lnTo>
                  <a:lnTo>
                    <a:pt x="967" y="705"/>
                  </a:lnTo>
                  <a:lnTo>
                    <a:pt x="901" y="698"/>
                  </a:lnTo>
                  <a:lnTo>
                    <a:pt x="835" y="691"/>
                  </a:lnTo>
                  <a:lnTo>
                    <a:pt x="772" y="683"/>
                  </a:lnTo>
                  <a:lnTo>
                    <a:pt x="710" y="674"/>
                  </a:lnTo>
                  <a:lnTo>
                    <a:pt x="650" y="664"/>
                  </a:lnTo>
                  <a:lnTo>
                    <a:pt x="592" y="653"/>
                  </a:lnTo>
                  <a:lnTo>
                    <a:pt x="536" y="642"/>
                  </a:lnTo>
                  <a:lnTo>
                    <a:pt x="483" y="630"/>
                  </a:lnTo>
                  <a:lnTo>
                    <a:pt x="432" y="618"/>
                  </a:lnTo>
                  <a:lnTo>
                    <a:pt x="383" y="605"/>
                  </a:lnTo>
                  <a:lnTo>
                    <a:pt x="336" y="592"/>
                  </a:lnTo>
                  <a:lnTo>
                    <a:pt x="293" y="578"/>
                  </a:lnTo>
                  <a:lnTo>
                    <a:pt x="251" y="563"/>
                  </a:lnTo>
                  <a:lnTo>
                    <a:pt x="213" y="548"/>
                  </a:lnTo>
                  <a:lnTo>
                    <a:pt x="178" y="532"/>
                  </a:lnTo>
                  <a:lnTo>
                    <a:pt x="145" y="516"/>
                  </a:lnTo>
                  <a:lnTo>
                    <a:pt x="116" y="500"/>
                  </a:lnTo>
                  <a:lnTo>
                    <a:pt x="89" y="483"/>
                  </a:lnTo>
                  <a:lnTo>
                    <a:pt x="66" y="466"/>
                  </a:lnTo>
                  <a:lnTo>
                    <a:pt x="46" y="448"/>
                  </a:lnTo>
                  <a:lnTo>
                    <a:pt x="29" y="430"/>
                  </a:lnTo>
                  <a:lnTo>
                    <a:pt x="17" y="411"/>
                  </a:lnTo>
                  <a:lnTo>
                    <a:pt x="7" y="393"/>
                  </a:lnTo>
                  <a:lnTo>
                    <a:pt x="2" y="374"/>
                  </a:lnTo>
                  <a:lnTo>
                    <a:pt x="0" y="355"/>
                  </a:lnTo>
                  <a:lnTo>
                    <a:pt x="2" y="335"/>
                  </a:lnTo>
                  <a:lnTo>
                    <a:pt x="7" y="317"/>
                  </a:lnTo>
                  <a:lnTo>
                    <a:pt x="17" y="298"/>
                  </a:lnTo>
                  <a:lnTo>
                    <a:pt x="29" y="281"/>
                  </a:lnTo>
                  <a:lnTo>
                    <a:pt x="46" y="263"/>
                  </a:lnTo>
                  <a:lnTo>
                    <a:pt x="66" y="246"/>
                  </a:lnTo>
                  <a:lnTo>
                    <a:pt x="89" y="228"/>
                  </a:lnTo>
                  <a:lnTo>
                    <a:pt x="116" y="212"/>
                  </a:lnTo>
                  <a:lnTo>
                    <a:pt x="145" y="197"/>
                  </a:lnTo>
                  <a:lnTo>
                    <a:pt x="178" y="181"/>
                  </a:lnTo>
                  <a:lnTo>
                    <a:pt x="213" y="167"/>
                  </a:lnTo>
                  <a:lnTo>
                    <a:pt x="251" y="152"/>
                  </a:lnTo>
                  <a:lnTo>
                    <a:pt x="293" y="139"/>
                  </a:lnTo>
                  <a:lnTo>
                    <a:pt x="336" y="126"/>
                  </a:lnTo>
                  <a:lnTo>
                    <a:pt x="383" y="112"/>
                  </a:lnTo>
                  <a:lnTo>
                    <a:pt x="432" y="100"/>
                  </a:lnTo>
                  <a:lnTo>
                    <a:pt x="483" y="89"/>
                  </a:lnTo>
                  <a:lnTo>
                    <a:pt x="536" y="78"/>
                  </a:lnTo>
                  <a:lnTo>
                    <a:pt x="592" y="68"/>
                  </a:lnTo>
                  <a:lnTo>
                    <a:pt x="650" y="58"/>
                  </a:lnTo>
                  <a:lnTo>
                    <a:pt x="710" y="49"/>
                  </a:lnTo>
                  <a:lnTo>
                    <a:pt x="772" y="41"/>
                  </a:lnTo>
                  <a:lnTo>
                    <a:pt x="835" y="34"/>
                  </a:lnTo>
                  <a:lnTo>
                    <a:pt x="901" y="27"/>
                  </a:lnTo>
                  <a:lnTo>
                    <a:pt x="967" y="21"/>
                  </a:lnTo>
                  <a:lnTo>
                    <a:pt x="1036" y="15"/>
                  </a:lnTo>
                  <a:lnTo>
                    <a:pt x="1106" y="10"/>
                  </a:lnTo>
                  <a:lnTo>
                    <a:pt x="1178" y="6"/>
                  </a:lnTo>
                  <a:lnTo>
                    <a:pt x="1250" y="4"/>
                  </a:lnTo>
                  <a:lnTo>
                    <a:pt x="1324" y="1"/>
                  </a:lnTo>
                  <a:lnTo>
                    <a:pt x="1399" y="0"/>
                  </a:lnTo>
                  <a:lnTo>
                    <a:pt x="1474" y="0"/>
                  </a:lnTo>
                  <a:lnTo>
                    <a:pt x="1550" y="0"/>
                  </a:lnTo>
                  <a:lnTo>
                    <a:pt x="1625" y="1"/>
                  </a:lnTo>
                  <a:lnTo>
                    <a:pt x="1699" y="4"/>
                  </a:lnTo>
                  <a:lnTo>
                    <a:pt x="1771" y="6"/>
                  </a:lnTo>
                  <a:lnTo>
                    <a:pt x="1843" y="10"/>
                  </a:lnTo>
                  <a:lnTo>
                    <a:pt x="1913" y="15"/>
                  </a:lnTo>
                  <a:lnTo>
                    <a:pt x="1981" y="21"/>
                  </a:lnTo>
                  <a:lnTo>
                    <a:pt x="2048" y="27"/>
                  </a:lnTo>
                  <a:lnTo>
                    <a:pt x="2114" y="34"/>
                  </a:lnTo>
                  <a:lnTo>
                    <a:pt x="2177" y="41"/>
                  </a:lnTo>
                  <a:lnTo>
                    <a:pt x="2239" y="49"/>
                  </a:lnTo>
                  <a:lnTo>
                    <a:pt x="2300" y="58"/>
                  </a:lnTo>
                  <a:lnTo>
                    <a:pt x="2357" y="68"/>
                  </a:lnTo>
                  <a:lnTo>
                    <a:pt x="2413" y="78"/>
                  </a:lnTo>
                  <a:lnTo>
                    <a:pt x="2466" y="89"/>
                  </a:lnTo>
                  <a:lnTo>
                    <a:pt x="2518" y="100"/>
                  </a:lnTo>
                  <a:lnTo>
                    <a:pt x="2566" y="112"/>
                  </a:lnTo>
                  <a:lnTo>
                    <a:pt x="2613" y="126"/>
                  </a:lnTo>
                  <a:lnTo>
                    <a:pt x="2656" y="139"/>
                  </a:lnTo>
                  <a:lnTo>
                    <a:pt x="2697" y="152"/>
                  </a:lnTo>
                  <a:lnTo>
                    <a:pt x="2736" y="167"/>
                  </a:lnTo>
                  <a:lnTo>
                    <a:pt x="2771" y="181"/>
                  </a:lnTo>
                  <a:lnTo>
                    <a:pt x="2804" y="197"/>
                  </a:lnTo>
                  <a:lnTo>
                    <a:pt x="2834" y="212"/>
                  </a:lnTo>
                  <a:lnTo>
                    <a:pt x="2860" y="228"/>
                  </a:lnTo>
                  <a:lnTo>
                    <a:pt x="2883" y="246"/>
                  </a:lnTo>
                  <a:lnTo>
                    <a:pt x="2903" y="263"/>
                  </a:lnTo>
                  <a:lnTo>
                    <a:pt x="2920" y="281"/>
                  </a:lnTo>
                  <a:lnTo>
                    <a:pt x="2933" y="298"/>
                  </a:lnTo>
                  <a:lnTo>
                    <a:pt x="2942" y="317"/>
                  </a:lnTo>
                  <a:lnTo>
                    <a:pt x="2947" y="335"/>
                  </a:lnTo>
                  <a:lnTo>
                    <a:pt x="2949" y="355"/>
                  </a:lnTo>
                  <a:close/>
                </a:path>
              </a:pathLst>
            </a:custGeom>
            <a:solidFill>
              <a:srgbClr val="fb6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85760" y="6515640"/>
              <a:ext cx="324720" cy="86400"/>
            </a:xfrm>
            <a:custGeom>
              <a:avLst/>
              <a:gdLst/>
              <a:ahLst/>
              <a:rect l="l" t="t" r="r" b="b"/>
              <a:pathLst>
                <a:path w="2947" h="725">
                  <a:moveTo>
                    <a:pt x="2947" y="354"/>
                  </a:moveTo>
                  <a:lnTo>
                    <a:pt x="2945" y="373"/>
                  </a:lnTo>
                  <a:lnTo>
                    <a:pt x="2939" y="392"/>
                  </a:lnTo>
                  <a:lnTo>
                    <a:pt x="2930" y="410"/>
                  </a:lnTo>
                  <a:lnTo>
                    <a:pt x="2917" y="428"/>
                  </a:lnTo>
                  <a:lnTo>
                    <a:pt x="2901" y="447"/>
                  </a:lnTo>
                  <a:lnTo>
                    <a:pt x="2880" y="465"/>
                  </a:lnTo>
                  <a:lnTo>
                    <a:pt x="2857" y="482"/>
                  </a:lnTo>
                  <a:lnTo>
                    <a:pt x="2831" y="498"/>
                  </a:lnTo>
                  <a:lnTo>
                    <a:pt x="2802" y="515"/>
                  </a:lnTo>
                  <a:lnTo>
                    <a:pt x="2769" y="531"/>
                  </a:lnTo>
                  <a:lnTo>
                    <a:pt x="2734" y="546"/>
                  </a:lnTo>
                  <a:lnTo>
                    <a:pt x="2695" y="562"/>
                  </a:lnTo>
                  <a:lnTo>
                    <a:pt x="2654" y="576"/>
                  </a:lnTo>
                  <a:lnTo>
                    <a:pt x="2611" y="590"/>
                  </a:lnTo>
                  <a:lnTo>
                    <a:pt x="2564" y="604"/>
                  </a:lnTo>
                  <a:lnTo>
                    <a:pt x="2516" y="616"/>
                  </a:lnTo>
                  <a:lnTo>
                    <a:pt x="2464" y="629"/>
                  </a:lnTo>
                  <a:lnTo>
                    <a:pt x="2411" y="640"/>
                  </a:lnTo>
                  <a:lnTo>
                    <a:pt x="2355" y="651"/>
                  </a:lnTo>
                  <a:lnTo>
                    <a:pt x="2298" y="662"/>
                  </a:lnTo>
                  <a:lnTo>
                    <a:pt x="2238" y="672"/>
                  </a:lnTo>
                  <a:lnTo>
                    <a:pt x="2175" y="681"/>
                  </a:lnTo>
                  <a:lnTo>
                    <a:pt x="2113" y="689"/>
                  </a:lnTo>
                  <a:lnTo>
                    <a:pt x="2047" y="696"/>
                  </a:lnTo>
                  <a:lnTo>
                    <a:pt x="1980" y="703"/>
                  </a:lnTo>
                  <a:lnTo>
                    <a:pt x="1912" y="709"/>
                  </a:lnTo>
                  <a:lnTo>
                    <a:pt x="1842" y="714"/>
                  </a:lnTo>
                  <a:lnTo>
                    <a:pt x="1770" y="718"/>
                  </a:lnTo>
                  <a:lnTo>
                    <a:pt x="1698" y="721"/>
                  </a:lnTo>
                  <a:lnTo>
                    <a:pt x="1624" y="723"/>
                  </a:lnTo>
                  <a:lnTo>
                    <a:pt x="1549" y="725"/>
                  </a:lnTo>
                  <a:lnTo>
                    <a:pt x="1473" y="725"/>
                  </a:lnTo>
                  <a:lnTo>
                    <a:pt x="1398" y="725"/>
                  </a:lnTo>
                  <a:lnTo>
                    <a:pt x="1323" y="723"/>
                  </a:lnTo>
                  <a:lnTo>
                    <a:pt x="1249" y="721"/>
                  </a:lnTo>
                  <a:lnTo>
                    <a:pt x="1177" y="718"/>
                  </a:lnTo>
                  <a:lnTo>
                    <a:pt x="1105" y="714"/>
                  </a:lnTo>
                  <a:lnTo>
                    <a:pt x="1035" y="709"/>
                  </a:lnTo>
                  <a:lnTo>
                    <a:pt x="966" y="703"/>
                  </a:lnTo>
                  <a:lnTo>
                    <a:pt x="900" y="696"/>
                  </a:lnTo>
                  <a:lnTo>
                    <a:pt x="835" y="689"/>
                  </a:lnTo>
                  <a:lnTo>
                    <a:pt x="772" y="681"/>
                  </a:lnTo>
                  <a:lnTo>
                    <a:pt x="710" y="672"/>
                  </a:lnTo>
                  <a:lnTo>
                    <a:pt x="649" y="662"/>
                  </a:lnTo>
                  <a:lnTo>
                    <a:pt x="592" y="651"/>
                  </a:lnTo>
                  <a:lnTo>
                    <a:pt x="536" y="640"/>
                  </a:lnTo>
                  <a:lnTo>
                    <a:pt x="483" y="629"/>
                  </a:lnTo>
                  <a:lnTo>
                    <a:pt x="432" y="616"/>
                  </a:lnTo>
                  <a:lnTo>
                    <a:pt x="383" y="604"/>
                  </a:lnTo>
                  <a:lnTo>
                    <a:pt x="336" y="590"/>
                  </a:lnTo>
                  <a:lnTo>
                    <a:pt x="293" y="576"/>
                  </a:lnTo>
                  <a:lnTo>
                    <a:pt x="251" y="562"/>
                  </a:lnTo>
                  <a:lnTo>
                    <a:pt x="213" y="546"/>
                  </a:lnTo>
                  <a:lnTo>
                    <a:pt x="178" y="531"/>
                  </a:lnTo>
                  <a:lnTo>
                    <a:pt x="145" y="515"/>
                  </a:lnTo>
                  <a:lnTo>
                    <a:pt x="116" y="498"/>
                  </a:lnTo>
                  <a:lnTo>
                    <a:pt x="90" y="482"/>
                  </a:lnTo>
                  <a:lnTo>
                    <a:pt x="67" y="465"/>
                  </a:lnTo>
                  <a:lnTo>
                    <a:pt x="46" y="447"/>
                  </a:lnTo>
                  <a:lnTo>
                    <a:pt x="30" y="428"/>
                  </a:lnTo>
                  <a:lnTo>
                    <a:pt x="17" y="410"/>
                  </a:lnTo>
                  <a:lnTo>
                    <a:pt x="8" y="392"/>
                  </a:lnTo>
                  <a:lnTo>
                    <a:pt x="2" y="373"/>
                  </a:lnTo>
                  <a:lnTo>
                    <a:pt x="0" y="354"/>
                  </a:lnTo>
                  <a:lnTo>
                    <a:pt x="2" y="334"/>
                  </a:lnTo>
                  <a:lnTo>
                    <a:pt x="8" y="316"/>
                  </a:lnTo>
                  <a:lnTo>
                    <a:pt x="17" y="298"/>
                  </a:lnTo>
                  <a:lnTo>
                    <a:pt x="30" y="280"/>
                  </a:lnTo>
                  <a:lnTo>
                    <a:pt x="46" y="262"/>
                  </a:lnTo>
                  <a:lnTo>
                    <a:pt x="67" y="245"/>
                  </a:lnTo>
                  <a:lnTo>
                    <a:pt x="90" y="228"/>
                  </a:lnTo>
                  <a:lnTo>
                    <a:pt x="116" y="212"/>
                  </a:lnTo>
                  <a:lnTo>
                    <a:pt x="145" y="196"/>
                  </a:lnTo>
                  <a:lnTo>
                    <a:pt x="178" y="181"/>
                  </a:lnTo>
                  <a:lnTo>
                    <a:pt x="213" y="166"/>
                  </a:lnTo>
                  <a:lnTo>
                    <a:pt x="251" y="152"/>
                  </a:lnTo>
                  <a:lnTo>
                    <a:pt x="293" y="138"/>
                  </a:lnTo>
                  <a:lnTo>
                    <a:pt x="336" y="125"/>
                  </a:lnTo>
                  <a:lnTo>
                    <a:pt x="383" y="112"/>
                  </a:lnTo>
                  <a:lnTo>
                    <a:pt x="432" y="100"/>
                  </a:lnTo>
                  <a:lnTo>
                    <a:pt x="483" y="88"/>
                  </a:lnTo>
                  <a:lnTo>
                    <a:pt x="536" y="78"/>
                  </a:lnTo>
                  <a:lnTo>
                    <a:pt x="592" y="67"/>
                  </a:lnTo>
                  <a:lnTo>
                    <a:pt x="649" y="58"/>
                  </a:lnTo>
                  <a:lnTo>
                    <a:pt x="710" y="49"/>
                  </a:lnTo>
                  <a:lnTo>
                    <a:pt x="772" y="41"/>
                  </a:lnTo>
                  <a:lnTo>
                    <a:pt x="835" y="34"/>
                  </a:lnTo>
                  <a:lnTo>
                    <a:pt x="900" y="27"/>
                  </a:lnTo>
                  <a:lnTo>
                    <a:pt x="966" y="21"/>
                  </a:lnTo>
                  <a:lnTo>
                    <a:pt x="1035" y="15"/>
                  </a:lnTo>
                  <a:lnTo>
                    <a:pt x="1105" y="10"/>
                  </a:lnTo>
                  <a:lnTo>
                    <a:pt x="1177" y="6"/>
                  </a:lnTo>
                  <a:lnTo>
                    <a:pt x="1249" y="3"/>
                  </a:lnTo>
                  <a:lnTo>
                    <a:pt x="1323" y="1"/>
                  </a:lnTo>
                  <a:lnTo>
                    <a:pt x="1398" y="0"/>
                  </a:lnTo>
                  <a:lnTo>
                    <a:pt x="1473" y="0"/>
                  </a:lnTo>
                  <a:lnTo>
                    <a:pt x="1549" y="0"/>
                  </a:lnTo>
                  <a:lnTo>
                    <a:pt x="1624" y="1"/>
                  </a:lnTo>
                  <a:lnTo>
                    <a:pt x="1698" y="3"/>
                  </a:lnTo>
                  <a:lnTo>
                    <a:pt x="1770" y="6"/>
                  </a:lnTo>
                  <a:lnTo>
                    <a:pt x="1842" y="10"/>
                  </a:lnTo>
                  <a:lnTo>
                    <a:pt x="1912" y="15"/>
                  </a:lnTo>
                  <a:lnTo>
                    <a:pt x="1980" y="21"/>
                  </a:lnTo>
                  <a:lnTo>
                    <a:pt x="2047" y="27"/>
                  </a:lnTo>
                  <a:lnTo>
                    <a:pt x="2113" y="34"/>
                  </a:lnTo>
                  <a:lnTo>
                    <a:pt x="2175" y="41"/>
                  </a:lnTo>
                  <a:lnTo>
                    <a:pt x="2238" y="49"/>
                  </a:lnTo>
                  <a:lnTo>
                    <a:pt x="2298" y="58"/>
                  </a:lnTo>
                  <a:lnTo>
                    <a:pt x="2355" y="67"/>
                  </a:lnTo>
                  <a:lnTo>
                    <a:pt x="2411" y="78"/>
                  </a:lnTo>
                  <a:lnTo>
                    <a:pt x="2464" y="88"/>
                  </a:lnTo>
                  <a:lnTo>
                    <a:pt x="2516" y="100"/>
                  </a:lnTo>
                  <a:lnTo>
                    <a:pt x="2564" y="112"/>
                  </a:lnTo>
                  <a:lnTo>
                    <a:pt x="2611" y="125"/>
                  </a:lnTo>
                  <a:lnTo>
                    <a:pt x="2654" y="138"/>
                  </a:lnTo>
                  <a:lnTo>
                    <a:pt x="2695" y="152"/>
                  </a:lnTo>
                  <a:lnTo>
                    <a:pt x="2734" y="166"/>
                  </a:lnTo>
                  <a:lnTo>
                    <a:pt x="2769" y="181"/>
                  </a:lnTo>
                  <a:lnTo>
                    <a:pt x="2802" y="196"/>
                  </a:lnTo>
                  <a:lnTo>
                    <a:pt x="2831" y="212"/>
                  </a:lnTo>
                  <a:lnTo>
                    <a:pt x="2857" y="228"/>
                  </a:lnTo>
                  <a:lnTo>
                    <a:pt x="2880" y="245"/>
                  </a:lnTo>
                  <a:lnTo>
                    <a:pt x="2901" y="262"/>
                  </a:lnTo>
                  <a:lnTo>
                    <a:pt x="2917" y="280"/>
                  </a:lnTo>
                  <a:lnTo>
                    <a:pt x="2930" y="298"/>
                  </a:lnTo>
                  <a:lnTo>
                    <a:pt x="2939" y="316"/>
                  </a:lnTo>
                  <a:lnTo>
                    <a:pt x="2945" y="334"/>
                  </a:lnTo>
                  <a:lnTo>
                    <a:pt x="2947" y="354"/>
                  </a:lnTo>
                  <a:close/>
                </a:path>
              </a:pathLst>
            </a:custGeom>
            <a:solidFill>
              <a:srgbClr val="fb5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85760" y="6515640"/>
              <a:ext cx="324720" cy="86400"/>
            </a:xfrm>
            <a:custGeom>
              <a:avLst/>
              <a:gdLst/>
              <a:ahLst/>
              <a:rect l="l" t="t" r="r" b="b"/>
              <a:pathLst>
                <a:path w="2944" h="723">
                  <a:moveTo>
                    <a:pt x="2944" y="353"/>
                  </a:moveTo>
                  <a:lnTo>
                    <a:pt x="2942" y="372"/>
                  </a:lnTo>
                  <a:lnTo>
                    <a:pt x="2936" y="391"/>
                  </a:lnTo>
                  <a:lnTo>
                    <a:pt x="2927" y="409"/>
                  </a:lnTo>
                  <a:lnTo>
                    <a:pt x="2914" y="427"/>
                  </a:lnTo>
                  <a:lnTo>
                    <a:pt x="2897" y="446"/>
                  </a:lnTo>
                  <a:lnTo>
                    <a:pt x="2877" y="463"/>
                  </a:lnTo>
                  <a:lnTo>
                    <a:pt x="2854" y="480"/>
                  </a:lnTo>
                  <a:lnTo>
                    <a:pt x="2828" y="497"/>
                  </a:lnTo>
                  <a:lnTo>
                    <a:pt x="2799" y="513"/>
                  </a:lnTo>
                  <a:lnTo>
                    <a:pt x="2766" y="529"/>
                  </a:lnTo>
                  <a:lnTo>
                    <a:pt x="2731" y="545"/>
                  </a:lnTo>
                  <a:lnTo>
                    <a:pt x="2692" y="560"/>
                  </a:lnTo>
                  <a:lnTo>
                    <a:pt x="2651" y="575"/>
                  </a:lnTo>
                  <a:lnTo>
                    <a:pt x="2608" y="589"/>
                  </a:lnTo>
                  <a:lnTo>
                    <a:pt x="2561" y="602"/>
                  </a:lnTo>
                  <a:lnTo>
                    <a:pt x="2513" y="615"/>
                  </a:lnTo>
                  <a:lnTo>
                    <a:pt x="2461" y="627"/>
                  </a:lnTo>
                  <a:lnTo>
                    <a:pt x="2408" y="638"/>
                  </a:lnTo>
                  <a:lnTo>
                    <a:pt x="2352" y="649"/>
                  </a:lnTo>
                  <a:lnTo>
                    <a:pt x="2295" y="661"/>
                  </a:lnTo>
                  <a:lnTo>
                    <a:pt x="2235" y="670"/>
                  </a:lnTo>
                  <a:lnTo>
                    <a:pt x="2173" y="679"/>
                  </a:lnTo>
                  <a:lnTo>
                    <a:pt x="2110" y="687"/>
                  </a:lnTo>
                  <a:lnTo>
                    <a:pt x="2044" y="694"/>
                  </a:lnTo>
                  <a:lnTo>
                    <a:pt x="1977" y="701"/>
                  </a:lnTo>
                  <a:lnTo>
                    <a:pt x="1909" y="707"/>
                  </a:lnTo>
                  <a:lnTo>
                    <a:pt x="1839" y="712"/>
                  </a:lnTo>
                  <a:lnTo>
                    <a:pt x="1768" y="716"/>
                  </a:lnTo>
                  <a:lnTo>
                    <a:pt x="1696" y="719"/>
                  </a:lnTo>
                  <a:lnTo>
                    <a:pt x="1622" y="721"/>
                  </a:lnTo>
                  <a:lnTo>
                    <a:pt x="1547" y="723"/>
                  </a:lnTo>
                  <a:lnTo>
                    <a:pt x="1471" y="723"/>
                  </a:lnTo>
                  <a:lnTo>
                    <a:pt x="1396" y="723"/>
                  </a:lnTo>
                  <a:lnTo>
                    <a:pt x="1321" y="721"/>
                  </a:lnTo>
                  <a:lnTo>
                    <a:pt x="1247" y="719"/>
                  </a:lnTo>
                  <a:lnTo>
                    <a:pt x="1175" y="716"/>
                  </a:lnTo>
                  <a:lnTo>
                    <a:pt x="1104" y="712"/>
                  </a:lnTo>
                  <a:lnTo>
                    <a:pt x="1034" y="707"/>
                  </a:lnTo>
                  <a:lnTo>
                    <a:pt x="965" y="701"/>
                  </a:lnTo>
                  <a:lnTo>
                    <a:pt x="899" y="694"/>
                  </a:lnTo>
                  <a:lnTo>
                    <a:pt x="833" y="687"/>
                  </a:lnTo>
                  <a:lnTo>
                    <a:pt x="770" y="679"/>
                  </a:lnTo>
                  <a:lnTo>
                    <a:pt x="708" y="670"/>
                  </a:lnTo>
                  <a:lnTo>
                    <a:pt x="648" y="661"/>
                  </a:lnTo>
                  <a:lnTo>
                    <a:pt x="591" y="649"/>
                  </a:lnTo>
                  <a:lnTo>
                    <a:pt x="535" y="638"/>
                  </a:lnTo>
                  <a:lnTo>
                    <a:pt x="482" y="627"/>
                  </a:lnTo>
                  <a:lnTo>
                    <a:pt x="431" y="615"/>
                  </a:lnTo>
                  <a:lnTo>
                    <a:pt x="382" y="602"/>
                  </a:lnTo>
                  <a:lnTo>
                    <a:pt x="335" y="589"/>
                  </a:lnTo>
                  <a:lnTo>
                    <a:pt x="292" y="575"/>
                  </a:lnTo>
                  <a:lnTo>
                    <a:pt x="251" y="560"/>
                  </a:lnTo>
                  <a:lnTo>
                    <a:pt x="213" y="545"/>
                  </a:lnTo>
                  <a:lnTo>
                    <a:pt x="178" y="529"/>
                  </a:lnTo>
                  <a:lnTo>
                    <a:pt x="144" y="513"/>
                  </a:lnTo>
                  <a:lnTo>
                    <a:pt x="115" y="497"/>
                  </a:lnTo>
                  <a:lnTo>
                    <a:pt x="89" y="480"/>
                  </a:lnTo>
                  <a:lnTo>
                    <a:pt x="66" y="463"/>
                  </a:lnTo>
                  <a:lnTo>
                    <a:pt x="46" y="446"/>
                  </a:lnTo>
                  <a:lnTo>
                    <a:pt x="29" y="427"/>
                  </a:lnTo>
                  <a:lnTo>
                    <a:pt x="16" y="409"/>
                  </a:lnTo>
                  <a:lnTo>
                    <a:pt x="7" y="391"/>
                  </a:lnTo>
                  <a:lnTo>
                    <a:pt x="2" y="372"/>
                  </a:lnTo>
                  <a:lnTo>
                    <a:pt x="0" y="353"/>
                  </a:lnTo>
                  <a:lnTo>
                    <a:pt x="2" y="333"/>
                  </a:lnTo>
                  <a:lnTo>
                    <a:pt x="7" y="315"/>
                  </a:lnTo>
                  <a:lnTo>
                    <a:pt x="16" y="297"/>
                  </a:lnTo>
                  <a:lnTo>
                    <a:pt x="29" y="279"/>
                  </a:lnTo>
                  <a:lnTo>
                    <a:pt x="46" y="262"/>
                  </a:lnTo>
                  <a:lnTo>
                    <a:pt x="66" y="245"/>
                  </a:lnTo>
                  <a:lnTo>
                    <a:pt x="89" y="227"/>
                  </a:lnTo>
                  <a:lnTo>
                    <a:pt x="115" y="211"/>
                  </a:lnTo>
                  <a:lnTo>
                    <a:pt x="144" y="195"/>
                  </a:lnTo>
                  <a:lnTo>
                    <a:pt x="178" y="180"/>
                  </a:lnTo>
                  <a:lnTo>
                    <a:pt x="213" y="166"/>
                  </a:lnTo>
                  <a:lnTo>
                    <a:pt x="251" y="151"/>
                  </a:lnTo>
                  <a:lnTo>
                    <a:pt x="292" y="138"/>
                  </a:lnTo>
                  <a:lnTo>
                    <a:pt x="335" y="125"/>
                  </a:lnTo>
                  <a:lnTo>
                    <a:pt x="382" y="111"/>
                  </a:lnTo>
                  <a:lnTo>
                    <a:pt x="431" y="99"/>
                  </a:lnTo>
                  <a:lnTo>
                    <a:pt x="482" y="88"/>
                  </a:lnTo>
                  <a:lnTo>
                    <a:pt x="535" y="77"/>
                  </a:lnTo>
                  <a:lnTo>
                    <a:pt x="591" y="67"/>
                  </a:lnTo>
                  <a:lnTo>
                    <a:pt x="648" y="58"/>
                  </a:lnTo>
                  <a:lnTo>
                    <a:pt x="708" y="49"/>
                  </a:lnTo>
                  <a:lnTo>
                    <a:pt x="770" y="41"/>
                  </a:lnTo>
                  <a:lnTo>
                    <a:pt x="833" y="33"/>
                  </a:lnTo>
                  <a:lnTo>
                    <a:pt x="899" y="27"/>
                  </a:lnTo>
                  <a:lnTo>
                    <a:pt x="965" y="21"/>
                  </a:lnTo>
                  <a:lnTo>
                    <a:pt x="1034" y="14"/>
                  </a:lnTo>
                  <a:lnTo>
                    <a:pt x="1104" y="10"/>
                  </a:lnTo>
                  <a:lnTo>
                    <a:pt x="1175" y="6"/>
                  </a:lnTo>
                  <a:lnTo>
                    <a:pt x="1247" y="3"/>
                  </a:lnTo>
                  <a:lnTo>
                    <a:pt x="1321" y="1"/>
                  </a:lnTo>
                  <a:lnTo>
                    <a:pt x="1396" y="0"/>
                  </a:lnTo>
                  <a:lnTo>
                    <a:pt x="1471" y="0"/>
                  </a:lnTo>
                  <a:lnTo>
                    <a:pt x="1547" y="0"/>
                  </a:lnTo>
                  <a:lnTo>
                    <a:pt x="1622" y="1"/>
                  </a:lnTo>
                  <a:lnTo>
                    <a:pt x="1696" y="3"/>
                  </a:lnTo>
                  <a:lnTo>
                    <a:pt x="1768" y="6"/>
                  </a:lnTo>
                  <a:lnTo>
                    <a:pt x="1839" y="10"/>
                  </a:lnTo>
                  <a:lnTo>
                    <a:pt x="1909" y="14"/>
                  </a:lnTo>
                  <a:lnTo>
                    <a:pt x="1977" y="21"/>
                  </a:lnTo>
                  <a:lnTo>
                    <a:pt x="2044" y="27"/>
                  </a:lnTo>
                  <a:lnTo>
                    <a:pt x="2110" y="33"/>
                  </a:lnTo>
                  <a:lnTo>
                    <a:pt x="2173" y="41"/>
                  </a:lnTo>
                  <a:lnTo>
                    <a:pt x="2235" y="49"/>
                  </a:lnTo>
                  <a:lnTo>
                    <a:pt x="2295" y="58"/>
                  </a:lnTo>
                  <a:lnTo>
                    <a:pt x="2352" y="67"/>
                  </a:lnTo>
                  <a:lnTo>
                    <a:pt x="2408" y="77"/>
                  </a:lnTo>
                  <a:lnTo>
                    <a:pt x="2461" y="88"/>
                  </a:lnTo>
                  <a:lnTo>
                    <a:pt x="2513" y="99"/>
                  </a:lnTo>
                  <a:lnTo>
                    <a:pt x="2561" y="111"/>
                  </a:lnTo>
                  <a:lnTo>
                    <a:pt x="2608" y="125"/>
                  </a:lnTo>
                  <a:lnTo>
                    <a:pt x="2651" y="138"/>
                  </a:lnTo>
                  <a:lnTo>
                    <a:pt x="2692" y="151"/>
                  </a:lnTo>
                  <a:lnTo>
                    <a:pt x="2731" y="166"/>
                  </a:lnTo>
                  <a:lnTo>
                    <a:pt x="2766" y="180"/>
                  </a:lnTo>
                  <a:lnTo>
                    <a:pt x="2799" y="195"/>
                  </a:lnTo>
                  <a:lnTo>
                    <a:pt x="2828" y="211"/>
                  </a:lnTo>
                  <a:lnTo>
                    <a:pt x="2854" y="227"/>
                  </a:lnTo>
                  <a:lnTo>
                    <a:pt x="2877" y="245"/>
                  </a:lnTo>
                  <a:lnTo>
                    <a:pt x="2897" y="262"/>
                  </a:lnTo>
                  <a:lnTo>
                    <a:pt x="2914" y="279"/>
                  </a:lnTo>
                  <a:lnTo>
                    <a:pt x="2927" y="297"/>
                  </a:lnTo>
                  <a:lnTo>
                    <a:pt x="2936" y="315"/>
                  </a:lnTo>
                  <a:lnTo>
                    <a:pt x="2942" y="333"/>
                  </a:lnTo>
                  <a:lnTo>
                    <a:pt x="2944" y="353"/>
                  </a:lnTo>
                  <a:close/>
                </a:path>
              </a:pathLst>
            </a:custGeom>
            <a:solidFill>
              <a:srgbClr val="fb5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85760" y="6515640"/>
              <a:ext cx="324720" cy="86400"/>
            </a:xfrm>
            <a:custGeom>
              <a:avLst/>
              <a:gdLst/>
              <a:ahLst/>
              <a:rect l="l" t="t" r="r" b="b"/>
              <a:pathLst>
                <a:path w="2941" h="722">
                  <a:moveTo>
                    <a:pt x="2941" y="353"/>
                  </a:moveTo>
                  <a:lnTo>
                    <a:pt x="2939" y="372"/>
                  </a:lnTo>
                  <a:lnTo>
                    <a:pt x="2934" y="391"/>
                  </a:lnTo>
                  <a:lnTo>
                    <a:pt x="2924" y="409"/>
                  </a:lnTo>
                  <a:lnTo>
                    <a:pt x="2912" y="427"/>
                  </a:lnTo>
                  <a:lnTo>
                    <a:pt x="2894" y="446"/>
                  </a:lnTo>
                  <a:lnTo>
                    <a:pt x="2875" y="463"/>
                  </a:lnTo>
                  <a:lnTo>
                    <a:pt x="2852" y="480"/>
                  </a:lnTo>
                  <a:lnTo>
                    <a:pt x="2826" y="497"/>
                  </a:lnTo>
                  <a:lnTo>
                    <a:pt x="2797" y="513"/>
                  </a:lnTo>
                  <a:lnTo>
                    <a:pt x="2763" y="529"/>
                  </a:lnTo>
                  <a:lnTo>
                    <a:pt x="2728" y="544"/>
                  </a:lnTo>
                  <a:lnTo>
                    <a:pt x="2689" y="560"/>
                  </a:lnTo>
                  <a:lnTo>
                    <a:pt x="2649" y="574"/>
                  </a:lnTo>
                  <a:lnTo>
                    <a:pt x="2606" y="588"/>
                  </a:lnTo>
                  <a:lnTo>
                    <a:pt x="2559" y="601"/>
                  </a:lnTo>
                  <a:lnTo>
                    <a:pt x="2511" y="614"/>
                  </a:lnTo>
                  <a:lnTo>
                    <a:pt x="2459" y="626"/>
                  </a:lnTo>
                  <a:lnTo>
                    <a:pt x="2406" y="638"/>
                  </a:lnTo>
                  <a:lnTo>
                    <a:pt x="2350" y="649"/>
                  </a:lnTo>
                  <a:lnTo>
                    <a:pt x="2293" y="660"/>
                  </a:lnTo>
                  <a:lnTo>
                    <a:pt x="2233" y="669"/>
                  </a:lnTo>
                  <a:lnTo>
                    <a:pt x="2171" y="678"/>
                  </a:lnTo>
                  <a:lnTo>
                    <a:pt x="2108" y="686"/>
                  </a:lnTo>
                  <a:lnTo>
                    <a:pt x="2043" y="694"/>
                  </a:lnTo>
                  <a:lnTo>
                    <a:pt x="1976" y="700"/>
                  </a:lnTo>
                  <a:lnTo>
                    <a:pt x="1908" y="706"/>
                  </a:lnTo>
                  <a:lnTo>
                    <a:pt x="1838" y="711"/>
                  </a:lnTo>
                  <a:lnTo>
                    <a:pt x="1767" y="715"/>
                  </a:lnTo>
                  <a:lnTo>
                    <a:pt x="1695" y="718"/>
                  </a:lnTo>
                  <a:lnTo>
                    <a:pt x="1621" y="720"/>
                  </a:lnTo>
                  <a:lnTo>
                    <a:pt x="1546" y="722"/>
                  </a:lnTo>
                  <a:lnTo>
                    <a:pt x="1470" y="722"/>
                  </a:lnTo>
                  <a:lnTo>
                    <a:pt x="1395" y="722"/>
                  </a:lnTo>
                  <a:lnTo>
                    <a:pt x="1320" y="720"/>
                  </a:lnTo>
                  <a:lnTo>
                    <a:pt x="1246" y="718"/>
                  </a:lnTo>
                  <a:lnTo>
                    <a:pt x="1175" y="715"/>
                  </a:lnTo>
                  <a:lnTo>
                    <a:pt x="1103" y="711"/>
                  </a:lnTo>
                  <a:lnTo>
                    <a:pt x="1033" y="706"/>
                  </a:lnTo>
                  <a:lnTo>
                    <a:pt x="964" y="700"/>
                  </a:lnTo>
                  <a:lnTo>
                    <a:pt x="898" y="694"/>
                  </a:lnTo>
                  <a:lnTo>
                    <a:pt x="833" y="686"/>
                  </a:lnTo>
                  <a:lnTo>
                    <a:pt x="770" y="678"/>
                  </a:lnTo>
                  <a:lnTo>
                    <a:pt x="708" y="669"/>
                  </a:lnTo>
                  <a:lnTo>
                    <a:pt x="648" y="660"/>
                  </a:lnTo>
                  <a:lnTo>
                    <a:pt x="591" y="649"/>
                  </a:lnTo>
                  <a:lnTo>
                    <a:pt x="535" y="638"/>
                  </a:lnTo>
                  <a:lnTo>
                    <a:pt x="482" y="626"/>
                  </a:lnTo>
                  <a:lnTo>
                    <a:pt x="431" y="614"/>
                  </a:lnTo>
                  <a:lnTo>
                    <a:pt x="382" y="601"/>
                  </a:lnTo>
                  <a:lnTo>
                    <a:pt x="336" y="588"/>
                  </a:lnTo>
                  <a:lnTo>
                    <a:pt x="292" y="574"/>
                  </a:lnTo>
                  <a:lnTo>
                    <a:pt x="251" y="560"/>
                  </a:lnTo>
                  <a:lnTo>
                    <a:pt x="213" y="544"/>
                  </a:lnTo>
                  <a:lnTo>
                    <a:pt x="178" y="529"/>
                  </a:lnTo>
                  <a:lnTo>
                    <a:pt x="145" y="513"/>
                  </a:lnTo>
                  <a:lnTo>
                    <a:pt x="115" y="497"/>
                  </a:lnTo>
                  <a:lnTo>
                    <a:pt x="89" y="480"/>
                  </a:lnTo>
                  <a:lnTo>
                    <a:pt x="67" y="463"/>
                  </a:lnTo>
                  <a:lnTo>
                    <a:pt x="46" y="446"/>
                  </a:lnTo>
                  <a:lnTo>
                    <a:pt x="30" y="427"/>
                  </a:lnTo>
                  <a:lnTo>
                    <a:pt x="17" y="409"/>
                  </a:lnTo>
                  <a:lnTo>
                    <a:pt x="8" y="391"/>
                  </a:lnTo>
                  <a:lnTo>
                    <a:pt x="2" y="372"/>
                  </a:lnTo>
                  <a:lnTo>
                    <a:pt x="0" y="353"/>
                  </a:lnTo>
                  <a:lnTo>
                    <a:pt x="2" y="333"/>
                  </a:lnTo>
                  <a:lnTo>
                    <a:pt x="8" y="315"/>
                  </a:lnTo>
                  <a:lnTo>
                    <a:pt x="17" y="297"/>
                  </a:lnTo>
                  <a:lnTo>
                    <a:pt x="30" y="279"/>
                  </a:lnTo>
                  <a:lnTo>
                    <a:pt x="46" y="262"/>
                  </a:lnTo>
                  <a:lnTo>
                    <a:pt x="67" y="245"/>
                  </a:lnTo>
                  <a:lnTo>
                    <a:pt x="89" y="227"/>
                  </a:lnTo>
                  <a:lnTo>
                    <a:pt x="115" y="211"/>
                  </a:lnTo>
                  <a:lnTo>
                    <a:pt x="145" y="196"/>
                  </a:lnTo>
                  <a:lnTo>
                    <a:pt x="178" y="181"/>
                  </a:lnTo>
                  <a:lnTo>
                    <a:pt x="213" y="166"/>
                  </a:lnTo>
                  <a:lnTo>
                    <a:pt x="251" y="152"/>
                  </a:lnTo>
                  <a:lnTo>
                    <a:pt x="292" y="138"/>
                  </a:lnTo>
                  <a:lnTo>
                    <a:pt x="336" y="125"/>
                  </a:lnTo>
                  <a:lnTo>
                    <a:pt x="382" y="112"/>
                  </a:lnTo>
                  <a:lnTo>
                    <a:pt x="431" y="100"/>
                  </a:lnTo>
                  <a:lnTo>
                    <a:pt x="482" y="89"/>
                  </a:lnTo>
                  <a:lnTo>
                    <a:pt x="535" y="78"/>
                  </a:lnTo>
                  <a:lnTo>
                    <a:pt x="591" y="68"/>
                  </a:lnTo>
                  <a:lnTo>
                    <a:pt x="648" y="59"/>
                  </a:lnTo>
                  <a:lnTo>
                    <a:pt x="708" y="50"/>
                  </a:lnTo>
                  <a:lnTo>
                    <a:pt x="770" y="42"/>
                  </a:lnTo>
                  <a:lnTo>
                    <a:pt x="833" y="34"/>
                  </a:lnTo>
                  <a:lnTo>
                    <a:pt x="898" y="28"/>
                  </a:lnTo>
                  <a:lnTo>
                    <a:pt x="964" y="22"/>
                  </a:lnTo>
                  <a:lnTo>
                    <a:pt x="1033" y="16"/>
                  </a:lnTo>
                  <a:lnTo>
                    <a:pt x="1103" y="11"/>
                  </a:lnTo>
                  <a:lnTo>
                    <a:pt x="1175" y="7"/>
                  </a:lnTo>
                  <a:lnTo>
                    <a:pt x="1246" y="4"/>
                  </a:lnTo>
                  <a:lnTo>
                    <a:pt x="1320" y="2"/>
                  </a:lnTo>
                  <a:lnTo>
                    <a:pt x="1395" y="1"/>
                  </a:lnTo>
                  <a:lnTo>
                    <a:pt x="1470" y="0"/>
                  </a:lnTo>
                  <a:lnTo>
                    <a:pt x="1546" y="1"/>
                  </a:lnTo>
                  <a:lnTo>
                    <a:pt x="1621" y="2"/>
                  </a:lnTo>
                  <a:lnTo>
                    <a:pt x="1695" y="4"/>
                  </a:lnTo>
                  <a:lnTo>
                    <a:pt x="1767" y="7"/>
                  </a:lnTo>
                  <a:lnTo>
                    <a:pt x="1838" y="11"/>
                  </a:lnTo>
                  <a:lnTo>
                    <a:pt x="1908" y="16"/>
                  </a:lnTo>
                  <a:lnTo>
                    <a:pt x="1976" y="22"/>
                  </a:lnTo>
                  <a:lnTo>
                    <a:pt x="2043" y="28"/>
                  </a:lnTo>
                  <a:lnTo>
                    <a:pt x="2108" y="34"/>
                  </a:lnTo>
                  <a:lnTo>
                    <a:pt x="2171" y="42"/>
                  </a:lnTo>
                  <a:lnTo>
                    <a:pt x="2233" y="50"/>
                  </a:lnTo>
                  <a:lnTo>
                    <a:pt x="2293" y="59"/>
                  </a:lnTo>
                  <a:lnTo>
                    <a:pt x="2350" y="68"/>
                  </a:lnTo>
                  <a:lnTo>
                    <a:pt x="2406" y="78"/>
                  </a:lnTo>
                  <a:lnTo>
                    <a:pt x="2459" y="89"/>
                  </a:lnTo>
                  <a:lnTo>
                    <a:pt x="2511" y="100"/>
                  </a:lnTo>
                  <a:lnTo>
                    <a:pt x="2559" y="112"/>
                  </a:lnTo>
                  <a:lnTo>
                    <a:pt x="2606" y="125"/>
                  </a:lnTo>
                  <a:lnTo>
                    <a:pt x="2649" y="138"/>
                  </a:lnTo>
                  <a:lnTo>
                    <a:pt x="2689" y="152"/>
                  </a:lnTo>
                  <a:lnTo>
                    <a:pt x="2728" y="166"/>
                  </a:lnTo>
                  <a:lnTo>
                    <a:pt x="2763" y="181"/>
                  </a:lnTo>
                  <a:lnTo>
                    <a:pt x="2797" y="196"/>
                  </a:lnTo>
                  <a:lnTo>
                    <a:pt x="2826" y="211"/>
                  </a:lnTo>
                  <a:lnTo>
                    <a:pt x="2852" y="227"/>
                  </a:lnTo>
                  <a:lnTo>
                    <a:pt x="2875" y="245"/>
                  </a:lnTo>
                  <a:lnTo>
                    <a:pt x="2894" y="262"/>
                  </a:lnTo>
                  <a:lnTo>
                    <a:pt x="2912" y="279"/>
                  </a:lnTo>
                  <a:lnTo>
                    <a:pt x="2924" y="297"/>
                  </a:lnTo>
                  <a:lnTo>
                    <a:pt x="2934" y="315"/>
                  </a:lnTo>
                  <a:lnTo>
                    <a:pt x="2939" y="333"/>
                  </a:lnTo>
                  <a:lnTo>
                    <a:pt x="2941" y="353"/>
                  </a:lnTo>
                  <a:close/>
                </a:path>
              </a:pathLst>
            </a:custGeom>
            <a:solidFill>
              <a:srgbClr val="fb5d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85760" y="6515640"/>
              <a:ext cx="324720" cy="86400"/>
            </a:xfrm>
            <a:custGeom>
              <a:avLst/>
              <a:gdLst/>
              <a:ahLst/>
              <a:rect l="l" t="t" r="r" b="b"/>
              <a:pathLst>
                <a:path w="2938" h="720">
                  <a:moveTo>
                    <a:pt x="2938" y="352"/>
                  </a:moveTo>
                  <a:lnTo>
                    <a:pt x="2936" y="371"/>
                  </a:lnTo>
                  <a:lnTo>
                    <a:pt x="2930" y="390"/>
                  </a:lnTo>
                  <a:lnTo>
                    <a:pt x="2921" y="408"/>
                  </a:lnTo>
                  <a:lnTo>
                    <a:pt x="2908" y="426"/>
                  </a:lnTo>
                  <a:lnTo>
                    <a:pt x="2891" y="445"/>
                  </a:lnTo>
                  <a:lnTo>
                    <a:pt x="2871" y="462"/>
                  </a:lnTo>
                  <a:lnTo>
                    <a:pt x="2848" y="479"/>
                  </a:lnTo>
                  <a:lnTo>
                    <a:pt x="2822" y="495"/>
                  </a:lnTo>
                  <a:lnTo>
                    <a:pt x="2792" y="512"/>
                  </a:lnTo>
                  <a:lnTo>
                    <a:pt x="2760" y="527"/>
                  </a:lnTo>
                  <a:lnTo>
                    <a:pt x="2725" y="543"/>
                  </a:lnTo>
                  <a:lnTo>
                    <a:pt x="2686" y="558"/>
                  </a:lnTo>
                  <a:lnTo>
                    <a:pt x="2646" y="573"/>
                  </a:lnTo>
                  <a:lnTo>
                    <a:pt x="2603" y="587"/>
                  </a:lnTo>
                  <a:lnTo>
                    <a:pt x="2556" y="600"/>
                  </a:lnTo>
                  <a:lnTo>
                    <a:pt x="2508" y="612"/>
                  </a:lnTo>
                  <a:lnTo>
                    <a:pt x="2456" y="625"/>
                  </a:lnTo>
                  <a:lnTo>
                    <a:pt x="2403" y="636"/>
                  </a:lnTo>
                  <a:lnTo>
                    <a:pt x="2347" y="647"/>
                  </a:lnTo>
                  <a:lnTo>
                    <a:pt x="2290" y="658"/>
                  </a:lnTo>
                  <a:lnTo>
                    <a:pt x="2230" y="668"/>
                  </a:lnTo>
                  <a:lnTo>
                    <a:pt x="2168" y="676"/>
                  </a:lnTo>
                  <a:lnTo>
                    <a:pt x="2106" y="684"/>
                  </a:lnTo>
                  <a:lnTo>
                    <a:pt x="2040" y="692"/>
                  </a:lnTo>
                  <a:lnTo>
                    <a:pt x="1973" y="698"/>
                  </a:lnTo>
                  <a:lnTo>
                    <a:pt x="1906" y="704"/>
                  </a:lnTo>
                  <a:lnTo>
                    <a:pt x="1836" y="709"/>
                  </a:lnTo>
                  <a:lnTo>
                    <a:pt x="1764" y="713"/>
                  </a:lnTo>
                  <a:lnTo>
                    <a:pt x="1693" y="716"/>
                  </a:lnTo>
                  <a:lnTo>
                    <a:pt x="1619" y="719"/>
                  </a:lnTo>
                  <a:lnTo>
                    <a:pt x="1544" y="720"/>
                  </a:lnTo>
                  <a:lnTo>
                    <a:pt x="1468" y="720"/>
                  </a:lnTo>
                  <a:lnTo>
                    <a:pt x="1393" y="720"/>
                  </a:lnTo>
                  <a:lnTo>
                    <a:pt x="1318" y="719"/>
                  </a:lnTo>
                  <a:lnTo>
                    <a:pt x="1245" y="716"/>
                  </a:lnTo>
                  <a:lnTo>
                    <a:pt x="1173" y="713"/>
                  </a:lnTo>
                  <a:lnTo>
                    <a:pt x="1102" y="709"/>
                  </a:lnTo>
                  <a:lnTo>
                    <a:pt x="1032" y="704"/>
                  </a:lnTo>
                  <a:lnTo>
                    <a:pt x="963" y="698"/>
                  </a:lnTo>
                  <a:lnTo>
                    <a:pt x="897" y="692"/>
                  </a:lnTo>
                  <a:lnTo>
                    <a:pt x="831" y="684"/>
                  </a:lnTo>
                  <a:lnTo>
                    <a:pt x="769" y="676"/>
                  </a:lnTo>
                  <a:lnTo>
                    <a:pt x="707" y="668"/>
                  </a:lnTo>
                  <a:lnTo>
                    <a:pt x="647" y="658"/>
                  </a:lnTo>
                  <a:lnTo>
                    <a:pt x="590" y="647"/>
                  </a:lnTo>
                  <a:lnTo>
                    <a:pt x="534" y="636"/>
                  </a:lnTo>
                  <a:lnTo>
                    <a:pt x="481" y="625"/>
                  </a:lnTo>
                  <a:lnTo>
                    <a:pt x="430" y="612"/>
                  </a:lnTo>
                  <a:lnTo>
                    <a:pt x="381" y="600"/>
                  </a:lnTo>
                  <a:lnTo>
                    <a:pt x="335" y="587"/>
                  </a:lnTo>
                  <a:lnTo>
                    <a:pt x="291" y="573"/>
                  </a:lnTo>
                  <a:lnTo>
                    <a:pt x="250" y="558"/>
                  </a:lnTo>
                  <a:lnTo>
                    <a:pt x="212" y="543"/>
                  </a:lnTo>
                  <a:lnTo>
                    <a:pt x="177" y="527"/>
                  </a:lnTo>
                  <a:lnTo>
                    <a:pt x="144" y="512"/>
                  </a:lnTo>
                  <a:lnTo>
                    <a:pt x="115" y="495"/>
                  </a:lnTo>
                  <a:lnTo>
                    <a:pt x="89" y="479"/>
                  </a:lnTo>
                  <a:lnTo>
                    <a:pt x="66" y="462"/>
                  </a:lnTo>
                  <a:lnTo>
                    <a:pt x="45" y="445"/>
                  </a:lnTo>
                  <a:lnTo>
                    <a:pt x="29" y="426"/>
                  </a:lnTo>
                  <a:lnTo>
                    <a:pt x="16" y="408"/>
                  </a:lnTo>
                  <a:lnTo>
                    <a:pt x="7" y="390"/>
                  </a:lnTo>
                  <a:lnTo>
                    <a:pt x="1" y="371"/>
                  </a:lnTo>
                  <a:lnTo>
                    <a:pt x="0" y="352"/>
                  </a:lnTo>
                  <a:lnTo>
                    <a:pt x="1" y="332"/>
                  </a:lnTo>
                  <a:lnTo>
                    <a:pt x="7" y="314"/>
                  </a:lnTo>
                  <a:lnTo>
                    <a:pt x="16" y="296"/>
                  </a:lnTo>
                  <a:lnTo>
                    <a:pt x="29" y="278"/>
                  </a:lnTo>
                  <a:lnTo>
                    <a:pt x="45" y="261"/>
                  </a:lnTo>
                  <a:lnTo>
                    <a:pt x="66" y="244"/>
                  </a:lnTo>
                  <a:lnTo>
                    <a:pt x="89" y="227"/>
                  </a:lnTo>
                  <a:lnTo>
                    <a:pt x="115" y="211"/>
                  </a:lnTo>
                  <a:lnTo>
                    <a:pt x="144" y="195"/>
                  </a:lnTo>
                  <a:lnTo>
                    <a:pt x="177" y="180"/>
                  </a:lnTo>
                  <a:lnTo>
                    <a:pt x="212" y="166"/>
                  </a:lnTo>
                  <a:lnTo>
                    <a:pt x="250" y="152"/>
                  </a:lnTo>
                  <a:lnTo>
                    <a:pt x="291" y="138"/>
                  </a:lnTo>
                  <a:lnTo>
                    <a:pt x="335" y="125"/>
                  </a:lnTo>
                  <a:lnTo>
                    <a:pt x="381" y="112"/>
                  </a:lnTo>
                  <a:lnTo>
                    <a:pt x="430" y="100"/>
                  </a:lnTo>
                  <a:lnTo>
                    <a:pt x="481" y="88"/>
                  </a:lnTo>
                  <a:lnTo>
                    <a:pt x="534" y="78"/>
                  </a:lnTo>
                  <a:lnTo>
                    <a:pt x="590" y="68"/>
                  </a:lnTo>
                  <a:lnTo>
                    <a:pt x="647" y="58"/>
                  </a:lnTo>
                  <a:lnTo>
                    <a:pt x="707" y="50"/>
                  </a:lnTo>
                  <a:lnTo>
                    <a:pt x="769" y="41"/>
                  </a:lnTo>
                  <a:lnTo>
                    <a:pt x="831" y="34"/>
                  </a:lnTo>
                  <a:lnTo>
                    <a:pt x="897" y="27"/>
                  </a:lnTo>
                  <a:lnTo>
                    <a:pt x="963" y="21"/>
                  </a:lnTo>
                  <a:lnTo>
                    <a:pt x="1032" y="16"/>
                  </a:lnTo>
                  <a:lnTo>
                    <a:pt x="1102" y="11"/>
                  </a:lnTo>
                  <a:lnTo>
                    <a:pt x="1173" y="7"/>
                  </a:lnTo>
                  <a:lnTo>
                    <a:pt x="1245" y="4"/>
                  </a:lnTo>
                  <a:lnTo>
                    <a:pt x="1318" y="2"/>
                  </a:lnTo>
                  <a:lnTo>
                    <a:pt x="1393" y="1"/>
                  </a:lnTo>
                  <a:lnTo>
                    <a:pt x="1468" y="0"/>
                  </a:lnTo>
                  <a:lnTo>
                    <a:pt x="1544" y="1"/>
                  </a:lnTo>
                  <a:lnTo>
                    <a:pt x="1619" y="2"/>
                  </a:lnTo>
                  <a:lnTo>
                    <a:pt x="1693" y="4"/>
                  </a:lnTo>
                  <a:lnTo>
                    <a:pt x="1764" y="7"/>
                  </a:lnTo>
                  <a:lnTo>
                    <a:pt x="1836" y="11"/>
                  </a:lnTo>
                  <a:lnTo>
                    <a:pt x="1906" y="16"/>
                  </a:lnTo>
                  <a:lnTo>
                    <a:pt x="1973" y="21"/>
                  </a:lnTo>
                  <a:lnTo>
                    <a:pt x="2040" y="27"/>
                  </a:lnTo>
                  <a:lnTo>
                    <a:pt x="2106" y="34"/>
                  </a:lnTo>
                  <a:lnTo>
                    <a:pt x="2168" y="41"/>
                  </a:lnTo>
                  <a:lnTo>
                    <a:pt x="2230" y="50"/>
                  </a:lnTo>
                  <a:lnTo>
                    <a:pt x="2290" y="58"/>
                  </a:lnTo>
                  <a:lnTo>
                    <a:pt x="2347" y="68"/>
                  </a:lnTo>
                  <a:lnTo>
                    <a:pt x="2403" y="78"/>
                  </a:lnTo>
                  <a:lnTo>
                    <a:pt x="2456" y="88"/>
                  </a:lnTo>
                  <a:lnTo>
                    <a:pt x="2508" y="100"/>
                  </a:lnTo>
                  <a:lnTo>
                    <a:pt x="2556" y="112"/>
                  </a:lnTo>
                  <a:lnTo>
                    <a:pt x="2603" y="125"/>
                  </a:lnTo>
                  <a:lnTo>
                    <a:pt x="2646" y="138"/>
                  </a:lnTo>
                  <a:lnTo>
                    <a:pt x="2686" y="152"/>
                  </a:lnTo>
                  <a:lnTo>
                    <a:pt x="2725" y="166"/>
                  </a:lnTo>
                  <a:lnTo>
                    <a:pt x="2760" y="180"/>
                  </a:lnTo>
                  <a:lnTo>
                    <a:pt x="2792" y="195"/>
                  </a:lnTo>
                  <a:lnTo>
                    <a:pt x="2822" y="211"/>
                  </a:lnTo>
                  <a:lnTo>
                    <a:pt x="2848" y="227"/>
                  </a:lnTo>
                  <a:lnTo>
                    <a:pt x="2871" y="244"/>
                  </a:lnTo>
                  <a:lnTo>
                    <a:pt x="2891" y="261"/>
                  </a:lnTo>
                  <a:lnTo>
                    <a:pt x="2908" y="278"/>
                  </a:lnTo>
                  <a:lnTo>
                    <a:pt x="2921" y="296"/>
                  </a:lnTo>
                  <a:lnTo>
                    <a:pt x="2930" y="314"/>
                  </a:lnTo>
                  <a:lnTo>
                    <a:pt x="2936" y="332"/>
                  </a:lnTo>
                  <a:lnTo>
                    <a:pt x="2938" y="352"/>
                  </a:lnTo>
                  <a:close/>
                </a:path>
              </a:pathLst>
            </a:custGeom>
            <a:solidFill>
              <a:srgbClr val="fb5d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86840" y="6515640"/>
              <a:ext cx="322200" cy="86400"/>
            </a:xfrm>
            <a:custGeom>
              <a:avLst/>
              <a:gdLst/>
              <a:ahLst/>
              <a:rect l="l" t="t" r="r" b="b"/>
              <a:pathLst>
                <a:path w="2935" h="719">
                  <a:moveTo>
                    <a:pt x="2935" y="351"/>
                  </a:moveTo>
                  <a:lnTo>
                    <a:pt x="2933" y="370"/>
                  </a:lnTo>
                  <a:lnTo>
                    <a:pt x="2928" y="388"/>
                  </a:lnTo>
                  <a:lnTo>
                    <a:pt x="2918" y="407"/>
                  </a:lnTo>
                  <a:lnTo>
                    <a:pt x="2906" y="425"/>
                  </a:lnTo>
                  <a:lnTo>
                    <a:pt x="2888" y="443"/>
                  </a:lnTo>
                  <a:lnTo>
                    <a:pt x="2869" y="461"/>
                  </a:lnTo>
                  <a:lnTo>
                    <a:pt x="2846" y="477"/>
                  </a:lnTo>
                  <a:lnTo>
                    <a:pt x="2820" y="494"/>
                  </a:lnTo>
                  <a:lnTo>
                    <a:pt x="2790" y="510"/>
                  </a:lnTo>
                  <a:lnTo>
                    <a:pt x="2758" y="526"/>
                  </a:lnTo>
                  <a:lnTo>
                    <a:pt x="2723" y="541"/>
                  </a:lnTo>
                  <a:lnTo>
                    <a:pt x="2684" y="557"/>
                  </a:lnTo>
                  <a:lnTo>
                    <a:pt x="2644" y="571"/>
                  </a:lnTo>
                  <a:lnTo>
                    <a:pt x="2600" y="585"/>
                  </a:lnTo>
                  <a:lnTo>
                    <a:pt x="2554" y="598"/>
                  </a:lnTo>
                  <a:lnTo>
                    <a:pt x="2506" y="611"/>
                  </a:lnTo>
                  <a:lnTo>
                    <a:pt x="2454" y="623"/>
                  </a:lnTo>
                  <a:lnTo>
                    <a:pt x="2401" y="634"/>
                  </a:lnTo>
                  <a:lnTo>
                    <a:pt x="2346" y="645"/>
                  </a:lnTo>
                  <a:lnTo>
                    <a:pt x="2289" y="656"/>
                  </a:lnTo>
                  <a:lnTo>
                    <a:pt x="2229" y="666"/>
                  </a:lnTo>
                  <a:lnTo>
                    <a:pt x="2167" y="675"/>
                  </a:lnTo>
                  <a:lnTo>
                    <a:pt x="2104" y="683"/>
                  </a:lnTo>
                  <a:lnTo>
                    <a:pt x="2039" y="690"/>
                  </a:lnTo>
                  <a:lnTo>
                    <a:pt x="1972" y="696"/>
                  </a:lnTo>
                  <a:lnTo>
                    <a:pt x="1904" y="702"/>
                  </a:lnTo>
                  <a:lnTo>
                    <a:pt x="1834" y="707"/>
                  </a:lnTo>
                  <a:lnTo>
                    <a:pt x="1763" y="711"/>
                  </a:lnTo>
                  <a:lnTo>
                    <a:pt x="1691" y="714"/>
                  </a:lnTo>
                  <a:lnTo>
                    <a:pt x="1618" y="717"/>
                  </a:lnTo>
                  <a:lnTo>
                    <a:pt x="1543" y="718"/>
                  </a:lnTo>
                  <a:lnTo>
                    <a:pt x="1467" y="719"/>
                  </a:lnTo>
                  <a:lnTo>
                    <a:pt x="1392" y="718"/>
                  </a:lnTo>
                  <a:lnTo>
                    <a:pt x="1317" y="717"/>
                  </a:lnTo>
                  <a:lnTo>
                    <a:pt x="1244" y="714"/>
                  </a:lnTo>
                  <a:lnTo>
                    <a:pt x="1172" y="711"/>
                  </a:lnTo>
                  <a:lnTo>
                    <a:pt x="1101" y="707"/>
                  </a:lnTo>
                  <a:lnTo>
                    <a:pt x="1031" y="702"/>
                  </a:lnTo>
                  <a:lnTo>
                    <a:pt x="962" y="696"/>
                  </a:lnTo>
                  <a:lnTo>
                    <a:pt x="896" y="690"/>
                  </a:lnTo>
                  <a:lnTo>
                    <a:pt x="831" y="683"/>
                  </a:lnTo>
                  <a:lnTo>
                    <a:pt x="768" y="675"/>
                  </a:lnTo>
                  <a:lnTo>
                    <a:pt x="707" y="666"/>
                  </a:lnTo>
                  <a:lnTo>
                    <a:pt x="647" y="656"/>
                  </a:lnTo>
                  <a:lnTo>
                    <a:pt x="590" y="645"/>
                  </a:lnTo>
                  <a:lnTo>
                    <a:pt x="534" y="634"/>
                  </a:lnTo>
                  <a:lnTo>
                    <a:pt x="481" y="623"/>
                  </a:lnTo>
                  <a:lnTo>
                    <a:pt x="430" y="611"/>
                  </a:lnTo>
                  <a:lnTo>
                    <a:pt x="381" y="598"/>
                  </a:lnTo>
                  <a:lnTo>
                    <a:pt x="335" y="585"/>
                  </a:lnTo>
                  <a:lnTo>
                    <a:pt x="292" y="571"/>
                  </a:lnTo>
                  <a:lnTo>
                    <a:pt x="250" y="557"/>
                  </a:lnTo>
                  <a:lnTo>
                    <a:pt x="212" y="541"/>
                  </a:lnTo>
                  <a:lnTo>
                    <a:pt x="177" y="526"/>
                  </a:lnTo>
                  <a:lnTo>
                    <a:pt x="144" y="510"/>
                  </a:lnTo>
                  <a:lnTo>
                    <a:pt x="115" y="494"/>
                  </a:lnTo>
                  <a:lnTo>
                    <a:pt x="89" y="477"/>
                  </a:lnTo>
                  <a:lnTo>
                    <a:pt x="66" y="461"/>
                  </a:lnTo>
                  <a:lnTo>
                    <a:pt x="46" y="443"/>
                  </a:lnTo>
                  <a:lnTo>
                    <a:pt x="29" y="425"/>
                  </a:lnTo>
                  <a:lnTo>
                    <a:pt x="17" y="407"/>
                  </a:lnTo>
                  <a:lnTo>
                    <a:pt x="7" y="388"/>
                  </a:lnTo>
                  <a:lnTo>
                    <a:pt x="2" y="370"/>
                  </a:lnTo>
                  <a:lnTo>
                    <a:pt x="0" y="351"/>
                  </a:lnTo>
                  <a:lnTo>
                    <a:pt x="2" y="332"/>
                  </a:lnTo>
                  <a:lnTo>
                    <a:pt x="7" y="313"/>
                  </a:lnTo>
                  <a:lnTo>
                    <a:pt x="17" y="295"/>
                  </a:lnTo>
                  <a:lnTo>
                    <a:pt x="29" y="278"/>
                  </a:lnTo>
                  <a:lnTo>
                    <a:pt x="46" y="260"/>
                  </a:lnTo>
                  <a:lnTo>
                    <a:pt x="66" y="243"/>
                  </a:lnTo>
                  <a:lnTo>
                    <a:pt x="89" y="226"/>
                  </a:lnTo>
                  <a:lnTo>
                    <a:pt x="115" y="210"/>
                  </a:lnTo>
                  <a:lnTo>
                    <a:pt x="144" y="195"/>
                  </a:lnTo>
                  <a:lnTo>
                    <a:pt x="177" y="180"/>
                  </a:lnTo>
                  <a:lnTo>
                    <a:pt x="212" y="165"/>
                  </a:lnTo>
                  <a:lnTo>
                    <a:pt x="250" y="151"/>
                  </a:lnTo>
                  <a:lnTo>
                    <a:pt x="292" y="138"/>
                  </a:lnTo>
                  <a:lnTo>
                    <a:pt x="335" y="125"/>
                  </a:lnTo>
                  <a:lnTo>
                    <a:pt x="381" y="111"/>
                  </a:lnTo>
                  <a:lnTo>
                    <a:pt x="430" y="99"/>
                  </a:lnTo>
                  <a:lnTo>
                    <a:pt x="481" y="88"/>
                  </a:lnTo>
                  <a:lnTo>
                    <a:pt x="534" y="77"/>
                  </a:lnTo>
                  <a:lnTo>
                    <a:pt x="590" y="67"/>
                  </a:lnTo>
                  <a:lnTo>
                    <a:pt x="647" y="58"/>
                  </a:lnTo>
                  <a:lnTo>
                    <a:pt x="707" y="49"/>
                  </a:lnTo>
                  <a:lnTo>
                    <a:pt x="768" y="41"/>
                  </a:lnTo>
                  <a:lnTo>
                    <a:pt x="831" y="34"/>
                  </a:lnTo>
                  <a:lnTo>
                    <a:pt x="896" y="27"/>
                  </a:lnTo>
                  <a:lnTo>
                    <a:pt x="962" y="21"/>
                  </a:lnTo>
                  <a:lnTo>
                    <a:pt x="1031" y="16"/>
                  </a:lnTo>
                  <a:lnTo>
                    <a:pt x="1101" y="11"/>
                  </a:lnTo>
                  <a:lnTo>
                    <a:pt x="1172" y="7"/>
                  </a:lnTo>
                  <a:lnTo>
                    <a:pt x="1244" y="4"/>
                  </a:lnTo>
                  <a:lnTo>
                    <a:pt x="1317" y="2"/>
                  </a:lnTo>
                  <a:lnTo>
                    <a:pt x="1392" y="1"/>
                  </a:lnTo>
                  <a:lnTo>
                    <a:pt x="1467" y="0"/>
                  </a:lnTo>
                  <a:lnTo>
                    <a:pt x="1543" y="1"/>
                  </a:lnTo>
                  <a:lnTo>
                    <a:pt x="1618" y="2"/>
                  </a:lnTo>
                  <a:lnTo>
                    <a:pt x="1691" y="4"/>
                  </a:lnTo>
                  <a:lnTo>
                    <a:pt x="1763" y="7"/>
                  </a:lnTo>
                  <a:lnTo>
                    <a:pt x="1834" y="11"/>
                  </a:lnTo>
                  <a:lnTo>
                    <a:pt x="1904" y="16"/>
                  </a:lnTo>
                  <a:lnTo>
                    <a:pt x="1972" y="21"/>
                  </a:lnTo>
                  <a:lnTo>
                    <a:pt x="2039" y="27"/>
                  </a:lnTo>
                  <a:lnTo>
                    <a:pt x="2104" y="34"/>
                  </a:lnTo>
                  <a:lnTo>
                    <a:pt x="2167" y="41"/>
                  </a:lnTo>
                  <a:lnTo>
                    <a:pt x="2229" y="49"/>
                  </a:lnTo>
                  <a:lnTo>
                    <a:pt x="2289" y="58"/>
                  </a:lnTo>
                  <a:lnTo>
                    <a:pt x="2346" y="67"/>
                  </a:lnTo>
                  <a:lnTo>
                    <a:pt x="2401" y="77"/>
                  </a:lnTo>
                  <a:lnTo>
                    <a:pt x="2454" y="88"/>
                  </a:lnTo>
                  <a:lnTo>
                    <a:pt x="2506" y="99"/>
                  </a:lnTo>
                  <a:lnTo>
                    <a:pt x="2554" y="111"/>
                  </a:lnTo>
                  <a:lnTo>
                    <a:pt x="2600" y="125"/>
                  </a:lnTo>
                  <a:lnTo>
                    <a:pt x="2644" y="138"/>
                  </a:lnTo>
                  <a:lnTo>
                    <a:pt x="2684" y="151"/>
                  </a:lnTo>
                  <a:lnTo>
                    <a:pt x="2723" y="165"/>
                  </a:lnTo>
                  <a:lnTo>
                    <a:pt x="2758" y="180"/>
                  </a:lnTo>
                  <a:lnTo>
                    <a:pt x="2790" y="195"/>
                  </a:lnTo>
                  <a:lnTo>
                    <a:pt x="2820" y="210"/>
                  </a:lnTo>
                  <a:lnTo>
                    <a:pt x="2846" y="226"/>
                  </a:lnTo>
                  <a:lnTo>
                    <a:pt x="2869" y="243"/>
                  </a:lnTo>
                  <a:lnTo>
                    <a:pt x="2888" y="260"/>
                  </a:lnTo>
                  <a:lnTo>
                    <a:pt x="2906" y="278"/>
                  </a:lnTo>
                  <a:lnTo>
                    <a:pt x="2918" y="295"/>
                  </a:lnTo>
                  <a:lnTo>
                    <a:pt x="2928" y="313"/>
                  </a:lnTo>
                  <a:lnTo>
                    <a:pt x="2933" y="332"/>
                  </a:lnTo>
                  <a:lnTo>
                    <a:pt x="2935" y="351"/>
                  </a:lnTo>
                  <a:close/>
                </a:path>
              </a:pathLst>
            </a:custGeom>
            <a:solidFill>
              <a:srgbClr val="fb5d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86840" y="6515640"/>
              <a:ext cx="322200" cy="84960"/>
            </a:xfrm>
            <a:custGeom>
              <a:avLst/>
              <a:gdLst/>
              <a:ahLst/>
              <a:rect l="l" t="t" r="r" b="b"/>
              <a:pathLst>
                <a:path w="2933" h="717">
                  <a:moveTo>
                    <a:pt x="2933" y="350"/>
                  </a:moveTo>
                  <a:lnTo>
                    <a:pt x="2931" y="369"/>
                  </a:lnTo>
                  <a:lnTo>
                    <a:pt x="2925" y="387"/>
                  </a:lnTo>
                  <a:lnTo>
                    <a:pt x="2916" y="406"/>
                  </a:lnTo>
                  <a:lnTo>
                    <a:pt x="2903" y="423"/>
                  </a:lnTo>
                  <a:lnTo>
                    <a:pt x="2886" y="442"/>
                  </a:lnTo>
                  <a:lnTo>
                    <a:pt x="2867" y="459"/>
                  </a:lnTo>
                  <a:lnTo>
                    <a:pt x="2844" y="476"/>
                  </a:lnTo>
                  <a:lnTo>
                    <a:pt x="2818" y="493"/>
                  </a:lnTo>
                  <a:lnTo>
                    <a:pt x="2788" y="509"/>
                  </a:lnTo>
                  <a:lnTo>
                    <a:pt x="2756" y="524"/>
                  </a:lnTo>
                  <a:lnTo>
                    <a:pt x="2721" y="540"/>
                  </a:lnTo>
                  <a:lnTo>
                    <a:pt x="2682" y="555"/>
                  </a:lnTo>
                  <a:lnTo>
                    <a:pt x="2641" y="570"/>
                  </a:lnTo>
                  <a:lnTo>
                    <a:pt x="2598" y="583"/>
                  </a:lnTo>
                  <a:lnTo>
                    <a:pt x="2552" y="597"/>
                  </a:lnTo>
                  <a:lnTo>
                    <a:pt x="2504" y="609"/>
                  </a:lnTo>
                  <a:lnTo>
                    <a:pt x="2452" y="621"/>
                  </a:lnTo>
                  <a:lnTo>
                    <a:pt x="2400" y="633"/>
                  </a:lnTo>
                  <a:lnTo>
                    <a:pt x="2344" y="643"/>
                  </a:lnTo>
                  <a:lnTo>
                    <a:pt x="2287" y="655"/>
                  </a:lnTo>
                  <a:lnTo>
                    <a:pt x="2227" y="664"/>
                  </a:lnTo>
                  <a:lnTo>
                    <a:pt x="2165" y="673"/>
                  </a:lnTo>
                  <a:lnTo>
                    <a:pt x="2102" y="681"/>
                  </a:lnTo>
                  <a:lnTo>
                    <a:pt x="2037" y="688"/>
                  </a:lnTo>
                  <a:lnTo>
                    <a:pt x="1970" y="695"/>
                  </a:lnTo>
                  <a:lnTo>
                    <a:pt x="1903" y="700"/>
                  </a:lnTo>
                  <a:lnTo>
                    <a:pt x="1833" y="705"/>
                  </a:lnTo>
                  <a:lnTo>
                    <a:pt x="1762" y="709"/>
                  </a:lnTo>
                  <a:lnTo>
                    <a:pt x="1690" y="712"/>
                  </a:lnTo>
                  <a:lnTo>
                    <a:pt x="1616" y="715"/>
                  </a:lnTo>
                  <a:lnTo>
                    <a:pt x="1542" y="716"/>
                  </a:lnTo>
                  <a:lnTo>
                    <a:pt x="1466" y="717"/>
                  </a:lnTo>
                  <a:lnTo>
                    <a:pt x="1391" y="716"/>
                  </a:lnTo>
                  <a:lnTo>
                    <a:pt x="1317" y="715"/>
                  </a:lnTo>
                  <a:lnTo>
                    <a:pt x="1243" y="712"/>
                  </a:lnTo>
                  <a:lnTo>
                    <a:pt x="1171" y="709"/>
                  </a:lnTo>
                  <a:lnTo>
                    <a:pt x="1100" y="705"/>
                  </a:lnTo>
                  <a:lnTo>
                    <a:pt x="1030" y="700"/>
                  </a:lnTo>
                  <a:lnTo>
                    <a:pt x="963" y="695"/>
                  </a:lnTo>
                  <a:lnTo>
                    <a:pt x="896" y="688"/>
                  </a:lnTo>
                  <a:lnTo>
                    <a:pt x="831" y="681"/>
                  </a:lnTo>
                  <a:lnTo>
                    <a:pt x="768" y="673"/>
                  </a:lnTo>
                  <a:lnTo>
                    <a:pt x="706" y="664"/>
                  </a:lnTo>
                  <a:lnTo>
                    <a:pt x="646" y="655"/>
                  </a:lnTo>
                  <a:lnTo>
                    <a:pt x="589" y="643"/>
                  </a:lnTo>
                  <a:lnTo>
                    <a:pt x="534" y="633"/>
                  </a:lnTo>
                  <a:lnTo>
                    <a:pt x="481" y="621"/>
                  </a:lnTo>
                  <a:lnTo>
                    <a:pt x="430" y="609"/>
                  </a:lnTo>
                  <a:lnTo>
                    <a:pt x="381" y="597"/>
                  </a:lnTo>
                  <a:lnTo>
                    <a:pt x="335" y="583"/>
                  </a:lnTo>
                  <a:lnTo>
                    <a:pt x="292" y="570"/>
                  </a:lnTo>
                  <a:lnTo>
                    <a:pt x="250" y="555"/>
                  </a:lnTo>
                  <a:lnTo>
                    <a:pt x="213" y="540"/>
                  </a:lnTo>
                  <a:lnTo>
                    <a:pt x="178" y="524"/>
                  </a:lnTo>
                  <a:lnTo>
                    <a:pt x="145" y="509"/>
                  </a:lnTo>
                  <a:lnTo>
                    <a:pt x="115" y="493"/>
                  </a:lnTo>
                  <a:lnTo>
                    <a:pt x="89" y="476"/>
                  </a:lnTo>
                  <a:lnTo>
                    <a:pt x="67" y="459"/>
                  </a:lnTo>
                  <a:lnTo>
                    <a:pt x="46" y="442"/>
                  </a:lnTo>
                  <a:lnTo>
                    <a:pt x="30" y="423"/>
                  </a:lnTo>
                  <a:lnTo>
                    <a:pt x="17" y="406"/>
                  </a:lnTo>
                  <a:lnTo>
                    <a:pt x="8" y="387"/>
                  </a:lnTo>
                  <a:lnTo>
                    <a:pt x="2" y="369"/>
                  </a:lnTo>
                  <a:lnTo>
                    <a:pt x="0" y="350"/>
                  </a:lnTo>
                  <a:lnTo>
                    <a:pt x="2" y="331"/>
                  </a:lnTo>
                  <a:lnTo>
                    <a:pt x="8" y="312"/>
                  </a:lnTo>
                  <a:lnTo>
                    <a:pt x="17" y="294"/>
                  </a:lnTo>
                  <a:lnTo>
                    <a:pt x="30" y="277"/>
                  </a:lnTo>
                  <a:lnTo>
                    <a:pt x="46" y="260"/>
                  </a:lnTo>
                  <a:lnTo>
                    <a:pt x="67" y="243"/>
                  </a:lnTo>
                  <a:lnTo>
                    <a:pt x="89" y="225"/>
                  </a:lnTo>
                  <a:lnTo>
                    <a:pt x="115" y="209"/>
                  </a:lnTo>
                  <a:lnTo>
                    <a:pt x="145" y="194"/>
                  </a:lnTo>
                  <a:lnTo>
                    <a:pt x="178" y="179"/>
                  </a:lnTo>
                  <a:lnTo>
                    <a:pt x="213" y="165"/>
                  </a:lnTo>
                  <a:lnTo>
                    <a:pt x="250" y="151"/>
                  </a:lnTo>
                  <a:lnTo>
                    <a:pt x="292" y="137"/>
                  </a:lnTo>
                  <a:lnTo>
                    <a:pt x="335" y="124"/>
                  </a:lnTo>
                  <a:lnTo>
                    <a:pt x="381" y="111"/>
                  </a:lnTo>
                  <a:lnTo>
                    <a:pt x="430" y="99"/>
                  </a:lnTo>
                  <a:lnTo>
                    <a:pt x="481" y="88"/>
                  </a:lnTo>
                  <a:lnTo>
                    <a:pt x="534" y="77"/>
                  </a:lnTo>
                  <a:lnTo>
                    <a:pt x="589" y="67"/>
                  </a:lnTo>
                  <a:lnTo>
                    <a:pt x="646" y="58"/>
                  </a:lnTo>
                  <a:lnTo>
                    <a:pt x="706" y="49"/>
                  </a:lnTo>
                  <a:lnTo>
                    <a:pt x="768" y="41"/>
                  </a:lnTo>
                  <a:lnTo>
                    <a:pt x="831" y="34"/>
                  </a:lnTo>
                  <a:lnTo>
                    <a:pt x="896" y="27"/>
                  </a:lnTo>
                  <a:lnTo>
                    <a:pt x="963" y="21"/>
                  </a:lnTo>
                  <a:lnTo>
                    <a:pt x="1030" y="16"/>
                  </a:lnTo>
                  <a:lnTo>
                    <a:pt x="1100" y="11"/>
                  </a:lnTo>
                  <a:lnTo>
                    <a:pt x="1171" y="7"/>
                  </a:lnTo>
                  <a:lnTo>
                    <a:pt x="1243" y="4"/>
                  </a:lnTo>
                  <a:lnTo>
                    <a:pt x="1317" y="2"/>
                  </a:lnTo>
                  <a:lnTo>
                    <a:pt x="1391" y="1"/>
                  </a:lnTo>
                  <a:lnTo>
                    <a:pt x="1466" y="0"/>
                  </a:lnTo>
                  <a:lnTo>
                    <a:pt x="1542" y="1"/>
                  </a:lnTo>
                  <a:lnTo>
                    <a:pt x="1616" y="2"/>
                  </a:lnTo>
                  <a:lnTo>
                    <a:pt x="1690" y="4"/>
                  </a:lnTo>
                  <a:lnTo>
                    <a:pt x="1762" y="7"/>
                  </a:lnTo>
                  <a:lnTo>
                    <a:pt x="1833" y="11"/>
                  </a:lnTo>
                  <a:lnTo>
                    <a:pt x="1903" y="16"/>
                  </a:lnTo>
                  <a:lnTo>
                    <a:pt x="1970" y="21"/>
                  </a:lnTo>
                  <a:lnTo>
                    <a:pt x="2037" y="27"/>
                  </a:lnTo>
                  <a:lnTo>
                    <a:pt x="2102" y="34"/>
                  </a:lnTo>
                  <a:lnTo>
                    <a:pt x="2165" y="41"/>
                  </a:lnTo>
                  <a:lnTo>
                    <a:pt x="2227" y="49"/>
                  </a:lnTo>
                  <a:lnTo>
                    <a:pt x="2287" y="58"/>
                  </a:lnTo>
                  <a:lnTo>
                    <a:pt x="2344" y="67"/>
                  </a:lnTo>
                  <a:lnTo>
                    <a:pt x="2400" y="77"/>
                  </a:lnTo>
                  <a:lnTo>
                    <a:pt x="2452" y="88"/>
                  </a:lnTo>
                  <a:lnTo>
                    <a:pt x="2504" y="99"/>
                  </a:lnTo>
                  <a:lnTo>
                    <a:pt x="2552" y="111"/>
                  </a:lnTo>
                  <a:lnTo>
                    <a:pt x="2598" y="124"/>
                  </a:lnTo>
                  <a:lnTo>
                    <a:pt x="2641" y="137"/>
                  </a:lnTo>
                  <a:lnTo>
                    <a:pt x="2682" y="151"/>
                  </a:lnTo>
                  <a:lnTo>
                    <a:pt x="2721" y="165"/>
                  </a:lnTo>
                  <a:lnTo>
                    <a:pt x="2756" y="179"/>
                  </a:lnTo>
                  <a:lnTo>
                    <a:pt x="2788" y="194"/>
                  </a:lnTo>
                  <a:lnTo>
                    <a:pt x="2818" y="209"/>
                  </a:lnTo>
                  <a:lnTo>
                    <a:pt x="2844" y="225"/>
                  </a:lnTo>
                  <a:lnTo>
                    <a:pt x="2867" y="243"/>
                  </a:lnTo>
                  <a:lnTo>
                    <a:pt x="2886" y="260"/>
                  </a:lnTo>
                  <a:lnTo>
                    <a:pt x="2903" y="277"/>
                  </a:lnTo>
                  <a:lnTo>
                    <a:pt x="2916" y="294"/>
                  </a:lnTo>
                  <a:lnTo>
                    <a:pt x="2925" y="312"/>
                  </a:lnTo>
                  <a:lnTo>
                    <a:pt x="2931" y="331"/>
                  </a:lnTo>
                  <a:lnTo>
                    <a:pt x="2933" y="350"/>
                  </a:lnTo>
                  <a:close/>
                </a:path>
              </a:pathLst>
            </a:custGeom>
            <a:solidFill>
              <a:srgbClr val="fb5b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86840" y="6515640"/>
              <a:ext cx="322200" cy="84960"/>
            </a:xfrm>
            <a:custGeom>
              <a:avLst/>
              <a:gdLst/>
              <a:ahLst/>
              <a:rect l="l" t="t" r="r" b="b"/>
              <a:pathLst>
                <a:path w="2929" h="715">
                  <a:moveTo>
                    <a:pt x="2929" y="349"/>
                  </a:moveTo>
                  <a:lnTo>
                    <a:pt x="2928" y="368"/>
                  </a:lnTo>
                  <a:lnTo>
                    <a:pt x="2922" y="386"/>
                  </a:lnTo>
                  <a:lnTo>
                    <a:pt x="2913" y="404"/>
                  </a:lnTo>
                  <a:lnTo>
                    <a:pt x="2900" y="422"/>
                  </a:lnTo>
                  <a:lnTo>
                    <a:pt x="2883" y="441"/>
                  </a:lnTo>
                  <a:lnTo>
                    <a:pt x="2863" y="458"/>
                  </a:lnTo>
                  <a:lnTo>
                    <a:pt x="2840" y="475"/>
                  </a:lnTo>
                  <a:lnTo>
                    <a:pt x="2814" y="491"/>
                  </a:lnTo>
                  <a:lnTo>
                    <a:pt x="2784" y="507"/>
                  </a:lnTo>
                  <a:lnTo>
                    <a:pt x="2752" y="523"/>
                  </a:lnTo>
                  <a:lnTo>
                    <a:pt x="2717" y="538"/>
                  </a:lnTo>
                  <a:lnTo>
                    <a:pt x="2679" y="554"/>
                  </a:lnTo>
                  <a:lnTo>
                    <a:pt x="2638" y="568"/>
                  </a:lnTo>
                  <a:lnTo>
                    <a:pt x="2595" y="582"/>
                  </a:lnTo>
                  <a:lnTo>
                    <a:pt x="2549" y="595"/>
                  </a:lnTo>
                  <a:lnTo>
                    <a:pt x="2501" y="608"/>
                  </a:lnTo>
                  <a:lnTo>
                    <a:pt x="2449" y="620"/>
                  </a:lnTo>
                  <a:lnTo>
                    <a:pt x="2397" y="631"/>
                  </a:lnTo>
                  <a:lnTo>
                    <a:pt x="2341" y="642"/>
                  </a:lnTo>
                  <a:lnTo>
                    <a:pt x="2284" y="652"/>
                  </a:lnTo>
                  <a:lnTo>
                    <a:pt x="2224" y="662"/>
                  </a:lnTo>
                  <a:lnTo>
                    <a:pt x="2162" y="671"/>
                  </a:lnTo>
                  <a:lnTo>
                    <a:pt x="2100" y="679"/>
                  </a:lnTo>
                  <a:lnTo>
                    <a:pt x="2035" y="686"/>
                  </a:lnTo>
                  <a:lnTo>
                    <a:pt x="1968" y="693"/>
                  </a:lnTo>
                  <a:lnTo>
                    <a:pt x="1900" y="698"/>
                  </a:lnTo>
                  <a:lnTo>
                    <a:pt x="1831" y="703"/>
                  </a:lnTo>
                  <a:lnTo>
                    <a:pt x="1759" y="707"/>
                  </a:lnTo>
                  <a:lnTo>
                    <a:pt x="1688" y="711"/>
                  </a:lnTo>
                  <a:lnTo>
                    <a:pt x="1614" y="713"/>
                  </a:lnTo>
                  <a:lnTo>
                    <a:pt x="1540" y="714"/>
                  </a:lnTo>
                  <a:lnTo>
                    <a:pt x="1464" y="715"/>
                  </a:lnTo>
                  <a:lnTo>
                    <a:pt x="1389" y="714"/>
                  </a:lnTo>
                  <a:lnTo>
                    <a:pt x="1315" y="713"/>
                  </a:lnTo>
                  <a:lnTo>
                    <a:pt x="1241" y="711"/>
                  </a:lnTo>
                  <a:lnTo>
                    <a:pt x="1170" y="707"/>
                  </a:lnTo>
                  <a:lnTo>
                    <a:pt x="1099" y="703"/>
                  </a:lnTo>
                  <a:lnTo>
                    <a:pt x="1029" y="698"/>
                  </a:lnTo>
                  <a:lnTo>
                    <a:pt x="961" y="693"/>
                  </a:lnTo>
                  <a:lnTo>
                    <a:pt x="895" y="686"/>
                  </a:lnTo>
                  <a:lnTo>
                    <a:pt x="829" y="679"/>
                  </a:lnTo>
                  <a:lnTo>
                    <a:pt x="767" y="671"/>
                  </a:lnTo>
                  <a:lnTo>
                    <a:pt x="705" y="662"/>
                  </a:lnTo>
                  <a:lnTo>
                    <a:pt x="645" y="652"/>
                  </a:lnTo>
                  <a:lnTo>
                    <a:pt x="588" y="642"/>
                  </a:lnTo>
                  <a:lnTo>
                    <a:pt x="533" y="631"/>
                  </a:lnTo>
                  <a:lnTo>
                    <a:pt x="480" y="620"/>
                  </a:lnTo>
                  <a:lnTo>
                    <a:pt x="429" y="608"/>
                  </a:lnTo>
                  <a:lnTo>
                    <a:pt x="381" y="595"/>
                  </a:lnTo>
                  <a:lnTo>
                    <a:pt x="334" y="582"/>
                  </a:lnTo>
                  <a:lnTo>
                    <a:pt x="291" y="568"/>
                  </a:lnTo>
                  <a:lnTo>
                    <a:pt x="250" y="554"/>
                  </a:lnTo>
                  <a:lnTo>
                    <a:pt x="212" y="538"/>
                  </a:lnTo>
                  <a:lnTo>
                    <a:pt x="177" y="523"/>
                  </a:lnTo>
                  <a:lnTo>
                    <a:pt x="144" y="507"/>
                  </a:lnTo>
                  <a:lnTo>
                    <a:pt x="115" y="491"/>
                  </a:lnTo>
                  <a:lnTo>
                    <a:pt x="89" y="475"/>
                  </a:lnTo>
                  <a:lnTo>
                    <a:pt x="66" y="458"/>
                  </a:lnTo>
                  <a:lnTo>
                    <a:pt x="45" y="441"/>
                  </a:lnTo>
                  <a:lnTo>
                    <a:pt x="29" y="422"/>
                  </a:lnTo>
                  <a:lnTo>
                    <a:pt x="16" y="404"/>
                  </a:lnTo>
                  <a:lnTo>
                    <a:pt x="7" y="386"/>
                  </a:lnTo>
                  <a:lnTo>
                    <a:pt x="2" y="368"/>
                  </a:lnTo>
                  <a:lnTo>
                    <a:pt x="0" y="349"/>
                  </a:lnTo>
                  <a:lnTo>
                    <a:pt x="2" y="330"/>
                  </a:lnTo>
                  <a:lnTo>
                    <a:pt x="7" y="311"/>
                  </a:lnTo>
                  <a:lnTo>
                    <a:pt x="16" y="293"/>
                  </a:lnTo>
                  <a:lnTo>
                    <a:pt x="29" y="276"/>
                  </a:lnTo>
                  <a:lnTo>
                    <a:pt x="45" y="259"/>
                  </a:lnTo>
                  <a:lnTo>
                    <a:pt x="66" y="242"/>
                  </a:lnTo>
                  <a:lnTo>
                    <a:pt x="89" y="226"/>
                  </a:lnTo>
                  <a:lnTo>
                    <a:pt x="115" y="209"/>
                  </a:lnTo>
                  <a:lnTo>
                    <a:pt x="144" y="193"/>
                  </a:lnTo>
                  <a:lnTo>
                    <a:pt x="177" y="178"/>
                  </a:lnTo>
                  <a:lnTo>
                    <a:pt x="212" y="164"/>
                  </a:lnTo>
                  <a:lnTo>
                    <a:pt x="250" y="150"/>
                  </a:lnTo>
                  <a:lnTo>
                    <a:pt x="291" y="137"/>
                  </a:lnTo>
                  <a:lnTo>
                    <a:pt x="334" y="124"/>
                  </a:lnTo>
                  <a:lnTo>
                    <a:pt x="381" y="110"/>
                  </a:lnTo>
                  <a:lnTo>
                    <a:pt x="429" y="99"/>
                  </a:lnTo>
                  <a:lnTo>
                    <a:pt x="480" y="87"/>
                  </a:lnTo>
                  <a:lnTo>
                    <a:pt x="533" y="77"/>
                  </a:lnTo>
                  <a:lnTo>
                    <a:pt x="588" y="67"/>
                  </a:lnTo>
                  <a:lnTo>
                    <a:pt x="645" y="58"/>
                  </a:lnTo>
                  <a:lnTo>
                    <a:pt x="705" y="49"/>
                  </a:lnTo>
                  <a:lnTo>
                    <a:pt x="767" y="41"/>
                  </a:lnTo>
                  <a:lnTo>
                    <a:pt x="829" y="34"/>
                  </a:lnTo>
                  <a:lnTo>
                    <a:pt x="895" y="27"/>
                  </a:lnTo>
                  <a:lnTo>
                    <a:pt x="961" y="21"/>
                  </a:lnTo>
                  <a:lnTo>
                    <a:pt x="1029" y="16"/>
                  </a:lnTo>
                  <a:lnTo>
                    <a:pt x="1099" y="10"/>
                  </a:lnTo>
                  <a:lnTo>
                    <a:pt x="1170" y="7"/>
                  </a:lnTo>
                  <a:lnTo>
                    <a:pt x="1241" y="4"/>
                  </a:lnTo>
                  <a:lnTo>
                    <a:pt x="1315" y="2"/>
                  </a:lnTo>
                  <a:lnTo>
                    <a:pt x="1389" y="1"/>
                  </a:lnTo>
                  <a:lnTo>
                    <a:pt x="1464" y="0"/>
                  </a:lnTo>
                  <a:lnTo>
                    <a:pt x="1540" y="1"/>
                  </a:lnTo>
                  <a:lnTo>
                    <a:pt x="1614" y="2"/>
                  </a:lnTo>
                  <a:lnTo>
                    <a:pt x="1688" y="4"/>
                  </a:lnTo>
                  <a:lnTo>
                    <a:pt x="1759" y="7"/>
                  </a:lnTo>
                  <a:lnTo>
                    <a:pt x="1831" y="10"/>
                  </a:lnTo>
                  <a:lnTo>
                    <a:pt x="1900" y="16"/>
                  </a:lnTo>
                  <a:lnTo>
                    <a:pt x="1968" y="21"/>
                  </a:lnTo>
                  <a:lnTo>
                    <a:pt x="2035" y="27"/>
                  </a:lnTo>
                  <a:lnTo>
                    <a:pt x="2100" y="34"/>
                  </a:lnTo>
                  <a:lnTo>
                    <a:pt x="2162" y="41"/>
                  </a:lnTo>
                  <a:lnTo>
                    <a:pt x="2224" y="49"/>
                  </a:lnTo>
                  <a:lnTo>
                    <a:pt x="2284" y="58"/>
                  </a:lnTo>
                  <a:lnTo>
                    <a:pt x="2341" y="67"/>
                  </a:lnTo>
                  <a:lnTo>
                    <a:pt x="2397" y="77"/>
                  </a:lnTo>
                  <a:lnTo>
                    <a:pt x="2449" y="87"/>
                  </a:lnTo>
                  <a:lnTo>
                    <a:pt x="2501" y="99"/>
                  </a:lnTo>
                  <a:lnTo>
                    <a:pt x="2549" y="110"/>
                  </a:lnTo>
                  <a:lnTo>
                    <a:pt x="2595" y="124"/>
                  </a:lnTo>
                  <a:lnTo>
                    <a:pt x="2638" y="137"/>
                  </a:lnTo>
                  <a:lnTo>
                    <a:pt x="2679" y="150"/>
                  </a:lnTo>
                  <a:lnTo>
                    <a:pt x="2717" y="164"/>
                  </a:lnTo>
                  <a:lnTo>
                    <a:pt x="2752" y="178"/>
                  </a:lnTo>
                  <a:lnTo>
                    <a:pt x="2784" y="193"/>
                  </a:lnTo>
                  <a:lnTo>
                    <a:pt x="2814" y="209"/>
                  </a:lnTo>
                  <a:lnTo>
                    <a:pt x="2840" y="226"/>
                  </a:lnTo>
                  <a:lnTo>
                    <a:pt x="2863" y="242"/>
                  </a:lnTo>
                  <a:lnTo>
                    <a:pt x="2883" y="259"/>
                  </a:lnTo>
                  <a:lnTo>
                    <a:pt x="2900" y="276"/>
                  </a:lnTo>
                  <a:lnTo>
                    <a:pt x="2913" y="293"/>
                  </a:lnTo>
                  <a:lnTo>
                    <a:pt x="2922" y="311"/>
                  </a:lnTo>
                  <a:lnTo>
                    <a:pt x="2928" y="330"/>
                  </a:lnTo>
                  <a:lnTo>
                    <a:pt x="2929" y="349"/>
                  </a:lnTo>
                  <a:close/>
                </a:path>
              </a:pathLst>
            </a:custGeom>
            <a:solidFill>
              <a:srgbClr val="fb5b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86840" y="6515640"/>
              <a:ext cx="322200" cy="84960"/>
            </a:xfrm>
            <a:custGeom>
              <a:avLst/>
              <a:gdLst/>
              <a:ahLst/>
              <a:rect l="l" t="t" r="r" b="b"/>
              <a:pathLst>
                <a:path w="2927" h="713">
                  <a:moveTo>
                    <a:pt x="2927" y="348"/>
                  </a:moveTo>
                  <a:lnTo>
                    <a:pt x="2925" y="367"/>
                  </a:lnTo>
                  <a:lnTo>
                    <a:pt x="2920" y="385"/>
                  </a:lnTo>
                  <a:lnTo>
                    <a:pt x="2910" y="403"/>
                  </a:lnTo>
                  <a:lnTo>
                    <a:pt x="2898" y="421"/>
                  </a:lnTo>
                  <a:lnTo>
                    <a:pt x="2880" y="440"/>
                  </a:lnTo>
                  <a:lnTo>
                    <a:pt x="2861" y="457"/>
                  </a:lnTo>
                  <a:lnTo>
                    <a:pt x="2838" y="474"/>
                  </a:lnTo>
                  <a:lnTo>
                    <a:pt x="2812" y="490"/>
                  </a:lnTo>
                  <a:lnTo>
                    <a:pt x="2782" y="506"/>
                  </a:lnTo>
                  <a:lnTo>
                    <a:pt x="2750" y="522"/>
                  </a:lnTo>
                  <a:lnTo>
                    <a:pt x="2715" y="537"/>
                  </a:lnTo>
                  <a:lnTo>
                    <a:pt x="2677" y="552"/>
                  </a:lnTo>
                  <a:lnTo>
                    <a:pt x="2636" y="567"/>
                  </a:lnTo>
                  <a:lnTo>
                    <a:pt x="2593" y="580"/>
                  </a:lnTo>
                  <a:lnTo>
                    <a:pt x="2547" y="593"/>
                  </a:lnTo>
                  <a:lnTo>
                    <a:pt x="2499" y="606"/>
                  </a:lnTo>
                  <a:lnTo>
                    <a:pt x="2447" y="618"/>
                  </a:lnTo>
                  <a:lnTo>
                    <a:pt x="2395" y="629"/>
                  </a:lnTo>
                  <a:lnTo>
                    <a:pt x="2339" y="640"/>
                  </a:lnTo>
                  <a:lnTo>
                    <a:pt x="2282" y="650"/>
                  </a:lnTo>
                  <a:lnTo>
                    <a:pt x="2222" y="660"/>
                  </a:lnTo>
                  <a:lnTo>
                    <a:pt x="2161" y="669"/>
                  </a:lnTo>
                  <a:lnTo>
                    <a:pt x="2098" y="677"/>
                  </a:lnTo>
                  <a:lnTo>
                    <a:pt x="2033" y="684"/>
                  </a:lnTo>
                  <a:lnTo>
                    <a:pt x="1966" y="691"/>
                  </a:lnTo>
                  <a:lnTo>
                    <a:pt x="1899" y="697"/>
                  </a:lnTo>
                  <a:lnTo>
                    <a:pt x="1829" y="701"/>
                  </a:lnTo>
                  <a:lnTo>
                    <a:pt x="1758" y="705"/>
                  </a:lnTo>
                  <a:lnTo>
                    <a:pt x="1687" y="709"/>
                  </a:lnTo>
                  <a:lnTo>
                    <a:pt x="1613" y="711"/>
                  </a:lnTo>
                  <a:lnTo>
                    <a:pt x="1539" y="712"/>
                  </a:lnTo>
                  <a:lnTo>
                    <a:pt x="1463" y="713"/>
                  </a:lnTo>
                  <a:lnTo>
                    <a:pt x="1388" y="712"/>
                  </a:lnTo>
                  <a:lnTo>
                    <a:pt x="1314" y="711"/>
                  </a:lnTo>
                  <a:lnTo>
                    <a:pt x="1240" y="709"/>
                  </a:lnTo>
                  <a:lnTo>
                    <a:pt x="1169" y="705"/>
                  </a:lnTo>
                  <a:lnTo>
                    <a:pt x="1098" y="701"/>
                  </a:lnTo>
                  <a:lnTo>
                    <a:pt x="1028" y="697"/>
                  </a:lnTo>
                  <a:lnTo>
                    <a:pt x="961" y="691"/>
                  </a:lnTo>
                  <a:lnTo>
                    <a:pt x="894" y="684"/>
                  </a:lnTo>
                  <a:lnTo>
                    <a:pt x="829" y="677"/>
                  </a:lnTo>
                  <a:lnTo>
                    <a:pt x="766" y="669"/>
                  </a:lnTo>
                  <a:lnTo>
                    <a:pt x="705" y="660"/>
                  </a:lnTo>
                  <a:lnTo>
                    <a:pt x="645" y="650"/>
                  </a:lnTo>
                  <a:lnTo>
                    <a:pt x="588" y="640"/>
                  </a:lnTo>
                  <a:lnTo>
                    <a:pt x="532" y="629"/>
                  </a:lnTo>
                  <a:lnTo>
                    <a:pt x="480" y="618"/>
                  </a:lnTo>
                  <a:lnTo>
                    <a:pt x="429" y="606"/>
                  </a:lnTo>
                  <a:lnTo>
                    <a:pt x="381" y="593"/>
                  </a:lnTo>
                  <a:lnTo>
                    <a:pt x="334" y="580"/>
                  </a:lnTo>
                  <a:lnTo>
                    <a:pt x="291" y="567"/>
                  </a:lnTo>
                  <a:lnTo>
                    <a:pt x="251" y="552"/>
                  </a:lnTo>
                  <a:lnTo>
                    <a:pt x="212" y="537"/>
                  </a:lnTo>
                  <a:lnTo>
                    <a:pt x="177" y="522"/>
                  </a:lnTo>
                  <a:lnTo>
                    <a:pt x="144" y="506"/>
                  </a:lnTo>
                  <a:lnTo>
                    <a:pt x="115" y="490"/>
                  </a:lnTo>
                  <a:lnTo>
                    <a:pt x="89" y="474"/>
                  </a:lnTo>
                  <a:lnTo>
                    <a:pt x="66" y="457"/>
                  </a:lnTo>
                  <a:lnTo>
                    <a:pt x="47" y="440"/>
                  </a:lnTo>
                  <a:lnTo>
                    <a:pt x="30" y="421"/>
                  </a:lnTo>
                  <a:lnTo>
                    <a:pt x="17" y="403"/>
                  </a:lnTo>
                  <a:lnTo>
                    <a:pt x="8" y="385"/>
                  </a:lnTo>
                  <a:lnTo>
                    <a:pt x="2" y="367"/>
                  </a:lnTo>
                  <a:lnTo>
                    <a:pt x="0" y="348"/>
                  </a:lnTo>
                  <a:lnTo>
                    <a:pt x="2" y="329"/>
                  </a:lnTo>
                  <a:lnTo>
                    <a:pt x="8" y="310"/>
                  </a:lnTo>
                  <a:lnTo>
                    <a:pt x="17" y="293"/>
                  </a:lnTo>
                  <a:lnTo>
                    <a:pt x="30" y="275"/>
                  </a:lnTo>
                  <a:lnTo>
                    <a:pt x="47" y="258"/>
                  </a:lnTo>
                  <a:lnTo>
                    <a:pt x="66" y="241"/>
                  </a:lnTo>
                  <a:lnTo>
                    <a:pt x="89" y="225"/>
                  </a:lnTo>
                  <a:lnTo>
                    <a:pt x="115" y="208"/>
                  </a:lnTo>
                  <a:lnTo>
                    <a:pt x="144" y="193"/>
                  </a:lnTo>
                  <a:lnTo>
                    <a:pt x="177" y="178"/>
                  </a:lnTo>
                  <a:lnTo>
                    <a:pt x="212" y="164"/>
                  </a:lnTo>
                  <a:lnTo>
                    <a:pt x="251" y="150"/>
                  </a:lnTo>
                  <a:lnTo>
                    <a:pt x="291" y="136"/>
                  </a:lnTo>
                  <a:lnTo>
                    <a:pt x="334" y="123"/>
                  </a:lnTo>
                  <a:lnTo>
                    <a:pt x="381" y="110"/>
                  </a:lnTo>
                  <a:lnTo>
                    <a:pt x="429" y="98"/>
                  </a:lnTo>
                  <a:lnTo>
                    <a:pt x="480" y="87"/>
                  </a:lnTo>
                  <a:lnTo>
                    <a:pt x="532" y="77"/>
                  </a:lnTo>
                  <a:lnTo>
                    <a:pt x="588" y="67"/>
                  </a:lnTo>
                  <a:lnTo>
                    <a:pt x="645" y="57"/>
                  </a:lnTo>
                  <a:lnTo>
                    <a:pt x="705" y="49"/>
                  </a:lnTo>
                  <a:lnTo>
                    <a:pt x="766" y="41"/>
                  </a:lnTo>
                  <a:lnTo>
                    <a:pt x="829" y="33"/>
                  </a:lnTo>
                  <a:lnTo>
                    <a:pt x="894" y="27"/>
                  </a:lnTo>
                  <a:lnTo>
                    <a:pt x="961" y="21"/>
                  </a:lnTo>
                  <a:lnTo>
                    <a:pt x="1028" y="16"/>
                  </a:lnTo>
                  <a:lnTo>
                    <a:pt x="1098" y="11"/>
                  </a:lnTo>
                  <a:lnTo>
                    <a:pt x="1169" y="7"/>
                  </a:lnTo>
                  <a:lnTo>
                    <a:pt x="1240" y="4"/>
                  </a:lnTo>
                  <a:lnTo>
                    <a:pt x="1314" y="2"/>
                  </a:lnTo>
                  <a:lnTo>
                    <a:pt x="1388" y="1"/>
                  </a:lnTo>
                  <a:lnTo>
                    <a:pt x="1463" y="0"/>
                  </a:lnTo>
                  <a:lnTo>
                    <a:pt x="1539" y="1"/>
                  </a:lnTo>
                  <a:lnTo>
                    <a:pt x="1613" y="2"/>
                  </a:lnTo>
                  <a:lnTo>
                    <a:pt x="1687" y="4"/>
                  </a:lnTo>
                  <a:lnTo>
                    <a:pt x="1758" y="7"/>
                  </a:lnTo>
                  <a:lnTo>
                    <a:pt x="1829" y="11"/>
                  </a:lnTo>
                  <a:lnTo>
                    <a:pt x="1899" y="16"/>
                  </a:lnTo>
                  <a:lnTo>
                    <a:pt x="1966" y="21"/>
                  </a:lnTo>
                  <a:lnTo>
                    <a:pt x="2033" y="27"/>
                  </a:lnTo>
                  <a:lnTo>
                    <a:pt x="2098" y="33"/>
                  </a:lnTo>
                  <a:lnTo>
                    <a:pt x="2161" y="41"/>
                  </a:lnTo>
                  <a:lnTo>
                    <a:pt x="2222" y="49"/>
                  </a:lnTo>
                  <a:lnTo>
                    <a:pt x="2282" y="57"/>
                  </a:lnTo>
                  <a:lnTo>
                    <a:pt x="2339" y="67"/>
                  </a:lnTo>
                  <a:lnTo>
                    <a:pt x="2395" y="77"/>
                  </a:lnTo>
                  <a:lnTo>
                    <a:pt x="2447" y="87"/>
                  </a:lnTo>
                  <a:lnTo>
                    <a:pt x="2499" y="98"/>
                  </a:lnTo>
                  <a:lnTo>
                    <a:pt x="2547" y="110"/>
                  </a:lnTo>
                  <a:lnTo>
                    <a:pt x="2593" y="123"/>
                  </a:lnTo>
                  <a:lnTo>
                    <a:pt x="2636" y="136"/>
                  </a:lnTo>
                  <a:lnTo>
                    <a:pt x="2677" y="150"/>
                  </a:lnTo>
                  <a:lnTo>
                    <a:pt x="2715" y="164"/>
                  </a:lnTo>
                  <a:lnTo>
                    <a:pt x="2750" y="178"/>
                  </a:lnTo>
                  <a:lnTo>
                    <a:pt x="2782" y="193"/>
                  </a:lnTo>
                  <a:lnTo>
                    <a:pt x="2812" y="208"/>
                  </a:lnTo>
                  <a:lnTo>
                    <a:pt x="2838" y="225"/>
                  </a:lnTo>
                  <a:lnTo>
                    <a:pt x="2861" y="241"/>
                  </a:lnTo>
                  <a:lnTo>
                    <a:pt x="2880" y="258"/>
                  </a:lnTo>
                  <a:lnTo>
                    <a:pt x="2898" y="275"/>
                  </a:lnTo>
                  <a:lnTo>
                    <a:pt x="2910" y="293"/>
                  </a:lnTo>
                  <a:lnTo>
                    <a:pt x="2920" y="310"/>
                  </a:lnTo>
                  <a:lnTo>
                    <a:pt x="2925" y="329"/>
                  </a:lnTo>
                  <a:lnTo>
                    <a:pt x="2927" y="348"/>
                  </a:lnTo>
                  <a:close/>
                </a:path>
              </a:pathLst>
            </a:custGeom>
            <a:solidFill>
              <a:srgbClr val="fb5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86840" y="6517080"/>
              <a:ext cx="322200" cy="83880"/>
            </a:xfrm>
            <a:custGeom>
              <a:avLst/>
              <a:gdLst/>
              <a:ahLst/>
              <a:rect l="l" t="t" r="r" b="b"/>
              <a:pathLst>
                <a:path w="2924" h="711">
                  <a:moveTo>
                    <a:pt x="2924" y="347"/>
                  </a:moveTo>
                  <a:lnTo>
                    <a:pt x="2922" y="366"/>
                  </a:lnTo>
                  <a:lnTo>
                    <a:pt x="2916" y="384"/>
                  </a:lnTo>
                  <a:lnTo>
                    <a:pt x="2907" y="402"/>
                  </a:lnTo>
                  <a:lnTo>
                    <a:pt x="2894" y="420"/>
                  </a:lnTo>
                  <a:lnTo>
                    <a:pt x="2877" y="438"/>
                  </a:lnTo>
                  <a:lnTo>
                    <a:pt x="2857" y="455"/>
                  </a:lnTo>
                  <a:lnTo>
                    <a:pt x="2835" y="472"/>
                  </a:lnTo>
                  <a:lnTo>
                    <a:pt x="2809" y="489"/>
                  </a:lnTo>
                  <a:lnTo>
                    <a:pt x="2779" y="505"/>
                  </a:lnTo>
                  <a:lnTo>
                    <a:pt x="2747" y="520"/>
                  </a:lnTo>
                  <a:lnTo>
                    <a:pt x="2712" y="535"/>
                  </a:lnTo>
                  <a:lnTo>
                    <a:pt x="2673" y="551"/>
                  </a:lnTo>
                  <a:lnTo>
                    <a:pt x="2633" y="565"/>
                  </a:lnTo>
                  <a:lnTo>
                    <a:pt x="2590" y="579"/>
                  </a:lnTo>
                  <a:lnTo>
                    <a:pt x="2544" y="592"/>
                  </a:lnTo>
                  <a:lnTo>
                    <a:pt x="2496" y="604"/>
                  </a:lnTo>
                  <a:lnTo>
                    <a:pt x="2444" y="616"/>
                  </a:lnTo>
                  <a:lnTo>
                    <a:pt x="2392" y="628"/>
                  </a:lnTo>
                  <a:lnTo>
                    <a:pt x="2336" y="638"/>
                  </a:lnTo>
                  <a:lnTo>
                    <a:pt x="2278" y="648"/>
                  </a:lnTo>
                  <a:lnTo>
                    <a:pt x="2220" y="659"/>
                  </a:lnTo>
                  <a:lnTo>
                    <a:pt x="2158" y="667"/>
                  </a:lnTo>
                  <a:lnTo>
                    <a:pt x="2096" y="675"/>
                  </a:lnTo>
                  <a:lnTo>
                    <a:pt x="2030" y="683"/>
                  </a:lnTo>
                  <a:lnTo>
                    <a:pt x="1964" y="689"/>
                  </a:lnTo>
                  <a:lnTo>
                    <a:pt x="1896" y="695"/>
                  </a:lnTo>
                  <a:lnTo>
                    <a:pt x="1827" y="700"/>
                  </a:lnTo>
                  <a:lnTo>
                    <a:pt x="1756" y="704"/>
                  </a:lnTo>
                  <a:lnTo>
                    <a:pt x="1684" y="707"/>
                  </a:lnTo>
                  <a:lnTo>
                    <a:pt x="1611" y="709"/>
                  </a:lnTo>
                  <a:lnTo>
                    <a:pt x="1537" y="710"/>
                  </a:lnTo>
                  <a:lnTo>
                    <a:pt x="1461" y="711"/>
                  </a:lnTo>
                  <a:lnTo>
                    <a:pt x="1387" y="710"/>
                  </a:lnTo>
                  <a:lnTo>
                    <a:pt x="1312" y="709"/>
                  </a:lnTo>
                  <a:lnTo>
                    <a:pt x="1239" y="707"/>
                  </a:lnTo>
                  <a:lnTo>
                    <a:pt x="1167" y="704"/>
                  </a:lnTo>
                  <a:lnTo>
                    <a:pt x="1096" y="700"/>
                  </a:lnTo>
                  <a:lnTo>
                    <a:pt x="1027" y="695"/>
                  </a:lnTo>
                  <a:lnTo>
                    <a:pt x="959" y="689"/>
                  </a:lnTo>
                  <a:lnTo>
                    <a:pt x="893" y="683"/>
                  </a:lnTo>
                  <a:lnTo>
                    <a:pt x="828" y="675"/>
                  </a:lnTo>
                  <a:lnTo>
                    <a:pt x="765" y="667"/>
                  </a:lnTo>
                  <a:lnTo>
                    <a:pt x="703" y="659"/>
                  </a:lnTo>
                  <a:lnTo>
                    <a:pt x="644" y="648"/>
                  </a:lnTo>
                  <a:lnTo>
                    <a:pt x="587" y="638"/>
                  </a:lnTo>
                  <a:lnTo>
                    <a:pt x="531" y="628"/>
                  </a:lnTo>
                  <a:lnTo>
                    <a:pt x="479" y="616"/>
                  </a:lnTo>
                  <a:lnTo>
                    <a:pt x="428" y="604"/>
                  </a:lnTo>
                  <a:lnTo>
                    <a:pt x="380" y="592"/>
                  </a:lnTo>
                  <a:lnTo>
                    <a:pt x="333" y="579"/>
                  </a:lnTo>
                  <a:lnTo>
                    <a:pt x="290" y="565"/>
                  </a:lnTo>
                  <a:lnTo>
                    <a:pt x="250" y="551"/>
                  </a:lnTo>
                  <a:lnTo>
                    <a:pt x="211" y="535"/>
                  </a:lnTo>
                  <a:lnTo>
                    <a:pt x="176" y="520"/>
                  </a:lnTo>
                  <a:lnTo>
                    <a:pt x="143" y="505"/>
                  </a:lnTo>
                  <a:lnTo>
                    <a:pt x="114" y="489"/>
                  </a:lnTo>
                  <a:lnTo>
                    <a:pt x="88" y="472"/>
                  </a:lnTo>
                  <a:lnTo>
                    <a:pt x="66" y="455"/>
                  </a:lnTo>
                  <a:lnTo>
                    <a:pt x="46" y="438"/>
                  </a:lnTo>
                  <a:lnTo>
                    <a:pt x="29" y="420"/>
                  </a:lnTo>
                  <a:lnTo>
                    <a:pt x="16" y="402"/>
                  </a:lnTo>
                  <a:lnTo>
                    <a:pt x="7" y="384"/>
                  </a:lnTo>
                  <a:lnTo>
                    <a:pt x="1" y="366"/>
                  </a:lnTo>
                  <a:lnTo>
                    <a:pt x="0" y="347"/>
                  </a:lnTo>
                  <a:lnTo>
                    <a:pt x="1" y="328"/>
                  </a:lnTo>
                  <a:lnTo>
                    <a:pt x="7" y="310"/>
                  </a:lnTo>
                  <a:lnTo>
                    <a:pt x="16" y="292"/>
                  </a:lnTo>
                  <a:lnTo>
                    <a:pt x="29" y="274"/>
                  </a:lnTo>
                  <a:lnTo>
                    <a:pt x="46" y="257"/>
                  </a:lnTo>
                  <a:lnTo>
                    <a:pt x="66" y="241"/>
                  </a:lnTo>
                  <a:lnTo>
                    <a:pt x="88" y="224"/>
                  </a:lnTo>
                  <a:lnTo>
                    <a:pt x="114" y="208"/>
                  </a:lnTo>
                  <a:lnTo>
                    <a:pt x="143" y="192"/>
                  </a:lnTo>
                  <a:lnTo>
                    <a:pt x="176" y="177"/>
                  </a:lnTo>
                  <a:lnTo>
                    <a:pt x="211" y="163"/>
                  </a:lnTo>
                  <a:lnTo>
                    <a:pt x="250" y="149"/>
                  </a:lnTo>
                  <a:lnTo>
                    <a:pt x="290" y="136"/>
                  </a:lnTo>
                  <a:lnTo>
                    <a:pt x="333" y="123"/>
                  </a:lnTo>
                  <a:lnTo>
                    <a:pt x="380" y="110"/>
                  </a:lnTo>
                  <a:lnTo>
                    <a:pt x="428" y="98"/>
                  </a:lnTo>
                  <a:lnTo>
                    <a:pt x="479" y="87"/>
                  </a:lnTo>
                  <a:lnTo>
                    <a:pt x="531" y="76"/>
                  </a:lnTo>
                  <a:lnTo>
                    <a:pt x="587" y="66"/>
                  </a:lnTo>
                  <a:lnTo>
                    <a:pt x="644" y="57"/>
                  </a:lnTo>
                  <a:lnTo>
                    <a:pt x="703" y="49"/>
                  </a:lnTo>
                  <a:lnTo>
                    <a:pt x="765" y="41"/>
                  </a:lnTo>
                  <a:lnTo>
                    <a:pt x="828" y="33"/>
                  </a:lnTo>
                  <a:lnTo>
                    <a:pt x="893" y="27"/>
                  </a:lnTo>
                  <a:lnTo>
                    <a:pt x="959" y="21"/>
                  </a:lnTo>
                  <a:lnTo>
                    <a:pt x="1027" y="16"/>
                  </a:lnTo>
                  <a:lnTo>
                    <a:pt x="1096" y="11"/>
                  </a:lnTo>
                  <a:lnTo>
                    <a:pt x="1167" y="7"/>
                  </a:lnTo>
                  <a:lnTo>
                    <a:pt x="1239" y="4"/>
                  </a:lnTo>
                  <a:lnTo>
                    <a:pt x="1312" y="2"/>
                  </a:lnTo>
                  <a:lnTo>
                    <a:pt x="1387" y="0"/>
                  </a:lnTo>
                  <a:lnTo>
                    <a:pt x="1461" y="0"/>
                  </a:lnTo>
                  <a:lnTo>
                    <a:pt x="1537" y="0"/>
                  </a:lnTo>
                  <a:lnTo>
                    <a:pt x="1611" y="2"/>
                  </a:lnTo>
                  <a:lnTo>
                    <a:pt x="1684" y="4"/>
                  </a:lnTo>
                  <a:lnTo>
                    <a:pt x="1756" y="7"/>
                  </a:lnTo>
                  <a:lnTo>
                    <a:pt x="1827" y="11"/>
                  </a:lnTo>
                  <a:lnTo>
                    <a:pt x="1896" y="16"/>
                  </a:lnTo>
                  <a:lnTo>
                    <a:pt x="1964" y="21"/>
                  </a:lnTo>
                  <a:lnTo>
                    <a:pt x="2030" y="27"/>
                  </a:lnTo>
                  <a:lnTo>
                    <a:pt x="2096" y="33"/>
                  </a:lnTo>
                  <a:lnTo>
                    <a:pt x="2158" y="41"/>
                  </a:lnTo>
                  <a:lnTo>
                    <a:pt x="2220" y="49"/>
                  </a:lnTo>
                  <a:lnTo>
                    <a:pt x="2278" y="57"/>
                  </a:lnTo>
                  <a:lnTo>
                    <a:pt x="2336" y="66"/>
                  </a:lnTo>
                  <a:lnTo>
                    <a:pt x="2392" y="76"/>
                  </a:lnTo>
                  <a:lnTo>
                    <a:pt x="2444" y="87"/>
                  </a:lnTo>
                  <a:lnTo>
                    <a:pt x="2496" y="98"/>
                  </a:lnTo>
                  <a:lnTo>
                    <a:pt x="2544" y="110"/>
                  </a:lnTo>
                  <a:lnTo>
                    <a:pt x="2590" y="123"/>
                  </a:lnTo>
                  <a:lnTo>
                    <a:pt x="2633" y="136"/>
                  </a:lnTo>
                  <a:lnTo>
                    <a:pt x="2673" y="149"/>
                  </a:lnTo>
                  <a:lnTo>
                    <a:pt x="2712" y="163"/>
                  </a:lnTo>
                  <a:lnTo>
                    <a:pt x="2747" y="177"/>
                  </a:lnTo>
                  <a:lnTo>
                    <a:pt x="2779" y="192"/>
                  </a:lnTo>
                  <a:lnTo>
                    <a:pt x="2809" y="208"/>
                  </a:lnTo>
                  <a:lnTo>
                    <a:pt x="2835" y="224"/>
                  </a:lnTo>
                  <a:lnTo>
                    <a:pt x="2857" y="241"/>
                  </a:lnTo>
                  <a:lnTo>
                    <a:pt x="2877" y="257"/>
                  </a:lnTo>
                  <a:lnTo>
                    <a:pt x="2894" y="274"/>
                  </a:lnTo>
                  <a:lnTo>
                    <a:pt x="2907" y="292"/>
                  </a:lnTo>
                  <a:lnTo>
                    <a:pt x="2916" y="310"/>
                  </a:lnTo>
                  <a:lnTo>
                    <a:pt x="2922" y="328"/>
                  </a:lnTo>
                  <a:lnTo>
                    <a:pt x="2924" y="347"/>
                  </a:lnTo>
                  <a:close/>
                </a:path>
              </a:pathLst>
            </a:custGeom>
            <a:solidFill>
              <a:srgbClr val="fb5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86840" y="6517080"/>
              <a:ext cx="322200" cy="83880"/>
            </a:xfrm>
            <a:custGeom>
              <a:avLst/>
              <a:gdLst/>
              <a:ahLst/>
              <a:rect l="l" t="t" r="r" b="b"/>
              <a:pathLst>
                <a:path w="2921" h="709">
                  <a:moveTo>
                    <a:pt x="2921" y="346"/>
                  </a:moveTo>
                  <a:lnTo>
                    <a:pt x="2919" y="365"/>
                  </a:lnTo>
                  <a:lnTo>
                    <a:pt x="2914" y="383"/>
                  </a:lnTo>
                  <a:lnTo>
                    <a:pt x="2904" y="401"/>
                  </a:lnTo>
                  <a:lnTo>
                    <a:pt x="2892" y="419"/>
                  </a:lnTo>
                  <a:lnTo>
                    <a:pt x="2875" y="437"/>
                  </a:lnTo>
                  <a:lnTo>
                    <a:pt x="2855" y="454"/>
                  </a:lnTo>
                  <a:lnTo>
                    <a:pt x="2832" y="471"/>
                  </a:lnTo>
                  <a:lnTo>
                    <a:pt x="2807" y="487"/>
                  </a:lnTo>
                  <a:lnTo>
                    <a:pt x="2777" y="503"/>
                  </a:lnTo>
                  <a:lnTo>
                    <a:pt x="2745" y="519"/>
                  </a:lnTo>
                  <a:lnTo>
                    <a:pt x="2710" y="534"/>
                  </a:lnTo>
                  <a:lnTo>
                    <a:pt x="2671" y="549"/>
                  </a:lnTo>
                  <a:lnTo>
                    <a:pt x="2631" y="563"/>
                  </a:lnTo>
                  <a:lnTo>
                    <a:pt x="2588" y="577"/>
                  </a:lnTo>
                  <a:lnTo>
                    <a:pt x="2541" y="590"/>
                  </a:lnTo>
                  <a:lnTo>
                    <a:pt x="2494" y="603"/>
                  </a:lnTo>
                  <a:lnTo>
                    <a:pt x="2442" y="615"/>
                  </a:lnTo>
                  <a:lnTo>
                    <a:pt x="2390" y="626"/>
                  </a:lnTo>
                  <a:lnTo>
                    <a:pt x="2334" y="636"/>
                  </a:lnTo>
                  <a:lnTo>
                    <a:pt x="2277" y="647"/>
                  </a:lnTo>
                  <a:lnTo>
                    <a:pt x="2218" y="657"/>
                  </a:lnTo>
                  <a:lnTo>
                    <a:pt x="2156" y="666"/>
                  </a:lnTo>
                  <a:lnTo>
                    <a:pt x="2094" y="673"/>
                  </a:lnTo>
                  <a:lnTo>
                    <a:pt x="2029" y="681"/>
                  </a:lnTo>
                  <a:lnTo>
                    <a:pt x="1962" y="687"/>
                  </a:lnTo>
                  <a:lnTo>
                    <a:pt x="1895" y="693"/>
                  </a:lnTo>
                  <a:lnTo>
                    <a:pt x="1825" y="698"/>
                  </a:lnTo>
                  <a:lnTo>
                    <a:pt x="1755" y="702"/>
                  </a:lnTo>
                  <a:lnTo>
                    <a:pt x="1683" y="705"/>
                  </a:lnTo>
                  <a:lnTo>
                    <a:pt x="1610" y="707"/>
                  </a:lnTo>
                  <a:lnTo>
                    <a:pt x="1535" y="708"/>
                  </a:lnTo>
                  <a:lnTo>
                    <a:pt x="1460" y="709"/>
                  </a:lnTo>
                  <a:lnTo>
                    <a:pt x="1386" y="708"/>
                  </a:lnTo>
                  <a:lnTo>
                    <a:pt x="1311" y="707"/>
                  </a:lnTo>
                  <a:lnTo>
                    <a:pt x="1238" y="705"/>
                  </a:lnTo>
                  <a:lnTo>
                    <a:pt x="1167" y="702"/>
                  </a:lnTo>
                  <a:lnTo>
                    <a:pt x="1096" y="698"/>
                  </a:lnTo>
                  <a:lnTo>
                    <a:pt x="1026" y="693"/>
                  </a:lnTo>
                  <a:lnTo>
                    <a:pt x="959" y="687"/>
                  </a:lnTo>
                  <a:lnTo>
                    <a:pt x="892" y="681"/>
                  </a:lnTo>
                  <a:lnTo>
                    <a:pt x="827" y="673"/>
                  </a:lnTo>
                  <a:lnTo>
                    <a:pt x="765" y="666"/>
                  </a:lnTo>
                  <a:lnTo>
                    <a:pt x="703" y="657"/>
                  </a:lnTo>
                  <a:lnTo>
                    <a:pt x="644" y="647"/>
                  </a:lnTo>
                  <a:lnTo>
                    <a:pt x="587" y="636"/>
                  </a:lnTo>
                  <a:lnTo>
                    <a:pt x="531" y="626"/>
                  </a:lnTo>
                  <a:lnTo>
                    <a:pt x="479" y="615"/>
                  </a:lnTo>
                  <a:lnTo>
                    <a:pt x="428" y="603"/>
                  </a:lnTo>
                  <a:lnTo>
                    <a:pt x="380" y="590"/>
                  </a:lnTo>
                  <a:lnTo>
                    <a:pt x="333" y="577"/>
                  </a:lnTo>
                  <a:lnTo>
                    <a:pt x="290" y="563"/>
                  </a:lnTo>
                  <a:lnTo>
                    <a:pt x="250" y="549"/>
                  </a:lnTo>
                  <a:lnTo>
                    <a:pt x="211" y="534"/>
                  </a:lnTo>
                  <a:lnTo>
                    <a:pt x="177" y="519"/>
                  </a:lnTo>
                  <a:lnTo>
                    <a:pt x="145" y="503"/>
                  </a:lnTo>
                  <a:lnTo>
                    <a:pt x="115" y="487"/>
                  </a:lnTo>
                  <a:lnTo>
                    <a:pt x="89" y="471"/>
                  </a:lnTo>
                  <a:lnTo>
                    <a:pt x="66" y="454"/>
                  </a:lnTo>
                  <a:lnTo>
                    <a:pt x="47" y="437"/>
                  </a:lnTo>
                  <a:lnTo>
                    <a:pt x="29" y="419"/>
                  </a:lnTo>
                  <a:lnTo>
                    <a:pt x="17" y="401"/>
                  </a:lnTo>
                  <a:lnTo>
                    <a:pt x="7" y="383"/>
                  </a:lnTo>
                  <a:lnTo>
                    <a:pt x="2" y="365"/>
                  </a:lnTo>
                  <a:lnTo>
                    <a:pt x="0" y="346"/>
                  </a:lnTo>
                  <a:lnTo>
                    <a:pt x="2" y="327"/>
                  </a:lnTo>
                  <a:lnTo>
                    <a:pt x="7" y="309"/>
                  </a:lnTo>
                  <a:lnTo>
                    <a:pt x="17" y="291"/>
                  </a:lnTo>
                  <a:lnTo>
                    <a:pt x="29" y="273"/>
                  </a:lnTo>
                  <a:lnTo>
                    <a:pt x="47" y="256"/>
                  </a:lnTo>
                  <a:lnTo>
                    <a:pt x="66" y="240"/>
                  </a:lnTo>
                  <a:lnTo>
                    <a:pt x="89" y="224"/>
                  </a:lnTo>
                  <a:lnTo>
                    <a:pt x="115" y="207"/>
                  </a:lnTo>
                  <a:lnTo>
                    <a:pt x="145" y="192"/>
                  </a:lnTo>
                  <a:lnTo>
                    <a:pt x="177" y="177"/>
                  </a:lnTo>
                  <a:lnTo>
                    <a:pt x="211" y="163"/>
                  </a:lnTo>
                  <a:lnTo>
                    <a:pt x="250" y="149"/>
                  </a:lnTo>
                  <a:lnTo>
                    <a:pt x="290" y="135"/>
                  </a:lnTo>
                  <a:lnTo>
                    <a:pt x="333" y="123"/>
                  </a:lnTo>
                  <a:lnTo>
                    <a:pt x="380" y="109"/>
                  </a:lnTo>
                  <a:lnTo>
                    <a:pt x="428" y="98"/>
                  </a:lnTo>
                  <a:lnTo>
                    <a:pt x="479" y="87"/>
                  </a:lnTo>
                  <a:lnTo>
                    <a:pt x="531" y="76"/>
                  </a:lnTo>
                  <a:lnTo>
                    <a:pt x="587" y="66"/>
                  </a:lnTo>
                  <a:lnTo>
                    <a:pt x="644" y="57"/>
                  </a:lnTo>
                  <a:lnTo>
                    <a:pt x="703" y="48"/>
                  </a:lnTo>
                  <a:lnTo>
                    <a:pt x="765" y="40"/>
                  </a:lnTo>
                  <a:lnTo>
                    <a:pt x="827" y="33"/>
                  </a:lnTo>
                  <a:lnTo>
                    <a:pt x="892" y="27"/>
                  </a:lnTo>
                  <a:lnTo>
                    <a:pt x="959" y="21"/>
                  </a:lnTo>
                  <a:lnTo>
                    <a:pt x="1026" y="16"/>
                  </a:lnTo>
                  <a:lnTo>
                    <a:pt x="1096" y="11"/>
                  </a:lnTo>
                  <a:lnTo>
                    <a:pt x="1167" y="7"/>
                  </a:lnTo>
                  <a:lnTo>
                    <a:pt x="1238" y="4"/>
                  </a:lnTo>
                  <a:lnTo>
                    <a:pt x="1311" y="2"/>
                  </a:lnTo>
                  <a:lnTo>
                    <a:pt x="1386" y="0"/>
                  </a:lnTo>
                  <a:lnTo>
                    <a:pt x="1460" y="0"/>
                  </a:lnTo>
                  <a:lnTo>
                    <a:pt x="1535" y="0"/>
                  </a:lnTo>
                  <a:lnTo>
                    <a:pt x="1610" y="2"/>
                  </a:lnTo>
                  <a:lnTo>
                    <a:pt x="1683" y="4"/>
                  </a:lnTo>
                  <a:lnTo>
                    <a:pt x="1755" y="7"/>
                  </a:lnTo>
                  <a:lnTo>
                    <a:pt x="1825" y="11"/>
                  </a:lnTo>
                  <a:lnTo>
                    <a:pt x="1895" y="16"/>
                  </a:lnTo>
                  <a:lnTo>
                    <a:pt x="1962" y="21"/>
                  </a:lnTo>
                  <a:lnTo>
                    <a:pt x="2029" y="27"/>
                  </a:lnTo>
                  <a:lnTo>
                    <a:pt x="2094" y="33"/>
                  </a:lnTo>
                  <a:lnTo>
                    <a:pt x="2156" y="40"/>
                  </a:lnTo>
                  <a:lnTo>
                    <a:pt x="2218" y="48"/>
                  </a:lnTo>
                  <a:lnTo>
                    <a:pt x="2277" y="57"/>
                  </a:lnTo>
                  <a:lnTo>
                    <a:pt x="2334" y="66"/>
                  </a:lnTo>
                  <a:lnTo>
                    <a:pt x="2390" y="76"/>
                  </a:lnTo>
                  <a:lnTo>
                    <a:pt x="2442" y="87"/>
                  </a:lnTo>
                  <a:lnTo>
                    <a:pt x="2494" y="98"/>
                  </a:lnTo>
                  <a:lnTo>
                    <a:pt x="2541" y="109"/>
                  </a:lnTo>
                  <a:lnTo>
                    <a:pt x="2588" y="123"/>
                  </a:lnTo>
                  <a:lnTo>
                    <a:pt x="2631" y="135"/>
                  </a:lnTo>
                  <a:lnTo>
                    <a:pt x="2671" y="149"/>
                  </a:lnTo>
                  <a:lnTo>
                    <a:pt x="2710" y="163"/>
                  </a:lnTo>
                  <a:lnTo>
                    <a:pt x="2745" y="177"/>
                  </a:lnTo>
                  <a:lnTo>
                    <a:pt x="2777" y="192"/>
                  </a:lnTo>
                  <a:lnTo>
                    <a:pt x="2807" y="207"/>
                  </a:lnTo>
                  <a:lnTo>
                    <a:pt x="2832" y="224"/>
                  </a:lnTo>
                  <a:lnTo>
                    <a:pt x="2855" y="240"/>
                  </a:lnTo>
                  <a:lnTo>
                    <a:pt x="2875" y="256"/>
                  </a:lnTo>
                  <a:lnTo>
                    <a:pt x="2892" y="273"/>
                  </a:lnTo>
                  <a:lnTo>
                    <a:pt x="2904" y="291"/>
                  </a:lnTo>
                  <a:lnTo>
                    <a:pt x="2914" y="309"/>
                  </a:lnTo>
                  <a:lnTo>
                    <a:pt x="2919" y="327"/>
                  </a:lnTo>
                  <a:lnTo>
                    <a:pt x="2921" y="346"/>
                  </a:lnTo>
                  <a:close/>
                </a:path>
              </a:pathLst>
            </a:custGeom>
            <a:solidFill>
              <a:srgbClr val="fb5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86840" y="6517080"/>
              <a:ext cx="322200" cy="83880"/>
            </a:xfrm>
            <a:custGeom>
              <a:avLst/>
              <a:gdLst/>
              <a:ahLst/>
              <a:rect l="l" t="t" r="r" b="b"/>
              <a:pathLst>
                <a:path w="2919" h="707">
                  <a:moveTo>
                    <a:pt x="2919" y="345"/>
                  </a:moveTo>
                  <a:lnTo>
                    <a:pt x="2917" y="364"/>
                  </a:lnTo>
                  <a:lnTo>
                    <a:pt x="2911" y="382"/>
                  </a:lnTo>
                  <a:lnTo>
                    <a:pt x="2902" y="400"/>
                  </a:lnTo>
                  <a:lnTo>
                    <a:pt x="2889" y="418"/>
                  </a:lnTo>
                  <a:lnTo>
                    <a:pt x="2872" y="436"/>
                  </a:lnTo>
                  <a:lnTo>
                    <a:pt x="2853" y="453"/>
                  </a:lnTo>
                  <a:lnTo>
                    <a:pt x="2830" y="470"/>
                  </a:lnTo>
                  <a:lnTo>
                    <a:pt x="2804" y="486"/>
                  </a:lnTo>
                  <a:lnTo>
                    <a:pt x="2774" y="502"/>
                  </a:lnTo>
                  <a:lnTo>
                    <a:pt x="2742" y="517"/>
                  </a:lnTo>
                  <a:lnTo>
                    <a:pt x="2708" y="532"/>
                  </a:lnTo>
                  <a:lnTo>
                    <a:pt x="2669" y="548"/>
                  </a:lnTo>
                  <a:lnTo>
                    <a:pt x="2629" y="562"/>
                  </a:lnTo>
                  <a:lnTo>
                    <a:pt x="2586" y="575"/>
                  </a:lnTo>
                  <a:lnTo>
                    <a:pt x="2539" y="588"/>
                  </a:lnTo>
                  <a:lnTo>
                    <a:pt x="2492" y="601"/>
                  </a:lnTo>
                  <a:lnTo>
                    <a:pt x="2440" y="613"/>
                  </a:lnTo>
                  <a:lnTo>
                    <a:pt x="2388" y="624"/>
                  </a:lnTo>
                  <a:lnTo>
                    <a:pt x="2332" y="635"/>
                  </a:lnTo>
                  <a:lnTo>
                    <a:pt x="2275" y="645"/>
                  </a:lnTo>
                  <a:lnTo>
                    <a:pt x="2216" y="655"/>
                  </a:lnTo>
                  <a:lnTo>
                    <a:pt x="2155" y="664"/>
                  </a:lnTo>
                  <a:lnTo>
                    <a:pt x="2092" y="672"/>
                  </a:lnTo>
                  <a:lnTo>
                    <a:pt x="2027" y="679"/>
                  </a:lnTo>
                  <a:lnTo>
                    <a:pt x="1961" y="685"/>
                  </a:lnTo>
                  <a:lnTo>
                    <a:pt x="1894" y="691"/>
                  </a:lnTo>
                  <a:lnTo>
                    <a:pt x="1824" y="696"/>
                  </a:lnTo>
                  <a:lnTo>
                    <a:pt x="1753" y="700"/>
                  </a:lnTo>
                  <a:lnTo>
                    <a:pt x="1682" y="703"/>
                  </a:lnTo>
                  <a:lnTo>
                    <a:pt x="1609" y="705"/>
                  </a:lnTo>
                  <a:lnTo>
                    <a:pt x="1534" y="707"/>
                  </a:lnTo>
                  <a:lnTo>
                    <a:pt x="1459" y="707"/>
                  </a:lnTo>
                  <a:lnTo>
                    <a:pt x="1385" y="707"/>
                  </a:lnTo>
                  <a:lnTo>
                    <a:pt x="1310" y="705"/>
                  </a:lnTo>
                  <a:lnTo>
                    <a:pt x="1237" y="703"/>
                  </a:lnTo>
                  <a:lnTo>
                    <a:pt x="1166" y="700"/>
                  </a:lnTo>
                  <a:lnTo>
                    <a:pt x="1095" y="696"/>
                  </a:lnTo>
                  <a:lnTo>
                    <a:pt x="1025" y="691"/>
                  </a:lnTo>
                  <a:lnTo>
                    <a:pt x="958" y="685"/>
                  </a:lnTo>
                  <a:lnTo>
                    <a:pt x="892" y="679"/>
                  </a:lnTo>
                  <a:lnTo>
                    <a:pt x="827" y="672"/>
                  </a:lnTo>
                  <a:lnTo>
                    <a:pt x="764" y="664"/>
                  </a:lnTo>
                  <a:lnTo>
                    <a:pt x="703" y="655"/>
                  </a:lnTo>
                  <a:lnTo>
                    <a:pt x="643" y="645"/>
                  </a:lnTo>
                  <a:lnTo>
                    <a:pt x="587" y="635"/>
                  </a:lnTo>
                  <a:lnTo>
                    <a:pt x="531" y="624"/>
                  </a:lnTo>
                  <a:lnTo>
                    <a:pt x="479" y="613"/>
                  </a:lnTo>
                  <a:lnTo>
                    <a:pt x="428" y="601"/>
                  </a:lnTo>
                  <a:lnTo>
                    <a:pt x="380" y="588"/>
                  </a:lnTo>
                  <a:lnTo>
                    <a:pt x="333" y="575"/>
                  </a:lnTo>
                  <a:lnTo>
                    <a:pt x="290" y="562"/>
                  </a:lnTo>
                  <a:lnTo>
                    <a:pt x="250" y="548"/>
                  </a:lnTo>
                  <a:lnTo>
                    <a:pt x="212" y="532"/>
                  </a:lnTo>
                  <a:lnTo>
                    <a:pt x="177" y="517"/>
                  </a:lnTo>
                  <a:lnTo>
                    <a:pt x="145" y="502"/>
                  </a:lnTo>
                  <a:lnTo>
                    <a:pt x="115" y="486"/>
                  </a:lnTo>
                  <a:lnTo>
                    <a:pt x="89" y="470"/>
                  </a:lnTo>
                  <a:lnTo>
                    <a:pt x="66" y="453"/>
                  </a:lnTo>
                  <a:lnTo>
                    <a:pt x="47" y="436"/>
                  </a:lnTo>
                  <a:lnTo>
                    <a:pt x="30" y="418"/>
                  </a:lnTo>
                  <a:lnTo>
                    <a:pt x="17" y="400"/>
                  </a:lnTo>
                  <a:lnTo>
                    <a:pt x="8" y="382"/>
                  </a:lnTo>
                  <a:lnTo>
                    <a:pt x="2" y="364"/>
                  </a:lnTo>
                  <a:lnTo>
                    <a:pt x="0" y="345"/>
                  </a:lnTo>
                  <a:lnTo>
                    <a:pt x="2" y="326"/>
                  </a:lnTo>
                  <a:lnTo>
                    <a:pt x="8" y="308"/>
                  </a:lnTo>
                  <a:lnTo>
                    <a:pt x="17" y="290"/>
                  </a:lnTo>
                  <a:lnTo>
                    <a:pt x="30" y="273"/>
                  </a:lnTo>
                  <a:lnTo>
                    <a:pt x="47" y="256"/>
                  </a:lnTo>
                  <a:lnTo>
                    <a:pt x="66" y="239"/>
                  </a:lnTo>
                  <a:lnTo>
                    <a:pt x="89" y="223"/>
                  </a:lnTo>
                  <a:lnTo>
                    <a:pt x="115" y="206"/>
                  </a:lnTo>
                  <a:lnTo>
                    <a:pt x="145" y="191"/>
                  </a:lnTo>
                  <a:lnTo>
                    <a:pt x="177" y="176"/>
                  </a:lnTo>
                  <a:lnTo>
                    <a:pt x="212" y="162"/>
                  </a:lnTo>
                  <a:lnTo>
                    <a:pt x="250" y="148"/>
                  </a:lnTo>
                  <a:lnTo>
                    <a:pt x="290" y="135"/>
                  </a:lnTo>
                  <a:lnTo>
                    <a:pt x="333" y="122"/>
                  </a:lnTo>
                  <a:lnTo>
                    <a:pt x="380" y="109"/>
                  </a:lnTo>
                  <a:lnTo>
                    <a:pt x="428" y="97"/>
                  </a:lnTo>
                  <a:lnTo>
                    <a:pt x="479" y="86"/>
                  </a:lnTo>
                  <a:lnTo>
                    <a:pt x="531" y="76"/>
                  </a:lnTo>
                  <a:lnTo>
                    <a:pt x="587" y="66"/>
                  </a:lnTo>
                  <a:lnTo>
                    <a:pt x="643" y="57"/>
                  </a:lnTo>
                  <a:lnTo>
                    <a:pt x="703" y="48"/>
                  </a:lnTo>
                  <a:lnTo>
                    <a:pt x="764" y="40"/>
                  </a:lnTo>
                  <a:lnTo>
                    <a:pt x="827" y="33"/>
                  </a:lnTo>
                  <a:lnTo>
                    <a:pt x="892" y="26"/>
                  </a:lnTo>
                  <a:lnTo>
                    <a:pt x="958" y="21"/>
                  </a:lnTo>
                  <a:lnTo>
                    <a:pt x="1025" y="15"/>
                  </a:lnTo>
                  <a:lnTo>
                    <a:pt x="1095" y="11"/>
                  </a:lnTo>
                  <a:lnTo>
                    <a:pt x="1166" y="6"/>
                  </a:lnTo>
                  <a:lnTo>
                    <a:pt x="1237" y="4"/>
                  </a:lnTo>
                  <a:lnTo>
                    <a:pt x="1310" y="2"/>
                  </a:lnTo>
                  <a:lnTo>
                    <a:pt x="1385" y="0"/>
                  </a:lnTo>
                  <a:lnTo>
                    <a:pt x="1459" y="0"/>
                  </a:lnTo>
                  <a:lnTo>
                    <a:pt x="1534" y="0"/>
                  </a:lnTo>
                  <a:lnTo>
                    <a:pt x="1609" y="2"/>
                  </a:lnTo>
                  <a:lnTo>
                    <a:pt x="1682" y="4"/>
                  </a:lnTo>
                  <a:lnTo>
                    <a:pt x="1753" y="6"/>
                  </a:lnTo>
                  <a:lnTo>
                    <a:pt x="1824" y="11"/>
                  </a:lnTo>
                  <a:lnTo>
                    <a:pt x="1894" y="15"/>
                  </a:lnTo>
                  <a:lnTo>
                    <a:pt x="1961" y="21"/>
                  </a:lnTo>
                  <a:lnTo>
                    <a:pt x="2027" y="26"/>
                  </a:lnTo>
                  <a:lnTo>
                    <a:pt x="2092" y="33"/>
                  </a:lnTo>
                  <a:lnTo>
                    <a:pt x="2155" y="40"/>
                  </a:lnTo>
                  <a:lnTo>
                    <a:pt x="2216" y="48"/>
                  </a:lnTo>
                  <a:lnTo>
                    <a:pt x="2275" y="57"/>
                  </a:lnTo>
                  <a:lnTo>
                    <a:pt x="2332" y="66"/>
                  </a:lnTo>
                  <a:lnTo>
                    <a:pt x="2388" y="76"/>
                  </a:lnTo>
                  <a:lnTo>
                    <a:pt x="2440" y="86"/>
                  </a:lnTo>
                  <a:lnTo>
                    <a:pt x="2492" y="97"/>
                  </a:lnTo>
                  <a:lnTo>
                    <a:pt x="2539" y="109"/>
                  </a:lnTo>
                  <a:lnTo>
                    <a:pt x="2586" y="122"/>
                  </a:lnTo>
                  <a:lnTo>
                    <a:pt x="2629" y="135"/>
                  </a:lnTo>
                  <a:lnTo>
                    <a:pt x="2669" y="148"/>
                  </a:lnTo>
                  <a:lnTo>
                    <a:pt x="2708" y="162"/>
                  </a:lnTo>
                  <a:lnTo>
                    <a:pt x="2742" y="176"/>
                  </a:lnTo>
                  <a:lnTo>
                    <a:pt x="2774" y="191"/>
                  </a:lnTo>
                  <a:lnTo>
                    <a:pt x="2804" y="206"/>
                  </a:lnTo>
                  <a:lnTo>
                    <a:pt x="2830" y="223"/>
                  </a:lnTo>
                  <a:lnTo>
                    <a:pt x="2853" y="239"/>
                  </a:lnTo>
                  <a:lnTo>
                    <a:pt x="2872" y="256"/>
                  </a:lnTo>
                  <a:lnTo>
                    <a:pt x="2889" y="273"/>
                  </a:lnTo>
                  <a:lnTo>
                    <a:pt x="2902" y="290"/>
                  </a:lnTo>
                  <a:lnTo>
                    <a:pt x="2911" y="308"/>
                  </a:lnTo>
                  <a:lnTo>
                    <a:pt x="2917" y="326"/>
                  </a:lnTo>
                  <a:lnTo>
                    <a:pt x="2919" y="345"/>
                  </a:lnTo>
                  <a:close/>
                </a:path>
              </a:pathLst>
            </a:custGeom>
            <a:solidFill>
              <a:srgbClr val="fb5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86840" y="6517080"/>
              <a:ext cx="321120" cy="83880"/>
            </a:xfrm>
            <a:custGeom>
              <a:avLst/>
              <a:gdLst/>
              <a:ahLst/>
              <a:rect l="l" t="t" r="r" b="b"/>
              <a:pathLst>
                <a:path w="2915" h="705">
                  <a:moveTo>
                    <a:pt x="2915" y="344"/>
                  </a:moveTo>
                  <a:lnTo>
                    <a:pt x="2913" y="363"/>
                  </a:lnTo>
                  <a:lnTo>
                    <a:pt x="2908" y="381"/>
                  </a:lnTo>
                  <a:lnTo>
                    <a:pt x="2899" y="399"/>
                  </a:lnTo>
                  <a:lnTo>
                    <a:pt x="2886" y="416"/>
                  </a:lnTo>
                  <a:lnTo>
                    <a:pt x="2869" y="435"/>
                  </a:lnTo>
                  <a:lnTo>
                    <a:pt x="2849" y="452"/>
                  </a:lnTo>
                  <a:lnTo>
                    <a:pt x="2827" y="468"/>
                  </a:lnTo>
                  <a:lnTo>
                    <a:pt x="2801" y="485"/>
                  </a:lnTo>
                  <a:lnTo>
                    <a:pt x="2771" y="500"/>
                  </a:lnTo>
                  <a:lnTo>
                    <a:pt x="2739" y="516"/>
                  </a:lnTo>
                  <a:lnTo>
                    <a:pt x="2704" y="531"/>
                  </a:lnTo>
                  <a:lnTo>
                    <a:pt x="2666" y="546"/>
                  </a:lnTo>
                  <a:lnTo>
                    <a:pt x="2626" y="560"/>
                  </a:lnTo>
                  <a:lnTo>
                    <a:pt x="2583" y="574"/>
                  </a:lnTo>
                  <a:lnTo>
                    <a:pt x="2536" y="587"/>
                  </a:lnTo>
                  <a:lnTo>
                    <a:pt x="2489" y="599"/>
                  </a:lnTo>
                  <a:lnTo>
                    <a:pt x="2437" y="611"/>
                  </a:lnTo>
                  <a:lnTo>
                    <a:pt x="2385" y="622"/>
                  </a:lnTo>
                  <a:lnTo>
                    <a:pt x="2330" y="633"/>
                  </a:lnTo>
                  <a:lnTo>
                    <a:pt x="2272" y="643"/>
                  </a:lnTo>
                  <a:lnTo>
                    <a:pt x="2213" y="653"/>
                  </a:lnTo>
                  <a:lnTo>
                    <a:pt x="2152" y="662"/>
                  </a:lnTo>
                  <a:lnTo>
                    <a:pt x="2090" y="670"/>
                  </a:lnTo>
                  <a:lnTo>
                    <a:pt x="2025" y="677"/>
                  </a:lnTo>
                  <a:lnTo>
                    <a:pt x="1958" y="683"/>
                  </a:lnTo>
                  <a:lnTo>
                    <a:pt x="1891" y="689"/>
                  </a:lnTo>
                  <a:lnTo>
                    <a:pt x="1822" y="694"/>
                  </a:lnTo>
                  <a:lnTo>
                    <a:pt x="1751" y="698"/>
                  </a:lnTo>
                  <a:lnTo>
                    <a:pt x="1680" y="701"/>
                  </a:lnTo>
                  <a:lnTo>
                    <a:pt x="1607" y="703"/>
                  </a:lnTo>
                  <a:lnTo>
                    <a:pt x="1532" y="705"/>
                  </a:lnTo>
                  <a:lnTo>
                    <a:pt x="1457" y="705"/>
                  </a:lnTo>
                  <a:lnTo>
                    <a:pt x="1383" y="705"/>
                  </a:lnTo>
                  <a:lnTo>
                    <a:pt x="1308" y="703"/>
                  </a:lnTo>
                  <a:lnTo>
                    <a:pt x="1235" y="701"/>
                  </a:lnTo>
                  <a:lnTo>
                    <a:pt x="1164" y="698"/>
                  </a:lnTo>
                  <a:lnTo>
                    <a:pt x="1093" y="694"/>
                  </a:lnTo>
                  <a:lnTo>
                    <a:pt x="1024" y="689"/>
                  </a:lnTo>
                  <a:lnTo>
                    <a:pt x="957" y="683"/>
                  </a:lnTo>
                  <a:lnTo>
                    <a:pt x="890" y="677"/>
                  </a:lnTo>
                  <a:lnTo>
                    <a:pt x="825" y="670"/>
                  </a:lnTo>
                  <a:lnTo>
                    <a:pt x="763" y="662"/>
                  </a:lnTo>
                  <a:lnTo>
                    <a:pt x="702" y="653"/>
                  </a:lnTo>
                  <a:lnTo>
                    <a:pt x="642" y="643"/>
                  </a:lnTo>
                  <a:lnTo>
                    <a:pt x="586" y="633"/>
                  </a:lnTo>
                  <a:lnTo>
                    <a:pt x="530" y="622"/>
                  </a:lnTo>
                  <a:lnTo>
                    <a:pt x="478" y="611"/>
                  </a:lnTo>
                  <a:lnTo>
                    <a:pt x="427" y="599"/>
                  </a:lnTo>
                  <a:lnTo>
                    <a:pt x="379" y="587"/>
                  </a:lnTo>
                  <a:lnTo>
                    <a:pt x="332" y="574"/>
                  </a:lnTo>
                  <a:lnTo>
                    <a:pt x="290" y="560"/>
                  </a:lnTo>
                  <a:lnTo>
                    <a:pt x="249" y="546"/>
                  </a:lnTo>
                  <a:lnTo>
                    <a:pt x="211" y="531"/>
                  </a:lnTo>
                  <a:lnTo>
                    <a:pt x="176" y="516"/>
                  </a:lnTo>
                  <a:lnTo>
                    <a:pt x="144" y="500"/>
                  </a:lnTo>
                  <a:lnTo>
                    <a:pt x="114" y="485"/>
                  </a:lnTo>
                  <a:lnTo>
                    <a:pt x="88" y="468"/>
                  </a:lnTo>
                  <a:lnTo>
                    <a:pt x="66" y="452"/>
                  </a:lnTo>
                  <a:lnTo>
                    <a:pt x="46" y="435"/>
                  </a:lnTo>
                  <a:lnTo>
                    <a:pt x="29" y="416"/>
                  </a:lnTo>
                  <a:lnTo>
                    <a:pt x="17" y="399"/>
                  </a:lnTo>
                  <a:lnTo>
                    <a:pt x="7" y="381"/>
                  </a:lnTo>
                  <a:lnTo>
                    <a:pt x="2" y="363"/>
                  </a:lnTo>
                  <a:lnTo>
                    <a:pt x="0" y="344"/>
                  </a:lnTo>
                  <a:lnTo>
                    <a:pt x="2" y="325"/>
                  </a:lnTo>
                  <a:lnTo>
                    <a:pt x="7" y="307"/>
                  </a:lnTo>
                  <a:lnTo>
                    <a:pt x="17" y="289"/>
                  </a:lnTo>
                  <a:lnTo>
                    <a:pt x="29" y="272"/>
                  </a:lnTo>
                  <a:lnTo>
                    <a:pt x="46" y="255"/>
                  </a:lnTo>
                  <a:lnTo>
                    <a:pt x="66" y="238"/>
                  </a:lnTo>
                  <a:lnTo>
                    <a:pt x="88" y="222"/>
                  </a:lnTo>
                  <a:lnTo>
                    <a:pt x="114" y="206"/>
                  </a:lnTo>
                  <a:lnTo>
                    <a:pt x="144" y="190"/>
                  </a:lnTo>
                  <a:lnTo>
                    <a:pt x="176" y="176"/>
                  </a:lnTo>
                  <a:lnTo>
                    <a:pt x="211" y="161"/>
                  </a:lnTo>
                  <a:lnTo>
                    <a:pt x="249" y="148"/>
                  </a:lnTo>
                  <a:lnTo>
                    <a:pt x="290" y="134"/>
                  </a:lnTo>
                  <a:lnTo>
                    <a:pt x="332" y="122"/>
                  </a:lnTo>
                  <a:lnTo>
                    <a:pt x="379" y="109"/>
                  </a:lnTo>
                  <a:lnTo>
                    <a:pt x="427" y="97"/>
                  </a:lnTo>
                  <a:lnTo>
                    <a:pt x="478" y="86"/>
                  </a:lnTo>
                  <a:lnTo>
                    <a:pt x="530" y="75"/>
                  </a:lnTo>
                  <a:lnTo>
                    <a:pt x="586" y="66"/>
                  </a:lnTo>
                  <a:lnTo>
                    <a:pt x="642" y="56"/>
                  </a:lnTo>
                  <a:lnTo>
                    <a:pt x="702" y="48"/>
                  </a:lnTo>
                  <a:lnTo>
                    <a:pt x="763" y="40"/>
                  </a:lnTo>
                  <a:lnTo>
                    <a:pt x="825" y="33"/>
                  </a:lnTo>
                  <a:lnTo>
                    <a:pt x="890" y="26"/>
                  </a:lnTo>
                  <a:lnTo>
                    <a:pt x="957" y="20"/>
                  </a:lnTo>
                  <a:lnTo>
                    <a:pt x="1024" y="15"/>
                  </a:lnTo>
                  <a:lnTo>
                    <a:pt x="1093" y="11"/>
                  </a:lnTo>
                  <a:lnTo>
                    <a:pt x="1164" y="7"/>
                  </a:lnTo>
                  <a:lnTo>
                    <a:pt x="1235" y="4"/>
                  </a:lnTo>
                  <a:lnTo>
                    <a:pt x="1308" y="2"/>
                  </a:lnTo>
                  <a:lnTo>
                    <a:pt x="1383" y="0"/>
                  </a:lnTo>
                  <a:lnTo>
                    <a:pt x="1457" y="0"/>
                  </a:lnTo>
                  <a:lnTo>
                    <a:pt x="1532" y="0"/>
                  </a:lnTo>
                  <a:lnTo>
                    <a:pt x="1607" y="2"/>
                  </a:lnTo>
                  <a:lnTo>
                    <a:pt x="1680" y="4"/>
                  </a:lnTo>
                  <a:lnTo>
                    <a:pt x="1751" y="7"/>
                  </a:lnTo>
                  <a:lnTo>
                    <a:pt x="1822" y="11"/>
                  </a:lnTo>
                  <a:lnTo>
                    <a:pt x="1891" y="15"/>
                  </a:lnTo>
                  <a:lnTo>
                    <a:pt x="1958" y="20"/>
                  </a:lnTo>
                  <a:lnTo>
                    <a:pt x="2025" y="26"/>
                  </a:lnTo>
                  <a:lnTo>
                    <a:pt x="2090" y="33"/>
                  </a:lnTo>
                  <a:lnTo>
                    <a:pt x="2152" y="40"/>
                  </a:lnTo>
                  <a:lnTo>
                    <a:pt x="2213" y="48"/>
                  </a:lnTo>
                  <a:lnTo>
                    <a:pt x="2272" y="56"/>
                  </a:lnTo>
                  <a:lnTo>
                    <a:pt x="2330" y="66"/>
                  </a:lnTo>
                  <a:lnTo>
                    <a:pt x="2385" y="75"/>
                  </a:lnTo>
                  <a:lnTo>
                    <a:pt x="2437" y="86"/>
                  </a:lnTo>
                  <a:lnTo>
                    <a:pt x="2489" y="97"/>
                  </a:lnTo>
                  <a:lnTo>
                    <a:pt x="2536" y="109"/>
                  </a:lnTo>
                  <a:lnTo>
                    <a:pt x="2583" y="122"/>
                  </a:lnTo>
                  <a:lnTo>
                    <a:pt x="2626" y="134"/>
                  </a:lnTo>
                  <a:lnTo>
                    <a:pt x="2666" y="148"/>
                  </a:lnTo>
                  <a:lnTo>
                    <a:pt x="2704" y="161"/>
                  </a:lnTo>
                  <a:lnTo>
                    <a:pt x="2739" y="176"/>
                  </a:lnTo>
                  <a:lnTo>
                    <a:pt x="2771" y="190"/>
                  </a:lnTo>
                  <a:lnTo>
                    <a:pt x="2801" y="206"/>
                  </a:lnTo>
                  <a:lnTo>
                    <a:pt x="2827" y="222"/>
                  </a:lnTo>
                  <a:lnTo>
                    <a:pt x="2849" y="238"/>
                  </a:lnTo>
                  <a:lnTo>
                    <a:pt x="2869" y="255"/>
                  </a:lnTo>
                  <a:lnTo>
                    <a:pt x="2886" y="272"/>
                  </a:lnTo>
                  <a:lnTo>
                    <a:pt x="2899" y="289"/>
                  </a:lnTo>
                  <a:lnTo>
                    <a:pt x="2908" y="307"/>
                  </a:lnTo>
                  <a:lnTo>
                    <a:pt x="2913" y="325"/>
                  </a:lnTo>
                  <a:lnTo>
                    <a:pt x="2915" y="344"/>
                  </a:lnTo>
                  <a:close/>
                </a:path>
              </a:pathLst>
            </a:custGeom>
            <a:solidFill>
              <a:srgbClr val="fb5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87920" y="6517080"/>
              <a:ext cx="320040" cy="83880"/>
            </a:xfrm>
            <a:custGeom>
              <a:avLst/>
              <a:gdLst/>
              <a:ahLst/>
              <a:rect l="l" t="t" r="r" b="b"/>
              <a:pathLst>
                <a:path w="2913" h="703">
                  <a:moveTo>
                    <a:pt x="2913" y="343"/>
                  </a:moveTo>
                  <a:lnTo>
                    <a:pt x="2911" y="362"/>
                  </a:lnTo>
                  <a:lnTo>
                    <a:pt x="2905" y="380"/>
                  </a:lnTo>
                  <a:lnTo>
                    <a:pt x="2896" y="398"/>
                  </a:lnTo>
                  <a:lnTo>
                    <a:pt x="2884" y="415"/>
                  </a:lnTo>
                  <a:lnTo>
                    <a:pt x="2866" y="432"/>
                  </a:lnTo>
                  <a:lnTo>
                    <a:pt x="2847" y="450"/>
                  </a:lnTo>
                  <a:lnTo>
                    <a:pt x="2824" y="467"/>
                  </a:lnTo>
                  <a:lnTo>
                    <a:pt x="2799" y="483"/>
                  </a:lnTo>
                  <a:lnTo>
                    <a:pt x="2769" y="499"/>
                  </a:lnTo>
                  <a:lnTo>
                    <a:pt x="2737" y="514"/>
                  </a:lnTo>
                  <a:lnTo>
                    <a:pt x="2702" y="529"/>
                  </a:lnTo>
                  <a:lnTo>
                    <a:pt x="2664" y="545"/>
                  </a:lnTo>
                  <a:lnTo>
                    <a:pt x="2623" y="559"/>
                  </a:lnTo>
                  <a:lnTo>
                    <a:pt x="2581" y="572"/>
                  </a:lnTo>
                  <a:lnTo>
                    <a:pt x="2534" y="585"/>
                  </a:lnTo>
                  <a:lnTo>
                    <a:pt x="2487" y="598"/>
                  </a:lnTo>
                  <a:lnTo>
                    <a:pt x="2436" y="609"/>
                  </a:lnTo>
                  <a:lnTo>
                    <a:pt x="2383" y="621"/>
                  </a:lnTo>
                  <a:lnTo>
                    <a:pt x="2328" y="631"/>
                  </a:lnTo>
                  <a:lnTo>
                    <a:pt x="2270" y="641"/>
                  </a:lnTo>
                  <a:lnTo>
                    <a:pt x="2212" y="652"/>
                  </a:lnTo>
                  <a:lnTo>
                    <a:pt x="2150" y="660"/>
                  </a:lnTo>
                  <a:lnTo>
                    <a:pt x="2088" y="668"/>
                  </a:lnTo>
                  <a:lnTo>
                    <a:pt x="2023" y="675"/>
                  </a:lnTo>
                  <a:lnTo>
                    <a:pt x="1957" y="682"/>
                  </a:lnTo>
                  <a:lnTo>
                    <a:pt x="1890" y="687"/>
                  </a:lnTo>
                  <a:lnTo>
                    <a:pt x="1820" y="692"/>
                  </a:lnTo>
                  <a:lnTo>
                    <a:pt x="1750" y="696"/>
                  </a:lnTo>
                  <a:lnTo>
                    <a:pt x="1679" y="699"/>
                  </a:lnTo>
                  <a:lnTo>
                    <a:pt x="1605" y="701"/>
                  </a:lnTo>
                  <a:lnTo>
                    <a:pt x="1531" y="703"/>
                  </a:lnTo>
                  <a:lnTo>
                    <a:pt x="1456" y="703"/>
                  </a:lnTo>
                  <a:lnTo>
                    <a:pt x="1382" y="703"/>
                  </a:lnTo>
                  <a:lnTo>
                    <a:pt x="1308" y="701"/>
                  </a:lnTo>
                  <a:lnTo>
                    <a:pt x="1234" y="699"/>
                  </a:lnTo>
                  <a:lnTo>
                    <a:pt x="1164" y="696"/>
                  </a:lnTo>
                  <a:lnTo>
                    <a:pt x="1093" y="692"/>
                  </a:lnTo>
                  <a:lnTo>
                    <a:pt x="1023" y="687"/>
                  </a:lnTo>
                  <a:lnTo>
                    <a:pt x="956" y="682"/>
                  </a:lnTo>
                  <a:lnTo>
                    <a:pt x="890" y="675"/>
                  </a:lnTo>
                  <a:lnTo>
                    <a:pt x="825" y="668"/>
                  </a:lnTo>
                  <a:lnTo>
                    <a:pt x="763" y="660"/>
                  </a:lnTo>
                  <a:lnTo>
                    <a:pt x="701" y="652"/>
                  </a:lnTo>
                  <a:lnTo>
                    <a:pt x="642" y="641"/>
                  </a:lnTo>
                  <a:lnTo>
                    <a:pt x="585" y="631"/>
                  </a:lnTo>
                  <a:lnTo>
                    <a:pt x="530" y="621"/>
                  </a:lnTo>
                  <a:lnTo>
                    <a:pt x="478" y="609"/>
                  </a:lnTo>
                  <a:lnTo>
                    <a:pt x="427" y="598"/>
                  </a:lnTo>
                  <a:lnTo>
                    <a:pt x="379" y="585"/>
                  </a:lnTo>
                  <a:lnTo>
                    <a:pt x="333" y="572"/>
                  </a:lnTo>
                  <a:lnTo>
                    <a:pt x="290" y="559"/>
                  </a:lnTo>
                  <a:lnTo>
                    <a:pt x="250" y="545"/>
                  </a:lnTo>
                  <a:lnTo>
                    <a:pt x="211" y="529"/>
                  </a:lnTo>
                  <a:lnTo>
                    <a:pt x="176" y="514"/>
                  </a:lnTo>
                  <a:lnTo>
                    <a:pt x="144" y="499"/>
                  </a:lnTo>
                  <a:lnTo>
                    <a:pt x="115" y="483"/>
                  </a:lnTo>
                  <a:lnTo>
                    <a:pt x="89" y="467"/>
                  </a:lnTo>
                  <a:lnTo>
                    <a:pt x="66" y="450"/>
                  </a:lnTo>
                  <a:lnTo>
                    <a:pt x="47" y="432"/>
                  </a:lnTo>
                  <a:lnTo>
                    <a:pt x="30" y="415"/>
                  </a:lnTo>
                  <a:lnTo>
                    <a:pt x="17" y="398"/>
                  </a:lnTo>
                  <a:lnTo>
                    <a:pt x="8" y="380"/>
                  </a:lnTo>
                  <a:lnTo>
                    <a:pt x="2" y="362"/>
                  </a:lnTo>
                  <a:lnTo>
                    <a:pt x="0" y="343"/>
                  </a:lnTo>
                  <a:lnTo>
                    <a:pt x="2" y="324"/>
                  </a:lnTo>
                  <a:lnTo>
                    <a:pt x="8" y="306"/>
                  </a:lnTo>
                  <a:lnTo>
                    <a:pt x="17" y="288"/>
                  </a:lnTo>
                  <a:lnTo>
                    <a:pt x="30" y="271"/>
                  </a:lnTo>
                  <a:lnTo>
                    <a:pt x="47" y="254"/>
                  </a:lnTo>
                  <a:lnTo>
                    <a:pt x="66" y="238"/>
                  </a:lnTo>
                  <a:lnTo>
                    <a:pt x="89" y="222"/>
                  </a:lnTo>
                  <a:lnTo>
                    <a:pt x="115" y="205"/>
                  </a:lnTo>
                  <a:lnTo>
                    <a:pt x="144" y="190"/>
                  </a:lnTo>
                  <a:lnTo>
                    <a:pt x="176" y="175"/>
                  </a:lnTo>
                  <a:lnTo>
                    <a:pt x="211" y="161"/>
                  </a:lnTo>
                  <a:lnTo>
                    <a:pt x="250" y="147"/>
                  </a:lnTo>
                  <a:lnTo>
                    <a:pt x="290" y="134"/>
                  </a:lnTo>
                  <a:lnTo>
                    <a:pt x="333" y="121"/>
                  </a:lnTo>
                  <a:lnTo>
                    <a:pt x="379" y="108"/>
                  </a:lnTo>
                  <a:lnTo>
                    <a:pt x="427" y="97"/>
                  </a:lnTo>
                  <a:lnTo>
                    <a:pt x="478" y="86"/>
                  </a:lnTo>
                  <a:lnTo>
                    <a:pt x="530" y="75"/>
                  </a:lnTo>
                  <a:lnTo>
                    <a:pt x="585" y="65"/>
                  </a:lnTo>
                  <a:lnTo>
                    <a:pt x="642" y="56"/>
                  </a:lnTo>
                  <a:lnTo>
                    <a:pt x="701" y="48"/>
                  </a:lnTo>
                  <a:lnTo>
                    <a:pt x="763" y="40"/>
                  </a:lnTo>
                  <a:lnTo>
                    <a:pt x="825" y="33"/>
                  </a:lnTo>
                  <a:lnTo>
                    <a:pt x="890" y="26"/>
                  </a:lnTo>
                  <a:lnTo>
                    <a:pt x="956" y="20"/>
                  </a:lnTo>
                  <a:lnTo>
                    <a:pt x="1023" y="15"/>
                  </a:lnTo>
                  <a:lnTo>
                    <a:pt x="1093" y="11"/>
                  </a:lnTo>
                  <a:lnTo>
                    <a:pt x="1164" y="7"/>
                  </a:lnTo>
                  <a:lnTo>
                    <a:pt x="1234" y="3"/>
                  </a:lnTo>
                  <a:lnTo>
                    <a:pt x="1308" y="1"/>
                  </a:lnTo>
                  <a:lnTo>
                    <a:pt x="1382" y="0"/>
                  </a:lnTo>
                  <a:lnTo>
                    <a:pt x="1456" y="0"/>
                  </a:lnTo>
                  <a:lnTo>
                    <a:pt x="1531" y="0"/>
                  </a:lnTo>
                  <a:lnTo>
                    <a:pt x="1605" y="1"/>
                  </a:lnTo>
                  <a:lnTo>
                    <a:pt x="1679" y="3"/>
                  </a:lnTo>
                  <a:lnTo>
                    <a:pt x="1750" y="7"/>
                  </a:lnTo>
                  <a:lnTo>
                    <a:pt x="1820" y="11"/>
                  </a:lnTo>
                  <a:lnTo>
                    <a:pt x="1890" y="15"/>
                  </a:lnTo>
                  <a:lnTo>
                    <a:pt x="1957" y="20"/>
                  </a:lnTo>
                  <a:lnTo>
                    <a:pt x="2023" y="26"/>
                  </a:lnTo>
                  <a:lnTo>
                    <a:pt x="2088" y="33"/>
                  </a:lnTo>
                  <a:lnTo>
                    <a:pt x="2150" y="40"/>
                  </a:lnTo>
                  <a:lnTo>
                    <a:pt x="2212" y="48"/>
                  </a:lnTo>
                  <a:lnTo>
                    <a:pt x="2270" y="56"/>
                  </a:lnTo>
                  <a:lnTo>
                    <a:pt x="2328" y="65"/>
                  </a:lnTo>
                  <a:lnTo>
                    <a:pt x="2383" y="75"/>
                  </a:lnTo>
                  <a:lnTo>
                    <a:pt x="2436" y="86"/>
                  </a:lnTo>
                  <a:lnTo>
                    <a:pt x="2487" y="97"/>
                  </a:lnTo>
                  <a:lnTo>
                    <a:pt x="2534" y="108"/>
                  </a:lnTo>
                  <a:lnTo>
                    <a:pt x="2581" y="121"/>
                  </a:lnTo>
                  <a:lnTo>
                    <a:pt x="2623" y="134"/>
                  </a:lnTo>
                  <a:lnTo>
                    <a:pt x="2664" y="147"/>
                  </a:lnTo>
                  <a:lnTo>
                    <a:pt x="2702" y="161"/>
                  </a:lnTo>
                  <a:lnTo>
                    <a:pt x="2737" y="175"/>
                  </a:lnTo>
                  <a:lnTo>
                    <a:pt x="2769" y="190"/>
                  </a:lnTo>
                  <a:lnTo>
                    <a:pt x="2799" y="205"/>
                  </a:lnTo>
                  <a:lnTo>
                    <a:pt x="2824" y="222"/>
                  </a:lnTo>
                  <a:lnTo>
                    <a:pt x="2847" y="238"/>
                  </a:lnTo>
                  <a:lnTo>
                    <a:pt x="2866" y="254"/>
                  </a:lnTo>
                  <a:lnTo>
                    <a:pt x="2884" y="271"/>
                  </a:lnTo>
                  <a:lnTo>
                    <a:pt x="2896" y="288"/>
                  </a:lnTo>
                  <a:lnTo>
                    <a:pt x="2905" y="306"/>
                  </a:lnTo>
                  <a:lnTo>
                    <a:pt x="2911" y="324"/>
                  </a:lnTo>
                  <a:lnTo>
                    <a:pt x="2913" y="343"/>
                  </a:lnTo>
                  <a:close/>
                </a:path>
              </a:pathLst>
            </a:custGeom>
            <a:solidFill>
              <a:srgbClr val="fb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87920" y="6517080"/>
              <a:ext cx="320040" cy="83880"/>
            </a:xfrm>
            <a:custGeom>
              <a:avLst/>
              <a:gdLst/>
              <a:ahLst/>
              <a:rect l="l" t="t" r="r" b="b"/>
              <a:pathLst>
                <a:path w="2909" h="701">
                  <a:moveTo>
                    <a:pt x="2909" y="342"/>
                  </a:moveTo>
                  <a:lnTo>
                    <a:pt x="2908" y="361"/>
                  </a:lnTo>
                  <a:lnTo>
                    <a:pt x="2902" y="379"/>
                  </a:lnTo>
                  <a:lnTo>
                    <a:pt x="2893" y="397"/>
                  </a:lnTo>
                  <a:lnTo>
                    <a:pt x="2879" y="414"/>
                  </a:lnTo>
                  <a:lnTo>
                    <a:pt x="2863" y="431"/>
                  </a:lnTo>
                  <a:lnTo>
                    <a:pt x="2844" y="449"/>
                  </a:lnTo>
                  <a:lnTo>
                    <a:pt x="2821" y="466"/>
                  </a:lnTo>
                  <a:lnTo>
                    <a:pt x="2795" y="482"/>
                  </a:lnTo>
                  <a:lnTo>
                    <a:pt x="2765" y="498"/>
                  </a:lnTo>
                  <a:lnTo>
                    <a:pt x="2734" y="513"/>
                  </a:lnTo>
                  <a:lnTo>
                    <a:pt x="2699" y="528"/>
                  </a:lnTo>
                  <a:lnTo>
                    <a:pt x="2660" y="543"/>
                  </a:lnTo>
                  <a:lnTo>
                    <a:pt x="2620" y="557"/>
                  </a:lnTo>
                  <a:lnTo>
                    <a:pt x="2578" y="571"/>
                  </a:lnTo>
                  <a:lnTo>
                    <a:pt x="2531" y="584"/>
                  </a:lnTo>
                  <a:lnTo>
                    <a:pt x="2484" y="596"/>
                  </a:lnTo>
                  <a:lnTo>
                    <a:pt x="2433" y="608"/>
                  </a:lnTo>
                  <a:lnTo>
                    <a:pt x="2380" y="619"/>
                  </a:lnTo>
                  <a:lnTo>
                    <a:pt x="2325" y="630"/>
                  </a:lnTo>
                  <a:lnTo>
                    <a:pt x="2267" y="639"/>
                  </a:lnTo>
                  <a:lnTo>
                    <a:pt x="2209" y="650"/>
                  </a:lnTo>
                  <a:lnTo>
                    <a:pt x="2148" y="658"/>
                  </a:lnTo>
                  <a:lnTo>
                    <a:pt x="2086" y="666"/>
                  </a:lnTo>
                  <a:lnTo>
                    <a:pt x="2021" y="673"/>
                  </a:lnTo>
                  <a:lnTo>
                    <a:pt x="1954" y="680"/>
                  </a:lnTo>
                  <a:lnTo>
                    <a:pt x="1887" y="685"/>
                  </a:lnTo>
                  <a:lnTo>
                    <a:pt x="1818" y="690"/>
                  </a:lnTo>
                  <a:lnTo>
                    <a:pt x="1747" y="694"/>
                  </a:lnTo>
                  <a:lnTo>
                    <a:pt x="1676" y="697"/>
                  </a:lnTo>
                  <a:lnTo>
                    <a:pt x="1603" y="699"/>
                  </a:lnTo>
                  <a:lnTo>
                    <a:pt x="1529" y="701"/>
                  </a:lnTo>
                  <a:lnTo>
                    <a:pt x="1454" y="701"/>
                  </a:lnTo>
                  <a:lnTo>
                    <a:pt x="1380" y="701"/>
                  </a:lnTo>
                  <a:lnTo>
                    <a:pt x="1306" y="699"/>
                  </a:lnTo>
                  <a:lnTo>
                    <a:pt x="1233" y="697"/>
                  </a:lnTo>
                  <a:lnTo>
                    <a:pt x="1162" y="694"/>
                  </a:lnTo>
                  <a:lnTo>
                    <a:pt x="1091" y="690"/>
                  </a:lnTo>
                  <a:lnTo>
                    <a:pt x="1022" y="685"/>
                  </a:lnTo>
                  <a:lnTo>
                    <a:pt x="955" y="680"/>
                  </a:lnTo>
                  <a:lnTo>
                    <a:pt x="888" y="673"/>
                  </a:lnTo>
                  <a:lnTo>
                    <a:pt x="824" y="666"/>
                  </a:lnTo>
                  <a:lnTo>
                    <a:pt x="762" y="658"/>
                  </a:lnTo>
                  <a:lnTo>
                    <a:pt x="700" y="650"/>
                  </a:lnTo>
                  <a:lnTo>
                    <a:pt x="641" y="639"/>
                  </a:lnTo>
                  <a:lnTo>
                    <a:pt x="584" y="630"/>
                  </a:lnTo>
                  <a:lnTo>
                    <a:pt x="529" y="619"/>
                  </a:lnTo>
                  <a:lnTo>
                    <a:pt x="477" y="608"/>
                  </a:lnTo>
                  <a:lnTo>
                    <a:pt x="426" y="596"/>
                  </a:lnTo>
                  <a:lnTo>
                    <a:pt x="378" y="584"/>
                  </a:lnTo>
                  <a:lnTo>
                    <a:pt x="332" y="571"/>
                  </a:lnTo>
                  <a:lnTo>
                    <a:pt x="289" y="557"/>
                  </a:lnTo>
                  <a:lnTo>
                    <a:pt x="249" y="543"/>
                  </a:lnTo>
                  <a:lnTo>
                    <a:pt x="210" y="528"/>
                  </a:lnTo>
                  <a:lnTo>
                    <a:pt x="176" y="513"/>
                  </a:lnTo>
                  <a:lnTo>
                    <a:pt x="144" y="498"/>
                  </a:lnTo>
                  <a:lnTo>
                    <a:pt x="114" y="482"/>
                  </a:lnTo>
                  <a:lnTo>
                    <a:pt x="88" y="466"/>
                  </a:lnTo>
                  <a:lnTo>
                    <a:pt x="65" y="449"/>
                  </a:lnTo>
                  <a:lnTo>
                    <a:pt x="46" y="431"/>
                  </a:lnTo>
                  <a:lnTo>
                    <a:pt x="29" y="414"/>
                  </a:lnTo>
                  <a:lnTo>
                    <a:pt x="16" y="397"/>
                  </a:lnTo>
                  <a:lnTo>
                    <a:pt x="7" y="379"/>
                  </a:lnTo>
                  <a:lnTo>
                    <a:pt x="2" y="361"/>
                  </a:lnTo>
                  <a:lnTo>
                    <a:pt x="0" y="342"/>
                  </a:lnTo>
                  <a:lnTo>
                    <a:pt x="2" y="323"/>
                  </a:lnTo>
                  <a:lnTo>
                    <a:pt x="7" y="305"/>
                  </a:lnTo>
                  <a:lnTo>
                    <a:pt x="16" y="287"/>
                  </a:lnTo>
                  <a:lnTo>
                    <a:pt x="29" y="270"/>
                  </a:lnTo>
                  <a:lnTo>
                    <a:pt x="46" y="253"/>
                  </a:lnTo>
                  <a:lnTo>
                    <a:pt x="65" y="237"/>
                  </a:lnTo>
                  <a:lnTo>
                    <a:pt x="88" y="221"/>
                  </a:lnTo>
                  <a:lnTo>
                    <a:pt x="114" y="204"/>
                  </a:lnTo>
                  <a:lnTo>
                    <a:pt x="144" y="189"/>
                  </a:lnTo>
                  <a:lnTo>
                    <a:pt x="176" y="175"/>
                  </a:lnTo>
                  <a:lnTo>
                    <a:pt x="210" y="160"/>
                  </a:lnTo>
                  <a:lnTo>
                    <a:pt x="249" y="147"/>
                  </a:lnTo>
                  <a:lnTo>
                    <a:pt x="289" y="134"/>
                  </a:lnTo>
                  <a:lnTo>
                    <a:pt x="332" y="121"/>
                  </a:lnTo>
                  <a:lnTo>
                    <a:pt x="378" y="108"/>
                  </a:lnTo>
                  <a:lnTo>
                    <a:pt x="426" y="96"/>
                  </a:lnTo>
                  <a:lnTo>
                    <a:pt x="477" y="85"/>
                  </a:lnTo>
                  <a:lnTo>
                    <a:pt x="529" y="75"/>
                  </a:lnTo>
                  <a:lnTo>
                    <a:pt x="584" y="65"/>
                  </a:lnTo>
                  <a:lnTo>
                    <a:pt x="641" y="56"/>
                  </a:lnTo>
                  <a:lnTo>
                    <a:pt x="700" y="47"/>
                  </a:lnTo>
                  <a:lnTo>
                    <a:pt x="762" y="40"/>
                  </a:lnTo>
                  <a:lnTo>
                    <a:pt x="824" y="32"/>
                  </a:lnTo>
                  <a:lnTo>
                    <a:pt x="888" y="26"/>
                  </a:lnTo>
                  <a:lnTo>
                    <a:pt x="955" y="20"/>
                  </a:lnTo>
                  <a:lnTo>
                    <a:pt x="1022" y="15"/>
                  </a:lnTo>
                  <a:lnTo>
                    <a:pt x="1091" y="11"/>
                  </a:lnTo>
                  <a:lnTo>
                    <a:pt x="1162" y="7"/>
                  </a:lnTo>
                  <a:lnTo>
                    <a:pt x="1233" y="3"/>
                  </a:lnTo>
                  <a:lnTo>
                    <a:pt x="1306" y="1"/>
                  </a:lnTo>
                  <a:lnTo>
                    <a:pt x="1380" y="0"/>
                  </a:lnTo>
                  <a:lnTo>
                    <a:pt x="1454" y="0"/>
                  </a:lnTo>
                  <a:lnTo>
                    <a:pt x="1529" y="0"/>
                  </a:lnTo>
                  <a:lnTo>
                    <a:pt x="1603" y="1"/>
                  </a:lnTo>
                  <a:lnTo>
                    <a:pt x="1676" y="3"/>
                  </a:lnTo>
                  <a:lnTo>
                    <a:pt x="1747" y="7"/>
                  </a:lnTo>
                  <a:lnTo>
                    <a:pt x="1818" y="11"/>
                  </a:lnTo>
                  <a:lnTo>
                    <a:pt x="1887" y="15"/>
                  </a:lnTo>
                  <a:lnTo>
                    <a:pt x="1954" y="20"/>
                  </a:lnTo>
                  <a:lnTo>
                    <a:pt x="2021" y="26"/>
                  </a:lnTo>
                  <a:lnTo>
                    <a:pt x="2086" y="32"/>
                  </a:lnTo>
                  <a:lnTo>
                    <a:pt x="2148" y="40"/>
                  </a:lnTo>
                  <a:lnTo>
                    <a:pt x="2209" y="47"/>
                  </a:lnTo>
                  <a:lnTo>
                    <a:pt x="2267" y="56"/>
                  </a:lnTo>
                  <a:lnTo>
                    <a:pt x="2325" y="65"/>
                  </a:lnTo>
                  <a:lnTo>
                    <a:pt x="2380" y="75"/>
                  </a:lnTo>
                  <a:lnTo>
                    <a:pt x="2433" y="85"/>
                  </a:lnTo>
                  <a:lnTo>
                    <a:pt x="2484" y="96"/>
                  </a:lnTo>
                  <a:lnTo>
                    <a:pt x="2531" y="108"/>
                  </a:lnTo>
                  <a:lnTo>
                    <a:pt x="2578" y="121"/>
                  </a:lnTo>
                  <a:lnTo>
                    <a:pt x="2620" y="134"/>
                  </a:lnTo>
                  <a:lnTo>
                    <a:pt x="2660" y="147"/>
                  </a:lnTo>
                  <a:lnTo>
                    <a:pt x="2699" y="160"/>
                  </a:lnTo>
                  <a:lnTo>
                    <a:pt x="2734" y="175"/>
                  </a:lnTo>
                  <a:lnTo>
                    <a:pt x="2765" y="189"/>
                  </a:lnTo>
                  <a:lnTo>
                    <a:pt x="2795" y="204"/>
                  </a:lnTo>
                  <a:lnTo>
                    <a:pt x="2821" y="221"/>
                  </a:lnTo>
                  <a:lnTo>
                    <a:pt x="2844" y="237"/>
                  </a:lnTo>
                  <a:lnTo>
                    <a:pt x="2863" y="253"/>
                  </a:lnTo>
                  <a:lnTo>
                    <a:pt x="2879" y="270"/>
                  </a:lnTo>
                  <a:lnTo>
                    <a:pt x="2893" y="287"/>
                  </a:lnTo>
                  <a:lnTo>
                    <a:pt x="2902" y="305"/>
                  </a:lnTo>
                  <a:lnTo>
                    <a:pt x="2908" y="323"/>
                  </a:lnTo>
                  <a:lnTo>
                    <a:pt x="2909" y="342"/>
                  </a:lnTo>
                  <a:close/>
                </a:path>
              </a:pathLst>
            </a:custGeom>
            <a:solidFill>
              <a:srgbClr val="fb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87920" y="6517080"/>
              <a:ext cx="320040" cy="83880"/>
            </a:xfrm>
            <a:custGeom>
              <a:avLst/>
              <a:gdLst/>
              <a:ahLst/>
              <a:rect l="l" t="t" r="r" b="b"/>
              <a:pathLst>
                <a:path w="2907" h="699">
                  <a:moveTo>
                    <a:pt x="2907" y="341"/>
                  </a:moveTo>
                  <a:lnTo>
                    <a:pt x="2905" y="360"/>
                  </a:lnTo>
                  <a:lnTo>
                    <a:pt x="2900" y="378"/>
                  </a:lnTo>
                  <a:lnTo>
                    <a:pt x="2890" y="395"/>
                  </a:lnTo>
                  <a:lnTo>
                    <a:pt x="2877" y="413"/>
                  </a:lnTo>
                  <a:lnTo>
                    <a:pt x="2861" y="430"/>
                  </a:lnTo>
                  <a:lnTo>
                    <a:pt x="2841" y="448"/>
                  </a:lnTo>
                  <a:lnTo>
                    <a:pt x="2819" y="464"/>
                  </a:lnTo>
                  <a:lnTo>
                    <a:pt x="2793" y="481"/>
                  </a:lnTo>
                  <a:lnTo>
                    <a:pt x="2763" y="496"/>
                  </a:lnTo>
                  <a:lnTo>
                    <a:pt x="2731" y="512"/>
                  </a:lnTo>
                  <a:lnTo>
                    <a:pt x="2697" y="526"/>
                  </a:lnTo>
                  <a:lnTo>
                    <a:pt x="2658" y="542"/>
                  </a:lnTo>
                  <a:lnTo>
                    <a:pt x="2618" y="556"/>
                  </a:lnTo>
                  <a:lnTo>
                    <a:pt x="2574" y="569"/>
                  </a:lnTo>
                  <a:lnTo>
                    <a:pt x="2529" y="582"/>
                  </a:lnTo>
                  <a:lnTo>
                    <a:pt x="2482" y="594"/>
                  </a:lnTo>
                  <a:lnTo>
                    <a:pt x="2431" y="606"/>
                  </a:lnTo>
                  <a:lnTo>
                    <a:pt x="2378" y="617"/>
                  </a:lnTo>
                  <a:lnTo>
                    <a:pt x="2323" y="628"/>
                  </a:lnTo>
                  <a:lnTo>
                    <a:pt x="2266" y="638"/>
                  </a:lnTo>
                  <a:lnTo>
                    <a:pt x="2207" y="648"/>
                  </a:lnTo>
                  <a:lnTo>
                    <a:pt x="2146" y="657"/>
                  </a:lnTo>
                  <a:lnTo>
                    <a:pt x="2084" y="664"/>
                  </a:lnTo>
                  <a:lnTo>
                    <a:pt x="2019" y="671"/>
                  </a:lnTo>
                  <a:lnTo>
                    <a:pt x="1953" y="678"/>
                  </a:lnTo>
                  <a:lnTo>
                    <a:pt x="1886" y="683"/>
                  </a:lnTo>
                  <a:lnTo>
                    <a:pt x="1817" y="688"/>
                  </a:lnTo>
                  <a:lnTo>
                    <a:pt x="1746" y="692"/>
                  </a:lnTo>
                  <a:lnTo>
                    <a:pt x="1675" y="695"/>
                  </a:lnTo>
                  <a:lnTo>
                    <a:pt x="1602" y="698"/>
                  </a:lnTo>
                  <a:lnTo>
                    <a:pt x="1528" y="699"/>
                  </a:lnTo>
                  <a:lnTo>
                    <a:pt x="1453" y="699"/>
                  </a:lnTo>
                  <a:lnTo>
                    <a:pt x="1379" y="699"/>
                  </a:lnTo>
                  <a:lnTo>
                    <a:pt x="1305" y="698"/>
                  </a:lnTo>
                  <a:lnTo>
                    <a:pt x="1232" y="695"/>
                  </a:lnTo>
                  <a:lnTo>
                    <a:pt x="1161" y="692"/>
                  </a:lnTo>
                  <a:lnTo>
                    <a:pt x="1090" y="688"/>
                  </a:lnTo>
                  <a:lnTo>
                    <a:pt x="1021" y="683"/>
                  </a:lnTo>
                  <a:lnTo>
                    <a:pt x="954" y="678"/>
                  </a:lnTo>
                  <a:lnTo>
                    <a:pt x="888" y="671"/>
                  </a:lnTo>
                  <a:lnTo>
                    <a:pt x="823" y="664"/>
                  </a:lnTo>
                  <a:lnTo>
                    <a:pt x="761" y="657"/>
                  </a:lnTo>
                  <a:lnTo>
                    <a:pt x="700" y="648"/>
                  </a:lnTo>
                  <a:lnTo>
                    <a:pt x="641" y="638"/>
                  </a:lnTo>
                  <a:lnTo>
                    <a:pt x="584" y="628"/>
                  </a:lnTo>
                  <a:lnTo>
                    <a:pt x="529" y="617"/>
                  </a:lnTo>
                  <a:lnTo>
                    <a:pt x="477" y="606"/>
                  </a:lnTo>
                  <a:lnTo>
                    <a:pt x="426" y="594"/>
                  </a:lnTo>
                  <a:lnTo>
                    <a:pt x="378" y="582"/>
                  </a:lnTo>
                  <a:lnTo>
                    <a:pt x="332" y="569"/>
                  </a:lnTo>
                  <a:lnTo>
                    <a:pt x="289" y="556"/>
                  </a:lnTo>
                  <a:lnTo>
                    <a:pt x="249" y="542"/>
                  </a:lnTo>
                  <a:lnTo>
                    <a:pt x="210" y="526"/>
                  </a:lnTo>
                  <a:lnTo>
                    <a:pt x="176" y="512"/>
                  </a:lnTo>
                  <a:lnTo>
                    <a:pt x="144" y="496"/>
                  </a:lnTo>
                  <a:lnTo>
                    <a:pt x="114" y="481"/>
                  </a:lnTo>
                  <a:lnTo>
                    <a:pt x="88" y="464"/>
                  </a:lnTo>
                  <a:lnTo>
                    <a:pt x="66" y="448"/>
                  </a:lnTo>
                  <a:lnTo>
                    <a:pt x="46" y="430"/>
                  </a:lnTo>
                  <a:lnTo>
                    <a:pt x="29" y="413"/>
                  </a:lnTo>
                  <a:lnTo>
                    <a:pt x="17" y="395"/>
                  </a:lnTo>
                  <a:lnTo>
                    <a:pt x="8" y="378"/>
                  </a:lnTo>
                  <a:lnTo>
                    <a:pt x="2" y="360"/>
                  </a:lnTo>
                  <a:lnTo>
                    <a:pt x="0" y="341"/>
                  </a:lnTo>
                  <a:lnTo>
                    <a:pt x="2" y="322"/>
                  </a:lnTo>
                  <a:lnTo>
                    <a:pt x="8" y="304"/>
                  </a:lnTo>
                  <a:lnTo>
                    <a:pt x="17" y="287"/>
                  </a:lnTo>
                  <a:lnTo>
                    <a:pt x="29" y="269"/>
                  </a:lnTo>
                  <a:lnTo>
                    <a:pt x="46" y="253"/>
                  </a:lnTo>
                  <a:lnTo>
                    <a:pt x="66" y="236"/>
                  </a:lnTo>
                  <a:lnTo>
                    <a:pt x="88" y="220"/>
                  </a:lnTo>
                  <a:lnTo>
                    <a:pt x="114" y="204"/>
                  </a:lnTo>
                  <a:lnTo>
                    <a:pt x="144" y="189"/>
                  </a:lnTo>
                  <a:lnTo>
                    <a:pt x="176" y="174"/>
                  </a:lnTo>
                  <a:lnTo>
                    <a:pt x="210" y="160"/>
                  </a:lnTo>
                  <a:lnTo>
                    <a:pt x="249" y="146"/>
                  </a:lnTo>
                  <a:lnTo>
                    <a:pt x="289" y="133"/>
                  </a:lnTo>
                  <a:lnTo>
                    <a:pt x="332" y="121"/>
                  </a:lnTo>
                  <a:lnTo>
                    <a:pt x="378" y="107"/>
                  </a:lnTo>
                  <a:lnTo>
                    <a:pt x="426" y="96"/>
                  </a:lnTo>
                  <a:lnTo>
                    <a:pt x="477" y="85"/>
                  </a:lnTo>
                  <a:lnTo>
                    <a:pt x="529" y="75"/>
                  </a:lnTo>
                  <a:lnTo>
                    <a:pt x="584" y="65"/>
                  </a:lnTo>
                  <a:lnTo>
                    <a:pt x="641" y="56"/>
                  </a:lnTo>
                  <a:lnTo>
                    <a:pt x="700" y="47"/>
                  </a:lnTo>
                  <a:lnTo>
                    <a:pt x="761" y="39"/>
                  </a:lnTo>
                  <a:lnTo>
                    <a:pt x="823" y="32"/>
                  </a:lnTo>
                  <a:lnTo>
                    <a:pt x="888" y="26"/>
                  </a:lnTo>
                  <a:lnTo>
                    <a:pt x="954" y="20"/>
                  </a:lnTo>
                  <a:lnTo>
                    <a:pt x="1021" y="15"/>
                  </a:lnTo>
                  <a:lnTo>
                    <a:pt x="1090" y="11"/>
                  </a:lnTo>
                  <a:lnTo>
                    <a:pt x="1161" y="7"/>
                  </a:lnTo>
                  <a:lnTo>
                    <a:pt x="1232" y="4"/>
                  </a:lnTo>
                  <a:lnTo>
                    <a:pt x="1305" y="1"/>
                  </a:lnTo>
                  <a:lnTo>
                    <a:pt x="1379" y="0"/>
                  </a:lnTo>
                  <a:lnTo>
                    <a:pt x="1453" y="0"/>
                  </a:lnTo>
                  <a:lnTo>
                    <a:pt x="1528" y="0"/>
                  </a:lnTo>
                  <a:lnTo>
                    <a:pt x="1602" y="1"/>
                  </a:lnTo>
                  <a:lnTo>
                    <a:pt x="1675" y="4"/>
                  </a:lnTo>
                  <a:lnTo>
                    <a:pt x="1746" y="7"/>
                  </a:lnTo>
                  <a:lnTo>
                    <a:pt x="1817" y="11"/>
                  </a:lnTo>
                  <a:lnTo>
                    <a:pt x="1886" y="15"/>
                  </a:lnTo>
                  <a:lnTo>
                    <a:pt x="1953" y="20"/>
                  </a:lnTo>
                  <a:lnTo>
                    <a:pt x="2019" y="26"/>
                  </a:lnTo>
                  <a:lnTo>
                    <a:pt x="2084" y="32"/>
                  </a:lnTo>
                  <a:lnTo>
                    <a:pt x="2146" y="39"/>
                  </a:lnTo>
                  <a:lnTo>
                    <a:pt x="2207" y="47"/>
                  </a:lnTo>
                  <a:lnTo>
                    <a:pt x="2266" y="56"/>
                  </a:lnTo>
                  <a:lnTo>
                    <a:pt x="2323" y="65"/>
                  </a:lnTo>
                  <a:lnTo>
                    <a:pt x="2378" y="75"/>
                  </a:lnTo>
                  <a:lnTo>
                    <a:pt x="2431" y="85"/>
                  </a:lnTo>
                  <a:lnTo>
                    <a:pt x="2482" y="96"/>
                  </a:lnTo>
                  <a:lnTo>
                    <a:pt x="2529" y="107"/>
                  </a:lnTo>
                  <a:lnTo>
                    <a:pt x="2574" y="121"/>
                  </a:lnTo>
                  <a:lnTo>
                    <a:pt x="2618" y="133"/>
                  </a:lnTo>
                  <a:lnTo>
                    <a:pt x="2658" y="146"/>
                  </a:lnTo>
                  <a:lnTo>
                    <a:pt x="2697" y="160"/>
                  </a:lnTo>
                  <a:lnTo>
                    <a:pt x="2731" y="174"/>
                  </a:lnTo>
                  <a:lnTo>
                    <a:pt x="2763" y="189"/>
                  </a:lnTo>
                  <a:lnTo>
                    <a:pt x="2793" y="204"/>
                  </a:lnTo>
                  <a:lnTo>
                    <a:pt x="2819" y="220"/>
                  </a:lnTo>
                  <a:lnTo>
                    <a:pt x="2841" y="236"/>
                  </a:lnTo>
                  <a:lnTo>
                    <a:pt x="2861" y="253"/>
                  </a:lnTo>
                  <a:lnTo>
                    <a:pt x="2877" y="269"/>
                  </a:lnTo>
                  <a:lnTo>
                    <a:pt x="2890" y="287"/>
                  </a:lnTo>
                  <a:lnTo>
                    <a:pt x="2900" y="304"/>
                  </a:lnTo>
                  <a:lnTo>
                    <a:pt x="2905" y="322"/>
                  </a:lnTo>
                  <a:lnTo>
                    <a:pt x="2907" y="341"/>
                  </a:lnTo>
                  <a:close/>
                </a:path>
              </a:pathLst>
            </a:custGeom>
            <a:solidFill>
              <a:srgbClr val="fb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87920" y="6517080"/>
              <a:ext cx="320040" cy="83880"/>
            </a:xfrm>
            <a:custGeom>
              <a:avLst/>
              <a:gdLst/>
              <a:ahLst/>
              <a:rect l="l" t="t" r="r" b="b"/>
              <a:pathLst>
                <a:path w="2904" h="697">
                  <a:moveTo>
                    <a:pt x="2904" y="340"/>
                  </a:moveTo>
                  <a:lnTo>
                    <a:pt x="2902" y="359"/>
                  </a:lnTo>
                  <a:lnTo>
                    <a:pt x="2896" y="376"/>
                  </a:lnTo>
                  <a:lnTo>
                    <a:pt x="2887" y="394"/>
                  </a:lnTo>
                  <a:lnTo>
                    <a:pt x="2873" y="412"/>
                  </a:lnTo>
                  <a:lnTo>
                    <a:pt x="2857" y="429"/>
                  </a:lnTo>
                  <a:lnTo>
                    <a:pt x="2838" y="447"/>
                  </a:lnTo>
                  <a:lnTo>
                    <a:pt x="2815" y="463"/>
                  </a:lnTo>
                  <a:lnTo>
                    <a:pt x="2790" y="479"/>
                  </a:lnTo>
                  <a:lnTo>
                    <a:pt x="2760" y="495"/>
                  </a:lnTo>
                  <a:lnTo>
                    <a:pt x="2728" y="510"/>
                  </a:lnTo>
                  <a:lnTo>
                    <a:pt x="2693" y="525"/>
                  </a:lnTo>
                  <a:lnTo>
                    <a:pt x="2655" y="540"/>
                  </a:lnTo>
                  <a:lnTo>
                    <a:pt x="2615" y="554"/>
                  </a:lnTo>
                  <a:lnTo>
                    <a:pt x="2571" y="568"/>
                  </a:lnTo>
                  <a:lnTo>
                    <a:pt x="2526" y="580"/>
                  </a:lnTo>
                  <a:lnTo>
                    <a:pt x="2479" y="593"/>
                  </a:lnTo>
                  <a:lnTo>
                    <a:pt x="2428" y="604"/>
                  </a:lnTo>
                  <a:lnTo>
                    <a:pt x="2375" y="616"/>
                  </a:lnTo>
                  <a:lnTo>
                    <a:pt x="2320" y="626"/>
                  </a:lnTo>
                  <a:lnTo>
                    <a:pt x="2263" y="636"/>
                  </a:lnTo>
                  <a:lnTo>
                    <a:pt x="2204" y="646"/>
                  </a:lnTo>
                  <a:lnTo>
                    <a:pt x="2143" y="655"/>
                  </a:lnTo>
                  <a:lnTo>
                    <a:pt x="2081" y="662"/>
                  </a:lnTo>
                  <a:lnTo>
                    <a:pt x="2017" y="670"/>
                  </a:lnTo>
                  <a:lnTo>
                    <a:pt x="1950" y="676"/>
                  </a:lnTo>
                  <a:lnTo>
                    <a:pt x="1884" y="681"/>
                  </a:lnTo>
                  <a:lnTo>
                    <a:pt x="1814" y="686"/>
                  </a:lnTo>
                  <a:lnTo>
                    <a:pt x="1744" y="690"/>
                  </a:lnTo>
                  <a:lnTo>
                    <a:pt x="1673" y="693"/>
                  </a:lnTo>
                  <a:lnTo>
                    <a:pt x="1600" y="696"/>
                  </a:lnTo>
                  <a:lnTo>
                    <a:pt x="1526" y="697"/>
                  </a:lnTo>
                  <a:lnTo>
                    <a:pt x="1451" y="697"/>
                  </a:lnTo>
                  <a:lnTo>
                    <a:pt x="1377" y="697"/>
                  </a:lnTo>
                  <a:lnTo>
                    <a:pt x="1303" y="696"/>
                  </a:lnTo>
                  <a:lnTo>
                    <a:pt x="1230" y="693"/>
                  </a:lnTo>
                  <a:lnTo>
                    <a:pt x="1159" y="690"/>
                  </a:lnTo>
                  <a:lnTo>
                    <a:pt x="1089" y="686"/>
                  </a:lnTo>
                  <a:lnTo>
                    <a:pt x="1020" y="681"/>
                  </a:lnTo>
                  <a:lnTo>
                    <a:pt x="953" y="676"/>
                  </a:lnTo>
                  <a:lnTo>
                    <a:pt x="887" y="670"/>
                  </a:lnTo>
                  <a:lnTo>
                    <a:pt x="822" y="662"/>
                  </a:lnTo>
                  <a:lnTo>
                    <a:pt x="760" y="655"/>
                  </a:lnTo>
                  <a:lnTo>
                    <a:pt x="699" y="646"/>
                  </a:lnTo>
                  <a:lnTo>
                    <a:pt x="639" y="636"/>
                  </a:lnTo>
                  <a:lnTo>
                    <a:pt x="583" y="626"/>
                  </a:lnTo>
                  <a:lnTo>
                    <a:pt x="528" y="616"/>
                  </a:lnTo>
                  <a:lnTo>
                    <a:pt x="476" y="604"/>
                  </a:lnTo>
                  <a:lnTo>
                    <a:pt x="425" y="593"/>
                  </a:lnTo>
                  <a:lnTo>
                    <a:pt x="377" y="580"/>
                  </a:lnTo>
                  <a:lnTo>
                    <a:pt x="331" y="568"/>
                  </a:lnTo>
                  <a:lnTo>
                    <a:pt x="288" y="554"/>
                  </a:lnTo>
                  <a:lnTo>
                    <a:pt x="248" y="540"/>
                  </a:lnTo>
                  <a:lnTo>
                    <a:pt x="210" y="525"/>
                  </a:lnTo>
                  <a:lnTo>
                    <a:pt x="175" y="510"/>
                  </a:lnTo>
                  <a:lnTo>
                    <a:pt x="143" y="495"/>
                  </a:lnTo>
                  <a:lnTo>
                    <a:pt x="114" y="479"/>
                  </a:lnTo>
                  <a:lnTo>
                    <a:pt x="88" y="463"/>
                  </a:lnTo>
                  <a:lnTo>
                    <a:pt x="65" y="447"/>
                  </a:lnTo>
                  <a:lnTo>
                    <a:pt x="46" y="429"/>
                  </a:lnTo>
                  <a:lnTo>
                    <a:pt x="29" y="412"/>
                  </a:lnTo>
                  <a:lnTo>
                    <a:pt x="16" y="394"/>
                  </a:lnTo>
                  <a:lnTo>
                    <a:pt x="7" y="376"/>
                  </a:lnTo>
                  <a:lnTo>
                    <a:pt x="1" y="359"/>
                  </a:lnTo>
                  <a:lnTo>
                    <a:pt x="0" y="340"/>
                  </a:lnTo>
                  <a:lnTo>
                    <a:pt x="1" y="321"/>
                  </a:lnTo>
                  <a:lnTo>
                    <a:pt x="7" y="303"/>
                  </a:lnTo>
                  <a:lnTo>
                    <a:pt x="16" y="286"/>
                  </a:lnTo>
                  <a:lnTo>
                    <a:pt x="29" y="269"/>
                  </a:lnTo>
                  <a:lnTo>
                    <a:pt x="46" y="252"/>
                  </a:lnTo>
                  <a:lnTo>
                    <a:pt x="65" y="236"/>
                  </a:lnTo>
                  <a:lnTo>
                    <a:pt x="88" y="220"/>
                  </a:lnTo>
                  <a:lnTo>
                    <a:pt x="114" y="203"/>
                  </a:lnTo>
                  <a:lnTo>
                    <a:pt x="143" y="188"/>
                  </a:lnTo>
                  <a:lnTo>
                    <a:pt x="175" y="174"/>
                  </a:lnTo>
                  <a:lnTo>
                    <a:pt x="210" y="159"/>
                  </a:lnTo>
                  <a:lnTo>
                    <a:pt x="248" y="146"/>
                  </a:lnTo>
                  <a:lnTo>
                    <a:pt x="288" y="133"/>
                  </a:lnTo>
                  <a:lnTo>
                    <a:pt x="331" y="120"/>
                  </a:lnTo>
                  <a:lnTo>
                    <a:pt x="377" y="107"/>
                  </a:lnTo>
                  <a:lnTo>
                    <a:pt x="425" y="96"/>
                  </a:lnTo>
                  <a:lnTo>
                    <a:pt x="476" y="85"/>
                  </a:lnTo>
                  <a:lnTo>
                    <a:pt x="528" y="74"/>
                  </a:lnTo>
                  <a:lnTo>
                    <a:pt x="583" y="65"/>
                  </a:lnTo>
                  <a:lnTo>
                    <a:pt x="639" y="56"/>
                  </a:lnTo>
                  <a:lnTo>
                    <a:pt x="699" y="47"/>
                  </a:lnTo>
                  <a:lnTo>
                    <a:pt x="760" y="39"/>
                  </a:lnTo>
                  <a:lnTo>
                    <a:pt x="822" y="32"/>
                  </a:lnTo>
                  <a:lnTo>
                    <a:pt x="887" y="26"/>
                  </a:lnTo>
                  <a:lnTo>
                    <a:pt x="953" y="20"/>
                  </a:lnTo>
                  <a:lnTo>
                    <a:pt x="1020" y="15"/>
                  </a:lnTo>
                  <a:lnTo>
                    <a:pt x="1089" y="11"/>
                  </a:lnTo>
                  <a:lnTo>
                    <a:pt x="1159" y="7"/>
                  </a:lnTo>
                  <a:lnTo>
                    <a:pt x="1230" y="4"/>
                  </a:lnTo>
                  <a:lnTo>
                    <a:pt x="1303" y="1"/>
                  </a:lnTo>
                  <a:lnTo>
                    <a:pt x="1377" y="0"/>
                  </a:lnTo>
                  <a:lnTo>
                    <a:pt x="1451" y="0"/>
                  </a:lnTo>
                  <a:lnTo>
                    <a:pt x="1526" y="0"/>
                  </a:lnTo>
                  <a:lnTo>
                    <a:pt x="1600" y="1"/>
                  </a:lnTo>
                  <a:lnTo>
                    <a:pt x="1673" y="4"/>
                  </a:lnTo>
                  <a:lnTo>
                    <a:pt x="1744" y="7"/>
                  </a:lnTo>
                  <a:lnTo>
                    <a:pt x="1814" y="11"/>
                  </a:lnTo>
                  <a:lnTo>
                    <a:pt x="1884" y="15"/>
                  </a:lnTo>
                  <a:lnTo>
                    <a:pt x="1950" y="20"/>
                  </a:lnTo>
                  <a:lnTo>
                    <a:pt x="2017" y="26"/>
                  </a:lnTo>
                  <a:lnTo>
                    <a:pt x="2081" y="32"/>
                  </a:lnTo>
                  <a:lnTo>
                    <a:pt x="2143" y="39"/>
                  </a:lnTo>
                  <a:lnTo>
                    <a:pt x="2204" y="47"/>
                  </a:lnTo>
                  <a:lnTo>
                    <a:pt x="2263" y="56"/>
                  </a:lnTo>
                  <a:lnTo>
                    <a:pt x="2320" y="65"/>
                  </a:lnTo>
                  <a:lnTo>
                    <a:pt x="2375" y="74"/>
                  </a:lnTo>
                  <a:lnTo>
                    <a:pt x="2428" y="85"/>
                  </a:lnTo>
                  <a:lnTo>
                    <a:pt x="2479" y="96"/>
                  </a:lnTo>
                  <a:lnTo>
                    <a:pt x="2526" y="107"/>
                  </a:lnTo>
                  <a:lnTo>
                    <a:pt x="2571" y="120"/>
                  </a:lnTo>
                  <a:lnTo>
                    <a:pt x="2615" y="133"/>
                  </a:lnTo>
                  <a:lnTo>
                    <a:pt x="2655" y="146"/>
                  </a:lnTo>
                  <a:lnTo>
                    <a:pt x="2693" y="159"/>
                  </a:lnTo>
                  <a:lnTo>
                    <a:pt x="2728" y="174"/>
                  </a:lnTo>
                  <a:lnTo>
                    <a:pt x="2760" y="188"/>
                  </a:lnTo>
                  <a:lnTo>
                    <a:pt x="2790" y="203"/>
                  </a:lnTo>
                  <a:lnTo>
                    <a:pt x="2815" y="220"/>
                  </a:lnTo>
                  <a:lnTo>
                    <a:pt x="2838" y="236"/>
                  </a:lnTo>
                  <a:lnTo>
                    <a:pt x="2857" y="252"/>
                  </a:lnTo>
                  <a:lnTo>
                    <a:pt x="2873" y="269"/>
                  </a:lnTo>
                  <a:lnTo>
                    <a:pt x="2887" y="286"/>
                  </a:lnTo>
                  <a:lnTo>
                    <a:pt x="2896" y="303"/>
                  </a:lnTo>
                  <a:lnTo>
                    <a:pt x="2902" y="321"/>
                  </a:lnTo>
                  <a:lnTo>
                    <a:pt x="2904" y="340"/>
                  </a:lnTo>
                  <a:close/>
                </a:path>
              </a:pathLst>
            </a:custGeom>
            <a:solidFill>
              <a:srgbClr val="fb5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87920" y="6517080"/>
              <a:ext cx="320040" cy="82800"/>
            </a:xfrm>
            <a:custGeom>
              <a:avLst/>
              <a:gdLst/>
              <a:ahLst/>
              <a:rect l="l" t="t" r="r" b="b"/>
              <a:pathLst>
                <a:path w="2901" h="695">
                  <a:moveTo>
                    <a:pt x="2901" y="339"/>
                  </a:moveTo>
                  <a:lnTo>
                    <a:pt x="2899" y="357"/>
                  </a:lnTo>
                  <a:lnTo>
                    <a:pt x="2894" y="375"/>
                  </a:lnTo>
                  <a:lnTo>
                    <a:pt x="2885" y="393"/>
                  </a:lnTo>
                  <a:lnTo>
                    <a:pt x="2871" y="410"/>
                  </a:lnTo>
                  <a:lnTo>
                    <a:pt x="2855" y="428"/>
                  </a:lnTo>
                  <a:lnTo>
                    <a:pt x="2836" y="445"/>
                  </a:lnTo>
                  <a:lnTo>
                    <a:pt x="2813" y="462"/>
                  </a:lnTo>
                  <a:lnTo>
                    <a:pt x="2787" y="478"/>
                  </a:lnTo>
                  <a:lnTo>
                    <a:pt x="2758" y="493"/>
                  </a:lnTo>
                  <a:lnTo>
                    <a:pt x="2726" y="509"/>
                  </a:lnTo>
                  <a:lnTo>
                    <a:pt x="2691" y="523"/>
                  </a:lnTo>
                  <a:lnTo>
                    <a:pt x="2653" y="539"/>
                  </a:lnTo>
                  <a:lnTo>
                    <a:pt x="2613" y="553"/>
                  </a:lnTo>
                  <a:lnTo>
                    <a:pt x="2569" y="566"/>
                  </a:lnTo>
                  <a:lnTo>
                    <a:pt x="2524" y="579"/>
                  </a:lnTo>
                  <a:lnTo>
                    <a:pt x="2477" y="591"/>
                  </a:lnTo>
                  <a:lnTo>
                    <a:pt x="2426" y="603"/>
                  </a:lnTo>
                  <a:lnTo>
                    <a:pt x="2374" y="614"/>
                  </a:lnTo>
                  <a:lnTo>
                    <a:pt x="2318" y="624"/>
                  </a:lnTo>
                  <a:lnTo>
                    <a:pt x="2261" y="634"/>
                  </a:lnTo>
                  <a:lnTo>
                    <a:pt x="2203" y="644"/>
                  </a:lnTo>
                  <a:lnTo>
                    <a:pt x="2142" y="653"/>
                  </a:lnTo>
                  <a:lnTo>
                    <a:pt x="2080" y="661"/>
                  </a:lnTo>
                  <a:lnTo>
                    <a:pt x="2015" y="668"/>
                  </a:lnTo>
                  <a:lnTo>
                    <a:pt x="1949" y="674"/>
                  </a:lnTo>
                  <a:lnTo>
                    <a:pt x="1882" y="680"/>
                  </a:lnTo>
                  <a:lnTo>
                    <a:pt x="1813" y="684"/>
                  </a:lnTo>
                  <a:lnTo>
                    <a:pt x="1742" y="688"/>
                  </a:lnTo>
                  <a:lnTo>
                    <a:pt x="1672" y="691"/>
                  </a:lnTo>
                  <a:lnTo>
                    <a:pt x="1599" y="694"/>
                  </a:lnTo>
                  <a:lnTo>
                    <a:pt x="1525" y="695"/>
                  </a:lnTo>
                  <a:lnTo>
                    <a:pt x="1450" y="695"/>
                  </a:lnTo>
                  <a:lnTo>
                    <a:pt x="1376" y="695"/>
                  </a:lnTo>
                  <a:lnTo>
                    <a:pt x="1302" y="694"/>
                  </a:lnTo>
                  <a:lnTo>
                    <a:pt x="1229" y="691"/>
                  </a:lnTo>
                  <a:lnTo>
                    <a:pt x="1159" y="688"/>
                  </a:lnTo>
                  <a:lnTo>
                    <a:pt x="1088" y="684"/>
                  </a:lnTo>
                  <a:lnTo>
                    <a:pt x="1019" y="680"/>
                  </a:lnTo>
                  <a:lnTo>
                    <a:pt x="952" y="674"/>
                  </a:lnTo>
                  <a:lnTo>
                    <a:pt x="886" y="668"/>
                  </a:lnTo>
                  <a:lnTo>
                    <a:pt x="821" y="661"/>
                  </a:lnTo>
                  <a:lnTo>
                    <a:pt x="760" y="653"/>
                  </a:lnTo>
                  <a:lnTo>
                    <a:pt x="698" y="644"/>
                  </a:lnTo>
                  <a:lnTo>
                    <a:pt x="639" y="634"/>
                  </a:lnTo>
                  <a:lnTo>
                    <a:pt x="583" y="624"/>
                  </a:lnTo>
                  <a:lnTo>
                    <a:pt x="528" y="614"/>
                  </a:lnTo>
                  <a:lnTo>
                    <a:pt x="475" y="603"/>
                  </a:lnTo>
                  <a:lnTo>
                    <a:pt x="425" y="591"/>
                  </a:lnTo>
                  <a:lnTo>
                    <a:pt x="377" y="579"/>
                  </a:lnTo>
                  <a:lnTo>
                    <a:pt x="331" y="566"/>
                  </a:lnTo>
                  <a:lnTo>
                    <a:pt x="288" y="553"/>
                  </a:lnTo>
                  <a:lnTo>
                    <a:pt x="248" y="539"/>
                  </a:lnTo>
                  <a:lnTo>
                    <a:pt x="210" y="523"/>
                  </a:lnTo>
                  <a:lnTo>
                    <a:pt x="175" y="509"/>
                  </a:lnTo>
                  <a:lnTo>
                    <a:pt x="144" y="493"/>
                  </a:lnTo>
                  <a:lnTo>
                    <a:pt x="114" y="478"/>
                  </a:lnTo>
                  <a:lnTo>
                    <a:pt x="88" y="462"/>
                  </a:lnTo>
                  <a:lnTo>
                    <a:pt x="66" y="445"/>
                  </a:lnTo>
                  <a:lnTo>
                    <a:pt x="46" y="428"/>
                  </a:lnTo>
                  <a:lnTo>
                    <a:pt x="29" y="410"/>
                  </a:lnTo>
                  <a:lnTo>
                    <a:pt x="17" y="393"/>
                  </a:lnTo>
                  <a:lnTo>
                    <a:pt x="7" y="375"/>
                  </a:lnTo>
                  <a:lnTo>
                    <a:pt x="2" y="357"/>
                  </a:lnTo>
                  <a:lnTo>
                    <a:pt x="0" y="339"/>
                  </a:lnTo>
                  <a:lnTo>
                    <a:pt x="2" y="320"/>
                  </a:lnTo>
                  <a:lnTo>
                    <a:pt x="7" y="302"/>
                  </a:lnTo>
                  <a:lnTo>
                    <a:pt x="17" y="285"/>
                  </a:lnTo>
                  <a:lnTo>
                    <a:pt x="29" y="268"/>
                  </a:lnTo>
                  <a:lnTo>
                    <a:pt x="46" y="251"/>
                  </a:lnTo>
                  <a:lnTo>
                    <a:pt x="66" y="235"/>
                  </a:lnTo>
                  <a:lnTo>
                    <a:pt x="88" y="219"/>
                  </a:lnTo>
                  <a:lnTo>
                    <a:pt x="114" y="203"/>
                  </a:lnTo>
                  <a:lnTo>
                    <a:pt x="144" y="188"/>
                  </a:lnTo>
                  <a:lnTo>
                    <a:pt x="175" y="173"/>
                  </a:lnTo>
                  <a:lnTo>
                    <a:pt x="210" y="159"/>
                  </a:lnTo>
                  <a:lnTo>
                    <a:pt x="248" y="145"/>
                  </a:lnTo>
                  <a:lnTo>
                    <a:pt x="288" y="132"/>
                  </a:lnTo>
                  <a:lnTo>
                    <a:pt x="331" y="120"/>
                  </a:lnTo>
                  <a:lnTo>
                    <a:pt x="377" y="107"/>
                  </a:lnTo>
                  <a:lnTo>
                    <a:pt x="425" y="95"/>
                  </a:lnTo>
                  <a:lnTo>
                    <a:pt x="475" y="84"/>
                  </a:lnTo>
                  <a:lnTo>
                    <a:pt x="528" y="74"/>
                  </a:lnTo>
                  <a:lnTo>
                    <a:pt x="583" y="64"/>
                  </a:lnTo>
                  <a:lnTo>
                    <a:pt x="639" y="55"/>
                  </a:lnTo>
                  <a:lnTo>
                    <a:pt x="698" y="47"/>
                  </a:lnTo>
                  <a:lnTo>
                    <a:pt x="760" y="39"/>
                  </a:lnTo>
                  <a:lnTo>
                    <a:pt x="821" y="32"/>
                  </a:lnTo>
                  <a:lnTo>
                    <a:pt x="886" y="26"/>
                  </a:lnTo>
                  <a:lnTo>
                    <a:pt x="952" y="20"/>
                  </a:lnTo>
                  <a:lnTo>
                    <a:pt x="1019" y="15"/>
                  </a:lnTo>
                  <a:lnTo>
                    <a:pt x="1088" y="11"/>
                  </a:lnTo>
                  <a:lnTo>
                    <a:pt x="1159" y="7"/>
                  </a:lnTo>
                  <a:lnTo>
                    <a:pt x="1229" y="4"/>
                  </a:lnTo>
                  <a:lnTo>
                    <a:pt x="1302" y="2"/>
                  </a:lnTo>
                  <a:lnTo>
                    <a:pt x="1376" y="0"/>
                  </a:lnTo>
                  <a:lnTo>
                    <a:pt x="1450" y="0"/>
                  </a:lnTo>
                  <a:lnTo>
                    <a:pt x="1525" y="0"/>
                  </a:lnTo>
                  <a:lnTo>
                    <a:pt x="1599" y="2"/>
                  </a:lnTo>
                  <a:lnTo>
                    <a:pt x="1672" y="4"/>
                  </a:lnTo>
                  <a:lnTo>
                    <a:pt x="1742" y="7"/>
                  </a:lnTo>
                  <a:lnTo>
                    <a:pt x="1813" y="11"/>
                  </a:lnTo>
                  <a:lnTo>
                    <a:pt x="1882" y="15"/>
                  </a:lnTo>
                  <a:lnTo>
                    <a:pt x="1949" y="20"/>
                  </a:lnTo>
                  <a:lnTo>
                    <a:pt x="2015" y="26"/>
                  </a:lnTo>
                  <a:lnTo>
                    <a:pt x="2080" y="32"/>
                  </a:lnTo>
                  <a:lnTo>
                    <a:pt x="2142" y="39"/>
                  </a:lnTo>
                  <a:lnTo>
                    <a:pt x="2203" y="47"/>
                  </a:lnTo>
                  <a:lnTo>
                    <a:pt x="2261" y="55"/>
                  </a:lnTo>
                  <a:lnTo>
                    <a:pt x="2318" y="64"/>
                  </a:lnTo>
                  <a:lnTo>
                    <a:pt x="2374" y="74"/>
                  </a:lnTo>
                  <a:lnTo>
                    <a:pt x="2426" y="84"/>
                  </a:lnTo>
                  <a:lnTo>
                    <a:pt x="2477" y="95"/>
                  </a:lnTo>
                  <a:lnTo>
                    <a:pt x="2524" y="107"/>
                  </a:lnTo>
                  <a:lnTo>
                    <a:pt x="2569" y="120"/>
                  </a:lnTo>
                  <a:lnTo>
                    <a:pt x="2613" y="132"/>
                  </a:lnTo>
                  <a:lnTo>
                    <a:pt x="2653" y="145"/>
                  </a:lnTo>
                  <a:lnTo>
                    <a:pt x="2691" y="159"/>
                  </a:lnTo>
                  <a:lnTo>
                    <a:pt x="2726" y="173"/>
                  </a:lnTo>
                  <a:lnTo>
                    <a:pt x="2758" y="188"/>
                  </a:lnTo>
                  <a:lnTo>
                    <a:pt x="2787" y="203"/>
                  </a:lnTo>
                  <a:lnTo>
                    <a:pt x="2813" y="219"/>
                  </a:lnTo>
                  <a:lnTo>
                    <a:pt x="2836" y="235"/>
                  </a:lnTo>
                  <a:lnTo>
                    <a:pt x="2855" y="251"/>
                  </a:lnTo>
                  <a:lnTo>
                    <a:pt x="2871" y="268"/>
                  </a:lnTo>
                  <a:lnTo>
                    <a:pt x="2885" y="285"/>
                  </a:lnTo>
                  <a:lnTo>
                    <a:pt x="2894" y="302"/>
                  </a:lnTo>
                  <a:lnTo>
                    <a:pt x="2899" y="320"/>
                  </a:lnTo>
                  <a:lnTo>
                    <a:pt x="2901" y="339"/>
                  </a:lnTo>
                  <a:close/>
                </a:path>
              </a:pathLst>
            </a:custGeom>
            <a:solidFill>
              <a:srgbClr val="fb5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87920" y="6517080"/>
              <a:ext cx="320040" cy="82800"/>
            </a:xfrm>
            <a:custGeom>
              <a:avLst/>
              <a:gdLst/>
              <a:ahLst/>
              <a:rect l="l" t="t" r="r" b="b"/>
              <a:pathLst>
                <a:path w="2899" h="695">
                  <a:moveTo>
                    <a:pt x="2899" y="339"/>
                  </a:moveTo>
                  <a:lnTo>
                    <a:pt x="2897" y="357"/>
                  </a:lnTo>
                  <a:lnTo>
                    <a:pt x="2891" y="375"/>
                  </a:lnTo>
                  <a:lnTo>
                    <a:pt x="2882" y="393"/>
                  </a:lnTo>
                  <a:lnTo>
                    <a:pt x="2869" y="410"/>
                  </a:lnTo>
                  <a:lnTo>
                    <a:pt x="2853" y="427"/>
                  </a:lnTo>
                  <a:lnTo>
                    <a:pt x="2833" y="445"/>
                  </a:lnTo>
                  <a:lnTo>
                    <a:pt x="2811" y="461"/>
                  </a:lnTo>
                  <a:lnTo>
                    <a:pt x="2785" y="477"/>
                  </a:lnTo>
                  <a:lnTo>
                    <a:pt x="2755" y="493"/>
                  </a:lnTo>
                  <a:lnTo>
                    <a:pt x="2724" y="508"/>
                  </a:lnTo>
                  <a:lnTo>
                    <a:pt x="2689" y="523"/>
                  </a:lnTo>
                  <a:lnTo>
                    <a:pt x="2651" y="538"/>
                  </a:lnTo>
                  <a:lnTo>
                    <a:pt x="2611" y="552"/>
                  </a:lnTo>
                  <a:lnTo>
                    <a:pt x="2567" y="565"/>
                  </a:lnTo>
                  <a:lnTo>
                    <a:pt x="2522" y="578"/>
                  </a:lnTo>
                  <a:lnTo>
                    <a:pt x="2475" y="590"/>
                  </a:lnTo>
                  <a:lnTo>
                    <a:pt x="2424" y="602"/>
                  </a:lnTo>
                  <a:lnTo>
                    <a:pt x="2372" y="613"/>
                  </a:lnTo>
                  <a:lnTo>
                    <a:pt x="2316" y="624"/>
                  </a:lnTo>
                  <a:lnTo>
                    <a:pt x="2259" y="633"/>
                  </a:lnTo>
                  <a:lnTo>
                    <a:pt x="2201" y="644"/>
                  </a:lnTo>
                  <a:lnTo>
                    <a:pt x="2140" y="652"/>
                  </a:lnTo>
                  <a:lnTo>
                    <a:pt x="2078" y="660"/>
                  </a:lnTo>
                  <a:lnTo>
                    <a:pt x="2014" y="667"/>
                  </a:lnTo>
                  <a:lnTo>
                    <a:pt x="1947" y="673"/>
                  </a:lnTo>
                  <a:lnTo>
                    <a:pt x="1881" y="679"/>
                  </a:lnTo>
                  <a:lnTo>
                    <a:pt x="1812" y="684"/>
                  </a:lnTo>
                  <a:lnTo>
                    <a:pt x="1741" y="687"/>
                  </a:lnTo>
                  <a:lnTo>
                    <a:pt x="1671" y="691"/>
                  </a:lnTo>
                  <a:lnTo>
                    <a:pt x="1598" y="693"/>
                  </a:lnTo>
                  <a:lnTo>
                    <a:pt x="1524" y="694"/>
                  </a:lnTo>
                  <a:lnTo>
                    <a:pt x="1449" y="695"/>
                  </a:lnTo>
                  <a:lnTo>
                    <a:pt x="1375" y="694"/>
                  </a:lnTo>
                  <a:lnTo>
                    <a:pt x="1301" y="693"/>
                  </a:lnTo>
                  <a:lnTo>
                    <a:pt x="1229" y="691"/>
                  </a:lnTo>
                  <a:lnTo>
                    <a:pt x="1158" y="687"/>
                  </a:lnTo>
                  <a:lnTo>
                    <a:pt x="1088" y="684"/>
                  </a:lnTo>
                  <a:lnTo>
                    <a:pt x="1018" y="679"/>
                  </a:lnTo>
                  <a:lnTo>
                    <a:pt x="952" y="673"/>
                  </a:lnTo>
                  <a:lnTo>
                    <a:pt x="886" y="667"/>
                  </a:lnTo>
                  <a:lnTo>
                    <a:pt x="821" y="660"/>
                  </a:lnTo>
                  <a:lnTo>
                    <a:pt x="759" y="652"/>
                  </a:lnTo>
                  <a:lnTo>
                    <a:pt x="698" y="644"/>
                  </a:lnTo>
                  <a:lnTo>
                    <a:pt x="639" y="633"/>
                  </a:lnTo>
                  <a:lnTo>
                    <a:pt x="583" y="624"/>
                  </a:lnTo>
                  <a:lnTo>
                    <a:pt x="527" y="613"/>
                  </a:lnTo>
                  <a:lnTo>
                    <a:pt x="475" y="602"/>
                  </a:lnTo>
                  <a:lnTo>
                    <a:pt x="425" y="590"/>
                  </a:lnTo>
                  <a:lnTo>
                    <a:pt x="377" y="578"/>
                  </a:lnTo>
                  <a:lnTo>
                    <a:pt x="331" y="565"/>
                  </a:lnTo>
                  <a:lnTo>
                    <a:pt x="288" y="552"/>
                  </a:lnTo>
                  <a:lnTo>
                    <a:pt x="248" y="538"/>
                  </a:lnTo>
                  <a:lnTo>
                    <a:pt x="210" y="523"/>
                  </a:lnTo>
                  <a:lnTo>
                    <a:pt x="176" y="508"/>
                  </a:lnTo>
                  <a:lnTo>
                    <a:pt x="144" y="493"/>
                  </a:lnTo>
                  <a:lnTo>
                    <a:pt x="114" y="477"/>
                  </a:lnTo>
                  <a:lnTo>
                    <a:pt x="88" y="461"/>
                  </a:lnTo>
                  <a:lnTo>
                    <a:pt x="66" y="445"/>
                  </a:lnTo>
                  <a:lnTo>
                    <a:pt x="47" y="427"/>
                  </a:lnTo>
                  <a:lnTo>
                    <a:pt x="30" y="410"/>
                  </a:lnTo>
                  <a:lnTo>
                    <a:pt x="17" y="393"/>
                  </a:lnTo>
                  <a:lnTo>
                    <a:pt x="8" y="375"/>
                  </a:lnTo>
                  <a:lnTo>
                    <a:pt x="2" y="357"/>
                  </a:lnTo>
                  <a:lnTo>
                    <a:pt x="0" y="339"/>
                  </a:lnTo>
                  <a:lnTo>
                    <a:pt x="2" y="320"/>
                  </a:lnTo>
                  <a:lnTo>
                    <a:pt x="8" y="302"/>
                  </a:lnTo>
                  <a:lnTo>
                    <a:pt x="17" y="285"/>
                  </a:lnTo>
                  <a:lnTo>
                    <a:pt x="30" y="268"/>
                  </a:lnTo>
                  <a:lnTo>
                    <a:pt x="47" y="251"/>
                  </a:lnTo>
                  <a:lnTo>
                    <a:pt x="66" y="235"/>
                  </a:lnTo>
                  <a:lnTo>
                    <a:pt x="88" y="219"/>
                  </a:lnTo>
                  <a:lnTo>
                    <a:pt x="114" y="203"/>
                  </a:lnTo>
                  <a:lnTo>
                    <a:pt x="144" y="188"/>
                  </a:lnTo>
                  <a:lnTo>
                    <a:pt x="176" y="173"/>
                  </a:lnTo>
                  <a:lnTo>
                    <a:pt x="210" y="159"/>
                  </a:lnTo>
                  <a:lnTo>
                    <a:pt x="248" y="146"/>
                  </a:lnTo>
                  <a:lnTo>
                    <a:pt x="288" y="133"/>
                  </a:lnTo>
                  <a:lnTo>
                    <a:pt x="331" y="120"/>
                  </a:lnTo>
                  <a:lnTo>
                    <a:pt x="377" y="107"/>
                  </a:lnTo>
                  <a:lnTo>
                    <a:pt x="425" y="96"/>
                  </a:lnTo>
                  <a:lnTo>
                    <a:pt x="475" y="85"/>
                  </a:lnTo>
                  <a:lnTo>
                    <a:pt x="527" y="75"/>
                  </a:lnTo>
                  <a:lnTo>
                    <a:pt x="583" y="65"/>
                  </a:lnTo>
                  <a:lnTo>
                    <a:pt x="639" y="56"/>
                  </a:lnTo>
                  <a:lnTo>
                    <a:pt x="698" y="48"/>
                  </a:lnTo>
                  <a:lnTo>
                    <a:pt x="759" y="40"/>
                  </a:lnTo>
                  <a:lnTo>
                    <a:pt x="821" y="33"/>
                  </a:lnTo>
                  <a:lnTo>
                    <a:pt x="886" y="26"/>
                  </a:lnTo>
                  <a:lnTo>
                    <a:pt x="952" y="21"/>
                  </a:lnTo>
                  <a:lnTo>
                    <a:pt x="1018" y="16"/>
                  </a:lnTo>
                  <a:lnTo>
                    <a:pt x="1088" y="11"/>
                  </a:lnTo>
                  <a:lnTo>
                    <a:pt x="1158" y="8"/>
                  </a:lnTo>
                  <a:lnTo>
                    <a:pt x="1229" y="5"/>
                  </a:lnTo>
                  <a:lnTo>
                    <a:pt x="1301" y="3"/>
                  </a:lnTo>
                  <a:lnTo>
                    <a:pt x="1375" y="2"/>
                  </a:lnTo>
                  <a:lnTo>
                    <a:pt x="1449" y="0"/>
                  </a:lnTo>
                  <a:lnTo>
                    <a:pt x="1524" y="2"/>
                  </a:lnTo>
                  <a:lnTo>
                    <a:pt x="1598" y="3"/>
                  </a:lnTo>
                  <a:lnTo>
                    <a:pt x="1671" y="5"/>
                  </a:lnTo>
                  <a:lnTo>
                    <a:pt x="1741" y="8"/>
                  </a:lnTo>
                  <a:lnTo>
                    <a:pt x="1812" y="11"/>
                  </a:lnTo>
                  <a:lnTo>
                    <a:pt x="1881" y="16"/>
                  </a:lnTo>
                  <a:lnTo>
                    <a:pt x="1947" y="21"/>
                  </a:lnTo>
                  <a:lnTo>
                    <a:pt x="2014" y="26"/>
                  </a:lnTo>
                  <a:lnTo>
                    <a:pt x="2078" y="33"/>
                  </a:lnTo>
                  <a:lnTo>
                    <a:pt x="2140" y="40"/>
                  </a:lnTo>
                  <a:lnTo>
                    <a:pt x="2201" y="48"/>
                  </a:lnTo>
                  <a:lnTo>
                    <a:pt x="2259" y="56"/>
                  </a:lnTo>
                  <a:lnTo>
                    <a:pt x="2316" y="65"/>
                  </a:lnTo>
                  <a:lnTo>
                    <a:pt x="2372" y="75"/>
                  </a:lnTo>
                  <a:lnTo>
                    <a:pt x="2424" y="85"/>
                  </a:lnTo>
                  <a:lnTo>
                    <a:pt x="2475" y="96"/>
                  </a:lnTo>
                  <a:lnTo>
                    <a:pt x="2522" y="107"/>
                  </a:lnTo>
                  <a:lnTo>
                    <a:pt x="2567" y="120"/>
                  </a:lnTo>
                  <a:lnTo>
                    <a:pt x="2611" y="133"/>
                  </a:lnTo>
                  <a:lnTo>
                    <a:pt x="2651" y="146"/>
                  </a:lnTo>
                  <a:lnTo>
                    <a:pt x="2689" y="159"/>
                  </a:lnTo>
                  <a:lnTo>
                    <a:pt x="2724" y="173"/>
                  </a:lnTo>
                  <a:lnTo>
                    <a:pt x="2755" y="188"/>
                  </a:lnTo>
                  <a:lnTo>
                    <a:pt x="2785" y="203"/>
                  </a:lnTo>
                  <a:lnTo>
                    <a:pt x="2811" y="219"/>
                  </a:lnTo>
                  <a:lnTo>
                    <a:pt x="2833" y="235"/>
                  </a:lnTo>
                  <a:lnTo>
                    <a:pt x="2853" y="251"/>
                  </a:lnTo>
                  <a:lnTo>
                    <a:pt x="2869" y="268"/>
                  </a:lnTo>
                  <a:lnTo>
                    <a:pt x="2882" y="285"/>
                  </a:lnTo>
                  <a:lnTo>
                    <a:pt x="2891" y="302"/>
                  </a:lnTo>
                  <a:lnTo>
                    <a:pt x="2897" y="320"/>
                  </a:lnTo>
                  <a:lnTo>
                    <a:pt x="2899" y="339"/>
                  </a:lnTo>
                  <a:close/>
                </a:path>
              </a:pathLst>
            </a:custGeom>
            <a:solidFill>
              <a:srgbClr val="fb5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87920" y="6517080"/>
              <a:ext cx="320040" cy="82800"/>
            </a:xfrm>
            <a:custGeom>
              <a:avLst/>
              <a:gdLst/>
              <a:ahLst/>
              <a:rect l="l" t="t" r="r" b="b"/>
              <a:pathLst>
                <a:path w="2895" h="692">
                  <a:moveTo>
                    <a:pt x="2895" y="337"/>
                  </a:moveTo>
                  <a:lnTo>
                    <a:pt x="2893" y="355"/>
                  </a:lnTo>
                  <a:lnTo>
                    <a:pt x="2888" y="373"/>
                  </a:lnTo>
                  <a:lnTo>
                    <a:pt x="2879" y="391"/>
                  </a:lnTo>
                  <a:lnTo>
                    <a:pt x="2865" y="408"/>
                  </a:lnTo>
                  <a:lnTo>
                    <a:pt x="2849" y="425"/>
                  </a:lnTo>
                  <a:lnTo>
                    <a:pt x="2830" y="443"/>
                  </a:lnTo>
                  <a:lnTo>
                    <a:pt x="2807" y="459"/>
                  </a:lnTo>
                  <a:lnTo>
                    <a:pt x="2782" y="475"/>
                  </a:lnTo>
                  <a:lnTo>
                    <a:pt x="2752" y="491"/>
                  </a:lnTo>
                  <a:lnTo>
                    <a:pt x="2720" y="506"/>
                  </a:lnTo>
                  <a:lnTo>
                    <a:pt x="2686" y="520"/>
                  </a:lnTo>
                  <a:lnTo>
                    <a:pt x="2648" y="536"/>
                  </a:lnTo>
                  <a:lnTo>
                    <a:pt x="2608" y="550"/>
                  </a:lnTo>
                  <a:lnTo>
                    <a:pt x="2564" y="563"/>
                  </a:lnTo>
                  <a:lnTo>
                    <a:pt x="2519" y="576"/>
                  </a:lnTo>
                  <a:lnTo>
                    <a:pt x="2472" y="588"/>
                  </a:lnTo>
                  <a:lnTo>
                    <a:pt x="2421" y="599"/>
                  </a:lnTo>
                  <a:lnTo>
                    <a:pt x="2369" y="610"/>
                  </a:lnTo>
                  <a:lnTo>
                    <a:pt x="2314" y="621"/>
                  </a:lnTo>
                  <a:lnTo>
                    <a:pt x="2256" y="631"/>
                  </a:lnTo>
                  <a:lnTo>
                    <a:pt x="2198" y="640"/>
                  </a:lnTo>
                  <a:lnTo>
                    <a:pt x="2137" y="649"/>
                  </a:lnTo>
                  <a:lnTo>
                    <a:pt x="2075" y="657"/>
                  </a:lnTo>
                  <a:lnTo>
                    <a:pt x="2011" y="664"/>
                  </a:lnTo>
                  <a:lnTo>
                    <a:pt x="1945" y="670"/>
                  </a:lnTo>
                  <a:lnTo>
                    <a:pt x="1878" y="676"/>
                  </a:lnTo>
                  <a:lnTo>
                    <a:pt x="1809" y="681"/>
                  </a:lnTo>
                  <a:lnTo>
                    <a:pt x="1739" y="684"/>
                  </a:lnTo>
                  <a:lnTo>
                    <a:pt x="1668" y="688"/>
                  </a:lnTo>
                  <a:lnTo>
                    <a:pt x="1596" y="690"/>
                  </a:lnTo>
                  <a:lnTo>
                    <a:pt x="1522" y="691"/>
                  </a:lnTo>
                  <a:lnTo>
                    <a:pt x="1447" y="692"/>
                  </a:lnTo>
                  <a:lnTo>
                    <a:pt x="1373" y="691"/>
                  </a:lnTo>
                  <a:lnTo>
                    <a:pt x="1300" y="690"/>
                  </a:lnTo>
                  <a:lnTo>
                    <a:pt x="1227" y="688"/>
                  </a:lnTo>
                  <a:lnTo>
                    <a:pt x="1156" y="684"/>
                  </a:lnTo>
                  <a:lnTo>
                    <a:pt x="1086" y="681"/>
                  </a:lnTo>
                  <a:lnTo>
                    <a:pt x="1017" y="676"/>
                  </a:lnTo>
                  <a:lnTo>
                    <a:pt x="950" y="670"/>
                  </a:lnTo>
                  <a:lnTo>
                    <a:pt x="884" y="664"/>
                  </a:lnTo>
                  <a:lnTo>
                    <a:pt x="820" y="657"/>
                  </a:lnTo>
                  <a:lnTo>
                    <a:pt x="758" y="649"/>
                  </a:lnTo>
                  <a:lnTo>
                    <a:pt x="697" y="640"/>
                  </a:lnTo>
                  <a:lnTo>
                    <a:pt x="639" y="631"/>
                  </a:lnTo>
                  <a:lnTo>
                    <a:pt x="582" y="621"/>
                  </a:lnTo>
                  <a:lnTo>
                    <a:pt x="526" y="610"/>
                  </a:lnTo>
                  <a:lnTo>
                    <a:pt x="474" y="599"/>
                  </a:lnTo>
                  <a:lnTo>
                    <a:pt x="424" y="588"/>
                  </a:lnTo>
                  <a:lnTo>
                    <a:pt x="376" y="576"/>
                  </a:lnTo>
                  <a:lnTo>
                    <a:pt x="330" y="563"/>
                  </a:lnTo>
                  <a:lnTo>
                    <a:pt x="288" y="550"/>
                  </a:lnTo>
                  <a:lnTo>
                    <a:pt x="248" y="536"/>
                  </a:lnTo>
                  <a:lnTo>
                    <a:pt x="209" y="520"/>
                  </a:lnTo>
                  <a:lnTo>
                    <a:pt x="175" y="506"/>
                  </a:lnTo>
                  <a:lnTo>
                    <a:pt x="143" y="491"/>
                  </a:lnTo>
                  <a:lnTo>
                    <a:pt x="114" y="475"/>
                  </a:lnTo>
                  <a:lnTo>
                    <a:pt x="88" y="459"/>
                  </a:lnTo>
                  <a:lnTo>
                    <a:pt x="65" y="443"/>
                  </a:lnTo>
                  <a:lnTo>
                    <a:pt x="46" y="425"/>
                  </a:lnTo>
                  <a:lnTo>
                    <a:pt x="30" y="408"/>
                  </a:lnTo>
                  <a:lnTo>
                    <a:pt x="16" y="391"/>
                  </a:lnTo>
                  <a:lnTo>
                    <a:pt x="7" y="373"/>
                  </a:lnTo>
                  <a:lnTo>
                    <a:pt x="2" y="355"/>
                  </a:lnTo>
                  <a:lnTo>
                    <a:pt x="0" y="337"/>
                  </a:lnTo>
                  <a:lnTo>
                    <a:pt x="2" y="318"/>
                  </a:lnTo>
                  <a:lnTo>
                    <a:pt x="7" y="301"/>
                  </a:lnTo>
                  <a:lnTo>
                    <a:pt x="16" y="283"/>
                  </a:lnTo>
                  <a:lnTo>
                    <a:pt x="30" y="266"/>
                  </a:lnTo>
                  <a:lnTo>
                    <a:pt x="46" y="250"/>
                  </a:lnTo>
                  <a:lnTo>
                    <a:pt x="65" y="233"/>
                  </a:lnTo>
                  <a:lnTo>
                    <a:pt x="88" y="218"/>
                  </a:lnTo>
                  <a:lnTo>
                    <a:pt x="114" y="201"/>
                  </a:lnTo>
                  <a:lnTo>
                    <a:pt x="143" y="186"/>
                  </a:lnTo>
                  <a:lnTo>
                    <a:pt x="175" y="172"/>
                  </a:lnTo>
                  <a:lnTo>
                    <a:pt x="209" y="158"/>
                  </a:lnTo>
                  <a:lnTo>
                    <a:pt x="248" y="144"/>
                  </a:lnTo>
                  <a:lnTo>
                    <a:pt x="288" y="131"/>
                  </a:lnTo>
                  <a:lnTo>
                    <a:pt x="330" y="119"/>
                  </a:lnTo>
                  <a:lnTo>
                    <a:pt x="376" y="107"/>
                  </a:lnTo>
                  <a:lnTo>
                    <a:pt x="424" y="95"/>
                  </a:lnTo>
                  <a:lnTo>
                    <a:pt x="474" y="84"/>
                  </a:lnTo>
                  <a:lnTo>
                    <a:pt x="526" y="74"/>
                  </a:lnTo>
                  <a:lnTo>
                    <a:pt x="582" y="64"/>
                  </a:lnTo>
                  <a:lnTo>
                    <a:pt x="639" y="55"/>
                  </a:lnTo>
                  <a:lnTo>
                    <a:pt x="697" y="46"/>
                  </a:lnTo>
                  <a:lnTo>
                    <a:pt x="758" y="39"/>
                  </a:lnTo>
                  <a:lnTo>
                    <a:pt x="820" y="32"/>
                  </a:lnTo>
                  <a:lnTo>
                    <a:pt x="884" y="25"/>
                  </a:lnTo>
                  <a:lnTo>
                    <a:pt x="950" y="20"/>
                  </a:lnTo>
                  <a:lnTo>
                    <a:pt x="1017" y="15"/>
                  </a:lnTo>
                  <a:lnTo>
                    <a:pt x="1086" y="10"/>
                  </a:lnTo>
                  <a:lnTo>
                    <a:pt x="1156" y="7"/>
                  </a:lnTo>
                  <a:lnTo>
                    <a:pt x="1227" y="4"/>
                  </a:lnTo>
                  <a:lnTo>
                    <a:pt x="1300" y="2"/>
                  </a:lnTo>
                  <a:lnTo>
                    <a:pt x="1373" y="1"/>
                  </a:lnTo>
                  <a:lnTo>
                    <a:pt x="1447" y="0"/>
                  </a:lnTo>
                  <a:lnTo>
                    <a:pt x="1522" y="1"/>
                  </a:lnTo>
                  <a:lnTo>
                    <a:pt x="1596" y="2"/>
                  </a:lnTo>
                  <a:lnTo>
                    <a:pt x="1668" y="4"/>
                  </a:lnTo>
                  <a:lnTo>
                    <a:pt x="1739" y="7"/>
                  </a:lnTo>
                  <a:lnTo>
                    <a:pt x="1809" y="10"/>
                  </a:lnTo>
                  <a:lnTo>
                    <a:pt x="1878" y="15"/>
                  </a:lnTo>
                  <a:lnTo>
                    <a:pt x="1945" y="20"/>
                  </a:lnTo>
                  <a:lnTo>
                    <a:pt x="2011" y="25"/>
                  </a:lnTo>
                  <a:lnTo>
                    <a:pt x="2075" y="32"/>
                  </a:lnTo>
                  <a:lnTo>
                    <a:pt x="2137" y="39"/>
                  </a:lnTo>
                  <a:lnTo>
                    <a:pt x="2198" y="46"/>
                  </a:lnTo>
                  <a:lnTo>
                    <a:pt x="2256" y="55"/>
                  </a:lnTo>
                  <a:lnTo>
                    <a:pt x="2314" y="64"/>
                  </a:lnTo>
                  <a:lnTo>
                    <a:pt x="2369" y="74"/>
                  </a:lnTo>
                  <a:lnTo>
                    <a:pt x="2421" y="84"/>
                  </a:lnTo>
                  <a:lnTo>
                    <a:pt x="2472" y="95"/>
                  </a:lnTo>
                  <a:lnTo>
                    <a:pt x="2519" y="107"/>
                  </a:lnTo>
                  <a:lnTo>
                    <a:pt x="2564" y="119"/>
                  </a:lnTo>
                  <a:lnTo>
                    <a:pt x="2608" y="131"/>
                  </a:lnTo>
                  <a:lnTo>
                    <a:pt x="2648" y="144"/>
                  </a:lnTo>
                  <a:lnTo>
                    <a:pt x="2686" y="158"/>
                  </a:lnTo>
                  <a:lnTo>
                    <a:pt x="2720" y="172"/>
                  </a:lnTo>
                  <a:lnTo>
                    <a:pt x="2752" y="186"/>
                  </a:lnTo>
                  <a:lnTo>
                    <a:pt x="2782" y="201"/>
                  </a:lnTo>
                  <a:lnTo>
                    <a:pt x="2807" y="218"/>
                  </a:lnTo>
                  <a:lnTo>
                    <a:pt x="2830" y="233"/>
                  </a:lnTo>
                  <a:lnTo>
                    <a:pt x="2849" y="250"/>
                  </a:lnTo>
                  <a:lnTo>
                    <a:pt x="2865" y="266"/>
                  </a:lnTo>
                  <a:lnTo>
                    <a:pt x="2879" y="283"/>
                  </a:lnTo>
                  <a:lnTo>
                    <a:pt x="2888" y="301"/>
                  </a:lnTo>
                  <a:lnTo>
                    <a:pt x="2893" y="318"/>
                  </a:lnTo>
                  <a:lnTo>
                    <a:pt x="2895" y="337"/>
                  </a:lnTo>
                  <a:close/>
                </a:path>
              </a:pathLst>
            </a:custGeom>
            <a:solidFill>
              <a:srgbClr val="fb52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87920" y="6518160"/>
              <a:ext cx="318960" cy="81360"/>
            </a:xfrm>
            <a:custGeom>
              <a:avLst/>
              <a:gdLst/>
              <a:ahLst/>
              <a:rect l="l" t="t" r="r" b="b"/>
              <a:pathLst>
                <a:path w="2893" h="690">
                  <a:moveTo>
                    <a:pt x="2893" y="336"/>
                  </a:moveTo>
                  <a:lnTo>
                    <a:pt x="2891" y="354"/>
                  </a:lnTo>
                  <a:lnTo>
                    <a:pt x="2886" y="372"/>
                  </a:lnTo>
                  <a:lnTo>
                    <a:pt x="2876" y="390"/>
                  </a:lnTo>
                  <a:lnTo>
                    <a:pt x="2863" y="407"/>
                  </a:lnTo>
                  <a:lnTo>
                    <a:pt x="2847" y="424"/>
                  </a:lnTo>
                  <a:lnTo>
                    <a:pt x="2828" y="442"/>
                  </a:lnTo>
                  <a:lnTo>
                    <a:pt x="2805" y="458"/>
                  </a:lnTo>
                  <a:lnTo>
                    <a:pt x="2779" y="474"/>
                  </a:lnTo>
                  <a:lnTo>
                    <a:pt x="2750" y="489"/>
                  </a:lnTo>
                  <a:lnTo>
                    <a:pt x="2718" y="504"/>
                  </a:lnTo>
                  <a:lnTo>
                    <a:pt x="2684" y="519"/>
                  </a:lnTo>
                  <a:lnTo>
                    <a:pt x="2645" y="534"/>
                  </a:lnTo>
                  <a:lnTo>
                    <a:pt x="2605" y="548"/>
                  </a:lnTo>
                  <a:lnTo>
                    <a:pt x="2562" y="561"/>
                  </a:lnTo>
                  <a:lnTo>
                    <a:pt x="2517" y="574"/>
                  </a:lnTo>
                  <a:lnTo>
                    <a:pt x="2470" y="586"/>
                  </a:lnTo>
                  <a:lnTo>
                    <a:pt x="2419" y="598"/>
                  </a:lnTo>
                  <a:lnTo>
                    <a:pt x="2367" y="609"/>
                  </a:lnTo>
                  <a:lnTo>
                    <a:pt x="2312" y="619"/>
                  </a:lnTo>
                  <a:lnTo>
                    <a:pt x="2255" y="629"/>
                  </a:lnTo>
                  <a:lnTo>
                    <a:pt x="2197" y="638"/>
                  </a:lnTo>
                  <a:lnTo>
                    <a:pt x="2136" y="647"/>
                  </a:lnTo>
                  <a:lnTo>
                    <a:pt x="2074" y="655"/>
                  </a:lnTo>
                  <a:lnTo>
                    <a:pt x="2009" y="662"/>
                  </a:lnTo>
                  <a:lnTo>
                    <a:pt x="1943" y="668"/>
                  </a:lnTo>
                  <a:lnTo>
                    <a:pt x="1877" y="674"/>
                  </a:lnTo>
                  <a:lnTo>
                    <a:pt x="1808" y="679"/>
                  </a:lnTo>
                  <a:lnTo>
                    <a:pt x="1738" y="683"/>
                  </a:lnTo>
                  <a:lnTo>
                    <a:pt x="1667" y="686"/>
                  </a:lnTo>
                  <a:lnTo>
                    <a:pt x="1594" y="688"/>
                  </a:lnTo>
                  <a:lnTo>
                    <a:pt x="1521" y="689"/>
                  </a:lnTo>
                  <a:lnTo>
                    <a:pt x="1446" y="690"/>
                  </a:lnTo>
                  <a:lnTo>
                    <a:pt x="1372" y="689"/>
                  </a:lnTo>
                  <a:lnTo>
                    <a:pt x="1299" y="688"/>
                  </a:lnTo>
                  <a:lnTo>
                    <a:pt x="1226" y="686"/>
                  </a:lnTo>
                  <a:lnTo>
                    <a:pt x="1156" y="683"/>
                  </a:lnTo>
                  <a:lnTo>
                    <a:pt x="1085" y="679"/>
                  </a:lnTo>
                  <a:lnTo>
                    <a:pt x="1016" y="674"/>
                  </a:lnTo>
                  <a:lnTo>
                    <a:pt x="950" y="668"/>
                  </a:lnTo>
                  <a:lnTo>
                    <a:pt x="884" y="662"/>
                  </a:lnTo>
                  <a:lnTo>
                    <a:pt x="819" y="655"/>
                  </a:lnTo>
                  <a:lnTo>
                    <a:pt x="758" y="647"/>
                  </a:lnTo>
                  <a:lnTo>
                    <a:pt x="697" y="638"/>
                  </a:lnTo>
                  <a:lnTo>
                    <a:pt x="639" y="629"/>
                  </a:lnTo>
                  <a:lnTo>
                    <a:pt x="581" y="619"/>
                  </a:lnTo>
                  <a:lnTo>
                    <a:pt x="526" y="609"/>
                  </a:lnTo>
                  <a:lnTo>
                    <a:pt x="474" y="598"/>
                  </a:lnTo>
                  <a:lnTo>
                    <a:pt x="424" y="586"/>
                  </a:lnTo>
                  <a:lnTo>
                    <a:pt x="376" y="574"/>
                  </a:lnTo>
                  <a:lnTo>
                    <a:pt x="330" y="561"/>
                  </a:lnTo>
                  <a:lnTo>
                    <a:pt x="288" y="548"/>
                  </a:lnTo>
                  <a:lnTo>
                    <a:pt x="248" y="534"/>
                  </a:lnTo>
                  <a:lnTo>
                    <a:pt x="210" y="519"/>
                  </a:lnTo>
                  <a:lnTo>
                    <a:pt x="175" y="504"/>
                  </a:lnTo>
                  <a:lnTo>
                    <a:pt x="143" y="489"/>
                  </a:lnTo>
                  <a:lnTo>
                    <a:pt x="114" y="474"/>
                  </a:lnTo>
                  <a:lnTo>
                    <a:pt x="88" y="458"/>
                  </a:lnTo>
                  <a:lnTo>
                    <a:pt x="66" y="442"/>
                  </a:lnTo>
                  <a:lnTo>
                    <a:pt x="46" y="424"/>
                  </a:lnTo>
                  <a:lnTo>
                    <a:pt x="30" y="407"/>
                  </a:lnTo>
                  <a:lnTo>
                    <a:pt x="17" y="390"/>
                  </a:lnTo>
                  <a:lnTo>
                    <a:pt x="8" y="372"/>
                  </a:lnTo>
                  <a:lnTo>
                    <a:pt x="2" y="354"/>
                  </a:lnTo>
                  <a:lnTo>
                    <a:pt x="0" y="336"/>
                  </a:lnTo>
                  <a:lnTo>
                    <a:pt x="2" y="317"/>
                  </a:lnTo>
                  <a:lnTo>
                    <a:pt x="8" y="300"/>
                  </a:lnTo>
                  <a:lnTo>
                    <a:pt x="17" y="282"/>
                  </a:lnTo>
                  <a:lnTo>
                    <a:pt x="30" y="265"/>
                  </a:lnTo>
                  <a:lnTo>
                    <a:pt x="46" y="249"/>
                  </a:lnTo>
                  <a:lnTo>
                    <a:pt x="66" y="233"/>
                  </a:lnTo>
                  <a:lnTo>
                    <a:pt x="88" y="217"/>
                  </a:lnTo>
                  <a:lnTo>
                    <a:pt x="114" y="201"/>
                  </a:lnTo>
                  <a:lnTo>
                    <a:pt x="143" y="186"/>
                  </a:lnTo>
                  <a:lnTo>
                    <a:pt x="175" y="171"/>
                  </a:lnTo>
                  <a:lnTo>
                    <a:pt x="210" y="157"/>
                  </a:lnTo>
                  <a:lnTo>
                    <a:pt x="248" y="144"/>
                  </a:lnTo>
                  <a:lnTo>
                    <a:pt x="288" y="131"/>
                  </a:lnTo>
                  <a:lnTo>
                    <a:pt x="330" y="118"/>
                  </a:lnTo>
                  <a:lnTo>
                    <a:pt x="376" y="107"/>
                  </a:lnTo>
                  <a:lnTo>
                    <a:pt x="424" y="94"/>
                  </a:lnTo>
                  <a:lnTo>
                    <a:pt x="474" y="83"/>
                  </a:lnTo>
                  <a:lnTo>
                    <a:pt x="526" y="73"/>
                  </a:lnTo>
                  <a:lnTo>
                    <a:pt x="581" y="64"/>
                  </a:lnTo>
                  <a:lnTo>
                    <a:pt x="639" y="55"/>
                  </a:lnTo>
                  <a:lnTo>
                    <a:pt x="697" y="46"/>
                  </a:lnTo>
                  <a:lnTo>
                    <a:pt x="758" y="39"/>
                  </a:lnTo>
                  <a:lnTo>
                    <a:pt x="819" y="31"/>
                  </a:lnTo>
                  <a:lnTo>
                    <a:pt x="884" y="25"/>
                  </a:lnTo>
                  <a:lnTo>
                    <a:pt x="950" y="19"/>
                  </a:lnTo>
                  <a:lnTo>
                    <a:pt x="1016" y="14"/>
                  </a:lnTo>
                  <a:lnTo>
                    <a:pt x="1085" y="10"/>
                  </a:lnTo>
                  <a:lnTo>
                    <a:pt x="1156" y="7"/>
                  </a:lnTo>
                  <a:lnTo>
                    <a:pt x="1226" y="4"/>
                  </a:lnTo>
                  <a:lnTo>
                    <a:pt x="1299" y="2"/>
                  </a:lnTo>
                  <a:lnTo>
                    <a:pt x="1372" y="1"/>
                  </a:lnTo>
                  <a:lnTo>
                    <a:pt x="1446" y="0"/>
                  </a:lnTo>
                  <a:lnTo>
                    <a:pt x="1521" y="1"/>
                  </a:lnTo>
                  <a:lnTo>
                    <a:pt x="1594" y="2"/>
                  </a:lnTo>
                  <a:lnTo>
                    <a:pt x="1667" y="4"/>
                  </a:lnTo>
                  <a:lnTo>
                    <a:pt x="1738" y="7"/>
                  </a:lnTo>
                  <a:lnTo>
                    <a:pt x="1808" y="10"/>
                  </a:lnTo>
                  <a:lnTo>
                    <a:pt x="1877" y="14"/>
                  </a:lnTo>
                  <a:lnTo>
                    <a:pt x="1943" y="19"/>
                  </a:lnTo>
                  <a:lnTo>
                    <a:pt x="2009" y="25"/>
                  </a:lnTo>
                  <a:lnTo>
                    <a:pt x="2074" y="31"/>
                  </a:lnTo>
                  <a:lnTo>
                    <a:pt x="2136" y="39"/>
                  </a:lnTo>
                  <a:lnTo>
                    <a:pt x="2197" y="46"/>
                  </a:lnTo>
                  <a:lnTo>
                    <a:pt x="2255" y="55"/>
                  </a:lnTo>
                  <a:lnTo>
                    <a:pt x="2312" y="64"/>
                  </a:lnTo>
                  <a:lnTo>
                    <a:pt x="2367" y="73"/>
                  </a:lnTo>
                  <a:lnTo>
                    <a:pt x="2419" y="83"/>
                  </a:lnTo>
                  <a:lnTo>
                    <a:pt x="2470" y="94"/>
                  </a:lnTo>
                  <a:lnTo>
                    <a:pt x="2517" y="107"/>
                  </a:lnTo>
                  <a:lnTo>
                    <a:pt x="2562" y="118"/>
                  </a:lnTo>
                  <a:lnTo>
                    <a:pt x="2605" y="131"/>
                  </a:lnTo>
                  <a:lnTo>
                    <a:pt x="2645" y="144"/>
                  </a:lnTo>
                  <a:lnTo>
                    <a:pt x="2684" y="157"/>
                  </a:lnTo>
                  <a:lnTo>
                    <a:pt x="2718" y="171"/>
                  </a:lnTo>
                  <a:lnTo>
                    <a:pt x="2750" y="186"/>
                  </a:lnTo>
                  <a:lnTo>
                    <a:pt x="2779" y="201"/>
                  </a:lnTo>
                  <a:lnTo>
                    <a:pt x="2805" y="217"/>
                  </a:lnTo>
                  <a:lnTo>
                    <a:pt x="2828" y="233"/>
                  </a:lnTo>
                  <a:lnTo>
                    <a:pt x="2847" y="249"/>
                  </a:lnTo>
                  <a:lnTo>
                    <a:pt x="2863" y="265"/>
                  </a:lnTo>
                  <a:lnTo>
                    <a:pt x="2876" y="282"/>
                  </a:lnTo>
                  <a:lnTo>
                    <a:pt x="2886" y="300"/>
                  </a:lnTo>
                  <a:lnTo>
                    <a:pt x="2891" y="317"/>
                  </a:lnTo>
                  <a:lnTo>
                    <a:pt x="2893" y="336"/>
                  </a:lnTo>
                  <a:close/>
                </a:path>
              </a:pathLst>
            </a:custGeom>
            <a:solidFill>
              <a:srgbClr val="fb52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89360" y="6518160"/>
              <a:ext cx="317520" cy="81360"/>
            </a:xfrm>
            <a:custGeom>
              <a:avLst/>
              <a:gdLst/>
              <a:ahLst/>
              <a:rect l="l" t="t" r="r" b="b"/>
              <a:pathLst>
                <a:path w="2889" h="688">
                  <a:moveTo>
                    <a:pt x="2889" y="335"/>
                  </a:moveTo>
                  <a:lnTo>
                    <a:pt x="2888" y="353"/>
                  </a:lnTo>
                  <a:lnTo>
                    <a:pt x="2882" y="371"/>
                  </a:lnTo>
                  <a:lnTo>
                    <a:pt x="2873" y="389"/>
                  </a:lnTo>
                  <a:lnTo>
                    <a:pt x="2859" y="406"/>
                  </a:lnTo>
                  <a:lnTo>
                    <a:pt x="2843" y="423"/>
                  </a:lnTo>
                  <a:lnTo>
                    <a:pt x="2824" y="440"/>
                  </a:lnTo>
                  <a:lnTo>
                    <a:pt x="2802" y="457"/>
                  </a:lnTo>
                  <a:lnTo>
                    <a:pt x="2776" y="472"/>
                  </a:lnTo>
                  <a:lnTo>
                    <a:pt x="2746" y="488"/>
                  </a:lnTo>
                  <a:lnTo>
                    <a:pt x="2715" y="503"/>
                  </a:lnTo>
                  <a:lnTo>
                    <a:pt x="2680" y="518"/>
                  </a:lnTo>
                  <a:lnTo>
                    <a:pt x="2642" y="533"/>
                  </a:lnTo>
                  <a:lnTo>
                    <a:pt x="2602" y="546"/>
                  </a:lnTo>
                  <a:lnTo>
                    <a:pt x="2559" y="560"/>
                  </a:lnTo>
                  <a:lnTo>
                    <a:pt x="2514" y="572"/>
                  </a:lnTo>
                  <a:lnTo>
                    <a:pt x="2467" y="584"/>
                  </a:lnTo>
                  <a:lnTo>
                    <a:pt x="2416" y="596"/>
                  </a:lnTo>
                  <a:lnTo>
                    <a:pt x="2364" y="607"/>
                  </a:lnTo>
                  <a:lnTo>
                    <a:pt x="2309" y="617"/>
                  </a:lnTo>
                  <a:lnTo>
                    <a:pt x="2252" y="627"/>
                  </a:lnTo>
                  <a:lnTo>
                    <a:pt x="2194" y="636"/>
                  </a:lnTo>
                  <a:lnTo>
                    <a:pt x="2133" y="646"/>
                  </a:lnTo>
                  <a:lnTo>
                    <a:pt x="2071" y="653"/>
                  </a:lnTo>
                  <a:lnTo>
                    <a:pt x="2007" y="660"/>
                  </a:lnTo>
                  <a:lnTo>
                    <a:pt x="1941" y="667"/>
                  </a:lnTo>
                  <a:lnTo>
                    <a:pt x="1874" y="672"/>
                  </a:lnTo>
                  <a:lnTo>
                    <a:pt x="1806" y="677"/>
                  </a:lnTo>
                  <a:lnTo>
                    <a:pt x="1735" y="681"/>
                  </a:lnTo>
                  <a:lnTo>
                    <a:pt x="1665" y="684"/>
                  </a:lnTo>
                  <a:lnTo>
                    <a:pt x="1592" y="686"/>
                  </a:lnTo>
                  <a:lnTo>
                    <a:pt x="1519" y="687"/>
                  </a:lnTo>
                  <a:lnTo>
                    <a:pt x="1444" y="688"/>
                  </a:lnTo>
                  <a:lnTo>
                    <a:pt x="1370" y="687"/>
                  </a:lnTo>
                  <a:lnTo>
                    <a:pt x="1297" y="686"/>
                  </a:lnTo>
                  <a:lnTo>
                    <a:pt x="1224" y="684"/>
                  </a:lnTo>
                  <a:lnTo>
                    <a:pt x="1154" y="681"/>
                  </a:lnTo>
                  <a:lnTo>
                    <a:pt x="1084" y="677"/>
                  </a:lnTo>
                  <a:lnTo>
                    <a:pt x="1015" y="672"/>
                  </a:lnTo>
                  <a:lnTo>
                    <a:pt x="948" y="667"/>
                  </a:lnTo>
                  <a:lnTo>
                    <a:pt x="882" y="660"/>
                  </a:lnTo>
                  <a:lnTo>
                    <a:pt x="818" y="653"/>
                  </a:lnTo>
                  <a:lnTo>
                    <a:pt x="756" y="646"/>
                  </a:lnTo>
                  <a:lnTo>
                    <a:pt x="695" y="636"/>
                  </a:lnTo>
                  <a:lnTo>
                    <a:pt x="637" y="627"/>
                  </a:lnTo>
                  <a:lnTo>
                    <a:pt x="580" y="617"/>
                  </a:lnTo>
                  <a:lnTo>
                    <a:pt x="525" y="607"/>
                  </a:lnTo>
                  <a:lnTo>
                    <a:pt x="473" y="596"/>
                  </a:lnTo>
                  <a:lnTo>
                    <a:pt x="423" y="584"/>
                  </a:lnTo>
                  <a:lnTo>
                    <a:pt x="375" y="572"/>
                  </a:lnTo>
                  <a:lnTo>
                    <a:pt x="329" y="560"/>
                  </a:lnTo>
                  <a:lnTo>
                    <a:pt x="287" y="546"/>
                  </a:lnTo>
                  <a:lnTo>
                    <a:pt x="247" y="533"/>
                  </a:lnTo>
                  <a:lnTo>
                    <a:pt x="209" y="518"/>
                  </a:lnTo>
                  <a:lnTo>
                    <a:pt x="174" y="503"/>
                  </a:lnTo>
                  <a:lnTo>
                    <a:pt x="143" y="488"/>
                  </a:lnTo>
                  <a:lnTo>
                    <a:pt x="113" y="472"/>
                  </a:lnTo>
                  <a:lnTo>
                    <a:pt x="88" y="457"/>
                  </a:lnTo>
                  <a:lnTo>
                    <a:pt x="65" y="440"/>
                  </a:lnTo>
                  <a:lnTo>
                    <a:pt x="46" y="423"/>
                  </a:lnTo>
                  <a:lnTo>
                    <a:pt x="30" y="406"/>
                  </a:lnTo>
                  <a:lnTo>
                    <a:pt x="16" y="389"/>
                  </a:lnTo>
                  <a:lnTo>
                    <a:pt x="7" y="371"/>
                  </a:lnTo>
                  <a:lnTo>
                    <a:pt x="2" y="353"/>
                  </a:lnTo>
                  <a:lnTo>
                    <a:pt x="0" y="335"/>
                  </a:lnTo>
                  <a:lnTo>
                    <a:pt x="2" y="316"/>
                  </a:lnTo>
                  <a:lnTo>
                    <a:pt x="7" y="299"/>
                  </a:lnTo>
                  <a:lnTo>
                    <a:pt x="16" y="282"/>
                  </a:lnTo>
                  <a:lnTo>
                    <a:pt x="30" y="265"/>
                  </a:lnTo>
                  <a:lnTo>
                    <a:pt x="46" y="248"/>
                  </a:lnTo>
                  <a:lnTo>
                    <a:pt x="65" y="232"/>
                  </a:lnTo>
                  <a:lnTo>
                    <a:pt x="88" y="216"/>
                  </a:lnTo>
                  <a:lnTo>
                    <a:pt x="113" y="200"/>
                  </a:lnTo>
                  <a:lnTo>
                    <a:pt x="143" y="185"/>
                  </a:lnTo>
                  <a:lnTo>
                    <a:pt x="174" y="171"/>
                  </a:lnTo>
                  <a:lnTo>
                    <a:pt x="209" y="157"/>
                  </a:lnTo>
                  <a:lnTo>
                    <a:pt x="247" y="143"/>
                  </a:lnTo>
                  <a:lnTo>
                    <a:pt x="287" y="130"/>
                  </a:lnTo>
                  <a:lnTo>
                    <a:pt x="329" y="118"/>
                  </a:lnTo>
                  <a:lnTo>
                    <a:pt x="375" y="106"/>
                  </a:lnTo>
                  <a:lnTo>
                    <a:pt x="423" y="94"/>
                  </a:lnTo>
                  <a:lnTo>
                    <a:pt x="473" y="83"/>
                  </a:lnTo>
                  <a:lnTo>
                    <a:pt x="525" y="73"/>
                  </a:lnTo>
                  <a:lnTo>
                    <a:pt x="580" y="63"/>
                  </a:lnTo>
                  <a:lnTo>
                    <a:pt x="637" y="54"/>
                  </a:lnTo>
                  <a:lnTo>
                    <a:pt x="695" y="46"/>
                  </a:lnTo>
                  <a:lnTo>
                    <a:pt x="756" y="38"/>
                  </a:lnTo>
                  <a:lnTo>
                    <a:pt x="818" y="31"/>
                  </a:lnTo>
                  <a:lnTo>
                    <a:pt x="882" y="25"/>
                  </a:lnTo>
                  <a:lnTo>
                    <a:pt x="948" y="19"/>
                  </a:lnTo>
                  <a:lnTo>
                    <a:pt x="1015" y="14"/>
                  </a:lnTo>
                  <a:lnTo>
                    <a:pt x="1084" y="10"/>
                  </a:lnTo>
                  <a:lnTo>
                    <a:pt x="1154" y="7"/>
                  </a:lnTo>
                  <a:lnTo>
                    <a:pt x="1224" y="4"/>
                  </a:lnTo>
                  <a:lnTo>
                    <a:pt x="1297" y="2"/>
                  </a:lnTo>
                  <a:lnTo>
                    <a:pt x="1370" y="1"/>
                  </a:lnTo>
                  <a:lnTo>
                    <a:pt x="1444" y="0"/>
                  </a:lnTo>
                  <a:lnTo>
                    <a:pt x="1519" y="1"/>
                  </a:lnTo>
                  <a:lnTo>
                    <a:pt x="1592" y="2"/>
                  </a:lnTo>
                  <a:lnTo>
                    <a:pt x="1665" y="4"/>
                  </a:lnTo>
                  <a:lnTo>
                    <a:pt x="1735" y="7"/>
                  </a:lnTo>
                  <a:lnTo>
                    <a:pt x="1806" y="10"/>
                  </a:lnTo>
                  <a:lnTo>
                    <a:pt x="1874" y="14"/>
                  </a:lnTo>
                  <a:lnTo>
                    <a:pt x="1941" y="19"/>
                  </a:lnTo>
                  <a:lnTo>
                    <a:pt x="2007" y="25"/>
                  </a:lnTo>
                  <a:lnTo>
                    <a:pt x="2071" y="31"/>
                  </a:lnTo>
                  <a:lnTo>
                    <a:pt x="2133" y="38"/>
                  </a:lnTo>
                  <a:lnTo>
                    <a:pt x="2194" y="46"/>
                  </a:lnTo>
                  <a:lnTo>
                    <a:pt x="2252" y="54"/>
                  </a:lnTo>
                  <a:lnTo>
                    <a:pt x="2309" y="63"/>
                  </a:lnTo>
                  <a:lnTo>
                    <a:pt x="2364" y="73"/>
                  </a:lnTo>
                  <a:lnTo>
                    <a:pt x="2416" y="83"/>
                  </a:lnTo>
                  <a:lnTo>
                    <a:pt x="2467" y="94"/>
                  </a:lnTo>
                  <a:lnTo>
                    <a:pt x="2514" y="106"/>
                  </a:lnTo>
                  <a:lnTo>
                    <a:pt x="2559" y="118"/>
                  </a:lnTo>
                  <a:lnTo>
                    <a:pt x="2602" y="130"/>
                  </a:lnTo>
                  <a:lnTo>
                    <a:pt x="2642" y="143"/>
                  </a:lnTo>
                  <a:lnTo>
                    <a:pt x="2680" y="157"/>
                  </a:lnTo>
                  <a:lnTo>
                    <a:pt x="2715" y="171"/>
                  </a:lnTo>
                  <a:lnTo>
                    <a:pt x="2746" y="185"/>
                  </a:lnTo>
                  <a:lnTo>
                    <a:pt x="2776" y="200"/>
                  </a:lnTo>
                  <a:lnTo>
                    <a:pt x="2802" y="216"/>
                  </a:lnTo>
                  <a:lnTo>
                    <a:pt x="2824" y="232"/>
                  </a:lnTo>
                  <a:lnTo>
                    <a:pt x="2843" y="248"/>
                  </a:lnTo>
                  <a:lnTo>
                    <a:pt x="2859" y="265"/>
                  </a:lnTo>
                  <a:lnTo>
                    <a:pt x="2873" y="282"/>
                  </a:lnTo>
                  <a:lnTo>
                    <a:pt x="2882" y="299"/>
                  </a:lnTo>
                  <a:lnTo>
                    <a:pt x="2888" y="316"/>
                  </a:lnTo>
                  <a:lnTo>
                    <a:pt x="2889" y="335"/>
                  </a:lnTo>
                  <a:close/>
                </a:path>
              </a:pathLst>
            </a:custGeom>
            <a:solidFill>
              <a:srgbClr val="fb50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89360" y="6518160"/>
              <a:ext cx="317520" cy="81360"/>
            </a:xfrm>
            <a:custGeom>
              <a:avLst/>
              <a:gdLst/>
              <a:ahLst/>
              <a:rect l="l" t="t" r="r" b="b"/>
              <a:pathLst>
                <a:path w="2887" h="686">
                  <a:moveTo>
                    <a:pt x="2887" y="334"/>
                  </a:moveTo>
                  <a:lnTo>
                    <a:pt x="2885" y="352"/>
                  </a:lnTo>
                  <a:lnTo>
                    <a:pt x="2880" y="370"/>
                  </a:lnTo>
                  <a:lnTo>
                    <a:pt x="2871" y="387"/>
                  </a:lnTo>
                  <a:lnTo>
                    <a:pt x="2857" y="405"/>
                  </a:lnTo>
                  <a:lnTo>
                    <a:pt x="2841" y="421"/>
                  </a:lnTo>
                  <a:lnTo>
                    <a:pt x="2822" y="439"/>
                  </a:lnTo>
                  <a:lnTo>
                    <a:pt x="2799" y="455"/>
                  </a:lnTo>
                  <a:lnTo>
                    <a:pt x="2774" y="471"/>
                  </a:lnTo>
                  <a:lnTo>
                    <a:pt x="2744" y="486"/>
                  </a:lnTo>
                  <a:lnTo>
                    <a:pt x="2713" y="501"/>
                  </a:lnTo>
                  <a:lnTo>
                    <a:pt x="2678" y="516"/>
                  </a:lnTo>
                  <a:lnTo>
                    <a:pt x="2640" y="530"/>
                  </a:lnTo>
                  <a:lnTo>
                    <a:pt x="2600" y="545"/>
                  </a:lnTo>
                  <a:lnTo>
                    <a:pt x="2557" y="558"/>
                  </a:lnTo>
                  <a:lnTo>
                    <a:pt x="2512" y="571"/>
                  </a:lnTo>
                  <a:lnTo>
                    <a:pt x="2465" y="583"/>
                  </a:lnTo>
                  <a:lnTo>
                    <a:pt x="2414" y="594"/>
                  </a:lnTo>
                  <a:lnTo>
                    <a:pt x="2361" y="605"/>
                  </a:lnTo>
                  <a:lnTo>
                    <a:pt x="2307" y="616"/>
                  </a:lnTo>
                  <a:lnTo>
                    <a:pt x="2250" y="625"/>
                  </a:lnTo>
                  <a:lnTo>
                    <a:pt x="2192" y="634"/>
                  </a:lnTo>
                  <a:lnTo>
                    <a:pt x="2131" y="644"/>
                  </a:lnTo>
                  <a:lnTo>
                    <a:pt x="2070" y="652"/>
                  </a:lnTo>
                  <a:lnTo>
                    <a:pt x="2005" y="658"/>
                  </a:lnTo>
                  <a:lnTo>
                    <a:pt x="1939" y="665"/>
                  </a:lnTo>
                  <a:lnTo>
                    <a:pt x="1873" y="670"/>
                  </a:lnTo>
                  <a:lnTo>
                    <a:pt x="1804" y="675"/>
                  </a:lnTo>
                  <a:lnTo>
                    <a:pt x="1734" y="679"/>
                  </a:lnTo>
                  <a:lnTo>
                    <a:pt x="1664" y="682"/>
                  </a:lnTo>
                  <a:lnTo>
                    <a:pt x="1591" y="684"/>
                  </a:lnTo>
                  <a:lnTo>
                    <a:pt x="1518" y="685"/>
                  </a:lnTo>
                  <a:lnTo>
                    <a:pt x="1443" y="686"/>
                  </a:lnTo>
                  <a:lnTo>
                    <a:pt x="1370" y="685"/>
                  </a:lnTo>
                  <a:lnTo>
                    <a:pt x="1296" y="684"/>
                  </a:lnTo>
                  <a:lnTo>
                    <a:pt x="1223" y="682"/>
                  </a:lnTo>
                  <a:lnTo>
                    <a:pt x="1153" y="679"/>
                  </a:lnTo>
                  <a:lnTo>
                    <a:pt x="1083" y="675"/>
                  </a:lnTo>
                  <a:lnTo>
                    <a:pt x="1014" y="670"/>
                  </a:lnTo>
                  <a:lnTo>
                    <a:pt x="948" y="665"/>
                  </a:lnTo>
                  <a:lnTo>
                    <a:pt x="882" y="658"/>
                  </a:lnTo>
                  <a:lnTo>
                    <a:pt x="818" y="652"/>
                  </a:lnTo>
                  <a:lnTo>
                    <a:pt x="756" y="644"/>
                  </a:lnTo>
                  <a:lnTo>
                    <a:pt x="695" y="634"/>
                  </a:lnTo>
                  <a:lnTo>
                    <a:pt x="637" y="625"/>
                  </a:lnTo>
                  <a:lnTo>
                    <a:pt x="580" y="616"/>
                  </a:lnTo>
                  <a:lnTo>
                    <a:pt x="525" y="605"/>
                  </a:lnTo>
                  <a:lnTo>
                    <a:pt x="473" y="594"/>
                  </a:lnTo>
                  <a:lnTo>
                    <a:pt x="423" y="583"/>
                  </a:lnTo>
                  <a:lnTo>
                    <a:pt x="375" y="571"/>
                  </a:lnTo>
                  <a:lnTo>
                    <a:pt x="329" y="558"/>
                  </a:lnTo>
                  <a:lnTo>
                    <a:pt x="287" y="545"/>
                  </a:lnTo>
                  <a:lnTo>
                    <a:pt x="247" y="530"/>
                  </a:lnTo>
                  <a:lnTo>
                    <a:pt x="209" y="516"/>
                  </a:lnTo>
                  <a:lnTo>
                    <a:pt x="175" y="501"/>
                  </a:lnTo>
                  <a:lnTo>
                    <a:pt x="143" y="486"/>
                  </a:lnTo>
                  <a:lnTo>
                    <a:pt x="113" y="471"/>
                  </a:lnTo>
                  <a:lnTo>
                    <a:pt x="88" y="455"/>
                  </a:lnTo>
                  <a:lnTo>
                    <a:pt x="65" y="439"/>
                  </a:lnTo>
                  <a:lnTo>
                    <a:pt x="46" y="421"/>
                  </a:lnTo>
                  <a:lnTo>
                    <a:pt x="30" y="405"/>
                  </a:lnTo>
                  <a:lnTo>
                    <a:pt x="17" y="387"/>
                  </a:lnTo>
                  <a:lnTo>
                    <a:pt x="7" y="370"/>
                  </a:lnTo>
                  <a:lnTo>
                    <a:pt x="2" y="352"/>
                  </a:lnTo>
                  <a:lnTo>
                    <a:pt x="0" y="334"/>
                  </a:lnTo>
                  <a:lnTo>
                    <a:pt x="2" y="315"/>
                  </a:lnTo>
                  <a:lnTo>
                    <a:pt x="7" y="298"/>
                  </a:lnTo>
                  <a:lnTo>
                    <a:pt x="17" y="281"/>
                  </a:lnTo>
                  <a:lnTo>
                    <a:pt x="30" y="264"/>
                  </a:lnTo>
                  <a:lnTo>
                    <a:pt x="46" y="247"/>
                  </a:lnTo>
                  <a:lnTo>
                    <a:pt x="65" y="231"/>
                  </a:lnTo>
                  <a:lnTo>
                    <a:pt x="88" y="216"/>
                  </a:lnTo>
                  <a:lnTo>
                    <a:pt x="113" y="199"/>
                  </a:lnTo>
                  <a:lnTo>
                    <a:pt x="143" y="185"/>
                  </a:lnTo>
                  <a:lnTo>
                    <a:pt x="175" y="170"/>
                  </a:lnTo>
                  <a:lnTo>
                    <a:pt x="209" y="156"/>
                  </a:lnTo>
                  <a:lnTo>
                    <a:pt x="247" y="143"/>
                  </a:lnTo>
                  <a:lnTo>
                    <a:pt x="287" y="130"/>
                  </a:lnTo>
                  <a:lnTo>
                    <a:pt x="329" y="118"/>
                  </a:lnTo>
                  <a:lnTo>
                    <a:pt x="375" y="106"/>
                  </a:lnTo>
                  <a:lnTo>
                    <a:pt x="423" y="94"/>
                  </a:lnTo>
                  <a:lnTo>
                    <a:pt x="473" y="83"/>
                  </a:lnTo>
                  <a:lnTo>
                    <a:pt x="525" y="73"/>
                  </a:lnTo>
                  <a:lnTo>
                    <a:pt x="580" y="63"/>
                  </a:lnTo>
                  <a:lnTo>
                    <a:pt x="637" y="54"/>
                  </a:lnTo>
                  <a:lnTo>
                    <a:pt x="695" y="46"/>
                  </a:lnTo>
                  <a:lnTo>
                    <a:pt x="756" y="38"/>
                  </a:lnTo>
                  <a:lnTo>
                    <a:pt x="818" y="31"/>
                  </a:lnTo>
                  <a:lnTo>
                    <a:pt x="882" y="25"/>
                  </a:lnTo>
                  <a:lnTo>
                    <a:pt x="948" y="19"/>
                  </a:lnTo>
                  <a:lnTo>
                    <a:pt x="1014" y="14"/>
                  </a:lnTo>
                  <a:lnTo>
                    <a:pt x="1083" y="10"/>
                  </a:lnTo>
                  <a:lnTo>
                    <a:pt x="1153" y="6"/>
                  </a:lnTo>
                  <a:lnTo>
                    <a:pt x="1223" y="4"/>
                  </a:lnTo>
                  <a:lnTo>
                    <a:pt x="1296" y="2"/>
                  </a:lnTo>
                  <a:lnTo>
                    <a:pt x="1370" y="1"/>
                  </a:lnTo>
                  <a:lnTo>
                    <a:pt x="1443" y="0"/>
                  </a:lnTo>
                  <a:lnTo>
                    <a:pt x="1518" y="1"/>
                  </a:lnTo>
                  <a:lnTo>
                    <a:pt x="1591" y="2"/>
                  </a:lnTo>
                  <a:lnTo>
                    <a:pt x="1664" y="4"/>
                  </a:lnTo>
                  <a:lnTo>
                    <a:pt x="1734" y="6"/>
                  </a:lnTo>
                  <a:lnTo>
                    <a:pt x="1804" y="10"/>
                  </a:lnTo>
                  <a:lnTo>
                    <a:pt x="1873" y="14"/>
                  </a:lnTo>
                  <a:lnTo>
                    <a:pt x="1939" y="19"/>
                  </a:lnTo>
                  <a:lnTo>
                    <a:pt x="2005" y="25"/>
                  </a:lnTo>
                  <a:lnTo>
                    <a:pt x="2070" y="31"/>
                  </a:lnTo>
                  <a:lnTo>
                    <a:pt x="2131" y="38"/>
                  </a:lnTo>
                  <a:lnTo>
                    <a:pt x="2192" y="46"/>
                  </a:lnTo>
                  <a:lnTo>
                    <a:pt x="2250" y="54"/>
                  </a:lnTo>
                  <a:lnTo>
                    <a:pt x="2307" y="63"/>
                  </a:lnTo>
                  <a:lnTo>
                    <a:pt x="2361" y="73"/>
                  </a:lnTo>
                  <a:lnTo>
                    <a:pt x="2414" y="83"/>
                  </a:lnTo>
                  <a:lnTo>
                    <a:pt x="2465" y="94"/>
                  </a:lnTo>
                  <a:lnTo>
                    <a:pt x="2512" y="106"/>
                  </a:lnTo>
                  <a:lnTo>
                    <a:pt x="2557" y="118"/>
                  </a:lnTo>
                  <a:lnTo>
                    <a:pt x="2600" y="130"/>
                  </a:lnTo>
                  <a:lnTo>
                    <a:pt x="2640" y="143"/>
                  </a:lnTo>
                  <a:lnTo>
                    <a:pt x="2678" y="156"/>
                  </a:lnTo>
                  <a:lnTo>
                    <a:pt x="2713" y="170"/>
                  </a:lnTo>
                  <a:lnTo>
                    <a:pt x="2744" y="185"/>
                  </a:lnTo>
                  <a:lnTo>
                    <a:pt x="2774" y="199"/>
                  </a:lnTo>
                  <a:lnTo>
                    <a:pt x="2799" y="216"/>
                  </a:lnTo>
                  <a:lnTo>
                    <a:pt x="2822" y="231"/>
                  </a:lnTo>
                  <a:lnTo>
                    <a:pt x="2841" y="247"/>
                  </a:lnTo>
                  <a:lnTo>
                    <a:pt x="2857" y="264"/>
                  </a:lnTo>
                  <a:lnTo>
                    <a:pt x="2871" y="281"/>
                  </a:lnTo>
                  <a:lnTo>
                    <a:pt x="2880" y="298"/>
                  </a:lnTo>
                  <a:lnTo>
                    <a:pt x="2885" y="315"/>
                  </a:lnTo>
                  <a:lnTo>
                    <a:pt x="2887" y="334"/>
                  </a:lnTo>
                  <a:close/>
                </a:path>
              </a:pathLst>
            </a:custGeom>
            <a:solidFill>
              <a:srgbClr val="fb50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89360" y="6518160"/>
              <a:ext cx="317520" cy="81360"/>
            </a:xfrm>
            <a:custGeom>
              <a:avLst/>
              <a:gdLst/>
              <a:ahLst/>
              <a:rect l="l" t="t" r="r" b="b"/>
              <a:pathLst>
                <a:path w="2884" h="684">
                  <a:moveTo>
                    <a:pt x="2884" y="333"/>
                  </a:moveTo>
                  <a:lnTo>
                    <a:pt x="2882" y="351"/>
                  </a:lnTo>
                  <a:lnTo>
                    <a:pt x="2876" y="369"/>
                  </a:lnTo>
                  <a:lnTo>
                    <a:pt x="2866" y="386"/>
                  </a:lnTo>
                  <a:lnTo>
                    <a:pt x="2854" y="403"/>
                  </a:lnTo>
                  <a:lnTo>
                    <a:pt x="2838" y="420"/>
                  </a:lnTo>
                  <a:lnTo>
                    <a:pt x="2818" y="438"/>
                  </a:lnTo>
                  <a:lnTo>
                    <a:pt x="2796" y="454"/>
                  </a:lnTo>
                  <a:lnTo>
                    <a:pt x="2770" y="470"/>
                  </a:lnTo>
                  <a:lnTo>
                    <a:pt x="2741" y="485"/>
                  </a:lnTo>
                  <a:lnTo>
                    <a:pt x="2709" y="500"/>
                  </a:lnTo>
                  <a:lnTo>
                    <a:pt x="2675" y="515"/>
                  </a:lnTo>
                  <a:lnTo>
                    <a:pt x="2637" y="529"/>
                  </a:lnTo>
                  <a:lnTo>
                    <a:pt x="2597" y="543"/>
                  </a:lnTo>
                  <a:lnTo>
                    <a:pt x="2554" y="556"/>
                  </a:lnTo>
                  <a:lnTo>
                    <a:pt x="2509" y="569"/>
                  </a:lnTo>
                  <a:lnTo>
                    <a:pt x="2461" y="581"/>
                  </a:lnTo>
                  <a:lnTo>
                    <a:pt x="2411" y="593"/>
                  </a:lnTo>
                  <a:lnTo>
                    <a:pt x="2358" y="604"/>
                  </a:lnTo>
                  <a:lnTo>
                    <a:pt x="2304" y="614"/>
                  </a:lnTo>
                  <a:lnTo>
                    <a:pt x="2247" y="624"/>
                  </a:lnTo>
                  <a:lnTo>
                    <a:pt x="2189" y="633"/>
                  </a:lnTo>
                  <a:lnTo>
                    <a:pt x="2129" y="642"/>
                  </a:lnTo>
                  <a:lnTo>
                    <a:pt x="2067" y="650"/>
                  </a:lnTo>
                  <a:lnTo>
                    <a:pt x="2003" y="657"/>
                  </a:lnTo>
                  <a:lnTo>
                    <a:pt x="1937" y="663"/>
                  </a:lnTo>
                  <a:lnTo>
                    <a:pt x="1871" y="668"/>
                  </a:lnTo>
                  <a:lnTo>
                    <a:pt x="1802" y="673"/>
                  </a:lnTo>
                  <a:lnTo>
                    <a:pt x="1732" y="677"/>
                  </a:lnTo>
                  <a:lnTo>
                    <a:pt x="1661" y="680"/>
                  </a:lnTo>
                  <a:lnTo>
                    <a:pt x="1589" y="682"/>
                  </a:lnTo>
                  <a:lnTo>
                    <a:pt x="1516" y="684"/>
                  </a:lnTo>
                  <a:lnTo>
                    <a:pt x="1441" y="684"/>
                  </a:lnTo>
                  <a:lnTo>
                    <a:pt x="1368" y="684"/>
                  </a:lnTo>
                  <a:lnTo>
                    <a:pt x="1294" y="682"/>
                  </a:lnTo>
                  <a:lnTo>
                    <a:pt x="1222" y="680"/>
                  </a:lnTo>
                  <a:lnTo>
                    <a:pt x="1151" y="677"/>
                  </a:lnTo>
                  <a:lnTo>
                    <a:pt x="1081" y="673"/>
                  </a:lnTo>
                  <a:lnTo>
                    <a:pt x="1013" y="668"/>
                  </a:lnTo>
                  <a:lnTo>
                    <a:pt x="946" y="663"/>
                  </a:lnTo>
                  <a:lnTo>
                    <a:pt x="880" y="657"/>
                  </a:lnTo>
                  <a:lnTo>
                    <a:pt x="816" y="650"/>
                  </a:lnTo>
                  <a:lnTo>
                    <a:pt x="755" y="642"/>
                  </a:lnTo>
                  <a:lnTo>
                    <a:pt x="694" y="633"/>
                  </a:lnTo>
                  <a:lnTo>
                    <a:pt x="636" y="624"/>
                  </a:lnTo>
                  <a:lnTo>
                    <a:pt x="579" y="614"/>
                  </a:lnTo>
                  <a:lnTo>
                    <a:pt x="524" y="604"/>
                  </a:lnTo>
                  <a:lnTo>
                    <a:pt x="472" y="593"/>
                  </a:lnTo>
                  <a:lnTo>
                    <a:pt x="422" y="581"/>
                  </a:lnTo>
                  <a:lnTo>
                    <a:pt x="374" y="569"/>
                  </a:lnTo>
                  <a:lnTo>
                    <a:pt x="330" y="556"/>
                  </a:lnTo>
                  <a:lnTo>
                    <a:pt x="286" y="543"/>
                  </a:lnTo>
                  <a:lnTo>
                    <a:pt x="246" y="529"/>
                  </a:lnTo>
                  <a:lnTo>
                    <a:pt x="208" y="515"/>
                  </a:lnTo>
                  <a:lnTo>
                    <a:pt x="174" y="500"/>
                  </a:lnTo>
                  <a:lnTo>
                    <a:pt x="142" y="485"/>
                  </a:lnTo>
                  <a:lnTo>
                    <a:pt x="113" y="470"/>
                  </a:lnTo>
                  <a:lnTo>
                    <a:pt x="87" y="454"/>
                  </a:lnTo>
                  <a:lnTo>
                    <a:pt x="65" y="438"/>
                  </a:lnTo>
                  <a:lnTo>
                    <a:pt x="45" y="420"/>
                  </a:lnTo>
                  <a:lnTo>
                    <a:pt x="30" y="403"/>
                  </a:lnTo>
                  <a:lnTo>
                    <a:pt x="16" y="386"/>
                  </a:lnTo>
                  <a:lnTo>
                    <a:pt x="7" y="369"/>
                  </a:lnTo>
                  <a:lnTo>
                    <a:pt x="1" y="351"/>
                  </a:lnTo>
                  <a:lnTo>
                    <a:pt x="0" y="333"/>
                  </a:lnTo>
                  <a:lnTo>
                    <a:pt x="1" y="314"/>
                  </a:lnTo>
                  <a:lnTo>
                    <a:pt x="7" y="297"/>
                  </a:lnTo>
                  <a:lnTo>
                    <a:pt x="16" y="280"/>
                  </a:lnTo>
                  <a:lnTo>
                    <a:pt x="30" y="263"/>
                  </a:lnTo>
                  <a:lnTo>
                    <a:pt x="45" y="247"/>
                  </a:lnTo>
                  <a:lnTo>
                    <a:pt x="65" y="231"/>
                  </a:lnTo>
                  <a:lnTo>
                    <a:pt x="87" y="215"/>
                  </a:lnTo>
                  <a:lnTo>
                    <a:pt x="113" y="199"/>
                  </a:lnTo>
                  <a:lnTo>
                    <a:pt x="142" y="184"/>
                  </a:lnTo>
                  <a:lnTo>
                    <a:pt x="174" y="170"/>
                  </a:lnTo>
                  <a:lnTo>
                    <a:pt x="208" y="156"/>
                  </a:lnTo>
                  <a:lnTo>
                    <a:pt x="246" y="142"/>
                  </a:lnTo>
                  <a:lnTo>
                    <a:pt x="286" y="130"/>
                  </a:lnTo>
                  <a:lnTo>
                    <a:pt x="330" y="117"/>
                  </a:lnTo>
                  <a:lnTo>
                    <a:pt x="374" y="105"/>
                  </a:lnTo>
                  <a:lnTo>
                    <a:pt x="422" y="93"/>
                  </a:lnTo>
                  <a:lnTo>
                    <a:pt x="472" y="83"/>
                  </a:lnTo>
                  <a:lnTo>
                    <a:pt x="524" y="72"/>
                  </a:lnTo>
                  <a:lnTo>
                    <a:pt x="579" y="63"/>
                  </a:lnTo>
                  <a:lnTo>
                    <a:pt x="636" y="54"/>
                  </a:lnTo>
                  <a:lnTo>
                    <a:pt x="694" y="46"/>
                  </a:lnTo>
                  <a:lnTo>
                    <a:pt x="755" y="38"/>
                  </a:lnTo>
                  <a:lnTo>
                    <a:pt x="816" y="31"/>
                  </a:lnTo>
                  <a:lnTo>
                    <a:pt x="880" y="25"/>
                  </a:lnTo>
                  <a:lnTo>
                    <a:pt x="946" y="19"/>
                  </a:lnTo>
                  <a:lnTo>
                    <a:pt x="1013" y="14"/>
                  </a:lnTo>
                  <a:lnTo>
                    <a:pt x="1081" y="10"/>
                  </a:lnTo>
                  <a:lnTo>
                    <a:pt x="1151" y="6"/>
                  </a:lnTo>
                  <a:lnTo>
                    <a:pt x="1222" y="4"/>
                  </a:lnTo>
                  <a:lnTo>
                    <a:pt x="1294" y="2"/>
                  </a:lnTo>
                  <a:lnTo>
                    <a:pt x="1368" y="0"/>
                  </a:lnTo>
                  <a:lnTo>
                    <a:pt x="1441" y="0"/>
                  </a:lnTo>
                  <a:lnTo>
                    <a:pt x="1516" y="0"/>
                  </a:lnTo>
                  <a:lnTo>
                    <a:pt x="1589" y="2"/>
                  </a:lnTo>
                  <a:lnTo>
                    <a:pt x="1661" y="4"/>
                  </a:lnTo>
                  <a:lnTo>
                    <a:pt x="1732" y="6"/>
                  </a:lnTo>
                  <a:lnTo>
                    <a:pt x="1802" y="10"/>
                  </a:lnTo>
                  <a:lnTo>
                    <a:pt x="1871" y="14"/>
                  </a:lnTo>
                  <a:lnTo>
                    <a:pt x="1937" y="19"/>
                  </a:lnTo>
                  <a:lnTo>
                    <a:pt x="2003" y="25"/>
                  </a:lnTo>
                  <a:lnTo>
                    <a:pt x="2067" y="31"/>
                  </a:lnTo>
                  <a:lnTo>
                    <a:pt x="2129" y="38"/>
                  </a:lnTo>
                  <a:lnTo>
                    <a:pt x="2189" y="46"/>
                  </a:lnTo>
                  <a:lnTo>
                    <a:pt x="2247" y="54"/>
                  </a:lnTo>
                  <a:lnTo>
                    <a:pt x="2304" y="63"/>
                  </a:lnTo>
                  <a:lnTo>
                    <a:pt x="2358" y="72"/>
                  </a:lnTo>
                  <a:lnTo>
                    <a:pt x="2411" y="83"/>
                  </a:lnTo>
                  <a:lnTo>
                    <a:pt x="2461" y="93"/>
                  </a:lnTo>
                  <a:lnTo>
                    <a:pt x="2509" y="105"/>
                  </a:lnTo>
                  <a:lnTo>
                    <a:pt x="2554" y="117"/>
                  </a:lnTo>
                  <a:lnTo>
                    <a:pt x="2597" y="130"/>
                  </a:lnTo>
                  <a:lnTo>
                    <a:pt x="2637" y="142"/>
                  </a:lnTo>
                  <a:lnTo>
                    <a:pt x="2675" y="156"/>
                  </a:lnTo>
                  <a:lnTo>
                    <a:pt x="2709" y="170"/>
                  </a:lnTo>
                  <a:lnTo>
                    <a:pt x="2741" y="184"/>
                  </a:lnTo>
                  <a:lnTo>
                    <a:pt x="2770" y="199"/>
                  </a:lnTo>
                  <a:lnTo>
                    <a:pt x="2796" y="215"/>
                  </a:lnTo>
                  <a:lnTo>
                    <a:pt x="2818" y="231"/>
                  </a:lnTo>
                  <a:lnTo>
                    <a:pt x="2838" y="247"/>
                  </a:lnTo>
                  <a:lnTo>
                    <a:pt x="2854" y="263"/>
                  </a:lnTo>
                  <a:lnTo>
                    <a:pt x="2866" y="280"/>
                  </a:lnTo>
                  <a:lnTo>
                    <a:pt x="2876" y="297"/>
                  </a:lnTo>
                  <a:lnTo>
                    <a:pt x="2882" y="314"/>
                  </a:lnTo>
                  <a:lnTo>
                    <a:pt x="2884" y="333"/>
                  </a:lnTo>
                  <a:close/>
                </a:path>
              </a:pathLst>
            </a:custGeom>
            <a:solidFill>
              <a:srgbClr val="fb50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89360" y="6518160"/>
              <a:ext cx="317520" cy="81360"/>
            </a:xfrm>
            <a:custGeom>
              <a:avLst/>
              <a:gdLst/>
              <a:ahLst/>
              <a:rect l="l" t="t" r="r" b="b"/>
              <a:pathLst>
                <a:path w="2881" h="682">
                  <a:moveTo>
                    <a:pt x="2881" y="332"/>
                  </a:moveTo>
                  <a:lnTo>
                    <a:pt x="2879" y="350"/>
                  </a:lnTo>
                  <a:lnTo>
                    <a:pt x="2874" y="368"/>
                  </a:lnTo>
                  <a:lnTo>
                    <a:pt x="2864" y="385"/>
                  </a:lnTo>
                  <a:lnTo>
                    <a:pt x="2851" y="402"/>
                  </a:lnTo>
                  <a:lnTo>
                    <a:pt x="2835" y="419"/>
                  </a:lnTo>
                  <a:lnTo>
                    <a:pt x="2816" y="436"/>
                  </a:lnTo>
                  <a:lnTo>
                    <a:pt x="2794" y="453"/>
                  </a:lnTo>
                  <a:lnTo>
                    <a:pt x="2768" y="468"/>
                  </a:lnTo>
                  <a:lnTo>
                    <a:pt x="2739" y="484"/>
                  </a:lnTo>
                  <a:lnTo>
                    <a:pt x="2707" y="499"/>
                  </a:lnTo>
                  <a:lnTo>
                    <a:pt x="2673" y="513"/>
                  </a:lnTo>
                  <a:lnTo>
                    <a:pt x="2635" y="527"/>
                  </a:lnTo>
                  <a:lnTo>
                    <a:pt x="2595" y="542"/>
                  </a:lnTo>
                  <a:lnTo>
                    <a:pt x="2552" y="555"/>
                  </a:lnTo>
                  <a:lnTo>
                    <a:pt x="2507" y="567"/>
                  </a:lnTo>
                  <a:lnTo>
                    <a:pt x="2458" y="580"/>
                  </a:lnTo>
                  <a:lnTo>
                    <a:pt x="2409" y="591"/>
                  </a:lnTo>
                  <a:lnTo>
                    <a:pt x="2356" y="602"/>
                  </a:lnTo>
                  <a:lnTo>
                    <a:pt x="2302" y="612"/>
                  </a:lnTo>
                  <a:lnTo>
                    <a:pt x="2245" y="622"/>
                  </a:lnTo>
                  <a:lnTo>
                    <a:pt x="2188" y="631"/>
                  </a:lnTo>
                  <a:lnTo>
                    <a:pt x="2127" y="640"/>
                  </a:lnTo>
                  <a:lnTo>
                    <a:pt x="2065" y="648"/>
                  </a:lnTo>
                  <a:lnTo>
                    <a:pt x="2001" y="655"/>
                  </a:lnTo>
                  <a:lnTo>
                    <a:pt x="1935" y="661"/>
                  </a:lnTo>
                  <a:lnTo>
                    <a:pt x="1869" y="666"/>
                  </a:lnTo>
                  <a:lnTo>
                    <a:pt x="1800" y="671"/>
                  </a:lnTo>
                  <a:lnTo>
                    <a:pt x="1730" y="675"/>
                  </a:lnTo>
                  <a:lnTo>
                    <a:pt x="1660" y="678"/>
                  </a:lnTo>
                  <a:lnTo>
                    <a:pt x="1588" y="680"/>
                  </a:lnTo>
                  <a:lnTo>
                    <a:pt x="1514" y="682"/>
                  </a:lnTo>
                  <a:lnTo>
                    <a:pt x="1440" y="682"/>
                  </a:lnTo>
                  <a:lnTo>
                    <a:pt x="1367" y="682"/>
                  </a:lnTo>
                  <a:lnTo>
                    <a:pt x="1293" y="680"/>
                  </a:lnTo>
                  <a:lnTo>
                    <a:pt x="1221" y="678"/>
                  </a:lnTo>
                  <a:lnTo>
                    <a:pt x="1151" y="675"/>
                  </a:lnTo>
                  <a:lnTo>
                    <a:pt x="1081" y="671"/>
                  </a:lnTo>
                  <a:lnTo>
                    <a:pt x="1012" y="666"/>
                  </a:lnTo>
                  <a:lnTo>
                    <a:pt x="946" y="661"/>
                  </a:lnTo>
                  <a:lnTo>
                    <a:pt x="880" y="655"/>
                  </a:lnTo>
                  <a:lnTo>
                    <a:pt x="816" y="648"/>
                  </a:lnTo>
                  <a:lnTo>
                    <a:pt x="754" y="640"/>
                  </a:lnTo>
                  <a:lnTo>
                    <a:pt x="694" y="631"/>
                  </a:lnTo>
                  <a:lnTo>
                    <a:pt x="636" y="622"/>
                  </a:lnTo>
                  <a:lnTo>
                    <a:pt x="579" y="612"/>
                  </a:lnTo>
                  <a:lnTo>
                    <a:pt x="524" y="602"/>
                  </a:lnTo>
                  <a:lnTo>
                    <a:pt x="472" y="591"/>
                  </a:lnTo>
                  <a:lnTo>
                    <a:pt x="422" y="580"/>
                  </a:lnTo>
                  <a:lnTo>
                    <a:pt x="374" y="567"/>
                  </a:lnTo>
                  <a:lnTo>
                    <a:pt x="330" y="555"/>
                  </a:lnTo>
                  <a:lnTo>
                    <a:pt x="286" y="542"/>
                  </a:lnTo>
                  <a:lnTo>
                    <a:pt x="247" y="527"/>
                  </a:lnTo>
                  <a:lnTo>
                    <a:pt x="208" y="513"/>
                  </a:lnTo>
                  <a:lnTo>
                    <a:pt x="174" y="499"/>
                  </a:lnTo>
                  <a:lnTo>
                    <a:pt x="143" y="484"/>
                  </a:lnTo>
                  <a:lnTo>
                    <a:pt x="113" y="468"/>
                  </a:lnTo>
                  <a:lnTo>
                    <a:pt x="87" y="453"/>
                  </a:lnTo>
                  <a:lnTo>
                    <a:pt x="65" y="436"/>
                  </a:lnTo>
                  <a:lnTo>
                    <a:pt x="46" y="419"/>
                  </a:lnTo>
                  <a:lnTo>
                    <a:pt x="30" y="402"/>
                  </a:lnTo>
                  <a:lnTo>
                    <a:pt x="16" y="385"/>
                  </a:lnTo>
                  <a:lnTo>
                    <a:pt x="7" y="368"/>
                  </a:lnTo>
                  <a:lnTo>
                    <a:pt x="2" y="350"/>
                  </a:lnTo>
                  <a:lnTo>
                    <a:pt x="0" y="332"/>
                  </a:lnTo>
                  <a:lnTo>
                    <a:pt x="2" y="314"/>
                  </a:lnTo>
                  <a:lnTo>
                    <a:pt x="7" y="296"/>
                  </a:lnTo>
                  <a:lnTo>
                    <a:pt x="16" y="279"/>
                  </a:lnTo>
                  <a:lnTo>
                    <a:pt x="30" y="262"/>
                  </a:lnTo>
                  <a:lnTo>
                    <a:pt x="46" y="246"/>
                  </a:lnTo>
                  <a:lnTo>
                    <a:pt x="65" y="230"/>
                  </a:lnTo>
                  <a:lnTo>
                    <a:pt x="87" y="214"/>
                  </a:lnTo>
                  <a:lnTo>
                    <a:pt x="113" y="198"/>
                  </a:lnTo>
                  <a:lnTo>
                    <a:pt x="143" y="183"/>
                  </a:lnTo>
                  <a:lnTo>
                    <a:pt x="174" y="169"/>
                  </a:lnTo>
                  <a:lnTo>
                    <a:pt x="208" y="155"/>
                  </a:lnTo>
                  <a:lnTo>
                    <a:pt x="247" y="142"/>
                  </a:lnTo>
                  <a:lnTo>
                    <a:pt x="286" y="129"/>
                  </a:lnTo>
                  <a:lnTo>
                    <a:pt x="330" y="117"/>
                  </a:lnTo>
                  <a:lnTo>
                    <a:pt x="374" y="105"/>
                  </a:lnTo>
                  <a:lnTo>
                    <a:pt x="422" y="93"/>
                  </a:lnTo>
                  <a:lnTo>
                    <a:pt x="472" y="82"/>
                  </a:lnTo>
                  <a:lnTo>
                    <a:pt x="524" y="72"/>
                  </a:lnTo>
                  <a:lnTo>
                    <a:pt x="579" y="63"/>
                  </a:lnTo>
                  <a:lnTo>
                    <a:pt x="636" y="54"/>
                  </a:lnTo>
                  <a:lnTo>
                    <a:pt x="694" y="45"/>
                  </a:lnTo>
                  <a:lnTo>
                    <a:pt x="754" y="38"/>
                  </a:lnTo>
                  <a:lnTo>
                    <a:pt x="816" y="31"/>
                  </a:lnTo>
                  <a:lnTo>
                    <a:pt x="880" y="25"/>
                  </a:lnTo>
                  <a:lnTo>
                    <a:pt x="946" y="19"/>
                  </a:lnTo>
                  <a:lnTo>
                    <a:pt x="1012" y="14"/>
                  </a:lnTo>
                  <a:lnTo>
                    <a:pt x="1081" y="10"/>
                  </a:lnTo>
                  <a:lnTo>
                    <a:pt x="1151" y="6"/>
                  </a:lnTo>
                  <a:lnTo>
                    <a:pt x="1221" y="4"/>
                  </a:lnTo>
                  <a:lnTo>
                    <a:pt x="1293" y="2"/>
                  </a:lnTo>
                  <a:lnTo>
                    <a:pt x="1367" y="0"/>
                  </a:lnTo>
                  <a:lnTo>
                    <a:pt x="1440" y="0"/>
                  </a:lnTo>
                  <a:lnTo>
                    <a:pt x="1514" y="0"/>
                  </a:lnTo>
                  <a:lnTo>
                    <a:pt x="1588" y="2"/>
                  </a:lnTo>
                  <a:lnTo>
                    <a:pt x="1660" y="4"/>
                  </a:lnTo>
                  <a:lnTo>
                    <a:pt x="1730" y="6"/>
                  </a:lnTo>
                  <a:lnTo>
                    <a:pt x="1800" y="10"/>
                  </a:lnTo>
                  <a:lnTo>
                    <a:pt x="1869" y="14"/>
                  </a:lnTo>
                  <a:lnTo>
                    <a:pt x="1935" y="19"/>
                  </a:lnTo>
                  <a:lnTo>
                    <a:pt x="2001" y="25"/>
                  </a:lnTo>
                  <a:lnTo>
                    <a:pt x="2065" y="31"/>
                  </a:lnTo>
                  <a:lnTo>
                    <a:pt x="2127" y="38"/>
                  </a:lnTo>
                  <a:lnTo>
                    <a:pt x="2188" y="45"/>
                  </a:lnTo>
                  <a:lnTo>
                    <a:pt x="2245" y="54"/>
                  </a:lnTo>
                  <a:lnTo>
                    <a:pt x="2302" y="63"/>
                  </a:lnTo>
                  <a:lnTo>
                    <a:pt x="2356" y="72"/>
                  </a:lnTo>
                  <a:lnTo>
                    <a:pt x="2409" y="82"/>
                  </a:lnTo>
                  <a:lnTo>
                    <a:pt x="2458" y="93"/>
                  </a:lnTo>
                  <a:lnTo>
                    <a:pt x="2507" y="105"/>
                  </a:lnTo>
                  <a:lnTo>
                    <a:pt x="2552" y="117"/>
                  </a:lnTo>
                  <a:lnTo>
                    <a:pt x="2595" y="129"/>
                  </a:lnTo>
                  <a:lnTo>
                    <a:pt x="2635" y="142"/>
                  </a:lnTo>
                  <a:lnTo>
                    <a:pt x="2673" y="155"/>
                  </a:lnTo>
                  <a:lnTo>
                    <a:pt x="2707" y="169"/>
                  </a:lnTo>
                  <a:lnTo>
                    <a:pt x="2739" y="183"/>
                  </a:lnTo>
                  <a:lnTo>
                    <a:pt x="2768" y="198"/>
                  </a:lnTo>
                  <a:lnTo>
                    <a:pt x="2794" y="214"/>
                  </a:lnTo>
                  <a:lnTo>
                    <a:pt x="2816" y="230"/>
                  </a:lnTo>
                  <a:lnTo>
                    <a:pt x="2835" y="246"/>
                  </a:lnTo>
                  <a:lnTo>
                    <a:pt x="2851" y="262"/>
                  </a:lnTo>
                  <a:lnTo>
                    <a:pt x="2864" y="279"/>
                  </a:lnTo>
                  <a:lnTo>
                    <a:pt x="2874" y="296"/>
                  </a:lnTo>
                  <a:lnTo>
                    <a:pt x="2879" y="314"/>
                  </a:lnTo>
                  <a:lnTo>
                    <a:pt x="2881" y="332"/>
                  </a:lnTo>
                  <a:close/>
                </a:path>
              </a:pathLst>
            </a:custGeom>
            <a:solidFill>
              <a:srgbClr val="fb4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89360" y="6518160"/>
              <a:ext cx="317520" cy="81360"/>
            </a:xfrm>
            <a:custGeom>
              <a:avLst/>
              <a:gdLst/>
              <a:ahLst/>
              <a:rect l="l" t="t" r="r" b="b"/>
              <a:pathLst>
                <a:path w="2879" h="680">
                  <a:moveTo>
                    <a:pt x="2879" y="331"/>
                  </a:moveTo>
                  <a:lnTo>
                    <a:pt x="2877" y="349"/>
                  </a:lnTo>
                  <a:lnTo>
                    <a:pt x="2871" y="367"/>
                  </a:lnTo>
                  <a:lnTo>
                    <a:pt x="2861" y="384"/>
                  </a:lnTo>
                  <a:lnTo>
                    <a:pt x="2849" y="401"/>
                  </a:lnTo>
                  <a:lnTo>
                    <a:pt x="2833" y="418"/>
                  </a:lnTo>
                  <a:lnTo>
                    <a:pt x="2814" y="435"/>
                  </a:lnTo>
                  <a:lnTo>
                    <a:pt x="2791" y="451"/>
                  </a:lnTo>
                  <a:lnTo>
                    <a:pt x="2766" y="467"/>
                  </a:lnTo>
                  <a:lnTo>
                    <a:pt x="2736" y="482"/>
                  </a:lnTo>
                  <a:lnTo>
                    <a:pt x="2705" y="497"/>
                  </a:lnTo>
                  <a:lnTo>
                    <a:pt x="2671" y="512"/>
                  </a:lnTo>
                  <a:lnTo>
                    <a:pt x="2632" y="526"/>
                  </a:lnTo>
                  <a:lnTo>
                    <a:pt x="2593" y="540"/>
                  </a:lnTo>
                  <a:lnTo>
                    <a:pt x="2549" y="553"/>
                  </a:lnTo>
                  <a:lnTo>
                    <a:pt x="2505" y="566"/>
                  </a:lnTo>
                  <a:lnTo>
                    <a:pt x="2457" y="578"/>
                  </a:lnTo>
                  <a:lnTo>
                    <a:pt x="2407" y="589"/>
                  </a:lnTo>
                  <a:lnTo>
                    <a:pt x="2354" y="600"/>
                  </a:lnTo>
                  <a:lnTo>
                    <a:pt x="2301" y="610"/>
                  </a:lnTo>
                  <a:lnTo>
                    <a:pt x="2244" y="620"/>
                  </a:lnTo>
                  <a:lnTo>
                    <a:pt x="2186" y="629"/>
                  </a:lnTo>
                  <a:lnTo>
                    <a:pt x="2125" y="638"/>
                  </a:lnTo>
                  <a:lnTo>
                    <a:pt x="2064" y="646"/>
                  </a:lnTo>
                  <a:lnTo>
                    <a:pt x="2000" y="653"/>
                  </a:lnTo>
                  <a:lnTo>
                    <a:pt x="1934" y="659"/>
                  </a:lnTo>
                  <a:lnTo>
                    <a:pt x="1868" y="665"/>
                  </a:lnTo>
                  <a:lnTo>
                    <a:pt x="1799" y="669"/>
                  </a:lnTo>
                  <a:lnTo>
                    <a:pt x="1729" y="673"/>
                  </a:lnTo>
                  <a:lnTo>
                    <a:pt x="1659" y="676"/>
                  </a:lnTo>
                  <a:lnTo>
                    <a:pt x="1587" y="678"/>
                  </a:lnTo>
                  <a:lnTo>
                    <a:pt x="1513" y="680"/>
                  </a:lnTo>
                  <a:lnTo>
                    <a:pt x="1439" y="680"/>
                  </a:lnTo>
                  <a:lnTo>
                    <a:pt x="1366" y="680"/>
                  </a:lnTo>
                  <a:lnTo>
                    <a:pt x="1292" y="678"/>
                  </a:lnTo>
                  <a:lnTo>
                    <a:pt x="1220" y="676"/>
                  </a:lnTo>
                  <a:lnTo>
                    <a:pt x="1150" y="673"/>
                  </a:lnTo>
                  <a:lnTo>
                    <a:pt x="1080" y="669"/>
                  </a:lnTo>
                  <a:lnTo>
                    <a:pt x="1011" y="665"/>
                  </a:lnTo>
                  <a:lnTo>
                    <a:pt x="945" y="659"/>
                  </a:lnTo>
                  <a:lnTo>
                    <a:pt x="880" y="653"/>
                  </a:lnTo>
                  <a:lnTo>
                    <a:pt x="815" y="646"/>
                  </a:lnTo>
                  <a:lnTo>
                    <a:pt x="754" y="638"/>
                  </a:lnTo>
                  <a:lnTo>
                    <a:pt x="693" y="629"/>
                  </a:lnTo>
                  <a:lnTo>
                    <a:pt x="636" y="620"/>
                  </a:lnTo>
                  <a:lnTo>
                    <a:pt x="579" y="610"/>
                  </a:lnTo>
                  <a:lnTo>
                    <a:pt x="524" y="600"/>
                  </a:lnTo>
                  <a:lnTo>
                    <a:pt x="472" y="589"/>
                  </a:lnTo>
                  <a:lnTo>
                    <a:pt x="422" y="578"/>
                  </a:lnTo>
                  <a:lnTo>
                    <a:pt x="375" y="566"/>
                  </a:lnTo>
                  <a:lnTo>
                    <a:pt x="330" y="553"/>
                  </a:lnTo>
                  <a:lnTo>
                    <a:pt x="286" y="540"/>
                  </a:lnTo>
                  <a:lnTo>
                    <a:pt x="247" y="526"/>
                  </a:lnTo>
                  <a:lnTo>
                    <a:pt x="209" y="512"/>
                  </a:lnTo>
                  <a:lnTo>
                    <a:pt x="174" y="497"/>
                  </a:lnTo>
                  <a:lnTo>
                    <a:pt x="143" y="482"/>
                  </a:lnTo>
                  <a:lnTo>
                    <a:pt x="113" y="467"/>
                  </a:lnTo>
                  <a:lnTo>
                    <a:pt x="88" y="451"/>
                  </a:lnTo>
                  <a:lnTo>
                    <a:pt x="65" y="435"/>
                  </a:lnTo>
                  <a:lnTo>
                    <a:pt x="46" y="418"/>
                  </a:lnTo>
                  <a:lnTo>
                    <a:pt x="30" y="401"/>
                  </a:lnTo>
                  <a:lnTo>
                    <a:pt x="17" y="384"/>
                  </a:lnTo>
                  <a:lnTo>
                    <a:pt x="8" y="367"/>
                  </a:lnTo>
                  <a:lnTo>
                    <a:pt x="2" y="349"/>
                  </a:lnTo>
                  <a:lnTo>
                    <a:pt x="0" y="331"/>
                  </a:lnTo>
                  <a:lnTo>
                    <a:pt x="2" y="313"/>
                  </a:lnTo>
                  <a:lnTo>
                    <a:pt x="8" y="295"/>
                  </a:lnTo>
                  <a:lnTo>
                    <a:pt x="17" y="278"/>
                  </a:lnTo>
                  <a:lnTo>
                    <a:pt x="30" y="261"/>
                  </a:lnTo>
                  <a:lnTo>
                    <a:pt x="46" y="245"/>
                  </a:lnTo>
                  <a:lnTo>
                    <a:pt x="65" y="229"/>
                  </a:lnTo>
                  <a:lnTo>
                    <a:pt x="88" y="214"/>
                  </a:lnTo>
                  <a:lnTo>
                    <a:pt x="113" y="197"/>
                  </a:lnTo>
                  <a:lnTo>
                    <a:pt x="143" y="183"/>
                  </a:lnTo>
                  <a:lnTo>
                    <a:pt x="174" y="169"/>
                  </a:lnTo>
                  <a:lnTo>
                    <a:pt x="209" y="155"/>
                  </a:lnTo>
                  <a:lnTo>
                    <a:pt x="247" y="141"/>
                  </a:lnTo>
                  <a:lnTo>
                    <a:pt x="286" y="129"/>
                  </a:lnTo>
                  <a:lnTo>
                    <a:pt x="330" y="116"/>
                  </a:lnTo>
                  <a:lnTo>
                    <a:pt x="375" y="105"/>
                  </a:lnTo>
                  <a:lnTo>
                    <a:pt x="422" y="92"/>
                  </a:lnTo>
                  <a:lnTo>
                    <a:pt x="472" y="82"/>
                  </a:lnTo>
                  <a:lnTo>
                    <a:pt x="524" y="72"/>
                  </a:lnTo>
                  <a:lnTo>
                    <a:pt x="579" y="62"/>
                  </a:lnTo>
                  <a:lnTo>
                    <a:pt x="636" y="53"/>
                  </a:lnTo>
                  <a:lnTo>
                    <a:pt x="693" y="45"/>
                  </a:lnTo>
                  <a:lnTo>
                    <a:pt x="754" y="38"/>
                  </a:lnTo>
                  <a:lnTo>
                    <a:pt x="815" y="31"/>
                  </a:lnTo>
                  <a:lnTo>
                    <a:pt x="880" y="24"/>
                  </a:lnTo>
                  <a:lnTo>
                    <a:pt x="945" y="19"/>
                  </a:lnTo>
                  <a:lnTo>
                    <a:pt x="1011" y="14"/>
                  </a:lnTo>
                  <a:lnTo>
                    <a:pt x="1080" y="10"/>
                  </a:lnTo>
                  <a:lnTo>
                    <a:pt x="1150" y="6"/>
                  </a:lnTo>
                  <a:lnTo>
                    <a:pt x="1220" y="4"/>
                  </a:lnTo>
                  <a:lnTo>
                    <a:pt x="1292" y="2"/>
                  </a:lnTo>
                  <a:lnTo>
                    <a:pt x="1366" y="0"/>
                  </a:lnTo>
                  <a:lnTo>
                    <a:pt x="1439" y="0"/>
                  </a:lnTo>
                  <a:lnTo>
                    <a:pt x="1513" y="0"/>
                  </a:lnTo>
                  <a:lnTo>
                    <a:pt x="1587" y="2"/>
                  </a:lnTo>
                  <a:lnTo>
                    <a:pt x="1659" y="4"/>
                  </a:lnTo>
                  <a:lnTo>
                    <a:pt x="1729" y="6"/>
                  </a:lnTo>
                  <a:lnTo>
                    <a:pt x="1799" y="10"/>
                  </a:lnTo>
                  <a:lnTo>
                    <a:pt x="1868" y="14"/>
                  </a:lnTo>
                  <a:lnTo>
                    <a:pt x="1934" y="19"/>
                  </a:lnTo>
                  <a:lnTo>
                    <a:pt x="2000" y="24"/>
                  </a:lnTo>
                  <a:lnTo>
                    <a:pt x="2064" y="31"/>
                  </a:lnTo>
                  <a:lnTo>
                    <a:pt x="2125" y="38"/>
                  </a:lnTo>
                  <a:lnTo>
                    <a:pt x="2186" y="45"/>
                  </a:lnTo>
                  <a:lnTo>
                    <a:pt x="2244" y="53"/>
                  </a:lnTo>
                  <a:lnTo>
                    <a:pt x="2301" y="62"/>
                  </a:lnTo>
                  <a:lnTo>
                    <a:pt x="2354" y="72"/>
                  </a:lnTo>
                  <a:lnTo>
                    <a:pt x="2407" y="82"/>
                  </a:lnTo>
                  <a:lnTo>
                    <a:pt x="2457" y="92"/>
                  </a:lnTo>
                  <a:lnTo>
                    <a:pt x="2505" y="105"/>
                  </a:lnTo>
                  <a:lnTo>
                    <a:pt x="2549" y="116"/>
                  </a:lnTo>
                  <a:lnTo>
                    <a:pt x="2593" y="129"/>
                  </a:lnTo>
                  <a:lnTo>
                    <a:pt x="2632" y="141"/>
                  </a:lnTo>
                  <a:lnTo>
                    <a:pt x="2671" y="155"/>
                  </a:lnTo>
                  <a:lnTo>
                    <a:pt x="2705" y="169"/>
                  </a:lnTo>
                  <a:lnTo>
                    <a:pt x="2736" y="183"/>
                  </a:lnTo>
                  <a:lnTo>
                    <a:pt x="2766" y="197"/>
                  </a:lnTo>
                  <a:lnTo>
                    <a:pt x="2791" y="214"/>
                  </a:lnTo>
                  <a:lnTo>
                    <a:pt x="2814" y="229"/>
                  </a:lnTo>
                  <a:lnTo>
                    <a:pt x="2833" y="245"/>
                  </a:lnTo>
                  <a:lnTo>
                    <a:pt x="2849" y="261"/>
                  </a:lnTo>
                  <a:lnTo>
                    <a:pt x="2861" y="278"/>
                  </a:lnTo>
                  <a:lnTo>
                    <a:pt x="2871" y="295"/>
                  </a:lnTo>
                  <a:lnTo>
                    <a:pt x="2877" y="313"/>
                  </a:lnTo>
                  <a:lnTo>
                    <a:pt x="2879" y="331"/>
                  </a:lnTo>
                  <a:close/>
                </a:path>
              </a:pathLst>
            </a:custGeom>
            <a:solidFill>
              <a:srgbClr val="fb4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89360" y="6518160"/>
              <a:ext cx="317520" cy="81360"/>
            </a:xfrm>
            <a:custGeom>
              <a:avLst/>
              <a:gdLst/>
              <a:ahLst/>
              <a:rect l="l" t="t" r="r" b="b"/>
              <a:pathLst>
                <a:path w="2875" h="678">
                  <a:moveTo>
                    <a:pt x="2875" y="330"/>
                  </a:moveTo>
                  <a:lnTo>
                    <a:pt x="2874" y="348"/>
                  </a:lnTo>
                  <a:lnTo>
                    <a:pt x="2868" y="366"/>
                  </a:lnTo>
                  <a:lnTo>
                    <a:pt x="2858" y="383"/>
                  </a:lnTo>
                  <a:lnTo>
                    <a:pt x="2845" y="400"/>
                  </a:lnTo>
                  <a:lnTo>
                    <a:pt x="2830" y="417"/>
                  </a:lnTo>
                  <a:lnTo>
                    <a:pt x="2810" y="434"/>
                  </a:lnTo>
                  <a:lnTo>
                    <a:pt x="2788" y="450"/>
                  </a:lnTo>
                  <a:lnTo>
                    <a:pt x="2762" y="466"/>
                  </a:lnTo>
                  <a:lnTo>
                    <a:pt x="2733" y="481"/>
                  </a:lnTo>
                  <a:lnTo>
                    <a:pt x="2702" y="496"/>
                  </a:lnTo>
                  <a:lnTo>
                    <a:pt x="2667" y="510"/>
                  </a:lnTo>
                  <a:lnTo>
                    <a:pt x="2629" y="524"/>
                  </a:lnTo>
                  <a:lnTo>
                    <a:pt x="2590" y="539"/>
                  </a:lnTo>
                  <a:lnTo>
                    <a:pt x="2546" y="552"/>
                  </a:lnTo>
                  <a:lnTo>
                    <a:pt x="2502" y="564"/>
                  </a:lnTo>
                  <a:lnTo>
                    <a:pt x="2453" y="576"/>
                  </a:lnTo>
                  <a:lnTo>
                    <a:pt x="2404" y="588"/>
                  </a:lnTo>
                  <a:lnTo>
                    <a:pt x="2351" y="598"/>
                  </a:lnTo>
                  <a:lnTo>
                    <a:pt x="2298" y="609"/>
                  </a:lnTo>
                  <a:lnTo>
                    <a:pt x="2241" y="618"/>
                  </a:lnTo>
                  <a:lnTo>
                    <a:pt x="2183" y="627"/>
                  </a:lnTo>
                  <a:lnTo>
                    <a:pt x="2122" y="637"/>
                  </a:lnTo>
                  <a:lnTo>
                    <a:pt x="2061" y="644"/>
                  </a:lnTo>
                  <a:lnTo>
                    <a:pt x="1997" y="651"/>
                  </a:lnTo>
                  <a:lnTo>
                    <a:pt x="1931" y="657"/>
                  </a:lnTo>
                  <a:lnTo>
                    <a:pt x="1865" y="663"/>
                  </a:lnTo>
                  <a:lnTo>
                    <a:pt x="1797" y="667"/>
                  </a:lnTo>
                  <a:lnTo>
                    <a:pt x="1727" y="671"/>
                  </a:lnTo>
                  <a:lnTo>
                    <a:pt x="1657" y="674"/>
                  </a:lnTo>
                  <a:lnTo>
                    <a:pt x="1585" y="676"/>
                  </a:lnTo>
                  <a:lnTo>
                    <a:pt x="1511" y="678"/>
                  </a:lnTo>
                  <a:lnTo>
                    <a:pt x="1437" y="678"/>
                  </a:lnTo>
                  <a:lnTo>
                    <a:pt x="1364" y="678"/>
                  </a:lnTo>
                  <a:lnTo>
                    <a:pt x="1291" y="676"/>
                  </a:lnTo>
                  <a:lnTo>
                    <a:pt x="1218" y="674"/>
                  </a:lnTo>
                  <a:lnTo>
                    <a:pt x="1148" y="671"/>
                  </a:lnTo>
                  <a:lnTo>
                    <a:pt x="1078" y="667"/>
                  </a:lnTo>
                  <a:lnTo>
                    <a:pt x="1010" y="663"/>
                  </a:lnTo>
                  <a:lnTo>
                    <a:pt x="944" y="657"/>
                  </a:lnTo>
                  <a:lnTo>
                    <a:pt x="878" y="651"/>
                  </a:lnTo>
                  <a:lnTo>
                    <a:pt x="814" y="644"/>
                  </a:lnTo>
                  <a:lnTo>
                    <a:pt x="753" y="637"/>
                  </a:lnTo>
                  <a:lnTo>
                    <a:pt x="692" y="627"/>
                  </a:lnTo>
                  <a:lnTo>
                    <a:pt x="634" y="618"/>
                  </a:lnTo>
                  <a:lnTo>
                    <a:pt x="578" y="609"/>
                  </a:lnTo>
                  <a:lnTo>
                    <a:pt x="523" y="598"/>
                  </a:lnTo>
                  <a:lnTo>
                    <a:pt x="471" y="588"/>
                  </a:lnTo>
                  <a:lnTo>
                    <a:pt x="421" y="576"/>
                  </a:lnTo>
                  <a:lnTo>
                    <a:pt x="374" y="564"/>
                  </a:lnTo>
                  <a:lnTo>
                    <a:pt x="329" y="552"/>
                  </a:lnTo>
                  <a:lnTo>
                    <a:pt x="286" y="539"/>
                  </a:lnTo>
                  <a:lnTo>
                    <a:pt x="246" y="524"/>
                  </a:lnTo>
                  <a:lnTo>
                    <a:pt x="208" y="510"/>
                  </a:lnTo>
                  <a:lnTo>
                    <a:pt x="174" y="496"/>
                  </a:lnTo>
                  <a:lnTo>
                    <a:pt x="142" y="481"/>
                  </a:lnTo>
                  <a:lnTo>
                    <a:pt x="113" y="466"/>
                  </a:lnTo>
                  <a:lnTo>
                    <a:pt x="87" y="450"/>
                  </a:lnTo>
                  <a:lnTo>
                    <a:pt x="65" y="434"/>
                  </a:lnTo>
                  <a:lnTo>
                    <a:pt x="46" y="417"/>
                  </a:lnTo>
                  <a:lnTo>
                    <a:pt x="30" y="400"/>
                  </a:lnTo>
                  <a:lnTo>
                    <a:pt x="16" y="383"/>
                  </a:lnTo>
                  <a:lnTo>
                    <a:pt x="7" y="366"/>
                  </a:lnTo>
                  <a:lnTo>
                    <a:pt x="2" y="348"/>
                  </a:lnTo>
                  <a:lnTo>
                    <a:pt x="0" y="330"/>
                  </a:lnTo>
                  <a:lnTo>
                    <a:pt x="2" y="312"/>
                  </a:lnTo>
                  <a:lnTo>
                    <a:pt x="7" y="294"/>
                  </a:lnTo>
                  <a:lnTo>
                    <a:pt x="16" y="277"/>
                  </a:lnTo>
                  <a:lnTo>
                    <a:pt x="30" y="261"/>
                  </a:lnTo>
                  <a:lnTo>
                    <a:pt x="46" y="244"/>
                  </a:lnTo>
                  <a:lnTo>
                    <a:pt x="65" y="228"/>
                  </a:lnTo>
                  <a:lnTo>
                    <a:pt x="87" y="213"/>
                  </a:lnTo>
                  <a:lnTo>
                    <a:pt x="113" y="197"/>
                  </a:lnTo>
                  <a:lnTo>
                    <a:pt x="142" y="182"/>
                  </a:lnTo>
                  <a:lnTo>
                    <a:pt x="174" y="168"/>
                  </a:lnTo>
                  <a:lnTo>
                    <a:pt x="208" y="154"/>
                  </a:lnTo>
                  <a:lnTo>
                    <a:pt x="246" y="141"/>
                  </a:lnTo>
                  <a:lnTo>
                    <a:pt x="286" y="128"/>
                  </a:lnTo>
                  <a:lnTo>
                    <a:pt x="329" y="116"/>
                  </a:lnTo>
                  <a:lnTo>
                    <a:pt x="374" y="104"/>
                  </a:lnTo>
                  <a:lnTo>
                    <a:pt x="421" y="92"/>
                  </a:lnTo>
                  <a:lnTo>
                    <a:pt x="471" y="82"/>
                  </a:lnTo>
                  <a:lnTo>
                    <a:pt x="523" y="72"/>
                  </a:lnTo>
                  <a:lnTo>
                    <a:pt x="578" y="62"/>
                  </a:lnTo>
                  <a:lnTo>
                    <a:pt x="634" y="53"/>
                  </a:lnTo>
                  <a:lnTo>
                    <a:pt x="692" y="45"/>
                  </a:lnTo>
                  <a:lnTo>
                    <a:pt x="753" y="37"/>
                  </a:lnTo>
                  <a:lnTo>
                    <a:pt x="814" y="31"/>
                  </a:lnTo>
                  <a:lnTo>
                    <a:pt x="878" y="24"/>
                  </a:lnTo>
                  <a:lnTo>
                    <a:pt x="944" y="19"/>
                  </a:lnTo>
                  <a:lnTo>
                    <a:pt x="1010" y="14"/>
                  </a:lnTo>
                  <a:lnTo>
                    <a:pt x="1078" y="10"/>
                  </a:lnTo>
                  <a:lnTo>
                    <a:pt x="1148" y="6"/>
                  </a:lnTo>
                  <a:lnTo>
                    <a:pt x="1218" y="3"/>
                  </a:lnTo>
                  <a:lnTo>
                    <a:pt x="1291" y="1"/>
                  </a:lnTo>
                  <a:lnTo>
                    <a:pt x="1364" y="0"/>
                  </a:lnTo>
                  <a:lnTo>
                    <a:pt x="1437" y="0"/>
                  </a:lnTo>
                  <a:lnTo>
                    <a:pt x="1511" y="0"/>
                  </a:lnTo>
                  <a:lnTo>
                    <a:pt x="1585" y="1"/>
                  </a:lnTo>
                  <a:lnTo>
                    <a:pt x="1657" y="3"/>
                  </a:lnTo>
                  <a:lnTo>
                    <a:pt x="1727" y="6"/>
                  </a:lnTo>
                  <a:lnTo>
                    <a:pt x="1797" y="10"/>
                  </a:lnTo>
                  <a:lnTo>
                    <a:pt x="1865" y="14"/>
                  </a:lnTo>
                  <a:lnTo>
                    <a:pt x="1931" y="19"/>
                  </a:lnTo>
                  <a:lnTo>
                    <a:pt x="1997" y="24"/>
                  </a:lnTo>
                  <a:lnTo>
                    <a:pt x="2061" y="31"/>
                  </a:lnTo>
                  <a:lnTo>
                    <a:pt x="2122" y="37"/>
                  </a:lnTo>
                  <a:lnTo>
                    <a:pt x="2183" y="45"/>
                  </a:lnTo>
                  <a:lnTo>
                    <a:pt x="2241" y="53"/>
                  </a:lnTo>
                  <a:lnTo>
                    <a:pt x="2298" y="62"/>
                  </a:lnTo>
                  <a:lnTo>
                    <a:pt x="2351" y="72"/>
                  </a:lnTo>
                  <a:lnTo>
                    <a:pt x="2404" y="82"/>
                  </a:lnTo>
                  <a:lnTo>
                    <a:pt x="2453" y="92"/>
                  </a:lnTo>
                  <a:lnTo>
                    <a:pt x="2502" y="104"/>
                  </a:lnTo>
                  <a:lnTo>
                    <a:pt x="2546" y="116"/>
                  </a:lnTo>
                  <a:lnTo>
                    <a:pt x="2590" y="128"/>
                  </a:lnTo>
                  <a:lnTo>
                    <a:pt x="2629" y="141"/>
                  </a:lnTo>
                  <a:lnTo>
                    <a:pt x="2667" y="154"/>
                  </a:lnTo>
                  <a:lnTo>
                    <a:pt x="2702" y="168"/>
                  </a:lnTo>
                  <a:lnTo>
                    <a:pt x="2733" y="182"/>
                  </a:lnTo>
                  <a:lnTo>
                    <a:pt x="2762" y="197"/>
                  </a:lnTo>
                  <a:lnTo>
                    <a:pt x="2788" y="213"/>
                  </a:lnTo>
                  <a:lnTo>
                    <a:pt x="2810" y="228"/>
                  </a:lnTo>
                  <a:lnTo>
                    <a:pt x="2830" y="244"/>
                  </a:lnTo>
                  <a:lnTo>
                    <a:pt x="2845" y="261"/>
                  </a:lnTo>
                  <a:lnTo>
                    <a:pt x="2858" y="277"/>
                  </a:lnTo>
                  <a:lnTo>
                    <a:pt x="2868" y="294"/>
                  </a:lnTo>
                  <a:lnTo>
                    <a:pt x="2874" y="312"/>
                  </a:lnTo>
                  <a:lnTo>
                    <a:pt x="2875" y="330"/>
                  </a:lnTo>
                  <a:close/>
                </a:path>
              </a:pathLst>
            </a:custGeom>
            <a:solidFill>
              <a:srgbClr val="fb4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89360" y="6518160"/>
              <a:ext cx="317520" cy="81360"/>
            </a:xfrm>
            <a:custGeom>
              <a:avLst/>
              <a:gdLst/>
              <a:ahLst/>
              <a:rect l="l" t="t" r="r" b="b"/>
              <a:pathLst>
                <a:path w="2873" h="676">
                  <a:moveTo>
                    <a:pt x="2873" y="329"/>
                  </a:moveTo>
                  <a:lnTo>
                    <a:pt x="2871" y="347"/>
                  </a:lnTo>
                  <a:lnTo>
                    <a:pt x="2866" y="364"/>
                  </a:lnTo>
                  <a:lnTo>
                    <a:pt x="2856" y="382"/>
                  </a:lnTo>
                  <a:lnTo>
                    <a:pt x="2843" y="399"/>
                  </a:lnTo>
                  <a:lnTo>
                    <a:pt x="2827" y="415"/>
                  </a:lnTo>
                  <a:lnTo>
                    <a:pt x="2808" y="433"/>
                  </a:lnTo>
                  <a:lnTo>
                    <a:pt x="2786" y="449"/>
                  </a:lnTo>
                  <a:lnTo>
                    <a:pt x="2759" y="464"/>
                  </a:lnTo>
                  <a:lnTo>
                    <a:pt x="2731" y="479"/>
                  </a:lnTo>
                  <a:lnTo>
                    <a:pt x="2699" y="494"/>
                  </a:lnTo>
                  <a:lnTo>
                    <a:pt x="2665" y="509"/>
                  </a:lnTo>
                  <a:lnTo>
                    <a:pt x="2627" y="523"/>
                  </a:lnTo>
                  <a:lnTo>
                    <a:pt x="2587" y="537"/>
                  </a:lnTo>
                  <a:lnTo>
                    <a:pt x="2544" y="550"/>
                  </a:lnTo>
                  <a:lnTo>
                    <a:pt x="2500" y="563"/>
                  </a:lnTo>
                  <a:lnTo>
                    <a:pt x="2452" y="575"/>
                  </a:lnTo>
                  <a:lnTo>
                    <a:pt x="2402" y="586"/>
                  </a:lnTo>
                  <a:lnTo>
                    <a:pt x="2350" y="597"/>
                  </a:lnTo>
                  <a:lnTo>
                    <a:pt x="2296" y="607"/>
                  </a:lnTo>
                  <a:lnTo>
                    <a:pt x="2239" y="617"/>
                  </a:lnTo>
                  <a:lnTo>
                    <a:pt x="2181" y="626"/>
                  </a:lnTo>
                  <a:lnTo>
                    <a:pt x="2121" y="635"/>
                  </a:lnTo>
                  <a:lnTo>
                    <a:pt x="2060" y="642"/>
                  </a:lnTo>
                  <a:lnTo>
                    <a:pt x="1996" y="649"/>
                  </a:lnTo>
                  <a:lnTo>
                    <a:pt x="1930" y="655"/>
                  </a:lnTo>
                  <a:lnTo>
                    <a:pt x="1864" y="661"/>
                  </a:lnTo>
                  <a:lnTo>
                    <a:pt x="1795" y="665"/>
                  </a:lnTo>
                  <a:lnTo>
                    <a:pt x="1726" y="669"/>
                  </a:lnTo>
                  <a:lnTo>
                    <a:pt x="1656" y="672"/>
                  </a:lnTo>
                  <a:lnTo>
                    <a:pt x="1583" y="675"/>
                  </a:lnTo>
                  <a:lnTo>
                    <a:pt x="1510" y="676"/>
                  </a:lnTo>
                  <a:lnTo>
                    <a:pt x="1436" y="676"/>
                  </a:lnTo>
                  <a:lnTo>
                    <a:pt x="1363" y="676"/>
                  </a:lnTo>
                  <a:lnTo>
                    <a:pt x="1290" y="675"/>
                  </a:lnTo>
                  <a:lnTo>
                    <a:pt x="1218" y="672"/>
                  </a:lnTo>
                  <a:lnTo>
                    <a:pt x="1148" y="669"/>
                  </a:lnTo>
                  <a:lnTo>
                    <a:pt x="1078" y="665"/>
                  </a:lnTo>
                  <a:lnTo>
                    <a:pt x="1009" y="661"/>
                  </a:lnTo>
                  <a:lnTo>
                    <a:pt x="943" y="655"/>
                  </a:lnTo>
                  <a:lnTo>
                    <a:pt x="878" y="649"/>
                  </a:lnTo>
                  <a:lnTo>
                    <a:pt x="814" y="642"/>
                  </a:lnTo>
                  <a:lnTo>
                    <a:pt x="752" y="635"/>
                  </a:lnTo>
                  <a:lnTo>
                    <a:pt x="692" y="626"/>
                  </a:lnTo>
                  <a:lnTo>
                    <a:pt x="634" y="617"/>
                  </a:lnTo>
                  <a:lnTo>
                    <a:pt x="577" y="607"/>
                  </a:lnTo>
                  <a:lnTo>
                    <a:pt x="523" y="597"/>
                  </a:lnTo>
                  <a:lnTo>
                    <a:pt x="471" y="586"/>
                  </a:lnTo>
                  <a:lnTo>
                    <a:pt x="421" y="575"/>
                  </a:lnTo>
                  <a:lnTo>
                    <a:pt x="374" y="563"/>
                  </a:lnTo>
                  <a:lnTo>
                    <a:pt x="329" y="550"/>
                  </a:lnTo>
                  <a:lnTo>
                    <a:pt x="286" y="537"/>
                  </a:lnTo>
                  <a:lnTo>
                    <a:pt x="246" y="523"/>
                  </a:lnTo>
                  <a:lnTo>
                    <a:pt x="208" y="509"/>
                  </a:lnTo>
                  <a:lnTo>
                    <a:pt x="174" y="494"/>
                  </a:lnTo>
                  <a:lnTo>
                    <a:pt x="142" y="479"/>
                  </a:lnTo>
                  <a:lnTo>
                    <a:pt x="113" y="464"/>
                  </a:lnTo>
                  <a:lnTo>
                    <a:pt x="88" y="449"/>
                  </a:lnTo>
                  <a:lnTo>
                    <a:pt x="65" y="433"/>
                  </a:lnTo>
                  <a:lnTo>
                    <a:pt x="46" y="415"/>
                  </a:lnTo>
                  <a:lnTo>
                    <a:pt x="30" y="399"/>
                  </a:lnTo>
                  <a:lnTo>
                    <a:pt x="17" y="382"/>
                  </a:lnTo>
                  <a:lnTo>
                    <a:pt x="8" y="364"/>
                  </a:lnTo>
                  <a:lnTo>
                    <a:pt x="2" y="347"/>
                  </a:lnTo>
                  <a:lnTo>
                    <a:pt x="0" y="329"/>
                  </a:lnTo>
                  <a:lnTo>
                    <a:pt x="2" y="311"/>
                  </a:lnTo>
                  <a:lnTo>
                    <a:pt x="8" y="293"/>
                  </a:lnTo>
                  <a:lnTo>
                    <a:pt x="17" y="276"/>
                  </a:lnTo>
                  <a:lnTo>
                    <a:pt x="30" y="260"/>
                  </a:lnTo>
                  <a:lnTo>
                    <a:pt x="46" y="244"/>
                  </a:lnTo>
                  <a:lnTo>
                    <a:pt x="65" y="228"/>
                  </a:lnTo>
                  <a:lnTo>
                    <a:pt x="88" y="212"/>
                  </a:lnTo>
                  <a:lnTo>
                    <a:pt x="113" y="196"/>
                  </a:lnTo>
                  <a:lnTo>
                    <a:pt x="142" y="182"/>
                  </a:lnTo>
                  <a:lnTo>
                    <a:pt x="174" y="167"/>
                  </a:lnTo>
                  <a:lnTo>
                    <a:pt x="208" y="154"/>
                  </a:lnTo>
                  <a:lnTo>
                    <a:pt x="246" y="141"/>
                  </a:lnTo>
                  <a:lnTo>
                    <a:pt x="286" y="128"/>
                  </a:lnTo>
                  <a:lnTo>
                    <a:pt x="329" y="116"/>
                  </a:lnTo>
                  <a:lnTo>
                    <a:pt x="374" y="104"/>
                  </a:lnTo>
                  <a:lnTo>
                    <a:pt x="421" y="92"/>
                  </a:lnTo>
                  <a:lnTo>
                    <a:pt x="471" y="81"/>
                  </a:lnTo>
                  <a:lnTo>
                    <a:pt x="523" y="71"/>
                  </a:lnTo>
                  <a:lnTo>
                    <a:pt x="577" y="62"/>
                  </a:lnTo>
                  <a:lnTo>
                    <a:pt x="634" y="53"/>
                  </a:lnTo>
                  <a:lnTo>
                    <a:pt x="692" y="45"/>
                  </a:lnTo>
                  <a:lnTo>
                    <a:pt x="752" y="37"/>
                  </a:lnTo>
                  <a:lnTo>
                    <a:pt x="814" y="30"/>
                  </a:lnTo>
                  <a:lnTo>
                    <a:pt x="878" y="24"/>
                  </a:lnTo>
                  <a:lnTo>
                    <a:pt x="943" y="19"/>
                  </a:lnTo>
                  <a:lnTo>
                    <a:pt x="1009" y="14"/>
                  </a:lnTo>
                  <a:lnTo>
                    <a:pt x="1078" y="10"/>
                  </a:lnTo>
                  <a:lnTo>
                    <a:pt x="1148" y="6"/>
                  </a:lnTo>
                  <a:lnTo>
                    <a:pt x="1218" y="3"/>
                  </a:lnTo>
                  <a:lnTo>
                    <a:pt x="1290" y="1"/>
                  </a:lnTo>
                  <a:lnTo>
                    <a:pt x="1363" y="0"/>
                  </a:lnTo>
                  <a:lnTo>
                    <a:pt x="1436" y="0"/>
                  </a:lnTo>
                  <a:lnTo>
                    <a:pt x="1510" y="0"/>
                  </a:lnTo>
                  <a:lnTo>
                    <a:pt x="1583" y="1"/>
                  </a:lnTo>
                  <a:lnTo>
                    <a:pt x="1656" y="3"/>
                  </a:lnTo>
                  <a:lnTo>
                    <a:pt x="1726" y="6"/>
                  </a:lnTo>
                  <a:lnTo>
                    <a:pt x="1795" y="10"/>
                  </a:lnTo>
                  <a:lnTo>
                    <a:pt x="1864" y="14"/>
                  </a:lnTo>
                  <a:lnTo>
                    <a:pt x="1930" y="19"/>
                  </a:lnTo>
                  <a:lnTo>
                    <a:pt x="1996" y="24"/>
                  </a:lnTo>
                  <a:lnTo>
                    <a:pt x="2060" y="30"/>
                  </a:lnTo>
                  <a:lnTo>
                    <a:pt x="2121" y="37"/>
                  </a:lnTo>
                  <a:lnTo>
                    <a:pt x="2181" y="45"/>
                  </a:lnTo>
                  <a:lnTo>
                    <a:pt x="2239" y="53"/>
                  </a:lnTo>
                  <a:lnTo>
                    <a:pt x="2296" y="62"/>
                  </a:lnTo>
                  <a:lnTo>
                    <a:pt x="2350" y="71"/>
                  </a:lnTo>
                  <a:lnTo>
                    <a:pt x="2402" y="81"/>
                  </a:lnTo>
                  <a:lnTo>
                    <a:pt x="2452" y="92"/>
                  </a:lnTo>
                  <a:lnTo>
                    <a:pt x="2500" y="104"/>
                  </a:lnTo>
                  <a:lnTo>
                    <a:pt x="2544" y="116"/>
                  </a:lnTo>
                  <a:lnTo>
                    <a:pt x="2587" y="128"/>
                  </a:lnTo>
                  <a:lnTo>
                    <a:pt x="2627" y="141"/>
                  </a:lnTo>
                  <a:lnTo>
                    <a:pt x="2665" y="154"/>
                  </a:lnTo>
                  <a:lnTo>
                    <a:pt x="2699" y="167"/>
                  </a:lnTo>
                  <a:lnTo>
                    <a:pt x="2731" y="182"/>
                  </a:lnTo>
                  <a:lnTo>
                    <a:pt x="2759" y="196"/>
                  </a:lnTo>
                  <a:lnTo>
                    <a:pt x="2786" y="212"/>
                  </a:lnTo>
                  <a:lnTo>
                    <a:pt x="2808" y="228"/>
                  </a:lnTo>
                  <a:lnTo>
                    <a:pt x="2827" y="244"/>
                  </a:lnTo>
                  <a:lnTo>
                    <a:pt x="2843" y="260"/>
                  </a:lnTo>
                  <a:lnTo>
                    <a:pt x="2856" y="276"/>
                  </a:lnTo>
                  <a:lnTo>
                    <a:pt x="2866" y="293"/>
                  </a:lnTo>
                  <a:lnTo>
                    <a:pt x="2871" y="311"/>
                  </a:lnTo>
                  <a:lnTo>
                    <a:pt x="2873" y="329"/>
                  </a:lnTo>
                  <a:close/>
                </a:path>
              </a:pathLst>
            </a:custGeom>
            <a:solidFill>
              <a:srgbClr val="fb4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90440" y="6518160"/>
              <a:ext cx="315360" cy="81360"/>
            </a:xfrm>
            <a:custGeom>
              <a:avLst/>
              <a:gdLst/>
              <a:ahLst/>
              <a:rect l="l" t="t" r="r" b="b"/>
              <a:pathLst>
                <a:path w="2870" h="674">
                  <a:moveTo>
                    <a:pt x="2870" y="328"/>
                  </a:moveTo>
                  <a:lnTo>
                    <a:pt x="2868" y="346"/>
                  </a:lnTo>
                  <a:lnTo>
                    <a:pt x="2862" y="363"/>
                  </a:lnTo>
                  <a:lnTo>
                    <a:pt x="2852" y="381"/>
                  </a:lnTo>
                  <a:lnTo>
                    <a:pt x="2840" y="397"/>
                  </a:lnTo>
                  <a:lnTo>
                    <a:pt x="2824" y="414"/>
                  </a:lnTo>
                  <a:lnTo>
                    <a:pt x="2805" y="431"/>
                  </a:lnTo>
                  <a:lnTo>
                    <a:pt x="2782" y="447"/>
                  </a:lnTo>
                  <a:lnTo>
                    <a:pt x="2756" y="463"/>
                  </a:lnTo>
                  <a:lnTo>
                    <a:pt x="2727" y="478"/>
                  </a:lnTo>
                  <a:lnTo>
                    <a:pt x="2696" y="493"/>
                  </a:lnTo>
                  <a:lnTo>
                    <a:pt x="2662" y="507"/>
                  </a:lnTo>
                  <a:lnTo>
                    <a:pt x="2624" y="521"/>
                  </a:lnTo>
                  <a:lnTo>
                    <a:pt x="2584" y="536"/>
                  </a:lnTo>
                  <a:lnTo>
                    <a:pt x="2541" y="549"/>
                  </a:lnTo>
                  <a:lnTo>
                    <a:pt x="2496" y="561"/>
                  </a:lnTo>
                  <a:lnTo>
                    <a:pt x="2448" y="573"/>
                  </a:lnTo>
                  <a:lnTo>
                    <a:pt x="2399" y="584"/>
                  </a:lnTo>
                  <a:lnTo>
                    <a:pt x="2347" y="595"/>
                  </a:lnTo>
                  <a:lnTo>
                    <a:pt x="2293" y="605"/>
                  </a:lnTo>
                  <a:lnTo>
                    <a:pt x="2236" y="615"/>
                  </a:lnTo>
                  <a:lnTo>
                    <a:pt x="2179" y="624"/>
                  </a:lnTo>
                  <a:lnTo>
                    <a:pt x="2118" y="633"/>
                  </a:lnTo>
                  <a:lnTo>
                    <a:pt x="2057" y="641"/>
                  </a:lnTo>
                  <a:lnTo>
                    <a:pt x="1993" y="647"/>
                  </a:lnTo>
                  <a:lnTo>
                    <a:pt x="1927" y="654"/>
                  </a:lnTo>
                  <a:lnTo>
                    <a:pt x="1861" y="659"/>
                  </a:lnTo>
                  <a:lnTo>
                    <a:pt x="1793" y="664"/>
                  </a:lnTo>
                  <a:lnTo>
                    <a:pt x="1723" y="667"/>
                  </a:lnTo>
                  <a:lnTo>
                    <a:pt x="1653" y="670"/>
                  </a:lnTo>
                  <a:lnTo>
                    <a:pt x="1581" y="673"/>
                  </a:lnTo>
                  <a:lnTo>
                    <a:pt x="1508" y="674"/>
                  </a:lnTo>
                  <a:lnTo>
                    <a:pt x="1434" y="674"/>
                  </a:lnTo>
                  <a:lnTo>
                    <a:pt x="1361" y="674"/>
                  </a:lnTo>
                  <a:lnTo>
                    <a:pt x="1288" y="673"/>
                  </a:lnTo>
                  <a:lnTo>
                    <a:pt x="1216" y="670"/>
                  </a:lnTo>
                  <a:lnTo>
                    <a:pt x="1146" y="667"/>
                  </a:lnTo>
                  <a:lnTo>
                    <a:pt x="1076" y="664"/>
                  </a:lnTo>
                  <a:lnTo>
                    <a:pt x="1008" y="659"/>
                  </a:lnTo>
                  <a:lnTo>
                    <a:pt x="942" y="654"/>
                  </a:lnTo>
                  <a:lnTo>
                    <a:pt x="876" y="647"/>
                  </a:lnTo>
                  <a:lnTo>
                    <a:pt x="812" y="641"/>
                  </a:lnTo>
                  <a:lnTo>
                    <a:pt x="751" y="633"/>
                  </a:lnTo>
                  <a:lnTo>
                    <a:pt x="691" y="624"/>
                  </a:lnTo>
                  <a:lnTo>
                    <a:pt x="633" y="615"/>
                  </a:lnTo>
                  <a:lnTo>
                    <a:pt x="576" y="605"/>
                  </a:lnTo>
                  <a:lnTo>
                    <a:pt x="522" y="595"/>
                  </a:lnTo>
                  <a:lnTo>
                    <a:pt x="470" y="584"/>
                  </a:lnTo>
                  <a:lnTo>
                    <a:pt x="420" y="573"/>
                  </a:lnTo>
                  <a:lnTo>
                    <a:pt x="373" y="561"/>
                  </a:lnTo>
                  <a:lnTo>
                    <a:pt x="328" y="549"/>
                  </a:lnTo>
                  <a:lnTo>
                    <a:pt x="285" y="536"/>
                  </a:lnTo>
                  <a:lnTo>
                    <a:pt x="245" y="521"/>
                  </a:lnTo>
                  <a:lnTo>
                    <a:pt x="207" y="507"/>
                  </a:lnTo>
                  <a:lnTo>
                    <a:pt x="173" y="493"/>
                  </a:lnTo>
                  <a:lnTo>
                    <a:pt x="142" y="478"/>
                  </a:lnTo>
                  <a:lnTo>
                    <a:pt x="112" y="463"/>
                  </a:lnTo>
                  <a:lnTo>
                    <a:pt x="87" y="447"/>
                  </a:lnTo>
                  <a:lnTo>
                    <a:pt x="65" y="431"/>
                  </a:lnTo>
                  <a:lnTo>
                    <a:pt x="45" y="414"/>
                  </a:lnTo>
                  <a:lnTo>
                    <a:pt x="30" y="397"/>
                  </a:lnTo>
                  <a:lnTo>
                    <a:pt x="17" y="381"/>
                  </a:lnTo>
                  <a:lnTo>
                    <a:pt x="7" y="363"/>
                  </a:lnTo>
                  <a:lnTo>
                    <a:pt x="2" y="346"/>
                  </a:lnTo>
                  <a:lnTo>
                    <a:pt x="0" y="328"/>
                  </a:lnTo>
                  <a:lnTo>
                    <a:pt x="2" y="310"/>
                  </a:lnTo>
                  <a:lnTo>
                    <a:pt x="7" y="292"/>
                  </a:lnTo>
                  <a:lnTo>
                    <a:pt x="17" y="276"/>
                  </a:lnTo>
                  <a:lnTo>
                    <a:pt x="30" y="259"/>
                  </a:lnTo>
                  <a:lnTo>
                    <a:pt x="45" y="243"/>
                  </a:lnTo>
                  <a:lnTo>
                    <a:pt x="65" y="227"/>
                  </a:lnTo>
                  <a:lnTo>
                    <a:pt x="87" y="212"/>
                  </a:lnTo>
                  <a:lnTo>
                    <a:pt x="112" y="196"/>
                  </a:lnTo>
                  <a:lnTo>
                    <a:pt x="142" y="181"/>
                  </a:lnTo>
                  <a:lnTo>
                    <a:pt x="173" y="167"/>
                  </a:lnTo>
                  <a:lnTo>
                    <a:pt x="207" y="153"/>
                  </a:lnTo>
                  <a:lnTo>
                    <a:pt x="245" y="140"/>
                  </a:lnTo>
                  <a:lnTo>
                    <a:pt x="285" y="127"/>
                  </a:lnTo>
                  <a:lnTo>
                    <a:pt x="328" y="115"/>
                  </a:lnTo>
                  <a:lnTo>
                    <a:pt x="373" y="104"/>
                  </a:lnTo>
                  <a:lnTo>
                    <a:pt x="420" y="91"/>
                  </a:lnTo>
                  <a:lnTo>
                    <a:pt x="470" y="81"/>
                  </a:lnTo>
                  <a:lnTo>
                    <a:pt x="522" y="71"/>
                  </a:lnTo>
                  <a:lnTo>
                    <a:pt x="576" y="62"/>
                  </a:lnTo>
                  <a:lnTo>
                    <a:pt x="633" y="53"/>
                  </a:lnTo>
                  <a:lnTo>
                    <a:pt x="691" y="45"/>
                  </a:lnTo>
                  <a:lnTo>
                    <a:pt x="751" y="37"/>
                  </a:lnTo>
                  <a:lnTo>
                    <a:pt x="812" y="30"/>
                  </a:lnTo>
                  <a:lnTo>
                    <a:pt x="876" y="24"/>
                  </a:lnTo>
                  <a:lnTo>
                    <a:pt x="942" y="18"/>
                  </a:lnTo>
                  <a:lnTo>
                    <a:pt x="1008" y="14"/>
                  </a:lnTo>
                  <a:lnTo>
                    <a:pt x="1076" y="9"/>
                  </a:lnTo>
                  <a:lnTo>
                    <a:pt x="1146" y="6"/>
                  </a:lnTo>
                  <a:lnTo>
                    <a:pt x="1216" y="3"/>
                  </a:lnTo>
                  <a:lnTo>
                    <a:pt x="1288" y="1"/>
                  </a:lnTo>
                  <a:lnTo>
                    <a:pt x="1361" y="0"/>
                  </a:lnTo>
                  <a:lnTo>
                    <a:pt x="1434" y="0"/>
                  </a:lnTo>
                  <a:lnTo>
                    <a:pt x="1508" y="0"/>
                  </a:lnTo>
                  <a:lnTo>
                    <a:pt x="1581" y="1"/>
                  </a:lnTo>
                  <a:lnTo>
                    <a:pt x="1653" y="3"/>
                  </a:lnTo>
                  <a:lnTo>
                    <a:pt x="1723" y="6"/>
                  </a:lnTo>
                  <a:lnTo>
                    <a:pt x="1793" y="9"/>
                  </a:lnTo>
                  <a:lnTo>
                    <a:pt x="1861" y="14"/>
                  </a:lnTo>
                  <a:lnTo>
                    <a:pt x="1927" y="18"/>
                  </a:lnTo>
                  <a:lnTo>
                    <a:pt x="1993" y="24"/>
                  </a:lnTo>
                  <a:lnTo>
                    <a:pt x="2057" y="30"/>
                  </a:lnTo>
                  <a:lnTo>
                    <a:pt x="2118" y="37"/>
                  </a:lnTo>
                  <a:lnTo>
                    <a:pt x="2179" y="45"/>
                  </a:lnTo>
                  <a:lnTo>
                    <a:pt x="2236" y="53"/>
                  </a:lnTo>
                  <a:lnTo>
                    <a:pt x="2293" y="62"/>
                  </a:lnTo>
                  <a:lnTo>
                    <a:pt x="2347" y="71"/>
                  </a:lnTo>
                  <a:lnTo>
                    <a:pt x="2399" y="81"/>
                  </a:lnTo>
                  <a:lnTo>
                    <a:pt x="2448" y="91"/>
                  </a:lnTo>
                  <a:lnTo>
                    <a:pt x="2496" y="104"/>
                  </a:lnTo>
                  <a:lnTo>
                    <a:pt x="2541" y="115"/>
                  </a:lnTo>
                  <a:lnTo>
                    <a:pt x="2584" y="127"/>
                  </a:lnTo>
                  <a:lnTo>
                    <a:pt x="2624" y="140"/>
                  </a:lnTo>
                  <a:lnTo>
                    <a:pt x="2662" y="153"/>
                  </a:lnTo>
                  <a:lnTo>
                    <a:pt x="2696" y="167"/>
                  </a:lnTo>
                  <a:lnTo>
                    <a:pt x="2727" y="181"/>
                  </a:lnTo>
                  <a:lnTo>
                    <a:pt x="2756" y="196"/>
                  </a:lnTo>
                  <a:lnTo>
                    <a:pt x="2782" y="212"/>
                  </a:lnTo>
                  <a:lnTo>
                    <a:pt x="2805" y="227"/>
                  </a:lnTo>
                  <a:lnTo>
                    <a:pt x="2824" y="243"/>
                  </a:lnTo>
                  <a:lnTo>
                    <a:pt x="2840" y="259"/>
                  </a:lnTo>
                  <a:lnTo>
                    <a:pt x="2852" y="276"/>
                  </a:lnTo>
                  <a:lnTo>
                    <a:pt x="2862" y="292"/>
                  </a:lnTo>
                  <a:lnTo>
                    <a:pt x="2868" y="310"/>
                  </a:lnTo>
                  <a:lnTo>
                    <a:pt x="2870" y="328"/>
                  </a:lnTo>
                  <a:close/>
                </a:path>
              </a:pathLst>
            </a:custGeom>
            <a:solidFill>
              <a:srgbClr val="fb4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90440" y="6518160"/>
              <a:ext cx="315360" cy="79920"/>
            </a:xfrm>
            <a:custGeom>
              <a:avLst/>
              <a:gdLst/>
              <a:ahLst/>
              <a:rect l="l" t="t" r="r" b="b"/>
              <a:pathLst>
                <a:path w="2867" h="672">
                  <a:moveTo>
                    <a:pt x="2867" y="327"/>
                  </a:moveTo>
                  <a:lnTo>
                    <a:pt x="2865" y="345"/>
                  </a:lnTo>
                  <a:lnTo>
                    <a:pt x="2859" y="362"/>
                  </a:lnTo>
                  <a:lnTo>
                    <a:pt x="2850" y="379"/>
                  </a:lnTo>
                  <a:lnTo>
                    <a:pt x="2837" y="396"/>
                  </a:lnTo>
                  <a:lnTo>
                    <a:pt x="2821" y="413"/>
                  </a:lnTo>
                  <a:lnTo>
                    <a:pt x="2802" y="430"/>
                  </a:lnTo>
                  <a:lnTo>
                    <a:pt x="2780" y="446"/>
                  </a:lnTo>
                  <a:lnTo>
                    <a:pt x="2754" y="462"/>
                  </a:lnTo>
                  <a:lnTo>
                    <a:pt x="2725" y="477"/>
                  </a:lnTo>
                  <a:lnTo>
                    <a:pt x="2694" y="491"/>
                  </a:lnTo>
                  <a:lnTo>
                    <a:pt x="2660" y="506"/>
                  </a:lnTo>
                  <a:lnTo>
                    <a:pt x="2622" y="520"/>
                  </a:lnTo>
                  <a:lnTo>
                    <a:pt x="2582" y="534"/>
                  </a:lnTo>
                  <a:lnTo>
                    <a:pt x="2539" y="547"/>
                  </a:lnTo>
                  <a:lnTo>
                    <a:pt x="2494" y="559"/>
                  </a:lnTo>
                  <a:lnTo>
                    <a:pt x="2446" y="571"/>
                  </a:lnTo>
                  <a:lnTo>
                    <a:pt x="2397" y="583"/>
                  </a:lnTo>
                  <a:lnTo>
                    <a:pt x="2345" y="593"/>
                  </a:lnTo>
                  <a:lnTo>
                    <a:pt x="2291" y="604"/>
                  </a:lnTo>
                  <a:lnTo>
                    <a:pt x="2234" y="613"/>
                  </a:lnTo>
                  <a:lnTo>
                    <a:pt x="2177" y="622"/>
                  </a:lnTo>
                  <a:lnTo>
                    <a:pt x="2116" y="630"/>
                  </a:lnTo>
                  <a:lnTo>
                    <a:pt x="2055" y="639"/>
                  </a:lnTo>
                  <a:lnTo>
                    <a:pt x="1991" y="646"/>
                  </a:lnTo>
                  <a:lnTo>
                    <a:pt x="1926" y="652"/>
                  </a:lnTo>
                  <a:lnTo>
                    <a:pt x="1860" y="657"/>
                  </a:lnTo>
                  <a:lnTo>
                    <a:pt x="1792" y="662"/>
                  </a:lnTo>
                  <a:lnTo>
                    <a:pt x="1722" y="666"/>
                  </a:lnTo>
                  <a:lnTo>
                    <a:pt x="1652" y="669"/>
                  </a:lnTo>
                  <a:lnTo>
                    <a:pt x="1580" y="671"/>
                  </a:lnTo>
                  <a:lnTo>
                    <a:pt x="1507" y="672"/>
                  </a:lnTo>
                  <a:lnTo>
                    <a:pt x="1433" y="672"/>
                  </a:lnTo>
                  <a:lnTo>
                    <a:pt x="1360" y="672"/>
                  </a:lnTo>
                  <a:lnTo>
                    <a:pt x="1287" y="671"/>
                  </a:lnTo>
                  <a:lnTo>
                    <a:pt x="1215" y="669"/>
                  </a:lnTo>
                  <a:lnTo>
                    <a:pt x="1145" y="666"/>
                  </a:lnTo>
                  <a:lnTo>
                    <a:pt x="1075" y="662"/>
                  </a:lnTo>
                  <a:lnTo>
                    <a:pt x="1007" y="657"/>
                  </a:lnTo>
                  <a:lnTo>
                    <a:pt x="941" y="652"/>
                  </a:lnTo>
                  <a:lnTo>
                    <a:pt x="876" y="646"/>
                  </a:lnTo>
                  <a:lnTo>
                    <a:pt x="812" y="639"/>
                  </a:lnTo>
                  <a:lnTo>
                    <a:pt x="751" y="630"/>
                  </a:lnTo>
                  <a:lnTo>
                    <a:pt x="690" y="622"/>
                  </a:lnTo>
                  <a:lnTo>
                    <a:pt x="633" y="613"/>
                  </a:lnTo>
                  <a:lnTo>
                    <a:pt x="576" y="604"/>
                  </a:lnTo>
                  <a:lnTo>
                    <a:pt x="521" y="593"/>
                  </a:lnTo>
                  <a:lnTo>
                    <a:pt x="470" y="583"/>
                  </a:lnTo>
                  <a:lnTo>
                    <a:pt x="420" y="571"/>
                  </a:lnTo>
                  <a:lnTo>
                    <a:pt x="373" y="559"/>
                  </a:lnTo>
                  <a:lnTo>
                    <a:pt x="328" y="547"/>
                  </a:lnTo>
                  <a:lnTo>
                    <a:pt x="285" y="534"/>
                  </a:lnTo>
                  <a:lnTo>
                    <a:pt x="245" y="520"/>
                  </a:lnTo>
                  <a:lnTo>
                    <a:pt x="208" y="506"/>
                  </a:lnTo>
                  <a:lnTo>
                    <a:pt x="173" y="491"/>
                  </a:lnTo>
                  <a:lnTo>
                    <a:pt x="142" y="477"/>
                  </a:lnTo>
                  <a:lnTo>
                    <a:pt x="113" y="462"/>
                  </a:lnTo>
                  <a:lnTo>
                    <a:pt x="87" y="446"/>
                  </a:lnTo>
                  <a:lnTo>
                    <a:pt x="65" y="430"/>
                  </a:lnTo>
                  <a:lnTo>
                    <a:pt x="46" y="413"/>
                  </a:lnTo>
                  <a:lnTo>
                    <a:pt x="30" y="396"/>
                  </a:lnTo>
                  <a:lnTo>
                    <a:pt x="17" y="379"/>
                  </a:lnTo>
                  <a:lnTo>
                    <a:pt x="7" y="362"/>
                  </a:lnTo>
                  <a:lnTo>
                    <a:pt x="2" y="345"/>
                  </a:lnTo>
                  <a:lnTo>
                    <a:pt x="0" y="327"/>
                  </a:lnTo>
                  <a:lnTo>
                    <a:pt x="2" y="309"/>
                  </a:lnTo>
                  <a:lnTo>
                    <a:pt x="7" y="292"/>
                  </a:lnTo>
                  <a:lnTo>
                    <a:pt x="17" y="275"/>
                  </a:lnTo>
                  <a:lnTo>
                    <a:pt x="30" y="258"/>
                  </a:lnTo>
                  <a:lnTo>
                    <a:pt x="46" y="242"/>
                  </a:lnTo>
                  <a:lnTo>
                    <a:pt x="65" y="226"/>
                  </a:lnTo>
                  <a:lnTo>
                    <a:pt x="87" y="211"/>
                  </a:lnTo>
                  <a:lnTo>
                    <a:pt x="113" y="195"/>
                  </a:lnTo>
                  <a:lnTo>
                    <a:pt x="142" y="180"/>
                  </a:lnTo>
                  <a:lnTo>
                    <a:pt x="173" y="166"/>
                  </a:lnTo>
                  <a:lnTo>
                    <a:pt x="208" y="153"/>
                  </a:lnTo>
                  <a:lnTo>
                    <a:pt x="245" y="140"/>
                  </a:lnTo>
                  <a:lnTo>
                    <a:pt x="285" y="127"/>
                  </a:lnTo>
                  <a:lnTo>
                    <a:pt x="328" y="115"/>
                  </a:lnTo>
                  <a:lnTo>
                    <a:pt x="373" y="103"/>
                  </a:lnTo>
                  <a:lnTo>
                    <a:pt x="420" y="91"/>
                  </a:lnTo>
                  <a:lnTo>
                    <a:pt x="470" y="81"/>
                  </a:lnTo>
                  <a:lnTo>
                    <a:pt x="521" y="71"/>
                  </a:lnTo>
                  <a:lnTo>
                    <a:pt x="576" y="61"/>
                  </a:lnTo>
                  <a:lnTo>
                    <a:pt x="633" y="53"/>
                  </a:lnTo>
                  <a:lnTo>
                    <a:pt x="690" y="44"/>
                  </a:lnTo>
                  <a:lnTo>
                    <a:pt x="751" y="37"/>
                  </a:lnTo>
                  <a:lnTo>
                    <a:pt x="812" y="30"/>
                  </a:lnTo>
                  <a:lnTo>
                    <a:pt x="876" y="24"/>
                  </a:lnTo>
                  <a:lnTo>
                    <a:pt x="941" y="18"/>
                  </a:lnTo>
                  <a:lnTo>
                    <a:pt x="1007" y="13"/>
                  </a:lnTo>
                  <a:lnTo>
                    <a:pt x="1075" y="9"/>
                  </a:lnTo>
                  <a:lnTo>
                    <a:pt x="1145" y="6"/>
                  </a:lnTo>
                  <a:lnTo>
                    <a:pt x="1215" y="3"/>
                  </a:lnTo>
                  <a:lnTo>
                    <a:pt x="1287" y="1"/>
                  </a:lnTo>
                  <a:lnTo>
                    <a:pt x="1360" y="0"/>
                  </a:lnTo>
                  <a:lnTo>
                    <a:pt x="1433" y="0"/>
                  </a:lnTo>
                  <a:lnTo>
                    <a:pt x="1507" y="0"/>
                  </a:lnTo>
                  <a:lnTo>
                    <a:pt x="1580" y="1"/>
                  </a:lnTo>
                  <a:lnTo>
                    <a:pt x="1652" y="3"/>
                  </a:lnTo>
                  <a:lnTo>
                    <a:pt x="1722" y="6"/>
                  </a:lnTo>
                  <a:lnTo>
                    <a:pt x="1792" y="9"/>
                  </a:lnTo>
                  <a:lnTo>
                    <a:pt x="1860" y="13"/>
                  </a:lnTo>
                  <a:lnTo>
                    <a:pt x="1926" y="18"/>
                  </a:lnTo>
                  <a:lnTo>
                    <a:pt x="1991" y="24"/>
                  </a:lnTo>
                  <a:lnTo>
                    <a:pt x="2055" y="30"/>
                  </a:lnTo>
                  <a:lnTo>
                    <a:pt x="2116" y="37"/>
                  </a:lnTo>
                  <a:lnTo>
                    <a:pt x="2177" y="44"/>
                  </a:lnTo>
                  <a:lnTo>
                    <a:pt x="2234" y="53"/>
                  </a:lnTo>
                  <a:lnTo>
                    <a:pt x="2291" y="61"/>
                  </a:lnTo>
                  <a:lnTo>
                    <a:pt x="2345" y="71"/>
                  </a:lnTo>
                  <a:lnTo>
                    <a:pt x="2397" y="81"/>
                  </a:lnTo>
                  <a:lnTo>
                    <a:pt x="2446" y="91"/>
                  </a:lnTo>
                  <a:lnTo>
                    <a:pt x="2494" y="103"/>
                  </a:lnTo>
                  <a:lnTo>
                    <a:pt x="2539" y="115"/>
                  </a:lnTo>
                  <a:lnTo>
                    <a:pt x="2582" y="127"/>
                  </a:lnTo>
                  <a:lnTo>
                    <a:pt x="2622" y="140"/>
                  </a:lnTo>
                  <a:lnTo>
                    <a:pt x="2660" y="153"/>
                  </a:lnTo>
                  <a:lnTo>
                    <a:pt x="2694" y="166"/>
                  </a:lnTo>
                  <a:lnTo>
                    <a:pt x="2725" y="180"/>
                  </a:lnTo>
                  <a:lnTo>
                    <a:pt x="2754" y="195"/>
                  </a:lnTo>
                  <a:lnTo>
                    <a:pt x="2780" y="211"/>
                  </a:lnTo>
                  <a:lnTo>
                    <a:pt x="2802" y="226"/>
                  </a:lnTo>
                  <a:lnTo>
                    <a:pt x="2821" y="242"/>
                  </a:lnTo>
                  <a:lnTo>
                    <a:pt x="2837" y="258"/>
                  </a:lnTo>
                  <a:lnTo>
                    <a:pt x="2850" y="275"/>
                  </a:lnTo>
                  <a:lnTo>
                    <a:pt x="2859" y="292"/>
                  </a:lnTo>
                  <a:lnTo>
                    <a:pt x="2865" y="309"/>
                  </a:lnTo>
                  <a:lnTo>
                    <a:pt x="2867" y="327"/>
                  </a:lnTo>
                  <a:close/>
                </a:path>
              </a:pathLst>
            </a:custGeom>
            <a:solidFill>
              <a:srgbClr val="fb4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990440" y="6518160"/>
              <a:ext cx="315360" cy="79920"/>
            </a:xfrm>
            <a:custGeom>
              <a:avLst/>
              <a:gdLst/>
              <a:ahLst/>
              <a:rect l="l" t="t" r="r" b="b"/>
              <a:pathLst>
                <a:path w="2864" h="671">
                  <a:moveTo>
                    <a:pt x="2864" y="326"/>
                  </a:moveTo>
                  <a:lnTo>
                    <a:pt x="2862" y="344"/>
                  </a:lnTo>
                  <a:lnTo>
                    <a:pt x="2855" y="361"/>
                  </a:lnTo>
                  <a:lnTo>
                    <a:pt x="2846" y="378"/>
                  </a:lnTo>
                  <a:lnTo>
                    <a:pt x="2834" y="395"/>
                  </a:lnTo>
                  <a:lnTo>
                    <a:pt x="2818" y="412"/>
                  </a:lnTo>
                  <a:lnTo>
                    <a:pt x="2799" y="429"/>
                  </a:lnTo>
                  <a:lnTo>
                    <a:pt x="2777" y="445"/>
                  </a:lnTo>
                  <a:lnTo>
                    <a:pt x="2750" y="460"/>
                  </a:lnTo>
                  <a:lnTo>
                    <a:pt x="2722" y="475"/>
                  </a:lnTo>
                  <a:lnTo>
                    <a:pt x="2691" y="490"/>
                  </a:lnTo>
                  <a:lnTo>
                    <a:pt x="2656" y="504"/>
                  </a:lnTo>
                  <a:lnTo>
                    <a:pt x="2619" y="518"/>
                  </a:lnTo>
                  <a:lnTo>
                    <a:pt x="2579" y="533"/>
                  </a:lnTo>
                  <a:lnTo>
                    <a:pt x="2536" y="545"/>
                  </a:lnTo>
                  <a:lnTo>
                    <a:pt x="2491" y="558"/>
                  </a:lnTo>
                  <a:lnTo>
                    <a:pt x="2443" y="570"/>
                  </a:lnTo>
                  <a:lnTo>
                    <a:pt x="2394" y="581"/>
                  </a:lnTo>
                  <a:lnTo>
                    <a:pt x="2342" y="592"/>
                  </a:lnTo>
                  <a:lnTo>
                    <a:pt x="2288" y="602"/>
                  </a:lnTo>
                  <a:lnTo>
                    <a:pt x="2232" y="611"/>
                  </a:lnTo>
                  <a:lnTo>
                    <a:pt x="2174" y="620"/>
                  </a:lnTo>
                  <a:lnTo>
                    <a:pt x="2114" y="628"/>
                  </a:lnTo>
                  <a:lnTo>
                    <a:pt x="2053" y="637"/>
                  </a:lnTo>
                  <a:lnTo>
                    <a:pt x="1989" y="644"/>
                  </a:lnTo>
                  <a:lnTo>
                    <a:pt x="1923" y="650"/>
                  </a:lnTo>
                  <a:lnTo>
                    <a:pt x="1858" y="655"/>
                  </a:lnTo>
                  <a:lnTo>
                    <a:pt x="1789" y="660"/>
                  </a:lnTo>
                  <a:lnTo>
                    <a:pt x="1720" y="664"/>
                  </a:lnTo>
                  <a:lnTo>
                    <a:pt x="1650" y="667"/>
                  </a:lnTo>
                  <a:lnTo>
                    <a:pt x="1578" y="669"/>
                  </a:lnTo>
                  <a:lnTo>
                    <a:pt x="1505" y="670"/>
                  </a:lnTo>
                  <a:lnTo>
                    <a:pt x="1431" y="671"/>
                  </a:lnTo>
                  <a:lnTo>
                    <a:pt x="1358" y="670"/>
                  </a:lnTo>
                  <a:lnTo>
                    <a:pt x="1285" y="669"/>
                  </a:lnTo>
                  <a:lnTo>
                    <a:pt x="1213" y="667"/>
                  </a:lnTo>
                  <a:lnTo>
                    <a:pt x="1143" y="664"/>
                  </a:lnTo>
                  <a:lnTo>
                    <a:pt x="1074" y="660"/>
                  </a:lnTo>
                  <a:lnTo>
                    <a:pt x="1006" y="655"/>
                  </a:lnTo>
                  <a:lnTo>
                    <a:pt x="940" y="650"/>
                  </a:lnTo>
                  <a:lnTo>
                    <a:pt x="874" y="644"/>
                  </a:lnTo>
                  <a:lnTo>
                    <a:pt x="810" y="637"/>
                  </a:lnTo>
                  <a:lnTo>
                    <a:pt x="749" y="628"/>
                  </a:lnTo>
                  <a:lnTo>
                    <a:pt x="689" y="620"/>
                  </a:lnTo>
                  <a:lnTo>
                    <a:pt x="632" y="611"/>
                  </a:lnTo>
                  <a:lnTo>
                    <a:pt x="575" y="602"/>
                  </a:lnTo>
                  <a:lnTo>
                    <a:pt x="520" y="592"/>
                  </a:lnTo>
                  <a:lnTo>
                    <a:pt x="469" y="581"/>
                  </a:lnTo>
                  <a:lnTo>
                    <a:pt x="420" y="570"/>
                  </a:lnTo>
                  <a:lnTo>
                    <a:pt x="372" y="558"/>
                  </a:lnTo>
                  <a:lnTo>
                    <a:pt x="327" y="545"/>
                  </a:lnTo>
                  <a:lnTo>
                    <a:pt x="284" y="533"/>
                  </a:lnTo>
                  <a:lnTo>
                    <a:pt x="245" y="518"/>
                  </a:lnTo>
                  <a:lnTo>
                    <a:pt x="207" y="504"/>
                  </a:lnTo>
                  <a:lnTo>
                    <a:pt x="173" y="490"/>
                  </a:lnTo>
                  <a:lnTo>
                    <a:pt x="141" y="475"/>
                  </a:lnTo>
                  <a:lnTo>
                    <a:pt x="112" y="460"/>
                  </a:lnTo>
                  <a:lnTo>
                    <a:pt x="87" y="445"/>
                  </a:lnTo>
                  <a:lnTo>
                    <a:pt x="64" y="429"/>
                  </a:lnTo>
                  <a:lnTo>
                    <a:pt x="45" y="412"/>
                  </a:lnTo>
                  <a:lnTo>
                    <a:pt x="29" y="395"/>
                  </a:lnTo>
                  <a:lnTo>
                    <a:pt x="17" y="378"/>
                  </a:lnTo>
                  <a:lnTo>
                    <a:pt x="7" y="361"/>
                  </a:lnTo>
                  <a:lnTo>
                    <a:pt x="1" y="344"/>
                  </a:lnTo>
                  <a:lnTo>
                    <a:pt x="0" y="326"/>
                  </a:lnTo>
                  <a:lnTo>
                    <a:pt x="1" y="308"/>
                  </a:lnTo>
                  <a:lnTo>
                    <a:pt x="7" y="291"/>
                  </a:lnTo>
                  <a:lnTo>
                    <a:pt x="17" y="274"/>
                  </a:lnTo>
                  <a:lnTo>
                    <a:pt x="29" y="257"/>
                  </a:lnTo>
                  <a:lnTo>
                    <a:pt x="45" y="241"/>
                  </a:lnTo>
                  <a:lnTo>
                    <a:pt x="64" y="226"/>
                  </a:lnTo>
                  <a:lnTo>
                    <a:pt x="87" y="210"/>
                  </a:lnTo>
                  <a:lnTo>
                    <a:pt x="112" y="194"/>
                  </a:lnTo>
                  <a:lnTo>
                    <a:pt x="141" y="180"/>
                  </a:lnTo>
                  <a:lnTo>
                    <a:pt x="173" y="166"/>
                  </a:lnTo>
                  <a:lnTo>
                    <a:pt x="207" y="152"/>
                  </a:lnTo>
                  <a:lnTo>
                    <a:pt x="245" y="139"/>
                  </a:lnTo>
                  <a:lnTo>
                    <a:pt x="284" y="127"/>
                  </a:lnTo>
                  <a:lnTo>
                    <a:pt x="327" y="114"/>
                  </a:lnTo>
                  <a:lnTo>
                    <a:pt x="372" y="103"/>
                  </a:lnTo>
                  <a:lnTo>
                    <a:pt x="420" y="91"/>
                  </a:lnTo>
                  <a:lnTo>
                    <a:pt x="469" y="80"/>
                  </a:lnTo>
                  <a:lnTo>
                    <a:pt x="520" y="70"/>
                  </a:lnTo>
                  <a:lnTo>
                    <a:pt x="575" y="61"/>
                  </a:lnTo>
                  <a:lnTo>
                    <a:pt x="632" y="52"/>
                  </a:lnTo>
                  <a:lnTo>
                    <a:pt x="689" y="44"/>
                  </a:lnTo>
                  <a:lnTo>
                    <a:pt x="749" y="37"/>
                  </a:lnTo>
                  <a:lnTo>
                    <a:pt x="810" y="30"/>
                  </a:lnTo>
                  <a:lnTo>
                    <a:pt x="874" y="24"/>
                  </a:lnTo>
                  <a:lnTo>
                    <a:pt x="940" y="18"/>
                  </a:lnTo>
                  <a:lnTo>
                    <a:pt x="1006" y="13"/>
                  </a:lnTo>
                  <a:lnTo>
                    <a:pt x="1074" y="9"/>
                  </a:lnTo>
                  <a:lnTo>
                    <a:pt x="1143" y="6"/>
                  </a:lnTo>
                  <a:lnTo>
                    <a:pt x="1213" y="3"/>
                  </a:lnTo>
                  <a:lnTo>
                    <a:pt x="1285" y="1"/>
                  </a:lnTo>
                  <a:lnTo>
                    <a:pt x="1358" y="0"/>
                  </a:lnTo>
                  <a:lnTo>
                    <a:pt x="1431" y="0"/>
                  </a:lnTo>
                  <a:lnTo>
                    <a:pt x="1505" y="0"/>
                  </a:lnTo>
                  <a:lnTo>
                    <a:pt x="1578" y="1"/>
                  </a:lnTo>
                  <a:lnTo>
                    <a:pt x="1650" y="3"/>
                  </a:lnTo>
                  <a:lnTo>
                    <a:pt x="1720" y="6"/>
                  </a:lnTo>
                  <a:lnTo>
                    <a:pt x="1789" y="9"/>
                  </a:lnTo>
                  <a:lnTo>
                    <a:pt x="1858" y="13"/>
                  </a:lnTo>
                  <a:lnTo>
                    <a:pt x="1923" y="18"/>
                  </a:lnTo>
                  <a:lnTo>
                    <a:pt x="1989" y="24"/>
                  </a:lnTo>
                  <a:lnTo>
                    <a:pt x="2053" y="30"/>
                  </a:lnTo>
                  <a:lnTo>
                    <a:pt x="2114" y="37"/>
                  </a:lnTo>
                  <a:lnTo>
                    <a:pt x="2174" y="44"/>
                  </a:lnTo>
                  <a:lnTo>
                    <a:pt x="2232" y="52"/>
                  </a:lnTo>
                  <a:lnTo>
                    <a:pt x="2288" y="61"/>
                  </a:lnTo>
                  <a:lnTo>
                    <a:pt x="2342" y="70"/>
                  </a:lnTo>
                  <a:lnTo>
                    <a:pt x="2394" y="80"/>
                  </a:lnTo>
                  <a:lnTo>
                    <a:pt x="2443" y="91"/>
                  </a:lnTo>
                  <a:lnTo>
                    <a:pt x="2491" y="103"/>
                  </a:lnTo>
                  <a:lnTo>
                    <a:pt x="2536" y="114"/>
                  </a:lnTo>
                  <a:lnTo>
                    <a:pt x="2579" y="127"/>
                  </a:lnTo>
                  <a:lnTo>
                    <a:pt x="2619" y="139"/>
                  </a:lnTo>
                  <a:lnTo>
                    <a:pt x="2656" y="152"/>
                  </a:lnTo>
                  <a:lnTo>
                    <a:pt x="2691" y="166"/>
                  </a:lnTo>
                  <a:lnTo>
                    <a:pt x="2722" y="180"/>
                  </a:lnTo>
                  <a:lnTo>
                    <a:pt x="2750" y="194"/>
                  </a:lnTo>
                  <a:lnTo>
                    <a:pt x="2777" y="210"/>
                  </a:lnTo>
                  <a:lnTo>
                    <a:pt x="2799" y="226"/>
                  </a:lnTo>
                  <a:lnTo>
                    <a:pt x="2818" y="241"/>
                  </a:lnTo>
                  <a:lnTo>
                    <a:pt x="2834" y="257"/>
                  </a:lnTo>
                  <a:lnTo>
                    <a:pt x="2846" y="274"/>
                  </a:lnTo>
                  <a:lnTo>
                    <a:pt x="2855" y="291"/>
                  </a:lnTo>
                  <a:lnTo>
                    <a:pt x="2862" y="308"/>
                  </a:lnTo>
                  <a:lnTo>
                    <a:pt x="2864" y="326"/>
                  </a:lnTo>
                  <a:close/>
                </a:path>
              </a:pathLst>
            </a:custGeom>
            <a:solidFill>
              <a:srgbClr val="fb4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90440" y="6519600"/>
              <a:ext cx="315360" cy="78480"/>
            </a:xfrm>
            <a:custGeom>
              <a:avLst/>
              <a:gdLst/>
              <a:ahLst/>
              <a:rect l="l" t="t" r="r" b="b"/>
              <a:pathLst>
                <a:path w="2861" h="669">
                  <a:moveTo>
                    <a:pt x="2861" y="325"/>
                  </a:moveTo>
                  <a:lnTo>
                    <a:pt x="2859" y="343"/>
                  </a:lnTo>
                  <a:lnTo>
                    <a:pt x="2853" y="360"/>
                  </a:lnTo>
                  <a:lnTo>
                    <a:pt x="2844" y="377"/>
                  </a:lnTo>
                  <a:lnTo>
                    <a:pt x="2831" y="394"/>
                  </a:lnTo>
                  <a:lnTo>
                    <a:pt x="2816" y="410"/>
                  </a:lnTo>
                  <a:lnTo>
                    <a:pt x="2797" y="428"/>
                  </a:lnTo>
                  <a:lnTo>
                    <a:pt x="2774" y="443"/>
                  </a:lnTo>
                  <a:lnTo>
                    <a:pt x="2748" y="459"/>
                  </a:lnTo>
                  <a:lnTo>
                    <a:pt x="2720" y="474"/>
                  </a:lnTo>
                  <a:lnTo>
                    <a:pt x="2688" y="489"/>
                  </a:lnTo>
                  <a:lnTo>
                    <a:pt x="2653" y="503"/>
                  </a:lnTo>
                  <a:lnTo>
                    <a:pt x="2616" y="517"/>
                  </a:lnTo>
                  <a:lnTo>
                    <a:pt x="2577" y="531"/>
                  </a:lnTo>
                  <a:lnTo>
                    <a:pt x="2534" y="544"/>
                  </a:lnTo>
                  <a:lnTo>
                    <a:pt x="2489" y="556"/>
                  </a:lnTo>
                  <a:lnTo>
                    <a:pt x="2441" y="568"/>
                  </a:lnTo>
                  <a:lnTo>
                    <a:pt x="2392" y="579"/>
                  </a:lnTo>
                  <a:lnTo>
                    <a:pt x="2340" y="590"/>
                  </a:lnTo>
                  <a:lnTo>
                    <a:pt x="2286" y="600"/>
                  </a:lnTo>
                  <a:lnTo>
                    <a:pt x="2230" y="610"/>
                  </a:lnTo>
                  <a:lnTo>
                    <a:pt x="2172" y="618"/>
                  </a:lnTo>
                  <a:lnTo>
                    <a:pt x="2112" y="627"/>
                  </a:lnTo>
                  <a:lnTo>
                    <a:pt x="2051" y="635"/>
                  </a:lnTo>
                  <a:lnTo>
                    <a:pt x="1987" y="642"/>
                  </a:lnTo>
                  <a:lnTo>
                    <a:pt x="1922" y="648"/>
                  </a:lnTo>
                  <a:lnTo>
                    <a:pt x="1856" y="653"/>
                  </a:lnTo>
                  <a:lnTo>
                    <a:pt x="1788" y="658"/>
                  </a:lnTo>
                  <a:lnTo>
                    <a:pt x="1718" y="662"/>
                  </a:lnTo>
                  <a:lnTo>
                    <a:pt x="1649" y="665"/>
                  </a:lnTo>
                  <a:lnTo>
                    <a:pt x="1577" y="667"/>
                  </a:lnTo>
                  <a:lnTo>
                    <a:pt x="1504" y="668"/>
                  </a:lnTo>
                  <a:lnTo>
                    <a:pt x="1430" y="669"/>
                  </a:lnTo>
                  <a:lnTo>
                    <a:pt x="1357" y="668"/>
                  </a:lnTo>
                  <a:lnTo>
                    <a:pt x="1284" y="667"/>
                  </a:lnTo>
                  <a:lnTo>
                    <a:pt x="1212" y="665"/>
                  </a:lnTo>
                  <a:lnTo>
                    <a:pt x="1143" y="662"/>
                  </a:lnTo>
                  <a:lnTo>
                    <a:pt x="1073" y="658"/>
                  </a:lnTo>
                  <a:lnTo>
                    <a:pt x="1005" y="653"/>
                  </a:lnTo>
                  <a:lnTo>
                    <a:pt x="939" y="648"/>
                  </a:lnTo>
                  <a:lnTo>
                    <a:pt x="874" y="642"/>
                  </a:lnTo>
                  <a:lnTo>
                    <a:pt x="810" y="635"/>
                  </a:lnTo>
                  <a:lnTo>
                    <a:pt x="749" y="627"/>
                  </a:lnTo>
                  <a:lnTo>
                    <a:pt x="689" y="618"/>
                  </a:lnTo>
                  <a:lnTo>
                    <a:pt x="631" y="610"/>
                  </a:lnTo>
                  <a:lnTo>
                    <a:pt x="575" y="600"/>
                  </a:lnTo>
                  <a:lnTo>
                    <a:pt x="521" y="590"/>
                  </a:lnTo>
                  <a:lnTo>
                    <a:pt x="469" y="579"/>
                  </a:lnTo>
                  <a:lnTo>
                    <a:pt x="420" y="568"/>
                  </a:lnTo>
                  <a:lnTo>
                    <a:pt x="372" y="556"/>
                  </a:lnTo>
                  <a:lnTo>
                    <a:pt x="327" y="544"/>
                  </a:lnTo>
                  <a:lnTo>
                    <a:pt x="284" y="531"/>
                  </a:lnTo>
                  <a:lnTo>
                    <a:pt x="245" y="517"/>
                  </a:lnTo>
                  <a:lnTo>
                    <a:pt x="207" y="503"/>
                  </a:lnTo>
                  <a:lnTo>
                    <a:pt x="173" y="489"/>
                  </a:lnTo>
                  <a:lnTo>
                    <a:pt x="142" y="474"/>
                  </a:lnTo>
                  <a:lnTo>
                    <a:pt x="112" y="459"/>
                  </a:lnTo>
                  <a:lnTo>
                    <a:pt x="87" y="443"/>
                  </a:lnTo>
                  <a:lnTo>
                    <a:pt x="65" y="428"/>
                  </a:lnTo>
                  <a:lnTo>
                    <a:pt x="46" y="410"/>
                  </a:lnTo>
                  <a:lnTo>
                    <a:pt x="30" y="394"/>
                  </a:lnTo>
                  <a:lnTo>
                    <a:pt x="17" y="377"/>
                  </a:lnTo>
                  <a:lnTo>
                    <a:pt x="7" y="360"/>
                  </a:lnTo>
                  <a:lnTo>
                    <a:pt x="2" y="343"/>
                  </a:lnTo>
                  <a:lnTo>
                    <a:pt x="0" y="325"/>
                  </a:lnTo>
                  <a:lnTo>
                    <a:pt x="2" y="307"/>
                  </a:lnTo>
                  <a:lnTo>
                    <a:pt x="7" y="290"/>
                  </a:lnTo>
                  <a:lnTo>
                    <a:pt x="17" y="273"/>
                  </a:lnTo>
                  <a:lnTo>
                    <a:pt x="30" y="257"/>
                  </a:lnTo>
                  <a:lnTo>
                    <a:pt x="46" y="240"/>
                  </a:lnTo>
                  <a:lnTo>
                    <a:pt x="65" y="225"/>
                  </a:lnTo>
                  <a:lnTo>
                    <a:pt x="87" y="210"/>
                  </a:lnTo>
                  <a:lnTo>
                    <a:pt x="112" y="194"/>
                  </a:lnTo>
                  <a:lnTo>
                    <a:pt x="142" y="179"/>
                  </a:lnTo>
                  <a:lnTo>
                    <a:pt x="173" y="165"/>
                  </a:lnTo>
                  <a:lnTo>
                    <a:pt x="207" y="152"/>
                  </a:lnTo>
                  <a:lnTo>
                    <a:pt x="245" y="139"/>
                  </a:lnTo>
                  <a:lnTo>
                    <a:pt x="284" y="126"/>
                  </a:lnTo>
                  <a:lnTo>
                    <a:pt x="327" y="114"/>
                  </a:lnTo>
                  <a:lnTo>
                    <a:pt x="372" y="102"/>
                  </a:lnTo>
                  <a:lnTo>
                    <a:pt x="420" y="90"/>
                  </a:lnTo>
                  <a:lnTo>
                    <a:pt x="469" y="80"/>
                  </a:lnTo>
                  <a:lnTo>
                    <a:pt x="521" y="70"/>
                  </a:lnTo>
                  <a:lnTo>
                    <a:pt x="575" y="61"/>
                  </a:lnTo>
                  <a:lnTo>
                    <a:pt x="631" y="52"/>
                  </a:lnTo>
                  <a:lnTo>
                    <a:pt x="689" y="44"/>
                  </a:lnTo>
                  <a:lnTo>
                    <a:pt x="749" y="37"/>
                  </a:lnTo>
                  <a:lnTo>
                    <a:pt x="810" y="30"/>
                  </a:lnTo>
                  <a:lnTo>
                    <a:pt x="874" y="24"/>
                  </a:lnTo>
                  <a:lnTo>
                    <a:pt x="939" y="18"/>
                  </a:lnTo>
                  <a:lnTo>
                    <a:pt x="1005" y="13"/>
                  </a:lnTo>
                  <a:lnTo>
                    <a:pt x="1073" y="9"/>
                  </a:lnTo>
                  <a:lnTo>
                    <a:pt x="1143" y="6"/>
                  </a:lnTo>
                  <a:lnTo>
                    <a:pt x="1212" y="3"/>
                  </a:lnTo>
                  <a:lnTo>
                    <a:pt x="1284" y="1"/>
                  </a:lnTo>
                  <a:lnTo>
                    <a:pt x="1357" y="0"/>
                  </a:lnTo>
                  <a:lnTo>
                    <a:pt x="1430" y="0"/>
                  </a:lnTo>
                  <a:lnTo>
                    <a:pt x="1504" y="0"/>
                  </a:lnTo>
                  <a:lnTo>
                    <a:pt x="1577" y="1"/>
                  </a:lnTo>
                  <a:lnTo>
                    <a:pt x="1649" y="3"/>
                  </a:lnTo>
                  <a:lnTo>
                    <a:pt x="1718" y="6"/>
                  </a:lnTo>
                  <a:lnTo>
                    <a:pt x="1788" y="9"/>
                  </a:lnTo>
                  <a:lnTo>
                    <a:pt x="1856" y="13"/>
                  </a:lnTo>
                  <a:lnTo>
                    <a:pt x="1922" y="18"/>
                  </a:lnTo>
                  <a:lnTo>
                    <a:pt x="1987" y="24"/>
                  </a:lnTo>
                  <a:lnTo>
                    <a:pt x="2051" y="30"/>
                  </a:lnTo>
                  <a:lnTo>
                    <a:pt x="2112" y="37"/>
                  </a:lnTo>
                  <a:lnTo>
                    <a:pt x="2172" y="44"/>
                  </a:lnTo>
                  <a:lnTo>
                    <a:pt x="2230" y="52"/>
                  </a:lnTo>
                  <a:lnTo>
                    <a:pt x="2286" y="61"/>
                  </a:lnTo>
                  <a:lnTo>
                    <a:pt x="2340" y="70"/>
                  </a:lnTo>
                  <a:lnTo>
                    <a:pt x="2392" y="80"/>
                  </a:lnTo>
                  <a:lnTo>
                    <a:pt x="2441" y="90"/>
                  </a:lnTo>
                  <a:lnTo>
                    <a:pt x="2489" y="102"/>
                  </a:lnTo>
                  <a:lnTo>
                    <a:pt x="2534" y="114"/>
                  </a:lnTo>
                  <a:lnTo>
                    <a:pt x="2577" y="126"/>
                  </a:lnTo>
                  <a:lnTo>
                    <a:pt x="2616" y="139"/>
                  </a:lnTo>
                  <a:lnTo>
                    <a:pt x="2653" y="152"/>
                  </a:lnTo>
                  <a:lnTo>
                    <a:pt x="2688" y="165"/>
                  </a:lnTo>
                  <a:lnTo>
                    <a:pt x="2720" y="179"/>
                  </a:lnTo>
                  <a:lnTo>
                    <a:pt x="2748" y="194"/>
                  </a:lnTo>
                  <a:lnTo>
                    <a:pt x="2774" y="210"/>
                  </a:lnTo>
                  <a:lnTo>
                    <a:pt x="2797" y="225"/>
                  </a:lnTo>
                  <a:lnTo>
                    <a:pt x="2816" y="240"/>
                  </a:lnTo>
                  <a:lnTo>
                    <a:pt x="2831" y="257"/>
                  </a:lnTo>
                  <a:lnTo>
                    <a:pt x="2844" y="273"/>
                  </a:lnTo>
                  <a:lnTo>
                    <a:pt x="2853" y="290"/>
                  </a:lnTo>
                  <a:lnTo>
                    <a:pt x="2859" y="307"/>
                  </a:lnTo>
                  <a:lnTo>
                    <a:pt x="2861" y="325"/>
                  </a:lnTo>
                  <a:close/>
                </a:path>
              </a:pathLst>
            </a:custGeom>
            <a:solidFill>
              <a:srgbClr val="fb4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90440" y="6519600"/>
              <a:ext cx="315360" cy="78480"/>
            </a:xfrm>
            <a:custGeom>
              <a:avLst/>
              <a:gdLst/>
              <a:ahLst/>
              <a:rect l="l" t="t" r="r" b="b"/>
              <a:pathLst>
                <a:path w="2859" h="668">
                  <a:moveTo>
                    <a:pt x="2859" y="325"/>
                  </a:moveTo>
                  <a:lnTo>
                    <a:pt x="2857" y="343"/>
                  </a:lnTo>
                  <a:lnTo>
                    <a:pt x="2850" y="360"/>
                  </a:lnTo>
                  <a:lnTo>
                    <a:pt x="2841" y="377"/>
                  </a:lnTo>
                  <a:lnTo>
                    <a:pt x="2829" y="394"/>
                  </a:lnTo>
                  <a:lnTo>
                    <a:pt x="2813" y="410"/>
                  </a:lnTo>
                  <a:lnTo>
                    <a:pt x="2794" y="427"/>
                  </a:lnTo>
                  <a:lnTo>
                    <a:pt x="2772" y="443"/>
                  </a:lnTo>
                  <a:lnTo>
                    <a:pt x="2746" y="458"/>
                  </a:lnTo>
                  <a:lnTo>
                    <a:pt x="2717" y="473"/>
                  </a:lnTo>
                  <a:lnTo>
                    <a:pt x="2686" y="488"/>
                  </a:lnTo>
                  <a:lnTo>
                    <a:pt x="2651" y="502"/>
                  </a:lnTo>
                  <a:lnTo>
                    <a:pt x="2614" y="516"/>
                  </a:lnTo>
                  <a:lnTo>
                    <a:pt x="2575" y="530"/>
                  </a:lnTo>
                  <a:lnTo>
                    <a:pt x="2532" y="543"/>
                  </a:lnTo>
                  <a:lnTo>
                    <a:pt x="2487" y="556"/>
                  </a:lnTo>
                  <a:lnTo>
                    <a:pt x="2439" y="567"/>
                  </a:lnTo>
                  <a:lnTo>
                    <a:pt x="2390" y="579"/>
                  </a:lnTo>
                  <a:lnTo>
                    <a:pt x="2338" y="589"/>
                  </a:lnTo>
                  <a:lnTo>
                    <a:pt x="2285" y="599"/>
                  </a:lnTo>
                  <a:lnTo>
                    <a:pt x="2228" y="609"/>
                  </a:lnTo>
                  <a:lnTo>
                    <a:pt x="2171" y="618"/>
                  </a:lnTo>
                  <a:lnTo>
                    <a:pt x="2110" y="626"/>
                  </a:lnTo>
                  <a:lnTo>
                    <a:pt x="2049" y="634"/>
                  </a:lnTo>
                  <a:lnTo>
                    <a:pt x="1986" y="641"/>
                  </a:lnTo>
                  <a:lnTo>
                    <a:pt x="1921" y="647"/>
                  </a:lnTo>
                  <a:lnTo>
                    <a:pt x="1855" y="652"/>
                  </a:lnTo>
                  <a:lnTo>
                    <a:pt x="1787" y="657"/>
                  </a:lnTo>
                  <a:lnTo>
                    <a:pt x="1717" y="661"/>
                  </a:lnTo>
                  <a:lnTo>
                    <a:pt x="1648" y="664"/>
                  </a:lnTo>
                  <a:lnTo>
                    <a:pt x="1576" y="666"/>
                  </a:lnTo>
                  <a:lnTo>
                    <a:pt x="1503" y="667"/>
                  </a:lnTo>
                  <a:lnTo>
                    <a:pt x="1429" y="668"/>
                  </a:lnTo>
                  <a:lnTo>
                    <a:pt x="1356" y="667"/>
                  </a:lnTo>
                  <a:lnTo>
                    <a:pt x="1283" y="666"/>
                  </a:lnTo>
                  <a:lnTo>
                    <a:pt x="1212" y="664"/>
                  </a:lnTo>
                  <a:lnTo>
                    <a:pt x="1142" y="661"/>
                  </a:lnTo>
                  <a:lnTo>
                    <a:pt x="1073" y="657"/>
                  </a:lnTo>
                  <a:lnTo>
                    <a:pt x="1004" y="652"/>
                  </a:lnTo>
                  <a:lnTo>
                    <a:pt x="939" y="647"/>
                  </a:lnTo>
                  <a:lnTo>
                    <a:pt x="873" y="641"/>
                  </a:lnTo>
                  <a:lnTo>
                    <a:pt x="810" y="634"/>
                  </a:lnTo>
                  <a:lnTo>
                    <a:pt x="749" y="626"/>
                  </a:lnTo>
                  <a:lnTo>
                    <a:pt x="688" y="618"/>
                  </a:lnTo>
                  <a:lnTo>
                    <a:pt x="631" y="609"/>
                  </a:lnTo>
                  <a:lnTo>
                    <a:pt x="575" y="599"/>
                  </a:lnTo>
                  <a:lnTo>
                    <a:pt x="521" y="589"/>
                  </a:lnTo>
                  <a:lnTo>
                    <a:pt x="469" y="579"/>
                  </a:lnTo>
                  <a:lnTo>
                    <a:pt x="420" y="567"/>
                  </a:lnTo>
                  <a:lnTo>
                    <a:pt x="372" y="556"/>
                  </a:lnTo>
                  <a:lnTo>
                    <a:pt x="327" y="543"/>
                  </a:lnTo>
                  <a:lnTo>
                    <a:pt x="284" y="530"/>
                  </a:lnTo>
                  <a:lnTo>
                    <a:pt x="245" y="516"/>
                  </a:lnTo>
                  <a:lnTo>
                    <a:pt x="207" y="502"/>
                  </a:lnTo>
                  <a:lnTo>
                    <a:pt x="173" y="488"/>
                  </a:lnTo>
                  <a:lnTo>
                    <a:pt x="142" y="473"/>
                  </a:lnTo>
                  <a:lnTo>
                    <a:pt x="114" y="458"/>
                  </a:lnTo>
                  <a:lnTo>
                    <a:pt x="87" y="443"/>
                  </a:lnTo>
                  <a:lnTo>
                    <a:pt x="65" y="427"/>
                  </a:lnTo>
                  <a:lnTo>
                    <a:pt x="46" y="410"/>
                  </a:lnTo>
                  <a:lnTo>
                    <a:pt x="30" y="394"/>
                  </a:lnTo>
                  <a:lnTo>
                    <a:pt x="18" y="377"/>
                  </a:lnTo>
                  <a:lnTo>
                    <a:pt x="8" y="360"/>
                  </a:lnTo>
                  <a:lnTo>
                    <a:pt x="2" y="343"/>
                  </a:lnTo>
                  <a:lnTo>
                    <a:pt x="0" y="325"/>
                  </a:lnTo>
                  <a:lnTo>
                    <a:pt x="2" y="307"/>
                  </a:lnTo>
                  <a:lnTo>
                    <a:pt x="8" y="290"/>
                  </a:lnTo>
                  <a:lnTo>
                    <a:pt x="18" y="273"/>
                  </a:lnTo>
                  <a:lnTo>
                    <a:pt x="30" y="257"/>
                  </a:lnTo>
                  <a:lnTo>
                    <a:pt x="46" y="241"/>
                  </a:lnTo>
                  <a:lnTo>
                    <a:pt x="65" y="225"/>
                  </a:lnTo>
                  <a:lnTo>
                    <a:pt x="87" y="210"/>
                  </a:lnTo>
                  <a:lnTo>
                    <a:pt x="114" y="194"/>
                  </a:lnTo>
                  <a:lnTo>
                    <a:pt x="142" y="180"/>
                  </a:lnTo>
                  <a:lnTo>
                    <a:pt x="173" y="166"/>
                  </a:lnTo>
                  <a:lnTo>
                    <a:pt x="207" y="152"/>
                  </a:lnTo>
                  <a:lnTo>
                    <a:pt x="245" y="139"/>
                  </a:lnTo>
                  <a:lnTo>
                    <a:pt x="284" y="127"/>
                  </a:lnTo>
                  <a:lnTo>
                    <a:pt x="327" y="115"/>
                  </a:lnTo>
                  <a:lnTo>
                    <a:pt x="372" y="103"/>
                  </a:lnTo>
                  <a:lnTo>
                    <a:pt x="420" y="91"/>
                  </a:lnTo>
                  <a:lnTo>
                    <a:pt x="469" y="81"/>
                  </a:lnTo>
                  <a:lnTo>
                    <a:pt x="521" y="71"/>
                  </a:lnTo>
                  <a:lnTo>
                    <a:pt x="575" y="62"/>
                  </a:lnTo>
                  <a:lnTo>
                    <a:pt x="631" y="53"/>
                  </a:lnTo>
                  <a:lnTo>
                    <a:pt x="688" y="45"/>
                  </a:lnTo>
                  <a:lnTo>
                    <a:pt x="749" y="37"/>
                  </a:lnTo>
                  <a:lnTo>
                    <a:pt x="810" y="31"/>
                  </a:lnTo>
                  <a:lnTo>
                    <a:pt x="873" y="24"/>
                  </a:lnTo>
                  <a:lnTo>
                    <a:pt x="939" y="19"/>
                  </a:lnTo>
                  <a:lnTo>
                    <a:pt x="1004" y="14"/>
                  </a:lnTo>
                  <a:lnTo>
                    <a:pt x="1073" y="10"/>
                  </a:lnTo>
                  <a:lnTo>
                    <a:pt x="1142" y="7"/>
                  </a:lnTo>
                  <a:lnTo>
                    <a:pt x="1212" y="4"/>
                  </a:lnTo>
                  <a:lnTo>
                    <a:pt x="1283" y="2"/>
                  </a:lnTo>
                  <a:lnTo>
                    <a:pt x="1356" y="1"/>
                  </a:lnTo>
                  <a:lnTo>
                    <a:pt x="1429" y="0"/>
                  </a:lnTo>
                  <a:lnTo>
                    <a:pt x="1503" y="1"/>
                  </a:lnTo>
                  <a:lnTo>
                    <a:pt x="1576" y="2"/>
                  </a:lnTo>
                  <a:lnTo>
                    <a:pt x="1648" y="4"/>
                  </a:lnTo>
                  <a:lnTo>
                    <a:pt x="1717" y="7"/>
                  </a:lnTo>
                  <a:lnTo>
                    <a:pt x="1787" y="10"/>
                  </a:lnTo>
                  <a:lnTo>
                    <a:pt x="1855" y="14"/>
                  </a:lnTo>
                  <a:lnTo>
                    <a:pt x="1921" y="19"/>
                  </a:lnTo>
                  <a:lnTo>
                    <a:pt x="1986" y="24"/>
                  </a:lnTo>
                  <a:lnTo>
                    <a:pt x="2049" y="31"/>
                  </a:lnTo>
                  <a:lnTo>
                    <a:pt x="2110" y="37"/>
                  </a:lnTo>
                  <a:lnTo>
                    <a:pt x="2171" y="45"/>
                  </a:lnTo>
                  <a:lnTo>
                    <a:pt x="2228" y="53"/>
                  </a:lnTo>
                  <a:lnTo>
                    <a:pt x="2285" y="62"/>
                  </a:lnTo>
                  <a:lnTo>
                    <a:pt x="2338" y="71"/>
                  </a:lnTo>
                  <a:lnTo>
                    <a:pt x="2390" y="81"/>
                  </a:lnTo>
                  <a:lnTo>
                    <a:pt x="2439" y="91"/>
                  </a:lnTo>
                  <a:lnTo>
                    <a:pt x="2487" y="103"/>
                  </a:lnTo>
                  <a:lnTo>
                    <a:pt x="2532" y="115"/>
                  </a:lnTo>
                  <a:lnTo>
                    <a:pt x="2575" y="127"/>
                  </a:lnTo>
                  <a:lnTo>
                    <a:pt x="2614" y="139"/>
                  </a:lnTo>
                  <a:lnTo>
                    <a:pt x="2651" y="152"/>
                  </a:lnTo>
                  <a:lnTo>
                    <a:pt x="2686" y="166"/>
                  </a:lnTo>
                  <a:lnTo>
                    <a:pt x="2717" y="180"/>
                  </a:lnTo>
                  <a:lnTo>
                    <a:pt x="2746" y="194"/>
                  </a:lnTo>
                  <a:lnTo>
                    <a:pt x="2772" y="210"/>
                  </a:lnTo>
                  <a:lnTo>
                    <a:pt x="2794" y="225"/>
                  </a:lnTo>
                  <a:lnTo>
                    <a:pt x="2813" y="241"/>
                  </a:lnTo>
                  <a:lnTo>
                    <a:pt x="2829" y="257"/>
                  </a:lnTo>
                  <a:lnTo>
                    <a:pt x="2841" y="273"/>
                  </a:lnTo>
                  <a:lnTo>
                    <a:pt x="2850" y="290"/>
                  </a:lnTo>
                  <a:lnTo>
                    <a:pt x="2857" y="307"/>
                  </a:lnTo>
                  <a:lnTo>
                    <a:pt x="2859" y="325"/>
                  </a:lnTo>
                  <a:close/>
                </a:path>
              </a:pathLst>
            </a:custGeom>
            <a:solidFill>
              <a:srgbClr val="fb4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90440" y="6519600"/>
              <a:ext cx="315360" cy="78480"/>
            </a:xfrm>
            <a:custGeom>
              <a:avLst/>
              <a:gdLst/>
              <a:ahLst/>
              <a:rect l="l" t="t" r="r" b="b"/>
              <a:pathLst>
                <a:path w="2855" h="666">
                  <a:moveTo>
                    <a:pt x="2855" y="324"/>
                  </a:moveTo>
                  <a:lnTo>
                    <a:pt x="2853" y="342"/>
                  </a:lnTo>
                  <a:lnTo>
                    <a:pt x="2847" y="359"/>
                  </a:lnTo>
                  <a:lnTo>
                    <a:pt x="2838" y="376"/>
                  </a:lnTo>
                  <a:lnTo>
                    <a:pt x="2826" y="393"/>
                  </a:lnTo>
                  <a:lnTo>
                    <a:pt x="2810" y="409"/>
                  </a:lnTo>
                  <a:lnTo>
                    <a:pt x="2791" y="426"/>
                  </a:lnTo>
                  <a:lnTo>
                    <a:pt x="2769" y="442"/>
                  </a:lnTo>
                  <a:lnTo>
                    <a:pt x="2742" y="457"/>
                  </a:lnTo>
                  <a:lnTo>
                    <a:pt x="2714" y="472"/>
                  </a:lnTo>
                  <a:lnTo>
                    <a:pt x="2683" y="487"/>
                  </a:lnTo>
                  <a:lnTo>
                    <a:pt x="2648" y="501"/>
                  </a:lnTo>
                  <a:lnTo>
                    <a:pt x="2611" y="515"/>
                  </a:lnTo>
                  <a:lnTo>
                    <a:pt x="2572" y="529"/>
                  </a:lnTo>
                  <a:lnTo>
                    <a:pt x="2529" y="542"/>
                  </a:lnTo>
                  <a:lnTo>
                    <a:pt x="2484" y="554"/>
                  </a:lnTo>
                  <a:lnTo>
                    <a:pt x="2436" y="566"/>
                  </a:lnTo>
                  <a:lnTo>
                    <a:pt x="2387" y="577"/>
                  </a:lnTo>
                  <a:lnTo>
                    <a:pt x="2335" y="588"/>
                  </a:lnTo>
                  <a:lnTo>
                    <a:pt x="2282" y="598"/>
                  </a:lnTo>
                  <a:lnTo>
                    <a:pt x="2225" y="607"/>
                  </a:lnTo>
                  <a:lnTo>
                    <a:pt x="2168" y="616"/>
                  </a:lnTo>
                  <a:lnTo>
                    <a:pt x="2108" y="624"/>
                  </a:lnTo>
                  <a:lnTo>
                    <a:pt x="2047" y="632"/>
                  </a:lnTo>
                  <a:lnTo>
                    <a:pt x="1983" y="639"/>
                  </a:lnTo>
                  <a:lnTo>
                    <a:pt x="1918" y="645"/>
                  </a:lnTo>
                  <a:lnTo>
                    <a:pt x="1852" y="651"/>
                  </a:lnTo>
                  <a:lnTo>
                    <a:pt x="1784" y="655"/>
                  </a:lnTo>
                  <a:lnTo>
                    <a:pt x="1715" y="659"/>
                  </a:lnTo>
                  <a:lnTo>
                    <a:pt x="1645" y="662"/>
                  </a:lnTo>
                  <a:lnTo>
                    <a:pt x="1574" y="664"/>
                  </a:lnTo>
                  <a:lnTo>
                    <a:pt x="1501" y="665"/>
                  </a:lnTo>
                  <a:lnTo>
                    <a:pt x="1427" y="666"/>
                  </a:lnTo>
                  <a:lnTo>
                    <a:pt x="1354" y="665"/>
                  </a:lnTo>
                  <a:lnTo>
                    <a:pt x="1282" y="664"/>
                  </a:lnTo>
                  <a:lnTo>
                    <a:pt x="1210" y="662"/>
                  </a:lnTo>
                  <a:lnTo>
                    <a:pt x="1140" y="659"/>
                  </a:lnTo>
                  <a:lnTo>
                    <a:pt x="1071" y="655"/>
                  </a:lnTo>
                  <a:lnTo>
                    <a:pt x="1003" y="651"/>
                  </a:lnTo>
                  <a:lnTo>
                    <a:pt x="937" y="645"/>
                  </a:lnTo>
                  <a:lnTo>
                    <a:pt x="872" y="639"/>
                  </a:lnTo>
                  <a:lnTo>
                    <a:pt x="808" y="632"/>
                  </a:lnTo>
                  <a:lnTo>
                    <a:pt x="747" y="624"/>
                  </a:lnTo>
                  <a:lnTo>
                    <a:pt x="687" y="616"/>
                  </a:lnTo>
                  <a:lnTo>
                    <a:pt x="630" y="607"/>
                  </a:lnTo>
                  <a:lnTo>
                    <a:pt x="573" y="598"/>
                  </a:lnTo>
                  <a:lnTo>
                    <a:pt x="520" y="588"/>
                  </a:lnTo>
                  <a:lnTo>
                    <a:pt x="468" y="577"/>
                  </a:lnTo>
                  <a:lnTo>
                    <a:pt x="419" y="566"/>
                  </a:lnTo>
                  <a:lnTo>
                    <a:pt x="371" y="554"/>
                  </a:lnTo>
                  <a:lnTo>
                    <a:pt x="327" y="542"/>
                  </a:lnTo>
                  <a:lnTo>
                    <a:pt x="284" y="529"/>
                  </a:lnTo>
                  <a:lnTo>
                    <a:pt x="244" y="515"/>
                  </a:lnTo>
                  <a:lnTo>
                    <a:pt x="206" y="501"/>
                  </a:lnTo>
                  <a:lnTo>
                    <a:pt x="172" y="487"/>
                  </a:lnTo>
                  <a:lnTo>
                    <a:pt x="141" y="472"/>
                  </a:lnTo>
                  <a:lnTo>
                    <a:pt x="113" y="457"/>
                  </a:lnTo>
                  <a:lnTo>
                    <a:pt x="87" y="442"/>
                  </a:lnTo>
                  <a:lnTo>
                    <a:pt x="64" y="426"/>
                  </a:lnTo>
                  <a:lnTo>
                    <a:pt x="45" y="409"/>
                  </a:lnTo>
                  <a:lnTo>
                    <a:pt x="29" y="393"/>
                  </a:lnTo>
                  <a:lnTo>
                    <a:pt x="17" y="376"/>
                  </a:lnTo>
                  <a:lnTo>
                    <a:pt x="7" y="359"/>
                  </a:lnTo>
                  <a:lnTo>
                    <a:pt x="2" y="342"/>
                  </a:lnTo>
                  <a:lnTo>
                    <a:pt x="0" y="324"/>
                  </a:lnTo>
                  <a:lnTo>
                    <a:pt x="2" y="306"/>
                  </a:lnTo>
                  <a:lnTo>
                    <a:pt x="7" y="289"/>
                  </a:lnTo>
                  <a:lnTo>
                    <a:pt x="17" y="272"/>
                  </a:lnTo>
                  <a:lnTo>
                    <a:pt x="29" y="256"/>
                  </a:lnTo>
                  <a:lnTo>
                    <a:pt x="45" y="240"/>
                  </a:lnTo>
                  <a:lnTo>
                    <a:pt x="64" y="224"/>
                  </a:lnTo>
                  <a:lnTo>
                    <a:pt x="87" y="209"/>
                  </a:lnTo>
                  <a:lnTo>
                    <a:pt x="113" y="193"/>
                  </a:lnTo>
                  <a:lnTo>
                    <a:pt x="141" y="179"/>
                  </a:lnTo>
                  <a:lnTo>
                    <a:pt x="172" y="165"/>
                  </a:lnTo>
                  <a:lnTo>
                    <a:pt x="206" y="152"/>
                  </a:lnTo>
                  <a:lnTo>
                    <a:pt x="244" y="139"/>
                  </a:lnTo>
                  <a:lnTo>
                    <a:pt x="284" y="126"/>
                  </a:lnTo>
                  <a:lnTo>
                    <a:pt x="327" y="114"/>
                  </a:lnTo>
                  <a:lnTo>
                    <a:pt x="371" y="103"/>
                  </a:lnTo>
                  <a:lnTo>
                    <a:pt x="419" y="91"/>
                  </a:lnTo>
                  <a:lnTo>
                    <a:pt x="468" y="80"/>
                  </a:lnTo>
                  <a:lnTo>
                    <a:pt x="520" y="71"/>
                  </a:lnTo>
                  <a:lnTo>
                    <a:pt x="573" y="61"/>
                  </a:lnTo>
                  <a:lnTo>
                    <a:pt x="630" y="53"/>
                  </a:lnTo>
                  <a:lnTo>
                    <a:pt x="687" y="45"/>
                  </a:lnTo>
                  <a:lnTo>
                    <a:pt x="747" y="37"/>
                  </a:lnTo>
                  <a:lnTo>
                    <a:pt x="808" y="30"/>
                  </a:lnTo>
                  <a:lnTo>
                    <a:pt x="872" y="24"/>
                  </a:lnTo>
                  <a:lnTo>
                    <a:pt x="937" y="19"/>
                  </a:lnTo>
                  <a:lnTo>
                    <a:pt x="1003" y="14"/>
                  </a:lnTo>
                  <a:lnTo>
                    <a:pt x="1071" y="10"/>
                  </a:lnTo>
                  <a:lnTo>
                    <a:pt x="1140" y="6"/>
                  </a:lnTo>
                  <a:lnTo>
                    <a:pt x="1210" y="4"/>
                  </a:lnTo>
                  <a:lnTo>
                    <a:pt x="1282" y="2"/>
                  </a:lnTo>
                  <a:lnTo>
                    <a:pt x="1354" y="1"/>
                  </a:lnTo>
                  <a:lnTo>
                    <a:pt x="1427" y="0"/>
                  </a:lnTo>
                  <a:lnTo>
                    <a:pt x="1501" y="1"/>
                  </a:lnTo>
                  <a:lnTo>
                    <a:pt x="1574" y="2"/>
                  </a:lnTo>
                  <a:lnTo>
                    <a:pt x="1645" y="4"/>
                  </a:lnTo>
                  <a:lnTo>
                    <a:pt x="1715" y="6"/>
                  </a:lnTo>
                  <a:lnTo>
                    <a:pt x="1784" y="10"/>
                  </a:lnTo>
                  <a:lnTo>
                    <a:pt x="1852" y="14"/>
                  </a:lnTo>
                  <a:lnTo>
                    <a:pt x="1918" y="19"/>
                  </a:lnTo>
                  <a:lnTo>
                    <a:pt x="1983" y="24"/>
                  </a:lnTo>
                  <a:lnTo>
                    <a:pt x="2047" y="30"/>
                  </a:lnTo>
                  <a:lnTo>
                    <a:pt x="2108" y="37"/>
                  </a:lnTo>
                  <a:lnTo>
                    <a:pt x="2168" y="45"/>
                  </a:lnTo>
                  <a:lnTo>
                    <a:pt x="2225" y="53"/>
                  </a:lnTo>
                  <a:lnTo>
                    <a:pt x="2282" y="61"/>
                  </a:lnTo>
                  <a:lnTo>
                    <a:pt x="2335" y="71"/>
                  </a:lnTo>
                  <a:lnTo>
                    <a:pt x="2387" y="80"/>
                  </a:lnTo>
                  <a:lnTo>
                    <a:pt x="2436" y="91"/>
                  </a:lnTo>
                  <a:lnTo>
                    <a:pt x="2484" y="103"/>
                  </a:lnTo>
                  <a:lnTo>
                    <a:pt x="2529" y="114"/>
                  </a:lnTo>
                  <a:lnTo>
                    <a:pt x="2572" y="126"/>
                  </a:lnTo>
                  <a:lnTo>
                    <a:pt x="2611" y="139"/>
                  </a:lnTo>
                  <a:lnTo>
                    <a:pt x="2648" y="152"/>
                  </a:lnTo>
                  <a:lnTo>
                    <a:pt x="2683" y="165"/>
                  </a:lnTo>
                  <a:lnTo>
                    <a:pt x="2714" y="179"/>
                  </a:lnTo>
                  <a:lnTo>
                    <a:pt x="2742" y="193"/>
                  </a:lnTo>
                  <a:lnTo>
                    <a:pt x="2769" y="209"/>
                  </a:lnTo>
                  <a:lnTo>
                    <a:pt x="2791" y="224"/>
                  </a:lnTo>
                  <a:lnTo>
                    <a:pt x="2810" y="240"/>
                  </a:lnTo>
                  <a:lnTo>
                    <a:pt x="2826" y="256"/>
                  </a:lnTo>
                  <a:lnTo>
                    <a:pt x="2838" y="272"/>
                  </a:lnTo>
                  <a:lnTo>
                    <a:pt x="2847" y="289"/>
                  </a:lnTo>
                  <a:lnTo>
                    <a:pt x="2853" y="306"/>
                  </a:lnTo>
                  <a:lnTo>
                    <a:pt x="2855" y="324"/>
                  </a:lnTo>
                  <a:close/>
                </a:path>
              </a:pathLst>
            </a:custGeom>
            <a:solidFill>
              <a:srgbClr val="fb4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90440" y="6519600"/>
              <a:ext cx="315360" cy="78480"/>
            </a:xfrm>
            <a:custGeom>
              <a:avLst/>
              <a:gdLst/>
              <a:ahLst/>
              <a:rect l="l" t="t" r="r" b="b"/>
              <a:pathLst>
                <a:path w="2852" h="664">
                  <a:moveTo>
                    <a:pt x="2852" y="323"/>
                  </a:moveTo>
                  <a:lnTo>
                    <a:pt x="2850" y="341"/>
                  </a:lnTo>
                  <a:lnTo>
                    <a:pt x="2845" y="358"/>
                  </a:lnTo>
                  <a:lnTo>
                    <a:pt x="2836" y="375"/>
                  </a:lnTo>
                  <a:lnTo>
                    <a:pt x="2823" y="391"/>
                  </a:lnTo>
                  <a:lnTo>
                    <a:pt x="2808" y="408"/>
                  </a:lnTo>
                  <a:lnTo>
                    <a:pt x="2788" y="425"/>
                  </a:lnTo>
                  <a:lnTo>
                    <a:pt x="2766" y="440"/>
                  </a:lnTo>
                  <a:lnTo>
                    <a:pt x="2740" y="456"/>
                  </a:lnTo>
                  <a:lnTo>
                    <a:pt x="2712" y="471"/>
                  </a:lnTo>
                  <a:lnTo>
                    <a:pt x="2681" y="485"/>
                  </a:lnTo>
                  <a:lnTo>
                    <a:pt x="2646" y="499"/>
                  </a:lnTo>
                  <a:lnTo>
                    <a:pt x="2609" y="513"/>
                  </a:lnTo>
                  <a:lnTo>
                    <a:pt x="2569" y="527"/>
                  </a:lnTo>
                  <a:lnTo>
                    <a:pt x="2527" y="540"/>
                  </a:lnTo>
                  <a:lnTo>
                    <a:pt x="2482" y="552"/>
                  </a:lnTo>
                  <a:lnTo>
                    <a:pt x="2434" y="564"/>
                  </a:lnTo>
                  <a:lnTo>
                    <a:pt x="2385" y="575"/>
                  </a:lnTo>
                  <a:lnTo>
                    <a:pt x="2333" y="586"/>
                  </a:lnTo>
                  <a:lnTo>
                    <a:pt x="2280" y="596"/>
                  </a:lnTo>
                  <a:lnTo>
                    <a:pt x="2223" y="605"/>
                  </a:lnTo>
                  <a:lnTo>
                    <a:pt x="2166" y="614"/>
                  </a:lnTo>
                  <a:lnTo>
                    <a:pt x="2106" y="622"/>
                  </a:lnTo>
                  <a:lnTo>
                    <a:pt x="2045" y="631"/>
                  </a:lnTo>
                  <a:lnTo>
                    <a:pt x="1982" y="637"/>
                  </a:lnTo>
                  <a:lnTo>
                    <a:pt x="1917" y="643"/>
                  </a:lnTo>
                  <a:lnTo>
                    <a:pt x="1851" y="649"/>
                  </a:lnTo>
                  <a:lnTo>
                    <a:pt x="1783" y="653"/>
                  </a:lnTo>
                  <a:lnTo>
                    <a:pt x="1714" y="657"/>
                  </a:lnTo>
                  <a:lnTo>
                    <a:pt x="1644" y="660"/>
                  </a:lnTo>
                  <a:lnTo>
                    <a:pt x="1572" y="662"/>
                  </a:lnTo>
                  <a:lnTo>
                    <a:pt x="1500" y="663"/>
                  </a:lnTo>
                  <a:lnTo>
                    <a:pt x="1426" y="664"/>
                  </a:lnTo>
                  <a:lnTo>
                    <a:pt x="1353" y="663"/>
                  </a:lnTo>
                  <a:lnTo>
                    <a:pt x="1281" y="662"/>
                  </a:lnTo>
                  <a:lnTo>
                    <a:pt x="1209" y="660"/>
                  </a:lnTo>
                  <a:lnTo>
                    <a:pt x="1140" y="657"/>
                  </a:lnTo>
                  <a:lnTo>
                    <a:pt x="1070" y="653"/>
                  </a:lnTo>
                  <a:lnTo>
                    <a:pt x="1002" y="649"/>
                  </a:lnTo>
                  <a:lnTo>
                    <a:pt x="937" y="643"/>
                  </a:lnTo>
                  <a:lnTo>
                    <a:pt x="872" y="637"/>
                  </a:lnTo>
                  <a:lnTo>
                    <a:pt x="808" y="631"/>
                  </a:lnTo>
                  <a:lnTo>
                    <a:pt x="747" y="622"/>
                  </a:lnTo>
                  <a:lnTo>
                    <a:pt x="687" y="614"/>
                  </a:lnTo>
                  <a:lnTo>
                    <a:pt x="630" y="605"/>
                  </a:lnTo>
                  <a:lnTo>
                    <a:pt x="573" y="596"/>
                  </a:lnTo>
                  <a:lnTo>
                    <a:pt x="520" y="586"/>
                  </a:lnTo>
                  <a:lnTo>
                    <a:pt x="468" y="575"/>
                  </a:lnTo>
                  <a:lnTo>
                    <a:pt x="419" y="564"/>
                  </a:lnTo>
                  <a:lnTo>
                    <a:pt x="371" y="552"/>
                  </a:lnTo>
                  <a:lnTo>
                    <a:pt x="327" y="540"/>
                  </a:lnTo>
                  <a:lnTo>
                    <a:pt x="284" y="527"/>
                  </a:lnTo>
                  <a:lnTo>
                    <a:pt x="244" y="513"/>
                  </a:lnTo>
                  <a:lnTo>
                    <a:pt x="207" y="499"/>
                  </a:lnTo>
                  <a:lnTo>
                    <a:pt x="173" y="485"/>
                  </a:lnTo>
                  <a:lnTo>
                    <a:pt x="141" y="471"/>
                  </a:lnTo>
                  <a:lnTo>
                    <a:pt x="113" y="456"/>
                  </a:lnTo>
                  <a:lnTo>
                    <a:pt x="87" y="440"/>
                  </a:lnTo>
                  <a:lnTo>
                    <a:pt x="65" y="425"/>
                  </a:lnTo>
                  <a:lnTo>
                    <a:pt x="46" y="408"/>
                  </a:lnTo>
                  <a:lnTo>
                    <a:pt x="30" y="391"/>
                  </a:lnTo>
                  <a:lnTo>
                    <a:pt x="18" y="375"/>
                  </a:lnTo>
                  <a:lnTo>
                    <a:pt x="9" y="358"/>
                  </a:lnTo>
                  <a:lnTo>
                    <a:pt x="2" y="341"/>
                  </a:lnTo>
                  <a:lnTo>
                    <a:pt x="0" y="323"/>
                  </a:lnTo>
                  <a:lnTo>
                    <a:pt x="2" y="305"/>
                  </a:lnTo>
                  <a:lnTo>
                    <a:pt x="9" y="288"/>
                  </a:lnTo>
                  <a:lnTo>
                    <a:pt x="18" y="271"/>
                  </a:lnTo>
                  <a:lnTo>
                    <a:pt x="30" y="255"/>
                  </a:lnTo>
                  <a:lnTo>
                    <a:pt x="46" y="239"/>
                  </a:lnTo>
                  <a:lnTo>
                    <a:pt x="65" y="224"/>
                  </a:lnTo>
                  <a:lnTo>
                    <a:pt x="87" y="208"/>
                  </a:lnTo>
                  <a:lnTo>
                    <a:pt x="113" y="193"/>
                  </a:lnTo>
                  <a:lnTo>
                    <a:pt x="141" y="178"/>
                  </a:lnTo>
                  <a:lnTo>
                    <a:pt x="173" y="165"/>
                  </a:lnTo>
                  <a:lnTo>
                    <a:pt x="207" y="151"/>
                  </a:lnTo>
                  <a:lnTo>
                    <a:pt x="244" y="138"/>
                  </a:lnTo>
                  <a:lnTo>
                    <a:pt x="284" y="126"/>
                  </a:lnTo>
                  <a:lnTo>
                    <a:pt x="327" y="114"/>
                  </a:lnTo>
                  <a:lnTo>
                    <a:pt x="371" y="102"/>
                  </a:lnTo>
                  <a:lnTo>
                    <a:pt x="419" y="90"/>
                  </a:lnTo>
                  <a:lnTo>
                    <a:pt x="468" y="80"/>
                  </a:lnTo>
                  <a:lnTo>
                    <a:pt x="520" y="70"/>
                  </a:lnTo>
                  <a:lnTo>
                    <a:pt x="573" y="61"/>
                  </a:lnTo>
                  <a:lnTo>
                    <a:pt x="630" y="52"/>
                  </a:lnTo>
                  <a:lnTo>
                    <a:pt x="687" y="44"/>
                  </a:lnTo>
                  <a:lnTo>
                    <a:pt x="747" y="37"/>
                  </a:lnTo>
                  <a:lnTo>
                    <a:pt x="808" y="30"/>
                  </a:lnTo>
                  <a:lnTo>
                    <a:pt x="872" y="24"/>
                  </a:lnTo>
                  <a:lnTo>
                    <a:pt x="937" y="19"/>
                  </a:lnTo>
                  <a:lnTo>
                    <a:pt x="1002" y="14"/>
                  </a:lnTo>
                  <a:lnTo>
                    <a:pt x="1070" y="10"/>
                  </a:lnTo>
                  <a:lnTo>
                    <a:pt x="1140" y="6"/>
                  </a:lnTo>
                  <a:lnTo>
                    <a:pt x="1209" y="4"/>
                  </a:lnTo>
                  <a:lnTo>
                    <a:pt x="1281" y="2"/>
                  </a:lnTo>
                  <a:lnTo>
                    <a:pt x="1353" y="1"/>
                  </a:lnTo>
                  <a:lnTo>
                    <a:pt x="1426" y="0"/>
                  </a:lnTo>
                  <a:lnTo>
                    <a:pt x="1500" y="1"/>
                  </a:lnTo>
                  <a:lnTo>
                    <a:pt x="1572" y="2"/>
                  </a:lnTo>
                  <a:lnTo>
                    <a:pt x="1644" y="4"/>
                  </a:lnTo>
                  <a:lnTo>
                    <a:pt x="1714" y="6"/>
                  </a:lnTo>
                  <a:lnTo>
                    <a:pt x="1783" y="10"/>
                  </a:lnTo>
                  <a:lnTo>
                    <a:pt x="1851" y="14"/>
                  </a:lnTo>
                  <a:lnTo>
                    <a:pt x="1917" y="19"/>
                  </a:lnTo>
                  <a:lnTo>
                    <a:pt x="1982" y="24"/>
                  </a:lnTo>
                  <a:lnTo>
                    <a:pt x="2045" y="30"/>
                  </a:lnTo>
                  <a:lnTo>
                    <a:pt x="2106" y="37"/>
                  </a:lnTo>
                  <a:lnTo>
                    <a:pt x="2166" y="44"/>
                  </a:lnTo>
                  <a:lnTo>
                    <a:pt x="2223" y="52"/>
                  </a:lnTo>
                  <a:lnTo>
                    <a:pt x="2280" y="61"/>
                  </a:lnTo>
                  <a:lnTo>
                    <a:pt x="2333" y="70"/>
                  </a:lnTo>
                  <a:lnTo>
                    <a:pt x="2385" y="80"/>
                  </a:lnTo>
                  <a:lnTo>
                    <a:pt x="2434" y="90"/>
                  </a:lnTo>
                  <a:lnTo>
                    <a:pt x="2482" y="102"/>
                  </a:lnTo>
                  <a:lnTo>
                    <a:pt x="2527" y="114"/>
                  </a:lnTo>
                  <a:lnTo>
                    <a:pt x="2569" y="126"/>
                  </a:lnTo>
                  <a:lnTo>
                    <a:pt x="2609" y="138"/>
                  </a:lnTo>
                  <a:lnTo>
                    <a:pt x="2646" y="151"/>
                  </a:lnTo>
                  <a:lnTo>
                    <a:pt x="2681" y="165"/>
                  </a:lnTo>
                  <a:lnTo>
                    <a:pt x="2712" y="178"/>
                  </a:lnTo>
                  <a:lnTo>
                    <a:pt x="2740" y="193"/>
                  </a:lnTo>
                  <a:lnTo>
                    <a:pt x="2766" y="208"/>
                  </a:lnTo>
                  <a:lnTo>
                    <a:pt x="2788" y="224"/>
                  </a:lnTo>
                  <a:lnTo>
                    <a:pt x="2808" y="239"/>
                  </a:lnTo>
                  <a:lnTo>
                    <a:pt x="2823" y="255"/>
                  </a:lnTo>
                  <a:lnTo>
                    <a:pt x="2836" y="271"/>
                  </a:lnTo>
                  <a:lnTo>
                    <a:pt x="2845" y="288"/>
                  </a:lnTo>
                  <a:lnTo>
                    <a:pt x="2850" y="305"/>
                  </a:lnTo>
                  <a:lnTo>
                    <a:pt x="2852" y="323"/>
                  </a:lnTo>
                  <a:close/>
                </a:path>
              </a:pathLst>
            </a:custGeom>
            <a:solidFill>
              <a:srgbClr val="fb4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90440" y="6519600"/>
              <a:ext cx="313920" cy="78480"/>
            </a:xfrm>
            <a:custGeom>
              <a:avLst/>
              <a:gdLst/>
              <a:ahLst/>
              <a:rect l="l" t="t" r="r" b="b"/>
              <a:pathLst>
                <a:path w="2849" h="662">
                  <a:moveTo>
                    <a:pt x="2849" y="322"/>
                  </a:moveTo>
                  <a:lnTo>
                    <a:pt x="2847" y="340"/>
                  </a:lnTo>
                  <a:lnTo>
                    <a:pt x="2841" y="357"/>
                  </a:lnTo>
                  <a:lnTo>
                    <a:pt x="2832" y="374"/>
                  </a:lnTo>
                  <a:lnTo>
                    <a:pt x="2820" y="390"/>
                  </a:lnTo>
                  <a:lnTo>
                    <a:pt x="2804" y="407"/>
                  </a:lnTo>
                  <a:lnTo>
                    <a:pt x="2785" y="423"/>
                  </a:lnTo>
                  <a:lnTo>
                    <a:pt x="2763" y="439"/>
                  </a:lnTo>
                  <a:lnTo>
                    <a:pt x="2737" y="454"/>
                  </a:lnTo>
                  <a:lnTo>
                    <a:pt x="2708" y="469"/>
                  </a:lnTo>
                  <a:lnTo>
                    <a:pt x="2677" y="484"/>
                  </a:lnTo>
                  <a:lnTo>
                    <a:pt x="2642" y="498"/>
                  </a:lnTo>
                  <a:lnTo>
                    <a:pt x="2606" y="512"/>
                  </a:lnTo>
                  <a:lnTo>
                    <a:pt x="2566" y="526"/>
                  </a:lnTo>
                  <a:lnTo>
                    <a:pt x="2523" y="538"/>
                  </a:lnTo>
                  <a:lnTo>
                    <a:pt x="2479" y="551"/>
                  </a:lnTo>
                  <a:lnTo>
                    <a:pt x="2431" y="562"/>
                  </a:lnTo>
                  <a:lnTo>
                    <a:pt x="2382" y="574"/>
                  </a:lnTo>
                  <a:lnTo>
                    <a:pt x="2330" y="584"/>
                  </a:lnTo>
                  <a:lnTo>
                    <a:pt x="2277" y="594"/>
                  </a:lnTo>
                  <a:lnTo>
                    <a:pt x="2221" y="603"/>
                  </a:lnTo>
                  <a:lnTo>
                    <a:pt x="2163" y="612"/>
                  </a:lnTo>
                  <a:lnTo>
                    <a:pt x="2103" y="620"/>
                  </a:lnTo>
                  <a:lnTo>
                    <a:pt x="2043" y="629"/>
                  </a:lnTo>
                  <a:lnTo>
                    <a:pt x="1979" y="636"/>
                  </a:lnTo>
                  <a:lnTo>
                    <a:pt x="1914" y="642"/>
                  </a:lnTo>
                  <a:lnTo>
                    <a:pt x="1848" y="647"/>
                  </a:lnTo>
                  <a:lnTo>
                    <a:pt x="1781" y="651"/>
                  </a:lnTo>
                  <a:lnTo>
                    <a:pt x="1711" y="655"/>
                  </a:lnTo>
                  <a:lnTo>
                    <a:pt x="1642" y="658"/>
                  </a:lnTo>
                  <a:lnTo>
                    <a:pt x="1570" y="660"/>
                  </a:lnTo>
                  <a:lnTo>
                    <a:pt x="1498" y="662"/>
                  </a:lnTo>
                  <a:lnTo>
                    <a:pt x="1424" y="662"/>
                  </a:lnTo>
                  <a:lnTo>
                    <a:pt x="1351" y="662"/>
                  </a:lnTo>
                  <a:lnTo>
                    <a:pt x="1279" y="660"/>
                  </a:lnTo>
                  <a:lnTo>
                    <a:pt x="1207" y="658"/>
                  </a:lnTo>
                  <a:lnTo>
                    <a:pt x="1138" y="655"/>
                  </a:lnTo>
                  <a:lnTo>
                    <a:pt x="1069" y="651"/>
                  </a:lnTo>
                  <a:lnTo>
                    <a:pt x="1001" y="647"/>
                  </a:lnTo>
                  <a:lnTo>
                    <a:pt x="935" y="642"/>
                  </a:lnTo>
                  <a:lnTo>
                    <a:pt x="870" y="636"/>
                  </a:lnTo>
                  <a:lnTo>
                    <a:pt x="807" y="629"/>
                  </a:lnTo>
                  <a:lnTo>
                    <a:pt x="746" y="620"/>
                  </a:lnTo>
                  <a:lnTo>
                    <a:pt x="686" y="612"/>
                  </a:lnTo>
                  <a:lnTo>
                    <a:pt x="628" y="603"/>
                  </a:lnTo>
                  <a:lnTo>
                    <a:pt x="572" y="594"/>
                  </a:lnTo>
                  <a:lnTo>
                    <a:pt x="519" y="584"/>
                  </a:lnTo>
                  <a:lnTo>
                    <a:pt x="467" y="574"/>
                  </a:lnTo>
                  <a:lnTo>
                    <a:pt x="418" y="562"/>
                  </a:lnTo>
                  <a:lnTo>
                    <a:pt x="370" y="551"/>
                  </a:lnTo>
                  <a:lnTo>
                    <a:pt x="326" y="538"/>
                  </a:lnTo>
                  <a:lnTo>
                    <a:pt x="283" y="526"/>
                  </a:lnTo>
                  <a:lnTo>
                    <a:pt x="244" y="512"/>
                  </a:lnTo>
                  <a:lnTo>
                    <a:pt x="206" y="498"/>
                  </a:lnTo>
                  <a:lnTo>
                    <a:pt x="172" y="484"/>
                  </a:lnTo>
                  <a:lnTo>
                    <a:pt x="141" y="469"/>
                  </a:lnTo>
                  <a:lnTo>
                    <a:pt x="112" y="454"/>
                  </a:lnTo>
                  <a:lnTo>
                    <a:pt x="86" y="439"/>
                  </a:lnTo>
                  <a:lnTo>
                    <a:pt x="64" y="423"/>
                  </a:lnTo>
                  <a:lnTo>
                    <a:pt x="45" y="407"/>
                  </a:lnTo>
                  <a:lnTo>
                    <a:pt x="29" y="390"/>
                  </a:lnTo>
                  <a:lnTo>
                    <a:pt x="17" y="374"/>
                  </a:lnTo>
                  <a:lnTo>
                    <a:pt x="8" y="357"/>
                  </a:lnTo>
                  <a:lnTo>
                    <a:pt x="1" y="340"/>
                  </a:lnTo>
                  <a:lnTo>
                    <a:pt x="0" y="322"/>
                  </a:lnTo>
                  <a:lnTo>
                    <a:pt x="1" y="304"/>
                  </a:lnTo>
                  <a:lnTo>
                    <a:pt x="8" y="287"/>
                  </a:lnTo>
                  <a:lnTo>
                    <a:pt x="17" y="271"/>
                  </a:lnTo>
                  <a:lnTo>
                    <a:pt x="29" y="254"/>
                  </a:lnTo>
                  <a:lnTo>
                    <a:pt x="45" y="238"/>
                  </a:lnTo>
                  <a:lnTo>
                    <a:pt x="64" y="223"/>
                  </a:lnTo>
                  <a:lnTo>
                    <a:pt x="86" y="208"/>
                  </a:lnTo>
                  <a:lnTo>
                    <a:pt x="112" y="192"/>
                  </a:lnTo>
                  <a:lnTo>
                    <a:pt x="141" y="178"/>
                  </a:lnTo>
                  <a:lnTo>
                    <a:pt x="172" y="164"/>
                  </a:lnTo>
                  <a:lnTo>
                    <a:pt x="206" y="151"/>
                  </a:lnTo>
                  <a:lnTo>
                    <a:pt x="244" y="138"/>
                  </a:lnTo>
                  <a:lnTo>
                    <a:pt x="283" y="125"/>
                  </a:lnTo>
                  <a:lnTo>
                    <a:pt x="326" y="113"/>
                  </a:lnTo>
                  <a:lnTo>
                    <a:pt x="370" y="102"/>
                  </a:lnTo>
                  <a:lnTo>
                    <a:pt x="418" y="90"/>
                  </a:lnTo>
                  <a:lnTo>
                    <a:pt x="467" y="80"/>
                  </a:lnTo>
                  <a:lnTo>
                    <a:pt x="519" y="70"/>
                  </a:lnTo>
                  <a:lnTo>
                    <a:pt x="572" y="61"/>
                  </a:lnTo>
                  <a:lnTo>
                    <a:pt x="628" y="52"/>
                  </a:lnTo>
                  <a:lnTo>
                    <a:pt x="686" y="44"/>
                  </a:lnTo>
                  <a:lnTo>
                    <a:pt x="746" y="37"/>
                  </a:lnTo>
                  <a:lnTo>
                    <a:pt x="807" y="30"/>
                  </a:lnTo>
                  <a:lnTo>
                    <a:pt x="870" y="24"/>
                  </a:lnTo>
                  <a:lnTo>
                    <a:pt x="935" y="19"/>
                  </a:lnTo>
                  <a:lnTo>
                    <a:pt x="1001" y="14"/>
                  </a:lnTo>
                  <a:lnTo>
                    <a:pt x="1069" y="10"/>
                  </a:lnTo>
                  <a:lnTo>
                    <a:pt x="1138" y="6"/>
                  </a:lnTo>
                  <a:lnTo>
                    <a:pt x="1207" y="4"/>
                  </a:lnTo>
                  <a:lnTo>
                    <a:pt x="1279" y="2"/>
                  </a:lnTo>
                  <a:lnTo>
                    <a:pt x="1351" y="1"/>
                  </a:lnTo>
                  <a:lnTo>
                    <a:pt x="1424" y="0"/>
                  </a:lnTo>
                  <a:lnTo>
                    <a:pt x="1498" y="1"/>
                  </a:lnTo>
                  <a:lnTo>
                    <a:pt x="1570" y="2"/>
                  </a:lnTo>
                  <a:lnTo>
                    <a:pt x="1642" y="4"/>
                  </a:lnTo>
                  <a:lnTo>
                    <a:pt x="1711" y="6"/>
                  </a:lnTo>
                  <a:lnTo>
                    <a:pt x="1781" y="10"/>
                  </a:lnTo>
                  <a:lnTo>
                    <a:pt x="1848" y="14"/>
                  </a:lnTo>
                  <a:lnTo>
                    <a:pt x="1914" y="19"/>
                  </a:lnTo>
                  <a:lnTo>
                    <a:pt x="1979" y="24"/>
                  </a:lnTo>
                  <a:lnTo>
                    <a:pt x="2043" y="30"/>
                  </a:lnTo>
                  <a:lnTo>
                    <a:pt x="2103" y="37"/>
                  </a:lnTo>
                  <a:lnTo>
                    <a:pt x="2163" y="44"/>
                  </a:lnTo>
                  <a:lnTo>
                    <a:pt x="2221" y="52"/>
                  </a:lnTo>
                  <a:lnTo>
                    <a:pt x="2277" y="61"/>
                  </a:lnTo>
                  <a:lnTo>
                    <a:pt x="2330" y="70"/>
                  </a:lnTo>
                  <a:lnTo>
                    <a:pt x="2382" y="80"/>
                  </a:lnTo>
                  <a:lnTo>
                    <a:pt x="2431" y="90"/>
                  </a:lnTo>
                  <a:lnTo>
                    <a:pt x="2479" y="102"/>
                  </a:lnTo>
                  <a:lnTo>
                    <a:pt x="2523" y="113"/>
                  </a:lnTo>
                  <a:lnTo>
                    <a:pt x="2566" y="125"/>
                  </a:lnTo>
                  <a:lnTo>
                    <a:pt x="2606" y="138"/>
                  </a:lnTo>
                  <a:lnTo>
                    <a:pt x="2642" y="151"/>
                  </a:lnTo>
                  <a:lnTo>
                    <a:pt x="2677" y="164"/>
                  </a:lnTo>
                  <a:lnTo>
                    <a:pt x="2708" y="178"/>
                  </a:lnTo>
                  <a:lnTo>
                    <a:pt x="2737" y="192"/>
                  </a:lnTo>
                  <a:lnTo>
                    <a:pt x="2763" y="208"/>
                  </a:lnTo>
                  <a:lnTo>
                    <a:pt x="2785" y="223"/>
                  </a:lnTo>
                  <a:lnTo>
                    <a:pt x="2804" y="238"/>
                  </a:lnTo>
                  <a:lnTo>
                    <a:pt x="2820" y="254"/>
                  </a:lnTo>
                  <a:lnTo>
                    <a:pt x="2832" y="271"/>
                  </a:lnTo>
                  <a:lnTo>
                    <a:pt x="2841" y="287"/>
                  </a:lnTo>
                  <a:lnTo>
                    <a:pt x="2847" y="304"/>
                  </a:lnTo>
                  <a:lnTo>
                    <a:pt x="2849" y="322"/>
                  </a:lnTo>
                  <a:close/>
                </a:path>
              </a:pathLst>
            </a:custGeom>
            <a:solidFill>
              <a:srgbClr val="fb4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91880" y="6519600"/>
              <a:ext cx="312480" cy="78480"/>
            </a:xfrm>
            <a:custGeom>
              <a:avLst/>
              <a:gdLst/>
              <a:ahLst/>
              <a:rect l="l" t="t" r="r" b="b"/>
              <a:pathLst>
                <a:path w="2846" h="660">
                  <a:moveTo>
                    <a:pt x="2846" y="321"/>
                  </a:moveTo>
                  <a:lnTo>
                    <a:pt x="2844" y="339"/>
                  </a:lnTo>
                  <a:lnTo>
                    <a:pt x="2839" y="356"/>
                  </a:lnTo>
                  <a:lnTo>
                    <a:pt x="2830" y="373"/>
                  </a:lnTo>
                  <a:lnTo>
                    <a:pt x="2817" y="389"/>
                  </a:lnTo>
                  <a:lnTo>
                    <a:pt x="2802" y="405"/>
                  </a:lnTo>
                  <a:lnTo>
                    <a:pt x="2783" y="422"/>
                  </a:lnTo>
                  <a:lnTo>
                    <a:pt x="2761" y="438"/>
                  </a:lnTo>
                  <a:lnTo>
                    <a:pt x="2734" y="453"/>
                  </a:lnTo>
                  <a:lnTo>
                    <a:pt x="2706" y="468"/>
                  </a:lnTo>
                  <a:lnTo>
                    <a:pt x="2675" y="482"/>
                  </a:lnTo>
                  <a:lnTo>
                    <a:pt x="2640" y="496"/>
                  </a:lnTo>
                  <a:lnTo>
                    <a:pt x="2603" y="510"/>
                  </a:lnTo>
                  <a:lnTo>
                    <a:pt x="2564" y="524"/>
                  </a:lnTo>
                  <a:lnTo>
                    <a:pt x="2521" y="537"/>
                  </a:lnTo>
                  <a:lnTo>
                    <a:pt x="2477" y="549"/>
                  </a:lnTo>
                  <a:lnTo>
                    <a:pt x="2429" y="561"/>
                  </a:lnTo>
                  <a:lnTo>
                    <a:pt x="2380" y="572"/>
                  </a:lnTo>
                  <a:lnTo>
                    <a:pt x="2328" y="582"/>
                  </a:lnTo>
                  <a:lnTo>
                    <a:pt x="2275" y="592"/>
                  </a:lnTo>
                  <a:lnTo>
                    <a:pt x="2219" y="602"/>
                  </a:lnTo>
                  <a:lnTo>
                    <a:pt x="2162" y="610"/>
                  </a:lnTo>
                  <a:lnTo>
                    <a:pt x="2102" y="619"/>
                  </a:lnTo>
                  <a:lnTo>
                    <a:pt x="2041" y="627"/>
                  </a:lnTo>
                  <a:lnTo>
                    <a:pt x="1978" y="634"/>
                  </a:lnTo>
                  <a:lnTo>
                    <a:pt x="1913" y="640"/>
                  </a:lnTo>
                  <a:lnTo>
                    <a:pt x="1847" y="645"/>
                  </a:lnTo>
                  <a:lnTo>
                    <a:pt x="1779" y="649"/>
                  </a:lnTo>
                  <a:lnTo>
                    <a:pt x="1710" y="653"/>
                  </a:lnTo>
                  <a:lnTo>
                    <a:pt x="1641" y="656"/>
                  </a:lnTo>
                  <a:lnTo>
                    <a:pt x="1569" y="658"/>
                  </a:lnTo>
                  <a:lnTo>
                    <a:pt x="1497" y="660"/>
                  </a:lnTo>
                  <a:lnTo>
                    <a:pt x="1423" y="660"/>
                  </a:lnTo>
                  <a:lnTo>
                    <a:pt x="1351" y="660"/>
                  </a:lnTo>
                  <a:lnTo>
                    <a:pt x="1278" y="658"/>
                  </a:lnTo>
                  <a:lnTo>
                    <a:pt x="1206" y="656"/>
                  </a:lnTo>
                  <a:lnTo>
                    <a:pt x="1137" y="653"/>
                  </a:lnTo>
                  <a:lnTo>
                    <a:pt x="1068" y="649"/>
                  </a:lnTo>
                  <a:lnTo>
                    <a:pt x="1000" y="645"/>
                  </a:lnTo>
                  <a:lnTo>
                    <a:pt x="935" y="640"/>
                  </a:lnTo>
                  <a:lnTo>
                    <a:pt x="870" y="634"/>
                  </a:lnTo>
                  <a:lnTo>
                    <a:pt x="806" y="627"/>
                  </a:lnTo>
                  <a:lnTo>
                    <a:pt x="745" y="619"/>
                  </a:lnTo>
                  <a:lnTo>
                    <a:pt x="685" y="610"/>
                  </a:lnTo>
                  <a:lnTo>
                    <a:pt x="628" y="602"/>
                  </a:lnTo>
                  <a:lnTo>
                    <a:pt x="572" y="592"/>
                  </a:lnTo>
                  <a:lnTo>
                    <a:pt x="519" y="582"/>
                  </a:lnTo>
                  <a:lnTo>
                    <a:pt x="467" y="572"/>
                  </a:lnTo>
                  <a:lnTo>
                    <a:pt x="418" y="561"/>
                  </a:lnTo>
                  <a:lnTo>
                    <a:pt x="370" y="549"/>
                  </a:lnTo>
                  <a:lnTo>
                    <a:pt x="326" y="537"/>
                  </a:lnTo>
                  <a:lnTo>
                    <a:pt x="283" y="524"/>
                  </a:lnTo>
                  <a:lnTo>
                    <a:pt x="244" y="510"/>
                  </a:lnTo>
                  <a:lnTo>
                    <a:pt x="206" y="496"/>
                  </a:lnTo>
                  <a:lnTo>
                    <a:pt x="172" y="482"/>
                  </a:lnTo>
                  <a:lnTo>
                    <a:pt x="141" y="468"/>
                  </a:lnTo>
                  <a:lnTo>
                    <a:pt x="113" y="453"/>
                  </a:lnTo>
                  <a:lnTo>
                    <a:pt x="87" y="438"/>
                  </a:lnTo>
                  <a:lnTo>
                    <a:pt x="64" y="422"/>
                  </a:lnTo>
                  <a:lnTo>
                    <a:pt x="45" y="405"/>
                  </a:lnTo>
                  <a:lnTo>
                    <a:pt x="30" y="389"/>
                  </a:lnTo>
                  <a:lnTo>
                    <a:pt x="17" y="373"/>
                  </a:lnTo>
                  <a:lnTo>
                    <a:pt x="8" y="356"/>
                  </a:lnTo>
                  <a:lnTo>
                    <a:pt x="2" y="339"/>
                  </a:lnTo>
                  <a:lnTo>
                    <a:pt x="0" y="321"/>
                  </a:lnTo>
                  <a:lnTo>
                    <a:pt x="2" y="303"/>
                  </a:lnTo>
                  <a:lnTo>
                    <a:pt x="8" y="286"/>
                  </a:lnTo>
                  <a:lnTo>
                    <a:pt x="17" y="270"/>
                  </a:lnTo>
                  <a:lnTo>
                    <a:pt x="30" y="253"/>
                  </a:lnTo>
                  <a:lnTo>
                    <a:pt x="45" y="238"/>
                  </a:lnTo>
                  <a:lnTo>
                    <a:pt x="64" y="222"/>
                  </a:lnTo>
                  <a:lnTo>
                    <a:pt x="87" y="207"/>
                  </a:lnTo>
                  <a:lnTo>
                    <a:pt x="113" y="191"/>
                  </a:lnTo>
                  <a:lnTo>
                    <a:pt x="141" y="177"/>
                  </a:lnTo>
                  <a:lnTo>
                    <a:pt x="172" y="163"/>
                  </a:lnTo>
                  <a:lnTo>
                    <a:pt x="206" y="150"/>
                  </a:lnTo>
                  <a:lnTo>
                    <a:pt x="244" y="137"/>
                  </a:lnTo>
                  <a:lnTo>
                    <a:pt x="283" y="125"/>
                  </a:lnTo>
                  <a:lnTo>
                    <a:pt x="326" y="113"/>
                  </a:lnTo>
                  <a:lnTo>
                    <a:pt x="370" y="102"/>
                  </a:lnTo>
                  <a:lnTo>
                    <a:pt x="418" y="91"/>
                  </a:lnTo>
                  <a:lnTo>
                    <a:pt x="467" y="79"/>
                  </a:lnTo>
                  <a:lnTo>
                    <a:pt x="519" y="70"/>
                  </a:lnTo>
                  <a:lnTo>
                    <a:pt x="572" y="61"/>
                  </a:lnTo>
                  <a:lnTo>
                    <a:pt x="628" y="52"/>
                  </a:lnTo>
                  <a:lnTo>
                    <a:pt x="685" y="44"/>
                  </a:lnTo>
                  <a:lnTo>
                    <a:pt x="745" y="37"/>
                  </a:lnTo>
                  <a:lnTo>
                    <a:pt x="806" y="30"/>
                  </a:lnTo>
                  <a:lnTo>
                    <a:pt x="870" y="24"/>
                  </a:lnTo>
                  <a:lnTo>
                    <a:pt x="935" y="18"/>
                  </a:lnTo>
                  <a:lnTo>
                    <a:pt x="1000" y="14"/>
                  </a:lnTo>
                  <a:lnTo>
                    <a:pt x="1068" y="10"/>
                  </a:lnTo>
                  <a:lnTo>
                    <a:pt x="1137" y="6"/>
                  </a:lnTo>
                  <a:lnTo>
                    <a:pt x="1206" y="4"/>
                  </a:lnTo>
                  <a:lnTo>
                    <a:pt x="1278" y="2"/>
                  </a:lnTo>
                  <a:lnTo>
                    <a:pt x="1351" y="1"/>
                  </a:lnTo>
                  <a:lnTo>
                    <a:pt x="1423" y="0"/>
                  </a:lnTo>
                  <a:lnTo>
                    <a:pt x="1497" y="1"/>
                  </a:lnTo>
                  <a:lnTo>
                    <a:pt x="1569" y="2"/>
                  </a:lnTo>
                  <a:lnTo>
                    <a:pt x="1641" y="4"/>
                  </a:lnTo>
                  <a:lnTo>
                    <a:pt x="1710" y="6"/>
                  </a:lnTo>
                  <a:lnTo>
                    <a:pt x="1779" y="10"/>
                  </a:lnTo>
                  <a:lnTo>
                    <a:pt x="1847" y="14"/>
                  </a:lnTo>
                  <a:lnTo>
                    <a:pt x="1913" y="18"/>
                  </a:lnTo>
                  <a:lnTo>
                    <a:pt x="1978" y="24"/>
                  </a:lnTo>
                  <a:lnTo>
                    <a:pt x="2041" y="30"/>
                  </a:lnTo>
                  <a:lnTo>
                    <a:pt x="2102" y="37"/>
                  </a:lnTo>
                  <a:lnTo>
                    <a:pt x="2162" y="44"/>
                  </a:lnTo>
                  <a:lnTo>
                    <a:pt x="2219" y="52"/>
                  </a:lnTo>
                  <a:lnTo>
                    <a:pt x="2275" y="61"/>
                  </a:lnTo>
                  <a:lnTo>
                    <a:pt x="2328" y="70"/>
                  </a:lnTo>
                  <a:lnTo>
                    <a:pt x="2380" y="79"/>
                  </a:lnTo>
                  <a:lnTo>
                    <a:pt x="2429" y="91"/>
                  </a:lnTo>
                  <a:lnTo>
                    <a:pt x="2477" y="102"/>
                  </a:lnTo>
                  <a:lnTo>
                    <a:pt x="2521" y="113"/>
                  </a:lnTo>
                  <a:lnTo>
                    <a:pt x="2564" y="125"/>
                  </a:lnTo>
                  <a:lnTo>
                    <a:pt x="2603" y="137"/>
                  </a:lnTo>
                  <a:lnTo>
                    <a:pt x="2640" y="150"/>
                  </a:lnTo>
                  <a:lnTo>
                    <a:pt x="2675" y="163"/>
                  </a:lnTo>
                  <a:lnTo>
                    <a:pt x="2706" y="177"/>
                  </a:lnTo>
                  <a:lnTo>
                    <a:pt x="2734" y="191"/>
                  </a:lnTo>
                  <a:lnTo>
                    <a:pt x="2761" y="207"/>
                  </a:lnTo>
                  <a:lnTo>
                    <a:pt x="2783" y="222"/>
                  </a:lnTo>
                  <a:lnTo>
                    <a:pt x="2802" y="238"/>
                  </a:lnTo>
                  <a:lnTo>
                    <a:pt x="2817" y="253"/>
                  </a:lnTo>
                  <a:lnTo>
                    <a:pt x="2830" y="270"/>
                  </a:lnTo>
                  <a:lnTo>
                    <a:pt x="2839" y="286"/>
                  </a:lnTo>
                  <a:lnTo>
                    <a:pt x="2844" y="303"/>
                  </a:lnTo>
                  <a:lnTo>
                    <a:pt x="2846" y="321"/>
                  </a:lnTo>
                  <a:close/>
                </a:path>
              </a:pathLst>
            </a:custGeom>
            <a:solidFill>
              <a:srgbClr val="fb4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91880" y="6519600"/>
              <a:ext cx="312480" cy="78480"/>
            </a:xfrm>
            <a:custGeom>
              <a:avLst/>
              <a:gdLst/>
              <a:ahLst/>
              <a:rect l="l" t="t" r="r" b="b"/>
              <a:pathLst>
                <a:path w="2844" h="658">
                  <a:moveTo>
                    <a:pt x="2844" y="320"/>
                  </a:moveTo>
                  <a:lnTo>
                    <a:pt x="2842" y="338"/>
                  </a:lnTo>
                  <a:lnTo>
                    <a:pt x="2836" y="355"/>
                  </a:lnTo>
                  <a:lnTo>
                    <a:pt x="2827" y="371"/>
                  </a:lnTo>
                  <a:lnTo>
                    <a:pt x="2815" y="388"/>
                  </a:lnTo>
                  <a:lnTo>
                    <a:pt x="2799" y="404"/>
                  </a:lnTo>
                  <a:lnTo>
                    <a:pt x="2780" y="421"/>
                  </a:lnTo>
                  <a:lnTo>
                    <a:pt x="2758" y="436"/>
                  </a:lnTo>
                  <a:lnTo>
                    <a:pt x="2732" y="452"/>
                  </a:lnTo>
                  <a:lnTo>
                    <a:pt x="2704" y="467"/>
                  </a:lnTo>
                  <a:lnTo>
                    <a:pt x="2673" y="481"/>
                  </a:lnTo>
                  <a:lnTo>
                    <a:pt x="2638" y="495"/>
                  </a:lnTo>
                  <a:lnTo>
                    <a:pt x="2601" y="509"/>
                  </a:lnTo>
                  <a:lnTo>
                    <a:pt x="2562" y="523"/>
                  </a:lnTo>
                  <a:lnTo>
                    <a:pt x="2519" y="535"/>
                  </a:lnTo>
                  <a:lnTo>
                    <a:pt x="2475" y="547"/>
                  </a:lnTo>
                  <a:lnTo>
                    <a:pt x="2427" y="559"/>
                  </a:lnTo>
                  <a:lnTo>
                    <a:pt x="2379" y="570"/>
                  </a:lnTo>
                  <a:lnTo>
                    <a:pt x="2326" y="581"/>
                  </a:lnTo>
                  <a:lnTo>
                    <a:pt x="2273" y="591"/>
                  </a:lnTo>
                  <a:lnTo>
                    <a:pt x="2217" y="600"/>
                  </a:lnTo>
                  <a:lnTo>
                    <a:pt x="2160" y="609"/>
                  </a:lnTo>
                  <a:lnTo>
                    <a:pt x="2100" y="617"/>
                  </a:lnTo>
                  <a:lnTo>
                    <a:pt x="2039" y="625"/>
                  </a:lnTo>
                  <a:lnTo>
                    <a:pt x="1976" y="632"/>
                  </a:lnTo>
                  <a:lnTo>
                    <a:pt x="1911" y="638"/>
                  </a:lnTo>
                  <a:lnTo>
                    <a:pt x="1846" y="643"/>
                  </a:lnTo>
                  <a:lnTo>
                    <a:pt x="1778" y="648"/>
                  </a:lnTo>
                  <a:lnTo>
                    <a:pt x="1709" y="651"/>
                  </a:lnTo>
                  <a:lnTo>
                    <a:pt x="1639" y="654"/>
                  </a:lnTo>
                  <a:lnTo>
                    <a:pt x="1568" y="656"/>
                  </a:lnTo>
                  <a:lnTo>
                    <a:pt x="1495" y="658"/>
                  </a:lnTo>
                  <a:lnTo>
                    <a:pt x="1422" y="658"/>
                  </a:lnTo>
                  <a:lnTo>
                    <a:pt x="1350" y="658"/>
                  </a:lnTo>
                  <a:lnTo>
                    <a:pt x="1277" y="656"/>
                  </a:lnTo>
                  <a:lnTo>
                    <a:pt x="1206" y="654"/>
                  </a:lnTo>
                  <a:lnTo>
                    <a:pt x="1136" y="651"/>
                  </a:lnTo>
                  <a:lnTo>
                    <a:pt x="1067" y="648"/>
                  </a:lnTo>
                  <a:lnTo>
                    <a:pt x="999" y="643"/>
                  </a:lnTo>
                  <a:lnTo>
                    <a:pt x="934" y="638"/>
                  </a:lnTo>
                  <a:lnTo>
                    <a:pt x="869" y="632"/>
                  </a:lnTo>
                  <a:lnTo>
                    <a:pt x="806" y="625"/>
                  </a:lnTo>
                  <a:lnTo>
                    <a:pt x="745" y="617"/>
                  </a:lnTo>
                  <a:lnTo>
                    <a:pt x="685" y="609"/>
                  </a:lnTo>
                  <a:lnTo>
                    <a:pt x="628" y="600"/>
                  </a:lnTo>
                  <a:lnTo>
                    <a:pt x="572" y="591"/>
                  </a:lnTo>
                  <a:lnTo>
                    <a:pt x="519" y="581"/>
                  </a:lnTo>
                  <a:lnTo>
                    <a:pt x="467" y="570"/>
                  </a:lnTo>
                  <a:lnTo>
                    <a:pt x="418" y="559"/>
                  </a:lnTo>
                  <a:lnTo>
                    <a:pt x="370" y="547"/>
                  </a:lnTo>
                  <a:lnTo>
                    <a:pt x="326" y="535"/>
                  </a:lnTo>
                  <a:lnTo>
                    <a:pt x="283" y="523"/>
                  </a:lnTo>
                  <a:lnTo>
                    <a:pt x="244" y="509"/>
                  </a:lnTo>
                  <a:lnTo>
                    <a:pt x="206" y="495"/>
                  </a:lnTo>
                  <a:lnTo>
                    <a:pt x="172" y="481"/>
                  </a:lnTo>
                  <a:lnTo>
                    <a:pt x="141" y="467"/>
                  </a:lnTo>
                  <a:lnTo>
                    <a:pt x="113" y="452"/>
                  </a:lnTo>
                  <a:lnTo>
                    <a:pt x="87" y="436"/>
                  </a:lnTo>
                  <a:lnTo>
                    <a:pt x="65" y="421"/>
                  </a:lnTo>
                  <a:lnTo>
                    <a:pt x="46" y="404"/>
                  </a:lnTo>
                  <a:lnTo>
                    <a:pt x="30" y="388"/>
                  </a:lnTo>
                  <a:lnTo>
                    <a:pt x="18" y="371"/>
                  </a:lnTo>
                  <a:lnTo>
                    <a:pt x="9" y="355"/>
                  </a:lnTo>
                  <a:lnTo>
                    <a:pt x="2" y="338"/>
                  </a:lnTo>
                  <a:lnTo>
                    <a:pt x="0" y="320"/>
                  </a:lnTo>
                  <a:lnTo>
                    <a:pt x="2" y="302"/>
                  </a:lnTo>
                  <a:lnTo>
                    <a:pt x="9" y="285"/>
                  </a:lnTo>
                  <a:lnTo>
                    <a:pt x="18" y="269"/>
                  </a:lnTo>
                  <a:lnTo>
                    <a:pt x="30" y="253"/>
                  </a:lnTo>
                  <a:lnTo>
                    <a:pt x="46" y="237"/>
                  </a:lnTo>
                  <a:lnTo>
                    <a:pt x="65" y="221"/>
                  </a:lnTo>
                  <a:lnTo>
                    <a:pt x="87" y="206"/>
                  </a:lnTo>
                  <a:lnTo>
                    <a:pt x="113" y="191"/>
                  </a:lnTo>
                  <a:lnTo>
                    <a:pt x="141" y="177"/>
                  </a:lnTo>
                  <a:lnTo>
                    <a:pt x="172" y="163"/>
                  </a:lnTo>
                  <a:lnTo>
                    <a:pt x="206" y="150"/>
                  </a:lnTo>
                  <a:lnTo>
                    <a:pt x="244" y="137"/>
                  </a:lnTo>
                  <a:lnTo>
                    <a:pt x="283" y="124"/>
                  </a:lnTo>
                  <a:lnTo>
                    <a:pt x="326" y="113"/>
                  </a:lnTo>
                  <a:lnTo>
                    <a:pt x="370" y="101"/>
                  </a:lnTo>
                  <a:lnTo>
                    <a:pt x="418" y="90"/>
                  </a:lnTo>
                  <a:lnTo>
                    <a:pt x="467" y="79"/>
                  </a:lnTo>
                  <a:lnTo>
                    <a:pt x="519" y="69"/>
                  </a:lnTo>
                  <a:lnTo>
                    <a:pt x="572" y="60"/>
                  </a:lnTo>
                  <a:lnTo>
                    <a:pt x="628" y="52"/>
                  </a:lnTo>
                  <a:lnTo>
                    <a:pt x="685" y="44"/>
                  </a:lnTo>
                  <a:lnTo>
                    <a:pt x="745" y="36"/>
                  </a:lnTo>
                  <a:lnTo>
                    <a:pt x="806" y="30"/>
                  </a:lnTo>
                  <a:lnTo>
                    <a:pt x="869" y="24"/>
                  </a:lnTo>
                  <a:lnTo>
                    <a:pt x="934" y="18"/>
                  </a:lnTo>
                  <a:lnTo>
                    <a:pt x="999" y="14"/>
                  </a:lnTo>
                  <a:lnTo>
                    <a:pt x="1067" y="10"/>
                  </a:lnTo>
                  <a:lnTo>
                    <a:pt x="1136" y="6"/>
                  </a:lnTo>
                  <a:lnTo>
                    <a:pt x="1206" y="4"/>
                  </a:lnTo>
                  <a:lnTo>
                    <a:pt x="1277" y="2"/>
                  </a:lnTo>
                  <a:lnTo>
                    <a:pt x="1350" y="1"/>
                  </a:lnTo>
                  <a:lnTo>
                    <a:pt x="1422" y="0"/>
                  </a:lnTo>
                  <a:lnTo>
                    <a:pt x="1495" y="1"/>
                  </a:lnTo>
                  <a:lnTo>
                    <a:pt x="1568" y="2"/>
                  </a:lnTo>
                  <a:lnTo>
                    <a:pt x="1639" y="4"/>
                  </a:lnTo>
                  <a:lnTo>
                    <a:pt x="1709" y="6"/>
                  </a:lnTo>
                  <a:lnTo>
                    <a:pt x="1778" y="10"/>
                  </a:lnTo>
                  <a:lnTo>
                    <a:pt x="1846" y="14"/>
                  </a:lnTo>
                  <a:lnTo>
                    <a:pt x="1911" y="18"/>
                  </a:lnTo>
                  <a:lnTo>
                    <a:pt x="1976" y="24"/>
                  </a:lnTo>
                  <a:lnTo>
                    <a:pt x="2039" y="30"/>
                  </a:lnTo>
                  <a:lnTo>
                    <a:pt x="2100" y="36"/>
                  </a:lnTo>
                  <a:lnTo>
                    <a:pt x="2160" y="44"/>
                  </a:lnTo>
                  <a:lnTo>
                    <a:pt x="2217" y="52"/>
                  </a:lnTo>
                  <a:lnTo>
                    <a:pt x="2273" y="60"/>
                  </a:lnTo>
                  <a:lnTo>
                    <a:pt x="2326" y="69"/>
                  </a:lnTo>
                  <a:lnTo>
                    <a:pt x="2379" y="79"/>
                  </a:lnTo>
                  <a:lnTo>
                    <a:pt x="2427" y="90"/>
                  </a:lnTo>
                  <a:lnTo>
                    <a:pt x="2475" y="101"/>
                  </a:lnTo>
                  <a:lnTo>
                    <a:pt x="2519" y="113"/>
                  </a:lnTo>
                  <a:lnTo>
                    <a:pt x="2562" y="124"/>
                  </a:lnTo>
                  <a:lnTo>
                    <a:pt x="2601" y="137"/>
                  </a:lnTo>
                  <a:lnTo>
                    <a:pt x="2638" y="150"/>
                  </a:lnTo>
                  <a:lnTo>
                    <a:pt x="2673" y="163"/>
                  </a:lnTo>
                  <a:lnTo>
                    <a:pt x="2704" y="177"/>
                  </a:lnTo>
                  <a:lnTo>
                    <a:pt x="2732" y="191"/>
                  </a:lnTo>
                  <a:lnTo>
                    <a:pt x="2758" y="206"/>
                  </a:lnTo>
                  <a:lnTo>
                    <a:pt x="2780" y="221"/>
                  </a:lnTo>
                  <a:lnTo>
                    <a:pt x="2799" y="237"/>
                  </a:lnTo>
                  <a:lnTo>
                    <a:pt x="2815" y="253"/>
                  </a:lnTo>
                  <a:lnTo>
                    <a:pt x="2827" y="269"/>
                  </a:lnTo>
                  <a:lnTo>
                    <a:pt x="2836" y="285"/>
                  </a:lnTo>
                  <a:lnTo>
                    <a:pt x="2842" y="302"/>
                  </a:lnTo>
                  <a:lnTo>
                    <a:pt x="2844" y="320"/>
                  </a:lnTo>
                  <a:close/>
                </a:path>
              </a:pathLst>
            </a:custGeom>
            <a:solidFill>
              <a:srgbClr val="fb4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91880" y="6519600"/>
              <a:ext cx="312480" cy="78480"/>
            </a:xfrm>
            <a:custGeom>
              <a:avLst/>
              <a:gdLst/>
              <a:ahLst/>
              <a:rect l="l" t="t" r="r" b="b"/>
              <a:pathLst>
                <a:path w="2840" h="656">
                  <a:moveTo>
                    <a:pt x="2840" y="319"/>
                  </a:moveTo>
                  <a:lnTo>
                    <a:pt x="2838" y="337"/>
                  </a:lnTo>
                  <a:lnTo>
                    <a:pt x="2833" y="354"/>
                  </a:lnTo>
                  <a:lnTo>
                    <a:pt x="2824" y="370"/>
                  </a:lnTo>
                  <a:lnTo>
                    <a:pt x="2812" y="387"/>
                  </a:lnTo>
                  <a:lnTo>
                    <a:pt x="2796" y="403"/>
                  </a:lnTo>
                  <a:lnTo>
                    <a:pt x="2777" y="420"/>
                  </a:lnTo>
                  <a:lnTo>
                    <a:pt x="2755" y="435"/>
                  </a:lnTo>
                  <a:lnTo>
                    <a:pt x="2729" y="450"/>
                  </a:lnTo>
                  <a:lnTo>
                    <a:pt x="2701" y="465"/>
                  </a:lnTo>
                  <a:lnTo>
                    <a:pt x="2670" y="480"/>
                  </a:lnTo>
                  <a:lnTo>
                    <a:pt x="2635" y="493"/>
                  </a:lnTo>
                  <a:lnTo>
                    <a:pt x="2598" y="507"/>
                  </a:lnTo>
                  <a:lnTo>
                    <a:pt x="2559" y="521"/>
                  </a:lnTo>
                  <a:lnTo>
                    <a:pt x="2516" y="534"/>
                  </a:lnTo>
                  <a:lnTo>
                    <a:pt x="2472" y="546"/>
                  </a:lnTo>
                  <a:lnTo>
                    <a:pt x="2424" y="557"/>
                  </a:lnTo>
                  <a:lnTo>
                    <a:pt x="2376" y="568"/>
                  </a:lnTo>
                  <a:lnTo>
                    <a:pt x="2324" y="579"/>
                  </a:lnTo>
                  <a:lnTo>
                    <a:pt x="2270" y="589"/>
                  </a:lnTo>
                  <a:lnTo>
                    <a:pt x="2214" y="598"/>
                  </a:lnTo>
                  <a:lnTo>
                    <a:pt x="2157" y="607"/>
                  </a:lnTo>
                  <a:lnTo>
                    <a:pt x="2097" y="615"/>
                  </a:lnTo>
                  <a:lnTo>
                    <a:pt x="2037" y="622"/>
                  </a:lnTo>
                  <a:lnTo>
                    <a:pt x="1973" y="630"/>
                  </a:lnTo>
                  <a:lnTo>
                    <a:pt x="1909" y="636"/>
                  </a:lnTo>
                  <a:lnTo>
                    <a:pt x="1843" y="641"/>
                  </a:lnTo>
                  <a:lnTo>
                    <a:pt x="1775" y="646"/>
                  </a:lnTo>
                  <a:lnTo>
                    <a:pt x="1706" y="649"/>
                  </a:lnTo>
                  <a:lnTo>
                    <a:pt x="1637" y="652"/>
                  </a:lnTo>
                  <a:lnTo>
                    <a:pt x="1566" y="654"/>
                  </a:lnTo>
                  <a:lnTo>
                    <a:pt x="1493" y="656"/>
                  </a:lnTo>
                  <a:lnTo>
                    <a:pt x="1420" y="656"/>
                  </a:lnTo>
                  <a:lnTo>
                    <a:pt x="1348" y="656"/>
                  </a:lnTo>
                  <a:lnTo>
                    <a:pt x="1275" y="654"/>
                  </a:lnTo>
                  <a:lnTo>
                    <a:pt x="1204" y="652"/>
                  </a:lnTo>
                  <a:lnTo>
                    <a:pt x="1135" y="649"/>
                  </a:lnTo>
                  <a:lnTo>
                    <a:pt x="1066" y="646"/>
                  </a:lnTo>
                  <a:lnTo>
                    <a:pt x="998" y="641"/>
                  </a:lnTo>
                  <a:lnTo>
                    <a:pt x="933" y="636"/>
                  </a:lnTo>
                  <a:lnTo>
                    <a:pt x="868" y="630"/>
                  </a:lnTo>
                  <a:lnTo>
                    <a:pt x="804" y="622"/>
                  </a:lnTo>
                  <a:lnTo>
                    <a:pt x="744" y="615"/>
                  </a:lnTo>
                  <a:lnTo>
                    <a:pt x="684" y="607"/>
                  </a:lnTo>
                  <a:lnTo>
                    <a:pt x="627" y="598"/>
                  </a:lnTo>
                  <a:lnTo>
                    <a:pt x="571" y="589"/>
                  </a:lnTo>
                  <a:lnTo>
                    <a:pt x="518" y="579"/>
                  </a:lnTo>
                  <a:lnTo>
                    <a:pt x="466" y="568"/>
                  </a:lnTo>
                  <a:lnTo>
                    <a:pt x="417" y="557"/>
                  </a:lnTo>
                  <a:lnTo>
                    <a:pt x="369" y="546"/>
                  </a:lnTo>
                  <a:lnTo>
                    <a:pt x="325" y="534"/>
                  </a:lnTo>
                  <a:lnTo>
                    <a:pt x="282" y="521"/>
                  </a:lnTo>
                  <a:lnTo>
                    <a:pt x="243" y="507"/>
                  </a:lnTo>
                  <a:lnTo>
                    <a:pt x="206" y="493"/>
                  </a:lnTo>
                  <a:lnTo>
                    <a:pt x="172" y="480"/>
                  </a:lnTo>
                  <a:lnTo>
                    <a:pt x="141" y="465"/>
                  </a:lnTo>
                  <a:lnTo>
                    <a:pt x="112" y="450"/>
                  </a:lnTo>
                  <a:lnTo>
                    <a:pt x="86" y="435"/>
                  </a:lnTo>
                  <a:lnTo>
                    <a:pt x="64" y="420"/>
                  </a:lnTo>
                  <a:lnTo>
                    <a:pt x="45" y="403"/>
                  </a:lnTo>
                  <a:lnTo>
                    <a:pt x="30" y="387"/>
                  </a:lnTo>
                  <a:lnTo>
                    <a:pt x="17" y="370"/>
                  </a:lnTo>
                  <a:lnTo>
                    <a:pt x="8" y="354"/>
                  </a:lnTo>
                  <a:lnTo>
                    <a:pt x="3" y="337"/>
                  </a:lnTo>
                  <a:lnTo>
                    <a:pt x="0" y="319"/>
                  </a:lnTo>
                  <a:lnTo>
                    <a:pt x="3" y="301"/>
                  </a:lnTo>
                  <a:lnTo>
                    <a:pt x="8" y="284"/>
                  </a:lnTo>
                  <a:lnTo>
                    <a:pt x="17" y="268"/>
                  </a:lnTo>
                  <a:lnTo>
                    <a:pt x="30" y="252"/>
                  </a:lnTo>
                  <a:lnTo>
                    <a:pt x="45" y="236"/>
                  </a:lnTo>
                  <a:lnTo>
                    <a:pt x="64" y="221"/>
                  </a:lnTo>
                  <a:lnTo>
                    <a:pt x="86" y="206"/>
                  </a:lnTo>
                  <a:lnTo>
                    <a:pt x="112" y="190"/>
                  </a:lnTo>
                  <a:lnTo>
                    <a:pt x="141" y="176"/>
                  </a:lnTo>
                  <a:lnTo>
                    <a:pt x="172" y="162"/>
                  </a:lnTo>
                  <a:lnTo>
                    <a:pt x="206" y="149"/>
                  </a:lnTo>
                  <a:lnTo>
                    <a:pt x="243" y="136"/>
                  </a:lnTo>
                  <a:lnTo>
                    <a:pt x="282" y="124"/>
                  </a:lnTo>
                  <a:lnTo>
                    <a:pt x="325" y="112"/>
                  </a:lnTo>
                  <a:lnTo>
                    <a:pt x="369" y="101"/>
                  </a:lnTo>
                  <a:lnTo>
                    <a:pt x="417" y="90"/>
                  </a:lnTo>
                  <a:lnTo>
                    <a:pt x="466" y="79"/>
                  </a:lnTo>
                  <a:lnTo>
                    <a:pt x="518" y="69"/>
                  </a:lnTo>
                  <a:lnTo>
                    <a:pt x="571" y="60"/>
                  </a:lnTo>
                  <a:lnTo>
                    <a:pt x="627" y="52"/>
                  </a:lnTo>
                  <a:lnTo>
                    <a:pt x="684" y="44"/>
                  </a:lnTo>
                  <a:lnTo>
                    <a:pt x="744" y="36"/>
                  </a:lnTo>
                  <a:lnTo>
                    <a:pt x="804" y="30"/>
                  </a:lnTo>
                  <a:lnTo>
                    <a:pt x="868" y="24"/>
                  </a:lnTo>
                  <a:lnTo>
                    <a:pt x="933" y="18"/>
                  </a:lnTo>
                  <a:lnTo>
                    <a:pt x="998" y="13"/>
                  </a:lnTo>
                  <a:lnTo>
                    <a:pt x="1066" y="9"/>
                  </a:lnTo>
                  <a:lnTo>
                    <a:pt x="1135" y="6"/>
                  </a:lnTo>
                  <a:lnTo>
                    <a:pt x="1204" y="3"/>
                  </a:lnTo>
                  <a:lnTo>
                    <a:pt x="1275" y="2"/>
                  </a:lnTo>
                  <a:lnTo>
                    <a:pt x="1348" y="0"/>
                  </a:lnTo>
                  <a:lnTo>
                    <a:pt x="1420" y="0"/>
                  </a:lnTo>
                  <a:lnTo>
                    <a:pt x="1493" y="0"/>
                  </a:lnTo>
                  <a:lnTo>
                    <a:pt x="1566" y="2"/>
                  </a:lnTo>
                  <a:lnTo>
                    <a:pt x="1637" y="3"/>
                  </a:lnTo>
                  <a:lnTo>
                    <a:pt x="1706" y="6"/>
                  </a:lnTo>
                  <a:lnTo>
                    <a:pt x="1775" y="9"/>
                  </a:lnTo>
                  <a:lnTo>
                    <a:pt x="1843" y="13"/>
                  </a:lnTo>
                  <a:lnTo>
                    <a:pt x="1909" y="18"/>
                  </a:lnTo>
                  <a:lnTo>
                    <a:pt x="1973" y="24"/>
                  </a:lnTo>
                  <a:lnTo>
                    <a:pt x="2037" y="30"/>
                  </a:lnTo>
                  <a:lnTo>
                    <a:pt x="2097" y="36"/>
                  </a:lnTo>
                  <a:lnTo>
                    <a:pt x="2157" y="44"/>
                  </a:lnTo>
                  <a:lnTo>
                    <a:pt x="2214" y="52"/>
                  </a:lnTo>
                  <a:lnTo>
                    <a:pt x="2270" y="60"/>
                  </a:lnTo>
                  <a:lnTo>
                    <a:pt x="2324" y="69"/>
                  </a:lnTo>
                  <a:lnTo>
                    <a:pt x="2376" y="79"/>
                  </a:lnTo>
                  <a:lnTo>
                    <a:pt x="2424" y="90"/>
                  </a:lnTo>
                  <a:lnTo>
                    <a:pt x="2472" y="101"/>
                  </a:lnTo>
                  <a:lnTo>
                    <a:pt x="2516" y="112"/>
                  </a:lnTo>
                  <a:lnTo>
                    <a:pt x="2559" y="124"/>
                  </a:lnTo>
                  <a:lnTo>
                    <a:pt x="2598" y="136"/>
                  </a:lnTo>
                  <a:lnTo>
                    <a:pt x="2635" y="149"/>
                  </a:lnTo>
                  <a:lnTo>
                    <a:pt x="2670" y="162"/>
                  </a:lnTo>
                  <a:lnTo>
                    <a:pt x="2701" y="176"/>
                  </a:lnTo>
                  <a:lnTo>
                    <a:pt x="2729" y="190"/>
                  </a:lnTo>
                  <a:lnTo>
                    <a:pt x="2755" y="206"/>
                  </a:lnTo>
                  <a:lnTo>
                    <a:pt x="2777" y="221"/>
                  </a:lnTo>
                  <a:lnTo>
                    <a:pt x="2796" y="236"/>
                  </a:lnTo>
                  <a:lnTo>
                    <a:pt x="2812" y="252"/>
                  </a:lnTo>
                  <a:lnTo>
                    <a:pt x="2824" y="268"/>
                  </a:lnTo>
                  <a:lnTo>
                    <a:pt x="2833" y="284"/>
                  </a:lnTo>
                  <a:lnTo>
                    <a:pt x="2838" y="301"/>
                  </a:lnTo>
                  <a:lnTo>
                    <a:pt x="2840" y="319"/>
                  </a:lnTo>
                  <a:close/>
                </a:path>
              </a:pathLst>
            </a:custGeom>
            <a:solidFill>
              <a:srgbClr val="fb4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91880" y="6519600"/>
              <a:ext cx="312480" cy="78480"/>
            </a:xfrm>
            <a:custGeom>
              <a:avLst/>
              <a:gdLst/>
              <a:ahLst/>
              <a:rect l="l" t="t" r="r" b="b"/>
              <a:pathLst>
                <a:path w="2838" h="654">
                  <a:moveTo>
                    <a:pt x="2838" y="318"/>
                  </a:moveTo>
                  <a:lnTo>
                    <a:pt x="2836" y="336"/>
                  </a:lnTo>
                  <a:lnTo>
                    <a:pt x="2831" y="352"/>
                  </a:lnTo>
                  <a:lnTo>
                    <a:pt x="2822" y="369"/>
                  </a:lnTo>
                  <a:lnTo>
                    <a:pt x="2809" y="385"/>
                  </a:lnTo>
                  <a:lnTo>
                    <a:pt x="2794" y="402"/>
                  </a:lnTo>
                  <a:lnTo>
                    <a:pt x="2775" y="418"/>
                  </a:lnTo>
                  <a:lnTo>
                    <a:pt x="2753" y="434"/>
                  </a:lnTo>
                  <a:lnTo>
                    <a:pt x="2726" y="449"/>
                  </a:lnTo>
                  <a:lnTo>
                    <a:pt x="2698" y="464"/>
                  </a:lnTo>
                  <a:lnTo>
                    <a:pt x="2667" y="478"/>
                  </a:lnTo>
                  <a:lnTo>
                    <a:pt x="2632" y="492"/>
                  </a:lnTo>
                  <a:lnTo>
                    <a:pt x="2596" y="506"/>
                  </a:lnTo>
                  <a:lnTo>
                    <a:pt x="2557" y="520"/>
                  </a:lnTo>
                  <a:lnTo>
                    <a:pt x="2514" y="532"/>
                  </a:lnTo>
                  <a:lnTo>
                    <a:pt x="2470" y="544"/>
                  </a:lnTo>
                  <a:lnTo>
                    <a:pt x="2422" y="556"/>
                  </a:lnTo>
                  <a:lnTo>
                    <a:pt x="2374" y="567"/>
                  </a:lnTo>
                  <a:lnTo>
                    <a:pt x="2322" y="577"/>
                  </a:lnTo>
                  <a:lnTo>
                    <a:pt x="2269" y="587"/>
                  </a:lnTo>
                  <a:lnTo>
                    <a:pt x="2213" y="596"/>
                  </a:lnTo>
                  <a:lnTo>
                    <a:pt x="2156" y="605"/>
                  </a:lnTo>
                  <a:lnTo>
                    <a:pt x="2096" y="613"/>
                  </a:lnTo>
                  <a:lnTo>
                    <a:pt x="2035" y="620"/>
                  </a:lnTo>
                  <a:lnTo>
                    <a:pt x="1972" y="628"/>
                  </a:lnTo>
                  <a:lnTo>
                    <a:pt x="1907" y="634"/>
                  </a:lnTo>
                  <a:lnTo>
                    <a:pt x="1842" y="639"/>
                  </a:lnTo>
                  <a:lnTo>
                    <a:pt x="1774" y="644"/>
                  </a:lnTo>
                  <a:lnTo>
                    <a:pt x="1705" y="647"/>
                  </a:lnTo>
                  <a:lnTo>
                    <a:pt x="1636" y="650"/>
                  </a:lnTo>
                  <a:lnTo>
                    <a:pt x="1565" y="653"/>
                  </a:lnTo>
                  <a:lnTo>
                    <a:pt x="1492" y="654"/>
                  </a:lnTo>
                  <a:lnTo>
                    <a:pt x="1419" y="654"/>
                  </a:lnTo>
                  <a:lnTo>
                    <a:pt x="1347" y="654"/>
                  </a:lnTo>
                  <a:lnTo>
                    <a:pt x="1274" y="653"/>
                  </a:lnTo>
                  <a:lnTo>
                    <a:pt x="1203" y="650"/>
                  </a:lnTo>
                  <a:lnTo>
                    <a:pt x="1134" y="647"/>
                  </a:lnTo>
                  <a:lnTo>
                    <a:pt x="1065" y="644"/>
                  </a:lnTo>
                  <a:lnTo>
                    <a:pt x="997" y="639"/>
                  </a:lnTo>
                  <a:lnTo>
                    <a:pt x="932" y="634"/>
                  </a:lnTo>
                  <a:lnTo>
                    <a:pt x="867" y="628"/>
                  </a:lnTo>
                  <a:lnTo>
                    <a:pt x="804" y="620"/>
                  </a:lnTo>
                  <a:lnTo>
                    <a:pt x="743" y="613"/>
                  </a:lnTo>
                  <a:lnTo>
                    <a:pt x="684" y="605"/>
                  </a:lnTo>
                  <a:lnTo>
                    <a:pt x="627" y="596"/>
                  </a:lnTo>
                  <a:lnTo>
                    <a:pt x="571" y="587"/>
                  </a:lnTo>
                  <a:lnTo>
                    <a:pt x="518" y="577"/>
                  </a:lnTo>
                  <a:lnTo>
                    <a:pt x="466" y="567"/>
                  </a:lnTo>
                  <a:lnTo>
                    <a:pt x="417" y="556"/>
                  </a:lnTo>
                  <a:lnTo>
                    <a:pt x="369" y="544"/>
                  </a:lnTo>
                  <a:lnTo>
                    <a:pt x="325" y="532"/>
                  </a:lnTo>
                  <a:lnTo>
                    <a:pt x="282" y="520"/>
                  </a:lnTo>
                  <a:lnTo>
                    <a:pt x="243" y="506"/>
                  </a:lnTo>
                  <a:lnTo>
                    <a:pt x="207" y="492"/>
                  </a:lnTo>
                  <a:lnTo>
                    <a:pt x="172" y="478"/>
                  </a:lnTo>
                  <a:lnTo>
                    <a:pt x="141" y="464"/>
                  </a:lnTo>
                  <a:lnTo>
                    <a:pt x="113" y="449"/>
                  </a:lnTo>
                  <a:lnTo>
                    <a:pt x="87" y="434"/>
                  </a:lnTo>
                  <a:lnTo>
                    <a:pt x="64" y="418"/>
                  </a:lnTo>
                  <a:lnTo>
                    <a:pt x="46" y="402"/>
                  </a:lnTo>
                  <a:lnTo>
                    <a:pt x="30" y="385"/>
                  </a:lnTo>
                  <a:lnTo>
                    <a:pt x="18" y="369"/>
                  </a:lnTo>
                  <a:lnTo>
                    <a:pt x="9" y="352"/>
                  </a:lnTo>
                  <a:lnTo>
                    <a:pt x="3" y="336"/>
                  </a:lnTo>
                  <a:lnTo>
                    <a:pt x="0" y="318"/>
                  </a:lnTo>
                  <a:lnTo>
                    <a:pt x="3" y="300"/>
                  </a:lnTo>
                  <a:lnTo>
                    <a:pt x="9" y="284"/>
                  </a:lnTo>
                  <a:lnTo>
                    <a:pt x="18" y="267"/>
                  </a:lnTo>
                  <a:lnTo>
                    <a:pt x="30" y="251"/>
                  </a:lnTo>
                  <a:lnTo>
                    <a:pt x="46" y="235"/>
                  </a:lnTo>
                  <a:lnTo>
                    <a:pt x="64" y="220"/>
                  </a:lnTo>
                  <a:lnTo>
                    <a:pt x="87" y="205"/>
                  </a:lnTo>
                  <a:lnTo>
                    <a:pt x="113" y="190"/>
                  </a:lnTo>
                  <a:lnTo>
                    <a:pt x="141" y="175"/>
                  </a:lnTo>
                  <a:lnTo>
                    <a:pt x="172" y="162"/>
                  </a:lnTo>
                  <a:lnTo>
                    <a:pt x="207" y="149"/>
                  </a:lnTo>
                  <a:lnTo>
                    <a:pt x="243" y="136"/>
                  </a:lnTo>
                  <a:lnTo>
                    <a:pt x="282" y="124"/>
                  </a:lnTo>
                  <a:lnTo>
                    <a:pt x="325" y="112"/>
                  </a:lnTo>
                  <a:lnTo>
                    <a:pt x="369" y="100"/>
                  </a:lnTo>
                  <a:lnTo>
                    <a:pt x="417" y="90"/>
                  </a:lnTo>
                  <a:lnTo>
                    <a:pt x="466" y="79"/>
                  </a:lnTo>
                  <a:lnTo>
                    <a:pt x="518" y="69"/>
                  </a:lnTo>
                  <a:lnTo>
                    <a:pt x="571" y="60"/>
                  </a:lnTo>
                  <a:lnTo>
                    <a:pt x="627" y="51"/>
                  </a:lnTo>
                  <a:lnTo>
                    <a:pt x="684" y="43"/>
                  </a:lnTo>
                  <a:lnTo>
                    <a:pt x="743" y="36"/>
                  </a:lnTo>
                  <a:lnTo>
                    <a:pt x="804" y="29"/>
                  </a:lnTo>
                  <a:lnTo>
                    <a:pt x="867" y="23"/>
                  </a:lnTo>
                  <a:lnTo>
                    <a:pt x="932" y="18"/>
                  </a:lnTo>
                  <a:lnTo>
                    <a:pt x="997" y="13"/>
                  </a:lnTo>
                  <a:lnTo>
                    <a:pt x="1065" y="9"/>
                  </a:lnTo>
                  <a:lnTo>
                    <a:pt x="1134" y="6"/>
                  </a:lnTo>
                  <a:lnTo>
                    <a:pt x="1203" y="3"/>
                  </a:lnTo>
                  <a:lnTo>
                    <a:pt x="1274" y="2"/>
                  </a:lnTo>
                  <a:lnTo>
                    <a:pt x="1347" y="0"/>
                  </a:lnTo>
                  <a:lnTo>
                    <a:pt x="1419" y="0"/>
                  </a:lnTo>
                  <a:lnTo>
                    <a:pt x="1492" y="0"/>
                  </a:lnTo>
                  <a:lnTo>
                    <a:pt x="1565" y="2"/>
                  </a:lnTo>
                  <a:lnTo>
                    <a:pt x="1636" y="3"/>
                  </a:lnTo>
                  <a:lnTo>
                    <a:pt x="1705" y="6"/>
                  </a:lnTo>
                  <a:lnTo>
                    <a:pt x="1774" y="9"/>
                  </a:lnTo>
                  <a:lnTo>
                    <a:pt x="1842" y="13"/>
                  </a:lnTo>
                  <a:lnTo>
                    <a:pt x="1907" y="18"/>
                  </a:lnTo>
                  <a:lnTo>
                    <a:pt x="1972" y="23"/>
                  </a:lnTo>
                  <a:lnTo>
                    <a:pt x="2035" y="29"/>
                  </a:lnTo>
                  <a:lnTo>
                    <a:pt x="2096" y="36"/>
                  </a:lnTo>
                  <a:lnTo>
                    <a:pt x="2156" y="43"/>
                  </a:lnTo>
                  <a:lnTo>
                    <a:pt x="2213" y="51"/>
                  </a:lnTo>
                  <a:lnTo>
                    <a:pt x="2269" y="60"/>
                  </a:lnTo>
                  <a:lnTo>
                    <a:pt x="2322" y="69"/>
                  </a:lnTo>
                  <a:lnTo>
                    <a:pt x="2374" y="79"/>
                  </a:lnTo>
                  <a:lnTo>
                    <a:pt x="2422" y="90"/>
                  </a:lnTo>
                  <a:lnTo>
                    <a:pt x="2470" y="100"/>
                  </a:lnTo>
                  <a:lnTo>
                    <a:pt x="2514" y="112"/>
                  </a:lnTo>
                  <a:lnTo>
                    <a:pt x="2557" y="124"/>
                  </a:lnTo>
                  <a:lnTo>
                    <a:pt x="2596" y="136"/>
                  </a:lnTo>
                  <a:lnTo>
                    <a:pt x="2632" y="149"/>
                  </a:lnTo>
                  <a:lnTo>
                    <a:pt x="2667" y="162"/>
                  </a:lnTo>
                  <a:lnTo>
                    <a:pt x="2698" y="175"/>
                  </a:lnTo>
                  <a:lnTo>
                    <a:pt x="2726" y="190"/>
                  </a:lnTo>
                  <a:lnTo>
                    <a:pt x="2753" y="205"/>
                  </a:lnTo>
                  <a:lnTo>
                    <a:pt x="2775" y="220"/>
                  </a:lnTo>
                  <a:lnTo>
                    <a:pt x="2794" y="235"/>
                  </a:lnTo>
                  <a:lnTo>
                    <a:pt x="2809" y="251"/>
                  </a:lnTo>
                  <a:lnTo>
                    <a:pt x="2822" y="267"/>
                  </a:lnTo>
                  <a:lnTo>
                    <a:pt x="2831" y="284"/>
                  </a:lnTo>
                  <a:lnTo>
                    <a:pt x="2836" y="300"/>
                  </a:lnTo>
                  <a:lnTo>
                    <a:pt x="2838" y="318"/>
                  </a:lnTo>
                  <a:close/>
                </a:path>
              </a:pathLst>
            </a:custGeom>
            <a:solidFill>
              <a:srgbClr val="fb4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91880" y="6519600"/>
              <a:ext cx="312480" cy="78480"/>
            </a:xfrm>
            <a:custGeom>
              <a:avLst/>
              <a:gdLst/>
              <a:ahLst/>
              <a:rect l="l" t="t" r="r" b="b"/>
              <a:pathLst>
                <a:path w="2833" h="652">
                  <a:moveTo>
                    <a:pt x="2833" y="317"/>
                  </a:moveTo>
                  <a:lnTo>
                    <a:pt x="2832" y="335"/>
                  </a:lnTo>
                  <a:lnTo>
                    <a:pt x="2826" y="351"/>
                  </a:lnTo>
                  <a:lnTo>
                    <a:pt x="2817" y="368"/>
                  </a:lnTo>
                  <a:lnTo>
                    <a:pt x="2805" y="384"/>
                  </a:lnTo>
                  <a:lnTo>
                    <a:pt x="2789" y="400"/>
                  </a:lnTo>
                  <a:lnTo>
                    <a:pt x="2770" y="417"/>
                  </a:lnTo>
                  <a:lnTo>
                    <a:pt x="2748" y="433"/>
                  </a:lnTo>
                  <a:lnTo>
                    <a:pt x="2722" y="448"/>
                  </a:lnTo>
                  <a:lnTo>
                    <a:pt x="2694" y="462"/>
                  </a:lnTo>
                  <a:lnTo>
                    <a:pt x="2663" y="477"/>
                  </a:lnTo>
                  <a:lnTo>
                    <a:pt x="2628" y="491"/>
                  </a:lnTo>
                  <a:lnTo>
                    <a:pt x="2592" y="504"/>
                  </a:lnTo>
                  <a:lnTo>
                    <a:pt x="2553" y="518"/>
                  </a:lnTo>
                  <a:lnTo>
                    <a:pt x="2510" y="531"/>
                  </a:lnTo>
                  <a:lnTo>
                    <a:pt x="2466" y="543"/>
                  </a:lnTo>
                  <a:lnTo>
                    <a:pt x="2418" y="554"/>
                  </a:lnTo>
                  <a:lnTo>
                    <a:pt x="2370" y="565"/>
                  </a:lnTo>
                  <a:lnTo>
                    <a:pt x="2318" y="576"/>
                  </a:lnTo>
                  <a:lnTo>
                    <a:pt x="2265" y="585"/>
                  </a:lnTo>
                  <a:lnTo>
                    <a:pt x="2209" y="595"/>
                  </a:lnTo>
                  <a:lnTo>
                    <a:pt x="2152" y="603"/>
                  </a:lnTo>
                  <a:lnTo>
                    <a:pt x="2092" y="611"/>
                  </a:lnTo>
                  <a:lnTo>
                    <a:pt x="2031" y="619"/>
                  </a:lnTo>
                  <a:lnTo>
                    <a:pt x="1968" y="626"/>
                  </a:lnTo>
                  <a:lnTo>
                    <a:pt x="1904" y="632"/>
                  </a:lnTo>
                  <a:lnTo>
                    <a:pt x="1838" y="637"/>
                  </a:lnTo>
                  <a:lnTo>
                    <a:pt x="1771" y="642"/>
                  </a:lnTo>
                  <a:lnTo>
                    <a:pt x="1702" y="646"/>
                  </a:lnTo>
                  <a:lnTo>
                    <a:pt x="1633" y="649"/>
                  </a:lnTo>
                  <a:lnTo>
                    <a:pt x="1562" y="651"/>
                  </a:lnTo>
                  <a:lnTo>
                    <a:pt x="1489" y="652"/>
                  </a:lnTo>
                  <a:lnTo>
                    <a:pt x="1416" y="652"/>
                  </a:lnTo>
                  <a:lnTo>
                    <a:pt x="1344" y="652"/>
                  </a:lnTo>
                  <a:lnTo>
                    <a:pt x="1272" y="651"/>
                  </a:lnTo>
                  <a:lnTo>
                    <a:pt x="1200" y="649"/>
                  </a:lnTo>
                  <a:lnTo>
                    <a:pt x="1131" y="646"/>
                  </a:lnTo>
                  <a:lnTo>
                    <a:pt x="1062" y="642"/>
                  </a:lnTo>
                  <a:lnTo>
                    <a:pt x="995" y="637"/>
                  </a:lnTo>
                  <a:lnTo>
                    <a:pt x="930" y="632"/>
                  </a:lnTo>
                  <a:lnTo>
                    <a:pt x="865" y="626"/>
                  </a:lnTo>
                  <a:lnTo>
                    <a:pt x="802" y="619"/>
                  </a:lnTo>
                  <a:lnTo>
                    <a:pt x="741" y="611"/>
                  </a:lnTo>
                  <a:lnTo>
                    <a:pt x="681" y="603"/>
                  </a:lnTo>
                  <a:lnTo>
                    <a:pt x="624" y="595"/>
                  </a:lnTo>
                  <a:lnTo>
                    <a:pt x="568" y="585"/>
                  </a:lnTo>
                  <a:lnTo>
                    <a:pt x="515" y="576"/>
                  </a:lnTo>
                  <a:lnTo>
                    <a:pt x="463" y="565"/>
                  </a:lnTo>
                  <a:lnTo>
                    <a:pt x="415" y="554"/>
                  </a:lnTo>
                  <a:lnTo>
                    <a:pt x="367" y="543"/>
                  </a:lnTo>
                  <a:lnTo>
                    <a:pt x="323" y="531"/>
                  </a:lnTo>
                  <a:lnTo>
                    <a:pt x="281" y="518"/>
                  </a:lnTo>
                  <a:lnTo>
                    <a:pt x="241" y="504"/>
                  </a:lnTo>
                  <a:lnTo>
                    <a:pt x="205" y="491"/>
                  </a:lnTo>
                  <a:lnTo>
                    <a:pt x="170" y="477"/>
                  </a:lnTo>
                  <a:lnTo>
                    <a:pt x="139" y="462"/>
                  </a:lnTo>
                  <a:lnTo>
                    <a:pt x="111" y="448"/>
                  </a:lnTo>
                  <a:lnTo>
                    <a:pt x="85" y="433"/>
                  </a:lnTo>
                  <a:lnTo>
                    <a:pt x="63" y="417"/>
                  </a:lnTo>
                  <a:lnTo>
                    <a:pt x="44" y="400"/>
                  </a:lnTo>
                  <a:lnTo>
                    <a:pt x="28" y="384"/>
                  </a:lnTo>
                  <a:lnTo>
                    <a:pt x="16" y="368"/>
                  </a:lnTo>
                  <a:lnTo>
                    <a:pt x="7" y="351"/>
                  </a:lnTo>
                  <a:lnTo>
                    <a:pt x="2" y="335"/>
                  </a:lnTo>
                  <a:lnTo>
                    <a:pt x="0" y="317"/>
                  </a:lnTo>
                  <a:lnTo>
                    <a:pt x="2" y="299"/>
                  </a:lnTo>
                  <a:lnTo>
                    <a:pt x="7" y="283"/>
                  </a:lnTo>
                  <a:lnTo>
                    <a:pt x="16" y="266"/>
                  </a:lnTo>
                  <a:lnTo>
                    <a:pt x="28" y="250"/>
                  </a:lnTo>
                  <a:lnTo>
                    <a:pt x="44" y="235"/>
                  </a:lnTo>
                  <a:lnTo>
                    <a:pt x="63" y="219"/>
                  </a:lnTo>
                  <a:lnTo>
                    <a:pt x="85" y="204"/>
                  </a:lnTo>
                  <a:lnTo>
                    <a:pt x="111" y="189"/>
                  </a:lnTo>
                  <a:lnTo>
                    <a:pt x="139" y="175"/>
                  </a:lnTo>
                  <a:lnTo>
                    <a:pt x="170" y="161"/>
                  </a:lnTo>
                  <a:lnTo>
                    <a:pt x="205" y="148"/>
                  </a:lnTo>
                  <a:lnTo>
                    <a:pt x="241" y="135"/>
                  </a:lnTo>
                  <a:lnTo>
                    <a:pt x="281" y="123"/>
                  </a:lnTo>
                  <a:lnTo>
                    <a:pt x="323" y="111"/>
                  </a:lnTo>
                  <a:lnTo>
                    <a:pt x="367" y="100"/>
                  </a:lnTo>
                  <a:lnTo>
                    <a:pt x="415" y="89"/>
                  </a:lnTo>
                  <a:lnTo>
                    <a:pt x="463" y="78"/>
                  </a:lnTo>
                  <a:lnTo>
                    <a:pt x="515" y="69"/>
                  </a:lnTo>
                  <a:lnTo>
                    <a:pt x="568" y="60"/>
                  </a:lnTo>
                  <a:lnTo>
                    <a:pt x="624" y="51"/>
                  </a:lnTo>
                  <a:lnTo>
                    <a:pt x="681" y="43"/>
                  </a:lnTo>
                  <a:lnTo>
                    <a:pt x="741" y="36"/>
                  </a:lnTo>
                  <a:lnTo>
                    <a:pt x="802" y="29"/>
                  </a:lnTo>
                  <a:lnTo>
                    <a:pt x="865" y="23"/>
                  </a:lnTo>
                  <a:lnTo>
                    <a:pt x="930" y="18"/>
                  </a:lnTo>
                  <a:lnTo>
                    <a:pt x="995" y="13"/>
                  </a:lnTo>
                  <a:lnTo>
                    <a:pt x="1062" y="9"/>
                  </a:lnTo>
                  <a:lnTo>
                    <a:pt x="1131" y="6"/>
                  </a:lnTo>
                  <a:lnTo>
                    <a:pt x="1200" y="3"/>
                  </a:lnTo>
                  <a:lnTo>
                    <a:pt x="1272" y="1"/>
                  </a:lnTo>
                  <a:lnTo>
                    <a:pt x="1344" y="0"/>
                  </a:lnTo>
                  <a:lnTo>
                    <a:pt x="1416" y="0"/>
                  </a:lnTo>
                  <a:lnTo>
                    <a:pt x="1489" y="0"/>
                  </a:lnTo>
                  <a:lnTo>
                    <a:pt x="1562" y="1"/>
                  </a:lnTo>
                  <a:lnTo>
                    <a:pt x="1633" y="3"/>
                  </a:lnTo>
                  <a:lnTo>
                    <a:pt x="1702" y="6"/>
                  </a:lnTo>
                  <a:lnTo>
                    <a:pt x="1771" y="9"/>
                  </a:lnTo>
                  <a:lnTo>
                    <a:pt x="1838" y="13"/>
                  </a:lnTo>
                  <a:lnTo>
                    <a:pt x="1904" y="18"/>
                  </a:lnTo>
                  <a:lnTo>
                    <a:pt x="1968" y="23"/>
                  </a:lnTo>
                  <a:lnTo>
                    <a:pt x="2031" y="29"/>
                  </a:lnTo>
                  <a:lnTo>
                    <a:pt x="2092" y="36"/>
                  </a:lnTo>
                  <a:lnTo>
                    <a:pt x="2152" y="43"/>
                  </a:lnTo>
                  <a:lnTo>
                    <a:pt x="2209" y="51"/>
                  </a:lnTo>
                  <a:lnTo>
                    <a:pt x="2265" y="60"/>
                  </a:lnTo>
                  <a:lnTo>
                    <a:pt x="2318" y="69"/>
                  </a:lnTo>
                  <a:lnTo>
                    <a:pt x="2370" y="78"/>
                  </a:lnTo>
                  <a:lnTo>
                    <a:pt x="2418" y="89"/>
                  </a:lnTo>
                  <a:lnTo>
                    <a:pt x="2466" y="100"/>
                  </a:lnTo>
                  <a:lnTo>
                    <a:pt x="2510" y="111"/>
                  </a:lnTo>
                  <a:lnTo>
                    <a:pt x="2553" y="123"/>
                  </a:lnTo>
                  <a:lnTo>
                    <a:pt x="2592" y="135"/>
                  </a:lnTo>
                  <a:lnTo>
                    <a:pt x="2628" y="148"/>
                  </a:lnTo>
                  <a:lnTo>
                    <a:pt x="2663" y="161"/>
                  </a:lnTo>
                  <a:lnTo>
                    <a:pt x="2694" y="175"/>
                  </a:lnTo>
                  <a:lnTo>
                    <a:pt x="2722" y="189"/>
                  </a:lnTo>
                  <a:lnTo>
                    <a:pt x="2748" y="204"/>
                  </a:lnTo>
                  <a:lnTo>
                    <a:pt x="2770" y="219"/>
                  </a:lnTo>
                  <a:lnTo>
                    <a:pt x="2789" y="235"/>
                  </a:lnTo>
                  <a:lnTo>
                    <a:pt x="2805" y="250"/>
                  </a:lnTo>
                  <a:lnTo>
                    <a:pt x="2817" y="266"/>
                  </a:lnTo>
                  <a:lnTo>
                    <a:pt x="2826" y="283"/>
                  </a:lnTo>
                  <a:lnTo>
                    <a:pt x="2832" y="299"/>
                  </a:lnTo>
                  <a:lnTo>
                    <a:pt x="2833" y="317"/>
                  </a:lnTo>
                  <a:close/>
                </a:path>
              </a:pathLst>
            </a:custGeom>
            <a:solidFill>
              <a:srgbClr val="fb4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91880" y="6519600"/>
              <a:ext cx="312480" cy="77400"/>
            </a:xfrm>
            <a:custGeom>
              <a:avLst/>
              <a:gdLst/>
              <a:ahLst/>
              <a:rect l="l" t="t" r="r" b="b"/>
              <a:pathLst>
                <a:path w="2831" h="650">
                  <a:moveTo>
                    <a:pt x="2831" y="316"/>
                  </a:moveTo>
                  <a:lnTo>
                    <a:pt x="2829" y="333"/>
                  </a:lnTo>
                  <a:lnTo>
                    <a:pt x="2824" y="350"/>
                  </a:lnTo>
                  <a:lnTo>
                    <a:pt x="2815" y="367"/>
                  </a:lnTo>
                  <a:lnTo>
                    <a:pt x="2802" y="383"/>
                  </a:lnTo>
                  <a:lnTo>
                    <a:pt x="2787" y="399"/>
                  </a:lnTo>
                  <a:lnTo>
                    <a:pt x="2768" y="416"/>
                  </a:lnTo>
                  <a:lnTo>
                    <a:pt x="2746" y="431"/>
                  </a:lnTo>
                  <a:lnTo>
                    <a:pt x="2720" y="446"/>
                  </a:lnTo>
                  <a:lnTo>
                    <a:pt x="2692" y="461"/>
                  </a:lnTo>
                  <a:lnTo>
                    <a:pt x="2661" y="475"/>
                  </a:lnTo>
                  <a:lnTo>
                    <a:pt x="2626" y="489"/>
                  </a:lnTo>
                  <a:lnTo>
                    <a:pt x="2590" y="502"/>
                  </a:lnTo>
                  <a:lnTo>
                    <a:pt x="2550" y="516"/>
                  </a:lnTo>
                  <a:lnTo>
                    <a:pt x="2508" y="529"/>
                  </a:lnTo>
                  <a:lnTo>
                    <a:pt x="2464" y="541"/>
                  </a:lnTo>
                  <a:lnTo>
                    <a:pt x="2416" y="552"/>
                  </a:lnTo>
                  <a:lnTo>
                    <a:pt x="2368" y="563"/>
                  </a:lnTo>
                  <a:lnTo>
                    <a:pt x="2316" y="574"/>
                  </a:lnTo>
                  <a:lnTo>
                    <a:pt x="2263" y="584"/>
                  </a:lnTo>
                  <a:lnTo>
                    <a:pt x="2207" y="593"/>
                  </a:lnTo>
                  <a:lnTo>
                    <a:pt x="2150" y="602"/>
                  </a:lnTo>
                  <a:lnTo>
                    <a:pt x="2090" y="609"/>
                  </a:lnTo>
                  <a:lnTo>
                    <a:pt x="2030" y="617"/>
                  </a:lnTo>
                  <a:lnTo>
                    <a:pt x="1967" y="624"/>
                  </a:lnTo>
                  <a:lnTo>
                    <a:pt x="1902" y="630"/>
                  </a:lnTo>
                  <a:lnTo>
                    <a:pt x="1837" y="636"/>
                  </a:lnTo>
                  <a:lnTo>
                    <a:pt x="1769" y="640"/>
                  </a:lnTo>
                  <a:lnTo>
                    <a:pt x="1701" y="644"/>
                  </a:lnTo>
                  <a:lnTo>
                    <a:pt x="1632" y="647"/>
                  </a:lnTo>
                  <a:lnTo>
                    <a:pt x="1560" y="649"/>
                  </a:lnTo>
                  <a:lnTo>
                    <a:pt x="1488" y="650"/>
                  </a:lnTo>
                  <a:lnTo>
                    <a:pt x="1415" y="650"/>
                  </a:lnTo>
                  <a:lnTo>
                    <a:pt x="1343" y="650"/>
                  </a:lnTo>
                  <a:lnTo>
                    <a:pt x="1271" y="649"/>
                  </a:lnTo>
                  <a:lnTo>
                    <a:pt x="1200" y="647"/>
                  </a:lnTo>
                  <a:lnTo>
                    <a:pt x="1131" y="644"/>
                  </a:lnTo>
                  <a:lnTo>
                    <a:pt x="1062" y="640"/>
                  </a:lnTo>
                  <a:lnTo>
                    <a:pt x="994" y="636"/>
                  </a:lnTo>
                  <a:lnTo>
                    <a:pt x="929" y="630"/>
                  </a:lnTo>
                  <a:lnTo>
                    <a:pt x="864" y="624"/>
                  </a:lnTo>
                  <a:lnTo>
                    <a:pt x="801" y="617"/>
                  </a:lnTo>
                  <a:lnTo>
                    <a:pt x="741" y="609"/>
                  </a:lnTo>
                  <a:lnTo>
                    <a:pt x="681" y="602"/>
                  </a:lnTo>
                  <a:lnTo>
                    <a:pt x="624" y="593"/>
                  </a:lnTo>
                  <a:lnTo>
                    <a:pt x="568" y="584"/>
                  </a:lnTo>
                  <a:lnTo>
                    <a:pt x="515" y="574"/>
                  </a:lnTo>
                  <a:lnTo>
                    <a:pt x="463" y="563"/>
                  </a:lnTo>
                  <a:lnTo>
                    <a:pt x="415" y="552"/>
                  </a:lnTo>
                  <a:lnTo>
                    <a:pt x="367" y="541"/>
                  </a:lnTo>
                  <a:lnTo>
                    <a:pt x="323" y="529"/>
                  </a:lnTo>
                  <a:lnTo>
                    <a:pt x="281" y="516"/>
                  </a:lnTo>
                  <a:lnTo>
                    <a:pt x="242" y="502"/>
                  </a:lnTo>
                  <a:lnTo>
                    <a:pt x="205" y="489"/>
                  </a:lnTo>
                  <a:lnTo>
                    <a:pt x="170" y="475"/>
                  </a:lnTo>
                  <a:lnTo>
                    <a:pt x="139" y="461"/>
                  </a:lnTo>
                  <a:lnTo>
                    <a:pt x="111" y="446"/>
                  </a:lnTo>
                  <a:lnTo>
                    <a:pt x="85" y="431"/>
                  </a:lnTo>
                  <a:lnTo>
                    <a:pt x="63" y="416"/>
                  </a:lnTo>
                  <a:lnTo>
                    <a:pt x="44" y="399"/>
                  </a:lnTo>
                  <a:lnTo>
                    <a:pt x="29" y="383"/>
                  </a:lnTo>
                  <a:lnTo>
                    <a:pt x="16" y="367"/>
                  </a:lnTo>
                  <a:lnTo>
                    <a:pt x="7" y="350"/>
                  </a:lnTo>
                  <a:lnTo>
                    <a:pt x="2" y="333"/>
                  </a:lnTo>
                  <a:lnTo>
                    <a:pt x="0" y="316"/>
                  </a:lnTo>
                  <a:lnTo>
                    <a:pt x="2" y="298"/>
                  </a:lnTo>
                  <a:lnTo>
                    <a:pt x="7" y="282"/>
                  </a:lnTo>
                  <a:lnTo>
                    <a:pt x="16" y="265"/>
                  </a:lnTo>
                  <a:lnTo>
                    <a:pt x="29" y="249"/>
                  </a:lnTo>
                  <a:lnTo>
                    <a:pt x="44" y="234"/>
                  </a:lnTo>
                  <a:lnTo>
                    <a:pt x="63" y="219"/>
                  </a:lnTo>
                  <a:lnTo>
                    <a:pt x="85" y="204"/>
                  </a:lnTo>
                  <a:lnTo>
                    <a:pt x="111" y="188"/>
                  </a:lnTo>
                  <a:lnTo>
                    <a:pt x="139" y="174"/>
                  </a:lnTo>
                  <a:lnTo>
                    <a:pt x="170" y="161"/>
                  </a:lnTo>
                  <a:lnTo>
                    <a:pt x="205" y="148"/>
                  </a:lnTo>
                  <a:lnTo>
                    <a:pt x="242" y="135"/>
                  </a:lnTo>
                  <a:lnTo>
                    <a:pt x="281" y="123"/>
                  </a:lnTo>
                  <a:lnTo>
                    <a:pt x="323" y="111"/>
                  </a:lnTo>
                  <a:lnTo>
                    <a:pt x="367" y="100"/>
                  </a:lnTo>
                  <a:lnTo>
                    <a:pt x="415" y="89"/>
                  </a:lnTo>
                  <a:lnTo>
                    <a:pt x="463" y="78"/>
                  </a:lnTo>
                  <a:lnTo>
                    <a:pt x="515" y="68"/>
                  </a:lnTo>
                  <a:lnTo>
                    <a:pt x="568" y="59"/>
                  </a:lnTo>
                  <a:lnTo>
                    <a:pt x="624" y="51"/>
                  </a:lnTo>
                  <a:lnTo>
                    <a:pt x="681" y="43"/>
                  </a:lnTo>
                  <a:lnTo>
                    <a:pt x="741" y="36"/>
                  </a:lnTo>
                  <a:lnTo>
                    <a:pt x="801" y="29"/>
                  </a:lnTo>
                  <a:lnTo>
                    <a:pt x="864" y="23"/>
                  </a:lnTo>
                  <a:lnTo>
                    <a:pt x="929" y="18"/>
                  </a:lnTo>
                  <a:lnTo>
                    <a:pt x="994" y="13"/>
                  </a:lnTo>
                  <a:lnTo>
                    <a:pt x="1062" y="9"/>
                  </a:lnTo>
                  <a:lnTo>
                    <a:pt x="1131" y="6"/>
                  </a:lnTo>
                  <a:lnTo>
                    <a:pt x="1200" y="3"/>
                  </a:lnTo>
                  <a:lnTo>
                    <a:pt x="1271" y="1"/>
                  </a:lnTo>
                  <a:lnTo>
                    <a:pt x="1343" y="0"/>
                  </a:lnTo>
                  <a:lnTo>
                    <a:pt x="1415" y="0"/>
                  </a:lnTo>
                  <a:lnTo>
                    <a:pt x="1488" y="0"/>
                  </a:lnTo>
                  <a:lnTo>
                    <a:pt x="1560" y="1"/>
                  </a:lnTo>
                  <a:lnTo>
                    <a:pt x="1632" y="3"/>
                  </a:lnTo>
                  <a:lnTo>
                    <a:pt x="1701" y="6"/>
                  </a:lnTo>
                  <a:lnTo>
                    <a:pt x="1769" y="9"/>
                  </a:lnTo>
                  <a:lnTo>
                    <a:pt x="1837" y="13"/>
                  </a:lnTo>
                  <a:lnTo>
                    <a:pt x="1902" y="18"/>
                  </a:lnTo>
                  <a:lnTo>
                    <a:pt x="1967" y="23"/>
                  </a:lnTo>
                  <a:lnTo>
                    <a:pt x="2030" y="29"/>
                  </a:lnTo>
                  <a:lnTo>
                    <a:pt x="2090" y="36"/>
                  </a:lnTo>
                  <a:lnTo>
                    <a:pt x="2150" y="43"/>
                  </a:lnTo>
                  <a:lnTo>
                    <a:pt x="2207" y="51"/>
                  </a:lnTo>
                  <a:lnTo>
                    <a:pt x="2263" y="59"/>
                  </a:lnTo>
                  <a:lnTo>
                    <a:pt x="2316" y="68"/>
                  </a:lnTo>
                  <a:lnTo>
                    <a:pt x="2368" y="78"/>
                  </a:lnTo>
                  <a:lnTo>
                    <a:pt x="2416" y="89"/>
                  </a:lnTo>
                  <a:lnTo>
                    <a:pt x="2464" y="100"/>
                  </a:lnTo>
                  <a:lnTo>
                    <a:pt x="2508" y="111"/>
                  </a:lnTo>
                  <a:lnTo>
                    <a:pt x="2550" y="123"/>
                  </a:lnTo>
                  <a:lnTo>
                    <a:pt x="2590" y="135"/>
                  </a:lnTo>
                  <a:lnTo>
                    <a:pt x="2626" y="148"/>
                  </a:lnTo>
                  <a:lnTo>
                    <a:pt x="2661" y="161"/>
                  </a:lnTo>
                  <a:lnTo>
                    <a:pt x="2692" y="174"/>
                  </a:lnTo>
                  <a:lnTo>
                    <a:pt x="2720" y="188"/>
                  </a:lnTo>
                  <a:lnTo>
                    <a:pt x="2746" y="204"/>
                  </a:lnTo>
                  <a:lnTo>
                    <a:pt x="2768" y="219"/>
                  </a:lnTo>
                  <a:lnTo>
                    <a:pt x="2787" y="234"/>
                  </a:lnTo>
                  <a:lnTo>
                    <a:pt x="2802" y="249"/>
                  </a:lnTo>
                  <a:lnTo>
                    <a:pt x="2815" y="265"/>
                  </a:lnTo>
                  <a:lnTo>
                    <a:pt x="2824" y="282"/>
                  </a:lnTo>
                  <a:lnTo>
                    <a:pt x="2829" y="298"/>
                  </a:lnTo>
                  <a:lnTo>
                    <a:pt x="2831" y="316"/>
                  </a:lnTo>
                  <a:close/>
                </a:path>
              </a:pathLst>
            </a:custGeom>
            <a:solidFill>
              <a:srgbClr val="fa40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7397640" y="6019920"/>
            <a:ext cx="1531800" cy="609480"/>
            <a:chOff x="7397640" y="6019920"/>
            <a:chExt cx="1531800" cy="609480"/>
          </a:xfrm>
        </p:grpSpPr>
        <p:sp>
          <p:nvSpPr>
            <p:cNvPr id="299" name=""/>
            <p:cNvSpPr/>
            <p:nvPr/>
          </p:nvSpPr>
          <p:spPr>
            <a:xfrm>
              <a:off x="8552880" y="6019920"/>
              <a:ext cx="376560" cy="406440"/>
            </a:xfrm>
            <a:custGeom>
              <a:avLst/>
              <a:gdLst/>
              <a:ahLst/>
              <a:rect l="l" t="t" r="r" b="b"/>
              <a:pathLst>
                <a:path w="257" h="256">
                  <a:moveTo>
                    <a:pt x="192" y="126"/>
                  </a:moveTo>
                  <a:lnTo>
                    <a:pt x="198" y="126"/>
                  </a:lnTo>
                  <a:lnTo>
                    <a:pt x="202" y="126"/>
                  </a:lnTo>
                  <a:lnTo>
                    <a:pt x="204" y="126"/>
                  </a:lnTo>
                  <a:lnTo>
                    <a:pt x="206" y="124"/>
                  </a:lnTo>
                  <a:lnTo>
                    <a:pt x="206" y="83"/>
                  </a:lnTo>
                  <a:lnTo>
                    <a:pt x="210" y="83"/>
                  </a:lnTo>
                  <a:lnTo>
                    <a:pt x="210" y="124"/>
                  </a:lnTo>
                  <a:lnTo>
                    <a:pt x="210" y="126"/>
                  </a:lnTo>
                  <a:lnTo>
                    <a:pt x="214" y="126"/>
                  </a:lnTo>
                  <a:lnTo>
                    <a:pt x="214" y="85"/>
                  </a:lnTo>
                  <a:lnTo>
                    <a:pt x="212" y="85"/>
                  </a:lnTo>
                  <a:lnTo>
                    <a:pt x="212" y="81"/>
                  </a:lnTo>
                  <a:lnTo>
                    <a:pt x="204" y="81"/>
                  </a:lnTo>
                  <a:lnTo>
                    <a:pt x="204" y="89"/>
                  </a:lnTo>
                  <a:lnTo>
                    <a:pt x="202" y="89"/>
                  </a:lnTo>
                  <a:lnTo>
                    <a:pt x="200" y="81"/>
                  </a:lnTo>
                  <a:lnTo>
                    <a:pt x="198" y="79"/>
                  </a:lnTo>
                  <a:lnTo>
                    <a:pt x="196" y="77"/>
                  </a:lnTo>
                  <a:lnTo>
                    <a:pt x="198" y="77"/>
                  </a:lnTo>
                  <a:lnTo>
                    <a:pt x="198" y="75"/>
                  </a:lnTo>
                  <a:lnTo>
                    <a:pt x="202" y="77"/>
                  </a:lnTo>
                  <a:lnTo>
                    <a:pt x="204" y="79"/>
                  </a:lnTo>
                  <a:lnTo>
                    <a:pt x="206" y="79"/>
                  </a:lnTo>
                  <a:lnTo>
                    <a:pt x="210" y="77"/>
                  </a:lnTo>
                  <a:lnTo>
                    <a:pt x="212" y="75"/>
                  </a:lnTo>
                  <a:lnTo>
                    <a:pt x="214" y="73"/>
                  </a:lnTo>
                  <a:lnTo>
                    <a:pt x="210" y="67"/>
                  </a:lnTo>
                  <a:lnTo>
                    <a:pt x="212" y="65"/>
                  </a:lnTo>
                  <a:lnTo>
                    <a:pt x="210" y="61"/>
                  </a:lnTo>
                  <a:lnTo>
                    <a:pt x="204" y="53"/>
                  </a:lnTo>
                  <a:lnTo>
                    <a:pt x="198" y="45"/>
                  </a:lnTo>
                  <a:lnTo>
                    <a:pt x="194" y="41"/>
                  </a:lnTo>
                  <a:lnTo>
                    <a:pt x="190" y="39"/>
                  </a:lnTo>
                  <a:lnTo>
                    <a:pt x="186" y="37"/>
                  </a:lnTo>
                  <a:lnTo>
                    <a:pt x="181" y="37"/>
                  </a:lnTo>
                  <a:lnTo>
                    <a:pt x="171" y="41"/>
                  </a:lnTo>
                  <a:lnTo>
                    <a:pt x="169" y="35"/>
                  </a:lnTo>
                  <a:lnTo>
                    <a:pt x="169" y="33"/>
                  </a:lnTo>
                  <a:lnTo>
                    <a:pt x="167" y="30"/>
                  </a:lnTo>
                  <a:lnTo>
                    <a:pt x="165" y="30"/>
                  </a:lnTo>
                  <a:lnTo>
                    <a:pt x="163" y="30"/>
                  </a:lnTo>
                  <a:lnTo>
                    <a:pt x="161" y="30"/>
                  </a:lnTo>
                  <a:lnTo>
                    <a:pt x="157" y="33"/>
                  </a:lnTo>
                  <a:lnTo>
                    <a:pt x="157" y="35"/>
                  </a:lnTo>
                  <a:lnTo>
                    <a:pt x="157" y="37"/>
                  </a:lnTo>
                  <a:lnTo>
                    <a:pt x="157" y="39"/>
                  </a:lnTo>
                  <a:lnTo>
                    <a:pt x="155" y="41"/>
                  </a:lnTo>
                  <a:lnTo>
                    <a:pt x="151" y="41"/>
                  </a:lnTo>
                  <a:lnTo>
                    <a:pt x="149" y="39"/>
                  </a:lnTo>
                  <a:lnTo>
                    <a:pt x="149" y="37"/>
                  </a:lnTo>
                  <a:lnTo>
                    <a:pt x="147" y="35"/>
                  </a:lnTo>
                  <a:lnTo>
                    <a:pt x="151" y="30"/>
                  </a:lnTo>
                  <a:lnTo>
                    <a:pt x="151" y="24"/>
                  </a:lnTo>
                  <a:lnTo>
                    <a:pt x="151" y="20"/>
                  </a:lnTo>
                  <a:lnTo>
                    <a:pt x="147" y="16"/>
                  </a:lnTo>
                  <a:lnTo>
                    <a:pt x="145" y="12"/>
                  </a:lnTo>
                  <a:lnTo>
                    <a:pt x="139" y="10"/>
                  </a:lnTo>
                  <a:lnTo>
                    <a:pt x="135" y="8"/>
                  </a:lnTo>
                  <a:lnTo>
                    <a:pt x="130" y="8"/>
                  </a:lnTo>
                  <a:lnTo>
                    <a:pt x="124" y="8"/>
                  </a:lnTo>
                  <a:lnTo>
                    <a:pt x="120" y="10"/>
                  </a:lnTo>
                  <a:lnTo>
                    <a:pt x="118" y="10"/>
                  </a:lnTo>
                  <a:lnTo>
                    <a:pt x="114" y="12"/>
                  </a:lnTo>
                  <a:lnTo>
                    <a:pt x="112" y="16"/>
                  </a:lnTo>
                  <a:lnTo>
                    <a:pt x="108" y="20"/>
                  </a:lnTo>
                  <a:lnTo>
                    <a:pt x="108" y="22"/>
                  </a:lnTo>
                  <a:lnTo>
                    <a:pt x="108" y="26"/>
                  </a:lnTo>
                  <a:lnTo>
                    <a:pt x="108" y="28"/>
                  </a:lnTo>
                  <a:lnTo>
                    <a:pt x="110" y="33"/>
                  </a:lnTo>
                  <a:lnTo>
                    <a:pt x="112" y="37"/>
                  </a:lnTo>
                  <a:lnTo>
                    <a:pt x="110" y="39"/>
                  </a:lnTo>
                  <a:lnTo>
                    <a:pt x="108" y="39"/>
                  </a:lnTo>
                  <a:lnTo>
                    <a:pt x="106" y="41"/>
                  </a:lnTo>
                  <a:lnTo>
                    <a:pt x="104" y="41"/>
                  </a:lnTo>
                  <a:lnTo>
                    <a:pt x="102" y="39"/>
                  </a:lnTo>
                  <a:lnTo>
                    <a:pt x="102" y="35"/>
                  </a:lnTo>
                  <a:lnTo>
                    <a:pt x="100" y="30"/>
                  </a:lnTo>
                  <a:lnTo>
                    <a:pt x="96" y="28"/>
                  </a:lnTo>
                  <a:lnTo>
                    <a:pt x="92" y="30"/>
                  </a:lnTo>
                  <a:lnTo>
                    <a:pt x="90" y="33"/>
                  </a:lnTo>
                  <a:lnTo>
                    <a:pt x="90" y="37"/>
                  </a:lnTo>
                  <a:lnTo>
                    <a:pt x="90" y="41"/>
                  </a:lnTo>
                  <a:lnTo>
                    <a:pt x="88" y="41"/>
                  </a:lnTo>
                  <a:lnTo>
                    <a:pt x="81" y="39"/>
                  </a:lnTo>
                  <a:lnTo>
                    <a:pt x="77" y="39"/>
                  </a:lnTo>
                  <a:lnTo>
                    <a:pt x="73" y="37"/>
                  </a:lnTo>
                  <a:lnTo>
                    <a:pt x="67" y="41"/>
                  </a:lnTo>
                  <a:lnTo>
                    <a:pt x="63" y="45"/>
                  </a:lnTo>
                  <a:lnTo>
                    <a:pt x="55" y="53"/>
                  </a:lnTo>
                  <a:lnTo>
                    <a:pt x="49" y="61"/>
                  </a:lnTo>
                  <a:lnTo>
                    <a:pt x="47" y="65"/>
                  </a:lnTo>
                  <a:lnTo>
                    <a:pt x="49" y="69"/>
                  </a:lnTo>
                  <a:lnTo>
                    <a:pt x="47" y="71"/>
                  </a:lnTo>
                  <a:lnTo>
                    <a:pt x="47" y="75"/>
                  </a:lnTo>
                  <a:lnTo>
                    <a:pt x="49" y="77"/>
                  </a:lnTo>
                  <a:lnTo>
                    <a:pt x="51" y="77"/>
                  </a:lnTo>
                  <a:lnTo>
                    <a:pt x="55" y="79"/>
                  </a:lnTo>
                  <a:lnTo>
                    <a:pt x="57" y="77"/>
                  </a:lnTo>
                  <a:lnTo>
                    <a:pt x="61" y="75"/>
                  </a:lnTo>
                  <a:lnTo>
                    <a:pt x="65" y="77"/>
                  </a:lnTo>
                  <a:lnTo>
                    <a:pt x="63" y="79"/>
                  </a:lnTo>
                  <a:lnTo>
                    <a:pt x="61" y="79"/>
                  </a:lnTo>
                  <a:lnTo>
                    <a:pt x="61" y="81"/>
                  </a:lnTo>
                  <a:lnTo>
                    <a:pt x="61" y="85"/>
                  </a:lnTo>
                  <a:lnTo>
                    <a:pt x="61" y="87"/>
                  </a:lnTo>
                  <a:lnTo>
                    <a:pt x="59" y="89"/>
                  </a:lnTo>
                  <a:lnTo>
                    <a:pt x="59" y="91"/>
                  </a:lnTo>
                  <a:lnTo>
                    <a:pt x="57" y="91"/>
                  </a:lnTo>
                  <a:lnTo>
                    <a:pt x="57" y="89"/>
                  </a:lnTo>
                  <a:lnTo>
                    <a:pt x="57" y="85"/>
                  </a:lnTo>
                  <a:lnTo>
                    <a:pt x="53" y="85"/>
                  </a:lnTo>
                  <a:lnTo>
                    <a:pt x="53" y="81"/>
                  </a:lnTo>
                  <a:lnTo>
                    <a:pt x="45" y="81"/>
                  </a:lnTo>
                  <a:lnTo>
                    <a:pt x="45" y="122"/>
                  </a:lnTo>
                  <a:lnTo>
                    <a:pt x="45" y="126"/>
                  </a:lnTo>
                  <a:lnTo>
                    <a:pt x="47" y="130"/>
                  </a:lnTo>
                  <a:lnTo>
                    <a:pt x="49" y="132"/>
                  </a:lnTo>
                  <a:lnTo>
                    <a:pt x="53" y="134"/>
                  </a:lnTo>
                  <a:lnTo>
                    <a:pt x="59" y="132"/>
                  </a:lnTo>
                  <a:lnTo>
                    <a:pt x="59" y="134"/>
                  </a:lnTo>
                  <a:lnTo>
                    <a:pt x="51" y="148"/>
                  </a:lnTo>
                  <a:lnTo>
                    <a:pt x="51" y="152"/>
                  </a:lnTo>
                  <a:lnTo>
                    <a:pt x="51" y="154"/>
                  </a:lnTo>
                  <a:lnTo>
                    <a:pt x="51" y="158"/>
                  </a:lnTo>
                  <a:lnTo>
                    <a:pt x="53" y="165"/>
                  </a:lnTo>
                  <a:lnTo>
                    <a:pt x="59" y="175"/>
                  </a:lnTo>
                  <a:lnTo>
                    <a:pt x="67" y="187"/>
                  </a:lnTo>
                  <a:lnTo>
                    <a:pt x="71" y="189"/>
                  </a:lnTo>
                  <a:lnTo>
                    <a:pt x="73" y="189"/>
                  </a:lnTo>
                  <a:lnTo>
                    <a:pt x="77" y="195"/>
                  </a:lnTo>
                  <a:lnTo>
                    <a:pt x="81" y="199"/>
                  </a:lnTo>
                  <a:lnTo>
                    <a:pt x="86" y="201"/>
                  </a:lnTo>
                  <a:lnTo>
                    <a:pt x="90" y="201"/>
                  </a:lnTo>
                  <a:lnTo>
                    <a:pt x="88" y="205"/>
                  </a:lnTo>
                  <a:lnTo>
                    <a:pt x="86" y="205"/>
                  </a:lnTo>
                  <a:lnTo>
                    <a:pt x="83" y="203"/>
                  </a:lnTo>
                  <a:lnTo>
                    <a:pt x="83" y="201"/>
                  </a:lnTo>
                  <a:lnTo>
                    <a:pt x="81" y="199"/>
                  </a:lnTo>
                  <a:lnTo>
                    <a:pt x="77" y="199"/>
                  </a:lnTo>
                  <a:lnTo>
                    <a:pt x="73" y="201"/>
                  </a:lnTo>
                  <a:lnTo>
                    <a:pt x="71" y="205"/>
                  </a:lnTo>
                  <a:lnTo>
                    <a:pt x="71" y="207"/>
                  </a:lnTo>
                  <a:lnTo>
                    <a:pt x="71" y="209"/>
                  </a:lnTo>
                  <a:lnTo>
                    <a:pt x="75" y="213"/>
                  </a:lnTo>
                  <a:lnTo>
                    <a:pt x="79" y="217"/>
                  </a:lnTo>
                  <a:lnTo>
                    <a:pt x="94" y="225"/>
                  </a:lnTo>
                  <a:lnTo>
                    <a:pt x="98" y="225"/>
                  </a:lnTo>
                  <a:lnTo>
                    <a:pt x="100" y="225"/>
                  </a:lnTo>
                  <a:lnTo>
                    <a:pt x="102" y="223"/>
                  </a:lnTo>
                  <a:lnTo>
                    <a:pt x="104" y="221"/>
                  </a:lnTo>
                  <a:lnTo>
                    <a:pt x="106" y="215"/>
                  </a:lnTo>
                  <a:lnTo>
                    <a:pt x="108" y="211"/>
                  </a:lnTo>
                  <a:lnTo>
                    <a:pt x="110" y="211"/>
                  </a:lnTo>
                  <a:lnTo>
                    <a:pt x="114" y="223"/>
                  </a:lnTo>
                  <a:lnTo>
                    <a:pt x="118" y="228"/>
                  </a:lnTo>
                  <a:lnTo>
                    <a:pt x="118" y="232"/>
                  </a:lnTo>
                  <a:lnTo>
                    <a:pt x="120" y="234"/>
                  </a:lnTo>
                  <a:lnTo>
                    <a:pt x="122" y="236"/>
                  </a:lnTo>
                  <a:lnTo>
                    <a:pt x="122" y="238"/>
                  </a:lnTo>
                  <a:lnTo>
                    <a:pt x="124" y="242"/>
                  </a:lnTo>
                  <a:lnTo>
                    <a:pt x="128" y="244"/>
                  </a:lnTo>
                  <a:lnTo>
                    <a:pt x="132" y="242"/>
                  </a:lnTo>
                  <a:lnTo>
                    <a:pt x="135" y="240"/>
                  </a:lnTo>
                  <a:lnTo>
                    <a:pt x="137" y="238"/>
                  </a:lnTo>
                  <a:lnTo>
                    <a:pt x="137" y="236"/>
                  </a:lnTo>
                  <a:lnTo>
                    <a:pt x="141" y="234"/>
                  </a:lnTo>
                  <a:lnTo>
                    <a:pt x="141" y="232"/>
                  </a:lnTo>
                  <a:lnTo>
                    <a:pt x="141" y="228"/>
                  </a:lnTo>
                  <a:lnTo>
                    <a:pt x="147" y="221"/>
                  </a:lnTo>
                  <a:lnTo>
                    <a:pt x="151" y="211"/>
                  </a:lnTo>
                  <a:lnTo>
                    <a:pt x="153" y="217"/>
                  </a:lnTo>
                  <a:lnTo>
                    <a:pt x="155" y="219"/>
                  </a:lnTo>
                  <a:lnTo>
                    <a:pt x="157" y="221"/>
                  </a:lnTo>
                  <a:lnTo>
                    <a:pt x="161" y="225"/>
                  </a:lnTo>
                  <a:lnTo>
                    <a:pt x="165" y="225"/>
                  </a:lnTo>
                  <a:lnTo>
                    <a:pt x="167" y="225"/>
                  </a:lnTo>
                  <a:lnTo>
                    <a:pt x="173" y="223"/>
                  </a:lnTo>
                  <a:lnTo>
                    <a:pt x="179" y="219"/>
                  </a:lnTo>
                  <a:lnTo>
                    <a:pt x="186" y="213"/>
                  </a:lnTo>
                  <a:lnTo>
                    <a:pt x="188" y="205"/>
                  </a:lnTo>
                  <a:lnTo>
                    <a:pt x="188" y="203"/>
                  </a:lnTo>
                  <a:lnTo>
                    <a:pt x="186" y="201"/>
                  </a:lnTo>
                  <a:lnTo>
                    <a:pt x="181" y="197"/>
                  </a:lnTo>
                  <a:lnTo>
                    <a:pt x="186" y="191"/>
                  </a:lnTo>
                  <a:lnTo>
                    <a:pt x="192" y="187"/>
                  </a:lnTo>
                  <a:lnTo>
                    <a:pt x="196" y="183"/>
                  </a:lnTo>
                  <a:lnTo>
                    <a:pt x="202" y="173"/>
                  </a:lnTo>
                  <a:lnTo>
                    <a:pt x="206" y="167"/>
                  </a:lnTo>
                  <a:lnTo>
                    <a:pt x="208" y="160"/>
                  </a:lnTo>
                  <a:lnTo>
                    <a:pt x="210" y="154"/>
                  </a:lnTo>
                  <a:lnTo>
                    <a:pt x="210" y="152"/>
                  </a:lnTo>
                  <a:lnTo>
                    <a:pt x="208" y="148"/>
                  </a:lnTo>
                  <a:lnTo>
                    <a:pt x="200" y="132"/>
                  </a:lnTo>
                  <a:lnTo>
                    <a:pt x="204" y="134"/>
                  </a:lnTo>
                  <a:lnTo>
                    <a:pt x="208" y="132"/>
                  </a:lnTo>
                  <a:lnTo>
                    <a:pt x="210" y="132"/>
                  </a:lnTo>
                  <a:lnTo>
                    <a:pt x="212" y="130"/>
                  </a:lnTo>
                  <a:lnTo>
                    <a:pt x="214" y="126"/>
                  </a:lnTo>
                  <a:lnTo>
                    <a:pt x="210" y="126"/>
                  </a:lnTo>
                  <a:lnTo>
                    <a:pt x="208" y="128"/>
                  </a:lnTo>
                  <a:lnTo>
                    <a:pt x="204" y="128"/>
                  </a:lnTo>
                  <a:lnTo>
                    <a:pt x="202" y="128"/>
                  </a:lnTo>
                  <a:lnTo>
                    <a:pt x="198" y="126"/>
                  </a:lnTo>
                  <a:lnTo>
                    <a:pt x="192" y="126"/>
                  </a:lnTo>
                  <a:close/>
                  <a:moveTo>
                    <a:pt x="257" y="0"/>
                  </a:moveTo>
                  <a:lnTo>
                    <a:pt x="257" y="256"/>
                  </a:lnTo>
                  <a:lnTo>
                    <a:pt x="0" y="256"/>
                  </a:lnTo>
                  <a:lnTo>
                    <a:pt x="0" y="0"/>
                  </a:lnTo>
                  <a:lnTo>
                    <a:pt x="257" y="0"/>
                  </a:lnTo>
                  <a:close/>
                  <a:moveTo>
                    <a:pt x="128" y="232"/>
                  </a:moveTo>
                  <a:lnTo>
                    <a:pt x="130" y="232"/>
                  </a:lnTo>
                  <a:lnTo>
                    <a:pt x="128" y="232"/>
                  </a:lnTo>
                  <a:close/>
                  <a:moveTo>
                    <a:pt x="126" y="232"/>
                  </a:moveTo>
                  <a:lnTo>
                    <a:pt x="128" y="230"/>
                  </a:lnTo>
                  <a:lnTo>
                    <a:pt x="130" y="228"/>
                  </a:lnTo>
                  <a:lnTo>
                    <a:pt x="130" y="230"/>
                  </a:lnTo>
                  <a:lnTo>
                    <a:pt x="132" y="232"/>
                  </a:lnTo>
                  <a:lnTo>
                    <a:pt x="130" y="234"/>
                  </a:lnTo>
                  <a:lnTo>
                    <a:pt x="130" y="236"/>
                  </a:lnTo>
                  <a:lnTo>
                    <a:pt x="128" y="234"/>
                  </a:lnTo>
                  <a:lnTo>
                    <a:pt x="126" y="232"/>
                  </a:lnTo>
                  <a:close/>
                  <a:moveTo>
                    <a:pt x="126" y="49"/>
                  </a:moveTo>
                  <a:lnTo>
                    <a:pt x="120" y="51"/>
                  </a:lnTo>
                  <a:lnTo>
                    <a:pt x="114" y="53"/>
                  </a:lnTo>
                  <a:lnTo>
                    <a:pt x="108" y="55"/>
                  </a:lnTo>
                  <a:lnTo>
                    <a:pt x="102" y="57"/>
                  </a:lnTo>
                  <a:lnTo>
                    <a:pt x="98" y="61"/>
                  </a:lnTo>
                  <a:lnTo>
                    <a:pt x="94" y="65"/>
                  </a:lnTo>
                  <a:lnTo>
                    <a:pt x="86" y="79"/>
                  </a:lnTo>
                  <a:lnTo>
                    <a:pt x="81" y="85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7" y="116"/>
                  </a:lnTo>
                  <a:lnTo>
                    <a:pt x="77" y="128"/>
                  </a:lnTo>
                  <a:lnTo>
                    <a:pt x="79" y="142"/>
                  </a:lnTo>
                  <a:lnTo>
                    <a:pt x="81" y="154"/>
                  </a:lnTo>
                  <a:lnTo>
                    <a:pt x="86" y="165"/>
                  </a:lnTo>
                  <a:lnTo>
                    <a:pt x="92" y="173"/>
                  </a:lnTo>
                  <a:lnTo>
                    <a:pt x="98" y="179"/>
                  </a:lnTo>
                  <a:lnTo>
                    <a:pt x="106" y="185"/>
                  </a:lnTo>
                  <a:lnTo>
                    <a:pt x="116" y="189"/>
                  </a:lnTo>
                  <a:lnTo>
                    <a:pt x="126" y="191"/>
                  </a:lnTo>
                  <a:lnTo>
                    <a:pt x="137" y="191"/>
                  </a:lnTo>
                  <a:lnTo>
                    <a:pt x="147" y="187"/>
                  </a:lnTo>
                  <a:lnTo>
                    <a:pt x="153" y="185"/>
                  </a:lnTo>
                  <a:lnTo>
                    <a:pt x="161" y="181"/>
                  </a:lnTo>
                  <a:lnTo>
                    <a:pt x="165" y="177"/>
                  </a:lnTo>
                  <a:lnTo>
                    <a:pt x="169" y="171"/>
                  </a:lnTo>
                  <a:lnTo>
                    <a:pt x="173" y="165"/>
                  </a:lnTo>
                  <a:lnTo>
                    <a:pt x="175" y="156"/>
                  </a:lnTo>
                  <a:lnTo>
                    <a:pt x="179" y="140"/>
                  </a:lnTo>
                  <a:lnTo>
                    <a:pt x="181" y="132"/>
                  </a:lnTo>
                  <a:lnTo>
                    <a:pt x="181" y="124"/>
                  </a:lnTo>
                  <a:lnTo>
                    <a:pt x="181" y="116"/>
                  </a:lnTo>
                  <a:lnTo>
                    <a:pt x="181" y="106"/>
                  </a:lnTo>
                  <a:lnTo>
                    <a:pt x="177" y="89"/>
                  </a:lnTo>
                  <a:lnTo>
                    <a:pt x="175" y="81"/>
                  </a:lnTo>
                  <a:lnTo>
                    <a:pt x="171" y="71"/>
                  </a:lnTo>
                  <a:lnTo>
                    <a:pt x="165" y="65"/>
                  </a:lnTo>
                  <a:lnTo>
                    <a:pt x="157" y="59"/>
                  </a:lnTo>
                  <a:lnTo>
                    <a:pt x="149" y="55"/>
                  </a:lnTo>
                  <a:lnTo>
                    <a:pt x="139" y="51"/>
                  </a:lnTo>
                  <a:lnTo>
                    <a:pt x="132" y="49"/>
                  </a:lnTo>
                  <a:lnTo>
                    <a:pt x="126" y="49"/>
                  </a:lnTo>
                  <a:close/>
                  <a:moveTo>
                    <a:pt x="75" y="126"/>
                  </a:moveTo>
                  <a:lnTo>
                    <a:pt x="75" y="116"/>
                  </a:lnTo>
                  <a:lnTo>
                    <a:pt x="75" y="106"/>
                  </a:lnTo>
                  <a:lnTo>
                    <a:pt x="77" y="98"/>
                  </a:lnTo>
                  <a:lnTo>
                    <a:pt x="79" y="87"/>
                  </a:lnTo>
                  <a:lnTo>
                    <a:pt x="81" y="79"/>
                  </a:lnTo>
                  <a:lnTo>
                    <a:pt x="86" y="71"/>
                  </a:lnTo>
                  <a:lnTo>
                    <a:pt x="92" y="65"/>
                  </a:lnTo>
                  <a:lnTo>
                    <a:pt x="96" y="59"/>
                  </a:lnTo>
                  <a:lnTo>
                    <a:pt x="106" y="53"/>
                  </a:lnTo>
                  <a:lnTo>
                    <a:pt x="114" y="49"/>
                  </a:lnTo>
                  <a:lnTo>
                    <a:pt x="122" y="47"/>
                  </a:lnTo>
                  <a:lnTo>
                    <a:pt x="135" y="47"/>
                  </a:lnTo>
                  <a:lnTo>
                    <a:pt x="137" y="49"/>
                  </a:lnTo>
                  <a:lnTo>
                    <a:pt x="143" y="49"/>
                  </a:lnTo>
                  <a:lnTo>
                    <a:pt x="149" y="51"/>
                  </a:lnTo>
                  <a:lnTo>
                    <a:pt x="159" y="57"/>
                  </a:lnTo>
                  <a:lnTo>
                    <a:pt x="167" y="65"/>
                  </a:lnTo>
                  <a:lnTo>
                    <a:pt x="171" y="69"/>
                  </a:lnTo>
                  <a:lnTo>
                    <a:pt x="173" y="73"/>
                  </a:lnTo>
                  <a:lnTo>
                    <a:pt x="177" y="79"/>
                  </a:lnTo>
                  <a:lnTo>
                    <a:pt x="179" y="85"/>
                  </a:lnTo>
                  <a:lnTo>
                    <a:pt x="179" y="87"/>
                  </a:lnTo>
                  <a:lnTo>
                    <a:pt x="183" y="106"/>
                  </a:lnTo>
                  <a:lnTo>
                    <a:pt x="183" y="116"/>
                  </a:lnTo>
                  <a:lnTo>
                    <a:pt x="183" y="126"/>
                  </a:lnTo>
                  <a:lnTo>
                    <a:pt x="183" y="136"/>
                  </a:lnTo>
                  <a:lnTo>
                    <a:pt x="181" y="146"/>
                  </a:lnTo>
                  <a:lnTo>
                    <a:pt x="177" y="156"/>
                  </a:lnTo>
                  <a:lnTo>
                    <a:pt x="173" y="167"/>
                  </a:lnTo>
                  <a:lnTo>
                    <a:pt x="167" y="177"/>
                  </a:lnTo>
                  <a:lnTo>
                    <a:pt x="161" y="183"/>
                  </a:lnTo>
                  <a:lnTo>
                    <a:pt x="151" y="189"/>
                  </a:lnTo>
                  <a:lnTo>
                    <a:pt x="141" y="193"/>
                  </a:lnTo>
                  <a:lnTo>
                    <a:pt x="130" y="193"/>
                  </a:lnTo>
                  <a:lnTo>
                    <a:pt x="124" y="193"/>
                  </a:lnTo>
                  <a:lnTo>
                    <a:pt x="118" y="193"/>
                  </a:lnTo>
                  <a:lnTo>
                    <a:pt x="114" y="191"/>
                  </a:lnTo>
                  <a:lnTo>
                    <a:pt x="110" y="189"/>
                  </a:lnTo>
                  <a:lnTo>
                    <a:pt x="104" y="187"/>
                  </a:lnTo>
                  <a:lnTo>
                    <a:pt x="100" y="183"/>
                  </a:lnTo>
                  <a:lnTo>
                    <a:pt x="92" y="175"/>
                  </a:lnTo>
                  <a:lnTo>
                    <a:pt x="86" y="167"/>
                  </a:lnTo>
                  <a:lnTo>
                    <a:pt x="79" y="156"/>
                  </a:lnTo>
                  <a:lnTo>
                    <a:pt x="77" y="140"/>
                  </a:lnTo>
                  <a:lnTo>
                    <a:pt x="75" y="126"/>
                  </a:lnTo>
                  <a:close/>
                  <a:moveTo>
                    <a:pt x="147" y="59"/>
                  </a:moveTo>
                  <a:lnTo>
                    <a:pt x="151" y="63"/>
                  </a:lnTo>
                  <a:lnTo>
                    <a:pt x="155" y="67"/>
                  </a:lnTo>
                  <a:lnTo>
                    <a:pt x="161" y="77"/>
                  </a:lnTo>
                  <a:lnTo>
                    <a:pt x="163" y="83"/>
                  </a:lnTo>
                  <a:lnTo>
                    <a:pt x="165" y="89"/>
                  </a:lnTo>
                  <a:lnTo>
                    <a:pt x="169" y="102"/>
                  </a:lnTo>
                  <a:lnTo>
                    <a:pt x="171" y="116"/>
                  </a:lnTo>
                  <a:lnTo>
                    <a:pt x="171" y="128"/>
                  </a:lnTo>
                  <a:lnTo>
                    <a:pt x="169" y="140"/>
                  </a:lnTo>
                  <a:lnTo>
                    <a:pt x="167" y="150"/>
                  </a:lnTo>
                  <a:lnTo>
                    <a:pt x="163" y="160"/>
                  </a:lnTo>
                  <a:lnTo>
                    <a:pt x="157" y="169"/>
                  </a:lnTo>
                  <a:lnTo>
                    <a:pt x="149" y="175"/>
                  </a:lnTo>
                  <a:lnTo>
                    <a:pt x="143" y="179"/>
                  </a:lnTo>
                  <a:lnTo>
                    <a:pt x="137" y="181"/>
                  </a:lnTo>
                  <a:lnTo>
                    <a:pt x="128" y="183"/>
                  </a:lnTo>
                  <a:lnTo>
                    <a:pt x="120" y="181"/>
                  </a:lnTo>
                  <a:lnTo>
                    <a:pt x="110" y="179"/>
                  </a:lnTo>
                  <a:lnTo>
                    <a:pt x="98" y="175"/>
                  </a:lnTo>
                  <a:lnTo>
                    <a:pt x="104" y="179"/>
                  </a:lnTo>
                  <a:lnTo>
                    <a:pt x="112" y="183"/>
                  </a:lnTo>
                  <a:lnTo>
                    <a:pt x="122" y="185"/>
                  </a:lnTo>
                  <a:lnTo>
                    <a:pt x="135" y="187"/>
                  </a:lnTo>
                  <a:lnTo>
                    <a:pt x="141" y="185"/>
                  </a:lnTo>
                  <a:lnTo>
                    <a:pt x="147" y="183"/>
                  </a:lnTo>
                  <a:lnTo>
                    <a:pt x="155" y="179"/>
                  </a:lnTo>
                  <a:lnTo>
                    <a:pt x="159" y="173"/>
                  </a:lnTo>
                  <a:lnTo>
                    <a:pt x="165" y="167"/>
                  </a:lnTo>
                  <a:lnTo>
                    <a:pt x="169" y="158"/>
                  </a:lnTo>
                  <a:lnTo>
                    <a:pt x="173" y="152"/>
                  </a:lnTo>
                  <a:lnTo>
                    <a:pt x="173" y="146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175" y="108"/>
                  </a:lnTo>
                  <a:lnTo>
                    <a:pt x="173" y="95"/>
                  </a:lnTo>
                  <a:lnTo>
                    <a:pt x="171" y="83"/>
                  </a:lnTo>
                  <a:lnTo>
                    <a:pt x="167" y="75"/>
                  </a:lnTo>
                  <a:lnTo>
                    <a:pt x="163" y="69"/>
                  </a:lnTo>
                  <a:lnTo>
                    <a:pt x="157" y="65"/>
                  </a:lnTo>
                  <a:lnTo>
                    <a:pt x="147" y="59"/>
                  </a:lnTo>
                  <a:close/>
                  <a:moveTo>
                    <a:pt x="167" y="69"/>
                  </a:moveTo>
                  <a:lnTo>
                    <a:pt x="173" y="81"/>
                  </a:lnTo>
                  <a:lnTo>
                    <a:pt x="175" y="89"/>
                  </a:lnTo>
                  <a:lnTo>
                    <a:pt x="177" y="95"/>
                  </a:lnTo>
                  <a:lnTo>
                    <a:pt x="179" y="110"/>
                  </a:lnTo>
                  <a:lnTo>
                    <a:pt x="179" y="124"/>
                  </a:lnTo>
                  <a:lnTo>
                    <a:pt x="177" y="138"/>
                  </a:lnTo>
                  <a:lnTo>
                    <a:pt x="175" y="152"/>
                  </a:lnTo>
                  <a:lnTo>
                    <a:pt x="171" y="163"/>
                  </a:lnTo>
                  <a:lnTo>
                    <a:pt x="165" y="173"/>
                  </a:lnTo>
                  <a:lnTo>
                    <a:pt x="159" y="179"/>
                  </a:lnTo>
                  <a:lnTo>
                    <a:pt x="155" y="181"/>
                  </a:lnTo>
                  <a:lnTo>
                    <a:pt x="151" y="183"/>
                  </a:lnTo>
                  <a:lnTo>
                    <a:pt x="143" y="187"/>
                  </a:lnTo>
                  <a:lnTo>
                    <a:pt x="135" y="189"/>
                  </a:lnTo>
                  <a:lnTo>
                    <a:pt x="124" y="189"/>
                  </a:lnTo>
                  <a:lnTo>
                    <a:pt x="114" y="187"/>
                  </a:lnTo>
                  <a:lnTo>
                    <a:pt x="108" y="183"/>
                  </a:lnTo>
                  <a:lnTo>
                    <a:pt x="102" y="181"/>
                  </a:lnTo>
                  <a:lnTo>
                    <a:pt x="98" y="177"/>
                  </a:lnTo>
                  <a:lnTo>
                    <a:pt x="96" y="173"/>
                  </a:lnTo>
                  <a:lnTo>
                    <a:pt x="90" y="165"/>
                  </a:lnTo>
                  <a:lnTo>
                    <a:pt x="86" y="156"/>
                  </a:lnTo>
                  <a:lnTo>
                    <a:pt x="81" y="146"/>
                  </a:lnTo>
                  <a:lnTo>
                    <a:pt x="79" y="134"/>
                  </a:lnTo>
                  <a:lnTo>
                    <a:pt x="79" y="122"/>
                  </a:lnTo>
                  <a:lnTo>
                    <a:pt x="132" y="122"/>
                  </a:lnTo>
                  <a:lnTo>
                    <a:pt x="132" y="53"/>
                  </a:lnTo>
                  <a:lnTo>
                    <a:pt x="143" y="55"/>
                  </a:lnTo>
                  <a:lnTo>
                    <a:pt x="151" y="59"/>
                  </a:lnTo>
                  <a:lnTo>
                    <a:pt x="159" y="63"/>
                  </a:lnTo>
                  <a:lnTo>
                    <a:pt x="167" y="69"/>
                  </a:lnTo>
                  <a:close/>
                  <a:moveTo>
                    <a:pt x="116" y="95"/>
                  </a:moveTo>
                  <a:lnTo>
                    <a:pt x="114" y="95"/>
                  </a:lnTo>
                  <a:lnTo>
                    <a:pt x="104" y="100"/>
                  </a:lnTo>
                  <a:lnTo>
                    <a:pt x="104" y="102"/>
                  </a:lnTo>
                  <a:lnTo>
                    <a:pt x="108" y="104"/>
                  </a:lnTo>
                  <a:lnTo>
                    <a:pt x="112" y="104"/>
                  </a:lnTo>
                  <a:lnTo>
                    <a:pt x="120" y="102"/>
                  </a:lnTo>
                  <a:lnTo>
                    <a:pt x="122" y="104"/>
                  </a:lnTo>
                  <a:lnTo>
                    <a:pt x="118" y="106"/>
                  </a:lnTo>
                  <a:lnTo>
                    <a:pt x="114" y="106"/>
                  </a:lnTo>
                  <a:lnTo>
                    <a:pt x="110" y="106"/>
                  </a:lnTo>
                  <a:lnTo>
                    <a:pt x="106" y="108"/>
                  </a:lnTo>
                  <a:lnTo>
                    <a:pt x="104" y="108"/>
                  </a:lnTo>
                  <a:lnTo>
                    <a:pt x="102" y="106"/>
                  </a:lnTo>
                  <a:lnTo>
                    <a:pt x="100" y="106"/>
                  </a:lnTo>
                  <a:lnTo>
                    <a:pt x="100" y="104"/>
                  </a:lnTo>
                  <a:lnTo>
                    <a:pt x="98" y="100"/>
                  </a:lnTo>
                  <a:lnTo>
                    <a:pt x="96" y="98"/>
                  </a:lnTo>
                  <a:lnTo>
                    <a:pt x="94" y="98"/>
                  </a:lnTo>
                  <a:lnTo>
                    <a:pt x="90" y="100"/>
                  </a:lnTo>
                  <a:lnTo>
                    <a:pt x="88" y="108"/>
                  </a:lnTo>
                  <a:lnTo>
                    <a:pt x="86" y="106"/>
                  </a:lnTo>
                  <a:lnTo>
                    <a:pt x="83" y="102"/>
                  </a:lnTo>
                  <a:lnTo>
                    <a:pt x="81" y="102"/>
                  </a:lnTo>
                  <a:lnTo>
                    <a:pt x="81" y="106"/>
                  </a:lnTo>
                  <a:lnTo>
                    <a:pt x="83" y="108"/>
                  </a:lnTo>
                  <a:lnTo>
                    <a:pt x="90" y="110"/>
                  </a:lnTo>
                  <a:lnTo>
                    <a:pt x="90" y="112"/>
                  </a:lnTo>
                  <a:lnTo>
                    <a:pt x="81" y="114"/>
                  </a:lnTo>
                  <a:lnTo>
                    <a:pt x="83" y="114"/>
                  </a:lnTo>
                  <a:lnTo>
                    <a:pt x="92" y="116"/>
                  </a:lnTo>
                  <a:lnTo>
                    <a:pt x="96" y="112"/>
                  </a:lnTo>
                  <a:lnTo>
                    <a:pt x="98" y="110"/>
                  </a:lnTo>
                  <a:lnTo>
                    <a:pt x="102" y="110"/>
                  </a:lnTo>
                  <a:lnTo>
                    <a:pt x="104" y="110"/>
                  </a:lnTo>
                  <a:lnTo>
                    <a:pt x="108" y="110"/>
                  </a:lnTo>
                  <a:lnTo>
                    <a:pt x="108" y="112"/>
                  </a:lnTo>
                  <a:lnTo>
                    <a:pt x="104" y="114"/>
                  </a:lnTo>
                  <a:lnTo>
                    <a:pt x="104" y="116"/>
                  </a:lnTo>
                  <a:lnTo>
                    <a:pt x="106" y="116"/>
                  </a:lnTo>
                  <a:lnTo>
                    <a:pt x="110" y="114"/>
                  </a:lnTo>
                  <a:lnTo>
                    <a:pt x="112" y="112"/>
                  </a:lnTo>
                  <a:lnTo>
                    <a:pt x="112" y="110"/>
                  </a:lnTo>
                  <a:lnTo>
                    <a:pt x="114" y="108"/>
                  </a:lnTo>
                  <a:lnTo>
                    <a:pt x="120" y="110"/>
                  </a:lnTo>
                  <a:lnTo>
                    <a:pt x="120" y="112"/>
                  </a:lnTo>
                  <a:lnTo>
                    <a:pt x="118" y="114"/>
                  </a:lnTo>
                  <a:lnTo>
                    <a:pt x="120" y="114"/>
                  </a:lnTo>
                  <a:lnTo>
                    <a:pt x="122" y="114"/>
                  </a:lnTo>
                  <a:lnTo>
                    <a:pt x="124" y="110"/>
                  </a:lnTo>
                  <a:lnTo>
                    <a:pt x="122" y="108"/>
                  </a:lnTo>
                  <a:lnTo>
                    <a:pt x="120" y="108"/>
                  </a:lnTo>
                  <a:lnTo>
                    <a:pt x="124" y="106"/>
                  </a:lnTo>
                  <a:lnTo>
                    <a:pt x="124" y="104"/>
                  </a:lnTo>
                  <a:lnTo>
                    <a:pt x="122" y="102"/>
                  </a:lnTo>
                  <a:lnTo>
                    <a:pt x="118" y="102"/>
                  </a:lnTo>
                  <a:lnTo>
                    <a:pt x="114" y="102"/>
                  </a:lnTo>
                  <a:lnTo>
                    <a:pt x="110" y="102"/>
                  </a:lnTo>
                  <a:lnTo>
                    <a:pt x="108" y="100"/>
                  </a:lnTo>
                  <a:lnTo>
                    <a:pt x="114" y="98"/>
                  </a:lnTo>
                  <a:lnTo>
                    <a:pt x="116" y="98"/>
                  </a:lnTo>
                  <a:lnTo>
                    <a:pt x="116" y="95"/>
                  </a:lnTo>
                  <a:close/>
                  <a:moveTo>
                    <a:pt x="116" y="77"/>
                  </a:moveTo>
                  <a:lnTo>
                    <a:pt x="108" y="81"/>
                  </a:lnTo>
                  <a:lnTo>
                    <a:pt x="110" y="83"/>
                  </a:lnTo>
                  <a:lnTo>
                    <a:pt x="122" y="83"/>
                  </a:lnTo>
                  <a:lnTo>
                    <a:pt x="122" y="85"/>
                  </a:lnTo>
                  <a:lnTo>
                    <a:pt x="120" y="87"/>
                  </a:lnTo>
                  <a:lnTo>
                    <a:pt x="116" y="85"/>
                  </a:lnTo>
                  <a:lnTo>
                    <a:pt x="112" y="87"/>
                  </a:lnTo>
                  <a:lnTo>
                    <a:pt x="106" y="87"/>
                  </a:lnTo>
                  <a:lnTo>
                    <a:pt x="102" y="87"/>
                  </a:lnTo>
                  <a:lnTo>
                    <a:pt x="100" y="81"/>
                  </a:lnTo>
                  <a:lnTo>
                    <a:pt x="96" y="81"/>
                  </a:lnTo>
                  <a:lnTo>
                    <a:pt x="94" y="81"/>
                  </a:lnTo>
                  <a:lnTo>
                    <a:pt x="92" y="87"/>
                  </a:lnTo>
                  <a:lnTo>
                    <a:pt x="90" y="87"/>
                  </a:lnTo>
                  <a:lnTo>
                    <a:pt x="90" y="83"/>
                  </a:lnTo>
                  <a:lnTo>
                    <a:pt x="88" y="83"/>
                  </a:lnTo>
                  <a:lnTo>
                    <a:pt x="90" y="89"/>
                  </a:lnTo>
                  <a:lnTo>
                    <a:pt x="92" y="91"/>
                  </a:lnTo>
                  <a:lnTo>
                    <a:pt x="94" y="91"/>
                  </a:lnTo>
                  <a:lnTo>
                    <a:pt x="88" y="93"/>
                  </a:lnTo>
                  <a:lnTo>
                    <a:pt x="88" y="95"/>
                  </a:lnTo>
                  <a:lnTo>
                    <a:pt x="90" y="95"/>
                  </a:lnTo>
                  <a:lnTo>
                    <a:pt x="96" y="95"/>
                  </a:lnTo>
                  <a:lnTo>
                    <a:pt x="102" y="91"/>
                  </a:lnTo>
                  <a:lnTo>
                    <a:pt x="110" y="89"/>
                  </a:lnTo>
                  <a:lnTo>
                    <a:pt x="110" y="91"/>
                  </a:lnTo>
                  <a:lnTo>
                    <a:pt x="106" y="95"/>
                  </a:lnTo>
                  <a:lnTo>
                    <a:pt x="110" y="95"/>
                  </a:lnTo>
                  <a:lnTo>
                    <a:pt x="112" y="93"/>
                  </a:lnTo>
                  <a:lnTo>
                    <a:pt x="114" y="91"/>
                  </a:lnTo>
                  <a:lnTo>
                    <a:pt x="116" y="89"/>
                  </a:lnTo>
                  <a:lnTo>
                    <a:pt x="122" y="91"/>
                  </a:lnTo>
                  <a:lnTo>
                    <a:pt x="122" y="93"/>
                  </a:lnTo>
                  <a:lnTo>
                    <a:pt x="124" y="93"/>
                  </a:lnTo>
                  <a:lnTo>
                    <a:pt x="124" y="91"/>
                  </a:lnTo>
                  <a:lnTo>
                    <a:pt x="124" y="89"/>
                  </a:lnTo>
                  <a:lnTo>
                    <a:pt x="122" y="89"/>
                  </a:lnTo>
                  <a:lnTo>
                    <a:pt x="122" y="87"/>
                  </a:lnTo>
                  <a:lnTo>
                    <a:pt x="124" y="85"/>
                  </a:lnTo>
                  <a:lnTo>
                    <a:pt x="124" y="83"/>
                  </a:lnTo>
                  <a:lnTo>
                    <a:pt x="122" y="81"/>
                  </a:lnTo>
                  <a:lnTo>
                    <a:pt x="118" y="83"/>
                  </a:lnTo>
                  <a:lnTo>
                    <a:pt x="114" y="83"/>
                  </a:lnTo>
                  <a:lnTo>
                    <a:pt x="110" y="83"/>
                  </a:lnTo>
                  <a:lnTo>
                    <a:pt x="110" y="81"/>
                  </a:lnTo>
                  <a:lnTo>
                    <a:pt x="112" y="81"/>
                  </a:lnTo>
                  <a:lnTo>
                    <a:pt x="114" y="81"/>
                  </a:lnTo>
                  <a:lnTo>
                    <a:pt x="116" y="79"/>
                  </a:lnTo>
                  <a:lnTo>
                    <a:pt x="118" y="77"/>
                  </a:lnTo>
                  <a:lnTo>
                    <a:pt x="116" y="77"/>
                  </a:lnTo>
                  <a:close/>
                  <a:moveTo>
                    <a:pt x="128" y="53"/>
                  </a:moveTo>
                  <a:lnTo>
                    <a:pt x="128" y="118"/>
                  </a:lnTo>
                  <a:lnTo>
                    <a:pt x="79" y="118"/>
                  </a:lnTo>
                  <a:lnTo>
                    <a:pt x="81" y="104"/>
                  </a:lnTo>
                  <a:lnTo>
                    <a:pt x="83" y="87"/>
                  </a:lnTo>
                  <a:lnTo>
                    <a:pt x="86" y="83"/>
                  </a:lnTo>
                  <a:lnTo>
                    <a:pt x="88" y="77"/>
                  </a:lnTo>
                  <a:lnTo>
                    <a:pt x="94" y="69"/>
                  </a:lnTo>
                  <a:lnTo>
                    <a:pt x="96" y="73"/>
                  </a:lnTo>
                  <a:lnTo>
                    <a:pt x="100" y="73"/>
                  </a:lnTo>
                  <a:lnTo>
                    <a:pt x="98" y="75"/>
                  </a:lnTo>
                  <a:lnTo>
                    <a:pt x="96" y="75"/>
                  </a:lnTo>
                  <a:lnTo>
                    <a:pt x="96" y="77"/>
                  </a:lnTo>
                  <a:lnTo>
                    <a:pt x="100" y="77"/>
                  </a:lnTo>
                  <a:lnTo>
                    <a:pt x="104" y="77"/>
                  </a:lnTo>
                  <a:lnTo>
                    <a:pt x="108" y="73"/>
                  </a:lnTo>
                  <a:lnTo>
                    <a:pt x="112" y="73"/>
                  </a:lnTo>
                  <a:lnTo>
                    <a:pt x="110" y="75"/>
                  </a:lnTo>
                  <a:lnTo>
                    <a:pt x="112" y="77"/>
                  </a:lnTo>
                  <a:lnTo>
                    <a:pt x="114" y="77"/>
                  </a:lnTo>
                  <a:lnTo>
                    <a:pt x="118" y="73"/>
                  </a:lnTo>
                  <a:lnTo>
                    <a:pt x="122" y="73"/>
                  </a:lnTo>
                  <a:lnTo>
                    <a:pt x="122" y="75"/>
                  </a:lnTo>
                  <a:lnTo>
                    <a:pt x="124" y="77"/>
                  </a:lnTo>
                  <a:lnTo>
                    <a:pt x="126" y="73"/>
                  </a:lnTo>
                  <a:lnTo>
                    <a:pt x="124" y="73"/>
                  </a:lnTo>
                  <a:lnTo>
                    <a:pt x="122" y="71"/>
                  </a:lnTo>
                  <a:lnTo>
                    <a:pt x="124" y="69"/>
                  </a:lnTo>
                  <a:lnTo>
                    <a:pt x="126" y="67"/>
                  </a:lnTo>
                  <a:lnTo>
                    <a:pt x="124" y="65"/>
                  </a:lnTo>
                  <a:lnTo>
                    <a:pt x="122" y="63"/>
                  </a:lnTo>
                  <a:lnTo>
                    <a:pt x="120" y="63"/>
                  </a:lnTo>
                  <a:lnTo>
                    <a:pt x="116" y="63"/>
                  </a:lnTo>
                  <a:lnTo>
                    <a:pt x="114" y="63"/>
                  </a:lnTo>
                  <a:lnTo>
                    <a:pt x="114" y="61"/>
                  </a:lnTo>
                  <a:lnTo>
                    <a:pt x="116" y="59"/>
                  </a:lnTo>
                  <a:lnTo>
                    <a:pt x="118" y="59"/>
                  </a:lnTo>
                  <a:lnTo>
                    <a:pt x="120" y="59"/>
                  </a:lnTo>
                  <a:lnTo>
                    <a:pt x="120" y="57"/>
                  </a:lnTo>
                  <a:lnTo>
                    <a:pt x="116" y="57"/>
                  </a:lnTo>
                  <a:lnTo>
                    <a:pt x="112" y="59"/>
                  </a:lnTo>
                  <a:lnTo>
                    <a:pt x="110" y="61"/>
                  </a:lnTo>
                  <a:lnTo>
                    <a:pt x="110" y="63"/>
                  </a:lnTo>
                  <a:lnTo>
                    <a:pt x="114" y="65"/>
                  </a:lnTo>
                  <a:lnTo>
                    <a:pt x="116" y="65"/>
                  </a:lnTo>
                  <a:lnTo>
                    <a:pt x="122" y="65"/>
                  </a:lnTo>
                  <a:lnTo>
                    <a:pt x="122" y="67"/>
                  </a:lnTo>
                  <a:lnTo>
                    <a:pt x="118" y="67"/>
                  </a:lnTo>
                  <a:lnTo>
                    <a:pt x="114" y="69"/>
                  </a:lnTo>
                  <a:lnTo>
                    <a:pt x="112" y="69"/>
                  </a:lnTo>
                  <a:lnTo>
                    <a:pt x="108" y="69"/>
                  </a:lnTo>
                  <a:lnTo>
                    <a:pt x="108" y="65"/>
                  </a:lnTo>
                  <a:lnTo>
                    <a:pt x="106" y="65"/>
                  </a:lnTo>
                  <a:lnTo>
                    <a:pt x="104" y="63"/>
                  </a:lnTo>
                  <a:lnTo>
                    <a:pt x="100" y="65"/>
                  </a:lnTo>
                  <a:lnTo>
                    <a:pt x="100" y="69"/>
                  </a:lnTo>
                  <a:lnTo>
                    <a:pt x="100" y="71"/>
                  </a:lnTo>
                  <a:lnTo>
                    <a:pt x="98" y="69"/>
                  </a:lnTo>
                  <a:lnTo>
                    <a:pt x="98" y="67"/>
                  </a:lnTo>
                  <a:lnTo>
                    <a:pt x="98" y="65"/>
                  </a:lnTo>
                  <a:lnTo>
                    <a:pt x="102" y="61"/>
                  </a:lnTo>
                  <a:lnTo>
                    <a:pt x="108" y="57"/>
                  </a:lnTo>
                  <a:lnTo>
                    <a:pt x="116" y="55"/>
                  </a:lnTo>
                  <a:lnTo>
                    <a:pt x="122" y="53"/>
                  </a:lnTo>
                  <a:lnTo>
                    <a:pt x="128" y="53"/>
                  </a:lnTo>
                  <a:close/>
                  <a:moveTo>
                    <a:pt x="126" y="39"/>
                  </a:moveTo>
                  <a:lnTo>
                    <a:pt x="126" y="43"/>
                  </a:lnTo>
                  <a:lnTo>
                    <a:pt x="130" y="43"/>
                  </a:lnTo>
                  <a:lnTo>
                    <a:pt x="132" y="43"/>
                  </a:lnTo>
                  <a:lnTo>
                    <a:pt x="132" y="39"/>
                  </a:lnTo>
                  <a:lnTo>
                    <a:pt x="132" y="37"/>
                  </a:lnTo>
                  <a:lnTo>
                    <a:pt x="130" y="35"/>
                  </a:lnTo>
                  <a:lnTo>
                    <a:pt x="126" y="37"/>
                  </a:lnTo>
                  <a:lnTo>
                    <a:pt x="126" y="39"/>
                  </a:lnTo>
                  <a:close/>
                  <a:moveTo>
                    <a:pt x="145" y="47"/>
                  </a:moveTo>
                  <a:lnTo>
                    <a:pt x="137" y="47"/>
                  </a:lnTo>
                  <a:lnTo>
                    <a:pt x="130" y="45"/>
                  </a:lnTo>
                  <a:lnTo>
                    <a:pt x="116" y="47"/>
                  </a:lnTo>
                  <a:lnTo>
                    <a:pt x="114" y="47"/>
                  </a:lnTo>
                  <a:lnTo>
                    <a:pt x="118" y="43"/>
                  </a:lnTo>
                  <a:lnTo>
                    <a:pt x="120" y="41"/>
                  </a:lnTo>
                  <a:lnTo>
                    <a:pt x="122" y="39"/>
                  </a:lnTo>
                  <a:lnTo>
                    <a:pt x="126" y="33"/>
                  </a:lnTo>
                  <a:lnTo>
                    <a:pt x="128" y="30"/>
                  </a:lnTo>
                  <a:lnTo>
                    <a:pt x="128" y="26"/>
                  </a:lnTo>
                  <a:lnTo>
                    <a:pt x="126" y="24"/>
                  </a:lnTo>
                  <a:lnTo>
                    <a:pt x="126" y="22"/>
                  </a:lnTo>
                  <a:lnTo>
                    <a:pt x="130" y="20"/>
                  </a:lnTo>
                  <a:lnTo>
                    <a:pt x="132" y="22"/>
                  </a:lnTo>
                  <a:lnTo>
                    <a:pt x="132" y="24"/>
                  </a:lnTo>
                  <a:lnTo>
                    <a:pt x="130" y="26"/>
                  </a:lnTo>
                  <a:lnTo>
                    <a:pt x="130" y="30"/>
                  </a:lnTo>
                  <a:lnTo>
                    <a:pt x="132" y="33"/>
                  </a:lnTo>
                  <a:lnTo>
                    <a:pt x="137" y="39"/>
                  </a:lnTo>
                  <a:lnTo>
                    <a:pt x="139" y="41"/>
                  </a:lnTo>
                  <a:lnTo>
                    <a:pt x="141" y="43"/>
                  </a:lnTo>
                  <a:lnTo>
                    <a:pt x="145" y="47"/>
                  </a:lnTo>
                  <a:close/>
                  <a:moveTo>
                    <a:pt x="130" y="41"/>
                  </a:moveTo>
                  <a:lnTo>
                    <a:pt x="128" y="41"/>
                  </a:lnTo>
                  <a:lnTo>
                    <a:pt x="128" y="39"/>
                  </a:lnTo>
                  <a:lnTo>
                    <a:pt x="130" y="37"/>
                  </a:lnTo>
                  <a:lnTo>
                    <a:pt x="130" y="39"/>
                  </a:lnTo>
                  <a:lnTo>
                    <a:pt x="130" y="41"/>
                  </a:lnTo>
                  <a:close/>
                  <a:moveTo>
                    <a:pt x="128" y="207"/>
                  </a:moveTo>
                  <a:lnTo>
                    <a:pt x="128" y="209"/>
                  </a:lnTo>
                  <a:lnTo>
                    <a:pt x="130" y="207"/>
                  </a:lnTo>
                  <a:lnTo>
                    <a:pt x="128" y="207"/>
                  </a:lnTo>
                  <a:close/>
                  <a:moveTo>
                    <a:pt x="126" y="207"/>
                  </a:moveTo>
                  <a:lnTo>
                    <a:pt x="128" y="205"/>
                  </a:lnTo>
                  <a:lnTo>
                    <a:pt x="124" y="197"/>
                  </a:lnTo>
                  <a:lnTo>
                    <a:pt x="128" y="197"/>
                  </a:lnTo>
                  <a:lnTo>
                    <a:pt x="130" y="205"/>
                  </a:lnTo>
                  <a:lnTo>
                    <a:pt x="132" y="197"/>
                  </a:lnTo>
                  <a:lnTo>
                    <a:pt x="135" y="197"/>
                  </a:lnTo>
                  <a:lnTo>
                    <a:pt x="130" y="205"/>
                  </a:lnTo>
                  <a:lnTo>
                    <a:pt x="132" y="207"/>
                  </a:lnTo>
                  <a:lnTo>
                    <a:pt x="132" y="211"/>
                  </a:lnTo>
                  <a:lnTo>
                    <a:pt x="128" y="211"/>
                  </a:lnTo>
                  <a:lnTo>
                    <a:pt x="126" y="211"/>
                  </a:lnTo>
                  <a:lnTo>
                    <a:pt x="126" y="207"/>
                  </a:lnTo>
                  <a:close/>
                  <a:moveTo>
                    <a:pt x="86" y="185"/>
                  </a:moveTo>
                  <a:lnTo>
                    <a:pt x="86" y="189"/>
                  </a:lnTo>
                  <a:lnTo>
                    <a:pt x="83" y="191"/>
                  </a:lnTo>
                  <a:lnTo>
                    <a:pt x="81" y="193"/>
                  </a:lnTo>
                  <a:lnTo>
                    <a:pt x="79" y="193"/>
                  </a:lnTo>
                  <a:lnTo>
                    <a:pt x="77" y="193"/>
                  </a:lnTo>
                  <a:lnTo>
                    <a:pt x="77" y="191"/>
                  </a:lnTo>
                  <a:lnTo>
                    <a:pt x="77" y="189"/>
                  </a:lnTo>
                  <a:lnTo>
                    <a:pt x="79" y="189"/>
                  </a:lnTo>
                  <a:lnTo>
                    <a:pt x="81" y="189"/>
                  </a:lnTo>
                  <a:lnTo>
                    <a:pt x="83" y="187"/>
                  </a:lnTo>
                  <a:lnTo>
                    <a:pt x="86" y="185"/>
                  </a:lnTo>
                  <a:close/>
                  <a:moveTo>
                    <a:pt x="79" y="207"/>
                  </a:moveTo>
                  <a:lnTo>
                    <a:pt x="81" y="209"/>
                  </a:lnTo>
                  <a:lnTo>
                    <a:pt x="86" y="207"/>
                  </a:lnTo>
                  <a:lnTo>
                    <a:pt x="92" y="205"/>
                  </a:lnTo>
                  <a:lnTo>
                    <a:pt x="90" y="205"/>
                  </a:lnTo>
                  <a:lnTo>
                    <a:pt x="86" y="209"/>
                  </a:lnTo>
                  <a:lnTo>
                    <a:pt x="81" y="211"/>
                  </a:lnTo>
                  <a:lnTo>
                    <a:pt x="75" y="209"/>
                  </a:lnTo>
                  <a:lnTo>
                    <a:pt x="73" y="207"/>
                  </a:lnTo>
                  <a:lnTo>
                    <a:pt x="73" y="205"/>
                  </a:lnTo>
                  <a:lnTo>
                    <a:pt x="75" y="203"/>
                  </a:lnTo>
                  <a:lnTo>
                    <a:pt x="77" y="201"/>
                  </a:lnTo>
                  <a:lnTo>
                    <a:pt x="81" y="203"/>
                  </a:lnTo>
                  <a:lnTo>
                    <a:pt x="81" y="205"/>
                  </a:lnTo>
                  <a:lnTo>
                    <a:pt x="81" y="207"/>
                  </a:lnTo>
                  <a:lnTo>
                    <a:pt x="79" y="207"/>
                  </a:lnTo>
                  <a:close/>
                  <a:moveTo>
                    <a:pt x="71" y="163"/>
                  </a:moveTo>
                  <a:lnTo>
                    <a:pt x="73" y="165"/>
                  </a:lnTo>
                  <a:lnTo>
                    <a:pt x="71" y="167"/>
                  </a:lnTo>
                  <a:lnTo>
                    <a:pt x="73" y="169"/>
                  </a:lnTo>
                  <a:lnTo>
                    <a:pt x="73" y="167"/>
                  </a:lnTo>
                  <a:lnTo>
                    <a:pt x="79" y="175"/>
                  </a:lnTo>
                  <a:lnTo>
                    <a:pt x="77" y="177"/>
                  </a:lnTo>
                  <a:lnTo>
                    <a:pt x="79" y="179"/>
                  </a:lnTo>
                  <a:lnTo>
                    <a:pt x="79" y="177"/>
                  </a:lnTo>
                  <a:lnTo>
                    <a:pt x="81" y="181"/>
                  </a:lnTo>
                  <a:lnTo>
                    <a:pt x="79" y="183"/>
                  </a:lnTo>
                  <a:lnTo>
                    <a:pt x="77" y="185"/>
                  </a:lnTo>
                  <a:lnTo>
                    <a:pt x="71" y="185"/>
                  </a:lnTo>
                  <a:lnTo>
                    <a:pt x="69" y="183"/>
                  </a:lnTo>
                  <a:lnTo>
                    <a:pt x="73" y="183"/>
                  </a:lnTo>
                  <a:lnTo>
                    <a:pt x="75" y="181"/>
                  </a:lnTo>
                  <a:lnTo>
                    <a:pt x="75" y="179"/>
                  </a:lnTo>
                  <a:lnTo>
                    <a:pt x="71" y="181"/>
                  </a:lnTo>
                  <a:lnTo>
                    <a:pt x="67" y="181"/>
                  </a:lnTo>
                  <a:lnTo>
                    <a:pt x="63" y="173"/>
                  </a:lnTo>
                  <a:lnTo>
                    <a:pt x="67" y="173"/>
                  </a:lnTo>
                  <a:lnTo>
                    <a:pt x="69" y="171"/>
                  </a:lnTo>
                  <a:lnTo>
                    <a:pt x="69" y="169"/>
                  </a:lnTo>
                  <a:lnTo>
                    <a:pt x="65" y="171"/>
                  </a:lnTo>
                  <a:lnTo>
                    <a:pt x="63" y="171"/>
                  </a:lnTo>
                  <a:lnTo>
                    <a:pt x="61" y="169"/>
                  </a:lnTo>
                  <a:lnTo>
                    <a:pt x="63" y="169"/>
                  </a:lnTo>
                  <a:lnTo>
                    <a:pt x="67" y="167"/>
                  </a:lnTo>
                  <a:lnTo>
                    <a:pt x="69" y="165"/>
                  </a:lnTo>
                  <a:lnTo>
                    <a:pt x="71" y="163"/>
                  </a:lnTo>
                  <a:close/>
                  <a:moveTo>
                    <a:pt x="124" y="230"/>
                  </a:moveTo>
                  <a:lnTo>
                    <a:pt x="124" y="234"/>
                  </a:lnTo>
                  <a:lnTo>
                    <a:pt x="122" y="232"/>
                  </a:lnTo>
                  <a:lnTo>
                    <a:pt x="122" y="230"/>
                  </a:lnTo>
                  <a:lnTo>
                    <a:pt x="124" y="230"/>
                  </a:lnTo>
                  <a:close/>
                  <a:moveTo>
                    <a:pt x="135" y="230"/>
                  </a:moveTo>
                  <a:lnTo>
                    <a:pt x="137" y="230"/>
                  </a:lnTo>
                  <a:lnTo>
                    <a:pt x="137" y="232"/>
                  </a:lnTo>
                  <a:lnTo>
                    <a:pt x="135" y="234"/>
                  </a:lnTo>
                  <a:lnTo>
                    <a:pt x="135" y="230"/>
                  </a:lnTo>
                  <a:close/>
                  <a:moveTo>
                    <a:pt x="132" y="238"/>
                  </a:moveTo>
                  <a:lnTo>
                    <a:pt x="130" y="240"/>
                  </a:lnTo>
                  <a:lnTo>
                    <a:pt x="130" y="242"/>
                  </a:lnTo>
                  <a:lnTo>
                    <a:pt x="128" y="240"/>
                  </a:lnTo>
                  <a:lnTo>
                    <a:pt x="126" y="238"/>
                  </a:lnTo>
                  <a:lnTo>
                    <a:pt x="132" y="238"/>
                  </a:lnTo>
                  <a:close/>
                  <a:moveTo>
                    <a:pt x="179" y="207"/>
                  </a:moveTo>
                  <a:lnTo>
                    <a:pt x="177" y="207"/>
                  </a:lnTo>
                  <a:lnTo>
                    <a:pt x="177" y="205"/>
                  </a:lnTo>
                  <a:lnTo>
                    <a:pt x="177" y="203"/>
                  </a:lnTo>
                  <a:lnTo>
                    <a:pt x="179" y="203"/>
                  </a:lnTo>
                  <a:lnTo>
                    <a:pt x="181" y="201"/>
                  </a:lnTo>
                  <a:lnTo>
                    <a:pt x="183" y="203"/>
                  </a:lnTo>
                  <a:lnTo>
                    <a:pt x="186" y="205"/>
                  </a:lnTo>
                  <a:lnTo>
                    <a:pt x="183" y="207"/>
                  </a:lnTo>
                  <a:lnTo>
                    <a:pt x="181" y="209"/>
                  </a:lnTo>
                  <a:lnTo>
                    <a:pt x="177" y="211"/>
                  </a:lnTo>
                  <a:lnTo>
                    <a:pt x="173" y="209"/>
                  </a:lnTo>
                  <a:lnTo>
                    <a:pt x="167" y="205"/>
                  </a:lnTo>
                  <a:lnTo>
                    <a:pt x="173" y="209"/>
                  </a:lnTo>
                  <a:lnTo>
                    <a:pt x="177" y="209"/>
                  </a:lnTo>
                  <a:lnTo>
                    <a:pt x="179" y="209"/>
                  </a:lnTo>
                  <a:lnTo>
                    <a:pt x="179" y="207"/>
                  </a:lnTo>
                  <a:close/>
                  <a:moveTo>
                    <a:pt x="173" y="185"/>
                  </a:moveTo>
                  <a:lnTo>
                    <a:pt x="175" y="187"/>
                  </a:lnTo>
                  <a:lnTo>
                    <a:pt x="177" y="189"/>
                  </a:lnTo>
                  <a:lnTo>
                    <a:pt x="179" y="189"/>
                  </a:lnTo>
                  <a:lnTo>
                    <a:pt x="181" y="189"/>
                  </a:lnTo>
                  <a:lnTo>
                    <a:pt x="181" y="193"/>
                  </a:lnTo>
                  <a:lnTo>
                    <a:pt x="179" y="193"/>
                  </a:lnTo>
                  <a:lnTo>
                    <a:pt x="175" y="193"/>
                  </a:lnTo>
                  <a:lnTo>
                    <a:pt x="173" y="189"/>
                  </a:lnTo>
                  <a:lnTo>
                    <a:pt x="173" y="187"/>
                  </a:lnTo>
                  <a:lnTo>
                    <a:pt x="173" y="185"/>
                  </a:lnTo>
                  <a:close/>
                  <a:moveTo>
                    <a:pt x="196" y="128"/>
                  </a:moveTo>
                  <a:lnTo>
                    <a:pt x="196" y="132"/>
                  </a:lnTo>
                  <a:lnTo>
                    <a:pt x="198" y="136"/>
                  </a:lnTo>
                  <a:lnTo>
                    <a:pt x="202" y="144"/>
                  </a:lnTo>
                  <a:lnTo>
                    <a:pt x="206" y="152"/>
                  </a:lnTo>
                  <a:lnTo>
                    <a:pt x="206" y="158"/>
                  </a:lnTo>
                  <a:lnTo>
                    <a:pt x="206" y="160"/>
                  </a:lnTo>
                  <a:lnTo>
                    <a:pt x="204" y="163"/>
                  </a:lnTo>
                  <a:lnTo>
                    <a:pt x="202" y="165"/>
                  </a:lnTo>
                  <a:lnTo>
                    <a:pt x="196" y="167"/>
                  </a:lnTo>
                  <a:lnTo>
                    <a:pt x="192" y="165"/>
                  </a:lnTo>
                  <a:lnTo>
                    <a:pt x="190" y="160"/>
                  </a:lnTo>
                  <a:lnTo>
                    <a:pt x="190" y="158"/>
                  </a:lnTo>
                  <a:lnTo>
                    <a:pt x="192" y="156"/>
                  </a:lnTo>
                  <a:lnTo>
                    <a:pt x="194" y="156"/>
                  </a:lnTo>
                  <a:lnTo>
                    <a:pt x="196" y="156"/>
                  </a:lnTo>
                  <a:lnTo>
                    <a:pt x="196" y="158"/>
                  </a:lnTo>
                  <a:lnTo>
                    <a:pt x="196" y="160"/>
                  </a:lnTo>
                  <a:lnTo>
                    <a:pt x="194" y="160"/>
                  </a:lnTo>
                  <a:lnTo>
                    <a:pt x="196" y="165"/>
                  </a:lnTo>
                  <a:lnTo>
                    <a:pt x="200" y="163"/>
                  </a:lnTo>
                  <a:lnTo>
                    <a:pt x="202" y="160"/>
                  </a:lnTo>
                  <a:lnTo>
                    <a:pt x="204" y="160"/>
                  </a:lnTo>
                  <a:lnTo>
                    <a:pt x="204" y="158"/>
                  </a:lnTo>
                  <a:lnTo>
                    <a:pt x="202" y="154"/>
                  </a:lnTo>
                  <a:lnTo>
                    <a:pt x="198" y="150"/>
                  </a:lnTo>
                  <a:lnTo>
                    <a:pt x="196" y="148"/>
                  </a:lnTo>
                  <a:lnTo>
                    <a:pt x="198" y="148"/>
                  </a:lnTo>
                  <a:lnTo>
                    <a:pt x="198" y="146"/>
                  </a:lnTo>
                  <a:lnTo>
                    <a:pt x="198" y="144"/>
                  </a:lnTo>
                  <a:lnTo>
                    <a:pt x="196" y="142"/>
                  </a:lnTo>
                  <a:lnTo>
                    <a:pt x="194" y="140"/>
                  </a:lnTo>
                  <a:lnTo>
                    <a:pt x="192" y="138"/>
                  </a:lnTo>
                  <a:lnTo>
                    <a:pt x="192" y="136"/>
                  </a:lnTo>
                  <a:lnTo>
                    <a:pt x="196" y="136"/>
                  </a:lnTo>
                  <a:lnTo>
                    <a:pt x="196" y="134"/>
                  </a:lnTo>
                  <a:lnTo>
                    <a:pt x="194" y="134"/>
                  </a:lnTo>
                  <a:lnTo>
                    <a:pt x="194" y="132"/>
                  </a:lnTo>
                  <a:lnTo>
                    <a:pt x="194" y="130"/>
                  </a:lnTo>
                  <a:lnTo>
                    <a:pt x="196" y="128"/>
                  </a:lnTo>
                  <a:close/>
                  <a:moveTo>
                    <a:pt x="177" y="197"/>
                  </a:moveTo>
                  <a:lnTo>
                    <a:pt x="175" y="199"/>
                  </a:lnTo>
                  <a:lnTo>
                    <a:pt x="171" y="201"/>
                  </a:lnTo>
                  <a:lnTo>
                    <a:pt x="169" y="197"/>
                  </a:lnTo>
                  <a:lnTo>
                    <a:pt x="169" y="195"/>
                  </a:lnTo>
                  <a:lnTo>
                    <a:pt x="167" y="193"/>
                  </a:lnTo>
                  <a:lnTo>
                    <a:pt x="165" y="193"/>
                  </a:lnTo>
                  <a:lnTo>
                    <a:pt x="163" y="195"/>
                  </a:lnTo>
                  <a:lnTo>
                    <a:pt x="163" y="197"/>
                  </a:lnTo>
                  <a:lnTo>
                    <a:pt x="163" y="199"/>
                  </a:lnTo>
                  <a:lnTo>
                    <a:pt x="163" y="205"/>
                  </a:lnTo>
                  <a:lnTo>
                    <a:pt x="167" y="211"/>
                  </a:lnTo>
                  <a:lnTo>
                    <a:pt x="173" y="213"/>
                  </a:lnTo>
                  <a:lnTo>
                    <a:pt x="175" y="215"/>
                  </a:lnTo>
                  <a:lnTo>
                    <a:pt x="171" y="219"/>
                  </a:lnTo>
                  <a:lnTo>
                    <a:pt x="169" y="221"/>
                  </a:lnTo>
                  <a:lnTo>
                    <a:pt x="167" y="221"/>
                  </a:lnTo>
                  <a:lnTo>
                    <a:pt x="163" y="221"/>
                  </a:lnTo>
                  <a:lnTo>
                    <a:pt x="161" y="219"/>
                  </a:lnTo>
                  <a:lnTo>
                    <a:pt x="157" y="215"/>
                  </a:lnTo>
                  <a:lnTo>
                    <a:pt x="155" y="211"/>
                  </a:lnTo>
                  <a:lnTo>
                    <a:pt x="153" y="207"/>
                  </a:lnTo>
                  <a:lnTo>
                    <a:pt x="153" y="201"/>
                  </a:lnTo>
                  <a:lnTo>
                    <a:pt x="143" y="201"/>
                  </a:lnTo>
                  <a:lnTo>
                    <a:pt x="143" y="203"/>
                  </a:lnTo>
                  <a:lnTo>
                    <a:pt x="143" y="207"/>
                  </a:lnTo>
                  <a:lnTo>
                    <a:pt x="141" y="211"/>
                  </a:lnTo>
                  <a:lnTo>
                    <a:pt x="139" y="213"/>
                  </a:lnTo>
                  <a:lnTo>
                    <a:pt x="137" y="215"/>
                  </a:lnTo>
                  <a:lnTo>
                    <a:pt x="135" y="215"/>
                  </a:lnTo>
                  <a:lnTo>
                    <a:pt x="135" y="213"/>
                  </a:lnTo>
                  <a:lnTo>
                    <a:pt x="132" y="213"/>
                  </a:lnTo>
                  <a:lnTo>
                    <a:pt x="135" y="211"/>
                  </a:lnTo>
                  <a:lnTo>
                    <a:pt x="137" y="207"/>
                  </a:lnTo>
                  <a:lnTo>
                    <a:pt x="139" y="197"/>
                  </a:lnTo>
                  <a:lnTo>
                    <a:pt x="143" y="197"/>
                  </a:lnTo>
                  <a:lnTo>
                    <a:pt x="149" y="195"/>
                  </a:lnTo>
                  <a:lnTo>
                    <a:pt x="153" y="193"/>
                  </a:lnTo>
                  <a:lnTo>
                    <a:pt x="157" y="191"/>
                  </a:lnTo>
                  <a:lnTo>
                    <a:pt x="165" y="183"/>
                  </a:lnTo>
                  <a:lnTo>
                    <a:pt x="173" y="175"/>
                  </a:lnTo>
                  <a:lnTo>
                    <a:pt x="179" y="167"/>
                  </a:lnTo>
                  <a:lnTo>
                    <a:pt x="181" y="160"/>
                  </a:lnTo>
                  <a:lnTo>
                    <a:pt x="183" y="154"/>
                  </a:lnTo>
                  <a:lnTo>
                    <a:pt x="188" y="140"/>
                  </a:lnTo>
                  <a:lnTo>
                    <a:pt x="188" y="138"/>
                  </a:lnTo>
                  <a:lnTo>
                    <a:pt x="190" y="138"/>
                  </a:lnTo>
                  <a:lnTo>
                    <a:pt x="194" y="144"/>
                  </a:lnTo>
                  <a:lnTo>
                    <a:pt x="192" y="146"/>
                  </a:lnTo>
                  <a:lnTo>
                    <a:pt x="194" y="150"/>
                  </a:lnTo>
                  <a:lnTo>
                    <a:pt x="196" y="152"/>
                  </a:lnTo>
                  <a:lnTo>
                    <a:pt x="200" y="154"/>
                  </a:lnTo>
                  <a:lnTo>
                    <a:pt x="200" y="156"/>
                  </a:lnTo>
                  <a:lnTo>
                    <a:pt x="200" y="158"/>
                  </a:lnTo>
                  <a:lnTo>
                    <a:pt x="198" y="160"/>
                  </a:lnTo>
                  <a:lnTo>
                    <a:pt x="196" y="152"/>
                  </a:lnTo>
                  <a:lnTo>
                    <a:pt x="194" y="152"/>
                  </a:lnTo>
                  <a:lnTo>
                    <a:pt x="192" y="150"/>
                  </a:lnTo>
                  <a:lnTo>
                    <a:pt x="188" y="154"/>
                  </a:lnTo>
                  <a:lnTo>
                    <a:pt x="183" y="158"/>
                  </a:lnTo>
                  <a:lnTo>
                    <a:pt x="179" y="169"/>
                  </a:lnTo>
                  <a:lnTo>
                    <a:pt x="173" y="179"/>
                  </a:lnTo>
                  <a:lnTo>
                    <a:pt x="171" y="183"/>
                  </a:lnTo>
                  <a:lnTo>
                    <a:pt x="171" y="185"/>
                  </a:lnTo>
                  <a:lnTo>
                    <a:pt x="171" y="189"/>
                  </a:lnTo>
                  <a:lnTo>
                    <a:pt x="171" y="193"/>
                  </a:lnTo>
                  <a:lnTo>
                    <a:pt x="175" y="195"/>
                  </a:lnTo>
                  <a:lnTo>
                    <a:pt x="177" y="197"/>
                  </a:lnTo>
                  <a:close/>
                  <a:moveTo>
                    <a:pt x="188" y="163"/>
                  </a:moveTo>
                  <a:lnTo>
                    <a:pt x="190" y="165"/>
                  </a:lnTo>
                  <a:lnTo>
                    <a:pt x="192" y="167"/>
                  </a:lnTo>
                  <a:lnTo>
                    <a:pt x="196" y="169"/>
                  </a:lnTo>
                  <a:lnTo>
                    <a:pt x="198" y="169"/>
                  </a:lnTo>
                  <a:lnTo>
                    <a:pt x="196" y="171"/>
                  </a:lnTo>
                  <a:lnTo>
                    <a:pt x="194" y="171"/>
                  </a:lnTo>
                  <a:lnTo>
                    <a:pt x="190" y="169"/>
                  </a:lnTo>
                  <a:lnTo>
                    <a:pt x="190" y="171"/>
                  </a:lnTo>
                  <a:lnTo>
                    <a:pt x="192" y="173"/>
                  </a:lnTo>
                  <a:lnTo>
                    <a:pt x="196" y="173"/>
                  </a:lnTo>
                  <a:lnTo>
                    <a:pt x="192" y="181"/>
                  </a:lnTo>
                  <a:lnTo>
                    <a:pt x="188" y="181"/>
                  </a:lnTo>
                  <a:lnTo>
                    <a:pt x="183" y="179"/>
                  </a:lnTo>
                  <a:lnTo>
                    <a:pt x="183" y="181"/>
                  </a:lnTo>
                  <a:lnTo>
                    <a:pt x="186" y="183"/>
                  </a:lnTo>
                  <a:lnTo>
                    <a:pt x="190" y="183"/>
                  </a:lnTo>
                  <a:lnTo>
                    <a:pt x="188" y="185"/>
                  </a:lnTo>
                  <a:lnTo>
                    <a:pt x="186" y="185"/>
                  </a:lnTo>
                  <a:lnTo>
                    <a:pt x="181" y="185"/>
                  </a:lnTo>
                  <a:lnTo>
                    <a:pt x="179" y="183"/>
                  </a:lnTo>
                  <a:lnTo>
                    <a:pt x="177" y="181"/>
                  </a:lnTo>
                  <a:lnTo>
                    <a:pt x="179" y="177"/>
                  </a:lnTo>
                  <a:lnTo>
                    <a:pt x="179" y="179"/>
                  </a:lnTo>
                  <a:lnTo>
                    <a:pt x="181" y="177"/>
                  </a:lnTo>
                  <a:lnTo>
                    <a:pt x="179" y="175"/>
                  </a:lnTo>
                  <a:lnTo>
                    <a:pt x="186" y="167"/>
                  </a:lnTo>
                  <a:lnTo>
                    <a:pt x="186" y="169"/>
                  </a:lnTo>
                  <a:lnTo>
                    <a:pt x="188" y="167"/>
                  </a:lnTo>
                  <a:lnTo>
                    <a:pt x="186" y="165"/>
                  </a:lnTo>
                  <a:lnTo>
                    <a:pt x="188" y="163"/>
                  </a:lnTo>
                  <a:close/>
                  <a:moveTo>
                    <a:pt x="128" y="215"/>
                  </a:moveTo>
                  <a:lnTo>
                    <a:pt x="130" y="217"/>
                  </a:lnTo>
                  <a:lnTo>
                    <a:pt x="135" y="219"/>
                  </a:lnTo>
                  <a:lnTo>
                    <a:pt x="139" y="219"/>
                  </a:lnTo>
                  <a:lnTo>
                    <a:pt x="141" y="217"/>
                  </a:lnTo>
                  <a:lnTo>
                    <a:pt x="143" y="213"/>
                  </a:lnTo>
                  <a:lnTo>
                    <a:pt x="145" y="205"/>
                  </a:lnTo>
                  <a:lnTo>
                    <a:pt x="145" y="209"/>
                  </a:lnTo>
                  <a:lnTo>
                    <a:pt x="143" y="217"/>
                  </a:lnTo>
                  <a:lnTo>
                    <a:pt x="141" y="221"/>
                  </a:lnTo>
                  <a:lnTo>
                    <a:pt x="139" y="225"/>
                  </a:lnTo>
                  <a:lnTo>
                    <a:pt x="135" y="225"/>
                  </a:lnTo>
                  <a:lnTo>
                    <a:pt x="132" y="225"/>
                  </a:lnTo>
                  <a:lnTo>
                    <a:pt x="128" y="225"/>
                  </a:lnTo>
                  <a:lnTo>
                    <a:pt x="126" y="225"/>
                  </a:lnTo>
                  <a:lnTo>
                    <a:pt x="124" y="225"/>
                  </a:lnTo>
                  <a:lnTo>
                    <a:pt x="120" y="225"/>
                  </a:lnTo>
                  <a:lnTo>
                    <a:pt x="118" y="221"/>
                  </a:lnTo>
                  <a:lnTo>
                    <a:pt x="116" y="217"/>
                  </a:lnTo>
                  <a:lnTo>
                    <a:pt x="114" y="209"/>
                  </a:lnTo>
                  <a:lnTo>
                    <a:pt x="114" y="205"/>
                  </a:lnTo>
                  <a:lnTo>
                    <a:pt x="116" y="213"/>
                  </a:lnTo>
                  <a:lnTo>
                    <a:pt x="118" y="217"/>
                  </a:lnTo>
                  <a:lnTo>
                    <a:pt x="120" y="219"/>
                  </a:lnTo>
                  <a:lnTo>
                    <a:pt x="124" y="219"/>
                  </a:lnTo>
                  <a:lnTo>
                    <a:pt x="128" y="217"/>
                  </a:lnTo>
                  <a:lnTo>
                    <a:pt x="128" y="215"/>
                  </a:lnTo>
                  <a:close/>
                  <a:moveTo>
                    <a:pt x="75" y="47"/>
                  </a:moveTo>
                  <a:lnTo>
                    <a:pt x="77" y="49"/>
                  </a:lnTo>
                  <a:lnTo>
                    <a:pt x="77" y="51"/>
                  </a:lnTo>
                  <a:lnTo>
                    <a:pt x="77" y="53"/>
                  </a:lnTo>
                  <a:lnTo>
                    <a:pt x="75" y="53"/>
                  </a:lnTo>
                  <a:lnTo>
                    <a:pt x="73" y="55"/>
                  </a:lnTo>
                  <a:lnTo>
                    <a:pt x="69" y="53"/>
                  </a:lnTo>
                  <a:lnTo>
                    <a:pt x="67" y="53"/>
                  </a:lnTo>
                  <a:lnTo>
                    <a:pt x="65" y="47"/>
                  </a:lnTo>
                  <a:lnTo>
                    <a:pt x="65" y="45"/>
                  </a:lnTo>
                  <a:lnTo>
                    <a:pt x="67" y="43"/>
                  </a:lnTo>
                  <a:lnTo>
                    <a:pt x="71" y="41"/>
                  </a:lnTo>
                  <a:lnTo>
                    <a:pt x="75" y="41"/>
                  </a:lnTo>
                  <a:lnTo>
                    <a:pt x="81" y="41"/>
                  </a:lnTo>
                  <a:lnTo>
                    <a:pt x="90" y="45"/>
                  </a:lnTo>
                  <a:lnTo>
                    <a:pt x="92" y="45"/>
                  </a:lnTo>
                  <a:lnTo>
                    <a:pt x="86" y="45"/>
                  </a:lnTo>
                  <a:lnTo>
                    <a:pt x="79" y="43"/>
                  </a:lnTo>
                  <a:lnTo>
                    <a:pt x="73" y="43"/>
                  </a:lnTo>
                  <a:lnTo>
                    <a:pt x="69" y="45"/>
                  </a:lnTo>
                  <a:lnTo>
                    <a:pt x="67" y="47"/>
                  </a:lnTo>
                  <a:lnTo>
                    <a:pt x="69" y="49"/>
                  </a:lnTo>
                  <a:lnTo>
                    <a:pt x="69" y="51"/>
                  </a:lnTo>
                  <a:lnTo>
                    <a:pt x="71" y="51"/>
                  </a:lnTo>
                  <a:lnTo>
                    <a:pt x="71" y="49"/>
                  </a:lnTo>
                  <a:lnTo>
                    <a:pt x="73" y="47"/>
                  </a:lnTo>
                  <a:lnTo>
                    <a:pt x="75" y="47"/>
                  </a:lnTo>
                  <a:close/>
                  <a:moveTo>
                    <a:pt x="49" y="71"/>
                  </a:moveTo>
                  <a:lnTo>
                    <a:pt x="57" y="75"/>
                  </a:lnTo>
                  <a:lnTo>
                    <a:pt x="55" y="77"/>
                  </a:lnTo>
                  <a:lnTo>
                    <a:pt x="51" y="75"/>
                  </a:lnTo>
                  <a:lnTo>
                    <a:pt x="49" y="73"/>
                  </a:lnTo>
                  <a:lnTo>
                    <a:pt x="49" y="71"/>
                  </a:lnTo>
                  <a:close/>
                  <a:moveTo>
                    <a:pt x="71" y="57"/>
                  </a:moveTo>
                  <a:lnTo>
                    <a:pt x="71" y="61"/>
                  </a:lnTo>
                  <a:lnTo>
                    <a:pt x="69" y="59"/>
                  </a:lnTo>
                  <a:lnTo>
                    <a:pt x="67" y="61"/>
                  </a:lnTo>
                  <a:lnTo>
                    <a:pt x="69" y="61"/>
                  </a:lnTo>
                  <a:lnTo>
                    <a:pt x="63" y="69"/>
                  </a:lnTo>
                  <a:lnTo>
                    <a:pt x="61" y="69"/>
                  </a:lnTo>
                  <a:lnTo>
                    <a:pt x="61" y="71"/>
                  </a:lnTo>
                  <a:lnTo>
                    <a:pt x="63" y="71"/>
                  </a:lnTo>
                  <a:lnTo>
                    <a:pt x="61" y="73"/>
                  </a:lnTo>
                  <a:lnTo>
                    <a:pt x="55" y="71"/>
                  </a:lnTo>
                  <a:lnTo>
                    <a:pt x="53" y="69"/>
                  </a:lnTo>
                  <a:lnTo>
                    <a:pt x="51" y="67"/>
                  </a:lnTo>
                  <a:lnTo>
                    <a:pt x="53" y="65"/>
                  </a:lnTo>
                  <a:lnTo>
                    <a:pt x="55" y="67"/>
                  </a:lnTo>
                  <a:lnTo>
                    <a:pt x="57" y="69"/>
                  </a:lnTo>
                  <a:lnTo>
                    <a:pt x="59" y="67"/>
                  </a:lnTo>
                  <a:lnTo>
                    <a:pt x="57" y="65"/>
                  </a:lnTo>
                  <a:lnTo>
                    <a:pt x="55" y="63"/>
                  </a:lnTo>
                  <a:lnTo>
                    <a:pt x="59" y="55"/>
                  </a:lnTo>
                  <a:lnTo>
                    <a:pt x="61" y="57"/>
                  </a:lnTo>
                  <a:lnTo>
                    <a:pt x="65" y="59"/>
                  </a:lnTo>
                  <a:lnTo>
                    <a:pt x="63" y="55"/>
                  </a:lnTo>
                  <a:lnTo>
                    <a:pt x="61" y="53"/>
                  </a:lnTo>
                  <a:lnTo>
                    <a:pt x="63" y="51"/>
                  </a:lnTo>
                  <a:lnTo>
                    <a:pt x="67" y="55"/>
                  </a:lnTo>
                  <a:lnTo>
                    <a:pt x="69" y="57"/>
                  </a:lnTo>
                  <a:lnTo>
                    <a:pt x="71" y="57"/>
                  </a:lnTo>
                  <a:close/>
                  <a:moveTo>
                    <a:pt x="210" y="73"/>
                  </a:moveTo>
                  <a:lnTo>
                    <a:pt x="210" y="75"/>
                  </a:lnTo>
                  <a:lnTo>
                    <a:pt x="208" y="77"/>
                  </a:lnTo>
                  <a:lnTo>
                    <a:pt x="204" y="77"/>
                  </a:lnTo>
                  <a:lnTo>
                    <a:pt x="210" y="73"/>
                  </a:lnTo>
                  <a:close/>
                  <a:moveTo>
                    <a:pt x="186" y="57"/>
                  </a:moveTo>
                  <a:lnTo>
                    <a:pt x="190" y="57"/>
                  </a:lnTo>
                  <a:lnTo>
                    <a:pt x="192" y="55"/>
                  </a:lnTo>
                  <a:lnTo>
                    <a:pt x="196" y="51"/>
                  </a:lnTo>
                  <a:lnTo>
                    <a:pt x="198" y="53"/>
                  </a:lnTo>
                  <a:lnTo>
                    <a:pt x="196" y="55"/>
                  </a:lnTo>
                  <a:lnTo>
                    <a:pt x="194" y="59"/>
                  </a:lnTo>
                  <a:lnTo>
                    <a:pt x="198" y="57"/>
                  </a:lnTo>
                  <a:lnTo>
                    <a:pt x="200" y="55"/>
                  </a:lnTo>
                  <a:lnTo>
                    <a:pt x="204" y="63"/>
                  </a:lnTo>
                  <a:lnTo>
                    <a:pt x="202" y="65"/>
                  </a:lnTo>
                  <a:lnTo>
                    <a:pt x="200" y="67"/>
                  </a:lnTo>
                  <a:lnTo>
                    <a:pt x="200" y="69"/>
                  </a:lnTo>
                  <a:lnTo>
                    <a:pt x="204" y="67"/>
                  </a:lnTo>
                  <a:lnTo>
                    <a:pt x="206" y="65"/>
                  </a:lnTo>
                  <a:lnTo>
                    <a:pt x="208" y="67"/>
                  </a:lnTo>
                  <a:lnTo>
                    <a:pt x="204" y="71"/>
                  </a:lnTo>
                  <a:lnTo>
                    <a:pt x="200" y="73"/>
                  </a:lnTo>
                  <a:lnTo>
                    <a:pt x="198" y="73"/>
                  </a:lnTo>
                  <a:lnTo>
                    <a:pt x="196" y="71"/>
                  </a:lnTo>
                  <a:lnTo>
                    <a:pt x="198" y="71"/>
                  </a:lnTo>
                  <a:lnTo>
                    <a:pt x="196" y="69"/>
                  </a:lnTo>
                  <a:lnTo>
                    <a:pt x="194" y="69"/>
                  </a:lnTo>
                  <a:lnTo>
                    <a:pt x="190" y="61"/>
                  </a:lnTo>
                  <a:lnTo>
                    <a:pt x="192" y="61"/>
                  </a:lnTo>
                  <a:lnTo>
                    <a:pt x="190" y="59"/>
                  </a:lnTo>
                  <a:lnTo>
                    <a:pt x="188" y="61"/>
                  </a:lnTo>
                  <a:lnTo>
                    <a:pt x="186" y="57"/>
                  </a:lnTo>
                  <a:close/>
                  <a:moveTo>
                    <a:pt x="183" y="47"/>
                  </a:moveTo>
                  <a:lnTo>
                    <a:pt x="186" y="47"/>
                  </a:lnTo>
                  <a:lnTo>
                    <a:pt x="188" y="49"/>
                  </a:lnTo>
                  <a:lnTo>
                    <a:pt x="188" y="51"/>
                  </a:lnTo>
                  <a:lnTo>
                    <a:pt x="190" y="51"/>
                  </a:lnTo>
                  <a:lnTo>
                    <a:pt x="190" y="49"/>
                  </a:lnTo>
                  <a:lnTo>
                    <a:pt x="190" y="47"/>
                  </a:lnTo>
                  <a:lnTo>
                    <a:pt x="190" y="45"/>
                  </a:lnTo>
                  <a:lnTo>
                    <a:pt x="186" y="43"/>
                  </a:lnTo>
                  <a:lnTo>
                    <a:pt x="179" y="43"/>
                  </a:lnTo>
                  <a:lnTo>
                    <a:pt x="173" y="45"/>
                  </a:lnTo>
                  <a:lnTo>
                    <a:pt x="167" y="45"/>
                  </a:lnTo>
                  <a:lnTo>
                    <a:pt x="169" y="45"/>
                  </a:lnTo>
                  <a:lnTo>
                    <a:pt x="177" y="41"/>
                  </a:lnTo>
                  <a:lnTo>
                    <a:pt x="183" y="41"/>
                  </a:lnTo>
                  <a:lnTo>
                    <a:pt x="188" y="41"/>
                  </a:lnTo>
                  <a:lnTo>
                    <a:pt x="190" y="41"/>
                  </a:lnTo>
                  <a:lnTo>
                    <a:pt x="192" y="43"/>
                  </a:lnTo>
                  <a:lnTo>
                    <a:pt x="194" y="45"/>
                  </a:lnTo>
                  <a:lnTo>
                    <a:pt x="194" y="47"/>
                  </a:lnTo>
                  <a:lnTo>
                    <a:pt x="192" y="51"/>
                  </a:lnTo>
                  <a:lnTo>
                    <a:pt x="190" y="53"/>
                  </a:lnTo>
                  <a:lnTo>
                    <a:pt x="186" y="53"/>
                  </a:lnTo>
                  <a:lnTo>
                    <a:pt x="183" y="53"/>
                  </a:lnTo>
                  <a:lnTo>
                    <a:pt x="181" y="49"/>
                  </a:lnTo>
                  <a:lnTo>
                    <a:pt x="181" y="47"/>
                  </a:lnTo>
                  <a:lnTo>
                    <a:pt x="183" y="47"/>
                  </a:lnTo>
                  <a:close/>
                  <a:moveTo>
                    <a:pt x="159" y="41"/>
                  </a:moveTo>
                  <a:lnTo>
                    <a:pt x="157" y="43"/>
                  </a:lnTo>
                  <a:lnTo>
                    <a:pt x="153" y="43"/>
                  </a:lnTo>
                  <a:lnTo>
                    <a:pt x="159" y="39"/>
                  </a:lnTo>
                  <a:lnTo>
                    <a:pt x="159" y="41"/>
                  </a:lnTo>
                  <a:close/>
                  <a:moveTo>
                    <a:pt x="100" y="41"/>
                  </a:moveTo>
                  <a:lnTo>
                    <a:pt x="100" y="39"/>
                  </a:lnTo>
                  <a:lnTo>
                    <a:pt x="106" y="43"/>
                  </a:lnTo>
                  <a:lnTo>
                    <a:pt x="104" y="43"/>
                  </a:lnTo>
                  <a:lnTo>
                    <a:pt x="100" y="41"/>
                  </a:lnTo>
                  <a:close/>
                  <a:moveTo>
                    <a:pt x="165" y="41"/>
                  </a:moveTo>
                  <a:lnTo>
                    <a:pt x="161" y="45"/>
                  </a:lnTo>
                  <a:lnTo>
                    <a:pt x="159" y="45"/>
                  </a:lnTo>
                  <a:lnTo>
                    <a:pt x="161" y="43"/>
                  </a:lnTo>
                  <a:lnTo>
                    <a:pt x="163" y="41"/>
                  </a:lnTo>
                  <a:lnTo>
                    <a:pt x="163" y="39"/>
                  </a:lnTo>
                  <a:lnTo>
                    <a:pt x="161" y="39"/>
                  </a:lnTo>
                  <a:lnTo>
                    <a:pt x="161" y="37"/>
                  </a:lnTo>
                  <a:lnTo>
                    <a:pt x="159" y="35"/>
                  </a:lnTo>
                  <a:lnTo>
                    <a:pt x="161" y="33"/>
                  </a:lnTo>
                  <a:lnTo>
                    <a:pt x="163" y="33"/>
                  </a:lnTo>
                  <a:lnTo>
                    <a:pt x="165" y="33"/>
                  </a:lnTo>
                  <a:lnTo>
                    <a:pt x="165" y="35"/>
                  </a:lnTo>
                  <a:lnTo>
                    <a:pt x="165" y="39"/>
                  </a:lnTo>
                  <a:lnTo>
                    <a:pt x="165" y="41"/>
                  </a:lnTo>
                  <a:close/>
                  <a:moveTo>
                    <a:pt x="94" y="41"/>
                  </a:moveTo>
                  <a:lnTo>
                    <a:pt x="94" y="35"/>
                  </a:lnTo>
                  <a:lnTo>
                    <a:pt x="94" y="33"/>
                  </a:lnTo>
                  <a:lnTo>
                    <a:pt x="96" y="33"/>
                  </a:lnTo>
                  <a:lnTo>
                    <a:pt x="98" y="33"/>
                  </a:lnTo>
                  <a:lnTo>
                    <a:pt x="100" y="35"/>
                  </a:lnTo>
                  <a:lnTo>
                    <a:pt x="98" y="37"/>
                  </a:lnTo>
                  <a:lnTo>
                    <a:pt x="96" y="39"/>
                  </a:lnTo>
                  <a:lnTo>
                    <a:pt x="96" y="41"/>
                  </a:lnTo>
                  <a:lnTo>
                    <a:pt x="98" y="43"/>
                  </a:lnTo>
                  <a:lnTo>
                    <a:pt x="100" y="45"/>
                  </a:lnTo>
                  <a:lnTo>
                    <a:pt x="98" y="45"/>
                  </a:lnTo>
                  <a:lnTo>
                    <a:pt x="96" y="43"/>
                  </a:lnTo>
                  <a:lnTo>
                    <a:pt x="94" y="41"/>
                  </a:lnTo>
                  <a:close/>
                  <a:moveTo>
                    <a:pt x="116" y="28"/>
                  </a:moveTo>
                  <a:lnTo>
                    <a:pt x="116" y="30"/>
                  </a:lnTo>
                  <a:lnTo>
                    <a:pt x="114" y="30"/>
                  </a:lnTo>
                  <a:lnTo>
                    <a:pt x="112" y="30"/>
                  </a:lnTo>
                  <a:lnTo>
                    <a:pt x="110" y="28"/>
                  </a:lnTo>
                  <a:lnTo>
                    <a:pt x="110" y="24"/>
                  </a:lnTo>
                  <a:lnTo>
                    <a:pt x="112" y="18"/>
                  </a:lnTo>
                  <a:lnTo>
                    <a:pt x="116" y="16"/>
                  </a:lnTo>
                  <a:lnTo>
                    <a:pt x="118" y="12"/>
                  </a:lnTo>
                  <a:lnTo>
                    <a:pt x="122" y="10"/>
                  </a:lnTo>
                  <a:lnTo>
                    <a:pt x="126" y="10"/>
                  </a:lnTo>
                  <a:lnTo>
                    <a:pt x="132" y="10"/>
                  </a:lnTo>
                  <a:lnTo>
                    <a:pt x="139" y="12"/>
                  </a:lnTo>
                  <a:lnTo>
                    <a:pt x="145" y="18"/>
                  </a:lnTo>
                  <a:lnTo>
                    <a:pt x="147" y="20"/>
                  </a:lnTo>
                  <a:lnTo>
                    <a:pt x="147" y="24"/>
                  </a:lnTo>
                  <a:lnTo>
                    <a:pt x="147" y="28"/>
                  </a:lnTo>
                  <a:lnTo>
                    <a:pt x="147" y="30"/>
                  </a:lnTo>
                  <a:lnTo>
                    <a:pt x="145" y="30"/>
                  </a:lnTo>
                  <a:lnTo>
                    <a:pt x="143" y="30"/>
                  </a:lnTo>
                  <a:lnTo>
                    <a:pt x="143" y="28"/>
                  </a:lnTo>
                  <a:lnTo>
                    <a:pt x="143" y="26"/>
                  </a:lnTo>
                  <a:lnTo>
                    <a:pt x="145" y="26"/>
                  </a:lnTo>
                  <a:lnTo>
                    <a:pt x="145" y="22"/>
                  </a:lnTo>
                  <a:lnTo>
                    <a:pt x="143" y="20"/>
                  </a:lnTo>
                  <a:lnTo>
                    <a:pt x="139" y="16"/>
                  </a:lnTo>
                  <a:lnTo>
                    <a:pt x="132" y="12"/>
                  </a:lnTo>
                  <a:lnTo>
                    <a:pt x="126" y="12"/>
                  </a:lnTo>
                  <a:lnTo>
                    <a:pt x="122" y="14"/>
                  </a:lnTo>
                  <a:lnTo>
                    <a:pt x="116" y="18"/>
                  </a:lnTo>
                  <a:lnTo>
                    <a:pt x="114" y="22"/>
                  </a:lnTo>
                  <a:lnTo>
                    <a:pt x="114" y="24"/>
                  </a:lnTo>
                  <a:lnTo>
                    <a:pt x="114" y="26"/>
                  </a:lnTo>
                  <a:lnTo>
                    <a:pt x="116" y="26"/>
                  </a:lnTo>
                  <a:lnTo>
                    <a:pt x="116" y="28"/>
                  </a:lnTo>
                  <a:close/>
                  <a:moveTo>
                    <a:pt x="202" y="93"/>
                  </a:moveTo>
                  <a:lnTo>
                    <a:pt x="196" y="93"/>
                  </a:lnTo>
                  <a:lnTo>
                    <a:pt x="194" y="93"/>
                  </a:lnTo>
                  <a:lnTo>
                    <a:pt x="194" y="91"/>
                  </a:lnTo>
                  <a:lnTo>
                    <a:pt x="194" y="83"/>
                  </a:lnTo>
                  <a:lnTo>
                    <a:pt x="192" y="83"/>
                  </a:lnTo>
                  <a:lnTo>
                    <a:pt x="190" y="81"/>
                  </a:lnTo>
                  <a:lnTo>
                    <a:pt x="188" y="79"/>
                  </a:lnTo>
                  <a:lnTo>
                    <a:pt x="188" y="67"/>
                  </a:lnTo>
                  <a:lnTo>
                    <a:pt x="190" y="67"/>
                  </a:lnTo>
                  <a:lnTo>
                    <a:pt x="190" y="79"/>
                  </a:lnTo>
                  <a:lnTo>
                    <a:pt x="192" y="81"/>
                  </a:lnTo>
                  <a:lnTo>
                    <a:pt x="196" y="83"/>
                  </a:lnTo>
                  <a:lnTo>
                    <a:pt x="196" y="91"/>
                  </a:lnTo>
                  <a:lnTo>
                    <a:pt x="198" y="93"/>
                  </a:lnTo>
                  <a:lnTo>
                    <a:pt x="202" y="93"/>
                  </a:lnTo>
                  <a:close/>
                  <a:moveTo>
                    <a:pt x="55" y="93"/>
                  </a:moveTo>
                  <a:lnTo>
                    <a:pt x="59" y="93"/>
                  </a:lnTo>
                  <a:lnTo>
                    <a:pt x="61" y="91"/>
                  </a:lnTo>
                  <a:lnTo>
                    <a:pt x="61" y="83"/>
                  </a:lnTo>
                  <a:lnTo>
                    <a:pt x="65" y="81"/>
                  </a:lnTo>
                  <a:lnTo>
                    <a:pt x="67" y="81"/>
                  </a:lnTo>
                  <a:lnTo>
                    <a:pt x="67" y="79"/>
                  </a:lnTo>
                  <a:lnTo>
                    <a:pt x="67" y="67"/>
                  </a:lnTo>
                  <a:lnTo>
                    <a:pt x="69" y="67"/>
                  </a:lnTo>
                  <a:lnTo>
                    <a:pt x="69" y="79"/>
                  </a:lnTo>
                  <a:lnTo>
                    <a:pt x="67" y="81"/>
                  </a:lnTo>
                  <a:lnTo>
                    <a:pt x="65" y="83"/>
                  </a:lnTo>
                  <a:lnTo>
                    <a:pt x="63" y="83"/>
                  </a:lnTo>
                  <a:lnTo>
                    <a:pt x="63" y="91"/>
                  </a:lnTo>
                  <a:lnTo>
                    <a:pt x="63" y="93"/>
                  </a:lnTo>
                  <a:lnTo>
                    <a:pt x="61" y="93"/>
                  </a:lnTo>
                  <a:lnTo>
                    <a:pt x="55" y="93"/>
                  </a:lnTo>
                  <a:close/>
                  <a:moveTo>
                    <a:pt x="49" y="126"/>
                  </a:moveTo>
                  <a:lnTo>
                    <a:pt x="47" y="122"/>
                  </a:lnTo>
                  <a:lnTo>
                    <a:pt x="47" y="83"/>
                  </a:lnTo>
                  <a:lnTo>
                    <a:pt x="51" y="83"/>
                  </a:lnTo>
                  <a:lnTo>
                    <a:pt x="51" y="122"/>
                  </a:lnTo>
                  <a:lnTo>
                    <a:pt x="51" y="124"/>
                  </a:lnTo>
                  <a:lnTo>
                    <a:pt x="53" y="126"/>
                  </a:lnTo>
                  <a:lnTo>
                    <a:pt x="55" y="128"/>
                  </a:lnTo>
                  <a:lnTo>
                    <a:pt x="57" y="128"/>
                  </a:lnTo>
                  <a:lnTo>
                    <a:pt x="59" y="128"/>
                  </a:lnTo>
                  <a:lnTo>
                    <a:pt x="55" y="128"/>
                  </a:lnTo>
                  <a:lnTo>
                    <a:pt x="53" y="128"/>
                  </a:lnTo>
                  <a:lnTo>
                    <a:pt x="51" y="128"/>
                  </a:lnTo>
                  <a:lnTo>
                    <a:pt x="49" y="126"/>
                  </a:lnTo>
                  <a:close/>
                  <a:moveTo>
                    <a:pt x="198" y="102"/>
                  </a:moveTo>
                  <a:lnTo>
                    <a:pt x="192" y="98"/>
                  </a:lnTo>
                  <a:lnTo>
                    <a:pt x="192" y="112"/>
                  </a:lnTo>
                  <a:lnTo>
                    <a:pt x="194" y="114"/>
                  </a:lnTo>
                  <a:lnTo>
                    <a:pt x="196" y="114"/>
                  </a:lnTo>
                  <a:lnTo>
                    <a:pt x="198" y="114"/>
                  </a:lnTo>
                  <a:lnTo>
                    <a:pt x="198" y="112"/>
                  </a:lnTo>
                  <a:lnTo>
                    <a:pt x="198" y="102"/>
                  </a:lnTo>
                  <a:close/>
                  <a:moveTo>
                    <a:pt x="61" y="102"/>
                  </a:moveTo>
                  <a:lnTo>
                    <a:pt x="61" y="112"/>
                  </a:lnTo>
                  <a:lnTo>
                    <a:pt x="61" y="114"/>
                  </a:lnTo>
                  <a:lnTo>
                    <a:pt x="63" y="114"/>
                  </a:lnTo>
                  <a:lnTo>
                    <a:pt x="65" y="114"/>
                  </a:lnTo>
                  <a:lnTo>
                    <a:pt x="67" y="112"/>
                  </a:lnTo>
                  <a:lnTo>
                    <a:pt x="67" y="98"/>
                  </a:lnTo>
                  <a:lnTo>
                    <a:pt x="63" y="100"/>
                  </a:lnTo>
                  <a:lnTo>
                    <a:pt x="61" y="102"/>
                  </a:lnTo>
                  <a:close/>
                  <a:moveTo>
                    <a:pt x="190" y="126"/>
                  </a:moveTo>
                  <a:lnTo>
                    <a:pt x="190" y="118"/>
                  </a:lnTo>
                  <a:lnTo>
                    <a:pt x="188" y="114"/>
                  </a:lnTo>
                  <a:lnTo>
                    <a:pt x="186" y="100"/>
                  </a:lnTo>
                  <a:lnTo>
                    <a:pt x="183" y="83"/>
                  </a:lnTo>
                  <a:lnTo>
                    <a:pt x="179" y="77"/>
                  </a:lnTo>
                  <a:lnTo>
                    <a:pt x="177" y="71"/>
                  </a:lnTo>
                  <a:lnTo>
                    <a:pt x="171" y="63"/>
                  </a:lnTo>
                  <a:lnTo>
                    <a:pt x="165" y="57"/>
                  </a:lnTo>
                  <a:lnTo>
                    <a:pt x="157" y="53"/>
                  </a:lnTo>
                  <a:lnTo>
                    <a:pt x="149" y="49"/>
                  </a:lnTo>
                  <a:lnTo>
                    <a:pt x="147" y="45"/>
                  </a:lnTo>
                  <a:lnTo>
                    <a:pt x="143" y="41"/>
                  </a:lnTo>
                  <a:lnTo>
                    <a:pt x="139" y="37"/>
                  </a:lnTo>
                  <a:lnTo>
                    <a:pt x="139" y="35"/>
                  </a:lnTo>
                  <a:lnTo>
                    <a:pt x="137" y="30"/>
                  </a:lnTo>
                  <a:lnTo>
                    <a:pt x="135" y="28"/>
                  </a:lnTo>
                  <a:lnTo>
                    <a:pt x="135" y="26"/>
                  </a:lnTo>
                  <a:lnTo>
                    <a:pt x="137" y="26"/>
                  </a:lnTo>
                  <a:lnTo>
                    <a:pt x="137" y="24"/>
                  </a:lnTo>
                  <a:lnTo>
                    <a:pt x="137" y="22"/>
                  </a:lnTo>
                  <a:lnTo>
                    <a:pt x="135" y="20"/>
                  </a:lnTo>
                  <a:lnTo>
                    <a:pt x="132" y="18"/>
                  </a:lnTo>
                  <a:lnTo>
                    <a:pt x="128" y="18"/>
                  </a:lnTo>
                  <a:lnTo>
                    <a:pt x="126" y="18"/>
                  </a:lnTo>
                  <a:lnTo>
                    <a:pt x="124" y="20"/>
                  </a:lnTo>
                  <a:lnTo>
                    <a:pt x="122" y="22"/>
                  </a:lnTo>
                  <a:lnTo>
                    <a:pt x="124" y="24"/>
                  </a:lnTo>
                  <a:lnTo>
                    <a:pt x="124" y="26"/>
                  </a:lnTo>
                  <a:lnTo>
                    <a:pt x="124" y="28"/>
                  </a:lnTo>
                  <a:lnTo>
                    <a:pt x="122" y="30"/>
                  </a:lnTo>
                  <a:lnTo>
                    <a:pt x="120" y="35"/>
                  </a:lnTo>
                  <a:lnTo>
                    <a:pt x="120" y="37"/>
                  </a:lnTo>
                  <a:lnTo>
                    <a:pt x="116" y="41"/>
                  </a:lnTo>
                  <a:lnTo>
                    <a:pt x="112" y="45"/>
                  </a:lnTo>
                  <a:lnTo>
                    <a:pt x="106" y="49"/>
                  </a:lnTo>
                  <a:lnTo>
                    <a:pt x="104" y="51"/>
                  </a:lnTo>
                  <a:lnTo>
                    <a:pt x="100" y="53"/>
                  </a:lnTo>
                  <a:lnTo>
                    <a:pt x="92" y="59"/>
                  </a:lnTo>
                  <a:lnTo>
                    <a:pt x="86" y="67"/>
                  </a:lnTo>
                  <a:lnTo>
                    <a:pt x="83" y="71"/>
                  </a:lnTo>
                  <a:lnTo>
                    <a:pt x="79" y="77"/>
                  </a:lnTo>
                  <a:lnTo>
                    <a:pt x="75" y="87"/>
                  </a:lnTo>
                  <a:lnTo>
                    <a:pt x="73" y="108"/>
                  </a:lnTo>
                  <a:lnTo>
                    <a:pt x="71" y="118"/>
                  </a:lnTo>
                  <a:lnTo>
                    <a:pt x="73" y="126"/>
                  </a:lnTo>
                  <a:lnTo>
                    <a:pt x="73" y="138"/>
                  </a:lnTo>
                  <a:lnTo>
                    <a:pt x="73" y="142"/>
                  </a:lnTo>
                  <a:lnTo>
                    <a:pt x="75" y="146"/>
                  </a:lnTo>
                  <a:lnTo>
                    <a:pt x="75" y="152"/>
                  </a:lnTo>
                  <a:lnTo>
                    <a:pt x="77" y="156"/>
                  </a:lnTo>
                  <a:lnTo>
                    <a:pt x="79" y="160"/>
                  </a:lnTo>
                  <a:lnTo>
                    <a:pt x="81" y="169"/>
                  </a:lnTo>
                  <a:lnTo>
                    <a:pt x="86" y="175"/>
                  </a:lnTo>
                  <a:lnTo>
                    <a:pt x="90" y="179"/>
                  </a:lnTo>
                  <a:lnTo>
                    <a:pt x="96" y="185"/>
                  </a:lnTo>
                  <a:lnTo>
                    <a:pt x="106" y="191"/>
                  </a:lnTo>
                  <a:lnTo>
                    <a:pt x="112" y="195"/>
                  </a:lnTo>
                  <a:lnTo>
                    <a:pt x="120" y="197"/>
                  </a:lnTo>
                  <a:lnTo>
                    <a:pt x="122" y="199"/>
                  </a:lnTo>
                  <a:lnTo>
                    <a:pt x="122" y="201"/>
                  </a:lnTo>
                  <a:lnTo>
                    <a:pt x="122" y="205"/>
                  </a:lnTo>
                  <a:lnTo>
                    <a:pt x="124" y="209"/>
                  </a:lnTo>
                  <a:lnTo>
                    <a:pt x="126" y="211"/>
                  </a:lnTo>
                  <a:lnTo>
                    <a:pt x="124" y="213"/>
                  </a:lnTo>
                  <a:lnTo>
                    <a:pt x="122" y="215"/>
                  </a:lnTo>
                  <a:lnTo>
                    <a:pt x="120" y="215"/>
                  </a:lnTo>
                  <a:lnTo>
                    <a:pt x="116" y="209"/>
                  </a:lnTo>
                  <a:lnTo>
                    <a:pt x="116" y="201"/>
                  </a:lnTo>
                  <a:lnTo>
                    <a:pt x="106" y="201"/>
                  </a:lnTo>
                  <a:lnTo>
                    <a:pt x="104" y="213"/>
                  </a:lnTo>
                  <a:lnTo>
                    <a:pt x="100" y="217"/>
                  </a:lnTo>
                  <a:lnTo>
                    <a:pt x="96" y="221"/>
                  </a:lnTo>
                  <a:lnTo>
                    <a:pt x="92" y="221"/>
                  </a:lnTo>
                  <a:lnTo>
                    <a:pt x="90" y="219"/>
                  </a:lnTo>
                  <a:lnTo>
                    <a:pt x="86" y="217"/>
                  </a:lnTo>
                  <a:lnTo>
                    <a:pt x="83" y="215"/>
                  </a:lnTo>
                  <a:lnTo>
                    <a:pt x="90" y="213"/>
                  </a:lnTo>
                  <a:lnTo>
                    <a:pt x="92" y="211"/>
                  </a:lnTo>
                  <a:lnTo>
                    <a:pt x="94" y="207"/>
                  </a:lnTo>
                  <a:lnTo>
                    <a:pt x="96" y="205"/>
                  </a:lnTo>
                  <a:lnTo>
                    <a:pt x="96" y="201"/>
                  </a:lnTo>
                  <a:lnTo>
                    <a:pt x="96" y="191"/>
                  </a:lnTo>
                  <a:lnTo>
                    <a:pt x="94" y="191"/>
                  </a:lnTo>
                  <a:lnTo>
                    <a:pt x="90" y="199"/>
                  </a:lnTo>
                  <a:lnTo>
                    <a:pt x="88" y="199"/>
                  </a:lnTo>
                  <a:lnTo>
                    <a:pt x="86" y="197"/>
                  </a:lnTo>
                  <a:lnTo>
                    <a:pt x="83" y="197"/>
                  </a:lnTo>
                  <a:lnTo>
                    <a:pt x="83" y="195"/>
                  </a:lnTo>
                  <a:lnTo>
                    <a:pt x="88" y="191"/>
                  </a:lnTo>
                  <a:lnTo>
                    <a:pt x="90" y="189"/>
                  </a:lnTo>
                  <a:lnTo>
                    <a:pt x="90" y="185"/>
                  </a:lnTo>
                  <a:lnTo>
                    <a:pt x="86" y="181"/>
                  </a:lnTo>
                  <a:lnTo>
                    <a:pt x="81" y="171"/>
                  </a:lnTo>
                  <a:lnTo>
                    <a:pt x="75" y="160"/>
                  </a:lnTo>
                  <a:lnTo>
                    <a:pt x="69" y="152"/>
                  </a:lnTo>
                  <a:lnTo>
                    <a:pt x="65" y="152"/>
                  </a:lnTo>
                  <a:lnTo>
                    <a:pt x="65" y="150"/>
                  </a:lnTo>
                  <a:lnTo>
                    <a:pt x="71" y="138"/>
                  </a:lnTo>
                  <a:lnTo>
                    <a:pt x="71" y="136"/>
                  </a:lnTo>
                  <a:lnTo>
                    <a:pt x="69" y="134"/>
                  </a:lnTo>
                  <a:lnTo>
                    <a:pt x="67" y="134"/>
                  </a:lnTo>
                  <a:lnTo>
                    <a:pt x="67" y="126"/>
                  </a:lnTo>
                  <a:lnTo>
                    <a:pt x="67" y="124"/>
                  </a:lnTo>
                  <a:lnTo>
                    <a:pt x="65" y="120"/>
                  </a:lnTo>
                  <a:lnTo>
                    <a:pt x="63" y="120"/>
                  </a:lnTo>
                  <a:lnTo>
                    <a:pt x="61" y="120"/>
                  </a:lnTo>
                  <a:lnTo>
                    <a:pt x="59" y="120"/>
                  </a:lnTo>
                  <a:lnTo>
                    <a:pt x="59" y="122"/>
                  </a:lnTo>
                  <a:lnTo>
                    <a:pt x="57" y="122"/>
                  </a:lnTo>
                  <a:lnTo>
                    <a:pt x="57" y="118"/>
                  </a:lnTo>
                  <a:lnTo>
                    <a:pt x="57" y="98"/>
                  </a:lnTo>
                  <a:lnTo>
                    <a:pt x="61" y="98"/>
                  </a:lnTo>
                  <a:lnTo>
                    <a:pt x="63" y="95"/>
                  </a:lnTo>
                  <a:lnTo>
                    <a:pt x="65" y="95"/>
                  </a:lnTo>
                  <a:lnTo>
                    <a:pt x="65" y="93"/>
                  </a:lnTo>
                  <a:lnTo>
                    <a:pt x="65" y="85"/>
                  </a:lnTo>
                  <a:lnTo>
                    <a:pt x="69" y="83"/>
                  </a:lnTo>
                  <a:lnTo>
                    <a:pt x="71" y="81"/>
                  </a:lnTo>
                  <a:lnTo>
                    <a:pt x="71" y="69"/>
                  </a:lnTo>
                  <a:lnTo>
                    <a:pt x="71" y="65"/>
                  </a:lnTo>
                  <a:lnTo>
                    <a:pt x="73" y="61"/>
                  </a:lnTo>
                  <a:lnTo>
                    <a:pt x="75" y="57"/>
                  </a:lnTo>
                  <a:lnTo>
                    <a:pt x="77" y="55"/>
                  </a:lnTo>
                  <a:lnTo>
                    <a:pt x="79" y="53"/>
                  </a:lnTo>
                  <a:lnTo>
                    <a:pt x="79" y="51"/>
                  </a:lnTo>
                  <a:lnTo>
                    <a:pt x="81" y="49"/>
                  </a:lnTo>
                  <a:lnTo>
                    <a:pt x="79" y="47"/>
                  </a:lnTo>
                  <a:lnTo>
                    <a:pt x="86" y="47"/>
                  </a:lnTo>
                  <a:lnTo>
                    <a:pt x="90" y="49"/>
                  </a:lnTo>
                  <a:lnTo>
                    <a:pt x="96" y="49"/>
                  </a:lnTo>
                  <a:lnTo>
                    <a:pt x="100" y="49"/>
                  </a:lnTo>
                  <a:lnTo>
                    <a:pt x="104" y="47"/>
                  </a:lnTo>
                  <a:lnTo>
                    <a:pt x="108" y="45"/>
                  </a:lnTo>
                  <a:lnTo>
                    <a:pt x="112" y="41"/>
                  </a:lnTo>
                  <a:lnTo>
                    <a:pt x="114" y="37"/>
                  </a:lnTo>
                  <a:lnTo>
                    <a:pt x="116" y="35"/>
                  </a:lnTo>
                  <a:lnTo>
                    <a:pt x="118" y="35"/>
                  </a:lnTo>
                  <a:lnTo>
                    <a:pt x="120" y="30"/>
                  </a:lnTo>
                  <a:lnTo>
                    <a:pt x="120" y="28"/>
                  </a:lnTo>
                  <a:lnTo>
                    <a:pt x="118" y="26"/>
                  </a:lnTo>
                  <a:lnTo>
                    <a:pt x="118" y="24"/>
                  </a:lnTo>
                  <a:lnTo>
                    <a:pt x="118" y="22"/>
                  </a:lnTo>
                  <a:lnTo>
                    <a:pt x="120" y="18"/>
                  </a:lnTo>
                  <a:lnTo>
                    <a:pt x="124" y="16"/>
                  </a:lnTo>
                  <a:lnTo>
                    <a:pt x="128" y="16"/>
                  </a:lnTo>
                  <a:lnTo>
                    <a:pt x="130" y="16"/>
                  </a:lnTo>
                  <a:lnTo>
                    <a:pt x="135" y="16"/>
                  </a:lnTo>
                  <a:lnTo>
                    <a:pt x="139" y="18"/>
                  </a:lnTo>
                  <a:lnTo>
                    <a:pt x="141" y="22"/>
                  </a:lnTo>
                  <a:lnTo>
                    <a:pt x="141" y="24"/>
                  </a:lnTo>
                  <a:lnTo>
                    <a:pt x="139" y="26"/>
                  </a:lnTo>
                  <a:lnTo>
                    <a:pt x="139" y="30"/>
                  </a:lnTo>
                  <a:lnTo>
                    <a:pt x="141" y="33"/>
                  </a:lnTo>
                  <a:lnTo>
                    <a:pt x="143" y="39"/>
                  </a:lnTo>
                  <a:lnTo>
                    <a:pt x="149" y="43"/>
                  </a:lnTo>
                  <a:lnTo>
                    <a:pt x="153" y="47"/>
                  </a:lnTo>
                  <a:lnTo>
                    <a:pt x="163" y="49"/>
                  </a:lnTo>
                  <a:lnTo>
                    <a:pt x="167" y="49"/>
                  </a:lnTo>
                  <a:lnTo>
                    <a:pt x="171" y="47"/>
                  </a:lnTo>
                  <a:lnTo>
                    <a:pt x="179" y="47"/>
                  </a:lnTo>
                  <a:lnTo>
                    <a:pt x="179" y="49"/>
                  </a:lnTo>
                  <a:lnTo>
                    <a:pt x="179" y="53"/>
                  </a:lnTo>
                  <a:lnTo>
                    <a:pt x="181" y="57"/>
                  </a:lnTo>
                  <a:lnTo>
                    <a:pt x="186" y="65"/>
                  </a:lnTo>
                  <a:lnTo>
                    <a:pt x="186" y="81"/>
                  </a:lnTo>
                  <a:lnTo>
                    <a:pt x="190" y="85"/>
                  </a:lnTo>
                  <a:lnTo>
                    <a:pt x="192" y="85"/>
                  </a:lnTo>
                  <a:lnTo>
                    <a:pt x="192" y="91"/>
                  </a:lnTo>
                  <a:lnTo>
                    <a:pt x="194" y="95"/>
                  </a:lnTo>
                  <a:lnTo>
                    <a:pt x="196" y="98"/>
                  </a:lnTo>
                  <a:lnTo>
                    <a:pt x="204" y="95"/>
                  </a:lnTo>
                  <a:lnTo>
                    <a:pt x="204" y="118"/>
                  </a:lnTo>
                  <a:lnTo>
                    <a:pt x="204" y="120"/>
                  </a:lnTo>
                  <a:lnTo>
                    <a:pt x="202" y="122"/>
                  </a:lnTo>
                  <a:lnTo>
                    <a:pt x="200" y="122"/>
                  </a:lnTo>
                  <a:lnTo>
                    <a:pt x="198" y="122"/>
                  </a:lnTo>
                  <a:lnTo>
                    <a:pt x="196" y="120"/>
                  </a:lnTo>
                  <a:lnTo>
                    <a:pt x="194" y="122"/>
                  </a:lnTo>
                  <a:lnTo>
                    <a:pt x="192" y="126"/>
                  </a:lnTo>
                  <a:lnTo>
                    <a:pt x="192" y="134"/>
                  </a:lnTo>
                  <a:lnTo>
                    <a:pt x="190" y="134"/>
                  </a:lnTo>
                  <a:lnTo>
                    <a:pt x="190" y="126"/>
                  </a:lnTo>
                  <a:close/>
                  <a:moveTo>
                    <a:pt x="194" y="112"/>
                  </a:moveTo>
                  <a:lnTo>
                    <a:pt x="194" y="104"/>
                  </a:lnTo>
                  <a:lnTo>
                    <a:pt x="196" y="104"/>
                  </a:lnTo>
                  <a:lnTo>
                    <a:pt x="196" y="112"/>
                  </a:lnTo>
                  <a:lnTo>
                    <a:pt x="194" y="112"/>
                  </a:lnTo>
                  <a:close/>
                  <a:moveTo>
                    <a:pt x="65" y="112"/>
                  </a:moveTo>
                  <a:lnTo>
                    <a:pt x="63" y="112"/>
                  </a:lnTo>
                  <a:lnTo>
                    <a:pt x="63" y="104"/>
                  </a:lnTo>
                  <a:lnTo>
                    <a:pt x="65" y="104"/>
                  </a:lnTo>
                  <a:lnTo>
                    <a:pt x="65" y="112"/>
                  </a:lnTo>
                  <a:close/>
                  <a:moveTo>
                    <a:pt x="65" y="126"/>
                  </a:moveTo>
                  <a:lnTo>
                    <a:pt x="67" y="126"/>
                  </a:lnTo>
                  <a:lnTo>
                    <a:pt x="65" y="126"/>
                  </a:lnTo>
                  <a:lnTo>
                    <a:pt x="65" y="128"/>
                  </a:lnTo>
                  <a:lnTo>
                    <a:pt x="65" y="130"/>
                  </a:lnTo>
                  <a:lnTo>
                    <a:pt x="65" y="136"/>
                  </a:lnTo>
                  <a:lnTo>
                    <a:pt x="67" y="136"/>
                  </a:lnTo>
                  <a:lnTo>
                    <a:pt x="65" y="140"/>
                  </a:lnTo>
                  <a:lnTo>
                    <a:pt x="63" y="142"/>
                  </a:lnTo>
                  <a:lnTo>
                    <a:pt x="61" y="146"/>
                  </a:lnTo>
                  <a:lnTo>
                    <a:pt x="61" y="150"/>
                  </a:lnTo>
                  <a:lnTo>
                    <a:pt x="59" y="152"/>
                  </a:lnTo>
                  <a:lnTo>
                    <a:pt x="57" y="156"/>
                  </a:lnTo>
                  <a:lnTo>
                    <a:pt x="57" y="158"/>
                  </a:lnTo>
                  <a:lnTo>
                    <a:pt x="59" y="163"/>
                  </a:lnTo>
                  <a:lnTo>
                    <a:pt x="61" y="163"/>
                  </a:lnTo>
                  <a:lnTo>
                    <a:pt x="63" y="163"/>
                  </a:lnTo>
                  <a:lnTo>
                    <a:pt x="65" y="160"/>
                  </a:lnTo>
                  <a:lnTo>
                    <a:pt x="63" y="158"/>
                  </a:lnTo>
                  <a:lnTo>
                    <a:pt x="63" y="156"/>
                  </a:lnTo>
                  <a:lnTo>
                    <a:pt x="65" y="154"/>
                  </a:lnTo>
                  <a:lnTo>
                    <a:pt x="67" y="154"/>
                  </a:lnTo>
                  <a:lnTo>
                    <a:pt x="69" y="158"/>
                  </a:lnTo>
                  <a:lnTo>
                    <a:pt x="69" y="160"/>
                  </a:lnTo>
                  <a:lnTo>
                    <a:pt x="69" y="163"/>
                  </a:lnTo>
                  <a:lnTo>
                    <a:pt x="67" y="165"/>
                  </a:lnTo>
                  <a:lnTo>
                    <a:pt x="63" y="165"/>
                  </a:lnTo>
                  <a:lnTo>
                    <a:pt x="61" y="165"/>
                  </a:lnTo>
                  <a:lnTo>
                    <a:pt x="57" y="163"/>
                  </a:lnTo>
                  <a:lnTo>
                    <a:pt x="55" y="160"/>
                  </a:lnTo>
                  <a:lnTo>
                    <a:pt x="53" y="154"/>
                  </a:lnTo>
                  <a:lnTo>
                    <a:pt x="55" y="150"/>
                  </a:lnTo>
                  <a:lnTo>
                    <a:pt x="55" y="146"/>
                  </a:lnTo>
                  <a:lnTo>
                    <a:pt x="57" y="142"/>
                  </a:lnTo>
                  <a:lnTo>
                    <a:pt x="61" y="134"/>
                  </a:lnTo>
                  <a:lnTo>
                    <a:pt x="63" y="130"/>
                  </a:lnTo>
                  <a:lnTo>
                    <a:pt x="65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00520" y="6019920"/>
              <a:ext cx="404640" cy="406440"/>
            </a:xfrm>
            <a:custGeom>
              <a:avLst/>
              <a:gdLst/>
              <a:ahLst/>
              <a:rect l="l" t="t" r="r" b="b"/>
              <a:pathLst>
                <a:path w="276" h="256">
                  <a:moveTo>
                    <a:pt x="78" y="0"/>
                  </a:moveTo>
                  <a:lnTo>
                    <a:pt x="202" y="142"/>
                  </a:lnTo>
                  <a:lnTo>
                    <a:pt x="202" y="49"/>
                  </a:lnTo>
                  <a:lnTo>
                    <a:pt x="200" y="35"/>
                  </a:lnTo>
                  <a:lnTo>
                    <a:pt x="198" y="20"/>
                  </a:lnTo>
                  <a:lnTo>
                    <a:pt x="196" y="10"/>
                  </a:lnTo>
                  <a:lnTo>
                    <a:pt x="190" y="0"/>
                  </a:lnTo>
                  <a:lnTo>
                    <a:pt x="276" y="0"/>
                  </a:lnTo>
                  <a:lnTo>
                    <a:pt x="270" y="10"/>
                  </a:lnTo>
                  <a:lnTo>
                    <a:pt x="265" y="22"/>
                  </a:lnTo>
                  <a:lnTo>
                    <a:pt x="265" y="35"/>
                  </a:lnTo>
                  <a:lnTo>
                    <a:pt x="263" y="49"/>
                  </a:lnTo>
                  <a:lnTo>
                    <a:pt x="263" y="219"/>
                  </a:lnTo>
                  <a:lnTo>
                    <a:pt x="265" y="238"/>
                  </a:lnTo>
                  <a:lnTo>
                    <a:pt x="267" y="256"/>
                  </a:lnTo>
                  <a:lnTo>
                    <a:pt x="206" y="256"/>
                  </a:lnTo>
                  <a:lnTo>
                    <a:pt x="78" y="93"/>
                  </a:lnTo>
                  <a:lnTo>
                    <a:pt x="78" y="207"/>
                  </a:lnTo>
                  <a:lnTo>
                    <a:pt x="78" y="221"/>
                  </a:lnTo>
                  <a:lnTo>
                    <a:pt x="80" y="234"/>
                  </a:lnTo>
                  <a:lnTo>
                    <a:pt x="82" y="246"/>
                  </a:lnTo>
                  <a:lnTo>
                    <a:pt x="88" y="256"/>
                  </a:lnTo>
                  <a:lnTo>
                    <a:pt x="0" y="256"/>
                  </a:lnTo>
                  <a:lnTo>
                    <a:pt x="6" y="246"/>
                  </a:lnTo>
                  <a:lnTo>
                    <a:pt x="8" y="234"/>
                  </a:lnTo>
                  <a:lnTo>
                    <a:pt x="10" y="221"/>
                  </a:lnTo>
                  <a:lnTo>
                    <a:pt x="10" y="207"/>
                  </a:lnTo>
                  <a:lnTo>
                    <a:pt x="10" y="49"/>
                  </a:lnTo>
                  <a:lnTo>
                    <a:pt x="10" y="35"/>
                  </a:lnTo>
                  <a:lnTo>
                    <a:pt x="8" y="20"/>
                  </a:lnTo>
                  <a:lnTo>
                    <a:pt x="4" y="10"/>
                  </a:lnTo>
                  <a:lnTo>
                    <a:pt x="0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63480" y="6019920"/>
              <a:ext cx="290160" cy="406440"/>
            </a:xfrm>
            <a:custGeom>
              <a:avLst/>
              <a:gdLst/>
              <a:ahLst/>
              <a:rect l="l" t="t" r="r" b="b"/>
              <a:pathLst>
                <a:path w="198" h="256">
                  <a:moveTo>
                    <a:pt x="96" y="118"/>
                  </a:moveTo>
                  <a:lnTo>
                    <a:pt x="105" y="118"/>
                  </a:lnTo>
                  <a:lnTo>
                    <a:pt x="113" y="114"/>
                  </a:lnTo>
                  <a:lnTo>
                    <a:pt x="119" y="112"/>
                  </a:lnTo>
                  <a:lnTo>
                    <a:pt x="125" y="106"/>
                  </a:lnTo>
                  <a:lnTo>
                    <a:pt x="127" y="100"/>
                  </a:lnTo>
                  <a:lnTo>
                    <a:pt x="131" y="93"/>
                  </a:lnTo>
                  <a:lnTo>
                    <a:pt x="131" y="89"/>
                  </a:lnTo>
                  <a:lnTo>
                    <a:pt x="133" y="83"/>
                  </a:lnTo>
                  <a:lnTo>
                    <a:pt x="131" y="75"/>
                  </a:lnTo>
                  <a:lnTo>
                    <a:pt x="131" y="69"/>
                  </a:lnTo>
                  <a:lnTo>
                    <a:pt x="129" y="63"/>
                  </a:lnTo>
                  <a:lnTo>
                    <a:pt x="125" y="59"/>
                  </a:lnTo>
                  <a:lnTo>
                    <a:pt x="119" y="55"/>
                  </a:lnTo>
                  <a:lnTo>
                    <a:pt x="115" y="53"/>
                  </a:lnTo>
                  <a:lnTo>
                    <a:pt x="107" y="51"/>
                  </a:lnTo>
                  <a:lnTo>
                    <a:pt x="98" y="49"/>
                  </a:lnTo>
                  <a:lnTo>
                    <a:pt x="82" y="51"/>
                  </a:lnTo>
                  <a:lnTo>
                    <a:pt x="82" y="116"/>
                  </a:lnTo>
                  <a:lnTo>
                    <a:pt x="88" y="118"/>
                  </a:lnTo>
                  <a:lnTo>
                    <a:pt x="96" y="118"/>
                  </a:lnTo>
                  <a:close/>
                  <a:moveTo>
                    <a:pt x="94" y="0"/>
                  </a:moveTo>
                  <a:lnTo>
                    <a:pt x="117" y="0"/>
                  </a:lnTo>
                  <a:lnTo>
                    <a:pt x="133" y="2"/>
                  </a:lnTo>
                  <a:lnTo>
                    <a:pt x="151" y="6"/>
                  </a:lnTo>
                  <a:lnTo>
                    <a:pt x="162" y="10"/>
                  </a:lnTo>
                  <a:lnTo>
                    <a:pt x="170" y="14"/>
                  </a:lnTo>
                  <a:lnTo>
                    <a:pt x="178" y="22"/>
                  </a:lnTo>
                  <a:lnTo>
                    <a:pt x="184" y="28"/>
                  </a:lnTo>
                  <a:lnTo>
                    <a:pt x="190" y="39"/>
                  </a:lnTo>
                  <a:lnTo>
                    <a:pt x="196" y="49"/>
                  </a:lnTo>
                  <a:lnTo>
                    <a:pt x="198" y="63"/>
                  </a:lnTo>
                  <a:lnTo>
                    <a:pt x="198" y="77"/>
                  </a:lnTo>
                  <a:lnTo>
                    <a:pt x="198" y="87"/>
                  </a:lnTo>
                  <a:lnTo>
                    <a:pt x="198" y="98"/>
                  </a:lnTo>
                  <a:lnTo>
                    <a:pt x="196" y="108"/>
                  </a:lnTo>
                  <a:lnTo>
                    <a:pt x="192" y="116"/>
                  </a:lnTo>
                  <a:lnTo>
                    <a:pt x="188" y="124"/>
                  </a:lnTo>
                  <a:lnTo>
                    <a:pt x="184" y="130"/>
                  </a:lnTo>
                  <a:lnTo>
                    <a:pt x="178" y="138"/>
                  </a:lnTo>
                  <a:lnTo>
                    <a:pt x="174" y="144"/>
                  </a:lnTo>
                  <a:lnTo>
                    <a:pt x="166" y="150"/>
                  </a:lnTo>
                  <a:lnTo>
                    <a:pt x="160" y="154"/>
                  </a:lnTo>
                  <a:lnTo>
                    <a:pt x="151" y="158"/>
                  </a:lnTo>
                  <a:lnTo>
                    <a:pt x="141" y="163"/>
                  </a:lnTo>
                  <a:lnTo>
                    <a:pt x="133" y="165"/>
                  </a:lnTo>
                  <a:lnTo>
                    <a:pt x="123" y="167"/>
                  </a:lnTo>
                  <a:lnTo>
                    <a:pt x="100" y="169"/>
                  </a:lnTo>
                  <a:lnTo>
                    <a:pt x="82" y="167"/>
                  </a:lnTo>
                  <a:lnTo>
                    <a:pt x="82" y="207"/>
                  </a:lnTo>
                  <a:lnTo>
                    <a:pt x="82" y="221"/>
                  </a:lnTo>
                  <a:lnTo>
                    <a:pt x="84" y="236"/>
                  </a:lnTo>
                  <a:lnTo>
                    <a:pt x="88" y="246"/>
                  </a:lnTo>
                  <a:lnTo>
                    <a:pt x="92" y="256"/>
                  </a:lnTo>
                  <a:lnTo>
                    <a:pt x="0" y="256"/>
                  </a:lnTo>
                  <a:lnTo>
                    <a:pt x="5" y="246"/>
                  </a:lnTo>
                  <a:lnTo>
                    <a:pt x="9" y="234"/>
                  </a:lnTo>
                  <a:lnTo>
                    <a:pt x="11" y="221"/>
                  </a:lnTo>
                  <a:lnTo>
                    <a:pt x="11" y="207"/>
                  </a:lnTo>
                  <a:lnTo>
                    <a:pt x="11" y="49"/>
                  </a:lnTo>
                  <a:lnTo>
                    <a:pt x="11" y="33"/>
                  </a:lnTo>
                  <a:lnTo>
                    <a:pt x="9" y="20"/>
                  </a:lnTo>
                  <a:lnTo>
                    <a:pt x="5" y="8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193600" y="6019920"/>
              <a:ext cx="278640" cy="406440"/>
            </a:xfrm>
            <a:custGeom>
              <a:avLst/>
              <a:gdLst/>
              <a:ahLst/>
              <a:rect l="l" t="t" r="r" b="b"/>
              <a:pathLst>
                <a:path w="190" h="256">
                  <a:moveTo>
                    <a:pt x="2" y="256"/>
                  </a:moveTo>
                  <a:lnTo>
                    <a:pt x="6" y="248"/>
                  </a:lnTo>
                  <a:lnTo>
                    <a:pt x="10" y="236"/>
                  </a:lnTo>
                  <a:lnTo>
                    <a:pt x="12" y="225"/>
                  </a:lnTo>
                  <a:lnTo>
                    <a:pt x="12" y="215"/>
                  </a:lnTo>
                  <a:lnTo>
                    <a:pt x="12" y="61"/>
                  </a:lnTo>
                  <a:lnTo>
                    <a:pt x="12" y="47"/>
                  </a:lnTo>
                  <a:lnTo>
                    <a:pt x="10" y="33"/>
                  </a:lnTo>
                  <a:lnTo>
                    <a:pt x="8" y="16"/>
                  </a:lnTo>
                  <a:lnTo>
                    <a:pt x="4" y="8"/>
                  </a:lnTo>
                  <a:lnTo>
                    <a:pt x="0" y="0"/>
                  </a:lnTo>
                  <a:lnTo>
                    <a:pt x="94" y="0"/>
                  </a:lnTo>
                  <a:lnTo>
                    <a:pt x="86" y="18"/>
                  </a:lnTo>
                  <a:lnTo>
                    <a:pt x="84" y="33"/>
                  </a:lnTo>
                  <a:lnTo>
                    <a:pt x="82" y="49"/>
                  </a:lnTo>
                  <a:lnTo>
                    <a:pt x="82" y="61"/>
                  </a:lnTo>
                  <a:lnTo>
                    <a:pt x="82" y="197"/>
                  </a:lnTo>
                  <a:lnTo>
                    <a:pt x="155" y="197"/>
                  </a:lnTo>
                  <a:lnTo>
                    <a:pt x="169" y="197"/>
                  </a:lnTo>
                  <a:lnTo>
                    <a:pt x="180" y="195"/>
                  </a:lnTo>
                  <a:lnTo>
                    <a:pt x="190" y="193"/>
                  </a:lnTo>
                  <a:lnTo>
                    <a:pt x="184" y="242"/>
                  </a:lnTo>
                  <a:lnTo>
                    <a:pt x="182" y="250"/>
                  </a:lnTo>
                  <a:lnTo>
                    <a:pt x="180" y="252"/>
                  </a:lnTo>
                  <a:lnTo>
                    <a:pt x="177" y="254"/>
                  </a:lnTo>
                  <a:lnTo>
                    <a:pt x="171" y="256"/>
                  </a:lnTo>
                  <a:lnTo>
                    <a:pt x="163" y="256"/>
                  </a:lnTo>
                  <a:lnTo>
                    <a:pt x="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397640" y="6519960"/>
              <a:ext cx="802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14" y="0"/>
                  </a:moveTo>
                  <a:lnTo>
                    <a:pt x="41" y="36"/>
                  </a:lnTo>
                  <a:lnTo>
                    <a:pt x="41" y="10"/>
                  </a:lnTo>
                  <a:lnTo>
                    <a:pt x="41" y="4"/>
                  </a:lnTo>
                  <a:lnTo>
                    <a:pt x="39" y="0"/>
                  </a:lnTo>
                  <a:lnTo>
                    <a:pt x="55" y="0"/>
                  </a:lnTo>
                  <a:lnTo>
                    <a:pt x="53" y="6"/>
                  </a:lnTo>
                  <a:lnTo>
                    <a:pt x="53" y="10"/>
                  </a:lnTo>
                  <a:lnTo>
                    <a:pt x="53" y="47"/>
                  </a:lnTo>
                  <a:lnTo>
                    <a:pt x="53" y="55"/>
                  </a:lnTo>
                  <a:lnTo>
                    <a:pt x="41" y="55"/>
                  </a:lnTo>
                  <a:lnTo>
                    <a:pt x="14" y="16"/>
                  </a:lnTo>
                  <a:lnTo>
                    <a:pt x="14" y="45"/>
                  </a:lnTo>
                  <a:lnTo>
                    <a:pt x="14" y="49"/>
                  </a:lnTo>
                  <a:lnTo>
                    <a:pt x="16" y="55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46680" y="6526080"/>
              <a:ext cx="39600" cy="8100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16" y="12"/>
                  </a:moveTo>
                  <a:lnTo>
                    <a:pt x="23" y="12"/>
                  </a:lnTo>
                  <a:lnTo>
                    <a:pt x="25" y="12"/>
                  </a:lnTo>
                  <a:lnTo>
                    <a:pt x="25" y="16"/>
                  </a:lnTo>
                  <a:lnTo>
                    <a:pt x="25" y="20"/>
                  </a:lnTo>
                  <a:lnTo>
                    <a:pt x="21" y="20"/>
                  </a:lnTo>
                  <a:lnTo>
                    <a:pt x="16" y="20"/>
                  </a:lnTo>
                  <a:lnTo>
                    <a:pt x="16" y="39"/>
                  </a:lnTo>
                  <a:lnTo>
                    <a:pt x="16" y="41"/>
                  </a:lnTo>
                  <a:lnTo>
                    <a:pt x="18" y="43"/>
                  </a:lnTo>
                  <a:lnTo>
                    <a:pt x="23" y="41"/>
                  </a:lnTo>
                  <a:lnTo>
                    <a:pt x="27" y="36"/>
                  </a:lnTo>
                  <a:lnTo>
                    <a:pt x="27" y="41"/>
                  </a:lnTo>
                  <a:lnTo>
                    <a:pt x="25" y="45"/>
                  </a:lnTo>
                  <a:lnTo>
                    <a:pt x="25" y="49"/>
                  </a:lnTo>
                  <a:lnTo>
                    <a:pt x="21" y="51"/>
                  </a:lnTo>
                  <a:lnTo>
                    <a:pt x="14" y="51"/>
                  </a:lnTo>
                  <a:lnTo>
                    <a:pt x="10" y="51"/>
                  </a:lnTo>
                  <a:lnTo>
                    <a:pt x="6" y="49"/>
                  </a:lnTo>
                  <a:lnTo>
                    <a:pt x="4" y="47"/>
                  </a:lnTo>
                  <a:lnTo>
                    <a:pt x="4" y="43"/>
                  </a:lnTo>
                  <a:lnTo>
                    <a:pt x="4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2"/>
                  </a:lnTo>
                  <a:lnTo>
                    <a:pt x="16" y="0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98160" y="6519960"/>
              <a:ext cx="172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6"/>
                  </a:moveTo>
                  <a:lnTo>
                    <a:pt x="12" y="8"/>
                  </a:lnTo>
                  <a:lnTo>
                    <a:pt x="10" y="10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98160" y="6545160"/>
              <a:ext cx="20520" cy="61920"/>
            </a:xfrm>
            <a:custGeom>
              <a:avLst/>
              <a:gdLst/>
              <a:ahLst/>
              <a:rect l="l" t="t" r="r" b="b"/>
              <a:pathLst>
                <a:path w="14" h="39">
                  <a:moveTo>
                    <a:pt x="12" y="27"/>
                  </a:moveTo>
                  <a:lnTo>
                    <a:pt x="14" y="33"/>
                  </a:lnTo>
                  <a:lnTo>
                    <a:pt x="14" y="35"/>
                  </a:lnTo>
                  <a:lnTo>
                    <a:pt x="14" y="39"/>
                  </a:lnTo>
                  <a:lnTo>
                    <a:pt x="0" y="39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99320" y="6545160"/>
              <a:ext cx="5400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2" y="4"/>
                  </a:moveTo>
                  <a:lnTo>
                    <a:pt x="14" y="2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5" y="6"/>
                  </a:lnTo>
                  <a:lnTo>
                    <a:pt x="37" y="10"/>
                  </a:lnTo>
                  <a:lnTo>
                    <a:pt x="37" y="27"/>
                  </a:lnTo>
                  <a:lnTo>
                    <a:pt x="37" y="33"/>
                  </a:lnTo>
                  <a:lnTo>
                    <a:pt x="37" y="35"/>
                  </a:lnTo>
                  <a:lnTo>
                    <a:pt x="37" y="39"/>
                  </a:lnTo>
                  <a:lnTo>
                    <a:pt x="23" y="39"/>
                  </a:lnTo>
                  <a:lnTo>
                    <a:pt x="25" y="33"/>
                  </a:lnTo>
                  <a:lnTo>
                    <a:pt x="25" y="27"/>
                  </a:lnTo>
                  <a:lnTo>
                    <a:pt x="25" y="14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17" y="10"/>
                  </a:lnTo>
                  <a:lnTo>
                    <a:pt x="12" y="12"/>
                  </a:lnTo>
                  <a:lnTo>
                    <a:pt x="12" y="27"/>
                  </a:lnTo>
                  <a:lnTo>
                    <a:pt x="12" y="33"/>
                  </a:lnTo>
                  <a:lnTo>
                    <a:pt x="14" y="39"/>
                  </a:lnTo>
                  <a:lnTo>
                    <a:pt x="0" y="39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25320" y="6516720"/>
              <a:ext cx="20520" cy="90360"/>
            </a:xfrm>
            <a:custGeom>
              <a:avLst/>
              <a:gdLst/>
              <a:ahLst/>
              <a:rect l="l" t="t" r="r" b="b"/>
              <a:pathLst>
                <a:path w="14" h="57">
                  <a:moveTo>
                    <a:pt x="14" y="45"/>
                  </a:moveTo>
                  <a:lnTo>
                    <a:pt x="14" y="51"/>
                  </a:lnTo>
                  <a:lnTo>
                    <a:pt x="14" y="53"/>
                  </a:lnTo>
                  <a:lnTo>
                    <a:pt x="14" y="57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2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14" y="0"/>
                  </a:lnTo>
                  <a:lnTo>
                    <a:pt x="14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89800" y="6545160"/>
              <a:ext cx="51120" cy="6192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11" y="27"/>
                  </a:moveTo>
                  <a:lnTo>
                    <a:pt x="13" y="31"/>
                  </a:lnTo>
                  <a:lnTo>
                    <a:pt x="17" y="31"/>
                  </a:lnTo>
                  <a:lnTo>
                    <a:pt x="19" y="31"/>
                  </a:lnTo>
                  <a:lnTo>
                    <a:pt x="21" y="29"/>
                  </a:lnTo>
                  <a:lnTo>
                    <a:pt x="21" y="22"/>
                  </a:lnTo>
                  <a:lnTo>
                    <a:pt x="17" y="22"/>
                  </a:lnTo>
                  <a:lnTo>
                    <a:pt x="15" y="22"/>
                  </a:lnTo>
                  <a:lnTo>
                    <a:pt x="13" y="24"/>
                  </a:lnTo>
                  <a:lnTo>
                    <a:pt x="11" y="27"/>
                  </a:lnTo>
                  <a:close/>
                  <a:moveTo>
                    <a:pt x="21" y="12"/>
                  </a:moveTo>
                  <a:lnTo>
                    <a:pt x="19" y="8"/>
                  </a:lnTo>
                  <a:lnTo>
                    <a:pt x="17" y="8"/>
                  </a:lnTo>
                  <a:lnTo>
                    <a:pt x="11" y="8"/>
                  </a:lnTo>
                  <a:lnTo>
                    <a:pt x="4" y="12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1" y="6"/>
                  </a:lnTo>
                  <a:lnTo>
                    <a:pt x="31" y="10"/>
                  </a:lnTo>
                  <a:lnTo>
                    <a:pt x="31" y="27"/>
                  </a:lnTo>
                  <a:lnTo>
                    <a:pt x="31" y="31"/>
                  </a:lnTo>
                  <a:lnTo>
                    <a:pt x="33" y="33"/>
                  </a:lnTo>
                  <a:lnTo>
                    <a:pt x="35" y="35"/>
                  </a:lnTo>
                  <a:lnTo>
                    <a:pt x="27" y="39"/>
                  </a:lnTo>
                  <a:lnTo>
                    <a:pt x="25" y="39"/>
                  </a:lnTo>
                  <a:lnTo>
                    <a:pt x="23" y="39"/>
                  </a:lnTo>
                  <a:lnTo>
                    <a:pt x="23" y="35"/>
                  </a:lnTo>
                  <a:lnTo>
                    <a:pt x="17" y="39"/>
                  </a:lnTo>
                  <a:lnTo>
                    <a:pt x="13" y="39"/>
                  </a:lnTo>
                  <a:lnTo>
                    <a:pt x="9" y="39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2" y="22"/>
                  </a:lnTo>
                  <a:lnTo>
                    <a:pt x="6" y="18"/>
                  </a:lnTo>
                  <a:lnTo>
                    <a:pt x="13" y="16"/>
                  </a:lnTo>
                  <a:lnTo>
                    <a:pt x="21" y="14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33440" y="6545160"/>
              <a:ext cx="5400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1" y="18"/>
                  </a:moveTo>
                  <a:lnTo>
                    <a:pt x="11" y="24"/>
                  </a:lnTo>
                  <a:lnTo>
                    <a:pt x="13" y="27"/>
                  </a:lnTo>
                  <a:lnTo>
                    <a:pt x="15" y="29"/>
                  </a:lnTo>
                  <a:lnTo>
                    <a:pt x="19" y="31"/>
                  </a:lnTo>
                  <a:lnTo>
                    <a:pt x="23" y="29"/>
                  </a:lnTo>
                  <a:lnTo>
                    <a:pt x="25" y="27"/>
                  </a:lnTo>
                  <a:lnTo>
                    <a:pt x="27" y="24"/>
                  </a:lnTo>
                  <a:lnTo>
                    <a:pt x="27" y="18"/>
                  </a:lnTo>
                  <a:lnTo>
                    <a:pt x="27" y="14"/>
                  </a:lnTo>
                  <a:lnTo>
                    <a:pt x="25" y="12"/>
                  </a:lnTo>
                  <a:lnTo>
                    <a:pt x="23" y="10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11" y="18"/>
                  </a:lnTo>
                  <a:close/>
                  <a:moveTo>
                    <a:pt x="37" y="18"/>
                  </a:moveTo>
                  <a:lnTo>
                    <a:pt x="37" y="29"/>
                  </a:lnTo>
                  <a:lnTo>
                    <a:pt x="33" y="35"/>
                  </a:lnTo>
                  <a:lnTo>
                    <a:pt x="27" y="37"/>
                  </a:lnTo>
                  <a:lnTo>
                    <a:pt x="19" y="39"/>
                  </a:lnTo>
                  <a:lnTo>
                    <a:pt x="11" y="37"/>
                  </a:lnTo>
                  <a:lnTo>
                    <a:pt x="6" y="37"/>
                  </a:lnTo>
                  <a:lnTo>
                    <a:pt x="4" y="35"/>
                  </a:lnTo>
                  <a:lnTo>
                    <a:pt x="2" y="31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4" y="4"/>
                  </a:lnTo>
                  <a:lnTo>
                    <a:pt x="6" y="2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3" y="4"/>
                  </a:lnTo>
                  <a:lnTo>
                    <a:pt x="35" y="8"/>
                  </a:lnTo>
                  <a:lnTo>
                    <a:pt x="37" y="10"/>
                  </a:lnTo>
                  <a:lnTo>
                    <a:pt x="37" y="14"/>
                  </a:lnTo>
                  <a:lnTo>
                    <a:pt x="37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68080" y="6545160"/>
              <a:ext cx="48240" cy="6192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8" y="27"/>
                  </a:moveTo>
                  <a:lnTo>
                    <a:pt x="10" y="31"/>
                  </a:lnTo>
                  <a:lnTo>
                    <a:pt x="12" y="31"/>
                  </a:lnTo>
                  <a:lnTo>
                    <a:pt x="16" y="31"/>
                  </a:lnTo>
                  <a:lnTo>
                    <a:pt x="19" y="29"/>
                  </a:lnTo>
                  <a:lnTo>
                    <a:pt x="19" y="22"/>
                  </a:lnTo>
                  <a:lnTo>
                    <a:pt x="14" y="22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8" y="27"/>
                  </a:lnTo>
                  <a:close/>
                  <a:moveTo>
                    <a:pt x="19" y="12"/>
                  </a:moveTo>
                  <a:lnTo>
                    <a:pt x="19" y="8"/>
                  </a:lnTo>
                  <a:lnTo>
                    <a:pt x="14" y="8"/>
                  </a:lnTo>
                  <a:lnTo>
                    <a:pt x="8" y="8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29" y="6"/>
                  </a:lnTo>
                  <a:lnTo>
                    <a:pt x="29" y="10"/>
                  </a:lnTo>
                  <a:lnTo>
                    <a:pt x="29" y="27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25" y="39"/>
                  </a:lnTo>
                  <a:lnTo>
                    <a:pt x="23" y="39"/>
                  </a:lnTo>
                  <a:lnTo>
                    <a:pt x="21" y="39"/>
                  </a:lnTo>
                  <a:lnTo>
                    <a:pt x="21" y="35"/>
                  </a:lnTo>
                  <a:lnTo>
                    <a:pt x="14" y="39"/>
                  </a:lnTo>
                  <a:lnTo>
                    <a:pt x="10" y="39"/>
                  </a:lnTo>
                  <a:lnTo>
                    <a:pt x="6" y="39"/>
                  </a:lnTo>
                  <a:lnTo>
                    <a:pt x="2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4" y="18"/>
                  </a:lnTo>
                  <a:lnTo>
                    <a:pt x="10" y="16"/>
                  </a:lnTo>
                  <a:lnTo>
                    <a:pt x="19" y="14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894440" y="6519960"/>
              <a:ext cx="54000" cy="8712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16" y="26"/>
                  </a:moveTo>
                  <a:lnTo>
                    <a:pt x="20" y="24"/>
                  </a:lnTo>
                  <a:lnTo>
                    <a:pt x="24" y="24"/>
                  </a:lnTo>
                  <a:lnTo>
                    <a:pt x="24" y="20"/>
                  </a:lnTo>
                  <a:lnTo>
                    <a:pt x="26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0" y="10"/>
                  </a:lnTo>
                  <a:lnTo>
                    <a:pt x="16" y="10"/>
                  </a:lnTo>
                  <a:lnTo>
                    <a:pt x="12" y="10"/>
                  </a:lnTo>
                  <a:lnTo>
                    <a:pt x="12" y="26"/>
                  </a:lnTo>
                  <a:lnTo>
                    <a:pt x="16" y="26"/>
                  </a:lnTo>
                  <a:close/>
                  <a:moveTo>
                    <a:pt x="12" y="45"/>
                  </a:moveTo>
                  <a:lnTo>
                    <a:pt x="14" y="51"/>
                  </a:lnTo>
                  <a:lnTo>
                    <a:pt x="16" y="55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3" y="4"/>
                  </a:lnTo>
                  <a:lnTo>
                    <a:pt x="35" y="10"/>
                  </a:lnTo>
                  <a:lnTo>
                    <a:pt x="37" y="16"/>
                  </a:lnTo>
                  <a:lnTo>
                    <a:pt x="35" y="24"/>
                  </a:lnTo>
                  <a:lnTo>
                    <a:pt x="33" y="30"/>
                  </a:lnTo>
                  <a:lnTo>
                    <a:pt x="26" y="34"/>
                  </a:lnTo>
                  <a:lnTo>
                    <a:pt x="16" y="34"/>
                  </a:lnTo>
                  <a:lnTo>
                    <a:pt x="12" y="34"/>
                  </a:lnTo>
                  <a:lnTo>
                    <a:pt x="12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960320" y="6516720"/>
              <a:ext cx="52560" cy="90360"/>
            </a:xfrm>
            <a:custGeom>
              <a:avLst/>
              <a:gdLst/>
              <a:ahLst/>
              <a:rect l="l" t="t" r="r" b="b"/>
              <a:pathLst>
                <a:path w="36" h="57">
                  <a:moveTo>
                    <a:pt x="12" y="20"/>
                  </a:moveTo>
                  <a:lnTo>
                    <a:pt x="16" y="18"/>
                  </a:lnTo>
                  <a:lnTo>
                    <a:pt x="24" y="18"/>
                  </a:lnTo>
                  <a:lnTo>
                    <a:pt x="28" y="18"/>
                  </a:lnTo>
                  <a:lnTo>
                    <a:pt x="32" y="20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4" y="45"/>
                  </a:lnTo>
                  <a:lnTo>
                    <a:pt x="34" y="51"/>
                  </a:lnTo>
                  <a:lnTo>
                    <a:pt x="36" y="57"/>
                  </a:lnTo>
                  <a:lnTo>
                    <a:pt x="22" y="57"/>
                  </a:lnTo>
                  <a:lnTo>
                    <a:pt x="24" y="51"/>
                  </a:lnTo>
                  <a:lnTo>
                    <a:pt x="24" y="45"/>
                  </a:lnTo>
                  <a:lnTo>
                    <a:pt x="24" y="32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4" y="28"/>
                  </a:lnTo>
                  <a:lnTo>
                    <a:pt x="12" y="30"/>
                  </a:lnTo>
                  <a:lnTo>
                    <a:pt x="12" y="45"/>
                  </a:lnTo>
                  <a:lnTo>
                    <a:pt x="12" y="51"/>
                  </a:lnTo>
                  <a:lnTo>
                    <a:pt x="12" y="57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020440" y="6545160"/>
              <a:ext cx="64440" cy="8424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16" y="0"/>
                  </a:moveTo>
                  <a:lnTo>
                    <a:pt x="14" y="2"/>
                  </a:lnTo>
                  <a:lnTo>
                    <a:pt x="16" y="6"/>
                  </a:lnTo>
                  <a:lnTo>
                    <a:pt x="24" y="22"/>
                  </a:lnTo>
                  <a:lnTo>
                    <a:pt x="28" y="10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38" y="12"/>
                  </a:lnTo>
                  <a:lnTo>
                    <a:pt x="32" y="24"/>
                  </a:lnTo>
                  <a:lnTo>
                    <a:pt x="24" y="39"/>
                  </a:lnTo>
                  <a:lnTo>
                    <a:pt x="20" y="45"/>
                  </a:lnTo>
                  <a:lnTo>
                    <a:pt x="18" y="49"/>
                  </a:lnTo>
                  <a:lnTo>
                    <a:pt x="16" y="51"/>
                  </a:lnTo>
                  <a:lnTo>
                    <a:pt x="12" y="53"/>
                  </a:lnTo>
                  <a:lnTo>
                    <a:pt x="0" y="53"/>
                  </a:lnTo>
                  <a:lnTo>
                    <a:pt x="10" y="43"/>
                  </a:lnTo>
                  <a:lnTo>
                    <a:pt x="14" y="37"/>
                  </a:lnTo>
                  <a:lnTo>
                    <a:pt x="16" y="31"/>
                  </a:lnTo>
                  <a:lnTo>
                    <a:pt x="6" y="8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85240" y="6545160"/>
              <a:ext cx="42480" cy="619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27" y="10"/>
                  </a:moveTo>
                  <a:lnTo>
                    <a:pt x="21" y="8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5" y="12"/>
                  </a:lnTo>
                  <a:lnTo>
                    <a:pt x="19" y="14"/>
                  </a:lnTo>
                  <a:lnTo>
                    <a:pt x="25" y="16"/>
                  </a:lnTo>
                  <a:lnTo>
                    <a:pt x="27" y="20"/>
                  </a:lnTo>
                  <a:lnTo>
                    <a:pt x="29" y="22"/>
                  </a:lnTo>
                  <a:lnTo>
                    <a:pt x="29" y="27"/>
                  </a:lnTo>
                  <a:lnTo>
                    <a:pt x="29" y="31"/>
                  </a:lnTo>
                  <a:lnTo>
                    <a:pt x="25" y="35"/>
                  </a:lnTo>
                  <a:lnTo>
                    <a:pt x="21" y="39"/>
                  </a:lnTo>
                  <a:lnTo>
                    <a:pt x="15" y="39"/>
                  </a:lnTo>
                  <a:lnTo>
                    <a:pt x="9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5" y="27"/>
                  </a:lnTo>
                  <a:lnTo>
                    <a:pt x="9" y="31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3" y="22"/>
                  </a:lnTo>
                  <a:lnTo>
                    <a:pt x="9" y="20"/>
                  </a:lnTo>
                  <a:lnTo>
                    <a:pt x="5" y="18"/>
                  </a:lnTo>
                  <a:lnTo>
                    <a:pt x="3" y="14"/>
                  </a:lnTo>
                  <a:lnTo>
                    <a:pt x="3" y="10"/>
                  </a:lnTo>
                  <a:lnTo>
                    <a:pt x="5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139240" y="6519960"/>
              <a:ext cx="172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6"/>
                  </a:moveTo>
                  <a:lnTo>
                    <a:pt x="12" y="8"/>
                  </a:lnTo>
                  <a:lnTo>
                    <a:pt x="10" y="10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139240" y="6545160"/>
              <a:ext cx="20520" cy="61920"/>
            </a:xfrm>
            <a:custGeom>
              <a:avLst/>
              <a:gdLst/>
              <a:ahLst/>
              <a:rect l="l" t="t" r="r" b="b"/>
              <a:pathLst>
                <a:path w="14" h="39">
                  <a:moveTo>
                    <a:pt x="12" y="27"/>
                  </a:moveTo>
                  <a:lnTo>
                    <a:pt x="12" y="33"/>
                  </a:lnTo>
                  <a:lnTo>
                    <a:pt x="14" y="35"/>
                  </a:lnTo>
                  <a:lnTo>
                    <a:pt x="14" y="39"/>
                  </a:lnTo>
                  <a:lnTo>
                    <a:pt x="0" y="39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172720" y="6545160"/>
              <a:ext cx="43920" cy="6192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28" y="12"/>
                  </a:moveTo>
                  <a:lnTo>
                    <a:pt x="24" y="10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0" y="18"/>
                  </a:lnTo>
                  <a:lnTo>
                    <a:pt x="12" y="22"/>
                  </a:lnTo>
                  <a:lnTo>
                    <a:pt x="14" y="27"/>
                  </a:lnTo>
                  <a:lnTo>
                    <a:pt x="16" y="29"/>
                  </a:lnTo>
                  <a:lnTo>
                    <a:pt x="20" y="29"/>
                  </a:lnTo>
                  <a:lnTo>
                    <a:pt x="24" y="29"/>
                  </a:lnTo>
                  <a:lnTo>
                    <a:pt x="30" y="24"/>
                  </a:lnTo>
                  <a:lnTo>
                    <a:pt x="30" y="33"/>
                  </a:lnTo>
                  <a:lnTo>
                    <a:pt x="28" y="35"/>
                  </a:lnTo>
                  <a:lnTo>
                    <a:pt x="26" y="37"/>
                  </a:lnTo>
                  <a:lnTo>
                    <a:pt x="22" y="39"/>
                  </a:lnTo>
                  <a:lnTo>
                    <a:pt x="18" y="39"/>
                  </a:lnTo>
                  <a:lnTo>
                    <a:pt x="14" y="39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228880" y="6545160"/>
              <a:ext cx="48240" cy="6192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9" y="27"/>
                  </a:moveTo>
                  <a:lnTo>
                    <a:pt x="11" y="31"/>
                  </a:lnTo>
                  <a:lnTo>
                    <a:pt x="13" y="31"/>
                  </a:lnTo>
                  <a:lnTo>
                    <a:pt x="17" y="31"/>
                  </a:lnTo>
                  <a:lnTo>
                    <a:pt x="19" y="29"/>
                  </a:lnTo>
                  <a:lnTo>
                    <a:pt x="19" y="22"/>
                  </a:lnTo>
                  <a:lnTo>
                    <a:pt x="15" y="22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9" y="27"/>
                  </a:lnTo>
                  <a:close/>
                  <a:moveTo>
                    <a:pt x="19" y="12"/>
                  </a:moveTo>
                  <a:lnTo>
                    <a:pt x="19" y="8"/>
                  </a:lnTo>
                  <a:lnTo>
                    <a:pt x="15" y="8"/>
                  </a:lnTo>
                  <a:lnTo>
                    <a:pt x="9" y="8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29" y="6"/>
                  </a:lnTo>
                  <a:lnTo>
                    <a:pt x="29" y="10"/>
                  </a:lnTo>
                  <a:lnTo>
                    <a:pt x="29" y="27"/>
                  </a:lnTo>
                  <a:lnTo>
                    <a:pt x="29" y="31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25" y="39"/>
                  </a:lnTo>
                  <a:lnTo>
                    <a:pt x="23" y="39"/>
                  </a:lnTo>
                  <a:lnTo>
                    <a:pt x="21" y="39"/>
                  </a:lnTo>
                  <a:lnTo>
                    <a:pt x="21" y="35"/>
                  </a:lnTo>
                  <a:lnTo>
                    <a:pt x="17" y="39"/>
                  </a:lnTo>
                  <a:lnTo>
                    <a:pt x="11" y="39"/>
                  </a:lnTo>
                  <a:lnTo>
                    <a:pt x="7" y="39"/>
                  </a:lnTo>
                  <a:lnTo>
                    <a:pt x="2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4" y="18"/>
                  </a:lnTo>
                  <a:lnTo>
                    <a:pt x="11" y="16"/>
                  </a:lnTo>
                  <a:lnTo>
                    <a:pt x="19" y="14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285760" y="6516720"/>
              <a:ext cx="20520" cy="90360"/>
            </a:xfrm>
            <a:custGeom>
              <a:avLst/>
              <a:gdLst/>
              <a:ahLst/>
              <a:rect l="l" t="t" r="r" b="b"/>
              <a:pathLst>
                <a:path w="14" h="57">
                  <a:moveTo>
                    <a:pt x="12" y="45"/>
                  </a:moveTo>
                  <a:lnTo>
                    <a:pt x="12" y="51"/>
                  </a:lnTo>
                  <a:lnTo>
                    <a:pt x="12" y="53"/>
                  </a:lnTo>
                  <a:lnTo>
                    <a:pt x="14" y="57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351640" y="6519960"/>
              <a:ext cx="51480" cy="8712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16" y="0"/>
                  </a:moveTo>
                  <a:lnTo>
                    <a:pt x="16" y="4"/>
                  </a:lnTo>
                  <a:lnTo>
                    <a:pt x="14" y="8"/>
                  </a:lnTo>
                  <a:lnTo>
                    <a:pt x="14" y="14"/>
                  </a:lnTo>
                  <a:lnTo>
                    <a:pt x="14" y="45"/>
                  </a:lnTo>
                  <a:lnTo>
                    <a:pt x="27" y="45"/>
                  </a:lnTo>
                  <a:lnTo>
                    <a:pt x="31" y="45"/>
                  </a:lnTo>
                  <a:lnTo>
                    <a:pt x="35" y="43"/>
                  </a:lnTo>
                  <a:lnTo>
                    <a:pt x="33" y="51"/>
                  </a:lnTo>
                  <a:lnTo>
                    <a:pt x="33" y="53"/>
                  </a:lnTo>
                  <a:lnTo>
                    <a:pt x="31" y="55"/>
                  </a:lnTo>
                  <a:lnTo>
                    <a:pt x="29" y="55"/>
                  </a:lnTo>
                  <a:lnTo>
                    <a:pt x="8" y="53"/>
                  </a:lnTo>
                  <a:lnTo>
                    <a:pt x="0" y="55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2" y="14"/>
                  </a:lnTo>
                  <a:lnTo>
                    <a:pt x="2" y="8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411760" y="6545160"/>
              <a:ext cx="48240" cy="6192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10" y="27"/>
                  </a:move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29"/>
                  </a:lnTo>
                  <a:lnTo>
                    <a:pt x="18" y="22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10" y="27"/>
                  </a:lnTo>
                  <a:close/>
                  <a:moveTo>
                    <a:pt x="18" y="12"/>
                  </a:moveTo>
                  <a:lnTo>
                    <a:pt x="18" y="8"/>
                  </a:lnTo>
                  <a:lnTo>
                    <a:pt x="14" y="8"/>
                  </a:lnTo>
                  <a:lnTo>
                    <a:pt x="8" y="8"/>
                  </a:lnTo>
                  <a:lnTo>
                    <a:pt x="2" y="12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2"/>
                  </a:lnTo>
                  <a:lnTo>
                    <a:pt x="28" y="6"/>
                  </a:lnTo>
                  <a:lnTo>
                    <a:pt x="31" y="10"/>
                  </a:lnTo>
                  <a:lnTo>
                    <a:pt x="31" y="27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24" y="39"/>
                  </a:lnTo>
                  <a:lnTo>
                    <a:pt x="22" y="39"/>
                  </a:lnTo>
                  <a:lnTo>
                    <a:pt x="20" y="35"/>
                  </a:lnTo>
                  <a:lnTo>
                    <a:pt x="16" y="39"/>
                  </a:lnTo>
                  <a:lnTo>
                    <a:pt x="10" y="39"/>
                  </a:lnTo>
                  <a:lnTo>
                    <a:pt x="6" y="39"/>
                  </a:lnTo>
                  <a:lnTo>
                    <a:pt x="2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2" y="22"/>
                  </a:lnTo>
                  <a:lnTo>
                    <a:pt x="4" y="18"/>
                  </a:lnTo>
                  <a:lnTo>
                    <a:pt x="10" y="16"/>
                  </a:lnTo>
                  <a:lnTo>
                    <a:pt x="18" y="14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469000" y="6516720"/>
              <a:ext cx="52560" cy="90360"/>
            </a:xfrm>
            <a:custGeom>
              <a:avLst/>
              <a:gdLst/>
              <a:ahLst/>
              <a:rect l="l" t="t" r="r" b="b"/>
              <a:pathLst>
                <a:path w="36" h="57">
                  <a:moveTo>
                    <a:pt x="18" y="49"/>
                  </a:moveTo>
                  <a:lnTo>
                    <a:pt x="20" y="47"/>
                  </a:lnTo>
                  <a:lnTo>
                    <a:pt x="22" y="45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24" y="32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18" y="26"/>
                  </a:lnTo>
                  <a:lnTo>
                    <a:pt x="14" y="28"/>
                  </a:lnTo>
                  <a:lnTo>
                    <a:pt x="12" y="30"/>
                  </a:lnTo>
                  <a:lnTo>
                    <a:pt x="12" y="45"/>
                  </a:lnTo>
                  <a:lnTo>
                    <a:pt x="14" y="47"/>
                  </a:lnTo>
                  <a:lnTo>
                    <a:pt x="18" y="49"/>
                  </a:lnTo>
                  <a:close/>
                  <a:moveTo>
                    <a:pt x="12" y="20"/>
                  </a:moveTo>
                  <a:lnTo>
                    <a:pt x="16" y="18"/>
                  </a:lnTo>
                  <a:lnTo>
                    <a:pt x="20" y="18"/>
                  </a:lnTo>
                  <a:lnTo>
                    <a:pt x="26" y="20"/>
                  </a:lnTo>
                  <a:lnTo>
                    <a:pt x="32" y="22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6" y="36"/>
                  </a:lnTo>
                  <a:lnTo>
                    <a:pt x="34" y="45"/>
                  </a:lnTo>
                  <a:lnTo>
                    <a:pt x="30" y="51"/>
                  </a:lnTo>
                  <a:lnTo>
                    <a:pt x="24" y="55"/>
                  </a:lnTo>
                  <a:lnTo>
                    <a:pt x="22" y="57"/>
                  </a:lnTo>
                  <a:lnTo>
                    <a:pt x="18" y="57"/>
                  </a:lnTo>
                  <a:lnTo>
                    <a:pt x="12" y="57"/>
                  </a:lnTo>
                  <a:lnTo>
                    <a:pt x="8" y="55"/>
                  </a:lnTo>
                  <a:lnTo>
                    <a:pt x="0" y="57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535240" y="6545160"/>
              <a:ext cx="55440" cy="619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2" y="18"/>
                  </a:moveTo>
                  <a:lnTo>
                    <a:pt x="12" y="24"/>
                  </a:lnTo>
                  <a:lnTo>
                    <a:pt x="14" y="27"/>
                  </a:lnTo>
                  <a:lnTo>
                    <a:pt x="16" y="29"/>
                  </a:lnTo>
                  <a:lnTo>
                    <a:pt x="18" y="31"/>
                  </a:lnTo>
                  <a:lnTo>
                    <a:pt x="22" y="29"/>
                  </a:lnTo>
                  <a:lnTo>
                    <a:pt x="24" y="27"/>
                  </a:lnTo>
                  <a:lnTo>
                    <a:pt x="26" y="24"/>
                  </a:lnTo>
                  <a:lnTo>
                    <a:pt x="26" y="18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2" y="10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8"/>
                  </a:lnTo>
                  <a:close/>
                  <a:moveTo>
                    <a:pt x="38" y="18"/>
                  </a:moveTo>
                  <a:lnTo>
                    <a:pt x="38" y="24"/>
                  </a:lnTo>
                  <a:lnTo>
                    <a:pt x="36" y="29"/>
                  </a:lnTo>
                  <a:lnTo>
                    <a:pt x="32" y="35"/>
                  </a:lnTo>
                  <a:lnTo>
                    <a:pt x="26" y="37"/>
                  </a:lnTo>
                  <a:lnTo>
                    <a:pt x="18" y="39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4" y="35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36" y="10"/>
                  </a:lnTo>
                  <a:lnTo>
                    <a:pt x="38" y="14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599680" y="6545160"/>
              <a:ext cx="36360" cy="61920"/>
            </a:xfrm>
            <a:custGeom>
              <a:avLst/>
              <a:gdLst/>
              <a:ahLst/>
              <a:rect l="l" t="t" r="r" b="b"/>
              <a:pathLst>
                <a:path w="25" h="39">
                  <a:moveTo>
                    <a:pt x="13" y="27"/>
                  </a:moveTo>
                  <a:lnTo>
                    <a:pt x="13" y="33"/>
                  </a:lnTo>
                  <a:lnTo>
                    <a:pt x="15" y="35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3" y="33"/>
                  </a:lnTo>
                  <a:lnTo>
                    <a:pt x="3" y="27"/>
                  </a:lnTo>
                  <a:lnTo>
                    <a:pt x="3" y="10"/>
                  </a:lnTo>
                  <a:lnTo>
                    <a:pt x="3" y="6"/>
                  </a:lnTo>
                  <a:lnTo>
                    <a:pt x="0" y="2"/>
                  </a:lnTo>
                  <a:lnTo>
                    <a:pt x="11" y="0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5" y="4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3" y="12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642520" y="6545160"/>
              <a:ext cx="51120" cy="6192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10" y="27"/>
                  </a:move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20" y="29"/>
                  </a:lnTo>
                  <a:lnTo>
                    <a:pt x="20" y="22"/>
                  </a:lnTo>
                  <a:lnTo>
                    <a:pt x="16" y="22"/>
                  </a:lnTo>
                  <a:lnTo>
                    <a:pt x="12" y="22"/>
                  </a:lnTo>
                  <a:lnTo>
                    <a:pt x="12" y="24"/>
                  </a:lnTo>
                  <a:lnTo>
                    <a:pt x="10" y="27"/>
                  </a:lnTo>
                  <a:close/>
                  <a:moveTo>
                    <a:pt x="20" y="12"/>
                  </a:moveTo>
                  <a:lnTo>
                    <a:pt x="18" y="8"/>
                  </a:lnTo>
                  <a:lnTo>
                    <a:pt x="16" y="8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6"/>
                  </a:lnTo>
                  <a:lnTo>
                    <a:pt x="2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7" y="2"/>
                  </a:lnTo>
                  <a:lnTo>
                    <a:pt x="31" y="6"/>
                  </a:lnTo>
                  <a:lnTo>
                    <a:pt x="31" y="10"/>
                  </a:lnTo>
                  <a:lnTo>
                    <a:pt x="31" y="27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35" y="35"/>
                  </a:lnTo>
                  <a:lnTo>
                    <a:pt x="27" y="39"/>
                  </a:lnTo>
                  <a:lnTo>
                    <a:pt x="25" y="39"/>
                  </a:lnTo>
                  <a:lnTo>
                    <a:pt x="22" y="39"/>
                  </a:lnTo>
                  <a:lnTo>
                    <a:pt x="20" y="35"/>
                  </a:lnTo>
                  <a:lnTo>
                    <a:pt x="16" y="39"/>
                  </a:lnTo>
                  <a:lnTo>
                    <a:pt x="12" y="39"/>
                  </a:lnTo>
                  <a:lnTo>
                    <a:pt x="6" y="39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2" y="22"/>
                  </a:lnTo>
                  <a:lnTo>
                    <a:pt x="6" y="18"/>
                  </a:lnTo>
                  <a:lnTo>
                    <a:pt x="12" y="16"/>
                  </a:lnTo>
                  <a:lnTo>
                    <a:pt x="20" y="14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699400" y="6526080"/>
              <a:ext cx="37800" cy="8100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16" y="12"/>
                  </a:moveTo>
                  <a:lnTo>
                    <a:pt x="22" y="12"/>
                  </a:lnTo>
                  <a:lnTo>
                    <a:pt x="26" y="12"/>
                  </a:lnTo>
                  <a:lnTo>
                    <a:pt x="26" y="16"/>
                  </a:lnTo>
                  <a:lnTo>
                    <a:pt x="24" y="20"/>
                  </a:lnTo>
                  <a:lnTo>
                    <a:pt x="20" y="20"/>
                  </a:lnTo>
                  <a:lnTo>
                    <a:pt x="16" y="20"/>
                  </a:lnTo>
                  <a:lnTo>
                    <a:pt x="16" y="39"/>
                  </a:lnTo>
                  <a:lnTo>
                    <a:pt x="16" y="41"/>
                  </a:lnTo>
                  <a:lnTo>
                    <a:pt x="18" y="43"/>
                  </a:lnTo>
                  <a:lnTo>
                    <a:pt x="22" y="41"/>
                  </a:lnTo>
                  <a:lnTo>
                    <a:pt x="26" y="36"/>
                  </a:lnTo>
                  <a:lnTo>
                    <a:pt x="26" y="41"/>
                  </a:lnTo>
                  <a:lnTo>
                    <a:pt x="26" y="45"/>
                  </a:lnTo>
                  <a:lnTo>
                    <a:pt x="24" y="49"/>
                  </a:lnTo>
                  <a:lnTo>
                    <a:pt x="20" y="51"/>
                  </a:lnTo>
                  <a:lnTo>
                    <a:pt x="16" y="51"/>
                  </a:lnTo>
                  <a:lnTo>
                    <a:pt x="10" y="51"/>
                  </a:lnTo>
                  <a:lnTo>
                    <a:pt x="8" y="49"/>
                  </a:lnTo>
                  <a:lnTo>
                    <a:pt x="6" y="47"/>
                  </a:lnTo>
                  <a:lnTo>
                    <a:pt x="4" y="43"/>
                  </a:lnTo>
                  <a:lnTo>
                    <a:pt x="4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2"/>
                  </a:lnTo>
                  <a:lnTo>
                    <a:pt x="16" y="0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743320" y="6545160"/>
              <a:ext cx="5688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3" y="18"/>
                  </a:moveTo>
                  <a:lnTo>
                    <a:pt x="13" y="24"/>
                  </a:lnTo>
                  <a:lnTo>
                    <a:pt x="15" y="27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29"/>
                  </a:lnTo>
                  <a:lnTo>
                    <a:pt x="25" y="27"/>
                  </a:lnTo>
                  <a:lnTo>
                    <a:pt x="27" y="24"/>
                  </a:lnTo>
                  <a:lnTo>
                    <a:pt x="27" y="18"/>
                  </a:lnTo>
                  <a:lnTo>
                    <a:pt x="27" y="14"/>
                  </a:lnTo>
                  <a:lnTo>
                    <a:pt x="25" y="12"/>
                  </a:lnTo>
                  <a:lnTo>
                    <a:pt x="23" y="10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3" y="14"/>
                  </a:lnTo>
                  <a:lnTo>
                    <a:pt x="13" y="18"/>
                  </a:lnTo>
                  <a:close/>
                  <a:moveTo>
                    <a:pt x="39" y="18"/>
                  </a:moveTo>
                  <a:lnTo>
                    <a:pt x="39" y="24"/>
                  </a:lnTo>
                  <a:lnTo>
                    <a:pt x="37" y="29"/>
                  </a:lnTo>
                  <a:lnTo>
                    <a:pt x="33" y="35"/>
                  </a:lnTo>
                  <a:lnTo>
                    <a:pt x="27" y="37"/>
                  </a:lnTo>
                  <a:lnTo>
                    <a:pt x="19" y="39"/>
                  </a:lnTo>
                  <a:lnTo>
                    <a:pt x="11" y="37"/>
                  </a:lnTo>
                  <a:lnTo>
                    <a:pt x="9" y="37"/>
                  </a:lnTo>
                  <a:lnTo>
                    <a:pt x="5" y="35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5" y="4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3" y="4"/>
                  </a:lnTo>
                  <a:lnTo>
                    <a:pt x="35" y="8"/>
                  </a:lnTo>
                  <a:lnTo>
                    <a:pt x="37" y="10"/>
                  </a:lnTo>
                  <a:lnTo>
                    <a:pt x="39" y="14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812440" y="6545160"/>
              <a:ext cx="36360" cy="61920"/>
            </a:xfrm>
            <a:custGeom>
              <a:avLst/>
              <a:gdLst/>
              <a:ahLst/>
              <a:rect l="l" t="t" r="r" b="b"/>
              <a:pathLst>
                <a:path w="25" h="39">
                  <a:moveTo>
                    <a:pt x="13" y="27"/>
                  </a:moveTo>
                  <a:lnTo>
                    <a:pt x="13" y="33"/>
                  </a:lnTo>
                  <a:lnTo>
                    <a:pt x="15" y="35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2"/>
                  </a:lnTo>
                  <a:lnTo>
                    <a:pt x="11" y="0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3" y="4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3" y="12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857800" y="6545160"/>
              <a:ext cx="65520" cy="84240"/>
            </a:xfrm>
            <a:custGeom>
              <a:avLst/>
              <a:gdLst/>
              <a:ahLst/>
              <a:rect l="l" t="t" r="r" b="b"/>
              <a:pathLst>
                <a:path w="45" h="53">
                  <a:moveTo>
                    <a:pt x="14" y="0"/>
                  </a:moveTo>
                  <a:lnTo>
                    <a:pt x="14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22" y="22"/>
                  </a:lnTo>
                  <a:lnTo>
                    <a:pt x="29" y="10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45" y="0"/>
                  </a:lnTo>
                  <a:lnTo>
                    <a:pt x="39" y="12"/>
                  </a:lnTo>
                  <a:lnTo>
                    <a:pt x="24" y="39"/>
                  </a:lnTo>
                  <a:lnTo>
                    <a:pt x="18" y="49"/>
                  </a:lnTo>
                  <a:lnTo>
                    <a:pt x="14" y="51"/>
                  </a:lnTo>
                  <a:lnTo>
                    <a:pt x="12" y="53"/>
                  </a:lnTo>
                  <a:lnTo>
                    <a:pt x="0" y="53"/>
                  </a:lnTo>
                  <a:lnTo>
                    <a:pt x="4" y="47"/>
                  </a:lnTo>
                  <a:lnTo>
                    <a:pt x="8" y="43"/>
                  </a:lnTo>
                  <a:lnTo>
                    <a:pt x="12" y="37"/>
                  </a:lnTo>
                  <a:lnTo>
                    <a:pt x="16" y="31"/>
                  </a:lnTo>
                  <a:lnTo>
                    <a:pt x="4" y="8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d29"/>
            </a:gs>
            <a:gs pos="50000">
              <a:srgbClr val="003399"/>
            </a:gs>
            <a:gs pos="100000">
              <a:srgbClr val="000d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3440" y="5867280"/>
            <a:ext cx="255240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3440" y="1066680"/>
            <a:ext cx="676404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Joint ISPRS / CEOS task force on Radiometric and Geometric calib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3440" y="4038480"/>
            <a:ext cx="633060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Nigel Fox (Ian Dowman no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Optical Radiation Measurement Grou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03440" y="5334120"/>
            <a:ext cx="5889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Feb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7550280" y="46080"/>
            <a:ext cx="1245600" cy="5897520"/>
            <a:chOff x="7550280" y="46080"/>
            <a:chExt cx="1245600" cy="5897520"/>
          </a:xfrm>
        </p:grpSpPr>
        <p:sp>
          <p:nvSpPr>
            <p:cNvPr id="373" name=""/>
            <p:cNvSpPr/>
            <p:nvPr/>
          </p:nvSpPr>
          <p:spPr>
            <a:xfrm>
              <a:off x="8529480" y="917640"/>
              <a:ext cx="266400" cy="801720"/>
            </a:xfrm>
            <a:custGeom>
              <a:avLst/>
              <a:gdLst/>
              <a:ahLst/>
              <a:rect l="l" t="t" r="r" b="b"/>
              <a:pathLst>
                <a:path w="182" h="505">
                  <a:moveTo>
                    <a:pt x="0" y="0"/>
                  </a:moveTo>
                  <a:lnTo>
                    <a:pt x="181" y="0"/>
                  </a:lnTo>
                  <a:lnTo>
                    <a:pt x="181" y="504"/>
                  </a:lnTo>
                  <a:lnTo>
                    <a:pt x="0" y="50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30160" y="1728720"/>
              <a:ext cx="267840" cy="368280"/>
            </a:xfrm>
            <a:custGeom>
              <a:avLst/>
              <a:gdLst/>
              <a:ahLst/>
              <a:rect l="l" t="t" r="r" b="b"/>
              <a:pathLst>
                <a:path w="183" h="232">
                  <a:moveTo>
                    <a:pt x="0" y="0"/>
                  </a:moveTo>
                  <a:lnTo>
                    <a:pt x="182" y="0"/>
                  </a:lnTo>
                  <a:lnTo>
                    <a:pt x="182" y="231"/>
                  </a:lnTo>
                  <a:lnTo>
                    <a:pt x="0" y="231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030160" y="2836800"/>
              <a:ext cx="267840" cy="368280"/>
            </a:xfrm>
            <a:custGeom>
              <a:avLst/>
              <a:gdLst/>
              <a:ahLst/>
              <a:rect l="l" t="t" r="r" b="b"/>
              <a:pathLst>
                <a:path w="183" h="232">
                  <a:moveTo>
                    <a:pt x="0" y="0"/>
                  </a:moveTo>
                  <a:lnTo>
                    <a:pt x="182" y="0"/>
                  </a:lnTo>
                  <a:lnTo>
                    <a:pt x="182" y="231"/>
                  </a:lnTo>
                  <a:lnTo>
                    <a:pt x="0" y="231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30160" y="3754440"/>
              <a:ext cx="267840" cy="368280"/>
            </a:xfrm>
            <a:custGeom>
              <a:avLst/>
              <a:gdLst/>
              <a:ahLst/>
              <a:rect l="l" t="t" r="r" b="b"/>
              <a:pathLst>
                <a:path w="183" h="232">
                  <a:moveTo>
                    <a:pt x="0" y="0"/>
                  </a:moveTo>
                  <a:lnTo>
                    <a:pt x="182" y="0"/>
                  </a:lnTo>
                  <a:lnTo>
                    <a:pt x="182" y="231"/>
                  </a:lnTo>
                  <a:lnTo>
                    <a:pt x="0" y="231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30160" y="4497480"/>
              <a:ext cx="267840" cy="3668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82" y="0"/>
                  </a:lnTo>
                  <a:lnTo>
                    <a:pt x="182" y="230"/>
                  </a:lnTo>
                  <a:lnTo>
                    <a:pt x="0" y="23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030160" y="5049720"/>
              <a:ext cx="267840" cy="365400"/>
            </a:xfrm>
            <a:custGeom>
              <a:avLst/>
              <a:gdLst/>
              <a:ahLst/>
              <a:rect l="l" t="t" r="r" b="b"/>
              <a:pathLst>
                <a:path w="183" h="230">
                  <a:moveTo>
                    <a:pt x="0" y="0"/>
                  </a:moveTo>
                  <a:lnTo>
                    <a:pt x="182" y="0"/>
                  </a:lnTo>
                  <a:lnTo>
                    <a:pt x="182" y="229"/>
                  </a:lnTo>
                  <a:lnTo>
                    <a:pt x="0" y="22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529480" y="2100240"/>
              <a:ext cx="266400" cy="733320"/>
            </a:xfrm>
            <a:custGeom>
              <a:avLst/>
              <a:gdLst/>
              <a:ahLst/>
              <a:rect l="l" t="t" r="r" b="b"/>
              <a:pathLst>
                <a:path w="182" h="462">
                  <a:moveTo>
                    <a:pt x="0" y="0"/>
                  </a:moveTo>
                  <a:lnTo>
                    <a:pt x="181" y="0"/>
                  </a:lnTo>
                  <a:lnTo>
                    <a:pt x="181" y="461"/>
                  </a:lnTo>
                  <a:lnTo>
                    <a:pt x="0" y="461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529480" y="3206880"/>
              <a:ext cx="266400" cy="546120"/>
            </a:xfrm>
            <a:custGeom>
              <a:avLst/>
              <a:gdLst/>
              <a:ahLst/>
              <a:rect l="l" t="t" r="r" b="b"/>
              <a:pathLst>
                <a:path w="182" h="344">
                  <a:moveTo>
                    <a:pt x="0" y="0"/>
                  </a:moveTo>
                  <a:lnTo>
                    <a:pt x="181" y="0"/>
                  </a:lnTo>
                  <a:lnTo>
                    <a:pt x="181" y="343"/>
                  </a:lnTo>
                  <a:lnTo>
                    <a:pt x="0" y="34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529480" y="4135320"/>
              <a:ext cx="266400" cy="358920"/>
            </a:xfrm>
            <a:custGeom>
              <a:avLst/>
              <a:gdLst/>
              <a:ahLst/>
              <a:rect l="l" t="t" r="r" b="b"/>
              <a:pathLst>
                <a:path w="182" h="226">
                  <a:moveTo>
                    <a:pt x="0" y="0"/>
                  </a:moveTo>
                  <a:lnTo>
                    <a:pt x="181" y="0"/>
                  </a:lnTo>
                  <a:lnTo>
                    <a:pt x="181" y="225"/>
                  </a:lnTo>
                  <a:lnTo>
                    <a:pt x="0" y="22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529480" y="4867200"/>
              <a:ext cx="266400" cy="177840"/>
            </a:xfrm>
            <a:custGeom>
              <a:avLst/>
              <a:gdLst/>
              <a:ahLst/>
              <a:rect l="l" t="t" r="r" b="b"/>
              <a:pathLst>
                <a:path w="182" h="112">
                  <a:moveTo>
                    <a:pt x="0" y="0"/>
                  </a:moveTo>
                  <a:lnTo>
                    <a:pt x="181" y="0"/>
                  </a:lnTo>
                  <a:lnTo>
                    <a:pt x="181" y="111"/>
                  </a:lnTo>
                  <a:lnTo>
                    <a:pt x="0" y="111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550280" y="3544920"/>
              <a:ext cx="267840" cy="31680"/>
            </a:xfrm>
            <a:custGeom>
              <a:avLst/>
              <a:gdLst/>
              <a:ahLst/>
              <a:rect l="l" t="t" r="r" b="b"/>
              <a:pathLst>
                <a:path w="183" h="20">
                  <a:moveTo>
                    <a:pt x="0" y="0"/>
                  </a:moveTo>
                  <a:lnTo>
                    <a:pt x="182" y="0"/>
                  </a:lnTo>
                  <a:lnTo>
                    <a:pt x="182" y="19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50280" y="3914640"/>
              <a:ext cx="267840" cy="33480"/>
            </a:xfrm>
            <a:custGeom>
              <a:avLst/>
              <a:gdLst/>
              <a:ahLst/>
              <a:rect l="l" t="t" r="r" b="b"/>
              <a:pathLst>
                <a:path w="183" h="21">
                  <a:moveTo>
                    <a:pt x="0" y="0"/>
                  </a:moveTo>
                  <a:lnTo>
                    <a:pt x="182" y="0"/>
                  </a:lnTo>
                  <a:lnTo>
                    <a:pt x="182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550280" y="4281480"/>
              <a:ext cx="267840" cy="30240"/>
            </a:xfrm>
            <a:custGeom>
              <a:avLst/>
              <a:gdLst/>
              <a:ahLst/>
              <a:rect l="l" t="t" r="r" b="b"/>
              <a:pathLst>
                <a:path w="183" h="19">
                  <a:moveTo>
                    <a:pt x="0" y="0"/>
                  </a:moveTo>
                  <a:lnTo>
                    <a:pt x="182" y="0"/>
                  </a:lnTo>
                  <a:lnTo>
                    <a:pt x="182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550280" y="4651560"/>
              <a:ext cx="267840" cy="31680"/>
            </a:xfrm>
            <a:custGeom>
              <a:avLst/>
              <a:gdLst/>
              <a:ahLst/>
              <a:rect l="l" t="t" r="r" b="b"/>
              <a:pathLst>
                <a:path w="183" h="20">
                  <a:moveTo>
                    <a:pt x="0" y="0"/>
                  </a:moveTo>
                  <a:lnTo>
                    <a:pt x="182" y="0"/>
                  </a:lnTo>
                  <a:lnTo>
                    <a:pt x="182" y="19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50280" y="5021280"/>
              <a:ext cx="267840" cy="31680"/>
            </a:xfrm>
            <a:custGeom>
              <a:avLst/>
              <a:gdLst/>
              <a:ahLst/>
              <a:rect l="l" t="t" r="r" b="b"/>
              <a:pathLst>
                <a:path w="183" h="20">
                  <a:moveTo>
                    <a:pt x="0" y="0"/>
                  </a:moveTo>
                  <a:lnTo>
                    <a:pt x="182" y="0"/>
                  </a:lnTo>
                  <a:lnTo>
                    <a:pt x="182" y="19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550280" y="5386320"/>
              <a:ext cx="267840" cy="33480"/>
            </a:xfrm>
            <a:custGeom>
              <a:avLst/>
              <a:gdLst/>
              <a:ahLst/>
              <a:rect l="l" t="t" r="r" b="b"/>
              <a:pathLst>
                <a:path w="183" h="21">
                  <a:moveTo>
                    <a:pt x="0" y="0"/>
                  </a:moveTo>
                  <a:lnTo>
                    <a:pt x="182" y="0"/>
                  </a:lnTo>
                  <a:lnTo>
                    <a:pt x="182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593840" y="5315040"/>
              <a:ext cx="182880" cy="3312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4" y="0"/>
                  </a:lnTo>
                  <a:lnTo>
                    <a:pt x="124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93840" y="4943520"/>
              <a:ext cx="182880" cy="3348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4" y="0"/>
                  </a:lnTo>
                  <a:lnTo>
                    <a:pt x="124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93840" y="4576680"/>
              <a:ext cx="182880" cy="3348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4" y="0"/>
                  </a:lnTo>
                  <a:lnTo>
                    <a:pt x="124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593840" y="4206960"/>
              <a:ext cx="182880" cy="30240"/>
            </a:xfrm>
            <a:custGeom>
              <a:avLst/>
              <a:gdLst/>
              <a:ahLst/>
              <a:rect l="l" t="t" r="r" b="b"/>
              <a:pathLst>
                <a:path w="125" h="19">
                  <a:moveTo>
                    <a:pt x="0" y="0"/>
                  </a:moveTo>
                  <a:lnTo>
                    <a:pt x="124" y="0"/>
                  </a:lnTo>
                  <a:lnTo>
                    <a:pt x="124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93840" y="3840120"/>
              <a:ext cx="182880" cy="3348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4" y="0"/>
                  </a:lnTo>
                  <a:lnTo>
                    <a:pt x="124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593840" y="5168880"/>
              <a:ext cx="182880" cy="31680"/>
            </a:xfrm>
            <a:custGeom>
              <a:avLst/>
              <a:gdLst/>
              <a:ahLst/>
              <a:rect l="l" t="t" r="r" b="b"/>
              <a:pathLst>
                <a:path w="125" h="20">
                  <a:moveTo>
                    <a:pt x="0" y="0"/>
                  </a:moveTo>
                  <a:lnTo>
                    <a:pt x="124" y="0"/>
                  </a:lnTo>
                  <a:lnTo>
                    <a:pt x="124" y="19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93840" y="4795920"/>
              <a:ext cx="182880" cy="3312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4" y="0"/>
                  </a:lnTo>
                  <a:lnTo>
                    <a:pt x="124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93840" y="4429080"/>
              <a:ext cx="182880" cy="3348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4" y="0"/>
                  </a:lnTo>
                  <a:lnTo>
                    <a:pt x="124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93840" y="4059360"/>
              <a:ext cx="182880" cy="31680"/>
            </a:xfrm>
            <a:custGeom>
              <a:avLst/>
              <a:gdLst/>
              <a:ahLst/>
              <a:rect l="l" t="t" r="r" b="b"/>
              <a:pathLst>
                <a:path w="125" h="20">
                  <a:moveTo>
                    <a:pt x="0" y="0"/>
                  </a:moveTo>
                  <a:lnTo>
                    <a:pt x="124" y="0"/>
                  </a:lnTo>
                  <a:lnTo>
                    <a:pt x="124" y="19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93840" y="3692520"/>
              <a:ext cx="182880" cy="3348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4" y="0"/>
                  </a:lnTo>
                  <a:lnTo>
                    <a:pt x="124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93840" y="5241960"/>
              <a:ext cx="182880" cy="31680"/>
            </a:xfrm>
            <a:custGeom>
              <a:avLst/>
              <a:gdLst/>
              <a:ahLst/>
              <a:rect l="l" t="t" r="r" b="b"/>
              <a:pathLst>
                <a:path w="125" h="20">
                  <a:moveTo>
                    <a:pt x="0" y="0"/>
                  </a:moveTo>
                  <a:lnTo>
                    <a:pt x="124" y="0"/>
                  </a:lnTo>
                  <a:lnTo>
                    <a:pt x="124" y="19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93840" y="4870440"/>
              <a:ext cx="182880" cy="3348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4" y="0"/>
                  </a:lnTo>
                  <a:lnTo>
                    <a:pt x="124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593840" y="4503960"/>
              <a:ext cx="182880" cy="3312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4" y="0"/>
                  </a:lnTo>
                  <a:lnTo>
                    <a:pt x="124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93840" y="4132440"/>
              <a:ext cx="182880" cy="3312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4" y="0"/>
                  </a:lnTo>
                  <a:lnTo>
                    <a:pt x="124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593840" y="3767040"/>
              <a:ext cx="182880" cy="32040"/>
            </a:xfrm>
            <a:custGeom>
              <a:avLst/>
              <a:gdLst/>
              <a:ahLst/>
              <a:rect l="l" t="t" r="r" b="b"/>
              <a:pathLst>
                <a:path w="125" h="20">
                  <a:moveTo>
                    <a:pt x="0" y="0"/>
                  </a:moveTo>
                  <a:lnTo>
                    <a:pt x="124" y="0"/>
                  </a:lnTo>
                  <a:lnTo>
                    <a:pt x="124" y="19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93840" y="5095800"/>
              <a:ext cx="182880" cy="3348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4" y="0"/>
                  </a:lnTo>
                  <a:lnTo>
                    <a:pt x="124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93840" y="4722840"/>
              <a:ext cx="182880" cy="3348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4" y="0"/>
                  </a:lnTo>
                  <a:lnTo>
                    <a:pt x="124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93840" y="4357800"/>
              <a:ext cx="182880" cy="3312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4" y="0"/>
                  </a:lnTo>
                  <a:lnTo>
                    <a:pt x="124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93840" y="3984840"/>
              <a:ext cx="182880" cy="3312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4" y="0"/>
                  </a:lnTo>
                  <a:lnTo>
                    <a:pt x="124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93840" y="3621240"/>
              <a:ext cx="182880" cy="3312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4" y="0"/>
                  </a:lnTo>
                  <a:lnTo>
                    <a:pt x="124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664120" y="5456160"/>
              <a:ext cx="1080" cy="487440"/>
            </a:xfrm>
            <a:custGeom>
              <a:avLst/>
              <a:gdLst/>
              <a:ahLst/>
              <a:rect l="l" t="t" r="r" b="b"/>
              <a:pathLst>
                <a:path w="1" h="307">
                  <a:moveTo>
                    <a:pt x="0" y="306"/>
                  </a:moveTo>
                  <a:lnTo>
                    <a:pt x="0" y="0"/>
                  </a:lnTo>
                  <a:lnTo>
                    <a:pt x="0" y="306"/>
                  </a:lnTo>
                  <a:lnTo>
                    <a:pt x="0" y="30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173440" y="5640480"/>
              <a:ext cx="1440" cy="303120"/>
            </a:xfrm>
            <a:custGeom>
              <a:avLst/>
              <a:gdLst/>
              <a:ahLst/>
              <a:rect l="l" t="t" r="r" b="b"/>
              <a:pathLst>
                <a:path w="1" h="191">
                  <a:moveTo>
                    <a:pt x="0" y="190"/>
                  </a:moveTo>
                  <a:lnTo>
                    <a:pt x="0" y="0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83120" y="5641920"/>
              <a:ext cx="27720" cy="301680"/>
            </a:xfrm>
            <a:custGeom>
              <a:avLst/>
              <a:gdLst/>
              <a:ahLst/>
              <a:rect l="l" t="t" r="r" b="b"/>
              <a:pathLst>
                <a:path w="19" h="190">
                  <a:moveTo>
                    <a:pt x="0" y="189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189"/>
                  </a:lnTo>
                  <a:lnTo>
                    <a:pt x="0" y="18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683120" y="3033720"/>
              <a:ext cx="27720" cy="300240"/>
            </a:xfrm>
            <a:custGeom>
              <a:avLst/>
              <a:gdLst/>
              <a:ahLst/>
              <a:rect l="l" t="t" r="r" b="b"/>
              <a:pathLst>
                <a:path w="19" h="189">
                  <a:moveTo>
                    <a:pt x="0" y="18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188"/>
                  </a:lnTo>
                  <a:lnTo>
                    <a:pt x="0" y="188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372880" y="4822920"/>
              <a:ext cx="93600" cy="146160"/>
            </a:xfrm>
            <a:custGeom>
              <a:avLst/>
              <a:gdLst/>
              <a:ahLst/>
              <a:rect l="l" t="t" r="r" b="b"/>
              <a:pathLst>
                <a:path w="64" h="92">
                  <a:moveTo>
                    <a:pt x="54" y="77"/>
                  </a:moveTo>
                  <a:lnTo>
                    <a:pt x="54" y="13"/>
                  </a:lnTo>
                  <a:lnTo>
                    <a:pt x="8" y="13"/>
                  </a:lnTo>
                  <a:lnTo>
                    <a:pt x="8" y="77"/>
                  </a:lnTo>
                  <a:lnTo>
                    <a:pt x="54" y="77"/>
                  </a:lnTo>
                  <a:lnTo>
                    <a:pt x="13" y="91"/>
                  </a:lnTo>
                  <a:lnTo>
                    <a:pt x="10" y="91"/>
                  </a:lnTo>
                  <a:lnTo>
                    <a:pt x="8" y="90"/>
                  </a:lnTo>
                  <a:lnTo>
                    <a:pt x="4" y="89"/>
                  </a:lnTo>
                  <a:lnTo>
                    <a:pt x="3" y="88"/>
                  </a:lnTo>
                  <a:lnTo>
                    <a:pt x="1" y="86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59" y="3"/>
                  </a:lnTo>
                  <a:lnTo>
                    <a:pt x="61" y="5"/>
                  </a:lnTo>
                  <a:lnTo>
                    <a:pt x="63" y="9"/>
                  </a:lnTo>
                  <a:lnTo>
                    <a:pt x="63" y="13"/>
                  </a:lnTo>
                  <a:lnTo>
                    <a:pt x="63" y="18"/>
                  </a:lnTo>
                  <a:lnTo>
                    <a:pt x="63" y="73"/>
                  </a:lnTo>
                  <a:lnTo>
                    <a:pt x="63" y="78"/>
                  </a:lnTo>
                  <a:lnTo>
                    <a:pt x="63" y="81"/>
                  </a:lnTo>
                  <a:lnTo>
                    <a:pt x="61" y="86"/>
                  </a:lnTo>
                  <a:lnTo>
                    <a:pt x="60" y="87"/>
                  </a:lnTo>
                  <a:lnTo>
                    <a:pt x="58" y="89"/>
                  </a:lnTo>
                  <a:lnTo>
                    <a:pt x="55" y="90"/>
                  </a:lnTo>
                  <a:lnTo>
                    <a:pt x="52" y="91"/>
                  </a:lnTo>
                  <a:lnTo>
                    <a:pt x="49" y="91"/>
                  </a:lnTo>
                  <a:lnTo>
                    <a:pt x="13" y="91"/>
                  </a:lnTo>
                  <a:lnTo>
                    <a:pt x="54" y="77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863480" y="5329440"/>
              <a:ext cx="97920" cy="147600"/>
            </a:xfrm>
            <a:custGeom>
              <a:avLst/>
              <a:gdLst/>
              <a:ahLst/>
              <a:rect l="l" t="t" r="r" b="b"/>
              <a:pathLst>
                <a:path w="67" h="93">
                  <a:moveTo>
                    <a:pt x="57" y="79"/>
                  </a:moveTo>
                  <a:lnTo>
                    <a:pt x="57" y="14"/>
                  </a:lnTo>
                  <a:lnTo>
                    <a:pt x="9" y="14"/>
                  </a:lnTo>
                  <a:lnTo>
                    <a:pt x="9" y="79"/>
                  </a:lnTo>
                  <a:lnTo>
                    <a:pt x="57" y="79"/>
                  </a:lnTo>
                  <a:lnTo>
                    <a:pt x="16" y="92"/>
                  </a:lnTo>
                  <a:lnTo>
                    <a:pt x="11" y="92"/>
                  </a:lnTo>
                  <a:lnTo>
                    <a:pt x="8" y="92"/>
                  </a:lnTo>
                  <a:lnTo>
                    <a:pt x="6" y="91"/>
                  </a:lnTo>
                  <a:lnTo>
                    <a:pt x="3" y="89"/>
                  </a:lnTo>
                  <a:lnTo>
                    <a:pt x="2" y="87"/>
                  </a:lnTo>
                  <a:lnTo>
                    <a:pt x="1" y="83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10"/>
                  </a:lnTo>
                  <a:lnTo>
                    <a:pt x="2" y="7"/>
                  </a:lnTo>
                  <a:lnTo>
                    <a:pt x="3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9" y="2"/>
                  </a:lnTo>
                  <a:lnTo>
                    <a:pt x="62" y="4"/>
                  </a:lnTo>
                  <a:lnTo>
                    <a:pt x="63" y="7"/>
                  </a:lnTo>
                  <a:lnTo>
                    <a:pt x="64" y="10"/>
                  </a:lnTo>
                  <a:lnTo>
                    <a:pt x="66" y="14"/>
                  </a:lnTo>
                  <a:lnTo>
                    <a:pt x="66" y="19"/>
                  </a:lnTo>
                  <a:lnTo>
                    <a:pt x="66" y="74"/>
                  </a:lnTo>
                  <a:lnTo>
                    <a:pt x="66" y="79"/>
                  </a:lnTo>
                  <a:lnTo>
                    <a:pt x="64" y="83"/>
                  </a:lnTo>
                  <a:lnTo>
                    <a:pt x="63" y="87"/>
                  </a:lnTo>
                  <a:lnTo>
                    <a:pt x="63" y="89"/>
                  </a:lnTo>
                  <a:lnTo>
                    <a:pt x="60" y="91"/>
                  </a:lnTo>
                  <a:lnTo>
                    <a:pt x="58" y="91"/>
                  </a:lnTo>
                  <a:lnTo>
                    <a:pt x="55" y="92"/>
                  </a:lnTo>
                  <a:lnTo>
                    <a:pt x="49" y="92"/>
                  </a:lnTo>
                  <a:lnTo>
                    <a:pt x="16" y="92"/>
                  </a:lnTo>
                  <a:lnTo>
                    <a:pt x="57" y="79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860600" y="3284640"/>
              <a:ext cx="94680" cy="146160"/>
            </a:xfrm>
            <a:custGeom>
              <a:avLst/>
              <a:gdLst/>
              <a:ahLst/>
              <a:rect l="l" t="t" r="r" b="b"/>
              <a:pathLst>
                <a:path w="65" h="92">
                  <a:moveTo>
                    <a:pt x="55" y="77"/>
                  </a:moveTo>
                  <a:lnTo>
                    <a:pt x="55" y="13"/>
                  </a:lnTo>
                  <a:lnTo>
                    <a:pt x="8" y="13"/>
                  </a:lnTo>
                  <a:lnTo>
                    <a:pt x="8" y="77"/>
                  </a:lnTo>
                  <a:lnTo>
                    <a:pt x="55" y="77"/>
                  </a:lnTo>
                  <a:lnTo>
                    <a:pt x="14" y="91"/>
                  </a:lnTo>
                  <a:lnTo>
                    <a:pt x="10" y="91"/>
                  </a:lnTo>
                  <a:lnTo>
                    <a:pt x="8" y="90"/>
                  </a:lnTo>
                  <a:lnTo>
                    <a:pt x="4" y="89"/>
                  </a:lnTo>
                  <a:lnTo>
                    <a:pt x="2" y="88"/>
                  </a:lnTo>
                  <a:lnTo>
                    <a:pt x="1" y="86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9" y="1"/>
                  </a:lnTo>
                  <a:lnTo>
                    <a:pt x="60" y="3"/>
                  </a:lnTo>
                  <a:lnTo>
                    <a:pt x="61" y="5"/>
                  </a:lnTo>
                  <a:lnTo>
                    <a:pt x="64" y="9"/>
                  </a:lnTo>
                  <a:lnTo>
                    <a:pt x="64" y="13"/>
                  </a:lnTo>
                  <a:lnTo>
                    <a:pt x="64" y="18"/>
                  </a:lnTo>
                  <a:lnTo>
                    <a:pt x="64" y="73"/>
                  </a:lnTo>
                  <a:lnTo>
                    <a:pt x="64" y="78"/>
                  </a:lnTo>
                  <a:lnTo>
                    <a:pt x="64" y="81"/>
                  </a:lnTo>
                  <a:lnTo>
                    <a:pt x="61" y="86"/>
                  </a:lnTo>
                  <a:lnTo>
                    <a:pt x="61" y="87"/>
                  </a:lnTo>
                  <a:lnTo>
                    <a:pt x="59" y="89"/>
                  </a:lnTo>
                  <a:lnTo>
                    <a:pt x="56" y="90"/>
                  </a:lnTo>
                  <a:lnTo>
                    <a:pt x="53" y="91"/>
                  </a:lnTo>
                  <a:lnTo>
                    <a:pt x="48" y="91"/>
                  </a:lnTo>
                  <a:lnTo>
                    <a:pt x="14" y="91"/>
                  </a:lnTo>
                  <a:lnTo>
                    <a:pt x="55" y="77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860600" y="3471840"/>
              <a:ext cx="94680" cy="146160"/>
            </a:xfrm>
            <a:custGeom>
              <a:avLst/>
              <a:gdLst/>
              <a:ahLst/>
              <a:rect l="l" t="t" r="r" b="b"/>
              <a:pathLst>
                <a:path w="65" h="92">
                  <a:moveTo>
                    <a:pt x="55" y="77"/>
                  </a:moveTo>
                  <a:lnTo>
                    <a:pt x="55" y="13"/>
                  </a:lnTo>
                  <a:lnTo>
                    <a:pt x="8" y="13"/>
                  </a:lnTo>
                  <a:lnTo>
                    <a:pt x="8" y="77"/>
                  </a:lnTo>
                  <a:lnTo>
                    <a:pt x="55" y="77"/>
                  </a:lnTo>
                  <a:lnTo>
                    <a:pt x="14" y="91"/>
                  </a:lnTo>
                  <a:lnTo>
                    <a:pt x="10" y="91"/>
                  </a:lnTo>
                  <a:lnTo>
                    <a:pt x="8" y="90"/>
                  </a:lnTo>
                  <a:lnTo>
                    <a:pt x="4" y="89"/>
                  </a:lnTo>
                  <a:lnTo>
                    <a:pt x="2" y="88"/>
                  </a:lnTo>
                  <a:lnTo>
                    <a:pt x="1" y="85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9" y="1"/>
                  </a:lnTo>
                  <a:lnTo>
                    <a:pt x="60" y="3"/>
                  </a:lnTo>
                  <a:lnTo>
                    <a:pt x="61" y="5"/>
                  </a:lnTo>
                  <a:lnTo>
                    <a:pt x="64" y="9"/>
                  </a:lnTo>
                  <a:lnTo>
                    <a:pt x="64" y="13"/>
                  </a:lnTo>
                  <a:lnTo>
                    <a:pt x="64" y="18"/>
                  </a:lnTo>
                  <a:lnTo>
                    <a:pt x="64" y="73"/>
                  </a:lnTo>
                  <a:lnTo>
                    <a:pt x="64" y="77"/>
                  </a:lnTo>
                  <a:lnTo>
                    <a:pt x="64" y="81"/>
                  </a:lnTo>
                  <a:lnTo>
                    <a:pt x="61" y="85"/>
                  </a:lnTo>
                  <a:lnTo>
                    <a:pt x="61" y="87"/>
                  </a:lnTo>
                  <a:lnTo>
                    <a:pt x="59" y="89"/>
                  </a:lnTo>
                  <a:lnTo>
                    <a:pt x="56" y="89"/>
                  </a:lnTo>
                  <a:lnTo>
                    <a:pt x="53" y="91"/>
                  </a:lnTo>
                  <a:lnTo>
                    <a:pt x="48" y="91"/>
                  </a:lnTo>
                  <a:lnTo>
                    <a:pt x="14" y="91"/>
                  </a:lnTo>
                  <a:lnTo>
                    <a:pt x="55" y="77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372880" y="5032440"/>
              <a:ext cx="93600" cy="428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3" y="11"/>
                  </a:moveTo>
                  <a:lnTo>
                    <a:pt x="10" y="11"/>
                  </a:lnTo>
                  <a:lnTo>
                    <a:pt x="10" y="26"/>
                  </a:lnTo>
                  <a:lnTo>
                    <a:pt x="3" y="26"/>
                  </a:lnTo>
                  <a:lnTo>
                    <a:pt x="0" y="0"/>
                  </a:lnTo>
                  <a:lnTo>
                    <a:pt x="63" y="0"/>
                  </a:lnTo>
                  <a:lnTo>
                    <a:pt x="63" y="11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60600" y="3657600"/>
              <a:ext cx="94680" cy="42840"/>
            </a:xfrm>
            <a:custGeom>
              <a:avLst/>
              <a:gdLst/>
              <a:ahLst/>
              <a:rect l="l" t="t" r="r" b="b"/>
              <a:pathLst>
                <a:path w="65" h="27">
                  <a:moveTo>
                    <a:pt x="64" y="11"/>
                  </a:moveTo>
                  <a:lnTo>
                    <a:pt x="10" y="11"/>
                  </a:lnTo>
                  <a:lnTo>
                    <a:pt x="10" y="26"/>
                  </a:lnTo>
                  <a:lnTo>
                    <a:pt x="3" y="26"/>
                  </a:lnTo>
                  <a:lnTo>
                    <a:pt x="0" y="0"/>
                  </a:lnTo>
                  <a:lnTo>
                    <a:pt x="64" y="0"/>
                  </a:lnTo>
                  <a:lnTo>
                    <a:pt x="64" y="11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372880" y="4152960"/>
              <a:ext cx="93600" cy="146160"/>
            </a:xfrm>
            <a:custGeom>
              <a:avLst/>
              <a:gdLst/>
              <a:ahLst/>
              <a:rect l="l" t="t" r="r" b="b"/>
              <a:pathLst>
                <a:path w="64" h="92">
                  <a:moveTo>
                    <a:pt x="54" y="78"/>
                  </a:moveTo>
                  <a:lnTo>
                    <a:pt x="54" y="14"/>
                  </a:lnTo>
                  <a:lnTo>
                    <a:pt x="8" y="14"/>
                  </a:lnTo>
                  <a:lnTo>
                    <a:pt x="8" y="78"/>
                  </a:lnTo>
                  <a:lnTo>
                    <a:pt x="54" y="78"/>
                  </a:lnTo>
                  <a:lnTo>
                    <a:pt x="13" y="91"/>
                  </a:lnTo>
                  <a:lnTo>
                    <a:pt x="10" y="91"/>
                  </a:lnTo>
                  <a:lnTo>
                    <a:pt x="8" y="91"/>
                  </a:lnTo>
                  <a:lnTo>
                    <a:pt x="4" y="90"/>
                  </a:lnTo>
                  <a:lnTo>
                    <a:pt x="3" y="89"/>
                  </a:lnTo>
                  <a:lnTo>
                    <a:pt x="1" y="86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1" y="7"/>
                  </a:lnTo>
                  <a:lnTo>
                    <a:pt x="3" y="4"/>
                  </a:lnTo>
                  <a:lnTo>
                    <a:pt x="4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4" y="1"/>
                  </a:lnTo>
                  <a:lnTo>
                    <a:pt x="58" y="2"/>
                  </a:lnTo>
                  <a:lnTo>
                    <a:pt x="59" y="4"/>
                  </a:lnTo>
                  <a:lnTo>
                    <a:pt x="61" y="7"/>
                  </a:lnTo>
                  <a:lnTo>
                    <a:pt x="63" y="10"/>
                  </a:lnTo>
                  <a:lnTo>
                    <a:pt x="63" y="14"/>
                  </a:lnTo>
                  <a:lnTo>
                    <a:pt x="63" y="20"/>
                  </a:lnTo>
                  <a:lnTo>
                    <a:pt x="63" y="74"/>
                  </a:lnTo>
                  <a:lnTo>
                    <a:pt x="63" y="78"/>
                  </a:lnTo>
                  <a:lnTo>
                    <a:pt x="63" y="82"/>
                  </a:lnTo>
                  <a:lnTo>
                    <a:pt x="61" y="86"/>
                  </a:lnTo>
                  <a:lnTo>
                    <a:pt x="60" y="88"/>
                  </a:lnTo>
                  <a:lnTo>
                    <a:pt x="58" y="90"/>
                  </a:lnTo>
                  <a:lnTo>
                    <a:pt x="55" y="90"/>
                  </a:lnTo>
                  <a:lnTo>
                    <a:pt x="52" y="91"/>
                  </a:lnTo>
                  <a:lnTo>
                    <a:pt x="49" y="91"/>
                  </a:lnTo>
                  <a:lnTo>
                    <a:pt x="13" y="91"/>
                  </a:lnTo>
                  <a:lnTo>
                    <a:pt x="54" y="78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372880" y="4332240"/>
              <a:ext cx="93600" cy="138240"/>
            </a:xfrm>
            <a:custGeom>
              <a:avLst/>
              <a:gdLst/>
              <a:ahLst/>
              <a:rect l="l" t="t" r="r" b="b"/>
              <a:pathLst>
                <a:path w="64" h="87">
                  <a:moveTo>
                    <a:pt x="12" y="82"/>
                  </a:moveTo>
                  <a:lnTo>
                    <a:pt x="9" y="82"/>
                  </a:lnTo>
                  <a:lnTo>
                    <a:pt x="7" y="81"/>
                  </a:lnTo>
                  <a:lnTo>
                    <a:pt x="3" y="79"/>
                  </a:lnTo>
                  <a:lnTo>
                    <a:pt x="2" y="78"/>
                  </a:lnTo>
                  <a:lnTo>
                    <a:pt x="1" y="76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3" y="7"/>
                  </a:lnTo>
                  <a:lnTo>
                    <a:pt x="24" y="8"/>
                  </a:lnTo>
                  <a:lnTo>
                    <a:pt x="25" y="10"/>
                  </a:lnTo>
                  <a:lnTo>
                    <a:pt x="27" y="13"/>
                  </a:lnTo>
                  <a:lnTo>
                    <a:pt x="29" y="15"/>
                  </a:lnTo>
                  <a:lnTo>
                    <a:pt x="54" y="69"/>
                  </a:lnTo>
                  <a:lnTo>
                    <a:pt x="54" y="14"/>
                  </a:lnTo>
                  <a:lnTo>
                    <a:pt x="42" y="14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56" y="1"/>
                  </a:lnTo>
                  <a:lnTo>
                    <a:pt x="59" y="2"/>
                  </a:lnTo>
                  <a:lnTo>
                    <a:pt x="60" y="4"/>
                  </a:lnTo>
                  <a:lnTo>
                    <a:pt x="61" y="7"/>
                  </a:lnTo>
                  <a:lnTo>
                    <a:pt x="63" y="10"/>
                  </a:lnTo>
                  <a:lnTo>
                    <a:pt x="63" y="14"/>
                  </a:lnTo>
                  <a:lnTo>
                    <a:pt x="63" y="19"/>
                  </a:lnTo>
                  <a:lnTo>
                    <a:pt x="63" y="86"/>
                  </a:lnTo>
                  <a:lnTo>
                    <a:pt x="59" y="86"/>
                  </a:lnTo>
                  <a:lnTo>
                    <a:pt x="58" y="86"/>
                  </a:lnTo>
                  <a:lnTo>
                    <a:pt x="55" y="85"/>
                  </a:lnTo>
                  <a:lnTo>
                    <a:pt x="54" y="84"/>
                  </a:lnTo>
                  <a:lnTo>
                    <a:pt x="53" y="84"/>
                  </a:lnTo>
                  <a:lnTo>
                    <a:pt x="52" y="83"/>
                  </a:lnTo>
                  <a:lnTo>
                    <a:pt x="50" y="81"/>
                  </a:lnTo>
                  <a:lnTo>
                    <a:pt x="49" y="78"/>
                  </a:lnTo>
                  <a:lnTo>
                    <a:pt x="48" y="76"/>
                  </a:lnTo>
                  <a:lnTo>
                    <a:pt x="21" y="19"/>
                  </a:lnTo>
                  <a:lnTo>
                    <a:pt x="8" y="19"/>
                  </a:lnTo>
                  <a:lnTo>
                    <a:pt x="8" y="67"/>
                  </a:lnTo>
                  <a:lnTo>
                    <a:pt x="23" y="67"/>
                  </a:lnTo>
                  <a:lnTo>
                    <a:pt x="21" y="82"/>
                  </a:lnTo>
                  <a:lnTo>
                    <a:pt x="12" y="82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365320" y="1103400"/>
              <a:ext cx="97920" cy="147600"/>
            </a:xfrm>
            <a:custGeom>
              <a:avLst/>
              <a:gdLst/>
              <a:ahLst/>
              <a:rect l="l" t="t" r="r" b="b"/>
              <a:pathLst>
                <a:path w="67" h="93">
                  <a:moveTo>
                    <a:pt x="57" y="78"/>
                  </a:moveTo>
                  <a:lnTo>
                    <a:pt x="57" y="14"/>
                  </a:lnTo>
                  <a:lnTo>
                    <a:pt x="9" y="14"/>
                  </a:lnTo>
                  <a:lnTo>
                    <a:pt x="9" y="78"/>
                  </a:lnTo>
                  <a:lnTo>
                    <a:pt x="57" y="78"/>
                  </a:lnTo>
                  <a:lnTo>
                    <a:pt x="16" y="92"/>
                  </a:lnTo>
                  <a:lnTo>
                    <a:pt x="11" y="92"/>
                  </a:lnTo>
                  <a:lnTo>
                    <a:pt x="8" y="91"/>
                  </a:lnTo>
                  <a:lnTo>
                    <a:pt x="6" y="90"/>
                  </a:lnTo>
                  <a:lnTo>
                    <a:pt x="3" y="89"/>
                  </a:lnTo>
                  <a:lnTo>
                    <a:pt x="2" y="87"/>
                  </a:lnTo>
                  <a:lnTo>
                    <a:pt x="1" y="83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2" y="7"/>
                  </a:lnTo>
                  <a:lnTo>
                    <a:pt x="3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2"/>
                  </a:lnTo>
                  <a:lnTo>
                    <a:pt x="62" y="3"/>
                  </a:lnTo>
                  <a:lnTo>
                    <a:pt x="63" y="7"/>
                  </a:lnTo>
                  <a:lnTo>
                    <a:pt x="64" y="9"/>
                  </a:lnTo>
                  <a:lnTo>
                    <a:pt x="66" y="14"/>
                  </a:lnTo>
                  <a:lnTo>
                    <a:pt x="66" y="19"/>
                  </a:lnTo>
                  <a:lnTo>
                    <a:pt x="66" y="73"/>
                  </a:lnTo>
                  <a:lnTo>
                    <a:pt x="66" y="79"/>
                  </a:lnTo>
                  <a:lnTo>
                    <a:pt x="64" y="82"/>
                  </a:lnTo>
                  <a:lnTo>
                    <a:pt x="63" y="87"/>
                  </a:lnTo>
                  <a:lnTo>
                    <a:pt x="63" y="88"/>
                  </a:lnTo>
                  <a:lnTo>
                    <a:pt x="60" y="90"/>
                  </a:lnTo>
                  <a:lnTo>
                    <a:pt x="58" y="91"/>
                  </a:lnTo>
                  <a:lnTo>
                    <a:pt x="55" y="92"/>
                  </a:lnTo>
                  <a:lnTo>
                    <a:pt x="49" y="92"/>
                  </a:lnTo>
                  <a:lnTo>
                    <a:pt x="16" y="92"/>
                  </a:lnTo>
                  <a:lnTo>
                    <a:pt x="57" y="78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365320" y="1292400"/>
              <a:ext cx="99360" cy="136440"/>
            </a:xfrm>
            <a:custGeom>
              <a:avLst/>
              <a:gdLst/>
              <a:ahLst/>
              <a:rect l="l" t="t" r="r" b="b"/>
              <a:pathLst>
                <a:path w="68" h="86">
                  <a:moveTo>
                    <a:pt x="54" y="85"/>
                  </a:moveTo>
                  <a:lnTo>
                    <a:pt x="54" y="82"/>
                  </a:lnTo>
                  <a:lnTo>
                    <a:pt x="54" y="80"/>
                  </a:lnTo>
                  <a:lnTo>
                    <a:pt x="55" y="76"/>
                  </a:lnTo>
                  <a:lnTo>
                    <a:pt x="55" y="74"/>
                  </a:lnTo>
                  <a:lnTo>
                    <a:pt x="55" y="71"/>
                  </a:lnTo>
                  <a:lnTo>
                    <a:pt x="56" y="69"/>
                  </a:lnTo>
                  <a:lnTo>
                    <a:pt x="56" y="66"/>
                  </a:lnTo>
                  <a:lnTo>
                    <a:pt x="56" y="62"/>
                  </a:lnTo>
                  <a:lnTo>
                    <a:pt x="57" y="60"/>
                  </a:lnTo>
                  <a:lnTo>
                    <a:pt x="57" y="58"/>
                  </a:lnTo>
                  <a:lnTo>
                    <a:pt x="57" y="55"/>
                  </a:lnTo>
                  <a:lnTo>
                    <a:pt x="57" y="53"/>
                  </a:lnTo>
                  <a:lnTo>
                    <a:pt x="57" y="49"/>
                  </a:lnTo>
                  <a:lnTo>
                    <a:pt x="57" y="47"/>
                  </a:lnTo>
                  <a:lnTo>
                    <a:pt x="57" y="45"/>
                  </a:lnTo>
                  <a:lnTo>
                    <a:pt x="57" y="43"/>
                  </a:lnTo>
                  <a:lnTo>
                    <a:pt x="57" y="39"/>
                  </a:lnTo>
                  <a:lnTo>
                    <a:pt x="57" y="37"/>
                  </a:lnTo>
                  <a:lnTo>
                    <a:pt x="57" y="32"/>
                  </a:lnTo>
                  <a:lnTo>
                    <a:pt x="57" y="30"/>
                  </a:lnTo>
                  <a:lnTo>
                    <a:pt x="56" y="27"/>
                  </a:lnTo>
                  <a:lnTo>
                    <a:pt x="55" y="25"/>
                  </a:lnTo>
                  <a:lnTo>
                    <a:pt x="55" y="23"/>
                  </a:lnTo>
                  <a:lnTo>
                    <a:pt x="55" y="22"/>
                  </a:lnTo>
                  <a:lnTo>
                    <a:pt x="54" y="18"/>
                  </a:lnTo>
                  <a:lnTo>
                    <a:pt x="50" y="16"/>
                  </a:lnTo>
                  <a:lnTo>
                    <a:pt x="48" y="15"/>
                  </a:lnTo>
                  <a:lnTo>
                    <a:pt x="45" y="14"/>
                  </a:lnTo>
                  <a:lnTo>
                    <a:pt x="41" y="15"/>
                  </a:lnTo>
                  <a:lnTo>
                    <a:pt x="38" y="16"/>
                  </a:lnTo>
                  <a:lnTo>
                    <a:pt x="36" y="18"/>
                  </a:lnTo>
                  <a:lnTo>
                    <a:pt x="35" y="22"/>
                  </a:lnTo>
                  <a:lnTo>
                    <a:pt x="34" y="23"/>
                  </a:lnTo>
                  <a:lnTo>
                    <a:pt x="34" y="26"/>
                  </a:lnTo>
                  <a:lnTo>
                    <a:pt x="32" y="28"/>
                  </a:lnTo>
                  <a:lnTo>
                    <a:pt x="31" y="30"/>
                  </a:lnTo>
                  <a:lnTo>
                    <a:pt x="31" y="33"/>
                  </a:lnTo>
                  <a:lnTo>
                    <a:pt x="31" y="37"/>
                  </a:lnTo>
                  <a:lnTo>
                    <a:pt x="31" y="40"/>
                  </a:lnTo>
                  <a:lnTo>
                    <a:pt x="31" y="44"/>
                  </a:lnTo>
                  <a:lnTo>
                    <a:pt x="31" y="46"/>
                  </a:lnTo>
                  <a:lnTo>
                    <a:pt x="31" y="48"/>
                  </a:lnTo>
                  <a:lnTo>
                    <a:pt x="31" y="51"/>
                  </a:lnTo>
                  <a:lnTo>
                    <a:pt x="31" y="54"/>
                  </a:lnTo>
                  <a:lnTo>
                    <a:pt x="31" y="56"/>
                  </a:lnTo>
                  <a:lnTo>
                    <a:pt x="31" y="58"/>
                  </a:lnTo>
                  <a:lnTo>
                    <a:pt x="32" y="61"/>
                  </a:lnTo>
                  <a:lnTo>
                    <a:pt x="32" y="63"/>
                  </a:lnTo>
                  <a:lnTo>
                    <a:pt x="32" y="66"/>
                  </a:lnTo>
                  <a:lnTo>
                    <a:pt x="34" y="69"/>
                  </a:lnTo>
                  <a:lnTo>
                    <a:pt x="34" y="71"/>
                  </a:lnTo>
                  <a:lnTo>
                    <a:pt x="34" y="74"/>
                  </a:lnTo>
                  <a:lnTo>
                    <a:pt x="35" y="77"/>
                  </a:lnTo>
                  <a:lnTo>
                    <a:pt x="35" y="80"/>
                  </a:lnTo>
                  <a:lnTo>
                    <a:pt x="35" y="83"/>
                  </a:lnTo>
                  <a:lnTo>
                    <a:pt x="35" y="85"/>
                  </a:lnTo>
                  <a:lnTo>
                    <a:pt x="0" y="81"/>
                  </a:lnTo>
                  <a:lnTo>
                    <a:pt x="0" y="13"/>
                  </a:lnTo>
                  <a:lnTo>
                    <a:pt x="9" y="14"/>
                  </a:lnTo>
                  <a:lnTo>
                    <a:pt x="9" y="70"/>
                  </a:lnTo>
                  <a:lnTo>
                    <a:pt x="25" y="73"/>
                  </a:lnTo>
                  <a:lnTo>
                    <a:pt x="25" y="70"/>
                  </a:lnTo>
                  <a:lnTo>
                    <a:pt x="24" y="66"/>
                  </a:lnTo>
                  <a:lnTo>
                    <a:pt x="22" y="61"/>
                  </a:lnTo>
                  <a:lnTo>
                    <a:pt x="22" y="57"/>
                  </a:lnTo>
                  <a:lnTo>
                    <a:pt x="22" y="54"/>
                  </a:lnTo>
                  <a:lnTo>
                    <a:pt x="22" y="49"/>
                  </a:lnTo>
                  <a:lnTo>
                    <a:pt x="21" y="45"/>
                  </a:lnTo>
                  <a:lnTo>
                    <a:pt x="21" y="42"/>
                  </a:lnTo>
                  <a:lnTo>
                    <a:pt x="21" y="37"/>
                  </a:lnTo>
                  <a:lnTo>
                    <a:pt x="22" y="32"/>
                  </a:lnTo>
                  <a:lnTo>
                    <a:pt x="22" y="28"/>
                  </a:lnTo>
                  <a:lnTo>
                    <a:pt x="22" y="23"/>
                  </a:lnTo>
                  <a:lnTo>
                    <a:pt x="24" y="19"/>
                  </a:lnTo>
                  <a:lnTo>
                    <a:pt x="25" y="16"/>
                  </a:lnTo>
                  <a:lnTo>
                    <a:pt x="27" y="13"/>
                  </a:lnTo>
                  <a:lnTo>
                    <a:pt x="28" y="10"/>
                  </a:lnTo>
                  <a:lnTo>
                    <a:pt x="30" y="5"/>
                  </a:lnTo>
                  <a:lnTo>
                    <a:pt x="35" y="2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5" y="2"/>
                  </a:lnTo>
                  <a:lnTo>
                    <a:pt x="58" y="5"/>
                  </a:lnTo>
                  <a:lnTo>
                    <a:pt x="61" y="10"/>
                  </a:lnTo>
                  <a:lnTo>
                    <a:pt x="61" y="13"/>
                  </a:lnTo>
                  <a:lnTo>
                    <a:pt x="63" y="16"/>
                  </a:lnTo>
                  <a:lnTo>
                    <a:pt x="64" y="20"/>
                  </a:lnTo>
                  <a:lnTo>
                    <a:pt x="64" y="25"/>
                  </a:lnTo>
                  <a:lnTo>
                    <a:pt x="65" y="29"/>
                  </a:lnTo>
                  <a:lnTo>
                    <a:pt x="65" y="34"/>
                  </a:lnTo>
                  <a:lnTo>
                    <a:pt x="67" y="40"/>
                  </a:lnTo>
                  <a:lnTo>
                    <a:pt x="67" y="45"/>
                  </a:lnTo>
                  <a:lnTo>
                    <a:pt x="67" y="49"/>
                  </a:lnTo>
                  <a:lnTo>
                    <a:pt x="67" y="53"/>
                  </a:lnTo>
                  <a:lnTo>
                    <a:pt x="67" y="57"/>
                  </a:lnTo>
                  <a:lnTo>
                    <a:pt x="67" y="61"/>
                  </a:lnTo>
                  <a:lnTo>
                    <a:pt x="67" y="63"/>
                  </a:lnTo>
                  <a:lnTo>
                    <a:pt x="65" y="66"/>
                  </a:lnTo>
                  <a:lnTo>
                    <a:pt x="65" y="69"/>
                  </a:lnTo>
                  <a:lnTo>
                    <a:pt x="64" y="71"/>
                  </a:lnTo>
                  <a:lnTo>
                    <a:pt x="64" y="73"/>
                  </a:lnTo>
                  <a:lnTo>
                    <a:pt x="64" y="75"/>
                  </a:lnTo>
                  <a:lnTo>
                    <a:pt x="63" y="79"/>
                  </a:lnTo>
                  <a:lnTo>
                    <a:pt x="63" y="82"/>
                  </a:lnTo>
                  <a:lnTo>
                    <a:pt x="54" y="85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72880" y="3313080"/>
              <a:ext cx="93600" cy="147600"/>
            </a:xfrm>
            <a:custGeom>
              <a:avLst/>
              <a:gdLst/>
              <a:ahLst/>
              <a:rect l="l" t="t" r="r" b="b"/>
              <a:pathLst>
                <a:path w="64" h="93">
                  <a:moveTo>
                    <a:pt x="54" y="78"/>
                  </a:moveTo>
                  <a:lnTo>
                    <a:pt x="54" y="14"/>
                  </a:lnTo>
                  <a:lnTo>
                    <a:pt x="8" y="14"/>
                  </a:lnTo>
                  <a:lnTo>
                    <a:pt x="8" y="78"/>
                  </a:lnTo>
                  <a:lnTo>
                    <a:pt x="54" y="78"/>
                  </a:lnTo>
                  <a:lnTo>
                    <a:pt x="13" y="92"/>
                  </a:lnTo>
                  <a:lnTo>
                    <a:pt x="10" y="92"/>
                  </a:lnTo>
                  <a:lnTo>
                    <a:pt x="8" y="91"/>
                  </a:lnTo>
                  <a:lnTo>
                    <a:pt x="4" y="90"/>
                  </a:lnTo>
                  <a:lnTo>
                    <a:pt x="3" y="89"/>
                  </a:lnTo>
                  <a:lnTo>
                    <a:pt x="1" y="87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3"/>
                  </a:lnTo>
                  <a:lnTo>
                    <a:pt x="4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2"/>
                  </a:lnTo>
                  <a:lnTo>
                    <a:pt x="59" y="3"/>
                  </a:lnTo>
                  <a:lnTo>
                    <a:pt x="61" y="7"/>
                  </a:lnTo>
                  <a:lnTo>
                    <a:pt x="63" y="9"/>
                  </a:lnTo>
                  <a:lnTo>
                    <a:pt x="63" y="14"/>
                  </a:lnTo>
                  <a:lnTo>
                    <a:pt x="63" y="19"/>
                  </a:lnTo>
                  <a:lnTo>
                    <a:pt x="63" y="73"/>
                  </a:lnTo>
                  <a:lnTo>
                    <a:pt x="63" y="79"/>
                  </a:lnTo>
                  <a:lnTo>
                    <a:pt x="63" y="82"/>
                  </a:lnTo>
                  <a:lnTo>
                    <a:pt x="61" y="87"/>
                  </a:lnTo>
                  <a:lnTo>
                    <a:pt x="60" y="88"/>
                  </a:lnTo>
                  <a:lnTo>
                    <a:pt x="58" y="90"/>
                  </a:lnTo>
                  <a:lnTo>
                    <a:pt x="55" y="91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13" y="92"/>
                  </a:lnTo>
                  <a:lnTo>
                    <a:pt x="54" y="78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372880" y="3490920"/>
              <a:ext cx="93600" cy="135000"/>
            </a:xfrm>
            <a:custGeom>
              <a:avLst/>
              <a:gdLst/>
              <a:ahLst/>
              <a:rect l="l" t="t" r="r" b="b"/>
              <a:pathLst>
                <a:path w="64" h="85">
                  <a:moveTo>
                    <a:pt x="63" y="66"/>
                  </a:moveTo>
                  <a:lnTo>
                    <a:pt x="63" y="71"/>
                  </a:lnTo>
                  <a:lnTo>
                    <a:pt x="63" y="74"/>
                  </a:lnTo>
                  <a:lnTo>
                    <a:pt x="61" y="78"/>
                  </a:lnTo>
                  <a:lnTo>
                    <a:pt x="60" y="80"/>
                  </a:lnTo>
                  <a:lnTo>
                    <a:pt x="59" y="81"/>
                  </a:lnTo>
                  <a:lnTo>
                    <a:pt x="56" y="82"/>
                  </a:lnTo>
                  <a:lnTo>
                    <a:pt x="54" y="83"/>
                  </a:lnTo>
                  <a:lnTo>
                    <a:pt x="51" y="84"/>
                  </a:lnTo>
                  <a:lnTo>
                    <a:pt x="45" y="84"/>
                  </a:lnTo>
                  <a:lnTo>
                    <a:pt x="43" y="69"/>
                  </a:lnTo>
                  <a:lnTo>
                    <a:pt x="54" y="69"/>
                  </a:lnTo>
                  <a:lnTo>
                    <a:pt x="54" y="23"/>
                  </a:lnTo>
                  <a:lnTo>
                    <a:pt x="54" y="19"/>
                  </a:lnTo>
                  <a:lnTo>
                    <a:pt x="54" y="18"/>
                  </a:lnTo>
                  <a:lnTo>
                    <a:pt x="53" y="16"/>
                  </a:lnTo>
                  <a:lnTo>
                    <a:pt x="53" y="15"/>
                  </a:lnTo>
                  <a:lnTo>
                    <a:pt x="52" y="15"/>
                  </a:lnTo>
                  <a:lnTo>
                    <a:pt x="50" y="14"/>
                  </a:lnTo>
                  <a:lnTo>
                    <a:pt x="49" y="14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5" y="18"/>
                  </a:lnTo>
                  <a:lnTo>
                    <a:pt x="34" y="19"/>
                  </a:lnTo>
                  <a:lnTo>
                    <a:pt x="34" y="23"/>
                  </a:lnTo>
                  <a:lnTo>
                    <a:pt x="34" y="52"/>
                  </a:lnTo>
                  <a:lnTo>
                    <a:pt x="25" y="52"/>
                  </a:lnTo>
                  <a:lnTo>
                    <a:pt x="25" y="25"/>
                  </a:lnTo>
                  <a:lnTo>
                    <a:pt x="25" y="24"/>
                  </a:lnTo>
                  <a:lnTo>
                    <a:pt x="24" y="22"/>
                  </a:lnTo>
                  <a:lnTo>
                    <a:pt x="24" y="20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2" y="18"/>
                  </a:lnTo>
                  <a:lnTo>
                    <a:pt x="21" y="17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8" y="69"/>
                  </a:lnTo>
                  <a:lnTo>
                    <a:pt x="18" y="69"/>
                  </a:lnTo>
                  <a:lnTo>
                    <a:pt x="17" y="82"/>
                  </a:lnTo>
                  <a:lnTo>
                    <a:pt x="12" y="82"/>
                  </a:lnTo>
                  <a:lnTo>
                    <a:pt x="9" y="82"/>
                  </a:lnTo>
                  <a:lnTo>
                    <a:pt x="7" y="81"/>
                  </a:lnTo>
                  <a:lnTo>
                    <a:pt x="3" y="81"/>
                  </a:lnTo>
                  <a:lnTo>
                    <a:pt x="2" y="79"/>
                  </a:lnTo>
                  <a:lnTo>
                    <a:pt x="1" y="76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5" y="6"/>
                  </a:lnTo>
                  <a:lnTo>
                    <a:pt x="27" y="9"/>
                  </a:lnTo>
                  <a:lnTo>
                    <a:pt x="28" y="11"/>
                  </a:lnTo>
                  <a:lnTo>
                    <a:pt x="29" y="14"/>
                  </a:lnTo>
                  <a:lnTo>
                    <a:pt x="29" y="16"/>
                  </a:lnTo>
                  <a:lnTo>
                    <a:pt x="30" y="13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8" y="2"/>
                  </a:lnTo>
                  <a:lnTo>
                    <a:pt x="40" y="1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3" y="1"/>
                  </a:lnTo>
                  <a:lnTo>
                    <a:pt x="56" y="2"/>
                  </a:lnTo>
                  <a:lnTo>
                    <a:pt x="59" y="3"/>
                  </a:lnTo>
                  <a:lnTo>
                    <a:pt x="60" y="4"/>
                  </a:lnTo>
                  <a:lnTo>
                    <a:pt x="61" y="8"/>
                  </a:lnTo>
                  <a:lnTo>
                    <a:pt x="63" y="11"/>
                  </a:lnTo>
                  <a:lnTo>
                    <a:pt x="63" y="15"/>
                  </a:lnTo>
                  <a:lnTo>
                    <a:pt x="63" y="20"/>
                  </a:lnTo>
                  <a:lnTo>
                    <a:pt x="63" y="6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372880" y="2305080"/>
              <a:ext cx="93600" cy="147600"/>
            </a:xfrm>
            <a:custGeom>
              <a:avLst/>
              <a:gdLst/>
              <a:ahLst/>
              <a:rect l="l" t="t" r="r" b="b"/>
              <a:pathLst>
                <a:path w="64" h="93">
                  <a:moveTo>
                    <a:pt x="54" y="78"/>
                  </a:moveTo>
                  <a:lnTo>
                    <a:pt x="54" y="14"/>
                  </a:lnTo>
                  <a:lnTo>
                    <a:pt x="8" y="14"/>
                  </a:lnTo>
                  <a:lnTo>
                    <a:pt x="8" y="78"/>
                  </a:lnTo>
                  <a:lnTo>
                    <a:pt x="54" y="78"/>
                  </a:lnTo>
                  <a:lnTo>
                    <a:pt x="13" y="92"/>
                  </a:lnTo>
                  <a:lnTo>
                    <a:pt x="10" y="92"/>
                  </a:lnTo>
                  <a:lnTo>
                    <a:pt x="8" y="91"/>
                  </a:lnTo>
                  <a:lnTo>
                    <a:pt x="4" y="90"/>
                  </a:lnTo>
                  <a:lnTo>
                    <a:pt x="3" y="89"/>
                  </a:lnTo>
                  <a:lnTo>
                    <a:pt x="1" y="87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1" y="7"/>
                  </a:lnTo>
                  <a:lnTo>
                    <a:pt x="3" y="3"/>
                  </a:lnTo>
                  <a:lnTo>
                    <a:pt x="4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4" y="1"/>
                  </a:lnTo>
                  <a:lnTo>
                    <a:pt x="58" y="2"/>
                  </a:lnTo>
                  <a:lnTo>
                    <a:pt x="59" y="3"/>
                  </a:lnTo>
                  <a:lnTo>
                    <a:pt x="61" y="7"/>
                  </a:lnTo>
                  <a:lnTo>
                    <a:pt x="63" y="10"/>
                  </a:lnTo>
                  <a:lnTo>
                    <a:pt x="63" y="14"/>
                  </a:lnTo>
                  <a:lnTo>
                    <a:pt x="63" y="19"/>
                  </a:lnTo>
                  <a:lnTo>
                    <a:pt x="63" y="73"/>
                  </a:lnTo>
                  <a:lnTo>
                    <a:pt x="63" y="79"/>
                  </a:lnTo>
                  <a:lnTo>
                    <a:pt x="63" y="82"/>
                  </a:lnTo>
                  <a:lnTo>
                    <a:pt x="61" y="87"/>
                  </a:lnTo>
                  <a:lnTo>
                    <a:pt x="60" y="89"/>
                  </a:lnTo>
                  <a:lnTo>
                    <a:pt x="58" y="90"/>
                  </a:lnTo>
                  <a:lnTo>
                    <a:pt x="55" y="91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13" y="92"/>
                  </a:lnTo>
                  <a:lnTo>
                    <a:pt x="54" y="78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372880" y="2484360"/>
              <a:ext cx="93600" cy="157320"/>
            </a:xfrm>
            <a:custGeom>
              <a:avLst/>
              <a:gdLst/>
              <a:ahLst/>
              <a:rect l="l" t="t" r="r" b="b"/>
              <a:pathLst>
                <a:path w="64" h="99">
                  <a:moveTo>
                    <a:pt x="63" y="33"/>
                  </a:moveTo>
                  <a:lnTo>
                    <a:pt x="49" y="33"/>
                  </a:lnTo>
                  <a:lnTo>
                    <a:pt x="49" y="98"/>
                  </a:lnTo>
                  <a:lnTo>
                    <a:pt x="39" y="98"/>
                  </a:lnTo>
                  <a:lnTo>
                    <a:pt x="0" y="37"/>
                  </a:lnTo>
                  <a:lnTo>
                    <a:pt x="0" y="21"/>
                  </a:lnTo>
                  <a:lnTo>
                    <a:pt x="39" y="21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49" y="21"/>
                  </a:lnTo>
                  <a:lnTo>
                    <a:pt x="63" y="21"/>
                  </a:lnTo>
                  <a:lnTo>
                    <a:pt x="63" y="33"/>
                  </a:lnTo>
                  <a:lnTo>
                    <a:pt x="39" y="33"/>
                  </a:lnTo>
                  <a:lnTo>
                    <a:pt x="7" y="33"/>
                  </a:lnTo>
                  <a:lnTo>
                    <a:pt x="39" y="83"/>
                  </a:lnTo>
                  <a:lnTo>
                    <a:pt x="39" y="33"/>
                  </a:lnTo>
                  <a:lnTo>
                    <a:pt x="63" y="33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030160" y="509760"/>
              <a:ext cx="267840" cy="368280"/>
            </a:xfrm>
            <a:custGeom>
              <a:avLst/>
              <a:gdLst/>
              <a:ahLst/>
              <a:rect l="l" t="t" r="r" b="b"/>
              <a:pathLst>
                <a:path w="183" h="232">
                  <a:moveTo>
                    <a:pt x="0" y="0"/>
                  </a:moveTo>
                  <a:lnTo>
                    <a:pt x="182" y="0"/>
                  </a:lnTo>
                  <a:lnTo>
                    <a:pt x="182" y="231"/>
                  </a:lnTo>
                  <a:lnTo>
                    <a:pt x="0" y="231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664120" y="46080"/>
              <a:ext cx="1080" cy="487440"/>
            </a:xfrm>
            <a:custGeom>
              <a:avLst/>
              <a:gdLst/>
              <a:ahLst/>
              <a:rect l="l" t="t" r="r" b="b"/>
              <a:pathLst>
                <a:path w="1" h="307">
                  <a:moveTo>
                    <a:pt x="0" y="306"/>
                  </a:moveTo>
                  <a:lnTo>
                    <a:pt x="0" y="0"/>
                  </a:lnTo>
                  <a:lnTo>
                    <a:pt x="0" y="306"/>
                  </a:lnTo>
                  <a:lnTo>
                    <a:pt x="0" y="30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397640" y="6019920"/>
            <a:ext cx="1531800" cy="609480"/>
            <a:chOff x="7397640" y="6019920"/>
            <a:chExt cx="1531800" cy="609480"/>
          </a:xfrm>
        </p:grpSpPr>
        <p:sp>
          <p:nvSpPr>
            <p:cNvPr id="430" name=""/>
            <p:cNvSpPr/>
            <p:nvPr/>
          </p:nvSpPr>
          <p:spPr>
            <a:xfrm>
              <a:off x="8552880" y="6019920"/>
              <a:ext cx="376560" cy="406440"/>
            </a:xfrm>
            <a:custGeom>
              <a:avLst/>
              <a:gdLst/>
              <a:ahLst/>
              <a:rect l="l" t="t" r="r" b="b"/>
              <a:pathLst>
                <a:path w="257" h="256">
                  <a:moveTo>
                    <a:pt x="192" y="126"/>
                  </a:moveTo>
                  <a:lnTo>
                    <a:pt x="198" y="126"/>
                  </a:lnTo>
                  <a:lnTo>
                    <a:pt x="202" y="126"/>
                  </a:lnTo>
                  <a:lnTo>
                    <a:pt x="204" y="126"/>
                  </a:lnTo>
                  <a:lnTo>
                    <a:pt x="206" y="124"/>
                  </a:lnTo>
                  <a:lnTo>
                    <a:pt x="206" y="83"/>
                  </a:lnTo>
                  <a:lnTo>
                    <a:pt x="210" y="83"/>
                  </a:lnTo>
                  <a:lnTo>
                    <a:pt x="210" y="124"/>
                  </a:lnTo>
                  <a:lnTo>
                    <a:pt x="210" y="126"/>
                  </a:lnTo>
                  <a:lnTo>
                    <a:pt x="214" y="126"/>
                  </a:lnTo>
                  <a:lnTo>
                    <a:pt x="214" y="85"/>
                  </a:lnTo>
                  <a:lnTo>
                    <a:pt x="212" y="85"/>
                  </a:lnTo>
                  <a:lnTo>
                    <a:pt x="212" y="81"/>
                  </a:lnTo>
                  <a:lnTo>
                    <a:pt x="204" y="81"/>
                  </a:lnTo>
                  <a:lnTo>
                    <a:pt x="204" y="89"/>
                  </a:lnTo>
                  <a:lnTo>
                    <a:pt x="202" y="89"/>
                  </a:lnTo>
                  <a:lnTo>
                    <a:pt x="200" y="81"/>
                  </a:lnTo>
                  <a:lnTo>
                    <a:pt x="198" y="79"/>
                  </a:lnTo>
                  <a:lnTo>
                    <a:pt x="196" y="77"/>
                  </a:lnTo>
                  <a:lnTo>
                    <a:pt x="198" y="77"/>
                  </a:lnTo>
                  <a:lnTo>
                    <a:pt x="198" y="75"/>
                  </a:lnTo>
                  <a:lnTo>
                    <a:pt x="202" y="77"/>
                  </a:lnTo>
                  <a:lnTo>
                    <a:pt x="204" y="79"/>
                  </a:lnTo>
                  <a:lnTo>
                    <a:pt x="206" y="79"/>
                  </a:lnTo>
                  <a:lnTo>
                    <a:pt x="210" y="77"/>
                  </a:lnTo>
                  <a:lnTo>
                    <a:pt x="212" y="75"/>
                  </a:lnTo>
                  <a:lnTo>
                    <a:pt x="214" y="73"/>
                  </a:lnTo>
                  <a:lnTo>
                    <a:pt x="210" y="67"/>
                  </a:lnTo>
                  <a:lnTo>
                    <a:pt x="212" y="65"/>
                  </a:lnTo>
                  <a:lnTo>
                    <a:pt x="210" y="61"/>
                  </a:lnTo>
                  <a:lnTo>
                    <a:pt x="204" y="53"/>
                  </a:lnTo>
                  <a:lnTo>
                    <a:pt x="198" y="45"/>
                  </a:lnTo>
                  <a:lnTo>
                    <a:pt x="194" y="41"/>
                  </a:lnTo>
                  <a:lnTo>
                    <a:pt x="190" y="39"/>
                  </a:lnTo>
                  <a:lnTo>
                    <a:pt x="186" y="37"/>
                  </a:lnTo>
                  <a:lnTo>
                    <a:pt x="181" y="37"/>
                  </a:lnTo>
                  <a:lnTo>
                    <a:pt x="171" y="41"/>
                  </a:lnTo>
                  <a:lnTo>
                    <a:pt x="169" y="35"/>
                  </a:lnTo>
                  <a:lnTo>
                    <a:pt x="169" y="33"/>
                  </a:lnTo>
                  <a:lnTo>
                    <a:pt x="167" y="30"/>
                  </a:lnTo>
                  <a:lnTo>
                    <a:pt x="165" y="30"/>
                  </a:lnTo>
                  <a:lnTo>
                    <a:pt x="163" y="30"/>
                  </a:lnTo>
                  <a:lnTo>
                    <a:pt x="161" y="30"/>
                  </a:lnTo>
                  <a:lnTo>
                    <a:pt x="157" y="33"/>
                  </a:lnTo>
                  <a:lnTo>
                    <a:pt x="157" y="35"/>
                  </a:lnTo>
                  <a:lnTo>
                    <a:pt x="157" y="37"/>
                  </a:lnTo>
                  <a:lnTo>
                    <a:pt x="157" y="39"/>
                  </a:lnTo>
                  <a:lnTo>
                    <a:pt x="155" y="41"/>
                  </a:lnTo>
                  <a:lnTo>
                    <a:pt x="151" y="41"/>
                  </a:lnTo>
                  <a:lnTo>
                    <a:pt x="149" y="39"/>
                  </a:lnTo>
                  <a:lnTo>
                    <a:pt x="149" y="37"/>
                  </a:lnTo>
                  <a:lnTo>
                    <a:pt x="147" y="35"/>
                  </a:lnTo>
                  <a:lnTo>
                    <a:pt x="151" y="30"/>
                  </a:lnTo>
                  <a:lnTo>
                    <a:pt x="151" y="24"/>
                  </a:lnTo>
                  <a:lnTo>
                    <a:pt x="151" y="20"/>
                  </a:lnTo>
                  <a:lnTo>
                    <a:pt x="147" y="16"/>
                  </a:lnTo>
                  <a:lnTo>
                    <a:pt x="145" y="12"/>
                  </a:lnTo>
                  <a:lnTo>
                    <a:pt x="139" y="10"/>
                  </a:lnTo>
                  <a:lnTo>
                    <a:pt x="135" y="8"/>
                  </a:lnTo>
                  <a:lnTo>
                    <a:pt x="130" y="8"/>
                  </a:lnTo>
                  <a:lnTo>
                    <a:pt x="124" y="8"/>
                  </a:lnTo>
                  <a:lnTo>
                    <a:pt x="120" y="10"/>
                  </a:lnTo>
                  <a:lnTo>
                    <a:pt x="118" y="10"/>
                  </a:lnTo>
                  <a:lnTo>
                    <a:pt x="114" y="12"/>
                  </a:lnTo>
                  <a:lnTo>
                    <a:pt x="112" y="16"/>
                  </a:lnTo>
                  <a:lnTo>
                    <a:pt x="108" y="20"/>
                  </a:lnTo>
                  <a:lnTo>
                    <a:pt x="108" y="22"/>
                  </a:lnTo>
                  <a:lnTo>
                    <a:pt x="108" y="26"/>
                  </a:lnTo>
                  <a:lnTo>
                    <a:pt x="108" y="28"/>
                  </a:lnTo>
                  <a:lnTo>
                    <a:pt x="110" y="33"/>
                  </a:lnTo>
                  <a:lnTo>
                    <a:pt x="112" y="37"/>
                  </a:lnTo>
                  <a:lnTo>
                    <a:pt x="110" y="39"/>
                  </a:lnTo>
                  <a:lnTo>
                    <a:pt x="108" y="39"/>
                  </a:lnTo>
                  <a:lnTo>
                    <a:pt x="106" y="41"/>
                  </a:lnTo>
                  <a:lnTo>
                    <a:pt x="104" y="41"/>
                  </a:lnTo>
                  <a:lnTo>
                    <a:pt x="102" y="39"/>
                  </a:lnTo>
                  <a:lnTo>
                    <a:pt x="102" y="35"/>
                  </a:lnTo>
                  <a:lnTo>
                    <a:pt x="100" y="30"/>
                  </a:lnTo>
                  <a:lnTo>
                    <a:pt x="96" y="28"/>
                  </a:lnTo>
                  <a:lnTo>
                    <a:pt x="92" y="30"/>
                  </a:lnTo>
                  <a:lnTo>
                    <a:pt x="90" y="33"/>
                  </a:lnTo>
                  <a:lnTo>
                    <a:pt x="90" y="37"/>
                  </a:lnTo>
                  <a:lnTo>
                    <a:pt x="90" y="41"/>
                  </a:lnTo>
                  <a:lnTo>
                    <a:pt x="88" y="41"/>
                  </a:lnTo>
                  <a:lnTo>
                    <a:pt x="81" y="39"/>
                  </a:lnTo>
                  <a:lnTo>
                    <a:pt x="77" y="39"/>
                  </a:lnTo>
                  <a:lnTo>
                    <a:pt x="73" y="37"/>
                  </a:lnTo>
                  <a:lnTo>
                    <a:pt x="67" y="41"/>
                  </a:lnTo>
                  <a:lnTo>
                    <a:pt x="63" y="45"/>
                  </a:lnTo>
                  <a:lnTo>
                    <a:pt x="55" y="53"/>
                  </a:lnTo>
                  <a:lnTo>
                    <a:pt x="49" y="61"/>
                  </a:lnTo>
                  <a:lnTo>
                    <a:pt x="47" y="65"/>
                  </a:lnTo>
                  <a:lnTo>
                    <a:pt x="49" y="69"/>
                  </a:lnTo>
                  <a:lnTo>
                    <a:pt x="47" y="71"/>
                  </a:lnTo>
                  <a:lnTo>
                    <a:pt x="47" y="75"/>
                  </a:lnTo>
                  <a:lnTo>
                    <a:pt x="49" y="77"/>
                  </a:lnTo>
                  <a:lnTo>
                    <a:pt x="51" y="77"/>
                  </a:lnTo>
                  <a:lnTo>
                    <a:pt x="55" y="79"/>
                  </a:lnTo>
                  <a:lnTo>
                    <a:pt x="57" y="77"/>
                  </a:lnTo>
                  <a:lnTo>
                    <a:pt x="61" y="75"/>
                  </a:lnTo>
                  <a:lnTo>
                    <a:pt x="65" y="77"/>
                  </a:lnTo>
                  <a:lnTo>
                    <a:pt x="63" y="79"/>
                  </a:lnTo>
                  <a:lnTo>
                    <a:pt x="61" y="79"/>
                  </a:lnTo>
                  <a:lnTo>
                    <a:pt x="61" y="81"/>
                  </a:lnTo>
                  <a:lnTo>
                    <a:pt x="61" y="85"/>
                  </a:lnTo>
                  <a:lnTo>
                    <a:pt x="61" y="87"/>
                  </a:lnTo>
                  <a:lnTo>
                    <a:pt x="59" y="89"/>
                  </a:lnTo>
                  <a:lnTo>
                    <a:pt x="59" y="91"/>
                  </a:lnTo>
                  <a:lnTo>
                    <a:pt x="57" y="91"/>
                  </a:lnTo>
                  <a:lnTo>
                    <a:pt x="57" y="89"/>
                  </a:lnTo>
                  <a:lnTo>
                    <a:pt x="57" y="85"/>
                  </a:lnTo>
                  <a:lnTo>
                    <a:pt x="53" y="85"/>
                  </a:lnTo>
                  <a:lnTo>
                    <a:pt x="53" y="81"/>
                  </a:lnTo>
                  <a:lnTo>
                    <a:pt x="45" y="81"/>
                  </a:lnTo>
                  <a:lnTo>
                    <a:pt x="45" y="122"/>
                  </a:lnTo>
                  <a:lnTo>
                    <a:pt x="45" y="126"/>
                  </a:lnTo>
                  <a:lnTo>
                    <a:pt x="47" y="130"/>
                  </a:lnTo>
                  <a:lnTo>
                    <a:pt x="49" y="132"/>
                  </a:lnTo>
                  <a:lnTo>
                    <a:pt x="53" y="134"/>
                  </a:lnTo>
                  <a:lnTo>
                    <a:pt x="59" y="132"/>
                  </a:lnTo>
                  <a:lnTo>
                    <a:pt x="59" y="134"/>
                  </a:lnTo>
                  <a:lnTo>
                    <a:pt x="51" y="148"/>
                  </a:lnTo>
                  <a:lnTo>
                    <a:pt x="51" y="152"/>
                  </a:lnTo>
                  <a:lnTo>
                    <a:pt x="51" y="154"/>
                  </a:lnTo>
                  <a:lnTo>
                    <a:pt x="51" y="158"/>
                  </a:lnTo>
                  <a:lnTo>
                    <a:pt x="53" y="165"/>
                  </a:lnTo>
                  <a:lnTo>
                    <a:pt x="59" y="175"/>
                  </a:lnTo>
                  <a:lnTo>
                    <a:pt x="67" y="187"/>
                  </a:lnTo>
                  <a:lnTo>
                    <a:pt x="71" y="189"/>
                  </a:lnTo>
                  <a:lnTo>
                    <a:pt x="73" y="189"/>
                  </a:lnTo>
                  <a:lnTo>
                    <a:pt x="77" y="195"/>
                  </a:lnTo>
                  <a:lnTo>
                    <a:pt x="81" y="199"/>
                  </a:lnTo>
                  <a:lnTo>
                    <a:pt x="86" y="201"/>
                  </a:lnTo>
                  <a:lnTo>
                    <a:pt x="90" y="201"/>
                  </a:lnTo>
                  <a:lnTo>
                    <a:pt x="88" y="205"/>
                  </a:lnTo>
                  <a:lnTo>
                    <a:pt x="86" y="205"/>
                  </a:lnTo>
                  <a:lnTo>
                    <a:pt x="83" y="203"/>
                  </a:lnTo>
                  <a:lnTo>
                    <a:pt x="83" y="201"/>
                  </a:lnTo>
                  <a:lnTo>
                    <a:pt x="81" y="199"/>
                  </a:lnTo>
                  <a:lnTo>
                    <a:pt x="77" y="199"/>
                  </a:lnTo>
                  <a:lnTo>
                    <a:pt x="73" y="201"/>
                  </a:lnTo>
                  <a:lnTo>
                    <a:pt x="71" y="205"/>
                  </a:lnTo>
                  <a:lnTo>
                    <a:pt x="71" y="207"/>
                  </a:lnTo>
                  <a:lnTo>
                    <a:pt x="71" y="209"/>
                  </a:lnTo>
                  <a:lnTo>
                    <a:pt x="75" y="213"/>
                  </a:lnTo>
                  <a:lnTo>
                    <a:pt x="79" y="217"/>
                  </a:lnTo>
                  <a:lnTo>
                    <a:pt x="94" y="225"/>
                  </a:lnTo>
                  <a:lnTo>
                    <a:pt x="98" y="225"/>
                  </a:lnTo>
                  <a:lnTo>
                    <a:pt x="100" y="225"/>
                  </a:lnTo>
                  <a:lnTo>
                    <a:pt x="102" y="223"/>
                  </a:lnTo>
                  <a:lnTo>
                    <a:pt x="104" y="221"/>
                  </a:lnTo>
                  <a:lnTo>
                    <a:pt x="106" y="215"/>
                  </a:lnTo>
                  <a:lnTo>
                    <a:pt x="108" y="211"/>
                  </a:lnTo>
                  <a:lnTo>
                    <a:pt x="110" y="211"/>
                  </a:lnTo>
                  <a:lnTo>
                    <a:pt x="114" y="223"/>
                  </a:lnTo>
                  <a:lnTo>
                    <a:pt x="118" y="228"/>
                  </a:lnTo>
                  <a:lnTo>
                    <a:pt x="118" y="232"/>
                  </a:lnTo>
                  <a:lnTo>
                    <a:pt x="120" y="234"/>
                  </a:lnTo>
                  <a:lnTo>
                    <a:pt x="122" y="236"/>
                  </a:lnTo>
                  <a:lnTo>
                    <a:pt x="122" y="238"/>
                  </a:lnTo>
                  <a:lnTo>
                    <a:pt x="124" y="242"/>
                  </a:lnTo>
                  <a:lnTo>
                    <a:pt x="128" y="244"/>
                  </a:lnTo>
                  <a:lnTo>
                    <a:pt x="132" y="242"/>
                  </a:lnTo>
                  <a:lnTo>
                    <a:pt x="135" y="240"/>
                  </a:lnTo>
                  <a:lnTo>
                    <a:pt x="137" y="238"/>
                  </a:lnTo>
                  <a:lnTo>
                    <a:pt x="137" y="236"/>
                  </a:lnTo>
                  <a:lnTo>
                    <a:pt x="141" y="234"/>
                  </a:lnTo>
                  <a:lnTo>
                    <a:pt x="141" y="232"/>
                  </a:lnTo>
                  <a:lnTo>
                    <a:pt x="141" y="228"/>
                  </a:lnTo>
                  <a:lnTo>
                    <a:pt x="147" y="221"/>
                  </a:lnTo>
                  <a:lnTo>
                    <a:pt x="151" y="211"/>
                  </a:lnTo>
                  <a:lnTo>
                    <a:pt x="153" y="217"/>
                  </a:lnTo>
                  <a:lnTo>
                    <a:pt x="155" y="219"/>
                  </a:lnTo>
                  <a:lnTo>
                    <a:pt x="157" y="221"/>
                  </a:lnTo>
                  <a:lnTo>
                    <a:pt x="161" y="225"/>
                  </a:lnTo>
                  <a:lnTo>
                    <a:pt x="165" y="225"/>
                  </a:lnTo>
                  <a:lnTo>
                    <a:pt x="167" y="225"/>
                  </a:lnTo>
                  <a:lnTo>
                    <a:pt x="173" y="223"/>
                  </a:lnTo>
                  <a:lnTo>
                    <a:pt x="179" y="219"/>
                  </a:lnTo>
                  <a:lnTo>
                    <a:pt x="186" y="213"/>
                  </a:lnTo>
                  <a:lnTo>
                    <a:pt x="188" y="205"/>
                  </a:lnTo>
                  <a:lnTo>
                    <a:pt x="188" y="203"/>
                  </a:lnTo>
                  <a:lnTo>
                    <a:pt x="186" y="201"/>
                  </a:lnTo>
                  <a:lnTo>
                    <a:pt x="181" y="197"/>
                  </a:lnTo>
                  <a:lnTo>
                    <a:pt x="186" y="191"/>
                  </a:lnTo>
                  <a:lnTo>
                    <a:pt x="192" y="187"/>
                  </a:lnTo>
                  <a:lnTo>
                    <a:pt x="196" y="183"/>
                  </a:lnTo>
                  <a:lnTo>
                    <a:pt x="202" y="173"/>
                  </a:lnTo>
                  <a:lnTo>
                    <a:pt x="206" y="167"/>
                  </a:lnTo>
                  <a:lnTo>
                    <a:pt x="208" y="160"/>
                  </a:lnTo>
                  <a:lnTo>
                    <a:pt x="210" y="154"/>
                  </a:lnTo>
                  <a:lnTo>
                    <a:pt x="210" y="152"/>
                  </a:lnTo>
                  <a:lnTo>
                    <a:pt x="208" y="148"/>
                  </a:lnTo>
                  <a:lnTo>
                    <a:pt x="200" y="132"/>
                  </a:lnTo>
                  <a:lnTo>
                    <a:pt x="204" y="134"/>
                  </a:lnTo>
                  <a:lnTo>
                    <a:pt x="208" y="132"/>
                  </a:lnTo>
                  <a:lnTo>
                    <a:pt x="210" y="132"/>
                  </a:lnTo>
                  <a:lnTo>
                    <a:pt x="212" y="130"/>
                  </a:lnTo>
                  <a:lnTo>
                    <a:pt x="214" y="126"/>
                  </a:lnTo>
                  <a:lnTo>
                    <a:pt x="210" y="126"/>
                  </a:lnTo>
                  <a:lnTo>
                    <a:pt x="208" y="128"/>
                  </a:lnTo>
                  <a:lnTo>
                    <a:pt x="204" y="128"/>
                  </a:lnTo>
                  <a:lnTo>
                    <a:pt x="202" y="128"/>
                  </a:lnTo>
                  <a:lnTo>
                    <a:pt x="198" y="126"/>
                  </a:lnTo>
                  <a:lnTo>
                    <a:pt x="192" y="126"/>
                  </a:lnTo>
                  <a:close/>
                  <a:moveTo>
                    <a:pt x="257" y="0"/>
                  </a:moveTo>
                  <a:lnTo>
                    <a:pt x="257" y="256"/>
                  </a:lnTo>
                  <a:lnTo>
                    <a:pt x="0" y="256"/>
                  </a:lnTo>
                  <a:lnTo>
                    <a:pt x="0" y="0"/>
                  </a:lnTo>
                  <a:lnTo>
                    <a:pt x="257" y="0"/>
                  </a:lnTo>
                  <a:close/>
                  <a:moveTo>
                    <a:pt x="128" y="232"/>
                  </a:moveTo>
                  <a:lnTo>
                    <a:pt x="130" y="232"/>
                  </a:lnTo>
                  <a:lnTo>
                    <a:pt x="128" y="232"/>
                  </a:lnTo>
                  <a:close/>
                  <a:moveTo>
                    <a:pt x="126" y="232"/>
                  </a:moveTo>
                  <a:lnTo>
                    <a:pt x="128" y="230"/>
                  </a:lnTo>
                  <a:lnTo>
                    <a:pt x="130" y="228"/>
                  </a:lnTo>
                  <a:lnTo>
                    <a:pt x="130" y="230"/>
                  </a:lnTo>
                  <a:lnTo>
                    <a:pt x="132" y="232"/>
                  </a:lnTo>
                  <a:lnTo>
                    <a:pt x="130" y="234"/>
                  </a:lnTo>
                  <a:lnTo>
                    <a:pt x="130" y="236"/>
                  </a:lnTo>
                  <a:lnTo>
                    <a:pt x="128" y="234"/>
                  </a:lnTo>
                  <a:lnTo>
                    <a:pt x="126" y="232"/>
                  </a:lnTo>
                  <a:close/>
                  <a:moveTo>
                    <a:pt x="126" y="49"/>
                  </a:moveTo>
                  <a:lnTo>
                    <a:pt x="120" y="51"/>
                  </a:lnTo>
                  <a:lnTo>
                    <a:pt x="114" y="53"/>
                  </a:lnTo>
                  <a:lnTo>
                    <a:pt x="108" y="55"/>
                  </a:lnTo>
                  <a:lnTo>
                    <a:pt x="102" y="57"/>
                  </a:lnTo>
                  <a:lnTo>
                    <a:pt x="98" y="61"/>
                  </a:lnTo>
                  <a:lnTo>
                    <a:pt x="94" y="65"/>
                  </a:lnTo>
                  <a:lnTo>
                    <a:pt x="86" y="79"/>
                  </a:lnTo>
                  <a:lnTo>
                    <a:pt x="81" y="85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7" y="116"/>
                  </a:lnTo>
                  <a:lnTo>
                    <a:pt x="77" y="128"/>
                  </a:lnTo>
                  <a:lnTo>
                    <a:pt x="79" y="142"/>
                  </a:lnTo>
                  <a:lnTo>
                    <a:pt x="81" y="154"/>
                  </a:lnTo>
                  <a:lnTo>
                    <a:pt x="86" y="165"/>
                  </a:lnTo>
                  <a:lnTo>
                    <a:pt x="92" y="173"/>
                  </a:lnTo>
                  <a:lnTo>
                    <a:pt x="98" y="179"/>
                  </a:lnTo>
                  <a:lnTo>
                    <a:pt x="106" y="185"/>
                  </a:lnTo>
                  <a:lnTo>
                    <a:pt x="116" y="189"/>
                  </a:lnTo>
                  <a:lnTo>
                    <a:pt x="126" y="191"/>
                  </a:lnTo>
                  <a:lnTo>
                    <a:pt x="137" y="191"/>
                  </a:lnTo>
                  <a:lnTo>
                    <a:pt x="147" y="187"/>
                  </a:lnTo>
                  <a:lnTo>
                    <a:pt x="153" y="185"/>
                  </a:lnTo>
                  <a:lnTo>
                    <a:pt x="161" y="181"/>
                  </a:lnTo>
                  <a:lnTo>
                    <a:pt x="165" y="177"/>
                  </a:lnTo>
                  <a:lnTo>
                    <a:pt x="169" y="171"/>
                  </a:lnTo>
                  <a:lnTo>
                    <a:pt x="173" y="165"/>
                  </a:lnTo>
                  <a:lnTo>
                    <a:pt x="175" y="156"/>
                  </a:lnTo>
                  <a:lnTo>
                    <a:pt x="179" y="140"/>
                  </a:lnTo>
                  <a:lnTo>
                    <a:pt x="181" y="132"/>
                  </a:lnTo>
                  <a:lnTo>
                    <a:pt x="181" y="124"/>
                  </a:lnTo>
                  <a:lnTo>
                    <a:pt x="181" y="116"/>
                  </a:lnTo>
                  <a:lnTo>
                    <a:pt x="181" y="106"/>
                  </a:lnTo>
                  <a:lnTo>
                    <a:pt x="177" y="89"/>
                  </a:lnTo>
                  <a:lnTo>
                    <a:pt x="175" y="81"/>
                  </a:lnTo>
                  <a:lnTo>
                    <a:pt x="171" y="71"/>
                  </a:lnTo>
                  <a:lnTo>
                    <a:pt x="165" y="65"/>
                  </a:lnTo>
                  <a:lnTo>
                    <a:pt x="157" y="59"/>
                  </a:lnTo>
                  <a:lnTo>
                    <a:pt x="149" y="55"/>
                  </a:lnTo>
                  <a:lnTo>
                    <a:pt x="139" y="51"/>
                  </a:lnTo>
                  <a:lnTo>
                    <a:pt x="132" y="49"/>
                  </a:lnTo>
                  <a:lnTo>
                    <a:pt x="126" y="49"/>
                  </a:lnTo>
                  <a:close/>
                  <a:moveTo>
                    <a:pt x="75" y="126"/>
                  </a:moveTo>
                  <a:lnTo>
                    <a:pt x="75" y="116"/>
                  </a:lnTo>
                  <a:lnTo>
                    <a:pt x="75" y="106"/>
                  </a:lnTo>
                  <a:lnTo>
                    <a:pt x="77" y="98"/>
                  </a:lnTo>
                  <a:lnTo>
                    <a:pt x="79" y="87"/>
                  </a:lnTo>
                  <a:lnTo>
                    <a:pt x="81" y="79"/>
                  </a:lnTo>
                  <a:lnTo>
                    <a:pt x="86" y="71"/>
                  </a:lnTo>
                  <a:lnTo>
                    <a:pt x="92" y="65"/>
                  </a:lnTo>
                  <a:lnTo>
                    <a:pt x="96" y="59"/>
                  </a:lnTo>
                  <a:lnTo>
                    <a:pt x="106" y="53"/>
                  </a:lnTo>
                  <a:lnTo>
                    <a:pt x="114" y="49"/>
                  </a:lnTo>
                  <a:lnTo>
                    <a:pt x="122" y="47"/>
                  </a:lnTo>
                  <a:lnTo>
                    <a:pt x="135" y="47"/>
                  </a:lnTo>
                  <a:lnTo>
                    <a:pt x="137" y="49"/>
                  </a:lnTo>
                  <a:lnTo>
                    <a:pt x="143" y="49"/>
                  </a:lnTo>
                  <a:lnTo>
                    <a:pt x="149" y="51"/>
                  </a:lnTo>
                  <a:lnTo>
                    <a:pt x="159" y="57"/>
                  </a:lnTo>
                  <a:lnTo>
                    <a:pt x="167" y="65"/>
                  </a:lnTo>
                  <a:lnTo>
                    <a:pt x="171" y="69"/>
                  </a:lnTo>
                  <a:lnTo>
                    <a:pt x="173" y="73"/>
                  </a:lnTo>
                  <a:lnTo>
                    <a:pt x="177" y="79"/>
                  </a:lnTo>
                  <a:lnTo>
                    <a:pt x="179" y="85"/>
                  </a:lnTo>
                  <a:lnTo>
                    <a:pt x="179" y="87"/>
                  </a:lnTo>
                  <a:lnTo>
                    <a:pt x="183" y="106"/>
                  </a:lnTo>
                  <a:lnTo>
                    <a:pt x="183" y="116"/>
                  </a:lnTo>
                  <a:lnTo>
                    <a:pt x="183" y="126"/>
                  </a:lnTo>
                  <a:lnTo>
                    <a:pt x="183" y="136"/>
                  </a:lnTo>
                  <a:lnTo>
                    <a:pt x="181" y="146"/>
                  </a:lnTo>
                  <a:lnTo>
                    <a:pt x="177" y="156"/>
                  </a:lnTo>
                  <a:lnTo>
                    <a:pt x="173" y="167"/>
                  </a:lnTo>
                  <a:lnTo>
                    <a:pt x="167" y="177"/>
                  </a:lnTo>
                  <a:lnTo>
                    <a:pt x="161" y="183"/>
                  </a:lnTo>
                  <a:lnTo>
                    <a:pt x="151" y="189"/>
                  </a:lnTo>
                  <a:lnTo>
                    <a:pt x="141" y="193"/>
                  </a:lnTo>
                  <a:lnTo>
                    <a:pt x="130" y="193"/>
                  </a:lnTo>
                  <a:lnTo>
                    <a:pt x="124" y="193"/>
                  </a:lnTo>
                  <a:lnTo>
                    <a:pt x="118" y="193"/>
                  </a:lnTo>
                  <a:lnTo>
                    <a:pt x="114" y="191"/>
                  </a:lnTo>
                  <a:lnTo>
                    <a:pt x="110" y="189"/>
                  </a:lnTo>
                  <a:lnTo>
                    <a:pt x="104" y="187"/>
                  </a:lnTo>
                  <a:lnTo>
                    <a:pt x="100" y="183"/>
                  </a:lnTo>
                  <a:lnTo>
                    <a:pt x="92" y="175"/>
                  </a:lnTo>
                  <a:lnTo>
                    <a:pt x="86" y="167"/>
                  </a:lnTo>
                  <a:lnTo>
                    <a:pt x="79" y="156"/>
                  </a:lnTo>
                  <a:lnTo>
                    <a:pt x="77" y="140"/>
                  </a:lnTo>
                  <a:lnTo>
                    <a:pt x="75" y="126"/>
                  </a:lnTo>
                  <a:close/>
                  <a:moveTo>
                    <a:pt x="147" y="59"/>
                  </a:moveTo>
                  <a:lnTo>
                    <a:pt x="151" y="63"/>
                  </a:lnTo>
                  <a:lnTo>
                    <a:pt x="155" y="67"/>
                  </a:lnTo>
                  <a:lnTo>
                    <a:pt x="161" y="77"/>
                  </a:lnTo>
                  <a:lnTo>
                    <a:pt x="163" y="83"/>
                  </a:lnTo>
                  <a:lnTo>
                    <a:pt x="165" y="89"/>
                  </a:lnTo>
                  <a:lnTo>
                    <a:pt x="169" y="102"/>
                  </a:lnTo>
                  <a:lnTo>
                    <a:pt x="171" y="116"/>
                  </a:lnTo>
                  <a:lnTo>
                    <a:pt x="171" y="128"/>
                  </a:lnTo>
                  <a:lnTo>
                    <a:pt x="169" y="140"/>
                  </a:lnTo>
                  <a:lnTo>
                    <a:pt x="167" y="150"/>
                  </a:lnTo>
                  <a:lnTo>
                    <a:pt x="163" y="160"/>
                  </a:lnTo>
                  <a:lnTo>
                    <a:pt x="157" y="169"/>
                  </a:lnTo>
                  <a:lnTo>
                    <a:pt x="149" y="175"/>
                  </a:lnTo>
                  <a:lnTo>
                    <a:pt x="143" y="179"/>
                  </a:lnTo>
                  <a:lnTo>
                    <a:pt x="137" y="181"/>
                  </a:lnTo>
                  <a:lnTo>
                    <a:pt x="128" y="183"/>
                  </a:lnTo>
                  <a:lnTo>
                    <a:pt x="120" y="181"/>
                  </a:lnTo>
                  <a:lnTo>
                    <a:pt x="110" y="179"/>
                  </a:lnTo>
                  <a:lnTo>
                    <a:pt x="98" y="175"/>
                  </a:lnTo>
                  <a:lnTo>
                    <a:pt x="104" y="179"/>
                  </a:lnTo>
                  <a:lnTo>
                    <a:pt x="112" y="183"/>
                  </a:lnTo>
                  <a:lnTo>
                    <a:pt x="122" y="185"/>
                  </a:lnTo>
                  <a:lnTo>
                    <a:pt x="135" y="187"/>
                  </a:lnTo>
                  <a:lnTo>
                    <a:pt x="141" y="185"/>
                  </a:lnTo>
                  <a:lnTo>
                    <a:pt x="147" y="183"/>
                  </a:lnTo>
                  <a:lnTo>
                    <a:pt x="155" y="179"/>
                  </a:lnTo>
                  <a:lnTo>
                    <a:pt x="159" y="173"/>
                  </a:lnTo>
                  <a:lnTo>
                    <a:pt x="165" y="167"/>
                  </a:lnTo>
                  <a:lnTo>
                    <a:pt x="169" y="158"/>
                  </a:lnTo>
                  <a:lnTo>
                    <a:pt x="173" y="152"/>
                  </a:lnTo>
                  <a:lnTo>
                    <a:pt x="173" y="146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175" y="108"/>
                  </a:lnTo>
                  <a:lnTo>
                    <a:pt x="173" y="95"/>
                  </a:lnTo>
                  <a:lnTo>
                    <a:pt x="171" y="83"/>
                  </a:lnTo>
                  <a:lnTo>
                    <a:pt x="167" y="75"/>
                  </a:lnTo>
                  <a:lnTo>
                    <a:pt x="163" y="69"/>
                  </a:lnTo>
                  <a:lnTo>
                    <a:pt x="157" y="65"/>
                  </a:lnTo>
                  <a:lnTo>
                    <a:pt x="147" y="59"/>
                  </a:lnTo>
                  <a:close/>
                  <a:moveTo>
                    <a:pt x="167" y="69"/>
                  </a:moveTo>
                  <a:lnTo>
                    <a:pt x="173" y="81"/>
                  </a:lnTo>
                  <a:lnTo>
                    <a:pt x="175" y="89"/>
                  </a:lnTo>
                  <a:lnTo>
                    <a:pt x="177" y="95"/>
                  </a:lnTo>
                  <a:lnTo>
                    <a:pt x="179" y="110"/>
                  </a:lnTo>
                  <a:lnTo>
                    <a:pt x="179" y="124"/>
                  </a:lnTo>
                  <a:lnTo>
                    <a:pt x="177" y="138"/>
                  </a:lnTo>
                  <a:lnTo>
                    <a:pt x="175" y="152"/>
                  </a:lnTo>
                  <a:lnTo>
                    <a:pt x="171" y="163"/>
                  </a:lnTo>
                  <a:lnTo>
                    <a:pt x="165" y="173"/>
                  </a:lnTo>
                  <a:lnTo>
                    <a:pt x="159" y="179"/>
                  </a:lnTo>
                  <a:lnTo>
                    <a:pt x="155" y="181"/>
                  </a:lnTo>
                  <a:lnTo>
                    <a:pt x="151" y="183"/>
                  </a:lnTo>
                  <a:lnTo>
                    <a:pt x="143" y="187"/>
                  </a:lnTo>
                  <a:lnTo>
                    <a:pt x="135" y="189"/>
                  </a:lnTo>
                  <a:lnTo>
                    <a:pt x="124" y="189"/>
                  </a:lnTo>
                  <a:lnTo>
                    <a:pt x="114" y="187"/>
                  </a:lnTo>
                  <a:lnTo>
                    <a:pt x="108" y="183"/>
                  </a:lnTo>
                  <a:lnTo>
                    <a:pt x="102" y="181"/>
                  </a:lnTo>
                  <a:lnTo>
                    <a:pt x="98" y="177"/>
                  </a:lnTo>
                  <a:lnTo>
                    <a:pt x="96" y="173"/>
                  </a:lnTo>
                  <a:lnTo>
                    <a:pt x="90" y="165"/>
                  </a:lnTo>
                  <a:lnTo>
                    <a:pt x="86" y="156"/>
                  </a:lnTo>
                  <a:lnTo>
                    <a:pt x="81" y="146"/>
                  </a:lnTo>
                  <a:lnTo>
                    <a:pt x="79" y="134"/>
                  </a:lnTo>
                  <a:lnTo>
                    <a:pt x="79" y="122"/>
                  </a:lnTo>
                  <a:lnTo>
                    <a:pt x="132" y="122"/>
                  </a:lnTo>
                  <a:lnTo>
                    <a:pt x="132" y="53"/>
                  </a:lnTo>
                  <a:lnTo>
                    <a:pt x="143" y="55"/>
                  </a:lnTo>
                  <a:lnTo>
                    <a:pt x="151" y="59"/>
                  </a:lnTo>
                  <a:lnTo>
                    <a:pt x="159" y="63"/>
                  </a:lnTo>
                  <a:lnTo>
                    <a:pt x="167" y="69"/>
                  </a:lnTo>
                  <a:close/>
                  <a:moveTo>
                    <a:pt x="116" y="95"/>
                  </a:moveTo>
                  <a:lnTo>
                    <a:pt x="114" y="95"/>
                  </a:lnTo>
                  <a:lnTo>
                    <a:pt x="104" y="100"/>
                  </a:lnTo>
                  <a:lnTo>
                    <a:pt x="104" y="102"/>
                  </a:lnTo>
                  <a:lnTo>
                    <a:pt x="108" y="104"/>
                  </a:lnTo>
                  <a:lnTo>
                    <a:pt x="112" y="104"/>
                  </a:lnTo>
                  <a:lnTo>
                    <a:pt x="120" y="102"/>
                  </a:lnTo>
                  <a:lnTo>
                    <a:pt x="122" y="104"/>
                  </a:lnTo>
                  <a:lnTo>
                    <a:pt x="118" y="106"/>
                  </a:lnTo>
                  <a:lnTo>
                    <a:pt x="114" y="106"/>
                  </a:lnTo>
                  <a:lnTo>
                    <a:pt x="110" y="106"/>
                  </a:lnTo>
                  <a:lnTo>
                    <a:pt x="106" y="108"/>
                  </a:lnTo>
                  <a:lnTo>
                    <a:pt x="104" y="108"/>
                  </a:lnTo>
                  <a:lnTo>
                    <a:pt x="102" y="106"/>
                  </a:lnTo>
                  <a:lnTo>
                    <a:pt x="100" y="106"/>
                  </a:lnTo>
                  <a:lnTo>
                    <a:pt x="100" y="104"/>
                  </a:lnTo>
                  <a:lnTo>
                    <a:pt x="98" y="100"/>
                  </a:lnTo>
                  <a:lnTo>
                    <a:pt x="96" y="98"/>
                  </a:lnTo>
                  <a:lnTo>
                    <a:pt x="94" y="98"/>
                  </a:lnTo>
                  <a:lnTo>
                    <a:pt x="90" y="100"/>
                  </a:lnTo>
                  <a:lnTo>
                    <a:pt x="88" y="108"/>
                  </a:lnTo>
                  <a:lnTo>
                    <a:pt x="86" y="106"/>
                  </a:lnTo>
                  <a:lnTo>
                    <a:pt x="83" y="102"/>
                  </a:lnTo>
                  <a:lnTo>
                    <a:pt x="81" y="102"/>
                  </a:lnTo>
                  <a:lnTo>
                    <a:pt x="81" y="106"/>
                  </a:lnTo>
                  <a:lnTo>
                    <a:pt x="83" y="108"/>
                  </a:lnTo>
                  <a:lnTo>
                    <a:pt x="90" y="110"/>
                  </a:lnTo>
                  <a:lnTo>
                    <a:pt x="90" y="112"/>
                  </a:lnTo>
                  <a:lnTo>
                    <a:pt x="81" y="114"/>
                  </a:lnTo>
                  <a:lnTo>
                    <a:pt x="83" y="114"/>
                  </a:lnTo>
                  <a:lnTo>
                    <a:pt x="92" y="116"/>
                  </a:lnTo>
                  <a:lnTo>
                    <a:pt x="96" y="112"/>
                  </a:lnTo>
                  <a:lnTo>
                    <a:pt x="98" y="110"/>
                  </a:lnTo>
                  <a:lnTo>
                    <a:pt x="102" y="110"/>
                  </a:lnTo>
                  <a:lnTo>
                    <a:pt x="104" y="110"/>
                  </a:lnTo>
                  <a:lnTo>
                    <a:pt x="108" y="110"/>
                  </a:lnTo>
                  <a:lnTo>
                    <a:pt x="108" y="112"/>
                  </a:lnTo>
                  <a:lnTo>
                    <a:pt x="104" y="114"/>
                  </a:lnTo>
                  <a:lnTo>
                    <a:pt x="104" y="116"/>
                  </a:lnTo>
                  <a:lnTo>
                    <a:pt x="106" y="116"/>
                  </a:lnTo>
                  <a:lnTo>
                    <a:pt x="110" y="114"/>
                  </a:lnTo>
                  <a:lnTo>
                    <a:pt x="112" y="112"/>
                  </a:lnTo>
                  <a:lnTo>
                    <a:pt x="112" y="110"/>
                  </a:lnTo>
                  <a:lnTo>
                    <a:pt x="114" y="108"/>
                  </a:lnTo>
                  <a:lnTo>
                    <a:pt x="120" y="110"/>
                  </a:lnTo>
                  <a:lnTo>
                    <a:pt x="120" y="112"/>
                  </a:lnTo>
                  <a:lnTo>
                    <a:pt x="118" y="114"/>
                  </a:lnTo>
                  <a:lnTo>
                    <a:pt x="120" y="114"/>
                  </a:lnTo>
                  <a:lnTo>
                    <a:pt x="122" y="114"/>
                  </a:lnTo>
                  <a:lnTo>
                    <a:pt x="124" y="110"/>
                  </a:lnTo>
                  <a:lnTo>
                    <a:pt x="122" y="108"/>
                  </a:lnTo>
                  <a:lnTo>
                    <a:pt x="120" y="108"/>
                  </a:lnTo>
                  <a:lnTo>
                    <a:pt x="124" y="106"/>
                  </a:lnTo>
                  <a:lnTo>
                    <a:pt x="124" y="104"/>
                  </a:lnTo>
                  <a:lnTo>
                    <a:pt x="122" y="102"/>
                  </a:lnTo>
                  <a:lnTo>
                    <a:pt x="118" y="102"/>
                  </a:lnTo>
                  <a:lnTo>
                    <a:pt x="114" y="102"/>
                  </a:lnTo>
                  <a:lnTo>
                    <a:pt x="110" y="102"/>
                  </a:lnTo>
                  <a:lnTo>
                    <a:pt x="108" y="100"/>
                  </a:lnTo>
                  <a:lnTo>
                    <a:pt x="114" y="98"/>
                  </a:lnTo>
                  <a:lnTo>
                    <a:pt x="116" y="98"/>
                  </a:lnTo>
                  <a:lnTo>
                    <a:pt x="116" y="95"/>
                  </a:lnTo>
                  <a:close/>
                  <a:moveTo>
                    <a:pt x="116" y="77"/>
                  </a:moveTo>
                  <a:lnTo>
                    <a:pt x="108" y="81"/>
                  </a:lnTo>
                  <a:lnTo>
                    <a:pt x="110" y="83"/>
                  </a:lnTo>
                  <a:lnTo>
                    <a:pt x="122" y="83"/>
                  </a:lnTo>
                  <a:lnTo>
                    <a:pt x="122" y="85"/>
                  </a:lnTo>
                  <a:lnTo>
                    <a:pt x="120" y="87"/>
                  </a:lnTo>
                  <a:lnTo>
                    <a:pt x="116" y="85"/>
                  </a:lnTo>
                  <a:lnTo>
                    <a:pt x="112" y="87"/>
                  </a:lnTo>
                  <a:lnTo>
                    <a:pt x="106" y="87"/>
                  </a:lnTo>
                  <a:lnTo>
                    <a:pt x="102" y="87"/>
                  </a:lnTo>
                  <a:lnTo>
                    <a:pt x="100" y="81"/>
                  </a:lnTo>
                  <a:lnTo>
                    <a:pt x="96" y="81"/>
                  </a:lnTo>
                  <a:lnTo>
                    <a:pt x="94" y="81"/>
                  </a:lnTo>
                  <a:lnTo>
                    <a:pt x="92" y="87"/>
                  </a:lnTo>
                  <a:lnTo>
                    <a:pt x="90" y="87"/>
                  </a:lnTo>
                  <a:lnTo>
                    <a:pt x="90" y="83"/>
                  </a:lnTo>
                  <a:lnTo>
                    <a:pt x="88" y="83"/>
                  </a:lnTo>
                  <a:lnTo>
                    <a:pt x="90" y="89"/>
                  </a:lnTo>
                  <a:lnTo>
                    <a:pt x="92" y="91"/>
                  </a:lnTo>
                  <a:lnTo>
                    <a:pt x="94" y="91"/>
                  </a:lnTo>
                  <a:lnTo>
                    <a:pt x="88" y="93"/>
                  </a:lnTo>
                  <a:lnTo>
                    <a:pt x="88" y="95"/>
                  </a:lnTo>
                  <a:lnTo>
                    <a:pt x="90" y="95"/>
                  </a:lnTo>
                  <a:lnTo>
                    <a:pt x="96" y="95"/>
                  </a:lnTo>
                  <a:lnTo>
                    <a:pt x="102" y="91"/>
                  </a:lnTo>
                  <a:lnTo>
                    <a:pt x="110" y="89"/>
                  </a:lnTo>
                  <a:lnTo>
                    <a:pt x="110" y="91"/>
                  </a:lnTo>
                  <a:lnTo>
                    <a:pt x="106" y="95"/>
                  </a:lnTo>
                  <a:lnTo>
                    <a:pt x="110" y="95"/>
                  </a:lnTo>
                  <a:lnTo>
                    <a:pt x="112" y="93"/>
                  </a:lnTo>
                  <a:lnTo>
                    <a:pt x="114" y="91"/>
                  </a:lnTo>
                  <a:lnTo>
                    <a:pt x="116" y="89"/>
                  </a:lnTo>
                  <a:lnTo>
                    <a:pt x="122" y="91"/>
                  </a:lnTo>
                  <a:lnTo>
                    <a:pt x="122" y="93"/>
                  </a:lnTo>
                  <a:lnTo>
                    <a:pt x="124" y="93"/>
                  </a:lnTo>
                  <a:lnTo>
                    <a:pt x="124" y="91"/>
                  </a:lnTo>
                  <a:lnTo>
                    <a:pt x="124" y="89"/>
                  </a:lnTo>
                  <a:lnTo>
                    <a:pt x="122" y="89"/>
                  </a:lnTo>
                  <a:lnTo>
                    <a:pt x="122" y="87"/>
                  </a:lnTo>
                  <a:lnTo>
                    <a:pt x="124" y="85"/>
                  </a:lnTo>
                  <a:lnTo>
                    <a:pt x="124" y="83"/>
                  </a:lnTo>
                  <a:lnTo>
                    <a:pt x="122" y="81"/>
                  </a:lnTo>
                  <a:lnTo>
                    <a:pt x="118" y="83"/>
                  </a:lnTo>
                  <a:lnTo>
                    <a:pt x="114" y="83"/>
                  </a:lnTo>
                  <a:lnTo>
                    <a:pt x="110" y="83"/>
                  </a:lnTo>
                  <a:lnTo>
                    <a:pt x="110" y="81"/>
                  </a:lnTo>
                  <a:lnTo>
                    <a:pt x="112" y="81"/>
                  </a:lnTo>
                  <a:lnTo>
                    <a:pt x="114" y="81"/>
                  </a:lnTo>
                  <a:lnTo>
                    <a:pt x="116" y="79"/>
                  </a:lnTo>
                  <a:lnTo>
                    <a:pt x="118" y="77"/>
                  </a:lnTo>
                  <a:lnTo>
                    <a:pt x="116" y="77"/>
                  </a:lnTo>
                  <a:close/>
                  <a:moveTo>
                    <a:pt x="128" y="53"/>
                  </a:moveTo>
                  <a:lnTo>
                    <a:pt x="128" y="118"/>
                  </a:lnTo>
                  <a:lnTo>
                    <a:pt x="79" y="118"/>
                  </a:lnTo>
                  <a:lnTo>
                    <a:pt x="81" y="104"/>
                  </a:lnTo>
                  <a:lnTo>
                    <a:pt x="83" y="87"/>
                  </a:lnTo>
                  <a:lnTo>
                    <a:pt x="86" y="83"/>
                  </a:lnTo>
                  <a:lnTo>
                    <a:pt x="88" y="77"/>
                  </a:lnTo>
                  <a:lnTo>
                    <a:pt x="94" y="69"/>
                  </a:lnTo>
                  <a:lnTo>
                    <a:pt x="96" y="73"/>
                  </a:lnTo>
                  <a:lnTo>
                    <a:pt x="100" y="73"/>
                  </a:lnTo>
                  <a:lnTo>
                    <a:pt x="98" y="75"/>
                  </a:lnTo>
                  <a:lnTo>
                    <a:pt x="96" y="75"/>
                  </a:lnTo>
                  <a:lnTo>
                    <a:pt x="96" y="77"/>
                  </a:lnTo>
                  <a:lnTo>
                    <a:pt x="100" y="77"/>
                  </a:lnTo>
                  <a:lnTo>
                    <a:pt x="104" y="77"/>
                  </a:lnTo>
                  <a:lnTo>
                    <a:pt x="108" y="73"/>
                  </a:lnTo>
                  <a:lnTo>
                    <a:pt x="112" y="73"/>
                  </a:lnTo>
                  <a:lnTo>
                    <a:pt x="110" y="75"/>
                  </a:lnTo>
                  <a:lnTo>
                    <a:pt x="112" y="77"/>
                  </a:lnTo>
                  <a:lnTo>
                    <a:pt x="114" y="77"/>
                  </a:lnTo>
                  <a:lnTo>
                    <a:pt x="118" y="73"/>
                  </a:lnTo>
                  <a:lnTo>
                    <a:pt x="122" y="73"/>
                  </a:lnTo>
                  <a:lnTo>
                    <a:pt x="122" y="75"/>
                  </a:lnTo>
                  <a:lnTo>
                    <a:pt x="124" y="77"/>
                  </a:lnTo>
                  <a:lnTo>
                    <a:pt x="126" y="73"/>
                  </a:lnTo>
                  <a:lnTo>
                    <a:pt x="124" y="73"/>
                  </a:lnTo>
                  <a:lnTo>
                    <a:pt x="122" y="71"/>
                  </a:lnTo>
                  <a:lnTo>
                    <a:pt x="124" y="69"/>
                  </a:lnTo>
                  <a:lnTo>
                    <a:pt x="126" y="67"/>
                  </a:lnTo>
                  <a:lnTo>
                    <a:pt x="124" y="65"/>
                  </a:lnTo>
                  <a:lnTo>
                    <a:pt x="122" y="63"/>
                  </a:lnTo>
                  <a:lnTo>
                    <a:pt x="120" y="63"/>
                  </a:lnTo>
                  <a:lnTo>
                    <a:pt x="116" y="63"/>
                  </a:lnTo>
                  <a:lnTo>
                    <a:pt x="114" y="63"/>
                  </a:lnTo>
                  <a:lnTo>
                    <a:pt x="114" y="61"/>
                  </a:lnTo>
                  <a:lnTo>
                    <a:pt x="116" y="59"/>
                  </a:lnTo>
                  <a:lnTo>
                    <a:pt x="118" y="59"/>
                  </a:lnTo>
                  <a:lnTo>
                    <a:pt x="120" y="59"/>
                  </a:lnTo>
                  <a:lnTo>
                    <a:pt x="120" y="57"/>
                  </a:lnTo>
                  <a:lnTo>
                    <a:pt x="116" y="57"/>
                  </a:lnTo>
                  <a:lnTo>
                    <a:pt x="112" y="59"/>
                  </a:lnTo>
                  <a:lnTo>
                    <a:pt x="110" y="61"/>
                  </a:lnTo>
                  <a:lnTo>
                    <a:pt x="110" y="63"/>
                  </a:lnTo>
                  <a:lnTo>
                    <a:pt x="114" y="65"/>
                  </a:lnTo>
                  <a:lnTo>
                    <a:pt x="116" y="65"/>
                  </a:lnTo>
                  <a:lnTo>
                    <a:pt x="122" y="65"/>
                  </a:lnTo>
                  <a:lnTo>
                    <a:pt x="122" y="67"/>
                  </a:lnTo>
                  <a:lnTo>
                    <a:pt x="118" y="67"/>
                  </a:lnTo>
                  <a:lnTo>
                    <a:pt x="114" y="69"/>
                  </a:lnTo>
                  <a:lnTo>
                    <a:pt x="112" y="69"/>
                  </a:lnTo>
                  <a:lnTo>
                    <a:pt x="108" y="69"/>
                  </a:lnTo>
                  <a:lnTo>
                    <a:pt x="108" y="65"/>
                  </a:lnTo>
                  <a:lnTo>
                    <a:pt x="106" y="65"/>
                  </a:lnTo>
                  <a:lnTo>
                    <a:pt x="104" y="63"/>
                  </a:lnTo>
                  <a:lnTo>
                    <a:pt x="100" y="65"/>
                  </a:lnTo>
                  <a:lnTo>
                    <a:pt x="100" y="69"/>
                  </a:lnTo>
                  <a:lnTo>
                    <a:pt x="100" y="71"/>
                  </a:lnTo>
                  <a:lnTo>
                    <a:pt x="98" y="69"/>
                  </a:lnTo>
                  <a:lnTo>
                    <a:pt x="98" y="67"/>
                  </a:lnTo>
                  <a:lnTo>
                    <a:pt x="98" y="65"/>
                  </a:lnTo>
                  <a:lnTo>
                    <a:pt x="102" y="61"/>
                  </a:lnTo>
                  <a:lnTo>
                    <a:pt x="108" y="57"/>
                  </a:lnTo>
                  <a:lnTo>
                    <a:pt x="116" y="55"/>
                  </a:lnTo>
                  <a:lnTo>
                    <a:pt x="122" y="53"/>
                  </a:lnTo>
                  <a:lnTo>
                    <a:pt x="128" y="53"/>
                  </a:lnTo>
                  <a:close/>
                  <a:moveTo>
                    <a:pt x="126" y="39"/>
                  </a:moveTo>
                  <a:lnTo>
                    <a:pt x="126" y="43"/>
                  </a:lnTo>
                  <a:lnTo>
                    <a:pt x="130" y="43"/>
                  </a:lnTo>
                  <a:lnTo>
                    <a:pt x="132" y="43"/>
                  </a:lnTo>
                  <a:lnTo>
                    <a:pt x="132" y="39"/>
                  </a:lnTo>
                  <a:lnTo>
                    <a:pt x="132" y="37"/>
                  </a:lnTo>
                  <a:lnTo>
                    <a:pt x="130" y="35"/>
                  </a:lnTo>
                  <a:lnTo>
                    <a:pt x="126" y="37"/>
                  </a:lnTo>
                  <a:lnTo>
                    <a:pt x="126" y="39"/>
                  </a:lnTo>
                  <a:close/>
                  <a:moveTo>
                    <a:pt x="145" y="47"/>
                  </a:moveTo>
                  <a:lnTo>
                    <a:pt x="137" y="47"/>
                  </a:lnTo>
                  <a:lnTo>
                    <a:pt x="130" y="45"/>
                  </a:lnTo>
                  <a:lnTo>
                    <a:pt x="116" y="47"/>
                  </a:lnTo>
                  <a:lnTo>
                    <a:pt x="114" y="47"/>
                  </a:lnTo>
                  <a:lnTo>
                    <a:pt x="118" y="43"/>
                  </a:lnTo>
                  <a:lnTo>
                    <a:pt x="120" y="41"/>
                  </a:lnTo>
                  <a:lnTo>
                    <a:pt x="122" y="39"/>
                  </a:lnTo>
                  <a:lnTo>
                    <a:pt x="126" y="33"/>
                  </a:lnTo>
                  <a:lnTo>
                    <a:pt x="128" y="30"/>
                  </a:lnTo>
                  <a:lnTo>
                    <a:pt x="128" y="26"/>
                  </a:lnTo>
                  <a:lnTo>
                    <a:pt x="126" y="24"/>
                  </a:lnTo>
                  <a:lnTo>
                    <a:pt x="126" y="22"/>
                  </a:lnTo>
                  <a:lnTo>
                    <a:pt x="130" y="20"/>
                  </a:lnTo>
                  <a:lnTo>
                    <a:pt x="132" y="22"/>
                  </a:lnTo>
                  <a:lnTo>
                    <a:pt x="132" y="24"/>
                  </a:lnTo>
                  <a:lnTo>
                    <a:pt x="130" y="26"/>
                  </a:lnTo>
                  <a:lnTo>
                    <a:pt x="130" y="30"/>
                  </a:lnTo>
                  <a:lnTo>
                    <a:pt x="132" y="33"/>
                  </a:lnTo>
                  <a:lnTo>
                    <a:pt x="137" y="39"/>
                  </a:lnTo>
                  <a:lnTo>
                    <a:pt x="139" y="41"/>
                  </a:lnTo>
                  <a:lnTo>
                    <a:pt x="141" y="43"/>
                  </a:lnTo>
                  <a:lnTo>
                    <a:pt x="145" y="47"/>
                  </a:lnTo>
                  <a:close/>
                  <a:moveTo>
                    <a:pt x="130" y="41"/>
                  </a:moveTo>
                  <a:lnTo>
                    <a:pt x="128" y="41"/>
                  </a:lnTo>
                  <a:lnTo>
                    <a:pt x="128" y="39"/>
                  </a:lnTo>
                  <a:lnTo>
                    <a:pt x="130" y="37"/>
                  </a:lnTo>
                  <a:lnTo>
                    <a:pt x="130" y="39"/>
                  </a:lnTo>
                  <a:lnTo>
                    <a:pt x="130" y="41"/>
                  </a:lnTo>
                  <a:close/>
                  <a:moveTo>
                    <a:pt x="128" y="207"/>
                  </a:moveTo>
                  <a:lnTo>
                    <a:pt x="128" y="209"/>
                  </a:lnTo>
                  <a:lnTo>
                    <a:pt x="130" y="207"/>
                  </a:lnTo>
                  <a:lnTo>
                    <a:pt x="128" y="207"/>
                  </a:lnTo>
                  <a:close/>
                  <a:moveTo>
                    <a:pt x="126" y="207"/>
                  </a:moveTo>
                  <a:lnTo>
                    <a:pt x="128" y="205"/>
                  </a:lnTo>
                  <a:lnTo>
                    <a:pt x="124" y="197"/>
                  </a:lnTo>
                  <a:lnTo>
                    <a:pt x="128" y="197"/>
                  </a:lnTo>
                  <a:lnTo>
                    <a:pt x="130" y="205"/>
                  </a:lnTo>
                  <a:lnTo>
                    <a:pt x="132" y="197"/>
                  </a:lnTo>
                  <a:lnTo>
                    <a:pt x="135" y="197"/>
                  </a:lnTo>
                  <a:lnTo>
                    <a:pt x="130" y="205"/>
                  </a:lnTo>
                  <a:lnTo>
                    <a:pt x="132" y="207"/>
                  </a:lnTo>
                  <a:lnTo>
                    <a:pt x="132" y="211"/>
                  </a:lnTo>
                  <a:lnTo>
                    <a:pt x="128" y="211"/>
                  </a:lnTo>
                  <a:lnTo>
                    <a:pt x="126" y="211"/>
                  </a:lnTo>
                  <a:lnTo>
                    <a:pt x="126" y="207"/>
                  </a:lnTo>
                  <a:close/>
                  <a:moveTo>
                    <a:pt x="86" y="185"/>
                  </a:moveTo>
                  <a:lnTo>
                    <a:pt x="86" y="189"/>
                  </a:lnTo>
                  <a:lnTo>
                    <a:pt x="83" y="191"/>
                  </a:lnTo>
                  <a:lnTo>
                    <a:pt x="81" y="193"/>
                  </a:lnTo>
                  <a:lnTo>
                    <a:pt x="79" y="193"/>
                  </a:lnTo>
                  <a:lnTo>
                    <a:pt x="77" y="193"/>
                  </a:lnTo>
                  <a:lnTo>
                    <a:pt x="77" y="191"/>
                  </a:lnTo>
                  <a:lnTo>
                    <a:pt x="77" y="189"/>
                  </a:lnTo>
                  <a:lnTo>
                    <a:pt x="79" y="189"/>
                  </a:lnTo>
                  <a:lnTo>
                    <a:pt x="81" y="189"/>
                  </a:lnTo>
                  <a:lnTo>
                    <a:pt x="83" y="187"/>
                  </a:lnTo>
                  <a:lnTo>
                    <a:pt x="86" y="185"/>
                  </a:lnTo>
                  <a:close/>
                  <a:moveTo>
                    <a:pt x="79" y="207"/>
                  </a:moveTo>
                  <a:lnTo>
                    <a:pt x="81" y="209"/>
                  </a:lnTo>
                  <a:lnTo>
                    <a:pt x="86" y="207"/>
                  </a:lnTo>
                  <a:lnTo>
                    <a:pt x="92" y="205"/>
                  </a:lnTo>
                  <a:lnTo>
                    <a:pt x="90" y="205"/>
                  </a:lnTo>
                  <a:lnTo>
                    <a:pt x="86" y="209"/>
                  </a:lnTo>
                  <a:lnTo>
                    <a:pt x="81" y="211"/>
                  </a:lnTo>
                  <a:lnTo>
                    <a:pt x="75" y="209"/>
                  </a:lnTo>
                  <a:lnTo>
                    <a:pt x="73" y="207"/>
                  </a:lnTo>
                  <a:lnTo>
                    <a:pt x="73" y="205"/>
                  </a:lnTo>
                  <a:lnTo>
                    <a:pt x="75" y="203"/>
                  </a:lnTo>
                  <a:lnTo>
                    <a:pt x="77" y="201"/>
                  </a:lnTo>
                  <a:lnTo>
                    <a:pt x="81" y="203"/>
                  </a:lnTo>
                  <a:lnTo>
                    <a:pt x="81" y="205"/>
                  </a:lnTo>
                  <a:lnTo>
                    <a:pt x="81" y="207"/>
                  </a:lnTo>
                  <a:lnTo>
                    <a:pt x="79" y="207"/>
                  </a:lnTo>
                  <a:close/>
                  <a:moveTo>
                    <a:pt x="71" y="163"/>
                  </a:moveTo>
                  <a:lnTo>
                    <a:pt x="73" y="165"/>
                  </a:lnTo>
                  <a:lnTo>
                    <a:pt x="71" y="167"/>
                  </a:lnTo>
                  <a:lnTo>
                    <a:pt x="73" y="169"/>
                  </a:lnTo>
                  <a:lnTo>
                    <a:pt x="73" y="167"/>
                  </a:lnTo>
                  <a:lnTo>
                    <a:pt x="79" y="175"/>
                  </a:lnTo>
                  <a:lnTo>
                    <a:pt x="77" y="177"/>
                  </a:lnTo>
                  <a:lnTo>
                    <a:pt x="79" y="179"/>
                  </a:lnTo>
                  <a:lnTo>
                    <a:pt x="79" y="177"/>
                  </a:lnTo>
                  <a:lnTo>
                    <a:pt x="81" y="181"/>
                  </a:lnTo>
                  <a:lnTo>
                    <a:pt x="79" y="183"/>
                  </a:lnTo>
                  <a:lnTo>
                    <a:pt x="77" y="185"/>
                  </a:lnTo>
                  <a:lnTo>
                    <a:pt x="71" y="185"/>
                  </a:lnTo>
                  <a:lnTo>
                    <a:pt x="69" y="183"/>
                  </a:lnTo>
                  <a:lnTo>
                    <a:pt x="73" y="183"/>
                  </a:lnTo>
                  <a:lnTo>
                    <a:pt x="75" y="181"/>
                  </a:lnTo>
                  <a:lnTo>
                    <a:pt x="75" y="179"/>
                  </a:lnTo>
                  <a:lnTo>
                    <a:pt x="71" y="181"/>
                  </a:lnTo>
                  <a:lnTo>
                    <a:pt x="67" y="181"/>
                  </a:lnTo>
                  <a:lnTo>
                    <a:pt x="63" y="173"/>
                  </a:lnTo>
                  <a:lnTo>
                    <a:pt x="67" y="173"/>
                  </a:lnTo>
                  <a:lnTo>
                    <a:pt x="69" y="171"/>
                  </a:lnTo>
                  <a:lnTo>
                    <a:pt x="69" y="169"/>
                  </a:lnTo>
                  <a:lnTo>
                    <a:pt x="65" y="171"/>
                  </a:lnTo>
                  <a:lnTo>
                    <a:pt x="63" y="171"/>
                  </a:lnTo>
                  <a:lnTo>
                    <a:pt x="61" y="169"/>
                  </a:lnTo>
                  <a:lnTo>
                    <a:pt x="63" y="169"/>
                  </a:lnTo>
                  <a:lnTo>
                    <a:pt x="67" y="167"/>
                  </a:lnTo>
                  <a:lnTo>
                    <a:pt x="69" y="165"/>
                  </a:lnTo>
                  <a:lnTo>
                    <a:pt x="71" y="163"/>
                  </a:lnTo>
                  <a:close/>
                  <a:moveTo>
                    <a:pt x="124" y="230"/>
                  </a:moveTo>
                  <a:lnTo>
                    <a:pt x="124" y="234"/>
                  </a:lnTo>
                  <a:lnTo>
                    <a:pt x="122" y="232"/>
                  </a:lnTo>
                  <a:lnTo>
                    <a:pt x="122" y="230"/>
                  </a:lnTo>
                  <a:lnTo>
                    <a:pt x="124" y="230"/>
                  </a:lnTo>
                  <a:close/>
                  <a:moveTo>
                    <a:pt x="135" y="230"/>
                  </a:moveTo>
                  <a:lnTo>
                    <a:pt x="137" y="230"/>
                  </a:lnTo>
                  <a:lnTo>
                    <a:pt x="137" y="232"/>
                  </a:lnTo>
                  <a:lnTo>
                    <a:pt x="135" y="234"/>
                  </a:lnTo>
                  <a:lnTo>
                    <a:pt x="135" y="230"/>
                  </a:lnTo>
                  <a:close/>
                  <a:moveTo>
                    <a:pt x="132" y="238"/>
                  </a:moveTo>
                  <a:lnTo>
                    <a:pt x="130" y="240"/>
                  </a:lnTo>
                  <a:lnTo>
                    <a:pt x="130" y="242"/>
                  </a:lnTo>
                  <a:lnTo>
                    <a:pt x="128" y="240"/>
                  </a:lnTo>
                  <a:lnTo>
                    <a:pt x="126" y="238"/>
                  </a:lnTo>
                  <a:lnTo>
                    <a:pt x="132" y="238"/>
                  </a:lnTo>
                  <a:close/>
                  <a:moveTo>
                    <a:pt x="179" y="207"/>
                  </a:moveTo>
                  <a:lnTo>
                    <a:pt x="177" y="207"/>
                  </a:lnTo>
                  <a:lnTo>
                    <a:pt x="177" y="205"/>
                  </a:lnTo>
                  <a:lnTo>
                    <a:pt x="177" y="203"/>
                  </a:lnTo>
                  <a:lnTo>
                    <a:pt x="179" y="203"/>
                  </a:lnTo>
                  <a:lnTo>
                    <a:pt x="181" y="201"/>
                  </a:lnTo>
                  <a:lnTo>
                    <a:pt x="183" y="203"/>
                  </a:lnTo>
                  <a:lnTo>
                    <a:pt x="186" y="205"/>
                  </a:lnTo>
                  <a:lnTo>
                    <a:pt x="183" y="207"/>
                  </a:lnTo>
                  <a:lnTo>
                    <a:pt x="181" y="209"/>
                  </a:lnTo>
                  <a:lnTo>
                    <a:pt x="177" y="211"/>
                  </a:lnTo>
                  <a:lnTo>
                    <a:pt x="173" y="209"/>
                  </a:lnTo>
                  <a:lnTo>
                    <a:pt x="167" y="205"/>
                  </a:lnTo>
                  <a:lnTo>
                    <a:pt x="173" y="209"/>
                  </a:lnTo>
                  <a:lnTo>
                    <a:pt x="177" y="209"/>
                  </a:lnTo>
                  <a:lnTo>
                    <a:pt x="179" y="209"/>
                  </a:lnTo>
                  <a:lnTo>
                    <a:pt x="179" y="207"/>
                  </a:lnTo>
                  <a:close/>
                  <a:moveTo>
                    <a:pt x="173" y="185"/>
                  </a:moveTo>
                  <a:lnTo>
                    <a:pt x="175" y="187"/>
                  </a:lnTo>
                  <a:lnTo>
                    <a:pt x="177" y="189"/>
                  </a:lnTo>
                  <a:lnTo>
                    <a:pt x="179" y="189"/>
                  </a:lnTo>
                  <a:lnTo>
                    <a:pt x="181" y="189"/>
                  </a:lnTo>
                  <a:lnTo>
                    <a:pt x="181" y="193"/>
                  </a:lnTo>
                  <a:lnTo>
                    <a:pt x="179" y="193"/>
                  </a:lnTo>
                  <a:lnTo>
                    <a:pt x="175" y="193"/>
                  </a:lnTo>
                  <a:lnTo>
                    <a:pt x="173" y="189"/>
                  </a:lnTo>
                  <a:lnTo>
                    <a:pt x="173" y="187"/>
                  </a:lnTo>
                  <a:lnTo>
                    <a:pt x="173" y="185"/>
                  </a:lnTo>
                  <a:close/>
                  <a:moveTo>
                    <a:pt x="196" y="128"/>
                  </a:moveTo>
                  <a:lnTo>
                    <a:pt x="196" y="132"/>
                  </a:lnTo>
                  <a:lnTo>
                    <a:pt x="198" y="136"/>
                  </a:lnTo>
                  <a:lnTo>
                    <a:pt x="202" y="144"/>
                  </a:lnTo>
                  <a:lnTo>
                    <a:pt x="206" y="152"/>
                  </a:lnTo>
                  <a:lnTo>
                    <a:pt x="206" y="158"/>
                  </a:lnTo>
                  <a:lnTo>
                    <a:pt x="206" y="160"/>
                  </a:lnTo>
                  <a:lnTo>
                    <a:pt x="204" y="163"/>
                  </a:lnTo>
                  <a:lnTo>
                    <a:pt x="202" y="165"/>
                  </a:lnTo>
                  <a:lnTo>
                    <a:pt x="196" y="167"/>
                  </a:lnTo>
                  <a:lnTo>
                    <a:pt x="192" y="165"/>
                  </a:lnTo>
                  <a:lnTo>
                    <a:pt x="190" y="160"/>
                  </a:lnTo>
                  <a:lnTo>
                    <a:pt x="190" y="158"/>
                  </a:lnTo>
                  <a:lnTo>
                    <a:pt x="192" y="156"/>
                  </a:lnTo>
                  <a:lnTo>
                    <a:pt x="194" y="156"/>
                  </a:lnTo>
                  <a:lnTo>
                    <a:pt x="196" y="156"/>
                  </a:lnTo>
                  <a:lnTo>
                    <a:pt x="196" y="158"/>
                  </a:lnTo>
                  <a:lnTo>
                    <a:pt x="196" y="160"/>
                  </a:lnTo>
                  <a:lnTo>
                    <a:pt x="194" y="160"/>
                  </a:lnTo>
                  <a:lnTo>
                    <a:pt x="196" y="165"/>
                  </a:lnTo>
                  <a:lnTo>
                    <a:pt x="200" y="163"/>
                  </a:lnTo>
                  <a:lnTo>
                    <a:pt x="202" y="160"/>
                  </a:lnTo>
                  <a:lnTo>
                    <a:pt x="204" y="160"/>
                  </a:lnTo>
                  <a:lnTo>
                    <a:pt x="204" y="158"/>
                  </a:lnTo>
                  <a:lnTo>
                    <a:pt x="202" y="154"/>
                  </a:lnTo>
                  <a:lnTo>
                    <a:pt x="198" y="150"/>
                  </a:lnTo>
                  <a:lnTo>
                    <a:pt x="196" y="148"/>
                  </a:lnTo>
                  <a:lnTo>
                    <a:pt x="198" y="148"/>
                  </a:lnTo>
                  <a:lnTo>
                    <a:pt x="198" y="146"/>
                  </a:lnTo>
                  <a:lnTo>
                    <a:pt x="198" y="144"/>
                  </a:lnTo>
                  <a:lnTo>
                    <a:pt x="196" y="142"/>
                  </a:lnTo>
                  <a:lnTo>
                    <a:pt x="194" y="140"/>
                  </a:lnTo>
                  <a:lnTo>
                    <a:pt x="192" y="138"/>
                  </a:lnTo>
                  <a:lnTo>
                    <a:pt x="192" y="136"/>
                  </a:lnTo>
                  <a:lnTo>
                    <a:pt x="196" y="136"/>
                  </a:lnTo>
                  <a:lnTo>
                    <a:pt x="196" y="134"/>
                  </a:lnTo>
                  <a:lnTo>
                    <a:pt x="194" y="134"/>
                  </a:lnTo>
                  <a:lnTo>
                    <a:pt x="194" y="132"/>
                  </a:lnTo>
                  <a:lnTo>
                    <a:pt x="194" y="130"/>
                  </a:lnTo>
                  <a:lnTo>
                    <a:pt x="196" y="128"/>
                  </a:lnTo>
                  <a:close/>
                  <a:moveTo>
                    <a:pt x="177" y="197"/>
                  </a:moveTo>
                  <a:lnTo>
                    <a:pt x="175" y="199"/>
                  </a:lnTo>
                  <a:lnTo>
                    <a:pt x="171" y="201"/>
                  </a:lnTo>
                  <a:lnTo>
                    <a:pt x="169" y="197"/>
                  </a:lnTo>
                  <a:lnTo>
                    <a:pt x="169" y="195"/>
                  </a:lnTo>
                  <a:lnTo>
                    <a:pt x="167" y="193"/>
                  </a:lnTo>
                  <a:lnTo>
                    <a:pt x="165" y="193"/>
                  </a:lnTo>
                  <a:lnTo>
                    <a:pt x="163" y="195"/>
                  </a:lnTo>
                  <a:lnTo>
                    <a:pt x="163" y="197"/>
                  </a:lnTo>
                  <a:lnTo>
                    <a:pt x="163" y="199"/>
                  </a:lnTo>
                  <a:lnTo>
                    <a:pt x="163" y="205"/>
                  </a:lnTo>
                  <a:lnTo>
                    <a:pt x="167" y="211"/>
                  </a:lnTo>
                  <a:lnTo>
                    <a:pt x="173" y="213"/>
                  </a:lnTo>
                  <a:lnTo>
                    <a:pt x="175" y="215"/>
                  </a:lnTo>
                  <a:lnTo>
                    <a:pt x="171" y="219"/>
                  </a:lnTo>
                  <a:lnTo>
                    <a:pt x="169" y="221"/>
                  </a:lnTo>
                  <a:lnTo>
                    <a:pt x="167" y="221"/>
                  </a:lnTo>
                  <a:lnTo>
                    <a:pt x="163" y="221"/>
                  </a:lnTo>
                  <a:lnTo>
                    <a:pt x="161" y="219"/>
                  </a:lnTo>
                  <a:lnTo>
                    <a:pt x="157" y="215"/>
                  </a:lnTo>
                  <a:lnTo>
                    <a:pt x="155" y="211"/>
                  </a:lnTo>
                  <a:lnTo>
                    <a:pt x="153" y="207"/>
                  </a:lnTo>
                  <a:lnTo>
                    <a:pt x="153" y="201"/>
                  </a:lnTo>
                  <a:lnTo>
                    <a:pt x="143" y="201"/>
                  </a:lnTo>
                  <a:lnTo>
                    <a:pt x="143" y="203"/>
                  </a:lnTo>
                  <a:lnTo>
                    <a:pt x="143" y="207"/>
                  </a:lnTo>
                  <a:lnTo>
                    <a:pt x="141" y="211"/>
                  </a:lnTo>
                  <a:lnTo>
                    <a:pt x="139" y="213"/>
                  </a:lnTo>
                  <a:lnTo>
                    <a:pt x="137" y="215"/>
                  </a:lnTo>
                  <a:lnTo>
                    <a:pt x="135" y="215"/>
                  </a:lnTo>
                  <a:lnTo>
                    <a:pt x="135" y="213"/>
                  </a:lnTo>
                  <a:lnTo>
                    <a:pt x="132" y="213"/>
                  </a:lnTo>
                  <a:lnTo>
                    <a:pt x="135" y="211"/>
                  </a:lnTo>
                  <a:lnTo>
                    <a:pt x="137" y="207"/>
                  </a:lnTo>
                  <a:lnTo>
                    <a:pt x="139" y="197"/>
                  </a:lnTo>
                  <a:lnTo>
                    <a:pt x="143" y="197"/>
                  </a:lnTo>
                  <a:lnTo>
                    <a:pt x="149" y="195"/>
                  </a:lnTo>
                  <a:lnTo>
                    <a:pt x="153" y="193"/>
                  </a:lnTo>
                  <a:lnTo>
                    <a:pt x="157" y="191"/>
                  </a:lnTo>
                  <a:lnTo>
                    <a:pt x="165" y="183"/>
                  </a:lnTo>
                  <a:lnTo>
                    <a:pt x="173" y="175"/>
                  </a:lnTo>
                  <a:lnTo>
                    <a:pt x="179" y="167"/>
                  </a:lnTo>
                  <a:lnTo>
                    <a:pt x="181" y="160"/>
                  </a:lnTo>
                  <a:lnTo>
                    <a:pt x="183" y="154"/>
                  </a:lnTo>
                  <a:lnTo>
                    <a:pt x="188" y="140"/>
                  </a:lnTo>
                  <a:lnTo>
                    <a:pt x="188" y="138"/>
                  </a:lnTo>
                  <a:lnTo>
                    <a:pt x="190" y="138"/>
                  </a:lnTo>
                  <a:lnTo>
                    <a:pt x="194" y="144"/>
                  </a:lnTo>
                  <a:lnTo>
                    <a:pt x="192" y="146"/>
                  </a:lnTo>
                  <a:lnTo>
                    <a:pt x="194" y="150"/>
                  </a:lnTo>
                  <a:lnTo>
                    <a:pt x="196" y="152"/>
                  </a:lnTo>
                  <a:lnTo>
                    <a:pt x="200" y="154"/>
                  </a:lnTo>
                  <a:lnTo>
                    <a:pt x="200" y="156"/>
                  </a:lnTo>
                  <a:lnTo>
                    <a:pt x="200" y="158"/>
                  </a:lnTo>
                  <a:lnTo>
                    <a:pt x="198" y="160"/>
                  </a:lnTo>
                  <a:lnTo>
                    <a:pt x="196" y="152"/>
                  </a:lnTo>
                  <a:lnTo>
                    <a:pt x="194" y="152"/>
                  </a:lnTo>
                  <a:lnTo>
                    <a:pt x="192" y="150"/>
                  </a:lnTo>
                  <a:lnTo>
                    <a:pt x="188" y="154"/>
                  </a:lnTo>
                  <a:lnTo>
                    <a:pt x="183" y="158"/>
                  </a:lnTo>
                  <a:lnTo>
                    <a:pt x="179" y="169"/>
                  </a:lnTo>
                  <a:lnTo>
                    <a:pt x="173" y="179"/>
                  </a:lnTo>
                  <a:lnTo>
                    <a:pt x="171" y="183"/>
                  </a:lnTo>
                  <a:lnTo>
                    <a:pt x="171" y="185"/>
                  </a:lnTo>
                  <a:lnTo>
                    <a:pt x="171" y="189"/>
                  </a:lnTo>
                  <a:lnTo>
                    <a:pt x="171" y="193"/>
                  </a:lnTo>
                  <a:lnTo>
                    <a:pt x="175" y="195"/>
                  </a:lnTo>
                  <a:lnTo>
                    <a:pt x="177" y="197"/>
                  </a:lnTo>
                  <a:close/>
                  <a:moveTo>
                    <a:pt x="188" y="163"/>
                  </a:moveTo>
                  <a:lnTo>
                    <a:pt x="190" y="165"/>
                  </a:lnTo>
                  <a:lnTo>
                    <a:pt x="192" y="167"/>
                  </a:lnTo>
                  <a:lnTo>
                    <a:pt x="196" y="169"/>
                  </a:lnTo>
                  <a:lnTo>
                    <a:pt x="198" y="169"/>
                  </a:lnTo>
                  <a:lnTo>
                    <a:pt x="196" y="171"/>
                  </a:lnTo>
                  <a:lnTo>
                    <a:pt x="194" y="171"/>
                  </a:lnTo>
                  <a:lnTo>
                    <a:pt x="190" y="169"/>
                  </a:lnTo>
                  <a:lnTo>
                    <a:pt x="190" y="171"/>
                  </a:lnTo>
                  <a:lnTo>
                    <a:pt x="192" y="173"/>
                  </a:lnTo>
                  <a:lnTo>
                    <a:pt x="196" y="173"/>
                  </a:lnTo>
                  <a:lnTo>
                    <a:pt x="192" y="181"/>
                  </a:lnTo>
                  <a:lnTo>
                    <a:pt x="188" y="181"/>
                  </a:lnTo>
                  <a:lnTo>
                    <a:pt x="183" y="179"/>
                  </a:lnTo>
                  <a:lnTo>
                    <a:pt x="183" y="181"/>
                  </a:lnTo>
                  <a:lnTo>
                    <a:pt x="186" y="183"/>
                  </a:lnTo>
                  <a:lnTo>
                    <a:pt x="190" y="183"/>
                  </a:lnTo>
                  <a:lnTo>
                    <a:pt x="188" y="185"/>
                  </a:lnTo>
                  <a:lnTo>
                    <a:pt x="186" y="185"/>
                  </a:lnTo>
                  <a:lnTo>
                    <a:pt x="181" y="185"/>
                  </a:lnTo>
                  <a:lnTo>
                    <a:pt x="179" y="183"/>
                  </a:lnTo>
                  <a:lnTo>
                    <a:pt x="177" y="181"/>
                  </a:lnTo>
                  <a:lnTo>
                    <a:pt x="179" y="177"/>
                  </a:lnTo>
                  <a:lnTo>
                    <a:pt x="179" y="179"/>
                  </a:lnTo>
                  <a:lnTo>
                    <a:pt x="181" y="177"/>
                  </a:lnTo>
                  <a:lnTo>
                    <a:pt x="179" y="175"/>
                  </a:lnTo>
                  <a:lnTo>
                    <a:pt x="186" y="167"/>
                  </a:lnTo>
                  <a:lnTo>
                    <a:pt x="186" y="169"/>
                  </a:lnTo>
                  <a:lnTo>
                    <a:pt x="188" y="167"/>
                  </a:lnTo>
                  <a:lnTo>
                    <a:pt x="186" y="165"/>
                  </a:lnTo>
                  <a:lnTo>
                    <a:pt x="188" y="163"/>
                  </a:lnTo>
                  <a:close/>
                  <a:moveTo>
                    <a:pt x="128" y="215"/>
                  </a:moveTo>
                  <a:lnTo>
                    <a:pt x="130" y="217"/>
                  </a:lnTo>
                  <a:lnTo>
                    <a:pt x="135" y="219"/>
                  </a:lnTo>
                  <a:lnTo>
                    <a:pt x="139" y="219"/>
                  </a:lnTo>
                  <a:lnTo>
                    <a:pt x="141" y="217"/>
                  </a:lnTo>
                  <a:lnTo>
                    <a:pt x="143" y="213"/>
                  </a:lnTo>
                  <a:lnTo>
                    <a:pt x="145" y="205"/>
                  </a:lnTo>
                  <a:lnTo>
                    <a:pt x="145" y="209"/>
                  </a:lnTo>
                  <a:lnTo>
                    <a:pt x="143" y="217"/>
                  </a:lnTo>
                  <a:lnTo>
                    <a:pt x="141" y="221"/>
                  </a:lnTo>
                  <a:lnTo>
                    <a:pt x="139" y="225"/>
                  </a:lnTo>
                  <a:lnTo>
                    <a:pt x="135" y="225"/>
                  </a:lnTo>
                  <a:lnTo>
                    <a:pt x="132" y="225"/>
                  </a:lnTo>
                  <a:lnTo>
                    <a:pt x="128" y="225"/>
                  </a:lnTo>
                  <a:lnTo>
                    <a:pt x="126" y="225"/>
                  </a:lnTo>
                  <a:lnTo>
                    <a:pt x="124" y="225"/>
                  </a:lnTo>
                  <a:lnTo>
                    <a:pt x="120" y="225"/>
                  </a:lnTo>
                  <a:lnTo>
                    <a:pt x="118" y="221"/>
                  </a:lnTo>
                  <a:lnTo>
                    <a:pt x="116" y="217"/>
                  </a:lnTo>
                  <a:lnTo>
                    <a:pt x="114" y="209"/>
                  </a:lnTo>
                  <a:lnTo>
                    <a:pt x="114" y="205"/>
                  </a:lnTo>
                  <a:lnTo>
                    <a:pt x="116" y="213"/>
                  </a:lnTo>
                  <a:lnTo>
                    <a:pt x="118" y="217"/>
                  </a:lnTo>
                  <a:lnTo>
                    <a:pt x="120" y="219"/>
                  </a:lnTo>
                  <a:lnTo>
                    <a:pt x="124" y="219"/>
                  </a:lnTo>
                  <a:lnTo>
                    <a:pt x="128" y="217"/>
                  </a:lnTo>
                  <a:lnTo>
                    <a:pt x="128" y="215"/>
                  </a:lnTo>
                  <a:close/>
                  <a:moveTo>
                    <a:pt x="75" y="47"/>
                  </a:moveTo>
                  <a:lnTo>
                    <a:pt x="77" y="49"/>
                  </a:lnTo>
                  <a:lnTo>
                    <a:pt x="77" y="51"/>
                  </a:lnTo>
                  <a:lnTo>
                    <a:pt x="77" y="53"/>
                  </a:lnTo>
                  <a:lnTo>
                    <a:pt x="75" y="53"/>
                  </a:lnTo>
                  <a:lnTo>
                    <a:pt x="73" y="55"/>
                  </a:lnTo>
                  <a:lnTo>
                    <a:pt x="69" y="53"/>
                  </a:lnTo>
                  <a:lnTo>
                    <a:pt x="67" y="53"/>
                  </a:lnTo>
                  <a:lnTo>
                    <a:pt x="65" y="47"/>
                  </a:lnTo>
                  <a:lnTo>
                    <a:pt x="65" y="45"/>
                  </a:lnTo>
                  <a:lnTo>
                    <a:pt x="67" y="43"/>
                  </a:lnTo>
                  <a:lnTo>
                    <a:pt x="71" y="41"/>
                  </a:lnTo>
                  <a:lnTo>
                    <a:pt x="75" y="41"/>
                  </a:lnTo>
                  <a:lnTo>
                    <a:pt x="81" y="41"/>
                  </a:lnTo>
                  <a:lnTo>
                    <a:pt x="90" y="45"/>
                  </a:lnTo>
                  <a:lnTo>
                    <a:pt x="92" y="45"/>
                  </a:lnTo>
                  <a:lnTo>
                    <a:pt x="86" y="45"/>
                  </a:lnTo>
                  <a:lnTo>
                    <a:pt x="79" y="43"/>
                  </a:lnTo>
                  <a:lnTo>
                    <a:pt x="73" y="43"/>
                  </a:lnTo>
                  <a:lnTo>
                    <a:pt x="69" y="45"/>
                  </a:lnTo>
                  <a:lnTo>
                    <a:pt x="67" y="47"/>
                  </a:lnTo>
                  <a:lnTo>
                    <a:pt x="69" y="49"/>
                  </a:lnTo>
                  <a:lnTo>
                    <a:pt x="69" y="51"/>
                  </a:lnTo>
                  <a:lnTo>
                    <a:pt x="71" y="51"/>
                  </a:lnTo>
                  <a:lnTo>
                    <a:pt x="71" y="49"/>
                  </a:lnTo>
                  <a:lnTo>
                    <a:pt x="73" y="47"/>
                  </a:lnTo>
                  <a:lnTo>
                    <a:pt x="75" y="47"/>
                  </a:lnTo>
                  <a:close/>
                  <a:moveTo>
                    <a:pt x="49" y="71"/>
                  </a:moveTo>
                  <a:lnTo>
                    <a:pt x="57" y="75"/>
                  </a:lnTo>
                  <a:lnTo>
                    <a:pt x="55" y="77"/>
                  </a:lnTo>
                  <a:lnTo>
                    <a:pt x="51" y="75"/>
                  </a:lnTo>
                  <a:lnTo>
                    <a:pt x="49" y="73"/>
                  </a:lnTo>
                  <a:lnTo>
                    <a:pt x="49" y="71"/>
                  </a:lnTo>
                  <a:close/>
                  <a:moveTo>
                    <a:pt x="71" y="57"/>
                  </a:moveTo>
                  <a:lnTo>
                    <a:pt x="71" y="61"/>
                  </a:lnTo>
                  <a:lnTo>
                    <a:pt x="69" y="59"/>
                  </a:lnTo>
                  <a:lnTo>
                    <a:pt x="67" y="61"/>
                  </a:lnTo>
                  <a:lnTo>
                    <a:pt x="69" y="61"/>
                  </a:lnTo>
                  <a:lnTo>
                    <a:pt x="63" y="69"/>
                  </a:lnTo>
                  <a:lnTo>
                    <a:pt x="61" y="69"/>
                  </a:lnTo>
                  <a:lnTo>
                    <a:pt x="61" y="71"/>
                  </a:lnTo>
                  <a:lnTo>
                    <a:pt x="63" y="71"/>
                  </a:lnTo>
                  <a:lnTo>
                    <a:pt x="61" y="73"/>
                  </a:lnTo>
                  <a:lnTo>
                    <a:pt x="55" y="71"/>
                  </a:lnTo>
                  <a:lnTo>
                    <a:pt x="53" y="69"/>
                  </a:lnTo>
                  <a:lnTo>
                    <a:pt x="51" y="67"/>
                  </a:lnTo>
                  <a:lnTo>
                    <a:pt x="53" y="65"/>
                  </a:lnTo>
                  <a:lnTo>
                    <a:pt x="55" y="67"/>
                  </a:lnTo>
                  <a:lnTo>
                    <a:pt x="57" y="69"/>
                  </a:lnTo>
                  <a:lnTo>
                    <a:pt x="59" y="67"/>
                  </a:lnTo>
                  <a:lnTo>
                    <a:pt x="57" y="65"/>
                  </a:lnTo>
                  <a:lnTo>
                    <a:pt x="55" y="63"/>
                  </a:lnTo>
                  <a:lnTo>
                    <a:pt x="59" y="55"/>
                  </a:lnTo>
                  <a:lnTo>
                    <a:pt x="61" y="57"/>
                  </a:lnTo>
                  <a:lnTo>
                    <a:pt x="65" y="59"/>
                  </a:lnTo>
                  <a:lnTo>
                    <a:pt x="63" y="55"/>
                  </a:lnTo>
                  <a:lnTo>
                    <a:pt x="61" y="53"/>
                  </a:lnTo>
                  <a:lnTo>
                    <a:pt x="63" y="51"/>
                  </a:lnTo>
                  <a:lnTo>
                    <a:pt x="67" y="55"/>
                  </a:lnTo>
                  <a:lnTo>
                    <a:pt x="69" y="57"/>
                  </a:lnTo>
                  <a:lnTo>
                    <a:pt x="71" y="57"/>
                  </a:lnTo>
                  <a:close/>
                  <a:moveTo>
                    <a:pt x="210" y="73"/>
                  </a:moveTo>
                  <a:lnTo>
                    <a:pt x="210" y="75"/>
                  </a:lnTo>
                  <a:lnTo>
                    <a:pt x="208" y="77"/>
                  </a:lnTo>
                  <a:lnTo>
                    <a:pt x="204" y="77"/>
                  </a:lnTo>
                  <a:lnTo>
                    <a:pt x="210" y="73"/>
                  </a:lnTo>
                  <a:close/>
                  <a:moveTo>
                    <a:pt x="186" y="57"/>
                  </a:moveTo>
                  <a:lnTo>
                    <a:pt x="190" y="57"/>
                  </a:lnTo>
                  <a:lnTo>
                    <a:pt x="192" y="55"/>
                  </a:lnTo>
                  <a:lnTo>
                    <a:pt x="196" y="51"/>
                  </a:lnTo>
                  <a:lnTo>
                    <a:pt x="198" y="53"/>
                  </a:lnTo>
                  <a:lnTo>
                    <a:pt x="196" y="55"/>
                  </a:lnTo>
                  <a:lnTo>
                    <a:pt x="194" y="59"/>
                  </a:lnTo>
                  <a:lnTo>
                    <a:pt x="198" y="57"/>
                  </a:lnTo>
                  <a:lnTo>
                    <a:pt x="200" y="55"/>
                  </a:lnTo>
                  <a:lnTo>
                    <a:pt x="204" y="63"/>
                  </a:lnTo>
                  <a:lnTo>
                    <a:pt x="202" y="65"/>
                  </a:lnTo>
                  <a:lnTo>
                    <a:pt x="200" y="67"/>
                  </a:lnTo>
                  <a:lnTo>
                    <a:pt x="200" y="69"/>
                  </a:lnTo>
                  <a:lnTo>
                    <a:pt x="204" y="67"/>
                  </a:lnTo>
                  <a:lnTo>
                    <a:pt x="206" y="65"/>
                  </a:lnTo>
                  <a:lnTo>
                    <a:pt x="208" y="67"/>
                  </a:lnTo>
                  <a:lnTo>
                    <a:pt x="204" y="71"/>
                  </a:lnTo>
                  <a:lnTo>
                    <a:pt x="200" y="73"/>
                  </a:lnTo>
                  <a:lnTo>
                    <a:pt x="198" y="73"/>
                  </a:lnTo>
                  <a:lnTo>
                    <a:pt x="196" y="71"/>
                  </a:lnTo>
                  <a:lnTo>
                    <a:pt x="198" y="71"/>
                  </a:lnTo>
                  <a:lnTo>
                    <a:pt x="196" y="69"/>
                  </a:lnTo>
                  <a:lnTo>
                    <a:pt x="194" y="69"/>
                  </a:lnTo>
                  <a:lnTo>
                    <a:pt x="190" y="61"/>
                  </a:lnTo>
                  <a:lnTo>
                    <a:pt x="192" y="61"/>
                  </a:lnTo>
                  <a:lnTo>
                    <a:pt x="190" y="59"/>
                  </a:lnTo>
                  <a:lnTo>
                    <a:pt x="188" y="61"/>
                  </a:lnTo>
                  <a:lnTo>
                    <a:pt x="186" y="57"/>
                  </a:lnTo>
                  <a:close/>
                  <a:moveTo>
                    <a:pt x="183" y="47"/>
                  </a:moveTo>
                  <a:lnTo>
                    <a:pt x="186" y="47"/>
                  </a:lnTo>
                  <a:lnTo>
                    <a:pt x="188" y="49"/>
                  </a:lnTo>
                  <a:lnTo>
                    <a:pt x="188" y="51"/>
                  </a:lnTo>
                  <a:lnTo>
                    <a:pt x="190" y="51"/>
                  </a:lnTo>
                  <a:lnTo>
                    <a:pt x="190" y="49"/>
                  </a:lnTo>
                  <a:lnTo>
                    <a:pt x="190" y="47"/>
                  </a:lnTo>
                  <a:lnTo>
                    <a:pt x="190" y="45"/>
                  </a:lnTo>
                  <a:lnTo>
                    <a:pt x="186" y="43"/>
                  </a:lnTo>
                  <a:lnTo>
                    <a:pt x="179" y="43"/>
                  </a:lnTo>
                  <a:lnTo>
                    <a:pt x="173" y="45"/>
                  </a:lnTo>
                  <a:lnTo>
                    <a:pt x="167" y="45"/>
                  </a:lnTo>
                  <a:lnTo>
                    <a:pt x="169" y="45"/>
                  </a:lnTo>
                  <a:lnTo>
                    <a:pt x="177" y="41"/>
                  </a:lnTo>
                  <a:lnTo>
                    <a:pt x="183" y="41"/>
                  </a:lnTo>
                  <a:lnTo>
                    <a:pt x="188" y="41"/>
                  </a:lnTo>
                  <a:lnTo>
                    <a:pt x="190" y="41"/>
                  </a:lnTo>
                  <a:lnTo>
                    <a:pt x="192" y="43"/>
                  </a:lnTo>
                  <a:lnTo>
                    <a:pt x="194" y="45"/>
                  </a:lnTo>
                  <a:lnTo>
                    <a:pt x="194" y="47"/>
                  </a:lnTo>
                  <a:lnTo>
                    <a:pt x="192" y="51"/>
                  </a:lnTo>
                  <a:lnTo>
                    <a:pt x="190" y="53"/>
                  </a:lnTo>
                  <a:lnTo>
                    <a:pt x="186" y="53"/>
                  </a:lnTo>
                  <a:lnTo>
                    <a:pt x="183" y="53"/>
                  </a:lnTo>
                  <a:lnTo>
                    <a:pt x="181" y="49"/>
                  </a:lnTo>
                  <a:lnTo>
                    <a:pt x="181" y="47"/>
                  </a:lnTo>
                  <a:lnTo>
                    <a:pt x="183" y="47"/>
                  </a:lnTo>
                  <a:close/>
                  <a:moveTo>
                    <a:pt x="159" y="41"/>
                  </a:moveTo>
                  <a:lnTo>
                    <a:pt x="157" y="43"/>
                  </a:lnTo>
                  <a:lnTo>
                    <a:pt x="153" y="43"/>
                  </a:lnTo>
                  <a:lnTo>
                    <a:pt x="159" y="39"/>
                  </a:lnTo>
                  <a:lnTo>
                    <a:pt x="159" y="41"/>
                  </a:lnTo>
                  <a:close/>
                  <a:moveTo>
                    <a:pt x="100" y="41"/>
                  </a:moveTo>
                  <a:lnTo>
                    <a:pt x="100" y="39"/>
                  </a:lnTo>
                  <a:lnTo>
                    <a:pt x="106" y="43"/>
                  </a:lnTo>
                  <a:lnTo>
                    <a:pt x="104" y="43"/>
                  </a:lnTo>
                  <a:lnTo>
                    <a:pt x="100" y="41"/>
                  </a:lnTo>
                  <a:close/>
                  <a:moveTo>
                    <a:pt x="165" y="41"/>
                  </a:moveTo>
                  <a:lnTo>
                    <a:pt x="161" y="45"/>
                  </a:lnTo>
                  <a:lnTo>
                    <a:pt x="159" y="45"/>
                  </a:lnTo>
                  <a:lnTo>
                    <a:pt x="161" y="43"/>
                  </a:lnTo>
                  <a:lnTo>
                    <a:pt x="163" y="41"/>
                  </a:lnTo>
                  <a:lnTo>
                    <a:pt x="163" y="39"/>
                  </a:lnTo>
                  <a:lnTo>
                    <a:pt x="161" y="39"/>
                  </a:lnTo>
                  <a:lnTo>
                    <a:pt x="161" y="37"/>
                  </a:lnTo>
                  <a:lnTo>
                    <a:pt x="159" y="35"/>
                  </a:lnTo>
                  <a:lnTo>
                    <a:pt x="161" y="33"/>
                  </a:lnTo>
                  <a:lnTo>
                    <a:pt x="163" y="33"/>
                  </a:lnTo>
                  <a:lnTo>
                    <a:pt x="165" y="33"/>
                  </a:lnTo>
                  <a:lnTo>
                    <a:pt x="165" y="35"/>
                  </a:lnTo>
                  <a:lnTo>
                    <a:pt x="165" y="39"/>
                  </a:lnTo>
                  <a:lnTo>
                    <a:pt x="165" y="41"/>
                  </a:lnTo>
                  <a:close/>
                  <a:moveTo>
                    <a:pt x="94" y="41"/>
                  </a:moveTo>
                  <a:lnTo>
                    <a:pt x="94" y="35"/>
                  </a:lnTo>
                  <a:lnTo>
                    <a:pt x="94" y="33"/>
                  </a:lnTo>
                  <a:lnTo>
                    <a:pt x="96" y="33"/>
                  </a:lnTo>
                  <a:lnTo>
                    <a:pt x="98" y="33"/>
                  </a:lnTo>
                  <a:lnTo>
                    <a:pt x="100" y="35"/>
                  </a:lnTo>
                  <a:lnTo>
                    <a:pt x="98" y="37"/>
                  </a:lnTo>
                  <a:lnTo>
                    <a:pt x="96" y="39"/>
                  </a:lnTo>
                  <a:lnTo>
                    <a:pt x="96" y="41"/>
                  </a:lnTo>
                  <a:lnTo>
                    <a:pt x="98" y="43"/>
                  </a:lnTo>
                  <a:lnTo>
                    <a:pt x="100" y="45"/>
                  </a:lnTo>
                  <a:lnTo>
                    <a:pt x="98" y="45"/>
                  </a:lnTo>
                  <a:lnTo>
                    <a:pt x="96" y="43"/>
                  </a:lnTo>
                  <a:lnTo>
                    <a:pt x="94" y="41"/>
                  </a:lnTo>
                  <a:close/>
                  <a:moveTo>
                    <a:pt x="116" y="28"/>
                  </a:moveTo>
                  <a:lnTo>
                    <a:pt x="116" y="30"/>
                  </a:lnTo>
                  <a:lnTo>
                    <a:pt x="114" y="30"/>
                  </a:lnTo>
                  <a:lnTo>
                    <a:pt x="112" y="30"/>
                  </a:lnTo>
                  <a:lnTo>
                    <a:pt x="110" y="28"/>
                  </a:lnTo>
                  <a:lnTo>
                    <a:pt x="110" y="24"/>
                  </a:lnTo>
                  <a:lnTo>
                    <a:pt x="112" y="18"/>
                  </a:lnTo>
                  <a:lnTo>
                    <a:pt x="116" y="16"/>
                  </a:lnTo>
                  <a:lnTo>
                    <a:pt x="118" y="12"/>
                  </a:lnTo>
                  <a:lnTo>
                    <a:pt x="122" y="10"/>
                  </a:lnTo>
                  <a:lnTo>
                    <a:pt x="126" y="10"/>
                  </a:lnTo>
                  <a:lnTo>
                    <a:pt x="132" y="10"/>
                  </a:lnTo>
                  <a:lnTo>
                    <a:pt x="139" y="12"/>
                  </a:lnTo>
                  <a:lnTo>
                    <a:pt x="145" y="18"/>
                  </a:lnTo>
                  <a:lnTo>
                    <a:pt x="147" y="20"/>
                  </a:lnTo>
                  <a:lnTo>
                    <a:pt x="147" y="24"/>
                  </a:lnTo>
                  <a:lnTo>
                    <a:pt x="147" y="28"/>
                  </a:lnTo>
                  <a:lnTo>
                    <a:pt x="147" y="30"/>
                  </a:lnTo>
                  <a:lnTo>
                    <a:pt x="145" y="30"/>
                  </a:lnTo>
                  <a:lnTo>
                    <a:pt x="143" y="30"/>
                  </a:lnTo>
                  <a:lnTo>
                    <a:pt x="143" y="28"/>
                  </a:lnTo>
                  <a:lnTo>
                    <a:pt x="143" y="26"/>
                  </a:lnTo>
                  <a:lnTo>
                    <a:pt x="145" y="26"/>
                  </a:lnTo>
                  <a:lnTo>
                    <a:pt x="145" y="22"/>
                  </a:lnTo>
                  <a:lnTo>
                    <a:pt x="143" y="20"/>
                  </a:lnTo>
                  <a:lnTo>
                    <a:pt x="139" y="16"/>
                  </a:lnTo>
                  <a:lnTo>
                    <a:pt x="132" y="12"/>
                  </a:lnTo>
                  <a:lnTo>
                    <a:pt x="126" y="12"/>
                  </a:lnTo>
                  <a:lnTo>
                    <a:pt x="122" y="14"/>
                  </a:lnTo>
                  <a:lnTo>
                    <a:pt x="116" y="18"/>
                  </a:lnTo>
                  <a:lnTo>
                    <a:pt x="114" y="22"/>
                  </a:lnTo>
                  <a:lnTo>
                    <a:pt x="114" y="24"/>
                  </a:lnTo>
                  <a:lnTo>
                    <a:pt x="114" y="26"/>
                  </a:lnTo>
                  <a:lnTo>
                    <a:pt x="116" y="26"/>
                  </a:lnTo>
                  <a:lnTo>
                    <a:pt x="116" y="28"/>
                  </a:lnTo>
                  <a:close/>
                  <a:moveTo>
                    <a:pt x="202" y="93"/>
                  </a:moveTo>
                  <a:lnTo>
                    <a:pt x="196" y="93"/>
                  </a:lnTo>
                  <a:lnTo>
                    <a:pt x="194" y="93"/>
                  </a:lnTo>
                  <a:lnTo>
                    <a:pt x="194" y="91"/>
                  </a:lnTo>
                  <a:lnTo>
                    <a:pt x="194" y="83"/>
                  </a:lnTo>
                  <a:lnTo>
                    <a:pt x="192" y="83"/>
                  </a:lnTo>
                  <a:lnTo>
                    <a:pt x="190" y="81"/>
                  </a:lnTo>
                  <a:lnTo>
                    <a:pt x="188" y="79"/>
                  </a:lnTo>
                  <a:lnTo>
                    <a:pt x="188" y="67"/>
                  </a:lnTo>
                  <a:lnTo>
                    <a:pt x="190" y="67"/>
                  </a:lnTo>
                  <a:lnTo>
                    <a:pt x="190" y="79"/>
                  </a:lnTo>
                  <a:lnTo>
                    <a:pt x="192" y="81"/>
                  </a:lnTo>
                  <a:lnTo>
                    <a:pt x="196" y="83"/>
                  </a:lnTo>
                  <a:lnTo>
                    <a:pt x="196" y="91"/>
                  </a:lnTo>
                  <a:lnTo>
                    <a:pt x="198" y="93"/>
                  </a:lnTo>
                  <a:lnTo>
                    <a:pt x="202" y="93"/>
                  </a:lnTo>
                  <a:close/>
                  <a:moveTo>
                    <a:pt x="55" y="93"/>
                  </a:moveTo>
                  <a:lnTo>
                    <a:pt x="59" y="93"/>
                  </a:lnTo>
                  <a:lnTo>
                    <a:pt x="61" y="91"/>
                  </a:lnTo>
                  <a:lnTo>
                    <a:pt x="61" y="83"/>
                  </a:lnTo>
                  <a:lnTo>
                    <a:pt x="65" y="81"/>
                  </a:lnTo>
                  <a:lnTo>
                    <a:pt x="67" y="81"/>
                  </a:lnTo>
                  <a:lnTo>
                    <a:pt x="67" y="79"/>
                  </a:lnTo>
                  <a:lnTo>
                    <a:pt x="67" y="67"/>
                  </a:lnTo>
                  <a:lnTo>
                    <a:pt x="69" y="67"/>
                  </a:lnTo>
                  <a:lnTo>
                    <a:pt x="69" y="79"/>
                  </a:lnTo>
                  <a:lnTo>
                    <a:pt x="67" y="81"/>
                  </a:lnTo>
                  <a:lnTo>
                    <a:pt x="65" y="83"/>
                  </a:lnTo>
                  <a:lnTo>
                    <a:pt x="63" y="83"/>
                  </a:lnTo>
                  <a:lnTo>
                    <a:pt x="63" y="91"/>
                  </a:lnTo>
                  <a:lnTo>
                    <a:pt x="63" y="93"/>
                  </a:lnTo>
                  <a:lnTo>
                    <a:pt x="61" y="93"/>
                  </a:lnTo>
                  <a:lnTo>
                    <a:pt x="55" y="93"/>
                  </a:lnTo>
                  <a:close/>
                  <a:moveTo>
                    <a:pt x="49" y="126"/>
                  </a:moveTo>
                  <a:lnTo>
                    <a:pt x="47" y="122"/>
                  </a:lnTo>
                  <a:lnTo>
                    <a:pt x="47" y="83"/>
                  </a:lnTo>
                  <a:lnTo>
                    <a:pt x="51" y="83"/>
                  </a:lnTo>
                  <a:lnTo>
                    <a:pt x="51" y="122"/>
                  </a:lnTo>
                  <a:lnTo>
                    <a:pt x="51" y="124"/>
                  </a:lnTo>
                  <a:lnTo>
                    <a:pt x="53" y="126"/>
                  </a:lnTo>
                  <a:lnTo>
                    <a:pt x="55" y="128"/>
                  </a:lnTo>
                  <a:lnTo>
                    <a:pt x="57" y="128"/>
                  </a:lnTo>
                  <a:lnTo>
                    <a:pt x="59" y="128"/>
                  </a:lnTo>
                  <a:lnTo>
                    <a:pt x="55" y="128"/>
                  </a:lnTo>
                  <a:lnTo>
                    <a:pt x="53" y="128"/>
                  </a:lnTo>
                  <a:lnTo>
                    <a:pt x="51" y="128"/>
                  </a:lnTo>
                  <a:lnTo>
                    <a:pt x="49" y="126"/>
                  </a:lnTo>
                  <a:close/>
                  <a:moveTo>
                    <a:pt x="198" y="102"/>
                  </a:moveTo>
                  <a:lnTo>
                    <a:pt x="192" y="98"/>
                  </a:lnTo>
                  <a:lnTo>
                    <a:pt x="192" y="112"/>
                  </a:lnTo>
                  <a:lnTo>
                    <a:pt x="194" y="114"/>
                  </a:lnTo>
                  <a:lnTo>
                    <a:pt x="196" y="114"/>
                  </a:lnTo>
                  <a:lnTo>
                    <a:pt x="198" y="114"/>
                  </a:lnTo>
                  <a:lnTo>
                    <a:pt x="198" y="112"/>
                  </a:lnTo>
                  <a:lnTo>
                    <a:pt x="198" y="102"/>
                  </a:lnTo>
                  <a:close/>
                  <a:moveTo>
                    <a:pt x="61" y="102"/>
                  </a:moveTo>
                  <a:lnTo>
                    <a:pt x="61" y="112"/>
                  </a:lnTo>
                  <a:lnTo>
                    <a:pt x="61" y="114"/>
                  </a:lnTo>
                  <a:lnTo>
                    <a:pt x="63" y="114"/>
                  </a:lnTo>
                  <a:lnTo>
                    <a:pt x="65" y="114"/>
                  </a:lnTo>
                  <a:lnTo>
                    <a:pt x="67" y="112"/>
                  </a:lnTo>
                  <a:lnTo>
                    <a:pt x="67" y="98"/>
                  </a:lnTo>
                  <a:lnTo>
                    <a:pt x="63" y="100"/>
                  </a:lnTo>
                  <a:lnTo>
                    <a:pt x="61" y="102"/>
                  </a:lnTo>
                  <a:close/>
                  <a:moveTo>
                    <a:pt x="190" y="126"/>
                  </a:moveTo>
                  <a:lnTo>
                    <a:pt x="190" y="118"/>
                  </a:lnTo>
                  <a:lnTo>
                    <a:pt x="188" y="114"/>
                  </a:lnTo>
                  <a:lnTo>
                    <a:pt x="186" y="100"/>
                  </a:lnTo>
                  <a:lnTo>
                    <a:pt x="183" y="83"/>
                  </a:lnTo>
                  <a:lnTo>
                    <a:pt x="179" y="77"/>
                  </a:lnTo>
                  <a:lnTo>
                    <a:pt x="177" y="71"/>
                  </a:lnTo>
                  <a:lnTo>
                    <a:pt x="171" y="63"/>
                  </a:lnTo>
                  <a:lnTo>
                    <a:pt x="165" y="57"/>
                  </a:lnTo>
                  <a:lnTo>
                    <a:pt x="157" y="53"/>
                  </a:lnTo>
                  <a:lnTo>
                    <a:pt x="149" y="49"/>
                  </a:lnTo>
                  <a:lnTo>
                    <a:pt x="147" y="45"/>
                  </a:lnTo>
                  <a:lnTo>
                    <a:pt x="143" y="41"/>
                  </a:lnTo>
                  <a:lnTo>
                    <a:pt x="139" y="37"/>
                  </a:lnTo>
                  <a:lnTo>
                    <a:pt x="139" y="35"/>
                  </a:lnTo>
                  <a:lnTo>
                    <a:pt x="137" y="30"/>
                  </a:lnTo>
                  <a:lnTo>
                    <a:pt x="135" y="28"/>
                  </a:lnTo>
                  <a:lnTo>
                    <a:pt x="135" y="26"/>
                  </a:lnTo>
                  <a:lnTo>
                    <a:pt x="137" y="26"/>
                  </a:lnTo>
                  <a:lnTo>
                    <a:pt x="137" y="24"/>
                  </a:lnTo>
                  <a:lnTo>
                    <a:pt x="137" y="22"/>
                  </a:lnTo>
                  <a:lnTo>
                    <a:pt x="135" y="20"/>
                  </a:lnTo>
                  <a:lnTo>
                    <a:pt x="132" y="18"/>
                  </a:lnTo>
                  <a:lnTo>
                    <a:pt x="128" y="18"/>
                  </a:lnTo>
                  <a:lnTo>
                    <a:pt x="126" y="18"/>
                  </a:lnTo>
                  <a:lnTo>
                    <a:pt x="124" y="20"/>
                  </a:lnTo>
                  <a:lnTo>
                    <a:pt x="122" y="22"/>
                  </a:lnTo>
                  <a:lnTo>
                    <a:pt x="124" y="24"/>
                  </a:lnTo>
                  <a:lnTo>
                    <a:pt x="124" y="26"/>
                  </a:lnTo>
                  <a:lnTo>
                    <a:pt x="124" y="28"/>
                  </a:lnTo>
                  <a:lnTo>
                    <a:pt x="122" y="30"/>
                  </a:lnTo>
                  <a:lnTo>
                    <a:pt x="120" y="35"/>
                  </a:lnTo>
                  <a:lnTo>
                    <a:pt x="120" y="37"/>
                  </a:lnTo>
                  <a:lnTo>
                    <a:pt x="116" y="41"/>
                  </a:lnTo>
                  <a:lnTo>
                    <a:pt x="112" y="45"/>
                  </a:lnTo>
                  <a:lnTo>
                    <a:pt x="106" y="49"/>
                  </a:lnTo>
                  <a:lnTo>
                    <a:pt x="104" y="51"/>
                  </a:lnTo>
                  <a:lnTo>
                    <a:pt x="100" y="53"/>
                  </a:lnTo>
                  <a:lnTo>
                    <a:pt x="92" y="59"/>
                  </a:lnTo>
                  <a:lnTo>
                    <a:pt x="86" y="67"/>
                  </a:lnTo>
                  <a:lnTo>
                    <a:pt x="83" y="71"/>
                  </a:lnTo>
                  <a:lnTo>
                    <a:pt x="79" y="77"/>
                  </a:lnTo>
                  <a:lnTo>
                    <a:pt x="75" y="87"/>
                  </a:lnTo>
                  <a:lnTo>
                    <a:pt x="73" y="108"/>
                  </a:lnTo>
                  <a:lnTo>
                    <a:pt x="71" y="118"/>
                  </a:lnTo>
                  <a:lnTo>
                    <a:pt x="73" y="126"/>
                  </a:lnTo>
                  <a:lnTo>
                    <a:pt x="73" y="138"/>
                  </a:lnTo>
                  <a:lnTo>
                    <a:pt x="73" y="142"/>
                  </a:lnTo>
                  <a:lnTo>
                    <a:pt x="75" y="146"/>
                  </a:lnTo>
                  <a:lnTo>
                    <a:pt x="75" y="152"/>
                  </a:lnTo>
                  <a:lnTo>
                    <a:pt x="77" y="156"/>
                  </a:lnTo>
                  <a:lnTo>
                    <a:pt x="79" y="160"/>
                  </a:lnTo>
                  <a:lnTo>
                    <a:pt x="81" y="169"/>
                  </a:lnTo>
                  <a:lnTo>
                    <a:pt x="86" y="175"/>
                  </a:lnTo>
                  <a:lnTo>
                    <a:pt x="90" y="179"/>
                  </a:lnTo>
                  <a:lnTo>
                    <a:pt x="96" y="185"/>
                  </a:lnTo>
                  <a:lnTo>
                    <a:pt x="106" y="191"/>
                  </a:lnTo>
                  <a:lnTo>
                    <a:pt x="112" y="195"/>
                  </a:lnTo>
                  <a:lnTo>
                    <a:pt x="120" y="197"/>
                  </a:lnTo>
                  <a:lnTo>
                    <a:pt x="122" y="199"/>
                  </a:lnTo>
                  <a:lnTo>
                    <a:pt x="122" y="201"/>
                  </a:lnTo>
                  <a:lnTo>
                    <a:pt x="122" y="205"/>
                  </a:lnTo>
                  <a:lnTo>
                    <a:pt x="124" y="209"/>
                  </a:lnTo>
                  <a:lnTo>
                    <a:pt x="126" y="211"/>
                  </a:lnTo>
                  <a:lnTo>
                    <a:pt x="124" y="213"/>
                  </a:lnTo>
                  <a:lnTo>
                    <a:pt x="122" y="215"/>
                  </a:lnTo>
                  <a:lnTo>
                    <a:pt x="120" y="215"/>
                  </a:lnTo>
                  <a:lnTo>
                    <a:pt x="116" y="209"/>
                  </a:lnTo>
                  <a:lnTo>
                    <a:pt x="116" y="201"/>
                  </a:lnTo>
                  <a:lnTo>
                    <a:pt x="106" y="201"/>
                  </a:lnTo>
                  <a:lnTo>
                    <a:pt x="104" y="213"/>
                  </a:lnTo>
                  <a:lnTo>
                    <a:pt x="100" y="217"/>
                  </a:lnTo>
                  <a:lnTo>
                    <a:pt x="96" y="221"/>
                  </a:lnTo>
                  <a:lnTo>
                    <a:pt x="92" y="221"/>
                  </a:lnTo>
                  <a:lnTo>
                    <a:pt x="90" y="219"/>
                  </a:lnTo>
                  <a:lnTo>
                    <a:pt x="86" y="217"/>
                  </a:lnTo>
                  <a:lnTo>
                    <a:pt x="83" y="215"/>
                  </a:lnTo>
                  <a:lnTo>
                    <a:pt x="90" y="213"/>
                  </a:lnTo>
                  <a:lnTo>
                    <a:pt x="92" y="211"/>
                  </a:lnTo>
                  <a:lnTo>
                    <a:pt x="94" y="207"/>
                  </a:lnTo>
                  <a:lnTo>
                    <a:pt x="96" y="205"/>
                  </a:lnTo>
                  <a:lnTo>
                    <a:pt x="96" y="201"/>
                  </a:lnTo>
                  <a:lnTo>
                    <a:pt x="96" y="191"/>
                  </a:lnTo>
                  <a:lnTo>
                    <a:pt x="94" y="191"/>
                  </a:lnTo>
                  <a:lnTo>
                    <a:pt x="90" y="199"/>
                  </a:lnTo>
                  <a:lnTo>
                    <a:pt x="88" y="199"/>
                  </a:lnTo>
                  <a:lnTo>
                    <a:pt x="86" y="197"/>
                  </a:lnTo>
                  <a:lnTo>
                    <a:pt x="83" y="197"/>
                  </a:lnTo>
                  <a:lnTo>
                    <a:pt x="83" y="195"/>
                  </a:lnTo>
                  <a:lnTo>
                    <a:pt x="88" y="191"/>
                  </a:lnTo>
                  <a:lnTo>
                    <a:pt x="90" y="189"/>
                  </a:lnTo>
                  <a:lnTo>
                    <a:pt x="90" y="185"/>
                  </a:lnTo>
                  <a:lnTo>
                    <a:pt x="86" y="181"/>
                  </a:lnTo>
                  <a:lnTo>
                    <a:pt x="81" y="171"/>
                  </a:lnTo>
                  <a:lnTo>
                    <a:pt x="75" y="160"/>
                  </a:lnTo>
                  <a:lnTo>
                    <a:pt x="69" y="152"/>
                  </a:lnTo>
                  <a:lnTo>
                    <a:pt x="65" y="152"/>
                  </a:lnTo>
                  <a:lnTo>
                    <a:pt x="65" y="150"/>
                  </a:lnTo>
                  <a:lnTo>
                    <a:pt x="71" y="138"/>
                  </a:lnTo>
                  <a:lnTo>
                    <a:pt x="71" y="136"/>
                  </a:lnTo>
                  <a:lnTo>
                    <a:pt x="69" y="134"/>
                  </a:lnTo>
                  <a:lnTo>
                    <a:pt x="67" y="134"/>
                  </a:lnTo>
                  <a:lnTo>
                    <a:pt x="67" y="126"/>
                  </a:lnTo>
                  <a:lnTo>
                    <a:pt x="67" y="124"/>
                  </a:lnTo>
                  <a:lnTo>
                    <a:pt x="65" y="120"/>
                  </a:lnTo>
                  <a:lnTo>
                    <a:pt x="63" y="120"/>
                  </a:lnTo>
                  <a:lnTo>
                    <a:pt x="61" y="120"/>
                  </a:lnTo>
                  <a:lnTo>
                    <a:pt x="59" y="120"/>
                  </a:lnTo>
                  <a:lnTo>
                    <a:pt x="59" y="122"/>
                  </a:lnTo>
                  <a:lnTo>
                    <a:pt x="57" y="122"/>
                  </a:lnTo>
                  <a:lnTo>
                    <a:pt x="57" y="118"/>
                  </a:lnTo>
                  <a:lnTo>
                    <a:pt x="57" y="98"/>
                  </a:lnTo>
                  <a:lnTo>
                    <a:pt x="61" y="98"/>
                  </a:lnTo>
                  <a:lnTo>
                    <a:pt x="63" y="95"/>
                  </a:lnTo>
                  <a:lnTo>
                    <a:pt x="65" y="95"/>
                  </a:lnTo>
                  <a:lnTo>
                    <a:pt x="65" y="93"/>
                  </a:lnTo>
                  <a:lnTo>
                    <a:pt x="65" y="85"/>
                  </a:lnTo>
                  <a:lnTo>
                    <a:pt x="69" y="83"/>
                  </a:lnTo>
                  <a:lnTo>
                    <a:pt x="71" y="81"/>
                  </a:lnTo>
                  <a:lnTo>
                    <a:pt x="71" y="69"/>
                  </a:lnTo>
                  <a:lnTo>
                    <a:pt x="71" y="65"/>
                  </a:lnTo>
                  <a:lnTo>
                    <a:pt x="73" y="61"/>
                  </a:lnTo>
                  <a:lnTo>
                    <a:pt x="75" y="57"/>
                  </a:lnTo>
                  <a:lnTo>
                    <a:pt x="77" y="55"/>
                  </a:lnTo>
                  <a:lnTo>
                    <a:pt x="79" y="53"/>
                  </a:lnTo>
                  <a:lnTo>
                    <a:pt x="79" y="51"/>
                  </a:lnTo>
                  <a:lnTo>
                    <a:pt x="81" y="49"/>
                  </a:lnTo>
                  <a:lnTo>
                    <a:pt x="79" y="47"/>
                  </a:lnTo>
                  <a:lnTo>
                    <a:pt x="86" y="47"/>
                  </a:lnTo>
                  <a:lnTo>
                    <a:pt x="90" y="49"/>
                  </a:lnTo>
                  <a:lnTo>
                    <a:pt x="96" y="49"/>
                  </a:lnTo>
                  <a:lnTo>
                    <a:pt x="100" y="49"/>
                  </a:lnTo>
                  <a:lnTo>
                    <a:pt x="104" y="47"/>
                  </a:lnTo>
                  <a:lnTo>
                    <a:pt x="108" y="45"/>
                  </a:lnTo>
                  <a:lnTo>
                    <a:pt x="112" y="41"/>
                  </a:lnTo>
                  <a:lnTo>
                    <a:pt x="114" y="37"/>
                  </a:lnTo>
                  <a:lnTo>
                    <a:pt x="116" y="35"/>
                  </a:lnTo>
                  <a:lnTo>
                    <a:pt x="118" y="35"/>
                  </a:lnTo>
                  <a:lnTo>
                    <a:pt x="120" y="30"/>
                  </a:lnTo>
                  <a:lnTo>
                    <a:pt x="120" y="28"/>
                  </a:lnTo>
                  <a:lnTo>
                    <a:pt x="118" y="26"/>
                  </a:lnTo>
                  <a:lnTo>
                    <a:pt x="118" y="24"/>
                  </a:lnTo>
                  <a:lnTo>
                    <a:pt x="118" y="22"/>
                  </a:lnTo>
                  <a:lnTo>
                    <a:pt x="120" y="18"/>
                  </a:lnTo>
                  <a:lnTo>
                    <a:pt x="124" y="16"/>
                  </a:lnTo>
                  <a:lnTo>
                    <a:pt x="128" y="16"/>
                  </a:lnTo>
                  <a:lnTo>
                    <a:pt x="130" y="16"/>
                  </a:lnTo>
                  <a:lnTo>
                    <a:pt x="135" y="16"/>
                  </a:lnTo>
                  <a:lnTo>
                    <a:pt x="139" y="18"/>
                  </a:lnTo>
                  <a:lnTo>
                    <a:pt x="141" y="22"/>
                  </a:lnTo>
                  <a:lnTo>
                    <a:pt x="141" y="24"/>
                  </a:lnTo>
                  <a:lnTo>
                    <a:pt x="139" y="26"/>
                  </a:lnTo>
                  <a:lnTo>
                    <a:pt x="139" y="30"/>
                  </a:lnTo>
                  <a:lnTo>
                    <a:pt x="141" y="33"/>
                  </a:lnTo>
                  <a:lnTo>
                    <a:pt x="143" y="39"/>
                  </a:lnTo>
                  <a:lnTo>
                    <a:pt x="149" y="43"/>
                  </a:lnTo>
                  <a:lnTo>
                    <a:pt x="153" y="47"/>
                  </a:lnTo>
                  <a:lnTo>
                    <a:pt x="163" y="49"/>
                  </a:lnTo>
                  <a:lnTo>
                    <a:pt x="167" y="49"/>
                  </a:lnTo>
                  <a:lnTo>
                    <a:pt x="171" y="47"/>
                  </a:lnTo>
                  <a:lnTo>
                    <a:pt x="179" y="47"/>
                  </a:lnTo>
                  <a:lnTo>
                    <a:pt x="179" y="49"/>
                  </a:lnTo>
                  <a:lnTo>
                    <a:pt x="179" y="53"/>
                  </a:lnTo>
                  <a:lnTo>
                    <a:pt x="181" y="57"/>
                  </a:lnTo>
                  <a:lnTo>
                    <a:pt x="186" y="65"/>
                  </a:lnTo>
                  <a:lnTo>
                    <a:pt x="186" y="81"/>
                  </a:lnTo>
                  <a:lnTo>
                    <a:pt x="190" y="85"/>
                  </a:lnTo>
                  <a:lnTo>
                    <a:pt x="192" y="85"/>
                  </a:lnTo>
                  <a:lnTo>
                    <a:pt x="192" y="91"/>
                  </a:lnTo>
                  <a:lnTo>
                    <a:pt x="194" y="95"/>
                  </a:lnTo>
                  <a:lnTo>
                    <a:pt x="196" y="98"/>
                  </a:lnTo>
                  <a:lnTo>
                    <a:pt x="204" y="95"/>
                  </a:lnTo>
                  <a:lnTo>
                    <a:pt x="204" y="118"/>
                  </a:lnTo>
                  <a:lnTo>
                    <a:pt x="204" y="120"/>
                  </a:lnTo>
                  <a:lnTo>
                    <a:pt x="202" y="122"/>
                  </a:lnTo>
                  <a:lnTo>
                    <a:pt x="200" y="122"/>
                  </a:lnTo>
                  <a:lnTo>
                    <a:pt x="198" y="122"/>
                  </a:lnTo>
                  <a:lnTo>
                    <a:pt x="196" y="120"/>
                  </a:lnTo>
                  <a:lnTo>
                    <a:pt x="194" y="122"/>
                  </a:lnTo>
                  <a:lnTo>
                    <a:pt x="192" y="126"/>
                  </a:lnTo>
                  <a:lnTo>
                    <a:pt x="192" y="134"/>
                  </a:lnTo>
                  <a:lnTo>
                    <a:pt x="190" y="134"/>
                  </a:lnTo>
                  <a:lnTo>
                    <a:pt x="190" y="126"/>
                  </a:lnTo>
                  <a:close/>
                  <a:moveTo>
                    <a:pt x="194" y="112"/>
                  </a:moveTo>
                  <a:lnTo>
                    <a:pt x="194" y="104"/>
                  </a:lnTo>
                  <a:lnTo>
                    <a:pt x="196" y="104"/>
                  </a:lnTo>
                  <a:lnTo>
                    <a:pt x="196" y="112"/>
                  </a:lnTo>
                  <a:lnTo>
                    <a:pt x="194" y="112"/>
                  </a:lnTo>
                  <a:close/>
                  <a:moveTo>
                    <a:pt x="65" y="112"/>
                  </a:moveTo>
                  <a:lnTo>
                    <a:pt x="63" y="112"/>
                  </a:lnTo>
                  <a:lnTo>
                    <a:pt x="63" y="104"/>
                  </a:lnTo>
                  <a:lnTo>
                    <a:pt x="65" y="104"/>
                  </a:lnTo>
                  <a:lnTo>
                    <a:pt x="65" y="112"/>
                  </a:lnTo>
                  <a:close/>
                  <a:moveTo>
                    <a:pt x="65" y="126"/>
                  </a:moveTo>
                  <a:lnTo>
                    <a:pt x="67" y="126"/>
                  </a:lnTo>
                  <a:lnTo>
                    <a:pt x="65" y="126"/>
                  </a:lnTo>
                  <a:lnTo>
                    <a:pt x="65" y="128"/>
                  </a:lnTo>
                  <a:lnTo>
                    <a:pt x="65" y="130"/>
                  </a:lnTo>
                  <a:lnTo>
                    <a:pt x="65" y="136"/>
                  </a:lnTo>
                  <a:lnTo>
                    <a:pt x="67" y="136"/>
                  </a:lnTo>
                  <a:lnTo>
                    <a:pt x="65" y="140"/>
                  </a:lnTo>
                  <a:lnTo>
                    <a:pt x="63" y="142"/>
                  </a:lnTo>
                  <a:lnTo>
                    <a:pt x="61" y="146"/>
                  </a:lnTo>
                  <a:lnTo>
                    <a:pt x="61" y="150"/>
                  </a:lnTo>
                  <a:lnTo>
                    <a:pt x="59" y="152"/>
                  </a:lnTo>
                  <a:lnTo>
                    <a:pt x="57" y="156"/>
                  </a:lnTo>
                  <a:lnTo>
                    <a:pt x="57" y="158"/>
                  </a:lnTo>
                  <a:lnTo>
                    <a:pt x="59" y="163"/>
                  </a:lnTo>
                  <a:lnTo>
                    <a:pt x="61" y="163"/>
                  </a:lnTo>
                  <a:lnTo>
                    <a:pt x="63" y="163"/>
                  </a:lnTo>
                  <a:lnTo>
                    <a:pt x="65" y="160"/>
                  </a:lnTo>
                  <a:lnTo>
                    <a:pt x="63" y="158"/>
                  </a:lnTo>
                  <a:lnTo>
                    <a:pt x="63" y="156"/>
                  </a:lnTo>
                  <a:lnTo>
                    <a:pt x="65" y="154"/>
                  </a:lnTo>
                  <a:lnTo>
                    <a:pt x="67" y="154"/>
                  </a:lnTo>
                  <a:lnTo>
                    <a:pt x="69" y="158"/>
                  </a:lnTo>
                  <a:lnTo>
                    <a:pt x="69" y="160"/>
                  </a:lnTo>
                  <a:lnTo>
                    <a:pt x="69" y="163"/>
                  </a:lnTo>
                  <a:lnTo>
                    <a:pt x="67" y="165"/>
                  </a:lnTo>
                  <a:lnTo>
                    <a:pt x="63" y="165"/>
                  </a:lnTo>
                  <a:lnTo>
                    <a:pt x="61" y="165"/>
                  </a:lnTo>
                  <a:lnTo>
                    <a:pt x="57" y="163"/>
                  </a:lnTo>
                  <a:lnTo>
                    <a:pt x="55" y="160"/>
                  </a:lnTo>
                  <a:lnTo>
                    <a:pt x="53" y="154"/>
                  </a:lnTo>
                  <a:lnTo>
                    <a:pt x="55" y="150"/>
                  </a:lnTo>
                  <a:lnTo>
                    <a:pt x="55" y="146"/>
                  </a:lnTo>
                  <a:lnTo>
                    <a:pt x="57" y="142"/>
                  </a:lnTo>
                  <a:lnTo>
                    <a:pt x="61" y="134"/>
                  </a:lnTo>
                  <a:lnTo>
                    <a:pt x="63" y="130"/>
                  </a:lnTo>
                  <a:lnTo>
                    <a:pt x="65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400520" y="6019920"/>
              <a:ext cx="404640" cy="406440"/>
            </a:xfrm>
            <a:custGeom>
              <a:avLst/>
              <a:gdLst/>
              <a:ahLst/>
              <a:rect l="l" t="t" r="r" b="b"/>
              <a:pathLst>
                <a:path w="276" h="256">
                  <a:moveTo>
                    <a:pt x="78" y="0"/>
                  </a:moveTo>
                  <a:lnTo>
                    <a:pt x="202" y="142"/>
                  </a:lnTo>
                  <a:lnTo>
                    <a:pt x="202" y="49"/>
                  </a:lnTo>
                  <a:lnTo>
                    <a:pt x="200" y="35"/>
                  </a:lnTo>
                  <a:lnTo>
                    <a:pt x="198" y="20"/>
                  </a:lnTo>
                  <a:lnTo>
                    <a:pt x="196" y="10"/>
                  </a:lnTo>
                  <a:lnTo>
                    <a:pt x="190" y="0"/>
                  </a:lnTo>
                  <a:lnTo>
                    <a:pt x="276" y="0"/>
                  </a:lnTo>
                  <a:lnTo>
                    <a:pt x="270" y="10"/>
                  </a:lnTo>
                  <a:lnTo>
                    <a:pt x="265" y="22"/>
                  </a:lnTo>
                  <a:lnTo>
                    <a:pt x="265" y="35"/>
                  </a:lnTo>
                  <a:lnTo>
                    <a:pt x="263" y="49"/>
                  </a:lnTo>
                  <a:lnTo>
                    <a:pt x="263" y="219"/>
                  </a:lnTo>
                  <a:lnTo>
                    <a:pt x="265" y="238"/>
                  </a:lnTo>
                  <a:lnTo>
                    <a:pt x="267" y="256"/>
                  </a:lnTo>
                  <a:lnTo>
                    <a:pt x="206" y="256"/>
                  </a:lnTo>
                  <a:lnTo>
                    <a:pt x="78" y="93"/>
                  </a:lnTo>
                  <a:lnTo>
                    <a:pt x="78" y="207"/>
                  </a:lnTo>
                  <a:lnTo>
                    <a:pt x="78" y="221"/>
                  </a:lnTo>
                  <a:lnTo>
                    <a:pt x="80" y="234"/>
                  </a:lnTo>
                  <a:lnTo>
                    <a:pt x="82" y="246"/>
                  </a:lnTo>
                  <a:lnTo>
                    <a:pt x="88" y="256"/>
                  </a:lnTo>
                  <a:lnTo>
                    <a:pt x="0" y="256"/>
                  </a:lnTo>
                  <a:lnTo>
                    <a:pt x="6" y="246"/>
                  </a:lnTo>
                  <a:lnTo>
                    <a:pt x="8" y="234"/>
                  </a:lnTo>
                  <a:lnTo>
                    <a:pt x="10" y="221"/>
                  </a:lnTo>
                  <a:lnTo>
                    <a:pt x="10" y="207"/>
                  </a:lnTo>
                  <a:lnTo>
                    <a:pt x="10" y="49"/>
                  </a:lnTo>
                  <a:lnTo>
                    <a:pt x="10" y="35"/>
                  </a:lnTo>
                  <a:lnTo>
                    <a:pt x="8" y="20"/>
                  </a:lnTo>
                  <a:lnTo>
                    <a:pt x="4" y="10"/>
                  </a:lnTo>
                  <a:lnTo>
                    <a:pt x="0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63480" y="6019920"/>
              <a:ext cx="290160" cy="406440"/>
            </a:xfrm>
            <a:custGeom>
              <a:avLst/>
              <a:gdLst/>
              <a:ahLst/>
              <a:rect l="l" t="t" r="r" b="b"/>
              <a:pathLst>
                <a:path w="198" h="256">
                  <a:moveTo>
                    <a:pt x="96" y="118"/>
                  </a:moveTo>
                  <a:lnTo>
                    <a:pt x="105" y="118"/>
                  </a:lnTo>
                  <a:lnTo>
                    <a:pt x="113" y="114"/>
                  </a:lnTo>
                  <a:lnTo>
                    <a:pt x="119" y="112"/>
                  </a:lnTo>
                  <a:lnTo>
                    <a:pt x="125" y="106"/>
                  </a:lnTo>
                  <a:lnTo>
                    <a:pt x="127" y="100"/>
                  </a:lnTo>
                  <a:lnTo>
                    <a:pt x="131" y="93"/>
                  </a:lnTo>
                  <a:lnTo>
                    <a:pt x="131" y="89"/>
                  </a:lnTo>
                  <a:lnTo>
                    <a:pt x="133" y="83"/>
                  </a:lnTo>
                  <a:lnTo>
                    <a:pt x="131" y="75"/>
                  </a:lnTo>
                  <a:lnTo>
                    <a:pt x="131" y="69"/>
                  </a:lnTo>
                  <a:lnTo>
                    <a:pt x="129" y="63"/>
                  </a:lnTo>
                  <a:lnTo>
                    <a:pt x="125" y="59"/>
                  </a:lnTo>
                  <a:lnTo>
                    <a:pt x="119" y="55"/>
                  </a:lnTo>
                  <a:lnTo>
                    <a:pt x="115" y="53"/>
                  </a:lnTo>
                  <a:lnTo>
                    <a:pt x="107" y="51"/>
                  </a:lnTo>
                  <a:lnTo>
                    <a:pt x="98" y="49"/>
                  </a:lnTo>
                  <a:lnTo>
                    <a:pt x="82" y="51"/>
                  </a:lnTo>
                  <a:lnTo>
                    <a:pt x="82" y="116"/>
                  </a:lnTo>
                  <a:lnTo>
                    <a:pt x="88" y="118"/>
                  </a:lnTo>
                  <a:lnTo>
                    <a:pt x="96" y="118"/>
                  </a:lnTo>
                  <a:close/>
                  <a:moveTo>
                    <a:pt x="94" y="0"/>
                  </a:moveTo>
                  <a:lnTo>
                    <a:pt x="117" y="0"/>
                  </a:lnTo>
                  <a:lnTo>
                    <a:pt x="133" y="2"/>
                  </a:lnTo>
                  <a:lnTo>
                    <a:pt x="151" y="6"/>
                  </a:lnTo>
                  <a:lnTo>
                    <a:pt x="162" y="10"/>
                  </a:lnTo>
                  <a:lnTo>
                    <a:pt x="170" y="14"/>
                  </a:lnTo>
                  <a:lnTo>
                    <a:pt x="178" y="22"/>
                  </a:lnTo>
                  <a:lnTo>
                    <a:pt x="184" y="28"/>
                  </a:lnTo>
                  <a:lnTo>
                    <a:pt x="190" y="39"/>
                  </a:lnTo>
                  <a:lnTo>
                    <a:pt x="196" y="49"/>
                  </a:lnTo>
                  <a:lnTo>
                    <a:pt x="198" y="63"/>
                  </a:lnTo>
                  <a:lnTo>
                    <a:pt x="198" y="77"/>
                  </a:lnTo>
                  <a:lnTo>
                    <a:pt x="198" y="87"/>
                  </a:lnTo>
                  <a:lnTo>
                    <a:pt x="198" y="98"/>
                  </a:lnTo>
                  <a:lnTo>
                    <a:pt x="196" y="108"/>
                  </a:lnTo>
                  <a:lnTo>
                    <a:pt x="192" y="116"/>
                  </a:lnTo>
                  <a:lnTo>
                    <a:pt x="188" y="124"/>
                  </a:lnTo>
                  <a:lnTo>
                    <a:pt x="184" y="130"/>
                  </a:lnTo>
                  <a:lnTo>
                    <a:pt x="178" y="138"/>
                  </a:lnTo>
                  <a:lnTo>
                    <a:pt x="174" y="144"/>
                  </a:lnTo>
                  <a:lnTo>
                    <a:pt x="166" y="150"/>
                  </a:lnTo>
                  <a:lnTo>
                    <a:pt x="160" y="154"/>
                  </a:lnTo>
                  <a:lnTo>
                    <a:pt x="151" y="158"/>
                  </a:lnTo>
                  <a:lnTo>
                    <a:pt x="141" y="163"/>
                  </a:lnTo>
                  <a:lnTo>
                    <a:pt x="133" y="165"/>
                  </a:lnTo>
                  <a:lnTo>
                    <a:pt x="123" y="167"/>
                  </a:lnTo>
                  <a:lnTo>
                    <a:pt x="100" y="169"/>
                  </a:lnTo>
                  <a:lnTo>
                    <a:pt x="82" y="167"/>
                  </a:lnTo>
                  <a:lnTo>
                    <a:pt x="82" y="207"/>
                  </a:lnTo>
                  <a:lnTo>
                    <a:pt x="82" y="221"/>
                  </a:lnTo>
                  <a:lnTo>
                    <a:pt x="84" y="236"/>
                  </a:lnTo>
                  <a:lnTo>
                    <a:pt x="88" y="246"/>
                  </a:lnTo>
                  <a:lnTo>
                    <a:pt x="92" y="256"/>
                  </a:lnTo>
                  <a:lnTo>
                    <a:pt x="0" y="256"/>
                  </a:lnTo>
                  <a:lnTo>
                    <a:pt x="5" y="246"/>
                  </a:lnTo>
                  <a:lnTo>
                    <a:pt x="9" y="234"/>
                  </a:lnTo>
                  <a:lnTo>
                    <a:pt x="11" y="221"/>
                  </a:lnTo>
                  <a:lnTo>
                    <a:pt x="11" y="207"/>
                  </a:lnTo>
                  <a:lnTo>
                    <a:pt x="11" y="49"/>
                  </a:lnTo>
                  <a:lnTo>
                    <a:pt x="11" y="33"/>
                  </a:lnTo>
                  <a:lnTo>
                    <a:pt x="9" y="20"/>
                  </a:lnTo>
                  <a:lnTo>
                    <a:pt x="5" y="8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193600" y="6019920"/>
              <a:ext cx="278640" cy="406440"/>
            </a:xfrm>
            <a:custGeom>
              <a:avLst/>
              <a:gdLst/>
              <a:ahLst/>
              <a:rect l="l" t="t" r="r" b="b"/>
              <a:pathLst>
                <a:path w="190" h="256">
                  <a:moveTo>
                    <a:pt x="2" y="256"/>
                  </a:moveTo>
                  <a:lnTo>
                    <a:pt x="6" y="248"/>
                  </a:lnTo>
                  <a:lnTo>
                    <a:pt x="10" y="236"/>
                  </a:lnTo>
                  <a:lnTo>
                    <a:pt x="12" y="225"/>
                  </a:lnTo>
                  <a:lnTo>
                    <a:pt x="12" y="215"/>
                  </a:lnTo>
                  <a:lnTo>
                    <a:pt x="12" y="61"/>
                  </a:lnTo>
                  <a:lnTo>
                    <a:pt x="12" y="47"/>
                  </a:lnTo>
                  <a:lnTo>
                    <a:pt x="10" y="33"/>
                  </a:lnTo>
                  <a:lnTo>
                    <a:pt x="8" y="16"/>
                  </a:lnTo>
                  <a:lnTo>
                    <a:pt x="4" y="8"/>
                  </a:lnTo>
                  <a:lnTo>
                    <a:pt x="0" y="0"/>
                  </a:lnTo>
                  <a:lnTo>
                    <a:pt x="94" y="0"/>
                  </a:lnTo>
                  <a:lnTo>
                    <a:pt x="86" y="18"/>
                  </a:lnTo>
                  <a:lnTo>
                    <a:pt x="84" y="33"/>
                  </a:lnTo>
                  <a:lnTo>
                    <a:pt x="82" y="49"/>
                  </a:lnTo>
                  <a:lnTo>
                    <a:pt x="82" y="61"/>
                  </a:lnTo>
                  <a:lnTo>
                    <a:pt x="82" y="197"/>
                  </a:lnTo>
                  <a:lnTo>
                    <a:pt x="155" y="197"/>
                  </a:lnTo>
                  <a:lnTo>
                    <a:pt x="169" y="197"/>
                  </a:lnTo>
                  <a:lnTo>
                    <a:pt x="180" y="195"/>
                  </a:lnTo>
                  <a:lnTo>
                    <a:pt x="190" y="193"/>
                  </a:lnTo>
                  <a:lnTo>
                    <a:pt x="184" y="242"/>
                  </a:lnTo>
                  <a:lnTo>
                    <a:pt x="182" y="250"/>
                  </a:lnTo>
                  <a:lnTo>
                    <a:pt x="180" y="252"/>
                  </a:lnTo>
                  <a:lnTo>
                    <a:pt x="177" y="254"/>
                  </a:lnTo>
                  <a:lnTo>
                    <a:pt x="171" y="256"/>
                  </a:lnTo>
                  <a:lnTo>
                    <a:pt x="163" y="256"/>
                  </a:lnTo>
                  <a:lnTo>
                    <a:pt x="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97640" y="6519960"/>
              <a:ext cx="802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14" y="0"/>
                  </a:moveTo>
                  <a:lnTo>
                    <a:pt x="41" y="36"/>
                  </a:lnTo>
                  <a:lnTo>
                    <a:pt x="41" y="10"/>
                  </a:lnTo>
                  <a:lnTo>
                    <a:pt x="41" y="4"/>
                  </a:lnTo>
                  <a:lnTo>
                    <a:pt x="39" y="0"/>
                  </a:lnTo>
                  <a:lnTo>
                    <a:pt x="55" y="0"/>
                  </a:lnTo>
                  <a:lnTo>
                    <a:pt x="53" y="6"/>
                  </a:lnTo>
                  <a:lnTo>
                    <a:pt x="53" y="10"/>
                  </a:lnTo>
                  <a:lnTo>
                    <a:pt x="53" y="47"/>
                  </a:lnTo>
                  <a:lnTo>
                    <a:pt x="53" y="55"/>
                  </a:lnTo>
                  <a:lnTo>
                    <a:pt x="41" y="55"/>
                  </a:lnTo>
                  <a:lnTo>
                    <a:pt x="14" y="16"/>
                  </a:lnTo>
                  <a:lnTo>
                    <a:pt x="14" y="45"/>
                  </a:lnTo>
                  <a:lnTo>
                    <a:pt x="14" y="49"/>
                  </a:lnTo>
                  <a:lnTo>
                    <a:pt x="16" y="55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546680" y="6526080"/>
              <a:ext cx="39600" cy="8100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16" y="12"/>
                  </a:moveTo>
                  <a:lnTo>
                    <a:pt x="23" y="12"/>
                  </a:lnTo>
                  <a:lnTo>
                    <a:pt x="25" y="12"/>
                  </a:lnTo>
                  <a:lnTo>
                    <a:pt x="25" y="16"/>
                  </a:lnTo>
                  <a:lnTo>
                    <a:pt x="25" y="20"/>
                  </a:lnTo>
                  <a:lnTo>
                    <a:pt x="21" y="20"/>
                  </a:lnTo>
                  <a:lnTo>
                    <a:pt x="16" y="20"/>
                  </a:lnTo>
                  <a:lnTo>
                    <a:pt x="16" y="39"/>
                  </a:lnTo>
                  <a:lnTo>
                    <a:pt x="16" y="41"/>
                  </a:lnTo>
                  <a:lnTo>
                    <a:pt x="18" y="43"/>
                  </a:lnTo>
                  <a:lnTo>
                    <a:pt x="23" y="41"/>
                  </a:lnTo>
                  <a:lnTo>
                    <a:pt x="27" y="36"/>
                  </a:lnTo>
                  <a:lnTo>
                    <a:pt x="27" y="41"/>
                  </a:lnTo>
                  <a:lnTo>
                    <a:pt x="25" y="45"/>
                  </a:lnTo>
                  <a:lnTo>
                    <a:pt x="25" y="49"/>
                  </a:lnTo>
                  <a:lnTo>
                    <a:pt x="21" y="51"/>
                  </a:lnTo>
                  <a:lnTo>
                    <a:pt x="14" y="51"/>
                  </a:lnTo>
                  <a:lnTo>
                    <a:pt x="10" y="51"/>
                  </a:lnTo>
                  <a:lnTo>
                    <a:pt x="6" y="49"/>
                  </a:lnTo>
                  <a:lnTo>
                    <a:pt x="4" y="47"/>
                  </a:lnTo>
                  <a:lnTo>
                    <a:pt x="4" y="43"/>
                  </a:lnTo>
                  <a:lnTo>
                    <a:pt x="4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2"/>
                  </a:lnTo>
                  <a:lnTo>
                    <a:pt x="16" y="0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98160" y="6519960"/>
              <a:ext cx="172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6"/>
                  </a:moveTo>
                  <a:lnTo>
                    <a:pt x="12" y="8"/>
                  </a:lnTo>
                  <a:lnTo>
                    <a:pt x="10" y="10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98160" y="6545160"/>
              <a:ext cx="20520" cy="61920"/>
            </a:xfrm>
            <a:custGeom>
              <a:avLst/>
              <a:gdLst/>
              <a:ahLst/>
              <a:rect l="l" t="t" r="r" b="b"/>
              <a:pathLst>
                <a:path w="14" h="39">
                  <a:moveTo>
                    <a:pt x="12" y="27"/>
                  </a:moveTo>
                  <a:lnTo>
                    <a:pt x="14" y="33"/>
                  </a:lnTo>
                  <a:lnTo>
                    <a:pt x="14" y="35"/>
                  </a:lnTo>
                  <a:lnTo>
                    <a:pt x="14" y="39"/>
                  </a:lnTo>
                  <a:lnTo>
                    <a:pt x="0" y="39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99320" y="6545160"/>
              <a:ext cx="5400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2" y="4"/>
                  </a:moveTo>
                  <a:lnTo>
                    <a:pt x="14" y="2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5" y="6"/>
                  </a:lnTo>
                  <a:lnTo>
                    <a:pt x="37" y="10"/>
                  </a:lnTo>
                  <a:lnTo>
                    <a:pt x="37" y="27"/>
                  </a:lnTo>
                  <a:lnTo>
                    <a:pt x="37" y="33"/>
                  </a:lnTo>
                  <a:lnTo>
                    <a:pt x="37" y="35"/>
                  </a:lnTo>
                  <a:lnTo>
                    <a:pt x="37" y="39"/>
                  </a:lnTo>
                  <a:lnTo>
                    <a:pt x="23" y="39"/>
                  </a:lnTo>
                  <a:lnTo>
                    <a:pt x="25" y="33"/>
                  </a:lnTo>
                  <a:lnTo>
                    <a:pt x="25" y="27"/>
                  </a:lnTo>
                  <a:lnTo>
                    <a:pt x="25" y="14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17" y="10"/>
                  </a:lnTo>
                  <a:lnTo>
                    <a:pt x="12" y="12"/>
                  </a:lnTo>
                  <a:lnTo>
                    <a:pt x="12" y="27"/>
                  </a:lnTo>
                  <a:lnTo>
                    <a:pt x="12" y="33"/>
                  </a:lnTo>
                  <a:lnTo>
                    <a:pt x="14" y="39"/>
                  </a:lnTo>
                  <a:lnTo>
                    <a:pt x="0" y="39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825320" y="6516720"/>
              <a:ext cx="20520" cy="90360"/>
            </a:xfrm>
            <a:custGeom>
              <a:avLst/>
              <a:gdLst/>
              <a:ahLst/>
              <a:rect l="l" t="t" r="r" b="b"/>
              <a:pathLst>
                <a:path w="14" h="57">
                  <a:moveTo>
                    <a:pt x="14" y="45"/>
                  </a:moveTo>
                  <a:lnTo>
                    <a:pt x="14" y="51"/>
                  </a:lnTo>
                  <a:lnTo>
                    <a:pt x="14" y="53"/>
                  </a:lnTo>
                  <a:lnTo>
                    <a:pt x="14" y="57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2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14" y="0"/>
                  </a:lnTo>
                  <a:lnTo>
                    <a:pt x="14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489800" y="6545160"/>
              <a:ext cx="51120" cy="6192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11" y="27"/>
                  </a:moveTo>
                  <a:lnTo>
                    <a:pt x="13" y="31"/>
                  </a:lnTo>
                  <a:lnTo>
                    <a:pt x="17" y="31"/>
                  </a:lnTo>
                  <a:lnTo>
                    <a:pt x="19" y="31"/>
                  </a:lnTo>
                  <a:lnTo>
                    <a:pt x="21" y="29"/>
                  </a:lnTo>
                  <a:lnTo>
                    <a:pt x="21" y="22"/>
                  </a:lnTo>
                  <a:lnTo>
                    <a:pt x="17" y="22"/>
                  </a:lnTo>
                  <a:lnTo>
                    <a:pt x="15" y="22"/>
                  </a:lnTo>
                  <a:lnTo>
                    <a:pt x="13" y="24"/>
                  </a:lnTo>
                  <a:lnTo>
                    <a:pt x="11" y="27"/>
                  </a:lnTo>
                  <a:close/>
                  <a:moveTo>
                    <a:pt x="21" y="12"/>
                  </a:moveTo>
                  <a:lnTo>
                    <a:pt x="19" y="8"/>
                  </a:lnTo>
                  <a:lnTo>
                    <a:pt x="17" y="8"/>
                  </a:lnTo>
                  <a:lnTo>
                    <a:pt x="11" y="8"/>
                  </a:lnTo>
                  <a:lnTo>
                    <a:pt x="4" y="12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1" y="6"/>
                  </a:lnTo>
                  <a:lnTo>
                    <a:pt x="31" y="10"/>
                  </a:lnTo>
                  <a:lnTo>
                    <a:pt x="31" y="27"/>
                  </a:lnTo>
                  <a:lnTo>
                    <a:pt x="31" y="31"/>
                  </a:lnTo>
                  <a:lnTo>
                    <a:pt x="33" y="33"/>
                  </a:lnTo>
                  <a:lnTo>
                    <a:pt x="35" y="35"/>
                  </a:lnTo>
                  <a:lnTo>
                    <a:pt x="27" y="39"/>
                  </a:lnTo>
                  <a:lnTo>
                    <a:pt x="25" y="39"/>
                  </a:lnTo>
                  <a:lnTo>
                    <a:pt x="23" y="39"/>
                  </a:lnTo>
                  <a:lnTo>
                    <a:pt x="23" y="35"/>
                  </a:lnTo>
                  <a:lnTo>
                    <a:pt x="17" y="39"/>
                  </a:lnTo>
                  <a:lnTo>
                    <a:pt x="13" y="39"/>
                  </a:lnTo>
                  <a:lnTo>
                    <a:pt x="9" y="39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2" y="22"/>
                  </a:lnTo>
                  <a:lnTo>
                    <a:pt x="6" y="18"/>
                  </a:lnTo>
                  <a:lnTo>
                    <a:pt x="13" y="16"/>
                  </a:lnTo>
                  <a:lnTo>
                    <a:pt x="21" y="14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33440" y="6545160"/>
              <a:ext cx="5400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1" y="18"/>
                  </a:moveTo>
                  <a:lnTo>
                    <a:pt x="11" y="24"/>
                  </a:lnTo>
                  <a:lnTo>
                    <a:pt x="13" y="27"/>
                  </a:lnTo>
                  <a:lnTo>
                    <a:pt x="15" y="29"/>
                  </a:lnTo>
                  <a:lnTo>
                    <a:pt x="19" y="31"/>
                  </a:lnTo>
                  <a:lnTo>
                    <a:pt x="23" y="29"/>
                  </a:lnTo>
                  <a:lnTo>
                    <a:pt x="25" y="27"/>
                  </a:lnTo>
                  <a:lnTo>
                    <a:pt x="27" y="24"/>
                  </a:lnTo>
                  <a:lnTo>
                    <a:pt x="27" y="18"/>
                  </a:lnTo>
                  <a:lnTo>
                    <a:pt x="27" y="14"/>
                  </a:lnTo>
                  <a:lnTo>
                    <a:pt x="25" y="12"/>
                  </a:lnTo>
                  <a:lnTo>
                    <a:pt x="23" y="10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11" y="18"/>
                  </a:lnTo>
                  <a:close/>
                  <a:moveTo>
                    <a:pt x="37" y="18"/>
                  </a:moveTo>
                  <a:lnTo>
                    <a:pt x="37" y="29"/>
                  </a:lnTo>
                  <a:lnTo>
                    <a:pt x="33" y="35"/>
                  </a:lnTo>
                  <a:lnTo>
                    <a:pt x="27" y="37"/>
                  </a:lnTo>
                  <a:lnTo>
                    <a:pt x="19" y="39"/>
                  </a:lnTo>
                  <a:lnTo>
                    <a:pt x="11" y="37"/>
                  </a:lnTo>
                  <a:lnTo>
                    <a:pt x="6" y="37"/>
                  </a:lnTo>
                  <a:lnTo>
                    <a:pt x="4" y="35"/>
                  </a:lnTo>
                  <a:lnTo>
                    <a:pt x="2" y="31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4" y="4"/>
                  </a:lnTo>
                  <a:lnTo>
                    <a:pt x="6" y="2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3" y="4"/>
                  </a:lnTo>
                  <a:lnTo>
                    <a:pt x="35" y="8"/>
                  </a:lnTo>
                  <a:lnTo>
                    <a:pt x="37" y="10"/>
                  </a:lnTo>
                  <a:lnTo>
                    <a:pt x="37" y="14"/>
                  </a:lnTo>
                  <a:lnTo>
                    <a:pt x="37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68080" y="6545160"/>
              <a:ext cx="48240" cy="6192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8" y="27"/>
                  </a:moveTo>
                  <a:lnTo>
                    <a:pt x="10" y="31"/>
                  </a:lnTo>
                  <a:lnTo>
                    <a:pt x="12" y="31"/>
                  </a:lnTo>
                  <a:lnTo>
                    <a:pt x="16" y="31"/>
                  </a:lnTo>
                  <a:lnTo>
                    <a:pt x="19" y="29"/>
                  </a:lnTo>
                  <a:lnTo>
                    <a:pt x="19" y="22"/>
                  </a:lnTo>
                  <a:lnTo>
                    <a:pt x="14" y="22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8" y="27"/>
                  </a:lnTo>
                  <a:close/>
                  <a:moveTo>
                    <a:pt x="19" y="12"/>
                  </a:moveTo>
                  <a:lnTo>
                    <a:pt x="19" y="8"/>
                  </a:lnTo>
                  <a:lnTo>
                    <a:pt x="14" y="8"/>
                  </a:lnTo>
                  <a:lnTo>
                    <a:pt x="8" y="8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29" y="6"/>
                  </a:lnTo>
                  <a:lnTo>
                    <a:pt x="29" y="10"/>
                  </a:lnTo>
                  <a:lnTo>
                    <a:pt x="29" y="27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25" y="39"/>
                  </a:lnTo>
                  <a:lnTo>
                    <a:pt x="23" y="39"/>
                  </a:lnTo>
                  <a:lnTo>
                    <a:pt x="21" y="39"/>
                  </a:lnTo>
                  <a:lnTo>
                    <a:pt x="21" y="35"/>
                  </a:lnTo>
                  <a:lnTo>
                    <a:pt x="14" y="39"/>
                  </a:lnTo>
                  <a:lnTo>
                    <a:pt x="10" y="39"/>
                  </a:lnTo>
                  <a:lnTo>
                    <a:pt x="6" y="39"/>
                  </a:lnTo>
                  <a:lnTo>
                    <a:pt x="2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4" y="18"/>
                  </a:lnTo>
                  <a:lnTo>
                    <a:pt x="10" y="16"/>
                  </a:lnTo>
                  <a:lnTo>
                    <a:pt x="19" y="14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894440" y="6519960"/>
              <a:ext cx="54000" cy="8712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16" y="26"/>
                  </a:moveTo>
                  <a:lnTo>
                    <a:pt x="20" y="24"/>
                  </a:lnTo>
                  <a:lnTo>
                    <a:pt x="24" y="24"/>
                  </a:lnTo>
                  <a:lnTo>
                    <a:pt x="24" y="20"/>
                  </a:lnTo>
                  <a:lnTo>
                    <a:pt x="26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0" y="10"/>
                  </a:lnTo>
                  <a:lnTo>
                    <a:pt x="16" y="10"/>
                  </a:lnTo>
                  <a:lnTo>
                    <a:pt x="12" y="10"/>
                  </a:lnTo>
                  <a:lnTo>
                    <a:pt x="12" y="26"/>
                  </a:lnTo>
                  <a:lnTo>
                    <a:pt x="16" y="26"/>
                  </a:lnTo>
                  <a:close/>
                  <a:moveTo>
                    <a:pt x="12" y="45"/>
                  </a:moveTo>
                  <a:lnTo>
                    <a:pt x="14" y="51"/>
                  </a:lnTo>
                  <a:lnTo>
                    <a:pt x="16" y="55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3" y="4"/>
                  </a:lnTo>
                  <a:lnTo>
                    <a:pt x="35" y="10"/>
                  </a:lnTo>
                  <a:lnTo>
                    <a:pt x="37" y="16"/>
                  </a:lnTo>
                  <a:lnTo>
                    <a:pt x="35" y="24"/>
                  </a:lnTo>
                  <a:lnTo>
                    <a:pt x="33" y="30"/>
                  </a:lnTo>
                  <a:lnTo>
                    <a:pt x="26" y="34"/>
                  </a:lnTo>
                  <a:lnTo>
                    <a:pt x="16" y="34"/>
                  </a:lnTo>
                  <a:lnTo>
                    <a:pt x="12" y="34"/>
                  </a:lnTo>
                  <a:lnTo>
                    <a:pt x="12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960320" y="6516720"/>
              <a:ext cx="52560" cy="90360"/>
            </a:xfrm>
            <a:custGeom>
              <a:avLst/>
              <a:gdLst/>
              <a:ahLst/>
              <a:rect l="l" t="t" r="r" b="b"/>
              <a:pathLst>
                <a:path w="36" h="57">
                  <a:moveTo>
                    <a:pt x="12" y="20"/>
                  </a:moveTo>
                  <a:lnTo>
                    <a:pt x="16" y="18"/>
                  </a:lnTo>
                  <a:lnTo>
                    <a:pt x="24" y="18"/>
                  </a:lnTo>
                  <a:lnTo>
                    <a:pt x="28" y="18"/>
                  </a:lnTo>
                  <a:lnTo>
                    <a:pt x="32" y="20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4" y="45"/>
                  </a:lnTo>
                  <a:lnTo>
                    <a:pt x="34" y="51"/>
                  </a:lnTo>
                  <a:lnTo>
                    <a:pt x="36" y="57"/>
                  </a:lnTo>
                  <a:lnTo>
                    <a:pt x="22" y="57"/>
                  </a:lnTo>
                  <a:lnTo>
                    <a:pt x="24" y="51"/>
                  </a:lnTo>
                  <a:lnTo>
                    <a:pt x="24" y="45"/>
                  </a:lnTo>
                  <a:lnTo>
                    <a:pt x="24" y="32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4" y="28"/>
                  </a:lnTo>
                  <a:lnTo>
                    <a:pt x="12" y="30"/>
                  </a:lnTo>
                  <a:lnTo>
                    <a:pt x="12" y="45"/>
                  </a:lnTo>
                  <a:lnTo>
                    <a:pt x="12" y="51"/>
                  </a:lnTo>
                  <a:lnTo>
                    <a:pt x="12" y="57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20440" y="6545160"/>
              <a:ext cx="64440" cy="8424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16" y="0"/>
                  </a:moveTo>
                  <a:lnTo>
                    <a:pt x="14" y="2"/>
                  </a:lnTo>
                  <a:lnTo>
                    <a:pt x="16" y="6"/>
                  </a:lnTo>
                  <a:lnTo>
                    <a:pt x="24" y="22"/>
                  </a:lnTo>
                  <a:lnTo>
                    <a:pt x="28" y="10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38" y="12"/>
                  </a:lnTo>
                  <a:lnTo>
                    <a:pt x="32" y="24"/>
                  </a:lnTo>
                  <a:lnTo>
                    <a:pt x="24" y="39"/>
                  </a:lnTo>
                  <a:lnTo>
                    <a:pt x="20" y="45"/>
                  </a:lnTo>
                  <a:lnTo>
                    <a:pt x="18" y="49"/>
                  </a:lnTo>
                  <a:lnTo>
                    <a:pt x="16" y="51"/>
                  </a:lnTo>
                  <a:lnTo>
                    <a:pt x="12" y="53"/>
                  </a:lnTo>
                  <a:lnTo>
                    <a:pt x="0" y="53"/>
                  </a:lnTo>
                  <a:lnTo>
                    <a:pt x="10" y="43"/>
                  </a:lnTo>
                  <a:lnTo>
                    <a:pt x="14" y="37"/>
                  </a:lnTo>
                  <a:lnTo>
                    <a:pt x="16" y="31"/>
                  </a:lnTo>
                  <a:lnTo>
                    <a:pt x="6" y="8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85240" y="6545160"/>
              <a:ext cx="42480" cy="619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27" y="10"/>
                  </a:moveTo>
                  <a:lnTo>
                    <a:pt x="21" y="8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5" y="12"/>
                  </a:lnTo>
                  <a:lnTo>
                    <a:pt x="19" y="14"/>
                  </a:lnTo>
                  <a:lnTo>
                    <a:pt x="25" y="16"/>
                  </a:lnTo>
                  <a:lnTo>
                    <a:pt x="27" y="20"/>
                  </a:lnTo>
                  <a:lnTo>
                    <a:pt x="29" y="22"/>
                  </a:lnTo>
                  <a:lnTo>
                    <a:pt x="29" y="27"/>
                  </a:lnTo>
                  <a:lnTo>
                    <a:pt x="29" y="31"/>
                  </a:lnTo>
                  <a:lnTo>
                    <a:pt x="25" y="35"/>
                  </a:lnTo>
                  <a:lnTo>
                    <a:pt x="21" y="39"/>
                  </a:lnTo>
                  <a:lnTo>
                    <a:pt x="15" y="39"/>
                  </a:lnTo>
                  <a:lnTo>
                    <a:pt x="9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5" y="27"/>
                  </a:lnTo>
                  <a:lnTo>
                    <a:pt x="9" y="31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3" y="22"/>
                  </a:lnTo>
                  <a:lnTo>
                    <a:pt x="9" y="20"/>
                  </a:lnTo>
                  <a:lnTo>
                    <a:pt x="5" y="18"/>
                  </a:lnTo>
                  <a:lnTo>
                    <a:pt x="3" y="14"/>
                  </a:lnTo>
                  <a:lnTo>
                    <a:pt x="3" y="10"/>
                  </a:lnTo>
                  <a:lnTo>
                    <a:pt x="5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139240" y="6519960"/>
              <a:ext cx="172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6"/>
                  </a:moveTo>
                  <a:lnTo>
                    <a:pt x="12" y="8"/>
                  </a:lnTo>
                  <a:lnTo>
                    <a:pt x="10" y="10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39240" y="6545160"/>
              <a:ext cx="20520" cy="61920"/>
            </a:xfrm>
            <a:custGeom>
              <a:avLst/>
              <a:gdLst/>
              <a:ahLst/>
              <a:rect l="l" t="t" r="r" b="b"/>
              <a:pathLst>
                <a:path w="14" h="39">
                  <a:moveTo>
                    <a:pt x="12" y="27"/>
                  </a:moveTo>
                  <a:lnTo>
                    <a:pt x="12" y="33"/>
                  </a:lnTo>
                  <a:lnTo>
                    <a:pt x="14" y="35"/>
                  </a:lnTo>
                  <a:lnTo>
                    <a:pt x="14" y="39"/>
                  </a:lnTo>
                  <a:lnTo>
                    <a:pt x="0" y="39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172720" y="6545160"/>
              <a:ext cx="43920" cy="6192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28" y="12"/>
                  </a:moveTo>
                  <a:lnTo>
                    <a:pt x="24" y="10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0" y="18"/>
                  </a:lnTo>
                  <a:lnTo>
                    <a:pt x="12" y="22"/>
                  </a:lnTo>
                  <a:lnTo>
                    <a:pt x="14" y="27"/>
                  </a:lnTo>
                  <a:lnTo>
                    <a:pt x="16" y="29"/>
                  </a:lnTo>
                  <a:lnTo>
                    <a:pt x="20" y="29"/>
                  </a:lnTo>
                  <a:lnTo>
                    <a:pt x="24" y="29"/>
                  </a:lnTo>
                  <a:lnTo>
                    <a:pt x="30" y="24"/>
                  </a:lnTo>
                  <a:lnTo>
                    <a:pt x="30" y="33"/>
                  </a:lnTo>
                  <a:lnTo>
                    <a:pt x="28" y="35"/>
                  </a:lnTo>
                  <a:lnTo>
                    <a:pt x="26" y="37"/>
                  </a:lnTo>
                  <a:lnTo>
                    <a:pt x="22" y="39"/>
                  </a:lnTo>
                  <a:lnTo>
                    <a:pt x="18" y="39"/>
                  </a:lnTo>
                  <a:lnTo>
                    <a:pt x="14" y="39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228880" y="6545160"/>
              <a:ext cx="48240" cy="6192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9" y="27"/>
                  </a:moveTo>
                  <a:lnTo>
                    <a:pt x="11" y="31"/>
                  </a:lnTo>
                  <a:lnTo>
                    <a:pt x="13" y="31"/>
                  </a:lnTo>
                  <a:lnTo>
                    <a:pt x="17" y="31"/>
                  </a:lnTo>
                  <a:lnTo>
                    <a:pt x="19" y="29"/>
                  </a:lnTo>
                  <a:lnTo>
                    <a:pt x="19" y="22"/>
                  </a:lnTo>
                  <a:lnTo>
                    <a:pt x="15" y="22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9" y="27"/>
                  </a:lnTo>
                  <a:close/>
                  <a:moveTo>
                    <a:pt x="19" y="12"/>
                  </a:moveTo>
                  <a:lnTo>
                    <a:pt x="19" y="8"/>
                  </a:lnTo>
                  <a:lnTo>
                    <a:pt x="15" y="8"/>
                  </a:lnTo>
                  <a:lnTo>
                    <a:pt x="9" y="8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29" y="6"/>
                  </a:lnTo>
                  <a:lnTo>
                    <a:pt x="29" y="10"/>
                  </a:lnTo>
                  <a:lnTo>
                    <a:pt x="29" y="27"/>
                  </a:lnTo>
                  <a:lnTo>
                    <a:pt x="29" y="31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25" y="39"/>
                  </a:lnTo>
                  <a:lnTo>
                    <a:pt x="23" y="39"/>
                  </a:lnTo>
                  <a:lnTo>
                    <a:pt x="21" y="39"/>
                  </a:lnTo>
                  <a:lnTo>
                    <a:pt x="21" y="35"/>
                  </a:lnTo>
                  <a:lnTo>
                    <a:pt x="17" y="39"/>
                  </a:lnTo>
                  <a:lnTo>
                    <a:pt x="11" y="39"/>
                  </a:lnTo>
                  <a:lnTo>
                    <a:pt x="7" y="39"/>
                  </a:lnTo>
                  <a:lnTo>
                    <a:pt x="2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4" y="18"/>
                  </a:lnTo>
                  <a:lnTo>
                    <a:pt x="11" y="16"/>
                  </a:lnTo>
                  <a:lnTo>
                    <a:pt x="19" y="14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285760" y="6516720"/>
              <a:ext cx="20520" cy="90360"/>
            </a:xfrm>
            <a:custGeom>
              <a:avLst/>
              <a:gdLst/>
              <a:ahLst/>
              <a:rect l="l" t="t" r="r" b="b"/>
              <a:pathLst>
                <a:path w="14" h="57">
                  <a:moveTo>
                    <a:pt x="12" y="45"/>
                  </a:moveTo>
                  <a:lnTo>
                    <a:pt x="12" y="51"/>
                  </a:lnTo>
                  <a:lnTo>
                    <a:pt x="12" y="53"/>
                  </a:lnTo>
                  <a:lnTo>
                    <a:pt x="14" y="57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351640" y="6519960"/>
              <a:ext cx="51480" cy="8712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16" y="0"/>
                  </a:moveTo>
                  <a:lnTo>
                    <a:pt x="16" y="4"/>
                  </a:lnTo>
                  <a:lnTo>
                    <a:pt x="14" y="8"/>
                  </a:lnTo>
                  <a:lnTo>
                    <a:pt x="14" y="14"/>
                  </a:lnTo>
                  <a:lnTo>
                    <a:pt x="14" y="45"/>
                  </a:lnTo>
                  <a:lnTo>
                    <a:pt x="27" y="45"/>
                  </a:lnTo>
                  <a:lnTo>
                    <a:pt x="31" y="45"/>
                  </a:lnTo>
                  <a:lnTo>
                    <a:pt x="35" y="43"/>
                  </a:lnTo>
                  <a:lnTo>
                    <a:pt x="33" y="51"/>
                  </a:lnTo>
                  <a:lnTo>
                    <a:pt x="33" y="53"/>
                  </a:lnTo>
                  <a:lnTo>
                    <a:pt x="31" y="55"/>
                  </a:lnTo>
                  <a:lnTo>
                    <a:pt x="29" y="55"/>
                  </a:lnTo>
                  <a:lnTo>
                    <a:pt x="8" y="53"/>
                  </a:lnTo>
                  <a:lnTo>
                    <a:pt x="0" y="55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2" y="14"/>
                  </a:lnTo>
                  <a:lnTo>
                    <a:pt x="2" y="8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411760" y="6545160"/>
              <a:ext cx="48240" cy="6192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10" y="27"/>
                  </a:move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29"/>
                  </a:lnTo>
                  <a:lnTo>
                    <a:pt x="18" y="22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10" y="27"/>
                  </a:lnTo>
                  <a:close/>
                  <a:moveTo>
                    <a:pt x="18" y="12"/>
                  </a:moveTo>
                  <a:lnTo>
                    <a:pt x="18" y="8"/>
                  </a:lnTo>
                  <a:lnTo>
                    <a:pt x="14" y="8"/>
                  </a:lnTo>
                  <a:lnTo>
                    <a:pt x="8" y="8"/>
                  </a:lnTo>
                  <a:lnTo>
                    <a:pt x="2" y="12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2"/>
                  </a:lnTo>
                  <a:lnTo>
                    <a:pt x="28" y="6"/>
                  </a:lnTo>
                  <a:lnTo>
                    <a:pt x="31" y="10"/>
                  </a:lnTo>
                  <a:lnTo>
                    <a:pt x="31" y="27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24" y="39"/>
                  </a:lnTo>
                  <a:lnTo>
                    <a:pt x="22" y="39"/>
                  </a:lnTo>
                  <a:lnTo>
                    <a:pt x="20" y="35"/>
                  </a:lnTo>
                  <a:lnTo>
                    <a:pt x="16" y="39"/>
                  </a:lnTo>
                  <a:lnTo>
                    <a:pt x="10" y="39"/>
                  </a:lnTo>
                  <a:lnTo>
                    <a:pt x="6" y="39"/>
                  </a:lnTo>
                  <a:lnTo>
                    <a:pt x="2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2" y="22"/>
                  </a:lnTo>
                  <a:lnTo>
                    <a:pt x="4" y="18"/>
                  </a:lnTo>
                  <a:lnTo>
                    <a:pt x="10" y="16"/>
                  </a:lnTo>
                  <a:lnTo>
                    <a:pt x="18" y="14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469000" y="6516720"/>
              <a:ext cx="52560" cy="90360"/>
            </a:xfrm>
            <a:custGeom>
              <a:avLst/>
              <a:gdLst/>
              <a:ahLst/>
              <a:rect l="l" t="t" r="r" b="b"/>
              <a:pathLst>
                <a:path w="36" h="57">
                  <a:moveTo>
                    <a:pt x="18" y="49"/>
                  </a:moveTo>
                  <a:lnTo>
                    <a:pt x="20" y="47"/>
                  </a:lnTo>
                  <a:lnTo>
                    <a:pt x="22" y="45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24" y="32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18" y="26"/>
                  </a:lnTo>
                  <a:lnTo>
                    <a:pt x="14" y="28"/>
                  </a:lnTo>
                  <a:lnTo>
                    <a:pt x="12" y="30"/>
                  </a:lnTo>
                  <a:lnTo>
                    <a:pt x="12" y="45"/>
                  </a:lnTo>
                  <a:lnTo>
                    <a:pt x="14" y="47"/>
                  </a:lnTo>
                  <a:lnTo>
                    <a:pt x="18" y="49"/>
                  </a:lnTo>
                  <a:close/>
                  <a:moveTo>
                    <a:pt x="12" y="20"/>
                  </a:moveTo>
                  <a:lnTo>
                    <a:pt x="16" y="18"/>
                  </a:lnTo>
                  <a:lnTo>
                    <a:pt x="20" y="18"/>
                  </a:lnTo>
                  <a:lnTo>
                    <a:pt x="26" y="20"/>
                  </a:lnTo>
                  <a:lnTo>
                    <a:pt x="32" y="22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6" y="36"/>
                  </a:lnTo>
                  <a:lnTo>
                    <a:pt x="34" y="45"/>
                  </a:lnTo>
                  <a:lnTo>
                    <a:pt x="30" y="51"/>
                  </a:lnTo>
                  <a:lnTo>
                    <a:pt x="24" y="55"/>
                  </a:lnTo>
                  <a:lnTo>
                    <a:pt x="22" y="57"/>
                  </a:lnTo>
                  <a:lnTo>
                    <a:pt x="18" y="57"/>
                  </a:lnTo>
                  <a:lnTo>
                    <a:pt x="12" y="57"/>
                  </a:lnTo>
                  <a:lnTo>
                    <a:pt x="8" y="55"/>
                  </a:lnTo>
                  <a:lnTo>
                    <a:pt x="0" y="57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535240" y="6545160"/>
              <a:ext cx="55440" cy="619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2" y="18"/>
                  </a:moveTo>
                  <a:lnTo>
                    <a:pt x="12" y="24"/>
                  </a:lnTo>
                  <a:lnTo>
                    <a:pt x="14" y="27"/>
                  </a:lnTo>
                  <a:lnTo>
                    <a:pt x="16" y="29"/>
                  </a:lnTo>
                  <a:lnTo>
                    <a:pt x="18" y="31"/>
                  </a:lnTo>
                  <a:lnTo>
                    <a:pt x="22" y="29"/>
                  </a:lnTo>
                  <a:lnTo>
                    <a:pt x="24" y="27"/>
                  </a:lnTo>
                  <a:lnTo>
                    <a:pt x="26" y="24"/>
                  </a:lnTo>
                  <a:lnTo>
                    <a:pt x="26" y="18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2" y="10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8"/>
                  </a:lnTo>
                  <a:close/>
                  <a:moveTo>
                    <a:pt x="38" y="18"/>
                  </a:moveTo>
                  <a:lnTo>
                    <a:pt x="38" y="24"/>
                  </a:lnTo>
                  <a:lnTo>
                    <a:pt x="36" y="29"/>
                  </a:lnTo>
                  <a:lnTo>
                    <a:pt x="32" y="35"/>
                  </a:lnTo>
                  <a:lnTo>
                    <a:pt x="26" y="37"/>
                  </a:lnTo>
                  <a:lnTo>
                    <a:pt x="18" y="39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4" y="35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36" y="10"/>
                  </a:lnTo>
                  <a:lnTo>
                    <a:pt x="38" y="14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599680" y="6545160"/>
              <a:ext cx="36360" cy="61920"/>
            </a:xfrm>
            <a:custGeom>
              <a:avLst/>
              <a:gdLst/>
              <a:ahLst/>
              <a:rect l="l" t="t" r="r" b="b"/>
              <a:pathLst>
                <a:path w="25" h="39">
                  <a:moveTo>
                    <a:pt x="13" y="27"/>
                  </a:moveTo>
                  <a:lnTo>
                    <a:pt x="13" y="33"/>
                  </a:lnTo>
                  <a:lnTo>
                    <a:pt x="15" y="35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3" y="33"/>
                  </a:lnTo>
                  <a:lnTo>
                    <a:pt x="3" y="27"/>
                  </a:lnTo>
                  <a:lnTo>
                    <a:pt x="3" y="10"/>
                  </a:lnTo>
                  <a:lnTo>
                    <a:pt x="3" y="6"/>
                  </a:lnTo>
                  <a:lnTo>
                    <a:pt x="0" y="2"/>
                  </a:lnTo>
                  <a:lnTo>
                    <a:pt x="11" y="0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5" y="4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3" y="12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642520" y="6545160"/>
              <a:ext cx="51120" cy="6192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10" y="27"/>
                  </a:move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20" y="29"/>
                  </a:lnTo>
                  <a:lnTo>
                    <a:pt x="20" y="22"/>
                  </a:lnTo>
                  <a:lnTo>
                    <a:pt x="16" y="22"/>
                  </a:lnTo>
                  <a:lnTo>
                    <a:pt x="12" y="22"/>
                  </a:lnTo>
                  <a:lnTo>
                    <a:pt x="12" y="24"/>
                  </a:lnTo>
                  <a:lnTo>
                    <a:pt x="10" y="27"/>
                  </a:lnTo>
                  <a:close/>
                  <a:moveTo>
                    <a:pt x="20" y="12"/>
                  </a:moveTo>
                  <a:lnTo>
                    <a:pt x="18" y="8"/>
                  </a:lnTo>
                  <a:lnTo>
                    <a:pt x="16" y="8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6"/>
                  </a:lnTo>
                  <a:lnTo>
                    <a:pt x="2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7" y="2"/>
                  </a:lnTo>
                  <a:lnTo>
                    <a:pt x="31" y="6"/>
                  </a:lnTo>
                  <a:lnTo>
                    <a:pt x="31" y="10"/>
                  </a:lnTo>
                  <a:lnTo>
                    <a:pt x="31" y="27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35" y="35"/>
                  </a:lnTo>
                  <a:lnTo>
                    <a:pt x="27" y="39"/>
                  </a:lnTo>
                  <a:lnTo>
                    <a:pt x="25" y="39"/>
                  </a:lnTo>
                  <a:lnTo>
                    <a:pt x="22" y="39"/>
                  </a:lnTo>
                  <a:lnTo>
                    <a:pt x="20" y="35"/>
                  </a:lnTo>
                  <a:lnTo>
                    <a:pt x="16" y="39"/>
                  </a:lnTo>
                  <a:lnTo>
                    <a:pt x="12" y="39"/>
                  </a:lnTo>
                  <a:lnTo>
                    <a:pt x="6" y="39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2" y="22"/>
                  </a:lnTo>
                  <a:lnTo>
                    <a:pt x="6" y="18"/>
                  </a:lnTo>
                  <a:lnTo>
                    <a:pt x="12" y="16"/>
                  </a:lnTo>
                  <a:lnTo>
                    <a:pt x="20" y="14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699400" y="6526080"/>
              <a:ext cx="37800" cy="8100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16" y="12"/>
                  </a:moveTo>
                  <a:lnTo>
                    <a:pt x="22" y="12"/>
                  </a:lnTo>
                  <a:lnTo>
                    <a:pt x="26" y="12"/>
                  </a:lnTo>
                  <a:lnTo>
                    <a:pt x="26" y="16"/>
                  </a:lnTo>
                  <a:lnTo>
                    <a:pt x="24" y="20"/>
                  </a:lnTo>
                  <a:lnTo>
                    <a:pt x="20" y="20"/>
                  </a:lnTo>
                  <a:lnTo>
                    <a:pt x="16" y="20"/>
                  </a:lnTo>
                  <a:lnTo>
                    <a:pt x="16" y="39"/>
                  </a:lnTo>
                  <a:lnTo>
                    <a:pt x="16" y="41"/>
                  </a:lnTo>
                  <a:lnTo>
                    <a:pt x="18" y="43"/>
                  </a:lnTo>
                  <a:lnTo>
                    <a:pt x="22" y="41"/>
                  </a:lnTo>
                  <a:lnTo>
                    <a:pt x="26" y="36"/>
                  </a:lnTo>
                  <a:lnTo>
                    <a:pt x="26" y="41"/>
                  </a:lnTo>
                  <a:lnTo>
                    <a:pt x="26" y="45"/>
                  </a:lnTo>
                  <a:lnTo>
                    <a:pt x="24" y="49"/>
                  </a:lnTo>
                  <a:lnTo>
                    <a:pt x="20" y="51"/>
                  </a:lnTo>
                  <a:lnTo>
                    <a:pt x="16" y="51"/>
                  </a:lnTo>
                  <a:lnTo>
                    <a:pt x="10" y="51"/>
                  </a:lnTo>
                  <a:lnTo>
                    <a:pt x="8" y="49"/>
                  </a:lnTo>
                  <a:lnTo>
                    <a:pt x="6" y="47"/>
                  </a:lnTo>
                  <a:lnTo>
                    <a:pt x="4" y="43"/>
                  </a:lnTo>
                  <a:lnTo>
                    <a:pt x="4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2"/>
                  </a:lnTo>
                  <a:lnTo>
                    <a:pt x="16" y="0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743320" y="6545160"/>
              <a:ext cx="5688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3" y="18"/>
                  </a:moveTo>
                  <a:lnTo>
                    <a:pt x="13" y="24"/>
                  </a:lnTo>
                  <a:lnTo>
                    <a:pt x="15" y="27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29"/>
                  </a:lnTo>
                  <a:lnTo>
                    <a:pt x="25" y="27"/>
                  </a:lnTo>
                  <a:lnTo>
                    <a:pt x="27" y="24"/>
                  </a:lnTo>
                  <a:lnTo>
                    <a:pt x="27" y="18"/>
                  </a:lnTo>
                  <a:lnTo>
                    <a:pt x="27" y="14"/>
                  </a:lnTo>
                  <a:lnTo>
                    <a:pt x="25" y="12"/>
                  </a:lnTo>
                  <a:lnTo>
                    <a:pt x="23" y="10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3" y="14"/>
                  </a:lnTo>
                  <a:lnTo>
                    <a:pt x="13" y="18"/>
                  </a:lnTo>
                  <a:close/>
                  <a:moveTo>
                    <a:pt x="39" y="18"/>
                  </a:moveTo>
                  <a:lnTo>
                    <a:pt x="39" y="24"/>
                  </a:lnTo>
                  <a:lnTo>
                    <a:pt x="37" y="29"/>
                  </a:lnTo>
                  <a:lnTo>
                    <a:pt x="33" y="35"/>
                  </a:lnTo>
                  <a:lnTo>
                    <a:pt x="27" y="37"/>
                  </a:lnTo>
                  <a:lnTo>
                    <a:pt x="19" y="39"/>
                  </a:lnTo>
                  <a:lnTo>
                    <a:pt x="11" y="37"/>
                  </a:lnTo>
                  <a:lnTo>
                    <a:pt x="9" y="37"/>
                  </a:lnTo>
                  <a:lnTo>
                    <a:pt x="5" y="35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5" y="4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3" y="4"/>
                  </a:lnTo>
                  <a:lnTo>
                    <a:pt x="35" y="8"/>
                  </a:lnTo>
                  <a:lnTo>
                    <a:pt x="37" y="10"/>
                  </a:lnTo>
                  <a:lnTo>
                    <a:pt x="39" y="14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812440" y="6545160"/>
              <a:ext cx="36360" cy="61920"/>
            </a:xfrm>
            <a:custGeom>
              <a:avLst/>
              <a:gdLst/>
              <a:ahLst/>
              <a:rect l="l" t="t" r="r" b="b"/>
              <a:pathLst>
                <a:path w="25" h="39">
                  <a:moveTo>
                    <a:pt x="13" y="27"/>
                  </a:moveTo>
                  <a:lnTo>
                    <a:pt x="13" y="33"/>
                  </a:lnTo>
                  <a:lnTo>
                    <a:pt x="15" y="35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2"/>
                  </a:lnTo>
                  <a:lnTo>
                    <a:pt x="11" y="0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3" y="4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3" y="12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857800" y="6545160"/>
              <a:ext cx="65520" cy="84240"/>
            </a:xfrm>
            <a:custGeom>
              <a:avLst/>
              <a:gdLst/>
              <a:ahLst/>
              <a:rect l="l" t="t" r="r" b="b"/>
              <a:pathLst>
                <a:path w="45" h="53">
                  <a:moveTo>
                    <a:pt x="14" y="0"/>
                  </a:moveTo>
                  <a:lnTo>
                    <a:pt x="14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22" y="22"/>
                  </a:lnTo>
                  <a:lnTo>
                    <a:pt x="29" y="10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45" y="0"/>
                  </a:lnTo>
                  <a:lnTo>
                    <a:pt x="39" y="12"/>
                  </a:lnTo>
                  <a:lnTo>
                    <a:pt x="24" y="39"/>
                  </a:lnTo>
                  <a:lnTo>
                    <a:pt x="18" y="49"/>
                  </a:lnTo>
                  <a:lnTo>
                    <a:pt x="14" y="51"/>
                  </a:lnTo>
                  <a:lnTo>
                    <a:pt x="12" y="53"/>
                  </a:lnTo>
                  <a:lnTo>
                    <a:pt x="0" y="53"/>
                  </a:lnTo>
                  <a:lnTo>
                    <a:pt x="4" y="47"/>
                  </a:lnTo>
                  <a:lnTo>
                    <a:pt x="8" y="43"/>
                  </a:lnTo>
                  <a:lnTo>
                    <a:pt x="12" y="37"/>
                  </a:lnTo>
                  <a:lnTo>
                    <a:pt x="16" y="31"/>
                  </a:lnTo>
                  <a:lnTo>
                    <a:pt x="4" y="8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703440" y="6095880"/>
            <a:ext cx="1783800" cy="549000"/>
            <a:chOff x="703440" y="6095880"/>
            <a:chExt cx="1783800" cy="549000"/>
          </a:xfrm>
        </p:grpSpPr>
        <p:grpSp>
          <p:nvGrpSpPr>
            <p:cNvPr id="463" name=""/>
            <p:cNvGrpSpPr/>
            <p:nvPr/>
          </p:nvGrpSpPr>
          <p:grpSpPr>
            <a:xfrm>
              <a:off x="703440" y="6095880"/>
              <a:ext cx="1783800" cy="549000"/>
              <a:chOff x="703440" y="6095880"/>
              <a:chExt cx="1783800" cy="549000"/>
            </a:xfrm>
          </p:grpSpPr>
          <p:sp>
            <p:nvSpPr>
              <p:cNvPr id="464" name=""/>
              <p:cNvSpPr/>
              <p:nvPr/>
            </p:nvSpPr>
            <p:spPr>
              <a:xfrm>
                <a:off x="703440" y="6096960"/>
                <a:ext cx="266040" cy="356040"/>
              </a:xfrm>
              <a:custGeom>
                <a:avLst/>
                <a:gdLst/>
                <a:ahLst/>
                <a:rect l="l" t="t" r="r" b="b"/>
                <a:pathLst>
                  <a:path w="2411" h="2979">
                    <a:moveTo>
                      <a:pt x="463" y="2127"/>
                    </a:moveTo>
                    <a:lnTo>
                      <a:pt x="480" y="2154"/>
                    </a:lnTo>
                    <a:lnTo>
                      <a:pt x="497" y="2180"/>
                    </a:lnTo>
                    <a:lnTo>
                      <a:pt x="515" y="2206"/>
                    </a:lnTo>
                    <a:lnTo>
                      <a:pt x="533" y="2231"/>
                    </a:lnTo>
                    <a:lnTo>
                      <a:pt x="552" y="2254"/>
                    </a:lnTo>
                    <a:lnTo>
                      <a:pt x="572" y="2277"/>
                    </a:lnTo>
                    <a:lnTo>
                      <a:pt x="592" y="2300"/>
                    </a:lnTo>
                    <a:lnTo>
                      <a:pt x="613" y="2320"/>
                    </a:lnTo>
                    <a:lnTo>
                      <a:pt x="634" y="2340"/>
                    </a:lnTo>
                    <a:lnTo>
                      <a:pt x="656" y="2360"/>
                    </a:lnTo>
                    <a:lnTo>
                      <a:pt x="679" y="2378"/>
                    </a:lnTo>
                    <a:lnTo>
                      <a:pt x="701" y="2395"/>
                    </a:lnTo>
                    <a:lnTo>
                      <a:pt x="725" y="2413"/>
                    </a:lnTo>
                    <a:lnTo>
                      <a:pt x="748" y="2428"/>
                    </a:lnTo>
                    <a:lnTo>
                      <a:pt x="774" y="2443"/>
                    </a:lnTo>
                    <a:lnTo>
                      <a:pt x="798" y="2457"/>
                    </a:lnTo>
                    <a:lnTo>
                      <a:pt x="824" y="2470"/>
                    </a:lnTo>
                    <a:lnTo>
                      <a:pt x="850" y="2482"/>
                    </a:lnTo>
                    <a:lnTo>
                      <a:pt x="877" y="2494"/>
                    </a:lnTo>
                    <a:lnTo>
                      <a:pt x="904" y="2505"/>
                    </a:lnTo>
                    <a:lnTo>
                      <a:pt x="932" y="2515"/>
                    </a:lnTo>
                    <a:lnTo>
                      <a:pt x="960" y="2524"/>
                    </a:lnTo>
                    <a:lnTo>
                      <a:pt x="989" y="2532"/>
                    </a:lnTo>
                    <a:lnTo>
                      <a:pt x="1018" y="2539"/>
                    </a:lnTo>
                    <a:lnTo>
                      <a:pt x="1048" y="2545"/>
                    </a:lnTo>
                    <a:lnTo>
                      <a:pt x="1079" y="2550"/>
                    </a:lnTo>
                    <a:lnTo>
                      <a:pt x="1110" y="2555"/>
                    </a:lnTo>
                    <a:lnTo>
                      <a:pt x="1141" y="2559"/>
                    </a:lnTo>
                    <a:lnTo>
                      <a:pt x="1174" y="2562"/>
                    </a:lnTo>
                    <a:lnTo>
                      <a:pt x="1206" y="2564"/>
                    </a:lnTo>
                    <a:lnTo>
                      <a:pt x="1239" y="2565"/>
                    </a:lnTo>
                    <a:lnTo>
                      <a:pt x="1274" y="2565"/>
                    </a:lnTo>
                    <a:lnTo>
                      <a:pt x="1307" y="2565"/>
                    </a:lnTo>
                    <a:lnTo>
                      <a:pt x="1339" y="2563"/>
                    </a:lnTo>
                    <a:lnTo>
                      <a:pt x="1371" y="2561"/>
                    </a:lnTo>
                    <a:lnTo>
                      <a:pt x="1403" y="2557"/>
                    </a:lnTo>
                    <a:lnTo>
                      <a:pt x="1433" y="2553"/>
                    </a:lnTo>
                    <a:lnTo>
                      <a:pt x="1462" y="2548"/>
                    </a:lnTo>
                    <a:lnTo>
                      <a:pt x="1492" y="2542"/>
                    </a:lnTo>
                    <a:lnTo>
                      <a:pt x="1519" y="2535"/>
                    </a:lnTo>
                    <a:lnTo>
                      <a:pt x="1546" y="2527"/>
                    </a:lnTo>
                    <a:lnTo>
                      <a:pt x="1572" y="2518"/>
                    </a:lnTo>
                    <a:lnTo>
                      <a:pt x="1598" y="2509"/>
                    </a:lnTo>
                    <a:lnTo>
                      <a:pt x="1622" y="2497"/>
                    </a:lnTo>
                    <a:lnTo>
                      <a:pt x="1644" y="2486"/>
                    </a:lnTo>
                    <a:lnTo>
                      <a:pt x="1666" y="2475"/>
                    </a:lnTo>
                    <a:lnTo>
                      <a:pt x="1688" y="2462"/>
                    </a:lnTo>
                    <a:lnTo>
                      <a:pt x="1708" y="2449"/>
                    </a:lnTo>
                    <a:lnTo>
                      <a:pt x="1727" y="2435"/>
                    </a:lnTo>
                    <a:lnTo>
                      <a:pt x="1744" y="2420"/>
                    </a:lnTo>
                    <a:lnTo>
                      <a:pt x="1761" y="2405"/>
                    </a:lnTo>
                    <a:lnTo>
                      <a:pt x="1777" y="2388"/>
                    </a:lnTo>
                    <a:lnTo>
                      <a:pt x="1792" y="2371"/>
                    </a:lnTo>
                    <a:lnTo>
                      <a:pt x="1805" y="2354"/>
                    </a:lnTo>
                    <a:lnTo>
                      <a:pt x="1817" y="2336"/>
                    </a:lnTo>
                    <a:lnTo>
                      <a:pt x="1828" y="2318"/>
                    </a:lnTo>
                    <a:lnTo>
                      <a:pt x="1838" y="2299"/>
                    </a:lnTo>
                    <a:lnTo>
                      <a:pt x="1846" y="2279"/>
                    </a:lnTo>
                    <a:lnTo>
                      <a:pt x="1853" y="2259"/>
                    </a:lnTo>
                    <a:lnTo>
                      <a:pt x="1859" y="2238"/>
                    </a:lnTo>
                    <a:lnTo>
                      <a:pt x="1864" y="2217"/>
                    </a:lnTo>
                    <a:lnTo>
                      <a:pt x="1867" y="2196"/>
                    </a:lnTo>
                    <a:lnTo>
                      <a:pt x="1869" y="2173"/>
                    </a:lnTo>
                    <a:lnTo>
                      <a:pt x="1870" y="2151"/>
                    </a:lnTo>
                    <a:lnTo>
                      <a:pt x="1870" y="2132"/>
                    </a:lnTo>
                    <a:lnTo>
                      <a:pt x="1868" y="2113"/>
                    </a:lnTo>
                    <a:lnTo>
                      <a:pt x="1866" y="2095"/>
                    </a:lnTo>
                    <a:lnTo>
                      <a:pt x="1862" y="2077"/>
                    </a:lnTo>
                    <a:lnTo>
                      <a:pt x="1858" y="2059"/>
                    </a:lnTo>
                    <a:lnTo>
                      <a:pt x="1853" y="2043"/>
                    </a:lnTo>
                    <a:lnTo>
                      <a:pt x="1847" y="2027"/>
                    </a:lnTo>
                    <a:lnTo>
                      <a:pt x="1840" y="2011"/>
                    </a:lnTo>
                    <a:lnTo>
                      <a:pt x="1831" y="1996"/>
                    </a:lnTo>
                    <a:lnTo>
                      <a:pt x="1822" y="1981"/>
                    </a:lnTo>
                    <a:lnTo>
                      <a:pt x="1812" y="1966"/>
                    </a:lnTo>
                    <a:lnTo>
                      <a:pt x="1801" y="1952"/>
                    </a:lnTo>
                    <a:lnTo>
                      <a:pt x="1789" y="1938"/>
                    </a:lnTo>
                    <a:lnTo>
                      <a:pt x="1775" y="1925"/>
                    </a:lnTo>
                    <a:lnTo>
                      <a:pt x="1762" y="1912"/>
                    </a:lnTo>
                    <a:lnTo>
                      <a:pt x="1747" y="1900"/>
                    </a:lnTo>
                    <a:lnTo>
                      <a:pt x="1731" y="1887"/>
                    </a:lnTo>
                    <a:lnTo>
                      <a:pt x="1714" y="1875"/>
                    </a:lnTo>
                    <a:lnTo>
                      <a:pt x="1696" y="1864"/>
                    </a:lnTo>
                    <a:lnTo>
                      <a:pt x="1678" y="1852"/>
                    </a:lnTo>
                    <a:lnTo>
                      <a:pt x="1657" y="1841"/>
                    </a:lnTo>
                    <a:lnTo>
                      <a:pt x="1636" y="1830"/>
                    </a:lnTo>
                    <a:lnTo>
                      <a:pt x="1614" y="1819"/>
                    </a:lnTo>
                    <a:lnTo>
                      <a:pt x="1592" y="1809"/>
                    </a:lnTo>
                    <a:lnTo>
                      <a:pt x="1567" y="1799"/>
                    </a:lnTo>
                    <a:lnTo>
                      <a:pt x="1543" y="1789"/>
                    </a:lnTo>
                    <a:lnTo>
                      <a:pt x="1517" y="1779"/>
                    </a:lnTo>
                    <a:lnTo>
                      <a:pt x="1490" y="1769"/>
                    </a:lnTo>
                    <a:lnTo>
                      <a:pt x="1433" y="1749"/>
                    </a:lnTo>
                    <a:lnTo>
                      <a:pt x="1373" y="1731"/>
                    </a:lnTo>
                    <a:lnTo>
                      <a:pt x="1230" y="1688"/>
                    </a:lnTo>
                    <a:lnTo>
                      <a:pt x="1094" y="1648"/>
                    </a:lnTo>
                    <a:lnTo>
                      <a:pt x="1029" y="1627"/>
                    </a:lnTo>
                    <a:lnTo>
                      <a:pt x="967" y="1608"/>
                    </a:lnTo>
                    <a:lnTo>
                      <a:pt x="906" y="1588"/>
                    </a:lnTo>
                    <a:lnTo>
                      <a:pt x="847" y="1569"/>
                    </a:lnTo>
                    <a:lnTo>
                      <a:pt x="790" y="1549"/>
                    </a:lnTo>
                    <a:lnTo>
                      <a:pt x="735" y="1528"/>
                    </a:lnTo>
                    <a:lnTo>
                      <a:pt x="683" y="1508"/>
                    </a:lnTo>
                    <a:lnTo>
                      <a:pt x="633" y="1488"/>
                    </a:lnTo>
                    <a:lnTo>
                      <a:pt x="585" y="1467"/>
                    </a:lnTo>
                    <a:lnTo>
                      <a:pt x="538" y="1445"/>
                    </a:lnTo>
                    <a:lnTo>
                      <a:pt x="495" y="1422"/>
                    </a:lnTo>
                    <a:lnTo>
                      <a:pt x="453" y="1399"/>
                    </a:lnTo>
                    <a:lnTo>
                      <a:pt x="414" y="1375"/>
                    </a:lnTo>
                    <a:lnTo>
                      <a:pt x="378" y="1350"/>
                    </a:lnTo>
                    <a:lnTo>
                      <a:pt x="342" y="1322"/>
                    </a:lnTo>
                    <a:lnTo>
                      <a:pt x="311" y="1295"/>
                    </a:lnTo>
                    <a:lnTo>
                      <a:pt x="281" y="1267"/>
                    </a:lnTo>
                    <a:lnTo>
                      <a:pt x="253" y="1237"/>
                    </a:lnTo>
                    <a:lnTo>
                      <a:pt x="229" y="1204"/>
                    </a:lnTo>
                    <a:lnTo>
                      <a:pt x="206" y="1171"/>
                    </a:lnTo>
                    <a:lnTo>
                      <a:pt x="187" y="1136"/>
                    </a:lnTo>
                    <a:lnTo>
                      <a:pt x="170" y="1099"/>
                    </a:lnTo>
                    <a:lnTo>
                      <a:pt x="155" y="1060"/>
                    </a:lnTo>
                    <a:lnTo>
                      <a:pt x="142" y="1020"/>
                    </a:lnTo>
                    <a:lnTo>
                      <a:pt x="133" y="977"/>
                    </a:lnTo>
                    <a:lnTo>
                      <a:pt x="126" y="932"/>
                    </a:lnTo>
                    <a:lnTo>
                      <a:pt x="122" y="884"/>
                    </a:lnTo>
                    <a:lnTo>
                      <a:pt x="121" y="835"/>
                    </a:lnTo>
                    <a:lnTo>
                      <a:pt x="122" y="789"/>
                    </a:lnTo>
                    <a:lnTo>
                      <a:pt x="126" y="746"/>
                    </a:lnTo>
                    <a:lnTo>
                      <a:pt x="132" y="703"/>
                    </a:lnTo>
                    <a:lnTo>
                      <a:pt x="141" y="660"/>
                    </a:lnTo>
                    <a:lnTo>
                      <a:pt x="153" y="619"/>
                    </a:lnTo>
                    <a:lnTo>
                      <a:pt x="167" y="579"/>
                    </a:lnTo>
                    <a:lnTo>
                      <a:pt x="183" y="539"/>
                    </a:lnTo>
                    <a:lnTo>
                      <a:pt x="201" y="501"/>
                    </a:lnTo>
                    <a:lnTo>
                      <a:pt x="222" y="463"/>
                    </a:lnTo>
                    <a:lnTo>
                      <a:pt x="245" y="427"/>
                    </a:lnTo>
                    <a:lnTo>
                      <a:pt x="271" y="393"/>
                    </a:lnTo>
                    <a:lnTo>
                      <a:pt x="298" y="358"/>
                    </a:lnTo>
                    <a:lnTo>
                      <a:pt x="328" y="326"/>
                    </a:lnTo>
                    <a:lnTo>
                      <a:pt x="360" y="295"/>
                    </a:lnTo>
                    <a:lnTo>
                      <a:pt x="394" y="266"/>
                    </a:lnTo>
                    <a:lnTo>
                      <a:pt x="429" y="236"/>
                    </a:lnTo>
                    <a:lnTo>
                      <a:pt x="468" y="210"/>
                    </a:lnTo>
                    <a:lnTo>
                      <a:pt x="507" y="184"/>
                    </a:lnTo>
                    <a:lnTo>
                      <a:pt x="548" y="160"/>
                    </a:lnTo>
                    <a:lnTo>
                      <a:pt x="592" y="137"/>
                    </a:lnTo>
                    <a:lnTo>
                      <a:pt x="637" y="116"/>
                    </a:lnTo>
                    <a:lnTo>
                      <a:pt x="685" y="97"/>
                    </a:lnTo>
                    <a:lnTo>
                      <a:pt x="733" y="79"/>
                    </a:lnTo>
                    <a:lnTo>
                      <a:pt x="784" y="63"/>
                    </a:lnTo>
                    <a:lnTo>
                      <a:pt x="836" y="49"/>
                    </a:lnTo>
                    <a:lnTo>
                      <a:pt x="890" y="36"/>
                    </a:lnTo>
                    <a:lnTo>
                      <a:pt x="945" y="25"/>
                    </a:lnTo>
                    <a:lnTo>
                      <a:pt x="1002" y="16"/>
                    </a:lnTo>
                    <a:lnTo>
                      <a:pt x="1060" y="9"/>
                    </a:lnTo>
                    <a:lnTo>
                      <a:pt x="1121" y="4"/>
                    </a:lnTo>
                    <a:lnTo>
                      <a:pt x="1182" y="1"/>
                    </a:lnTo>
                    <a:lnTo>
                      <a:pt x="1244" y="0"/>
                    </a:lnTo>
                    <a:lnTo>
                      <a:pt x="1296" y="1"/>
                    </a:lnTo>
                    <a:lnTo>
                      <a:pt x="1345" y="2"/>
                    </a:lnTo>
                    <a:lnTo>
                      <a:pt x="1395" y="5"/>
                    </a:lnTo>
                    <a:lnTo>
                      <a:pt x="1443" y="9"/>
                    </a:lnTo>
                    <a:lnTo>
                      <a:pt x="1491" y="14"/>
                    </a:lnTo>
                    <a:lnTo>
                      <a:pt x="1538" y="21"/>
                    </a:lnTo>
                    <a:lnTo>
                      <a:pt x="1584" y="28"/>
                    </a:lnTo>
                    <a:lnTo>
                      <a:pt x="1628" y="36"/>
                    </a:lnTo>
                    <a:lnTo>
                      <a:pt x="1672" y="47"/>
                    </a:lnTo>
                    <a:lnTo>
                      <a:pt x="1715" y="57"/>
                    </a:lnTo>
                    <a:lnTo>
                      <a:pt x="1757" y="69"/>
                    </a:lnTo>
                    <a:lnTo>
                      <a:pt x="1798" y="82"/>
                    </a:lnTo>
                    <a:lnTo>
                      <a:pt x="1838" y="95"/>
                    </a:lnTo>
                    <a:lnTo>
                      <a:pt x="1876" y="110"/>
                    </a:lnTo>
                    <a:lnTo>
                      <a:pt x="1915" y="126"/>
                    </a:lnTo>
                    <a:lnTo>
                      <a:pt x="1951" y="143"/>
                    </a:lnTo>
                    <a:lnTo>
                      <a:pt x="1987" y="162"/>
                    </a:lnTo>
                    <a:lnTo>
                      <a:pt x="2022" y="181"/>
                    </a:lnTo>
                    <a:lnTo>
                      <a:pt x="2055" y="200"/>
                    </a:lnTo>
                    <a:lnTo>
                      <a:pt x="2087" y="221"/>
                    </a:lnTo>
                    <a:lnTo>
                      <a:pt x="2118" y="243"/>
                    </a:lnTo>
                    <a:lnTo>
                      <a:pt x="2148" y="267"/>
                    </a:lnTo>
                    <a:lnTo>
                      <a:pt x="2176" y="291"/>
                    </a:lnTo>
                    <a:lnTo>
                      <a:pt x="2204" y="316"/>
                    </a:lnTo>
                    <a:lnTo>
                      <a:pt x="2230" y="342"/>
                    </a:lnTo>
                    <a:lnTo>
                      <a:pt x="2254" y="369"/>
                    </a:lnTo>
                    <a:lnTo>
                      <a:pt x="2278" y="397"/>
                    </a:lnTo>
                    <a:lnTo>
                      <a:pt x="2301" y="426"/>
                    </a:lnTo>
                    <a:lnTo>
                      <a:pt x="2321" y="455"/>
                    </a:lnTo>
                    <a:lnTo>
                      <a:pt x="2341" y="486"/>
                    </a:lnTo>
                    <a:lnTo>
                      <a:pt x="2359" y="518"/>
                    </a:lnTo>
                    <a:lnTo>
                      <a:pt x="2375" y="550"/>
                    </a:lnTo>
                    <a:lnTo>
                      <a:pt x="1934" y="785"/>
                    </a:lnTo>
                    <a:lnTo>
                      <a:pt x="1922" y="762"/>
                    </a:lnTo>
                    <a:lnTo>
                      <a:pt x="1909" y="739"/>
                    </a:lnTo>
                    <a:lnTo>
                      <a:pt x="1895" y="717"/>
                    </a:lnTo>
                    <a:lnTo>
                      <a:pt x="1881" y="696"/>
                    </a:lnTo>
                    <a:lnTo>
                      <a:pt x="1864" y="674"/>
                    </a:lnTo>
                    <a:lnTo>
                      <a:pt x="1848" y="654"/>
                    </a:lnTo>
                    <a:lnTo>
                      <a:pt x="1832" y="635"/>
                    </a:lnTo>
                    <a:lnTo>
                      <a:pt x="1814" y="617"/>
                    </a:lnTo>
                    <a:lnTo>
                      <a:pt x="1796" y="599"/>
                    </a:lnTo>
                    <a:lnTo>
                      <a:pt x="1776" y="582"/>
                    </a:lnTo>
                    <a:lnTo>
                      <a:pt x="1757" y="564"/>
                    </a:lnTo>
                    <a:lnTo>
                      <a:pt x="1737" y="549"/>
                    </a:lnTo>
                    <a:lnTo>
                      <a:pt x="1716" y="533"/>
                    </a:lnTo>
                    <a:lnTo>
                      <a:pt x="1695" y="519"/>
                    </a:lnTo>
                    <a:lnTo>
                      <a:pt x="1671" y="506"/>
                    </a:lnTo>
                    <a:lnTo>
                      <a:pt x="1649" y="493"/>
                    </a:lnTo>
                    <a:lnTo>
                      <a:pt x="1626" y="481"/>
                    </a:lnTo>
                    <a:lnTo>
                      <a:pt x="1602" y="468"/>
                    </a:lnTo>
                    <a:lnTo>
                      <a:pt x="1577" y="458"/>
                    </a:lnTo>
                    <a:lnTo>
                      <a:pt x="1551" y="448"/>
                    </a:lnTo>
                    <a:lnTo>
                      <a:pt x="1526" y="439"/>
                    </a:lnTo>
                    <a:lnTo>
                      <a:pt x="1500" y="430"/>
                    </a:lnTo>
                    <a:lnTo>
                      <a:pt x="1472" y="423"/>
                    </a:lnTo>
                    <a:lnTo>
                      <a:pt x="1445" y="416"/>
                    </a:lnTo>
                    <a:lnTo>
                      <a:pt x="1418" y="410"/>
                    </a:lnTo>
                    <a:lnTo>
                      <a:pt x="1389" y="405"/>
                    </a:lnTo>
                    <a:lnTo>
                      <a:pt x="1360" y="400"/>
                    </a:lnTo>
                    <a:lnTo>
                      <a:pt x="1331" y="396"/>
                    </a:lnTo>
                    <a:lnTo>
                      <a:pt x="1301" y="394"/>
                    </a:lnTo>
                    <a:lnTo>
                      <a:pt x="1271" y="392"/>
                    </a:lnTo>
                    <a:lnTo>
                      <a:pt x="1240" y="390"/>
                    </a:lnTo>
                    <a:lnTo>
                      <a:pt x="1209" y="390"/>
                    </a:lnTo>
                    <a:lnTo>
                      <a:pt x="1180" y="390"/>
                    </a:lnTo>
                    <a:lnTo>
                      <a:pt x="1150" y="392"/>
                    </a:lnTo>
                    <a:lnTo>
                      <a:pt x="1122" y="394"/>
                    </a:lnTo>
                    <a:lnTo>
                      <a:pt x="1094" y="398"/>
                    </a:lnTo>
                    <a:lnTo>
                      <a:pt x="1066" y="402"/>
                    </a:lnTo>
                    <a:lnTo>
                      <a:pt x="1040" y="407"/>
                    </a:lnTo>
                    <a:lnTo>
                      <a:pt x="1015" y="413"/>
                    </a:lnTo>
                    <a:lnTo>
                      <a:pt x="990" y="420"/>
                    </a:lnTo>
                    <a:lnTo>
                      <a:pt x="966" y="428"/>
                    </a:lnTo>
                    <a:lnTo>
                      <a:pt x="942" y="437"/>
                    </a:lnTo>
                    <a:lnTo>
                      <a:pt x="919" y="446"/>
                    </a:lnTo>
                    <a:lnTo>
                      <a:pt x="898" y="457"/>
                    </a:lnTo>
                    <a:lnTo>
                      <a:pt x="877" y="468"/>
                    </a:lnTo>
                    <a:lnTo>
                      <a:pt x="856" y="481"/>
                    </a:lnTo>
                    <a:lnTo>
                      <a:pt x="837" y="493"/>
                    </a:lnTo>
                    <a:lnTo>
                      <a:pt x="819" y="507"/>
                    </a:lnTo>
                    <a:lnTo>
                      <a:pt x="802" y="521"/>
                    </a:lnTo>
                    <a:lnTo>
                      <a:pt x="785" y="535"/>
                    </a:lnTo>
                    <a:lnTo>
                      <a:pt x="770" y="550"/>
                    </a:lnTo>
                    <a:lnTo>
                      <a:pt x="755" y="566"/>
                    </a:lnTo>
                    <a:lnTo>
                      <a:pt x="741" y="584"/>
                    </a:lnTo>
                    <a:lnTo>
                      <a:pt x="729" y="601"/>
                    </a:lnTo>
                    <a:lnTo>
                      <a:pt x="718" y="619"/>
                    </a:lnTo>
                    <a:lnTo>
                      <a:pt x="708" y="637"/>
                    </a:lnTo>
                    <a:lnTo>
                      <a:pt x="699" y="656"/>
                    </a:lnTo>
                    <a:lnTo>
                      <a:pt x="691" y="676"/>
                    </a:lnTo>
                    <a:lnTo>
                      <a:pt x="684" y="697"/>
                    </a:lnTo>
                    <a:lnTo>
                      <a:pt x="679" y="717"/>
                    </a:lnTo>
                    <a:lnTo>
                      <a:pt x="675" y="738"/>
                    </a:lnTo>
                    <a:lnTo>
                      <a:pt x="672" y="759"/>
                    </a:lnTo>
                    <a:lnTo>
                      <a:pt x="670" y="781"/>
                    </a:lnTo>
                    <a:lnTo>
                      <a:pt x="669" y="804"/>
                    </a:lnTo>
                    <a:lnTo>
                      <a:pt x="670" y="830"/>
                    </a:lnTo>
                    <a:lnTo>
                      <a:pt x="672" y="855"/>
                    </a:lnTo>
                    <a:lnTo>
                      <a:pt x="677" y="879"/>
                    </a:lnTo>
                    <a:lnTo>
                      <a:pt x="682" y="902"/>
                    </a:lnTo>
                    <a:lnTo>
                      <a:pt x="690" y="923"/>
                    </a:lnTo>
                    <a:lnTo>
                      <a:pt x="699" y="943"/>
                    </a:lnTo>
                    <a:lnTo>
                      <a:pt x="710" y="962"/>
                    </a:lnTo>
                    <a:lnTo>
                      <a:pt x="722" y="980"/>
                    </a:lnTo>
                    <a:lnTo>
                      <a:pt x="736" y="996"/>
                    </a:lnTo>
                    <a:lnTo>
                      <a:pt x="752" y="1013"/>
                    </a:lnTo>
                    <a:lnTo>
                      <a:pt x="770" y="1029"/>
                    </a:lnTo>
                    <a:lnTo>
                      <a:pt x="789" y="1043"/>
                    </a:lnTo>
                    <a:lnTo>
                      <a:pt x="809" y="1057"/>
                    </a:lnTo>
                    <a:lnTo>
                      <a:pt x="831" y="1070"/>
                    </a:lnTo>
                    <a:lnTo>
                      <a:pt x="854" y="1083"/>
                    </a:lnTo>
                    <a:lnTo>
                      <a:pt x="880" y="1095"/>
                    </a:lnTo>
                    <a:lnTo>
                      <a:pt x="907" y="1106"/>
                    </a:lnTo>
                    <a:lnTo>
                      <a:pt x="935" y="1119"/>
                    </a:lnTo>
                    <a:lnTo>
                      <a:pt x="966" y="1130"/>
                    </a:lnTo>
                    <a:lnTo>
                      <a:pt x="997" y="1141"/>
                    </a:lnTo>
                    <a:lnTo>
                      <a:pt x="1063" y="1162"/>
                    </a:lnTo>
                    <a:lnTo>
                      <a:pt x="1136" y="1183"/>
                    </a:lnTo>
                    <a:lnTo>
                      <a:pt x="1300" y="1229"/>
                    </a:lnTo>
                    <a:lnTo>
                      <a:pt x="1487" y="1280"/>
                    </a:lnTo>
                    <a:lnTo>
                      <a:pt x="1543" y="1296"/>
                    </a:lnTo>
                    <a:lnTo>
                      <a:pt x="1599" y="1312"/>
                    </a:lnTo>
                    <a:lnTo>
                      <a:pt x="1652" y="1330"/>
                    </a:lnTo>
                    <a:lnTo>
                      <a:pt x="1704" y="1347"/>
                    </a:lnTo>
                    <a:lnTo>
                      <a:pt x="1753" y="1364"/>
                    </a:lnTo>
                    <a:lnTo>
                      <a:pt x="1802" y="1381"/>
                    </a:lnTo>
                    <a:lnTo>
                      <a:pt x="1847" y="1399"/>
                    </a:lnTo>
                    <a:lnTo>
                      <a:pt x="1892" y="1417"/>
                    </a:lnTo>
                    <a:lnTo>
                      <a:pt x="1934" y="1437"/>
                    </a:lnTo>
                    <a:lnTo>
                      <a:pt x="1975" y="1456"/>
                    </a:lnTo>
                    <a:lnTo>
                      <a:pt x="2014" y="1476"/>
                    </a:lnTo>
                    <a:lnTo>
                      <a:pt x="2051" y="1497"/>
                    </a:lnTo>
                    <a:lnTo>
                      <a:pt x="2087" y="1518"/>
                    </a:lnTo>
                    <a:lnTo>
                      <a:pt x="2120" y="1541"/>
                    </a:lnTo>
                    <a:lnTo>
                      <a:pt x="2151" y="1563"/>
                    </a:lnTo>
                    <a:lnTo>
                      <a:pt x="2180" y="1587"/>
                    </a:lnTo>
                    <a:lnTo>
                      <a:pt x="2209" y="1611"/>
                    </a:lnTo>
                    <a:lnTo>
                      <a:pt x="2235" y="1636"/>
                    </a:lnTo>
                    <a:lnTo>
                      <a:pt x="2259" y="1662"/>
                    </a:lnTo>
                    <a:lnTo>
                      <a:pt x="2281" y="1689"/>
                    </a:lnTo>
                    <a:lnTo>
                      <a:pt x="2303" y="1717"/>
                    </a:lnTo>
                    <a:lnTo>
                      <a:pt x="2321" y="1746"/>
                    </a:lnTo>
                    <a:lnTo>
                      <a:pt x="2338" y="1776"/>
                    </a:lnTo>
                    <a:lnTo>
                      <a:pt x="2353" y="1807"/>
                    </a:lnTo>
                    <a:lnTo>
                      <a:pt x="2367" y="1839"/>
                    </a:lnTo>
                    <a:lnTo>
                      <a:pt x="2378" y="1874"/>
                    </a:lnTo>
                    <a:lnTo>
                      <a:pt x="2389" y="1908"/>
                    </a:lnTo>
                    <a:lnTo>
                      <a:pt x="2397" y="1944"/>
                    </a:lnTo>
                    <a:lnTo>
                      <a:pt x="2403" y="1982"/>
                    </a:lnTo>
                    <a:lnTo>
                      <a:pt x="2408" y="2020"/>
                    </a:lnTo>
                    <a:lnTo>
                      <a:pt x="2410" y="2060"/>
                    </a:lnTo>
                    <a:lnTo>
                      <a:pt x="2411" y="2102"/>
                    </a:lnTo>
                    <a:lnTo>
                      <a:pt x="2410" y="2149"/>
                    </a:lnTo>
                    <a:lnTo>
                      <a:pt x="2406" y="2197"/>
                    </a:lnTo>
                    <a:lnTo>
                      <a:pt x="2400" y="2242"/>
                    </a:lnTo>
                    <a:lnTo>
                      <a:pt x="2391" y="2286"/>
                    </a:lnTo>
                    <a:lnTo>
                      <a:pt x="2378" y="2331"/>
                    </a:lnTo>
                    <a:lnTo>
                      <a:pt x="2364" y="2373"/>
                    </a:lnTo>
                    <a:lnTo>
                      <a:pt x="2348" y="2415"/>
                    </a:lnTo>
                    <a:lnTo>
                      <a:pt x="2329" y="2455"/>
                    </a:lnTo>
                    <a:lnTo>
                      <a:pt x="2308" y="2494"/>
                    </a:lnTo>
                    <a:lnTo>
                      <a:pt x="2283" y="2533"/>
                    </a:lnTo>
                    <a:lnTo>
                      <a:pt x="2258" y="2569"/>
                    </a:lnTo>
                    <a:lnTo>
                      <a:pt x="2230" y="2604"/>
                    </a:lnTo>
                    <a:lnTo>
                      <a:pt x="2200" y="2639"/>
                    </a:lnTo>
                    <a:lnTo>
                      <a:pt x="2167" y="2672"/>
                    </a:lnTo>
                    <a:lnTo>
                      <a:pt x="2132" y="2703"/>
                    </a:lnTo>
                    <a:lnTo>
                      <a:pt x="2096" y="2733"/>
                    </a:lnTo>
                    <a:lnTo>
                      <a:pt x="2056" y="2761"/>
                    </a:lnTo>
                    <a:lnTo>
                      <a:pt x="2016" y="2788"/>
                    </a:lnTo>
                    <a:lnTo>
                      <a:pt x="1972" y="2813"/>
                    </a:lnTo>
                    <a:lnTo>
                      <a:pt x="1928" y="2837"/>
                    </a:lnTo>
                    <a:lnTo>
                      <a:pt x="1882" y="2859"/>
                    </a:lnTo>
                    <a:lnTo>
                      <a:pt x="1833" y="2879"/>
                    </a:lnTo>
                    <a:lnTo>
                      <a:pt x="1783" y="2898"/>
                    </a:lnTo>
                    <a:lnTo>
                      <a:pt x="1730" y="2914"/>
                    </a:lnTo>
                    <a:lnTo>
                      <a:pt x="1675" y="2929"/>
                    </a:lnTo>
                    <a:lnTo>
                      <a:pt x="1620" y="2943"/>
                    </a:lnTo>
                    <a:lnTo>
                      <a:pt x="1562" y="2954"/>
                    </a:lnTo>
                    <a:lnTo>
                      <a:pt x="1504" y="2963"/>
                    </a:lnTo>
                    <a:lnTo>
                      <a:pt x="1443" y="2970"/>
                    </a:lnTo>
                    <a:lnTo>
                      <a:pt x="1381" y="2975"/>
                    </a:lnTo>
                    <a:lnTo>
                      <a:pt x="1317" y="2978"/>
                    </a:lnTo>
                    <a:lnTo>
                      <a:pt x="1251" y="2979"/>
                    </a:lnTo>
                    <a:lnTo>
                      <a:pt x="1197" y="2979"/>
                    </a:lnTo>
                    <a:lnTo>
                      <a:pt x="1143" y="2977"/>
                    </a:lnTo>
                    <a:lnTo>
                      <a:pt x="1091" y="2974"/>
                    </a:lnTo>
                    <a:lnTo>
                      <a:pt x="1038" y="2971"/>
                    </a:lnTo>
                    <a:lnTo>
                      <a:pt x="988" y="2966"/>
                    </a:lnTo>
                    <a:lnTo>
                      <a:pt x="938" y="2959"/>
                    </a:lnTo>
                    <a:lnTo>
                      <a:pt x="890" y="2952"/>
                    </a:lnTo>
                    <a:lnTo>
                      <a:pt x="842" y="2944"/>
                    </a:lnTo>
                    <a:lnTo>
                      <a:pt x="796" y="2934"/>
                    </a:lnTo>
                    <a:lnTo>
                      <a:pt x="750" y="2923"/>
                    </a:lnTo>
                    <a:lnTo>
                      <a:pt x="705" y="2911"/>
                    </a:lnTo>
                    <a:lnTo>
                      <a:pt x="662" y="2898"/>
                    </a:lnTo>
                    <a:lnTo>
                      <a:pt x="619" y="2884"/>
                    </a:lnTo>
                    <a:lnTo>
                      <a:pt x="578" y="2869"/>
                    </a:lnTo>
                    <a:lnTo>
                      <a:pt x="537" y="2853"/>
                    </a:lnTo>
                    <a:lnTo>
                      <a:pt x="498" y="2835"/>
                    </a:lnTo>
                    <a:lnTo>
                      <a:pt x="460" y="2816"/>
                    </a:lnTo>
                    <a:lnTo>
                      <a:pt x="422" y="2796"/>
                    </a:lnTo>
                    <a:lnTo>
                      <a:pt x="386" y="2775"/>
                    </a:lnTo>
                    <a:lnTo>
                      <a:pt x="349" y="2754"/>
                    </a:lnTo>
                    <a:lnTo>
                      <a:pt x="315" y="2731"/>
                    </a:lnTo>
                    <a:lnTo>
                      <a:pt x="282" y="2705"/>
                    </a:lnTo>
                    <a:lnTo>
                      <a:pt x="249" y="2680"/>
                    </a:lnTo>
                    <a:lnTo>
                      <a:pt x="217" y="2654"/>
                    </a:lnTo>
                    <a:lnTo>
                      <a:pt x="187" y="2626"/>
                    </a:lnTo>
                    <a:lnTo>
                      <a:pt x="158" y="2596"/>
                    </a:lnTo>
                    <a:lnTo>
                      <a:pt x="128" y="2566"/>
                    </a:lnTo>
                    <a:lnTo>
                      <a:pt x="101" y="2535"/>
                    </a:lnTo>
                    <a:lnTo>
                      <a:pt x="75" y="2502"/>
                    </a:lnTo>
                    <a:lnTo>
                      <a:pt x="48" y="2469"/>
                    </a:lnTo>
                    <a:lnTo>
                      <a:pt x="24" y="2435"/>
                    </a:lnTo>
                    <a:lnTo>
                      <a:pt x="0" y="2399"/>
                    </a:lnTo>
                    <a:lnTo>
                      <a:pt x="463" y="21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045800" y="6095880"/>
                <a:ext cx="343440" cy="357120"/>
              </a:xfrm>
              <a:custGeom>
                <a:avLst/>
                <a:gdLst/>
                <a:ahLst/>
                <a:rect l="l" t="t" r="r" b="b"/>
                <a:pathLst>
                  <a:path w="3116" h="2985">
                    <a:moveTo>
                      <a:pt x="598" y="1558"/>
                    </a:moveTo>
                    <a:lnTo>
                      <a:pt x="598" y="1563"/>
                    </a:lnTo>
                    <a:lnTo>
                      <a:pt x="598" y="1568"/>
                    </a:lnTo>
                    <a:lnTo>
                      <a:pt x="598" y="1574"/>
                    </a:lnTo>
                    <a:lnTo>
                      <a:pt x="598" y="1579"/>
                    </a:lnTo>
                    <a:lnTo>
                      <a:pt x="598" y="1585"/>
                    </a:lnTo>
                    <a:lnTo>
                      <a:pt x="598" y="1591"/>
                    </a:lnTo>
                    <a:lnTo>
                      <a:pt x="598" y="1596"/>
                    </a:lnTo>
                    <a:lnTo>
                      <a:pt x="598" y="1601"/>
                    </a:lnTo>
                    <a:lnTo>
                      <a:pt x="599" y="1657"/>
                    </a:lnTo>
                    <a:lnTo>
                      <a:pt x="603" y="1711"/>
                    </a:lnTo>
                    <a:lnTo>
                      <a:pt x="609" y="1764"/>
                    </a:lnTo>
                    <a:lnTo>
                      <a:pt x="619" y="1816"/>
                    </a:lnTo>
                    <a:lnTo>
                      <a:pt x="630" y="1865"/>
                    </a:lnTo>
                    <a:lnTo>
                      <a:pt x="643" y="1915"/>
                    </a:lnTo>
                    <a:lnTo>
                      <a:pt x="659" y="1962"/>
                    </a:lnTo>
                    <a:lnTo>
                      <a:pt x="677" y="2009"/>
                    </a:lnTo>
                    <a:lnTo>
                      <a:pt x="697" y="2053"/>
                    </a:lnTo>
                    <a:lnTo>
                      <a:pt x="720" y="2096"/>
                    </a:lnTo>
                    <a:lnTo>
                      <a:pt x="744" y="2137"/>
                    </a:lnTo>
                    <a:lnTo>
                      <a:pt x="770" y="2177"/>
                    </a:lnTo>
                    <a:lnTo>
                      <a:pt x="798" y="2216"/>
                    </a:lnTo>
                    <a:lnTo>
                      <a:pt x="829" y="2252"/>
                    </a:lnTo>
                    <a:lnTo>
                      <a:pt x="861" y="2287"/>
                    </a:lnTo>
                    <a:lnTo>
                      <a:pt x="895" y="2321"/>
                    </a:lnTo>
                    <a:lnTo>
                      <a:pt x="931" y="2352"/>
                    </a:lnTo>
                    <a:lnTo>
                      <a:pt x="969" y="2381"/>
                    </a:lnTo>
                    <a:lnTo>
                      <a:pt x="1008" y="2410"/>
                    </a:lnTo>
                    <a:lnTo>
                      <a:pt x="1049" y="2435"/>
                    </a:lnTo>
                    <a:lnTo>
                      <a:pt x="1091" y="2459"/>
                    </a:lnTo>
                    <a:lnTo>
                      <a:pt x="1136" y="2481"/>
                    </a:lnTo>
                    <a:lnTo>
                      <a:pt x="1181" y="2501"/>
                    </a:lnTo>
                    <a:lnTo>
                      <a:pt x="1229" y="2520"/>
                    </a:lnTo>
                    <a:lnTo>
                      <a:pt x="1277" y="2536"/>
                    </a:lnTo>
                    <a:lnTo>
                      <a:pt x="1327" y="2550"/>
                    </a:lnTo>
                    <a:lnTo>
                      <a:pt x="1378" y="2562"/>
                    </a:lnTo>
                    <a:lnTo>
                      <a:pt x="1431" y="2572"/>
                    </a:lnTo>
                    <a:lnTo>
                      <a:pt x="1484" y="2580"/>
                    </a:lnTo>
                    <a:lnTo>
                      <a:pt x="1539" y="2585"/>
                    </a:lnTo>
                    <a:lnTo>
                      <a:pt x="1594" y="2589"/>
                    </a:lnTo>
                    <a:lnTo>
                      <a:pt x="1651" y="2590"/>
                    </a:lnTo>
                    <a:lnTo>
                      <a:pt x="1691" y="2589"/>
                    </a:lnTo>
                    <a:lnTo>
                      <a:pt x="1730" y="2587"/>
                    </a:lnTo>
                    <a:lnTo>
                      <a:pt x="1769" y="2584"/>
                    </a:lnTo>
                    <a:lnTo>
                      <a:pt x="1807" y="2580"/>
                    </a:lnTo>
                    <a:lnTo>
                      <a:pt x="1845" y="2575"/>
                    </a:lnTo>
                    <a:lnTo>
                      <a:pt x="1882" y="2569"/>
                    </a:lnTo>
                    <a:lnTo>
                      <a:pt x="1918" y="2561"/>
                    </a:lnTo>
                    <a:lnTo>
                      <a:pt x="1955" y="2553"/>
                    </a:lnTo>
                    <a:lnTo>
                      <a:pt x="1991" y="2543"/>
                    </a:lnTo>
                    <a:lnTo>
                      <a:pt x="2026" y="2532"/>
                    </a:lnTo>
                    <a:lnTo>
                      <a:pt x="2061" y="2520"/>
                    </a:lnTo>
                    <a:lnTo>
                      <a:pt x="2095" y="2506"/>
                    </a:lnTo>
                    <a:lnTo>
                      <a:pt x="2129" y="2491"/>
                    </a:lnTo>
                    <a:lnTo>
                      <a:pt x="2163" y="2476"/>
                    </a:lnTo>
                    <a:lnTo>
                      <a:pt x="2195" y="2459"/>
                    </a:lnTo>
                    <a:lnTo>
                      <a:pt x="2227" y="2441"/>
                    </a:lnTo>
                    <a:lnTo>
                      <a:pt x="2260" y="2422"/>
                    </a:lnTo>
                    <a:lnTo>
                      <a:pt x="2291" y="2401"/>
                    </a:lnTo>
                    <a:lnTo>
                      <a:pt x="2322" y="2379"/>
                    </a:lnTo>
                    <a:lnTo>
                      <a:pt x="2353" y="2357"/>
                    </a:lnTo>
                    <a:lnTo>
                      <a:pt x="2383" y="2333"/>
                    </a:lnTo>
                    <a:lnTo>
                      <a:pt x="2412" y="2308"/>
                    </a:lnTo>
                    <a:lnTo>
                      <a:pt x="2442" y="2281"/>
                    </a:lnTo>
                    <a:lnTo>
                      <a:pt x="2470" y="2253"/>
                    </a:lnTo>
                    <a:lnTo>
                      <a:pt x="2498" y="2225"/>
                    </a:lnTo>
                    <a:lnTo>
                      <a:pt x="2526" y="2195"/>
                    </a:lnTo>
                    <a:lnTo>
                      <a:pt x="2553" y="2163"/>
                    </a:lnTo>
                    <a:lnTo>
                      <a:pt x="2580" y="2131"/>
                    </a:lnTo>
                    <a:lnTo>
                      <a:pt x="2606" y="2098"/>
                    </a:lnTo>
                    <a:lnTo>
                      <a:pt x="2632" y="2063"/>
                    </a:lnTo>
                    <a:lnTo>
                      <a:pt x="2658" y="2027"/>
                    </a:lnTo>
                    <a:lnTo>
                      <a:pt x="2682" y="1991"/>
                    </a:lnTo>
                    <a:lnTo>
                      <a:pt x="3095" y="2231"/>
                    </a:lnTo>
                    <a:lnTo>
                      <a:pt x="3065" y="2277"/>
                    </a:lnTo>
                    <a:lnTo>
                      <a:pt x="3032" y="2323"/>
                    </a:lnTo>
                    <a:lnTo>
                      <a:pt x="3000" y="2366"/>
                    </a:lnTo>
                    <a:lnTo>
                      <a:pt x="2967" y="2408"/>
                    </a:lnTo>
                    <a:lnTo>
                      <a:pt x="2931" y="2448"/>
                    </a:lnTo>
                    <a:lnTo>
                      <a:pt x="2896" y="2487"/>
                    </a:lnTo>
                    <a:lnTo>
                      <a:pt x="2860" y="2525"/>
                    </a:lnTo>
                    <a:lnTo>
                      <a:pt x="2821" y="2560"/>
                    </a:lnTo>
                    <a:lnTo>
                      <a:pt x="2783" y="2595"/>
                    </a:lnTo>
                    <a:lnTo>
                      <a:pt x="2743" y="2629"/>
                    </a:lnTo>
                    <a:lnTo>
                      <a:pt x="2702" y="2660"/>
                    </a:lnTo>
                    <a:lnTo>
                      <a:pt x="2661" y="2690"/>
                    </a:lnTo>
                    <a:lnTo>
                      <a:pt x="2618" y="2718"/>
                    </a:lnTo>
                    <a:lnTo>
                      <a:pt x="2574" y="2746"/>
                    </a:lnTo>
                    <a:lnTo>
                      <a:pt x="2529" y="2772"/>
                    </a:lnTo>
                    <a:lnTo>
                      <a:pt x="2484" y="2796"/>
                    </a:lnTo>
                    <a:lnTo>
                      <a:pt x="2437" y="2819"/>
                    </a:lnTo>
                    <a:lnTo>
                      <a:pt x="2390" y="2841"/>
                    </a:lnTo>
                    <a:lnTo>
                      <a:pt x="2341" y="2861"/>
                    </a:lnTo>
                    <a:lnTo>
                      <a:pt x="2291" y="2879"/>
                    </a:lnTo>
                    <a:lnTo>
                      <a:pt x="2241" y="2896"/>
                    </a:lnTo>
                    <a:lnTo>
                      <a:pt x="2189" y="2911"/>
                    </a:lnTo>
                    <a:lnTo>
                      <a:pt x="2137" y="2925"/>
                    </a:lnTo>
                    <a:lnTo>
                      <a:pt x="2084" y="2939"/>
                    </a:lnTo>
                    <a:lnTo>
                      <a:pt x="2029" y="2950"/>
                    </a:lnTo>
                    <a:lnTo>
                      <a:pt x="1974" y="2959"/>
                    </a:lnTo>
                    <a:lnTo>
                      <a:pt x="1917" y="2967"/>
                    </a:lnTo>
                    <a:lnTo>
                      <a:pt x="1861" y="2974"/>
                    </a:lnTo>
                    <a:lnTo>
                      <a:pt x="1802" y="2979"/>
                    </a:lnTo>
                    <a:lnTo>
                      <a:pt x="1744" y="2983"/>
                    </a:lnTo>
                    <a:lnTo>
                      <a:pt x="1683" y="2985"/>
                    </a:lnTo>
                    <a:lnTo>
                      <a:pt x="1622" y="2985"/>
                    </a:lnTo>
                    <a:lnTo>
                      <a:pt x="1533" y="2984"/>
                    </a:lnTo>
                    <a:lnTo>
                      <a:pt x="1445" y="2979"/>
                    </a:lnTo>
                    <a:lnTo>
                      <a:pt x="1359" y="2970"/>
                    </a:lnTo>
                    <a:lnTo>
                      <a:pt x="1275" y="2958"/>
                    </a:lnTo>
                    <a:lnTo>
                      <a:pt x="1193" y="2943"/>
                    </a:lnTo>
                    <a:lnTo>
                      <a:pt x="1113" y="2923"/>
                    </a:lnTo>
                    <a:lnTo>
                      <a:pt x="1037" y="2902"/>
                    </a:lnTo>
                    <a:lnTo>
                      <a:pt x="961" y="2877"/>
                    </a:lnTo>
                    <a:lnTo>
                      <a:pt x="888" y="2849"/>
                    </a:lnTo>
                    <a:lnTo>
                      <a:pt x="818" y="2817"/>
                    </a:lnTo>
                    <a:lnTo>
                      <a:pt x="750" y="2783"/>
                    </a:lnTo>
                    <a:lnTo>
                      <a:pt x="684" y="2746"/>
                    </a:lnTo>
                    <a:lnTo>
                      <a:pt x="622" y="2706"/>
                    </a:lnTo>
                    <a:lnTo>
                      <a:pt x="561" y="2664"/>
                    </a:lnTo>
                    <a:lnTo>
                      <a:pt x="503" y="2618"/>
                    </a:lnTo>
                    <a:lnTo>
                      <a:pt x="449" y="2570"/>
                    </a:lnTo>
                    <a:lnTo>
                      <a:pt x="397" y="2519"/>
                    </a:lnTo>
                    <a:lnTo>
                      <a:pt x="348" y="2465"/>
                    </a:lnTo>
                    <a:lnTo>
                      <a:pt x="302" y="2410"/>
                    </a:lnTo>
                    <a:lnTo>
                      <a:pt x="259" y="2351"/>
                    </a:lnTo>
                    <a:lnTo>
                      <a:pt x="219" y="2290"/>
                    </a:lnTo>
                    <a:lnTo>
                      <a:pt x="182" y="2227"/>
                    </a:lnTo>
                    <a:lnTo>
                      <a:pt x="149" y="2161"/>
                    </a:lnTo>
                    <a:lnTo>
                      <a:pt x="119" y="2094"/>
                    </a:lnTo>
                    <a:lnTo>
                      <a:pt x="91" y="2024"/>
                    </a:lnTo>
                    <a:lnTo>
                      <a:pt x="68" y="1951"/>
                    </a:lnTo>
                    <a:lnTo>
                      <a:pt x="48" y="1878"/>
                    </a:lnTo>
                    <a:lnTo>
                      <a:pt x="31" y="1801"/>
                    </a:lnTo>
                    <a:lnTo>
                      <a:pt x="18" y="1723"/>
                    </a:lnTo>
                    <a:lnTo>
                      <a:pt x="9" y="1643"/>
                    </a:lnTo>
                    <a:lnTo>
                      <a:pt x="3" y="1561"/>
                    </a:lnTo>
                    <a:lnTo>
                      <a:pt x="0" y="1477"/>
                    </a:lnTo>
                    <a:lnTo>
                      <a:pt x="3" y="1396"/>
                    </a:lnTo>
                    <a:lnTo>
                      <a:pt x="9" y="1317"/>
                    </a:lnTo>
                    <a:lnTo>
                      <a:pt x="18" y="1240"/>
                    </a:lnTo>
                    <a:lnTo>
                      <a:pt x="31" y="1164"/>
                    </a:lnTo>
                    <a:lnTo>
                      <a:pt x="48" y="1089"/>
                    </a:lnTo>
                    <a:lnTo>
                      <a:pt x="68" y="1018"/>
                    </a:lnTo>
                    <a:lnTo>
                      <a:pt x="91" y="947"/>
                    </a:lnTo>
                    <a:lnTo>
                      <a:pt x="119" y="879"/>
                    </a:lnTo>
                    <a:lnTo>
                      <a:pt x="149" y="813"/>
                    </a:lnTo>
                    <a:lnTo>
                      <a:pt x="182" y="748"/>
                    </a:lnTo>
                    <a:lnTo>
                      <a:pt x="220" y="686"/>
                    </a:lnTo>
                    <a:lnTo>
                      <a:pt x="259" y="627"/>
                    </a:lnTo>
                    <a:lnTo>
                      <a:pt x="301" y="569"/>
                    </a:lnTo>
                    <a:lnTo>
                      <a:pt x="347" y="515"/>
                    </a:lnTo>
                    <a:lnTo>
                      <a:pt x="396" y="462"/>
                    </a:lnTo>
                    <a:lnTo>
                      <a:pt x="447" y="412"/>
                    </a:lnTo>
                    <a:lnTo>
                      <a:pt x="501" y="364"/>
                    </a:lnTo>
                    <a:lnTo>
                      <a:pt x="558" y="319"/>
                    </a:lnTo>
                    <a:lnTo>
                      <a:pt x="618" y="278"/>
                    </a:lnTo>
                    <a:lnTo>
                      <a:pt x="679" y="237"/>
                    </a:lnTo>
                    <a:lnTo>
                      <a:pt x="743" y="201"/>
                    </a:lnTo>
                    <a:lnTo>
                      <a:pt x="809" y="168"/>
                    </a:lnTo>
                    <a:lnTo>
                      <a:pt x="878" y="136"/>
                    </a:lnTo>
                    <a:lnTo>
                      <a:pt x="949" y="108"/>
                    </a:lnTo>
                    <a:lnTo>
                      <a:pt x="1023" y="84"/>
                    </a:lnTo>
                    <a:lnTo>
                      <a:pt x="1097" y="62"/>
                    </a:lnTo>
                    <a:lnTo>
                      <a:pt x="1174" y="43"/>
                    </a:lnTo>
                    <a:lnTo>
                      <a:pt x="1253" y="27"/>
                    </a:lnTo>
                    <a:lnTo>
                      <a:pt x="1335" y="16"/>
                    </a:lnTo>
                    <a:lnTo>
                      <a:pt x="1416" y="7"/>
                    </a:lnTo>
                    <a:lnTo>
                      <a:pt x="1501" y="2"/>
                    </a:lnTo>
                    <a:lnTo>
                      <a:pt x="1587" y="0"/>
                    </a:lnTo>
                    <a:lnTo>
                      <a:pt x="1673" y="2"/>
                    </a:lnTo>
                    <a:lnTo>
                      <a:pt x="1758" y="6"/>
                    </a:lnTo>
                    <a:lnTo>
                      <a:pt x="1840" y="14"/>
                    </a:lnTo>
                    <a:lnTo>
                      <a:pt x="1920" y="25"/>
                    </a:lnTo>
                    <a:lnTo>
                      <a:pt x="1998" y="39"/>
                    </a:lnTo>
                    <a:lnTo>
                      <a:pt x="2074" y="57"/>
                    </a:lnTo>
                    <a:lnTo>
                      <a:pt x="2148" y="77"/>
                    </a:lnTo>
                    <a:lnTo>
                      <a:pt x="2219" y="100"/>
                    </a:lnTo>
                    <a:lnTo>
                      <a:pt x="2288" y="126"/>
                    </a:lnTo>
                    <a:lnTo>
                      <a:pt x="2355" y="155"/>
                    </a:lnTo>
                    <a:lnTo>
                      <a:pt x="2418" y="188"/>
                    </a:lnTo>
                    <a:lnTo>
                      <a:pt x="2480" y="222"/>
                    </a:lnTo>
                    <a:lnTo>
                      <a:pt x="2539" y="260"/>
                    </a:lnTo>
                    <a:lnTo>
                      <a:pt x="2596" y="301"/>
                    </a:lnTo>
                    <a:lnTo>
                      <a:pt x="2650" y="343"/>
                    </a:lnTo>
                    <a:lnTo>
                      <a:pt x="2701" y="390"/>
                    </a:lnTo>
                    <a:lnTo>
                      <a:pt x="2750" y="438"/>
                    </a:lnTo>
                    <a:lnTo>
                      <a:pt x="2795" y="490"/>
                    </a:lnTo>
                    <a:lnTo>
                      <a:pt x="2837" y="543"/>
                    </a:lnTo>
                    <a:lnTo>
                      <a:pt x="2878" y="600"/>
                    </a:lnTo>
                    <a:lnTo>
                      <a:pt x="2915" y="658"/>
                    </a:lnTo>
                    <a:lnTo>
                      <a:pt x="2950" y="720"/>
                    </a:lnTo>
                    <a:lnTo>
                      <a:pt x="2980" y="783"/>
                    </a:lnTo>
                    <a:lnTo>
                      <a:pt x="3008" y="850"/>
                    </a:lnTo>
                    <a:lnTo>
                      <a:pt x="3033" y="919"/>
                    </a:lnTo>
                    <a:lnTo>
                      <a:pt x="3055" y="990"/>
                    </a:lnTo>
                    <a:lnTo>
                      <a:pt x="3074" y="1064"/>
                    </a:lnTo>
                    <a:lnTo>
                      <a:pt x="3089" y="1140"/>
                    </a:lnTo>
                    <a:lnTo>
                      <a:pt x="3100" y="1217"/>
                    </a:lnTo>
                    <a:lnTo>
                      <a:pt x="3109" y="1298"/>
                    </a:lnTo>
                    <a:lnTo>
                      <a:pt x="3114" y="1380"/>
                    </a:lnTo>
                    <a:lnTo>
                      <a:pt x="3116" y="1465"/>
                    </a:lnTo>
                    <a:lnTo>
                      <a:pt x="3116" y="1477"/>
                    </a:lnTo>
                    <a:lnTo>
                      <a:pt x="3116" y="1488"/>
                    </a:lnTo>
                    <a:lnTo>
                      <a:pt x="3116" y="1500"/>
                    </a:lnTo>
                    <a:lnTo>
                      <a:pt x="3116" y="1511"/>
                    </a:lnTo>
                    <a:lnTo>
                      <a:pt x="3116" y="1523"/>
                    </a:lnTo>
                    <a:lnTo>
                      <a:pt x="3116" y="1534"/>
                    </a:lnTo>
                    <a:lnTo>
                      <a:pt x="3116" y="1547"/>
                    </a:lnTo>
                    <a:lnTo>
                      <a:pt x="3116" y="1558"/>
                    </a:lnTo>
                    <a:lnTo>
                      <a:pt x="598" y="1558"/>
                    </a:lnTo>
                    <a:close/>
                    <a:moveTo>
                      <a:pt x="1566" y="414"/>
                    </a:moveTo>
                    <a:lnTo>
                      <a:pt x="1517" y="415"/>
                    </a:lnTo>
                    <a:lnTo>
                      <a:pt x="1470" y="418"/>
                    </a:lnTo>
                    <a:lnTo>
                      <a:pt x="1423" y="422"/>
                    </a:lnTo>
                    <a:lnTo>
                      <a:pt x="1377" y="428"/>
                    </a:lnTo>
                    <a:lnTo>
                      <a:pt x="1333" y="435"/>
                    </a:lnTo>
                    <a:lnTo>
                      <a:pt x="1288" y="444"/>
                    </a:lnTo>
                    <a:lnTo>
                      <a:pt x="1246" y="454"/>
                    </a:lnTo>
                    <a:lnTo>
                      <a:pt x="1203" y="467"/>
                    </a:lnTo>
                    <a:lnTo>
                      <a:pt x="1163" y="481"/>
                    </a:lnTo>
                    <a:lnTo>
                      <a:pt x="1123" y="496"/>
                    </a:lnTo>
                    <a:lnTo>
                      <a:pt x="1084" y="513"/>
                    </a:lnTo>
                    <a:lnTo>
                      <a:pt x="1047" y="531"/>
                    </a:lnTo>
                    <a:lnTo>
                      <a:pt x="1010" y="550"/>
                    </a:lnTo>
                    <a:lnTo>
                      <a:pt x="975" y="571"/>
                    </a:lnTo>
                    <a:lnTo>
                      <a:pt x="941" y="595"/>
                    </a:lnTo>
                    <a:lnTo>
                      <a:pt x="908" y="618"/>
                    </a:lnTo>
                    <a:lnTo>
                      <a:pt x="877" y="643"/>
                    </a:lnTo>
                    <a:lnTo>
                      <a:pt x="848" y="670"/>
                    </a:lnTo>
                    <a:lnTo>
                      <a:pt x="820" y="699"/>
                    </a:lnTo>
                    <a:lnTo>
                      <a:pt x="792" y="728"/>
                    </a:lnTo>
                    <a:lnTo>
                      <a:pt x="767" y="758"/>
                    </a:lnTo>
                    <a:lnTo>
                      <a:pt x="744" y="790"/>
                    </a:lnTo>
                    <a:lnTo>
                      <a:pt x="721" y="823"/>
                    </a:lnTo>
                    <a:lnTo>
                      <a:pt x="700" y="857"/>
                    </a:lnTo>
                    <a:lnTo>
                      <a:pt x="681" y="893"/>
                    </a:lnTo>
                    <a:lnTo>
                      <a:pt x="664" y="930"/>
                    </a:lnTo>
                    <a:lnTo>
                      <a:pt x="649" y="968"/>
                    </a:lnTo>
                    <a:lnTo>
                      <a:pt x="635" y="1006"/>
                    </a:lnTo>
                    <a:lnTo>
                      <a:pt x="623" y="1047"/>
                    </a:lnTo>
                    <a:lnTo>
                      <a:pt x="613" y="1088"/>
                    </a:lnTo>
                    <a:lnTo>
                      <a:pt x="604" y="1131"/>
                    </a:lnTo>
                    <a:lnTo>
                      <a:pt x="598" y="1174"/>
                    </a:lnTo>
                    <a:lnTo>
                      <a:pt x="2532" y="1174"/>
                    </a:lnTo>
                    <a:lnTo>
                      <a:pt x="2528" y="1130"/>
                    </a:lnTo>
                    <a:lnTo>
                      <a:pt x="2522" y="1085"/>
                    </a:lnTo>
                    <a:lnTo>
                      <a:pt x="2514" y="1043"/>
                    </a:lnTo>
                    <a:lnTo>
                      <a:pt x="2505" y="1001"/>
                    </a:lnTo>
                    <a:lnTo>
                      <a:pt x="2493" y="962"/>
                    </a:lnTo>
                    <a:lnTo>
                      <a:pt x="2480" y="923"/>
                    </a:lnTo>
                    <a:lnTo>
                      <a:pt x="2465" y="885"/>
                    </a:lnTo>
                    <a:lnTo>
                      <a:pt x="2448" y="850"/>
                    </a:lnTo>
                    <a:lnTo>
                      <a:pt x="2429" y="815"/>
                    </a:lnTo>
                    <a:lnTo>
                      <a:pt x="2409" y="781"/>
                    </a:lnTo>
                    <a:lnTo>
                      <a:pt x="2387" y="750"/>
                    </a:lnTo>
                    <a:lnTo>
                      <a:pt x="2363" y="720"/>
                    </a:lnTo>
                    <a:lnTo>
                      <a:pt x="2337" y="690"/>
                    </a:lnTo>
                    <a:lnTo>
                      <a:pt x="2310" y="662"/>
                    </a:lnTo>
                    <a:lnTo>
                      <a:pt x="2282" y="636"/>
                    </a:lnTo>
                    <a:lnTo>
                      <a:pt x="2252" y="611"/>
                    </a:lnTo>
                    <a:lnTo>
                      <a:pt x="2220" y="588"/>
                    </a:lnTo>
                    <a:lnTo>
                      <a:pt x="2187" y="565"/>
                    </a:lnTo>
                    <a:lnTo>
                      <a:pt x="2152" y="545"/>
                    </a:lnTo>
                    <a:lnTo>
                      <a:pt x="2115" y="526"/>
                    </a:lnTo>
                    <a:lnTo>
                      <a:pt x="2078" y="509"/>
                    </a:lnTo>
                    <a:lnTo>
                      <a:pt x="2038" y="493"/>
                    </a:lnTo>
                    <a:lnTo>
                      <a:pt x="1997" y="478"/>
                    </a:lnTo>
                    <a:lnTo>
                      <a:pt x="1955" y="464"/>
                    </a:lnTo>
                    <a:lnTo>
                      <a:pt x="1911" y="452"/>
                    </a:lnTo>
                    <a:lnTo>
                      <a:pt x="1866" y="442"/>
                    </a:lnTo>
                    <a:lnTo>
                      <a:pt x="1819" y="434"/>
                    </a:lnTo>
                    <a:lnTo>
                      <a:pt x="1771" y="427"/>
                    </a:lnTo>
                    <a:lnTo>
                      <a:pt x="1721" y="421"/>
                    </a:lnTo>
                    <a:lnTo>
                      <a:pt x="1671" y="417"/>
                    </a:lnTo>
                    <a:lnTo>
                      <a:pt x="1619" y="415"/>
                    </a:lnTo>
                    <a:lnTo>
                      <a:pt x="1566" y="4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480680" y="6095880"/>
                <a:ext cx="211320" cy="353520"/>
              </a:xfrm>
              <a:custGeom>
                <a:avLst/>
                <a:gdLst/>
                <a:ahLst/>
                <a:rect l="l" t="t" r="r" b="b"/>
                <a:pathLst>
                  <a:path w="1921" h="2955">
                    <a:moveTo>
                      <a:pt x="0" y="59"/>
                    </a:moveTo>
                    <a:lnTo>
                      <a:pt x="540" y="59"/>
                    </a:lnTo>
                    <a:lnTo>
                      <a:pt x="540" y="596"/>
                    </a:lnTo>
                    <a:lnTo>
                      <a:pt x="566" y="558"/>
                    </a:lnTo>
                    <a:lnTo>
                      <a:pt x="592" y="522"/>
                    </a:lnTo>
                    <a:lnTo>
                      <a:pt x="618" y="487"/>
                    </a:lnTo>
                    <a:lnTo>
                      <a:pt x="645" y="453"/>
                    </a:lnTo>
                    <a:lnTo>
                      <a:pt x="671" y="421"/>
                    </a:lnTo>
                    <a:lnTo>
                      <a:pt x="696" y="390"/>
                    </a:lnTo>
                    <a:lnTo>
                      <a:pt x="722" y="359"/>
                    </a:lnTo>
                    <a:lnTo>
                      <a:pt x="749" y="331"/>
                    </a:lnTo>
                    <a:lnTo>
                      <a:pt x="776" y="303"/>
                    </a:lnTo>
                    <a:lnTo>
                      <a:pt x="802" y="277"/>
                    </a:lnTo>
                    <a:lnTo>
                      <a:pt x="829" y="252"/>
                    </a:lnTo>
                    <a:lnTo>
                      <a:pt x="857" y="228"/>
                    </a:lnTo>
                    <a:lnTo>
                      <a:pt x="884" y="206"/>
                    </a:lnTo>
                    <a:lnTo>
                      <a:pt x="912" y="184"/>
                    </a:lnTo>
                    <a:lnTo>
                      <a:pt x="940" y="165"/>
                    </a:lnTo>
                    <a:lnTo>
                      <a:pt x="970" y="145"/>
                    </a:lnTo>
                    <a:lnTo>
                      <a:pt x="999" y="127"/>
                    </a:lnTo>
                    <a:lnTo>
                      <a:pt x="1029" y="111"/>
                    </a:lnTo>
                    <a:lnTo>
                      <a:pt x="1061" y="95"/>
                    </a:lnTo>
                    <a:lnTo>
                      <a:pt x="1092" y="81"/>
                    </a:lnTo>
                    <a:lnTo>
                      <a:pt x="1124" y="68"/>
                    </a:lnTo>
                    <a:lnTo>
                      <a:pt x="1158" y="57"/>
                    </a:lnTo>
                    <a:lnTo>
                      <a:pt x="1192" y="45"/>
                    </a:lnTo>
                    <a:lnTo>
                      <a:pt x="1227" y="35"/>
                    </a:lnTo>
                    <a:lnTo>
                      <a:pt x="1264" y="27"/>
                    </a:lnTo>
                    <a:lnTo>
                      <a:pt x="1301" y="20"/>
                    </a:lnTo>
                    <a:lnTo>
                      <a:pt x="1339" y="14"/>
                    </a:lnTo>
                    <a:lnTo>
                      <a:pt x="1379" y="9"/>
                    </a:lnTo>
                    <a:lnTo>
                      <a:pt x="1419" y="5"/>
                    </a:lnTo>
                    <a:lnTo>
                      <a:pt x="1462" y="2"/>
                    </a:lnTo>
                    <a:lnTo>
                      <a:pt x="1505" y="1"/>
                    </a:lnTo>
                    <a:lnTo>
                      <a:pt x="1549" y="0"/>
                    </a:lnTo>
                    <a:lnTo>
                      <a:pt x="1573" y="0"/>
                    </a:lnTo>
                    <a:lnTo>
                      <a:pt x="1597" y="2"/>
                    </a:lnTo>
                    <a:lnTo>
                      <a:pt x="1620" y="3"/>
                    </a:lnTo>
                    <a:lnTo>
                      <a:pt x="1644" y="6"/>
                    </a:lnTo>
                    <a:lnTo>
                      <a:pt x="1668" y="9"/>
                    </a:lnTo>
                    <a:lnTo>
                      <a:pt x="1691" y="13"/>
                    </a:lnTo>
                    <a:lnTo>
                      <a:pt x="1714" y="17"/>
                    </a:lnTo>
                    <a:lnTo>
                      <a:pt x="1737" y="22"/>
                    </a:lnTo>
                    <a:lnTo>
                      <a:pt x="1784" y="33"/>
                    </a:lnTo>
                    <a:lnTo>
                      <a:pt x="1830" y="45"/>
                    </a:lnTo>
                    <a:lnTo>
                      <a:pt x="1876" y="59"/>
                    </a:lnTo>
                    <a:lnTo>
                      <a:pt x="1921" y="72"/>
                    </a:lnTo>
                    <a:lnTo>
                      <a:pt x="1736" y="499"/>
                    </a:lnTo>
                    <a:lnTo>
                      <a:pt x="1691" y="486"/>
                    </a:lnTo>
                    <a:lnTo>
                      <a:pt x="1646" y="474"/>
                    </a:lnTo>
                    <a:lnTo>
                      <a:pt x="1603" y="464"/>
                    </a:lnTo>
                    <a:lnTo>
                      <a:pt x="1561" y="457"/>
                    </a:lnTo>
                    <a:lnTo>
                      <a:pt x="1519" y="451"/>
                    </a:lnTo>
                    <a:lnTo>
                      <a:pt x="1479" y="446"/>
                    </a:lnTo>
                    <a:lnTo>
                      <a:pt x="1439" y="444"/>
                    </a:lnTo>
                    <a:lnTo>
                      <a:pt x="1402" y="443"/>
                    </a:lnTo>
                    <a:lnTo>
                      <a:pt x="1349" y="444"/>
                    </a:lnTo>
                    <a:lnTo>
                      <a:pt x="1297" y="447"/>
                    </a:lnTo>
                    <a:lnTo>
                      <a:pt x="1248" y="452"/>
                    </a:lnTo>
                    <a:lnTo>
                      <a:pt x="1199" y="459"/>
                    </a:lnTo>
                    <a:lnTo>
                      <a:pt x="1153" y="469"/>
                    </a:lnTo>
                    <a:lnTo>
                      <a:pt x="1108" y="480"/>
                    </a:lnTo>
                    <a:lnTo>
                      <a:pt x="1066" y="495"/>
                    </a:lnTo>
                    <a:lnTo>
                      <a:pt x="1024" y="510"/>
                    </a:lnTo>
                    <a:lnTo>
                      <a:pt x="985" y="528"/>
                    </a:lnTo>
                    <a:lnTo>
                      <a:pt x="947" y="548"/>
                    </a:lnTo>
                    <a:lnTo>
                      <a:pt x="910" y="570"/>
                    </a:lnTo>
                    <a:lnTo>
                      <a:pt x="876" y="595"/>
                    </a:lnTo>
                    <a:lnTo>
                      <a:pt x="844" y="621"/>
                    </a:lnTo>
                    <a:lnTo>
                      <a:pt x="812" y="649"/>
                    </a:lnTo>
                    <a:lnTo>
                      <a:pt x="783" y="679"/>
                    </a:lnTo>
                    <a:lnTo>
                      <a:pt x="756" y="713"/>
                    </a:lnTo>
                    <a:lnTo>
                      <a:pt x="729" y="747"/>
                    </a:lnTo>
                    <a:lnTo>
                      <a:pt x="705" y="784"/>
                    </a:lnTo>
                    <a:lnTo>
                      <a:pt x="682" y="824"/>
                    </a:lnTo>
                    <a:lnTo>
                      <a:pt x="662" y="864"/>
                    </a:lnTo>
                    <a:lnTo>
                      <a:pt x="643" y="907"/>
                    </a:lnTo>
                    <a:lnTo>
                      <a:pt x="624" y="953"/>
                    </a:lnTo>
                    <a:lnTo>
                      <a:pt x="609" y="1000"/>
                    </a:lnTo>
                    <a:lnTo>
                      <a:pt x="594" y="1051"/>
                    </a:lnTo>
                    <a:lnTo>
                      <a:pt x="582" y="1102"/>
                    </a:lnTo>
                    <a:lnTo>
                      <a:pt x="571" y="1156"/>
                    </a:lnTo>
                    <a:lnTo>
                      <a:pt x="562" y="1212"/>
                    </a:lnTo>
                    <a:lnTo>
                      <a:pt x="555" y="1271"/>
                    </a:lnTo>
                    <a:lnTo>
                      <a:pt x="549" y="1330"/>
                    </a:lnTo>
                    <a:lnTo>
                      <a:pt x="545" y="1393"/>
                    </a:lnTo>
                    <a:lnTo>
                      <a:pt x="542" y="1458"/>
                    </a:lnTo>
                    <a:lnTo>
                      <a:pt x="542" y="1524"/>
                    </a:lnTo>
                    <a:lnTo>
                      <a:pt x="542" y="2955"/>
                    </a:lnTo>
                    <a:lnTo>
                      <a:pt x="0" y="2955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719720" y="6096960"/>
                <a:ext cx="297360" cy="356040"/>
              </a:xfrm>
              <a:custGeom>
                <a:avLst/>
                <a:gdLst/>
                <a:ahLst/>
                <a:rect l="l" t="t" r="r" b="b"/>
                <a:pathLst>
                  <a:path w="2702" h="2979">
                    <a:moveTo>
                      <a:pt x="2702" y="2757"/>
                    </a:moveTo>
                    <a:lnTo>
                      <a:pt x="2675" y="2771"/>
                    </a:lnTo>
                    <a:lnTo>
                      <a:pt x="2647" y="2784"/>
                    </a:lnTo>
                    <a:lnTo>
                      <a:pt x="2618" y="2796"/>
                    </a:lnTo>
                    <a:lnTo>
                      <a:pt x="2589" y="2809"/>
                    </a:lnTo>
                    <a:lnTo>
                      <a:pt x="2560" y="2821"/>
                    </a:lnTo>
                    <a:lnTo>
                      <a:pt x="2530" y="2833"/>
                    </a:lnTo>
                    <a:lnTo>
                      <a:pt x="2500" y="2844"/>
                    </a:lnTo>
                    <a:lnTo>
                      <a:pt x="2470" y="2855"/>
                    </a:lnTo>
                    <a:lnTo>
                      <a:pt x="2440" y="2865"/>
                    </a:lnTo>
                    <a:lnTo>
                      <a:pt x="2408" y="2874"/>
                    </a:lnTo>
                    <a:lnTo>
                      <a:pt x="2377" y="2884"/>
                    </a:lnTo>
                    <a:lnTo>
                      <a:pt x="2345" y="2892"/>
                    </a:lnTo>
                    <a:lnTo>
                      <a:pt x="2312" y="2901"/>
                    </a:lnTo>
                    <a:lnTo>
                      <a:pt x="2280" y="2909"/>
                    </a:lnTo>
                    <a:lnTo>
                      <a:pt x="2247" y="2916"/>
                    </a:lnTo>
                    <a:lnTo>
                      <a:pt x="2213" y="2923"/>
                    </a:lnTo>
                    <a:lnTo>
                      <a:pt x="2146" y="2937"/>
                    </a:lnTo>
                    <a:lnTo>
                      <a:pt x="2077" y="2949"/>
                    </a:lnTo>
                    <a:lnTo>
                      <a:pt x="2006" y="2958"/>
                    </a:lnTo>
                    <a:lnTo>
                      <a:pt x="1935" y="2966"/>
                    </a:lnTo>
                    <a:lnTo>
                      <a:pt x="1862" y="2972"/>
                    </a:lnTo>
                    <a:lnTo>
                      <a:pt x="1787" y="2976"/>
                    </a:lnTo>
                    <a:lnTo>
                      <a:pt x="1711" y="2979"/>
                    </a:lnTo>
                    <a:lnTo>
                      <a:pt x="1635" y="2979"/>
                    </a:lnTo>
                    <a:lnTo>
                      <a:pt x="1544" y="2978"/>
                    </a:lnTo>
                    <a:lnTo>
                      <a:pt x="1454" y="2973"/>
                    </a:lnTo>
                    <a:lnTo>
                      <a:pt x="1366" y="2964"/>
                    </a:lnTo>
                    <a:lnTo>
                      <a:pt x="1281" y="2952"/>
                    </a:lnTo>
                    <a:lnTo>
                      <a:pt x="1197" y="2937"/>
                    </a:lnTo>
                    <a:lnTo>
                      <a:pt x="1117" y="2918"/>
                    </a:lnTo>
                    <a:lnTo>
                      <a:pt x="1039" y="2897"/>
                    </a:lnTo>
                    <a:lnTo>
                      <a:pt x="962" y="2872"/>
                    </a:lnTo>
                    <a:lnTo>
                      <a:pt x="888" y="2845"/>
                    </a:lnTo>
                    <a:lnTo>
                      <a:pt x="818" y="2813"/>
                    </a:lnTo>
                    <a:lnTo>
                      <a:pt x="749" y="2780"/>
                    </a:lnTo>
                    <a:lnTo>
                      <a:pt x="683" y="2744"/>
                    </a:lnTo>
                    <a:lnTo>
                      <a:pt x="620" y="2704"/>
                    </a:lnTo>
                    <a:lnTo>
                      <a:pt x="559" y="2663"/>
                    </a:lnTo>
                    <a:lnTo>
                      <a:pt x="501" y="2618"/>
                    </a:lnTo>
                    <a:lnTo>
                      <a:pt x="447" y="2571"/>
                    </a:lnTo>
                    <a:lnTo>
                      <a:pt x="394" y="2521"/>
                    </a:lnTo>
                    <a:lnTo>
                      <a:pt x="345" y="2468"/>
                    </a:lnTo>
                    <a:lnTo>
                      <a:pt x="299" y="2414"/>
                    </a:lnTo>
                    <a:lnTo>
                      <a:pt x="256" y="2357"/>
                    </a:lnTo>
                    <a:lnTo>
                      <a:pt x="217" y="2298"/>
                    </a:lnTo>
                    <a:lnTo>
                      <a:pt x="179" y="2236"/>
                    </a:lnTo>
                    <a:lnTo>
                      <a:pt x="146" y="2172"/>
                    </a:lnTo>
                    <a:lnTo>
                      <a:pt x="116" y="2106"/>
                    </a:lnTo>
                    <a:lnTo>
                      <a:pt x="89" y="2038"/>
                    </a:lnTo>
                    <a:lnTo>
                      <a:pt x="65" y="1967"/>
                    </a:lnTo>
                    <a:lnTo>
                      <a:pt x="46" y="1896"/>
                    </a:lnTo>
                    <a:lnTo>
                      <a:pt x="29" y="1822"/>
                    </a:lnTo>
                    <a:lnTo>
                      <a:pt x="16" y="1746"/>
                    </a:lnTo>
                    <a:lnTo>
                      <a:pt x="7" y="1669"/>
                    </a:lnTo>
                    <a:lnTo>
                      <a:pt x="2" y="1589"/>
                    </a:lnTo>
                    <a:lnTo>
                      <a:pt x="0" y="1508"/>
                    </a:lnTo>
                    <a:lnTo>
                      <a:pt x="2" y="1424"/>
                    </a:lnTo>
                    <a:lnTo>
                      <a:pt x="8" y="1343"/>
                    </a:lnTo>
                    <a:lnTo>
                      <a:pt x="18" y="1263"/>
                    </a:lnTo>
                    <a:lnTo>
                      <a:pt x="32" y="1184"/>
                    </a:lnTo>
                    <a:lnTo>
                      <a:pt x="49" y="1108"/>
                    </a:lnTo>
                    <a:lnTo>
                      <a:pt x="70" y="1034"/>
                    </a:lnTo>
                    <a:lnTo>
                      <a:pt x="95" y="962"/>
                    </a:lnTo>
                    <a:lnTo>
                      <a:pt x="124" y="892"/>
                    </a:lnTo>
                    <a:lnTo>
                      <a:pt x="156" y="825"/>
                    </a:lnTo>
                    <a:lnTo>
                      <a:pt x="191" y="759"/>
                    </a:lnTo>
                    <a:lnTo>
                      <a:pt x="231" y="696"/>
                    </a:lnTo>
                    <a:lnTo>
                      <a:pt x="272" y="635"/>
                    </a:lnTo>
                    <a:lnTo>
                      <a:pt x="318" y="576"/>
                    </a:lnTo>
                    <a:lnTo>
                      <a:pt x="365" y="520"/>
                    </a:lnTo>
                    <a:lnTo>
                      <a:pt x="417" y="466"/>
                    </a:lnTo>
                    <a:lnTo>
                      <a:pt x="470" y="416"/>
                    </a:lnTo>
                    <a:lnTo>
                      <a:pt x="527" y="368"/>
                    </a:lnTo>
                    <a:lnTo>
                      <a:pt x="586" y="322"/>
                    </a:lnTo>
                    <a:lnTo>
                      <a:pt x="649" y="280"/>
                    </a:lnTo>
                    <a:lnTo>
                      <a:pt x="714" y="239"/>
                    </a:lnTo>
                    <a:lnTo>
                      <a:pt x="780" y="202"/>
                    </a:lnTo>
                    <a:lnTo>
                      <a:pt x="850" y="169"/>
                    </a:lnTo>
                    <a:lnTo>
                      <a:pt x="922" y="137"/>
                    </a:lnTo>
                    <a:lnTo>
                      <a:pt x="995" y="109"/>
                    </a:lnTo>
                    <a:lnTo>
                      <a:pt x="1071" y="84"/>
                    </a:lnTo>
                    <a:lnTo>
                      <a:pt x="1150" y="62"/>
                    </a:lnTo>
                    <a:lnTo>
                      <a:pt x="1230" y="44"/>
                    </a:lnTo>
                    <a:lnTo>
                      <a:pt x="1311" y="28"/>
                    </a:lnTo>
                    <a:lnTo>
                      <a:pt x="1395" y="16"/>
                    </a:lnTo>
                    <a:lnTo>
                      <a:pt x="1481" y="7"/>
                    </a:lnTo>
                    <a:lnTo>
                      <a:pt x="1568" y="2"/>
                    </a:lnTo>
                    <a:lnTo>
                      <a:pt x="1657" y="0"/>
                    </a:lnTo>
                    <a:lnTo>
                      <a:pt x="1722" y="1"/>
                    </a:lnTo>
                    <a:lnTo>
                      <a:pt x="1789" y="3"/>
                    </a:lnTo>
                    <a:lnTo>
                      <a:pt x="1855" y="7"/>
                    </a:lnTo>
                    <a:lnTo>
                      <a:pt x="1919" y="13"/>
                    </a:lnTo>
                    <a:lnTo>
                      <a:pt x="1984" y="20"/>
                    </a:lnTo>
                    <a:lnTo>
                      <a:pt x="2049" y="28"/>
                    </a:lnTo>
                    <a:lnTo>
                      <a:pt x="2112" y="38"/>
                    </a:lnTo>
                    <a:lnTo>
                      <a:pt x="2175" y="50"/>
                    </a:lnTo>
                    <a:lnTo>
                      <a:pt x="2237" y="63"/>
                    </a:lnTo>
                    <a:lnTo>
                      <a:pt x="2298" y="77"/>
                    </a:lnTo>
                    <a:lnTo>
                      <a:pt x="2358" y="93"/>
                    </a:lnTo>
                    <a:lnTo>
                      <a:pt x="2417" y="110"/>
                    </a:lnTo>
                    <a:lnTo>
                      <a:pt x="2476" y="128"/>
                    </a:lnTo>
                    <a:lnTo>
                      <a:pt x="2533" y="148"/>
                    </a:lnTo>
                    <a:lnTo>
                      <a:pt x="2590" y="170"/>
                    </a:lnTo>
                    <a:lnTo>
                      <a:pt x="2645" y="192"/>
                    </a:lnTo>
                    <a:lnTo>
                      <a:pt x="2645" y="699"/>
                    </a:lnTo>
                    <a:lnTo>
                      <a:pt x="2594" y="670"/>
                    </a:lnTo>
                    <a:lnTo>
                      <a:pt x="2543" y="644"/>
                    </a:lnTo>
                    <a:lnTo>
                      <a:pt x="2490" y="619"/>
                    </a:lnTo>
                    <a:lnTo>
                      <a:pt x="2438" y="596"/>
                    </a:lnTo>
                    <a:lnTo>
                      <a:pt x="2384" y="574"/>
                    </a:lnTo>
                    <a:lnTo>
                      <a:pt x="2329" y="554"/>
                    </a:lnTo>
                    <a:lnTo>
                      <a:pt x="2275" y="536"/>
                    </a:lnTo>
                    <a:lnTo>
                      <a:pt x="2220" y="520"/>
                    </a:lnTo>
                    <a:lnTo>
                      <a:pt x="2165" y="506"/>
                    </a:lnTo>
                    <a:lnTo>
                      <a:pt x="2108" y="493"/>
                    </a:lnTo>
                    <a:lnTo>
                      <a:pt x="2052" y="483"/>
                    </a:lnTo>
                    <a:lnTo>
                      <a:pt x="1995" y="474"/>
                    </a:lnTo>
                    <a:lnTo>
                      <a:pt x="1938" y="466"/>
                    </a:lnTo>
                    <a:lnTo>
                      <a:pt x="1880" y="461"/>
                    </a:lnTo>
                    <a:lnTo>
                      <a:pt x="1821" y="458"/>
                    </a:lnTo>
                    <a:lnTo>
                      <a:pt x="1763" y="457"/>
                    </a:lnTo>
                    <a:lnTo>
                      <a:pt x="1698" y="458"/>
                    </a:lnTo>
                    <a:lnTo>
                      <a:pt x="1635" y="462"/>
                    </a:lnTo>
                    <a:lnTo>
                      <a:pt x="1573" y="468"/>
                    </a:lnTo>
                    <a:lnTo>
                      <a:pt x="1512" y="477"/>
                    </a:lnTo>
                    <a:lnTo>
                      <a:pt x="1453" y="487"/>
                    </a:lnTo>
                    <a:lnTo>
                      <a:pt x="1395" y="500"/>
                    </a:lnTo>
                    <a:lnTo>
                      <a:pt x="1339" y="515"/>
                    </a:lnTo>
                    <a:lnTo>
                      <a:pt x="1284" y="532"/>
                    </a:lnTo>
                    <a:lnTo>
                      <a:pt x="1232" y="551"/>
                    </a:lnTo>
                    <a:lnTo>
                      <a:pt x="1180" y="572"/>
                    </a:lnTo>
                    <a:lnTo>
                      <a:pt x="1131" y="596"/>
                    </a:lnTo>
                    <a:lnTo>
                      <a:pt x="1083" y="621"/>
                    </a:lnTo>
                    <a:lnTo>
                      <a:pt x="1038" y="649"/>
                    </a:lnTo>
                    <a:lnTo>
                      <a:pt x="993" y="678"/>
                    </a:lnTo>
                    <a:lnTo>
                      <a:pt x="952" y="710"/>
                    </a:lnTo>
                    <a:lnTo>
                      <a:pt x="912" y="743"/>
                    </a:lnTo>
                    <a:lnTo>
                      <a:pt x="873" y="779"/>
                    </a:lnTo>
                    <a:lnTo>
                      <a:pt x="838" y="817"/>
                    </a:lnTo>
                    <a:lnTo>
                      <a:pt x="803" y="855"/>
                    </a:lnTo>
                    <a:lnTo>
                      <a:pt x="772" y="896"/>
                    </a:lnTo>
                    <a:lnTo>
                      <a:pt x="743" y="939"/>
                    </a:lnTo>
                    <a:lnTo>
                      <a:pt x="716" y="984"/>
                    </a:lnTo>
                    <a:lnTo>
                      <a:pt x="691" y="1030"/>
                    </a:lnTo>
                    <a:lnTo>
                      <a:pt x="669" y="1078"/>
                    </a:lnTo>
                    <a:lnTo>
                      <a:pt x="649" y="1128"/>
                    </a:lnTo>
                    <a:lnTo>
                      <a:pt x="632" y="1179"/>
                    </a:lnTo>
                    <a:lnTo>
                      <a:pt x="617" y="1233"/>
                    </a:lnTo>
                    <a:lnTo>
                      <a:pt x="604" y="1287"/>
                    </a:lnTo>
                    <a:lnTo>
                      <a:pt x="595" y="1344"/>
                    </a:lnTo>
                    <a:lnTo>
                      <a:pt x="588" y="1401"/>
                    </a:lnTo>
                    <a:lnTo>
                      <a:pt x="584" y="1460"/>
                    </a:lnTo>
                    <a:lnTo>
                      <a:pt x="582" y="1520"/>
                    </a:lnTo>
                    <a:lnTo>
                      <a:pt x="584" y="1573"/>
                    </a:lnTo>
                    <a:lnTo>
                      <a:pt x="588" y="1623"/>
                    </a:lnTo>
                    <a:lnTo>
                      <a:pt x="594" y="1674"/>
                    </a:lnTo>
                    <a:lnTo>
                      <a:pt x="604" y="1723"/>
                    </a:lnTo>
                    <a:lnTo>
                      <a:pt x="617" y="1772"/>
                    </a:lnTo>
                    <a:lnTo>
                      <a:pt x="631" y="1820"/>
                    </a:lnTo>
                    <a:lnTo>
                      <a:pt x="648" y="1867"/>
                    </a:lnTo>
                    <a:lnTo>
                      <a:pt x="667" y="1912"/>
                    </a:lnTo>
                    <a:lnTo>
                      <a:pt x="689" y="1956"/>
                    </a:lnTo>
                    <a:lnTo>
                      <a:pt x="714" y="2000"/>
                    </a:lnTo>
                    <a:lnTo>
                      <a:pt x="740" y="2041"/>
                    </a:lnTo>
                    <a:lnTo>
                      <a:pt x="768" y="2082"/>
                    </a:lnTo>
                    <a:lnTo>
                      <a:pt x="798" y="2121"/>
                    </a:lnTo>
                    <a:lnTo>
                      <a:pt x="832" y="2159"/>
                    </a:lnTo>
                    <a:lnTo>
                      <a:pt x="866" y="2196"/>
                    </a:lnTo>
                    <a:lnTo>
                      <a:pt x="903" y="2230"/>
                    </a:lnTo>
                    <a:lnTo>
                      <a:pt x="942" y="2263"/>
                    </a:lnTo>
                    <a:lnTo>
                      <a:pt x="983" y="2295"/>
                    </a:lnTo>
                    <a:lnTo>
                      <a:pt x="1026" y="2324"/>
                    </a:lnTo>
                    <a:lnTo>
                      <a:pt x="1070" y="2352"/>
                    </a:lnTo>
                    <a:lnTo>
                      <a:pt x="1116" y="2378"/>
                    </a:lnTo>
                    <a:lnTo>
                      <a:pt x="1163" y="2402"/>
                    </a:lnTo>
                    <a:lnTo>
                      <a:pt x="1212" y="2424"/>
                    </a:lnTo>
                    <a:lnTo>
                      <a:pt x="1264" y="2444"/>
                    </a:lnTo>
                    <a:lnTo>
                      <a:pt x="1315" y="2462"/>
                    </a:lnTo>
                    <a:lnTo>
                      <a:pt x="1370" y="2477"/>
                    </a:lnTo>
                    <a:lnTo>
                      <a:pt x="1425" y="2490"/>
                    </a:lnTo>
                    <a:lnTo>
                      <a:pt x="1481" y="2501"/>
                    </a:lnTo>
                    <a:lnTo>
                      <a:pt x="1540" y="2511"/>
                    </a:lnTo>
                    <a:lnTo>
                      <a:pt x="1598" y="2517"/>
                    </a:lnTo>
                    <a:lnTo>
                      <a:pt x="1659" y="2521"/>
                    </a:lnTo>
                    <a:lnTo>
                      <a:pt x="1720" y="2522"/>
                    </a:lnTo>
                    <a:lnTo>
                      <a:pt x="1752" y="2522"/>
                    </a:lnTo>
                    <a:lnTo>
                      <a:pt x="1784" y="2521"/>
                    </a:lnTo>
                    <a:lnTo>
                      <a:pt x="1815" y="2520"/>
                    </a:lnTo>
                    <a:lnTo>
                      <a:pt x="1847" y="2518"/>
                    </a:lnTo>
                    <a:lnTo>
                      <a:pt x="1878" y="2515"/>
                    </a:lnTo>
                    <a:lnTo>
                      <a:pt x="1909" y="2511"/>
                    </a:lnTo>
                    <a:lnTo>
                      <a:pt x="1940" y="2507"/>
                    </a:lnTo>
                    <a:lnTo>
                      <a:pt x="1971" y="2502"/>
                    </a:lnTo>
                    <a:lnTo>
                      <a:pt x="2001" y="2497"/>
                    </a:lnTo>
                    <a:lnTo>
                      <a:pt x="2032" y="2491"/>
                    </a:lnTo>
                    <a:lnTo>
                      <a:pt x="2063" y="2485"/>
                    </a:lnTo>
                    <a:lnTo>
                      <a:pt x="2093" y="2478"/>
                    </a:lnTo>
                    <a:lnTo>
                      <a:pt x="2123" y="2470"/>
                    </a:lnTo>
                    <a:lnTo>
                      <a:pt x="2154" y="2462"/>
                    </a:lnTo>
                    <a:lnTo>
                      <a:pt x="2184" y="2453"/>
                    </a:lnTo>
                    <a:lnTo>
                      <a:pt x="2213" y="2443"/>
                    </a:lnTo>
                    <a:lnTo>
                      <a:pt x="2244" y="2433"/>
                    </a:lnTo>
                    <a:lnTo>
                      <a:pt x="2274" y="2423"/>
                    </a:lnTo>
                    <a:lnTo>
                      <a:pt x="2304" y="2411"/>
                    </a:lnTo>
                    <a:lnTo>
                      <a:pt x="2335" y="2399"/>
                    </a:lnTo>
                    <a:lnTo>
                      <a:pt x="2365" y="2386"/>
                    </a:lnTo>
                    <a:lnTo>
                      <a:pt x="2395" y="2373"/>
                    </a:lnTo>
                    <a:lnTo>
                      <a:pt x="2425" y="2359"/>
                    </a:lnTo>
                    <a:lnTo>
                      <a:pt x="2456" y="2345"/>
                    </a:lnTo>
                    <a:lnTo>
                      <a:pt x="2516" y="2314"/>
                    </a:lnTo>
                    <a:lnTo>
                      <a:pt x="2578" y="2280"/>
                    </a:lnTo>
                    <a:lnTo>
                      <a:pt x="2640" y="2245"/>
                    </a:lnTo>
                    <a:lnTo>
                      <a:pt x="2702" y="2207"/>
                    </a:lnTo>
                    <a:lnTo>
                      <a:pt x="2702" y="27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075760" y="6096960"/>
                <a:ext cx="381240" cy="356040"/>
              </a:xfrm>
              <a:custGeom>
                <a:avLst/>
                <a:gdLst/>
                <a:ahLst/>
                <a:rect l="l" t="t" r="r" b="b"/>
                <a:pathLst>
                  <a:path w="3457" h="2979">
                    <a:moveTo>
                      <a:pt x="505" y="433"/>
                    </a:moveTo>
                    <a:lnTo>
                      <a:pt x="537" y="407"/>
                    </a:lnTo>
                    <a:lnTo>
                      <a:pt x="568" y="382"/>
                    </a:lnTo>
                    <a:lnTo>
                      <a:pt x="600" y="356"/>
                    </a:lnTo>
                    <a:lnTo>
                      <a:pt x="633" y="333"/>
                    </a:lnTo>
                    <a:lnTo>
                      <a:pt x="666" y="310"/>
                    </a:lnTo>
                    <a:lnTo>
                      <a:pt x="700" y="288"/>
                    </a:lnTo>
                    <a:lnTo>
                      <a:pt x="734" y="266"/>
                    </a:lnTo>
                    <a:lnTo>
                      <a:pt x="769" y="245"/>
                    </a:lnTo>
                    <a:lnTo>
                      <a:pt x="804" y="225"/>
                    </a:lnTo>
                    <a:lnTo>
                      <a:pt x="840" y="207"/>
                    </a:lnTo>
                    <a:lnTo>
                      <a:pt x="876" y="189"/>
                    </a:lnTo>
                    <a:lnTo>
                      <a:pt x="912" y="171"/>
                    </a:lnTo>
                    <a:lnTo>
                      <a:pt x="950" y="155"/>
                    </a:lnTo>
                    <a:lnTo>
                      <a:pt x="987" y="138"/>
                    </a:lnTo>
                    <a:lnTo>
                      <a:pt x="1025" y="124"/>
                    </a:lnTo>
                    <a:lnTo>
                      <a:pt x="1064" y="110"/>
                    </a:lnTo>
                    <a:lnTo>
                      <a:pt x="1103" y="97"/>
                    </a:lnTo>
                    <a:lnTo>
                      <a:pt x="1143" y="85"/>
                    </a:lnTo>
                    <a:lnTo>
                      <a:pt x="1182" y="73"/>
                    </a:lnTo>
                    <a:lnTo>
                      <a:pt x="1221" y="63"/>
                    </a:lnTo>
                    <a:lnTo>
                      <a:pt x="1263" y="53"/>
                    </a:lnTo>
                    <a:lnTo>
                      <a:pt x="1303" y="44"/>
                    </a:lnTo>
                    <a:lnTo>
                      <a:pt x="1345" y="35"/>
                    </a:lnTo>
                    <a:lnTo>
                      <a:pt x="1386" y="28"/>
                    </a:lnTo>
                    <a:lnTo>
                      <a:pt x="1427" y="21"/>
                    </a:lnTo>
                    <a:lnTo>
                      <a:pt x="1470" y="16"/>
                    </a:lnTo>
                    <a:lnTo>
                      <a:pt x="1512" y="11"/>
                    </a:lnTo>
                    <a:lnTo>
                      <a:pt x="1555" y="7"/>
                    </a:lnTo>
                    <a:lnTo>
                      <a:pt x="1598" y="4"/>
                    </a:lnTo>
                    <a:lnTo>
                      <a:pt x="1641" y="2"/>
                    </a:lnTo>
                    <a:lnTo>
                      <a:pt x="1685" y="1"/>
                    </a:lnTo>
                    <a:lnTo>
                      <a:pt x="1729" y="0"/>
                    </a:lnTo>
                    <a:lnTo>
                      <a:pt x="1773" y="1"/>
                    </a:lnTo>
                    <a:lnTo>
                      <a:pt x="1816" y="2"/>
                    </a:lnTo>
                    <a:lnTo>
                      <a:pt x="1860" y="4"/>
                    </a:lnTo>
                    <a:lnTo>
                      <a:pt x="1902" y="7"/>
                    </a:lnTo>
                    <a:lnTo>
                      <a:pt x="1945" y="11"/>
                    </a:lnTo>
                    <a:lnTo>
                      <a:pt x="1988" y="16"/>
                    </a:lnTo>
                    <a:lnTo>
                      <a:pt x="2029" y="22"/>
                    </a:lnTo>
                    <a:lnTo>
                      <a:pt x="2071" y="28"/>
                    </a:lnTo>
                    <a:lnTo>
                      <a:pt x="2112" y="36"/>
                    </a:lnTo>
                    <a:lnTo>
                      <a:pt x="2153" y="45"/>
                    </a:lnTo>
                    <a:lnTo>
                      <a:pt x="2194" y="54"/>
                    </a:lnTo>
                    <a:lnTo>
                      <a:pt x="2234" y="64"/>
                    </a:lnTo>
                    <a:lnTo>
                      <a:pt x="2274" y="75"/>
                    </a:lnTo>
                    <a:lnTo>
                      <a:pt x="2313" y="87"/>
                    </a:lnTo>
                    <a:lnTo>
                      <a:pt x="2352" y="100"/>
                    </a:lnTo>
                    <a:lnTo>
                      <a:pt x="2391" y="113"/>
                    </a:lnTo>
                    <a:lnTo>
                      <a:pt x="2429" y="127"/>
                    </a:lnTo>
                    <a:lnTo>
                      <a:pt x="2468" y="142"/>
                    </a:lnTo>
                    <a:lnTo>
                      <a:pt x="2505" y="159"/>
                    </a:lnTo>
                    <a:lnTo>
                      <a:pt x="2542" y="176"/>
                    </a:lnTo>
                    <a:lnTo>
                      <a:pt x="2579" y="193"/>
                    </a:lnTo>
                    <a:lnTo>
                      <a:pt x="2615" y="211"/>
                    </a:lnTo>
                    <a:lnTo>
                      <a:pt x="2650" y="230"/>
                    </a:lnTo>
                    <a:lnTo>
                      <a:pt x="2686" y="250"/>
                    </a:lnTo>
                    <a:lnTo>
                      <a:pt x="2721" y="272"/>
                    </a:lnTo>
                    <a:lnTo>
                      <a:pt x="2755" y="293"/>
                    </a:lnTo>
                    <a:lnTo>
                      <a:pt x="2790" y="315"/>
                    </a:lnTo>
                    <a:lnTo>
                      <a:pt x="2823" y="338"/>
                    </a:lnTo>
                    <a:lnTo>
                      <a:pt x="2855" y="362"/>
                    </a:lnTo>
                    <a:lnTo>
                      <a:pt x="2889" y="388"/>
                    </a:lnTo>
                    <a:lnTo>
                      <a:pt x="2921" y="413"/>
                    </a:lnTo>
                    <a:lnTo>
                      <a:pt x="2952" y="439"/>
                    </a:lnTo>
                    <a:lnTo>
                      <a:pt x="2983" y="465"/>
                    </a:lnTo>
                    <a:lnTo>
                      <a:pt x="3012" y="493"/>
                    </a:lnTo>
                    <a:lnTo>
                      <a:pt x="3040" y="520"/>
                    </a:lnTo>
                    <a:lnTo>
                      <a:pt x="3067" y="547"/>
                    </a:lnTo>
                    <a:lnTo>
                      <a:pt x="3095" y="576"/>
                    </a:lnTo>
                    <a:lnTo>
                      <a:pt x="3120" y="605"/>
                    </a:lnTo>
                    <a:lnTo>
                      <a:pt x="3145" y="634"/>
                    </a:lnTo>
                    <a:lnTo>
                      <a:pt x="3169" y="664"/>
                    </a:lnTo>
                    <a:lnTo>
                      <a:pt x="3192" y="695"/>
                    </a:lnTo>
                    <a:lnTo>
                      <a:pt x="3214" y="725"/>
                    </a:lnTo>
                    <a:lnTo>
                      <a:pt x="3235" y="756"/>
                    </a:lnTo>
                    <a:lnTo>
                      <a:pt x="3255" y="787"/>
                    </a:lnTo>
                    <a:lnTo>
                      <a:pt x="3275" y="820"/>
                    </a:lnTo>
                    <a:lnTo>
                      <a:pt x="3294" y="852"/>
                    </a:lnTo>
                    <a:lnTo>
                      <a:pt x="3311" y="885"/>
                    </a:lnTo>
                    <a:lnTo>
                      <a:pt x="3327" y="918"/>
                    </a:lnTo>
                    <a:lnTo>
                      <a:pt x="3343" y="952"/>
                    </a:lnTo>
                    <a:lnTo>
                      <a:pt x="3357" y="985"/>
                    </a:lnTo>
                    <a:lnTo>
                      <a:pt x="3371" y="1020"/>
                    </a:lnTo>
                    <a:lnTo>
                      <a:pt x="3384" y="1054"/>
                    </a:lnTo>
                    <a:lnTo>
                      <a:pt x="3396" y="1089"/>
                    </a:lnTo>
                    <a:lnTo>
                      <a:pt x="3406" y="1125"/>
                    </a:lnTo>
                    <a:lnTo>
                      <a:pt x="3416" y="1160"/>
                    </a:lnTo>
                    <a:lnTo>
                      <a:pt x="3424" y="1195"/>
                    </a:lnTo>
                    <a:lnTo>
                      <a:pt x="3432" y="1232"/>
                    </a:lnTo>
                    <a:lnTo>
                      <a:pt x="3438" y="1268"/>
                    </a:lnTo>
                    <a:lnTo>
                      <a:pt x="3444" y="1304"/>
                    </a:lnTo>
                    <a:lnTo>
                      <a:pt x="3449" y="1341"/>
                    </a:lnTo>
                    <a:lnTo>
                      <a:pt x="3452" y="1378"/>
                    </a:lnTo>
                    <a:lnTo>
                      <a:pt x="3455" y="1415"/>
                    </a:lnTo>
                    <a:lnTo>
                      <a:pt x="3456" y="1453"/>
                    </a:lnTo>
                    <a:lnTo>
                      <a:pt x="3457" y="1490"/>
                    </a:lnTo>
                    <a:lnTo>
                      <a:pt x="3456" y="1527"/>
                    </a:lnTo>
                    <a:lnTo>
                      <a:pt x="3455" y="1565"/>
                    </a:lnTo>
                    <a:lnTo>
                      <a:pt x="3452" y="1602"/>
                    </a:lnTo>
                    <a:lnTo>
                      <a:pt x="3449" y="1638"/>
                    </a:lnTo>
                    <a:lnTo>
                      <a:pt x="3444" y="1676"/>
                    </a:lnTo>
                    <a:lnTo>
                      <a:pt x="3438" y="1712"/>
                    </a:lnTo>
                    <a:lnTo>
                      <a:pt x="3432" y="1747"/>
                    </a:lnTo>
                    <a:lnTo>
                      <a:pt x="3424" y="1784"/>
                    </a:lnTo>
                    <a:lnTo>
                      <a:pt x="3416" y="1819"/>
                    </a:lnTo>
                    <a:lnTo>
                      <a:pt x="3406" y="1854"/>
                    </a:lnTo>
                    <a:lnTo>
                      <a:pt x="3396" y="1889"/>
                    </a:lnTo>
                    <a:lnTo>
                      <a:pt x="3384" y="1924"/>
                    </a:lnTo>
                    <a:lnTo>
                      <a:pt x="3371" y="1957"/>
                    </a:lnTo>
                    <a:lnTo>
                      <a:pt x="3357" y="1992"/>
                    </a:lnTo>
                    <a:lnTo>
                      <a:pt x="3343" y="2025"/>
                    </a:lnTo>
                    <a:lnTo>
                      <a:pt x="3327" y="2058"/>
                    </a:lnTo>
                    <a:lnTo>
                      <a:pt x="3311" y="2092"/>
                    </a:lnTo>
                    <a:lnTo>
                      <a:pt x="3294" y="2124"/>
                    </a:lnTo>
                    <a:lnTo>
                      <a:pt x="3275" y="2156"/>
                    </a:lnTo>
                    <a:lnTo>
                      <a:pt x="3255" y="2188"/>
                    </a:lnTo>
                    <a:lnTo>
                      <a:pt x="3235" y="2219"/>
                    </a:lnTo>
                    <a:lnTo>
                      <a:pt x="3214" y="2250"/>
                    </a:lnTo>
                    <a:lnTo>
                      <a:pt x="3192" y="2280"/>
                    </a:lnTo>
                    <a:lnTo>
                      <a:pt x="3169" y="2311"/>
                    </a:lnTo>
                    <a:lnTo>
                      <a:pt x="3145" y="2340"/>
                    </a:lnTo>
                    <a:lnTo>
                      <a:pt x="3120" y="2369"/>
                    </a:lnTo>
                    <a:lnTo>
                      <a:pt x="3095" y="2398"/>
                    </a:lnTo>
                    <a:lnTo>
                      <a:pt x="3067" y="2426"/>
                    </a:lnTo>
                    <a:lnTo>
                      <a:pt x="3040" y="2454"/>
                    </a:lnTo>
                    <a:lnTo>
                      <a:pt x="3012" y="2481"/>
                    </a:lnTo>
                    <a:lnTo>
                      <a:pt x="2983" y="2509"/>
                    </a:lnTo>
                    <a:lnTo>
                      <a:pt x="2952" y="2535"/>
                    </a:lnTo>
                    <a:lnTo>
                      <a:pt x="2921" y="2561"/>
                    </a:lnTo>
                    <a:lnTo>
                      <a:pt x="2889" y="2586"/>
                    </a:lnTo>
                    <a:lnTo>
                      <a:pt x="2855" y="2612"/>
                    </a:lnTo>
                    <a:lnTo>
                      <a:pt x="2823" y="2635"/>
                    </a:lnTo>
                    <a:lnTo>
                      <a:pt x="2789" y="2659"/>
                    </a:lnTo>
                    <a:lnTo>
                      <a:pt x="2754" y="2681"/>
                    </a:lnTo>
                    <a:lnTo>
                      <a:pt x="2720" y="2703"/>
                    </a:lnTo>
                    <a:lnTo>
                      <a:pt x="2685" y="2724"/>
                    </a:lnTo>
                    <a:lnTo>
                      <a:pt x="2649" y="2744"/>
                    </a:lnTo>
                    <a:lnTo>
                      <a:pt x="2613" y="2764"/>
                    </a:lnTo>
                    <a:lnTo>
                      <a:pt x="2577" y="2782"/>
                    </a:lnTo>
                    <a:lnTo>
                      <a:pt x="2540" y="2800"/>
                    </a:lnTo>
                    <a:lnTo>
                      <a:pt x="2503" y="2817"/>
                    </a:lnTo>
                    <a:lnTo>
                      <a:pt x="2466" y="2834"/>
                    </a:lnTo>
                    <a:lnTo>
                      <a:pt x="2427" y="2849"/>
                    </a:lnTo>
                    <a:lnTo>
                      <a:pt x="2389" y="2864"/>
                    </a:lnTo>
                    <a:lnTo>
                      <a:pt x="2349" y="2877"/>
                    </a:lnTo>
                    <a:lnTo>
                      <a:pt x="2310" y="2890"/>
                    </a:lnTo>
                    <a:lnTo>
                      <a:pt x="2271" y="2902"/>
                    </a:lnTo>
                    <a:lnTo>
                      <a:pt x="2231" y="2913"/>
                    </a:lnTo>
                    <a:lnTo>
                      <a:pt x="2191" y="2924"/>
                    </a:lnTo>
                    <a:lnTo>
                      <a:pt x="2150" y="2934"/>
                    </a:lnTo>
                    <a:lnTo>
                      <a:pt x="2109" y="2943"/>
                    </a:lnTo>
                    <a:lnTo>
                      <a:pt x="2068" y="2950"/>
                    </a:lnTo>
                    <a:lnTo>
                      <a:pt x="2026" y="2957"/>
                    </a:lnTo>
                    <a:lnTo>
                      <a:pt x="1985" y="2963"/>
                    </a:lnTo>
                    <a:lnTo>
                      <a:pt x="1942" y="2968"/>
                    </a:lnTo>
                    <a:lnTo>
                      <a:pt x="1900" y="2972"/>
                    </a:lnTo>
                    <a:lnTo>
                      <a:pt x="1858" y="2975"/>
                    </a:lnTo>
                    <a:lnTo>
                      <a:pt x="1815" y="2978"/>
                    </a:lnTo>
                    <a:lnTo>
                      <a:pt x="1772" y="2979"/>
                    </a:lnTo>
                    <a:lnTo>
                      <a:pt x="1729" y="2979"/>
                    </a:lnTo>
                    <a:lnTo>
                      <a:pt x="1685" y="2979"/>
                    </a:lnTo>
                    <a:lnTo>
                      <a:pt x="1641" y="2978"/>
                    </a:lnTo>
                    <a:lnTo>
                      <a:pt x="1598" y="2975"/>
                    </a:lnTo>
                    <a:lnTo>
                      <a:pt x="1555" y="2972"/>
                    </a:lnTo>
                    <a:lnTo>
                      <a:pt x="1512" y="2968"/>
                    </a:lnTo>
                    <a:lnTo>
                      <a:pt x="1470" y="2964"/>
                    </a:lnTo>
                    <a:lnTo>
                      <a:pt x="1427" y="2958"/>
                    </a:lnTo>
                    <a:lnTo>
                      <a:pt x="1386" y="2951"/>
                    </a:lnTo>
                    <a:lnTo>
                      <a:pt x="1345" y="2944"/>
                    </a:lnTo>
                    <a:lnTo>
                      <a:pt x="1303" y="2935"/>
                    </a:lnTo>
                    <a:lnTo>
                      <a:pt x="1263" y="2925"/>
                    </a:lnTo>
                    <a:lnTo>
                      <a:pt x="1221" y="2915"/>
                    </a:lnTo>
                    <a:lnTo>
                      <a:pt x="1182" y="2904"/>
                    </a:lnTo>
                    <a:lnTo>
                      <a:pt x="1143" y="2893"/>
                    </a:lnTo>
                    <a:lnTo>
                      <a:pt x="1103" y="2880"/>
                    </a:lnTo>
                    <a:lnTo>
                      <a:pt x="1064" y="2867"/>
                    </a:lnTo>
                    <a:lnTo>
                      <a:pt x="1025" y="2853"/>
                    </a:lnTo>
                    <a:lnTo>
                      <a:pt x="987" y="2838"/>
                    </a:lnTo>
                    <a:lnTo>
                      <a:pt x="950" y="2821"/>
                    </a:lnTo>
                    <a:lnTo>
                      <a:pt x="912" y="2804"/>
                    </a:lnTo>
                    <a:lnTo>
                      <a:pt x="876" y="2787"/>
                    </a:lnTo>
                    <a:lnTo>
                      <a:pt x="840" y="2768"/>
                    </a:lnTo>
                    <a:lnTo>
                      <a:pt x="804" y="2749"/>
                    </a:lnTo>
                    <a:lnTo>
                      <a:pt x="769" y="2730"/>
                    </a:lnTo>
                    <a:lnTo>
                      <a:pt x="734" y="2708"/>
                    </a:lnTo>
                    <a:lnTo>
                      <a:pt x="700" y="2686"/>
                    </a:lnTo>
                    <a:lnTo>
                      <a:pt x="666" y="2664"/>
                    </a:lnTo>
                    <a:lnTo>
                      <a:pt x="633" y="2641"/>
                    </a:lnTo>
                    <a:lnTo>
                      <a:pt x="600" y="2618"/>
                    </a:lnTo>
                    <a:lnTo>
                      <a:pt x="568" y="2592"/>
                    </a:lnTo>
                    <a:lnTo>
                      <a:pt x="537" y="2567"/>
                    </a:lnTo>
                    <a:lnTo>
                      <a:pt x="505" y="2541"/>
                    </a:lnTo>
                    <a:lnTo>
                      <a:pt x="475" y="2514"/>
                    </a:lnTo>
                    <a:lnTo>
                      <a:pt x="445" y="2485"/>
                    </a:lnTo>
                    <a:lnTo>
                      <a:pt x="415" y="2457"/>
                    </a:lnTo>
                    <a:lnTo>
                      <a:pt x="388" y="2429"/>
                    </a:lnTo>
                    <a:lnTo>
                      <a:pt x="361" y="2400"/>
                    </a:lnTo>
                    <a:lnTo>
                      <a:pt x="335" y="2370"/>
                    </a:lnTo>
                    <a:lnTo>
                      <a:pt x="309" y="2341"/>
                    </a:lnTo>
                    <a:lnTo>
                      <a:pt x="286" y="2311"/>
                    </a:lnTo>
                    <a:lnTo>
                      <a:pt x="263" y="2280"/>
                    </a:lnTo>
                    <a:lnTo>
                      <a:pt x="241" y="2249"/>
                    </a:lnTo>
                    <a:lnTo>
                      <a:pt x="219" y="2218"/>
                    </a:lnTo>
                    <a:lnTo>
                      <a:pt x="199" y="2187"/>
                    </a:lnTo>
                    <a:lnTo>
                      <a:pt x="180" y="2154"/>
                    </a:lnTo>
                    <a:lnTo>
                      <a:pt x="161" y="2122"/>
                    </a:lnTo>
                    <a:lnTo>
                      <a:pt x="144" y="2090"/>
                    </a:lnTo>
                    <a:lnTo>
                      <a:pt x="128" y="2057"/>
                    </a:lnTo>
                    <a:lnTo>
                      <a:pt x="112" y="2024"/>
                    </a:lnTo>
                    <a:lnTo>
                      <a:pt x="98" y="1991"/>
                    </a:lnTo>
                    <a:lnTo>
                      <a:pt x="85" y="1956"/>
                    </a:lnTo>
                    <a:lnTo>
                      <a:pt x="72" y="1922"/>
                    </a:lnTo>
                    <a:lnTo>
                      <a:pt x="61" y="1888"/>
                    </a:lnTo>
                    <a:lnTo>
                      <a:pt x="51" y="1853"/>
                    </a:lnTo>
                    <a:lnTo>
                      <a:pt x="41" y="1818"/>
                    </a:lnTo>
                    <a:lnTo>
                      <a:pt x="33" y="1783"/>
                    </a:lnTo>
                    <a:lnTo>
                      <a:pt x="25" y="1747"/>
                    </a:lnTo>
                    <a:lnTo>
                      <a:pt x="18" y="1711"/>
                    </a:lnTo>
                    <a:lnTo>
                      <a:pt x="13" y="1675"/>
                    </a:lnTo>
                    <a:lnTo>
                      <a:pt x="8" y="1638"/>
                    </a:lnTo>
                    <a:lnTo>
                      <a:pt x="5" y="1602"/>
                    </a:lnTo>
                    <a:lnTo>
                      <a:pt x="2" y="1565"/>
                    </a:lnTo>
                    <a:lnTo>
                      <a:pt x="1" y="1527"/>
                    </a:lnTo>
                    <a:lnTo>
                      <a:pt x="0" y="1490"/>
                    </a:lnTo>
                    <a:lnTo>
                      <a:pt x="1" y="1453"/>
                    </a:lnTo>
                    <a:lnTo>
                      <a:pt x="2" y="1415"/>
                    </a:lnTo>
                    <a:lnTo>
                      <a:pt x="5" y="1378"/>
                    </a:lnTo>
                    <a:lnTo>
                      <a:pt x="8" y="1341"/>
                    </a:lnTo>
                    <a:lnTo>
                      <a:pt x="13" y="1304"/>
                    </a:lnTo>
                    <a:lnTo>
                      <a:pt x="18" y="1268"/>
                    </a:lnTo>
                    <a:lnTo>
                      <a:pt x="25" y="1232"/>
                    </a:lnTo>
                    <a:lnTo>
                      <a:pt x="33" y="1195"/>
                    </a:lnTo>
                    <a:lnTo>
                      <a:pt x="41" y="1160"/>
                    </a:lnTo>
                    <a:lnTo>
                      <a:pt x="51" y="1124"/>
                    </a:lnTo>
                    <a:lnTo>
                      <a:pt x="61" y="1089"/>
                    </a:lnTo>
                    <a:lnTo>
                      <a:pt x="72" y="1054"/>
                    </a:lnTo>
                    <a:lnTo>
                      <a:pt x="85" y="1020"/>
                    </a:lnTo>
                    <a:lnTo>
                      <a:pt x="98" y="985"/>
                    </a:lnTo>
                    <a:lnTo>
                      <a:pt x="112" y="951"/>
                    </a:lnTo>
                    <a:lnTo>
                      <a:pt x="128" y="918"/>
                    </a:lnTo>
                    <a:lnTo>
                      <a:pt x="144" y="884"/>
                    </a:lnTo>
                    <a:lnTo>
                      <a:pt x="161" y="851"/>
                    </a:lnTo>
                    <a:lnTo>
                      <a:pt x="180" y="819"/>
                    </a:lnTo>
                    <a:lnTo>
                      <a:pt x="199" y="786"/>
                    </a:lnTo>
                    <a:lnTo>
                      <a:pt x="219" y="754"/>
                    </a:lnTo>
                    <a:lnTo>
                      <a:pt x="241" y="723"/>
                    </a:lnTo>
                    <a:lnTo>
                      <a:pt x="263" y="693"/>
                    </a:lnTo>
                    <a:lnTo>
                      <a:pt x="286" y="661"/>
                    </a:lnTo>
                    <a:lnTo>
                      <a:pt x="309" y="631"/>
                    </a:lnTo>
                    <a:lnTo>
                      <a:pt x="335" y="602"/>
                    </a:lnTo>
                    <a:lnTo>
                      <a:pt x="361" y="572"/>
                    </a:lnTo>
                    <a:lnTo>
                      <a:pt x="388" y="543"/>
                    </a:lnTo>
                    <a:lnTo>
                      <a:pt x="415" y="515"/>
                    </a:lnTo>
                    <a:lnTo>
                      <a:pt x="445" y="488"/>
                    </a:lnTo>
                    <a:lnTo>
                      <a:pt x="475" y="459"/>
                    </a:lnTo>
                    <a:lnTo>
                      <a:pt x="505" y="433"/>
                    </a:lnTo>
                    <a:close/>
                    <a:moveTo>
                      <a:pt x="1729" y="2535"/>
                    </a:moveTo>
                    <a:lnTo>
                      <a:pt x="1788" y="2533"/>
                    </a:lnTo>
                    <a:lnTo>
                      <a:pt x="1846" y="2529"/>
                    </a:lnTo>
                    <a:lnTo>
                      <a:pt x="1903" y="2523"/>
                    </a:lnTo>
                    <a:lnTo>
                      <a:pt x="1960" y="2514"/>
                    </a:lnTo>
                    <a:lnTo>
                      <a:pt x="2015" y="2502"/>
                    </a:lnTo>
                    <a:lnTo>
                      <a:pt x="2070" y="2488"/>
                    </a:lnTo>
                    <a:lnTo>
                      <a:pt x="2123" y="2472"/>
                    </a:lnTo>
                    <a:lnTo>
                      <a:pt x="2175" y="2454"/>
                    </a:lnTo>
                    <a:lnTo>
                      <a:pt x="2225" y="2433"/>
                    </a:lnTo>
                    <a:lnTo>
                      <a:pt x="2275" y="2411"/>
                    </a:lnTo>
                    <a:lnTo>
                      <a:pt x="2323" y="2385"/>
                    </a:lnTo>
                    <a:lnTo>
                      <a:pt x="2370" y="2359"/>
                    </a:lnTo>
                    <a:lnTo>
                      <a:pt x="2414" y="2330"/>
                    </a:lnTo>
                    <a:lnTo>
                      <a:pt x="2457" y="2300"/>
                    </a:lnTo>
                    <a:lnTo>
                      <a:pt x="2499" y="2266"/>
                    </a:lnTo>
                    <a:lnTo>
                      <a:pt x="2538" y="2232"/>
                    </a:lnTo>
                    <a:lnTo>
                      <a:pt x="2577" y="2197"/>
                    </a:lnTo>
                    <a:lnTo>
                      <a:pt x="2613" y="2158"/>
                    </a:lnTo>
                    <a:lnTo>
                      <a:pt x="2646" y="2119"/>
                    </a:lnTo>
                    <a:lnTo>
                      <a:pt x="2679" y="2079"/>
                    </a:lnTo>
                    <a:lnTo>
                      <a:pt x="2708" y="2036"/>
                    </a:lnTo>
                    <a:lnTo>
                      <a:pt x="2736" y="1993"/>
                    </a:lnTo>
                    <a:lnTo>
                      <a:pt x="2761" y="1947"/>
                    </a:lnTo>
                    <a:lnTo>
                      <a:pt x="2784" y="1901"/>
                    </a:lnTo>
                    <a:lnTo>
                      <a:pt x="2805" y="1853"/>
                    </a:lnTo>
                    <a:lnTo>
                      <a:pt x="2822" y="1804"/>
                    </a:lnTo>
                    <a:lnTo>
                      <a:pt x="2838" y="1755"/>
                    </a:lnTo>
                    <a:lnTo>
                      <a:pt x="2850" y="1703"/>
                    </a:lnTo>
                    <a:lnTo>
                      <a:pt x="2860" y="1652"/>
                    </a:lnTo>
                    <a:lnTo>
                      <a:pt x="2868" y="1598"/>
                    </a:lnTo>
                    <a:lnTo>
                      <a:pt x="2873" y="1545"/>
                    </a:lnTo>
                    <a:lnTo>
                      <a:pt x="2874" y="1490"/>
                    </a:lnTo>
                    <a:lnTo>
                      <a:pt x="2873" y="1436"/>
                    </a:lnTo>
                    <a:lnTo>
                      <a:pt x="2868" y="1381"/>
                    </a:lnTo>
                    <a:lnTo>
                      <a:pt x="2860" y="1329"/>
                    </a:lnTo>
                    <a:lnTo>
                      <a:pt x="2850" y="1276"/>
                    </a:lnTo>
                    <a:lnTo>
                      <a:pt x="2838" y="1226"/>
                    </a:lnTo>
                    <a:lnTo>
                      <a:pt x="2822" y="1175"/>
                    </a:lnTo>
                    <a:lnTo>
                      <a:pt x="2805" y="1127"/>
                    </a:lnTo>
                    <a:lnTo>
                      <a:pt x="2784" y="1079"/>
                    </a:lnTo>
                    <a:lnTo>
                      <a:pt x="2761" y="1033"/>
                    </a:lnTo>
                    <a:lnTo>
                      <a:pt x="2736" y="987"/>
                    </a:lnTo>
                    <a:lnTo>
                      <a:pt x="2708" y="944"/>
                    </a:lnTo>
                    <a:lnTo>
                      <a:pt x="2679" y="902"/>
                    </a:lnTo>
                    <a:lnTo>
                      <a:pt x="2646" y="860"/>
                    </a:lnTo>
                    <a:lnTo>
                      <a:pt x="2613" y="821"/>
                    </a:lnTo>
                    <a:lnTo>
                      <a:pt x="2577" y="783"/>
                    </a:lnTo>
                    <a:lnTo>
                      <a:pt x="2538" y="747"/>
                    </a:lnTo>
                    <a:lnTo>
                      <a:pt x="2499" y="713"/>
                    </a:lnTo>
                    <a:lnTo>
                      <a:pt x="2457" y="680"/>
                    </a:lnTo>
                    <a:lnTo>
                      <a:pt x="2414" y="650"/>
                    </a:lnTo>
                    <a:lnTo>
                      <a:pt x="2370" y="621"/>
                    </a:lnTo>
                    <a:lnTo>
                      <a:pt x="2323" y="594"/>
                    </a:lnTo>
                    <a:lnTo>
                      <a:pt x="2275" y="569"/>
                    </a:lnTo>
                    <a:lnTo>
                      <a:pt x="2225" y="546"/>
                    </a:lnTo>
                    <a:lnTo>
                      <a:pt x="2175" y="526"/>
                    </a:lnTo>
                    <a:lnTo>
                      <a:pt x="2123" y="508"/>
                    </a:lnTo>
                    <a:lnTo>
                      <a:pt x="2070" y="492"/>
                    </a:lnTo>
                    <a:lnTo>
                      <a:pt x="2015" y="478"/>
                    </a:lnTo>
                    <a:lnTo>
                      <a:pt x="1960" y="466"/>
                    </a:lnTo>
                    <a:lnTo>
                      <a:pt x="1903" y="457"/>
                    </a:lnTo>
                    <a:lnTo>
                      <a:pt x="1846" y="450"/>
                    </a:lnTo>
                    <a:lnTo>
                      <a:pt x="1788" y="446"/>
                    </a:lnTo>
                    <a:lnTo>
                      <a:pt x="1729" y="445"/>
                    </a:lnTo>
                    <a:lnTo>
                      <a:pt x="1670" y="446"/>
                    </a:lnTo>
                    <a:lnTo>
                      <a:pt x="1610" y="450"/>
                    </a:lnTo>
                    <a:lnTo>
                      <a:pt x="1553" y="457"/>
                    </a:lnTo>
                    <a:lnTo>
                      <a:pt x="1496" y="466"/>
                    </a:lnTo>
                    <a:lnTo>
                      <a:pt x="1439" y="478"/>
                    </a:lnTo>
                    <a:lnTo>
                      <a:pt x="1385" y="492"/>
                    </a:lnTo>
                    <a:lnTo>
                      <a:pt x="1331" y="508"/>
                    </a:lnTo>
                    <a:lnTo>
                      <a:pt x="1279" y="526"/>
                    </a:lnTo>
                    <a:lnTo>
                      <a:pt x="1227" y="546"/>
                    </a:lnTo>
                    <a:lnTo>
                      <a:pt x="1178" y="569"/>
                    </a:lnTo>
                    <a:lnTo>
                      <a:pt x="1129" y="594"/>
                    </a:lnTo>
                    <a:lnTo>
                      <a:pt x="1083" y="621"/>
                    </a:lnTo>
                    <a:lnTo>
                      <a:pt x="1038" y="650"/>
                    </a:lnTo>
                    <a:lnTo>
                      <a:pt x="994" y="680"/>
                    </a:lnTo>
                    <a:lnTo>
                      <a:pt x="953" y="713"/>
                    </a:lnTo>
                    <a:lnTo>
                      <a:pt x="912" y="747"/>
                    </a:lnTo>
                    <a:lnTo>
                      <a:pt x="875" y="783"/>
                    </a:lnTo>
                    <a:lnTo>
                      <a:pt x="839" y="821"/>
                    </a:lnTo>
                    <a:lnTo>
                      <a:pt x="804" y="860"/>
                    </a:lnTo>
                    <a:lnTo>
                      <a:pt x="773" y="902"/>
                    </a:lnTo>
                    <a:lnTo>
                      <a:pt x="743" y="944"/>
                    </a:lnTo>
                    <a:lnTo>
                      <a:pt x="715" y="987"/>
                    </a:lnTo>
                    <a:lnTo>
                      <a:pt x="690" y="1033"/>
                    </a:lnTo>
                    <a:lnTo>
                      <a:pt x="667" y="1079"/>
                    </a:lnTo>
                    <a:lnTo>
                      <a:pt x="647" y="1127"/>
                    </a:lnTo>
                    <a:lnTo>
                      <a:pt x="628" y="1175"/>
                    </a:lnTo>
                    <a:lnTo>
                      <a:pt x="612" y="1226"/>
                    </a:lnTo>
                    <a:lnTo>
                      <a:pt x="600" y="1276"/>
                    </a:lnTo>
                    <a:lnTo>
                      <a:pt x="590" y="1329"/>
                    </a:lnTo>
                    <a:lnTo>
                      <a:pt x="583" y="1381"/>
                    </a:lnTo>
                    <a:lnTo>
                      <a:pt x="578" y="1436"/>
                    </a:lnTo>
                    <a:lnTo>
                      <a:pt x="577" y="1490"/>
                    </a:lnTo>
                    <a:lnTo>
                      <a:pt x="578" y="1545"/>
                    </a:lnTo>
                    <a:lnTo>
                      <a:pt x="583" y="1598"/>
                    </a:lnTo>
                    <a:lnTo>
                      <a:pt x="590" y="1652"/>
                    </a:lnTo>
                    <a:lnTo>
                      <a:pt x="600" y="1703"/>
                    </a:lnTo>
                    <a:lnTo>
                      <a:pt x="613" y="1755"/>
                    </a:lnTo>
                    <a:lnTo>
                      <a:pt x="628" y="1804"/>
                    </a:lnTo>
                    <a:lnTo>
                      <a:pt x="647" y="1853"/>
                    </a:lnTo>
                    <a:lnTo>
                      <a:pt x="668" y="1901"/>
                    </a:lnTo>
                    <a:lnTo>
                      <a:pt x="691" y="1947"/>
                    </a:lnTo>
                    <a:lnTo>
                      <a:pt x="716" y="1993"/>
                    </a:lnTo>
                    <a:lnTo>
                      <a:pt x="745" y="2036"/>
                    </a:lnTo>
                    <a:lnTo>
                      <a:pt x="774" y="2079"/>
                    </a:lnTo>
                    <a:lnTo>
                      <a:pt x="806" y="2119"/>
                    </a:lnTo>
                    <a:lnTo>
                      <a:pt x="841" y="2158"/>
                    </a:lnTo>
                    <a:lnTo>
                      <a:pt x="877" y="2197"/>
                    </a:lnTo>
                    <a:lnTo>
                      <a:pt x="915" y="2232"/>
                    </a:lnTo>
                    <a:lnTo>
                      <a:pt x="956" y="2266"/>
                    </a:lnTo>
                    <a:lnTo>
                      <a:pt x="997" y="2300"/>
                    </a:lnTo>
                    <a:lnTo>
                      <a:pt x="1041" y="2330"/>
                    </a:lnTo>
                    <a:lnTo>
                      <a:pt x="1086" y="2359"/>
                    </a:lnTo>
                    <a:lnTo>
                      <a:pt x="1132" y="2385"/>
                    </a:lnTo>
                    <a:lnTo>
                      <a:pt x="1181" y="2411"/>
                    </a:lnTo>
                    <a:lnTo>
                      <a:pt x="1230" y="2433"/>
                    </a:lnTo>
                    <a:lnTo>
                      <a:pt x="1282" y="2454"/>
                    </a:lnTo>
                    <a:lnTo>
                      <a:pt x="1334" y="2472"/>
                    </a:lnTo>
                    <a:lnTo>
                      <a:pt x="1388" y="2488"/>
                    </a:lnTo>
                    <a:lnTo>
                      <a:pt x="1443" y="2502"/>
                    </a:lnTo>
                    <a:lnTo>
                      <a:pt x="1498" y="2514"/>
                    </a:lnTo>
                    <a:lnTo>
                      <a:pt x="1555" y="2523"/>
                    </a:lnTo>
                    <a:lnTo>
                      <a:pt x="1611" y="2529"/>
                    </a:lnTo>
                    <a:lnTo>
                      <a:pt x="1670" y="2533"/>
                    </a:lnTo>
                    <a:lnTo>
                      <a:pt x="1729" y="25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093760" y="6510960"/>
                <a:ext cx="393480" cy="133920"/>
              </a:xfrm>
              <a:custGeom>
                <a:avLst/>
                <a:gdLst/>
                <a:ahLst/>
                <a:rect l="l" t="t" r="r" b="b"/>
                <a:pathLst>
                  <a:path w="3565" h="1127">
                    <a:moveTo>
                      <a:pt x="3565" y="555"/>
                    </a:moveTo>
                    <a:lnTo>
                      <a:pt x="3563" y="584"/>
                    </a:lnTo>
                    <a:lnTo>
                      <a:pt x="3556" y="613"/>
                    </a:lnTo>
                    <a:lnTo>
                      <a:pt x="3545" y="641"/>
                    </a:lnTo>
                    <a:lnTo>
                      <a:pt x="3529" y="670"/>
                    </a:lnTo>
                    <a:lnTo>
                      <a:pt x="3508" y="698"/>
                    </a:lnTo>
                    <a:lnTo>
                      <a:pt x="3485" y="725"/>
                    </a:lnTo>
                    <a:lnTo>
                      <a:pt x="3457" y="751"/>
                    </a:lnTo>
                    <a:lnTo>
                      <a:pt x="3425" y="778"/>
                    </a:lnTo>
                    <a:lnTo>
                      <a:pt x="3389" y="803"/>
                    </a:lnTo>
                    <a:lnTo>
                      <a:pt x="3350" y="827"/>
                    </a:lnTo>
                    <a:lnTo>
                      <a:pt x="3306" y="851"/>
                    </a:lnTo>
                    <a:lnTo>
                      <a:pt x="3261" y="875"/>
                    </a:lnTo>
                    <a:lnTo>
                      <a:pt x="3211" y="897"/>
                    </a:lnTo>
                    <a:lnTo>
                      <a:pt x="3158" y="919"/>
                    </a:lnTo>
                    <a:lnTo>
                      <a:pt x="3101" y="939"/>
                    </a:lnTo>
                    <a:lnTo>
                      <a:pt x="3043" y="959"/>
                    </a:lnTo>
                    <a:lnTo>
                      <a:pt x="2981" y="979"/>
                    </a:lnTo>
                    <a:lnTo>
                      <a:pt x="2917" y="997"/>
                    </a:lnTo>
                    <a:lnTo>
                      <a:pt x="2849" y="1013"/>
                    </a:lnTo>
                    <a:lnTo>
                      <a:pt x="2779" y="1029"/>
                    </a:lnTo>
                    <a:lnTo>
                      <a:pt x="2707" y="1044"/>
                    </a:lnTo>
                    <a:lnTo>
                      <a:pt x="2632" y="1058"/>
                    </a:lnTo>
                    <a:lnTo>
                      <a:pt x="2555" y="1070"/>
                    </a:lnTo>
                    <a:lnTo>
                      <a:pt x="2476" y="1082"/>
                    </a:lnTo>
                    <a:lnTo>
                      <a:pt x="2395" y="1093"/>
                    </a:lnTo>
                    <a:lnTo>
                      <a:pt x="2313" y="1102"/>
                    </a:lnTo>
                    <a:lnTo>
                      <a:pt x="2228" y="1109"/>
                    </a:lnTo>
                    <a:lnTo>
                      <a:pt x="2142" y="1115"/>
                    </a:lnTo>
                    <a:lnTo>
                      <a:pt x="2054" y="1120"/>
                    </a:lnTo>
                    <a:lnTo>
                      <a:pt x="1964" y="1124"/>
                    </a:lnTo>
                    <a:lnTo>
                      <a:pt x="1874" y="1126"/>
                    </a:lnTo>
                    <a:lnTo>
                      <a:pt x="1782" y="1127"/>
                    </a:lnTo>
                    <a:lnTo>
                      <a:pt x="1691" y="1126"/>
                    </a:lnTo>
                    <a:lnTo>
                      <a:pt x="1601" y="1124"/>
                    </a:lnTo>
                    <a:lnTo>
                      <a:pt x="1511" y="1120"/>
                    </a:lnTo>
                    <a:lnTo>
                      <a:pt x="1423" y="1115"/>
                    </a:lnTo>
                    <a:lnTo>
                      <a:pt x="1337" y="1109"/>
                    </a:lnTo>
                    <a:lnTo>
                      <a:pt x="1252" y="1102"/>
                    </a:lnTo>
                    <a:lnTo>
                      <a:pt x="1169" y="1093"/>
                    </a:lnTo>
                    <a:lnTo>
                      <a:pt x="1089" y="1082"/>
                    </a:lnTo>
                    <a:lnTo>
                      <a:pt x="1010" y="1070"/>
                    </a:lnTo>
                    <a:lnTo>
                      <a:pt x="933" y="1058"/>
                    </a:lnTo>
                    <a:lnTo>
                      <a:pt x="858" y="1044"/>
                    </a:lnTo>
                    <a:lnTo>
                      <a:pt x="786" y="1029"/>
                    </a:lnTo>
                    <a:lnTo>
                      <a:pt x="716" y="1013"/>
                    </a:lnTo>
                    <a:lnTo>
                      <a:pt x="648" y="997"/>
                    </a:lnTo>
                    <a:lnTo>
                      <a:pt x="584" y="979"/>
                    </a:lnTo>
                    <a:lnTo>
                      <a:pt x="522" y="959"/>
                    </a:lnTo>
                    <a:lnTo>
                      <a:pt x="463" y="939"/>
                    </a:lnTo>
                    <a:lnTo>
                      <a:pt x="407" y="919"/>
                    </a:lnTo>
                    <a:lnTo>
                      <a:pt x="354" y="897"/>
                    </a:lnTo>
                    <a:lnTo>
                      <a:pt x="305" y="875"/>
                    </a:lnTo>
                    <a:lnTo>
                      <a:pt x="258" y="851"/>
                    </a:lnTo>
                    <a:lnTo>
                      <a:pt x="215" y="827"/>
                    </a:lnTo>
                    <a:lnTo>
                      <a:pt x="176" y="803"/>
                    </a:lnTo>
                    <a:lnTo>
                      <a:pt x="140" y="778"/>
                    </a:lnTo>
                    <a:lnTo>
                      <a:pt x="108" y="751"/>
                    </a:lnTo>
                    <a:lnTo>
                      <a:pt x="80" y="725"/>
                    </a:lnTo>
                    <a:lnTo>
                      <a:pt x="56" y="698"/>
                    </a:lnTo>
                    <a:lnTo>
                      <a:pt x="36" y="670"/>
                    </a:lnTo>
                    <a:lnTo>
                      <a:pt x="20" y="641"/>
                    </a:lnTo>
                    <a:lnTo>
                      <a:pt x="9" y="613"/>
                    </a:lnTo>
                    <a:lnTo>
                      <a:pt x="2" y="584"/>
                    </a:lnTo>
                    <a:lnTo>
                      <a:pt x="0" y="555"/>
                    </a:lnTo>
                    <a:lnTo>
                      <a:pt x="2" y="525"/>
                    </a:lnTo>
                    <a:lnTo>
                      <a:pt x="9" y="496"/>
                    </a:lnTo>
                    <a:lnTo>
                      <a:pt x="20" y="468"/>
                    </a:lnTo>
                    <a:lnTo>
                      <a:pt x="36" y="441"/>
                    </a:lnTo>
                    <a:lnTo>
                      <a:pt x="56" y="412"/>
                    </a:lnTo>
                    <a:lnTo>
                      <a:pt x="80" y="386"/>
                    </a:lnTo>
                    <a:lnTo>
                      <a:pt x="108" y="360"/>
                    </a:lnTo>
                    <a:lnTo>
                      <a:pt x="140" y="335"/>
                    </a:lnTo>
                    <a:lnTo>
                      <a:pt x="176" y="310"/>
                    </a:lnTo>
                    <a:lnTo>
                      <a:pt x="215" y="286"/>
                    </a:lnTo>
                    <a:lnTo>
                      <a:pt x="258" y="263"/>
                    </a:lnTo>
                    <a:lnTo>
                      <a:pt x="305" y="241"/>
                    </a:lnTo>
                    <a:lnTo>
                      <a:pt x="354" y="219"/>
                    </a:lnTo>
                    <a:lnTo>
                      <a:pt x="407" y="198"/>
                    </a:lnTo>
                    <a:lnTo>
                      <a:pt x="463" y="178"/>
                    </a:lnTo>
                    <a:lnTo>
                      <a:pt x="522" y="159"/>
                    </a:lnTo>
                    <a:lnTo>
                      <a:pt x="584" y="141"/>
                    </a:lnTo>
                    <a:lnTo>
                      <a:pt x="648" y="124"/>
                    </a:lnTo>
                    <a:lnTo>
                      <a:pt x="716" y="107"/>
                    </a:lnTo>
                    <a:lnTo>
                      <a:pt x="786" y="92"/>
                    </a:lnTo>
                    <a:lnTo>
                      <a:pt x="858" y="78"/>
                    </a:lnTo>
                    <a:lnTo>
                      <a:pt x="933" y="65"/>
                    </a:lnTo>
                    <a:lnTo>
                      <a:pt x="1010" y="53"/>
                    </a:lnTo>
                    <a:lnTo>
                      <a:pt x="1089" y="42"/>
                    </a:lnTo>
                    <a:lnTo>
                      <a:pt x="1169" y="33"/>
                    </a:lnTo>
                    <a:lnTo>
                      <a:pt x="1252" y="24"/>
                    </a:lnTo>
                    <a:lnTo>
                      <a:pt x="1337" y="17"/>
                    </a:lnTo>
                    <a:lnTo>
                      <a:pt x="1423" y="11"/>
                    </a:lnTo>
                    <a:lnTo>
                      <a:pt x="1511" y="7"/>
                    </a:lnTo>
                    <a:lnTo>
                      <a:pt x="1601" y="2"/>
                    </a:lnTo>
                    <a:lnTo>
                      <a:pt x="1691" y="0"/>
                    </a:lnTo>
                    <a:lnTo>
                      <a:pt x="1782" y="0"/>
                    </a:lnTo>
                    <a:lnTo>
                      <a:pt x="1874" y="0"/>
                    </a:lnTo>
                    <a:lnTo>
                      <a:pt x="1964" y="2"/>
                    </a:lnTo>
                    <a:lnTo>
                      <a:pt x="2054" y="7"/>
                    </a:lnTo>
                    <a:lnTo>
                      <a:pt x="2142" y="11"/>
                    </a:lnTo>
                    <a:lnTo>
                      <a:pt x="2228" y="17"/>
                    </a:lnTo>
                    <a:lnTo>
                      <a:pt x="2313" y="24"/>
                    </a:lnTo>
                    <a:lnTo>
                      <a:pt x="2395" y="33"/>
                    </a:lnTo>
                    <a:lnTo>
                      <a:pt x="2476" y="42"/>
                    </a:lnTo>
                    <a:lnTo>
                      <a:pt x="2555" y="53"/>
                    </a:lnTo>
                    <a:lnTo>
                      <a:pt x="2632" y="65"/>
                    </a:lnTo>
                    <a:lnTo>
                      <a:pt x="2707" y="78"/>
                    </a:lnTo>
                    <a:lnTo>
                      <a:pt x="2779" y="92"/>
                    </a:lnTo>
                    <a:lnTo>
                      <a:pt x="2849" y="107"/>
                    </a:lnTo>
                    <a:lnTo>
                      <a:pt x="2917" y="124"/>
                    </a:lnTo>
                    <a:lnTo>
                      <a:pt x="2981" y="141"/>
                    </a:lnTo>
                    <a:lnTo>
                      <a:pt x="3043" y="159"/>
                    </a:lnTo>
                    <a:lnTo>
                      <a:pt x="3101" y="178"/>
                    </a:lnTo>
                    <a:lnTo>
                      <a:pt x="3158" y="198"/>
                    </a:lnTo>
                    <a:lnTo>
                      <a:pt x="3211" y="219"/>
                    </a:lnTo>
                    <a:lnTo>
                      <a:pt x="3261" y="241"/>
                    </a:lnTo>
                    <a:lnTo>
                      <a:pt x="3306" y="263"/>
                    </a:lnTo>
                    <a:lnTo>
                      <a:pt x="3350" y="286"/>
                    </a:lnTo>
                    <a:lnTo>
                      <a:pt x="3389" y="310"/>
                    </a:lnTo>
                    <a:lnTo>
                      <a:pt x="3425" y="335"/>
                    </a:lnTo>
                    <a:lnTo>
                      <a:pt x="3457" y="360"/>
                    </a:lnTo>
                    <a:lnTo>
                      <a:pt x="3485" y="386"/>
                    </a:lnTo>
                    <a:lnTo>
                      <a:pt x="3508" y="412"/>
                    </a:lnTo>
                    <a:lnTo>
                      <a:pt x="3529" y="441"/>
                    </a:lnTo>
                    <a:lnTo>
                      <a:pt x="3545" y="468"/>
                    </a:lnTo>
                    <a:lnTo>
                      <a:pt x="3556" y="496"/>
                    </a:lnTo>
                    <a:lnTo>
                      <a:pt x="3563" y="525"/>
                    </a:lnTo>
                    <a:lnTo>
                      <a:pt x="3565" y="5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093760" y="6510960"/>
                <a:ext cx="393480" cy="133920"/>
              </a:xfrm>
              <a:custGeom>
                <a:avLst/>
                <a:gdLst/>
                <a:ahLst/>
                <a:rect l="l" t="t" r="r" b="b"/>
                <a:pathLst>
                  <a:path w="3562" h="1126">
                    <a:moveTo>
                      <a:pt x="3562" y="555"/>
                    </a:moveTo>
                    <a:lnTo>
                      <a:pt x="3559" y="584"/>
                    </a:lnTo>
                    <a:lnTo>
                      <a:pt x="3552" y="613"/>
                    </a:lnTo>
                    <a:lnTo>
                      <a:pt x="3541" y="641"/>
                    </a:lnTo>
                    <a:lnTo>
                      <a:pt x="3526" y="670"/>
                    </a:lnTo>
                    <a:lnTo>
                      <a:pt x="3505" y="697"/>
                    </a:lnTo>
                    <a:lnTo>
                      <a:pt x="3481" y="724"/>
                    </a:lnTo>
                    <a:lnTo>
                      <a:pt x="3454" y="751"/>
                    </a:lnTo>
                    <a:lnTo>
                      <a:pt x="3422" y="777"/>
                    </a:lnTo>
                    <a:lnTo>
                      <a:pt x="3386" y="802"/>
                    </a:lnTo>
                    <a:lnTo>
                      <a:pt x="3347" y="827"/>
                    </a:lnTo>
                    <a:lnTo>
                      <a:pt x="3303" y="851"/>
                    </a:lnTo>
                    <a:lnTo>
                      <a:pt x="3257" y="875"/>
                    </a:lnTo>
                    <a:lnTo>
                      <a:pt x="3208" y="897"/>
                    </a:lnTo>
                    <a:lnTo>
                      <a:pt x="3155" y="918"/>
                    </a:lnTo>
                    <a:lnTo>
                      <a:pt x="3098" y="939"/>
                    </a:lnTo>
                    <a:lnTo>
                      <a:pt x="3040" y="958"/>
                    </a:lnTo>
                    <a:lnTo>
                      <a:pt x="2978" y="978"/>
                    </a:lnTo>
                    <a:lnTo>
                      <a:pt x="2914" y="996"/>
                    </a:lnTo>
                    <a:lnTo>
                      <a:pt x="2846" y="1013"/>
                    </a:lnTo>
                    <a:lnTo>
                      <a:pt x="2776" y="1028"/>
                    </a:lnTo>
                    <a:lnTo>
                      <a:pt x="2704" y="1043"/>
                    </a:lnTo>
                    <a:lnTo>
                      <a:pt x="2630" y="1057"/>
                    </a:lnTo>
                    <a:lnTo>
                      <a:pt x="2553" y="1069"/>
                    </a:lnTo>
                    <a:lnTo>
                      <a:pt x="2473" y="1082"/>
                    </a:lnTo>
                    <a:lnTo>
                      <a:pt x="2392" y="1092"/>
                    </a:lnTo>
                    <a:lnTo>
                      <a:pt x="2310" y="1101"/>
                    </a:lnTo>
                    <a:lnTo>
                      <a:pt x="2226" y="1108"/>
                    </a:lnTo>
                    <a:lnTo>
                      <a:pt x="2139" y="1115"/>
                    </a:lnTo>
                    <a:lnTo>
                      <a:pt x="2052" y="1120"/>
                    </a:lnTo>
                    <a:lnTo>
                      <a:pt x="1962" y="1123"/>
                    </a:lnTo>
                    <a:lnTo>
                      <a:pt x="1872" y="1125"/>
                    </a:lnTo>
                    <a:lnTo>
                      <a:pt x="1780" y="1126"/>
                    </a:lnTo>
                    <a:lnTo>
                      <a:pt x="1689" y="1125"/>
                    </a:lnTo>
                    <a:lnTo>
                      <a:pt x="1599" y="1123"/>
                    </a:lnTo>
                    <a:lnTo>
                      <a:pt x="1509" y="1120"/>
                    </a:lnTo>
                    <a:lnTo>
                      <a:pt x="1422" y="1115"/>
                    </a:lnTo>
                    <a:lnTo>
                      <a:pt x="1335" y="1108"/>
                    </a:lnTo>
                    <a:lnTo>
                      <a:pt x="1251" y="1101"/>
                    </a:lnTo>
                    <a:lnTo>
                      <a:pt x="1168" y="1092"/>
                    </a:lnTo>
                    <a:lnTo>
                      <a:pt x="1088" y="1082"/>
                    </a:lnTo>
                    <a:lnTo>
                      <a:pt x="1008" y="1069"/>
                    </a:lnTo>
                    <a:lnTo>
                      <a:pt x="931" y="1057"/>
                    </a:lnTo>
                    <a:lnTo>
                      <a:pt x="857" y="1043"/>
                    </a:lnTo>
                    <a:lnTo>
                      <a:pt x="785" y="1028"/>
                    </a:lnTo>
                    <a:lnTo>
                      <a:pt x="715" y="1013"/>
                    </a:lnTo>
                    <a:lnTo>
                      <a:pt x="647" y="996"/>
                    </a:lnTo>
                    <a:lnTo>
                      <a:pt x="583" y="978"/>
                    </a:lnTo>
                    <a:lnTo>
                      <a:pt x="521" y="958"/>
                    </a:lnTo>
                    <a:lnTo>
                      <a:pt x="462" y="939"/>
                    </a:lnTo>
                    <a:lnTo>
                      <a:pt x="406" y="918"/>
                    </a:lnTo>
                    <a:lnTo>
                      <a:pt x="353" y="897"/>
                    </a:lnTo>
                    <a:lnTo>
                      <a:pt x="304" y="875"/>
                    </a:lnTo>
                    <a:lnTo>
                      <a:pt x="257" y="851"/>
                    </a:lnTo>
                    <a:lnTo>
                      <a:pt x="214" y="827"/>
                    </a:lnTo>
                    <a:lnTo>
                      <a:pt x="175" y="802"/>
                    </a:lnTo>
                    <a:lnTo>
                      <a:pt x="139" y="777"/>
                    </a:lnTo>
                    <a:lnTo>
                      <a:pt x="108" y="751"/>
                    </a:lnTo>
                    <a:lnTo>
                      <a:pt x="80" y="724"/>
                    </a:lnTo>
                    <a:lnTo>
                      <a:pt x="55" y="697"/>
                    </a:lnTo>
                    <a:lnTo>
                      <a:pt x="35" y="670"/>
                    </a:lnTo>
                    <a:lnTo>
                      <a:pt x="20" y="641"/>
                    </a:lnTo>
                    <a:lnTo>
                      <a:pt x="9" y="613"/>
                    </a:lnTo>
                    <a:lnTo>
                      <a:pt x="2" y="584"/>
                    </a:lnTo>
                    <a:lnTo>
                      <a:pt x="0" y="555"/>
                    </a:lnTo>
                    <a:lnTo>
                      <a:pt x="2" y="525"/>
                    </a:lnTo>
                    <a:lnTo>
                      <a:pt x="9" y="496"/>
                    </a:lnTo>
                    <a:lnTo>
                      <a:pt x="20" y="468"/>
                    </a:lnTo>
                    <a:lnTo>
                      <a:pt x="35" y="441"/>
                    </a:lnTo>
                    <a:lnTo>
                      <a:pt x="55" y="413"/>
                    </a:lnTo>
                    <a:lnTo>
                      <a:pt x="80" y="386"/>
                    </a:lnTo>
                    <a:lnTo>
                      <a:pt x="108" y="361"/>
                    </a:lnTo>
                    <a:lnTo>
                      <a:pt x="139" y="335"/>
                    </a:lnTo>
                    <a:lnTo>
                      <a:pt x="175" y="310"/>
                    </a:lnTo>
                    <a:lnTo>
                      <a:pt x="214" y="286"/>
                    </a:lnTo>
                    <a:lnTo>
                      <a:pt x="257" y="263"/>
                    </a:lnTo>
                    <a:lnTo>
                      <a:pt x="304" y="241"/>
                    </a:lnTo>
                    <a:lnTo>
                      <a:pt x="353" y="220"/>
                    </a:lnTo>
                    <a:lnTo>
                      <a:pt x="406" y="198"/>
                    </a:lnTo>
                    <a:lnTo>
                      <a:pt x="462" y="178"/>
                    </a:lnTo>
                    <a:lnTo>
                      <a:pt x="521" y="160"/>
                    </a:lnTo>
                    <a:lnTo>
                      <a:pt x="583" y="142"/>
                    </a:lnTo>
                    <a:lnTo>
                      <a:pt x="647" y="125"/>
                    </a:lnTo>
                    <a:lnTo>
                      <a:pt x="715" y="108"/>
                    </a:lnTo>
                    <a:lnTo>
                      <a:pt x="785" y="93"/>
                    </a:lnTo>
                    <a:lnTo>
                      <a:pt x="857" y="79"/>
                    </a:lnTo>
                    <a:lnTo>
                      <a:pt x="931" y="66"/>
                    </a:lnTo>
                    <a:lnTo>
                      <a:pt x="1008" y="54"/>
                    </a:lnTo>
                    <a:lnTo>
                      <a:pt x="1088" y="43"/>
                    </a:lnTo>
                    <a:lnTo>
                      <a:pt x="1168" y="34"/>
                    </a:lnTo>
                    <a:lnTo>
                      <a:pt x="1251" y="25"/>
                    </a:lnTo>
                    <a:lnTo>
                      <a:pt x="1335" y="18"/>
                    </a:lnTo>
                    <a:lnTo>
                      <a:pt x="1422" y="12"/>
                    </a:lnTo>
                    <a:lnTo>
                      <a:pt x="1509" y="8"/>
                    </a:lnTo>
                    <a:lnTo>
                      <a:pt x="1599" y="3"/>
                    </a:lnTo>
                    <a:lnTo>
                      <a:pt x="1689" y="1"/>
                    </a:lnTo>
                    <a:lnTo>
                      <a:pt x="1780" y="0"/>
                    </a:lnTo>
                    <a:lnTo>
                      <a:pt x="1872" y="1"/>
                    </a:lnTo>
                    <a:lnTo>
                      <a:pt x="1962" y="3"/>
                    </a:lnTo>
                    <a:lnTo>
                      <a:pt x="2052" y="8"/>
                    </a:lnTo>
                    <a:lnTo>
                      <a:pt x="2139" y="12"/>
                    </a:lnTo>
                    <a:lnTo>
                      <a:pt x="2226" y="18"/>
                    </a:lnTo>
                    <a:lnTo>
                      <a:pt x="2310" y="25"/>
                    </a:lnTo>
                    <a:lnTo>
                      <a:pt x="2392" y="34"/>
                    </a:lnTo>
                    <a:lnTo>
                      <a:pt x="2473" y="43"/>
                    </a:lnTo>
                    <a:lnTo>
                      <a:pt x="2553" y="54"/>
                    </a:lnTo>
                    <a:lnTo>
                      <a:pt x="2630" y="66"/>
                    </a:lnTo>
                    <a:lnTo>
                      <a:pt x="2704" y="79"/>
                    </a:lnTo>
                    <a:lnTo>
                      <a:pt x="2776" y="93"/>
                    </a:lnTo>
                    <a:lnTo>
                      <a:pt x="2846" y="108"/>
                    </a:lnTo>
                    <a:lnTo>
                      <a:pt x="2914" y="125"/>
                    </a:lnTo>
                    <a:lnTo>
                      <a:pt x="2978" y="142"/>
                    </a:lnTo>
                    <a:lnTo>
                      <a:pt x="3040" y="160"/>
                    </a:lnTo>
                    <a:lnTo>
                      <a:pt x="3098" y="178"/>
                    </a:lnTo>
                    <a:lnTo>
                      <a:pt x="3155" y="198"/>
                    </a:lnTo>
                    <a:lnTo>
                      <a:pt x="3208" y="220"/>
                    </a:lnTo>
                    <a:lnTo>
                      <a:pt x="3257" y="241"/>
                    </a:lnTo>
                    <a:lnTo>
                      <a:pt x="3303" y="263"/>
                    </a:lnTo>
                    <a:lnTo>
                      <a:pt x="3347" y="286"/>
                    </a:lnTo>
                    <a:lnTo>
                      <a:pt x="3386" y="310"/>
                    </a:lnTo>
                    <a:lnTo>
                      <a:pt x="3422" y="335"/>
                    </a:lnTo>
                    <a:lnTo>
                      <a:pt x="3454" y="361"/>
                    </a:lnTo>
                    <a:lnTo>
                      <a:pt x="3481" y="386"/>
                    </a:lnTo>
                    <a:lnTo>
                      <a:pt x="3505" y="413"/>
                    </a:lnTo>
                    <a:lnTo>
                      <a:pt x="3526" y="441"/>
                    </a:lnTo>
                    <a:lnTo>
                      <a:pt x="3541" y="468"/>
                    </a:lnTo>
                    <a:lnTo>
                      <a:pt x="3552" y="496"/>
                    </a:lnTo>
                    <a:lnTo>
                      <a:pt x="3559" y="525"/>
                    </a:lnTo>
                    <a:lnTo>
                      <a:pt x="3562" y="5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093760" y="6510960"/>
                <a:ext cx="393480" cy="133920"/>
              </a:xfrm>
              <a:custGeom>
                <a:avLst/>
                <a:gdLst/>
                <a:ahLst/>
                <a:rect l="l" t="t" r="r" b="b"/>
                <a:pathLst>
                  <a:path w="3559" h="1124">
                    <a:moveTo>
                      <a:pt x="3559" y="554"/>
                    </a:moveTo>
                    <a:lnTo>
                      <a:pt x="3557" y="583"/>
                    </a:lnTo>
                    <a:lnTo>
                      <a:pt x="3550" y="612"/>
                    </a:lnTo>
                    <a:lnTo>
                      <a:pt x="3539" y="640"/>
                    </a:lnTo>
                    <a:lnTo>
                      <a:pt x="3523" y="669"/>
                    </a:lnTo>
                    <a:lnTo>
                      <a:pt x="3503" y="696"/>
                    </a:lnTo>
                    <a:lnTo>
                      <a:pt x="3479" y="723"/>
                    </a:lnTo>
                    <a:lnTo>
                      <a:pt x="3451" y="749"/>
                    </a:lnTo>
                    <a:lnTo>
                      <a:pt x="3420" y="776"/>
                    </a:lnTo>
                    <a:lnTo>
                      <a:pt x="3383" y="801"/>
                    </a:lnTo>
                    <a:lnTo>
                      <a:pt x="3344" y="825"/>
                    </a:lnTo>
                    <a:lnTo>
                      <a:pt x="3301" y="849"/>
                    </a:lnTo>
                    <a:lnTo>
                      <a:pt x="3255" y="873"/>
                    </a:lnTo>
                    <a:lnTo>
                      <a:pt x="3205" y="895"/>
                    </a:lnTo>
                    <a:lnTo>
                      <a:pt x="3153" y="917"/>
                    </a:lnTo>
                    <a:lnTo>
                      <a:pt x="3096" y="937"/>
                    </a:lnTo>
                    <a:lnTo>
                      <a:pt x="3038" y="957"/>
                    </a:lnTo>
                    <a:lnTo>
                      <a:pt x="2976" y="976"/>
                    </a:lnTo>
                    <a:lnTo>
                      <a:pt x="2912" y="994"/>
                    </a:lnTo>
                    <a:lnTo>
                      <a:pt x="2844" y="1011"/>
                    </a:lnTo>
                    <a:lnTo>
                      <a:pt x="2774" y="1027"/>
                    </a:lnTo>
                    <a:lnTo>
                      <a:pt x="2703" y="1041"/>
                    </a:lnTo>
                    <a:lnTo>
                      <a:pt x="2628" y="1055"/>
                    </a:lnTo>
                    <a:lnTo>
                      <a:pt x="2551" y="1067"/>
                    </a:lnTo>
                    <a:lnTo>
                      <a:pt x="2472" y="1080"/>
                    </a:lnTo>
                    <a:lnTo>
                      <a:pt x="2391" y="1090"/>
                    </a:lnTo>
                    <a:lnTo>
                      <a:pt x="2309" y="1099"/>
                    </a:lnTo>
                    <a:lnTo>
                      <a:pt x="2224" y="1106"/>
                    </a:lnTo>
                    <a:lnTo>
                      <a:pt x="2138" y="1113"/>
                    </a:lnTo>
                    <a:lnTo>
                      <a:pt x="2050" y="1118"/>
                    </a:lnTo>
                    <a:lnTo>
                      <a:pt x="1961" y="1121"/>
                    </a:lnTo>
                    <a:lnTo>
                      <a:pt x="1871" y="1123"/>
                    </a:lnTo>
                    <a:lnTo>
                      <a:pt x="1779" y="1124"/>
                    </a:lnTo>
                    <a:lnTo>
                      <a:pt x="1688" y="1123"/>
                    </a:lnTo>
                    <a:lnTo>
                      <a:pt x="1598" y="1121"/>
                    </a:lnTo>
                    <a:lnTo>
                      <a:pt x="1509" y="1118"/>
                    </a:lnTo>
                    <a:lnTo>
                      <a:pt x="1421" y="1113"/>
                    </a:lnTo>
                    <a:lnTo>
                      <a:pt x="1335" y="1106"/>
                    </a:lnTo>
                    <a:lnTo>
                      <a:pt x="1250" y="1099"/>
                    </a:lnTo>
                    <a:lnTo>
                      <a:pt x="1167" y="1090"/>
                    </a:lnTo>
                    <a:lnTo>
                      <a:pt x="1087" y="1080"/>
                    </a:lnTo>
                    <a:lnTo>
                      <a:pt x="1008" y="1067"/>
                    </a:lnTo>
                    <a:lnTo>
                      <a:pt x="931" y="1055"/>
                    </a:lnTo>
                    <a:lnTo>
                      <a:pt x="856" y="1041"/>
                    </a:lnTo>
                    <a:lnTo>
                      <a:pt x="785" y="1027"/>
                    </a:lnTo>
                    <a:lnTo>
                      <a:pt x="715" y="1011"/>
                    </a:lnTo>
                    <a:lnTo>
                      <a:pt x="647" y="994"/>
                    </a:lnTo>
                    <a:lnTo>
                      <a:pt x="583" y="976"/>
                    </a:lnTo>
                    <a:lnTo>
                      <a:pt x="521" y="957"/>
                    </a:lnTo>
                    <a:lnTo>
                      <a:pt x="463" y="937"/>
                    </a:lnTo>
                    <a:lnTo>
                      <a:pt x="406" y="917"/>
                    </a:lnTo>
                    <a:lnTo>
                      <a:pt x="353" y="895"/>
                    </a:lnTo>
                    <a:lnTo>
                      <a:pt x="304" y="873"/>
                    </a:lnTo>
                    <a:lnTo>
                      <a:pt x="257" y="849"/>
                    </a:lnTo>
                    <a:lnTo>
                      <a:pt x="215" y="825"/>
                    </a:lnTo>
                    <a:lnTo>
                      <a:pt x="176" y="801"/>
                    </a:lnTo>
                    <a:lnTo>
                      <a:pt x="139" y="776"/>
                    </a:lnTo>
                    <a:lnTo>
                      <a:pt x="108" y="749"/>
                    </a:lnTo>
                    <a:lnTo>
                      <a:pt x="80" y="723"/>
                    </a:lnTo>
                    <a:lnTo>
                      <a:pt x="55" y="696"/>
                    </a:lnTo>
                    <a:lnTo>
                      <a:pt x="36" y="669"/>
                    </a:lnTo>
                    <a:lnTo>
                      <a:pt x="20" y="640"/>
                    </a:lnTo>
                    <a:lnTo>
                      <a:pt x="9" y="612"/>
                    </a:lnTo>
                    <a:lnTo>
                      <a:pt x="2" y="583"/>
                    </a:lnTo>
                    <a:lnTo>
                      <a:pt x="0" y="554"/>
                    </a:lnTo>
                    <a:lnTo>
                      <a:pt x="2" y="524"/>
                    </a:lnTo>
                    <a:lnTo>
                      <a:pt x="9" y="495"/>
                    </a:lnTo>
                    <a:lnTo>
                      <a:pt x="20" y="467"/>
                    </a:lnTo>
                    <a:lnTo>
                      <a:pt x="36" y="440"/>
                    </a:lnTo>
                    <a:lnTo>
                      <a:pt x="55" y="412"/>
                    </a:lnTo>
                    <a:lnTo>
                      <a:pt x="80" y="386"/>
                    </a:lnTo>
                    <a:lnTo>
                      <a:pt x="108" y="360"/>
                    </a:lnTo>
                    <a:lnTo>
                      <a:pt x="139" y="335"/>
                    </a:lnTo>
                    <a:lnTo>
                      <a:pt x="176" y="309"/>
                    </a:lnTo>
                    <a:lnTo>
                      <a:pt x="215" y="286"/>
                    </a:lnTo>
                    <a:lnTo>
                      <a:pt x="257" y="263"/>
                    </a:lnTo>
                    <a:lnTo>
                      <a:pt x="304" y="241"/>
                    </a:lnTo>
                    <a:lnTo>
                      <a:pt x="353" y="219"/>
                    </a:lnTo>
                    <a:lnTo>
                      <a:pt x="406" y="198"/>
                    </a:lnTo>
                    <a:lnTo>
                      <a:pt x="463" y="178"/>
                    </a:lnTo>
                    <a:lnTo>
                      <a:pt x="521" y="159"/>
                    </a:lnTo>
                    <a:lnTo>
                      <a:pt x="583" y="141"/>
                    </a:lnTo>
                    <a:lnTo>
                      <a:pt x="647" y="124"/>
                    </a:lnTo>
                    <a:lnTo>
                      <a:pt x="715" y="107"/>
                    </a:lnTo>
                    <a:lnTo>
                      <a:pt x="785" y="92"/>
                    </a:lnTo>
                    <a:lnTo>
                      <a:pt x="856" y="78"/>
                    </a:lnTo>
                    <a:lnTo>
                      <a:pt x="931" y="66"/>
                    </a:lnTo>
                    <a:lnTo>
                      <a:pt x="1008" y="54"/>
                    </a:lnTo>
                    <a:lnTo>
                      <a:pt x="1087" y="43"/>
                    </a:lnTo>
                    <a:lnTo>
                      <a:pt x="1167" y="34"/>
                    </a:lnTo>
                    <a:lnTo>
                      <a:pt x="1250" y="25"/>
                    </a:lnTo>
                    <a:lnTo>
                      <a:pt x="1335" y="18"/>
                    </a:lnTo>
                    <a:lnTo>
                      <a:pt x="1421" y="12"/>
                    </a:lnTo>
                    <a:lnTo>
                      <a:pt x="1509" y="7"/>
                    </a:lnTo>
                    <a:lnTo>
                      <a:pt x="1598" y="4"/>
                    </a:lnTo>
                    <a:lnTo>
                      <a:pt x="1688" y="1"/>
                    </a:lnTo>
                    <a:lnTo>
                      <a:pt x="1779" y="0"/>
                    </a:lnTo>
                    <a:lnTo>
                      <a:pt x="1871" y="1"/>
                    </a:lnTo>
                    <a:lnTo>
                      <a:pt x="1961" y="4"/>
                    </a:lnTo>
                    <a:lnTo>
                      <a:pt x="2050" y="7"/>
                    </a:lnTo>
                    <a:lnTo>
                      <a:pt x="2138" y="12"/>
                    </a:lnTo>
                    <a:lnTo>
                      <a:pt x="2224" y="18"/>
                    </a:lnTo>
                    <a:lnTo>
                      <a:pt x="2309" y="25"/>
                    </a:lnTo>
                    <a:lnTo>
                      <a:pt x="2391" y="34"/>
                    </a:lnTo>
                    <a:lnTo>
                      <a:pt x="2472" y="43"/>
                    </a:lnTo>
                    <a:lnTo>
                      <a:pt x="2551" y="54"/>
                    </a:lnTo>
                    <a:lnTo>
                      <a:pt x="2628" y="66"/>
                    </a:lnTo>
                    <a:lnTo>
                      <a:pt x="2703" y="78"/>
                    </a:lnTo>
                    <a:lnTo>
                      <a:pt x="2774" y="92"/>
                    </a:lnTo>
                    <a:lnTo>
                      <a:pt x="2844" y="107"/>
                    </a:lnTo>
                    <a:lnTo>
                      <a:pt x="2912" y="124"/>
                    </a:lnTo>
                    <a:lnTo>
                      <a:pt x="2976" y="141"/>
                    </a:lnTo>
                    <a:lnTo>
                      <a:pt x="3038" y="159"/>
                    </a:lnTo>
                    <a:lnTo>
                      <a:pt x="3096" y="178"/>
                    </a:lnTo>
                    <a:lnTo>
                      <a:pt x="3153" y="198"/>
                    </a:lnTo>
                    <a:lnTo>
                      <a:pt x="3205" y="219"/>
                    </a:lnTo>
                    <a:lnTo>
                      <a:pt x="3255" y="241"/>
                    </a:lnTo>
                    <a:lnTo>
                      <a:pt x="3301" y="263"/>
                    </a:lnTo>
                    <a:lnTo>
                      <a:pt x="3344" y="286"/>
                    </a:lnTo>
                    <a:lnTo>
                      <a:pt x="3383" y="309"/>
                    </a:lnTo>
                    <a:lnTo>
                      <a:pt x="3420" y="335"/>
                    </a:lnTo>
                    <a:lnTo>
                      <a:pt x="3451" y="360"/>
                    </a:lnTo>
                    <a:lnTo>
                      <a:pt x="3479" y="386"/>
                    </a:lnTo>
                    <a:lnTo>
                      <a:pt x="3503" y="412"/>
                    </a:lnTo>
                    <a:lnTo>
                      <a:pt x="3523" y="440"/>
                    </a:lnTo>
                    <a:lnTo>
                      <a:pt x="3539" y="467"/>
                    </a:lnTo>
                    <a:lnTo>
                      <a:pt x="3550" y="495"/>
                    </a:lnTo>
                    <a:lnTo>
                      <a:pt x="3557" y="524"/>
                    </a:lnTo>
                    <a:lnTo>
                      <a:pt x="3559" y="5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093760" y="6510960"/>
                <a:ext cx="393480" cy="133920"/>
              </a:xfrm>
              <a:custGeom>
                <a:avLst/>
                <a:gdLst/>
                <a:ahLst/>
                <a:rect l="l" t="t" r="r" b="b"/>
                <a:pathLst>
                  <a:path w="3557" h="1122">
                    <a:moveTo>
                      <a:pt x="3557" y="553"/>
                    </a:moveTo>
                    <a:lnTo>
                      <a:pt x="3554" y="582"/>
                    </a:lnTo>
                    <a:lnTo>
                      <a:pt x="3548" y="611"/>
                    </a:lnTo>
                    <a:lnTo>
                      <a:pt x="3536" y="639"/>
                    </a:lnTo>
                    <a:lnTo>
                      <a:pt x="3521" y="668"/>
                    </a:lnTo>
                    <a:lnTo>
                      <a:pt x="3500" y="695"/>
                    </a:lnTo>
                    <a:lnTo>
                      <a:pt x="3477" y="722"/>
                    </a:lnTo>
                    <a:lnTo>
                      <a:pt x="3449" y="748"/>
                    </a:lnTo>
                    <a:lnTo>
                      <a:pt x="3417" y="775"/>
                    </a:lnTo>
                    <a:lnTo>
                      <a:pt x="3381" y="800"/>
                    </a:lnTo>
                    <a:lnTo>
                      <a:pt x="3342" y="824"/>
                    </a:lnTo>
                    <a:lnTo>
                      <a:pt x="3299" y="848"/>
                    </a:lnTo>
                    <a:lnTo>
                      <a:pt x="3253" y="872"/>
                    </a:lnTo>
                    <a:lnTo>
                      <a:pt x="3203" y="894"/>
                    </a:lnTo>
                    <a:lnTo>
                      <a:pt x="3151" y="915"/>
                    </a:lnTo>
                    <a:lnTo>
                      <a:pt x="3094" y="935"/>
                    </a:lnTo>
                    <a:lnTo>
                      <a:pt x="3036" y="955"/>
                    </a:lnTo>
                    <a:lnTo>
                      <a:pt x="2974" y="975"/>
                    </a:lnTo>
                    <a:lnTo>
                      <a:pt x="2910" y="992"/>
                    </a:lnTo>
                    <a:lnTo>
                      <a:pt x="2842" y="1009"/>
                    </a:lnTo>
                    <a:lnTo>
                      <a:pt x="2772" y="1025"/>
                    </a:lnTo>
                    <a:lnTo>
                      <a:pt x="2701" y="1040"/>
                    </a:lnTo>
                    <a:lnTo>
                      <a:pt x="2626" y="1053"/>
                    </a:lnTo>
                    <a:lnTo>
                      <a:pt x="2549" y="1066"/>
                    </a:lnTo>
                    <a:lnTo>
                      <a:pt x="2470" y="1078"/>
                    </a:lnTo>
                    <a:lnTo>
                      <a:pt x="2389" y="1088"/>
                    </a:lnTo>
                    <a:lnTo>
                      <a:pt x="2308" y="1097"/>
                    </a:lnTo>
                    <a:lnTo>
                      <a:pt x="2223" y="1104"/>
                    </a:lnTo>
                    <a:lnTo>
                      <a:pt x="2137" y="1111"/>
                    </a:lnTo>
                    <a:lnTo>
                      <a:pt x="2049" y="1116"/>
                    </a:lnTo>
                    <a:lnTo>
                      <a:pt x="1960" y="1119"/>
                    </a:lnTo>
                    <a:lnTo>
                      <a:pt x="1870" y="1122"/>
                    </a:lnTo>
                    <a:lnTo>
                      <a:pt x="1778" y="1122"/>
                    </a:lnTo>
                    <a:lnTo>
                      <a:pt x="1687" y="1122"/>
                    </a:lnTo>
                    <a:lnTo>
                      <a:pt x="1597" y="1119"/>
                    </a:lnTo>
                    <a:lnTo>
                      <a:pt x="1508" y="1116"/>
                    </a:lnTo>
                    <a:lnTo>
                      <a:pt x="1420" y="1111"/>
                    </a:lnTo>
                    <a:lnTo>
                      <a:pt x="1334" y="1104"/>
                    </a:lnTo>
                    <a:lnTo>
                      <a:pt x="1249" y="1097"/>
                    </a:lnTo>
                    <a:lnTo>
                      <a:pt x="1167" y="1088"/>
                    </a:lnTo>
                    <a:lnTo>
                      <a:pt x="1087" y="1078"/>
                    </a:lnTo>
                    <a:lnTo>
                      <a:pt x="1008" y="1066"/>
                    </a:lnTo>
                    <a:lnTo>
                      <a:pt x="931" y="1053"/>
                    </a:lnTo>
                    <a:lnTo>
                      <a:pt x="856" y="1040"/>
                    </a:lnTo>
                    <a:lnTo>
                      <a:pt x="785" y="1025"/>
                    </a:lnTo>
                    <a:lnTo>
                      <a:pt x="715" y="1009"/>
                    </a:lnTo>
                    <a:lnTo>
                      <a:pt x="647" y="992"/>
                    </a:lnTo>
                    <a:lnTo>
                      <a:pt x="583" y="975"/>
                    </a:lnTo>
                    <a:lnTo>
                      <a:pt x="521" y="955"/>
                    </a:lnTo>
                    <a:lnTo>
                      <a:pt x="463" y="935"/>
                    </a:lnTo>
                    <a:lnTo>
                      <a:pt x="406" y="915"/>
                    </a:lnTo>
                    <a:lnTo>
                      <a:pt x="353" y="894"/>
                    </a:lnTo>
                    <a:lnTo>
                      <a:pt x="304" y="872"/>
                    </a:lnTo>
                    <a:lnTo>
                      <a:pt x="257" y="848"/>
                    </a:lnTo>
                    <a:lnTo>
                      <a:pt x="215" y="824"/>
                    </a:lnTo>
                    <a:lnTo>
                      <a:pt x="176" y="800"/>
                    </a:lnTo>
                    <a:lnTo>
                      <a:pt x="140" y="775"/>
                    </a:lnTo>
                    <a:lnTo>
                      <a:pt x="108" y="748"/>
                    </a:lnTo>
                    <a:lnTo>
                      <a:pt x="81" y="722"/>
                    </a:lnTo>
                    <a:lnTo>
                      <a:pt x="57" y="695"/>
                    </a:lnTo>
                    <a:lnTo>
                      <a:pt x="36" y="668"/>
                    </a:lnTo>
                    <a:lnTo>
                      <a:pt x="21" y="639"/>
                    </a:lnTo>
                    <a:lnTo>
                      <a:pt x="9" y="611"/>
                    </a:lnTo>
                    <a:lnTo>
                      <a:pt x="3" y="582"/>
                    </a:lnTo>
                    <a:lnTo>
                      <a:pt x="0" y="553"/>
                    </a:lnTo>
                    <a:lnTo>
                      <a:pt x="3" y="523"/>
                    </a:lnTo>
                    <a:lnTo>
                      <a:pt x="9" y="495"/>
                    </a:lnTo>
                    <a:lnTo>
                      <a:pt x="21" y="467"/>
                    </a:lnTo>
                    <a:lnTo>
                      <a:pt x="36" y="439"/>
                    </a:lnTo>
                    <a:lnTo>
                      <a:pt x="57" y="411"/>
                    </a:lnTo>
                    <a:lnTo>
                      <a:pt x="81" y="385"/>
                    </a:lnTo>
                    <a:lnTo>
                      <a:pt x="108" y="359"/>
                    </a:lnTo>
                    <a:lnTo>
                      <a:pt x="140" y="334"/>
                    </a:lnTo>
                    <a:lnTo>
                      <a:pt x="176" y="309"/>
                    </a:lnTo>
                    <a:lnTo>
                      <a:pt x="215" y="285"/>
                    </a:lnTo>
                    <a:lnTo>
                      <a:pt x="257" y="262"/>
                    </a:lnTo>
                    <a:lnTo>
                      <a:pt x="304" y="240"/>
                    </a:lnTo>
                    <a:lnTo>
                      <a:pt x="353" y="219"/>
                    </a:lnTo>
                    <a:lnTo>
                      <a:pt x="406" y="197"/>
                    </a:lnTo>
                    <a:lnTo>
                      <a:pt x="463" y="178"/>
                    </a:lnTo>
                    <a:lnTo>
                      <a:pt x="521" y="159"/>
                    </a:lnTo>
                    <a:lnTo>
                      <a:pt x="583" y="141"/>
                    </a:lnTo>
                    <a:lnTo>
                      <a:pt x="647" y="124"/>
                    </a:lnTo>
                    <a:lnTo>
                      <a:pt x="715" y="107"/>
                    </a:lnTo>
                    <a:lnTo>
                      <a:pt x="785" y="92"/>
                    </a:lnTo>
                    <a:lnTo>
                      <a:pt x="856" y="78"/>
                    </a:lnTo>
                    <a:lnTo>
                      <a:pt x="931" y="65"/>
                    </a:lnTo>
                    <a:lnTo>
                      <a:pt x="1008" y="54"/>
                    </a:lnTo>
                    <a:lnTo>
                      <a:pt x="1087" y="43"/>
                    </a:lnTo>
                    <a:lnTo>
                      <a:pt x="1167" y="33"/>
                    </a:lnTo>
                    <a:lnTo>
                      <a:pt x="1249" y="25"/>
                    </a:lnTo>
                    <a:lnTo>
                      <a:pt x="1334" y="18"/>
                    </a:lnTo>
                    <a:lnTo>
                      <a:pt x="1420" y="12"/>
                    </a:lnTo>
                    <a:lnTo>
                      <a:pt x="1508" y="7"/>
                    </a:lnTo>
                    <a:lnTo>
                      <a:pt x="1597" y="4"/>
                    </a:lnTo>
                    <a:lnTo>
                      <a:pt x="1687" y="1"/>
                    </a:lnTo>
                    <a:lnTo>
                      <a:pt x="1778" y="0"/>
                    </a:lnTo>
                    <a:lnTo>
                      <a:pt x="1870" y="1"/>
                    </a:lnTo>
                    <a:lnTo>
                      <a:pt x="1960" y="4"/>
                    </a:lnTo>
                    <a:lnTo>
                      <a:pt x="2049" y="7"/>
                    </a:lnTo>
                    <a:lnTo>
                      <a:pt x="2137" y="12"/>
                    </a:lnTo>
                    <a:lnTo>
                      <a:pt x="2223" y="18"/>
                    </a:lnTo>
                    <a:lnTo>
                      <a:pt x="2308" y="25"/>
                    </a:lnTo>
                    <a:lnTo>
                      <a:pt x="2389" y="33"/>
                    </a:lnTo>
                    <a:lnTo>
                      <a:pt x="2470" y="43"/>
                    </a:lnTo>
                    <a:lnTo>
                      <a:pt x="2549" y="54"/>
                    </a:lnTo>
                    <a:lnTo>
                      <a:pt x="2626" y="65"/>
                    </a:lnTo>
                    <a:lnTo>
                      <a:pt x="2701" y="78"/>
                    </a:lnTo>
                    <a:lnTo>
                      <a:pt x="2772" y="92"/>
                    </a:lnTo>
                    <a:lnTo>
                      <a:pt x="2842" y="107"/>
                    </a:lnTo>
                    <a:lnTo>
                      <a:pt x="2910" y="124"/>
                    </a:lnTo>
                    <a:lnTo>
                      <a:pt x="2974" y="141"/>
                    </a:lnTo>
                    <a:lnTo>
                      <a:pt x="3036" y="159"/>
                    </a:lnTo>
                    <a:lnTo>
                      <a:pt x="3094" y="178"/>
                    </a:lnTo>
                    <a:lnTo>
                      <a:pt x="3151" y="197"/>
                    </a:lnTo>
                    <a:lnTo>
                      <a:pt x="3203" y="219"/>
                    </a:lnTo>
                    <a:lnTo>
                      <a:pt x="3253" y="240"/>
                    </a:lnTo>
                    <a:lnTo>
                      <a:pt x="3299" y="262"/>
                    </a:lnTo>
                    <a:lnTo>
                      <a:pt x="3342" y="285"/>
                    </a:lnTo>
                    <a:lnTo>
                      <a:pt x="3381" y="309"/>
                    </a:lnTo>
                    <a:lnTo>
                      <a:pt x="3417" y="334"/>
                    </a:lnTo>
                    <a:lnTo>
                      <a:pt x="3449" y="359"/>
                    </a:lnTo>
                    <a:lnTo>
                      <a:pt x="3477" y="385"/>
                    </a:lnTo>
                    <a:lnTo>
                      <a:pt x="3500" y="411"/>
                    </a:lnTo>
                    <a:lnTo>
                      <a:pt x="3521" y="439"/>
                    </a:lnTo>
                    <a:lnTo>
                      <a:pt x="3536" y="467"/>
                    </a:lnTo>
                    <a:lnTo>
                      <a:pt x="3548" y="495"/>
                    </a:lnTo>
                    <a:lnTo>
                      <a:pt x="3554" y="523"/>
                    </a:lnTo>
                    <a:lnTo>
                      <a:pt x="3557" y="5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093760" y="6510960"/>
                <a:ext cx="392040" cy="133920"/>
              </a:xfrm>
              <a:custGeom>
                <a:avLst/>
                <a:gdLst/>
                <a:ahLst/>
                <a:rect l="l" t="t" r="r" b="b"/>
                <a:pathLst>
                  <a:path w="3553" h="1120">
                    <a:moveTo>
                      <a:pt x="3553" y="552"/>
                    </a:moveTo>
                    <a:lnTo>
                      <a:pt x="3551" y="581"/>
                    </a:lnTo>
                    <a:lnTo>
                      <a:pt x="3544" y="610"/>
                    </a:lnTo>
                    <a:lnTo>
                      <a:pt x="3533" y="638"/>
                    </a:lnTo>
                    <a:lnTo>
                      <a:pt x="3518" y="667"/>
                    </a:lnTo>
                    <a:lnTo>
                      <a:pt x="3497" y="694"/>
                    </a:lnTo>
                    <a:lnTo>
                      <a:pt x="3473" y="721"/>
                    </a:lnTo>
                    <a:lnTo>
                      <a:pt x="3445" y="747"/>
                    </a:lnTo>
                    <a:lnTo>
                      <a:pt x="3414" y="773"/>
                    </a:lnTo>
                    <a:lnTo>
                      <a:pt x="3378" y="798"/>
                    </a:lnTo>
                    <a:lnTo>
                      <a:pt x="3339" y="823"/>
                    </a:lnTo>
                    <a:lnTo>
                      <a:pt x="3296" y="846"/>
                    </a:lnTo>
                    <a:lnTo>
                      <a:pt x="3250" y="870"/>
                    </a:lnTo>
                    <a:lnTo>
                      <a:pt x="3200" y="892"/>
                    </a:lnTo>
                    <a:lnTo>
                      <a:pt x="3148" y="913"/>
                    </a:lnTo>
                    <a:lnTo>
                      <a:pt x="3091" y="934"/>
                    </a:lnTo>
                    <a:lnTo>
                      <a:pt x="3033" y="953"/>
                    </a:lnTo>
                    <a:lnTo>
                      <a:pt x="2971" y="973"/>
                    </a:lnTo>
                    <a:lnTo>
                      <a:pt x="2907" y="991"/>
                    </a:lnTo>
                    <a:lnTo>
                      <a:pt x="2840" y="1007"/>
                    </a:lnTo>
                    <a:lnTo>
                      <a:pt x="2770" y="1023"/>
                    </a:lnTo>
                    <a:lnTo>
                      <a:pt x="2698" y="1038"/>
                    </a:lnTo>
                    <a:lnTo>
                      <a:pt x="2624" y="1051"/>
                    </a:lnTo>
                    <a:lnTo>
                      <a:pt x="2547" y="1064"/>
                    </a:lnTo>
                    <a:lnTo>
                      <a:pt x="2468" y="1076"/>
                    </a:lnTo>
                    <a:lnTo>
                      <a:pt x="2387" y="1086"/>
                    </a:lnTo>
                    <a:lnTo>
                      <a:pt x="2305" y="1095"/>
                    </a:lnTo>
                    <a:lnTo>
                      <a:pt x="2221" y="1103"/>
                    </a:lnTo>
                    <a:lnTo>
                      <a:pt x="2135" y="1109"/>
                    </a:lnTo>
                    <a:lnTo>
                      <a:pt x="2047" y="1114"/>
                    </a:lnTo>
                    <a:lnTo>
                      <a:pt x="1958" y="1117"/>
                    </a:lnTo>
                    <a:lnTo>
                      <a:pt x="1868" y="1120"/>
                    </a:lnTo>
                    <a:lnTo>
                      <a:pt x="1776" y="1120"/>
                    </a:lnTo>
                    <a:lnTo>
                      <a:pt x="1685" y="1120"/>
                    </a:lnTo>
                    <a:lnTo>
                      <a:pt x="1595" y="1117"/>
                    </a:lnTo>
                    <a:lnTo>
                      <a:pt x="1506" y="1114"/>
                    </a:lnTo>
                    <a:lnTo>
                      <a:pt x="1418" y="1109"/>
                    </a:lnTo>
                    <a:lnTo>
                      <a:pt x="1332" y="1103"/>
                    </a:lnTo>
                    <a:lnTo>
                      <a:pt x="1248" y="1095"/>
                    </a:lnTo>
                    <a:lnTo>
                      <a:pt x="1165" y="1086"/>
                    </a:lnTo>
                    <a:lnTo>
                      <a:pt x="1085" y="1076"/>
                    </a:lnTo>
                    <a:lnTo>
                      <a:pt x="1006" y="1064"/>
                    </a:lnTo>
                    <a:lnTo>
                      <a:pt x="929" y="1051"/>
                    </a:lnTo>
                    <a:lnTo>
                      <a:pt x="855" y="1038"/>
                    </a:lnTo>
                    <a:lnTo>
                      <a:pt x="783" y="1023"/>
                    </a:lnTo>
                    <a:lnTo>
                      <a:pt x="713" y="1007"/>
                    </a:lnTo>
                    <a:lnTo>
                      <a:pt x="646" y="991"/>
                    </a:lnTo>
                    <a:lnTo>
                      <a:pt x="582" y="973"/>
                    </a:lnTo>
                    <a:lnTo>
                      <a:pt x="520" y="953"/>
                    </a:lnTo>
                    <a:lnTo>
                      <a:pt x="462" y="934"/>
                    </a:lnTo>
                    <a:lnTo>
                      <a:pt x="405" y="913"/>
                    </a:lnTo>
                    <a:lnTo>
                      <a:pt x="352" y="892"/>
                    </a:lnTo>
                    <a:lnTo>
                      <a:pt x="303" y="870"/>
                    </a:lnTo>
                    <a:lnTo>
                      <a:pt x="257" y="846"/>
                    </a:lnTo>
                    <a:lnTo>
                      <a:pt x="214" y="823"/>
                    </a:lnTo>
                    <a:lnTo>
                      <a:pt x="175" y="798"/>
                    </a:lnTo>
                    <a:lnTo>
                      <a:pt x="139" y="773"/>
                    </a:lnTo>
                    <a:lnTo>
                      <a:pt x="108" y="747"/>
                    </a:lnTo>
                    <a:lnTo>
                      <a:pt x="80" y="721"/>
                    </a:lnTo>
                    <a:lnTo>
                      <a:pt x="56" y="694"/>
                    </a:lnTo>
                    <a:lnTo>
                      <a:pt x="36" y="667"/>
                    </a:lnTo>
                    <a:lnTo>
                      <a:pt x="20" y="638"/>
                    </a:lnTo>
                    <a:lnTo>
                      <a:pt x="9" y="610"/>
                    </a:lnTo>
                    <a:lnTo>
                      <a:pt x="2" y="581"/>
                    </a:lnTo>
                    <a:lnTo>
                      <a:pt x="0" y="552"/>
                    </a:lnTo>
                    <a:lnTo>
                      <a:pt x="2" y="522"/>
                    </a:lnTo>
                    <a:lnTo>
                      <a:pt x="9" y="494"/>
                    </a:lnTo>
                    <a:lnTo>
                      <a:pt x="20" y="466"/>
                    </a:lnTo>
                    <a:lnTo>
                      <a:pt x="36" y="438"/>
                    </a:lnTo>
                    <a:lnTo>
                      <a:pt x="56" y="410"/>
                    </a:lnTo>
                    <a:lnTo>
                      <a:pt x="80" y="384"/>
                    </a:lnTo>
                    <a:lnTo>
                      <a:pt x="108" y="359"/>
                    </a:lnTo>
                    <a:lnTo>
                      <a:pt x="139" y="334"/>
                    </a:lnTo>
                    <a:lnTo>
                      <a:pt x="175" y="308"/>
                    </a:lnTo>
                    <a:lnTo>
                      <a:pt x="214" y="285"/>
                    </a:lnTo>
                    <a:lnTo>
                      <a:pt x="257" y="262"/>
                    </a:lnTo>
                    <a:lnTo>
                      <a:pt x="303" y="240"/>
                    </a:lnTo>
                    <a:lnTo>
                      <a:pt x="352" y="218"/>
                    </a:lnTo>
                    <a:lnTo>
                      <a:pt x="405" y="197"/>
                    </a:lnTo>
                    <a:lnTo>
                      <a:pt x="462" y="177"/>
                    </a:lnTo>
                    <a:lnTo>
                      <a:pt x="520" y="158"/>
                    </a:lnTo>
                    <a:lnTo>
                      <a:pt x="582" y="141"/>
                    </a:lnTo>
                    <a:lnTo>
                      <a:pt x="646" y="124"/>
                    </a:lnTo>
                    <a:lnTo>
                      <a:pt x="713" y="107"/>
                    </a:lnTo>
                    <a:lnTo>
                      <a:pt x="783" y="92"/>
                    </a:lnTo>
                    <a:lnTo>
                      <a:pt x="855" y="78"/>
                    </a:lnTo>
                    <a:lnTo>
                      <a:pt x="929" y="65"/>
                    </a:lnTo>
                    <a:lnTo>
                      <a:pt x="1006" y="53"/>
                    </a:lnTo>
                    <a:lnTo>
                      <a:pt x="1085" y="43"/>
                    </a:lnTo>
                    <a:lnTo>
                      <a:pt x="1165" y="33"/>
                    </a:lnTo>
                    <a:lnTo>
                      <a:pt x="1248" y="25"/>
                    </a:lnTo>
                    <a:lnTo>
                      <a:pt x="1332" y="18"/>
                    </a:lnTo>
                    <a:lnTo>
                      <a:pt x="1418" y="12"/>
                    </a:lnTo>
                    <a:lnTo>
                      <a:pt x="1506" y="7"/>
                    </a:lnTo>
                    <a:lnTo>
                      <a:pt x="1595" y="4"/>
                    </a:lnTo>
                    <a:lnTo>
                      <a:pt x="1685" y="2"/>
                    </a:lnTo>
                    <a:lnTo>
                      <a:pt x="1776" y="0"/>
                    </a:lnTo>
                    <a:lnTo>
                      <a:pt x="1868" y="2"/>
                    </a:lnTo>
                    <a:lnTo>
                      <a:pt x="1958" y="4"/>
                    </a:lnTo>
                    <a:lnTo>
                      <a:pt x="2047" y="7"/>
                    </a:lnTo>
                    <a:lnTo>
                      <a:pt x="2135" y="12"/>
                    </a:lnTo>
                    <a:lnTo>
                      <a:pt x="2221" y="18"/>
                    </a:lnTo>
                    <a:lnTo>
                      <a:pt x="2305" y="25"/>
                    </a:lnTo>
                    <a:lnTo>
                      <a:pt x="2387" y="33"/>
                    </a:lnTo>
                    <a:lnTo>
                      <a:pt x="2468" y="43"/>
                    </a:lnTo>
                    <a:lnTo>
                      <a:pt x="2547" y="53"/>
                    </a:lnTo>
                    <a:lnTo>
                      <a:pt x="2624" y="65"/>
                    </a:lnTo>
                    <a:lnTo>
                      <a:pt x="2698" y="78"/>
                    </a:lnTo>
                    <a:lnTo>
                      <a:pt x="2770" y="92"/>
                    </a:lnTo>
                    <a:lnTo>
                      <a:pt x="2840" y="107"/>
                    </a:lnTo>
                    <a:lnTo>
                      <a:pt x="2907" y="124"/>
                    </a:lnTo>
                    <a:lnTo>
                      <a:pt x="2971" y="141"/>
                    </a:lnTo>
                    <a:lnTo>
                      <a:pt x="3033" y="158"/>
                    </a:lnTo>
                    <a:lnTo>
                      <a:pt x="3091" y="177"/>
                    </a:lnTo>
                    <a:lnTo>
                      <a:pt x="3148" y="197"/>
                    </a:lnTo>
                    <a:lnTo>
                      <a:pt x="3200" y="218"/>
                    </a:lnTo>
                    <a:lnTo>
                      <a:pt x="3250" y="240"/>
                    </a:lnTo>
                    <a:lnTo>
                      <a:pt x="3296" y="262"/>
                    </a:lnTo>
                    <a:lnTo>
                      <a:pt x="3339" y="285"/>
                    </a:lnTo>
                    <a:lnTo>
                      <a:pt x="3378" y="308"/>
                    </a:lnTo>
                    <a:lnTo>
                      <a:pt x="3414" y="334"/>
                    </a:lnTo>
                    <a:lnTo>
                      <a:pt x="3445" y="359"/>
                    </a:lnTo>
                    <a:lnTo>
                      <a:pt x="3473" y="384"/>
                    </a:lnTo>
                    <a:lnTo>
                      <a:pt x="3497" y="410"/>
                    </a:lnTo>
                    <a:lnTo>
                      <a:pt x="3518" y="438"/>
                    </a:lnTo>
                    <a:lnTo>
                      <a:pt x="3533" y="466"/>
                    </a:lnTo>
                    <a:lnTo>
                      <a:pt x="3544" y="494"/>
                    </a:lnTo>
                    <a:lnTo>
                      <a:pt x="3551" y="522"/>
                    </a:lnTo>
                    <a:lnTo>
                      <a:pt x="3553" y="5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095200" y="6510960"/>
                <a:ext cx="390600" cy="133920"/>
              </a:xfrm>
              <a:custGeom>
                <a:avLst/>
                <a:gdLst/>
                <a:ahLst/>
                <a:rect l="l" t="t" r="r" b="b"/>
                <a:pathLst>
                  <a:path w="3551" h="1117">
                    <a:moveTo>
                      <a:pt x="3551" y="550"/>
                    </a:moveTo>
                    <a:lnTo>
                      <a:pt x="3549" y="579"/>
                    </a:lnTo>
                    <a:lnTo>
                      <a:pt x="3542" y="608"/>
                    </a:lnTo>
                    <a:lnTo>
                      <a:pt x="3531" y="636"/>
                    </a:lnTo>
                    <a:lnTo>
                      <a:pt x="3515" y="664"/>
                    </a:lnTo>
                    <a:lnTo>
                      <a:pt x="3495" y="692"/>
                    </a:lnTo>
                    <a:lnTo>
                      <a:pt x="3471" y="718"/>
                    </a:lnTo>
                    <a:lnTo>
                      <a:pt x="3443" y="744"/>
                    </a:lnTo>
                    <a:lnTo>
                      <a:pt x="3412" y="771"/>
                    </a:lnTo>
                    <a:lnTo>
                      <a:pt x="3376" y="796"/>
                    </a:lnTo>
                    <a:lnTo>
                      <a:pt x="3337" y="820"/>
                    </a:lnTo>
                    <a:lnTo>
                      <a:pt x="3293" y="844"/>
                    </a:lnTo>
                    <a:lnTo>
                      <a:pt x="3248" y="867"/>
                    </a:lnTo>
                    <a:lnTo>
                      <a:pt x="3198" y="890"/>
                    </a:lnTo>
                    <a:lnTo>
                      <a:pt x="3145" y="911"/>
                    </a:lnTo>
                    <a:lnTo>
                      <a:pt x="3089" y="931"/>
                    </a:lnTo>
                    <a:lnTo>
                      <a:pt x="3031" y="951"/>
                    </a:lnTo>
                    <a:lnTo>
                      <a:pt x="2969" y="970"/>
                    </a:lnTo>
                    <a:lnTo>
                      <a:pt x="2905" y="988"/>
                    </a:lnTo>
                    <a:lnTo>
                      <a:pt x="2838" y="1005"/>
                    </a:lnTo>
                    <a:lnTo>
                      <a:pt x="2768" y="1020"/>
                    </a:lnTo>
                    <a:lnTo>
                      <a:pt x="2697" y="1035"/>
                    </a:lnTo>
                    <a:lnTo>
                      <a:pt x="2622" y="1049"/>
                    </a:lnTo>
                    <a:lnTo>
                      <a:pt x="2545" y="1061"/>
                    </a:lnTo>
                    <a:lnTo>
                      <a:pt x="2466" y="1073"/>
                    </a:lnTo>
                    <a:lnTo>
                      <a:pt x="2385" y="1083"/>
                    </a:lnTo>
                    <a:lnTo>
                      <a:pt x="2304" y="1092"/>
                    </a:lnTo>
                    <a:lnTo>
                      <a:pt x="2219" y="1100"/>
                    </a:lnTo>
                    <a:lnTo>
                      <a:pt x="2133" y="1106"/>
                    </a:lnTo>
                    <a:lnTo>
                      <a:pt x="2046" y="1111"/>
                    </a:lnTo>
                    <a:lnTo>
                      <a:pt x="1957" y="1114"/>
                    </a:lnTo>
                    <a:lnTo>
                      <a:pt x="1866" y="1117"/>
                    </a:lnTo>
                    <a:lnTo>
                      <a:pt x="1775" y="1117"/>
                    </a:lnTo>
                    <a:lnTo>
                      <a:pt x="1685" y="1117"/>
                    </a:lnTo>
                    <a:lnTo>
                      <a:pt x="1594" y="1114"/>
                    </a:lnTo>
                    <a:lnTo>
                      <a:pt x="1505" y="1111"/>
                    </a:lnTo>
                    <a:lnTo>
                      <a:pt x="1418" y="1106"/>
                    </a:lnTo>
                    <a:lnTo>
                      <a:pt x="1332" y="1100"/>
                    </a:lnTo>
                    <a:lnTo>
                      <a:pt x="1247" y="1092"/>
                    </a:lnTo>
                    <a:lnTo>
                      <a:pt x="1165" y="1083"/>
                    </a:lnTo>
                    <a:lnTo>
                      <a:pt x="1085" y="1073"/>
                    </a:lnTo>
                    <a:lnTo>
                      <a:pt x="1006" y="1061"/>
                    </a:lnTo>
                    <a:lnTo>
                      <a:pt x="929" y="1049"/>
                    </a:lnTo>
                    <a:lnTo>
                      <a:pt x="854" y="1035"/>
                    </a:lnTo>
                    <a:lnTo>
                      <a:pt x="783" y="1020"/>
                    </a:lnTo>
                    <a:lnTo>
                      <a:pt x="713" y="1005"/>
                    </a:lnTo>
                    <a:lnTo>
                      <a:pt x="646" y="988"/>
                    </a:lnTo>
                    <a:lnTo>
                      <a:pt x="582" y="970"/>
                    </a:lnTo>
                    <a:lnTo>
                      <a:pt x="520" y="951"/>
                    </a:lnTo>
                    <a:lnTo>
                      <a:pt x="462" y="931"/>
                    </a:lnTo>
                    <a:lnTo>
                      <a:pt x="406" y="911"/>
                    </a:lnTo>
                    <a:lnTo>
                      <a:pt x="352" y="890"/>
                    </a:lnTo>
                    <a:lnTo>
                      <a:pt x="303" y="867"/>
                    </a:lnTo>
                    <a:lnTo>
                      <a:pt x="258" y="844"/>
                    </a:lnTo>
                    <a:lnTo>
                      <a:pt x="214" y="820"/>
                    </a:lnTo>
                    <a:lnTo>
                      <a:pt x="176" y="796"/>
                    </a:lnTo>
                    <a:lnTo>
                      <a:pt x="139" y="771"/>
                    </a:lnTo>
                    <a:lnTo>
                      <a:pt x="108" y="744"/>
                    </a:lnTo>
                    <a:lnTo>
                      <a:pt x="80" y="718"/>
                    </a:lnTo>
                    <a:lnTo>
                      <a:pt x="57" y="692"/>
                    </a:lnTo>
                    <a:lnTo>
                      <a:pt x="36" y="664"/>
                    </a:lnTo>
                    <a:lnTo>
                      <a:pt x="20" y="636"/>
                    </a:lnTo>
                    <a:lnTo>
                      <a:pt x="9" y="608"/>
                    </a:lnTo>
                    <a:lnTo>
                      <a:pt x="2" y="579"/>
                    </a:lnTo>
                    <a:lnTo>
                      <a:pt x="0" y="550"/>
                    </a:lnTo>
                    <a:lnTo>
                      <a:pt x="2" y="520"/>
                    </a:lnTo>
                    <a:lnTo>
                      <a:pt x="9" y="492"/>
                    </a:lnTo>
                    <a:lnTo>
                      <a:pt x="20" y="464"/>
                    </a:lnTo>
                    <a:lnTo>
                      <a:pt x="36" y="436"/>
                    </a:lnTo>
                    <a:lnTo>
                      <a:pt x="57" y="409"/>
                    </a:lnTo>
                    <a:lnTo>
                      <a:pt x="80" y="382"/>
                    </a:lnTo>
                    <a:lnTo>
                      <a:pt x="108" y="357"/>
                    </a:lnTo>
                    <a:lnTo>
                      <a:pt x="139" y="332"/>
                    </a:lnTo>
                    <a:lnTo>
                      <a:pt x="176" y="307"/>
                    </a:lnTo>
                    <a:lnTo>
                      <a:pt x="214" y="283"/>
                    </a:lnTo>
                    <a:lnTo>
                      <a:pt x="258" y="260"/>
                    </a:lnTo>
                    <a:lnTo>
                      <a:pt x="303" y="238"/>
                    </a:lnTo>
                    <a:lnTo>
                      <a:pt x="352" y="217"/>
                    </a:lnTo>
                    <a:lnTo>
                      <a:pt x="406" y="195"/>
                    </a:lnTo>
                    <a:lnTo>
                      <a:pt x="462" y="176"/>
                    </a:lnTo>
                    <a:lnTo>
                      <a:pt x="520" y="157"/>
                    </a:lnTo>
                    <a:lnTo>
                      <a:pt x="582" y="139"/>
                    </a:lnTo>
                    <a:lnTo>
                      <a:pt x="646" y="122"/>
                    </a:lnTo>
                    <a:lnTo>
                      <a:pt x="713" y="107"/>
                    </a:lnTo>
                    <a:lnTo>
                      <a:pt x="783" y="91"/>
                    </a:lnTo>
                    <a:lnTo>
                      <a:pt x="854" y="77"/>
                    </a:lnTo>
                    <a:lnTo>
                      <a:pt x="929" y="64"/>
                    </a:lnTo>
                    <a:lnTo>
                      <a:pt x="1006" y="52"/>
                    </a:lnTo>
                    <a:lnTo>
                      <a:pt x="1085" y="42"/>
                    </a:lnTo>
                    <a:lnTo>
                      <a:pt x="1165" y="32"/>
                    </a:lnTo>
                    <a:lnTo>
                      <a:pt x="1247" y="24"/>
                    </a:lnTo>
                    <a:lnTo>
                      <a:pt x="1332" y="17"/>
                    </a:lnTo>
                    <a:lnTo>
                      <a:pt x="1418" y="11"/>
                    </a:lnTo>
                    <a:lnTo>
                      <a:pt x="1505" y="6"/>
                    </a:lnTo>
                    <a:lnTo>
                      <a:pt x="1594" y="3"/>
                    </a:lnTo>
                    <a:lnTo>
                      <a:pt x="1685" y="1"/>
                    </a:lnTo>
                    <a:lnTo>
                      <a:pt x="1775" y="0"/>
                    </a:lnTo>
                    <a:lnTo>
                      <a:pt x="1866" y="1"/>
                    </a:lnTo>
                    <a:lnTo>
                      <a:pt x="1957" y="3"/>
                    </a:lnTo>
                    <a:lnTo>
                      <a:pt x="2046" y="6"/>
                    </a:lnTo>
                    <a:lnTo>
                      <a:pt x="2133" y="11"/>
                    </a:lnTo>
                    <a:lnTo>
                      <a:pt x="2219" y="17"/>
                    </a:lnTo>
                    <a:lnTo>
                      <a:pt x="2304" y="24"/>
                    </a:lnTo>
                    <a:lnTo>
                      <a:pt x="2385" y="32"/>
                    </a:lnTo>
                    <a:lnTo>
                      <a:pt x="2466" y="42"/>
                    </a:lnTo>
                    <a:lnTo>
                      <a:pt x="2545" y="52"/>
                    </a:lnTo>
                    <a:lnTo>
                      <a:pt x="2622" y="64"/>
                    </a:lnTo>
                    <a:lnTo>
                      <a:pt x="2697" y="77"/>
                    </a:lnTo>
                    <a:lnTo>
                      <a:pt x="2768" y="91"/>
                    </a:lnTo>
                    <a:lnTo>
                      <a:pt x="2838" y="107"/>
                    </a:lnTo>
                    <a:lnTo>
                      <a:pt x="2905" y="122"/>
                    </a:lnTo>
                    <a:lnTo>
                      <a:pt x="2969" y="139"/>
                    </a:lnTo>
                    <a:lnTo>
                      <a:pt x="3031" y="157"/>
                    </a:lnTo>
                    <a:lnTo>
                      <a:pt x="3089" y="176"/>
                    </a:lnTo>
                    <a:lnTo>
                      <a:pt x="3145" y="195"/>
                    </a:lnTo>
                    <a:lnTo>
                      <a:pt x="3198" y="217"/>
                    </a:lnTo>
                    <a:lnTo>
                      <a:pt x="3248" y="238"/>
                    </a:lnTo>
                    <a:lnTo>
                      <a:pt x="3293" y="260"/>
                    </a:lnTo>
                    <a:lnTo>
                      <a:pt x="3337" y="283"/>
                    </a:lnTo>
                    <a:lnTo>
                      <a:pt x="3376" y="307"/>
                    </a:lnTo>
                    <a:lnTo>
                      <a:pt x="3412" y="332"/>
                    </a:lnTo>
                    <a:lnTo>
                      <a:pt x="3443" y="357"/>
                    </a:lnTo>
                    <a:lnTo>
                      <a:pt x="3471" y="382"/>
                    </a:lnTo>
                    <a:lnTo>
                      <a:pt x="3495" y="409"/>
                    </a:lnTo>
                    <a:lnTo>
                      <a:pt x="3515" y="436"/>
                    </a:lnTo>
                    <a:lnTo>
                      <a:pt x="3531" y="464"/>
                    </a:lnTo>
                    <a:lnTo>
                      <a:pt x="3542" y="492"/>
                    </a:lnTo>
                    <a:lnTo>
                      <a:pt x="3549" y="520"/>
                    </a:lnTo>
                    <a:lnTo>
                      <a:pt x="3551" y="5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095200" y="6510960"/>
                <a:ext cx="390600" cy="132840"/>
              </a:xfrm>
              <a:custGeom>
                <a:avLst/>
                <a:gdLst/>
                <a:ahLst/>
                <a:rect l="l" t="t" r="r" b="b"/>
                <a:pathLst>
                  <a:path w="3547" h="1115">
                    <a:moveTo>
                      <a:pt x="3547" y="549"/>
                    </a:moveTo>
                    <a:lnTo>
                      <a:pt x="3545" y="578"/>
                    </a:lnTo>
                    <a:lnTo>
                      <a:pt x="3538" y="606"/>
                    </a:lnTo>
                    <a:lnTo>
                      <a:pt x="3527" y="635"/>
                    </a:lnTo>
                    <a:lnTo>
                      <a:pt x="3512" y="663"/>
                    </a:lnTo>
                    <a:lnTo>
                      <a:pt x="3491" y="690"/>
                    </a:lnTo>
                    <a:lnTo>
                      <a:pt x="3467" y="717"/>
                    </a:lnTo>
                    <a:lnTo>
                      <a:pt x="3440" y="743"/>
                    </a:lnTo>
                    <a:lnTo>
                      <a:pt x="3408" y="770"/>
                    </a:lnTo>
                    <a:lnTo>
                      <a:pt x="3372" y="794"/>
                    </a:lnTo>
                    <a:lnTo>
                      <a:pt x="3333" y="819"/>
                    </a:lnTo>
                    <a:lnTo>
                      <a:pt x="3290" y="842"/>
                    </a:lnTo>
                    <a:lnTo>
                      <a:pt x="3244" y="866"/>
                    </a:lnTo>
                    <a:lnTo>
                      <a:pt x="3195" y="888"/>
                    </a:lnTo>
                    <a:lnTo>
                      <a:pt x="3142" y="909"/>
                    </a:lnTo>
                    <a:lnTo>
                      <a:pt x="3086" y="930"/>
                    </a:lnTo>
                    <a:lnTo>
                      <a:pt x="3028" y="949"/>
                    </a:lnTo>
                    <a:lnTo>
                      <a:pt x="2966" y="969"/>
                    </a:lnTo>
                    <a:lnTo>
                      <a:pt x="2902" y="986"/>
                    </a:lnTo>
                    <a:lnTo>
                      <a:pt x="2835" y="1003"/>
                    </a:lnTo>
                    <a:lnTo>
                      <a:pt x="2765" y="1019"/>
                    </a:lnTo>
                    <a:lnTo>
                      <a:pt x="2694" y="1033"/>
                    </a:lnTo>
                    <a:lnTo>
                      <a:pt x="2619" y="1047"/>
                    </a:lnTo>
                    <a:lnTo>
                      <a:pt x="2543" y="1059"/>
                    </a:lnTo>
                    <a:lnTo>
                      <a:pt x="2464" y="1071"/>
                    </a:lnTo>
                    <a:lnTo>
                      <a:pt x="2383" y="1081"/>
                    </a:lnTo>
                    <a:lnTo>
                      <a:pt x="2301" y="1090"/>
                    </a:lnTo>
                    <a:lnTo>
                      <a:pt x="2217" y="1098"/>
                    </a:lnTo>
                    <a:lnTo>
                      <a:pt x="2131" y="1104"/>
                    </a:lnTo>
                    <a:lnTo>
                      <a:pt x="2044" y="1109"/>
                    </a:lnTo>
                    <a:lnTo>
                      <a:pt x="1955" y="1113"/>
                    </a:lnTo>
                    <a:lnTo>
                      <a:pt x="1864" y="1115"/>
                    </a:lnTo>
                    <a:lnTo>
                      <a:pt x="1773" y="1115"/>
                    </a:lnTo>
                    <a:lnTo>
                      <a:pt x="1683" y="1115"/>
                    </a:lnTo>
                    <a:lnTo>
                      <a:pt x="1592" y="1113"/>
                    </a:lnTo>
                    <a:lnTo>
                      <a:pt x="1504" y="1109"/>
                    </a:lnTo>
                    <a:lnTo>
                      <a:pt x="1416" y="1104"/>
                    </a:lnTo>
                    <a:lnTo>
                      <a:pt x="1330" y="1098"/>
                    </a:lnTo>
                    <a:lnTo>
                      <a:pt x="1246" y="1090"/>
                    </a:lnTo>
                    <a:lnTo>
                      <a:pt x="1163" y="1081"/>
                    </a:lnTo>
                    <a:lnTo>
                      <a:pt x="1083" y="1071"/>
                    </a:lnTo>
                    <a:lnTo>
                      <a:pt x="1005" y="1059"/>
                    </a:lnTo>
                    <a:lnTo>
                      <a:pt x="928" y="1047"/>
                    </a:lnTo>
                    <a:lnTo>
                      <a:pt x="853" y="1033"/>
                    </a:lnTo>
                    <a:lnTo>
                      <a:pt x="782" y="1019"/>
                    </a:lnTo>
                    <a:lnTo>
                      <a:pt x="712" y="1003"/>
                    </a:lnTo>
                    <a:lnTo>
                      <a:pt x="645" y="986"/>
                    </a:lnTo>
                    <a:lnTo>
                      <a:pt x="581" y="969"/>
                    </a:lnTo>
                    <a:lnTo>
                      <a:pt x="519" y="949"/>
                    </a:lnTo>
                    <a:lnTo>
                      <a:pt x="461" y="930"/>
                    </a:lnTo>
                    <a:lnTo>
                      <a:pt x="405" y="909"/>
                    </a:lnTo>
                    <a:lnTo>
                      <a:pt x="352" y="888"/>
                    </a:lnTo>
                    <a:lnTo>
                      <a:pt x="303" y="866"/>
                    </a:lnTo>
                    <a:lnTo>
                      <a:pt x="257" y="842"/>
                    </a:lnTo>
                    <a:lnTo>
                      <a:pt x="214" y="819"/>
                    </a:lnTo>
                    <a:lnTo>
                      <a:pt x="175" y="794"/>
                    </a:lnTo>
                    <a:lnTo>
                      <a:pt x="139" y="770"/>
                    </a:lnTo>
                    <a:lnTo>
                      <a:pt x="107" y="743"/>
                    </a:lnTo>
                    <a:lnTo>
                      <a:pt x="80" y="717"/>
                    </a:lnTo>
                    <a:lnTo>
                      <a:pt x="56" y="690"/>
                    </a:lnTo>
                    <a:lnTo>
                      <a:pt x="35" y="663"/>
                    </a:lnTo>
                    <a:lnTo>
                      <a:pt x="20" y="635"/>
                    </a:lnTo>
                    <a:lnTo>
                      <a:pt x="9" y="606"/>
                    </a:lnTo>
                    <a:lnTo>
                      <a:pt x="2" y="578"/>
                    </a:lnTo>
                    <a:lnTo>
                      <a:pt x="0" y="549"/>
                    </a:lnTo>
                    <a:lnTo>
                      <a:pt x="2" y="519"/>
                    </a:lnTo>
                    <a:lnTo>
                      <a:pt x="9" y="491"/>
                    </a:lnTo>
                    <a:lnTo>
                      <a:pt x="20" y="463"/>
                    </a:lnTo>
                    <a:lnTo>
                      <a:pt x="35" y="436"/>
                    </a:lnTo>
                    <a:lnTo>
                      <a:pt x="56" y="408"/>
                    </a:lnTo>
                    <a:lnTo>
                      <a:pt x="80" y="382"/>
                    </a:lnTo>
                    <a:lnTo>
                      <a:pt x="107" y="356"/>
                    </a:lnTo>
                    <a:lnTo>
                      <a:pt x="139" y="331"/>
                    </a:lnTo>
                    <a:lnTo>
                      <a:pt x="175" y="306"/>
                    </a:lnTo>
                    <a:lnTo>
                      <a:pt x="214" y="282"/>
                    </a:lnTo>
                    <a:lnTo>
                      <a:pt x="257" y="260"/>
                    </a:lnTo>
                    <a:lnTo>
                      <a:pt x="303" y="238"/>
                    </a:lnTo>
                    <a:lnTo>
                      <a:pt x="352" y="216"/>
                    </a:lnTo>
                    <a:lnTo>
                      <a:pt x="405" y="195"/>
                    </a:lnTo>
                    <a:lnTo>
                      <a:pt x="461" y="175"/>
                    </a:lnTo>
                    <a:lnTo>
                      <a:pt x="519" y="157"/>
                    </a:lnTo>
                    <a:lnTo>
                      <a:pt x="581" y="139"/>
                    </a:lnTo>
                    <a:lnTo>
                      <a:pt x="645" y="122"/>
                    </a:lnTo>
                    <a:lnTo>
                      <a:pt x="712" y="106"/>
                    </a:lnTo>
                    <a:lnTo>
                      <a:pt x="782" y="90"/>
                    </a:lnTo>
                    <a:lnTo>
                      <a:pt x="853" y="77"/>
                    </a:lnTo>
                    <a:lnTo>
                      <a:pt x="928" y="64"/>
                    </a:lnTo>
                    <a:lnTo>
                      <a:pt x="1005" y="52"/>
                    </a:lnTo>
                    <a:lnTo>
                      <a:pt x="1083" y="41"/>
                    </a:lnTo>
                    <a:lnTo>
                      <a:pt x="1163" y="32"/>
                    </a:lnTo>
                    <a:lnTo>
                      <a:pt x="1246" y="24"/>
                    </a:lnTo>
                    <a:lnTo>
                      <a:pt x="1330" y="17"/>
                    </a:lnTo>
                    <a:lnTo>
                      <a:pt x="1416" y="11"/>
                    </a:lnTo>
                    <a:lnTo>
                      <a:pt x="1504" y="6"/>
                    </a:lnTo>
                    <a:lnTo>
                      <a:pt x="1592" y="3"/>
                    </a:lnTo>
                    <a:lnTo>
                      <a:pt x="1683" y="1"/>
                    </a:lnTo>
                    <a:lnTo>
                      <a:pt x="1773" y="0"/>
                    </a:lnTo>
                    <a:lnTo>
                      <a:pt x="1864" y="1"/>
                    </a:lnTo>
                    <a:lnTo>
                      <a:pt x="1955" y="3"/>
                    </a:lnTo>
                    <a:lnTo>
                      <a:pt x="2044" y="6"/>
                    </a:lnTo>
                    <a:lnTo>
                      <a:pt x="2131" y="11"/>
                    </a:lnTo>
                    <a:lnTo>
                      <a:pt x="2217" y="17"/>
                    </a:lnTo>
                    <a:lnTo>
                      <a:pt x="2301" y="24"/>
                    </a:lnTo>
                    <a:lnTo>
                      <a:pt x="2383" y="32"/>
                    </a:lnTo>
                    <a:lnTo>
                      <a:pt x="2464" y="41"/>
                    </a:lnTo>
                    <a:lnTo>
                      <a:pt x="2543" y="52"/>
                    </a:lnTo>
                    <a:lnTo>
                      <a:pt x="2619" y="64"/>
                    </a:lnTo>
                    <a:lnTo>
                      <a:pt x="2694" y="77"/>
                    </a:lnTo>
                    <a:lnTo>
                      <a:pt x="2765" y="90"/>
                    </a:lnTo>
                    <a:lnTo>
                      <a:pt x="2835" y="106"/>
                    </a:lnTo>
                    <a:lnTo>
                      <a:pt x="2902" y="122"/>
                    </a:lnTo>
                    <a:lnTo>
                      <a:pt x="2966" y="139"/>
                    </a:lnTo>
                    <a:lnTo>
                      <a:pt x="3028" y="157"/>
                    </a:lnTo>
                    <a:lnTo>
                      <a:pt x="3086" y="175"/>
                    </a:lnTo>
                    <a:lnTo>
                      <a:pt x="3142" y="195"/>
                    </a:lnTo>
                    <a:lnTo>
                      <a:pt x="3195" y="216"/>
                    </a:lnTo>
                    <a:lnTo>
                      <a:pt x="3244" y="238"/>
                    </a:lnTo>
                    <a:lnTo>
                      <a:pt x="3290" y="260"/>
                    </a:lnTo>
                    <a:lnTo>
                      <a:pt x="3333" y="282"/>
                    </a:lnTo>
                    <a:lnTo>
                      <a:pt x="3372" y="306"/>
                    </a:lnTo>
                    <a:lnTo>
                      <a:pt x="3408" y="331"/>
                    </a:lnTo>
                    <a:lnTo>
                      <a:pt x="3440" y="356"/>
                    </a:lnTo>
                    <a:lnTo>
                      <a:pt x="3467" y="382"/>
                    </a:lnTo>
                    <a:lnTo>
                      <a:pt x="3491" y="408"/>
                    </a:lnTo>
                    <a:lnTo>
                      <a:pt x="3512" y="436"/>
                    </a:lnTo>
                    <a:lnTo>
                      <a:pt x="3527" y="463"/>
                    </a:lnTo>
                    <a:lnTo>
                      <a:pt x="3538" y="491"/>
                    </a:lnTo>
                    <a:lnTo>
                      <a:pt x="3545" y="519"/>
                    </a:lnTo>
                    <a:lnTo>
                      <a:pt x="3547" y="5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095200" y="6510960"/>
                <a:ext cx="390600" cy="132840"/>
              </a:xfrm>
              <a:custGeom>
                <a:avLst/>
                <a:gdLst/>
                <a:ahLst/>
                <a:rect l="l" t="t" r="r" b="b"/>
                <a:pathLst>
                  <a:path w="3545" h="1114">
                    <a:moveTo>
                      <a:pt x="3545" y="548"/>
                    </a:moveTo>
                    <a:lnTo>
                      <a:pt x="3543" y="577"/>
                    </a:lnTo>
                    <a:lnTo>
                      <a:pt x="3536" y="605"/>
                    </a:lnTo>
                    <a:lnTo>
                      <a:pt x="3525" y="633"/>
                    </a:lnTo>
                    <a:lnTo>
                      <a:pt x="3509" y="662"/>
                    </a:lnTo>
                    <a:lnTo>
                      <a:pt x="3489" y="689"/>
                    </a:lnTo>
                    <a:lnTo>
                      <a:pt x="3465" y="716"/>
                    </a:lnTo>
                    <a:lnTo>
                      <a:pt x="3438" y="742"/>
                    </a:lnTo>
                    <a:lnTo>
                      <a:pt x="3406" y="768"/>
                    </a:lnTo>
                    <a:lnTo>
                      <a:pt x="3370" y="793"/>
                    </a:lnTo>
                    <a:lnTo>
                      <a:pt x="3331" y="817"/>
                    </a:lnTo>
                    <a:lnTo>
                      <a:pt x="3288" y="841"/>
                    </a:lnTo>
                    <a:lnTo>
                      <a:pt x="3242" y="864"/>
                    </a:lnTo>
                    <a:lnTo>
                      <a:pt x="3192" y="886"/>
                    </a:lnTo>
                    <a:lnTo>
                      <a:pt x="3140" y="908"/>
                    </a:lnTo>
                    <a:lnTo>
                      <a:pt x="3084" y="928"/>
                    </a:lnTo>
                    <a:lnTo>
                      <a:pt x="3026" y="947"/>
                    </a:lnTo>
                    <a:lnTo>
                      <a:pt x="2964" y="967"/>
                    </a:lnTo>
                    <a:lnTo>
                      <a:pt x="2900" y="985"/>
                    </a:lnTo>
                    <a:lnTo>
                      <a:pt x="2833" y="1001"/>
                    </a:lnTo>
                    <a:lnTo>
                      <a:pt x="2763" y="1017"/>
                    </a:lnTo>
                    <a:lnTo>
                      <a:pt x="2692" y="1031"/>
                    </a:lnTo>
                    <a:lnTo>
                      <a:pt x="2618" y="1045"/>
                    </a:lnTo>
                    <a:lnTo>
                      <a:pt x="2541" y="1057"/>
                    </a:lnTo>
                    <a:lnTo>
                      <a:pt x="2462" y="1070"/>
                    </a:lnTo>
                    <a:lnTo>
                      <a:pt x="2381" y="1080"/>
                    </a:lnTo>
                    <a:lnTo>
                      <a:pt x="2300" y="1088"/>
                    </a:lnTo>
                    <a:lnTo>
                      <a:pt x="2216" y="1096"/>
                    </a:lnTo>
                    <a:lnTo>
                      <a:pt x="2130" y="1102"/>
                    </a:lnTo>
                    <a:lnTo>
                      <a:pt x="2042" y="1107"/>
                    </a:lnTo>
                    <a:lnTo>
                      <a:pt x="1953" y="1111"/>
                    </a:lnTo>
                    <a:lnTo>
                      <a:pt x="1863" y="1113"/>
                    </a:lnTo>
                    <a:lnTo>
                      <a:pt x="1772" y="1114"/>
                    </a:lnTo>
                    <a:lnTo>
                      <a:pt x="1682" y="1113"/>
                    </a:lnTo>
                    <a:lnTo>
                      <a:pt x="1592" y="1111"/>
                    </a:lnTo>
                    <a:lnTo>
                      <a:pt x="1503" y="1107"/>
                    </a:lnTo>
                    <a:lnTo>
                      <a:pt x="1415" y="1102"/>
                    </a:lnTo>
                    <a:lnTo>
                      <a:pt x="1329" y="1096"/>
                    </a:lnTo>
                    <a:lnTo>
                      <a:pt x="1245" y="1088"/>
                    </a:lnTo>
                    <a:lnTo>
                      <a:pt x="1163" y="1080"/>
                    </a:lnTo>
                    <a:lnTo>
                      <a:pt x="1083" y="1070"/>
                    </a:lnTo>
                    <a:lnTo>
                      <a:pt x="1004" y="1057"/>
                    </a:lnTo>
                    <a:lnTo>
                      <a:pt x="928" y="1045"/>
                    </a:lnTo>
                    <a:lnTo>
                      <a:pt x="853" y="1031"/>
                    </a:lnTo>
                    <a:lnTo>
                      <a:pt x="782" y="1017"/>
                    </a:lnTo>
                    <a:lnTo>
                      <a:pt x="712" y="1001"/>
                    </a:lnTo>
                    <a:lnTo>
                      <a:pt x="645" y="985"/>
                    </a:lnTo>
                    <a:lnTo>
                      <a:pt x="581" y="967"/>
                    </a:lnTo>
                    <a:lnTo>
                      <a:pt x="519" y="947"/>
                    </a:lnTo>
                    <a:lnTo>
                      <a:pt x="461" y="928"/>
                    </a:lnTo>
                    <a:lnTo>
                      <a:pt x="405" y="908"/>
                    </a:lnTo>
                    <a:lnTo>
                      <a:pt x="352" y="886"/>
                    </a:lnTo>
                    <a:lnTo>
                      <a:pt x="303" y="864"/>
                    </a:lnTo>
                    <a:lnTo>
                      <a:pt x="257" y="841"/>
                    </a:lnTo>
                    <a:lnTo>
                      <a:pt x="214" y="817"/>
                    </a:lnTo>
                    <a:lnTo>
                      <a:pt x="175" y="793"/>
                    </a:lnTo>
                    <a:lnTo>
                      <a:pt x="139" y="768"/>
                    </a:lnTo>
                    <a:lnTo>
                      <a:pt x="108" y="742"/>
                    </a:lnTo>
                    <a:lnTo>
                      <a:pt x="80" y="716"/>
                    </a:lnTo>
                    <a:lnTo>
                      <a:pt x="56" y="689"/>
                    </a:lnTo>
                    <a:lnTo>
                      <a:pt x="36" y="662"/>
                    </a:lnTo>
                    <a:lnTo>
                      <a:pt x="20" y="633"/>
                    </a:lnTo>
                    <a:lnTo>
                      <a:pt x="9" y="605"/>
                    </a:lnTo>
                    <a:lnTo>
                      <a:pt x="2" y="577"/>
                    </a:lnTo>
                    <a:lnTo>
                      <a:pt x="0" y="548"/>
                    </a:lnTo>
                    <a:lnTo>
                      <a:pt x="2" y="518"/>
                    </a:lnTo>
                    <a:lnTo>
                      <a:pt x="9" y="490"/>
                    </a:lnTo>
                    <a:lnTo>
                      <a:pt x="20" y="462"/>
                    </a:lnTo>
                    <a:lnTo>
                      <a:pt x="36" y="435"/>
                    </a:lnTo>
                    <a:lnTo>
                      <a:pt x="56" y="407"/>
                    </a:lnTo>
                    <a:lnTo>
                      <a:pt x="80" y="381"/>
                    </a:lnTo>
                    <a:lnTo>
                      <a:pt x="108" y="356"/>
                    </a:lnTo>
                    <a:lnTo>
                      <a:pt x="139" y="331"/>
                    </a:lnTo>
                    <a:lnTo>
                      <a:pt x="175" y="305"/>
                    </a:lnTo>
                    <a:lnTo>
                      <a:pt x="214" y="282"/>
                    </a:lnTo>
                    <a:lnTo>
                      <a:pt x="257" y="259"/>
                    </a:lnTo>
                    <a:lnTo>
                      <a:pt x="303" y="237"/>
                    </a:lnTo>
                    <a:lnTo>
                      <a:pt x="352" y="216"/>
                    </a:lnTo>
                    <a:lnTo>
                      <a:pt x="405" y="195"/>
                    </a:lnTo>
                    <a:lnTo>
                      <a:pt x="461" y="175"/>
                    </a:lnTo>
                    <a:lnTo>
                      <a:pt x="519" y="156"/>
                    </a:lnTo>
                    <a:lnTo>
                      <a:pt x="581" y="139"/>
                    </a:lnTo>
                    <a:lnTo>
                      <a:pt x="645" y="122"/>
                    </a:lnTo>
                    <a:lnTo>
                      <a:pt x="712" y="106"/>
                    </a:lnTo>
                    <a:lnTo>
                      <a:pt x="782" y="90"/>
                    </a:lnTo>
                    <a:lnTo>
                      <a:pt x="853" y="76"/>
                    </a:lnTo>
                    <a:lnTo>
                      <a:pt x="928" y="64"/>
                    </a:lnTo>
                    <a:lnTo>
                      <a:pt x="1004" y="52"/>
                    </a:lnTo>
                    <a:lnTo>
                      <a:pt x="1083" y="41"/>
                    </a:lnTo>
                    <a:lnTo>
                      <a:pt x="1163" y="32"/>
                    </a:lnTo>
                    <a:lnTo>
                      <a:pt x="1245" y="24"/>
                    </a:lnTo>
                    <a:lnTo>
                      <a:pt x="1329" y="17"/>
                    </a:lnTo>
                    <a:lnTo>
                      <a:pt x="1415" y="11"/>
                    </a:lnTo>
                    <a:lnTo>
                      <a:pt x="1503" y="6"/>
                    </a:lnTo>
                    <a:lnTo>
                      <a:pt x="1592" y="3"/>
                    </a:lnTo>
                    <a:lnTo>
                      <a:pt x="1682" y="1"/>
                    </a:lnTo>
                    <a:lnTo>
                      <a:pt x="1772" y="0"/>
                    </a:lnTo>
                    <a:lnTo>
                      <a:pt x="1863" y="1"/>
                    </a:lnTo>
                    <a:lnTo>
                      <a:pt x="1953" y="3"/>
                    </a:lnTo>
                    <a:lnTo>
                      <a:pt x="2042" y="6"/>
                    </a:lnTo>
                    <a:lnTo>
                      <a:pt x="2130" y="11"/>
                    </a:lnTo>
                    <a:lnTo>
                      <a:pt x="2216" y="17"/>
                    </a:lnTo>
                    <a:lnTo>
                      <a:pt x="2300" y="24"/>
                    </a:lnTo>
                    <a:lnTo>
                      <a:pt x="2381" y="32"/>
                    </a:lnTo>
                    <a:lnTo>
                      <a:pt x="2462" y="41"/>
                    </a:lnTo>
                    <a:lnTo>
                      <a:pt x="2541" y="52"/>
                    </a:lnTo>
                    <a:lnTo>
                      <a:pt x="2618" y="64"/>
                    </a:lnTo>
                    <a:lnTo>
                      <a:pt x="2692" y="76"/>
                    </a:lnTo>
                    <a:lnTo>
                      <a:pt x="2763" y="90"/>
                    </a:lnTo>
                    <a:lnTo>
                      <a:pt x="2833" y="106"/>
                    </a:lnTo>
                    <a:lnTo>
                      <a:pt x="2900" y="122"/>
                    </a:lnTo>
                    <a:lnTo>
                      <a:pt x="2964" y="139"/>
                    </a:lnTo>
                    <a:lnTo>
                      <a:pt x="3026" y="156"/>
                    </a:lnTo>
                    <a:lnTo>
                      <a:pt x="3084" y="175"/>
                    </a:lnTo>
                    <a:lnTo>
                      <a:pt x="3140" y="195"/>
                    </a:lnTo>
                    <a:lnTo>
                      <a:pt x="3192" y="216"/>
                    </a:lnTo>
                    <a:lnTo>
                      <a:pt x="3242" y="237"/>
                    </a:lnTo>
                    <a:lnTo>
                      <a:pt x="3288" y="259"/>
                    </a:lnTo>
                    <a:lnTo>
                      <a:pt x="3331" y="282"/>
                    </a:lnTo>
                    <a:lnTo>
                      <a:pt x="3370" y="305"/>
                    </a:lnTo>
                    <a:lnTo>
                      <a:pt x="3406" y="331"/>
                    </a:lnTo>
                    <a:lnTo>
                      <a:pt x="3438" y="356"/>
                    </a:lnTo>
                    <a:lnTo>
                      <a:pt x="3465" y="381"/>
                    </a:lnTo>
                    <a:lnTo>
                      <a:pt x="3489" y="407"/>
                    </a:lnTo>
                    <a:lnTo>
                      <a:pt x="3509" y="435"/>
                    </a:lnTo>
                    <a:lnTo>
                      <a:pt x="3525" y="462"/>
                    </a:lnTo>
                    <a:lnTo>
                      <a:pt x="3536" y="490"/>
                    </a:lnTo>
                    <a:lnTo>
                      <a:pt x="3543" y="518"/>
                    </a:lnTo>
                    <a:lnTo>
                      <a:pt x="3545" y="5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095200" y="6510960"/>
                <a:ext cx="390600" cy="132840"/>
              </a:xfrm>
              <a:custGeom>
                <a:avLst/>
                <a:gdLst/>
                <a:ahLst/>
                <a:rect l="l" t="t" r="r" b="b"/>
                <a:pathLst>
                  <a:path w="3543" h="1112">
                    <a:moveTo>
                      <a:pt x="3543" y="547"/>
                    </a:moveTo>
                    <a:lnTo>
                      <a:pt x="3540" y="576"/>
                    </a:lnTo>
                    <a:lnTo>
                      <a:pt x="3534" y="604"/>
                    </a:lnTo>
                    <a:lnTo>
                      <a:pt x="3522" y="632"/>
                    </a:lnTo>
                    <a:lnTo>
                      <a:pt x="3507" y="661"/>
                    </a:lnTo>
                    <a:lnTo>
                      <a:pt x="3486" y="688"/>
                    </a:lnTo>
                    <a:lnTo>
                      <a:pt x="3463" y="714"/>
                    </a:lnTo>
                    <a:lnTo>
                      <a:pt x="3435" y="740"/>
                    </a:lnTo>
                    <a:lnTo>
                      <a:pt x="3404" y="767"/>
                    </a:lnTo>
                    <a:lnTo>
                      <a:pt x="3368" y="792"/>
                    </a:lnTo>
                    <a:lnTo>
                      <a:pt x="3329" y="816"/>
                    </a:lnTo>
                    <a:lnTo>
                      <a:pt x="3286" y="839"/>
                    </a:lnTo>
                    <a:lnTo>
                      <a:pt x="3240" y="863"/>
                    </a:lnTo>
                    <a:lnTo>
                      <a:pt x="3190" y="885"/>
                    </a:lnTo>
                    <a:lnTo>
                      <a:pt x="3138" y="906"/>
                    </a:lnTo>
                    <a:lnTo>
                      <a:pt x="3082" y="926"/>
                    </a:lnTo>
                    <a:lnTo>
                      <a:pt x="3024" y="946"/>
                    </a:lnTo>
                    <a:lnTo>
                      <a:pt x="2962" y="965"/>
                    </a:lnTo>
                    <a:lnTo>
                      <a:pt x="2898" y="983"/>
                    </a:lnTo>
                    <a:lnTo>
                      <a:pt x="2831" y="1000"/>
                    </a:lnTo>
                    <a:lnTo>
                      <a:pt x="2761" y="1015"/>
                    </a:lnTo>
                    <a:lnTo>
                      <a:pt x="2689" y="1030"/>
                    </a:lnTo>
                    <a:lnTo>
                      <a:pt x="2616" y="1043"/>
                    </a:lnTo>
                    <a:lnTo>
                      <a:pt x="2539" y="1056"/>
                    </a:lnTo>
                    <a:lnTo>
                      <a:pt x="2461" y="1068"/>
                    </a:lnTo>
                    <a:lnTo>
                      <a:pt x="2380" y="1078"/>
                    </a:lnTo>
                    <a:lnTo>
                      <a:pt x="2298" y="1087"/>
                    </a:lnTo>
                    <a:lnTo>
                      <a:pt x="2214" y="1094"/>
                    </a:lnTo>
                    <a:lnTo>
                      <a:pt x="2128" y="1100"/>
                    </a:lnTo>
                    <a:lnTo>
                      <a:pt x="2041" y="1105"/>
                    </a:lnTo>
                    <a:lnTo>
                      <a:pt x="1952" y="1109"/>
                    </a:lnTo>
                    <a:lnTo>
                      <a:pt x="1862" y="1111"/>
                    </a:lnTo>
                    <a:lnTo>
                      <a:pt x="1771" y="1112"/>
                    </a:lnTo>
                    <a:lnTo>
                      <a:pt x="1681" y="1111"/>
                    </a:lnTo>
                    <a:lnTo>
                      <a:pt x="1591" y="1109"/>
                    </a:lnTo>
                    <a:lnTo>
                      <a:pt x="1502" y="1105"/>
                    </a:lnTo>
                    <a:lnTo>
                      <a:pt x="1415" y="1100"/>
                    </a:lnTo>
                    <a:lnTo>
                      <a:pt x="1329" y="1094"/>
                    </a:lnTo>
                    <a:lnTo>
                      <a:pt x="1245" y="1087"/>
                    </a:lnTo>
                    <a:lnTo>
                      <a:pt x="1162" y="1078"/>
                    </a:lnTo>
                    <a:lnTo>
                      <a:pt x="1082" y="1068"/>
                    </a:lnTo>
                    <a:lnTo>
                      <a:pt x="1004" y="1056"/>
                    </a:lnTo>
                    <a:lnTo>
                      <a:pt x="927" y="1043"/>
                    </a:lnTo>
                    <a:lnTo>
                      <a:pt x="853" y="1030"/>
                    </a:lnTo>
                    <a:lnTo>
                      <a:pt x="782" y="1015"/>
                    </a:lnTo>
                    <a:lnTo>
                      <a:pt x="712" y="1000"/>
                    </a:lnTo>
                    <a:lnTo>
                      <a:pt x="645" y="983"/>
                    </a:lnTo>
                    <a:lnTo>
                      <a:pt x="581" y="965"/>
                    </a:lnTo>
                    <a:lnTo>
                      <a:pt x="519" y="946"/>
                    </a:lnTo>
                    <a:lnTo>
                      <a:pt x="461" y="926"/>
                    </a:lnTo>
                    <a:lnTo>
                      <a:pt x="405" y="906"/>
                    </a:lnTo>
                    <a:lnTo>
                      <a:pt x="352" y="885"/>
                    </a:lnTo>
                    <a:lnTo>
                      <a:pt x="303" y="863"/>
                    </a:lnTo>
                    <a:lnTo>
                      <a:pt x="257" y="839"/>
                    </a:lnTo>
                    <a:lnTo>
                      <a:pt x="214" y="816"/>
                    </a:lnTo>
                    <a:lnTo>
                      <a:pt x="175" y="792"/>
                    </a:lnTo>
                    <a:lnTo>
                      <a:pt x="139" y="767"/>
                    </a:lnTo>
                    <a:lnTo>
                      <a:pt x="108" y="740"/>
                    </a:lnTo>
                    <a:lnTo>
                      <a:pt x="80" y="714"/>
                    </a:lnTo>
                    <a:lnTo>
                      <a:pt x="57" y="688"/>
                    </a:lnTo>
                    <a:lnTo>
                      <a:pt x="36" y="661"/>
                    </a:lnTo>
                    <a:lnTo>
                      <a:pt x="21" y="632"/>
                    </a:lnTo>
                    <a:lnTo>
                      <a:pt x="10" y="604"/>
                    </a:lnTo>
                    <a:lnTo>
                      <a:pt x="3" y="576"/>
                    </a:lnTo>
                    <a:lnTo>
                      <a:pt x="0" y="547"/>
                    </a:lnTo>
                    <a:lnTo>
                      <a:pt x="3" y="517"/>
                    </a:lnTo>
                    <a:lnTo>
                      <a:pt x="10" y="489"/>
                    </a:lnTo>
                    <a:lnTo>
                      <a:pt x="21" y="461"/>
                    </a:lnTo>
                    <a:lnTo>
                      <a:pt x="36" y="434"/>
                    </a:lnTo>
                    <a:lnTo>
                      <a:pt x="57" y="406"/>
                    </a:lnTo>
                    <a:lnTo>
                      <a:pt x="80" y="380"/>
                    </a:lnTo>
                    <a:lnTo>
                      <a:pt x="108" y="355"/>
                    </a:lnTo>
                    <a:lnTo>
                      <a:pt x="139" y="330"/>
                    </a:lnTo>
                    <a:lnTo>
                      <a:pt x="175" y="305"/>
                    </a:lnTo>
                    <a:lnTo>
                      <a:pt x="214" y="281"/>
                    </a:lnTo>
                    <a:lnTo>
                      <a:pt x="257" y="259"/>
                    </a:lnTo>
                    <a:lnTo>
                      <a:pt x="303" y="237"/>
                    </a:lnTo>
                    <a:lnTo>
                      <a:pt x="352" y="216"/>
                    </a:lnTo>
                    <a:lnTo>
                      <a:pt x="405" y="194"/>
                    </a:lnTo>
                    <a:lnTo>
                      <a:pt x="461" y="175"/>
                    </a:lnTo>
                    <a:lnTo>
                      <a:pt x="519" y="156"/>
                    </a:lnTo>
                    <a:lnTo>
                      <a:pt x="581" y="138"/>
                    </a:lnTo>
                    <a:lnTo>
                      <a:pt x="645" y="122"/>
                    </a:lnTo>
                    <a:lnTo>
                      <a:pt x="712" y="106"/>
                    </a:lnTo>
                    <a:lnTo>
                      <a:pt x="782" y="90"/>
                    </a:lnTo>
                    <a:lnTo>
                      <a:pt x="853" y="76"/>
                    </a:lnTo>
                    <a:lnTo>
                      <a:pt x="927" y="63"/>
                    </a:lnTo>
                    <a:lnTo>
                      <a:pt x="1004" y="52"/>
                    </a:lnTo>
                    <a:lnTo>
                      <a:pt x="1082" y="41"/>
                    </a:lnTo>
                    <a:lnTo>
                      <a:pt x="1162" y="32"/>
                    </a:lnTo>
                    <a:lnTo>
                      <a:pt x="1245" y="24"/>
                    </a:lnTo>
                    <a:lnTo>
                      <a:pt x="1329" y="16"/>
                    </a:lnTo>
                    <a:lnTo>
                      <a:pt x="1415" y="11"/>
                    </a:lnTo>
                    <a:lnTo>
                      <a:pt x="1502" y="6"/>
                    </a:lnTo>
                    <a:lnTo>
                      <a:pt x="1591" y="3"/>
                    </a:lnTo>
                    <a:lnTo>
                      <a:pt x="1681" y="1"/>
                    </a:lnTo>
                    <a:lnTo>
                      <a:pt x="1771" y="0"/>
                    </a:lnTo>
                    <a:lnTo>
                      <a:pt x="1862" y="1"/>
                    </a:lnTo>
                    <a:lnTo>
                      <a:pt x="1952" y="3"/>
                    </a:lnTo>
                    <a:lnTo>
                      <a:pt x="2041" y="6"/>
                    </a:lnTo>
                    <a:lnTo>
                      <a:pt x="2128" y="11"/>
                    </a:lnTo>
                    <a:lnTo>
                      <a:pt x="2214" y="16"/>
                    </a:lnTo>
                    <a:lnTo>
                      <a:pt x="2298" y="24"/>
                    </a:lnTo>
                    <a:lnTo>
                      <a:pt x="2380" y="32"/>
                    </a:lnTo>
                    <a:lnTo>
                      <a:pt x="2461" y="41"/>
                    </a:lnTo>
                    <a:lnTo>
                      <a:pt x="2539" y="52"/>
                    </a:lnTo>
                    <a:lnTo>
                      <a:pt x="2616" y="63"/>
                    </a:lnTo>
                    <a:lnTo>
                      <a:pt x="2689" y="76"/>
                    </a:lnTo>
                    <a:lnTo>
                      <a:pt x="2761" y="90"/>
                    </a:lnTo>
                    <a:lnTo>
                      <a:pt x="2831" y="106"/>
                    </a:lnTo>
                    <a:lnTo>
                      <a:pt x="2898" y="122"/>
                    </a:lnTo>
                    <a:lnTo>
                      <a:pt x="2962" y="138"/>
                    </a:lnTo>
                    <a:lnTo>
                      <a:pt x="3024" y="156"/>
                    </a:lnTo>
                    <a:lnTo>
                      <a:pt x="3082" y="175"/>
                    </a:lnTo>
                    <a:lnTo>
                      <a:pt x="3138" y="194"/>
                    </a:lnTo>
                    <a:lnTo>
                      <a:pt x="3190" y="216"/>
                    </a:lnTo>
                    <a:lnTo>
                      <a:pt x="3240" y="237"/>
                    </a:lnTo>
                    <a:lnTo>
                      <a:pt x="3286" y="259"/>
                    </a:lnTo>
                    <a:lnTo>
                      <a:pt x="3329" y="281"/>
                    </a:lnTo>
                    <a:lnTo>
                      <a:pt x="3368" y="305"/>
                    </a:lnTo>
                    <a:lnTo>
                      <a:pt x="3404" y="330"/>
                    </a:lnTo>
                    <a:lnTo>
                      <a:pt x="3435" y="355"/>
                    </a:lnTo>
                    <a:lnTo>
                      <a:pt x="3463" y="380"/>
                    </a:lnTo>
                    <a:lnTo>
                      <a:pt x="3486" y="406"/>
                    </a:lnTo>
                    <a:lnTo>
                      <a:pt x="3507" y="434"/>
                    </a:lnTo>
                    <a:lnTo>
                      <a:pt x="3522" y="461"/>
                    </a:lnTo>
                    <a:lnTo>
                      <a:pt x="3534" y="489"/>
                    </a:lnTo>
                    <a:lnTo>
                      <a:pt x="3540" y="517"/>
                    </a:lnTo>
                    <a:lnTo>
                      <a:pt x="3543" y="5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095200" y="6510960"/>
                <a:ext cx="390600" cy="132840"/>
              </a:xfrm>
              <a:custGeom>
                <a:avLst/>
                <a:gdLst/>
                <a:ahLst/>
                <a:rect l="l" t="t" r="r" b="b"/>
                <a:pathLst>
                  <a:path w="3539" h="1110">
                    <a:moveTo>
                      <a:pt x="3539" y="546"/>
                    </a:moveTo>
                    <a:lnTo>
                      <a:pt x="3537" y="575"/>
                    </a:lnTo>
                    <a:lnTo>
                      <a:pt x="3530" y="603"/>
                    </a:lnTo>
                    <a:lnTo>
                      <a:pt x="3519" y="631"/>
                    </a:lnTo>
                    <a:lnTo>
                      <a:pt x="3504" y="660"/>
                    </a:lnTo>
                    <a:lnTo>
                      <a:pt x="3483" y="687"/>
                    </a:lnTo>
                    <a:lnTo>
                      <a:pt x="3459" y="713"/>
                    </a:lnTo>
                    <a:lnTo>
                      <a:pt x="3432" y="739"/>
                    </a:lnTo>
                    <a:lnTo>
                      <a:pt x="3399" y="766"/>
                    </a:lnTo>
                    <a:lnTo>
                      <a:pt x="3364" y="790"/>
                    </a:lnTo>
                    <a:lnTo>
                      <a:pt x="3326" y="814"/>
                    </a:lnTo>
                    <a:lnTo>
                      <a:pt x="3282" y="838"/>
                    </a:lnTo>
                    <a:lnTo>
                      <a:pt x="3237" y="861"/>
                    </a:lnTo>
                    <a:lnTo>
                      <a:pt x="3187" y="883"/>
                    </a:lnTo>
                    <a:lnTo>
                      <a:pt x="3135" y="904"/>
                    </a:lnTo>
                    <a:lnTo>
                      <a:pt x="3079" y="925"/>
                    </a:lnTo>
                    <a:lnTo>
                      <a:pt x="3021" y="944"/>
                    </a:lnTo>
                    <a:lnTo>
                      <a:pt x="2959" y="964"/>
                    </a:lnTo>
                    <a:lnTo>
                      <a:pt x="2896" y="981"/>
                    </a:lnTo>
                    <a:lnTo>
                      <a:pt x="2828" y="998"/>
                    </a:lnTo>
                    <a:lnTo>
                      <a:pt x="2759" y="1013"/>
                    </a:lnTo>
                    <a:lnTo>
                      <a:pt x="2687" y="1028"/>
                    </a:lnTo>
                    <a:lnTo>
                      <a:pt x="2613" y="1041"/>
                    </a:lnTo>
                    <a:lnTo>
                      <a:pt x="2537" y="1054"/>
                    </a:lnTo>
                    <a:lnTo>
                      <a:pt x="2458" y="1066"/>
                    </a:lnTo>
                    <a:lnTo>
                      <a:pt x="2377" y="1076"/>
                    </a:lnTo>
                    <a:lnTo>
                      <a:pt x="2296" y="1085"/>
                    </a:lnTo>
                    <a:lnTo>
                      <a:pt x="2212" y="1092"/>
                    </a:lnTo>
                    <a:lnTo>
                      <a:pt x="2126" y="1098"/>
                    </a:lnTo>
                    <a:lnTo>
                      <a:pt x="2039" y="1103"/>
                    </a:lnTo>
                    <a:lnTo>
                      <a:pt x="1950" y="1107"/>
                    </a:lnTo>
                    <a:lnTo>
                      <a:pt x="1860" y="1109"/>
                    </a:lnTo>
                    <a:lnTo>
                      <a:pt x="1769" y="1110"/>
                    </a:lnTo>
                    <a:lnTo>
                      <a:pt x="1679" y="1109"/>
                    </a:lnTo>
                    <a:lnTo>
                      <a:pt x="1589" y="1107"/>
                    </a:lnTo>
                    <a:lnTo>
                      <a:pt x="1500" y="1103"/>
                    </a:lnTo>
                    <a:lnTo>
                      <a:pt x="1413" y="1098"/>
                    </a:lnTo>
                    <a:lnTo>
                      <a:pt x="1327" y="1092"/>
                    </a:lnTo>
                    <a:lnTo>
                      <a:pt x="1243" y="1085"/>
                    </a:lnTo>
                    <a:lnTo>
                      <a:pt x="1161" y="1076"/>
                    </a:lnTo>
                    <a:lnTo>
                      <a:pt x="1081" y="1066"/>
                    </a:lnTo>
                    <a:lnTo>
                      <a:pt x="1002" y="1054"/>
                    </a:lnTo>
                    <a:lnTo>
                      <a:pt x="926" y="1041"/>
                    </a:lnTo>
                    <a:lnTo>
                      <a:pt x="851" y="1028"/>
                    </a:lnTo>
                    <a:lnTo>
                      <a:pt x="780" y="1013"/>
                    </a:lnTo>
                    <a:lnTo>
                      <a:pt x="711" y="998"/>
                    </a:lnTo>
                    <a:lnTo>
                      <a:pt x="644" y="981"/>
                    </a:lnTo>
                    <a:lnTo>
                      <a:pt x="580" y="964"/>
                    </a:lnTo>
                    <a:lnTo>
                      <a:pt x="518" y="944"/>
                    </a:lnTo>
                    <a:lnTo>
                      <a:pt x="460" y="925"/>
                    </a:lnTo>
                    <a:lnTo>
                      <a:pt x="404" y="904"/>
                    </a:lnTo>
                    <a:lnTo>
                      <a:pt x="352" y="883"/>
                    </a:lnTo>
                    <a:lnTo>
                      <a:pt x="302" y="861"/>
                    </a:lnTo>
                    <a:lnTo>
                      <a:pt x="257" y="838"/>
                    </a:lnTo>
                    <a:lnTo>
                      <a:pt x="213" y="814"/>
                    </a:lnTo>
                    <a:lnTo>
                      <a:pt x="175" y="790"/>
                    </a:lnTo>
                    <a:lnTo>
                      <a:pt x="139" y="766"/>
                    </a:lnTo>
                    <a:lnTo>
                      <a:pt x="107" y="739"/>
                    </a:lnTo>
                    <a:lnTo>
                      <a:pt x="80" y="713"/>
                    </a:lnTo>
                    <a:lnTo>
                      <a:pt x="56" y="687"/>
                    </a:lnTo>
                    <a:lnTo>
                      <a:pt x="36" y="660"/>
                    </a:lnTo>
                    <a:lnTo>
                      <a:pt x="20" y="631"/>
                    </a:lnTo>
                    <a:lnTo>
                      <a:pt x="9" y="603"/>
                    </a:lnTo>
                    <a:lnTo>
                      <a:pt x="2" y="575"/>
                    </a:lnTo>
                    <a:lnTo>
                      <a:pt x="0" y="546"/>
                    </a:lnTo>
                    <a:lnTo>
                      <a:pt x="2" y="516"/>
                    </a:lnTo>
                    <a:lnTo>
                      <a:pt x="9" y="488"/>
                    </a:lnTo>
                    <a:lnTo>
                      <a:pt x="20" y="460"/>
                    </a:lnTo>
                    <a:lnTo>
                      <a:pt x="36" y="433"/>
                    </a:lnTo>
                    <a:lnTo>
                      <a:pt x="56" y="406"/>
                    </a:lnTo>
                    <a:lnTo>
                      <a:pt x="80" y="380"/>
                    </a:lnTo>
                    <a:lnTo>
                      <a:pt x="107" y="354"/>
                    </a:lnTo>
                    <a:lnTo>
                      <a:pt x="139" y="329"/>
                    </a:lnTo>
                    <a:lnTo>
                      <a:pt x="175" y="304"/>
                    </a:lnTo>
                    <a:lnTo>
                      <a:pt x="213" y="281"/>
                    </a:lnTo>
                    <a:lnTo>
                      <a:pt x="257" y="258"/>
                    </a:lnTo>
                    <a:lnTo>
                      <a:pt x="302" y="236"/>
                    </a:lnTo>
                    <a:lnTo>
                      <a:pt x="352" y="215"/>
                    </a:lnTo>
                    <a:lnTo>
                      <a:pt x="404" y="194"/>
                    </a:lnTo>
                    <a:lnTo>
                      <a:pt x="460" y="174"/>
                    </a:lnTo>
                    <a:lnTo>
                      <a:pt x="518" y="156"/>
                    </a:lnTo>
                    <a:lnTo>
                      <a:pt x="580" y="138"/>
                    </a:lnTo>
                    <a:lnTo>
                      <a:pt x="644" y="121"/>
                    </a:lnTo>
                    <a:lnTo>
                      <a:pt x="711" y="106"/>
                    </a:lnTo>
                    <a:lnTo>
                      <a:pt x="780" y="90"/>
                    </a:lnTo>
                    <a:lnTo>
                      <a:pt x="851" y="76"/>
                    </a:lnTo>
                    <a:lnTo>
                      <a:pt x="926" y="63"/>
                    </a:lnTo>
                    <a:lnTo>
                      <a:pt x="1002" y="52"/>
                    </a:lnTo>
                    <a:lnTo>
                      <a:pt x="1081" y="41"/>
                    </a:lnTo>
                    <a:lnTo>
                      <a:pt x="1161" y="32"/>
                    </a:lnTo>
                    <a:lnTo>
                      <a:pt x="1243" y="23"/>
                    </a:lnTo>
                    <a:lnTo>
                      <a:pt x="1327" y="16"/>
                    </a:lnTo>
                    <a:lnTo>
                      <a:pt x="1413" y="10"/>
                    </a:lnTo>
                    <a:lnTo>
                      <a:pt x="1500" y="6"/>
                    </a:lnTo>
                    <a:lnTo>
                      <a:pt x="1589" y="3"/>
                    </a:lnTo>
                    <a:lnTo>
                      <a:pt x="1679" y="1"/>
                    </a:lnTo>
                    <a:lnTo>
                      <a:pt x="1769" y="0"/>
                    </a:lnTo>
                    <a:lnTo>
                      <a:pt x="1860" y="1"/>
                    </a:lnTo>
                    <a:lnTo>
                      <a:pt x="1950" y="3"/>
                    </a:lnTo>
                    <a:lnTo>
                      <a:pt x="2039" y="6"/>
                    </a:lnTo>
                    <a:lnTo>
                      <a:pt x="2126" y="10"/>
                    </a:lnTo>
                    <a:lnTo>
                      <a:pt x="2212" y="16"/>
                    </a:lnTo>
                    <a:lnTo>
                      <a:pt x="2296" y="23"/>
                    </a:lnTo>
                    <a:lnTo>
                      <a:pt x="2377" y="32"/>
                    </a:lnTo>
                    <a:lnTo>
                      <a:pt x="2458" y="41"/>
                    </a:lnTo>
                    <a:lnTo>
                      <a:pt x="2537" y="52"/>
                    </a:lnTo>
                    <a:lnTo>
                      <a:pt x="2613" y="63"/>
                    </a:lnTo>
                    <a:lnTo>
                      <a:pt x="2687" y="76"/>
                    </a:lnTo>
                    <a:lnTo>
                      <a:pt x="2759" y="90"/>
                    </a:lnTo>
                    <a:lnTo>
                      <a:pt x="2828" y="106"/>
                    </a:lnTo>
                    <a:lnTo>
                      <a:pt x="2896" y="121"/>
                    </a:lnTo>
                    <a:lnTo>
                      <a:pt x="2959" y="138"/>
                    </a:lnTo>
                    <a:lnTo>
                      <a:pt x="3021" y="156"/>
                    </a:lnTo>
                    <a:lnTo>
                      <a:pt x="3079" y="174"/>
                    </a:lnTo>
                    <a:lnTo>
                      <a:pt x="3135" y="194"/>
                    </a:lnTo>
                    <a:lnTo>
                      <a:pt x="3187" y="215"/>
                    </a:lnTo>
                    <a:lnTo>
                      <a:pt x="3237" y="236"/>
                    </a:lnTo>
                    <a:lnTo>
                      <a:pt x="3282" y="258"/>
                    </a:lnTo>
                    <a:lnTo>
                      <a:pt x="3326" y="281"/>
                    </a:lnTo>
                    <a:lnTo>
                      <a:pt x="3364" y="304"/>
                    </a:lnTo>
                    <a:lnTo>
                      <a:pt x="3399" y="329"/>
                    </a:lnTo>
                    <a:lnTo>
                      <a:pt x="3432" y="354"/>
                    </a:lnTo>
                    <a:lnTo>
                      <a:pt x="3459" y="380"/>
                    </a:lnTo>
                    <a:lnTo>
                      <a:pt x="3483" y="406"/>
                    </a:lnTo>
                    <a:lnTo>
                      <a:pt x="3504" y="433"/>
                    </a:lnTo>
                    <a:lnTo>
                      <a:pt x="3519" y="460"/>
                    </a:lnTo>
                    <a:lnTo>
                      <a:pt x="3530" y="488"/>
                    </a:lnTo>
                    <a:lnTo>
                      <a:pt x="3537" y="516"/>
                    </a:lnTo>
                    <a:lnTo>
                      <a:pt x="3539" y="5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095200" y="6510960"/>
                <a:ext cx="390600" cy="132840"/>
              </a:xfrm>
              <a:custGeom>
                <a:avLst/>
                <a:gdLst/>
                <a:ahLst/>
                <a:rect l="l" t="t" r="r" b="b"/>
                <a:pathLst>
                  <a:path w="3537" h="1108">
                    <a:moveTo>
                      <a:pt x="3537" y="545"/>
                    </a:moveTo>
                    <a:lnTo>
                      <a:pt x="3534" y="574"/>
                    </a:lnTo>
                    <a:lnTo>
                      <a:pt x="3528" y="602"/>
                    </a:lnTo>
                    <a:lnTo>
                      <a:pt x="3517" y="630"/>
                    </a:lnTo>
                    <a:lnTo>
                      <a:pt x="3501" y="658"/>
                    </a:lnTo>
                    <a:lnTo>
                      <a:pt x="3481" y="685"/>
                    </a:lnTo>
                    <a:lnTo>
                      <a:pt x="3457" y="712"/>
                    </a:lnTo>
                    <a:lnTo>
                      <a:pt x="3430" y="738"/>
                    </a:lnTo>
                    <a:lnTo>
                      <a:pt x="3397" y="764"/>
                    </a:lnTo>
                    <a:lnTo>
                      <a:pt x="3362" y="789"/>
                    </a:lnTo>
                    <a:lnTo>
                      <a:pt x="3323" y="813"/>
                    </a:lnTo>
                    <a:lnTo>
                      <a:pt x="3280" y="836"/>
                    </a:lnTo>
                    <a:lnTo>
                      <a:pt x="3235" y="860"/>
                    </a:lnTo>
                    <a:lnTo>
                      <a:pt x="3185" y="882"/>
                    </a:lnTo>
                    <a:lnTo>
                      <a:pt x="3133" y="903"/>
                    </a:lnTo>
                    <a:lnTo>
                      <a:pt x="3077" y="923"/>
                    </a:lnTo>
                    <a:lnTo>
                      <a:pt x="3019" y="942"/>
                    </a:lnTo>
                    <a:lnTo>
                      <a:pt x="2957" y="962"/>
                    </a:lnTo>
                    <a:lnTo>
                      <a:pt x="2894" y="979"/>
                    </a:lnTo>
                    <a:lnTo>
                      <a:pt x="2827" y="996"/>
                    </a:lnTo>
                    <a:lnTo>
                      <a:pt x="2757" y="1012"/>
                    </a:lnTo>
                    <a:lnTo>
                      <a:pt x="2685" y="1026"/>
                    </a:lnTo>
                    <a:lnTo>
                      <a:pt x="2612" y="1040"/>
                    </a:lnTo>
                    <a:lnTo>
                      <a:pt x="2535" y="1052"/>
                    </a:lnTo>
                    <a:lnTo>
                      <a:pt x="2457" y="1063"/>
                    </a:lnTo>
                    <a:lnTo>
                      <a:pt x="2376" y="1074"/>
                    </a:lnTo>
                    <a:lnTo>
                      <a:pt x="2295" y="1083"/>
                    </a:lnTo>
                    <a:lnTo>
                      <a:pt x="2211" y="1090"/>
                    </a:lnTo>
                    <a:lnTo>
                      <a:pt x="2125" y="1097"/>
                    </a:lnTo>
                    <a:lnTo>
                      <a:pt x="2038" y="1101"/>
                    </a:lnTo>
                    <a:lnTo>
                      <a:pt x="1949" y="1105"/>
                    </a:lnTo>
                    <a:lnTo>
                      <a:pt x="1859" y="1107"/>
                    </a:lnTo>
                    <a:lnTo>
                      <a:pt x="1768" y="1108"/>
                    </a:lnTo>
                    <a:lnTo>
                      <a:pt x="1678" y="1107"/>
                    </a:lnTo>
                    <a:lnTo>
                      <a:pt x="1588" y="1105"/>
                    </a:lnTo>
                    <a:lnTo>
                      <a:pt x="1499" y="1101"/>
                    </a:lnTo>
                    <a:lnTo>
                      <a:pt x="1412" y="1097"/>
                    </a:lnTo>
                    <a:lnTo>
                      <a:pt x="1326" y="1090"/>
                    </a:lnTo>
                    <a:lnTo>
                      <a:pt x="1242" y="1083"/>
                    </a:lnTo>
                    <a:lnTo>
                      <a:pt x="1160" y="1074"/>
                    </a:lnTo>
                    <a:lnTo>
                      <a:pt x="1081" y="1063"/>
                    </a:lnTo>
                    <a:lnTo>
                      <a:pt x="1002" y="1052"/>
                    </a:lnTo>
                    <a:lnTo>
                      <a:pt x="926" y="1040"/>
                    </a:lnTo>
                    <a:lnTo>
                      <a:pt x="851" y="1026"/>
                    </a:lnTo>
                    <a:lnTo>
                      <a:pt x="780" y="1012"/>
                    </a:lnTo>
                    <a:lnTo>
                      <a:pt x="711" y="996"/>
                    </a:lnTo>
                    <a:lnTo>
                      <a:pt x="643" y="979"/>
                    </a:lnTo>
                    <a:lnTo>
                      <a:pt x="580" y="962"/>
                    </a:lnTo>
                    <a:lnTo>
                      <a:pt x="518" y="942"/>
                    </a:lnTo>
                    <a:lnTo>
                      <a:pt x="460" y="923"/>
                    </a:lnTo>
                    <a:lnTo>
                      <a:pt x="404" y="903"/>
                    </a:lnTo>
                    <a:lnTo>
                      <a:pt x="352" y="882"/>
                    </a:lnTo>
                    <a:lnTo>
                      <a:pt x="302" y="860"/>
                    </a:lnTo>
                    <a:lnTo>
                      <a:pt x="257" y="836"/>
                    </a:lnTo>
                    <a:lnTo>
                      <a:pt x="214" y="813"/>
                    </a:lnTo>
                    <a:lnTo>
                      <a:pt x="175" y="789"/>
                    </a:lnTo>
                    <a:lnTo>
                      <a:pt x="139" y="764"/>
                    </a:lnTo>
                    <a:lnTo>
                      <a:pt x="108" y="738"/>
                    </a:lnTo>
                    <a:lnTo>
                      <a:pt x="80" y="712"/>
                    </a:lnTo>
                    <a:lnTo>
                      <a:pt x="56" y="685"/>
                    </a:lnTo>
                    <a:lnTo>
                      <a:pt x="36" y="658"/>
                    </a:lnTo>
                    <a:lnTo>
                      <a:pt x="20" y="630"/>
                    </a:lnTo>
                    <a:lnTo>
                      <a:pt x="9" y="602"/>
                    </a:lnTo>
                    <a:lnTo>
                      <a:pt x="3" y="574"/>
                    </a:lnTo>
                    <a:lnTo>
                      <a:pt x="0" y="545"/>
                    </a:lnTo>
                    <a:lnTo>
                      <a:pt x="3" y="515"/>
                    </a:lnTo>
                    <a:lnTo>
                      <a:pt x="9" y="487"/>
                    </a:lnTo>
                    <a:lnTo>
                      <a:pt x="20" y="460"/>
                    </a:lnTo>
                    <a:lnTo>
                      <a:pt x="36" y="432"/>
                    </a:lnTo>
                    <a:lnTo>
                      <a:pt x="56" y="405"/>
                    </a:lnTo>
                    <a:lnTo>
                      <a:pt x="80" y="379"/>
                    </a:lnTo>
                    <a:lnTo>
                      <a:pt x="108" y="353"/>
                    </a:lnTo>
                    <a:lnTo>
                      <a:pt x="139" y="329"/>
                    </a:lnTo>
                    <a:lnTo>
                      <a:pt x="175" y="304"/>
                    </a:lnTo>
                    <a:lnTo>
                      <a:pt x="214" y="280"/>
                    </a:lnTo>
                    <a:lnTo>
                      <a:pt x="257" y="258"/>
                    </a:lnTo>
                    <a:lnTo>
                      <a:pt x="302" y="236"/>
                    </a:lnTo>
                    <a:lnTo>
                      <a:pt x="352" y="215"/>
                    </a:lnTo>
                    <a:lnTo>
                      <a:pt x="404" y="193"/>
                    </a:lnTo>
                    <a:lnTo>
                      <a:pt x="460" y="174"/>
                    </a:lnTo>
                    <a:lnTo>
                      <a:pt x="518" y="155"/>
                    </a:lnTo>
                    <a:lnTo>
                      <a:pt x="580" y="138"/>
                    </a:lnTo>
                    <a:lnTo>
                      <a:pt x="643" y="121"/>
                    </a:lnTo>
                    <a:lnTo>
                      <a:pt x="711" y="105"/>
                    </a:lnTo>
                    <a:lnTo>
                      <a:pt x="780" y="90"/>
                    </a:lnTo>
                    <a:lnTo>
                      <a:pt x="851" y="76"/>
                    </a:lnTo>
                    <a:lnTo>
                      <a:pt x="926" y="63"/>
                    </a:lnTo>
                    <a:lnTo>
                      <a:pt x="1002" y="51"/>
                    </a:lnTo>
                    <a:lnTo>
                      <a:pt x="1081" y="41"/>
                    </a:lnTo>
                    <a:lnTo>
                      <a:pt x="1160" y="32"/>
                    </a:lnTo>
                    <a:lnTo>
                      <a:pt x="1242" y="23"/>
                    </a:lnTo>
                    <a:lnTo>
                      <a:pt x="1326" y="16"/>
                    </a:lnTo>
                    <a:lnTo>
                      <a:pt x="1412" y="10"/>
                    </a:lnTo>
                    <a:lnTo>
                      <a:pt x="1499" y="6"/>
                    </a:lnTo>
                    <a:lnTo>
                      <a:pt x="1588" y="3"/>
                    </a:lnTo>
                    <a:lnTo>
                      <a:pt x="1678" y="0"/>
                    </a:lnTo>
                    <a:lnTo>
                      <a:pt x="1768" y="0"/>
                    </a:lnTo>
                    <a:lnTo>
                      <a:pt x="1859" y="0"/>
                    </a:lnTo>
                    <a:lnTo>
                      <a:pt x="1949" y="3"/>
                    </a:lnTo>
                    <a:lnTo>
                      <a:pt x="2038" y="6"/>
                    </a:lnTo>
                    <a:lnTo>
                      <a:pt x="2125" y="10"/>
                    </a:lnTo>
                    <a:lnTo>
                      <a:pt x="2211" y="16"/>
                    </a:lnTo>
                    <a:lnTo>
                      <a:pt x="2295" y="23"/>
                    </a:lnTo>
                    <a:lnTo>
                      <a:pt x="2376" y="32"/>
                    </a:lnTo>
                    <a:lnTo>
                      <a:pt x="2457" y="41"/>
                    </a:lnTo>
                    <a:lnTo>
                      <a:pt x="2535" y="51"/>
                    </a:lnTo>
                    <a:lnTo>
                      <a:pt x="2612" y="63"/>
                    </a:lnTo>
                    <a:lnTo>
                      <a:pt x="2685" y="76"/>
                    </a:lnTo>
                    <a:lnTo>
                      <a:pt x="2757" y="90"/>
                    </a:lnTo>
                    <a:lnTo>
                      <a:pt x="2827" y="105"/>
                    </a:lnTo>
                    <a:lnTo>
                      <a:pt x="2894" y="121"/>
                    </a:lnTo>
                    <a:lnTo>
                      <a:pt x="2957" y="138"/>
                    </a:lnTo>
                    <a:lnTo>
                      <a:pt x="3019" y="155"/>
                    </a:lnTo>
                    <a:lnTo>
                      <a:pt x="3077" y="174"/>
                    </a:lnTo>
                    <a:lnTo>
                      <a:pt x="3133" y="193"/>
                    </a:lnTo>
                    <a:lnTo>
                      <a:pt x="3185" y="215"/>
                    </a:lnTo>
                    <a:lnTo>
                      <a:pt x="3235" y="236"/>
                    </a:lnTo>
                    <a:lnTo>
                      <a:pt x="3280" y="258"/>
                    </a:lnTo>
                    <a:lnTo>
                      <a:pt x="3323" y="280"/>
                    </a:lnTo>
                    <a:lnTo>
                      <a:pt x="3362" y="304"/>
                    </a:lnTo>
                    <a:lnTo>
                      <a:pt x="3397" y="329"/>
                    </a:lnTo>
                    <a:lnTo>
                      <a:pt x="3430" y="353"/>
                    </a:lnTo>
                    <a:lnTo>
                      <a:pt x="3457" y="379"/>
                    </a:lnTo>
                    <a:lnTo>
                      <a:pt x="3481" y="405"/>
                    </a:lnTo>
                    <a:lnTo>
                      <a:pt x="3501" y="432"/>
                    </a:lnTo>
                    <a:lnTo>
                      <a:pt x="3517" y="460"/>
                    </a:lnTo>
                    <a:lnTo>
                      <a:pt x="3528" y="487"/>
                    </a:lnTo>
                    <a:lnTo>
                      <a:pt x="3534" y="515"/>
                    </a:lnTo>
                    <a:lnTo>
                      <a:pt x="3537" y="5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095200" y="6512400"/>
                <a:ext cx="390600" cy="131400"/>
              </a:xfrm>
              <a:custGeom>
                <a:avLst/>
                <a:gdLst/>
                <a:ahLst/>
                <a:rect l="l" t="t" r="r" b="b"/>
                <a:pathLst>
                  <a:path w="3533" h="1106">
                    <a:moveTo>
                      <a:pt x="3533" y="544"/>
                    </a:moveTo>
                    <a:lnTo>
                      <a:pt x="3531" y="573"/>
                    </a:lnTo>
                    <a:lnTo>
                      <a:pt x="3524" y="601"/>
                    </a:lnTo>
                    <a:lnTo>
                      <a:pt x="3513" y="629"/>
                    </a:lnTo>
                    <a:lnTo>
                      <a:pt x="3497" y="657"/>
                    </a:lnTo>
                    <a:lnTo>
                      <a:pt x="3477" y="684"/>
                    </a:lnTo>
                    <a:lnTo>
                      <a:pt x="3454" y="711"/>
                    </a:lnTo>
                    <a:lnTo>
                      <a:pt x="3426" y="737"/>
                    </a:lnTo>
                    <a:lnTo>
                      <a:pt x="3394" y="763"/>
                    </a:lnTo>
                    <a:lnTo>
                      <a:pt x="3359" y="788"/>
                    </a:lnTo>
                    <a:lnTo>
                      <a:pt x="3320" y="812"/>
                    </a:lnTo>
                    <a:lnTo>
                      <a:pt x="3277" y="835"/>
                    </a:lnTo>
                    <a:lnTo>
                      <a:pt x="3232" y="858"/>
                    </a:lnTo>
                    <a:lnTo>
                      <a:pt x="3182" y="880"/>
                    </a:lnTo>
                    <a:lnTo>
                      <a:pt x="3130" y="901"/>
                    </a:lnTo>
                    <a:lnTo>
                      <a:pt x="3074" y="921"/>
                    </a:lnTo>
                    <a:lnTo>
                      <a:pt x="3016" y="941"/>
                    </a:lnTo>
                    <a:lnTo>
                      <a:pt x="2954" y="960"/>
                    </a:lnTo>
                    <a:lnTo>
                      <a:pt x="2891" y="978"/>
                    </a:lnTo>
                    <a:lnTo>
                      <a:pt x="2824" y="994"/>
                    </a:lnTo>
                    <a:lnTo>
                      <a:pt x="2754" y="1010"/>
                    </a:lnTo>
                    <a:lnTo>
                      <a:pt x="2682" y="1024"/>
                    </a:lnTo>
                    <a:lnTo>
                      <a:pt x="2609" y="1038"/>
                    </a:lnTo>
                    <a:lnTo>
                      <a:pt x="2532" y="1050"/>
                    </a:lnTo>
                    <a:lnTo>
                      <a:pt x="2454" y="1061"/>
                    </a:lnTo>
                    <a:lnTo>
                      <a:pt x="2373" y="1072"/>
                    </a:lnTo>
                    <a:lnTo>
                      <a:pt x="2292" y="1081"/>
                    </a:lnTo>
                    <a:lnTo>
                      <a:pt x="2208" y="1088"/>
                    </a:lnTo>
                    <a:lnTo>
                      <a:pt x="2123" y="1095"/>
                    </a:lnTo>
                    <a:lnTo>
                      <a:pt x="2035" y="1100"/>
                    </a:lnTo>
                    <a:lnTo>
                      <a:pt x="1947" y="1103"/>
                    </a:lnTo>
                    <a:lnTo>
                      <a:pt x="1857" y="1105"/>
                    </a:lnTo>
                    <a:lnTo>
                      <a:pt x="1766" y="1106"/>
                    </a:lnTo>
                    <a:lnTo>
                      <a:pt x="1676" y="1105"/>
                    </a:lnTo>
                    <a:lnTo>
                      <a:pt x="1586" y="1103"/>
                    </a:lnTo>
                    <a:lnTo>
                      <a:pt x="1498" y="1100"/>
                    </a:lnTo>
                    <a:lnTo>
                      <a:pt x="1410" y="1095"/>
                    </a:lnTo>
                    <a:lnTo>
                      <a:pt x="1325" y="1088"/>
                    </a:lnTo>
                    <a:lnTo>
                      <a:pt x="1241" y="1081"/>
                    </a:lnTo>
                    <a:lnTo>
                      <a:pt x="1159" y="1072"/>
                    </a:lnTo>
                    <a:lnTo>
                      <a:pt x="1079" y="1061"/>
                    </a:lnTo>
                    <a:lnTo>
                      <a:pt x="1001" y="1050"/>
                    </a:lnTo>
                    <a:lnTo>
                      <a:pt x="924" y="1038"/>
                    </a:lnTo>
                    <a:lnTo>
                      <a:pt x="850" y="1024"/>
                    </a:lnTo>
                    <a:lnTo>
                      <a:pt x="779" y="1010"/>
                    </a:lnTo>
                    <a:lnTo>
                      <a:pt x="709" y="994"/>
                    </a:lnTo>
                    <a:lnTo>
                      <a:pt x="642" y="978"/>
                    </a:lnTo>
                    <a:lnTo>
                      <a:pt x="579" y="960"/>
                    </a:lnTo>
                    <a:lnTo>
                      <a:pt x="517" y="941"/>
                    </a:lnTo>
                    <a:lnTo>
                      <a:pt x="459" y="921"/>
                    </a:lnTo>
                    <a:lnTo>
                      <a:pt x="403" y="901"/>
                    </a:lnTo>
                    <a:lnTo>
                      <a:pt x="351" y="880"/>
                    </a:lnTo>
                    <a:lnTo>
                      <a:pt x="301" y="858"/>
                    </a:lnTo>
                    <a:lnTo>
                      <a:pt x="256" y="835"/>
                    </a:lnTo>
                    <a:lnTo>
                      <a:pt x="213" y="812"/>
                    </a:lnTo>
                    <a:lnTo>
                      <a:pt x="174" y="788"/>
                    </a:lnTo>
                    <a:lnTo>
                      <a:pt x="138" y="763"/>
                    </a:lnTo>
                    <a:lnTo>
                      <a:pt x="107" y="737"/>
                    </a:lnTo>
                    <a:lnTo>
                      <a:pt x="79" y="711"/>
                    </a:lnTo>
                    <a:lnTo>
                      <a:pt x="56" y="684"/>
                    </a:lnTo>
                    <a:lnTo>
                      <a:pt x="35" y="657"/>
                    </a:lnTo>
                    <a:lnTo>
                      <a:pt x="20" y="629"/>
                    </a:lnTo>
                    <a:lnTo>
                      <a:pt x="9" y="601"/>
                    </a:lnTo>
                    <a:lnTo>
                      <a:pt x="2" y="573"/>
                    </a:lnTo>
                    <a:lnTo>
                      <a:pt x="0" y="544"/>
                    </a:lnTo>
                    <a:lnTo>
                      <a:pt x="2" y="514"/>
                    </a:lnTo>
                    <a:lnTo>
                      <a:pt x="9" y="486"/>
                    </a:lnTo>
                    <a:lnTo>
                      <a:pt x="20" y="459"/>
                    </a:lnTo>
                    <a:lnTo>
                      <a:pt x="35" y="432"/>
                    </a:lnTo>
                    <a:lnTo>
                      <a:pt x="56" y="404"/>
                    </a:lnTo>
                    <a:lnTo>
                      <a:pt x="79" y="378"/>
                    </a:lnTo>
                    <a:lnTo>
                      <a:pt x="107" y="353"/>
                    </a:lnTo>
                    <a:lnTo>
                      <a:pt x="138" y="328"/>
                    </a:lnTo>
                    <a:lnTo>
                      <a:pt x="174" y="303"/>
                    </a:lnTo>
                    <a:lnTo>
                      <a:pt x="213" y="280"/>
                    </a:lnTo>
                    <a:lnTo>
                      <a:pt x="256" y="257"/>
                    </a:lnTo>
                    <a:lnTo>
                      <a:pt x="301" y="235"/>
                    </a:lnTo>
                    <a:lnTo>
                      <a:pt x="351" y="214"/>
                    </a:lnTo>
                    <a:lnTo>
                      <a:pt x="403" y="193"/>
                    </a:lnTo>
                    <a:lnTo>
                      <a:pt x="459" y="174"/>
                    </a:lnTo>
                    <a:lnTo>
                      <a:pt x="517" y="155"/>
                    </a:lnTo>
                    <a:lnTo>
                      <a:pt x="579" y="137"/>
                    </a:lnTo>
                    <a:lnTo>
                      <a:pt x="642" y="121"/>
                    </a:lnTo>
                    <a:lnTo>
                      <a:pt x="709" y="105"/>
                    </a:lnTo>
                    <a:lnTo>
                      <a:pt x="779" y="89"/>
                    </a:lnTo>
                    <a:lnTo>
                      <a:pt x="850" y="76"/>
                    </a:lnTo>
                    <a:lnTo>
                      <a:pt x="924" y="63"/>
                    </a:lnTo>
                    <a:lnTo>
                      <a:pt x="1001" y="51"/>
                    </a:lnTo>
                    <a:lnTo>
                      <a:pt x="1079" y="41"/>
                    </a:lnTo>
                    <a:lnTo>
                      <a:pt x="1159" y="31"/>
                    </a:lnTo>
                    <a:lnTo>
                      <a:pt x="1241" y="23"/>
                    </a:lnTo>
                    <a:lnTo>
                      <a:pt x="1325" y="16"/>
                    </a:lnTo>
                    <a:lnTo>
                      <a:pt x="1410" y="10"/>
                    </a:lnTo>
                    <a:lnTo>
                      <a:pt x="1498" y="6"/>
                    </a:lnTo>
                    <a:lnTo>
                      <a:pt x="1586" y="2"/>
                    </a:lnTo>
                    <a:lnTo>
                      <a:pt x="1676" y="0"/>
                    </a:lnTo>
                    <a:lnTo>
                      <a:pt x="1766" y="0"/>
                    </a:lnTo>
                    <a:lnTo>
                      <a:pt x="1857" y="0"/>
                    </a:lnTo>
                    <a:lnTo>
                      <a:pt x="1947" y="2"/>
                    </a:lnTo>
                    <a:lnTo>
                      <a:pt x="2035" y="6"/>
                    </a:lnTo>
                    <a:lnTo>
                      <a:pt x="2123" y="10"/>
                    </a:lnTo>
                    <a:lnTo>
                      <a:pt x="2208" y="16"/>
                    </a:lnTo>
                    <a:lnTo>
                      <a:pt x="2292" y="23"/>
                    </a:lnTo>
                    <a:lnTo>
                      <a:pt x="2373" y="31"/>
                    </a:lnTo>
                    <a:lnTo>
                      <a:pt x="2454" y="41"/>
                    </a:lnTo>
                    <a:lnTo>
                      <a:pt x="2532" y="51"/>
                    </a:lnTo>
                    <a:lnTo>
                      <a:pt x="2609" y="63"/>
                    </a:lnTo>
                    <a:lnTo>
                      <a:pt x="2682" y="76"/>
                    </a:lnTo>
                    <a:lnTo>
                      <a:pt x="2754" y="89"/>
                    </a:lnTo>
                    <a:lnTo>
                      <a:pt x="2824" y="105"/>
                    </a:lnTo>
                    <a:lnTo>
                      <a:pt x="2891" y="121"/>
                    </a:lnTo>
                    <a:lnTo>
                      <a:pt x="2954" y="137"/>
                    </a:lnTo>
                    <a:lnTo>
                      <a:pt x="3016" y="155"/>
                    </a:lnTo>
                    <a:lnTo>
                      <a:pt x="3074" y="174"/>
                    </a:lnTo>
                    <a:lnTo>
                      <a:pt x="3130" y="193"/>
                    </a:lnTo>
                    <a:lnTo>
                      <a:pt x="3182" y="214"/>
                    </a:lnTo>
                    <a:lnTo>
                      <a:pt x="3232" y="235"/>
                    </a:lnTo>
                    <a:lnTo>
                      <a:pt x="3277" y="257"/>
                    </a:lnTo>
                    <a:lnTo>
                      <a:pt x="3320" y="280"/>
                    </a:lnTo>
                    <a:lnTo>
                      <a:pt x="3359" y="303"/>
                    </a:lnTo>
                    <a:lnTo>
                      <a:pt x="3394" y="328"/>
                    </a:lnTo>
                    <a:lnTo>
                      <a:pt x="3426" y="353"/>
                    </a:lnTo>
                    <a:lnTo>
                      <a:pt x="3454" y="378"/>
                    </a:lnTo>
                    <a:lnTo>
                      <a:pt x="3477" y="404"/>
                    </a:lnTo>
                    <a:lnTo>
                      <a:pt x="3497" y="432"/>
                    </a:lnTo>
                    <a:lnTo>
                      <a:pt x="3513" y="459"/>
                    </a:lnTo>
                    <a:lnTo>
                      <a:pt x="3524" y="486"/>
                    </a:lnTo>
                    <a:lnTo>
                      <a:pt x="3531" y="514"/>
                    </a:lnTo>
                    <a:lnTo>
                      <a:pt x="3533" y="5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095200" y="6512400"/>
                <a:ext cx="389520" cy="131400"/>
              </a:xfrm>
              <a:custGeom>
                <a:avLst/>
                <a:gdLst/>
                <a:ahLst/>
                <a:rect l="l" t="t" r="r" b="b"/>
                <a:pathLst>
                  <a:path w="3531" h="1104">
                    <a:moveTo>
                      <a:pt x="3531" y="543"/>
                    </a:moveTo>
                    <a:lnTo>
                      <a:pt x="3529" y="572"/>
                    </a:lnTo>
                    <a:lnTo>
                      <a:pt x="3522" y="600"/>
                    </a:lnTo>
                    <a:lnTo>
                      <a:pt x="3511" y="628"/>
                    </a:lnTo>
                    <a:lnTo>
                      <a:pt x="3494" y="656"/>
                    </a:lnTo>
                    <a:lnTo>
                      <a:pt x="3475" y="683"/>
                    </a:lnTo>
                    <a:lnTo>
                      <a:pt x="3451" y="709"/>
                    </a:lnTo>
                    <a:lnTo>
                      <a:pt x="3424" y="735"/>
                    </a:lnTo>
                    <a:lnTo>
                      <a:pt x="3392" y="761"/>
                    </a:lnTo>
                    <a:lnTo>
                      <a:pt x="3357" y="786"/>
                    </a:lnTo>
                    <a:lnTo>
                      <a:pt x="3318" y="810"/>
                    </a:lnTo>
                    <a:lnTo>
                      <a:pt x="3275" y="833"/>
                    </a:lnTo>
                    <a:lnTo>
                      <a:pt x="3229" y="857"/>
                    </a:lnTo>
                    <a:lnTo>
                      <a:pt x="3180" y="879"/>
                    </a:lnTo>
                    <a:lnTo>
                      <a:pt x="3128" y="900"/>
                    </a:lnTo>
                    <a:lnTo>
                      <a:pt x="3072" y="920"/>
                    </a:lnTo>
                    <a:lnTo>
                      <a:pt x="3014" y="939"/>
                    </a:lnTo>
                    <a:lnTo>
                      <a:pt x="2952" y="959"/>
                    </a:lnTo>
                    <a:lnTo>
                      <a:pt x="2889" y="976"/>
                    </a:lnTo>
                    <a:lnTo>
                      <a:pt x="2822" y="993"/>
                    </a:lnTo>
                    <a:lnTo>
                      <a:pt x="2752" y="1008"/>
                    </a:lnTo>
                    <a:lnTo>
                      <a:pt x="2680" y="1023"/>
                    </a:lnTo>
                    <a:lnTo>
                      <a:pt x="2607" y="1036"/>
                    </a:lnTo>
                    <a:lnTo>
                      <a:pt x="2531" y="1048"/>
                    </a:lnTo>
                    <a:lnTo>
                      <a:pt x="2452" y="1059"/>
                    </a:lnTo>
                    <a:lnTo>
                      <a:pt x="2372" y="1070"/>
                    </a:lnTo>
                    <a:lnTo>
                      <a:pt x="2291" y="1079"/>
                    </a:lnTo>
                    <a:lnTo>
                      <a:pt x="2207" y="1087"/>
                    </a:lnTo>
                    <a:lnTo>
                      <a:pt x="2121" y="1093"/>
                    </a:lnTo>
                    <a:lnTo>
                      <a:pt x="2034" y="1098"/>
                    </a:lnTo>
                    <a:lnTo>
                      <a:pt x="1946" y="1101"/>
                    </a:lnTo>
                    <a:lnTo>
                      <a:pt x="1856" y="1103"/>
                    </a:lnTo>
                    <a:lnTo>
                      <a:pt x="1765" y="1104"/>
                    </a:lnTo>
                    <a:lnTo>
                      <a:pt x="1675" y="1103"/>
                    </a:lnTo>
                    <a:lnTo>
                      <a:pt x="1585" y="1101"/>
                    </a:lnTo>
                    <a:lnTo>
                      <a:pt x="1497" y="1098"/>
                    </a:lnTo>
                    <a:lnTo>
                      <a:pt x="1410" y="1093"/>
                    </a:lnTo>
                    <a:lnTo>
                      <a:pt x="1324" y="1087"/>
                    </a:lnTo>
                    <a:lnTo>
                      <a:pt x="1240" y="1079"/>
                    </a:lnTo>
                    <a:lnTo>
                      <a:pt x="1158" y="1070"/>
                    </a:lnTo>
                    <a:lnTo>
                      <a:pt x="1079" y="1059"/>
                    </a:lnTo>
                    <a:lnTo>
                      <a:pt x="1000" y="1048"/>
                    </a:lnTo>
                    <a:lnTo>
                      <a:pt x="924" y="1036"/>
                    </a:lnTo>
                    <a:lnTo>
                      <a:pt x="850" y="1023"/>
                    </a:lnTo>
                    <a:lnTo>
                      <a:pt x="779" y="1008"/>
                    </a:lnTo>
                    <a:lnTo>
                      <a:pt x="709" y="993"/>
                    </a:lnTo>
                    <a:lnTo>
                      <a:pt x="642" y="976"/>
                    </a:lnTo>
                    <a:lnTo>
                      <a:pt x="579" y="959"/>
                    </a:lnTo>
                    <a:lnTo>
                      <a:pt x="517" y="939"/>
                    </a:lnTo>
                    <a:lnTo>
                      <a:pt x="459" y="920"/>
                    </a:lnTo>
                    <a:lnTo>
                      <a:pt x="403" y="900"/>
                    </a:lnTo>
                    <a:lnTo>
                      <a:pt x="351" y="879"/>
                    </a:lnTo>
                    <a:lnTo>
                      <a:pt x="302" y="857"/>
                    </a:lnTo>
                    <a:lnTo>
                      <a:pt x="256" y="833"/>
                    </a:lnTo>
                    <a:lnTo>
                      <a:pt x="213" y="810"/>
                    </a:lnTo>
                    <a:lnTo>
                      <a:pt x="174" y="786"/>
                    </a:lnTo>
                    <a:lnTo>
                      <a:pt x="139" y="761"/>
                    </a:lnTo>
                    <a:lnTo>
                      <a:pt x="107" y="735"/>
                    </a:lnTo>
                    <a:lnTo>
                      <a:pt x="80" y="709"/>
                    </a:lnTo>
                    <a:lnTo>
                      <a:pt x="56" y="683"/>
                    </a:lnTo>
                    <a:lnTo>
                      <a:pt x="36" y="656"/>
                    </a:lnTo>
                    <a:lnTo>
                      <a:pt x="20" y="628"/>
                    </a:lnTo>
                    <a:lnTo>
                      <a:pt x="9" y="600"/>
                    </a:lnTo>
                    <a:lnTo>
                      <a:pt x="2" y="572"/>
                    </a:lnTo>
                    <a:lnTo>
                      <a:pt x="0" y="543"/>
                    </a:lnTo>
                    <a:lnTo>
                      <a:pt x="2" y="514"/>
                    </a:lnTo>
                    <a:lnTo>
                      <a:pt x="9" y="485"/>
                    </a:lnTo>
                    <a:lnTo>
                      <a:pt x="20" y="458"/>
                    </a:lnTo>
                    <a:lnTo>
                      <a:pt x="36" y="431"/>
                    </a:lnTo>
                    <a:lnTo>
                      <a:pt x="56" y="403"/>
                    </a:lnTo>
                    <a:lnTo>
                      <a:pt x="80" y="377"/>
                    </a:lnTo>
                    <a:lnTo>
                      <a:pt x="107" y="352"/>
                    </a:lnTo>
                    <a:lnTo>
                      <a:pt x="139" y="327"/>
                    </a:lnTo>
                    <a:lnTo>
                      <a:pt x="174" y="302"/>
                    </a:lnTo>
                    <a:lnTo>
                      <a:pt x="213" y="279"/>
                    </a:lnTo>
                    <a:lnTo>
                      <a:pt x="256" y="257"/>
                    </a:lnTo>
                    <a:lnTo>
                      <a:pt x="302" y="235"/>
                    </a:lnTo>
                    <a:lnTo>
                      <a:pt x="351" y="214"/>
                    </a:lnTo>
                    <a:lnTo>
                      <a:pt x="403" y="193"/>
                    </a:lnTo>
                    <a:lnTo>
                      <a:pt x="459" y="173"/>
                    </a:lnTo>
                    <a:lnTo>
                      <a:pt x="517" y="155"/>
                    </a:lnTo>
                    <a:lnTo>
                      <a:pt x="579" y="137"/>
                    </a:lnTo>
                    <a:lnTo>
                      <a:pt x="642" y="121"/>
                    </a:lnTo>
                    <a:lnTo>
                      <a:pt x="709" y="105"/>
                    </a:lnTo>
                    <a:lnTo>
                      <a:pt x="779" y="89"/>
                    </a:lnTo>
                    <a:lnTo>
                      <a:pt x="850" y="75"/>
                    </a:lnTo>
                    <a:lnTo>
                      <a:pt x="924" y="63"/>
                    </a:lnTo>
                    <a:lnTo>
                      <a:pt x="1000" y="51"/>
                    </a:lnTo>
                    <a:lnTo>
                      <a:pt x="1079" y="41"/>
                    </a:lnTo>
                    <a:lnTo>
                      <a:pt x="1158" y="31"/>
                    </a:lnTo>
                    <a:lnTo>
                      <a:pt x="1240" y="23"/>
                    </a:lnTo>
                    <a:lnTo>
                      <a:pt x="1324" y="16"/>
                    </a:lnTo>
                    <a:lnTo>
                      <a:pt x="1410" y="10"/>
                    </a:lnTo>
                    <a:lnTo>
                      <a:pt x="1497" y="6"/>
                    </a:lnTo>
                    <a:lnTo>
                      <a:pt x="1585" y="2"/>
                    </a:lnTo>
                    <a:lnTo>
                      <a:pt x="1675" y="0"/>
                    </a:lnTo>
                    <a:lnTo>
                      <a:pt x="1765" y="0"/>
                    </a:lnTo>
                    <a:lnTo>
                      <a:pt x="1856" y="0"/>
                    </a:lnTo>
                    <a:lnTo>
                      <a:pt x="1946" y="2"/>
                    </a:lnTo>
                    <a:lnTo>
                      <a:pt x="2034" y="6"/>
                    </a:lnTo>
                    <a:lnTo>
                      <a:pt x="2121" y="10"/>
                    </a:lnTo>
                    <a:lnTo>
                      <a:pt x="2207" y="16"/>
                    </a:lnTo>
                    <a:lnTo>
                      <a:pt x="2291" y="23"/>
                    </a:lnTo>
                    <a:lnTo>
                      <a:pt x="2372" y="31"/>
                    </a:lnTo>
                    <a:lnTo>
                      <a:pt x="2452" y="41"/>
                    </a:lnTo>
                    <a:lnTo>
                      <a:pt x="2531" y="51"/>
                    </a:lnTo>
                    <a:lnTo>
                      <a:pt x="2607" y="63"/>
                    </a:lnTo>
                    <a:lnTo>
                      <a:pt x="2680" y="75"/>
                    </a:lnTo>
                    <a:lnTo>
                      <a:pt x="2752" y="89"/>
                    </a:lnTo>
                    <a:lnTo>
                      <a:pt x="2822" y="105"/>
                    </a:lnTo>
                    <a:lnTo>
                      <a:pt x="2889" y="121"/>
                    </a:lnTo>
                    <a:lnTo>
                      <a:pt x="2952" y="137"/>
                    </a:lnTo>
                    <a:lnTo>
                      <a:pt x="3014" y="155"/>
                    </a:lnTo>
                    <a:lnTo>
                      <a:pt x="3072" y="173"/>
                    </a:lnTo>
                    <a:lnTo>
                      <a:pt x="3128" y="193"/>
                    </a:lnTo>
                    <a:lnTo>
                      <a:pt x="3180" y="214"/>
                    </a:lnTo>
                    <a:lnTo>
                      <a:pt x="3229" y="235"/>
                    </a:lnTo>
                    <a:lnTo>
                      <a:pt x="3275" y="257"/>
                    </a:lnTo>
                    <a:lnTo>
                      <a:pt x="3318" y="279"/>
                    </a:lnTo>
                    <a:lnTo>
                      <a:pt x="3357" y="302"/>
                    </a:lnTo>
                    <a:lnTo>
                      <a:pt x="3392" y="327"/>
                    </a:lnTo>
                    <a:lnTo>
                      <a:pt x="3424" y="352"/>
                    </a:lnTo>
                    <a:lnTo>
                      <a:pt x="3451" y="377"/>
                    </a:lnTo>
                    <a:lnTo>
                      <a:pt x="3475" y="403"/>
                    </a:lnTo>
                    <a:lnTo>
                      <a:pt x="3494" y="431"/>
                    </a:lnTo>
                    <a:lnTo>
                      <a:pt x="3511" y="458"/>
                    </a:lnTo>
                    <a:lnTo>
                      <a:pt x="3522" y="485"/>
                    </a:lnTo>
                    <a:lnTo>
                      <a:pt x="3529" y="514"/>
                    </a:lnTo>
                    <a:lnTo>
                      <a:pt x="3531" y="5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096280" y="6512400"/>
                <a:ext cx="388440" cy="131400"/>
              </a:xfrm>
              <a:custGeom>
                <a:avLst/>
                <a:gdLst/>
                <a:ahLst/>
                <a:rect l="l" t="t" r="r" b="b"/>
                <a:pathLst>
                  <a:path w="3527" h="1102">
                    <a:moveTo>
                      <a:pt x="3527" y="542"/>
                    </a:moveTo>
                    <a:lnTo>
                      <a:pt x="3525" y="571"/>
                    </a:lnTo>
                    <a:lnTo>
                      <a:pt x="3518" y="599"/>
                    </a:lnTo>
                    <a:lnTo>
                      <a:pt x="3507" y="627"/>
                    </a:lnTo>
                    <a:lnTo>
                      <a:pt x="3491" y="655"/>
                    </a:lnTo>
                    <a:lnTo>
                      <a:pt x="3471" y="682"/>
                    </a:lnTo>
                    <a:lnTo>
                      <a:pt x="3448" y="708"/>
                    </a:lnTo>
                    <a:lnTo>
                      <a:pt x="3420" y="734"/>
                    </a:lnTo>
                    <a:lnTo>
                      <a:pt x="3388" y="760"/>
                    </a:lnTo>
                    <a:lnTo>
                      <a:pt x="3353" y="785"/>
                    </a:lnTo>
                    <a:lnTo>
                      <a:pt x="3315" y="809"/>
                    </a:lnTo>
                    <a:lnTo>
                      <a:pt x="3272" y="832"/>
                    </a:lnTo>
                    <a:lnTo>
                      <a:pt x="3226" y="855"/>
                    </a:lnTo>
                    <a:lnTo>
                      <a:pt x="3177" y="877"/>
                    </a:lnTo>
                    <a:lnTo>
                      <a:pt x="3125" y="898"/>
                    </a:lnTo>
                    <a:lnTo>
                      <a:pt x="3069" y="918"/>
                    </a:lnTo>
                    <a:lnTo>
                      <a:pt x="3011" y="938"/>
                    </a:lnTo>
                    <a:lnTo>
                      <a:pt x="2949" y="957"/>
                    </a:lnTo>
                    <a:lnTo>
                      <a:pt x="2886" y="974"/>
                    </a:lnTo>
                    <a:lnTo>
                      <a:pt x="2819" y="991"/>
                    </a:lnTo>
                    <a:lnTo>
                      <a:pt x="2749" y="1006"/>
                    </a:lnTo>
                    <a:lnTo>
                      <a:pt x="2678" y="1021"/>
                    </a:lnTo>
                    <a:lnTo>
                      <a:pt x="2604" y="1034"/>
                    </a:lnTo>
                    <a:lnTo>
                      <a:pt x="2528" y="1046"/>
                    </a:lnTo>
                    <a:lnTo>
                      <a:pt x="2450" y="1057"/>
                    </a:lnTo>
                    <a:lnTo>
                      <a:pt x="2370" y="1068"/>
                    </a:lnTo>
                    <a:lnTo>
                      <a:pt x="2288" y="1077"/>
                    </a:lnTo>
                    <a:lnTo>
                      <a:pt x="2204" y="1085"/>
                    </a:lnTo>
                    <a:lnTo>
                      <a:pt x="2119" y="1091"/>
                    </a:lnTo>
                    <a:lnTo>
                      <a:pt x="2032" y="1096"/>
                    </a:lnTo>
                    <a:lnTo>
                      <a:pt x="1944" y="1099"/>
                    </a:lnTo>
                    <a:lnTo>
                      <a:pt x="1854" y="1101"/>
                    </a:lnTo>
                    <a:lnTo>
                      <a:pt x="1763" y="1102"/>
                    </a:lnTo>
                    <a:lnTo>
                      <a:pt x="1673" y="1101"/>
                    </a:lnTo>
                    <a:lnTo>
                      <a:pt x="1583" y="1099"/>
                    </a:lnTo>
                    <a:lnTo>
                      <a:pt x="1495" y="1096"/>
                    </a:lnTo>
                    <a:lnTo>
                      <a:pt x="1408" y="1091"/>
                    </a:lnTo>
                    <a:lnTo>
                      <a:pt x="1323" y="1085"/>
                    </a:lnTo>
                    <a:lnTo>
                      <a:pt x="1239" y="1077"/>
                    </a:lnTo>
                    <a:lnTo>
                      <a:pt x="1157" y="1068"/>
                    </a:lnTo>
                    <a:lnTo>
                      <a:pt x="1077" y="1057"/>
                    </a:lnTo>
                    <a:lnTo>
                      <a:pt x="999" y="1046"/>
                    </a:lnTo>
                    <a:lnTo>
                      <a:pt x="923" y="1034"/>
                    </a:lnTo>
                    <a:lnTo>
                      <a:pt x="848" y="1021"/>
                    </a:lnTo>
                    <a:lnTo>
                      <a:pt x="778" y="1006"/>
                    </a:lnTo>
                    <a:lnTo>
                      <a:pt x="708" y="991"/>
                    </a:lnTo>
                    <a:lnTo>
                      <a:pt x="641" y="974"/>
                    </a:lnTo>
                    <a:lnTo>
                      <a:pt x="578" y="957"/>
                    </a:lnTo>
                    <a:lnTo>
                      <a:pt x="516" y="938"/>
                    </a:lnTo>
                    <a:lnTo>
                      <a:pt x="458" y="918"/>
                    </a:lnTo>
                    <a:lnTo>
                      <a:pt x="402" y="898"/>
                    </a:lnTo>
                    <a:lnTo>
                      <a:pt x="351" y="877"/>
                    </a:lnTo>
                    <a:lnTo>
                      <a:pt x="301" y="855"/>
                    </a:lnTo>
                    <a:lnTo>
                      <a:pt x="255" y="832"/>
                    </a:lnTo>
                    <a:lnTo>
                      <a:pt x="212" y="809"/>
                    </a:lnTo>
                    <a:lnTo>
                      <a:pt x="174" y="785"/>
                    </a:lnTo>
                    <a:lnTo>
                      <a:pt x="138" y="760"/>
                    </a:lnTo>
                    <a:lnTo>
                      <a:pt x="107" y="734"/>
                    </a:lnTo>
                    <a:lnTo>
                      <a:pt x="79" y="708"/>
                    </a:lnTo>
                    <a:lnTo>
                      <a:pt x="56" y="682"/>
                    </a:lnTo>
                    <a:lnTo>
                      <a:pt x="35" y="655"/>
                    </a:lnTo>
                    <a:lnTo>
                      <a:pt x="20" y="627"/>
                    </a:lnTo>
                    <a:lnTo>
                      <a:pt x="9" y="599"/>
                    </a:lnTo>
                    <a:lnTo>
                      <a:pt x="2" y="571"/>
                    </a:lnTo>
                    <a:lnTo>
                      <a:pt x="0" y="542"/>
                    </a:lnTo>
                    <a:lnTo>
                      <a:pt x="2" y="513"/>
                    </a:lnTo>
                    <a:lnTo>
                      <a:pt x="9" y="485"/>
                    </a:lnTo>
                    <a:lnTo>
                      <a:pt x="20" y="457"/>
                    </a:lnTo>
                    <a:lnTo>
                      <a:pt x="35" y="430"/>
                    </a:lnTo>
                    <a:lnTo>
                      <a:pt x="56" y="403"/>
                    </a:lnTo>
                    <a:lnTo>
                      <a:pt x="79" y="377"/>
                    </a:lnTo>
                    <a:lnTo>
                      <a:pt x="107" y="351"/>
                    </a:lnTo>
                    <a:lnTo>
                      <a:pt x="138" y="327"/>
                    </a:lnTo>
                    <a:lnTo>
                      <a:pt x="174" y="302"/>
                    </a:lnTo>
                    <a:lnTo>
                      <a:pt x="212" y="279"/>
                    </a:lnTo>
                    <a:lnTo>
                      <a:pt x="255" y="256"/>
                    </a:lnTo>
                    <a:lnTo>
                      <a:pt x="301" y="234"/>
                    </a:lnTo>
                    <a:lnTo>
                      <a:pt x="351" y="213"/>
                    </a:lnTo>
                    <a:lnTo>
                      <a:pt x="402" y="192"/>
                    </a:lnTo>
                    <a:lnTo>
                      <a:pt x="458" y="173"/>
                    </a:lnTo>
                    <a:lnTo>
                      <a:pt x="516" y="154"/>
                    </a:lnTo>
                    <a:lnTo>
                      <a:pt x="578" y="137"/>
                    </a:lnTo>
                    <a:lnTo>
                      <a:pt x="641" y="120"/>
                    </a:lnTo>
                    <a:lnTo>
                      <a:pt x="708" y="105"/>
                    </a:lnTo>
                    <a:lnTo>
                      <a:pt x="778" y="89"/>
                    </a:lnTo>
                    <a:lnTo>
                      <a:pt x="848" y="75"/>
                    </a:lnTo>
                    <a:lnTo>
                      <a:pt x="923" y="63"/>
                    </a:lnTo>
                    <a:lnTo>
                      <a:pt x="999" y="51"/>
                    </a:lnTo>
                    <a:lnTo>
                      <a:pt x="1077" y="40"/>
                    </a:lnTo>
                    <a:lnTo>
                      <a:pt x="1157" y="31"/>
                    </a:lnTo>
                    <a:lnTo>
                      <a:pt x="1239" y="23"/>
                    </a:lnTo>
                    <a:lnTo>
                      <a:pt x="1323" y="16"/>
                    </a:lnTo>
                    <a:lnTo>
                      <a:pt x="1408" y="10"/>
                    </a:lnTo>
                    <a:lnTo>
                      <a:pt x="1495" y="6"/>
                    </a:lnTo>
                    <a:lnTo>
                      <a:pt x="1583" y="2"/>
                    </a:lnTo>
                    <a:lnTo>
                      <a:pt x="1673" y="0"/>
                    </a:lnTo>
                    <a:lnTo>
                      <a:pt x="1763" y="0"/>
                    </a:lnTo>
                    <a:lnTo>
                      <a:pt x="1854" y="0"/>
                    </a:lnTo>
                    <a:lnTo>
                      <a:pt x="1944" y="2"/>
                    </a:lnTo>
                    <a:lnTo>
                      <a:pt x="2032" y="6"/>
                    </a:lnTo>
                    <a:lnTo>
                      <a:pt x="2119" y="10"/>
                    </a:lnTo>
                    <a:lnTo>
                      <a:pt x="2204" y="16"/>
                    </a:lnTo>
                    <a:lnTo>
                      <a:pt x="2288" y="23"/>
                    </a:lnTo>
                    <a:lnTo>
                      <a:pt x="2370" y="31"/>
                    </a:lnTo>
                    <a:lnTo>
                      <a:pt x="2450" y="40"/>
                    </a:lnTo>
                    <a:lnTo>
                      <a:pt x="2528" y="51"/>
                    </a:lnTo>
                    <a:lnTo>
                      <a:pt x="2604" y="63"/>
                    </a:lnTo>
                    <a:lnTo>
                      <a:pt x="2678" y="75"/>
                    </a:lnTo>
                    <a:lnTo>
                      <a:pt x="2749" y="89"/>
                    </a:lnTo>
                    <a:lnTo>
                      <a:pt x="2819" y="105"/>
                    </a:lnTo>
                    <a:lnTo>
                      <a:pt x="2886" y="120"/>
                    </a:lnTo>
                    <a:lnTo>
                      <a:pt x="2949" y="137"/>
                    </a:lnTo>
                    <a:lnTo>
                      <a:pt x="3011" y="154"/>
                    </a:lnTo>
                    <a:lnTo>
                      <a:pt x="3069" y="173"/>
                    </a:lnTo>
                    <a:lnTo>
                      <a:pt x="3125" y="192"/>
                    </a:lnTo>
                    <a:lnTo>
                      <a:pt x="3177" y="213"/>
                    </a:lnTo>
                    <a:lnTo>
                      <a:pt x="3226" y="234"/>
                    </a:lnTo>
                    <a:lnTo>
                      <a:pt x="3272" y="256"/>
                    </a:lnTo>
                    <a:lnTo>
                      <a:pt x="3315" y="279"/>
                    </a:lnTo>
                    <a:lnTo>
                      <a:pt x="3353" y="302"/>
                    </a:lnTo>
                    <a:lnTo>
                      <a:pt x="3388" y="327"/>
                    </a:lnTo>
                    <a:lnTo>
                      <a:pt x="3420" y="351"/>
                    </a:lnTo>
                    <a:lnTo>
                      <a:pt x="3448" y="377"/>
                    </a:lnTo>
                    <a:lnTo>
                      <a:pt x="3471" y="403"/>
                    </a:lnTo>
                    <a:lnTo>
                      <a:pt x="3491" y="430"/>
                    </a:lnTo>
                    <a:lnTo>
                      <a:pt x="3507" y="457"/>
                    </a:lnTo>
                    <a:lnTo>
                      <a:pt x="3518" y="485"/>
                    </a:lnTo>
                    <a:lnTo>
                      <a:pt x="3525" y="513"/>
                    </a:lnTo>
                    <a:lnTo>
                      <a:pt x="3527" y="5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096280" y="6512400"/>
                <a:ext cx="388440" cy="131400"/>
              </a:xfrm>
              <a:custGeom>
                <a:avLst/>
                <a:gdLst/>
                <a:ahLst/>
                <a:rect l="l" t="t" r="r" b="b"/>
                <a:pathLst>
                  <a:path w="3525" h="1100">
                    <a:moveTo>
                      <a:pt x="3525" y="541"/>
                    </a:moveTo>
                    <a:lnTo>
                      <a:pt x="3523" y="570"/>
                    </a:lnTo>
                    <a:lnTo>
                      <a:pt x="3516" y="598"/>
                    </a:lnTo>
                    <a:lnTo>
                      <a:pt x="3505" y="625"/>
                    </a:lnTo>
                    <a:lnTo>
                      <a:pt x="3489" y="654"/>
                    </a:lnTo>
                    <a:lnTo>
                      <a:pt x="3469" y="681"/>
                    </a:lnTo>
                    <a:lnTo>
                      <a:pt x="3446" y="707"/>
                    </a:lnTo>
                    <a:lnTo>
                      <a:pt x="3418" y="733"/>
                    </a:lnTo>
                    <a:lnTo>
                      <a:pt x="3386" y="759"/>
                    </a:lnTo>
                    <a:lnTo>
                      <a:pt x="3351" y="783"/>
                    </a:lnTo>
                    <a:lnTo>
                      <a:pt x="3312" y="807"/>
                    </a:lnTo>
                    <a:lnTo>
                      <a:pt x="3269" y="830"/>
                    </a:lnTo>
                    <a:lnTo>
                      <a:pt x="3224" y="854"/>
                    </a:lnTo>
                    <a:lnTo>
                      <a:pt x="3174" y="876"/>
                    </a:lnTo>
                    <a:lnTo>
                      <a:pt x="3123" y="897"/>
                    </a:lnTo>
                    <a:lnTo>
                      <a:pt x="3067" y="917"/>
                    </a:lnTo>
                    <a:lnTo>
                      <a:pt x="3009" y="936"/>
                    </a:lnTo>
                    <a:lnTo>
                      <a:pt x="2947" y="955"/>
                    </a:lnTo>
                    <a:lnTo>
                      <a:pt x="2883" y="973"/>
                    </a:lnTo>
                    <a:lnTo>
                      <a:pt x="2817" y="989"/>
                    </a:lnTo>
                    <a:lnTo>
                      <a:pt x="2748" y="1005"/>
                    </a:lnTo>
                    <a:lnTo>
                      <a:pt x="2676" y="1019"/>
                    </a:lnTo>
                    <a:lnTo>
                      <a:pt x="2603" y="1032"/>
                    </a:lnTo>
                    <a:lnTo>
                      <a:pt x="2527" y="1044"/>
                    </a:lnTo>
                    <a:lnTo>
                      <a:pt x="2448" y="1056"/>
                    </a:lnTo>
                    <a:lnTo>
                      <a:pt x="2368" y="1067"/>
                    </a:lnTo>
                    <a:lnTo>
                      <a:pt x="2287" y="1075"/>
                    </a:lnTo>
                    <a:lnTo>
                      <a:pt x="2203" y="1083"/>
                    </a:lnTo>
                    <a:lnTo>
                      <a:pt x="2118" y="1089"/>
                    </a:lnTo>
                    <a:lnTo>
                      <a:pt x="2031" y="1094"/>
                    </a:lnTo>
                    <a:lnTo>
                      <a:pt x="1942" y="1097"/>
                    </a:lnTo>
                    <a:lnTo>
                      <a:pt x="1853" y="1099"/>
                    </a:lnTo>
                    <a:lnTo>
                      <a:pt x="1762" y="1100"/>
                    </a:lnTo>
                    <a:lnTo>
                      <a:pt x="1672" y="1099"/>
                    </a:lnTo>
                    <a:lnTo>
                      <a:pt x="1583" y="1097"/>
                    </a:lnTo>
                    <a:lnTo>
                      <a:pt x="1494" y="1094"/>
                    </a:lnTo>
                    <a:lnTo>
                      <a:pt x="1407" y="1089"/>
                    </a:lnTo>
                    <a:lnTo>
                      <a:pt x="1322" y="1083"/>
                    </a:lnTo>
                    <a:lnTo>
                      <a:pt x="1238" y="1075"/>
                    </a:lnTo>
                    <a:lnTo>
                      <a:pt x="1156" y="1067"/>
                    </a:lnTo>
                    <a:lnTo>
                      <a:pt x="1077" y="1056"/>
                    </a:lnTo>
                    <a:lnTo>
                      <a:pt x="998" y="1044"/>
                    </a:lnTo>
                    <a:lnTo>
                      <a:pt x="922" y="1032"/>
                    </a:lnTo>
                    <a:lnTo>
                      <a:pt x="848" y="1019"/>
                    </a:lnTo>
                    <a:lnTo>
                      <a:pt x="777" y="1005"/>
                    </a:lnTo>
                    <a:lnTo>
                      <a:pt x="708" y="989"/>
                    </a:lnTo>
                    <a:lnTo>
                      <a:pt x="641" y="973"/>
                    </a:lnTo>
                    <a:lnTo>
                      <a:pt x="578" y="955"/>
                    </a:lnTo>
                    <a:lnTo>
                      <a:pt x="516" y="936"/>
                    </a:lnTo>
                    <a:lnTo>
                      <a:pt x="458" y="917"/>
                    </a:lnTo>
                    <a:lnTo>
                      <a:pt x="402" y="897"/>
                    </a:lnTo>
                    <a:lnTo>
                      <a:pt x="351" y="876"/>
                    </a:lnTo>
                    <a:lnTo>
                      <a:pt x="301" y="854"/>
                    </a:lnTo>
                    <a:lnTo>
                      <a:pt x="256" y="830"/>
                    </a:lnTo>
                    <a:lnTo>
                      <a:pt x="213" y="807"/>
                    </a:lnTo>
                    <a:lnTo>
                      <a:pt x="174" y="783"/>
                    </a:lnTo>
                    <a:lnTo>
                      <a:pt x="138" y="759"/>
                    </a:lnTo>
                    <a:lnTo>
                      <a:pt x="107" y="733"/>
                    </a:lnTo>
                    <a:lnTo>
                      <a:pt x="80" y="707"/>
                    </a:lnTo>
                    <a:lnTo>
                      <a:pt x="56" y="681"/>
                    </a:lnTo>
                    <a:lnTo>
                      <a:pt x="36" y="654"/>
                    </a:lnTo>
                    <a:lnTo>
                      <a:pt x="20" y="625"/>
                    </a:lnTo>
                    <a:lnTo>
                      <a:pt x="9" y="598"/>
                    </a:lnTo>
                    <a:lnTo>
                      <a:pt x="2" y="570"/>
                    </a:lnTo>
                    <a:lnTo>
                      <a:pt x="0" y="541"/>
                    </a:lnTo>
                    <a:lnTo>
                      <a:pt x="2" y="512"/>
                    </a:lnTo>
                    <a:lnTo>
                      <a:pt x="9" y="484"/>
                    </a:lnTo>
                    <a:lnTo>
                      <a:pt x="20" y="456"/>
                    </a:lnTo>
                    <a:lnTo>
                      <a:pt x="36" y="429"/>
                    </a:lnTo>
                    <a:lnTo>
                      <a:pt x="56" y="402"/>
                    </a:lnTo>
                    <a:lnTo>
                      <a:pt x="80" y="376"/>
                    </a:lnTo>
                    <a:lnTo>
                      <a:pt x="107" y="351"/>
                    </a:lnTo>
                    <a:lnTo>
                      <a:pt x="138" y="326"/>
                    </a:lnTo>
                    <a:lnTo>
                      <a:pt x="174" y="301"/>
                    </a:lnTo>
                    <a:lnTo>
                      <a:pt x="213" y="278"/>
                    </a:lnTo>
                    <a:lnTo>
                      <a:pt x="256" y="256"/>
                    </a:lnTo>
                    <a:lnTo>
                      <a:pt x="301" y="234"/>
                    </a:lnTo>
                    <a:lnTo>
                      <a:pt x="351" y="213"/>
                    </a:lnTo>
                    <a:lnTo>
                      <a:pt x="402" y="192"/>
                    </a:lnTo>
                    <a:lnTo>
                      <a:pt x="458" y="173"/>
                    </a:lnTo>
                    <a:lnTo>
                      <a:pt x="516" y="154"/>
                    </a:lnTo>
                    <a:lnTo>
                      <a:pt x="578" y="137"/>
                    </a:lnTo>
                    <a:lnTo>
                      <a:pt x="641" y="120"/>
                    </a:lnTo>
                    <a:lnTo>
                      <a:pt x="708" y="104"/>
                    </a:lnTo>
                    <a:lnTo>
                      <a:pt x="777" y="89"/>
                    </a:lnTo>
                    <a:lnTo>
                      <a:pt x="848" y="75"/>
                    </a:lnTo>
                    <a:lnTo>
                      <a:pt x="922" y="62"/>
                    </a:lnTo>
                    <a:lnTo>
                      <a:pt x="998" y="51"/>
                    </a:lnTo>
                    <a:lnTo>
                      <a:pt x="1077" y="40"/>
                    </a:lnTo>
                    <a:lnTo>
                      <a:pt x="1156" y="31"/>
                    </a:lnTo>
                    <a:lnTo>
                      <a:pt x="1238" y="23"/>
                    </a:lnTo>
                    <a:lnTo>
                      <a:pt x="1322" y="16"/>
                    </a:lnTo>
                    <a:lnTo>
                      <a:pt x="1407" y="10"/>
                    </a:lnTo>
                    <a:lnTo>
                      <a:pt x="1494" y="6"/>
                    </a:lnTo>
                    <a:lnTo>
                      <a:pt x="1583" y="2"/>
                    </a:lnTo>
                    <a:lnTo>
                      <a:pt x="1672" y="0"/>
                    </a:lnTo>
                    <a:lnTo>
                      <a:pt x="1762" y="0"/>
                    </a:lnTo>
                    <a:lnTo>
                      <a:pt x="1853" y="0"/>
                    </a:lnTo>
                    <a:lnTo>
                      <a:pt x="1942" y="2"/>
                    </a:lnTo>
                    <a:lnTo>
                      <a:pt x="2031" y="6"/>
                    </a:lnTo>
                    <a:lnTo>
                      <a:pt x="2118" y="10"/>
                    </a:lnTo>
                    <a:lnTo>
                      <a:pt x="2203" y="16"/>
                    </a:lnTo>
                    <a:lnTo>
                      <a:pt x="2287" y="23"/>
                    </a:lnTo>
                    <a:lnTo>
                      <a:pt x="2368" y="31"/>
                    </a:lnTo>
                    <a:lnTo>
                      <a:pt x="2448" y="40"/>
                    </a:lnTo>
                    <a:lnTo>
                      <a:pt x="2527" y="51"/>
                    </a:lnTo>
                    <a:lnTo>
                      <a:pt x="2603" y="62"/>
                    </a:lnTo>
                    <a:lnTo>
                      <a:pt x="2676" y="75"/>
                    </a:lnTo>
                    <a:lnTo>
                      <a:pt x="2748" y="89"/>
                    </a:lnTo>
                    <a:lnTo>
                      <a:pt x="2817" y="104"/>
                    </a:lnTo>
                    <a:lnTo>
                      <a:pt x="2883" y="120"/>
                    </a:lnTo>
                    <a:lnTo>
                      <a:pt x="2947" y="137"/>
                    </a:lnTo>
                    <a:lnTo>
                      <a:pt x="3009" y="154"/>
                    </a:lnTo>
                    <a:lnTo>
                      <a:pt x="3067" y="173"/>
                    </a:lnTo>
                    <a:lnTo>
                      <a:pt x="3123" y="192"/>
                    </a:lnTo>
                    <a:lnTo>
                      <a:pt x="3174" y="213"/>
                    </a:lnTo>
                    <a:lnTo>
                      <a:pt x="3224" y="234"/>
                    </a:lnTo>
                    <a:lnTo>
                      <a:pt x="3269" y="256"/>
                    </a:lnTo>
                    <a:lnTo>
                      <a:pt x="3312" y="278"/>
                    </a:lnTo>
                    <a:lnTo>
                      <a:pt x="3351" y="301"/>
                    </a:lnTo>
                    <a:lnTo>
                      <a:pt x="3386" y="326"/>
                    </a:lnTo>
                    <a:lnTo>
                      <a:pt x="3418" y="351"/>
                    </a:lnTo>
                    <a:lnTo>
                      <a:pt x="3446" y="376"/>
                    </a:lnTo>
                    <a:lnTo>
                      <a:pt x="3469" y="402"/>
                    </a:lnTo>
                    <a:lnTo>
                      <a:pt x="3489" y="429"/>
                    </a:lnTo>
                    <a:lnTo>
                      <a:pt x="3505" y="456"/>
                    </a:lnTo>
                    <a:lnTo>
                      <a:pt x="3516" y="484"/>
                    </a:lnTo>
                    <a:lnTo>
                      <a:pt x="3523" y="512"/>
                    </a:lnTo>
                    <a:lnTo>
                      <a:pt x="3525" y="5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096280" y="6512400"/>
                <a:ext cx="388440" cy="131400"/>
              </a:xfrm>
              <a:custGeom>
                <a:avLst/>
                <a:gdLst/>
                <a:ahLst/>
                <a:rect l="l" t="t" r="r" b="b"/>
                <a:pathLst>
                  <a:path w="3523" h="1099">
                    <a:moveTo>
                      <a:pt x="3523" y="541"/>
                    </a:moveTo>
                    <a:lnTo>
                      <a:pt x="3520" y="570"/>
                    </a:lnTo>
                    <a:lnTo>
                      <a:pt x="3514" y="598"/>
                    </a:lnTo>
                    <a:lnTo>
                      <a:pt x="3503" y="625"/>
                    </a:lnTo>
                    <a:lnTo>
                      <a:pt x="3486" y="654"/>
                    </a:lnTo>
                    <a:lnTo>
                      <a:pt x="3467" y="680"/>
                    </a:lnTo>
                    <a:lnTo>
                      <a:pt x="3443" y="707"/>
                    </a:lnTo>
                    <a:lnTo>
                      <a:pt x="3416" y="732"/>
                    </a:lnTo>
                    <a:lnTo>
                      <a:pt x="3384" y="758"/>
                    </a:lnTo>
                    <a:lnTo>
                      <a:pt x="3349" y="783"/>
                    </a:lnTo>
                    <a:lnTo>
                      <a:pt x="3310" y="807"/>
                    </a:lnTo>
                    <a:lnTo>
                      <a:pt x="3267" y="830"/>
                    </a:lnTo>
                    <a:lnTo>
                      <a:pt x="3222" y="853"/>
                    </a:lnTo>
                    <a:lnTo>
                      <a:pt x="3172" y="875"/>
                    </a:lnTo>
                    <a:lnTo>
                      <a:pt x="3120" y="896"/>
                    </a:lnTo>
                    <a:lnTo>
                      <a:pt x="3065" y="916"/>
                    </a:lnTo>
                    <a:lnTo>
                      <a:pt x="3007" y="935"/>
                    </a:lnTo>
                    <a:lnTo>
                      <a:pt x="2945" y="955"/>
                    </a:lnTo>
                    <a:lnTo>
                      <a:pt x="2881" y="972"/>
                    </a:lnTo>
                    <a:lnTo>
                      <a:pt x="2815" y="988"/>
                    </a:lnTo>
                    <a:lnTo>
                      <a:pt x="2746" y="1004"/>
                    </a:lnTo>
                    <a:lnTo>
                      <a:pt x="2674" y="1018"/>
                    </a:lnTo>
                    <a:lnTo>
                      <a:pt x="2601" y="1031"/>
                    </a:lnTo>
                    <a:lnTo>
                      <a:pt x="2525" y="1044"/>
                    </a:lnTo>
                    <a:lnTo>
                      <a:pt x="2447" y="1055"/>
                    </a:lnTo>
                    <a:lnTo>
                      <a:pt x="2367" y="1066"/>
                    </a:lnTo>
                    <a:lnTo>
                      <a:pt x="2286" y="1074"/>
                    </a:lnTo>
                    <a:lnTo>
                      <a:pt x="2202" y="1082"/>
                    </a:lnTo>
                    <a:lnTo>
                      <a:pt x="2116" y="1088"/>
                    </a:lnTo>
                    <a:lnTo>
                      <a:pt x="2030" y="1093"/>
                    </a:lnTo>
                    <a:lnTo>
                      <a:pt x="1941" y="1096"/>
                    </a:lnTo>
                    <a:lnTo>
                      <a:pt x="1852" y="1099"/>
                    </a:lnTo>
                    <a:lnTo>
                      <a:pt x="1761" y="1099"/>
                    </a:lnTo>
                    <a:lnTo>
                      <a:pt x="1671" y="1099"/>
                    </a:lnTo>
                    <a:lnTo>
                      <a:pt x="1582" y="1096"/>
                    </a:lnTo>
                    <a:lnTo>
                      <a:pt x="1493" y="1093"/>
                    </a:lnTo>
                    <a:lnTo>
                      <a:pt x="1407" y="1088"/>
                    </a:lnTo>
                    <a:lnTo>
                      <a:pt x="1321" y="1082"/>
                    </a:lnTo>
                    <a:lnTo>
                      <a:pt x="1238" y="1074"/>
                    </a:lnTo>
                    <a:lnTo>
                      <a:pt x="1157" y="1066"/>
                    </a:lnTo>
                    <a:lnTo>
                      <a:pt x="1076" y="1055"/>
                    </a:lnTo>
                    <a:lnTo>
                      <a:pt x="998" y="1044"/>
                    </a:lnTo>
                    <a:lnTo>
                      <a:pt x="922" y="1031"/>
                    </a:lnTo>
                    <a:lnTo>
                      <a:pt x="848" y="1018"/>
                    </a:lnTo>
                    <a:lnTo>
                      <a:pt x="777" y="1004"/>
                    </a:lnTo>
                    <a:lnTo>
                      <a:pt x="708" y="988"/>
                    </a:lnTo>
                    <a:lnTo>
                      <a:pt x="641" y="972"/>
                    </a:lnTo>
                    <a:lnTo>
                      <a:pt x="578" y="955"/>
                    </a:lnTo>
                    <a:lnTo>
                      <a:pt x="516" y="935"/>
                    </a:lnTo>
                    <a:lnTo>
                      <a:pt x="458" y="916"/>
                    </a:lnTo>
                    <a:lnTo>
                      <a:pt x="403" y="896"/>
                    </a:lnTo>
                    <a:lnTo>
                      <a:pt x="351" y="875"/>
                    </a:lnTo>
                    <a:lnTo>
                      <a:pt x="301" y="853"/>
                    </a:lnTo>
                    <a:lnTo>
                      <a:pt x="256" y="830"/>
                    </a:lnTo>
                    <a:lnTo>
                      <a:pt x="213" y="807"/>
                    </a:lnTo>
                    <a:lnTo>
                      <a:pt x="174" y="783"/>
                    </a:lnTo>
                    <a:lnTo>
                      <a:pt x="138" y="758"/>
                    </a:lnTo>
                    <a:lnTo>
                      <a:pt x="107" y="732"/>
                    </a:lnTo>
                    <a:lnTo>
                      <a:pt x="80" y="707"/>
                    </a:lnTo>
                    <a:lnTo>
                      <a:pt x="56" y="680"/>
                    </a:lnTo>
                    <a:lnTo>
                      <a:pt x="36" y="654"/>
                    </a:lnTo>
                    <a:lnTo>
                      <a:pt x="21" y="625"/>
                    </a:lnTo>
                    <a:lnTo>
                      <a:pt x="9" y="598"/>
                    </a:lnTo>
                    <a:lnTo>
                      <a:pt x="3" y="570"/>
                    </a:lnTo>
                    <a:lnTo>
                      <a:pt x="0" y="541"/>
                    </a:lnTo>
                    <a:lnTo>
                      <a:pt x="3" y="512"/>
                    </a:lnTo>
                    <a:lnTo>
                      <a:pt x="9" y="484"/>
                    </a:lnTo>
                    <a:lnTo>
                      <a:pt x="21" y="456"/>
                    </a:lnTo>
                    <a:lnTo>
                      <a:pt x="36" y="429"/>
                    </a:lnTo>
                    <a:lnTo>
                      <a:pt x="56" y="402"/>
                    </a:lnTo>
                    <a:lnTo>
                      <a:pt x="80" y="376"/>
                    </a:lnTo>
                    <a:lnTo>
                      <a:pt x="107" y="351"/>
                    </a:lnTo>
                    <a:lnTo>
                      <a:pt x="138" y="327"/>
                    </a:lnTo>
                    <a:lnTo>
                      <a:pt x="174" y="302"/>
                    </a:lnTo>
                    <a:lnTo>
                      <a:pt x="213" y="279"/>
                    </a:lnTo>
                    <a:lnTo>
                      <a:pt x="256" y="256"/>
                    </a:lnTo>
                    <a:lnTo>
                      <a:pt x="301" y="234"/>
                    </a:lnTo>
                    <a:lnTo>
                      <a:pt x="351" y="213"/>
                    </a:lnTo>
                    <a:lnTo>
                      <a:pt x="403" y="192"/>
                    </a:lnTo>
                    <a:lnTo>
                      <a:pt x="458" y="173"/>
                    </a:lnTo>
                    <a:lnTo>
                      <a:pt x="516" y="155"/>
                    </a:lnTo>
                    <a:lnTo>
                      <a:pt x="578" y="137"/>
                    </a:lnTo>
                    <a:lnTo>
                      <a:pt x="641" y="121"/>
                    </a:lnTo>
                    <a:lnTo>
                      <a:pt x="708" y="105"/>
                    </a:lnTo>
                    <a:lnTo>
                      <a:pt x="777" y="89"/>
                    </a:lnTo>
                    <a:lnTo>
                      <a:pt x="848" y="76"/>
                    </a:lnTo>
                    <a:lnTo>
                      <a:pt x="922" y="63"/>
                    </a:lnTo>
                    <a:lnTo>
                      <a:pt x="998" y="52"/>
                    </a:lnTo>
                    <a:lnTo>
                      <a:pt x="1076" y="41"/>
                    </a:lnTo>
                    <a:lnTo>
                      <a:pt x="1157" y="32"/>
                    </a:lnTo>
                    <a:lnTo>
                      <a:pt x="1238" y="24"/>
                    </a:lnTo>
                    <a:lnTo>
                      <a:pt x="1321" y="17"/>
                    </a:lnTo>
                    <a:lnTo>
                      <a:pt x="1407" y="11"/>
                    </a:lnTo>
                    <a:lnTo>
                      <a:pt x="1493" y="6"/>
                    </a:lnTo>
                    <a:lnTo>
                      <a:pt x="1582" y="3"/>
                    </a:lnTo>
                    <a:lnTo>
                      <a:pt x="1671" y="1"/>
                    </a:lnTo>
                    <a:lnTo>
                      <a:pt x="1761" y="0"/>
                    </a:lnTo>
                    <a:lnTo>
                      <a:pt x="1852" y="1"/>
                    </a:lnTo>
                    <a:lnTo>
                      <a:pt x="1941" y="3"/>
                    </a:lnTo>
                    <a:lnTo>
                      <a:pt x="2030" y="6"/>
                    </a:lnTo>
                    <a:lnTo>
                      <a:pt x="2116" y="11"/>
                    </a:lnTo>
                    <a:lnTo>
                      <a:pt x="2202" y="17"/>
                    </a:lnTo>
                    <a:lnTo>
                      <a:pt x="2286" y="24"/>
                    </a:lnTo>
                    <a:lnTo>
                      <a:pt x="2367" y="32"/>
                    </a:lnTo>
                    <a:lnTo>
                      <a:pt x="2447" y="41"/>
                    </a:lnTo>
                    <a:lnTo>
                      <a:pt x="2525" y="52"/>
                    </a:lnTo>
                    <a:lnTo>
                      <a:pt x="2601" y="63"/>
                    </a:lnTo>
                    <a:lnTo>
                      <a:pt x="2674" y="76"/>
                    </a:lnTo>
                    <a:lnTo>
                      <a:pt x="2746" y="89"/>
                    </a:lnTo>
                    <a:lnTo>
                      <a:pt x="2815" y="105"/>
                    </a:lnTo>
                    <a:lnTo>
                      <a:pt x="2881" y="121"/>
                    </a:lnTo>
                    <a:lnTo>
                      <a:pt x="2945" y="137"/>
                    </a:lnTo>
                    <a:lnTo>
                      <a:pt x="3007" y="155"/>
                    </a:lnTo>
                    <a:lnTo>
                      <a:pt x="3065" y="173"/>
                    </a:lnTo>
                    <a:lnTo>
                      <a:pt x="3120" y="192"/>
                    </a:lnTo>
                    <a:lnTo>
                      <a:pt x="3172" y="213"/>
                    </a:lnTo>
                    <a:lnTo>
                      <a:pt x="3222" y="234"/>
                    </a:lnTo>
                    <a:lnTo>
                      <a:pt x="3267" y="256"/>
                    </a:lnTo>
                    <a:lnTo>
                      <a:pt x="3310" y="279"/>
                    </a:lnTo>
                    <a:lnTo>
                      <a:pt x="3349" y="302"/>
                    </a:lnTo>
                    <a:lnTo>
                      <a:pt x="3384" y="327"/>
                    </a:lnTo>
                    <a:lnTo>
                      <a:pt x="3416" y="351"/>
                    </a:lnTo>
                    <a:lnTo>
                      <a:pt x="3443" y="376"/>
                    </a:lnTo>
                    <a:lnTo>
                      <a:pt x="3467" y="402"/>
                    </a:lnTo>
                    <a:lnTo>
                      <a:pt x="3486" y="429"/>
                    </a:lnTo>
                    <a:lnTo>
                      <a:pt x="3503" y="456"/>
                    </a:lnTo>
                    <a:lnTo>
                      <a:pt x="3514" y="484"/>
                    </a:lnTo>
                    <a:lnTo>
                      <a:pt x="3520" y="512"/>
                    </a:lnTo>
                    <a:lnTo>
                      <a:pt x="3523" y="5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096280" y="6512400"/>
                <a:ext cx="388440" cy="131400"/>
              </a:xfrm>
              <a:custGeom>
                <a:avLst/>
                <a:gdLst/>
                <a:ahLst/>
                <a:rect l="l" t="t" r="r" b="b"/>
                <a:pathLst>
                  <a:path w="3519" h="1097">
                    <a:moveTo>
                      <a:pt x="3519" y="540"/>
                    </a:moveTo>
                    <a:lnTo>
                      <a:pt x="3517" y="569"/>
                    </a:lnTo>
                    <a:lnTo>
                      <a:pt x="3510" y="597"/>
                    </a:lnTo>
                    <a:lnTo>
                      <a:pt x="3499" y="624"/>
                    </a:lnTo>
                    <a:lnTo>
                      <a:pt x="3483" y="652"/>
                    </a:lnTo>
                    <a:lnTo>
                      <a:pt x="3463" y="679"/>
                    </a:lnTo>
                    <a:lnTo>
                      <a:pt x="3440" y="705"/>
                    </a:lnTo>
                    <a:lnTo>
                      <a:pt x="3412" y="731"/>
                    </a:lnTo>
                    <a:lnTo>
                      <a:pt x="3380" y="757"/>
                    </a:lnTo>
                    <a:lnTo>
                      <a:pt x="3345" y="782"/>
                    </a:lnTo>
                    <a:lnTo>
                      <a:pt x="3307" y="805"/>
                    </a:lnTo>
                    <a:lnTo>
                      <a:pt x="3264" y="828"/>
                    </a:lnTo>
                    <a:lnTo>
                      <a:pt x="3219" y="852"/>
                    </a:lnTo>
                    <a:lnTo>
                      <a:pt x="3169" y="874"/>
                    </a:lnTo>
                    <a:lnTo>
                      <a:pt x="3117" y="894"/>
                    </a:lnTo>
                    <a:lnTo>
                      <a:pt x="3062" y="914"/>
                    </a:lnTo>
                    <a:lnTo>
                      <a:pt x="3004" y="934"/>
                    </a:lnTo>
                    <a:lnTo>
                      <a:pt x="2942" y="953"/>
                    </a:lnTo>
                    <a:lnTo>
                      <a:pt x="2878" y="970"/>
                    </a:lnTo>
                    <a:lnTo>
                      <a:pt x="2812" y="987"/>
                    </a:lnTo>
                    <a:lnTo>
                      <a:pt x="2743" y="1002"/>
                    </a:lnTo>
                    <a:lnTo>
                      <a:pt x="2671" y="1016"/>
                    </a:lnTo>
                    <a:lnTo>
                      <a:pt x="2598" y="1030"/>
                    </a:lnTo>
                    <a:lnTo>
                      <a:pt x="2522" y="1042"/>
                    </a:lnTo>
                    <a:lnTo>
                      <a:pt x="2444" y="1053"/>
                    </a:lnTo>
                    <a:lnTo>
                      <a:pt x="2364" y="1064"/>
                    </a:lnTo>
                    <a:lnTo>
                      <a:pt x="2283" y="1072"/>
                    </a:lnTo>
                    <a:lnTo>
                      <a:pt x="2199" y="1080"/>
                    </a:lnTo>
                    <a:lnTo>
                      <a:pt x="2114" y="1086"/>
                    </a:lnTo>
                    <a:lnTo>
                      <a:pt x="2027" y="1091"/>
                    </a:lnTo>
                    <a:lnTo>
                      <a:pt x="1939" y="1094"/>
                    </a:lnTo>
                    <a:lnTo>
                      <a:pt x="1850" y="1097"/>
                    </a:lnTo>
                    <a:lnTo>
                      <a:pt x="1759" y="1097"/>
                    </a:lnTo>
                    <a:lnTo>
                      <a:pt x="1669" y="1097"/>
                    </a:lnTo>
                    <a:lnTo>
                      <a:pt x="1580" y="1094"/>
                    </a:lnTo>
                    <a:lnTo>
                      <a:pt x="1492" y="1091"/>
                    </a:lnTo>
                    <a:lnTo>
                      <a:pt x="1405" y="1086"/>
                    </a:lnTo>
                    <a:lnTo>
                      <a:pt x="1320" y="1080"/>
                    </a:lnTo>
                    <a:lnTo>
                      <a:pt x="1236" y="1072"/>
                    </a:lnTo>
                    <a:lnTo>
                      <a:pt x="1155" y="1064"/>
                    </a:lnTo>
                    <a:lnTo>
                      <a:pt x="1075" y="1053"/>
                    </a:lnTo>
                    <a:lnTo>
                      <a:pt x="997" y="1042"/>
                    </a:lnTo>
                    <a:lnTo>
                      <a:pt x="921" y="1030"/>
                    </a:lnTo>
                    <a:lnTo>
                      <a:pt x="847" y="1016"/>
                    </a:lnTo>
                    <a:lnTo>
                      <a:pt x="776" y="1002"/>
                    </a:lnTo>
                    <a:lnTo>
                      <a:pt x="707" y="987"/>
                    </a:lnTo>
                    <a:lnTo>
                      <a:pt x="640" y="970"/>
                    </a:lnTo>
                    <a:lnTo>
                      <a:pt x="577" y="953"/>
                    </a:lnTo>
                    <a:lnTo>
                      <a:pt x="515" y="934"/>
                    </a:lnTo>
                    <a:lnTo>
                      <a:pt x="457" y="914"/>
                    </a:lnTo>
                    <a:lnTo>
                      <a:pt x="402" y="894"/>
                    </a:lnTo>
                    <a:lnTo>
                      <a:pt x="350" y="874"/>
                    </a:lnTo>
                    <a:lnTo>
                      <a:pt x="300" y="852"/>
                    </a:lnTo>
                    <a:lnTo>
                      <a:pt x="255" y="828"/>
                    </a:lnTo>
                    <a:lnTo>
                      <a:pt x="212" y="805"/>
                    </a:lnTo>
                    <a:lnTo>
                      <a:pt x="174" y="782"/>
                    </a:lnTo>
                    <a:lnTo>
                      <a:pt x="139" y="757"/>
                    </a:lnTo>
                    <a:lnTo>
                      <a:pt x="107" y="731"/>
                    </a:lnTo>
                    <a:lnTo>
                      <a:pt x="79" y="705"/>
                    </a:lnTo>
                    <a:lnTo>
                      <a:pt x="56" y="679"/>
                    </a:lnTo>
                    <a:lnTo>
                      <a:pt x="35" y="652"/>
                    </a:lnTo>
                    <a:lnTo>
                      <a:pt x="20" y="624"/>
                    </a:lnTo>
                    <a:lnTo>
                      <a:pt x="9" y="597"/>
                    </a:lnTo>
                    <a:lnTo>
                      <a:pt x="2" y="569"/>
                    </a:lnTo>
                    <a:lnTo>
                      <a:pt x="0" y="540"/>
                    </a:lnTo>
                    <a:lnTo>
                      <a:pt x="2" y="511"/>
                    </a:lnTo>
                    <a:lnTo>
                      <a:pt x="9" y="483"/>
                    </a:lnTo>
                    <a:lnTo>
                      <a:pt x="20" y="455"/>
                    </a:lnTo>
                    <a:lnTo>
                      <a:pt x="35" y="429"/>
                    </a:lnTo>
                    <a:lnTo>
                      <a:pt x="56" y="401"/>
                    </a:lnTo>
                    <a:lnTo>
                      <a:pt x="79" y="376"/>
                    </a:lnTo>
                    <a:lnTo>
                      <a:pt x="107" y="350"/>
                    </a:lnTo>
                    <a:lnTo>
                      <a:pt x="139" y="326"/>
                    </a:lnTo>
                    <a:lnTo>
                      <a:pt x="174" y="301"/>
                    </a:lnTo>
                    <a:lnTo>
                      <a:pt x="212" y="278"/>
                    </a:lnTo>
                    <a:lnTo>
                      <a:pt x="255" y="256"/>
                    </a:lnTo>
                    <a:lnTo>
                      <a:pt x="300" y="234"/>
                    </a:lnTo>
                    <a:lnTo>
                      <a:pt x="350" y="213"/>
                    </a:lnTo>
                    <a:lnTo>
                      <a:pt x="402" y="192"/>
                    </a:lnTo>
                    <a:lnTo>
                      <a:pt x="457" y="173"/>
                    </a:lnTo>
                    <a:lnTo>
                      <a:pt x="515" y="154"/>
                    </a:lnTo>
                    <a:lnTo>
                      <a:pt x="577" y="137"/>
                    </a:lnTo>
                    <a:lnTo>
                      <a:pt x="640" y="120"/>
                    </a:lnTo>
                    <a:lnTo>
                      <a:pt x="707" y="105"/>
                    </a:lnTo>
                    <a:lnTo>
                      <a:pt x="776" y="89"/>
                    </a:lnTo>
                    <a:lnTo>
                      <a:pt x="847" y="76"/>
                    </a:lnTo>
                    <a:lnTo>
                      <a:pt x="921" y="63"/>
                    </a:lnTo>
                    <a:lnTo>
                      <a:pt x="997" y="52"/>
                    </a:lnTo>
                    <a:lnTo>
                      <a:pt x="1075" y="41"/>
                    </a:lnTo>
                    <a:lnTo>
                      <a:pt x="1155" y="32"/>
                    </a:lnTo>
                    <a:lnTo>
                      <a:pt x="1236" y="24"/>
                    </a:lnTo>
                    <a:lnTo>
                      <a:pt x="1320" y="17"/>
                    </a:lnTo>
                    <a:lnTo>
                      <a:pt x="1405" y="11"/>
                    </a:lnTo>
                    <a:lnTo>
                      <a:pt x="1492" y="6"/>
                    </a:lnTo>
                    <a:lnTo>
                      <a:pt x="1580" y="3"/>
                    </a:lnTo>
                    <a:lnTo>
                      <a:pt x="1669" y="1"/>
                    </a:lnTo>
                    <a:lnTo>
                      <a:pt x="1759" y="0"/>
                    </a:lnTo>
                    <a:lnTo>
                      <a:pt x="1850" y="1"/>
                    </a:lnTo>
                    <a:lnTo>
                      <a:pt x="1939" y="3"/>
                    </a:lnTo>
                    <a:lnTo>
                      <a:pt x="2027" y="6"/>
                    </a:lnTo>
                    <a:lnTo>
                      <a:pt x="2114" y="11"/>
                    </a:lnTo>
                    <a:lnTo>
                      <a:pt x="2199" y="17"/>
                    </a:lnTo>
                    <a:lnTo>
                      <a:pt x="2283" y="24"/>
                    </a:lnTo>
                    <a:lnTo>
                      <a:pt x="2364" y="32"/>
                    </a:lnTo>
                    <a:lnTo>
                      <a:pt x="2444" y="41"/>
                    </a:lnTo>
                    <a:lnTo>
                      <a:pt x="2522" y="52"/>
                    </a:lnTo>
                    <a:lnTo>
                      <a:pt x="2598" y="63"/>
                    </a:lnTo>
                    <a:lnTo>
                      <a:pt x="2671" y="76"/>
                    </a:lnTo>
                    <a:lnTo>
                      <a:pt x="2743" y="89"/>
                    </a:lnTo>
                    <a:lnTo>
                      <a:pt x="2812" y="105"/>
                    </a:lnTo>
                    <a:lnTo>
                      <a:pt x="2878" y="120"/>
                    </a:lnTo>
                    <a:lnTo>
                      <a:pt x="2942" y="137"/>
                    </a:lnTo>
                    <a:lnTo>
                      <a:pt x="3004" y="154"/>
                    </a:lnTo>
                    <a:lnTo>
                      <a:pt x="3062" y="173"/>
                    </a:lnTo>
                    <a:lnTo>
                      <a:pt x="3117" y="192"/>
                    </a:lnTo>
                    <a:lnTo>
                      <a:pt x="3169" y="213"/>
                    </a:lnTo>
                    <a:lnTo>
                      <a:pt x="3219" y="234"/>
                    </a:lnTo>
                    <a:lnTo>
                      <a:pt x="3264" y="256"/>
                    </a:lnTo>
                    <a:lnTo>
                      <a:pt x="3307" y="278"/>
                    </a:lnTo>
                    <a:lnTo>
                      <a:pt x="3345" y="301"/>
                    </a:lnTo>
                    <a:lnTo>
                      <a:pt x="3380" y="326"/>
                    </a:lnTo>
                    <a:lnTo>
                      <a:pt x="3412" y="350"/>
                    </a:lnTo>
                    <a:lnTo>
                      <a:pt x="3440" y="376"/>
                    </a:lnTo>
                    <a:lnTo>
                      <a:pt x="3463" y="401"/>
                    </a:lnTo>
                    <a:lnTo>
                      <a:pt x="3483" y="429"/>
                    </a:lnTo>
                    <a:lnTo>
                      <a:pt x="3499" y="455"/>
                    </a:lnTo>
                    <a:lnTo>
                      <a:pt x="3510" y="483"/>
                    </a:lnTo>
                    <a:lnTo>
                      <a:pt x="3517" y="511"/>
                    </a:lnTo>
                    <a:lnTo>
                      <a:pt x="3519" y="5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096280" y="6512400"/>
                <a:ext cx="388440" cy="131400"/>
              </a:xfrm>
              <a:custGeom>
                <a:avLst/>
                <a:gdLst/>
                <a:ahLst/>
                <a:rect l="l" t="t" r="r" b="b"/>
                <a:pathLst>
                  <a:path w="3517" h="1095">
                    <a:moveTo>
                      <a:pt x="3517" y="539"/>
                    </a:moveTo>
                    <a:lnTo>
                      <a:pt x="3515" y="568"/>
                    </a:lnTo>
                    <a:lnTo>
                      <a:pt x="3508" y="595"/>
                    </a:lnTo>
                    <a:lnTo>
                      <a:pt x="3497" y="623"/>
                    </a:lnTo>
                    <a:lnTo>
                      <a:pt x="3480" y="651"/>
                    </a:lnTo>
                    <a:lnTo>
                      <a:pt x="3461" y="678"/>
                    </a:lnTo>
                    <a:lnTo>
                      <a:pt x="3438" y="704"/>
                    </a:lnTo>
                    <a:lnTo>
                      <a:pt x="3410" y="730"/>
                    </a:lnTo>
                    <a:lnTo>
                      <a:pt x="3378" y="756"/>
                    </a:lnTo>
                    <a:lnTo>
                      <a:pt x="3343" y="780"/>
                    </a:lnTo>
                    <a:lnTo>
                      <a:pt x="3305" y="804"/>
                    </a:lnTo>
                    <a:lnTo>
                      <a:pt x="3262" y="827"/>
                    </a:lnTo>
                    <a:lnTo>
                      <a:pt x="3217" y="850"/>
                    </a:lnTo>
                    <a:lnTo>
                      <a:pt x="3167" y="872"/>
                    </a:lnTo>
                    <a:lnTo>
                      <a:pt x="3115" y="893"/>
                    </a:lnTo>
                    <a:lnTo>
                      <a:pt x="3060" y="913"/>
                    </a:lnTo>
                    <a:lnTo>
                      <a:pt x="3002" y="932"/>
                    </a:lnTo>
                    <a:lnTo>
                      <a:pt x="2940" y="950"/>
                    </a:lnTo>
                    <a:lnTo>
                      <a:pt x="2876" y="969"/>
                    </a:lnTo>
                    <a:lnTo>
                      <a:pt x="2811" y="985"/>
                    </a:lnTo>
                    <a:lnTo>
                      <a:pt x="2741" y="1000"/>
                    </a:lnTo>
                    <a:lnTo>
                      <a:pt x="2670" y="1015"/>
                    </a:lnTo>
                    <a:lnTo>
                      <a:pt x="2597" y="1028"/>
                    </a:lnTo>
                    <a:lnTo>
                      <a:pt x="2521" y="1040"/>
                    </a:lnTo>
                    <a:lnTo>
                      <a:pt x="2443" y="1051"/>
                    </a:lnTo>
                    <a:lnTo>
                      <a:pt x="2363" y="1062"/>
                    </a:lnTo>
                    <a:lnTo>
                      <a:pt x="2282" y="1071"/>
                    </a:lnTo>
                    <a:lnTo>
                      <a:pt x="2198" y="1078"/>
                    </a:lnTo>
                    <a:lnTo>
                      <a:pt x="2113" y="1084"/>
                    </a:lnTo>
                    <a:lnTo>
                      <a:pt x="2026" y="1089"/>
                    </a:lnTo>
                    <a:lnTo>
                      <a:pt x="1938" y="1093"/>
                    </a:lnTo>
                    <a:lnTo>
                      <a:pt x="1849" y="1095"/>
                    </a:lnTo>
                    <a:lnTo>
                      <a:pt x="1758" y="1095"/>
                    </a:lnTo>
                    <a:lnTo>
                      <a:pt x="1668" y="1095"/>
                    </a:lnTo>
                    <a:lnTo>
                      <a:pt x="1579" y="1093"/>
                    </a:lnTo>
                    <a:lnTo>
                      <a:pt x="1491" y="1089"/>
                    </a:lnTo>
                    <a:lnTo>
                      <a:pt x="1404" y="1084"/>
                    </a:lnTo>
                    <a:lnTo>
                      <a:pt x="1319" y="1078"/>
                    </a:lnTo>
                    <a:lnTo>
                      <a:pt x="1235" y="1071"/>
                    </a:lnTo>
                    <a:lnTo>
                      <a:pt x="1155" y="1062"/>
                    </a:lnTo>
                    <a:lnTo>
                      <a:pt x="1074" y="1051"/>
                    </a:lnTo>
                    <a:lnTo>
                      <a:pt x="996" y="1040"/>
                    </a:lnTo>
                    <a:lnTo>
                      <a:pt x="920" y="1028"/>
                    </a:lnTo>
                    <a:lnTo>
                      <a:pt x="846" y="1015"/>
                    </a:lnTo>
                    <a:lnTo>
                      <a:pt x="776" y="1000"/>
                    </a:lnTo>
                    <a:lnTo>
                      <a:pt x="707" y="985"/>
                    </a:lnTo>
                    <a:lnTo>
                      <a:pt x="640" y="969"/>
                    </a:lnTo>
                    <a:lnTo>
                      <a:pt x="577" y="950"/>
                    </a:lnTo>
                    <a:lnTo>
                      <a:pt x="515" y="932"/>
                    </a:lnTo>
                    <a:lnTo>
                      <a:pt x="457" y="913"/>
                    </a:lnTo>
                    <a:lnTo>
                      <a:pt x="402" y="893"/>
                    </a:lnTo>
                    <a:lnTo>
                      <a:pt x="350" y="872"/>
                    </a:lnTo>
                    <a:lnTo>
                      <a:pt x="301" y="850"/>
                    </a:lnTo>
                    <a:lnTo>
                      <a:pt x="255" y="827"/>
                    </a:lnTo>
                    <a:lnTo>
                      <a:pt x="212" y="804"/>
                    </a:lnTo>
                    <a:lnTo>
                      <a:pt x="174" y="780"/>
                    </a:lnTo>
                    <a:lnTo>
                      <a:pt x="139" y="756"/>
                    </a:lnTo>
                    <a:lnTo>
                      <a:pt x="107" y="730"/>
                    </a:lnTo>
                    <a:lnTo>
                      <a:pt x="80" y="704"/>
                    </a:lnTo>
                    <a:lnTo>
                      <a:pt x="56" y="678"/>
                    </a:lnTo>
                    <a:lnTo>
                      <a:pt x="37" y="651"/>
                    </a:lnTo>
                    <a:lnTo>
                      <a:pt x="20" y="623"/>
                    </a:lnTo>
                    <a:lnTo>
                      <a:pt x="9" y="595"/>
                    </a:lnTo>
                    <a:lnTo>
                      <a:pt x="3" y="568"/>
                    </a:lnTo>
                    <a:lnTo>
                      <a:pt x="0" y="539"/>
                    </a:lnTo>
                    <a:lnTo>
                      <a:pt x="3" y="510"/>
                    </a:lnTo>
                    <a:lnTo>
                      <a:pt x="9" y="482"/>
                    </a:lnTo>
                    <a:lnTo>
                      <a:pt x="20" y="455"/>
                    </a:lnTo>
                    <a:lnTo>
                      <a:pt x="37" y="428"/>
                    </a:lnTo>
                    <a:lnTo>
                      <a:pt x="56" y="401"/>
                    </a:lnTo>
                    <a:lnTo>
                      <a:pt x="80" y="375"/>
                    </a:lnTo>
                    <a:lnTo>
                      <a:pt x="107" y="350"/>
                    </a:lnTo>
                    <a:lnTo>
                      <a:pt x="139" y="325"/>
                    </a:lnTo>
                    <a:lnTo>
                      <a:pt x="174" y="301"/>
                    </a:lnTo>
                    <a:lnTo>
                      <a:pt x="212" y="277"/>
                    </a:lnTo>
                    <a:lnTo>
                      <a:pt x="255" y="255"/>
                    </a:lnTo>
                    <a:lnTo>
                      <a:pt x="301" y="233"/>
                    </a:lnTo>
                    <a:lnTo>
                      <a:pt x="350" y="213"/>
                    </a:lnTo>
                    <a:lnTo>
                      <a:pt x="402" y="192"/>
                    </a:lnTo>
                    <a:lnTo>
                      <a:pt x="457" y="172"/>
                    </a:lnTo>
                    <a:lnTo>
                      <a:pt x="515" y="154"/>
                    </a:lnTo>
                    <a:lnTo>
                      <a:pt x="577" y="137"/>
                    </a:lnTo>
                    <a:lnTo>
                      <a:pt x="640" y="120"/>
                    </a:lnTo>
                    <a:lnTo>
                      <a:pt x="707" y="105"/>
                    </a:lnTo>
                    <a:lnTo>
                      <a:pt x="776" y="89"/>
                    </a:lnTo>
                    <a:lnTo>
                      <a:pt x="846" y="75"/>
                    </a:lnTo>
                    <a:lnTo>
                      <a:pt x="920" y="63"/>
                    </a:lnTo>
                    <a:lnTo>
                      <a:pt x="996" y="51"/>
                    </a:lnTo>
                    <a:lnTo>
                      <a:pt x="1074" y="41"/>
                    </a:lnTo>
                    <a:lnTo>
                      <a:pt x="1155" y="32"/>
                    </a:lnTo>
                    <a:lnTo>
                      <a:pt x="1235" y="24"/>
                    </a:lnTo>
                    <a:lnTo>
                      <a:pt x="1319" y="17"/>
                    </a:lnTo>
                    <a:lnTo>
                      <a:pt x="1404" y="11"/>
                    </a:lnTo>
                    <a:lnTo>
                      <a:pt x="1491" y="6"/>
                    </a:lnTo>
                    <a:lnTo>
                      <a:pt x="1579" y="3"/>
                    </a:lnTo>
                    <a:lnTo>
                      <a:pt x="1668" y="1"/>
                    </a:lnTo>
                    <a:lnTo>
                      <a:pt x="1758" y="0"/>
                    </a:lnTo>
                    <a:lnTo>
                      <a:pt x="1849" y="1"/>
                    </a:lnTo>
                    <a:lnTo>
                      <a:pt x="1938" y="3"/>
                    </a:lnTo>
                    <a:lnTo>
                      <a:pt x="2026" y="6"/>
                    </a:lnTo>
                    <a:lnTo>
                      <a:pt x="2113" y="11"/>
                    </a:lnTo>
                    <a:lnTo>
                      <a:pt x="2198" y="17"/>
                    </a:lnTo>
                    <a:lnTo>
                      <a:pt x="2282" y="24"/>
                    </a:lnTo>
                    <a:lnTo>
                      <a:pt x="2363" y="32"/>
                    </a:lnTo>
                    <a:lnTo>
                      <a:pt x="2443" y="41"/>
                    </a:lnTo>
                    <a:lnTo>
                      <a:pt x="2521" y="51"/>
                    </a:lnTo>
                    <a:lnTo>
                      <a:pt x="2597" y="63"/>
                    </a:lnTo>
                    <a:lnTo>
                      <a:pt x="2670" y="75"/>
                    </a:lnTo>
                    <a:lnTo>
                      <a:pt x="2741" y="89"/>
                    </a:lnTo>
                    <a:lnTo>
                      <a:pt x="2811" y="105"/>
                    </a:lnTo>
                    <a:lnTo>
                      <a:pt x="2876" y="120"/>
                    </a:lnTo>
                    <a:lnTo>
                      <a:pt x="2940" y="137"/>
                    </a:lnTo>
                    <a:lnTo>
                      <a:pt x="3002" y="154"/>
                    </a:lnTo>
                    <a:lnTo>
                      <a:pt x="3060" y="172"/>
                    </a:lnTo>
                    <a:lnTo>
                      <a:pt x="3115" y="192"/>
                    </a:lnTo>
                    <a:lnTo>
                      <a:pt x="3167" y="213"/>
                    </a:lnTo>
                    <a:lnTo>
                      <a:pt x="3217" y="233"/>
                    </a:lnTo>
                    <a:lnTo>
                      <a:pt x="3262" y="255"/>
                    </a:lnTo>
                    <a:lnTo>
                      <a:pt x="3305" y="277"/>
                    </a:lnTo>
                    <a:lnTo>
                      <a:pt x="3343" y="301"/>
                    </a:lnTo>
                    <a:lnTo>
                      <a:pt x="3378" y="325"/>
                    </a:lnTo>
                    <a:lnTo>
                      <a:pt x="3410" y="350"/>
                    </a:lnTo>
                    <a:lnTo>
                      <a:pt x="3438" y="375"/>
                    </a:lnTo>
                    <a:lnTo>
                      <a:pt x="3461" y="401"/>
                    </a:lnTo>
                    <a:lnTo>
                      <a:pt x="3480" y="428"/>
                    </a:lnTo>
                    <a:lnTo>
                      <a:pt x="3497" y="455"/>
                    </a:lnTo>
                    <a:lnTo>
                      <a:pt x="3508" y="482"/>
                    </a:lnTo>
                    <a:lnTo>
                      <a:pt x="3515" y="510"/>
                    </a:lnTo>
                    <a:lnTo>
                      <a:pt x="3517" y="5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096280" y="6512400"/>
                <a:ext cx="388440" cy="129960"/>
              </a:xfrm>
              <a:custGeom>
                <a:avLst/>
                <a:gdLst/>
                <a:ahLst/>
                <a:rect l="l" t="t" r="r" b="b"/>
                <a:pathLst>
                  <a:path w="3513" h="1093">
                    <a:moveTo>
                      <a:pt x="3513" y="538"/>
                    </a:moveTo>
                    <a:lnTo>
                      <a:pt x="3511" y="566"/>
                    </a:lnTo>
                    <a:lnTo>
                      <a:pt x="3504" y="594"/>
                    </a:lnTo>
                    <a:lnTo>
                      <a:pt x="3493" y="622"/>
                    </a:lnTo>
                    <a:lnTo>
                      <a:pt x="3477" y="650"/>
                    </a:lnTo>
                    <a:lnTo>
                      <a:pt x="3458" y="677"/>
                    </a:lnTo>
                    <a:lnTo>
                      <a:pt x="3434" y="703"/>
                    </a:lnTo>
                    <a:lnTo>
                      <a:pt x="3407" y="728"/>
                    </a:lnTo>
                    <a:lnTo>
                      <a:pt x="3375" y="754"/>
                    </a:lnTo>
                    <a:lnTo>
                      <a:pt x="3340" y="779"/>
                    </a:lnTo>
                    <a:lnTo>
                      <a:pt x="3301" y="802"/>
                    </a:lnTo>
                    <a:lnTo>
                      <a:pt x="3259" y="826"/>
                    </a:lnTo>
                    <a:lnTo>
                      <a:pt x="3213" y="849"/>
                    </a:lnTo>
                    <a:lnTo>
                      <a:pt x="3164" y="870"/>
                    </a:lnTo>
                    <a:lnTo>
                      <a:pt x="3112" y="891"/>
                    </a:lnTo>
                    <a:lnTo>
                      <a:pt x="3057" y="911"/>
                    </a:lnTo>
                    <a:lnTo>
                      <a:pt x="2999" y="930"/>
                    </a:lnTo>
                    <a:lnTo>
                      <a:pt x="2938" y="949"/>
                    </a:lnTo>
                    <a:lnTo>
                      <a:pt x="2873" y="967"/>
                    </a:lnTo>
                    <a:lnTo>
                      <a:pt x="2808" y="983"/>
                    </a:lnTo>
                    <a:lnTo>
                      <a:pt x="2739" y="998"/>
                    </a:lnTo>
                    <a:lnTo>
                      <a:pt x="2667" y="1013"/>
                    </a:lnTo>
                    <a:lnTo>
                      <a:pt x="2594" y="1026"/>
                    </a:lnTo>
                    <a:lnTo>
                      <a:pt x="2518" y="1038"/>
                    </a:lnTo>
                    <a:lnTo>
                      <a:pt x="2440" y="1049"/>
                    </a:lnTo>
                    <a:lnTo>
                      <a:pt x="2360" y="1060"/>
                    </a:lnTo>
                    <a:lnTo>
                      <a:pt x="2279" y="1069"/>
                    </a:lnTo>
                    <a:lnTo>
                      <a:pt x="2196" y="1076"/>
                    </a:lnTo>
                    <a:lnTo>
                      <a:pt x="2111" y="1082"/>
                    </a:lnTo>
                    <a:lnTo>
                      <a:pt x="2024" y="1087"/>
                    </a:lnTo>
                    <a:lnTo>
                      <a:pt x="1936" y="1091"/>
                    </a:lnTo>
                    <a:lnTo>
                      <a:pt x="1847" y="1093"/>
                    </a:lnTo>
                    <a:lnTo>
                      <a:pt x="1756" y="1093"/>
                    </a:lnTo>
                    <a:lnTo>
                      <a:pt x="1667" y="1093"/>
                    </a:lnTo>
                    <a:lnTo>
                      <a:pt x="1577" y="1091"/>
                    </a:lnTo>
                    <a:lnTo>
                      <a:pt x="1489" y="1087"/>
                    </a:lnTo>
                    <a:lnTo>
                      <a:pt x="1403" y="1082"/>
                    </a:lnTo>
                    <a:lnTo>
                      <a:pt x="1317" y="1076"/>
                    </a:lnTo>
                    <a:lnTo>
                      <a:pt x="1234" y="1069"/>
                    </a:lnTo>
                    <a:lnTo>
                      <a:pt x="1153" y="1060"/>
                    </a:lnTo>
                    <a:lnTo>
                      <a:pt x="1073" y="1049"/>
                    </a:lnTo>
                    <a:lnTo>
                      <a:pt x="995" y="1038"/>
                    </a:lnTo>
                    <a:lnTo>
                      <a:pt x="919" y="1026"/>
                    </a:lnTo>
                    <a:lnTo>
                      <a:pt x="845" y="1013"/>
                    </a:lnTo>
                    <a:lnTo>
                      <a:pt x="775" y="998"/>
                    </a:lnTo>
                    <a:lnTo>
                      <a:pt x="705" y="983"/>
                    </a:lnTo>
                    <a:lnTo>
                      <a:pt x="639" y="967"/>
                    </a:lnTo>
                    <a:lnTo>
                      <a:pt x="576" y="949"/>
                    </a:lnTo>
                    <a:lnTo>
                      <a:pt x="514" y="930"/>
                    </a:lnTo>
                    <a:lnTo>
                      <a:pt x="457" y="911"/>
                    </a:lnTo>
                    <a:lnTo>
                      <a:pt x="401" y="891"/>
                    </a:lnTo>
                    <a:lnTo>
                      <a:pt x="349" y="870"/>
                    </a:lnTo>
                    <a:lnTo>
                      <a:pt x="300" y="849"/>
                    </a:lnTo>
                    <a:lnTo>
                      <a:pt x="255" y="826"/>
                    </a:lnTo>
                    <a:lnTo>
                      <a:pt x="212" y="802"/>
                    </a:lnTo>
                    <a:lnTo>
                      <a:pt x="173" y="779"/>
                    </a:lnTo>
                    <a:lnTo>
                      <a:pt x="138" y="754"/>
                    </a:lnTo>
                    <a:lnTo>
                      <a:pt x="106" y="728"/>
                    </a:lnTo>
                    <a:lnTo>
                      <a:pt x="79" y="703"/>
                    </a:lnTo>
                    <a:lnTo>
                      <a:pt x="55" y="677"/>
                    </a:lnTo>
                    <a:lnTo>
                      <a:pt x="36" y="650"/>
                    </a:lnTo>
                    <a:lnTo>
                      <a:pt x="20" y="622"/>
                    </a:lnTo>
                    <a:lnTo>
                      <a:pt x="9" y="594"/>
                    </a:lnTo>
                    <a:lnTo>
                      <a:pt x="2" y="566"/>
                    </a:lnTo>
                    <a:lnTo>
                      <a:pt x="0" y="538"/>
                    </a:lnTo>
                    <a:lnTo>
                      <a:pt x="2" y="509"/>
                    </a:lnTo>
                    <a:lnTo>
                      <a:pt x="9" y="481"/>
                    </a:lnTo>
                    <a:lnTo>
                      <a:pt x="20" y="454"/>
                    </a:lnTo>
                    <a:lnTo>
                      <a:pt x="36" y="427"/>
                    </a:lnTo>
                    <a:lnTo>
                      <a:pt x="55" y="400"/>
                    </a:lnTo>
                    <a:lnTo>
                      <a:pt x="79" y="374"/>
                    </a:lnTo>
                    <a:lnTo>
                      <a:pt x="106" y="349"/>
                    </a:lnTo>
                    <a:lnTo>
                      <a:pt x="138" y="325"/>
                    </a:lnTo>
                    <a:lnTo>
                      <a:pt x="173" y="300"/>
                    </a:lnTo>
                    <a:lnTo>
                      <a:pt x="212" y="277"/>
                    </a:lnTo>
                    <a:lnTo>
                      <a:pt x="255" y="255"/>
                    </a:lnTo>
                    <a:lnTo>
                      <a:pt x="300" y="233"/>
                    </a:lnTo>
                    <a:lnTo>
                      <a:pt x="349" y="212"/>
                    </a:lnTo>
                    <a:lnTo>
                      <a:pt x="401" y="191"/>
                    </a:lnTo>
                    <a:lnTo>
                      <a:pt x="457" y="172"/>
                    </a:lnTo>
                    <a:lnTo>
                      <a:pt x="514" y="154"/>
                    </a:lnTo>
                    <a:lnTo>
                      <a:pt x="576" y="136"/>
                    </a:lnTo>
                    <a:lnTo>
                      <a:pt x="639" y="120"/>
                    </a:lnTo>
                    <a:lnTo>
                      <a:pt x="705" y="104"/>
                    </a:lnTo>
                    <a:lnTo>
                      <a:pt x="775" y="89"/>
                    </a:lnTo>
                    <a:lnTo>
                      <a:pt x="845" y="75"/>
                    </a:lnTo>
                    <a:lnTo>
                      <a:pt x="919" y="63"/>
                    </a:lnTo>
                    <a:lnTo>
                      <a:pt x="995" y="51"/>
                    </a:lnTo>
                    <a:lnTo>
                      <a:pt x="1073" y="41"/>
                    </a:lnTo>
                    <a:lnTo>
                      <a:pt x="1153" y="32"/>
                    </a:lnTo>
                    <a:lnTo>
                      <a:pt x="1234" y="23"/>
                    </a:lnTo>
                    <a:lnTo>
                      <a:pt x="1317" y="16"/>
                    </a:lnTo>
                    <a:lnTo>
                      <a:pt x="1403" y="11"/>
                    </a:lnTo>
                    <a:lnTo>
                      <a:pt x="1489" y="6"/>
                    </a:lnTo>
                    <a:lnTo>
                      <a:pt x="1577" y="3"/>
                    </a:lnTo>
                    <a:lnTo>
                      <a:pt x="1667" y="1"/>
                    </a:lnTo>
                    <a:lnTo>
                      <a:pt x="1756" y="0"/>
                    </a:lnTo>
                    <a:lnTo>
                      <a:pt x="1847" y="1"/>
                    </a:lnTo>
                    <a:lnTo>
                      <a:pt x="1936" y="3"/>
                    </a:lnTo>
                    <a:lnTo>
                      <a:pt x="2024" y="6"/>
                    </a:lnTo>
                    <a:lnTo>
                      <a:pt x="2111" y="11"/>
                    </a:lnTo>
                    <a:lnTo>
                      <a:pt x="2196" y="16"/>
                    </a:lnTo>
                    <a:lnTo>
                      <a:pt x="2279" y="23"/>
                    </a:lnTo>
                    <a:lnTo>
                      <a:pt x="2360" y="32"/>
                    </a:lnTo>
                    <a:lnTo>
                      <a:pt x="2440" y="41"/>
                    </a:lnTo>
                    <a:lnTo>
                      <a:pt x="2518" y="51"/>
                    </a:lnTo>
                    <a:lnTo>
                      <a:pt x="2594" y="63"/>
                    </a:lnTo>
                    <a:lnTo>
                      <a:pt x="2667" y="75"/>
                    </a:lnTo>
                    <a:lnTo>
                      <a:pt x="2739" y="89"/>
                    </a:lnTo>
                    <a:lnTo>
                      <a:pt x="2808" y="104"/>
                    </a:lnTo>
                    <a:lnTo>
                      <a:pt x="2873" y="120"/>
                    </a:lnTo>
                    <a:lnTo>
                      <a:pt x="2938" y="136"/>
                    </a:lnTo>
                    <a:lnTo>
                      <a:pt x="2999" y="154"/>
                    </a:lnTo>
                    <a:lnTo>
                      <a:pt x="3057" y="172"/>
                    </a:lnTo>
                    <a:lnTo>
                      <a:pt x="3112" y="191"/>
                    </a:lnTo>
                    <a:lnTo>
                      <a:pt x="3164" y="212"/>
                    </a:lnTo>
                    <a:lnTo>
                      <a:pt x="3213" y="233"/>
                    </a:lnTo>
                    <a:lnTo>
                      <a:pt x="3259" y="255"/>
                    </a:lnTo>
                    <a:lnTo>
                      <a:pt x="3301" y="277"/>
                    </a:lnTo>
                    <a:lnTo>
                      <a:pt x="3340" y="300"/>
                    </a:lnTo>
                    <a:lnTo>
                      <a:pt x="3375" y="325"/>
                    </a:lnTo>
                    <a:lnTo>
                      <a:pt x="3407" y="349"/>
                    </a:lnTo>
                    <a:lnTo>
                      <a:pt x="3434" y="374"/>
                    </a:lnTo>
                    <a:lnTo>
                      <a:pt x="3458" y="400"/>
                    </a:lnTo>
                    <a:lnTo>
                      <a:pt x="3477" y="427"/>
                    </a:lnTo>
                    <a:lnTo>
                      <a:pt x="3493" y="454"/>
                    </a:lnTo>
                    <a:lnTo>
                      <a:pt x="3504" y="481"/>
                    </a:lnTo>
                    <a:lnTo>
                      <a:pt x="3511" y="509"/>
                    </a:lnTo>
                    <a:lnTo>
                      <a:pt x="3513" y="5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096280" y="6512400"/>
                <a:ext cx="388440" cy="129960"/>
              </a:xfrm>
              <a:custGeom>
                <a:avLst/>
                <a:gdLst/>
                <a:ahLst/>
                <a:rect l="l" t="t" r="r" b="b"/>
                <a:pathLst>
                  <a:path w="3511" h="1092">
                    <a:moveTo>
                      <a:pt x="3511" y="537"/>
                    </a:moveTo>
                    <a:lnTo>
                      <a:pt x="3509" y="565"/>
                    </a:lnTo>
                    <a:lnTo>
                      <a:pt x="3502" y="593"/>
                    </a:lnTo>
                    <a:lnTo>
                      <a:pt x="3491" y="621"/>
                    </a:lnTo>
                    <a:lnTo>
                      <a:pt x="3475" y="649"/>
                    </a:lnTo>
                    <a:lnTo>
                      <a:pt x="3455" y="675"/>
                    </a:lnTo>
                    <a:lnTo>
                      <a:pt x="3432" y="702"/>
                    </a:lnTo>
                    <a:lnTo>
                      <a:pt x="3404" y="727"/>
                    </a:lnTo>
                    <a:lnTo>
                      <a:pt x="3372" y="753"/>
                    </a:lnTo>
                    <a:lnTo>
                      <a:pt x="3338" y="777"/>
                    </a:lnTo>
                    <a:lnTo>
                      <a:pt x="3299" y="801"/>
                    </a:lnTo>
                    <a:lnTo>
                      <a:pt x="3256" y="824"/>
                    </a:lnTo>
                    <a:lnTo>
                      <a:pt x="3211" y="847"/>
                    </a:lnTo>
                    <a:lnTo>
                      <a:pt x="3162" y="869"/>
                    </a:lnTo>
                    <a:lnTo>
                      <a:pt x="3110" y="890"/>
                    </a:lnTo>
                    <a:lnTo>
                      <a:pt x="3054" y="910"/>
                    </a:lnTo>
                    <a:lnTo>
                      <a:pt x="2997" y="929"/>
                    </a:lnTo>
                    <a:lnTo>
                      <a:pt x="2936" y="947"/>
                    </a:lnTo>
                    <a:lnTo>
                      <a:pt x="2871" y="965"/>
                    </a:lnTo>
                    <a:lnTo>
                      <a:pt x="2806" y="981"/>
                    </a:lnTo>
                    <a:lnTo>
                      <a:pt x="2737" y="997"/>
                    </a:lnTo>
                    <a:lnTo>
                      <a:pt x="2665" y="1011"/>
                    </a:lnTo>
                    <a:lnTo>
                      <a:pt x="2592" y="1024"/>
                    </a:lnTo>
                    <a:lnTo>
                      <a:pt x="2516" y="1036"/>
                    </a:lnTo>
                    <a:lnTo>
                      <a:pt x="2439" y="1047"/>
                    </a:lnTo>
                    <a:lnTo>
                      <a:pt x="2359" y="1058"/>
                    </a:lnTo>
                    <a:lnTo>
                      <a:pt x="2278" y="1067"/>
                    </a:lnTo>
                    <a:lnTo>
                      <a:pt x="2194" y="1074"/>
                    </a:lnTo>
                    <a:lnTo>
                      <a:pt x="2109" y="1080"/>
                    </a:lnTo>
                    <a:lnTo>
                      <a:pt x="2023" y="1085"/>
                    </a:lnTo>
                    <a:lnTo>
                      <a:pt x="1935" y="1089"/>
                    </a:lnTo>
                    <a:lnTo>
                      <a:pt x="1845" y="1091"/>
                    </a:lnTo>
                    <a:lnTo>
                      <a:pt x="1755" y="1092"/>
                    </a:lnTo>
                    <a:lnTo>
                      <a:pt x="1666" y="1091"/>
                    </a:lnTo>
                    <a:lnTo>
                      <a:pt x="1576" y="1089"/>
                    </a:lnTo>
                    <a:lnTo>
                      <a:pt x="1488" y="1085"/>
                    </a:lnTo>
                    <a:lnTo>
                      <a:pt x="1402" y="1080"/>
                    </a:lnTo>
                    <a:lnTo>
                      <a:pt x="1317" y="1074"/>
                    </a:lnTo>
                    <a:lnTo>
                      <a:pt x="1233" y="1067"/>
                    </a:lnTo>
                    <a:lnTo>
                      <a:pt x="1152" y="1058"/>
                    </a:lnTo>
                    <a:lnTo>
                      <a:pt x="1073" y="1047"/>
                    </a:lnTo>
                    <a:lnTo>
                      <a:pt x="995" y="1036"/>
                    </a:lnTo>
                    <a:lnTo>
                      <a:pt x="919" y="1024"/>
                    </a:lnTo>
                    <a:lnTo>
                      <a:pt x="846" y="1011"/>
                    </a:lnTo>
                    <a:lnTo>
                      <a:pt x="774" y="997"/>
                    </a:lnTo>
                    <a:lnTo>
                      <a:pt x="705" y="981"/>
                    </a:lnTo>
                    <a:lnTo>
                      <a:pt x="639" y="965"/>
                    </a:lnTo>
                    <a:lnTo>
                      <a:pt x="575" y="947"/>
                    </a:lnTo>
                    <a:lnTo>
                      <a:pt x="514" y="929"/>
                    </a:lnTo>
                    <a:lnTo>
                      <a:pt x="457" y="910"/>
                    </a:lnTo>
                    <a:lnTo>
                      <a:pt x="401" y="890"/>
                    </a:lnTo>
                    <a:lnTo>
                      <a:pt x="349" y="869"/>
                    </a:lnTo>
                    <a:lnTo>
                      <a:pt x="300" y="847"/>
                    </a:lnTo>
                    <a:lnTo>
                      <a:pt x="255" y="824"/>
                    </a:lnTo>
                    <a:lnTo>
                      <a:pt x="212" y="801"/>
                    </a:lnTo>
                    <a:lnTo>
                      <a:pt x="173" y="777"/>
                    </a:lnTo>
                    <a:lnTo>
                      <a:pt x="139" y="753"/>
                    </a:lnTo>
                    <a:lnTo>
                      <a:pt x="107" y="727"/>
                    </a:lnTo>
                    <a:lnTo>
                      <a:pt x="79" y="702"/>
                    </a:lnTo>
                    <a:lnTo>
                      <a:pt x="56" y="675"/>
                    </a:lnTo>
                    <a:lnTo>
                      <a:pt x="36" y="649"/>
                    </a:lnTo>
                    <a:lnTo>
                      <a:pt x="20" y="621"/>
                    </a:lnTo>
                    <a:lnTo>
                      <a:pt x="9" y="593"/>
                    </a:lnTo>
                    <a:lnTo>
                      <a:pt x="2" y="565"/>
                    </a:lnTo>
                    <a:lnTo>
                      <a:pt x="0" y="537"/>
                    </a:lnTo>
                    <a:lnTo>
                      <a:pt x="2" y="508"/>
                    </a:lnTo>
                    <a:lnTo>
                      <a:pt x="9" y="480"/>
                    </a:lnTo>
                    <a:lnTo>
                      <a:pt x="20" y="453"/>
                    </a:lnTo>
                    <a:lnTo>
                      <a:pt x="36" y="426"/>
                    </a:lnTo>
                    <a:lnTo>
                      <a:pt x="56" y="399"/>
                    </a:lnTo>
                    <a:lnTo>
                      <a:pt x="79" y="373"/>
                    </a:lnTo>
                    <a:lnTo>
                      <a:pt x="107" y="348"/>
                    </a:lnTo>
                    <a:lnTo>
                      <a:pt x="139" y="324"/>
                    </a:lnTo>
                    <a:lnTo>
                      <a:pt x="173" y="299"/>
                    </a:lnTo>
                    <a:lnTo>
                      <a:pt x="212" y="276"/>
                    </a:lnTo>
                    <a:lnTo>
                      <a:pt x="255" y="254"/>
                    </a:lnTo>
                    <a:lnTo>
                      <a:pt x="300" y="232"/>
                    </a:lnTo>
                    <a:lnTo>
                      <a:pt x="349" y="212"/>
                    </a:lnTo>
                    <a:lnTo>
                      <a:pt x="401" y="191"/>
                    </a:lnTo>
                    <a:lnTo>
                      <a:pt x="457" y="172"/>
                    </a:lnTo>
                    <a:lnTo>
                      <a:pt x="514" y="153"/>
                    </a:lnTo>
                    <a:lnTo>
                      <a:pt x="575" y="136"/>
                    </a:lnTo>
                    <a:lnTo>
                      <a:pt x="639" y="120"/>
                    </a:lnTo>
                    <a:lnTo>
                      <a:pt x="705" y="104"/>
                    </a:lnTo>
                    <a:lnTo>
                      <a:pt x="774" y="89"/>
                    </a:lnTo>
                    <a:lnTo>
                      <a:pt x="846" y="75"/>
                    </a:lnTo>
                    <a:lnTo>
                      <a:pt x="919" y="62"/>
                    </a:lnTo>
                    <a:lnTo>
                      <a:pt x="995" y="51"/>
                    </a:lnTo>
                    <a:lnTo>
                      <a:pt x="1073" y="41"/>
                    </a:lnTo>
                    <a:lnTo>
                      <a:pt x="1152" y="31"/>
                    </a:lnTo>
                    <a:lnTo>
                      <a:pt x="1233" y="23"/>
                    </a:lnTo>
                    <a:lnTo>
                      <a:pt x="1317" y="16"/>
                    </a:lnTo>
                    <a:lnTo>
                      <a:pt x="1402" y="11"/>
                    </a:lnTo>
                    <a:lnTo>
                      <a:pt x="1488" y="6"/>
                    </a:lnTo>
                    <a:lnTo>
                      <a:pt x="1576" y="3"/>
                    </a:lnTo>
                    <a:lnTo>
                      <a:pt x="1666" y="1"/>
                    </a:lnTo>
                    <a:lnTo>
                      <a:pt x="1755" y="0"/>
                    </a:lnTo>
                    <a:lnTo>
                      <a:pt x="1845" y="1"/>
                    </a:lnTo>
                    <a:lnTo>
                      <a:pt x="1935" y="3"/>
                    </a:lnTo>
                    <a:lnTo>
                      <a:pt x="2023" y="6"/>
                    </a:lnTo>
                    <a:lnTo>
                      <a:pt x="2109" y="11"/>
                    </a:lnTo>
                    <a:lnTo>
                      <a:pt x="2194" y="16"/>
                    </a:lnTo>
                    <a:lnTo>
                      <a:pt x="2278" y="23"/>
                    </a:lnTo>
                    <a:lnTo>
                      <a:pt x="2359" y="31"/>
                    </a:lnTo>
                    <a:lnTo>
                      <a:pt x="2439" y="41"/>
                    </a:lnTo>
                    <a:lnTo>
                      <a:pt x="2516" y="51"/>
                    </a:lnTo>
                    <a:lnTo>
                      <a:pt x="2592" y="62"/>
                    </a:lnTo>
                    <a:lnTo>
                      <a:pt x="2665" y="75"/>
                    </a:lnTo>
                    <a:lnTo>
                      <a:pt x="2737" y="89"/>
                    </a:lnTo>
                    <a:lnTo>
                      <a:pt x="2806" y="104"/>
                    </a:lnTo>
                    <a:lnTo>
                      <a:pt x="2871" y="120"/>
                    </a:lnTo>
                    <a:lnTo>
                      <a:pt x="2936" y="136"/>
                    </a:lnTo>
                    <a:lnTo>
                      <a:pt x="2997" y="153"/>
                    </a:lnTo>
                    <a:lnTo>
                      <a:pt x="3054" y="172"/>
                    </a:lnTo>
                    <a:lnTo>
                      <a:pt x="3110" y="191"/>
                    </a:lnTo>
                    <a:lnTo>
                      <a:pt x="3162" y="212"/>
                    </a:lnTo>
                    <a:lnTo>
                      <a:pt x="3211" y="232"/>
                    </a:lnTo>
                    <a:lnTo>
                      <a:pt x="3256" y="254"/>
                    </a:lnTo>
                    <a:lnTo>
                      <a:pt x="3299" y="276"/>
                    </a:lnTo>
                    <a:lnTo>
                      <a:pt x="3338" y="299"/>
                    </a:lnTo>
                    <a:lnTo>
                      <a:pt x="3372" y="324"/>
                    </a:lnTo>
                    <a:lnTo>
                      <a:pt x="3404" y="348"/>
                    </a:lnTo>
                    <a:lnTo>
                      <a:pt x="3432" y="373"/>
                    </a:lnTo>
                    <a:lnTo>
                      <a:pt x="3455" y="399"/>
                    </a:lnTo>
                    <a:lnTo>
                      <a:pt x="3475" y="426"/>
                    </a:lnTo>
                    <a:lnTo>
                      <a:pt x="3491" y="453"/>
                    </a:lnTo>
                    <a:lnTo>
                      <a:pt x="3502" y="480"/>
                    </a:lnTo>
                    <a:lnTo>
                      <a:pt x="3509" y="508"/>
                    </a:lnTo>
                    <a:lnTo>
                      <a:pt x="3511" y="5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097360" y="6512400"/>
                <a:ext cx="386280" cy="129960"/>
              </a:xfrm>
              <a:custGeom>
                <a:avLst/>
                <a:gdLst/>
                <a:ahLst/>
                <a:rect l="l" t="t" r="r" b="b"/>
                <a:pathLst>
                  <a:path w="3508" h="1090">
                    <a:moveTo>
                      <a:pt x="3508" y="536"/>
                    </a:moveTo>
                    <a:lnTo>
                      <a:pt x="3505" y="564"/>
                    </a:lnTo>
                    <a:lnTo>
                      <a:pt x="3499" y="592"/>
                    </a:lnTo>
                    <a:lnTo>
                      <a:pt x="3488" y="620"/>
                    </a:lnTo>
                    <a:lnTo>
                      <a:pt x="3471" y="648"/>
                    </a:lnTo>
                    <a:lnTo>
                      <a:pt x="3452" y="674"/>
                    </a:lnTo>
                    <a:lnTo>
                      <a:pt x="3428" y="700"/>
                    </a:lnTo>
                    <a:lnTo>
                      <a:pt x="3401" y="726"/>
                    </a:lnTo>
                    <a:lnTo>
                      <a:pt x="3369" y="752"/>
                    </a:lnTo>
                    <a:lnTo>
                      <a:pt x="3334" y="776"/>
                    </a:lnTo>
                    <a:lnTo>
                      <a:pt x="3296" y="800"/>
                    </a:lnTo>
                    <a:lnTo>
                      <a:pt x="3253" y="823"/>
                    </a:lnTo>
                    <a:lnTo>
                      <a:pt x="3208" y="846"/>
                    </a:lnTo>
                    <a:lnTo>
                      <a:pt x="3159" y="867"/>
                    </a:lnTo>
                    <a:lnTo>
                      <a:pt x="3107" y="888"/>
                    </a:lnTo>
                    <a:lnTo>
                      <a:pt x="3051" y="908"/>
                    </a:lnTo>
                    <a:lnTo>
                      <a:pt x="2994" y="927"/>
                    </a:lnTo>
                    <a:lnTo>
                      <a:pt x="2933" y="945"/>
                    </a:lnTo>
                    <a:lnTo>
                      <a:pt x="2869" y="963"/>
                    </a:lnTo>
                    <a:lnTo>
                      <a:pt x="2803" y="980"/>
                    </a:lnTo>
                    <a:lnTo>
                      <a:pt x="2734" y="995"/>
                    </a:lnTo>
                    <a:lnTo>
                      <a:pt x="2662" y="1009"/>
                    </a:lnTo>
                    <a:lnTo>
                      <a:pt x="2590" y="1022"/>
                    </a:lnTo>
                    <a:lnTo>
                      <a:pt x="2514" y="1035"/>
                    </a:lnTo>
                    <a:lnTo>
                      <a:pt x="2436" y="1046"/>
                    </a:lnTo>
                    <a:lnTo>
                      <a:pt x="2356" y="1056"/>
                    </a:lnTo>
                    <a:lnTo>
                      <a:pt x="2275" y="1065"/>
                    </a:lnTo>
                    <a:lnTo>
                      <a:pt x="2192" y="1072"/>
                    </a:lnTo>
                    <a:lnTo>
                      <a:pt x="2107" y="1078"/>
                    </a:lnTo>
                    <a:lnTo>
                      <a:pt x="2020" y="1083"/>
                    </a:lnTo>
                    <a:lnTo>
                      <a:pt x="1933" y="1087"/>
                    </a:lnTo>
                    <a:lnTo>
                      <a:pt x="1843" y="1089"/>
                    </a:lnTo>
                    <a:lnTo>
                      <a:pt x="1753" y="1090"/>
                    </a:lnTo>
                    <a:lnTo>
                      <a:pt x="1664" y="1089"/>
                    </a:lnTo>
                    <a:lnTo>
                      <a:pt x="1574" y="1087"/>
                    </a:lnTo>
                    <a:lnTo>
                      <a:pt x="1487" y="1083"/>
                    </a:lnTo>
                    <a:lnTo>
                      <a:pt x="1400" y="1078"/>
                    </a:lnTo>
                    <a:lnTo>
                      <a:pt x="1315" y="1072"/>
                    </a:lnTo>
                    <a:lnTo>
                      <a:pt x="1232" y="1065"/>
                    </a:lnTo>
                    <a:lnTo>
                      <a:pt x="1151" y="1056"/>
                    </a:lnTo>
                    <a:lnTo>
                      <a:pt x="1071" y="1046"/>
                    </a:lnTo>
                    <a:lnTo>
                      <a:pt x="993" y="1035"/>
                    </a:lnTo>
                    <a:lnTo>
                      <a:pt x="917" y="1022"/>
                    </a:lnTo>
                    <a:lnTo>
                      <a:pt x="845" y="1009"/>
                    </a:lnTo>
                    <a:lnTo>
                      <a:pt x="773" y="995"/>
                    </a:lnTo>
                    <a:lnTo>
                      <a:pt x="704" y="980"/>
                    </a:lnTo>
                    <a:lnTo>
                      <a:pt x="637" y="963"/>
                    </a:lnTo>
                    <a:lnTo>
                      <a:pt x="574" y="945"/>
                    </a:lnTo>
                    <a:lnTo>
                      <a:pt x="513" y="927"/>
                    </a:lnTo>
                    <a:lnTo>
                      <a:pt x="456" y="908"/>
                    </a:lnTo>
                    <a:lnTo>
                      <a:pt x="400" y="888"/>
                    </a:lnTo>
                    <a:lnTo>
                      <a:pt x="349" y="867"/>
                    </a:lnTo>
                    <a:lnTo>
                      <a:pt x="299" y="846"/>
                    </a:lnTo>
                    <a:lnTo>
                      <a:pt x="254" y="823"/>
                    </a:lnTo>
                    <a:lnTo>
                      <a:pt x="211" y="800"/>
                    </a:lnTo>
                    <a:lnTo>
                      <a:pt x="173" y="776"/>
                    </a:lnTo>
                    <a:lnTo>
                      <a:pt x="138" y="752"/>
                    </a:lnTo>
                    <a:lnTo>
                      <a:pt x="106" y="726"/>
                    </a:lnTo>
                    <a:lnTo>
                      <a:pt x="79" y="700"/>
                    </a:lnTo>
                    <a:lnTo>
                      <a:pt x="55" y="674"/>
                    </a:lnTo>
                    <a:lnTo>
                      <a:pt x="36" y="648"/>
                    </a:lnTo>
                    <a:lnTo>
                      <a:pt x="20" y="620"/>
                    </a:lnTo>
                    <a:lnTo>
                      <a:pt x="9" y="592"/>
                    </a:lnTo>
                    <a:lnTo>
                      <a:pt x="2" y="564"/>
                    </a:lnTo>
                    <a:lnTo>
                      <a:pt x="0" y="536"/>
                    </a:lnTo>
                    <a:lnTo>
                      <a:pt x="2" y="507"/>
                    </a:lnTo>
                    <a:lnTo>
                      <a:pt x="9" y="479"/>
                    </a:lnTo>
                    <a:lnTo>
                      <a:pt x="20" y="452"/>
                    </a:lnTo>
                    <a:lnTo>
                      <a:pt x="36" y="425"/>
                    </a:lnTo>
                    <a:lnTo>
                      <a:pt x="55" y="398"/>
                    </a:lnTo>
                    <a:lnTo>
                      <a:pt x="79" y="373"/>
                    </a:lnTo>
                    <a:lnTo>
                      <a:pt x="106" y="348"/>
                    </a:lnTo>
                    <a:lnTo>
                      <a:pt x="138" y="323"/>
                    </a:lnTo>
                    <a:lnTo>
                      <a:pt x="173" y="299"/>
                    </a:lnTo>
                    <a:lnTo>
                      <a:pt x="211" y="276"/>
                    </a:lnTo>
                    <a:lnTo>
                      <a:pt x="254" y="254"/>
                    </a:lnTo>
                    <a:lnTo>
                      <a:pt x="299" y="232"/>
                    </a:lnTo>
                    <a:lnTo>
                      <a:pt x="349" y="211"/>
                    </a:lnTo>
                    <a:lnTo>
                      <a:pt x="400" y="190"/>
                    </a:lnTo>
                    <a:lnTo>
                      <a:pt x="456" y="171"/>
                    </a:lnTo>
                    <a:lnTo>
                      <a:pt x="513" y="153"/>
                    </a:lnTo>
                    <a:lnTo>
                      <a:pt x="574" y="136"/>
                    </a:lnTo>
                    <a:lnTo>
                      <a:pt x="637" y="119"/>
                    </a:lnTo>
                    <a:lnTo>
                      <a:pt x="704" y="104"/>
                    </a:lnTo>
                    <a:lnTo>
                      <a:pt x="773" y="88"/>
                    </a:lnTo>
                    <a:lnTo>
                      <a:pt x="845" y="75"/>
                    </a:lnTo>
                    <a:lnTo>
                      <a:pt x="917" y="62"/>
                    </a:lnTo>
                    <a:lnTo>
                      <a:pt x="993" y="51"/>
                    </a:lnTo>
                    <a:lnTo>
                      <a:pt x="1071" y="41"/>
                    </a:lnTo>
                    <a:lnTo>
                      <a:pt x="1151" y="31"/>
                    </a:lnTo>
                    <a:lnTo>
                      <a:pt x="1232" y="23"/>
                    </a:lnTo>
                    <a:lnTo>
                      <a:pt x="1315" y="16"/>
                    </a:lnTo>
                    <a:lnTo>
                      <a:pt x="1400" y="11"/>
                    </a:lnTo>
                    <a:lnTo>
                      <a:pt x="1487" y="6"/>
                    </a:lnTo>
                    <a:lnTo>
                      <a:pt x="1574" y="3"/>
                    </a:lnTo>
                    <a:lnTo>
                      <a:pt x="1664" y="1"/>
                    </a:lnTo>
                    <a:lnTo>
                      <a:pt x="1753" y="0"/>
                    </a:lnTo>
                    <a:lnTo>
                      <a:pt x="1843" y="1"/>
                    </a:lnTo>
                    <a:lnTo>
                      <a:pt x="1933" y="3"/>
                    </a:lnTo>
                    <a:lnTo>
                      <a:pt x="2020" y="6"/>
                    </a:lnTo>
                    <a:lnTo>
                      <a:pt x="2107" y="11"/>
                    </a:lnTo>
                    <a:lnTo>
                      <a:pt x="2192" y="16"/>
                    </a:lnTo>
                    <a:lnTo>
                      <a:pt x="2275" y="23"/>
                    </a:lnTo>
                    <a:lnTo>
                      <a:pt x="2356" y="31"/>
                    </a:lnTo>
                    <a:lnTo>
                      <a:pt x="2436" y="41"/>
                    </a:lnTo>
                    <a:lnTo>
                      <a:pt x="2514" y="51"/>
                    </a:lnTo>
                    <a:lnTo>
                      <a:pt x="2590" y="62"/>
                    </a:lnTo>
                    <a:lnTo>
                      <a:pt x="2662" y="75"/>
                    </a:lnTo>
                    <a:lnTo>
                      <a:pt x="2734" y="88"/>
                    </a:lnTo>
                    <a:lnTo>
                      <a:pt x="2803" y="104"/>
                    </a:lnTo>
                    <a:lnTo>
                      <a:pt x="2869" y="119"/>
                    </a:lnTo>
                    <a:lnTo>
                      <a:pt x="2933" y="136"/>
                    </a:lnTo>
                    <a:lnTo>
                      <a:pt x="2994" y="153"/>
                    </a:lnTo>
                    <a:lnTo>
                      <a:pt x="3051" y="171"/>
                    </a:lnTo>
                    <a:lnTo>
                      <a:pt x="3107" y="190"/>
                    </a:lnTo>
                    <a:lnTo>
                      <a:pt x="3159" y="211"/>
                    </a:lnTo>
                    <a:lnTo>
                      <a:pt x="3208" y="232"/>
                    </a:lnTo>
                    <a:lnTo>
                      <a:pt x="3253" y="254"/>
                    </a:lnTo>
                    <a:lnTo>
                      <a:pt x="3296" y="276"/>
                    </a:lnTo>
                    <a:lnTo>
                      <a:pt x="3334" y="299"/>
                    </a:lnTo>
                    <a:lnTo>
                      <a:pt x="3369" y="323"/>
                    </a:lnTo>
                    <a:lnTo>
                      <a:pt x="3401" y="348"/>
                    </a:lnTo>
                    <a:lnTo>
                      <a:pt x="3428" y="373"/>
                    </a:lnTo>
                    <a:lnTo>
                      <a:pt x="3452" y="398"/>
                    </a:lnTo>
                    <a:lnTo>
                      <a:pt x="3471" y="425"/>
                    </a:lnTo>
                    <a:lnTo>
                      <a:pt x="3488" y="452"/>
                    </a:lnTo>
                    <a:lnTo>
                      <a:pt x="3499" y="479"/>
                    </a:lnTo>
                    <a:lnTo>
                      <a:pt x="3505" y="507"/>
                    </a:lnTo>
                    <a:lnTo>
                      <a:pt x="3508" y="5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097360" y="6512400"/>
                <a:ext cx="386280" cy="129960"/>
              </a:xfrm>
              <a:custGeom>
                <a:avLst/>
                <a:gdLst/>
                <a:ahLst/>
                <a:rect l="l" t="t" r="r" b="b"/>
                <a:pathLst>
                  <a:path w="3505" h="1088">
                    <a:moveTo>
                      <a:pt x="3505" y="535"/>
                    </a:moveTo>
                    <a:lnTo>
                      <a:pt x="3503" y="563"/>
                    </a:lnTo>
                    <a:lnTo>
                      <a:pt x="3496" y="591"/>
                    </a:lnTo>
                    <a:lnTo>
                      <a:pt x="3485" y="619"/>
                    </a:lnTo>
                    <a:lnTo>
                      <a:pt x="3469" y="647"/>
                    </a:lnTo>
                    <a:lnTo>
                      <a:pt x="3449" y="673"/>
                    </a:lnTo>
                    <a:lnTo>
                      <a:pt x="3426" y="699"/>
                    </a:lnTo>
                    <a:lnTo>
                      <a:pt x="3399" y="724"/>
                    </a:lnTo>
                    <a:lnTo>
                      <a:pt x="3367" y="750"/>
                    </a:lnTo>
                    <a:lnTo>
                      <a:pt x="3332" y="775"/>
                    </a:lnTo>
                    <a:lnTo>
                      <a:pt x="3294" y="798"/>
                    </a:lnTo>
                    <a:lnTo>
                      <a:pt x="3251" y="821"/>
                    </a:lnTo>
                    <a:lnTo>
                      <a:pt x="3206" y="844"/>
                    </a:lnTo>
                    <a:lnTo>
                      <a:pt x="3156" y="866"/>
                    </a:lnTo>
                    <a:lnTo>
                      <a:pt x="3105" y="886"/>
                    </a:lnTo>
                    <a:lnTo>
                      <a:pt x="3049" y="906"/>
                    </a:lnTo>
                    <a:lnTo>
                      <a:pt x="2992" y="925"/>
                    </a:lnTo>
                    <a:lnTo>
                      <a:pt x="2931" y="943"/>
                    </a:lnTo>
                    <a:lnTo>
                      <a:pt x="2867" y="962"/>
                    </a:lnTo>
                    <a:lnTo>
                      <a:pt x="2801" y="978"/>
                    </a:lnTo>
                    <a:lnTo>
                      <a:pt x="2732" y="993"/>
                    </a:lnTo>
                    <a:lnTo>
                      <a:pt x="2661" y="1007"/>
                    </a:lnTo>
                    <a:lnTo>
                      <a:pt x="2588" y="1021"/>
                    </a:lnTo>
                    <a:lnTo>
                      <a:pt x="2512" y="1033"/>
                    </a:lnTo>
                    <a:lnTo>
                      <a:pt x="2434" y="1044"/>
                    </a:lnTo>
                    <a:lnTo>
                      <a:pt x="2355" y="1053"/>
                    </a:lnTo>
                    <a:lnTo>
                      <a:pt x="2274" y="1063"/>
                    </a:lnTo>
                    <a:lnTo>
                      <a:pt x="2191" y="1070"/>
                    </a:lnTo>
                    <a:lnTo>
                      <a:pt x="2106" y="1077"/>
                    </a:lnTo>
                    <a:lnTo>
                      <a:pt x="2019" y="1081"/>
                    </a:lnTo>
                    <a:lnTo>
                      <a:pt x="1931" y="1085"/>
                    </a:lnTo>
                    <a:lnTo>
                      <a:pt x="1842" y="1087"/>
                    </a:lnTo>
                    <a:lnTo>
                      <a:pt x="1752" y="1088"/>
                    </a:lnTo>
                    <a:lnTo>
                      <a:pt x="1663" y="1087"/>
                    </a:lnTo>
                    <a:lnTo>
                      <a:pt x="1574" y="1085"/>
                    </a:lnTo>
                    <a:lnTo>
                      <a:pt x="1486" y="1081"/>
                    </a:lnTo>
                    <a:lnTo>
                      <a:pt x="1399" y="1077"/>
                    </a:lnTo>
                    <a:lnTo>
                      <a:pt x="1314" y="1070"/>
                    </a:lnTo>
                    <a:lnTo>
                      <a:pt x="1231" y="1063"/>
                    </a:lnTo>
                    <a:lnTo>
                      <a:pt x="1150" y="1053"/>
                    </a:lnTo>
                    <a:lnTo>
                      <a:pt x="1071" y="1044"/>
                    </a:lnTo>
                    <a:lnTo>
                      <a:pt x="993" y="1033"/>
                    </a:lnTo>
                    <a:lnTo>
                      <a:pt x="917" y="1021"/>
                    </a:lnTo>
                    <a:lnTo>
                      <a:pt x="844" y="1007"/>
                    </a:lnTo>
                    <a:lnTo>
                      <a:pt x="773" y="993"/>
                    </a:lnTo>
                    <a:lnTo>
                      <a:pt x="704" y="978"/>
                    </a:lnTo>
                    <a:lnTo>
                      <a:pt x="637" y="962"/>
                    </a:lnTo>
                    <a:lnTo>
                      <a:pt x="574" y="943"/>
                    </a:lnTo>
                    <a:lnTo>
                      <a:pt x="513" y="925"/>
                    </a:lnTo>
                    <a:lnTo>
                      <a:pt x="456" y="906"/>
                    </a:lnTo>
                    <a:lnTo>
                      <a:pt x="400" y="886"/>
                    </a:lnTo>
                    <a:lnTo>
                      <a:pt x="349" y="866"/>
                    </a:lnTo>
                    <a:lnTo>
                      <a:pt x="299" y="844"/>
                    </a:lnTo>
                    <a:lnTo>
                      <a:pt x="254" y="821"/>
                    </a:lnTo>
                    <a:lnTo>
                      <a:pt x="211" y="798"/>
                    </a:lnTo>
                    <a:lnTo>
                      <a:pt x="173" y="775"/>
                    </a:lnTo>
                    <a:lnTo>
                      <a:pt x="138" y="750"/>
                    </a:lnTo>
                    <a:lnTo>
                      <a:pt x="106" y="724"/>
                    </a:lnTo>
                    <a:lnTo>
                      <a:pt x="79" y="699"/>
                    </a:lnTo>
                    <a:lnTo>
                      <a:pt x="56" y="673"/>
                    </a:lnTo>
                    <a:lnTo>
                      <a:pt x="36" y="647"/>
                    </a:lnTo>
                    <a:lnTo>
                      <a:pt x="20" y="619"/>
                    </a:lnTo>
                    <a:lnTo>
                      <a:pt x="9" y="591"/>
                    </a:lnTo>
                    <a:lnTo>
                      <a:pt x="2" y="563"/>
                    </a:lnTo>
                    <a:lnTo>
                      <a:pt x="0" y="535"/>
                    </a:lnTo>
                    <a:lnTo>
                      <a:pt x="2" y="506"/>
                    </a:lnTo>
                    <a:lnTo>
                      <a:pt x="9" y="478"/>
                    </a:lnTo>
                    <a:lnTo>
                      <a:pt x="20" y="451"/>
                    </a:lnTo>
                    <a:lnTo>
                      <a:pt x="36" y="425"/>
                    </a:lnTo>
                    <a:lnTo>
                      <a:pt x="56" y="397"/>
                    </a:lnTo>
                    <a:lnTo>
                      <a:pt x="79" y="372"/>
                    </a:lnTo>
                    <a:lnTo>
                      <a:pt x="106" y="347"/>
                    </a:lnTo>
                    <a:lnTo>
                      <a:pt x="138" y="323"/>
                    </a:lnTo>
                    <a:lnTo>
                      <a:pt x="173" y="298"/>
                    </a:lnTo>
                    <a:lnTo>
                      <a:pt x="211" y="275"/>
                    </a:lnTo>
                    <a:lnTo>
                      <a:pt x="254" y="253"/>
                    </a:lnTo>
                    <a:lnTo>
                      <a:pt x="299" y="232"/>
                    </a:lnTo>
                    <a:lnTo>
                      <a:pt x="349" y="211"/>
                    </a:lnTo>
                    <a:lnTo>
                      <a:pt x="400" y="190"/>
                    </a:lnTo>
                    <a:lnTo>
                      <a:pt x="456" y="171"/>
                    </a:lnTo>
                    <a:lnTo>
                      <a:pt x="513" y="153"/>
                    </a:lnTo>
                    <a:lnTo>
                      <a:pt x="574" y="135"/>
                    </a:lnTo>
                    <a:lnTo>
                      <a:pt x="637" y="119"/>
                    </a:lnTo>
                    <a:lnTo>
                      <a:pt x="704" y="104"/>
                    </a:lnTo>
                    <a:lnTo>
                      <a:pt x="773" y="88"/>
                    </a:lnTo>
                    <a:lnTo>
                      <a:pt x="844" y="75"/>
                    </a:lnTo>
                    <a:lnTo>
                      <a:pt x="917" y="62"/>
                    </a:lnTo>
                    <a:lnTo>
                      <a:pt x="993" y="51"/>
                    </a:lnTo>
                    <a:lnTo>
                      <a:pt x="1071" y="40"/>
                    </a:lnTo>
                    <a:lnTo>
                      <a:pt x="1150" y="31"/>
                    </a:lnTo>
                    <a:lnTo>
                      <a:pt x="1231" y="23"/>
                    </a:lnTo>
                    <a:lnTo>
                      <a:pt x="1314" y="16"/>
                    </a:lnTo>
                    <a:lnTo>
                      <a:pt x="1399" y="10"/>
                    </a:lnTo>
                    <a:lnTo>
                      <a:pt x="1486" y="6"/>
                    </a:lnTo>
                    <a:lnTo>
                      <a:pt x="1574" y="3"/>
                    </a:lnTo>
                    <a:lnTo>
                      <a:pt x="1663" y="1"/>
                    </a:lnTo>
                    <a:lnTo>
                      <a:pt x="1752" y="0"/>
                    </a:lnTo>
                    <a:lnTo>
                      <a:pt x="1842" y="1"/>
                    </a:lnTo>
                    <a:lnTo>
                      <a:pt x="1931" y="3"/>
                    </a:lnTo>
                    <a:lnTo>
                      <a:pt x="2019" y="6"/>
                    </a:lnTo>
                    <a:lnTo>
                      <a:pt x="2106" y="10"/>
                    </a:lnTo>
                    <a:lnTo>
                      <a:pt x="2191" y="16"/>
                    </a:lnTo>
                    <a:lnTo>
                      <a:pt x="2274" y="23"/>
                    </a:lnTo>
                    <a:lnTo>
                      <a:pt x="2355" y="31"/>
                    </a:lnTo>
                    <a:lnTo>
                      <a:pt x="2434" y="40"/>
                    </a:lnTo>
                    <a:lnTo>
                      <a:pt x="2512" y="51"/>
                    </a:lnTo>
                    <a:lnTo>
                      <a:pt x="2588" y="62"/>
                    </a:lnTo>
                    <a:lnTo>
                      <a:pt x="2661" y="75"/>
                    </a:lnTo>
                    <a:lnTo>
                      <a:pt x="2732" y="88"/>
                    </a:lnTo>
                    <a:lnTo>
                      <a:pt x="2801" y="104"/>
                    </a:lnTo>
                    <a:lnTo>
                      <a:pt x="2867" y="119"/>
                    </a:lnTo>
                    <a:lnTo>
                      <a:pt x="2931" y="135"/>
                    </a:lnTo>
                    <a:lnTo>
                      <a:pt x="2992" y="153"/>
                    </a:lnTo>
                    <a:lnTo>
                      <a:pt x="3049" y="171"/>
                    </a:lnTo>
                    <a:lnTo>
                      <a:pt x="3105" y="190"/>
                    </a:lnTo>
                    <a:lnTo>
                      <a:pt x="3156" y="211"/>
                    </a:lnTo>
                    <a:lnTo>
                      <a:pt x="3206" y="232"/>
                    </a:lnTo>
                    <a:lnTo>
                      <a:pt x="3251" y="253"/>
                    </a:lnTo>
                    <a:lnTo>
                      <a:pt x="3294" y="275"/>
                    </a:lnTo>
                    <a:lnTo>
                      <a:pt x="3332" y="298"/>
                    </a:lnTo>
                    <a:lnTo>
                      <a:pt x="3367" y="323"/>
                    </a:lnTo>
                    <a:lnTo>
                      <a:pt x="3399" y="347"/>
                    </a:lnTo>
                    <a:lnTo>
                      <a:pt x="3426" y="372"/>
                    </a:lnTo>
                    <a:lnTo>
                      <a:pt x="3449" y="397"/>
                    </a:lnTo>
                    <a:lnTo>
                      <a:pt x="3469" y="425"/>
                    </a:lnTo>
                    <a:lnTo>
                      <a:pt x="3485" y="451"/>
                    </a:lnTo>
                    <a:lnTo>
                      <a:pt x="3496" y="478"/>
                    </a:lnTo>
                    <a:lnTo>
                      <a:pt x="3503" y="506"/>
                    </a:lnTo>
                    <a:lnTo>
                      <a:pt x="3505" y="5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097360" y="6512400"/>
                <a:ext cx="386280" cy="129960"/>
              </a:xfrm>
              <a:custGeom>
                <a:avLst/>
                <a:gdLst/>
                <a:ahLst/>
                <a:rect l="l" t="t" r="r" b="b"/>
                <a:pathLst>
                  <a:path w="3503" h="1086">
                    <a:moveTo>
                      <a:pt x="3503" y="534"/>
                    </a:moveTo>
                    <a:lnTo>
                      <a:pt x="3500" y="562"/>
                    </a:lnTo>
                    <a:lnTo>
                      <a:pt x="3494" y="590"/>
                    </a:lnTo>
                    <a:lnTo>
                      <a:pt x="3482" y="617"/>
                    </a:lnTo>
                    <a:lnTo>
                      <a:pt x="3466" y="645"/>
                    </a:lnTo>
                    <a:lnTo>
                      <a:pt x="3447" y="672"/>
                    </a:lnTo>
                    <a:lnTo>
                      <a:pt x="3424" y="698"/>
                    </a:lnTo>
                    <a:lnTo>
                      <a:pt x="3396" y="723"/>
                    </a:lnTo>
                    <a:lnTo>
                      <a:pt x="3364" y="749"/>
                    </a:lnTo>
                    <a:lnTo>
                      <a:pt x="3330" y="773"/>
                    </a:lnTo>
                    <a:lnTo>
                      <a:pt x="3291" y="797"/>
                    </a:lnTo>
                    <a:lnTo>
                      <a:pt x="3249" y="820"/>
                    </a:lnTo>
                    <a:lnTo>
                      <a:pt x="3204" y="843"/>
                    </a:lnTo>
                    <a:lnTo>
                      <a:pt x="3154" y="864"/>
                    </a:lnTo>
                    <a:lnTo>
                      <a:pt x="3103" y="885"/>
                    </a:lnTo>
                    <a:lnTo>
                      <a:pt x="3047" y="905"/>
                    </a:lnTo>
                    <a:lnTo>
                      <a:pt x="2990" y="924"/>
                    </a:lnTo>
                    <a:lnTo>
                      <a:pt x="2929" y="942"/>
                    </a:lnTo>
                    <a:lnTo>
                      <a:pt x="2865" y="960"/>
                    </a:lnTo>
                    <a:lnTo>
                      <a:pt x="2799" y="976"/>
                    </a:lnTo>
                    <a:lnTo>
                      <a:pt x="2730" y="991"/>
                    </a:lnTo>
                    <a:lnTo>
                      <a:pt x="2659" y="1006"/>
                    </a:lnTo>
                    <a:lnTo>
                      <a:pt x="2586" y="1019"/>
                    </a:lnTo>
                    <a:lnTo>
                      <a:pt x="2511" y="1031"/>
                    </a:lnTo>
                    <a:lnTo>
                      <a:pt x="2433" y="1042"/>
                    </a:lnTo>
                    <a:lnTo>
                      <a:pt x="2353" y="1052"/>
                    </a:lnTo>
                    <a:lnTo>
                      <a:pt x="2273" y="1061"/>
                    </a:lnTo>
                    <a:lnTo>
                      <a:pt x="2189" y="1069"/>
                    </a:lnTo>
                    <a:lnTo>
                      <a:pt x="2104" y="1075"/>
                    </a:lnTo>
                    <a:lnTo>
                      <a:pt x="2018" y="1079"/>
                    </a:lnTo>
                    <a:lnTo>
                      <a:pt x="1930" y="1083"/>
                    </a:lnTo>
                    <a:lnTo>
                      <a:pt x="1841" y="1085"/>
                    </a:lnTo>
                    <a:lnTo>
                      <a:pt x="1751" y="1086"/>
                    </a:lnTo>
                    <a:lnTo>
                      <a:pt x="1662" y="1085"/>
                    </a:lnTo>
                    <a:lnTo>
                      <a:pt x="1573" y="1083"/>
                    </a:lnTo>
                    <a:lnTo>
                      <a:pt x="1485" y="1079"/>
                    </a:lnTo>
                    <a:lnTo>
                      <a:pt x="1399" y="1075"/>
                    </a:lnTo>
                    <a:lnTo>
                      <a:pt x="1314" y="1069"/>
                    </a:lnTo>
                    <a:lnTo>
                      <a:pt x="1230" y="1061"/>
                    </a:lnTo>
                    <a:lnTo>
                      <a:pt x="1150" y="1052"/>
                    </a:lnTo>
                    <a:lnTo>
                      <a:pt x="1070" y="1042"/>
                    </a:lnTo>
                    <a:lnTo>
                      <a:pt x="992" y="1031"/>
                    </a:lnTo>
                    <a:lnTo>
                      <a:pt x="917" y="1019"/>
                    </a:lnTo>
                    <a:lnTo>
                      <a:pt x="844" y="1006"/>
                    </a:lnTo>
                    <a:lnTo>
                      <a:pt x="773" y="991"/>
                    </a:lnTo>
                    <a:lnTo>
                      <a:pt x="704" y="976"/>
                    </a:lnTo>
                    <a:lnTo>
                      <a:pt x="637" y="960"/>
                    </a:lnTo>
                    <a:lnTo>
                      <a:pt x="574" y="942"/>
                    </a:lnTo>
                    <a:lnTo>
                      <a:pt x="513" y="924"/>
                    </a:lnTo>
                    <a:lnTo>
                      <a:pt x="456" y="905"/>
                    </a:lnTo>
                    <a:lnTo>
                      <a:pt x="400" y="885"/>
                    </a:lnTo>
                    <a:lnTo>
                      <a:pt x="349" y="864"/>
                    </a:lnTo>
                    <a:lnTo>
                      <a:pt x="299" y="843"/>
                    </a:lnTo>
                    <a:lnTo>
                      <a:pt x="254" y="820"/>
                    </a:lnTo>
                    <a:lnTo>
                      <a:pt x="212" y="797"/>
                    </a:lnTo>
                    <a:lnTo>
                      <a:pt x="173" y="773"/>
                    </a:lnTo>
                    <a:lnTo>
                      <a:pt x="139" y="749"/>
                    </a:lnTo>
                    <a:lnTo>
                      <a:pt x="107" y="723"/>
                    </a:lnTo>
                    <a:lnTo>
                      <a:pt x="79" y="698"/>
                    </a:lnTo>
                    <a:lnTo>
                      <a:pt x="56" y="672"/>
                    </a:lnTo>
                    <a:lnTo>
                      <a:pt x="37" y="645"/>
                    </a:lnTo>
                    <a:lnTo>
                      <a:pt x="20" y="617"/>
                    </a:lnTo>
                    <a:lnTo>
                      <a:pt x="9" y="590"/>
                    </a:lnTo>
                    <a:lnTo>
                      <a:pt x="3" y="562"/>
                    </a:lnTo>
                    <a:lnTo>
                      <a:pt x="0" y="534"/>
                    </a:lnTo>
                    <a:lnTo>
                      <a:pt x="3" y="505"/>
                    </a:lnTo>
                    <a:lnTo>
                      <a:pt x="9" y="477"/>
                    </a:lnTo>
                    <a:lnTo>
                      <a:pt x="20" y="450"/>
                    </a:lnTo>
                    <a:lnTo>
                      <a:pt x="37" y="424"/>
                    </a:lnTo>
                    <a:lnTo>
                      <a:pt x="56" y="397"/>
                    </a:lnTo>
                    <a:lnTo>
                      <a:pt x="79" y="371"/>
                    </a:lnTo>
                    <a:lnTo>
                      <a:pt x="107" y="346"/>
                    </a:lnTo>
                    <a:lnTo>
                      <a:pt x="139" y="322"/>
                    </a:lnTo>
                    <a:lnTo>
                      <a:pt x="173" y="298"/>
                    </a:lnTo>
                    <a:lnTo>
                      <a:pt x="212" y="275"/>
                    </a:lnTo>
                    <a:lnTo>
                      <a:pt x="254" y="252"/>
                    </a:lnTo>
                    <a:lnTo>
                      <a:pt x="299" y="231"/>
                    </a:lnTo>
                    <a:lnTo>
                      <a:pt x="349" y="210"/>
                    </a:lnTo>
                    <a:lnTo>
                      <a:pt x="400" y="190"/>
                    </a:lnTo>
                    <a:lnTo>
                      <a:pt x="456" y="171"/>
                    </a:lnTo>
                    <a:lnTo>
                      <a:pt x="513" y="152"/>
                    </a:lnTo>
                    <a:lnTo>
                      <a:pt x="574" y="135"/>
                    </a:lnTo>
                    <a:lnTo>
                      <a:pt x="637" y="119"/>
                    </a:lnTo>
                    <a:lnTo>
                      <a:pt x="704" y="103"/>
                    </a:lnTo>
                    <a:lnTo>
                      <a:pt x="773" y="88"/>
                    </a:lnTo>
                    <a:lnTo>
                      <a:pt x="844" y="74"/>
                    </a:lnTo>
                    <a:lnTo>
                      <a:pt x="917" y="62"/>
                    </a:lnTo>
                    <a:lnTo>
                      <a:pt x="992" y="51"/>
                    </a:lnTo>
                    <a:lnTo>
                      <a:pt x="1070" y="40"/>
                    </a:lnTo>
                    <a:lnTo>
                      <a:pt x="1150" y="31"/>
                    </a:lnTo>
                    <a:lnTo>
                      <a:pt x="1230" y="23"/>
                    </a:lnTo>
                    <a:lnTo>
                      <a:pt x="1314" y="16"/>
                    </a:lnTo>
                    <a:lnTo>
                      <a:pt x="1399" y="10"/>
                    </a:lnTo>
                    <a:lnTo>
                      <a:pt x="1485" y="6"/>
                    </a:lnTo>
                    <a:lnTo>
                      <a:pt x="1573" y="3"/>
                    </a:lnTo>
                    <a:lnTo>
                      <a:pt x="1662" y="1"/>
                    </a:lnTo>
                    <a:lnTo>
                      <a:pt x="1751" y="0"/>
                    </a:lnTo>
                    <a:lnTo>
                      <a:pt x="1841" y="1"/>
                    </a:lnTo>
                    <a:lnTo>
                      <a:pt x="1930" y="3"/>
                    </a:lnTo>
                    <a:lnTo>
                      <a:pt x="2018" y="6"/>
                    </a:lnTo>
                    <a:lnTo>
                      <a:pt x="2104" y="10"/>
                    </a:lnTo>
                    <a:lnTo>
                      <a:pt x="2189" y="16"/>
                    </a:lnTo>
                    <a:lnTo>
                      <a:pt x="2273" y="23"/>
                    </a:lnTo>
                    <a:lnTo>
                      <a:pt x="2353" y="31"/>
                    </a:lnTo>
                    <a:lnTo>
                      <a:pt x="2433" y="40"/>
                    </a:lnTo>
                    <a:lnTo>
                      <a:pt x="2511" y="51"/>
                    </a:lnTo>
                    <a:lnTo>
                      <a:pt x="2586" y="62"/>
                    </a:lnTo>
                    <a:lnTo>
                      <a:pt x="2659" y="74"/>
                    </a:lnTo>
                    <a:lnTo>
                      <a:pt x="2730" y="88"/>
                    </a:lnTo>
                    <a:lnTo>
                      <a:pt x="2799" y="103"/>
                    </a:lnTo>
                    <a:lnTo>
                      <a:pt x="2865" y="119"/>
                    </a:lnTo>
                    <a:lnTo>
                      <a:pt x="2929" y="135"/>
                    </a:lnTo>
                    <a:lnTo>
                      <a:pt x="2990" y="152"/>
                    </a:lnTo>
                    <a:lnTo>
                      <a:pt x="3047" y="171"/>
                    </a:lnTo>
                    <a:lnTo>
                      <a:pt x="3103" y="190"/>
                    </a:lnTo>
                    <a:lnTo>
                      <a:pt x="3154" y="210"/>
                    </a:lnTo>
                    <a:lnTo>
                      <a:pt x="3204" y="231"/>
                    </a:lnTo>
                    <a:lnTo>
                      <a:pt x="3249" y="252"/>
                    </a:lnTo>
                    <a:lnTo>
                      <a:pt x="3291" y="275"/>
                    </a:lnTo>
                    <a:lnTo>
                      <a:pt x="3330" y="298"/>
                    </a:lnTo>
                    <a:lnTo>
                      <a:pt x="3364" y="322"/>
                    </a:lnTo>
                    <a:lnTo>
                      <a:pt x="3396" y="346"/>
                    </a:lnTo>
                    <a:lnTo>
                      <a:pt x="3424" y="371"/>
                    </a:lnTo>
                    <a:lnTo>
                      <a:pt x="3447" y="397"/>
                    </a:lnTo>
                    <a:lnTo>
                      <a:pt x="3466" y="424"/>
                    </a:lnTo>
                    <a:lnTo>
                      <a:pt x="3482" y="450"/>
                    </a:lnTo>
                    <a:lnTo>
                      <a:pt x="3494" y="477"/>
                    </a:lnTo>
                    <a:lnTo>
                      <a:pt x="3500" y="505"/>
                    </a:lnTo>
                    <a:lnTo>
                      <a:pt x="3503" y="5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097360" y="6513480"/>
                <a:ext cx="386280" cy="128520"/>
              </a:xfrm>
              <a:custGeom>
                <a:avLst/>
                <a:gdLst/>
                <a:ahLst/>
                <a:rect l="l" t="t" r="r" b="b"/>
                <a:pathLst>
                  <a:path w="3499" h="1084">
                    <a:moveTo>
                      <a:pt x="3499" y="533"/>
                    </a:moveTo>
                    <a:lnTo>
                      <a:pt x="3497" y="561"/>
                    </a:lnTo>
                    <a:lnTo>
                      <a:pt x="3490" y="589"/>
                    </a:lnTo>
                    <a:lnTo>
                      <a:pt x="3478" y="616"/>
                    </a:lnTo>
                    <a:lnTo>
                      <a:pt x="3463" y="644"/>
                    </a:lnTo>
                    <a:lnTo>
                      <a:pt x="3444" y="671"/>
                    </a:lnTo>
                    <a:lnTo>
                      <a:pt x="3420" y="696"/>
                    </a:lnTo>
                    <a:lnTo>
                      <a:pt x="3393" y="722"/>
                    </a:lnTo>
                    <a:lnTo>
                      <a:pt x="3361" y="748"/>
                    </a:lnTo>
                    <a:lnTo>
                      <a:pt x="3326" y="772"/>
                    </a:lnTo>
                    <a:lnTo>
                      <a:pt x="3288" y="795"/>
                    </a:lnTo>
                    <a:lnTo>
                      <a:pt x="3245" y="818"/>
                    </a:lnTo>
                    <a:lnTo>
                      <a:pt x="3200" y="841"/>
                    </a:lnTo>
                    <a:lnTo>
                      <a:pt x="3151" y="863"/>
                    </a:lnTo>
                    <a:lnTo>
                      <a:pt x="3100" y="883"/>
                    </a:lnTo>
                    <a:lnTo>
                      <a:pt x="3044" y="903"/>
                    </a:lnTo>
                    <a:lnTo>
                      <a:pt x="2987" y="922"/>
                    </a:lnTo>
                    <a:lnTo>
                      <a:pt x="2926" y="940"/>
                    </a:lnTo>
                    <a:lnTo>
                      <a:pt x="2862" y="958"/>
                    </a:lnTo>
                    <a:lnTo>
                      <a:pt x="2796" y="974"/>
                    </a:lnTo>
                    <a:lnTo>
                      <a:pt x="2728" y="990"/>
                    </a:lnTo>
                    <a:lnTo>
                      <a:pt x="2656" y="1004"/>
                    </a:lnTo>
                    <a:lnTo>
                      <a:pt x="2584" y="1017"/>
                    </a:lnTo>
                    <a:lnTo>
                      <a:pt x="2508" y="1029"/>
                    </a:lnTo>
                    <a:lnTo>
                      <a:pt x="2430" y="1040"/>
                    </a:lnTo>
                    <a:lnTo>
                      <a:pt x="2351" y="1050"/>
                    </a:lnTo>
                    <a:lnTo>
                      <a:pt x="2270" y="1059"/>
                    </a:lnTo>
                    <a:lnTo>
                      <a:pt x="2187" y="1067"/>
                    </a:lnTo>
                    <a:lnTo>
                      <a:pt x="2102" y="1073"/>
                    </a:lnTo>
                    <a:lnTo>
                      <a:pt x="2016" y="1078"/>
                    </a:lnTo>
                    <a:lnTo>
                      <a:pt x="1928" y="1081"/>
                    </a:lnTo>
                    <a:lnTo>
                      <a:pt x="1839" y="1083"/>
                    </a:lnTo>
                    <a:lnTo>
                      <a:pt x="1749" y="1084"/>
                    </a:lnTo>
                    <a:lnTo>
                      <a:pt x="1660" y="1083"/>
                    </a:lnTo>
                    <a:lnTo>
                      <a:pt x="1571" y="1081"/>
                    </a:lnTo>
                    <a:lnTo>
                      <a:pt x="1483" y="1078"/>
                    </a:lnTo>
                    <a:lnTo>
                      <a:pt x="1397" y="1073"/>
                    </a:lnTo>
                    <a:lnTo>
                      <a:pt x="1312" y="1067"/>
                    </a:lnTo>
                    <a:lnTo>
                      <a:pt x="1229" y="1059"/>
                    </a:lnTo>
                    <a:lnTo>
                      <a:pt x="1148" y="1050"/>
                    </a:lnTo>
                    <a:lnTo>
                      <a:pt x="1069" y="1040"/>
                    </a:lnTo>
                    <a:lnTo>
                      <a:pt x="991" y="1029"/>
                    </a:lnTo>
                    <a:lnTo>
                      <a:pt x="915" y="1017"/>
                    </a:lnTo>
                    <a:lnTo>
                      <a:pt x="843" y="1004"/>
                    </a:lnTo>
                    <a:lnTo>
                      <a:pt x="772" y="990"/>
                    </a:lnTo>
                    <a:lnTo>
                      <a:pt x="703" y="974"/>
                    </a:lnTo>
                    <a:lnTo>
                      <a:pt x="637" y="958"/>
                    </a:lnTo>
                    <a:lnTo>
                      <a:pt x="573" y="940"/>
                    </a:lnTo>
                    <a:lnTo>
                      <a:pt x="512" y="922"/>
                    </a:lnTo>
                    <a:lnTo>
                      <a:pt x="455" y="903"/>
                    </a:lnTo>
                    <a:lnTo>
                      <a:pt x="399" y="883"/>
                    </a:lnTo>
                    <a:lnTo>
                      <a:pt x="348" y="863"/>
                    </a:lnTo>
                    <a:lnTo>
                      <a:pt x="299" y="841"/>
                    </a:lnTo>
                    <a:lnTo>
                      <a:pt x="254" y="818"/>
                    </a:lnTo>
                    <a:lnTo>
                      <a:pt x="211" y="795"/>
                    </a:lnTo>
                    <a:lnTo>
                      <a:pt x="173" y="772"/>
                    </a:lnTo>
                    <a:lnTo>
                      <a:pt x="138" y="748"/>
                    </a:lnTo>
                    <a:lnTo>
                      <a:pt x="106" y="722"/>
                    </a:lnTo>
                    <a:lnTo>
                      <a:pt x="79" y="696"/>
                    </a:lnTo>
                    <a:lnTo>
                      <a:pt x="55" y="671"/>
                    </a:lnTo>
                    <a:lnTo>
                      <a:pt x="36" y="644"/>
                    </a:lnTo>
                    <a:lnTo>
                      <a:pt x="20" y="616"/>
                    </a:lnTo>
                    <a:lnTo>
                      <a:pt x="9" y="589"/>
                    </a:lnTo>
                    <a:lnTo>
                      <a:pt x="2" y="561"/>
                    </a:lnTo>
                    <a:lnTo>
                      <a:pt x="0" y="533"/>
                    </a:lnTo>
                    <a:lnTo>
                      <a:pt x="2" y="504"/>
                    </a:lnTo>
                    <a:lnTo>
                      <a:pt x="9" y="477"/>
                    </a:lnTo>
                    <a:lnTo>
                      <a:pt x="20" y="449"/>
                    </a:lnTo>
                    <a:lnTo>
                      <a:pt x="36" y="423"/>
                    </a:lnTo>
                    <a:lnTo>
                      <a:pt x="55" y="396"/>
                    </a:lnTo>
                    <a:lnTo>
                      <a:pt x="79" y="371"/>
                    </a:lnTo>
                    <a:lnTo>
                      <a:pt x="106" y="346"/>
                    </a:lnTo>
                    <a:lnTo>
                      <a:pt x="138" y="321"/>
                    </a:lnTo>
                    <a:lnTo>
                      <a:pt x="173" y="297"/>
                    </a:lnTo>
                    <a:lnTo>
                      <a:pt x="211" y="274"/>
                    </a:lnTo>
                    <a:lnTo>
                      <a:pt x="254" y="252"/>
                    </a:lnTo>
                    <a:lnTo>
                      <a:pt x="299" y="231"/>
                    </a:lnTo>
                    <a:lnTo>
                      <a:pt x="348" y="210"/>
                    </a:lnTo>
                    <a:lnTo>
                      <a:pt x="399" y="189"/>
                    </a:lnTo>
                    <a:lnTo>
                      <a:pt x="455" y="170"/>
                    </a:lnTo>
                    <a:lnTo>
                      <a:pt x="512" y="152"/>
                    </a:lnTo>
                    <a:lnTo>
                      <a:pt x="573" y="135"/>
                    </a:lnTo>
                    <a:lnTo>
                      <a:pt x="637" y="118"/>
                    </a:lnTo>
                    <a:lnTo>
                      <a:pt x="703" y="103"/>
                    </a:lnTo>
                    <a:lnTo>
                      <a:pt x="772" y="88"/>
                    </a:lnTo>
                    <a:lnTo>
                      <a:pt x="843" y="74"/>
                    </a:lnTo>
                    <a:lnTo>
                      <a:pt x="915" y="62"/>
                    </a:lnTo>
                    <a:lnTo>
                      <a:pt x="991" y="50"/>
                    </a:lnTo>
                    <a:lnTo>
                      <a:pt x="1069" y="40"/>
                    </a:lnTo>
                    <a:lnTo>
                      <a:pt x="1148" y="31"/>
                    </a:lnTo>
                    <a:lnTo>
                      <a:pt x="1229" y="23"/>
                    </a:lnTo>
                    <a:lnTo>
                      <a:pt x="1312" y="16"/>
                    </a:lnTo>
                    <a:lnTo>
                      <a:pt x="1397" y="10"/>
                    </a:lnTo>
                    <a:lnTo>
                      <a:pt x="1483" y="6"/>
                    </a:lnTo>
                    <a:lnTo>
                      <a:pt x="1571" y="3"/>
                    </a:lnTo>
                    <a:lnTo>
                      <a:pt x="1660" y="1"/>
                    </a:lnTo>
                    <a:lnTo>
                      <a:pt x="1749" y="0"/>
                    </a:lnTo>
                    <a:lnTo>
                      <a:pt x="1839" y="1"/>
                    </a:lnTo>
                    <a:lnTo>
                      <a:pt x="1928" y="3"/>
                    </a:lnTo>
                    <a:lnTo>
                      <a:pt x="2016" y="6"/>
                    </a:lnTo>
                    <a:lnTo>
                      <a:pt x="2102" y="10"/>
                    </a:lnTo>
                    <a:lnTo>
                      <a:pt x="2187" y="16"/>
                    </a:lnTo>
                    <a:lnTo>
                      <a:pt x="2270" y="23"/>
                    </a:lnTo>
                    <a:lnTo>
                      <a:pt x="2351" y="31"/>
                    </a:lnTo>
                    <a:lnTo>
                      <a:pt x="2430" y="40"/>
                    </a:lnTo>
                    <a:lnTo>
                      <a:pt x="2508" y="50"/>
                    </a:lnTo>
                    <a:lnTo>
                      <a:pt x="2584" y="62"/>
                    </a:lnTo>
                    <a:lnTo>
                      <a:pt x="2656" y="74"/>
                    </a:lnTo>
                    <a:lnTo>
                      <a:pt x="2728" y="88"/>
                    </a:lnTo>
                    <a:lnTo>
                      <a:pt x="2796" y="103"/>
                    </a:lnTo>
                    <a:lnTo>
                      <a:pt x="2862" y="118"/>
                    </a:lnTo>
                    <a:lnTo>
                      <a:pt x="2926" y="135"/>
                    </a:lnTo>
                    <a:lnTo>
                      <a:pt x="2987" y="152"/>
                    </a:lnTo>
                    <a:lnTo>
                      <a:pt x="3044" y="170"/>
                    </a:lnTo>
                    <a:lnTo>
                      <a:pt x="3100" y="189"/>
                    </a:lnTo>
                    <a:lnTo>
                      <a:pt x="3151" y="210"/>
                    </a:lnTo>
                    <a:lnTo>
                      <a:pt x="3200" y="231"/>
                    </a:lnTo>
                    <a:lnTo>
                      <a:pt x="3245" y="252"/>
                    </a:lnTo>
                    <a:lnTo>
                      <a:pt x="3288" y="274"/>
                    </a:lnTo>
                    <a:lnTo>
                      <a:pt x="3326" y="297"/>
                    </a:lnTo>
                    <a:lnTo>
                      <a:pt x="3361" y="321"/>
                    </a:lnTo>
                    <a:lnTo>
                      <a:pt x="3393" y="346"/>
                    </a:lnTo>
                    <a:lnTo>
                      <a:pt x="3420" y="371"/>
                    </a:lnTo>
                    <a:lnTo>
                      <a:pt x="3444" y="396"/>
                    </a:lnTo>
                    <a:lnTo>
                      <a:pt x="3463" y="423"/>
                    </a:lnTo>
                    <a:lnTo>
                      <a:pt x="3478" y="449"/>
                    </a:lnTo>
                    <a:lnTo>
                      <a:pt x="3490" y="477"/>
                    </a:lnTo>
                    <a:lnTo>
                      <a:pt x="3497" y="504"/>
                    </a:lnTo>
                    <a:lnTo>
                      <a:pt x="3499" y="5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097360" y="6513480"/>
                <a:ext cx="386280" cy="128520"/>
              </a:xfrm>
              <a:custGeom>
                <a:avLst/>
                <a:gdLst/>
                <a:ahLst/>
                <a:rect l="l" t="t" r="r" b="b"/>
                <a:pathLst>
                  <a:path w="3497" h="1082">
                    <a:moveTo>
                      <a:pt x="3497" y="532"/>
                    </a:moveTo>
                    <a:lnTo>
                      <a:pt x="3495" y="560"/>
                    </a:lnTo>
                    <a:lnTo>
                      <a:pt x="3488" y="588"/>
                    </a:lnTo>
                    <a:lnTo>
                      <a:pt x="3476" y="615"/>
                    </a:lnTo>
                    <a:lnTo>
                      <a:pt x="3461" y="643"/>
                    </a:lnTo>
                    <a:lnTo>
                      <a:pt x="3441" y="669"/>
                    </a:lnTo>
                    <a:lnTo>
                      <a:pt x="3418" y="695"/>
                    </a:lnTo>
                    <a:lnTo>
                      <a:pt x="3391" y="720"/>
                    </a:lnTo>
                    <a:lnTo>
                      <a:pt x="3359" y="746"/>
                    </a:lnTo>
                    <a:lnTo>
                      <a:pt x="3324" y="770"/>
                    </a:lnTo>
                    <a:lnTo>
                      <a:pt x="3286" y="794"/>
                    </a:lnTo>
                    <a:lnTo>
                      <a:pt x="3243" y="817"/>
                    </a:lnTo>
                    <a:lnTo>
                      <a:pt x="3198" y="840"/>
                    </a:lnTo>
                    <a:lnTo>
                      <a:pt x="3149" y="861"/>
                    </a:lnTo>
                    <a:lnTo>
                      <a:pt x="3098" y="882"/>
                    </a:lnTo>
                    <a:lnTo>
                      <a:pt x="3042" y="901"/>
                    </a:lnTo>
                    <a:lnTo>
                      <a:pt x="2985" y="920"/>
                    </a:lnTo>
                    <a:lnTo>
                      <a:pt x="2924" y="938"/>
                    </a:lnTo>
                    <a:lnTo>
                      <a:pt x="2860" y="957"/>
                    </a:lnTo>
                    <a:lnTo>
                      <a:pt x="2795" y="973"/>
                    </a:lnTo>
                    <a:lnTo>
                      <a:pt x="2726" y="988"/>
                    </a:lnTo>
                    <a:lnTo>
                      <a:pt x="2655" y="1002"/>
                    </a:lnTo>
                    <a:lnTo>
                      <a:pt x="2582" y="1015"/>
                    </a:lnTo>
                    <a:lnTo>
                      <a:pt x="2506" y="1027"/>
                    </a:lnTo>
                    <a:lnTo>
                      <a:pt x="2429" y="1038"/>
                    </a:lnTo>
                    <a:lnTo>
                      <a:pt x="2349" y="1048"/>
                    </a:lnTo>
                    <a:lnTo>
                      <a:pt x="2269" y="1057"/>
                    </a:lnTo>
                    <a:lnTo>
                      <a:pt x="2186" y="1065"/>
                    </a:lnTo>
                    <a:lnTo>
                      <a:pt x="2101" y="1071"/>
                    </a:lnTo>
                    <a:lnTo>
                      <a:pt x="2015" y="1076"/>
                    </a:lnTo>
                    <a:lnTo>
                      <a:pt x="1927" y="1079"/>
                    </a:lnTo>
                    <a:lnTo>
                      <a:pt x="1838" y="1081"/>
                    </a:lnTo>
                    <a:lnTo>
                      <a:pt x="1748" y="1082"/>
                    </a:lnTo>
                    <a:lnTo>
                      <a:pt x="1659" y="1081"/>
                    </a:lnTo>
                    <a:lnTo>
                      <a:pt x="1570" y="1079"/>
                    </a:lnTo>
                    <a:lnTo>
                      <a:pt x="1482" y="1076"/>
                    </a:lnTo>
                    <a:lnTo>
                      <a:pt x="1396" y="1071"/>
                    </a:lnTo>
                    <a:lnTo>
                      <a:pt x="1311" y="1065"/>
                    </a:lnTo>
                    <a:lnTo>
                      <a:pt x="1228" y="1057"/>
                    </a:lnTo>
                    <a:lnTo>
                      <a:pt x="1148" y="1048"/>
                    </a:lnTo>
                    <a:lnTo>
                      <a:pt x="1068" y="1038"/>
                    </a:lnTo>
                    <a:lnTo>
                      <a:pt x="991" y="1027"/>
                    </a:lnTo>
                    <a:lnTo>
                      <a:pt x="915" y="1015"/>
                    </a:lnTo>
                    <a:lnTo>
                      <a:pt x="843" y="1002"/>
                    </a:lnTo>
                    <a:lnTo>
                      <a:pt x="771" y="988"/>
                    </a:lnTo>
                    <a:lnTo>
                      <a:pt x="702" y="973"/>
                    </a:lnTo>
                    <a:lnTo>
                      <a:pt x="637" y="957"/>
                    </a:lnTo>
                    <a:lnTo>
                      <a:pt x="573" y="938"/>
                    </a:lnTo>
                    <a:lnTo>
                      <a:pt x="512" y="920"/>
                    </a:lnTo>
                    <a:lnTo>
                      <a:pt x="455" y="901"/>
                    </a:lnTo>
                    <a:lnTo>
                      <a:pt x="399" y="882"/>
                    </a:lnTo>
                    <a:lnTo>
                      <a:pt x="348" y="861"/>
                    </a:lnTo>
                    <a:lnTo>
                      <a:pt x="299" y="840"/>
                    </a:lnTo>
                    <a:lnTo>
                      <a:pt x="254" y="817"/>
                    </a:lnTo>
                    <a:lnTo>
                      <a:pt x="211" y="794"/>
                    </a:lnTo>
                    <a:lnTo>
                      <a:pt x="173" y="770"/>
                    </a:lnTo>
                    <a:lnTo>
                      <a:pt x="138" y="746"/>
                    </a:lnTo>
                    <a:lnTo>
                      <a:pt x="106" y="720"/>
                    </a:lnTo>
                    <a:lnTo>
                      <a:pt x="79" y="695"/>
                    </a:lnTo>
                    <a:lnTo>
                      <a:pt x="56" y="669"/>
                    </a:lnTo>
                    <a:lnTo>
                      <a:pt x="36" y="643"/>
                    </a:lnTo>
                    <a:lnTo>
                      <a:pt x="20" y="615"/>
                    </a:lnTo>
                    <a:lnTo>
                      <a:pt x="9" y="588"/>
                    </a:lnTo>
                    <a:lnTo>
                      <a:pt x="3" y="560"/>
                    </a:lnTo>
                    <a:lnTo>
                      <a:pt x="0" y="532"/>
                    </a:lnTo>
                    <a:lnTo>
                      <a:pt x="3" y="503"/>
                    </a:lnTo>
                    <a:lnTo>
                      <a:pt x="9" y="476"/>
                    </a:lnTo>
                    <a:lnTo>
                      <a:pt x="20" y="449"/>
                    </a:lnTo>
                    <a:lnTo>
                      <a:pt x="36" y="422"/>
                    </a:lnTo>
                    <a:lnTo>
                      <a:pt x="56" y="395"/>
                    </a:lnTo>
                    <a:lnTo>
                      <a:pt x="79" y="370"/>
                    </a:lnTo>
                    <a:lnTo>
                      <a:pt x="106" y="345"/>
                    </a:lnTo>
                    <a:lnTo>
                      <a:pt x="138" y="321"/>
                    </a:lnTo>
                    <a:lnTo>
                      <a:pt x="173" y="296"/>
                    </a:lnTo>
                    <a:lnTo>
                      <a:pt x="211" y="274"/>
                    </a:lnTo>
                    <a:lnTo>
                      <a:pt x="254" y="251"/>
                    </a:lnTo>
                    <a:lnTo>
                      <a:pt x="299" y="230"/>
                    </a:lnTo>
                    <a:lnTo>
                      <a:pt x="348" y="210"/>
                    </a:lnTo>
                    <a:lnTo>
                      <a:pt x="399" y="189"/>
                    </a:lnTo>
                    <a:lnTo>
                      <a:pt x="455" y="170"/>
                    </a:lnTo>
                    <a:lnTo>
                      <a:pt x="512" y="152"/>
                    </a:lnTo>
                    <a:lnTo>
                      <a:pt x="573" y="134"/>
                    </a:lnTo>
                    <a:lnTo>
                      <a:pt x="637" y="118"/>
                    </a:lnTo>
                    <a:lnTo>
                      <a:pt x="702" y="103"/>
                    </a:lnTo>
                    <a:lnTo>
                      <a:pt x="771" y="87"/>
                    </a:lnTo>
                    <a:lnTo>
                      <a:pt x="843" y="74"/>
                    </a:lnTo>
                    <a:lnTo>
                      <a:pt x="915" y="62"/>
                    </a:lnTo>
                    <a:lnTo>
                      <a:pt x="991" y="50"/>
                    </a:lnTo>
                    <a:lnTo>
                      <a:pt x="1068" y="40"/>
                    </a:lnTo>
                    <a:lnTo>
                      <a:pt x="1148" y="31"/>
                    </a:lnTo>
                    <a:lnTo>
                      <a:pt x="1228" y="23"/>
                    </a:lnTo>
                    <a:lnTo>
                      <a:pt x="1311" y="16"/>
                    </a:lnTo>
                    <a:lnTo>
                      <a:pt x="1396" y="10"/>
                    </a:lnTo>
                    <a:lnTo>
                      <a:pt x="1482" y="6"/>
                    </a:lnTo>
                    <a:lnTo>
                      <a:pt x="1570" y="2"/>
                    </a:lnTo>
                    <a:lnTo>
                      <a:pt x="1659" y="0"/>
                    </a:lnTo>
                    <a:lnTo>
                      <a:pt x="1748" y="0"/>
                    </a:lnTo>
                    <a:lnTo>
                      <a:pt x="1838" y="0"/>
                    </a:lnTo>
                    <a:lnTo>
                      <a:pt x="1927" y="2"/>
                    </a:lnTo>
                    <a:lnTo>
                      <a:pt x="2015" y="6"/>
                    </a:lnTo>
                    <a:lnTo>
                      <a:pt x="2101" y="10"/>
                    </a:lnTo>
                    <a:lnTo>
                      <a:pt x="2186" y="16"/>
                    </a:lnTo>
                    <a:lnTo>
                      <a:pt x="2269" y="23"/>
                    </a:lnTo>
                    <a:lnTo>
                      <a:pt x="2349" y="31"/>
                    </a:lnTo>
                    <a:lnTo>
                      <a:pt x="2429" y="40"/>
                    </a:lnTo>
                    <a:lnTo>
                      <a:pt x="2506" y="50"/>
                    </a:lnTo>
                    <a:lnTo>
                      <a:pt x="2582" y="62"/>
                    </a:lnTo>
                    <a:lnTo>
                      <a:pt x="2655" y="74"/>
                    </a:lnTo>
                    <a:lnTo>
                      <a:pt x="2726" y="87"/>
                    </a:lnTo>
                    <a:lnTo>
                      <a:pt x="2795" y="103"/>
                    </a:lnTo>
                    <a:lnTo>
                      <a:pt x="2860" y="118"/>
                    </a:lnTo>
                    <a:lnTo>
                      <a:pt x="2924" y="134"/>
                    </a:lnTo>
                    <a:lnTo>
                      <a:pt x="2985" y="152"/>
                    </a:lnTo>
                    <a:lnTo>
                      <a:pt x="3042" y="170"/>
                    </a:lnTo>
                    <a:lnTo>
                      <a:pt x="3098" y="189"/>
                    </a:lnTo>
                    <a:lnTo>
                      <a:pt x="3149" y="210"/>
                    </a:lnTo>
                    <a:lnTo>
                      <a:pt x="3198" y="230"/>
                    </a:lnTo>
                    <a:lnTo>
                      <a:pt x="3243" y="251"/>
                    </a:lnTo>
                    <a:lnTo>
                      <a:pt x="3286" y="274"/>
                    </a:lnTo>
                    <a:lnTo>
                      <a:pt x="3324" y="296"/>
                    </a:lnTo>
                    <a:lnTo>
                      <a:pt x="3359" y="321"/>
                    </a:lnTo>
                    <a:lnTo>
                      <a:pt x="3391" y="345"/>
                    </a:lnTo>
                    <a:lnTo>
                      <a:pt x="3418" y="370"/>
                    </a:lnTo>
                    <a:lnTo>
                      <a:pt x="3441" y="395"/>
                    </a:lnTo>
                    <a:lnTo>
                      <a:pt x="3461" y="422"/>
                    </a:lnTo>
                    <a:lnTo>
                      <a:pt x="3476" y="449"/>
                    </a:lnTo>
                    <a:lnTo>
                      <a:pt x="3488" y="476"/>
                    </a:lnTo>
                    <a:lnTo>
                      <a:pt x="3495" y="503"/>
                    </a:lnTo>
                    <a:lnTo>
                      <a:pt x="3497" y="5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097360" y="6513480"/>
                <a:ext cx="386280" cy="128520"/>
              </a:xfrm>
              <a:custGeom>
                <a:avLst/>
                <a:gdLst/>
                <a:ahLst/>
                <a:rect l="l" t="t" r="r" b="b"/>
                <a:pathLst>
                  <a:path w="3493" h="1080">
                    <a:moveTo>
                      <a:pt x="3493" y="531"/>
                    </a:moveTo>
                    <a:lnTo>
                      <a:pt x="3491" y="559"/>
                    </a:lnTo>
                    <a:lnTo>
                      <a:pt x="3485" y="587"/>
                    </a:lnTo>
                    <a:lnTo>
                      <a:pt x="3472" y="614"/>
                    </a:lnTo>
                    <a:lnTo>
                      <a:pt x="3457" y="642"/>
                    </a:lnTo>
                    <a:lnTo>
                      <a:pt x="3438" y="668"/>
                    </a:lnTo>
                    <a:lnTo>
                      <a:pt x="3415" y="694"/>
                    </a:lnTo>
                    <a:lnTo>
                      <a:pt x="3387" y="719"/>
                    </a:lnTo>
                    <a:lnTo>
                      <a:pt x="3356" y="745"/>
                    </a:lnTo>
                    <a:lnTo>
                      <a:pt x="3321" y="769"/>
                    </a:lnTo>
                    <a:lnTo>
                      <a:pt x="3283" y="792"/>
                    </a:lnTo>
                    <a:lnTo>
                      <a:pt x="3240" y="815"/>
                    </a:lnTo>
                    <a:lnTo>
                      <a:pt x="3195" y="838"/>
                    </a:lnTo>
                    <a:lnTo>
                      <a:pt x="3146" y="860"/>
                    </a:lnTo>
                    <a:lnTo>
                      <a:pt x="3094" y="880"/>
                    </a:lnTo>
                    <a:lnTo>
                      <a:pt x="3039" y="900"/>
                    </a:lnTo>
                    <a:lnTo>
                      <a:pt x="2982" y="919"/>
                    </a:lnTo>
                    <a:lnTo>
                      <a:pt x="2921" y="937"/>
                    </a:lnTo>
                    <a:lnTo>
                      <a:pt x="2857" y="955"/>
                    </a:lnTo>
                    <a:lnTo>
                      <a:pt x="2792" y="971"/>
                    </a:lnTo>
                    <a:lnTo>
                      <a:pt x="2723" y="986"/>
                    </a:lnTo>
                    <a:lnTo>
                      <a:pt x="2652" y="1000"/>
                    </a:lnTo>
                    <a:lnTo>
                      <a:pt x="2579" y="1013"/>
                    </a:lnTo>
                    <a:lnTo>
                      <a:pt x="2504" y="1025"/>
                    </a:lnTo>
                    <a:lnTo>
                      <a:pt x="2426" y="1036"/>
                    </a:lnTo>
                    <a:lnTo>
                      <a:pt x="2347" y="1046"/>
                    </a:lnTo>
                    <a:lnTo>
                      <a:pt x="2266" y="1056"/>
                    </a:lnTo>
                    <a:lnTo>
                      <a:pt x="2183" y="1063"/>
                    </a:lnTo>
                    <a:lnTo>
                      <a:pt x="2099" y="1069"/>
                    </a:lnTo>
                    <a:lnTo>
                      <a:pt x="2012" y="1074"/>
                    </a:lnTo>
                    <a:lnTo>
                      <a:pt x="1925" y="1077"/>
                    </a:lnTo>
                    <a:lnTo>
                      <a:pt x="1836" y="1079"/>
                    </a:lnTo>
                    <a:lnTo>
                      <a:pt x="1746" y="1080"/>
                    </a:lnTo>
                    <a:lnTo>
                      <a:pt x="1657" y="1079"/>
                    </a:lnTo>
                    <a:lnTo>
                      <a:pt x="1568" y="1077"/>
                    </a:lnTo>
                    <a:lnTo>
                      <a:pt x="1481" y="1074"/>
                    </a:lnTo>
                    <a:lnTo>
                      <a:pt x="1394" y="1069"/>
                    </a:lnTo>
                    <a:lnTo>
                      <a:pt x="1310" y="1063"/>
                    </a:lnTo>
                    <a:lnTo>
                      <a:pt x="1227" y="1056"/>
                    </a:lnTo>
                    <a:lnTo>
                      <a:pt x="1146" y="1046"/>
                    </a:lnTo>
                    <a:lnTo>
                      <a:pt x="1067" y="1036"/>
                    </a:lnTo>
                    <a:lnTo>
                      <a:pt x="989" y="1025"/>
                    </a:lnTo>
                    <a:lnTo>
                      <a:pt x="914" y="1013"/>
                    </a:lnTo>
                    <a:lnTo>
                      <a:pt x="841" y="1000"/>
                    </a:lnTo>
                    <a:lnTo>
                      <a:pt x="770" y="986"/>
                    </a:lnTo>
                    <a:lnTo>
                      <a:pt x="701" y="971"/>
                    </a:lnTo>
                    <a:lnTo>
                      <a:pt x="636" y="955"/>
                    </a:lnTo>
                    <a:lnTo>
                      <a:pt x="572" y="937"/>
                    </a:lnTo>
                    <a:lnTo>
                      <a:pt x="511" y="919"/>
                    </a:lnTo>
                    <a:lnTo>
                      <a:pt x="454" y="900"/>
                    </a:lnTo>
                    <a:lnTo>
                      <a:pt x="399" y="880"/>
                    </a:lnTo>
                    <a:lnTo>
                      <a:pt x="347" y="860"/>
                    </a:lnTo>
                    <a:lnTo>
                      <a:pt x="298" y="838"/>
                    </a:lnTo>
                    <a:lnTo>
                      <a:pt x="253" y="815"/>
                    </a:lnTo>
                    <a:lnTo>
                      <a:pt x="210" y="792"/>
                    </a:lnTo>
                    <a:lnTo>
                      <a:pt x="172" y="769"/>
                    </a:lnTo>
                    <a:lnTo>
                      <a:pt x="138" y="745"/>
                    </a:lnTo>
                    <a:lnTo>
                      <a:pt x="106" y="719"/>
                    </a:lnTo>
                    <a:lnTo>
                      <a:pt x="78" y="694"/>
                    </a:lnTo>
                    <a:lnTo>
                      <a:pt x="55" y="668"/>
                    </a:lnTo>
                    <a:lnTo>
                      <a:pt x="36" y="642"/>
                    </a:lnTo>
                    <a:lnTo>
                      <a:pt x="20" y="614"/>
                    </a:lnTo>
                    <a:lnTo>
                      <a:pt x="9" y="587"/>
                    </a:lnTo>
                    <a:lnTo>
                      <a:pt x="2" y="559"/>
                    </a:lnTo>
                    <a:lnTo>
                      <a:pt x="0" y="531"/>
                    </a:lnTo>
                    <a:lnTo>
                      <a:pt x="2" y="502"/>
                    </a:lnTo>
                    <a:lnTo>
                      <a:pt x="9" y="475"/>
                    </a:lnTo>
                    <a:lnTo>
                      <a:pt x="20" y="448"/>
                    </a:lnTo>
                    <a:lnTo>
                      <a:pt x="36" y="421"/>
                    </a:lnTo>
                    <a:lnTo>
                      <a:pt x="55" y="394"/>
                    </a:lnTo>
                    <a:lnTo>
                      <a:pt x="78" y="369"/>
                    </a:lnTo>
                    <a:lnTo>
                      <a:pt x="106" y="344"/>
                    </a:lnTo>
                    <a:lnTo>
                      <a:pt x="138" y="320"/>
                    </a:lnTo>
                    <a:lnTo>
                      <a:pt x="172" y="296"/>
                    </a:lnTo>
                    <a:lnTo>
                      <a:pt x="210" y="273"/>
                    </a:lnTo>
                    <a:lnTo>
                      <a:pt x="253" y="251"/>
                    </a:lnTo>
                    <a:lnTo>
                      <a:pt x="298" y="230"/>
                    </a:lnTo>
                    <a:lnTo>
                      <a:pt x="347" y="209"/>
                    </a:lnTo>
                    <a:lnTo>
                      <a:pt x="399" y="188"/>
                    </a:lnTo>
                    <a:lnTo>
                      <a:pt x="454" y="169"/>
                    </a:lnTo>
                    <a:lnTo>
                      <a:pt x="511" y="151"/>
                    </a:lnTo>
                    <a:lnTo>
                      <a:pt x="572" y="134"/>
                    </a:lnTo>
                    <a:lnTo>
                      <a:pt x="636" y="118"/>
                    </a:lnTo>
                    <a:lnTo>
                      <a:pt x="701" y="103"/>
                    </a:lnTo>
                    <a:lnTo>
                      <a:pt x="770" y="88"/>
                    </a:lnTo>
                    <a:lnTo>
                      <a:pt x="841" y="74"/>
                    </a:lnTo>
                    <a:lnTo>
                      <a:pt x="914" y="61"/>
                    </a:lnTo>
                    <a:lnTo>
                      <a:pt x="989" y="50"/>
                    </a:lnTo>
                    <a:lnTo>
                      <a:pt x="1067" y="40"/>
                    </a:lnTo>
                    <a:lnTo>
                      <a:pt x="1146" y="31"/>
                    </a:lnTo>
                    <a:lnTo>
                      <a:pt x="1227" y="23"/>
                    </a:lnTo>
                    <a:lnTo>
                      <a:pt x="1310" y="16"/>
                    </a:lnTo>
                    <a:lnTo>
                      <a:pt x="1394" y="10"/>
                    </a:lnTo>
                    <a:lnTo>
                      <a:pt x="1481" y="6"/>
                    </a:lnTo>
                    <a:lnTo>
                      <a:pt x="1568" y="2"/>
                    </a:lnTo>
                    <a:lnTo>
                      <a:pt x="1657" y="0"/>
                    </a:lnTo>
                    <a:lnTo>
                      <a:pt x="1746" y="0"/>
                    </a:lnTo>
                    <a:lnTo>
                      <a:pt x="1836" y="0"/>
                    </a:lnTo>
                    <a:lnTo>
                      <a:pt x="1925" y="2"/>
                    </a:lnTo>
                    <a:lnTo>
                      <a:pt x="2012" y="6"/>
                    </a:lnTo>
                    <a:lnTo>
                      <a:pt x="2099" y="10"/>
                    </a:lnTo>
                    <a:lnTo>
                      <a:pt x="2183" y="16"/>
                    </a:lnTo>
                    <a:lnTo>
                      <a:pt x="2266" y="23"/>
                    </a:lnTo>
                    <a:lnTo>
                      <a:pt x="2347" y="31"/>
                    </a:lnTo>
                    <a:lnTo>
                      <a:pt x="2426" y="40"/>
                    </a:lnTo>
                    <a:lnTo>
                      <a:pt x="2504" y="50"/>
                    </a:lnTo>
                    <a:lnTo>
                      <a:pt x="2579" y="61"/>
                    </a:lnTo>
                    <a:lnTo>
                      <a:pt x="2652" y="74"/>
                    </a:lnTo>
                    <a:lnTo>
                      <a:pt x="2723" y="88"/>
                    </a:lnTo>
                    <a:lnTo>
                      <a:pt x="2792" y="103"/>
                    </a:lnTo>
                    <a:lnTo>
                      <a:pt x="2857" y="118"/>
                    </a:lnTo>
                    <a:lnTo>
                      <a:pt x="2921" y="134"/>
                    </a:lnTo>
                    <a:lnTo>
                      <a:pt x="2982" y="151"/>
                    </a:lnTo>
                    <a:lnTo>
                      <a:pt x="3039" y="169"/>
                    </a:lnTo>
                    <a:lnTo>
                      <a:pt x="3094" y="188"/>
                    </a:lnTo>
                    <a:lnTo>
                      <a:pt x="3146" y="209"/>
                    </a:lnTo>
                    <a:lnTo>
                      <a:pt x="3195" y="230"/>
                    </a:lnTo>
                    <a:lnTo>
                      <a:pt x="3240" y="251"/>
                    </a:lnTo>
                    <a:lnTo>
                      <a:pt x="3283" y="273"/>
                    </a:lnTo>
                    <a:lnTo>
                      <a:pt x="3321" y="296"/>
                    </a:lnTo>
                    <a:lnTo>
                      <a:pt x="3356" y="320"/>
                    </a:lnTo>
                    <a:lnTo>
                      <a:pt x="3387" y="344"/>
                    </a:lnTo>
                    <a:lnTo>
                      <a:pt x="3415" y="369"/>
                    </a:lnTo>
                    <a:lnTo>
                      <a:pt x="3438" y="394"/>
                    </a:lnTo>
                    <a:lnTo>
                      <a:pt x="3457" y="421"/>
                    </a:lnTo>
                    <a:lnTo>
                      <a:pt x="3472" y="448"/>
                    </a:lnTo>
                    <a:lnTo>
                      <a:pt x="3485" y="475"/>
                    </a:lnTo>
                    <a:lnTo>
                      <a:pt x="3491" y="502"/>
                    </a:lnTo>
                    <a:lnTo>
                      <a:pt x="3493" y="5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097360" y="6513480"/>
                <a:ext cx="386280" cy="128520"/>
              </a:xfrm>
              <a:custGeom>
                <a:avLst/>
                <a:gdLst/>
                <a:ahLst/>
                <a:rect l="l" t="t" r="r" b="b"/>
                <a:pathLst>
                  <a:path w="3491" h="1078">
                    <a:moveTo>
                      <a:pt x="3491" y="530"/>
                    </a:moveTo>
                    <a:lnTo>
                      <a:pt x="3489" y="558"/>
                    </a:lnTo>
                    <a:lnTo>
                      <a:pt x="3482" y="586"/>
                    </a:lnTo>
                    <a:lnTo>
                      <a:pt x="3470" y="613"/>
                    </a:lnTo>
                    <a:lnTo>
                      <a:pt x="3455" y="641"/>
                    </a:lnTo>
                    <a:lnTo>
                      <a:pt x="3436" y="667"/>
                    </a:lnTo>
                    <a:lnTo>
                      <a:pt x="3412" y="693"/>
                    </a:lnTo>
                    <a:lnTo>
                      <a:pt x="3385" y="718"/>
                    </a:lnTo>
                    <a:lnTo>
                      <a:pt x="3353" y="743"/>
                    </a:lnTo>
                    <a:lnTo>
                      <a:pt x="3319" y="768"/>
                    </a:lnTo>
                    <a:lnTo>
                      <a:pt x="3280" y="791"/>
                    </a:lnTo>
                    <a:lnTo>
                      <a:pt x="3238" y="814"/>
                    </a:lnTo>
                    <a:lnTo>
                      <a:pt x="3193" y="837"/>
                    </a:lnTo>
                    <a:lnTo>
                      <a:pt x="3144" y="858"/>
                    </a:lnTo>
                    <a:lnTo>
                      <a:pt x="3092" y="879"/>
                    </a:lnTo>
                    <a:lnTo>
                      <a:pt x="3037" y="898"/>
                    </a:lnTo>
                    <a:lnTo>
                      <a:pt x="2980" y="917"/>
                    </a:lnTo>
                    <a:lnTo>
                      <a:pt x="2919" y="935"/>
                    </a:lnTo>
                    <a:lnTo>
                      <a:pt x="2855" y="953"/>
                    </a:lnTo>
                    <a:lnTo>
                      <a:pt x="2790" y="969"/>
                    </a:lnTo>
                    <a:lnTo>
                      <a:pt x="2721" y="984"/>
                    </a:lnTo>
                    <a:lnTo>
                      <a:pt x="2650" y="999"/>
                    </a:lnTo>
                    <a:lnTo>
                      <a:pt x="2578" y="1012"/>
                    </a:lnTo>
                    <a:lnTo>
                      <a:pt x="2502" y="1024"/>
                    </a:lnTo>
                    <a:lnTo>
                      <a:pt x="2425" y="1034"/>
                    </a:lnTo>
                    <a:lnTo>
                      <a:pt x="2345" y="1044"/>
                    </a:lnTo>
                    <a:lnTo>
                      <a:pt x="2265" y="1054"/>
                    </a:lnTo>
                    <a:lnTo>
                      <a:pt x="2182" y="1061"/>
                    </a:lnTo>
                    <a:lnTo>
                      <a:pt x="2097" y="1067"/>
                    </a:lnTo>
                    <a:lnTo>
                      <a:pt x="2011" y="1072"/>
                    </a:lnTo>
                    <a:lnTo>
                      <a:pt x="1924" y="1075"/>
                    </a:lnTo>
                    <a:lnTo>
                      <a:pt x="1835" y="1077"/>
                    </a:lnTo>
                    <a:lnTo>
                      <a:pt x="1745" y="1078"/>
                    </a:lnTo>
                    <a:lnTo>
                      <a:pt x="1656" y="1077"/>
                    </a:lnTo>
                    <a:lnTo>
                      <a:pt x="1567" y="1075"/>
                    </a:lnTo>
                    <a:lnTo>
                      <a:pt x="1480" y="1072"/>
                    </a:lnTo>
                    <a:lnTo>
                      <a:pt x="1394" y="1067"/>
                    </a:lnTo>
                    <a:lnTo>
                      <a:pt x="1309" y="1061"/>
                    </a:lnTo>
                    <a:lnTo>
                      <a:pt x="1226" y="1054"/>
                    </a:lnTo>
                    <a:lnTo>
                      <a:pt x="1146" y="1044"/>
                    </a:lnTo>
                    <a:lnTo>
                      <a:pt x="1066" y="1034"/>
                    </a:lnTo>
                    <a:lnTo>
                      <a:pt x="989" y="1024"/>
                    </a:lnTo>
                    <a:lnTo>
                      <a:pt x="913" y="1012"/>
                    </a:lnTo>
                    <a:lnTo>
                      <a:pt x="841" y="999"/>
                    </a:lnTo>
                    <a:lnTo>
                      <a:pt x="770" y="984"/>
                    </a:lnTo>
                    <a:lnTo>
                      <a:pt x="701" y="969"/>
                    </a:lnTo>
                    <a:lnTo>
                      <a:pt x="636" y="953"/>
                    </a:lnTo>
                    <a:lnTo>
                      <a:pt x="572" y="935"/>
                    </a:lnTo>
                    <a:lnTo>
                      <a:pt x="511" y="917"/>
                    </a:lnTo>
                    <a:lnTo>
                      <a:pt x="454" y="898"/>
                    </a:lnTo>
                    <a:lnTo>
                      <a:pt x="399" y="879"/>
                    </a:lnTo>
                    <a:lnTo>
                      <a:pt x="347" y="858"/>
                    </a:lnTo>
                    <a:lnTo>
                      <a:pt x="298" y="837"/>
                    </a:lnTo>
                    <a:lnTo>
                      <a:pt x="253" y="814"/>
                    </a:lnTo>
                    <a:lnTo>
                      <a:pt x="211" y="791"/>
                    </a:lnTo>
                    <a:lnTo>
                      <a:pt x="172" y="768"/>
                    </a:lnTo>
                    <a:lnTo>
                      <a:pt x="138" y="743"/>
                    </a:lnTo>
                    <a:lnTo>
                      <a:pt x="106" y="718"/>
                    </a:lnTo>
                    <a:lnTo>
                      <a:pt x="79" y="693"/>
                    </a:lnTo>
                    <a:lnTo>
                      <a:pt x="56" y="667"/>
                    </a:lnTo>
                    <a:lnTo>
                      <a:pt x="36" y="641"/>
                    </a:lnTo>
                    <a:lnTo>
                      <a:pt x="20" y="613"/>
                    </a:lnTo>
                    <a:lnTo>
                      <a:pt x="9" y="586"/>
                    </a:lnTo>
                    <a:lnTo>
                      <a:pt x="2" y="558"/>
                    </a:lnTo>
                    <a:lnTo>
                      <a:pt x="0" y="530"/>
                    </a:lnTo>
                    <a:lnTo>
                      <a:pt x="2" y="501"/>
                    </a:lnTo>
                    <a:lnTo>
                      <a:pt x="9" y="474"/>
                    </a:lnTo>
                    <a:lnTo>
                      <a:pt x="20" y="447"/>
                    </a:lnTo>
                    <a:lnTo>
                      <a:pt x="36" y="421"/>
                    </a:lnTo>
                    <a:lnTo>
                      <a:pt x="56" y="394"/>
                    </a:lnTo>
                    <a:lnTo>
                      <a:pt x="79" y="368"/>
                    </a:lnTo>
                    <a:lnTo>
                      <a:pt x="106" y="344"/>
                    </a:lnTo>
                    <a:lnTo>
                      <a:pt x="138" y="320"/>
                    </a:lnTo>
                    <a:lnTo>
                      <a:pt x="172" y="295"/>
                    </a:lnTo>
                    <a:lnTo>
                      <a:pt x="211" y="272"/>
                    </a:lnTo>
                    <a:lnTo>
                      <a:pt x="253" y="250"/>
                    </a:lnTo>
                    <a:lnTo>
                      <a:pt x="298" y="229"/>
                    </a:lnTo>
                    <a:lnTo>
                      <a:pt x="347" y="209"/>
                    </a:lnTo>
                    <a:lnTo>
                      <a:pt x="399" y="188"/>
                    </a:lnTo>
                    <a:lnTo>
                      <a:pt x="454" y="169"/>
                    </a:lnTo>
                    <a:lnTo>
                      <a:pt x="511" y="151"/>
                    </a:lnTo>
                    <a:lnTo>
                      <a:pt x="572" y="134"/>
                    </a:lnTo>
                    <a:lnTo>
                      <a:pt x="636" y="118"/>
                    </a:lnTo>
                    <a:lnTo>
                      <a:pt x="701" y="102"/>
                    </a:lnTo>
                    <a:lnTo>
                      <a:pt x="770" y="88"/>
                    </a:lnTo>
                    <a:lnTo>
                      <a:pt x="841" y="74"/>
                    </a:lnTo>
                    <a:lnTo>
                      <a:pt x="913" y="61"/>
                    </a:lnTo>
                    <a:lnTo>
                      <a:pt x="989" y="50"/>
                    </a:lnTo>
                    <a:lnTo>
                      <a:pt x="1066" y="40"/>
                    </a:lnTo>
                    <a:lnTo>
                      <a:pt x="1146" y="31"/>
                    </a:lnTo>
                    <a:lnTo>
                      <a:pt x="1226" y="23"/>
                    </a:lnTo>
                    <a:lnTo>
                      <a:pt x="1309" y="16"/>
                    </a:lnTo>
                    <a:lnTo>
                      <a:pt x="1394" y="10"/>
                    </a:lnTo>
                    <a:lnTo>
                      <a:pt x="1480" y="6"/>
                    </a:lnTo>
                    <a:lnTo>
                      <a:pt x="1567" y="2"/>
                    </a:lnTo>
                    <a:lnTo>
                      <a:pt x="1656" y="0"/>
                    </a:lnTo>
                    <a:lnTo>
                      <a:pt x="1745" y="0"/>
                    </a:lnTo>
                    <a:lnTo>
                      <a:pt x="1835" y="0"/>
                    </a:lnTo>
                    <a:lnTo>
                      <a:pt x="1924" y="2"/>
                    </a:lnTo>
                    <a:lnTo>
                      <a:pt x="2011" y="6"/>
                    </a:lnTo>
                    <a:lnTo>
                      <a:pt x="2097" y="10"/>
                    </a:lnTo>
                    <a:lnTo>
                      <a:pt x="2182" y="16"/>
                    </a:lnTo>
                    <a:lnTo>
                      <a:pt x="2265" y="23"/>
                    </a:lnTo>
                    <a:lnTo>
                      <a:pt x="2345" y="31"/>
                    </a:lnTo>
                    <a:lnTo>
                      <a:pt x="2425" y="40"/>
                    </a:lnTo>
                    <a:lnTo>
                      <a:pt x="2502" y="50"/>
                    </a:lnTo>
                    <a:lnTo>
                      <a:pt x="2578" y="61"/>
                    </a:lnTo>
                    <a:lnTo>
                      <a:pt x="2650" y="74"/>
                    </a:lnTo>
                    <a:lnTo>
                      <a:pt x="2721" y="88"/>
                    </a:lnTo>
                    <a:lnTo>
                      <a:pt x="2790" y="102"/>
                    </a:lnTo>
                    <a:lnTo>
                      <a:pt x="2855" y="118"/>
                    </a:lnTo>
                    <a:lnTo>
                      <a:pt x="2919" y="134"/>
                    </a:lnTo>
                    <a:lnTo>
                      <a:pt x="2980" y="151"/>
                    </a:lnTo>
                    <a:lnTo>
                      <a:pt x="3037" y="169"/>
                    </a:lnTo>
                    <a:lnTo>
                      <a:pt x="3092" y="188"/>
                    </a:lnTo>
                    <a:lnTo>
                      <a:pt x="3144" y="209"/>
                    </a:lnTo>
                    <a:lnTo>
                      <a:pt x="3193" y="229"/>
                    </a:lnTo>
                    <a:lnTo>
                      <a:pt x="3238" y="250"/>
                    </a:lnTo>
                    <a:lnTo>
                      <a:pt x="3280" y="272"/>
                    </a:lnTo>
                    <a:lnTo>
                      <a:pt x="3319" y="295"/>
                    </a:lnTo>
                    <a:lnTo>
                      <a:pt x="3353" y="320"/>
                    </a:lnTo>
                    <a:lnTo>
                      <a:pt x="3385" y="344"/>
                    </a:lnTo>
                    <a:lnTo>
                      <a:pt x="3412" y="368"/>
                    </a:lnTo>
                    <a:lnTo>
                      <a:pt x="3436" y="394"/>
                    </a:lnTo>
                    <a:lnTo>
                      <a:pt x="3455" y="421"/>
                    </a:lnTo>
                    <a:lnTo>
                      <a:pt x="3470" y="447"/>
                    </a:lnTo>
                    <a:lnTo>
                      <a:pt x="3482" y="474"/>
                    </a:lnTo>
                    <a:lnTo>
                      <a:pt x="3489" y="501"/>
                    </a:lnTo>
                    <a:lnTo>
                      <a:pt x="3491" y="5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097360" y="6513480"/>
                <a:ext cx="386280" cy="128520"/>
              </a:xfrm>
              <a:custGeom>
                <a:avLst/>
                <a:gdLst/>
                <a:ahLst/>
                <a:rect l="l" t="t" r="r" b="b"/>
                <a:pathLst>
                  <a:path w="3488" h="1076">
                    <a:moveTo>
                      <a:pt x="3488" y="529"/>
                    </a:moveTo>
                    <a:lnTo>
                      <a:pt x="3485" y="557"/>
                    </a:lnTo>
                    <a:lnTo>
                      <a:pt x="3479" y="585"/>
                    </a:lnTo>
                    <a:lnTo>
                      <a:pt x="3467" y="612"/>
                    </a:lnTo>
                    <a:lnTo>
                      <a:pt x="3451" y="639"/>
                    </a:lnTo>
                    <a:lnTo>
                      <a:pt x="3432" y="666"/>
                    </a:lnTo>
                    <a:lnTo>
                      <a:pt x="3409" y="691"/>
                    </a:lnTo>
                    <a:lnTo>
                      <a:pt x="3382" y="717"/>
                    </a:lnTo>
                    <a:lnTo>
                      <a:pt x="3350" y="742"/>
                    </a:lnTo>
                    <a:lnTo>
                      <a:pt x="3315" y="766"/>
                    </a:lnTo>
                    <a:lnTo>
                      <a:pt x="3277" y="790"/>
                    </a:lnTo>
                    <a:lnTo>
                      <a:pt x="3235" y="812"/>
                    </a:lnTo>
                    <a:lnTo>
                      <a:pt x="3190" y="835"/>
                    </a:lnTo>
                    <a:lnTo>
                      <a:pt x="3141" y="856"/>
                    </a:lnTo>
                    <a:lnTo>
                      <a:pt x="3089" y="877"/>
                    </a:lnTo>
                    <a:lnTo>
                      <a:pt x="3034" y="897"/>
                    </a:lnTo>
                    <a:lnTo>
                      <a:pt x="2977" y="915"/>
                    </a:lnTo>
                    <a:lnTo>
                      <a:pt x="2916" y="933"/>
                    </a:lnTo>
                    <a:lnTo>
                      <a:pt x="2852" y="951"/>
                    </a:lnTo>
                    <a:lnTo>
                      <a:pt x="2787" y="968"/>
                    </a:lnTo>
                    <a:lnTo>
                      <a:pt x="2718" y="983"/>
                    </a:lnTo>
                    <a:lnTo>
                      <a:pt x="2647" y="997"/>
                    </a:lnTo>
                    <a:lnTo>
                      <a:pt x="2575" y="1010"/>
                    </a:lnTo>
                    <a:lnTo>
                      <a:pt x="2500" y="1022"/>
                    </a:lnTo>
                    <a:lnTo>
                      <a:pt x="2422" y="1033"/>
                    </a:lnTo>
                    <a:lnTo>
                      <a:pt x="2343" y="1042"/>
                    </a:lnTo>
                    <a:lnTo>
                      <a:pt x="2262" y="1052"/>
                    </a:lnTo>
                    <a:lnTo>
                      <a:pt x="2180" y="1059"/>
                    </a:lnTo>
                    <a:lnTo>
                      <a:pt x="2095" y="1065"/>
                    </a:lnTo>
                    <a:lnTo>
                      <a:pt x="2009" y="1070"/>
                    </a:lnTo>
                    <a:lnTo>
                      <a:pt x="1922" y="1073"/>
                    </a:lnTo>
                    <a:lnTo>
                      <a:pt x="1833" y="1075"/>
                    </a:lnTo>
                    <a:lnTo>
                      <a:pt x="1743" y="1076"/>
                    </a:lnTo>
                    <a:lnTo>
                      <a:pt x="1654" y="1075"/>
                    </a:lnTo>
                    <a:lnTo>
                      <a:pt x="1566" y="1073"/>
                    </a:lnTo>
                    <a:lnTo>
                      <a:pt x="1478" y="1070"/>
                    </a:lnTo>
                    <a:lnTo>
                      <a:pt x="1392" y="1065"/>
                    </a:lnTo>
                    <a:lnTo>
                      <a:pt x="1308" y="1059"/>
                    </a:lnTo>
                    <a:lnTo>
                      <a:pt x="1225" y="1052"/>
                    </a:lnTo>
                    <a:lnTo>
                      <a:pt x="1144" y="1042"/>
                    </a:lnTo>
                    <a:lnTo>
                      <a:pt x="1065" y="1033"/>
                    </a:lnTo>
                    <a:lnTo>
                      <a:pt x="988" y="1022"/>
                    </a:lnTo>
                    <a:lnTo>
                      <a:pt x="912" y="1010"/>
                    </a:lnTo>
                    <a:lnTo>
                      <a:pt x="840" y="997"/>
                    </a:lnTo>
                    <a:lnTo>
                      <a:pt x="769" y="983"/>
                    </a:lnTo>
                    <a:lnTo>
                      <a:pt x="700" y="968"/>
                    </a:lnTo>
                    <a:lnTo>
                      <a:pt x="635" y="951"/>
                    </a:lnTo>
                    <a:lnTo>
                      <a:pt x="571" y="933"/>
                    </a:lnTo>
                    <a:lnTo>
                      <a:pt x="510" y="915"/>
                    </a:lnTo>
                    <a:lnTo>
                      <a:pt x="453" y="897"/>
                    </a:lnTo>
                    <a:lnTo>
                      <a:pt x="398" y="877"/>
                    </a:lnTo>
                    <a:lnTo>
                      <a:pt x="347" y="856"/>
                    </a:lnTo>
                    <a:lnTo>
                      <a:pt x="297" y="835"/>
                    </a:lnTo>
                    <a:lnTo>
                      <a:pt x="252" y="812"/>
                    </a:lnTo>
                    <a:lnTo>
                      <a:pt x="210" y="790"/>
                    </a:lnTo>
                    <a:lnTo>
                      <a:pt x="172" y="766"/>
                    </a:lnTo>
                    <a:lnTo>
                      <a:pt x="137" y="742"/>
                    </a:lnTo>
                    <a:lnTo>
                      <a:pt x="105" y="717"/>
                    </a:lnTo>
                    <a:lnTo>
                      <a:pt x="78" y="691"/>
                    </a:lnTo>
                    <a:lnTo>
                      <a:pt x="55" y="666"/>
                    </a:lnTo>
                    <a:lnTo>
                      <a:pt x="36" y="639"/>
                    </a:lnTo>
                    <a:lnTo>
                      <a:pt x="19" y="612"/>
                    </a:lnTo>
                    <a:lnTo>
                      <a:pt x="8" y="585"/>
                    </a:lnTo>
                    <a:lnTo>
                      <a:pt x="2" y="557"/>
                    </a:lnTo>
                    <a:lnTo>
                      <a:pt x="0" y="529"/>
                    </a:lnTo>
                    <a:lnTo>
                      <a:pt x="2" y="500"/>
                    </a:lnTo>
                    <a:lnTo>
                      <a:pt x="8" y="473"/>
                    </a:lnTo>
                    <a:lnTo>
                      <a:pt x="19" y="446"/>
                    </a:lnTo>
                    <a:lnTo>
                      <a:pt x="36" y="420"/>
                    </a:lnTo>
                    <a:lnTo>
                      <a:pt x="55" y="393"/>
                    </a:lnTo>
                    <a:lnTo>
                      <a:pt x="78" y="368"/>
                    </a:lnTo>
                    <a:lnTo>
                      <a:pt x="105" y="343"/>
                    </a:lnTo>
                    <a:lnTo>
                      <a:pt x="137" y="319"/>
                    </a:lnTo>
                    <a:lnTo>
                      <a:pt x="172" y="295"/>
                    </a:lnTo>
                    <a:lnTo>
                      <a:pt x="210" y="272"/>
                    </a:lnTo>
                    <a:lnTo>
                      <a:pt x="252" y="250"/>
                    </a:lnTo>
                    <a:lnTo>
                      <a:pt x="297" y="229"/>
                    </a:lnTo>
                    <a:lnTo>
                      <a:pt x="347" y="208"/>
                    </a:lnTo>
                    <a:lnTo>
                      <a:pt x="398" y="188"/>
                    </a:lnTo>
                    <a:lnTo>
                      <a:pt x="453" y="169"/>
                    </a:lnTo>
                    <a:lnTo>
                      <a:pt x="510" y="151"/>
                    </a:lnTo>
                    <a:lnTo>
                      <a:pt x="571" y="134"/>
                    </a:lnTo>
                    <a:lnTo>
                      <a:pt x="635" y="117"/>
                    </a:lnTo>
                    <a:lnTo>
                      <a:pt x="700" y="102"/>
                    </a:lnTo>
                    <a:lnTo>
                      <a:pt x="769" y="88"/>
                    </a:lnTo>
                    <a:lnTo>
                      <a:pt x="840" y="73"/>
                    </a:lnTo>
                    <a:lnTo>
                      <a:pt x="912" y="61"/>
                    </a:lnTo>
                    <a:lnTo>
                      <a:pt x="988" y="50"/>
                    </a:lnTo>
                    <a:lnTo>
                      <a:pt x="1065" y="40"/>
                    </a:lnTo>
                    <a:lnTo>
                      <a:pt x="1144" y="30"/>
                    </a:lnTo>
                    <a:lnTo>
                      <a:pt x="1225" y="22"/>
                    </a:lnTo>
                    <a:lnTo>
                      <a:pt x="1308" y="16"/>
                    </a:lnTo>
                    <a:lnTo>
                      <a:pt x="1392" y="10"/>
                    </a:lnTo>
                    <a:lnTo>
                      <a:pt x="1478" y="5"/>
                    </a:lnTo>
                    <a:lnTo>
                      <a:pt x="1566" y="2"/>
                    </a:lnTo>
                    <a:lnTo>
                      <a:pt x="1654" y="0"/>
                    </a:lnTo>
                    <a:lnTo>
                      <a:pt x="1743" y="0"/>
                    </a:lnTo>
                    <a:lnTo>
                      <a:pt x="1833" y="0"/>
                    </a:lnTo>
                    <a:lnTo>
                      <a:pt x="1922" y="2"/>
                    </a:lnTo>
                    <a:lnTo>
                      <a:pt x="2009" y="5"/>
                    </a:lnTo>
                    <a:lnTo>
                      <a:pt x="2095" y="10"/>
                    </a:lnTo>
                    <a:lnTo>
                      <a:pt x="2180" y="16"/>
                    </a:lnTo>
                    <a:lnTo>
                      <a:pt x="2262" y="22"/>
                    </a:lnTo>
                    <a:lnTo>
                      <a:pt x="2343" y="30"/>
                    </a:lnTo>
                    <a:lnTo>
                      <a:pt x="2422" y="40"/>
                    </a:lnTo>
                    <a:lnTo>
                      <a:pt x="2500" y="50"/>
                    </a:lnTo>
                    <a:lnTo>
                      <a:pt x="2575" y="61"/>
                    </a:lnTo>
                    <a:lnTo>
                      <a:pt x="2647" y="73"/>
                    </a:lnTo>
                    <a:lnTo>
                      <a:pt x="2718" y="88"/>
                    </a:lnTo>
                    <a:lnTo>
                      <a:pt x="2787" y="102"/>
                    </a:lnTo>
                    <a:lnTo>
                      <a:pt x="2852" y="117"/>
                    </a:lnTo>
                    <a:lnTo>
                      <a:pt x="2916" y="134"/>
                    </a:lnTo>
                    <a:lnTo>
                      <a:pt x="2977" y="151"/>
                    </a:lnTo>
                    <a:lnTo>
                      <a:pt x="3034" y="169"/>
                    </a:lnTo>
                    <a:lnTo>
                      <a:pt x="3089" y="188"/>
                    </a:lnTo>
                    <a:lnTo>
                      <a:pt x="3141" y="208"/>
                    </a:lnTo>
                    <a:lnTo>
                      <a:pt x="3190" y="229"/>
                    </a:lnTo>
                    <a:lnTo>
                      <a:pt x="3235" y="250"/>
                    </a:lnTo>
                    <a:lnTo>
                      <a:pt x="3277" y="272"/>
                    </a:lnTo>
                    <a:lnTo>
                      <a:pt x="3315" y="295"/>
                    </a:lnTo>
                    <a:lnTo>
                      <a:pt x="3350" y="319"/>
                    </a:lnTo>
                    <a:lnTo>
                      <a:pt x="3382" y="343"/>
                    </a:lnTo>
                    <a:lnTo>
                      <a:pt x="3409" y="368"/>
                    </a:lnTo>
                    <a:lnTo>
                      <a:pt x="3432" y="393"/>
                    </a:lnTo>
                    <a:lnTo>
                      <a:pt x="3451" y="420"/>
                    </a:lnTo>
                    <a:lnTo>
                      <a:pt x="3467" y="446"/>
                    </a:lnTo>
                    <a:lnTo>
                      <a:pt x="3479" y="473"/>
                    </a:lnTo>
                    <a:lnTo>
                      <a:pt x="3485" y="500"/>
                    </a:lnTo>
                    <a:lnTo>
                      <a:pt x="3488" y="5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098800" y="6513480"/>
                <a:ext cx="383400" cy="128520"/>
              </a:xfrm>
              <a:custGeom>
                <a:avLst/>
                <a:gdLst/>
                <a:ahLst/>
                <a:rect l="l" t="t" r="r" b="b"/>
                <a:pathLst>
                  <a:path w="3485" h="1074">
                    <a:moveTo>
                      <a:pt x="3485" y="528"/>
                    </a:moveTo>
                    <a:lnTo>
                      <a:pt x="3483" y="556"/>
                    </a:lnTo>
                    <a:lnTo>
                      <a:pt x="3476" y="584"/>
                    </a:lnTo>
                    <a:lnTo>
                      <a:pt x="3464" y="611"/>
                    </a:lnTo>
                    <a:lnTo>
                      <a:pt x="3449" y="638"/>
                    </a:lnTo>
                    <a:lnTo>
                      <a:pt x="3430" y="664"/>
                    </a:lnTo>
                    <a:lnTo>
                      <a:pt x="3407" y="690"/>
                    </a:lnTo>
                    <a:lnTo>
                      <a:pt x="3379" y="715"/>
                    </a:lnTo>
                    <a:lnTo>
                      <a:pt x="3348" y="741"/>
                    </a:lnTo>
                    <a:lnTo>
                      <a:pt x="3313" y="765"/>
                    </a:lnTo>
                    <a:lnTo>
                      <a:pt x="3275" y="788"/>
                    </a:lnTo>
                    <a:lnTo>
                      <a:pt x="3232" y="811"/>
                    </a:lnTo>
                    <a:lnTo>
                      <a:pt x="3188" y="834"/>
                    </a:lnTo>
                    <a:lnTo>
                      <a:pt x="3138" y="855"/>
                    </a:lnTo>
                    <a:lnTo>
                      <a:pt x="3087" y="875"/>
                    </a:lnTo>
                    <a:lnTo>
                      <a:pt x="3032" y="895"/>
                    </a:lnTo>
                    <a:lnTo>
                      <a:pt x="2975" y="914"/>
                    </a:lnTo>
                    <a:lnTo>
                      <a:pt x="2914" y="932"/>
                    </a:lnTo>
                    <a:lnTo>
                      <a:pt x="2850" y="950"/>
                    </a:lnTo>
                    <a:lnTo>
                      <a:pt x="2785" y="966"/>
                    </a:lnTo>
                    <a:lnTo>
                      <a:pt x="2717" y="981"/>
                    </a:lnTo>
                    <a:lnTo>
                      <a:pt x="2646" y="995"/>
                    </a:lnTo>
                    <a:lnTo>
                      <a:pt x="2573" y="1008"/>
                    </a:lnTo>
                    <a:lnTo>
                      <a:pt x="2498" y="1020"/>
                    </a:lnTo>
                    <a:lnTo>
                      <a:pt x="2421" y="1031"/>
                    </a:lnTo>
                    <a:lnTo>
                      <a:pt x="2341" y="1040"/>
                    </a:lnTo>
                    <a:lnTo>
                      <a:pt x="2261" y="1050"/>
                    </a:lnTo>
                    <a:lnTo>
                      <a:pt x="2178" y="1057"/>
                    </a:lnTo>
                    <a:lnTo>
                      <a:pt x="2094" y="1063"/>
                    </a:lnTo>
                    <a:lnTo>
                      <a:pt x="2008" y="1068"/>
                    </a:lnTo>
                    <a:lnTo>
                      <a:pt x="1920" y="1071"/>
                    </a:lnTo>
                    <a:lnTo>
                      <a:pt x="1832" y="1074"/>
                    </a:lnTo>
                    <a:lnTo>
                      <a:pt x="1742" y="1074"/>
                    </a:lnTo>
                    <a:lnTo>
                      <a:pt x="1653" y="1074"/>
                    </a:lnTo>
                    <a:lnTo>
                      <a:pt x="1565" y="1071"/>
                    </a:lnTo>
                    <a:lnTo>
                      <a:pt x="1477" y="1068"/>
                    </a:lnTo>
                    <a:lnTo>
                      <a:pt x="1391" y="1063"/>
                    </a:lnTo>
                    <a:lnTo>
                      <a:pt x="1307" y="1057"/>
                    </a:lnTo>
                    <a:lnTo>
                      <a:pt x="1224" y="1050"/>
                    </a:lnTo>
                    <a:lnTo>
                      <a:pt x="1144" y="1040"/>
                    </a:lnTo>
                    <a:lnTo>
                      <a:pt x="1065" y="1031"/>
                    </a:lnTo>
                    <a:lnTo>
                      <a:pt x="987" y="1020"/>
                    </a:lnTo>
                    <a:lnTo>
                      <a:pt x="912" y="1008"/>
                    </a:lnTo>
                    <a:lnTo>
                      <a:pt x="840" y="995"/>
                    </a:lnTo>
                    <a:lnTo>
                      <a:pt x="769" y="981"/>
                    </a:lnTo>
                    <a:lnTo>
                      <a:pt x="700" y="966"/>
                    </a:lnTo>
                    <a:lnTo>
                      <a:pt x="635" y="950"/>
                    </a:lnTo>
                    <a:lnTo>
                      <a:pt x="571" y="932"/>
                    </a:lnTo>
                    <a:lnTo>
                      <a:pt x="510" y="914"/>
                    </a:lnTo>
                    <a:lnTo>
                      <a:pt x="453" y="895"/>
                    </a:lnTo>
                    <a:lnTo>
                      <a:pt x="398" y="875"/>
                    </a:lnTo>
                    <a:lnTo>
                      <a:pt x="347" y="855"/>
                    </a:lnTo>
                    <a:lnTo>
                      <a:pt x="298" y="834"/>
                    </a:lnTo>
                    <a:lnTo>
                      <a:pt x="253" y="811"/>
                    </a:lnTo>
                    <a:lnTo>
                      <a:pt x="210" y="788"/>
                    </a:lnTo>
                    <a:lnTo>
                      <a:pt x="172" y="765"/>
                    </a:lnTo>
                    <a:lnTo>
                      <a:pt x="138" y="741"/>
                    </a:lnTo>
                    <a:lnTo>
                      <a:pt x="106" y="715"/>
                    </a:lnTo>
                    <a:lnTo>
                      <a:pt x="79" y="690"/>
                    </a:lnTo>
                    <a:lnTo>
                      <a:pt x="55" y="664"/>
                    </a:lnTo>
                    <a:lnTo>
                      <a:pt x="36" y="638"/>
                    </a:lnTo>
                    <a:lnTo>
                      <a:pt x="21" y="611"/>
                    </a:lnTo>
                    <a:lnTo>
                      <a:pt x="9" y="584"/>
                    </a:lnTo>
                    <a:lnTo>
                      <a:pt x="2" y="556"/>
                    </a:lnTo>
                    <a:lnTo>
                      <a:pt x="0" y="528"/>
                    </a:lnTo>
                    <a:lnTo>
                      <a:pt x="2" y="499"/>
                    </a:lnTo>
                    <a:lnTo>
                      <a:pt x="9" y="472"/>
                    </a:lnTo>
                    <a:lnTo>
                      <a:pt x="21" y="445"/>
                    </a:lnTo>
                    <a:lnTo>
                      <a:pt x="36" y="419"/>
                    </a:lnTo>
                    <a:lnTo>
                      <a:pt x="55" y="392"/>
                    </a:lnTo>
                    <a:lnTo>
                      <a:pt x="79" y="367"/>
                    </a:lnTo>
                    <a:lnTo>
                      <a:pt x="106" y="342"/>
                    </a:lnTo>
                    <a:lnTo>
                      <a:pt x="138" y="318"/>
                    </a:lnTo>
                    <a:lnTo>
                      <a:pt x="172" y="294"/>
                    </a:lnTo>
                    <a:lnTo>
                      <a:pt x="210" y="271"/>
                    </a:lnTo>
                    <a:lnTo>
                      <a:pt x="253" y="249"/>
                    </a:lnTo>
                    <a:lnTo>
                      <a:pt x="298" y="228"/>
                    </a:lnTo>
                    <a:lnTo>
                      <a:pt x="347" y="208"/>
                    </a:lnTo>
                    <a:lnTo>
                      <a:pt x="398" y="187"/>
                    </a:lnTo>
                    <a:lnTo>
                      <a:pt x="453" y="168"/>
                    </a:lnTo>
                    <a:lnTo>
                      <a:pt x="510" y="150"/>
                    </a:lnTo>
                    <a:lnTo>
                      <a:pt x="571" y="133"/>
                    </a:lnTo>
                    <a:lnTo>
                      <a:pt x="635" y="117"/>
                    </a:lnTo>
                    <a:lnTo>
                      <a:pt x="700" y="102"/>
                    </a:lnTo>
                    <a:lnTo>
                      <a:pt x="769" y="87"/>
                    </a:lnTo>
                    <a:lnTo>
                      <a:pt x="840" y="73"/>
                    </a:lnTo>
                    <a:lnTo>
                      <a:pt x="912" y="61"/>
                    </a:lnTo>
                    <a:lnTo>
                      <a:pt x="987" y="50"/>
                    </a:lnTo>
                    <a:lnTo>
                      <a:pt x="1065" y="39"/>
                    </a:lnTo>
                    <a:lnTo>
                      <a:pt x="1144" y="30"/>
                    </a:lnTo>
                    <a:lnTo>
                      <a:pt x="1224" y="22"/>
                    </a:lnTo>
                    <a:lnTo>
                      <a:pt x="1307" y="15"/>
                    </a:lnTo>
                    <a:lnTo>
                      <a:pt x="1391" y="10"/>
                    </a:lnTo>
                    <a:lnTo>
                      <a:pt x="1477" y="5"/>
                    </a:lnTo>
                    <a:lnTo>
                      <a:pt x="1565" y="2"/>
                    </a:lnTo>
                    <a:lnTo>
                      <a:pt x="1653" y="0"/>
                    </a:lnTo>
                    <a:lnTo>
                      <a:pt x="1742" y="0"/>
                    </a:lnTo>
                    <a:lnTo>
                      <a:pt x="1832" y="0"/>
                    </a:lnTo>
                    <a:lnTo>
                      <a:pt x="1920" y="2"/>
                    </a:lnTo>
                    <a:lnTo>
                      <a:pt x="2008" y="5"/>
                    </a:lnTo>
                    <a:lnTo>
                      <a:pt x="2094" y="10"/>
                    </a:lnTo>
                    <a:lnTo>
                      <a:pt x="2178" y="15"/>
                    </a:lnTo>
                    <a:lnTo>
                      <a:pt x="2261" y="22"/>
                    </a:lnTo>
                    <a:lnTo>
                      <a:pt x="2341" y="30"/>
                    </a:lnTo>
                    <a:lnTo>
                      <a:pt x="2421" y="39"/>
                    </a:lnTo>
                    <a:lnTo>
                      <a:pt x="2498" y="50"/>
                    </a:lnTo>
                    <a:lnTo>
                      <a:pt x="2573" y="61"/>
                    </a:lnTo>
                    <a:lnTo>
                      <a:pt x="2646" y="73"/>
                    </a:lnTo>
                    <a:lnTo>
                      <a:pt x="2717" y="87"/>
                    </a:lnTo>
                    <a:lnTo>
                      <a:pt x="2785" y="102"/>
                    </a:lnTo>
                    <a:lnTo>
                      <a:pt x="2850" y="117"/>
                    </a:lnTo>
                    <a:lnTo>
                      <a:pt x="2914" y="133"/>
                    </a:lnTo>
                    <a:lnTo>
                      <a:pt x="2975" y="150"/>
                    </a:lnTo>
                    <a:lnTo>
                      <a:pt x="3032" y="168"/>
                    </a:lnTo>
                    <a:lnTo>
                      <a:pt x="3087" y="187"/>
                    </a:lnTo>
                    <a:lnTo>
                      <a:pt x="3138" y="208"/>
                    </a:lnTo>
                    <a:lnTo>
                      <a:pt x="3188" y="228"/>
                    </a:lnTo>
                    <a:lnTo>
                      <a:pt x="3232" y="249"/>
                    </a:lnTo>
                    <a:lnTo>
                      <a:pt x="3275" y="271"/>
                    </a:lnTo>
                    <a:lnTo>
                      <a:pt x="3313" y="294"/>
                    </a:lnTo>
                    <a:lnTo>
                      <a:pt x="3348" y="318"/>
                    </a:lnTo>
                    <a:lnTo>
                      <a:pt x="3379" y="342"/>
                    </a:lnTo>
                    <a:lnTo>
                      <a:pt x="3407" y="367"/>
                    </a:lnTo>
                    <a:lnTo>
                      <a:pt x="3430" y="392"/>
                    </a:lnTo>
                    <a:lnTo>
                      <a:pt x="3449" y="419"/>
                    </a:lnTo>
                    <a:lnTo>
                      <a:pt x="3464" y="445"/>
                    </a:lnTo>
                    <a:lnTo>
                      <a:pt x="3476" y="472"/>
                    </a:lnTo>
                    <a:lnTo>
                      <a:pt x="3483" y="499"/>
                    </a:lnTo>
                    <a:lnTo>
                      <a:pt x="3485" y="5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098800" y="6513480"/>
                <a:ext cx="383400" cy="128520"/>
              </a:xfrm>
              <a:custGeom>
                <a:avLst/>
                <a:gdLst/>
                <a:ahLst/>
                <a:rect l="l" t="t" r="r" b="b"/>
                <a:pathLst>
                  <a:path w="3483" h="1072">
                    <a:moveTo>
                      <a:pt x="3483" y="527"/>
                    </a:moveTo>
                    <a:lnTo>
                      <a:pt x="3480" y="555"/>
                    </a:lnTo>
                    <a:lnTo>
                      <a:pt x="3474" y="582"/>
                    </a:lnTo>
                    <a:lnTo>
                      <a:pt x="3462" y="609"/>
                    </a:lnTo>
                    <a:lnTo>
                      <a:pt x="3447" y="637"/>
                    </a:lnTo>
                    <a:lnTo>
                      <a:pt x="3427" y="663"/>
                    </a:lnTo>
                    <a:lnTo>
                      <a:pt x="3404" y="689"/>
                    </a:lnTo>
                    <a:lnTo>
                      <a:pt x="3377" y="714"/>
                    </a:lnTo>
                    <a:lnTo>
                      <a:pt x="3345" y="739"/>
                    </a:lnTo>
                    <a:lnTo>
                      <a:pt x="3311" y="763"/>
                    </a:lnTo>
                    <a:lnTo>
                      <a:pt x="3273" y="787"/>
                    </a:lnTo>
                    <a:lnTo>
                      <a:pt x="3230" y="809"/>
                    </a:lnTo>
                    <a:lnTo>
                      <a:pt x="3185" y="831"/>
                    </a:lnTo>
                    <a:lnTo>
                      <a:pt x="3136" y="853"/>
                    </a:lnTo>
                    <a:lnTo>
                      <a:pt x="3085" y="874"/>
                    </a:lnTo>
                    <a:lnTo>
                      <a:pt x="3030" y="893"/>
                    </a:lnTo>
                    <a:lnTo>
                      <a:pt x="2973" y="912"/>
                    </a:lnTo>
                    <a:lnTo>
                      <a:pt x="2912" y="930"/>
                    </a:lnTo>
                    <a:lnTo>
                      <a:pt x="2848" y="948"/>
                    </a:lnTo>
                    <a:lnTo>
                      <a:pt x="2783" y="964"/>
                    </a:lnTo>
                    <a:lnTo>
                      <a:pt x="2715" y="979"/>
                    </a:lnTo>
                    <a:lnTo>
                      <a:pt x="2644" y="993"/>
                    </a:lnTo>
                    <a:lnTo>
                      <a:pt x="2572" y="1006"/>
                    </a:lnTo>
                    <a:lnTo>
                      <a:pt x="2496" y="1018"/>
                    </a:lnTo>
                    <a:lnTo>
                      <a:pt x="2419" y="1029"/>
                    </a:lnTo>
                    <a:lnTo>
                      <a:pt x="2340" y="1039"/>
                    </a:lnTo>
                    <a:lnTo>
                      <a:pt x="2260" y="1048"/>
                    </a:lnTo>
                    <a:lnTo>
                      <a:pt x="2177" y="1055"/>
                    </a:lnTo>
                    <a:lnTo>
                      <a:pt x="2092" y="1061"/>
                    </a:lnTo>
                    <a:lnTo>
                      <a:pt x="2007" y="1066"/>
                    </a:lnTo>
                    <a:lnTo>
                      <a:pt x="1919" y="1070"/>
                    </a:lnTo>
                    <a:lnTo>
                      <a:pt x="1831" y="1072"/>
                    </a:lnTo>
                    <a:lnTo>
                      <a:pt x="1741" y="1072"/>
                    </a:lnTo>
                    <a:lnTo>
                      <a:pt x="1652" y="1072"/>
                    </a:lnTo>
                    <a:lnTo>
                      <a:pt x="1564" y="1070"/>
                    </a:lnTo>
                    <a:lnTo>
                      <a:pt x="1477" y="1066"/>
                    </a:lnTo>
                    <a:lnTo>
                      <a:pt x="1391" y="1061"/>
                    </a:lnTo>
                    <a:lnTo>
                      <a:pt x="1306" y="1055"/>
                    </a:lnTo>
                    <a:lnTo>
                      <a:pt x="1223" y="1048"/>
                    </a:lnTo>
                    <a:lnTo>
                      <a:pt x="1143" y="1039"/>
                    </a:lnTo>
                    <a:lnTo>
                      <a:pt x="1064" y="1029"/>
                    </a:lnTo>
                    <a:lnTo>
                      <a:pt x="987" y="1018"/>
                    </a:lnTo>
                    <a:lnTo>
                      <a:pt x="911" y="1006"/>
                    </a:lnTo>
                    <a:lnTo>
                      <a:pt x="839" y="993"/>
                    </a:lnTo>
                    <a:lnTo>
                      <a:pt x="768" y="979"/>
                    </a:lnTo>
                    <a:lnTo>
                      <a:pt x="700" y="964"/>
                    </a:lnTo>
                    <a:lnTo>
                      <a:pt x="635" y="948"/>
                    </a:lnTo>
                    <a:lnTo>
                      <a:pt x="571" y="930"/>
                    </a:lnTo>
                    <a:lnTo>
                      <a:pt x="510" y="912"/>
                    </a:lnTo>
                    <a:lnTo>
                      <a:pt x="453" y="893"/>
                    </a:lnTo>
                    <a:lnTo>
                      <a:pt x="398" y="874"/>
                    </a:lnTo>
                    <a:lnTo>
                      <a:pt x="347" y="853"/>
                    </a:lnTo>
                    <a:lnTo>
                      <a:pt x="298" y="831"/>
                    </a:lnTo>
                    <a:lnTo>
                      <a:pt x="253" y="809"/>
                    </a:lnTo>
                    <a:lnTo>
                      <a:pt x="210" y="787"/>
                    </a:lnTo>
                    <a:lnTo>
                      <a:pt x="172" y="763"/>
                    </a:lnTo>
                    <a:lnTo>
                      <a:pt x="138" y="739"/>
                    </a:lnTo>
                    <a:lnTo>
                      <a:pt x="106" y="714"/>
                    </a:lnTo>
                    <a:lnTo>
                      <a:pt x="79" y="689"/>
                    </a:lnTo>
                    <a:lnTo>
                      <a:pt x="56" y="663"/>
                    </a:lnTo>
                    <a:lnTo>
                      <a:pt x="36" y="637"/>
                    </a:lnTo>
                    <a:lnTo>
                      <a:pt x="21" y="609"/>
                    </a:lnTo>
                    <a:lnTo>
                      <a:pt x="9" y="582"/>
                    </a:lnTo>
                    <a:lnTo>
                      <a:pt x="3" y="555"/>
                    </a:lnTo>
                    <a:lnTo>
                      <a:pt x="0" y="527"/>
                    </a:lnTo>
                    <a:lnTo>
                      <a:pt x="3" y="498"/>
                    </a:lnTo>
                    <a:lnTo>
                      <a:pt x="9" y="471"/>
                    </a:lnTo>
                    <a:lnTo>
                      <a:pt x="21" y="444"/>
                    </a:lnTo>
                    <a:lnTo>
                      <a:pt x="36" y="418"/>
                    </a:lnTo>
                    <a:lnTo>
                      <a:pt x="56" y="391"/>
                    </a:lnTo>
                    <a:lnTo>
                      <a:pt x="79" y="366"/>
                    </a:lnTo>
                    <a:lnTo>
                      <a:pt x="106" y="342"/>
                    </a:lnTo>
                    <a:lnTo>
                      <a:pt x="138" y="318"/>
                    </a:lnTo>
                    <a:lnTo>
                      <a:pt x="172" y="293"/>
                    </a:lnTo>
                    <a:lnTo>
                      <a:pt x="210" y="271"/>
                    </a:lnTo>
                    <a:lnTo>
                      <a:pt x="253" y="249"/>
                    </a:lnTo>
                    <a:lnTo>
                      <a:pt x="298" y="228"/>
                    </a:lnTo>
                    <a:lnTo>
                      <a:pt x="347" y="207"/>
                    </a:lnTo>
                    <a:lnTo>
                      <a:pt x="398" y="187"/>
                    </a:lnTo>
                    <a:lnTo>
                      <a:pt x="453" y="168"/>
                    </a:lnTo>
                    <a:lnTo>
                      <a:pt x="510" y="150"/>
                    </a:lnTo>
                    <a:lnTo>
                      <a:pt x="571" y="133"/>
                    </a:lnTo>
                    <a:lnTo>
                      <a:pt x="635" y="117"/>
                    </a:lnTo>
                    <a:lnTo>
                      <a:pt x="700" y="102"/>
                    </a:lnTo>
                    <a:lnTo>
                      <a:pt x="768" y="87"/>
                    </a:lnTo>
                    <a:lnTo>
                      <a:pt x="839" y="73"/>
                    </a:lnTo>
                    <a:lnTo>
                      <a:pt x="911" y="61"/>
                    </a:lnTo>
                    <a:lnTo>
                      <a:pt x="987" y="49"/>
                    </a:lnTo>
                    <a:lnTo>
                      <a:pt x="1064" y="39"/>
                    </a:lnTo>
                    <a:lnTo>
                      <a:pt x="1143" y="30"/>
                    </a:lnTo>
                    <a:lnTo>
                      <a:pt x="1223" y="22"/>
                    </a:lnTo>
                    <a:lnTo>
                      <a:pt x="1306" y="15"/>
                    </a:lnTo>
                    <a:lnTo>
                      <a:pt x="1391" y="10"/>
                    </a:lnTo>
                    <a:lnTo>
                      <a:pt x="1477" y="5"/>
                    </a:lnTo>
                    <a:lnTo>
                      <a:pt x="1564" y="2"/>
                    </a:lnTo>
                    <a:lnTo>
                      <a:pt x="1652" y="0"/>
                    </a:lnTo>
                    <a:lnTo>
                      <a:pt x="1741" y="0"/>
                    </a:lnTo>
                    <a:lnTo>
                      <a:pt x="1831" y="0"/>
                    </a:lnTo>
                    <a:lnTo>
                      <a:pt x="1919" y="2"/>
                    </a:lnTo>
                    <a:lnTo>
                      <a:pt x="2007" y="5"/>
                    </a:lnTo>
                    <a:lnTo>
                      <a:pt x="2092" y="10"/>
                    </a:lnTo>
                    <a:lnTo>
                      <a:pt x="2177" y="15"/>
                    </a:lnTo>
                    <a:lnTo>
                      <a:pt x="2260" y="22"/>
                    </a:lnTo>
                    <a:lnTo>
                      <a:pt x="2340" y="30"/>
                    </a:lnTo>
                    <a:lnTo>
                      <a:pt x="2419" y="39"/>
                    </a:lnTo>
                    <a:lnTo>
                      <a:pt x="2496" y="49"/>
                    </a:lnTo>
                    <a:lnTo>
                      <a:pt x="2572" y="61"/>
                    </a:lnTo>
                    <a:lnTo>
                      <a:pt x="2644" y="73"/>
                    </a:lnTo>
                    <a:lnTo>
                      <a:pt x="2715" y="87"/>
                    </a:lnTo>
                    <a:lnTo>
                      <a:pt x="2783" y="102"/>
                    </a:lnTo>
                    <a:lnTo>
                      <a:pt x="2848" y="117"/>
                    </a:lnTo>
                    <a:lnTo>
                      <a:pt x="2912" y="133"/>
                    </a:lnTo>
                    <a:lnTo>
                      <a:pt x="2973" y="150"/>
                    </a:lnTo>
                    <a:lnTo>
                      <a:pt x="3030" y="168"/>
                    </a:lnTo>
                    <a:lnTo>
                      <a:pt x="3085" y="187"/>
                    </a:lnTo>
                    <a:lnTo>
                      <a:pt x="3136" y="207"/>
                    </a:lnTo>
                    <a:lnTo>
                      <a:pt x="3185" y="228"/>
                    </a:lnTo>
                    <a:lnTo>
                      <a:pt x="3230" y="249"/>
                    </a:lnTo>
                    <a:lnTo>
                      <a:pt x="3273" y="271"/>
                    </a:lnTo>
                    <a:lnTo>
                      <a:pt x="3311" y="293"/>
                    </a:lnTo>
                    <a:lnTo>
                      <a:pt x="3345" y="318"/>
                    </a:lnTo>
                    <a:lnTo>
                      <a:pt x="3377" y="342"/>
                    </a:lnTo>
                    <a:lnTo>
                      <a:pt x="3404" y="366"/>
                    </a:lnTo>
                    <a:lnTo>
                      <a:pt x="3427" y="391"/>
                    </a:lnTo>
                    <a:lnTo>
                      <a:pt x="3447" y="418"/>
                    </a:lnTo>
                    <a:lnTo>
                      <a:pt x="3462" y="444"/>
                    </a:lnTo>
                    <a:lnTo>
                      <a:pt x="3474" y="471"/>
                    </a:lnTo>
                    <a:lnTo>
                      <a:pt x="3480" y="498"/>
                    </a:lnTo>
                    <a:lnTo>
                      <a:pt x="3483" y="5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098800" y="6513480"/>
                <a:ext cx="383400" cy="127440"/>
              </a:xfrm>
              <a:custGeom>
                <a:avLst/>
                <a:gdLst/>
                <a:ahLst/>
                <a:rect l="l" t="t" r="r" b="b"/>
                <a:pathLst>
                  <a:path w="3479" h="1071">
                    <a:moveTo>
                      <a:pt x="3479" y="527"/>
                    </a:moveTo>
                    <a:lnTo>
                      <a:pt x="3477" y="555"/>
                    </a:lnTo>
                    <a:lnTo>
                      <a:pt x="3469" y="582"/>
                    </a:lnTo>
                    <a:lnTo>
                      <a:pt x="3458" y="609"/>
                    </a:lnTo>
                    <a:lnTo>
                      <a:pt x="3443" y="637"/>
                    </a:lnTo>
                    <a:lnTo>
                      <a:pt x="3424" y="663"/>
                    </a:lnTo>
                    <a:lnTo>
                      <a:pt x="3401" y="689"/>
                    </a:lnTo>
                    <a:lnTo>
                      <a:pt x="3374" y="714"/>
                    </a:lnTo>
                    <a:lnTo>
                      <a:pt x="3342" y="739"/>
                    </a:lnTo>
                    <a:lnTo>
                      <a:pt x="3307" y="763"/>
                    </a:lnTo>
                    <a:lnTo>
                      <a:pt x="3269" y="786"/>
                    </a:lnTo>
                    <a:lnTo>
                      <a:pt x="3227" y="809"/>
                    </a:lnTo>
                    <a:lnTo>
                      <a:pt x="3182" y="831"/>
                    </a:lnTo>
                    <a:lnTo>
                      <a:pt x="3133" y="853"/>
                    </a:lnTo>
                    <a:lnTo>
                      <a:pt x="3082" y="873"/>
                    </a:lnTo>
                    <a:lnTo>
                      <a:pt x="3027" y="893"/>
                    </a:lnTo>
                    <a:lnTo>
                      <a:pt x="2970" y="911"/>
                    </a:lnTo>
                    <a:lnTo>
                      <a:pt x="2909" y="929"/>
                    </a:lnTo>
                    <a:lnTo>
                      <a:pt x="2846" y="947"/>
                    </a:lnTo>
                    <a:lnTo>
                      <a:pt x="2780" y="963"/>
                    </a:lnTo>
                    <a:lnTo>
                      <a:pt x="2712" y="978"/>
                    </a:lnTo>
                    <a:lnTo>
                      <a:pt x="2641" y="992"/>
                    </a:lnTo>
                    <a:lnTo>
                      <a:pt x="2569" y="1005"/>
                    </a:lnTo>
                    <a:lnTo>
                      <a:pt x="2494" y="1017"/>
                    </a:lnTo>
                    <a:lnTo>
                      <a:pt x="2416" y="1028"/>
                    </a:lnTo>
                    <a:lnTo>
                      <a:pt x="2337" y="1038"/>
                    </a:lnTo>
                    <a:lnTo>
                      <a:pt x="2257" y="1047"/>
                    </a:lnTo>
                    <a:lnTo>
                      <a:pt x="2174" y="1054"/>
                    </a:lnTo>
                    <a:lnTo>
                      <a:pt x="2090" y="1060"/>
                    </a:lnTo>
                    <a:lnTo>
                      <a:pt x="2004" y="1065"/>
                    </a:lnTo>
                    <a:lnTo>
                      <a:pt x="1917" y="1069"/>
                    </a:lnTo>
                    <a:lnTo>
                      <a:pt x="1829" y="1071"/>
                    </a:lnTo>
                    <a:lnTo>
                      <a:pt x="1739" y="1071"/>
                    </a:lnTo>
                    <a:lnTo>
                      <a:pt x="1650" y="1071"/>
                    </a:lnTo>
                    <a:lnTo>
                      <a:pt x="1562" y="1069"/>
                    </a:lnTo>
                    <a:lnTo>
                      <a:pt x="1475" y="1065"/>
                    </a:lnTo>
                    <a:lnTo>
                      <a:pt x="1389" y="1060"/>
                    </a:lnTo>
                    <a:lnTo>
                      <a:pt x="1305" y="1054"/>
                    </a:lnTo>
                    <a:lnTo>
                      <a:pt x="1222" y="1047"/>
                    </a:lnTo>
                    <a:lnTo>
                      <a:pt x="1142" y="1038"/>
                    </a:lnTo>
                    <a:lnTo>
                      <a:pt x="1063" y="1028"/>
                    </a:lnTo>
                    <a:lnTo>
                      <a:pt x="985" y="1017"/>
                    </a:lnTo>
                    <a:lnTo>
                      <a:pt x="910" y="1005"/>
                    </a:lnTo>
                    <a:lnTo>
                      <a:pt x="838" y="992"/>
                    </a:lnTo>
                    <a:lnTo>
                      <a:pt x="767" y="978"/>
                    </a:lnTo>
                    <a:lnTo>
                      <a:pt x="699" y="963"/>
                    </a:lnTo>
                    <a:lnTo>
                      <a:pt x="634" y="947"/>
                    </a:lnTo>
                    <a:lnTo>
                      <a:pt x="570" y="929"/>
                    </a:lnTo>
                    <a:lnTo>
                      <a:pt x="509" y="911"/>
                    </a:lnTo>
                    <a:lnTo>
                      <a:pt x="452" y="893"/>
                    </a:lnTo>
                    <a:lnTo>
                      <a:pt x="397" y="873"/>
                    </a:lnTo>
                    <a:lnTo>
                      <a:pt x="346" y="853"/>
                    </a:lnTo>
                    <a:lnTo>
                      <a:pt x="297" y="831"/>
                    </a:lnTo>
                    <a:lnTo>
                      <a:pt x="252" y="809"/>
                    </a:lnTo>
                    <a:lnTo>
                      <a:pt x="210" y="786"/>
                    </a:lnTo>
                    <a:lnTo>
                      <a:pt x="172" y="763"/>
                    </a:lnTo>
                    <a:lnTo>
                      <a:pt x="137" y="739"/>
                    </a:lnTo>
                    <a:lnTo>
                      <a:pt x="105" y="714"/>
                    </a:lnTo>
                    <a:lnTo>
                      <a:pt x="78" y="689"/>
                    </a:lnTo>
                    <a:lnTo>
                      <a:pt x="55" y="663"/>
                    </a:lnTo>
                    <a:lnTo>
                      <a:pt x="36" y="637"/>
                    </a:lnTo>
                    <a:lnTo>
                      <a:pt x="21" y="609"/>
                    </a:lnTo>
                    <a:lnTo>
                      <a:pt x="9" y="582"/>
                    </a:lnTo>
                    <a:lnTo>
                      <a:pt x="2" y="555"/>
                    </a:lnTo>
                    <a:lnTo>
                      <a:pt x="0" y="527"/>
                    </a:lnTo>
                    <a:lnTo>
                      <a:pt x="2" y="498"/>
                    </a:lnTo>
                    <a:lnTo>
                      <a:pt x="9" y="471"/>
                    </a:lnTo>
                    <a:lnTo>
                      <a:pt x="21" y="445"/>
                    </a:lnTo>
                    <a:lnTo>
                      <a:pt x="36" y="418"/>
                    </a:lnTo>
                    <a:lnTo>
                      <a:pt x="55" y="392"/>
                    </a:lnTo>
                    <a:lnTo>
                      <a:pt x="78" y="366"/>
                    </a:lnTo>
                    <a:lnTo>
                      <a:pt x="105" y="342"/>
                    </a:lnTo>
                    <a:lnTo>
                      <a:pt x="137" y="318"/>
                    </a:lnTo>
                    <a:lnTo>
                      <a:pt x="172" y="294"/>
                    </a:lnTo>
                    <a:lnTo>
                      <a:pt x="210" y="271"/>
                    </a:lnTo>
                    <a:lnTo>
                      <a:pt x="252" y="249"/>
                    </a:lnTo>
                    <a:lnTo>
                      <a:pt x="297" y="228"/>
                    </a:lnTo>
                    <a:lnTo>
                      <a:pt x="346" y="208"/>
                    </a:lnTo>
                    <a:lnTo>
                      <a:pt x="397" y="187"/>
                    </a:lnTo>
                    <a:lnTo>
                      <a:pt x="452" y="169"/>
                    </a:lnTo>
                    <a:lnTo>
                      <a:pt x="509" y="151"/>
                    </a:lnTo>
                    <a:lnTo>
                      <a:pt x="570" y="134"/>
                    </a:lnTo>
                    <a:lnTo>
                      <a:pt x="634" y="117"/>
                    </a:lnTo>
                    <a:lnTo>
                      <a:pt x="699" y="102"/>
                    </a:lnTo>
                    <a:lnTo>
                      <a:pt x="767" y="88"/>
                    </a:lnTo>
                    <a:lnTo>
                      <a:pt x="838" y="74"/>
                    </a:lnTo>
                    <a:lnTo>
                      <a:pt x="910" y="61"/>
                    </a:lnTo>
                    <a:lnTo>
                      <a:pt x="985" y="50"/>
                    </a:lnTo>
                    <a:lnTo>
                      <a:pt x="1063" y="40"/>
                    </a:lnTo>
                    <a:lnTo>
                      <a:pt x="1142" y="31"/>
                    </a:lnTo>
                    <a:lnTo>
                      <a:pt x="1222" y="23"/>
                    </a:lnTo>
                    <a:lnTo>
                      <a:pt x="1305" y="16"/>
                    </a:lnTo>
                    <a:lnTo>
                      <a:pt x="1389" y="11"/>
                    </a:lnTo>
                    <a:lnTo>
                      <a:pt x="1475" y="6"/>
                    </a:lnTo>
                    <a:lnTo>
                      <a:pt x="1562" y="3"/>
                    </a:lnTo>
                    <a:lnTo>
                      <a:pt x="1650" y="1"/>
                    </a:lnTo>
                    <a:lnTo>
                      <a:pt x="1739" y="0"/>
                    </a:lnTo>
                    <a:lnTo>
                      <a:pt x="1829" y="1"/>
                    </a:lnTo>
                    <a:lnTo>
                      <a:pt x="1917" y="3"/>
                    </a:lnTo>
                    <a:lnTo>
                      <a:pt x="2004" y="6"/>
                    </a:lnTo>
                    <a:lnTo>
                      <a:pt x="2090" y="11"/>
                    </a:lnTo>
                    <a:lnTo>
                      <a:pt x="2174" y="16"/>
                    </a:lnTo>
                    <a:lnTo>
                      <a:pt x="2257" y="23"/>
                    </a:lnTo>
                    <a:lnTo>
                      <a:pt x="2337" y="31"/>
                    </a:lnTo>
                    <a:lnTo>
                      <a:pt x="2416" y="40"/>
                    </a:lnTo>
                    <a:lnTo>
                      <a:pt x="2494" y="50"/>
                    </a:lnTo>
                    <a:lnTo>
                      <a:pt x="2569" y="61"/>
                    </a:lnTo>
                    <a:lnTo>
                      <a:pt x="2641" y="74"/>
                    </a:lnTo>
                    <a:lnTo>
                      <a:pt x="2712" y="88"/>
                    </a:lnTo>
                    <a:lnTo>
                      <a:pt x="2780" y="102"/>
                    </a:lnTo>
                    <a:lnTo>
                      <a:pt x="2846" y="117"/>
                    </a:lnTo>
                    <a:lnTo>
                      <a:pt x="2909" y="134"/>
                    </a:lnTo>
                    <a:lnTo>
                      <a:pt x="2970" y="151"/>
                    </a:lnTo>
                    <a:lnTo>
                      <a:pt x="3027" y="169"/>
                    </a:lnTo>
                    <a:lnTo>
                      <a:pt x="3082" y="187"/>
                    </a:lnTo>
                    <a:lnTo>
                      <a:pt x="3133" y="208"/>
                    </a:lnTo>
                    <a:lnTo>
                      <a:pt x="3182" y="228"/>
                    </a:lnTo>
                    <a:lnTo>
                      <a:pt x="3227" y="249"/>
                    </a:lnTo>
                    <a:lnTo>
                      <a:pt x="3269" y="271"/>
                    </a:lnTo>
                    <a:lnTo>
                      <a:pt x="3307" y="294"/>
                    </a:lnTo>
                    <a:lnTo>
                      <a:pt x="3342" y="318"/>
                    </a:lnTo>
                    <a:lnTo>
                      <a:pt x="3374" y="342"/>
                    </a:lnTo>
                    <a:lnTo>
                      <a:pt x="3401" y="366"/>
                    </a:lnTo>
                    <a:lnTo>
                      <a:pt x="3424" y="392"/>
                    </a:lnTo>
                    <a:lnTo>
                      <a:pt x="3443" y="418"/>
                    </a:lnTo>
                    <a:lnTo>
                      <a:pt x="3458" y="445"/>
                    </a:lnTo>
                    <a:lnTo>
                      <a:pt x="3469" y="471"/>
                    </a:lnTo>
                    <a:lnTo>
                      <a:pt x="3477" y="498"/>
                    </a:lnTo>
                    <a:lnTo>
                      <a:pt x="3479" y="5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098800" y="6513480"/>
                <a:ext cx="383400" cy="127440"/>
              </a:xfrm>
              <a:custGeom>
                <a:avLst/>
                <a:gdLst/>
                <a:ahLst/>
                <a:rect l="l" t="t" r="r" b="b"/>
                <a:pathLst>
                  <a:path w="3477" h="1070">
                    <a:moveTo>
                      <a:pt x="3477" y="526"/>
                    </a:moveTo>
                    <a:lnTo>
                      <a:pt x="3475" y="554"/>
                    </a:lnTo>
                    <a:lnTo>
                      <a:pt x="3467" y="581"/>
                    </a:lnTo>
                    <a:lnTo>
                      <a:pt x="3456" y="608"/>
                    </a:lnTo>
                    <a:lnTo>
                      <a:pt x="3441" y="636"/>
                    </a:lnTo>
                    <a:lnTo>
                      <a:pt x="3422" y="662"/>
                    </a:lnTo>
                    <a:lnTo>
                      <a:pt x="3398" y="687"/>
                    </a:lnTo>
                    <a:lnTo>
                      <a:pt x="3371" y="712"/>
                    </a:lnTo>
                    <a:lnTo>
                      <a:pt x="3340" y="738"/>
                    </a:lnTo>
                    <a:lnTo>
                      <a:pt x="3305" y="762"/>
                    </a:lnTo>
                    <a:lnTo>
                      <a:pt x="3266" y="785"/>
                    </a:lnTo>
                    <a:lnTo>
                      <a:pt x="3225" y="807"/>
                    </a:lnTo>
                    <a:lnTo>
                      <a:pt x="3180" y="829"/>
                    </a:lnTo>
                    <a:lnTo>
                      <a:pt x="3131" y="851"/>
                    </a:lnTo>
                    <a:lnTo>
                      <a:pt x="3080" y="872"/>
                    </a:lnTo>
                    <a:lnTo>
                      <a:pt x="3025" y="891"/>
                    </a:lnTo>
                    <a:lnTo>
                      <a:pt x="2968" y="910"/>
                    </a:lnTo>
                    <a:lnTo>
                      <a:pt x="2907" y="928"/>
                    </a:lnTo>
                    <a:lnTo>
                      <a:pt x="2844" y="946"/>
                    </a:lnTo>
                    <a:lnTo>
                      <a:pt x="2779" y="962"/>
                    </a:lnTo>
                    <a:lnTo>
                      <a:pt x="2710" y="977"/>
                    </a:lnTo>
                    <a:lnTo>
                      <a:pt x="2639" y="991"/>
                    </a:lnTo>
                    <a:lnTo>
                      <a:pt x="2567" y="1004"/>
                    </a:lnTo>
                    <a:lnTo>
                      <a:pt x="2492" y="1015"/>
                    </a:lnTo>
                    <a:lnTo>
                      <a:pt x="2415" y="1026"/>
                    </a:lnTo>
                    <a:lnTo>
                      <a:pt x="2336" y="1036"/>
                    </a:lnTo>
                    <a:lnTo>
                      <a:pt x="2256" y="1044"/>
                    </a:lnTo>
                    <a:lnTo>
                      <a:pt x="2173" y="1053"/>
                    </a:lnTo>
                    <a:lnTo>
                      <a:pt x="2089" y="1059"/>
                    </a:lnTo>
                    <a:lnTo>
                      <a:pt x="2003" y="1063"/>
                    </a:lnTo>
                    <a:lnTo>
                      <a:pt x="1916" y="1067"/>
                    </a:lnTo>
                    <a:lnTo>
                      <a:pt x="1828" y="1069"/>
                    </a:lnTo>
                    <a:lnTo>
                      <a:pt x="1738" y="1070"/>
                    </a:lnTo>
                    <a:lnTo>
                      <a:pt x="1650" y="1069"/>
                    </a:lnTo>
                    <a:lnTo>
                      <a:pt x="1561" y="1067"/>
                    </a:lnTo>
                    <a:lnTo>
                      <a:pt x="1474" y="1063"/>
                    </a:lnTo>
                    <a:lnTo>
                      <a:pt x="1388" y="1059"/>
                    </a:lnTo>
                    <a:lnTo>
                      <a:pt x="1304" y="1053"/>
                    </a:lnTo>
                    <a:lnTo>
                      <a:pt x="1221" y="1044"/>
                    </a:lnTo>
                    <a:lnTo>
                      <a:pt x="1141" y="1036"/>
                    </a:lnTo>
                    <a:lnTo>
                      <a:pt x="1062" y="1026"/>
                    </a:lnTo>
                    <a:lnTo>
                      <a:pt x="985" y="1015"/>
                    </a:lnTo>
                    <a:lnTo>
                      <a:pt x="910" y="1004"/>
                    </a:lnTo>
                    <a:lnTo>
                      <a:pt x="838" y="991"/>
                    </a:lnTo>
                    <a:lnTo>
                      <a:pt x="767" y="977"/>
                    </a:lnTo>
                    <a:lnTo>
                      <a:pt x="698" y="962"/>
                    </a:lnTo>
                    <a:lnTo>
                      <a:pt x="633" y="946"/>
                    </a:lnTo>
                    <a:lnTo>
                      <a:pt x="570" y="928"/>
                    </a:lnTo>
                    <a:lnTo>
                      <a:pt x="509" y="910"/>
                    </a:lnTo>
                    <a:lnTo>
                      <a:pt x="452" y="891"/>
                    </a:lnTo>
                    <a:lnTo>
                      <a:pt x="397" y="872"/>
                    </a:lnTo>
                    <a:lnTo>
                      <a:pt x="346" y="851"/>
                    </a:lnTo>
                    <a:lnTo>
                      <a:pt x="297" y="829"/>
                    </a:lnTo>
                    <a:lnTo>
                      <a:pt x="252" y="807"/>
                    </a:lnTo>
                    <a:lnTo>
                      <a:pt x="210" y="785"/>
                    </a:lnTo>
                    <a:lnTo>
                      <a:pt x="172" y="762"/>
                    </a:lnTo>
                    <a:lnTo>
                      <a:pt x="137" y="738"/>
                    </a:lnTo>
                    <a:lnTo>
                      <a:pt x="106" y="712"/>
                    </a:lnTo>
                    <a:lnTo>
                      <a:pt x="79" y="687"/>
                    </a:lnTo>
                    <a:lnTo>
                      <a:pt x="55" y="662"/>
                    </a:lnTo>
                    <a:lnTo>
                      <a:pt x="36" y="636"/>
                    </a:lnTo>
                    <a:lnTo>
                      <a:pt x="21" y="608"/>
                    </a:lnTo>
                    <a:lnTo>
                      <a:pt x="9" y="581"/>
                    </a:lnTo>
                    <a:lnTo>
                      <a:pt x="2" y="554"/>
                    </a:lnTo>
                    <a:lnTo>
                      <a:pt x="0" y="526"/>
                    </a:lnTo>
                    <a:lnTo>
                      <a:pt x="2" y="498"/>
                    </a:lnTo>
                    <a:lnTo>
                      <a:pt x="9" y="470"/>
                    </a:lnTo>
                    <a:lnTo>
                      <a:pt x="21" y="444"/>
                    </a:lnTo>
                    <a:lnTo>
                      <a:pt x="36" y="417"/>
                    </a:lnTo>
                    <a:lnTo>
                      <a:pt x="55" y="391"/>
                    </a:lnTo>
                    <a:lnTo>
                      <a:pt x="79" y="366"/>
                    </a:lnTo>
                    <a:lnTo>
                      <a:pt x="106" y="341"/>
                    </a:lnTo>
                    <a:lnTo>
                      <a:pt x="137" y="317"/>
                    </a:lnTo>
                    <a:lnTo>
                      <a:pt x="172" y="293"/>
                    </a:lnTo>
                    <a:lnTo>
                      <a:pt x="210" y="271"/>
                    </a:lnTo>
                    <a:lnTo>
                      <a:pt x="252" y="249"/>
                    </a:lnTo>
                    <a:lnTo>
                      <a:pt x="297" y="228"/>
                    </a:lnTo>
                    <a:lnTo>
                      <a:pt x="346" y="207"/>
                    </a:lnTo>
                    <a:lnTo>
                      <a:pt x="397" y="187"/>
                    </a:lnTo>
                    <a:lnTo>
                      <a:pt x="452" y="168"/>
                    </a:lnTo>
                    <a:lnTo>
                      <a:pt x="509" y="150"/>
                    </a:lnTo>
                    <a:lnTo>
                      <a:pt x="570" y="133"/>
                    </a:lnTo>
                    <a:lnTo>
                      <a:pt x="633" y="117"/>
                    </a:lnTo>
                    <a:lnTo>
                      <a:pt x="698" y="102"/>
                    </a:lnTo>
                    <a:lnTo>
                      <a:pt x="767" y="88"/>
                    </a:lnTo>
                    <a:lnTo>
                      <a:pt x="838" y="74"/>
                    </a:lnTo>
                    <a:lnTo>
                      <a:pt x="910" y="61"/>
                    </a:lnTo>
                    <a:lnTo>
                      <a:pt x="985" y="50"/>
                    </a:lnTo>
                    <a:lnTo>
                      <a:pt x="1062" y="40"/>
                    </a:lnTo>
                    <a:lnTo>
                      <a:pt x="1141" y="31"/>
                    </a:lnTo>
                    <a:lnTo>
                      <a:pt x="1221" y="23"/>
                    </a:lnTo>
                    <a:lnTo>
                      <a:pt x="1304" y="16"/>
                    </a:lnTo>
                    <a:lnTo>
                      <a:pt x="1388" y="11"/>
                    </a:lnTo>
                    <a:lnTo>
                      <a:pt x="1474" y="6"/>
                    </a:lnTo>
                    <a:lnTo>
                      <a:pt x="1561" y="3"/>
                    </a:lnTo>
                    <a:lnTo>
                      <a:pt x="1650" y="1"/>
                    </a:lnTo>
                    <a:lnTo>
                      <a:pt x="1738" y="0"/>
                    </a:lnTo>
                    <a:lnTo>
                      <a:pt x="1828" y="1"/>
                    </a:lnTo>
                    <a:lnTo>
                      <a:pt x="1916" y="3"/>
                    </a:lnTo>
                    <a:lnTo>
                      <a:pt x="2003" y="6"/>
                    </a:lnTo>
                    <a:lnTo>
                      <a:pt x="2089" y="11"/>
                    </a:lnTo>
                    <a:lnTo>
                      <a:pt x="2173" y="16"/>
                    </a:lnTo>
                    <a:lnTo>
                      <a:pt x="2256" y="23"/>
                    </a:lnTo>
                    <a:lnTo>
                      <a:pt x="2336" y="31"/>
                    </a:lnTo>
                    <a:lnTo>
                      <a:pt x="2415" y="40"/>
                    </a:lnTo>
                    <a:lnTo>
                      <a:pt x="2492" y="50"/>
                    </a:lnTo>
                    <a:lnTo>
                      <a:pt x="2567" y="61"/>
                    </a:lnTo>
                    <a:lnTo>
                      <a:pt x="2639" y="74"/>
                    </a:lnTo>
                    <a:lnTo>
                      <a:pt x="2710" y="88"/>
                    </a:lnTo>
                    <a:lnTo>
                      <a:pt x="2779" y="102"/>
                    </a:lnTo>
                    <a:lnTo>
                      <a:pt x="2844" y="117"/>
                    </a:lnTo>
                    <a:lnTo>
                      <a:pt x="2907" y="133"/>
                    </a:lnTo>
                    <a:lnTo>
                      <a:pt x="2968" y="150"/>
                    </a:lnTo>
                    <a:lnTo>
                      <a:pt x="3025" y="168"/>
                    </a:lnTo>
                    <a:lnTo>
                      <a:pt x="3080" y="187"/>
                    </a:lnTo>
                    <a:lnTo>
                      <a:pt x="3131" y="207"/>
                    </a:lnTo>
                    <a:lnTo>
                      <a:pt x="3180" y="228"/>
                    </a:lnTo>
                    <a:lnTo>
                      <a:pt x="3225" y="249"/>
                    </a:lnTo>
                    <a:lnTo>
                      <a:pt x="3266" y="271"/>
                    </a:lnTo>
                    <a:lnTo>
                      <a:pt x="3305" y="293"/>
                    </a:lnTo>
                    <a:lnTo>
                      <a:pt x="3340" y="317"/>
                    </a:lnTo>
                    <a:lnTo>
                      <a:pt x="3371" y="341"/>
                    </a:lnTo>
                    <a:lnTo>
                      <a:pt x="3398" y="366"/>
                    </a:lnTo>
                    <a:lnTo>
                      <a:pt x="3422" y="391"/>
                    </a:lnTo>
                    <a:lnTo>
                      <a:pt x="3441" y="417"/>
                    </a:lnTo>
                    <a:lnTo>
                      <a:pt x="3456" y="444"/>
                    </a:lnTo>
                    <a:lnTo>
                      <a:pt x="3467" y="470"/>
                    </a:lnTo>
                    <a:lnTo>
                      <a:pt x="3475" y="498"/>
                    </a:lnTo>
                    <a:lnTo>
                      <a:pt x="3477" y="5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098800" y="6513480"/>
                <a:ext cx="383400" cy="127440"/>
              </a:xfrm>
              <a:custGeom>
                <a:avLst/>
                <a:gdLst/>
                <a:ahLst/>
                <a:rect l="l" t="t" r="r" b="b"/>
                <a:pathLst>
                  <a:path w="3473" h="1068">
                    <a:moveTo>
                      <a:pt x="3473" y="525"/>
                    </a:moveTo>
                    <a:lnTo>
                      <a:pt x="3471" y="553"/>
                    </a:lnTo>
                    <a:lnTo>
                      <a:pt x="3464" y="580"/>
                    </a:lnTo>
                    <a:lnTo>
                      <a:pt x="3453" y="607"/>
                    </a:lnTo>
                    <a:lnTo>
                      <a:pt x="3438" y="635"/>
                    </a:lnTo>
                    <a:lnTo>
                      <a:pt x="3418" y="661"/>
                    </a:lnTo>
                    <a:lnTo>
                      <a:pt x="3395" y="686"/>
                    </a:lnTo>
                    <a:lnTo>
                      <a:pt x="3368" y="711"/>
                    </a:lnTo>
                    <a:lnTo>
                      <a:pt x="3336" y="736"/>
                    </a:lnTo>
                    <a:lnTo>
                      <a:pt x="3302" y="760"/>
                    </a:lnTo>
                    <a:lnTo>
                      <a:pt x="3263" y="783"/>
                    </a:lnTo>
                    <a:lnTo>
                      <a:pt x="3221" y="806"/>
                    </a:lnTo>
                    <a:lnTo>
                      <a:pt x="3177" y="828"/>
                    </a:lnTo>
                    <a:lnTo>
                      <a:pt x="3128" y="850"/>
                    </a:lnTo>
                    <a:lnTo>
                      <a:pt x="3077" y="870"/>
                    </a:lnTo>
                    <a:lnTo>
                      <a:pt x="3022" y="890"/>
                    </a:lnTo>
                    <a:lnTo>
                      <a:pt x="2965" y="908"/>
                    </a:lnTo>
                    <a:lnTo>
                      <a:pt x="2904" y="926"/>
                    </a:lnTo>
                    <a:lnTo>
                      <a:pt x="2841" y="944"/>
                    </a:lnTo>
                    <a:lnTo>
                      <a:pt x="2776" y="960"/>
                    </a:lnTo>
                    <a:lnTo>
                      <a:pt x="2707" y="975"/>
                    </a:lnTo>
                    <a:lnTo>
                      <a:pt x="2637" y="989"/>
                    </a:lnTo>
                    <a:lnTo>
                      <a:pt x="2565" y="1002"/>
                    </a:lnTo>
                    <a:lnTo>
                      <a:pt x="2489" y="1014"/>
                    </a:lnTo>
                    <a:lnTo>
                      <a:pt x="2412" y="1024"/>
                    </a:lnTo>
                    <a:lnTo>
                      <a:pt x="2333" y="1034"/>
                    </a:lnTo>
                    <a:lnTo>
                      <a:pt x="2253" y="1042"/>
                    </a:lnTo>
                    <a:lnTo>
                      <a:pt x="2171" y="1051"/>
                    </a:lnTo>
                    <a:lnTo>
                      <a:pt x="2087" y="1057"/>
                    </a:lnTo>
                    <a:lnTo>
                      <a:pt x="2001" y="1061"/>
                    </a:lnTo>
                    <a:lnTo>
                      <a:pt x="1914" y="1065"/>
                    </a:lnTo>
                    <a:lnTo>
                      <a:pt x="1826" y="1067"/>
                    </a:lnTo>
                    <a:lnTo>
                      <a:pt x="1736" y="1068"/>
                    </a:lnTo>
                    <a:lnTo>
                      <a:pt x="1648" y="1067"/>
                    </a:lnTo>
                    <a:lnTo>
                      <a:pt x="1559" y="1065"/>
                    </a:lnTo>
                    <a:lnTo>
                      <a:pt x="1472" y="1061"/>
                    </a:lnTo>
                    <a:lnTo>
                      <a:pt x="1387" y="1057"/>
                    </a:lnTo>
                    <a:lnTo>
                      <a:pt x="1302" y="1051"/>
                    </a:lnTo>
                    <a:lnTo>
                      <a:pt x="1220" y="1042"/>
                    </a:lnTo>
                    <a:lnTo>
                      <a:pt x="1140" y="1034"/>
                    </a:lnTo>
                    <a:lnTo>
                      <a:pt x="1061" y="1024"/>
                    </a:lnTo>
                    <a:lnTo>
                      <a:pt x="984" y="1014"/>
                    </a:lnTo>
                    <a:lnTo>
                      <a:pt x="908" y="1002"/>
                    </a:lnTo>
                    <a:lnTo>
                      <a:pt x="836" y="989"/>
                    </a:lnTo>
                    <a:lnTo>
                      <a:pt x="766" y="975"/>
                    </a:lnTo>
                    <a:lnTo>
                      <a:pt x="697" y="960"/>
                    </a:lnTo>
                    <a:lnTo>
                      <a:pt x="632" y="944"/>
                    </a:lnTo>
                    <a:lnTo>
                      <a:pt x="569" y="926"/>
                    </a:lnTo>
                    <a:lnTo>
                      <a:pt x="508" y="908"/>
                    </a:lnTo>
                    <a:lnTo>
                      <a:pt x="451" y="890"/>
                    </a:lnTo>
                    <a:lnTo>
                      <a:pt x="396" y="870"/>
                    </a:lnTo>
                    <a:lnTo>
                      <a:pt x="345" y="850"/>
                    </a:lnTo>
                    <a:lnTo>
                      <a:pt x="296" y="828"/>
                    </a:lnTo>
                    <a:lnTo>
                      <a:pt x="252" y="806"/>
                    </a:lnTo>
                    <a:lnTo>
                      <a:pt x="209" y="783"/>
                    </a:lnTo>
                    <a:lnTo>
                      <a:pt x="171" y="760"/>
                    </a:lnTo>
                    <a:lnTo>
                      <a:pt x="137" y="736"/>
                    </a:lnTo>
                    <a:lnTo>
                      <a:pt x="105" y="711"/>
                    </a:lnTo>
                    <a:lnTo>
                      <a:pt x="78" y="686"/>
                    </a:lnTo>
                    <a:lnTo>
                      <a:pt x="55" y="661"/>
                    </a:lnTo>
                    <a:lnTo>
                      <a:pt x="36" y="635"/>
                    </a:lnTo>
                    <a:lnTo>
                      <a:pt x="20" y="607"/>
                    </a:lnTo>
                    <a:lnTo>
                      <a:pt x="9" y="580"/>
                    </a:lnTo>
                    <a:lnTo>
                      <a:pt x="2" y="553"/>
                    </a:lnTo>
                    <a:lnTo>
                      <a:pt x="0" y="525"/>
                    </a:lnTo>
                    <a:lnTo>
                      <a:pt x="2" y="497"/>
                    </a:lnTo>
                    <a:lnTo>
                      <a:pt x="9" y="469"/>
                    </a:lnTo>
                    <a:lnTo>
                      <a:pt x="20" y="443"/>
                    </a:lnTo>
                    <a:lnTo>
                      <a:pt x="36" y="417"/>
                    </a:lnTo>
                    <a:lnTo>
                      <a:pt x="55" y="390"/>
                    </a:lnTo>
                    <a:lnTo>
                      <a:pt x="78" y="365"/>
                    </a:lnTo>
                    <a:lnTo>
                      <a:pt x="105" y="341"/>
                    </a:lnTo>
                    <a:lnTo>
                      <a:pt x="137" y="317"/>
                    </a:lnTo>
                    <a:lnTo>
                      <a:pt x="171" y="293"/>
                    </a:lnTo>
                    <a:lnTo>
                      <a:pt x="209" y="270"/>
                    </a:lnTo>
                    <a:lnTo>
                      <a:pt x="252" y="248"/>
                    </a:lnTo>
                    <a:lnTo>
                      <a:pt x="296" y="227"/>
                    </a:lnTo>
                    <a:lnTo>
                      <a:pt x="345" y="207"/>
                    </a:lnTo>
                    <a:lnTo>
                      <a:pt x="396" y="186"/>
                    </a:lnTo>
                    <a:lnTo>
                      <a:pt x="451" y="168"/>
                    </a:lnTo>
                    <a:lnTo>
                      <a:pt x="508" y="150"/>
                    </a:lnTo>
                    <a:lnTo>
                      <a:pt x="569" y="133"/>
                    </a:lnTo>
                    <a:lnTo>
                      <a:pt x="632" y="117"/>
                    </a:lnTo>
                    <a:lnTo>
                      <a:pt x="697" y="102"/>
                    </a:lnTo>
                    <a:lnTo>
                      <a:pt x="766" y="88"/>
                    </a:lnTo>
                    <a:lnTo>
                      <a:pt x="836" y="73"/>
                    </a:lnTo>
                    <a:lnTo>
                      <a:pt x="908" y="61"/>
                    </a:lnTo>
                    <a:lnTo>
                      <a:pt x="984" y="50"/>
                    </a:lnTo>
                    <a:lnTo>
                      <a:pt x="1061" y="40"/>
                    </a:lnTo>
                    <a:lnTo>
                      <a:pt x="1140" y="31"/>
                    </a:lnTo>
                    <a:lnTo>
                      <a:pt x="1220" y="23"/>
                    </a:lnTo>
                    <a:lnTo>
                      <a:pt x="1302" y="16"/>
                    </a:lnTo>
                    <a:lnTo>
                      <a:pt x="1387" y="10"/>
                    </a:lnTo>
                    <a:lnTo>
                      <a:pt x="1472" y="6"/>
                    </a:lnTo>
                    <a:lnTo>
                      <a:pt x="1559" y="3"/>
                    </a:lnTo>
                    <a:lnTo>
                      <a:pt x="1648" y="1"/>
                    </a:lnTo>
                    <a:lnTo>
                      <a:pt x="1736" y="0"/>
                    </a:lnTo>
                    <a:lnTo>
                      <a:pt x="1826" y="1"/>
                    </a:lnTo>
                    <a:lnTo>
                      <a:pt x="1914" y="3"/>
                    </a:lnTo>
                    <a:lnTo>
                      <a:pt x="2001" y="6"/>
                    </a:lnTo>
                    <a:lnTo>
                      <a:pt x="2087" y="10"/>
                    </a:lnTo>
                    <a:lnTo>
                      <a:pt x="2171" y="16"/>
                    </a:lnTo>
                    <a:lnTo>
                      <a:pt x="2253" y="23"/>
                    </a:lnTo>
                    <a:lnTo>
                      <a:pt x="2333" y="31"/>
                    </a:lnTo>
                    <a:lnTo>
                      <a:pt x="2412" y="40"/>
                    </a:lnTo>
                    <a:lnTo>
                      <a:pt x="2489" y="50"/>
                    </a:lnTo>
                    <a:lnTo>
                      <a:pt x="2565" y="61"/>
                    </a:lnTo>
                    <a:lnTo>
                      <a:pt x="2637" y="73"/>
                    </a:lnTo>
                    <a:lnTo>
                      <a:pt x="2707" y="88"/>
                    </a:lnTo>
                    <a:lnTo>
                      <a:pt x="2776" y="102"/>
                    </a:lnTo>
                    <a:lnTo>
                      <a:pt x="2841" y="117"/>
                    </a:lnTo>
                    <a:lnTo>
                      <a:pt x="2904" y="133"/>
                    </a:lnTo>
                    <a:lnTo>
                      <a:pt x="2965" y="150"/>
                    </a:lnTo>
                    <a:lnTo>
                      <a:pt x="3022" y="168"/>
                    </a:lnTo>
                    <a:lnTo>
                      <a:pt x="3077" y="186"/>
                    </a:lnTo>
                    <a:lnTo>
                      <a:pt x="3128" y="207"/>
                    </a:lnTo>
                    <a:lnTo>
                      <a:pt x="3177" y="227"/>
                    </a:lnTo>
                    <a:lnTo>
                      <a:pt x="3221" y="248"/>
                    </a:lnTo>
                    <a:lnTo>
                      <a:pt x="3263" y="270"/>
                    </a:lnTo>
                    <a:lnTo>
                      <a:pt x="3302" y="293"/>
                    </a:lnTo>
                    <a:lnTo>
                      <a:pt x="3336" y="317"/>
                    </a:lnTo>
                    <a:lnTo>
                      <a:pt x="3368" y="341"/>
                    </a:lnTo>
                    <a:lnTo>
                      <a:pt x="3395" y="365"/>
                    </a:lnTo>
                    <a:lnTo>
                      <a:pt x="3418" y="390"/>
                    </a:lnTo>
                    <a:lnTo>
                      <a:pt x="3438" y="417"/>
                    </a:lnTo>
                    <a:lnTo>
                      <a:pt x="3453" y="443"/>
                    </a:lnTo>
                    <a:lnTo>
                      <a:pt x="3464" y="469"/>
                    </a:lnTo>
                    <a:lnTo>
                      <a:pt x="3471" y="497"/>
                    </a:lnTo>
                    <a:lnTo>
                      <a:pt x="3473" y="5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098800" y="6513480"/>
                <a:ext cx="383400" cy="127440"/>
              </a:xfrm>
              <a:custGeom>
                <a:avLst/>
                <a:gdLst/>
                <a:ahLst/>
                <a:rect l="l" t="t" r="r" b="b"/>
                <a:pathLst>
                  <a:path w="3471" h="1066">
                    <a:moveTo>
                      <a:pt x="3471" y="524"/>
                    </a:moveTo>
                    <a:lnTo>
                      <a:pt x="3469" y="552"/>
                    </a:lnTo>
                    <a:lnTo>
                      <a:pt x="3461" y="579"/>
                    </a:lnTo>
                    <a:lnTo>
                      <a:pt x="3450" y="606"/>
                    </a:lnTo>
                    <a:lnTo>
                      <a:pt x="3435" y="633"/>
                    </a:lnTo>
                    <a:lnTo>
                      <a:pt x="3416" y="659"/>
                    </a:lnTo>
                    <a:lnTo>
                      <a:pt x="3393" y="685"/>
                    </a:lnTo>
                    <a:lnTo>
                      <a:pt x="3365" y="710"/>
                    </a:lnTo>
                    <a:lnTo>
                      <a:pt x="3334" y="735"/>
                    </a:lnTo>
                    <a:lnTo>
                      <a:pt x="3300" y="759"/>
                    </a:lnTo>
                    <a:lnTo>
                      <a:pt x="3261" y="782"/>
                    </a:lnTo>
                    <a:lnTo>
                      <a:pt x="3219" y="804"/>
                    </a:lnTo>
                    <a:lnTo>
                      <a:pt x="3175" y="826"/>
                    </a:lnTo>
                    <a:lnTo>
                      <a:pt x="3126" y="848"/>
                    </a:lnTo>
                    <a:lnTo>
                      <a:pt x="3075" y="868"/>
                    </a:lnTo>
                    <a:lnTo>
                      <a:pt x="3020" y="888"/>
                    </a:lnTo>
                    <a:lnTo>
                      <a:pt x="2963" y="907"/>
                    </a:lnTo>
                    <a:lnTo>
                      <a:pt x="2902" y="924"/>
                    </a:lnTo>
                    <a:lnTo>
                      <a:pt x="2839" y="942"/>
                    </a:lnTo>
                    <a:lnTo>
                      <a:pt x="2774" y="958"/>
                    </a:lnTo>
                    <a:lnTo>
                      <a:pt x="2706" y="973"/>
                    </a:lnTo>
                    <a:lnTo>
                      <a:pt x="2635" y="987"/>
                    </a:lnTo>
                    <a:lnTo>
                      <a:pt x="2563" y="1000"/>
                    </a:lnTo>
                    <a:lnTo>
                      <a:pt x="2488" y="1012"/>
                    </a:lnTo>
                    <a:lnTo>
                      <a:pt x="2411" y="1022"/>
                    </a:lnTo>
                    <a:lnTo>
                      <a:pt x="2332" y="1032"/>
                    </a:lnTo>
                    <a:lnTo>
                      <a:pt x="2252" y="1041"/>
                    </a:lnTo>
                    <a:lnTo>
                      <a:pt x="2169" y="1049"/>
                    </a:lnTo>
                    <a:lnTo>
                      <a:pt x="2085" y="1055"/>
                    </a:lnTo>
                    <a:lnTo>
                      <a:pt x="2000" y="1059"/>
                    </a:lnTo>
                    <a:lnTo>
                      <a:pt x="1913" y="1063"/>
                    </a:lnTo>
                    <a:lnTo>
                      <a:pt x="1824" y="1065"/>
                    </a:lnTo>
                    <a:lnTo>
                      <a:pt x="1735" y="1066"/>
                    </a:lnTo>
                    <a:lnTo>
                      <a:pt x="1647" y="1065"/>
                    </a:lnTo>
                    <a:lnTo>
                      <a:pt x="1558" y="1063"/>
                    </a:lnTo>
                    <a:lnTo>
                      <a:pt x="1471" y="1059"/>
                    </a:lnTo>
                    <a:lnTo>
                      <a:pt x="1386" y="1055"/>
                    </a:lnTo>
                    <a:lnTo>
                      <a:pt x="1302" y="1049"/>
                    </a:lnTo>
                    <a:lnTo>
                      <a:pt x="1219" y="1041"/>
                    </a:lnTo>
                    <a:lnTo>
                      <a:pt x="1139" y="1032"/>
                    </a:lnTo>
                    <a:lnTo>
                      <a:pt x="1060" y="1022"/>
                    </a:lnTo>
                    <a:lnTo>
                      <a:pt x="983" y="1012"/>
                    </a:lnTo>
                    <a:lnTo>
                      <a:pt x="908" y="1000"/>
                    </a:lnTo>
                    <a:lnTo>
                      <a:pt x="836" y="987"/>
                    </a:lnTo>
                    <a:lnTo>
                      <a:pt x="766" y="973"/>
                    </a:lnTo>
                    <a:lnTo>
                      <a:pt x="697" y="958"/>
                    </a:lnTo>
                    <a:lnTo>
                      <a:pt x="632" y="942"/>
                    </a:lnTo>
                    <a:lnTo>
                      <a:pt x="569" y="924"/>
                    </a:lnTo>
                    <a:lnTo>
                      <a:pt x="508" y="907"/>
                    </a:lnTo>
                    <a:lnTo>
                      <a:pt x="451" y="888"/>
                    </a:lnTo>
                    <a:lnTo>
                      <a:pt x="396" y="868"/>
                    </a:lnTo>
                    <a:lnTo>
                      <a:pt x="345" y="848"/>
                    </a:lnTo>
                    <a:lnTo>
                      <a:pt x="296" y="826"/>
                    </a:lnTo>
                    <a:lnTo>
                      <a:pt x="252" y="804"/>
                    </a:lnTo>
                    <a:lnTo>
                      <a:pt x="209" y="782"/>
                    </a:lnTo>
                    <a:lnTo>
                      <a:pt x="171" y="759"/>
                    </a:lnTo>
                    <a:lnTo>
                      <a:pt x="137" y="735"/>
                    </a:lnTo>
                    <a:lnTo>
                      <a:pt x="105" y="710"/>
                    </a:lnTo>
                    <a:lnTo>
                      <a:pt x="78" y="685"/>
                    </a:lnTo>
                    <a:lnTo>
                      <a:pt x="55" y="659"/>
                    </a:lnTo>
                    <a:lnTo>
                      <a:pt x="36" y="633"/>
                    </a:lnTo>
                    <a:lnTo>
                      <a:pt x="21" y="606"/>
                    </a:lnTo>
                    <a:lnTo>
                      <a:pt x="9" y="579"/>
                    </a:lnTo>
                    <a:lnTo>
                      <a:pt x="2" y="552"/>
                    </a:lnTo>
                    <a:lnTo>
                      <a:pt x="0" y="524"/>
                    </a:lnTo>
                    <a:lnTo>
                      <a:pt x="2" y="496"/>
                    </a:lnTo>
                    <a:lnTo>
                      <a:pt x="9" y="469"/>
                    </a:lnTo>
                    <a:lnTo>
                      <a:pt x="21" y="442"/>
                    </a:lnTo>
                    <a:lnTo>
                      <a:pt x="36" y="416"/>
                    </a:lnTo>
                    <a:lnTo>
                      <a:pt x="55" y="389"/>
                    </a:lnTo>
                    <a:lnTo>
                      <a:pt x="78" y="364"/>
                    </a:lnTo>
                    <a:lnTo>
                      <a:pt x="105" y="340"/>
                    </a:lnTo>
                    <a:lnTo>
                      <a:pt x="137" y="316"/>
                    </a:lnTo>
                    <a:lnTo>
                      <a:pt x="171" y="292"/>
                    </a:lnTo>
                    <a:lnTo>
                      <a:pt x="209" y="270"/>
                    </a:lnTo>
                    <a:lnTo>
                      <a:pt x="252" y="248"/>
                    </a:lnTo>
                    <a:lnTo>
                      <a:pt x="296" y="227"/>
                    </a:lnTo>
                    <a:lnTo>
                      <a:pt x="345" y="207"/>
                    </a:lnTo>
                    <a:lnTo>
                      <a:pt x="396" y="186"/>
                    </a:lnTo>
                    <a:lnTo>
                      <a:pt x="451" y="167"/>
                    </a:lnTo>
                    <a:lnTo>
                      <a:pt x="508" y="150"/>
                    </a:lnTo>
                    <a:lnTo>
                      <a:pt x="569" y="133"/>
                    </a:lnTo>
                    <a:lnTo>
                      <a:pt x="632" y="117"/>
                    </a:lnTo>
                    <a:lnTo>
                      <a:pt x="697" y="101"/>
                    </a:lnTo>
                    <a:lnTo>
                      <a:pt x="766" y="87"/>
                    </a:lnTo>
                    <a:lnTo>
                      <a:pt x="836" y="73"/>
                    </a:lnTo>
                    <a:lnTo>
                      <a:pt x="908" y="61"/>
                    </a:lnTo>
                    <a:lnTo>
                      <a:pt x="983" y="50"/>
                    </a:lnTo>
                    <a:lnTo>
                      <a:pt x="1060" y="40"/>
                    </a:lnTo>
                    <a:lnTo>
                      <a:pt x="1139" y="31"/>
                    </a:lnTo>
                    <a:lnTo>
                      <a:pt x="1219" y="23"/>
                    </a:lnTo>
                    <a:lnTo>
                      <a:pt x="1302" y="16"/>
                    </a:lnTo>
                    <a:lnTo>
                      <a:pt x="1386" y="10"/>
                    </a:lnTo>
                    <a:lnTo>
                      <a:pt x="1471" y="6"/>
                    </a:lnTo>
                    <a:lnTo>
                      <a:pt x="1558" y="3"/>
                    </a:lnTo>
                    <a:lnTo>
                      <a:pt x="1647" y="1"/>
                    </a:lnTo>
                    <a:lnTo>
                      <a:pt x="1735" y="0"/>
                    </a:lnTo>
                    <a:lnTo>
                      <a:pt x="1824" y="1"/>
                    </a:lnTo>
                    <a:lnTo>
                      <a:pt x="1913" y="3"/>
                    </a:lnTo>
                    <a:lnTo>
                      <a:pt x="2000" y="6"/>
                    </a:lnTo>
                    <a:lnTo>
                      <a:pt x="2085" y="10"/>
                    </a:lnTo>
                    <a:lnTo>
                      <a:pt x="2169" y="16"/>
                    </a:lnTo>
                    <a:lnTo>
                      <a:pt x="2252" y="23"/>
                    </a:lnTo>
                    <a:lnTo>
                      <a:pt x="2332" y="31"/>
                    </a:lnTo>
                    <a:lnTo>
                      <a:pt x="2411" y="40"/>
                    </a:lnTo>
                    <a:lnTo>
                      <a:pt x="2488" y="50"/>
                    </a:lnTo>
                    <a:lnTo>
                      <a:pt x="2563" y="61"/>
                    </a:lnTo>
                    <a:lnTo>
                      <a:pt x="2635" y="73"/>
                    </a:lnTo>
                    <a:lnTo>
                      <a:pt x="2706" y="87"/>
                    </a:lnTo>
                    <a:lnTo>
                      <a:pt x="2774" y="101"/>
                    </a:lnTo>
                    <a:lnTo>
                      <a:pt x="2839" y="117"/>
                    </a:lnTo>
                    <a:lnTo>
                      <a:pt x="2902" y="133"/>
                    </a:lnTo>
                    <a:lnTo>
                      <a:pt x="2963" y="150"/>
                    </a:lnTo>
                    <a:lnTo>
                      <a:pt x="3020" y="167"/>
                    </a:lnTo>
                    <a:lnTo>
                      <a:pt x="3075" y="186"/>
                    </a:lnTo>
                    <a:lnTo>
                      <a:pt x="3126" y="207"/>
                    </a:lnTo>
                    <a:lnTo>
                      <a:pt x="3175" y="227"/>
                    </a:lnTo>
                    <a:lnTo>
                      <a:pt x="3219" y="248"/>
                    </a:lnTo>
                    <a:lnTo>
                      <a:pt x="3261" y="270"/>
                    </a:lnTo>
                    <a:lnTo>
                      <a:pt x="3300" y="292"/>
                    </a:lnTo>
                    <a:lnTo>
                      <a:pt x="3334" y="316"/>
                    </a:lnTo>
                    <a:lnTo>
                      <a:pt x="3365" y="340"/>
                    </a:lnTo>
                    <a:lnTo>
                      <a:pt x="3393" y="364"/>
                    </a:lnTo>
                    <a:lnTo>
                      <a:pt x="3416" y="389"/>
                    </a:lnTo>
                    <a:lnTo>
                      <a:pt x="3435" y="416"/>
                    </a:lnTo>
                    <a:lnTo>
                      <a:pt x="3450" y="442"/>
                    </a:lnTo>
                    <a:lnTo>
                      <a:pt x="3461" y="469"/>
                    </a:lnTo>
                    <a:lnTo>
                      <a:pt x="3469" y="496"/>
                    </a:lnTo>
                    <a:lnTo>
                      <a:pt x="3471" y="5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098800" y="6513480"/>
                <a:ext cx="383400" cy="127440"/>
              </a:xfrm>
              <a:custGeom>
                <a:avLst/>
                <a:gdLst/>
                <a:ahLst/>
                <a:rect l="l" t="t" r="r" b="b"/>
                <a:pathLst>
                  <a:path w="3468" h="1064">
                    <a:moveTo>
                      <a:pt x="3468" y="523"/>
                    </a:moveTo>
                    <a:lnTo>
                      <a:pt x="3464" y="551"/>
                    </a:lnTo>
                    <a:lnTo>
                      <a:pt x="3458" y="578"/>
                    </a:lnTo>
                    <a:lnTo>
                      <a:pt x="3447" y="605"/>
                    </a:lnTo>
                    <a:lnTo>
                      <a:pt x="3432" y="632"/>
                    </a:lnTo>
                    <a:lnTo>
                      <a:pt x="3413" y="658"/>
                    </a:lnTo>
                    <a:lnTo>
                      <a:pt x="3389" y="683"/>
                    </a:lnTo>
                    <a:lnTo>
                      <a:pt x="3361" y="708"/>
                    </a:lnTo>
                    <a:lnTo>
                      <a:pt x="3331" y="734"/>
                    </a:lnTo>
                    <a:lnTo>
                      <a:pt x="3296" y="757"/>
                    </a:lnTo>
                    <a:lnTo>
                      <a:pt x="3257" y="780"/>
                    </a:lnTo>
                    <a:lnTo>
                      <a:pt x="3216" y="803"/>
                    </a:lnTo>
                    <a:lnTo>
                      <a:pt x="3171" y="825"/>
                    </a:lnTo>
                    <a:lnTo>
                      <a:pt x="3123" y="847"/>
                    </a:lnTo>
                    <a:lnTo>
                      <a:pt x="3072" y="867"/>
                    </a:lnTo>
                    <a:lnTo>
                      <a:pt x="3017" y="886"/>
                    </a:lnTo>
                    <a:lnTo>
                      <a:pt x="2960" y="905"/>
                    </a:lnTo>
                    <a:lnTo>
                      <a:pt x="2899" y="923"/>
                    </a:lnTo>
                    <a:lnTo>
                      <a:pt x="2836" y="940"/>
                    </a:lnTo>
                    <a:lnTo>
                      <a:pt x="2771" y="956"/>
                    </a:lnTo>
                    <a:lnTo>
                      <a:pt x="2703" y="971"/>
                    </a:lnTo>
                    <a:lnTo>
                      <a:pt x="2632" y="985"/>
                    </a:lnTo>
                    <a:lnTo>
                      <a:pt x="2560" y="998"/>
                    </a:lnTo>
                    <a:lnTo>
                      <a:pt x="2485" y="1010"/>
                    </a:lnTo>
                    <a:lnTo>
                      <a:pt x="2408" y="1021"/>
                    </a:lnTo>
                    <a:lnTo>
                      <a:pt x="2329" y="1030"/>
                    </a:lnTo>
                    <a:lnTo>
                      <a:pt x="2249" y="1039"/>
                    </a:lnTo>
                    <a:lnTo>
                      <a:pt x="2167" y="1047"/>
                    </a:lnTo>
                    <a:lnTo>
                      <a:pt x="2083" y="1053"/>
                    </a:lnTo>
                    <a:lnTo>
                      <a:pt x="1997" y="1058"/>
                    </a:lnTo>
                    <a:lnTo>
                      <a:pt x="1911" y="1061"/>
                    </a:lnTo>
                    <a:lnTo>
                      <a:pt x="1822" y="1063"/>
                    </a:lnTo>
                    <a:lnTo>
                      <a:pt x="1733" y="1064"/>
                    </a:lnTo>
                    <a:lnTo>
                      <a:pt x="1645" y="1063"/>
                    </a:lnTo>
                    <a:lnTo>
                      <a:pt x="1557" y="1061"/>
                    </a:lnTo>
                    <a:lnTo>
                      <a:pt x="1470" y="1058"/>
                    </a:lnTo>
                    <a:lnTo>
                      <a:pt x="1384" y="1053"/>
                    </a:lnTo>
                    <a:lnTo>
                      <a:pt x="1300" y="1047"/>
                    </a:lnTo>
                    <a:lnTo>
                      <a:pt x="1218" y="1039"/>
                    </a:lnTo>
                    <a:lnTo>
                      <a:pt x="1138" y="1030"/>
                    </a:lnTo>
                    <a:lnTo>
                      <a:pt x="1059" y="1021"/>
                    </a:lnTo>
                    <a:lnTo>
                      <a:pt x="982" y="1010"/>
                    </a:lnTo>
                    <a:lnTo>
                      <a:pt x="907" y="998"/>
                    </a:lnTo>
                    <a:lnTo>
                      <a:pt x="835" y="985"/>
                    </a:lnTo>
                    <a:lnTo>
                      <a:pt x="764" y="971"/>
                    </a:lnTo>
                    <a:lnTo>
                      <a:pt x="696" y="956"/>
                    </a:lnTo>
                    <a:lnTo>
                      <a:pt x="631" y="940"/>
                    </a:lnTo>
                    <a:lnTo>
                      <a:pt x="568" y="923"/>
                    </a:lnTo>
                    <a:lnTo>
                      <a:pt x="507" y="905"/>
                    </a:lnTo>
                    <a:lnTo>
                      <a:pt x="450" y="886"/>
                    </a:lnTo>
                    <a:lnTo>
                      <a:pt x="395" y="867"/>
                    </a:lnTo>
                    <a:lnTo>
                      <a:pt x="345" y="847"/>
                    </a:lnTo>
                    <a:lnTo>
                      <a:pt x="296" y="825"/>
                    </a:lnTo>
                    <a:lnTo>
                      <a:pt x="251" y="803"/>
                    </a:lnTo>
                    <a:lnTo>
                      <a:pt x="209" y="780"/>
                    </a:lnTo>
                    <a:lnTo>
                      <a:pt x="171" y="757"/>
                    </a:lnTo>
                    <a:lnTo>
                      <a:pt x="136" y="734"/>
                    </a:lnTo>
                    <a:lnTo>
                      <a:pt x="105" y="708"/>
                    </a:lnTo>
                    <a:lnTo>
                      <a:pt x="78" y="683"/>
                    </a:lnTo>
                    <a:lnTo>
                      <a:pt x="55" y="658"/>
                    </a:lnTo>
                    <a:lnTo>
                      <a:pt x="35" y="632"/>
                    </a:lnTo>
                    <a:lnTo>
                      <a:pt x="20" y="605"/>
                    </a:lnTo>
                    <a:lnTo>
                      <a:pt x="8" y="578"/>
                    </a:lnTo>
                    <a:lnTo>
                      <a:pt x="2" y="551"/>
                    </a:lnTo>
                    <a:lnTo>
                      <a:pt x="0" y="523"/>
                    </a:lnTo>
                    <a:lnTo>
                      <a:pt x="2" y="495"/>
                    </a:lnTo>
                    <a:lnTo>
                      <a:pt x="8" y="468"/>
                    </a:lnTo>
                    <a:lnTo>
                      <a:pt x="20" y="441"/>
                    </a:lnTo>
                    <a:lnTo>
                      <a:pt x="35" y="415"/>
                    </a:lnTo>
                    <a:lnTo>
                      <a:pt x="55" y="389"/>
                    </a:lnTo>
                    <a:lnTo>
                      <a:pt x="78" y="364"/>
                    </a:lnTo>
                    <a:lnTo>
                      <a:pt x="105" y="339"/>
                    </a:lnTo>
                    <a:lnTo>
                      <a:pt x="136" y="315"/>
                    </a:lnTo>
                    <a:lnTo>
                      <a:pt x="171" y="291"/>
                    </a:lnTo>
                    <a:lnTo>
                      <a:pt x="209" y="269"/>
                    </a:lnTo>
                    <a:lnTo>
                      <a:pt x="251" y="247"/>
                    </a:lnTo>
                    <a:lnTo>
                      <a:pt x="296" y="226"/>
                    </a:lnTo>
                    <a:lnTo>
                      <a:pt x="345" y="206"/>
                    </a:lnTo>
                    <a:lnTo>
                      <a:pt x="395" y="187"/>
                    </a:lnTo>
                    <a:lnTo>
                      <a:pt x="450" y="167"/>
                    </a:lnTo>
                    <a:lnTo>
                      <a:pt x="507" y="149"/>
                    </a:lnTo>
                    <a:lnTo>
                      <a:pt x="568" y="132"/>
                    </a:lnTo>
                    <a:lnTo>
                      <a:pt x="631" y="116"/>
                    </a:lnTo>
                    <a:lnTo>
                      <a:pt x="696" y="101"/>
                    </a:lnTo>
                    <a:lnTo>
                      <a:pt x="764" y="87"/>
                    </a:lnTo>
                    <a:lnTo>
                      <a:pt x="835" y="73"/>
                    </a:lnTo>
                    <a:lnTo>
                      <a:pt x="907" y="61"/>
                    </a:lnTo>
                    <a:lnTo>
                      <a:pt x="982" y="50"/>
                    </a:lnTo>
                    <a:lnTo>
                      <a:pt x="1059" y="40"/>
                    </a:lnTo>
                    <a:lnTo>
                      <a:pt x="1138" y="31"/>
                    </a:lnTo>
                    <a:lnTo>
                      <a:pt x="1218" y="23"/>
                    </a:lnTo>
                    <a:lnTo>
                      <a:pt x="1300" y="16"/>
                    </a:lnTo>
                    <a:lnTo>
                      <a:pt x="1384" y="10"/>
                    </a:lnTo>
                    <a:lnTo>
                      <a:pt x="1470" y="6"/>
                    </a:lnTo>
                    <a:lnTo>
                      <a:pt x="1557" y="3"/>
                    </a:lnTo>
                    <a:lnTo>
                      <a:pt x="1645" y="1"/>
                    </a:lnTo>
                    <a:lnTo>
                      <a:pt x="1733" y="0"/>
                    </a:lnTo>
                    <a:lnTo>
                      <a:pt x="1822" y="1"/>
                    </a:lnTo>
                    <a:lnTo>
                      <a:pt x="1911" y="3"/>
                    </a:lnTo>
                    <a:lnTo>
                      <a:pt x="1997" y="6"/>
                    </a:lnTo>
                    <a:lnTo>
                      <a:pt x="2083" y="10"/>
                    </a:lnTo>
                    <a:lnTo>
                      <a:pt x="2167" y="16"/>
                    </a:lnTo>
                    <a:lnTo>
                      <a:pt x="2249" y="23"/>
                    </a:lnTo>
                    <a:lnTo>
                      <a:pt x="2329" y="31"/>
                    </a:lnTo>
                    <a:lnTo>
                      <a:pt x="2408" y="40"/>
                    </a:lnTo>
                    <a:lnTo>
                      <a:pt x="2485" y="50"/>
                    </a:lnTo>
                    <a:lnTo>
                      <a:pt x="2560" y="61"/>
                    </a:lnTo>
                    <a:lnTo>
                      <a:pt x="2632" y="73"/>
                    </a:lnTo>
                    <a:lnTo>
                      <a:pt x="2703" y="87"/>
                    </a:lnTo>
                    <a:lnTo>
                      <a:pt x="2771" y="101"/>
                    </a:lnTo>
                    <a:lnTo>
                      <a:pt x="2836" y="116"/>
                    </a:lnTo>
                    <a:lnTo>
                      <a:pt x="2899" y="132"/>
                    </a:lnTo>
                    <a:lnTo>
                      <a:pt x="2960" y="149"/>
                    </a:lnTo>
                    <a:lnTo>
                      <a:pt x="3017" y="167"/>
                    </a:lnTo>
                    <a:lnTo>
                      <a:pt x="3072" y="187"/>
                    </a:lnTo>
                    <a:lnTo>
                      <a:pt x="3123" y="206"/>
                    </a:lnTo>
                    <a:lnTo>
                      <a:pt x="3171" y="226"/>
                    </a:lnTo>
                    <a:lnTo>
                      <a:pt x="3216" y="247"/>
                    </a:lnTo>
                    <a:lnTo>
                      <a:pt x="3257" y="269"/>
                    </a:lnTo>
                    <a:lnTo>
                      <a:pt x="3296" y="291"/>
                    </a:lnTo>
                    <a:lnTo>
                      <a:pt x="3331" y="315"/>
                    </a:lnTo>
                    <a:lnTo>
                      <a:pt x="3361" y="339"/>
                    </a:lnTo>
                    <a:lnTo>
                      <a:pt x="3389" y="364"/>
                    </a:lnTo>
                    <a:lnTo>
                      <a:pt x="3413" y="389"/>
                    </a:lnTo>
                    <a:lnTo>
                      <a:pt x="3432" y="415"/>
                    </a:lnTo>
                    <a:lnTo>
                      <a:pt x="3447" y="441"/>
                    </a:lnTo>
                    <a:lnTo>
                      <a:pt x="3458" y="468"/>
                    </a:lnTo>
                    <a:lnTo>
                      <a:pt x="3464" y="495"/>
                    </a:lnTo>
                    <a:lnTo>
                      <a:pt x="3468" y="5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098800" y="6514920"/>
                <a:ext cx="382320" cy="126360"/>
              </a:xfrm>
              <a:custGeom>
                <a:avLst/>
                <a:gdLst/>
                <a:ahLst/>
                <a:rect l="l" t="t" r="r" b="b"/>
                <a:pathLst>
                  <a:path w="3465" h="1062">
                    <a:moveTo>
                      <a:pt x="3465" y="522"/>
                    </a:moveTo>
                    <a:lnTo>
                      <a:pt x="3462" y="550"/>
                    </a:lnTo>
                    <a:lnTo>
                      <a:pt x="3455" y="577"/>
                    </a:lnTo>
                    <a:lnTo>
                      <a:pt x="3444" y="604"/>
                    </a:lnTo>
                    <a:lnTo>
                      <a:pt x="3429" y="631"/>
                    </a:lnTo>
                    <a:lnTo>
                      <a:pt x="3410" y="657"/>
                    </a:lnTo>
                    <a:lnTo>
                      <a:pt x="3387" y="682"/>
                    </a:lnTo>
                    <a:lnTo>
                      <a:pt x="3359" y="707"/>
                    </a:lnTo>
                    <a:lnTo>
                      <a:pt x="3328" y="732"/>
                    </a:lnTo>
                    <a:lnTo>
                      <a:pt x="3294" y="756"/>
                    </a:lnTo>
                    <a:lnTo>
                      <a:pt x="3255" y="779"/>
                    </a:lnTo>
                    <a:lnTo>
                      <a:pt x="3214" y="801"/>
                    </a:lnTo>
                    <a:lnTo>
                      <a:pt x="3169" y="823"/>
                    </a:lnTo>
                    <a:lnTo>
                      <a:pt x="3120" y="845"/>
                    </a:lnTo>
                    <a:lnTo>
                      <a:pt x="3070" y="865"/>
                    </a:lnTo>
                    <a:lnTo>
                      <a:pt x="3015" y="885"/>
                    </a:lnTo>
                    <a:lnTo>
                      <a:pt x="2958" y="903"/>
                    </a:lnTo>
                    <a:lnTo>
                      <a:pt x="2897" y="921"/>
                    </a:lnTo>
                    <a:lnTo>
                      <a:pt x="2834" y="939"/>
                    </a:lnTo>
                    <a:lnTo>
                      <a:pt x="2769" y="955"/>
                    </a:lnTo>
                    <a:lnTo>
                      <a:pt x="2701" y="970"/>
                    </a:lnTo>
                    <a:lnTo>
                      <a:pt x="2630" y="983"/>
                    </a:lnTo>
                    <a:lnTo>
                      <a:pt x="2559" y="996"/>
                    </a:lnTo>
                    <a:lnTo>
                      <a:pt x="2484" y="1008"/>
                    </a:lnTo>
                    <a:lnTo>
                      <a:pt x="2407" y="1019"/>
                    </a:lnTo>
                    <a:lnTo>
                      <a:pt x="2328" y="1028"/>
                    </a:lnTo>
                    <a:lnTo>
                      <a:pt x="2248" y="1037"/>
                    </a:lnTo>
                    <a:lnTo>
                      <a:pt x="2166" y="1045"/>
                    </a:lnTo>
                    <a:lnTo>
                      <a:pt x="2082" y="1051"/>
                    </a:lnTo>
                    <a:lnTo>
                      <a:pt x="1996" y="1056"/>
                    </a:lnTo>
                    <a:lnTo>
                      <a:pt x="1909" y="1059"/>
                    </a:lnTo>
                    <a:lnTo>
                      <a:pt x="1821" y="1061"/>
                    </a:lnTo>
                    <a:lnTo>
                      <a:pt x="1732" y="1062"/>
                    </a:lnTo>
                    <a:lnTo>
                      <a:pt x="1644" y="1061"/>
                    </a:lnTo>
                    <a:lnTo>
                      <a:pt x="1556" y="1059"/>
                    </a:lnTo>
                    <a:lnTo>
                      <a:pt x="1469" y="1056"/>
                    </a:lnTo>
                    <a:lnTo>
                      <a:pt x="1383" y="1051"/>
                    </a:lnTo>
                    <a:lnTo>
                      <a:pt x="1299" y="1045"/>
                    </a:lnTo>
                    <a:lnTo>
                      <a:pt x="1217" y="1037"/>
                    </a:lnTo>
                    <a:lnTo>
                      <a:pt x="1137" y="1028"/>
                    </a:lnTo>
                    <a:lnTo>
                      <a:pt x="1058" y="1019"/>
                    </a:lnTo>
                    <a:lnTo>
                      <a:pt x="981" y="1008"/>
                    </a:lnTo>
                    <a:lnTo>
                      <a:pt x="907" y="996"/>
                    </a:lnTo>
                    <a:lnTo>
                      <a:pt x="835" y="983"/>
                    </a:lnTo>
                    <a:lnTo>
                      <a:pt x="764" y="970"/>
                    </a:lnTo>
                    <a:lnTo>
                      <a:pt x="696" y="955"/>
                    </a:lnTo>
                    <a:lnTo>
                      <a:pt x="631" y="939"/>
                    </a:lnTo>
                    <a:lnTo>
                      <a:pt x="568" y="921"/>
                    </a:lnTo>
                    <a:lnTo>
                      <a:pt x="507" y="903"/>
                    </a:lnTo>
                    <a:lnTo>
                      <a:pt x="450" y="885"/>
                    </a:lnTo>
                    <a:lnTo>
                      <a:pt x="396" y="865"/>
                    </a:lnTo>
                    <a:lnTo>
                      <a:pt x="345" y="845"/>
                    </a:lnTo>
                    <a:lnTo>
                      <a:pt x="296" y="823"/>
                    </a:lnTo>
                    <a:lnTo>
                      <a:pt x="251" y="801"/>
                    </a:lnTo>
                    <a:lnTo>
                      <a:pt x="209" y="779"/>
                    </a:lnTo>
                    <a:lnTo>
                      <a:pt x="171" y="756"/>
                    </a:lnTo>
                    <a:lnTo>
                      <a:pt x="137" y="732"/>
                    </a:lnTo>
                    <a:lnTo>
                      <a:pt x="105" y="707"/>
                    </a:lnTo>
                    <a:lnTo>
                      <a:pt x="78" y="682"/>
                    </a:lnTo>
                    <a:lnTo>
                      <a:pt x="55" y="657"/>
                    </a:lnTo>
                    <a:lnTo>
                      <a:pt x="36" y="631"/>
                    </a:lnTo>
                    <a:lnTo>
                      <a:pt x="21" y="604"/>
                    </a:lnTo>
                    <a:lnTo>
                      <a:pt x="10" y="577"/>
                    </a:lnTo>
                    <a:lnTo>
                      <a:pt x="2" y="550"/>
                    </a:lnTo>
                    <a:lnTo>
                      <a:pt x="0" y="522"/>
                    </a:lnTo>
                    <a:lnTo>
                      <a:pt x="2" y="494"/>
                    </a:lnTo>
                    <a:lnTo>
                      <a:pt x="10" y="467"/>
                    </a:lnTo>
                    <a:lnTo>
                      <a:pt x="21" y="440"/>
                    </a:lnTo>
                    <a:lnTo>
                      <a:pt x="36" y="414"/>
                    </a:lnTo>
                    <a:lnTo>
                      <a:pt x="55" y="388"/>
                    </a:lnTo>
                    <a:lnTo>
                      <a:pt x="78" y="363"/>
                    </a:lnTo>
                    <a:lnTo>
                      <a:pt x="105" y="339"/>
                    </a:lnTo>
                    <a:lnTo>
                      <a:pt x="137" y="315"/>
                    </a:lnTo>
                    <a:lnTo>
                      <a:pt x="171" y="291"/>
                    </a:lnTo>
                    <a:lnTo>
                      <a:pt x="209" y="268"/>
                    </a:lnTo>
                    <a:lnTo>
                      <a:pt x="251" y="247"/>
                    </a:lnTo>
                    <a:lnTo>
                      <a:pt x="296" y="226"/>
                    </a:lnTo>
                    <a:lnTo>
                      <a:pt x="345" y="206"/>
                    </a:lnTo>
                    <a:lnTo>
                      <a:pt x="396" y="186"/>
                    </a:lnTo>
                    <a:lnTo>
                      <a:pt x="450" y="167"/>
                    </a:lnTo>
                    <a:lnTo>
                      <a:pt x="507" y="149"/>
                    </a:lnTo>
                    <a:lnTo>
                      <a:pt x="568" y="132"/>
                    </a:lnTo>
                    <a:lnTo>
                      <a:pt x="631" y="116"/>
                    </a:lnTo>
                    <a:lnTo>
                      <a:pt x="696" y="101"/>
                    </a:lnTo>
                    <a:lnTo>
                      <a:pt x="764" y="87"/>
                    </a:lnTo>
                    <a:lnTo>
                      <a:pt x="835" y="73"/>
                    </a:lnTo>
                    <a:lnTo>
                      <a:pt x="907" y="61"/>
                    </a:lnTo>
                    <a:lnTo>
                      <a:pt x="981" y="49"/>
                    </a:lnTo>
                    <a:lnTo>
                      <a:pt x="1058" y="39"/>
                    </a:lnTo>
                    <a:lnTo>
                      <a:pt x="1137" y="30"/>
                    </a:lnTo>
                    <a:lnTo>
                      <a:pt x="1217" y="23"/>
                    </a:lnTo>
                    <a:lnTo>
                      <a:pt x="1299" y="16"/>
                    </a:lnTo>
                    <a:lnTo>
                      <a:pt x="1383" y="10"/>
                    </a:lnTo>
                    <a:lnTo>
                      <a:pt x="1469" y="6"/>
                    </a:lnTo>
                    <a:lnTo>
                      <a:pt x="1556" y="3"/>
                    </a:lnTo>
                    <a:lnTo>
                      <a:pt x="1644" y="1"/>
                    </a:lnTo>
                    <a:lnTo>
                      <a:pt x="1732" y="0"/>
                    </a:lnTo>
                    <a:lnTo>
                      <a:pt x="1821" y="1"/>
                    </a:lnTo>
                    <a:lnTo>
                      <a:pt x="1909" y="3"/>
                    </a:lnTo>
                    <a:lnTo>
                      <a:pt x="1996" y="6"/>
                    </a:lnTo>
                    <a:lnTo>
                      <a:pt x="2082" y="10"/>
                    </a:lnTo>
                    <a:lnTo>
                      <a:pt x="2166" y="16"/>
                    </a:lnTo>
                    <a:lnTo>
                      <a:pt x="2248" y="23"/>
                    </a:lnTo>
                    <a:lnTo>
                      <a:pt x="2328" y="30"/>
                    </a:lnTo>
                    <a:lnTo>
                      <a:pt x="2407" y="39"/>
                    </a:lnTo>
                    <a:lnTo>
                      <a:pt x="2484" y="49"/>
                    </a:lnTo>
                    <a:lnTo>
                      <a:pt x="2559" y="61"/>
                    </a:lnTo>
                    <a:lnTo>
                      <a:pt x="2630" y="73"/>
                    </a:lnTo>
                    <a:lnTo>
                      <a:pt x="2701" y="87"/>
                    </a:lnTo>
                    <a:lnTo>
                      <a:pt x="2769" y="101"/>
                    </a:lnTo>
                    <a:lnTo>
                      <a:pt x="2834" y="116"/>
                    </a:lnTo>
                    <a:lnTo>
                      <a:pt x="2897" y="132"/>
                    </a:lnTo>
                    <a:lnTo>
                      <a:pt x="2958" y="149"/>
                    </a:lnTo>
                    <a:lnTo>
                      <a:pt x="3015" y="167"/>
                    </a:lnTo>
                    <a:lnTo>
                      <a:pt x="3070" y="186"/>
                    </a:lnTo>
                    <a:lnTo>
                      <a:pt x="3120" y="206"/>
                    </a:lnTo>
                    <a:lnTo>
                      <a:pt x="3169" y="226"/>
                    </a:lnTo>
                    <a:lnTo>
                      <a:pt x="3214" y="247"/>
                    </a:lnTo>
                    <a:lnTo>
                      <a:pt x="3255" y="268"/>
                    </a:lnTo>
                    <a:lnTo>
                      <a:pt x="3294" y="291"/>
                    </a:lnTo>
                    <a:lnTo>
                      <a:pt x="3328" y="315"/>
                    </a:lnTo>
                    <a:lnTo>
                      <a:pt x="3359" y="339"/>
                    </a:lnTo>
                    <a:lnTo>
                      <a:pt x="3387" y="363"/>
                    </a:lnTo>
                    <a:lnTo>
                      <a:pt x="3410" y="388"/>
                    </a:lnTo>
                    <a:lnTo>
                      <a:pt x="3429" y="414"/>
                    </a:lnTo>
                    <a:lnTo>
                      <a:pt x="3444" y="440"/>
                    </a:lnTo>
                    <a:lnTo>
                      <a:pt x="3455" y="467"/>
                    </a:lnTo>
                    <a:lnTo>
                      <a:pt x="3462" y="494"/>
                    </a:lnTo>
                    <a:lnTo>
                      <a:pt x="3465" y="5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099880" y="6514920"/>
                <a:ext cx="381240" cy="126360"/>
              </a:xfrm>
              <a:custGeom>
                <a:avLst/>
                <a:gdLst/>
                <a:ahLst/>
                <a:rect l="l" t="t" r="r" b="b"/>
                <a:pathLst>
                  <a:path w="3462" h="1060">
                    <a:moveTo>
                      <a:pt x="3462" y="521"/>
                    </a:moveTo>
                    <a:lnTo>
                      <a:pt x="3459" y="549"/>
                    </a:lnTo>
                    <a:lnTo>
                      <a:pt x="3453" y="576"/>
                    </a:lnTo>
                    <a:lnTo>
                      <a:pt x="3442" y="602"/>
                    </a:lnTo>
                    <a:lnTo>
                      <a:pt x="3427" y="630"/>
                    </a:lnTo>
                    <a:lnTo>
                      <a:pt x="3408" y="656"/>
                    </a:lnTo>
                    <a:lnTo>
                      <a:pt x="3385" y="681"/>
                    </a:lnTo>
                    <a:lnTo>
                      <a:pt x="3357" y="706"/>
                    </a:lnTo>
                    <a:lnTo>
                      <a:pt x="3326" y="731"/>
                    </a:lnTo>
                    <a:lnTo>
                      <a:pt x="3292" y="755"/>
                    </a:lnTo>
                    <a:lnTo>
                      <a:pt x="3253" y="778"/>
                    </a:lnTo>
                    <a:lnTo>
                      <a:pt x="3212" y="800"/>
                    </a:lnTo>
                    <a:lnTo>
                      <a:pt x="3167" y="822"/>
                    </a:lnTo>
                    <a:lnTo>
                      <a:pt x="3118" y="844"/>
                    </a:lnTo>
                    <a:lnTo>
                      <a:pt x="3067" y="864"/>
                    </a:lnTo>
                    <a:lnTo>
                      <a:pt x="3013" y="883"/>
                    </a:lnTo>
                    <a:lnTo>
                      <a:pt x="2956" y="902"/>
                    </a:lnTo>
                    <a:lnTo>
                      <a:pt x="2895" y="919"/>
                    </a:lnTo>
                    <a:lnTo>
                      <a:pt x="2832" y="937"/>
                    </a:lnTo>
                    <a:lnTo>
                      <a:pt x="2767" y="953"/>
                    </a:lnTo>
                    <a:lnTo>
                      <a:pt x="2699" y="968"/>
                    </a:lnTo>
                    <a:lnTo>
                      <a:pt x="2629" y="982"/>
                    </a:lnTo>
                    <a:lnTo>
                      <a:pt x="2557" y="994"/>
                    </a:lnTo>
                    <a:lnTo>
                      <a:pt x="2482" y="1006"/>
                    </a:lnTo>
                    <a:lnTo>
                      <a:pt x="2405" y="1017"/>
                    </a:lnTo>
                    <a:lnTo>
                      <a:pt x="2326" y="1027"/>
                    </a:lnTo>
                    <a:lnTo>
                      <a:pt x="2247" y="1035"/>
                    </a:lnTo>
                    <a:lnTo>
                      <a:pt x="2164" y="1043"/>
                    </a:lnTo>
                    <a:lnTo>
                      <a:pt x="2080" y="1049"/>
                    </a:lnTo>
                    <a:lnTo>
                      <a:pt x="1995" y="1054"/>
                    </a:lnTo>
                    <a:lnTo>
                      <a:pt x="1908" y="1057"/>
                    </a:lnTo>
                    <a:lnTo>
                      <a:pt x="1820" y="1059"/>
                    </a:lnTo>
                    <a:lnTo>
                      <a:pt x="1731" y="1060"/>
                    </a:lnTo>
                    <a:lnTo>
                      <a:pt x="1643" y="1059"/>
                    </a:lnTo>
                    <a:lnTo>
                      <a:pt x="1555" y="1057"/>
                    </a:lnTo>
                    <a:lnTo>
                      <a:pt x="1468" y="1054"/>
                    </a:lnTo>
                    <a:lnTo>
                      <a:pt x="1383" y="1049"/>
                    </a:lnTo>
                    <a:lnTo>
                      <a:pt x="1299" y="1043"/>
                    </a:lnTo>
                    <a:lnTo>
                      <a:pt x="1216" y="1035"/>
                    </a:lnTo>
                    <a:lnTo>
                      <a:pt x="1137" y="1027"/>
                    </a:lnTo>
                    <a:lnTo>
                      <a:pt x="1058" y="1017"/>
                    </a:lnTo>
                    <a:lnTo>
                      <a:pt x="981" y="1006"/>
                    </a:lnTo>
                    <a:lnTo>
                      <a:pt x="906" y="994"/>
                    </a:lnTo>
                    <a:lnTo>
                      <a:pt x="834" y="982"/>
                    </a:lnTo>
                    <a:lnTo>
                      <a:pt x="764" y="968"/>
                    </a:lnTo>
                    <a:lnTo>
                      <a:pt x="696" y="953"/>
                    </a:lnTo>
                    <a:lnTo>
                      <a:pt x="631" y="937"/>
                    </a:lnTo>
                    <a:lnTo>
                      <a:pt x="568" y="919"/>
                    </a:lnTo>
                    <a:lnTo>
                      <a:pt x="507" y="902"/>
                    </a:lnTo>
                    <a:lnTo>
                      <a:pt x="451" y="883"/>
                    </a:lnTo>
                    <a:lnTo>
                      <a:pt x="396" y="864"/>
                    </a:lnTo>
                    <a:lnTo>
                      <a:pt x="345" y="844"/>
                    </a:lnTo>
                    <a:lnTo>
                      <a:pt x="296" y="822"/>
                    </a:lnTo>
                    <a:lnTo>
                      <a:pt x="251" y="800"/>
                    </a:lnTo>
                    <a:lnTo>
                      <a:pt x="209" y="778"/>
                    </a:lnTo>
                    <a:lnTo>
                      <a:pt x="171" y="755"/>
                    </a:lnTo>
                    <a:lnTo>
                      <a:pt x="137" y="731"/>
                    </a:lnTo>
                    <a:lnTo>
                      <a:pt x="105" y="706"/>
                    </a:lnTo>
                    <a:lnTo>
                      <a:pt x="78" y="681"/>
                    </a:lnTo>
                    <a:lnTo>
                      <a:pt x="55" y="656"/>
                    </a:lnTo>
                    <a:lnTo>
                      <a:pt x="36" y="630"/>
                    </a:lnTo>
                    <a:lnTo>
                      <a:pt x="21" y="602"/>
                    </a:lnTo>
                    <a:lnTo>
                      <a:pt x="10" y="576"/>
                    </a:lnTo>
                    <a:lnTo>
                      <a:pt x="3" y="549"/>
                    </a:lnTo>
                    <a:lnTo>
                      <a:pt x="0" y="521"/>
                    </a:lnTo>
                    <a:lnTo>
                      <a:pt x="3" y="493"/>
                    </a:lnTo>
                    <a:lnTo>
                      <a:pt x="10" y="466"/>
                    </a:lnTo>
                    <a:lnTo>
                      <a:pt x="21" y="439"/>
                    </a:lnTo>
                    <a:lnTo>
                      <a:pt x="36" y="413"/>
                    </a:lnTo>
                    <a:lnTo>
                      <a:pt x="55" y="387"/>
                    </a:lnTo>
                    <a:lnTo>
                      <a:pt x="78" y="362"/>
                    </a:lnTo>
                    <a:lnTo>
                      <a:pt x="105" y="338"/>
                    </a:lnTo>
                    <a:lnTo>
                      <a:pt x="137" y="314"/>
                    </a:lnTo>
                    <a:lnTo>
                      <a:pt x="171" y="290"/>
                    </a:lnTo>
                    <a:lnTo>
                      <a:pt x="209" y="268"/>
                    </a:lnTo>
                    <a:lnTo>
                      <a:pt x="251" y="246"/>
                    </a:lnTo>
                    <a:lnTo>
                      <a:pt x="296" y="225"/>
                    </a:lnTo>
                    <a:lnTo>
                      <a:pt x="345" y="205"/>
                    </a:lnTo>
                    <a:lnTo>
                      <a:pt x="396" y="186"/>
                    </a:lnTo>
                    <a:lnTo>
                      <a:pt x="451" y="166"/>
                    </a:lnTo>
                    <a:lnTo>
                      <a:pt x="507" y="149"/>
                    </a:lnTo>
                    <a:lnTo>
                      <a:pt x="568" y="132"/>
                    </a:lnTo>
                    <a:lnTo>
                      <a:pt x="631" y="116"/>
                    </a:lnTo>
                    <a:lnTo>
                      <a:pt x="696" y="101"/>
                    </a:lnTo>
                    <a:lnTo>
                      <a:pt x="764" y="87"/>
                    </a:lnTo>
                    <a:lnTo>
                      <a:pt x="834" y="73"/>
                    </a:lnTo>
                    <a:lnTo>
                      <a:pt x="906" y="60"/>
                    </a:lnTo>
                    <a:lnTo>
                      <a:pt x="981" y="49"/>
                    </a:lnTo>
                    <a:lnTo>
                      <a:pt x="1058" y="39"/>
                    </a:lnTo>
                    <a:lnTo>
                      <a:pt x="1137" y="30"/>
                    </a:lnTo>
                    <a:lnTo>
                      <a:pt x="1216" y="22"/>
                    </a:lnTo>
                    <a:lnTo>
                      <a:pt x="1299" y="16"/>
                    </a:lnTo>
                    <a:lnTo>
                      <a:pt x="1383" y="10"/>
                    </a:lnTo>
                    <a:lnTo>
                      <a:pt x="1468" y="6"/>
                    </a:lnTo>
                    <a:lnTo>
                      <a:pt x="1555" y="3"/>
                    </a:lnTo>
                    <a:lnTo>
                      <a:pt x="1643" y="1"/>
                    </a:lnTo>
                    <a:lnTo>
                      <a:pt x="1731" y="0"/>
                    </a:lnTo>
                    <a:lnTo>
                      <a:pt x="1820" y="1"/>
                    </a:lnTo>
                    <a:lnTo>
                      <a:pt x="1908" y="3"/>
                    </a:lnTo>
                    <a:lnTo>
                      <a:pt x="1995" y="6"/>
                    </a:lnTo>
                    <a:lnTo>
                      <a:pt x="2080" y="10"/>
                    </a:lnTo>
                    <a:lnTo>
                      <a:pt x="2164" y="16"/>
                    </a:lnTo>
                    <a:lnTo>
                      <a:pt x="2247" y="22"/>
                    </a:lnTo>
                    <a:lnTo>
                      <a:pt x="2326" y="30"/>
                    </a:lnTo>
                    <a:lnTo>
                      <a:pt x="2405" y="39"/>
                    </a:lnTo>
                    <a:lnTo>
                      <a:pt x="2482" y="49"/>
                    </a:lnTo>
                    <a:lnTo>
                      <a:pt x="2557" y="60"/>
                    </a:lnTo>
                    <a:lnTo>
                      <a:pt x="2629" y="73"/>
                    </a:lnTo>
                    <a:lnTo>
                      <a:pt x="2699" y="87"/>
                    </a:lnTo>
                    <a:lnTo>
                      <a:pt x="2767" y="101"/>
                    </a:lnTo>
                    <a:lnTo>
                      <a:pt x="2832" y="116"/>
                    </a:lnTo>
                    <a:lnTo>
                      <a:pt x="2895" y="132"/>
                    </a:lnTo>
                    <a:lnTo>
                      <a:pt x="2956" y="149"/>
                    </a:lnTo>
                    <a:lnTo>
                      <a:pt x="3013" y="166"/>
                    </a:lnTo>
                    <a:lnTo>
                      <a:pt x="3067" y="186"/>
                    </a:lnTo>
                    <a:lnTo>
                      <a:pt x="3118" y="205"/>
                    </a:lnTo>
                    <a:lnTo>
                      <a:pt x="3167" y="225"/>
                    </a:lnTo>
                    <a:lnTo>
                      <a:pt x="3212" y="246"/>
                    </a:lnTo>
                    <a:lnTo>
                      <a:pt x="3253" y="268"/>
                    </a:lnTo>
                    <a:lnTo>
                      <a:pt x="3292" y="290"/>
                    </a:lnTo>
                    <a:lnTo>
                      <a:pt x="3326" y="314"/>
                    </a:lnTo>
                    <a:lnTo>
                      <a:pt x="3357" y="338"/>
                    </a:lnTo>
                    <a:lnTo>
                      <a:pt x="3385" y="362"/>
                    </a:lnTo>
                    <a:lnTo>
                      <a:pt x="3408" y="387"/>
                    </a:lnTo>
                    <a:lnTo>
                      <a:pt x="3427" y="413"/>
                    </a:lnTo>
                    <a:lnTo>
                      <a:pt x="3442" y="439"/>
                    </a:lnTo>
                    <a:lnTo>
                      <a:pt x="3453" y="466"/>
                    </a:lnTo>
                    <a:lnTo>
                      <a:pt x="3459" y="493"/>
                    </a:lnTo>
                    <a:lnTo>
                      <a:pt x="3462" y="5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099880" y="6514920"/>
                <a:ext cx="381240" cy="126360"/>
              </a:xfrm>
              <a:custGeom>
                <a:avLst/>
                <a:gdLst/>
                <a:ahLst/>
                <a:rect l="l" t="t" r="r" b="b"/>
                <a:pathLst>
                  <a:path w="3458" h="1058">
                    <a:moveTo>
                      <a:pt x="3458" y="520"/>
                    </a:moveTo>
                    <a:lnTo>
                      <a:pt x="3456" y="548"/>
                    </a:lnTo>
                    <a:lnTo>
                      <a:pt x="3450" y="575"/>
                    </a:lnTo>
                    <a:lnTo>
                      <a:pt x="3439" y="601"/>
                    </a:lnTo>
                    <a:lnTo>
                      <a:pt x="3424" y="629"/>
                    </a:lnTo>
                    <a:lnTo>
                      <a:pt x="3404" y="654"/>
                    </a:lnTo>
                    <a:lnTo>
                      <a:pt x="3381" y="680"/>
                    </a:lnTo>
                    <a:lnTo>
                      <a:pt x="3353" y="704"/>
                    </a:lnTo>
                    <a:lnTo>
                      <a:pt x="3323" y="730"/>
                    </a:lnTo>
                    <a:lnTo>
                      <a:pt x="3288" y="753"/>
                    </a:lnTo>
                    <a:lnTo>
                      <a:pt x="3250" y="776"/>
                    </a:lnTo>
                    <a:lnTo>
                      <a:pt x="3208" y="798"/>
                    </a:lnTo>
                    <a:lnTo>
                      <a:pt x="3164" y="820"/>
                    </a:lnTo>
                    <a:lnTo>
                      <a:pt x="3115" y="842"/>
                    </a:lnTo>
                    <a:lnTo>
                      <a:pt x="3064" y="862"/>
                    </a:lnTo>
                    <a:lnTo>
                      <a:pt x="3009" y="881"/>
                    </a:lnTo>
                    <a:lnTo>
                      <a:pt x="2952" y="900"/>
                    </a:lnTo>
                    <a:lnTo>
                      <a:pt x="2892" y="918"/>
                    </a:lnTo>
                    <a:lnTo>
                      <a:pt x="2829" y="935"/>
                    </a:lnTo>
                    <a:lnTo>
                      <a:pt x="2764" y="951"/>
                    </a:lnTo>
                    <a:lnTo>
                      <a:pt x="2696" y="966"/>
                    </a:lnTo>
                    <a:lnTo>
                      <a:pt x="2626" y="980"/>
                    </a:lnTo>
                    <a:lnTo>
                      <a:pt x="2554" y="993"/>
                    </a:lnTo>
                    <a:lnTo>
                      <a:pt x="2479" y="1004"/>
                    </a:lnTo>
                    <a:lnTo>
                      <a:pt x="2403" y="1015"/>
                    </a:lnTo>
                    <a:lnTo>
                      <a:pt x="2324" y="1025"/>
                    </a:lnTo>
                    <a:lnTo>
                      <a:pt x="2244" y="1033"/>
                    </a:lnTo>
                    <a:lnTo>
                      <a:pt x="2162" y="1041"/>
                    </a:lnTo>
                    <a:lnTo>
                      <a:pt x="2078" y="1047"/>
                    </a:lnTo>
                    <a:lnTo>
                      <a:pt x="1993" y="1052"/>
                    </a:lnTo>
                    <a:lnTo>
                      <a:pt x="1906" y="1055"/>
                    </a:lnTo>
                    <a:lnTo>
                      <a:pt x="1818" y="1057"/>
                    </a:lnTo>
                    <a:lnTo>
                      <a:pt x="1729" y="1058"/>
                    </a:lnTo>
                    <a:lnTo>
                      <a:pt x="1641" y="1057"/>
                    </a:lnTo>
                    <a:lnTo>
                      <a:pt x="1553" y="1055"/>
                    </a:lnTo>
                    <a:lnTo>
                      <a:pt x="1466" y="1052"/>
                    </a:lnTo>
                    <a:lnTo>
                      <a:pt x="1381" y="1047"/>
                    </a:lnTo>
                    <a:lnTo>
                      <a:pt x="1297" y="1041"/>
                    </a:lnTo>
                    <a:lnTo>
                      <a:pt x="1215" y="1033"/>
                    </a:lnTo>
                    <a:lnTo>
                      <a:pt x="1135" y="1025"/>
                    </a:lnTo>
                    <a:lnTo>
                      <a:pt x="1057" y="1015"/>
                    </a:lnTo>
                    <a:lnTo>
                      <a:pt x="980" y="1004"/>
                    </a:lnTo>
                    <a:lnTo>
                      <a:pt x="905" y="993"/>
                    </a:lnTo>
                    <a:lnTo>
                      <a:pt x="833" y="980"/>
                    </a:lnTo>
                    <a:lnTo>
                      <a:pt x="763" y="966"/>
                    </a:lnTo>
                    <a:lnTo>
                      <a:pt x="695" y="951"/>
                    </a:lnTo>
                    <a:lnTo>
                      <a:pt x="630" y="935"/>
                    </a:lnTo>
                    <a:lnTo>
                      <a:pt x="567" y="918"/>
                    </a:lnTo>
                    <a:lnTo>
                      <a:pt x="506" y="900"/>
                    </a:lnTo>
                    <a:lnTo>
                      <a:pt x="450" y="881"/>
                    </a:lnTo>
                    <a:lnTo>
                      <a:pt x="395" y="862"/>
                    </a:lnTo>
                    <a:lnTo>
                      <a:pt x="344" y="842"/>
                    </a:lnTo>
                    <a:lnTo>
                      <a:pt x="295" y="820"/>
                    </a:lnTo>
                    <a:lnTo>
                      <a:pt x="251" y="798"/>
                    </a:lnTo>
                    <a:lnTo>
                      <a:pt x="208" y="776"/>
                    </a:lnTo>
                    <a:lnTo>
                      <a:pt x="171" y="753"/>
                    </a:lnTo>
                    <a:lnTo>
                      <a:pt x="136" y="730"/>
                    </a:lnTo>
                    <a:lnTo>
                      <a:pt x="105" y="704"/>
                    </a:lnTo>
                    <a:lnTo>
                      <a:pt x="78" y="680"/>
                    </a:lnTo>
                    <a:lnTo>
                      <a:pt x="55" y="654"/>
                    </a:lnTo>
                    <a:lnTo>
                      <a:pt x="36" y="629"/>
                    </a:lnTo>
                    <a:lnTo>
                      <a:pt x="20" y="601"/>
                    </a:lnTo>
                    <a:lnTo>
                      <a:pt x="10" y="575"/>
                    </a:lnTo>
                    <a:lnTo>
                      <a:pt x="2" y="548"/>
                    </a:lnTo>
                    <a:lnTo>
                      <a:pt x="0" y="520"/>
                    </a:lnTo>
                    <a:lnTo>
                      <a:pt x="2" y="492"/>
                    </a:lnTo>
                    <a:lnTo>
                      <a:pt x="10" y="465"/>
                    </a:lnTo>
                    <a:lnTo>
                      <a:pt x="20" y="439"/>
                    </a:lnTo>
                    <a:lnTo>
                      <a:pt x="36" y="413"/>
                    </a:lnTo>
                    <a:lnTo>
                      <a:pt x="55" y="386"/>
                    </a:lnTo>
                    <a:lnTo>
                      <a:pt x="78" y="361"/>
                    </a:lnTo>
                    <a:lnTo>
                      <a:pt x="105" y="337"/>
                    </a:lnTo>
                    <a:lnTo>
                      <a:pt x="136" y="314"/>
                    </a:lnTo>
                    <a:lnTo>
                      <a:pt x="171" y="291"/>
                    </a:lnTo>
                    <a:lnTo>
                      <a:pt x="208" y="267"/>
                    </a:lnTo>
                    <a:lnTo>
                      <a:pt x="251" y="246"/>
                    </a:lnTo>
                    <a:lnTo>
                      <a:pt x="295" y="225"/>
                    </a:lnTo>
                    <a:lnTo>
                      <a:pt x="344" y="205"/>
                    </a:lnTo>
                    <a:lnTo>
                      <a:pt x="395" y="185"/>
                    </a:lnTo>
                    <a:lnTo>
                      <a:pt x="450" y="166"/>
                    </a:lnTo>
                    <a:lnTo>
                      <a:pt x="506" y="148"/>
                    </a:lnTo>
                    <a:lnTo>
                      <a:pt x="567" y="131"/>
                    </a:lnTo>
                    <a:lnTo>
                      <a:pt x="630" y="116"/>
                    </a:lnTo>
                    <a:lnTo>
                      <a:pt x="695" y="100"/>
                    </a:lnTo>
                    <a:lnTo>
                      <a:pt x="763" y="86"/>
                    </a:lnTo>
                    <a:lnTo>
                      <a:pt x="833" y="72"/>
                    </a:lnTo>
                    <a:lnTo>
                      <a:pt x="905" y="60"/>
                    </a:lnTo>
                    <a:lnTo>
                      <a:pt x="980" y="49"/>
                    </a:lnTo>
                    <a:lnTo>
                      <a:pt x="1057" y="39"/>
                    </a:lnTo>
                    <a:lnTo>
                      <a:pt x="1135" y="30"/>
                    </a:lnTo>
                    <a:lnTo>
                      <a:pt x="1215" y="22"/>
                    </a:lnTo>
                    <a:lnTo>
                      <a:pt x="1297" y="16"/>
                    </a:lnTo>
                    <a:lnTo>
                      <a:pt x="1381" y="10"/>
                    </a:lnTo>
                    <a:lnTo>
                      <a:pt x="1466" y="6"/>
                    </a:lnTo>
                    <a:lnTo>
                      <a:pt x="1553" y="3"/>
                    </a:lnTo>
                    <a:lnTo>
                      <a:pt x="1641" y="1"/>
                    </a:lnTo>
                    <a:lnTo>
                      <a:pt x="1729" y="0"/>
                    </a:lnTo>
                    <a:lnTo>
                      <a:pt x="1818" y="1"/>
                    </a:lnTo>
                    <a:lnTo>
                      <a:pt x="1906" y="3"/>
                    </a:lnTo>
                    <a:lnTo>
                      <a:pt x="1993" y="6"/>
                    </a:lnTo>
                    <a:lnTo>
                      <a:pt x="2078" y="10"/>
                    </a:lnTo>
                    <a:lnTo>
                      <a:pt x="2162" y="16"/>
                    </a:lnTo>
                    <a:lnTo>
                      <a:pt x="2244" y="22"/>
                    </a:lnTo>
                    <a:lnTo>
                      <a:pt x="2324" y="30"/>
                    </a:lnTo>
                    <a:lnTo>
                      <a:pt x="2403" y="39"/>
                    </a:lnTo>
                    <a:lnTo>
                      <a:pt x="2479" y="49"/>
                    </a:lnTo>
                    <a:lnTo>
                      <a:pt x="2554" y="60"/>
                    </a:lnTo>
                    <a:lnTo>
                      <a:pt x="2626" y="72"/>
                    </a:lnTo>
                    <a:lnTo>
                      <a:pt x="2696" y="86"/>
                    </a:lnTo>
                    <a:lnTo>
                      <a:pt x="2764" y="100"/>
                    </a:lnTo>
                    <a:lnTo>
                      <a:pt x="2829" y="116"/>
                    </a:lnTo>
                    <a:lnTo>
                      <a:pt x="2892" y="131"/>
                    </a:lnTo>
                    <a:lnTo>
                      <a:pt x="2952" y="148"/>
                    </a:lnTo>
                    <a:lnTo>
                      <a:pt x="3009" y="166"/>
                    </a:lnTo>
                    <a:lnTo>
                      <a:pt x="3064" y="185"/>
                    </a:lnTo>
                    <a:lnTo>
                      <a:pt x="3115" y="205"/>
                    </a:lnTo>
                    <a:lnTo>
                      <a:pt x="3164" y="225"/>
                    </a:lnTo>
                    <a:lnTo>
                      <a:pt x="3208" y="246"/>
                    </a:lnTo>
                    <a:lnTo>
                      <a:pt x="3250" y="267"/>
                    </a:lnTo>
                    <a:lnTo>
                      <a:pt x="3288" y="291"/>
                    </a:lnTo>
                    <a:lnTo>
                      <a:pt x="3323" y="314"/>
                    </a:lnTo>
                    <a:lnTo>
                      <a:pt x="3353" y="337"/>
                    </a:lnTo>
                    <a:lnTo>
                      <a:pt x="3381" y="361"/>
                    </a:lnTo>
                    <a:lnTo>
                      <a:pt x="3404" y="386"/>
                    </a:lnTo>
                    <a:lnTo>
                      <a:pt x="3424" y="413"/>
                    </a:lnTo>
                    <a:lnTo>
                      <a:pt x="3439" y="439"/>
                    </a:lnTo>
                    <a:lnTo>
                      <a:pt x="3450" y="465"/>
                    </a:lnTo>
                    <a:lnTo>
                      <a:pt x="3456" y="492"/>
                    </a:lnTo>
                    <a:lnTo>
                      <a:pt x="3458" y="5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099880" y="6514920"/>
                <a:ext cx="381240" cy="126360"/>
              </a:xfrm>
              <a:custGeom>
                <a:avLst/>
                <a:gdLst/>
                <a:ahLst/>
                <a:rect l="l" t="t" r="r" b="b"/>
                <a:pathLst>
                  <a:path w="3456" h="1056">
                    <a:moveTo>
                      <a:pt x="3456" y="519"/>
                    </a:moveTo>
                    <a:lnTo>
                      <a:pt x="3454" y="547"/>
                    </a:lnTo>
                    <a:lnTo>
                      <a:pt x="3447" y="574"/>
                    </a:lnTo>
                    <a:lnTo>
                      <a:pt x="3436" y="600"/>
                    </a:lnTo>
                    <a:lnTo>
                      <a:pt x="3421" y="627"/>
                    </a:lnTo>
                    <a:lnTo>
                      <a:pt x="3402" y="653"/>
                    </a:lnTo>
                    <a:lnTo>
                      <a:pt x="3379" y="678"/>
                    </a:lnTo>
                    <a:lnTo>
                      <a:pt x="3351" y="703"/>
                    </a:lnTo>
                    <a:lnTo>
                      <a:pt x="3320" y="728"/>
                    </a:lnTo>
                    <a:lnTo>
                      <a:pt x="3286" y="752"/>
                    </a:lnTo>
                    <a:lnTo>
                      <a:pt x="3247" y="775"/>
                    </a:lnTo>
                    <a:lnTo>
                      <a:pt x="3206" y="797"/>
                    </a:lnTo>
                    <a:lnTo>
                      <a:pt x="3162" y="819"/>
                    </a:lnTo>
                    <a:lnTo>
                      <a:pt x="3113" y="840"/>
                    </a:lnTo>
                    <a:lnTo>
                      <a:pt x="3062" y="861"/>
                    </a:lnTo>
                    <a:lnTo>
                      <a:pt x="3007" y="880"/>
                    </a:lnTo>
                    <a:lnTo>
                      <a:pt x="2950" y="898"/>
                    </a:lnTo>
                    <a:lnTo>
                      <a:pt x="2890" y="916"/>
                    </a:lnTo>
                    <a:lnTo>
                      <a:pt x="2827" y="934"/>
                    </a:lnTo>
                    <a:lnTo>
                      <a:pt x="2763" y="949"/>
                    </a:lnTo>
                    <a:lnTo>
                      <a:pt x="2695" y="964"/>
                    </a:lnTo>
                    <a:lnTo>
                      <a:pt x="2624" y="978"/>
                    </a:lnTo>
                    <a:lnTo>
                      <a:pt x="2553" y="991"/>
                    </a:lnTo>
                    <a:lnTo>
                      <a:pt x="2478" y="1003"/>
                    </a:lnTo>
                    <a:lnTo>
                      <a:pt x="2401" y="1013"/>
                    </a:lnTo>
                    <a:lnTo>
                      <a:pt x="2322" y="1023"/>
                    </a:lnTo>
                    <a:lnTo>
                      <a:pt x="2243" y="1031"/>
                    </a:lnTo>
                    <a:lnTo>
                      <a:pt x="2161" y="1039"/>
                    </a:lnTo>
                    <a:lnTo>
                      <a:pt x="2077" y="1045"/>
                    </a:lnTo>
                    <a:lnTo>
                      <a:pt x="1992" y="1050"/>
                    </a:lnTo>
                    <a:lnTo>
                      <a:pt x="1905" y="1053"/>
                    </a:lnTo>
                    <a:lnTo>
                      <a:pt x="1817" y="1055"/>
                    </a:lnTo>
                    <a:lnTo>
                      <a:pt x="1728" y="1056"/>
                    </a:lnTo>
                    <a:lnTo>
                      <a:pt x="1640" y="1055"/>
                    </a:lnTo>
                    <a:lnTo>
                      <a:pt x="1552" y="1053"/>
                    </a:lnTo>
                    <a:lnTo>
                      <a:pt x="1465" y="1050"/>
                    </a:lnTo>
                    <a:lnTo>
                      <a:pt x="1380" y="1045"/>
                    </a:lnTo>
                    <a:lnTo>
                      <a:pt x="1296" y="1039"/>
                    </a:lnTo>
                    <a:lnTo>
                      <a:pt x="1214" y="1031"/>
                    </a:lnTo>
                    <a:lnTo>
                      <a:pt x="1135" y="1023"/>
                    </a:lnTo>
                    <a:lnTo>
                      <a:pt x="1056" y="1013"/>
                    </a:lnTo>
                    <a:lnTo>
                      <a:pt x="979" y="1003"/>
                    </a:lnTo>
                    <a:lnTo>
                      <a:pt x="905" y="991"/>
                    </a:lnTo>
                    <a:lnTo>
                      <a:pt x="833" y="978"/>
                    </a:lnTo>
                    <a:lnTo>
                      <a:pt x="762" y="964"/>
                    </a:lnTo>
                    <a:lnTo>
                      <a:pt x="694" y="949"/>
                    </a:lnTo>
                    <a:lnTo>
                      <a:pt x="630" y="934"/>
                    </a:lnTo>
                    <a:lnTo>
                      <a:pt x="567" y="916"/>
                    </a:lnTo>
                    <a:lnTo>
                      <a:pt x="506" y="898"/>
                    </a:lnTo>
                    <a:lnTo>
                      <a:pt x="450" y="880"/>
                    </a:lnTo>
                    <a:lnTo>
                      <a:pt x="395" y="861"/>
                    </a:lnTo>
                    <a:lnTo>
                      <a:pt x="344" y="840"/>
                    </a:lnTo>
                    <a:lnTo>
                      <a:pt x="295" y="819"/>
                    </a:lnTo>
                    <a:lnTo>
                      <a:pt x="251" y="797"/>
                    </a:lnTo>
                    <a:lnTo>
                      <a:pt x="210" y="775"/>
                    </a:lnTo>
                    <a:lnTo>
                      <a:pt x="171" y="752"/>
                    </a:lnTo>
                    <a:lnTo>
                      <a:pt x="137" y="728"/>
                    </a:lnTo>
                    <a:lnTo>
                      <a:pt x="105" y="703"/>
                    </a:lnTo>
                    <a:lnTo>
                      <a:pt x="78" y="678"/>
                    </a:lnTo>
                    <a:lnTo>
                      <a:pt x="55" y="653"/>
                    </a:lnTo>
                    <a:lnTo>
                      <a:pt x="36" y="627"/>
                    </a:lnTo>
                    <a:lnTo>
                      <a:pt x="21" y="600"/>
                    </a:lnTo>
                    <a:lnTo>
                      <a:pt x="10" y="574"/>
                    </a:lnTo>
                    <a:lnTo>
                      <a:pt x="2" y="547"/>
                    </a:lnTo>
                    <a:lnTo>
                      <a:pt x="0" y="519"/>
                    </a:lnTo>
                    <a:lnTo>
                      <a:pt x="2" y="491"/>
                    </a:lnTo>
                    <a:lnTo>
                      <a:pt x="10" y="464"/>
                    </a:lnTo>
                    <a:lnTo>
                      <a:pt x="21" y="438"/>
                    </a:lnTo>
                    <a:lnTo>
                      <a:pt x="36" y="412"/>
                    </a:lnTo>
                    <a:lnTo>
                      <a:pt x="55" y="385"/>
                    </a:lnTo>
                    <a:lnTo>
                      <a:pt x="78" y="361"/>
                    </a:lnTo>
                    <a:lnTo>
                      <a:pt x="105" y="337"/>
                    </a:lnTo>
                    <a:lnTo>
                      <a:pt x="137" y="313"/>
                    </a:lnTo>
                    <a:lnTo>
                      <a:pt x="171" y="290"/>
                    </a:lnTo>
                    <a:lnTo>
                      <a:pt x="210" y="267"/>
                    </a:lnTo>
                    <a:lnTo>
                      <a:pt x="251" y="245"/>
                    </a:lnTo>
                    <a:lnTo>
                      <a:pt x="295" y="224"/>
                    </a:lnTo>
                    <a:lnTo>
                      <a:pt x="344" y="204"/>
                    </a:lnTo>
                    <a:lnTo>
                      <a:pt x="395" y="185"/>
                    </a:lnTo>
                    <a:lnTo>
                      <a:pt x="450" y="166"/>
                    </a:lnTo>
                    <a:lnTo>
                      <a:pt x="506" y="148"/>
                    </a:lnTo>
                    <a:lnTo>
                      <a:pt x="567" y="131"/>
                    </a:lnTo>
                    <a:lnTo>
                      <a:pt x="630" y="115"/>
                    </a:lnTo>
                    <a:lnTo>
                      <a:pt x="694" y="100"/>
                    </a:lnTo>
                    <a:lnTo>
                      <a:pt x="762" y="86"/>
                    </a:lnTo>
                    <a:lnTo>
                      <a:pt x="833" y="72"/>
                    </a:lnTo>
                    <a:lnTo>
                      <a:pt x="905" y="60"/>
                    </a:lnTo>
                    <a:lnTo>
                      <a:pt x="979" y="49"/>
                    </a:lnTo>
                    <a:lnTo>
                      <a:pt x="1056" y="39"/>
                    </a:lnTo>
                    <a:lnTo>
                      <a:pt x="1135" y="30"/>
                    </a:lnTo>
                    <a:lnTo>
                      <a:pt x="1214" y="22"/>
                    </a:lnTo>
                    <a:lnTo>
                      <a:pt x="1296" y="16"/>
                    </a:lnTo>
                    <a:lnTo>
                      <a:pt x="1380" y="10"/>
                    </a:lnTo>
                    <a:lnTo>
                      <a:pt x="1465" y="6"/>
                    </a:lnTo>
                    <a:lnTo>
                      <a:pt x="1552" y="2"/>
                    </a:lnTo>
                    <a:lnTo>
                      <a:pt x="1640" y="1"/>
                    </a:lnTo>
                    <a:lnTo>
                      <a:pt x="1728" y="0"/>
                    </a:lnTo>
                    <a:lnTo>
                      <a:pt x="1817" y="1"/>
                    </a:lnTo>
                    <a:lnTo>
                      <a:pt x="1905" y="2"/>
                    </a:lnTo>
                    <a:lnTo>
                      <a:pt x="1992" y="6"/>
                    </a:lnTo>
                    <a:lnTo>
                      <a:pt x="2077" y="10"/>
                    </a:lnTo>
                    <a:lnTo>
                      <a:pt x="2161" y="16"/>
                    </a:lnTo>
                    <a:lnTo>
                      <a:pt x="2243" y="22"/>
                    </a:lnTo>
                    <a:lnTo>
                      <a:pt x="2322" y="30"/>
                    </a:lnTo>
                    <a:lnTo>
                      <a:pt x="2401" y="39"/>
                    </a:lnTo>
                    <a:lnTo>
                      <a:pt x="2478" y="49"/>
                    </a:lnTo>
                    <a:lnTo>
                      <a:pt x="2553" y="60"/>
                    </a:lnTo>
                    <a:lnTo>
                      <a:pt x="2624" y="72"/>
                    </a:lnTo>
                    <a:lnTo>
                      <a:pt x="2695" y="86"/>
                    </a:lnTo>
                    <a:lnTo>
                      <a:pt x="2763" y="100"/>
                    </a:lnTo>
                    <a:lnTo>
                      <a:pt x="2827" y="115"/>
                    </a:lnTo>
                    <a:lnTo>
                      <a:pt x="2890" y="131"/>
                    </a:lnTo>
                    <a:lnTo>
                      <a:pt x="2950" y="148"/>
                    </a:lnTo>
                    <a:lnTo>
                      <a:pt x="3007" y="166"/>
                    </a:lnTo>
                    <a:lnTo>
                      <a:pt x="3062" y="185"/>
                    </a:lnTo>
                    <a:lnTo>
                      <a:pt x="3113" y="204"/>
                    </a:lnTo>
                    <a:lnTo>
                      <a:pt x="3162" y="224"/>
                    </a:lnTo>
                    <a:lnTo>
                      <a:pt x="3206" y="245"/>
                    </a:lnTo>
                    <a:lnTo>
                      <a:pt x="3247" y="267"/>
                    </a:lnTo>
                    <a:lnTo>
                      <a:pt x="3286" y="290"/>
                    </a:lnTo>
                    <a:lnTo>
                      <a:pt x="3320" y="313"/>
                    </a:lnTo>
                    <a:lnTo>
                      <a:pt x="3351" y="337"/>
                    </a:lnTo>
                    <a:lnTo>
                      <a:pt x="3379" y="361"/>
                    </a:lnTo>
                    <a:lnTo>
                      <a:pt x="3402" y="385"/>
                    </a:lnTo>
                    <a:lnTo>
                      <a:pt x="3421" y="412"/>
                    </a:lnTo>
                    <a:lnTo>
                      <a:pt x="3436" y="438"/>
                    </a:lnTo>
                    <a:lnTo>
                      <a:pt x="3447" y="464"/>
                    </a:lnTo>
                    <a:lnTo>
                      <a:pt x="3454" y="491"/>
                    </a:lnTo>
                    <a:lnTo>
                      <a:pt x="3456" y="5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099880" y="6514920"/>
                <a:ext cx="381240" cy="126360"/>
              </a:xfrm>
              <a:custGeom>
                <a:avLst/>
                <a:gdLst/>
                <a:ahLst/>
                <a:rect l="l" t="t" r="r" b="b"/>
                <a:pathLst>
                  <a:path w="3453" h="1054">
                    <a:moveTo>
                      <a:pt x="3453" y="518"/>
                    </a:moveTo>
                    <a:lnTo>
                      <a:pt x="3450" y="546"/>
                    </a:lnTo>
                    <a:lnTo>
                      <a:pt x="3444" y="573"/>
                    </a:lnTo>
                    <a:lnTo>
                      <a:pt x="3433" y="599"/>
                    </a:lnTo>
                    <a:lnTo>
                      <a:pt x="3418" y="626"/>
                    </a:lnTo>
                    <a:lnTo>
                      <a:pt x="3399" y="652"/>
                    </a:lnTo>
                    <a:lnTo>
                      <a:pt x="3376" y="677"/>
                    </a:lnTo>
                    <a:lnTo>
                      <a:pt x="3348" y="702"/>
                    </a:lnTo>
                    <a:lnTo>
                      <a:pt x="3317" y="727"/>
                    </a:lnTo>
                    <a:lnTo>
                      <a:pt x="3283" y="750"/>
                    </a:lnTo>
                    <a:lnTo>
                      <a:pt x="3244" y="773"/>
                    </a:lnTo>
                    <a:lnTo>
                      <a:pt x="3203" y="796"/>
                    </a:lnTo>
                    <a:lnTo>
                      <a:pt x="3159" y="817"/>
                    </a:lnTo>
                    <a:lnTo>
                      <a:pt x="3110" y="839"/>
                    </a:lnTo>
                    <a:lnTo>
                      <a:pt x="3059" y="859"/>
                    </a:lnTo>
                    <a:lnTo>
                      <a:pt x="3004" y="878"/>
                    </a:lnTo>
                    <a:lnTo>
                      <a:pt x="2947" y="897"/>
                    </a:lnTo>
                    <a:lnTo>
                      <a:pt x="2887" y="914"/>
                    </a:lnTo>
                    <a:lnTo>
                      <a:pt x="2824" y="932"/>
                    </a:lnTo>
                    <a:lnTo>
                      <a:pt x="2760" y="948"/>
                    </a:lnTo>
                    <a:lnTo>
                      <a:pt x="2692" y="962"/>
                    </a:lnTo>
                    <a:lnTo>
                      <a:pt x="2621" y="976"/>
                    </a:lnTo>
                    <a:lnTo>
                      <a:pt x="2550" y="989"/>
                    </a:lnTo>
                    <a:lnTo>
                      <a:pt x="2475" y="1001"/>
                    </a:lnTo>
                    <a:lnTo>
                      <a:pt x="2398" y="1011"/>
                    </a:lnTo>
                    <a:lnTo>
                      <a:pt x="2320" y="1021"/>
                    </a:lnTo>
                    <a:lnTo>
                      <a:pt x="2240" y="1029"/>
                    </a:lnTo>
                    <a:lnTo>
                      <a:pt x="2158" y="1036"/>
                    </a:lnTo>
                    <a:lnTo>
                      <a:pt x="2075" y="1043"/>
                    </a:lnTo>
                    <a:lnTo>
                      <a:pt x="1989" y="1048"/>
                    </a:lnTo>
                    <a:lnTo>
                      <a:pt x="1903" y="1051"/>
                    </a:lnTo>
                    <a:lnTo>
                      <a:pt x="1815" y="1053"/>
                    </a:lnTo>
                    <a:lnTo>
                      <a:pt x="1726" y="1054"/>
                    </a:lnTo>
                    <a:lnTo>
                      <a:pt x="1638" y="1053"/>
                    </a:lnTo>
                    <a:lnTo>
                      <a:pt x="1550" y="1051"/>
                    </a:lnTo>
                    <a:lnTo>
                      <a:pt x="1464" y="1048"/>
                    </a:lnTo>
                    <a:lnTo>
                      <a:pt x="1379" y="1043"/>
                    </a:lnTo>
                    <a:lnTo>
                      <a:pt x="1295" y="1036"/>
                    </a:lnTo>
                    <a:lnTo>
                      <a:pt x="1213" y="1029"/>
                    </a:lnTo>
                    <a:lnTo>
                      <a:pt x="1133" y="1021"/>
                    </a:lnTo>
                    <a:lnTo>
                      <a:pt x="1055" y="1011"/>
                    </a:lnTo>
                    <a:lnTo>
                      <a:pt x="978" y="1001"/>
                    </a:lnTo>
                    <a:lnTo>
                      <a:pt x="903" y="989"/>
                    </a:lnTo>
                    <a:lnTo>
                      <a:pt x="832" y="976"/>
                    </a:lnTo>
                    <a:lnTo>
                      <a:pt x="761" y="962"/>
                    </a:lnTo>
                    <a:lnTo>
                      <a:pt x="693" y="948"/>
                    </a:lnTo>
                    <a:lnTo>
                      <a:pt x="629" y="932"/>
                    </a:lnTo>
                    <a:lnTo>
                      <a:pt x="566" y="914"/>
                    </a:lnTo>
                    <a:lnTo>
                      <a:pt x="505" y="897"/>
                    </a:lnTo>
                    <a:lnTo>
                      <a:pt x="449" y="878"/>
                    </a:lnTo>
                    <a:lnTo>
                      <a:pt x="394" y="859"/>
                    </a:lnTo>
                    <a:lnTo>
                      <a:pt x="343" y="839"/>
                    </a:lnTo>
                    <a:lnTo>
                      <a:pt x="295" y="817"/>
                    </a:lnTo>
                    <a:lnTo>
                      <a:pt x="250" y="796"/>
                    </a:lnTo>
                    <a:lnTo>
                      <a:pt x="209" y="773"/>
                    </a:lnTo>
                    <a:lnTo>
                      <a:pt x="170" y="750"/>
                    </a:lnTo>
                    <a:lnTo>
                      <a:pt x="136" y="727"/>
                    </a:lnTo>
                    <a:lnTo>
                      <a:pt x="105" y="702"/>
                    </a:lnTo>
                    <a:lnTo>
                      <a:pt x="77" y="677"/>
                    </a:lnTo>
                    <a:lnTo>
                      <a:pt x="54" y="652"/>
                    </a:lnTo>
                    <a:lnTo>
                      <a:pt x="35" y="626"/>
                    </a:lnTo>
                    <a:lnTo>
                      <a:pt x="20" y="599"/>
                    </a:lnTo>
                    <a:lnTo>
                      <a:pt x="9" y="573"/>
                    </a:lnTo>
                    <a:lnTo>
                      <a:pt x="2" y="546"/>
                    </a:lnTo>
                    <a:lnTo>
                      <a:pt x="0" y="518"/>
                    </a:lnTo>
                    <a:lnTo>
                      <a:pt x="2" y="490"/>
                    </a:lnTo>
                    <a:lnTo>
                      <a:pt x="9" y="463"/>
                    </a:lnTo>
                    <a:lnTo>
                      <a:pt x="20" y="437"/>
                    </a:lnTo>
                    <a:lnTo>
                      <a:pt x="35" y="411"/>
                    </a:lnTo>
                    <a:lnTo>
                      <a:pt x="54" y="385"/>
                    </a:lnTo>
                    <a:lnTo>
                      <a:pt x="77" y="360"/>
                    </a:lnTo>
                    <a:lnTo>
                      <a:pt x="105" y="336"/>
                    </a:lnTo>
                    <a:lnTo>
                      <a:pt x="136" y="312"/>
                    </a:lnTo>
                    <a:lnTo>
                      <a:pt x="170" y="289"/>
                    </a:lnTo>
                    <a:lnTo>
                      <a:pt x="209" y="266"/>
                    </a:lnTo>
                    <a:lnTo>
                      <a:pt x="250" y="245"/>
                    </a:lnTo>
                    <a:lnTo>
                      <a:pt x="295" y="224"/>
                    </a:lnTo>
                    <a:lnTo>
                      <a:pt x="343" y="204"/>
                    </a:lnTo>
                    <a:lnTo>
                      <a:pt x="394" y="185"/>
                    </a:lnTo>
                    <a:lnTo>
                      <a:pt x="449" y="165"/>
                    </a:lnTo>
                    <a:lnTo>
                      <a:pt x="505" y="148"/>
                    </a:lnTo>
                    <a:lnTo>
                      <a:pt x="566" y="131"/>
                    </a:lnTo>
                    <a:lnTo>
                      <a:pt x="629" y="115"/>
                    </a:lnTo>
                    <a:lnTo>
                      <a:pt x="693" y="100"/>
                    </a:lnTo>
                    <a:lnTo>
                      <a:pt x="761" y="86"/>
                    </a:lnTo>
                    <a:lnTo>
                      <a:pt x="832" y="72"/>
                    </a:lnTo>
                    <a:lnTo>
                      <a:pt x="903" y="60"/>
                    </a:lnTo>
                    <a:lnTo>
                      <a:pt x="978" y="49"/>
                    </a:lnTo>
                    <a:lnTo>
                      <a:pt x="1055" y="39"/>
                    </a:lnTo>
                    <a:lnTo>
                      <a:pt x="1133" y="30"/>
                    </a:lnTo>
                    <a:lnTo>
                      <a:pt x="1213" y="22"/>
                    </a:lnTo>
                    <a:lnTo>
                      <a:pt x="1295" y="15"/>
                    </a:lnTo>
                    <a:lnTo>
                      <a:pt x="1379" y="10"/>
                    </a:lnTo>
                    <a:lnTo>
                      <a:pt x="1464" y="5"/>
                    </a:lnTo>
                    <a:lnTo>
                      <a:pt x="1550" y="2"/>
                    </a:lnTo>
                    <a:lnTo>
                      <a:pt x="1638" y="0"/>
                    </a:lnTo>
                    <a:lnTo>
                      <a:pt x="1726" y="0"/>
                    </a:lnTo>
                    <a:lnTo>
                      <a:pt x="1815" y="0"/>
                    </a:lnTo>
                    <a:lnTo>
                      <a:pt x="1903" y="2"/>
                    </a:lnTo>
                    <a:lnTo>
                      <a:pt x="1989" y="5"/>
                    </a:lnTo>
                    <a:lnTo>
                      <a:pt x="2075" y="10"/>
                    </a:lnTo>
                    <a:lnTo>
                      <a:pt x="2158" y="15"/>
                    </a:lnTo>
                    <a:lnTo>
                      <a:pt x="2240" y="22"/>
                    </a:lnTo>
                    <a:lnTo>
                      <a:pt x="2320" y="30"/>
                    </a:lnTo>
                    <a:lnTo>
                      <a:pt x="2398" y="39"/>
                    </a:lnTo>
                    <a:lnTo>
                      <a:pt x="2475" y="49"/>
                    </a:lnTo>
                    <a:lnTo>
                      <a:pt x="2550" y="60"/>
                    </a:lnTo>
                    <a:lnTo>
                      <a:pt x="2621" y="72"/>
                    </a:lnTo>
                    <a:lnTo>
                      <a:pt x="2692" y="86"/>
                    </a:lnTo>
                    <a:lnTo>
                      <a:pt x="2760" y="100"/>
                    </a:lnTo>
                    <a:lnTo>
                      <a:pt x="2824" y="115"/>
                    </a:lnTo>
                    <a:lnTo>
                      <a:pt x="2887" y="131"/>
                    </a:lnTo>
                    <a:lnTo>
                      <a:pt x="2947" y="148"/>
                    </a:lnTo>
                    <a:lnTo>
                      <a:pt x="3004" y="165"/>
                    </a:lnTo>
                    <a:lnTo>
                      <a:pt x="3059" y="185"/>
                    </a:lnTo>
                    <a:lnTo>
                      <a:pt x="3110" y="204"/>
                    </a:lnTo>
                    <a:lnTo>
                      <a:pt x="3159" y="224"/>
                    </a:lnTo>
                    <a:lnTo>
                      <a:pt x="3203" y="245"/>
                    </a:lnTo>
                    <a:lnTo>
                      <a:pt x="3244" y="266"/>
                    </a:lnTo>
                    <a:lnTo>
                      <a:pt x="3283" y="289"/>
                    </a:lnTo>
                    <a:lnTo>
                      <a:pt x="3317" y="312"/>
                    </a:lnTo>
                    <a:lnTo>
                      <a:pt x="3348" y="336"/>
                    </a:lnTo>
                    <a:lnTo>
                      <a:pt x="3376" y="360"/>
                    </a:lnTo>
                    <a:lnTo>
                      <a:pt x="3399" y="385"/>
                    </a:lnTo>
                    <a:lnTo>
                      <a:pt x="3418" y="411"/>
                    </a:lnTo>
                    <a:lnTo>
                      <a:pt x="3433" y="437"/>
                    </a:lnTo>
                    <a:lnTo>
                      <a:pt x="3444" y="463"/>
                    </a:lnTo>
                    <a:lnTo>
                      <a:pt x="3450" y="490"/>
                    </a:lnTo>
                    <a:lnTo>
                      <a:pt x="3453" y="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099880" y="6514920"/>
                <a:ext cx="381240" cy="126360"/>
              </a:xfrm>
              <a:custGeom>
                <a:avLst/>
                <a:gdLst/>
                <a:ahLst/>
                <a:rect l="l" t="t" r="r" b="b"/>
                <a:pathLst>
                  <a:path w="3450" h="1052">
                    <a:moveTo>
                      <a:pt x="3450" y="517"/>
                    </a:moveTo>
                    <a:lnTo>
                      <a:pt x="3448" y="545"/>
                    </a:lnTo>
                    <a:lnTo>
                      <a:pt x="3441" y="571"/>
                    </a:lnTo>
                    <a:lnTo>
                      <a:pt x="3430" y="598"/>
                    </a:lnTo>
                    <a:lnTo>
                      <a:pt x="3415" y="625"/>
                    </a:lnTo>
                    <a:lnTo>
                      <a:pt x="3396" y="651"/>
                    </a:lnTo>
                    <a:lnTo>
                      <a:pt x="3373" y="676"/>
                    </a:lnTo>
                    <a:lnTo>
                      <a:pt x="3345" y="700"/>
                    </a:lnTo>
                    <a:lnTo>
                      <a:pt x="3315" y="726"/>
                    </a:lnTo>
                    <a:lnTo>
                      <a:pt x="3281" y="749"/>
                    </a:lnTo>
                    <a:lnTo>
                      <a:pt x="3242" y="772"/>
                    </a:lnTo>
                    <a:lnTo>
                      <a:pt x="3201" y="794"/>
                    </a:lnTo>
                    <a:lnTo>
                      <a:pt x="3156" y="816"/>
                    </a:lnTo>
                    <a:lnTo>
                      <a:pt x="3108" y="837"/>
                    </a:lnTo>
                    <a:lnTo>
                      <a:pt x="3057" y="857"/>
                    </a:lnTo>
                    <a:lnTo>
                      <a:pt x="3002" y="877"/>
                    </a:lnTo>
                    <a:lnTo>
                      <a:pt x="2945" y="895"/>
                    </a:lnTo>
                    <a:lnTo>
                      <a:pt x="2885" y="913"/>
                    </a:lnTo>
                    <a:lnTo>
                      <a:pt x="2822" y="930"/>
                    </a:lnTo>
                    <a:lnTo>
                      <a:pt x="2758" y="946"/>
                    </a:lnTo>
                    <a:lnTo>
                      <a:pt x="2690" y="961"/>
                    </a:lnTo>
                    <a:lnTo>
                      <a:pt x="2620" y="974"/>
                    </a:lnTo>
                    <a:lnTo>
                      <a:pt x="2548" y="987"/>
                    </a:lnTo>
                    <a:lnTo>
                      <a:pt x="2474" y="999"/>
                    </a:lnTo>
                    <a:lnTo>
                      <a:pt x="2397" y="1010"/>
                    </a:lnTo>
                    <a:lnTo>
                      <a:pt x="2318" y="1019"/>
                    </a:lnTo>
                    <a:lnTo>
                      <a:pt x="2239" y="1027"/>
                    </a:lnTo>
                    <a:lnTo>
                      <a:pt x="2157" y="1035"/>
                    </a:lnTo>
                    <a:lnTo>
                      <a:pt x="2073" y="1041"/>
                    </a:lnTo>
                    <a:lnTo>
                      <a:pt x="1988" y="1046"/>
                    </a:lnTo>
                    <a:lnTo>
                      <a:pt x="1902" y="1049"/>
                    </a:lnTo>
                    <a:lnTo>
                      <a:pt x="1814" y="1052"/>
                    </a:lnTo>
                    <a:lnTo>
                      <a:pt x="1725" y="1052"/>
                    </a:lnTo>
                    <a:lnTo>
                      <a:pt x="1637" y="1052"/>
                    </a:lnTo>
                    <a:lnTo>
                      <a:pt x="1549" y="1049"/>
                    </a:lnTo>
                    <a:lnTo>
                      <a:pt x="1463" y="1046"/>
                    </a:lnTo>
                    <a:lnTo>
                      <a:pt x="1378" y="1041"/>
                    </a:lnTo>
                    <a:lnTo>
                      <a:pt x="1294" y="1035"/>
                    </a:lnTo>
                    <a:lnTo>
                      <a:pt x="1212" y="1027"/>
                    </a:lnTo>
                    <a:lnTo>
                      <a:pt x="1133" y="1019"/>
                    </a:lnTo>
                    <a:lnTo>
                      <a:pt x="1054" y="1010"/>
                    </a:lnTo>
                    <a:lnTo>
                      <a:pt x="978" y="999"/>
                    </a:lnTo>
                    <a:lnTo>
                      <a:pt x="903" y="987"/>
                    </a:lnTo>
                    <a:lnTo>
                      <a:pt x="831" y="974"/>
                    </a:lnTo>
                    <a:lnTo>
                      <a:pt x="761" y="961"/>
                    </a:lnTo>
                    <a:lnTo>
                      <a:pt x="693" y="946"/>
                    </a:lnTo>
                    <a:lnTo>
                      <a:pt x="629" y="930"/>
                    </a:lnTo>
                    <a:lnTo>
                      <a:pt x="566" y="913"/>
                    </a:lnTo>
                    <a:lnTo>
                      <a:pt x="505" y="895"/>
                    </a:lnTo>
                    <a:lnTo>
                      <a:pt x="449" y="877"/>
                    </a:lnTo>
                    <a:lnTo>
                      <a:pt x="394" y="857"/>
                    </a:lnTo>
                    <a:lnTo>
                      <a:pt x="343" y="837"/>
                    </a:lnTo>
                    <a:lnTo>
                      <a:pt x="295" y="816"/>
                    </a:lnTo>
                    <a:lnTo>
                      <a:pt x="250" y="794"/>
                    </a:lnTo>
                    <a:lnTo>
                      <a:pt x="209" y="772"/>
                    </a:lnTo>
                    <a:lnTo>
                      <a:pt x="170" y="749"/>
                    </a:lnTo>
                    <a:lnTo>
                      <a:pt x="136" y="726"/>
                    </a:lnTo>
                    <a:lnTo>
                      <a:pt x="106" y="700"/>
                    </a:lnTo>
                    <a:lnTo>
                      <a:pt x="78" y="676"/>
                    </a:lnTo>
                    <a:lnTo>
                      <a:pt x="55" y="651"/>
                    </a:lnTo>
                    <a:lnTo>
                      <a:pt x="36" y="625"/>
                    </a:lnTo>
                    <a:lnTo>
                      <a:pt x="21" y="598"/>
                    </a:lnTo>
                    <a:lnTo>
                      <a:pt x="10" y="571"/>
                    </a:lnTo>
                    <a:lnTo>
                      <a:pt x="3" y="545"/>
                    </a:lnTo>
                    <a:lnTo>
                      <a:pt x="0" y="517"/>
                    </a:lnTo>
                    <a:lnTo>
                      <a:pt x="3" y="489"/>
                    </a:lnTo>
                    <a:lnTo>
                      <a:pt x="10" y="462"/>
                    </a:lnTo>
                    <a:lnTo>
                      <a:pt x="21" y="436"/>
                    </a:lnTo>
                    <a:lnTo>
                      <a:pt x="36" y="410"/>
                    </a:lnTo>
                    <a:lnTo>
                      <a:pt x="55" y="384"/>
                    </a:lnTo>
                    <a:lnTo>
                      <a:pt x="78" y="359"/>
                    </a:lnTo>
                    <a:lnTo>
                      <a:pt x="106" y="335"/>
                    </a:lnTo>
                    <a:lnTo>
                      <a:pt x="136" y="312"/>
                    </a:lnTo>
                    <a:lnTo>
                      <a:pt x="170" y="289"/>
                    </a:lnTo>
                    <a:lnTo>
                      <a:pt x="209" y="266"/>
                    </a:lnTo>
                    <a:lnTo>
                      <a:pt x="250" y="244"/>
                    </a:lnTo>
                    <a:lnTo>
                      <a:pt x="295" y="223"/>
                    </a:lnTo>
                    <a:lnTo>
                      <a:pt x="343" y="203"/>
                    </a:lnTo>
                    <a:lnTo>
                      <a:pt x="394" y="184"/>
                    </a:lnTo>
                    <a:lnTo>
                      <a:pt x="449" y="165"/>
                    </a:lnTo>
                    <a:lnTo>
                      <a:pt x="505" y="147"/>
                    </a:lnTo>
                    <a:lnTo>
                      <a:pt x="566" y="131"/>
                    </a:lnTo>
                    <a:lnTo>
                      <a:pt x="629" y="115"/>
                    </a:lnTo>
                    <a:lnTo>
                      <a:pt x="693" y="100"/>
                    </a:lnTo>
                    <a:lnTo>
                      <a:pt x="761" y="86"/>
                    </a:lnTo>
                    <a:lnTo>
                      <a:pt x="831" y="72"/>
                    </a:lnTo>
                    <a:lnTo>
                      <a:pt x="903" y="60"/>
                    </a:lnTo>
                    <a:lnTo>
                      <a:pt x="978" y="49"/>
                    </a:lnTo>
                    <a:lnTo>
                      <a:pt x="1054" y="39"/>
                    </a:lnTo>
                    <a:lnTo>
                      <a:pt x="1133" y="30"/>
                    </a:lnTo>
                    <a:lnTo>
                      <a:pt x="1212" y="22"/>
                    </a:lnTo>
                    <a:lnTo>
                      <a:pt x="1294" y="15"/>
                    </a:lnTo>
                    <a:lnTo>
                      <a:pt x="1378" y="10"/>
                    </a:lnTo>
                    <a:lnTo>
                      <a:pt x="1463" y="5"/>
                    </a:lnTo>
                    <a:lnTo>
                      <a:pt x="1549" y="2"/>
                    </a:lnTo>
                    <a:lnTo>
                      <a:pt x="1637" y="0"/>
                    </a:lnTo>
                    <a:lnTo>
                      <a:pt x="1725" y="0"/>
                    </a:lnTo>
                    <a:lnTo>
                      <a:pt x="1814" y="0"/>
                    </a:lnTo>
                    <a:lnTo>
                      <a:pt x="1902" y="2"/>
                    </a:lnTo>
                    <a:lnTo>
                      <a:pt x="1988" y="5"/>
                    </a:lnTo>
                    <a:lnTo>
                      <a:pt x="2073" y="10"/>
                    </a:lnTo>
                    <a:lnTo>
                      <a:pt x="2157" y="15"/>
                    </a:lnTo>
                    <a:lnTo>
                      <a:pt x="2239" y="22"/>
                    </a:lnTo>
                    <a:lnTo>
                      <a:pt x="2318" y="30"/>
                    </a:lnTo>
                    <a:lnTo>
                      <a:pt x="2397" y="39"/>
                    </a:lnTo>
                    <a:lnTo>
                      <a:pt x="2474" y="49"/>
                    </a:lnTo>
                    <a:lnTo>
                      <a:pt x="2548" y="60"/>
                    </a:lnTo>
                    <a:lnTo>
                      <a:pt x="2620" y="72"/>
                    </a:lnTo>
                    <a:lnTo>
                      <a:pt x="2690" y="86"/>
                    </a:lnTo>
                    <a:lnTo>
                      <a:pt x="2758" y="100"/>
                    </a:lnTo>
                    <a:lnTo>
                      <a:pt x="2822" y="115"/>
                    </a:lnTo>
                    <a:lnTo>
                      <a:pt x="2885" y="131"/>
                    </a:lnTo>
                    <a:lnTo>
                      <a:pt x="2945" y="147"/>
                    </a:lnTo>
                    <a:lnTo>
                      <a:pt x="3002" y="165"/>
                    </a:lnTo>
                    <a:lnTo>
                      <a:pt x="3057" y="184"/>
                    </a:lnTo>
                    <a:lnTo>
                      <a:pt x="3108" y="203"/>
                    </a:lnTo>
                    <a:lnTo>
                      <a:pt x="3156" y="223"/>
                    </a:lnTo>
                    <a:lnTo>
                      <a:pt x="3201" y="244"/>
                    </a:lnTo>
                    <a:lnTo>
                      <a:pt x="3242" y="266"/>
                    </a:lnTo>
                    <a:lnTo>
                      <a:pt x="3281" y="289"/>
                    </a:lnTo>
                    <a:lnTo>
                      <a:pt x="3315" y="312"/>
                    </a:lnTo>
                    <a:lnTo>
                      <a:pt x="3345" y="335"/>
                    </a:lnTo>
                    <a:lnTo>
                      <a:pt x="3373" y="359"/>
                    </a:lnTo>
                    <a:lnTo>
                      <a:pt x="3396" y="384"/>
                    </a:lnTo>
                    <a:lnTo>
                      <a:pt x="3415" y="410"/>
                    </a:lnTo>
                    <a:lnTo>
                      <a:pt x="3430" y="436"/>
                    </a:lnTo>
                    <a:lnTo>
                      <a:pt x="3441" y="462"/>
                    </a:lnTo>
                    <a:lnTo>
                      <a:pt x="3448" y="489"/>
                    </a:lnTo>
                    <a:lnTo>
                      <a:pt x="3450" y="5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099880" y="6514920"/>
                <a:ext cx="381240" cy="126360"/>
              </a:xfrm>
              <a:custGeom>
                <a:avLst/>
                <a:gdLst/>
                <a:ahLst/>
                <a:rect l="l" t="t" r="r" b="b"/>
                <a:pathLst>
                  <a:path w="3448" h="1050">
                    <a:moveTo>
                      <a:pt x="3448" y="516"/>
                    </a:moveTo>
                    <a:lnTo>
                      <a:pt x="3445" y="544"/>
                    </a:lnTo>
                    <a:lnTo>
                      <a:pt x="3439" y="570"/>
                    </a:lnTo>
                    <a:lnTo>
                      <a:pt x="3428" y="597"/>
                    </a:lnTo>
                    <a:lnTo>
                      <a:pt x="3413" y="624"/>
                    </a:lnTo>
                    <a:lnTo>
                      <a:pt x="3394" y="650"/>
                    </a:lnTo>
                    <a:lnTo>
                      <a:pt x="3371" y="675"/>
                    </a:lnTo>
                    <a:lnTo>
                      <a:pt x="3343" y="699"/>
                    </a:lnTo>
                    <a:lnTo>
                      <a:pt x="3313" y="724"/>
                    </a:lnTo>
                    <a:lnTo>
                      <a:pt x="3278" y="748"/>
                    </a:lnTo>
                    <a:lnTo>
                      <a:pt x="3240" y="770"/>
                    </a:lnTo>
                    <a:lnTo>
                      <a:pt x="3199" y="793"/>
                    </a:lnTo>
                    <a:lnTo>
                      <a:pt x="3154" y="814"/>
                    </a:lnTo>
                    <a:lnTo>
                      <a:pt x="3106" y="836"/>
                    </a:lnTo>
                    <a:lnTo>
                      <a:pt x="3055" y="856"/>
                    </a:lnTo>
                    <a:lnTo>
                      <a:pt x="3000" y="875"/>
                    </a:lnTo>
                    <a:lnTo>
                      <a:pt x="2943" y="893"/>
                    </a:lnTo>
                    <a:lnTo>
                      <a:pt x="2883" y="911"/>
                    </a:lnTo>
                    <a:lnTo>
                      <a:pt x="2821" y="929"/>
                    </a:lnTo>
                    <a:lnTo>
                      <a:pt x="2756" y="944"/>
                    </a:lnTo>
                    <a:lnTo>
                      <a:pt x="2688" y="959"/>
                    </a:lnTo>
                    <a:lnTo>
                      <a:pt x="2618" y="973"/>
                    </a:lnTo>
                    <a:lnTo>
                      <a:pt x="2546" y="985"/>
                    </a:lnTo>
                    <a:lnTo>
                      <a:pt x="2472" y="997"/>
                    </a:lnTo>
                    <a:lnTo>
                      <a:pt x="2395" y="1008"/>
                    </a:lnTo>
                    <a:lnTo>
                      <a:pt x="2317" y="1017"/>
                    </a:lnTo>
                    <a:lnTo>
                      <a:pt x="2238" y="1026"/>
                    </a:lnTo>
                    <a:lnTo>
                      <a:pt x="2156" y="1033"/>
                    </a:lnTo>
                    <a:lnTo>
                      <a:pt x="2072" y="1040"/>
                    </a:lnTo>
                    <a:lnTo>
                      <a:pt x="1987" y="1044"/>
                    </a:lnTo>
                    <a:lnTo>
                      <a:pt x="1901" y="1048"/>
                    </a:lnTo>
                    <a:lnTo>
                      <a:pt x="1813" y="1050"/>
                    </a:lnTo>
                    <a:lnTo>
                      <a:pt x="1724" y="1050"/>
                    </a:lnTo>
                    <a:lnTo>
                      <a:pt x="1636" y="1050"/>
                    </a:lnTo>
                    <a:lnTo>
                      <a:pt x="1549" y="1048"/>
                    </a:lnTo>
                    <a:lnTo>
                      <a:pt x="1462" y="1044"/>
                    </a:lnTo>
                    <a:lnTo>
                      <a:pt x="1377" y="1040"/>
                    </a:lnTo>
                    <a:lnTo>
                      <a:pt x="1294" y="1033"/>
                    </a:lnTo>
                    <a:lnTo>
                      <a:pt x="1212" y="1026"/>
                    </a:lnTo>
                    <a:lnTo>
                      <a:pt x="1132" y="1017"/>
                    </a:lnTo>
                    <a:lnTo>
                      <a:pt x="1054" y="1008"/>
                    </a:lnTo>
                    <a:lnTo>
                      <a:pt x="977" y="997"/>
                    </a:lnTo>
                    <a:lnTo>
                      <a:pt x="903" y="985"/>
                    </a:lnTo>
                    <a:lnTo>
                      <a:pt x="831" y="973"/>
                    </a:lnTo>
                    <a:lnTo>
                      <a:pt x="761" y="959"/>
                    </a:lnTo>
                    <a:lnTo>
                      <a:pt x="693" y="944"/>
                    </a:lnTo>
                    <a:lnTo>
                      <a:pt x="628" y="929"/>
                    </a:lnTo>
                    <a:lnTo>
                      <a:pt x="566" y="911"/>
                    </a:lnTo>
                    <a:lnTo>
                      <a:pt x="505" y="893"/>
                    </a:lnTo>
                    <a:lnTo>
                      <a:pt x="449" y="875"/>
                    </a:lnTo>
                    <a:lnTo>
                      <a:pt x="394" y="856"/>
                    </a:lnTo>
                    <a:lnTo>
                      <a:pt x="343" y="836"/>
                    </a:lnTo>
                    <a:lnTo>
                      <a:pt x="295" y="814"/>
                    </a:lnTo>
                    <a:lnTo>
                      <a:pt x="251" y="793"/>
                    </a:lnTo>
                    <a:lnTo>
                      <a:pt x="209" y="770"/>
                    </a:lnTo>
                    <a:lnTo>
                      <a:pt x="171" y="748"/>
                    </a:lnTo>
                    <a:lnTo>
                      <a:pt x="137" y="724"/>
                    </a:lnTo>
                    <a:lnTo>
                      <a:pt x="106" y="699"/>
                    </a:lnTo>
                    <a:lnTo>
                      <a:pt x="78" y="675"/>
                    </a:lnTo>
                    <a:lnTo>
                      <a:pt x="55" y="650"/>
                    </a:lnTo>
                    <a:lnTo>
                      <a:pt x="36" y="624"/>
                    </a:lnTo>
                    <a:lnTo>
                      <a:pt x="21" y="597"/>
                    </a:lnTo>
                    <a:lnTo>
                      <a:pt x="10" y="570"/>
                    </a:lnTo>
                    <a:lnTo>
                      <a:pt x="4" y="544"/>
                    </a:lnTo>
                    <a:lnTo>
                      <a:pt x="0" y="516"/>
                    </a:lnTo>
                    <a:lnTo>
                      <a:pt x="4" y="488"/>
                    </a:lnTo>
                    <a:lnTo>
                      <a:pt x="10" y="461"/>
                    </a:lnTo>
                    <a:lnTo>
                      <a:pt x="21" y="435"/>
                    </a:lnTo>
                    <a:lnTo>
                      <a:pt x="36" y="409"/>
                    </a:lnTo>
                    <a:lnTo>
                      <a:pt x="55" y="383"/>
                    </a:lnTo>
                    <a:lnTo>
                      <a:pt x="78" y="359"/>
                    </a:lnTo>
                    <a:lnTo>
                      <a:pt x="106" y="335"/>
                    </a:lnTo>
                    <a:lnTo>
                      <a:pt x="137" y="311"/>
                    </a:lnTo>
                    <a:lnTo>
                      <a:pt x="171" y="288"/>
                    </a:lnTo>
                    <a:lnTo>
                      <a:pt x="209" y="265"/>
                    </a:lnTo>
                    <a:lnTo>
                      <a:pt x="251" y="244"/>
                    </a:lnTo>
                    <a:lnTo>
                      <a:pt x="295" y="223"/>
                    </a:lnTo>
                    <a:lnTo>
                      <a:pt x="343" y="203"/>
                    </a:lnTo>
                    <a:lnTo>
                      <a:pt x="394" y="184"/>
                    </a:lnTo>
                    <a:lnTo>
                      <a:pt x="449" y="164"/>
                    </a:lnTo>
                    <a:lnTo>
                      <a:pt x="505" y="147"/>
                    </a:lnTo>
                    <a:lnTo>
                      <a:pt x="566" y="130"/>
                    </a:lnTo>
                    <a:lnTo>
                      <a:pt x="628" y="114"/>
                    </a:lnTo>
                    <a:lnTo>
                      <a:pt x="693" y="99"/>
                    </a:lnTo>
                    <a:lnTo>
                      <a:pt x="761" y="86"/>
                    </a:lnTo>
                    <a:lnTo>
                      <a:pt x="831" y="73"/>
                    </a:lnTo>
                    <a:lnTo>
                      <a:pt x="903" y="59"/>
                    </a:lnTo>
                    <a:lnTo>
                      <a:pt x="977" y="48"/>
                    </a:lnTo>
                    <a:lnTo>
                      <a:pt x="1054" y="39"/>
                    </a:lnTo>
                    <a:lnTo>
                      <a:pt x="1132" y="30"/>
                    </a:lnTo>
                    <a:lnTo>
                      <a:pt x="1212" y="22"/>
                    </a:lnTo>
                    <a:lnTo>
                      <a:pt x="1294" y="15"/>
                    </a:lnTo>
                    <a:lnTo>
                      <a:pt x="1377" y="10"/>
                    </a:lnTo>
                    <a:lnTo>
                      <a:pt x="1462" y="5"/>
                    </a:lnTo>
                    <a:lnTo>
                      <a:pt x="1549" y="2"/>
                    </a:lnTo>
                    <a:lnTo>
                      <a:pt x="1636" y="0"/>
                    </a:lnTo>
                    <a:lnTo>
                      <a:pt x="1724" y="0"/>
                    </a:lnTo>
                    <a:lnTo>
                      <a:pt x="1813" y="0"/>
                    </a:lnTo>
                    <a:lnTo>
                      <a:pt x="1901" y="2"/>
                    </a:lnTo>
                    <a:lnTo>
                      <a:pt x="1987" y="5"/>
                    </a:lnTo>
                    <a:lnTo>
                      <a:pt x="2072" y="10"/>
                    </a:lnTo>
                    <a:lnTo>
                      <a:pt x="2156" y="15"/>
                    </a:lnTo>
                    <a:lnTo>
                      <a:pt x="2238" y="22"/>
                    </a:lnTo>
                    <a:lnTo>
                      <a:pt x="2317" y="30"/>
                    </a:lnTo>
                    <a:lnTo>
                      <a:pt x="2395" y="39"/>
                    </a:lnTo>
                    <a:lnTo>
                      <a:pt x="2472" y="48"/>
                    </a:lnTo>
                    <a:lnTo>
                      <a:pt x="2546" y="59"/>
                    </a:lnTo>
                    <a:lnTo>
                      <a:pt x="2618" y="73"/>
                    </a:lnTo>
                    <a:lnTo>
                      <a:pt x="2688" y="86"/>
                    </a:lnTo>
                    <a:lnTo>
                      <a:pt x="2756" y="99"/>
                    </a:lnTo>
                    <a:lnTo>
                      <a:pt x="2821" y="114"/>
                    </a:lnTo>
                    <a:lnTo>
                      <a:pt x="2883" y="130"/>
                    </a:lnTo>
                    <a:lnTo>
                      <a:pt x="2943" y="147"/>
                    </a:lnTo>
                    <a:lnTo>
                      <a:pt x="3000" y="164"/>
                    </a:lnTo>
                    <a:lnTo>
                      <a:pt x="3055" y="184"/>
                    </a:lnTo>
                    <a:lnTo>
                      <a:pt x="3106" y="203"/>
                    </a:lnTo>
                    <a:lnTo>
                      <a:pt x="3154" y="223"/>
                    </a:lnTo>
                    <a:lnTo>
                      <a:pt x="3199" y="244"/>
                    </a:lnTo>
                    <a:lnTo>
                      <a:pt x="3240" y="265"/>
                    </a:lnTo>
                    <a:lnTo>
                      <a:pt x="3278" y="288"/>
                    </a:lnTo>
                    <a:lnTo>
                      <a:pt x="3313" y="311"/>
                    </a:lnTo>
                    <a:lnTo>
                      <a:pt x="3343" y="335"/>
                    </a:lnTo>
                    <a:lnTo>
                      <a:pt x="3371" y="359"/>
                    </a:lnTo>
                    <a:lnTo>
                      <a:pt x="3394" y="383"/>
                    </a:lnTo>
                    <a:lnTo>
                      <a:pt x="3413" y="409"/>
                    </a:lnTo>
                    <a:lnTo>
                      <a:pt x="3428" y="435"/>
                    </a:lnTo>
                    <a:lnTo>
                      <a:pt x="3439" y="461"/>
                    </a:lnTo>
                    <a:lnTo>
                      <a:pt x="3445" y="488"/>
                    </a:lnTo>
                    <a:lnTo>
                      <a:pt x="3448" y="5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099880" y="6514920"/>
                <a:ext cx="379800" cy="124560"/>
              </a:xfrm>
              <a:custGeom>
                <a:avLst/>
                <a:gdLst/>
                <a:ahLst/>
                <a:rect l="l" t="t" r="r" b="b"/>
                <a:pathLst>
                  <a:path w="3443" h="1048">
                    <a:moveTo>
                      <a:pt x="3443" y="515"/>
                    </a:moveTo>
                    <a:lnTo>
                      <a:pt x="3441" y="542"/>
                    </a:lnTo>
                    <a:lnTo>
                      <a:pt x="3434" y="569"/>
                    </a:lnTo>
                    <a:lnTo>
                      <a:pt x="3424" y="596"/>
                    </a:lnTo>
                    <a:lnTo>
                      <a:pt x="3409" y="623"/>
                    </a:lnTo>
                    <a:lnTo>
                      <a:pt x="3390" y="648"/>
                    </a:lnTo>
                    <a:lnTo>
                      <a:pt x="3367" y="673"/>
                    </a:lnTo>
                    <a:lnTo>
                      <a:pt x="3339" y="698"/>
                    </a:lnTo>
                    <a:lnTo>
                      <a:pt x="3308" y="723"/>
                    </a:lnTo>
                    <a:lnTo>
                      <a:pt x="3274" y="746"/>
                    </a:lnTo>
                    <a:lnTo>
                      <a:pt x="3235" y="769"/>
                    </a:lnTo>
                    <a:lnTo>
                      <a:pt x="3194" y="791"/>
                    </a:lnTo>
                    <a:lnTo>
                      <a:pt x="3150" y="813"/>
                    </a:lnTo>
                    <a:lnTo>
                      <a:pt x="3101" y="834"/>
                    </a:lnTo>
                    <a:lnTo>
                      <a:pt x="3051" y="854"/>
                    </a:lnTo>
                    <a:lnTo>
                      <a:pt x="2996" y="873"/>
                    </a:lnTo>
                    <a:lnTo>
                      <a:pt x="2939" y="892"/>
                    </a:lnTo>
                    <a:lnTo>
                      <a:pt x="2880" y="909"/>
                    </a:lnTo>
                    <a:lnTo>
                      <a:pt x="2817" y="926"/>
                    </a:lnTo>
                    <a:lnTo>
                      <a:pt x="2752" y="942"/>
                    </a:lnTo>
                    <a:lnTo>
                      <a:pt x="2684" y="957"/>
                    </a:lnTo>
                    <a:lnTo>
                      <a:pt x="2614" y="971"/>
                    </a:lnTo>
                    <a:lnTo>
                      <a:pt x="2543" y="984"/>
                    </a:lnTo>
                    <a:lnTo>
                      <a:pt x="2468" y="995"/>
                    </a:lnTo>
                    <a:lnTo>
                      <a:pt x="2392" y="1006"/>
                    </a:lnTo>
                    <a:lnTo>
                      <a:pt x="2313" y="1015"/>
                    </a:lnTo>
                    <a:lnTo>
                      <a:pt x="2233" y="1024"/>
                    </a:lnTo>
                    <a:lnTo>
                      <a:pt x="2152" y="1031"/>
                    </a:lnTo>
                    <a:lnTo>
                      <a:pt x="2069" y="1038"/>
                    </a:lnTo>
                    <a:lnTo>
                      <a:pt x="1984" y="1042"/>
                    </a:lnTo>
                    <a:lnTo>
                      <a:pt x="1897" y="1046"/>
                    </a:lnTo>
                    <a:lnTo>
                      <a:pt x="1810" y="1048"/>
                    </a:lnTo>
                    <a:lnTo>
                      <a:pt x="1721" y="1048"/>
                    </a:lnTo>
                    <a:lnTo>
                      <a:pt x="1633" y="1048"/>
                    </a:lnTo>
                    <a:lnTo>
                      <a:pt x="1546" y="1046"/>
                    </a:lnTo>
                    <a:lnTo>
                      <a:pt x="1459" y="1042"/>
                    </a:lnTo>
                    <a:lnTo>
                      <a:pt x="1374" y="1038"/>
                    </a:lnTo>
                    <a:lnTo>
                      <a:pt x="1291" y="1031"/>
                    </a:lnTo>
                    <a:lnTo>
                      <a:pt x="1209" y="1024"/>
                    </a:lnTo>
                    <a:lnTo>
                      <a:pt x="1130" y="1015"/>
                    </a:lnTo>
                    <a:lnTo>
                      <a:pt x="1051" y="1006"/>
                    </a:lnTo>
                    <a:lnTo>
                      <a:pt x="975" y="995"/>
                    </a:lnTo>
                    <a:lnTo>
                      <a:pt x="900" y="984"/>
                    </a:lnTo>
                    <a:lnTo>
                      <a:pt x="829" y="971"/>
                    </a:lnTo>
                    <a:lnTo>
                      <a:pt x="759" y="957"/>
                    </a:lnTo>
                    <a:lnTo>
                      <a:pt x="691" y="942"/>
                    </a:lnTo>
                    <a:lnTo>
                      <a:pt x="626" y="926"/>
                    </a:lnTo>
                    <a:lnTo>
                      <a:pt x="564" y="909"/>
                    </a:lnTo>
                    <a:lnTo>
                      <a:pt x="503" y="892"/>
                    </a:lnTo>
                    <a:lnTo>
                      <a:pt x="447" y="873"/>
                    </a:lnTo>
                    <a:lnTo>
                      <a:pt x="392" y="854"/>
                    </a:lnTo>
                    <a:lnTo>
                      <a:pt x="342" y="834"/>
                    </a:lnTo>
                    <a:lnTo>
                      <a:pt x="293" y="813"/>
                    </a:lnTo>
                    <a:lnTo>
                      <a:pt x="249" y="791"/>
                    </a:lnTo>
                    <a:lnTo>
                      <a:pt x="208" y="769"/>
                    </a:lnTo>
                    <a:lnTo>
                      <a:pt x="169" y="746"/>
                    </a:lnTo>
                    <a:lnTo>
                      <a:pt x="135" y="723"/>
                    </a:lnTo>
                    <a:lnTo>
                      <a:pt x="104" y="698"/>
                    </a:lnTo>
                    <a:lnTo>
                      <a:pt x="77" y="673"/>
                    </a:lnTo>
                    <a:lnTo>
                      <a:pt x="54" y="648"/>
                    </a:lnTo>
                    <a:lnTo>
                      <a:pt x="35" y="623"/>
                    </a:lnTo>
                    <a:lnTo>
                      <a:pt x="20" y="596"/>
                    </a:lnTo>
                    <a:lnTo>
                      <a:pt x="9" y="569"/>
                    </a:lnTo>
                    <a:lnTo>
                      <a:pt x="2" y="542"/>
                    </a:lnTo>
                    <a:lnTo>
                      <a:pt x="0" y="515"/>
                    </a:lnTo>
                    <a:lnTo>
                      <a:pt x="2" y="487"/>
                    </a:lnTo>
                    <a:lnTo>
                      <a:pt x="9" y="460"/>
                    </a:lnTo>
                    <a:lnTo>
                      <a:pt x="20" y="434"/>
                    </a:lnTo>
                    <a:lnTo>
                      <a:pt x="35" y="409"/>
                    </a:lnTo>
                    <a:lnTo>
                      <a:pt x="54" y="382"/>
                    </a:lnTo>
                    <a:lnTo>
                      <a:pt x="77" y="358"/>
                    </a:lnTo>
                    <a:lnTo>
                      <a:pt x="104" y="334"/>
                    </a:lnTo>
                    <a:lnTo>
                      <a:pt x="135" y="310"/>
                    </a:lnTo>
                    <a:lnTo>
                      <a:pt x="169" y="288"/>
                    </a:lnTo>
                    <a:lnTo>
                      <a:pt x="208" y="265"/>
                    </a:lnTo>
                    <a:lnTo>
                      <a:pt x="249" y="243"/>
                    </a:lnTo>
                    <a:lnTo>
                      <a:pt x="293" y="223"/>
                    </a:lnTo>
                    <a:lnTo>
                      <a:pt x="342" y="203"/>
                    </a:lnTo>
                    <a:lnTo>
                      <a:pt x="392" y="183"/>
                    </a:lnTo>
                    <a:lnTo>
                      <a:pt x="447" y="164"/>
                    </a:lnTo>
                    <a:lnTo>
                      <a:pt x="503" y="147"/>
                    </a:lnTo>
                    <a:lnTo>
                      <a:pt x="564" y="130"/>
                    </a:lnTo>
                    <a:lnTo>
                      <a:pt x="626" y="114"/>
                    </a:lnTo>
                    <a:lnTo>
                      <a:pt x="691" y="99"/>
                    </a:lnTo>
                    <a:lnTo>
                      <a:pt x="759" y="85"/>
                    </a:lnTo>
                    <a:lnTo>
                      <a:pt x="829" y="72"/>
                    </a:lnTo>
                    <a:lnTo>
                      <a:pt x="900" y="59"/>
                    </a:lnTo>
                    <a:lnTo>
                      <a:pt x="975" y="48"/>
                    </a:lnTo>
                    <a:lnTo>
                      <a:pt x="1051" y="38"/>
                    </a:lnTo>
                    <a:lnTo>
                      <a:pt x="1130" y="30"/>
                    </a:lnTo>
                    <a:lnTo>
                      <a:pt x="1209" y="22"/>
                    </a:lnTo>
                    <a:lnTo>
                      <a:pt x="1291" y="15"/>
                    </a:lnTo>
                    <a:lnTo>
                      <a:pt x="1374" y="10"/>
                    </a:lnTo>
                    <a:lnTo>
                      <a:pt x="1459" y="5"/>
                    </a:lnTo>
                    <a:lnTo>
                      <a:pt x="1546" y="2"/>
                    </a:lnTo>
                    <a:lnTo>
                      <a:pt x="1633" y="0"/>
                    </a:lnTo>
                    <a:lnTo>
                      <a:pt x="1721" y="0"/>
                    </a:lnTo>
                    <a:lnTo>
                      <a:pt x="1810" y="0"/>
                    </a:lnTo>
                    <a:lnTo>
                      <a:pt x="1897" y="2"/>
                    </a:lnTo>
                    <a:lnTo>
                      <a:pt x="1984" y="5"/>
                    </a:lnTo>
                    <a:lnTo>
                      <a:pt x="2069" y="10"/>
                    </a:lnTo>
                    <a:lnTo>
                      <a:pt x="2152" y="15"/>
                    </a:lnTo>
                    <a:lnTo>
                      <a:pt x="2233" y="22"/>
                    </a:lnTo>
                    <a:lnTo>
                      <a:pt x="2313" y="30"/>
                    </a:lnTo>
                    <a:lnTo>
                      <a:pt x="2392" y="38"/>
                    </a:lnTo>
                    <a:lnTo>
                      <a:pt x="2468" y="48"/>
                    </a:lnTo>
                    <a:lnTo>
                      <a:pt x="2543" y="59"/>
                    </a:lnTo>
                    <a:lnTo>
                      <a:pt x="2614" y="72"/>
                    </a:lnTo>
                    <a:lnTo>
                      <a:pt x="2684" y="85"/>
                    </a:lnTo>
                    <a:lnTo>
                      <a:pt x="2752" y="99"/>
                    </a:lnTo>
                    <a:lnTo>
                      <a:pt x="2817" y="114"/>
                    </a:lnTo>
                    <a:lnTo>
                      <a:pt x="2880" y="130"/>
                    </a:lnTo>
                    <a:lnTo>
                      <a:pt x="2939" y="147"/>
                    </a:lnTo>
                    <a:lnTo>
                      <a:pt x="2996" y="164"/>
                    </a:lnTo>
                    <a:lnTo>
                      <a:pt x="3051" y="183"/>
                    </a:lnTo>
                    <a:lnTo>
                      <a:pt x="3101" y="203"/>
                    </a:lnTo>
                    <a:lnTo>
                      <a:pt x="3150" y="223"/>
                    </a:lnTo>
                    <a:lnTo>
                      <a:pt x="3194" y="243"/>
                    </a:lnTo>
                    <a:lnTo>
                      <a:pt x="3235" y="265"/>
                    </a:lnTo>
                    <a:lnTo>
                      <a:pt x="3274" y="288"/>
                    </a:lnTo>
                    <a:lnTo>
                      <a:pt x="3308" y="310"/>
                    </a:lnTo>
                    <a:lnTo>
                      <a:pt x="3339" y="334"/>
                    </a:lnTo>
                    <a:lnTo>
                      <a:pt x="3367" y="358"/>
                    </a:lnTo>
                    <a:lnTo>
                      <a:pt x="3390" y="382"/>
                    </a:lnTo>
                    <a:lnTo>
                      <a:pt x="3409" y="409"/>
                    </a:lnTo>
                    <a:lnTo>
                      <a:pt x="3424" y="434"/>
                    </a:lnTo>
                    <a:lnTo>
                      <a:pt x="3434" y="460"/>
                    </a:lnTo>
                    <a:lnTo>
                      <a:pt x="3441" y="487"/>
                    </a:lnTo>
                    <a:lnTo>
                      <a:pt x="3443" y="5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101320" y="6514920"/>
                <a:ext cx="378360" cy="124560"/>
              </a:xfrm>
              <a:custGeom>
                <a:avLst/>
                <a:gdLst/>
                <a:ahLst/>
                <a:rect l="l" t="t" r="r" b="b"/>
                <a:pathLst>
                  <a:path w="3441" h="1046">
                    <a:moveTo>
                      <a:pt x="3441" y="514"/>
                    </a:moveTo>
                    <a:lnTo>
                      <a:pt x="3439" y="541"/>
                    </a:lnTo>
                    <a:lnTo>
                      <a:pt x="3432" y="568"/>
                    </a:lnTo>
                    <a:lnTo>
                      <a:pt x="3421" y="595"/>
                    </a:lnTo>
                    <a:lnTo>
                      <a:pt x="3406" y="622"/>
                    </a:lnTo>
                    <a:lnTo>
                      <a:pt x="3387" y="647"/>
                    </a:lnTo>
                    <a:lnTo>
                      <a:pt x="3364" y="672"/>
                    </a:lnTo>
                    <a:lnTo>
                      <a:pt x="3336" y="697"/>
                    </a:lnTo>
                    <a:lnTo>
                      <a:pt x="3306" y="721"/>
                    </a:lnTo>
                    <a:lnTo>
                      <a:pt x="3272" y="745"/>
                    </a:lnTo>
                    <a:lnTo>
                      <a:pt x="3233" y="768"/>
                    </a:lnTo>
                    <a:lnTo>
                      <a:pt x="3192" y="790"/>
                    </a:lnTo>
                    <a:lnTo>
                      <a:pt x="3148" y="811"/>
                    </a:lnTo>
                    <a:lnTo>
                      <a:pt x="3099" y="833"/>
                    </a:lnTo>
                    <a:lnTo>
                      <a:pt x="3049" y="853"/>
                    </a:lnTo>
                    <a:lnTo>
                      <a:pt x="2994" y="872"/>
                    </a:lnTo>
                    <a:lnTo>
                      <a:pt x="2937" y="890"/>
                    </a:lnTo>
                    <a:lnTo>
                      <a:pt x="2878" y="907"/>
                    </a:lnTo>
                    <a:lnTo>
                      <a:pt x="2815" y="924"/>
                    </a:lnTo>
                    <a:lnTo>
                      <a:pt x="2750" y="941"/>
                    </a:lnTo>
                    <a:lnTo>
                      <a:pt x="2683" y="955"/>
                    </a:lnTo>
                    <a:lnTo>
                      <a:pt x="2612" y="969"/>
                    </a:lnTo>
                    <a:lnTo>
                      <a:pt x="2541" y="982"/>
                    </a:lnTo>
                    <a:lnTo>
                      <a:pt x="2467" y="993"/>
                    </a:lnTo>
                    <a:lnTo>
                      <a:pt x="2390" y="1004"/>
                    </a:lnTo>
                    <a:lnTo>
                      <a:pt x="2312" y="1013"/>
                    </a:lnTo>
                    <a:lnTo>
                      <a:pt x="2232" y="1022"/>
                    </a:lnTo>
                    <a:lnTo>
                      <a:pt x="2151" y="1029"/>
                    </a:lnTo>
                    <a:lnTo>
                      <a:pt x="2067" y="1036"/>
                    </a:lnTo>
                    <a:lnTo>
                      <a:pt x="1983" y="1040"/>
                    </a:lnTo>
                    <a:lnTo>
                      <a:pt x="1896" y="1044"/>
                    </a:lnTo>
                    <a:lnTo>
                      <a:pt x="1809" y="1046"/>
                    </a:lnTo>
                    <a:lnTo>
                      <a:pt x="1720" y="1046"/>
                    </a:lnTo>
                    <a:lnTo>
                      <a:pt x="1632" y="1046"/>
                    </a:lnTo>
                    <a:lnTo>
                      <a:pt x="1545" y="1044"/>
                    </a:lnTo>
                    <a:lnTo>
                      <a:pt x="1459" y="1040"/>
                    </a:lnTo>
                    <a:lnTo>
                      <a:pt x="1374" y="1036"/>
                    </a:lnTo>
                    <a:lnTo>
                      <a:pt x="1290" y="1029"/>
                    </a:lnTo>
                    <a:lnTo>
                      <a:pt x="1208" y="1022"/>
                    </a:lnTo>
                    <a:lnTo>
                      <a:pt x="1129" y="1013"/>
                    </a:lnTo>
                    <a:lnTo>
                      <a:pt x="1051" y="1004"/>
                    </a:lnTo>
                    <a:lnTo>
                      <a:pt x="974" y="993"/>
                    </a:lnTo>
                    <a:lnTo>
                      <a:pt x="900" y="982"/>
                    </a:lnTo>
                    <a:lnTo>
                      <a:pt x="829" y="969"/>
                    </a:lnTo>
                    <a:lnTo>
                      <a:pt x="758" y="955"/>
                    </a:lnTo>
                    <a:lnTo>
                      <a:pt x="691" y="941"/>
                    </a:lnTo>
                    <a:lnTo>
                      <a:pt x="626" y="924"/>
                    </a:lnTo>
                    <a:lnTo>
                      <a:pt x="563" y="907"/>
                    </a:lnTo>
                    <a:lnTo>
                      <a:pt x="503" y="890"/>
                    </a:lnTo>
                    <a:lnTo>
                      <a:pt x="447" y="872"/>
                    </a:lnTo>
                    <a:lnTo>
                      <a:pt x="392" y="853"/>
                    </a:lnTo>
                    <a:lnTo>
                      <a:pt x="342" y="833"/>
                    </a:lnTo>
                    <a:lnTo>
                      <a:pt x="293" y="811"/>
                    </a:lnTo>
                    <a:lnTo>
                      <a:pt x="249" y="790"/>
                    </a:lnTo>
                    <a:lnTo>
                      <a:pt x="208" y="768"/>
                    </a:lnTo>
                    <a:lnTo>
                      <a:pt x="169" y="745"/>
                    </a:lnTo>
                    <a:lnTo>
                      <a:pt x="135" y="721"/>
                    </a:lnTo>
                    <a:lnTo>
                      <a:pt x="105" y="697"/>
                    </a:lnTo>
                    <a:lnTo>
                      <a:pt x="77" y="672"/>
                    </a:lnTo>
                    <a:lnTo>
                      <a:pt x="54" y="647"/>
                    </a:lnTo>
                    <a:lnTo>
                      <a:pt x="35" y="622"/>
                    </a:lnTo>
                    <a:lnTo>
                      <a:pt x="20" y="595"/>
                    </a:lnTo>
                    <a:lnTo>
                      <a:pt x="9" y="568"/>
                    </a:lnTo>
                    <a:lnTo>
                      <a:pt x="3" y="541"/>
                    </a:lnTo>
                    <a:lnTo>
                      <a:pt x="0" y="514"/>
                    </a:lnTo>
                    <a:lnTo>
                      <a:pt x="3" y="486"/>
                    </a:lnTo>
                    <a:lnTo>
                      <a:pt x="9" y="460"/>
                    </a:lnTo>
                    <a:lnTo>
                      <a:pt x="20" y="433"/>
                    </a:lnTo>
                    <a:lnTo>
                      <a:pt x="35" y="408"/>
                    </a:lnTo>
                    <a:lnTo>
                      <a:pt x="54" y="382"/>
                    </a:lnTo>
                    <a:lnTo>
                      <a:pt x="77" y="357"/>
                    </a:lnTo>
                    <a:lnTo>
                      <a:pt x="105" y="333"/>
                    </a:lnTo>
                    <a:lnTo>
                      <a:pt x="135" y="310"/>
                    </a:lnTo>
                    <a:lnTo>
                      <a:pt x="169" y="287"/>
                    </a:lnTo>
                    <a:lnTo>
                      <a:pt x="208" y="264"/>
                    </a:lnTo>
                    <a:lnTo>
                      <a:pt x="249" y="243"/>
                    </a:lnTo>
                    <a:lnTo>
                      <a:pt x="293" y="222"/>
                    </a:lnTo>
                    <a:lnTo>
                      <a:pt x="342" y="202"/>
                    </a:lnTo>
                    <a:lnTo>
                      <a:pt x="392" y="183"/>
                    </a:lnTo>
                    <a:lnTo>
                      <a:pt x="447" y="164"/>
                    </a:lnTo>
                    <a:lnTo>
                      <a:pt x="503" y="146"/>
                    </a:lnTo>
                    <a:lnTo>
                      <a:pt x="563" y="130"/>
                    </a:lnTo>
                    <a:lnTo>
                      <a:pt x="626" y="114"/>
                    </a:lnTo>
                    <a:lnTo>
                      <a:pt x="691" y="99"/>
                    </a:lnTo>
                    <a:lnTo>
                      <a:pt x="758" y="85"/>
                    </a:lnTo>
                    <a:lnTo>
                      <a:pt x="829" y="72"/>
                    </a:lnTo>
                    <a:lnTo>
                      <a:pt x="900" y="59"/>
                    </a:lnTo>
                    <a:lnTo>
                      <a:pt x="974" y="48"/>
                    </a:lnTo>
                    <a:lnTo>
                      <a:pt x="1051" y="38"/>
                    </a:lnTo>
                    <a:lnTo>
                      <a:pt x="1129" y="29"/>
                    </a:lnTo>
                    <a:lnTo>
                      <a:pt x="1208" y="22"/>
                    </a:lnTo>
                    <a:lnTo>
                      <a:pt x="1290" y="15"/>
                    </a:lnTo>
                    <a:lnTo>
                      <a:pt x="1374" y="9"/>
                    </a:lnTo>
                    <a:lnTo>
                      <a:pt x="1459" y="5"/>
                    </a:lnTo>
                    <a:lnTo>
                      <a:pt x="1545" y="2"/>
                    </a:lnTo>
                    <a:lnTo>
                      <a:pt x="1632" y="0"/>
                    </a:lnTo>
                    <a:lnTo>
                      <a:pt x="1720" y="0"/>
                    </a:lnTo>
                    <a:lnTo>
                      <a:pt x="1809" y="0"/>
                    </a:lnTo>
                    <a:lnTo>
                      <a:pt x="1896" y="2"/>
                    </a:lnTo>
                    <a:lnTo>
                      <a:pt x="1983" y="5"/>
                    </a:lnTo>
                    <a:lnTo>
                      <a:pt x="2067" y="9"/>
                    </a:lnTo>
                    <a:lnTo>
                      <a:pt x="2151" y="15"/>
                    </a:lnTo>
                    <a:lnTo>
                      <a:pt x="2232" y="22"/>
                    </a:lnTo>
                    <a:lnTo>
                      <a:pt x="2312" y="29"/>
                    </a:lnTo>
                    <a:lnTo>
                      <a:pt x="2390" y="38"/>
                    </a:lnTo>
                    <a:lnTo>
                      <a:pt x="2467" y="48"/>
                    </a:lnTo>
                    <a:lnTo>
                      <a:pt x="2541" y="59"/>
                    </a:lnTo>
                    <a:lnTo>
                      <a:pt x="2612" y="72"/>
                    </a:lnTo>
                    <a:lnTo>
                      <a:pt x="2683" y="85"/>
                    </a:lnTo>
                    <a:lnTo>
                      <a:pt x="2750" y="99"/>
                    </a:lnTo>
                    <a:lnTo>
                      <a:pt x="2815" y="114"/>
                    </a:lnTo>
                    <a:lnTo>
                      <a:pt x="2878" y="130"/>
                    </a:lnTo>
                    <a:lnTo>
                      <a:pt x="2937" y="146"/>
                    </a:lnTo>
                    <a:lnTo>
                      <a:pt x="2994" y="164"/>
                    </a:lnTo>
                    <a:lnTo>
                      <a:pt x="3049" y="183"/>
                    </a:lnTo>
                    <a:lnTo>
                      <a:pt x="3099" y="202"/>
                    </a:lnTo>
                    <a:lnTo>
                      <a:pt x="3148" y="222"/>
                    </a:lnTo>
                    <a:lnTo>
                      <a:pt x="3192" y="243"/>
                    </a:lnTo>
                    <a:lnTo>
                      <a:pt x="3233" y="264"/>
                    </a:lnTo>
                    <a:lnTo>
                      <a:pt x="3272" y="287"/>
                    </a:lnTo>
                    <a:lnTo>
                      <a:pt x="3306" y="310"/>
                    </a:lnTo>
                    <a:lnTo>
                      <a:pt x="3336" y="333"/>
                    </a:lnTo>
                    <a:lnTo>
                      <a:pt x="3364" y="357"/>
                    </a:lnTo>
                    <a:lnTo>
                      <a:pt x="3387" y="382"/>
                    </a:lnTo>
                    <a:lnTo>
                      <a:pt x="3406" y="408"/>
                    </a:lnTo>
                    <a:lnTo>
                      <a:pt x="3421" y="433"/>
                    </a:lnTo>
                    <a:lnTo>
                      <a:pt x="3432" y="460"/>
                    </a:lnTo>
                    <a:lnTo>
                      <a:pt x="3439" y="486"/>
                    </a:lnTo>
                    <a:lnTo>
                      <a:pt x="3441" y="5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101320" y="6514920"/>
                <a:ext cx="378360" cy="124560"/>
              </a:xfrm>
              <a:custGeom>
                <a:avLst/>
                <a:gdLst/>
                <a:ahLst/>
                <a:rect l="l" t="t" r="r" b="b"/>
                <a:pathLst>
                  <a:path w="3437" h="1046">
                    <a:moveTo>
                      <a:pt x="3437" y="514"/>
                    </a:moveTo>
                    <a:lnTo>
                      <a:pt x="3435" y="541"/>
                    </a:lnTo>
                    <a:lnTo>
                      <a:pt x="3429" y="568"/>
                    </a:lnTo>
                    <a:lnTo>
                      <a:pt x="3418" y="594"/>
                    </a:lnTo>
                    <a:lnTo>
                      <a:pt x="3403" y="621"/>
                    </a:lnTo>
                    <a:lnTo>
                      <a:pt x="3384" y="647"/>
                    </a:lnTo>
                    <a:lnTo>
                      <a:pt x="3361" y="672"/>
                    </a:lnTo>
                    <a:lnTo>
                      <a:pt x="3333" y="696"/>
                    </a:lnTo>
                    <a:lnTo>
                      <a:pt x="3303" y="721"/>
                    </a:lnTo>
                    <a:lnTo>
                      <a:pt x="3268" y="744"/>
                    </a:lnTo>
                    <a:lnTo>
                      <a:pt x="3230" y="767"/>
                    </a:lnTo>
                    <a:lnTo>
                      <a:pt x="3189" y="789"/>
                    </a:lnTo>
                    <a:lnTo>
                      <a:pt x="3144" y="811"/>
                    </a:lnTo>
                    <a:lnTo>
                      <a:pt x="3096" y="832"/>
                    </a:lnTo>
                    <a:lnTo>
                      <a:pt x="3046" y="852"/>
                    </a:lnTo>
                    <a:lnTo>
                      <a:pt x="2991" y="871"/>
                    </a:lnTo>
                    <a:lnTo>
                      <a:pt x="2934" y="889"/>
                    </a:lnTo>
                    <a:lnTo>
                      <a:pt x="2875" y="907"/>
                    </a:lnTo>
                    <a:lnTo>
                      <a:pt x="2812" y="923"/>
                    </a:lnTo>
                    <a:lnTo>
                      <a:pt x="2748" y="940"/>
                    </a:lnTo>
                    <a:lnTo>
                      <a:pt x="2680" y="955"/>
                    </a:lnTo>
                    <a:lnTo>
                      <a:pt x="2610" y="968"/>
                    </a:lnTo>
                    <a:lnTo>
                      <a:pt x="2538" y="981"/>
                    </a:lnTo>
                    <a:lnTo>
                      <a:pt x="2464" y="993"/>
                    </a:lnTo>
                    <a:lnTo>
                      <a:pt x="2388" y="1003"/>
                    </a:lnTo>
                    <a:lnTo>
                      <a:pt x="2309" y="1013"/>
                    </a:lnTo>
                    <a:lnTo>
                      <a:pt x="2229" y="1021"/>
                    </a:lnTo>
                    <a:lnTo>
                      <a:pt x="2148" y="1028"/>
                    </a:lnTo>
                    <a:lnTo>
                      <a:pt x="2065" y="1035"/>
                    </a:lnTo>
                    <a:lnTo>
                      <a:pt x="1980" y="1039"/>
                    </a:lnTo>
                    <a:lnTo>
                      <a:pt x="1894" y="1043"/>
                    </a:lnTo>
                    <a:lnTo>
                      <a:pt x="1807" y="1045"/>
                    </a:lnTo>
                    <a:lnTo>
                      <a:pt x="1718" y="1046"/>
                    </a:lnTo>
                    <a:lnTo>
                      <a:pt x="1630" y="1045"/>
                    </a:lnTo>
                    <a:lnTo>
                      <a:pt x="1543" y="1043"/>
                    </a:lnTo>
                    <a:lnTo>
                      <a:pt x="1457" y="1039"/>
                    </a:lnTo>
                    <a:lnTo>
                      <a:pt x="1372" y="1035"/>
                    </a:lnTo>
                    <a:lnTo>
                      <a:pt x="1289" y="1028"/>
                    </a:lnTo>
                    <a:lnTo>
                      <a:pt x="1207" y="1021"/>
                    </a:lnTo>
                    <a:lnTo>
                      <a:pt x="1128" y="1013"/>
                    </a:lnTo>
                    <a:lnTo>
                      <a:pt x="1049" y="1003"/>
                    </a:lnTo>
                    <a:lnTo>
                      <a:pt x="973" y="993"/>
                    </a:lnTo>
                    <a:lnTo>
                      <a:pt x="899" y="981"/>
                    </a:lnTo>
                    <a:lnTo>
                      <a:pt x="827" y="968"/>
                    </a:lnTo>
                    <a:lnTo>
                      <a:pt x="757" y="955"/>
                    </a:lnTo>
                    <a:lnTo>
                      <a:pt x="690" y="940"/>
                    </a:lnTo>
                    <a:lnTo>
                      <a:pt x="625" y="923"/>
                    </a:lnTo>
                    <a:lnTo>
                      <a:pt x="562" y="907"/>
                    </a:lnTo>
                    <a:lnTo>
                      <a:pt x="502" y="889"/>
                    </a:lnTo>
                    <a:lnTo>
                      <a:pt x="446" y="871"/>
                    </a:lnTo>
                    <a:lnTo>
                      <a:pt x="391" y="852"/>
                    </a:lnTo>
                    <a:lnTo>
                      <a:pt x="341" y="832"/>
                    </a:lnTo>
                    <a:lnTo>
                      <a:pt x="292" y="811"/>
                    </a:lnTo>
                    <a:lnTo>
                      <a:pt x="248" y="789"/>
                    </a:lnTo>
                    <a:lnTo>
                      <a:pt x="207" y="767"/>
                    </a:lnTo>
                    <a:lnTo>
                      <a:pt x="169" y="744"/>
                    </a:lnTo>
                    <a:lnTo>
                      <a:pt x="135" y="721"/>
                    </a:lnTo>
                    <a:lnTo>
                      <a:pt x="104" y="696"/>
                    </a:lnTo>
                    <a:lnTo>
                      <a:pt x="76" y="672"/>
                    </a:lnTo>
                    <a:lnTo>
                      <a:pt x="53" y="647"/>
                    </a:lnTo>
                    <a:lnTo>
                      <a:pt x="34" y="621"/>
                    </a:lnTo>
                    <a:lnTo>
                      <a:pt x="19" y="594"/>
                    </a:lnTo>
                    <a:lnTo>
                      <a:pt x="9" y="568"/>
                    </a:lnTo>
                    <a:lnTo>
                      <a:pt x="2" y="541"/>
                    </a:lnTo>
                    <a:lnTo>
                      <a:pt x="0" y="514"/>
                    </a:lnTo>
                    <a:lnTo>
                      <a:pt x="2" y="486"/>
                    </a:lnTo>
                    <a:lnTo>
                      <a:pt x="9" y="460"/>
                    </a:lnTo>
                    <a:lnTo>
                      <a:pt x="19" y="434"/>
                    </a:lnTo>
                    <a:lnTo>
                      <a:pt x="34" y="408"/>
                    </a:lnTo>
                    <a:lnTo>
                      <a:pt x="53" y="382"/>
                    </a:lnTo>
                    <a:lnTo>
                      <a:pt x="76" y="357"/>
                    </a:lnTo>
                    <a:lnTo>
                      <a:pt x="104" y="333"/>
                    </a:lnTo>
                    <a:lnTo>
                      <a:pt x="135" y="310"/>
                    </a:lnTo>
                    <a:lnTo>
                      <a:pt x="169" y="287"/>
                    </a:lnTo>
                    <a:lnTo>
                      <a:pt x="207" y="264"/>
                    </a:lnTo>
                    <a:lnTo>
                      <a:pt x="248" y="243"/>
                    </a:lnTo>
                    <a:lnTo>
                      <a:pt x="292" y="223"/>
                    </a:lnTo>
                    <a:lnTo>
                      <a:pt x="341" y="203"/>
                    </a:lnTo>
                    <a:lnTo>
                      <a:pt x="391" y="184"/>
                    </a:lnTo>
                    <a:lnTo>
                      <a:pt x="446" y="164"/>
                    </a:lnTo>
                    <a:lnTo>
                      <a:pt x="502" y="147"/>
                    </a:lnTo>
                    <a:lnTo>
                      <a:pt x="562" y="130"/>
                    </a:lnTo>
                    <a:lnTo>
                      <a:pt x="625" y="115"/>
                    </a:lnTo>
                    <a:lnTo>
                      <a:pt x="690" y="100"/>
                    </a:lnTo>
                    <a:lnTo>
                      <a:pt x="757" y="86"/>
                    </a:lnTo>
                    <a:lnTo>
                      <a:pt x="827" y="73"/>
                    </a:lnTo>
                    <a:lnTo>
                      <a:pt x="899" y="60"/>
                    </a:lnTo>
                    <a:lnTo>
                      <a:pt x="973" y="49"/>
                    </a:lnTo>
                    <a:lnTo>
                      <a:pt x="1049" y="39"/>
                    </a:lnTo>
                    <a:lnTo>
                      <a:pt x="1128" y="30"/>
                    </a:lnTo>
                    <a:lnTo>
                      <a:pt x="1207" y="23"/>
                    </a:lnTo>
                    <a:lnTo>
                      <a:pt x="1289" y="16"/>
                    </a:lnTo>
                    <a:lnTo>
                      <a:pt x="1372" y="10"/>
                    </a:lnTo>
                    <a:lnTo>
                      <a:pt x="1457" y="6"/>
                    </a:lnTo>
                    <a:lnTo>
                      <a:pt x="1543" y="3"/>
                    </a:lnTo>
                    <a:lnTo>
                      <a:pt x="1630" y="1"/>
                    </a:lnTo>
                    <a:lnTo>
                      <a:pt x="1718" y="0"/>
                    </a:lnTo>
                    <a:lnTo>
                      <a:pt x="1807" y="1"/>
                    </a:lnTo>
                    <a:lnTo>
                      <a:pt x="1894" y="3"/>
                    </a:lnTo>
                    <a:lnTo>
                      <a:pt x="1980" y="6"/>
                    </a:lnTo>
                    <a:lnTo>
                      <a:pt x="2065" y="10"/>
                    </a:lnTo>
                    <a:lnTo>
                      <a:pt x="2148" y="16"/>
                    </a:lnTo>
                    <a:lnTo>
                      <a:pt x="2229" y="23"/>
                    </a:lnTo>
                    <a:lnTo>
                      <a:pt x="2309" y="30"/>
                    </a:lnTo>
                    <a:lnTo>
                      <a:pt x="2388" y="39"/>
                    </a:lnTo>
                    <a:lnTo>
                      <a:pt x="2464" y="49"/>
                    </a:lnTo>
                    <a:lnTo>
                      <a:pt x="2538" y="60"/>
                    </a:lnTo>
                    <a:lnTo>
                      <a:pt x="2610" y="73"/>
                    </a:lnTo>
                    <a:lnTo>
                      <a:pt x="2680" y="86"/>
                    </a:lnTo>
                    <a:lnTo>
                      <a:pt x="2748" y="100"/>
                    </a:lnTo>
                    <a:lnTo>
                      <a:pt x="2812" y="115"/>
                    </a:lnTo>
                    <a:lnTo>
                      <a:pt x="2875" y="130"/>
                    </a:lnTo>
                    <a:lnTo>
                      <a:pt x="2934" y="147"/>
                    </a:lnTo>
                    <a:lnTo>
                      <a:pt x="2991" y="164"/>
                    </a:lnTo>
                    <a:lnTo>
                      <a:pt x="3046" y="184"/>
                    </a:lnTo>
                    <a:lnTo>
                      <a:pt x="3096" y="203"/>
                    </a:lnTo>
                    <a:lnTo>
                      <a:pt x="3144" y="223"/>
                    </a:lnTo>
                    <a:lnTo>
                      <a:pt x="3189" y="243"/>
                    </a:lnTo>
                    <a:lnTo>
                      <a:pt x="3230" y="264"/>
                    </a:lnTo>
                    <a:lnTo>
                      <a:pt x="3268" y="287"/>
                    </a:lnTo>
                    <a:lnTo>
                      <a:pt x="3303" y="310"/>
                    </a:lnTo>
                    <a:lnTo>
                      <a:pt x="3333" y="333"/>
                    </a:lnTo>
                    <a:lnTo>
                      <a:pt x="3361" y="357"/>
                    </a:lnTo>
                    <a:lnTo>
                      <a:pt x="3384" y="382"/>
                    </a:lnTo>
                    <a:lnTo>
                      <a:pt x="3403" y="408"/>
                    </a:lnTo>
                    <a:lnTo>
                      <a:pt x="3418" y="434"/>
                    </a:lnTo>
                    <a:lnTo>
                      <a:pt x="3429" y="460"/>
                    </a:lnTo>
                    <a:lnTo>
                      <a:pt x="3435" y="486"/>
                    </a:lnTo>
                    <a:lnTo>
                      <a:pt x="3437" y="5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101320" y="6514920"/>
                <a:ext cx="378360" cy="124560"/>
              </a:xfrm>
              <a:custGeom>
                <a:avLst/>
                <a:gdLst/>
                <a:ahLst/>
                <a:rect l="l" t="t" r="r" b="b"/>
                <a:pathLst>
                  <a:path w="3435" h="1044">
                    <a:moveTo>
                      <a:pt x="3435" y="513"/>
                    </a:moveTo>
                    <a:lnTo>
                      <a:pt x="3433" y="540"/>
                    </a:lnTo>
                    <a:lnTo>
                      <a:pt x="3426" y="567"/>
                    </a:lnTo>
                    <a:lnTo>
                      <a:pt x="3415" y="593"/>
                    </a:lnTo>
                    <a:lnTo>
                      <a:pt x="3400" y="620"/>
                    </a:lnTo>
                    <a:lnTo>
                      <a:pt x="3381" y="646"/>
                    </a:lnTo>
                    <a:lnTo>
                      <a:pt x="3358" y="671"/>
                    </a:lnTo>
                    <a:lnTo>
                      <a:pt x="3331" y="695"/>
                    </a:lnTo>
                    <a:lnTo>
                      <a:pt x="3300" y="720"/>
                    </a:lnTo>
                    <a:lnTo>
                      <a:pt x="3266" y="743"/>
                    </a:lnTo>
                    <a:lnTo>
                      <a:pt x="3228" y="766"/>
                    </a:lnTo>
                    <a:lnTo>
                      <a:pt x="3187" y="788"/>
                    </a:lnTo>
                    <a:lnTo>
                      <a:pt x="3141" y="809"/>
                    </a:lnTo>
                    <a:lnTo>
                      <a:pt x="3094" y="831"/>
                    </a:lnTo>
                    <a:lnTo>
                      <a:pt x="3044" y="850"/>
                    </a:lnTo>
                    <a:lnTo>
                      <a:pt x="2989" y="870"/>
                    </a:lnTo>
                    <a:lnTo>
                      <a:pt x="2932" y="888"/>
                    </a:lnTo>
                    <a:lnTo>
                      <a:pt x="2873" y="905"/>
                    </a:lnTo>
                    <a:lnTo>
                      <a:pt x="2810" y="922"/>
                    </a:lnTo>
                    <a:lnTo>
                      <a:pt x="2746" y="938"/>
                    </a:lnTo>
                    <a:lnTo>
                      <a:pt x="2678" y="953"/>
                    </a:lnTo>
                    <a:lnTo>
                      <a:pt x="2608" y="967"/>
                    </a:lnTo>
                    <a:lnTo>
                      <a:pt x="2537" y="979"/>
                    </a:lnTo>
                    <a:lnTo>
                      <a:pt x="2462" y="991"/>
                    </a:lnTo>
                    <a:lnTo>
                      <a:pt x="2386" y="1001"/>
                    </a:lnTo>
                    <a:lnTo>
                      <a:pt x="2308" y="1011"/>
                    </a:lnTo>
                    <a:lnTo>
                      <a:pt x="2228" y="1019"/>
                    </a:lnTo>
                    <a:lnTo>
                      <a:pt x="2147" y="1026"/>
                    </a:lnTo>
                    <a:lnTo>
                      <a:pt x="2064" y="1033"/>
                    </a:lnTo>
                    <a:lnTo>
                      <a:pt x="1979" y="1038"/>
                    </a:lnTo>
                    <a:lnTo>
                      <a:pt x="1893" y="1041"/>
                    </a:lnTo>
                    <a:lnTo>
                      <a:pt x="1806" y="1043"/>
                    </a:lnTo>
                    <a:lnTo>
                      <a:pt x="1717" y="1044"/>
                    </a:lnTo>
                    <a:lnTo>
                      <a:pt x="1630" y="1043"/>
                    </a:lnTo>
                    <a:lnTo>
                      <a:pt x="1542" y="1041"/>
                    </a:lnTo>
                    <a:lnTo>
                      <a:pt x="1456" y="1038"/>
                    </a:lnTo>
                    <a:lnTo>
                      <a:pt x="1371" y="1033"/>
                    </a:lnTo>
                    <a:lnTo>
                      <a:pt x="1288" y="1026"/>
                    </a:lnTo>
                    <a:lnTo>
                      <a:pt x="1206" y="1019"/>
                    </a:lnTo>
                    <a:lnTo>
                      <a:pt x="1127" y="1011"/>
                    </a:lnTo>
                    <a:lnTo>
                      <a:pt x="1049" y="1001"/>
                    </a:lnTo>
                    <a:lnTo>
                      <a:pt x="973" y="991"/>
                    </a:lnTo>
                    <a:lnTo>
                      <a:pt x="898" y="979"/>
                    </a:lnTo>
                    <a:lnTo>
                      <a:pt x="827" y="967"/>
                    </a:lnTo>
                    <a:lnTo>
                      <a:pt x="757" y="953"/>
                    </a:lnTo>
                    <a:lnTo>
                      <a:pt x="689" y="938"/>
                    </a:lnTo>
                    <a:lnTo>
                      <a:pt x="625" y="922"/>
                    </a:lnTo>
                    <a:lnTo>
                      <a:pt x="562" y="905"/>
                    </a:lnTo>
                    <a:lnTo>
                      <a:pt x="503" y="888"/>
                    </a:lnTo>
                    <a:lnTo>
                      <a:pt x="446" y="870"/>
                    </a:lnTo>
                    <a:lnTo>
                      <a:pt x="392" y="850"/>
                    </a:lnTo>
                    <a:lnTo>
                      <a:pt x="341" y="831"/>
                    </a:lnTo>
                    <a:lnTo>
                      <a:pt x="293" y="809"/>
                    </a:lnTo>
                    <a:lnTo>
                      <a:pt x="248" y="788"/>
                    </a:lnTo>
                    <a:lnTo>
                      <a:pt x="207" y="766"/>
                    </a:lnTo>
                    <a:lnTo>
                      <a:pt x="169" y="743"/>
                    </a:lnTo>
                    <a:lnTo>
                      <a:pt x="135" y="720"/>
                    </a:lnTo>
                    <a:lnTo>
                      <a:pt x="104" y="695"/>
                    </a:lnTo>
                    <a:lnTo>
                      <a:pt x="77" y="671"/>
                    </a:lnTo>
                    <a:lnTo>
                      <a:pt x="54" y="646"/>
                    </a:lnTo>
                    <a:lnTo>
                      <a:pt x="35" y="620"/>
                    </a:lnTo>
                    <a:lnTo>
                      <a:pt x="20" y="593"/>
                    </a:lnTo>
                    <a:lnTo>
                      <a:pt x="9" y="567"/>
                    </a:lnTo>
                    <a:lnTo>
                      <a:pt x="2" y="540"/>
                    </a:lnTo>
                    <a:lnTo>
                      <a:pt x="0" y="513"/>
                    </a:lnTo>
                    <a:lnTo>
                      <a:pt x="2" y="485"/>
                    </a:lnTo>
                    <a:lnTo>
                      <a:pt x="9" y="459"/>
                    </a:lnTo>
                    <a:lnTo>
                      <a:pt x="20" y="433"/>
                    </a:lnTo>
                    <a:lnTo>
                      <a:pt x="35" y="407"/>
                    </a:lnTo>
                    <a:lnTo>
                      <a:pt x="54" y="381"/>
                    </a:lnTo>
                    <a:lnTo>
                      <a:pt x="77" y="357"/>
                    </a:lnTo>
                    <a:lnTo>
                      <a:pt x="104" y="333"/>
                    </a:lnTo>
                    <a:lnTo>
                      <a:pt x="135" y="310"/>
                    </a:lnTo>
                    <a:lnTo>
                      <a:pt x="169" y="287"/>
                    </a:lnTo>
                    <a:lnTo>
                      <a:pt x="207" y="264"/>
                    </a:lnTo>
                    <a:lnTo>
                      <a:pt x="248" y="243"/>
                    </a:lnTo>
                    <a:lnTo>
                      <a:pt x="293" y="222"/>
                    </a:lnTo>
                    <a:lnTo>
                      <a:pt x="341" y="202"/>
                    </a:lnTo>
                    <a:lnTo>
                      <a:pt x="392" y="183"/>
                    </a:lnTo>
                    <a:lnTo>
                      <a:pt x="446" y="164"/>
                    </a:lnTo>
                    <a:lnTo>
                      <a:pt x="503" y="147"/>
                    </a:lnTo>
                    <a:lnTo>
                      <a:pt x="562" y="130"/>
                    </a:lnTo>
                    <a:lnTo>
                      <a:pt x="625" y="114"/>
                    </a:lnTo>
                    <a:lnTo>
                      <a:pt x="689" y="99"/>
                    </a:lnTo>
                    <a:lnTo>
                      <a:pt x="757" y="86"/>
                    </a:lnTo>
                    <a:lnTo>
                      <a:pt x="827" y="73"/>
                    </a:lnTo>
                    <a:lnTo>
                      <a:pt x="898" y="60"/>
                    </a:lnTo>
                    <a:lnTo>
                      <a:pt x="973" y="49"/>
                    </a:lnTo>
                    <a:lnTo>
                      <a:pt x="1049" y="39"/>
                    </a:lnTo>
                    <a:lnTo>
                      <a:pt x="1127" y="30"/>
                    </a:lnTo>
                    <a:lnTo>
                      <a:pt x="1206" y="22"/>
                    </a:lnTo>
                    <a:lnTo>
                      <a:pt x="1288" y="16"/>
                    </a:lnTo>
                    <a:lnTo>
                      <a:pt x="1371" y="10"/>
                    </a:lnTo>
                    <a:lnTo>
                      <a:pt x="1456" y="6"/>
                    </a:lnTo>
                    <a:lnTo>
                      <a:pt x="1542" y="3"/>
                    </a:lnTo>
                    <a:lnTo>
                      <a:pt x="1630" y="1"/>
                    </a:lnTo>
                    <a:lnTo>
                      <a:pt x="1717" y="0"/>
                    </a:lnTo>
                    <a:lnTo>
                      <a:pt x="1806" y="1"/>
                    </a:lnTo>
                    <a:lnTo>
                      <a:pt x="1893" y="3"/>
                    </a:lnTo>
                    <a:lnTo>
                      <a:pt x="1979" y="6"/>
                    </a:lnTo>
                    <a:lnTo>
                      <a:pt x="2064" y="10"/>
                    </a:lnTo>
                    <a:lnTo>
                      <a:pt x="2147" y="16"/>
                    </a:lnTo>
                    <a:lnTo>
                      <a:pt x="2228" y="22"/>
                    </a:lnTo>
                    <a:lnTo>
                      <a:pt x="2308" y="30"/>
                    </a:lnTo>
                    <a:lnTo>
                      <a:pt x="2386" y="39"/>
                    </a:lnTo>
                    <a:lnTo>
                      <a:pt x="2462" y="49"/>
                    </a:lnTo>
                    <a:lnTo>
                      <a:pt x="2537" y="60"/>
                    </a:lnTo>
                    <a:lnTo>
                      <a:pt x="2608" y="73"/>
                    </a:lnTo>
                    <a:lnTo>
                      <a:pt x="2678" y="86"/>
                    </a:lnTo>
                    <a:lnTo>
                      <a:pt x="2746" y="99"/>
                    </a:lnTo>
                    <a:lnTo>
                      <a:pt x="2810" y="114"/>
                    </a:lnTo>
                    <a:lnTo>
                      <a:pt x="2873" y="130"/>
                    </a:lnTo>
                    <a:lnTo>
                      <a:pt x="2932" y="147"/>
                    </a:lnTo>
                    <a:lnTo>
                      <a:pt x="2989" y="164"/>
                    </a:lnTo>
                    <a:lnTo>
                      <a:pt x="3044" y="183"/>
                    </a:lnTo>
                    <a:lnTo>
                      <a:pt x="3094" y="202"/>
                    </a:lnTo>
                    <a:lnTo>
                      <a:pt x="3141" y="222"/>
                    </a:lnTo>
                    <a:lnTo>
                      <a:pt x="3187" y="243"/>
                    </a:lnTo>
                    <a:lnTo>
                      <a:pt x="3228" y="264"/>
                    </a:lnTo>
                    <a:lnTo>
                      <a:pt x="3266" y="287"/>
                    </a:lnTo>
                    <a:lnTo>
                      <a:pt x="3300" y="310"/>
                    </a:lnTo>
                    <a:lnTo>
                      <a:pt x="3331" y="333"/>
                    </a:lnTo>
                    <a:lnTo>
                      <a:pt x="3358" y="357"/>
                    </a:lnTo>
                    <a:lnTo>
                      <a:pt x="3381" y="381"/>
                    </a:lnTo>
                    <a:lnTo>
                      <a:pt x="3400" y="407"/>
                    </a:lnTo>
                    <a:lnTo>
                      <a:pt x="3415" y="433"/>
                    </a:lnTo>
                    <a:lnTo>
                      <a:pt x="3426" y="459"/>
                    </a:lnTo>
                    <a:lnTo>
                      <a:pt x="3433" y="485"/>
                    </a:lnTo>
                    <a:lnTo>
                      <a:pt x="3435" y="5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101320" y="6514920"/>
                <a:ext cx="378360" cy="124560"/>
              </a:xfrm>
              <a:custGeom>
                <a:avLst/>
                <a:gdLst/>
                <a:ahLst/>
                <a:rect l="l" t="t" r="r" b="b"/>
                <a:pathLst>
                  <a:path w="3432" h="1042">
                    <a:moveTo>
                      <a:pt x="3432" y="512"/>
                    </a:moveTo>
                    <a:lnTo>
                      <a:pt x="3429" y="539"/>
                    </a:lnTo>
                    <a:lnTo>
                      <a:pt x="3423" y="566"/>
                    </a:lnTo>
                    <a:lnTo>
                      <a:pt x="3412" y="592"/>
                    </a:lnTo>
                    <a:lnTo>
                      <a:pt x="3397" y="619"/>
                    </a:lnTo>
                    <a:lnTo>
                      <a:pt x="3378" y="644"/>
                    </a:lnTo>
                    <a:lnTo>
                      <a:pt x="3355" y="669"/>
                    </a:lnTo>
                    <a:lnTo>
                      <a:pt x="3327" y="694"/>
                    </a:lnTo>
                    <a:lnTo>
                      <a:pt x="3297" y="718"/>
                    </a:lnTo>
                    <a:lnTo>
                      <a:pt x="3263" y="742"/>
                    </a:lnTo>
                    <a:lnTo>
                      <a:pt x="3224" y="764"/>
                    </a:lnTo>
                    <a:lnTo>
                      <a:pt x="3183" y="786"/>
                    </a:lnTo>
                    <a:lnTo>
                      <a:pt x="3138" y="807"/>
                    </a:lnTo>
                    <a:lnTo>
                      <a:pt x="3091" y="829"/>
                    </a:lnTo>
                    <a:lnTo>
                      <a:pt x="3039" y="849"/>
                    </a:lnTo>
                    <a:lnTo>
                      <a:pt x="2986" y="868"/>
                    </a:lnTo>
                    <a:lnTo>
                      <a:pt x="2929" y="886"/>
                    </a:lnTo>
                    <a:lnTo>
                      <a:pt x="2870" y="903"/>
                    </a:lnTo>
                    <a:lnTo>
                      <a:pt x="2807" y="920"/>
                    </a:lnTo>
                    <a:lnTo>
                      <a:pt x="2743" y="937"/>
                    </a:lnTo>
                    <a:lnTo>
                      <a:pt x="2675" y="951"/>
                    </a:lnTo>
                    <a:lnTo>
                      <a:pt x="2605" y="965"/>
                    </a:lnTo>
                    <a:lnTo>
                      <a:pt x="2534" y="977"/>
                    </a:lnTo>
                    <a:lnTo>
                      <a:pt x="2460" y="989"/>
                    </a:lnTo>
                    <a:lnTo>
                      <a:pt x="2384" y="999"/>
                    </a:lnTo>
                    <a:lnTo>
                      <a:pt x="2305" y="1009"/>
                    </a:lnTo>
                    <a:lnTo>
                      <a:pt x="2225" y="1017"/>
                    </a:lnTo>
                    <a:lnTo>
                      <a:pt x="2145" y="1024"/>
                    </a:lnTo>
                    <a:lnTo>
                      <a:pt x="2062" y="1030"/>
                    </a:lnTo>
                    <a:lnTo>
                      <a:pt x="1977" y="1036"/>
                    </a:lnTo>
                    <a:lnTo>
                      <a:pt x="1891" y="1039"/>
                    </a:lnTo>
                    <a:lnTo>
                      <a:pt x="1803" y="1041"/>
                    </a:lnTo>
                    <a:lnTo>
                      <a:pt x="1715" y="1042"/>
                    </a:lnTo>
                    <a:lnTo>
                      <a:pt x="1628" y="1041"/>
                    </a:lnTo>
                    <a:lnTo>
                      <a:pt x="1540" y="1039"/>
                    </a:lnTo>
                    <a:lnTo>
                      <a:pt x="1454" y="1036"/>
                    </a:lnTo>
                    <a:lnTo>
                      <a:pt x="1370" y="1030"/>
                    </a:lnTo>
                    <a:lnTo>
                      <a:pt x="1286" y="1024"/>
                    </a:lnTo>
                    <a:lnTo>
                      <a:pt x="1205" y="1017"/>
                    </a:lnTo>
                    <a:lnTo>
                      <a:pt x="1126" y="1009"/>
                    </a:lnTo>
                    <a:lnTo>
                      <a:pt x="1048" y="999"/>
                    </a:lnTo>
                    <a:lnTo>
                      <a:pt x="971" y="989"/>
                    </a:lnTo>
                    <a:lnTo>
                      <a:pt x="897" y="977"/>
                    </a:lnTo>
                    <a:lnTo>
                      <a:pt x="826" y="965"/>
                    </a:lnTo>
                    <a:lnTo>
                      <a:pt x="756" y="951"/>
                    </a:lnTo>
                    <a:lnTo>
                      <a:pt x="688" y="937"/>
                    </a:lnTo>
                    <a:lnTo>
                      <a:pt x="624" y="920"/>
                    </a:lnTo>
                    <a:lnTo>
                      <a:pt x="561" y="903"/>
                    </a:lnTo>
                    <a:lnTo>
                      <a:pt x="502" y="886"/>
                    </a:lnTo>
                    <a:lnTo>
                      <a:pt x="445" y="868"/>
                    </a:lnTo>
                    <a:lnTo>
                      <a:pt x="391" y="849"/>
                    </a:lnTo>
                    <a:lnTo>
                      <a:pt x="340" y="829"/>
                    </a:lnTo>
                    <a:lnTo>
                      <a:pt x="292" y="807"/>
                    </a:lnTo>
                    <a:lnTo>
                      <a:pt x="248" y="786"/>
                    </a:lnTo>
                    <a:lnTo>
                      <a:pt x="207" y="764"/>
                    </a:lnTo>
                    <a:lnTo>
                      <a:pt x="168" y="742"/>
                    </a:lnTo>
                    <a:lnTo>
                      <a:pt x="134" y="718"/>
                    </a:lnTo>
                    <a:lnTo>
                      <a:pt x="104" y="694"/>
                    </a:lnTo>
                    <a:lnTo>
                      <a:pt x="76" y="669"/>
                    </a:lnTo>
                    <a:lnTo>
                      <a:pt x="53" y="644"/>
                    </a:lnTo>
                    <a:lnTo>
                      <a:pt x="34" y="619"/>
                    </a:lnTo>
                    <a:lnTo>
                      <a:pt x="19" y="592"/>
                    </a:lnTo>
                    <a:lnTo>
                      <a:pt x="8" y="566"/>
                    </a:lnTo>
                    <a:lnTo>
                      <a:pt x="2" y="539"/>
                    </a:lnTo>
                    <a:lnTo>
                      <a:pt x="0" y="512"/>
                    </a:lnTo>
                    <a:lnTo>
                      <a:pt x="2" y="484"/>
                    </a:lnTo>
                    <a:lnTo>
                      <a:pt x="8" y="458"/>
                    </a:lnTo>
                    <a:lnTo>
                      <a:pt x="19" y="432"/>
                    </a:lnTo>
                    <a:lnTo>
                      <a:pt x="34" y="406"/>
                    </a:lnTo>
                    <a:lnTo>
                      <a:pt x="53" y="380"/>
                    </a:lnTo>
                    <a:lnTo>
                      <a:pt x="76" y="356"/>
                    </a:lnTo>
                    <a:lnTo>
                      <a:pt x="104" y="332"/>
                    </a:lnTo>
                    <a:lnTo>
                      <a:pt x="134" y="309"/>
                    </a:lnTo>
                    <a:lnTo>
                      <a:pt x="168" y="286"/>
                    </a:lnTo>
                    <a:lnTo>
                      <a:pt x="207" y="263"/>
                    </a:lnTo>
                    <a:lnTo>
                      <a:pt x="248" y="242"/>
                    </a:lnTo>
                    <a:lnTo>
                      <a:pt x="292" y="222"/>
                    </a:lnTo>
                    <a:lnTo>
                      <a:pt x="340" y="202"/>
                    </a:lnTo>
                    <a:lnTo>
                      <a:pt x="391" y="183"/>
                    </a:lnTo>
                    <a:lnTo>
                      <a:pt x="445" y="164"/>
                    </a:lnTo>
                    <a:lnTo>
                      <a:pt x="502" y="146"/>
                    </a:lnTo>
                    <a:lnTo>
                      <a:pt x="561" y="130"/>
                    </a:lnTo>
                    <a:lnTo>
                      <a:pt x="624" y="114"/>
                    </a:lnTo>
                    <a:lnTo>
                      <a:pt x="688" y="99"/>
                    </a:lnTo>
                    <a:lnTo>
                      <a:pt x="756" y="85"/>
                    </a:lnTo>
                    <a:lnTo>
                      <a:pt x="826" y="72"/>
                    </a:lnTo>
                    <a:lnTo>
                      <a:pt x="897" y="60"/>
                    </a:lnTo>
                    <a:lnTo>
                      <a:pt x="971" y="49"/>
                    </a:lnTo>
                    <a:lnTo>
                      <a:pt x="1048" y="39"/>
                    </a:lnTo>
                    <a:lnTo>
                      <a:pt x="1126" y="30"/>
                    </a:lnTo>
                    <a:lnTo>
                      <a:pt x="1205" y="22"/>
                    </a:lnTo>
                    <a:lnTo>
                      <a:pt x="1286" y="16"/>
                    </a:lnTo>
                    <a:lnTo>
                      <a:pt x="1370" y="10"/>
                    </a:lnTo>
                    <a:lnTo>
                      <a:pt x="1454" y="6"/>
                    </a:lnTo>
                    <a:lnTo>
                      <a:pt x="1540" y="3"/>
                    </a:lnTo>
                    <a:lnTo>
                      <a:pt x="1628" y="1"/>
                    </a:lnTo>
                    <a:lnTo>
                      <a:pt x="1715" y="0"/>
                    </a:lnTo>
                    <a:lnTo>
                      <a:pt x="1803" y="1"/>
                    </a:lnTo>
                    <a:lnTo>
                      <a:pt x="1891" y="3"/>
                    </a:lnTo>
                    <a:lnTo>
                      <a:pt x="1977" y="6"/>
                    </a:lnTo>
                    <a:lnTo>
                      <a:pt x="2062" y="10"/>
                    </a:lnTo>
                    <a:lnTo>
                      <a:pt x="2145" y="16"/>
                    </a:lnTo>
                    <a:lnTo>
                      <a:pt x="2225" y="22"/>
                    </a:lnTo>
                    <a:lnTo>
                      <a:pt x="2305" y="30"/>
                    </a:lnTo>
                    <a:lnTo>
                      <a:pt x="2384" y="39"/>
                    </a:lnTo>
                    <a:lnTo>
                      <a:pt x="2460" y="49"/>
                    </a:lnTo>
                    <a:lnTo>
                      <a:pt x="2534" y="60"/>
                    </a:lnTo>
                    <a:lnTo>
                      <a:pt x="2605" y="72"/>
                    </a:lnTo>
                    <a:lnTo>
                      <a:pt x="2675" y="85"/>
                    </a:lnTo>
                    <a:lnTo>
                      <a:pt x="2743" y="99"/>
                    </a:lnTo>
                    <a:lnTo>
                      <a:pt x="2807" y="114"/>
                    </a:lnTo>
                    <a:lnTo>
                      <a:pt x="2870" y="130"/>
                    </a:lnTo>
                    <a:lnTo>
                      <a:pt x="2929" y="146"/>
                    </a:lnTo>
                    <a:lnTo>
                      <a:pt x="2986" y="164"/>
                    </a:lnTo>
                    <a:lnTo>
                      <a:pt x="3039" y="183"/>
                    </a:lnTo>
                    <a:lnTo>
                      <a:pt x="3091" y="202"/>
                    </a:lnTo>
                    <a:lnTo>
                      <a:pt x="3138" y="222"/>
                    </a:lnTo>
                    <a:lnTo>
                      <a:pt x="3183" y="242"/>
                    </a:lnTo>
                    <a:lnTo>
                      <a:pt x="3224" y="263"/>
                    </a:lnTo>
                    <a:lnTo>
                      <a:pt x="3263" y="286"/>
                    </a:lnTo>
                    <a:lnTo>
                      <a:pt x="3297" y="309"/>
                    </a:lnTo>
                    <a:lnTo>
                      <a:pt x="3327" y="332"/>
                    </a:lnTo>
                    <a:lnTo>
                      <a:pt x="3355" y="356"/>
                    </a:lnTo>
                    <a:lnTo>
                      <a:pt x="3378" y="380"/>
                    </a:lnTo>
                    <a:lnTo>
                      <a:pt x="3397" y="406"/>
                    </a:lnTo>
                    <a:lnTo>
                      <a:pt x="3412" y="432"/>
                    </a:lnTo>
                    <a:lnTo>
                      <a:pt x="3423" y="458"/>
                    </a:lnTo>
                    <a:lnTo>
                      <a:pt x="3429" y="484"/>
                    </a:lnTo>
                    <a:lnTo>
                      <a:pt x="3432" y="5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101320" y="6516360"/>
                <a:ext cx="378360" cy="123120"/>
              </a:xfrm>
              <a:custGeom>
                <a:avLst/>
                <a:gdLst/>
                <a:ahLst/>
                <a:rect l="l" t="t" r="r" b="b"/>
                <a:pathLst>
                  <a:path w="3429" h="1040">
                    <a:moveTo>
                      <a:pt x="3429" y="511"/>
                    </a:moveTo>
                    <a:lnTo>
                      <a:pt x="3427" y="538"/>
                    </a:lnTo>
                    <a:lnTo>
                      <a:pt x="3420" y="565"/>
                    </a:lnTo>
                    <a:lnTo>
                      <a:pt x="3409" y="591"/>
                    </a:lnTo>
                    <a:lnTo>
                      <a:pt x="3395" y="618"/>
                    </a:lnTo>
                    <a:lnTo>
                      <a:pt x="3376" y="643"/>
                    </a:lnTo>
                    <a:lnTo>
                      <a:pt x="3353" y="668"/>
                    </a:lnTo>
                    <a:lnTo>
                      <a:pt x="3325" y="692"/>
                    </a:lnTo>
                    <a:lnTo>
                      <a:pt x="3295" y="717"/>
                    </a:lnTo>
                    <a:lnTo>
                      <a:pt x="3261" y="740"/>
                    </a:lnTo>
                    <a:lnTo>
                      <a:pt x="3222" y="763"/>
                    </a:lnTo>
                    <a:lnTo>
                      <a:pt x="3181" y="785"/>
                    </a:lnTo>
                    <a:lnTo>
                      <a:pt x="3136" y="806"/>
                    </a:lnTo>
                    <a:lnTo>
                      <a:pt x="3089" y="828"/>
                    </a:lnTo>
                    <a:lnTo>
                      <a:pt x="3037" y="847"/>
                    </a:lnTo>
                    <a:lnTo>
                      <a:pt x="2984" y="866"/>
                    </a:lnTo>
                    <a:lnTo>
                      <a:pt x="2927" y="884"/>
                    </a:lnTo>
                    <a:lnTo>
                      <a:pt x="2868" y="902"/>
                    </a:lnTo>
                    <a:lnTo>
                      <a:pt x="2805" y="918"/>
                    </a:lnTo>
                    <a:lnTo>
                      <a:pt x="2741" y="935"/>
                    </a:lnTo>
                    <a:lnTo>
                      <a:pt x="2673" y="949"/>
                    </a:lnTo>
                    <a:lnTo>
                      <a:pt x="2604" y="963"/>
                    </a:lnTo>
                    <a:lnTo>
                      <a:pt x="2531" y="976"/>
                    </a:lnTo>
                    <a:lnTo>
                      <a:pt x="2458" y="987"/>
                    </a:lnTo>
                    <a:lnTo>
                      <a:pt x="2382" y="998"/>
                    </a:lnTo>
                    <a:lnTo>
                      <a:pt x="2304" y="1007"/>
                    </a:lnTo>
                    <a:lnTo>
                      <a:pt x="2224" y="1015"/>
                    </a:lnTo>
                    <a:lnTo>
                      <a:pt x="2143" y="1022"/>
                    </a:lnTo>
                    <a:lnTo>
                      <a:pt x="2060" y="1028"/>
                    </a:lnTo>
                    <a:lnTo>
                      <a:pt x="1976" y="1034"/>
                    </a:lnTo>
                    <a:lnTo>
                      <a:pt x="1890" y="1037"/>
                    </a:lnTo>
                    <a:lnTo>
                      <a:pt x="1802" y="1039"/>
                    </a:lnTo>
                    <a:lnTo>
                      <a:pt x="1714" y="1040"/>
                    </a:lnTo>
                    <a:lnTo>
                      <a:pt x="1627" y="1039"/>
                    </a:lnTo>
                    <a:lnTo>
                      <a:pt x="1539" y="1037"/>
                    </a:lnTo>
                    <a:lnTo>
                      <a:pt x="1453" y="1034"/>
                    </a:lnTo>
                    <a:lnTo>
                      <a:pt x="1369" y="1028"/>
                    </a:lnTo>
                    <a:lnTo>
                      <a:pt x="1286" y="1022"/>
                    </a:lnTo>
                    <a:lnTo>
                      <a:pt x="1204" y="1015"/>
                    </a:lnTo>
                    <a:lnTo>
                      <a:pt x="1125" y="1007"/>
                    </a:lnTo>
                    <a:lnTo>
                      <a:pt x="1047" y="998"/>
                    </a:lnTo>
                    <a:lnTo>
                      <a:pt x="971" y="987"/>
                    </a:lnTo>
                    <a:lnTo>
                      <a:pt x="897" y="976"/>
                    </a:lnTo>
                    <a:lnTo>
                      <a:pt x="826" y="963"/>
                    </a:lnTo>
                    <a:lnTo>
                      <a:pt x="756" y="949"/>
                    </a:lnTo>
                    <a:lnTo>
                      <a:pt x="688" y="935"/>
                    </a:lnTo>
                    <a:lnTo>
                      <a:pt x="624" y="918"/>
                    </a:lnTo>
                    <a:lnTo>
                      <a:pt x="561" y="902"/>
                    </a:lnTo>
                    <a:lnTo>
                      <a:pt x="502" y="884"/>
                    </a:lnTo>
                    <a:lnTo>
                      <a:pt x="445" y="866"/>
                    </a:lnTo>
                    <a:lnTo>
                      <a:pt x="391" y="847"/>
                    </a:lnTo>
                    <a:lnTo>
                      <a:pt x="340" y="828"/>
                    </a:lnTo>
                    <a:lnTo>
                      <a:pt x="292" y="806"/>
                    </a:lnTo>
                    <a:lnTo>
                      <a:pt x="248" y="785"/>
                    </a:lnTo>
                    <a:lnTo>
                      <a:pt x="207" y="763"/>
                    </a:lnTo>
                    <a:lnTo>
                      <a:pt x="168" y="740"/>
                    </a:lnTo>
                    <a:lnTo>
                      <a:pt x="134" y="717"/>
                    </a:lnTo>
                    <a:lnTo>
                      <a:pt x="104" y="692"/>
                    </a:lnTo>
                    <a:lnTo>
                      <a:pt x="76" y="668"/>
                    </a:lnTo>
                    <a:lnTo>
                      <a:pt x="53" y="643"/>
                    </a:lnTo>
                    <a:lnTo>
                      <a:pt x="35" y="618"/>
                    </a:lnTo>
                    <a:lnTo>
                      <a:pt x="20" y="591"/>
                    </a:lnTo>
                    <a:lnTo>
                      <a:pt x="9" y="565"/>
                    </a:lnTo>
                    <a:lnTo>
                      <a:pt x="2" y="538"/>
                    </a:lnTo>
                    <a:lnTo>
                      <a:pt x="0" y="511"/>
                    </a:lnTo>
                    <a:lnTo>
                      <a:pt x="2" y="483"/>
                    </a:lnTo>
                    <a:lnTo>
                      <a:pt x="9" y="457"/>
                    </a:lnTo>
                    <a:lnTo>
                      <a:pt x="20" y="431"/>
                    </a:lnTo>
                    <a:lnTo>
                      <a:pt x="35" y="406"/>
                    </a:lnTo>
                    <a:lnTo>
                      <a:pt x="53" y="380"/>
                    </a:lnTo>
                    <a:lnTo>
                      <a:pt x="76" y="355"/>
                    </a:lnTo>
                    <a:lnTo>
                      <a:pt x="104" y="331"/>
                    </a:lnTo>
                    <a:lnTo>
                      <a:pt x="134" y="308"/>
                    </a:lnTo>
                    <a:lnTo>
                      <a:pt x="168" y="286"/>
                    </a:lnTo>
                    <a:lnTo>
                      <a:pt x="207" y="263"/>
                    </a:lnTo>
                    <a:lnTo>
                      <a:pt x="248" y="242"/>
                    </a:lnTo>
                    <a:lnTo>
                      <a:pt x="292" y="221"/>
                    </a:lnTo>
                    <a:lnTo>
                      <a:pt x="340" y="201"/>
                    </a:lnTo>
                    <a:lnTo>
                      <a:pt x="391" y="182"/>
                    </a:lnTo>
                    <a:lnTo>
                      <a:pt x="445" y="163"/>
                    </a:lnTo>
                    <a:lnTo>
                      <a:pt x="502" y="146"/>
                    </a:lnTo>
                    <a:lnTo>
                      <a:pt x="561" y="129"/>
                    </a:lnTo>
                    <a:lnTo>
                      <a:pt x="624" y="114"/>
                    </a:lnTo>
                    <a:lnTo>
                      <a:pt x="688" y="99"/>
                    </a:lnTo>
                    <a:lnTo>
                      <a:pt x="756" y="85"/>
                    </a:lnTo>
                    <a:lnTo>
                      <a:pt x="826" y="72"/>
                    </a:lnTo>
                    <a:lnTo>
                      <a:pt x="897" y="59"/>
                    </a:lnTo>
                    <a:lnTo>
                      <a:pt x="971" y="49"/>
                    </a:lnTo>
                    <a:lnTo>
                      <a:pt x="1047" y="39"/>
                    </a:lnTo>
                    <a:lnTo>
                      <a:pt x="1125" y="30"/>
                    </a:lnTo>
                    <a:lnTo>
                      <a:pt x="1204" y="22"/>
                    </a:lnTo>
                    <a:lnTo>
                      <a:pt x="1286" y="16"/>
                    </a:lnTo>
                    <a:lnTo>
                      <a:pt x="1369" y="10"/>
                    </a:lnTo>
                    <a:lnTo>
                      <a:pt x="1453" y="6"/>
                    </a:lnTo>
                    <a:lnTo>
                      <a:pt x="1539" y="3"/>
                    </a:lnTo>
                    <a:lnTo>
                      <a:pt x="1627" y="1"/>
                    </a:lnTo>
                    <a:lnTo>
                      <a:pt x="1714" y="0"/>
                    </a:lnTo>
                    <a:lnTo>
                      <a:pt x="1802" y="1"/>
                    </a:lnTo>
                    <a:lnTo>
                      <a:pt x="1890" y="3"/>
                    </a:lnTo>
                    <a:lnTo>
                      <a:pt x="1976" y="6"/>
                    </a:lnTo>
                    <a:lnTo>
                      <a:pt x="2060" y="10"/>
                    </a:lnTo>
                    <a:lnTo>
                      <a:pt x="2143" y="16"/>
                    </a:lnTo>
                    <a:lnTo>
                      <a:pt x="2224" y="22"/>
                    </a:lnTo>
                    <a:lnTo>
                      <a:pt x="2304" y="30"/>
                    </a:lnTo>
                    <a:lnTo>
                      <a:pt x="2382" y="39"/>
                    </a:lnTo>
                    <a:lnTo>
                      <a:pt x="2458" y="49"/>
                    </a:lnTo>
                    <a:lnTo>
                      <a:pt x="2531" y="59"/>
                    </a:lnTo>
                    <a:lnTo>
                      <a:pt x="2604" y="72"/>
                    </a:lnTo>
                    <a:lnTo>
                      <a:pt x="2673" y="85"/>
                    </a:lnTo>
                    <a:lnTo>
                      <a:pt x="2741" y="99"/>
                    </a:lnTo>
                    <a:lnTo>
                      <a:pt x="2805" y="114"/>
                    </a:lnTo>
                    <a:lnTo>
                      <a:pt x="2868" y="129"/>
                    </a:lnTo>
                    <a:lnTo>
                      <a:pt x="2927" y="146"/>
                    </a:lnTo>
                    <a:lnTo>
                      <a:pt x="2984" y="163"/>
                    </a:lnTo>
                    <a:lnTo>
                      <a:pt x="3037" y="182"/>
                    </a:lnTo>
                    <a:lnTo>
                      <a:pt x="3089" y="201"/>
                    </a:lnTo>
                    <a:lnTo>
                      <a:pt x="3136" y="221"/>
                    </a:lnTo>
                    <a:lnTo>
                      <a:pt x="3181" y="242"/>
                    </a:lnTo>
                    <a:lnTo>
                      <a:pt x="3222" y="263"/>
                    </a:lnTo>
                    <a:lnTo>
                      <a:pt x="3261" y="286"/>
                    </a:lnTo>
                    <a:lnTo>
                      <a:pt x="3295" y="308"/>
                    </a:lnTo>
                    <a:lnTo>
                      <a:pt x="3325" y="331"/>
                    </a:lnTo>
                    <a:lnTo>
                      <a:pt x="3353" y="355"/>
                    </a:lnTo>
                    <a:lnTo>
                      <a:pt x="3376" y="380"/>
                    </a:lnTo>
                    <a:lnTo>
                      <a:pt x="3395" y="406"/>
                    </a:lnTo>
                    <a:lnTo>
                      <a:pt x="3409" y="431"/>
                    </a:lnTo>
                    <a:lnTo>
                      <a:pt x="3420" y="457"/>
                    </a:lnTo>
                    <a:lnTo>
                      <a:pt x="3427" y="483"/>
                    </a:lnTo>
                    <a:lnTo>
                      <a:pt x="3429" y="5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101320" y="6516360"/>
                <a:ext cx="378360" cy="123120"/>
              </a:xfrm>
              <a:custGeom>
                <a:avLst/>
                <a:gdLst/>
                <a:ahLst/>
                <a:rect l="l" t="t" r="r" b="b"/>
                <a:pathLst>
                  <a:path w="3427" h="1038">
                    <a:moveTo>
                      <a:pt x="3427" y="510"/>
                    </a:moveTo>
                    <a:lnTo>
                      <a:pt x="3424" y="537"/>
                    </a:lnTo>
                    <a:lnTo>
                      <a:pt x="3418" y="564"/>
                    </a:lnTo>
                    <a:lnTo>
                      <a:pt x="3407" y="590"/>
                    </a:lnTo>
                    <a:lnTo>
                      <a:pt x="3392" y="617"/>
                    </a:lnTo>
                    <a:lnTo>
                      <a:pt x="3373" y="642"/>
                    </a:lnTo>
                    <a:lnTo>
                      <a:pt x="3350" y="667"/>
                    </a:lnTo>
                    <a:lnTo>
                      <a:pt x="3323" y="691"/>
                    </a:lnTo>
                    <a:lnTo>
                      <a:pt x="3292" y="716"/>
                    </a:lnTo>
                    <a:lnTo>
                      <a:pt x="3258" y="739"/>
                    </a:lnTo>
                    <a:lnTo>
                      <a:pt x="3220" y="761"/>
                    </a:lnTo>
                    <a:lnTo>
                      <a:pt x="3179" y="783"/>
                    </a:lnTo>
                    <a:lnTo>
                      <a:pt x="3134" y="804"/>
                    </a:lnTo>
                    <a:lnTo>
                      <a:pt x="3087" y="826"/>
                    </a:lnTo>
                    <a:lnTo>
                      <a:pt x="3035" y="846"/>
                    </a:lnTo>
                    <a:lnTo>
                      <a:pt x="2982" y="865"/>
                    </a:lnTo>
                    <a:lnTo>
                      <a:pt x="2925" y="883"/>
                    </a:lnTo>
                    <a:lnTo>
                      <a:pt x="2866" y="900"/>
                    </a:lnTo>
                    <a:lnTo>
                      <a:pt x="2803" y="917"/>
                    </a:lnTo>
                    <a:lnTo>
                      <a:pt x="2739" y="933"/>
                    </a:lnTo>
                    <a:lnTo>
                      <a:pt x="2672" y="948"/>
                    </a:lnTo>
                    <a:lnTo>
                      <a:pt x="2602" y="961"/>
                    </a:lnTo>
                    <a:lnTo>
                      <a:pt x="2530" y="974"/>
                    </a:lnTo>
                    <a:lnTo>
                      <a:pt x="2457" y="985"/>
                    </a:lnTo>
                    <a:lnTo>
                      <a:pt x="2380" y="996"/>
                    </a:lnTo>
                    <a:lnTo>
                      <a:pt x="2302" y="1005"/>
                    </a:lnTo>
                    <a:lnTo>
                      <a:pt x="2223" y="1013"/>
                    </a:lnTo>
                    <a:lnTo>
                      <a:pt x="2142" y="1020"/>
                    </a:lnTo>
                    <a:lnTo>
                      <a:pt x="2059" y="1026"/>
                    </a:lnTo>
                    <a:lnTo>
                      <a:pt x="1974" y="1032"/>
                    </a:lnTo>
                    <a:lnTo>
                      <a:pt x="1889" y="1035"/>
                    </a:lnTo>
                    <a:lnTo>
                      <a:pt x="1801" y="1037"/>
                    </a:lnTo>
                    <a:lnTo>
                      <a:pt x="1713" y="1038"/>
                    </a:lnTo>
                    <a:lnTo>
                      <a:pt x="1626" y="1037"/>
                    </a:lnTo>
                    <a:lnTo>
                      <a:pt x="1539" y="1035"/>
                    </a:lnTo>
                    <a:lnTo>
                      <a:pt x="1453" y="1032"/>
                    </a:lnTo>
                    <a:lnTo>
                      <a:pt x="1368" y="1026"/>
                    </a:lnTo>
                    <a:lnTo>
                      <a:pt x="1285" y="1020"/>
                    </a:lnTo>
                    <a:lnTo>
                      <a:pt x="1204" y="1013"/>
                    </a:lnTo>
                    <a:lnTo>
                      <a:pt x="1125" y="1005"/>
                    </a:lnTo>
                    <a:lnTo>
                      <a:pt x="1047" y="996"/>
                    </a:lnTo>
                    <a:lnTo>
                      <a:pt x="970" y="985"/>
                    </a:lnTo>
                    <a:lnTo>
                      <a:pt x="896" y="974"/>
                    </a:lnTo>
                    <a:lnTo>
                      <a:pt x="825" y="961"/>
                    </a:lnTo>
                    <a:lnTo>
                      <a:pt x="755" y="948"/>
                    </a:lnTo>
                    <a:lnTo>
                      <a:pt x="688" y="933"/>
                    </a:lnTo>
                    <a:lnTo>
                      <a:pt x="624" y="917"/>
                    </a:lnTo>
                    <a:lnTo>
                      <a:pt x="561" y="900"/>
                    </a:lnTo>
                    <a:lnTo>
                      <a:pt x="502" y="883"/>
                    </a:lnTo>
                    <a:lnTo>
                      <a:pt x="445" y="865"/>
                    </a:lnTo>
                    <a:lnTo>
                      <a:pt x="391" y="846"/>
                    </a:lnTo>
                    <a:lnTo>
                      <a:pt x="340" y="826"/>
                    </a:lnTo>
                    <a:lnTo>
                      <a:pt x="292" y="804"/>
                    </a:lnTo>
                    <a:lnTo>
                      <a:pt x="248" y="783"/>
                    </a:lnTo>
                    <a:lnTo>
                      <a:pt x="207" y="761"/>
                    </a:lnTo>
                    <a:lnTo>
                      <a:pt x="169" y="739"/>
                    </a:lnTo>
                    <a:lnTo>
                      <a:pt x="135" y="716"/>
                    </a:lnTo>
                    <a:lnTo>
                      <a:pt x="104" y="691"/>
                    </a:lnTo>
                    <a:lnTo>
                      <a:pt x="77" y="667"/>
                    </a:lnTo>
                    <a:lnTo>
                      <a:pt x="54" y="642"/>
                    </a:lnTo>
                    <a:lnTo>
                      <a:pt x="35" y="617"/>
                    </a:lnTo>
                    <a:lnTo>
                      <a:pt x="20" y="590"/>
                    </a:lnTo>
                    <a:lnTo>
                      <a:pt x="9" y="564"/>
                    </a:lnTo>
                    <a:lnTo>
                      <a:pt x="3" y="537"/>
                    </a:lnTo>
                    <a:lnTo>
                      <a:pt x="0" y="510"/>
                    </a:lnTo>
                    <a:lnTo>
                      <a:pt x="3" y="482"/>
                    </a:lnTo>
                    <a:lnTo>
                      <a:pt x="9" y="456"/>
                    </a:lnTo>
                    <a:lnTo>
                      <a:pt x="20" y="430"/>
                    </a:lnTo>
                    <a:lnTo>
                      <a:pt x="35" y="405"/>
                    </a:lnTo>
                    <a:lnTo>
                      <a:pt x="54" y="379"/>
                    </a:lnTo>
                    <a:lnTo>
                      <a:pt x="77" y="355"/>
                    </a:lnTo>
                    <a:lnTo>
                      <a:pt x="104" y="331"/>
                    </a:lnTo>
                    <a:lnTo>
                      <a:pt x="135" y="308"/>
                    </a:lnTo>
                    <a:lnTo>
                      <a:pt x="169" y="285"/>
                    </a:lnTo>
                    <a:lnTo>
                      <a:pt x="207" y="262"/>
                    </a:lnTo>
                    <a:lnTo>
                      <a:pt x="248" y="241"/>
                    </a:lnTo>
                    <a:lnTo>
                      <a:pt x="292" y="221"/>
                    </a:lnTo>
                    <a:lnTo>
                      <a:pt x="340" y="201"/>
                    </a:lnTo>
                    <a:lnTo>
                      <a:pt x="391" y="182"/>
                    </a:lnTo>
                    <a:lnTo>
                      <a:pt x="445" y="163"/>
                    </a:lnTo>
                    <a:lnTo>
                      <a:pt x="502" y="146"/>
                    </a:lnTo>
                    <a:lnTo>
                      <a:pt x="561" y="129"/>
                    </a:lnTo>
                    <a:lnTo>
                      <a:pt x="624" y="113"/>
                    </a:lnTo>
                    <a:lnTo>
                      <a:pt x="688" y="99"/>
                    </a:lnTo>
                    <a:lnTo>
                      <a:pt x="755" y="85"/>
                    </a:lnTo>
                    <a:lnTo>
                      <a:pt x="825" y="72"/>
                    </a:lnTo>
                    <a:lnTo>
                      <a:pt x="896" y="59"/>
                    </a:lnTo>
                    <a:lnTo>
                      <a:pt x="970" y="48"/>
                    </a:lnTo>
                    <a:lnTo>
                      <a:pt x="1047" y="39"/>
                    </a:lnTo>
                    <a:lnTo>
                      <a:pt x="1125" y="30"/>
                    </a:lnTo>
                    <a:lnTo>
                      <a:pt x="1204" y="22"/>
                    </a:lnTo>
                    <a:lnTo>
                      <a:pt x="1285" y="16"/>
                    </a:lnTo>
                    <a:lnTo>
                      <a:pt x="1368" y="10"/>
                    </a:lnTo>
                    <a:lnTo>
                      <a:pt x="1453" y="6"/>
                    </a:lnTo>
                    <a:lnTo>
                      <a:pt x="1539" y="3"/>
                    </a:lnTo>
                    <a:lnTo>
                      <a:pt x="1626" y="1"/>
                    </a:lnTo>
                    <a:lnTo>
                      <a:pt x="1713" y="0"/>
                    </a:lnTo>
                    <a:lnTo>
                      <a:pt x="1801" y="1"/>
                    </a:lnTo>
                    <a:lnTo>
                      <a:pt x="1889" y="3"/>
                    </a:lnTo>
                    <a:lnTo>
                      <a:pt x="1974" y="6"/>
                    </a:lnTo>
                    <a:lnTo>
                      <a:pt x="2059" y="10"/>
                    </a:lnTo>
                    <a:lnTo>
                      <a:pt x="2142" y="16"/>
                    </a:lnTo>
                    <a:lnTo>
                      <a:pt x="2223" y="22"/>
                    </a:lnTo>
                    <a:lnTo>
                      <a:pt x="2302" y="30"/>
                    </a:lnTo>
                    <a:lnTo>
                      <a:pt x="2380" y="39"/>
                    </a:lnTo>
                    <a:lnTo>
                      <a:pt x="2457" y="48"/>
                    </a:lnTo>
                    <a:lnTo>
                      <a:pt x="2530" y="59"/>
                    </a:lnTo>
                    <a:lnTo>
                      <a:pt x="2602" y="72"/>
                    </a:lnTo>
                    <a:lnTo>
                      <a:pt x="2672" y="85"/>
                    </a:lnTo>
                    <a:lnTo>
                      <a:pt x="2739" y="99"/>
                    </a:lnTo>
                    <a:lnTo>
                      <a:pt x="2803" y="113"/>
                    </a:lnTo>
                    <a:lnTo>
                      <a:pt x="2866" y="129"/>
                    </a:lnTo>
                    <a:lnTo>
                      <a:pt x="2925" y="146"/>
                    </a:lnTo>
                    <a:lnTo>
                      <a:pt x="2982" y="163"/>
                    </a:lnTo>
                    <a:lnTo>
                      <a:pt x="3035" y="182"/>
                    </a:lnTo>
                    <a:lnTo>
                      <a:pt x="3087" y="201"/>
                    </a:lnTo>
                    <a:lnTo>
                      <a:pt x="3134" y="221"/>
                    </a:lnTo>
                    <a:lnTo>
                      <a:pt x="3179" y="241"/>
                    </a:lnTo>
                    <a:lnTo>
                      <a:pt x="3220" y="262"/>
                    </a:lnTo>
                    <a:lnTo>
                      <a:pt x="3258" y="285"/>
                    </a:lnTo>
                    <a:lnTo>
                      <a:pt x="3292" y="308"/>
                    </a:lnTo>
                    <a:lnTo>
                      <a:pt x="3323" y="331"/>
                    </a:lnTo>
                    <a:lnTo>
                      <a:pt x="3350" y="355"/>
                    </a:lnTo>
                    <a:lnTo>
                      <a:pt x="3373" y="379"/>
                    </a:lnTo>
                    <a:lnTo>
                      <a:pt x="3392" y="405"/>
                    </a:lnTo>
                    <a:lnTo>
                      <a:pt x="3407" y="430"/>
                    </a:lnTo>
                    <a:lnTo>
                      <a:pt x="3418" y="456"/>
                    </a:lnTo>
                    <a:lnTo>
                      <a:pt x="3424" y="482"/>
                    </a:lnTo>
                    <a:lnTo>
                      <a:pt x="3427" y="5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101320" y="6516360"/>
                <a:ext cx="378360" cy="123120"/>
              </a:xfrm>
              <a:custGeom>
                <a:avLst/>
                <a:gdLst/>
                <a:ahLst/>
                <a:rect l="l" t="t" r="r" b="b"/>
                <a:pathLst>
                  <a:path w="3423" h="1036">
                    <a:moveTo>
                      <a:pt x="3423" y="509"/>
                    </a:moveTo>
                    <a:lnTo>
                      <a:pt x="3421" y="536"/>
                    </a:lnTo>
                    <a:lnTo>
                      <a:pt x="3414" y="563"/>
                    </a:lnTo>
                    <a:lnTo>
                      <a:pt x="3404" y="589"/>
                    </a:lnTo>
                    <a:lnTo>
                      <a:pt x="3389" y="615"/>
                    </a:lnTo>
                    <a:lnTo>
                      <a:pt x="3370" y="641"/>
                    </a:lnTo>
                    <a:lnTo>
                      <a:pt x="3347" y="665"/>
                    </a:lnTo>
                    <a:lnTo>
                      <a:pt x="3319" y="690"/>
                    </a:lnTo>
                    <a:lnTo>
                      <a:pt x="3289" y="714"/>
                    </a:lnTo>
                    <a:lnTo>
                      <a:pt x="3255" y="737"/>
                    </a:lnTo>
                    <a:lnTo>
                      <a:pt x="3217" y="760"/>
                    </a:lnTo>
                    <a:lnTo>
                      <a:pt x="3176" y="782"/>
                    </a:lnTo>
                    <a:lnTo>
                      <a:pt x="3131" y="803"/>
                    </a:lnTo>
                    <a:lnTo>
                      <a:pt x="3083" y="824"/>
                    </a:lnTo>
                    <a:lnTo>
                      <a:pt x="3032" y="844"/>
                    </a:lnTo>
                    <a:lnTo>
                      <a:pt x="2979" y="863"/>
                    </a:lnTo>
                    <a:lnTo>
                      <a:pt x="2922" y="881"/>
                    </a:lnTo>
                    <a:lnTo>
                      <a:pt x="2863" y="898"/>
                    </a:lnTo>
                    <a:lnTo>
                      <a:pt x="2800" y="915"/>
                    </a:lnTo>
                    <a:lnTo>
                      <a:pt x="2736" y="931"/>
                    </a:lnTo>
                    <a:lnTo>
                      <a:pt x="2669" y="946"/>
                    </a:lnTo>
                    <a:lnTo>
                      <a:pt x="2599" y="959"/>
                    </a:lnTo>
                    <a:lnTo>
                      <a:pt x="2527" y="972"/>
                    </a:lnTo>
                    <a:lnTo>
                      <a:pt x="2454" y="984"/>
                    </a:lnTo>
                    <a:lnTo>
                      <a:pt x="2378" y="994"/>
                    </a:lnTo>
                    <a:lnTo>
                      <a:pt x="2300" y="1003"/>
                    </a:lnTo>
                    <a:lnTo>
                      <a:pt x="2220" y="1011"/>
                    </a:lnTo>
                    <a:lnTo>
                      <a:pt x="2140" y="1019"/>
                    </a:lnTo>
                    <a:lnTo>
                      <a:pt x="2057" y="1024"/>
                    </a:lnTo>
                    <a:lnTo>
                      <a:pt x="1972" y="1030"/>
                    </a:lnTo>
                    <a:lnTo>
                      <a:pt x="1886" y="1033"/>
                    </a:lnTo>
                    <a:lnTo>
                      <a:pt x="1799" y="1035"/>
                    </a:lnTo>
                    <a:lnTo>
                      <a:pt x="1711" y="1036"/>
                    </a:lnTo>
                    <a:lnTo>
                      <a:pt x="1624" y="1035"/>
                    </a:lnTo>
                    <a:lnTo>
                      <a:pt x="1537" y="1033"/>
                    </a:lnTo>
                    <a:lnTo>
                      <a:pt x="1451" y="1030"/>
                    </a:lnTo>
                    <a:lnTo>
                      <a:pt x="1366" y="1024"/>
                    </a:lnTo>
                    <a:lnTo>
                      <a:pt x="1283" y="1019"/>
                    </a:lnTo>
                    <a:lnTo>
                      <a:pt x="1202" y="1011"/>
                    </a:lnTo>
                    <a:lnTo>
                      <a:pt x="1123" y="1003"/>
                    </a:lnTo>
                    <a:lnTo>
                      <a:pt x="1045" y="994"/>
                    </a:lnTo>
                    <a:lnTo>
                      <a:pt x="969" y="984"/>
                    </a:lnTo>
                    <a:lnTo>
                      <a:pt x="895" y="972"/>
                    </a:lnTo>
                    <a:lnTo>
                      <a:pt x="824" y="959"/>
                    </a:lnTo>
                    <a:lnTo>
                      <a:pt x="754" y="946"/>
                    </a:lnTo>
                    <a:lnTo>
                      <a:pt x="687" y="931"/>
                    </a:lnTo>
                    <a:lnTo>
                      <a:pt x="623" y="915"/>
                    </a:lnTo>
                    <a:lnTo>
                      <a:pt x="560" y="898"/>
                    </a:lnTo>
                    <a:lnTo>
                      <a:pt x="501" y="881"/>
                    </a:lnTo>
                    <a:lnTo>
                      <a:pt x="444" y="863"/>
                    </a:lnTo>
                    <a:lnTo>
                      <a:pt x="390" y="844"/>
                    </a:lnTo>
                    <a:lnTo>
                      <a:pt x="340" y="824"/>
                    </a:lnTo>
                    <a:lnTo>
                      <a:pt x="291" y="803"/>
                    </a:lnTo>
                    <a:lnTo>
                      <a:pt x="247" y="782"/>
                    </a:lnTo>
                    <a:lnTo>
                      <a:pt x="206" y="760"/>
                    </a:lnTo>
                    <a:lnTo>
                      <a:pt x="168" y="737"/>
                    </a:lnTo>
                    <a:lnTo>
                      <a:pt x="134" y="714"/>
                    </a:lnTo>
                    <a:lnTo>
                      <a:pt x="104" y="690"/>
                    </a:lnTo>
                    <a:lnTo>
                      <a:pt x="76" y="665"/>
                    </a:lnTo>
                    <a:lnTo>
                      <a:pt x="53" y="641"/>
                    </a:lnTo>
                    <a:lnTo>
                      <a:pt x="34" y="615"/>
                    </a:lnTo>
                    <a:lnTo>
                      <a:pt x="19" y="589"/>
                    </a:lnTo>
                    <a:lnTo>
                      <a:pt x="9" y="563"/>
                    </a:lnTo>
                    <a:lnTo>
                      <a:pt x="2" y="536"/>
                    </a:lnTo>
                    <a:lnTo>
                      <a:pt x="0" y="509"/>
                    </a:lnTo>
                    <a:lnTo>
                      <a:pt x="2" y="482"/>
                    </a:lnTo>
                    <a:lnTo>
                      <a:pt x="9" y="455"/>
                    </a:lnTo>
                    <a:lnTo>
                      <a:pt x="19" y="429"/>
                    </a:lnTo>
                    <a:lnTo>
                      <a:pt x="34" y="404"/>
                    </a:lnTo>
                    <a:lnTo>
                      <a:pt x="53" y="378"/>
                    </a:lnTo>
                    <a:lnTo>
                      <a:pt x="76" y="354"/>
                    </a:lnTo>
                    <a:lnTo>
                      <a:pt x="104" y="330"/>
                    </a:lnTo>
                    <a:lnTo>
                      <a:pt x="134" y="307"/>
                    </a:lnTo>
                    <a:lnTo>
                      <a:pt x="168" y="285"/>
                    </a:lnTo>
                    <a:lnTo>
                      <a:pt x="206" y="262"/>
                    </a:lnTo>
                    <a:lnTo>
                      <a:pt x="247" y="241"/>
                    </a:lnTo>
                    <a:lnTo>
                      <a:pt x="291" y="220"/>
                    </a:lnTo>
                    <a:lnTo>
                      <a:pt x="340" y="200"/>
                    </a:lnTo>
                    <a:lnTo>
                      <a:pt x="390" y="182"/>
                    </a:lnTo>
                    <a:lnTo>
                      <a:pt x="444" y="162"/>
                    </a:lnTo>
                    <a:lnTo>
                      <a:pt x="501" y="145"/>
                    </a:lnTo>
                    <a:lnTo>
                      <a:pt x="560" y="129"/>
                    </a:lnTo>
                    <a:lnTo>
                      <a:pt x="623" y="113"/>
                    </a:lnTo>
                    <a:lnTo>
                      <a:pt x="687" y="98"/>
                    </a:lnTo>
                    <a:lnTo>
                      <a:pt x="754" y="85"/>
                    </a:lnTo>
                    <a:lnTo>
                      <a:pt x="824" y="72"/>
                    </a:lnTo>
                    <a:lnTo>
                      <a:pt x="895" y="59"/>
                    </a:lnTo>
                    <a:lnTo>
                      <a:pt x="969" y="48"/>
                    </a:lnTo>
                    <a:lnTo>
                      <a:pt x="1045" y="38"/>
                    </a:lnTo>
                    <a:lnTo>
                      <a:pt x="1123" y="30"/>
                    </a:lnTo>
                    <a:lnTo>
                      <a:pt x="1202" y="22"/>
                    </a:lnTo>
                    <a:lnTo>
                      <a:pt x="1283" y="15"/>
                    </a:lnTo>
                    <a:lnTo>
                      <a:pt x="1366" y="10"/>
                    </a:lnTo>
                    <a:lnTo>
                      <a:pt x="1451" y="6"/>
                    </a:lnTo>
                    <a:lnTo>
                      <a:pt x="1537" y="3"/>
                    </a:lnTo>
                    <a:lnTo>
                      <a:pt x="1624" y="1"/>
                    </a:lnTo>
                    <a:lnTo>
                      <a:pt x="1711" y="0"/>
                    </a:lnTo>
                    <a:lnTo>
                      <a:pt x="1799" y="1"/>
                    </a:lnTo>
                    <a:lnTo>
                      <a:pt x="1886" y="3"/>
                    </a:lnTo>
                    <a:lnTo>
                      <a:pt x="1972" y="6"/>
                    </a:lnTo>
                    <a:lnTo>
                      <a:pt x="2057" y="10"/>
                    </a:lnTo>
                    <a:lnTo>
                      <a:pt x="2140" y="15"/>
                    </a:lnTo>
                    <a:lnTo>
                      <a:pt x="2220" y="22"/>
                    </a:lnTo>
                    <a:lnTo>
                      <a:pt x="2300" y="30"/>
                    </a:lnTo>
                    <a:lnTo>
                      <a:pt x="2378" y="38"/>
                    </a:lnTo>
                    <a:lnTo>
                      <a:pt x="2454" y="48"/>
                    </a:lnTo>
                    <a:lnTo>
                      <a:pt x="2527" y="59"/>
                    </a:lnTo>
                    <a:lnTo>
                      <a:pt x="2599" y="72"/>
                    </a:lnTo>
                    <a:lnTo>
                      <a:pt x="2669" y="85"/>
                    </a:lnTo>
                    <a:lnTo>
                      <a:pt x="2736" y="98"/>
                    </a:lnTo>
                    <a:lnTo>
                      <a:pt x="2800" y="113"/>
                    </a:lnTo>
                    <a:lnTo>
                      <a:pt x="2863" y="129"/>
                    </a:lnTo>
                    <a:lnTo>
                      <a:pt x="2922" y="145"/>
                    </a:lnTo>
                    <a:lnTo>
                      <a:pt x="2979" y="162"/>
                    </a:lnTo>
                    <a:lnTo>
                      <a:pt x="3032" y="182"/>
                    </a:lnTo>
                    <a:lnTo>
                      <a:pt x="3083" y="200"/>
                    </a:lnTo>
                    <a:lnTo>
                      <a:pt x="3131" y="220"/>
                    </a:lnTo>
                    <a:lnTo>
                      <a:pt x="3176" y="241"/>
                    </a:lnTo>
                    <a:lnTo>
                      <a:pt x="3217" y="262"/>
                    </a:lnTo>
                    <a:lnTo>
                      <a:pt x="3255" y="285"/>
                    </a:lnTo>
                    <a:lnTo>
                      <a:pt x="3289" y="307"/>
                    </a:lnTo>
                    <a:lnTo>
                      <a:pt x="3319" y="330"/>
                    </a:lnTo>
                    <a:lnTo>
                      <a:pt x="3347" y="354"/>
                    </a:lnTo>
                    <a:lnTo>
                      <a:pt x="3370" y="378"/>
                    </a:lnTo>
                    <a:lnTo>
                      <a:pt x="3389" y="404"/>
                    </a:lnTo>
                    <a:lnTo>
                      <a:pt x="3404" y="429"/>
                    </a:lnTo>
                    <a:lnTo>
                      <a:pt x="3414" y="455"/>
                    </a:lnTo>
                    <a:lnTo>
                      <a:pt x="3421" y="482"/>
                    </a:lnTo>
                    <a:lnTo>
                      <a:pt x="3423" y="5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101320" y="6516360"/>
                <a:ext cx="377280" cy="123120"/>
              </a:xfrm>
              <a:custGeom>
                <a:avLst/>
                <a:gdLst/>
                <a:ahLst/>
                <a:rect l="l" t="t" r="r" b="b"/>
                <a:pathLst>
                  <a:path w="3421" h="1034">
                    <a:moveTo>
                      <a:pt x="3421" y="508"/>
                    </a:moveTo>
                    <a:lnTo>
                      <a:pt x="3419" y="535"/>
                    </a:lnTo>
                    <a:lnTo>
                      <a:pt x="3412" y="562"/>
                    </a:lnTo>
                    <a:lnTo>
                      <a:pt x="3401" y="588"/>
                    </a:lnTo>
                    <a:lnTo>
                      <a:pt x="3386" y="614"/>
                    </a:lnTo>
                    <a:lnTo>
                      <a:pt x="3367" y="639"/>
                    </a:lnTo>
                    <a:lnTo>
                      <a:pt x="3345" y="664"/>
                    </a:lnTo>
                    <a:lnTo>
                      <a:pt x="3317" y="688"/>
                    </a:lnTo>
                    <a:lnTo>
                      <a:pt x="3287" y="713"/>
                    </a:lnTo>
                    <a:lnTo>
                      <a:pt x="3253" y="736"/>
                    </a:lnTo>
                    <a:lnTo>
                      <a:pt x="3214" y="759"/>
                    </a:lnTo>
                    <a:lnTo>
                      <a:pt x="3174" y="780"/>
                    </a:lnTo>
                    <a:lnTo>
                      <a:pt x="3129" y="801"/>
                    </a:lnTo>
                    <a:lnTo>
                      <a:pt x="3081" y="823"/>
                    </a:lnTo>
                    <a:lnTo>
                      <a:pt x="3030" y="843"/>
                    </a:lnTo>
                    <a:lnTo>
                      <a:pt x="2977" y="861"/>
                    </a:lnTo>
                    <a:lnTo>
                      <a:pt x="2920" y="880"/>
                    </a:lnTo>
                    <a:lnTo>
                      <a:pt x="2861" y="897"/>
                    </a:lnTo>
                    <a:lnTo>
                      <a:pt x="2798" y="913"/>
                    </a:lnTo>
                    <a:lnTo>
                      <a:pt x="2734" y="930"/>
                    </a:lnTo>
                    <a:lnTo>
                      <a:pt x="2667" y="944"/>
                    </a:lnTo>
                    <a:lnTo>
                      <a:pt x="2597" y="958"/>
                    </a:lnTo>
                    <a:lnTo>
                      <a:pt x="2525" y="970"/>
                    </a:lnTo>
                    <a:lnTo>
                      <a:pt x="2452" y="982"/>
                    </a:lnTo>
                    <a:lnTo>
                      <a:pt x="2376" y="992"/>
                    </a:lnTo>
                    <a:lnTo>
                      <a:pt x="2298" y="1001"/>
                    </a:lnTo>
                    <a:lnTo>
                      <a:pt x="2219" y="1010"/>
                    </a:lnTo>
                    <a:lnTo>
                      <a:pt x="2138" y="1017"/>
                    </a:lnTo>
                    <a:lnTo>
                      <a:pt x="2055" y="1022"/>
                    </a:lnTo>
                    <a:lnTo>
                      <a:pt x="1971" y="1028"/>
                    </a:lnTo>
                    <a:lnTo>
                      <a:pt x="1885" y="1031"/>
                    </a:lnTo>
                    <a:lnTo>
                      <a:pt x="1798" y="1033"/>
                    </a:lnTo>
                    <a:lnTo>
                      <a:pt x="1710" y="1034"/>
                    </a:lnTo>
                    <a:lnTo>
                      <a:pt x="1623" y="1033"/>
                    </a:lnTo>
                    <a:lnTo>
                      <a:pt x="1536" y="1031"/>
                    </a:lnTo>
                    <a:lnTo>
                      <a:pt x="1450" y="1028"/>
                    </a:lnTo>
                    <a:lnTo>
                      <a:pt x="1366" y="1022"/>
                    </a:lnTo>
                    <a:lnTo>
                      <a:pt x="1283" y="1017"/>
                    </a:lnTo>
                    <a:lnTo>
                      <a:pt x="1201" y="1010"/>
                    </a:lnTo>
                    <a:lnTo>
                      <a:pt x="1123" y="1001"/>
                    </a:lnTo>
                    <a:lnTo>
                      <a:pt x="1045" y="992"/>
                    </a:lnTo>
                    <a:lnTo>
                      <a:pt x="969" y="982"/>
                    </a:lnTo>
                    <a:lnTo>
                      <a:pt x="895" y="970"/>
                    </a:lnTo>
                    <a:lnTo>
                      <a:pt x="824" y="958"/>
                    </a:lnTo>
                    <a:lnTo>
                      <a:pt x="754" y="944"/>
                    </a:lnTo>
                    <a:lnTo>
                      <a:pt x="687" y="930"/>
                    </a:lnTo>
                    <a:lnTo>
                      <a:pt x="623" y="913"/>
                    </a:lnTo>
                    <a:lnTo>
                      <a:pt x="560" y="897"/>
                    </a:lnTo>
                    <a:lnTo>
                      <a:pt x="501" y="880"/>
                    </a:lnTo>
                    <a:lnTo>
                      <a:pt x="444" y="861"/>
                    </a:lnTo>
                    <a:lnTo>
                      <a:pt x="390" y="843"/>
                    </a:lnTo>
                    <a:lnTo>
                      <a:pt x="340" y="823"/>
                    </a:lnTo>
                    <a:lnTo>
                      <a:pt x="293" y="801"/>
                    </a:lnTo>
                    <a:lnTo>
                      <a:pt x="247" y="780"/>
                    </a:lnTo>
                    <a:lnTo>
                      <a:pt x="207" y="759"/>
                    </a:lnTo>
                    <a:lnTo>
                      <a:pt x="168" y="736"/>
                    </a:lnTo>
                    <a:lnTo>
                      <a:pt x="134" y="713"/>
                    </a:lnTo>
                    <a:lnTo>
                      <a:pt x="104" y="688"/>
                    </a:lnTo>
                    <a:lnTo>
                      <a:pt x="76" y="664"/>
                    </a:lnTo>
                    <a:lnTo>
                      <a:pt x="54" y="639"/>
                    </a:lnTo>
                    <a:lnTo>
                      <a:pt x="35" y="614"/>
                    </a:lnTo>
                    <a:lnTo>
                      <a:pt x="20" y="588"/>
                    </a:lnTo>
                    <a:lnTo>
                      <a:pt x="9" y="562"/>
                    </a:lnTo>
                    <a:lnTo>
                      <a:pt x="3" y="535"/>
                    </a:lnTo>
                    <a:lnTo>
                      <a:pt x="0" y="508"/>
                    </a:lnTo>
                    <a:lnTo>
                      <a:pt x="3" y="481"/>
                    </a:lnTo>
                    <a:lnTo>
                      <a:pt x="9" y="454"/>
                    </a:lnTo>
                    <a:lnTo>
                      <a:pt x="20" y="428"/>
                    </a:lnTo>
                    <a:lnTo>
                      <a:pt x="35" y="403"/>
                    </a:lnTo>
                    <a:lnTo>
                      <a:pt x="54" y="377"/>
                    </a:lnTo>
                    <a:lnTo>
                      <a:pt x="76" y="353"/>
                    </a:lnTo>
                    <a:lnTo>
                      <a:pt x="104" y="329"/>
                    </a:lnTo>
                    <a:lnTo>
                      <a:pt x="134" y="306"/>
                    </a:lnTo>
                    <a:lnTo>
                      <a:pt x="168" y="284"/>
                    </a:lnTo>
                    <a:lnTo>
                      <a:pt x="207" y="261"/>
                    </a:lnTo>
                    <a:lnTo>
                      <a:pt x="247" y="240"/>
                    </a:lnTo>
                    <a:lnTo>
                      <a:pt x="293" y="220"/>
                    </a:lnTo>
                    <a:lnTo>
                      <a:pt x="340" y="200"/>
                    </a:lnTo>
                    <a:lnTo>
                      <a:pt x="390" y="181"/>
                    </a:lnTo>
                    <a:lnTo>
                      <a:pt x="444" y="162"/>
                    </a:lnTo>
                    <a:lnTo>
                      <a:pt x="501" y="145"/>
                    </a:lnTo>
                    <a:lnTo>
                      <a:pt x="560" y="128"/>
                    </a:lnTo>
                    <a:lnTo>
                      <a:pt x="623" y="113"/>
                    </a:lnTo>
                    <a:lnTo>
                      <a:pt x="687" y="98"/>
                    </a:lnTo>
                    <a:lnTo>
                      <a:pt x="754" y="84"/>
                    </a:lnTo>
                    <a:lnTo>
                      <a:pt x="824" y="72"/>
                    </a:lnTo>
                    <a:lnTo>
                      <a:pt x="895" y="59"/>
                    </a:lnTo>
                    <a:lnTo>
                      <a:pt x="969" y="48"/>
                    </a:lnTo>
                    <a:lnTo>
                      <a:pt x="1045" y="38"/>
                    </a:lnTo>
                    <a:lnTo>
                      <a:pt x="1123" y="30"/>
                    </a:lnTo>
                    <a:lnTo>
                      <a:pt x="1201" y="22"/>
                    </a:lnTo>
                    <a:lnTo>
                      <a:pt x="1283" y="15"/>
                    </a:lnTo>
                    <a:lnTo>
                      <a:pt x="1366" y="10"/>
                    </a:lnTo>
                    <a:lnTo>
                      <a:pt x="1450" y="6"/>
                    </a:lnTo>
                    <a:lnTo>
                      <a:pt x="1536" y="3"/>
                    </a:lnTo>
                    <a:lnTo>
                      <a:pt x="1623" y="1"/>
                    </a:lnTo>
                    <a:lnTo>
                      <a:pt x="1710" y="0"/>
                    </a:lnTo>
                    <a:lnTo>
                      <a:pt x="1798" y="1"/>
                    </a:lnTo>
                    <a:lnTo>
                      <a:pt x="1885" y="3"/>
                    </a:lnTo>
                    <a:lnTo>
                      <a:pt x="1971" y="6"/>
                    </a:lnTo>
                    <a:lnTo>
                      <a:pt x="2055" y="10"/>
                    </a:lnTo>
                    <a:lnTo>
                      <a:pt x="2138" y="15"/>
                    </a:lnTo>
                    <a:lnTo>
                      <a:pt x="2219" y="22"/>
                    </a:lnTo>
                    <a:lnTo>
                      <a:pt x="2298" y="30"/>
                    </a:lnTo>
                    <a:lnTo>
                      <a:pt x="2376" y="38"/>
                    </a:lnTo>
                    <a:lnTo>
                      <a:pt x="2452" y="48"/>
                    </a:lnTo>
                    <a:lnTo>
                      <a:pt x="2525" y="59"/>
                    </a:lnTo>
                    <a:lnTo>
                      <a:pt x="2597" y="72"/>
                    </a:lnTo>
                    <a:lnTo>
                      <a:pt x="2667" y="84"/>
                    </a:lnTo>
                    <a:lnTo>
                      <a:pt x="2734" y="98"/>
                    </a:lnTo>
                    <a:lnTo>
                      <a:pt x="2798" y="113"/>
                    </a:lnTo>
                    <a:lnTo>
                      <a:pt x="2861" y="128"/>
                    </a:lnTo>
                    <a:lnTo>
                      <a:pt x="2920" y="145"/>
                    </a:lnTo>
                    <a:lnTo>
                      <a:pt x="2977" y="162"/>
                    </a:lnTo>
                    <a:lnTo>
                      <a:pt x="3030" y="181"/>
                    </a:lnTo>
                    <a:lnTo>
                      <a:pt x="3081" y="200"/>
                    </a:lnTo>
                    <a:lnTo>
                      <a:pt x="3129" y="220"/>
                    </a:lnTo>
                    <a:lnTo>
                      <a:pt x="3174" y="240"/>
                    </a:lnTo>
                    <a:lnTo>
                      <a:pt x="3214" y="261"/>
                    </a:lnTo>
                    <a:lnTo>
                      <a:pt x="3253" y="284"/>
                    </a:lnTo>
                    <a:lnTo>
                      <a:pt x="3287" y="306"/>
                    </a:lnTo>
                    <a:lnTo>
                      <a:pt x="3317" y="329"/>
                    </a:lnTo>
                    <a:lnTo>
                      <a:pt x="3345" y="353"/>
                    </a:lnTo>
                    <a:lnTo>
                      <a:pt x="3367" y="377"/>
                    </a:lnTo>
                    <a:lnTo>
                      <a:pt x="3386" y="403"/>
                    </a:lnTo>
                    <a:lnTo>
                      <a:pt x="3401" y="428"/>
                    </a:lnTo>
                    <a:lnTo>
                      <a:pt x="3412" y="454"/>
                    </a:lnTo>
                    <a:lnTo>
                      <a:pt x="3419" y="481"/>
                    </a:lnTo>
                    <a:lnTo>
                      <a:pt x="3421" y="5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102400" y="6516360"/>
                <a:ext cx="376200" cy="123120"/>
              </a:xfrm>
              <a:custGeom>
                <a:avLst/>
                <a:gdLst/>
                <a:ahLst/>
                <a:rect l="l" t="t" r="r" b="b"/>
                <a:pathLst>
                  <a:path w="3417" h="1032">
                    <a:moveTo>
                      <a:pt x="3417" y="507"/>
                    </a:moveTo>
                    <a:lnTo>
                      <a:pt x="3415" y="534"/>
                    </a:lnTo>
                    <a:lnTo>
                      <a:pt x="3409" y="560"/>
                    </a:lnTo>
                    <a:lnTo>
                      <a:pt x="3398" y="586"/>
                    </a:lnTo>
                    <a:lnTo>
                      <a:pt x="3383" y="613"/>
                    </a:lnTo>
                    <a:lnTo>
                      <a:pt x="3364" y="638"/>
                    </a:lnTo>
                    <a:lnTo>
                      <a:pt x="3341" y="663"/>
                    </a:lnTo>
                    <a:lnTo>
                      <a:pt x="3314" y="687"/>
                    </a:lnTo>
                    <a:lnTo>
                      <a:pt x="3283" y="712"/>
                    </a:lnTo>
                    <a:lnTo>
                      <a:pt x="3250" y="735"/>
                    </a:lnTo>
                    <a:lnTo>
                      <a:pt x="3211" y="757"/>
                    </a:lnTo>
                    <a:lnTo>
                      <a:pt x="3170" y="779"/>
                    </a:lnTo>
                    <a:lnTo>
                      <a:pt x="3125" y="800"/>
                    </a:lnTo>
                    <a:lnTo>
                      <a:pt x="3078" y="821"/>
                    </a:lnTo>
                    <a:lnTo>
                      <a:pt x="3027" y="841"/>
                    </a:lnTo>
                    <a:lnTo>
                      <a:pt x="2974" y="860"/>
                    </a:lnTo>
                    <a:lnTo>
                      <a:pt x="2917" y="878"/>
                    </a:lnTo>
                    <a:lnTo>
                      <a:pt x="2858" y="895"/>
                    </a:lnTo>
                    <a:lnTo>
                      <a:pt x="2796" y="911"/>
                    </a:lnTo>
                    <a:lnTo>
                      <a:pt x="2732" y="928"/>
                    </a:lnTo>
                    <a:lnTo>
                      <a:pt x="2664" y="942"/>
                    </a:lnTo>
                    <a:lnTo>
                      <a:pt x="2595" y="956"/>
                    </a:lnTo>
                    <a:lnTo>
                      <a:pt x="2523" y="968"/>
                    </a:lnTo>
                    <a:lnTo>
                      <a:pt x="2450" y="980"/>
                    </a:lnTo>
                    <a:lnTo>
                      <a:pt x="2374" y="990"/>
                    </a:lnTo>
                    <a:lnTo>
                      <a:pt x="2296" y="1000"/>
                    </a:lnTo>
                    <a:lnTo>
                      <a:pt x="2216" y="1008"/>
                    </a:lnTo>
                    <a:lnTo>
                      <a:pt x="2136" y="1015"/>
                    </a:lnTo>
                    <a:lnTo>
                      <a:pt x="2053" y="1021"/>
                    </a:lnTo>
                    <a:lnTo>
                      <a:pt x="1969" y="1025"/>
                    </a:lnTo>
                    <a:lnTo>
                      <a:pt x="1883" y="1029"/>
                    </a:lnTo>
                    <a:lnTo>
                      <a:pt x="1796" y="1031"/>
                    </a:lnTo>
                    <a:lnTo>
                      <a:pt x="1708" y="1032"/>
                    </a:lnTo>
                    <a:lnTo>
                      <a:pt x="1621" y="1031"/>
                    </a:lnTo>
                    <a:lnTo>
                      <a:pt x="1534" y="1029"/>
                    </a:lnTo>
                    <a:lnTo>
                      <a:pt x="1448" y="1025"/>
                    </a:lnTo>
                    <a:lnTo>
                      <a:pt x="1364" y="1021"/>
                    </a:lnTo>
                    <a:lnTo>
                      <a:pt x="1281" y="1015"/>
                    </a:lnTo>
                    <a:lnTo>
                      <a:pt x="1200" y="1008"/>
                    </a:lnTo>
                    <a:lnTo>
                      <a:pt x="1121" y="1000"/>
                    </a:lnTo>
                    <a:lnTo>
                      <a:pt x="1043" y="990"/>
                    </a:lnTo>
                    <a:lnTo>
                      <a:pt x="967" y="980"/>
                    </a:lnTo>
                    <a:lnTo>
                      <a:pt x="893" y="968"/>
                    </a:lnTo>
                    <a:lnTo>
                      <a:pt x="822" y="956"/>
                    </a:lnTo>
                    <a:lnTo>
                      <a:pt x="753" y="942"/>
                    </a:lnTo>
                    <a:lnTo>
                      <a:pt x="685" y="928"/>
                    </a:lnTo>
                    <a:lnTo>
                      <a:pt x="622" y="911"/>
                    </a:lnTo>
                    <a:lnTo>
                      <a:pt x="559" y="895"/>
                    </a:lnTo>
                    <a:lnTo>
                      <a:pt x="500" y="878"/>
                    </a:lnTo>
                    <a:lnTo>
                      <a:pt x="443" y="860"/>
                    </a:lnTo>
                    <a:lnTo>
                      <a:pt x="389" y="841"/>
                    </a:lnTo>
                    <a:lnTo>
                      <a:pt x="339" y="821"/>
                    </a:lnTo>
                    <a:lnTo>
                      <a:pt x="292" y="800"/>
                    </a:lnTo>
                    <a:lnTo>
                      <a:pt x="247" y="779"/>
                    </a:lnTo>
                    <a:lnTo>
                      <a:pt x="206" y="757"/>
                    </a:lnTo>
                    <a:lnTo>
                      <a:pt x="168" y="735"/>
                    </a:lnTo>
                    <a:lnTo>
                      <a:pt x="134" y="712"/>
                    </a:lnTo>
                    <a:lnTo>
                      <a:pt x="103" y="687"/>
                    </a:lnTo>
                    <a:lnTo>
                      <a:pt x="76" y="663"/>
                    </a:lnTo>
                    <a:lnTo>
                      <a:pt x="53" y="638"/>
                    </a:lnTo>
                    <a:lnTo>
                      <a:pt x="34" y="613"/>
                    </a:lnTo>
                    <a:lnTo>
                      <a:pt x="19" y="586"/>
                    </a:lnTo>
                    <a:lnTo>
                      <a:pt x="8" y="560"/>
                    </a:lnTo>
                    <a:lnTo>
                      <a:pt x="2" y="534"/>
                    </a:lnTo>
                    <a:lnTo>
                      <a:pt x="0" y="507"/>
                    </a:lnTo>
                    <a:lnTo>
                      <a:pt x="2" y="480"/>
                    </a:lnTo>
                    <a:lnTo>
                      <a:pt x="8" y="453"/>
                    </a:lnTo>
                    <a:lnTo>
                      <a:pt x="19" y="428"/>
                    </a:lnTo>
                    <a:lnTo>
                      <a:pt x="34" y="402"/>
                    </a:lnTo>
                    <a:lnTo>
                      <a:pt x="53" y="377"/>
                    </a:lnTo>
                    <a:lnTo>
                      <a:pt x="76" y="352"/>
                    </a:lnTo>
                    <a:lnTo>
                      <a:pt x="103" y="329"/>
                    </a:lnTo>
                    <a:lnTo>
                      <a:pt x="134" y="306"/>
                    </a:lnTo>
                    <a:lnTo>
                      <a:pt x="168" y="283"/>
                    </a:lnTo>
                    <a:lnTo>
                      <a:pt x="206" y="261"/>
                    </a:lnTo>
                    <a:lnTo>
                      <a:pt x="247" y="240"/>
                    </a:lnTo>
                    <a:lnTo>
                      <a:pt x="292" y="219"/>
                    </a:lnTo>
                    <a:lnTo>
                      <a:pt x="339" y="200"/>
                    </a:lnTo>
                    <a:lnTo>
                      <a:pt x="389" y="181"/>
                    </a:lnTo>
                    <a:lnTo>
                      <a:pt x="443" y="162"/>
                    </a:lnTo>
                    <a:lnTo>
                      <a:pt x="500" y="144"/>
                    </a:lnTo>
                    <a:lnTo>
                      <a:pt x="559" y="128"/>
                    </a:lnTo>
                    <a:lnTo>
                      <a:pt x="622" y="113"/>
                    </a:lnTo>
                    <a:lnTo>
                      <a:pt x="685" y="98"/>
                    </a:lnTo>
                    <a:lnTo>
                      <a:pt x="753" y="84"/>
                    </a:lnTo>
                    <a:lnTo>
                      <a:pt x="822" y="71"/>
                    </a:lnTo>
                    <a:lnTo>
                      <a:pt x="893" y="59"/>
                    </a:lnTo>
                    <a:lnTo>
                      <a:pt x="967" y="48"/>
                    </a:lnTo>
                    <a:lnTo>
                      <a:pt x="1043" y="38"/>
                    </a:lnTo>
                    <a:lnTo>
                      <a:pt x="1121" y="29"/>
                    </a:lnTo>
                    <a:lnTo>
                      <a:pt x="1200" y="22"/>
                    </a:lnTo>
                    <a:lnTo>
                      <a:pt x="1281" y="15"/>
                    </a:lnTo>
                    <a:lnTo>
                      <a:pt x="1364" y="10"/>
                    </a:lnTo>
                    <a:lnTo>
                      <a:pt x="1448" y="6"/>
                    </a:lnTo>
                    <a:lnTo>
                      <a:pt x="1534" y="2"/>
                    </a:lnTo>
                    <a:lnTo>
                      <a:pt x="1621" y="1"/>
                    </a:lnTo>
                    <a:lnTo>
                      <a:pt x="1708" y="0"/>
                    </a:lnTo>
                    <a:lnTo>
                      <a:pt x="1796" y="1"/>
                    </a:lnTo>
                    <a:lnTo>
                      <a:pt x="1883" y="2"/>
                    </a:lnTo>
                    <a:lnTo>
                      <a:pt x="1969" y="6"/>
                    </a:lnTo>
                    <a:lnTo>
                      <a:pt x="2053" y="10"/>
                    </a:lnTo>
                    <a:lnTo>
                      <a:pt x="2136" y="15"/>
                    </a:lnTo>
                    <a:lnTo>
                      <a:pt x="2216" y="22"/>
                    </a:lnTo>
                    <a:lnTo>
                      <a:pt x="2296" y="29"/>
                    </a:lnTo>
                    <a:lnTo>
                      <a:pt x="2374" y="38"/>
                    </a:lnTo>
                    <a:lnTo>
                      <a:pt x="2450" y="48"/>
                    </a:lnTo>
                    <a:lnTo>
                      <a:pt x="2523" y="59"/>
                    </a:lnTo>
                    <a:lnTo>
                      <a:pt x="2595" y="71"/>
                    </a:lnTo>
                    <a:lnTo>
                      <a:pt x="2664" y="84"/>
                    </a:lnTo>
                    <a:lnTo>
                      <a:pt x="2732" y="98"/>
                    </a:lnTo>
                    <a:lnTo>
                      <a:pt x="2796" y="113"/>
                    </a:lnTo>
                    <a:lnTo>
                      <a:pt x="2858" y="128"/>
                    </a:lnTo>
                    <a:lnTo>
                      <a:pt x="2917" y="144"/>
                    </a:lnTo>
                    <a:lnTo>
                      <a:pt x="2974" y="162"/>
                    </a:lnTo>
                    <a:lnTo>
                      <a:pt x="3027" y="181"/>
                    </a:lnTo>
                    <a:lnTo>
                      <a:pt x="3078" y="200"/>
                    </a:lnTo>
                    <a:lnTo>
                      <a:pt x="3125" y="219"/>
                    </a:lnTo>
                    <a:lnTo>
                      <a:pt x="3170" y="240"/>
                    </a:lnTo>
                    <a:lnTo>
                      <a:pt x="3211" y="261"/>
                    </a:lnTo>
                    <a:lnTo>
                      <a:pt x="3250" y="283"/>
                    </a:lnTo>
                    <a:lnTo>
                      <a:pt x="3283" y="306"/>
                    </a:lnTo>
                    <a:lnTo>
                      <a:pt x="3314" y="329"/>
                    </a:lnTo>
                    <a:lnTo>
                      <a:pt x="3341" y="352"/>
                    </a:lnTo>
                    <a:lnTo>
                      <a:pt x="3364" y="377"/>
                    </a:lnTo>
                    <a:lnTo>
                      <a:pt x="3383" y="402"/>
                    </a:lnTo>
                    <a:lnTo>
                      <a:pt x="3398" y="428"/>
                    </a:lnTo>
                    <a:lnTo>
                      <a:pt x="3409" y="453"/>
                    </a:lnTo>
                    <a:lnTo>
                      <a:pt x="3415" y="480"/>
                    </a:lnTo>
                    <a:lnTo>
                      <a:pt x="3417" y="5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102400" y="6516360"/>
                <a:ext cx="376200" cy="123120"/>
              </a:xfrm>
              <a:custGeom>
                <a:avLst/>
                <a:gdLst/>
                <a:ahLst/>
                <a:rect l="l" t="t" r="r" b="b"/>
                <a:pathLst>
                  <a:path w="3415" h="1030">
                    <a:moveTo>
                      <a:pt x="3415" y="506"/>
                    </a:moveTo>
                    <a:lnTo>
                      <a:pt x="3413" y="533"/>
                    </a:lnTo>
                    <a:lnTo>
                      <a:pt x="3406" y="559"/>
                    </a:lnTo>
                    <a:lnTo>
                      <a:pt x="3395" y="585"/>
                    </a:lnTo>
                    <a:lnTo>
                      <a:pt x="3381" y="612"/>
                    </a:lnTo>
                    <a:lnTo>
                      <a:pt x="3362" y="637"/>
                    </a:lnTo>
                    <a:lnTo>
                      <a:pt x="3339" y="662"/>
                    </a:lnTo>
                    <a:lnTo>
                      <a:pt x="3311" y="686"/>
                    </a:lnTo>
                    <a:lnTo>
                      <a:pt x="3281" y="710"/>
                    </a:lnTo>
                    <a:lnTo>
                      <a:pt x="3247" y="733"/>
                    </a:lnTo>
                    <a:lnTo>
                      <a:pt x="3209" y="756"/>
                    </a:lnTo>
                    <a:lnTo>
                      <a:pt x="3168" y="777"/>
                    </a:lnTo>
                    <a:lnTo>
                      <a:pt x="3123" y="798"/>
                    </a:lnTo>
                    <a:lnTo>
                      <a:pt x="3076" y="820"/>
                    </a:lnTo>
                    <a:lnTo>
                      <a:pt x="3025" y="839"/>
                    </a:lnTo>
                    <a:lnTo>
                      <a:pt x="2972" y="858"/>
                    </a:lnTo>
                    <a:lnTo>
                      <a:pt x="2915" y="876"/>
                    </a:lnTo>
                    <a:lnTo>
                      <a:pt x="2856" y="893"/>
                    </a:lnTo>
                    <a:lnTo>
                      <a:pt x="2794" y="910"/>
                    </a:lnTo>
                    <a:lnTo>
                      <a:pt x="2730" y="926"/>
                    </a:lnTo>
                    <a:lnTo>
                      <a:pt x="2662" y="941"/>
                    </a:lnTo>
                    <a:lnTo>
                      <a:pt x="2593" y="954"/>
                    </a:lnTo>
                    <a:lnTo>
                      <a:pt x="2521" y="967"/>
                    </a:lnTo>
                    <a:lnTo>
                      <a:pt x="2448" y="978"/>
                    </a:lnTo>
                    <a:lnTo>
                      <a:pt x="2372" y="988"/>
                    </a:lnTo>
                    <a:lnTo>
                      <a:pt x="2294" y="998"/>
                    </a:lnTo>
                    <a:lnTo>
                      <a:pt x="2215" y="1006"/>
                    </a:lnTo>
                    <a:lnTo>
                      <a:pt x="2135" y="1013"/>
                    </a:lnTo>
                    <a:lnTo>
                      <a:pt x="2052" y="1019"/>
                    </a:lnTo>
                    <a:lnTo>
                      <a:pt x="1968" y="1023"/>
                    </a:lnTo>
                    <a:lnTo>
                      <a:pt x="1882" y="1027"/>
                    </a:lnTo>
                    <a:lnTo>
                      <a:pt x="1795" y="1029"/>
                    </a:lnTo>
                    <a:lnTo>
                      <a:pt x="1707" y="1030"/>
                    </a:lnTo>
                    <a:lnTo>
                      <a:pt x="1620" y="1029"/>
                    </a:lnTo>
                    <a:lnTo>
                      <a:pt x="1533" y="1027"/>
                    </a:lnTo>
                    <a:lnTo>
                      <a:pt x="1448" y="1023"/>
                    </a:lnTo>
                    <a:lnTo>
                      <a:pt x="1363" y="1019"/>
                    </a:lnTo>
                    <a:lnTo>
                      <a:pt x="1280" y="1013"/>
                    </a:lnTo>
                    <a:lnTo>
                      <a:pt x="1199" y="1006"/>
                    </a:lnTo>
                    <a:lnTo>
                      <a:pt x="1121" y="998"/>
                    </a:lnTo>
                    <a:lnTo>
                      <a:pt x="1043" y="988"/>
                    </a:lnTo>
                    <a:lnTo>
                      <a:pt x="967" y="978"/>
                    </a:lnTo>
                    <a:lnTo>
                      <a:pt x="893" y="967"/>
                    </a:lnTo>
                    <a:lnTo>
                      <a:pt x="822" y="954"/>
                    </a:lnTo>
                    <a:lnTo>
                      <a:pt x="753" y="941"/>
                    </a:lnTo>
                    <a:lnTo>
                      <a:pt x="685" y="926"/>
                    </a:lnTo>
                    <a:lnTo>
                      <a:pt x="621" y="910"/>
                    </a:lnTo>
                    <a:lnTo>
                      <a:pt x="559" y="893"/>
                    </a:lnTo>
                    <a:lnTo>
                      <a:pt x="500" y="876"/>
                    </a:lnTo>
                    <a:lnTo>
                      <a:pt x="443" y="858"/>
                    </a:lnTo>
                    <a:lnTo>
                      <a:pt x="389" y="839"/>
                    </a:lnTo>
                    <a:lnTo>
                      <a:pt x="339" y="820"/>
                    </a:lnTo>
                    <a:lnTo>
                      <a:pt x="292" y="798"/>
                    </a:lnTo>
                    <a:lnTo>
                      <a:pt x="247" y="777"/>
                    </a:lnTo>
                    <a:lnTo>
                      <a:pt x="206" y="756"/>
                    </a:lnTo>
                    <a:lnTo>
                      <a:pt x="168" y="733"/>
                    </a:lnTo>
                    <a:lnTo>
                      <a:pt x="134" y="710"/>
                    </a:lnTo>
                    <a:lnTo>
                      <a:pt x="104" y="686"/>
                    </a:lnTo>
                    <a:lnTo>
                      <a:pt x="76" y="662"/>
                    </a:lnTo>
                    <a:lnTo>
                      <a:pt x="53" y="637"/>
                    </a:lnTo>
                    <a:lnTo>
                      <a:pt x="34" y="612"/>
                    </a:lnTo>
                    <a:lnTo>
                      <a:pt x="20" y="585"/>
                    </a:lnTo>
                    <a:lnTo>
                      <a:pt x="9" y="559"/>
                    </a:lnTo>
                    <a:lnTo>
                      <a:pt x="2" y="533"/>
                    </a:lnTo>
                    <a:lnTo>
                      <a:pt x="0" y="506"/>
                    </a:lnTo>
                    <a:lnTo>
                      <a:pt x="2" y="479"/>
                    </a:lnTo>
                    <a:lnTo>
                      <a:pt x="9" y="452"/>
                    </a:lnTo>
                    <a:lnTo>
                      <a:pt x="20" y="427"/>
                    </a:lnTo>
                    <a:lnTo>
                      <a:pt x="34" y="402"/>
                    </a:lnTo>
                    <a:lnTo>
                      <a:pt x="53" y="376"/>
                    </a:lnTo>
                    <a:lnTo>
                      <a:pt x="76" y="352"/>
                    </a:lnTo>
                    <a:lnTo>
                      <a:pt x="104" y="328"/>
                    </a:lnTo>
                    <a:lnTo>
                      <a:pt x="134" y="305"/>
                    </a:lnTo>
                    <a:lnTo>
                      <a:pt x="168" y="283"/>
                    </a:lnTo>
                    <a:lnTo>
                      <a:pt x="206" y="260"/>
                    </a:lnTo>
                    <a:lnTo>
                      <a:pt x="247" y="239"/>
                    </a:lnTo>
                    <a:lnTo>
                      <a:pt x="292" y="219"/>
                    </a:lnTo>
                    <a:lnTo>
                      <a:pt x="339" y="199"/>
                    </a:lnTo>
                    <a:lnTo>
                      <a:pt x="389" y="180"/>
                    </a:lnTo>
                    <a:lnTo>
                      <a:pt x="443" y="161"/>
                    </a:lnTo>
                    <a:lnTo>
                      <a:pt x="500" y="144"/>
                    </a:lnTo>
                    <a:lnTo>
                      <a:pt x="559" y="128"/>
                    </a:lnTo>
                    <a:lnTo>
                      <a:pt x="621" y="112"/>
                    </a:lnTo>
                    <a:lnTo>
                      <a:pt x="685" y="98"/>
                    </a:lnTo>
                    <a:lnTo>
                      <a:pt x="753" y="84"/>
                    </a:lnTo>
                    <a:lnTo>
                      <a:pt x="822" y="71"/>
                    </a:lnTo>
                    <a:lnTo>
                      <a:pt x="893" y="59"/>
                    </a:lnTo>
                    <a:lnTo>
                      <a:pt x="967" y="48"/>
                    </a:lnTo>
                    <a:lnTo>
                      <a:pt x="1043" y="38"/>
                    </a:lnTo>
                    <a:lnTo>
                      <a:pt x="1121" y="29"/>
                    </a:lnTo>
                    <a:lnTo>
                      <a:pt x="1199" y="22"/>
                    </a:lnTo>
                    <a:lnTo>
                      <a:pt x="1280" y="15"/>
                    </a:lnTo>
                    <a:lnTo>
                      <a:pt x="1363" y="10"/>
                    </a:lnTo>
                    <a:lnTo>
                      <a:pt x="1448" y="6"/>
                    </a:lnTo>
                    <a:lnTo>
                      <a:pt x="1533" y="2"/>
                    </a:lnTo>
                    <a:lnTo>
                      <a:pt x="1620" y="1"/>
                    </a:lnTo>
                    <a:lnTo>
                      <a:pt x="1707" y="0"/>
                    </a:lnTo>
                    <a:lnTo>
                      <a:pt x="1795" y="1"/>
                    </a:lnTo>
                    <a:lnTo>
                      <a:pt x="1882" y="2"/>
                    </a:lnTo>
                    <a:lnTo>
                      <a:pt x="1968" y="6"/>
                    </a:lnTo>
                    <a:lnTo>
                      <a:pt x="2052" y="10"/>
                    </a:lnTo>
                    <a:lnTo>
                      <a:pt x="2135" y="15"/>
                    </a:lnTo>
                    <a:lnTo>
                      <a:pt x="2215" y="22"/>
                    </a:lnTo>
                    <a:lnTo>
                      <a:pt x="2294" y="29"/>
                    </a:lnTo>
                    <a:lnTo>
                      <a:pt x="2372" y="38"/>
                    </a:lnTo>
                    <a:lnTo>
                      <a:pt x="2448" y="48"/>
                    </a:lnTo>
                    <a:lnTo>
                      <a:pt x="2521" y="59"/>
                    </a:lnTo>
                    <a:lnTo>
                      <a:pt x="2593" y="71"/>
                    </a:lnTo>
                    <a:lnTo>
                      <a:pt x="2662" y="84"/>
                    </a:lnTo>
                    <a:lnTo>
                      <a:pt x="2730" y="98"/>
                    </a:lnTo>
                    <a:lnTo>
                      <a:pt x="2794" y="112"/>
                    </a:lnTo>
                    <a:lnTo>
                      <a:pt x="2856" y="128"/>
                    </a:lnTo>
                    <a:lnTo>
                      <a:pt x="2915" y="144"/>
                    </a:lnTo>
                    <a:lnTo>
                      <a:pt x="2972" y="161"/>
                    </a:lnTo>
                    <a:lnTo>
                      <a:pt x="3025" y="180"/>
                    </a:lnTo>
                    <a:lnTo>
                      <a:pt x="3076" y="199"/>
                    </a:lnTo>
                    <a:lnTo>
                      <a:pt x="3123" y="219"/>
                    </a:lnTo>
                    <a:lnTo>
                      <a:pt x="3168" y="239"/>
                    </a:lnTo>
                    <a:lnTo>
                      <a:pt x="3209" y="260"/>
                    </a:lnTo>
                    <a:lnTo>
                      <a:pt x="3247" y="283"/>
                    </a:lnTo>
                    <a:lnTo>
                      <a:pt x="3281" y="305"/>
                    </a:lnTo>
                    <a:lnTo>
                      <a:pt x="3311" y="328"/>
                    </a:lnTo>
                    <a:lnTo>
                      <a:pt x="3339" y="352"/>
                    </a:lnTo>
                    <a:lnTo>
                      <a:pt x="3362" y="376"/>
                    </a:lnTo>
                    <a:lnTo>
                      <a:pt x="3381" y="402"/>
                    </a:lnTo>
                    <a:lnTo>
                      <a:pt x="3395" y="427"/>
                    </a:lnTo>
                    <a:lnTo>
                      <a:pt x="3406" y="452"/>
                    </a:lnTo>
                    <a:lnTo>
                      <a:pt x="3413" y="479"/>
                    </a:lnTo>
                    <a:lnTo>
                      <a:pt x="3415" y="5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102400" y="6516360"/>
                <a:ext cx="376200" cy="123120"/>
              </a:xfrm>
              <a:custGeom>
                <a:avLst/>
                <a:gdLst/>
                <a:ahLst/>
                <a:rect l="l" t="t" r="r" b="b"/>
                <a:pathLst>
                  <a:path w="3412" h="1028">
                    <a:moveTo>
                      <a:pt x="3412" y="505"/>
                    </a:moveTo>
                    <a:lnTo>
                      <a:pt x="3409" y="532"/>
                    </a:lnTo>
                    <a:lnTo>
                      <a:pt x="3403" y="558"/>
                    </a:lnTo>
                    <a:lnTo>
                      <a:pt x="3392" y="584"/>
                    </a:lnTo>
                    <a:lnTo>
                      <a:pt x="3377" y="611"/>
                    </a:lnTo>
                    <a:lnTo>
                      <a:pt x="3358" y="636"/>
                    </a:lnTo>
                    <a:lnTo>
                      <a:pt x="3335" y="660"/>
                    </a:lnTo>
                    <a:lnTo>
                      <a:pt x="3308" y="684"/>
                    </a:lnTo>
                    <a:lnTo>
                      <a:pt x="3278" y="709"/>
                    </a:lnTo>
                    <a:lnTo>
                      <a:pt x="3244" y="732"/>
                    </a:lnTo>
                    <a:lnTo>
                      <a:pt x="3206" y="754"/>
                    </a:lnTo>
                    <a:lnTo>
                      <a:pt x="3165" y="776"/>
                    </a:lnTo>
                    <a:lnTo>
                      <a:pt x="3120" y="797"/>
                    </a:lnTo>
                    <a:lnTo>
                      <a:pt x="3073" y="818"/>
                    </a:lnTo>
                    <a:lnTo>
                      <a:pt x="3022" y="838"/>
                    </a:lnTo>
                    <a:lnTo>
                      <a:pt x="2969" y="857"/>
                    </a:lnTo>
                    <a:lnTo>
                      <a:pt x="2912" y="875"/>
                    </a:lnTo>
                    <a:lnTo>
                      <a:pt x="2853" y="892"/>
                    </a:lnTo>
                    <a:lnTo>
                      <a:pt x="2791" y="908"/>
                    </a:lnTo>
                    <a:lnTo>
                      <a:pt x="2727" y="924"/>
                    </a:lnTo>
                    <a:lnTo>
                      <a:pt x="2660" y="939"/>
                    </a:lnTo>
                    <a:lnTo>
                      <a:pt x="2590" y="952"/>
                    </a:lnTo>
                    <a:lnTo>
                      <a:pt x="2518" y="965"/>
                    </a:lnTo>
                    <a:lnTo>
                      <a:pt x="2445" y="976"/>
                    </a:lnTo>
                    <a:lnTo>
                      <a:pt x="2370" y="987"/>
                    </a:lnTo>
                    <a:lnTo>
                      <a:pt x="2292" y="996"/>
                    </a:lnTo>
                    <a:lnTo>
                      <a:pt x="2212" y="1004"/>
                    </a:lnTo>
                    <a:lnTo>
                      <a:pt x="2132" y="1011"/>
                    </a:lnTo>
                    <a:lnTo>
                      <a:pt x="2050" y="1017"/>
                    </a:lnTo>
                    <a:lnTo>
                      <a:pt x="1965" y="1021"/>
                    </a:lnTo>
                    <a:lnTo>
                      <a:pt x="1880" y="1026"/>
                    </a:lnTo>
                    <a:lnTo>
                      <a:pt x="1793" y="1028"/>
                    </a:lnTo>
                    <a:lnTo>
                      <a:pt x="1705" y="1028"/>
                    </a:lnTo>
                    <a:lnTo>
                      <a:pt x="1618" y="1028"/>
                    </a:lnTo>
                    <a:lnTo>
                      <a:pt x="1531" y="1026"/>
                    </a:lnTo>
                    <a:lnTo>
                      <a:pt x="1446" y="1021"/>
                    </a:lnTo>
                    <a:lnTo>
                      <a:pt x="1362" y="1017"/>
                    </a:lnTo>
                    <a:lnTo>
                      <a:pt x="1279" y="1011"/>
                    </a:lnTo>
                    <a:lnTo>
                      <a:pt x="1198" y="1004"/>
                    </a:lnTo>
                    <a:lnTo>
                      <a:pt x="1119" y="996"/>
                    </a:lnTo>
                    <a:lnTo>
                      <a:pt x="1041" y="987"/>
                    </a:lnTo>
                    <a:lnTo>
                      <a:pt x="966" y="976"/>
                    </a:lnTo>
                    <a:lnTo>
                      <a:pt x="892" y="965"/>
                    </a:lnTo>
                    <a:lnTo>
                      <a:pt x="821" y="952"/>
                    </a:lnTo>
                    <a:lnTo>
                      <a:pt x="751" y="939"/>
                    </a:lnTo>
                    <a:lnTo>
                      <a:pt x="684" y="924"/>
                    </a:lnTo>
                    <a:lnTo>
                      <a:pt x="620" y="908"/>
                    </a:lnTo>
                    <a:lnTo>
                      <a:pt x="558" y="892"/>
                    </a:lnTo>
                    <a:lnTo>
                      <a:pt x="499" y="875"/>
                    </a:lnTo>
                    <a:lnTo>
                      <a:pt x="442" y="857"/>
                    </a:lnTo>
                    <a:lnTo>
                      <a:pt x="389" y="838"/>
                    </a:lnTo>
                    <a:lnTo>
                      <a:pt x="338" y="818"/>
                    </a:lnTo>
                    <a:lnTo>
                      <a:pt x="291" y="797"/>
                    </a:lnTo>
                    <a:lnTo>
                      <a:pt x="246" y="776"/>
                    </a:lnTo>
                    <a:lnTo>
                      <a:pt x="205" y="754"/>
                    </a:lnTo>
                    <a:lnTo>
                      <a:pt x="167" y="732"/>
                    </a:lnTo>
                    <a:lnTo>
                      <a:pt x="133" y="709"/>
                    </a:lnTo>
                    <a:lnTo>
                      <a:pt x="103" y="684"/>
                    </a:lnTo>
                    <a:lnTo>
                      <a:pt x="75" y="660"/>
                    </a:lnTo>
                    <a:lnTo>
                      <a:pt x="53" y="636"/>
                    </a:lnTo>
                    <a:lnTo>
                      <a:pt x="34" y="611"/>
                    </a:lnTo>
                    <a:lnTo>
                      <a:pt x="19" y="584"/>
                    </a:lnTo>
                    <a:lnTo>
                      <a:pt x="8" y="558"/>
                    </a:lnTo>
                    <a:lnTo>
                      <a:pt x="2" y="532"/>
                    </a:lnTo>
                    <a:lnTo>
                      <a:pt x="0" y="505"/>
                    </a:lnTo>
                    <a:lnTo>
                      <a:pt x="2" y="478"/>
                    </a:lnTo>
                    <a:lnTo>
                      <a:pt x="8" y="452"/>
                    </a:lnTo>
                    <a:lnTo>
                      <a:pt x="19" y="426"/>
                    </a:lnTo>
                    <a:lnTo>
                      <a:pt x="34" y="401"/>
                    </a:lnTo>
                    <a:lnTo>
                      <a:pt x="53" y="375"/>
                    </a:lnTo>
                    <a:lnTo>
                      <a:pt x="75" y="351"/>
                    </a:lnTo>
                    <a:lnTo>
                      <a:pt x="103" y="327"/>
                    </a:lnTo>
                    <a:lnTo>
                      <a:pt x="133" y="304"/>
                    </a:lnTo>
                    <a:lnTo>
                      <a:pt x="167" y="282"/>
                    </a:lnTo>
                    <a:lnTo>
                      <a:pt x="205" y="259"/>
                    </a:lnTo>
                    <a:lnTo>
                      <a:pt x="246" y="239"/>
                    </a:lnTo>
                    <a:lnTo>
                      <a:pt x="291" y="218"/>
                    </a:lnTo>
                    <a:lnTo>
                      <a:pt x="338" y="199"/>
                    </a:lnTo>
                    <a:lnTo>
                      <a:pt x="389" y="180"/>
                    </a:lnTo>
                    <a:lnTo>
                      <a:pt x="442" y="161"/>
                    </a:lnTo>
                    <a:lnTo>
                      <a:pt x="499" y="144"/>
                    </a:lnTo>
                    <a:lnTo>
                      <a:pt x="558" y="127"/>
                    </a:lnTo>
                    <a:lnTo>
                      <a:pt x="620" y="112"/>
                    </a:lnTo>
                    <a:lnTo>
                      <a:pt x="684" y="97"/>
                    </a:lnTo>
                    <a:lnTo>
                      <a:pt x="751" y="84"/>
                    </a:lnTo>
                    <a:lnTo>
                      <a:pt x="821" y="71"/>
                    </a:lnTo>
                    <a:lnTo>
                      <a:pt x="892" y="58"/>
                    </a:lnTo>
                    <a:lnTo>
                      <a:pt x="966" y="48"/>
                    </a:lnTo>
                    <a:lnTo>
                      <a:pt x="1041" y="38"/>
                    </a:lnTo>
                    <a:lnTo>
                      <a:pt x="1119" y="29"/>
                    </a:lnTo>
                    <a:lnTo>
                      <a:pt x="1198" y="22"/>
                    </a:lnTo>
                    <a:lnTo>
                      <a:pt x="1279" y="15"/>
                    </a:lnTo>
                    <a:lnTo>
                      <a:pt x="1362" y="10"/>
                    </a:lnTo>
                    <a:lnTo>
                      <a:pt x="1446" y="5"/>
                    </a:lnTo>
                    <a:lnTo>
                      <a:pt x="1531" y="2"/>
                    </a:lnTo>
                    <a:lnTo>
                      <a:pt x="1618" y="0"/>
                    </a:lnTo>
                    <a:lnTo>
                      <a:pt x="1705" y="0"/>
                    </a:lnTo>
                    <a:lnTo>
                      <a:pt x="1793" y="0"/>
                    </a:lnTo>
                    <a:lnTo>
                      <a:pt x="1880" y="2"/>
                    </a:lnTo>
                    <a:lnTo>
                      <a:pt x="1965" y="5"/>
                    </a:lnTo>
                    <a:lnTo>
                      <a:pt x="2050" y="10"/>
                    </a:lnTo>
                    <a:lnTo>
                      <a:pt x="2132" y="15"/>
                    </a:lnTo>
                    <a:lnTo>
                      <a:pt x="2212" y="22"/>
                    </a:lnTo>
                    <a:lnTo>
                      <a:pt x="2292" y="29"/>
                    </a:lnTo>
                    <a:lnTo>
                      <a:pt x="2370" y="38"/>
                    </a:lnTo>
                    <a:lnTo>
                      <a:pt x="2445" y="48"/>
                    </a:lnTo>
                    <a:lnTo>
                      <a:pt x="2518" y="58"/>
                    </a:lnTo>
                    <a:lnTo>
                      <a:pt x="2590" y="71"/>
                    </a:lnTo>
                    <a:lnTo>
                      <a:pt x="2660" y="84"/>
                    </a:lnTo>
                    <a:lnTo>
                      <a:pt x="2727" y="97"/>
                    </a:lnTo>
                    <a:lnTo>
                      <a:pt x="2791" y="112"/>
                    </a:lnTo>
                    <a:lnTo>
                      <a:pt x="2853" y="127"/>
                    </a:lnTo>
                    <a:lnTo>
                      <a:pt x="2912" y="144"/>
                    </a:lnTo>
                    <a:lnTo>
                      <a:pt x="2969" y="161"/>
                    </a:lnTo>
                    <a:lnTo>
                      <a:pt x="3022" y="180"/>
                    </a:lnTo>
                    <a:lnTo>
                      <a:pt x="3073" y="199"/>
                    </a:lnTo>
                    <a:lnTo>
                      <a:pt x="3120" y="218"/>
                    </a:lnTo>
                    <a:lnTo>
                      <a:pt x="3165" y="239"/>
                    </a:lnTo>
                    <a:lnTo>
                      <a:pt x="3206" y="259"/>
                    </a:lnTo>
                    <a:lnTo>
                      <a:pt x="3244" y="282"/>
                    </a:lnTo>
                    <a:lnTo>
                      <a:pt x="3278" y="304"/>
                    </a:lnTo>
                    <a:lnTo>
                      <a:pt x="3308" y="327"/>
                    </a:lnTo>
                    <a:lnTo>
                      <a:pt x="3335" y="351"/>
                    </a:lnTo>
                    <a:lnTo>
                      <a:pt x="3358" y="375"/>
                    </a:lnTo>
                    <a:lnTo>
                      <a:pt x="3377" y="401"/>
                    </a:lnTo>
                    <a:lnTo>
                      <a:pt x="3392" y="426"/>
                    </a:lnTo>
                    <a:lnTo>
                      <a:pt x="3403" y="452"/>
                    </a:lnTo>
                    <a:lnTo>
                      <a:pt x="3409" y="478"/>
                    </a:lnTo>
                    <a:lnTo>
                      <a:pt x="3412" y="5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102400" y="6516360"/>
                <a:ext cx="376200" cy="122040"/>
              </a:xfrm>
              <a:custGeom>
                <a:avLst/>
                <a:gdLst/>
                <a:ahLst/>
                <a:rect l="l" t="t" r="r" b="b"/>
                <a:pathLst>
                  <a:path w="3409" h="1026">
                    <a:moveTo>
                      <a:pt x="3409" y="504"/>
                    </a:moveTo>
                    <a:lnTo>
                      <a:pt x="3407" y="531"/>
                    </a:lnTo>
                    <a:lnTo>
                      <a:pt x="3400" y="557"/>
                    </a:lnTo>
                    <a:lnTo>
                      <a:pt x="3390" y="583"/>
                    </a:lnTo>
                    <a:lnTo>
                      <a:pt x="3375" y="610"/>
                    </a:lnTo>
                    <a:lnTo>
                      <a:pt x="3356" y="635"/>
                    </a:lnTo>
                    <a:lnTo>
                      <a:pt x="3332" y="659"/>
                    </a:lnTo>
                    <a:lnTo>
                      <a:pt x="3306" y="683"/>
                    </a:lnTo>
                    <a:lnTo>
                      <a:pt x="3275" y="708"/>
                    </a:lnTo>
                    <a:lnTo>
                      <a:pt x="3242" y="731"/>
                    </a:lnTo>
                    <a:lnTo>
                      <a:pt x="3203" y="753"/>
                    </a:lnTo>
                    <a:lnTo>
                      <a:pt x="3163" y="774"/>
                    </a:lnTo>
                    <a:lnTo>
                      <a:pt x="3118" y="795"/>
                    </a:lnTo>
                    <a:lnTo>
                      <a:pt x="3071" y="817"/>
                    </a:lnTo>
                    <a:lnTo>
                      <a:pt x="3020" y="836"/>
                    </a:lnTo>
                    <a:lnTo>
                      <a:pt x="2967" y="855"/>
                    </a:lnTo>
                    <a:lnTo>
                      <a:pt x="2910" y="873"/>
                    </a:lnTo>
                    <a:lnTo>
                      <a:pt x="2851" y="890"/>
                    </a:lnTo>
                    <a:lnTo>
                      <a:pt x="2789" y="906"/>
                    </a:lnTo>
                    <a:lnTo>
                      <a:pt x="2724" y="923"/>
                    </a:lnTo>
                    <a:lnTo>
                      <a:pt x="2658" y="937"/>
                    </a:lnTo>
                    <a:lnTo>
                      <a:pt x="2588" y="951"/>
                    </a:lnTo>
                    <a:lnTo>
                      <a:pt x="2517" y="963"/>
                    </a:lnTo>
                    <a:lnTo>
                      <a:pt x="2444" y="974"/>
                    </a:lnTo>
                    <a:lnTo>
                      <a:pt x="2368" y="985"/>
                    </a:lnTo>
                    <a:lnTo>
                      <a:pt x="2290" y="994"/>
                    </a:lnTo>
                    <a:lnTo>
                      <a:pt x="2211" y="1002"/>
                    </a:lnTo>
                    <a:lnTo>
                      <a:pt x="2131" y="1009"/>
                    </a:lnTo>
                    <a:lnTo>
                      <a:pt x="2048" y="1015"/>
                    </a:lnTo>
                    <a:lnTo>
                      <a:pt x="1964" y="1019"/>
                    </a:lnTo>
                    <a:lnTo>
                      <a:pt x="1879" y="1024"/>
                    </a:lnTo>
                    <a:lnTo>
                      <a:pt x="1792" y="1026"/>
                    </a:lnTo>
                    <a:lnTo>
                      <a:pt x="1704" y="1026"/>
                    </a:lnTo>
                    <a:lnTo>
                      <a:pt x="1617" y="1026"/>
                    </a:lnTo>
                    <a:lnTo>
                      <a:pt x="1530" y="1024"/>
                    </a:lnTo>
                    <a:lnTo>
                      <a:pt x="1445" y="1019"/>
                    </a:lnTo>
                    <a:lnTo>
                      <a:pt x="1361" y="1015"/>
                    </a:lnTo>
                    <a:lnTo>
                      <a:pt x="1278" y="1009"/>
                    </a:lnTo>
                    <a:lnTo>
                      <a:pt x="1197" y="1002"/>
                    </a:lnTo>
                    <a:lnTo>
                      <a:pt x="1119" y="994"/>
                    </a:lnTo>
                    <a:lnTo>
                      <a:pt x="1041" y="985"/>
                    </a:lnTo>
                    <a:lnTo>
                      <a:pt x="965" y="974"/>
                    </a:lnTo>
                    <a:lnTo>
                      <a:pt x="891" y="963"/>
                    </a:lnTo>
                    <a:lnTo>
                      <a:pt x="821" y="951"/>
                    </a:lnTo>
                    <a:lnTo>
                      <a:pt x="751" y="937"/>
                    </a:lnTo>
                    <a:lnTo>
                      <a:pt x="684" y="923"/>
                    </a:lnTo>
                    <a:lnTo>
                      <a:pt x="620" y="906"/>
                    </a:lnTo>
                    <a:lnTo>
                      <a:pt x="558" y="890"/>
                    </a:lnTo>
                    <a:lnTo>
                      <a:pt x="499" y="873"/>
                    </a:lnTo>
                    <a:lnTo>
                      <a:pt x="442" y="855"/>
                    </a:lnTo>
                    <a:lnTo>
                      <a:pt x="389" y="836"/>
                    </a:lnTo>
                    <a:lnTo>
                      <a:pt x="338" y="817"/>
                    </a:lnTo>
                    <a:lnTo>
                      <a:pt x="291" y="795"/>
                    </a:lnTo>
                    <a:lnTo>
                      <a:pt x="246" y="774"/>
                    </a:lnTo>
                    <a:lnTo>
                      <a:pt x="206" y="753"/>
                    </a:lnTo>
                    <a:lnTo>
                      <a:pt x="167" y="731"/>
                    </a:lnTo>
                    <a:lnTo>
                      <a:pt x="134" y="708"/>
                    </a:lnTo>
                    <a:lnTo>
                      <a:pt x="103" y="683"/>
                    </a:lnTo>
                    <a:lnTo>
                      <a:pt x="76" y="659"/>
                    </a:lnTo>
                    <a:lnTo>
                      <a:pt x="53" y="635"/>
                    </a:lnTo>
                    <a:lnTo>
                      <a:pt x="34" y="610"/>
                    </a:lnTo>
                    <a:lnTo>
                      <a:pt x="19" y="583"/>
                    </a:lnTo>
                    <a:lnTo>
                      <a:pt x="9" y="557"/>
                    </a:lnTo>
                    <a:lnTo>
                      <a:pt x="2" y="531"/>
                    </a:lnTo>
                    <a:lnTo>
                      <a:pt x="0" y="504"/>
                    </a:lnTo>
                    <a:lnTo>
                      <a:pt x="2" y="477"/>
                    </a:lnTo>
                    <a:lnTo>
                      <a:pt x="9" y="451"/>
                    </a:lnTo>
                    <a:lnTo>
                      <a:pt x="19" y="425"/>
                    </a:lnTo>
                    <a:lnTo>
                      <a:pt x="34" y="400"/>
                    </a:lnTo>
                    <a:lnTo>
                      <a:pt x="53" y="374"/>
                    </a:lnTo>
                    <a:lnTo>
                      <a:pt x="76" y="350"/>
                    </a:lnTo>
                    <a:lnTo>
                      <a:pt x="103" y="327"/>
                    </a:lnTo>
                    <a:lnTo>
                      <a:pt x="134" y="304"/>
                    </a:lnTo>
                    <a:lnTo>
                      <a:pt x="167" y="282"/>
                    </a:lnTo>
                    <a:lnTo>
                      <a:pt x="206" y="259"/>
                    </a:lnTo>
                    <a:lnTo>
                      <a:pt x="246" y="238"/>
                    </a:lnTo>
                    <a:lnTo>
                      <a:pt x="291" y="218"/>
                    </a:lnTo>
                    <a:lnTo>
                      <a:pt x="338" y="198"/>
                    </a:lnTo>
                    <a:lnTo>
                      <a:pt x="389" y="180"/>
                    </a:lnTo>
                    <a:lnTo>
                      <a:pt x="442" y="161"/>
                    </a:lnTo>
                    <a:lnTo>
                      <a:pt x="499" y="143"/>
                    </a:lnTo>
                    <a:lnTo>
                      <a:pt x="558" y="127"/>
                    </a:lnTo>
                    <a:lnTo>
                      <a:pt x="620" y="112"/>
                    </a:lnTo>
                    <a:lnTo>
                      <a:pt x="684" y="97"/>
                    </a:lnTo>
                    <a:lnTo>
                      <a:pt x="751" y="84"/>
                    </a:lnTo>
                    <a:lnTo>
                      <a:pt x="821" y="71"/>
                    </a:lnTo>
                    <a:lnTo>
                      <a:pt x="891" y="58"/>
                    </a:lnTo>
                    <a:lnTo>
                      <a:pt x="965" y="47"/>
                    </a:lnTo>
                    <a:lnTo>
                      <a:pt x="1041" y="38"/>
                    </a:lnTo>
                    <a:lnTo>
                      <a:pt x="1119" y="29"/>
                    </a:lnTo>
                    <a:lnTo>
                      <a:pt x="1197" y="21"/>
                    </a:lnTo>
                    <a:lnTo>
                      <a:pt x="1278" y="15"/>
                    </a:lnTo>
                    <a:lnTo>
                      <a:pt x="1361" y="10"/>
                    </a:lnTo>
                    <a:lnTo>
                      <a:pt x="1445" y="5"/>
                    </a:lnTo>
                    <a:lnTo>
                      <a:pt x="1530" y="2"/>
                    </a:lnTo>
                    <a:lnTo>
                      <a:pt x="1617" y="0"/>
                    </a:lnTo>
                    <a:lnTo>
                      <a:pt x="1704" y="0"/>
                    </a:lnTo>
                    <a:lnTo>
                      <a:pt x="1792" y="0"/>
                    </a:lnTo>
                    <a:lnTo>
                      <a:pt x="1879" y="2"/>
                    </a:lnTo>
                    <a:lnTo>
                      <a:pt x="1964" y="5"/>
                    </a:lnTo>
                    <a:lnTo>
                      <a:pt x="2048" y="10"/>
                    </a:lnTo>
                    <a:lnTo>
                      <a:pt x="2131" y="15"/>
                    </a:lnTo>
                    <a:lnTo>
                      <a:pt x="2211" y="21"/>
                    </a:lnTo>
                    <a:lnTo>
                      <a:pt x="2290" y="29"/>
                    </a:lnTo>
                    <a:lnTo>
                      <a:pt x="2368" y="38"/>
                    </a:lnTo>
                    <a:lnTo>
                      <a:pt x="2444" y="47"/>
                    </a:lnTo>
                    <a:lnTo>
                      <a:pt x="2517" y="58"/>
                    </a:lnTo>
                    <a:lnTo>
                      <a:pt x="2588" y="71"/>
                    </a:lnTo>
                    <a:lnTo>
                      <a:pt x="2658" y="84"/>
                    </a:lnTo>
                    <a:lnTo>
                      <a:pt x="2724" y="97"/>
                    </a:lnTo>
                    <a:lnTo>
                      <a:pt x="2789" y="112"/>
                    </a:lnTo>
                    <a:lnTo>
                      <a:pt x="2851" y="127"/>
                    </a:lnTo>
                    <a:lnTo>
                      <a:pt x="2910" y="143"/>
                    </a:lnTo>
                    <a:lnTo>
                      <a:pt x="2967" y="161"/>
                    </a:lnTo>
                    <a:lnTo>
                      <a:pt x="3020" y="180"/>
                    </a:lnTo>
                    <a:lnTo>
                      <a:pt x="3071" y="198"/>
                    </a:lnTo>
                    <a:lnTo>
                      <a:pt x="3118" y="218"/>
                    </a:lnTo>
                    <a:lnTo>
                      <a:pt x="3163" y="238"/>
                    </a:lnTo>
                    <a:lnTo>
                      <a:pt x="3203" y="259"/>
                    </a:lnTo>
                    <a:lnTo>
                      <a:pt x="3242" y="282"/>
                    </a:lnTo>
                    <a:lnTo>
                      <a:pt x="3275" y="304"/>
                    </a:lnTo>
                    <a:lnTo>
                      <a:pt x="3306" y="327"/>
                    </a:lnTo>
                    <a:lnTo>
                      <a:pt x="3332" y="350"/>
                    </a:lnTo>
                    <a:lnTo>
                      <a:pt x="3356" y="374"/>
                    </a:lnTo>
                    <a:lnTo>
                      <a:pt x="3375" y="400"/>
                    </a:lnTo>
                    <a:lnTo>
                      <a:pt x="3390" y="425"/>
                    </a:lnTo>
                    <a:lnTo>
                      <a:pt x="3400" y="451"/>
                    </a:lnTo>
                    <a:lnTo>
                      <a:pt x="3407" y="477"/>
                    </a:lnTo>
                    <a:lnTo>
                      <a:pt x="3409" y="5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102400" y="6516360"/>
                <a:ext cx="376200" cy="122040"/>
              </a:xfrm>
              <a:custGeom>
                <a:avLst/>
                <a:gdLst/>
                <a:ahLst/>
                <a:rect l="l" t="t" r="r" b="b"/>
                <a:pathLst>
                  <a:path w="3407" h="1024">
                    <a:moveTo>
                      <a:pt x="3407" y="503"/>
                    </a:moveTo>
                    <a:lnTo>
                      <a:pt x="3404" y="530"/>
                    </a:lnTo>
                    <a:lnTo>
                      <a:pt x="3398" y="556"/>
                    </a:lnTo>
                    <a:lnTo>
                      <a:pt x="3387" y="582"/>
                    </a:lnTo>
                    <a:lnTo>
                      <a:pt x="3372" y="608"/>
                    </a:lnTo>
                    <a:lnTo>
                      <a:pt x="3354" y="633"/>
                    </a:lnTo>
                    <a:lnTo>
                      <a:pt x="3330" y="658"/>
                    </a:lnTo>
                    <a:lnTo>
                      <a:pt x="3303" y="682"/>
                    </a:lnTo>
                    <a:lnTo>
                      <a:pt x="3273" y="706"/>
                    </a:lnTo>
                    <a:lnTo>
                      <a:pt x="3239" y="729"/>
                    </a:lnTo>
                    <a:lnTo>
                      <a:pt x="3201" y="751"/>
                    </a:lnTo>
                    <a:lnTo>
                      <a:pt x="3160" y="773"/>
                    </a:lnTo>
                    <a:lnTo>
                      <a:pt x="3116" y="794"/>
                    </a:lnTo>
                    <a:lnTo>
                      <a:pt x="3069" y="815"/>
                    </a:lnTo>
                    <a:lnTo>
                      <a:pt x="3018" y="835"/>
                    </a:lnTo>
                    <a:lnTo>
                      <a:pt x="2965" y="853"/>
                    </a:lnTo>
                    <a:lnTo>
                      <a:pt x="2908" y="871"/>
                    </a:lnTo>
                    <a:lnTo>
                      <a:pt x="2849" y="888"/>
                    </a:lnTo>
                    <a:lnTo>
                      <a:pt x="2787" y="905"/>
                    </a:lnTo>
                    <a:lnTo>
                      <a:pt x="2722" y="921"/>
                    </a:lnTo>
                    <a:lnTo>
                      <a:pt x="2656" y="935"/>
                    </a:lnTo>
                    <a:lnTo>
                      <a:pt x="2587" y="949"/>
                    </a:lnTo>
                    <a:lnTo>
                      <a:pt x="2515" y="961"/>
                    </a:lnTo>
                    <a:lnTo>
                      <a:pt x="2442" y="973"/>
                    </a:lnTo>
                    <a:lnTo>
                      <a:pt x="2367" y="983"/>
                    </a:lnTo>
                    <a:lnTo>
                      <a:pt x="2289" y="992"/>
                    </a:lnTo>
                    <a:lnTo>
                      <a:pt x="2210" y="1000"/>
                    </a:lnTo>
                    <a:lnTo>
                      <a:pt x="2130" y="1007"/>
                    </a:lnTo>
                    <a:lnTo>
                      <a:pt x="2047" y="1013"/>
                    </a:lnTo>
                    <a:lnTo>
                      <a:pt x="1963" y="1018"/>
                    </a:lnTo>
                    <a:lnTo>
                      <a:pt x="1878" y="1021"/>
                    </a:lnTo>
                    <a:lnTo>
                      <a:pt x="1791" y="1024"/>
                    </a:lnTo>
                    <a:lnTo>
                      <a:pt x="1703" y="1024"/>
                    </a:lnTo>
                    <a:lnTo>
                      <a:pt x="1616" y="1024"/>
                    </a:lnTo>
                    <a:lnTo>
                      <a:pt x="1530" y="1021"/>
                    </a:lnTo>
                    <a:lnTo>
                      <a:pt x="1444" y="1018"/>
                    </a:lnTo>
                    <a:lnTo>
                      <a:pt x="1360" y="1013"/>
                    </a:lnTo>
                    <a:lnTo>
                      <a:pt x="1278" y="1007"/>
                    </a:lnTo>
                    <a:lnTo>
                      <a:pt x="1196" y="1000"/>
                    </a:lnTo>
                    <a:lnTo>
                      <a:pt x="1118" y="992"/>
                    </a:lnTo>
                    <a:lnTo>
                      <a:pt x="1041" y="983"/>
                    </a:lnTo>
                    <a:lnTo>
                      <a:pt x="965" y="973"/>
                    </a:lnTo>
                    <a:lnTo>
                      <a:pt x="891" y="961"/>
                    </a:lnTo>
                    <a:lnTo>
                      <a:pt x="820" y="949"/>
                    </a:lnTo>
                    <a:lnTo>
                      <a:pt x="751" y="935"/>
                    </a:lnTo>
                    <a:lnTo>
                      <a:pt x="684" y="921"/>
                    </a:lnTo>
                    <a:lnTo>
                      <a:pt x="620" y="905"/>
                    </a:lnTo>
                    <a:lnTo>
                      <a:pt x="558" y="888"/>
                    </a:lnTo>
                    <a:lnTo>
                      <a:pt x="499" y="871"/>
                    </a:lnTo>
                    <a:lnTo>
                      <a:pt x="443" y="853"/>
                    </a:lnTo>
                    <a:lnTo>
                      <a:pt x="390" y="835"/>
                    </a:lnTo>
                    <a:lnTo>
                      <a:pt x="338" y="815"/>
                    </a:lnTo>
                    <a:lnTo>
                      <a:pt x="291" y="794"/>
                    </a:lnTo>
                    <a:lnTo>
                      <a:pt x="247" y="773"/>
                    </a:lnTo>
                    <a:lnTo>
                      <a:pt x="206" y="751"/>
                    </a:lnTo>
                    <a:lnTo>
                      <a:pt x="168" y="729"/>
                    </a:lnTo>
                    <a:lnTo>
                      <a:pt x="134" y="706"/>
                    </a:lnTo>
                    <a:lnTo>
                      <a:pt x="104" y="682"/>
                    </a:lnTo>
                    <a:lnTo>
                      <a:pt x="76" y="658"/>
                    </a:lnTo>
                    <a:lnTo>
                      <a:pt x="53" y="633"/>
                    </a:lnTo>
                    <a:lnTo>
                      <a:pt x="35" y="608"/>
                    </a:lnTo>
                    <a:lnTo>
                      <a:pt x="20" y="582"/>
                    </a:lnTo>
                    <a:lnTo>
                      <a:pt x="9" y="556"/>
                    </a:lnTo>
                    <a:lnTo>
                      <a:pt x="3" y="530"/>
                    </a:lnTo>
                    <a:lnTo>
                      <a:pt x="0" y="503"/>
                    </a:lnTo>
                    <a:lnTo>
                      <a:pt x="3" y="476"/>
                    </a:lnTo>
                    <a:lnTo>
                      <a:pt x="9" y="450"/>
                    </a:lnTo>
                    <a:lnTo>
                      <a:pt x="20" y="424"/>
                    </a:lnTo>
                    <a:lnTo>
                      <a:pt x="35" y="399"/>
                    </a:lnTo>
                    <a:lnTo>
                      <a:pt x="53" y="374"/>
                    </a:lnTo>
                    <a:lnTo>
                      <a:pt x="76" y="349"/>
                    </a:lnTo>
                    <a:lnTo>
                      <a:pt x="104" y="326"/>
                    </a:lnTo>
                    <a:lnTo>
                      <a:pt x="134" y="303"/>
                    </a:lnTo>
                    <a:lnTo>
                      <a:pt x="168" y="281"/>
                    </a:lnTo>
                    <a:lnTo>
                      <a:pt x="206" y="258"/>
                    </a:lnTo>
                    <a:lnTo>
                      <a:pt x="247" y="238"/>
                    </a:lnTo>
                    <a:lnTo>
                      <a:pt x="291" y="217"/>
                    </a:lnTo>
                    <a:lnTo>
                      <a:pt x="338" y="198"/>
                    </a:lnTo>
                    <a:lnTo>
                      <a:pt x="390" y="179"/>
                    </a:lnTo>
                    <a:lnTo>
                      <a:pt x="443" y="160"/>
                    </a:lnTo>
                    <a:lnTo>
                      <a:pt x="499" y="143"/>
                    </a:lnTo>
                    <a:lnTo>
                      <a:pt x="558" y="127"/>
                    </a:lnTo>
                    <a:lnTo>
                      <a:pt x="620" y="111"/>
                    </a:lnTo>
                    <a:lnTo>
                      <a:pt x="684" y="97"/>
                    </a:lnTo>
                    <a:lnTo>
                      <a:pt x="751" y="83"/>
                    </a:lnTo>
                    <a:lnTo>
                      <a:pt x="820" y="71"/>
                    </a:lnTo>
                    <a:lnTo>
                      <a:pt x="891" y="58"/>
                    </a:lnTo>
                    <a:lnTo>
                      <a:pt x="965" y="47"/>
                    </a:lnTo>
                    <a:lnTo>
                      <a:pt x="1041" y="38"/>
                    </a:lnTo>
                    <a:lnTo>
                      <a:pt x="1118" y="29"/>
                    </a:lnTo>
                    <a:lnTo>
                      <a:pt x="1196" y="21"/>
                    </a:lnTo>
                    <a:lnTo>
                      <a:pt x="1278" y="15"/>
                    </a:lnTo>
                    <a:lnTo>
                      <a:pt x="1360" y="9"/>
                    </a:lnTo>
                    <a:lnTo>
                      <a:pt x="1444" y="5"/>
                    </a:lnTo>
                    <a:lnTo>
                      <a:pt x="1530" y="2"/>
                    </a:lnTo>
                    <a:lnTo>
                      <a:pt x="1616" y="0"/>
                    </a:lnTo>
                    <a:lnTo>
                      <a:pt x="1703" y="0"/>
                    </a:lnTo>
                    <a:lnTo>
                      <a:pt x="1791" y="0"/>
                    </a:lnTo>
                    <a:lnTo>
                      <a:pt x="1878" y="2"/>
                    </a:lnTo>
                    <a:lnTo>
                      <a:pt x="1963" y="5"/>
                    </a:lnTo>
                    <a:lnTo>
                      <a:pt x="2047" y="9"/>
                    </a:lnTo>
                    <a:lnTo>
                      <a:pt x="2130" y="15"/>
                    </a:lnTo>
                    <a:lnTo>
                      <a:pt x="2210" y="21"/>
                    </a:lnTo>
                    <a:lnTo>
                      <a:pt x="2289" y="29"/>
                    </a:lnTo>
                    <a:lnTo>
                      <a:pt x="2367" y="38"/>
                    </a:lnTo>
                    <a:lnTo>
                      <a:pt x="2442" y="47"/>
                    </a:lnTo>
                    <a:lnTo>
                      <a:pt x="2515" y="58"/>
                    </a:lnTo>
                    <a:lnTo>
                      <a:pt x="2587" y="71"/>
                    </a:lnTo>
                    <a:lnTo>
                      <a:pt x="2656" y="83"/>
                    </a:lnTo>
                    <a:lnTo>
                      <a:pt x="2722" y="97"/>
                    </a:lnTo>
                    <a:lnTo>
                      <a:pt x="2787" y="111"/>
                    </a:lnTo>
                    <a:lnTo>
                      <a:pt x="2849" y="127"/>
                    </a:lnTo>
                    <a:lnTo>
                      <a:pt x="2908" y="143"/>
                    </a:lnTo>
                    <a:lnTo>
                      <a:pt x="2965" y="160"/>
                    </a:lnTo>
                    <a:lnTo>
                      <a:pt x="3018" y="179"/>
                    </a:lnTo>
                    <a:lnTo>
                      <a:pt x="3069" y="198"/>
                    </a:lnTo>
                    <a:lnTo>
                      <a:pt x="3116" y="217"/>
                    </a:lnTo>
                    <a:lnTo>
                      <a:pt x="3160" y="238"/>
                    </a:lnTo>
                    <a:lnTo>
                      <a:pt x="3201" y="258"/>
                    </a:lnTo>
                    <a:lnTo>
                      <a:pt x="3239" y="281"/>
                    </a:lnTo>
                    <a:lnTo>
                      <a:pt x="3273" y="303"/>
                    </a:lnTo>
                    <a:lnTo>
                      <a:pt x="3303" y="326"/>
                    </a:lnTo>
                    <a:lnTo>
                      <a:pt x="3330" y="349"/>
                    </a:lnTo>
                    <a:lnTo>
                      <a:pt x="3354" y="374"/>
                    </a:lnTo>
                    <a:lnTo>
                      <a:pt x="3372" y="399"/>
                    </a:lnTo>
                    <a:lnTo>
                      <a:pt x="3387" y="424"/>
                    </a:lnTo>
                    <a:lnTo>
                      <a:pt x="3398" y="450"/>
                    </a:lnTo>
                    <a:lnTo>
                      <a:pt x="3404" y="476"/>
                    </a:lnTo>
                    <a:lnTo>
                      <a:pt x="3407" y="5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102400" y="6516360"/>
                <a:ext cx="376200" cy="122040"/>
              </a:xfrm>
              <a:custGeom>
                <a:avLst/>
                <a:gdLst/>
                <a:ahLst/>
                <a:rect l="l" t="t" r="r" b="b"/>
                <a:pathLst>
                  <a:path w="3403" h="1022">
                    <a:moveTo>
                      <a:pt x="3403" y="502"/>
                    </a:moveTo>
                    <a:lnTo>
                      <a:pt x="3401" y="529"/>
                    </a:lnTo>
                    <a:lnTo>
                      <a:pt x="3395" y="555"/>
                    </a:lnTo>
                    <a:lnTo>
                      <a:pt x="3384" y="581"/>
                    </a:lnTo>
                    <a:lnTo>
                      <a:pt x="3369" y="607"/>
                    </a:lnTo>
                    <a:lnTo>
                      <a:pt x="3350" y="632"/>
                    </a:lnTo>
                    <a:lnTo>
                      <a:pt x="3327" y="657"/>
                    </a:lnTo>
                    <a:lnTo>
                      <a:pt x="3300" y="680"/>
                    </a:lnTo>
                    <a:lnTo>
                      <a:pt x="3270" y="705"/>
                    </a:lnTo>
                    <a:lnTo>
                      <a:pt x="3236" y="728"/>
                    </a:lnTo>
                    <a:lnTo>
                      <a:pt x="3198" y="750"/>
                    </a:lnTo>
                    <a:lnTo>
                      <a:pt x="3157" y="771"/>
                    </a:lnTo>
                    <a:lnTo>
                      <a:pt x="3112" y="792"/>
                    </a:lnTo>
                    <a:lnTo>
                      <a:pt x="3065" y="814"/>
                    </a:lnTo>
                    <a:lnTo>
                      <a:pt x="3014" y="833"/>
                    </a:lnTo>
                    <a:lnTo>
                      <a:pt x="2961" y="852"/>
                    </a:lnTo>
                    <a:lnTo>
                      <a:pt x="2905" y="870"/>
                    </a:lnTo>
                    <a:lnTo>
                      <a:pt x="2846" y="887"/>
                    </a:lnTo>
                    <a:lnTo>
                      <a:pt x="2784" y="903"/>
                    </a:lnTo>
                    <a:lnTo>
                      <a:pt x="2719" y="919"/>
                    </a:lnTo>
                    <a:lnTo>
                      <a:pt x="2653" y="934"/>
                    </a:lnTo>
                    <a:lnTo>
                      <a:pt x="2584" y="947"/>
                    </a:lnTo>
                    <a:lnTo>
                      <a:pt x="2512" y="959"/>
                    </a:lnTo>
                    <a:lnTo>
                      <a:pt x="2440" y="971"/>
                    </a:lnTo>
                    <a:lnTo>
                      <a:pt x="2364" y="981"/>
                    </a:lnTo>
                    <a:lnTo>
                      <a:pt x="2286" y="990"/>
                    </a:lnTo>
                    <a:lnTo>
                      <a:pt x="2207" y="998"/>
                    </a:lnTo>
                    <a:lnTo>
                      <a:pt x="2127" y="1005"/>
                    </a:lnTo>
                    <a:lnTo>
                      <a:pt x="2045" y="1011"/>
                    </a:lnTo>
                    <a:lnTo>
                      <a:pt x="1961" y="1016"/>
                    </a:lnTo>
                    <a:lnTo>
                      <a:pt x="1875" y="1019"/>
                    </a:lnTo>
                    <a:lnTo>
                      <a:pt x="1789" y="1022"/>
                    </a:lnTo>
                    <a:lnTo>
                      <a:pt x="1701" y="1022"/>
                    </a:lnTo>
                    <a:lnTo>
                      <a:pt x="1614" y="1022"/>
                    </a:lnTo>
                    <a:lnTo>
                      <a:pt x="1528" y="1019"/>
                    </a:lnTo>
                    <a:lnTo>
                      <a:pt x="1442" y="1016"/>
                    </a:lnTo>
                    <a:lnTo>
                      <a:pt x="1358" y="1011"/>
                    </a:lnTo>
                    <a:lnTo>
                      <a:pt x="1276" y="1005"/>
                    </a:lnTo>
                    <a:lnTo>
                      <a:pt x="1195" y="998"/>
                    </a:lnTo>
                    <a:lnTo>
                      <a:pt x="1117" y="990"/>
                    </a:lnTo>
                    <a:lnTo>
                      <a:pt x="1039" y="981"/>
                    </a:lnTo>
                    <a:lnTo>
                      <a:pt x="963" y="971"/>
                    </a:lnTo>
                    <a:lnTo>
                      <a:pt x="890" y="959"/>
                    </a:lnTo>
                    <a:lnTo>
                      <a:pt x="819" y="947"/>
                    </a:lnTo>
                    <a:lnTo>
                      <a:pt x="750" y="934"/>
                    </a:lnTo>
                    <a:lnTo>
                      <a:pt x="683" y="919"/>
                    </a:lnTo>
                    <a:lnTo>
                      <a:pt x="619" y="903"/>
                    </a:lnTo>
                    <a:lnTo>
                      <a:pt x="557" y="887"/>
                    </a:lnTo>
                    <a:lnTo>
                      <a:pt x="498" y="870"/>
                    </a:lnTo>
                    <a:lnTo>
                      <a:pt x="442" y="852"/>
                    </a:lnTo>
                    <a:lnTo>
                      <a:pt x="389" y="833"/>
                    </a:lnTo>
                    <a:lnTo>
                      <a:pt x="338" y="814"/>
                    </a:lnTo>
                    <a:lnTo>
                      <a:pt x="291" y="792"/>
                    </a:lnTo>
                    <a:lnTo>
                      <a:pt x="246" y="771"/>
                    </a:lnTo>
                    <a:lnTo>
                      <a:pt x="205" y="750"/>
                    </a:lnTo>
                    <a:lnTo>
                      <a:pt x="167" y="728"/>
                    </a:lnTo>
                    <a:lnTo>
                      <a:pt x="133" y="705"/>
                    </a:lnTo>
                    <a:lnTo>
                      <a:pt x="103" y="680"/>
                    </a:lnTo>
                    <a:lnTo>
                      <a:pt x="76" y="657"/>
                    </a:lnTo>
                    <a:lnTo>
                      <a:pt x="53" y="632"/>
                    </a:lnTo>
                    <a:lnTo>
                      <a:pt x="34" y="607"/>
                    </a:lnTo>
                    <a:lnTo>
                      <a:pt x="19" y="581"/>
                    </a:lnTo>
                    <a:lnTo>
                      <a:pt x="9" y="555"/>
                    </a:lnTo>
                    <a:lnTo>
                      <a:pt x="2" y="529"/>
                    </a:lnTo>
                    <a:lnTo>
                      <a:pt x="0" y="502"/>
                    </a:lnTo>
                    <a:lnTo>
                      <a:pt x="2" y="475"/>
                    </a:lnTo>
                    <a:lnTo>
                      <a:pt x="9" y="449"/>
                    </a:lnTo>
                    <a:lnTo>
                      <a:pt x="19" y="423"/>
                    </a:lnTo>
                    <a:lnTo>
                      <a:pt x="34" y="398"/>
                    </a:lnTo>
                    <a:lnTo>
                      <a:pt x="53" y="373"/>
                    </a:lnTo>
                    <a:lnTo>
                      <a:pt x="76" y="349"/>
                    </a:lnTo>
                    <a:lnTo>
                      <a:pt x="103" y="325"/>
                    </a:lnTo>
                    <a:lnTo>
                      <a:pt x="133" y="303"/>
                    </a:lnTo>
                    <a:lnTo>
                      <a:pt x="167" y="280"/>
                    </a:lnTo>
                    <a:lnTo>
                      <a:pt x="205" y="258"/>
                    </a:lnTo>
                    <a:lnTo>
                      <a:pt x="246" y="237"/>
                    </a:lnTo>
                    <a:lnTo>
                      <a:pt x="291" y="217"/>
                    </a:lnTo>
                    <a:lnTo>
                      <a:pt x="338" y="197"/>
                    </a:lnTo>
                    <a:lnTo>
                      <a:pt x="389" y="179"/>
                    </a:lnTo>
                    <a:lnTo>
                      <a:pt x="442" y="160"/>
                    </a:lnTo>
                    <a:lnTo>
                      <a:pt x="498" y="143"/>
                    </a:lnTo>
                    <a:lnTo>
                      <a:pt x="557" y="127"/>
                    </a:lnTo>
                    <a:lnTo>
                      <a:pt x="619" y="111"/>
                    </a:lnTo>
                    <a:lnTo>
                      <a:pt x="683" y="97"/>
                    </a:lnTo>
                    <a:lnTo>
                      <a:pt x="750" y="83"/>
                    </a:lnTo>
                    <a:lnTo>
                      <a:pt x="819" y="70"/>
                    </a:lnTo>
                    <a:lnTo>
                      <a:pt x="890" y="59"/>
                    </a:lnTo>
                    <a:lnTo>
                      <a:pt x="963" y="47"/>
                    </a:lnTo>
                    <a:lnTo>
                      <a:pt x="1039" y="37"/>
                    </a:lnTo>
                    <a:lnTo>
                      <a:pt x="1117" y="29"/>
                    </a:lnTo>
                    <a:lnTo>
                      <a:pt x="1195" y="21"/>
                    </a:lnTo>
                    <a:lnTo>
                      <a:pt x="1276" y="15"/>
                    </a:lnTo>
                    <a:lnTo>
                      <a:pt x="1358" y="9"/>
                    </a:lnTo>
                    <a:lnTo>
                      <a:pt x="1442" y="5"/>
                    </a:lnTo>
                    <a:lnTo>
                      <a:pt x="1528" y="2"/>
                    </a:lnTo>
                    <a:lnTo>
                      <a:pt x="1614" y="0"/>
                    </a:lnTo>
                    <a:lnTo>
                      <a:pt x="1701" y="0"/>
                    </a:lnTo>
                    <a:lnTo>
                      <a:pt x="1789" y="0"/>
                    </a:lnTo>
                    <a:lnTo>
                      <a:pt x="1875" y="2"/>
                    </a:lnTo>
                    <a:lnTo>
                      <a:pt x="1961" y="5"/>
                    </a:lnTo>
                    <a:lnTo>
                      <a:pt x="2045" y="9"/>
                    </a:lnTo>
                    <a:lnTo>
                      <a:pt x="2127" y="15"/>
                    </a:lnTo>
                    <a:lnTo>
                      <a:pt x="2207" y="21"/>
                    </a:lnTo>
                    <a:lnTo>
                      <a:pt x="2286" y="29"/>
                    </a:lnTo>
                    <a:lnTo>
                      <a:pt x="2364" y="37"/>
                    </a:lnTo>
                    <a:lnTo>
                      <a:pt x="2440" y="47"/>
                    </a:lnTo>
                    <a:lnTo>
                      <a:pt x="2512" y="59"/>
                    </a:lnTo>
                    <a:lnTo>
                      <a:pt x="2584" y="70"/>
                    </a:lnTo>
                    <a:lnTo>
                      <a:pt x="2653" y="83"/>
                    </a:lnTo>
                    <a:lnTo>
                      <a:pt x="2719" y="97"/>
                    </a:lnTo>
                    <a:lnTo>
                      <a:pt x="2784" y="111"/>
                    </a:lnTo>
                    <a:lnTo>
                      <a:pt x="2846" y="127"/>
                    </a:lnTo>
                    <a:lnTo>
                      <a:pt x="2905" y="143"/>
                    </a:lnTo>
                    <a:lnTo>
                      <a:pt x="2961" y="160"/>
                    </a:lnTo>
                    <a:lnTo>
                      <a:pt x="3014" y="179"/>
                    </a:lnTo>
                    <a:lnTo>
                      <a:pt x="3065" y="197"/>
                    </a:lnTo>
                    <a:lnTo>
                      <a:pt x="3112" y="217"/>
                    </a:lnTo>
                    <a:lnTo>
                      <a:pt x="3157" y="237"/>
                    </a:lnTo>
                    <a:lnTo>
                      <a:pt x="3198" y="258"/>
                    </a:lnTo>
                    <a:lnTo>
                      <a:pt x="3236" y="280"/>
                    </a:lnTo>
                    <a:lnTo>
                      <a:pt x="3270" y="303"/>
                    </a:lnTo>
                    <a:lnTo>
                      <a:pt x="3300" y="325"/>
                    </a:lnTo>
                    <a:lnTo>
                      <a:pt x="3327" y="349"/>
                    </a:lnTo>
                    <a:lnTo>
                      <a:pt x="3350" y="373"/>
                    </a:lnTo>
                    <a:lnTo>
                      <a:pt x="3369" y="398"/>
                    </a:lnTo>
                    <a:lnTo>
                      <a:pt x="3384" y="423"/>
                    </a:lnTo>
                    <a:lnTo>
                      <a:pt x="3395" y="449"/>
                    </a:lnTo>
                    <a:lnTo>
                      <a:pt x="3401" y="475"/>
                    </a:lnTo>
                    <a:lnTo>
                      <a:pt x="3403" y="5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102400" y="6516360"/>
                <a:ext cx="376200" cy="122040"/>
              </a:xfrm>
              <a:custGeom>
                <a:avLst/>
                <a:gdLst/>
                <a:ahLst/>
                <a:rect l="l" t="t" r="r" b="b"/>
                <a:pathLst>
                  <a:path w="3401" h="1021">
                    <a:moveTo>
                      <a:pt x="3401" y="501"/>
                    </a:moveTo>
                    <a:lnTo>
                      <a:pt x="3399" y="528"/>
                    </a:lnTo>
                    <a:lnTo>
                      <a:pt x="3392" y="554"/>
                    </a:lnTo>
                    <a:lnTo>
                      <a:pt x="3381" y="580"/>
                    </a:lnTo>
                    <a:lnTo>
                      <a:pt x="3367" y="606"/>
                    </a:lnTo>
                    <a:lnTo>
                      <a:pt x="3348" y="631"/>
                    </a:lnTo>
                    <a:lnTo>
                      <a:pt x="3324" y="655"/>
                    </a:lnTo>
                    <a:lnTo>
                      <a:pt x="3298" y="679"/>
                    </a:lnTo>
                    <a:lnTo>
                      <a:pt x="3268" y="704"/>
                    </a:lnTo>
                    <a:lnTo>
                      <a:pt x="3234" y="726"/>
                    </a:lnTo>
                    <a:lnTo>
                      <a:pt x="3196" y="748"/>
                    </a:lnTo>
                    <a:lnTo>
                      <a:pt x="3155" y="770"/>
                    </a:lnTo>
                    <a:lnTo>
                      <a:pt x="3110" y="791"/>
                    </a:lnTo>
                    <a:lnTo>
                      <a:pt x="3063" y="812"/>
                    </a:lnTo>
                    <a:lnTo>
                      <a:pt x="3012" y="831"/>
                    </a:lnTo>
                    <a:lnTo>
                      <a:pt x="2959" y="850"/>
                    </a:lnTo>
                    <a:lnTo>
                      <a:pt x="2903" y="868"/>
                    </a:lnTo>
                    <a:lnTo>
                      <a:pt x="2844" y="885"/>
                    </a:lnTo>
                    <a:lnTo>
                      <a:pt x="2782" y="901"/>
                    </a:lnTo>
                    <a:lnTo>
                      <a:pt x="2717" y="917"/>
                    </a:lnTo>
                    <a:lnTo>
                      <a:pt x="2651" y="932"/>
                    </a:lnTo>
                    <a:lnTo>
                      <a:pt x="2582" y="945"/>
                    </a:lnTo>
                    <a:lnTo>
                      <a:pt x="2511" y="958"/>
                    </a:lnTo>
                    <a:lnTo>
                      <a:pt x="2438" y="969"/>
                    </a:lnTo>
                    <a:lnTo>
                      <a:pt x="2362" y="979"/>
                    </a:lnTo>
                    <a:lnTo>
                      <a:pt x="2285" y="988"/>
                    </a:lnTo>
                    <a:lnTo>
                      <a:pt x="2206" y="996"/>
                    </a:lnTo>
                    <a:lnTo>
                      <a:pt x="2126" y="1003"/>
                    </a:lnTo>
                    <a:lnTo>
                      <a:pt x="2043" y="1009"/>
                    </a:lnTo>
                    <a:lnTo>
                      <a:pt x="1959" y="1014"/>
                    </a:lnTo>
                    <a:lnTo>
                      <a:pt x="1874" y="1017"/>
                    </a:lnTo>
                    <a:lnTo>
                      <a:pt x="1788" y="1019"/>
                    </a:lnTo>
                    <a:lnTo>
                      <a:pt x="1700" y="1021"/>
                    </a:lnTo>
                    <a:lnTo>
                      <a:pt x="1613" y="1019"/>
                    </a:lnTo>
                    <a:lnTo>
                      <a:pt x="1527" y="1017"/>
                    </a:lnTo>
                    <a:lnTo>
                      <a:pt x="1442" y="1014"/>
                    </a:lnTo>
                    <a:lnTo>
                      <a:pt x="1358" y="1009"/>
                    </a:lnTo>
                    <a:lnTo>
                      <a:pt x="1275" y="1003"/>
                    </a:lnTo>
                    <a:lnTo>
                      <a:pt x="1194" y="996"/>
                    </a:lnTo>
                    <a:lnTo>
                      <a:pt x="1116" y="988"/>
                    </a:lnTo>
                    <a:lnTo>
                      <a:pt x="1039" y="979"/>
                    </a:lnTo>
                    <a:lnTo>
                      <a:pt x="963" y="969"/>
                    </a:lnTo>
                    <a:lnTo>
                      <a:pt x="889" y="958"/>
                    </a:lnTo>
                    <a:lnTo>
                      <a:pt x="819" y="945"/>
                    </a:lnTo>
                    <a:lnTo>
                      <a:pt x="750" y="932"/>
                    </a:lnTo>
                    <a:lnTo>
                      <a:pt x="683" y="917"/>
                    </a:lnTo>
                    <a:lnTo>
                      <a:pt x="619" y="901"/>
                    </a:lnTo>
                    <a:lnTo>
                      <a:pt x="557" y="885"/>
                    </a:lnTo>
                    <a:lnTo>
                      <a:pt x="498" y="868"/>
                    </a:lnTo>
                    <a:lnTo>
                      <a:pt x="442" y="850"/>
                    </a:lnTo>
                    <a:lnTo>
                      <a:pt x="389" y="831"/>
                    </a:lnTo>
                    <a:lnTo>
                      <a:pt x="338" y="812"/>
                    </a:lnTo>
                    <a:lnTo>
                      <a:pt x="291" y="791"/>
                    </a:lnTo>
                    <a:lnTo>
                      <a:pt x="246" y="770"/>
                    </a:lnTo>
                    <a:lnTo>
                      <a:pt x="205" y="748"/>
                    </a:lnTo>
                    <a:lnTo>
                      <a:pt x="167" y="726"/>
                    </a:lnTo>
                    <a:lnTo>
                      <a:pt x="134" y="704"/>
                    </a:lnTo>
                    <a:lnTo>
                      <a:pt x="103" y="679"/>
                    </a:lnTo>
                    <a:lnTo>
                      <a:pt x="76" y="655"/>
                    </a:lnTo>
                    <a:lnTo>
                      <a:pt x="53" y="631"/>
                    </a:lnTo>
                    <a:lnTo>
                      <a:pt x="34" y="606"/>
                    </a:lnTo>
                    <a:lnTo>
                      <a:pt x="20" y="580"/>
                    </a:lnTo>
                    <a:lnTo>
                      <a:pt x="9" y="554"/>
                    </a:lnTo>
                    <a:lnTo>
                      <a:pt x="2" y="528"/>
                    </a:lnTo>
                    <a:lnTo>
                      <a:pt x="0" y="501"/>
                    </a:lnTo>
                    <a:lnTo>
                      <a:pt x="2" y="474"/>
                    </a:lnTo>
                    <a:lnTo>
                      <a:pt x="9" y="448"/>
                    </a:lnTo>
                    <a:lnTo>
                      <a:pt x="20" y="422"/>
                    </a:lnTo>
                    <a:lnTo>
                      <a:pt x="34" y="397"/>
                    </a:lnTo>
                    <a:lnTo>
                      <a:pt x="53" y="372"/>
                    </a:lnTo>
                    <a:lnTo>
                      <a:pt x="76" y="348"/>
                    </a:lnTo>
                    <a:lnTo>
                      <a:pt x="103" y="325"/>
                    </a:lnTo>
                    <a:lnTo>
                      <a:pt x="134" y="302"/>
                    </a:lnTo>
                    <a:lnTo>
                      <a:pt x="167" y="280"/>
                    </a:lnTo>
                    <a:lnTo>
                      <a:pt x="205" y="257"/>
                    </a:lnTo>
                    <a:lnTo>
                      <a:pt x="246" y="236"/>
                    </a:lnTo>
                    <a:lnTo>
                      <a:pt x="291" y="216"/>
                    </a:lnTo>
                    <a:lnTo>
                      <a:pt x="338" y="197"/>
                    </a:lnTo>
                    <a:lnTo>
                      <a:pt x="389" y="178"/>
                    </a:lnTo>
                    <a:lnTo>
                      <a:pt x="442" y="160"/>
                    </a:lnTo>
                    <a:lnTo>
                      <a:pt x="498" y="142"/>
                    </a:lnTo>
                    <a:lnTo>
                      <a:pt x="557" y="126"/>
                    </a:lnTo>
                    <a:lnTo>
                      <a:pt x="619" y="111"/>
                    </a:lnTo>
                    <a:lnTo>
                      <a:pt x="683" y="96"/>
                    </a:lnTo>
                    <a:lnTo>
                      <a:pt x="750" y="83"/>
                    </a:lnTo>
                    <a:lnTo>
                      <a:pt x="819" y="70"/>
                    </a:lnTo>
                    <a:lnTo>
                      <a:pt x="889" y="59"/>
                    </a:lnTo>
                    <a:lnTo>
                      <a:pt x="963" y="47"/>
                    </a:lnTo>
                    <a:lnTo>
                      <a:pt x="1039" y="37"/>
                    </a:lnTo>
                    <a:lnTo>
                      <a:pt x="1116" y="29"/>
                    </a:lnTo>
                    <a:lnTo>
                      <a:pt x="1194" y="21"/>
                    </a:lnTo>
                    <a:lnTo>
                      <a:pt x="1275" y="15"/>
                    </a:lnTo>
                    <a:lnTo>
                      <a:pt x="1358" y="9"/>
                    </a:lnTo>
                    <a:lnTo>
                      <a:pt x="1442" y="5"/>
                    </a:lnTo>
                    <a:lnTo>
                      <a:pt x="1527" y="2"/>
                    </a:lnTo>
                    <a:lnTo>
                      <a:pt x="1613" y="0"/>
                    </a:lnTo>
                    <a:lnTo>
                      <a:pt x="1700" y="0"/>
                    </a:lnTo>
                    <a:lnTo>
                      <a:pt x="1788" y="0"/>
                    </a:lnTo>
                    <a:lnTo>
                      <a:pt x="1874" y="2"/>
                    </a:lnTo>
                    <a:lnTo>
                      <a:pt x="1959" y="5"/>
                    </a:lnTo>
                    <a:lnTo>
                      <a:pt x="2043" y="9"/>
                    </a:lnTo>
                    <a:lnTo>
                      <a:pt x="2126" y="15"/>
                    </a:lnTo>
                    <a:lnTo>
                      <a:pt x="2206" y="21"/>
                    </a:lnTo>
                    <a:lnTo>
                      <a:pt x="2285" y="29"/>
                    </a:lnTo>
                    <a:lnTo>
                      <a:pt x="2362" y="37"/>
                    </a:lnTo>
                    <a:lnTo>
                      <a:pt x="2438" y="47"/>
                    </a:lnTo>
                    <a:lnTo>
                      <a:pt x="2511" y="59"/>
                    </a:lnTo>
                    <a:lnTo>
                      <a:pt x="2582" y="70"/>
                    </a:lnTo>
                    <a:lnTo>
                      <a:pt x="2651" y="83"/>
                    </a:lnTo>
                    <a:lnTo>
                      <a:pt x="2717" y="96"/>
                    </a:lnTo>
                    <a:lnTo>
                      <a:pt x="2782" y="111"/>
                    </a:lnTo>
                    <a:lnTo>
                      <a:pt x="2844" y="126"/>
                    </a:lnTo>
                    <a:lnTo>
                      <a:pt x="2903" y="142"/>
                    </a:lnTo>
                    <a:lnTo>
                      <a:pt x="2959" y="160"/>
                    </a:lnTo>
                    <a:lnTo>
                      <a:pt x="3012" y="178"/>
                    </a:lnTo>
                    <a:lnTo>
                      <a:pt x="3063" y="197"/>
                    </a:lnTo>
                    <a:lnTo>
                      <a:pt x="3110" y="216"/>
                    </a:lnTo>
                    <a:lnTo>
                      <a:pt x="3155" y="236"/>
                    </a:lnTo>
                    <a:lnTo>
                      <a:pt x="3196" y="257"/>
                    </a:lnTo>
                    <a:lnTo>
                      <a:pt x="3234" y="280"/>
                    </a:lnTo>
                    <a:lnTo>
                      <a:pt x="3268" y="302"/>
                    </a:lnTo>
                    <a:lnTo>
                      <a:pt x="3298" y="325"/>
                    </a:lnTo>
                    <a:lnTo>
                      <a:pt x="3324" y="348"/>
                    </a:lnTo>
                    <a:lnTo>
                      <a:pt x="3348" y="372"/>
                    </a:lnTo>
                    <a:lnTo>
                      <a:pt x="3367" y="397"/>
                    </a:lnTo>
                    <a:lnTo>
                      <a:pt x="3381" y="422"/>
                    </a:lnTo>
                    <a:lnTo>
                      <a:pt x="3392" y="448"/>
                    </a:lnTo>
                    <a:lnTo>
                      <a:pt x="3399" y="474"/>
                    </a:lnTo>
                    <a:lnTo>
                      <a:pt x="3401" y="5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103480" y="6517440"/>
                <a:ext cx="374040" cy="120960"/>
              </a:xfrm>
              <a:custGeom>
                <a:avLst/>
                <a:gdLst/>
                <a:ahLst/>
                <a:rect l="l" t="t" r="r" b="b"/>
                <a:pathLst>
                  <a:path w="3397" h="1018">
                    <a:moveTo>
                      <a:pt x="3397" y="500"/>
                    </a:moveTo>
                    <a:lnTo>
                      <a:pt x="3395" y="527"/>
                    </a:lnTo>
                    <a:lnTo>
                      <a:pt x="3389" y="553"/>
                    </a:lnTo>
                    <a:lnTo>
                      <a:pt x="3378" y="579"/>
                    </a:lnTo>
                    <a:lnTo>
                      <a:pt x="3363" y="605"/>
                    </a:lnTo>
                    <a:lnTo>
                      <a:pt x="3344" y="630"/>
                    </a:lnTo>
                    <a:lnTo>
                      <a:pt x="3321" y="654"/>
                    </a:lnTo>
                    <a:lnTo>
                      <a:pt x="3294" y="678"/>
                    </a:lnTo>
                    <a:lnTo>
                      <a:pt x="3264" y="702"/>
                    </a:lnTo>
                    <a:lnTo>
                      <a:pt x="3231" y="725"/>
                    </a:lnTo>
                    <a:lnTo>
                      <a:pt x="3192" y="747"/>
                    </a:lnTo>
                    <a:lnTo>
                      <a:pt x="3152" y="769"/>
                    </a:lnTo>
                    <a:lnTo>
                      <a:pt x="3107" y="789"/>
                    </a:lnTo>
                    <a:lnTo>
                      <a:pt x="3060" y="810"/>
                    </a:lnTo>
                    <a:lnTo>
                      <a:pt x="3009" y="830"/>
                    </a:lnTo>
                    <a:lnTo>
                      <a:pt x="2956" y="848"/>
                    </a:lnTo>
                    <a:lnTo>
                      <a:pt x="2900" y="866"/>
                    </a:lnTo>
                    <a:lnTo>
                      <a:pt x="2841" y="883"/>
                    </a:lnTo>
                    <a:lnTo>
                      <a:pt x="2779" y="899"/>
                    </a:lnTo>
                    <a:lnTo>
                      <a:pt x="2715" y="916"/>
                    </a:lnTo>
                    <a:lnTo>
                      <a:pt x="2649" y="930"/>
                    </a:lnTo>
                    <a:lnTo>
                      <a:pt x="2579" y="943"/>
                    </a:lnTo>
                    <a:lnTo>
                      <a:pt x="2508" y="956"/>
                    </a:lnTo>
                    <a:lnTo>
                      <a:pt x="2435" y="967"/>
                    </a:lnTo>
                    <a:lnTo>
                      <a:pt x="2360" y="977"/>
                    </a:lnTo>
                    <a:lnTo>
                      <a:pt x="2282" y="987"/>
                    </a:lnTo>
                    <a:lnTo>
                      <a:pt x="2203" y="995"/>
                    </a:lnTo>
                    <a:lnTo>
                      <a:pt x="2124" y="1001"/>
                    </a:lnTo>
                    <a:lnTo>
                      <a:pt x="2041" y="1007"/>
                    </a:lnTo>
                    <a:lnTo>
                      <a:pt x="1957" y="1012"/>
                    </a:lnTo>
                    <a:lnTo>
                      <a:pt x="1872" y="1015"/>
                    </a:lnTo>
                    <a:lnTo>
                      <a:pt x="1786" y="1017"/>
                    </a:lnTo>
                    <a:lnTo>
                      <a:pt x="1698" y="1018"/>
                    </a:lnTo>
                    <a:lnTo>
                      <a:pt x="1611" y="1017"/>
                    </a:lnTo>
                    <a:lnTo>
                      <a:pt x="1525" y="1015"/>
                    </a:lnTo>
                    <a:lnTo>
                      <a:pt x="1440" y="1012"/>
                    </a:lnTo>
                    <a:lnTo>
                      <a:pt x="1356" y="1007"/>
                    </a:lnTo>
                    <a:lnTo>
                      <a:pt x="1274" y="1001"/>
                    </a:lnTo>
                    <a:lnTo>
                      <a:pt x="1193" y="995"/>
                    </a:lnTo>
                    <a:lnTo>
                      <a:pt x="1115" y="987"/>
                    </a:lnTo>
                    <a:lnTo>
                      <a:pt x="1037" y="977"/>
                    </a:lnTo>
                    <a:lnTo>
                      <a:pt x="962" y="967"/>
                    </a:lnTo>
                    <a:lnTo>
                      <a:pt x="888" y="956"/>
                    </a:lnTo>
                    <a:lnTo>
                      <a:pt x="818" y="943"/>
                    </a:lnTo>
                    <a:lnTo>
                      <a:pt x="748" y="930"/>
                    </a:lnTo>
                    <a:lnTo>
                      <a:pt x="681" y="916"/>
                    </a:lnTo>
                    <a:lnTo>
                      <a:pt x="618" y="899"/>
                    </a:lnTo>
                    <a:lnTo>
                      <a:pt x="556" y="883"/>
                    </a:lnTo>
                    <a:lnTo>
                      <a:pt x="497" y="866"/>
                    </a:lnTo>
                    <a:lnTo>
                      <a:pt x="441" y="848"/>
                    </a:lnTo>
                    <a:lnTo>
                      <a:pt x="388" y="830"/>
                    </a:lnTo>
                    <a:lnTo>
                      <a:pt x="337" y="810"/>
                    </a:lnTo>
                    <a:lnTo>
                      <a:pt x="290" y="789"/>
                    </a:lnTo>
                    <a:lnTo>
                      <a:pt x="245" y="769"/>
                    </a:lnTo>
                    <a:lnTo>
                      <a:pt x="205" y="747"/>
                    </a:lnTo>
                    <a:lnTo>
                      <a:pt x="167" y="725"/>
                    </a:lnTo>
                    <a:lnTo>
                      <a:pt x="133" y="702"/>
                    </a:lnTo>
                    <a:lnTo>
                      <a:pt x="103" y="678"/>
                    </a:lnTo>
                    <a:lnTo>
                      <a:pt x="75" y="654"/>
                    </a:lnTo>
                    <a:lnTo>
                      <a:pt x="53" y="630"/>
                    </a:lnTo>
                    <a:lnTo>
                      <a:pt x="34" y="605"/>
                    </a:lnTo>
                    <a:lnTo>
                      <a:pt x="19" y="579"/>
                    </a:lnTo>
                    <a:lnTo>
                      <a:pt x="8" y="553"/>
                    </a:lnTo>
                    <a:lnTo>
                      <a:pt x="2" y="527"/>
                    </a:lnTo>
                    <a:lnTo>
                      <a:pt x="0" y="500"/>
                    </a:lnTo>
                    <a:lnTo>
                      <a:pt x="2" y="473"/>
                    </a:lnTo>
                    <a:lnTo>
                      <a:pt x="8" y="447"/>
                    </a:lnTo>
                    <a:lnTo>
                      <a:pt x="19" y="422"/>
                    </a:lnTo>
                    <a:lnTo>
                      <a:pt x="34" y="397"/>
                    </a:lnTo>
                    <a:lnTo>
                      <a:pt x="53" y="371"/>
                    </a:lnTo>
                    <a:lnTo>
                      <a:pt x="75" y="347"/>
                    </a:lnTo>
                    <a:lnTo>
                      <a:pt x="103" y="324"/>
                    </a:lnTo>
                    <a:lnTo>
                      <a:pt x="133" y="301"/>
                    </a:lnTo>
                    <a:lnTo>
                      <a:pt x="167" y="279"/>
                    </a:lnTo>
                    <a:lnTo>
                      <a:pt x="205" y="257"/>
                    </a:lnTo>
                    <a:lnTo>
                      <a:pt x="245" y="236"/>
                    </a:lnTo>
                    <a:lnTo>
                      <a:pt x="290" y="216"/>
                    </a:lnTo>
                    <a:lnTo>
                      <a:pt x="337" y="197"/>
                    </a:lnTo>
                    <a:lnTo>
                      <a:pt x="388" y="178"/>
                    </a:lnTo>
                    <a:lnTo>
                      <a:pt x="441" y="159"/>
                    </a:lnTo>
                    <a:lnTo>
                      <a:pt x="497" y="142"/>
                    </a:lnTo>
                    <a:lnTo>
                      <a:pt x="556" y="126"/>
                    </a:lnTo>
                    <a:lnTo>
                      <a:pt x="618" y="111"/>
                    </a:lnTo>
                    <a:lnTo>
                      <a:pt x="681" y="96"/>
                    </a:lnTo>
                    <a:lnTo>
                      <a:pt x="748" y="83"/>
                    </a:lnTo>
                    <a:lnTo>
                      <a:pt x="818" y="70"/>
                    </a:lnTo>
                    <a:lnTo>
                      <a:pt x="888" y="58"/>
                    </a:lnTo>
                    <a:lnTo>
                      <a:pt x="962" y="47"/>
                    </a:lnTo>
                    <a:lnTo>
                      <a:pt x="1037" y="37"/>
                    </a:lnTo>
                    <a:lnTo>
                      <a:pt x="1115" y="29"/>
                    </a:lnTo>
                    <a:lnTo>
                      <a:pt x="1193" y="21"/>
                    </a:lnTo>
                    <a:lnTo>
                      <a:pt x="1274" y="15"/>
                    </a:lnTo>
                    <a:lnTo>
                      <a:pt x="1356" y="9"/>
                    </a:lnTo>
                    <a:lnTo>
                      <a:pt x="1440" y="5"/>
                    </a:lnTo>
                    <a:lnTo>
                      <a:pt x="1525" y="2"/>
                    </a:lnTo>
                    <a:lnTo>
                      <a:pt x="1611" y="0"/>
                    </a:lnTo>
                    <a:lnTo>
                      <a:pt x="1698" y="0"/>
                    </a:lnTo>
                    <a:lnTo>
                      <a:pt x="1786" y="0"/>
                    </a:lnTo>
                    <a:lnTo>
                      <a:pt x="1872" y="2"/>
                    </a:lnTo>
                    <a:lnTo>
                      <a:pt x="1957" y="5"/>
                    </a:lnTo>
                    <a:lnTo>
                      <a:pt x="2041" y="9"/>
                    </a:lnTo>
                    <a:lnTo>
                      <a:pt x="2124" y="15"/>
                    </a:lnTo>
                    <a:lnTo>
                      <a:pt x="2203" y="21"/>
                    </a:lnTo>
                    <a:lnTo>
                      <a:pt x="2282" y="29"/>
                    </a:lnTo>
                    <a:lnTo>
                      <a:pt x="2360" y="37"/>
                    </a:lnTo>
                    <a:lnTo>
                      <a:pt x="2435" y="47"/>
                    </a:lnTo>
                    <a:lnTo>
                      <a:pt x="2508" y="58"/>
                    </a:lnTo>
                    <a:lnTo>
                      <a:pt x="2579" y="70"/>
                    </a:lnTo>
                    <a:lnTo>
                      <a:pt x="2649" y="83"/>
                    </a:lnTo>
                    <a:lnTo>
                      <a:pt x="2715" y="96"/>
                    </a:lnTo>
                    <a:lnTo>
                      <a:pt x="2779" y="111"/>
                    </a:lnTo>
                    <a:lnTo>
                      <a:pt x="2841" y="126"/>
                    </a:lnTo>
                    <a:lnTo>
                      <a:pt x="2900" y="142"/>
                    </a:lnTo>
                    <a:lnTo>
                      <a:pt x="2956" y="159"/>
                    </a:lnTo>
                    <a:lnTo>
                      <a:pt x="3009" y="178"/>
                    </a:lnTo>
                    <a:lnTo>
                      <a:pt x="3060" y="197"/>
                    </a:lnTo>
                    <a:lnTo>
                      <a:pt x="3107" y="216"/>
                    </a:lnTo>
                    <a:lnTo>
                      <a:pt x="3152" y="236"/>
                    </a:lnTo>
                    <a:lnTo>
                      <a:pt x="3192" y="257"/>
                    </a:lnTo>
                    <a:lnTo>
                      <a:pt x="3231" y="279"/>
                    </a:lnTo>
                    <a:lnTo>
                      <a:pt x="3264" y="301"/>
                    </a:lnTo>
                    <a:lnTo>
                      <a:pt x="3294" y="324"/>
                    </a:lnTo>
                    <a:lnTo>
                      <a:pt x="3321" y="347"/>
                    </a:lnTo>
                    <a:lnTo>
                      <a:pt x="3344" y="371"/>
                    </a:lnTo>
                    <a:lnTo>
                      <a:pt x="3363" y="397"/>
                    </a:lnTo>
                    <a:lnTo>
                      <a:pt x="3378" y="422"/>
                    </a:lnTo>
                    <a:lnTo>
                      <a:pt x="3389" y="447"/>
                    </a:lnTo>
                    <a:lnTo>
                      <a:pt x="3395" y="473"/>
                    </a:lnTo>
                    <a:lnTo>
                      <a:pt x="3397" y="5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103480" y="6517440"/>
                <a:ext cx="374040" cy="120960"/>
              </a:xfrm>
              <a:custGeom>
                <a:avLst/>
                <a:gdLst/>
                <a:ahLst/>
                <a:rect l="l" t="t" r="r" b="b"/>
                <a:pathLst>
                  <a:path w="3395" h="1017">
                    <a:moveTo>
                      <a:pt x="3395" y="500"/>
                    </a:moveTo>
                    <a:lnTo>
                      <a:pt x="3393" y="527"/>
                    </a:lnTo>
                    <a:lnTo>
                      <a:pt x="3386" y="553"/>
                    </a:lnTo>
                    <a:lnTo>
                      <a:pt x="3376" y="578"/>
                    </a:lnTo>
                    <a:lnTo>
                      <a:pt x="3361" y="605"/>
                    </a:lnTo>
                    <a:lnTo>
                      <a:pt x="3342" y="629"/>
                    </a:lnTo>
                    <a:lnTo>
                      <a:pt x="3318" y="654"/>
                    </a:lnTo>
                    <a:lnTo>
                      <a:pt x="3292" y="678"/>
                    </a:lnTo>
                    <a:lnTo>
                      <a:pt x="3262" y="702"/>
                    </a:lnTo>
                    <a:lnTo>
                      <a:pt x="3228" y="724"/>
                    </a:lnTo>
                    <a:lnTo>
                      <a:pt x="3190" y="747"/>
                    </a:lnTo>
                    <a:lnTo>
                      <a:pt x="3150" y="768"/>
                    </a:lnTo>
                    <a:lnTo>
                      <a:pt x="3105" y="789"/>
                    </a:lnTo>
                    <a:lnTo>
                      <a:pt x="3058" y="810"/>
                    </a:lnTo>
                    <a:lnTo>
                      <a:pt x="3007" y="829"/>
                    </a:lnTo>
                    <a:lnTo>
                      <a:pt x="2954" y="848"/>
                    </a:lnTo>
                    <a:lnTo>
                      <a:pt x="2898" y="866"/>
                    </a:lnTo>
                    <a:lnTo>
                      <a:pt x="2839" y="883"/>
                    </a:lnTo>
                    <a:lnTo>
                      <a:pt x="2777" y="899"/>
                    </a:lnTo>
                    <a:lnTo>
                      <a:pt x="2713" y="915"/>
                    </a:lnTo>
                    <a:lnTo>
                      <a:pt x="2647" y="929"/>
                    </a:lnTo>
                    <a:lnTo>
                      <a:pt x="2578" y="943"/>
                    </a:lnTo>
                    <a:lnTo>
                      <a:pt x="2506" y="955"/>
                    </a:lnTo>
                    <a:lnTo>
                      <a:pt x="2434" y="966"/>
                    </a:lnTo>
                    <a:lnTo>
                      <a:pt x="2358" y="976"/>
                    </a:lnTo>
                    <a:lnTo>
                      <a:pt x="2281" y="986"/>
                    </a:lnTo>
                    <a:lnTo>
                      <a:pt x="2202" y="994"/>
                    </a:lnTo>
                    <a:lnTo>
                      <a:pt x="2122" y="1001"/>
                    </a:lnTo>
                    <a:lnTo>
                      <a:pt x="2040" y="1006"/>
                    </a:lnTo>
                    <a:lnTo>
                      <a:pt x="1956" y="1011"/>
                    </a:lnTo>
                    <a:lnTo>
                      <a:pt x="1871" y="1014"/>
                    </a:lnTo>
                    <a:lnTo>
                      <a:pt x="1785" y="1016"/>
                    </a:lnTo>
                    <a:lnTo>
                      <a:pt x="1697" y="1017"/>
                    </a:lnTo>
                    <a:lnTo>
                      <a:pt x="1611" y="1016"/>
                    </a:lnTo>
                    <a:lnTo>
                      <a:pt x="1524" y="1014"/>
                    </a:lnTo>
                    <a:lnTo>
                      <a:pt x="1439" y="1011"/>
                    </a:lnTo>
                    <a:lnTo>
                      <a:pt x="1355" y="1006"/>
                    </a:lnTo>
                    <a:lnTo>
                      <a:pt x="1273" y="1001"/>
                    </a:lnTo>
                    <a:lnTo>
                      <a:pt x="1192" y="994"/>
                    </a:lnTo>
                    <a:lnTo>
                      <a:pt x="1114" y="986"/>
                    </a:lnTo>
                    <a:lnTo>
                      <a:pt x="1037" y="976"/>
                    </a:lnTo>
                    <a:lnTo>
                      <a:pt x="961" y="966"/>
                    </a:lnTo>
                    <a:lnTo>
                      <a:pt x="889" y="955"/>
                    </a:lnTo>
                    <a:lnTo>
                      <a:pt x="817" y="943"/>
                    </a:lnTo>
                    <a:lnTo>
                      <a:pt x="748" y="929"/>
                    </a:lnTo>
                    <a:lnTo>
                      <a:pt x="681" y="915"/>
                    </a:lnTo>
                    <a:lnTo>
                      <a:pt x="618" y="899"/>
                    </a:lnTo>
                    <a:lnTo>
                      <a:pt x="556" y="883"/>
                    </a:lnTo>
                    <a:lnTo>
                      <a:pt x="497" y="866"/>
                    </a:lnTo>
                    <a:lnTo>
                      <a:pt x="441" y="848"/>
                    </a:lnTo>
                    <a:lnTo>
                      <a:pt x="388" y="829"/>
                    </a:lnTo>
                    <a:lnTo>
                      <a:pt x="337" y="810"/>
                    </a:lnTo>
                    <a:lnTo>
                      <a:pt x="290" y="789"/>
                    </a:lnTo>
                    <a:lnTo>
                      <a:pt x="245" y="768"/>
                    </a:lnTo>
                    <a:lnTo>
                      <a:pt x="205" y="747"/>
                    </a:lnTo>
                    <a:lnTo>
                      <a:pt x="167" y="724"/>
                    </a:lnTo>
                    <a:lnTo>
                      <a:pt x="133" y="702"/>
                    </a:lnTo>
                    <a:lnTo>
                      <a:pt x="103" y="678"/>
                    </a:lnTo>
                    <a:lnTo>
                      <a:pt x="77" y="654"/>
                    </a:lnTo>
                    <a:lnTo>
                      <a:pt x="53" y="629"/>
                    </a:lnTo>
                    <a:lnTo>
                      <a:pt x="34" y="605"/>
                    </a:lnTo>
                    <a:lnTo>
                      <a:pt x="19" y="578"/>
                    </a:lnTo>
                    <a:lnTo>
                      <a:pt x="9" y="553"/>
                    </a:lnTo>
                    <a:lnTo>
                      <a:pt x="2" y="527"/>
                    </a:lnTo>
                    <a:lnTo>
                      <a:pt x="0" y="500"/>
                    </a:lnTo>
                    <a:lnTo>
                      <a:pt x="2" y="473"/>
                    </a:lnTo>
                    <a:lnTo>
                      <a:pt x="9" y="447"/>
                    </a:lnTo>
                    <a:lnTo>
                      <a:pt x="19" y="422"/>
                    </a:lnTo>
                    <a:lnTo>
                      <a:pt x="34" y="397"/>
                    </a:lnTo>
                    <a:lnTo>
                      <a:pt x="53" y="371"/>
                    </a:lnTo>
                    <a:lnTo>
                      <a:pt x="77" y="348"/>
                    </a:lnTo>
                    <a:lnTo>
                      <a:pt x="103" y="324"/>
                    </a:lnTo>
                    <a:lnTo>
                      <a:pt x="133" y="302"/>
                    </a:lnTo>
                    <a:lnTo>
                      <a:pt x="167" y="280"/>
                    </a:lnTo>
                    <a:lnTo>
                      <a:pt x="205" y="257"/>
                    </a:lnTo>
                    <a:lnTo>
                      <a:pt x="245" y="236"/>
                    </a:lnTo>
                    <a:lnTo>
                      <a:pt x="290" y="216"/>
                    </a:lnTo>
                    <a:lnTo>
                      <a:pt x="337" y="197"/>
                    </a:lnTo>
                    <a:lnTo>
                      <a:pt x="388" y="179"/>
                    </a:lnTo>
                    <a:lnTo>
                      <a:pt x="441" y="160"/>
                    </a:lnTo>
                    <a:lnTo>
                      <a:pt x="497" y="143"/>
                    </a:lnTo>
                    <a:lnTo>
                      <a:pt x="556" y="127"/>
                    </a:lnTo>
                    <a:lnTo>
                      <a:pt x="618" y="111"/>
                    </a:lnTo>
                    <a:lnTo>
                      <a:pt x="681" y="97"/>
                    </a:lnTo>
                    <a:lnTo>
                      <a:pt x="748" y="83"/>
                    </a:lnTo>
                    <a:lnTo>
                      <a:pt x="817" y="71"/>
                    </a:lnTo>
                    <a:lnTo>
                      <a:pt x="889" y="59"/>
                    </a:lnTo>
                    <a:lnTo>
                      <a:pt x="961" y="48"/>
                    </a:lnTo>
                    <a:lnTo>
                      <a:pt x="1037" y="38"/>
                    </a:lnTo>
                    <a:lnTo>
                      <a:pt x="1114" y="29"/>
                    </a:lnTo>
                    <a:lnTo>
                      <a:pt x="1192" y="22"/>
                    </a:lnTo>
                    <a:lnTo>
                      <a:pt x="1273" y="15"/>
                    </a:lnTo>
                    <a:lnTo>
                      <a:pt x="1355" y="10"/>
                    </a:lnTo>
                    <a:lnTo>
                      <a:pt x="1439" y="6"/>
                    </a:lnTo>
                    <a:lnTo>
                      <a:pt x="1524" y="3"/>
                    </a:lnTo>
                    <a:lnTo>
                      <a:pt x="1611" y="1"/>
                    </a:lnTo>
                    <a:lnTo>
                      <a:pt x="1697" y="0"/>
                    </a:lnTo>
                    <a:lnTo>
                      <a:pt x="1785" y="1"/>
                    </a:lnTo>
                    <a:lnTo>
                      <a:pt x="1871" y="3"/>
                    </a:lnTo>
                    <a:lnTo>
                      <a:pt x="1956" y="6"/>
                    </a:lnTo>
                    <a:lnTo>
                      <a:pt x="2040" y="10"/>
                    </a:lnTo>
                    <a:lnTo>
                      <a:pt x="2122" y="15"/>
                    </a:lnTo>
                    <a:lnTo>
                      <a:pt x="2202" y="22"/>
                    </a:lnTo>
                    <a:lnTo>
                      <a:pt x="2281" y="29"/>
                    </a:lnTo>
                    <a:lnTo>
                      <a:pt x="2358" y="38"/>
                    </a:lnTo>
                    <a:lnTo>
                      <a:pt x="2434" y="48"/>
                    </a:lnTo>
                    <a:lnTo>
                      <a:pt x="2506" y="59"/>
                    </a:lnTo>
                    <a:lnTo>
                      <a:pt x="2578" y="71"/>
                    </a:lnTo>
                    <a:lnTo>
                      <a:pt x="2647" y="83"/>
                    </a:lnTo>
                    <a:lnTo>
                      <a:pt x="2713" y="97"/>
                    </a:lnTo>
                    <a:lnTo>
                      <a:pt x="2777" y="111"/>
                    </a:lnTo>
                    <a:lnTo>
                      <a:pt x="2839" y="127"/>
                    </a:lnTo>
                    <a:lnTo>
                      <a:pt x="2898" y="143"/>
                    </a:lnTo>
                    <a:lnTo>
                      <a:pt x="2954" y="160"/>
                    </a:lnTo>
                    <a:lnTo>
                      <a:pt x="3007" y="179"/>
                    </a:lnTo>
                    <a:lnTo>
                      <a:pt x="3058" y="197"/>
                    </a:lnTo>
                    <a:lnTo>
                      <a:pt x="3105" y="216"/>
                    </a:lnTo>
                    <a:lnTo>
                      <a:pt x="3150" y="236"/>
                    </a:lnTo>
                    <a:lnTo>
                      <a:pt x="3190" y="257"/>
                    </a:lnTo>
                    <a:lnTo>
                      <a:pt x="3228" y="280"/>
                    </a:lnTo>
                    <a:lnTo>
                      <a:pt x="3262" y="302"/>
                    </a:lnTo>
                    <a:lnTo>
                      <a:pt x="3292" y="324"/>
                    </a:lnTo>
                    <a:lnTo>
                      <a:pt x="3318" y="348"/>
                    </a:lnTo>
                    <a:lnTo>
                      <a:pt x="3342" y="371"/>
                    </a:lnTo>
                    <a:lnTo>
                      <a:pt x="3361" y="397"/>
                    </a:lnTo>
                    <a:lnTo>
                      <a:pt x="3376" y="422"/>
                    </a:lnTo>
                    <a:lnTo>
                      <a:pt x="3386" y="447"/>
                    </a:lnTo>
                    <a:lnTo>
                      <a:pt x="3393" y="473"/>
                    </a:lnTo>
                    <a:lnTo>
                      <a:pt x="3395" y="5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103480" y="6517440"/>
                <a:ext cx="374040" cy="120960"/>
              </a:xfrm>
              <a:custGeom>
                <a:avLst/>
                <a:gdLst/>
                <a:ahLst/>
                <a:rect l="l" t="t" r="r" b="b"/>
                <a:pathLst>
                  <a:path w="3392" h="1015">
                    <a:moveTo>
                      <a:pt x="3392" y="499"/>
                    </a:moveTo>
                    <a:lnTo>
                      <a:pt x="3389" y="526"/>
                    </a:lnTo>
                    <a:lnTo>
                      <a:pt x="3383" y="552"/>
                    </a:lnTo>
                    <a:lnTo>
                      <a:pt x="3372" y="577"/>
                    </a:lnTo>
                    <a:lnTo>
                      <a:pt x="3357" y="603"/>
                    </a:lnTo>
                    <a:lnTo>
                      <a:pt x="3339" y="628"/>
                    </a:lnTo>
                    <a:lnTo>
                      <a:pt x="3315" y="652"/>
                    </a:lnTo>
                    <a:lnTo>
                      <a:pt x="3289" y="676"/>
                    </a:lnTo>
                    <a:lnTo>
                      <a:pt x="3259" y="700"/>
                    </a:lnTo>
                    <a:lnTo>
                      <a:pt x="3225" y="723"/>
                    </a:lnTo>
                    <a:lnTo>
                      <a:pt x="3187" y="745"/>
                    </a:lnTo>
                    <a:lnTo>
                      <a:pt x="3146" y="767"/>
                    </a:lnTo>
                    <a:lnTo>
                      <a:pt x="3102" y="787"/>
                    </a:lnTo>
                    <a:lnTo>
                      <a:pt x="3055" y="808"/>
                    </a:lnTo>
                    <a:lnTo>
                      <a:pt x="3004" y="828"/>
                    </a:lnTo>
                    <a:lnTo>
                      <a:pt x="2951" y="846"/>
                    </a:lnTo>
                    <a:lnTo>
                      <a:pt x="2895" y="864"/>
                    </a:lnTo>
                    <a:lnTo>
                      <a:pt x="2836" y="881"/>
                    </a:lnTo>
                    <a:lnTo>
                      <a:pt x="2774" y="897"/>
                    </a:lnTo>
                    <a:lnTo>
                      <a:pt x="2710" y="913"/>
                    </a:lnTo>
                    <a:lnTo>
                      <a:pt x="2644" y="927"/>
                    </a:lnTo>
                    <a:lnTo>
                      <a:pt x="2575" y="941"/>
                    </a:lnTo>
                    <a:lnTo>
                      <a:pt x="2504" y="953"/>
                    </a:lnTo>
                    <a:lnTo>
                      <a:pt x="2431" y="964"/>
                    </a:lnTo>
                    <a:lnTo>
                      <a:pt x="2356" y="975"/>
                    </a:lnTo>
                    <a:lnTo>
                      <a:pt x="2279" y="984"/>
                    </a:lnTo>
                    <a:lnTo>
                      <a:pt x="2199" y="992"/>
                    </a:lnTo>
                    <a:lnTo>
                      <a:pt x="2120" y="999"/>
                    </a:lnTo>
                    <a:lnTo>
                      <a:pt x="2038" y="1004"/>
                    </a:lnTo>
                    <a:lnTo>
                      <a:pt x="1954" y="1009"/>
                    </a:lnTo>
                    <a:lnTo>
                      <a:pt x="1869" y="1012"/>
                    </a:lnTo>
                    <a:lnTo>
                      <a:pt x="1782" y="1014"/>
                    </a:lnTo>
                    <a:lnTo>
                      <a:pt x="1695" y="1015"/>
                    </a:lnTo>
                    <a:lnTo>
                      <a:pt x="1609" y="1014"/>
                    </a:lnTo>
                    <a:lnTo>
                      <a:pt x="1522" y="1012"/>
                    </a:lnTo>
                    <a:lnTo>
                      <a:pt x="1437" y="1009"/>
                    </a:lnTo>
                    <a:lnTo>
                      <a:pt x="1354" y="1004"/>
                    </a:lnTo>
                    <a:lnTo>
                      <a:pt x="1271" y="999"/>
                    </a:lnTo>
                    <a:lnTo>
                      <a:pt x="1192" y="992"/>
                    </a:lnTo>
                    <a:lnTo>
                      <a:pt x="1113" y="984"/>
                    </a:lnTo>
                    <a:lnTo>
                      <a:pt x="1035" y="975"/>
                    </a:lnTo>
                    <a:lnTo>
                      <a:pt x="960" y="964"/>
                    </a:lnTo>
                    <a:lnTo>
                      <a:pt x="887" y="953"/>
                    </a:lnTo>
                    <a:lnTo>
                      <a:pt x="816" y="941"/>
                    </a:lnTo>
                    <a:lnTo>
                      <a:pt x="747" y="927"/>
                    </a:lnTo>
                    <a:lnTo>
                      <a:pt x="680" y="913"/>
                    </a:lnTo>
                    <a:lnTo>
                      <a:pt x="617" y="897"/>
                    </a:lnTo>
                    <a:lnTo>
                      <a:pt x="555" y="881"/>
                    </a:lnTo>
                    <a:lnTo>
                      <a:pt x="496" y="864"/>
                    </a:lnTo>
                    <a:lnTo>
                      <a:pt x="440" y="846"/>
                    </a:lnTo>
                    <a:lnTo>
                      <a:pt x="387" y="828"/>
                    </a:lnTo>
                    <a:lnTo>
                      <a:pt x="336" y="808"/>
                    </a:lnTo>
                    <a:lnTo>
                      <a:pt x="289" y="787"/>
                    </a:lnTo>
                    <a:lnTo>
                      <a:pt x="245" y="767"/>
                    </a:lnTo>
                    <a:lnTo>
                      <a:pt x="204" y="745"/>
                    </a:lnTo>
                    <a:lnTo>
                      <a:pt x="166" y="723"/>
                    </a:lnTo>
                    <a:lnTo>
                      <a:pt x="133" y="700"/>
                    </a:lnTo>
                    <a:lnTo>
                      <a:pt x="102" y="676"/>
                    </a:lnTo>
                    <a:lnTo>
                      <a:pt x="76" y="652"/>
                    </a:lnTo>
                    <a:lnTo>
                      <a:pt x="52" y="628"/>
                    </a:lnTo>
                    <a:lnTo>
                      <a:pt x="34" y="603"/>
                    </a:lnTo>
                    <a:lnTo>
                      <a:pt x="19" y="577"/>
                    </a:lnTo>
                    <a:lnTo>
                      <a:pt x="8" y="552"/>
                    </a:lnTo>
                    <a:lnTo>
                      <a:pt x="2" y="526"/>
                    </a:lnTo>
                    <a:lnTo>
                      <a:pt x="0" y="499"/>
                    </a:lnTo>
                    <a:lnTo>
                      <a:pt x="2" y="472"/>
                    </a:lnTo>
                    <a:lnTo>
                      <a:pt x="8" y="446"/>
                    </a:lnTo>
                    <a:lnTo>
                      <a:pt x="19" y="421"/>
                    </a:lnTo>
                    <a:lnTo>
                      <a:pt x="34" y="396"/>
                    </a:lnTo>
                    <a:lnTo>
                      <a:pt x="52" y="371"/>
                    </a:lnTo>
                    <a:lnTo>
                      <a:pt x="76" y="347"/>
                    </a:lnTo>
                    <a:lnTo>
                      <a:pt x="102" y="324"/>
                    </a:lnTo>
                    <a:lnTo>
                      <a:pt x="133" y="301"/>
                    </a:lnTo>
                    <a:lnTo>
                      <a:pt x="166" y="279"/>
                    </a:lnTo>
                    <a:lnTo>
                      <a:pt x="204" y="257"/>
                    </a:lnTo>
                    <a:lnTo>
                      <a:pt x="245" y="236"/>
                    </a:lnTo>
                    <a:lnTo>
                      <a:pt x="289" y="216"/>
                    </a:lnTo>
                    <a:lnTo>
                      <a:pt x="336" y="197"/>
                    </a:lnTo>
                    <a:lnTo>
                      <a:pt x="387" y="178"/>
                    </a:lnTo>
                    <a:lnTo>
                      <a:pt x="440" y="159"/>
                    </a:lnTo>
                    <a:lnTo>
                      <a:pt x="496" y="142"/>
                    </a:lnTo>
                    <a:lnTo>
                      <a:pt x="555" y="126"/>
                    </a:lnTo>
                    <a:lnTo>
                      <a:pt x="617" y="111"/>
                    </a:lnTo>
                    <a:lnTo>
                      <a:pt x="680" y="97"/>
                    </a:lnTo>
                    <a:lnTo>
                      <a:pt x="747" y="83"/>
                    </a:lnTo>
                    <a:lnTo>
                      <a:pt x="816" y="71"/>
                    </a:lnTo>
                    <a:lnTo>
                      <a:pt x="887" y="59"/>
                    </a:lnTo>
                    <a:lnTo>
                      <a:pt x="960" y="47"/>
                    </a:lnTo>
                    <a:lnTo>
                      <a:pt x="1035" y="38"/>
                    </a:lnTo>
                    <a:lnTo>
                      <a:pt x="1113" y="29"/>
                    </a:lnTo>
                    <a:lnTo>
                      <a:pt x="1192" y="22"/>
                    </a:lnTo>
                    <a:lnTo>
                      <a:pt x="1271" y="15"/>
                    </a:lnTo>
                    <a:lnTo>
                      <a:pt x="1354" y="10"/>
                    </a:lnTo>
                    <a:lnTo>
                      <a:pt x="1437" y="6"/>
                    </a:lnTo>
                    <a:lnTo>
                      <a:pt x="1522" y="3"/>
                    </a:lnTo>
                    <a:lnTo>
                      <a:pt x="1609" y="1"/>
                    </a:lnTo>
                    <a:lnTo>
                      <a:pt x="1695" y="0"/>
                    </a:lnTo>
                    <a:lnTo>
                      <a:pt x="1782" y="1"/>
                    </a:lnTo>
                    <a:lnTo>
                      <a:pt x="1869" y="3"/>
                    </a:lnTo>
                    <a:lnTo>
                      <a:pt x="1954" y="6"/>
                    </a:lnTo>
                    <a:lnTo>
                      <a:pt x="2038" y="10"/>
                    </a:lnTo>
                    <a:lnTo>
                      <a:pt x="2120" y="15"/>
                    </a:lnTo>
                    <a:lnTo>
                      <a:pt x="2199" y="22"/>
                    </a:lnTo>
                    <a:lnTo>
                      <a:pt x="2279" y="29"/>
                    </a:lnTo>
                    <a:lnTo>
                      <a:pt x="2356" y="38"/>
                    </a:lnTo>
                    <a:lnTo>
                      <a:pt x="2431" y="47"/>
                    </a:lnTo>
                    <a:lnTo>
                      <a:pt x="2504" y="59"/>
                    </a:lnTo>
                    <a:lnTo>
                      <a:pt x="2575" y="71"/>
                    </a:lnTo>
                    <a:lnTo>
                      <a:pt x="2644" y="83"/>
                    </a:lnTo>
                    <a:lnTo>
                      <a:pt x="2710" y="97"/>
                    </a:lnTo>
                    <a:lnTo>
                      <a:pt x="2774" y="111"/>
                    </a:lnTo>
                    <a:lnTo>
                      <a:pt x="2836" y="126"/>
                    </a:lnTo>
                    <a:lnTo>
                      <a:pt x="2895" y="142"/>
                    </a:lnTo>
                    <a:lnTo>
                      <a:pt x="2951" y="159"/>
                    </a:lnTo>
                    <a:lnTo>
                      <a:pt x="3004" y="178"/>
                    </a:lnTo>
                    <a:lnTo>
                      <a:pt x="3055" y="197"/>
                    </a:lnTo>
                    <a:lnTo>
                      <a:pt x="3102" y="216"/>
                    </a:lnTo>
                    <a:lnTo>
                      <a:pt x="3146" y="236"/>
                    </a:lnTo>
                    <a:lnTo>
                      <a:pt x="3187" y="257"/>
                    </a:lnTo>
                    <a:lnTo>
                      <a:pt x="3225" y="279"/>
                    </a:lnTo>
                    <a:lnTo>
                      <a:pt x="3259" y="301"/>
                    </a:lnTo>
                    <a:lnTo>
                      <a:pt x="3289" y="324"/>
                    </a:lnTo>
                    <a:lnTo>
                      <a:pt x="3315" y="347"/>
                    </a:lnTo>
                    <a:lnTo>
                      <a:pt x="3339" y="371"/>
                    </a:lnTo>
                    <a:lnTo>
                      <a:pt x="3357" y="396"/>
                    </a:lnTo>
                    <a:lnTo>
                      <a:pt x="3372" y="421"/>
                    </a:lnTo>
                    <a:lnTo>
                      <a:pt x="3383" y="446"/>
                    </a:lnTo>
                    <a:lnTo>
                      <a:pt x="3389" y="472"/>
                    </a:lnTo>
                    <a:lnTo>
                      <a:pt x="3392" y="4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103480" y="6517440"/>
                <a:ext cx="374040" cy="120960"/>
              </a:xfrm>
              <a:custGeom>
                <a:avLst/>
                <a:gdLst/>
                <a:ahLst/>
                <a:rect l="l" t="t" r="r" b="b"/>
                <a:pathLst>
                  <a:path w="3389" h="1013">
                    <a:moveTo>
                      <a:pt x="3389" y="498"/>
                    </a:moveTo>
                    <a:lnTo>
                      <a:pt x="3387" y="525"/>
                    </a:lnTo>
                    <a:lnTo>
                      <a:pt x="3381" y="551"/>
                    </a:lnTo>
                    <a:lnTo>
                      <a:pt x="3370" y="576"/>
                    </a:lnTo>
                    <a:lnTo>
                      <a:pt x="3355" y="602"/>
                    </a:lnTo>
                    <a:lnTo>
                      <a:pt x="3336" y="627"/>
                    </a:lnTo>
                    <a:lnTo>
                      <a:pt x="3313" y="651"/>
                    </a:lnTo>
                    <a:lnTo>
                      <a:pt x="3286" y="675"/>
                    </a:lnTo>
                    <a:lnTo>
                      <a:pt x="3256" y="699"/>
                    </a:lnTo>
                    <a:lnTo>
                      <a:pt x="3222" y="722"/>
                    </a:lnTo>
                    <a:lnTo>
                      <a:pt x="3185" y="744"/>
                    </a:lnTo>
                    <a:lnTo>
                      <a:pt x="3144" y="765"/>
                    </a:lnTo>
                    <a:lnTo>
                      <a:pt x="3100" y="786"/>
                    </a:lnTo>
                    <a:lnTo>
                      <a:pt x="3053" y="807"/>
                    </a:lnTo>
                    <a:lnTo>
                      <a:pt x="3002" y="826"/>
                    </a:lnTo>
                    <a:lnTo>
                      <a:pt x="2949" y="845"/>
                    </a:lnTo>
                    <a:lnTo>
                      <a:pt x="2893" y="862"/>
                    </a:lnTo>
                    <a:lnTo>
                      <a:pt x="2834" y="879"/>
                    </a:lnTo>
                    <a:lnTo>
                      <a:pt x="2772" y="895"/>
                    </a:lnTo>
                    <a:lnTo>
                      <a:pt x="2708" y="911"/>
                    </a:lnTo>
                    <a:lnTo>
                      <a:pt x="2642" y="926"/>
                    </a:lnTo>
                    <a:lnTo>
                      <a:pt x="2573" y="939"/>
                    </a:lnTo>
                    <a:lnTo>
                      <a:pt x="2502" y="951"/>
                    </a:lnTo>
                    <a:lnTo>
                      <a:pt x="2430" y="963"/>
                    </a:lnTo>
                    <a:lnTo>
                      <a:pt x="2354" y="973"/>
                    </a:lnTo>
                    <a:lnTo>
                      <a:pt x="2277" y="982"/>
                    </a:lnTo>
                    <a:lnTo>
                      <a:pt x="2198" y="990"/>
                    </a:lnTo>
                    <a:lnTo>
                      <a:pt x="2118" y="997"/>
                    </a:lnTo>
                    <a:lnTo>
                      <a:pt x="2036" y="1003"/>
                    </a:lnTo>
                    <a:lnTo>
                      <a:pt x="1953" y="1007"/>
                    </a:lnTo>
                    <a:lnTo>
                      <a:pt x="1868" y="1010"/>
                    </a:lnTo>
                    <a:lnTo>
                      <a:pt x="1781" y="1012"/>
                    </a:lnTo>
                    <a:lnTo>
                      <a:pt x="1694" y="1013"/>
                    </a:lnTo>
                    <a:lnTo>
                      <a:pt x="1608" y="1012"/>
                    </a:lnTo>
                    <a:lnTo>
                      <a:pt x="1521" y="1010"/>
                    </a:lnTo>
                    <a:lnTo>
                      <a:pt x="1436" y="1007"/>
                    </a:lnTo>
                    <a:lnTo>
                      <a:pt x="1353" y="1003"/>
                    </a:lnTo>
                    <a:lnTo>
                      <a:pt x="1271" y="997"/>
                    </a:lnTo>
                    <a:lnTo>
                      <a:pt x="1191" y="990"/>
                    </a:lnTo>
                    <a:lnTo>
                      <a:pt x="1112" y="982"/>
                    </a:lnTo>
                    <a:lnTo>
                      <a:pt x="1035" y="973"/>
                    </a:lnTo>
                    <a:lnTo>
                      <a:pt x="960" y="963"/>
                    </a:lnTo>
                    <a:lnTo>
                      <a:pt x="887" y="951"/>
                    </a:lnTo>
                    <a:lnTo>
                      <a:pt x="816" y="939"/>
                    </a:lnTo>
                    <a:lnTo>
                      <a:pt x="747" y="926"/>
                    </a:lnTo>
                    <a:lnTo>
                      <a:pt x="680" y="911"/>
                    </a:lnTo>
                    <a:lnTo>
                      <a:pt x="617" y="895"/>
                    </a:lnTo>
                    <a:lnTo>
                      <a:pt x="555" y="879"/>
                    </a:lnTo>
                    <a:lnTo>
                      <a:pt x="496" y="862"/>
                    </a:lnTo>
                    <a:lnTo>
                      <a:pt x="440" y="845"/>
                    </a:lnTo>
                    <a:lnTo>
                      <a:pt x="387" y="826"/>
                    </a:lnTo>
                    <a:lnTo>
                      <a:pt x="336" y="807"/>
                    </a:lnTo>
                    <a:lnTo>
                      <a:pt x="290" y="786"/>
                    </a:lnTo>
                    <a:lnTo>
                      <a:pt x="245" y="765"/>
                    </a:lnTo>
                    <a:lnTo>
                      <a:pt x="204" y="744"/>
                    </a:lnTo>
                    <a:lnTo>
                      <a:pt x="166" y="722"/>
                    </a:lnTo>
                    <a:lnTo>
                      <a:pt x="133" y="699"/>
                    </a:lnTo>
                    <a:lnTo>
                      <a:pt x="103" y="675"/>
                    </a:lnTo>
                    <a:lnTo>
                      <a:pt x="76" y="651"/>
                    </a:lnTo>
                    <a:lnTo>
                      <a:pt x="53" y="627"/>
                    </a:lnTo>
                    <a:lnTo>
                      <a:pt x="34" y="602"/>
                    </a:lnTo>
                    <a:lnTo>
                      <a:pt x="19" y="576"/>
                    </a:lnTo>
                    <a:lnTo>
                      <a:pt x="9" y="551"/>
                    </a:lnTo>
                    <a:lnTo>
                      <a:pt x="2" y="525"/>
                    </a:lnTo>
                    <a:lnTo>
                      <a:pt x="0" y="498"/>
                    </a:lnTo>
                    <a:lnTo>
                      <a:pt x="2" y="471"/>
                    </a:lnTo>
                    <a:lnTo>
                      <a:pt x="9" y="445"/>
                    </a:lnTo>
                    <a:lnTo>
                      <a:pt x="19" y="420"/>
                    </a:lnTo>
                    <a:lnTo>
                      <a:pt x="34" y="395"/>
                    </a:lnTo>
                    <a:lnTo>
                      <a:pt x="53" y="370"/>
                    </a:lnTo>
                    <a:lnTo>
                      <a:pt x="76" y="346"/>
                    </a:lnTo>
                    <a:lnTo>
                      <a:pt x="103" y="323"/>
                    </a:lnTo>
                    <a:lnTo>
                      <a:pt x="133" y="300"/>
                    </a:lnTo>
                    <a:lnTo>
                      <a:pt x="166" y="278"/>
                    </a:lnTo>
                    <a:lnTo>
                      <a:pt x="204" y="256"/>
                    </a:lnTo>
                    <a:lnTo>
                      <a:pt x="245" y="235"/>
                    </a:lnTo>
                    <a:lnTo>
                      <a:pt x="290" y="215"/>
                    </a:lnTo>
                    <a:lnTo>
                      <a:pt x="336" y="196"/>
                    </a:lnTo>
                    <a:lnTo>
                      <a:pt x="387" y="178"/>
                    </a:lnTo>
                    <a:lnTo>
                      <a:pt x="440" y="159"/>
                    </a:lnTo>
                    <a:lnTo>
                      <a:pt x="496" y="142"/>
                    </a:lnTo>
                    <a:lnTo>
                      <a:pt x="555" y="126"/>
                    </a:lnTo>
                    <a:lnTo>
                      <a:pt x="617" y="111"/>
                    </a:lnTo>
                    <a:lnTo>
                      <a:pt x="680" y="96"/>
                    </a:lnTo>
                    <a:lnTo>
                      <a:pt x="747" y="83"/>
                    </a:lnTo>
                    <a:lnTo>
                      <a:pt x="816" y="70"/>
                    </a:lnTo>
                    <a:lnTo>
                      <a:pt x="887" y="59"/>
                    </a:lnTo>
                    <a:lnTo>
                      <a:pt x="960" y="47"/>
                    </a:lnTo>
                    <a:lnTo>
                      <a:pt x="1035" y="38"/>
                    </a:lnTo>
                    <a:lnTo>
                      <a:pt x="1112" y="29"/>
                    </a:lnTo>
                    <a:lnTo>
                      <a:pt x="1191" y="22"/>
                    </a:lnTo>
                    <a:lnTo>
                      <a:pt x="1271" y="15"/>
                    </a:lnTo>
                    <a:lnTo>
                      <a:pt x="1353" y="10"/>
                    </a:lnTo>
                    <a:lnTo>
                      <a:pt x="1436" y="6"/>
                    </a:lnTo>
                    <a:lnTo>
                      <a:pt x="1521" y="3"/>
                    </a:lnTo>
                    <a:lnTo>
                      <a:pt x="1608" y="1"/>
                    </a:lnTo>
                    <a:lnTo>
                      <a:pt x="1694" y="0"/>
                    </a:lnTo>
                    <a:lnTo>
                      <a:pt x="1781" y="1"/>
                    </a:lnTo>
                    <a:lnTo>
                      <a:pt x="1868" y="3"/>
                    </a:lnTo>
                    <a:lnTo>
                      <a:pt x="1953" y="6"/>
                    </a:lnTo>
                    <a:lnTo>
                      <a:pt x="2036" y="10"/>
                    </a:lnTo>
                    <a:lnTo>
                      <a:pt x="2118" y="15"/>
                    </a:lnTo>
                    <a:lnTo>
                      <a:pt x="2198" y="22"/>
                    </a:lnTo>
                    <a:lnTo>
                      <a:pt x="2277" y="29"/>
                    </a:lnTo>
                    <a:lnTo>
                      <a:pt x="2354" y="38"/>
                    </a:lnTo>
                    <a:lnTo>
                      <a:pt x="2430" y="47"/>
                    </a:lnTo>
                    <a:lnTo>
                      <a:pt x="2502" y="59"/>
                    </a:lnTo>
                    <a:lnTo>
                      <a:pt x="2573" y="70"/>
                    </a:lnTo>
                    <a:lnTo>
                      <a:pt x="2642" y="83"/>
                    </a:lnTo>
                    <a:lnTo>
                      <a:pt x="2708" y="96"/>
                    </a:lnTo>
                    <a:lnTo>
                      <a:pt x="2772" y="111"/>
                    </a:lnTo>
                    <a:lnTo>
                      <a:pt x="2834" y="126"/>
                    </a:lnTo>
                    <a:lnTo>
                      <a:pt x="2893" y="142"/>
                    </a:lnTo>
                    <a:lnTo>
                      <a:pt x="2949" y="159"/>
                    </a:lnTo>
                    <a:lnTo>
                      <a:pt x="3002" y="178"/>
                    </a:lnTo>
                    <a:lnTo>
                      <a:pt x="3053" y="196"/>
                    </a:lnTo>
                    <a:lnTo>
                      <a:pt x="3100" y="215"/>
                    </a:lnTo>
                    <a:lnTo>
                      <a:pt x="3144" y="235"/>
                    </a:lnTo>
                    <a:lnTo>
                      <a:pt x="3185" y="256"/>
                    </a:lnTo>
                    <a:lnTo>
                      <a:pt x="3222" y="278"/>
                    </a:lnTo>
                    <a:lnTo>
                      <a:pt x="3256" y="300"/>
                    </a:lnTo>
                    <a:lnTo>
                      <a:pt x="3286" y="323"/>
                    </a:lnTo>
                    <a:lnTo>
                      <a:pt x="3313" y="346"/>
                    </a:lnTo>
                    <a:lnTo>
                      <a:pt x="3336" y="370"/>
                    </a:lnTo>
                    <a:lnTo>
                      <a:pt x="3355" y="395"/>
                    </a:lnTo>
                    <a:lnTo>
                      <a:pt x="3370" y="420"/>
                    </a:lnTo>
                    <a:lnTo>
                      <a:pt x="3381" y="445"/>
                    </a:lnTo>
                    <a:lnTo>
                      <a:pt x="3387" y="471"/>
                    </a:lnTo>
                    <a:lnTo>
                      <a:pt x="3389" y="4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103480" y="6517440"/>
                <a:ext cx="374040" cy="120960"/>
              </a:xfrm>
              <a:custGeom>
                <a:avLst/>
                <a:gdLst/>
                <a:ahLst/>
                <a:rect l="l" t="t" r="r" b="b"/>
                <a:pathLst>
                  <a:path w="3387" h="1011">
                    <a:moveTo>
                      <a:pt x="3387" y="497"/>
                    </a:moveTo>
                    <a:lnTo>
                      <a:pt x="3385" y="524"/>
                    </a:lnTo>
                    <a:lnTo>
                      <a:pt x="3378" y="549"/>
                    </a:lnTo>
                    <a:lnTo>
                      <a:pt x="3367" y="575"/>
                    </a:lnTo>
                    <a:lnTo>
                      <a:pt x="3353" y="601"/>
                    </a:lnTo>
                    <a:lnTo>
                      <a:pt x="3334" y="626"/>
                    </a:lnTo>
                    <a:lnTo>
                      <a:pt x="3310" y="650"/>
                    </a:lnTo>
                    <a:lnTo>
                      <a:pt x="3284" y="674"/>
                    </a:lnTo>
                    <a:lnTo>
                      <a:pt x="3254" y="698"/>
                    </a:lnTo>
                    <a:lnTo>
                      <a:pt x="3219" y="720"/>
                    </a:lnTo>
                    <a:lnTo>
                      <a:pt x="3182" y="742"/>
                    </a:lnTo>
                    <a:lnTo>
                      <a:pt x="3142" y="764"/>
                    </a:lnTo>
                    <a:lnTo>
                      <a:pt x="3097" y="784"/>
                    </a:lnTo>
                    <a:lnTo>
                      <a:pt x="3051" y="805"/>
                    </a:lnTo>
                    <a:lnTo>
                      <a:pt x="3000" y="825"/>
                    </a:lnTo>
                    <a:lnTo>
                      <a:pt x="2947" y="843"/>
                    </a:lnTo>
                    <a:lnTo>
                      <a:pt x="2891" y="861"/>
                    </a:lnTo>
                    <a:lnTo>
                      <a:pt x="2832" y="878"/>
                    </a:lnTo>
                    <a:lnTo>
                      <a:pt x="2771" y="894"/>
                    </a:lnTo>
                    <a:lnTo>
                      <a:pt x="2706" y="910"/>
                    </a:lnTo>
                    <a:lnTo>
                      <a:pt x="2641" y="924"/>
                    </a:lnTo>
                    <a:lnTo>
                      <a:pt x="2571" y="937"/>
                    </a:lnTo>
                    <a:lnTo>
                      <a:pt x="2500" y="949"/>
                    </a:lnTo>
                    <a:lnTo>
                      <a:pt x="2428" y="961"/>
                    </a:lnTo>
                    <a:lnTo>
                      <a:pt x="2353" y="971"/>
                    </a:lnTo>
                    <a:lnTo>
                      <a:pt x="2276" y="980"/>
                    </a:lnTo>
                    <a:lnTo>
                      <a:pt x="2197" y="988"/>
                    </a:lnTo>
                    <a:lnTo>
                      <a:pt x="2117" y="995"/>
                    </a:lnTo>
                    <a:lnTo>
                      <a:pt x="2035" y="1001"/>
                    </a:lnTo>
                    <a:lnTo>
                      <a:pt x="1951" y="1005"/>
                    </a:lnTo>
                    <a:lnTo>
                      <a:pt x="1866" y="1008"/>
                    </a:lnTo>
                    <a:lnTo>
                      <a:pt x="1780" y="1010"/>
                    </a:lnTo>
                    <a:lnTo>
                      <a:pt x="1693" y="1011"/>
                    </a:lnTo>
                    <a:lnTo>
                      <a:pt x="1607" y="1010"/>
                    </a:lnTo>
                    <a:lnTo>
                      <a:pt x="1521" y="1008"/>
                    </a:lnTo>
                    <a:lnTo>
                      <a:pt x="1436" y="1005"/>
                    </a:lnTo>
                    <a:lnTo>
                      <a:pt x="1352" y="1001"/>
                    </a:lnTo>
                    <a:lnTo>
                      <a:pt x="1270" y="995"/>
                    </a:lnTo>
                    <a:lnTo>
                      <a:pt x="1190" y="988"/>
                    </a:lnTo>
                    <a:lnTo>
                      <a:pt x="1112" y="980"/>
                    </a:lnTo>
                    <a:lnTo>
                      <a:pt x="1034" y="971"/>
                    </a:lnTo>
                    <a:lnTo>
                      <a:pt x="959" y="961"/>
                    </a:lnTo>
                    <a:lnTo>
                      <a:pt x="887" y="949"/>
                    </a:lnTo>
                    <a:lnTo>
                      <a:pt x="816" y="937"/>
                    </a:lnTo>
                    <a:lnTo>
                      <a:pt x="747" y="924"/>
                    </a:lnTo>
                    <a:lnTo>
                      <a:pt x="680" y="910"/>
                    </a:lnTo>
                    <a:lnTo>
                      <a:pt x="617" y="894"/>
                    </a:lnTo>
                    <a:lnTo>
                      <a:pt x="555" y="878"/>
                    </a:lnTo>
                    <a:lnTo>
                      <a:pt x="496" y="861"/>
                    </a:lnTo>
                    <a:lnTo>
                      <a:pt x="440" y="843"/>
                    </a:lnTo>
                    <a:lnTo>
                      <a:pt x="387" y="825"/>
                    </a:lnTo>
                    <a:lnTo>
                      <a:pt x="336" y="805"/>
                    </a:lnTo>
                    <a:lnTo>
                      <a:pt x="290" y="784"/>
                    </a:lnTo>
                    <a:lnTo>
                      <a:pt x="245" y="764"/>
                    </a:lnTo>
                    <a:lnTo>
                      <a:pt x="205" y="742"/>
                    </a:lnTo>
                    <a:lnTo>
                      <a:pt x="167" y="720"/>
                    </a:lnTo>
                    <a:lnTo>
                      <a:pt x="133" y="698"/>
                    </a:lnTo>
                    <a:lnTo>
                      <a:pt x="103" y="674"/>
                    </a:lnTo>
                    <a:lnTo>
                      <a:pt x="77" y="650"/>
                    </a:lnTo>
                    <a:lnTo>
                      <a:pt x="53" y="626"/>
                    </a:lnTo>
                    <a:lnTo>
                      <a:pt x="34" y="601"/>
                    </a:lnTo>
                    <a:lnTo>
                      <a:pt x="20" y="575"/>
                    </a:lnTo>
                    <a:lnTo>
                      <a:pt x="9" y="549"/>
                    </a:lnTo>
                    <a:lnTo>
                      <a:pt x="3" y="524"/>
                    </a:lnTo>
                    <a:lnTo>
                      <a:pt x="0" y="497"/>
                    </a:lnTo>
                    <a:lnTo>
                      <a:pt x="3" y="470"/>
                    </a:lnTo>
                    <a:lnTo>
                      <a:pt x="9" y="444"/>
                    </a:lnTo>
                    <a:lnTo>
                      <a:pt x="20" y="419"/>
                    </a:lnTo>
                    <a:lnTo>
                      <a:pt x="34" y="394"/>
                    </a:lnTo>
                    <a:lnTo>
                      <a:pt x="53" y="369"/>
                    </a:lnTo>
                    <a:lnTo>
                      <a:pt x="77" y="345"/>
                    </a:lnTo>
                    <a:lnTo>
                      <a:pt x="103" y="322"/>
                    </a:lnTo>
                    <a:lnTo>
                      <a:pt x="133" y="300"/>
                    </a:lnTo>
                    <a:lnTo>
                      <a:pt x="167" y="278"/>
                    </a:lnTo>
                    <a:lnTo>
                      <a:pt x="205" y="256"/>
                    </a:lnTo>
                    <a:lnTo>
                      <a:pt x="245" y="235"/>
                    </a:lnTo>
                    <a:lnTo>
                      <a:pt x="290" y="215"/>
                    </a:lnTo>
                    <a:lnTo>
                      <a:pt x="336" y="196"/>
                    </a:lnTo>
                    <a:lnTo>
                      <a:pt x="387" y="177"/>
                    </a:lnTo>
                    <a:lnTo>
                      <a:pt x="440" y="159"/>
                    </a:lnTo>
                    <a:lnTo>
                      <a:pt x="496" y="142"/>
                    </a:lnTo>
                    <a:lnTo>
                      <a:pt x="555" y="126"/>
                    </a:lnTo>
                    <a:lnTo>
                      <a:pt x="617" y="111"/>
                    </a:lnTo>
                    <a:lnTo>
                      <a:pt x="680" y="96"/>
                    </a:lnTo>
                    <a:lnTo>
                      <a:pt x="747" y="83"/>
                    </a:lnTo>
                    <a:lnTo>
                      <a:pt x="816" y="70"/>
                    </a:lnTo>
                    <a:lnTo>
                      <a:pt x="887" y="59"/>
                    </a:lnTo>
                    <a:lnTo>
                      <a:pt x="959" y="47"/>
                    </a:lnTo>
                    <a:lnTo>
                      <a:pt x="1034" y="38"/>
                    </a:lnTo>
                    <a:lnTo>
                      <a:pt x="1112" y="29"/>
                    </a:lnTo>
                    <a:lnTo>
                      <a:pt x="1190" y="22"/>
                    </a:lnTo>
                    <a:lnTo>
                      <a:pt x="1270" y="15"/>
                    </a:lnTo>
                    <a:lnTo>
                      <a:pt x="1352" y="10"/>
                    </a:lnTo>
                    <a:lnTo>
                      <a:pt x="1436" y="6"/>
                    </a:lnTo>
                    <a:lnTo>
                      <a:pt x="1521" y="3"/>
                    </a:lnTo>
                    <a:lnTo>
                      <a:pt x="1607" y="1"/>
                    </a:lnTo>
                    <a:lnTo>
                      <a:pt x="1693" y="0"/>
                    </a:lnTo>
                    <a:lnTo>
                      <a:pt x="1780" y="1"/>
                    </a:lnTo>
                    <a:lnTo>
                      <a:pt x="1866" y="3"/>
                    </a:lnTo>
                    <a:lnTo>
                      <a:pt x="1951" y="6"/>
                    </a:lnTo>
                    <a:lnTo>
                      <a:pt x="2035" y="10"/>
                    </a:lnTo>
                    <a:lnTo>
                      <a:pt x="2117" y="15"/>
                    </a:lnTo>
                    <a:lnTo>
                      <a:pt x="2197" y="22"/>
                    </a:lnTo>
                    <a:lnTo>
                      <a:pt x="2276" y="29"/>
                    </a:lnTo>
                    <a:lnTo>
                      <a:pt x="2353" y="38"/>
                    </a:lnTo>
                    <a:lnTo>
                      <a:pt x="2428" y="47"/>
                    </a:lnTo>
                    <a:lnTo>
                      <a:pt x="2500" y="59"/>
                    </a:lnTo>
                    <a:lnTo>
                      <a:pt x="2571" y="70"/>
                    </a:lnTo>
                    <a:lnTo>
                      <a:pt x="2641" y="83"/>
                    </a:lnTo>
                    <a:lnTo>
                      <a:pt x="2706" y="96"/>
                    </a:lnTo>
                    <a:lnTo>
                      <a:pt x="2771" y="111"/>
                    </a:lnTo>
                    <a:lnTo>
                      <a:pt x="2832" y="126"/>
                    </a:lnTo>
                    <a:lnTo>
                      <a:pt x="2891" y="142"/>
                    </a:lnTo>
                    <a:lnTo>
                      <a:pt x="2947" y="159"/>
                    </a:lnTo>
                    <a:lnTo>
                      <a:pt x="3000" y="177"/>
                    </a:lnTo>
                    <a:lnTo>
                      <a:pt x="3051" y="196"/>
                    </a:lnTo>
                    <a:lnTo>
                      <a:pt x="3097" y="215"/>
                    </a:lnTo>
                    <a:lnTo>
                      <a:pt x="3142" y="235"/>
                    </a:lnTo>
                    <a:lnTo>
                      <a:pt x="3182" y="256"/>
                    </a:lnTo>
                    <a:lnTo>
                      <a:pt x="3219" y="278"/>
                    </a:lnTo>
                    <a:lnTo>
                      <a:pt x="3254" y="300"/>
                    </a:lnTo>
                    <a:lnTo>
                      <a:pt x="3284" y="322"/>
                    </a:lnTo>
                    <a:lnTo>
                      <a:pt x="3310" y="345"/>
                    </a:lnTo>
                    <a:lnTo>
                      <a:pt x="3334" y="369"/>
                    </a:lnTo>
                    <a:lnTo>
                      <a:pt x="3353" y="394"/>
                    </a:lnTo>
                    <a:lnTo>
                      <a:pt x="3367" y="419"/>
                    </a:lnTo>
                    <a:lnTo>
                      <a:pt x="3378" y="444"/>
                    </a:lnTo>
                    <a:lnTo>
                      <a:pt x="3385" y="470"/>
                    </a:lnTo>
                    <a:lnTo>
                      <a:pt x="3387" y="4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103480" y="6517440"/>
                <a:ext cx="374040" cy="120960"/>
              </a:xfrm>
              <a:custGeom>
                <a:avLst/>
                <a:gdLst/>
                <a:ahLst/>
                <a:rect l="l" t="t" r="r" b="b"/>
                <a:pathLst>
                  <a:path w="3383" h="1009">
                    <a:moveTo>
                      <a:pt x="3383" y="496"/>
                    </a:moveTo>
                    <a:lnTo>
                      <a:pt x="3381" y="523"/>
                    </a:lnTo>
                    <a:lnTo>
                      <a:pt x="3375" y="548"/>
                    </a:lnTo>
                    <a:lnTo>
                      <a:pt x="3364" y="574"/>
                    </a:lnTo>
                    <a:lnTo>
                      <a:pt x="3349" y="600"/>
                    </a:lnTo>
                    <a:lnTo>
                      <a:pt x="3331" y="625"/>
                    </a:lnTo>
                    <a:lnTo>
                      <a:pt x="3307" y="649"/>
                    </a:lnTo>
                    <a:lnTo>
                      <a:pt x="3281" y="672"/>
                    </a:lnTo>
                    <a:lnTo>
                      <a:pt x="3251" y="696"/>
                    </a:lnTo>
                    <a:lnTo>
                      <a:pt x="3216" y="719"/>
                    </a:lnTo>
                    <a:lnTo>
                      <a:pt x="3179" y="741"/>
                    </a:lnTo>
                    <a:lnTo>
                      <a:pt x="3139" y="762"/>
                    </a:lnTo>
                    <a:lnTo>
                      <a:pt x="3094" y="783"/>
                    </a:lnTo>
                    <a:lnTo>
                      <a:pt x="3047" y="804"/>
                    </a:lnTo>
                    <a:lnTo>
                      <a:pt x="2997" y="823"/>
                    </a:lnTo>
                    <a:lnTo>
                      <a:pt x="2944" y="841"/>
                    </a:lnTo>
                    <a:lnTo>
                      <a:pt x="2888" y="859"/>
                    </a:lnTo>
                    <a:lnTo>
                      <a:pt x="2829" y="876"/>
                    </a:lnTo>
                    <a:lnTo>
                      <a:pt x="2768" y="892"/>
                    </a:lnTo>
                    <a:lnTo>
                      <a:pt x="2703" y="907"/>
                    </a:lnTo>
                    <a:lnTo>
                      <a:pt x="2638" y="922"/>
                    </a:lnTo>
                    <a:lnTo>
                      <a:pt x="2569" y="935"/>
                    </a:lnTo>
                    <a:lnTo>
                      <a:pt x="2498" y="948"/>
                    </a:lnTo>
                    <a:lnTo>
                      <a:pt x="2425" y="959"/>
                    </a:lnTo>
                    <a:lnTo>
                      <a:pt x="2350" y="969"/>
                    </a:lnTo>
                    <a:lnTo>
                      <a:pt x="2273" y="978"/>
                    </a:lnTo>
                    <a:lnTo>
                      <a:pt x="2194" y="986"/>
                    </a:lnTo>
                    <a:lnTo>
                      <a:pt x="2115" y="993"/>
                    </a:lnTo>
                    <a:lnTo>
                      <a:pt x="2033" y="999"/>
                    </a:lnTo>
                    <a:lnTo>
                      <a:pt x="1949" y="1003"/>
                    </a:lnTo>
                    <a:lnTo>
                      <a:pt x="1864" y="1006"/>
                    </a:lnTo>
                    <a:lnTo>
                      <a:pt x="1778" y="1008"/>
                    </a:lnTo>
                    <a:lnTo>
                      <a:pt x="1691" y="1009"/>
                    </a:lnTo>
                    <a:lnTo>
                      <a:pt x="1605" y="1008"/>
                    </a:lnTo>
                    <a:lnTo>
                      <a:pt x="1519" y="1006"/>
                    </a:lnTo>
                    <a:lnTo>
                      <a:pt x="1434" y="1003"/>
                    </a:lnTo>
                    <a:lnTo>
                      <a:pt x="1350" y="999"/>
                    </a:lnTo>
                    <a:lnTo>
                      <a:pt x="1268" y="993"/>
                    </a:lnTo>
                    <a:lnTo>
                      <a:pt x="1189" y="986"/>
                    </a:lnTo>
                    <a:lnTo>
                      <a:pt x="1110" y="978"/>
                    </a:lnTo>
                    <a:lnTo>
                      <a:pt x="1033" y="969"/>
                    </a:lnTo>
                    <a:lnTo>
                      <a:pt x="958" y="959"/>
                    </a:lnTo>
                    <a:lnTo>
                      <a:pt x="885" y="948"/>
                    </a:lnTo>
                    <a:lnTo>
                      <a:pt x="814" y="935"/>
                    </a:lnTo>
                    <a:lnTo>
                      <a:pt x="745" y="922"/>
                    </a:lnTo>
                    <a:lnTo>
                      <a:pt x="680" y="907"/>
                    </a:lnTo>
                    <a:lnTo>
                      <a:pt x="615" y="892"/>
                    </a:lnTo>
                    <a:lnTo>
                      <a:pt x="554" y="876"/>
                    </a:lnTo>
                    <a:lnTo>
                      <a:pt x="495" y="859"/>
                    </a:lnTo>
                    <a:lnTo>
                      <a:pt x="439" y="841"/>
                    </a:lnTo>
                    <a:lnTo>
                      <a:pt x="386" y="823"/>
                    </a:lnTo>
                    <a:lnTo>
                      <a:pt x="336" y="804"/>
                    </a:lnTo>
                    <a:lnTo>
                      <a:pt x="289" y="783"/>
                    </a:lnTo>
                    <a:lnTo>
                      <a:pt x="244" y="762"/>
                    </a:lnTo>
                    <a:lnTo>
                      <a:pt x="204" y="741"/>
                    </a:lnTo>
                    <a:lnTo>
                      <a:pt x="166" y="719"/>
                    </a:lnTo>
                    <a:lnTo>
                      <a:pt x="132" y="696"/>
                    </a:lnTo>
                    <a:lnTo>
                      <a:pt x="102" y="672"/>
                    </a:lnTo>
                    <a:lnTo>
                      <a:pt x="76" y="649"/>
                    </a:lnTo>
                    <a:lnTo>
                      <a:pt x="53" y="625"/>
                    </a:lnTo>
                    <a:lnTo>
                      <a:pt x="34" y="600"/>
                    </a:lnTo>
                    <a:lnTo>
                      <a:pt x="19" y="574"/>
                    </a:lnTo>
                    <a:lnTo>
                      <a:pt x="8" y="548"/>
                    </a:lnTo>
                    <a:lnTo>
                      <a:pt x="2" y="523"/>
                    </a:lnTo>
                    <a:lnTo>
                      <a:pt x="0" y="496"/>
                    </a:lnTo>
                    <a:lnTo>
                      <a:pt x="2" y="469"/>
                    </a:lnTo>
                    <a:lnTo>
                      <a:pt x="8" y="444"/>
                    </a:lnTo>
                    <a:lnTo>
                      <a:pt x="19" y="418"/>
                    </a:lnTo>
                    <a:lnTo>
                      <a:pt x="34" y="394"/>
                    </a:lnTo>
                    <a:lnTo>
                      <a:pt x="53" y="368"/>
                    </a:lnTo>
                    <a:lnTo>
                      <a:pt x="76" y="345"/>
                    </a:lnTo>
                    <a:lnTo>
                      <a:pt x="102" y="322"/>
                    </a:lnTo>
                    <a:lnTo>
                      <a:pt x="132" y="299"/>
                    </a:lnTo>
                    <a:lnTo>
                      <a:pt x="166" y="277"/>
                    </a:lnTo>
                    <a:lnTo>
                      <a:pt x="204" y="255"/>
                    </a:lnTo>
                    <a:lnTo>
                      <a:pt x="244" y="234"/>
                    </a:lnTo>
                    <a:lnTo>
                      <a:pt x="289" y="214"/>
                    </a:lnTo>
                    <a:lnTo>
                      <a:pt x="336" y="195"/>
                    </a:lnTo>
                    <a:lnTo>
                      <a:pt x="386" y="177"/>
                    </a:lnTo>
                    <a:lnTo>
                      <a:pt x="439" y="158"/>
                    </a:lnTo>
                    <a:lnTo>
                      <a:pt x="495" y="141"/>
                    </a:lnTo>
                    <a:lnTo>
                      <a:pt x="554" y="125"/>
                    </a:lnTo>
                    <a:lnTo>
                      <a:pt x="615" y="110"/>
                    </a:lnTo>
                    <a:lnTo>
                      <a:pt x="680" y="96"/>
                    </a:lnTo>
                    <a:lnTo>
                      <a:pt x="745" y="83"/>
                    </a:lnTo>
                    <a:lnTo>
                      <a:pt x="814" y="70"/>
                    </a:lnTo>
                    <a:lnTo>
                      <a:pt x="885" y="59"/>
                    </a:lnTo>
                    <a:lnTo>
                      <a:pt x="958" y="47"/>
                    </a:lnTo>
                    <a:lnTo>
                      <a:pt x="1033" y="37"/>
                    </a:lnTo>
                    <a:lnTo>
                      <a:pt x="1110" y="29"/>
                    </a:lnTo>
                    <a:lnTo>
                      <a:pt x="1189" y="21"/>
                    </a:lnTo>
                    <a:lnTo>
                      <a:pt x="1268" y="15"/>
                    </a:lnTo>
                    <a:lnTo>
                      <a:pt x="1350" y="10"/>
                    </a:lnTo>
                    <a:lnTo>
                      <a:pt x="1434" y="6"/>
                    </a:lnTo>
                    <a:lnTo>
                      <a:pt x="1519" y="3"/>
                    </a:lnTo>
                    <a:lnTo>
                      <a:pt x="1605" y="1"/>
                    </a:lnTo>
                    <a:lnTo>
                      <a:pt x="1691" y="0"/>
                    </a:lnTo>
                    <a:lnTo>
                      <a:pt x="1778" y="1"/>
                    </a:lnTo>
                    <a:lnTo>
                      <a:pt x="1864" y="3"/>
                    </a:lnTo>
                    <a:lnTo>
                      <a:pt x="1949" y="6"/>
                    </a:lnTo>
                    <a:lnTo>
                      <a:pt x="2033" y="10"/>
                    </a:lnTo>
                    <a:lnTo>
                      <a:pt x="2115" y="15"/>
                    </a:lnTo>
                    <a:lnTo>
                      <a:pt x="2194" y="21"/>
                    </a:lnTo>
                    <a:lnTo>
                      <a:pt x="2273" y="29"/>
                    </a:lnTo>
                    <a:lnTo>
                      <a:pt x="2350" y="37"/>
                    </a:lnTo>
                    <a:lnTo>
                      <a:pt x="2425" y="47"/>
                    </a:lnTo>
                    <a:lnTo>
                      <a:pt x="2498" y="59"/>
                    </a:lnTo>
                    <a:lnTo>
                      <a:pt x="2569" y="70"/>
                    </a:lnTo>
                    <a:lnTo>
                      <a:pt x="2638" y="83"/>
                    </a:lnTo>
                    <a:lnTo>
                      <a:pt x="2703" y="96"/>
                    </a:lnTo>
                    <a:lnTo>
                      <a:pt x="2768" y="110"/>
                    </a:lnTo>
                    <a:lnTo>
                      <a:pt x="2829" y="125"/>
                    </a:lnTo>
                    <a:lnTo>
                      <a:pt x="2888" y="141"/>
                    </a:lnTo>
                    <a:lnTo>
                      <a:pt x="2944" y="158"/>
                    </a:lnTo>
                    <a:lnTo>
                      <a:pt x="2997" y="177"/>
                    </a:lnTo>
                    <a:lnTo>
                      <a:pt x="3047" y="195"/>
                    </a:lnTo>
                    <a:lnTo>
                      <a:pt x="3094" y="214"/>
                    </a:lnTo>
                    <a:lnTo>
                      <a:pt x="3139" y="234"/>
                    </a:lnTo>
                    <a:lnTo>
                      <a:pt x="3179" y="255"/>
                    </a:lnTo>
                    <a:lnTo>
                      <a:pt x="3216" y="277"/>
                    </a:lnTo>
                    <a:lnTo>
                      <a:pt x="3251" y="299"/>
                    </a:lnTo>
                    <a:lnTo>
                      <a:pt x="3281" y="322"/>
                    </a:lnTo>
                    <a:lnTo>
                      <a:pt x="3307" y="345"/>
                    </a:lnTo>
                    <a:lnTo>
                      <a:pt x="3331" y="368"/>
                    </a:lnTo>
                    <a:lnTo>
                      <a:pt x="3349" y="394"/>
                    </a:lnTo>
                    <a:lnTo>
                      <a:pt x="3364" y="418"/>
                    </a:lnTo>
                    <a:lnTo>
                      <a:pt x="3375" y="444"/>
                    </a:lnTo>
                    <a:lnTo>
                      <a:pt x="3381" y="469"/>
                    </a:lnTo>
                    <a:lnTo>
                      <a:pt x="3383" y="4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103480" y="6517440"/>
                <a:ext cx="374040" cy="120960"/>
              </a:xfrm>
              <a:custGeom>
                <a:avLst/>
                <a:gdLst/>
                <a:ahLst/>
                <a:rect l="l" t="t" r="r" b="b"/>
                <a:pathLst>
                  <a:path w="3381" h="1007">
                    <a:moveTo>
                      <a:pt x="3381" y="495"/>
                    </a:moveTo>
                    <a:lnTo>
                      <a:pt x="3379" y="521"/>
                    </a:lnTo>
                    <a:lnTo>
                      <a:pt x="3372" y="547"/>
                    </a:lnTo>
                    <a:lnTo>
                      <a:pt x="3362" y="573"/>
                    </a:lnTo>
                    <a:lnTo>
                      <a:pt x="3347" y="599"/>
                    </a:lnTo>
                    <a:lnTo>
                      <a:pt x="3328" y="623"/>
                    </a:lnTo>
                    <a:lnTo>
                      <a:pt x="3305" y="647"/>
                    </a:lnTo>
                    <a:lnTo>
                      <a:pt x="3278" y="671"/>
                    </a:lnTo>
                    <a:lnTo>
                      <a:pt x="3248" y="695"/>
                    </a:lnTo>
                    <a:lnTo>
                      <a:pt x="3214" y="718"/>
                    </a:lnTo>
                    <a:lnTo>
                      <a:pt x="3177" y="739"/>
                    </a:lnTo>
                    <a:lnTo>
                      <a:pt x="3137" y="761"/>
                    </a:lnTo>
                    <a:lnTo>
                      <a:pt x="3092" y="781"/>
                    </a:lnTo>
                    <a:lnTo>
                      <a:pt x="3045" y="802"/>
                    </a:lnTo>
                    <a:lnTo>
                      <a:pt x="2995" y="821"/>
                    </a:lnTo>
                    <a:lnTo>
                      <a:pt x="2942" y="840"/>
                    </a:lnTo>
                    <a:lnTo>
                      <a:pt x="2886" y="857"/>
                    </a:lnTo>
                    <a:lnTo>
                      <a:pt x="2828" y="874"/>
                    </a:lnTo>
                    <a:lnTo>
                      <a:pt x="2766" y="890"/>
                    </a:lnTo>
                    <a:lnTo>
                      <a:pt x="2702" y="905"/>
                    </a:lnTo>
                    <a:lnTo>
                      <a:pt x="2636" y="920"/>
                    </a:lnTo>
                    <a:lnTo>
                      <a:pt x="2567" y="934"/>
                    </a:lnTo>
                    <a:lnTo>
                      <a:pt x="2496" y="946"/>
                    </a:lnTo>
                    <a:lnTo>
                      <a:pt x="2424" y="957"/>
                    </a:lnTo>
                    <a:lnTo>
                      <a:pt x="2349" y="967"/>
                    </a:lnTo>
                    <a:lnTo>
                      <a:pt x="2272" y="976"/>
                    </a:lnTo>
                    <a:lnTo>
                      <a:pt x="2193" y="984"/>
                    </a:lnTo>
                    <a:lnTo>
                      <a:pt x="2113" y="991"/>
                    </a:lnTo>
                    <a:lnTo>
                      <a:pt x="2031" y="997"/>
                    </a:lnTo>
                    <a:lnTo>
                      <a:pt x="1948" y="1001"/>
                    </a:lnTo>
                    <a:lnTo>
                      <a:pt x="1863" y="1004"/>
                    </a:lnTo>
                    <a:lnTo>
                      <a:pt x="1777" y="1006"/>
                    </a:lnTo>
                    <a:lnTo>
                      <a:pt x="1690" y="1007"/>
                    </a:lnTo>
                    <a:lnTo>
                      <a:pt x="1604" y="1006"/>
                    </a:lnTo>
                    <a:lnTo>
                      <a:pt x="1518" y="1004"/>
                    </a:lnTo>
                    <a:lnTo>
                      <a:pt x="1433" y="1001"/>
                    </a:lnTo>
                    <a:lnTo>
                      <a:pt x="1350" y="997"/>
                    </a:lnTo>
                    <a:lnTo>
                      <a:pt x="1268" y="991"/>
                    </a:lnTo>
                    <a:lnTo>
                      <a:pt x="1188" y="984"/>
                    </a:lnTo>
                    <a:lnTo>
                      <a:pt x="1110" y="976"/>
                    </a:lnTo>
                    <a:lnTo>
                      <a:pt x="1033" y="967"/>
                    </a:lnTo>
                    <a:lnTo>
                      <a:pt x="957" y="957"/>
                    </a:lnTo>
                    <a:lnTo>
                      <a:pt x="885" y="946"/>
                    </a:lnTo>
                    <a:lnTo>
                      <a:pt x="814" y="934"/>
                    </a:lnTo>
                    <a:lnTo>
                      <a:pt x="745" y="920"/>
                    </a:lnTo>
                    <a:lnTo>
                      <a:pt x="680" y="905"/>
                    </a:lnTo>
                    <a:lnTo>
                      <a:pt x="615" y="890"/>
                    </a:lnTo>
                    <a:lnTo>
                      <a:pt x="554" y="874"/>
                    </a:lnTo>
                    <a:lnTo>
                      <a:pt x="495" y="857"/>
                    </a:lnTo>
                    <a:lnTo>
                      <a:pt x="439" y="840"/>
                    </a:lnTo>
                    <a:lnTo>
                      <a:pt x="386" y="821"/>
                    </a:lnTo>
                    <a:lnTo>
                      <a:pt x="336" y="802"/>
                    </a:lnTo>
                    <a:lnTo>
                      <a:pt x="289" y="781"/>
                    </a:lnTo>
                    <a:lnTo>
                      <a:pt x="245" y="761"/>
                    </a:lnTo>
                    <a:lnTo>
                      <a:pt x="204" y="739"/>
                    </a:lnTo>
                    <a:lnTo>
                      <a:pt x="166" y="718"/>
                    </a:lnTo>
                    <a:lnTo>
                      <a:pt x="133" y="695"/>
                    </a:lnTo>
                    <a:lnTo>
                      <a:pt x="103" y="671"/>
                    </a:lnTo>
                    <a:lnTo>
                      <a:pt x="76" y="647"/>
                    </a:lnTo>
                    <a:lnTo>
                      <a:pt x="53" y="623"/>
                    </a:lnTo>
                    <a:lnTo>
                      <a:pt x="34" y="599"/>
                    </a:lnTo>
                    <a:lnTo>
                      <a:pt x="20" y="573"/>
                    </a:lnTo>
                    <a:lnTo>
                      <a:pt x="9" y="547"/>
                    </a:lnTo>
                    <a:lnTo>
                      <a:pt x="2" y="521"/>
                    </a:lnTo>
                    <a:lnTo>
                      <a:pt x="0" y="495"/>
                    </a:lnTo>
                    <a:lnTo>
                      <a:pt x="2" y="468"/>
                    </a:lnTo>
                    <a:lnTo>
                      <a:pt x="9" y="443"/>
                    </a:lnTo>
                    <a:lnTo>
                      <a:pt x="20" y="417"/>
                    </a:lnTo>
                    <a:lnTo>
                      <a:pt x="34" y="393"/>
                    </a:lnTo>
                    <a:lnTo>
                      <a:pt x="53" y="368"/>
                    </a:lnTo>
                    <a:lnTo>
                      <a:pt x="76" y="344"/>
                    </a:lnTo>
                    <a:lnTo>
                      <a:pt x="103" y="321"/>
                    </a:lnTo>
                    <a:lnTo>
                      <a:pt x="133" y="298"/>
                    </a:lnTo>
                    <a:lnTo>
                      <a:pt x="166" y="277"/>
                    </a:lnTo>
                    <a:lnTo>
                      <a:pt x="204" y="254"/>
                    </a:lnTo>
                    <a:lnTo>
                      <a:pt x="245" y="234"/>
                    </a:lnTo>
                    <a:lnTo>
                      <a:pt x="289" y="214"/>
                    </a:lnTo>
                    <a:lnTo>
                      <a:pt x="336" y="195"/>
                    </a:lnTo>
                    <a:lnTo>
                      <a:pt x="386" y="176"/>
                    </a:lnTo>
                    <a:lnTo>
                      <a:pt x="439" y="159"/>
                    </a:lnTo>
                    <a:lnTo>
                      <a:pt x="495" y="141"/>
                    </a:lnTo>
                    <a:lnTo>
                      <a:pt x="554" y="125"/>
                    </a:lnTo>
                    <a:lnTo>
                      <a:pt x="615" y="110"/>
                    </a:lnTo>
                    <a:lnTo>
                      <a:pt x="680" y="96"/>
                    </a:lnTo>
                    <a:lnTo>
                      <a:pt x="745" y="82"/>
                    </a:lnTo>
                    <a:lnTo>
                      <a:pt x="814" y="70"/>
                    </a:lnTo>
                    <a:lnTo>
                      <a:pt x="885" y="58"/>
                    </a:lnTo>
                    <a:lnTo>
                      <a:pt x="957" y="47"/>
                    </a:lnTo>
                    <a:lnTo>
                      <a:pt x="1033" y="37"/>
                    </a:lnTo>
                    <a:lnTo>
                      <a:pt x="1110" y="29"/>
                    </a:lnTo>
                    <a:lnTo>
                      <a:pt x="1188" y="21"/>
                    </a:lnTo>
                    <a:lnTo>
                      <a:pt x="1268" y="15"/>
                    </a:lnTo>
                    <a:lnTo>
                      <a:pt x="1350" y="10"/>
                    </a:lnTo>
                    <a:lnTo>
                      <a:pt x="1433" y="6"/>
                    </a:lnTo>
                    <a:lnTo>
                      <a:pt x="1518" y="3"/>
                    </a:lnTo>
                    <a:lnTo>
                      <a:pt x="1604" y="1"/>
                    </a:lnTo>
                    <a:lnTo>
                      <a:pt x="1690" y="0"/>
                    </a:lnTo>
                    <a:lnTo>
                      <a:pt x="1777" y="1"/>
                    </a:lnTo>
                    <a:lnTo>
                      <a:pt x="1863" y="3"/>
                    </a:lnTo>
                    <a:lnTo>
                      <a:pt x="1948" y="6"/>
                    </a:lnTo>
                    <a:lnTo>
                      <a:pt x="2031" y="10"/>
                    </a:lnTo>
                    <a:lnTo>
                      <a:pt x="2113" y="15"/>
                    </a:lnTo>
                    <a:lnTo>
                      <a:pt x="2193" y="21"/>
                    </a:lnTo>
                    <a:lnTo>
                      <a:pt x="2272" y="29"/>
                    </a:lnTo>
                    <a:lnTo>
                      <a:pt x="2349" y="37"/>
                    </a:lnTo>
                    <a:lnTo>
                      <a:pt x="2424" y="47"/>
                    </a:lnTo>
                    <a:lnTo>
                      <a:pt x="2496" y="58"/>
                    </a:lnTo>
                    <a:lnTo>
                      <a:pt x="2567" y="70"/>
                    </a:lnTo>
                    <a:lnTo>
                      <a:pt x="2636" y="82"/>
                    </a:lnTo>
                    <a:lnTo>
                      <a:pt x="2702" y="96"/>
                    </a:lnTo>
                    <a:lnTo>
                      <a:pt x="2766" y="110"/>
                    </a:lnTo>
                    <a:lnTo>
                      <a:pt x="2828" y="125"/>
                    </a:lnTo>
                    <a:lnTo>
                      <a:pt x="2886" y="141"/>
                    </a:lnTo>
                    <a:lnTo>
                      <a:pt x="2942" y="159"/>
                    </a:lnTo>
                    <a:lnTo>
                      <a:pt x="2995" y="176"/>
                    </a:lnTo>
                    <a:lnTo>
                      <a:pt x="3045" y="195"/>
                    </a:lnTo>
                    <a:lnTo>
                      <a:pt x="3092" y="214"/>
                    </a:lnTo>
                    <a:lnTo>
                      <a:pt x="3137" y="234"/>
                    </a:lnTo>
                    <a:lnTo>
                      <a:pt x="3177" y="254"/>
                    </a:lnTo>
                    <a:lnTo>
                      <a:pt x="3214" y="277"/>
                    </a:lnTo>
                    <a:lnTo>
                      <a:pt x="3248" y="298"/>
                    </a:lnTo>
                    <a:lnTo>
                      <a:pt x="3278" y="321"/>
                    </a:lnTo>
                    <a:lnTo>
                      <a:pt x="3305" y="344"/>
                    </a:lnTo>
                    <a:lnTo>
                      <a:pt x="3328" y="368"/>
                    </a:lnTo>
                    <a:lnTo>
                      <a:pt x="3347" y="393"/>
                    </a:lnTo>
                    <a:lnTo>
                      <a:pt x="3362" y="417"/>
                    </a:lnTo>
                    <a:lnTo>
                      <a:pt x="3372" y="443"/>
                    </a:lnTo>
                    <a:lnTo>
                      <a:pt x="3379" y="468"/>
                    </a:lnTo>
                    <a:lnTo>
                      <a:pt x="3381" y="4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103480" y="6517440"/>
                <a:ext cx="372600" cy="119520"/>
              </a:xfrm>
              <a:custGeom>
                <a:avLst/>
                <a:gdLst/>
                <a:ahLst/>
                <a:rect l="l" t="t" r="r" b="b"/>
                <a:pathLst>
                  <a:path w="3377" h="1005">
                    <a:moveTo>
                      <a:pt x="3377" y="494"/>
                    </a:moveTo>
                    <a:lnTo>
                      <a:pt x="3375" y="520"/>
                    </a:lnTo>
                    <a:lnTo>
                      <a:pt x="3369" y="546"/>
                    </a:lnTo>
                    <a:lnTo>
                      <a:pt x="3358" y="572"/>
                    </a:lnTo>
                    <a:lnTo>
                      <a:pt x="3344" y="598"/>
                    </a:lnTo>
                    <a:lnTo>
                      <a:pt x="3325" y="622"/>
                    </a:lnTo>
                    <a:lnTo>
                      <a:pt x="3301" y="646"/>
                    </a:lnTo>
                    <a:lnTo>
                      <a:pt x="3275" y="670"/>
                    </a:lnTo>
                    <a:lnTo>
                      <a:pt x="3245" y="694"/>
                    </a:lnTo>
                    <a:lnTo>
                      <a:pt x="3211" y="716"/>
                    </a:lnTo>
                    <a:lnTo>
                      <a:pt x="3174" y="738"/>
                    </a:lnTo>
                    <a:lnTo>
                      <a:pt x="3133" y="759"/>
                    </a:lnTo>
                    <a:lnTo>
                      <a:pt x="3089" y="780"/>
                    </a:lnTo>
                    <a:lnTo>
                      <a:pt x="3042" y="801"/>
                    </a:lnTo>
                    <a:lnTo>
                      <a:pt x="2992" y="820"/>
                    </a:lnTo>
                    <a:lnTo>
                      <a:pt x="2939" y="838"/>
                    </a:lnTo>
                    <a:lnTo>
                      <a:pt x="2883" y="856"/>
                    </a:lnTo>
                    <a:lnTo>
                      <a:pt x="2825" y="873"/>
                    </a:lnTo>
                    <a:lnTo>
                      <a:pt x="2763" y="889"/>
                    </a:lnTo>
                    <a:lnTo>
                      <a:pt x="2699" y="904"/>
                    </a:lnTo>
                    <a:lnTo>
                      <a:pt x="2633" y="919"/>
                    </a:lnTo>
                    <a:lnTo>
                      <a:pt x="2564" y="932"/>
                    </a:lnTo>
                    <a:lnTo>
                      <a:pt x="2493" y="944"/>
                    </a:lnTo>
                    <a:lnTo>
                      <a:pt x="2421" y="955"/>
                    </a:lnTo>
                    <a:lnTo>
                      <a:pt x="2346" y="965"/>
                    </a:lnTo>
                    <a:lnTo>
                      <a:pt x="2269" y="974"/>
                    </a:lnTo>
                    <a:lnTo>
                      <a:pt x="2190" y="982"/>
                    </a:lnTo>
                    <a:lnTo>
                      <a:pt x="2111" y="989"/>
                    </a:lnTo>
                    <a:lnTo>
                      <a:pt x="2029" y="995"/>
                    </a:lnTo>
                    <a:lnTo>
                      <a:pt x="1946" y="999"/>
                    </a:lnTo>
                    <a:lnTo>
                      <a:pt x="1861" y="1003"/>
                    </a:lnTo>
                    <a:lnTo>
                      <a:pt x="1775" y="1005"/>
                    </a:lnTo>
                    <a:lnTo>
                      <a:pt x="1688" y="1005"/>
                    </a:lnTo>
                    <a:lnTo>
                      <a:pt x="1602" y="1005"/>
                    </a:lnTo>
                    <a:lnTo>
                      <a:pt x="1516" y="1003"/>
                    </a:lnTo>
                    <a:lnTo>
                      <a:pt x="1431" y="999"/>
                    </a:lnTo>
                    <a:lnTo>
                      <a:pt x="1348" y="995"/>
                    </a:lnTo>
                    <a:lnTo>
                      <a:pt x="1266" y="989"/>
                    </a:lnTo>
                    <a:lnTo>
                      <a:pt x="1187" y="982"/>
                    </a:lnTo>
                    <a:lnTo>
                      <a:pt x="1108" y="974"/>
                    </a:lnTo>
                    <a:lnTo>
                      <a:pt x="1031" y="965"/>
                    </a:lnTo>
                    <a:lnTo>
                      <a:pt x="956" y="955"/>
                    </a:lnTo>
                    <a:lnTo>
                      <a:pt x="884" y="944"/>
                    </a:lnTo>
                    <a:lnTo>
                      <a:pt x="813" y="932"/>
                    </a:lnTo>
                    <a:lnTo>
                      <a:pt x="744" y="919"/>
                    </a:lnTo>
                    <a:lnTo>
                      <a:pt x="678" y="904"/>
                    </a:lnTo>
                    <a:lnTo>
                      <a:pt x="614" y="889"/>
                    </a:lnTo>
                    <a:lnTo>
                      <a:pt x="553" y="873"/>
                    </a:lnTo>
                    <a:lnTo>
                      <a:pt x="494" y="856"/>
                    </a:lnTo>
                    <a:lnTo>
                      <a:pt x="438" y="838"/>
                    </a:lnTo>
                    <a:lnTo>
                      <a:pt x="386" y="820"/>
                    </a:lnTo>
                    <a:lnTo>
                      <a:pt x="335" y="801"/>
                    </a:lnTo>
                    <a:lnTo>
                      <a:pt x="288" y="780"/>
                    </a:lnTo>
                    <a:lnTo>
                      <a:pt x="244" y="759"/>
                    </a:lnTo>
                    <a:lnTo>
                      <a:pt x="203" y="738"/>
                    </a:lnTo>
                    <a:lnTo>
                      <a:pt x="166" y="716"/>
                    </a:lnTo>
                    <a:lnTo>
                      <a:pt x="132" y="694"/>
                    </a:lnTo>
                    <a:lnTo>
                      <a:pt x="102" y="670"/>
                    </a:lnTo>
                    <a:lnTo>
                      <a:pt x="76" y="646"/>
                    </a:lnTo>
                    <a:lnTo>
                      <a:pt x="52" y="622"/>
                    </a:lnTo>
                    <a:lnTo>
                      <a:pt x="34" y="598"/>
                    </a:lnTo>
                    <a:lnTo>
                      <a:pt x="19" y="572"/>
                    </a:lnTo>
                    <a:lnTo>
                      <a:pt x="8" y="546"/>
                    </a:lnTo>
                    <a:lnTo>
                      <a:pt x="2" y="520"/>
                    </a:lnTo>
                    <a:lnTo>
                      <a:pt x="0" y="494"/>
                    </a:lnTo>
                    <a:lnTo>
                      <a:pt x="2" y="467"/>
                    </a:lnTo>
                    <a:lnTo>
                      <a:pt x="8" y="442"/>
                    </a:lnTo>
                    <a:lnTo>
                      <a:pt x="19" y="417"/>
                    </a:lnTo>
                    <a:lnTo>
                      <a:pt x="34" y="392"/>
                    </a:lnTo>
                    <a:lnTo>
                      <a:pt x="52" y="367"/>
                    </a:lnTo>
                    <a:lnTo>
                      <a:pt x="76" y="343"/>
                    </a:lnTo>
                    <a:lnTo>
                      <a:pt x="102" y="320"/>
                    </a:lnTo>
                    <a:lnTo>
                      <a:pt x="132" y="298"/>
                    </a:lnTo>
                    <a:lnTo>
                      <a:pt x="166" y="276"/>
                    </a:lnTo>
                    <a:lnTo>
                      <a:pt x="203" y="254"/>
                    </a:lnTo>
                    <a:lnTo>
                      <a:pt x="244" y="233"/>
                    </a:lnTo>
                    <a:lnTo>
                      <a:pt x="288" y="214"/>
                    </a:lnTo>
                    <a:lnTo>
                      <a:pt x="335" y="194"/>
                    </a:lnTo>
                    <a:lnTo>
                      <a:pt x="386" y="176"/>
                    </a:lnTo>
                    <a:lnTo>
                      <a:pt x="438" y="159"/>
                    </a:lnTo>
                    <a:lnTo>
                      <a:pt x="494" y="141"/>
                    </a:lnTo>
                    <a:lnTo>
                      <a:pt x="553" y="125"/>
                    </a:lnTo>
                    <a:lnTo>
                      <a:pt x="614" y="110"/>
                    </a:lnTo>
                    <a:lnTo>
                      <a:pt x="678" y="95"/>
                    </a:lnTo>
                    <a:lnTo>
                      <a:pt x="744" y="82"/>
                    </a:lnTo>
                    <a:lnTo>
                      <a:pt x="813" y="70"/>
                    </a:lnTo>
                    <a:lnTo>
                      <a:pt x="884" y="58"/>
                    </a:lnTo>
                    <a:lnTo>
                      <a:pt x="956" y="47"/>
                    </a:lnTo>
                    <a:lnTo>
                      <a:pt x="1031" y="37"/>
                    </a:lnTo>
                    <a:lnTo>
                      <a:pt x="1108" y="29"/>
                    </a:lnTo>
                    <a:lnTo>
                      <a:pt x="1187" y="21"/>
                    </a:lnTo>
                    <a:lnTo>
                      <a:pt x="1266" y="15"/>
                    </a:lnTo>
                    <a:lnTo>
                      <a:pt x="1348" y="10"/>
                    </a:lnTo>
                    <a:lnTo>
                      <a:pt x="1431" y="5"/>
                    </a:lnTo>
                    <a:lnTo>
                      <a:pt x="1516" y="2"/>
                    </a:lnTo>
                    <a:lnTo>
                      <a:pt x="1602" y="1"/>
                    </a:lnTo>
                    <a:lnTo>
                      <a:pt x="1688" y="0"/>
                    </a:lnTo>
                    <a:lnTo>
                      <a:pt x="1775" y="1"/>
                    </a:lnTo>
                    <a:lnTo>
                      <a:pt x="1861" y="2"/>
                    </a:lnTo>
                    <a:lnTo>
                      <a:pt x="1946" y="5"/>
                    </a:lnTo>
                    <a:lnTo>
                      <a:pt x="2029" y="10"/>
                    </a:lnTo>
                    <a:lnTo>
                      <a:pt x="2111" y="15"/>
                    </a:lnTo>
                    <a:lnTo>
                      <a:pt x="2190" y="21"/>
                    </a:lnTo>
                    <a:lnTo>
                      <a:pt x="2269" y="29"/>
                    </a:lnTo>
                    <a:lnTo>
                      <a:pt x="2346" y="37"/>
                    </a:lnTo>
                    <a:lnTo>
                      <a:pt x="2421" y="47"/>
                    </a:lnTo>
                    <a:lnTo>
                      <a:pt x="2493" y="58"/>
                    </a:lnTo>
                    <a:lnTo>
                      <a:pt x="2564" y="70"/>
                    </a:lnTo>
                    <a:lnTo>
                      <a:pt x="2633" y="82"/>
                    </a:lnTo>
                    <a:lnTo>
                      <a:pt x="2699" y="95"/>
                    </a:lnTo>
                    <a:lnTo>
                      <a:pt x="2763" y="110"/>
                    </a:lnTo>
                    <a:lnTo>
                      <a:pt x="2825" y="125"/>
                    </a:lnTo>
                    <a:lnTo>
                      <a:pt x="2883" y="141"/>
                    </a:lnTo>
                    <a:lnTo>
                      <a:pt x="2939" y="159"/>
                    </a:lnTo>
                    <a:lnTo>
                      <a:pt x="2992" y="176"/>
                    </a:lnTo>
                    <a:lnTo>
                      <a:pt x="3042" y="194"/>
                    </a:lnTo>
                    <a:lnTo>
                      <a:pt x="3089" y="214"/>
                    </a:lnTo>
                    <a:lnTo>
                      <a:pt x="3133" y="233"/>
                    </a:lnTo>
                    <a:lnTo>
                      <a:pt x="3174" y="254"/>
                    </a:lnTo>
                    <a:lnTo>
                      <a:pt x="3211" y="276"/>
                    </a:lnTo>
                    <a:lnTo>
                      <a:pt x="3245" y="298"/>
                    </a:lnTo>
                    <a:lnTo>
                      <a:pt x="3275" y="320"/>
                    </a:lnTo>
                    <a:lnTo>
                      <a:pt x="3301" y="343"/>
                    </a:lnTo>
                    <a:lnTo>
                      <a:pt x="3325" y="367"/>
                    </a:lnTo>
                    <a:lnTo>
                      <a:pt x="3344" y="392"/>
                    </a:lnTo>
                    <a:lnTo>
                      <a:pt x="3358" y="417"/>
                    </a:lnTo>
                    <a:lnTo>
                      <a:pt x="3369" y="442"/>
                    </a:lnTo>
                    <a:lnTo>
                      <a:pt x="3375" y="467"/>
                    </a:lnTo>
                    <a:lnTo>
                      <a:pt x="3377" y="4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104920" y="6517440"/>
                <a:ext cx="371520" cy="119520"/>
              </a:xfrm>
              <a:custGeom>
                <a:avLst/>
                <a:gdLst/>
                <a:ahLst/>
                <a:rect l="l" t="t" r="r" b="b"/>
                <a:pathLst>
                  <a:path w="3375" h="1003">
                    <a:moveTo>
                      <a:pt x="3375" y="493"/>
                    </a:moveTo>
                    <a:lnTo>
                      <a:pt x="3373" y="519"/>
                    </a:lnTo>
                    <a:lnTo>
                      <a:pt x="3366" y="545"/>
                    </a:lnTo>
                    <a:lnTo>
                      <a:pt x="3356" y="570"/>
                    </a:lnTo>
                    <a:lnTo>
                      <a:pt x="3341" y="596"/>
                    </a:lnTo>
                    <a:lnTo>
                      <a:pt x="3322" y="621"/>
                    </a:lnTo>
                    <a:lnTo>
                      <a:pt x="3299" y="645"/>
                    </a:lnTo>
                    <a:lnTo>
                      <a:pt x="3273" y="668"/>
                    </a:lnTo>
                    <a:lnTo>
                      <a:pt x="3243" y="692"/>
                    </a:lnTo>
                    <a:lnTo>
                      <a:pt x="3208" y="715"/>
                    </a:lnTo>
                    <a:lnTo>
                      <a:pt x="3171" y="737"/>
                    </a:lnTo>
                    <a:lnTo>
                      <a:pt x="3131" y="758"/>
                    </a:lnTo>
                    <a:lnTo>
                      <a:pt x="3087" y="778"/>
                    </a:lnTo>
                    <a:lnTo>
                      <a:pt x="3040" y="799"/>
                    </a:lnTo>
                    <a:lnTo>
                      <a:pt x="2989" y="818"/>
                    </a:lnTo>
                    <a:lnTo>
                      <a:pt x="2937" y="837"/>
                    </a:lnTo>
                    <a:lnTo>
                      <a:pt x="2881" y="854"/>
                    </a:lnTo>
                    <a:lnTo>
                      <a:pt x="2823" y="871"/>
                    </a:lnTo>
                    <a:lnTo>
                      <a:pt x="2761" y="887"/>
                    </a:lnTo>
                    <a:lnTo>
                      <a:pt x="2697" y="902"/>
                    </a:lnTo>
                    <a:lnTo>
                      <a:pt x="2631" y="917"/>
                    </a:lnTo>
                    <a:lnTo>
                      <a:pt x="2563" y="930"/>
                    </a:lnTo>
                    <a:lnTo>
                      <a:pt x="2492" y="942"/>
                    </a:lnTo>
                    <a:lnTo>
                      <a:pt x="2419" y="953"/>
                    </a:lnTo>
                    <a:lnTo>
                      <a:pt x="2344" y="964"/>
                    </a:lnTo>
                    <a:lnTo>
                      <a:pt x="2268" y="973"/>
                    </a:lnTo>
                    <a:lnTo>
                      <a:pt x="2189" y="981"/>
                    </a:lnTo>
                    <a:lnTo>
                      <a:pt x="2110" y="987"/>
                    </a:lnTo>
                    <a:lnTo>
                      <a:pt x="2028" y="993"/>
                    </a:lnTo>
                    <a:lnTo>
                      <a:pt x="1945" y="997"/>
                    </a:lnTo>
                    <a:lnTo>
                      <a:pt x="1860" y="1001"/>
                    </a:lnTo>
                    <a:lnTo>
                      <a:pt x="1774" y="1003"/>
                    </a:lnTo>
                    <a:lnTo>
                      <a:pt x="1687" y="1003"/>
                    </a:lnTo>
                    <a:lnTo>
                      <a:pt x="1601" y="1003"/>
                    </a:lnTo>
                    <a:lnTo>
                      <a:pt x="1515" y="1001"/>
                    </a:lnTo>
                    <a:lnTo>
                      <a:pt x="1431" y="997"/>
                    </a:lnTo>
                    <a:lnTo>
                      <a:pt x="1347" y="993"/>
                    </a:lnTo>
                    <a:lnTo>
                      <a:pt x="1265" y="987"/>
                    </a:lnTo>
                    <a:lnTo>
                      <a:pt x="1186" y="981"/>
                    </a:lnTo>
                    <a:lnTo>
                      <a:pt x="1107" y="973"/>
                    </a:lnTo>
                    <a:lnTo>
                      <a:pt x="1031" y="964"/>
                    </a:lnTo>
                    <a:lnTo>
                      <a:pt x="956" y="953"/>
                    </a:lnTo>
                    <a:lnTo>
                      <a:pt x="884" y="942"/>
                    </a:lnTo>
                    <a:lnTo>
                      <a:pt x="813" y="930"/>
                    </a:lnTo>
                    <a:lnTo>
                      <a:pt x="744" y="917"/>
                    </a:lnTo>
                    <a:lnTo>
                      <a:pt x="678" y="902"/>
                    </a:lnTo>
                    <a:lnTo>
                      <a:pt x="614" y="887"/>
                    </a:lnTo>
                    <a:lnTo>
                      <a:pt x="553" y="871"/>
                    </a:lnTo>
                    <a:lnTo>
                      <a:pt x="494" y="854"/>
                    </a:lnTo>
                    <a:lnTo>
                      <a:pt x="438" y="837"/>
                    </a:lnTo>
                    <a:lnTo>
                      <a:pt x="386" y="818"/>
                    </a:lnTo>
                    <a:lnTo>
                      <a:pt x="335" y="799"/>
                    </a:lnTo>
                    <a:lnTo>
                      <a:pt x="288" y="778"/>
                    </a:lnTo>
                    <a:lnTo>
                      <a:pt x="244" y="758"/>
                    </a:lnTo>
                    <a:lnTo>
                      <a:pt x="204" y="737"/>
                    </a:lnTo>
                    <a:lnTo>
                      <a:pt x="166" y="715"/>
                    </a:lnTo>
                    <a:lnTo>
                      <a:pt x="132" y="692"/>
                    </a:lnTo>
                    <a:lnTo>
                      <a:pt x="102" y="668"/>
                    </a:lnTo>
                    <a:lnTo>
                      <a:pt x="76" y="645"/>
                    </a:lnTo>
                    <a:lnTo>
                      <a:pt x="53" y="621"/>
                    </a:lnTo>
                    <a:lnTo>
                      <a:pt x="34" y="596"/>
                    </a:lnTo>
                    <a:lnTo>
                      <a:pt x="19" y="570"/>
                    </a:lnTo>
                    <a:lnTo>
                      <a:pt x="9" y="545"/>
                    </a:lnTo>
                    <a:lnTo>
                      <a:pt x="2" y="519"/>
                    </a:lnTo>
                    <a:lnTo>
                      <a:pt x="0" y="493"/>
                    </a:lnTo>
                    <a:lnTo>
                      <a:pt x="2" y="466"/>
                    </a:lnTo>
                    <a:lnTo>
                      <a:pt x="9" y="441"/>
                    </a:lnTo>
                    <a:lnTo>
                      <a:pt x="19" y="416"/>
                    </a:lnTo>
                    <a:lnTo>
                      <a:pt x="34" y="391"/>
                    </a:lnTo>
                    <a:lnTo>
                      <a:pt x="53" y="366"/>
                    </a:lnTo>
                    <a:lnTo>
                      <a:pt x="76" y="343"/>
                    </a:lnTo>
                    <a:lnTo>
                      <a:pt x="102" y="320"/>
                    </a:lnTo>
                    <a:lnTo>
                      <a:pt x="132" y="297"/>
                    </a:lnTo>
                    <a:lnTo>
                      <a:pt x="166" y="275"/>
                    </a:lnTo>
                    <a:lnTo>
                      <a:pt x="204" y="253"/>
                    </a:lnTo>
                    <a:lnTo>
                      <a:pt x="244" y="233"/>
                    </a:lnTo>
                    <a:lnTo>
                      <a:pt x="288" y="213"/>
                    </a:lnTo>
                    <a:lnTo>
                      <a:pt x="335" y="194"/>
                    </a:lnTo>
                    <a:lnTo>
                      <a:pt x="386" y="176"/>
                    </a:lnTo>
                    <a:lnTo>
                      <a:pt x="438" y="158"/>
                    </a:lnTo>
                    <a:lnTo>
                      <a:pt x="494" y="140"/>
                    </a:lnTo>
                    <a:lnTo>
                      <a:pt x="553" y="124"/>
                    </a:lnTo>
                    <a:lnTo>
                      <a:pt x="614" y="109"/>
                    </a:lnTo>
                    <a:lnTo>
                      <a:pt x="678" y="95"/>
                    </a:lnTo>
                    <a:lnTo>
                      <a:pt x="744" y="82"/>
                    </a:lnTo>
                    <a:lnTo>
                      <a:pt x="813" y="69"/>
                    </a:lnTo>
                    <a:lnTo>
                      <a:pt x="884" y="58"/>
                    </a:lnTo>
                    <a:lnTo>
                      <a:pt x="956" y="46"/>
                    </a:lnTo>
                    <a:lnTo>
                      <a:pt x="1031" y="37"/>
                    </a:lnTo>
                    <a:lnTo>
                      <a:pt x="1107" y="29"/>
                    </a:lnTo>
                    <a:lnTo>
                      <a:pt x="1186" y="21"/>
                    </a:lnTo>
                    <a:lnTo>
                      <a:pt x="1265" y="15"/>
                    </a:lnTo>
                    <a:lnTo>
                      <a:pt x="1347" y="9"/>
                    </a:lnTo>
                    <a:lnTo>
                      <a:pt x="1431" y="5"/>
                    </a:lnTo>
                    <a:lnTo>
                      <a:pt x="1515" y="2"/>
                    </a:lnTo>
                    <a:lnTo>
                      <a:pt x="1601" y="1"/>
                    </a:lnTo>
                    <a:lnTo>
                      <a:pt x="1687" y="0"/>
                    </a:lnTo>
                    <a:lnTo>
                      <a:pt x="1774" y="1"/>
                    </a:lnTo>
                    <a:lnTo>
                      <a:pt x="1860" y="2"/>
                    </a:lnTo>
                    <a:lnTo>
                      <a:pt x="1945" y="5"/>
                    </a:lnTo>
                    <a:lnTo>
                      <a:pt x="2028" y="9"/>
                    </a:lnTo>
                    <a:lnTo>
                      <a:pt x="2110" y="15"/>
                    </a:lnTo>
                    <a:lnTo>
                      <a:pt x="2189" y="21"/>
                    </a:lnTo>
                    <a:lnTo>
                      <a:pt x="2268" y="29"/>
                    </a:lnTo>
                    <a:lnTo>
                      <a:pt x="2344" y="37"/>
                    </a:lnTo>
                    <a:lnTo>
                      <a:pt x="2419" y="46"/>
                    </a:lnTo>
                    <a:lnTo>
                      <a:pt x="2492" y="58"/>
                    </a:lnTo>
                    <a:lnTo>
                      <a:pt x="2563" y="69"/>
                    </a:lnTo>
                    <a:lnTo>
                      <a:pt x="2631" y="82"/>
                    </a:lnTo>
                    <a:lnTo>
                      <a:pt x="2697" y="95"/>
                    </a:lnTo>
                    <a:lnTo>
                      <a:pt x="2761" y="109"/>
                    </a:lnTo>
                    <a:lnTo>
                      <a:pt x="2823" y="124"/>
                    </a:lnTo>
                    <a:lnTo>
                      <a:pt x="2881" y="140"/>
                    </a:lnTo>
                    <a:lnTo>
                      <a:pt x="2937" y="158"/>
                    </a:lnTo>
                    <a:lnTo>
                      <a:pt x="2989" y="176"/>
                    </a:lnTo>
                    <a:lnTo>
                      <a:pt x="3040" y="194"/>
                    </a:lnTo>
                    <a:lnTo>
                      <a:pt x="3087" y="213"/>
                    </a:lnTo>
                    <a:lnTo>
                      <a:pt x="3131" y="233"/>
                    </a:lnTo>
                    <a:lnTo>
                      <a:pt x="3171" y="253"/>
                    </a:lnTo>
                    <a:lnTo>
                      <a:pt x="3208" y="275"/>
                    </a:lnTo>
                    <a:lnTo>
                      <a:pt x="3243" y="297"/>
                    </a:lnTo>
                    <a:lnTo>
                      <a:pt x="3273" y="320"/>
                    </a:lnTo>
                    <a:lnTo>
                      <a:pt x="3299" y="343"/>
                    </a:lnTo>
                    <a:lnTo>
                      <a:pt x="3322" y="366"/>
                    </a:lnTo>
                    <a:lnTo>
                      <a:pt x="3341" y="391"/>
                    </a:lnTo>
                    <a:lnTo>
                      <a:pt x="3356" y="416"/>
                    </a:lnTo>
                    <a:lnTo>
                      <a:pt x="3366" y="441"/>
                    </a:lnTo>
                    <a:lnTo>
                      <a:pt x="3373" y="466"/>
                    </a:lnTo>
                    <a:lnTo>
                      <a:pt x="3375" y="4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104920" y="6517440"/>
                <a:ext cx="371520" cy="119520"/>
              </a:xfrm>
              <a:custGeom>
                <a:avLst/>
                <a:gdLst/>
                <a:ahLst/>
                <a:rect l="l" t="t" r="r" b="b"/>
                <a:pathLst>
                  <a:path w="3373" h="1001">
                    <a:moveTo>
                      <a:pt x="3373" y="492"/>
                    </a:moveTo>
                    <a:lnTo>
                      <a:pt x="3370" y="518"/>
                    </a:lnTo>
                    <a:lnTo>
                      <a:pt x="3364" y="544"/>
                    </a:lnTo>
                    <a:lnTo>
                      <a:pt x="3353" y="569"/>
                    </a:lnTo>
                    <a:lnTo>
                      <a:pt x="3339" y="595"/>
                    </a:lnTo>
                    <a:lnTo>
                      <a:pt x="3320" y="620"/>
                    </a:lnTo>
                    <a:lnTo>
                      <a:pt x="3297" y="644"/>
                    </a:lnTo>
                    <a:lnTo>
                      <a:pt x="3270" y="667"/>
                    </a:lnTo>
                    <a:lnTo>
                      <a:pt x="3240" y="691"/>
                    </a:lnTo>
                    <a:lnTo>
                      <a:pt x="3206" y="713"/>
                    </a:lnTo>
                    <a:lnTo>
                      <a:pt x="3169" y="735"/>
                    </a:lnTo>
                    <a:lnTo>
                      <a:pt x="3129" y="756"/>
                    </a:lnTo>
                    <a:lnTo>
                      <a:pt x="3084" y="777"/>
                    </a:lnTo>
                    <a:lnTo>
                      <a:pt x="3038" y="798"/>
                    </a:lnTo>
                    <a:lnTo>
                      <a:pt x="2987" y="817"/>
                    </a:lnTo>
                    <a:lnTo>
                      <a:pt x="2935" y="835"/>
                    </a:lnTo>
                    <a:lnTo>
                      <a:pt x="2879" y="852"/>
                    </a:lnTo>
                    <a:lnTo>
                      <a:pt x="2821" y="869"/>
                    </a:lnTo>
                    <a:lnTo>
                      <a:pt x="2759" y="885"/>
                    </a:lnTo>
                    <a:lnTo>
                      <a:pt x="2695" y="900"/>
                    </a:lnTo>
                    <a:lnTo>
                      <a:pt x="2630" y="915"/>
                    </a:lnTo>
                    <a:lnTo>
                      <a:pt x="2561" y="928"/>
                    </a:lnTo>
                    <a:lnTo>
                      <a:pt x="2490" y="940"/>
                    </a:lnTo>
                    <a:lnTo>
                      <a:pt x="2418" y="952"/>
                    </a:lnTo>
                    <a:lnTo>
                      <a:pt x="2343" y="962"/>
                    </a:lnTo>
                    <a:lnTo>
                      <a:pt x="2266" y="971"/>
                    </a:lnTo>
                    <a:lnTo>
                      <a:pt x="2188" y="979"/>
                    </a:lnTo>
                    <a:lnTo>
                      <a:pt x="2108" y="986"/>
                    </a:lnTo>
                    <a:lnTo>
                      <a:pt x="2027" y="991"/>
                    </a:lnTo>
                    <a:lnTo>
                      <a:pt x="1943" y="996"/>
                    </a:lnTo>
                    <a:lnTo>
                      <a:pt x="1859" y="999"/>
                    </a:lnTo>
                    <a:lnTo>
                      <a:pt x="1773" y="1001"/>
                    </a:lnTo>
                    <a:lnTo>
                      <a:pt x="1686" y="1001"/>
                    </a:lnTo>
                    <a:lnTo>
                      <a:pt x="1600" y="1001"/>
                    </a:lnTo>
                    <a:lnTo>
                      <a:pt x="1514" y="999"/>
                    </a:lnTo>
                    <a:lnTo>
                      <a:pt x="1430" y="996"/>
                    </a:lnTo>
                    <a:lnTo>
                      <a:pt x="1347" y="991"/>
                    </a:lnTo>
                    <a:lnTo>
                      <a:pt x="1265" y="986"/>
                    </a:lnTo>
                    <a:lnTo>
                      <a:pt x="1186" y="979"/>
                    </a:lnTo>
                    <a:lnTo>
                      <a:pt x="1107" y="971"/>
                    </a:lnTo>
                    <a:lnTo>
                      <a:pt x="1030" y="962"/>
                    </a:lnTo>
                    <a:lnTo>
                      <a:pt x="955" y="952"/>
                    </a:lnTo>
                    <a:lnTo>
                      <a:pt x="883" y="940"/>
                    </a:lnTo>
                    <a:lnTo>
                      <a:pt x="812" y="928"/>
                    </a:lnTo>
                    <a:lnTo>
                      <a:pt x="744" y="915"/>
                    </a:lnTo>
                    <a:lnTo>
                      <a:pt x="678" y="900"/>
                    </a:lnTo>
                    <a:lnTo>
                      <a:pt x="614" y="885"/>
                    </a:lnTo>
                    <a:lnTo>
                      <a:pt x="552" y="869"/>
                    </a:lnTo>
                    <a:lnTo>
                      <a:pt x="494" y="852"/>
                    </a:lnTo>
                    <a:lnTo>
                      <a:pt x="438" y="835"/>
                    </a:lnTo>
                    <a:lnTo>
                      <a:pt x="386" y="817"/>
                    </a:lnTo>
                    <a:lnTo>
                      <a:pt x="335" y="798"/>
                    </a:lnTo>
                    <a:lnTo>
                      <a:pt x="289" y="777"/>
                    </a:lnTo>
                    <a:lnTo>
                      <a:pt x="244" y="756"/>
                    </a:lnTo>
                    <a:lnTo>
                      <a:pt x="204" y="735"/>
                    </a:lnTo>
                    <a:lnTo>
                      <a:pt x="167" y="713"/>
                    </a:lnTo>
                    <a:lnTo>
                      <a:pt x="133" y="691"/>
                    </a:lnTo>
                    <a:lnTo>
                      <a:pt x="103" y="667"/>
                    </a:lnTo>
                    <a:lnTo>
                      <a:pt x="77" y="644"/>
                    </a:lnTo>
                    <a:lnTo>
                      <a:pt x="53" y="620"/>
                    </a:lnTo>
                    <a:lnTo>
                      <a:pt x="34" y="595"/>
                    </a:lnTo>
                    <a:lnTo>
                      <a:pt x="20" y="569"/>
                    </a:lnTo>
                    <a:lnTo>
                      <a:pt x="9" y="544"/>
                    </a:lnTo>
                    <a:lnTo>
                      <a:pt x="3" y="518"/>
                    </a:lnTo>
                    <a:lnTo>
                      <a:pt x="0" y="492"/>
                    </a:lnTo>
                    <a:lnTo>
                      <a:pt x="3" y="465"/>
                    </a:lnTo>
                    <a:lnTo>
                      <a:pt x="9" y="440"/>
                    </a:lnTo>
                    <a:lnTo>
                      <a:pt x="20" y="415"/>
                    </a:lnTo>
                    <a:lnTo>
                      <a:pt x="34" y="390"/>
                    </a:lnTo>
                    <a:lnTo>
                      <a:pt x="53" y="365"/>
                    </a:lnTo>
                    <a:lnTo>
                      <a:pt x="77" y="342"/>
                    </a:lnTo>
                    <a:lnTo>
                      <a:pt x="103" y="319"/>
                    </a:lnTo>
                    <a:lnTo>
                      <a:pt x="133" y="297"/>
                    </a:lnTo>
                    <a:lnTo>
                      <a:pt x="167" y="275"/>
                    </a:lnTo>
                    <a:lnTo>
                      <a:pt x="204" y="253"/>
                    </a:lnTo>
                    <a:lnTo>
                      <a:pt x="244" y="232"/>
                    </a:lnTo>
                    <a:lnTo>
                      <a:pt x="289" y="213"/>
                    </a:lnTo>
                    <a:lnTo>
                      <a:pt x="335" y="194"/>
                    </a:lnTo>
                    <a:lnTo>
                      <a:pt x="386" y="175"/>
                    </a:lnTo>
                    <a:lnTo>
                      <a:pt x="438" y="158"/>
                    </a:lnTo>
                    <a:lnTo>
                      <a:pt x="494" y="140"/>
                    </a:lnTo>
                    <a:lnTo>
                      <a:pt x="552" y="124"/>
                    </a:lnTo>
                    <a:lnTo>
                      <a:pt x="614" y="109"/>
                    </a:lnTo>
                    <a:lnTo>
                      <a:pt x="678" y="95"/>
                    </a:lnTo>
                    <a:lnTo>
                      <a:pt x="744" y="82"/>
                    </a:lnTo>
                    <a:lnTo>
                      <a:pt x="812" y="69"/>
                    </a:lnTo>
                    <a:lnTo>
                      <a:pt x="883" y="58"/>
                    </a:lnTo>
                    <a:lnTo>
                      <a:pt x="955" y="46"/>
                    </a:lnTo>
                    <a:lnTo>
                      <a:pt x="1030" y="37"/>
                    </a:lnTo>
                    <a:lnTo>
                      <a:pt x="1107" y="28"/>
                    </a:lnTo>
                    <a:lnTo>
                      <a:pt x="1186" y="21"/>
                    </a:lnTo>
                    <a:lnTo>
                      <a:pt x="1265" y="15"/>
                    </a:lnTo>
                    <a:lnTo>
                      <a:pt x="1347" y="9"/>
                    </a:lnTo>
                    <a:lnTo>
                      <a:pt x="1430" y="5"/>
                    </a:lnTo>
                    <a:lnTo>
                      <a:pt x="1514" y="2"/>
                    </a:lnTo>
                    <a:lnTo>
                      <a:pt x="1600" y="0"/>
                    </a:lnTo>
                    <a:lnTo>
                      <a:pt x="1686" y="0"/>
                    </a:lnTo>
                    <a:lnTo>
                      <a:pt x="1773" y="0"/>
                    </a:lnTo>
                    <a:lnTo>
                      <a:pt x="1859" y="2"/>
                    </a:lnTo>
                    <a:lnTo>
                      <a:pt x="1943" y="5"/>
                    </a:lnTo>
                    <a:lnTo>
                      <a:pt x="2027" y="9"/>
                    </a:lnTo>
                    <a:lnTo>
                      <a:pt x="2108" y="15"/>
                    </a:lnTo>
                    <a:lnTo>
                      <a:pt x="2188" y="21"/>
                    </a:lnTo>
                    <a:lnTo>
                      <a:pt x="2266" y="28"/>
                    </a:lnTo>
                    <a:lnTo>
                      <a:pt x="2343" y="37"/>
                    </a:lnTo>
                    <a:lnTo>
                      <a:pt x="2418" y="46"/>
                    </a:lnTo>
                    <a:lnTo>
                      <a:pt x="2490" y="58"/>
                    </a:lnTo>
                    <a:lnTo>
                      <a:pt x="2561" y="69"/>
                    </a:lnTo>
                    <a:lnTo>
                      <a:pt x="2630" y="82"/>
                    </a:lnTo>
                    <a:lnTo>
                      <a:pt x="2695" y="95"/>
                    </a:lnTo>
                    <a:lnTo>
                      <a:pt x="2759" y="109"/>
                    </a:lnTo>
                    <a:lnTo>
                      <a:pt x="2821" y="124"/>
                    </a:lnTo>
                    <a:lnTo>
                      <a:pt x="2879" y="140"/>
                    </a:lnTo>
                    <a:lnTo>
                      <a:pt x="2935" y="158"/>
                    </a:lnTo>
                    <a:lnTo>
                      <a:pt x="2987" y="175"/>
                    </a:lnTo>
                    <a:lnTo>
                      <a:pt x="3038" y="194"/>
                    </a:lnTo>
                    <a:lnTo>
                      <a:pt x="3084" y="213"/>
                    </a:lnTo>
                    <a:lnTo>
                      <a:pt x="3129" y="232"/>
                    </a:lnTo>
                    <a:lnTo>
                      <a:pt x="3169" y="253"/>
                    </a:lnTo>
                    <a:lnTo>
                      <a:pt x="3206" y="275"/>
                    </a:lnTo>
                    <a:lnTo>
                      <a:pt x="3240" y="297"/>
                    </a:lnTo>
                    <a:lnTo>
                      <a:pt x="3270" y="319"/>
                    </a:lnTo>
                    <a:lnTo>
                      <a:pt x="3297" y="342"/>
                    </a:lnTo>
                    <a:lnTo>
                      <a:pt x="3320" y="365"/>
                    </a:lnTo>
                    <a:lnTo>
                      <a:pt x="3339" y="390"/>
                    </a:lnTo>
                    <a:lnTo>
                      <a:pt x="3353" y="415"/>
                    </a:lnTo>
                    <a:lnTo>
                      <a:pt x="3364" y="440"/>
                    </a:lnTo>
                    <a:lnTo>
                      <a:pt x="3370" y="465"/>
                    </a:lnTo>
                    <a:lnTo>
                      <a:pt x="3373" y="4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104920" y="6517440"/>
                <a:ext cx="371520" cy="119520"/>
              </a:xfrm>
              <a:custGeom>
                <a:avLst/>
                <a:gdLst/>
                <a:ahLst/>
                <a:rect l="l" t="t" r="r" b="b"/>
                <a:pathLst>
                  <a:path w="3369" h="999">
                    <a:moveTo>
                      <a:pt x="3369" y="491"/>
                    </a:moveTo>
                    <a:lnTo>
                      <a:pt x="3367" y="517"/>
                    </a:lnTo>
                    <a:lnTo>
                      <a:pt x="3361" y="543"/>
                    </a:lnTo>
                    <a:lnTo>
                      <a:pt x="3350" y="568"/>
                    </a:lnTo>
                    <a:lnTo>
                      <a:pt x="3335" y="594"/>
                    </a:lnTo>
                    <a:lnTo>
                      <a:pt x="3317" y="618"/>
                    </a:lnTo>
                    <a:lnTo>
                      <a:pt x="3293" y="642"/>
                    </a:lnTo>
                    <a:lnTo>
                      <a:pt x="3267" y="666"/>
                    </a:lnTo>
                    <a:lnTo>
                      <a:pt x="3237" y="690"/>
                    </a:lnTo>
                    <a:lnTo>
                      <a:pt x="3203" y="712"/>
                    </a:lnTo>
                    <a:lnTo>
                      <a:pt x="3166" y="734"/>
                    </a:lnTo>
                    <a:lnTo>
                      <a:pt x="3126" y="755"/>
                    </a:lnTo>
                    <a:lnTo>
                      <a:pt x="3081" y="775"/>
                    </a:lnTo>
                    <a:lnTo>
                      <a:pt x="3035" y="795"/>
                    </a:lnTo>
                    <a:lnTo>
                      <a:pt x="2984" y="815"/>
                    </a:lnTo>
                    <a:lnTo>
                      <a:pt x="2932" y="833"/>
                    </a:lnTo>
                    <a:lnTo>
                      <a:pt x="2876" y="851"/>
                    </a:lnTo>
                    <a:lnTo>
                      <a:pt x="2818" y="868"/>
                    </a:lnTo>
                    <a:lnTo>
                      <a:pt x="2756" y="883"/>
                    </a:lnTo>
                    <a:lnTo>
                      <a:pt x="2692" y="898"/>
                    </a:lnTo>
                    <a:lnTo>
                      <a:pt x="2627" y="913"/>
                    </a:lnTo>
                    <a:lnTo>
                      <a:pt x="2558" y="926"/>
                    </a:lnTo>
                    <a:lnTo>
                      <a:pt x="2487" y="939"/>
                    </a:lnTo>
                    <a:lnTo>
                      <a:pt x="2415" y="950"/>
                    </a:lnTo>
                    <a:lnTo>
                      <a:pt x="2340" y="960"/>
                    </a:lnTo>
                    <a:lnTo>
                      <a:pt x="2264" y="969"/>
                    </a:lnTo>
                    <a:lnTo>
                      <a:pt x="2185" y="977"/>
                    </a:lnTo>
                    <a:lnTo>
                      <a:pt x="2106" y="984"/>
                    </a:lnTo>
                    <a:lnTo>
                      <a:pt x="2024" y="989"/>
                    </a:lnTo>
                    <a:lnTo>
                      <a:pt x="1941" y="994"/>
                    </a:lnTo>
                    <a:lnTo>
                      <a:pt x="1857" y="997"/>
                    </a:lnTo>
                    <a:lnTo>
                      <a:pt x="1771" y="999"/>
                    </a:lnTo>
                    <a:lnTo>
                      <a:pt x="1684" y="999"/>
                    </a:lnTo>
                    <a:lnTo>
                      <a:pt x="1598" y="999"/>
                    </a:lnTo>
                    <a:lnTo>
                      <a:pt x="1513" y="997"/>
                    </a:lnTo>
                    <a:lnTo>
                      <a:pt x="1428" y="994"/>
                    </a:lnTo>
                    <a:lnTo>
                      <a:pt x="1345" y="989"/>
                    </a:lnTo>
                    <a:lnTo>
                      <a:pt x="1263" y="984"/>
                    </a:lnTo>
                    <a:lnTo>
                      <a:pt x="1184" y="977"/>
                    </a:lnTo>
                    <a:lnTo>
                      <a:pt x="1105" y="969"/>
                    </a:lnTo>
                    <a:lnTo>
                      <a:pt x="1029" y="960"/>
                    </a:lnTo>
                    <a:lnTo>
                      <a:pt x="954" y="950"/>
                    </a:lnTo>
                    <a:lnTo>
                      <a:pt x="882" y="939"/>
                    </a:lnTo>
                    <a:lnTo>
                      <a:pt x="811" y="926"/>
                    </a:lnTo>
                    <a:lnTo>
                      <a:pt x="742" y="913"/>
                    </a:lnTo>
                    <a:lnTo>
                      <a:pt x="677" y="898"/>
                    </a:lnTo>
                    <a:lnTo>
                      <a:pt x="613" y="883"/>
                    </a:lnTo>
                    <a:lnTo>
                      <a:pt x="551" y="868"/>
                    </a:lnTo>
                    <a:lnTo>
                      <a:pt x="494" y="851"/>
                    </a:lnTo>
                    <a:lnTo>
                      <a:pt x="437" y="833"/>
                    </a:lnTo>
                    <a:lnTo>
                      <a:pt x="385" y="815"/>
                    </a:lnTo>
                    <a:lnTo>
                      <a:pt x="334" y="795"/>
                    </a:lnTo>
                    <a:lnTo>
                      <a:pt x="288" y="775"/>
                    </a:lnTo>
                    <a:lnTo>
                      <a:pt x="243" y="755"/>
                    </a:lnTo>
                    <a:lnTo>
                      <a:pt x="203" y="734"/>
                    </a:lnTo>
                    <a:lnTo>
                      <a:pt x="166" y="712"/>
                    </a:lnTo>
                    <a:lnTo>
                      <a:pt x="132" y="690"/>
                    </a:lnTo>
                    <a:lnTo>
                      <a:pt x="102" y="666"/>
                    </a:lnTo>
                    <a:lnTo>
                      <a:pt x="76" y="642"/>
                    </a:lnTo>
                    <a:lnTo>
                      <a:pt x="52" y="618"/>
                    </a:lnTo>
                    <a:lnTo>
                      <a:pt x="34" y="594"/>
                    </a:lnTo>
                    <a:lnTo>
                      <a:pt x="19" y="568"/>
                    </a:lnTo>
                    <a:lnTo>
                      <a:pt x="9" y="543"/>
                    </a:lnTo>
                    <a:lnTo>
                      <a:pt x="2" y="517"/>
                    </a:lnTo>
                    <a:lnTo>
                      <a:pt x="0" y="491"/>
                    </a:lnTo>
                    <a:lnTo>
                      <a:pt x="2" y="464"/>
                    </a:lnTo>
                    <a:lnTo>
                      <a:pt x="9" y="439"/>
                    </a:lnTo>
                    <a:lnTo>
                      <a:pt x="19" y="414"/>
                    </a:lnTo>
                    <a:lnTo>
                      <a:pt x="34" y="390"/>
                    </a:lnTo>
                    <a:lnTo>
                      <a:pt x="52" y="365"/>
                    </a:lnTo>
                    <a:lnTo>
                      <a:pt x="76" y="341"/>
                    </a:lnTo>
                    <a:lnTo>
                      <a:pt x="102" y="318"/>
                    </a:lnTo>
                    <a:lnTo>
                      <a:pt x="132" y="296"/>
                    </a:lnTo>
                    <a:lnTo>
                      <a:pt x="166" y="274"/>
                    </a:lnTo>
                    <a:lnTo>
                      <a:pt x="203" y="252"/>
                    </a:lnTo>
                    <a:lnTo>
                      <a:pt x="243" y="232"/>
                    </a:lnTo>
                    <a:lnTo>
                      <a:pt x="288" y="212"/>
                    </a:lnTo>
                    <a:lnTo>
                      <a:pt x="334" y="193"/>
                    </a:lnTo>
                    <a:lnTo>
                      <a:pt x="385" y="175"/>
                    </a:lnTo>
                    <a:lnTo>
                      <a:pt x="437" y="157"/>
                    </a:lnTo>
                    <a:lnTo>
                      <a:pt x="494" y="140"/>
                    </a:lnTo>
                    <a:lnTo>
                      <a:pt x="551" y="124"/>
                    </a:lnTo>
                    <a:lnTo>
                      <a:pt x="613" y="109"/>
                    </a:lnTo>
                    <a:lnTo>
                      <a:pt x="677" y="95"/>
                    </a:lnTo>
                    <a:lnTo>
                      <a:pt x="742" y="81"/>
                    </a:lnTo>
                    <a:lnTo>
                      <a:pt x="811" y="69"/>
                    </a:lnTo>
                    <a:lnTo>
                      <a:pt x="882" y="58"/>
                    </a:lnTo>
                    <a:lnTo>
                      <a:pt x="954" y="46"/>
                    </a:lnTo>
                    <a:lnTo>
                      <a:pt x="1029" y="37"/>
                    </a:lnTo>
                    <a:lnTo>
                      <a:pt x="1105" y="28"/>
                    </a:lnTo>
                    <a:lnTo>
                      <a:pt x="1184" y="21"/>
                    </a:lnTo>
                    <a:lnTo>
                      <a:pt x="1263" y="15"/>
                    </a:lnTo>
                    <a:lnTo>
                      <a:pt x="1345" y="9"/>
                    </a:lnTo>
                    <a:lnTo>
                      <a:pt x="1428" y="5"/>
                    </a:lnTo>
                    <a:lnTo>
                      <a:pt x="1513" y="2"/>
                    </a:lnTo>
                    <a:lnTo>
                      <a:pt x="1598" y="0"/>
                    </a:lnTo>
                    <a:lnTo>
                      <a:pt x="1684" y="0"/>
                    </a:lnTo>
                    <a:lnTo>
                      <a:pt x="1771" y="0"/>
                    </a:lnTo>
                    <a:lnTo>
                      <a:pt x="1857" y="2"/>
                    </a:lnTo>
                    <a:lnTo>
                      <a:pt x="1941" y="5"/>
                    </a:lnTo>
                    <a:lnTo>
                      <a:pt x="2024" y="9"/>
                    </a:lnTo>
                    <a:lnTo>
                      <a:pt x="2106" y="15"/>
                    </a:lnTo>
                    <a:lnTo>
                      <a:pt x="2185" y="21"/>
                    </a:lnTo>
                    <a:lnTo>
                      <a:pt x="2264" y="28"/>
                    </a:lnTo>
                    <a:lnTo>
                      <a:pt x="2340" y="37"/>
                    </a:lnTo>
                    <a:lnTo>
                      <a:pt x="2415" y="46"/>
                    </a:lnTo>
                    <a:lnTo>
                      <a:pt x="2487" y="58"/>
                    </a:lnTo>
                    <a:lnTo>
                      <a:pt x="2558" y="69"/>
                    </a:lnTo>
                    <a:lnTo>
                      <a:pt x="2627" y="81"/>
                    </a:lnTo>
                    <a:lnTo>
                      <a:pt x="2692" y="95"/>
                    </a:lnTo>
                    <a:lnTo>
                      <a:pt x="2756" y="109"/>
                    </a:lnTo>
                    <a:lnTo>
                      <a:pt x="2818" y="124"/>
                    </a:lnTo>
                    <a:lnTo>
                      <a:pt x="2876" y="140"/>
                    </a:lnTo>
                    <a:lnTo>
                      <a:pt x="2932" y="157"/>
                    </a:lnTo>
                    <a:lnTo>
                      <a:pt x="2984" y="175"/>
                    </a:lnTo>
                    <a:lnTo>
                      <a:pt x="3035" y="193"/>
                    </a:lnTo>
                    <a:lnTo>
                      <a:pt x="3081" y="212"/>
                    </a:lnTo>
                    <a:lnTo>
                      <a:pt x="3126" y="232"/>
                    </a:lnTo>
                    <a:lnTo>
                      <a:pt x="3166" y="252"/>
                    </a:lnTo>
                    <a:lnTo>
                      <a:pt x="3203" y="274"/>
                    </a:lnTo>
                    <a:lnTo>
                      <a:pt x="3237" y="296"/>
                    </a:lnTo>
                    <a:lnTo>
                      <a:pt x="3267" y="318"/>
                    </a:lnTo>
                    <a:lnTo>
                      <a:pt x="3293" y="341"/>
                    </a:lnTo>
                    <a:lnTo>
                      <a:pt x="3317" y="365"/>
                    </a:lnTo>
                    <a:lnTo>
                      <a:pt x="3335" y="390"/>
                    </a:lnTo>
                    <a:lnTo>
                      <a:pt x="3350" y="414"/>
                    </a:lnTo>
                    <a:lnTo>
                      <a:pt x="3361" y="439"/>
                    </a:lnTo>
                    <a:lnTo>
                      <a:pt x="3367" y="464"/>
                    </a:lnTo>
                    <a:lnTo>
                      <a:pt x="3369" y="4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104920" y="6517440"/>
                <a:ext cx="371520" cy="119520"/>
              </a:xfrm>
              <a:custGeom>
                <a:avLst/>
                <a:gdLst/>
                <a:ahLst/>
                <a:rect l="l" t="t" r="r" b="b"/>
                <a:pathLst>
                  <a:path w="3367" h="998">
                    <a:moveTo>
                      <a:pt x="3367" y="490"/>
                    </a:moveTo>
                    <a:lnTo>
                      <a:pt x="3365" y="516"/>
                    </a:lnTo>
                    <a:lnTo>
                      <a:pt x="3358" y="542"/>
                    </a:lnTo>
                    <a:lnTo>
                      <a:pt x="3348" y="567"/>
                    </a:lnTo>
                    <a:lnTo>
                      <a:pt x="3333" y="593"/>
                    </a:lnTo>
                    <a:lnTo>
                      <a:pt x="3313" y="617"/>
                    </a:lnTo>
                    <a:lnTo>
                      <a:pt x="3291" y="641"/>
                    </a:lnTo>
                    <a:lnTo>
                      <a:pt x="3265" y="664"/>
                    </a:lnTo>
                    <a:lnTo>
                      <a:pt x="3235" y="687"/>
                    </a:lnTo>
                    <a:lnTo>
                      <a:pt x="3200" y="711"/>
                    </a:lnTo>
                    <a:lnTo>
                      <a:pt x="3164" y="732"/>
                    </a:lnTo>
                    <a:lnTo>
                      <a:pt x="3123" y="753"/>
                    </a:lnTo>
                    <a:lnTo>
                      <a:pt x="3079" y="774"/>
                    </a:lnTo>
                    <a:lnTo>
                      <a:pt x="3033" y="793"/>
                    </a:lnTo>
                    <a:lnTo>
                      <a:pt x="2982" y="813"/>
                    </a:lnTo>
                    <a:lnTo>
                      <a:pt x="2930" y="832"/>
                    </a:lnTo>
                    <a:lnTo>
                      <a:pt x="2874" y="849"/>
                    </a:lnTo>
                    <a:lnTo>
                      <a:pt x="2816" y="866"/>
                    </a:lnTo>
                    <a:lnTo>
                      <a:pt x="2754" y="882"/>
                    </a:lnTo>
                    <a:lnTo>
                      <a:pt x="2690" y="897"/>
                    </a:lnTo>
                    <a:lnTo>
                      <a:pt x="2625" y="912"/>
                    </a:lnTo>
                    <a:lnTo>
                      <a:pt x="2556" y="925"/>
                    </a:lnTo>
                    <a:lnTo>
                      <a:pt x="2486" y="937"/>
                    </a:lnTo>
                    <a:lnTo>
                      <a:pt x="2414" y="948"/>
                    </a:lnTo>
                    <a:lnTo>
                      <a:pt x="2339" y="958"/>
                    </a:lnTo>
                    <a:lnTo>
                      <a:pt x="2262" y="967"/>
                    </a:lnTo>
                    <a:lnTo>
                      <a:pt x="2184" y="975"/>
                    </a:lnTo>
                    <a:lnTo>
                      <a:pt x="2105" y="982"/>
                    </a:lnTo>
                    <a:lnTo>
                      <a:pt x="2023" y="987"/>
                    </a:lnTo>
                    <a:lnTo>
                      <a:pt x="1940" y="992"/>
                    </a:lnTo>
                    <a:lnTo>
                      <a:pt x="1855" y="995"/>
                    </a:lnTo>
                    <a:lnTo>
                      <a:pt x="1770" y="997"/>
                    </a:lnTo>
                    <a:lnTo>
                      <a:pt x="1683" y="998"/>
                    </a:lnTo>
                    <a:lnTo>
                      <a:pt x="1597" y="997"/>
                    </a:lnTo>
                    <a:lnTo>
                      <a:pt x="1512" y="995"/>
                    </a:lnTo>
                    <a:lnTo>
                      <a:pt x="1427" y="992"/>
                    </a:lnTo>
                    <a:lnTo>
                      <a:pt x="1344" y="987"/>
                    </a:lnTo>
                    <a:lnTo>
                      <a:pt x="1263" y="982"/>
                    </a:lnTo>
                    <a:lnTo>
                      <a:pt x="1183" y="975"/>
                    </a:lnTo>
                    <a:lnTo>
                      <a:pt x="1105" y="967"/>
                    </a:lnTo>
                    <a:lnTo>
                      <a:pt x="1028" y="958"/>
                    </a:lnTo>
                    <a:lnTo>
                      <a:pt x="953" y="948"/>
                    </a:lnTo>
                    <a:lnTo>
                      <a:pt x="882" y="937"/>
                    </a:lnTo>
                    <a:lnTo>
                      <a:pt x="811" y="925"/>
                    </a:lnTo>
                    <a:lnTo>
                      <a:pt x="742" y="912"/>
                    </a:lnTo>
                    <a:lnTo>
                      <a:pt x="677" y="897"/>
                    </a:lnTo>
                    <a:lnTo>
                      <a:pt x="613" y="882"/>
                    </a:lnTo>
                    <a:lnTo>
                      <a:pt x="551" y="866"/>
                    </a:lnTo>
                    <a:lnTo>
                      <a:pt x="493" y="849"/>
                    </a:lnTo>
                    <a:lnTo>
                      <a:pt x="437" y="832"/>
                    </a:lnTo>
                    <a:lnTo>
                      <a:pt x="385" y="813"/>
                    </a:lnTo>
                    <a:lnTo>
                      <a:pt x="334" y="793"/>
                    </a:lnTo>
                    <a:lnTo>
                      <a:pt x="288" y="774"/>
                    </a:lnTo>
                    <a:lnTo>
                      <a:pt x="244" y="753"/>
                    </a:lnTo>
                    <a:lnTo>
                      <a:pt x="203" y="732"/>
                    </a:lnTo>
                    <a:lnTo>
                      <a:pt x="167" y="711"/>
                    </a:lnTo>
                    <a:lnTo>
                      <a:pt x="132" y="687"/>
                    </a:lnTo>
                    <a:lnTo>
                      <a:pt x="102" y="664"/>
                    </a:lnTo>
                    <a:lnTo>
                      <a:pt x="76" y="641"/>
                    </a:lnTo>
                    <a:lnTo>
                      <a:pt x="53" y="617"/>
                    </a:lnTo>
                    <a:lnTo>
                      <a:pt x="34" y="593"/>
                    </a:lnTo>
                    <a:lnTo>
                      <a:pt x="20" y="567"/>
                    </a:lnTo>
                    <a:lnTo>
                      <a:pt x="9" y="542"/>
                    </a:lnTo>
                    <a:lnTo>
                      <a:pt x="3" y="516"/>
                    </a:lnTo>
                    <a:lnTo>
                      <a:pt x="0" y="490"/>
                    </a:lnTo>
                    <a:lnTo>
                      <a:pt x="3" y="464"/>
                    </a:lnTo>
                    <a:lnTo>
                      <a:pt x="9" y="438"/>
                    </a:lnTo>
                    <a:lnTo>
                      <a:pt x="20" y="413"/>
                    </a:lnTo>
                    <a:lnTo>
                      <a:pt x="34" y="389"/>
                    </a:lnTo>
                    <a:lnTo>
                      <a:pt x="53" y="364"/>
                    </a:lnTo>
                    <a:lnTo>
                      <a:pt x="76" y="340"/>
                    </a:lnTo>
                    <a:lnTo>
                      <a:pt x="102" y="318"/>
                    </a:lnTo>
                    <a:lnTo>
                      <a:pt x="132" y="295"/>
                    </a:lnTo>
                    <a:lnTo>
                      <a:pt x="167" y="274"/>
                    </a:lnTo>
                    <a:lnTo>
                      <a:pt x="203" y="252"/>
                    </a:lnTo>
                    <a:lnTo>
                      <a:pt x="244" y="231"/>
                    </a:lnTo>
                    <a:lnTo>
                      <a:pt x="288" y="212"/>
                    </a:lnTo>
                    <a:lnTo>
                      <a:pt x="334" y="193"/>
                    </a:lnTo>
                    <a:lnTo>
                      <a:pt x="385" y="174"/>
                    </a:lnTo>
                    <a:lnTo>
                      <a:pt x="437" y="157"/>
                    </a:lnTo>
                    <a:lnTo>
                      <a:pt x="493" y="139"/>
                    </a:lnTo>
                    <a:lnTo>
                      <a:pt x="551" y="124"/>
                    </a:lnTo>
                    <a:lnTo>
                      <a:pt x="613" y="109"/>
                    </a:lnTo>
                    <a:lnTo>
                      <a:pt x="677" y="94"/>
                    </a:lnTo>
                    <a:lnTo>
                      <a:pt x="742" y="81"/>
                    </a:lnTo>
                    <a:lnTo>
                      <a:pt x="811" y="69"/>
                    </a:lnTo>
                    <a:lnTo>
                      <a:pt x="882" y="57"/>
                    </a:lnTo>
                    <a:lnTo>
                      <a:pt x="953" y="47"/>
                    </a:lnTo>
                    <a:lnTo>
                      <a:pt x="1028" y="37"/>
                    </a:lnTo>
                    <a:lnTo>
                      <a:pt x="1105" y="28"/>
                    </a:lnTo>
                    <a:lnTo>
                      <a:pt x="1183" y="21"/>
                    </a:lnTo>
                    <a:lnTo>
                      <a:pt x="1263" y="14"/>
                    </a:lnTo>
                    <a:lnTo>
                      <a:pt x="1344" y="9"/>
                    </a:lnTo>
                    <a:lnTo>
                      <a:pt x="1427" y="5"/>
                    </a:lnTo>
                    <a:lnTo>
                      <a:pt x="1512" y="2"/>
                    </a:lnTo>
                    <a:lnTo>
                      <a:pt x="1597" y="0"/>
                    </a:lnTo>
                    <a:lnTo>
                      <a:pt x="1683" y="0"/>
                    </a:lnTo>
                    <a:lnTo>
                      <a:pt x="1770" y="0"/>
                    </a:lnTo>
                    <a:lnTo>
                      <a:pt x="1855" y="2"/>
                    </a:lnTo>
                    <a:lnTo>
                      <a:pt x="1940" y="5"/>
                    </a:lnTo>
                    <a:lnTo>
                      <a:pt x="2023" y="9"/>
                    </a:lnTo>
                    <a:lnTo>
                      <a:pt x="2105" y="14"/>
                    </a:lnTo>
                    <a:lnTo>
                      <a:pt x="2184" y="21"/>
                    </a:lnTo>
                    <a:lnTo>
                      <a:pt x="2262" y="28"/>
                    </a:lnTo>
                    <a:lnTo>
                      <a:pt x="2339" y="37"/>
                    </a:lnTo>
                    <a:lnTo>
                      <a:pt x="2414" y="47"/>
                    </a:lnTo>
                    <a:lnTo>
                      <a:pt x="2486" y="57"/>
                    </a:lnTo>
                    <a:lnTo>
                      <a:pt x="2556" y="69"/>
                    </a:lnTo>
                    <a:lnTo>
                      <a:pt x="2625" y="81"/>
                    </a:lnTo>
                    <a:lnTo>
                      <a:pt x="2690" y="94"/>
                    </a:lnTo>
                    <a:lnTo>
                      <a:pt x="2754" y="109"/>
                    </a:lnTo>
                    <a:lnTo>
                      <a:pt x="2816" y="124"/>
                    </a:lnTo>
                    <a:lnTo>
                      <a:pt x="2874" y="139"/>
                    </a:lnTo>
                    <a:lnTo>
                      <a:pt x="2930" y="157"/>
                    </a:lnTo>
                    <a:lnTo>
                      <a:pt x="2982" y="174"/>
                    </a:lnTo>
                    <a:lnTo>
                      <a:pt x="3033" y="193"/>
                    </a:lnTo>
                    <a:lnTo>
                      <a:pt x="3079" y="212"/>
                    </a:lnTo>
                    <a:lnTo>
                      <a:pt x="3123" y="231"/>
                    </a:lnTo>
                    <a:lnTo>
                      <a:pt x="3164" y="252"/>
                    </a:lnTo>
                    <a:lnTo>
                      <a:pt x="3200" y="274"/>
                    </a:lnTo>
                    <a:lnTo>
                      <a:pt x="3235" y="295"/>
                    </a:lnTo>
                    <a:lnTo>
                      <a:pt x="3265" y="318"/>
                    </a:lnTo>
                    <a:lnTo>
                      <a:pt x="3291" y="340"/>
                    </a:lnTo>
                    <a:lnTo>
                      <a:pt x="3313" y="364"/>
                    </a:lnTo>
                    <a:lnTo>
                      <a:pt x="3333" y="389"/>
                    </a:lnTo>
                    <a:lnTo>
                      <a:pt x="3348" y="413"/>
                    </a:lnTo>
                    <a:lnTo>
                      <a:pt x="3358" y="438"/>
                    </a:lnTo>
                    <a:lnTo>
                      <a:pt x="3365" y="464"/>
                    </a:lnTo>
                    <a:lnTo>
                      <a:pt x="3367" y="4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104920" y="6518880"/>
                <a:ext cx="371520" cy="118080"/>
              </a:xfrm>
              <a:custGeom>
                <a:avLst/>
                <a:gdLst/>
                <a:ahLst/>
                <a:rect l="l" t="t" r="r" b="b"/>
                <a:pathLst>
                  <a:path w="3363" h="996">
                    <a:moveTo>
                      <a:pt x="3363" y="489"/>
                    </a:moveTo>
                    <a:lnTo>
                      <a:pt x="3361" y="515"/>
                    </a:lnTo>
                    <a:lnTo>
                      <a:pt x="3355" y="541"/>
                    </a:lnTo>
                    <a:lnTo>
                      <a:pt x="3344" y="566"/>
                    </a:lnTo>
                    <a:lnTo>
                      <a:pt x="3330" y="592"/>
                    </a:lnTo>
                    <a:lnTo>
                      <a:pt x="3310" y="616"/>
                    </a:lnTo>
                    <a:lnTo>
                      <a:pt x="3287" y="640"/>
                    </a:lnTo>
                    <a:lnTo>
                      <a:pt x="3261" y="663"/>
                    </a:lnTo>
                    <a:lnTo>
                      <a:pt x="3231" y="686"/>
                    </a:lnTo>
                    <a:lnTo>
                      <a:pt x="3197" y="709"/>
                    </a:lnTo>
                    <a:lnTo>
                      <a:pt x="3160" y="731"/>
                    </a:lnTo>
                    <a:lnTo>
                      <a:pt x="3120" y="752"/>
                    </a:lnTo>
                    <a:lnTo>
                      <a:pt x="3076" y="772"/>
                    </a:lnTo>
                    <a:lnTo>
                      <a:pt x="3029" y="792"/>
                    </a:lnTo>
                    <a:lnTo>
                      <a:pt x="2979" y="812"/>
                    </a:lnTo>
                    <a:lnTo>
                      <a:pt x="2927" y="830"/>
                    </a:lnTo>
                    <a:lnTo>
                      <a:pt x="2871" y="848"/>
                    </a:lnTo>
                    <a:lnTo>
                      <a:pt x="2813" y="864"/>
                    </a:lnTo>
                    <a:lnTo>
                      <a:pt x="2751" y="880"/>
                    </a:lnTo>
                    <a:lnTo>
                      <a:pt x="2687" y="895"/>
                    </a:lnTo>
                    <a:lnTo>
                      <a:pt x="2622" y="910"/>
                    </a:lnTo>
                    <a:lnTo>
                      <a:pt x="2554" y="923"/>
                    </a:lnTo>
                    <a:lnTo>
                      <a:pt x="2483" y="935"/>
                    </a:lnTo>
                    <a:lnTo>
                      <a:pt x="2411" y="946"/>
                    </a:lnTo>
                    <a:lnTo>
                      <a:pt x="2336" y="956"/>
                    </a:lnTo>
                    <a:lnTo>
                      <a:pt x="2260" y="965"/>
                    </a:lnTo>
                    <a:lnTo>
                      <a:pt x="2181" y="973"/>
                    </a:lnTo>
                    <a:lnTo>
                      <a:pt x="2102" y="980"/>
                    </a:lnTo>
                    <a:lnTo>
                      <a:pt x="2021" y="985"/>
                    </a:lnTo>
                    <a:lnTo>
                      <a:pt x="1938" y="990"/>
                    </a:lnTo>
                    <a:lnTo>
                      <a:pt x="1853" y="993"/>
                    </a:lnTo>
                    <a:lnTo>
                      <a:pt x="1768" y="995"/>
                    </a:lnTo>
                    <a:lnTo>
                      <a:pt x="1681" y="996"/>
                    </a:lnTo>
                    <a:lnTo>
                      <a:pt x="1595" y="995"/>
                    </a:lnTo>
                    <a:lnTo>
                      <a:pt x="1510" y="993"/>
                    </a:lnTo>
                    <a:lnTo>
                      <a:pt x="1425" y="990"/>
                    </a:lnTo>
                    <a:lnTo>
                      <a:pt x="1342" y="985"/>
                    </a:lnTo>
                    <a:lnTo>
                      <a:pt x="1261" y="980"/>
                    </a:lnTo>
                    <a:lnTo>
                      <a:pt x="1182" y="973"/>
                    </a:lnTo>
                    <a:lnTo>
                      <a:pt x="1103" y="965"/>
                    </a:lnTo>
                    <a:lnTo>
                      <a:pt x="1027" y="956"/>
                    </a:lnTo>
                    <a:lnTo>
                      <a:pt x="952" y="946"/>
                    </a:lnTo>
                    <a:lnTo>
                      <a:pt x="880" y="935"/>
                    </a:lnTo>
                    <a:lnTo>
                      <a:pt x="810" y="923"/>
                    </a:lnTo>
                    <a:lnTo>
                      <a:pt x="741" y="910"/>
                    </a:lnTo>
                    <a:lnTo>
                      <a:pt x="676" y="895"/>
                    </a:lnTo>
                    <a:lnTo>
                      <a:pt x="612" y="880"/>
                    </a:lnTo>
                    <a:lnTo>
                      <a:pt x="550" y="864"/>
                    </a:lnTo>
                    <a:lnTo>
                      <a:pt x="493" y="848"/>
                    </a:lnTo>
                    <a:lnTo>
                      <a:pt x="436" y="830"/>
                    </a:lnTo>
                    <a:lnTo>
                      <a:pt x="384" y="812"/>
                    </a:lnTo>
                    <a:lnTo>
                      <a:pt x="334" y="792"/>
                    </a:lnTo>
                    <a:lnTo>
                      <a:pt x="287" y="772"/>
                    </a:lnTo>
                    <a:lnTo>
                      <a:pt x="243" y="752"/>
                    </a:lnTo>
                    <a:lnTo>
                      <a:pt x="203" y="731"/>
                    </a:lnTo>
                    <a:lnTo>
                      <a:pt x="166" y="709"/>
                    </a:lnTo>
                    <a:lnTo>
                      <a:pt x="132" y="686"/>
                    </a:lnTo>
                    <a:lnTo>
                      <a:pt x="102" y="663"/>
                    </a:lnTo>
                    <a:lnTo>
                      <a:pt x="76" y="640"/>
                    </a:lnTo>
                    <a:lnTo>
                      <a:pt x="52" y="616"/>
                    </a:lnTo>
                    <a:lnTo>
                      <a:pt x="34" y="592"/>
                    </a:lnTo>
                    <a:lnTo>
                      <a:pt x="19" y="566"/>
                    </a:lnTo>
                    <a:lnTo>
                      <a:pt x="8" y="541"/>
                    </a:lnTo>
                    <a:lnTo>
                      <a:pt x="2" y="515"/>
                    </a:lnTo>
                    <a:lnTo>
                      <a:pt x="0" y="489"/>
                    </a:lnTo>
                    <a:lnTo>
                      <a:pt x="2" y="463"/>
                    </a:lnTo>
                    <a:lnTo>
                      <a:pt x="8" y="437"/>
                    </a:lnTo>
                    <a:lnTo>
                      <a:pt x="19" y="412"/>
                    </a:lnTo>
                    <a:lnTo>
                      <a:pt x="34" y="388"/>
                    </a:lnTo>
                    <a:lnTo>
                      <a:pt x="52" y="363"/>
                    </a:lnTo>
                    <a:lnTo>
                      <a:pt x="76" y="340"/>
                    </a:lnTo>
                    <a:lnTo>
                      <a:pt x="102" y="317"/>
                    </a:lnTo>
                    <a:lnTo>
                      <a:pt x="132" y="295"/>
                    </a:lnTo>
                    <a:lnTo>
                      <a:pt x="166" y="273"/>
                    </a:lnTo>
                    <a:lnTo>
                      <a:pt x="203" y="251"/>
                    </a:lnTo>
                    <a:lnTo>
                      <a:pt x="243" y="231"/>
                    </a:lnTo>
                    <a:lnTo>
                      <a:pt x="287" y="211"/>
                    </a:lnTo>
                    <a:lnTo>
                      <a:pt x="334" y="192"/>
                    </a:lnTo>
                    <a:lnTo>
                      <a:pt x="384" y="174"/>
                    </a:lnTo>
                    <a:lnTo>
                      <a:pt x="436" y="157"/>
                    </a:lnTo>
                    <a:lnTo>
                      <a:pt x="493" y="139"/>
                    </a:lnTo>
                    <a:lnTo>
                      <a:pt x="550" y="123"/>
                    </a:lnTo>
                    <a:lnTo>
                      <a:pt x="612" y="108"/>
                    </a:lnTo>
                    <a:lnTo>
                      <a:pt x="676" y="94"/>
                    </a:lnTo>
                    <a:lnTo>
                      <a:pt x="741" y="81"/>
                    </a:lnTo>
                    <a:lnTo>
                      <a:pt x="810" y="69"/>
                    </a:lnTo>
                    <a:lnTo>
                      <a:pt x="880" y="57"/>
                    </a:lnTo>
                    <a:lnTo>
                      <a:pt x="952" y="47"/>
                    </a:lnTo>
                    <a:lnTo>
                      <a:pt x="1027" y="36"/>
                    </a:lnTo>
                    <a:lnTo>
                      <a:pt x="1103" y="28"/>
                    </a:lnTo>
                    <a:lnTo>
                      <a:pt x="1182" y="21"/>
                    </a:lnTo>
                    <a:lnTo>
                      <a:pt x="1261" y="14"/>
                    </a:lnTo>
                    <a:lnTo>
                      <a:pt x="1342" y="9"/>
                    </a:lnTo>
                    <a:lnTo>
                      <a:pt x="1425" y="5"/>
                    </a:lnTo>
                    <a:lnTo>
                      <a:pt x="1510" y="2"/>
                    </a:lnTo>
                    <a:lnTo>
                      <a:pt x="1595" y="0"/>
                    </a:lnTo>
                    <a:lnTo>
                      <a:pt x="1681" y="0"/>
                    </a:lnTo>
                    <a:lnTo>
                      <a:pt x="1768" y="0"/>
                    </a:lnTo>
                    <a:lnTo>
                      <a:pt x="1853" y="2"/>
                    </a:lnTo>
                    <a:lnTo>
                      <a:pt x="1938" y="5"/>
                    </a:lnTo>
                    <a:lnTo>
                      <a:pt x="2021" y="9"/>
                    </a:lnTo>
                    <a:lnTo>
                      <a:pt x="2102" y="14"/>
                    </a:lnTo>
                    <a:lnTo>
                      <a:pt x="2181" y="21"/>
                    </a:lnTo>
                    <a:lnTo>
                      <a:pt x="2260" y="28"/>
                    </a:lnTo>
                    <a:lnTo>
                      <a:pt x="2336" y="36"/>
                    </a:lnTo>
                    <a:lnTo>
                      <a:pt x="2411" y="47"/>
                    </a:lnTo>
                    <a:lnTo>
                      <a:pt x="2483" y="57"/>
                    </a:lnTo>
                    <a:lnTo>
                      <a:pt x="2554" y="69"/>
                    </a:lnTo>
                    <a:lnTo>
                      <a:pt x="2622" y="81"/>
                    </a:lnTo>
                    <a:lnTo>
                      <a:pt x="2687" y="94"/>
                    </a:lnTo>
                    <a:lnTo>
                      <a:pt x="2751" y="108"/>
                    </a:lnTo>
                    <a:lnTo>
                      <a:pt x="2813" y="123"/>
                    </a:lnTo>
                    <a:lnTo>
                      <a:pt x="2871" y="139"/>
                    </a:lnTo>
                    <a:lnTo>
                      <a:pt x="2927" y="157"/>
                    </a:lnTo>
                    <a:lnTo>
                      <a:pt x="2979" y="174"/>
                    </a:lnTo>
                    <a:lnTo>
                      <a:pt x="3029" y="192"/>
                    </a:lnTo>
                    <a:lnTo>
                      <a:pt x="3076" y="211"/>
                    </a:lnTo>
                    <a:lnTo>
                      <a:pt x="3120" y="231"/>
                    </a:lnTo>
                    <a:lnTo>
                      <a:pt x="3160" y="251"/>
                    </a:lnTo>
                    <a:lnTo>
                      <a:pt x="3197" y="273"/>
                    </a:lnTo>
                    <a:lnTo>
                      <a:pt x="3231" y="295"/>
                    </a:lnTo>
                    <a:lnTo>
                      <a:pt x="3261" y="317"/>
                    </a:lnTo>
                    <a:lnTo>
                      <a:pt x="3287" y="340"/>
                    </a:lnTo>
                    <a:lnTo>
                      <a:pt x="3310" y="363"/>
                    </a:lnTo>
                    <a:lnTo>
                      <a:pt x="3330" y="388"/>
                    </a:lnTo>
                    <a:lnTo>
                      <a:pt x="3344" y="412"/>
                    </a:lnTo>
                    <a:lnTo>
                      <a:pt x="3355" y="437"/>
                    </a:lnTo>
                    <a:lnTo>
                      <a:pt x="3361" y="463"/>
                    </a:lnTo>
                    <a:lnTo>
                      <a:pt x="3363" y="4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104920" y="6518880"/>
                <a:ext cx="371520" cy="118080"/>
              </a:xfrm>
              <a:custGeom>
                <a:avLst/>
                <a:gdLst/>
                <a:ahLst/>
                <a:rect l="l" t="t" r="r" b="b"/>
                <a:pathLst>
                  <a:path w="3361" h="994">
                    <a:moveTo>
                      <a:pt x="3361" y="488"/>
                    </a:moveTo>
                    <a:lnTo>
                      <a:pt x="3359" y="514"/>
                    </a:lnTo>
                    <a:lnTo>
                      <a:pt x="3352" y="540"/>
                    </a:lnTo>
                    <a:lnTo>
                      <a:pt x="3342" y="565"/>
                    </a:lnTo>
                    <a:lnTo>
                      <a:pt x="3327" y="590"/>
                    </a:lnTo>
                    <a:lnTo>
                      <a:pt x="3308" y="615"/>
                    </a:lnTo>
                    <a:lnTo>
                      <a:pt x="3285" y="639"/>
                    </a:lnTo>
                    <a:lnTo>
                      <a:pt x="3259" y="662"/>
                    </a:lnTo>
                    <a:lnTo>
                      <a:pt x="3229" y="685"/>
                    </a:lnTo>
                    <a:lnTo>
                      <a:pt x="3195" y="708"/>
                    </a:lnTo>
                    <a:lnTo>
                      <a:pt x="3158" y="729"/>
                    </a:lnTo>
                    <a:lnTo>
                      <a:pt x="3118" y="750"/>
                    </a:lnTo>
                    <a:lnTo>
                      <a:pt x="3074" y="771"/>
                    </a:lnTo>
                    <a:lnTo>
                      <a:pt x="3027" y="790"/>
                    </a:lnTo>
                    <a:lnTo>
                      <a:pt x="2977" y="810"/>
                    </a:lnTo>
                    <a:lnTo>
                      <a:pt x="2925" y="828"/>
                    </a:lnTo>
                    <a:lnTo>
                      <a:pt x="2869" y="846"/>
                    </a:lnTo>
                    <a:lnTo>
                      <a:pt x="2811" y="862"/>
                    </a:lnTo>
                    <a:lnTo>
                      <a:pt x="2749" y="878"/>
                    </a:lnTo>
                    <a:lnTo>
                      <a:pt x="2686" y="893"/>
                    </a:lnTo>
                    <a:lnTo>
                      <a:pt x="2620" y="908"/>
                    </a:lnTo>
                    <a:lnTo>
                      <a:pt x="2552" y="921"/>
                    </a:lnTo>
                    <a:lnTo>
                      <a:pt x="2481" y="933"/>
                    </a:lnTo>
                    <a:lnTo>
                      <a:pt x="2409" y="944"/>
                    </a:lnTo>
                    <a:lnTo>
                      <a:pt x="2335" y="954"/>
                    </a:lnTo>
                    <a:lnTo>
                      <a:pt x="2258" y="963"/>
                    </a:lnTo>
                    <a:lnTo>
                      <a:pt x="2180" y="971"/>
                    </a:lnTo>
                    <a:lnTo>
                      <a:pt x="2101" y="978"/>
                    </a:lnTo>
                    <a:lnTo>
                      <a:pt x="2019" y="984"/>
                    </a:lnTo>
                    <a:lnTo>
                      <a:pt x="1936" y="988"/>
                    </a:lnTo>
                    <a:lnTo>
                      <a:pt x="1852" y="991"/>
                    </a:lnTo>
                    <a:lnTo>
                      <a:pt x="1767" y="993"/>
                    </a:lnTo>
                    <a:lnTo>
                      <a:pt x="1680" y="994"/>
                    </a:lnTo>
                    <a:lnTo>
                      <a:pt x="1594" y="993"/>
                    </a:lnTo>
                    <a:lnTo>
                      <a:pt x="1509" y="991"/>
                    </a:lnTo>
                    <a:lnTo>
                      <a:pt x="1425" y="988"/>
                    </a:lnTo>
                    <a:lnTo>
                      <a:pt x="1342" y="984"/>
                    </a:lnTo>
                    <a:lnTo>
                      <a:pt x="1260" y="978"/>
                    </a:lnTo>
                    <a:lnTo>
                      <a:pt x="1181" y="971"/>
                    </a:lnTo>
                    <a:lnTo>
                      <a:pt x="1103" y="963"/>
                    </a:lnTo>
                    <a:lnTo>
                      <a:pt x="1026" y="954"/>
                    </a:lnTo>
                    <a:lnTo>
                      <a:pt x="952" y="944"/>
                    </a:lnTo>
                    <a:lnTo>
                      <a:pt x="880" y="933"/>
                    </a:lnTo>
                    <a:lnTo>
                      <a:pt x="809" y="921"/>
                    </a:lnTo>
                    <a:lnTo>
                      <a:pt x="741" y="908"/>
                    </a:lnTo>
                    <a:lnTo>
                      <a:pt x="676" y="893"/>
                    </a:lnTo>
                    <a:lnTo>
                      <a:pt x="612" y="878"/>
                    </a:lnTo>
                    <a:lnTo>
                      <a:pt x="550" y="862"/>
                    </a:lnTo>
                    <a:lnTo>
                      <a:pt x="493" y="846"/>
                    </a:lnTo>
                    <a:lnTo>
                      <a:pt x="436" y="828"/>
                    </a:lnTo>
                    <a:lnTo>
                      <a:pt x="384" y="810"/>
                    </a:lnTo>
                    <a:lnTo>
                      <a:pt x="334" y="790"/>
                    </a:lnTo>
                    <a:lnTo>
                      <a:pt x="287" y="771"/>
                    </a:lnTo>
                    <a:lnTo>
                      <a:pt x="243" y="750"/>
                    </a:lnTo>
                    <a:lnTo>
                      <a:pt x="203" y="729"/>
                    </a:lnTo>
                    <a:lnTo>
                      <a:pt x="166" y="708"/>
                    </a:lnTo>
                    <a:lnTo>
                      <a:pt x="132" y="685"/>
                    </a:lnTo>
                    <a:lnTo>
                      <a:pt x="102" y="662"/>
                    </a:lnTo>
                    <a:lnTo>
                      <a:pt x="76" y="639"/>
                    </a:lnTo>
                    <a:lnTo>
                      <a:pt x="53" y="615"/>
                    </a:lnTo>
                    <a:lnTo>
                      <a:pt x="34" y="590"/>
                    </a:lnTo>
                    <a:lnTo>
                      <a:pt x="19" y="565"/>
                    </a:lnTo>
                    <a:lnTo>
                      <a:pt x="9" y="540"/>
                    </a:lnTo>
                    <a:lnTo>
                      <a:pt x="2" y="514"/>
                    </a:lnTo>
                    <a:lnTo>
                      <a:pt x="0" y="488"/>
                    </a:lnTo>
                    <a:lnTo>
                      <a:pt x="2" y="462"/>
                    </a:lnTo>
                    <a:lnTo>
                      <a:pt x="9" y="436"/>
                    </a:lnTo>
                    <a:lnTo>
                      <a:pt x="19" y="412"/>
                    </a:lnTo>
                    <a:lnTo>
                      <a:pt x="34" y="387"/>
                    </a:lnTo>
                    <a:lnTo>
                      <a:pt x="53" y="362"/>
                    </a:lnTo>
                    <a:lnTo>
                      <a:pt x="76" y="339"/>
                    </a:lnTo>
                    <a:lnTo>
                      <a:pt x="102" y="316"/>
                    </a:lnTo>
                    <a:lnTo>
                      <a:pt x="132" y="294"/>
                    </a:lnTo>
                    <a:lnTo>
                      <a:pt x="166" y="272"/>
                    </a:lnTo>
                    <a:lnTo>
                      <a:pt x="203" y="251"/>
                    </a:lnTo>
                    <a:lnTo>
                      <a:pt x="243" y="230"/>
                    </a:lnTo>
                    <a:lnTo>
                      <a:pt x="287" y="211"/>
                    </a:lnTo>
                    <a:lnTo>
                      <a:pt x="334" y="192"/>
                    </a:lnTo>
                    <a:lnTo>
                      <a:pt x="384" y="174"/>
                    </a:lnTo>
                    <a:lnTo>
                      <a:pt x="436" y="156"/>
                    </a:lnTo>
                    <a:lnTo>
                      <a:pt x="493" y="139"/>
                    </a:lnTo>
                    <a:lnTo>
                      <a:pt x="550" y="123"/>
                    </a:lnTo>
                    <a:lnTo>
                      <a:pt x="612" y="108"/>
                    </a:lnTo>
                    <a:lnTo>
                      <a:pt x="676" y="94"/>
                    </a:lnTo>
                    <a:lnTo>
                      <a:pt x="741" y="81"/>
                    </a:lnTo>
                    <a:lnTo>
                      <a:pt x="809" y="68"/>
                    </a:lnTo>
                    <a:lnTo>
                      <a:pt x="880" y="57"/>
                    </a:lnTo>
                    <a:lnTo>
                      <a:pt x="952" y="47"/>
                    </a:lnTo>
                    <a:lnTo>
                      <a:pt x="1026" y="36"/>
                    </a:lnTo>
                    <a:lnTo>
                      <a:pt x="1103" y="28"/>
                    </a:lnTo>
                    <a:lnTo>
                      <a:pt x="1181" y="21"/>
                    </a:lnTo>
                    <a:lnTo>
                      <a:pt x="1260" y="14"/>
                    </a:lnTo>
                    <a:lnTo>
                      <a:pt x="1342" y="9"/>
                    </a:lnTo>
                    <a:lnTo>
                      <a:pt x="1425" y="5"/>
                    </a:lnTo>
                    <a:lnTo>
                      <a:pt x="1509" y="2"/>
                    </a:lnTo>
                    <a:lnTo>
                      <a:pt x="1594" y="0"/>
                    </a:lnTo>
                    <a:lnTo>
                      <a:pt x="1680" y="0"/>
                    </a:lnTo>
                    <a:lnTo>
                      <a:pt x="1767" y="0"/>
                    </a:lnTo>
                    <a:lnTo>
                      <a:pt x="1852" y="2"/>
                    </a:lnTo>
                    <a:lnTo>
                      <a:pt x="1936" y="5"/>
                    </a:lnTo>
                    <a:lnTo>
                      <a:pt x="2019" y="9"/>
                    </a:lnTo>
                    <a:lnTo>
                      <a:pt x="2101" y="14"/>
                    </a:lnTo>
                    <a:lnTo>
                      <a:pt x="2180" y="21"/>
                    </a:lnTo>
                    <a:lnTo>
                      <a:pt x="2258" y="28"/>
                    </a:lnTo>
                    <a:lnTo>
                      <a:pt x="2335" y="36"/>
                    </a:lnTo>
                    <a:lnTo>
                      <a:pt x="2409" y="47"/>
                    </a:lnTo>
                    <a:lnTo>
                      <a:pt x="2481" y="57"/>
                    </a:lnTo>
                    <a:lnTo>
                      <a:pt x="2552" y="68"/>
                    </a:lnTo>
                    <a:lnTo>
                      <a:pt x="2620" y="81"/>
                    </a:lnTo>
                    <a:lnTo>
                      <a:pt x="2686" y="94"/>
                    </a:lnTo>
                    <a:lnTo>
                      <a:pt x="2749" y="108"/>
                    </a:lnTo>
                    <a:lnTo>
                      <a:pt x="2811" y="123"/>
                    </a:lnTo>
                    <a:lnTo>
                      <a:pt x="2869" y="139"/>
                    </a:lnTo>
                    <a:lnTo>
                      <a:pt x="2925" y="156"/>
                    </a:lnTo>
                    <a:lnTo>
                      <a:pt x="2977" y="174"/>
                    </a:lnTo>
                    <a:lnTo>
                      <a:pt x="3027" y="192"/>
                    </a:lnTo>
                    <a:lnTo>
                      <a:pt x="3074" y="211"/>
                    </a:lnTo>
                    <a:lnTo>
                      <a:pt x="3118" y="230"/>
                    </a:lnTo>
                    <a:lnTo>
                      <a:pt x="3158" y="251"/>
                    </a:lnTo>
                    <a:lnTo>
                      <a:pt x="3195" y="272"/>
                    </a:lnTo>
                    <a:lnTo>
                      <a:pt x="3229" y="294"/>
                    </a:lnTo>
                    <a:lnTo>
                      <a:pt x="3259" y="316"/>
                    </a:lnTo>
                    <a:lnTo>
                      <a:pt x="3285" y="339"/>
                    </a:lnTo>
                    <a:lnTo>
                      <a:pt x="3308" y="362"/>
                    </a:lnTo>
                    <a:lnTo>
                      <a:pt x="3327" y="387"/>
                    </a:lnTo>
                    <a:lnTo>
                      <a:pt x="3342" y="412"/>
                    </a:lnTo>
                    <a:lnTo>
                      <a:pt x="3352" y="436"/>
                    </a:lnTo>
                    <a:lnTo>
                      <a:pt x="3359" y="462"/>
                    </a:lnTo>
                    <a:lnTo>
                      <a:pt x="3361" y="4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104920" y="6518880"/>
                <a:ext cx="371520" cy="118080"/>
              </a:xfrm>
              <a:custGeom>
                <a:avLst/>
                <a:gdLst/>
                <a:ahLst/>
                <a:rect l="l" t="t" r="r" b="b"/>
                <a:pathLst>
                  <a:path w="3358" h="992">
                    <a:moveTo>
                      <a:pt x="3358" y="487"/>
                    </a:moveTo>
                    <a:lnTo>
                      <a:pt x="3355" y="513"/>
                    </a:lnTo>
                    <a:lnTo>
                      <a:pt x="3349" y="539"/>
                    </a:lnTo>
                    <a:lnTo>
                      <a:pt x="3338" y="564"/>
                    </a:lnTo>
                    <a:lnTo>
                      <a:pt x="3324" y="589"/>
                    </a:lnTo>
                    <a:lnTo>
                      <a:pt x="3304" y="613"/>
                    </a:lnTo>
                    <a:lnTo>
                      <a:pt x="3282" y="637"/>
                    </a:lnTo>
                    <a:lnTo>
                      <a:pt x="3256" y="660"/>
                    </a:lnTo>
                    <a:lnTo>
                      <a:pt x="3226" y="683"/>
                    </a:lnTo>
                    <a:lnTo>
                      <a:pt x="3192" y="706"/>
                    </a:lnTo>
                    <a:lnTo>
                      <a:pt x="3155" y="728"/>
                    </a:lnTo>
                    <a:lnTo>
                      <a:pt x="3115" y="749"/>
                    </a:lnTo>
                    <a:lnTo>
                      <a:pt x="3071" y="769"/>
                    </a:lnTo>
                    <a:lnTo>
                      <a:pt x="3024" y="789"/>
                    </a:lnTo>
                    <a:lnTo>
                      <a:pt x="2974" y="809"/>
                    </a:lnTo>
                    <a:lnTo>
                      <a:pt x="2922" y="827"/>
                    </a:lnTo>
                    <a:lnTo>
                      <a:pt x="2866" y="844"/>
                    </a:lnTo>
                    <a:lnTo>
                      <a:pt x="2808" y="861"/>
                    </a:lnTo>
                    <a:lnTo>
                      <a:pt x="2747" y="877"/>
                    </a:lnTo>
                    <a:lnTo>
                      <a:pt x="2683" y="891"/>
                    </a:lnTo>
                    <a:lnTo>
                      <a:pt x="2618" y="906"/>
                    </a:lnTo>
                    <a:lnTo>
                      <a:pt x="2549" y="919"/>
                    </a:lnTo>
                    <a:lnTo>
                      <a:pt x="2478" y="931"/>
                    </a:lnTo>
                    <a:lnTo>
                      <a:pt x="2407" y="942"/>
                    </a:lnTo>
                    <a:lnTo>
                      <a:pt x="2332" y="952"/>
                    </a:lnTo>
                    <a:lnTo>
                      <a:pt x="2256" y="961"/>
                    </a:lnTo>
                    <a:lnTo>
                      <a:pt x="2177" y="969"/>
                    </a:lnTo>
                    <a:lnTo>
                      <a:pt x="2099" y="976"/>
                    </a:lnTo>
                    <a:lnTo>
                      <a:pt x="2017" y="982"/>
                    </a:lnTo>
                    <a:lnTo>
                      <a:pt x="1934" y="986"/>
                    </a:lnTo>
                    <a:lnTo>
                      <a:pt x="1850" y="989"/>
                    </a:lnTo>
                    <a:lnTo>
                      <a:pt x="1765" y="991"/>
                    </a:lnTo>
                    <a:lnTo>
                      <a:pt x="1678" y="992"/>
                    </a:lnTo>
                    <a:lnTo>
                      <a:pt x="1593" y="991"/>
                    </a:lnTo>
                    <a:lnTo>
                      <a:pt x="1507" y="989"/>
                    </a:lnTo>
                    <a:lnTo>
                      <a:pt x="1423" y="986"/>
                    </a:lnTo>
                    <a:lnTo>
                      <a:pt x="1340" y="982"/>
                    </a:lnTo>
                    <a:lnTo>
                      <a:pt x="1259" y="976"/>
                    </a:lnTo>
                    <a:lnTo>
                      <a:pt x="1180" y="969"/>
                    </a:lnTo>
                    <a:lnTo>
                      <a:pt x="1101" y="961"/>
                    </a:lnTo>
                    <a:lnTo>
                      <a:pt x="1025" y="952"/>
                    </a:lnTo>
                    <a:lnTo>
                      <a:pt x="950" y="942"/>
                    </a:lnTo>
                    <a:lnTo>
                      <a:pt x="879" y="931"/>
                    </a:lnTo>
                    <a:lnTo>
                      <a:pt x="808" y="919"/>
                    </a:lnTo>
                    <a:lnTo>
                      <a:pt x="740" y="906"/>
                    </a:lnTo>
                    <a:lnTo>
                      <a:pt x="674" y="891"/>
                    </a:lnTo>
                    <a:lnTo>
                      <a:pt x="611" y="877"/>
                    </a:lnTo>
                    <a:lnTo>
                      <a:pt x="549" y="861"/>
                    </a:lnTo>
                    <a:lnTo>
                      <a:pt x="492" y="844"/>
                    </a:lnTo>
                    <a:lnTo>
                      <a:pt x="435" y="827"/>
                    </a:lnTo>
                    <a:lnTo>
                      <a:pt x="383" y="809"/>
                    </a:lnTo>
                    <a:lnTo>
                      <a:pt x="333" y="789"/>
                    </a:lnTo>
                    <a:lnTo>
                      <a:pt x="287" y="769"/>
                    </a:lnTo>
                    <a:lnTo>
                      <a:pt x="242" y="749"/>
                    </a:lnTo>
                    <a:lnTo>
                      <a:pt x="202" y="728"/>
                    </a:lnTo>
                    <a:lnTo>
                      <a:pt x="166" y="706"/>
                    </a:lnTo>
                    <a:lnTo>
                      <a:pt x="131" y="683"/>
                    </a:lnTo>
                    <a:lnTo>
                      <a:pt x="101" y="660"/>
                    </a:lnTo>
                    <a:lnTo>
                      <a:pt x="75" y="637"/>
                    </a:lnTo>
                    <a:lnTo>
                      <a:pt x="52" y="613"/>
                    </a:lnTo>
                    <a:lnTo>
                      <a:pt x="33" y="589"/>
                    </a:lnTo>
                    <a:lnTo>
                      <a:pt x="19" y="564"/>
                    </a:lnTo>
                    <a:lnTo>
                      <a:pt x="8" y="539"/>
                    </a:lnTo>
                    <a:lnTo>
                      <a:pt x="2" y="513"/>
                    </a:lnTo>
                    <a:lnTo>
                      <a:pt x="0" y="487"/>
                    </a:lnTo>
                    <a:lnTo>
                      <a:pt x="2" y="461"/>
                    </a:lnTo>
                    <a:lnTo>
                      <a:pt x="8" y="435"/>
                    </a:lnTo>
                    <a:lnTo>
                      <a:pt x="19" y="411"/>
                    </a:lnTo>
                    <a:lnTo>
                      <a:pt x="33" y="386"/>
                    </a:lnTo>
                    <a:lnTo>
                      <a:pt x="52" y="362"/>
                    </a:lnTo>
                    <a:lnTo>
                      <a:pt x="75" y="338"/>
                    </a:lnTo>
                    <a:lnTo>
                      <a:pt x="101" y="316"/>
                    </a:lnTo>
                    <a:lnTo>
                      <a:pt x="131" y="293"/>
                    </a:lnTo>
                    <a:lnTo>
                      <a:pt x="166" y="272"/>
                    </a:lnTo>
                    <a:lnTo>
                      <a:pt x="202" y="250"/>
                    </a:lnTo>
                    <a:lnTo>
                      <a:pt x="242" y="230"/>
                    </a:lnTo>
                    <a:lnTo>
                      <a:pt x="287" y="210"/>
                    </a:lnTo>
                    <a:lnTo>
                      <a:pt x="333" y="191"/>
                    </a:lnTo>
                    <a:lnTo>
                      <a:pt x="383" y="173"/>
                    </a:lnTo>
                    <a:lnTo>
                      <a:pt x="435" y="156"/>
                    </a:lnTo>
                    <a:lnTo>
                      <a:pt x="492" y="138"/>
                    </a:lnTo>
                    <a:lnTo>
                      <a:pt x="549" y="123"/>
                    </a:lnTo>
                    <a:lnTo>
                      <a:pt x="611" y="108"/>
                    </a:lnTo>
                    <a:lnTo>
                      <a:pt x="674" y="94"/>
                    </a:lnTo>
                    <a:lnTo>
                      <a:pt x="740" y="80"/>
                    </a:lnTo>
                    <a:lnTo>
                      <a:pt x="808" y="68"/>
                    </a:lnTo>
                    <a:lnTo>
                      <a:pt x="879" y="57"/>
                    </a:lnTo>
                    <a:lnTo>
                      <a:pt x="950" y="46"/>
                    </a:lnTo>
                    <a:lnTo>
                      <a:pt x="1025" y="36"/>
                    </a:lnTo>
                    <a:lnTo>
                      <a:pt x="1101" y="28"/>
                    </a:lnTo>
                    <a:lnTo>
                      <a:pt x="1180" y="20"/>
                    </a:lnTo>
                    <a:lnTo>
                      <a:pt x="1259" y="14"/>
                    </a:lnTo>
                    <a:lnTo>
                      <a:pt x="1340" y="9"/>
                    </a:lnTo>
                    <a:lnTo>
                      <a:pt x="1423" y="5"/>
                    </a:lnTo>
                    <a:lnTo>
                      <a:pt x="1507" y="2"/>
                    </a:lnTo>
                    <a:lnTo>
                      <a:pt x="1593" y="0"/>
                    </a:lnTo>
                    <a:lnTo>
                      <a:pt x="1678" y="0"/>
                    </a:lnTo>
                    <a:lnTo>
                      <a:pt x="1765" y="0"/>
                    </a:lnTo>
                    <a:lnTo>
                      <a:pt x="1850" y="2"/>
                    </a:lnTo>
                    <a:lnTo>
                      <a:pt x="1934" y="5"/>
                    </a:lnTo>
                    <a:lnTo>
                      <a:pt x="2017" y="9"/>
                    </a:lnTo>
                    <a:lnTo>
                      <a:pt x="2099" y="14"/>
                    </a:lnTo>
                    <a:lnTo>
                      <a:pt x="2177" y="20"/>
                    </a:lnTo>
                    <a:lnTo>
                      <a:pt x="2256" y="28"/>
                    </a:lnTo>
                    <a:lnTo>
                      <a:pt x="2332" y="36"/>
                    </a:lnTo>
                    <a:lnTo>
                      <a:pt x="2407" y="46"/>
                    </a:lnTo>
                    <a:lnTo>
                      <a:pt x="2478" y="57"/>
                    </a:lnTo>
                    <a:lnTo>
                      <a:pt x="2549" y="68"/>
                    </a:lnTo>
                    <a:lnTo>
                      <a:pt x="2618" y="80"/>
                    </a:lnTo>
                    <a:lnTo>
                      <a:pt x="2683" y="94"/>
                    </a:lnTo>
                    <a:lnTo>
                      <a:pt x="2747" y="108"/>
                    </a:lnTo>
                    <a:lnTo>
                      <a:pt x="2808" y="123"/>
                    </a:lnTo>
                    <a:lnTo>
                      <a:pt x="2866" y="138"/>
                    </a:lnTo>
                    <a:lnTo>
                      <a:pt x="2922" y="156"/>
                    </a:lnTo>
                    <a:lnTo>
                      <a:pt x="2974" y="173"/>
                    </a:lnTo>
                    <a:lnTo>
                      <a:pt x="3024" y="191"/>
                    </a:lnTo>
                    <a:lnTo>
                      <a:pt x="3071" y="210"/>
                    </a:lnTo>
                    <a:lnTo>
                      <a:pt x="3115" y="230"/>
                    </a:lnTo>
                    <a:lnTo>
                      <a:pt x="3155" y="250"/>
                    </a:lnTo>
                    <a:lnTo>
                      <a:pt x="3192" y="272"/>
                    </a:lnTo>
                    <a:lnTo>
                      <a:pt x="3226" y="293"/>
                    </a:lnTo>
                    <a:lnTo>
                      <a:pt x="3256" y="316"/>
                    </a:lnTo>
                    <a:lnTo>
                      <a:pt x="3282" y="338"/>
                    </a:lnTo>
                    <a:lnTo>
                      <a:pt x="3304" y="362"/>
                    </a:lnTo>
                    <a:lnTo>
                      <a:pt x="3324" y="386"/>
                    </a:lnTo>
                    <a:lnTo>
                      <a:pt x="3338" y="411"/>
                    </a:lnTo>
                    <a:lnTo>
                      <a:pt x="3349" y="435"/>
                    </a:lnTo>
                    <a:lnTo>
                      <a:pt x="3355" y="461"/>
                    </a:lnTo>
                    <a:lnTo>
                      <a:pt x="3358" y="4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104920" y="6518880"/>
                <a:ext cx="370440" cy="118080"/>
              </a:xfrm>
              <a:custGeom>
                <a:avLst/>
                <a:gdLst/>
                <a:ahLst/>
                <a:rect l="l" t="t" r="r" b="b"/>
                <a:pathLst>
                  <a:path w="3355" h="991">
                    <a:moveTo>
                      <a:pt x="3355" y="487"/>
                    </a:moveTo>
                    <a:lnTo>
                      <a:pt x="3353" y="513"/>
                    </a:lnTo>
                    <a:lnTo>
                      <a:pt x="3347" y="539"/>
                    </a:lnTo>
                    <a:lnTo>
                      <a:pt x="3336" y="564"/>
                    </a:lnTo>
                    <a:lnTo>
                      <a:pt x="3321" y="589"/>
                    </a:lnTo>
                    <a:lnTo>
                      <a:pt x="3302" y="613"/>
                    </a:lnTo>
                    <a:lnTo>
                      <a:pt x="3279" y="637"/>
                    </a:lnTo>
                    <a:lnTo>
                      <a:pt x="3253" y="660"/>
                    </a:lnTo>
                    <a:lnTo>
                      <a:pt x="3224" y="683"/>
                    </a:lnTo>
                    <a:lnTo>
                      <a:pt x="3189" y="706"/>
                    </a:lnTo>
                    <a:lnTo>
                      <a:pt x="3153" y="727"/>
                    </a:lnTo>
                    <a:lnTo>
                      <a:pt x="3113" y="748"/>
                    </a:lnTo>
                    <a:lnTo>
                      <a:pt x="3068" y="769"/>
                    </a:lnTo>
                    <a:lnTo>
                      <a:pt x="3022" y="788"/>
                    </a:lnTo>
                    <a:lnTo>
                      <a:pt x="2972" y="808"/>
                    </a:lnTo>
                    <a:lnTo>
                      <a:pt x="2920" y="826"/>
                    </a:lnTo>
                    <a:lnTo>
                      <a:pt x="2864" y="844"/>
                    </a:lnTo>
                    <a:lnTo>
                      <a:pt x="2806" y="860"/>
                    </a:lnTo>
                    <a:lnTo>
                      <a:pt x="2745" y="876"/>
                    </a:lnTo>
                    <a:lnTo>
                      <a:pt x="2681" y="891"/>
                    </a:lnTo>
                    <a:lnTo>
                      <a:pt x="2616" y="906"/>
                    </a:lnTo>
                    <a:lnTo>
                      <a:pt x="2547" y="919"/>
                    </a:lnTo>
                    <a:lnTo>
                      <a:pt x="2477" y="931"/>
                    </a:lnTo>
                    <a:lnTo>
                      <a:pt x="2405" y="942"/>
                    </a:lnTo>
                    <a:lnTo>
                      <a:pt x="2331" y="952"/>
                    </a:lnTo>
                    <a:lnTo>
                      <a:pt x="2254" y="961"/>
                    </a:lnTo>
                    <a:lnTo>
                      <a:pt x="2176" y="968"/>
                    </a:lnTo>
                    <a:lnTo>
                      <a:pt x="2097" y="975"/>
                    </a:lnTo>
                    <a:lnTo>
                      <a:pt x="2016" y="981"/>
                    </a:lnTo>
                    <a:lnTo>
                      <a:pt x="1933" y="985"/>
                    </a:lnTo>
                    <a:lnTo>
                      <a:pt x="1849" y="988"/>
                    </a:lnTo>
                    <a:lnTo>
                      <a:pt x="1764" y="990"/>
                    </a:lnTo>
                    <a:lnTo>
                      <a:pt x="1677" y="991"/>
                    </a:lnTo>
                    <a:lnTo>
                      <a:pt x="1592" y="990"/>
                    </a:lnTo>
                    <a:lnTo>
                      <a:pt x="1506" y="988"/>
                    </a:lnTo>
                    <a:lnTo>
                      <a:pt x="1422" y="985"/>
                    </a:lnTo>
                    <a:lnTo>
                      <a:pt x="1339" y="981"/>
                    </a:lnTo>
                    <a:lnTo>
                      <a:pt x="1258" y="975"/>
                    </a:lnTo>
                    <a:lnTo>
                      <a:pt x="1179" y="968"/>
                    </a:lnTo>
                    <a:lnTo>
                      <a:pt x="1101" y="961"/>
                    </a:lnTo>
                    <a:lnTo>
                      <a:pt x="1025" y="952"/>
                    </a:lnTo>
                    <a:lnTo>
                      <a:pt x="950" y="942"/>
                    </a:lnTo>
                    <a:lnTo>
                      <a:pt x="878" y="931"/>
                    </a:lnTo>
                    <a:lnTo>
                      <a:pt x="808" y="919"/>
                    </a:lnTo>
                    <a:lnTo>
                      <a:pt x="739" y="906"/>
                    </a:lnTo>
                    <a:lnTo>
                      <a:pt x="674" y="891"/>
                    </a:lnTo>
                    <a:lnTo>
                      <a:pt x="610" y="876"/>
                    </a:lnTo>
                    <a:lnTo>
                      <a:pt x="549" y="860"/>
                    </a:lnTo>
                    <a:lnTo>
                      <a:pt x="492" y="844"/>
                    </a:lnTo>
                    <a:lnTo>
                      <a:pt x="436" y="826"/>
                    </a:lnTo>
                    <a:lnTo>
                      <a:pt x="383" y="808"/>
                    </a:lnTo>
                    <a:lnTo>
                      <a:pt x="333" y="788"/>
                    </a:lnTo>
                    <a:lnTo>
                      <a:pt x="287" y="769"/>
                    </a:lnTo>
                    <a:lnTo>
                      <a:pt x="242" y="748"/>
                    </a:lnTo>
                    <a:lnTo>
                      <a:pt x="202" y="727"/>
                    </a:lnTo>
                    <a:lnTo>
                      <a:pt x="166" y="706"/>
                    </a:lnTo>
                    <a:lnTo>
                      <a:pt x="132" y="683"/>
                    </a:lnTo>
                    <a:lnTo>
                      <a:pt x="102" y="660"/>
                    </a:lnTo>
                    <a:lnTo>
                      <a:pt x="76" y="637"/>
                    </a:lnTo>
                    <a:lnTo>
                      <a:pt x="52" y="613"/>
                    </a:lnTo>
                    <a:lnTo>
                      <a:pt x="34" y="589"/>
                    </a:lnTo>
                    <a:lnTo>
                      <a:pt x="19" y="564"/>
                    </a:lnTo>
                    <a:lnTo>
                      <a:pt x="9" y="539"/>
                    </a:lnTo>
                    <a:lnTo>
                      <a:pt x="2" y="513"/>
                    </a:lnTo>
                    <a:lnTo>
                      <a:pt x="0" y="487"/>
                    </a:lnTo>
                    <a:lnTo>
                      <a:pt x="2" y="461"/>
                    </a:lnTo>
                    <a:lnTo>
                      <a:pt x="9" y="436"/>
                    </a:lnTo>
                    <a:lnTo>
                      <a:pt x="19" y="411"/>
                    </a:lnTo>
                    <a:lnTo>
                      <a:pt x="34" y="387"/>
                    </a:lnTo>
                    <a:lnTo>
                      <a:pt x="52" y="362"/>
                    </a:lnTo>
                    <a:lnTo>
                      <a:pt x="76" y="339"/>
                    </a:lnTo>
                    <a:lnTo>
                      <a:pt x="102" y="316"/>
                    </a:lnTo>
                    <a:lnTo>
                      <a:pt x="132" y="294"/>
                    </a:lnTo>
                    <a:lnTo>
                      <a:pt x="166" y="272"/>
                    </a:lnTo>
                    <a:lnTo>
                      <a:pt x="202" y="250"/>
                    </a:lnTo>
                    <a:lnTo>
                      <a:pt x="242" y="230"/>
                    </a:lnTo>
                    <a:lnTo>
                      <a:pt x="287" y="211"/>
                    </a:lnTo>
                    <a:lnTo>
                      <a:pt x="333" y="192"/>
                    </a:lnTo>
                    <a:lnTo>
                      <a:pt x="383" y="174"/>
                    </a:lnTo>
                    <a:lnTo>
                      <a:pt x="436" y="157"/>
                    </a:lnTo>
                    <a:lnTo>
                      <a:pt x="492" y="139"/>
                    </a:lnTo>
                    <a:lnTo>
                      <a:pt x="549" y="123"/>
                    </a:lnTo>
                    <a:lnTo>
                      <a:pt x="610" y="108"/>
                    </a:lnTo>
                    <a:lnTo>
                      <a:pt x="674" y="94"/>
                    </a:lnTo>
                    <a:lnTo>
                      <a:pt x="739" y="81"/>
                    </a:lnTo>
                    <a:lnTo>
                      <a:pt x="808" y="69"/>
                    </a:lnTo>
                    <a:lnTo>
                      <a:pt x="878" y="58"/>
                    </a:lnTo>
                    <a:lnTo>
                      <a:pt x="950" y="47"/>
                    </a:lnTo>
                    <a:lnTo>
                      <a:pt x="1025" y="37"/>
                    </a:lnTo>
                    <a:lnTo>
                      <a:pt x="1101" y="29"/>
                    </a:lnTo>
                    <a:lnTo>
                      <a:pt x="1179" y="21"/>
                    </a:lnTo>
                    <a:lnTo>
                      <a:pt x="1258" y="15"/>
                    </a:lnTo>
                    <a:lnTo>
                      <a:pt x="1339" y="10"/>
                    </a:lnTo>
                    <a:lnTo>
                      <a:pt x="1422" y="6"/>
                    </a:lnTo>
                    <a:lnTo>
                      <a:pt x="1506" y="3"/>
                    </a:lnTo>
                    <a:lnTo>
                      <a:pt x="1592" y="1"/>
                    </a:lnTo>
                    <a:lnTo>
                      <a:pt x="1677" y="0"/>
                    </a:lnTo>
                    <a:lnTo>
                      <a:pt x="1764" y="1"/>
                    </a:lnTo>
                    <a:lnTo>
                      <a:pt x="1849" y="3"/>
                    </a:lnTo>
                    <a:lnTo>
                      <a:pt x="1933" y="6"/>
                    </a:lnTo>
                    <a:lnTo>
                      <a:pt x="2016" y="10"/>
                    </a:lnTo>
                    <a:lnTo>
                      <a:pt x="2097" y="15"/>
                    </a:lnTo>
                    <a:lnTo>
                      <a:pt x="2176" y="21"/>
                    </a:lnTo>
                    <a:lnTo>
                      <a:pt x="2254" y="29"/>
                    </a:lnTo>
                    <a:lnTo>
                      <a:pt x="2331" y="37"/>
                    </a:lnTo>
                    <a:lnTo>
                      <a:pt x="2405" y="47"/>
                    </a:lnTo>
                    <a:lnTo>
                      <a:pt x="2477" y="58"/>
                    </a:lnTo>
                    <a:lnTo>
                      <a:pt x="2547" y="69"/>
                    </a:lnTo>
                    <a:lnTo>
                      <a:pt x="2616" y="81"/>
                    </a:lnTo>
                    <a:lnTo>
                      <a:pt x="2681" y="94"/>
                    </a:lnTo>
                    <a:lnTo>
                      <a:pt x="2745" y="108"/>
                    </a:lnTo>
                    <a:lnTo>
                      <a:pt x="2806" y="123"/>
                    </a:lnTo>
                    <a:lnTo>
                      <a:pt x="2864" y="139"/>
                    </a:lnTo>
                    <a:lnTo>
                      <a:pt x="2920" y="157"/>
                    </a:lnTo>
                    <a:lnTo>
                      <a:pt x="2972" y="174"/>
                    </a:lnTo>
                    <a:lnTo>
                      <a:pt x="3022" y="192"/>
                    </a:lnTo>
                    <a:lnTo>
                      <a:pt x="3068" y="211"/>
                    </a:lnTo>
                    <a:lnTo>
                      <a:pt x="3113" y="230"/>
                    </a:lnTo>
                    <a:lnTo>
                      <a:pt x="3153" y="250"/>
                    </a:lnTo>
                    <a:lnTo>
                      <a:pt x="3189" y="272"/>
                    </a:lnTo>
                    <a:lnTo>
                      <a:pt x="3224" y="294"/>
                    </a:lnTo>
                    <a:lnTo>
                      <a:pt x="3253" y="316"/>
                    </a:lnTo>
                    <a:lnTo>
                      <a:pt x="3279" y="339"/>
                    </a:lnTo>
                    <a:lnTo>
                      <a:pt x="3302" y="362"/>
                    </a:lnTo>
                    <a:lnTo>
                      <a:pt x="3321" y="387"/>
                    </a:lnTo>
                    <a:lnTo>
                      <a:pt x="3336" y="411"/>
                    </a:lnTo>
                    <a:lnTo>
                      <a:pt x="3347" y="436"/>
                    </a:lnTo>
                    <a:lnTo>
                      <a:pt x="3353" y="461"/>
                    </a:lnTo>
                    <a:lnTo>
                      <a:pt x="3355" y="4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106000" y="6518880"/>
                <a:ext cx="369000" cy="118080"/>
              </a:xfrm>
              <a:custGeom>
                <a:avLst/>
                <a:gdLst/>
                <a:ahLst/>
                <a:rect l="l" t="t" r="r" b="b"/>
                <a:pathLst>
                  <a:path w="3353" h="989">
                    <a:moveTo>
                      <a:pt x="3353" y="486"/>
                    </a:moveTo>
                    <a:lnTo>
                      <a:pt x="3350" y="512"/>
                    </a:lnTo>
                    <a:lnTo>
                      <a:pt x="3344" y="537"/>
                    </a:lnTo>
                    <a:lnTo>
                      <a:pt x="3334" y="562"/>
                    </a:lnTo>
                    <a:lnTo>
                      <a:pt x="3319" y="588"/>
                    </a:lnTo>
                    <a:lnTo>
                      <a:pt x="3299" y="612"/>
                    </a:lnTo>
                    <a:lnTo>
                      <a:pt x="3277" y="636"/>
                    </a:lnTo>
                    <a:lnTo>
                      <a:pt x="3251" y="659"/>
                    </a:lnTo>
                    <a:lnTo>
                      <a:pt x="3221" y="681"/>
                    </a:lnTo>
                    <a:lnTo>
                      <a:pt x="3187" y="705"/>
                    </a:lnTo>
                    <a:lnTo>
                      <a:pt x="3150" y="726"/>
                    </a:lnTo>
                    <a:lnTo>
                      <a:pt x="3110" y="747"/>
                    </a:lnTo>
                    <a:lnTo>
                      <a:pt x="3066" y="767"/>
                    </a:lnTo>
                    <a:lnTo>
                      <a:pt x="3020" y="787"/>
                    </a:lnTo>
                    <a:lnTo>
                      <a:pt x="2970" y="807"/>
                    </a:lnTo>
                    <a:lnTo>
                      <a:pt x="2918" y="825"/>
                    </a:lnTo>
                    <a:lnTo>
                      <a:pt x="2862" y="842"/>
                    </a:lnTo>
                    <a:lnTo>
                      <a:pt x="2804" y="858"/>
                    </a:lnTo>
                    <a:lnTo>
                      <a:pt x="2743" y="874"/>
                    </a:lnTo>
                    <a:lnTo>
                      <a:pt x="2679" y="889"/>
                    </a:lnTo>
                    <a:lnTo>
                      <a:pt x="2614" y="904"/>
                    </a:lnTo>
                    <a:lnTo>
                      <a:pt x="2546" y="917"/>
                    </a:lnTo>
                    <a:lnTo>
                      <a:pt x="2475" y="929"/>
                    </a:lnTo>
                    <a:lnTo>
                      <a:pt x="2404" y="940"/>
                    </a:lnTo>
                    <a:lnTo>
                      <a:pt x="2329" y="950"/>
                    </a:lnTo>
                    <a:lnTo>
                      <a:pt x="2253" y="959"/>
                    </a:lnTo>
                    <a:lnTo>
                      <a:pt x="2175" y="967"/>
                    </a:lnTo>
                    <a:lnTo>
                      <a:pt x="2096" y="973"/>
                    </a:lnTo>
                    <a:lnTo>
                      <a:pt x="2015" y="979"/>
                    </a:lnTo>
                    <a:lnTo>
                      <a:pt x="1932" y="983"/>
                    </a:lnTo>
                    <a:lnTo>
                      <a:pt x="1848" y="986"/>
                    </a:lnTo>
                    <a:lnTo>
                      <a:pt x="1762" y="988"/>
                    </a:lnTo>
                    <a:lnTo>
                      <a:pt x="1676" y="989"/>
                    </a:lnTo>
                    <a:lnTo>
                      <a:pt x="1591" y="988"/>
                    </a:lnTo>
                    <a:lnTo>
                      <a:pt x="1505" y="986"/>
                    </a:lnTo>
                    <a:lnTo>
                      <a:pt x="1421" y="983"/>
                    </a:lnTo>
                    <a:lnTo>
                      <a:pt x="1339" y="979"/>
                    </a:lnTo>
                    <a:lnTo>
                      <a:pt x="1257" y="973"/>
                    </a:lnTo>
                    <a:lnTo>
                      <a:pt x="1179" y="967"/>
                    </a:lnTo>
                    <a:lnTo>
                      <a:pt x="1100" y="959"/>
                    </a:lnTo>
                    <a:lnTo>
                      <a:pt x="1024" y="950"/>
                    </a:lnTo>
                    <a:lnTo>
                      <a:pt x="950" y="940"/>
                    </a:lnTo>
                    <a:lnTo>
                      <a:pt x="878" y="929"/>
                    </a:lnTo>
                    <a:lnTo>
                      <a:pt x="807" y="917"/>
                    </a:lnTo>
                    <a:lnTo>
                      <a:pt x="739" y="904"/>
                    </a:lnTo>
                    <a:lnTo>
                      <a:pt x="674" y="889"/>
                    </a:lnTo>
                    <a:lnTo>
                      <a:pt x="610" y="874"/>
                    </a:lnTo>
                    <a:lnTo>
                      <a:pt x="549" y="858"/>
                    </a:lnTo>
                    <a:lnTo>
                      <a:pt x="492" y="842"/>
                    </a:lnTo>
                    <a:lnTo>
                      <a:pt x="436" y="825"/>
                    </a:lnTo>
                    <a:lnTo>
                      <a:pt x="383" y="807"/>
                    </a:lnTo>
                    <a:lnTo>
                      <a:pt x="333" y="787"/>
                    </a:lnTo>
                    <a:lnTo>
                      <a:pt x="287" y="767"/>
                    </a:lnTo>
                    <a:lnTo>
                      <a:pt x="243" y="747"/>
                    </a:lnTo>
                    <a:lnTo>
                      <a:pt x="203" y="726"/>
                    </a:lnTo>
                    <a:lnTo>
                      <a:pt x="166" y="705"/>
                    </a:lnTo>
                    <a:lnTo>
                      <a:pt x="132" y="681"/>
                    </a:lnTo>
                    <a:lnTo>
                      <a:pt x="102" y="659"/>
                    </a:lnTo>
                    <a:lnTo>
                      <a:pt x="76" y="636"/>
                    </a:lnTo>
                    <a:lnTo>
                      <a:pt x="53" y="612"/>
                    </a:lnTo>
                    <a:lnTo>
                      <a:pt x="34" y="588"/>
                    </a:lnTo>
                    <a:lnTo>
                      <a:pt x="20" y="562"/>
                    </a:lnTo>
                    <a:lnTo>
                      <a:pt x="9" y="537"/>
                    </a:lnTo>
                    <a:lnTo>
                      <a:pt x="3" y="512"/>
                    </a:lnTo>
                    <a:lnTo>
                      <a:pt x="0" y="486"/>
                    </a:lnTo>
                    <a:lnTo>
                      <a:pt x="3" y="460"/>
                    </a:lnTo>
                    <a:lnTo>
                      <a:pt x="9" y="435"/>
                    </a:lnTo>
                    <a:lnTo>
                      <a:pt x="20" y="410"/>
                    </a:lnTo>
                    <a:lnTo>
                      <a:pt x="34" y="386"/>
                    </a:lnTo>
                    <a:lnTo>
                      <a:pt x="53" y="361"/>
                    </a:lnTo>
                    <a:lnTo>
                      <a:pt x="76" y="338"/>
                    </a:lnTo>
                    <a:lnTo>
                      <a:pt x="102" y="315"/>
                    </a:lnTo>
                    <a:lnTo>
                      <a:pt x="132" y="293"/>
                    </a:lnTo>
                    <a:lnTo>
                      <a:pt x="166" y="272"/>
                    </a:lnTo>
                    <a:lnTo>
                      <a:pt x="203" y="250"/>
                    </a:lnTo>
                    <a:lnTo>
                      <a:pt x="243" y="230"/>
                    </a:lnTo>
                    <a:lnTo>
                      <a:pt x="287" y="210"/>
                    </a:lnTo>
                    <a:lnTo>
                      <a:pt x="333" y="191"/>
                    </a:lnTo>
                    <a:lnTo>
                      <a:pt x="383" y="173"/>
                    </a:lnTo>
                    <a:lnTo>
                      <a:pt x="436" y="156"/>
                    </a:lnTo>
                    <a:lnTo>
                      <a:pt x="492" y="139"/>
                    </a:lnTo>
                    <a:lnTo>
                      <a:pt x="549" y="123"/>
                    </a:lnTo>
                    <a:lnTo>
                      <a:pt x="610" y="108"/>
                    </a:lnTo>
                    <a:lnTo>
                      <a:pt x="674" y="94"/>
                    </a:lnTo>
                    <a:lnTo>
                      <a:pt x="739" y="81"/>
                    </a:lnTo>
                    <a:lnTo>
                      <a:pt x="807" y="69"/>
                    </a:lnTo>
                    <a:lnTo>
                      <a:pt x="878" y="58"/>
                    </a:lnTo>
                    <a:lnTo>
                      <a:pt x="950" y="47"/>
                    </a:lnTo>
                    <a:lnTo>
                      <a:pt x="1024" y="37"/>
                    </a:lnTo>
                    <a:lnTo>
                      <a:pt x="1100" y="28"/>
                    </a:lnTo>
                    <a:lnTo>
                      <a:pt x="1179" y="21"/>
                    </a:lnTo>
                    <a:lnTo>
                      <a:pt x="1257" y="15"/>
                    </a:lnTo>
                    <a:lnTo>
                      <a:pt x="1339" y="10"/>
                    </a:lnTo>
                    <a:lnTo>
                      <a:pt x="1421" y="6"/>
                    </a:lnTo>
                    <a:lnTo>
                      <a:pt x="1505" y="3"/>
                    </a:lnTo>
                    <a:lnTo>
                      <a:pt x="1591" y="1"/>
                    </a:lnTo>
                    <a:lnTo>
                      <a:pt x="1676" y="0"/>
                    </a:lnTo>
                    <a:lnTo>
                      <a:pt x="1762" y="1"/>
                    </a:lnTo>
                    <a:lnTo>
                      <a:pt x="1848" y="3"/>
                    </a:lnTo>
                    <a:lnTo>
                      <a:pt x="1932" y="6"/>
                    </a:lnTo>
                    <a:lnTo>
                      <a:pt x="2015" y="10"/>
                    </a:lnTo>
                    <a:lnTo>
                      <a:pt x="2096" y="15"/>
                    </a:lnTo>
                    <a:lnTo>
                      <a:pt x="2175" y="21"/>
                    </a:lnTo>
                    <a:lnTo>
                      <a:pt x="2253" y="28"/>
                    </a:lnTo>
                    <a:lnTo>
                      <a:pt x="2329" y="37"/>
                    </a:lnTo>
                    <a:lnTo>
                      <a:pt x="2404" y="47"/>
                    </a:lnTo>
                    <a:lnTo>
                      <a:pt x="2475" y="58"/>
                    </a:lnTo>
                    <a:lnTo>
                      <a:pt x="2546" y="69"/>
                    </a:lnTo>
                    <a:lnTo>
                      <a:pt x="2614" y="81"/>
                    </a:lnTo>
                    <a:lnTo>
                      <a:pt x="2679" y="94"/>
                    </a:lnTo>
                    <a:lnTo>
                      <a:pt x="2743" y="108"/>
                    </a:lnTo>
                    <a:lnTo>
                      <a:pt x="2804" y="123"/>
                    </a:lnTo>
                    <a:lnTo>
                      <a:pt x="2862" y="139"/>
                    </a:lnTo>
                    <a:lnTo>
                      <a:pt x="2918" y="156"/>
                    </a:lnTo>
                    <a:lnTo>
                      <a:pt x="2970" y="173"/>
                    </a:lnTo>
                    <a:lnTo>
                      <a:pt x="3020" y="191"/>
                    </a:lnTo>
                    <a:lnTo>
                      <a:pt x="3066" y="210"/>
                    </a:lnTo>
                    <a:lnTo>
                      <a:pt x="3110" y="230"/>
                    </a:lnTo>
                    <a:lnTo>
                      <a:pt x="3150" y="250"/>
                    </a:lnTo>
                    <a:lnTo>
                      <a:pt x="3187" y="272"/>
                    </a:lnTo>
                    <a:lnTo>
                      <a:pt x="3221" y="293"/>
                    </a:lnTo>
                    <a:lnTo>
                      <a:pt x="3251" y="315"/>
                    </a:lnTo>
                    <a:lnTo>
                      <a:pt x="3277" y="338"/>
                    </a:lnTo>
                    <a:lnTo>
                      <a:pt x="3299" y="361"/>
                    </a:lnTo>
                    <a:lnTo>
                      <a:pt x="3319" y="386"/>
                    </a:lnTo>
                    <a:lnTo>
                      <a:pt x="3334" y="410"/>
                    </a:lnTo>
                    <a:lnTo>
                      <a:pt x="3344" y="435"/>
                    </a:lnTo>
                    <a:lnTo>
                      <a:pt x="3350" y="460"/>
                    </a:lnTo>
                    <a:lnTo>
                      <a:pt x="3353" y="4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106000" y="6518880"/>
                <a:ext cx="369000" cy="118080"/>
              </a:xfrm>
              <a:custGeom>
                <a:avLst/>
                <a:gdLst/>
                <a:ahLst/>
                <a:rect l="l" t="t" r="r" b="b"/>
                <a:pathLst>
                  <a:path w="3349" h="987">
                    <a:moveTo>
                      <a:pt x="3349" y="485"/>
                    </a:moveTo>
                    <a:lnTo>
                      <a:pt x="3347" y="511"/>
                    </a:lnTo>
                    <a:lnTo>
                      <a:pt x="3341" y="536"/>
                    </a:lnTo>
                    <a:lnTo>
                      <a:pt x="3330" y="561"/>
                    </a:lnTo>
                    <a:lnTo>
                      <a:pt x="3316" y="587"/>
                    </a:lnTo>
                    <a:lnTo>
                      <a:pt x="3296" y="611"/>
                    </a:lnTo>
                    <a:lnTo>
                      <a:pt x="3274" y="634"/>
                    </a:lnTo>
                    <a:lnTo>
                      <a:pt x="3248" y="658"/>
                    </a:lnTo>
                    <a:lnTo>
                      <a:pt x="3218" y="680"/>
                    </a:lnTo>
                    <a:lnTo>
                      <a:pt x="3184" y="703"/>
                    </a:lnTo>
                    <a:lnTo>
                      <a:pt x="3147" y="725"/>
                    </a:lnTo>
                    <a:lnTo>
                      <a:pt x="3107" y="745"/>
                    </a:lnTo>
                    <a:lnTo>
                      <a:pt x="3063" y="766"/>
                    </a:lnTo>
                    <a:lnTo>
                      <a:pt x="3017" y="785"/>
                    </a:lnTo>
                    <a:lnTo>
                      <a:pt x="2967" y="805"/>
                    </a:lnTo>
                    <a:lnTo>
                      <a:pt x="2914" y="823"/>
                    </a:lnTo>
                    <a:lnTo>
                      <a:pt x="2859" y="840"/>
                    </a:lnTo>
                    <a:lnTo>
                      <a:pt x="2801" y="857"/>
                    </a:lnTo>
                    <a:lnTo>
                      <a:pt x="2740" y="872"/>
                    </a:lnTo>
                    <a:lnTo>
                      <a:pt x="2676" y="887"/>
                    </a:lnTo>
                    <a:lnTo>
                      <a:pt x="2611" y="902"/>
                    </a:lnTo>
                    <a:lnTo>
                      <a:pt x="2543" y="915"/>
                    </a:lnTo>
                    <a:lnTo>
                      <a:pt x="2472" y="927"/>
                    </a:lnTo>
                    <a:lnTo>
                      <a:pt x="2401" y="938"/>
                    </a:lnTo>
                    <a:lnTo>
                      <a:pt x="2327" y="948"/>
                    </a:lnTo>
                    <a:lnTo>
                      <a:pt x="2250" y="957"/>
                    </a:lnTo>
                    <a:lnTo>
                      <a:pt x="2172" y="965"/>
                    </a:lnTo>
                    <a:lnTo>
                      <a:pt x="2093" y="971"/>
                    </a:lnTo>
                    <a:lnTo>
                      <a:pt x="2012" y="977"/>
                    </a:lnTo>
                    <a:lnTo>
                      <a:pt x="1930" y="981"/>
                    </a:lnTo>
                    <a:lnTo>
                      <a:pt x="1846" y="984"/>
                    </a:lnTo>
                    <a:lnTo>
                      <a:pt x="1760" y="986"/>
                    </a:lnTo>
                    <a:lnTo>
                      <a:pt x="1674" y="987"/>
                    </a:lnTo>
                    <a:lnTo>
                      <a:pt x="1589" y="986"/>
                    </a:lnTo>
                    <a:lnTo>
                      <a:pt x="1504" y="984"/>
                    </a:lnTo>
                    <a:lnTo>
                      <a:pt x="1420" y="981"/>
                    </a:lnTo>
                    <a:lnTo>
                      <a:pt x="1337" y="977"/>
                    </a:lnTo>
                    <a:lnTo>
                      <a:pt x="1256" y="971"/>
                    </a:lnTo>
                    <a:lnTo>
                      <a:pt x="1177" y="965"/>
                    </a:lnTo>
                    <a:lnTo>
                      <a:pt x="1099" y="957"/>
                    </a:lnTo>
                    <a:lnTo>
                      <a:pt x="1023" y="948"/>
                    </a:lnTo>
                    <a:lnTo>
                      <a:pt x="948" y="938"/>
                    </a:lnTo>
                    <a:lnTo>
                      <a:pt x="877" y="927"/>
                    </a:lnTo>
                    <a:lnTo>
                      <a:pt x="806" y="915"/>
                    </a:lnTo>
                    <a:lnTo>
                      <a:pt x="738" y="902"/>
                    </a:lnTo>
                    <a:lnTo>
                      <a:pt x="673" y="887"/>
                    </a:lnTo>
                    <a:lnTo>
                      <a:pt x="609" y="872"/>
                    </a:lnTo>
                    <a:lnTo>
                      <a:pt x="548" y="857"/>
                    </a:lnTo>
                    <a:lnTo>
                      <a:pt x="491" y="840"/>
                    </a:lnTo>
                    <a:lnTo>
                      <a:pt x="435" y="823"/>
                    </a:lnTo>
                    <a:lnTo>
                      <a:pt x="383" y="805"/>
                    </a:lnTo>
                    <a:lnTo>
                      <a:pt x="332" y="785"/>
                    </a:lnTo>
                    <a:lnTo>
                      <a:pt x="286" y="766"/>
                    </a:lnTo>
                    <a:lnTo>
                      <a:pt x="242" y="745"/>
                    </a:lnTo>
                    <a:lnTo>
                      <a:pt x="202" y="725"/>
                    </a:lnTo>
                    <a:lnTo>
                      <a:pt x="165" y="703"/>
                    </a:lnTo>
                    <a:lnTo>
                      <a:pt x="131" y="680"/>
                    </a:lnTo>
                    <a:lnTo>
                      <a:pt x="101" y="658"/>
                    </a:lnTo>
                    <a:lnTo>
                      <a:pt x="75" y="634"/>
                    </a:lnTo>
                    <a:lnTo>
                      <a:pt x="53" y="611"/>
                    </a:lnTo>
                    <a:lnTo>
                      <a:pt x="34" y="587"/>
                    </a:lnTo>
                    <a:lnTo>
                      <a:pt x="19" y="561"/>
                    </a:lnTo>
                    <a:lnTo>
                      <a:pt x="8" y="536"/>
                    </a:lnTo>
                    <a:lnTo>
                      <a:pt x="2" y="511"/>
                    </a:lnTo>
                    <a:lnTo>
                      <a:pt x="0" y="485"/>
                    </a:lnTo>
                    <a:lnTo>
                      <a:pt x="2" y="459"/>
                    </a:lnTo>
                    <a:lnTo>
                      <a:pt x="8" y="434"/>
                    </a:lnTo>
                    <a:lnTo>
                      <a:pt x="19" y="409"/>
                    </a:lnTo>
                    <a:lnTo>
                      <a:pt x="34" y="385"/>
                    </a:lnTo>
                    <a:lnTo>
                      <a:pt x="53" y="360"/>
                    </a:lnTo>
                    <a:lnTo>
                      <a:pt x="75" y="337"/>
                    </a:lnTo>
                    <a:lnTo>
                      <a:pt x="101" y="314"/>
                    </a:lnTo>
                    <a:lnTo>
                      <a:pt x="131" y="292"/>
                    </a:lnTo>
                    <a:lnTo>
                      <a:pt x="165" y="271"/>
                    </a:lnTo>
                    <a:lnTo>
                      <a:pt x="202" y="249"/>
                    </a:lnTo>
                    <a:lnTo>
                      <a:pt x="242" y="229"/>
                    </a:lnTo>
                    <a:lnTo>
                      <a:pt x="286" y="210"/>
                    </a:lnTo>
                    <a:lnTo>
                      <a:pt x="332" y="191"/>
                    </a:lnTo>
                    <a:lnTo>
                      <a:pt x="383" y="173"/>
                    </a:lnTo>
                    <a:lnTo>
                      <a:pt x="435" y="156"/>
                    </a:lnTo>
                    <a:lnTo>
                      <a:pt x="491" y="138"/>
                    </a:lnTo>
                    <a:lnTo>
                      <a:pt x="548" y="123"/>
                    </a:lnTo>
                    <a:lnTo>
                      <a:pt x="609" y="108"/>
                    </a:lnTo>
                    <a:lnTo>
                      <a:pt x="673" y="94"/>
                    </a:lnTo>
                    <a:lnTo>
                      <a:pt x="738" y="81"/>
                    </a:lnTo>
                    <a:lnTo>
                      <a:pt x="806" y="69"/>
                    </a:lnTo>
                    <a:lnTo>
                      <a:pt x="877" y="57"/>
                    </a:lnTo>
                    <a:lnTo>
                      <a:pt x="948" y="47"/>
                    </a:lnTo>
                    <a:lnTo>
                      <a:pt x="1023" y="37"/>
                    </a:lnTo>
                    <a:lnTo>
                      <a:pt x="1099" y="28"/>
                    </a:lnTo>
                    <a:lnTo>
                      <a:pt x="1177" y="21"/>
                    </a:lnTo>
                    <a:lnTo>
                      <a:pt x="1256" y="15"/>
                    </a:lnTo>
                    <a:lnTo>
                      <a:pt x="1337" y="10"/>
                    </a:lnTo>
                    <a:lnTo>
                      <a:pt x="1420" y="6"/>
                    </a:lnTo>
                    <a:lnTo>
                      <a:pt x="1504" y="3"/>
                    </a:lnTo>
                    <a:lnTo>
                      <a:pt x="1589" y="1"/>
                    </a:lnTo>
                    <a:lnTo>
                      <a:pt x="1674" y="0"/>
                    </a:lnTo>
                    <a:lnTo>
                      <a:pt x="1760" y="1"/>
                    </a:lnTo>
                    <a:lnTo>
                      <a:pt x="1846" y="3"/>
                    </a:lnTo>
                    <a:lnTo>
                      <a:pt x="1930" y="6"/>
                    </a:lnTo>
                    <a:lnTo>
                      <a:pt x="2012" y="10"/>
                    </a:lnTo>
                    <a:lnTo>
                      <a:pt x="2093" y="15"/>
                    </a:lnTo>
                    <a:lnTo>
                      <a:pt x="2172" y="21"/>
                    </a:lnTo>
                    <a:lnTo>
                      <a:pt x="2250" y="28"/>
                    </a:lnTo>
                    <a:lnTo>
                      <a:pt x="2327" y="37"/>
                    </a:lnTo>
                    <a:lnTo>
                      <a:pt x="2401" y="47"/>
                    </a:lnTo>
                    <a:lnTo>
                      <a:pt x="2472" y="57"/>
                    </a:lnTo>
                    <a:lnTo>
                      <a:pt x="2543" y="69"/>
                    </a:lnTo>
                    <a:lnTo>
                      <a:pt x="2611" y="81"/>
                    </a:lnTo>
                    <a:lnTo>
                      <a:pt x="2676" y="94"/>
                    </a:lnTo>
                    <a:lnTo>
                      <a:pt x="2740" y="108"/>
                    </a:lnTo>
                    <a:lnTo>
                      <a:pt x="2801" y="123"/>
                    </a:lnTo>
                    <a:lnTo>
                      <a:pt x="2859" y="138"/>
                    </a:lnTo>
                    <a:lnTo>
                      <a:pt x="2914" y="156"/>
                    </a:lnTo>
                    <a:lnTo>
                      <a:pt x="2967" y="173"/>
                    </a:lnTo>
                    <a:lnTo>
                      <a:pt x="3017" y="191"/>
                    </a:lnTo>
                    <a:lnTo>
                      <a:pt x="3063" y="210"/>
                    </a:lnTo>
                    <a:lnTo>
                      <a:pt x="3107" y="229"/>
                    </a:lnTo>
                    <a:lnTo>
                      <a:pt x="3147" y="249"/>
                    </a:lnTo>
                    <a:lnTo>
                      <a:pt x="3184" y="271"/>
                    </a:lnTo>
                    <a:lnTo>
                      <a:pt x="3218" y="292"/>
                    </a:lnTo>
                    <a:lnTo>
                      <a:pt x="3248" y="314"/>
                    </a:lnTo>
                    <a:lnTo>
                      <a:pt x="3274" y="337"/>
                    </a:lnTo>
                    <a:lnTo>
                      <a:pt x="3296" y="360"/>
                    </a:lnTo>
                    <a:lnTo>
                      <a:pt x="3316" y="385"/>
                    </a:lnTo>
                    <a:lnTo>
                      <a:pt x="3330" y="409"/>
                    </a:lnTo>
                    <a:lnTo>
                      <a:pt x="3341" y="434"/>
                    </a:lnTo>
                    <a:lnTo>
                      <a:pt x="3347" y="459"/>
                    </a:lnTo>
                    <a:lnTo>
                      <a:pt x="3349" y="4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106000" y="6518880"/>
                <a:ext cx="369000" cy="118080"/>
              </a:xfrm>
              <a:custGeom>
                <a:avLst/>
                <a:gdLst/>
                <a:ahLst/>
                <a:rect l="l" t="t" r="r" b="b"/>
                <a:pathLst>
                  <a:path w="3347" h="985">
                    <a:moveTo>
                      <a:pt x="3347" y="484"/>
                    </a:moveTo>
                    <a:lnTo>
                      <a:pt x="3345" y="510"/>
                    </a:lnTo>
                    <a:lnTo>
                      <a:pt x="3338" y="535"/>
                    </a:lnTo>
                    <a:lnTo>
                      <a:pt x="3328" y="560"/>
                    </a:lnTo>
                    <a:lnTo>
                      <a:pt x="3313" y="586"/>
                    </a:lnTo>
                    <a:lnTo>
                      <a:pt x="3294" y="610"/>
                    </a:lnTo>
                    <a:lnTo>
                      <a:pt x="3271" y="633"/>
                    </a:lnTo>
                    <a:lnTo>
                      <a:pt x="3245" y="656"/>
                    </a:lnTo>
                    <a:lnTo>
                      <a:pt x="3216" y="679"/>
                    </a:lnTo>
                    <a:lnTo>
                      <a:pt x="3181" y="702"/>
                    </a:lnTo>
                    <a:lnTo>
                      <a:pt x="3145" y="723"/>
                    </a:lnTo>
                    <a:lnTo>
                      <a:pt x="3105" y="744"/>
                    </a:lnTo>
                    <a:lnTo>
                      <a:pt x="3061" y="764"/>
                    </a:lnTo>
                    <a:lnTo>
                      <a:pt x="3015" y="784"/>
                    </a:lnTo>
                    <a:lnTo>
                      <a:pt x="2964" y="803"/>
                    </a:lnTo>
                    <a:lnTo>
                      <a:pt x="2912" y="821"/>
                    </a:lnTo>
                    <a:lnTo>
                      <a:pt x="2857" y="839"/>
                    </a:lnTo>
                    <a:lnTo>
                      <a:pt x="2799" y="855"/>
                    </a:lnTo>
                    <a:lnTo>
                      <a:pt x="2738" y="871"/>
                    </a:lnTo>
                    <a:lnTo>
                      <a:pt x="2674" y="885"/>
                    </a:lnTo>
                    <a:lnTo>
                      <a:pt x="2609" y="900"/>
                    </a:lnTo>
                    <a:lnTo>
                      <a:pt x="2541" y="913"/>
                    </a:lnTo>
                    <a:lnTo>
                      <a:pt x="2471" y="925"/>
                    </a:lnTo>
                    <a:lnTo>
                      <a:pt x="2399" y="936"/>
                    </a:lnTo>
                    <a:lnTo>
                      <a:pt x="2325" y="946"/>
                    </a:lnTo>
                    <a:lnTo>
                      <a:pt x="2249" y="955"/>
                    </a:lnTo>
                    <a:lnTo>
                      <a:pt x="2171" y="963"/>
                    </a:lnTo>
                    <a:lnTo>
                      <a:pt x="2092" y="969"/>
                    </a:lnTo>
                    <a:lnTo>
                      <a:pt x="2011" y="975"/>
                    </a:lnTo>
                    <a:lnTo>
                      <a:pt x="1928" y="979"/>
                    </a:lnTo>
                    <a:lnTo>
                      <a:pt x="1844" y="983"/>
                    </a:lnTo>
                    <a:lnTo>
                      <a:pt x="1759" y="984"/>
                    </a:lnTo>
                    <a:lnTo>
                      <a:pt x="1673" y="985"/>
                    </a:lnTo>
                    <a:lnTo>
                      <a:pt x="1588" y="984"/>
                    </a:lnTo>
                    <a:lnTo>
                      <a:pt x="1503" y="983"/>
                    </a:lnTo>
                    <a:lnTo>
                      <a:pt x="1419" y="979"/>
                    </a:lnTo>
                    <a:lnTo>
                      <a:pt x="1336" y="975"/>
                    </a:lnTo>
                    <a:lnTo>
                      <a:pt x="1255" y="969"/>
                    </a:lnTo>
                    <a:lnTo>
                      <a:pt x="1176" y="963"/>
                    </a:lnTo>
                    <a:lnTo>
                      <a:pt x="1098" y="955"/>
                    </a:lnTo>
                    <a:lnTo>
                      <a:pt x="1022" y="946"/>
                    </a:lnTo>
                    <a:lnTo>
                      <a:pt x="948" y="936"/>
                    </a:lnTo>
                    <a:lnTo>
                      <a:pt x="876" y="925"/>
                    </a:lnTo>
                    <a:lnTo>
                      <a:pt x="806" y="913"/>
                    </a:lnTo>
                    <a:lnTo>
                      <a:pt x="738" y="900"/>
                    </a:lnTo>
                    <a:lnTo>
                      <a:pt x="673" y="885"/>
                    </a:lnTo>
                    <a:lnTo>
                      <a:pt x="609" y="871"/>
                    </a:lnTo>
                    <a:lnTo>
                      <a:pt x="548" y="855"/>
                    </a:lnTo>
                    <a:lnTo>
                      <a:pt x="491" y="839"/>
                    </a:lnTo>
                    <a:lnTo>
                      <a:pt x="435" y="821"/>
                    </a:lnTo>
                    <a:lnTo>
                      <a:pt x="383" y="803"/>
                    </a:lnTo>
                    <a:lnTo>
                      <a:pt x="332" y="784"/>
                    </a:lnTo>
                    <a:lnTo>
                      <a:pt x="286" y="764"/>
                    </a:lnTo>
                    <a:lnTo>
                      <a:pt x="242" y="744"/>
                    </a:lnTo>
                    <a:lnTo>
                      <a:pt x="202" y="723"/>
                    </a:lnTo>
                    <a:lnTo>
                      <a:pt x="166" y="702"/>
                    </a:lnTo>
                    <a:lnTo>
                      <a:pt x="132" y="679"/>
                    </a:lnTo>
                    <a:lnTo>
                      <a:pt x="102" y="656"/>
                    </a:lnTo>
                    <a:lnTo>
                      <a:pt x="76" y="633"/>
                    </a:lnTo>
                    <a:lnTo>
                      <a:pt x="53" y="610"/>
                    </a:lnTo>
                    <a:lnTo>
                      <a:pt x="34" y="586"/>
                    </a:lnTo>
                    <a:lnTo>
                      <a:pt x="19" y="560"/>
                    </a:lnTo>
                    <a:lnTo>
                      <a:pt x="9" y="535"/>
                    </a:lnTo>
                    <a:lnTo>
                      <a:pt x="2" y="510"/>
                    </a:lnTo>
                    <a:lnTo>
                      <a:pt x="0" y="484"/>
                    </a:lnTo>
                    <a:lnTo>
                      <a:pt x="2" y="458"/>
                    </a:lnTo>
                    <a:lnTo>
                      <a:pt x="9" y="433"/>
                    </a:lnTo>
                    <a:lnTo>
                      <a:pt x="19" y="408"/>
                    </a:lnTo>
                    <a:lnTo>
                      <a:pt x="34" y="384"/>
                    </a:lnTo>
                    <a:lnTo>
                      <a:pt x="53" y="359"/>
                    </a:lnTo>
                    <a:lnTo>
                      <a:pt x="76" y="336"/>
                    </a:lnTo>
                    <a:lnTo>
                      <a:pt x="102" y="314"/>
                    </a:lnTo>
                    <a:lnTo>
                      <a:pt x="132" y="292"/>
                    </a:lnTo>
                    <a:lnTo>
                      <a:pt x="166" y="270"/>
                    </a:lnTo>
                    <a:lnTo>
                      <a:pt x="202" y="249"/>
                    </a:lnTo>
                    <a:lnTo>
                      <a:pt x="242" y="229"/>
                    </a:lnTo>
                    <a:lnTo>
                      <a:pt x="286" y="209"/>
                    </a:lnTo>
                    <a:lnTo>
                      <a:pt x="332" y="191"/>
                    </a:lnTo>
                    <a:lnTo>
                      <a:pt x="383" y="173"/>
                    </a:lnTo>
                    <a:lnTo>
                      <a:pt x="435" y="155"/>
                    </a:lnTo>
                    <a:lnTo>
                      <a:pt x="491" y="138"/>
                    </a:lnTo>
                    <a:lnTo>
                      <a:pt x="548" y="122"/>
                    </a:lnTo>
                    <a:lnTo>
                      <a:pt x="609" y="108"/>
                    </a:lnTo>
                    <a:lnTo>
                      <a:pt x="673" y="94"/>
                    </a:lnTo>
                    <a:lnTo>
                      <a:pt x="738" y="81"/>
                    </a:lnTo>
                    <a:lnTo>
                      <a:pt x="806" y="68"/>
                    </a:lnTo>
                    <a:lnTo>
                      <a:pt x="876" y="57"/>
                    </a:lnTo>
                    <a:lnTo>
                      <a:pt x="948" y="47"/>
                    </a:lnTo>
                    <a:lnTo>
                      <a:pt x="1022" y="37"/>
                    </a:lnTo>
                    <a:lnTo>
                      <a:pt x="1098" y="28"/>
                    </a:lnTo>
                    <a:lnTo>
                      <a:pt x="1176" y="21"/>
                    </a:lnTo>
                    <a:lnTo>
                      <a:pt x="1255" y="15"/>
                    </a:lnTo>
                    <a:lnTo>
                      <a:pt x="1336" y="10"/>
                    </a:lnTo>
                    <a:lnTo>
                      <a:pt x="1419" y="6"/>
                    </a:lnTo>
                    <a:lnTo>
                      <a:pt x="1503" y="3"/>
                    </a:lnTo>
                    <a:lnTo>
                      <a:pt x="1588" y="1"/>
                    </a:lnTo>
                    <a:lnTo>
                      <a:pt x="1673" y="0"/>
                    </a:lnTo>
                    <a:lnTo>
                      <a:pt x="1759" y="1"/>
                    </a:lnTo>
                    <a:lnTo>
                      <a:pt x="1844" y="3"/>
                    </a:lnTo>
                    <a:lnTo>
                      <a:pt x="1928" y="6"/>
                    </a:lnTo>
                    <a:lnTo>
                      <a:pt x="2011" y="10"/>
                    </a:lnTo>
                    <a:lnTo>
                      <a:pt x="2092" y="15"/>
                    </a:lnTo>
                    <a:lnTo>
                      <a:pt x="2171" y="21"/>
                    </a:lnTo>
                    <a:lnTo>
                      <a:pt x="2249" y="28"/>
                    </a:lnTo>
                    <a:lnTo>
                      <a:pt x="2325" y="37"/>
                    </a:lnTo>
                    <a:lnTo>
                      <a:pt x="2399" y="47"/>
                    </a:lnTo>
                    <a:lnTo>
                      <a:pt x="2471" y="57"/>
                    </a:lnTo>
                    <a:lnTo>
                      <a:pt x="2541" y="68"/>
                    </a:lnTo>
                    <a:lnTo>
                      <a:pt x="2609" y="81"/>
                    </a:lnTo>
                    <a:lnTo>
                      <a:pt x="2674" y="94"/>
                    </a:lnTo>
                    <a:lnTo>
                      <a:pt x="2738" y="108"/>
                    </a:lnTo>
                    <a:lnTo>
                      <a:pt x="2799" y="122"/>
                    </a:lnTo>
                    <a:lnTo>
                      <a:pt x="2857" y="138"/>
                    </a:lnTo>
                    <a:lnTo>
                      <a:pt x="2912" y="155"/>
                    </a:lnTo>
                    <a:lnTo>
                      <a:pt x="2964" y="173"/>
                    </a:lnTo>
                    <a:lnTo>
                      <a:pt x="3015" y="191"/>
                    </a:lnTo>
                    <a:lnTo>
                      <a:pt x="3061" y="209"/>
                    </a:lnTo>
                    <a:lnTo>
                      <a:pt x="3105" y="229"/>
                    </a:lnTo>
                    <a:lnTo>
                      <a:pt x="3145" y="249"/>
                    </a:lnTo>
                    <a:lnTo>
                      <a:pt x="3181" y="270"/>
                    </a:lnTo>
                    <a:lnTo>
                      <a:pt x="3216" y="292"/>
                    </a:lnTo>
                    <a:lnTo>
                      <a:pt x="3245" y="314"/>
                    </a:lnTo>
                    <a:lnTo>
                      <a:pt x="3271" y="336"/>
                    </a:lnTo>
                    <a:lnTo>
                      <a:pt x="3294" y="359"/>
                    </a:lnTo>
                    <a:lnTo>
                      <a:pt x="3313" y="384"/>
                    </a:lnTo>
                    <a:lnTo>
                      <a:pt x="3328" y="408"/>
                    </a:lnTo>
                    <a:lnTo>
                      <a:pt x="3338" y="433"/>
                    </a:lnTo>
                    <a:lnTo>
                      <a:pt x="3345" y="458"/>
                    </a:lnTo>
                    <a:lnTo>
                      <a:pt x="3347" y="4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106000" y="6518880"/>
                <a:ext cx="369000" cy="116640"/>
              </a:xfrm>
              <a:custGeom>
                <a:avLst/>
                <a:gdLst/>
                <a:ahLst/>
                <a:rect l="l" t="t" r="r" b="b"/>
                <a:pathLst>
                  <a:path w="3343" h="983">
                    <a:moveTo>
                      <a:pt x="3343" y="483"/>
                    </a:moveTo>
                    <a:lnTo>
                      <a:pt x="3341" y="509"/>
                    </a:lnTo>
                    <a:lnTo>
                      <a:pt x="3335" y="534"/>
                    </a:lnTo>
                    <a:lnTo>
                      <a:pt x="3324" y="559"/>
                    </a:lnTo>
                    <a:lnTo>
                      <a:pt x="3310" y="584"/>
                    </a:lnTo>
                    <a:lnTo>
                      <a:pt x="3290" y="608"/>
                    </a:lnTo>
                    <a:lnTo>
                      <a:pt x="3268" y="632"/>
                    </a:lnTo>
                    <a:lnTo>
                      <a:pt x="3242" y="655"/>
                    </a:lnTo>
                    <a:lnTo>
                      <a:pt x="3212" y="677"/>
                    </a:lnTo>
                    <a:lnTo>
                      <a:pt x="3178" y="700"/>
                    </a:lnTo>
                    <a:lnTo>
                      <a:pt x="3142" y="722"/>
                    </a:lnTo>
                    <a:lnTo>
                      <a:pt x="3102" y="743"/>
                    </a:lnTo>
                    <a:lnTo>
                      <a:pt x="3058" y="763"/>
                    </a:lnTo>
                    <a:lnTo>
                      <a:pt x="3012" y="782"/>
                    </a:lnTo>
                    <a:lnTo>
                      <a:pt x="2961" y="802"/>
                    </a:lnTo>
                    <a:lnTo>
                      <a:pt x="2909" y="820"/>
                    </a:lnTo>
                    <a:lnTo>
                      <a:pt x="2854" y="837"/>
                    </a:lnTo>
                    <a:lnTo>
                      <a:pt x="2796" y="853"/>
                    </a:lnTo>
                    <a:lnTo>
                      <a:pt x="2735" y="869"/>
                    </a:lnTo>
                    <a:lnTo>
                      <a:pt x="2671" y="884"/>
                    </a:lnTo>
                    <a:lnTo>
                      <a:pt x="2607" y="899"/>
                    </a:lnTo>
                    <a:lnTo>
                      <a:pt x="2538" y="911"/>
                    </a:lnTo>
                    <a:lnTo>
                      <a:pt x="2468" y="923"/>
                    </a:lnTo>
                    <a:lnTo>
                      <a:pt x="2397" y="934"/>
                    </a:lnTo>
                    <a:lnTo>
                      <a:pt x="2322" y="944"/>
                    </a:lnTo>
                    <a:lnTo>
                      <a:pt x="2246" y="953"/>
                    </a:lnTo>
                    <a:lnTo>
                      <a:pt x="2168" y="961"/>
                    </a:lnTo>
                    <a:lnTo>
                      <a:pt x="2090" y="968"/>
                    </a:lnTo>
                    <a:lnTo>
                      <a:pt x="2009" y="973"/>
                    </a:lnTo>
                    <a:lnTo>
                      <a:pt x="1926" y="977"/>
                    </a:lnTo>
                    <a:lnTo>
                      <a:pt x="1842" y="981"/>
                    </a:lnTo>
                    <a:lnTo>
                      <a:pt x="1757" y="983"/>
                    </a:lnTo>
                    <a:lnTo>
                      <a:pt x="1671" y="983"/>
                    </a:lnTo>
                    <a:lnTo>
                      <a:pt x="1586" y="983"/>
                    </a:lnTo>
                    <a:lnTo>
                      <a:pt x="1501" y="981"/>
                    </a:lnTo>
                    <a:lnTo>
                      <a:pt x="1417" y="977"/>
                    </a:lnTo>
                    <a:lnTo>
                      <a:pt x="1334" y="973"/>
                    </a:lnTo>
                    <a:lnTo>
                      <a:pt x="1253" y="968"/>
                    </a:lnTo>
                    <a:lnTo>
                      <a:pt x="1175" y="961"/>
                    </a:lnTo>
                    <a:lnTo>
                      <a:pt x="1097" y="953"/>
                    </a:lnTo>
                    <a:lnTo>
                      <a:pt x="1021" y="944"/>
                    </a:lnTo>
                    <a:lnTo>
                      <a:pt x="946" y="934"/>
                    </a:lnTo>
                    <a:lnTo>
                      <a:pt x="875" y="923"/>
                    </a:lnTo>
                    <a:lnTo>
                      <a:pt x="805" y="911"/>
                    </a:lnTo>
                    <a:lnTo>
                      <a:pt x="737" y="899"/>
                    </a:lnTo>
                    <a:lnTo>
                      <a:pt x="672" y="884"/>
                    </a:lnTo>
                    <a:lnTo>
                      <a:pt x="608" y="869"/>
                    </a:lnTo>
                    <a:lnTo>
                      <a:pt x="547" y="853"/>
                    </a:lnTo>
                    <a:lnTo>
                      <a:pt x="490" y="837"/>
                    </a:lnTo>
                    <a:lnTo>
                      <a:pt x="434" y="820"/>
                    </a:lnTo>
                    <a:lnTo>
                      <a:pt x="382" y="802"/>
                    </a:lnTo>
                    <a:lnTo>
                      <a:pt x="332" y="782"/>
                    </a:lnTo>
                    <a:lnTo>
                      <a:pt x="285" y="763"/>
                    </a:lnTo>
                    <a:lnTo>
                      <a:pt x="241" y="743"/>
                    </a:lnTo>
                    <a:lnTo>
                      <a:pt x="202" y="722"/>
                    </a:lnTo>
                    <a:lnTo>
                      <a:pt x="165" y="700"/>
                    </a:lnTo>
                    <a:lnTo>
                      <a:pt x="131" y="677"/>
                    </a:lnTo>
                    <a:lnTo>
                      <a:pt x="101" y="655"/>
                    </a:lnTo>
                    <a:lnTo>
                      <a:pt x="75" y="632"/>
                    </a:lnTo>
                    <a:lnTo>
                      <a:pt x="53" y="608"/>
                    </a:lnTo>
                    <a:lnTo>
                      <a:pt x="33" y="584"/>
                    </a:lnTo>
                    <a:lnTo>
                      <a:pt x="19" y="559"/>
                    </a:lnTo>
                    <a:lnTo>
                      <a:pt x="8" y="534"/>
                    </a:lnTo>
                    <a:lnTo>
                      <a:pt x="2" y="509"/>
                    </a:lnTo>
                    <a:lnTo>
                      <a:pt x="0" y="483"/>
                    </a:lnTo>
                    <a:lnTo>
                      <a:pt x="2" y="457"/>
                    </a:lnTo>
                    <a:lnTo>
                      <a:pt x="8" y="432"/>
                    </a:lnTo>
                    <a:lnTo>
                      <a:pt x="19" y="407"/>
                    </a:lnTo>
                    <a:lnTo>
                      <a:pt x="33" y="383"/>
                    </a:lnTo>
                    <a:lnTo>
                      <a:pt x="53" y="359"/>
                    </a:lnTo>
                    <a:lnTo>
                      <a:pt x="75" y="336"/>
                    </a:lnTo>
                    <a:lnTo>
                      <a:pt x="101" y="313"/>
                    </a:lnTo>
                    <a:lnTo>
                      <a:pt x="131" y="291"/>
                    </a:lnTo>
                    <a:lnTo>
                      <a:pt x="165" y="270"/>
                    </a:lnTo>
                    <a:lnTo>
                      <a:pt x="202" y="248"/>
                    </a:lnTo>
                    <a:lnTo>
                      <a:pt x="241" y="228"/>
                    </a:lnTo>
                    <a:lnTo>
                      <a:pt x="285" y="209"/>
                    </a:lnTo>
                    <a:lnTo>
                      <a:pt x="332" y="190"/>
                    </a:lnTo>
                    <a:lnTo>
                      <a:pt x="382" y="172"/>
                    </a:lnTo>
                    <a:lnTo>
                      <a:pt x="434" y="155"/>
                    </a:lnTo>
                    <a:lnTo>
                      <a:pt x="490" y="138"/>
                    </a:lnTo>
                    <a:lnTo>
                      <a:pt x="547" y="122"/>
                    </a:lnTo>
                    <a:lnTo>
                      <a:pt x="608" y="107"/>
                    </a:lnTo>
                    <a:lnTo>
                      <a:pt x="672" y="93"/>
                    </a:lnTo>
                    <a:lnTo>
                      <a:pt x="737" y="80"/>
                    </a:lnTo>
                    <a:lnTo>
                      <a:pt x="805" y="68"/>
                    </a:lnTo>
                    <a:lnTo>
                      <a:pt x="875" y="57"/>
                    </a:lnTo>
                    <a:lnTo>
                      <a:pt x="946" y="47"/>
                    </a:lnTo>
                    <a:lnTo>
                      <a:pt x="1021" y="36"/>
                    </a:lnTo>
                    <a:lnTo>
                      <a:pt x="1097" y="28"/>
                    </a:lnTo>
                    <a:lnTo>
                      <a:pt x="1175" y="21"/>
                    </a:lnTo>
                    <a:lnTo>
                      <a:pt x="1253" y="15"/>
                    </a:lnTo>
                    <a:lnTo>
                      <a:pt x="1334" y="9"/>
                    </a:lnTo>
                    <a:lnTo>
                      <a:pt x="1417" y="5"/>
                    </a:lnTo>
                    <a:lnTo>
                      <a:pt x="1501" y="3"/>
                    </a:lnTo>
                    <a:lnTo>
                      <a:pt x="1586" y="1"/>
                    </a:lnTo>
                    <a:lnTo>
                      <a:pt x="1671" y="0"/>
                    </a:lnTo>
                    <a:lnTo>
                      <a:pt x="1757" y="1"/>
                    </a:lnTo>
                    <a:lnTo>
                      <a:pt x="1842" y="3"/>
                    </a:lnTo>
                    <a:lnTo>
                      <a:pt x="1926" y="5"/>
                    </a:lnTo>
                    <a:lnTo>
                      <a:pt x="2009" y="9"/>
                    </a:lnTo>
                    <a:lnTo>
                      <a:pt x="2090" y="15"/>
                    </a:lnTo>
                    <a:lnTo>
                      <a:pt x="2168" y="21"/>
                    </a:lnTo>
                    <a:lnTo>
                      <a:pt x="2246" y="28"/>
                    </a:lnTo>
                    <a:lnTo>
                      <a:pt x="2322" y="36"/>
                    </a:lnTo>
                    <a:lnTo>
                      <a:pt x="2397" y="47"/>
                    </a:lnTo>
                    <a:lnTo>
                      <a:pt x="2468" y="57"/>
                    </a:lnTo>
                    <a:lnTo>
                      <a:pt x="2538" y="68"/>
                    </a:lnTo>
                    <a:lnTo>
                      <a:pt x="2607" y="80"/>
                    </a:lnTo>
                    <a:lnTo>
                      <a:pt x="2671" y="93"/>
                    </a:lnTo>
                    <a:lnTo>
                      <a:pt x="2735" y="107"/>
                    </a:lnTo>
                    <a:lnTo>
                      <a:pt x="2796" y="122"/>
                    </a:lnTo>
                    <a:lnTo>
                      <a:pt x="2854" y="138"/>
                    </a:lnTo>
                    <a:lnTo>
                      <a:pt x="2909" y="155"/>
                    </a:lnTo>
                    <a:lnTo>
                      <a:pt x="2961" y="172"/>
                    </a:lnTo>
                    <a:lnTo>
                      <a:pt x="3012" y="190"/>
                    </a:lnTo>
                    <a:lnTo>
                      <a:pt x="3058" y="209"/>
                    </a:lnTo>
                    <a:lnTo>
                      <a:pt x="3102" y="228"/>
                    </a:lnTo>
                    <a:lnTo>
                      <a:pt x="3142" y="248"/>
                    </a:lnTo>
                    <a:lnTo>
                      <a:pt x="3178" y="270"/>
                    </a:lnTo>
                    <a:lnTo>
                      <a:pt x="3212" y="291"/>
                    </a:lnTo>
                    <a:lnTo>
                      <a:pt x="3242" y="313"/>
                    </a:lnTo>
                    <a:lnTo>
                      <a:pt x="3268" y="336"/>
                    </a:lnTo>
                    <a:lnTo>
                      <a:pt x="3290" y="359"/>
                    </a:lnTo>
                    <a:lnTo>
                      <a:pt x="3310" y="383"/>
                    </a:lnTo>
                    <a:lnTo>
                      <a:pt x="3324" y="407"/>
                    </a:lnTo>
                    <a:lnTo>
                      <a:pt x="3335" y="432"/>
                    </a:lnTo>
                    <a:lnTo>
                      <a:pt x="3341" y="457"/>
                    </a:lnTo>
                    <a:lnTo>
                      <a:pt x="3343" y="4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106000" y="6518880"/>
                <a:ext cx="369000" cy="116640"/>
              </a:xfrm>
              <a:custGeom>
                <a:avLst/>
                <a:gdLst/>
                <a:ahLst/>
                <a:rect l="l" t="t" r="r" b="b"/>
                <a:pathLst>
                  <a:path w="3341" h="981">
                    <a:moveTo>
                      <a:pt x="3341" y="482"/>
                    </a:moveTo>
                    <a:lnTo>
                      <a:pt x="3339" y="508"/>
                    </a:lnTo>
                    <a:lnTo>
                      <a:pt x="3332" y="533"/>
                    </a:lnTo>
                    <a:lnTo>
                      <a:pt x="3322" y="558"/>
                    </a:lnTo>
                    <a:lnTo>
                      <a:pt x="3307" y="583"/>
                    </a:lnTo>
                    <a:lnTo>
                      <a:pt x="3288" y="607"/>
                    </a:lnTo>
                    <a:lnTo>
                      <a:pt x="3266" y="631"/>
                    </a:lnTo>
                    <a:lnTo>
                      <a:pt x="3240" y="654"/>
                    </a:lnTo>
                    <a:lnTo>
                      <a:pt x="3210" y="676"/>
                    </a:lnTo>
                    <a:lnTo>
                      <a:pt x="3176" y="699"/>
                    </a:lnTo>
                    <a:lnTo>
                      <a:pt x="3139" y="720"/>
                    </a:lnTo>
                    <a:lnTo>
                      <a:pt x="3100" y="741"/>
                    </a:lnTo>
                    <a:lnTo>
                      <a:pt x="3056" y="761"/>
                    </a:lnTo>
                    <a:lnTo>
                      <a:pt x="3009" y="781"/>
                    </a:lnTo>
                    <a:lnTo>
                      <a:pt x="2959" y="800"/>
                    </a:lnTo>
                    <a:lnTo>
                      <a:pt x="2907" y="818"/>
                    </a:lnTo>
                    <a:lnTo>
                      <a:pt x="2852" y="835"/>
                    </a:lnTo>
                    <a:lnTo>
                      <a:pt x="2794" y="852"/>
                    </a:lnTo>
                    <a:lnTo>
                      <a:pt x="2733" y="867"/>
                    </a:lnTo>
                    <a:lnTo>
                      <a:pt x="2670" y="882"/>
                    </a:lnTo>
                    <a:lnTo>
                      <a:pt x="2605" y="897"/>
                    </a:lnTo>
                    <a:lnTo>
                      <a:pt x="2537" y="910"/>
                    </a:lnTo>
                    <a:lnTo>
                      <a:pt x="2466" y="922"/>
                    </a:lnTo>
                    <a:lnTo>
                      <a:pt x="2395" y="932"/>
                    </a:lnTo>
                    <a:lnTo>
                      <a:pt x="2321" y="942"/>
                    </a:lnTo>
                    <a:lnTo>
                      <a:pt x="2245" y="951"/>
                    </a:lnTo>
                    <a:lnTo>
                      <a:pt x="2167" y="959"/>
                    </a:lnTo>
                    <a:lnTo>
                      <a:pt x="2088" y="966"/>
                    </a:lnTo>
                    <a:lnTo>
                      <a:pt x="2007" y="971"/>
                    </a:lnTo>
                    <a:lnTo>
                      <a:pt x="1925" y="976"/>
                    </a:lnTo>
                    <a:lnTo>
                      <a:pt x="1841" y="979"/>
                    </a:lnTo>
                    <a:lnTo>
                      <a:pt x="1756" y="981"/>
                    </a:lnTo>
                    <a:lnTo>
                      <a:pt x="1670" y="981"/>
                    </a:lnTo>
                    <a:lnTo>
                      <a:pt x="1585" y="981"/>
                    </a:lnTo>
                    <a:lnTo>
                      <a:pt x="1500" y="979"/>
                    </a:lnTo>
                    <a:lnTo>
                      <a:pt x="1416" y="976"/>
                    </a:lnTo>
                    <a:lnTo>
                      <a:pt x="1334" y="971"/>
                    </a:lnTo>
                    <a:lnTo>
                      <a:pt x="1253" y="966"/>
                    </a:lnTo>
                    <a:lnTo>
                      <a:pt x="1174" y="959"/>
                    </a:lnTo>
                    <a:lnTo>
                      <a:pt x="1096" y="951"/>
                    </a:lnTo>
                    <a:lnTo>
                      <a:pt x="1020" y="942"/>
                    </a:lnTo>
                    <a:lnTo>
                      <a:pt x="946" y="932"/>
                    </a:lnTo>
                    <a:lnTo>
                      <a:pt x="875" y="922"/>
                    </a:lnTo>
                    <a:lnTo>
                      <a:pt x="804" y="910"/>
                    </a:lnTo>
                    <a:lnTo>
                      <a:pt x="736" y="897"/>
                    </a:lnTo>
                    <a:lnTo>
                      <a:pt x="671" y="882"/>
                    </a:lnTo>
                    <a:lnTo>
                      <a:pt x="608" y="867"/>
                    </a:lnTo>
                    <a:lnTo>
                      <a:pt x="547" y="852"/>
                    </a:lnTo>
                    <a:lnTo>
                      <a:pt x="490" y="835"/>
                    </a:lnTo>
                    <a:lnTo>
                      <a:pt x="434" y="818"/>
                    </a:lnTo>
                    <a:lnTo>
                      <a:pt x="382" y="800"/>
                    </a:lnTo>
                    <a:lnTo>
                      <a:pt x="332" y="781"/>
                    </a:lnTo>
                    <a:lnTo>
                      <a:pt x="286" y="761"/>
                    </a:lnTo>
                    <a:lnTo>
                      <a:pt x="242" y="741"/>
                    </a:lnTo>
                    <a:lnTo>
                      <a:pt x="202" y="720"/>
                    </a:lnTo>
                    <a:lnTo>
                      <a:pt x="165" y="699"/>
                    </a:lnTo>
                    <a:lnTo>
                      <a:pt x="131" y="676"/>
                    </a:lnTo>
                    <a:lnTo>
                      <a:pt x="102" y="654"/>
                    </a:lnTo>
                    <a:lnTo>
                      <a:pt x="76" y="631"/>
                    </a:lnTo>
                    <a:lnTo>
                      <a:pt x="53" y="607"/>
                    </a:lnTo>
                    <a:lnTo>
                      <a:pt x="34" y="583"/>
                    </a:lnTo>
                    <a:lnTo>
                      <a:pt x="19" y="558"/>
                    </a:lnTo>
                    <a:lnTo>
                      <a:pt x="9" y="533"/>
                    </a:lnTo>
                    <a:lnTo>
                      <a:pt x="2" y="508"/>
                    </a:lnTo>
                    <a:lnTo>
                      <a:pt x="0" y="482"/>
                    </a:lnTo>
                    <a:lnTo>
                      <a:pt x="2" y="456"/>
                    </a:lnTo>
                    <a:lnTo>
                      <a:pt x="9" y="431"/>
                    </a:lnTo>
                    <a:lnTo>
                      <a:pt x="19" y="407"/>
                    </a:lnTo>
                    <a:lnTo>
                      <a:pt x="34" y="382"/>
                    </a:lnTo>
                    <a:lnTo>
                      <a:pt x="53" y="358"/>
                    </a:lnTo>
                    <a:lnTo>
                      <a:pt x="76" y="335"/>
                    </a:lnTo>
                    <a:lnTo>
                      <a:pt x="102" y="312"/>
                    </a:lnTo>
                    <a:lnTo>
                      <a:pt x="131" y="291"/>
                    </a:lnTo>
                    <a:lnTo>
                      <a:pt x="165" y="269"/>
                    </a:lnTo>
                    <a:lnTo>
                      <a:pt x="202" y="248"/>
                    </a:lnTo>
                    <a:lnTo>
                      <a:pt x="242" y="228"/>
                    </a:lnTo>
                    <a:lnTo>
                      <a:pt x="286" y="208"/>
                    </a:lnTo>
                    <a:lnTo>
                      <a:pt x="332" y="190"/>
                    </a:lnTo>
                    <a:lnTo>
                      <a:pt x="382" y="172"/>
                    </a:lnTo>
                    <a:lnTo>
                      <a:pt x="434" y="155"/>
                    </a:lnTo>
                    <a:lnTo>
                      <a:pt x="490" y="137"/>
                    </a:lnTo>
                    <a:lnTo>
                      <a:pt x="547" y="122"/>
                    </a:lnTo>
                    <a:lnTo>
                      <a:pt x="608" y="107"/>
                    </a:lnTo>
                    <a:lnTo>
                      <a:pt x="671" y="93"/>
                    </a:lnTo>
                    <a:lnTo>
                      <a:pt x="736" y="80"/>
                    </a:lnTo>
                    <a:lnTo>
                      <a:pt x="804" y="68"/>
                    </a:lnTo>
                    <a:lnTo>
                      <a:pt x="875" y="57"/>
                    </a:lnTo>
                    <a:lnTo>
                      <a:pt x="946" y="47"/>
                    </a:lnTo>
                    <a:lnTo>
                      <a:pt x="1020" y="36"/>
                    </a:lnTo>
                    <a:lnTo>
                      <a:pt x="1096" y="28"/>
                    </a:lnTo>
                    <a:lnTo>
                      <a:pt x="1174" y="21"/>
                    </a:lnTo>
                    <a:lnTo>
                      <a:pt x="1253" y="15"/>
                    </a:lnTo>
                    <a:lnTo>
                      <a:pt x="1334" y="9"/>
                    </a:lnTo>
                    <a:lnTo>
                      <a:pt x="1416" y="5"/>
                    </a:lnTo>
                    <a:lnTo>
                      <a:pt x="1500" y="2"/>
                    </a:lnTo>
                    <a:lnTo>
                      <a:pt x="1585" y="1"/>
                    </a:lnTo>
                    <a:lnTo>
                      <a:pt x="1670" y="0"/>
                    </a:lnTo>
                    <a:lnTo>
                      <a:pt x="1756" y="1"/>
                    </a:lnTo>
                    <a:lnTo>
                      <a:pt x="1841" y="2"/>
                    </a:lnTo>
                    <a:lnTo>
                      <a:pt x="1925" y="5"/>
                    </a:lnTo>
                    <a:lnTo>
                      <a:pt x="2007" y="9"/>
                    </a:lnTo>
                    <a:lnTo>
                      <a:pt x="2088" y="15"/>
                    </a:lnTo>
                    <a:lnTo>
                      <a:pt x="2167" y="21"/>
                    </a:lnTo>
                    <a:lnTo>
                      <a:pt x="2245" y="28"/>
                    </a:lnTo>
                    <a:lnTo>
                      <a:pt x="2321" y="36"/>
                    </a:lnTo>
                    <a:lnTo>
                      <a:pt x="2395" y="47"/>
                    </a:lnTo>
                    <a:lnTo>
                      <a:pt x="2466" y="57"/>
                    </a:lnTo>
                    <a:lnTo>
                      <a:pt x="2537" y="68"/>
                    </a:lnTo>
                    <a:lnTo>
                      <a:pt x="2605" y="80"/>
                    </a:lnTo>
                    <a:lnTo>
                      <a:pt x="2670" y="93"/>
                    </a:lnTo>
                    <a:lnTo>
                      <a:pt x="2733" y="107"/>
                    </a:lnTo>
                    <a:lnTo>
                      <a:pt x="2794" y="122"/>
                    </a:lnTo>
                    <a:lnTo>
                      <a:pt x="2852" y="137"/>
                    </a:lnTo>
                    <a:lnTo>
                      <a:pt x="2907" y="155"/>
                    </a:lnTo>
                    <a:lnTo>
                      <a:pt x="2959" y="172"/>
                    </a:lnTo>
                    <a:lnTo>
                      <a:pt x="3009" y="190"/>
                    </a:lnTo>
                    <a:lnTo>
                      <a:pt x="3056" y="208"/>
                    </a:lnTo>
                    <a:lnTo>
                      <a:pt x="3100" y="228"/>
                    </a:lnTo>
                    <a:lnTo>
                      <a:pt x="3139" y="248"/>
                    </a:lnTo>
                    <a:lnTo>
                      <a:pt x="3176" y="269"/>
                    </a:lnTo>
                    <a:lnTo>
                      <a:pt x="3210" y="291"/>
                    </a:lnTo>
                    <a:lnTo>
                      <a:pt x="3240" y="312"/>
                    </a:lnTo>
                    <a:lnTo>
                      <a:pt x="3266" y="335"/>
                    </a:lnTo>
                    <a:lnTo>
                      <a:pt x="3288" y="358"/>
                    </a:lnTo>
                    <a:lnTo>
                      <a:pt x="3307" y="382"/>
                    </a:lnTo>
                    <a:lnTo>
                      <a:pt x="3322" y="407"/>
                    </a:lnTo>
                    <a:lnTo>
                      <a:pt x="3332" y="431"/>
                    </a:lnTo>
                    <a:lnTo>
                      <a:pt x="3339" y="456"/>
                    </a:lnTo>
                    <a:lnTo>
                      <a:pt x="3341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106000" y="6518880"/>
                <a:ext cx="369000" cy="116640"/>
              </a:xfrm>
              <a:custGeom>
                <a:avLst/>
                <a:gdLst/>
                <a:ahLst/>
                <a:rect l="l" t="t" r="r" b="b"/>
                <a:pathLst>
                  <a:path w="3338" h="979">
                    <a:moveTo>
                      <a:pt x="3338" y="481"/>
                    </a:moveTo>
                    <a:lnTo>
                      <a:pt x="3335" y="507"/>
                    </a:lnTo>
                    <a:lnTo>
                      <a:pt x="3329" y="532"/>
                    </a:lnTo>
                    <a:lnTo>
                      <a:pt x="3318" y="557"/>
                    </a:lnTo>
                    <a:lnTo>
                      <a:pt x="3304" y="582"/>
                    </a:lnTo>
                    <a:lnTo>
                      <a:pt x="3284" y="606"/>
                    </a:lnTo>
                    <a:lnTo>
                      <a:pt x="3262" y="629"/>
                    </a:lnTo>
                    <a:lnTo>
                      <a:pt x="3236" y="652"/>
                    </a:lnTo>
                    <a:lnTo>
                      <a:pt x="3207" y="675"/>
                    </a:lnTo>
                    <a:lnTo>
                      <a:pt x="3173" y="698"/>
                    </a:lnTo>
                    <a:lnTo>
                      <a:pt x="3136" y="719"/>
                    </a:lnTo>
                    <a:lnTo>
                      <a:pt x="3096" y="740"/>
                    </a:lnTo>
                    <a:lnTo>
                      <a:pt x="3052" y="760"/>
                    </a:lnTo>
                    <a:lnTo>
                      <a:pt x="3006" y="779"/>
                    </a:lnTo>
                    <a:lnTo>
                      <a:pt x="2956" y="799"/>
                    </a:lnTo>
                    <a:lnTo>
                      <a:pt x="2904" y="817"/>
                    </a:lnTo>
                    <a:lnTo>
                      <a:pt x="2849" y="834"/>
                    </a:lnTo>
                    <a:lnTo>
                      <a:pt x="2791" y="850"/>
                    </a:lnTo>
                    <a:lnTo>
                      <a:pt x="2730" y="866"/>
                    </a:lnTo>
                    <a:lnTo>
                      <a:pt x="2667" y="880"/>
                    </a:lnTo>
                    <a:lnTo>
                      <a:pt x="2602" y="895"/>
                    </a:lnTo>
                    <a:lnTo>
                      <a:pt x="2534" y="908"/>
                    </a:lnTo>
                    <a:lnTo>
                      <a:pt x="2464" y="920"/>
                    </a:lnTo>
                    <a:lnTo>
                      <a:pt x="2392" y="931"/>
                    </a:lnTo>
                    <a:lnTo>
                      <a:pt x="2318" y="941"/>
                    </a:lnTo>
                    <a:lnTo>
                      <a:pt x="2242" y="949"/>
                    </a:lnTo>
                    <a:lnTo>
                      <a:pt x="2164" y="957"/>
                    </a:lnTo>
                    <a:lnTo>
                      <a:pt x="2086" y="964"/>
                    </a:lnTo>
                    <a:lnTo>
                      <a:pt x="2005" y="969"/>
                    </a:lnTo>
                    <a:lnTo>
                      <a:pt x="1923" y="974"/>
                    </a:lnTo>
                    <a:lnTo>
                      <a:pt x="1839" y="977"/>
                    </a:lnTo>
                    <a:lnTo>
                      <a:pt x="1754" y="979"/>
                    </a:lnTo>
                    <a:lnTo>
                      <a:pt x="1668" y="979"/>
                    </a:lnTo>
                    <a:lnTo>
                      <a:pt x="1583" y="979"/>
                    </a:lnTo>
                    <a:lnTo>
                      <a:pt x="1498" y="977"/>
                    </a:lnTo>
                    <a:lnTo>
                      <a:pt x="1414" y="974"/>
                    </a:lnTo>
                    <a:lnTo>
                      <a:pt x="1332" y="969"/>
                    </a:lnTo>
                    <a:lnTo>
                      <a:pt x="1251" y="964"/>
                    </a:lnTo>
                    <a:lnTo>
                      <a:pt x="1173" y="957"/>
                    </a:lnTo>
                    <a:lnTo>
                      <a:pt x="1095" y="949"/>
                    </a:lnTo>
                    <a:lnTo>
                      <a:pt x="1019" y="941"/>
                    </a:lnTo>
                    <a:lnTo>
                      <a:pt x="945" y="931"/>
                    </a:lnTo>
                    <a:lnTo>
                      <a:pt x="873" y="920"/>
                    </a:lnTo>
                    <a:lnTo>
                      <a:pt x="803" y="908"/>
                    </a:lnTo>
                    <a:lnTo>
                      <a:pt x="735" y="895"/>
                    </a:lnTo>
                    <a:lnTo>
                      <a:pt x="670" y="880"/>
                    </a:lnTo>
                    <a:lnTo>
                      <a:pt x="607" y="866"/>
                    </a:lnTo>
                    <a:lnTo>
                      <a:pt x="546" y="850"/>
                    </a:lnTo>
                    <a:lnTo>
                      <a:pt x="489" y="834"/>
                    </a:lnTo>
                    <a:lnTo>
                      <a:pt x="433" y="817"/>
                    </a:lnTo>
                    <a:lnTo>
                      <a:pt x="381" y="799"/>
                    </a:lnTo>
                    <a:lnTo>
                      <a:pt x="331" y="779"/>
                    </a:lnTo>
                    <a:lnTo>
                      <a:pt x="285" y="760"/>
                    </a:lnTo>
                    <a:lnTo>
                      <a:pt x="241" y="740"/>
                    </a:lnTo>
                    <a:lnTo>
                      <a:pt x="201" y="719"/>
                    </a:lnTo>
                    <a:lnTo>
                      <a:pt x="165" y="698"/>
                    </a:lnTo>
                    <a:lnTo>
                      <a:pt x="130" y="675"/>
                    </a:lnTo>
                    <a:lnTo>
                      <a:pt x="101" y="652"/>
                    </a:lnTo>
                    <a:lnTo>
                      <a:pt x="75" y="629"/>
                    </a:lnTo>
                    <a:lnTo>
                      <a:pt x="53" y="606"/>
                    </a:lnTo>
                    <a:lnTo>
                      <a:pt x="33" y="582"/>
                    </a:lnTo>
                    <a:lnTo>
                      <a:pt x="19" y="557"/>
                    </a:lnTo>
                    <a:lnTo>
                      <a:pt x="8" y="532"/>
                    </a:lnTo>
                    <a:lnTo>
                      <a:pt x="2" y="507"/>
                    </a:lnTo>
                    <a:lnTo>
                      <a:pt x="0" y="481"/>
                    </a:lnTo>
                    <a:lnTo>
                      <a:pt x="2" y="455"/>
                    </a:lnTo>
                    <a:lnTo>
                      <a:pt x="8" y="430"/>
                    </a:lnTo>
                    <a:lnTo>
                      <a:pt x="19" y="406"/>
                    </a:lnTo>
                    <a:lnTo>
                      <a:pt x="33" y="382"/>
                    </a:lnTo>
                    <a:lnTo>
                      <a:pt x="53" y="357"/>
                    </a:lnTo>
                    <a:lnTo>
                      <a:pt x="75" y="334"/>
                    </a:lnTo>
                    <a:lnTo>
                      <a:pt x="101" y="312"/>
                    </a:lnTo>
                    <a:lnTo>
                      <a:pt x="130" y="290"/>
                    </a:lnTo>
                    <a:lnTo>
                      <a:pt x="165" y="269"/>
                    </a:lnTo>
                    <a:lnTo>
                      <a:pt x="201" y="247"/>
                    </a:lnTo>
                    <a:lnTo>
                      <a:pt x="241" y="227"/>
                    </a:lnTo>
                    <a:lnTo>
                      <a:pt x="285" y="208"/>
                    </a:lnTo>
                    <a:lnTo>
                      <a:pt x="331" y="189"/>
                    </a:lnTo>
                    <a:lnTo>
                      <a:pt x="381" y="171"/>
                    </a:lnTo>
                    <a:lnTo>
                      <a:pt x="433" y="154"/>
                    </a:lnTo>
                    <a:lnTo>
                      <a:pt x="489" y="137"/>
                    </a:lnTo>
                    <a:lnTo>
                      <a:pt x="546" y="121"/>
                    </a:lnTo>
                    <a:lnTo>
                      <a:pt x="607" y="107"/>
                    </a:lnTo>
                    <a:lnTo>
                      <a:pt x="670" y="93"/>
                    </a:lnTo>
                    <a:lnTo>
                      <a:pt x="735" y="80"/>
                    </a:lnTo>
                    <a:lnTo>
                      <a:pt x="803" y="68"/>
                    </a:lnTo>
                    <a:lnTo>
                      <a:pt x="873" y="57"/>
                    </a:lnTo>
                    <a:lnTo>
                      <a:pt x="945" y="46"/>
                    </a:lnTo>
                    <a:lnTo>
                      <a:pt x="1019" y="36"/>
                    </a:lnTo>
                    <a:lnTo>
                      <a:pt x="1095" y="28"/>
                    </a:lnTo>
                    <a:lnTo>
                      <a:pt x="1173" y="21"/>
                    </a:lnTo>
                    <a:lnTo>
                      <a:pt x="1251" y="14"/>
                    </a:lnTo>
                    <a:lnTo>
                      <a:pt x="1332" y="9"/>
                    </a:lnTo>
                    <a:lnTo>
                      <a:pt x="1414" y="5"/>
                    </a:lnTo>
                    <a:lnTo>
                      <a:pt x="1498" y="2"/>
                    </a:lnTo>
                    <a:lnTo>
                      <a:pt x="1583" y="1"/>
                    </a:lnTo>
                    <a:lnTo>
                      <a:pt x="1668" y="0"/>
                    </a:lnTo>
                    <a:lnTo>
                      <a:pt x="1754" y="1"/>
                    </a:lnTo>
                    <a:lnTo>
                      <a:pt x="1839" y="2"/>
                    </a:lnTo>
                    <a:lnTo>
                      <a:pt x="1923" y="5"/>
                    </a:lnTo>
                    <a:lnTo>
                      <a:pt x="2005" y="9"/>
                    </a:lnTo>
                    <a:lnTo>
                      <a:pt x="2086" y="14"/>
                    </a:lnTo>
                    <a:lnTo>
                      <a:pt x="2164" y="21"/>
                    </a:lnTo>
                    <a:lnTo>
                      <a:pt x="2242" y="28"/>
                    </a:lnTo>
                    <a:lnTo>
                      <a:pt x="2318" y="36"/>
                    </a:lnTo>
                    <a:lnTo>
                      <a:pt x="2392" y="46"/>
                    </a:lnTo>
                    <a:lnTo>
                      <a:pt x="2464" y="57"/>
                    </a:lnTo>
                    <a:lnTo>
                      <a:pt x="2534" y="68"/>
                    </a:lnTo>
                    <a:lnTo>
                      <a:pt x="2602" y="80"/>
                    </a:lnTo>
                    <a:lnTo>
                      <a:pt x="2667" y="93"/>
                    </a:lnTo>
                    <a:lnTo>
                      <a:pt x="2730" y="107"/>
                    </a:lnTo>
                    <a:lnTo>
                      <a:pt x="2791" y="121"/>
                    </a:lnTo>
                    <a:lnTo>
                      <a:pt x="2849" y="137"/>
                    </a:lnTo>
                    <a:lnTo>
                      <a:pt x="2904" y="154"/>
                    </a:lnTo>
                    <a:lnTo>
                      <a:pt x="2956" y="171"/>
                    </a:lnTo>
                    <a:lnTo>
                      <a:pt x="3006" y="189"/>
                    </a:lnTo>
                    <a:lnTo>
                      <a:pt x="3052" y="208"/>
                    </a:lnTo>
                    <a:lnTo>
                      <a:pt x="3096" y="227"/>
                    </a:lnTo>
                    <a:lnTo>
                      <a:pt x="3136" y="247"/>
                    </a:lnTo>
                    <a:lnTo>
                      <a:pt x="3173" y="269"/>
                    </a:lnTo>
                    <a:lnTo>
                      <a:pt x="3207" y="290"/>
                    </a:lnTo>
                    <a:lnTo>
                      <a:pt x="3236" y="312"/>
                    </a:lnTo>
                    <a:lnTo>
                      <a:pt x="3262" y="334"/>
                    </a:lnTo>
                    <a:lnTo>
                      <a:pt x="3284" y="357"/>
                    </a:lnTo>
                    <a:lnTo>
                      <a:pt x="3304" y="382"/>
                    </a:lnTo>
                    <a:lnTo>
                      <a:pt x="3318" y="406"/>
                    </a:lnTo>
                    <a:lnTo>
                      <a:pt x="3329" y="430"/>
                    </a:lnTo>
                    <a:lnTo>
                      <a:pt x="3335" y="455"/>
                    </a:lnTo>
                    <a:lnTo>
                      <a:pt x="3338" y="4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106000" y="6518880"/>
                <a:ext cx="369000" cy="116640"/>
              </a:xfrm>
              <a:custGeom>
                <a:avLst/>
                <a:gdLst/>
                <a:ahLst/>
                <a:rect l="l" t="t" r="r" b="b"/>
                <a:pathLst>
                  <a:path w="3335" h="977">
                    <a:moveTo>
                      <a:pt x="3335" y="480"/>
                    </a:moveTo>
                    <a:lnTo>
                      <a:pt x="3333" y="506"/>
                    </a:lnTo>
                    <a:lnTo>
                      <a:pt x="3327" y="531"/>
                    </a:lnTo>
                    <a:lnTo>
                      <a:pt x="3316" y="556"/>
                    </a:lnTo>
                    <a:lnTo>
                      <a:pt x="3302" y="581"/>
                    </a:lnTo>
                    <a:lnTo>
                      <a:pt x="3282" y="605"/>
                    </a:lnTo>
                    <a:lnTo>
                      <a:pt x="3260" y="628"/>
                    </a:lnTo>
                    <a:lnTo>
                      <a:pt x="3234" y="651"/>
                    </a:lnTo>
                    <a:lnTo>
                      <a:pt x="3204" y="673"/>
                    </a:lnTo>
                    <a:lnTo>
                      <a:pt x="3170" y="696"/>
                    </a:lnTo>
                    <a:lnTo>
                      <a:pt x="3134" y="717"/>
                    </a:lnTo>
                    <a:lnTo>
                      <a:pt x="3093" y="738"/>
                    </a:lnTo>
                    <a:lnTo>
                      <a:pt x="3050" y="758"/>
                    </a:lnTo>
                    <a:lnTo>
                      <a:pt x="3004" y="777"/>
                    </a:lnTo>
                    <a:lnTo>
                      <a:pt x="2954" y="797"/>
                    </a:lnTo>
                    <a:lnTo>
                      <a:pt x="2902" y="815"/>
                    </a:lnTo>
                    <a:lnTo>
                      <a:pt x="2847" y="832"/>
                    </a:lnTo>
                    <a:lnTo>
                      <a:pt x="2788" y="848"/>
                    </a:lnTo>
                    <a:lnTo>
                      <a:pt x="2728" y="864"/>
                    </a:lnTo>
                    <a:lnTo>
                      <a:pt x="2665" y="878"/>
                    </a:lnTo>
                    <a:lnTo>
                      <a:pt x="2600" y="893"/>
                    </a:lnTo>
                    <a:lnTo>
                      <a:pt x="2532" y="906"/>
                    </a:lnTo>
                    <a:lnTo>
                      <a:pt x="2462" y="918"/>
                    </a:lnTo>
                    <a:lnTo>
                      <a:pt x="2391" y="929"/>
                    </a:lnTo>
                    <a:lnTo>
                      <a:pt x="2317" y="939"/>
                    </a:lnTo>
                    <a:lnTo>
                      <a:pt x="2241" y="948"/>
                    </a:lnTo>
                    <a:lnTo>
                      <a:pt x="2163" y="955"/>
                    </a:lnTo>
                    <a:lnTo>
                      <a:pt x="2085" y="962"/>
                    </a:lnTo>
                    <a:lnTo>
                      <a:pt x="2004" y="967"/>
                    </a:lnTo>
                    <a:lnTo>
                      <a:pt x="1921" y="972"/>
                    </a:lnTo>
                    <a:lnTo>
                      <a:pt x="1838" y="975"/>
                    </a:lnTo>
                    <a:lnTo>
                      <a:pt x="1753" y="977"/>
                    </a:lnTo>
                    <a:lnTo>
                      <a:pt x="1667" y="977"/>
                    </a:lnTo>
                    <a:lnTo>
                      <a:pt x="1582" y="977"/>
                    </a:lnTo>
                    <a:lnTo>
                      <a:pt x="1497" y="975"/>
                    </a:lnTo>
                    <a:lnTo>
                      <a:pt x="1414" y="972"/>
                    </a:lnTo>
                    <a:lnTo>
                      <a:pt x="1331" y="967"/>
                    </a:lnTo>
                    <a:lnTo>
                      <a:pt x="1250" y="962"/>
                    </a:lnTo>
                    <a:lnTo>
                      <a:pt x="1172" y="955"/>
                    </a:lnTo>
                    <a:lnTo>
                      <a:pt x="1094" y="948"/>
                    </a:lnTo>
                    <a:lnTo>
                      <a:pt x="1018" y="939"/>
                    </a:lnTo>
                    <a:lnTo>
                      <a:pt x="944" y="929"/>
                    </a:lnTo>
                    <a:lnTo>
                      <a:pt x="873" y="918"/>
                    </a:lnTo>
                    <a:lnTo>
                      <a:pt x="803" y="906"/>
                    </a:lnTo>
                    <a:lnTo>
                      <a:pt x="735" y="893"/>
                    </a:lnTo>
                    <a:lnTo>
                      <a:pt x="670" y="878"/>
                    </a:lnTo>
                    <a:lnTo>
                      <a:pt x="607" y="864"/>
                    </a:lnTo>
                    <a:lnTo>
                      <a:pt x="546" y="848"/>
                    </a:lnTo>
                    <a:lnTo>
                      <a:pt x="489" y="832"/>
                    </a:lnTo>
                    <a:lnTo>
                      <a:pt x="433" y="815"/>
                    </a:lnTo>
                    <a:lnTo>
                      <a:pt x="381" y="797"/>
                    </a:lnTo>
                    <a:lnTo>
                      <a:pt x="331" y="777"/>
                    </a:lnTo>
                    <a:lnTo>
                      <a:pt x="285" y="758"/>
                    </a:lnTo>
                    <a:lnTo>
                      <a:pt x="241" y="738"/>
                    </a:lnTo>
                    <a:lnTo>
                      <a:pt x="201" y="717"/>
                    </a:lnTo>
                    <a:lnTo>
                      <a:pt x="165" y="696"/>
                    </a:lnTo>
                    <a:lnTo>
                      <a:pt x="131" y="673"/>
                    </a:lnTo>
                    <a:lnTo>
                      <a:pt x="101" y="651"/>
                    </a:lnTo>
                    <a:lnTo>
                      <a:pt x="75" y="628"/>
                    </a:lnTo>
                    <a:lnTo>
                      <a:pt x="53" y="605"/>
                    </a:lnTo>
                    <a:lnTo>
                      <a:pt x="34" y="581"/>
                    </a:lnTo>
                    <a:lnTo>
                      <a:pt x="19" y="556"/>
                    </a:lnTo>
                    <a:lnTo>
                      <a:pt x="9" y="531"/>
                    </a:lnTo>
                    <a:lnTo>
                      <a:pt x="2" y="506"/>
                    </a:lnTo>
                    <a:lnTo>
                      <a:pt x="0" y="480"/>
                    </a:lnTo>
                    <a:lnTo>
                      <a:pt x="2" y="454"/>
                    </a:lnTo>
                    <a:lnTo>
                      <a:pt x="9" y="429"/>
                    </a:lnTo>
                    <a:lnTo>
                      <a:pt x="19" y="405"/>
                    </a:lnTo>
                    <a:lnTo>
                      <a:pt x="34" y="381"/>
                    </a:lnTo>
                    <a:lnTo>
                      <a:pt x="53" y="356"/>
                    </a:lnTo>
                    <a:lnTo>
                      <a:pt x="75" y="334"/>
                    </a:lnTo>
                    <a:lnTo>
                      <a:pt x="101" y="311"/>
                    </a:lnTo>
                    <a:lnTo>
                      <a:pt x="131" y="289"/>
                    </a:lnTo>
                    <a:lnTo>
                      <a:pt x="165" y="268"/>
                    </a:lnTo>
                    <a:lnTo>
                      <a:pt x="201" y="247"/>
                    </a:lnTo>
                    <a:lnTo>
                      <a:pt x="241" y="227"/>
                    </a:lnTo>
                    <a:lnTo>
                      <a:pt x="285" y="207"/>
                    </a:lnTo>
                    <a:lnTo>
                      <a:pt x="331" y="189"/>
                    </a:lnTo>
                    <a:lnTo>
                      <a:pt x="381" y="171"/>
                    </a:lnTo>
                    <a:lnTo>
                      <a:pt x="433" y="154"/>
                    </a:lnTo>
                    <a:lnTo>
                      <a:pt x="489" y="137"/>
                    </a:lnTo>
                    <a:lnTo>
                      <a:pt x="546" y="121"/>
                    </a:lnTo>
                    <a:lnTo>
                      <a:pt x="607" y="106"/>
                    </a:lnTo>
                    <a:lnTo>
                      <a:pt x="670" y="93"/>
                    </a:lnTo>
                    <a:lnTo>
                      <a:pt x="735" y="80"/>
                    </a:lnTo>
                    <a:lnTo>
                      <a:pt x="803" y="68"/>
                    </a:lnTo>
                    <a:lnTo>
                      <a:pt x="873" y="56"/>
                    </a:lnTo>
                    <a:lnTo>
                      <a:pt x="944" y="46"/>
                    </a:lnTo>
                    <a:lnTo>
                      <a:pt x="1018" y="37"/>
                    </a:lnTo>
                    <a:lnTo>
                      <a:pt x="1094" y="28"/>
                    </a:lnTo>
                    <a:lnTo>
                      <a:pt x="1172" y="21"/>
                    </a:lnTo>
                    <a:lnTo>
                      <a:pt x="1250" y="14"/>
                    </a:lnTo>
                    <a:lnTo>
                      <a:pt x="1331" y="9"/>
                    </a:lnTo>
                    <a:lnTo>
                      <a:pt x="1414" y="5"/>
                    </a:lnTo>
                    <a:lnTo>
                      <a:pt x="1497" y="2"/>
                    </a:lnTo>
                    <a:lnTo>
                      <a:pt x="1582" y="1"/>
                    </a:lnTo>
                    <a:lnTo>
                      <a:pt x="1667" y="0"/>
                    </a:lnTo>
                    <a:lnTo>
                      <a:pt x="1753" y="1"/>
                    </a:lnTo>
                    <a:lnTo>
                      <a:pt x="1838" y="2"/>
                    </a:lnTo>
                    <a:lnTo>
                      <a:pt x="1921" y="5"/>
                    </a:lnTo>
                    <a:lnTo>
                      <a:pt x="2004" y="9"/>
                    </a:lnTo>
                    <a:lnTo>
                      <a:pt x="2085" y="14"/>
                    </a:lnTo>
                    <a:lnTo>
                      <a:pt x="2163" y="21"/>
                    </a:lnTo>
                    <a:lnTo>
                      <a:pt x="2241" y="28"/>
                    </a:lnTo>
                    <a:lnTo>
                      <a:pt x="2317" y="37"/>
                    </a:lnTo>
                    <a:lnTo>
                      <a:pt x="2391" y="46"/>
                    </a:lnTo>
                    <a:lnTo>
                      <a:pt x="2462" y="56"/>
                    </a:lnTo>
                    <a:lnTo>
                      <a:pt x="2532" y="68"/>
                    </a:lnTo>
                    <a:lnTo>
                      <a:pt x="2600" y="80"/>
                    </a:lnTo>
                    <a:lnTo>
                      <a:pt x="2665" y="93"/>
                    </a:lnTo>
                    <a:lnTo>
                      <a:pt x="2728" y="106"/>
                    </a:lnTo>
                    <a:lnTo>
                      <a:pt x="2788" y="121"/>
                    </a:lnTo>
                    <a:lnTo>
                      <a:pt x="2847" y="137"/>
                    </a:lnTo>
                    <a:lnTo>
                      <a:pt x="2902" y="154"/>
                    </a:lnTo>
                    <a:lnTo>
                      <a:pt x="2954" y="171"/>
                    </a:lnTo>
                    <a:lnTo>
                      <a:pt x="3004" y="189"/>
                    </a:lnTo>
                    <a:lnTo>
                      <a:pt x="3050" y="207"/>
                    </a:lnTo>
                    <a:lnTo>
                      <a:pt x="3093" y="227"/>
                    </a:lnTo>
                    <a:lnTo>
                      <a:pt x="3134" y="247"/>
                    </a:lnTo>
                    <a:lnTo>
                      <a:pt x="3170" y="268"/>
                    </a:lnTo>
                    <a:lnTo>
                      <a:pt x="3204" y="289"/>
                    </a:lnTo>
                    <a:lnTo>
                      <a:pt x="3234" y="311"/>
                    </a:lnTo>
                    <a:lnTo>
                      <a:pt x="3260" y="334"/>
                    </a:lnTo>
                    <a:lnTo>
                      <a:pt x="3282" y="356"/>
                    </a:lnTo>
                    <a:lnTo>
                      <a:pt x="3302" y="381"/>
                    </a:lnTo>
                    <a:lnTo>
                      <a:pt x="3316" y="405"/>
                    </a:lnTo>
                    <a:lnTo>
                      <a:pt x="3327" y="429"/>
                    </a:lnTo>
                    <a:lnTo>
                      <a:pt x="3333" y="454"/>
                    </a:lnTo>
                    <a:lnTo>
                      <a:pt x="3335" y="4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106000" y="6518880"/>
                <a:ext cx="367920" cy="116640"/>
              </a:xfrm>
              <a:custGeom>
                <a:avLst/>
                <a:gdLst/>
                <a:ahLst/>
                <a:rect l="l" t="t" r="r" b="b"/>
                <a:pathLst>
                  <a:path w="3333" h="976">
                    <a:moveTo>
                      <a:pt x="3333" y="479"/>
                    </a:moveTo>
                    <a:lnTo>
                      <a:pt x="3331" y="505"/>
                    </a:lnTo>
                    <a:lnTo>
                      <a:pt x="3324" y="530"/>
                    </a:lnTo>
                    <a:lnTo>
                      <a:pt x="3314" y="554"/>
                    </a:lnTo>
                    <a:lnTo>
                      <a:pt x="3299" y="580"/>
                    </a:lnTo>
                    <a:lnTo>
                      <a:pt x="3280" y="603"/>
                    </a:lnTo>
                    <a:lnTo>
                      <a:pt x="3258" y="627"/>
                    </a:lnTo>
                    <a:lnTo>
                      <a:pt x="3232" y="650"/>
                    </a:lnTo>
                    <a:lnTo>
                      <a:pt x="3202" y="672"/>
                    </a:lnTo>
                    <a:lnTo>
                      <a:pt x="3168" y="695"/>
                    </a:lnTo>
                    <a:lnTo>
                      <a:pt x="3132" y="716"/>
                    </a:lnTo>
                    <a:lnTo>
                      <a:pt x="3091" y="737"/>
                    </a:lnTo>
                    <a:lnTo>
                      <a:pt x="3048" y="757"/>
                    </a:lnTo>
                    <a:lnTo>
                      <a:pt x="3002" y="776"/>
                    </a:lnTo>
                    <a:lnTo>
                      <a:pt x="2952" y="795"/>
                    </a:lnTo>
                    <a:lnTo>
                      <a:pt x="2900" y="813"/>
                    </a:lnTo>
                    <a:lnTo>
                      <a:pt x="2845" y="830"/>
                    </a:lnTo>
                    <a:lnTo>
                      <a:pt x="2786" y="847"/>
                    </a:lnTo>
                    <a:lnTo>
                      <a:pt x="2726" y="862"/>
                    </a:lnTo>
                    <a:lnTo>
                      <a:pt x="2663" y="877"/>
                    </a:lnTo>
                    <a:lnTo>
                      <a:pt x="2598" y="890"/>
                    </a:lnTo>
                    <a:lnTo>
                      <a:pt x="2530" y="904"/>
                    </a:lnTo>
                    <a:lnTo>
                      <a:pt x="2460" y="916"/>
                    </a:lnTo>
                    <a:lnTo>
                      <a:pt x="2389" y="927"/>
                    </a:lnTo>
                    <a:lnTo>
                      <a:pt x="2315" y="937"/>
                    </a:lnTo>
                    <a:lnTo>
                      <a:pt x="2239" y="946"/>
                    </a:lnTo>
                    <a:lnTo>
                      <a:pt x="2162" y="953"/>
                    </a:lnTo>
                    <a:lnTo>
                      <a:pt x="2083" y="960"/>
                    </a:lnTo>
                    <a:lnTo>
                      <a:pt x="2003" y="966"/>
                    </a:lnTo>
                    <a:lnTo>
                      <a:pt x="1920" y="970"/>
                    </a:lnTo>
                    <a:lnTo>
                      <a:pt x="1837" y="973"/>
                    </a:lnTo>
                    <a:lnTo>
                      <a:pt x="1752" y="975"/>
                    </a:lnTo>
                    <a:lnTo>
                      <a:pt x="1666" y="976"/>
                    </a:lnTo>
                    <a:lnTo>
                      <a:pt x="1581" y="975"/>
                    </a:lnTo>
                    <a:lnTo>
                      <a:pt x="1496" y="973"/>
                    </a:lnTo>
                    <a:lnTo>
                      <a:pt x="1413" y="970"/>
                    </a:lnTo>
                    <a:lnTo>
                      <a:pt x="1331" y="966"/>
                    </a:lnTo>
                    <a:lnTo>
                      <a:pt x="1250" y="960"/>
                    </a:lnTo>
                    <a:lnTo>
                      <a:pt x="1171" y="953"/>
                    </a:lnTo>
                    <a:lnTo>
                      <a:pt x="1094" y="946"/>
                    </a:lnTo>
                    <a:lnTo>
                      <a:pt x="1018" y="937"/>
                    </a:lnTo>
                    <a:lnTo>
                      <a:pt x="944" y="927"/>
                    </a:lnTo>
                    <a:lnTo>
                      <a:pt x="873" y="916"/>
                    </a:lnTo>
                    <a:lnTo>
                      <a:pt x="803" y="904"/>
                    </a:lnTo>
                    <a:lnTo>
                      <a:pt x="735" y="890"/>
                    </a:lnTo>
                    <a:lnTo>
                      <a:pt x="670" y="877"/>
                    </a:lnTo>
                    <a:lnTo>
                      <a:pt x="607" y="862"/>
                    </a:lnTo>
                    <a:lnTo>
                      <a:pt x="546" y="847"/>
                    </a:lnTo>
                    <a:lnTo>
                      <a:pt x="489" y="830"/>
                    </a:lnTo>
                    <a:lnTo>
                      <a:pt x="433" y="813"/>
                    </a:lnTo>
                    <a:lnTo>
                      <a:pt x="381" y="795"/>
                    </a:lnTo>
                    <a:lnTo>
                      <a:pt x="331" y="776"/>
                    </a:lnTo>
                    <a:lnTo>
                      <a:pt x="285" y="757"/>
                    </a:lnTo>
                    <a:lnTo>
                      <a:pt x="241" y="737"/>
                    </a:lnTo>
                    <a:lnTo>
                      <a:pt x="202" y="716"/>
                    </a:lnTo>
                    <a:lnTo>
                      <a:pt x="165" y="695"/>
                    </a:lnTo>
                    <a:lnTo>
                      <a:pt x="131" y="672"/>
                    </a:lnTo>
                    <a:lnTo>
                      <a:pt x="102" y="650"/>
                    </a:lnTo>
                    <a:lnTo>
                      <a:pt x="76" y="627"/>
                    </a:lnTo>
                    <a:lnTo>
                      <a:pt x="53" y="603"/>
                    </a:lnTo>
                    <a:lnTo>
                      <a:pt x="34" y="580"/>
                    </a:lnTo>
                    <a:lnTo>
                      <a:pt x="19" y="554"/>
                    </a:lnTo>
                    <a:lnTo>
                      <a:pt x="9" y="530"/>
                    </a:lnTo>
                    <a:lnTo>
                      <a:pt x="3" y="505"/>
                    </a:lnTo>
                    <a:lnTo>
                      <a:pt x="0" y="479"/>
                    </a:lnTo>
                    <a:lnTo>
                      <a:pt x="3" y="453"/>
                    </a:lnTo>
                    <a:lnTo>
                      <a:pt x="9" y="428"/>
                    </a:lnTo>
                    <a:lnTo>
                      <a:pt x="19" y="404"/>
                    </a:lnTo>
                    <a:lnTo>
                      <a:pt x="34" y="380"/>
                    </a:lnTo>
                    <a:lnTo>
                      <a:pt x="53" y="357"/>
                    </a:lnTo>
                    <a:lnTo>
                      <a:pt x="76" y="333"/>
                    </a:lnTo>
                    <a:lnTo>
                      <a:pt x="102" y="310"/>
                    </a:lnTo>
                    <a:lnTo>
                      <a:pt x="131" y="289"/>
                    </a:lnTo>
                    <a:lnTo>
                      <a:pt x="165" y="268"/>
                    </a:lnTo>
                    <a:lnTo>
                      <a:pt x="202" y="246"/>
                    </a:lnTo>
                    <a:lnTo>
                      <a:pt x="241" y="226"/>
                    </a:lnTo>
                    <a:lnTo>
                      <a:pt x="285" y="207"/>
                    </a:lnTo>
                    <a:lnTo>
                      <a:pt x="331" y="188"/>
                    </a:lnTo>
                    <a:lnTo>
                      <a:pt x="381" y="171"/>
                    </a:lnTo>
                    <a:lnTo>
                      <a:pt x="433" y="154"/>
                    </a:lnTo>
                    <a:lnTo>
                      <a:pt x="489" y="136"/>
                    </a:lnTo>
                    <a:lnTo>
                      <a:pt x="546" y="121"/>
                    </a:lnTo>
                    <a:lnTo>
                      <a:pt x="607" y="106"/>
                    </a:lnTo>
                    <a:lnTo>
                      <a:pt x="670" y="92"/>
                    </a:lnTo>
                    <a:lnTo>
                      <a:pt x="735" y="79"/>
                    </a:lnTo>
                    <a:lnTo>
                      <a:pt x="803" y="67"/>
                    </a:lnTo>
                    <a:lnTo>
                      <a:pt x="873" y="56"/>
                    </a:lnTo>
                    <a:lnTo>
                      <a:pt x="944" y="46"/>
                    </a:lnTo>
                    <a:lnTo>
                      <a:pt x="1018" y="37"/>
                    </a:lnTo>
                    <a:lnTo>
                      <a:pt x="1094" y="28"/>
                    </a:lnTo>
                    <a:lnTo>
                      <a:pt x="1171" y="20"/>
                    </a:lnTo>
                    <a:lnTo>
                      <a:pt x="1250" y="14"/>
                    </a:lnTo>
                    <a:lnTo>
                      <a:pt x="1331" y="9"/>
                    </a:lnTo>
                    <a:lnTo>
                      <a:pt x="1413" y="5"/>
                    </a:lnTo>
                    <a:lnTo>
                      <a:pt x="1496" y="2"/>
                    </a:lnTo>
                    <a:lnTo>
                      <a:pt x="1581" y="0"/>
                    </a:lnTo>
                    <a:lnTo>
                      <a:pt x="1666" y="0"/>
                    </a:lnTo>
                    <a:lnTo>
                      <a:pt x="1752" y="0"/>
                    </a:lnTo>
                    <a:lnTo>
                      <a:pt x="1837" y="2"/>
                    </a:lnTo>
                    <a:lnTo>
                      <a:pt x="1920" y="5"/>
                    </a:lnTo>
                    <a:lnTo>
                      <a:pt x="2003" y="9"/>
                    </a:lnTo>
                    <a:lnTo>
                      <a:pt x="2083" y="14"/>
                    </a:lnTo>
                    <a:lnTo>
                      <a:pt x="2162" y="20"/>
                    </a:lnTo>
                    <a:lnTo>
                      <a:pt x="2239" y="28"/>
                    </a:lnTo>
                    <a:lnTo>
                      <a:pt x="2315" y="37"/>
                    </a:lnTo>
                    <a:lnTo>
                      <a:pt x="2389" y="46"/>
                    </a:lnTo>
                    <a:lnTo>
                      <a:pt x="2460" y="56"/>
                    </a:lnTo>
                    <a:lnTo>
                      <a:pt x="2530" y="67"/>
                    </a:lnTo>
                    <a:lnTo>
                      <a:pt x="2598" y="79"/>
                    </a:lnTo>
                    <a:lnTo>
                      <a:pt x="2663" y="92"/>
                    </a:lnTo>
                    <a:lnTo>
                      <a:pt x="2726" y="106"/>
                    </a:lnTo>
                    <a:lnTo>
                      <a:pt x="2786" y="121"/>
                    </a:lnTo>
                    <a:lnTo>
                      <a:pt x="2845" y="136"/>
                    </a:lnTo>
                    <a:lnTo>
                      <a:pt x="2900" y="154"/>
                    </a:lnTo>
                    <a:lnTo>
                      <a:pt x="2952" y="171"/>
                    </a:lnTo>
                    <a:lnTo>
                      <a:pt x="3002" y="188"/>
                    </a:lnTo>
                    <a:lnTo>
                      <a:pt x="3048" y="207"/>
                    </a:lnTo>
                    <a:lnTo>
                      <a:pt x="3091" y="226"/>
                    </a:lnTo>
                    <a:lnTo>
                      <a:pt x="3132" y="246"/>
                    </a:lnTo>
                    <a:lnTo>
                      <a:pt x="3168" y="268"/>
                    </a:lnTo>
                    <a:lnTo>
                      <a:pt x="3202" y="289"/>
                    </a:lnTo>
                    <a:lnTo>
                      <a:pt x="3232" y="310"/>
                    </a:lnTo>
                    <a:lnTo>
                      <a:pt x="3258" y="333"/>
                    </a:lnTo>
                    <a:lnTo>
                      <a:pt x="3280" y="357"/>
                    </a:lnTo>
                    <a:lnTo>
                      <a:pt x="3299" y="380"/>
                    </a:lnTo>
                    <a:lnTo>
                      <a:pt x="3314" y="404"/>
                    </a:lnTo>
                    <a:lnTo>
                      <a:pt x="3324" y="428"/>
                    </a:lnTo>
                    <a:lnTo>
                      <a:pt x="3331" y="453"/>
                    </a:lnTo>
                    <a:lnTo>
                      <a:pt x="3333" y="4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107440" y="6520320"/>
                <a:ext cx="366480" cy="115560"/>
              </a:xfrm>
              <a:custGeom>
                <a:avLst/>
                <a:gdLst/>
                <a:ahLst/>
                <a:rect l="l" t="t" r="r" b="b"/>
                <a:pathLst>
                  <a:path w="3329" h="974">
                    <a:moveTo>
                      <a:pt x="3329" y="478"/>
                    </a:moveTo>
                    <a:lnTo>
                      <a:pt x="3327" y="504"/>
                    </a:lnTo>
                    <a:lnTo>
                      <a:pt x="3321" y="529"/>
                    </a:lnTo>
                    <a:lnTo>
                      <a:pt x="3310" y="553"/>
                    </a:lnTo>
                    <a:lnTo>
                      <a:pt x="3296" y="578"/>
                    </a:lnTo>
                    <a:lnTo>
                      <a:pt x="3276" y="602"/>
                    </a:lnTo>
                    <a:lnTo>
                      <a:pt x="3254" y="626"/>
                    </a:lnTo>
                    <a:lnTo>
                      <a:pt x="3228" y="648"/>
                    </a:lnTo>
                    <a:lnTo>
                      <a:pt x="3199" y="671"/>
                    </a:lnTo>
                    <a:lnTo>
                      <a:pt x="3165" y="693"/>
                    </a:lnTo>
                    <a:lnTo>
                      <a:pt x="3128" y="715"/>
                    </a:lnTo>
                    <a:lnTo>
                      <a:pt x="3088" y="735"/>
                    </a:lnTo>
                    <a:lnTo>
                      <a:pt x="3045" y="755"/>
                    </a:lnTo>
                    <a:lnTo>
                      <a:pt x="2999" y="774"/>
                    </a:lnTo>
                    <a:lnTo>
                      <a:pt x="2949" y="794"/>
                    </a:lnTo>
                    <a:lnTo>
                      <a:pt x="2897" y="812"/>
                    </a:lnTo>
                    <a:lnTo>
                      <a:pt x="2842" y="829"/>
                    </a:lnTo>
                    <a:lnTo>
                      <a:pt x="2783" y="845"/>
                    </a:lnTo>
                    <a:lnTo>
                      <a:pt x="2723" y="860"/>
                    </a:lnTo>
                    <a:lnTo>
                      <a:pt x="2660" y="875"/>
                    </a:lnTo>
                    <a:lnTo>
                      <a:pt x="2596" y="889"/>
                    </a:lnTo>
                    <a:lnTo>
                      <a:pt x="2528" y="902"/>
                    </a:lnTo>
                    <a:lnTo>
                      <a:pt x="2458" y="914"/>
                    </a:lnTo>
                    <a:lnTo>
                      <a:pt x="2387" y="925"/>
                    </a:lnTo>
                    <a:lnTo>
                      <a:pt x="2313" y="935"/>
                    </a:lnTo>
                    <a:lnTo>
                      <a:pt x="2237" y="944"/>
                    </a:lnTo>
                    <a:lnTo>
                      <a:pt x="2159" y="951"/>
                    </a:lnTo>
                    <a:lnTo>
                      <a:pt x="2081" y="958"/>
                    </a:lnTo>
                    <a:lnTo>
                      <a:pt x="2000" y="964"/>
                    </a:lnTo>
                    <a:lnTo>
                      <a:pt x="1918" y="968"/>
                    </a:lnTo>
                    <a:lnTo>
                      <a:pt x="1835" y="971"/>
                    </a:lnTo>
                    <a:lnTo>
                      <a:pt x="1750" y="973"/>
                    </a:lnTo>
                    <a:lnTo>
                      <a:pt x="1664" y="974"/>
                    </a:lnTo>
                    <a:lnTo>
                      <a:pt x="1579" y="973"/>
                    </a:lnTo>
                    <a:lnTo>
                      <a:pt x="1495" y="971"/>
                    </a:lnTo>
                    <a:lnTo>
                      <a:pt x="1411" y="968"/>
                    </a:lnTo>
                    <a:lnTo>
                      <a:pt x="1329" y="964"/>
                    </a:lnTo>
                    <a:lnTo>
                      <a:pt x="1248" y="958"/>
                    </a:lnTo>
                    <a:lnTo>
                      <a:pt x="1170" y="951"/>
                    </a:lnTo>
                    <a:lnTo>
                      <a:pt x="1092" y="944"/>
                    </a:lnTo>
                    <a:lnTo>
                      <a:pt x="1017" y="935"/>
                    </a:lnTo>
                    <a:lnTo>
                      <a:pt x="942" y="925"/>
                    </a:lnTo>
                    <a:lnTo>
                      <a:pt x="871" y="914"/>
                    </a:lnTo>
                    <a:lnTo>
                      <a:pt x="801" y="902"/>
                    </a:lnTo>
                    <a:lnTo>
                      <a:pt x="734" y="889"/>
                    </a:lnTo>
                    <a:lnTo>
                      <a:pt x="669" y="875"/>
                    </a:lnTo>
                    <a:lnTo>
                      <a:pt x="606" y="860"/>
                    </a:lnTo>
                    <a:lnTo>
                      <a:pt x="545" y="845"/>
                    </a:lnTo>
                    <a:lnTo>
                      <a:pt x="488" y="829"/>
                    </a:lnTo>
                    <a:lnTo>
                      <a:pt x="432" y="812"/>
                    </a:lnTo>
                    <a:lnTo>
                      <a:pt x="380" y="794"/>
                    </a:lnTo>
                    <a:lnTo>
                      <a:pt x="330" y="774"/>
                    </a:lnTo>
                    <a:lnTo>
                      <a:pt x="284" y="755"/>
                    </a:lnTo>
                    <a:lnTo>
                      <a:pt x="240" y="735"/>
                    </a:lnTo>
                    <a:lnTo>
                      <a:pt x="201" y="715"/>
                    </a:lnTo>
                    <a:lnTo>
                      <a:pt x="164" y="693"/>
                    </a:lnTo>
                    <a:lnTo>
                      <a:pt x="130" y="671"/>
                    </a:lnTo>
                    <a:lnTo>
                      <a:pt x="101" y="648"/>
                    </a:lnTo>
                    <a:lnTo>
                      <a:pt x="75" y="626"/>
                    </a:lnTo>
                    <a:lnTo>
                      <a:pt x="53" y="602"/>
                    </a:lnTo>
                    <a:lnTo>
                      <a:pt x="33" y="578"/>
                    </a:lnTo>
                    <a:lnTo>
                      <a:pt x="19" y="553"/>
                    </a:lnTo>
                    <a:lnTo>
                      <a:pt x="8" y="529"/>
                    </a:lnTo>
                    <a:lnTo>
                      <a:pt x="2" y="504"/>
                    </a:lnTo>
                    <a:lnTo>
                      <a:pt x="0" y="478"/>
                    </a:lnTo>
                    <a:lnTo>
                      <a:pt x="2" y="452"/>
                    </a:lnTo>
                    <a:lnTo>
                      <a:pt x="8" y="427"/>
                    </a:lnTo>
                    <a:lnTo>
                      <a:pt x="19" y="403"/>
                    </a:lnTo>
                    <a:lnTo>
                      <a:pt x="33" y="379"/>
                    </a:lnTo>
                    <a:lnTo>
                      <a:pt x="53" y="356"/>
                    </a:lnTo>
                    <a:lnTo>
                      <a:pt x="75" y="332"/>
                    </a:lnTo>
                    <a:lnTo>
                      <a:pt x="101" y="310"/>
                    </a:lnTo>
                    <a:lnTo>
                      <a:pt x="130" y="288"/>
                    </a:lnTo>
                    <a:lnTo>
                      <a:pt x="164" y="267"/>
                    </a:lnTo>
                    <a:lnTo>
                      <a:pt x="201" y="245"/>
                    </a:lnTo>
                    <a:lnTo>
                      <a:pt x="240" y="226"/>
                    </a:lnTo>
                    <a:lnTo>
                      <a:pt x="284" y="206"/>
                    </a:lnTo>
                    <a:lnTo>
                      <a:pt x="330" y="188"/>
                    </a:lnTo>
                    <a:lnTo>
                      <a:pt x="380" y="170"/>
                    </a:lnTo>
                    <a:lnTo>
                      <a:pt x="432" y="153"/>
                    </a:lnTo>
                    <a:lnTo>
                      <a:pt x="488" y="136"/>
                    </a:lnTo>
                    <a:lnTo>
                      <a:pt x="545" y="121"/>
                    </a:lnTo>
                    <a:lnTo>
                      <a:pt x="606" y="106"/>
                    </a:lnTo>
                    <a:lnTo>
                      <a:pt x="669" y="92"/>
                    </a:lnTo>
                    <a:lnTo>
                      <a:pt x="734" y="79"/>
                    </a:lnTo>
                    <a:lnTo>
                      <a:pt x="801" y="67"/>
                    </a:lnTo>
                    <a:lnTo>
                      <a:pt x="871" y="56"/>
                    </a:lnTo>
                    <a:lnTo>
                      <a:pt x="942" y="46"/>
                    </a:lnTo>
                    <a:lnTo>
                      <a:pt x="1017" y="37"/>
                    </a:lnTo>
                    <a:lnTo>
                      <a:pt x="1092" y="28"/>
                    </a:lnTo>
                    <a:lnTo>
                      <a:pt x="1170" y="20"/>
                    </a:lnTo>
                    <a:lnTo>
                      <a:pt x="1248" y="14"/>
                    </a:lnTo>
                    <a:lnTo>
                      <a:pt x="1329" y="9"/>
                    </a:lnTo>
                    <a:lnTo>
                      <a:pt x="1411" y="5"/>
                    </a:lnTo>
                    <a:lnTo>
                      <a:pt x="1495" y="2"/>
                    </a:lnTo>
                    <a:lnTo>
                      <a:pt x="1579" y="0"/>
                    </a:lnTo>
                    <a:lnTo>
                      <a:pt x="1664" y="0"/>
                    </a:lnTo>
                    <a:lnTo>
                      <a:pt x="1750" y="0"/>
                    </a:lnTo>
                    <a:lnTo>
                      <a:pt x="1835" y="2"/>
                    </a:lnTo>
                    <a:lnTo>
                      <a:pt x="1918" y="5"/>
                    </a:lnTo>
                    <a:lnTo>
                      <a:pt x="2000" y="9"/>
                    </a:lnTo>
                    <a:lnTo>
                      <a:pt x="2081" y="14"/>
                    </a:lnTo>
                    <a:lnTo>
                      <a:pt x="2159" y="20"/>
                    </a:lnTo>
                    <a:lnTo>
                      <a:pt x="2237" y="28"/>
                    </a:lnTo>
                    <a:lnTo>
                      <a:pt x="2313" y="37"/>
                    </a:lnTo>
                    <a:lnTo>
                      <a:pt x="2387" y="46"/>
                    </a:lnTo>
                    <a:lnTo>
                      <a:pt x="2458" y="56"/>
                    </a:lnTo>
                    <a:lnTo>
                      <a:pt x="2528" y="67"/>
                    </a:lnTo>
                    <a:lnTo>
                      <a:pt x="2596" y="79"/>
                    </a:lnTo>
                    <a:lnTo>
                      <a:pt x="2660" y="92"/>
                    </a:lnTo>
                    <a:lnTo>
                      <a:pt x="2723" y="106"/>
                    </a:lnTo>
                    <a:lnTo>
                      <a:pt x="2783" y="121"/>
                    </a:lnTo>
                    <a:lnTo>
                      <a:pt x="2842" y="136"/>
                    </a:lnTo>
                    <a:lnTo>
                      <a:pt x="2897" y="153"/>
                    </a:lnTo>
                    <a:lnTo>
                      <a:pt x="2949" y="170"/>
                    </a:lnTo>
                    <a:lnTo>
                      <a:pt x="2999" y="188"/>
                    </a:lnTo>
                    <a:lnTo>
                      <a:pt x="3045" y="206"/>
                    </a:lnTo>
                    <a:lnTo>
                      <a:pt x="3088" y="226"/>
                    </a:lnTo>
                    <a:lnTo>
                      <a:pt x="3128" y="245"/>
                    </a:lnTo>
                    <a:lnTo>
                      <a:pt x="3165" y="267"/>
                    </a:lnTo>
                    <a:lnTo>
                      <a:pt x="3199" y="288"/>
                    </a:lnTo>
                    <a:lnTo>
                      <a:pt x="3228" y="310"/>
                    </a:lnTo>
                    <a:lnTo>
                      <a:pt x="3254" y="332"/>
                    </a:lnTo>
                    <a:lnTo>
                      <a:pt x="3276" y="356"/>
                    </a:lnTo>
                    <a:lnTo>
                      <a:pt x="3296" y="379"/>
                    </a:lnTo>
                    <a:lnTo>
                      <a:pt x="3310" y="403"/>
                    </a:lnTo>
                    <a:lnTo>
                      <a:pt x="3321" y="427"/>
                    </a:lnTo>
                    <a:lnTo>
                      <a:pt x="3327" y="452"/>
                    </a:lnTo>
                    <a:lnTo>
                      <a:pt x="3329" y="4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107440" y="6520320"/>
                <a:ext cx="366480" cy="115560"/>
              </a:xfrm>
              <a:custGeom>
                <a:avLst/>
                <a:gdLst/>
                <a:ahLst/>
                <a:rect l="l" t="t" r="r" b="b"/>
                <a:pathLst>
                  <a:path w="3327" h="972">
                    <a:moveTo>
                      <a:pt x="3327" y="478"/>
                    </a:moveTo>
                    <a:lnTo>
                      <a:pt x="3325" y="503"/>
                    </a:lnTo>
                    <a:lnTo>
                      <a:pt x="3318" y="528"/>
                    </a:lnTo>
                    <a:lnTo>
                      <a:pt x="3308" y="552"/>
                    </a:lnTo>
                    <a:lnTo>
                      <a:pt x="3292" y="577"/>
                    </a:lnTo>
                    <a:lnTo>
                      <a:pt x="3274" y="601"/>
                    </a:lnTo>
                    <a:lnTo>
                      <a:pt x="3252" y="624"/>
                    </a:lnTo>
                    <a:lnTo>
                      <a:pt x="3226" y="647"/>
                    </a:lnTo>
                    <a:lnTo>
                      <a:pt x="3196" y="669"/>
                    </a:lnTo>
                    <a:lnTo>
                      <a:pt x="3162" y="692"/>
                    </a:lnTo>
                    <a:lnTo>
                      <a:pt x="3126" y="713"/>
                    </a:lnTo>
                    <a:lnTo>
                      <a:pt x="3085" y="734"/>
                    </a:lnTo>
                    <a:lnTo>
                      <a:pt x="3043" y="754"/>
                    </a:lnTo>
                    <a:lnTo>
                      <a:pt x="2997" y="773"/>
                    </a:lnTo>
                    <a:lnTo>
                      <a:pt x="2947" y="792"/>
                    </a:lnTo>
                    <a:lnTo>
                      <a:pt x="2895" y="810"/>
                    </a:lnTo>
                    <a:lnTo>
                      <a:pt x="2840" y="827"/>
                    </a:lnTo>
                    <a:lnTo>
                      <a:pt x="2781" y="843"/>
                    </a:lnTo>
                    <a:lnTo>
                      <a:pt x="2722" y="859"/>
                    </a:lnTo>
                    <a:lnTo>
                      <a:pt x="2658" y="873"/>
                    </a:lnTo>
                    <a:lnTo>
                      <a:pt x="2594" y="887"/>
                    </a:lnTo>
                    <a:lnTo>
                      <a:pt x="2526" y="901"/>
                    </a:lnTo>
                    <a:lnTo>
                      <a:pt x="2456" y="913"/>
                    </a:lnTo>
                    <a:lnTo>
                      <a:pt x="2385" y="923"/>
                    </a:lnTo>
                    <a:lnTo>
                      <a:pt x="2311" y="933"/>
                    </a:lnTo>
                    <a:lnTo>
                      <a:pt x="2235" y="942"/>
                    </a:lnTo>
                    <a:lnTo>
                      <a:pt x="2158" y="950"/>
                    </a:lnTo>
                    <a:lnTo>
                      <a:pt x="2080" y="956"/>
                    </a:lnTo>
                    <a:lnTo>
                      <a:pt x="1999" y="962"/>
                    </a:lnTo>
                    <a:lnTo>
                      <a:pt x="1917" y="966"/>
                    </a:lnTo>
                    <a:lnTo>
                      <a:pt x="1833" y="969"/>
                    </a:lnTo>
                    <a:lnTo>
                      <a:pt x="1749" y="971"/>
                    </a:lnTo>
                    <a:lnTo>
                      <a:pt x="1663" y="972"/>
                    </a:lnTo>
                    <a:lnTo>
                      <a:pt x="1578" y="971"/>
                    </a:lnTo>
                    <a:lnTo>
                      <a:pt x="1494" y="969"/>
                    </a:lnTo>
                    <a:lnTo>
                      <a:pt x="1410" y="966"/>
                    </a:lnTo>
                    <a:lnTo>
                      <a:pt x="1328" y="962"/>
                    </a:lnTo>
                    <a:lnTo>
                      <a:pt x="1247" y="956"/>
                    </a:lnTo>
                    <a:lnTo>
                      <a:pt x="1169" y="950"/>
                    </a:lnTo>
                    <a:lnTo>
                      <a:pt x="1092" y="942"/>
                    </a:lnTo>
                    <a:lnTo>
                      <a:pt x="1016" y="933"/>
                    </a:lnTo>
                    <a:lnTo>
                      <a:pt x="942" y="923"/>
                    </a:lnTo>
                    <a:lnTo>
                      <a:pt x="871" y="913"/>
                    </a:lnTo>
                    <a:lnTo>
                      <a:pt x="801" y="901"/>
                    </a:lnTo>
                    <a:lnTo>
                      <a:pt x="733" y="887"/>
                    </a:lnTo>
                    <a:lnTo>
                      <a:pt x="669" y="873"/>
                    </a:lnTo>
                    <a:lnTo>
                      <a:pt x="606" y="859"/>
                    </a:lnTo>
                    <a:lnTo>
                      <a:pt x="545" y="843"/>
                    </a:lnTo>
                    <a:lnTo>
                      <a:pt x="488" y="827"/>
                    </a:lnTo>
                    <a:lnTo>
                      <a:pt x="432" y="810"/>
                    </a:lnTo>
                    <a:lnTo>
                      <a:pt x="380" y="792"/>
                    </a:lnTo>
                    <a:lnTo>
                      <a:pt x="330" y="773"/>
                    </a:lnTo>
                    <a:lnTo>
                      <a:pt x="285" y="754"/>
                    </a:lnTo>
                    <a:lnTo>
                      <a:pt x="241" y="734"/>
                    </a:lnTo>
                    <a:lnTo>
                      <a:pt x="201" y="713"/>
                    </a:lnTo>
                    <a:lnTo>
                      <a:pt x="165" y="692"/>
                    </a:lnTo>
                    <a:lnTo>
                      <a:pt x="131" y="669"/>
                    </a:lnTo>
                    <a:lnTo>
                      <a:pt x="101" y="647"/>
                    </a:lnTo>
                    <a:lnTo>
                      <a:pt x="75" y="624"/>
                    </a:lnTo>
                    <a:lnTo>
                      <a:pt x="53" y="601"/>
                    </a:lnTo>
                    <a:lnTo>
                      <a:pt x="34" y="577"/>
                    </a:lnTo>
                    <a:lnTo>
                      <a:pt x="19" y="552"/>
                    </a:lnTo>
                    <a:lnTo>
                      <a:pt x="9" y="528"/>
                    </a:lnTo>
                    <a:lnTo>
                      <a:pt x="2" y="503"/>
                    </a:lnTo>
                    <a:lnTo>
                      <a:pt x="0" y="478"/>
                    </a:lnTo>
                    <a:lnTo>
                      <a:pt x="2" y="451"/>
                    </a:lnTo>
                    <a:lnTo>
                      <a:pt x="9" y="427"/>
                    </a:lnTo>
                    <a:lnTo>
                      <a:pt x="19" y="402"/>
                    </a:lnTo>
                    <a:lnTo>
                      <a:pt x="34" y="378"/>
                    </a:lnTo>
                    <a:lnTo>
                      <a:pt x="53" y="355"/>
                    </a:lnTo>
                    <a:lnTo>
                      <a:pt x="75" y="331"/>
                    </a:lnTo>
                    <a:lnTo>
                      <a:pt x="101" y="309"/>
                    </a:lnTo>
                    <a:lnTo>
                      <a:pt x="131" y="287"/>
                    </a:lnTo>
                    <a:lnTo>
                      <a:pt x="165" y="266"/>
                    </a:lnTo>
                    <a:lnTo>
                      <a:pt x="201" y="245"/>
                    </a:lnTo>
                    <a:lnTo>
                      <a:pt x="241" y="225"/>
                    </a:lnTo>
                    <a:lnTo>
                      <a:pt x="285" y="206"/>
                    </a:lnTo>
                    <a:lnTo>
                      <a:pt x="330" y="188"/>
                    </a:lnTo>
                    <a:lnTo>
                      <a:pt x="380" y="170"/>
                    </a:lnTo>
                    <a:lnTo>
                      <a:pt x="432" y="153"/>
                    </a:lnTo>
                    <a:lnTo>
                      <a:pt x="488" y="136"/>
                    </a:lnTo>
                    <a:lnTo>
                      <a:pt x="545" y="120"/>
                    </a:lnTo>
                    <a:lnTo>
                      <a:pt x="606" y="106"/>
                    </a:lnTo>
                    <a:lnTo>
                      <a:pt x="669" y="92"/>
                    </a:lnTo>
                    <a:lnTo>
                      <a:pt x="733" y="79"/>
                    </a:lnTo>
                    <a:lnTo>
                      <a:pt x="801" y="67"/>
                    </a:lnTo>
                    <a:lnTo>
                      <a:pt x="871" y="56"/>
                    </a:lnTo>
                    <a:lnTo>
                      <a:pt x="942" y="46"/>
                    </a:lnTo>
                    <a:lnTo>
                      <a:pt x="1016" y="37"/>
                    </a:lnTo>
                    <a:lnTo>
                      <a:pt x="1092" y="27"/>
                    </a:lnTo>
                    <a:lnTo>
                      <a:pt x="1169" y="20"/>
                    </a:lnTo>
                    <a:lnTo>
                      <a:pt x="1247" y="14"/>
                    </a:lnTo>
                    <a:lnTo>
                      <a:pt x="1328" y="9"/>
                    </a:lnTo>
                    <a:lnTo>
                      <a:pt x="1410" y="5"/>
                    </a:lnTo>
                    <a:lnTo>
                      <a:pt x="1494" y="2"/>
                    </a:lnTo>
                    <a:lnTo>
                      <a:pt x="1578" y="0"/>
                    </a:lnTo>
                    <a:lnTo>
                      <a:pt x="1663" y="0"/>
                    </a:lnTo>
                    <a:lnTo>
                      <a:pt x="1749" y="0"/>
                    </a:lnTo>
                    <a:lnTo>
                      <a:pt x="1833" y="2"/>
                    </a:lnTo>
                    <a:lnTo>
                      <a:pt x="1917" y="5"/>
                    </a:lnTo>
                    <a:lnTo>
                      <a:pt x="1999" y="9"/>
                    </a:lnTo>
                    <a:lnTo>
                      <a:pt x="2080" y="14"/>
                    </a:lnTo>
                    <a:lnTo>
                      <a:pt x="2158" y="20"/>
                    </a:lnTo>
                    <a:lnTo>
                      <a:pt x="2235" y="27"/>
                    </a:lnTo>
                    <a:lnTo>
                      <a:pt x="2311" y="37"/>
                    </a:lnTo>
                    <a:lnTo>
                      <a:pt x="2385" y="46"/>
                    </a:lnTo>
                    <a:lnTo>
                      <a:pt x="2456" y="56"/>
                    </a:lnTo>
                    <a:lnTo>
                      <a:pt x="2526" y="67"/>
                    </a:lnTo>
                    <a:lnTo>
                      <a:pt x="2594" y="79"/>
                    </a:lnTo>
                    <a:lnTo>
                      <a:pt x="2658" y="92"/>
                    </a:lnTo>
                    <a:lnTo>
                      <a:pt x="2722" y="106"/>
                    </a:lnTo>
                    <a:lnTo>
                      <a:pt x="2781" y="120"/>
                    </a:lnTo>
                    <a:lnTo>
                      <a:pt x="2840" y="136"/>
                    </a:lnTo>
                    <a:lnTo>
                      <a:pt x="2895" y="153"/>
                    </a:lnTo>
                    <a:lnTo>
                      <a:pt x="2947" y="170"/>
                    </a:lnTo>
                    <a:lnTo>
                      <a:pt x="2997" y="188"/>
                    </a:lnTo>
                    <a:lnTo>
                      <a:pt x="3043" y="206"/>
                    </a:lnTo>
                    <a:lnTo>
                      <a:pt x="3085" y="225"/>
                    </a:lnTo>
                    <a:lnTo>
                      <a:pt x="3126" y="245"/>
                    </a:lnTo>
                    <a:lnTo>
                      <a:pt x="3162" y="266"/>
                    </a:lnTo>
                    <a:lnTo>
                      <a:pt x="3196" y="287"/>
                    </a:lnTo>
                    <a:lnTo>
                      <a:pt x="3226" y="309"/>
                    </a:lnTo>
                    <a:lnTo>
                      <a:pt x="3252" y="331"/>
                    </a:lnTo>
                    <a:lnTo>
                      <a:pt x="3274" y="355"/>
                    </a:lnTo>
                    <a:lnTo>
                      <a:pt x="3292" y="378"/>
                    </a:lnTo>
                    <a:lnTo>
                      <a:pt x="3308" y="402"/>
                    </a:lnTo>
                    <a:lnTo>
                      <a:pt x="3318" y="427"/>
                    </a:lnTo>
                    <a:lnTo>
                      <a:pt x="3325" y="451"/>
                    </a:lnTo>
                    <a:lnTo>
                      <a:pt x="3327" y="4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107440" y="6520320"/>
                <a:ext cx="366480" cy="115560"/>
              </a:xfrm>
              <a:custGeom>
                <a:avLst/>
                <a:gdLst/>
                <a:ahLst/>
                <a:rect l="l" t="t" r="r" b="b"/>
                <a:pathLst>
                  <a:path w="3323" h="970">
                    <a:moveTo>
                      <a:pt x="3323" y="477"/>
                    </a:moveTo>
                    <a:lnTo>
                      <a:pt x="3321" y="502"/>
                    </a:lnTo>
                    <a:lnTo>
                      <a:pt x="3315" y="527"/>
                    </a:lnTo>
                    <a:lnTo>
                      <a:pt x="3304" y="551"/>
                    </a:lnTo>
                    <a:lnTo>
                      <a:pt x="3289" y="576"/>
                    </a:lnTo>
                    <a:lnTo>
                      <a:pt x="3271" y="600"/>
                    </a:lnTo>
                    <a:lnTo>
                      <a:pt x="3248" y="623"/>
                    </a:lnTo>
                    <a:lnTo>
                      <a:pt x="3223" y="646"/>
                    </a:lnTo>
                    <a:lnTo>
                      <a:pt x="3193" y="668"/>
                    </a:lnTo>
                    <a:lnTo>
                      <a:pt x="3159" y="691"/>
                    </a:lnTo>
                    <a:lnTo>
                      <a:pt x="3123" y="712"/>
                    </a:lnTo>
                    <a:lnTo>
                      <a:pt x="3082" y="732"/>
                    </a:lnTo>
                    <a:lnTo>
                      <a:pt x="3039" y="752"/>
                    </a:lnTo>
                    <a:lnTo>
                      <a:pt x="2994" y="771"/>
                    </a:lnTo>
                    <a:lnTo>
                      <a:pt x="2944" y="791"/>
                    </a:lnTo>
                    <a:lnTo>
                      <a:pt x="2892" y="808"/>
                    </a:lnTo>
                    <a:lnTo>
                      <a:pt x="2837" y="825"/>
                    </a:lnTo>
                    <a:lnTo>
                      <a:pt x="2778" y="842"/>
                    </a:lnTo>
                    <a:lnTo>
                      <a:pt x="2719" y="857"/>
                    </a:lnTo>
                    <a:lnTo>
                      <a:pt x="2656" y="872"/>
                    </a:lnTo>
                    <a:lnTo>
                      <a:pt x="2591" y="885"/>
                    </a:lnTo>
                    <a:lnTo>
                      <a:pt x="2523" y="899"/>
                    </a:lnTo>
                    <a:lnTo>
                      <a:pt x="2453" y="911"/>
                    </a:lnTo>
                    <a:lnTo>
                      <a:pt x="2382" y="921"/>
                    </a:lnTo>
                    <a:lnTo>
                      <a:pt x="2309" y="931"/>
                    </a:lnTo>
                    <a:lnTo>
                      <a:pt x="2233" y="940"/>
                    </a:lnTo>
                    <a:lnTo>
                      <a:pt x="2155" y="948"/>
                    </a:lnTo>
                    <a:lnTo>
                      <a:pt x="2077" y="954"/>
                    </a:lnTo>
                    <a:lnTo>
                      <a:pt x="1997" y="960"/>
                    </a:lnTo>
                    <a:lnTo>
                      <a:pt x="1915" y="964"/>
                    </a:lnTo>
                    <a:lnTo>
                      <a:pt x="1831" y="967"/>
                    </a:lnTo>
                    <a:lnTo>
                      <a:pt x="1747" y="969"/>
                    </a:lnTo>
                    <a:lnTo>
                      <a:pt x="1661" y="970"/>
                    </a:lnTo>
                    <a:lnTo>
                      <a:pt x="1576" y="969"/>
                    </a:lnTo>
                    <a:lnTo>
                      <a:pt x="1492" y="967"/>
                    </a:lnTo>
                    <a:lnTo>
                      <a:pt x="1408" y="964"/>
                    </a:lnTo>
                    <a:lnTo>
                      <a:pt x="1326" y="960"/>
                    </a:lnTo>
                    <a:lnTo>
                      <a:pt x="1246" y="954"/>
                    </a:lnTo>
                    <a:lnTo>
                      <a:pt x="1168" y="948"/>
                    </a:lnTo>
                    <a:lnTo>
                      <a:pt x="1090" y="940"/>
                    </a:lnTo>
                    <a:lnTo>
                      <a:pt x="1015" y="931"/>
                    </a:lnTo>
                    <a:lnTo>
                      <a:pt x="941" y="921"/>
                    </a:lnTo>
                    <a:lnTo>
                      <a:pt x="870" y="911"/>
                    </a:lnTo>
                    <a:lnTo>
                      <a:pt x="800" y="899"/>
                    </a:lnTo>
                    <a:lnTo>
                      <a:pt x="732" y="885"/>
                    </a:lnTo>
                    <a:lnTo>
                      <a:pt x="668" y="872"/>
                    </a:lnTo>
                    <a:lnTo>
                      <a:pt x="604" y="857"/>
                    </a:lnTo>
                    <a:lnTo>
                      <a:pt x="544" y="842"/>
                    </a:lnTo>
                    <a:lnTo>
                      <a:pt x="487" y="825"/>
                    </a:lnTo>
                    <a:lnTo>
                      <a:pt x="431" y="808"/>
                    </a:lnTo>
                    <a:lnTo>
                      <a:pt x="379" y="791"/>
                    </a:lnTo>
                    <a:lnTo>
                      <a:pt x="330" y="771"/>
                    </a:lnTo>
                    <a:lnTo>
                      <a:pt x="284" y="752"/>
                    </a:lnTo>
                    <a:lnTo>
                      <a:pt x="240" y="732"/>
                    </a:lnTo>
                    <a:lnTo>
                      <a:pt x="200" y="712"/>
                    </a:lnTo>
                    <a:lnTo>
                      <a:pt x="164" y="691"/>
                    </a:lnTo>
                    <a:lnTo>
                      <a:pt x="130" y="668"/>
                    </a:lnTo>
                    <a:lnTo>
                      <a:pt x="101" y="646"/>
                    </a:lnTo>
                    <a:lnTo>
                      <a:pt x="75" y="623"/>
                    </a:lnTo>
                    <a:lnTo>
                      <a:pt x="52" y="600"/>
                    </a:lnTo>
                    <a:lnTo>
                      <a:pt x="33" y="576"/>
                    </a:lnTo>
                    <a:lnTo>
                      <a:pt x="19" y="551"/>
                    </a:lnTo>
                    <a:lnTo>
                      <a:pt x="8" y="527"/>
                    </a:lnTo>
                    <a:lnTo>
                      <a:pt x="2" y="502"/>
                    </a:lnTo>
                    <a:lnTo>
                      <a:pt x="0" y="477"/>
                    </a:lnTo>
                    <a:lnTo>
                      <a:pt x="2" y="450"/>
                    </a:lnTo>
                    <a:lnTo>
                      <a:pt x="8" y="426"/>
                    </a:lnTo>
                    <a:lnTo>
                      <a:pt x="19" y="401"/>
                    </a:lnTo>
                    <a:lnTo>
                      <a:pt x="33" y="378"/>
                    </a:lnTo>
                    <a:lnTo>
                      <a:pt x="52" y="354"/>
                    </a:lnTo>
                    <a:lnTo>
                      <a:pt x="75" y="331"/>
                    </a:lnTo>
                    <a:lnTo>
                      <a:pt x="101" y="308"/>
                    </a:lnTo>
                    <a:lnTo>
                      <a:pt x="130" y="287"/>
                    </a:lnTo>
                    <a:lnTo>
                      <a:pt x="164" y="266"/>
                    </a:lnTo>
                    <a:lnTo>
                      <a:pt x="200" y="244"/>
                    </a:lnTo>
                    <a:lnTo>
                      <a:pt x="240" y="225"/>
                    </a:lnTo>
                    <a:lnTo>
                      <a:pt x="284" y="205"/>
                    </a:lnTo>
                    <a:lnTo>
                      <a:pt x="330" y="187"/>
                    </a:lnTo>
                    <a:lnTo>
                      <a:pt x="379" y="169"/>
                    </a:lnTo>
                    <a:lnTo>
                      <a:pt x="431" y="152"/>
                    </a:lnTo>
                    <a:lnTo>
                      <a:pt x="487" y="135"/>
                    </a:lnTo>
                    <a:lnTo>
                      <a:pt x="544" y="120"/>
                    </a:lnTo>
                    <a:lnTo>
                      <a:pt x="604" y="105"/>
                    </a:lnTo>
                    <a:lnTo>
                      <a:pt x="668" y="92"/>
                    </a:lnTo>
                    <a:lnTo>
                      <a:pt x="732" y="79"/>
                    </a:lnTo>
                    <a:lnTo>
                      <a:pt x="800" y="67"/>
                    </a:lnTo>
                    <a:lnTo>
                      <a:pt x="870" y="56"/>
                    </a:lnTo>
                    <a:lnTo>
                      <a:pt x="941" y="46"/>
                    </a:lnTo>
                    <a:lnTo>
                      <a:pt x="1015" y="36"/>
                    </a:lnTo>
                    <a:lnTo>
                      <a:pt x="1090" y="27"/>
                    </a:lnTo>
                    <a:lnTo>
                      <a:pt x="1168" y="20"/>
                    </a:lnTo>
                    <a:lnTo>
                      <a:pt x="1246" y="14"/>
                    </a:lnTo>
                    <a:lnTo>
                      <a:pt x="1326" y="9"/>
                    </a:lnTo>
                    <a:lnTo>
                      <a:pt x="1408" y="5"/>
                    </a:lnTo>
                    <a:lnTo>
                      <a:pt x="1492" y="2"/>
                    </a:lnTo>
                    <a:lnTo>
                      <a:pt x="1576" y="0"/>
                    </a:lnTo>
                    <a:lnTo>
                      <a:pt x="1661" y="0"/>
                    </a:lnTo>
                    <a:lnTo>
                      <a:pt x="1747" y="0"/>
                    </a:lnTo>
                    <a:lnTo>
                      <a:pt x="1831" y="2"/>
                    </a:lnTo>
                    <a:lnTo>
                      <a:pt x="1915" y="5"/>
                    </a:lnTo>
                    <a:lnTo>
                      <a:pt x="1997" y="9"/>
                    </a:lnTo>
                    <a:lnTo>
                      <a:pt x="2077" y="14"/>
                    </a:lnTo>
                    <a:lnTo>
                      <a:pt x="2155" y="20"/>
                    </a:lnTo>
                    <a:lnTo>
                      <a:pt x="2233" y="27"/>
                    </a:lnTo>
                    <a:lnTo>
                      <a:pt x="2309" y="36"/>
                    </a:lnTo>
                    <a:lnTo>
                      <a:pt x="2382" y="46"/>
                    </a:lnTo>
                    <a:lnTo>
                      <a:pt x="2453" y="56"/>
                    </a:lnTo>
                    <a:lnTo>
                      <a:pt x="2523" y="67"/>
                    </a:lnTo>
                    <a:lnTo>
                      <a:pt x="2591" y="79"/>
                    </a:lnTo>
                    <a:lnTo>
                      <a:pt x="2656" y="92"/>
                    </a:lnTo>
                    <a:lnTo>
                      <a:pt x="2719" y="105"/>
                    </a:lnTo>
                    <a:lnTo>
                      <a:pt x="2778" y="120"/>
                    </a:lnTo>
                    <a:lnTo>
                      <a:pt x="2837" y="135"/>
                    </a:lnTo>
                    <a:lnTo>
                      <a:pt x="2892" y="152"/>
                    </a:lnTo>
                    <a:lnTo>
                      <a:pt x="2944" y="169"/>
                    </a:lnTo>
                    <a:lnTo>
                      <a:pt x="2994" y="187"/>
                    </a:lnTo>
                    <a:lnTo>
                      <a:pt x="3039" y="205"/>
                    </a:lnTo>
                    <a:lnTo>
                      <a:pt x="3082" y="225"/>
                    </a:lnTo>
                    <a:lnTo>
                      <a:pt x="3123" y="244"/>
                    </a:lnTo>
                    <a:lnTo>
                      <a:pt x="3159" y="266"/>
                    </a:lnTo>
                    <a:lnTo>
                      <a:pt x="3193" y="287"/>
                    </a:lnTo>
                    <a:lnTo>
                      <a:pt x="3223" y="308"/>
                    </a:lnTo>
                    <a:lnTo>
                      <a:pt x="3248" y="331"/>
                    </a:lnTo>
                    <a:lnTo>
                      <a:pt x="3271" y="354"/>
                    </a:lnTo>
                    <a:lnTo>
                      <a:pt x="3289" y="378"/>
                    </a:lnTo>
                    <a:lnTo>
                      <a:pt x="3304" y="401"/>
                    </a:lnTo>
                    <a:lnTo>
                      <a:pt x="3315" y="426"/>
                    </a:lnTo>
                    <a:lnTo>
                      <a:pt x="3321" y="450"/>
                    </a:lnTo>
                    <a:lnTo>
                      <a:pt x="3323" y="4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107440" y="6520320"/>
                <a:ext cx="366480" cy="115560"/>
              </a:xfrm>
              <a:custGeom>
                <a:avLst/>
                <a:gdLst/>
                <a:ahLst/>
                <a:rect l="l" t="t" r="r" b="b"/>
                <a:pathLst>
                  <a:path w="3321" h="968">
                    <a:moveTo>
                      <a:pt x="3321" y="476"/>
                    </a:moveTo>
                    <a:lnTo>
                      <a:pt x="3319" y="501"/>
                    </a:lnTo>
                    <a:lnTo>
                      <a:pt x="3313" y="525"/>
                    </a:lnTo>
                    <a:lnTo>
                      <a:pt x="3302" y="550"/>
                    </a:lnTo>
                    <a:lnTo>
                      <a:pt x="3287" y="575"/>
                    </a:lnTo>
                    <a:lnTo>
                      <a:pt x="3268" y="599"/>
                    </a:lnTo>
                    <a:lnTo>
                      <a:pt x="3246" y="622"/>
                    </a:lnTo>
                    <a:lnTo>
                      <a:pt x="3220" y="644"/>
                    </a:lnTo>
                    <a:lnTo>
                      <a:pt x="3191" y="667"/>
                    </a:lnTo>
                    <a:lnTo>
                      <a:pt x="3157" y="689"/>
                    </a:lnTo>
                    <a:lnTo>
                      <a:pt x="3121" y="710"/>
                    </a:lnTo>
                    <a:lnTo>
                      <a:pt x="3080" y="731"/>
                    </a:lnTo>
                    <a:lnTo>
                      <a:pt x="3037" y="751"/>
                    </a:lnTo>
                    <a:lnTo>
                      <a:pt x="2991" y="770"/>
                    </a:lnTo>
                    <a:lnTo>
                      <a:pt x="2942" y="789"/>
                    </a:lnTo>
                    <a:lnTo>
                      <a:pt x="2890" y="807"/>
                    </a:lnTo>
                    <a:lnTo>
                      <a:pt x="2834" y="824"/>
                    </a:lnTo>
                    <a:lnTo>
                      <a:pt x="2776" y="840"/>
                    </a:lnTo>
                    <a:lnTo>
                      <a:pt x="2717" y="855"/>
                    </a:lnTo>
                    <a:lnTo>
                      <a:pt x="2654" y="870"/>
                    </a:lnTo>
                    <a:lnTo>
                      <a:pt x="2589" y="883"/>
                    </a:lnTo>
                    <a:lnTo>
                      <a:pt x="2521" y="897"/>
                    </a:lnTo>
                    <a:lnTo>
                      <a:pt x="2452" y="909"/>
                    </a:lnTo>
                    <a:lnTo>
                      <a:pt x="2381" y="920"/>
                    </a:lnTo>
                    <a:lnTo>
                      <a:pt x="2307" y="929"/>
                    </a:lnTo>
                    <a:lnTo>
                      <a:pt x="2231" y="938"/>
                    </a:lnTo>
                    <a:lnTo>
                      <a:pt x="2154" y="946"/>
                    </a:lnTo>
                    <a:lnTo>
                      <a:pt x="2076" y="952"/>
                    </a:lnTo>
                    <a:lnTo>
                      <a:pt x="1995" y="958"/>
                    </a:lnTo>
                    <a:lnTo>
                      <a:pt x="1913" y="962"/>
                    </a:lnTo>
                    <a:lnTo>
                      <a:pt x="1830" y="965"/>
                    </a:lnTo>
                    <a:lnTo>
                      <a:pt x="1746" y="967"/>
                    </a:lnTo>
                    <a:lnTo>
                      <a:pt x="1660" y="968"/>
                    </a:lnTo>
                    <a:lnTo>
                      <a:pt x="1575" y="967"/>
                    </a:lnTo>
                    <a:lnTo>
                      <a:pt x="1491" y="965"/>
                    </a:lnTo>
                    <a:lnTo>
                      <a:pt x="1408" y="962"/>
                    </a:lnTo>
                    <a:lnTo>
                      <a:pt x="1326" y="958"/>
                    </a:lnTo>
                    <a:lnTo>
                      <a:pt x="1245" y="952"/>
                    </a:lnTo>
                    <a:lnTo>
                      <a:pt x="1167" y="946"/>
                    </a:lnTo>
                    <a:lnTo>
                      <a:pt x="1090" y="938"/>
                    </a:lnTo>
                    <a:lnTo>
                      <a:pt x="1014" y="929"/>
                    </a:lnTo>
                    <a:lnTo>
                      <a:pt x="940" y="920"/>
                    </a:lnTo>
                    <a:lnTo>
                      <a:pt x="869" y="909"/>
                    </a:lnTo>
                    <a:lnTo>
                      <a:pt x="800" y="897"/>
                    </a:lnTo>
                    <a:lnTo>
                      <a:pt x="732" y="883"/>
                    </a:lnTo>
                    <a:lnTo>
                      <a:pt x="667" y="870"/>
                    </a:lnTo>
                    <a:lnTo>
                      <a:pt x="604" y="855"/>
                    </a:lnTo>
                    <a:lnTo>
                      <a:pt x="544" y="840"/>
                    </a:lnTo>
                    <a:lnTo>
                      <a:pt x="487" y="824"/>
                    </a:lnTo>
                    <a:lnTo>
                      <a:pt x="431" y="807"/>
                    </a:lnTo>
                    <a:lnTo>
                      <a:pt x="380" y="789"/>
                    </a:lnTo>
                    <a:lnTo>
                      <a:pt x="330" y="770"/>
                    </a:lnTo>
                    <a:lnTo>
                      <a:pt x="284" y="751"/>
                    </a:lnTo>
                    <a:lnTo>
                      <a:pt x="240" y="731"/>
                    </a:lnTo>
                    <a:lnTo>
                      <a:pt x="201" y="710"/>
                    </a:lnTo>
                    <a:lnTo>
                      <a:pt x="164" y="689"/>
                    </a:lnTo>
                    <a:lnTo>
                      <a:pt x="130" y="667"/>
                    </a:lnTo>
                    <a:lnTo>
                      <a:pt x="101" y="644"/>
                    </a:lnTo>
                    <a:lnTo>
                      <a:pt x="75" y="622"/>
                    </a:lnTo>
                    <a:lnTo>
                      <a:pt x="53" y="599"/>
                    </a:lnTo>
                    <a:lnTo>
                      <a:pt x="34" y="575"/>
                    </a:lnTo>
                    <a:lnTo>
                      <a:pt x="19" y="550"/>
                    </a:lnTo>
                    <a:lnTo>
                      <a:pt x="9" y="525"/>
                    </a:lnTo>
                    <a:lnTo>
                      <a:pt x="2" y="501"/>
                    </a:lnTo>
                    <a:lnTo>
                      <a:pt x="0" y="476"/>
                    </a:lnTo>
                    <a:lnTo>
                      <a:pt x="2" y="449"/>
                    </a:lnTo>
                    <a:lnTo>
                      <a:pt x="9" y="425"/>
                    </a:lnTo>
                    <a:lnTo>
                      <a:pt x="19" y="401"/>
                    </a:lnTo>
                    <a:lnTo>
                      <a:pt x="34" y="377"/>
                    </a:lnTo>
                    <a:lnTo>
                      <a:pt x="53" y="354"/>
                    </a:lnTo>
                    <a:lnTo>
                      <a:pt x="75" y="330"/>
                    </a:lnTo>
                    <a:lnTo>
                      <a:pt x="101" y="308"/>
                    </a:lnTo>
                    <a:lnTo>
                      <a:pt x="130" y="286"/>
                    </a:lnTo>
                    <a:lnTo>
                      <a:pt x="164" y="265"/>
                    </a:lnTo>
                    <a:lnTo>
                      <a:pt x="201" y="244"/>
                    </a:lnTo>
                    <a:lnTo>
                      <a:pt x="240" y="224"/>
                    </a:lnTo>
                    <a:lnTo>
                      <a:pt x="284" y="205"/>
                    </a:lnTo>
                    <a:lnTo>
                      <a:pt x="330" y="187"/>
                    </a:lnTo>
                    <a:lnTo>
                      <a:pt x="380" y="169"/>
                    </a:lnTo>
                    <a:lnTo>
                      <a:pt x="431" y="152"/>
                    </a:lnTo>
                    <a:lnTo>
                      <a:pt x="487" y="135"/>
                    </a:lnTo>
                    <a:lnTo>
                      <a:pt x="544" y="120"/>
                    </a:lnTo>
                    <a:lnTo>
                      <a:pt x="604" y="105"/>
                    </a:lnTo>
                    <a:lnTo>
                      <a:pt x="667" y="91"/>
                    </a:lnTo>
                    <a:lnTo>
                      <a:pt x="732" y="79"/>
                    </a:lnTo>
                    <a:lnTo>
                      <a:pt x="800" y="67"/>
                    </a:lnTo>
                    <a:lnTo>
                      <a:pt x="869" y="56"/>
                    </a:lnTo>
                    <a:lnTo>
                      <a:pt x="940" y="45"/>
                    </a:lnTo>
                    <a:lnTo>
                      <a:pt x="1014" y="36"/>
                    </a:lnTo>
                    <a:lnTo>
                      <a:pt x="1090" y="27"/>
                    </a:lnTo>
                    <a:lnTo>
                      <a:pt x="1167" y="20"/>
                    </a:lnTo>
                    <a:lnTo>
                      <a:pt x="1245" y="14"/>
                    </a:lnTo>
                    <a:lnTo>
                      <a:pt x="1326" y="9"/>
                    </a:lnTo>
                    <a:lnTo>
                      <a:pt x="1408" y="5"/>
                    </a:lnTo>
                    <a:lnTo>
                      <a:pt x="1491" y="2"/>
                    </a:lnTo>
                    <a:lnTo>
                      <a:pt x="1575" y="0"/>
                    </a:lnTo>
                    <a:lnTo>
                      <a:pt x="1660" y="0"/>
                    </a:lnTo>
                    <a:lnTo>
                      <a:pt x="1746" y="0"/>
                    </a:lnTo>
                    <a:lnTo>
                      <a:pt x="1830" y="2"/>
                    </a:lnTo>
                    <a:lnTo>
                      <a:pt x="1913" y="5"/>
                    </a:lnTo>
                    <a:lnTo>
                      <a:pt x="1995" y="9"/>
                    </a:lnTo>
                    <a:lnTo>
                      <a:pt x="2076" y="14"/>
                    </a:lnTo>
                    <a:lnTo>
                      <a:pt x="2154" y="20"/>
                    </a:lnTo>
                    <a:lnTo>
                      <a:pt x="2231" y="27"/>
                    </a:lnTo>
                    <a:lnTo>
                      <a:pt x="2307" y="36"/>
                    </a:lnTo>
                    <a:lnTo>
                      <a:pt x="2381" y="45"/>
                    </a:lnTo>
                    <a:lnTo>
                      <a:pt x="2452" y="56"/>
                    </a:lnTo>
                    <a:lnTo>
                      <a:pt x="2521" y="67"/>
                    </a:lnTo>
                    <a:lnTo>
                      <a:pt x="2589" y="79"/>
                    </a:lnTo>
                    <a:lnTo>
                      <a:pt x="2654" y="91"/>
                    </a:lnTo>
                    <a:lnTo>
                      <a:pt x="2717" y="105"/>
                    </a:lnTo>
                    <a:lnTo>
                      <a:pt x="2776" y="120"/>
                    </a:lnTo>
                    <a:lnTo>
                      <a:pt x="2834" y="135"/>
                    </a:lnTo>
                    <a:lnTo>
                      <a:pt x="2890" y="152"/>
                    </a:lnTo>
                    <a:lnTo>
                      <a:pt x="2942" y="169"/>
                    </a:lnTo>
                    <a:lnTo>
                      <a:pt x="2991" y="187"/>
                    </a:lnTo>
                    <a:lnTo>
                      <a:pt x="3037" y="205"/>
                    </a:lnTo>
                    <a:lnTo>
                      <a:pt x="3080" y="224"/>
                    </a:lnTo>
                    <a:lnTo>
                      <a:pt x="3121" y="244"/>
                    </a:lnTo>
                    <a:lnTo>
                      <a:pt x="3157" y="265"/>
                    </a:lnTo>
                    <a:lnTo>
                      <a:pt x="3191" y="286"/>
                    </a:lnTo>
                    <a:lnTo>
                      <a:pt x="3220" y="308"/>
                    </a:lnTo>
                    <a:lnTo>
                      <a:pt x="3246" y="330"/>
                    </a:lnTo>
                    <a:lnTo>
                      <a:pt x="3268" y="354"/>
                    </a:lnTo>
                    <a:lnTo>
                      <a:pt x="3287" y="377"/>
                    </a:lnTo>
                    <a:lnTo>
                      <a:pt x="3302" y="401"/>
                    </a:lnTo>
                    <a:lnTo>
                      <a:pt x="3313" y="425"/>
                    </a:lnTo>
                    <a:lnTo>
                      <a:pt x="3319" y="449"/>
                    </a:lnTo>
                    <a:lnTo>
                      <a:pt x="3321" y="4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107440" y="6520320"/>
                <a:ext cx="366480" cy="115560"/>
              </a:xfrm>
              <a:custGeom>
                <a:avLst/>
                <a:gdLst/>
                <a:ahLst/>
                <a:rect l="l" t="t" r="r" b="b"/>
                <a:pathLst>
                  <a:path w="3318" h="966">
                    <a:moveTo>
                      <a:pt x="3318" y="475"/>
                    </a:moveTo>
                    <a:lnTo>
                      <a:pt x="3315" y="500"/>
                    </a:lnTo>
                    <a:lnTo>
                      <a:pt x="3309" y="524"/>
                    </a:lnTo>
                    <a:lnTo>
                      <a:pt x="3299" y="549"/>
                    </a:lnTo>
                    <a:lnTo>
                      <a:pt x="3283" y="574"/>
                    </a:lnTo>
                    <a:lnTo>
                      <a:pt x="3265" y="597"/>
                    </a:lnTo>
                    <a:lnTo>
                      <a:pt x="3243" y="620"/>
                    </a:lnTo>
                    <a:lnTo>
                      <a:pt x="3217" y="643"/>
                    </a:lnTo>
                    <a:lnTo>
                      <a:pt x="3186" y="665"/>
                    </a:lnTo>
                    <a:lnTo>
                      <a:pt x="3154" y="688"/>
                    </a:lnTo>
                    <a:lnTo>
                      <a:pt x="3117" y="709"/>
                    </a:lnTo>
                    <a:lnTo>
                      <a:pt x="3077" y="729"/>
                    </a:lnTo>
                    <a:lnTo>
                      <a:pt x="3034" y="749"/>
                    </a:lnTo>
                    <a:lnTo>
                      <a:pt x="2988" y="768"/>
                    </a:lnTo>
                    <a:lnTo>
                      <a:pt x="2938" y="788"/>
                    </a:lnTo>
                    <a:lnTo>
                      <a:pt x="2887" y="805"/>
                    </a:lnTo>
                    <a:lnTo>
                      <a:pt x="2831" y="822"/>
                    </a:lnTo>
                    <a:lnTo>
                      <a:pt x="2773" y="838"/>
                    </a:lnTo>
                    <a:lnTo>
                      <a:pt x="2714" y="854"/>
                    </a:lnTo>
                    <a:lnTo>
                      <a:pt x="2651" y="868"/>
                    </a:lnTo>
                    <a:lnTo>
                      <a:pt x="2586" y="882"/>
                    </a:lnTo>
                    <a:lnTo>
                      <a:pt x="2519" y="895"/>
                    </a:lnTo>
                    <a:lnTo>
                      <a:pt x="2449" y="907"/>
                    </a:lnTo>
                    <a:lnTo>
                      <a:pt x="2378" y="918"/>
                    </a:lnTo>
                    <a:lnTo>
                      <a:pt x="2304" y="928"/>
                    </a:lnTo>
                    <a:lnTo>
                      <a:pt x="2229" y="936"/>
                    </a:lnTo>
                    <a:lnTo>
                      <a:pt x="2151" y="944"/>
                    </a:lnTo>
                    <a:lnTo>
                      <a:pt x="2074" y="951"/>
                    </a:lnTo>
                    <a:lnTo>
                      <a:pt x="1993" y="956"/>
                    </a:lnTo>
                    <a:lnTo>
                      <a:pt x="1911" y="960"/>
                    </a:lnTo>
                    <a:lnTo>
                      <a:pt x="1828" y="963"/>
                    </a:lnTo>
                    <a:lnTo>
                      <a:pt x="1744" y="965"/>
                    </a:lnTo>
                    <a:lnTo>
                      <a:pt x="1658" y="966"/>
                    </a:lnTo>
                    <a:lnTo>
                      <a:pt x="1574" y="965"/>
                    </a:lnTo>
                    <a:lnTo>
                      <a:pt x="1489" y="963"/>
                    </a:lnTo>
                    <a:lnTo>
                      <a:pt x="1406" y="960"/>
                    </a:lnTo>
                    <a:lnTo>
                      <a:pt x="1324" y="956"/>
                    </a:lnTo>
                    <a:lnTo>
                      <a:pt x="1244" y="951"/>
                    </a:lnTo>
                    <a:lnTo>
                      <a:pt x="1166" y="944"/>
                    </a:lnTo>
                    <a:lnTo>
                      <a:pt x="1088" y="936"/>
                    </a:lnTo>
                    <a:lnTo>
                      <a:pt x="1013" y="928"/>
                    </a:lnTo>
                    <a:lnTo>
                      <a:pt x="939" y="918"/>
                    </a:lnTo>
                    <a:lnTo>
                      <a:pt x="868" y="907"/>
                    </a:lnTo>
                    <a:lnTo>
                      <a:pt x="798" y="895"/>
                    </a:lnTo>
                    <a:lnTo>
                      <a:pt x="731" y="882"/>
                    </a:lnTo>
                    <a:lnTo>
                      <a:pt x="666" y="868"/>
                    </a:lnTo>
                    <a:lnTo>
                      <a:pt x="603" y="854"/>
                    </a:lnTo>
                    <a:lnTo>
                      <a:pt x="543" y="838"/>
                    </a:lnTo>
                    <a:lnTo>
                      <a:pt x="486" y="822"/>
                    </a:lnTo>
                    <a:lnTo>
                      <a:pt x="430" y="805"/>
                    </a:lnTo>
                    <a:lnTo>
                      <a:pt x="379" y="788"/>
                    </a:lnTo>
                    <a:lnTo>
                      <a:pt x="329" y="768"/>
                    </a:lnTo>
                    <a:lnTo>
                      <a:pt x="283" y="749"/>
                    </a:lnTo>
                    <a:lnTo>
                      <a:pt x="239" y="729"/>
                    </a:lnTo>
                    <a:lnTo>
                      <a:pt x="200" y="709"/>
                    </a:lnTo>
                    <a:lnTo>
                      <a:pt x="164" y="688"/>
                    </a:lnTo>
                    <a:lnTo>
                      <a:pt x="130" y="665"/>
                    </a:lnTo>
                    <a:lnTo>
                      <a:pt x="100" y="643"/>
                    </a:lnTo>
                    <a:lnTo>
                      <a:pt x="74" y="620"/>
                    </a:lnTo>
                    <a:lnTo>
                      <a:pt x="52" y="597"/>
                    </a:lnTo>
                    <a:lnTo>
                      <a:pt x="33" y="574"/>
                    </a:lnTo>
                    <a:lnTo>
                      <a:pt x="18" y="549"/>
                    </a:lnTo>
                    <a:lnTo>
                      <a:pt x="8" y="524"/>
                    </a:lnTo>
                    <a:lnTo>
                      <a:pt x="2" y="500"/>
                    </a:lnTo>
                    <a:lnTo>
                      <a:pt x="0" y="475"/>
                    </a:lnTo>
                    <a:lnTo>
                      <a:pt x="2" y="448"/>
                    </a:lnTo>
                    <a:lnTo>
                      <a:pt x="8" y="424"/>
                    </a:lnTo>
                    <a:lnTo>
                      <a:pt x="18" y="400"/>
                    </a:lnTo>
                    <a:lnTo>
                      <a:pt x="33" y="376"/>
                    </a:lnTo>
                    <a:lnTo>
                      <a:pt x="52" y="353"/>
                    </a:lnTo>
                    <a:lnTo>
                      <a:pt x="74" y="329"/>
                    </a:lnTo>
                    <a:lnTo>
                      <a:pt x="100" y="307"/>
                    </a:lnTo>
                    <a:lnTo>
                      <a:pt x="130" y="286"/>
                    </a:lnTo>
                    <a:lnTo>
                      <a:pt x="164" y="265"/>
                    </a:lnTo>
                    <a:lnTo>
                      <a:pt x="200" y="243"/>
                    </a:lnTo>
                    <a:lnTo>
                      <a:pt x="239" y="224"/>
                    </a:lnTo>
                    <a:lnTo>
                      <a:pt x="283" y="205"/>
                    </a:lnTo>
                    <a:lnTo>
                      <a:pt x="329" y="186"/>
                    </a:lnTo>
                    <a:lnTo>
                      <a:pt x="379" y="169"/>
                    </a:lnTo>
                    <a:lnTo>
                      <a:pt x="430" y="152"/>
                    </a:lnTo>
                    <a:lnTo>
                      <a:pt x="486" y="135"/>
                    </a:lnTo>
                    <a:lnTo>
                      <a:pt x="543" y="119"/>
                    </a:lnTo>
                    <a:lnTo>
                      <a:pt x="603" y="105"/>
                    </a:lnTo>
                    <a:lnTo>
                      <a:pt x="666" y="91"/>
                    </a:lnTo>
                    <a:lnTo>
                      <a:pt x="731" y="78"/>
                    </a:lnTo>
                    <a:lnTo>
                      <a:pt x="798" y="66"/>
                    </a:lnTo>
                    <a:lnTo>
                      <a:pt x="868" y="55"/>
                    </a:lnTo>
                    <a:lnTo>
                      <a:pt x="939" y="45"/>
                    </a:lnTo>
                    <a:lnTo>
                      <a:pt x="1013" y="36"/>
                    </a:lnTo>
                    <a:lnTo>
                      <a:pt x="1088" y="27"/>
                    </a:lnTo>
                    <a:lnTo>
                      <a:pt x="1166" y="20"/>
                    </a:lnTo>
                    <a:lnTo>
                      <a:pt x="1244" y="14"/>
                    </a:lnTo>
                    <a:lnTo>
                      <a:pt x="1324" y="9"/>
                    </a:lnTo>
                    <a:lnTo>
                      <a:pt x="1406" y="5"/>
                    </a:lnTo>
                    <a:lnTo>
                      <a:pt x="1489" y="2"/>
                    </a:lnTo>
                    <a:lnTo>
                      <a:pt x="1574" y="0"/>
                    </a:lnTo>
                    <a:lnTo>
                      <a:pt x="1658" y="0"/>
                    </a:lnTo>
                    <a:lnTo>
                      <a:pt x="1744" y="0"/>
                    </a:lnTo>
                    <a:lnTo>
                      <a:pt x="1828" y="2"/>
                    </a:lnTo>
                    <a:lnTo>
                      <a:pt x="1911" y="5"/>
                    </a:lnTo>
                    <a:lnTo>
                      <a:pt x="1993" y="9"/>
                    </a:lnTo>
                    <a:lnTo>
                      <a:pt x="2074" y="14"/>
                    </a:lnTo>
                    <a:lnTo>
                      <a:pt x="2151" y="20"/>
                    </a:lnTo>
                    <a:lnTo>
                      <a:pt x="2229" y="27"/>
                    </a:lnTo>
                    <a:lnTo>
                      <a:pt x="2304" y="36"/>
                    </a:lnTo>
                    <a:lnTo>
                      <a:pt x="2378" y="45"/>
                    </a:lnTo>
                    <a:lnTo>
                      <a:pt x="2449" y="55"/>
                    </a:lnTo>
                    <a:lnTo>
                      <a:pt x="2519" y="66"/>
                    </a:lnTo>
                    <a:lnTo>
                      <a:pt x="2586" y="78"/>
                    </a:lnTo>
                    <a:lnTo>
                      <a:pt x="2651" y="91"/>
                    </a:lnTo>
                    <a:lnTo>
                      <a:pt x="2714" y="105"/>
                    </a:lnTo>
                    <a:lnTo>
                      <a:pt x="2773" y="119"/>
                    </a:lnTo>
                    <a:lnTo>
                      <a:pt x="2831" y="135"/>
                    </a:lnTo>
                    <a:lnTo>
                      <a:pt x="2887" y="152"/>
                    </a:lnTo>
                    <a:lnTo>
                      <a:pt x="2938" y="169"/>
                    </a:lnTo>
                    <a:lnTo>
                      <a:pt x="2988" y="186"/>
                    </a:lnTo>
                    <a:lnTo>
                      <a:pt x="3034" y="205"/>
                    </a:lnTo>
                    <a:lnTo>
                      <a:pt x="3077" y="224"/>
                    </a:lnTo>
                    <a:lnTo>
                      <a:pt x="3117" y="243"/>
                    </a:lnTo>
                    <a:lnTo>
                      <a:pt x="3154" y="265"/>
                    </a:lnTo>
                    <a:lnTo>
                      <a:pt x="3186" y="286"/>
                    </a:lnTo>
                    <a:lnTo>
                      <a:pt x="3217" y="307"/>
                    </a:lnTo>
                    <a:lnTo>
                      <a:pt x="3243" y="329"/>
                    </a:lnTo>
                    <a:lnTo>
                      <a:pt x="3265" y="353"/>
                    </a:lnTo>
                    <a:lnTo>
                      <a:pt x="3283" y="376"/>
                    </a:lnTo>
                    <a:lnTo>
                      <a:pt x="3299" y="400"/>
                    </a:lnTo>
                    <a:lnTo>
                      <a:pt x="3309" y="424"/>
                    </a:lnTo>
                    <a:lnTo>
                      <a:pt x="3315" y="448"/>
                    </a:lnTo>
                    <a:lnTo>
                      <a:pt x="3318" y="4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107440" y="6520320"/>
                <a:ext cx="366480" cy="115560"/>
              </a:xfrm>
              <a:custGeom>
                <a:avLst/>
                <a:gdLst/>
                <a:ahLst/>
                <a:rect l="l" t="t" r="r" b="b"/>
                <a:pathLst>
                  <a:path w="3315" h="965">
                    <a:moveTo>
                      <a:pt x="3315" y="475"/>
                    </a:moveTo>
                    <a:lnTo>
                      <a:pt x="3313" y="500"/>
                    </a:lnTo>
                    <a:lnTo>
                      <a:pt x="3307" y="524"/>
                    </a:lnTo>
                    <a:lnTo>
                      <a:pt x="3296" y="549"/>
                    </a:lnTo>
                    <a:lnTo>
                      <a:pt x="3281" y="574"/>
                    </a:lnTo>
                    <a:lnTo>
                      <a:pt x="3262" y="597"/>
                    </a:lnTo>
                    <a:lnTo>
                      <a:pt x="3240" y="620"/>
                    </a:lnTo>
                    <a:lnTo>
                      <a:pt x="3215" y="643"/>
                    </a:lnTo>
                    <a:lnTo>
                      <a:pt x="3184" y="665"/>
                    </a:lnTo>
                    <a:lnTo>
                      <a:pt x="3151" y="687"/>
                    </a:lnTo>
                    <a:lnTo>
                      <a:pt x="3115" y="708"/>
                    </a:lnTo>
                    <a:lnTo>
                      <a:pt x="3075" y="729"/>
                    </a:lnTo>
                    <a:lnTo>
                      <a:pt x="3032" y="749"/>
                    </a:lnTo>
                    <a:lnTo>
                      <a:pt x="2986" y="768"/>
                    </a:lnTo>
                    <a:lnTo>
                      <a:pt x="2936" y="787"/>
                    </a:lnTo>
                    <a:lnTo>
                      <a:pt x="2885" y="805"/>
                    </a:lnTo>
                    <a:lnTo>
                      <a:pt x="2830" y="821"/>
                    </a:lnTo>
                    <a:lnTo>
                      <a:pt x="2771" y="838"/>
                    </a:lnTo>
                    <a:lnTo>
                      <a:pt x="2712" y="853"/>
                    </a:lnTo>
                    <a:lnTo>
                      <a:pt x="2649" y="867"/>
                    </a:lnTo>
                    <a:lnTo>
                      <a:pt x="2585" y="881"/>
                    </a:lnTo>
                    <a:lnTo>
                      <a:pt x="2517" y="895"/>
                    </a:lnTo>
                    <a:lnTo>
                      <a:pt x="2447" y="906"/>
                    </a:lnTo>
                    <a:lnTo>
                      <a:pt x="2377" y="917"/>
                    </a:lnTo>
                    <a:lnTo>
                      <a:pt x="2303" y="927"/>
                    </a:lnTo>
                    <a:lnTo>
                      <a:pt x="2227" y="935"/>
                    </a:lnTo>
                    <a:lnTo>
                      <a:pt x="2150" y="943"/>
                    </a:lnTo>
                    <a:lnTo>
                      <a:pt x="2072" y="950"/>
                    </a:lnTo>
                    <a:lnTo>
                      <a:pt x="1992" y="955"/>
                    </a:lnTo>
                    <a:lnTo>
                      <a:pt x="1910" y="959"/>
                    </a:lnTo>
                    <a:lnTo>
                      <a:pt x="1827" y="962"/>
                    </a:lnTo>
                    <a:lnTo>
                      <a:pt x="1742" y="964"/>
                    </a:lnTo>
                    <a:lnTo>
                      <a:pt x="1657" y="965"/>
                    </a:lnTo>
                    <a:lnTo>
                      <a:pt x="1573" y="964"/>
                    </a:lnTo>
                    <a:lnTo>
                      <a:pt x="1488" y="962"/>
                    </a:lnTo>
                    <a:lnTo>
                      <a:pt x="1405" y="959"/>
                    </a:lnTo>
                    <a:lnTo>
                      <a:pt x="1323" y="955"/>
                    </a:lnTo>
                    <a:lnTo>
                      <a:pt x="1243" y="950"/>
                    </a:lnTo>
                    <a:lnTo>
                      <a:pt x="1165" y="943"/>
                    </a:lnTo>
                    <a:lnTo>
                      <a:pt x="1088" y="935"/>
                    </a:lnTo>
                    <a:lnTo>
                      <a:pt x="1012" y="927"/>
                    </a:lnTo>
                    <a:lnTo>
                      <a:pt x="939" y="917"/>
                    </a:lnTo>
                    <a:lnTo>
                      <a:pt x="868" y="906"/>
                    </a:lnTo>
                    <a:lnTo>
                      <a:pt x="798" y="895"/>
                    </a:lnTo>
                    <a:lnTo>
                      <a:pt x="731" y="881"/>
                    </a:lnTo>
                    <a:lnTo>
                      <a:pt x="666" y="867"/>
                    </a:lnTo>
                    <a:lnTo>
                      <a:pt x="603" y="853"/>
                    </a:lnTo>
                    <a:lnTo>
                      <a:pt x="543" y="838"/>
                    </a:lnTo>
                    <a:lnTo>
                      <a:pt x="486" y="821"/>
                    </a:lnTo>
                    <a:lnTo>
                      <a:pt x="430" y="805"/>
                    </a:lnTo>
                    <a:lnTo>
                      <a:pt x="379" y="787"/>
                    </a:lnTo>
                    <a:lnTo>
                      <a:pt x="329" y="768"/>
                    </a:lnTo>
                    <a:lnTo>
                      <a:pt x="283" y="749"/>
                    </a:lnTo>
                    <a:lnTo>
                      <a:pt x="241" y="729"/>
                    </a:lnTo>
                    <a:lnTo>
                      <a:pt x="200" y="708"/>
                    </a:lnTo>
                    <a:lnTo>
                      <a:pt x="164" y="687"/>
                    </a:lnTo>
                    <a:lnTo>
                      <a:pt x="130" y="665"/>
                    </a:lnTo>
                    <a:lnTo>
                      <a:pt x="101" y="643"/>
                    </a:lnTo>
                    <a:lnTo>
                      <a:pt x="75" y="620"/>
                    </a:lnTo>
                    <a:lnTo>
                      <a:pt x="53" y="597"/>
                    </a:lnTo>
                    <a:lnTo>
                      <a:pt x="33" y="574"/>
                    </a:lnTo>
                    <a:lnTo>
                      <a:pt x="19" y="549"/>
                    </a:lnTo>
                    <a:lnTo>
                      <a:pt x="8" y="524"/>
                    </a:lnTo>
                    <a:lnTo>
                      <a:pt x="2" y="500"/>
                    </a:lnTo>
                    <a:lnTo>
                      <a:pt x="0" y="475"/>
                    </a:lnTo>
                    <a:lnTo>
                      <a:pt x="2" y="449"/>
                    </a:lnTo>
                    <a:lnTo>
                      <a:pt x="8" y="424"/>
                    </a:lnTo>
                    <a:lnTo>
                      <a:pt x="19" y="400"/>
                    </a:lnTo>
                    <a:lnTo>
                      <a:pt x="33" y="376"/>
                    </a:lnTo>
                    <a:lnTo>
                      <a:pt x="53" y="353"/>
                    </a:lnTo>
                    <a:lnTo>
                      <a:pt x="75" y="329"/>
                    </a:lnTo>
                    <a:lnTo>
                      <a:pt x="101" y="307"/>
                    </a:lnTo>
                    <a:lnTo>
                      <a:pt x="130" y="286"/>
                    </a:lnTo>
                    <a:lnTo>
                      <a:pt x="164" y="265"/>
                    </a:lnTo>
                    <a:lnTo>
                      <a:pt x="200" y="245"/>
                    </a:lnTo>
                    <a:lnTo>
                      <a:pt x="241" y="224"/>
                    </a:lnTo>
                    <a:lnTo>
                      <a:pt x="283" y="205"/>
                    </a:lnTo>
                    <a:lnTo>
                      <a:pt x="329" y="187"/>
                    </a:lnTo>
                    <a:lnTo>
                      <a:pt x="379" y="169"/>
                    </a:lnTo>
                    <a:lnTo>
                      <a:pt x="430" y="152"/>
                    </a:lnTo>
                    <a:lnTo>
                      <a:pt x="486" y="135"/>
                    </a:lnTo>
                    <a:lnTo>
                      <a:pt x="543" y="120"/>
                    </a:lnTo>
                    <a:lnTo>
                      <a:pt x="603" y="105"/>
                    </a:lnTo>
                    <a:lnTo>
                      <a:pt x="666" y="92"/>
                    </a:lnTo>
                    <a:lnTo>
                      <a:pt x="731" y="79"/>
                    </a:lnTo>
                    <a:lnTo>
                      <a:pt x="798" y="67"/>
                    </a:lnTo>
                    <a:lnTo>
                      <a:pt x="868" y="56"/>
                    </a:lnTo>
                    <a:lnTo>
                      <a:pt x="939" y="46"/>
                    </a:lnTo>
                    <a:lnTo>
                      <a:pt x="1012" y="37"/>
                    </a:lnTo>
                    <a:lnTo>
                      <a:pt x="1088" y="28"/>
                    </a:lnTo>
                    <a:lnTo>
                      <a:pt x="1165" y="21"/>
                    </a:lnTo>
                    <a:lnTo>
                      <a:pt x="1243" y="15"/>
                    </a:lnTo>
                    <a:lnTo>
                      <a:pt x="1323" y="10"/>
                    </a:lnTo>
                    <a:lnTo>
                      <a:pt x="1405" y="6"/>
                    </a:lnTo>
                    <a:lnTo>
                      <a:pt x="1488" y="3"/>
                    </a:lnTo>
                    <a:lnTo>
                      <a:pt x="1573" y="1"/>
                    </a:lnTo>
                    <a:lnTo>
                      <a:pt x="1657" y="0"/>
                    </a:lnTo>
                    <a:lnTo>
                      <a:pt x="1742" y="1"/>
                    </a:lnTo>
                    <a:lnTo>
                      <a:pt x="1827" y="3"/>
                    </a:lnTo>
                    <a:lnTo>
                      <a:pt x="1910" y="6"/>
                    </a:lnTo>
                    <a:lnTo>
                      <a:pt x="1992" y="10"/>
                    </a:lnTo>
                    <a:lnTo>
                      <a:pt x="2072" y="15"/>
                    </a:lnTo>
                    <a:lnTo>
                      <a:pt x="2150" y="21"/>
                    </a:lnTo>
                    <a:lnTo>
                      <a:pt x="2227" y="28"/>
                    </a:lnTo>
                    <a:lnTo>
                      <a:pt x="2303" y="37"/>
                    </a:lnTo>
                    <a:lnTo>
                      <a:pt x="2377" y="46"/>
                    </a:lnTo>
                    <a:lnTo>
                      <a:pt x="2447" y="56"/>
                    </a:lnTo>
                    <a:lnTo>
                      <a:pt x="2517" y="67"/>
                    </a:lnTo>
                    <a:lnTo>
                      <a:pt x="2585" y="79"/>
                    </a:lnTo>
                    <a:lnTo>
                      <a:pt x="2649" y="92"/>
                    </a:lnTo>
                    <a:lnTo>
                      <a:pt x="2712" y="105"/>
                    </a:lnTo>
                    <a:lnTo>
                      <a:pt x="2771" y="120"/>
                    </a:lnTo>
                    <a:lnTo>
                      <a:pt x="2830" y="135"/>
                    </a:lnTo>
                    <a:lnTo>
                      <a:pt x="2885" y="152"/>
                    </a:lnTo>
                    <a:lnTo>
                      <a:pt x="2936" y="169"/>
                    </a:lnTo>
                    <a:lnTo>
                      <a:pt x="2986" y="187"/>
                    </a:lnTo>
                    <a:lnTo>
                      <a:pt x="3032" y="205"/>
                    </a:lnTo>
                    <a:lnTo>
                      <a:pt x="3075" y="224"/>
                    </a:lnTo>
                    <a:lnTo>
                      <a:pt x="3115" y="245"/>
                    </a:lnTo>
                    <a:lnTo>
                      <a:pt x="3151" y="265"/>
                    </a:lnTo>
                    <a:lnTo>
                      <a:pt x="3184" y="286"/>
                    </a:lnTo>
                    <a:lnTo>
                      <a:pt x="3215" y="307"/>
                    </a:lnTo>
                    <a:lnTo>
                      <a:pt x="3240" y="329"/>
                    </a:lnTo>
                    <a:lnTo>
                      <a:pt x="3262" y="353"/>
                    </a:lnTo>
                    <a:lnTo>
                      <a:pt x="3281" y="376"/>
                    </a:lnTo>
                    <a:lnTo>
                      <a:pt x="3296" y="400"/>
                    </a:lnTo>
                    <a:lnTo>
                      <a:pt x="3307" y="424"/>
                    </a:lnTo>
                    <a:lnTo>
                      <a:pt x="3313" y="449"/>
                    </a:lnTo>
                    <a:lnTo>
                      <a:pt x="3315" y="4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107440" y="6520320"/>
                <a:ext cx="366480" cy="115560"/>
              </a:xfrm>
              <a:custGeom>
                <a:avLst/>
                <a:gdLst/>
                <a:ahLst/>
                <a:rect l="l" t="t" r="r" b="b"/>
                <a:pathLst>
                  <a:path w="3313" h="963">
                    <a:moveTo>
                      <a:pt x="3313" y="474"/>
                    </a:moveTo>
                    <a:lnTo>
                      <a:pt x="3311" y="499"/>
                    </a:lnTo>
                    <a:lnTo>
                      <a:pt x="3304" y="523"/>
                    </a:lnTo>
                    <a:lnTo>
                      <a:pt x="3294" y="547"/>
                    </a:lnTo>
                    <a:lnTo>
                      <a:pt x="3278" y="572"/>
                    </a:lnTo>
                    <a:lnTo>
                      <a:pt x="3260" y="596"/>
                    </a:lnTo>
                    <a:lnTo>
                      <a:pt x="3238" y="619"/>
                    </a:lnTo>
                    <a:lnTo>
                      <a:pt x="3212" y="641"/>
                    </a:lnTo>
                    <a:lnTo>
                      <a:pt x="3182" y="664"/>
                    </a:lnTo>
                    <a:lnTo>
                      <a:pt x="3149" y="686"/>
                    </a:lnTo>
                    <a:lnTo>
                      <a:pt x="3113" y="707"/>
                    </a:lnTo>
                    <a:lnTo>
                      <a:pt x="3072" y="727"/>
                    </a:lnTo>
                    <a:lnTo>
                      <a:pt x="3030" y="747"/>
                    </a:lnTo>
                    <a:lnTo>
                      <a:pt x="2984" y="766"/>
                    </a:lnTo>
                    <a:lnTo>
                      <a:pt x="2934" y="785"/>
                    </a:lnTo>
                    <a:lnTo>
                      <a:pt x="2883" y="803"/>
                    </a:lnTo>
                    <a:lnTo>
                      <a:pt x="2827" y="820"/>
                    </a:lnTo>
                    <a:lnTo>
                      <a:pt x="2770" y="836"/>
                    </a:lnTo>
                    <a:lnTo>
                      <a:pt x="2710" y="851"/>
                    </a:lnTo>
                    <a:lnTo>
                      <a:pt x="2647" y="866"/>
                    </a:lnTo>
                    <a:lnTo>
                      <a:pt x="2583" y="879"/>
                    </a:lnTo>
                    <a:lnTo>
                      <a:pt x="2515" y="893"/>
                    </a:lnTo>
                    <a:lnTo>
                      <a:pt x="2446" y="904"/>
                    </a:lnTo>
                    <a:lnTo>
                      <a:pt x="2375" y="915"/>
                    </a:lnTo>
                    <a:lnTo>
                      <a:pt x="2301" y="925"/>
                    </a:lnTo>
                    <a:lnTo>
                      <a:pt x="2226" y="934"/>
                    </a:lnTo>
                    <a:lnTo>
                      <a:pt x="2149" y="941"/>
                    </a:lnTo>
                    <a:lnTo>
                      <a:pt x="2071" y="948"/>
                    </a:lnTo>
                    <a:lnTo>
                      <a:pt x="1991" y="953"/>
                    </a:lnTo>
                    <a:lnTo>
                      <a:pt x="1909" y="957"/>
                    </a:lnTo>
                    <a:lnTo>
                      <a:pt x="1826" y="961"/>
                    </a:lnTo>
                    <a:lnTo>
                      <a:pt x="1741" y="962"/>
                    </a:lnTo>
                    <a:lnTo>
                      <a:pt x="1656" y="963"/>
                    </a:lnTo>
                    <a:lnTo>
                      <a:pt x="1572" y="962"/>
                    </a:lnTo>
                    <a:lnTo>
                      <a:pt x="1487" y="961"/>
                    </a:lnTo>
                    <a:lnTo>
                      <a:pt x="1404" y="957"/>
                    </a:lnTo>
                    <a:lnTo>
                      <a:pt x="1323" y="953"/>
                    </a:lnTo>
                    <a:lnTo>
                      <a:pt x="1242" y="948"/>
                    </a:lnTo>
                    <a:lnTo>
                      <a:pt x="1164" y="941"/>
                    </a:lnTo>
                    <a:lnTo>
                      <a:pt x="1087" y="934"/>
                    </a:lnTo>
                    <a:lnTo>
                      <a:pt x="1012" y="925"/>
                    </a:lnTo>
                    <a:lnTo>
                      <a:pt x="938" y="915"/>
                    </a:lnTo>
                    <a:lnTo>
                      <a:pt x="867" y="904"/>
                    </a:lnTo>
                    <a:lnTo>
                      <a:pt x="798" y="893"/>
                    </a:lnTo>
                    <a:lnTo>
                      <a:pt x="730" y="879"/>
                    </a:lnTo>
                    <a:lnTo>
                      <a:pt x="666" y="866"/>
                    </a:lnTo>
                    <a:lnTo>
                      <a:pt x="603" y="851"/>
                    </a:lnTo>
                    <a:lnTo>
                      <a:pt x="544" y="836"/>
                    </a:lnTo>
                    <a:lnTo>
                      <a:pt x="486" y="820"/>
                    </a:lnTo>
                    <a:lnTo>
                      <a:pt x="430" y="803"/>
                    </a:lnTo>
                    <a:lnTo>
                      <a:pt x="379" y="785"/>
                    </a:lnTo>
                    <a:lnTo>
                      <a:pt x="329" y="766"/>
                    </a:lnTo>
                    <a:lnTo>
                      <a:pt x="283" y="747"/>
                    </a:lnTo>
                    <a:lnTo>
                      <a:pt x="241" y="727"/>
                    </a:lnTo>
                    <a:lnTo>
                      <a:pt x="200" y="707"/>
                    </a:lnTo>
                    <a:lnTo>
                      <a:pt x="164" y="686"/>
                    </a:lnTo>
                    <a:lnTo>
                      <a:pt x="130" y="664"/>
                    </a:lnTo>
                    <a:lnTo>
                      <a:pt x="101" y="641"/>
                    </a:lnTo>
                    <a:lnTo>
                      <a:pt x="75" y="619"/>
                    </a:lnTo>
                    <a:lnTo>
                      <a:pt x="53" y="596"/>
                    </a:lnTo>
                    <a:lnTo>
                      <a:pt x="35" y="572"/>
                    </a:lnTo>
                    <a:lnTo>
                      <a:pt x="19" y="547"/>
                    </a:lnTo>
                    <a:lnTo>
                      <a:pt x="9" y="523"/>
                    </a:lnTo>
                    <a:lnTo>
                      <a:pt x="3" y="499"/>
                    </a:lnTo>
                    <a:lnTo>
                      <a:pt x="0" y="474"/>
                    </a:lnTo>
                    <a:lnTo>
                      <a:pt x="3" y="448"/>
                    </a:lnTo>
                    <a:lnTo>
                      <a:pt x="9" y="423"/>
                    </a:lnTo>
                    <a:lnTo>
                      <a:pt x="19" y="399"/>
                    </a:lnTo>
                    <a:lnTo>
                      <a:pt x="35" y="375"/>
                    </a:lnTo>
                    <a:lnTo>
                      <a:pt x="53" y="352"/>
                    </a:lnTo>
                    <a:lnTo>
                      <a:pt x="75" y="329"/>
                    </a:lnTo>
                    <a:lnTo>
                      <a:pt x="101" y="307"/>
                    </a:lnTo>
                    <a:lnTo>
                      <a:pt x="130" y="285"/>
                    </a:lnTo>
                    <a:lnTo>
                      <a:pt x="164" y="264"/>
                    </a:lnTo>
                    <a:lnTo>
                      <a:pt x="200" y="244"/>
                    </a:lnTo>
                    <a:lnTo>
                      <a:pt x="241" y="223"/>
                    </a:lnTo>
                    <a:lnTo>
                      <a:pt x="283" y="205"/>
                    </a:lnTo>
                    <a:lnTo>
                      <a:pt x="329" y="186"/>
                    </a:lnTo>
                    <a:lnTo>
                      <a:pt x="379" y="169"/>
                    </a:lnTo>
                    <a:lnTo>
                      <a:pt x="430" y="152"/>
                    </a:lnTo>
                    <a:lnTo>
                      <a:pt x="486" y="135"/>
                    </a:lnTo>
                    <a:lnTo>
                      <a:pt x="544" y="120"/>
                    </a:lnTo>
                    <a:lnTo>
                      <a:pt x="603" y="105"/>
                    </a:lnTo>
                    <a:lnTo>
                      <a:pt x="666" y="92"/>
                    </a:lnTo>
                    <a:lnTo>
                      <a:pt x="730" y="79"/>
                    </a:lnTo>
                    <a:lnTo>
                      <a:pt x="798" y="67"/>
                    </a:lnTo>
                    <a:lnTo>
                      <a:pt x="867" y="56"/>
                    </a:lnTo>
                    <a:lnTo>
                      <a:pt x="938" y="46"/>
                    </a:lnTo>
                    <a:lnTo>
                      <a:pt x="1012" y="37"/>
                    </a:lnTo>
                    <a:lnTo>
                      <a:pt x="1087" y="28"/>
                    </a:lnTo>
                    <a:lnTo>
                      <a:pt x="1164" y="21"/>
                    </a:lnTo>
                    <a:lnTo>
                      <a:pt x="1242" y="15"/>
                    </a:lnTo>
                    <a:lnTo>
                      <a:pt x="1323" y="10"/>
                    </a:lnTo>
                    <a:lnTo>
                      <a:pt x="1404" y="6"/>
                    </a:lnTo>
                    <a:lnTo>
                      <a:pt x="1487" y="3"/>
                    </a:lnTo>
                    <a:lnTo>
                      <a:pt x="1572" y="1"/>
                    </a:lnTo>
                    <a:lnTo>
                      <a:pt x="1656" y="0"/>
                    </a:lnTo>
                    <a:lnTo>
                      <a:pt x="1741" y="1"/>
                    </a:lnTo>
                    <a:lnTo>
                      <a:pt x="1826" y="3"/>
                    </a:lnTo>
                    <a:lnTo>
                      <a:pt x="1909" y="6"/>
                    </a:lnTo>
                    <a:lnTo>
                      <a:pt x="1991" y="10"/>
                    </a:lnTo>
                    <a:lnTo>
                      <a:pt x="2071" y="15"/>
                    </a:lnTo>
                    <a:lnTo>
                      <a:pt x="2149" y="21"/>
                    </a:lnTo>
                    <a:lnTo>
                      <a:pt x="2226" y="28"/>
                    </a:lnTo>
                    <a:lnTo>
                      <a:pt x="2301" y="37"/>
                    </a:lnTo>
                    <a:lnTo>
                      <a:pt x="2375" y="46"/>
                    </a:lnTo>
                    <a:lnTo>
                      <a:pt x="2446" y="56"/>
                    </a:lnTo>
                    <a:lnTo>
                      <a:pt x="2515" y="67"/>
                    </a:lnTo>
                    <a:lnTo>
                      <a:pt x="2583" y="79"/>
                    </a:lnTo>
                    <a:lnTo>
                      <a:pt x="2647" y="92"/>
                    </a:lnTo>
                    <a:lnTo>
                      <a:pt x="2710" y="105"/>
                    </a:lnTo>
                    <a:lnTo>
                      <a:pt x="2770" y="120"/>
                    </a:lnTo>
                    <a:lnTo>
                      <a:pt x="2827" y="135"/>
                    </a:lnTo>
                    <a:lnTo>
                      <a:pt x="2883" y="152"/>
                    </a:lnTo>
                    <a:lnTo>
                      <a:pt x="2934" y="169"/>
                    </a:lnTo>
                    <a:lnTo>
                      <a:pt x="2984" y="186"/>
                    </a:lnTo>
                    <a:lnTo>
                      <a:pt x="3030" y="205"/>
                    </a:lnTo>
                    <a:lnTo>
                      <a:pt x="3072" y="223"/>
                    </a:lnTo>
                    <a:lnTo>
                      <a:pt x="3113" y="244"/>
                    </a:lnTo>
                    <a:lnTo>
                      <a:pt x="3149" y="264"/>
                    </a:lnTo>
                    <a:lnTo>
                      <a:pt x="3182" y="285"/>
                    </a:lnTo>
                    <a:lnTo>
                      <a:pt x="3212" y="307"/>
                    </a:lnTo>
                    <a:lnTo>
                      <a:pt x="3238" y="329"/>
                    </a:lnTo>
                    <a:lnTo>
                      <a:pt x="3260" y="352"/>
                    </a:lnTo>
                    <a:lnTo>
                      <a:pt x="3278" y="375"/>
                    </a:lnTo>
                    <a:lnTo>
                      <a:pt x="3294" y="399"/>
                    </a:lnTo>
                    <a:lnTo>
                      <a:pt x="3304" y="423"/>
                    </a:lnTo>
                    <a:lnTo>
                      <a:pt x="3311" y="448"/>
                    </a:lnTo>
                    <a:lnTo>
                      <a:pt x="3313" y="4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108520" y="6520320"/>
                <a:ext cx="364320" cy="114120"/>
              </a:xfrm>
              <a:custGeom>
                <a:avLst/>
                <a:gdLst/>
                <a:ahLst/>
                <a:rect l="l" t="t" r="r" b="b"/>
                <a:pathLst>
                  <a:path w="3309" h="961">
                    <a:moveTo>
                      <a:pt x="3309" y="473"/>
                    </a:moveTo>
                    <a:lnTo>
                      <a:pt x="3307" y="497"/>
                    </a:lnTo>
                    <a:lnTo>
                      <a:pt x="3301" y="522"/>
                    </a:lnTo>
                    <a:lnTo>
                      <a:pt x="3290" y="546"/>
                    </a:lnTo>
                    <a:lnTo>
                      <a:pt x="3275" y="571"/>
                    </a:lnTo>
                    <a:lnTo>
                      <a:pt x="3257" y="595"/>
                    </a:lnTo>
                    <a:lnTo>
                      <a:pt x="3235" y="618"/>
                    </a:lnTo>
                    <a:lnTo>
                      <a:pt x="3209" y="640"/>
                    </a:lnTo>
                    <a:lnTo>
                      <a:pt x="3179" y="662"/>
                    </a:lnTo>
                    <a:lnTo>
                      <a:pt x="3146" y="685"/>
                    </a:lnTo>
                    <a:lnTo>
                      <a:pt x="3110" y="706"/>
                    </a:lnTo>
                    <a:lnTo>
                      <a:pt x="3069" y="726"/>
                    </a:lnTo>
                    <a:lnTo>
                      <a:pt x="3027" y="745"/>
                    </a:lnTo>
                    <a:lnTo>
                      <a:pt x="2981" y="764"/>
                    </a:lnTo>
                    <a:lnTo>
                      <a:pt x="2931" y="784"/>
                    </a:lnTo>
                    <a:lnTo>
                      <a:pt x="2880" y="801"/>
                    </a:lnTo>
                    <a:lnTo>
                      <a:pt x="2824" y="818"/>
                    </a:lnTo>
                    <a:lnTo>
                      <a:pt x="2767" y="834"/>
                    </a:lnTo>
                    <a:lnTo>
                      <a:pt x="2707" y="849"/>
                    </a:lnTo>
                    <a:lnTo>
                      <a:pt x="2644" y="864"/>
                    </a:lnTo>
                    <a:lnTo>
                      <a:pt x="2580" y="877"/>
                    </a:lnTo>
                    <a:lnTo>
                      <a:pt x="2513" y="891"/>
                    </a:lnTo>
                    <a:lnTo>
                      <a:pt x="2443" y="903"/>
                    </a:lnTo>
                    <a:lnTo>
                      <a:pt x="2372" y="913"/>
                    </a:lnTo>
                    <a:lnTo>
                      <a:pt x="2299" y="923"/>
                    </a:lnTo>
                    <a:lnTo>
                      <a:pt x="2223" y="932"/>
                    </a:lnTo>
                    <a:lnTo>
                      <a:pt x="2146" y="939"/>
                    </a:lnTo>
                    <a:lnTo>
                      <a:pt x="2068" y="946"/>
                    </a:lnTo>
                    <a:lnTo>
                      <a:pt x="1988" y="951"/>
                    </a:lnTo>
                    <a:lnTo>
                      <a:pt x="1907" y="956"/>
                    </a:lnTo>
                    <a:lnTo>
                      <a:pt x="1824" y="959"/>
                    </a:lnTo>
                    <a:lnTo>
                      <a:pt x="1739" y="961"/>
                    </a:lnTo>
                    <a:lnTo>
                      <a:pt x="1654" y="961"/>
                    </a:lnTo>
                    <a:lnTo>
                      <a:pt x="1570" y="961"/>
                    </a:lnTo>
                    <a:lnTo>
                      <a:pt x="1486" y="959"/>
                    </a:lnTo>
                    <a:lnTo>
                      <a:pt x="1403" y="956"/>
                    </a:lnTo>
                    <a:lnTo>
                      <a:pt x="1321" y="951"/>
                    </a:lnTo>
                    <a:lnTo>
                      <a:pt x="1241" y="946"/>
                    </a:lnTo>
                    <a:lnTo>
                      <a:pt x="1163" y="939"/>
                    </a:lnTo>
                    <a:lnTo>
                      <a:pt x="1086" y="932"/>
                    </a:lnTo>
                    <a:lnTo>
                      <a:pt x="1010" y="923"/>
                    </a:lnTo>
                    <a:lnTo>
                      <a:pt x="937" y="913"/>
                    </a:lnTo>
                    <a:lnTo>
                      <a:pt x="866" y="903"/>
                    </a:lnTo>
                    <a:lnTo>
                      <a:pt x="797" y="891"/>
                    </a:lnTo>
                    <a:lnTo>
                      <a:pt x="729" y="877"/>
                    </a:lnTo>
                    <a:lnTo>
                      <a:pt x="665" y="864"/>
                    </a:lnTo>
                    <a:lnTo>
                      <a:pt x="602" y="849"/>
                    </a:lnTo>
                    <a:lnTo>
                      <a:pt x="543" y="834"/>
                    </a:lnTo>
                    <a:lnTo>
                      <a:pt x="485" y="818"/>
                    </a:lnTo>
                    <a:lnTo>
                      <a:pt x="429" y="801"/>
                    </a:lnTo>
                    <a:lnTo>
                      <a:pt x="378" y="784"/>
                    </a:lnTo>
                    <a:lnTo>
                      <a:pt x="328" y="764"/>
                    </a:lnTo>
                    <a:lnTo>
                      <a:pt x="283" y="745"/>
                    </a:lnTo>
                    <a:lnTo>
                      <a:pt x="240" y="726"/>
                    </a:lnTo>
                    <a:lnTo>
                      <a:pt x="200" y="706"/>
                    </a:lnTo>
                    <a:lnTo>
                      <a:pt x="163" y="685"/>
                    </a:lnTo>
                    <a:lnTo>
                      <a:pt x="130" y="662"/>
                    </a:lnTo>
                    <a:lnTo>
                      <a:pt x="100" y="640"/>
                    </a:lnTo>
                    <a:lnTo>
                      <a:pt x="74" y="618"/>
                    </a:lnTo>
                    <a:lnTo>
                      <a:pt x="52" y="595"/>
                    </a:lnTo>
                    <a:lnTo>
                      <a:pt x="34" y="571"/>
                    </a:lnTo>
                    <a:lnTo>
                      <a:pt x="19" y="546"/>
                    </a:lnTo>
                    <a:lnTo>
                      <a:pt x="8" y="522"/>
                    </a:lnTo>
                    <a:lnTo>
                      <a:pt x="2" y="497"/>
                    </a:lnTo>
                    <a:lnTo>
                      <a:pt x="0" y="473"/>
                    </a:lnTo>
                    <a:lnTo>
                      <a:pt x="2" y="447"/>
                    </a:lnTo>
                    <a:lnTo>
                      <a:pt x="8" y="422"/>
                    </a:lnTo>
                    <a:lnTo>
                      <a:pt x="19" y="398"/>
                    </a:lnTo>
                    <a:lnTo>
                      <a:pt x="34" y="375"/>
                    </a:lnTo>
                    <a:lnTo>
                      <a:pt x="52" y="352"/>
                    </a:lnTo>
                    <a:lnTo>
                      <a:pt x="74" y="328"/>
                    </a:lnTo>
                    <a:lnTo>
                      <a:pt x="100" y="306"/>
                    </a:lnTo>
                    <a:lnTo>
                      <a:pt x="130" y="285"/>
                    </a:lnTo>
                    <a:lnTo>
                      <a:pt x="163" y="264"/>
                    </a:lnTo>
                    <a:lnTo>
                      <a:pt x="200" y="244"/>
                    </a:lnTo>
                    <a:lnTo>
                      <a:pt x="240" y="223"/>
                    </a:lnTo>
                    <a:lnTo>
                      <a:pt x="283" y="204"/>
                    </a:lnTo>
                    <a:lnTo>
                      <a:pt x="328" y="186"/>
                    </a:lnTo>
                    <a:lnTo>
                      <a:pt x="378" y="168"/>
                    </a:lnTo>
                    <a:lnTo>
                      <a:pt x="429" y="152"/>
                    </a:lnTo>
                    <a:lnTo>
                      <a:pt x="485" y="136"/>
                    </a:lnTo>
                    <a:lnTo>
                      <a:pt x="543" y="119"/>
                    </a:lnTo>
                    <a:lnTo>
                      <a:pt x="602" y="105"/>
                    </a:lnTo>
                    <a:lnTo>
                      <a:pt x="665" y="91"/>
                    </a:lnTo>
                    <a:lnTo>
                      <a:pt x="729" y="79"/>
                    </a:lnTo>
                    <a:lnTo>
                      <a:pt x="797" y="67"/>
                    </a:lnTo>
                    <a:lnTo>
                      <a:pt x="866" y="56"/>
                    </a:lnTo>
                    <a:lnTo>
                      <a:pt x="937" y="46"/>
                    </a:lnTo>
                    <a:lnTo>
                      <a:pt x="1010" y="37"/>
                    </a:lnTo>
                    <a:lnTo>
                      <a:pt x="1086" y="29"/>
                    </a:lnTo>
                    <a:lnTo>
                      <a:pt x="1163" y="21"/>
                    </a:lnTo>
                    <a:lnTo>
                      <a:pt x="1241" y="14"/>
                    </a:lnTo>
                    <a:lnTo>
                      <a:pt x="1321" y="9"/>
                    </a:lnTo>
                    <a:lnTo>
                      <a:pt x="1403" y="6"/>
                    </a:lnTo>
                    <a:lnTo>
                      <a:pt x="1486" y="3"/>
                    </a:lnTo>
                    <a:lnTo>
                      <a:pt x="1570" y="1"/>
                    </a:lnTo>
                    <a:lnTo>
                      <a:pt x="1654" y="0"/>
                    </a:lnTo>
                    <a:lnTo>
                      <a:pt x="1739" y="1"/>
                    </a:lnTo>
                    <a:lnTo>
                      <a:pt x="1824" y="3"/>
                    </a:lnTo>
                    <a:lnTo>
                      <a:pt x="1907" y="6"/>
                    </a:lnTo>
                    <a:lnTo>
                      <a:pt x="1988" y="9"/>
                    </a:lnTo>
                    <a:lnTo>
                      <a:pt x="2068" y="14"/>
                    </a:lnTo>
                    <a:lnTo>
                      <a:pt x="2146" y="21"/>
                    </a:lnTo>
                    <a:lnTo>
                      <a:pt x="2223" y="29"/>
                    </a:lnTo>
                    <a:lnTo>
                      <a:pt x="2299" y="37"/>
                    </a:lnTo>
                    <a:lnTo>
                      <a:pt x="2372" y="46"/>
                    </a:lnTo>
                    <a:lnTo>
                      <a:pt x="2443" y="56"/>
                    </a:lnTo>
                    <a:lnTo>
                      <a:pt x="2513" y="67"/>
                    </a:lnTo>
                    <a:lnTo>
                      <a:pt x="2580" y="79"/>
                    </a:lnTo>
                    <a:lnTo>
                      <a:pt x="2644" y="91"/>
                    </a:lnTo>
                    <a:lnTo>
                      <a:pt x="2707" y="105"/>
                    </a:lnTo>
                    <a:lnTo>
                      <a:pt x="2767" y="119"/>
                    </a:lnTo>
                    <a:lnTo>
                      <a:pt x="2824" y="136"/>
                    </a:lnTo>
                    <a:lnTo>
                      <a:pt x="2880" y="152"/>
                    </a:lnTo>
                    <a:lnTo>
                      <a:pt x="2931" y="168"/>
                    </a:lnTo>
                    <a:lnTo>
                      <a:pt x="2981" y="186"/>
                    </a:lnTo>
                    <a:lnTo>
                      <a:pt x="3027" y="204"/>
                    </a:lnTo>
                    <a:lnTo>
                      <a:pt x="3069" y="223"/>
                    </a:lnTo>
                    <a:lnTo>
                      <a:pt x="3110" y="244"/>
                    </a:lnTo>
                    <a:lnTo>
                      <a:pt x="3146" y="264"/>
                    </a:lnTo>
                    <a:lnTo>
                      <a:pt x="3179" y="285"/>
                    </a:lnTo>
                    <a:lnTo>
                      <a:pt x="3209" y="306"/>
                    </a:lnTo>
                    <a:lnTo>
                      <a:pt x="3235" y="328"/>
                    </a:lnTo>
                    <a:lnTo>
                      <a:pt x="3257" y="352"/>
                    </a:lnTo>
                    <a:lnTo>
                      <a:pt x="3275" y="375"/>
                    </a:lnTo>
                    <a:lnTo>
                      <a:pt x="3290" y="398"/>
                    </a:lnTo>
                    <a:lnTo>
                      <a:pt x="3301" y="422"/>
                    </a:lnTo>
                    <a:lnTo>
                      <a:pt x="3307" y="447"/>
                    </a:lnTo>
                    <a:lnTo>
                      <a:pt x="3309" y="4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108520" y="6520320"/>
                <a:ext cx="364320" cy="114120"/>
              </a:xfrm>
              <a:custGeom>
                <a:avLst/>
                <a:gdLst/>
                <a:ahLst/>
                <a:rect l="l" t="t" r="r" b="b"/>
                <a:pathLst>
                  <a:path w="3307" h="959">
                    <a:moveTo>
                      <a:pt x="3307" y="472"/>
                    </a:moveTo>
                    <a:lnTo>
                      <a:pt x="3305" y="496"/>
                    </a:lnTo>
                    <a:lnTo>
                      <a:pt x="3298" y="521"/>
                    </a:lnTo>
                    <a:lnTo>
                      <a:pt x="3288" y="545"/>
                    </a:lnTo>
                    <a:lnTo>
                      <a:pt x="3273" y="570"/>
                    </a:lnTo>
                    <a:lnTo>
                      <a:pt x="3254" y="593"/>
                    </a:lnTo>
                    <a:lnTo>
                      <a:pt x="3232" y="616"/>
                    </a:lnTo>
                    <a:lnTo>
                      <a:pt x="3207" y="639"/>
                    </a:lnTo>
                    <a:lnTo>
                      <a:pt x="3176" y="661"/>
                    </a:lnTo>
                    <a:lnTo>
                      <a:pt x="3143" y="683"/>
                    </a:lnTo>
                    <a:lnTo>
                      <a:pt x="3107" y="704"/>
                    </a:lnTo>
                    <a:lnTo>
                      <a:pt x="3067" y="724"/>
                    </a:lnTo>
                    <a:lnTo>
                      <a:pt x="3024" y="744"/>
                    </a:lnTo>
                    <a:lnTo>
                      <a:pt x="2978" y="763"/>
                    </a:lnTo>
                    <a:lnTo>
                      <a:pt x="2929" y="782"/>
                    </a:lnTo>
                    <a:lnTo>
                      <a:pt x="2878" y="800"/>
                    </a:lnTo>
                    <a:lnTo>
                      <a:pt x="2822" y="817"/>
                    </a:lnTo>
                    <a:lnTo>
                      <a:pt x="2765" y="833"/>
                    </a:lnTo>
                    <a:lnTo>
                      <a:pt x="2705" y="848"/>
                    </a:lnTo>
                    <a:lnTo>
                      <a:pt x="2642" y="862"/>
                    </a:lnTo>
                    <a:lnTo>
                      <a:pt x="2578" y="876"/>
                    </a:lnTo>
                    <a:lnTo>
                      <a:pt x="2511" y="889"/>
                    </a:lnTo>
                    <a:lnTo>
                      <a:pt x="2441" y="901"/>
                    </a:lnTo>
                    <a:lnTo>
                      <a:pt x="2371" y="912"/>
                    </a:lnTo>
                    <a:lnTo>
                      <a:pt x="2297" y="921"/>
                    </a:lnTo>
                    <a:lnTo>
                      <a:pt x="2222" y="930"/>
                    </a:lnTo>
                    <a:lnTo>
                      <a:pt x="2145" y="937"/>
                    </a:lnTo>
                    <a:lnTo>
                      <a:pt x="2067" y="944"/>
                    </a:lnTo>
                    <a:lnTo>
                      <a:pt x="1987" y="949"/>
                    </a:lnTo>
                    <a:lnTo>
                      <a:pt x="1905" y="954"/>
                    </a:lnTo>
                    <a:lnTo>
                      <a:pt x="1822" y="957"/>
                    </a:lnTo>
                    <a:lnTo>
                      <a:pt x="1738" y="959"/>
                    </a:lnTo>
                    <a:lnTo>
                      <a:pt x="1653" y="959"/>
                    </a:lnTo>
                    <a:lnTo>
                      <a:pt x="1569" y="959"/>
                    </a:lnTo>
                    <a:lnTo>
                      <a:pt x="1485" y="957"/>
                    </a:lnTo>
                    <a:lnTo>
                      <a:pt x="1402" y="954"/>
                    </a:lnTo>
                    <a:lnTo>
                      <a:pt x="1320" y="949"/>
                    </a:lnTo>
                    <a:lnTo>
                      <a:pt x="1240" y="944"/>
                    </a:lnTo>
                    <a:lnTo>
                      <a:pt x="1162" y="937"/>
                    </a:lnTo>
                    <a:lnTo>
                      <a:pt x="1085" y="930"/>
                    </a:lnTo>
                    <a:lnTo>
                      <a:pt x="1010" y="921"/>
                    </a:lnTo>
                    <a:lnTo>
                      <a:pt x="936" y="912"/>
                    </a:lnTo>
                    <a:lnTo>
                      <a:pt x="866" y="901"/>
                    </a:lnTo>
                    <a:lnTo>
                      <a:pt x="796" y="889"/>
                    </a:lnTo>
                    <a:lnTo>
                      <a:pt x="729" y="876"/>
                    </a:lnTo>
                    <a:lnTo>
                      <a:pt x="665" y="862"/>
                    </a:lnTo>
                    <a:lnTo>
                      <a:pt x="602" y="848"/>
                    </a:lnTo>
                    <a:lnTo>
                      <a:pt x="542" y="833"/>
                    </a:lnTo>
                    <a:lnTo>
                      <a:pt x="485" y="817"/>
                    </a:lnTo>
                    <a:lnTo>
                      <a:pt x="429" y="800"/>
                    </a:lnTo>
                    <a:lnTo>
                      <a:pt x="378" y="782"/>
                    </a:lnTo>
                    <a:lnTo>
                      <a:pt x="328" y="763"/>
                    </a:lnTo>
                    <a:lnTo>
                      <a:pt x="283" y="744"/>
                    </a:lnTo>
                    <a:lnTo>
                      <a:pt x="240" y="724"/>
                    </a:lnTo>
                    <a:lnTo>
                      <a:pt x="200" y="704"/>
                    </a:lnTo>
                    <a:lnTo>
                      <a:pt x="164" y="683"/>
                    </a:lnTo>
                    <a:lnTo>
                      <a:pt x="130" y="661"/>
                    </a:lnTo>
                    <a:lnTo>
                      <a:pt x="101" y="639"/>
                    </a:lnTo>
                    <a:lnTo>
                      <a:pt x="75" y="616"/>
                    </a:lnTo>
                    <a:lnTo>
                      <a:pt x="53" y="593"/>
                    </a:lnTo>
                    <a:lnTo>
                      <a:pt x="34" y="570"/>
                    </a:lnTo>
                    <a:lnTo>
                      <a:pt x="19" y="545"/>
                    </a:lnTo>
                    <a:lnTo>
                      <a:pt x="9" y="521"/>
                    </a:lnTo>
                    <a:lnTo>
                      <a:pt x="2" y="496"/>
                    </a:lnTo>
                    <a:lnTo>
                      <a:pt x="0" y="472"/>
                    </a:lnTo>
                    <a:lnTo>
                      <a:pt x="2" y="446"/>
                    </a:lnTo>
                    <a:lnTo>
                      <a:pt x="9" y="421"/>
                    </a:lnTo>
                    <a:lnTo>
                      <a:pt x="19" y="397"/>
                    </a:lnTo>
                    <a:lnTo>
                      <a:pt x="34" y="374"/>
                    </a:lnTo>
                    <a:lnTo>
                      <a:pt x="53" y="351"/>
                    </a:lnTo>
                    <a:lnTo>
                      <a:pt x="75" y="327"/>
                    </a:lnTo>
                    <a:lnTo>
                      <a:pt x="101" y="305"/>
                    </a:lnTo>
                    <a:lnTo>
                      <a:pt x="130" y="284"/>
                    </a:lnTo>
                    <a:lnTo>
                      <a:pt x="164" y="263"/>
                    </a:lnTo>
                    <a:lnTo>
                      <a:pt x="200" y="243"/>
                    </a:lnTo>
                    <a:lnTo>
                      <a:pt x="240" y="222"/>
                    </a:lnTo>
                    <a:lnTo>
                      <a:pt x="283" y="204"/>
                    </a:lnTo>
                    <a:lnTo>
                      <a:pt x="328" y="185"/>
                    </a:lnTo>
                    <a:lnTo>
                      <a:pt x="378" y="168"/>
                    </a:lnTo>
                    <a:lnTo>
                      <a:pt x="429" y="151"/>
                    </a:lnTo>
                    <a:lnTo>
                      <a:pt x="485" y="135"/>
                    </a:lnTo>
                    <a:lnTo>
                      <a:pt x="542" y="119"/>
                    </a:lnTo>
                    <a:lnTo>
                      <a:pt x="602" y="105"/>
                    </a:lnTo>
                    <a:lnTo>
                      <a:pt x="665" y="91"/>
                    </a:lnTo>
                    <a:lnTo>
                      <a:pt x="729" y="78"/>
                    </a:lnTo>
                    <a:lnTo>
                      <a:pt x="796" y="67"/>
                    </a:lnTo>
                    <a:lnTo>
                      <a:pt x="866" y="56"/>
                    </a:lnTo>
                    <a:lnTo>
                      <a:pt x="936" y="46"/>
                    </a:lnTo>
                    <a:lnTo>
                      <a:pt x="1010" y="37"/>
                    </a:lnTo>
                    <a:lnTo>
                      <a:pt x="1085" y="28"/>
                    </a:lnTo>
                    <a:lnTo>
                      <a:pt x="1162" y="20"/>
                    </a:lnTo>
                    <a:lnTo>
                      <a:pt x="1240" y="14"/>
                    </a:lnTo>
                    <a:lnTo>
                      <a:pt x="1320" y="9"/>
                    </a:lnTo>
                    <a:lnTo>
                      <a:pt x="1402" y="5"/>
                    </a:lnTo>
                    <a:lnTo>
                      <a:pt x="1485" y="3"/>
                    </a:lnTo>
                    <a:lnTo>
                      <a:pt x="1569" y="1"/>
                    </a:lnTo>
                    <a:lnTo>
                      <a:pt x="1653" y="0"/>
                    </a:lnTo>
                    <a:lnTo>
                      <a:pt x="1738" y="1"/>
                    </a:lnTo>
                    <a:lnTo>
                      <a:pt x="1822" y="3"/>
                    </a:lnTo>
                    <a:lnTo>
                      <a:pt x="1905" y="5"/>
                    </a:lnTo>
                    <a:lnTo>
                      <a:pt x="1987" y="9"/>
                    </a:lnTo>
                    <a:lnTo>
                      <a:pt x="2067" y="14"/>
                    </a:lnTo>
                    <a:lnTo>
                      <a:pt x="2145" y="20"/>
                    </a:lnTo>
                    <a:lnTo>
                      <a:pt x="2222" y="28"/>
                    </a:lnTo>
                    <a:lnTo>
                      <a:pt x="2297" y="37"/>
                    </a:lnTo>
                    <a:lnTo>
                      <a:pt x="2371" y="46"/>
                    </a:lnTo>
                    <a:lnTo>
                      <a:pt x="2441" y="56"/>
                    </a:lnTo>
                    <a:lnTo>
                      <a:pt x="2511" y="67"/>
                    </a:lnTo>
                    <a:lnTo>
                      <a:pt x="2578" y="78"/>
                    </a:lnTo>
                    <a:lnTo>
                      <a:pt x="2642" y="91"/>
                    </a:lnTo>
                    <a:lnTo>
                      <a:pt x="2705" y="105"/>
                    </a:lnTo>
                    <a:lnTo>
                      <a:pt x="2765" y="119"/>
                    </a:lnTo>
                    <a:lnTo>
                      <a:pt x="2822" y="135"/>
                    </a:lnTo>
                    <a:lnTo>
                      <a:pt x="2878" y="151"/>
                    </a:lnTo>
                    <a:lnTo>
                      <a:pt x="2929" y="168"/>
                    </a:lnTo>
                    <a:lnTo>
                      <a:pt x="2978" y="185"/>
                    </a:lnTo>
                    <a:lnTo>
                      <a:pt x="3024" y="204"/>
                    </a:lnTo>
                    <a:lnTo>
                      <a:pt x="3067" y="222"/>
                    </a:lnTo>
                    <a:lnTo>
                      <a:pt x="3107" y="243"/>
                    </a:lnTo>
                    <a:lnTo>
                      <a:pt x="3143" y="263"/>
                    </a:lnTo>
                    <a:lnTo>
                      <a:pt x="3176" y="284"/>
                    </a:lnTo>
                    <a:lnTo>
                      <a:pt x="3207" y="305"/>
                    </a:lnTo>
                    <a:lnTo>
                      <a:pt x="3232" y="327"/>
                    </a:lnTo>
                    <a:lnTo>
                      <a:pt x="3254" y="351"/>
                    </a:lnTo>
                    <a:lnTo>
                      <a:pt x="3273" y="374"/>
                    </a:lnTo>
                    <a:lnTo>
                      <a:pt x="3288" y="397"/>
                    </a:lnTo>
                    <a:lnTo>
                      <a:pt x="3298" y="421"/>
                    </a:lnTo>
                    <a:lnTo>
                      <a:pt x="3305" y="446"/>
                    </a:lnTo>
                    <a:lnTo>
                      <a:pt x="3307" y="4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108520" y="6520320"/>
                <a:ext cx="364320" cy="114120"/>
              </a:xfrm>
              <a:custGeom>
                <a:avLst/>
                <a:gdLst/>
                <a:ahLst/>
                <a:rect l="l" t="t" r="r" b="b"/>
                <a:pathLst>
                  <a:path w="3303" h="957">
                    <a:moveTo>
                      <a:pt x="3303" y="471"/>
                    </a:moveTo>
                    <a:lnTo>
                      <a:pt x="3301" y="495"/>
                    </a:lnTo>
                    <a:lnTo>
                      <a:pt x="3295" y="520"/>
                    </a:lnTo>
                    <a:lnTo>
                      <a:pt x="3285" y="544"/>
                    </a:lnTo>
                    <a:lnTo>
                      <a:pt x="3269" y="569"/>
                    </a:lnTo>
                    <a:lnTo>
                      <a:pt x="3251" y="592"/>
                    </a:lnTo>
                    <a:lnTo>
                      <a:pt x="3229" y="615"/>
                    </a:lnTo>
                    <a:lnTo>
                      <a:pt x="3203" y="638"/>
                    </a:lnTo>
                    <a:lnTo>
                      <a:pt x="3173" y="659"/>
                    </a:lnTo>
                    <a:lnTo>
                      <a:pt x="3140" y="682"/>
                    </a:lnTo>
                    <a:lnTo>
                      <a:pt x="3104" y="703"/>
                    </a:lnTo>
                    <a:lnTo>
                      <a:pt x="3064" y="723"/>
                    </a:lnTo>
                    <a:lnTo>
                      <a:pt x="3021" y="742"/>
                    </a:lnTo>
                    <a:lnTo>
                      <a:pt x="2975" y="761"/>
                    </a:lnTo>
                    <a:lnTo>
                      <a:pt x="2926" y="781"/>
                    </a:lnTo>
                    <a:lnTo>
                      <a:pt x="2874" y="798"/>
                    </a:lnTo>
                    <a:lnTo>
                      <a:pt x="2819" y="815"/>
                    </a:lnTo>
                    <a:lnTo>
                      <a:pt x="2762" y="831"/>
                    </a:lnTo>
                    <a:lnTo>
                      <a:pt x="2702" y="846"/>
                    </a:lnTo>
                    <a:lnTo>
                      <a:pt x="2640" y="860"/>
                    </a:lnTo>
                    <a:lnTo>
                      <a:pt x="2575" y="874"/>
                    </a:lnTo>
                    <a:lnTo>
                      <a:pt x="2508" y="887"/>
                    </a:lnTo>
                    <a:lnTo>
                      <a:pt x="2439" y="899"/>
                    </a:lnTo>
                    <a:lnTo>
                      <a:pt x="2368" y="910"/>
                    </a:lnTo>
                    <a:lnTo>
                      <a:pt x="2295" y="919"/>
                    </a:lnTo>
                    <a:lnTo>
                      <a:pt x="2219" y="928"/>
                    </a:lnTo>
                    <a:lnTo>
                      <a:pt x="2142" y="936"/>
                    </a:lnTo>
                    <a:lnTo>
                      <a:pt x="2065" y="942"/>
                    </a:lnTo>
                    <a:lnTo>
                      <a:pt x="1985" y="947"/>
                    </a:lnTo>
                    <a:lnTo>
                      <a:pt x="1903" y="952"/>
                    </a:lnTo>
                    <a:lnTo>
                      <a:pt x="1820" y="955"/>
                    </a:lnTo>
                    <a:lnTo>
                      <a:pt x="1736" y="957"/>
                    </a:lnTo>
                    <a:lnTo>
                      <a:pt x="1651" y="957"/>
                    </a:lnTo>
                    <a:lnTo>
                      <a:pt x="1567" y="957"/>
                    </a:lnTo>
                    <a:lnTo>
                      <a:pt x="1483" y="955"/>
                    </a:lnTo>
                    <a:lnTo>
                      <a:pt x="1400" y="952"/>
                    </a:lnTo>
                    <a:lnTo>
                      <a:pt x="1318" y="947"/>
                    </a:lnTo>
                    <a:lnTo>
                      <a:pt x="1238" y="942"/>
                    </a:lnTo>
                    <a:lnTo>
                      <a:pt x="1161" y="936"/>
                    </a:lnTo>
                    <a:lnTo>
                      <a:pt x="1084" y="928"/>
                    </a:lnTo>
                    <a:lnTo>
                      <a:pt x="1008" y="919"/>
                    </a:lnTo>
                    <a:lnTo>
                      <a:pt x="935" y="910"/>
                    </a:lnTo>
                    <a:lnTo>
                      <a:pt x="865" y="899"/>
                    </a:lnTo>
                    <a:lnTo>
                      <a:pt x="795" y="887"/>
                    </a:lnTo>
                    <a:lnTo>
                      <a:pt x="728" y="874"/>
                    </a:lnTo>
                    <a:lnTo>
                      <a:pt x="664" y="860"/>
                    </a:lnTo>
                    <a:lnTo>
                      <a:pt x="601" y="846"/>
                    </a:lnTo>
                    <a:lnTo>
                      <a:pt x="541" y="831"/>
                    </a:lnTo>
                    <a:lnTo>
                      <a:pt x="484" y="815"/>
                    </a:lnTo>
                    <a:lnTo>
                      <a:pt x="428" y="798"/>
                    </a:lnTo>
                    <a:lnTo>
                      <a:pt x="377" y="781"/>
                    </a:lnTo>
                    <a:lnTo>
                      <a:pt x="328" y="761"/>
                    </a:lnTo>
                    <a:lnTo>
                      <a:pt x="282" y="742"/>
                    </a:lnTo>
                    <a:lnTo>
                      <a:pt x="239" y="723"/>
                    </a:lnTo>
                    <a:lnTo>
                      <a:pt x="199" y="703"/>
                    </a:lnTo>
                    <a:lnTo>
                      <a:pt x="163" y="682"/>
                    </a:lnTo>
                    <a:lnTo>
                      <a:pt x="129" y="659"/>
                    </a:lnTo>
                    <a:lnTo>
                      <a:pt x="100" y="638"/>
                    </a:lnTo>
                    <a:lnTo>
                      <a:pt x="74" y="615"/>
                    </a:lnTo>
                    <a:lnTo>
                      <a:pt x="52" y="592"/>
                    </a:lnTo>
                    <a:lnTo>
                      <a:pt x="34" y="569"/>
                    </a:lnTo>
                    <a:lnTo>
                      <a:pt x="18" y="544"/>
                    </a:lnTo>
                    <a:lnTo>
                      <a:pt x="8" y="520"/>
                    </a:lnTo>
                    <a:lnTo>
                      <a:pt x="2" y="495"/>
                    </a:lnTo>
                    <a:lnTo>
                      <a:pt x="0" y="471"/>
                    </a:lnTo>
                    <a:lnTo>
                      <a:pt x="2" y="445"/>
                    </a:lnTo>
                    <a:lnTo>
                      <a:pt x="8" y="420"/>
                    </a:lnTo>
                    <a:lnTo>
                      <a:pt x="18" y="396"/>
                    </a:lnTo>
                    <a:lnTo>
                      <a:pt x="34" y="373"/>
                    </a:lnTo>
                    <a:lnTo>
                      <a:pt x="52" y="350"/>
                    </a:lnTo>
                    <a:lnTo>
                      <a:pt x="74" y="327"/>
                    </a:lnTo>
                    <a:lnTo>
                      <a:pt x="100" y="305"/>
                    </a:lnTo>
                    <a:lnTo>
                      <a:pt x="129" y="283"/>
                    </a:lnTo>
                    <a:lnTo>
                      <a:pt x="163" y="263"/>
                    </a:lnTo>
                    <a:lnTo>
                      <a:pt x="199" y="242"/>
                    </a:lnTo>
                    <a:lnTo>
                      <a:pt x="239" y="222"/>
                    </a:lnTo>
                    <a:lnTo>
                      <a:pt x="282" y="203"/>
                    </a:lnTo>
                    <a:lnTo>
                      <a:pt x="328" y="185"/>
                    </a:lnTo>
                    <a:lnTo>
                      <a:pt x="377" y="168"/>
                    </a:lnTo>
                    <a:lnTo>
                      <a:pt x="428" y="151"/>
                    </a:lnTo>
                    <a:lnTo>
                      <a:pt x="484" y="135"/>
                    </a:lnTo>
                    <a:lnTo>
                      <a:pt x="541" y="119"/>
                    </a:lnTo>
                    <a:lnTo>
                      <a:pt x="601" y="104"/>
                    </a:lnTo>
                    <a:lnTo>
                      <a:pt x="664" y="91"/>
                    </a:lnTo>
                    <a:lnTo>
                      <a:pt x="728" y="78"/>
                    </a:lnTo>
                    <a:lnTo>
                      <a:pt x="795" y="66"/>
                    </a:lnTo>
                    <a:lnTo>
                      <a:pt x="865" y="55"/>
                    </a:lnTo>
                    <a:lnTo>
                      <a:pt x="935" y="45"/>
                    </a:lnTo>
                    <a:lnTo>
                      <a:pt x="1008" y="36"/>
                    </a:lnTo>
                    <a:lnTo>
                      <a:pt x="1084" y="28"/>
                    </a:lnTo>
                    <a:lnTo>
                      <a:pt x="1161" y="20"/>
                    </a:lnTo>
                    <a:lnTo>
                      <a:pt x="1238" y="14"/>
                    </a:lnTo>
                    <a:lnTo>
                      <a:pt x="1318" y="9"/>
                    </a:lnTo>
                    <a:lnTo>
                      <a:pt x="1400" y="5"/>
                    </a:lnTo>
                    <a:lnTo>
                      <a:pt x="1483" y="3"/>
                    </a:lnTo>
                    <a:lnTo>
                      <a:pt x="1567" y="1"/>
                    </a:lnTo>
                    <a:lnTo>
                      <a:pt x="1651" y="0"/>
                    </a:lnTo>
                    <a:lnTo>
                      <a:pt x="1736" y="1"/>
                    </a:lnTo>
                    <a:lnTo>
                      <a:pt x="1820" y="3"/>
                    </a:lnTo>
                    <a:lnTo>
                      <a:pt x="1903" y="5"/>
                    </a:lnTo>
                    <a:lnTo>
                      <a:pt x="1985" y="9"/>
                    </a:lnTo>
                    <a:lnTo>
                      <a:pt x="2065" y="14"/>
                    </a:lnTo>
                    <a:lnTo>
                      <a:pt x="2142" y="20"/>
                    </a:lnTo>
                    <a:lnTo>
                      <a:pt x="2219" y="28"/>
                    </a:lnTo>
                    <a:lnTo>
                      <a:pt x="2295" y="36"/>
                    </a:lnTo>
                    <a:lnTo>
                      <a:pt x="2368" y="45"/>
                    </a:lnTo>
                    <a:lnTo>
                      <a:pt x="2439" y="55"/>
                    </a:lnTo>
                    <a:lnTo>
                      <a:pt x="2508" y="66"/>
                    </a:lnTo>
                    <a:lnTo>
                      <a:pt x="2575" y="78"/>
                    </a:lnTo>
                    <a:lnTo>
                      <a:pt x="2640" y="91"/>
                    </a:lnTo>
                    <a:lnTo>
                      <a:pt x="2702" y="104"/>
                    </a:lnTo>
                    <a:lnTo>
                      <a:pt x="2762" y="119"/>
                    </a:lnTo>
                    <a:lnTo>
                      <a:pt x="2819" y="135"/>
                    </a:lnTo>
                    <a:lnTo>
                      <a:pt x="2874" y="151"/>
                    </a:lnTo>
                    <a:lnTo>
                      <a:pt x="2926" y="168"/>
                    </a:lnTo>
                    <a:lnTo>
                      <a:pt x="2975" y="185"/>
                    </a:lnTo>
                    <a:lnTo>
                      <a:pt x="3021" y="203"/>
                    </a:lnTo>
                    <a:lnTo>
                      <a:pt x="3064" y="222"/>
                    </a:lnTo>
                    <a:lnTo>
                      <a:pt x="3104" y="242"/>
                    </a:lnTo>
                    <a:lnTo>
                      <a:pt x="3140" y="263"/>
                    </a:lnTo>
                    <a:lnTo>
                      <a:pt x="3173" y="283"/>
                    </a:lnTo>
                    <a:lnTo>
                      <a:pt x="3203" y="305"/>
                    </a:lnTo>
                    <a:lnTo>
                      <a:pt x="3229" y="327"/>
                    </a:lnTo>
                    <a:lnTo>
                      <a:pt x="3251" y="350"/>
                    </a:lnTo>
                    <a:lnTo>
                      <a:pt x="3269" y="373"/>
                    </a:lnTo>
                    <a:lnTo>
                      <a:pt x="3285" y="396"/>
                    </a:lnTo>
                    <a:lnTo>
                      <a:pt x="3295" y="420"/>
                    </a:lnTo>
                    <a:lnTo>
                      <a:pt x="3301" y="445"/>
                    </a:lnTo>
                    <a:lnTo>
                      <a:pt x="3303" y="4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108520" y="6520320"/>
                <a:ext cx="364320" cy="114120"/>
              </a:xfrm>
              <a:custGeom>
                <a:avLst/>
                <a:gdLst/>
                <a:ahLst/>
                <a:rect l="l" t="t" r="r" b="b"/>
                <a:pathLst>
                  <a:path w="3301" h="955">
                    <a:moveTo>
                      <a:pt x="3301" y="470"/>
                    </a:moveTo>
                    <a:lnTo>
                      <a:pt x="3299" y="494"/>
                    </a:lnTo>
                    <a:lnTo>
                      <a:pt x="3293" y="519"/>
                    </a:lnTo>
                    <a:lnTo>
                      <a:pt x="3282" y="543"/>
                    </a:lnTo>
                    <a:lnTo>
                      <a:pt x="3267" y="568"/>
                    </a:lnTo>
                    <a:lnTo>
                      <a:pt x="3249" y="591"/>
                    </a:lnTo>
                    <a:lnTo>
                      <a:pt x="3227" y="614"/>
                    </a:lnTo>
                    <a:lnTo>
                      <a:pt x="3201" y="636"/>
                    </a:lnTo>
                    <a:lnTo>
                      <a:pt x="3171" y="658"/>
                    </a:lnTo>
                    <a:lnTo>
                      <a:pt x="3138" y="680"/>
                    </a:lnTo>
                    <a:lnTo>
                      <a:pt x="3102" y="701"/>
                    </a:lnTo>
                    <a:lnTo>
                      <a:pt x="3061" y="721"/>
                    </a:lnTo>
                    <a:lnTo>
                      <a:pt x="3019" y="741"/>
                    </a:lnTo>
                    <a:lnTo>
                      <a:pt x="2972" y="760"/>
                    </a:lnTo>
                    <a:lnTo>
                      <a:pt x="2924" y="779"/>
                    </a:lnTo>
                    <a:lnTo>
                      <a:pt x="2872" y="797"/>
                    </a:lnTo>
                    <a:lnTo>
                      <a:pt x="2817" y="813"/>
                    </a:lnTo>
                    <a:lnTo>
                      <a:pt x="2760" y="829"/>
                    </a:lnTo>
                    <a:lnTo>
                      <a:pt x="2700" y="844"/>
                    </a:lnTo>
                    <a:lnTo>
                      <a:pt x="2638" y="859"/>
                    </a:lnTo>
                    <a:lnTo>
                      <a:pt x="2574" y="872"/>
                    </a:lnTo>
                    <a:lnTo>
                      <a:pt x="2506" y="886"/>
                    </a:lnTo>
                    <a:lnTo>
                      <a:pt x="2437" y="897"/>
                    </a:lnTo>
                    <a:lnTo>
                      <a:pt x="2365" y="908"/>
                    </a:lnTo>
                    <a:lnTo>
                      <a:pt x="2293" y="917"/>
                    </a:lnTo>
                    <a:lnTo>
                      <a:pt x="2218" y="926"/>
                    </a:lnTo>
                    <a:lnTo>
                      <a:pt x="2141" y="934"/>
                    </a:lnTo>
                    <a:lnTo>
                      <a:pt x="2063" y="940"/>
                    </a:lnTo>
                    <a:lnTo>
                      <a:pt x="1983" y="946"/>
                    </a:lnTo>
                    <a:lnTo>
                      <a:pt x="1902" y="950"/>
                    </a:lnTo>
                    <a:lnTo>
                      <a:pt x="1819" y="953"/>
                    </a:lnTo>
                    <a:lnTo>
                      <a:pt x="1735" y="955"/>
                    </a:lnTo>
                    <a:lnTo>
                      <a:pt x="1650" y="955"/>
                    </a:lnTo>
                    <a:lnTo>
                      <a:pt x="1566" y="955"/>
                    </a:lnTo>
                    <a:lnTo>
                      <a:pt x="1482" y="953"/>
                    </a:lnTo>
                    <a:lnTo>
                      <a:pt x="1399" y="950"/>
                    </a:lnTo>
                    <a:lnTo>
                      <a:pt x="1318" y="946"/>
                    </a:lnTo>
                    <a:lnTo>
                      <a:pt x="1238" y="940"/>
                    </a:lnTo>
                    <a:lnTo>
                      <a:pt x="1160" y="934"/>
                    </a:lnTo>
                    <a:lnTo>
                      <a:pt x="1083" y="926"/>
                    </a:lnTo>
                    <a:lnTo>
                      <a:pt x="1008" y="917"/>
                    </a:lnTo>
                    <a:lnTo>
                      <a:pt x="935" y="908"/>
                    </a:lnTo>
                    <a:lnTo>
                      <a:pt x="864" y="897"/>
                    </a:lnTo>
                    <a:lnTo>
                      <a:pt x="795" y="886"/>
                    </a:lnTo>
                    <a:lnTo>
                      <a:pt x="727" y="872"/>
                    </a:lnTo>
                    <a:lnTo>
                      <a:pt x="663" y="859"/>
                    </a:lnTo>
                    <a:lnTo>
                      <a:pt x="601" y="844"/>
                    </a:lnTo>
                    <a:lnTo>
                      <a:pt x="541" y="829"/>
                    </a:lnTo>
                    <a:lnTo>
                      <a:pt x="484" y="813"/>
                    </a:lnTo>
                    <a:lnTo>
                      <a:pt x="429" y="797"/>
                    </a:lnTo>
                    <a:lnTo>
                      <a:pt x="377" y="779"/>
                    </a:lnTo>
                    <a:lnTo>
                      <a:pt x="328" y="760"/>
                    </a:lnTo>
                    <a:lnTo>
                      <a:pt x="282" y="741"/>
                    </a:lnTo>
                    <a:lnTo>
                      <a:pt x="240" y="721"/>
                    </a:lnTo>
                    <a:lnTo>
                      <a:pt x="199" y="701"/>
                    </a:lnTo>
                    <a:lnTo>
                      <a:pt x="163" y="680"/>
                    </a:lnTo>
                    <a:lnTo>
                      <a:pt x="129" y="658"/>
                    </a:lnTo>
                    <a:lnTo>
                      <a:pt x="100" y="636"/>
                    </a:lnTo>
                    <a:lnTo>
                      <a:pt x="75" y="614"/>
                    </a:lnTo>
                    <a:lnTo>
                      <a:pt x="53" y="591"/>
                    </a:lnTo>
                    <a:lnTo>
                      <a:pt x="34" y="568"/>
                    </a:lnTo>
                    <a:lnTo>
                      <a:pt x="19" y="543"/>
                    </a:lnTo>
                    <a:lnTo>
                      <a:pt x="9" y="519"/>
                    </a:lnTo>
                    <a:lnTo>
                      <a:pt x="2" y="494"/>
                    </a:lnTo>
                    <a:lnTo>
                      <a:pt x="0" y="470"/>
                    </a:lnTo>
                    <a:lnTo>
                      <a:pt x="2" y="444"/>
                    </a:lnTo>
                    <a:lnTo>
                      <a:pt x="9" y="419"/>
                    </a:lnTo>
                    <a:lnTo>
                      <a:pt x="19" y="396"/>
                    </a:lnTo>
                    <a:lnTo>
                      <a:pt x="34" y="372"/>
                    </a:lnTo>
                    <a:lnTo>
                      <a:pt x="53" y="349"/>
                    </a:lnTo>
                    <a:lnTo>
                      <a:pt x="75" y="326"/>
                    </a:lnTo>
                    <a:lnTo>
                      <a:pt x="100" y="304"/>
                    </a:lnTo>
                    <a:lnTo>
                      <a:pt x="129" y="283"/>
                    </a:lnTo>
                    <a:lnTo>
                      <a:pt x="163" y="262"/>
                    </a:lnTo>
                    <a:lnTo>
                      <a:pt x="199" y="242"/>
                    </a:lnTo>
                    <a:lnTo>
                      <a:pt x="240" y="221"/>
                    </a:lnTo>
                    <a:lnTo>
                      <a:pt x="282" y="203"/>
                    </a:lnTo>
                    <a:lnTo>
                      <a:pt x="328" y="185"/>
                    </a:lnTo>
                    <a:lnTo>
                      <a:pt x="377" y="167"/>
                    </a:lnTo>
                    <a:lnTo>
                      <a:pt x="429" y="150"/>
                    </a:lnTo>
                    <a:lnTo>
                      <a:pt x="484" y="135"/>
                    </a:lnTo>
                    <a:lnTo>
                      <a:pt x="541" y="118"/>
                    </a:lnTo>
                    <a:lnTo>
                      <a:pt x="601" y="104"/>
                    </a:lnTo>
                    <a:lnTo>
                      <a:pt x="663" y="91"/>
                    </a:lnTo>
                    <a:lnTo>
                      <a:pt x="727" y="78"/>
                    </a:lnTo>
                    <a:lnTo>
                      <a:pt x="795" y="66"/>
                    </a:lnTo>
                    <a:lnTo>
                      <a:pt x="864" y="55"/>
                    </a:lnTo>
                    <a:lnTo>
                      <a:pt x="935" y="45"/>
                    </a:lnTo>
                    <a:lnTo>
                      <a:pt x="1008" y="36"/>
                    </a:lnTo>
                    <a:lnTo>
                      <a:pt x="1083" y="28"/>
                    </a:lnTo>
                    <a:lnTo>
                      <a:pt x="1160" y="20"/>
                    </a:lnTo>
                    <a:lnTo>
                      <a:pt x="1238" y="14"/>
                    </a:lnTo>
                    <a:lnTo>
                      <a:pt x="1318" y="9"/>
                    </a:lnTo>
                    <a:lnTo>
                      <a:pt x="1399" y="5"/>
                    </a:lnTo>
                    <a:lnTo>
                      <a:pt x="1482" y="2"/>
                    </a:lnTo>
                    <a:lnTo>
                      <a:pt x="1566" y="1"/>
                    </a:lnTo>
                    <a:lnTo>
                      <a:pt x="1650" y="0"/>
                    </a:lnTo>
                    <a:lnTo>
                      <a:pt x="1735" y="1"/>
                    </a:lnTo>
                    <a:lnTo>
                      <a:pt x="1819" y="2"/>
                    </a:lnTo>
                    <a:lnTo>
                      <a:pt x="1902" y="5"/>
                    </a:lnTo>
                    <a:lnTo>
                      <a:pt x="1983" y="9"/>
                    </a:lnTo>
                    <a:lnTo>
                      <a:pt x="2063" y="14"/>
                    </a:lnTo>
                    <a:lnTo>
                      <a:pt x="2141" y="20"/>
                    </a:lnTo>
                    <a:lnTo>
                      <a:pt x="2218" y="28"/>
                    </a:lnTo>
                    <a:lnTo>
                      <a:pt x="2293" y="36"/>
                    </a:lnTo>
                    <a:lnTo>
                      <a:pt x="2365" y="45"/>
                    </a:lnTo>
                    <a:lnTo>
                      <a:pt x="2437" y="55"/>
                    </a:lnTo>
                    <a:lnTo>
                      <a:pt x="2506" y="66"/>
                    </a:lnTo>
                    <a:lnTo>
                      <a:pt x="2574" y="78"/>
                    </a:lnTo>
                    <a:lnTo>
                      <a:pt x="2638" y="91"/>
                    </a:lnTo>
                    <a:lnTo>
                      <a:pt x="2700" y="104"/>
                    </a:lnTo>
                    <a:lnTo>
                      <a:pt x="2760" y="118"/>
                    </a:lnTo>
                    <a:lnTo>
                      <a:pt x="2817" y="135"/>
                    </a:lnTo>
                    <a:lnTo>
                      <a:pt x="2872" y="150"/>
                    </a:lnTo>
                    <a:lnTo>
                      <a:pt x="2924" y="167"/>
                    </a:lnTo>
                    <a:lnTo>
                      <a:pt x="2972" y="185"/>
                    </a:lnTo>
                    <a:lnTo>
                      <a:pt x="3019" y="203"/>
                    </a:lnTo>
                    <a:lnTo>
                      <a:pt x="3061" y="221"/>
                    </a:lnTo>
                    <a:lnTo>
                      <a:pt x="3102" y="242"/>
                    </a:lnTo>
                    <a:lnTo>
                      <a:pt x="3138" y="262"/>
                    </a:lnTo>
                    <a:lnTo>
                      <a:pt x="3171" y="283"/>
                    </a:lnTo>
                    <a:lnTo>
                      <a:pt x="3201" y="304"/>
                    </a:lnTo>
                    <a:lnTo>
                      <a:pt x="3227" y="326"/>
                    </a:lnTo>
                    <a:lnTo>
                      <a:pt x="3249" y="349"/>
                    </a:lnTo>
                    <a:lnTo>
                      <a:pt x="3267" y="372"/>
                    </a:lnTo>
                    <a:lnTo>
                      <a:pt x="3282" y="396"/>
                    </a:lnTo>
                    <a:lnTo>
                      <a:pt x="3293" y="419"/>
                    </a:lnTo>
                    <a:lnTo>
                      <a:pt x="3299" y="444"/>
                    </a:lnTo>
                    <a:lnTo>
                      <a:pt x="3301" y="4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108520" y="6520320"/>
                <a:ext cx="364320" cy="114120"/>
              </a:xfrm>
              <a:custGeom>
                <a:avLst/>
                <a:gdLst/>
                <a:ahLst/>
                <a:rect l="l" t="t" r="r" b="b"/>
                <a:pathLst>
                  <a:path w="3298" h="953">
                    <a:moveTo>
                      <a:pt x="3298" y="469"/>
                    </a:moveTo>
                    <a:lnTo>
                      <a:pt x="3295" y="493"/>
                    </a:lnTo>
                    <a:lnTo>
                      <a:pt x="3289" y="518"/>
                    </a:lnTo>
                    <a:lnTo>
                      <a:pt x="3278" y="542"/>
                    </a:lnTo>
                    <a:lnTo>
                      <a:pt x="3263" y="566"/>
                    </a:lnTo>
                    <a:lnTo>
                      <a:pt x="3245" y="590"/>
                    </a:lnTo>
                    <a:lnTo>
                      <a:pt x="3223" y="613"/>
                    </a:lnTo>
                    <a:lnTo>
                      <a:pt x="3198" y="635"/>
                    </a:lnTo>
                    <a:lnTo>
                      <a:pt x="3167" y="657"/>
                    </a:lnTo>
                    <a:lnTo>
                      <a:pt x="3135" y="679"/>
                    </a:lnTo>
                    <a:lnTo>
                      <a:pt x="3099" y="700"/>
                    </a:lnTo>
                    <a:lnTo>
                      <a:pt x="3058" y="720"/>
                    </a:lnTo>
                    <a:lnTo>
                      <a:pt x="3016" y="739"/>
                    </a:lnTo>
                    <a:lnTo>
                      <a:pt x="2969" y="758"/>
                    </a:lnTo>
                    <a:lnTo>
                      <a:pt x="2921" y="777"/>
                    </a:lnTo>
                    <a:lnTo>
                      <a:pt x="2868" y="795"/>
                    </a:lnTo>
                    <a:lnTo>
                      <a:pt x="2814" y="812"/>
                    </a:lnTo>
                    <a:lnTo>
                      <a:pt x="2757" y="828"/>
                    </a:lnTo>
                    <a:lnTo>
                      <a:pt x="2697" y="843"/>
                    </a:lnTo>
                    <a:lnTo>
                      <a:pt x="2635" y="857"/>
                    </a:lnTo>
                    <a:lnTo>
                      <a:pt x="2571" y="870"/>
                    </a:lnTo>
                    <a:lnTo>
                      <a:pt x="2504" y="884"/>
                    </a:lnTo>
                    <a:lnTo>
                      <a:pt x="2434" y="895"/>
                    </a:lnTo>
                    <a:lnTo>
                      <a:pt x="2363" y="906"/>
                    </a:lnTo>
                    <a:lnTo>
                      <a:pt x="2291" y="916"/>
                    </a:lnTo>
                    <a:lnTo>
                      <a:pt x="2215" y="924"/>
                    </a:lnTo>
                    <a:lnTo>
                      <a:pt x="2139" y="932"/>
                    </a:lnTo>
                    <a:lnTo>
                      <a:pt x="2061" y="938"/>
                    </a:lnTo>
                    <a:lnTo>
                      <a:pt x="1981" y="944"/>
                    </a:lnTo>
                    <a:lnTo>
                      <a:pt x="1900" y="948"/>
                    </a:lnTo>
                    <a:lnTo>
                      <a:pt x="1817" y="951"/>
                    </a:lnTo>
                    <a:lnTo>
                      <a:pt x="1733" y="953"/>
                    </a:lnTo>
                    <a:lnTo>
                      <a:pt x="1648" y="953"/>
                    </a:lnTo>
                    <a:lnTo>
                      <a:pt x="1564" y="953"/>
                    </a:lnTo>
                    <a:lnTo>
                      <a:pt x="1480" y="951"/>
                    </a:lnTo>
                    <a:lnTo>
                      <a:pt x="1397" y="948"/>
                    </a:lnTo>
                    <a:lnTo>
                      <a:pt x="1316" y="944"/>
                    </a:lnTo>
                    <a:lnTo>
                      <a:pt x="1236" y="938"/>
                    </a:lnTo>
                    <a:lnTo>
                      <a:pt x="1159" y="932"/>
                    </a:lnTo>
                    <a:lnTo>
                      <a:pt x="1082" y="924"/>
                    </a:lnTo>
                    <a:lnTo>
                      <a:pt x="1007" y="916"/>
                    </a:lnTo>
                    <a:lnTo>
                      <a:pt x="933" y="906"/>
                    </a:lnTo>
                    <a:lnTo>
                      <a:pt x="863" y="895"/>
                    </a:lnTo>
                    <a:lnTo>
                      <a:pt x="793" y="884"/>
                    </a:lnTo>
                    <a:lnTo>
                      <a:pt x="726" y="870"/>
                    </a:lnTo>
                    <a:lnTo>
                      <a:pt x="662" y="857"/>
                    </a:lnTo>
                    <a:lnTo>
                      <a:pt x="600" y="843"/>
                    </a:lnTo>
                    <a:lnTo>
                      <a:pt x="540" y="828"/>
                    </a:lnTo>
                    <a:lnTo>
                      <a:pt x="483" y="812"/>
                    </a:lnTo>
                    <a:lnTo>
                      <a:pt x="428" y="795"/>
                    </a:lnTo>
                    <a:lnTo>
                      <a:pt x="376" y="777"/>
                    </a:lnTo>
                    <a:lnTo>
                      <a:pt x="327" y="758"/>
                    </a:lnTo>
                    <a:lnTo>
                      <a:pt x="281" y="739"/>
                    </a:lnTo>
                    <a:lnTo>
                      <a:pt x="239" y="720"/>
                    </a:lnTo>
                    <a:lnTo>
                      <a:pt x="199" y="700"/>
                    </a:lnTo>
                    <a:lnTo>
                      <a:pt x="162" y="679"/>
                    </a:lnTo>
                    <a:lnTo>
                      <a:pt x="130" y="657"/>
                    </a:lnTo>
                    <a:lnTo>
                      <a:pt x="100" y="635"/>
                    </a:lnTo>
                    <a:lnTo>
                      <a:pt x="74" y="613"/>
                    </a:lnTo>
                    <a:lnTo>
                      <a:pt x="52" y="590"/>
                    </a:lnTo>
                    <a:lnTo>
                      <a:pt x="34" y="566"/>
                    </a:lnTo>
                    <a:lnTo>
                      <a:pt x="18" y="542"/>
                    </a:lnTo>
                    <a:lnTo>
                      <a:pt x="8" y="518"/>
                    </a:lnTo>
                    <a:lnTo>
                      <a:pt x="2" y="493"/>
                    </a:lnTo>
                    <a:lnTo>
                      <a:pt x="0" y="469"/>
                    </a:lnTo>
                    <a:lnTo>
                      <a:pt x="2" y="443"/>
                    </a:lnTo>
                    <a:lnTo>
                      <a:pt x="8" y="419"/>
                    </a:lnTo>
                    <a:lnTo>
                      <a:pt x="18" y="395"/>
                    </a:lnTo>
                    <a:lnTo>
                      <a:pt x="34" y="371"/>
                    </a:lnTo>
                    <a:lnTo>
                      <a:pt x="52" y="348"/>
                    </a:lnTo>
                    <a:lnTo>
                      <a:pt x="74" y="325"/>
                    </a:lnTo>
                    <a:lnTo>
                      <a:pt x="100" y="303"/>
                    </a:lnTo>
                    <a:lnTo>
                      <a:pt x="130" y="282"/>
                    </a:lnTo>
                    <a:lnTo>
                      <a:pt x="162" y="261"/>
                    </a:lnTo>
                    <a:lnTo>
                      <a:pt x="199" y="241"/>
                    </a:lnTo>
                    <a:lnTo>
                      <a:pt x="239" y="221"/>
                    </a:lnTo>
                    <a:lnTo>
                      <a:pt x="281" y="202"/>
                    </a:lnTo>
                    <a:lnTo>
                      <a:pt x="327" y="184"/>
                    </a:lnTo>
                    <a:lnTo>
                      <a:pt x="376" y="167"/>
                    </a:lnTo>
                    <a:lnTo>
                      <a:pt x="428" y="150"/>
                    </a:lnTo>
                    <a:lnTo>
                      <a:pt x="483" y="134"/>
                    </a:lnTo>
                    <a:lnTo>
                      <a:pt x="540" y="118"/>
                    </a:lnTo>
                    <a:lnTo>
                      <a:pt x="600" y="104"/>
                    </a:lnTo>
                    <a:lnTo>
                      <a:pt x="662" y="90"/>
                    </a:lnTo>
                    <a:lnTo>
                      <a:pt x="726" y="78"/>
                    </a:lnTo>
                    <a:lnTo>
                      <a:pt x="793" y="66"/>
                    </a:lnTo>
                    <a:lnTo>
                      <a:pt x="863" y="55"/>
                    </a:lnTo>
                    <a:lnTo>
                      <a:pt x="933" y="45"/>
                    </a:lnTo>
                    <a:lnTo>
                      <a:pt x="1007" y="36"/>
                    </a:lnTo>
                    <a:lnTo>
                      <a:pt x="1082" y="28"/>
                    </a:lnTo>
                    <a:lnTo>
                      <a:pt x="1159" y="20"/>
                    </a:lnTo>
                    <a:lnTo>
                      <a:pt x="1236" y="14"/>
                    </a:lnTo>
                    <a:lnTo>
                      <a:pt x="1316" y="9"/>
                    </a:lnTo>
                    <a:lnTo>
                      <a:pt x="1397" y="5"/>
                    </a:lnTo>
                    <a:lnTo>
                      <a:pt x="1480" y="2"/>
                    </a:lnTo>
                    <a:lnTo>
                      <a:pt x="1564" y="1"/>
                    </a:lnTo>
                    <a:lnTo>
                      <a:pt x="1648" y="0"/>
                    </a:lnTo>
                    <a:lnTo>
                      <a:pt x="1733" y="1"/>
                    </a:lnTo>
                    <a:lnTo>
                      <a:pt x="1817" y="2"/>
                    </a:lnTo>
                    <a:lnTo>
                      <a:pt x="1900" y="5"/>
                    </a:lnTo>
                    <a:lnTo>
                      <a:pt x="1981" y="9"/>
                    </a:lnTo>
                    <a:lnTo>
                      <a:pt x="2061" y="14"/>
                    </a:lnTo>
                    <a:lnTo>
                      <a:pt x="2139" y="20"/>
                    </a:lnTo>
                    <a:lnTo>
                      <a:pt x="2215" y="28"/>
                    </a:lnTo>
                    <a:lnTo>
                      <a:pt x="2291" y="36"/>
                    </a:lnTo>
                    <a:lnTo>
                      <a:pt x="2363" y="45"/>
                    </a:lnTo>
                    <a:lnTo>
                      <a:pt x="2434" y="55"/>
                    </a:lnTo>
                    <a:lnTo>
                      <a:pt x="2504" y="66"/>
                    </a:lnTo>
                    <a:lnTo>
                      <a:pt x="2571" y="78"/>
                    </a:lnTo>
                    <a:lnTo>
                      <a:pt x="2635" y="90"/>
                    </a:lnTo>
                    <a:lnTo>
                      <a:pt x="2697" y="104"/>
                    </a:lnTo>
                    <a:lnTo>
                      <a:pt x="2757" y="118"/>
                    </a:lnTo>
                    <a:lnTo>
                      <a:pt x="2814" y="134"/>
                    </a:lnTo>
                    <a:lnTo>
                      <a:pt x="2868" y="150"/>
                    </a:lnTo>
                    <a:lnTo>
                      <a:pt x="2921" y="167"/>
                    </a:lnTo>
                    <a:lnTo>
                      <a:pt x="2969" y="184"/>
                    </a:lnTo>
                    <a:lnTo>
                      <a:pt x="3016" y="202"/>
                    </a:lnTo>
                    <a:lnTo>
                      <a:pt x="3058" y="221"/>
                    </a:lnTo>
                    <a:lnTo>
                      <a:pt x="3099" y="241"/>
                    </a:lnTo>
                    <a:lnTo>
                      <a:pt x="3135" y="261"/>
                    </a:lnTo>
                    <a:lnTo>
                      <a:pt x="3167" y="282"/>
                    </a:lnTo>
                    <a:lnTo>
                      <a:pt x="3198" y="303"/>
                    </a:lnTo>
                    <a:lnTo>
                      <a:pt x="3223" y="325"/>
                    </a:lnTo>
                    <a:lnTo>
                      <a:pt x="3245" y="348"/>
                    </a:lnTo>
                    <a:lnTo>
                      <a:pt x="3263" y="371"/>
                    </a:lnTo>
                    <a:lnTo>
                      <a:pt x="3278" y="395"/>
                    </a:lnTo>
                    <a:lnTo>
                      <a:pt x="3289" y="419"/>
                    </a:lnTo>
                    <a:lnTo>
                      <a:pt x="3295" y="443"/>
                    </a:lnTo>
                    <a:lnTo>
                      <a:pt x="3298" y="4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108520" y="6521400"/>
                <a:ext cx="364320" cy="113040"/>
              </a:xfrm>
              <a:custGeom>
                <a:avLst/>
                <a:gdLst/>
                <a:ahLst/>
                <a:rect l="l" t="t" r="r" b="b"/>
                <a:pathLst>
                  <a:path w="3295" h="952">
                    <a:moveTo>
                      <a:pt x="3295" y="468"/>
                    </a:moveTo>
                    <a:lnTo>
                      <a:pt x="3293" y="492"/>
                    </a:lnTo>
                    <a:lnTo>
                      <a:pt x="3287" y="517"/>
                    </a:lnTo>
                    <a:lnTo>
                      <a:pt x="3275" y="541"/>
                    </a:lnTo>
                    <a:lnTo>
                      <a:pt x="3261" y="565"/>
                    </a:lnTo>
                    <a:lnTo>
                      <a:pt x="3243" y="589"/>
                    </a:lnTo>
                    <a:lnTo>
                      <a:pt x="3221" y="611"/>
                    </a:lnTo>
                    <a:lnTo>
                      <a:pt x="3195" y="634"/>
                    </a:lnTo>
                    <a:lnTo>
                      <a:pt x="3165" y="655"/>
                    </a:lnTo>
                    <a:lnTo>
                      <a:pt x="3132" y="678"/>
                    </a:lnTo>
                    <a:lnTo>
                      <a:pt x="3096" y="698"/>
                    </a:lnTo>
                    <a:lnTo>
                      <a:pt x="3056" y="718"/>
                    </a:lnTo>
                    <a:lnTo>
                      <a:pt x="3014" y="738"/>
                    </a:lnTo>
                    <a:lnTo>
                      <a:pt x="2967" y="757"/>
                    </a:lnTo>
                    <a:lnTo>
                      <a:pt x="2919" y="776"/>
                    </a:lnTo>
                    <a:lnTo>
                      <a:pt x="2866" y="793"/>
                    </a:lnTo>
                    <a:lnTo>
                      <a:pt x="2812" y="810"/>
                    </a:lnTo>
                    <a:lnTo>
                      <a:pt x="2755" y="826"/>
                    </a:lnTo>
                    <a:lnTo>
                      <a:pt x="2696" y="841"/>
                    </a:lnTo>
                    <a:lnTo>
                      <a:pt x="2633" y="855"/>
                    </a:lnTo>
                    <a:lnTo>
                      <a:pt x="2569" y="869"/>
                    </a:lnTo>
                    <a:lnTo>
                      <a:pt x="2502" y="882"/>
                    </a:lnTo>
                    <a:lnTo>
                      <a:pt x="2433" y="894"/>
                    </a:lnTo>
                    <a:lnTo>
                      <a:pt x="2361" y="904"/>
                    </a:lnTo>
                    <a:lnTo>
                      <a:pt x="2289" y="914"/>
                    </a:lnTo>
                    <a:lnTo>
                      <a:pt x="2214" y="922"/>
                    </a:lnTo>
                    <a:lnTo>
                      <a:pt x="2137" y="930"/>
                    </a:lnTo>
                    <a:lnTo>
                      <a:pt x="2060" y="936"/>
                    </a:lnTo>
                    <a:lnTo>
                      <a:pt x="1980" y="942"/>
                    </a:lnTo>
                    <a:lnTo>
                      <a:pt x="1898" y="946"/>
                    </a:lnTo>
                    <a:lnTo>
                      <a:pt x="1816" y="949"/>
                    </a:lnTo>
                    <a:lnTo>
                      <a:pt x="1732" y="951"/>
                    </a:lnTo>
                    <a:lnTo>
                      <a:pt x="1647" y="952"/>
                    </a:lnTo>
                    <a:lnTo>
                      <a:pt x="1563" y="951"/>
                    </a:lnTo>
                    <a:lnTo>
                      <a:pt x="1479" y="949"/>
                    </a:lnTo>
                    <a:lnTo>
                      <a:pt x="1397" y="946"/>
                    </a:lnTo>
                    <a:lnTo>
                      <a:pt x="1315" y="942"/>
                    </a:lnTo>
                    <a:lnTo>
                      <a:pt x="1235" y="936"/>
                    </a:lnTo>
                    <a:lnTo>
                      <a:pt x="1158" y="930"/>
                    </a:lnTo>
                    <a:lnTo>
                      <a:pt x="1081" y="922"/>
                    </a:lnTo>
                    <a:lnTo>
                      <a:pt x="1006" y="914"/>
                    </a:lnTo>
                    <a:lnTo>
                      <a:pt x="933" y="904"/>
                    </a:lnTo>
                    <a:lnTo>
                      <a:pt x="863" y="894"/>
                    </a:lnTo>
                    <a:lnTo>
                      <a:pt x="793" y="882"/>
                    </a:lnTo>
                    <a:lnTo>
                      <a:pt x="726" y="869"/>
                    </a:lnTo>
                    <a:lnTo>
                      <a:pt x="662" y="855"/>
                    </a:lnTo>
                    <a:lnTo>
                      <a:pt x="600" y="841"/>
                    </a:lnTo>
                    <a:lnTo>
                      <a:pt x="540" y="826"/>
                    </a:lnTo>
                    <a:lnTo>
                      <a:pt x="483" y="810"/>
                    </a:lnTo>
                    <a:lnTo>
                      <a:pt x="428" y="793"/>
                    </a:lnTo>
                    <a:lnTo>
                      <a:pt x="376" y="776"/>
                    </a:lnTo>
                    <a:lnTo>
                      <a:pt x="327" y="757"/>
                    </a:lnTo>
                    <a:lnTo>
                      <a:pt x="282" y="738"/>
                    </a:lnTo>
                    <a:lnTo>
                      <a:pt x="239" y="718"/>
                    </a:lnTo>
                    <a:lnTo>
                      <a:pt x="199" y="698"/>
                    </a:lnTo>
                    <a:lnTo>
                      <a:pt x="163" y="678"/>
                    </a:lnTo>
                    <a:lnTo>
                      <a:pt x="130" y="655"/>
                    </a:lnTo>
                    <a:lnTo>
                      <a:pt x="100" y="634"/>
                    </a:lnTo>
                    <a:lnTo>
                      <a:pt x="74" y="611"/>
                    </a:lnTo>
                    <a:lnTo>
                      <a:pt x="52" y="589"/>
                    </a:lnTo>
                    <a:lnTo>
                      <a:pt x="34" y="565"/>
                    </a:lnTo>
                    <a:lnTo>
                      <a:pt x="19" y="541"/>
                    </a:lnTo>
                    <a:lnTo>
                      <a:pt x="8" y="517"/>
                    </a:lnTo>
                    <a:lnTo>
                      <a:pt x="2" y="492"/>
                    </a:lnTo>
                    <a:lnTo>
                      <a:pt x="0" y="468"/>
                    </a:lnTo>
                    <a:lnTo>
                      <a:pt x="2" y="442"/>
                    </a:lnTo>
                    <a:lnTo>
                      <a:pt x="8" y="418"/>
                    </a:lnTo>
                    <a:lnTo>
                      <a:pt x="19" y="394"/>
                    </a:lnTo>
                    <a:lnTo>
                      <a:pt x="34" y="371"/>
                    </a:lnTo>
                    <a:lnTo>
                      <a:pt x="52" y="348"/>
                    </a:lnTo>
                    <a:lnTo>
                      <a:pt x="74" y="324"/>
                    </a:lnTo>
                    <a:lnTo>
                      <a:pt x="100" y="303"/>
                    </a:lnTo>
                    <a:lnTo>
                      <a:pt x="130" y="281"/>
                    </a:lnTo>
                    <a:lnTo>
                      <a:pt x="163" y="261"/>
                    </a:lnTo>
                    <a:lnTo>
                      <a:pt x="199" y="241"/>
                    </a:lnTo>
                    <a:lnTo>
                      <a:pt x="239" y="220"/>
                    </a:lnTo>
                    <a:lnTo>
                      <a:pt x="282" y="202"/>
                    </a:lnTo>
                    <a:lnTo>
                      <a:pt x="327" y="184"/>
                    </a:lnTo>
                    <a:lnTo>
                      <a:pt x="376" y="166"/>
                    </a:lnTo>
                    <a:lnTo>
                      <a:pt x="428" y="150"/>
                    </a:lnTo>
                    <a:lnTo>
                      <a:pt x="483" y="134"/>
                    </a:lnTo>
                    <a:lnTo>
                      <a:pt x="540" y="118"/>
                    </a:lnTo>
                    <a:lnTo>
                      <a:pt x="600" y="104"/>
                    </a:lnTo>
                    <a:lnTo>
                      <a:pt x="662" y="90"/>
                    </a:lnTo>
                    <a:lnTo>
                      <a:pt x="726" y="77"/>
                    </a:lnTo>
                    <a:lnTo>
                      <a:pt x="793" y="66"/>
                    </a:lnTo>
                    <a:lnTo>
                      <a:pt x="863" y="55"/>
                    </a:lnTo>
                    <a:lnTo>
                      <a:pt x="933" y="45"/>
                    </a:lnTo>
                    <a:lnTo>
                      <a:pt x="1006" y="36"/>
                    </a:lnTo>
                    <a:lnTo>
                      <a:pt x="1081" y="28"/>
                    </a:lnTo>
                    <a:lnTo>
                      <a:pt x="1158" y="20"/>
                    </a:lnTo>
                    <a:lnTo>
                      <a:pt x="1235" y="14"/>
                    </a:lnTo>
                    <a:lnTo>
                      <a:pt x="1315" y="9"/>
                    </a:lnTo>
                    <a:lnTo>
                      <a:pt x="1397" y="5"/>
                    </a:lnTo>
                    <a:lnTo>
                      <a:pt x="1479" y="2"/>
                    </a:lnTo>
                    <a:lnTo>
                      <a:pt x="1563" y="1"/>
                    </a:lnTo>
                    <a:lnTo>
                      <a:pt x="1647" y="0"/>
                    </a:lnTo>
                    <a:lnTo>
                      <a:pt x="1732" y="1"/>
                    </a:lnTo>
                    <a:lnTo>
                      <a:pt x="1816" y="2"/>
                    </a:lnTo>
                    <a:lnTo>
                      <a:pt x="1898" y="5"/>
                    </a:lnTo>
                    <a:lnTo>
                      <a:pt x="1980" y="9"/>
                    </a:lnTo>
                    <a:lnTo>
                      <a:pt x="2060" y="14"/>
                    </a:lnTo>
                    <a:lnTo>
                      <a:pt x="2137" y="20"/>
                    </a:lnTo>
                    <a:lnTo>
                      <a:pt x="2214" y="28"/>
                    </a:lnTo>
                    <a:lnTo>
                      <a:pt x="2289" y="36"/>
                    </a:lnTo>
                    <a:lnTo>
                      <a:pt x="2361" y="45"/>
                    </a:lnTo>
                    <a:lnTo>
                      <a:pt x="2433" y="55"/>
                    </a:lnTo>
                    <a:lnTo>
                      <a:pt x="2502" y="66"/>
                    </a:lnTo>
                    <a:lnTo>
                      <a:pt x="2569" y="77"/>
                    </a:lnTo>
                    <a:lnTo>
                      <a:pt x="2633" y="90"/>
                    </a:lnTo>
                    <a:lnTo>
                      <a:pt x="2696" y="104"/>
                    </a:lnTo>
                    <a:lnTo>
                      <a:pt x="2755" y="118"/>
                    </a:lnTo>
                    <a:lnTo>
                      <a:pt x="2812" y="134"/>
                    </a:lnTo>
                    <a:lnTo>
                      <a:pt x="2866" y="150"/>
                    </a:lnTo>
                    <a:lnTo>
                      <a:pt x="2919" y="166"/>
                    </a:lnTo>
                    <a:lnTo>
                      <a:pt x="2967" y="184"/>
                    </a:lnTo>
                    <a:lnTo>
                      <a:pt x="3014" y="202"/>
                    </a:lnTo>
                    <a:lnTo>
                      <a:pt x="3056" y="220"/>
                    </a:lnTo>
                    <a:lnTo>
                      <a:pt x="3096" y="241"/>
                    </a:lnTo>
                    <a:lnTo>
                      <a:pt x="3132" y="261"/>
                    </a:lnTo>
                    <a:lnTo>
                      <a:pt x="3165" y="281"/>
                    </a:lnTo>
                    <a:lnTo>
                      <a:pt x="3195" y="303"/>
                    </a:lnTo>
                    <a:lnTo>
                      <a:pt x="3221" y="324"/>
                    </a:lnTo>
                    <a:lnTo>
                      <a:pt x="3243" y="348"/>
                    </a:lnTo>
                    <a:lnTo>
                      <a:pt x="3261" y="371"/>
                    </a:lnTo>
                    <a:lnTo>
                      <a:pt x="3275" y="394"/>
                    </a:lnTo>
                    <a:lnTo>
                      <a:pt x="3287" y="418"/>
                    </a:lnTo>
                    <a:lnTo>
                      <a:pt x="3293" y="442"/>
                    </a:lnTo>
                    <a:lnTo>
                      <a:pt x="3295" y="4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108520" y="6521400"/>
                <a:ext cx="364320" cy="113040"/>
              </a:xfrm>
              <a:custGeom>
                <a:avLst/>
                <a:gdLst/>
                <a:ahLst/>
                <a:rect l="l" t="t" r="r" b="b"/>
                <a:pathLst>
                  <a:path w="3293" h="950">
                    <a:moveTo>
                      <a:pt x="3293" y="467"/>
                    </a:moveTo>
                    <a:lnTo>
                      <a:pt x="3291" y="491"/>
                    </a:lnTo>
                    <a:lnTo>
                      <a:pt x="3284" y="516"/>
                    </a:lnTo>
                    <a:lnTo>
                      <a:pt x="3273" y="540"/>
                    </a:lnTo>
                    <a:lnTo>
                      <a:pt x="3259" y="564"/>
                    </a:lnTo>
                    <a:lnTo>
                      <a:pt x="3240" y="587"/>
                    </a:lnTo>
                    <a:lnTo>
                      <a:pt x="3219" y="610"/>
                    </a:lnTo>
                    <a:lnTo>
                      <a:pt x="3193" y="632"/>
                    </a:lnTo>
                    <a:lnTo>
                      <a:pt x="3163" y="654"/>
                    </a:lnTo>
                    <a:lnTo>
                      <a:pt x="3130" y="676"/>
                    </a:lnTo>
                    <a:lnTo>
                      <a:pt x="3094" y="697"/>
                    </a:lnTo>
                    <a:lnTo>
                      <a:pt x="3054" y="717"/>
                    </a:lnTo>
                    <a:lnTo>
                      <a:pt x="3011" y="736"/>
                    </a:lnTo>
                    <a:lnTo>
                      <a:pt x="2965" y="755"/>
                    </a:lnTo>
                    <a:lnTo>
                      <a:pt x="2917" y="774"/>
                    </a:lnTo>
                    <a:lnTo>
                      <a:pt x="2864" y="792"/>
                    </a:lnTo>
                    <a:lnTo>
                      <a:pt x="2810" y="808"/>
                    </a:lnTo>
                    <a:lnTo>
                      <a:pt x="2753" y="824"/>
                    </a:lnTo>
                    <a:lnTo>
                      <a:pt x="2694" y="839"/>
                    </a:lnTo>
                    <a:lnTo>
                      <a:pt x="2631" y="853"/>
                    </a:lnTo>
                    <a:lnTo>
                      <a:pt x="2567" y="867"/>
                    </a:lnTo>
                    <a:lnTo>
                      <a:pt x="2500" y="880"/>
                    </a:lnTo>
                    <a:lnTo>
                      <a:pt x="2431" y="892"/>
                    </a:lnTo>
                    <a:lnTo>
                      <a:pt x="2360" y="902"/>
                    </a:lnTo>
                    <a:lnTo>
                      <a:pt x="2287" y="912"/>
                    </a:lnTo>
                    <a:lnTo>
                      <a:pt x="2212" y="921"/>
                    </a:lnTo>
                    <a:lnTo>
                      <a:pt x="2136" y="928"/>
                    </a:lnTo>
                    <a:lnTo>
                      <a:pt x="2058" y="935"/>
                    </a:lnTo>
                    <a:lnTo>
                      <a:pt x="1979" y="940"/>
                    </a:lnTo>
                    <a:lnTo>
                      <a:pt x="1897" y="944"/>
                    </a:lnTo>
                    <a:lnTo>
                      <a:pt x="1815" y="947"/>
                    </a:lnTo>
                    <a:lnTo>
                      <a:pt x="1731" y="949"/>
                    </a:lnTo>
                    <a:lnTo>
                      <a:pt x="1646" y="950"/>
                    </a:lnTo>
                    <a:lnTo>
                      <a:pt x="1562" y="949"/>
                    </a:lnTo>
                    <a:lnTo>
                      <a:pt x="1478" y="947"/>
                    </a:lnTo>
                    <a:lnTo>
                      <a:pt x="1396" y="944"/>
                    </a:lnTo>
                    <a:lnTo>
                      <a:pt x="1315" y="940"/>
                    </a:lnTo>
                    <a:lnTo>
                      <a:pt x="1235" y="935"/>
                    </a:lnTo>
                    <a:lnTo>
                      <a:pt x="1157" y="928"/>
                    </a:lnTo>
                    <a:lnTo>
                      <a:pt x="1081" y="921"/>
                    </a:lnTo>
                    <a:lnTo>
                      <a:pt x="1006" y="912"/>
                    </a:lnTo>
                    <a:lnTo>
                      <a:pt x="932" y="902"/>
                    </a:lnTo>
                    <a:lnTo>
                      <a:pt x="862" y="892"/>
                    </a:lnTo>
                    <a:lnTo>
                      <a:pt x="793" y="880"/>
                    </a:lnTo>
                    <a:lnTo>
                      <a:pt x="726" y="867"/>
                    </a:lnTo>
                    <a:lnTo>
                      <a:pt x="662" y="853"/>
                    </a:lnTo>
                    <a:lnTo>
                      <a:pt x="599" y="839"/>
                    </a:lnTo>
                    <a:lnTo>
                      <a:pt x="540" y="824"/>
                    </a:lnTo>
                    <a:lnTo>
                      <a:pt x="483" y="808"/>
                    </a:lnTo>
                    <a:lnTo>
                      <a:pt x="428" y="792"/>
                    </a:lnTo>
                    <a:lnTo>
                      <a:pt x="376" y="774"/>
                    </a:lnTo>
                    <a:lnTo>
                      <a:pt x="327" y="755"/>
                    </a:lnTo>
                    <a:lnTo>
                      <a:pt x="282" y="736"/>
                    </a:lnTo>
                    <a:lnTo>
                      <a:pt x="239" y="717"/>
                    </a:lnTo>
                    <a:lnTo>
                      <a:pt x="199" y="697"/>
                    </a:lnTo>
                    <a:lnTo>
                      <a:pt x="163" y="676"/>
                    </a:lnTo>
                    <a:lnTo>
                      <a:pt x="130" y="654"/>
                    </a:lnTo>
                    <a:lnTo>
                      <a:pt x="100" y="632"/>
                    </a:lnTo>
                    <a:lnTo>
                      <a:pt x="75" y="610"/>
                    </a:lnTo>
                    <a:lnTo>
                      <a:pt x="53" y="587"/>
                    </a:lnTo>
                    <a:lnTo>
                      <a:pt x="34" y="564"/>
                    </a:lnTo>
                    <a:lnTo>
                      <a:pt x="19" y="540"/>
                    </a:lnTo>
                    <a:lnTo>
                      <a:pt x="9" y="516"/>
                    </a:lnTo>
                    <a:lnTo>
                      <a:pt x="2" y="491"/>
                    </a:lnTo>
                    <a:lnTo>
                      <a:pt x="0" y="467"/>
                    </a:lnTo>
                    <a:lnTo>
                      <a:pt x="2" y="441"/>
                    </a:lnTo>
                    <a:lnTo>
                      <a:pt x="9" y="417"/>
                    </a:lnTo>
                    <a:lnTo>
                      <a:pt x="19" y="393"/>
                    </a:lnTo>
                    <a:lnTo>
                      <a:pt x="34" y="370"/>
                    </a:lnTo>
                    <a:lnTo>
                      <a:pt x="53" y="347"/>
                    </a:lnTo>
                    <a:lnTo>
                      <a:pt x="75" y="324"/>
                    </a:lnTo>
                    <a:lnTo>
                      <a:pt x="100" y="302"/>
                    </a:lnTo>
                    <a:lnTo>
                      <a:pt x="130" y="281"/>
                    </a:lnTo>
                    <a:lnTo>
                      <a:pt x="163" y="260"/>
                    </a:lnTo>
                    <a:lnTo>
                      <a:pt x="199" y="240"/>
                    </a:lnTo>
                    <a:lnTo>
                      <a:pt x="239" y="220"/>
                    </a:lnTo>
                    <a:lnTo>
                      <a:pt x="282" y="201"/>
                    </a:lnTo>
                    <a:lnTo>
                      <a:pt x="327" y="183"/>
                    </a:lnTo>
                    <a:lnTo>
                      <a:pt x="376" y="166"/>
                    </a:lnTo>
                    <a:lnTo>
                      <a:pt x="428" y="149"/>
                    </a:lnTo>
                    <a:lnTo>
                      <a:pt x="483" y="134"/>
                    </a:lnTo>
                    <a:lnTo>
                      <a:pt x="540" y="117"/>
                    </a:lnTo>
                    <a:lnTo>
                      <a:pt x="599" y="103"/>
                    </a:lnTo>
                    <a:lnTo>
                      <a:pt x="662" y="90"/>
                    </a:lnTo>
                    <a:lnTo>
                      <a:pt x="726" y="77"/>
                    </a:lnTo>
                    <a:lnTo>
                      <a:pt x="793" y="66"/>
                    </a:lnTo>
                    <a:lnTo>
                      <a:pt x="862" y="55"/>
                    </a:lnTo>
                    <a:lnTo>
                      <a:pt x="932" y="45"/>
                    </a:lnTo>
                    <a:lnTo>
                      <a:pt x="1006" y="36"/>
                    </a:lnTo>
                    <a:lnTo>
                      <a:pt x="1081" y="28"/>
                    </a:lnTo>
                    <a:lnTo>
                      <a:pt x="1157" y="20"/>
                    </a:lnTo>
                    <a:lnTo>
                      <a:pt x="1235" y="14"/>
                    </a:lnTo>
                    <a:lnTo>
                      <a:pt x="1315" y="9"/>
                    </a:lnTo>
                    <a:lnTo>
                      <a:pt x="1396" y="5"/>
                    </a:lnTo>
                    <a:lnTo>
                      <a:pt x="1478" y="2"/>
                    </a:lnTo>
                    <a:lnTo>
                      <a:pt x="1562" y="1"/>
                    </a:lnTo>
                    <a:lnTo>
                      <a:pt x="1646" y="0"/>
                    </a:lnTo>
                    <a:lnTo>
                      <a:pt x="1731" y="1"/>
                    </a:lnTo>
                    <a:lnTo>
                      <a:pt x="1815" y="2"/>
                    </a:lnTo>
                    <a:lnTo>
                      <a:pt x="1897" y="5"/>
                    </a:lnTo>
                    <a:lnTo>
                      <a:pt x="1979" y="9"/>
                    </a:lnTo>
                    <a:lnTo>
                      <a:pt x="2058" y="14"/>
                    </a:lnTo>
                    <a:lnTo>
                      <a:pt x="2136" y="20"/>
                    </a:lnTo>
                    <a:lnTo>
                      <a:pt x="2212" y="28"/>
                    </a:lnTo>
                    <a:lnTo>
                      <a:pt x="2287" y="36"/>
                    </a:lnTo>
                    <a:lnTo>
                      <a:pt x="2360" y="45"/>
                    </a:lnTo>
                    <a:lnTo>
                      <a:pt x="2431" y="55"/>
                    </a:lnTo>
                    <a:lnTo>
                      <a:pt x="2500" y="66"/>
                    </a:lnTo>
                    <a:lnTo>
                      <a:pt x="2567" y="77"/>
                    </a:lnTo>
                    <a:lnTo>
                      <a:pt x="2631" y="90"/>
                    </a:lnTo>
                    <a:lnTo>
                      <a:pt x="2694" y="103"/>
                    </a:lnTo>
                    <a:lnTo>
                      <a:pt x="2753" y="117"/>
                    </a:lnTo>
                    <a:lnTo>
                      <a:pt x="2810" y="134"/>
                    </a:lnTo>
                    <a:lnTo>
                      <a:pt x="2864" y="149"/>
                    </a:lnTo>
                    <a:lnTo>
                      <a:pt x="2917" y="166"/>
                    </a:lnTo>
                    <a:lnTo>
                      <a:pt x="2965" y="183"/>
                    </a:lnTo>
                    <a:lnTo>
                      <a:pt x="3011" y="201"/>
                    </a:lnTo>
                    <a:lnTo>
                      <a:pt x="3054" y="220"/>
                    </a:lnTo>
                    <a:lnTo>
                      <a:pt x="3094" y="240"/>
                    </a:lnTo>
                    <a:lnTo>
                      <a:pt x="3130" y="260"/>
                    </a:lnTo>
                    <a:lnTo>
                      <a:pt x="3163" y="281"/>
                    </a:lnTo>
                    <a:lnTo>
                      <a:pt x="3193" y="302"/>
                    </a:lnTo>
                    <a:lnTo>
                      <a:pt x="3219" y="324"/>
                    </a:lnTo>
                    <a:lnTo>
                      <a:pt x="3240" y="347"/>
                    </a:lnTo>
                    <a:lnTo>
                      <a:pt x="3259" y="370"/>
                    </a:lnTo>
                    <a:lnTo>
                      <a:pt x="3273" y="393"/>
                    </a:lnTo>
                    <a:lnTo>
                      <a:pt x="3284" y="417"/>
                    </a:lnTo>
                    <a:lnTo>
                      <a:pt x="3291" y="441"/>
                    </a:lnTo>
                    <a:lnTo>
                      <a:pt x="3293" y="4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108520" y="6521400"/>
                <a:ext cx="363240" cy="113040"/>
              </a:xfrm>
              <a:custGeom>
                <a:avLst/>
                <a:gdLst/>
                <a:ahLst/>
                <a:rect l="l" t="t" r="r" b="b"/>
                <a:pathLst>
                  <a:path w="3289" h="948">
                    <a:moveTo>
                      <a:pt x="3289" y="466"/>
                    </a:moveTo>
                    <a:lnTo>
                      <a:pt x="3287" y="490"/>
                    </a:lnTo>
                    <a:lnTo>
                      <a:pt x="3281" y="514"/>
                    </a:lnTo>
                    <a:lnTo>
                      <a:pt x="3270" y="538"/>
                    </a:lnTo>
                    <a:lnTo>
                      <a:pt x="3255" y="563"/>
                    </a:lnTo>
                    <a:lnTo>
                      <a:pt x="3237" y="586"/>
                    </a:lnTo>
                    <a:lnTo>
                      <a:pt x="3215" y="609"/>
                    </a:lnTo>
                    <a:lnTo>
                      <a:pt x="3190" y="631"/>
                    </a:lnTo>
                    <a:lnTo>
                      <a:pt x="3159" y="653"/>
                    </a:lnTo>
                    <a:lnTo>
                      <a:pt x="3127" y="675"/>
                    </a:lnTo>
                    <a:lnTo>
                      <a:pt x="3091" y="695"/>
                    </a:lnTo>
                    <a:lnTo>
                      <a:pt x="3051" y="716"/>
                    </a:lnTo>
                    <a:lnTo>
                      <a:pt x="3008" y="735"/>
                    </a:lnTo>
                    <a:lnTo>
                      <a:pt x="2962" y="754"/>
                    </a:lnTo>
                    <a:lnTo>
                      <a:pt x="2913" y="773"/>
                    </a:lnTo>
                    <a:lnTo>
                      <a:pt x="2861" y="790"/>
                    </a:lnTo>
                    <a:lnTo>
                      <a:pt x="2807" y="807"/>
                    </a:lnTo>
                    <a:lnTo>
                      <a:pt x="2750" y="823"/>
                    </a:lnTo>
                    <a:lnTo>
                      <a:pt x="2691" y="838"/>
                    </a:lnTo>
                    <a:lnTo>
                      <a:pt x="2628" y="852"/>
                    </a:lnTo>
                    <a:lnTo>
                      <a:pt x="2564" y="865"/>
                    </a:lnTo>
                    <a:lnTo>
                      <a:pt x="2497" y="878"/>
                    </a:lnTo>
                    <a:lnTo>
                      <a:pt x="2428" y="890"/>
                    </a:lnTo>
                    <a:lnTo>
                      <a:pt x="2357" y="901"/>
                    </a:lnTo>
                    <a:lnTo>
                      <a:pt x="2285" y="910"/>
                    </a:lnTo>
                    <a:lnTo>
                      <a:pt x="2210" y="919"/>
                    </a:lnTo>
                    <a:lnTo>
                      <a:pt x="2133" y="926"/>
                    </a:lnTo>
                    <a:lnTo>
                      <a:pt x="2056" y="933"/>
                    </a:lnTo>
                    <a:lnTo>
                      <a:pt x="1976" y="938"/>
                    </a:lnTo>
                    <a:lnTo>
                      <a:pt x="1895" y="942"/>
                    </a:lnTo>
                    <a:lnTo>
                      <a:pt x="1813" y="945"/>
                    </a:lnTo>
                    <a:lnTo>
                      <a:pt x="1729" y="947"/>
                    </a:lnTo>
                    <a:lnTo>
                      <a:pt x="1644" y="948"/>
                    </a:lnTo>
                    <a:lnTo>
                      <a:pt x="1560" y="947"/>
                    </a:lnTo>
                    <a:lnTo>
                      <a:pt x="1477" y="945"/>
                    </a:lnTo>
                    <a:lnTo>
                      <a:pt x="1394" y="942"/>
                    </a:lnTo>
                    <a:lnTo>
                      <a:pt x="1313" y="938"/>
                    </a:lnTo>
                    <a:lnTo>
                      <a:pt x="1233" y="933"/>
                    </a:lnTo>
                    <a:lnTo>
                      <a:pt x="1156" y="926"/>
                    </a:lnTo>
                    <a:lnTo>
                      <a:pt x="1079" y="919"/>
                    </a:lnTo>
                    <a:lnTo>
                      <a:pt x="1004" y="910"/>
                    </a:lnTo>
                    <a:lnTo>
                      <a:pt x="931" y="901"/>
                    </a:lnTo>
                    <a:lnTo>
                      <a:pt x="861" y="890"/>
                    </a:lnTo>
                    <a:lnTo>
                      <a:pt x="792" y="878"/>
                    </a:lnTo>
                    <a:lnTo>
                      <a:pt x="725" y="865"/>
                    </a:lnTo>
                    <a:lnTo>
                      <a:pt x="661" y="852"/>
                    </a:lnTo>
                    <a:lnTo>
                      <a:pt x="598" y="838"/>
                    </a:lnTo>
                    <a:lnTo>
                      <a:pt x="539" y="823"/>
                    </a:lnTo>
                    <a:lnTo>
                      <a:pt x="482" y="807"/>
                    </a:lnTo>
                    <a:lnTo>
                      <a:pt x="427" y="790"/>
                    </a:lnTo>
                    <a:lnTo>
                      <a:pt x="376" y="773"/>
                    </a:lnTo>
                    <a:lnTo>
                      <a:pt x="326" y="754"/>
                    </a:lnTo>
                    <a:lnTo>
                      <a:pt x="281" y="735"/>
                    </a:lnTo>
                    <a:lnTo>
                      <a:pt x="239" y="716"/>
                    </a:lnTo>
                    <a:lnTo>
                      <a:pt x="198" y="695"/>
                    </a:lnTo>
                    <a:lnTo>
                      <a:pt x="162" y="675"/>
                    </a:lnTo>
                    <a:lnTo>
                      <a:pt x="130" y="653"/>
                    </a:lnTo>
                    <a:lnTo>
                      <a:pt x="100" y="631"/>
                    </a:lnTo>
                    <a:lnTo>
                      <a:pt x="74" y="609"/>
                    </a:lnTo>
                    <a:lnTo>
                      <a:pt x="52" y="586"/>
                    </a:lnTo>
                    <a:lnTo>
                      <a:pt x="34" y="563"/>
                    </a:lnTo>
                    <a:lnTo>
                      <a:pt x="19" y="538"/>
                    </a:lnTo>
                    <a:lnTo>
                      <a:pt x="8" y="514"/>
                    </a:lnTo>
                    <a:lnTo>
                      <a:pt x="2" y="490"/>
                    </a:lnTo>
                    <a:lnTo>
                      <a:pt x="0" y="466"/>
                    </a:lnTo>
                    <a:lnTo>
                      <a:pt x="2" y="440"/>
                    </a:lnTo>
                    <a:lnTo>
                      <a:pt x="8" y="416"/>
                    </a:lnTo>
                    <a:lnTo>
                      <a:pt x="19" y="392"/>
                    </a:lnTo>
                    <a:lnTo>
                      <a:pt x="34" y="369"/>
                    </a:lnTo>
                    <a:lnTo>
                      <a:pt x="52" y="346"/>
                    </a:lnTo>
                    <a:lnTo>
                      <a:pt x="74" y="323"/>
                    </a:lnTo>
                    <a:lnTo>
                      <a:pt x="100" y="301"/>
                    </a:lnTo>
                    <a:lnTo>
                      <a:pt x="130" y="280"/>
                    </a:lnTo>
                    <a:lnTo>
                      <a:pt x="162" y="260"/>
                    </a:lnTo>
                    <a:lnTo>
                      <a:pt x="198" y="240"/>
                    </a:lnTo>
                    <a:lnTo>
                      <a:pt x="239" y="219"/>
                    </a:lnTo>
                    <a:lnTo>
                      <a:pt x="281" y="201"/>
                    </a:lnTo>
                    <a:lnTo>
                      <a:pt x="326" y="183"/>
                    </a:lnTo>
                    <a:lnTo>
                      <a:pt x="376" y="165"/>
                    </a:lnTo>
                    <a:lnTo>
                      <a:pt x="427" y="149"/>
                    </a:lnTo>
                    <a:lnTo>
                      <a:pt x="482" y="133"/>
                    </a:lnTo>
                    <a:lnTo>
                      <a:pt x="539" y="117"/>
                    </a:lnTo>
                    <a:lnTo>
                      <a:pt x="598" y="103"/>
                    </a:lnTo>
                    <a:lnTo>
                      <a:pt x="661" y="90"/>
                    </a:lnTo>
                    <a:lnTo>
                      <a:pt x="725" y="77"/>
                    </a:lnTo>
                    <a:lnTo>
                      <a:pt x="792" y="65"/>
                    </a:lnTo>
                    <a:lnTo>
                      <a:pt x="861" y="55"/>
                    </a:lnTo>
                    <a:lnTo>
                      <a:pt x="931" y="45"/>
                    </a:lnTo>
                    <a:lnTo>
                      <a:pt x="1004" y="36"/>
                    </a:lnTo>
                    <a:lnTo>
                      <a:pt x="1079" y="28"/>
                    </a:lnTo>
                    <a:lnTo>
                      <a:pt x="1156" y="20"/>
                    </a:lnTo>
                    <a:lnTo>
                      <a:pt x="1233" y="14"/>
                    </a:lnTo>
                    <a:lnTo>
                      <a:pt x="1313" y="9"/>
                    </a:lnTo>
                    <a:lnTo>
                      <a:pt x="1394" y="5"/>
                    </a:lnTo>
                    <a:lnTo>
                      <a:pt x="1477" y="2"/>
                    </a:lnTo>
                    <a:lnTo>
                      <a:pt x="1560" y="0"/>
                    </a:lnTo>
                    <a:lnTo>
                      <a:pt x="1644" y="0"/>
                    </a:lnTo>
                    <a:lnTo>
                      <a:pt x="1729" y="0"/>
                    </a:lnTo>
                    <a:lnTo>
                      <a:pt x="1813" y="2"/>
                    </a:lnTo>
                    <a:lnTo>
                      <a:pt x="1895" y="5"/>
                    </a:lnTo>
                    <a:lnTo>
                      <a:pt x="1976" y="9"/>
                    </a:lnTo>
                    <a:lnTo>
                      <a:pt x="2056" y="14"/>
                    </a:lnTo>
                    <a:lnTo>
                      <a:pt x="2133" y="20"/>
                    </a:lnTo>
                    <a:lnTo>
                      <a:pt x="2210" y="28"/>
                    </a:lnTo>
                    <a:lnTo>
                      <a:pt x="2285" y="36"/>
                    </a:lnTo>
                    <a:lnTo>
                      <a:pt x="2357" y="45"/>
                    </a:lnTo>
                    <a:lnTo>
                      <a:pt x="2428" y="55"/>
                    </a:lnTo>
                    <a:lnTo>
                      <a:pt x="2497" y="65"/>
                    </a:lnTo>
                    <a:lnTo>
                      <a:pt x="2564" y="77"/>
                    </a:lnTo>
                    <a:lnTo>
                      <a:pt x="2628" y="90"/>
                    </a:lnTo>
                    <a:lnTo>
                      <a:pt x="2691" y="103"/>
                    </a:lnTo>
                    <a:lnTo>
                      <a:pt x="2750" y="117"/>
                    </a:lnTo>
                    <a:lnTo>
                      <a:pt x="2807" y="133"/>
                    </a:lnTo>
                    <a:lnTo>
                      <a:pt x="2861" y="149"/>
                    </a:lnTo>
                    <a:lnTo>
                      <a:pt x="2913" y="165"/>
                    </a:lnTo>
                    <a:lnTo>
                      <a:pt x="2962" y="183"/>
                    </a:lnTo>
                    <a:lnTo>
                      <a:pt x="3008" y="201"/>
                    </a:lnTo>
                    <a:lnTo>
                      <a:pt x="3051" y="219"/>
                    </a:lnTo>
                    <a:lnTo>
                      <a:pt x="3091" y="240"/>
                    </a:lnTo>
                    <a:lnTo>
                      <a:pt x="3127" y="260"/>
                    </a:lnTo>
                    <a:lnTo>
                      <a:pt x="3159" y="280"/>
                    </a:lnTo>
                    <a:lnTo>
                      <a:pt x="3190" y="301"/>
                    </a:lnTo>
                    <a:lnTo>
                      <a:pt x="3215" y="323"/>
                    </a:lnTo>
                    <a:lnTo>
                      <a:pt x="3237" y="346"/>
                    </a:lnTo>
                    <a:lnTo>
                      <a:pt x="3255" y="369"/>
                    </a:lnTo>
                    <a:lnTo>
                      <a:pt x="3270" y="392"/>
                    </a:lnTo>
                    <a:lnTo>
                      <a:pt x="3281" y="416"/>
                    </a:lnTo>
                    <a:lnTo>
                      <a:pt x="3287" y="440"/>
                    </a:lnTo>
                    <a:lnTo>
                      <a:pt x="3289" y="4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109600" y="6521400"/>
                <a:ext cx="362160" cy="113040"/>
              </a:xfrm>
              <a:custGeom>
                <a:avLst/>
                <a:gdLst/>
                <a:ahLst/>
                <a:rect l="l" t="t" r="r" b="b"/>
                <a:pathLst>
                  <a:path w="3287" h="946">
                    <a:moveTo>
                      <a:pt x="3287" y="465"/>
                    </a:moveTo>
                    <a:lnTo>
                      <a:pt x="3285" y="489"/>
                    </a:lnTo>
                    <a:lnTo>
                      <a:pt x="3279" y="513"/>
                    </a:lnTo>
                    <a:lnTo>
                      <a:pt x="3267" y="537"/>
                    </a:lnTo>
                    <a:lnTo>
                      <a:pt x="3253" y="562"/>
                    </a:lnTo>
                    <a:lnTo>
                      <a:pt x="3235" y="585"/>
                    </a:lnTo>
                    <a:lnTo>
                      <a:pt x="3213" y="607"/>
                    </a:lnTo>
                    <a:lnTo>
                      <a:pt x="3187" y="630"/>
                    </a:lnTo>
                    <a:lnTo>
                      <a:pt x="3157" y="651"/>
                    </a:lnTo>
                    <a:lnTo>
                      <a:pt x="3124" y="673"/>
                    </a:lnTo>
                    <a:lnTo>
                      <a:pt x="3089" y="694"/>
                    </a:lnTo>
                    <a:lnTo>
                      <a:pt x="3048" y="714"/>
                    </a:lnTo>
                    <a:lnTo>
                      <a:pt x="3006" y="733"/>
                    </a:lnTo>
                    <a:lnTo>
                      <a:pt x="2960" y="752"/>
                    </a:lnTo>
                    <a:lnTo>
                      <a:pt x="2911" y="771"/>
                    </a:lnTo>
                    <a:lnTo>
                      <a:pt x="2859" y="788"/>
                    </a:lnTo>
                    <a:lnTo>
                      <a:pt x="2805" y="805"/>
                    </a:lnTo>
                    <a:lnTo>
                      <a:pt x="2748" y="821"/>
                    </a:lnTo>
                    <a:lnTo>
                      <a:pt x="2689" y="836"/>
                    </a:lnTo>
                    <a:lnTo>
                      <a:pt x="2626" y="850"/>
                    </a:lnTo>
                    <a:lnTo>
                      <a:pt x="2563" y="863"/>
                    </a:lnTo>
                    <a:lnTo>
                      <a:pt x="2496" y="877"/>
                    </a:lnTo>
                    <a:lnTo>
                      <a:pt x="2427" y="888"/>
                    </a:lnTo>
                    <a:lnTo>
                      <a:pt x="2355" y="899"/>
                    </a:lnTo>
                    <a:lnTo>
                      <a:pt x="2283" y="908"/>
                    </a:lnTo>
                    <a:lnTo>
                      <a:pt x="2208" y="917"/>
                    </a:lnTo>
                    <a:lnTo>
                      <a:pt x="2132" y="924"/>
                    </a:lnTo>
                    <a:lnTo>
                      <a:pt x="2055" y="931"/>
                    </a:lnTo>
                    <a:lnTo>
                      <a:pt x="1975" y="936"/>
                    </a:lnTo>
                    <a:lnTo>
                      <a:pt x="1894" y="940"/>
                    </a:lnTo>
                    <a:lnTo>
                      <a:pt x="1811" y="943"/>
                    </a:lnTo>
                    <a:lnTo>
                      <a:pt x="1728" y="945"/>
                    </a:lnTo>
                    <a:lnTo>
                      <a:pt x="1643" y="946"/>
                    </a:lnTo>
                    <a:lnTo>
                      <a:pt x="1559" y="945"/>
                    </a:lnTo>
                    <a:lnTo>
                      <a:pt x="1476" y="943"/>
                    </a:lnTo>
                    <a:lnTo>
                      <a:pt x="1393" y="940"/>
                    </a:lnTo>
                    <a:lnTo>
                      <a:pt x="1312" y="936"/>
                    </a:lnTo>
                    <a:lnTo>
                      <a:pt x="1232" y="931"/>
                    </a:lnTo>
                    <a:lnTo>
                      <a:pt x="1155" y="924"/>
                    </a:lnTo>
                    <a:lnTo>
                      <a:pt x="1079" y="917"/>
                    </a:lnTo>
                    <a:lnTo>
                      <a:pt x="1004" y="908"/>
                    </a:lnTo>
                    <a:lnTo>
                      <a:pt x="931" y="899"/>
                    </a:lnTo>
                    <a:lnTo>
                      <a:pt x="861" y="888"/>
                    </a:lnTo>
                    <a:lnTo>
                      <a:pt x="791" y="877"/>
                    </a:lnTo>
                    <a:lnTo>
                      <a:pt x="724" y="863"/>
                    </a:lnTo>
                    <a:lnTo>
                      <a:pt x="661" y="850"/>
                    </a:lnTo>
                    <a:lnTo>
                      <a:pt x="598" y="836"/>
                    </a:lnTo>
                    <a:lnTo>
                      <a:pt x="539" y="821"/>
                    </a:lnTo>
                    <a:lnTo>
                      <a:pt x="482" y="805"/>
                    </a:lnTo>
                    <a:lnTo>
                      <a:pt x="427" y="788"/>
                    </a:lnTo>
                    <a:lnTo>
                      <a:pt x="376" y="771"/>
                    </a:lnTo>
                    <a:lnTo>
                      <a:pt x="327" y="752"/>
                    </a:lnTo>
                    <a:lnTo>
                      <a:pt x="281" y="733"/>
                    </a:lnTo>
                    <a:lnTo>
                      <a:pt x="239" y="714"/>
                    </a:lnTo>
                    <a:lnTo>
                      <a:pt x="199" y="694"/>
                    </a:lnTo>
                    <a:lnTo>
                      <a:pt x="163" y="673"/>
                    </a:lnTo>
                    <a:lnTo>
                      <a:pt x="130" y="651"/>
                    </a:lnTo>
                    <a:lnTo>
                      <a:pt x="100" y="630"/>
                    </a:lnTo>
                    <a:lnTo>
                      <a:pt x="74" y="607"/>
                    </a:lnTo>
                    <a:lnTo>
                      <a:pt x="52" y="585"/>
                    </a:lnTo>
                    <a:lnTo>
                      <a:pt x="34" y="562"/>
                    </a:lnTo>
                    <a:lnTo>
                      <a:pt x="19" y="537"/>
                    </a:lnTo>
                    <a:lnTo>
                      <a:pt x="9" y="513"/>
                    </a:lnTo>
                    <a:lnTo>
                      <a:pt x="2" y="489"/>
                    </a:lnTo>
                    <a:lnTo>
                      <a:pt x="0" y="465"/>
                    </a:lnTo>
                    <a:lnTo>
                      <a:pt x="2" y="439"/>
                    </a:lnTo>
                    <a:lnTo>
                      <a:pt x="9" y="415"/>
                    </a:lnTo>
                    <a:lnTo>
                      <a:pt x="19" y="391"/>
                    </a:lnTo>
                    <a:lnTo>
                      <a:pt x="34" y="368"/>
                    </a:lnTo>
                    <a:lnTo>
                      <a:pt x="52" y="345"/>
                    </a:lnTo>
                    <a:lnTo>
                      <a:pt x="74" y="322"/>
                    </a:lnTo>
                    <a:lnTo>
                      <a:pt x="100" y="301"/>
                    </a:lnTo>
                    <a:lnTo>
                      <a:pt x="130" y="280"/>
                    </a:lnTo>
                    <a:lnTo>
                      <a:pt x="163" y="259"/>
                    </a:lnTo>
                    <a:lnTo>
                      <a:pt x="199" y="239"/>
                    </a:lnTo>
                    <a:lnTo>
                      <a:pt x="239" y="219"/>
                    </a:lnTo>
                    <a:lnTo>
                      <a:pt x="281" y="200"/>
                    </a:lnTo>
                    <a:lnTo>
                      <a:pt x="327" y="182"/>
                    </a:lnTo>
                    <a:lnTo>
                      <a:pt x="376" y="165"/>
                    </a:lnTo>
                    <a:lnTo>
                      <a:pt x="427" y="149"/>
                    </a:lnTo>
                    <a:lnTo>
                      <a:pt x="482" y="133"/>
                    </a:lnTo>
                    <a:lnTo>
                      <a:pt x="539" y="117"/>
                    </a:lnTo>
                    <a:lnTo>
                      <a:pt x="598" y="103"/>
                    </a:lnTo>
                    <a:lnTo>
                      <a:pt x="661" y="89"/>
                    </a:lnTo>
                    <a:lnTo>
                      <a:pt x="724" y="77"/>
                    </a:lnTo>
                    <a:lnTo>
                      <a:pt x="791" y="65"/>
                    </a:lnTo>
                    <a:lnTo>
                      <a:pt x="861" y="54"/>
                    </a:lnTo>
                    <a:lnTo>
                      <a:pt x="931" y="44"/>
                    </a:lnTo>
                    <a:lnTo>
                      <a:pt x="1004" y="36"/>
                    </a:lnTo>
                    <a:lnTo>
                      <a:pt x="1079" y="28"/>
                    </a:lnTo>
                    <a:lnTo>
                      <a:pt x="1155" y="21"/>
                    </a:lnTo>
                    <a:lnTo>
                      <a:pt x="1232" y="14"/>
                    </a:lnTo>
                    <a:lnTo>
                      <a:pt x="1312" y="9"/>
                    </a:lnTo>
                    <a:lnTo>
                      <a:pt x="1393" y="5"/>
                    </a:lnTo>
                    <a:lnTo>
                      <a:pt x="1476" y="2"/>
                    </a:lnTo>
                    <a:lnTo>
                      <a:pt x="1559" y="0"/>
                    </a:lnTo>
                    <a:lnTo>
                      <a:pt x="1643" y="0"/>
                    </a:lnTo>
                    <a:lnTo>
                      <a:pt x="1728" y="0"/>
                    </a:lnTo>
                    <a:lnTo>
                      <a:pt x="1811" y="2"/>
                    </a:lnTo>
                    <a:lnTo>
                      <a:pt x="1894" y="5"/>
                    </a:lnTo>
                    <a:lnTo>
                      <a:pt x="1975" y="9"/>
                    </a:lnTo>
                    <a:lnTo>
                      <a:pt x="2055" y="14"/>
                    </a:lnTo>
                    <a:lnTo>
                      <a:pt x="2132" y="21"/>
                    </a:lnTo>
                    <a:lnTo>
                      <a:pt x="2208" y="28"/>
                    </a:lnTo>
                    <a:lnTo>
                      <a:pt x="2283" y="36"/>
                    </a:lnTo>
                    <a:lnTo>
                      <a:pt x="2355" y="44"/>
                    </a:lnTo>
                    <a:lnTo>
                      <a:pt x="2427" y="54"/>
                    </a:lnTo>
                    <a:lnTo>
                      <a:pt x="2496" y="65"/>
                    </a:lnTo>
                    <a:lnTo>
                      <a:pt x="2563" y="77"/>
                    </a:lnTo>
                    <a:lnTo>
                      <a:pt x="2626" y="89"/>
                    </a:lnTo>
                    <a:lnTo>
                      <a:pt x="2689" y="103"/>
                    </a:lnTo>
                    <a:lnTo>
                      <a:pt x="2748" y="117"/>
                    </a:lnTo>
                    <a:lnTo>
                      <a:pt x="2805" y="133"/>
                    </a:lnTo>
                    <a:lnTo>
                      <a:pt x="2859" y="149"/>
                    </a:lnTo>
                    <a:lnTo>
                      <a:pt x="2911" y="165"/>
                    </a:lnTo>
                    <a:lnTo>
                      <a:pt x="2960" y="182"/>
                    </a:lnTo>
                    <a:lnTo>
                      <a:pt x="3006" y="200"/>
                    </a:lnTo>
                    <a:lnTo>
                      <a:pt x="3048" y="219"/>
                    </a:lnTo>
                    <a:lnTo>
                      <a:pt x="3089" y="239"/>
                    </a:lnTo>
                    <a:lnTo>
                      <a:pt x="3124" y="259"/>
                    </a:lnTo>
                    <a:lnTo>
                      <a:pt x="3157" y="280"/>
                    </a:lnTo>
                    <a:lnTo>
                      <a:pt x="3187" y="301"/>
                    </a:lnTo>
                    <a:lnTo>
                      <a:pt x="3213" y="322"/>
                    </a:lnTo>
                    <a:lnTo>
                      <a:pt x="3235" y="345"/>
                    </a:lnTo>
                    <a:lnTo>
                      <a:pt x="3253" y="368"/>
                    </a:lnTo>
                    <a:lnTo>
                      <a:pt x="3267" y="391"/>
                    </a:lnTo>
                    <a:lnTo>
                      <a:pt x="3279" y="415"/>
                    </a:lnTo>
                    <a:lnTo>
                      <a:pt x="3285" y="439"/>
                    </a:lnTo>
                    <a:lnTo>
                      <a:pt x="3287" y="4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109600" y="6521400"/>
                <a:ext cx="362160" cy="113040"/>
              </a:xfrm>
              <a:custGeom>
                <a:avLst/>
                <a:gdLst/>
                <a:ahLst/>
                <a:rect l="l" t="t" r="r" b="b"/>
                <a:pathLst>
                  <a:path w="3283" h="944">
                    <a:moveTo>
                      <a:pt x="3283" y="464"/>
                    </a:moveTo>
                    <a:lnTo>
                      <a:pt x="3281" y="488"/>
                    </a:lnTo>
                    <a:lnTo>
                      <a:pt x="3275" y="512"/>
                    </a:lnTo>
                    <a:lnTo>
                      <a:pt x="3264" y="536"/>
                    </a:lnTo>
                    <a:lnTo>
                      <a:pt x="3249" y="561"/>
                    </a:lnTo>
                    <a:lnTo>
                      <a:pt x="3231" y="584"/>
                    </a:lnTo>
                    <a:lnTo>
                      <a:pt x="3209" y="606"/>
                    </a:lnTo>
                    <a:lnTo>
                      <a:pt x="3184" y="628"/>
                    </a:lnTo>
                    <a:lnTo>
                      <a:pt x="3154" y="650"/>
                    </a:lnTo>
                    <a:lnTo>
                      <a:pt x="3121" y="672"/>
                    </a:lnTo>
                    <a:lnTo>
                      <a:pt x="3085" y="693"/>
                    </a:lnTo>
                    <a:lnTo>
                      <a:pt x="3045" y="713"/>
                    </a:lnTo>
                    <a:lnTo>
                      <a:pt x="3003" y="732"/>
                    </a:lnTo>
                    <a:lnTo>
                      <a:pt x="2957" y="751"/>
                    </a:lnTo>
                    <a:lnTo>
                      <a:pt x="2908" y="770"/>
                    </a:lnTo>
                    <a:lnTo>
                      <a:pt x="2856" y="787"/>
                    </a:lnTo>
                    <a:lnTo>
                      <a:pt x="2802" y="803"/>
                    </a:lnTo>
                    <a:lnTo>
                      <a:pt x="2745" y="819"/>
                    </a:lnTo>
                    <a:lnTo>
                      <a:pt x="2686" y="834"/>
                    </a:lnTo>
                    <a:lnTo>
                      <a:pt x="2624" y="848"/>
                    </a:lnTo>
                    <a:lnTo>
                      <a:pt x="2559" y="862"/>
                    </a:lnTo>
                    <a:lnTo>
                      <a:pt x="2493" y="874"/>
                    </a:lnTo>
                    <a:lnTo>
                      <a:pt x="2424" y="886"/>
                    </a:lnTo>
                    <a:lnTo>
                      <a:pt x="2353" y="897"/>
                    </a:lnTo>
                    <a:lnTo>
                      <a:pt x="2281" y="906"/>
                    </a:lnTo>
                    <a:lnTo>
                      <a:pt x="2206" y="915"/>
                    </a:lnTo>
                    <a:lnTo>
                      <a:pt x="2129" y="922"/>
                    </a:lnTo>
                    <a:lnTo>
                      <a:pt x="2051" y="929"/>
                    </a:lnTo>
                    <a:lnTo>
                      <a:pt x="1973" y="934"/>
                    </a:lnTo>
                    <a:lnTo>
                      <a:pt x="1892" y="938"/>
                    </a:lnTo>
                    <a:lnTo>
                      <a:pt x="1809" y="941"/>
                    </a:lnTo>
                    <a:lnTo>
                      <a:pt x="1726" y="943"/>
                    </a:lnTo>
                    <a:lnTo>
                      <a:pt x="1641" y="944"/>
                    </a:lnTo>
                    <a:lnTo>
                      <a:pt x="1557" y="943"/>
                    </a:lnTo>
                    <a:lnTo>
                      <a:pt x="1474" y="941"/>
                    </a:lnTo>
                    <a:lnTo>
                      <a:pt x="1392" y="938"/>
                    </a:lnTo>
                    <a:lnTo>
                      <a:pt x="1310" y="934"/>
                    </a:lnTo>
                    <a:lnTo>
                      <a:pt x="1231" y="929"/>
                    </a:lnTo>
                    <a:lnTo>
                      <a:pt x="1154" y="922"/>
                    </a:lnTo>
                    <a:lnTo>
                      <a:pt x="1077" y="915"/>
                    </a:lnTo>
                    <a:lnTo>
                      <a:pt x="1002" y="906"/>
                    </a:lnTo>
                    <a:lnTo>
                      <a:pt x="929" y="897"/>
                    </a:lnTo>
                    <a:lnTo>
                      <a:pt x="859" y="886"/>
                    </a:lnTo>
                    <a:lnTo>
                      <a:pt x="790" y="874"/>
                    </a:lnTo>
                    <a:lnTo>
                      <a:pt x="723" y="862"/>
                    </a:lnTo>
                    <a:lnTo>
                      <a:pt x="660" y="848"/>
                    </a:lnTo>
                    <a:lnTo>
                      <a:pt x="597" y="834"/>
                    </a:lnTo>
                    <a:lnTo>
                      <a:pt x="538" y="819"/>
                    </a:lnTo>
                    <a:lnTo>
                      <a:pt x="481" y="803"/>
                    </a:lnTo>
                    <a:lnTo>
                      <a:pt x="427" y="787"/>
                    </a:lnTo>
                    <a:lnTo>
                      <a:pt x="375" y="770"/>
                    </a:lnTo>
                    <a:lnTo>
                      <a:pt x="327" y="751"/>
                    </a:lnTo>
                    <a:lnTo>
                      <a:pt x="280" y="732"/>
                    </a:lnTo>
                    <a:lnTo>
                      <a:pt x="238" y="713"/>
                    </a:lnTo>
                    <a:lnTo>
                      <a:pt x="198" y="693"/>
                    </a:lnTo>
                    <a:lnTo>
                      <a:pt x="162" y="672"/>
                    </a:lnTo>
                    <a:lnTo>
                      <a:pt x="129" y="650"/>
                    </a:lnTo>
                    <a:lnTo>
                      <a:pt x="99" y="628"/>
                    </a:lnTo>
                    <a:lnTo>
                      <a:pt x="74" y="606"/>
                    </a:lnTo>
                    <a:lnTo>
                      <a:pt x="52" y="584"/>
                    </a:lnTo>
                    <a:lnTo>
                      <a:pt x="34" y="561"/>
                    </a:lnTo>
                    <a:lnTo>
                      <a:pt x="18" y="536"/>
                    </a:lnTo>
                    <a:lnTo>
                      <a:pt x="8" y="512"/>
                    </a:lnTo>
                    <a:lnTo>
                      <a:pt x="2" y="488"/>
                    </a:lnTo>
                    <a:lnTo>
                      <a:pt x="0" y="464"/>
                    </a:lnTo>
                    <a:lnTo>
                      <a:pt x="2" y="438"/>
                    </a:lnTo>
                    <a:lnTo>
                      <a:pt x="8" y="414"/>
                    </a:lnTo>
                    <a:lnTo>
                      <a:pt x="18" y="390"/>
                    </a:lnTo>
                    <a:lnTo>
                      <a:pt x="34" y="367"/>
                    </a:lnTo>
                    <a:lnTo>
                      <a:pt x="52" y="345"/>
                    </a:lnTo>
                    <a:lnTo>
                      <a:pt x="74" y="322"/>
                    </a:lnTo>
                    <a:lnTo>
                      <a:pt x="99" y="300"/>
                    </a:lnTo>
                    <a:lnTo>
                      <a:pt x="129" y="279"/>
                    </a:lnTo>
                    <a:lnTo>
                      <a:pt x="162" y="258"/>
                    </a:lnTo>
                    <a:lnTo>
                      <a:pt x="198" y="239"/>
                    </a:lnTo>
                    <a:lnTo>
                      <a:pt x="238" y="218"/>
                    </a:lnTo>
                    <a:lnTo>
                      <a:pt x="280" y="200"/>
                    </a:lnTo>
                    <a:lnTo>
                      <a:pt x="327" y="182"/>
                    </a:lnTo>
                    <a:lnTo>
                      <a:pt x="375" y="165"/>
                    </a:lnTo>
                    <a:lnTo>
                      <a:pt x="427" y="148"/>
                    </a:lnTo>
                    <a:lnTo>
                      <a:pt x="481" y="132"/>
                    </a:lnTo>
                    <a:lnTo>
                      <a:pt x="538" y="117"/>
                    </a:lnTo>
                    <a:lnTo>
                      <a:pt x="597" y="102"/>
                    </a:lnTo>
                    <a:lnTo>
                      <a:pt x="660" y="89"/>
                    </a:lnTo>
                    <a:lnTo>
                      <a:pt x="723" y="77"/>
                    </a:lnTo>
                    <a:lnTo>
                      <a:pt x="790" y="65"/>
                    </a:lnTo>
                    <a:lnTo>
                      <a:pt x="859" y="54"/>
                    </a:lnTo>
                    <a:lnTo>
                      <a:pt x="929" y="44"/>
                    </a:lnTo>
                    <a:lnTo>
                      <a:pt x="1002" y="35"/>
                    </a:lnTo>
                    <a:lnTo>
                      <a:pt x="1077" y="27"/>
                    </a:lnTo>
                    <a:lnTo>
                      <a:pt x="1154" y="21"/>
                    </a:lnTo>
                    <a:lnTo>
                      <a:pt x="1231" y="14"/>
                    </a:lnTo>
                    <a:lnTo>
                      <a:pt x="1310" y="9"/>
                    </a:lnTo>
                    <a:lnTo>
                      <a:pt x="1392" y="5"/>
                    </a:lnTo>
                    <a:lnTo>
                      <a:pt x="1474" y="2"/>
                    </a:lnTo>
                    <a:lnTo>
                      <a:pt x="1557" y="0"/>
                    </a:lnTo>
                    <a:lnTo>
                      <a:pt x="1641" y="0"/>
                    </a:lnTo>
                    <a:lnTo>
                      <a:pt x="1726" y="0"/>
                    </a:lnTo>
                    <a:lnTo>
                      <a:pt x="1809" y="2"/>
                    </a:lnTo>
                    <a:lnTo>
                      <a:pt x="1892" y="5"/>
                    </a:lnTo>
                    <a:lnTo>
                      <a:pt x="1973" y="9"/>
                    </a:lnTo>
                    <a:lnTo>
                      <a:pt x="2051" y="14"/>
                    </a:lnTo>
                    <a:lnTo>
                      <a:pt x="2129" y="21"/>
                    </a:lnTo>
                    <a:lnTo>
                      <a:pt x="2206" y="27"/>
                    </a:lnTo>
                    <a:lnTo>
                      <a:pt x="2281" y="35"/>
                    </a:lnTo>
                    <a:lnTo>
                      <a:pt x="2353" y="44"/>
                    </a:lnTo>
                    <a:lnTo>
                      <a:pt x="2424" y="54"/>
                    </a:lnTo>
                    <a:lnTo>
                      <a:pt x="2493" y="65"/>
                    </a:lnTo>
                    <a:lnTo>
                      <a:pt x="2559" y="77"/>
                    </a:lnTo>
                    <a:lnTo>
                      <a:pt x="2624" y="89"/>
                    </a:lnTo>
                    <a:lnTo>
                      <a:pt x="2686" y="102"/>
                    </a:lnTo>
                    <a:lnTo>
                      <a:pt x="2745" y="117"/>
                    </a:lnTo>
                    <a:lnTo>
                      <a:pt x="2802" y="132"/>
                    </a:lnTo>
                    <a:lnTo>
                      <a:pt x="2856" y="148"/>
                    </a:lnTo>
                    <a:lnTo>
                      <a:pt x="2908" y="165"/>
                    </a:lnTo>
                    <a:lnTo>
                      <a:pt x="2957" y="182"/>
                    </a:lnTo>
                    <a:lnTo>
                      <a:pt x="3003" y="200"/>
                    </a:lnTo>
                    <a:lnTo>
                      <a:pt x="3045" y="218"/>
                    </a:lnTo>
                    <a:lnTo>
                      <a:pt x="3085" y="239"/>
                    </a:lnTo>
                    <a:lnTo>
                      <a:pt x="3121" y="258"/>
                    </a:lnTo>
                    <a:lnTo>
                      <a:pt x="3154" y="279"/>
                    </a:lnTo>
                    <a:lnTo>
                      <a:pt x="3184" y="300"/>
                    </a:lnTo>
                    <a:lnTo>
                      <a:pt x="3209" y="322"/>
                    </a:lnTo>
                    <a:lnTo>
                      <a:pt x="3231" y="345"/>
                    </a:lnTo>
                    <a:lnTo>
                      <a:pt x="3249" y="367"/>
                    </a:lnTo>
                    <a:lnTo>
                      <a:pt x="3264" y="390"/>
                    </a:lnTo>
                    <a:lnTo>
                      <a:pt x="3275" y="414"/>
                    </a:lnTo>
                    <a:lnTo>
                      <a:pt x="3281" y="438"/>
                    </a:lnTo>
                    <a:lnTo>
                      <a:pt x="3283" y="4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109600" y="6521400"/>
                <a:ext cx="362160" cy="113040"/>
              </a:xfrm>
              <a:custGeom>
                <a:avLst/>
                <a:gdLst/>
                <a:ahLst/>
                <a:rect l="l" t="t" r="r" b="b"/>
                <a:pathLst>
                  <a:path w="3281" h="942">
                    <a:moveTo>
                      <a:pt x="3281" y="463"/>
                    </a:moveTo>
                    <a:lnTo>
                      <a:pt x="3279" y="487"/>
                    </a:lnTo>
                    <a:lnTo>
                      <a:pt x="3273" y="511"/>
                    </a:lnTo>
                    <a:lnTo>
                      <a:pt x="3261" y="535"/>
                    </a:lnTo>
                    <a:lnTo>
                      <a:pt x="3247" y="559"/>
                    </a:lnTo>
                    <a:lnTo>
                      <a:pt x="3229" y="582"/>
                    </a:lnTo>
                    <a:lnTo>
                      <a:pt x="3207" y="605"/>
                    </a:lnTo>
                    <a:lnTo>
                      <a:pt x="3182" y="627"/>
                    </a:lnTo>
                    <a:lnTo>
                      <a:pt x="3151" y="649"/>
                    </a:lnTo>
                    <a:lnTo>
                      <a:pt x="3119" y="671"/>
                    </a:lnTo>
                    <a:lnTo>
                      <a:pt x="3083" y="691"/>
                    </a:lnTo>
                    <a:lnTo>
                      <a:pt x="3043" y="711"/>
                    </a:lnTo>
                    <a:lnTo>
                      <a:pt x="3001" y="730"/>
                    </a:lnTo>
                    <a:lnTo>
                      <a:pt x="2954" y="749"/>
                    </a:lnTo>
                    <a:lnTo>
                      <a:pt x="2906" y="768"/>
                    </a:lnTo>
                    <a:lnTo>
                      <a:pt x="2854" y="785"/>
                    </a:lnTo>
                    <a:lnTo>
                      <a:pt x="2800" y="802"/>
                    </a:lnTo>
                    <a:lnTo>
                      <a:pt x="2743" y="817"/>
                    </a:lnTo>
                    <a:lnTo>
                      <a:pt x="2684" y="832"/>
                    </a:lnTo>
                    <a:lnTo>
                      <a:pt x="2622" y="847"/>
                    </a:lnTo>
                    <a:lnTo>
                      <a:pt x="2557" y="860"/>
                    </a:lnTo>
                    <a:lnTo>
                      <a:pt x="2491" y="872"/>
                    </a:lnTo>
                    <a:lnTo>
                      <a:pt x="2422" y="885"/>
                    </a:lnTo>
                    <a:lnTo>
                      <a:pt x="2351" y="895"/>
                    </a:lnTo>
                    <a:lnTo>
                      <a:pt x="2279" y="905"/>
                    </a:lnTo>
                    <a:lnTo>
                      <a:pt x="2204" y="913"/>
                    </a:lnTo>
                    <a:lnTo>
                      <a:pt x="2128" y="921"/>
                    </a:lnTo>
                    <a:lnTo>
                      <a:pt x="2050" y="927"/>
                    </a:lnTo>
                    <a:lnTo>
                      <a:pt x="1971" y="932"/>
                    </a:lnTo>
                    <a:lnTo>
                      <a:pt x="1890" y="936"/>
                    </a:lnTo>
                    <a:lnTo>
                      <a:pt x="1808" y="939"/>
                    </a:lnTo>
                    <a:lnTo>
                      <a:pt x="1725" y="941"/>
                    </a:lnTo>
                    <a:lnTo>
                      <a:pt x="1640" y="942"/>
                    </a:lnTo>
                    <a:lnTo>
                      <a:pt x="1556" y="941"/>
                    </a:lnTo>
                    <a:lnTo>
                      <a:pt x="1473" y="939"/>
                    </a:lnTo>
                    <a:lnTo>
                      <a:pt x="1391" y="936"/>
                    </a:lnTo>
                    <a:lnTo>
                      <a:pt x="1310" y="932"/>
                    </a:lnTo>
                    <a:lnTo>
                      <a:pt x="1230" y="927"/>
                    </a:lnTo>
                    <a:lnTo>
                      <a:pt x="1153" y="921"/>
                    </a:lnTo>
                    <a:lnTo>
                      <a:pt x="1077" y="913"/>
                    </a:lnTo>
                    <a:lnTo>
                      <a:pt x="1002" y="905"/>
                    </a:lnTo>
                    <a:lnTo>
                      <a:pt x="929" y="895"/>
                    </a:lnTo>
                    <a:lnTo>
                      <a:pt x="859" y="885"/>
                    </a:lnTo>
                    <a:lnTo>
                      <a:pt x="790" y="872"/>
                    </a:lnTo>
                    <a:lnTo>
                      <a:pt x="723" y="860"/>
                    </a:lnTo>
                    <a:lnTo>
                      <a:pt x="659" y="847"/>
                    </a:lnTo>
                    <a:lnTo>
                      <a:pt x="597" y="832"/>
                    </a:lnTo>
                    <a:lnTo>
                      <a:pt x="538" y="817"/>
                    </a:lnTo>
                    <a:lnTo>
                      <a:pt x="481" y="802"/>
                    </a:lnTo>
                    <a:lnTo>
                      <a:pt x="427" y="785"/>
                    </a:lnTo>
                    <a:lnTo>
                      <a:pt x="375" y="768"/>
                    </a:lnTo>
                    <a:lnTo>
                      <a:pt x="327" y="749"/>
                    </a:lnTo>
                    <a:lnTo>
                      <a:pt x="280" y="730"/>
                    </a:lnTo>
                    <a:lnTo>
                      <a:pt x="238" y="711"/>
                    </a:lnTo>
                    <a:lnTo>
                      <a:pt x="198" y="691"/>
                    </a:lnTo>
                    <a:lnTo>
                      <a:pt x="162" y="671"/>
                    </a:lnTo>
                    <a:lnTo>
                      <a:pt x="130" y="649"/>
                    </a:lnTo>
                    <a:lnTo>
                      <a:pt x="100" y="627"/>
                    </a:lnTo>
                    <a:lnTo>
                      <a:pt x="74" y="605"/>
                    </a:lnTo>
                    <a:lnTo>
                      <a:pt x="52" y="582"/>
                    </a:lnTo>
                    <a:lnTo>
                      <a:pt x="34" y="559"/>
                    </a:lnTo>
                    <a:lnTo>
                      <a:pt x="20" y="535"/>
                    </a:lnTo>
                    <a:lnTo>
                      <a:pt x="8" y="511"/>
                    </a:lnTo>
                    <a:lnTo>
                      <a:pt x="2" y="487"/>
                    </a:lnTo>
                    <a:lnTo>
                      <a:pt x="0" y="463"/>
                    </a:lnTo>
                    <a:lnTo>
                      <a:pt x="2" y="437"/>
                    </a:lnTo>
                    <a:lnTo>
                      <a:pt x="8" y="413"/>
                    </a:lnTo>
                    <a:lnTo>
                      <a:pt x="20" y="390"/>
                    </a:lnTo>
                    <a:lnTo>
                      <a:pt x="34" y="367"/>
                    </a:lnTo>
                    <a:lnTo>
                      <a:pt x="52" y="344"/>
                    </a:lnTo>
                    <a:lnTo>
                      <a:pt x="74" y="321"/>
                    </a:lnTo>
                    <a:lnTo>
                      <a:pt x="100" y="299"/>
                    </a:lnTo>
                    <a:lnTo>
                      <a:pt x="130" y="278"/>
                    </a:lnTo>
                    <a:lnTo>
                      <a:pt x="162" y="258"/>
                    </a:lnTo>
                    <a:lnTo>
                      <a:pt x="198" y="238"/>
                    </a:lnTo>
                    <a:lnTo>
                      <a:pt x="238" y="218"/>
                    </a:lnTo>
                    <a:lnTo>
                      <a:pt x="280" y="199"/>
                    </a:lnTo>
                    <a:lnTo>
                      <a:pt x="327" y="181"/>
                    </a:lnTo>
                    <a:lnTo>
                      <a:pt x="375" y="164"/>
                    </a:lnTo>
                    <a:lnTo>
                      <a:pt x="427" y="148"/>
                    </a:lnTo>
                    <a:lnTo>
                      <a:pt x="481" y="132"/>
                    </a:lnTo>
                    <a:lnTo>
                      <a:pt x="538" y="116"/>
                    </a:lnTo>
                    <a:lnTo>
                      <a:pt x="597" y="102"/>
                    </a:lnTo>
                    <a:lnTo>
                      <a:pt x="659" y="89"/>
                    </a:lnTo>
                    <a:lnTo>
                      <a:pt x="723" y="76"/>
                    </a:lnTo>
                    <a:lnTo>
                      <a:pt x="790" y="65"/>
                    </a:lnTo>
                    <a:lnTo>
                      <a:pt x="859" y="54"/>
                    </a:lnTo>
                    <a:lnTo>
                      <a:pt x="929" y="44"/>
                    </a:lnTo>
                    <a:lnTo>
                      <a:pt x="1002" y="35"/>
                    </a:lnTo>
                    <a:lnTo>
                      <a:pt x="1077" y="27"/>
                    </a:lnTo>
                    <a:lnTo>
                      <a:pt x="1153" y="20"/>
                    </a:lnTo>
                    <a:lnTo>
                      <a:pt x="1230" y="13"/>
                    </a:lnTo>
                    <a:lnTo>
                      <a:pt x="1310" y="9"/>
                    </a:lnTo>
                    <a:lnTo>
                      <a:pt x="1391" y="5"/>
                    </a:lnTo>
                    <a:lnTo>
                      <a:pt x="1473" y="2"/>
                    </a:lnTo>
                    <a:lnTo>
                      <a:pt x="1556" y="0"/>
                    </a:lnTo>
                    <a:lnTo>
                      <a:pt x="1640" y="0"/>
                    </a:lnTo>
                    <a:lnTo>
                      <a:pt x="1725" y="0"/>
                    </a:lnTo>
                    <a:lnTo>
                      <a:pt x="1808" y="2"/>
                    </a:lnTo>
                    <a:lnTo>
                      <a:pt x="1890" y="5"/>
                    </a:lnTo>
                    <a:lnTo>
                      <a:pt x="1971" y="9"/>
                    </a:lnTo>
                    <a:lnTo>
                      <a:pt x="2050" y="13"/>
                    </a:lnTo>
                    <a:lnTo>
                      <a:pt x="2128" y="20"/>
                    </a:lnTo>
                    <a:lnTo>
                      <a:pt x="2204" y="27"/>
                    </a:lnTo>
                    <a:lnTo>
                      <a:pt x="2279" y="35"/>
                    </a:lnTo>
                    <a:lnTo>
                      <a:pt x="2351" y="44"/>
                    </a:lnTo>
                    <a:lnTo>
                      <a:pt x="2422" y="54"/>
                    </a:lnTo>
                    <a:lnTo>
                      <a:pt x="2491" y="65"/>
                    </a:lnTo>
                    <a:lnTo>
                      <a:pt x="2557" y="76"/>
                    </a:lnTo>
                    <a:lnTo>
                      <a:pt x="2622" y="89"/>
                    </a:lnTo>
                    <a:lnTo>
                      <a:pt x="2684" y="102"/>
                    </a:lnTo>
                    <a:lnTo>
                      <a:pt x="2743" y="116"/>
                    </a:lnTo>
                    <a:lnTo>
                      <a:pt x="2800" y="132"/>
                    </a:lnTo>
                    <a:lnTo>
                      <a:pt x="2854" y="148"/>
                    </a:lnTo>
                    <a:lnTo>
                      <a:pt x="2906" y="164"/>
                    </a:lnTo>
                    <a:lnTo>
                      <a:pt x="2954" y="181"/>
                    </a:lnTo>
                    <a:lnTo>
                      <a:pt x="3001" y="199"/>
                    </a:lnTo>
                    <a:lnTo>
                      <a:pt x="3043" y="218"/>
                    </a:lnTo>
                    <a:lnTo>
                      <a:pt x="3083" y="238"/>
                    </a:lnTo>
                    <a:lnTo>
                      <a:pt x="3119" y="258"/>
                    </a:lnTo>
                    <a:lnTo>
                      <a:pt x="3151" y="278"/>
                    </a:lnTo>
                    <a:lnTo>
                      <a:pt x="3182" y="299"/>
                    </a:lnTo>
                    <a:lnTo>
                      <a:pt x="3207" y="321"/>
                    </a:lnTo>
                    <a:lnTo>
                      <a:pt x="3229" y="344"/>
                    </a:lnTo>
                    <a:lnTo>
                      <a:pt x="3247" y="367"/>
                    </a:lnTo>
                    <a:lnTo>
                      <a:pt x="3261" y="390"/>
                    </a:lnTo>
                    <a:lnTo>
                      <a:pt x="3273" y="413"/>
                    </a:lnTo>
                    <a:lnTo>
                      <a:pt x="3279" y="437"/>
                    </a:lnTo>
                    <a:lnTo>
                      <a:pt x="3281" y="4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09600" y="6521400"/>
                <a:ext cx="362160" cy="113040"/>
              </a:xfrm>
              <a:custGeom>
                <a:avLst/>
                <a:gdLst/>
                <a:ahLst/>
                <a:rect l="l" t="t" r="r" b="b"/>
                <a:pathLst>
                  <a:path w="3278" h="940">
                    <a:moveTo>
                      <a:pt x="3278" y="462"/>
                    </a:moveTo>
                    <a:lnTo>
                      <a:pt x="3276" y="486"/>
                    </a:lnTo>
                    <a:lnTo>
                      <a:pt x="3268" y="510"/>
                    </a:lnTo>
                    <a:lnTo>
                      <a:pt x="3258" y="534"/>
                    </a:lnTo>
                    <a:lnTo>
                      <a:pt x="3244" y="558"/>
                    </a:lnTo>
                    <a:lnTo>
                      <a:pt x="3226" y="581"/>
                    </a:lnTo>
                    <a:lnTo>
                      <a:pt x="3204" y="604"/>
                    </a:lnTo>
                    <a:lnTo>
                      <a:pt x="3178" y="626"/>
                    </a:lnTo>
                    <a:lnTo>
                      <a:pt x="3148" y="647"/>
                    </a:lnTo>
                    <a:lnTo>
                      <a:pt x="3116" y="669"/>
                    </a:lnTo>
                    <a:lnTo>
                      <a:pt x="3080" y="690"/>
                    </a:lnTo>
                    <a:lnTo>
                      <a:pt x="3040" y="710"/>
                    </a:lnTo>
                    <a:lnTo>
                      <a:pt x="2998" y="729"/>
                    </a:lnTo>
                    <a:lnTo>
                      <a:pt x="2951" y="747"/>
                    </a:lnTo>
                    <a:lnTo>
                      <a:pt x="2903" y="765"/>
                    </a:lnTo>
                    <a:lnTo>
                      <a:pt x="2851" y="784"/>
                    </a:lnTo>
                    <a:lnTo>
                      <a:pt x="2797" y="800"/>
                    </a:lnTo>
                    <a:lnTo>
                      <a:pt x="2740" y="816"/>
                    </a:lnTo>
                    <a:lnTo>
                      <a:pt x="2681" y="831"/>
                    </a:lnTo>
                    <a:lnTo>
                      <a:pt x="2619" y="845"/>
                    </a:lnTo>
                    <a:lnTo>
                      <a:pt x="2554" y="858"/>
                    </a:lnTo>
                    <a:lnTo>
                      <a:pt x="2488" y="870"/>
                    </a:lnTo>
                    <a:lnTo>
                      <a:pt x="2419" y="883"/>
                    </a:lnTo>
                    <a:lnTo>
                      <a:pt x="2348" y="893"/>
                    </a:lnTo>
                    <a:lnTo>
                      <a:pt x="2277" y="903"/>
                    </a:lnTo>
                    <a:lnTo>
                      <a:pt x="2202" y="911"/>
                    </a:lnTo>
                    <a:lnTo>
                      <a:pt x="2126" y="919"/>
                    </a:lnTo>
                    <a:lnTo>
                      <a:pt x="2048" y="925"/>
                    </a:lnTo>
                    <a:lnTo>
                      <a:pt x="1969" y="930"/>
                    </a:lnTo>
                    <a:lnTo>
                      <a:pt x="1888" y="935"/>
                    </a:lnTo>
                    <a:lnTo>
                      <a:pt x="1806" y="938"/>
                    </a:lnTo>
                    <a:lnTo>
                      <a:pt x="1723" y="939"/>
                    </a:lnTo>
                    <a:lnTo>
                      <a:pt x="1638" y="940"/>
                    </a:lnTo>
                    <a:lnTo>
                      <a:pt x="1555" y="939"/>
                    </a:lnTo>
                    <a:lnTo>
                      <a:pt x="1471" y="938"/>
                    </a:lnTo>
                    <a:lnTo>
                      <a:pt x="1389" y="935"/>
                    </a:lnTo>
                    <a:lnTo>
                      <a:pt x="1308" y="930"/>
                    </a:lnTo>
                    <a:lnTo>
                      <a:pt x="1229" y="925"/>
                    </a:lnTo>
                    <a:lnTo>
                      <a:pt x="1152" y="919"/>
                    </a:lnTo>
                    <a:lnTo>
                      <a:pt x="1075" y="911"/>
                    </a:lnTo>
                    <a:lnTo>
                      <a:pt x="1000" y="903"/>
                    </a:lnTo>
                    <a:lnTo>
                      <a:pt x="928" y="893"/>
                    </a:lnTo>
                    <a:lnTo>
                      <a:pt x="858" y="883"/>
                    </a:lnTo>
                    <a:lnTo>
                      <a:pt x="789" y="870"/>
                    </a:lnTo>
                    <a:lnTo>
                      <a:pt x="722" y="858"/>
                    </a:lnTo>
                    <a:lnTo>
                      <a:pt x="658" y="845"/>
                    </a:lnTo>
                    <a:lnTo>
                      <a:pt x="596" y="831"/>
                    </a:lnTo>
                    <a:lnTo>
                      <a:pt x="537" y="816"/>
                    </a:lnTo>
                    <a:lnTo>
                      <a:pt x="480" y="800"/>
                    </a:lnTo>
                    <a:lnTo>
                      <a:pt x="426" y="784"/>
                    </a:lnTo>
                    <a:lnTo>
                      <a:pt x="374" y="765"/>
                    </a:lnTo>
                    <a:lnTo>
                      <a:pt x="326" y="747"/>
                    </a:lnTo>
                    <a:lnTo>
                      <a:pt x="280" y="729"/>
                    </a:lnTo>
                    <a:lnTo>
                      <a:pt x="237" y="710"/>
                    </a:lnTo>
                    <a:lnTo>
                      <a:pt x="197" y="690"/>
                    </a:lnTo>
                    <a:lnTo>
                      <a:pt x="161" y="669"/>
                    </a:lnTo>
                    <a:lnTo>
                      <a:pt x="129" y="647"/>
                    </a:lnTo>
                    <a:lnTo>
                      <a:pt x="99" y="626"/>
                    </a:lnTo>
                    <a:lnTo>
                      <a:pt x="73" y="604"/>
                    </a:lnTo>
                    <a:lnTo>
                      <a:pt x="52" y="581"/>
                    </a:lnTo>
                    <a:lnTo>
                      <a:pt x="33" y="558"/>
                    </a:lnTo>
                    <a:lnTo>
                      <a:pt x="19" y="534"/>
                    </a:lnTo>
                    <a:lnTo>
                      <a:pt x="8" y="510"/>
                    </a:lnTo>
                    <a:lnTo>
                      <a:pt x="2" y="486"/>
                    </a:lnTo>
                    <a:lnTo>
                      <a:pt x="0" y="462"/>
                    </a:lnTo>
                    <a:lnTo>
                      <a:pt x="2" y="436"/>
                    </a:lnTo>
                    <a:lnTo>
                      <a:pt x="8" y="412"/>
                    </a:lnTo>
                    <a:lnTo>
                      <a:pt x="19" y="389"/>
                    </a:lnTo>
                    <a:lnTo>
                      <a:pt x="33" y="366"/>
                    </a:lnTo>
                    <a:lnTo>
                      <a:pt x="52" y="343"/>
                    </a:lnTo>
                    <a:lnTo>
                      <a:pt x="73" y="320"/>
                    </a:lnTo>
                    <a:lnTo>
                      <a:pt x="99" y="299"/>
                    </a:lnTo>
                    <a:lnTo>
                      <a:pt x="129" y="278"/>
                    </a:lnTo>
                    <a:lnTo>
                      <a:pt x="161" y="257"/>
                    </a:lnTo>
                    <a:lnTo>
                      <a:pt x="197" y="237"/>
                    </a:lnTo>
                    <a:lnTo>
                      <a:pt x="237" y="217"/>
                    </a:lnTo>
                    <a:lnTo>
                      <a:pt x="280" y="199"/>
                    </a:lnTo>
                    <a:lnTo>
                      <a:pt x="326" y="181"/>
                    </a:lnTo>
                    <a:lnTo>
                      <a:pt x="374" y="164"/>
                    </a:lnTo>
                    <a:lnTo>
                      <a:pt x="426" y="147"/>
                    </a:lnTo>
                    <a:lnTo>
                      <a:pt x="480" y="132"/>
                    </a:lnTo>
                    <a:lnTo>
                      <a:pt x="537" y="116"/>
                    </a:lnTo>
                    <a:lnTo>
                      <a:pt x="596" y="102"/>
                    </a:lnTo>
                    <a:lnTo>
                      <a:pt x="658" y="89"/>
                    </a:lnTo>
                    <a:lnTo>
                      <a:pt x="722" y="76"/>
                    </a:lnTo>
                    <a:lnTo>
                      <a:pt x="789" y="64"/>
                    </a:lnTo>
                    <a:lnTo>
                      <a:pt x="858" y="54"/>
                    </a:lnTo>
                    <a:lnTo>
                      <a:pt x="928" y="44"/>
                    </a:lnTo>
                    <a:lnTo>
                      <a:pt x="1000" y="35"/>
                    </a:lnTo>
                    <a:lnTo>
                      <a:pt x="1075" y="27"/>
                    </a:lnTo>
                    <a:lnTo>
                      <a:pt x="1152" y="20"/>
                    </a:lnTo>
                    <a:lnTo>
                      <a:pt x="1229" y="13"/>
                    </a:lnTo>
                    <a:lnTo>
                      <a:pt x="1308" y="8"/>
                    </a:lnTo>
                    <a:lnTo>
                      <a:pt x="1389" y="5"/>
                    </a:lnTo>
                    <a:lnTo>
                      <a:pt x="1471" y="2"/>
                    </a:lnTo>
                    <a:lnTo>
                      <a:pt x="1555" y="0"/>
                    </a:lnTo>
                    <a:lnTo>
                      <a:pt x="1638" y="0"/>
                    </a:lnTo>
                    <a:lnTo>
                      <a:pt x="1723" y="0"/>
                    </a:lnTo>
                    <a:lnTo>
                      <a:pt x="1806" y="2"/>
                    </a:lnTo>
                    <a:lnTo>
                      <a:pt x="1888" y="5"/>
                    </a:lnTo>
                    <a:lnTo>
                      <a:pt x="1969" y="8"/>
                    </a:lnTo>
                    <a:lnTo>
                      <a:pt x="2048" y="13"/>
                    </a:lnTo>
                    <a:lnTo>
                      <a:pt x="2126" y="20"/>
                    </a:lnTo>
                    <a:lnTo>
                      <a:pt x="2202" y="27"/>
                    </a:lnTo>
                    <a:lnTo>
                      <a:pt x="2277" y="35"/>
                    </a:lnTo>
                    <a:lnTo>
                      <a:pt x="2348" y="44"/>
                    </a:lnTo>
                    <a:lnTo>
                      <a:pt x="2419" y="54"/>
                    </a:lnTo>
                    <a:lnTo>
                      <a:pt x="2488" y="64"/>
                    </a:lnTo>
                    <a:lnTo>
                      <a:pt x="2554" y="76"/>
                    </a:lnTo>
                    <a:lnTo>
                      <a:pt x="2619" y="89"/>
                    </a:lnTo>
                    <a:lnTo>
                      <a:pt x="2681" y="102"/>
                    </a:lnTo>
                    <a:lnTo>
                      <a:pt x="2740" y="116"/>
                    </a:lnTo>
                    <a:lnTo>
                      <a:pt x="2797" y="132"/>
                    </a:lnTo>
                    <a:lnTo>
                      <a:pt x="2851" y="147"/>
                    </a:lnTo>
                    <a:lnTo>
                      <a:pt x="2903" y="164"/>
                    </a:lnTo>
                    <a:lnTo>
                      <a:pt x="2951" y="181"/>
                    </a:lnTo>
                    <a:lnTo>
                      <a:pt x="2998" y="199"/>
                    </a:lnTo>
                    <a:lnTo>
                      <a:pt x="3040" y="217"/>
                    </a:lnTo>
                    <a:lnTo>
                      <a:pt x="3080" y="237"/>
                    </a:lnTo>
                    <a:lnTo>
                      <a:pt x="3116" y="257"/>
                    </a:lnTo>
                    <a:lnTo>
                      <a:pt x="3148" y="278"/>
                    </a:lnTo>
                    <a:lnTo>
                      <a:pt x="3178" y="299"/>
                    </a:lnTo>
                    <a:lnTo>
                      <a:pt x="3204" y="320"/>
                    </a:lnTo>
                    <a:lnTo>
                      <a:pt x="3226" y="343"/>
                    </a:lnTo>
                    <a:lnTo>
                      <a:pt x="3244" y="366"/>
                    </a:lnTo>
                    <a:lnTo>
                      <a:pt x="3258" y="389"/>
                    </a:lnTo>
                    <a:lnTo>
                      <a:pt x="3268" y="412"/>
                    </a:lnTo>
                    <a:lnTo>
                      <a:pt x="3276" y="436"/>
                    </a:lnTo>
                    <a:lnTo>
                      <a:pt x="3278" y="4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109600" y="6521400"/>
                <a:ext cx="362160" cy="111600"/>
              </a:xfrm>
              <a:custGeom>
                <a:avLst/>
                <a:gdLst/>
                <a:ahLst/>
                <a:rect l="l" t="t" r="r" b="b"/>
                <a:pathLst>
                  <a:path w="3275" h="938">
                    <a:moveTo>
                      <a:pt x="3275" y="461"/>
                    </a:moveTo>
                    <a:lnTo>
                      <a:pt x="3273" y="485"/>
                    </a:lnTo>
                    <a:lnTo>
                      <a:pt x="3266" y="509"/>
                    </a:lnTo>
                    <a:lnTo>
                      <a:pt x="3256" y="533"/>
                    </a:lnTo>
                    <a:lnTo>
                      <a:pt x="3241" y="557"/>
                    </a:lnTo>
                    <a:lnTo>
                      <a:pt x="3223" y="580"/>
                    </a:lnTo>
                    <a:lnTo>
                      <a:pt x="3201" y="602"/>
                    </a:lnTo>
                    <a:lnTo>
                      <a:pt x="3176" y="624"/>
                    </a:lnTo>
                    <a:lnTo>
                      <a:pt x="3146" y="646"/>
                    </a:lnTo>
                    <a:lnTo>
                      <a:pt x="3113" y="668"/>
                    </a:lnTo>
                    <a:lnTo>
                      <a:pt x="3078" y="688"/>
                    </a:lnTo>
                    <a:lnTo>
                      <a:pt x="3037" y="708"/>
                    </a:lnTo>
                    <a:lnTo>
                      <a:pt x="2995" y="727"/>
                    </a:lnTo>
                    <a:lnTo>
                      <a:pt x="2949" y="746"/>
                    </a:lnTo>
                    <a:lnTo>
                      <a:pt x="2901" y="764"/>
                    </a:lnTo>
                    <a:lnTo>
                      <a:pt x="2849" y="782"/>
                    </a:lnTo>
                    <a:lnTo>
                      <a:pt x="2795" y="798"/>
                    </a:lnTo>
                    <a:lnTo>
                      <a:pt x="2738" y="814"/>
                    </a:lnTo>
                    <a:lnTo>
                      <a:pt x="2679" y="829"/>
                    </a:lnTo>
                    <a:lnTo>
                      <a:pt x="2617" y="843"/>
                    </a:lnTo>
                    <a:lnTo>
                      <a:pt x="2552" y="856"/>
                    </a:lnTo>
                    <a:lnTo>
                      <a:pt x="2487" y="869"/>
                    </a:lnTo>
                    <a:lnTo>
                      <a:pt x="2418" y="881"/>
                    </a:lnTo>
                    <a:lnTo>
                      <a:pt x="2347" y="891"/>
                    </a:lnTo>
                    <a:lnTo>
                      <a:pt x="2275" y="901"/>
                    </a:lnTo>
                    <a:lnTo>
                      <a:pt x="2200" y="909"/>
                    </a:lnTo>
                    <a:lnTo>
                      <a:pt x="2124" y="917"/>
                    </a:lnTo>
                    <a:lnTo>
                      <a:pt x="2046" y="923"/>
                    </a:lnTo>
                    <a:lnTo>
                      <a:pt x="1968" y="928"/>
                    </a:lnTo>
                    <a:lnTo>
                      <a:pt x="1887" y="933"/>
                    </a:lnTo>
                    <a:lnTo>
                      <a:pt x="1805" y="936"/>
                    </a:lnTo>
                    <a:lnTo>
                      <a:pt x="1721" y="937"/>
                    </a:lnTo>
                    <a:lnTo>
                      <a:pt x="1637" y="938"/>
                    </a:lnTo>
                    <a:lnTo>
                      <a:pt x="1554" y="937"/>
                    </a:lnTo>
                    <a:lnTo>
                      <a:pt x="1470" y="936"/>
                    </a:lnTo>
                    <a:lnTo>
                      <a:pt x="1388" y="933"/>
                    </a:lnTo>
                    <a:lnTo>
                      <a:pt x="1307" y="928"/>
                    </a:lnTo>
                    <a:lnTo>
                      <a:pt x="1228" y="923"/>
                    </a:lnTo>
                    <a:lnTo>
                      <a:pt x="1151" y="917"/>
                    </a:lnTo>
                    <a:lnTo>
                      <a:pt x="1075" y="909"/>
                    </a:lnTo>
                    <a:lnTo>
                      <a:pt x="1000" y="901"/>
                    </a:lnTo>
                    <a:lnTo>
                      <a:pt x="927" y="891"/>
                    </a:lnTo>
                    <a:lnTo>
                      <a:pt x="857" y="881"/>
                    </a:lnTo>
                    <a:lnTo>
                      <a:pt x="788" y="869"/>
                    </a:lnTo>
                    <a:lnTo>
                      <a:pt x="722" y="856"/>
                    </a:lnTo>
                    <a:lnTo>
                      <a:pt x="658" y="843"/>
                    </a:lnTo>
                    <a:lnTo>
                      <a:pt x="596" y="829"/>
                    </a:lnTo>
                    <a:lnTo>
                      <a:pt x="537" y="814"/>
                    </a:lnTo>
                    <a:lnTo>
                      <a:pt x="480" y="798"/>
                    </a:lnTo>
                    <a:lnTo>
                      <a:pt x="426" y="782"/>
                    </a:lnTo>
                    <a:lnTo>
                      <a:pt x="374" y="764"/>
                    </a:lnTo>
                    <a:lnTo>
                      <a:pt x="326" y="746"/>
                    </a:lnTo>
                    <a:lnTo>
                      <a:pt x="280" y="727"/>
                    </a:lnTo>
                    <a:lnTo>
                      <a:pt x="238" y="708"/>
                    </a:lnTo>
                    <a:lnTo>
                      <a:pt x="198" y="688"/>
                    </a:lnTo>
                    <a:lnTo>
                      <a:pt x="162" y="668"/>
                    </a:lnTo>
                    <a:lnTo>
                      <a:pt x="129" y="646"/>
                    </a:lnTo>
                    <a:lnTo>
                      <a:pt x="99" y="624"/>
                    </a:lnTo>
                    <a:lnTo>
                      <a:pt x="74" y="602"/>
                    </a:lnTo>
                    <a:lnTo>
                      <a:pt x="52" y="580"/>
                    </a:lnTo>
                    <a:lnTo>
                      <a:pt x="34" y="557"/>
                    </a:lnTo>
                    <a:lnTo>
                      <a:pt x="20" y="533"/>
                    </a:lnTo>
                    <a:lnTo>
                      <a:pt x="8" y="509"/>
                    </a:lnTo>
                    <a:lnTo>
                      <a:pt x="2" y="485"/>
                    </a:lnTo>
                    <a:lnTo>
                      <a:pt x="0" y="461"/>
                    </a:lnTo>
                    <a:lnTo>
                      <a:pt x="2" y="435"/>
                    </a:lnTo>
                    <a:lnTo>
                      <a:pt x="8" y="411"/>
                    </a:lnTo>
                    <a:lnTo>
                      <a:pt x="20" y="388"/>
                    </a:lnTo>
                    <a:lnTo>
                      <a:pt x="34" y="365"/>
                    </a:lnTo>
                    <a:lnTo>
                      <a:pt x="52" y="342"/>
                    </a:lnTo>
                    <a:lnTo>
                      <a:pt x="74" y="319"/>
                    </a:lnTo>
                    <a:lnTo>
                      <a:pt x="99" y="298"/>
                    </a:lnTo>
                    <a:lnTo>
                      <a:pt x="129" y="277"/>
                    </a:lnTo>
                    <a:lnTo>
                      <a:pt x="162" y="257"/>
                    </a:lnTo>
                    <a:lnTo>
                      <a:pt x="198" y="237"/>
                    </a:lnTo>
                    <a:lnTo>
                      <a:pt x="238" y="217"/>
                    </a:lnTo>
                    <a:lnTo>
                      <a:pt x="280" y="198"/>
                    </a:lnTo>
                    <a:lnTo>
                      <a:pt x="326" y="181"/>
                    </a:lnTo>
                    <a:lnTo>
                      <a:pt x="374" y="163"/>
                    </a:lnTo>
                    <a:lnTo>
                      <a:pt x="426" y="147"/>
                    </a:lnTo>
                    <a:lnTo>
                      <a:pt x="480" y="131"/>
                    </a:lnTo>
                    <a:lnTo>
                      <a:pt x="537" y="116"/>
                    </a:lnTo>
                    <a:lnTo>
                      <a:pt x="596" y="102"/>
                    </a:lnTo>
                    <a:lnTo>
                      <a:pt x="658" y="88"/>
                    </a:lnTo>
                    <a:lnTo>
                      <a:pt x="722" y="76"/>
                    </a:lnTo>
                    <a:lnTo>
                      <a:pt x="788" y="64"/>
                    </a:lnTo>
                    <a:lnTo>
                      <a:pt x="857" y="54"/>
                    </a:lnTo>
                    <a:lnTo>
                      <a:pt x="927" y="44"/>
                    </a:lnTo>
                    <a:lnTo>
                      <a:pt x="1000" y="35"/>
                    </a:lnTo>
                    <a:lnTo>
                      <a:pt x="1075" y="27"/>
                    </a:lnTo>
                    <a:lnTo>
                      <a:pt x="1151" y="20"/>
                    </a:lnTo>
                    <a:lnTo>
                      <a:pt x="1228" y="13"/>
                    </a:lnTo>
                    <a:lnTo>
                      <a:pt x="1307" y="8"/>
                    </a:lnTo>
                    <a:lnTo>
                      <a:pt x="1388" y="5"/>
                    </a:lnTo>
                    <a:lnTo>
                      <a:pt x="1470" y="2"/>
                    </a:lnTo>
                    <a:lnTo>
                      <a:pt x="1554" y="0"/>
                    </a:lnTo>
                    <a:lnTo>
                      <a:pt x="1637" y="0"/>
                    </a:lnTo>
                    <a:lnTo>
                      <a:pt x="1721" y="0"/>
                    </a:lnTo>
                    <a:lnTo>
                      <a:pt x="1805" y="2"/>
                    </a:lnTo>
                    <a:lnTo>
                      <a:pt x="1887" y="5"/>
                    </a:lnTo>
                    <a:lnTo>
                      <a:pt x="1968" y="8"/>
                    </a:lnTo>
                    <a:lnTo>
                      <a:pt x="2046" y="13"/>
                    </a:lnTo>
                    <a:lnTo>
                      <a:pt x="2124" y="20"/>
                    </a:lnTo>
                    <a:lnTo>
                      <a:pt x="2200" y="27"/>
                    </a:lnTo>
                    <a:lnTo>
                      <a:pt x="2275" y="35"/>
                    </a:lnTo>
                    <a:lnTo>
                      <a:pt x="2347" y="44"/>
                    </a:lnTo>
                    <a:lnTo>
                      <a:pt x="2418" y="54"/>
                    </a:lnTo>
                    <a:lnTo>
                      <a:pt x="2487" y="64"/>
                    </a:lnTo>
                    <a:lnTo>
                      <a:pt x="2552" y="76"/>
                    </a:lnTo>
                    <a:lnTo>
                      <a:pt x="2617" y="88"/>
                    </a:lnTo>
                    <a:lnTo>
                      <a:pt x="2679" y="102"/>
                    </a:lnTo>
                    <a:lnTo>
                      <a:pt x="2738" y="116"/>
                    </a:lnTo>
                    <a:lnTo>
                      <a:pt x="2795" y="131"/>
                    </a:lnTo>
                    <a:lnTo>
                      <a:pt x="2849" y="147"/>
                    </a:lnTo>
                    <a:lnTo>
                      <a:pt x="2901" y="163"/>
                    </a:lnTo>
                    <a:lnTo>
                      <a:pt x="2949" y="181"/>
                    </a:lnTo>
                    <a:lnTo>
                      <a:pt x="2995" y="198"/>
                    </a:lnTo>
                    <a:lnTo>
                      <a:pt x="3037" y="217"/>
                    </a:lnTo>
                    <a:lnTo>
                      <a:pt x="3078" y="237"/>
                    </a:lnTo>
                    <a:lnTo>
                      <a:pt x="3113" y="257"/>
                    </a:lnTo>
                    <a:lnTo>
                      <a:pt x="3146" y="277"/>
                    </a:lnTo>
                    <a:lnTo>
                      <a:pt x="3176" y="298"/>
                    </a:lnTo>
                    <a:lnTo>
                      <a:pt x="3201" y="319"/>
                    </a:lnTo>
                    <a:lnTo>
                      <a:pt x="3223" y="342"/>
                    </a:lnTo>
                    <a:lnTo>
                      <a:pt x="3241" y="365"/>
                    </a:lnTo>
                    <a:lnTo>
                      <a:pt x="3256" y="388"/>
                    </a:lnTo>
                    <a:lnTo>
                      <a:pt x="3266" y="411"/>
                    </a:lnTo>
                    <a:lnTo>
                      <a:pt x="3273" y="435"/>
                    </a:lnTo>
                    <a:lnTo>
                      <a:pt x="3275" y="4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109600" y="6521400"/>
                <a:ext cx="362160" cy="111600"/>
              </a:xfrm>
              <a:custGeom>
                <a:avLst/>
                <a:gdLst/>
                <a:ahLst/>
                <a:rect l="l" t="t" r="r" b="b"/>
                <a:pathLst>
                  <a:path w="3273" h="937">
                    <a:moveTo>
                      <a:pt x="3273" y="461"/>
                    </a:moveTo>
                    <a:lnTo>
                      <a:pt x="3271" y="485"/>
                    </a:lnTo>
                    <a:lnTo>
                      <a:pt x="3263" y="509"/>
                    </a:lnTo>
                    <a:lnTo>
                      <a:pt x="3253" y="533"/>
                    </a:lnTo>
                    <a:lnTo>
                      <a:pt x="3239" y="557"/>
                    </a:lnTo>
                    <a:lnTo>
                      <a:pt x="3221" y="580"/>
                    </a:lnTo>
                    <a:lnTo>
                      <a:pt x="3199" y="602"/>
                    </a:lnTo>
                    <a:lnTo>
                      <a:pt x="3173" y="624"/>
                    </a:lnTo>
                    <a:lnTo>
                      <a:pt x="3144" y="646"/>
                    </a:lnTo>
                    <a:lnTo>
                      <a:pt x="3111" y="668"/>
                    </a:lnTo>
                    <a:lnTo>
                      <a:pt x="3075" y="688"/>
                    </a:lnTo>
                    <a:lnTo>
                      <a:pt x="3035" y="708"/>
                    </a:lnTo>
                    <a:lnTo>
                      <a:pt x="2993" y="727"/>
                    </a:lnTo>
                    <a:lnTo>
                      <a:pt x="2947" y="745"/>
                    </a:lnTo>
                    <a:lnTo>
                      <a:pt x="2899" y="763"/>
                    </a:lnTo>
                    <a:lnTo>
                      <a:pt x="2847" y="781"/>
                    </a:lnTo>
                    <a:lnTo>
                      <a:pt x="2793" y="798"/>
                    </a:lnTo>
                    <a:lnTo>
                      <a:pt x="2736" y="813"/>
                    </a:lnTo>
                    <a:lnTo>
                      <a:pt x="2677" y="828"/>
                    </a:lnTo>
                    <a:lnTo>
                      <a:pt x="2615" y="842"/>
                    </a:lnTo>
                    <a:lnTo>
                      <a:pt x="2551" y="855"/>
                    </a:lnTo>
                    <a:lnTo>
                      <a:pt x="2485" y="868"/>
                    </a:lnTo>
                    <a:lnTo>
                      <a:pt x="2416" y="880"/>
                    </a:lnTo>
                    <a:lnTo>
                      <a:pt x="2345" y="891"/>
                    </a:lnTo>
                    <a:lnTo>
                      <a:pt x="2274" y="900"/>
                    </a:lnTo>
                    <a:lnTo>
                      <a:pt x="2199" y="909"/>
                    </a:lnTo>
                    <a:lnTo>
                      <a:pt x="2123" y="916"/>
                    </a:lnTo>
                    <a:lnTo>
                      <a:pt x="2045" y="922"/>
                    </a:lnTo>
                    <a:lnTo>
                      <a:pt x="1966" y="928"/>
                    </a:lnTo>
                    <a:lnTo>
                      <a:pt x="1886" y="932"/>
                    </a:lnTo>
                    <a:lnTo>
                      <a:pt x="1804" y="935"/>
                    </a:lnTo>
                    <a:lnTo>
                      <a:pt x="1720" y="937"/>
                    </a:lnTo>
                    <a:lnTo>
                      <a:pt x="1636" y="937"/>
                    </a:lnTo>
                    <a:lnTo>
                      <a:pt x="1553" y="937"/>
                    </a:lnTo>
                    <a:lnTo>
                      <a:pt x="1469" y="935"/>
                    </a:lnTo>
                    <a:lnTo>
                      <a:pt x="1387" y="932"/>
                    </a:lnTo>
                    <a:lnTo>
                      <a:pt x="1307" y="928"/>
                    </a:lnTo>
                    <a:lnTo>
                      <a:pt x="1227" y="922"/>
                    </a:lnTo>
                    <a:lnTo>
                      <a:pt x="1150" y="916"/>
                    </a:lnTo>
                    <a:lnTo>
                      <a:pt x="1074" y="909"/>
                    </a:lnTo>
                    <a:lnTo>
                      <a:pt x="1000" y="900"/>
                    </a:lnTo>
                    <a:lnTo>
                      <a:pt x="927" y="891"/>
                    </a:lnTo>
                    <a:lnTo>
                      <a:pt x="857" y="880"/>
                    </a:lnTo>
                    <a:lnTo>
                      <a:pt x="788" y="868"/>
                    </a:lnTo>
                    <a:lnTo>
                      <a:pt x="721" y="855"/>
                    </a:lnTo>
                    <a:lnTo>
                      <a:pt x="658" y="842"/>
                    </a:lnTo>
                    <a:lnTo>
                      <a:pt x="596" y="828"/>
                    </a:lnTo>
                    <a:lnTo>
                      <a:pt x="537" y="813"/>
                    </a:lnTo>
                    <a:lnTo>
                      <a:pt x="480" y="798"/>
                    </a:lnTo>
                    <a:lnTo>
                      <a:pt x="426" y="781"/>
                    </a:lnTo>
                    <a:lnTo>
                      <a:pt x="374" y="763"/>
                    </a:lnTo>
                    <a:lnTo>
                      <a:pt x="326" y="745"/>
                    </a:lnTo>
                    <a:lnTo>
                      <a:pt x="280" y="727"/>
                    </a:lnTo>
                    <a:lnTo>
                      <a:pt x="238" y="708"/>
                    </a:lnTo>
                    <a:lnTo>
                      <a:pt x="198" y="688"/>
                    </a:lnTo>
                    <a:lnTo>
                      <a:pt x="162" y="668"/>
                    </a:lnTo>
                    <a:lnTo>
                      <a:pt x="130" y="646"/>
                    </a:lnTo>
                    <a:lnTo>
                      <a:pt x="100" y="624"/>
                    </a:lnTo>
                    <a:lnTo>
                      <a:pt x="74" y="602"/>
                    </a:lnTo>
                    <a:lnTo>
                      <a:pt x="52" y="580"/>
                    </a:lnTo>
                    <a:lnTo>
                      <a:pt x="34" y="557"/>
                    </a:lnTo>
                    <a:lnTo>
                      <a:pt x="20" y="533"/>
                    </a:lnTo>
                    <a:lnTo>
                      <a:pt x="9" y="509"/>
                    </a:lnTo>
                    <a:lnTo>
                      <a:pt x="2" y="485"/>
                    </a:lnTo>
                    <a:lnTo>
                      <a:pt x="0" y="461"/>
                    </a:lnTo>
                    <a:lnTo>
                      <a:pt x="2" y="435"/>
                    </a:lnTo>
                    <a:lnTo>
                      <a:pt x="9" y="411"/>
                    </a:lnTo>
                    <a:lnTo>
                      <a:pt x="20" y="388"/>
                    </a:lnTo>
                    <a:lnTo>
                      <a:pt x="34" y="365"/>
                    </a:lnTo>
                    <a:lnTo>
                      <a:pt x="52" y="343"/>
                    </a:lnTo>
                    <a:lnTo>
                      <a:pt x="74" y="320"/>
                    </a:lnTo>
                    <a:lnTo>
                      <a:pt x="100" y="298"/>
                    </a:lnTo>
                    <a:lnTo>
                      <a:pt x="130" y="277"/>
                    </a:lnTo>
                    <a:lnTo>
                      <a:pt x="162" y="257"/>
                    </a:lnTo>
                    <a:lnTo>
                      <a:pt x="198" y="237"/>
                    </a:lnTo>
                    <a:lnTo>
                      <a:pt x="238" y="217"/>
                    </a:lnTo>
                    <a:lnTo>
                      <a:pt x="280" y="199"/>
                    </a:lnTo>
                    <a:lnTo>
                      <a:pt x="326" y="181"/>
                    </a:lnTo>
                    <a:lnTo>
                      <a:pt x="374" y="164"/>
                    </a:lnTo>
                    <a:lnTo>
                      <a:pt x="426" y="148"/>
                    </a:lnTo>
                    <a:lnTo>
                      <a:pt x="480" y="132"/>
                    </a:lnTo>
                    <a:lnTo>
                      <a:pt x="537" y="116"/>
                    </a:lnTo>
                    <a:lnTo>
                      <a:pt x="596" y="102"/>
                    </a:lnTo>
                    <a:lnTo>
                      <a:pt x="658" y="89"/>
                    </a:lnTo>
                    <a:lnTo>
                      <a:pt x="721" y="77"/>
                    </a:lnTo>
                    <a:lnTo>
                      <a:pt x="788" y="65"/>
                    </a:lnTo>
                    <a:lnTo>
                      <a:pt x="857" y="54"/>
                    </a:lnTo>
                    <a:lnTo>
                      <a:pt x="927" y="45"/>
                    </a:lnTo>
                    <a:lnTo>
                      <a:pt x="1000" y="36"/>
                    </a:lnTo>
                    <a:lnTo>
                      <a:pt x="1074" y="28"/>
                    </a:lnTo>
                    <a:lnTo>
                      <a:pt x="1150" y="21"/>
                    </a:lnTo>
                    <a:lnTo>
                      <a:pt x="1227" y="14"/>
                    </a:lnTo>
                    <a:lnTo>
                      <a:pt x="1307" y="9"/>
                    </a:lnTo>
                    <a:lnTo>
                      <a:pt x="1387" y="6"/>
                    </a:lnTo>
                    <a:lnTo>
                      <a:pt x="1469" y="3"/>
                    </a:lnTo>
                    <a:lnTo>
                      <a:pt x="1553" y="1"/>
                    </a:lnTo>
                    <a:lnTo>
                      <a:pt x="1636" y="0"/>
                    </a:lnTo>
                    <a:lnTo>
                      <a:pt x="1720" y="1"/>
                    </a:lnTo>
                    <a:lnTo>
                      <a:pt x="1804" y="3"/>
                    </a:lnTo>
                    <a:lnTo>
                      <a:pt x="1886" y="6"/>
                    </a:lnTo>
                    <a:lnTo>
                      <a:pt x="1966" y="9"/>
                    </a:lnTo>
                    <a:lnTo>
                      <a:pt x="2045" y="14"/>
                    </a:lnTo>
                    <a:lnTo>
                      <a:pt x="2123" y="21"/>
                    </a:lnTo>
                    <a:lnTo>
                      <a:pt x="2199" y="28"/>
                    </a:lnTo>
                    <a:lnTo>
                      <a:pt x="2274" y="36"/>
                    </a:lnTo>
                    <a:lnTo>
                      <a:pt x="2345" y="45"/>
                    </a:lnTo>
                    <a:lnTo>
                      <a:pt x="2416" y="54"/>
                    </a:lnTo>
                    <a:lnTo>
                      <a:pt x="2485" y="65"/>
                    </a:lnTo>
                    <a:lnTo>
                      <a:pt x="2551" y="77"/>
                    </a:lnTo>
                    <a:lnTo>
                      <a:pt x="2615" y="89"/>
                    </a:lnTo>
                    <a:lnTo>
                      <a:pt x="2677" y="102"/>
                    </a:lnTo>
                    <a:lnTo>
                      <a:pt x="2736" y="116"/>
                    </a:lnTo>
                    <a:lnTo>
                      <a:pt x="2793" y="132"/>
                    </a:lnTo>
                    <a:lnTo>
                      <a:pt x="2847" y="148"/>
                    </a:lnTo>
                    <a:lnTo>
                      <a:pt x="2899" y="164"/>
                    </a:lnTo>
                    <a:lnTo>
                      <a:pt x="2947" y="181"/>
                    </a:lnTo>
                    <a:lnTo>
                      <a:pt x="2993" y="199"/>
                    </a:lnTo>
                    <a:lnTo>
                      <a:pt x="3035" y="217"/>
                    </a:lnTo>
                    <a:lnTo>
                      <a:pt x="3075" y="237"/>
                    </a:lnTo>
                    <a:lnTo>
                      <a:pt x="3111" y="257"/>
                    </a:lnTo>
                    <a:lnTo>
                      <a:pt x="3144" y="277"/>
                    </a:lnTo>
                    <a:lnTo>
                      <a:pt x="3173" y="298"/>
                    </a:lnTo>
                    <a:lnTo>
                      <a:pt x="3199" y="320"/>
                    </a:lnTo>
                    <a:lnTo>
                      <a:pt x="3221" y="343"/>
                    </a:lnTo>
                    <a:lnTo>
                      <a:pt x="3239" y="365"/>
                    </a:lnTo>
                    <a:lnTo>
                      <a:pt x="3253" y="388"/>
                    </a:lnTo>
                    <a:lnTo>
                      <a:pt x="3263" y="411"/>
                    </a:lnTo>
                    <a:lnTo>
                      <a:pt x="3271" y="435"/>
                    </a:lnTo>
                    <a:lnTo>
                      <a:pt x="3273" y="4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109600" y="6521400"/>
                <a:ext cx="362160" cy="111600"/>
              </a:xfrm>
              <a:custGeom>
                <a:avLst/>
                <a:gdLst/>
                <a:ahLst/>
                <a:rect l="l" t="t" r="r" b="b"/>
                <a:pathLst>
                  <a:path w="3269" h="935">
                    <a:moveTo>
                      <a:pt x="3269" y="460"/>
                    </a:moveTo>
                    <a:lnTo>
                      <a:pt x="3267" y="484"/>
                    </a:lnTo>
                    <a:lnTo>
                      <a:pt x="3260" y="508"/>
                    </a:lnTo>
                    <a:lnTo>
                      <a:pt x="3250" y="531"/>
                    </a:lnTo>
                    <a:lnTo>
                      <a:pt x="3235" y="556"/>
                    </a:lnTo>
                    <a:lnTo>
                      <a:pt x="3217" y="578"/>
                    </a:lnTo>
                    <a:lnTo>
                      <a:pt x="3196" y="601"/>
                    </a:lnTo>
                    <a:lnTo>
                      <a:pt x="3170" y="623"/>
                    </a:lnTo>
                    <a:lnTo>
                      <a:pt x="3140" y="644"/>
                    </a:lnTo>
                    <a:lnTo>
                      <a:pt x="3108" y="666"/>
                    </a:lnTo>
                    <a:lnTo>
                      <a:pt x="3072" y="686"/>
                    </a:lnTo>
                    <a:lnTo>
                      <a:pt x="3032" y="706"/>
                    </a:lnTo>
                    <a:lnTo>
                      <a:pt x="2990" y="725"/>
                    </a:lnTo>
                    <a:lnTo>
                      <a:pt x="2944" y="744"/>
                    </a:lnTo>
                    <a:lnTo>
                      <a:pt x="2896" y="762"/>
                    </a:lnTo>
                    <a:lnTo>
                      <a:pt x="2844" y="780"/>
                    </a:lnTo>
                    <a:lnTo>
                      <a:pt x="2790" y="796"/>
                    </a:lnTo>
                    <a:lnTo>
                      <a:pt x="2733" y="812"/>
                    </a:lnTo>
                    <a:lnTo>
                      <a:pt x="2674" y="827"/>
                    </a:lnTo>
                    <a:lnTo>
                      <a:pt x="2612" y="841"/>
                    </a:lnTo>
                    <a:lnTo>
                      <a:pt x="2548" y="854"/>
                    </a:lnTo>
                    <a:lnTo>
                      <a:pt x="2482" y="866"/>
                    </a:lnTo>
                    <a:lnTo>
                      <a:pt x="2413" y="878"/>
                    </a:lnTo>
                    <a:lnTo>
                      <a:pt x="2343" y="889"/>
                    </a:lnTo>
                    <a:lnTo>
                      <a:pt x="2271" y="898"/>
                    </a:lnTo>
                    <a:lnTo>
                      <a:pt x="2196" y="907"/>
                    </a:lnTo>
                    <a:lnTo>
                      <a:pt x="2120" y="914"/>
                    </a:lnTo>
                    <a:lnTo>
                      <a:pt x="2042" y="920"/>
                    </a:lnTo>
                    <a:lnTo>
                      <a:pt x="1964" y="926"/>
                    </a:lnTo>
                    <a:lnTo>
                      <a:pt x="1883" y="930"/>
                    </a:lnTo>
                    <a:lnTo>
                      <a:pt x="1802" y="933"/>
                    </a:lnTo>
                    <a:lnTo>
                      <a:pt x="1718" y="935"/>
                    </a:lnTo>
                    <a:lnTo>
                      <a:pt x="1634" y="935"/>
                    </a:lnTo>
                    <a:lnTo>
                      <a:pt x="1551" y="935"/>
                    </a:lnTo>
                    <a:lnTo>
                      <a:pt x="1468" y="933"/>
                    </a:lnTo>
                    <a:lnTo>
                      <a:pt x="1386" y="930"/>
                    </a:lnTo>
                    <a:lnTo>
                      <a:pt x="1305" y="926"/>
                    </a:lnTo>
                    <a:lnTo>
                      <a:pt x="1226" y="920"/>
                    </a:lnTo>
                    <a:lnTo>
                      <a:pt x="1149" y="914"/>
                    </a:lnTo>
                    <a:lnTo>
                      <a:pt x="1073" y="907"/>
                    </a:lnTo>
                    <a:lnTo>
                      <a:pt x="998" y="898"/>
                    </a:lnTo>
                    <a:lnTo>
                      <a:pt x="925" y="889"/>
                    </a:lnTo>
                    <a:lnTo>
                      <a:pt x="856" y="878"/>
                    </a:lnTo>
                    <a:lnTo>
                      <a:pt x="787" y="866"/>
                    </a:lnTo>
                    <a:lnTo>
                      <a:pt x="720" y="854"/>
                    </a:lnTo>
                    <a:lnTo>
                      <a:pt x="657" y="841"/>
                    </a:lnTo>
                    <a:lnTo>
                      <a:pt x="595" y="827"/>
                    </a:lnTo>
                    <a:lnTo>
                      <a:pt x="536" y="812"/>
                    </a:lnTo>
                    <a:lnTo>
                      <a:pt x="479" y="796"/>
                    </a:lnTo>
                    <a:lnTo>
                      <a:pt x="425" y="780"/>
                    </a:lnTo>
                    <a:lnTo>
                      <a:pt x="373" y="762"/>
                    </a:lnTo>
                    <a:lnTo>
                      <a:pt x="325" y="744"/>
                    </a:lnTo>
                    <a:lnTo>
                      <a:pt x="279" y="725"/>
                    </a:lnTo>
                    <a:lnTo>
                      <a:pt x="237" y="706"/>
                    </a:lnTo>
                    <a:lnTo>
                      <a:pt x="197" y="686"/>
                    </a:lnTo>
                    <a:lnTo>
                      <a:pt x="161" y="666"/>
                    </a:lnTo>
                    <a:lnTo>
                      <a:pt x="129" y="644"/>
                    </a:lnTo>
                    <a:lnTo>
                      <a:pt x="99" y="623"/>
                    </a:lnTo>
                    <a:lnTo>
                      <a:pt x="74" y="601"/>
                    </a:lnTo>
                    <a:lnTo>
                      <a:pt x="52" y="578"/>
                    </a:lnTo>
                    <a:lnTo>
                      <a:pt x="34" y="556"/>
                    </a:lnTo>
                    <a:lnTo>
                      <a:pt x="19" y="531"/>
                    </a:lnTo>
                    <a:lnTo>
                      <a:pt x="8" y="508"/>
                    </a:lnTo>
                    <a:lnTo>
                      <a:pt x="2" y="484"/>
                    </a:lnTo>
                    <a:lnTo>
                      <a:pt x="0" y="460"/>
                    </a:lnTo>
                    <a:lnTo>
                      <a:pt x="2" y="434"/>
                    </a:lnTo>
                    <a:lnTo>
                      <a:pt x="8" y="411"/>
                    </a:lnTo>
                    <a:lnTo>
                      <a:pt x="19" y="387"/>
                    </a:lnTo>
                    <a:lnTo>
                      <a:pt x="34" y="364"/>
                    </a:lnTo>
                    <a:lnTo>
                      <a:pt x="52" y="342"/>
                    </a:lnTo>
                    <a:lnTo>
                      <a:pt x="74" y="319"/>
                    </a:lnTo>
                    <a:lnTo>
                      <a:pt x="99" y="298"/>
                    </a:lnTo>
                    <a:lnTo>
                      <a:pt x="129" y="277"/>
                    </a:lnTo>
                    <a:lnTo>
                      <a:pt x="161" y="256"/>
                    </a:lnTo>
                    <a:lnTo>
                      <a:pt x="197" y="237"/>
                    </a:lnTo>
                    <a:lnTo>
                      <a:pt x="237" y="217"/>
                    </a:lnTo>
                    <a:lnTo>
                      <a:pt x="279" y="198"/>
                    </a:lnTo>
                    <a:lnTo>
                      <a:pt x="325" y="181"/>
                    </a:lnTo>
                    <a:lnTo>
                      <a:pt x="373" y="164"/>
                    </a:lnTo>
                    <a:lnTo>
                      <a:pt x="425" y="147"/>
                    </a:lnTo>
                    <a:lnTo>
                      <a:pt x="479" y="132"/>
                    </a:lnTo>
                    <a:lnTo>
                      <a:pt x="536" y="116"/>
                    </a:lnTo>
                    <a:lnTo>
                      <a:pt x="595" y="102"/>
                    </a:lnTo>
                    <a:lnTo>
                      <a:pt x="657" y="89"/>
                    </a:lnTo>
                    <a:lnTo>
                      <a:pt x="720" y="76"/>
                    </a:lnTo>
                    <a:lnTo>
                      <a:pt x="787" y="65"/>
                    </a:lnTo>
                    <a:lnTo>
                      <a:pt x="856" y="54"/>
                    </a:lnTo>
                    <a:lnTo>
                      <a:pt x="925" y="45"/>
                    </a:lnTo>
                    <a:lnTo>
                      <a:pt x="998" y="36"/>
                    </a:lnTo>
                    <a:lnTo>
                      <a:pt x="1073" y="28"/>
                    </a:lnTo>
                    <a:lnTo>
                      <a:pt x="1149" y="21"/>
                    </a:lnTo>
                    <a:lnTo>
                      <a:pt x="1226" y="14"/>
                    </a:lnTo>
                    <a:lnTo>
                      <a:pt x="1305" y="9"/>
                    </a:lnTo>
                    <a:lnTo>
                      <a:pt x="1386" y="5"/>
                    </a:lnTo>
                    <a:lnTo>
                      <a:pt x="1468" y="3"/>
                    </a:lnTo>
                    <a:lnTo>
                      <a:pt x="1551" y="1"/>
                    </a:lnTo>
                    <a:lnTo>
                      <a:pt x="1634" y="0"/>
                    </a:lnTo>
                    <a:lnTo>
                      <a:pt x="1718" y="1"/>
                    </a:lnTo>
                    <a:lnTo>
                      <a:pt x="1802" y="3"/>
                    </a:lnTo>
                    <a:lnTo>
                      <a:pt x="1883" y="5"/>
                    </a:lnTo>
                    <a:lnTo>
                      <a:pt x="1964" y="9"/>
                    </a:lnTo>
                    <a:lnTo>
                      <a:pt x="2042" y="14"/>
                    </a:lnTo>
                    <a:lnTo>
                      <a:pt x="2120" y="21"/>
                    </a:lnTo>
                    <a:lnTo>
                      <a:pt x="2196" y="28"/>
                    </a:lnTo>
                    <a:lnTo>
                      <a:pt x="2271" y="36"/>
                    </a:lnTo>
                    <a:lnTo>
                      <a:pt x="2343" y="45"/>
                    </a:lnTo>
                    <a:lnTo>
                      <a:pt x="2413" y="54"/>
                    </a:lnTo>
                    <a:lnTo>
                      <a:pt x="2482" y="65"/>
                    </a:lnTo>
                    <a:lnTo>
                      <a:pt x="2548" y="76"/>
                    </a:lnTo>
                    <a:lnTo>
                      <a:pt x="2612" y="89"/>
                    </a:lnTo>
                    <a:lnTo>
                      <a:pt x="2674" y="102"/>
                    </a:lnTo>
                    <a:lnTo>
                      <a:pt x="2733" y="116"/>
                    </a:lnTo>
                    <a:lnTo>
                      <a:pt x="2790" y="132"/>
                    </a:lnTo>
                    <a:lnTo>
                      <a:pt x="2844" y="147"/>
                    </a:lnTo>
                    <a:lnTo>
                      <a:pt x="2896" y="164"/>
                    </a:lnTo>
                    <a:lnTo>
                      <a:pt x="2944" y="181"/>
                    </a:lnTo>
                    <a:lnTo>
                      <a:pt x="2990" y="198"/>
                    </a:lnTo>
                    <a:lnTo>
                      <a:pt x="3032" y="217"/>
                    </a:lnTo>
                    <a:lnTo>
                      <a:pt x="3072" y="237"/>
                    </a:lnTo>
                    <a:lnTo>
                      <a:pt x="3108" y="256"/>
                    </a:lnTo>
                    <a:lnTo>
                      <a:pt x="3140" y="277"/>
                    </a:lnTo>
                    <a:lnTo>
                      <a:pt x="3170" y="298"/>
                    </a:lnTo>
                    <a:lnTo>
                      <a:pt x="3196" y="319"/>
                    </a:lnTo>
                    <a:lnTo>
                      <a:pt x="3217" y="342"/>
                    </a:lnTo>
                    <a:lnTo>
                      <a:pt x="3235" y="364"/>
                    </a:lnTo>
                    <a:lnTo>
                      <a:pt x="3250" y="387"/>
                    </a:lnTo>
                    <a:lnTo>
                      <a:pt x="3260" y="411"/>
                    </a:lnTo>
                    <a:lnTo>
                      <a:pt x="3267" y="434"/>
                    </a:lnTo>
                    <a:lnTo>
                      <a:pt x="3269" y="4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109600" y="6521400"/>
                <a:ext cx="360720" cy="111600"/>
              </a:xfrm>
              <a:custGeom>
                <a:avLst/>
                <a:gdLst/>
                <a:ahLst/>
                <a:rect l="l" t="t" r="r" b="b"/>
                <a:pathLst>
                  <a:path w="3267" h="933">
                    <a:moveTo>
                      <a:pt x="3267" y="459"/>
                    </a:moveTo>
                    <a:lnTo>
                      <a:pt x="3265" y="483"/>
                    </a:lnTo>
                    <a:lnTo>
                      <a:pt x="3258" y="507"/>
                    </a:lnTo>
                    <a:lnTo>
                      <a:pt x="3247" y="530"/>
                    </a:lnTo>
                    <a:lnTo>
                      <a:pt x="3233" y="554"/>
                    </a:lnTo>
                    <a:lnTo>
                      <a:pt x="3215" y="577"/>
                    </a:lnTo>
                    <a:lnTo>
                      <a:pt x="3193" y="600"/>
                    </a:lnTo>
                    <a:lnTo>
                      <a:pt x="3168" y="621"/>
                    </a:lnTo>
                    <a:lnTo>
                      <a:pt x="3138" y="643"/>
                    </a:lnTo>
                    <a:lnTo>
                      <a:pt x="3106" y="665"/>
                    </a:lnTo>
                    <a:lnTo>
                      <a:pt x="3070" y="685"/>
                    </a:lnTo>
                    <a:lnTo>
                      <a:pt x="3030" y="705"/>
                    </a:lnTo>
                    <a:lnTo>
                      <a:pt x="2988" y="724"/>
                    </a:lnTo>
                    <a:lnTo>
                      <a:pt x="2942" y="742"/>
                    </a:lnTo>
                    <a:lnTo>
                      <a:pt x="2894" y="760"/>
                    </a:lnTo>
                    <a:lnTo>
                      <a:pt x="2842" y="778"/>
                    </a:lnTo>
                    <a:lnTo>
                      <a:pt x="2788" y="794"/>
                    </a:lnTo>
                    <a:lnTo>
                      <a:pt x="2731" y="810"/>
                    </a:lnTo>
                    <a:lnTo>
                      <a:pt x="2673" y="825"/>
                    </a:lnTo>
                    <a:lnTo>
                      <a:pt x="2610" y="839"/>
                    </a:lnTo>
                    <a:lnTo>
                      <a:pt x="2546" y="852"/>
                    </a:lnTo>
                    <a:lnTo>
                      <a:pt x="2480" y="864"/>
                    </a:lnTo>
                    <a:lnTo>
                      <a:pt x="2412" y="877"/>
                    </a:lnTo>
                    <a:lnTo>
                      <a:pt x="2341" y="887"/>
                    </a:lnTo>
                    <a:lnTo>
                      <a:pt x="2269" y="896"/>
                    </a:lnTo>
                    <a:lnTo>
                      <a:pt x="2195" y="905"/>
                    </a:lnTo>
                    <a:lnTo>
                      <a:pt x="2119" y="912"/>
                    </a:lnTo>
                    <a:lnTo>
                      <a:pt x="2041" y="919"/>
                    </a:lnTo>
                    <a:lnTo>
                      <a:pt x="1963" y="924"/>
                    </a:lnTo>
                    <a:lnTo>
                      <a:pt x="1882" y="928"/>
                    </a:lnTo>
                    <a:lnTo>
                      <a:pt x="1800" y="931"/>
                    </a:lnTo>
                    <a:lnTo>
                      <a:pt x="1717" y="933"/>
                    </a:lnTo>
                    <a:lnTo>
                      <a:pt x="1633" y="933"/>
                    </a:lnTo>
                    <a:lnTo>
                      <a:pt x="1550" y="933"/>
                    </a:lnTo>
                    <a:lnTo>
                      <a:pt x="1467" y="931"/>
                    </a:lnTo>
                    <a:lnTo>
                      <a:pt x="1385" y="928"/>
                    </a:lnTo>
                    <a:lnTo>
                      <a:pt x="1304" y="924"/>
                    </a:lnTo>
                    <a:lnTo>
                      <a:pt x="1225" y="919"/>
                    </a:lnTo>
                    <a:lnTo>
                      <a:pt x="1148" y="912"/>
                    </a:lnTo>
                    <a:lnTo>
                      <a:pt x="1072" y="905"/>
                    </a:lnTo>
                    <a:lnTo>
                      <a:pt x="998" y="896"/>
                    </a:lnTo>
                    <a:lnTo>
                      <a:pt x="925" y="887"/>
                    </a:lnTo>
                    <a:lnTo>
                      <a:pt x="855" y="877"/>
                    </a:lnTo>
                    <a:lnTo>
                      <a:pt x="787" y="864"/>
                    </a:lnTo>
                    <a:lnTo>
                      <a:pt x="720" y="852"/>
                    </a:lnTo>
                    <a:lnTo>
                      <a:pt x="657" y="839"/>
                    </a:lnTo>
                    <a:lnTo>
                      <a:pt x="595" y="825"/>
                    </a:lnTo>
                    <a:lnTo>
                      <a:pt x="536" y="810"/>
                    </a:lnTo>
                    <a:lnTo>
                      <a:pt x="479" y="794"/>
                    </a:lnTo>
                    <a:lnTo>
                      <a:pt x="425" y="778"/>
                    </a:lnTo>
                    <a:lnTo>
                      <a:pt x="373" y="760"/>
                    </a:lnTo>
                    <a:lnTo>
                      <a:pt x="325" y="742"/>
                    </a:lnTo>
                    <a:lnTo>
                      <a:pt x="279" y="724"/>
                    </a:lnTo>
                    <a:lnTo>
                      <a:pt x="237" y="705"/>
                    </a:lnTo>
                    <a:lnTo>
                      <a:pt x="197" y="685"/>
                    </a:lnTo>
                    <a:lnTo>
                      <a:pt x="162" y="665"/>
                    </a:lnTo>
                    <a:lnTo>
                      <a:pt x="129" y="643"/>
                    </a:lnTo>
                    <a:lnTo>
                      <a:pt x="99" y="621"/>
                    </a:lnTo>
                    <a:lnTo>
                      <a:pt x="74" y="600"/>
                    </a:lnTo>
                    <a:lnTo>
                      <a:pt x="52" y="577"/>
                    </a:lnTo>
                    <a:lnTo>
                      <a:pt x="34" y="554"/>
                    </a:lnTo>
                    <a:lnTo>
                      <a:pt x="20" y="530"/>
                    </a:lnTo>
                    <a:lnTo>
                      <a:pt x="9" y="507"/>
                    </a:lnTo>
                    <a:lnTo>
                      <a:pt x="2" y="483"/>
                    </a:lnTo>
                    <a:lnTo>
                      <a:pt x="0" y="459"/>
                    </a:lnTo>
                    <a:lnTo>
                      <a:pt x="2" y="433"/>
                    </a:lnTo>
                    <a:lnTo>
                      <a:pt x="9" y="410"/>
                    </a:lnTo>
                    <a:lnTo>
                      <a:pt x="20" y="386"/>
                    </a:lnTo>
                    <a:lnTo>
                      <a:pt x="34" y="363"/>
                    </a:lnTo>
                    <a:lnTo>
                      <a:pt x="52" y="341"/>
                    </a:lnTo>
                    <a:lnTo>
                      <a:pt x="74" y="318"/>
                    </a:lnTo>
                    <a:lnTo>
                      <a:pt x="99" y="297"/>
                    </a:lnTo>
                    <a:lnTo>
                      <a:pt x="129" y="276"/>
                    </a:lnTo>
                    <a:lnTo>
                      <a:pt x="162" y="256"/>
                    </a:lnTo>
                    <a:lnTo>
                      <a:pt x="197" y="236"/>
                    </a:lnTo>
                    <a:lnTo>
                      <a:pt x="237" y="216"/>
                    </a:lnTo>
                    <a:lnTo>
                      <a:pt x="279" y="198"/>
                    </a:lnTo>
                    <a:lnTo>
                      <a:pt x="325" y="180"/>
                    </a:lnTo>
                    <a:lnTo>
                      <a:pt x="373" y="163"/>
                    </a:lnTo>
                    <a:lnTo>
                      <a:pt x="425" y="147"/>
                    </a:lnTo>
                    <a:lnTo>
                      <a:pt x="479" y="131"/>
                    </a:lnTo>
                    <a:lnTo>
                      <a:pt x="536" y="116"/>
                    </a:lnTo>
                    <a:lnTo>
                      <a:pt x="595" y="102"/>
                    </a:lnTo>
                    <a:lnTo>
                      <a:pt x="657" y="89"/>
                    </a:lnTo>
                    <a:lnTo>
                      <a:pt x="720" y="76"/>
                    </a:lnTo>
                    <a:lnTo>
                      <a:pt x="787" y="65"/>
                    </a:lnTo>
                    <a:lnTo>
                      <a:pt x="855" y="54"/>
                    </a:lnTo>
                    <a:lnTo>
                      <a:pt x="925" y="44"/>
                    </a:lnTo>
                    <a:lnTo>
                      <a:pt x="998" y="36"/>
                    </a:lnTo>
                    <a:lnTo>
                      <a:pt x="1072" y="28"/>
                    </a:lnTo>
                    <a:lnTo>
                      <a:pt x="1148" y="21"/>
                    </a:lnTo>
                    <a:lnTo>
                      <a:pt x="1225" y="15"/>
                    </a:lnTo>
                    <a:lnTo>
                      <a:pt x="1304" y="9"/>
                    </a:lnTo>
                    <a:lnTo>
                      <a:pt x="1385" y="5"/>
                    </a:lnTo>
                    <a:lnTo>
                      <a:pt x="1467" y="3"/>
                    </a:lnTo>
                    <a:lnTo>
                      <a:pt x="1550" y="1"/>
                    </a:lnTo>
                    <a:lnTo>
                      <a:pt x="1633" y="0"/>
                    </a:lnTo>
                    <a:lnTo>
                      <a:pt x="1717" y="1"/>
                    </a:lnTo>
                    <a:lnTo>
                      <a:pt x="1800" y="3"/>
                    </a:lnTo>
                    <a:lnTo>
                      <a:pt x="1882" y="5"/>
                    </a:lnTo>
                    <a:lnTo>
                      <a:pt x="1963" y="9"/>
                    </a:lnTo>
                    <a:lnTo>
                      <a:pt x="2041" y="15"/>
                    </a:lnTo>
                    <a:lnTo>
                      <a:pt x="2119" y="21"/>
                    </a:lnTo>
                    <a:lnTo>
                      <a:pt x="2195" y="28"/>
                    </a:lnTo>
                    <a:lnTo>
                      <a:pt x="2269" y="36"/>
                    </a:lnTo>
                    <a:lnTo>
                      <a:pt x="2341" y="44"/>
                    </a:lnTo>
                    <a:lnTo>
                      <a:pt x="2412" y="54"/>
                    </a:lnTo>
                    <a:lnTo>
                      <a:pt x="2480" y="65"/>
                    </a:lnTo>
                    <a:lnTo>
                      <a:pt x="2546" y="76"/>
                    </a:lnTo>
                    <a:lnTo>
                      <a:pt x="2610" y="89"/>
                    </a:lnTo>
                    <a:lnTo>
                      <a:pt x="2673" y="102"/>
                    </a:lnTo>
                    <a:lnTo>
                      <a:pt x="2731" y="116"/>
                    </a:lnTo>
                    <a:lnTo>
                      <a:pt x="2788" y="131"/>
                    </a:lnTo>
                    <a:lnTo>
                      <a:pt x="2842" y="147"/>
                    </a:lnTo>
                    <a:lnTo>
                      <a:pt x="2894" y="163"/>
                    </a:lnTo>
                    <a:lnTo>
                      <a:pt x="2942" y="180"/>
                    </a:lnTo>
                    <a:lnTo>
                      <a:pt x="2988" y="198"/>
                    </a:lnTo>
                    <a:lnTo>
                      <a:pt x="3030" y="216"/>
                    </a:lnTo>
                    <a:lnTo>
                      <a:pt x="3070" y="236"/>
                    </a:lnTo>
                    <a:lnTo>
                      <a:pt x="3106" y="256"/>
                    </a:lnTo>
                    <a:lnTo>
                      <a:pt x="3138" y="276"/>
                    </a:lnTo>
                    <a:lnTo>
                      <a:pt x="3168" y="297"/>
                    </a:lnTo>
                    <a:lnTo>
                      <a:pt x="3193" y="318"/>
                    </a:lnTo>
                    <a:lnTo>
                      <a:pt x="3215" y="341"/>
                    </a:lnTo>
                    <a:lnTo>
                      <a:pt x="3233" y="363"/>
                    </a:lnTo>
                    <a:lnTo>
                      <a:pt x="3247" y="386"/>
                    </a:lnTo>
                    <a:lnTo>
                      <a:pt x="3258" y="410"/>
                    </a:lnTo>
                    <a:lnTo>
                      <a:pt x="3265" y="433"/>
                    </a:lnTo>
                    <a:lnTo>
                      <a:pt x="3267" y="4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111040" y="6521400"/>
                <a:ext cx="359280" cy="111600"/>
              </a:xfrm>
              <a:custGeom>
                <a:avLst/>
                <a:gdLst/>
                <a:ahLst/>
                <a:rect l="l" t="t" r="r" b="b"/>
                <a:pathLst>
                  <a:path w="3264" h="931">
                    <a:moveTo>
                      <a:pt x="3264" y="458"/>
                    </a:moveTo>
                    <a:lnTo>
                      <a:pt x="3260" y="482"/>
                    </a:lnTo>
                    <a:lnTo>
                      <a:pt x="3254" y="506"/>
                    </a:lnTo>
                    <a:lnTo>
                      <a:pt x="3244" y="529"/>
                    </a:lnTo>
                    <a:lnTo>
                      <a:pt x="3230" y="553"/>
                    </a:lnTo>
                    <a:lnTo>
                      <a:pt x="3212" y="576"/>
                    </a:lnTo>
                    <a:lnTo>
                      <a:pt x="3190" y="598"/>
                    </a:lnTo>
                    <a:lnTo>
                      <a:pt x="3164" y="620"/>
                    </a:lnTo>
                    <a:lnTo>
                      <a:pt x="3135" y="641"/>
                    </a:lnTo>
                    <a:lnTo>
                      <a:pt x="3102" y="663"/>
                    </a:lnTo>
                    <a:lnTo>
                      <a:pt x="3067" y="684"/>
                    </a:lnTo>
                    <a:lnTo>
                      <a:pt x="3027" y="703"/>
                    </a:lnTo>
                    <a:lnTo>
                      <a:pt x="2985" y="722"/>
                    </a:lnTo>
                    <a:lnTo>
                      <a:pt x="2939" y="741"/>
                    </a:lnTo>
                    <a:lnTo>
                      <a:pt x="2891" y="758"/>
                    </a:lnTo>
                    <a:lnTo>
                      <a:pt x="2839" y="777"/>
                    </a:lnTo>
                    <a:lnTo>
                      <a:pt x="2785" y="793"/>
                    </a:lnTo>
                    <a:lnTo>
                      <a:pt x="2728" y="808"/>
                    </a:lnTo>
                    <a:lnTo>
                      <a:pt x="2670" y="823"/>
                    </a:lnTo>
                    <a:lnTo>
                      <a:pt x="2608" y="837"/>
                    </a:lnTo>
                    <a:lnTo>
                      <a:pt x="2543" y="850"/>
                    </a:lnTo>
                    <a:lnTo>
                      <a:pt x="2478" y="862"/>
                    </a:lnTo>
                    <a:lnTo>
                      <a:pt x="2409" y="875"/>
                    </a:lnTo>
                    <a:lnTo>
                      <a:pt x="2338" y="885"/>
                    </a:lnTo>
                    <a:lnTo>
                      <a:pt x="2267" y="894"/>
                    </a:lnTo>
                    <a:lnTo>
                      <a:pt x="2193" y="903"/>
                    </a:lnTo>
                    <a:lnTo>
                      <a:pt x="2116" y="910"/>
                    </a:lnTo>
                    <a:lnTo>
                      <a:pt x="2039" y="917"/>
                    </a:lnTo>
                    <a:lnTo>
                      <a:pt x="1961" y="922"/>
                    </a:lnTo>
                    <a:lnTo>
                      <a:pt x="1880" y="926"/>
                    </a:lnTo>
                    <a:lnTo>
                      <a:pt x="1798" y="929"/>
                    </a:lnTo>
                    <a:lnTo>
                      <a:pt x="1715" y="931"/>
                    </a:lnTo>
                    <a:lnTo>
                      <a:pt x="1631" y="931"/>
                    </a:lnTo>
                    <a:lnTo>
                      <a:pt x="1548" y="931"/>
                    </a:lnTo>
                    <a:lnTo>
                      <a:pt x="1465" y="929"/>
                    </a:lnTo>
                    <a:lnTo>
                      <a:pt x="1383" y="926"/>
                    </a:lnTo>
                    <a:lnTo>
                      <a:pt x="1302" y="922"/>
                    </a:lnTo>
                    <a:lnTo>
                      <a:pt x="1223" y="917"/>
                    </a:lnTo>
                    <a:lnTo>
                      <a:pt x="1147" y="910"/>
                    </a:lnTo>
                    <a:lnTo>
                      <a:pt x="1071" y="903"/>
                    </a:lnTo>
                    <a:lnTo>
                      <a:pt x="996" y="894"/>
                    </a:lnTo>
                    <a:lnTo>
                      <a:pt x="925" y="885"/>
                    </a:lnTo>
                    <a:lnTo>
                      <a:pt x="854" y="875"/>
                    </a:lnTo>
                    <a:lnTo>
                      <a:pt x="785" y="862"/>
                    </a:lnTo>
                    <a:lnTo>
                      <a:pt x="719" y="850"/>
                    </a:lnTo>
                    <a:lnTo>
                      <a:pt x="655" y="837"/>
                    </a:lnTo>
                    <a:lnTo>
                      <a:pt x="593" y="823"/>
                    </a:lnTo>
                    <a:lnTo>
                      <a:pt x="535" y="808"/>
                    </a:lnTo>
                    <a:lnTo>
                      <a:pt x="478" y="793"/>
                    </a:lnTo>
                    <a:lnTo>
                      <a:pt x="424" y="777"/>
                    </a:lnTo>
                    <a:lnTo>
                      <a:pt x="372" y="758"/>
                    </a:lnTo>
                    <a:lnTo>
                      <a:pt x="325" y="741"/>
                    </a:lnTo>
                    <a:lnTo>
                      <a:pt x="278" y="722"/>
                    </a:lnTo>
                    <a:lnTo>
                      <a:pt x="236" y="703"/>
                    </a:lnTo>
                    <a:lnTo>
                      <a:pt x="197" y="684"/>
                    </a:lnTo>
                    <a:lnTo>
                      <a:pt x="161" y="663"/>
                    </a:lnTo>
                    <a:lnTo>
                      <a:pt x="129" y="641"/>
                    </a:lnTo>
                    <a:lnTo>
                      <a:pt x="99" y="620"/>
                    </a:lnTo>
                    <a:lnTo>
                      <a:pt x="73" y="598"/>
                    </a:lnTo>
                    <a:lnTo>
                      <a:pt x="51" y="576"/>
                    </a:lnTo>
                    <a:lnTo>
                      <a:pt x="33" y="553"/>
                    </a:lnTo>
                    <a:lnTo>
                      <a:pt x="19" y="529"/>
                    </a:lnTo>
                    <a:lnTo>
                      <a:pt x="8" y="506"/>
                    </a:lnTo>
                    <a:lnTo>
                      <a:pt x="2" y="482"/>
                    </a:lnTo>
                    <a:lnTo>
                      <a:pt x="0" y="458"/>
                    </a:lnTo>
                    <a:lnTo>
                      <a:pt x="2" y="432"/>
                    </a:lnTo>
                    <a:lnTo>
                      <a:pt x="8" y="409"/>
                    </a:lnTo>
                    <a:lnTo>
                      <a:pt x="19" y="385"/>
                    </a:lnTo>
                    <a:lnTo>
                      <a:pt x="33" y="363"/>
                    </a:lnTo>
                    <a:lnTo>
                      <a:pt x="51" y="340"/>
                    </a:lnTo>
                    <a:lnTo>
                      <a:pt x="73" y="318"/>
                    </a:lnTo>
                    <a:lnTo>
                      <a:pt x="99" y="296"/>
                    </a:lnTo>
                    <a:lnTo>
                      <a:pt x="129" y="275"/>
                    </a:lnTo>
                    <a:lnTo>
                      <a:pt x="161" y="255"/>
                    </a:lnTo>
                    <a:lnTo>
                      <a:pt x="197" y="236"/>
                    </a:lnTo>
                    <a:lnTo>
                      <a:pt x="236" y="216"/>
                    </a:lnTo>
                    <a:lnTo>
                      <a:pt x="278" y="197"/>
                    </a:lnTo>
                    <a:lnTo>
                      <a:pt x="325" y="180"/>
                    </a:lnTo>
                    <a:lnTo>
                      <a:pt x="372" y="163"/>
                    </a:lnTo>
                    <a:lnTo>
                      <a:pt x="424" y="147"/>
                    </a:lnTo>
                    <a:lnTo>
                      <a:pt x="478" y="131"/>
                    </a:lnTo>
                    <a:lnTo>
                      <a:pt x="535" y="115"/>
                    </a:lnTo>
                    <a:lnTo>
                      <a:pt x="593" y="101"/>
                    </a:lnTo>
                    <a:lnTo>
                      <a:pt x="655" y="88"/>
                    </a:lnTo>
                    <a:lnTo>
                      <a:pt x="719" y="76"/>
                    </a:lnTo>
                    <a:lnTo>
                      <a:pt x="785" y="65"/>
                    </a:lnTo>
                    <a:lnTo>
                      <a:pt x="854" y="54"/>
                    </a:lnTo>
                    <a:lnTo>
                      <a:pt x="925" y="44"/>
                    </a:lnTo>
                    <a:lnTo>
                      <a:pt x="996" y="35"/>
                    </a:lnTo>
                    <a:lnTo>
                      <a:pt x="1071" y="28"/>
                    </a:lnTo>
                    <a:lnTo>
                      <a:pt x="1147" y="21"/>
                    </a:lnTo>
                    <a:lnTo>
                      <a:pt x="1223" y="15"/>
                    </a:lnTo>
                    <a:lnTo>
                      <a:pt x="1302" y="9"/>
                    </a:lnTo>
                    <a:lnTo>
                      <a:pt x="1383" y="5"/>
                    </a:lnTo>
                    <a:lnTo>
                      <a:pt x="1465" y="2"/>
                    </a:lnTo>
                    <a:lnTo>
                      <a:pt x="1548" y="1"/>
                    </a:lnTo>
                    <a:lnTo>
                      <a:pt x="1631" y="0"/>
                    </a:lnTo>
                    <a:lnTo>
                      <a:pt x="1715" y="1"/>
                    </a:lnTo>
                    <a:lnTo>
                      <a:pt x="1798" y="2"/>
                    </a:lnTo>
                    <a:lnTo>
                      <a:pt x="1880" y="5"/>
                    </a:lnTo>
                    <a:lnTo>
                      <a:pt x="1961" y="9"/>
                    </a:lnTo>
                    <a:lnTo>
                      <a:pt x="2039" y="15"/>
                    </a:lnTo>
                    <a:lnTo>
                      <a:pt x="2116" y="21"/>
                    </a:lnTo>
                    <a:lnTo>
                      <a:pt x="2193" y="28"/>
                    </a:lnTo>
                    <a:lnTo>
                      <a:pt x="2267" y="35"/>
                    </a:lnTo>
                    <a:lnTo>
                      <a:pt x="2338" y="44"/>
                    </a:lnTo>
                    <a:lnTo>
                      <a:pt x="2409" y="54"/>
                    </a:lnTo>
                    <a:lnTo>
                      <a:pt x="2478" y="65"/>
                    </a:lnTo>
                    <a:lnTo>
                      <a:pt x="2543" y="76"/>
                    </a:lnTo>
                    <a:lnTo>
                      <a:pt x="2608" y="88"/>
                    </a:lnTo>
                    <a:lnTo>
                      <a:pt x="2670" y="101"/>
                    </a:lnTo>
                    <a:lnTo>
                      <a:pt x="2728" y="115"/>
                    </a:lnTo>
                    <a:lnTo>
                      <a:pt x="2785" y="131"/>
                    </a:lnTo>
                    <a:lnTo>
                      <a:pt x="2839" y="147"/>
                    </a:lnTo>
                    <a:lnTo>
                      <a:pt x="2891" y="163"/>
                    </a:lnTo>
                    <a:lnTo>
                      <a:pt x="2939" y="180"/>
                    </a:lnTo>
                    <a:lnTo>
                      <a:pt x="2985" y="197"/>
                    </a:lnTo>
                    <a:lnTo>
                      <a:pt x="3027" y="216"/>
                    </a:lnTo>
                    <a:lnTo>
                      <a:pt x="3067" y="236"/>
                    </a:lnTo>
                    <a:lnTo>
                      <a:pt x="3102" y="255"/>
                    </a:lnTo>
                    <a:lnTo>
                      <a:pt x="3135" y="275"/>
                    </a:lnTo>
                    <a:lnTo>
                      <a:pt x="3164" y="296"/>
                    </a:lnTo>
                    <a:lnTo>
                      <a:pt x="3190" y="318"/>
                    </a:lnTo>
                    <a:lnTo>
                      <a:pt x="3212" y="340"/>
                    </a:lnTo>
                    <a:lnTo>
                      <a:pt x="3230" y="363"/>
                    </a:lnTo>
                    <a:lnTo>
                      <a:pt x="3244" y="385"/>
                    </a:lnTo>
                    <a:lnTo>
                      <a:pt x="3254" y="409"/>
                    </a:lnTo>
                    <a:lnTo>
                      <a:pt x="3260" y="432"/>
                    </a:lnTo>
                    <a:lnTo>
                      <a:pt x="3264" y="4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111040" y="6522840"/>
                <a:ext cx="359280" cy="110160"/>
              </a:xfrm>
              <a:custGeom>
                <a:avLst/>
                <a:gdLst/>
                <a:ahLst/>
                <a:rect l="l" t="t" r="r" b="b"/>
                <a:pathLst>
                  <a:path w="3260" h="930">
                    <a:moveTo>
                      <a:pt x="3260" y="457"/>
                    </a:moveTo>
                    <a:lnTo>
                      <a:pt x="3258" y="481"/>
                    </a:lnTo>
                    <a:lnTo>
                      <a:pt x="3252" y="505"/>
                    </a:lnTo>
                    <a:lnTo>
                      <a:pt x="3241" y="528"/>
                    </a:lnTo>
                    <a:lnTo>
                      <a:pt x="3227" y="552"/>
                    </a:lnTo>
                    <a:lnTo>
                      <a:pt x="3209" y="575"/>
                    </a:lnTo>
                    <a:lnTo>
                      <a:pt x="3188" y="597"/>
                    </a:lnTo>
                    <a:lnTo>
                      <a:pt x="3162" y="619"/>
                    </a:lnTo>
                    <a:lnTo>
                      <a:pt x="3132" y="640"/>
                    </a:lnTo>
                    <a:lnTo>
                      <a:pt x="3100" y="662"/>
                    </a:lnTo>
                    <a:lnTo>
                      <a:pt x="3064" y="682"/>
                    </a:lnTo>
                    <a:lnTo>
                      <a:pt x="3024" y="702"/>
                    </a:lnTo>
                    <a:lnTo>
                      <a:pt x="2982" y="721"/>
                    </a:lnTo>
                    <a:lnTo>
                      <a:pt x="2936" y="739"/>
                    </a:lnTo>
                    <a:lnTo>
                      <a:pt x="2889" y="757"/>
                    </a:lnTo>
                    <a:lnTo>
                      <a:pt x="2837" y="775"/>
                    </a:lnTo>
                    <a:lnTo>
                      <a:pt x="2783" y="791"/>
                    </a:lnTo>
                    <a:lnTo>
                      <a:pt x="2726" y="807"/>
                    </a:lnTo>
                    <a:lnTo>
                      <a:pt x="2668" y="821"/>
                    </a:lnTo>
                    <a:lnTo>
                      <a:pt x="2606" y="835"/>
                    </a:lnTo>
                    <a:lnTo>
                      <a:pt x="2541" y="848"/>
                    </a:lnTo>
                    <a:lnTo>
                      <a:pt x="2476" y="861"/>
                    </a:lnTo>
                    <a:lnTo>
                      <a:pt x="2407" y="873"/>
                    </a:lnTo>
                    <a:lnTo>
                      <a:pt x="2337" y="883"/>
                    </a:lnTo>
                    <a:lnTo>
                      <a:pt x="2265" y="893"/>
                    </a:lnTo>
                    <a:lnTo>
                      <a:pt x="2191" y="901"/>
                    </a:lnTo>
                    <a:lnTo>
                      <a:pt x="2115" y="908"/>
                    </a:lnTo>
                    <a:lnTo>
                      <a:pt x="2037" y="915"/>
                    </a:lnTo>
                    <a:lnTo>
                      <a:pt x="1959" y="920"/>
                    </a:lnTo>
                    <a:lnTo>
                      <a:pt x="1879" y="924"/>
                    </a:lnTo>
                    <a:lnTo>
                      <a:pt x="1797" y="927"/>
                    </a:lnTo>
                    <a:lnTo>
                      <a:pt x="1714" y="929"/>
                    </a:lnTo>
                    <a:lnTo>
                      <a:pt x="1630" y="930"/>
                    </a:lnTo>
                    <a:lnTo>
                      <a:pt x="1547" y="929"/>
                    </a:lnTo>
                    <a:lnTo>
                      <a:pt x="1464" y="927"/>
                    </a:lnTo>
                    <a:lnTo>
                      <a:pt x="1382" y="924"/>
                    </a:lnTo>
                    <a:lnTo>
                      <a:pt x="1302" y="920"/>
                    </a:lnTo>
                    <a:lnTo>
                      <a:pt x="1223" y="915"/>
                    </a:lnTo>
                    <a:lnTo>
                      <a:pt x="1146" y="908"/>
                    </a:lnTo>
                    <a:lnTo>
                      <a:pt x="1070" y="901"/>
                    </a:lnTo>
                    <a:lnTo>
                      <a:pt x="996" y="893"/>
                    </a:lnTo>
                    <a:lnTo>
                      <a:pt x="924" y="883"/>
                    </a:lnTo>
                    <a:lnTo>
                      <a:pt x="854" y="873"/>
                    </a:lnTo>
                    <a:lnTo>
                      <a:pt x="785" y="861"/>
                    </a:lnTo>
                    <a:lnTo>
                      <a:pt x="719" y="848"/>
                    </a:lnTo>
                    <a:lnTo>
                      <a:pt x="655" y="835"/>
                    </a:lnTo>
                    <a:lnTo>
                      <a:pt x="593" y="821"/>
                    </a:lnTo>
                    <a:lnTo>
                      <a:pt x="535" y="807"/>
                    </a:lnTo>
                    <a:lnTo>
                      <a:pt x="478" y="791"/>
                    </a:lnTo>
                    <a:lnTo>
                      <a:pt x="424" y="775"/>
                    </a:lnTo>
                    <a:lnTo>
                      <a:pt x="373" y="757"/>
                    </a:lnTo>
                    <a:lnTo>
                      <a:pt x="325" y="739"/>
                    </a:lnTo>
                    <a:lnTo>
                      <a:pt x="279" y="721"/>
                    </a:lnTo>
                    <a:lnTo>
                      <a:pt x="237" y="702"/>
                    </a:lnTo>
                    <a:lnTo>
                      <a:pt x="197" y="682"/>
                    </a:lnTo>
                    <a:lnTo>
                      <a:pt x="161" y="662"/>
                    </a:lnTo>
                    <a:lnTo>
                      <a:pt x="129" y="640"/>
                    </a:lnTo>
                    <a:lnTo>
                      <a:pt x="99" y="619"/>
                    </a:lnTo>
                    <a:lnTo>
                      <a:pt x="74" y="597"/>
                    </a:lnTo>
                    <a:lnTo>
                      <a:pt x="52" y="575"/>
                    </a:lnTo>
                    <a:lnTo>
                      <a:pt x="34" y="552"/>
                    </a:lnTo>
                    <a:lnTo>
                      <a:pt x="20" y="528"/>
                    </a:lnTo>
                    <a:lnTo>
                      <a:pt x="9" y="505"/>
                    </a:lnTo>
                    <a:lnTo>
                      <a:pt x="2" y="481"/>
                    </a:lnTo>
                    <a:lnTo>
                      <a:pt x="0" y="457"/>
                    </a:lnTo>
                    <a:lnTo>
                      <a:pt x="2" y="432"/>
                    </a:lnTo>
                    <a:lnTo>
                      <a:pt x="9" y="408"/>
                    </a:lnTo>
                    <a:lnTo>
                      <a:pt x="20" y="385"/>
                    </a:lnTo>
                    <a:lnTo>
                      <a:pt x="34" y="362"/>
                    </a:lnTo>
                    <a:lnTo>
                      <a:pt x="52" y="340"/>
                    </a:lnTo>
                    <a:lnTo>
                      <a:pt x="74" y="317"/>
                    </a:lnTo>
                    <a:lnTo>
                      <a:pt x="99" y="296"/>
                    </a:lnTo>
                    <a:lnTo>
                      <a:pt x="129" y="275"/>
                    </a:lnTo>
                    <a:lnTo>
                      <a:pt x="161" y="255"/>
                    </a:lnTo>
                    <a:lnTo>
                      <a:pt x="197" y="235"/>
                    </a:lnTo>
                    <a:lnTo>
                      <a:pt x="237" y="215"/>
                    </a:lnTo>
                    <a:lnTo>
                      <a:pt x="279" y="197"/>
                    </a:lnTo>
                    <a:lnTo>
                      <a:pt x="325" y="179"/>
                    </a:lnTo>
                    <a:lnTo>
                      <a:pt x="373" y="162"/>
                    </a:lnTo>
                    <a:lnTo>
                      <a:pt x="424" y="146"/>
                    </a:lnTo>
                    <a:lnTo>
                      <a:pt x="478" y="131"/>
                    </a:lnTo>
                    <a:lnTo>
                      <a:pt x="535" y="115"/>
                    </a:lnTo>
                    <a:lnTo>
                      <a:pt x="593" y="101"/>
                    </a:lnTo>
                    <a:lnTo>
                      <a:pt x="655" y="88"/>
                    </a:lnTo>
                    <a:lnTo>
                      <a:pt x="719" y="76"/>
                    </a:lnTo>
                    <a:lnTo>
                      <a:pt x="785" y="64"/>
                    </a:lnTo>
                    <a:lnTo>
                      <a:pt x="854" y="54"/>
                    </a:lnTo>
                    <a:lnTo>
                      <a:pt x="924" y="44"/>
                    </a:lnTo>
                    <a:lnTo>
                      <a:pt x="996" y="35"/>
                    </a:lnTo>
                    <a:lnTo>
                      <a:pt x="1070" y="27"/>
                    </a:lnTo>
                    <a:lnTo>
                      <a:pt x="1146" y="21"/>
                    </a:lnTo>
                    <a:lnTo>
                      <a:pt x="1223" y="15"/>
                    </a:lnTo>
                    <a:lnTo>
                      <a:pt x="1302" y="9"/>
                    </a:lnTo>
                    <a:lnTo>
                      <a:pt x="1382" y="5"/>
                    </a:lnTo>
                    <a:lnTo>
                      <a:pt x="1464" y="2"/>
                    </a:lnTo>
                    <a:lnTo>
                      <a:pt x="1547" y="1"/>
                    </a:lnTo>
                    <a:lnTo>
                      <a:pt x="1630" y="0"/>
                    </a:lnTo>
                    <a:lnTo>
                      <a:pt x="1714" y="1"/>
                    </a:lnTo>
                    <a:lnTo>
                      <a:pt x="1797" y="2"/>
                    </a:lnTo>
                    <a:lnTo>
                      <a:pt x="1879" y="5"/>
                    </a:lnTo>
                    <a:lnTo>
                      <a:pt x="1959" y="9"/>
                    </a:lnTo>
                    <a:lnTo>
                      <a:pt x="2037" y="15"/>
                    </a:lnTo>
                    <a:lnTo>
                      <a:pt x="2115" y="21"/>
                    </a:lnTo>
                    <a:lnTo>
                      <a:pt x="2191" y="27"/>
                    </a:lnTo>
                    <a:lnTo>
                      <a:pt x="2265" y="35"/>
                    </a:lnTo>
                    <a:lnTo>
                      <a:pt x="2337" y="44"/>
                    </a:lnTo>
                    <a:lnTo>
                      <a:pt x="2407" y="54"/>
                    </a:lnTo>
                    <a:lnTo>
                      <a:pt x="2476" y="64"/>
                    </a:lnTo>
                    <a:lnTo>
                      <a:pt x="2541" y="76"/>
                    </a:lnTo>
                    <a:lnTo>
                      <a:pt x="2606" y="88"/>
                    </a:lnTo>
                    <a:lnTo>
                      <a:pt x="2668" y="101"/>
                    </a:lnTo>
                    <a:lnTo>
                      <a:pt x="2726" y="115"/>
                    </a:lnTo>
                    <a:lnTo>
                      <a:pt x="2783" y="131"/>
                    </a:lnTo>
                    <a:lnTo>
                      <a:pt x="2837" y="146"/>
                    </a:lnTo>
                    <a:lnTo>
                      <a:pt x="2889" y="162"/>
                    </a:lnTo>
                    <a:lnTo>
                      <a:pt x="2936" y="179"/>
                    </a:lnTo>
                    <a:lnTo>
                      <a:pt x="2982" y="197"/>
                    </a:lnTo>
                    <a:lnTo>
                      <a:pt x="3024" y="215"/>
                    </a:lnTo>
                    <a:lnTo>
                      <a:pt x="3064" y="235"/>
                    </a:lnTo>
                    <a:lnTo>
                      <a:pt x="3100" y="255"/>
                    </a:lnTo>
                    <a:lnTo>
                      <a:pt x="3132" y="275"/>
                    </a:lnTo>
                    <a:lnTo>
                      <a:pt x="3162" y="296"/>
                    </a:lnTo>
                    <a:lnTo>
                      <a:pt x="3188" y="317"/>
                    </a:lnTo>
                    <a:lnTo>
                      <a:pt x="3209" y="340"/>
                    </a:lnTo>
                    <a:lnTo>
                      <a:pt x="3227" y="362"/>
                    </a:lnTo>
                    <a:lnTo>
                      <a:pt x="3241" y="385"/>
                    </a:lnTo>
                    <a:lnTo>
                      <a:pt x="3252" y="408"/>
                    </a:lnTo>
                    <a:lnTo>
                      <a:pt x="3258" y="432"/>
                    </a:lnTo>
                    <a:lnTo>
                      <a:pt x="3260" y="4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111040" y="6522840"/>
                <a:ext cx="359280" cy="110160"/>
              </a:xfrm>
              <a:custGeom>
                <a:avLst/>
                <a:gdLst/>
                <a:ahLst/>
                <a:rect l="l" t="t" r="r" b="b"/>
                <a:pathLst>
                  <a:path w="3258" h="928">
                    <a:moveTo>
                      <a:pt x="3258" y="456"/>
                    </a:moveTo>
                    <a:lnTo>
                      <a:pt x="3256" y="480"/>
                    </a:lnTo>
                    <a:lnTo>
                      <a:pt x="3249" y="503"/>
                    </a:lnTo>
                    <a:lnTo>
                      <a:pt x="3239" y="527"/>
                    </a:lnTo>
                    <a:lnTo>
                      <a:pt x="3225" y="551"/>
                    </a:lnTo>
                    <a:lnTo>
                      <a:pt x="3207" y="574"/>
                    </a:lnTo>
                    <a:lnTo>
                      <a:pt x="3185" y="596"/>
                    </a:lnTo>
                    <a:lnTo>
                      <a:pt x="3160" y="618"/>
                    </a:lnTo>
                    <a:lnTo>
                      <a:pt x="3130" y="639"/>
                    </a:lnTo>
                    <a:lnTo>
                      <a:pt x="3098" y="661"/>
                    </a:lnTo>
                    <a:lnTo>
                      <a:pt x="3062" y="681"/>
                    </a:lnTo>
                    <a:lnTo>
                      <a:pt x="3022" y="700"/>
                    </a:lnTo>
                    <a:lnTo>
                      <a:pt x="2980" y="719"/>
                    </a:lnTo>
                    <a:lnTo>
                      <a:pt x="2934" y="738"/>
                    </a:lnTo>
                    <a:lnTo>
                      <a:pt x="2886" y="755"/>
                    </a:lnTo>
                    <a:lnTo>
                      <a:pt x="2835" y="773"/>
                    </a:lnTo>
                    <a:lnTo>
                      <a:pt x="2781" y="790"/>
                    </a:lnTo>
                    <a:lnTo>
                      <a:pt x="2724" y="805"/>
                    </a:lnTo>
                    <a:lnTo>
                      <a:pt x="2666" y="820"/>
                    </a:lnTo>
                    <a:lnTo>
                      <a:pt x="2604" y="834"/>
                    </a:lnTo>
                    <a:lnTo>
                      <a:pt x="2540" y="847"/>
                    </a:lnTo>
                    <a:lnTo>
                      <a:pt x="2474" y="859"/>
                    </a:lnTo>
                    <a:lnTo>
                      <a:pt x="2406" y="871"/>
                    </a:lnTo>
                    <a:lnTo>
                      <a:pt x="2335" y="881"/>
                    </a:lnTo>
                    <a:lnTo>
                      <a:pt x="2264" y="891"/>
                    </a:lnTo>
                    <a:lnTo>
                      <a:pt x="2190" y="899"/>
                    </a:lnTo>
                    <a:lnTo>
                      <a:pt x="2114" y="907"/>
                    </a:lnTo>
                    <a:lnTo>
                      <a:pt x="2036" y="913"/>
                    </a:lnTo>
                    <a:lnTo>
                      <a:pt x="1958" y="918"/>
                    </a:lnTo>
                    <a:lnTo>
                      <a:pt x="1878" y="922"/>
                    </a:lnTo>
                    <a:lnTo>
                      <a:pt x="1796" y="925"/>
                    </a:lnTo>
                    <a:lnTo>
                      <a:pt x="1713" y="927"/>
                    </a:lnTo>
                    <a:lnTo>
                      <a:pt x="1629" y="928"/>
                    </a:lnTo>
                    <a:lnTo>
                      <a:pt x="1546" y="927"/>
                    </a:lnTo>
                    <a:lnTo>
                      <a:pt x="1463" y="925"/>
                    </a:lnTo>
                    <a:lnTo>
                      <a:pt x="1381" y="922"/>
                    </a:lnTo>
                    <a:lnTo>
                      <a:pt x="1301" y="918"/>
                    </a:lnTo>
                    <a:lnTo>
                      <a:pt x="1222" y="913"/>
                    </a:lnTo>
                    <a:lnTo>
                      <a:pt x="1146" y="907"/>
                    </a:lnTo>
                    <a:lnTo>
                      <a:pt x="1070" y="899"/>
                    </a:lnTo>
                    <a:lnTo>
                      <a:pt x="995" y="891"/>
                    </a:lnTo>
                    <a:lnTo>
                      <a:pt x="924" y="881"/>
                    </a:lnTo>
                    <a:lnTo>
                      <a:pt x="853" y="871"/>
                    </a:lnTo>
                    <a:lnTo>
                      <a:pt x="785" y="859"/>
                    </a:lnTo>
                    <a:lnTo>
                      <a:pt x="718" y="847"/>
                    </a:lnTo>
                    <a:lnTo>
                      <a:pt x="655" y="834"/>
                    </a:lnTo>
                    <a:lnTo>
                      <a:pt x="593" y="820"/>
                    </a:lnTo>
                    <a:lnTo>
                      <a:pt x="535" y="805"/>
                    </a:lnTo>
                    <a:lnTo>
                      <a:pt x="478" y="790"/>
                    </a:lnTo>
                    <a:lnTo>
                      <a:pt x="424" y="773"/>
                    </a:lnTo>
                    <a:lnTo>
                      <a:pt x="373" y="755"/>
                    </a:lnTo>
                    <a:lnTo>
                      <a:pt x="325" y="738"/>
                    </a:lnTo>
                    <a:lnTo>
                      <a:pt x="279" y="719"/>
                    </a:lnTo>
                    <a:lnTo>
                      <a:pt x="237" y="700"/>
                    </a:lnTo>
                    <a:lnTo>
                      <a:pt x="197" y="681"/>
                    </a:lnTo>
                    <a:lnTo>
                      <a:pt x="161" y="661"/>
                    </a:lnTo>
                    <a:lnTo>
                      <a:pt x="129" y="639"/>
                    </a:lnTo>
                    <a:lnTo>
                      <a:pt x="99" y="618"/>
                    </a:lnTo>
                    <a:lnTo>
                      <a:pt x="74" y="596"/>
                    </a:lnTo>
                    <a:lnTo>
                      <a:pt x="52" y="574"/>
                    </a:lnTo>
                    <a:lnTo>
                      <a:pt x="34" y="551"/>
                    </a:lnTo>
                    <a:lnTo>
                      <a:pt x="20" y="527"/>
                    </a:lnTo>
                    <a:lnTo>
                      <a:pt x="10" y="503"/>
                    </a:lnTo>
                    <a:lnTo>
                      <a:pt x="3" y="480"/>
                    </a:lnTo>
                    <a:lnTo>
                      <a:pt x="0" y="456"/>
                    </a:lnTo>
                    <a:lnTo>
                      <a:pt x="3" y="431"/>
                    </a:lnTo>
                    <a:lnTo>
                      <a:pt x="10" y="407"/>
                    </a:lnTo>
                    <a:lnTo>
                      <a:pt x="20" y="384"/>
                    </a:lnTo>
                    <a:lnTo>
                      <a:pt x="34" y="361"/>
                    </a:lnTo>
                    <a:lnTo>
                      <a:pt x="52" y="339"/>
                    </a:lnTo>
                    <a:lnTo>
                      <a:pt x="74" y="316"/>
                    </a:lnTo>
                    <a:lnTo>
                      <a:pt x="99" y="295"/>
                    </a:lnTo>
                    <a:lnTo>
                      <a:pt x="129" y="274"/>
                    </a:lnTo>
                    <a:lnTo>
                      <a:pt x="161" y="254"/>
                    </a:lnTo>
                    <a:lnTo>
                      <a:pt x="197" y="235"/>
                    </a:lnTo>
                    <a:lnTo>
                      <a:pt x="237" y="215"/>
                    </a:lnTo>
                    <a:lnTo>
                      <a:pt x="279" y="196"/>
                    </a:lnTo>
                    <a:lnTo>
                      <a:pt x="325" y="179"/>
                    </a:lnTo>
                    <a:lnTo>
                      <a:pt x="373" y="162"/>
                    </a:lnTo>
                    <a:lnTo>
                      <a:pt x="424" y="146"/>
                    </a:lnTo>
                    <a:lnTo>
                      <a:pt x="478" y="130"/>
                    </a:lnTo>
                    <a:lnTo>
                      <a:pt x="535" y="115"/>
                    </a:lnTo>
                    <a:lnTo>
                      <a:pt x="593" y="101"/>
                    </a:lnTo>
                    <a:lnTo>
                      <a:pt x="655" y="88"/>
                    </a:lnTo>
                    <a:lnTo>
                      <a:pt x="718" y="76"/>
                    </a:lnTo>
                    <a:lnTo>
                      <a:pt x="785" y="64"/>
                    </a:lnTo>
                    <a:lnTo>
                      <a:pt x="853" y="54"/>
                    </a:lnTo>
                    <a:lnTo>
                      <a:pt x="924" y="44"/>
                    </a:lnTo>
                    <a:lnTo>
                      <a:pt x="995" y="35"/>
                    </a:lnTo>
                    <a:lnTo>
                      <a:pt x="1070" y="27"/>
                    </a:lnTo>
                    <a:lnTo>
                      <a:pt x="1146" y="21"/>
                    </a:lnTo>
                    <a:lnTo>
                      <a:pt x="1222" y="15"/>
                    </a:lnTo>
                    <a:lnTo>
                      <a:pt x="1301" y="9"/>
                    </a:lnTo>
                    <a:lnTo>
                      <a:pt x="1381" y="5"/>
                    </a:lnTo>
                    <a:lnTo>
                      <a:pt x="1463" y="2"/>
                    </a:lnTo>
                    <a:lnTo>
                      <a:pt x="1546" y="1"/>
                    </a:lnTo>
                    <a:lnTo>
                      <a:pt x="1629" y="0"/>
                    </a:lnTo>
                    <a:lnTo>
                      <a:pt x="1713" y="1"/>
                    </a:lnTo>
                    <a:lnTo>
                      <a:pt x="1796" y="2"/>
                    </a:lnTo>
                    <a:lnTo>
                      <a:pt x="1878" y="5"/>
                    </a:lnTo>
                    <a:lnTo>
                      <a:pt x="1958" y="9"/>
                    </a:lnTo>
                    <a:lnTo>
                      <a:pt x="2036" y="15"/>
                    </a:lnTo>
                    <a:lnTo>
                      <a:pt x="2114" y="21"/>
                    </a:lnTo>
                    <a:lnTo>
                      <a:pt x="2190" y="27"/>
                    </a:lnTo>
                    <a:lnTo>
                      <a:pt x="2264" y="35"/>
                    </a:lnTo>
                    <a:lnTo>
                      <a:pt x="2335" y="44"/>
                    </a:lnTo>
                    <a:lnTo>
                      <a:pt x="2406" y="54"/>
                    </a:lnTo>
                    <a:lnTo>
                      <a:pt x="2474" y="64"/>
                    </a:lnTo>
                    <a:lnTo>
                      <a:pt x="2540" y="76"/>
                    </a:lnTo>
                    <a:lnTo>
                      <a:pt x="2604" y="88"/>
                    </a:lnTo>
                    <a:lnTo>
                      <a:pt x="2666" y="101"/>
                    </a:lnTo>
                    <a:lnTo>
                      <a:pt x="2724" y="115"/>
                    </a:lnTo>
                    <a:lnTo>
                      <a:pt x="2781" y="130"/>
                    </a:lnTo>
                    <a:lnTo>
                      <a:pt x="2835" y="146"/>
                    </a:lnTo>
                    <a:lnTo>
                      <a:pt x="2886" y="162"/>
                    </a:lnTo>
                    <a:lnTo>
                      <a:pt x="2934" y="179"/>
                    </a:lnTo>
                    <a:lnTo>
                      <a:pt x="2980" y="196"/>
                    </a:lnTo>
                    <a:lnTo>
                      <a:pt x="3022" y="215"/>
                    </a:lnTo>
                    <a:lnTo>
                      <a:pt x="3062" y="235"/>
                    </a:lnTo>
                    <a:lnTo>
                      <a:pt x="3098" y="254"/>
                    </a:lnTo>
                    <a:lnTo>
                      <a:pt x="3130" y="274"/>
                    </a:lnTo>
                    <a:lnTo>
                      <a:pt x="3160" y="295"/>
                    </a:lnTo>
                    <a:lnTo>
                      <a:pt x="3185" y="316"/>
                    </a:lnTo>
                    <a:lnTo>
                      <a:pt x="3207" y="339"/>
                    </a:lnTo>
                    <a:lnTo>
                      <a:pt x="3225" y="361"/>
                    </a:lnTo>
                    <a:lnTo>
                      <a:pt x="3239" y="384"/>
                    </a:lnTo>
                    <a:lnTo>
                      <a:pt x="3249" y="407"/>
                    </a:lnTo>
                    <a:lnTo>
                      <a:pt x="3256" y="431"/>
                    </a:lnTo>
                    <a:lnTo>
                      <a:pt x="3258" y="4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111040" y="6522840"/>
                <a:ext cx="359280" cy="110160"/>
              </a:xfrm>
              <a:custGeom>
                <a:avLst/>
                <a:gdLst/>
                <a:ahLst/>
                <a:rect l="l" t="t" r="r" b="b"/>
                <a:pathLst>
                  <a:path w="3254" h="926">
                    <a:moveTo>
                      <a:pt x="3254" y="455"/>
                    </a:moveTo>
                    <a:lnTo>
                      <a:pt x="3252" y="479"/>
                    </a:lnTo>
                    <a:lnTo>
                      <a:pt x="3246" y="502"/>
                    </a:lnTo>
                    <a:lnTo>
                      <a:pt x="3236" y="526"/>
                    </a:lnTo>
                    <a:lnTo>
                      <a:pt x="3222" y="550"/>
                    </a:lnTo>
                    <a:lnTo>
                      <a:pt x="3204" y="572"/>
                    </a:lnTo>
                    <a:lnTo>
                      <a:pt x="3182" y="594"/>
                    </a:lnTo>
                    <a:lnTo>
                      <a:pt x="3155" y="616"/>
                    </a:lnTo>
                    <a:lnTo>
                      <a:pt x="3127" y="637"/>
                    </a:lnTo>
                    <a:lnTo>
                      <a:pt x="3094" y="659"/>
                    </a:lnTo>
                    <a:lnTo>
                      <a:pt x="3059" y="679"/>
                    </a:lnTo>
                    <a:lnTo>
                      <a:pt x="3019" y="699"/>
                    </a:lnTo>
                    <a:lnTo>
                      <a:pt x="2977" y="718"/>
                    </a:lnTo>
                    <a:lnTo>
                      <a:pt x="2931" y="736"/>
                    </a:lnTo>
                    <a:lnTo>
                      <a:pt x="2883" y="754"/>
                    </a:lnTo>
                    <a:lnTo>
                      <a:pt x="2832" y="772"/>
                    </a:lnTo>
                    <a:lnTo>
                      <a:pt x="2778" y="788"/>
                    </a:lnTo>
                    <a:lnTo>
                      <a:pt x="2721" y="803"/>
                    </a:lnTo>
                    <a:lnTo>
                      <a:pt x="2663" y="818"/>
                    </a:lnTo>
                    <a:lnTo>
                      <a:pt x="2601" y="832"/>
                    </a:lnTo>
                    <a:lnTo>
                      <a:pt x="2537" y="845"/>
                    </a:lnTo>
                    <a:lnTo>
                      <a:pt x="2472" y="857"/>
                    </a:lnTo>
                    <a:lnTo>
                      <a:pt x="2403" y="869"/>
                    </a:lnTo>
                    <a:lnTo>
                      <a:pt x="2333" y="880"/>
                    </a:lnTo>
                    <a:lnTo>
                      <a:pt x="2261" y="889"/>
                    </a:lnTo>
                    <a:lnTo>
                      <a:pt x="2187" y="897"/>
                    </a:lnTo>
                    <a:lnTo>
                      <a:pt x="2111" y="905"/>
                    </a:lnTo>
                    <a:lnTo>
                      <a:pt x="2034" y="911"/>
                    </a:lnTo>
                    <a:lnTo>
                      <a:pt x="1956" y="916"/>
                    </a:lnTo>
                    <a:lnTo>
                      <a:pt x="1875" y="920"/>
                    </a:lnTo>
                    <a:lnTo>
                      <a:pt x="1794" y="923"/>
                    </a:lnTo>
                    <a:lnTo>
                      <a:pt x="1711" y="925"/>
                    </a:lnTo>
                    <a:lnTo>
                      <a:pt x="1627" y="926"/>
                    </a:lnTo>
                    <a:lnTo>
                      <a:pt x="1544" y="925"/>
                    </a:lnTo>
                    <a:lnTo>
                      <a:pt x="1461" y="923"/>
                    </a:lnTo>
                    <a:lnTo>
                      <a:pt x="1380" y="920"/>
                    </a:lnTo>
                    <a:lnTo>
                      <a:pt x="1299" y="916"/>
                    </a:lnTo>
                    <a:lnTo>
                      <a:pt x="1220" y="911"/>
                    </a:lnTo>
                    <a:lnTo>
                      <a:pt x="1144" y="905"/>
                    </a:lnTo>
                    <a:lnTo>
                      <a:pt x="1068" y="897"/>
                    </a:lnTo>
                    <a:lnTo>
                      <a:pt x="994" y="889"/>
                    </a:lnTo>
                    <a:lnTo>
                      <a:pt x="923" y="880"/>
                    </a:lnTo>
                    <a:lnTo>
                      <a:pt x="852" y="869"/>
                    </a:lnTo>
                    <a:lnTo>
                      <a:pt x="784" y="857"/>
                    </a:lnTo>
                    <a:lnTo>
                      <a:pt x="718" y="845"/>
                    </a:lnTo>
                    <a:lnTo>
                      <a:pt x="654" y="832"/>
                    </a:lnTo>
                    <a:lnTo>
                      <a:pt x="592" y="818"/>
                    </a:lnTo>
                    <a:lnTo>
                      <a:pt x="534" y="803"/>
                    </a:lnTo>
                    <a:lnTo>
                      <a:pt x="477" y="788"/>
                    </a:lnTo>
                    <a:lnTo>
                      <a:pt x="423" y="772"/>
                    </a:lnTo>
                    <a:lnTo>
                      <a:pt x="372" y="754"/>
                    </a:lnTo>
                    <a:lnTo>
                      <a:pt x="324" y="736"/>
                    </a:lnTo>
                    <a:lnTo>
                      <a:pt x="278" y="718"/>
                    </a:lnTo>
                    <a:lnTo>
                      <a:pt x="236" y="699"/>
                    </a:lnTo>
                    <a:lnTo>
                      <a:pt x="196" y="679"/>
                    </a:lnTo>
                    <a:lnTo>
                      <a:pt x="161" y="659"/>
                    </a:lnTo>
                    <a:lnTo>
                      <a:pt x="128" y="637"/>
                    </a:lnTo>
                    <a:lnTo>
                      <a:pt x="99" y="616"/>
                    </a:lnTo>
                    <a:lnTo>
                      <a:pt x="73" y="594"/>
                    </a:lnTo>
                    <a:lnTo>
                      <a:pt x="52" y="572"/>
                    </a:lnTo>
                    <a:lnTo>
                      <a:pt x="34" y="550"/>
                    </a:lnTo>
                    <a:lnTo>
                      <a:pt x="19" y="526"/>
                    </a:lnTo>
                    <a:lnTo>
                      <a:pt x="9" y="502"/>
                    </a:lnTo>
                    <a:lnTo>
                      <a:pt x="2" y="479"/>
                    </a:lnTo>
                    <a:lnTo>
                      <a:pt x="0" y="455"/>
                    </a:lnTo>
                    <a:lnTo>
                      <a:pt x="2" y="430"/>
                    </a:lnTo>
                    <a:lnTo>
                      <a:pt x="9" y="406"/>
                    </a:lnTo>
                    <a:lnTo>
                      <a:pt x="19" y="383"/>
                    </a:lnTo>
                    <a:lnTo>
                      <a:pt x="34" y="360"/>
                    </a:lnTo>
                    <a:lnTo>
                      <a:pt x="52" y="338"/>
                    </a:lnTo>
                    <a:lnTo>
                      <a:pt x="73" y="315"/>
                    </a:lnTo>
                    <a:lnTo>
                      <a:pt x="99" y="294"/>
                    </a:lnTo>
                    <a:lnTo>
                      <a:pt x="128" y="274"/>
                    </a:lnTo>
                    <a:lnTo>
                      <a:pt x="161" y="254"/>
                    </a:lnTo>
                    <a:lnTo>
                      <a:pt x="196" y="234"/>
                    </a:lnTo>
                    <a:lnTo>
                      <a:pt x="236" y="214"/>
                    </a:lnTo>
                    <a:lnTo>
                      <a:pt x="278" y="196"/>
                    </a:lnTo>
                    <a:lnTo>
                      <a:pt x="324" y="178"/>
                    </a:lnTo>
                    <a:lnTo>
                      <a:pt x="372" y="162"/>
                    </a:lnTo>
                    <a:lnTo>
                      <a:pt x="423" y="145"/>
                    </a:lnTo>
                    <a:lnTo>
                      <a:pt x="477" y="130"/>
                    </a:lnTo>
                    <a:lnTo>
                      <a:pt x="534" y="114"/>
                    </a:lnTo>
                    <a:lnTo>
                      <a:pt x="592" y="101"/>
                    </a:lnTo>
                    <a:lnTo>
                      <a:pt x="654" y="88"/>
                    </a:lnTo>
                    <a:lnTo>
                      <a:pt x="718" y="75"/>
                    </a:lnTo>
                    <a:lnTo>
                      <a:pt x="784" y="64"/>
                    </a:lnTo>
                    <a:lnTo>
                      <a:pt x="852" y="53"/>
                    </a:lnTo>
                    <a:lnTo>
                      <a:pt x="923" y="44"/>
                    </a:lnTo>
                    <a:lnTo>
                      <a:pt x="994" y="35"/>
                    </a:lnTo>
                    <a:lnTo>
                      <a:pt x="1068" y="27"/>
                    </a:lnTo>
                    <a:lnTo>
                      <a:pt x="1144" y="20"/>
                    </a:lnTo>
                    <a:lnTo>
                      <a:pt x="1220" y="15"/>
                    </a:lnTo>
                    <a:lnTo>
                      <a:pt x="1299" y="9"/>
                    </a:lnTo>
                    <a:lnTo>
                      <a:pt x="1380" y="5"/>
                    </a:lnTo>
                    <a:lnTo>
                      <a:pt x="1461" y="2"/>
                    </a:lnTo>
                    <a:lnTo>
                      <a:pt x="1544" y="1"/>
                    </a:lnTo>
                    <a:lnTo>
                      <a:pt x="1627" y="0"/>
                    </a:lnTo>
                    <a:lnTo>
                      <a:pt x="1711" y="1"/>
                    </a:lnTo>
                    <a:lnTo>
                      <a:pt x="1794" y="2"/>
                    </a:lnTo>
                    <a:lnTo>
                      <a:pt x="1875" y="5"/>
                    </a:lnTo>
                    <a:lnTo>
                      <a:pt x="1956" y="9"/>
                    </a:lnTo>
                    <a:lnTo>
                      <a:pt x="2034" y="15"/>
                    </a:lnTo>
                    <a:lnTo>
                      <a:pt x="2111" y="20"/>
                    </a:lnTo>
                    <a:lnTo>
                      <a:pt x="2187" y="27"/>
                    </a:lnTo>
                    <a:lnTo>
                      <a:pt x="2261" y="35"/>
                    </a:lnTo>
                    <a:lnTo>
                      <a:pt x="2333" y="44"/>
                    </a:lnTo>
                    <a:lnTo>
                      <a:pt x="2403" y="53"/>
                    </a:lnTo>
                    <a:lnTo>
                      <a:pt x="2472" y="64"/>
                    </a:lnTo>
                    <a:lnTo>
                      <a:pt x="2537" y="75"/>
                    </a:lnTo>
                    <a:lnTo>
                      <a:pt x="2601" y="88"/>
                    </a:lnTo>
                    <a:lnTo>
                      <a:pt x="2663" y="101"/>
                    </a:lnTo>
                    <a:lnTo>
                      <a:pt x="2721" y="114"/>
                    </a:lnTo>
                    <a:lnTo>
                      <a:pt x="2778" y="130"/>
                    </a:lnTo>
                    <a:lnTo>
                      <a:pt x="2832" y="145"/>
                    </a:lnTo>
                    <a:lnTo>
                      <a:pt x="2883" y="162"/>
                    </a:lnTo>
                    <a:lnTo>
                      <a:pt x="2931" y="178"/>
                    </a:lnTo>
                    <a:lnTo>
                      <a:pt x="2977" y="196"/>
                    </a:lnTo>
                    <a:lnTo>
                      <a:pt x="3019" y="214"/>
                    </a:lnTo>
                    <a:lnTo>
                      <a:pt x="3059" y="234"/>
                    </a:lnTo>
                    <a:lnTo>
                      <a:pt x="3094" y="254"/>
                    </a:lnTo>
                    <a:lnTo>
                      <a:pt x="3127" y="274"/>
                    </a:lnTo>
                    <a:lnTo>
                      <a:pt x="3155" y="294"/>
                    </a:lnTo>
                    <a:lnTo>
                      <a:pt x="3182" y="315"/>
                    </a:lnTo>
                    <a:lnTo>
                      <a:pt x="3204" y="338"/>
                    </a:lnTo>
                    <a:lnTo>
                      <a:pt x="3222" y="360"/>
                    </a:lnTo>
                    <a:lnTo>
                      <a:pt x="3236" y="383"/>
                    </a:lnTo>
                    <a:lnTo>
                      <a:pt x="3246" y="406"/>
                    </a:lnTo>
                    <a:lnTo>
                      <a:pt x="3252" y="430"/>
                    </a:lnTo>
                    <a:lnTo>
                      <a:pt x="3254" y="4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111040" y="6522840"/>
                <a:ext cx="359280" cy="110160"/>
              </a:xfrm>
              <a:custGeom>
                <a:avLst/>
                <a:gdLst/>
                <a:ahLst/>
                <a:rect l="l" t="t" r="r" b="b"/>
                <a:pathLst>
                  <a:path w="3252" h="924">
                    <a:moveTo>
                      <a:pt x="3252" y="454"/>
                    </a:moveTo>
                    <a:lnTo>
                      <a:pt x="3250" y="478"/>
                    </a:lnTo>
                    <a:lnTo>
                      <a:pt x="3243" y="501"/>
                    </a:lnTo>
                    <a:lnTo>
                      <a:pt x="3233" y="525"/>
                    </a:lnTo>
                    <a:lnTo>
                      <a:pt x="3219" y="549"/>
                    </a:lnTo>
                    <a:lnTo>
                      <a:pt x="3201" y="571"/>
                    </a:lnTo>
                    <a:lnTo>
                      <a:pt x="3179" y="593"/>
                    </a:lnTo>
                    <a:lnTo>
                      <a:pt x="3153" y="615"/>
                    </a:lnTo>
                    <a:lnTo>
                      <a:pt x="3124" y="636"/>
                    </a:lnTo>
                    <a:lnTo>
                      <a:pt x="3092" y="658"/>
                    </a:lnTo>
                    <a:lnTo>
                      <a:pt x="3057" y="678"/>
                    </a:lnTo>
                    <a:lnTo>
                      <a:pt x="3017" y="697"/>
                    </a:lnTo>
                    <a:lnTo>
                      <a:pt x="2975" y="716"/>
                    </a:lnTo>
                    <a:lnTo>
                      <a:pt x="2929" y="735"/>
                    </a:lnTo>
                    <a:lnTo>
                      <a:pt x="2881" y="752"/>
                    </a:lnTo>
                    <a:lnTo>
                      <a:pt x="2830" y="770"/>
                    </a:lnTo>
                    <a:lnTo>
                      <a:pt x="2776" y="786"/>
                    </a:lnTo>
                    <a:lnTo>
                      <a:pt x="2719" y="802"/>
                    </a:lnTo>
                    <a:lnTo>
                      <a:pt x="2661" y="816"/>
                    </a:lnTo>
                    <a:lnTo>
                      <a:pt x="2599" y="830"/>
                    </a:lnTo>
                    <a:lnTo>
                      <a:pt x="2535" y="843"/>
                    </a:lnTo>
                    <a:lnTo>
                      <a:pt x="2470" y="855"/>
                    </a:lnTo>
                    <a:lnTo>
                      <a:pt x="2401" y="867"/>
                    </a:lnTo>
                    <a:lnTo>
                      <a:pt x="2331" y="878"/>
                    </a:lnTo>
                    <a:lnTo>
                      <a:pt x="2260" y="887"/>
                    </a:lnTo>
                    <a:lnTo>
                      <a:pt x="2186" y="895"/>
                    </a:lnTo>
                    <a:lnTo>
                      <a:pt x="2110" y="903"/>
                    </a:lnTo>
                    <a:lnTo>
                      <a:pt x="2032" y="909"/>
                    </a:lnTo>
                    <a:lnTo>
                      <a:pt x="1954" y="914"/>
                    </a:lnTo>
                    <a:lnTo>
                      <a:pt x="1874" y="918"/>
                    </a:lnTo>
                    <a:lnTo>
                      <a:pt x="1793" y="921"/>
                    </a:lnTo>
                    <a:lnTo>
                      <a:pt x="1710" y="923"/>
                    </a:lnTo>
                    <a:lnTo>
                      <a:pt x="1626" y="924"/>
                    </a:lnTo>
                    <a:lnTo>
                      <a:pt x="1543" y="923"/>
                    </a:lnTo>
                    <a:lnTo>
                      <a:pt x="1460" y="921"/>
                    </a:lnTo>
                    <a:lnTo>
                      <a:pt x="1379" y="918"/>
                    </a:lnTo>
                    <a:lnTo>
                      <a:pt x="1299" y="914"/>
                    </a:lnTo>
                    <a:lnTo>
                      <a:pt x="1220" y="909"/>
                    </a:lnTo>
                    <a:lnTo>
                      <a:pt x="1143" y="903"/>
                    </a:lnTo>
                    <a:lnTo>
                      <a:pt x="1068" y="895"/>
                    </a:lnTo>
                    <a:lnTo>
                      <a:pt x="993" y="887"/>
                    </a:lnTo>
                    <a:lnTo>
                      <a:pt x="922" y="878"/>
                    </a:lnTo>
                    <a:lnTo>
                      <a:pt x="852" y="867"/>
                    </a:lnTo>
                    <a:lnTo>
                      <a:pt x="783" y="855"/>
                    </a:lnTo>
                    <a:lnTo>
                      <a:pt x="718" y="843"/>
                    </a:lnTo>
                    <a:lnTo>
                      <a:pt x="654" y="830"/>
                    </a:lnTo>
                    <a:lnTo>
                      <a:pt x="592" y="816"/>
                    </a:lnTo>
                    <a:lnTo>
                      <a:pt x="534" y="802"/>
                    </a:lnTo>
                    <a:lnTo>
                      <a:pt x="477" y="786"/>
                    </a:lnTo>
                    <a:lnTo>
                      <a:pt x="423" y="770"/>
                    </a:lnTo>
                    <a:lnTo>
                      <a:pt x="372" y="752"/>
                    </a:lnTo>
                    <a:lnTo>
                      <a:pt x="324" y="735"/>
                    </a:lnTo>
                    <a:lnTo>
                      <a:pt x="278" y="716"/>
                    </a:lnTo>
                    <a:lnTo>
                      <a:pt x="236" y="697"/>
                    </a:lnTo>
                    <a:lnTo>
                      <a:pt x="197" y="678"/>
                    </a:lnTo>
                    <a:lnTo>
                      <a:pt x="161" y="658"/>
                    </a:lnTo>
                    <a:lnTo>
                      <a:pt x="129" y="636"/>
                    </a:lnTo>
                    <a:lnTo>
                      <a:pt x="99" y="615"/>
                    </a:lnTo>
                    <a:lnTo>
                      <a:pt x="74" y="593"/>
                    </a:lnTo>
                    <a:lnTo>
                      <a:pt x="52" y="571"/>
                    </a:lnTo>
                    <a:lnTo>
                      <a:pt x="34" y="549"/>
                    </a:lnTo>
                    <a:lnTo>
                      <a:pt x="20" y="525"/>
                    </a:lnTo>
                    <a:lnTo>
                      <a:pt x="10" y="501"/>
                    </a:lnTo>
                    <a:lnTo>
                      <a:pt x="2" y="478"/>
                    </a:lnTo>
                    <a:lnTo>
                      <a:pt x="0" y="454"/>
                    </a:lnTo>
                    <a:lnTo>
                      <a:pt x="2" y="429"/>
                    </a:lnTo>
                    <a:lnTo>
                      <a:pt x="10" y="405"/>
                    </a:lnTo>
                    <a:lnTo>
                      <a:pt x="20" y="382"/>
                    </a:lnTo>
                    <a:lnTo>
                      <a:pt x="34" y="359"/>
                    </a:lnTo>
                    <a:lnTo>
                      <a:pt x="52" y="337"/>
                    </a:lnTo>
                    <a:lnTo>
                      <a:pt x="74" y="315"/>
                    </a:lnTo>
                    <a:lnTo>
                      <a:pt x="99" y="293"/>
                    </a:lnTo>
                    <a:lnTo>
                      <a:pt x="129" y="273"/>
                    </a:lnTo>
                    <a:lnTo>
                      <a:pt x="161" y="253"/>
                    </a:lnTo>
                    <a:lnTo>
                      <a:pt x="197" y="233"/>
                    </a:lnTo>
                    <a:lnTo>
                      <a:pt x="236" y="214"/>
                    </a:lnTo>
                    <a:lnTo>
                      <a:pt x="278" y="196"/>
                    </a:lnTo>
                    <a:lnTo>
                      <a:pt x="324" y="178"/>
                    </a:lnTo>
                    <a:lnTo>
                      <a:pt x="372" y="161"/>
                    </a:lnTo>
                    <a:lnTo>
                      <a:pt x="423" y="145"/>
                    </a:lnTo>
                    <a:lnTo>
                      <a:pt x="477" y="130"/>
                    </a:lnTo>
                    <a:lnTo>
                      <a:pt x="534" y="114"/>
                    </a:lnTo>
                    <a:lnTo>
                      <a:pt x="592" y="100"/>
                    </a:lnTo>
                    <a:lnTo>
                      <a:pt x="654" y="87"/>
                    </a:lnTo>
                    <a:lnTo>
                      <a:pt x="718" y="75"/>
                    </a:lnTo>
                    <a:lnTo>
                      <a:pt x="783" y="64"/>
                    </a:lnTo>
                    <a:lnTo>
                      <a:pt x="852" y="53"/>
                    </a:lnTo>
                    <a:lnTo>
                      <a:pt x="922" y="44"/>
                    </a:lnTo>
                    <a:lnTo>
                      <a:pt x="993" y="35"/>
                    </a:lnTo>
                    <a:lnTo>
                      <a:pt x="1068" y="27"/>
                    </a:lnTo>
                    <a:lnTo>
                      <a:pt x="1143" y="20"/>
                    </a:lnTo>
                    <a:lnTo>
                      <a:pt x="1220" y="15"/>
                    </a:lnTo>
                    <a:lnTo>
                      <a:pt x="1299" y="10"/>
                    </a:lnTo>
                    <a:lnTo>
                      <a:pt x="1379" y="5"/>
                    </a:lnTo>
                    <a:lnTo>
                      <a:pt x="1460" y="2"/>
                    </a:lnTo>
                    <a:lnTo>
                      <a:pt x="1543" y="1"/>
                    </a:lnTo>
                    <a:lnTo>
                      <a:pt x="1626" y="0"/>
                    </a:lnTo>
                    <a:lnTo>
                      <a:pt x="1710" y="1"/>
                    </a:lnTo>
                    <a:lnTo>
                      <a:pt x="1793" y="2"/>
                    </a:lnTo>
                    <a:lnTo>
                      <a:pt x="1874" y="5"/>
                    </a:lnTo>
                    <a:lnTo>
                      <a:pt x="1954" y="10"/>
                    </a:lnTo>
                    <a:lnTo>
                      <a:pt x="2032" y="15"/>
                    </a:lnTo>
                    <a:lnTo>
                      <a:pt x="2110" y="20"/>
                    </a:lnTo>
                    <a:lnTo>
                      <a:pt x="2186" y="27"/>
                    </a:lnTo>
                    <a:lnTo>
                      <a:pt x="2260" y="35"/>
                    </a:lnTo>
                    <a:lnTo>
                      <a:pt x="2331" y="44"/>
                    </a:lnTo>
                    <a:lnTo>
                      <a:pt x="2401" y="53"/>
                    </a:lnTo>
                    <a:lnTo>
                      <a:pt x="2470" y="64"/>
                    </a:lnTo>
                    <a:lnTo>
                      <a:pt x="2535" y="75"/>
                    </a:lnTo>
                    <a:lnTo>
                      <a:pt x="2599" y="87"/>
                    </a:lnTo>
                    <a:lnTo>
                      <a:pt x="2661" y="100"/>
                    </a:lnTo>
                    <a:lnTo>
                      <a:pt x="2719" y="114"/>
                    </a:lnTo>
                    <a:lnTo>
                      <a:pt x="2776" y="130"/>
                    </a:lnTo>
                    <a:lnTo>
                      <a:pt x="2830" y="145"/>
                    </a:lnTo>
                    <a:lnTo>
                      <a:pt x="2881" y="161"/>
                    </a:lnTo>
                    <a:lnTo>
                      <a:pt x="2929" y="178"/>
                    </a:lnTo>
                    <a:lnTo>
                      <a:pt x="2975" y="196"/>
                    </a:lnTo>
                    <a:lnTo>
                      <a:pt x="3017" y="214"/>
                    </a:lnTo>
                    <a:lnTo>
                      <a:pt x="3057" y="233"/>
                    </a:lnTo>
                    <a:lnTo>
                      <a:pt x="3092" y="253"/>
                    </a:lnTo>
                    <a:lnTo>
                      <a:pt x="3124" y="273"/>
                    </a:lnTo>
                    <a:lnTo>
                      <a:pt x="3153" y="293"/>
                    </a:lnTo>
                    <a:lnTo>
                      <a:pt x="3179" y="315"/>
                    </a:lnTo>
                    <a:lnTo>
                      <a:pt x="3201" y="337"/>
                    </a:lnTo>
                    <a:lnTo>
                      <a:pt x="3219" y="359"/>
                    </a:lnTo>
                    <a:lnTo>
                      <a:pt x="3233" y="382"/>
                    </a:lnTo>
                    <a:lnTo>
                      <a:pt x="3243" y="405"/>
                    </a:lnTo>
                    <a:lnTo>
                      <a:pt x="3250" y="429"/>
                    </a:lnTo>
                    <a:lnTo>
                      <a:pt x="3252" y="4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111040" y="6522840"/>
                <a:ext cx="359280" cy="110160"/>
              </a:xfrm>
              <a:custGeom>
                <a:avLst/>
                <a:gdLst/>
                <a:ahLst/>
                <a:rect l="l" t="t" r="r" b="b"/>
                <a:pathLst>
                  <a:path w="3248" h="922">
                    <a:moveTo>
                      <a:pt x="3248" y="453"/>
                    </a:moveTo>
                    <a:lnTo>
                      <a:pt x="3246" y="477"/>
                    </a:lnTo>
                    <a:lnTo>
                      <a:pt x="3240" y="500"/>
                    </a:lnTo>
                    <a:lnTo>
                      <a:pt x="3230" y="523"/>
                    </a:lnTo>
                    <a:lnTo>
                      <a:pt x="3216" y="547"/>
                    </a:lnTo>
                    <a:lnTo>
                      <a:pt x="3198" y="570"/>
                    </a:lnTo>
                    <a:lnTo>
                      <a:pt x="3176" y="592"/>
                    </a:lnTo>
                    <a:lnTo>
                      <a:pt x="3150" y="614"/>
                    </a:lnTo>
                    <a:lnTo>
                      <a:pt x="3121" y="635"/>
                    </a:lnTo>
                    <a:lnTo>
                      <a:pt x="3089" y="656"/>
                    </a:lnTo>
                    <a:lnTo>
                      <a:pt x="3053" y="676"/>
                    </a:lnTo>
                    <a:lnTo>
                      <a:pt x="3014" y="696"/>
                    </a:lnTo>
                    <a:lnTo>
                      <a:pt x="2972" y="715"/>
                    </a:lnTo>
                    <a:lnTo>
                      <a:pt x="2926" y="733"/>
                    </a:lnTo>
                    <a:lnTo>
                      <a:pt x="2878" y="751"/>
                    </a:lnTo>
                    <a:lnTo>
                      <a:pt x="2827" y="768"/>
                    </a:lnTo>
                    <a:lnTo>
                      <a:pt x="2773" y="785"/>
                    </a:lnTo>
                    <a:lnTo>
                      <a:pt x="2716" y="800"/>
                    </a:lnTo>
                    <a:lnTo>
                      <a:pt x="2658" y="815"/>
                    </a:lnTo>
                    <a:lnTo>
                      <a:pt x="2596" y="828"/>
                    </a:lnTo>
                    <a:lnTo>
                      <a:pt x="2532" y="841"/>
                    </a:lnTo>
                    <a:lnTo>
                      <a:pt x="2467" y="853"/>
                    </a:lnTo>
                    <a:lnTo>
                      <a:pt x="2399" y="866"/>
                    </a:lnTo>
                    <a:lnTo>
                      <a:pt x="2328" y="876"/>
                    </a:lnTo>
                    <a:lnTo>
                      <a:pt x="2257" y="885"/>
                    </a:lnTo>
                    <a:lnTo>
                      <a:pt x="2183" y="894"/>
                    </a:lnTo>
                    <a:lnTo>
                      <a:pt x="2107" y="901"/>
                    </a:lnTo>
                    <a:lnTo>
                      <a:pt x="2030" y="907"/>
                    </a:lnTo>
                    <a:lnTo>
                      <a:pt x="1952" y="912"/>
                    </a:lnTo>
                    <a:lnTo>
                      <a:pt x="1872" y="916"/>
                    </a:lnTo>
                    <a:lnTo>
                      <a:pt x="1791" y="919"/>
                    </a:lnTo>
                    <a:lnTo>
                      <a:pt x="1708" y="921"/>
                    </a:lnTo>
                    <a:lnTo>
                      <a:pt x="1624" y="922"/>
                    </a:lnTo>
                    <a:lnTo>
                      <a:pt x="1541" y="921"/>
                    </a:lnTo>
                    <a:lnTo>
                      <a:pt x="1459" y="919"/>
                    </a:lnTo>
                    <a:lnTo>
                      <a:pt x="1377" y="916"/>
                    </a:lnTo>
                    <a:lnTo>
                      <a:pt x="1297" y="912"/>
                    </a:lnTo>
                    <a:lnTo>
                      <a:pt x="1218" y="907"/>
                    </a:lnTo>
                    <a:lnTo>
                      <a:pt x="1142" y="901"/>
                    </a:lnTo>
                    <a:lnTo>
                      <a:pt x="1066" y="894"/>
                    </a:lnTo>
                    <a:lnTo>
                      <a:pt x="992" y="885"/>
                    </a:lnTo>
                    <a:lnTo>
                      <a:pt x="921" y="876"/>
                    </a:lnTo>
                    <a:lnTo>
                      <a:pt x="850" y="866"/>
                    </a:lnTo>
                    <a:lnTo>
                      <a:pt x="782" y="853"/>
                    </a:lnTo>
                    <a:lnTo>
                      <a:pt x="717" y="841"/>
                    </a:lnTo>
                    <a:lnTo>
                      <a:pt x="653" y="828"/>
                    </a:lnTo>
                    <a:lnTo>
                      <a:pt x="591" y="815"/>
                    </a:lnTo>
                    <a:lnTo>
                      <a:pt x="533" y="800"/>
                    </a:lnTo>
                    <a:lnTo>
                      <a:pt x="476" y="785"/>
                    </a:lnTo>
                    <a:lnTo>
                      <a:pt x="423" y="768"/>
                    </a:lnTo>
                    <a:lnTo>
                      <a:pt x="371" y="751"/>
                    </a:lnTo>
                    <a:lnTo>
                      <a:pt x="323" y="733"/>
                    </a:lnTo>
                    <a:lnTo>
                      <a:pt x="277" y="715"/>
                    </a:lnTo>
                    <a:lnTo>
                      <a:pt x="236" y="696"/>
                    </a:lnTo>
                    <a:lnTo>
                      <a:pt x="196" y="676"/>
                    </a:lnTo>
                    <a:lnTo>
                      <a:pt x="160" y="656"/>
                    </a:lnTo>
                    <a:lnTo>
                      <a:pt x="128" y="635"/>
                    </a:lnTo>
                    <a:lnTo>
                      <a:pt x="98" y="614"/>
                    </a:lnTo>
                    <a:lnTo>
                      <a:pt x="73" y="592"/>
                    </a:lnTo>
                    <a:lnTo>
                      <a:pt x="51" y="570"/>
                    </a:lnTo>
                    <a:lnTo>
                      <a:pt x="33" y="547"/>
                    </a:lnTo>
                    <a:lnTo>
                      <a:pt x="19" y="523"/>
                    </a:lnTo>
                    <a:lnTo>
                      <a:pt x="9" y="500"/>
                    </a:lnTo>
                    <a:lnTo>
                      <a:pt x="3" y="477"/>
                    </a:lnTo>
                    <a:lnTo>
                      <a:pt x="0" y="453"/>
                    </a:lnTo>
                    <a:lnTo>
                      <a:pt x="3" y="428"/>
                    </a:lnTo>
                    <a:lnTo>
                      <a:pt x="9" y="404"/>
                    </a:lnTo>
                    <a:lnTo>
                      <a:pt x="19" y="381"/>
                    </a:lnTo>
                    <a:lnTo>
                      <a:pt x="33" y="359"/>
                    </a:lnTo>
                    <a:lnTo>
                      <a:pt x="51" y="337"/>
                    </a:lnTo>
                    <a:lnTo>
                      <a:pt x="73" y="314"/>
                    </a:lnTo>
                    <a:lnTo>
                      <a:pt x="98" y="293"/>
                    </a:lnTo>
                    <a:lnTo>
                      <a:pt x="128" y="272"/>
                    </a:lnTo>
                    <a:lnTo>
                      <a:pt x="160" y="252"/>
                    </a:lnTo>
                    <a:lnTo>
                      <a:pt x="196" y="233"/>
                    </a:lnTo>
                    <a:lnTo>
                      <a:pt x="236" y="213"/>
                    </a:lnTo>
                    <a:lnTo>
                      <a:pt x="277" y="195"/>
                    </a:lnTo>
                    <a:lnTo>
                      <a:pt x="323" y="178"/>
                    </a:lnTo>
                    <a:lnTo>
                      <a:pt x="371" y="161"/>
                    </a:lnTo>
                    <a:lnTo>
                      <a:pt x="423" y="145"/>
                    </a:lnTo>
                    <a:lnTo>
                      <a:pt x="476" y="129"/>
                    </a:lnTo>
                    <a:lnTo>
                      <a:pt x="533" y="114"/>
                    </a:lnTo>
                    <a:lnTo>
                      <a:pt x="591" y="100"/>
                    </a:lnTo>
                    <a:lnTo>
                      <a:pt x="653" y="87"/>
                    </a:lnTo>
                    <a:lnTo>
                      <a:pt x="717" y="75"/>
                    </a:lnTo>
                    <a:lnTo>
                      <a:pt x="782" y="63"/>
                    </a:lnTo>
                    <a:lnTo>
                      <a:pt x="850" y="53"/>
                    </a:lnTo>
                    <a:lnTo>
                      <a:pt x="921" y="43"/>
                    </a:lnTo>
                    <a:lnTo>
                      <a:pt x="992" y="35"/>
                    </a:lnTo>
                    <a:lnTo>
                      <a:pt x="1066" y="27"/>
                    </a:lnTo>
                    <a:lnTo>
                      <a:pt x="1142" y="20"/>
                    </a:lnTo>
                    <a:lnTo>
                      <a:pt x="1218" y="14"/>
                    </a:lnTo>
                    <a:lnTo>
                      <a:pt x="1297" y="10"/>
                    </a:lnTo>
                    <a:lnTo>
                      <a:pt x="1377" y="5"/>
                    </a:lnTo>
                    <a:lnTo>
                      <a:pt x="1459" y="2"/>
                    </a:lnTo>
                    <a:lnTo>
                      <a:pt x="1541" y="0"/>
                    </a:lnTo>
                    <a:lnTo>
                      <a:pt x="1624" y="0"/>
                    </a:lnTo>
                    <a:lnTo>
                      <a:pt x="1708" y="0"/>
                    </a:lnTo>
                    <a:lnTo>
                      <a:pt x="1791" y="2"/>
                    </a:lnTo>
                    <a:lnTo>
                      <a:pt x="1872" y="5"/>
                    </a:lnTo>
                    <a:lnTo>
                      <a:pt x="1952" y="10"/>
                    </a:lnTo>
                    <a:lnTo>
                      <a:pt x="2030" y="14"/>
                    </a:lnTo>
                    <a:lnTo>
                      <a:pt x="2107" y="20"/>
                    </a:lnTo>
                    <a:lnTo>
                      <a:pt x="2183" y="27"/>
                    </a:lnTo>
                    <a:lnTo>
                      <a:pt x="2257" y="35"/>
                    </a:lnTo>
                    <a:lnTo>
                      <a:pt x="2328" y="43"/>
                    </a:lnTo>
                    <a:lnTo>
                      <a:pt x="2399" y="53"/>
                    </a:lnTo>
                    <a:lnTo>
                      <a:pt x="2467" y="63"/>
                    </a:lnTo>
                    <a:lnTo>
                      <a:pt x="2532" y="75"/>
                    </a:lnTo>
                    <a:lnTo>
                      <a:pt x="2596" y="87"/>
                    </a:lnTo>
                    <a:lnTo>
                      <a:pt x="2658" y="100"/>
                    </a:lnTo>
                    <a:lnTo>
                      <a:pt x="2716" y="114"/>
                    </a:lnTo>
                    <a:lnTo>
                      <a:pt x="2773" y="129"/>
                    </a:lnTo>
                    <a:lnTo>
                      <a:pt x="2827" y="145"/>
                    </a:lnTo>
                    <a:lnTo>
                      <a:pt x="2878" y="161"/>
                    </a:lnTo>
                    <a:lnTo>
                      <a:pt x="2926" y="178"/>
                    </a:lnTo>
                    <a:lnTo>
                      <a:pt x="2972" y="195"/>
                    </a:lnTo>
                    <a:lnTo>
                      <a:pt x="3014" y="213"/>
                    </a:lnTo>
                    <a:lnTo>
                      <a:pt x="3053" y="233"/>
                    </a:lnTo>
                    <a:lnTo>
                      <a:pt x="3089" y="252"/>
                    </a:lnTo>
                    <a:lnTo>
                      <a:pt x="3121" y="272"/>
                    </a:lnTo>
                    <a:lnTo>
                      <a:pt x="3150" y="293"/>
                    </a:lnTo>
                    <a:lnTo>
                      <a:pt x="3176" y="314"/>
                    </a:lnTo>
                    <a:lnTo>
                      <a:pt x="3198" y="337"/>
                    </a:lnTo>
                    <a:lnTo>
                      <a:pt x="3216" y="359"/>
                    </a:lnTo>
                    <a:lnTo>
                      <a:pt x="3230" y="381"/>
                    </a:lnTo>
                    <a:lnTo>
                      <a:pt x="3240" y="404"/>
                    </a:lnTo>
                    <a:lnTo>
                      <a:pt x="3246" y="428"/>
                    </a:lnTo>
                    <a:lnTo>
                      <a:pt x="3248" y="4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111040" y="6522840"/>
                <a:ext cx="358200" cy="110160"/>
              </a:xfrm>
              <a:custGeom>
                <a:avLst/>
                <a:gdLst/>
                <a:ahLst/>
                <a:rect l="l" t="t" r="r" b="b"/>
                <a:pathLst>
                  <a:path w="3246" h="920">
                    <a:moveTo>
                      <a:pt x="3246" y="452"/>
                    </a:moveTo>
                    <a:lnTo>
                      <a:pt x="3244" y="476"/>
                    </a:lnTo>
                    <a:lnTo>
                      <a:pt x="3238" y="499"/>
                    </a:lnTo>
                    <a:lnTo>
                      <a:pt x="3227" y="522"/>
                    </a:lnTo>
                    <a:lnTo>
                      <a:pt x="3213" y="546"/>
                    </a:lnTo>
                    <a:lnTo>
                      <a:pt x="3195" y="569"/>
                    </a:lnTo>
                    <a:lnTo>
                      <a:pt x="3174" y="591"/>
                    </a:lnTo>
                    <a:lnTo>
                      <a:pt x="3147" y="612"/>
                    </a:lnTo>
                    <a:lnTo>
                      <a:pt x="3119" y="633"/>
                    </a:lnTo>
                    <a:lnTo>
                      <a:pt x="3087" y="655"/>
                    </a:lnTo>
                    <a:lnTo>
                      <a:pt x="3051" y="675"/>
                    </a:lnTo>
                    <a:lnTo>
                      <a:pt x="3011" y="694"/>
                    </a:lnTo>
                    <a:lnTo>
                      <a:pt x="2970" y="713"/>
                    </a:lnTo>
                    <a:lnTo>
                      <a:pt x="2924" y="731"/>
                    </a:lnTo>
                    <a:lnTo>
                      <a:pt x="2876" y="749"/>
                    </a:lnTo>
                    <a:lnTo>
                      <a:pt x="2825" y="767"/>
                    </a:lnTo>
                    <a:lnTo>
                      <a:pt x="2771" y="783"/>
                    </a:lnTo>
                    <a:lnTo>
                      <a:pt x="2715" y="798"/>
                    </a:lnTo>
                    <a:lnTo>
                      <a:pt x="2656" y="813"/>
                    </a:lnTo>
                    <a:lnTo>
                      <a:pt x="2594" y="827"/>
                    </a:lnTo>
                    <a:lnTo>
                      <a:pt x="2530" y="840"/>
                    </a:lnTo>
                    <a:lnTo>
                      <a:pt x="2465" y="852"/>
                    </a:lnTo>
                    <a:lnTo>
                      <a:pt x="2397" y="864"/>
                    </a:lnTo>
                    <a:lnTo>
                      <a:pt x="2327" y="874"/>
                    </a:lnTo>
                    <a:lnTo>
                      <a:pt x="2256" y="883"/>
                    </a:lnTo>
                    <a:lnTo>
                      <a:pt x="2182" y="892"/>
                    </a:lnTo>
                    <a:lnTo>
                      <a:pt x="2106" y="899"/>
                    </a:lnTo>
                    <a:lnTo>
                      <a:pt x="2029" y="905"/>
                    </a:lnTo>
                    <a:lnTo>
                      <a:pt x="1951" y="910"/>
                    </a:lnTo>
                    <a:lnTo>
                      <a:pt x="1871" y="915"/>
                    </a:lnTo>
                    <a:lnTo>
                      <a:pt x="1789" y="918"/>
                    </a:lnTo>
                    <a:lnTo>
                      <a:pt x="1707" y="919"/>
                    </a:lnTo>
                    <a:lnTo>
                      <a:pt x="1623" y="920"/>
                    </a:lnTo>
                    <a:lnTo>
                      <a:pt x="1540" y="919"/>
                    </a:lnTo>
                    <a:lnTo>
                      <a:pt x="1458" y="918"/>
                    </a:lnTo>
                    <a:lnTo>
                      <a:pt x="1376" y="915"/>
                    </a:lnTo>
                    <a:lnTo>
                      <a:pt x="1296" y="910"/>
                    </a:lnTo>
                    <a:lnTo>
                      <a:pt x="1217" y="905"/>
                    </a:lnTo>
                    <a:lnTo>
                      <a:pt x="1141" y="899"/>
                    </a:lnTo>
                    <a:lnTo>
                      <a:pt x="1066" y="892"/>
                    </a:lnTo>
                    <a:lnTo>
                      <a:pt x="992" y="883"/>
                    </a:lnTo>
                    <a:lnTo>
                      <a:pt x="920" y="874"/>
                    </a:lnTo>
                    <a:lnTo>
                      <a:pt x="850" y="864"/>
                    </a:lnTo>
                    <a:lnTo>
                      <a:pt x="782" y="852"/>
                    </a:lnTo>
                    <a:lnTo>
                      <a:pt x="717" y="840"/>
                    </a:lnTo>
                    <a:lnTo>
                      <a:pt x="653" y="827"/>
                    </a:lnTo>
                    <a:lnTo>
                      <a:pt x="591" y="813"/>
                    </a:lnTo>
                    <a:lnTo>
                      <a:pt x="533" y="798"/>
                    </a:lnTo>
                    <a:lnTo>
                      <a:pt x="476" y="783"/>
                    </a:lnTo>
                    <a:lnTo>
                      <a:pt x="423" y="767"/>
                    </a:lnTo>
                    <a:lnTo>
                      <a:pt x="371" y="749"/>
                    </a:lnTo>
                    <a:lnTo>
                      <a:pt x="323" y="731"/>
                    </a:lnTo>
                    <a:lnTo>
                      <a:pt x="278" y="713"/>
                    </a:lnTo>
                    <a:lnTo>
                      <a:pt x="236" y="694"/>
                    </a:lnTo>
                    <a:lnTo>
                      <a:pt x="196" y="675"/>
                    </a:lnTo>
                    <a:lnTo>
                      <a:pt x="161" y="655"/>
                    </a:lnTo>
                    <a:lnTo>
                      <a:pt x="128" y="633"/>
                    </a:lnTo>
                    <a:lnTo>
                      <a:pt x="99" y="612"/>
                    </a:lnTo>
                    <a:lnTo>
                      <a:pt x="73" y="591"/>
                    </a:lnTo>
                    <a:lnTo>
                      <a:pt x="52" y="569"/>
                    </a:lnTo>
                    <a:lnTo>
                      <a:pt x="34" y="546"/>
                    </a:lnTo>
                    <a:lnTo>
                      <a:pt x="20" y="522"/>
                    </a:lnTo>
                    <a:lnTo>
                      <a:pt x="9" y="499"/>
                    </a:lnTo>
                    <a:lnTo>
                      <a:pt x="3" y="476"/>
                    </a:lnTo>
                    <a:lnTo>
                      <a:pt x="0" y="452"/>
                    </a:lnTo>
                    <a:lnTo>
                      <a:pt x="3" y="427"/>
                    </a:lnTo>
                    <a:lnTo>
                      <a:pt x="9" y="403"/>
                    </a:lnTo>
                    <a:lnTo>
                      <a:pt x="20" y="380"/>
                    </a:lnTo>
                    <a:lnTo>
                      <a:pt x="34" y="358"/>
                    </a:lnTo>
                    <a:lnTo>
                      <a:pt x="52" y="336"/>
                    </a:lnTo>
                    <a:lnTo>
                      <a:pt x="73" y="313"/>
                    </a:lnTo>
                    <a:lnTo>
                      <a:pt x="99" y="292"/>
                    </a:lnTo>
                    <a:lnTo>
                      <a:pt x="128" y="272"/>
                    </a:lnTo>
                    <a:lnTo>
                      <a:pt x="161" y="252"/>
                    </a:lnTo>
                    <a:lnTo>
                      <a:pt x="196" y="232"/>
                    </a:lnTo>
                    <a:lnTo>
                      <a:pt x="236" y="213"/>
                    </a:lnTo>
                    <a:lnTo>
                      <a:pt x="278" y="195"/>
                    </a:lnTo>
                    <a:lnTo>
                      <a:pt x="323" y="177"/>
                    </a:lnTo>
                    <a:lnTo>
                      <a:pt x="371" y="160"/>
                    </a:lnTo>
                    <a:lnTo>
                      <a:pt x="423" y="144"/>
                    </a:lnTo>
                    <a:lnTo>
                      <a:pt x="476" y="129"/>
                    </a:lnTo>
                    <a:lnTo>
                      <a:pt x="533" y="115"/>
                    </a:lnTo>
                    <a:lnTo>
                      <a:pt x="591" y="100"/>
                    </a:lnTo>
                    <a:lnTo>
                      <a:pt x="653" y="87"/>
                    </a:lnTo>
                    <a:lnTo>
                      <a:pt x="717" y="75"/>
                    </a:lnTo>
                    <a:lnTo>
                      <a:pt x="782" y="63"/>
                    </a:lnTo>
                    <a:lnTo>
                      <a:pt x="850" y="53"/>
                    </a:lnTo>
                    <a:lnTo>
                      <a:pt x="920" y="43"/>
                    </a:lnTo>
                    <a:lnTo>
                      <a:pt x="992" y="35"/>
                    </a:lnTo>
                    <a:lnTo>
                      <a:pt x="1066" y="27"/>
                    </a:lnTo>
                    <a:lnTo>
                      <a:pt x="1141" y="20"/>
                    </a:lnTo>
                    <a:lnTo>
                      <a:pt x="1217" y="14"/>
                    </a:lnTo>
                    <a:lnTo>
                      <a:pt x="1296" y="10"/>
                    </a:lnTo>
                    <a:lnTo>
                      <a:pt x="1376" y="5"/>
                    </a:lnTo>
                    <a:lnTo>
                      <a:pt x="1458" y="2"/>
                    </a:lnTo>
                    <a:lnTo>
                      <a:pt x="1540" y="0"/>
                    </a:lnTo>
                    <a:lnTo>
                      <a:pt x="1623" y="0"/>
                    </a:lnTo>
                    <a:lnTo>
                      <a:pt x="1707" y="0"/>
                    </a:lnTo>
                    <a:lnTo>
                      <a:pt x="1789" y="2"/>
                    </a:lnTo>
                    <a:lnTo>
                      <a:pt x="1871" y="5"/>
                    </a:lnTo>
                    <a:lnTo>
                      <a:pt x="1951" y="10"/>
                    </a:lnTo>
                    <a:lnTo>
                      <a:pt x="2029" y="14"/>
                    </a:lnTo>
                    <a:lnTo>
                      <a:pt x="2106" y="20"/>
                    </a:lnTo>
                    <a:lnTo>
                      <a:pt x="2182" y="27"/>
                    </a:lnTo>
                    <a:lnTo>
                      <a:pt x="2256" y="35"/>
                    </a:lnTo>
                    <a:lnTo>
                      <a:pt x="2327" y="43"/>
                    </a:lnTo>
                    <a:lnTo>
                      <a:pt x="2397" y="53"/>
                    </a:lnTo>
                    <a:lnTo>
                      <a:pt x="2465" y="63"/>
                    </a:lnTo>
                    <a:lnTo>
                      <a:pt x="2530" y="75"/>
                    </a:lnTo>
                    <a:lnTo>
                      <a:pt x="2594" y="87"/>
                    </a:lnTo>
                    <a:lnTo>
                      <a:pt x="2656" y="100"/>
                    </a:lnTo>
                    <a:lnTo>
                      <a:pt x="2715" y="115"/>
                    </a:lnTo>
                    <a:lnTo>
                      <a:pt x="2771" y="129"/>
                    </a:lnTo>
                    <a:lnTo>
                      <a:pt x="2825" y="144"/>
                    </a:lnTo>
                    <a:lnTo>
                      <a:pt x="2876" y="160"/>
                    </a:lnTo>
                    <a:lnTo>
                      <a:pt x="2924" y="177"/>
                    </a:lnTo>
                    <a:lnTo>
                      <a:pt x="2970" y="195"/>
                    </a:lnTo>
                    <a:lnTo>
                      <a:pt x="3011" y="213"/>
                    </a:lnTo>
                    <a:lnTo>
                      <a:pt x="3051" y="232"/>
                    </a:lnTo>
                    <a:lnTo>
                      <a:pt x="3087" y="252"/>
                    </a:lnTo>
                    <a:lnTo>
                      <a:pt x="3119" y="272"/>
                    </a:lnTo>
                    <a:lnTo>
                      <a:pt x="3147" y="292"/>
                    </a:lnTo>
                    <a:lnTo>
                      <a:pt x="3174" y="313"/>
                    </a:lnTo>
                    <a:lnTo>
                      <a:pt x="3195" y="336"/>
                    </a:lnTo>
                    <a:lnTo>
                      <a:pt x="3213" y="358"/>
                    </a:lnTo>
                    <a:lnTo>
                      <a:pt x="3227" y="380"/>
                    </a:lnTo>
                    <a:lnTo>
                      <a:pt x="3238" y="403"/>
                    </a:lnTo>
                    <a:lnTo>
                      <a:pt x="3244" y="427"/>
                    </a:lnTo>
                    <a:lnTo>
                      <a:pt x="3246" y="4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112120" y="6522840"/>
                <a:ext cx="357120" cy="110160"/>
              </a:xfrm>
              <a:custGeom>
                <a:avLst/>
                <a:gdLst/>
                <a:ahLst/>
                <a:rect l="l" t="t" r="r" b="b"/>
                <a:pathLst>
                  <a:path w="3242" h="918">
                    <a:moveTo>
                      <a:pt x="3242" y="451"/>
                    </a:moveTo>
                    <a:lnTo>
                      <a:pt x="3239" y="475"/>
                    </a:lnTo>
                    <a:lnTo>
                      <a:pt x="3233" y="498"/>
                    </a:lnTo>
                    <a:lnTo>
                      <a:pt x="3223" y="521"/>
                    </a:lnTo>
                    <a:lnTo>
                      <a:pt x="3209" y="545"/>
                    </a:lnTo>
                    <a:lnTo>
                      <a:pt x="3191" y="567"/>
                    </a:lnTo>
                    <a:lnTo>
                      <a:pt x="3169" y="589"/>
                    </a:lnTo>
                    <a:lnTo>
                      <a:pt x="3143" y="611"/>
                    </a:lnTo>
                    <a:lnTo>
                      <a:pt x="3114" y="632"/>
                    </a:lnTo>
                    <a:lnTo>
                      <a:pt x="3082" y="654"/>
                    </a:lnTo>
                    <a:lnTo>
                      <a:pt x="3046" y="674"/>
                    </a:lnTo>
                    <a:lnTo>
                      <a:pt x="3007" y="693"/>
                    </a:lnTo>
                    <a:lnTo>
                      <a:pt x="2965" y="712"/>
                    </a:lnTo>
                    <a:lnTo>
                      <a:pt x="2920" y="730"/>
                    </a:lnTo>
                    <a:lnTo>
                      <a:pt x="2872" y="747"/>
                    </a:lnTo>
                    <a:lnTo>
                      <a:pt x="2820" y="765"/>
                    </a:lnTo>
                    <a:lnTo>
                      <a:pt x="2767" y="781"/>
                    </a:lnTo>
                    <a:lnTo>
                      <a:pt x="2711" y="797"/>
                    </a:lnTo>
                    <a:lnTo>
                      <a:pt x="2652" y="811"/>
                    </a:lnTo>
                    <a:lnTo>
                      <a:pt x="2591" y="825"/>
                    </a:lnTo>
                    <a:lnTo>
                      <a:pt x="2527" y="838"/>
                    </a:lnTo>
                    <a:lnTo>
                      <a:pt x="2462" y="850"/>
                    </a:lnTo>
                    <a:lnTo>
                      <a:pt x="2393" y="861"/>
                    </a:lnTo>
                    <a:lnTo>
                      <a:pt x="2323" y="872"/>
                    </a:lnTo>
                    <a:lnTo>
                      <a:pt x="2252" y="882"/>
                    </a:lnTo>
                    <a:lnTo>
                      <a:pt x="2178" y="890"/>
                    </a:lnTo>
                    <a:lnTo>
                      <a:pt x="2102" y="897"/>
                    </a:lnTo>
                    <a:lnTo>
                      <a:pt x="2025" y="903"/>
                    </a:lnTo>
                    <a:lnTo>
                      <a:pt x="1948" y="909"/>
                    </a:lnTo>
                    <a:lnTo>
                      <a:pt x="1868" y="913"/>
                    </a:lnTo>
                    <a:lnTo>
                      <a:pt x="1786" y="916"/>
                    </a:lnTo>
                    <a:lnTo>
                      <a:pt x="1704" y="917"/>
                    </a:lnTo>
                    <a:lnTo>
                      <a:pt x="1620" y="918"/>
                    </a:lnTo>
                    <a:lnTo>
                      <a:pt x="1537" y="917"/>
                    </a:lnTo>
                    <a:lnTo>
                      <a:pt x="1455" y="916"/>
                    </a:lnTo>
                    <a:lnTo>
                      <a:pt x="1374" y="913"/>
                    </a:lnTo>
                    <a:lnTo>
                      <a:pt x="1293" y="909"/>
                    </a:lnTo>
                    <a:lnTo>
                      <a:pt x="1215" y="903"/>
                    </a:lnTo>
                    <a:lnTo>
                      <a:pt x="1139" y="897"/>
                    </a:lnTo>
                    <a:lnTo>
                      <a:pt x="1063" y="890"/>
                    </a:lnTo>
                    <a:lnTo>
                      <a:pt x="989" y="882"/>
                    </a:lnTo>
                    <a:lnTo>
                      <a:pt x="918" y="872"/>
                    </a:lnTo>
                    <a:lnTo>
                      <a:pt x="848" y="861"/>
                    </a:lnTo>
                    <a:lnTo>
                      <a:pt x="780" y="850"/>
                    </a:lnTo>
                    <a:lnTo>
                      <a:pt x="714" y="838"/>
                    </a:lnTo>
                    <a:lnTo>
                      <a:pt x="650" y="825"/>
                    </a:lnTo>
                    <a:lnTo>
                      <a:pt x="589" y="811"/>
                    </a:lnTo>
                    <a:lnTo>
                      <a:pt x="531" y="797"/>
                    </a:lnTo>
                    <a:lnTo>
                      <a:pt x="474" y="781"/>
                    </a:lnTo>
                    <a:lnTo>
                      <a:pt x="421" y="765"/>
                    </a:lnTo>
                    <a:lnTo>
                      <a:pt x="369" y="747"/>
                    </a:lnTo>
                    <a:lnTo>
                      <a:pt x="321" y="730"/>
                    </a:lnTo>
                    <a:lnTo>
                      <a:pt x="276" y="712"/>
                    </a:lnTo>
                    <a:lnTo>
                      <a:pt x="234" y="693"/>
                    </a:lnTo>
                    <a:lnTo>
                      <a:pt x="194" y="674"/>
                    </a:lnTo>
                    <a:lnTo>
                      <a:pt x="159" y="654"/>
                    </a:lnTo>
                    <a:lnTo>
                      <a:pt x="127" y="632"/>
                    </a:lnTo>
                    <a:lnTo>
                      <a:pt x="97" y="611"/>
                    </a:lnTo>
                    <a:lnTo>
                      <a:pt x="72" y="589"/>
                    </a:lnTo>
                    <a:lnTo>
                      <a:pt x="50" y="567"/>
                    </a:lnTo>
                    <a:lnTo>
                      <a:pt x="32" y="545"/>
                    </a:lnTo>
                    <a:lnTo>
                      <a:pt x="18" y="521"/>
                    </a:lnTo>
                    <a:lnTo>
                      <a:pt x="8" y="498"/>
                    </a:lnTo>
                    <a:lnTo>
                      <a:pt x="2" y="475"/>
                    </a:lnTo>
                    <a:lnTo>
                      <a:pt x="0" y="451"/>
                    </a:lnTo>
                    <a:lnTo>
                      <a:pt x="2" y="426"/>
                    </a:lnTo>
                    <a:lnTo>
                      <a:pt x="8" y="402"/>
                    </a:lnTo>
                    <a:lnTo>
                      <a:pt x="18" y="380"/>
                    </a:lnTo>
                    <a:lnTo>
                      <a:pt x="32" y="357"/>
                    </a:lnTo>
                    <a:lnTo>
                      <a:pt x="50" y="335"/>
                    </a:lnTo>
                    <a:lnTo>
                      <a:pt x="72" y="312"/>
                    </a:lnTo>
                    <a:lnTo>
                      <a:pt x="97" y="291"/>
                    </a:lnTo>
                    <a:lnTo>
                      <a:pt x="127" y="271"/>
                    </a:lnTo>
                    <a:lnTo>
                      <a:pt x="159" y="251"/>
                    </a:lnTo>
                    <a:lnTo>
                      <a:pt x="194" y="232"/>
                    </a:lnTo>
                    <a:lnTo>
                      <a:pt x="234" y="212"/>
                    </a:lnTo>
                    <a:lnTo>
                      <a:pt x="276" y="194"/>
                    </a:lnTo>
                    <a:lnTo>
                      <a:pt x="321" y="177"/>
                    </a:lnTo>
                    <a:lnTo>
                      <a:pt x="369" y="160"/>
                    </a:lnTo>
                    <a:lnTo>
                      <a:pt x="421" y="144"/>
                    </a:lnTo>
                    <a:lnTo>
                      <a:pt x="474" y="129"/>
                    </a:lnTo>
                    <a:lnTo>
                      <a:pt x="531" y="114"/>
                    </a:lnTo>
                    <a:lnTo>
                      <a:pt x="589" y="99"/>
                    </a:lnTo>
                    <a:lnTo>
                      <a:pt x="650" y="87"/>
                    </a:lnTo>
                    <a:lnTo>
                      <a:pt x="714" y="74"/>
                    </a:lnTo>
                    <a:lnTo>
                      <a:pt x="780" y="63"/>
                    </a:lnTo>
                    <a:lnTo>
                      <a:pt x="848" y="53"/>
                    </a:lnTo>
                    <a:lnTo>
                      <a:pt x="918" y="43"/>
                    </a:lnTo>
                    <a:lnTo>
                      <a:pt x="989" y="34"/>
                    </a:lnTo>
                    <a:lnTo>
                      <a:pt x="1063" y="27"/>
                    </a:lnTo>
                    <a:lnTo>
                      <a:pt x="1139" y="20"/>
                    </a:lnTo>
                    <a:lnTo>
                      <a:pt x="1215" y="14"/>
                    </a:lnTo>
                    <a:lnTo>
                      <a:pt x="1293" y="9"/>
                    </a:lnTo>
                    <a:lnTo>
                      <a:pt x="1374" y="5"/>
                    </a:lnTo>
                    <a:lnTo>
                      <a:pt x="1455" y="2"/>
                    </a:lnTo>
                    <a:lnTo>
                      <a:pt x="1537" y="0"/>
                    </a:lnTo>
                    <a:lnTo>
                      <a:pt x="1620" y="0"/>
                    </a:lnTo>
                    <a:lnTo>
                      <a:pt x="1704" y="0"/>
                    </a:lnTo>
                    <a:lnTo>
                      <a:pt x="1786" y="2"/>
                    </a:lnTo>
                    <a:lnTo>
                      <a:pt x="1868" y="5"/>
                    </a:lnTo>
                    <a:lnTo>
                      <a:pt x="1948" y="9"/>
                    </a:lnTo>
                    <a:lnTo>
                      <a:pt x="2025" y="14"/>
                    </a:lnTo>
                    <a:lnTo>
                      <a:pt x="2102" y="20"/>
                    </a:lnTo>
                    <a:lnTo>
                      <a:pt x="2178" y="27"/>
                    </a:lnTo>
                    <a:lnTo>
                      <a:pt x="2252" y="34"/>
                    </a:lnTo>
                    <a:lnTo>
                      <a:pt x="2323" y="43"/>
                    </a:lnTo>
                    <a:lnTo>
                      <a:pt x="2393" y="53"/>
                    </a:lnTo>
                    <a:lnTo>
                      <a:pt x="2462" y="63"/>
                    </a:lnTo>
                    <a:lnTo>
                      <a:pt x="2527" y="74"/>
                    </a:lnTo>
                    <a:lnTo>
                      <a:pt x="2591" y="87"/>
                    </a:lnTo>
                    <a:lnTo>
                      <a:pt x="2652" y="99"/>
                    </a:lnTo>
                    <a:lnTo>
                      <a:pt x="2711" y="114"/>
                    </a:lnTo>
                    <a:lnTo>
                      <a:pt x="2767" y="129"/>
                    </a:lnTo>
                    <a:lnTo>
                      <a:pt x="2820" y="144"/>
                    </a:lnTo>
                    <a:lnTo>
                      <a:pt x="2872" y="160"/>
                    </a:lnTo>
                    <a:lnTo>
                      <a:pt x="2920" y="177"/>
                    </a:lnTo>
                    <a:lnTo>
                      <a:pt x="2965" y="194"/>
                    </a:lnTo>
                    <a:lnTo>
                      <a:pt x="3007" y="212"/>
                    </a:lnTo>
                    <a:lnTo>
                      <a:pt x="3046" y="232"/>
                    </a:lnTo>
                    <a:lnTo>
                      <a:pt x="3082" y="251"/>
                    </a:lnTo>
                    <a:lnTo>
                      <a:pt x="3114" y="271"/>
                    </a:lnTo>
                    <a:lnTo>
                      <a:pt x="3143" y="291"/>
                    </a:lnTo>
                    <a:lnTo>
                      <a:pt x="3169" y="312"/>
                    </a:lnTo>
                    <a:lnTo>
                      <a:pt x="3191" y="335"/>
                    </a:lnTo>
                    <a:lnTo>
                      <a:pt x="3209" y="357"/>
                    </a:lnTo>
                    <a:lnTo>
                      <a:pt x="3223" y="380"/>
                    </a:lnTo>
                    <a:lnTo>
                      <a:pt x="3233" y="402"/>
                    </a:lnTo>
                    <a:lnTo>
                      <a:pt x="3239" y="426"/>
                    </a:lnTo>
                    <a:lnTo>
                      <a:pt x="3242" y="4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112120" y="6522840"/>
                <a:ext cx="357120" cy="109080"/>
              </a:xfrm>
              <a:custGeom>
                <a:avLst/>
                <a:gdLst/>
                <a:ahLst/>
                <a:rect l="l" t="t" r="r" b="b"/>
                <a:pathLst>
                  <a:path w="3239" h="916">
                    <a:moveTo>
                      <a:pt x="3239" y="450"/>
                    </a:moveTo>
                    <a:lnTo>
                      <a:pt x="3237" y="473"/>
                    </a:lnTo>
                    <a:lnTo>
                      <a:pt x="3231" y="497"/>
                    </a:lnTo>
                    <a:lnTo>
                      <a:pt x="3221" y="520"/>
                    </a:lnTo>
                    <a:lnTo>
                      <a:pt x="3207" y="544"/>
                    </a:lnTo>
                    <a:lnTo>
                      <a:pt x="3189" y="566"/>
                    </a:lnTo>
                    <a:lnTo>
                      <a:pt x="3167" y="588"/>
                    </a:lnTo>
                    <a:lnTo>
                      <a:pt x="3141" y="610"/>
                    </a:lnTo>
                    <a:lnTo>
                      <a:pt x="3112" y="631"/>
                    </a:lnTo>
                    <a:lnTo>
                      <a:pt x="3080" y="652"/>
                    </a:lnTo>
                    <a:lnTo>
                      <a:pt x="3044" y="672"/>
                    </a:lnTo>
                    <a:lnTo>
                      <a:pt x="3005" y="691"/>
                    </a:lnTo>
                    <a:lnTo>
                      <a:pt x="2963" y="710"/>
                    </a:lnTo>
                    <a:lnTo>
                      <a:pt x="2917" y="728"/>
                    </a:lnTo>
                    <a:lnTo>
                      <a:pt x="2870" y="746"/>
                    </a:lnTo>
                    <a:lnTo>
                      <a:pt x="2818" y="764"/>
                    </a:lnTo>
                    <a:lnTo>
                      <a:pt x="2765" y="780"/>
                    </a:lnTo>
                    <a:lnTo>
                      <a:pt x="2709" y="795"/>
                    </a:lnTo>
                    <a:lnTo>
                      <a:pt x="2650" y="809"/>
                    </a:lnTo>
                    <a:lnTo>
                      <a:pt x="2589" y="823"/>
                    </a:lnTo>
                    <a:lnTo>
                      <a:pt x="2525" y="836"/>
                    </a:lnTo>
                    <a:lnTo>
                      <a:pt x="2460" y="848"/>
                    </a:lnTo>
                    <a:lnTo>
                      <a:pt x="2392" y="859"/>
                    </a:lnTo>
                    <a:lnTo>
                      <a:pt x="2321" y="870"/>
                    </a:lnTo>
                    <a:lnTo>
                      <a:pt x="2250" y="880"/>
                    </a:lnTo>
                    <a:lnTo>
                      <a:pt x="2177" y="888"/>
                    </a:lnTo>
                    <a:lnTo>
                      <a:pt x="2101" y="895"/>
                    </a:lnTo>
                    <a:lnTo>
                      <a:pt x="2024" y="901"/>
                    </a:lnTo>
                    <a:lnTo>
                      <a:pt x="1946" y="907"/>
                    </a:lnTo>
                    <a:lnTo>
                      <a:pt x="1866" y="911"/>
                    </a:lnTo>
                    <a:lnTo>
                      <a:pt x="1785" y="914"/>
                    </a:lnTo>
                    <a:lnTo>
                      <a:pt x="1703" y="915"/>
                    </a:lnTo>
                    <a:lnTo>
                      <a:pt x="1619" y="916"/>
                    </a:lnTo>
                    <a:lnTo>
                      <a:pt x="1537" y="915"/>
                    </a:lnTo>
                    <a:lnTo>
                      <a:pt x="1454" y="914"/>
                    </a:lnTo>
                    <a:lnTo>
                      <a:pt x="1373" y="911"/>
                    </a:lnTo>
                    <a:lnTo>
                      <a:pt x="1293" y="907"/>
                    </a:lnTo>
                    <a:lnTo>
                      <a:pt x="1214" y="901"/>
                    </a:lnTo>
                    <a:lnTo>
                      <a:pt x="1138" y="895"/>
                    </a:lnTo>
                    <a:lnTo>
                      <a:pt x="1062" y="888"/>
                    </a:lnTo>
                    <a:lnTo>
                      <a:pt x="989" y="880"/>
                    </a:lnTo>
                    <a:lnTo>
                      <a:pt x="918" y="870"/>
                    </a:lnTo>
                    <a:lnTo>
                      <a:pt x="847" y="859"/>
                    </a:lnTo>
                    <a:lnTo>
                      <a:pt x="779" y="848"/>
                    </a:lnTo>
                    <a:lnTo>
                      <a:pt x="714" y="836"/>
                    </a:lnTo>
                    <a:lnTo>
                      <a:pt x="650" y="823"/>
                    </a:lnTo>
                    <a:lnTo>
                      <a:pt x="589" y="809"/>
                    </a:lnTo>
                    <a:lnTo>
                      <a:pt x="530" y="795"/>
                    </a:lnTo>
                    <a:lnTo>
                      <a:pt x="474" y="780"/>
                    </a:lnTo>
                    <a:lnTo>
                      <a:pt x="421" y="764"/>
                    </a:lnTo>
                    <a:lnTo>
                      <a:pt x="369" y="746"/>
                    </a:lnTo>
                    <a:lnTo>
                      <a:pt x="322" y="728"/>
                    </a:lnTo>
                    <a:lnTo>
                      <a:pt x="276" y="710"/>
                    </a:lnTo>
                    <a:lnTo>
                      <a:pt x="234" y="691"/>
                    </a:lnTo>
                    <a:lnTo>
                      <a:pt x="195" y="672"/>
                    </a:lnTo>
                    <a:lnTo>
                      <a:pt x="159" y="652"/>
                    </a:lnTo>
                    <a:lnTo>
                      <a:pt x="127" y="631"/>
                    </a:lnTo>
                    <a:lnTo>
                      <a:pt x="97" y="610"/>
                    </a:lnTo>
                    <a:lnTo>
                      <a:pt x="72" y="588"/>
                    </a:lnTo>
                    <a:lnTo>
                      <a:pt x="50" y="566"/>
                    </a:lnTo>
                    <a:lnTo>
                      <a:pt x="33" y="544"/>
                    </a:lnTo>
                    <a:lnTo>
                      <a:pt x="18" y="520"/>
                    </a:lnTo>
                    <a:lnTo>
                      <a:pt x="8" y="497"/>
                    </a:lnTo>
                    <a:lnTo>
                      <a:pt x="2" y="473"/>
                    </a:lnTo>
                    <a:lnTo>
                      <a:pt x="0" y="450"/>
                    </a:lnTo>
                    <a:lnTo>
                      <a:pt x="2" y="425"/>
                    </a:lnTo>
                    <a:lnTo>
                      <a:pt x="8" y="402"/>
                    </a:lnTo>
                    <a:lnTo>
                      <a:pt x="18" y="379"/>
                    </a:lnTo>
                    <a:lnTo>
                      <a:pt x="33" y="356"/>
                    </a:lnTo>
                    <a:lnTo>
                      <a:pt x="50" y="334"/>
                    </a:lnTo>
                    <a:lnTo>
                      <a:pt x="72" y="312"/>
                    </a:lnTo>
                    <a:lnTo>
                      <a:pt x="97" y="291"/>
                    </a:lnTo>
                    <a:lnTo>
                      <a:pt x="127" y="270"/>
                    </a:lnTo>
                    <a:lnTo>
                      <a:pt x="159" y="251"/>
                    </a:lnTo>
                    <a:lnTo>
                      <a:pt x="195" y="231"/>
                    </a:lnTo>
                    <a:lnTo>
                      <a:pt x="234" y="212"/>
                    </a:lnTo>
                    <a:lnTo>
                      <a:pt x="276" y="194"/>
                    </a:lnTo>
                    <a:lnTo>
                      <a:pt x="322" y="176"/>
                    </a:lnTo>
                    <a:lnTo>
                      <a:pt x="369" y="160"/>
                    </a:lnTo>
                    <a:lnTo>
                      <a:pt x="421" y="144"/>
                    </a:lnTo>
                    <a:lnTo>
                      <a:pt x="474" y="128"/>
                    </a:lnTo>
                    <a:lnTo>
                      <a:pt x="530" y="114"/>
                    </a:lnTo>
                    <a:lnTo>
                      <a:pt x="589" y="99"/>
                    </a:lnTo>
                    <a:lnTo>
                      <a:pt x="650" y="86"/>
                    </a:lnTo>
                    <a:lnTo>
                      <a:pt x="714" y="74"/>
                    </a:lnTo>
                    <a:lnTo>
                      <a:pt x="779" y="63"/>
                    </a:lnTo>
                    <a:lnTo>
                      <a:pt x="847" y="52"/>
                    </a:lnTo>
                    <a:lnTo>
                      <a:pt x="918" y="43"/>
                    </a:lnTo>
                    <a:lnTo>
                      <a:pt x="989" y="34"/>
                    </a:lnTo>
                    <a:lnTo>
                      <a:pt x="1062" y="27"/>
                    </a:lnTo>
                    <a:lnTo>
                      <a:pt x="1138" y="20"/>
                    </a:lnTo>
                    <a:lnTo>
                      <a:pt x="1214" y="14"/>
                    </a:lnTo>
                    <a:lnTo>
                      <a:pt x="1293" y="9"/>
                    </a:lnTo>
                    <a:lnTo>
                      <a:pt x="1373" y="6"/>
                    </a:lnTo>
                    <a:lnTo>
                      <a:pt x="1454" y="2"/>
                    </a:lnTo>
                    <a:lnTo>
                      <a:pt x="1537" y="0"/>
                    </a:lnTo>
                    <a:lnTo>
                      <a:pt x="1619" y="0"/>
                    </a:lnTo>
                    <a:lnTo>
                      <a:pt x="1703" y="0"/>
                    </a:lnTo>
                    <a:lnTo>
                      <a:pt x="1785" y="2"/>
                    </a:lnTo>
                    <a:lnTo>
                      <a:pt x="1866" y="6"/>
                    </a:lnTo>
                    <a:lnTo>
                      <a:pt x="1946" y="9"/>
                    </a:lnTo>
                    <a:lnTo>
                      <a:pt x="2024" y="14"/>
                    </a:lnTo>
                    <a:lnTo>
                      <a:pt x="2101" y="20"/>
                    </a:lnTo>
                    <a:lnTo>
                      <a:pt x="2177" y="27"/>
                    </a:lnTo>
                    <a:lnTo>
                      <a:pt x="2250" y="34"/>
                    </a:lnTo>
                    <a:lnTo>
                      <a:pt x="2321" y="43"/>
                    </a:lnTo>
                    <a:lnTo>
                      <a:pt x="2392" y="52"/>
                    </a:lnTo>
                    <a:lnTo>
                      <a:pt x="2460" y="63"/>
                    </a:lnTo>
                    <a:lnTo>
                      <a:pt x="2525" y="74"/>
                    </a:lnTo>
                    <a:lnTo>
                      <a:pt x="2589" y="86"/>
                    </a:lnTo>
                    <a:lnTo>
                      <a:pt x="2650" y="99"/>
                    </a:lnTo>
                    <a:lnTo>
                      <a:pt x="2709" y="114"/>
                    </a:lnTo>
                    <a:lnTo>
                      <a:pt x="2765" y="128"/>
                    </a:lnTo>
                    <a:lnTo>
                      <a:pt x="2818" y="144"/>
                    </a:lnTo>
                    <a:lnTo>
                      <a:pt x="2870" y="160"/>
                    </a:lnTo>
                    <a:lnTo>
                      <a:pt x="2917" y="176"/>
                    </a:lnTo>
                    <a:lnTo>
                      <a:pt x="2963" y="194"/>
                    </a:lnTo>
                    <a:lnTo>
                      <a:pt x="3005" y="212"/>
                    </a:lnTo>
                    <a:lnTo>
                      <a:pt x="3044" y="231"/>
                    </a:lnTo>
                    <a:lnTo>
                      <a:pt x="3080" y="251"/>
                    </a:lnTo>
                    <a:lnTo>
                      <a:pt x="3112" y="270"/>
                    </a:lnTo>
                    <a:lnTo>
                      <a:pt x="3141" y="291"/>
                    </a:lnTo>
                    <a:lnTo>
                      <a:pt x="3167" y="312"/>
                    </a:lnTo>
                    <a:lnTo>
                      <a:pt x="3189" y="334"/>
                    </a:lnTo>
                    <a:lnTo>
                      <a:pt x="3207" y="356"/>
                    </a:lnTo>
                    <a:lnTo>
                      <a:pt x="3221" y="379"/>
                    </a:lnTo>
                    <a:lnTo>
                      <a:pt x="3231" y="402"/>
                    </a:lnTo>
                    <a:lnTo>
                      <a:pt x="3237" y="425"/>
                    </a:lnTo>
                    <a:lnTo>
                      <a:pt x="3239" y="4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12120" y="6522840"/>
                <a:ext cx="357120" cy="109080"/>
              </a:xfrm>
              <a:custGeom>
                <a:avLst/>
                <a:gdLst/>
                <a:ahLst/>
                <a:rect l="l" t="t" r="r" b="b"/>
                <a:pathLst>
                  <a:path w="3237" h="914">
                    <a:moveTo>
                      <a:pt x="3237" y="449"/>
                    </a:moveTo>
                    <a:lnTo>
                      <a:pt x="3235" y="472"/>
                    </a:lnTo>
                    <a:lnTo>
                      <a:pt x="3228" y="496"/>
                    </a:lnTo>
                    <a:lnTo>
                      <a:pt x="3218" y="519"/>
                    </a:lnTo>
                    <a:lnTo>
                      <a:pt x="3204" y="543"/>
                    </a:lnTo>
                    <a:lnTo>
                      <a:pt x="3186" y="565"/>
                    </a:lnTo>
                    <a:lnTo>
                      <a:pt x="3165" y="587"/>
                    </a:lnTo>
                    <a:lnTo>
                      <a:pt x="3138" y="608"/>
                    </a:lnTo>
                    <a:lnTo>
                      <a:pt x="3110" y="629"/>
                    </a:lnTo>
                    <a:lnTo>
                      <a:pt x="3078" y="651"/>
                    </a:lnTo>
                    <a:lnTo>
                      <a:pt x="3041" y="671"/>
                    </a:lnTo>
                    <a:lnTo>
                      <a:pt x="3003" y="690"/>
                    </a:lnTo>
                    <a:lnTo>
                      <a:pt x="2961" y="709"/>
                    </a:lnTo>
                    <a:lnTo>
                      <a:pt x="2915" y="727"/>
                    </a:lnTo>
                    <a:lnTo>
                      <a:pt x="2868" y="744"/>
                    </a:lnTo>
                    <a:lnTo>
                      <a:pt x="2816" y="762"/>
                    </a:lnTo>
                    <a:lnTo>
                      <a:pt x="2763" y="778"/>
                    </a:lnTo>
                    <a:lnTo>
                      <a:pt x="2707" y="793"/>
                    </a:lnTo>
                    <a:lnTo>
                      <a:pt x="2648" y="808"/>
                    </a:lnTo>
                    <a:lnTo>
                      <a:pt x="2587" y="821"/>
                    </a:lnTo>
                    <a:lnTo>
                      <a:pt x="2523" y="834"/>
                    </a:lnTo>
                    <a:lnTo>
                      <a:pt x="2458" y="846"/>
                    </a:lnTo>
                    <a:lnTo>
                      <a:pt x="2390" y="857"/>
                    </a:lnTo>
                    <a:lnTo>
                      <a:pt x="2320" y="869"/>
                    </a:lnTo>
                    <a:lnTo>
                      <a:pt x="2249" y="878"/>
                    </a:lnTo>
                    <a:lnTo>
                      <a:pt x="2175" y="886"/>
                    </a:lnTo>
                    <a:lnTo>
                      <a:pt x="2100" y="893"/>
                    </a:lnTo>
                    <a:lnTo>
                      <a:pt x="2023" y="900"/>
                    </a:lnTo>
                    <a:lnTo>
                      <a:pt x="1945" y="905"/>
                    </a:lnTo>
                    <a:lnTo>
                      <a:pt x="1865" y="909"/>
                    </a:lnTo>
                    <a:lnTo>
                      <a:pt x="1784" y="912"/>
                    </a:lnTo>
                    <a:lnTo>
                      <a:pt x="1702" y="914"/>
                    </a:lnTo>
                    <a:lnTo>
                      <a:pt x="1618" y="914"/>
                    </a:lnTo>
                    <a:lnTo>
                      <a:pt x="1536" y="914"/>
                    </a:lnTo>
                    <a:lnTo>
                      <a:pt x="1453" y="912"/>
                    </a:lnTo>
                    <a:lnTo>
                      <a:pt x="1372" y="909"/>
                    </a:lnTo>
                    <a:lnTo>
                      <a:pt x="1292" y="905"/>
                    </a:lnTo>
                    <a:lnTo>
                      <a:pt x="1214" y="900"/>
                    </a:lnTo>
                    <a:lnTo>
                      <a:pt x="1137" y="893"/>
                    </a:lnTo>
                    <a:lnTo>
                      <a:pt x="1062" y="886"/>
                    </a:lnTo>
                    <a:lnTo>
                      <a:pt x="988" y="878"/>
                    </a:lnTo>
                    <a:lnTo>
                      <a:pt x="917" y="869"/>
                    </a:lnTo>
                    <a:lnTo>
                      <a:pt x="847" y="857"/>
                    </a:lnTo>
                    <a:lnTo>
                      <a:pt x="779" y="846"/>
                    </a:lnTo>
                    <a:lnTo>
                      <a:pt x="714" y="834"/>
                    </a:lnTo>
                    <a:lnTo>
                      <a:pt x="650" y="821"/>
                    </a:lnTo>
                    <a:lnTo>
                      <a:pt x="589" y="808"/>
                    </a:lnTo>
                    <a:lnTo>
                      <a:pt x="530" y="793"/>
                    </a:lnTo>
                    <a:lnTo>
                      <a:pt x="474" y="778"/>
                    </a:lnTo>
                    <a:lnTo>
                      <a:pt x="421" y="762"/>
                    </a:lnTo>
                    <a:lnTo>
                      <a:pt x="369" y="744"/>
                    </a:lnTo>
                    <a:lnTo>
                      <a:pt x="322" y="727"/>
                    </a:lnTo>
                    <a:lnTo>
                      <a:pt x="276" y="709"/>
                    </a:lnTo>
                    <a:lnTo>
                      <a:pt x="234" y="690"/>
                    </a:lnTo>
                    <a:lnTo>
                      <a:pt x="195" y="671"/>
                    </a:lnTo>
                    <a:lnTo>
                      <a:pt x="159" y="651"/>
                    </a:lnTo>
                    <a:lnTo>
                      <a:pt x="127" y="629"/>
                    </a:lnTo>
                    <a:lnTo>
                      <a:pt x="99" y="608"/>
                    </a:lnTo>
                    <a:lnTo>
                      <a:pt x="72" y="587"/>
                    </a:lnTo>
                    <a:lnTo>
                      <a:pt x="51" y="565"/>
                    </a:lnTo>
                    <a:lnTo>
                      <a:pt x="33" y="543"/>
                    </a:lnTo>
                    <a:lnTo>
                      <a:pt x="19" y="519"/>
                    </a:lnTo>
                    <a:lnTo>
                      <a:pt x="9" y="496"/>
                    </a:lnTo>
                    <a:lnTo>
                      <a:pt x="3" y="472"/>
                    </a:lnTo>
                    <a:lnTo>
                      <a:pt x="0" y="449"/>
                    </a:lnTo>
                    <a:lnTo>
                      <a:pt x="3" y="424"/>
                    </a:lnTo>
                    <a:lnTo>
                      <a:pt x="9" y="401"/>
                    </a:lnTo>
                    <a:lnTo>
                      <a:pt x="19" y="378"/>
                    </a:lnTo>
                    <a:lnTo>
                      <a:pt x="33" y="355"/>
                    </a:lnTo>
                    <a:lnTo>
                      <a:pt x="51" y="333"/>
                    </a:lnTo>
                    <a:lnTo>
                      <a:pt x="72" y="311"/>
                    </a:lnTo>
                    <a:lnTo>
                      <a:pt x="99" y="290"/>
                    </a:lnTo>
                    <a:lnTo>
                      <a:pt x="127" y="270"/>
                    </a:lnTo>
                    <a:lnTo>
                      <a:pt x="159" y="250"/>
                    </a:lnTo>
                    <a:lnTo>
                      <a:pt x="195" y="231"/>
                    </a:lnTo>
                    <a:lnTo>
                      <a:pt x="234" y="211"/>
                    </a:lnTo>
                    <a:lnTo>
                      <a:pt x="276" y="193"/>
                    </a:lnTo>
                    <a:lnTo>
                      <a:pt x="322" y="176"/>
                    </a:lnTo>
                    <a:lnTo>
                      <a:pt x="369" y="159"/>
                    </a:lnTo>
                    <a:lnTo>
                      <a:pt x="421" y="143"/>
                    </a:lnTo>
                    <a:lnTo>
                      <a:pt x="474" y="128"/>
                    </a:lnTo>
                    <a:lnTo>
                      <a:pt x="530" y="114"/>
                    </a:lnTo>
                    <a:lnTo>
                      <a:pt x="589" y="99"/>
                    </a:lnTo>
                    <a:lnTo>
                      <a:pt x="650" y="86"/>
                    </a:lnTo>
                    <a:lnTo>
                      <a:pt x="714" y="74"/>
                    </a:lnTo>
                    <a:lnTo>
                      <a:pt x="779" y="63"/>
                    </a:lnTo>
                    <a:lnTo>
                      <a:pt x="847" y="52"/>
                    </a:lnTo>
                    <a:lnTo>
                      <a:pt x="917" y="43"/>
                    </a:lnTo>
                    <a:lnTo>
                      <a:pt x="988" y="34"/>
                    </a:lnTo>
                    <a:lnTo>
                      <a:pt x="1062" y="26"/>
                    </a:lnTo>
                    <a:lnTo>
                      <a:pt x="1137" y="20"/>
                    </a:lnTo>
                    <a:lnTo>
                      <a:pt x="1214" y="14"/>
                    </a:lnTo>
                    <a:lnTo>
                      <a:pt x="1292" y="9"/>
                    </a:lnTo>
                    <a:lnTo>
                      <a:pt x="1372" y="6"/>
                    </a:lnTo>
                    <a:lnTo>
                      <a:pt x="1453" y="2"/>
                    </a:lnTo>
                    <a:lnTo>
                      <a:pt x="1536" y="0"/>
                    </a:lnTo>
                    <a:lnTo>
                      <a:pt x="1618" y="0"/>
                    </a:lnTo>
                    <a:lnTo>
                      <a:pt x="1702" y="0"/>
                    </a:lnTo>
                    <a:lnTo>
                      <a:pt x="1784" y="2"/>
                    </a:lnTo>
                    <a:lnTo>
                      <a:pt x="1865" y="6"/>
                    </a:lnTo>
                    <a:lnTo>
                      <a:pt x="1945" y="9"/>
                    </a:lnTo>
                    <a:lnTo>
                      <a:pt x="2023" y="14"/>
                    </a:lnTo>
                    <a:lnTo>
                      <a:pt x="2100" y="20"/>
                    </a:lnTo>
                    <a:lnTo>
                      <a:pt x="2175" y="26"/>
                    </a:lnTo>
                    <a:lnTo>
                      <a:pt x="2249" y="34"/>
                    </a:lnTo>
                    <a:lnTo>
                      <a:pt x="2320" y="43"/>
                    </a:lnTo>
                    <a:lnTo>
                      <a:pt x="2390" y="52"/>
                    </a:lnTo>
                    <a:lnTo>
                      <a:pt x="2458" y="63"/>
                    </a:lnTo>
                    <a:lnTo>
                      <a:pt x="2523" y="74"/>
                    </a:lnTo>
                    <a:lnTo>
                      <a:pt x="2587" y="86"/>
                    </a:lnTo>
                    <a:lnTo>
                      <a:pt x="2648" y="99"/>
                    </a:lnTo>
                    <a:lnTo>
                      <a:pt x="2707" y="114"/>
                    </a:lnTo>
                    <a:lnTo>
                      <a:pt x="2763" y="128"/>
                    </a:lnTo>
                    <a:lnTo>
                      <a:pt x="2816" y="143"/>
                    </a:lnTo>
                    <a:lnTo>
                      <a:pt x="2868" y="159"/>
                    </a:lnTo>
                    <a:lnTo>
                      <a:pt x="2915" y="176"/>
                    </a:lnTo>
                    <a:lnTo>
                      <a:pt x="2961" y="193"/>
                    </a:lnTo>
                    <a:lnTo>
                      <a:pt x="3003" y="211"/>
                    </a:lnTo>
                    <a:lnTo>
                      <a:pt x="3041" y="231"/>
                    </a:lnTo>
                    <a:lnTo>
                      <a:pt x="3078" y="250"/>
                    </a:lnTo>
                    <a:lnTo>
                      <a:pt x="3110" y="270"/>
                    </a:lnTo>
                    <a:lnTo>
                      <a:pt x="3138" y="290"/>
                    </a:lnTo>
                    <a:lnTo>
                      <a:pt x="3165" y="311"/>
                    </a:lnTo>
                    <a:lnTo>
                      <a:pt x="3186" y="333"/>
                    </a:lnTo>
                    <a:lnTo>
                      <a:pt x="3204" y="355"/>
                    </a:lnTo>
                    <a:lnTo>
                      <a:pt x="3218" y="378"/>
                    </a:lnTo>
                    <a:lnTo>
                      <a:pt x="3228" y="401"/>
                    </a:lnTo>
                    <a:lnTo>
                      <a:pt x="3235" y="424"/>
                    </a:lnTo>
                    <a:lnTo>
                      <a:pt x="3237" y="4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112120" y="6522840"/>
                <a:ext cx="357120" cy="109080"/>
              </a:xfrm>
              <a:custGeom>
                <a:avLst/>
                <a:gdLst/>
                <a:ahLst/>
                <a:rect l="l" t="t" r="r" b="b"/>
                <a:pathLst>
                  <a:path w="3233" h="912">
                    <a:moveTo>
                      <a:pt x="3233" y="448"/>
                    </a:moveTo>
                    <a:lnTo>
                      <a:pt x="3231" y="471"/>
                    </a:lnTo>
                    <a:lnTo>
                      <a:pt x="3225" y="495"/>
                    </a:lnTo>
                    <a:lnTo>
                      <a:pt x="3215" y="518"/>
                    </a:lnTo>
                    <a:lnTo>
                      <a:pt x="3201" y="541"/>
                    </a:lnTo>
                    <a:lnTo>
                      <a:pt x="3183" y="564"/>
                    </a:lnTo>
                    <a:lnTo>
                      <a:pt x="3161" y="586"/>
                    </a:lnTo>
                    <a:lnTo>
                      <a:pt x="3135" y="607"/>
                    </a:lnTo>
                    <a:lnTo>
                      <a:pt x="3106" y="628"/>
                    </a:lnTo>
                    <a:lnTo>
                      <a:pt x="3074" y="649"/>
                    </a:lnTo>
                    <a:lnTo>
                      <a:pt x="3038" y="669"/>
                    </a:lnTo>
                    <a:lnTo>
                      <a:pt x="2999" y="688"/>
                    </a:lnTo>
                    <a:lnTo>
                      <a:pt x="2958" y="707"/>
                    </a:lnTo>
                    <a:lnTo>
                      <a:pt x="2912" y="725"/>
                    </a:lnTo>
                    <a:lnTo>
                      <a:pt x="2865" y="743"/>
                    </a:lnTo>
                    <a:lnTo>
                      <a:pt x="2813" y="760"/>
                    </a:lnTo>
                    <a:lnTo>
                      <a:pt x="2760" y="776"/>
                    </a:lnTo>
                    <a:lnTo>
                      <a:pt x="2704" y="792"/>
                    </a:lnTo>
                    <a:lnTo>
                      <a:pt x="2646" y="806"/>
                    </a:lnTo>
                    <a:lnTo>
                      <a:pt x="2584" y="820"/>
                    </a:lnTo>
                    <a:lnTo>
                      <a:pt x="2520" y="833"/>
                    </a:lnTo>
                    <a:lnTo>
                      <a:pt x="2455" y="845"/>
                    </a:lnTo>
                    <a:lnTo>
                      <a:pt x="2387" y="856"/>
                    </a:lnTo>
                    <a:lnTo>
                      <a:pt x="2317" y="867"/>
                    </a:lnTo>
                    <a:lnTo>
                      <a:pt x="2246" y="876"/>
                    </a:lnTo>
                    <a:lnTo>
                      <a:pt x="2173" y="884"/>
                    </a:lnTo>
                    <a:lnTo>
                      <a:pt x="2097" y="892"/>
                    </a:lnTo>
                    <a:lnTo>
                      <a:pt x="2020" y="898"/>
                    </a:lnTo>
                    <a:lnTo>
                      <a:pt x="1943" y="903"/>
                    </a:lnTo>
                    <a:lnTo>
                      <a:pt x="1863" y="907"/>
                    </a:lnTo>
                    <a:lnTo>
                      <a:pt x="1782" y="910"/>
                    </a:lnTo>
                    <a:lnTo>
                      <a:pt x="1699" y="912"/>
                    </a:lnTo>
                    <a:lnTo>
                      <a:pt x="1616" y="912"/>
                    </a:lnTo>
                    <a:lnTo>
                      <a:pt x="1534" y="912"/>
                    </a:lnTo>
                    <a:lnTo>
                      <a:pt x="1451" y="910"/>
                    </a:lnTo>
                    <a:lnTo>
                      <a:pt x="1370" y="907"/>
                    </a:lnTo>
                    <a:lnTo>
                      <a:pt x="1290" y="903"/>
                    </a:lnTo>
                    <a:lnTo>
                      <a:pt x="1212" y="898"/>
                    </a:lnTo>
                    <a:lnTo>
                      <a:pt x="1136" y="892"/>
                    </a:lnTo>
                    <a:lnTo>
                      <a:pt x="1060" y="884"/>
                    </a:lnTo>
                    <a:lnTo>
                      <a:pt x="987" y="876"/>
                    </a:lnTo>
                    <a:lnTo>
                      <a:pt x="916" y="867"/>
                    </a:lnTo>
                    <a:lnTo>
                      <a:pt x="846" y="856"/>
                    </a:lnTo>
                    <a:lnTo>
                      <a:pt x="778" y="845"/>
                    </a:lnTo>
                    <a:lnTo>
                      <a:pt x="713" y="833"/>
                    </a:lnTo>
                    <a:lnTo>
                      <a:pt x="649" y="820"/>
                    </a:lnTo>
                    <a:lnTo>
                      <a:pt x="588" y="806"/>
                    </a:lnTo>
                    <a:lnTo>
                      <a:pt x="529" y="792"/>
                    </a:lnTo>
                    <a:lnTo>
                      <a:pt x="473" y="776"/>
                    </a:lnTo>
                    <a:lnTo>
                      <a:pt x="420" y="760"/>
                    </a:lnTo>
                    <a:lnTo>
                      <a:pt x="368" y="743"/>
                    </a:lnTo>
                    <a:lnTo>
                      <a:pt x="321" y="725"/>
                    </a:lnTo>
                    <a:lnTo>
                      <a:pt x="275" y="707"/>
                    </a:lnTo>
                    <a:lnTo>
                      <a:pt x="234" y="688"/>
                    </a:lnTo>
                    <a:lnTo>
                      <a:pt x="194" y="669"/>
                    </a:lnTo>
                    <a:lnTo>
                      <a:pt x="159" y="649"/>
                    </a:lnTo>
                    <a:lnTo>
                      <a:pt x="127" y="628"/>
                    </a:lnTo>
                    <a:lnTo>
                      <a:pt x="98" y="607"/>
                    </a:lnTo>
                    <a:lnTo>
                      <a:pt x="72" y="586"/>
                    </a:lnTo>
                    <a:lnTo>
                      <a:pt x="50" y="564"/>
                    </a:lnTo>
                    <a:lnTo>
                      <a:pt x="32" y="541"/>
                    </a:lnTo>
                    <a:lnTo>
                      <a:pt x="18" y="518"/>
                    </a:lnTo>
                    <a:lnTo>
                      <a:pt x="8" y="495"/>
                    </a:lnTo>
                    <a:lnTo>
                      <a:pt x="2" y="471"/>
                    </a:lnTo>
                    <a:lnTo>
                      <a:pt x="0" y="448"/>
                    </a:lnTo>
                    <a:lnTo>
                      <a:pt x="2" y="423"/>
                    </a:lnTo>
                    <a:lnTo>
                      <a:pt x="8" y="400"/>
                    </a:lnTo>
                    <a:lnTo>
                      <a:pt x="18" y="377"/>
                    </a:lnTo>
                    <a:lnTo>
                      <a:pt x="32" y="355"/>
                    </a:lnTo>
                    <a:lnTo>
                      <a:pt x="50" y="333"/>
                    </a:lnTo>
                    <a:lnTo>
                      <a:pt x="72" y="310"/>
                    </a:lnTo>
                    <a:lnTo>
                      <a:pt x="98" y="289"/>
                    </a:lnTo>
                    <a:lnTo>
                      <a:pt x="127" y="269"/>
                    </a:lnTo>
                    <a:lnTo>
                      <a:pt x="159" y="249"/>
                    </a:lnTo>
                    <a:lnTo>
                      <a:pt x="194" y="230"/>
                    </a:lnTo>
                    <a:lnTo>
                      <a:pt x="234" y="211"/>
                    </a:lnTo>
                    <a:lnTo>
                      <a:pt x="275" y="193"/>
                    </a:lnTo>
                    <a:lnTo>
                      <a:pt x="321" y="175"/>
                    </a:lnTo>
                    <a:lnTo>
                      <a:pt x="368" y="159"/>
                    </a:lnTo>
                    <a:lnTo>
                      <a:pt x="420" y="143"/>
                    </a:lnTo>
                    <a:lnTo>
                      <a:pt x="473" y="128"/>
                    </a:lnTo>
                    <a:lnTo>
                      <a:pt x="529" y="113"/>
                    </a:lnTo>
                    <a:lnTo>
                      <a:pt x="588" y="99"/>
                    </a:lnTo>
                    <a:lnTo>
                      <a:pt x="649" y="86"/>
                    </a:lnTo>
                    <a:lnTo>
                      <a:pt x="713" y="74"/>
                    </a:lnTo>
                    <a:lnTo>
                      <a:pt x="778" y="62"/>
                    </a:lnTo>
                    <a:lnTo>
                      <a:pt x="846" y="52"/>
                    </a:lnTo>
                    <a:lnTo>
                      <a:pt x="916" y="43"/>
                    </a:lnTo>
                    <a:lnTo>
                      <a:pt x="987" y="34"/>
                    </a:lnTo>
                    <a:lnTo>
                      <a:pt x="1060" y="26"/>
                    </a:lnTo>
                    <a:lnTo>
                      <a:pt x="1136" y="20"/>
                    </a:lnTo>
                    <a:lnTo>
                      <a:pt x="1212" y="14"/>
                    </a:lnTo>
                    <a:lnTo>
                      <a:pt x="1290" y="9"/>
                    </a:lnTo>
                    <a:lnTo>
                      <a:pt x="1370" y="5"/>
                    </a:lnTo>
                    <a:lnTo>
                      <a:pt x="1451" y="2"/>
                    </a:lnTo>
                    <a:lnTo>
                      <a:pt x="1534" y="0"/>
                    </a:lnTo>
                    <a:lnTo>
                      <a:pt x="1616" y="0"/>
                    </a:lnTo>
                    <a:lnTo>
                      <a:pt x="1699" y="0"/>
                    </a:lnTo>
                    <a:lnTo>
                      <a:pt x="1782" y="2"/>
                    </a:lnTo>
                    <a:lnTo>
                      <a:pt x="1863" y="5"/>
                    </a:lnTo>
                    <a:lnTo>
                      <a:pt x="1943" y="9"/>
                    </a:lnTo>
                    <a:lnTo>
                      <a:pt x="2020" y="14"/>
                    </a:lnTo>
                    <a:lnTo>
                      <a:pt x="2097" y="20"/>
                    </a:lnTo>
                    <a:lnTo>
                      <a:pt x="2173" y="26"/>
                    </a:lnTo>
                    <a:lnTo>
                      <a:pt x="2246" y="34"/>
                    </a:lnTo>
                    <a:lnTo>
                      <a:pt x="2317" y="43"/>
                    </a:lnTo>
                    <a:lnTo>
                      <a:pt x="2387" y="52"/>
                    </a:lnTo>
                    <a:lnTo>
                      <a:pt x="2455" y="62"/>
                    </a:lnTo>
                    <a:lnTo>
                      <a:pt x="2520" y="74"/>
                    </a:lnTo>
                    <a:lnTo>
                      <a:pt x="2584" y="86"/>
                    </a:lnTo>
                    <a:lnTo>
                      <a:pt x="2646" y="99"/>
                    </a:lnTo>
                    <a:lnTo>
                      <a:pt x="2704" y="113"/>
                    </a:lnTo>
                    <a:lnTo>
                      <a:pt x="2760" y="128"/>
                    </a:lnTo>
                    <a:lnTo>
                      <a:pt x="2813" y="143"/>
                    </a:lnTo>
                    <a:lnTo>
                      <a:pt x="2865" y="159"/>
                    </a:lnTo>
                    <a:lnTo>
                      <a:pt x="2912" y="175"/>
                    </a:lnTo>
                    <a:lnTo>
                      <a:pt x="2958" y="193"/>
                    </a:lnTo>
                    <a:lnTo>
                      <a:pt x="2999" y="211"/>
                    </a:lnTo>
                    <a:lnTo>
                      <a:pt x="3038" y="230"/>
                    </a:lnTo>
                    <a:lnTo>
                      <a:pt x="3074" y="249"/>
                    </a:lnTo>
                    <a:lnTo>
                      <a:pt x="3106" y="269"/>
                    </a:lnTo>
                    <a:lnTo>
                      <a:pt x="3135" y="289"/>
                    </a:lnTo>
                    <a:lnTo>
                      <a:pt x="3161" y="310"/>
                    </a:lnTo>
                    <a:lnTo>
                      <a:pt x="3183" y="333"/>
                    </a:lnTo>
                    <a:lnTo>
                      <a:pt x="3201" y="355"/>
                    </a:lnTo>
                    <a:lnTo>
                      <a:pt x="3215" y="377"/>
                    </a:lnTo>
                    <a:lnTo>
                      <a:pt x="3225" y="400"/>
                    </a:lnTo>
                    <a:lnTo>
                      <a:pt x="3231" y="423"/>
                    </a:lnTo>
                    <a:lnTo>
                      <a:pt x="3233" y="4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112120" y="6522840"/>
                <a:ext cx="357120" cy="109080"/>
              </a:xfrm>
              <a:custGeom>
                <a:avLst/>
                <a:gdLst/>
                <a:ahLst/>
                <a:rect l="l" t="t" r="r" b="b"/>
                <a:pathLst>
                  <a:path w="3231" h="911">
                    <a:moveTo>
                      <a:pt x="3231" y="448"/>
                    </a:moveTo>
                    <a:lnTo>
                      <a:pt x="3229" y="471"/>
                    </a:lnTo>
                    <a:lnTo>
                      <a:pt x="3223" y="495"/>
                    </a:lnTo>
                    <a:lnTo>
                      <a:pt x="3212" y="518"/>
                    </a:lnTo>
                    <a:lnTo>
                      <a:pt x="3198" y="541"/>
                    </a:lnTo>
                    <a:lnTo>
                      <a:pt x="3180" y="564"/>
                    </a:lnTo>
                    <a:lnTo>
                      <a:pt x="3159" y="585"/>
                    </a:lnTo>
                    <a:lnTo>
                      <a:pt x="3133" y="607"/>
                    </a:lnTo>
                    <a:lnTo>
                      <a:pt x="3104" y="628"/>
                    </a:lnTo>
                    <a:lnTo>
                      <a:pt x="3072" y="649"/>
                    </a:lnTo>
                    <a:lnTo>
                      <a:pt x="3036" y="669"/>
                    </a:lnTo>
                    <a:lnTo>
                      <a:pt x="2997" y="688"/>
                    </a:lnTo>
                    <a:lnTo>
                      <a:pt x="2956" y="707"/>
                    </a:lnTo>
                    <a:lnTo>
                      <a:pt x="2910" y="725"/>
                    </a:lnTo>
                    <a:lnTo>
                      <a:pt x="2863" y="742"/>
                    </a:lnTo>
                    <a:lnTo>
                      <a:pt x="2811" y="760"/>
                    </a:lnTo>
                    <a:lnTo>
                      <a:pt x="2758" y="776"/>
                    </a:lnTo>
                    <a:lnTo>
                      <a:pt x="2702" y="791"/>
                    </a:lnTo>
                    <a:lnTo>
                      <a:pt x="2644" y="805"/>
                    </a:lnTo>
                    <a:lnTo>
                      <a:pt x="2582" y="819"/>
                    </a:lnTo>
                    <a:lnTo>
                      <a:pt x="2519" y="832"/>
                    </a:lnTo>
                    <a:lnTo>
                      <a:pt x="2454" y="844"/>
                    </a:lnTo>
                    <a:lnTo>
                      <a:pt x="2386" y="855"/>
                    </a:lnTo>
                    <a:lnTo>
                      <a:pt x="2316" y="866"/>
                    </a:lnTo>
                    <a:lnTo>
                      <a:pt x="2245" y="875"/>
                    </a:lnTo>
                    <a:lnTo>
                      <a:pt x="2171" y="883"/>
                    </a:lnTo>
                    <a:lnTo>
                      <a:pt x="2096" y="891"/>
                    </a:lnTo>
                    <a:lnTo>
                      <a:pt x="2019" y="897"/>
                    </a:lnTo>
                    <a:lnTo>
                      <a:pt x="1941" y="902"/>
                    </a:lnTo>
                    <a:lnTo>
                      <a:pt x="1862" y="906"/>
                    </a:lnTo>
                    <a:lnTo>
                      <a:pt x="1781" y="909"/>
                    </a:lnTo>
                    <a:lnTo>
                      <a:pt x="1698" y="911"/>
                    </a:lnTo>
                    <a:lnTo>
                      <a:pt x="1615" y="911"/>
                    </a:lnTo>
                    <a:lnTo>
                      <a:pt x="1533" y="911"/>
                    </a:lnTo>
                    <a:lnTo>
                      <a:pt x="1450" y="909"/>
                    </a:lnTo>
                    <a:lnTo>
                      <a:pt x="1369" y="906"/>
                    </a:lnTo>
                    <a:lnTo>
                      <a:pt x="1290" y="902"/>
                    </a:lnTo>
                    <a:lnTo>
                      <a:pt x="1211" y="897"/>
                    </a:lnTo>
                    <a:lnTo>
                      <a:pt x="1135" y="891"/>
                    </a:lnTo>
                    <a:lnTo>
                      <a:pt x="1060" y="883"/>
                    </a:lnTo>
                    <a:lnTo>
                      <a:pt x="986" y="875"/>
                    </a:lnTo>
                    <a:lnTo>
                      <a:pt x="915" y="866"/>
                    </a:lnTo>
                    <a:lnTo>
                      <a:pt x="845" y="855"/>
                    </a:lnTo>
                    <a:lnTo>
                      <a:pt x="777" y="844"/>
                    </a:lnTo>
                    <a:lnTo>
                      <a:pt x="713" y="832"/>
                    </a:lnTo>
                    <a:lnTo>
                      <a:pt x="649" y="819"/>
                    </a:lnTo>
                    <a:lnTo>
                      <a:pt x="587" y="805"/>
                    </a:lnTo>
                    <a:lnTo>
                      <a:pt x="529" y="791"/>
                    </a:lnTo>
                    <a:lnTo>
                      <a:pt x="473" y="776"/>
                    </a:lnTo>
                    <a:lnTo>
                      <a:pt x="420" y="760"/>
                    </a:lnTo>
                    <a:lnTo>
                      <a:pt x="369" y="742"/>
                    </a:lnTo>
                    <a:lnTo>
                      <a:pt x="321" y="725"/>
                    </a:lnTo>
                    <a:lnTo>
                      <a:pt x="275" y="707"/>
                    </a:lnTo>
                    <a:lnTo>
                      <a:pt x="234" y="688"/>
                    </a:lnTo>
                    <a:lnTo>
                      <a:pt x="194" y="669"/>
                    </a:lnTo>
                    <a:lnTo>
                      <a:pt x="159" y="649"/>
                    </a:lnTo>
                    <a:lnTo>
                      <a:pt x="127" y="628"/>
                    </a:lnTo>
                    <a:lnTo>
                      <a:pt x="98" y="607"/>
                    </a:lnTo>
                    <a:lnTo>
                      <a:pt x="72" y="585"/>
                    </a:lnTo>
                    <a:lnTo>
                      <a:pt x="51" y="564"/>
                    </a:lnTo>
                    <a:lnTo>
                      <a:pt x="33" y="541"/>
                    </a:lnTo>
                    <a:lnTo>
                      <a:pt x="19" y="518"/>
                    </a:lnTo>
                    <a:lnTo>
                      <a:pt x="9" y="495"/>
                    </a:lnTo>
                    <a:lnTo>
                      <a:pt x="2" y="471"/>
                    </a:lnTo>
                    <a:lnTo>
                      <a:pt x="0" y="448"/>
                    </a:lnTo>
                    <a:lnTo>
                      <a:pt x="2" y="423"/>
                    </a:lnTo>
                    <a:lnTo>
                      <a:pt x="9" y="400"/>
                    </a:lnTo>
                    <a:lnTo>
                      <a:pt x="19" y="377"/>
                    </a:lnTo>
                    <a:lnTo>
                      <a:pt x="33" y="355"/>
                    </a:lnTo>
                    <a:lnTo>
                      <a:pt x="51" y="333"/>
                    </a:lnTo>
                    <a:lnTo>
                      <a:pt x="72" y="311"/>
                    </a:lnTo>
                    <a:lnTo>
                      <a:pt x="98" y="290"/>
                    </a:lnTo>
                    <a:lnTo>
                      <a:pt x="127" y="269"/>
                    </a:lnTo>
                    <a:lnTo>
                      <a:pt x="159" y="250"/>
                    </a:lnTo>
                    <a:lnTo>
                      <a:pt x="194" y="231"/>
                    </a:lnTo>
                    <a:lnTo>
                      <a:pt x="234" y="211"/>
                    </a:lnTo>
                    <a:lnTo>
                      <a:pt x="275" y="193"/>
                    </a:lnTo>
                    <a:lnTo>
                      <a:pt x="321" y="176"/>
                    </a:lnTo>
                    <a:lnTo>
                      <a:pt x="369" y="159"/>
                    </a:lnTo>
                    <a:lnTo>
                      <a:pt x="420" y="144"/>
                    </a:lnTo>
                    <a:lnTo>
                      <a:pt x="473" y="128"/>
                    </a:lnTo>
                    <a:lnTo>
                      <a:pt x="529" y="114"/>
                    </a:lnTo>
                    <a:lnTo>
                      <a:pt x="587" y="99"/>
                    </a:lnTo>
                    <a:lnTo>
                      <a:pt x="649" y="87"/>
                    </a:lnTo>
                    <a:lnTo>
                      <a:pt x="713" y="74"/>
                    </a:lnTo>
                    <a:lnTo>
                      <a:pt x="777" y="63"/>
                    </a:lnTo>
                    <a:lnTo>
                      <a:pt x="845" y="53"/>
                    </a:lnTo>
                    <a:lnTo>
                      <a:pt x="915" y="43"/>
                    </a:lnTo>
                    <a:lnTo>
                      <a:pt x="986" y="35"/>
                    </a:lnTo>
                    <a:lnTo>
                      <a:pt x="1060" y="27"/>
                    </a:lnTo>
                    <a:lnTo>
                      <a:pt x="1135" y="21"/>
                    </a:lnTo>
                    <a:lnTo>
                      <a:pt x="1211" y="15"/>
                    </a:lnTo>
                    <a:lnTo>
                      <a:pt x="1290" y="10"/>
                    </a:lnTo>
                    <a:lnTo>
                      <a:pt x="1369" y="6"/>
                    </a:lnTo>
                    <a:lnTo>
                      <a:pt x="1450" y="4"/>
                    </a:lnTo>
                    <a:lnTo>
                      <a:pt x="1533" y="1"/>
                    </a:lnTo>
                    <a:lnTo>
                      <a:pt x="1615" y="0"/>
                    </a:lnTo>
                    <a:lnTo>
                      <a:pt x="1698" y="1"/>
                    </a:lnTo>
                    <a:lnTo>
                      <a:pt x="1781" y="4"/>
                    </a:lnTo>
                    <a:lnTo>
                      <a:pt x="1862" y="6"/>
                    </a:lnTo>
                    <a:lnTo>
                      <a:pt x="1941" y="10"/>
                    </a:lnTo>
                    <a:lnTo>
                      <a:pt x="2019" y="15"/>
                    </a:lnTo>
                    <a:lnTo>
                      <a:pt x="2096" y="21"/>
                    </a:lnTo>
                    <a:lnTo>
                      <a:pt x="2171" y="27"/>
                    </a:lnTo>
                    <a:lnTo>
                      <a:pt x="2245" y="35"/>
                    </a:lnTo>
                    <a:lnTo>
                      <a:pt x="2316" y="43"/>
                    </a:lnTo>
                    <a:lnTo>
                      <a:pt x="2386" y="53"/>
                    </a:lnTo>
                    <a:lnTo>
                      <a:pt x="2454" y="63"/>
                    </a:lnTo>
                    <a:lnTo>
                      <a:pt x="2519" y="74"/>
                    </a:lnTo>
                    <a:lnTo>
                      <a:pt x="2582" y="87"/>
                    </a:lnTo>
                    <a:lnTo>
                      <a:pt x="2644" y="99"/>
                    </a:lnTo>
                    <a:lnTo>
                      <a:pt x="2702" y="114"/>
                    </a:lnTo>
                    <a:lnTo>
                      <a:pt x="2758" y="128"/>
                    </a:lnTo>
                    <a:lnTo>
                      <a:pt x="2811" y="144"/>
                    </a:lnTo>
                    <a:lnTo>
                      <a:pt x="2863" y="159"/>
                    </a:lnTo>
                    <a:lnTo>
                      <a:pt x="2910" y="176"/>
                    </a:lnTo>
                    <a:lnTo>
                      <a:pt x="2956" y="193"/>
                    </a:lnTo>
                    <a:lnTo>
                      <a:pt x="2997" y="211"/>
                    </a:lnTo>
                    <a:lnTo>
                      <a:pt x="3036" y="231"/>
                    </a:lnTo>
                    <a:lnTo>
                      <a:pt x="3072" y="250"/>
                    </a:lnTo>
                    <a:lnTo>
                      <a:pt x="3104" y="269"/>
                    </a:lnTo>
                    <a:lnTo>
                      <a:pt x="3133" y="290"/>
                    </a:lnTo>
                    <a:lnTo>
                      <a:pt x="3159" y="311"/>
                    </a:lnTo>
                    <a:lnTo>
                      <a:pt x="3180" y="333"/>
                    </a:lnTo>
                    <a:lnTo>
                      <a:pt x="3198" y="355"/>
                    </a:lnTo>
                    <a:lnTo>
                      <a:pt x="3212" y="377"/>
                    </a:lnTo>
                    <a:lnTo>
                      <a:pt x="3223" y="400"/>
                    </a:lnTo>
                    <a:lnTo>
                      <a:pt x="3229" y="423"/>
                    </a:lnTo>
                    <a:lnTo>
                      <a:pt x="3231" y="4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112120" y="6522840"/>
                <a:ext cx="357120" cy="109080"/>
              </a:xfrm>
              <a:custGeom>
                <a:avLst/>
                <a:gdLst/>
                <a:ahLst/>
                <a:rect l="l" t="t" r="r" b="b"/>
                <a:pathLst>
                  <a:path w="3227" h="909">
                    <a:moveTo>
                      <a:pt x="3227" y="447"/>
                    </a:moveTo>
                    <a:lnTo>
                      <a:pt x="3225" y="470"/>
                    </a:lnTo>
                    <a:lnTo>
                      <a:pt x="3219" y="494"/>
                    </a:lnTo>
                    <a:lnTo>
                      <a:pt x="3209" y="517"/>
                    </a:lnTo>
                    <a:lnTo>
                      <a:pt x="3195" y="540"/>
                    </a:lnTo>
                    <a:lnTo>
                      <a:pt x="3177" y="562"/>
                    </a:lnTo>
                    <a:lnTo>
                      <a:pt x="3156" y="584"/>
                    </a:lnTo>
                    <a:lnTo>
                      <a:pt x="3129" y="605"/>
                    </a:lnTo>
                    <a:lnTo>
                      <a:pt x="3101" y="626"/>
                    </a:lnTo>
                    <a:lnTo>
                      <a:pt x="3069" y="648"/>
                    </a:lnTo>
                    <a:lnTo>
                      <a:pt x="3033" y="667"/>
                    </a:lnTo>
                    <a:lnTo>
                      <a:pt x="2994" y="687"/>
                    </a:lnTo>
                    <a:lnTo>
                      <a:pt x="2952" y="705"/>
                    </a:lnTo>
                    <a:lnTo>
                      <a:pt x="2907" y="723"/>
                    </a:lnTo>
                    <a:lnTo>
                      <a:pt x="2859" y="740"/>
                    </a:lnTo>
                    <a:lnTo>
                      <a:pt x="2808" y="758"/>
                    </a:lnTo>
                    <a:lnTo>
                      <a:pt x="2755" y="774"/>
                    </a:lnTo>
                    <a:lnTo>
                      <a:pt x="2699" y="789"/>
                    </a:lnTo>
                    <a:lnTo>
                      <a:pt x="2641" y="804"/>
                    </a:lnTo>
                    <a:lnTo>
                      <a:pt x="2579" y="817"/>
                    </a:lnTo>
                    <a:lnTo>
                      <a:pt x="2516" y="830"/>
                    </a:lnTo>
                    <a:lnTo>
                      <a:pt x="2451" y="842"/>
                    </a:lnTo>
                    <a:lnTo>
                      <a:pt x="2383" y="853"/>
                    </a:lnTo>
                    <a:lnTo>
                      <a:pt x="2313" y="864"/>
                    </a:lnTo>
                    <a:lnTo>
                      <a:pt x="2242" y="873"/>
                    </a:lnTo>
                    <a:lnTo>
                      <a:pt x="2169" y="882"/>
                    </a:lnTo>
                    <a:lnTo>
                      <a:pt x="2093" y="889"/>
                    </a:lnTo>
                    <a:lnTo>
                      <a:pt x="2017" y="895"/>
                    </a:lnTo>
                    <a:lnTo>
                      <a:pt x="1939" y="900"/>
                    </a:lnTo>
                    <a:lnTo>
                      <a:pt x="1859" y="904"/>
                    </a:lnTo>
                    <a:lnTo>
                      <a:pt x="1778" y="907"/>
                    </a:lnTo>
                    <a:lnTo>
                      <a:pt x="1696" y="909"/>
                    </a:lnTo>
                    <a:lnTo>
                      <a:pt x="1613" y="909"/>
                    </a:lnTo>
                    <a:lnTo>
                      <a:pt x="1531" y="909"/>
                    </a:lnTo>
                    <a:lnTo>
                      <a:pt x="1449" y="907"/>
                    </a:lnTo>
                    <a:lnTo>
                      <a:pt x="1368" y="904"/>
                    </a:lnTo>
                    <a:lnTo>
                      <a:pt x="1288" y="900"/>
                    </a:lnTo>
                    <a:lnTo>
                      <a:pt x="1210" y="895"/>
                    </a:lnTo>
                    <a:lnTo>
                      <a:pt x="1134" y="889"/>
                    </a:lnTo>
                    <a:lnTo>
                      <a:pt x="1058" y="882"/>
                    </a:lnTo>
                    <a:lnTo>
                      <a:pt x="985" y="873"/>
                    </a:lnTo>
                    <a:lnTo>
                      <a:pt x="914" y="864"/>
                    </a:lnTo>
                    <a:lnTo>
                      <a:pt x="844" y="853"/>
                    </a:lnTo>
                    <a:lnTo>
                      <a:pt x="776" y="842"/>
                    </a:lnTo>
                    <a:lnTo>
                      <a:pt x="711" y="830"/>
                    </a:lnTo>
                    <a:lnTo>
                      <a:pt x="648" y="817"/>
                    </a:lnTo>
                    <a:lnTo>
                      <a:pt x="586" y="804"/>
                    </a:lnTo>
                    <a:lnTo>
                      <a:pt x="528" y="789"/>
                    </a:lnTo>
                    <a:lnTo>
                      <a:pt x="472" y="774"/>
                    </a:lnTo>
                    <a:lnTo>
                      <a:pt x="419" y="758"/>
                    </a:lnTo>
                    <a:lnTo>
                      <a:pt x="368" y="740"/>
                    </a:lnTo>
                    <a:lnTo>
                      <a:pt x="320" y="723"/>
                    </a:lnTo>
                    <a:lnTo>
                      <a:pt x="275" y="705"/>
                    </a:lnTo>
                    <a:lnTo>
                      <a:pt x="233" y="687"/>
                    </a:lnTo>
                    <a:lnTo>
                      <a:pt x="194" y="667"/>
                    </a:lnTo>
                    <a:lnTo>
                      <a:pt x="158" y="648"/>
                    </a:lnTo>
                    <a:lnTo>
                      <a:pt x="126" y="626"/>
                    </a:lnTo>
                    <a:lnTo>
                      <a:pt x="98" y="605"/>
                    </a:lnTo>
                    <a:lnTo>
                      <a:pt x="72" y="584"/>
                    </a:lnTo>
                    <a:lnTo>
                      <a:pt x="50" y="562"/>
                    </a:lnTo>
                    <a:lnTo>
                      <a:pt x="32" y="540"/>
                    </a:lnTo>
                    <a:lnTo>
                      <a:pt x="18" y="517"/>
                    </a:lnTo>
                    <a:lnTo>
                      <a:pt x="8" y="494"/>
                    </a:lnTo>
                    <a:lnTo>
                      <a:pt x="2" y="470"/>
                    </a:lnTo>
                    <a:lnTo>
                      <a:pt x="0" y="447"/>
                    </a:lnTo>
                    <a:lnTo>
                      <a:pt x="2" y="422"/>
                    </a:lnTo>
                    <a:lnTo>
                      <a:pt x="8" y="399"/>
                    </a:lnTo>
                    <a:lnTo>
                      <a:pt x="18" y="376"/>
                    </a:lnTo>
                    <a:lnTo>
                      <a:pt x="32" y="354"/>
                    </a:lnTo>
                    <a:lnTo>
                      <a:pt x="50" y="332"/>
                    </a:lnTo>
                    <a:lnTo>
                      <a:pt x="72" y="310"/>
                    </a:lnTo>
                    <a:lnTo>
                      <a:pt x="98" y="289"/>
                    </a:lnTo>
                    <a:lnTo>
                      <a:pt x="126" y="269"/>
                    </a:lnTo>
                    <a:lnTo>
                      <a:pt x="158" y="249"/>
                    </a:lnTo>
                    <a:lnTo>
                      <a:pt x="194" y="230"/>
                    </a:lnTo>
                    <a:lnTo>
                      <a:pt x="233" y="211"/>
                    </a:lnTo>
                    <a:lnTo>
                      <a:pt x="275" y="193"/>
                    </a:lnTo>
                    <a:lnTo>
                      <a:pt x="320" y="176"/>
                    </a:lnTo>
                    <a:lnTo>
                      <a:pt x="368" y="159"/>
                    </a:lnTo>
                    <a:lnTo>
                      <a:pt x="419" y="143"/>
                    </a:lnTo>
                    <a:lnTo>
                      <a:pt x="472" y="128"/>
                    </a:lnTo>
                    <a:lnTo>
                      <a:pt x="528" y="114"/>
                    </a:lnTo>
                    <a:lnTo>
                      <a:pt x="586" y="99"/>
                    </a:lnTo>
                    <a:lnTo>
                      <a:pt x="648" y="86"/>
                    </a:lnTo>
                    <a:lnTo>
                      <a:pt x="711" y="74"/>
                    </a:lnTo>
                    <a:lnTo>
                      <a:pt x="776" y="63"/>
                    </a:lnTo>
                    <a:lnTo>
                      <a:pt x="844" y="53"/>
                    </a:lnTo>
                    <a:lnTo>
                      <a:pt x="914" y="43"/>
                    </a:lnTo>
                    <a:lnTo>
                      <a:pt x="985" y="35"/>
                    </a:lnTo>
                    <a:lnTo>
                      <a:pt x="1058" y="27"/>
                    </a:lnTo>
                    <a:lnTo>
                      <a:pt x="1134" y="20"/>
                    </a:lnTo>
                    <a:lnTo>
                      <a:pt x="1210" y="15"/>
                    </a:lnTo>
                    <a:lnTo>
                      <a:pt x="1288" y="10"/>
                    </a:lnTo>
                    <a:lnTo>
                      <a:pt x="1368" y="6"/>
                    </a:lnTo>
                    <a:lnTo>
                      <a:pt x="1449" y="4"/>
                    </a:lnTo>
                    <a:lnTo>
                      <a:pt x="1531" y="1"/>
                    </a:lnTo>
                    <a:lnTo>
                      <a:pt x="1613" y="0"/>
                    </a:lnTo>
                    <a:lnTo>
                      <a:pt x="1696" y="1"/>
                    </a:lnTo>
                    <a:lnTo>
                      <a:pt x="1778" y="4"/>
                    </a:lnTo>
                    <a:lnTo>
                      <a:pt x="1859" y="6"/>
                    </a:lnTo>
                    <a:lnTo>
                      <a:pt x="1939" y="10"/>
                    </a:lnTo>
                    <a:lnTo>
                      <a:pt x="2017" y="15"/>
                    </a:lnTo>
                    <a:lnTo>
                      <a:pt x="2093" y="20"/>
                    </a:lnTo>
                    <a:lnTo>
                      <a:pt x="2169" y="27"/>
                    </a:lnTo>
                    <a:lnTo>
                      <a:pt x="2242" y="35"/>
                    </a:lnTo>
                    <a:lnTo>
                      <a:pt x="2313" y="43"/>
                    </a:lnTo>
                    <a:lnTo>
                      <a:pt x="2383" y="53"/>
                    </a:lnTo>
                    <a:lnTo>
                      <a:pt x="2451" y="63"/>
                    </a:lnTo>
                    <a:lnTo>
                      <a:pt x="2516" y="74"/>
                    </a:lnTo>
                    <a:lnTo>
                      <a:pt x="2579" y="86"/>
                    </a:lnTo>
                    <a:lnTo>
                      <a:pt x="2641" y="99"/>
                    </a:lnTo>
                    <a:lnTo>
                      <a:pt x="2699" y="114"/>
                    </a:lnTo>
                    <a:lnTo>
                      <a:pt x="2755" y="128"/>
                    </a:lnTo>
                    <a:lnTo>
                      <a:pt x="2808" y="143"/>
                    </a:lnTo>
                    <a:lnTo>
                      <a:pt x="2859" y="159"/>
                    </a:lnTo>
                    <a:lnTo>
                      <a:pt x="2907" y="176"/>
                    </a:lnTo>
                    <a:lnTo>
                      <a:pt x="2952" y="193"/>
                    </a:lnTo>
                    <a:lnTo>
                      <a:pt x="2994" y="211"/>
                    </a:lnTo>
                    <a:lnTo>
                      <a:pt x="3033" y="230"/>
                    </a:lnTo>
                    <a:lnTo>
                      <a:pt x="3069" y="249"/>
                    </a:lnTo>
                    <a:lnTo>
                      <a:pt x="3101" y="269"/>
                    </a:lnTo>
                    <a:lnTo>
                      <a:pt x="3129" y="289"/>
                    </a:lnTo>
                    <a:lnTo>
                      <a:pt x="3156" y="310"/>
                    </a:lnTo>
                    <a:lnTo>
                      <a:pt x="3177" y="332"/>
                    </a:lnTo>
                    <a:lnTo>
                      <a:pt x="3195" y="354"/>
                    </a:lnTo>
                    <a:lnTo>
                      <a:pt x="3209" y="376"/>
                    </a:lnTo>
                    <a:lnTo>
                      <a:pt x="3219" y="399"/>
                    </a:lnTo>
                    <a:lnTo>
                      <a:pt x="3225" y="422"/>
                    </a:lnTo>
                    <a:lnTo>
                      <a:pt x="3227" y="4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112120" y="6523920"/>
                <a:ext cx="357120" cy="107640"/>
              </a:xfrm>
              <a:custGeom>
                <a:avLst/>
                <a:gdLst/>
                <a:ahLst/>
                <a:rect l="l" t="t" r="r" b="b"/>
                <a:pathLst>
                  <a:path w="3225" h="907">
                    <a:moveTo>
                      <a:pt x="3225" y="446"/>
                    </a:moveTo>
                    <a:lnTo>
                      <a:pt x="3223" y="469"/>
                    </a:lnTo>
                    <a:lnTo>
                      <a:pt x="3217" y="492"/>
                    </a:lnTo>
                    <a:lnTo>
                      <a:pt x="3207" y="515"/>
                    </a:lnTo>
                    <a:lnTo>
                      <a:pt x="3193" y="539"/>
                    </a:lnTo>
                    <a:lnTo>
                      <a:pt x="3175" y="561"/>
                    </a:lnTo>
                    <a:lnTo>
                      <a:pt x="3153" y="583"/>
                    </a:lnTo>
                    <a:lnTo>
                      <a:pt x="3127" y="604"/>
                    </a:lnTo>
                    <a:lnTo>
                      <a:pt x="3099" y="625"/>
                    </a:lnTo>
                    <a:lnTo>
                      <a:pt x="3067" y="646"/>
                    </a:lnTo>
                    <a:lnTo>
                      <a:pt x="3030" y="666"/>
                    </a:lnTo>
                    <a:lnTo>
                      <a:pt x="2992" y="685"/>
                    </a:lnTo>
                    <a:lnTo>
                      <a:pt x="2950" y="704"/>
                    </a:lnTo>
                    <a:lnTo>
                      <a:pt x="2905" y="722"/>
                    </a:lnTo>
                    <a:lnTo>
                      <a:pt x="2857" y="739"/>
                    </a:lnTo>
                    <a:lnTo>
                      <a:pt x="2806" y="756"/>
                    </a:lnTo>
                    <a:lnTo>
                      <a:pt x="2753" y="772"/>
                    </a:lnTo>
                    <a:lnTo>
                      <a:pt x="2697" y="788"/>
                    </a:lnTo>
                    <a:lnTo>
                      <a:pt x="2639" y="802"/>
                    </a:lnTo>
                    <a:lnTo>
                      <a:pt x="2578" y="816"/>
                    </a:lnTo>
                    <a:lnTo>
                      <a:pt x="2514" y="828"/>
                    </a:lnTo>
                    <a:lnTo>
                      <a:pt x="2449" y="840"/>
                    </a:lnTo>
                    <a:lnTo>
                      <a:pt x="2381" y="851"/>
                    </a:lnTo>
                    <a:lnTo>
                      <a:pt x="2311" y="862"/>
                    </a:lnTo>
                    <a:lnTo>
                      <a:pt x="2241" y="871"/>
                    </a:lnTo>
                    <a:lnTo>
                      <a:pt x="2167" y="880"/>
                    </a:lnTo>
                    <a:lnTo>
                      <a:pt x="2092" y="887"/>
                    </a:lnTo>
                    <a:lnTo>
                      <a:pt x="2015" y="893"/>
                    </a:lnTo>
                    <a:lnTo>
                      <a:pt x="1938" y="898"/>
                    </a:lnTo>
                    <a:lnTo>
                      <a:pt x="1858" y="902"/>
                    </a:lnTo>
                    <a:lnTo>
                      <a:pt x="1777" y="905"/>
                    </a:lnTo>
                    <a:lnTo>
                      <a:pt x="1695" y="907"/>
                    </a:lnTo>
                    <a:lnTo>
                      <a:pt x="1612" y="907"/>
                    </a:lnTo>
                    <a:lnTo>
                      <a:pt x="1530" y="907"/>
                    </a:lnTo>
                    <a:lnTo>
                      <a:pt x="1448" y="905"/>
                    </a:lnTo>
                    <a:lnTo>
                      <a:pt x="1367" y="902"/>
                    </a:lnTo>
                    <a:lnTo>
                      <a:pt x="1287" y="898"/>
                    </a:lnTo>
                    <a:lnTo>
                      <a:pt x="1209" y="893"/>
                    </a:lnTo>
                    <a:lnTo>
                      <a:pt x="1133" y="887"/>
                    </a:lnTo>
                    <a:lnTo>
                      <a:pt x="1058" y="880"/>
                    </a:lnTo>
                    <a:lnTo>
                      <a:pt x="984" y="871"/>
                    </a:lnTo>
                    <a:lnTo>
                      <a:pt x="914" y="862"/>
                    </a:lnTo>
                    <a:lnTo>
                      <a:pt x="844" y="851"/>
                    </a:lnTo>
                    <a:lnTo>
                      <a:pt x="776" y="840"/>
                    </a:lnTo>
                    <a:lnTo>
                      <a:pt x="711" y="828"/>
                    </a:lnTo>
                    <a:lnTo>
                      <a:pt x="648" y="816"/>
                    </a:lnTo>
                    <a:lnTo>
                      <a:pt x="586" y="802"/>
                    </a:lnTo>
                    <a:lnTo>
                      <a:pt x="528" y="788"/>
                    </a:lnTo>
                    <a:lnTo>
                      <a:pt x="472" y="772"/>
                    </a:lnTo>
                    <a:lnTo>
                      <a:pt x="419" y="756"/>
                    </a:lnTo>
                    <a:lnTo>
                      <a:pt x="368" y="739"/>
                    </a:lnTo>
                    <a:lnTo>
                      <a:pt x="320" y="722"/>
                    </a:lnTo>
                    <a:lnTo>
                      <a:pt x="275" y="704"/>
                    </a:lnTo>
                    <a:lnTo>
                      <a:pt x="233" y="685"/>
                    </a:lnTo>
                    <a:lnTo>
                      <a:pt x="195" y="666"/>
                    </a:lnTo>
                    <a:lnTo>
                      <a:pt x="159" y="646"/>
                    </a:lnTo>
                    <a:lnTo>
                      <a:pt x="127" y="625"/>
                    </a:lnTo>
                    <a:lnTo>
                      <a:pt x="98" y="604"/>
                    </a:lnTo>
                    <a:lnTo>
                      <a:pt x="72" y="583"/>
                    </a:lnTo>
                    <a:lnTo>
                      <a:pt x="50" y="561"/>
                    </a:lnTo>
                    <a:lnTo>
                      <a:pt x="33" y="539"/>
                    </a:lnTo>
                    <a:lnTo>
                      <a:pt x="18" y="515"/>
                    </a:lnTo>
                    <a:lnTo>
                      <a:pt x="8" y="492"/>
                    </a:lnTo>
                    <a:lnTo>
                      <a:pt x="2" y="469"/>
                    </a:lnTo>
                    <a:lnTo>
                      <a:pt x="0" y="446"/>
                    </a:lnTo>
                    <a:lnTo>
                      <a:pt x="2" y="421"/>
                    </a:lnTo>
                    <a:lnTo>
                      <a:pt x="8" y="398"/>
                    </a:lnTo>
                    <a:lnTo>
                      <a:pt x="18" y="375"/>
                    </a:lnTo>
                    <a:lnTo>
                      <a:pt x="33" y="353"/>
                    </a:lnTo>
                    <a:lnTo>
                      <a:pt x="50" y="331"/>
                    </a:lnTo>
                    <a:lnTo>
                      <a:pt x="72" y="309"/>
                    </a:lnTo>
                    <a:lnTo>
                      <a:pt x="98" y="288"/>
                    </a:lnTo>
                    <a:lnTo>
                      <a:pt x="127" y="268"/>
                    </a:lnTo>
                    <a:lnTo>
                      <a:pt x="159" y="249"/>
                    </a:lnTo>
                    <a:lnTo>
                      <a:pt x="195" y="230"/>
                    </a:lnTo>
                    <a:lnTo>
                      <a:pt x="233" y="210"/>
                    </a:lnTo>
                    <a:lnTo>
                      <a:pt x="275" y="192"/>
                    </a:lnTo>
                    <a:lnTo>
                      <a:pt x="320" y="175"/>
                    </a:lnTo>
                    <a:lnTo>
                      <a:pt x="368" y="159"/>
                    </a:lnTo>
                    <a:lnTo>
                      <a:pt x="419" y="143"/>
                    </a:lnTo>
                    <a:lnTo>
                      <a:pt x="472" y="128"/>
                    </a:lnTo>
                    <a:lnTo>
                      <a:pt x="528" y="113"/>
                    </a:lnTo>
                    <a:lnTo>
                      <a:pt x="586" y="99"/>
                    </a:lnTo>
                    <a:lnTo>
                      <a:pt x="648" y="86"/>
                    </a:lnTo>
                    <a:lnTo>
                      <a:pt x="711" y="74"/>
                    </a:lnTo>
                    <a:lnTo>
                      <a:pt x="776" y="63"/>
                    </a:lnTo>
                    <a:lnTo>
                      <a:pt x="844" y="53"/>
                    </a:lnTo>
                    <a:lnTo>
                      <a:pt x="914" y="43"/>
                    </a:lnTo>
                    <a:lnTo>
                      <a:pt x="984" y="35"/>
                    </a:lnTo>
                    <a:lnTo>
                      <a:pt x="1058" y="27"/>
                    </a:lnTo>
                    <a:lnTo>
                      <a:pt x="1133" y="20"/>
                    </a:lnTo>
                    <a:lnTo>
                      <a:pt x="1209" y="15"/>
                    </a:lnTo>
                    <a:lnTo>
                      <a:pt x="1287" y="10"/>
                    </a:lnTo>
                    <a:lnTo>
                      <a:pt x="1367" y="6"/>
                    </a:lnTo>
                    <a:lnTo>
                      <a:pt x="1448" y="4"/>
                    </a:lnTo>
                    <a:lnTo>
                      <a:pt x="1530" y="2"/>
                    </a:lnTo>
                    <a:lnTo>
                      <a:pt x="1612" y="0"/>
                    </a:lnTo>
                    <a:lnTo>
                      <a:pt x="1695" y="2"/>
                    </a:lnTo>
                    <a:lnTo>
                      <a:pt x="1777" y="4"/>
                    </a:lnTo>
                    <a:lnTo>
                      <a:pt x="1858" y="6"/>
                    </a:lnTo>
                    <a:lnTo>
                      <a:pt x="1938" y="10"/>
                    </a:lnTo>
                    <a:lnTo>
                      <a:pt x="2015" y="15"/>
                    </a:lnTo>
                    <a:lnTo>
                      <a:pt x="2092" y="20"/>
                    </a:lnTo>
                    <a:lnTo>
                      <a:pt x="2167" y="27"/>
                    </a:lnTo>
                    <a:lnTo>
                      <a:pt x="2241" y="35"/>
                    </a:lnTo>
                    <a:lnTo>
                      <a:pt x="2311" y="43"/>
                    </a:lnTo>
                    <a:lnTo>
                      <a:pt x="2381" y="53"/>
                    </a:lnTo>
                    <a:lnTo>
                      <a:pt x="2449" y="63"/>
                    </a:lnTo>
                    <a:lnTo>
                      <a:pt x="2514" y="74"/>
                    </a:lnTo>
                    <a:lnTo>
                      <a:pt x="2578" y="86"/>
                    </a:lnTo>
                    <a:lnTo>
                      <a:pt x="2639" y="99"/>
                    </a:lnTo>
                    <a:lnTo>
                      <a:pt x="2697" y="113"/>
                    </a:lnTo>
                    <a:lnTo>
                      <a:pt x="2753" y="128"/>
                    </a:lnTo>
                    <a:lnTo>
                      <a:pt x="2806" y="143"/>
                    </a:lnTo>
                    <a:lnTo>
                      <a:pt x="2857" y="159"/>
                    </a:lnTo>
                    <a:lnTo>
                      <a:pt x="2905" y="175"/>
                    </a:lnTo>
                    <a:lnTo>
                      <a:pt x="2950" y="192"/>
                    </a:lnTo>
                    <a:lnTo>
                      <a:pt x="2992" y="210"/>
                    </a:lnTo>
                    <a:lnTo>
                      <a:pt x="3030" y="230"/>
                    </a:lnTo>
                    <a:lnTo>
                      <a:pt x="3067" y="249"/>
                    </a:lnTo>
                    <a:lnTo>
                      <a:pt x="3099" y="268"/>
                    </a:lnTo>
                    <a:lnTo>
                      <a:pt x="3127" y="288"/>
                    </a:lnTo>
                    <a:lnTo>
                      <a:pt x="3153" y="309"/>
                    </a:lnTo>
                    <a:lnTo>
                      <a:pt x="3175" y="331"/>
                    </a:lnTo>
                    <a:lnTo>
                      <a:pt x="3193" y="353"/>
                    </a:lnTo>
                    <a:lnTo>
                      <a:pt x="3207" y="375"/>
                    </a:lnTo>
                    <a:lnTo>
                      <a:pt x="3217" y="398"/>
                    </a:lnTo>
                    <a:lnTo>
                      <a:pt x="3223" y="421"/>
                    </a:lnTo>
                    <a:lnTo>
                      <a:pt x="3225" y="4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113560" y="6523920"/>
                <a:ext cx="354240" cy="107640"/>
              </a:xfrm>
              <a:custGeom>
                <a:avLst/>
                <a:gdLst/>
                <a:ahLst/>
                <a:rect l="l" t="t" r="r" b="b"/>
                <a:pathLst>
                  <a:path w="3222" h="905">
                    <a:moveTo>
                      <a:pt x="3222" y="444"/>
                    </a:moveTo>
                    <a:lnTo>
                      <a:pt x="3219" y="467"/>
                    </a:lnTo>
                    <a:lnTo>
                      <a:pt x="3213" y="490"/>
                    </a:lnTo>
                    <a:lnTo>
                      <a:pt x="3203" y="513"/>
                    </a:lnTo>
                    <a:lnTo>
                      <a:pt x="3189" y="537"/>
                    </a:lnTo>
                    <a:lnTo>
                      <a:pt x="3171" y="559"/>
                    </a:lnTo>
                    <a:lnTo>
                      <a:pt x="3150" y="581"/>
                    </a:lnTo>
                    <a:lnTo>
                      <a:pt x="3124" y="602"/>
                    </a:lnTo>
                    <a:lnTo>
                      <a:pt x="3095" y="623"/>
                    </a:lnTo>
                    <a:lnTo>
                      <a:pt x="3063" y="644"/>
                    </a:lnTo>
                    <a:lnTo>
                      <a:pt x="3027" y="663"/>
                    </a:lnTo>
                    <a:lnTo>
                      <a:pt x="2989" y="683"/>
                    </a:lnTo>
                    <a:lnTo>
                      <a:pt x="2947" y="701"/>
                    </a:lnTo>
                    <a:lnTo>
                      <a:pt x="2902" y="719"/>
                    </a:lnTo>
                    <a:lnTo>
                      <a:pt x="2854" y="736"/>
                    </a:lnTo>
                    <a:lnTo>
                      <a:pt x="2803" y="754"/>
                    </a:lnTo>
                    <a:lnTo>
                      <a:pt x="2750" y="770"/>
                    </a:lnTo>
                    <a:lnTo>
                      <a:pt x="2694" y="785"/>
                    </a:lnTo>
                    <a:lnTo>
                      <a:pt x="2636" y="799"/>
                    </a:lnTo>
                    <a:lnTo>
                      <a:pt x="2575" y="813"/>
                    </a:lnTo>
                    <a:lnTo>
                      <a:pt x="2511" y="826"/>
                    </a:lnTo>
                    <a:lnTo>
                      <a:pt x="2446" y="837"/>
                    </a:lnTo>
                    <a:lnTo>
                      <a:pt x="2379" y="848"/>
                    </a:lnTo>
                    <a:lnTo>
                      <a:pt x="2309" y="859"/>
                    </a:lnTo>
                    <a:lnTo>
                      <a:pt x="2238" y="869"/>
                    </a:lnTo>
                    <a:lnTo>
                      <a:pt x="2165" y="877"/>
                    </a:lnTo>
                    <a:lnTo>
                      <a:pt x="2090" y="884"/>
                    </a:lnTo>
                    <a:lnTo>
                      <a:pt x="2013" y="890"/>
                    </a:lnTo>
                    <a:lnTo>
                      <a:pt x="1936" y="895"/>
                    </a:lnTo>
                    <a:lnTo>
                      <a:pt x="1856" y="899"/>
                    </a:lnTo>
                    <a:lnTo>
                      <a:pt x="1775" y="902"/>
                    </a:lnTo>
                    <a:lnTo>
                      <a:pt x="1693" y="904"/>
                    </a:lnTo>
                    <a:lnTo>
                      <a:pt x="1610" y="905"/>
                    </a:lnTo>
                    <a:lnTo>
                      <a:pt x="1528" y="904"/>
                    </a:lnTo>
                    <a:lnTo>
                      <a:pt x="1446" y="902"/>
                    </a:lnTo>
                    <a:lnTo>
                      <a:pt x="1365" y="899"/>
                    </a:lnTo>
                    <a:lnTo>
                      <a:pt x="1286" y="895"/>
                    </a:lnTo>
                    <a:lnTo>
                      <a:pt x="1207" y="890"/>
                    </a:lnTo>
                    <a:lnTo>
                      <a:pt x="1132" y="884"/>
                    </a:lnTo>
                    <a:lnTo>
                      <a:pt x="1056" y="877"/>
                    </a:lnTo>
                    <a:lnTo>
                      <a:pt x="983" y="869"/>
                    </a:lnTo>
                    <a:lnTo>
                      <a:pt x="912" y="859"/>
                    </a:lnTo>
                    <a:lnTo>
                      <a:pt x="843" y="848"/>
                    </a:lnTo>
                    <a:lnTo>
                      <a:pt x="775" y="837"/>
                    </a:lnTo>
                    <a:lnTo>
                      <a:pt x="710" y="826"/>
                    </a:lnTo>
                    <a:lnTo>
                      <a:pt x="646" y="813"/>
                    </a:lnTo>
                    <a:lnTo>
                      <a:pt x="585" y="799"/>
                    </a:lnTo>
                    <a:lnTo>
                      <a:pt x="527" y="785"/>
                    </a:lnTo>
                    <a:lnTo>
                      <a:pt x="471" y="770"/>
                    </a:lnTo>
                    <a:lnTo>
                      <a:pt x="418" y="754"/>
                    </a:lnTo>
                    <a:lnTo>
                      <a:pt x="367" y="736"/>
                    </a:lnTo>
                    <a:lnTo>
                      <a:pt x="319" y="719"/>
                    </a:lnTo>
                    <a:lnTo>
                      <a:pt x="274" y="701"/>
                    </a:lnTo>
                    <a:lnTo>
                      <a:pt x="233" y="683"/>
                    </a:lnTo>
                    <a:lnTo>
                      <a:pt x="194" y="663"/>
                    </a:lnTo>
                    <a:lnTo>
                      <a:pt x="158" y="644"/>
                    </a:lnTo>
                    <a:lnTo>
                      <a:pt x="126" y="623"/>
                    </a:lnTo>
                    <a:lnTo>
                      <a:pt x="97" y="602"/>
                    </a:lnTo>
                    <a:lnTo>
                      <a:pt x="71" y="581"/>
                    </a:lnTo>
                    <a:lnTo>
                      <a:pt x="50" y="559"/>
                    </a:lnTo>
                    <a:lnTo>
                      <a:pt x="32" y="537"/>
                    </a:lnTo>
                    <a:lnTo>
                      <a:pt x="18" y="513"/>
                    </a:lnTo>
                    <a:lnTo>
                      <a:pt x="8" y="490"/>
                    </a:lnTo>
                    <a:lnTo>
                      <a:pt x="2" y="467"/>
                    </a:lnTo>
                    <a:lnTo>
                      <a:pt x="0" y="444"/>
                    </a:lnTo>
                    <a:lnTo>
                      <a:pt x="2" y="419"/>
                    </a:lnTo>
                    <a:lnTo>
                      <a:pt x="8" y="396"/>
                    </a:lnTo>
                    <a:lnTo>
                      <a:pt x="18" y="374"/>
                    </a:lnTo>
                    <a:lnTo>
                      <a:pt x="32" y="351"/>
                    </a:lnTo>
                    <a:lnTo>
                      <a:pt x="50" y="330"/>
                    </a:lnTo>
                    <a:lnTo>
                      <a:pt x="71" y="307"/>
                    </a:lnTo>
                    <a:lnTo>
                      <a:pt x="97" y="287"/>
                    </a:lnTo>
                    <a:lnTo>
                      <a:pt x="126" y="267"/>
                    </a:lnTo>
                    <a:lnTo>
                      <a:pt x="158" y="247"/>
                    </a:lnTo>
                    <a:lnTo>
                      <a:pt x="194" y="228"/>
                    </a:lnTo>
                    <a:lnTo>
                      <a:pt x="233" y="209"/>
                    </a:lnTo>
                    <a:lnTo>
                      <a:pt x="274" y="191"/>
                    </a:lnTo>
                    <a:lnTo>
                      <a:pt x="319" y="174"/>
                    </a:lnTo>
                    <a:lnTo>
                      <a:pt x="367" y="157"/>
                    </a:lnTo>
                    <a:lnTo>
                      <a:pt x="418" y="141"/>
                    </a:lnTo>
                    <a:lnTo>
                      <a:pt x="471" y="126"/>
                    </a:lnTo>
                    <a:lnTo>
                      <a:pt x="527" y="112"/>
                    </a:lnTo>
                    <a:lnTo>
                      <a:pt x="585" y="97"/>
                    </a:lnTo>
                    <a:lnTo>
                      <a:pt x="646" y="85"/>
                    </a:lnTo>
                    <a:lnTo>
                      <a:pt x="710" y="73"/>
                    </a:lnTo>
                    <a:lnTo>
                      <a:pt x="775" y="62"/>
                    </a:lnTo>
                    <a:lnTo>
                      <a:pt x="843" y="51"/>
                    </a:lnTo>
                    <a:lnTo>
                      <a:pt x="912" y="42"/>
                    </a:lnTo>
                    <a:lnTo>
                      <a:pt x="983" y="33"/>
                    </a:lnTo>
                    <a:lnTo>
                      <a:pt x="1056" y="26"/>
                    </a:lnTo>
                    <a:lnTo>
                      <a:pt x="1132" y="19"/>
                    </a:lnTo>
                    <a:lnTo>
                      <a:pt x="1207" y="14"/>
                    </a:lnTo>
                    <a:lnTo>
                      <a:pt x="1286" y="9"/>
                    </a:lnTo>
                    <a:lnTo>
                      <a:pt x="1365" y="5"/>
                    </a:lnTo>
                    <a:lnTo>
                      <a:pt x="1446" y="2"/>
                    </a:lnTo>
                    <a:lnTo>
                      <a:pt x="1528" y="1"/>
                    </a:lnTo>
                    <a:lnTo>
                      <a:pt x="1610" y="0"/>
                    </a:lnTo>
                    <a:lnTo>
                      <a:pt x="1693" y="1"/>
                    </a:lnTo>
                    <a:lnTo>
                      <a:pt x="1775" y="2"/>
                    </a:lnTo>
                    <a:lnTo>
                      <a:pt x="1856" y="5"/>
                    </a:lnTo>
                    <a:lnTo>
                      <a:pt x="1936" y="9"/>
                    </a:lnTo>
                    <a:lnTo>
                      <a:pt x="2013" y="14"/>
                    </a:lnTo>
                    <a:lnTo>
                      <a:pt x="2090" y="19"/>
                    </a:lnTo>
                    <a:lnTo>
                      <a:pt x="2165" y="26"/>
                    </a:lnTo>
                    <a:lnTo>
                      <a:pt x="2238" y="33"/>
                    </a:lnTo>
                    <a:lnTo>
                      <a:pt x="2309" y="42"/>
                    </a:lnTo>
                    <a:lnTo>
                      <a:pt x="2379" y="51"/>
                    </a:lnTo>
                    <a:lnTo>
                      <a:pt x="2446" y="62"/>
                    </a:lnTo>
                    <a:lnTo>
                      <a:pt x="2511" y="73"/>
                    </a:lnTo>
                    <a:lnTo>
                      <a:pt x="2575" y="85"/>
                    </a:lnTo>
                    <a:lnTo>
                      <a:pt x="2636" y="97"/>
                    </a:lnTo>
                    <a:lnTo>
                      <a:pt x="2694" y="112"/>
                    </a:lnTo>
                    <a:lnTo>
                      <a:pt x="2750" y="126"/>
                    </a:lnTo>
                    <a:lnTo>
                      <a:pt x="2803" y="141"/>
                    </a:lnTo>
                    <a:lnTo>
                      <a:pt x="2854" y="157"/>
                    </a:lnTo>
                    <a:lnTo>
                      <a:pt x="2902" y="174"/>
                    </a:lnTo>
                    <a:lnTo>
                      <a:pt x="2947" y="191"/>
                    </a:lnTo>
                    <a:lnTo>
                      <a:pt x="2989" y="209"/>
                    </a:lnTo>
                    <a:lnTo>
                      <a:pt x="3027" y="228"/>
                    </a:lnTo>
                    <a:lnTo>
                      <a:pt x="3063" y="247"/>
                    </a:lnTo>
                    <a:lnTo>
                      <a:pt x="3095" y="267"/>
                    </a:lnTo>
                    <a:lnTo>
                      <a:pt x="3124" y="287"/>
                    </a:lnTo>
                    <a:lnTo>
                      <a:pt x="3150" y="307"/>
                    </a:lnTo>
                    <a:lnTo>
                      <a:pt x="3171" y="330"/>
                    </a:lnTo>
                    <a:lnTo>
                      <a:pt x="3189" y="351"/>
                    </a:lnTo>
                    <a:lnTo>
                      <a:pt x="3203" y="374"/>
                    </a:lnTo>
                    <a:lnTo>
                      <a:pt x="3213" y="396"/>
                    </a:lnTo>
                    <a:lnTo>
                      <a:pt x="3219" y="419"/>
                    </a:lnTo>
                    <a:lnTo>
                      <a:pt x="3222" y="4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113560" y="6523920"/>
                <a:ext cx="354240" cy="107640"/>
              </a:xfrm>
              <a:custGeom>
                <a:avLst/>
                <a:gdLst/>
                <a:ahLst/>
                <a:rect l="l" t="t" r="r" b="b"/>
                <a:pathLst>
                  <a:path w="3219" h="903">
                    <a:moveTo>
                      <a:pt x="3219" y="443"/>
                    </a:moveTo>
                    <a:lnTo>
                      <a:pt x="3217" y="466"/>
                    </a:lnTo>
                    <a:lnTo>
                      <a:pt x="3211" y="489"/>
                    </a:lnTo>
                    <a:lnTo>
                      <a:pt x="3201" y="512"/>
                    </a:lnTo>
                    <a:lnTo>
                      <a:pt x="3187" y="536"/>
                    </a:lnTo>
                    <a:lnTo>
                      <a:pt x="3169" y="558"/>
                    </a:lnTo>
                    <a:lnTo>
                      <a:pt x="3148" y="579"/>
                    </a:lnTo>
                    <a:lnTo>
                      <a:pt x="3121" y="600"/>
                    </a:lnTo>
                    <a:lnTo>
                      <a:pt x="3093" y="621"/>
                    </a:lnTo>
                    <a:lnTo>
                      <a:pt x="3061" y="642"/>
                    </a:lnTo>
                    <a:lnTo>
                      <a:pt x="3025" y="662"/>
                    </a:lnTo>
                    <a:lnTo>
                      <a:pt x="2986" y="681"/>
                    </a:lnTo>
                    <a:lnTo>
                      <a:pt x="2945" y="700"/>
                    </a:lnTo>
                    <a:lnTo>
                      <a:pt x="2899" y="717"/>
                    </a:lnTo>
                    <a:lnTo>
                      <a:pt x="2852" y="735"/>
                    </a:lnTo>
                    <a:lnTo>
                      <a:pt x="2801" y="752"/>
                    </a:lnTo>
                    <a:lnTo>
                      <a:pt x="2748" y="768"/>
                    </a:lnTo>
                    <a:lnTo>
                      <a:pt x="2692" y="783"/>
                    </a:lnTo>
                    <a:lnTo>
                      <a:pt x="2634" y="798"/>
                    </a:lnTo>
                    <a:lnTo>
                      <a:pt x="2573" y="811"/>
                    </a:lnTo>
                    <a:lnTo>
                      <a:pt x="2509" y="824"/>
                    </a:lnTo>
                    <a:lnTo>
                      <a:pt x="2445" y="836"/>
                    </a:lnTo>
                    <a:lnTo>
                      <a:pt x="2377" y="847"/>
                    </a:lnTo>
                    <a:lnTo>
                      <a:pt x="2307" y="858"/>
                    </a:lnTo>
                    <a:lnTo>
                      <a:pt x="2237" y="867"/>
                    </a:lnTo>
                    <a:lnTo>
                      <a:pt x="2163" y="875"/>
                    </a:lnTo>
                    <a:lnTo>
                      <a:pt x="2088" y="882"/>
                    </a:lnTo>
                    <a:lnTo>
                      <a:pt x="2011" y="888"/>
                    </a:lnTo>
                    <a:lnTo>
                      <a:pt x="1934" y="893"/>
                    </a:lnTo>
                    <a:lnTo>
                      <a:pt x="1855" y="897"/>
                    </a:lnTo>
                    <a:lnTo>
                      <a:pt x="1774" y="900"/>
                    </a:lnTo>
                    <a:lnTo>
                      <a:pt x="1692" y="902"/>
                    </a:lnTo>
                    <a:lnTo>
                      <a:pt x="1609" y="903"/>
                    </a:lnTo>
                    <a:lnTo>
                      <a:pt x="1527" y="902"/>
                    </a:lnTo>
                    <a:lnTo>
                      <a:pt x="1445" y="900"/>
                    </a:lnTo>
                    <a:lnTo>
                      <a:pt x="1364" y="897"/>
                    </a:lnTo>
                    <a:lnTo>
                      <a:pt x="1285" y="893"/>
                    </a:lnTo>
                    <a:lnTo>
                      <a:pt x="1208" y="888"/>
                    </a:lnTo>
                    <a:lnTo>
                      <a:pt x="1131" y="882"/>
                    </a:lnTo>
                    <a:lnTo>
                      <a:pt x="1056" y="875"/>
                    </a:lnTo>
                    <a:lnTo>
                      <a:pt x="983" y="867"/>
                    </a:lnTo>
                    <a:lnTo>
                      <a:pt x="912" y="858"/>
                    </a:lnTo>
                    <a:lnTo>
                      <a:pt x="842" y="847"/>
                    </a:lnTo>
                    <a:lnTo>
                      <a:pt x="774" y="836"/>
                    </a:lnTo>
                    <a:lnTo>
                      <a:pt x="710" y="824"/>
                    </a:lnTo>
                    <a:lnTo>
                      <a:pt x="646" y="811"/>
                    </a:lnTo>
                    <a:lnTo>
                      <a:pt x="585" y="798"/>
                    </a:lnTo>
                    <a:lnTo>
                      <a:pt x="527" y="783"/>
                    </a:lnTo>
                    <a:lnTo>
                      <a:pt x="471" y="768"/>
                    </a:lnTo>
                    <a:lnTo>
                      <a:pt x="418" y="752"/>
                    </a:lnTo>
                    <a:lnTo>
                      <a:pt x="367" y="735"/>
                    </a:lnTo>
                    <a:lnTo>
                      <a:pt x="320" y="717"/>
                    </a:lnTo>
                    <a:lnTo>
                      <a:pt x="274" y="700"/>
                    </a:lnTo>
                    <a:lnTo>
                      <a:pt x="233" y="681"/>
                    </a:lnTo>
                    <a:lnTo>
                      <a:pt x="194" y="662"/>
                    </a:lnTo>
                    <a:lnTo>
                      <a:pt x="158" y="642"/>
                    </a:lnTo>
                    <a:lnTo>
                      <a:pt x="126" y="621"/>
                    </a:lnTo>
                    <a:lnTo>
                      <a:pt x="98" y="600"/>
                    </a:lnTo>
                    <a:lnTo>
                      <a:pt x="72" y="579"/>
                    </a:lnTo>
                    <a:lnTo>
                      <a:pt x="50" y="558"/>
                    </a:lnTo>
                    <a:lnTo>
                      <a:pt x="32" y="536"/>
                    </a:lnTo>
                    <a:lnTo>
                      <a:pt x="18" y="512"/>
                    </a:lnTo>
                    <a:lnTo>
                      <a:pt x="8" y="489"/>
                    </a:lnTo>
                    <a:lnTo>
                      <a:pt x="2" y="466"/>
                    </a:lnTo>
                    <a:lnTo>
                      <a:pt x="0" y="443"/>
                    </a:lnTo>
                    <a:lnTo>
                      <a:pt x="2" y="418"/>
                    </a:lnTo>
                    <a:lnTo>
                      <a:pt x="8" y="395"/>
                    </a:lnTo>
                    <a:lnTo>
                      <a:pt x="18" y="373"/>
                    </a:lnTo>
                    <a:lnTo>
                      <a:pt x="32" y="351"/>
                    </a:lnTo>
                    <a:lnTo>
                      <a:pt x="50" y="329"/>
                    </a:lnTo>
                    <a:lnTo>
                      <a:pt x="72" y="307"/>
                    </a:lnTo>
                    <a:lnTo>
                      <a:pt x="98" y="286"/>
                    </a:lnTo>
                    <a:lnTo>
                      <a:pt x="126" y="266"/>
                    </a:lnTo>
                    <a:lnTo>
                      <a:pt x="158" y="246"/>
                    </a:lnTo>
                    <a:lnTo>
                      <a:pt x="194" y="227"/>
                    </a:lnTo>
                    <a:lnTo>
                      <a:pt x="233" y="208"/>
                    </a:lnTo>
                    <a:lnTo>
                      <a:pt x="274" y="190"/>
                    </a:lnTo>
                    <a:lnTo>
                      <a:pt x="320" y="173"/>
                    </a:lnTo>
                    <a:lnTo>
                      <a:pt x="367" y="157"/>
                    </a:lnTo>
                    <a:lnTo>
                      <a:pt x="418" y="141"/>
                    </a:lnTo>
                    <a:lnTo>
                      <a:pt x="471" y="126"/>
                    </a:lnTo>
                    <a:lnTo>
                      <a:pt x="527" y="112"/>
                    </a:lnTo>
                    <a:lnTo>
                      <a:pt x="585" y="97"/>
                    </a:lnTo>
                    <a:lnTo>
                      <a:pt x="646" y="84"/>
                    </a:lnTo>
                    <a:lnTo>
                      <a:pt x="710" y="73"/>
                    </a:lnTo>
                    <a:lnTo>
                      <a:pt x="774" y="61"/>
                    </a:lnTo>
                    <a:lnTo>
                      <a:pt x="842" y="51"/>
                    </a:lnTo>
                    <a:lnTo>
                      <a:pt x="912" y="42"/>
                    </a:lnTo>
                    <a:lnTo>
                      <a:pt x="983" y="33"/>
                    </a:lnTo>
                    <a:lnTo>
                      <a:pt x="1056" y="26"/>
                    </a:lnTo>
                    <a:lnTo>
                      <a:pt x="1131" y="19"/>
                    </a:lnTo>
                    <a:lnTo>
                      <a:pt x="1208" y="13"/>
                    </a:lnTo>
                    <a:lnTo>
                      <a:pt x="1285" y="9"/>
                    </a:lnTo>
                    <a:lnTo>
                      <a:pt x="1364" y="5"/>
                    </a:lnTo>
                    <a:lnTo>
                      <a:pt x="1445" y="2"/>
                    </a:lnTo>
                    <a:lnTo>
                      <a:pt x="1527" y="1"/>
                    </a:lnTo>
                    <a:lnTo>
                      <a:pt x="1609" y="0"/>
                    </a:lnTo>
                    <a:lnTo>
                      <a:pt x="1692" y="1"/>
                    </a:lnTo>
                    <a:lnTo>
                      <a:pt x="1774" y="2"/>
                    </a:lnTo>
                    <a:lnTo>
                      <a:pt x="1855" y="5"/>
                    </a:lnTo>
                    <a:lnTo>
                      <a:pt x="1934" y="9"/>
                    </a:lnTo>
                    <a:lnTo>
                      <a:pt x="2011" y="13"/>
                    </a:lnTo>
                    <a:lnTo>
                      <a:pt x="2088" y="19"/>
                    </a:lnTo>
                    <a:lnTo>
                      <a:pt x="2163" y="26"/>
                    </a:lnTo>
                    <a:lnTo>
                      <a:pt x="2237" y="33"/>
                    </a:lnTo>
                    <a:lnTo>
                      <a:pt x="2307" y="42"/>
                    </a:lnTo>
                    <a:lnTo>
                      <a:pt x="2377" y="51"/>
                    </a:lnTo>
                    <a:lnTo>
                      <a:pt x="2445" y="61"/>
                    </a:lnTo>
                    <a:lnTo>
                      <a:pt x="2509" y="73"/>
                    </a:lnTo>
                    <a:lnTo>
                      <a:pt x="2573" y="84"/>
                    </a:lnTo>
                    <a:lnTo>
                      <a:pt x="2634" y="97"/>
                    </a:lnTo>
                    <a:lnTo>
                      <a:pt x="2692" y="112"/>
                    </a:lnTo>
                    <a:lnTo>
                      <a:pt x="2748" y="126"/>
                    </a:lnTo>
                    <a:lnTo>
                      <a:pt x="2801" y="141"/>
                    </a:lnTo>
                    <a:lnTo>
                      <a:pt x="2852" y="157"/>
                    </a:lnTo>
                    <a:lnTo>
                      <a:pt x="2899" y="173"/>
                    </a:lnTo>
                    <a:lnTo>
                      <a:pt x="2945" y="190"/>
                    </a:lnTo>
                    <a:lnTo>
                      <a:pt x="2986" y="208"/>
                    </a:lnTo>
                    <a:lnTo>
                      <a:pt x="3025" y="227"/>
                    </a:lnTo>
                    <a:lnTo>
                      <a:pt x="3061" y="246"/>
                    </a:lnTo>
                    <a:lnTo>
                      <a:pt x="3093" y="266"/>
                    </a:lnTo>
                    <a:lnTo>
                      <a:pt x="3121" y="286"/>
                    </a:lnTo>
                    <a:lnTo>
                      <a:pt x="3148" y="307"/>
                    </a:lnTo>
                    <a:lnTo>
                      <a:pt x="3169" y="329"/>
                    </a:lnTo>
                    <a:lnTo>
                      <a:pt x="3187" y="351"/>
                    </a:lnTo>
                    <a:lnTo>
                      <a:pt x="3201" y="373"/>
                    </a:lnTo>
                    <a:lnTo>
                      <a:pt x="3211" y="395"/>
                    </a:lnTo>
                    <a:lnTo>
                      <a:pt x="3217" y="418"/>
                    </a:lnTo>
                    <a:lnTo>
                      <a:pt x="3219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113560" y="6523920"/>
                <a:ext cx="354240" cy="107640"/>
              </a:xfrm>
              <a:custGeom>
                <a:avLst/>
                <a:gdLst/>
                <a:ahLst/>
                <a:rect l="l" t="t" r="r" b="b"/>
                <a:pathLst>
                  <a:path w="3217" h="901">
                    <a:moveTo>
                      <a:pt x="3217" y="442"/>
                    </a:moveTo>
                    <a:lnTo>
                      <a:pt x="3215" y="465"/>
                    </a:lnTo>
                    <a:lnTo>
                      <a:pt x="3209" y="488"/>
                    </a:lnTo>
                    <a:lnTo>
                      <a:pt x="3198" y="511"/>
                    </a:lnTo>
                    <a:lnTo>
                      <a:pt x="3184" y="534"/>
                    </a:lnTo>
                    <a:lnTo>
                      <a:pt x="3167" y="556"/>
                    </a:lnTo>
                    <a:lnTo>
                      <a:pt x="3145" y="578"/>
                    </a:lnTo>
                    <a:lnTo>
                      <a:pt x="3119" y="599"/>
                    </a:lnTo>
                    <a:lnTo>
                      <a:pt x="3091" y="620"/>
                    </a:lnTo>
                    <a:lnTo>
                      <a:pt x="3059" y="641"/>
                    </a:lnTo>
                    <a:lnTo>
                      <a:pt x="3023" y="661"/>
                    </a:lnTo>
                    <a:lnTo>
                      <a:pt x="2984" y="680"/>
                    </a:lnTo>
                    <a:lnTo>
                      <a:pt x="2943" y="698"/>
                    </a:lnTo>
                    <a:lnTo>
                      <a:pt x="2897" y="716"/>
                    </a:lnTo>
                    <a:lnTo>
                      <a:pt x="2850" y="733"/>
                    </a:lnTo>
                    <a:lnTo>
                      <a:pt x="2799" y="751"/>
                    </a:lnTo>
                    <a:lnTo>
                      <a:pt x="2746" y="766"/>
                    </a:lnTo>
                    <a:lnTo>
                      <a:pt x="2690" y="782"/>
                    </a:lnTo>
                    <a:lnTo>
                      <a:pt x="2632" y="796"/>
                    </a:lnTo>
                    <a:lnTo>
                      <a:pt x="2571" y="809"/>
                    </a:lnTo>
                    <a:lnTo>
                      <a:pt x="2508" y="822"/>
                    </a:lnTo>
                    <a:lnTo>
                      <a:pt x="2443" y="834"/>
                    </a:lnTo>
                    <a:lnTo>
                      <a:pt x="2375" y="845"/>
                    </a:lnTo>
                    <a:lnTo>
                      <a:pt x="2306" y="856"/>
                    </a:lnTo>
                    <a:lnTo>
                      <a:pt x="2235" y="865"/>
                    </a:lnTo>
                    <a:lnTo>
                      <a:pt x="2162" y="873"/>
                    </a:lnTo>
                    <a:lnTo>
                      <a:pt x="2087" y="880"/>
                    </a:lnTo>
                    <a:lnTo>
                      <a:pt x="2010" y="886"/>
                    </a:lnTo>
                    <a:lnTo>
                      <a:pt x="1933" y="891"/>
                    </a:lnTo>
                    <a:lnTo>
                      <a:pt x="1854" y="895"/>
                    </a:lnTo>
                    <a:lnTo>
                      <a:pt x="1773" y="898"/>
                    </a:lnTo>
                    <a:lnTo>
                      <a:pt x="1691" y="900"/>
                    </a:lnTo>
                    <a:lnTo>
                      <a:pt x="1608" y="901"/>
                    </a:lnTo>
                    <a:lnTo>
                      <a:pt x="1526" y="900"/>
                    </a:lnTo>
                    <a:lnTo>
                      <a:pt x="1444" y="898"/>
                    </a:lnTo>
                    <a:lnTo>
                      <a:pt x="1364" y="895"/>
                    </a:lnTo>
                    <a:lnTo>
                      <a:pt x="1284" y="891"/>
                    </a:lnTo>
                    <a:lnTo>
                      <a:pt x="1207" y="886"/>
                    </a:lnTo>
                    <a:lnTo>
                      <a:pt x="1130" y="880"/>
                    </a:lnTo>
                    <a:lnTo>
                      <a:pt x="1055" y="873"/>
                    </a:lnTo>
                    <a:lnTo>
                      <a:pt x="982" y="865"/>
                    </a:lnTo>
                    <a:lnTo>
                      <a:pt x="912" y="856"/>
                    </a:lnTo>
                    <a:lnTo>
                      <a:pt x="842" y="845"/>
                    </a:lnTo>
                    <a:lnTo>
                      <a:pt x="774" y="834"/>
                    </a:lnTo>
                    <a:lnTo>
                      <a:pt x="710" y="822"/>
                    </a:lnTo>
                    <a:lnTo>
                      <a:pt x="646" y="809"/>
                    </a:lnTo>
                    <a:lnTo>
                      <a:pt x="585" y="796"/>
                    </a:lnTo>
                    <a:lnTo>
                      <a:pt x="527" y="782"/>
                    </a:lnTo>
                    <a:lnTo>
                      <a:pt x="471" y="766"/>
                    </a:lnTo>
                    <a:lnTo>
                      <a:pt x="418" y="751"/>
                    </a:lnTo>
                    <a:lnTo>
                      <a:pt x="367" y="733"/>
                    </a:lnTo>
                    <a:lnTo>
                      <a:pt x="320" y="716"/>
                    </a:lnTo>
                    <a:lnTo>
                      <a:pt x="274" y="698"/>
                    </a:lnTo>
                    <a:lnTo>
                      <a:pt x="233" y="680"/>
                    </a:lnTo>
                    <a:lnTo>
                      <a:pt x="195" y="661"/>
                    </a:lnTo>
                    <a:lnTo>
                      <a:pt x="158" y="641"/>
                    </a:lnTo>
                    <a:lnTo>
                      <a:pt x="127" y="620"/>
                    </a:lnTo>
                    <a:lnTo>
                      <a:pt x="98" y="599"/>
                    </a:lnTo>
                    <a:lnTo>
                      <a:pt x="72" y="578"/>
                    </a:lnTo>
                    <a:lnTo>
                      <a:pt x="51" y="556"/>
                    </a:lnTo>
                    <a:lnTo>
                      <a:pt x="33" y="534"/>
                    </a:lnTo>
                    <a:lnTo>
                      <a:pt x="19" y="511"/>
                    </a:lnTo>
                    <a:lnTo>
                      <a:pt x="9" y="488"/>
                    </a:lnTo>
                    <a:lnTo>
                      <a:pt x="2" y="465"/>
                    </a:lnTo>
                    <a:lnTo>
                      <a:pt x="0" y="442"/>
                    </a:lnTo>
                    <a:lnTo>
                      <a:pt x="2" y="417"/>
                    </a:lnTo>
                    <a:lnTo>
                      <a:pt x="9" y="394"/>
                    </a:lnTo>
                    <a:lnTo>
                      <a:pt x="19" y="372"/>
                    </a:lnTo>
                    <a:lnTo>
                      <a:pt x="33" y="350"/>
                    </a:lnTo>
                    <a:lnTo>
                      <a:pt x="51" y="328"/>
                    </a:lnTo>
                    <a:lnTo>
                      <a:pt x="72" y="306"/>
                    </a:lnTo>
                    <a:lnTo>
                      <a:pt x="98" y="285"/>
                    </a:lnTo>
                    <a:lnTo>
                      <a:pt x="127" y="265"/>
                    </a:lnTo>
                    <a:lnTo>
                      <a:pt x="158" y="246"/>
                    </a:lnTo>
                    <a:lnTo>
                      <a:pt x="195" y="227"/>
                    </a:lnTo>
                    <a:lnTo>
                      <a:pt x="233" y="208"/>
                    </a:lnTo>
                    <a:lnTo>
                      <a:pt x="274" y="190"/>
                    </a:lnTo>
                    <a:lnTo>
                      <a:pt x="320" y="173"/>
                    </a:lnTo>
                    <a:lnTo>
                      <a:pt x="367" y="156"/>
                    </a:lnTo>
                    <a:lnTo>
                      <a:pt x="418" y="141"/>
                    </a:lnTo>
                    <a:lnTo>
                      <a:pt x="471" y="126"/>
                    </a:lnTo>
                    <a:lnTo>
                      <a:pt x="527" y="111"/>
                    </a:lnTo>
                    <a:lnTo>
                      <a:pt x="585" y="97"/>
                    </a:lnTo>
                    <a:lnTo>
                      <a:pt x="646" y="84"/>
                    </a:lnTo>
                    <a:lnTo>
                      <a:pt x="710" y="72"/>
                    </a:lnTo>
                    <a:lnTo>
                      <a:pt x="774" y="61"/>
                    </a:lnTo>
                    <a:lnTo>
                      <a:pt x="842" y="51"/>
                    </a:lnTo>
                    <a:lnTo>
                      <a:pt x="912" y="42"/>
                    </a:lnTo>
                    <a:lnTo>
                      <a:pt x="982" y="33"/>
                    </a:lnTo>
                    <a:lnTo>
                      <a:pt x="1055" y="26"/>
                    </a:lnTo>
                    <a:lnTo>
                      <a:pt x="1130" y="19"/>
                    </a:lnTo>
                    <a:lnTo>
                      <a:pt x="1207" y="13"/>
                    </a:lnTo>
                    <a:lnTo>
                      <a:pt x="1284" y="9"/>
                    </a:lnTo>
                    <a:lnTo>
                      <a:pt x="1364" y="5"/>
                    </a:lnTo>
                    <a:lnTo>
                      <a:pt x="1444" y="2"/>
                    </a:lnTo>
                    <a:lnTo>
                      <a:pt x="1526" y="1"/>
                    </a:lnTo>
                    <a:lnTo>
                      <a:pt x="1608" y="0"/>
                    </a:lnTo>
                    <a:lnTo>
                      <a:pt x="1691" y="1"/>
                    </a:lnTo>
                    <a:lnTo>
                      <a:pt x="1773" y="2"/>
                    </a:lnTo>
                    <a:lnTo>
                      <a:pt x="1854" y="5"/>
                    </a:lnTo>
                    <a:lnTo>
                      <a:pt x="1933" y="9"/>
                    </a:lnTo>
                    <a:lnTo>
                      <a:pt x="2010" y="13"/>
                    </a:lnTo>
                    <a:lnTo>
                      <a:pt x="2087" y="19"/>
                    </a:lnTo>
                    <a:lnTo>
                      <a:pt x="2162" y="26"/>
                    </a:lnTo>
                    <a:lnTo>
                      <a:pt x="2235" y="33"/>
                    </a:lnTo>
                    <a:lnTo>
                      <a:pt x="2306" y="42"/>
                    </a:lnTo>
                    <a:lnTo>
                      <a:pt x="2375" y="51"/>
                    </a:lnTo>
                    <a:lnTo>
                      <a:pt x="2443" y="61"/>
                    </a:lnTo>
                    <a:lnTo>
                      <a:pt x="2508" y="72"/>
                    </a:lnTo>
                    <a:lnTo>
                      <a:pt x="2571" y="84"/>
                    </a:lnTo>
                    <a:lnTo>
                      <a:pt x="2632" y="97"/>
                    </a:lnTo>
                    <a:lnTo>
                      <a:pt x="2690" y="111"/>
                    </a:lnTo>
                    <a:lnTo>
                      <a:pt x="2746" y="126"/>
                    </a:lnTo>
                    <a:lnTo>
                      <a:pt x="2799" y="141"/>
                    </a:lnTo>
                    <a:lnTo>
                      <a:pt x="2850" y="156"/>
                    </a:lnTo>
                    <a:lnTo>
                      <a:pt x="2897" y="173"/>
                    </a:lnTo>
                    <a:lnTo>
                      <a:pt x="2943" y="190"/>
                    </a:lnTo>
                    <a:lnTo>
                      <a:pt x="2984" y="208"/>
                    </a:lnTo>
                    <a:lnTo>
                      <a:pt x="3023" y="227"/>
                    </a:lnTo>
                    <a:lnTo>
                      <a:pt x="3059" y="246"/>
                    </a:lnTo>
                    <a:lnTo>
                      <a:pt x="3091" y="265"/>
                    </a:lnTo>
                    <a:lnTo>
                      <a:pt x="3119" y="285"/>
                    </a:lnTo>
                    <a:lnTo>
                      <a:pt x="3145" y="306"/>
                    </a:lnTo>
                    <a:lnTo>
                      <a:pt x="3167" y="328"/>
                    </a:lnTo>
                    <a:lnTo>
                      <a:pt x="3184" y="350"/>
                    </a:lnTo>
                    <a:lnTo>
                      <a:pt x="3198" y="372"/>
                    </a:lnTo>
                    <a:lnTo>
                      <a:pt x="3209" y="394"/>
                    </a:lnTo>
                    <a:lnTo>
                      <a:pt x="3215" y="417"/>
                    </a:lnTo>
                    <a:lnTo>
                      <a:pt x="3217" y="4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113560" y="6523920"/>
                <a:ext cx="354240" cy="107640"/>
              </a:xfrm>
              <a:custGeom>
                <a:avLst/>
                <a:gdLst/>
                <a:ahLst/>
                <a:rect l="l" t="t" r="r" b="b"/>
                <a:pathLst>
                  <a:path w="3213" h="899">
                    <a:moveTo>
                      <a:pt x="3213" y="441"/>
                    </a:moveTo>
                    <a:lnTo>
                      <a:pt x="3211" y="464"/>
                    </a:lnTo>
                    <a:lnTo>
                      <a:pt x="3205" y="487"/>
                    </a:lnTo>
                    <a:lnTo>
                      <a:pt x="3195" y="510"/>
                    </a:lnTo>
                    <a:lnTo>
                      <a:pt x="3181" y="533"/>
                    </a:lnTo>
                    <a:lnTo>
                      <a:pt x="3163" y="555"/>
                    </a:lnTo>
                    <a:lnTo>
                      <a:pt x="3142" y="577"/>
                    </a:lnTo>
                    <a:lnTo>
                      <a:pt x="3116" y="598"/>
                    </a:lnTo>
                    <a:lnTo>
                      <a:pt x="3087" y="618"/>
                    </a:lnTo>
                    <a:lnTo>
                      <a:pt x="3055" y="640"/>
                    </a:lnTo>
                    <a:lnTo>
                      <a:pt x="3019" y="659"/>
                    </a:lnTo>
                    <a:lnTo>
                      <a:pt x="2981" y="678"/>
                    </a:lnTo>
                    <a:lnTo>
                      <a:pt x="2940" y="697"/>
                    </a:lnTo>
                    <a:lnTo>
                      <a:pt x="2894" y="714"/>
                    </a:lnTo>
                    <a:lnTo>
                      <a:pt x="2847" y="732"/>
                    </a:lnTo>
                    <a:lnTo>
                      <a:pt x="2796" y="749"/>
                    </a:lnTo>
                    <a:lnTo>
                      <a:pt x="2743" y="765"/>
                    </a:lnTo>
                    <a:lnTo>
                      <a:pt x="2687" y="780"/>
                    </a:lnTo>
                    <a:lnTo>
                      <a:pt x="2629" y="794"/>
                    </a:lnTo>
                    <a:lnTo>
                      <a:pt x="2568" y="808"/>
                    </a:lnTo>
                    <a:lnTo>
                      <a:pt x="2505" y="820"/>
                    </a:lnTo>
                    <a:lnTo>
                      <a:pt x="2440" y="832"/>
                    </a:lnTo>
                    <a:lnTo>
                      <a:pt x="2373" y="843"/>
                    </a:lnTo>
                    <a:lnTo>
                      <a:pt x="2303" y="854"/>
                    </a:lnTo>
                    <a:lnTo>
                      <a:pt x="2232" y="863"/>
                    </a:lnTo>
                    <a:lnTo>
                      <a:pt x="2159" y="871"/>
                    </a:lnTo>
                    <a:lnTo>
                      <a:pt x="2084" y="878"/>
                    </a:lnTo>
                    <a:lnTo>
                      <a:pt x="2008" y="884"/>
                    </a:lnTo>
                    <a:lnTo>
                      <a:pt x="1931" y="890"/>
                    </a:lnTo>
                    <a:lnTo>
                      <a:pt x="1851" y="894"/>
                    </a:lnTo>
                    <a:lnTo>
                      <a:pt x="1771" y="896"/>
                    </a:lnTo>
                    <a:lnTo>
                      <a:pt x="1689" y="898"/>
                    </a:lnTo>
                    <a:lnTo>
                      <a:pt x="1606" y="899"/>
                    </a:lnTo>
                    <a:lnTo>
                      <a:pt x="1524" y="898"/>
                    </a:lnTo>
                    <a:lnTo>
                      <a:pt x="1442" y="896"/>
                    </a:lnTo>
                    <a:lnTo>
                      <a:pt x="1362" y="894"/>
                    </a:lnTo>
                    <a:lnTo>
                      <a:pt x="1282" y="890"/>
                    </a:lnTo>
                    <a:lnTo>
                      <a:pt x="1205" y="884"/>
                    </a:lnTo>
                    <a:lnTo>
                      <a:pt x="1129" y="878"/>
                    </a:lnTo>
                    <a:lnTo>
                      <a:pt x="1054" y="871"/>
                    </a:lnTo>
                    <a:lnTo>
                      <a:pt x="981" y="863"/>
                    </a:lnTo>
                    <a:lnTo>
                      <a:pt x="910" y="854"/>
                    </a:lnTo>
                    <a:lnTo>
                      <a:pt x="841" y="843"/>
                    </a:lnTo>
                    <a:lnTo>
                      <a:pt x="773" y="832"/>
                    </a:lnTo>
                    <a:lnTo>
                      <a:pt x="708" y="820"/>
                    </a:lnTo>
                    <a:lnTo>
                      <a:pt x="645" y="808"/>
                    </a:lnTo>
                    <a:lnTo>
                      <a:pt x="584" y="794"/>
                    </a:lnTo>
                    <a:lnTo>
                      <a:pt x="526" y="780"/>
                    </a:lnTo>
                    <a:lnTo>
                      <a:pt x="470" y="765"/>
                    </a:lnTo>
                    <a:lnTo>
                      <a:pt x="417" y="749"/>
                    </a:lnTo>
                    <a:lnTo>
                      <a:pt x="366" y="732"/>
                    </a:lnTo>
                    <a:lnTo>
                      <a:pt x="319" y="714"/>
                    </a:lnTo>
                    <a:lnTo>
                      <a:pt x="274" y="697"/>
                    </a:lnTo>
                    <a:lnTo>
                      <a:pt x="232" y="678"/>
                    </a:lnTo>
                    <a:lnTo>
                      <a:pt x="194" y="659"/>
                    </a:lnTo>
                    <a:lnTo>
                      <a:pt x="158" y="640"/>
                    </a:lnTo>
                    <a:lnTo>
                      <a:pt x="126" y="618"/>
                    </a:lnTo>
                    <a:lnTo>
                      <a:pt x="97" y="598"/>
                    </a:lnTo>
                    <a:lnTo>
                      <a:pt x="71" y="577"/>
                    </a:lnTo>
                    <a:lnTo>
                      <a:pt x="50" y="555"/>
                    </a:lnTo>
                    <a:lnTo>
                      <a:pt x="32" y="533"/>
                    </a:lnTo>
                    <a:lnTo>
                      <a:pt x="18" y="510"/>
                    </a:lnTo>
                    <a:lnTo>
                      <a:pt x="8" y="487"/>
                    </a:lnTo>
                    <a:lnTo>
                      <a:pt x="2" y="464"/>
                    </a:lnTo>
                    <a:lnTo>
                      <a:pt x="0" y="441"/>
                    </a:lnTo>
                    <a:lnTo>
                      <a:pt x="2" y="416"/>
                    </a:lnTo>
                    <a:lnTo>
                      <a:pt x="8" y="393"/>
                    </a:lnTo>
                    <a:lnTo>
                      <a:pt x="18" y="371"/>
                    </a:lnTo>
                    <a:lnTo>
                      <a:pt x="32" y="349"/>
                    </a:lnTo>
                    <a:lnTo>
                      <a:pt x="50" y="327"/>
                    </a:lnTo>
                    <a:lnTo>
                      <a:pt x="71" y="305"/>
                    </a:lnTo>
                    <a:lnTo>
                      <a:pt x="97" y="285"/>
                    </a:lnTo>
                    <a:lnTo>
                      <a:pt x="126" y="265"/>
                    </a:lnTo>
                    <a:lnTo>
                      <a:pt x="158" y="245"/>
                    </a:lnTo>
                    <a:lnTo>
                      <a:pt x="194" y="226"/>
                    </a:lnTo>
                    <a:lnTo>
                      <a:pt x="232" y="207"/>
                    </a:lnTo>
                    <a:lnTo>
                      <a:pt x="274" y="189"/>
                    </a:lnTo>
                    <a:lnTo>
                      <a:pt x="319" y="172"/>
                    </a:lnTo>
                    <a:lnTo>
                      <a:pt x="366" y="156"/>
                    </a:lnTo>
                    <a:lnTo>
                      <a:pt x="417" y="140"/>
                    </a:lnTo>
                    <a:lnTo>
                      <a:pt x="470" y="125"/>
                    </a:lnTo>
                    <a:lnTo>
                      <a:pt x="526" y="111"/>
                    </a:lnTo>
                    <a:lnTo>
                      <a:pt x="584" y="97"/>
                    </a:lnTo>
                    <a:lnTo>
                      <a:pt x="645" y="84"/>
                    </a:lnTo>
                    <a:lnTo>
                      <a:pt x="708" y="72"/>
                    </a:lnTo>
                    <a:lnTo>
                      <a:pt x="773" y="61"/>
                    </a:lnTo>
                    <a:lnTo>
                      <a:pt x="841" y="51"/>
                    </a:lnTo>
                    <a:lnTo>
                      <a:pt x="910" y="41"/>
                    </a:lnTo>
                    <a:lnTo>
                      <a:pt x="981" y="33"/>
                    </a:lnTo>
                    <a:lnTo>
                      <a:pt x="1054" y="25"/>
                    </a:lnTo>
                    <a:lnTo>
                      <a:pt x="1129" y="19"/>
                    </a:lnTo>
                    <a:lnTo>
                      <a:pt x="1205" y="13"/>
                    </a:lnTo>
                    <a:lnTo>
                      <a:pt x="1282" y="9"/>
                    </a:lnTo>
                    <a:lnTo>
                      <a:pt x="1362" y="5"/>
                    </a:lnTo>
                    <a:lnTo>
                      <a:pt x="1442" y="2"/>
                    </a:lnTo>
                    <a:lnTo>
                      <a:pt x="1524" y="1"/>
                    </a:lnTo>
                    <a:lnTo>
                      <a:pt x="1606" y="0"/>
                    </a:lnTo>
                    <a:lnTo>
                      <a:pt x="1689" y="1"/>
                    </a:lnTo>
                    <a:lnTo>
                      <a:pt x="1771" y="2"/>
                    </a:lnTo>
                    <a:lnTo>
                      <a:pt x="1851" y="5"/>
                    </a:lnTo>
                    <a:lnTo>
                      <a:pt x="1931" y="9"/>
                    </a:lnTo>
                    <a:lnTo>
                      <a:pt x="2008" y="13"/>
                    </a:lnTo>
                    <a:lnTo>
                      <a:pt x="2084" y="19"/>
                    </a:lnTo>
                    <a:lnTo>
                      <a:pt x="2159" y="25"/>
                    </a:lnTo>
                    <a:lnTo>
                      <a:pt x="2232" y="33"/>
                    </a:lnTo>
                    <a:lnTo>
                      <a:pt x="2303" y="41"/>
                    </a:lnTo>
                    <a:lnTo>
                      <a:pt x="2373" y="51"/>
                    </a:lnTo>
                    <a:lnTo>
                      <a:pt x="2440" y="61"/>
                    </a:lnTo>
                    <a:lnTo>
                      <a:pt x="2505" y="72"/>
                    </a:lnTo>
                    <a:lnTo>
                      <a:pt x="2568" y="84"/>
                    </a:lnTo>
                    <a:lnTo>
                      <a:pt x="2629" y="97"/>
                    </a:lnTo>
                    <a:lnTo>
                      <a:pt x="2687" y="111"/>
                    </a:lnTo>
                    <a:lnTo>
                      <a:pt x="2743" y="125"/>
                    </a:lnTo>
                    <a:lnTo>
                      <a:pt x="2796" y="140"/>
                    </a:lnTo>
                    <a:lnTo>
                      <a:pt x="2847" y="156"/>
                    </a:lnTo>
                    <a:lnTo>
                      <a:pt x="2894" y="172"/>
                    </a:lnTo>
                    <a:lnTo>
                      <a:pt x="2940" y="189"/>
                    </a:lnTo>
                    <a:lnTo>
                      <a:pt x="2981" y="207"/>
                    </a:lnTo>
                    <a:lnTo>
                      <a:pt x="3019" y="226"/>
                    </a:lnTo>
                    <a:lnTo>
                      <a:pt x="3055" y="245"/>
                    </a:lnTo>
                    <a:lnTo>
                      <a:pt x="3087" y="265"/>
                    </a:lnTo>
                    <a:lnTo>
                      <a:pt x="3116" y="285"/>
                    </a:lnTo>
                    <a:lnTo>
                      <a:pt x="3142" y="305"/>
                    </a:lnTo>
                    <a:lnTo>
                      <a:pt x="3163" y="327"/>
                    </a:lnTo>
                    <a:lnTo>
                      <a:pt x="3181" y="349"/>
                    </a:lnTo>
                    <a:lnTo>
                      <a:pt x="3195" y="371"/>
                    </a:lnTo>
                    <a:lnTo>
                      <a:pt x="3205" y="393"/>
                    </a:lnTo>
                    <a:lnTo>
                      <a:pt x="3211" y="416"/>
                    </a:lnTo>
                    <a:lnTo>
                      <a:pt x="3213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113560" y="6523920"/>
                <a:ext cx="354240" cy="107640"/>
              </a:xfrm>
              <a:custGeom>
                <a:avLst/>
                <a:gdLst/>
                <a:ahLst/>
                <a:rect l="l" t="t" r="r" b="b"/>
                <a:pathLst>
                  <a:path w="3211" h="897">
                    <a:moveTo>
                      <a:pt x="3211" y="440"/>
                    </a:moveTo>
                    <a:lnTo>
                      <a:pt x="3209" y="463"/>
                    </a:lnTo>
                    <a:lnTo>
                      <a:pt x="3203" y="486"/>
                    </a:lnTo>
                    <a:lnTo>
                      <a:pt x="3193" y="509"/>
                    </a:lnTo>
                    <a:lnTo>
                      <a:pt x="3179" y="532"/>
                    </a:lnTo>
                    <a:lnTo>
                      <a:pt x="3161" y="554"/>
                    </a:lnTo>
                    <a:lnTo>
                      <a:pt x="3139" y="575"/>
                    </a:lnTo>
                    <a:lnTo>
                      <a:pt x="3113" y="597"/>
                    </a:lnTo>
                    <a:lnTo>
                      <a:pt x="3085" y="617"/>
                    </a:lnTo>
                    <a:lnTo>
                      <a:pt x="3053" y="638"/>
                    </a:lnTo>
                    <a:lnTo>
                      <a:pt x="3017" y="658"/>
                    </a:lnTo>
                    <a:lnTo>
                      <a:pt x="2979" y="677"/>
                    </a:lnTo>
                    <a:lnTo>
                      <a:pt x="2937" y="695"/>
                    </a:lnTo>
                    <a:lnTo>
                      <a:pt x="2892" y="713"/>
                    </a:lnTo>
                    <a:lnTo>
                      <a:pt x="2845" y="730"/>
                    </a:lnTo>
                    <a:lnTo>
                      <a:pt x="2794" y="747"/>
                    </a:lnTo>
                    <a:lnTo>
                      <a:pt x="2741" y="763"/>
                    </a:lnTo>
                    <a:lnTo>
                      <a:pt x="2685" y="778"/>
                    </a:lnTo>
                    <a:lnTo>
                      <a:pt x="2627" y="792"/>
                    </a:lnTo>
                    <a:lnTo>
                      <a:pt x="2566" y="806"/>
                    </a:lnTo>
                    <a:lnTo>
                      <a:pt x="2503" y="818"/>
                    </a:lnTo>
                    <a:lnTo>
                      <a:pt x="2438" y="830"/>
                    </a:lnTo>
                    <a:lnTo>
                      <a:pt x="2371" y="841"/>
                    </a:lnTo>
                    <a:lnTo>
                      <a:pt x="2301" y="852"/>
                    </a:lnTo>
                    <a:lnTo>
                      <a:pt x="2231" y="861"/>
                    </a:lnTo>
                    <a:lnTo>
                      <a:pt x="2158" y="869"/>
                    </a:lnTo>
                    <a:lnTo>
                      <a:pt x="2083" y="876"/>
                    </a:lnTo>
                    <a:lnTo>
                      <a:pt x="2006" y="883"/>
                    </a:lnTo>
                    <a:lnTo>
                      <a:pt x="1929" y="888"/>
                    </a:lnTo>
                    <a:lnTo>
                      <a:pt x="1850" y="892"/>
                    </a:lnTo>
                    <a:lnTo>
                      <a:pt x="1770" y="895"/>
                    </a:lnTo>
                    <a:lnTo>
                      <a:pt x="1688" y="896"/>
                    </a:lnTo>
                    <a:lnTo>
                      <a:pt x="1605" y="897"/>
                    </a:lnTo>
                    <a:lnTo>
                      <a:pt x="1523" y="896"/>
                    </a:lnTo>
                    <a:lnTo>
                      <a:pt x="1442" y="895"/>
                    </a:lnTo>
                    <a:lnTo>
                      <a:pt x="1361" y="892"/>
                    </a:lnTo>
                    <a:lnTo>
                      <a:pt x="1282" y="888"/>
                    </a:lnTo>
                    <a:lnTo>
                      <a:pt x="1205" y="883"/>
                    </a:lnTo>
                    <a:lnTo>
                      <a:pt x="1128" y="876"/>
                    </a:lnTo>
                    <a:lnTo>
                      <a:pt x="1053" y="869"/>
                    </a:lnTo>
                    <a:lnTo>
                      <a:pt x="980" y="861"/>
                    </a:lnTo>
                    <a:lnTo>
                      <a:pt x="910" y="852"/>
                    </a:lnTo>
                    <a:lnTo>
                      <a:pt x="840" y="841"/>
                    </a:lnTo>
                    <a:lnTo>
                      <a:pt x="773" y="830"/>
                    </a:lnTo>
                    <a:lnTo>
                      <a:pt x="708" y="818"/>
                    </a:lnTo>
                    <a:lnTo>
                      <a:pt x="645" y="806"/>
                    </a:lnTo>
                    <a:lnTo>
                      <a:pt x="584" y="792"/>
                    </a:lnTo>
                    <a:lnTo>
                      <a:pt x="526" y="778"/>
                    </a:lnTo>
                    <a:lnTo>
                      <a:pt x="470" y="763"/>
                    </a:lnTo>
                    <a:lnTo>
                      <a:pt x="417" y="747"/>
                    </a:lnTo>
                    <a:lnTo>
                      <a:pt x="366" y="730"/>
                    </a:lnTo>
                    <a:lnTo>
                      <a:pt x="319" y="713"/>
                    </a:lnTo>
                    <a:lnTo>
                      <a:pt x="274" y="695"/>
                    </a:lnTo>
                    <a:lnTo>
                      <a:pt x="232" y="677"/>
                    </a:lnTo>
                    <a:lnTo>
                      <a:pt x="194" y="658"/>
                    </a:lnTo>
                    <a:lnTo>
                      <a:pt x="158" y="638"/>
                    </a:lnTo>
                    <a:lnTo>
                      <a:pt x="126" y="617"/>
                    </a:lnTo>
                    <a:lnTo>
                      <a:pt x="98" y="597"/>
                    </a:lnTo>
                    <a:lnTo>
                      <a:pt x="72" y="575"/>
                    </a:lnTo>
                    <a:lnTo>
                      <a:pt x="50" y="554"/>
                    </a:lnTo>
                    <a:lnTo>
                      <a:pt x="33" y="532"/>
                    </a:lnTo>
                    <a:lnTo>
                      <a:pt x="19" y="509"/>
                    </a:lnTo>
                    <a:lnTo>
                      <a:pt x="8" y="486"/>
                    </a:lnTo>
                    <a:lnTo>
                      <a:pt x="2" y="463"/>
                    </a:lnTo>
                    <a:lnTo>
                      <a:pt x="0" y="440"/>
                    </a:lnTo>
                    <a:lnTo>
                      <a:pt x="2" y="415"/>
                    </a:lnTo>
                    <a:lnTo>
                      <a:pt x="8" y="393"/>
                    </a:lnTo>
                    <a:lnTo>
                      <a:pt x="19" y="370"/>
                    </a:lnTo>
                    <a:lnTo>
                      <a:pt x="33" y="348"/>
                    </a:lnTo>
                    <a:lnTo>
                      <a:pt x="50" y="327"/>
                    </a:lnTo>
                    <a:lnTo>
                      <a:pt x="72" y="305"/>
                    </a:lnTo>
                    <a:lnTo>
                      <a:pt x="98" y="284"/>
                    </a:lnTo>
                    <a:lnTo>
                      <a:pt x="126" y="264"/>
                    </a:lnTo>
                    <a:lnTo>
                      <a:pt x="158" y="245"/>
                    </a:lnTo>
                    <a:lnTo>
                      <a:pt x="194" y="226"/>
                    </a:lnTo>
                    <a:lnTo>
                      <a:pt x="232" y="206"/>
                    </a:lnTo>
                    <a:lnTo>
                      <a:pt x="274" y="189"/>
                    </a:lnTo>
                    <a:lnTo>
                      <a:pt x="319" y="172"/>
                    </a:lnTo>
                    <a:lnTo>
                      <a:pt x="366" y="156"/>
                    </a:lnTo>
                    <a:lnTo>
                      <a:pt x="417" y="140"/>
                    </a:lnTo>
                    <a:lnTo>
                      <a:pt x="470" y="125"/>
                    </a:lnTo>
                    <a:lnTo>
                      <a:pt x="526" y="111"/>
                    </a:lnTo>
                    <a:lnTo>
                      <a:pt x="584" y="96"/>
                    </a:lnTo>
                    <a:lnTo>
                      <a:pt x="645" y="84"/>
                    </a:lnTo>
                    <a:lnTo>
                      <a:pt x="708" y="72"/>
                    </a:lnTo>
                    <a:lnTo>
                      <a:pt x="773" y="61"/>
                    </a:lnTo>
                    <a:lnTo>
                      <a:pt x="840" y="51"/>
                    </a:lnTo>
                    <a:lnTo>
                      <a:pt x="910" y="41"/>
                    </a:lnTo>
                    <a:lnTo>
                      <a:pt x="980" y="33"/>
                    </a:lnTo>
                    <a:lnTo>
                      <a:pt x="1053" y="25"/>
                    </a:lnTo>
                    <a:lnTo>
                      <a:pt x="1128" y="19"/>
                    </a:lnTo>
                    <a:lnTo>
                      <a:pt x="1205" y="13"/>
                    </a:lnTo>
                    <a:lnTo>
                      <a:pt x="1282" y="8"/>
                    </a:lnTo>
                    <a:lnTo>
                      <a:pt x="1361" y="5"/>
                    </a:lnTo>
                    <a:lnTo>
                      <a:pt x="1442" y="2"/>
                    </a:lnTo>
                    <a:lnTo>
                      <a:pt x="1523" y="1"/>
                    </a:lnTo>
                    <a:lnTo>
                      <a:pt x="1605" y="0"/>
                    </a:lnTo>
                    <a:lnTo>
                      <a:pt x="1688" y="1"/>
                    </a:lnTo>
                    <a:lnTo>
                      <a:pt x="1770" y="2"/>
                    </a:lnTo>
                    <a:lnTo>
                      <a:pt x="1850" y="5"/>
                    </a:lnTo>
                    <a:lnTo>
                      <a:pt x="1929" y="8"/>
                    </a:lnTo>
                    <a:lnTo>
                      <a:pt x="2006" y="13"/>
                    </a:lnTo>
                    <a:lnTo>
                      <a:pt x="2083" y="19"/>
                    </a:lnTo>
                    <a:lnTo>
                      <a:pt x="2158" y="25"/>
                    </a:lnTo>
                    <a:lnTo>
                      <a:pt x="2231" y="33"/>
                    </a:lnTo>
                    <a:lnTo>
                      <a:pt x="2301" y="41"/>
                    </a:lnTo>
                    <a:lnTo>
                      <a:pt x="2371" y="51"/>
                    </a:lnTo>
                    <a:lnTo>
                      <a:pt x="2438" y="61"/>
                    </a:lnTo>
                    <a:lnTo>
                      <a:pt x="2503" y="72"/>
                    </a:lnTo>
                    <a:lnTo>
                      <a:pt x="2566" y="84"/>
                    </a:lnTo>
                    <a:lnTo>
                      <a:pt x="2627" y="96"/>
                    </a:lnTo>
                    <a:lnTo>
                      <a:pt x="2685" y="111"/>
                    </a:lnTo>
                    <a:lnTo>
                      <a:pt x="2741" y="125"/>
                    </a:lnTo>
                    <a:lnTo>
                      <a:pt x="2794" y="140"/>
                    </a:lnTo>
                    <a:lnTo>
                      <a:pt x="2845" y="156"/>
                    </a:lnTo>
                    <a:lnTo>
                      <a:pt x="2892" y="172"/>
                    </a:lnTo>
                    <a:lnTo>
                      <a:pt x="2937" y="189"/>
                    </a:lnTo>
                    <a:lnTo>
                      <a:pt x="2979" y="206"/>
                    </a:lnTo>
                    <a:lnTo>
                      <a:pt x="3017" y="226"/>
                    </a:lnTo>
                    <a:lnTo>
                      <a:pt x="3053" y="245"/>
                    </a:lnTo>
                    <a:lnTo>
                      <a:pt x="3085" y="264"/>
                    </a:lnTo>
                    <a:lnTo>
                      <a:pt x="3113" y="284"/>
                    </a:lnTo>
                    <a:lnTo>
                      <a:pt x="3139" y="305"/>
                    </a:lnTo>
                    <a:lnTo>
                      <a:pt x="3161" y="327"/>
                    </a:lnTo>
                    <a:lnTo>
                      <a:pt x="3179" y="348"/>
                    </a:lnTo>
                    <a:lnTo>
                      <a:pt x="3193" y="370"/>
                    </a:lnTo>
                    <a:lnTo>
                      <a:pt x="3203" y="393"/>
                    </a:lnTo>
                    <a:lnTo>
                      <a:pt x="3209" y="415"/>
                    </a:lnTo>
                    <a:lnTo>
                      <a:pt x="3211" y="4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113560" y="6523920"/>
                <a:ext cx="354240" cy="107640"/>
              </a:xfrm>
              <a:custGeom>
                <a:avLst/>
                <a:gdLst/>
                <a:ahLst/>
                <a:rect l="l" t="t" r="r" b="b"/>
                <a:pathLst>
                  <a:path w="3207" h="895">
                    <a:moveTo>
                      <a:pt x="3207" y="439"/>
                    </a:moveTo>
                    <a:lnTo>
                      <a:pt x="3205" y="462"/>
                    </a:lnTo>
                    <a:lnTo>
                      <a:pt x="3199" y="485"/>
                    </a:lnTo>
                    <a:lnTo>
                      <a:pt x="3189" y="508"/>
                    </a:lnTo>
                    <a:lnTo>
                      <a:pt x="3175" y="531"/>
                    </a:lnTo>
                    <a:lnTo>
                      <a:pt x="3157" y="553"/>
                    </a:lnTo>
                    <a:lnTo>
                      <a:pt x="3136" y="574"/>
                    </a:lnTo>
                    <a:lnTo>
                      <a:pt x="3110" y="595"/>
                    </a:lnTo>
                    <a:lnTo>
                      <a:pt x="3082" y="616"/>
                    </a:lnTo>
                    <a:lnTo>
                      <a:pt x="3050" y="637"/>
                    </a:lnTo>
                    <a:lnTo>
                      <a:pt x="3014" y="656"/>
                    </a:lnTo>
                    <a:lnTo>
                      <a:pt x="2975" y="675"/>
                    </a:lnTo>
                    <a:lnTo>
                      <a:pt x="2934" y="694"/>
                    </a:lnTo>
                    <a:lnTo>
                      <a:pt x="2889" y="711"/>
                    </a:lnTo>
                    <a:lnTo>
                      <a:pt x="2842" y="728"/>
                    </a:lnTo>
                    <a:lnTo>
                      <a:pt x="2791" y="746"/>
                    </a:lnTo>
                    <a:lnTo>
                      <a:pt x="2738" y="761"/>
                    </a:lnTo>
                    <a:lnTo>
                      <a:pt x="2682" y="776"/>
                    </a:lnTo>
                    <a:lnTo>
                      <a:pt x="2623" y="791"/>
                    </a:lnTo>
                    <a:lnTo>
                      <a:pt x="2563" y="804"/>
                    </a:lnTo>
                    <a:lnTo>
                      <a:pt x="2500" y="817"/>
                    </a:lnTo>
                    <a:lnTo>
                      <a:pt x="2436" y="828"/>
                    </a:lnTo>
                    <a:lnTo>
                      <a:pt x="2368" y="839"/>
                    </a:lnTo>
                    <a:lnTo>
                      <a:pt x="2299" y="849"/>
                    </a:lnTo>
                    <a:lnTo>
                      <a:pt x="2228" y="859"/>
                    </a:lnTo>
                    <a:lnTo>
                      <a:pt x="2155" y="868"/>
                    </a:lnTo>
                    <a:lnTo>
                      <a:pt x="2080" y="875"/>
                    </a:lnTo>
                    <a:lnTo>
                      <a:pt x="2004" y="881"/>
                    </a:lnTo>
                    <a:lnTo>
                      <a:pt x="1927" y="886"/>
                    </a:lnTo>
                    <a:lnTo>
                      <a:pt x="1848" y="890"/>
                    </a:lnTo>
                    <a:lnTo>
                      <a:pt x="1767" y="893"/>
                    </a:lnTo>
                    <a:lnTo>
                      <a:pt x="1686" y="894"/>
                    </a:lnTo>
                    <a:lnTo>
                      <a:pt x="1603" y="895"/>
                    </a:lnTo>
                    <a:lnTo>
                      <a:pt x="1521" y="894"/>
                    </a:lnTo>
                    <a:lnTo>
                      <a:pt x="1440" y="893"/>
                    </a:lnTo>
                    <a:lnTo>
                      <a:pt x="1359" y="890"/>
                    </a:lnTo>
                    <a:lnTo>
                      <a:pt x="1280" y="886"/>
                    </a:lnTo>
                    <a:lnTo>
                      <a:pt x="1203" y="881"/>
                    </a:lnTo>
                    <a:lnTo>
                      <a:pt x="1127" y="875"/>
                    </a:lnTo>
                    <a:lnTo>
                      <a:pt x="1052" y="868"/>
                    </a:lnTo>
                    <a:lnTo>
                      <a:pt x="979" y="859"/>
                    </a:lnTo>
                    <a:lnTo>
                      <a:pt x="908" y="849"/>
                    </a:lnTo>
                    <a:lnTo>
                      <a:pt x="839" y="839"/>
                    </a:lnTo>
                    <a:lnTo>
                      <a:pt x="771" y="828"/>
                    </a:lnTo>
                    <a:lnTo>
                      <a:pt x="707" y="817"/>
                    </a:lnTo>
                    <a:lnTo>
                      <a:pt x="644" y="804"/>
                    </a:lnTo>
                    <a:lnTo>
                      <a:pt x="583" y="791"/>
                    </a:lnTo>
                    <a:lnTo>
                      <a:pt x="525" y="776"/>
                    </a:lnTo>
                    <a:lnTo>
                      <a:pt x="469" y="761"/>
                    </a:lnTo>
                    <a:lnTo>
                      <a:pt x="416" y="746"/>
                    </a:lnTo>
                    <a:lnTo>
                      <a:pt x="365" y="728"/>
                    </a:lnTo>
                    <a:lnTo>
                      <a:pt x="318" y="711"/>
                    </a:lnTo>
                    <a:lnTo>
                      <a:pt x="273" y="694"/>
                    </a:lnTo>
                    <a:lnTo>
                      <a:pt x="232" y="675"/>
                    </a:lnTo>
                    <a:lnTo>
                      <a:pt x="193" y="656"/>
                    </a:lnTo>
                    <a:lnTo>
                      <a:pt x="157" y="637"/>
                    </a:lnTo>
                    <a:lnTo>
                      <a:pt x="125" y="616"/>
                    </a:lnTo>
                    <a:lnTo>
                      <a:pt x="97" y="595"/>
                    </a:lnTo>
                    <a:lnTo>
                      <a:pt x="71" y="574"/>
                    </a:lnTo>
                    <a:lnTo>
                      <a:pt x="50" y="553"/>
                    </a:lnTo>
                    <a:lnTo>
                      <a:pt x="32" y="531"/>
                    </a:lnTo>
                    <a:lnTo>
                      <a:pt x="18" y="508"/>
                    </a:lnTo>
                    <a:lnTo>
                      <a:pt x="8" y="485"/>
                    </a:lnTo>
                    <a:lnTo>
                      <a:pt x="2" y="462"/>
                    </a:lnTo>
                    <a:lnTo>
                      <a:pt x="0" y="439"/>
                    </a:lnTo>
                    <a:lnTo>
                      <a:pt x="2" y="414"/>
                    </a:lnTo>
                    <a:lnTo>
                      <a:pt x="8" y="392"/>
                    </a:lnTo>
                    <a:lnTo>
                      <a:pt x="18" y="369"/>
                    </a:lnTo>
                    <a:lnTo>
                      <a:pt x="32" y="347"/>
                    </a:lnTo>
                    <a:lnTo>
                      <a:pt x="50" y="326"/>
                    </a:lnTo>
                    <a:lnTo>
                      <a:pt x="71" y="304"/>
                    </a:lnTo>
                    <a:lnTo>
                      <a:pt x="97" y="283"/>
                    </a:lnTo>
                    <a:lnTo>
                      <a:pt x="125" y="263"/>
                    </a:lnTo>
                    <a:lnTo>
                      <a:pt x="157" y="244"/>
                    </a:lnTo>
                    <a:lnTo>
                      <a:pt x="193" y="225"/>
                    </a:lnTo>
                    <a:lnTo>
                      <a:pt x="232" y="206"/>
                    </a:lnTo>
                    <a:lnTo>
                      <a:pt x="273" y="188"/>
                    </a:lnTo>
                    <a:lnTo>
                      <a:pt x="318" y="171"/>
                    </a:lnTo>
                    <a:lnTo>
                      <a:pt x="365" y="155"/>
                    </a:lnTo>
                    <a:lnTo>
                      <a:pt x="416" y="140"/>
                    </a:lnTo>
                    <a:lnTo>
                      <a:pt x="469" y="125"/>
                    </a:lnTo>
                    <a:lnTo>
                      <a:pt x="525" y="110"/>
                    </a:lnTo>
                    <a:lnTo>
                      <a:pt x="583" y="96"/>
                    </a:lnTo>
                    <a:lnTo>
                      <a:pt x="644" y="83"/>
                    </a:lnTo>
                    <a:lnTo>
                      <a:pt x="707" y="72"/>
                    </a:lnTo>
                    <a:lnTo>
                      <a:pt x="771" y="61"/>
                    </a:lnTo>
                    <a:lnTo>
                      <a:pt x="839" y="50"/>
                    </a:lnTo>
                    <a:lnTo>
                      <a:pt x="908" y="41"/>
                    </a:lnTo>
                    <a:lnTo>
                      <a:pt x="979" y="33"/>
                    </a:lnTo>
                    <a:lnTo>
                      <a:pt x="1052" y="25"/>
                    </a:lnTo>
                    <a:lnTo>
                      <a:pt x="1127" y="19"/>
                    </a:lnTo>
                    <a:lnTo>
                      <a:pt x="1203" y="13"/>
                    </a:lnTo>
                    <a:lnTo>
                      <a:pt x="1280" y="8"/>
                    </a:lnTo>
                    <a:lnTo>
                      <a:pt x="1359" y="5"/>
                    </a:lnTo>
                    <a:lnTo>
                      <a:pt x="1440" y="2"/>
                    </a:lnTo>
                    <a:lnTo>
                      <a:pt x="1521" y="0"/>
                    </a:lnTo>
                    <a:lnTo>
                      <a:pt x="1603" y="0"/>
                    </a:lnTo>
                    <a:lnTo>
                      <a:pt x="1686" y="0"/>
                    </a:lnTo>
                    <a:lnTo>
                      <a:pt x="1767" y="2"/>
                    </a:lnTo>
                    <a:lnTo>
                      <a:pt x="1848" y="5"/>
                    </a:lnTo>
                    <a:lnTo>
                      <a:pt x="1927" y="8"/>
                    </a:lnTo>
                    <a:lnTo>
                      <a:pt x="2004" y="13"/>
                    </a:lnTo>
                    <a:lnTo>
                      <a:pt x="2080" y="19"/>
                    </a:lnTo>
                    <a:lnTo>
                      <a:pt x="2155" y="25"/>
                    </a:lnTo>
                    <a:lnTo>
                      <a:pt x="2228" y="33"/>
                    </a:lnTo>
                    <a:lnTo>
                      <a:pt x="2299" y="41"/>
                    </a:lnTo>
                    <a:lnTo>
                      <a:pt x="2368" y="50"/>
                    </a:lnTo>
                    <a:lnTo>
                      <a:pt x="2436" y="61"/>
                    </a:lnTo>
                    <a:lnTo>
                      <a:pt x="2500" y="72"/>
                    </a:lnTo>
                    <a:lnTo>
                      <a:pt x="2563" y="83"/>
                    </a:lnTo>
                    <a:lnTo>
                      <a:pt x="2623" y="96"/>
                    </a:lnTo>
                    <a:lnTo>
                      <a:pt x="2682" y="110"/>
                    </a:lnTo>
                    <a:lnTo>
                      <a:pt x="2738" y="125"/>
                    </a:lnTo>
                    <a:lnTo>
                      <a:pt x="2791" y="140"/>
                    </a:lnTo>
                    <a:lnTo>
                      <a:pt x="2842" y="155"/>
                    </a:lnTo>
                    <a:lnTo>
                      <a:pt x="2889" y="171"/>
                    </a:lnTo>
                    <a:lnTo>
                      <a:pt x="2934" y="188"/>
                    </a:lnTo>
                    <a:lnTo>
                      <a:pt x="2975" y="206"/>
                    </a:lnTo>
                    <a:lnTo>
                      <a:pt x="3014" y="225"/>
                    </a:lnTo>
                    <a:lnTo>
                      <a:pt x="3050" y="244"/>
                    </a:lnTo>
                    <a:lnTo>
                      <a:pt x="3082" y="263"/>
                    </a:lnTo>
                    <a:lnTo>
                      <a:pt x="3110" y="283"/>
                    </a:lnTo>
                    <a:lnTo>
                      <a:pt x="3136" y="304"/>
                    </a:lnTo>
                    <a:lnTo>
                      <a:pt x="3157" y="326"/>
                    </a:lnTo>
                    <a:lnTo>
                      <a:pt x="3175" y="347"/>
                    </a:lnTo>
                    <a:lnTo>
                      <a:pt x="3189" y="369"/>
                    </a:lnTo>
                    <a:lnTo>
                      <a:pt x="3199" y="392"/>
                    </a:lnTo>
                    <a:lnTo>
                      <a:pt x="3205" y="414"/>
                    </a:lnTo>
                    <a:lnTo>
                      <a:pt x="3207" y="4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113560" y="6523920"/>
                <a:ext cx="354240" cy="106200"/>
              </a:xfrm>
              <a:custGeom>
                <a:avLst/>
                <a:gdLst/>
                <a:ahLst/>
                <a:rect l="l" t="t" r="r" b="b"/>
                <a:pathLst>
                  <a:path w="3205" h="893">
                    <a:moveTo>
                      <a:pt x="3205" y="438"/>
                    </a:moveTo>
                    <a:lnTo>
                      <a:pt x="3203" y="461"/>
                    </a:lnTo>
                    <a:lnTo>
                      <a:pt x="3197" y="484"/>
                    </a:lnTo>
                    <a:lnTo>
                      <a:pt x="3187" y="506"/>
                    </a:lnTo>
                    <a:lnTo>
                      <a:pt x="3173" y="530"/>
                    </a:lnTo>
                    <a:lnTo>
                      <a:pt x="3155" y="552"/>
                    </a:lnTo>
                    <a:lnTo>
                      <a:pt x="3134" y="573"/>
                    </a:lnTo>
                    <a:lnTo>
                      <a:pt x="3108" y="594"/>
                    </a:lnTo>
                    <a:lnTo>
                      <a:pt x="3079" y="614"/>
                    </a:lnTo>
                    <a:lnTo>
                      <a:pt x="3048" y="634"/>
                    </a:lnTo>
                    <a:lnTo>
                      <a:pt x="3011" y="655"/>
                    </a:lnTo>
                    <a:lnTo>
                      <a:pt x="2973" y="674"/>
                    </a:lnTo>
                    <a:lnTo>
                      <a:pt x="2932" y="692"/>
                    </a:lnTo>
                    <a:lnTo>
                      <a:pt x="2887" y="710"/>
                    </a:lnTo>
                    <a:lnTo>
                      <a:pt x="2840" y="727"/>
                    </a:lnTo>
                    <a:lnTo>
                      <a:pt x="2789" y="744"/>
                    </a:lnTo>
                    <a:lnTo>
                      <a:pt x="2736" y="760"/>
                    </a:lnTo>
                    <a:lnTo>
                      <a:pt x="2680" y="775"/>
                    </a:lnTo>
                    <a:lnTo>
                      <a:pt x="2622" y="789"/>
                    </a:lnTo>
                    <a:lnTo>
                      <a:pt x="2562" y="802"/>
                    </a:lnTo>
                    <a:lnTo>
                      <a:pt x="2498" y="815"/>
                    </a:lnTo>
                    <a:lnTo>
                      <a:pt x="2434" y="827"/>
                    </a:lnTo>
                    <a:lnTo>
                      <a:pt x="2367" y="838"/>
                    </a:lnTo>
                    <a:lnTo>
                      <a:pt x="2297" y="848"/>
                    </a:lnTo>
                    <a:lnTo>
                      <a:pt x="2227" y="858"/>
                    </a:lnTo>
                    <a:lnTo>
                      <a:pt x="2154" y="866"/>
                    </a:lnTo>
                    <a:lnTo>
                      <a:pt x="2079" y="873"/>
                    </a:lnTo>
                    <a:lnTo>
                      <a:pt x="2003" y="879"/>
                    </a:lnTo>
                    <a:lnTo>
                      <a:pt x="1926" y="884"/>
                    </a:lnTo>
                    <a:lnTo>
                      <a:pt x="1847" y="888"/>
                    </a:lnTo>
                    <a:lnTo>
                      <a:pt x="1766" y="891"/>
                    </a:lnTo>
                    <a:lnTo>
                      <a:pt x="1685" y="892"/>
                    </a:lnTo>
                    <a:lnTo>
                      <a:pt x="1602" y="893"/>
                    </a:lnTo>
                    <a:lnTo>
                      <a:pt x="1520" y="892"/>
                    </a:lnTo>
                    <a:lnTo>
                      <a:pt x="1439" y="891"/>
                    </a:lnTo>
                    <a:lnTo>
                      <a:pt x="1358" y="888"/>
                    </a:lnTo>
                    <a:lnTo>
                      <a:pt x="1279" y="884"/>
                    </a:lnTo>
                    <a:lnTo>
                      <a:pt x="1202" y="879"/>
                    </a:lnTo>
                    <a:lnTo>
                      <a:pt x="1126" y="873"/>
                    </a:lnTo>
                    <a:lnTo>
                      <a:pt x="1051" y="866"/>
                    </a:lnTo>
                    <a:lnTo>
                      <a:pt x="978" y="858"/>
                    </a:lnTo>
                    <a:lnTo>
                      <a:pt x="908" y="848"/>
                    </a:lnTo>
                    <a:lnTo>
                      <a:pt x="839" y="838"/>
                    </a:lnTo>
                    <a:lnTo>
                      <a:pt x="771" y="827"/>
                    </a:lnTo>
                    <a:lnTo>
                      <a:pt x="707" y="815"/>
                    </a:lnTo>
                    <a:lnTo>
                      <a:pt x="644" y="802"/>
                    </a:lnTo>
                    <a:lnTo>
                      <a:pt x="583" y="789"/>
                    </a:lnTo>
                    <a:lnTo>
                      <a:pt x="525" y="775"/>
                    </a:lnTo>
                    <a:lnTo>
                      <a:pt x="469" y="760"/>
                    </a:lnTo>
                    <a:lnTo>
                      <a:pt x="416" y="744"/>
                    </a:lnTo>
                    <a:lnTo>
                      <a:pt x="365" y="727"/>
                    </a:lnTo>
                    <a:lnTo>
                      <a:pt x="318" y="710"/>
                    </a:lnTo>
                    <a:lnTo>
                      <a:pt x="273" y="692"/>
                    </a:lnTo>
                    <a:lnTo>
                      <a:pt x="232" y="674"/>
                    </a:lnTo>
                    <a:lnTo>
                      <a:pt x="194" y="655"/>
                    </a:lnTo>
                    <a:lnTo>
                      <a:pt x="158" y="634"/>
                    </a:lnTo>
                    <a:lnTo>
                      <a:pt x="126" y="614"/>
                    </a:lnTo>
                    <a:lnTo>
                      <a:pt x="97" y="594"/>
                    </a:lnTo>
                    <a:lnTo>
                      <a:pt x="71" y="573"/>
                    </a:lnTo>
                    <a:lnTo>
                      <a:pt x="50" y="552"/>
                    </a:lnTo>
                    <a:lnTo>
                      <a:pt x="32" y="530"/>
                    </a:lnTo>
                    <a:lnTo>
                      <a:pt x="18" y="506"/>
                    </a:lnTo>
                    <a:lnTo>
                      <a:pt x="8" y="484"/>
                    </a:lnTo>
                    <a:lnTo>
                      <a:pt x="2" y="461"/>
                    </a:lnTo>
                    <a:lnTo>
                      <a:pt x="0" y="438"/>
                    </a:lnTo>
                    <a:lnTo>
                      <a:pt x="2" y="414"/>
                    </a:lnTo>
                    <a:lnTo>
                      <a:pt x="8" y="391"/>
                    </a:lnTo>
                    <a:lnTo>
                      <a:pt x="18" y="368"/>
                    </a:lnTo>
                    <a:lnTo>
                      <a:pt x="32" y="346"/>
                    </a:lnTo>
                    <a:lnTo>
                      <a:pt x="50" y="325"/>
                    </a:lnTo>
                    <a:lnTo>
                      <a:pt x="71" y="303"/>
                    </a:lnTo>
                    <a:lnTo>
                      <a:pt x="97" y="283"/>
                    </a:lnTo>
                    <a:lnTo>
                      <a:pt x="126" y="263"/>
                    </a:lnTo>
                    <a:lnTo>
                      <a:pt x="158" y="243"/>
                    </a:lnTo>
                    <a:lnTo>
                      <a:pt x="194" y="225"/>
                    </a:lnTo>
                    <a:lnTo>
                      <a:pt x="232" y="205"/>
                    </a:lnTo>
                    <a:lnTo>
                      <a:pt x="273" y="188"/>
                    </a:lnTo>
                    <a:lnTo>
                      <a:pt x="318" y="171"/>
                    </a:lnTo>
                    <a:lnTo>
                      <a:pt x="365" y="155"/>
                    </a:lnTo>
                    <a:lnTo>
                      <a:pt x="416" y="139"/>
                    </a:lnTo>
                    <a:lnTo>
                      <a:pt x="469" y="124"/>
                    </a:lnTo>
                    <a:lnTo>
                      <a:pt x="525" y="110"/>
                    </a:lnTo>
                    <a:lnTo>
                      <a:pt x="583" y="96"/>
                    </a:lnTo>
                    <a:lnTo>
                      <a:pt x="644" y="83"/>
                    </a:lnTo>
                    <a:lnTo>
                      <a:pt x="707" y="71"/>
                    </a:lnTo>
                    <a:lnTo>
                      <a:pt x="771" y="60"/>
                    </a:lnTo>
                    <a:lnTo>
                      <a:pt x="839" y="50"/>
                    </a:lnTo>
                    <a:lnTo>
                      <a:pt x="908" y="41"/>
                    </a:lnTo>
                    <a:lnTo>
                      <a:pt x="978" y="33"/>
                    </a:lnTo>
                    <a:lnTo>
                      <a:pt x="1051" y="25"/>
                    </a:lnTo>
                    <a:lnTo>
                      <a:pt x="1126" y="19"/>
                    </a:lnTo>
                    <a:lnTo>
                      <a:pt x="1202" y="13"/>
                    </a:lnTo>
                    <a:lnTo>
                      <a:pt x="1279" y="8"/>
                    </a:lnTo>
                    <a:lnTo>
                      <a:pt x="1358" y="5"/>
                    </a:lnTo>
                    <a:lnTo>
                      <a:pt x="1439" y="2"/>
                    </a:lnTo>
                    <a:lnTo>
                      <a:pt x="1520" y="0"/>
                    </a:lnTo>
                    <a:lnTo>
                      <a:pt x="1602" y="0"/>
                    </a:lnTo>
                    <a:lnTo>
                      <a:pt x="1685" y="0"/>
                    </a:lnTo>
                    <a:lnTo>
                      <a:pt x="1766" y="2"/>
                    </a:lnTo>
                    <a:lnTo>
                      <a:pt x="1847" y="5"/>
                    </a:lnTo>
                    <a:lnTo>
                      <a:pt x="1926" y="8"/>
                    </a:lnTo>
                    <a:lnTo>
                      <a:pt x="2003" y="13"/>
                    </a:lnTo>
                    <a:lnTo>
                      <a:pt x="2079" y="19"/>
                    </a:lnTo>
                    <a:lnTo>
                      <a:pt x="2154" y="25"/>
                    </a:lnTo>
                    <a:lnTo>
                      <a:pt x="2227" y="33"/>
                    </a:lnTo>
                    <a:lnTo>
                      <a:pt x="2297" y="41"/>
                    </a:lnTo>
                    <a:lnTo>
                      <a:pt x="2367" y="50"/>
                    </a:lnTo>
                    <a:lnTo>
                      <a:pt x="2434" y="60"/>
                    </a:lnTo>
                    <a:lnTo>
                      <a:pt x="2498" y="71"/>
                    </a:lnTo>
                    <a:lnTo>
                      <a:pt x="2562" y="83"/>
                    </a:lnTo>
                    <a:lnTo>
                      <a:pt x="2622" y="96"/>
                    </a:lnTo>
                    <a:lnTo>
                      <a:pt x="2680" y="110"/>
                    </a:lnTo>
                    <a:lnTo>
                      <a:pt x="2736" y="124"/>
                    </a:lnTo>
                    <a:lnTo>
                      <a:pt x="2789" y="139"/>
                    </a:lnTo>
                    <a:lnTo>
                      <a:pt x="2840" y="155"/>
                    </a:lnTo>
                    <a:lnTo>
                      <a:pt x="2887" y="171"/>
                    </a:lnTo>
                    <a:lnTo>
                      <a:pt x="2932" y="188"/>
                    </a:lnTo>
                    <a:lnTo>
                      <a:pt x="2973" y="205"/>
                    </a:lnTo>
                    <a:lnTo>
                      <a:pt x="3011" y="225"/>
                    </a:lnTo>
                    <a:lnTo>
                      <a:pt x="3048" y="243"/>
                    </a:lnTo>
                    <a:lnTo>
                      <a:pt x="3079" y="263"/>
                    </a:lnTo>
                    <a:lnTo>
                      <a:pt x="3108" y="283"/>
                    </a:lnTo>
                    <a:lnTo>
                      <a:pt x="3134" y="303"/>
                    </a:lnTo>
                    <a:lnTo>
                      <a:pt x="3155" y="325"/>
                    </a:lnTo>
                    <a:lnTo>
                      <a:pt x="3173" y="346"/>
                    </a:lnTo>
                    <a:lnTo>
                      <a:pt x="3187" y="368"/>
                    </a:lnTo>
                    <a:lnTo>
                      <a:pt x="3197" y="391"/>
                    </a:lnTo>
                    <a:lnTo>
                      <a:pt x="3203" y="414"/>
                    </a:lnTo>
                    <a:lnTo>
                      <a:pt x="3205" y="4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113560" y="6523920"/>
                <a:ext cx="354240" cy="106200"/>
              </a:xfrm>
              <a:custGeom>
                <a:avLst/>
                <a:gdLst/>
                <a:ahLst/>
                <a:rect l="l" t="t" r="r" b="b"/>
                <a:pathLst>
                  <a:path w="3202" h="891">
                    <a:moveTo>
                      <a:pt x="3202" y="437"/>
                    </a:moveTo>
                    <a:lnTo>
                      <a:pt x="3200" y="460"/>
                    </a:lnTo>
                    <a:lnTo>
                      <a:pt x="3193" y="483"/>
                    </a:lnTo>
                    <a:lnTo>
                      <a:pt x="3183" y="505"/>
                    </a:lnTo>
                    <a:lnTo>
                      <a:pt x="3169" y="528"/>
                    </a:lnTo>
                    <a:lnTo>
                      <a:pt x="3152" y="550"/>
                    </a:lnTo>
                    <a:lnTo>
                      <a:pt x="3130" y="572"/>
                    </a:lnTo>
                    <a:lnTo>
                      <a:pt x="3104" y="593"/>
                    </a:lnTo>
                    <a:lnTo>
                      <a:pt x="3076" y="613"/>
                    </a:lnTo>
                    <a:lnTo>
                      <a:pt x="3044" y="633"/>
                    </a:lnTo>
                    <a:lnTo>
                      <a:pt x="3008" y="653"/>
                    </a:lnTo>
                    <a:lnTo>
                      <a:pt x="2970" y="672"/>
                    </a:lnTo>
                    <a:lnTo>
                      <a:pt x="2929" y="691"/>
                    </a:lnTo>
                    <a:lnTo>
                      <a:pt x="2884" y="708"/>
                    </a:lnTo>
                    <a:lnTo>
                      <a:pt x="2837" y="725"/>
                    </a:lnTo>
                    <a:lnTo>
                      <a:pt x="2786" y="743"/>
                    </a:lnTo>
                    <a:lnTo>
                      <a:pt x="2733" y="758"/>
                    </a:lnTo>
                    <a:lnTo>
                      <a:pt x="2677" y="773"/>
                    </a:lnTo>
                    <a:lnTo>
                      <a:pt x="2619" y="787"/>
                    </a:lnTo>
                    <a:lnTo>
                      <a:pt x="2559" y="801"/>
                    </a:lnTo>
                    <a:lnTo>
                      <a:pt x="2496" y="813"/>
                    </a:lnTo>
                    <a:lnTo>
                      <a:pt x="2431" y="825"/>
                    </a:lnTo>
                    <a:lnTo>
                      <a:pt x="2364" y="836"/>
                    </a:lnTo>
                    <a:lnTo>
                      <a:pt x="2294" y="846"/>
                    </a:lnTo>
                    <a:lnTo>
                      <a:pt x="2224" y="856"/>
                    </a:lnTo>
                    <a:lnTo>
                      <a:pt x="2151" y="864"/>
                    </a:lnTo>
                    <a:lnTo>
                      <a:pt x="2077" y="871"/>
                    </a:lnTo>
                    <a:lnTo>
                      <a:pt x="2000" y="877"/>
                    </a:lnTo>
                    <a:lnTo>
                      <a:pt x="1924" y="882"/>
                    </a:lnTo>
                    <a:lnTo>
                      <a:pt x="1845" y="886"/>
                    </a:lnTo>
                    <a:lnTo>
                      <a:pt x="1764" y="889"/>
                    </a:lnTo>
                    <a:lnTo>
                      <a:pt x="1683" y="890"/>
                    </a:lnTo>
                    <a:lnTo>
                      <a:pt x="1600" y="891"/>
                    </a:lnTo>
                    <a:lnTo>
                      <a:pt x="1518" y="890"/>
                    </a:lnTo>
                    <a:lnTo>
                      <a:pt x="1437" y="889"/>
                    </a:lnTo>
                    <a:lnTo>
                      <a:pt x="1357" y="886"/>
                    </a:lnTo>
                    <a:lnTo>
                      <a:pt x="1278" y="882"/>
                    </a:lnTo>
                    <a:lnTo>
                      <a:pt x="1201" y="877"/>
                    </a:lnTo>
                    <a:lnTo>
                      <a:pt x="1125" y="871"/>
                    </a:lnTo>
                    <a:lnTo>
                      <a:pt x="1050" y="864"/>
                    </a:lnTo>
                    <a:lnTo>
                      <a:pt x="977" y="856"/>
                    </a:lnTo>
                    <a:lnTo>
                      <a:pt x="907" y="846"/>
                    </a:lnTo>
                    <a:lnTo>
                      <a:pt x="837" y="836"/>
                    </a:lnTo>
                    <a:lnTo>
                      <a:pt x="770" y="825"/>
                    </a:lnTo>
                    <a:lnTo>
                      <a:pt x="706" y="813"/>
                    </a:lnTo>
                    <a:lnTo>
                      <a:pt x="642" y="801"/>
                    </a:lnTo>
                    <a:lnTo>
                      <a:pt x="581" y="787"/>
                    </a:lnTo>
                    <a:lnTo>
                      <a:pt x="524" y="773"/>
                    </a:lnTo>
                    <a:lnTo>
                      <a:pt x="468" y="758"/>
                    </a:lnTo>
                    <a:lnTo>
                      <a:pt x="415" y="743"/>
                    </a:lnTo>
                    <a:lnTo>
                      <a:pt x="365" y="725"/>
                    </a:lnTo>
                    <a:lnTo>
                      <a:pt x="317" y="708"/>
                    </a:lnTo>
                    <a:lnTo>
                      <a:pt x="272" y="691"/>
                    </a:lnTo>
                    <a:lnTo>
                      <a:pt x="231" y="672"/>
                    </a:lnTo>
                    <a:lnTo>
                      <a:pt x="193" y="653"/>
                    </a:lnTo>
                    <a:lnTo>
                      <a:pt x="157" y="633"/>
                    </a:lnTo>
                    <a:lnTo>
                      <a:pt x="125" y="613"/>
                    </a:lnTo>
                    <a:lnTo>
                      <a:pt x="97" y="593"/>
                    </a:lnTo>
                    <a:lnTo>
                      <a:pt x="71" y="572"/>
                    </a:lnTo>
                    <a:lnTo>
                      <a:pt x="49" y="550"/>
                    </a:lnTo>
                    <a:lnTo>
                      <a:pt x="32" y="528"/>
                    </a:lnTo>
                    <a:lnTo>
                      <a:pt x="18" y="505"/>
                    </a:lnTo>
                    <a:lnTo>
                      <a:pt x="8" y="483"/>
                    </a:lnTo>
                    <a:lnTo>
                      <a:pt x="2" y="460"/>
                    </a:lnTo>
                    <a:lnTo>
                      <a:pt x="0" y="437"/>
                    </a:lnTo>
                    <a:lnTo>
                      <a:pt x="2" y="413"/>
                    </a:lnTo>
                    <a:lnTo>
                      <a:pt x="8" y="390"/>
                    </a:lnTo>
                    <a:lnTo>
                      <a:pt x="18" y="368"/>
                    </a:lnTo>
                    <a:lnTo>
                      <a:pt x="32" y="346"/>
                    </a:lnTo>
                    <a:lnTo>
                      <a:pt x="49" y="324"/>
                    </a:lnTo>
                    <a:lnTo>
                      <a:pt x="71" y="302"/>
                    </a:lnTo>
                    <a:lnTo>
                      <a:pt x="97" y="282"/>
                    </a:lnTo>
                    <a:lnTo>
                      <a:pt x="125" y="262"/>
                    </a:lnTo>
                    <a:lnTo>
                      <a:pt x="157" y="243"/>
                    </a:lnTo>
                    <a:lnTo>
                      <a:pt x="193" y="224"/>
                    </a:lnTo>
                    <a:lnTo>
                      <a:pt x="231" y="205"/>
                    </a:lnTo>
                    <a:lnTo>
                      <a:pt x="272" y="187"/>
                    </a:lnTo>
                    <a:lnTo>
                      <a:pt x="317" y="171"/>
                    </a:lnTo>
                    <a:lnTo>
                      <a:pt x="365" y="154"/>
                    </a:lnTo>
                    <a:lnTo>
                      <a:pt x="415" y="139"/>
                    </a:lnTo>
                    <a:lnTo>
                      <a:pt x="468" y="124"/>
                    </a:lnTo>
                    <a:lnTo>
                      <a:pt x="524" y="110"/>
                    </a:lnTo>
                    <a:lnTo>
                      <a:pt x="581" y="96"/>
                    </a:lnTo>
                    <a:lnTo>
                      <a:pt x="642" y="83"/>
                    </a:lnTo>
                    <a:lnTo>
                      <a:pt x="706" y="71"/>
                    </a:lnTo>
                    <a:lnTo>
                      <a:pt x="770" y="60"/>
                    </a:lnTo>
                    <a:lnTo>
                      <a:pt x="837" y="50"/>
                    </a:lnTo>
                    <a:lnTo>
                      <a:pt x="907" y="41"/>
                    </a:lnTo>
                    <a:lnTo>
                      <a:pt x="977" y="32"/>
                    </a:lnTo>
                    <a:lnTo>
                      <a:pt x="1050" y="25"/>
                    </a:lnTo>
                    <a:lnTo>
                      <a:pt x="1125" y="18"/>
                    </a:lnTo>
                    <a:lnTo>
                      <a:pt x="1201" y="13"/>
                    </a:lnTo>
                    <a:lnTo>
                      <a:pt x="1278" y="8"/>
                    </a:lnTo>
                    <a:lnTo>
                      <a:pt x="1357" y="5"/>
                    </a:lnTo>
                    <a:lnTo>
                      <a:pt x="1437" y="2"/>
                    </a:lnTo>
                    <a:lnTo>
                      <a:pt x="1518" y="0"/>
                    </a:lnTo>
                    <a:lnTo>
                      <a:pt x="1600" y="0"/>
                    </a:lnTo>
                    <a:lnTo>
                      <a:pt x="1683" y="0"/>
                    </a:lnTo>
                    <a:lnTo>
                      <a:pt x="1764" y="2"/>
                    </a:lnTo>
                    <a:lnTo>
                      <a:pt x="1845" y="5"/>
                    </a:lnTo>
                    <a:lnTo>
                      <a:pt x="1924" y="8"/>
                    </a:lnTo>
                    <a:lnTo>
                      <a:pt x="2000" y="13"/>
                    </a:lnTo>
                    <a:lnTo>
                      <a:pt x="2077" y="18"/>
                    </a:lnTo>
                    <a:lnTo>
                      <a:pt x="2151" y="25"/>
                    </a:lnTo>
                    <a:lnTo>
                      <a:pt x="2224" y="32"/>
                    </a:lnTo>
                    <a:lnTo>
                      <a:pt x="2294" y="41"/>
                    </a:lnTo>
                    <a:lnTo>
                      <a:pt x="2364" y="50"/>
                    </a:lnTo>
                    <a:lnTo>
                      <a:pt x="2431" y="60"/>
                    </a:lnTo>
                    <a:lnTo>
                      <a:pt x="2496" y="71"/>
                    </a:lnTo>
                    <a:lnTo>
                      <a:pt x="2559" y="83"/>
                    </a:lnTo>
                    <a:lnTo>
                      <a:pt x="2619" y="96"/>
                    </a:lnTo>
                    <a:lnTo>
                      <a:pt x="2677" y="110"/>
                    </a:lnTo>
                    <a:lnTo>
                      <a:pt x="2733" y="124"/>
                    </a:lnTo>
                    <a:lnTo>
                      <a:pt x="2786" y="139"/>
                    </a:lnTo>
                    <a:lnTo>
                      <a:pt x="2837" y="154"/>
                    </a:lnTo>
                    <a:lnTo>
                      <a:pt x="2884" y="171"/>
                    </a:lnTo>
                    <a:lnTo>
                      <a:pt x="2929" y="187"/>
                    </a:lnTo>
                    <a:lnTo>
                      <a:pt x="2970" y="205"/>
                    </a:lnTo>
                    <a:lnTo>
                      <a:pt x="3008" y="224"/>
                    </a:lnTo>
                    <a:lnTo>
                      <a:pt x="3044" y="243"/>
                    </a:lnTo>
                    <a:lnTo>
                      <a:pt x="3076" y="262"/>
                    </a:lnTo>
                    <a:lnTo>
                      <a:pt x="3104" y="282"/>
                    </a:lnTo>
                    <a:lnTo>
                      <a:pt x="3130" y="302"/>
                    </a:lnTo>
                    <a:lnTo>
                      <a:pt x="3152" y="324"/>
                    </a:lnTo>
                    <a:lnTo>
                      <a:pt x="3169" y="346"/>
                    </a:lnTo>
                    <a:lnTo>
                      <a:pt x="3183" y="368"/>
                    </a:lnTo>
                    <a:lnTo>
                      <a:pt x="3193" y="390"/>
                    </a:lnTo>
                    <a:lnTo>
                      <a:pt x="3200" y="413"/>
                    </a:lnTo>
                    <a:lnTo>
                      <a:pt x="3202" y="4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114640" y="6523920"/>
                <a:ext cx="352080" cy="106200"/>
              </a:xfrm>
              <a:custGeom>
                <a:avLst/>
                <a:gdLst/>
                <a:ahLst/>
                <a:rect l="l" t="t" r="r" b="b"/>
                <a:pathLst>
                  <a:path w="3199" h="889">
                    <a:moveTo>
                      <a:pt x="3199" y="436"/>
                    </a:moveTo>
                    <a:lnTo>
                      <a:pt x="3197" y="459"/>
                    </a:lnTo>
                    <a:lnTo>
                      <a:pt x="3191" y="482"/>
                    </a:lnTo>
                    <a:lnTo>
                      <a:pt x="3181" y="504"/>
                    </a:lnTo>
                    <a:lnTo>
                      <a:pt x="3167" y="527"/>
                    </a:lnTo>
                    <a:lnTo>
                      <a:pt x="3149" y="549"/>
                    </a:lnTo>
                    <a:lnTo>
                      <a:pt x="3127" y="570"/>
                    </a:lnTo>
                    <a:lnTo>
                      <a:pt x="3102" y="591"/>
                    </a:lnTo>
                    <a:lnTo>
                      <a:pt x="3074" y="612"/>
                    </a:lnTo>
                    <a:lnTo>
                      <a:pt x="3042" y="632"/>
                    </a:lnTo>
                    <a:lnTo>
                      <a:pt x="3006" y="652"/>
                    </a:lnTo>
                    <a:lnTo>
                      <a:pt x="2968" y="671"/>
                    </a:lnTo>
                    <a:lnTo>
                      <a:pt x="2927" y="689"/>
                    </a:lnTo>
                    <a:lnTo>
                      <a:pt x="2881" y="707"/>
                    </a:lnTo>
                    <a:lnTo>
                      <a:pt x="2834" y="724"/>
                    </a:lnTo>
                    <a:lnTo>
                      <a:pt x="2784" y="741"/>
                    </a:lnTo>
                    <a:lnTo>
                      <a:pt x="2731" y="757"/>
                    </a:lnTo>
                    <a:lnTo>
                      <a:pt x="2675" y="771"/>
                    </a:lnTo>
                    <a:lnTo>
                      <a:pt x="2617" y="786"/>
                    </a:lnTo>
                    <a:lnTo>
                      <a:pt x="2557" y="799"/>
                    </a:lnTo>
                    <a:lnTo>
                      <a:pt x="2494" y="811"/>
                    </a:lnTo>
                    <a:lnTo>
                      <a:pt x="2429" y="823"/>
                    </a:lnTo>
                    <a:lnTo>
                      <a:pt x="2362" y="834"/>
                    </a:lnTo>
                    <a:lnTo>
                      <a:pt x="2293" y="844"/>
                    </a:lnTo>
                    <a:lnTo>
                      <a:pt x="2223" y="854"/>
                    </a:lnTo>
                    <a:lnTo>
                      <a:pt x="2150" y="862"/>
                    </a:lnTo>
                    <a:lnTo>
                      <a:pt x="2075" y="869"/>
                    </a:lnTo>
                    <a:lnTo>
                      <a:pt x="1999" y="875"/>
                    </a:lnTo>
                    <a:lnTo>
                      <a:pt x="1922" y="880"/>
                    </a:lnTo>
                    <a:lnTo>
                      <a:pt x="1843" y="884"/>
                    </a:lnTo>
                    <a:lnTo>
                      <a:pt x="1763" y="887"/>
                    </a:lnTo>
                    <a:lnTo>
                      <a:pt x="1682" y="889"/>
                    </a:lnTo>
                    <a:lnTo>
                      <a:pt x="1599" y="889"/>
                    </a:lnTo>
                    <a:lnTo>
                      <a:pt x="1518" y="889"/>
                    </a:lnTo>
                    <a:lnTo>
                      <a:pt x="1436" y="887"/>
                    </a:lnTo>
                    <a:lnTo>
                      <a:pt x="1356" y="884"/>
                    </a:lnTo>
                    <a:lnTo>
                      <a:pt x="1277" y="880"/>
                    </a:lnTo>
                    <a:lnTo>
                      <a:pt x="1200" y="875"/>
                    </a:lnTo>
                    <a:lnTo>
                      <a:pt x="1124" y="869"/>
                    </a:lnTo>
                    <a:lnTo>
                      <a:pt x="1049" y="862"/>
                    </a:lnTo>
                    <a:lnTo>
                      <a:pt x="976" y="854"/>
                    </a:lnTo>
                    <a:lnTo>
                      <a:pt x="906" y="844"/>
                    </a:lnTo>
                    <a:lnTo>
                      <a:pt x="837" y="834"/>
                    </a:lnTo>
                    <a:lnTo>
                      <a:pt x="770" y="823"/>
                    </a:lnTo>
                    <a:lnTo>
                      <a:pt x="705" y="811"/>
                    </a:lnTo>
                    <a:lnTo>
                      <a:pt x="642" y="799"/>
                    </a:lnTo>
                    <a:lnTo>
                      <a:pt x="581" y="786"/>
                    </a:lnTo>
                    <a:lnTo>
                      <a:pt x="524" y="771"/>
                    </a:lnTo>
                    <a:lnTo>
                      <a:pt x="468" y="757"/>
                    </a:lnTo>
                    <a:lnTo>
                      <a:pt x="415" y="741"/>
                    </a:lnTo>
                    <a:lnTo>
                      <a:pt x="365" y="724"/>
                    </a:lnTo>
                    <a:lnTo>
                      <a:pt x="318" y="707"/>
                    </a:lnTo>
                    <a:lnTo>
                      <a:pt x="272" y="689"/>
                    </a:lnTo>
                    <a:lnTo>
                      <a:pt x="231" y="671"/>
                    </a:lnTo>
                    <a:lnTo>
                      <a:pt x="193" y="652"/>
                    </a:lnTo>
                    <a:lnTo>
                      <a:pt x="157" y="632"/>
                    </a:lnTo>
                    <a:lnTo>
                      <a:pt x="125" y="612"/>
                    </a:lnTo>
                    <a:lnTo>
                      <a:pt x="97" y="591"/>
                    </a:lnTo>
                    <a:lnTo>
                      <a:pt x="71" y="570"/>
                    </a:lnTo>
                    <a:lnTo>
                      <a:pt x="50" y="549"/>
                    </a:lnTo>
                    <a:lnTo>
                      <a:pt x="32" y="527"/>
                    </a:lnTo>
                    <a:lnTo>
                      <a:pt x="18" y="504"/>
                    </a:lnTo>
                    <a:lnTo>
                      <a:pt x="8" y="482"/>
                    </a:lnTo>
                    <a:lnTo>
                      <a:pt x="2" y="459"/>
                    </a:lnTo>
                    <a:lnTo>
                      <a:pt x="0" y="436"/>
                    </a:lnTo>
                    <a:lnTo>
                      <a:pt x="2" y="412"/>
                    </a:lnTo>
                    <a:lnTo>
                      <a:pt x="8" y="389"/>
                    </a:lnTo>
                    <a:lnTo>
                      <a:pt x="18" y="367"/>
                    </a:lnTo>
                    <a:lnTo>
                      <a:pt x="32" y="345"/>
                    </a:lnTo>
                    <a:lnTo>
                      <a:pt x="50" y="324"/>
                    </a:lnTo>
                    <a:lnTo>
                      <a:pt x="71" y="302"/>
                    </a:lnTo>
                    <a:lnTo>
                      <a:pt x="97" y="281"/>
                    </a:lnTo>
                    <a:lnTo>
                      <a:pt x="125" y="261"/>
                    </a:lnTo>
                    <a:lnTo>
                      <a:pt x="157" y="242"/>
                    </a:lnTo>
                    <a:lnTo>
                      <a:pt x="193" y="224"/>
                    </a:lnTo>
                    <a:lnTo>
                      <a:pt x="231" y="204"/>
                    </a:lnTo>
                    <a:lnTo>
                      <a:pt x="272" y="187"/>
                    </a:lnTo>
                    <a:lnTo>
                      <a:pt x="318" y="170"/>
                    </a:lnTo>
                    <a:lnTo>
                      <a:pt x="365" y="154"/>
                    </a:lnTo>
                    <a:lnTo>
                      <a:pt x="415" y="138"/>
                    </a:lnTo>
                    <a:lnTo>
                      <a:pt x="468" y="124"/>
                    </a:lnTo>
                    <a:lnTo>
                      <a:pt x="524" y="110"/>
                    </a:lnTo>
                    <a:lnTo>
                      <a:pt x="581" y="95"/>
                    </a:lnTo>
                    <a:lnTo>
                      <a:pt x="642" y="83"/>
                    </a:lnTo>
                    <a:lnTo>
                      <a:pt x="705" y="71"/>
                    </a:lnTo>
                    <a:lnTo>
                      <a:pt x="770" y="60"/>
                    </a:lnTo>
                    <a:lnTo>
                      <a:pt x="837" y="50"/>
                    </a:lnTo>
                    <a:lnTo>
                      <a:pt x="906" y="41"/>
                    </a:lnTo>
                    <a:lnTo>
                      <a:pt x="976" y="32"/>
                    </a:lnTo>
                    <a:lnTo>
                      <a:pt x="1049" y="25"/>
                    </a:lnTo>
                    <a:lnTo>
                      <a:pt x="1124" y="18"/>
                    </a:lnTo>
                    <a:lnTo>
                      <a:pt x="1200" y="13"/>
                    </a:lnTo>
                    <a:lnTo>
                      <a:pt x="1277" y="8"/>
                    </a:lnTo>
                    <a:lnTo>
                      <a:pt x="1356" y="4"/>
                    </a:lnTo>
                    <a:lnTo>
                      <a:pt x="1436" y="2"/>
                    </a:lnTo>
                    <a:lnTo>
                      <a:pt x="1518" y="0"/>
                    </a:lnTo>
                    <a:lnTo>
                      <a:pt x="1599" y="0"/>
                    </a:lnTo>
                    <a:lnTo>
                      <a:pt x="1682" y="0"/>
                    </a:lnTo>
                    <a:lnTo>
                      <a:pt x="1763" y="2"/>
                    </a:lnTo>
                    <a:lnTo>
                      <a:pt x="1843" y="4"/>
                    </a:lnTo>
                    <a:lnTo>
                      <a:pt x="1922" y="8"/>
                    </a:lnTo>
                    <a:lnTo>
                      <a:pt x="1999" y="13"/>
                    </a:lnTo>
                    <a:lnTo>
                      <a:pt x="2075" y="18"/>
                    </a:lnTo>
                    <a:lnTo>
                      <a:pt x="2150" y="25"/>
                    </a:lnTo>
                    <a:lnTo>
                      <a:pt x="2223" y="32"/>
                    </a:lnTo>
                    <a:lnTo>
                      <a:pt x="2293" y="41"/>
                    </a:lnTo>
                    <a:lnTo>
                      <a:pt x="2362" y="50"/>
                    </a:lnTo>
                    <a:lnTo>
                      <a:pt x="2429" y="60"/>
                    </a:lnTo>
                    <a:lnTo>
                      <a:pt x="2494" y="71"/>
                    </a:lnTo>
                    <a:lnTo>
                      <a:pt x="2557" y="83"/>
                    </a:lnTo>
                    <a:lnTo>
                      <a:pt x="2617" y="95"/>
                    </a:lnTo>
                    <a:lnTo>
                      <a:pt x="2675" y="110"/>
                    </a:lnTo>
                    <a:lnTo>
                      <a:pt x="2731" y="124"/>
                    </a:lnTo>
                    <a:lnTo>
                      <a:pt x="2784" y="138"/>
                    </a:lnTo>
                    <a:lnTo>
                      <a:pt x="2834" y="154"/>
                    </a:lnTo>
                    <a:lnTo>
                      <a:pt x="2881" y="170"/>
                    </a:lnTo>
                    <a:lnTo>
                      <a:pt x="2927" y="187"/>
                    </a:lnTo>
                    <a:lnTo>
                      <a:pt x="2968" y="204"/>
                    </a:lnTo>
                    <a:lnTo>
                      <a:pt x="3006" y="224"/>
                    </a:lnTo>
                    <a:lnTo>
                      <a:pt x="3042" y="242"/>
                    </a:lnTo>
                    <a:lnTo>
                      <a:pt x="3074" y="261"/>
                    </a:lnTo>
                    <a:lnTo>
                      <a:pt x="3102" y="281"/>
                    </a:lnTo>
                    <a:lnTo>
                      <a:pt x="3127" y="302"/>
                    </a:lnTo>
                    <a:lnTo>
                      <a:pt x="3149" y="324"/>
                    </a:lnTo>
                    <a:lnTo>
                      <a:pt x="3167" y="345"/>
                    </a:lnTo>
                    <a:lnTo>
                      <a:pt x="3181" y="367"/>
                    </a:lnTo>
                    <a:lnTo>
                      <a:pt x="3191" y="389"/>
                    </a:lnTo>
                    <a:lnTo>
                      <a:pt x="3197" y="412"/>
                    </a:lnTo>
                    <a:lnTo>
                      <a:pt x="3199" y="4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114640" y="6525720"/>
                <a:ext cx="352080" cy="104760"/>
              </a:xfrm>
              <a:custGeom>
                <a:avLst/>
                <a:gdLst/>
                <a:ahLst/>
                <a:rect l="l" t="t" r="r" b="b"/>
                <a:pathLst>
                  <a:path w="3197" h="887">
                    <a:moveTo>
                      <a:pt x="3197" y="435"/>
                    </a:moveTo>
                    <a:lnTo>
                      <a:pt x="3195" y="458"/>
                    </a:lnTo>
                    <a:lnTo>
                      <a:pt x="3189" y="481"/>
                    </a:lnTo>
                    <a:lnTo>
                      <a:pt x="3179" y="503"/>
                    </a:lnTo>
                    <a:lnTo>
                      <a:pt x="3165" y="526"/>
                    </a:lnTo>
                    <a:lnTo>
                      <a:pt x="3147" y="548"/>
                    </a:lnTo>
                    <a:lnTo>
                      <a:pt x="3125" y="569"/>
                    </a:lnTo>
                    <a:lnTo>
                      <a:pt x="3100" y="590"/>
                    </a:lnTo>
                    <a:lnTo>
                      <a:pt x="3071" y="610"/>
                    </a:lnTo>
                    <a:lnTo>
                      <a:pt x="3040" y="630"/>
                    </a:lnTo>
                    <a:lnTo>
                      <a:pt x="3004" y="651"/>
                    </a:lnTo>
                    <a:lnTo>
                      <a:pt x="2966" y="669"/>
                    </a:lnTo>
                    <a:lnTo>
                      <a:pt x="2923" y="688"/>
                    </a:lnTo>
                    <a:lnTo>
                      <a:pt x="2879" y="705"/>
                    </a:lnTo>
                    <a:lnTo>
                      <a:pt x="2832" y="722"/>
                    </a:lnTo>
                    <a:lnTo>
                      <a:pt x="2782" y="738"/>
                    </a:lnTo>
                    <a:lnTo>
                      <a:pt x="2729" y="755"/>
                    </a:lnTo>
                    <a:lnTo>
                      <a:pt x="2673" y="770"/>
                    </a:lnTo>
                    <a:lnTo>
                      <a:pt x="2615" y="784"/>
                    </a:lnTo>
                    <a:lnTo>
                      <a:pt x="2555" y="797"/>
                    </a:lnTo>
                    <a:lnTo>
                      <a:pt x="2492" y="810"/>
                    </a:lnTo>
                    <a:lnTo>
                      <a:pt x="2428" y="821"/>
                    </a:lnTo>
                    <a:lnTo>
                      <a:pt x="2360" y="832"/>
                    </a:lnTo>
                    <a:lnTo>
                      <a:pt x="2291" y="842"/>
                    </a:lnTo>
                    <a:lnTo>
                      <a:pt x="2221" y="852"/>
                    </a:lnTo>
                    <a:lnTo>
                      <a:pt x="2148" y="860"/>
                    </a:lnTo>
                    <a:lnTo>
                      <a:pt x="2074" y="867"/>
                    </a:lnTo>
                    <a:lnTo>
                      <a:pt x="1998" y="873"/>
                    </a:lnTo>
                    <a:lnTo>
                      <a:pt x="1921" y="878"/>
                    </a:lnTo>
                    <a:lnTo>
                      <a:pt x="1842" y="882"/>
                    </a:lnTo>
                    <a:lnTo>
                      <a:pt x="1762" y="885"/>
                    </a:lnTo>
                    <a:lnTo>
                      <a:pt x="1681" y="887"/>
                    </a:lnTo>
                    <a:lnTo>
                      <a:pt x="1598" y="887"/>
                    </a:lnTo>
                    <a:lnTo>
                      <a:pt x="1517" y="887"/>
                    </a:lnTo>
                    <a:lnTo>
                      <a:pt x="1435" y="885"/>
                    </a:lnTo>
                    <a:lnTo>
                      <a:pt x="1355" y="882"/>
                    </a:lnTo>
                    <a:lnTo>
                      <a:pt x="1276" y="878"/>
                    </a:lnTo>
                    <a:lnTo>
                      <a:pt x="1199" y="873"/>
                    </a:lnTo>
                    <a:lnTo>
                      <a:pt x="1123" y="867"/>
                    </a:lnTo>
                    <a:lnTo>
                      <a:pt x="1049" y="860"/>
                    </a:lnTo>
                    <a:lnTo>
                      <a:pt x="976" y="852"/>
                    </a:lnTo>
                    <a:lnTo>
                      <a:pt x="906" y="842"/>
                    </a:lnTo>
                    <a:lnTo>
                      <a:pt x="837" y="832"/>
                    </a:lnTo>
                    <a:lnTo>
                      <a:pt x="769" y="821"/>
                    </a:lnTo>
                    <a:lnTo>
                      <a:pt x="705" y="810"/>
                    </a:lnTo>
                    <a:lnTo>
                      <a:pt x="642" y="797"/>
                    </a:lnTo>
                    <a:lnTo>
                      <a:pt x="581" y="784"/>
                    </a:lnTo>
                    <a:lnTo>
                      <a:pt x="524" y="770"/>
                    </a:lnTo>
                    <a:lnTo>
                      <a:pt x="468" y="755"/>
                    </a:lnTo>
                    <a:lnTo>
                      <a:pt x="416" y="738"/>
                    </a:lnTo>
                    <a:lnTo>
                      <a:pt x="365" y="722"/>
                    </a:lnTo>
                    <a:lnTo>
                      <a:pt x="318" y="705"/>
                    </a:lnTo>
                    <a:lnTo>
                      <a:pt x="273" y="688"/>
                    </a:lnTo>
                    <a:lnTo>
                      <a:pt x="231" y="669"/>
                    </a:lnTo>
                    <a:lnTo>
                      <a:pt x="193" y="651"/>
                    </a:lnTo>
                    <a:lnTo>
                      <a:pt x="157" y="630"/>
                    </a:lnTo>
                    <a:lnTo>
                      <a:pt x="126" y="610"/>
                    </a:lnTo>
                    <a:lnTo>
                      <a:pt x="97" y="590"/>
                    </a:lnTo>
                    <a:lnTo>
                      <a:pt x="72" y="569"/>
                    </a:lnTo>
                    <a:lnTo>
                      <a:pt x="50" y="548"/>
                    </a:lnTo>
                    <a:lnTo>
                      <a:pt x="33" y="526"/>
                    </a:lnTo>
                    <a:lnTo>
                      <a:pt x="19" y="503"/>
                    </a:lnTo>
                    <a:lnTo>
                      <a:pt x="9" y="481"/>
                    </a:lnTo>
                    <a:lnTo>
                      <a:pt x="2" y="458"/>
                    </a:lnTo>
                    <a:lnTo>
                      <a:pt x="0" y="435"/>
                    </a:lnTo>
                    <a:lnTo>
                      <a:pt x="2" y="411"/>
                    </a:lnTo>
                    <a:lnTo>
                      <a:pt x="9" y="388"/>
                    </a:lnTo>
                    <a:lnTo>
                      <a:pt x="19" y="366"/>
                    </a:lnTo>
                    <a:lnTo>
                      <a:pt x="33" y="344"/>
                    </a:lnTo>
                    <a:lnTo>
                      <a:pt x="50" y="323"/>
                    </a:lnTo>
                    <a:lnTo>
                      <a:pt x="72" y="301"/>
                    </a:lnTo>
                    <a:lnTo>
                      <a:pt x="97" y="281"/>
                    </a:lnTo>
                    <a:lnTo>
                      <a:pt x="126" y="261"/>
                    </a:lnTo>
                    <a:lnTo>
                      <a:pt x="157" y="242"/>
                    </a:lnTo>
                    <a:lnTo>
                      <a:pt x="193" y="223"/>
                    </a:lnTo>
                    <a:lnTo>
                      <a:pt x="231" y="205"/>
                    </a:lnTo>
                    <a:lnTo>
                      <a:pt x="273" y="186"/>
                    </a:lnTo>
                    <a:lnTo>
                      <a:pt x="318" y="170"/>
                    </a:lnTo>
                    <a:lnTo>
                      <a:pt x="365" y="153"/>
                    </a:lnTo>
                    <a:lnTo>
                      <a:pt x="416" y="138"/>
                    </a:lnTo>
                    <a:lnTo>
                      <a:pt x="468" y="123"/>
                    </a:lnTo>
                    <a:lnTo>
                      <a:pt x="524" y="109"/>
                    </a:lnTo>
                    <a:lnTo>
                      <a:pt x="581" y="95"/>
                    </a:lnTo>
                    <a:lnTo>
                      <a:pt x="642" y="82"/>
                    </a:lnTo>
                    <a:lnTo>
                      <a:pt x="705" y="71"/>
                    </a:lnTo>
                    <a:lnTo>
                      <a:pt x="769" y="60"/>
                    </a:lnTo>
                    <a:lnTo>
                      <a:pt x="837" y="50"/>
                    </a:lnTo>
                    <a:lnTo>
                      <a:pt x="906" y="41"/>
                    </a:lnTo>
                    <a:lnTo>
                      <a:pt x="976" y="32"/>
                    </a:lnTo>
                    <a:lnTo>
                      <a:pt x="1049" y="25"/>
                    </a:lnTo>
                    <a:lnTo>
                      <a:pt x="1123" y="18"/>
                    </a:lnTo>
                    <a:lnTo>
                      <a:pt x="1199" y="13"/>
                    </a:lnTo>
                    <a:lnTo>
                      <a:pt x="1276" y="8"/>
                    </a:lnTo>
                    <a:lnTo>
                      <a:pt x="1355" y="4"/>
                    </a:lnTo>
                    <a:lnTo>
                      <a:pt x="1435" y="2"/>
                    </a:lnTo>
                    <a:lnTo>
                      <a:pt x="1517" y="0"/>
                    </a:lnTo>
                    <a:lnTo>
                      <a:pt x="1598" y="0"/>
                    </a:lnTo>
                    <a:lnTo>
                      <a:pt x="1681" y="0"/>
                    </a:lnTo>
                    <a:lnTo>
                      <a:pt x="1762" y="2"/>
                    </a:lnTo>
                    <a:lnTo>
                      <a:pt x="1842" y="4"/>
                    </a:lnTo>
                    <a:lnTo>
                      <a:pt x="1921" y="8"/>
                    </a:lnTo>
                    <a:lnTo>
                      <a:pt x="1998" y="13"/>
                    </a:lnTo>
                    <a:lnTo>
                      <a:pt x="2074" y="18"/>
                    </a:lnTo>
                    <a:lnTo>
                      <a:pt x="2148" y="25"/>
                    </a:lnTo>
                    <a:lnTo>
                      <a:pt x="2221" y="32"/>
                    </a:lnTo>
                    <a:lnTo>
                      <a:pt x="2291" y="41"/>
                    </a:lnTo>
                    <a:lnTo>
                      <a:pt x="2360" y="50"/>
                    </a:lnTo>
                    <a:lnTo>
                      <a:pt x="2428" y="60"/>
                    </a:lnTo>
                    <a:lnTo>
                      <a:pt x="2492" y="71"/>
                    </a:lnTo>
                    <a:lnTo>
                      <a:pt x="2555" y="82"/>
                    </a:lnTo>
                    <a:lnTo>
                      <a:pt x="2615" y="95"/>
                    </a:lnTo>
                    <a:lnTo>
                      <a:pt x="2673" y="109"/>
                    </a:lnTo>
                    <a:lnTo>
                      <a:pt x="2729" y="123"/>
                    </a:lnTo>
                    <a:lnTo>
                      <a:pt x="2782" y="138"/>
                    </a:lnTo>
                    <a:lnTo>
                      <a:pt x="2832" y="153"/>
                    </a:lnTo>
                    <a:lnTo>
                      <a:pt x="2879" y="170"/>
                    </a:lnTo>
                    <a:lnTo>
                      <a:pt x="2923" y="186"/>
                    </a:lnTo>
                    <a:lnTo>
                      <a:pt x="2966" y="205"/>
                    </a:lnTo>
                    <a:lnTo>
                      <a:pt x="3004" y="223"/>
                    </a:lnTo>
                    <a:lnTo>
                      <a:pt x="3040" y="242"/>
                    </a:lnTo>
                    <a:lnTo>
                      <a:pt x="3071" y="261"/>
                    </a:lnTo>
                    <a:lnTo>
                      <a:pt x="3100" y="281"/>
                    </a:lnTo>
                    <a:lnTo>
                      <a:pt x="3125" y="301"/>
                    </a:lnTo>
                    <a:lnTo>
                      <a:pt x="3147" y="323"/>
                    </a:lnTo>
                    <a:lnTo>
                      <a:pt x="3165" y="344"/>
                    </a:lnTo>
                    <a:lnTo>
                      <a:pt x="3179" y="366"/>
                    </a:lnTo>
                    <a:lnTo>
                      <a:pt x="3189" y="388"/>
                    </a:lnTo>
                    <a:lnTo>
                      <a:pt x="3195" y="411"/>
                    </a:lnTo>
                    <a:lnTo>
                      <a:pt x="3197" y="4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114640" y="6525720"/>
                <a:ext cx="352080" cy="104760"/>
              </a:xfrm>
              <a:custGeom>
                <a:avLst/>
                <a:gdLst/>
                <a:ahLst/>
                <a:rect l="l" t="t" r="r" b="b"/>
                <a:pathLst>
                  <a:path w="3193" h="885">
                    <a:moveTo>
                      <a:pt x="3193" y="434"/>
                    </a:moveTo>
                    <a:lnTo>
                      <a:pt x="3191" y="457"/>
                    </a:lnTo>
                    <a:lnTo>
                      <a:pt x="3185" y="479"/>
                    </a:lnTo>
                    <a:lnTo>
                      <a:pt x="3175" y="502"/>
                    </a:lnTo>
                    <a:lnTo>
                      <a:pt x="3161" y="525"/>
                    </a:lnTo>
                    <a:lnTo>
                      <a:pt x="3144" y="547"/>
                    </a:lnTo>
                    <a:lnTo>
                      <a:pt x="3121" y="568"/>
                    </a:lnTo>
                    <a:lnTo>
                      <a:pt x="3096" y="589"/>
                    </a:lnTo>
                    <a:lnTo>
                      <a:pt x="3068" y="609"/>
                    </a:lnTo>
                    <a:lnTo>
                      <a:pt x="3036" y="629"/>
                    </a:lnTo>
                    <a:lnTo>
                      <a:pt x="3000" y="649"/>
                    </a:lnTo>
                    <a:lnTo>
                      <a:pt x="2962" y="668"/>
                    </a:lnTo>
                    <a:lnTo>
                      <a:pt x="2920" y="686"/>
                    </a:lnTo>
                    <a:lnTo>
                      <a:pt x="2876" y="704"/>
                    </a:lnTo>
                    <a:lnTo>
                      <a:pt x="2829" y="720"/>
                    </a:lnTo>
                    <a:lnTo>
                      <a:pt x="2779" y="737"/>
                    </a:lnTo>
                    <a:lnTo>
                      <a:pt x="2726" y="753"/>
                    </a:lnTo>
                    <a:lnTo>
                      <a:pt x="2670" y="768"/>
                    </a:lnTo>
                    <a:lnTo>
                      <a:pt x="2612" y="782"/>
                    </a:lnTo>
                    <a:lnTo>
                      <a:pt x="2552" y="795"/>
                    </a:lnTo>
                    <a:lnTo>
                      <a:pt x="2489" y="808"/>
                    </a:lnTo>
                    <a:lnTo>
                      <a:pt x="2425" y="820"/>
                    </a:lnTo>
                    <a:lnTo>
                      <a:pt x="2358" y="830"/>
                    </a:lnTo>
                    <a:lnTo>
                      <a:pt x="2289" y="840"/>
                    </a:lnTo>
                    <a:lnTo>
                      <a:pt x="2219" y="850"/>
                    </a:lnTo>
                    <a:lnTo>
                      <a:pt x="2146" y="858"/>
                    </a:lnTo>
                    <a:lnTo>
                      <a:pt x="2071" y="865"/>
                    </a:lnTo>
                    <a:lnTo>
                      <a:pt x="1995" y="871"/>
                    </a:lnTo>
                    <a:lnTo>
                      <a:pt x="1919" y="876"/>
                    </a:lnTo>
                    <a:lnTo>
                      <a:pt x="1840" y="880"/>
                    </a:lnTo>
                    <a:lnTo>
                      <a:pt x="1760" y="883"/>
                    </a:lnTo>
                    <a:lnTo>
                      <a:pt x="1678" y="885"/>
                    </a:lnTo>
                    <a:lnTo>
                      <a:pt x="1596" y="885"/>
                    </a:lnTo>
                    <a:lnTo>
                      <a:pt x="1515" y="885"/>
                    </a:lnTo>
                    <a:lnTo>
                      <a:pt x="1433" y="883"/>
                    </a:lnTo>
                    <a:lnTo>
                      <a:pt x="1353" y="880"/>
                    </a:lnTo>
                    <a:lnTo>
                      <a:pt x="1274" y="876"/>
                    </a:lnTo>
                    <a:lnTo>
                      <a:pt x="1198" y="871"/>
                    </a:lnTo>
                    <a:lnTo>
                      <a:pt x="1122" y="865"/>
                    </a:lnTo>
                    <a:lnTo>
                      <a:pt x="1047" y="858"/>
                    </a:lnTo>
                    <a:lnTo>
                      <a:pt x="975" y="850"/>
                    </a:lnTo>
                    <a:lnTo>
                      <a:pt x="904" y="840"/>
                    </a:lnTo>
                    <a:lnTo>
                      <a:pt x="835" y="830"/>
                    </a:lnTo>
                    <a:lnTo>
                      <a:pt x="768" y="820"/>
                    </a:lnTo>
                    <a:lnTo>
                      <a:pt x="704" y="808"/>
                    </a:lnTo>
                    <a:lnTo>
                      <a:pt x="641" y="795"/>
                    </a:lnTo>
                    <a:lnTo>
                      <a:pt x="580" y="782"/>
                    </a:lnTo>
                    <a:lnTo>
                      <a:pt x="523" y="768"/>
                    </a:lnTo>
                    <a:lnTo>
                      <a:pt x="467" y="753"/>
                    </a:lnTo>
                    <a:lnTo>
                      <a:pt x="415" y="737"/>
                    </a:lnTo>
                    <a:lnTo>
                      <a:pt x="364" y="720"/>
                    </a:lnTo>
                    <a:lnTo>
                      <a:pt x="317" y="704"/>
                    </a:lnTo>
                    <a:lnTo>
                      <a:pt x="272" y="686"/>
                    </a:lnTo>
                    <a:lnTo>
                      <a:pt x="231" y="668"/>
                    </a:lnTo>
                    <a:lnTo>
                      <a:pt x="193" y="649"/>
                    </a:lnTo>
                    <a:lnTo>
                      <a:pt x="157" y="629"/>
                    </a:lnTo>
                    <a:lnTo>
                      <a:pt x="125" y="609"/>
                    </a:lnTo>
                    <a:lnTo>
                      <a:pt x="97" y="589"/>
                    </a:lnTo>
                    <a:lnTo>
                      <a:pt x="71" y="568"/>
                    </a:lnTo>
                    <a:lnTo>
                      <a:pt x="50" y="547"/>
                    </a:lnTo>
                    <a:lnTo>
                      <a:pt x="32" y="525"/>
                    </a:lnTo>
                    <a:lnTo>
                      <a:pt x="18" y="502"/>
                    </a:lnTo>
                    <a:lnTo>
                      <a:pt x="8" y="479"/>
                    </a:lnTo>
                    <a:lnTo>
                      <a:pt x="2" y="457"/>
                    </a:lnTo>
                    <a:lnTo>
                      <a:pt x="0" y="434"/>
                    </a:lnTo>
                    <a:lnTo>
                      <a:pt x="2" y="410"/>
                    </a:lnTo>
                    <a:lnTo>
                      <a:pt x="8" y="387"/>
                    </a:lnTo>
                    <a:lnTo>
                      <a:pt x="18" y="365"/>
                    </a:lnTo>
                    <a:lnTo>
                      <a:pt x="32" y="343"/>
                    </a:lnTo>
                    <a:lnTo>
                      <a:pt x="50" y="322"/>
                    </a:lnTo>
                    <a:lnTo>
                      <a:pt x="71" y="300"/>
                    </a:lnTo>
                    <a:lnTo>
                      <a:pt x="97" y="280"/>
                    </a:lnTo>
                    <a:lnTo>
                      <a:pt x="125" y="260"/>
                    </a:lnTo>
                    <a:lnTo>
                      <a:pt x="157" y="241"/>
                    </a:lnTo>
                    <a:lnTo>
                      <a:pt x="193" y="222"/>
                    </a:lnTo>
                    <a:lnTo>
                      <a:pt x="231" y="204"/>
                    </a:lnTo>
                    <a:lnTo>
                      <a:pt x="272" y="186"/>
                    </a:lnTo>
                    <a:lnTo>
                      <a:pt x="317" y="169"/>
                    </a:lnTo>
                    <a:lnTo>
                      <a:pt x="364" y="153"/>
                    </a:lnTo>
                    <a:lnTo>
                      <a:pt x="415" y="138"/>
                    </a:lnTo>
                    <a:lnTo>
                      <a:pt x="467" y="123"/>
                    </a:lnTo>
                    <a:lnTo>
                      <a:pt x="523" y="109"/>
                    </a:lnTo>
                    <a:lnTo>
                      <a:pt x="580" y="95"/>
                    </a:lnTo>
                    <a:lnTo>
                      <a:pt x="641" y="82"/>
                    </a:lnTo>
                    <a:lnTo>
                      <a:pt x="704" y="71"/>
                    </a:lnTo>
                    <a:lnTo>
                      <a:pt x="768" y="60"/>
                    </a:lnTo>
                    <a:lnTo>
                      <a:pt x="835" y="50"/>
                    </a:lnTo>
                    <a:lnTo>
                      <a:pt x="904" y="40"/>
                    </a:lnTo>
                    <a:lnTo>
                      <a:pt x="975" y="32"/>
                    </a:lnTo>
                    <a:lnTo>
                      <a:pt x="1047" y="25"/>
                    </a:lnTo>
                    <a:lnTo>
                      <a:pt x="1122" y="18"/>
                    </a:lnTo>
                    <a:lnTo>
                      <a:pt x="1198" y="13"/>
                    </a:lnTo>
                    <a:lnTo>
                      <a:pt x="1274" y="8"/>
                    </a:lnTo>
                    <a:lnTo>
                      <a:pt x="1353" y="4"/>
                    </a:lnTo>
                    <a:lnTo>
                      <a:pt x="1433" y="2"/>
                    </a:lnTo>
                    <a:lnTo>
                      <a:pt x="1515" y="0"/>
                    </a:lnTo>
                    <a:lnTo>
                      <a:pt x="1596" y="0"/>
                    </a:lnTo>
                    <a:lnTo>
                      <a:pt x="1678" y="0"/>
                    </a:lnTo>
                    <a:lnTo>
                      <a:pt x="1760" y="2"/>
                    </a:lnTo>
                    <a:lnTo>
                      <a:pt x="1840" y="4"/>
                    </a:lnTo>
                    <a:lnTo>
                      <a:pt x="1919" y="8"/>
                    </a:lnTo>
                    <a:lnTo>
                      <a:pt x="1995" y="13"/>
                    </a:lnTo>
                    <a:lnTo>
                      <a:pt x="2071" y="18"/>
                    </a:lnTo>
                    <a:lnTo>
                      <a:pt x="2146" y="25"/>
                    </a:lnTo>
                    <a:lnTo>
                      <a:pt x="2219" y="32"/>
                    </a:lnTo>
                    <a:lnTo>
                      <a:pt x="2289" y="40"/>
                    </a:lnTo>
                    <a:lnTo>
                      <a:pt x="2358" y="50"/>
                    </a:lnTo>
                    <a:lnTo>
                      <a:pt x="2425" y="60"/>
                    </a:lnTo>
                    <a:lnTo>
                      <a:pt x="2489" y="71"/>
                    </a:lnTo>
                    <a:lnTo>
                      <a:pt x="2552" y="82"/>
                    </a:lnTo>
                    <a:lnTo>
                      <a:pt x="2612" y="95"/>
                    </a:lnTo>
                    <a:lnTo>
                      <a:pt x="2670" y="109"/>
                    </a:lnTo>
                    <a:lnTo>
                      <a:pt x="2726" y="123"/>
                    </a:lnTo>
                    <a:lnTo>
                      <a:pt x="2779" y="138"/>
                    </a:lnTo>
                    <a:lnTo>
                      <a:pt x="2829" y="153"/>
                    </a:lnTo>
                    <a:lnTo>
                      <a:pt x="2876" y="169"/>
                    </a:lnTo>
                    <a:lnTo>
                      <a:pt x="2920" y="186"/>
                    </a:lnTo>
                    <a:lnTo>
                      <a:pt x="2962" y="204"/>
                    </a:lnTo>
                    <a:lnTo>
                      <a:pt x="3000" y="222"/>
                    </a:lnTo>
                    <a:lnTo>
                      <a:pt x="3036" y="241"/>
                    </a:lnTo>
                    <a:lnTo>
                      <a:pt x="3068" y="260"/>
                    </a:lnTo>
                    <a:lnTo>
                      <a:pt x="3096" y="280"/>
                    </a:lnTo>
                    <a:lnTo>
                      <a:pt x="3121" y="300"/>
                    </a:lnTo>
                    <a:lnTo>
                      <a:pt x="3144" y="322"/>
                    </a:lnTo>
                    <a:lnTo>
                      <a:pt x="3161" y="343"/>
                    </a:lnTo>
                    <a:lnTo>
                      <a:pt x="3175" y="365"/>
                    </a:lnTo>
                    <a:lnTo>
                      <a:pt x="3185" y="387"/>
                    </a:lnTo>
                    <a:lnTo>
                      <a:pt x="3191" y="410"/>
                    </a:lnTo>
                    <a:lnTo>
                      <a:pt x="3193" y="4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114640" y="6525720"/>
                <a:ext cx="352080" cy="104760"/>
              </a:xfrm>
              <a:custGeom>
                <a:avLst/>
                <a:gdLst/>
                <a:ahLst/>
                <a:rect l="l" t="t" r="r" b="b"/>
                <a:pathLst>
                  <a:path w="3191" h="883">
                    <a:moveTo>
                      <a:pt x="3191" y="433"/>
                    </a:moveTo>
                    <a:lnTo>
                      <a:pt x="3189" y="456"/>
                    </a:lnTo>
                    <a:lnTo>
                      <a:pt x="3183" y="478"/>
                    </a:lnTo>
                    <a:lnTo>
                      <a:pt x="3173" y="501"/>
                    </a:lnTo>
                    <a:lnTo>
                      <a:pt x="3159" y="524"/>
                    </a:lnTo>
                    <a:lnTo>
                      <a:pt x="3141" y="545"/>
                    </a:lnTo>
                    <a:lnTo>
                      <a:pt x="3119" y="567"/>
                    </a:lnTo>
                    <a:lnTo>
                      <a:pt x="3094" y="587"/>
                    </a:lnTo>
                    <a:lnTo>
                      <a:pt x="3066" y="608"/>
                    </a:lnTo>
                    <a:lnTo>
                      <a:pt x="3034" y="627"/>
                    </a:lnTo>
                    <a:lnTo>
                      <a:pt x="2998" y="648"/>
                    </a:lnTo>
                    <a:lnTo>
                      <a:pt x="2960" y="666"/>
                    </a:lnTo>
                    <a:lnTo>
                      <a:pt x="2918" y="684"/>
                    </a:lnTo>
                    <a:lnTo>
                      <a:pt x="2874" y="702"/>
                    </a:lnTo>
                    <a:lnTo>
                      <a:pt x="2827" y="719"/>
                    </a:lnTo>
                    <a:lnTo>
                      <a:pt x="2777" y="735"/>
                    </a:lnTo>
                    <a:lnTo>
                      <a:pt x="2724" y="752"/>
                    </a:lnTo>
                    <a:lnTo>
                      <a:pt x="2668" y="766"/>
                    </a:lnTo>
                    <a:lnTo>
                      <a:pt x="2610" y="780"/>
                    </a:lnTo>
                    <a:lnTo>
                      <a:pt x="2550" y="794"/>
                    </a:lnTo>
                    <a:lnTo>
                      <a:pt x="2487" y="806"/>
                    </a:lnTo>
                    <a:lnTo>
                      <a:pt x="2423" y="818"/>
                    </a:lnTo>
                    <a:lnTo>
                      <a:pt x="2356" y="829"/>
                    </a:lnTo>
                    <a:lnTo>
                      <a:pt x="2287" y="838"/>
                    </a:lnTo>
                    <a:lnTo>
                      <a:pt x="2217" y="848"/>
                    </a:lnTo>
                    <a:lnTo>
                      <a:pt x="2144" y="856"/>
                    </a:lnTo>
                    <a:lnTo>
                      <a:pt x="2070" y="863"/>
                    </a:lnTo>
                    <a:lnTo>
                      <a:pt x="1994" y="869"/>
                    </a:lnTo>
                    <a:lnTo>
                      <a:pt x="1917" y="874"/>
                    </a:lnTo>
                    <a:lnTo>
                      <a:pt x="1839" y="878"/>
                    </a:lnTo>
                    <a:lnTo>
                      <a:pt x="1759" y="881"/>
                    </a:lnTo>
                    <a:lnTo>
                      <a:pt x="1677" y="883"/>
                    </a:lnTo>
                    <a:lnTo>
                      <a:pt x="1595" y="883"/>
                    </a:lnTo>
                    <a:lnTo>
                      <a:pt x="1514" y="883"/>
                    </a:lnTo>
                    <a:lnTo>
                      <a:pt x="1433" y="881"/>
                    </a:lnTo>
                    <a:lnTo>
                      <a:pt x="1352" y="878"/>
                    </a:lnTo>
                    <a:lnTo>
                      <a:pt x="1274" y="874"/>
                    </a:lnTo>
                    <a:lnTo>
                      <a:pt x="1197" y="869"/>
                    </a:lnTo>
                    <a:lnTo>
                      <a:pt x="1121" y="863"/>
                    </a:lnTo>
                    <a:lnTo>
                      <a:pt x="1047" y="856"/>
                    </a:lnTo>
                    <a:lnTo>
                      <a:pt x="974" y="848"/>
                    </a:lnTo>
                    <a:lnTo>
                      <a:pt x="904" y="838"/>
                    </a:lnTo>
                    <a:lnTo>
                      <a:pt x="835" y="829"/>
                    </a:lnTo>
                    <a:lnTo>
                      <a:pt x="768" y="818"/>
                    </a:lnTo>
                    <a:lnTo>
                      <a:pt x="704" y="806"/>
                    </a:lnTo>
                    <a:lnTo>
                      <a:pt x="641" y="794"/>
                    </a:lnTo>
                    <a:lnTo>
                      <a:pt x="580" y="780"/>
                    </a:lnTo>
                    <a:lnTo>
                      <a:pt x="523" y="766"/>
                    </a:lnTo>
                    <a:lnTo>
                      <a:pt x="467" y="752"/>
                    </a:lnTo>
                    <a:lnTo>
                      <a:pt x="415" y="735"/>
                    </a:lnTo>
                    <a:lnTo>
                      <a:pt x="364" y="719"/>
                    </a:lnTo>
                    <a:lnTo>
                      <a:pt x="317" y="702"/>
                    </a:lnTo>
                    <a:lnTo>
                      <a:pt x="272" y="684"/>
                    </a:lnTo>
                    <a:lnTo>
                      <a:pt x="231" y="666"/>
                    </a:lnTo>
                    <a:lnTo>
                      <a:pt x="193" y="648"/>
                    </a:lnTo>
                    <a:lnTo>
                      <a:pt x="157" y="627"/>
                    </a:lnTo>
                    <a:lnTo>
                      <a:pt x="125" y="608"/>
                    </a:lnTo>
                    <a:lnTo>
                      <a:pt x="97" y="587"/>
                    </a:lnTo>
                    <a:lnTo>
                      <a:pt x="71" y="567"/>
                    </a:lnTo>
                    <a:lnTo>
                      <a:pt x="50" y="545"/>
                    </a:lnTo>
                    <a:lnTo>
                      <a:pt x="32" y="524"/>
                    </a:lnTo>
                    <a:lnTo>
                      <a:pt x="18" y="501"/>
                    </a:lnTo>
                    <a:lnTo>
                      <a:pt x="8" y="478"/>
                    </a:lnTo>
                    <a:lnTo>
                      <a:pt x="2" y="456"/>
                    </a:lnTo>
                    <a:lnTo>
                      <a:pt x="0" y="433"/>
                    </a:lnTo>
                    <a:lnTo>
                      <a:pt x="2" y="409"/>
                    </a:lnTo>
                    <a:lnTo>
                      <a:pt x="8" y="386"/>
                    </a:lnTo>
                    <a:lnTo>
                      <a:pt x="18" y="364"/>
                    </a:lnTo>
                    <a:lnTo>
                      <a:pt x="32" y="342"/>
                    </a:lnTo>
                    <a:lnTo>
                      <a:pt x="50" y="321"/>
                    </a:lnTo>
                    <a:lnTo>
                      <a:pt x="71" y="300"/>
                    </a:lnTo>
                    <a:lnTo>
                      <a:pt x="97" y="279"/>
                    </a:lnTo>
                    <a:lnTo>
                      <a:pt x="125" y="260"/>
                    </a:lnTo>
                    <a:lnTo>
                      <a:pt x="157" y="240"/>
                    </a:lnTo>
                    <a:lnTo>
                      <a:pt x="193" y="222"/>
                    </a:lnTo>
                    <a:lnTo>
                      <a:pt x="231" y="204"/>
                    </a:lnTo>
                    <a:lnTo>
                      <a:pt x="272" y="186"/>
                    </a:lnTo>
                    <a:lnTo>
                      <a:pt x="317" y="169"/>
                    </a:lnTo>
                    <a:lnTo>
                      <a:pt x="364" y="153"/>
                    </a:lnTo>
                    <a:lnTo>
                      <a:pt x="415" y="137"/>
                    </a:lnTo>
                    <a:lnTo>
                      <a:pt x="467" y="123"/>
                    </a:lnTo>
                    <a:lnTo>
                      <a:pt x="523" y="109"/>
                    </a:lnTo>
                    <a:lnTo>
                      <a:pt x="580" y="94"/>
                    </a:lnTo>
                    <a:lnTo>
                      <a:pt x="641" y="82"/>
                    </a:lnTo>
                    <a:lnTo>
                      <a:pt x="704" y="70"/>
                    </a:lnTo>
                    <a:lnTo>
                      <a:pt x="768" y="59"/>
                    </a:lnTo>
                    <a:lnTo>
                      <a:pt x="835" y="49"/>
                    </a:lnTo>
                    <a:lnTo>
                      <a:pt x="904" y="40"/>
                    </a:lnTo>
                    <a:lnTo>
                      <a:pt x="974" y="32"/>
                    </a:lnTo>
                    <a:lnTo>
                      <a:pt x="1047" y="24"/>
                    </a:lnTo>
                    <a:lnTo>
                      <a:pt x="1121" y="18"/>
                    </a:lnTo>
                    <a:lnTo>
                      <a:pt x="1197" y="12"/>
                    </a:lnTo>
                    <a:lnTo>
                      <a:pt x="1274" y="8"/>
                    </a:lnTo>
                    <a:lnTo>
                      <a:pt x="1352" y="4"/>
                    </a:lnTo>
                    <a:lnTo>
                      <a:pt x="1433" y="2"/>
                    </a:lnTo>
                    <a:lnTo>
                      <a:pt x="1514" y="0"/>
                    </a:lnTo>
                    <a:lnTo>
                      <a:pt x="1595" y="0"/>
                    </a:lnTo>
                    <a:lnTo>
                      <a:pt x="1677" y="0"/>
                    </a:lnTo>
                    <a:lnTo>
                      <a:pt x="1759" y="2"/>
                    </a:lnTo>
                    <a:lnTo>
                      <a:pt x="1839" y="4"/>
                    </a:lnTo>
                    <a:lnTo>
                      <a:pt x="1917" y="8"/>
                    </a:lnTo>
                    <a:lnTo>
                      <a:pt x="1994" y="12"/>
                    </a:lnTo>
                    <a:lnTo>
                      <a:pt x="2070" y="18"/>
                    </a:lnTo>
                    <a:lnTo>
                      <a:pt x="2144" y="24"/>
                    </a:lnTo>
                    <a:lnTo>
                      <a:pt x="2217" y="32"/>
                    </a:lnTo>
                    <a:lnTo>
                      <a:pt x="2287" y="40"/>
                    </a:lnTo>
                    <a:lnTo>
                      <a:pt x="2356" y="49"/>
                    </a:lnTo>
                    <a:lnTo>
                      <a:pt x="2423" y="59"/>
                    </a:lnTo>
                    <a:lnTo>
                      <a:pt x="2487" y="70"/>
                    </a:lnTo>
                    <a:lnTo>
                      <a:pt x="2550" y="82"/>
                    </a:lnTo>
                    <a:lnTo>
                      <a:pt x="2610" y="94"/>
                    </a:lnTo>
                    <a:lnTo>
                      <a:pt x="2668" y="109"/>
                    </a:lnTo>
                    <a:lnTo>
                      <a:pt x="2724" y="123"/>
                    </a:lnTo>
                    <a:lnTo>
                      <a:pt x="2777" y="137"/>
                    </a:lnTo>
                    <a:lnTo>
                      <a:pt x="2827" y="153"/>
                    </a:lnTo>
                    <a:lnTo>
                      <a:pt x="2874" y="169"/>
                    </a:lnTo>
                    <a:lnTo>
                      <a:pt x="2918" y="186"/>
                    </a:lnTo>
                    <a:lnTo>
                      <a:pt x="2960" y="204"/>
                    </a:lnTo>
                    <a:lnTo>
                      <a:pt x="2998" y="222"/>
                    </a:lnTo>
                    <a:lnTo>
                      <a:pt x="3034" y="240"/>
                    </a:lnTo>
                    <a:lnTo>
                      <a:pt x="3066" y="260"/>
                    </a:lnTo>
                    <a:lnTo>
                      <a:pt x="3094" y="279"/>
                    </a:lnTo>
                    <a:lnTo>
                      <a:pt x="3119" y="300"/>
                    </a:lnTo>
                    <a:lnTo>
                      <a:pt x="3141" y="321"/>
                    </a:lnTo>
                    <a:lnTo>
                      <a:pt x="3159" y="342"/>
                    </a:lnTo>
                    <a:lnTo>
                      <a:pt x="3173" y="364"/>
                    </a:lnTo>
                    <a:lnTo>
                      <a:pt x="3183" y="386"/>
                    </a:lnTo>
                    <a:lnTo>
                      <a:pt x="3189" y="409"/>
                    </a:lnTo>
                    <a:lnTo>
                      <a:pt x="3191" y="4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114640" y="6525720"/>
                <a:ext cx="352080" cy="104760"/>
              </a:xfrm>
              <a:custGeom>
                <a:avLst/>
                <a:gdLst/>
                <a:ahLst/>
                <a:rect l="l" t="t" r="r" b="b"/>
                <a:pathLst>
                  <a:path w="3188" h="882">
                    <a:moveTo>
                      <a:pt x="3188" y="433"/>
                    </a:moveTo>
                    <a:lnTo>
                      <a:pt x="3185" y="456"/>
                    </a:lnTo>
                    <a:lnTo>
                      <a:pt x="3179" y="478"/>
                    </a:lnTo>
                    <a:lnTo>
                      <a:pt x="3169" y="501"/>
                    </a:lnTo>
                    <a:lnTo>
                      <a:pt x="3155" y="524"/>
                    </a:lnTo>
                    <a:lnTo>
                      <a:pt x="3138" y="545"/>
                    </a:lnTo>
                    <a:lnTo>
                      <a:pt x="3116" y="566"/>
                    </a:lnTo>
                    <a:lnTo>
                      <a:pt x="3091" y="587"/>
                    </a:lnTo>
                    <a:lnTo>
                      <a:pt x="3062" y="607"/>
                    </a:lnTo>
                    <a:lnTo>
                      <a:pt x="3031" y="627"/>
                    </a:lnTo>
                    <a:lnTo>
                      <a:pt x="2995" y="647"/>
                    </a:lnTo>
                    <a:lnTo>
                      <a:pt x="2957" y="666"/>
                    </a:lnTo>
                    <a:lnTo>
                      <a:pt x="2915" y="684"/>
                    </a:lnTo>
                    <a:lnTo>
                      <a:pt x="2871" y="701"/>
                    </a:lnTo>
                    <a:lnTo>
                      <a:pt x="2824" y="718"/>
                    </a:lnTo>
                    <a:lnTo>
                      <a:pt x="2773" y="734"/>
                    </a:lnTo>
                    <a:lnTo>
                      <a:pt x="2721" y="751"/>
                    </a:lnTo>
                    <a:lnTo>
                      <a:pt x="2665" y="766"/>
                    </a:lnTo>
                    <a:lnTo>
                      <a:pt x="2607" y="780"/>
                    </a:lnTo>
                    <a:lnTo>
                      <a:pt x="2547" y="793"/>
                    </a:lnTo>
                    <a:lnTo>
                      <a:pt x="2485" y="805"/>
                    </a:lnTo>
                    <a:lnTo>
                      <a:pt x="2421" y="817"/>
                    </a:lnTo>
                    <a:lnTo>
                      <a:pt x="2353" y="828"/>
                    </a:lnTo>
                    <a:lnTo>
                      <a:pt x="2284" y="838"/>
                    </a:lnTo>
                    <a:lnTo>
                      <a:pt x="2214" y="847"/>
                    </a:lnTo>
                    <a:lnTo>
                      <a:pt x="2142" y="855"/>
                    </a:lnTo>
                    <a:lnTo>
                      <a:pt x="2067" y="862"/>
                    </a:lnTo>
                    <a:lnTo>
                      <a:pt x="1992" y="868"/>
                    </a:lnTo>
                    <a:lnTo>
                      <a:pt x="1915" y="873"/>
                    </a:lnTo>
                    <a:lnTo>
                      <a:pt x="1836" y="877"/>
                    </a:lnTo>
                    <a:lnTo>
                      <a:pt x="1756" y="880"/>
                    </a:lnTo>
                    <a:lnTo>
                      <a:pt x="1675" y="882"/>
                    </a:lnTo>
                    <a:lnTo>
                      <a:pt x="1593" y="882"/>
                    </a:lnTo>
                    <a:lnTo>
                      <a:pt x="1512" y="882"/>
                    </a:lnTo>
                    <a:lnTo>
                      <a:pt x="1431" y="880"/>
                    </a:lnTo>
                    <a:lnTo>
                      <a:pt x="1351" y="877"/>
                    </a:lnTo>
                    <a:lnTo>
                      <a:pt x="1272" y="873"/>
                    </a:lnTo>
                    <a:lnTo>
                      <a:pt x="1196" y="868"/>
                    </a:lnTo>
                    <a:lnTo>
                      <a:pt x="1120" y="862"/>
                    </a:lnTo>
                    <a:lnTo>
                      <a:pt x="1045" y="855"/>
                    </a:lnTo>
                    <a:lnTo>
                      <a:pt x="973" y="847"/>
                    </a:lnTo>
                    <a:lnTo>
                      <a:pt x="903" y="838"/>
                    </a:lnTo>
                    <a:lnTo>
                      <a:pt x="834" y="828"/>
                    </a:lnTo>
                    <a:lnTo>
                      <a:pt x="767" y="817"/>
                    </a:lnTo>
                    <a:lnTo>
                      <a:pt x="703" y="805"/>
                    </a:lnTo>
                    <a:lnTo>
                      <a:pt x="640" y="793"/>
                    </a:lnTo>
                    <a:lnTo>
                      <a:pt x="579" y="780"/>
                    </a:lnTo>
                    <a:lnTo>
                      <a:pt x="522" y="766"/>
                    </a:lnTo>
                    <a:lnTo>
                      <a:pt x="466" y="751"/>
                    </a:lnTo>
                    <a:lnTo>
                      <a:pt x="414" y="734"/>
                    </a:lnTo>
                    <a:lnTo>
                      <a:pt x="363" y="718"/>
                    </a:lnTo>
                    <a:lnTo>
                      <a:pt x="316" y="701"/>
                    </a:lnTo>
                    <a:lnTo>
                      <a:pt x="271" y="684"/>
                    </a:lnTo>
                    <a:lnTo>
                      <a:pt x="230" y="666"/>
                    </a:lnTo>
                    <a:lnTo>
                      <a:pt x="192" y="647"/>
                    </a:lnTo>
                    <a:lnTo>
                      <a:pt x="156" y="627"/>
                    </a:lnTo>
                    <a:lnTo>
                      <a:pt x="125" y="607"/>
                    </a:lnTo>
                    <a:lnTo>
                      <a:pt x="96" y="587"/>
                    </a:lnTo>
                    <a:lnTo>
                      <a:pt x="71" y="566"/>
                    </a:lnTo>
                    <a:lnTo>
                      <a:pt x="49" y="545"/>
                    </a:lnTo>
                    <a:lnTo>
                      <a:pt x="32" y="524"/>
                    </a:lnTo>
                    <a:lnTo>
                      <a:pt x="18" y="501"/>
                    </a:lnTo>
                    <a:lnTo>
                      <a:pt x="8" y="478"/>
                    </a:lnTo>
                    <a:lnTo>
                      <a:pt x="2" y="456"/>
                    </a:lnTo>
                    <a:lnTo>
                      <a:pt x="0" y="433"/>
                    </a:lnTo>
                    <a:lnTo>
                      <a:pt x="2" y="409"/>
                    </a:lnTo>
                    <a:lnTo>
                      <a:pt x="8" y="386"/>
                    </a:lnTo>
                    <a:lnTo>
                      <a:pt x="18" y="364"/>
                    </a:lnTo>
                    <a:lnTo>
                      <a:pt x="32" y="343"/>
                    </a:lnTo>
                    <a:lnTo>
                      <a:pt x="49" y="321"/>
                    </a:lnTo>
                    <a:lnTo>
                      <a:pt x="71" y="300"/>
                    </a:lnTo>
                    <a:lnTo>
                      <a:pt x="96" y="280"/>
                    </a:lnTo>
                    <a:lnTo>
                      <a:pt x="125" y="260"/>
                    </a:lnTo>
                    <a:lnTo>
                      <a:pt x="156" y="241"/>
                    </a:lnTo>
                    <a:lnTo>
                      <a:pt x="192" y="222"/>
                    </a:lnTo>
                    <a:lnTo>
                      <a:pt x="230" y="204"/>
                    </a:lnTo>
                    <a:lnTo>
                      <a:pt x="271" y="186"/>
                    </a:lnTo>
                    <a:lnTo>
                      <a:pt x="316" y="169"/>
                    </a:lnTo>
                    <a:lnTo>
                      <a:pt x="363" y="153"/>
                    </a:lnTo>
                    <a:lnTo>
                      <a:pt x="414" y="138"/>
                    </a:lnTo>
                    <a:lnTo>
                      <a:pt x="466" y="123"/>
                    </a:lnTo>
                    <a:lnTo>
                      <a:pt x="522" y="109"/>
                    </a:lnTo>
                    <a:lnTo>
                      <a:pt x="579" y="96"/>
                    </a:lnTo>
                    <a:lnTo>
                      <a:pt x="640" y="83"/>
                    </a:lnTo>
                    <a:lnTo>
                      <a:pt x="703" y="71"/>
                    </a:lnTo>
                    <a:lnTo>
                      <a:pt x="767" y="60"/>
                    </a:lnTo>
                    <a:lnTo>
                      <a:pt x="834" y="50"/>
                    </a:lnTo>
                    <a:lnTo>
                      <a:pt x="903" y="41"/>
                    </a:lnTo>
                    <a:lnTo>
                      <a:pt x="973" y="33"/>
                    </a:lnTo>
                    <a:lnTo>
                      <a:pt x="1045" y="25"/>
                    </a:lnTo>
                    <a:lnTo>
                      <a:pt x="1120" y="19"/>
                    </a:lnTo>
                    <a:lnTo>
                      <a:pt x="1196" y="13"/>
                    </a:lnTo>
                    <a:lnTo>
                      <a:pt x="1272" y="9"/>
                    </a:lnTo>
                    <a:lnTo>
                      <a:pt x="1351" y="5"/>
                    </a:lnTo>
                    <a:lnTo>
                      <a:pt x="1431" y="3"/>
                    </a:lnTo>
                    <a:lnTo>
                      <a:pt x="1512" y="1"/>
                    </a:lnTo>
                    <a:lnTo>
                      <a:pt x="1593" y="0"/>
                    </a:lnTo>
                    <a:lnTo>
                      <a:pt x="1675" y="1"/>
                    </a:lnTo>
                    <a:lnTo>
                      <a:pt x="1756" y="3"/>
                    </a:lnTo>
                    <a:lnTo>
                      <a:pt x="1836" y="5"/>
                    </a:lnTo>
                    <a:lnTo>
                      <a:pt x="1915" y="9"/>
                    </a:lnTo>
                    <a:lnTo>
                      <a:pt x="1992" y="13"/>
                    </a:lnTo>
                    <a:lnTo>
                      <a:pt x="2067" y="19"/>
                    </a:lnTo>
                    <a:lnTo>
                      <a:pt x="2142" y="25"/>
                    </a:lnTo>
                    <a:lnTo>
                      <a:pt x="2214" y="33"/>
                    </a:lnTo>
                    <a:lnTo>
                      <a:pt x="2284" y="41"/>
                    </a:lnTo>
                    <a:lnTo>
                      <a:pt x="2353" y="50"/>
                    </a:lnTo>
                    <a:lnTo>
                      <a:pt x="2421" y="60"/>
                    </a:lnTo>
                    <a:lnTo>
                      <a:pt x="2485" y="71"/>
                    </a:lnTo>
                    <a:lnTo>
                      <a:pt x="2547" y="83"/>
                    </a:lnTo>
                    <a:lnTo>
                      <a:pt x="2607" y="96"/>
                    </a:lnTo>
                    <a:lnTo>
                      <a:pt x="2665" y="109"/>
                    </a:lnTo>
                    <a:lnTo>
                      <a:pt x="2721" y="123"/>
                    </a:lnTo>
                    <a:lnTo>
                      <a:pt x="2773" y="138"/>
                    </a:lnTo>
                    <a:lnTo>
                      <a:pt x="2824" y="153"/>
                    </a:lnTo>
                    <a:lnTo>
                      <a:pt x="2871" y="169"/>
                    </a:lnTo>
                    <a:lnTo>
                      <a:pt x="2915" y="186"/>
                    </a:lnTo>
                    <a:lnTo>
                      <a:pt x="2957" y="204"/>
                    </a:lnTo>
                    <a:lnTo>
                      <a:pt x="2995" y="222"/>
                    </a:lnTo>
                    <a:lnTo>
                      <a:pt x="3031" y="241"/>
                    </a:lnTo>
                    <a:lnTo>
                      <a:pt x="3062" y="260"/>
                    </a:lnTo>
                    <a:lnTo>
                      <a:pt x="3091" y="280"/>
                    </a:lnTo>
                    <a:lnTo>
                      <a:pt x="3116" y="300"/>
                    </a:lnTo>
                    <a:lnTo>
                      <a:pt x="3138" y="321"/>
                    </a:lnTo>
                    <a:lnTo>
                      <a:pt x="3155" y="343"/>
                    </a:lnTo>
                    <a:lnTo>
                      <a:pt x="3169" y="364"/>
                    </a:lnTo>
                    <a:lnTo>
                      <a:pt x="3179" y="386"/>
                    </a:lnTo>
                    <a:lnTo>
                      <a:pt x="3185" y="409"/>
                    </a:lnTo>
                    <a:lnTo>
                      <a:pt x="3188" y="4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114640" y="6525720"/>
                <a:ext cx="352080" cy="104760"/>
              </a:xfrm>
              <a:custGeom>
                <a:avLst/>
                <a:gdLst/>
                <a:ahLst/>
                <a:rect l="l" t="t" r="r" b="b"/>
                <a:pathLst>
                  <a:path w="3185" h="881">
                    <a:moveTo>
                      <a:pt x="3185" y="432"/>
                    </a:moveTo>
                    <a:lnTo>
                      <a:pt x="3183" y="455"/>
                    </a:lnTo>
                    <a:lnTo>
                      <a:pt x="3177" y="477"/>
                    </a:lnTo>
                    <a:lnTo>
                      <a:pt x="3167" y="500"/>
                    </a:lnTo>
                    <a:lnTo>
                      <a:pt x="3153" y="521"/>
                    </a:lnTo>
                    <a:lnTo>
                      <a:pt x="3135" y="544"/>
                    </a:lnTo>
                    <a:lnTo>
                      <a:pt x="3113" y="565"/>
                    </a:lnTo>
                    <a:lnTo>
                      <a:pt x="3088" y="586"/>
                    </a:lnTo>
                    <a:lnTo>
                      <a:pt x="3060" y="606"/>
                    </a:lnTo>
                    <a:lnTo>
                      <a:pt x="3029" y="626"/>
                    </a:lnTo>
                    <a:lnTo>
                      <a:pt x="2993" y="646"/>
                    </a:lnTo>
                    <a:lnTo>
                      <a:pt x="2955" y="664"/>
                    </a:lnTo>
                    <a:lnTo>
                      <a:pt x="2913" y="682"/>
                    </a:lnTo>
                    <a:lnTo>
                      <a:pt x="2869" y="700"/>
                    </a:lnTo>
                    <a:lnTo>
                      <a:pt x="2822" y="717"/>
                    </a:lnTo>
                    <a:lnTo>
                      <a:pt x="2771" y="733"/>
                    </a:lnTo>
                    <a:lnTo>
                      <a:pt x="2719" y="749"/>
                    </a:lnTo>
                    <a:lnTo>
                      <a:pt x="2663" y="764"/>
                    </a:lnTo>
                    <a:lnTo>
                      <a:pt x="2605" y="778"/>
                    </a:lnTo>
                    <a:lnTo>
                      <a:pt x="2546" y="791"/>
                    </a:lnTo>
                    <a:lnTo>
                      <a:pt x="2483" y="804"/>
                    </a:lnTo>
                    <a:lnTo>
                      <a:pt x="2419" y="815"/>
                    </a:lnTo>
                    <a:lnTo>
                      <a:pt x="2352" y="826"/>
                    </a:lnTo>
                    <a:lnTo>
                      <a:pt x="2283" y="836"/>
                    </a:lnTo>
                    <a:lnTo>
                      <a:pt x="2213" y="846"/>
                    </a:lnTo>
                    <a:lnTo>
                      <a:pt x="2140" y="854"/>
                    </a:lnTo>
                    <a:lnTo>
                      <a:pt x="2066" y="861"/>
                    </a:lnTo>
                    <a:lnTo>
                      <a:pt x="1990" y="867"/>
                    </a:lnTo>
                    <a:lnTo>
                      <a:pt x="1914" y="872"/>
                    </a:lnTo>
                    <a:lnTo>
                      <a:pt x="1835" y="875"/>
                    </a:lnTo>
                    <a:lnTo>
                      <a:pt x="1755" y="878"/>
                    </a:lnTo>
                    <a:lnTo>
                      <a:pt x="1674" y="880"/>
                    </a:lnTo>
                    <a:lnTo>
                      <a:pt x="1592" y="881"/>
                    </a:lnTo>
                    <a:lnTo>
                      <a:pt x="1511" y="880"/>
                    </a:lnTo>
                    <a:lnTo>
                      <a:pt x="1430" y="878"/>
                    </a:lnTo>
                    <a:lnTo>
                      <a:pt x="1350" y="875"/>
                    </a:lnTo>
                    <a:lnTo>
                      <a:pt x="1271" y="872"/>
                    </a:lnTo>
                    <a:lnTo>
                      <a:pt x="1195" y="867"/>
                    </a:lnTo>
                    <a:lnTo>
                      <a:pt x="1119" y="861"/>
                    </a:lnTo>
                    <a:lnTo>
                      <a:pt x="1045" y="854"/>
                    </a:lnTo>
                    <a:lnTo>
                      <a:pt x="972" y="846"/>
                    </a:lnTo>
                    <a:lnTo>
                      <a:pt x="902" y="836"/>
                    </a:lnTo>
                    <a:lnTo>
                      <a:pt x="833" y="826"/>
                    </a:lnTo>
                    <a:lnTo>
                      <a:pt x="766" y="815"/>
                    </a:lnTo>
                    <a:lnTo>
                      <a:pt x="702" y="804"/>
                    </a:lnTo>
                    <a:lnTo>
                      <a:pt x="639" y="791"/>
                    </a:lnTo>
                    <a:lnTo>
                      <a:pt x="579" y="778"/>
                    </a:lnTo>
                    <a:lnTo>
                      <a:pt x="522" y="764"/>
                    </a:lnTo>
                    <a:lnTo>
                      <a:pt x="466" y="749"/>
                    </a:lnTo>
                    <a:lnTo>
                      <a:pt x="414" y="733"/>
                    </a:lnTo>
                    <a:lnTo>
                      <a:pt x="363" y="717"/>
                    </a:lnTo>
                    <a:lnTo>
                      <a:pt x="316" y="700"/>
                    </a:lnTo>
                    <a:lnTo>
                      <a:pt x="271" y="682"/>
                    </a:lnTo>
                    <a:lnTo>
                      <a:pt x="230" y="664"/>
                    </a:lnTo>
                    <a:lnTo>
                      <a:pt x="192" y="646"/>
                    </a:lnTo>
                    <a:lnTo>
                      <a:pt x="157" y="626"/>
                    </a:lnTo>
                    <a:lnTo>
                      <a:pt x="125" y="606"/>
                    </a:lnTo>
                    <a:lnTo>
                      <a:pt x="97" y="586"/>
                    </a:lnTo>
                    <a:lnTo>
                      <a:pt x="71" y="565"/>
                    </a:lnTo>
                    <a:lnTo>
                      <a:pt x="50" y="544"/>
                    </a:lnTo>
                    <a:lnTo>
                      <a:pt x="32" y="521"/>
                    </a:lnTo>
                    <a:lnTo>
                      <a:pt x="18" y="500"/>
                    </a:lnTo>
                    <a:lnTo>
                      <a:pt x="8" y="477"/>
                    </a:lnTo>
                    <a:lnTo>
                      <a:pt x="2" y="455"/>
                    </a:lnTo>
                    <a:lnTo>
                      <a:pt x="0" y="432"/>
                    </a:lnTo>
                    <a:lnTo>
                      <a:pt x="2" y="408"/>
                    </a:lnTo>
                    <a:lnTo>
                      <a:pt x="8" y="385"/>
                    </a:lnTo>
                    <a:lnTo>
                      <a:pt x="18" y="363"/>
                    </a:lnTo>
                    <a:lnTo>
                      <a:pt x="32" y="342"/>
                    </a:lnTo>
                    <a:lnTo>
                      <a:pt x="50" y="321"/>
                    </a:lnTo>
                    <a:lnTo>
                      <a:pt x="71" y="299"/>
                    </a:lnTo>
                    <a:lnTo>
                      <a:pt x="97" y="279"/>
                    </a:lnTo>
                    <a:lnTo>
                      <a:pt x="125" y="259"/>
                    </a:lnTo>
                    <a:lnTo>
                      <a:pt x="157" y="240"/>
                    </a:lnTo>
                    <a:lnTo>
                      <a:pt x="192" y="222"/>
                    </a:lnTo>
                    <a:lnTo>
                      <a:pt x="230" y="204"/>
                    </a:lnTo>
                    <a:lnTo>
                      <a:pt x="271" y="186"/>
                    </a:lnTo>
                    <a:lnTo>
                      <a:pt x="316" y="169"/>
                    </a:lnTo>
                    <a:lnTo>
                      <a:pt x="363" y="153"/>
                    </a:lnTo>
                    <a:lnTo>
                      <a:pt x="414" y="138"/>
                    </a:lnTo>
                    <a:lnTo>
                      <a:pt x="466" y="123"/>
                    </a:lnTo>
                    <a:lnTo>
                      <a:pt x="522" y="109"/>
                    </a:lnTo>
                    <a:lnTo>
                      <a:pt x="579" y="96"/>
                    </a:lnTo>
                    <a:lnTo>
                      <a:pt x="639" y="82"/>
                    </a:lnTo>
                    <a:lnTo>
                      <a:pt x="702" y="71"/>
                    </a:lnTo>
                    <a:lnTo>
                      <a:pt x="766" y="60"/>
                    </a:lnTo>
                    <a:lnTo>
                      <a:pt x="833" y="50"/>
                    </a:lnTo>
                    <a:lnTo>
                      <a:pt x="902" y="41"/>
                    </a:lnTo>
                    <a:lnTo>
                      <a:pt x="972" y="33"/>
                    </a:lnTo>
                    <a:lnTo>
                      <a:pt x="1045" y="25"/>
                    </a:lnTo>
                    <a:lnTo>
                      <a:pt x="1119" y="19"/>
                    </a:lnTo>
                    <a:lnTo>
                      <a:pt x="1195" y="13"/>
                    </a:lnTo>
                    <a:lnTo>
                      <a:pt x="1271" y="9"/>
                    </a:lnTo>
                    <a:lnTo>
                      <a:pt x="1350" y="5"/>
                    </a:lnTo>
                    <a:lnTo>
                      <a:pt x="1430" y="2"/>
                    </a:lnTo>
                    <a:lnTo>
                      <a:pt x="1511" y="1"/>
                    </a:lnTo>
                    <a:lnTo>
                      <a:pt x="1592" y="0"/>
                    </a:lnTo>
                    <a:lnTo>
                      <a:pt x="1674" y="1"/>
                    </a:lnTo>
                    <a:lnTo>
                      <a:pt x="1755" y="2"/>
                    </a:lnTo>
                    <a:lnTo>
                      <a:pt x="1835" y="5"/>
                    </a:lnTo>
                    <a:lnTo>
                      <a:pt x="1914" y="9"/>
                    </a:lnTo>
                    <a:lnTo>
                      <a:pt x="1990" y="13"/>
                    </a:lnTo>
                    <a:lnTo>
                      <a:pt x="2066" y="19"/>
                    </a:lnTo>
                    <a:lnTo>
                      <a:pt x="2140" y="25"/>
                    </a:lnTo>
                    <a:lnTo>
                      <a:pt x="2213" y="33"/>
                    </a:lnTo>
                    <a:lnTo>
                      <a:pt x="2283" y="41"/>
                    </a:lnTo>
                    <a:lnTo>
                      <a:pt x="2352" y="50"/>
                    </a:lnTo>
                    <a:lnTo>
                      <a:pt x="2419" y="60"/>
                    </a:lnTo>
                    <a:lnTo>
                      <a:pt x="2483" y="71"/>
                    </a:lnTo>
                    <a:lnTo>
                      <a:pt x="2546" y="82"/>
                    </a:lnTo>
                    <a:lnTo>
                      <a:pt x="2605" y="96"/>
                    </a:lnTo>
                    <a:lnTo>
                      <a:pt x="2663" y="109"/>
                    </a:lnTo>
                    <a:lnTo>
                      <a:pt x="2719" y="123"/>
                    </a:lnTo>
                    <a:lnTo>
                      <a:pt x="2771" y="138"/>
                    </a:lnTo>
                    <a:lnTo>
                      <a:pt x="2822" y="153"/>
                    </a:lnTo>
                    <a:lnTo>
                      <a:pt x="2869" y="169"/>
                    </a:lnTo>
                    <a:lnTo>
                      <a:pt x="2913" y="186"/>
                    </a:lnTo>
                    <a:lnTo>
                      <a:pt x="2955" y="204"/>
                    </a:lnTo>
                    <a:lnTo>
                      <a:pt x="2993" y="222"/>
                    </a:lnTo>
                    <a:lnTo>
                      <a:pt x="3029" y="240"/>
                    </a:lnTo>
                    <a:lnTo>
                      <a:pt x="3060" y="259"/>
                    </a:lnTo>
                    <a:lnTo>
                      <a:pt x="3088" y="279"/>
                    </a:lnTo>
                    <a:lnTo>
                      <a:pt x="3113" y="299"/>
                    </a:lnTo>
                    <a:lnTo>
                      <a:pt x="3135" y="321"/>
                    </a:lnTo>
                    <a:lnTo>
                      <a:pt x="3153" y="342"/>
                    </a:lnTo>
                    <a:lnTo>
                      <a:pt x="3167" y="363"/>
                    </a:lnTo>
                    <a:lnTo>
                      <a:pt x="3177" y="385"/>
                    </a:lnTo>
                    <a:lnTo>
                      <a:pt x="3183" y="408"/>
                    </a:lnTo>
                    <a:lnTo>
                      <a:pt x="3185" y="4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114640" y="6525720"/>
                <a:ext cx="352080" cy="104760"/>
              </a:xfrm>
              <a:custGeom>
                <a:avLst/>
                <a:gdLst/>
                <a:ahLst/>
                <a:rect l="l" t="t" r="r" b="b"/>
                <a:pathLst>
                  <a:path w="3182" h="879">
                    <a:moveTo>
                      <a:pt x="3182" y="431"/>
                    </a:moveTo>
                    <a:lnTo>
                      <a:pt x="3180" y="454"/>
                    </a:lnTo>
                    <a:lnTo>
                      <a:pt x="3174" y="476"/>
                    </a:lnTo>
                    <a:lnTo>
                      <a:pt x="3164" y="498"/>
                    </a:lnTo>
                    <a:lnTo>
                      <a:pt x="3150" y="520"/>
                    </a:lnTo>
                    <a:lnTo>
                      <a:pt x="3132" y="543"/>
                    </a:lnTo>
                    <a:lnTo>
                      <a:pt x="3110" y="564"/>
                    </a:lnTo>
                    <a:lnTo>
                      <a:pt x="3085" y="584"/>
                    </a:lnTo>
                    <a:lnTo>
                      <a:pt x="3057" y="605"/>
                    </a:lnTo>
                    <a:lnTo>
                      <a:pt x="3025" y="624"/>
                    </a:lnTo>
                    <a:lnTo>
                      <a:pt x="2990" y="644"/>
                    </a:lnTo>
                    <a:lnTo>
                      <a:pt x="2952" y="663"/>
                    </a:lnTo>
                    <a:lnTo>
                      <a:pt x="2910" y="681"/>
                    </a:lnTo>
                    <a:lnTo>
                      <a:pt x="2866" y="698"/>
                    </a:lnTo>
                    <a:lnTo>
                      <a:pt x="2819" y="715"/>
                    </a:lnTo>
                    <a:lnTo>
                      <a:pt x="2768" y="731"/>
                    </a:lnTo>
                    <a:lnTo>
                      <a:pt x="2716" y="748"/>
                    </a:lnTo>
                    <a:lnTo>
                      <a:pt x="2660" y="762"/>
                    </a:lnTo>
                    <a:lnTo>
                      <a:pt x="2602" y="776"/>
                    </a:lnTo>
                    <a:lnTo>
                      <a:pt x="2543" y="789"/>
                    </a:lnTo>
                    <a:lnTo>
                      <a:pt x="2480" y="802"/>
                    </a:lnTo>
                    <a:lnTo>
                      <a:pt x="2416" y="813"/>
                    </a:lnTo>
                    <a:lnTo>
                      <a:pt x="2349" y="824"/>
                    </a:lnTo>
                    <a:lnTo>
                      <a:pt x="2280" y="834"/>
                    </a:lnTo>
                    <a:lnTo>
                      <a:pt x="2210" y="844"/>
                    </a:lnTo>
                    <a:lnTo>
                      <a:pt x="2138" y="852"/>
                    </a:lnTo>
                    <a:lnTo>
                      <a:pt x="2064" y="859"/>
                    </a:lnTo>
                    <a:lnTo>
                      <a:pt x="1988" y="865"/>
                    </a:lnTo>
                    <a:lnTo>
                      <a:pt x="1912" y="870"/>
                    </a:lnTo>
                    <a:lnTo>
                      <a:pt x="1833" y="874"/>
                    </a:lnTo>
                    <a:lnTo>
                      <a:pt x="1753" y="876"/>
                    </a:lnTo>
                    <a:lnTo>
                      <a:pt x="1672" y="878"/>
                    </a:lnTo>
                    <a:lnTo>
                      <a:pt x="1590" y="879"/>
                    </a:lnTo>
                    <a:lnTo>
                      <a:pt x="1509" y="878"/>
                    </a:lnTo>
                    <a:lnTo>
                      <a:pt x="1428" y="876"/>
                    </a:lnTo>
                    <a:lnTo>
                      <a:pt x="1348" y="874"/>
                    </a:lnTo>
                    <a:lnTo>
                      <a:pt x="1270" y="870"/>
                    </a:lnTo>
                    <a:lnTo>
                      <a:pt x="1193" y="865"/>
                    </a:lnTo>
                    <a:lnTo>
                      <a:pt x="1118" y="859"/>
                    </a:lnTo>
                    <a:lnTo>
                      <a:pt x="1043" y="852"/>
                    </a:lnTo>
                    <a:lnTo>
                      <a:pt x="971" y="844"/>
                    </a:lnTo>
                    <a:lnTo>
                      <a:pt x="901" y="834"/>
                    </a:lnTo>
                    <a:lnTo>
                      <a:pt x="832" y="824"/>
                    </a:lnTo>
                    <a:lnTo>
                      <a:pt x="765" y="813"/>
                    </a:lnTo>
                    <a:lnTo>
                      <a:pt x="701" y="802"/>
                    </a:lnTo>
                    <a:lnTo>
                      <a:pt x="638" y="789"/>
                    </a:lnTo>
                    <a:lnTo>
                      <a:pt x="579" y="776"/>
                    </a:lnTo>
                    <a:lnTo>
                      <a:pt x="521" y="762"/>
                    </a:lnTo>
                    <a:lnTo>
                      <a:pt x="465" y="748"/>
                    </a:lnTo>
                    <a:lnTo>
                      <a:pt x="413" y="731"/>
                    </a:lnTo>
                    <a:lnTo>
                      <a:pt x="362" y="715"/>
                    </a:lnTo>
                    <a:lnTo>
                      <a:pt x="315" y="698"/>
                    </a:lnTo>
                    <a:lnTo>
                      <a:pt x="271" y="681"/>
                    </a:lnTo>
                    <a:lnTo>
                      <a:pt x="230" y="663"/>
                    </a:lnTo>
                    <a:lnTo>
                      <a:pt x="192" y="644"/>
                    </a:lnTo>
                    <a:lnTo>
                      <a:pt x="156" y="624"/>
                    </a:lnTo>
                    <a:lnTo>
                      <a:pt x="124" y="605"/>
                    </a:lnTo>
                    <a:lnTo>
                      <a:pt x="96" y="584"/>
                    </a:lnTo>
                    <a:lnTo>
                      <a:pt x="71" y="564"/>
                    </a:lnTo>
                    <a:lnTo>
                      <a:pt x="49" y="543"/>
                    </a:lnTo>
                    <a:lnTo>
                      <a:pt x="32" y="520"/>
                    </a:lnTo>
                    <a:lnTo>
                      <a:pt x="18" y="498"/>
                    </a:lnTo>
                    <a:lnTo>
                      <a:pt x="8" y="476"/>
                    </a:lnTo>
                    <a:lnTo>
                      <a:pt x="2" y="454"/>
                    </a:lnTo>
                    <a:lnTo>
                      <a:pt x="0" y="431"/>
                    </a:lnTo>
                    <a:lnTo>
                      <a:pt x="2" y="407"/>
                    </a:lnTo>
                    <a:lnTo>
                      <a:pt x="8" y="385"/>
                    </a:lnTo>
                    <a:lnTo>
                      <a:pt x="18" y="363"/>
                    </a:lnTo>
                    <a:lnTo>
                      <a:pt x="32" y="341"/>
                    </a:lnTo>
                    <a:lnTo>
                      <a:pt x="49" y="320"/>
                    </a:lnTo>
                    <a:lnTo>
                      <a:pt x="71" y="298"/>
                    </a:lnTo>
                    <a:lnTo>
                      <a:pt x="96" y="278"/>
                    </a:lnTo>
                    <a:lnTo>
                      <a:pt x="124" y="259"/>
                    </a:lnTo>
                    <a:lnTo>
                      <a:pt x="156" y="240"/>
                    </a:lnTo>
                    <a:lnTo>
                      <a:pt x="192" y="221"/>
                    </a:lnTo>
                    <a:lnTo>
                      <a:pt x="230" y="203"/>
                    </a:lnTo>
                    <a:lnTo>
                      <a:pt x="271" y="185"/>
                    </a:lnTo>
                    <a:lnTo>
                      <a:pt x="315" y="168"/>
                    </a:lnTo>
                    <a:lnTo>
                      <a:pt x="362" y="152"/>
                    </a:lnTo>
                    <a:lnTo>
                      <a:pt x="413" y="137"/>
                    </a:lnTo>
                    <a:lnTo>
                      <a:pt x="465" y="123"/>
                    </a:lnTo>
                    <a:lnTo>
                      <a:pt x="521" y="109"/>
                    </a:lnTo>
                    <a:lnTo>
                      <a:pt x="579" y="96"/>
                    </a:lnTo>
                    <a:lnTo>
                      <a:pt x="638" y="82"/>
                    </a:lnTo>
                    <a:lnTo>
                      <a:pt x="701" y="71"/>
                    </a:lnTo>
                    <a:lnTo>
                      <a:pt x="765" y="60"/>
                    </a:lnTo>
                    <a:lnTo>
                      <a:pt x="832" y="50"/>
                    </a:lnTo>
                    <a:lnTo>
                      <a:pt x="901" y="41"/>
                    </a:lnTo>
                    <a:lnTo>
                      <a:pt x="971" y="32"/>
                    </a:lnTo>
                    <a:lnTo>
                      <a:pt x="1043" y="25"/>
                    </a:lnTo>
                    <a:lnTo>
                      <a:pt x="1118" y="19"/>
                    </a:lnTo>
                    <a:lnTo>
                      <a:pt x="1193" y="13"/>
                    </a:lnTo>
                    <a:lnTo>
                      <a:pt x="1270" y="9"/>
                    </a:lnTo>
                    <a:lnTo>
                      <a:pt x="1348" y="5"/>
                    </a:lnTo>
                    <a:lnTo>
                      <a:pt x="1428" y="2"/>
                    </a:lnTo>
                    <a:lnTo>
                      <a:pt x="1509" y="1"/>
                    </a:lnTo>
                    <a:lnTo>
                      <a:pt x="1590" y="0"/>
                    </a:lnTo>
                    <a:lnTo>
                      <a:pt x="1672" y="1"/>
                    </a:lnTo>
                    <a:lnTo>
                      <a:pt x="1753" y="2"/>
                    </a:lnTo>
                    <a:lnTo>
                      <a:pt x="1833" y="5"/>
                    </a:lnTo>
                    <a:lnTo>
                      <a:pt x="1912" y="9"/>
                    </a:lnTo>
                    <a:lnTo>
                      <a:pt x="1988" y="13"/>
                    </a:lnTo>
                    <a:lnTo>
                      <a:pt x="2064" y="19"/>
                    </a:lnTo>
                    <a:lnTo>
                      <a:pt x="2138" y="25"/>
                    </a:lnTo>
                    <a:lnTo>
                      <a:pt x="2210" y="32"/>
                    </a:lnTo>
                    <a:lnTo>
                      <a:pt x="2280" y="41"/>
                    </a:lnTo>
                    <a:lnTo>
                      <a:pt x="2349" y="50"/>
                    </a:lnTo>
                    <a:lnTo>
                      <a:pt x="2416" y="60"/>
                    </a:lnTo>
                    <a:lnTo>
                      <a:pt x="2480" y="71"/>
                    </a:lnTo>
                    <a:lnTo>
                      <a:pt x="2543" y="82"/>
                    </a:lnTo>
                    <a:lnTo>
                      <a:pt x="2602" y="96"/>
                    </a:lnTo>
                    <a:lnTo>
                      <a:pt x="2660" y="109"/>
                    </a:lnTo>
                    <a:lnTo>
                      <a:pt x="2716" y="123"/>
                    </a:lnTo>
                    <a:lnTo>
                      <a:pt x="2768" y="137"/>
                    </a:lnTo>
                    <a:lnTo>
                      <a:pt x="2819" y="152"/>
                    </a:lnTo>
                    <a:lnTo>
                      <a:pt x="2866" y="168"/>
                    </a:lnTo>
                    <a:lnTo>
                      <a:pt x="2910" y="185"/>
                    </a:lnTo>
                    <a:lnTo>
                      <a:pt x="2952" y="203"/>
                    </a:lnTo>
                    <a:lnTo>
                      <a:pt x="2990" y="221"/>
                    </a:lnTo>
                    <a:lnTo>
                      <a:pt x="3025" y="240"/>
                    </a:lnTo>
                    <a:lnTo>
                      <a:pt x="3057" y="259"/>
                    </a:lnTo>
                    <a:lnTo>
                      <a:pt x="3085" y="278"/>
                    </a:lnTo>
                    <a:lnTo>
                      <a:pt x="3110" y="298"/>
                    </a:lnTo>
                    <a:lnTo>
                      <a:pt x="3132" y="320"/>
                    </a:lnTo>
                    <a:lnTo>
                      <a:pt x="3150" y="341"/>
                    </a:lnTo>
                    <a:lnTo>
                      <a:pt x="3164" y="363"/>
                    </a:lnTo>
                    <a:lnTo>
                      <a:pt x="3174" y="385"/>
                    </a:lnTo>
                    <a:lnTo>
                      <a:pt x="3180" y="407"/>
                    </a:lnTo>
                    <a:lnTo>
                      <a:pt x="3182" y="4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114640" y="6525720"/>
                <a:ext cx="351000" cy="104760"/>
              </a:xfrm>
              <a:custGeom>
                <a:avLst/>
                <a:gdLst/>
                <a:ahLst/>
                <a:rect l="l" t="t" r="r" b="b"/>
                <a:pathLst>
                  <a:path w="3179" h="877">
                    <a:moveTo>
                      <a:pt x="3179" y="430"/>
                    </a:moveTo>
                    <a:lnTo>
                      <a:pt x="3177" y="453"/>
                    </a:lnTo>
                    <a:lnTo>
                      <a:pt x="3171" y="475"/>
                    </a:lnTo>
                    <a:lnTo>
                      <a:pt x="3161" y="497"/>
                    </a:lnTo>
                    <a:lnTo>
                      <a:pt x="3147" y="519"/>
                    </a:lnTo>
                    <a:lnTo>
                      <a:pt x="3130" y="541"/>
                    </a:lnTo>
                    <a:lnTo>
                      <a:pt x="3107" y="562"/>
                    </a:lnTo>
                    <a:lnTo>
                      <a:pt x="3083" y="583"/>
                    </a:lnTo>
                    <a:lnTo>
                      <a:pt x="3055" y="603"/>
                    </a:lnTo>
                    <a:lnTo>
                      <a:pt x="3023" y="623"/>
                    </a:lnTo>
                    <a:lnTo>
                      <a:pt x="2987" y="643"/>
                    </a:lnTo>
                    <a:lnTo>
                      <a:pt x="2949" y="661"/>
                    </a:lnTo>
                    <a:lnTo>
                      <a:pt x="2907" y="679"/>
                    </a:lnTo>
                    <a:lnTo>
                      <a:pt x="2864" y="697"/>
                    </a:lnTo>
                    <a:lnTo>
                      <a:pt x="2817" y="714"/>
                    </a:lnTo>
                    <a:lnTo>
                      <a:pt x="2766" y="730"/>
                    </a:lnTo>
                    <a:lnTo>
                      <a:pt x="2714" y="746"/>
                    </a:lnTo>
                    <a:lnTo>
                      <a:pt x="2659" y="761"/>
                    </a:lnTo>
                    <a:lnTo>
                      <a:pt x="2600" y="775"/>
                    </a:lnTo>
                    <a:lnTo>
                      <a:pt x="2541" y="788"/>
                    </a:lnTo>
                    <a:lnTo>
                      <a:pt x="2478" y="800"/>
                    </a:lnTo>
                    <a:lnTo>
                      <a:pt x="2414" y="812"/>
                    </a:lnTo>
                    <a:lnTo>
                      <a:pt x="2347" y="822"/>
                    </a:lnTo>
                    <a:lnTo>
                      <a:pt x="2279" y="832"/>
                    </a:lnTo>
                    <a:lnTo>
                      <a:pt x="2209" y="842"/>
                    </a:lnTo>
                    <a:lnTo>
                      <a:pt x="2136" y="850"/>
                    </a:lnTo>
                    <a:lnTo>
                      <a:pt x="2062" y="857"/>
                    </a:lnTo>
                    <a:lnTo>
                      <a:pt x="1986" y="863"/>
                    </a:lnTo>
                    <a:lnTo>
                      <a:pt x="1910" y="868"/>
                    </a:lnTo>
                    <a:lnTo>
                      <a:pt x="1832" y="872"/>
                    </a:lnTo>
                    <a:lnTo>
                      <a:pt x="1752" y="874"/>
                    </a:lnTo>
                    <a:lnTo>
                      <a:pt x="1671" y="876"/>
                    </a:lnTo>
                    <a:lnTo>
                      <a:pt x="1589" y="877"/>
                    </a:lnTo>
                    <a:lnTo>
                      <a:pt x="1508" y="876"/>
                    </a:lnTo>
                    <a:lnTo>
                      <a:pt x="1427" y="874"/>
                    </a:lnTo>
                    <a:lnTo>
                      <a:pt x="1347" y="872"/>
                    </a:lnTo>
                    <a:lnTo>
                      <a:pt x="1269" y="868"/>
                    </a:lnTo>
                    <a:lnTo>
                      <a:pt x="1193" y="863"/>
                    </a:lnTo>
                    <a:lnTo>
                      <a:pt x="1117" y="857"/>
                    </a:lnTo>
                    <a:lnTo>
                      <a:pt x="1043" y="850"/>
                    </a:lnTo>
                    <a:lnTo>
                      <a:pt x="970" y="842"/>
                    </a:lnTo>
                    <a:lnTo>
                      <a:pt x="901" y="832"/>
                    </a:lnTo>
                    <a:lnTo>
                      <a:pt x="832" y="822"/>
                    </a:lnTo>
                    <a:lnTo>
                      <a:pt x="765" y="812"/>
                    </a:lnTo>
                    <a:lnTo>
                      <a:pt x="701" y="800"/>
                    </a:lnTo>
                    <a:lnTo>
                      <a:pt x="638" y="788"/>
                    </a:lnTo>
                    <a:lnTo>
                      <a:pt x="579" y="775"/>
                    </a:lnTo>
                    <a:lnTo>
                      <a:pt x="521" y="761"/>
                    </a:lnTo>
                    <a:lnTo>
                      <a:pt x="465" y="746"/>
                    </a:lnTo>
                    <a:lnTo>
                      <a:pt x="413" y="730"/>
                    </a:lnTo>
                    <a:lnTo>
                      <a:pt x="362" y="714"/>
                    </a:lnTo>
                    <a:lnTo>
                      <a:pt x="316" y="697"/>
                    </a:lnTo>
                    <a:lnTo>
                      <a:pt x="271" y="679"/>
                    </a:lnTo>
                    <a:lnTo>
                      <a:pt x="230" y="661"/>
                    </a:lnTo>
                    <a:lnTo>
                      <a:pt x="192" y="643"/>
                    </a:lnTo>
                    <a:lnTo>
                      <a:pt x="156" y="623"/>
                    </a:lnTo>
                    <a:lnTo>
                      <a:pt x="125" y="603"/>
                    </a:lnTo>
                    <a:lnTo>
                      <a:pt x="96" y="583"/>
                    </a:lnTo>
                    <a:lnTo>
                      <a:pt x="72" y="562"/>
                    </a:lnTo>
                    <a:lnTo>
                      <a:pt x="49" y="541"/>
                    </a:lnTo>
                    <a:lnTo>
                      <a:pt x="32" y="519"/>
                    </a:lnTo>
                    <a:lnTo>
                      <a:pt x="18" y="497"/>
                    </a:lnTo>
                    <a:lnTo>
                      <a:pt x="8" y="475"/>
                    </a:lnTo>
                    <a:lnTo>
                      <a:pt x="2" y="453"/>
                    </a:lnTo>
                    <a:lnTo>
                      <a:pt x="0" y="430"/>
                    </a:lnTo>
                    <a:lnTo>
                      <a:pt x="2" y="406"/>
                    </a:lnTo>
                    <a:lnTo>
                      <a:pt x="8" y="384"/>
                    </a:lnTo>
                    <a:lnTo>
                      <a:pt x="18" y="362"/>
                    </a:lnTo>
                    <a:lnTo>
                      <a:pt x="32" y="340"/>
                    </a:lnTo>
                    <a:lnTo>
                      <a:pt x="49" y="319"/>
                    </a:lnTo>
                    <a:lnTo>
                      <a:pt x="72" y="298"/>
                    </a:lnTo>
                    <a:lnTo>
                      <a:pt x="96" y="278"/>
                    </a:lnTo>
                    <a:lnTo>
                      <a:pt x="125" y="258"/>
                    </a:lnTo>
                    <a:lnTo>
                      <a:pt x="156" y="239"/>
                    </a:lnTo>
                    <a:lnTo>
                      <a:pt x="192" y="221"/>
                    </a:lnTo>
                    <a:lnTo>
                      <a:pt x="230" y="203"/>
                    </a:lnTo>
                    <a:lnTo>
                      <a:pt x="271" y="185"/>
                    </a:lnTo>
                    <a:lnTo>
                      <a:pt x="316" y="168"/>
                    </a:lnTo>
                    <a:lnTo>
                      <a:pt x="362" y="152"/>
                    </a:lnTo>
                    <a:lnTo>
                      <a:pt x="413" y="137"/>
                    </a:lnTo>
                    <a:lnTo>
                      <a:pt x="465" y="122"/>
                    </a:lnTo>
                    <a:lnTo>
                      <a:pt x="521" y="108"/>
                    </a:lnTo>
                    <a:lnTo>
                      <a:pt x="579" y="95"/>
                    </a:lnTo>
                    <a:lnTo>
                      <a:pt x="638" y="82"/>
                    </a:lnTo>
                    <a:lnTo>
                      <a:pt x="701" y="70"/>
                    </a:lnTo>
                    <a:lnTo>
                      <a:pt x="765" y="60"/>
                    </a:lnTo>
                    <a:lnTo>
                      <a:pt x="832" y="50"/>
                    </a:lnTo>
                    <a:lnTo>
                      <a:pt x="901" y="41"/>
                    </a:lnTo>
                    <a:lnTo>
                      <a:pt x="970" y="32"/>
                    </a:lnTo>
                    <a:lnTo>
                      <a:pt x="1043" y="25"/>
                    </a:lnTo>
                    <a:lnTo>
                      <a:pt x="1117" y="19"/>
                    </a:lnTo>
                    <a:lnTo>
                      <a:pt x="1193" y="13"/>
                    </a:lnTo>
                    <a:lnTo>
                      <a:pt x="1269" y="8"/>
                    </a:lnTo>
                    <a:lnTo>
                      <a:pt x="1347" y="5"/>
                    </a:lnTo>
                    <a:lnTo>
                      <a:pt x="1427" y="2"/>
                    </a:lnTo>
                    <a:lnTo>
                      <a:pt x="1508" y="1"/>
                    </a:lnTo>
                    <a:lnTo>
                      <a:pt x="1589" y="0"/>
                    </a:lnTo>
                    <a:lnTo>
                      <a:pt x="1671" y="1"/>
                    </a:lnTo>
                    <a:lnTo>
                      <a:pt x="1752" y="2"/>
                    </a:lnTo>
                    <a:lnTo>
                      <a:pt x="1832" y="5"/>
                    </a:lnTo>
                    <a:lnTo>
                      <a:pt x="1910" y="8"/>
                    </a:lnTo>
                    <a:lnTo>
                      <a:pt x="1986" y="13"/>
                    </a:lnTo>
                    <a:lnTo>
                      <a:pt x="2062" y="19"/>
                    </a:lnTo>
                    <a:lnTo>
                      <a:pt x="2136" y="25"/>
                    </a:lnTo>
                    <a:lnTo>
                      <a:pt x="2209" y="32"/>
                    </a:lnTo>
                    <a:lnTo>
                      <a:pt x="2279" y="41"/>
                    </a:lnTo>
                    <a:lnTo>
                      <a:pt x="2347" y="50"/>
                    </a:lnTo>
                    <a:lnTo>
                      <a:pt x="2414" y="60"/>
                    </a:lnTo>
                    <a:lnTo>
                      <a:pt x="2478" y="70"/>
                    </a:lnTo>
                    <a:lnTo>
                      <a:pt x="2541" y="82"/>
                    </a:lnTo>
                    <a:lnTo>
                      <a:pt x="2600" y="95"/>
                    </a:lnTo>
                    <a:lnTo>
                      <a:pt x="2659" y="108"/>
                    </a:lnTo>
                    <a:lnTo>
                      <a:pt x="2714" y="122"/>
                    </a:lnTo>
                    <a:lnTo>
                      <a:pt x="2766" y="137"/>
                    </a:lnTo>
                    <a:lnTo>
                      <a:pt x="2817" y="152"/>
                    </a:lnTo>
                    <a:lnTo>
                      <a:pt x="2864" y="168"/>
                    </a:lnTo>
                    <a:lnTo>
                      <a:pt x="2907" y="185"/>
                    </a:lnTo>
                    <a:lnTo>
                      <a:pt x="2949" y="203"/>
                    </a:lnTo>
                    <a:lnTo>
                      <a:pt x="2987" y="221"/>
                    </a:lnTo>
                    <a:lnTo>
                      <a:pt x="3023" y="239"/>
                    </a:lnTo>
                    <a:lnTo>
                      <a:pt x="3055" y="258"/>
                    </a:lnTo>
                    <a:lnTo>
                      <a:pt x="3083" y="278"/>
                    </a:lnTo>
                    <a:lnTo>
                      <a:pt x="3107" y="298"/>
                    </a:lnTo>
                    <a:lnTo>
                      <a:pt x="3130" y="319"/>
                    </a:lnTo>
                    <a:lnTo>
                      <a:pt x="3147" y="340"/>
                    </a:lnTo>
                    <a:lnTo>
                      <a:pt x="3161" y="362"/>
                    </a:lnTo>
                    <a:lnTo>
                      <a:pt x="3171" y="384"/>
                    </a:lnTo>
                    <a:lnTo>
                      <a:pt x="3177" y="406"/>
                    </a:lnTo>
                    <a:lnTo>
                      <a:pt x="3179" y="4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116080" y="6525720"/>
                <a:ext cx="349560" cy="104760"/>
              </a:xfrm>
              <a:custGeom>
                <a:avLst/>
                <a:gdLst/>
                <a:ahLst/>
                <a:rect l="l" t="t" r="r" b="b"/>
                <a:pathLst>
                  <a:path w="3177" h="875">
                    <a:moveTo>
                      <a:pt x="3177" y="429"/>
                    </a:moveTo>
                    <a:lnTo>
                      <a:pt x="3175" y="452"/>
                    </a:lnTo>
                    <a:lnTo>
                      <a:pt x="3169" y="474"/>
                    </a:lnTo>
                    <a:lnTo>
                      <a:pt x="3159" y="496"/>
                    </a:lnTo>
                    <a:lnTo>
                      <a:pt x="3145" y="518"/>
                    </a:lnTo>
                    <a:lnTo>
                      <a:pt x="3127" y="540"/>
                    </a:lnTo>
                    <a:lnTo>
                      <a:pt x="3105" y="561"/>
                    </a:lnTo>
                    <a:lnTo>
                      <a:pt x="3080" y="582"/>
                    </a:lnTo>
                    <a:lnTo>
                      <a:pt x="3052" y="602"/>
                    </a:lnTo>
                    <a:lnTo>
                      <a:pt x="3021" y="621"/>
                    </a:lnTo>
                    <a:lnTo>
                      <a:pt x="2985" y="641"/>
                    </a:lnTo>
                    <a:lnTo>
                      <a:pt x="2947" y="660"/>
                    </a:lnTo>
                    <a:lnTo>
                      <a:pt x="2905" y="678"/>
                    </a:lnTo>
                    <a:lnTo>
                      <a:pt x="2861" y="695"/>
                    </a:lnTo>
                    <a:lnTo>
                      <a:pt x="2815" y="712"/>
                    </a:lnTo>
                    <a:lnTo>
                      <a:pt x="2764" y="728"/>
                    </a:lnTo>
                    <a:lnTo>
                      <a:pt x="2712" y="744"/>
                    </a:lnTo>
                    <a:lnTo>
                      <a:pt x="2657" y="759"/>
                    </a:lnTo>
                    <a:lnTo>
                      <a:pt x="2598" y="773"/>
                    </a:lnTo>
                    <a:lnTo>
                      <a:pt x="2539" y="786"/>
                    </a:lnTo>
                    <a:lnTo>
                      <a:pt x="2476" y="798"/>
                    </a:lnTo>
                    <a:lnTo>
                      <a:pt x="2413" y="810"/>
                    </a:lnTo>
                    <a:lnTo>
                      <a:pt x="2346" y="820"/>
                    </a:lnTo>
                    <a:lnTo>
                      <a:pt x="2277" y="830"/>
                    </a:lnTo>
                    <a:lnTo>
                      <a:pt x="2207" y="839"/>
                    </a:lnTo>
                    <a:lnTo>
                      <a:pt x="2135" y="848"/>
                    </a:lnTo>
                    <a:lnTo>
                      <a:pt x="2061" y="855"/>
                    </a:lnTo>
                    <a:lnTo>
                      <a:pt x="1985" y="861"/>
                    </a:lnTo>
                    <a:lnTo>
                      <a:pt x="1909" y="866"/>
                    </a:lnTo>
                    <a:lnTo>
                      <a:pt x="1831" y="870"/>
                    </a:lnTo>
                    <a:lnTo>
                      <a:pt x="1751" y="873"/>
                    </a:lnTo>
                    <a:lnTo>
                      <a:pt x="1670" y="874"/>
                    </a:lnTo>
                    <a:lnTo>
                      <a:pt x="1588" y="875"/>
                    </a:lnTo>
                    <a:lnTo>
                      <a:pt x="1507" y="874"/>
                    </a:lnTo>
                    <a:lnTo>
                      <a:pt x="1426" y="873"/>
                    </a:lnTo>
                    <a:lnTo>
                      <a:pt x="1347" y="870"/>
                    </a:lnTo>
                    <a:lnTo>
                      <a:pt x="1268" y="866"/>
                    </a:lnTo>
                    <a:lnTo>
                      <a:pt x="1192" y="861"/>
                    </a:lnTo>
                    <a:lnTo>
                      <a:pt x="1116" y="855"/>
                    </a:lnTo>
                    <a:lnTo>
                      <a:pt x="1042" y="848"/>
                    </a:lnTo>
                    <a:lnTo>
                      <a:pt x="970" y="839"/>
                    </a:lnTo>
                    <a:lnTo>
                      <a:pt x="900" y="830"/>
                    </a:lnTo>
                    <a:lnTo>
                      <a:pt x="831" y="820"/>
                    </a:lnTo>
                    <a:lnTo>
                      <a:pt x="765" y="810"/>
                    </a:lnTo>
                    <a:lnTo>
                      <a:pt x="701" y="798"/>
                    </a:lnTo>
                    <a:lnTo>
                      <a:pt x="638" y="786"/>
                    </a:lnTo>
                    <a:lnTo>
                      <a:pt x="579" y="773"/>
                    </a:lnTo>
                    <a:lnTo>
                      <a:pt x="521" y="759"/>
                    </a:lnTo>
                    <a:lnTo>
                      <a:pt x="465" y="744"/>
                    </a:lnTo>
                    <a:lnTo>
                      <a:pt x="413" y="728"/>
                    </a:lnTo>
                    <a:lnTo>
                      <a:pt x="362" y="712"/>
                    </a:lnTo>
                    <a:lnTo>
                      <a:pt x="316" y="695"/>
                    </a:lnTo>
                    <a:lnTo>
                      <a:pt x="272" y="678"/>
                    </a:lnTo>
                    <a:lnTo>
                      <a:pt x="230" y="660"/>
                    </a:lnTo>
                    <a:lnTo>
                      <a:pt x="192" y="641"/>
                    </a:lnTo>
                    <a:lnTo>
                      <a:pt x="156" y="621"/>
                    </a:lnTo>
                    <a:lnTo>
                      <a:pt x="125" y="602"/>
                    </a:lnTo>
                    <a:lnTo>
                      <a:pt x="97" y="582"/>
                    </a:lnTo>
                    <a:lnTo>
                      <a:pt x="72" y="561"/>
                    </a:lnTo>
                    <a:lnTo>
                      <a:pt x="50" y="540"/>
                    </a:lnTo>
                    <a:lnTo>
                      <a:pt x="32" y="518"/>
                    </a:lnTo>
                    <a:lnTo>
                      <a:pt x="18" y="496"/>
                    </a:lnTo>
                    <a:lnTo>
                      <a:pt x="8" y="474"/>
                    </a:lnTo>
                    <a:lnTo>
                      <a:pt x="2" y="452"/>
                    </a:lnTo>
                    <a:lnTo>
                      <a:pt x="0" y="429"/>
                    </a:lnTo>
                    <a:lnTo>
                      <a:pt x="2" y="405"/>
                    </a:lnTo>
                    <a:lnTo>
                      <a:pt x="8" y="383"/>
                    </a:lnTo>
                    <a:lnTo>
                      <a:pt x="18" y="361"/>
                    </a:lnTo>
                    <a:lnTo>
                      <a:pt x="32" y="339"/>
                    </a:lnTo>
                    <a:lnTo>
                      <a:pt x="50" y="318"/>
                    </a:lnTo>
                    <a:lnTo>
                      <a:pt x="72" y="297"/>
                    </a:lnTo>
                    <a:lnTo>
                      <a:pt x="97" y="277"/>
                    </a:lnTo>
                    <a:lnTo>
                      <a:pt x="125" y="257"/>
                    </a:lnTo>
                    <a:lnTo>
                      <a:pt x="156" y="238"/>
                    </a:lnTo>
                    <a:lnTo>
                      <a:pt x="192" y="220"/>
                    </a:lnTo>
                    <a:lnTo>
                      <a:pt x="230" y="202"/>
                    </a:lnTo>
                    <a:lnTo>
                      <a:pt x="272" y="184"/>
                    </a:lnTo>
                    <a:lnTo>
                      <a:pt x="316" y="168"/>
                    </a:lnTo>
                    <a:lnTo>
                      <a:pt x="362" y="152"/>
                    </a:lnTo>
                    <a:lnTo>
                      <a:pt x="413" y="136"/>
                    </a:lnTo>
                    <a:lnTo>
                      <a:pt x="465" y="122"/>
                    </a:lnTo>
                    <a:lnTo>
                      <a:pt x="521" y="108"/>
                    </a:lnTo>
                    <a:lnTo>
                      <a:pt x="579" y="95"/>
                    </a:lnTo>
                    <a:lnTo>
                      <a:pt x="638" y="82"/>
                    </a:lnTo>
                    <a:lnTo>
                      <a:pt x="701" y="70"/>
                    </a:lnTo>
                    <a:lnTo>
                      <a:pt x="765" y="59"/>
                    </a:lnTo>
                    <a:lnTo>
                      <a:pt x="831" y="49"/>
                    </a:lnTo>
                    <a:lnTo>
                      <a:pt x="900" y="40"/>
                    </a:lnTo>
                    <a:lnTo>
                      <a:pt x="970" y="32"/>
                    </a:lnTo>
                    <a:lnTo>
                      <a:pt x="1042" y="25"/>
                    </a:lnTo>
                    <a:lnTo>
                      <a:pt x="1116" y="18"/>
                    </a:lnTo>
                    <a:lnTo>
                      <a:pt x="1192" y="13"/>
                    </a:lnTo>
                    <a:lnTo>
                      <a:pt x="1268" y="8"/>
                    </a:lnTo>
                    <a:lnTo>
                      <a:pt x="1347" y="5"/>
                    </a:lnTo>
                    <a:lnTo>
                      <a:pt x="1426" y="2"/>
                    </a:lnTo>
                    <a:lnTo>
                      <a:pt x="1507" y="1"/>
                    </a:lnTo>
                    <a:lnTo>
                      <a:pt x="1588" y="0"/>
                    </a:lnTo>
                    <a:lnTo>
                      <a:pt x="1670" y="1"/>
                    </a:lnTo>
                    <a:lnTo>
                      <a:pt x="1751" y="2"/>
                    </a:lnTo>
                    <a:lnTo>
                      <a:pt x="1831" y="5"/>
                    </a:lnTo>
                    <a:lnTo>
                      <a:pt x="1909" y="8"/>
                    </a:lnTo>
                    <a:lnTo>
                      <a:pt x="1985" y="13"/>
                    </a:lnTo>
                    <a:lnTo>
                      <a:pt x="2061" y="18"/>
                    </a:lnTo>
                    <a:lnTo>
                      <a:pt x="2135" y="25"/>
                    </a:lnTo>
                    <a:lnTo>
                      <a:pt x="2207" y="32"/>
                    </a:lnTo>
                    <a:lnTo>
                      <a:pt x="2277" y="40"/>
                    </a:lnTo>
                    <a:lnTo>
                      <a:pt x="2346" y="49"/>
                    </a:lnTo>
                    <a:lnTo>
                      <a:pt x="2413" y="59"/>
                    </a:lnTo>
                    <a:lnTo>
                      <a:pt x="2476" y="70"/>
                    </a:lnTo>
                    <a:lnTo>
                      <a:pt x="2539" y="82"/>
                    </a:lnTo>
                    <a:lnTo>
                      <a:pt x="2598" y="95"/>
                    </a:lnTo>
                    <a:lnTo>
                      <a:pt x="2657" y="108"/>
                    </a:lnTo>
                    <a:lnTo>
                      <a:pt x="2712" y="122"/>
                    </a:lnTo>
                    <a:lnTo>
                      <a:pt x="2764" y="136"/>
                    </a:lnTo>
                    <a:lnTo>
                      <a:pt x="2815" y="152"/>
                    </a:lnTo>
                    <a:lnTo>
                      <a:pt x="2861" y="168"/>
                    </a:lnTo>
                    <a:lnTo>
                      <a:pt x="2905" y="184"/>
                    </a:lnTo>
                    <a:lnTo>
                      <a:pt x="2947" y="202"/>
                    </a:lnTo>
                    <a:lnTo>
                      <a:pt x="2985" y="220"/>
                    </a:lnTo>
                    <a:lnTo>
                      <a:pt x="3021" y="238"/>
                    </a:lnTo>
                    <a:lnTo>
                      <a:pt x="3052" y="257"/>
                    </a:lnTo>
                    <a:lnTo>
                      <a:pt x="3080" y="277"/>
                    </a:lnTo>
                    <a:lnTo>
                      <a:pt x="3105" y="297"/>
                    </a:lnTo>
                    <a:lnTo>
                      <a:pt x="3127" y="318"/>
                    </a:lnTo>
                    <a:lnTo>
                      <a:pt x="3145" y="339"/>
                    </a:lnTo>
                    <a:lnTo>
                      <a:pt x="3159" y="361"/>
                    </a:lnTo>
                    <a:lnTo>
                      <a:pt x="3169" y="383"/>
                    </a:lnTo>
                    <a:lnTo>
                      <a:pt x="3175" y="405"/>
                    </a:lnTo>
                    <a:lnTo>
                      <a:pt x="3177" y="4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116080" y="6525720"/>
                <a:ext cx="349560" cy="104760"/>
              </a:xfrm>
              <a:custGeom>
                <a:avLst/>
                <a:gdLst/>
                <a:ahLst/>
                <a:rect l="l" t="t" r="r" b="b"/>
                <a:pathLst>
                  <a:path w="3173" h="873">
                    <a:moveTo>
                      <a:pt x="3173" y="428"/>
                    </a:moveTo>
                    <a:lnTo>
                      <a:pt x="3171" y="450"/>
                    </a:lnTo>
                    <a:lnTo>
                      <a:pt x="3165" y="473"/>
                    </a:lnTo>
                    <a:lnTo>
                      <a:pt x="3155" y="495"/>
                    </a:lnTo>
                    <a:lnTo>
                      <a:pt x="3141" y="517"/>
                    </a:lnTo>
                    <a:lnTo>
                      <a:pt x="3124" y="539"/>
                    </a:lnTo>
                    <a:lnTo>
                      <a:pt x="3102" y="560"/>
                    </a:lnTo>
                    <a:lnTo>
                      <a:pt x="3077" y="580"/>
                    </a:lnTo>
                    <a:lnTo>
                      <a:pt x="3049" y="600"/>
                    </a:lnTo>
                    <a:lnTo>
                      <a:pt x="3017" y="620"/>
                    </a:lnTo>
                    <a:lnTo>
                      <a:pt x="2982" y="640"/>
                    </a:lnTo>
                    <a:lnTo>
                      <a:pt x="2944" y="659"/>
                    </a:lnTo>
                    <a:lnTo>
                      <a:pt x="2902" y="676"/>
                    </a:lnTo>
                    <a:lnTo>
                      <a:pt x="2858" y="694"/>
                    </a:lnTo>
                    <a:lnTo>
                      <a:pt x="2812" y="710"/>
                    </a:lnTo>
                    <a:lnTo>
                      <a:pt x="2761" y="726"/>
                    </a:lnTo>
                    <a:lnTo>
                      <a:pt x="2709" y="743"/>
                    </a:lnTo>
                    <a:lnTo>
                      <a:pt x="2654" y="757"/>
                    </a:lnTo>
                    <a:lnTo>
                      <a:pt x="2596" y="771"/>
                    </a:lnTo>
                    <a:lnTo>
                      <a:pt x="2536" y="784"/>
                    </a:lnTo>
                    <a:lnTo>
                      <a:pt x="2474" y="797"/>
                    </a:lnTo>
                    <a:lnTo>
                      <a:pt x="2410" y="808"/>
                    </a:lnTo>
                    <a:lnTo>
                      <a:pt x="2343" y="819"/>
                    </a:lnTo>
                    <a:lnTo>
                      <a:pt x="2274" y="828"/>
                    </a:lnTo>
                    <a:lnTo>
                      <a:pt x="2205" y="837"/>
                    </a:lnTo>
                    <a:lnTo>
                      <a:pt x="2132" y="846"/>
                    </a:lnTo>
                    <a:lnTo>
                      <a:pt x="2058" y="853"/>
                    </a:lnTo>
                    <a:lnTo>
                      <a:pt x="1983" y="859"/>
                    </a:lnTo>
                    <a:lnTo>
                      <a:pt x="1907" y="864"/>
                    </a:lnTo>
                    <a:lnTo>
                      <a:pt x="1828" y="868"/>
                    </a:lnTo>
                    <a:lnTo>
                      <a:pt x="1749" y="871"/>
                    </a:lnTo>
                    <a:lnTo>
                      <a:pt x="1668" y="872"/>
                    </a:lnTo>
                    <a:lnTo>
                      <a:pt x="1586" y="873"/>
                    </a:lnTo>
                    <a:lnTo>
                      <a:pt x="1505" y="872"/>
                    </a:lnTo>
                    <a:lnTo>
                      <a:pt x="1424" y="871"/>
                    </a:lnTo>
                    <a:lnTo>
                      <a:pt x="1345" y="868"/>
                    </a:lnTo>
                    <a:lnTo>
                      <a:pt x="1266" y="864"/>
                    </a:lnTo>
                    <a:lnTo>
                      <a:pt x="1190" y="859"/>
                    </a:lnTo>
                    <a:lnTo>
                      <a:pt x="1115" y="853"/>
                    </a:lnTo>
                    <a:lnTo>
                      <a:pt x="1041" y="846"/>
                    </a:lnTo>
                    <a:lnTo>
                      <a:pt x="968" y="837"/>
                    </a:lnTo>
                    <a:lnTo>
                      <a:pt x="899" y="828"/>
                    </a:lnTo>
                    <a:lnTo>
                      <a:pt x="830" y="819"/>
                    </a:lnTo>
                    <a:lnTo>
                      <a:pt x="763" y="808"/>
                    </a:lnTo>
                    <a:lnTo>
                      <a:pt x="700" y="797"/>
                    </a:lnTo>
                    <a:lnTo>
                      <a:pt x="637" y="784"/>
                    </a:lnTo>
                    <a:lnTo>
                      <a:pt x="578" y="771"/>
                    </a:lnTo>
                    <a:lnTo>
                      <a:pt x="520" y="757"/>
                    </a:lnTo>
                    <a:lnTo>
                      <a:pt x="464" y="743"/>
                    </a:lnTo>
                    <a:lnTo>
                      <a:pt x="412" y="726"/>
                    </a:lnTo>
                    <a:lnTo>
                      <a:pt x="362" y="710"/>
                    </a:lnTo>
                    <a:lnTo>
                      <a:pt x="315" y="694"/>
                    </a:lnTo>
                    <a:lnTo>
                      <a:pt x="271" y="676"/>
                    </a:lnTo>
                    <a:lnTo>
                      <a:pt x="229" y="659"/>
                    </a:lnTo>
                    <a:lnTo>
                      <a:pt x="191" y="640"/>
                    </a:lnTo>
                    <a:lnTo>
                      <a:pt x="156" y="620"/>
                    </a:lnTo>
                    <a:lnTo>
                      <a:pt x="124" y="600"/>
                    </a:lnTo>
                    <a:lnTo>
                      <a:pt x="96" y="580"/>
                    </a:lnTo>
                    <a:lnTo>
                      <a:pt x="71" y="560"/>
                    </a:lnTo>
                    <a:lnTo>
                      <a:pt x="49" y="539"/>
                    </a:lnTo>
                    <a:lnTo>
                      <a:pt x="32" y="517"/>
                    </a:lnTo>
                    <a:lnTo>
                      <a:pt x="18" y="495"/>
                    </a:lnTo>
                    <a:lnTo>
                      <a:pt x="8" y="473"/>
                    </a:lnTo>
                    <a:lnTo>
                      <a:pt x="2" y="450"/>
                    </a:lnTo>
                    <a:lnTo>
                      <a:pt x="0" y="428"/>
                    </a:lnTo>
                    <a:lnTo>
                      <a:pt x="2" y="404"/>
                    </a:lnTo>
                    <a:lnTo>
                      <a:pt x="8" y="382"/>
                    </a:lnTo>
                    <a:lnTo>
                      <a:pt x="18" y="360"/>
                    </a:lnTo>
                    <a:lnTo>
                      <a:pt x="32" y="339"/>
                    </a:lnTo>
                    <a:lnTo>
                      <a:pt x="49" y="318"/>
                    </a:lnTo>
                    <a:lnTo>
                      <a:pt x="71" y="296"/>
                    </a:lnTo>
                    <a:lnTo>
                      <a:pt x="96" y="276"/>
                    </a:lnTo>
                    <a:lnTo>
                      <a:pt x="124" y="257"/>
                    </a:lnTo>
                    <a:lnTo>
                      <a:pt x="156" y="238"/>
                    </a:lnTo>
                    <a:lnTo>
                      <a:pt x="191" y="220"/>
                    </a:lnTo>
                    <a:lnTo>
                      <a:pt x="229" y="202"/>
                    </a:lnTo>
                    <a:lnTo>
                      <a:pt x="271" y="184"/>
                    </a:lnTo>
                    <a:lnTo>
                      <a:pt x="315" y="167"/>
                    </a:lnTo>
                    <a:lnTo>
                      <a:pt x="362" y="151"/>
                    </a:lnTo>
                    <a:lnTo>
                      <a:pt x="412" y="136"/>
                    </a:lnTo>
                    <a:lnTo>
                      <a:pt x="464" y="122"/>
                    </a:lnTo>
                    <a:lnTo>
                      <a:pt x="520" y="108"/>
                    </a:lnTo>
                    <a:lnTo>
                      <a:pt x="578" y="95"/>
                    </a:lnTo>
                    <a:lnTo>
                      <a:pt x="637" y="81"/>
                    </a:lnTo>
                    <a:lnTo>
                      <a:pt x="700" y="70"/>
                    </a:lnTo>
                    <a:lnTo>
                      <a:pt x="763" y="59"/>
                    </a:lnTo>
                    <a:lnTo>
                      <a:pt x="830" y="49"/>
                    </a:lnTo>
                    <a:lnTo>
                      <a:pt x="899" y="40"/>
                    </a:lnTo>
                    <a:lnTo>
                      <a:pt x="968" y="32"/>
                    </a:lnTo>
                    <a:lnTo>
                      <a:pt x="1041" y="25"/>
                    </a:lnTo>
                    <a:lnTo>
                      <a:pt x="1115" y="18"/>
                    </a:lnTo>
                    <a:lnTo>
                      <a:pt x="1190" y="13"/>
                    </a:lnTo>
                    <a:lnTo>
                      <a:pt x="1266" y="8"/>
                    </a:lnTo>
                    <a:lnTo>
                      <a:pt x="1345" y="5"/>
                    </a:lnTo>
                    <a:lnTo>
                      <a:pt x="1424" y="2"/>
                    </a:lnTo>
                    <a:lnTo>
                      <a:pt x="1505" y="1"/>
                    </a:lnTo>
                    <a:lnTo>
                      <a:pt x="1586" y="0"/>
                    </a:lnTo>
                    <a:lnTo>
                      <a:pt x="1668" y="1"/>
                    </a:lnTo>
                    <a:lnTo>
                      <a:pt x="1749" y="2"/>
                    </a:lnTo>
                    <a:lnTo>
                      <a:pt x="1828" y="5"/>
                    </a:lnTo>
                    <a:lnTo>
                      <a:pt x="1907" y="8"/>
                    </a:lnTo>
                    <a:lnTo>
                      <a:pt x="1983" y="13"/>
                    </a:lnTo>
                    <a:lnTo>
                      <a:pt x="2058" y="18"/>
                    </a:lnTo>
                    <a:lnTo>
                      <a:pt x="2132" y="25"/>
                    </a:lnTo>
                    <a:lnTo>
                      <a:pt x="2205" y="32"/>
                    </a:lnTo>
                    <a:lnTo>
                      <a:pt x="2274" y="40"/>
                    </a:lnTo>
                    <a:lnTo>
                      <a:pt x="2343" y="49"/>
                    </a:lnTo>
                    <a:lnTo>
                      <a:pt x="2410" y="59"/>
                    </a:lnTo>
                    <a:lnTo>
                      <a:pt x="2474" y="70"/>
                    </a:lnTo>
                    <a:lnTo>
                      <a:pt x="2536" y="81"/>
                    </a:lnTo>
                    <a:lnTo>
                      <a:pt x="2596" y="95"/>
                    </a:lnTo>
                    <a:lnTo>
                      <a:pt x="2654" y="108"/>
                    </a:lnTo>
                    <a:lnTo>
                      <a:pt x="2709" y="122"/>
                    </a:lnTo>
                    <a:lnTo>
                      <a:pt x="2761" y="136"/>
                    </a:lnTo>
                    <a:lnTo>
                      <a:pt x="2812" y="151"/>
                    </a:lnTo>
                    <a:lnTo>
                      <a:pt x="2858" y="167"/>
                    </a:lnTo>
                    <a:lnTo>
                      <a:pt x="2902" y="184"/>
                    </a:lnTo>
                    <a:lnTo>
                      <a:pt x="2944" y="202"/>
                    </a:lnTo>
                    <a:lnTo>
                      <a:pt x="2982" y="220"/>
                    </a:lnTo>
                    <a:lnTo>
                      <a:pt x="3017" y="238"/>
                    </a:lnTo>
                    <a:lnTo>
                      <a:pt x="3049" y="257"/>
                    </a:lnTo>
                    <a:lnTo>
                      <a:pt x="3077" y="276"/>
                    </a:lnTo>
                    <a:lnTo>
                      <a:pt x="3102" y="296"/>
                    </a:lnTo>
                    <a:lnTo>
                      <a:pt x="3124" y="318"/>
                    </a:lnTo>
                    <a:lnTo>
                      <a:pt x="3141" y="339"/>
                    </a:lnTo>
                    <a:lnTo>
                      <a:pt x="3155" y="360"/>
                    </a:lnTo>
                    <a:lnTo>
                      <a:pt x="3165" y="382"/>
                    </a:lnTo>
                    <a:lnTo>
                      <a:pt x="3171" y="404"/>
                    </a:lnTo>
                    <a:lnTo>
                      <a:pt x="3173" y="4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116080" y="6525720"/>
                <a:ext cx="349560" cy="103680"/>
              </a:xfrm>
              <a:custGeom>
                <a:avLst/>
                <a:gdLst/>
                <a:ahLst/>
                <a:rect l="l" t="t" r="r" b="b"/>
                <a:pathLst>
                  <a:path w="3171" h="871">
                    <a:moveTo>
                      <a:pt x="3171" y="427"/>
                    </a:moveTo>
                    <a:lnTo>
                      <a:pt x="3169" y="449"/>
                    </a:lnTo>
                    <a:lnTo>
                      <a:pt x="3163" y="472"/>
                    </a:lnTo>
                    <a:lnTo>
                      <a:pt x="3153" y="494"/>
                    </a:lnTo>
                    <a:lnTo>
                      <a:pt x="3139" y="515"/>
                    </a:lnTo>
                    <a:lnTo>
                      <a:pt x="3122" y="538"/>
                    </a:lnTo>
                    <a:lnTo>
                      <a:pt x="3099" y="559"/>
                    </a:lnTo>
                    <a:lnTo>
                      <a:pt x="3075" y="579"/>
                    </a:lnTo>
                    <a:lnTo>
                      <a:pt x="3047" y="599"/>
                    </a:lnTo>
                    <a:lnTo>
                      <a:pt x="3015" y="619"/>
                    </a:lnTo>
                    <a:lnTo>
                      <a:pt x="2979" y="639"/>
                    </a:lnTo>
                    <a:lnTo>
                      <a:pt x="2942" y="657"/>
                    </a:lnTo>
                    <a:lnTo>
                      <a:pt x="2900" y="675"/>
                    </a:lnTo>
                    <a:lnTo>
                      <a:pt x="2856" y="692"/>
                    </a:lnTo>
                    <a:lnTo>
                      <a:pt x="2808" y="709"/>
                    </a:lnTo>
                    <a:lnTo>
                      <a:pt x="2759" y="725"/>
                    </a:lnTo>
                    <a:lnTo>
                      <a:pt x="2706" y="741"/>
                    </a:lnTo>
                    <a:lnTo>
                      <a:pt x="2652" y="756"/>
                    </a:lnTo>
                    <a:lnTo>
                      <a:pt x="2594" y="769"/>
                    </a:lnTo>
                    <a:lnTo>
                      <a:pt x="2534" y="783"/>
                    </a:lnTo>
                    <a:lnTo>
                      <a:pt x="2472" y="795"/>
                    </a:lnTo>
                    <a:lnTo>
                      <a:pt x="2408" y="806"/>
                    </a:lnTo>
                    <a:lnTo>
                      <a:pt x="2341" y="817"/>
                    </a:lnTo>
                    <a:lnTo>
                      <a:pt x="2273" y="827"/>
                    </a:lnTo>
                    <a:lnTo>
                      <a:pt x="2203" y="835"/>
                    </a:lnTo>
                    <a:lnTo>
                      <a:pt x="2131" y="844"/>
                    </a:lnTo>
                    <a:lnTo>
                      <a:pt x="2057" y="851"/>
                    </a:lnTo>
                    <a:lnTo>
                      <a:pt x="1981" y="857"/>
                    </a:lnTo>
                    <a:lnTo>
                      <a:pt x="1905" y="862"/>
                    </a:lnTo>
                    <a:lnTo>
                      <a:pt x="1827" y="866"/>
                    </a:lnTo>
                    <a:lnTo>
                      <a:pt x="1748" y="869"/>
                    </a:lnTo>
                    <a:lnTo>
                      <a:pt x="1667" y="870"/>
                    </a:lnTo>
                    <a:lnTo>
                      <a:pt x="1585" y="871"/>
                    </a:lnTo>
                    <a:lnTo>
                      <a:pt x="1504" y="870"/>
                    </a:lnTo>
                    <a:lnTo>
                      <a:pt x="1424" y="869"/>
                    </a:lnTo>
                    <a:lnTo>
                      <a:pt x="1344" y="866"/>
                    </a:lnTo>
                    <a:lnTo>
                      <a:pt x="1266" y="862"/>
                    </a:lnTo>
                    <a:lnTo>
                      <a:pt x="1190" y="857"/>
                    </a:lnTo>
                    <a:lnTo>
                      <a:pt x="1114" y="851"/>
                    </a:lnTo>
                    <a:lnTo>
                      <a:pt x="1040" y="844"/>
                    </a:lnTo>
                    <a:lnTo>
                      <a:pt x="968" y="835"/>
                    </a:lnTo>
                    <a:lnTo>
                      <a:pt x="898" y="827"/>
                    </a:lnTo>
                    <a:lnTo>
                      <a:pt x="830" y="817"/>
                    </a:lnTo>
                    <a:lnTo>
                      <a:pt x="763" y="806"/>
                    </a:lnTo>
                    <a:lnTo>
                      <a:pt x="699" y="795"/>
                    </a:lnTo>
                    <a:lnTo>
                      <a:pt x="637" y="783"/>
                    </a:lnTo>
                    <a:lnTo>
                      <a:pt x="577" y="769"/>
                    </a:lnTo>
                    <a:lnTo>
                      <a:pt x="519" y="756"/>
                    </a:lnTo>
                    <a:lnTo>
                      <a:pt x="464" y="741"/>
                    </a:lnTo>
                    <a:lnTo>
                      <a:pt x="412" y="725"/>
                    </a:lnTo>
                    <a:lnTo>
                      <a:pt x="362" y="709"/>
                    </a:lnTo>
                    <a:lnTo>
                      <a:pt x="315" y="692"/>
                    </a:lnTo>
                    <a:lnTo>
                      <a:pt x="271" y="675"/>
                    </a:lnTo>
                    <a:lnTo>
                      <a:pt x="229" y="657"/>
                    </a:lnTo>
                    <a:lnTo>
                      <a:pt x="192" y="639"/>
                    </a:lnTo>
                    <a:lnTo>
                      <a:pt x="156" y="619"/>
                    </a:lnTo>
                    <a:lnTo>
                      <a:pt x="125" y="599"/>
                    </a:lnTo>
                    <a:lnTo>
                      <a:pt x="96" y="579"/>
                    </a:lnTo>
                    <a:lnTo>
                      <a:pt x="72" y="559"/>
                    </a:lnTo>
                    <a:lnTo>
                      <a:pt x="50" y="538"/>
                    </a:lnTo>
                    <a:lnTo>
                      <a:pt x="32" y="515"/>
                    </a:lnTo>
                    <a:lnTo>
                      <a:pt x="18" y="494"/>
                    </a:lnTo>
                    <a:lnTo>
                      <a:pt x="8" y="472"/>
                    </a:lnTo>
                    <a:lnTo>
                      <a:pt x="2" y="449"/>
                    </a:lnTo>
                    <a:lnTo>
                      <a:pt x="0" y="427"/>
                    </a:lnTo>
                    <a:lnTo>
                      <a:pt x="2" y="403"/>
                    </a:lnTo>
                    <a:lnTo>
                      <a:pt x="8" y="381"/>
                    </a:lnTo>
                    <a:lnTo>
                      <a:pt x="18" y="359"/>
                    </a:lnTo>
                    <a:lnTo>
                      <a:pt x="32" y="338"/>
                    </a:lnTo>
                    <a:lnTo>
                      <a:pt x="50" y="317"/>
                    </a:lnTo>
                    <a:lnTo>
                      <a:pt x="72" y="295"/>
                    </a:lnTo>
                    <a:lnTo>
                      <a:pt x="96" y="276"/>
                    </a:lnTo>
                    <a:lnTo>
                      <a:pt x="125" y="256"/>
                    </a:lnTo>
                    <a:lnTo>
                      <a:pt x="156" y="237"/>
                    </a:lnTo>
                    <a:lnTo>
                      <a:pt x="192" y="219"/>
                    </a:lnTo>
                    <a:lnTo>
                      <a:pt x="229" y="201"/>
                    </a:lnTo>
                    <a:lnTo>
                      <a:pt x="271" y="183"/>
                    </a:lnTo>
                    <a:lnTo>
                      <a:pt x="315" y="167"/>
                    </a:lnTo>
                    <a:lnTo>
                      <a:pt x="362" y="151"/>
                    </a:lnTo>
                    <a:lnTo>
                      <a:pt x="412" y="136"/>
                    </a:lnTo>
                    <a:lnTo>
                      <a:pt x="464" y="121"/>
                    </a:lnTo>
                    <a:lnTo>
                      <a:pt x="519" y="107"/>
                    </a:lnTo>
                    <a:lnTo>
                      <a:pt x="577" y="94"/>
                    </a:lnTo>
                    <a:lnTo>
                      <a:pt x="637" y="81"/>
                    </a:lnTo>
                    <a:lnTo>
                      <a:pt x="699" y="70"/>
                    </a:lnTo>
                    <a:lnTo>
                      <a:pt x="763" y="59"/>
                    </a:lnTo>
                    <a:lnTo>
                      <a:pt x="830" y="49"/>
                    </a:lnTo>
                    <a:lnTo>
                      <a:pt x="898" y="40"/>
                    </a:lnTo>
                    <a:lnTo>
                      <a:pt x="968" y="32"/>
                    </a:lnTo>
                    <a:lnTo>
                      <a:pt x="1040" y="25"/>
                    </a:lnTo>
                    <a:lnTo>
                      <a:pt x="1114" y="18"/>
                    </a:lnTo>
                    <a:lnTo>
                      <a:pt x="1190" y="13"/>
                    </a:lnTo>
                    <a:lnTo>
                      <a:pt x="1266" y="8"/>
                    </a:lnTo>
                    <a:lnTo>
                      <a:pt x="1344" y="5"/>
                    </a:lnTo>
                    <a:lnTo>
                      <a:pt x="1424" y="2"/>
                    </a:lnTo>
                    <a:lnTo>
                      <a:pt x="1504" y="1"/>
                    </a:lnTo>
                    <a:lnTo>
                      <a:pt x="1585" y="0"/>
                    </a:lnTo>
                    <a:lnTo>
                      <a:pt x="1667" y="1"/>
                    </a:lnTo>
                    <a:lnTo>
                      <a:pt x="1748" y="2"/>
                    </a:lnTo>
                    <a:lnTo>
                      <a:pt x="1827" y="5"/>
                    </a:lnTo>
                    <a:lnTo>
                      <a:pt x="1905" y="8"/>
                    </a:lnTo>
                    <a:lnTo>
                      <a:pt x="1981" y="13"/>
                    </a:lnTo>
                    <a:lnTo>
                      <a:pt x="2057" y="18"/>
                    </a:lnTo>
                    <a:lnTo>
                      <a:pt x="2131" y="25"/>
                    </a:lnTo>
                    <a:lnTo>
                      <a:pt x="2203" y="32"/>
                    </a:lnTo>
                    <a:lnTo>
                      <a:pt x="2273" y="40"/>
                    </a:lnTo>
                    <a:lnTo>
                      <a:pt x="2341" y="49"/>
                    </a:lnTo>
                    <a:lnTo>
                      <a:pt x="2408" y="59"/>
                    </a:lnTo>
                    <a:lnTo>
                      <a:pt x="2472" y="70"/>
                    </a:lnTo>
                    <a:lnTo>
                      <a:pt x="2534" y="81"/>
                    </a:lnTo>
                    <a:lnTo>
                      <a:pt x="2594" y="94"/>
                    </a:lnTo>
                    <a:lnTo>
                      <a:pt x="2652" y="107"/>
                    </a:lnTo>
                    <a:lnTo>
                      <a:pt x="2706" y="121"/>
                    </a:lnTo>
                    <a:lnTo>
                      <a:pt x="2759" y="136"/>
                    </a:lnTo>
                    <a:lnTo>
                      <a:pt x="2808" y="151"/>
                    </a:lnTo>
                    <a:lnTo>
                      <a:pt x="2856" y="167"/>
                    </a:lnTo>
                    <a:lnTo>
                      <a:pt x="2900" y="183"/>
                    </a:lnTo>
                    <a:lnTo>
                      <a:pt x="2942" y="201"/>
                    </a:lnTo>
                    <a:lnTo>
                      <a:pt x="2979" y="219"/>
                    </a:lnTo>
                    <a:lnTo>
                      <a:pt x="3015" y="237"/>
                    </a:lnTo>
                    <a:lnTo>
                      <a:pt x="3047" y="256"/>
                    </a:lnTo>
                    <a:lnTo>
                      <a:pt x="3075" y="276"/>
                    </a:lnTo>
                    <a:lnTo>
                      <a:pt x="3099" y="295"/>
                    </a:lnTo>
                    <a:lnTo>
                      <a:pt x="3122" y="317"/>
                    </a:lnTo>
                    <a:lnTo>
                      <a:pt x="3139" y="338"/>
                    </a:lnTo>
                    <a:lnTo>
                      <a:pt x="3153" y="359"/>
                    </a:lnTo>
                    <a:lnTo>
                      <a:pt x="3163" y="381"/>
                    </a:lnTo>
                    <a:lnTo>
                      <a:pt x="3169" y="403"/>
                    </a:lnTo>
                    <a:lnTo>
                      <a:pt x="3171" y="4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116080" y="6525720"/>
                <a:ext cx="349560" cy="103680"/>
              </a:xfrm>
              <a:custGeom>
                <a:avLst/>
                <a:gdLst/>
                <a:ahLst/>
                <a:rect l="l" t="t" r="r" b="b"/>
                <a:pathLst>
                  <a:path w="3168" h="869">
                    <a:moveTo>
                      <a:pt x="3168" y="426"/>
                    </a:moveTo>
                    <a:lnTo>
                      <a:pt x="3165" y="448"/>
                    </a:lnTo>
                    <a:lnTo>
                      <a:pt x="3159" y="471"/>
                    </a:lnTo>
                    <a:lnTo>
                      <a:pt x="3149" y="493"/>
                    </a:lnTo>
                    <a:lnTo>
                      <a:pt x="3136" y="514"/>
                    </a:lnTo>
                    <a:lnTo>
                      <a:pt x="3118" y="537"/>
                    </a:lnTo>
                    <a:lnTo>
                      <a:pt x="3096" y="557"/>
                    </a:lnTo>
                    <a:lnTo>
                      <a:pt x="3071" y="578"/>
                    </a:lnTo>
                    <a:lnTo>
                      <a:pt x="3043" y="598"/>
                    </a:lnTo>
                    <a:lnTo>
                      <a:pt x="3012" y="617"/>
                    </a:lnTo>
                    <a:lnTo>
                      <a:pt x="2976" y="637"/>
                    </a:lnTo>
                    <a:lnTo>
                      <a:pt x="2938" y="656"/>
                    </a:lnTo>
                    <a:lnTo>
                      <a:pt x="2897" y="673"/>
                    </a:lnTo>
                    <a:lnTo>
                      <a:pt x="2853" y="691"/>
                    </a:lnTo>
                    <a:lnTo>
                      <a:pt x="2805" y="707"/>
                    </a:lnTo>
                    <a:lnTo>
                      <a:pt x="2756" y="723"/>
                    </a:lnTo>
                    <a:lnTo>
                      <a:pt x="2703" y="739"/>
                    </a:lnTo>
                    <a:lnTo>
                      <a:pt x="2649" y="754"/>
                    </a:lnTo>
                    <a:lnTo>
                      <a:pt x="2591" y="768"/>
                    </a:lnTo>
                    <a:lnTo>
                      <a:pt x="2531" y="781"/>
                    </a:lnTo>
                    <a:lnTo>
                      <a:pt x="2469" y="793"/>
                    </a:lnTo>
                    <a:lnTo>
                      <a:pt x="2405" y="804"/>
                    </a:lnTo>
                    <a:lnTo>
                      <a:pt x="2339" y="815"/>
                    </a:lnTo>
                    <a:lnTo>
                      <a:pt x="2270" y="825"/>
                    </a:lnTo>
                    <a:lnTo>
                      <a:pt x="2201" y="834"/>
                    </a:lnTo>
                    <a:lnTo>
                      <a:pt x="2128" y="842"/>
                    </a:lnTo>
                    <a:lnTo>
                      <a:pt x="2054" y="849"/>
                    </a:lnTo>
                    <a:lnTo>
                      <a:pt x="1979" y="855"/>
                    </a:lnTo>
                    <a:lnTo>
                      <a:pt x="1903" y="860"/>
                    </a:lnTo>
                    <a:lnTo>
                      <a:pt x="1825" y="864"/>
                    </a:lnTo>
                    <a:lnTo>
                      <a:pt x="1745" y="867"/>
                    </a:lnTo>
                    <a:lnTo>
                      <a:pt x="1665" y="869"/>
                    </a:lnTo>
                    <a:lnTo>
                      <a:pt x="1583" y="869"/>
                    </a:lnTo>
                    <a:lnTo>
                      <a:pt x="1502" y="869"/>
                    </a:lnTo>
                    <a:lnTo>
                      <a:pt x="1422" y="867"/>
                    </a:lnTo>
                    <a:lnTo>
                      <a:pt x="1342" y="864"/>
                    </a:lnTo>
                    <a:lnTo>
                      <a:pt x="1264" y="860"/>
                    </a:lnTo>
                    <a:lnTo>
                      <a:pt x="1188" y="855"/>
                    </a:lnTo>
                    <a:lnTo>
                      <a:pt x="1113" y="849"/>
                    </a:lnTo>
                    <a:lnTo>
                      <a:pt x="1039" y="842"/>
                    </a:lnTo>
                    <a:lnTo>
                      <a:pt x="967" y="834"/>
                    </a:lnTo>
                    <a:lnTo>
                      <a:pt x="897" y="825"/>
                    </a:lnTo>
                    <a:lnTo>
                      <a:pt x="828" y="815"/>
                    </a:lnTo>
                    <a:lnTo>
                      <a:pt x="762" y="804"/>
                    </a:lnTo>
                    <a:lnTo>
                      <a:pt x="698" y="793"/>
                    </a:lnTo>
                    <a:lnTo>
                      <a:pt x="636" y="781"/>
                    </a:lnTo>
                    <a:lnTo>
                      <a:pt x="576" y="768"/>
                    </a:lnTo>
                    <a:lnTo>
                      <a:pt x="518" y="754"/>
                    </a:lnTo>
                    <a:lnTo>
                      <a:pt x="463" y="739"/>
                    </a:lnTo>
                    <a:lnTo>
                      <a:pt x="411" y="723"/>
                    </a:lnTo>
                    <a:lnTo>
                      <a:pt x="361" y="707"/>
                    </a:lnTo>
                    <a:lnTo>
                      <a:pt x="314" y="691"/>
                    </a:lnTo>
                    <a:lnTo>
                      <a:pt x="270" y="673"/>
                    </a:lnTo>
                    <a:lnTo>
                      <a:pt x="229" y="656"/>
                    </a:lnTo>
                    <a:lnTo>
                      <a:pt x="191" y="637"/>
                    </a:lnTo>
                    <a:lnTo>
                      <a:pt x="155" y="617"/>
                    </a:lnTo>
                    <a:lnTo>
                      <a:pt x="124" y="598"/>
                    </a:lnTo>
                    <a:lnTo>
                      <a:pt x="96" y="578"/>
                    </a:lnTo>
                    <a:lnTo>
                      <a:pt x="71" y="557"/>
                    </a:lnTo>
                    <a:lnTo>
                      <a:pt x="49" y="537"/>
                    </a:lnTo>
                    <a:lnTo>
                      <a:pt x="31" y="514"/>
                    </a:lnTo>
                    <a:lnTo>
                      <a:pt x="18" y="493"/>
                    </a:lnTo>
                    <a:lnTo>
                      <a:pt x="8" y="471"/>
                    </a:lnTo>
                    <a:lnTo>
                      <a:pt x="2" y="448"/>
                    </a:lnTo>
                    <a:lnTo>
                      <a:pt x="0" y="426"/>
                    </a:lnTo>
                    <a:lnTo>
                      <a:pt x="2" y="402"/>
                    </a:lnTo>
                    <a:lnTo>
                      <a:pt x="8" y="380"/>
                    </a:lnTo>
                    <a:lnTo>
                      <a:pt x="18" y="358"/>
                    </a:lnTo>
                    <a:lnTo>
                      <a:pt x="31" y="337"/>
                    </a:lnTo>
                    <a:lnTo>
                      <a:pt x="49" y="316"/>
                    </a:lnTo>
                    <a:lnTo>
                      <a:pt x="71" y="295"/>
                    </a:lnTo>
                    <a:lnTo>
                      <a:pt x="96" y="275"/>
                    </a:lnTo>
                    <a:lnTo>
                      <a:pt x="124" y="256"/>
                    </a:lnTo>
                    <a:lnTo>
                      <a:pt x="155" y="237"/>
                    </a:lnTo>
                    <a:lnTo>
                      <a:pt x="191" y="218"/>
                    </a:lnTo>
                    <a:lnTo>
                      <a:pt x="229" y="201"/>
                    </a:lnTo>
                    <a:lnTo>
                      <a:pt x="270" y="183"/>
                    </a:lnTo>
                    <a:lnTo>
                      <a:pt x="314" y="166"/>
                    </a:lnTo>
                    <a:lnTo>
                      <a:pt x="361" y="150"/>
                    </a:lnTo>
                    <a:lnTo>
                      <a:pt x="411" y="135"/>
                    </a:lnTo>
                    <a:lnTo>
                      <a:pt x="463" y="121"/>
                    </a:lnTo>
                    <a:lnTo>
                      <a:pt x="518" y="107"/>
                    </a:lnTo>
                    <a:lnTo>
                      <a:pt x="576" y="94"/>
                    </a:lnTo>
                    <a:lnTo>
                      <a:pt x="636" y="81"/>
                    </a:lnTo>
                    <a:lnTo>
                      <a:pt x="698" y="69"/>
                    </a:lnTo>
                    <a:lnTo>
                      <a:pt x="762" y="59"/>
                    </a:lnTo>
                    <a:lnTo>
                      <a:pt x="828" y="49"/>
                    </a:lnTo>
                    <a:lnTo>
                      <a:pt x="897" y="40"/>
                    </a:lnTo>
                    <a:lnTo>
                      <a:pt x="967" y="32"/>
                    </a:lnTo>
                    <a:lnTo>
                      <a:pt x="1039" y="24"/>
                    </a:lnTo>
                    <a:lnTo>
                      <a:pt x="1113" y="18"/>
                    </a:lnTo>
                    <a:lnTo>
                      <a:pt x="1188" y="13"/>
                    </a:lnTo>
                    <a:lnTo>
                      <a:pt x="1264" y="8"/>
                    </a:lnTo>
                    <a:lnTo>
                      <a:pt x="1342" y="5"/>
                    </a:lnTo>
                    <a:lnTo>
                      <a:pt x="1422" y="2"/>
                    </a:lnTo>
                    <a:lnTo>
                      <a:pt x="1502" y="0"/>
                    </a:lnTo>
                    <a:lnTo>
                      <a:pt x="1583" y="0"/>
                    </a:lnTo>
                    <a:lnTo>
                      <a:pt x="1665" y="0"/>
                    </a:lnTo>
                    <a:lnTo>
                      <a:pt x="1745" y="2"/>
                    </a:lnTo>
                    <a:lnTo>
                      <a:pt x="1825" y="5"/>
                    </a:lnTo>
                    <a:lnTo>
                      <a:pt x="1903" y="8"/>
                    </a:lnTo>
                    <a:lnTo>
                      <a:pt x="1979" y="13"/>
                    </a:lnTo>
                    <a:lnTo>
                      <a:pt x="2054" y="18"/>
                    </a:lnTo>
                    <a:lnTo>
                      <a:pt x="2128" y="24"/>
                    </a:lnTo>
                    <a:lnTo>
                      <a:pt x="2201" y="32"/>
                    </a:lnTo>
                    <a:lnTo>
                      <a:pt x="2270" y="40"/>
                    </a:lnTo>
                    <a:lnTo>
                      <a:pt x="2339" y="49"/>
                    </a:lnTo>
                    <a:lnTo>
                      <a:pt x="2405" y="59"/>
                    </a:lnTo>
                    <a:lnTo>
                      <a:pt x="2469" y="69"/>
                    </a:lnTo>
                    <a:lnTo>
                      <a:pt x="2531" y="81"/>
                    </a:lnTo>
                    <a:lnTo>
                      <a:pt x="2591" y="94"/>
                    </a:lnTo>
                    <a:lnTo>
                      <a:pt x="2649" y="107"/>
                    </a:lnTo>
                    <a:lnTo>
                      <a:pt x="2703" y="121"/>
                    </a:lnTo>
                    <a:lnTo>
                      <a:pt x="2756" y="135"/>
                    </a:lnTo>
                    <a:lnTo>
                      <a:pt x="2805" y="150"/>
                    </a:lnTo>
                    <a:lnTo>
                      <a:pt x="2853" y="166"/>
                    </a:lnTo>
                    <a:lnTo>
                      <a:pt x="2897" y="183"/>
                    </a:lnTo>
                    <a:lnTo>
                      <a:pt x="2938" y="201"/>
                    </a:lnTo>
                    <a:lnTo>
                      <a:pt x="2976" y="218"/>
                    </a:lnTo>
                    <a:lnTo>
                      <a:pt x="3012" y="237"/>
                    </a:lnTo>
                    <a:lnTo>
                      <a:pt x="3043" y="256"/>
                    </a:lnTo>
                    <a:lnTo>
                      <a:pt x="3071" y="275"/>
                    </a:lnTo>
                    <a:lnTo>
                      <a:pt x="3096" y="295"/>
                    </a:lnTo>
                    <a:lnTo>
                      <a:pt x="3118" y="316"/>
                    </a:lnTo>
                    <a:lnTo>
                      <a:pt x="3136" y="337"/>
                    </a:lnTo>
                    <a:lnTo>
                      <a:pt x="3149" y="358"/>
                    </a:lnTo>
                    <a:lnTo>
                      <a:pt x="3159" y="380"/>
                    </a:lnTo>
                    <a:lnTo>
                      <a:pt x="3165" y="402"/>
                    </a:lnTo>
                    <a:lnTo>
                      <a:pt x="3168" y="4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116080" y="6525720"/>
                <a:ext cx="349560" cy="103680"/>
              </a:xfrm>
              <a:custGeom>
                <a:avLst/>
                <a:gdLst/>
                <a:ahLst/>
                <a:rect l="l" t="t" r="r" b="b"/>
                <a:pathLst>
                  <a:path w="3165" h="867">
                    <a:moveTo>
                      <a:pt x="3165" y="425"/>
                    </a:moveTo>
                    <a:lnTo>
                      <a:pt x="3163" y="447"/>
                    </a:lnTo>
                    <a:lnTo>
                      <a:pt x="3157" y="470"/>
                    </a:lnTo>
                    <a:lnTo>
                      <a:pt x="3147" y="492"/>
                    </a:lnTo>
                    <a:lnTo>
                      <a:pt x="3133" y="513"/>
                    </a:lnTo>
                    <a:lnTo>
                      <a:pt x="3116" y="535"/>
                    </a:lnTo>
                    <a:lnTo>
                      <a:pt x="3094" y="556"/>
                    </a:lnTo>
                    <a:lnTo>
                      <a:pt x="3069" y="577"/>
                    </a:lnTo>
                    <a:lnTo>
                      <a:pt x="3041" y="596"/>
                    </a:lnTo>
                    <a:lnTo>
                      <a:pt x="3010" y="616"/>
                    </a:lnTo>
                    <a:lnTo>
                      <a:pt x="2974" y="636"/>
                    </a:lnTo>
                    <a:lnTo>
                      <a:pt x="2936" y="654"/>
                    </a:lnTo>
                    <a:lnTo>
                      <a:pt x="2894" y="672"/>
                    </a:lnTo>
                    <a:lnTo>
                      <a:pt x="2851" y="689"/>
                    </a:lnTo>
                    <a:lnTo>
                      <a:pt x="2803" y="706"/>
                    </a:lnTo>
                    <a:lnTo>
                      <a:pt x="2754" y="722"/>
                    </a:lnTo>
                    <a:lnTo>
                      <a:pt x="2701" y="738"/>
                    </a:lnTo>
                    <a:lnTo>
                      <a:pt x="2647" y="752"/>
                    </a:lnTo>
                    <a:lnTo>
                      <a:pt x="2589" y="766"/>
                    </a:lnTo>
                    <a:lnTo>
                      <a:pt x="2530" y="779"/>
                    </a:lnTo>
                    <a:lnTo>
                      <a:pt x="2467" y="791"/>
                    </a:lnTo>
                    <a:lnTo>
                      <a:pt x="2404" y="803"/>
                    </a:lnTo>
                    <a:lnTo>
                      <a:pt x="2337" y="813"/>
                    </a:lnTo>
                    <a:lnTo>
                      <a:pt x="2268" y="823"/>
                    </a:lnTo>
                    <a:lnTo>
                      <a:pt x="2199" y="832"/>
                    </a:lnTo>
                    <a:lnTo>
                      <a:pt x="2127" y="841"/>
                    </a:lnTo>
                    <a:lnTo>
                      <a:pt x="2053" y="847"/>
                    </a:lnTo>
                    <a:lnTo>
                      <a:pt x="1978" y="853"/>
                    </a:lnTo>
                    <a:lnTo>
                      <a:pt x="1902" y="858"/>
                    </a:lnTo>
                    <a:lnTo>
                      <a:pt x="1824" y="862"/>
                    </a:lnTo>
                    <a:lnTo>
                      <a:pt x="1744" y="865"/>
                    </a:lnTo>
                    <a:lnTo>
                      <a:pt x="1664" y="867"/>
                    </a:lnTo>
                    <a:lnTo>
                      <a:pt x="1582" y="867"/>
                    </a:lnTo>
                    <a:lnTo>
                      <a:pt x="1501" y="867"/>
                    </a:lnTo>
                    <a:lnTo>
                      <a:pt x="1421" y="865"/>
                    </a:lnTo>
                    <a:lnTo>
                      <a:pt x="1341" y="862"/>
                    </a:lnTo>
                    <a:lnTo>
                      <a:pt x="1263" y="858"/>
                    </a:lnTo>
                    <a:lnTo>
                      <a:pt x="1187" y="853"/>
                    </a:lnTo>
                    <a:lnTo>
                      <a:pt x="1112" y="847"/>
                    </a:lnTo>
                    <a:lnTo>
                      <a:pt x="1038" y="841"/>
                    </a:lnTo>
                    <a:lnTo>
                      <a:pt x="966" y="832"/>
                    </a:lnTo>
                    <a:lnTo>
                      <a:pt x="897" y="823"/>
                    </a:lnTo>
                    <a:lnTo>
                      <a:pt x="828" y="813"/>
                    </a:lnTo>
                    <a:lnTo>
                      <a:pt x="761" y="803"/>
                    </a:lnTo>
                    <a:lnTo>
                      <a:pt x="698" y="791"/>
                    </a:lnTo>
                    <a:lnTo>
                      <a:pt x="635" y="779"/>
                    </a:lnTo>
                    <a:lnTo>
                      <a:pt x="576" y="766"/>
                    </a:lnTo>
                    <a:lnTo>
                      <a:pt x="518" y="752"/>
                    </a:lnTo>
                    <a:lnTo>
                      <a:pt x="463" y="738"/>
                    </a:lnTo>
                    <a:lnTo>
                      <a:pt x="411" y="722"/>
                    </a:lnTo>
                    <a:lnTo>
                      <a:pt x="361" y="706"/>
                    </a:lnTo>
                    <a:lnTo>
                      <a:pt x="314" y="689"/>
                    </a:lnTo>
                    <a:lnTo>
                      <a:pt x="271" y="672"/>
                    </a:lnTo>
                    <a:lnTo>
                      <a:pt x="229" y="654"/>
                    </a:lnTo>
                    <a:lnTo>
                      <a:pt x="191" y="636"/>
                    </a:lnTo>
                    <a:lnTo>
                      <a:pt x="156" y="616"/>
                    </a:lnTo>
                    <a:lnTo>
                      <a:pt x="124" y="596"/>
                    </a:lnTo>
                    <a:lnTo>
                      <a:pt x="96" y="577"/>
                    </a:lnTo>
                    <a:lnTo>
                      <a:pt x="71" y="556"/>
                    </a:lnTo>
                    <a:lnTo>
                      <a:pt x="49" y="535"/>
                    </a:lnTo>
                    <a:lnTo>
                      <a:pt x="32" y="513"/>
                    </a:lnTo>
                    <a:lnTo>
                      <a:pt x="18" y="492"/>
                    </a:lnTo>
                    <a:lnTo>
                      <a:pt x="8" y="470"/>
                    </a:lnTo>
                    <a:lnTo>
                      <a:pt x="2" y="447"/>
                    </a:lnTo>
                    <a:lnTo>
                      <a:pt x="0" y="425"/>
                    </a:lnTo>
                    <a:lnTo>
                      <a:pt x="2" y="401"/>
                    </a:lnTo>
                    <a:lnTo>
                      <a:pt x="8" y="379"/>
                    </a:lnTo>
                    <a:lnTo>
                      <a:pt x="18" y="357"/>
                    </a:lnTo>
                    <a:lnTo>
                      <a:pt x="32" y="336"/>
                    </a:lnTo>
                    <a:lnTo>
                      <a:pt x="49" y="315"/>
                    </a:lnTo>
                    <a:lnTo>
                      <a:pt x="71" y="294"/>
                    </a:lnTo>
                    <a:lnTo>
                      <a:pt x="96" y="274"/>
                    </a:lnTo>
                    <a:lnTo>
                      <a:pt x="124" y="255"/>
                    </a:lnTo>
                    <a:lnTo>
                      <a:pt x="156" y="236"/>
                    </a:lnTo>
                    <a:lnTo>
                      <a:pt x="191" y="218"/>
                    </a:lnTo>
                    <a:lnTo>
                      <a:pt x="229" y="200"/>
                    </a:lnTo>
                    <a:lnTo>
                      <a:pt x="271" y="182"/>
                    </a:lnTo>
                    <a:lnTo>
                      <a:pt x="314" y="166"/>
                    </a:lnTo>
                    <a:lnTo>
                      <a:pt x="361" y="150"/>
                    </a:lnTo>
                    <a:lnTo>
                      <a:pt x="411" y="135"/>
                    </a:lnTo>
                    <a:lnTo>
                      <a:pt x="463" y="121"/>
                    </a:lnTo>
                    <a:lnTo>
                      <a:pt x="518" y="107"/>
                    </a:lnTo>
                    <a:lnTo>
                      <a:pt x="576" y="94"/>
                    </a:lnTo>
                    <a:lnTo>
                      <a:pt x="635" y="81"/>
                    </a:lnTo>
                    <a:lnTo>
                      <a:pt x="698" y="69"/>
                    </a:lnTo>
                    <a:lnTo>
                      <a:pt x="761" y="59"/>
                    </a:lnTo>
                    <a:lnTo>
                      <a:pt x="828" y="49"/>
                    </a:lnTo>
                    <a:lnTo>
                      <a:pt x="897" y="40"/>
                    </a:lnTo>
                    <a:lnTo>
                      <a:pt x="966" y="32"/>
                    </a:lnTo>
                    <a:lnTo>
                      <a:pt x="1038" y="24"/>
                    </a:lnTo>
                    <a:lnTo>
                      <a:pt x="1112" y="18"/>
                    </a:lnTo>
                    <a:lnTo>
                      <a:pt x="1187" y="13"/>
                    </a:lnTo>
                    <a:lnTo>
                      <a:pt x="1263" y="8"/>
                    </a:lnTo>
                    <a:lnTo>
                      <a:pt x="1341" y="5"/>
                    </a:lnTo>
                    <a:lnTo>
                      <a:pt x="1421" y="2"/>
                    </a:lnTo>
                    <a:lnTo>
                      <a:pt x="1501" y="0"/>
                    </a:lnTo>
                    <a:lnTo>
                      <a:pt x="1582" y="0"/>
                    </a:lnTo>
                    <a:lnTo>
                      <a:pt x="1664" y="0"/>
                    </a:lnTo>
                    <a:lnTo>
                      <a:pt x="1744" y="2"/>
                    </a:lnTo>
                    <a:lnTo>
                      <a:pt x="1824" y="5"/>
                    </a:lnTo>
                    <a:lnTo>
                      <a:pt x="1902" y="8"/>
                    </a:lnTo>
                    <a:lnTo>
                      <a:pt x="1978" y="13"/>
                    </a:lnTo>
                    <a:lnTo>
                      <a:pt x="2053" y="18"/>
                    </a:lnTo>
                    <a:lnTo>
                      <a:pt x="2127" y="24"/>
                    </a:lnTo>
                    <a:lnTo>
                      <a:pt x="2199" y="32"/>
                    </a:lnTo>
                    <a:lnTo>
                      <a:pt x="2268" y="40"/>
                    </a:lnTo>
                    <a:lnTo>
                      <a:pt x="2337" y="49"/>
                    </a:lnTo>
                    <a:lnTo>
                      <a:pt x="2404" y="59"/>
                    </a:lnTo>
                    <a:lnTo>
                      <a:pt x="2467" y="69"/>
                    </a:lnTo>
                    <a:lnTo>
                      <a:pt x="2530" y="81"/>
                    </a:lnTo>
                    <a:lnTo>
                      <a:pt x="2589" y="94"/>
                    </a:lnTo>
                    <a:lnTo>
                      <a:pt x="2647" y="107"/>
                    </a:lnTo>
                    <a:lnTo>
                      <a:pt x="2701" y="121"/>
                    </a:lnTo>
                    <a:lnTo>
                      <a:pt x="2754" y="135"/>
                    </a:lnTo>
                    <a:lnTo>
                      <a:pt x="2803" y="150"/>
                    </a:lnTo>
                    <a:lnTo>
                      <a:pt x="2851" y="166"/>
                    </a:lnTo>
                    <a:lnTo>
                      <a:pt x="2894" y="182"/>
                    </a:lnTo>
                    <a:lnTo>
                      <a:pt x="2936" y="200"/>
                    </a:lnTo>
                    <a:lnTo>
                      <a:pt x="2974" y="218"/>
                    </a:lnTo>
                    <a:lnTo>
                      <a:pt x="3010" y="236"/>
                    </a:lnTo>
                    <a:lnTo>
                      <a:pt x="3041" y="255"/>
                    </a:lnTo>
                    <a:lnTo>
                      <a:pt x="3069" y="274"/>
                    </a:lnTo>
                    <a:lnTo>
                      <a:pt x="3094" y="294"/>
                    </a:lnTo>
                    <a:lnTo>
                      <a:pt x="3116" y="315"/>
                    </a:lnTo>
                    <a:lnTo>
                      <a:pt x="3133" y="336"/>
                    </a:lnTo>
                    <a:lnTo>
                      <a:pt x="3147" y="357"/>
                    </a:lnTo>
                    <a:lnTo>
                      <a:pt x="3157" y="379"/>
                    </a:lnTo>
                    <a:lnTo>
                      <a:pt x="3163" y="401"/>
                    </a:lnTo>
                    <a:lnTo>
                      <a:pt x="3165" y="4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116080" y="6526800"/>
                <a:ext cx="349560" cy="102240"/>
              </a:xfrm>
              <a:custGeom>
                <a:avLst/>
                <a:gdLst/>
                <a:ahLst/>
                <a:rect l="l" t="t" r="r" b="b"/>
                <a:pathLst>
                  <a:path w="3163" h="865">
                    <a:moveTo>
                      <a:pt x="3163" y="424"/>
                    </a:moveTo>
                    <a:lnTo>
                      <a:pt x="3161" y="446"/>
                    </a:lnTo>
                    <a:lnTo>
                      <a:pt x="3155" y="469"/>
                    </a:lnTo>
                    <a:lnTo>
                      <a:pt x="3145" y="490"/>
                    </a:lnTo>
                    <a:lnTo>
                      <a:pt x="3131" y="512"/>
                    </a:lnTo>
                    <a:lnTo>
                      <a:pt x="3113" y="534"/>
                    </a:lnTo>
                    <a:lnTo>
                      <a:pt x="3091" y="555"/>
                    </a:lnTo>
                    <a:lnTo>
                      <a:pt x="3067" y="575"/>
                    </a:lnTo>
                    <a:lnTo>
                      <a:pt x="3039" y="595"/>
                    </a:lnTo>
                    <a:lnTo>
                      <a:pt x="3006" y="614"/>
                    </a:lnTo>
                    <a:lnTo>
                      <a:pt x="2972" y="634"/>
                    </a:lnTo>
                    <a:lnTo>
                      <a:pt x="2934" y="653"/>
                    </a:lnTo>
                    <a:lnTo>
                      <a:pt x="2892" y="670"/>
                    </a:lnTo>
                    <a:lnTo>
                      <a:pt x="2849" y="688"/>
                    </a:lnTo>
                    <a:lnTo>
                      <a:pt x="2801" y="704"/>
                    </a:lnTo>
                    <a:lnTo>
                      <a:pt x="2752" y="720"/>
                    </a:lnTo>
                    <a:lnTo>
                      <a:pt x="2699" y="736"/>
                    </a:lnTo>
                    <a:lnTo>
                      <a:pt x="2645" y="751"/>
                    </a:lnTo>
                    <a:lnTo>
                      <a:pt x="2587" y="764"/>
                    </a:lnTo>
                    <a:lnTo>
                      <a:pt x="2528" y="777"/>
                    </a:lnTo>
                    <a:lnTo>
                      <a:pt x="2465" y="790"/>
                    </a:lnTo>
                    <a:lnTo>
                      <a:pt x="2402" y="801"/>
                    </a:lnTo>
                    <a:lnTo>
                      <a:pt x="2335" y="811"/>
                    </a:lnTo>
                    <a:lnTo>
                      <a:pt x="2267" y="821"/>
                    </a:lnTo>
                    <a:lnTo>
                      <a:pt x="2197" y="830"/>
                    </a:lnTo>
                    <a:lnTo>
                      <a:pt x="2125" y="839"/>
                    </a:lnTo>
                    <a:lnTo>
                      <a:pt x="2052" y="846"/>
                    </a:lnTo>
                    <a:lnTo>
                      <a:pt x="1976" y="851"/>
                    </a:lnTo>
                    <a:lnTo>
                      <a:pt x="1901" y="856"/>
                    </a:lnTo>
                    <a:lnTo>
                      <a:pt x="1822" y="860"/>
                    </a:lnTo>
                    <a:lnTo>
                      <a:pt x="1743" y="863"/>
                    </a:lnTo>
                    <a:lnTo>
                      <a:pt x="1663" y="865"/>
                    </a:lnTo>
                    <a:lnTo>
                      <a:pt x="1581" y="865"/>
                    </a:lnTo>
                    <a:lnTo>
                      <a:pt x="1500" y="865"/>
                    </a:lnTo>
                    <a:lnTo>
                      <a:pt x="1420" y="863"/>
                    </a:lnTo>
                    <a:lnTo>
                      <a:pt x="1341" y="860"/>
                    </a:lnTo>
                    <a:lnTo>
                      <a:pt x="1263" y="856"/>
                    </a:lnTo>
                    <a:lnTo>
                      <a:pt x="1187" y="851"/>
                    </a:lnTo>
                    <a:lnTo>
                      <a:pt x="1111" y="846"/>
                    </a:lnTo>
                    <a:lnTo>
                      <a:pt x="1038" y="839"/>
                    </a:lnTo>
                    <a:lnTo>
                      <a:pt x="966" y="830"/>
                    </a:lnTo>
                    <a:lnTo>
                      <a:pt x="896" y="821"/>
                    </a:lnTo>
                    <a:lnTo>
                      <a:pt x="828" y="811"/>
                    </a:lnTo>
                    <a:lnTo>
                      <a:pt x="761" y="801"/>
                    </a:lnTo>
                    <a:lnTo>
                      <a:pt x="698" y="790"/>
                    </a:lnTo>
                    <a:lnTo>
                      <a:pt x="635" y="777"/>
                    </a:lnTo>
                    <a:lnTo>
                      <a:pt x="576" y="764"/>
                    </a:lnTo>
                    <a:lnTo>
                      <a:pt x="518" y="751"/>
                    </a:lnTo>
                    <a:lnTo>
                      <a:pt x="463" y="736"/>
                    </a:lnTo>
                    <a:lnTo>
                      <a:pt x="411" y="720"/>
                    </a:lnTo>
                    <a:lnTo>
                      <a:pt x="361" y="704"/>
                    </a:lnTo>
                    <a:lnTo>
                      <a:pt x="314" y="688"/>
                    </a:lnTo>
                    <a:lnTo>
                      <a:pt x="271" y="670"/>
                    </a:lnTo>
                    <a:lnTo>
                      <a:pt x="229" y="653"/>
                    </a:lnTo>
                    <a:lnTo>
                      <a:pt x="191" y="634"/>
                    </a:lnTo>
                    <a:lnTo>
                      <a:pt x="156" y="614"/>
                    </a:lnTo>
                    <a:lnTo>
                      <a:pt x="124" y="595"/>
                    </a:lnTo>
                    <a:lnTo>
                      <a:pt x="96" y="575"/>
                    </a:lnTo>
                    <a:lnTo>
                      <a:pt x="72" y="555"/>
                    </a:lnTo>
                    <a:lnTo>
                      <a:pt x="50" y="534"/>
                    </a:lnTo>
                    <a:lnTo>
                      <a:pt x="32" y="512"/>
                    </a:lnTo>
                    <a:lnTo>
                      <a:pt x="18" y="490"/>
                    </a:lnTo>
                    <a:lnTo>
                      <a:pt x="9" y="469"/>
                    </a:lnTo>
                    <a:lnTo>
                      <a:pt x="2" y="446"/>
                    </a:lnTo>
                    <a:lnTo>
                      <a:pt x="0" y="424"/>
                    </a:lnTo>
                    <a:lnTo>
                      <a:pt x="2" y="400"/>
                    </a:lnTo>
                    <a:lnTo>
                      <a:pt x="9" y="378"/>
                    </a:lnTo>
                    <a:lnTo>
                      <a:pt x="18" y="357"/>
                    </a:lnTo>
                    <a:lnTo>
                      <a:pt x="32" y="335"/>
                    </a:lnTo>
                    <a:lnTo>
                      <a:pt x="50" y="315"/>
                    </a:lnTo>
                    <a:lnTo>
                      <a:pt x="72" y="293"/>
                    </a:lnTo>
                    <a:lnTo>
                      <a:pt x="96" y="274"/>
                    </a:lnTo>
                    <a:lnTo>
                      <a:pt x="124" y="254"/>
                    </a:lnTo>
                    <a:lnTo>
                      <a:pt x="156" y="236"/>
                    </a:lnTo>
                    <a:lnTo>
                      <a:pt x="191" y="217"/>
                    </a:lnTo>
                    <a:lnTo>
                      <a:pt x="229" y="200"/>
                    </a:lnTo>
                    <a:lnTo>
                      <a:pt x="271" y="182"/>
                    </a:lnTo>
                    <a:lnTo>
                      <a:pt x="314" y="165"/>
                    </a:lnTo>
                    <a:lnTo>
                      <a:pt x="361" y="150"/>
                    </a:lnTo>
                    <a:lnTo>
                      <a:pt x="411" y="135"/>
                    </a:lnTo>
                    <a:lnTo>
                      <a:pt x="463" y="120"/>
                    </a:lnTo>
                    <a:lnTo>
                      <a:pt x="518" y="107"/>
                    </a:lnTo>
                    <a:lnTo>
                      <a:pt x="576" y="94"/>
                    </a:lnTo>
                    <a:lnTo>
                      <a:pt x="635" y="80"/>
                    </a:lnTo>
                    <a:lnTo>
                      <a:pt x="698" y="69"/>
                    </a:lnTo>
                    <a:lnTo>
                      <a:pt x="761" y="58"/>
                    </a:lnTo>
                    <a:lnTo>
                      <a:pt x="828" y="49"/>
                    </a:lnTo>
                    <a:lnTo>
                      <a:pt x="896" y="40"/>
                    </a:lnTo>
                    <a:lnTo>
                      <a:pt x="966" y="31"/>
                    </a:lnTo>
                    <a:lnTo>
                      <a:pt x="1038" y="24"/>
                    </a:lnTo>
                    <a:lnTo>
                      <a:pt x="1111" y="18"/>
                    </a:lnTo>
                    <a:lnTo>
                      <a:pt x="1187" y="12"/>
                    </a:lnTo>
                    <a:lnTo>
                      <a:pt x="1263" y="8"/>
                    </a:lnTo>
                    <a:lnTo>
                      <a:pt x="1341" y="4"/>
                    </a:lnTo>
                    <a:lnTo>
                      <a:pt x="1420" y="2"/>
                    </a:lnTo>
                    <a:lnTo>
                      <a:pt x="1500" y="0"/>
                    </a:lnTo>
                    <a:lnTo>
                      <a:pt x="1581" y="0"/>
                    </a:lnTo>
                    <a:lnTo>
                      <a:pt x="1663" y="0"/>
                    </a:lnTo>
                    <a:lnTo>
                      <a:pt x="1743" y="2"/>
                    </a:lnTo>
                    <a:lnTo>
                      <a:pt x="1822" y="4"/>
                    </a:lnTo>
                    <a:lnTo>
                      <a:pt x="1901" y="8"/>
                    </a:lnTo>
                    <a:lnTo>
                      <a:pt x="1976" y="12"/>
                    </a:lnTo>
                    <a:lnTo>
                      <a:pt x="2052" y="18"/>
                    </a:lnTo>
                    <a:lnTo>
                      <a:pt x="2125" y="24"/>
                    </a:lnTo>
                    <a:lnTo>
                      <a:pt x="2197" y="31"/>
                    </a:lnTo>
                    <a:lnTo>
                      <a:pt x="2267" y="40"/>
                    </a:lnTo>
                    <a:lnTo>
                      <a:pt x="2335" y="49"/>
                    </a:lnTo>
                    <a:lnTo>
                      <a:pt x="2402" y="58"/>
                    </a:lnTo>
                    <a:lnTo>
                      <a:pt x="2465" y="69"/>
                    </a:lnTo>
                    <a:lnTo>
                      <a:pt x="2528" y="80"/>
                    </a:lnTo>
                    <a:lnTo>
                      <a:pt x="2587" y="94"/>
                    </a:lnTo>
                    <a:lnTo>
                      <a:pt x="2645" y="107"/>
                    </a:lnTo>
                    <a:lnTo>
                      <a:pt x="2699" y="120"/>
                    </a:lnTo>
                    <a:lnTo>
                      <a:pt x="2752" y="135"/>
                    </a:lnTo>
                    <a:lnTo>
                      <a:pt x="2801" y="150"/>
                    </a:lnTo>
                    <a:lnTo>
                      <a:pt x="2849" y="165"/>
                    </a:lnTo>
                    <a:lnTo>
                      <a:pt x="2892" y="182"/>
                    </a:lnTo>
                    <a:lnTo>
                      <a:pt x="2934" y="200"/>
                    </a:lnTo>
                    <a:lnTo>
                      <a:pt x="2972" y="217"/>
                    </a:lnTo>
                    <a:lnTo>
                      <a:pt x="3006" y="236"/>
                    </a:lnTo>
                    <a:lnTo>
                      <a:pt x="3039" y="254"/>
                    </a:lnTo>
                    <a:lnTo>
                      <a:pt x="3067" y="274"/>
                    </a:lnTo>
                    <a:lnTo>
                      <a:pt x="3091" y="293"/>
                    </a:lnTo>
                    <a:lnTo>
                      <a:pt x="3113" y="315"/>
                    </a:lnTo>
                    <a:lnTo>
                      <a:pt x="3131" y="335"/>
                    </a:lnTo>
                    <a:lnTo>
                      <a:pt x="3145" y="357"/>
                    </a:lnTo>
                    <a:lnTo>
                      <a:pt x="3155" y="378"/>
                    </a:lnTo>
                    <a:lnTo>
                      <a:pt x="3161" y="400"/>
                    </a:lnTo>
                    <a:lnTo>
                      <a:pt x="3163" y="4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116080" y="6526800"/>
                <a:ext cx="349560" cy="102240"/>
              </a:xfrm>
              <a:custGeom>
                <a:avLst/>
                <a:gdLst/>
                <a:ahLst/>
                <a:rect l="l" t="t" r="r" b="b"/>
                <a:pathLst>
                  <a:path w="3159" h="863">
                    <a:moveTo>
                      <a:pt x="3159" y="423"/>
                    </a:moveTo>
                    <a:lnTo>
                      <a:pt x="3157" y="445"/>
                    </a:lnTo>
                    <a:lnTo>
                      <a:pt x="3151" y="467"/>
                    </a:lnTo>
                    <a:lnTo>
                      <a:pt x="3141" y="489"/>
                    </a:lnTo>
                    <a:lnTo>
                      <a:pt x="3127" y="511"/>
                    </a:lnTo>
                    <a:lnTo>
                      <a:pt x="3110" y="533"/>
                    </a:lnTo>
                    <a:lnTo>
                      <a:pt x="3088" y="554"/>
                    </a:lnTo>
                    <a:lnTo>
                      <a:pt x="3063" y="574"/>
                    </a:lnTo>
                    <a:lnTo>
                      <a:pt x="3035" y="594"/>
                    </a:lnTo>
                    <a:lnTo>
                      <a:pt x="3003" y="613"/>
                    </a:lnTo>
                    <a:lnTo>
                      <a:pt x="2968" y="633"/>
                    </a:lnTo>
                    <a:lnTo>
                      <a:pt x="2931" y="651"/>
                    </a:lnTo>
                    <a:lnTo>
                      <a:pt x="2889" y="669"/>
                    </a:lnTo>
                    <a:lnTo>
                      <a:pt x="2846" y="686"/>
                    </a:lnTo>
                    <a:lnTo>
                      <a:pt x="2798" y="702"/>
                    </a:lnTo>
                    <a:lnTo>
                      <a:pt x="2749" y="718"/>
                    </a:lnTo>
                    <a:lnTo>
                      <a:pt x="2696" y="734"/>
                    </a:lnTo>
                    <a:lnTo>
                      <a:pt x="2642" y="749"/>
                    </a:lnTo>
                    <a:lnTo>
                      <a:pt x="2584" y="763"/>
                    </a:lnTo>
                    <a:lnTo>
                      <a:pt x="2525" y="776"/>
                    </a:lnTo>
                    <a:lnTo>
                      <a:pt x="2463" y="788"/>
                    </a:lnTo>
                    <a:lnTo>
                      <a:pt x="2399" y="799"/>
                    </a:lnTo>
                    <a:lnTo>
                      <a:pt x="2333" y="810"/>
                    </a:lnTo>
                    <a:lnTo>
                      <a:pt x="2264" y="819"/>
                    </a:lnTo>
                    <a:lnTo>
                      <a:pt x="2195" y="828"/>
                    </a:lnTo>
                    <a:lnTo>
                      <a:pt x="2123" y="837"/>
                    </a:lnTo>
                    <a:lnTo>
                      <a:pt x="2049" y="844"/>
                    </a:lnTo>
                    <a:lnTo>
                      <a:pt x="1974" y="850"/>
                    </a:lnTo>
                    <a:lnTo>
                      <a:pt x="1898" y="854"/>
                    </a:lnTo>
                    <a:lnTo>
                      <a:pt x="1820" y="858"/>
                    </a:lnTo>
                    <a:lnTo>
                      <a:pt x="1741" y="861"/>
                    </a:lnTo>
                    <a:lnTo>
                      <a:pt x="1661" y="863"/>
                    </a:lnTo>
                    <a:lnTo>
                      <a:pt x="1579" y="863"/>
                    </a:lnTo>
                    <a:lnTo>
                      <a:pt x="1499" y="863"/>
                    </a:lnTo>
                    <a:lnTo>
                      <a:pt x="1418" y="861"/>
                    </a:lnTo>
                    <a:lnTo>
                      <a:pt x="1339" y="858"/>
                    </a:lnTo>
                    <a:lnTo>
                      <a:pt x="1261" y="854"/>
                    </a:lnTo>
                    <a:lnTo>
                      <a:pt x="1185" y="850"/>
                    </a:lnTo>
                    <a:lnTo>
                      <a:pt x="1110" y="844"/>
                    </a:lnTo>
                    <a:lnTo>
                      <a:pt x="1036" y="837"/>
                    </a:lnTo>
                    <a:lnTo>
                      <a:pt x="964" y="828"/>
                    </a:lnTo>
                    <a:lnTo>
                      <a:pt x="895" y="819"/>
                    </a:lnTo>
                    <a:lnTo>
                      <a:pt x="826" y="810"/>
                    </a:lnTo>
                    <a:lnTo>
                      <a:pt x="760" y="799"/>
                    </a:lnTo>
                    <a:lnTo>
                      <a:pt x="696" y="788"/>
                    </a:lnTo>
                    <a:lnTo>
                      <a:pt x="634" y="776"/>
                    </a:lnTo>
                    <a:lnTo>
                      <a:pt x="575" y="763"/>
                    </a:lnTo>
                    <a:lnTo>
                      <a:pt x="517" y="749"/>
                    </a:lnTo>
                    <a:lnTo>
                      <a:pt x="462" y="734"/>
                    </a:lnTo>
                    <a:lnTo>
                      <a:pt x="410" y="718"/>
                    </a:lnTo>
                    <a:lnTo>
                      <a:pt x="360" y="702"/>
                    </a:lnTo>
                    <a:lnTo>
                      <a:pt x="314" y="686"/>
                    </a:lnTo>
                    <a:lnTo>
                      <a:pt x="270" y="669"/>
                    </a:lnTo>
                    <a:lnTo>
                      <a:pt x="228" y="651"/>
                    </a:lnTo>
                    <a:lnTo>
                      <a:pt x="191" y="633"/>
                    </a:lnTo>
                    <a:lnTo>
                      <a:pt x="155" y="613"/>
                    </a:lnTo>
                    <a:lnTo>
                      <a:pt x="124" y="594"/>
                    </a:lnTo>
                    <a:lnTo>
                      <a:pt x="96" y="574"/>
                    </a:lnTo>
                    <a:lnTo>
                      <a:pt x="71" y="554"/>
                    </a:lnTo>
                    <a:lnTo>
                      <a:pt x="49" y="533"/>
                    </a:lnTo>
                    <a:lnTo>
                      <a:pt x="32" y="511"/>
                    </a:lnTo>
                    <a:lnTo>
                      <a:pt x="18" y="489"/>
                    </a:lnTo>
                    <a:lnTo>
                      <a:pt x="8" y="467"/>
                    </a:lnTo>
                    <a:lnTo>
                      <a:pt x="2" y="445"/>
                    </a:lnTo>
                    <a:lnTo>
                      <a:pt x="0" y="423"/>
                    </a:lnTo>
                    <a:lnTo>
                      <a:pt x="2" y="399"/>
                    </a:lnTo>
                    <a:lnTo>
                      <a:pt x="8" y="377"/>
                    </a:lnTo>
                    <a:lnTo>
                      <a:pt x="18" y="356"/>
                    </a:lnTo>
                    <a:lnTo>
                      <a:pt x="32" y="335"/>
                    </a:lnTo>
                    <a:lnTo>
                      <a:pt x="49" y="314"/>
                    </a:lnTo>
                    <a:lnTo>
                      <a:pt x="71" y="293"/>
                    </a:lnTo>
                    <a:lnTo>
                      <a:pt x="96" y="273"/>
                    </a:lnTo>
                    <a:lnTo>
                      <a:pt x="124" y="254"/>
                    </a:lnTo>
                    <a:lnTo>
                      <a:pt x="155" y="235"/>
                    </a:lnTo>
                    <a:lnTo>
                      <a:pt x="191" y="217"/>
                    </a:lnTo>
                    <a:lnTo>
                      <a:pt x="228" y="199"/>
                    </a:lnTo>
                    <a:lnTo>
                      <a:pt x="270" y="181"/>
                    </a:lnTo>
                    <a:lnTo>
                      <a:pt x="314" y="165"/>
                    </a:lnTo>
                    <a:lnTo>
                      <a:pt x="360" y="149"/>
                    </a:lnTo>
                    <a:lnTo>
                      <a:pt x="410" y="134"/>
                    </a:lnTo>
                    <a:lnTo>
                      <a:pt x="462" y="120"/>
                    </a:lnTo>
                    <a:lnTo>
                      <a:pt x="517" y="106"/>
                    </a:lnTo>
                    <a:lnTo>
                      <a:pt x="575" y="93"/>
                    </a:lnTo>
                    <a:lnTo>
                      <a:pt x="634" y="80"/>
                    </a:lnTo>
                    <a:lnTo>
                      <a:pt x="696" y="69"/>
                    </a:lnTo>
                    <a:lnTo>
                      <a:pt x="760" y="58"/>
                    </a:lnTo>
                    <a:lnTo>
                      <a:pt x="826" y="48"/>
                    </a:lnTo>
                    <a:lnTo>
                      <a:pt x="895" y="39"/>
                    </a:lnTo>
                    <a:lnTo>
                      <a:pt x="964" y="31"/>
                    </a:lnTo>
                    <a:lnTo>
                      <a:pt x="1036" y="24"/>
                    </a:lnTo>
                    <a:lnTo>
                      <a:pt x="1110" y="18"/>
                    </a:lnTo>
                    <a:lnTo>
                      <a:pt x="1185" y="12"/>
                    </a:lnTo>
                    <a:lnTo>
                      <a:pt x="1261" y="8"/>
                    </a:lnTo>
                    <a:lnTo>
                      <a:pt x="1339" y="4"/>
                    </a:lnTo>
                    <a:lnTo>
                      <a:pt x="1418" y="2"/>
                    </a:lnTo>
                    <a:lnTo>
                      <a:pt x="1499" y="0"/>
                    </a:lnTo>
                    <a:lnTo>
                      <a:pt x="1579" y="0"/>
                    </a:lnTo>
                    <a:lnTo>
                      <a:pt x="1661" y="0"/>
                    </a:lnTo>
                    <a:lnTo>
                      <a:pt x="1741" y="2"/>
                    </a:lnTo>
                    <a:lnTo>
                      <a:pt x="1820" y="4"/>
                    </a:lnTo>
                    <a:lnTo>
                      <a:pt x="1898" y="8"/>
                    </a:lnTo>
                    <a:lnTo>
                      <a:pt x="1974" y="12"/>
                    </a:lnTo>
                    <a:lnTo>
                      <a:pt x="2049" y="18"/>
                    </a:lnTo>
                    <a:lnTo>
                      <a:pt x="2123" y="24"/>
                    </a:lnTo>
                    <a:lnTo>
                      <a:pt x="2195" y="31"/>
                    </a:lnTo>
                    <a:lnTo>
                      <a:pt x="2264" y="39"/>
                    </a:lnTo>
                    <a:lnTo>
                      <a:pt x="2333" y="48"/>
                    </a:lnTo>
                    <a:lnTo>
                      <a:pt x="2399" y="58"/>
                    </a:lnTo>
                    <a:lnTo>
                      <a:pt x="2463" y="69"/>
                    </a:lnTo>
                    <a:lnTo>
                      <a:pt x="2525" y="80"/>
                    </a:lnTo>
                    <a:lnTo>
                      <a:pt x="2584" y="93"/>
                    </a:lnTo>
                    <a:lnTo>
                      <a:pt x="2642" y="106"/>
                    </a:lnTo>
                    <a:lnTo>
                      <a:pt x="2696" y="120"/>
                    </a:lnTo>
                    <a:lnTo>
                      <a:pt x="2749" y="134"/>
                    </a:lnTo>
                    <a:lnTo>
                      <a:pt x="2798" y="149"/>
                    </a:lnTo>
                    <a:lnTo>
                      <a:pt x="2846" y="165"/>
                    </a:lnTo>
                    <a:lnTo>
                      <a:pt x="2889" y="181"/>
                    </a:lnTo>
                    <a:lnTo>
                      <a:pt x="2931" y="199"/>
                    </a:lnTo>
                    <a:lnTo>
                      <a:pt x="2968" y="217"/>
                    </a:lnTo>
                    <a:lnTo>
                      <a:pt x="3003" y="235"/>
                    </a:lnTo>
                    <a:lnTo>
                      <a:pt x="3035" y="254"/>
                    </a:lnTo>
                    <a:lnTo>
                      <a:pt x="3063" y="273"/>
                    </a:lnTo>
                    <a:lnTo>
                      <a:pt x="3088" y="293"/>
                    </a:lnTo>
                    <a:lnTo>
                      <a:pt x="3110" y="314"/>
                    </a:lnTo>
                    <a:lnTo>
                      <a:pt x="3127" y="335"/>
                    </a:lnTo>
                    <a:lnTo>
                      <a:pt x="3141" y="356"/>
                    </a:lnTo>
                    <a:lnTo>
                      <a:pt x="3151" y="377"/>
                    </a:lnTo>
                    <a:lnTo>
                      <a:pt x="3157" y="399"/>
                    </a:lnTo>
                    <a:lnTo>
                      <a:pt x="3159" y="4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116080" y="6526800"/>
                <a:ext cx="348120" cy="102240"/>
              </a:xfrm>
              <a:custGeom>
                <a:avLst/>
                <a:gdLst/>
                <a:ahLst/>
                <a:rect l="l" t="t" r="r" b="b"/>
                <a:pathLst>
                  <a:path w="3157" h="861">
                    <a:moveTo>
                      <a:pt x="3157" y="422"/>
                    </a:moveTo>
                    <a:lnTo>
                      <a:pt x="3155" y="444"/>
                    </a:lnTo>
                    <a:lnTo>
                      <a:pt x="3149" y="466"/>
                    </a:lnTo>
                    <a:lnTo>
                      <a:pt x="3139" y="488"/>
                    </a:lnTo>
                    <a:lnTo>
                      <a:pt x="3125" y="510"/>
                    </a:lnTo>
                    <a:lnTo>
                      <a:pt x="3108" y="532"/>
                    </a:lnTo>
                    <a:lnTo>
                      <a:pt x="3086" y="552"/>
                    </a:lnTo>
                    <a:lnTo>
                      <a:pt x="3061" y="573"/>
                    </a:lnTo>
                    <a:lnTo>
                      <a:pt x="3033" y="592"/>
                    </a:lnTo>
                    <a:lnTo>
                      <a:pt x="3001" y="612"/>
                    </a:lnTo>
                    <a:lnTo>
                      <a:pt x="2966" y="631"/>
                    </a:lnTo>
                    <a:lnTo>
                      <a:pt x="2929" y="650"/>
                    </a:lnTo>
                    <a:lnTo>
                      <a:pt x="2887" y="667"/>
                    </a:lnTo>
                    <a:lnTo>
                      <a:pt x="2843" y="684"/>
                    </a:lnTo>
                    <a:lnTo>
                      <a:pt x="2796" y="701"/>
                    </a:lnTo>
                    <a:lnTo>
                      <a:pt x="2747" y="717"/>
                    </a:lnTo>
                    <a:lnTo>
                      <a:pt x="2694" y="733"/>
                    </a:lnTo>
                    <a:lnTo>
                      <a:pt x="2640" y="747"/>
                    </a:lnTo>
                    <a:lnTo>
                      <a:pt x="2582" y="761"/>
                    </a:lnTo>
                    <a:lnTo>
                      <a:pt x="2523" y="774"/>
                    </a:lnTo>
                    <a:lnTo>
                      <a:pt x="2461" y="786"/>
                    </a:lnTo>
                    <a:lnTo>
                      <a:pt x="2397" y="797"/>
                    </a:lnTo>
                    <a:lnTo>
                      <a:pt x="2331" y="808"/>
                    </a:lnTo>
                    <a:lnTo>
                      <a:pt x="2263" y="817"/>
                    </a:lnTo>
                    <a:lnTo>
                      <a:pt x="2193" y="826"/>
                    </a:lnTo>
                    <a:lnTo>
                      <a:pt x="2121" y="835"/>
                    </a:lnTo>
                    <a:lnTo>
                      <a:pt x="2048" y="842"/>
                    </a:lnTo>
                    <a:lnTo>
                      <a:pt x="1973" y="848"/>
                    </a:lnTo>
                    <a:lnTo>
                      <a:pt x="1897" y="853"/>
                    </a:lnTo>
                    <a:lnTo>
                      <a:pt x="1819" y="856"/>
                    </a:lnTo>
                    <a:lnTo>
                      <a:pt x="1740" y="859"/>
                    </a:lnTo>
                    <a:lnTo>
                      <a:pt x="1659" y="861"/>
                    </a:lnTo>
                    <a:lnTo>
                      <a:pt x="1578" y="861"/>
                    </a:lnTo>
                    <a:lnTo>
                      <a:pt x="1498" y="861"/>
                    </a:lnTo>
                    <a:lnTo>
                      <a:pt x="1417" y="859"/>
                    </a:lnTo>
                    <a:lnTo>
                      <a:pt x="1338" y="856"/>
                    </a:lnTo>
                    <a:lnTo>
                      <a:pt x="1260" y="853"/>
                    </a:lnTo>
                    <a:lnTo>
                      <a:pt x="1184" y="848"/>
                    </a:lnTo>
                    <a:lnTo>
                      <a:pt x="1109" y="842"/>
                    </a:lnTo>
                    <a:lnTo>
                      <a:pt x="1036" y="835"/>
                    </a:lnTo>
                    <a:lnTo>
                      <a:pt x="964" y="826"/>
                    </a:lnTo>
                    <a:lnTo>
                      <a:pt x="894" y="817"/>
                    </a:lnTo>
                    <a:lnTo>
                      <a:pt x="826" y="808"/>
                    </a:lnTo>
                    <a:lnTo>
                      <a:pt x="760" y="797"/>
                    </a:lnTo>
                    <a:lnTo>
                      <a:pt x="696" y="786"/>
                    </a:lnTo>
                    <a:lnTo>
                      <a:pt x="634" y="774"/>
                    </a:lnTo>
                    <a:lnTo>
                      <a:pt x="575" y="761"/>
                    </a:lnTo>
                    <a:lnTo>
                      <a:pt x="517" y="747"/>
                    </a:lnTo>
                    <a:lnTo>
                      <a:pt x="462" y="733"/>
                    </a:lnTo>
                    <a:lnTo>
                      <a:pt x="410" y="717"/>
                    </a:lnTo>
                    <a:lnTo>
                      <a:pt x="360" y="701"/>
                    </a:lnTo>
                    <a:lnTo>
                      <a:pt x="314" y="684"/>
                    </a:lnTo>
                    <a:lnTo>
                      <a:pt x="270" y="667"/>
                    </a:lnTo>
                    <a:lnTo>
                      <a:pt x="229" y="650"/>
                    </a:lnTo>
                    <a:lnTo>
                      <a:pt x="191" y="631"/>
                    </a:lnTo>
                    <a:lnTo>
                      <a:pt x="155" y="612"/>
                    </a:lnTo>
                    <a:lnTo>
                      <a:pt x="124" y="592"/>
                    </a:lnTo>
                    <a:lnTo>
                      <a:pt x="96" y="573"/>
                    </a:lnTo>
                    <a:lnTo>
                      <a:pt x="72" y="552"/>
                    </a:lnTo>
                    <a:lnTo>
                      <a:pt x="49" y="532"/>
                    </a:lnTo>
                    <a:lnTo>
                      <a:pt x="32" y="510"/>
                    </a:lnTo>
                    <a:lnTo>
                      <a:pt x="18" y="488"/>
                    </a:lnTo>
                    <a:lnTo>
                      <a:pt x="8" y="466"/>
                    </a:lnTo>
                    <a:lnTo>
                      <a:pt x="2" y="444"/>
                    </a:lnTo>
                    <a:lnTo>
                      <a:pt x="0" y="422"/>
                    </a:lnTo>
                    <a:lnTo>
                      <a:pt x="2" y="398"/>
                    </a:lnTo>
                    <a:lnTo>
                      <a:pt x="8" y="376"/>
                    </a:lnTo>
                    <a:lnTo>
                      <a:pt x="18" y="355"/>
                    </a:lnTo>
                    <a:lnTo>
                      <a:pt x="32" y="334"/>
                    </a:lnTo>
                    <a:lnTo>
                      <a:pt x="49" y="313"/>
                    </a:lnTo>
                    <a:lnTo>
                      <a:pt x="72" y="292"/>
                    </a:lnTo>
                    <a:lnTo>
                      <a:pt x="96" y="272"/>
                    </a:lnTo>
                    <a:lnTo>
                      <a:pt x="124" y="253"/>
                    </a:lnTo>
                    <a:lnTo>
                      <a:pt x="155" y="234"/>
                    </a:lnTo>
                    <a:lnTo>
                      <a:pt x="191" y="216"/>
                    </a:lnTo>
                    <a:lnTo>
                      <a:pt x="229" y="199"/>
                    </a:lnTo>
                    <a:lnTo>
                      <a:pt x="270" y="181"/>
                    </a:lnTo>
                    <a:lnTo>
                      <a:pt x="314" y="164"/>
                    </a:lnTo>
                    <a:lnTo>
                      <a:pt x="360" y="149"/>
                    </a:lnTo>
                    <a:lnTo>
                      <a:pt x="410" y="134"/>
                    </a:lnTo>
                    <a:lnTo>
                      <a:pt x="462" y="119"/>
                    </a:lnTo>
                    <a:lnTo>
                      <a:pt x="517" y="106"/>
                    </a:lnTo>
                    <a:lnTo>
                      <a:pt x="575" y="93"/>
                    </a:lnTo>
                    <a:lnTo>
                      <a:pt x="634" y="80"/>
                    </a:lnTo>
                    <a:lnTo>
                      <a:pt x="696" y="69"/>
                    </a:lnTo>
                    <a:lnTo>
                      <a:pt x="760" y="58"/>
                    </a:lnTo>
                    <a:lnTo>
                      <a:pt x="826" y="48"/>
                    </a:lnTo>
                    <a:lnTo>
                      <a:pt x="894" y="39"/>
                    </a:lnTo>
                    <a:lnTo>
                      <a:pt x="964" y="31"/>
                    </a:lnTo>
                    <a:lnTo>
                      <a:pt x="1036" y="24"/>
                    </a:lnTo>
                    <a:lnTo>
                      <a:pt x="1109" y="18"/>
                    </a:lnTo>
                    <a:lnTo>
                      <a:pt x="1184" y="12"/>
                    </a:lnTo>
                    <a:lnTo>
                      <a:pt x="1260" y="8"/>
                    </a:lnTo>
                    <a:lnTo>
                      <a:pt x="1338" y="4"/>
                    </a:lnTo>
                    <a:lnTo>
                      <a:pt x="1417" y="2"/>
                    </a:lnTo>
                    <a:lnTo>
                      <a:pt x="1498" y="0"/>
                    </a:lnTo>
                    <a:lnTo>
                      <a:pt x="1578" y="0"/>
                    </a:lnTo>
                    <a:lnTo>
                      <a:pt x="1659" y="0"/>
                    </a:lnTo>
                    <a:lnTo>
                      <a:pt x="1740" y="2"/>
                    </a:lnTo>
                    <a:lnTo>
                      <a:pt x="1819" y="4"/>
                    </a:lnTo>
                    <a:lnTo>
                      <a:pt x="1897" y="8"/>
                    </a:lnTo>
                    <a:lnTo>
                      <a:pt x="1973" y="12"/>
                    </a:lnTo>
                    <a:lnTo>
                      <a:pt x="2048" y="18"/>
                    </a:lnTo>
                    <a:lnTo>
                      <a:pt x="2121" y="24"/>
                    </a:lnTo>
                    <a:lnTo>
                      <a:pt x="2193" y="31"/>
                    </a:lnTo>
                    <a:lnTo>
                      <a:pt x="2263" y="39"/>
                    </a:lnTo>
                    <a:lnTo>
                      <a:pt x="2331" y="48"/>
                    </a:lnTo>
                    <a:lnTo>
                      <a:pt x="2397" y="58"/>
                    </a:lnTo>
                    <a:lnTo>
                      <a:pt x="2461" y="69"/>
                    </a:lnTo>
                    <a:lnTo>
                      <a:pt x="2523" y="80"/>
                    </a:lnTo>
                    <a:lnTo>
                      <a:pt x="2582" y="93"/>
                    </a:lnTo>
                    <a:lnTo>
                      <a:pt x="2640" y="106"/>
                    </a:lnTo>
                    <a:lnTo>
                      <a:pt x="2694" y="119"/>
                    </a:lnTo>
                    <a:lnTo>
                      <a:pt x="2747" y="134"/>
                    </a:lnTo>
                    <a:lnTo>
                      <a:pt x="2796" y="149"/>
                    </a:lnTo>
                    <a:lnTo>
                      <a:pt x="2843" y="164"/>
                    </a:lnTo>
                    <a:lnTo>
                      <a:pt x="2887" y="181"/>
                    </a:lnTo>
                    <a:lnTo>
                      <a:pt x="2929" y="199"/>
                    </a:lnTo>
                    <a:lnTo>
                      <a:pt x="2966" y="216"/>
                    </a:lnTo>
                    <a:lnTo>
                      <a:pt x="3001" y="234"/>
                    </a:lnTo>
                    <a:lnTo>
                      <a:pt x="3033" y="253"/>
                    </a:lnTo>
                    <a:lnTo>
                      <a:pt x="3061" y="272"/>
                    </a:lnTo>
                    <a:lnTo>
                      <a:pt x="3086" y="292"/>
                    </a:lnTo>
                    <a:lnTo>
                      <a:pt x="3108" y="313"/>
                    </a:lnTo>
                    <a:lnTo>
                      <a:pt x="3125" y="334"/>
                    </a:lnTo>
                    <a:lnTo>
                      <a:pt x="3139" y="355"/>
                    </a:lnTo>
                    <a:lnTo>
                      <a:pt x="3149" y="376"/>
                    </a:lnTo>
                    <a:lnTo>
                      <a:pt x="3155" y="398"/>
                    </a:lnTo>
                    <a:lnTo>
                      <a:pt x="3157" y="4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117160" y="6526800"/>
                <a:ext cx="347040" cy="102240"/>
              </a:xfrm>
              <a:custGeom>
                <a:avLst/>
                <a:gdLst/>
                <a:ahLst/>
                <a:rect l="l" t="t" r="r" b="b"/>
                <a:pathLst>
                  <a:path w="3153" h="859">
                    <a:moveTo>
                      <a:pt x="3153" y="421"/>
                    </a:moveTo>
                    <a:lnTo>
                      <a:pt x="3151" y="443"/>
                    </a:lnTo>
                    <a:lnTo>
                      <a:pt x="3145" y="465"/>
                    </a:lnTo>
                    <a:lnTo>
                      <a:pt x="3135" y="487"/>
                    </a:lnTo>
                    <a:lnTo>
                      <a:pt x="3122" y="508"/>
                    </a:lnTo>
                    <a:lnTo>
                      <a:pt x="3103" y="530"/>
                    </a:lnTo>
                    <a:lnTo>
                      <a:pt x="3082" y="551"/>
                    </a:lnTo>
                    <a:lnTo>
                      <a:pt x="3058" y="571"/>
                    </a:lnTo>
                    <a:lnTo>
                      <a:pt x="3030" y="591"/>
                    </a:lnTo>
                    <a:lnTo>
                      <a:pt x="2997" y="610"/>
                    </a:lnTo>
                    <a:lnTo>
                      <a:pt x="2963" y="630"/>
                    </a:lnTo>
                    <a:lnTo>
                      <a:pt x="2925" y="648"/>
                    </a:lnTo>
                    <a:lnTo>
                      <a:pt x="2884" y="666"/>
                    </a:lnTo>
                    <a:lnTo>
                      <a:pt x="2840" y="683"/>
                    </a:lnTo>
                    <a:lnTo>
                      <a:pt x="2793" y="699"/>
                    </a:lnTo>
                    <a:lnTo>
                      <a:pt x="2744" y="715"/>
                    </a:lnTo>
                    <a:lnTo>
                      <a:pt x="2691" y="731"/>
                    </a:lnTo>
                    <a:lnTo>
                      <a:pt x="2637" y="746"/>
                    </a:lnTo>
                    <a:lnTo>
                      <a:pt x="2579" y="759"/>
                    </a:lnTo>
                    <a:lnTo>
                      <a:pt x="2520" y="772"/>
                    </a:lnTo>
                    <a:lnTo>
                      <a:pt x="2458" y="784"/>
                    </a:lnTo>
                    <a:lnTo>
                      <a:pt x="2395" y="796"/>
                    </a:lnTo>
                    <a:lnTo>
                      <a:pt x="2328" y="806"/>
                    </a:lnTo>
                    <a:lnTo>
                      <a:pt x="2260" y="816"/>
                    </a:lnTo>
                    <a:lnTo>
                      <a:pt x="2191" y="824"/>
                    </a:lnTo>
                    <a:lnTo>
                      <a:pt x="2119" y="833"/>
                    </a:lnTo>
                    <a:lnTo>
                      <a:pt x="2045" y="840"/>
                    </a:lnTo>
                    <a:lnTo>
                      <a:pt x="1970" y="846"/>
                    </a:lnTo>
                    <a:lnTo>
                      <a:pt x="1895" y="851"/>
                    </a:lnTo>
                    <a:lnTo>
                      <a:pt x="1817" y="854"/>
                    </a:lnTo>
                    <a:lnTo>
                      <a:pt x="1738" y="857"/>
                    </a:lnTo>
                    <a:lnTo>
                      <a:pt x="1657" y="859"/>
                    </a:lnTo>
                    <a:lnTo>
                      <a:pt x="1576" y="859"/>
                    </a:lnTo>
                    <a:lnTo>
                      <a:pt x="1496" y="859"/>
                    </a:lnTo>
                    <a:lnTo>
                      <a:pt x="1415" y="857"/>
                    </a:lnTo>
                    <a:lnTo>
                      <a:pt x="1336" y="854"/>
                    </a:lnTo>
                    <a:lnTo>
                      <a:pt x="1258" y="851"/>
                    </a:lnTo>
                    <a:lnTo>
                      <a:pt x="1183" y="846"/>
                    </a:lnTo>
                    <a:lnTo>
                      <a:pt x="1108" y="840"/>
                    </a:lnTo>
                    <a:lnTo>
                      <a:pt x="1034" y="833"/>
                    </a:lnTo>
                    <a:lnTo>
                      <a:pt x="962" y="824"/>
                    </a:lnTo>
                    <a:lnTo>
                      <a:pt x="893" y="816"/>
                    </a:lnTo>
                    <a:lnTo>
                      <a:pt x="825" y="806"/>
                    </a:lnTo>
                    <a:lnTo>
                      <a:pt x="758" y="796"/>
                    </a:lnTo>
                    <a:lnTo>
                      <a:pt x="695" y="784"/>
                    </a:lnTo>
                    <a:lnTo>
                      <a:pt x="633" y="772"/>
                    </a:lnTo>
                    <a:lnTo>
                      <a:pt x="574" y="759"/>
                    </a:lnTo>
                    <a:lnTo>
                      <a:pt x="516" y="746"/>
                    </a:lnTo>
                    <a:lnTo>
                      <a:pt x="461" y="731"/>
                    </a:lnTo>
                    <a:lnTo>
                      <a:pt x="409" y="715"/>
                    </a:lnTo>
                    <a:lnTo>
                      <a:pt x="359" y="699"/>
                    </a:lnTo>
                    <a:lnTo>
                      <a:pt x="313" y="683"/>
                    </a:lnTo>
                    <a:lnTo>
                      <a:pt x="269" y="666"/>
                    </a:lnTo>
                    <a:lnTo>
                      <a:pt x="228" y="648"/>
                    </a:lnTo>
                    <a:lnTo>
                      <a:pt x="190" y="630"/>
                    </a:lnTo>
                    <a:lnTo>
                      <a:pt x="155" y="610"/>
                    </a:lnTo>
                    <a:lnTo>
                      <a:pt x="123" y="591"/>
                    </a:lnTo>
                    <a:lnTo>
                      <a:pt x="95" y="571"/>
                    </a:lnTo>
                    <a:lnTo>
                      <a:pt x="71" y="551"/>
                    </a:lnTo>
                    <a:lnTo>
                      <a:pt x="49" y="530"/>
                    </a:lnTo>
                    <a:lnTo>
                      <a:pt x="31" y="508"/>
                    </a:lnTo>
                    <a:lnTo>
                      <a:pt x="18" y="487"/>
                    </a:lnTo>
                    <a:lnTo>
                      <a:pt x="8" y="465"/>
                    </a:lnTo>
                    <a:lnTo>
                      <a:pt x="2" y="443"/>
                    </a:lnTo>
                    <a:lnTo>
                      <a:pt x="0" y="421"/>
                    </a:lnTo>
                    <a:lnTo>
                      <a:pt x="2" y="398"/>
                    </a:lnTo>
                    <a:lnTo>
                      <a:pt x="8" y="376"/>
                    </a:lnTo>
                    <a:lnTo>
                      <a:pt x="18" y="354"/>
                    </a:lnTo>
                    <a:lnTo>
                      <a:pt x="31" y="333"/>
                    </a:lnTo>
                    <a:lnTo>
                      <a:pt x="49" y="312"/>
                    </a:lnTo>
                    <a:lnTo>
                      <a:pt x="71" y="291"/>
                    </a:lnTo>
                    <a:lnTo>
                      <a:pt x="95" y="272"/>
                    </a:lnTo>
                    <a:lnTo>
                      <a:pt x="123" y="252"/>
                    </a:lnTo>
                    <a:lnTo>
                      <a:pt x="155" y="234"/>
                    </a:lnTo>
                    <a:lnTo>
                      <a:pt x="190" y="216"/>
                    </a:lnTo>
                    <a:lnTo>
                      <a:pt x="228" y="198"/>
                    </a:lnTo>
                    <a:lnTo>
                      <a:pt x="269" y="180"/>
                    </a:lnTo>
                    <a:lnTo>
                      <a:pt x="313" y="164"/>
                    </a:lnTo>
                    <a:lnTo>
                      <a:pt x="359" y="148"/>
                    </a:lnTo>
                    <a:lnTo>
                      <a:pt x="409" y="133"/>
                    </a:lnTo>
                    <a:lnTo>
                      <a:pt x="461" y="119"/>
                    </a:lnTo>
                    <a:lnTo>
                      <a:pt x="516" y="106"/>
                    </a:lnTo>
                    <a:lnTo>
                      <a:pt x="574" y="93"/>
                    </a:lnTo>
                    <a:lnTo>
                      <a:pt x="633" y="80"/>
                    </a:lnTo>
                    <a:lnTo>
                      <a:pt x="695" y="68"/>
                    </a:lnTo>
                    <a:lnTo>
                      <a:pt x="758" y="58"/>
                    </a:lnTo>
                    <a:lnTo>
                      <a:pt x="825" y="48"/>
                    </a:lnTo>
                    <a:lnTo>
                      <a:pt x="893" y="39"/>
                    </a:lnTo>
                    <a:lnTo>
                      <a:pt x="962" y="31"/>
                    </a:lnTo>
                    <a:lnTo>
                      <a:pt x="1034" y="24"/>
                    </a:lnTo>
                    <a:lnTo>
                      <a:pt x="1108" y="18"/>
                    </a:lnTo>
                    <a:lnTo>
                      <a:pt x="1183" y="12"/>
                    </a:lnTo>
                    <a:lnTo>
                      <a:pt x="1258" y="8"/>
                    </a:lnTo>
                    <a:lnTo>
                      <a:pt x="1336" y="4"/>
                    </a:lnTo>
                    <a:lnTo>
                      <a:pt x="1415" y="2"/>
                    </a:lnTo>
                    <a:lnTo>
                      <a:pt x="1496" y="0"/>
                    </a:lnTo>
                    <a:lnTo>
                      <a:pt x="1576" y="0"/>
                    </a:lnTo>
                    <a:lnTo>
                      <a:pt x="1657" y="0"/>
                    </a:lnTo>
                    <a:lnTo>
                      <a:pt x="1738" y="2"/>
                    </a:lnTo>
                    <a:lnTo>
                      <a:pt x="1817" y="4"/>
                    </a:lnTo>
                    <a:lnTo>
                      <a:pt x="1895" y="8"/>
                    </a:lnTo>
                    <a:lnTo>
                      <a:pt x="1970" y="12"/>
                    </a:lnTo>
                    <a:lnTo>
                      <a:pt x="2045" y="18"/>
                    </a:lnTo>
                    <a:lnTo>
                      <a:pt x="2119" y="24"/>
                    </a:lnTo>
                    <a:lnTo>
                      <a:pt x="2191" y="31"/>
                    </a:lnTo>
                    <a:lnTo>
                      <a:pt x="2260" y="39"/>
                    </a:lnTo>
                    <a:lnTo>
                      <a:pt x="2328" y="48"/>
                    </a:lnTo>
                    <a:lnTo>
                      <a:pt x="2395" y="58"/>
                    </a:lnTo>
                    <a:lnTo>
                      <a:pt x="2458" y="68"/>
                    </a:lnTo>
                    <a:lnTo>
                      <a:pt x="2520" y="80"/>
                    </a:lnTo>
                    <a:lnTo>
                      <a:pt x="2579" y="93"/>
                    </a:lnTo>
                    <a:lnTo>
                      <a:pt x="2637" y="106"/>
                    </a:lnTo>
                    <a:lnTo>
                      <a:pt x="2691" y="119"/>
                    </a:lnTo>
                    <a:lnTo>
                      <a:pt x="2744" y="133"/>
                    </a:lnTo>
                    <a:lnTo>
                      <a:pt x="2793" y="148"/>
                    </a:lnTo>
                    <a:lnTo>
                      <a:pt x="2840" y="164"/>
                    </a:lnTo>
                    <a:lnTo>
                      <a:pt x="2884" y="180"/>
                    </a:lnTo>
                    <a:lnTo>
                      <a:pt x="2925" y="198"/>
                    </a:lnTo>
                    <a:lnTo>
                      <a:pt x="2963" y="216"/>
                    </a:lnTo>
                    <a:lnTo>
                      <a:pt x="2997" y="234"/>
                    </a:lnTo>
                    <a:lnTo>
                      <a:pt x="3030" y="252"/>
                    </a:lnTo>
                    <a:lnTo>
                      <a:pt x="3058" y="272"/>
                    </a:lnTo>
                    <a:lnTo>
                      <a:pt x="3082" y="291"/>
                    </a:lnTo>
                    <a:lnTo>
                      <a:pt x="3103" y="312"/>
                    </a:lnTo>
                    <a:lnTo>
                      <a:pt x="3122" y="333"/>
                    </a:lnTo>
                    <a:lnTo>
                      <a:pt x="3135" y="354"/>
                    </a:lnTo>
                    <a:lnTo>
                      <a:pt x="3145" y="376"/>
                    </a:lnTo>
                    <a:lnTo>
                      <a:pt x="3151" y="398"/>
                    </a:lnTo>
                    <a:lnTo>
                      <a:pt x="3153" y="4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117160" y="6526800"/>
                <a:ext cx="347040" cy="102240"/>
              </a:xfrm>
              <a:custGeom>
                <a:avLst/>
                <a:gdLst/>
                <a:ahLst/>
                <a:rect l="l" t="t" r="r" b="b"/>
                <a:pathLst>
                  <a:path w="3151" h="858">
                    <a:moveTo>
                      <a:pt x="3151" y="420"/>
                    </a:moveTo>
                    <a:lnTo>
                      <a:pt x="3149" y="442"/>
                    </a:lnTo>
                    <a:lnTo>
                      <a:pt x="3143" y="464"/>
                    </a:lnTo>
                    <a:lnTo>
                      <a:pt x="3133" y="486"/>
                    </a:lnTo>
                    <a:lnTo>
                      <a:pt x="3119" y="507"/>
                    </a:lnTo>
                    <a:lnTo>
                      <a:pt x="3101" y="529"/>
                    </a:lnTo>
                    <a:lnTo>
                      <a:pt x="3080" y="550"/>
                    </a:lnTo>
                    <a:lnTo>
                      <a:pt x="3055" y="570"/>
                    </a:lnTo>
                    <a:lnTo>
                      <a:pt x="3027" y="590"/>
                    </a:lnTo>
                    <a:lnTo>
                      <a:pt x="2995" y="609"/>
                    </a:lnTo>
                    <a:lnTo>
                      <a:pt x="2961" y="629"/>
                    </a:lnTo>
                    <a:lnTo>
                      <a:pt x="2923" y="647"/>
                    </a:lnTo>
                    <a:lnTo>
                      <a:pt x="2882" y="664"/>
                    </a:lnTo>
                    <a:lnTo>
                      <a:pt x="2838" y="681"/>
                    </a:lnTo>
                    <a:lnTo>
                      <a:pt x="2791" y="698"/>
                    </a:lnTo>
                    <a:lnTo>
                      <a:pt x="2742" y="713"/>
                    </a:lnTo>
                    <a:lnTo>
                      <a:pt x="2689" y="729"/>
                    </a:lnTo>
                    <a:lnTo>
                      <a:pt x="2635" y="744"/>
                    </a:lnTo>
                    <a:lnTo>
                      <a:pt x="2577" y="758"/>
                    </a:lnTo>
                    <a:lnTo>
                      <a:pt x="2518" y="770"/>
                    </a:lnTo>
                    <a:lnTo>
                      <a:pt x="2456" y="782"/>
                    </a:lnTo>
                    <a:lnTo>
                      <a:pt x="2392" y="794"/>
                    </a:lnTo>
                    <a:lnTo>
                      <a:pt x="2327" y="804"/>
                    </a:lnTo>
                    <a:lnTo>
                      <a:pt x="2258" y="814"/>
                    </a:lnTo>
                    <a:lnTo>
                      <a:pt x="2188" y="822"/>
                    </a:lnTo>
                    <a:lnTo>
                      <a:pt x="2117" y="830"/>
                    </a:lnTo>
                    <a:lnTo>
                      <a:pt x="2044" y="838"/>
                    </a:lnTo>
                    <a:lnTo>
                      <a:pt x="1969" y="844"/>
                    </a:lnTo>
                    <a:lnTo>
                      <a:pt x="1893" y="849"/>
                    </a:lnTo>
                    <a:lnTo>
                      <a:pt x="1816" y="853"/>
                    </a:lnTo>
                    <a:lnTo>
                      <a:pt x="1737" y="855"/>
                    </a:lnTo>
                    <a:lnTo>
                      <a:pt x="1656" y="857"/>
                    </a:lnTo>
                    <a:lnTo>
                      <a:pt x="1575" y="858"/>
                    </a:lnTo>
                    <a:lnTo>
                      <a:pt x="1495" y="857"/>
                    </a:lnTo>
                    <a:lnTo>
                      <a:pt x="1415" y="855"/>
                    </a:lnTo>
                    <a:lnTo>
                      <a:pt x="1335" y="853"/>
                    </a:lnTo>
                    <a:lnTo>
                      <a:pt x="1258" y="849"/>
                    </a:lnTo>
                    <a:lnTo>
                      <a:pt x="1182" y="844"/>
                    </a:lnTo>
                    <a:lnTo>
                      <a:pt x="1107" y="838"/>
                    </a:lnTo>
                    <a:lnTo>
                      <a:pt x="1034" y="830"/>
                    </a:lnTo>
                    <a:lnTo>
                      <a:pt x="962" y="822"/>
                    </a:lnTo>
                    <a:lnTo>
                      <a:pt x="893" y="814"/>
                    </a:lnTo>
                    <a:lnTo>
                      <a:pt x="825" y="804"/>
                    </a:lnTo>
                    <a:lnTo>
                      <a:pt x="758" y="794"/>
                    </a:lnTo>
                    <a:lnTo>
                      <a:pt x="695" y="782"/>
                    </a:lnTo>
                    <a:lnTo>
                      <a:pt x="633" y="770"/>
                    </a:lnTo>
                    <a:lnTo>
                      <a:pt x="574" y="758"/>
                    </a:lnTo>
                    <a:lnTo>
                      <a:pt x="516" y="744"/>
                    </a:lnTo>
                    <a:lnTo>
                      <a:pt x="461" y="729"/>
                    </a:lnTo>
                    <a:lnTo>
                      <a:pt x="409" y="713"/>
                    </a:lnTo>
                    <a:lnTo>
                      <a:pt x="359" y="698"/>
                    </a:lnTo>
                    <a:lnTo>
                      <a:pt x="313" y="681"/>
                    </a:lnTo>
                    <a:lnTo>
                      <a:pt x="270" y="664"/>
                    </a:lnTo>
                    <a:lnTo>
                      <a:pt x="228" y="647"/>
                    </a:lnTo>
                    <a:lnTo>
                      <a:pt x="190" y="629"/>
                    </a:lnTo>
                    <a:lnTo>
                      <a:pt x="155" y="609"/>
                    </a:lnTo>
                    <a:lnTo>
                      <a:pt x="124" y="590"/>
                    </a:lnTo>
                    <a:lnTo>
                      <a:pt x="96" y="570"/>
                    </a:lnTo>
                    <a:lnTo>
                      <a:pt x="71" y="550"/>
                    </a:lnTo>
                    <a:lnTo>
                      <a:pt x="49" y="529"/>
                    </a:lnTo>
                    <a:lnTo>
                      <a:pt x="32" y="507"/>
                    </a:lnTo>
                    <a:lnTo>
                      <a:pt x="18" y="486"/>
                    </a:lnTo>
                    <a:lnTo>
                      <a:pt x="8" y="464"/>
                    </a:lnTo>
                    <a:lnTo>
                      <a:pt x="2" y="442"/>
                    </a:lnTo>
                    <a:lnTo>
                      <a:pt x="0" y="420"/>
                    </a:lnTo>
                    <a:lnTo>
                      <a:pt x="2" y="397"/>
                    </a:lnTo>
                    <a:lnTo>
                      <a:pt x="8" y="375"/>
                    </a:lnTo>
                    <a:lnTo>
                      <a:pt x="18" y="353"/>
                    </a:lnTo>
                    <a:lnTo>
                      <a:pt x="32" y="332"/>
                    </a:lnTo>
                    <a:lnTo>
                      <a:pt x="49" y="312"/>
                    </a:lnTo>
                    <a:lnTo>
                      <a:pt x="71" y="290"/>
                    </a:lnTo>
                    <a:lnTo>
                      <a:pt x="96" y="271"/>
                    </a:lnTo>
                    <a:lnTo>
                      <a:pt x="124" y="252"/>
                    </a:lnTo>
                    <a:lnTo>
                      <a:pt x="155" y="233"/>
                    </a:lnTo>
                    <a:lnTo>
                      <a:pt x="190" y="215"/>
                    </a:lnTo>
                    <a:lnTo>
                      <a:pt x="228" y="198"/>
                    </a:lnTo>
                    <a:lnTo>
                      <a:pt x="270" y="180"/>
                    </a:lnTo>
                    <a:lnTo>
                      <a:pt x="313" y="164"/>
                    </a:lnTo>
                    <a:lnTo>
                      <a:pt x="359" y="148"/>
                    </a:lnTo>
                    <a:lnTo>
                      <a:pt x="409" y="133"/>
                    </a:lnTo>
                    <a:lnTo>
                      <a:pt x="461" y="119"/>
                    </a:lnTo>
                    <a:lnTo>
                      <a:pt x="516" y="105"/>
                    </a:lnTo>
                    <a:lnTo>
                      <a:pt x="574" y="92"/>
                    </a:lnTo>
                    <a:lnTo>
                      <a:pt x="633" y="79"/>
                    </a:lnTo>
                    <a:lnTo>
                      <a:pt x="695" y="68"/>
                    </a:lnTo>
                    <a:lnTo>
                      <a:pt x="758" y="58"/>
                    </a:lnTo>
                    <a:lnTo>
                      <a:pt x="825" y="48"/>
                    </a:lnTo>
                    <a:lnTo>
                      <a:pt x="893" y="39"/>
                    </a:lnTo>
                    <a:lnTo>
                      <a:pt x="962" y="31"/>
                    </a:lnTo>
                    <a:lnTo>
                      <a:pt x="1034" y="24"/>
                    </a:lnTo>
                    <a:lnTo>
                      <a:pt x="1107" y="17"/>
                    </a:lnTo>
                    <a:lnTo>
                      <a:pt x="1182" y="12"/>
                    </a:lnTo>
                    <a:lnTo>
                      <a:pt x="1258" y="8"/>
                    </a:lnTo>
                    <a:lnTo>
                      <a:pt x="1335" y="4"/>
                    </a:lnTo>
                    <a:lnTo>
                      <a:pt x="1415" y="2"/>
                    </a:lnTo>
                    <a:lnTo>
                      <a:pt x="1495" y="0"/>
                    </a:lnTo>
                    <a:lnTo>
                      <a:pt x="1575" y="0"/>
                    </a:lnTo>
                    <a:lnTo>
                      <a:pt x="1656" y="0"/>
                    </a:lnTo>
                    <a:lnTo>
                      <a:pt x="1737" y="2"/>
                    </a:lnTo>
                    <a:lnTo>
                      <a:pt x="1816" y="4"/>
                    </a:lnTo>
                    <a:lnTo>
                      <a:pt x="1893" y="8"/>
                    </a:lnTo>
                    <a:lnTo>
                      <a:pt x="1969" y="12"/>
                    </a:lnTo>
                    <a:lnTo>
                      <a:pt x="2044" y="17"/>
                    </a:lnTo>
                    <a:lnTo>
                      <a:pt x="2117" y="24"/>
                    </a:lnTo>
                    <a:lnTo>
                      <a:pt x="2188" y="31"/>
                    </a:lnTo>
                    <a:lnTo>
                      <a:pt x="2258" y="39"/>
                    </a:lnTo>
                    <a:lnTo>
                      <a:pt x="2327" y="48"/>
                    </a:lnTo>
                    <a:lnTo>
                      <a:pt x="2392" y="58"/>
                    </a:lnTo>
                    <a:lnTo>
                      <a:pt x="2456" y="68"/>
                    </a:lnTo>
                    <a:lnTo>
                      <a:pt x="2518" y="79"/>
                    </a:lnTo>
                    <a:lnTo>
                      <a:pt x="2577" y="92"/>
                    </a:lnTo>
                    <a:lnTo>
                      <a:pt x="2635" y="105"/>
                    </a:lnTo>
                    <a:lnTo>
                      <a:pt x="2689" y="119"/>
                    </a:lnTo>
                    <a:lnTo>
                      <a:pt x="2742" y="133"/>
                    </a:lnTo>
                    <a:lnTo>
                      <a:pt x="2791" y="148"/>
                    </a:lnTo>
                    <a:lnTo>
                      <a:pt x="2838" y="164"/>
                    </a:lnTo>
                    <a:lnTo>
                      <a:pt x="2882" y="180"/>
                    </a:lnTo>
                    <a:lnTo>
                      <a:pt x="2923" y="198"/>
                    </a:lnTo>
                    <a:lnTo>
                      <a:pt x="2961" y="215"/>
                    </a:lnTo>
                    <a:lnTo>
                      <a:pt x="2995" y="233"/>
                    </a:lnTo>
                    <a:lnTo>
                      <a:pt x="3027" y="252"/>
                    </a:lnTo>
                    <a:lnTo>
                      <a:pt x="3055" y="271"/>
                    </a:lnTo>
                    <a:lnTo>
                      <a:pt x="3080" y="290"/>
                    </a:lnTo>
                    <a:lnTo>
                      <a:pt x="3101" y="312"/>
                    </a:lnTo>
                    <a:lnTo>
                      <a:pt x="3119" y="332"/>
                    </a:lnTo>
                    <a:lnTo>
                      <a:pt x="3133" y="353"/>
                    </a:lnTo>
                    <a:lnTo>
                      <a:pt x="3143" y="375"/>
                    </a:lnTo>
                    <a:lnTo>
                      <a:pt x="3149" y="397"/>
                    </a:lnTo>
                    <a:lnTo>
                      <a:pt x="3151" y="4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117160" y="6526800"/>
                <a:ext cx="347040" cy="102240"/>
              </a:xfrm>
              <a:custGeom>
                <a:avLst/>
                <a:gdLst/>
                <a:ahLst/>
                <a:rect l="l" t="t" r="r" b="b"/>
                <a:pathLst>
                  <a:path w="3148" h="857">
                    <a:moveTo>
                      <a:pt x="3148" y="420"/>
                    </a:moveTo>
                    <a:lnTo>
                      <a:pt x="3146" y="442"/>
                    </a:lnTo>
                    <a:lnTo>
                      <a:pt x="3140" y="464"/>
                    </a:lnTo>
                    <a:lnTo>
                      <a:pt x="3130" y="486"/>
                    </a:lnTo>
                    <a:lnTo>
                      <a:pt x="3116" y="507"/>
                    </a:lnTo>
                    <a:lnTo>
                      <a:pt x="3098" y="529"/>
                    </a:lnTo>
                    <a:lnTo>
                      <a:pt x="3077" y="550"/>
                    </a:lnTo>
                    <a:lnTo>
                      <a:pt x="3052" y="570"/>
                    </a:lnTo>
                    <a:lnTo>
                      <a:pt x="3024" y="589"/>
                    </a:lnTo>
                    <a:lnTo>
                      <a:pt x="2992" y="608"/>
                    </a:lnTo>
                    <a:lnTo>
                      <a:pt x="2957" y="628"/>
                    </a:lnTo>
                    <a:lnTo>
                      <a:pt x="2920" y="646"/>
                    </a:lnTo>
                    <a:lnTo>
                      <a:pt x="2878" y="664"/>
                    </a:lnTo>
                    <a:lnTo>
                      <a:pt x="2835" y="681"/>
                    </a:lnTo>
                    <a:lnTo>
                      <a:pt x="2788" y="697"/>
                    </a:lnTo>
                    <a:lnTo>
                      <a:pt x="2739" y="713"/>
                    </a:lnTo>
                    <a:lnTo>
                      <a:pt x="2686" y="729"/>
                    </a:lnTo>
                    <a:lnTo>
                      <a:pt x="2632" y="743"/>
                    </a:lnTo>
                    <a:lnTo>
                      <a:pt x="2574" y="757"/>
                    </a:lnTo>
                    <a:lnTo>
                      <a:pt x="2516" y="770"/>
                    </a:lnTo>
                    <a:lnTo>
                      <a:pt x="2453" y="782"/>
                    </a:lnTo>
                    <a:lnTo>
                      <a:pt x="2389" y="793"/>
                    </a:lnTo>
                    <a:lnTo>
                      <a:pt x="2324" y="803"/>
                    </a:lnTo>
                    <a:lnTo>
                      <a:pt x="2256" y="813"/>
                    </a:lnTo>
                    <a:lnTo>
                      <a:pt x="2186" y="822"/>
                    </a:lnTo>
                    <a:lnTo>
                      <a:pt x="2115" y="829"/>
                    </a:lnTo>
                    <a:lnTo>
                      <a:pt x="2042" y="837"/>
                    </a:lnTo>
                    <a:lnTo>
                      <a:pt x="1967" y="843"/>
                    </a:lnTo>
                    <a:lnTo>
                      <a:pt x="1891" y="848"/>
                    </a:lnTo>
                    <a:lnTo>
                      <a:pt x="1813" y="852"/>
                    </a:lnTo>
                    <a:lnTo>
                      <a:pt x="1734" y="854"/>
                    </a:lnTo>
                    <a:lnTo>
                      <a:pt x="1654" y="856"/>
                    </a:lnTo>
                    <a:lnTo>
                      <a:pt x="1573" y="857"/>
                    </a:lnTo>
                    <a:lnTo>
                      <a:pt x="1493" y="856"/>
                    </a:lnTo>
                    <a:lnTo>
                      <a:pt x="1413" y="854"/>
                    </a:lnTo>
                    <a:lnTo>
                      <a:pt x="1334" y="852"/>
                    </a:lnTo>
                    <a:lnTo>
                      <a:pt x="1256" y="848"/>
                    </a:lnTo>
                    <a:lnTo>
                      <a:pt x="1181" y="843"/>
                    </a:lnTo>
                    <a:lnTo>
                      <a:pt x="1106" y="837"/>
                    </a:lnTo>
                    <a:lnTo>
                      <a:pt x="1032" y="829"/>
                    </a:lnTo>
                    <a:lnTo>
                      <a:pt x="960" y="822"/>
                    </a:lnTo>
                    <a:lnTo>
                      <a:pt x="891" y="813"/>
                    </a:lnTo>
                    <a:lnTo>
                      <a:pt x="823" y="803"/>
                    </a:lnTo>
                    <a:lnTo>
                      <a:pt x="757" y="793"/>
                    </a:lnTo>
                    <a:lnTo>
                      <a:pt x="694" y="782"/>
                    </a:lnTo>
                    <a:lnTo>
                      <a:pt x="632" y="770"/>
                    </a:lnTo>
                    <a:lnTo>
                      <a:pt x="573" y="757"/>
                    </a:lnTo>
                    <a:lnTo>
                      <a:pt x="515" y="743"/>
                    </a:lnTo>
                    <a:lnTo>
                      <a:pt x="461" y="729"/>
                    </a:lnTo>
                    <a:lnTo>
                      <a:pt x="408" y="713"/>
                    </a:lnTo>
                    <a:lnTo>
                      <a:pt x="359" y="697"/>
                    </a:lnTo>
                    <a:lnTo>
                      <a:pt x="312" y="681"/>
                    </a:lnTo>
                    <a:lnTo>
                      <a:pt x="269" y="664"/>
                    </a:lnTo>
                    <a:lnTo>
                      <a:pt x="227" y="646"/>
                    </a:lnTo>
                    <a:lnTo>
                      <a:pt x="190" y="628"/>
                    </a:lnTo>
                    <a:lnTo>
                      <a:pt x="154" y="608"/>
                    </a:lnTo>
                    <a:lnTo>
                      <a:pt x="123" y="589"/>
                    </a:lnTo>
                    <a:lnTo>
                      <a:pt x="95" y="570"/>
                    </a:lnTo>
                    <a:lnTo>
                      <a:pt x="71" y="550"/>
                    </a:lnTo>
                    <a:lnTo>
                      <a:pt x="49" y="529"/>
                    </a:lnTo>
                    <a:lnTo>
                      <a:pt x="31" y="507"/>
                    </a:lnTo>
                    <a:lnTo>
                      <a:pt x="18" y="486"/>
                    </a:lnTo>
                    <a:lnTo>
                      <a:pt x="8" y="464"/>
                    </a:lnTo>
                    <a:lnTo>
                      <a:pt x="2" y="442"/>
                    </a:lnTo>
                    <a:lnTo>
                      <a:pt x="0" y="420"/>
                    </a:lnTo>
                    <a:lnTo>
                      <a:pt x="2" y="397"/>
                    </a:lnTo>
                    <a:lnTo>
                      <a:pt x="8" y="375"/>
                    </a:lnTo>
                    <a:lnTo>
                      <a:pt x="18" y="353"/>
                    </a:lnTo>
                    <a:lnTo>
                      <a:pt x="31" y="332"/>
                    </a:lnTo>
                    <a:lnTo>
                      <a:pt x="49" y="312"/>
                    </a:lnTo>
                    <a:lnTo>
                      <a:pt x="71" y="291"/>
                    </a:lnTo>
                    <a:lnTo>
                      <a:pt x="95" y="271"/>
                    </a:lnTo>
                    <a:lnTo>
                      <a:pt x="123" y="252"/>
                    </a:lnTo>
                    <a:lnTo>
                      <a:pt x="154" y="234"/>
                    </a:lnTo>
                    <a:lnTo>
                      <a:pt x="190" y="216"/>
                    </a:lnTo>
                    <a:lnTo>
                      <a:pt x="227" y="198"/>
                    </a:lnTo>
                    <a:lnTo>
                      <a:pt x="269" y="180"/>
                    </a:lnTo>
                    <a:lnTo>
                      <a:pt x="312" y="164"/>
                    </a:lnTo>
                    <a:lnTo>
                      <a:pt x="359" y="149"/>
                    </a:lnTo>
                    <a:lnTo>
                      <a:pt x="408" y="134"/>
                    </a:lnTo>
                    <a:lnTo>
                      <a:pt x="461" y="120"/>
                    </a:lnTo>
                    <a:lnTo>
                      <a:pt x="515" y="106"/>
                    </a:lnTo>
                    <a:lnTo>
                      <a:pt x="573" y="93"/>
                    </a:lnTo>
                    <a:lnTo>
                      <a:pt x="632" y="80"/>
                    </a:lnTo>
                    <a:lnTo>
                      <a:pt x="694" y="69"/>
                    </a:lnTo>
                    <a:lnTo>
                      <a:pt x="757" y="58"/>
                    </a:lnTo>
                    <a:lnTo>
                      <a:pt x="823" y="49"/>
                    </a:lnTo>
                    <a:lnTo>
                      <a:pt x="891" y="40"/>
                    </a:lnTo>
                    <a:lnTo>
                      <a:pt x="960" y="32"/>
                    </a:lnTo>
                    <a:lnTo>
                      <a:pt x="1032" y="25"/>
                    </a:lnTo>
                    <a:lnTo>
                      <a:pt x="1106" y="18"/>
                    </a:lnTo>
                    <a:lnTo>
                      <a:pt x="1181" y="13"/>
                    </a:lnTo>
                    <a:lnTo>
                      <a:pt x="1256" y="9"/>
                    </a:lnTo>
                    <a:lnTo>
                      <a:pt x="1334" y="5"/>
                    </a:lnTo>
                    <a:lnTo>
                      <a:pt x="1413" y="3"/>
                    </a:lnTo>
                    <a:lnTo>
                      <a:pt x="1493" y="1"/>
                    </a:lnTo>
                    <a:lnTo>
                      <a:pt x="1573" y="0"/>
                    </a:lnTo>
                    <a:lnTo>
                      <a:pt x="1654" y="1"/>
                    </a:lnTo>
                    <a:lnTo>
                      <a:pt x="1734" y="3"/>
                    </a:lnTo>
                    <a:lnTo>
                      <a:pt x="1813" y="5"/>
                    </a:lnTo>
                    <a:lnTo>
                      <a:pt x="1891" y="9"/>
                    </a:lnTo>
                    <a:lnTo>
                      <a:pt x="1967" y="13"/>
                    </a:lnTo>
                    <a:lnTo>
                      <a:pt x="2042" y="18"/>
                    </a:lnTo>
                    <a:lnTo>
                      <a:pt x="2115" y="25"/>
                    </a:lnTo>
                    <a:lnTo>
                      <a:pt x="2186" y="32"/>
                    </a:lnTo>
                    <a:lnTo>
                      <a:pt x="2256" y="40"/>
                    </a:lnTo>
                    <a:lnTo>
                      <a:pt x="2324" y="49"/>
                    </a:lnTo>
                    <a:lnTo>
                      <a:pt x="2389" y="58"/>
                    </a:lnTo>
                    <a:lnTo>
                      <a:pt x="2453" y="69"/>
                    </a:lnTo>
                    <a:lnTo>
                      <a:pt x="2516" y="80"/>
                    </a:lnTo>
                    <a:lnTo>
                      <a:pt x="2574" y="93"/>
                    </a:lnTo>
                    <a:lnTo>
                      <a:pt x="2632" y="106"/>
                    </a:lnTo>
                    <a:lnTo>
                      <a:pt x="2686" y="120"/>
                    </a:lnTo>
                    <a:lnTo>
                      <a:pt x="2739" y="134"/>
                    </a:lnTo>
                    <a:lnTo>
                      <a:pt x="2788" y="149"/>
                    </a:lnTo>
                    <a:lnTo>
                      <a:pt x="2835" y="164"/>
                    </a:lnTo>
                    <a:lnTo>
                      <a:pt x="2878" y="180"/>
                    </a:lnTo>
                    <a:lnTo>
                      <a:pt x="2920" y="198"/>
                    </a:lnTo>
                    <a:lnTo>
                      <a:pt x="2957" y="216"/>
                    </a:lnTo>
                    <a:lnTo>
                      <a:pt x="2992" y="234"/>
                    </a:lnTo>
                    <a:lnTo>
                      <a:pt x="3024" y="252"/>
                    </a:lnTo>
                    <a:lnTo>
                      <a:pt x="3052" y="271"/>
                    </a:lnTo>
                    <a:lnTo>
                      <a:pt x="3077" y="291"/>
                    </a:lnTo>
                    <a:lnTo>
                      <a:pt x="3098" y="312"/>
                    </a:lnTo>
                    <a:lnTo>
                      <a:pt x="3116" y="332"/>
                    </a:lnTo>
                    <a:lnTo>
                      <a:pt x="3130" y="353"/>
                    </a:lnTo>
                    <a:lnTo>
                      <a:pt x="3140" y="375"/>
                    </a:lnTo>
                    <a:lnTo>
                      <a:pt x="3146" y="397"/>
                    </a:lnTo>
                    <a:lnTo>
                      <a:pt x="3148" y="4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117160" y="6526800"/>
                <a:ext cx="347040" cy="102240"/>
              </a:xfrm>
              <a:custGeom>
                <a:avLst/>
                <a:gdLst/>
                <a:ahLst/>
                <a:rect l="l" t="t" r="r" b="b"/>
                <a:pathLst>
                  <a:path w="3145" h="855">
                    <a:moveTo>
                      <a:pt x="3145" y="419"/>
                    </a:moveTo>
                    <a:lnTo>
                      <a:pt x="3143" y="441"/>
                    </a:lnTo>
                    <a:lnTo>
                      <a:pt x="3137" y="463"/>
                    </a:lnTo>
                    <a:lnTo>
                      <a:pt x="3127" y="485"/>
                    </a:lnTo>
                    <a:lnTo>
                      <a:pt x="3114" y="506"/>
                    </a:lnTo>
                    <a:lnTo>
                      <a:pt x="3095" y="528"/>
                    </a:lnTo>
                    <a:lnTo>
                      <a:pt x="3074" y="548"/>
                    </a:lnTo>
                    <a:lnTo>
                      <a:pt x="3050" y="568"/>
                    </a:lnTo>
                    <a:lnTo>
                      <a:pt x="3022" y="588"/>
                    </a:lnTo>
                    <a:lnTo>
                      <a:pt x="2990" y="607"/>
                    </a:lnTo>
                    <a:lnTo>
                      <a:pt x="2955" y="627"/>
                    </a:lnTo>
                    <a:lnTo>
                      <a:pt x="2918" y="645"/>
                    </a:lnTo>
                    <a:lnTo>
                      <a:pt x="2876" y="662"/>
                    </a:lnTo>
                    <a:lnTo>
                      <a:pt x="2833" y="679"/>
                    </a:lnTo>
                    <a:lnTo>
                      <a:pt x="2786" y="696"/>
                    </a:lnTo>
                    <a:lnTo>
                      <a:pt x="2737" y="711"/>
                    </a:lnTo>
                    <a:lnTo>
                      <a:pt x="2684" y="727"/>
                    </a:lnTo>
                    <a:lnTo>
                      <a:pt x="2630" y="742"/>
                    </a:lnTo>
                    <a:lnTo>
                      <a:pt x="2573" y="755"/>
                    </a:lnTo>
                    <a:lnTo>
                      <a:pt x="2514" y="768"/>
                    </a:lnTo>
                    <a:lnTo>
                      <a:pt x="2452" y="780"/>
                    </a:lnTo>
                    <a:lnTo>
                      <a:pt x="2387" y="791"/>
                    </a:lnTo>
                    <a:lnTo>
                      <a:pt x="2322" y="802"/>
                    </a:lnTo>
                    <a:lnTo>
                      <a:pt x="2254" y="811"/>
                    </a:lnTo>
                    <a:lnTo>
                      <a:pt x="2184" y="820"/>
                    </a:lnTo>
                    <a:lnTo>
                      <a:pt x="2113" y="828"/>
                    </a:lnTo>
                    <a:lnTo>
                      <a:pt x="2040" y="835"/>
                    </a:lnTo>
                    <a:lnTo>
                      <a:pt x="1965" y="841"/>
                    </a:lnTo>
                    <a:lnTo>
                      <a:pt x="1890" y="846"/>
                    </a:lnTo>
                    <a:lnTo>
                      <a:pt x="1812" y="850"/>
                    </a:lnTo>
                    <a:lnTo>
                      <a:pt x="1733" y="852"/>
                    </a:lnTo>
                    <a:lnTo>
                      <a:pt x="1653" y="854"/>
                    </a:lnTo>
                    <a:lnTo>
                      <a:pt x="1572" y="855"/>
                    </a:lnTo>
                    <a:lnTo>
                      <a:pt x="1492" y="854"/>
                    </a:lnTo>
                    <a:lnTo>
                      <a:pt x="1412" y="852"/>
                    </a:lnTo>
                    <a:lnTo>
                      <a:pt x="1333" y="850"/>
                    </a:lnTo>
                    <a:lnTo>
                      <a:pt x="1255" y="846"/>
                    </a:lnTo>
                    <a:lnTo>
                      <a:pt x="1180" y="841"/>
                    </a:lnTo>
                    <a:lnTo>
                      <a:pt x="1105" y="835"/>
                    </a:lnTo>
                    <a:lnTo>
                      <a:pt x="1032" y="828"/>
                    </a:lnTo>
                    <a:lnTo>
                      <a:pt x="960" y="820"/>
                    </a:lnTo>
                    <a:lnTo>
                      <a:pt x="891" y="811"/>
                    </a:lnTo>
                    <a:lnTo>
                      <a:pt x="823" y="802"/>
                    </a:lnTo>
                    <a:lnTo>
                      <a:pt x="757" y="791"/>
                    </a:lnTo>
                    <a:lnTo>
                      <a:pt x="693" y="780"/>
                    </a:lnTo>
                    <a:lnTo>
                      <a:pt x="631" y="768"/>
                    </a:lnTo>
                    <a:lnTo>
                      <a:pt x="573" y="755"/>
                    </a:lnTo>
                    <a:lnTo>
                      <a:pt x="515" y="742"/>
                    </a:lnTo>
                    <a:lnTo>
                      <a:pt x="461" y="727"/>
                    </a:lnTo>
                    <a:lnTo>
                      <a:pt x="408" y="711"/>
                    </a:lnTo>
                    <a:lnTo>
                      <a:pt x="360" y="696"/>
                    </a:lnTo>
                    <a:lnTo>
                      <a:pt x="312" y="679"/>
                    </a:lnTo>
                    <a:lnTo>
                      <a:pt x="269" y="662"/>
                    </a:lnTo>
                    <a:lnTo>
                      <a:pt x="227" y="645"/>
                    </a:lnTo>
                    <a:lnTo>
                      <a:pt x="190" y="627"/>
                    </a:lnTo>
                    <a:lnTo>
                      <a:pt x="156" y="607"/>
                    </a:lnTo>
                    <a:lnTo>
                      <a:pt x="123" y="588"/>
                    </a:lnTo>
                    <a:lnTo>
                      <a:pt x="95" y="568"/>
                    </a:lnTo>
                    <a:lnTo>
                      <a:pt x="71" y="548"/>
                    </a:lnTo>
                    <a:lnTo>
                      <a:pt x="49" y="528"/>
                    </a:lnTo>
                    <a:lnTo>
                      <a:pt x="32" y="506"/>
                    </a:lnTo>
                    <a:lnTo>
                      <a:pt x="18" y="485"/>
                    </a:lnTo>
                    <a:lnTo>
                      <a:pt x="8" y="463"/>
                    </a:lnTo>
                    <a:lnTo>
                      <a:pt x="2" y="441"/>
                    </a:lnTo>
                    <a:lnTo>
                      <a:pt x="0" y="419"/>
                    </a:lnTo>
                    <a:lnTo>
                      <a:pt x="2" y="396"/>
                    </a:lnTo>
                    <a:lnTo>
                      <a:pt x="8" y="374"/>
                    </a:lnTo>
                    <a:lnTo>
                      <a:pt x="18" y="352"/>
                    </a:lnTo>
                    <a:lnTo>
                      <a:pt x="32" y="332"/>
                    </a:lnTo>
                    <a:lnTo>
                      <a:pt x="49" y="311"/>
                    </a:lnTo>
                    <a:lnTo>
                      <a:pt x="71" y="290"/>
                    </a:lnTo>
                    <a:lnTo>
                      <a:pt x="95" y="270"/>
                    </a:lnTo>
                    <a:lnTo>
                      <a:pt x="123" y="251"/>
                    </a:lnTo>
                    <a:lnTo>
                      <a:pt x="156" y="233"/>
                    </a:lnTo>
                    <a:lnTo>
                      <a:pt x="190" y="215"/>
                    </a:lnTo>
                    <a:lnTo>
                      <a:pt x="227" y="198"/>
                    </a:lnTo>
                    <a:lnTo>
                      <a:pt x="269" y="180"/>
                    </a:lnTo>
                    <a:lnTo>
                      <a:pt x="312" y="164"/>
                    </a:lnTo>
                    <a:lnTo>
                      <a:pt x="360" y="148"/>
                    </a:lnTo>
                    <a:lnTo>
                      <a:pt x="408" y="133"/>
                    </a:lnTo>
                    <a:lnTo>
                      <a:pt x="461" y="119"/>
                    </a:lnTo>
                    <a:lnTo>
                      <a:pt x="515" y="106"/>
                    </a:lnTo>
                    <a:lnTo>
                      <a:pt x="573" y="93"/>
                    </a:lnTo>
                    <a:lnTo>
                      <a:pt x="631" y="80"/>
                    </a:lnTo>
                    <a:lnTo>
                      <a:pt x="693" y="69"/>
                    </a:lnTo>
                    <a:lnTo>
                      <a:pt x="757" y="58"/>
                    </a:lnTo>
                    <a:lnTo>
                      <a:pt x="823" y="48"/>
                    </a:lnTo>
                    <a:lnTo>
                      <a:pt x="891" y="40"/>
                    </a:lnTo>
                    <a:lnTo>
                      <a:pt x="960" y="32"/>
                    </a:lnTo>
                    <a:lnTo>
                      <a:pt x="1032" y="24"/>
                    </a:lnTo>
                    <a:lnTo>
                      <a:pt x="1105" y="18"/>
                    </a:lnTo>
                    <a:lnTo>
                      <a:pt x="1180" y="13"/>
                    </a:lnTo>
                    <a:lnTo>
                      <a:pt x="1255" y="8"/>
                    </a:lnTo>
                    <a:lnTo>
                      <a:pt x="1333" y="5"/>
                    </a:lnTo>
                    <a:lnTo>
                      <a:pt x="1412" y="2"/>
                    </a:lnTo>
                    <a:lnTo>
                      <a:pt x="1492" y="1"/>
                    </a:lnTo>
                    <a:lnTo>
                      <a:pt x="1572" y="0"/>
                    </a:lnTo>
                    <a:lnTo>
                      <a:pt x="1653" y="1"/>
                    </a:lnTo>
                    <a:lnTo>
                      <a:pt x="1733" y="2"/>
                    </a:lnTo>
                    <a:lnTo>
                      <a:pt x="1812" y="5"/>
                    </a:lnTo>
                    <a:lnTo>
                      <a:pt x="1890" y="8"/>
                    </a:lnTo>
                    <a:lnTo>
                      <a:pt x="1965" y="13"/>
                    </a:lnTo>
                    <a:lnTo>
                      <a:pt x="2040" y="18"/>
                    </a:lnTo>
                    <a:lnTo>
                      <a:pt x="2113" y="24"/>
                    </a:lnTo>
                    <a:lnTo>
                      <a:pt x="2184" y="32"/>
                    </a:lnTo>
                    <a:lnTo>
                      <a:pt x="2254" y="40"/>
                    </a:lnTo>
                    <a:lnTo>
                      <a:pt x="2322" y="48"/>
                    </a:lnTo>
                    <a:lnTo>
                      <a:pt x="2387" y="58"/>
                    </a:lnTo>
                    <a:lnTo>
                      <a:pt x="2452" y="69"/>
                    </a:lnTo>
                    <a:lnTo>
                      <a:pt x="2514" y="80"/>
                    </a:lnTo>
                    <a:lnTo>
                      <a:pt x="2573" y="93"/>
                    </a:lnTo>
                    <a:lnTo>
                      <a:pt x="2630" y="106"/>
                    </a:lnTo>
                    <a:lnTo>
                      <a:pt x="2684" y="119"/>
                    </a:lnTo>
                    <a:lnTo>
                      <a:pt x="2737" y="133"/>
                    </a:lnTo>
                    <a:lnTo>
                      <a:pt x="2786" y="148"/>
                    </a:lnTo>
                    <a:lnTo>
                      <a:pt x="2833" y="164"/>
                    </a:lnTo>
                    <a:lnTo>
                      <a:pt x="2876" y="180"/>
                    </a:lnTo>
                    <a:lnTo>
                      <a:pt x="2918" y="198"/>
                    </a:lnTo>
                    <a:lnTo>
                      <a:pt x="2955" y="215"/>
                    </a:lnTo>
                    <a:lnTo>
                      <a:pt x="2990" y="233"/>
                    </a:lnTo>
                    <a:lnTo>
                      <a:pt x="3022" y="251"/>
                    </a:lnTo>
                    <a:lnTo>
                      <a:pt x="3050" y="270"/>
                    </a:lnTo>
                    <a:lnTo>
                      <a:pt x="3074" y="290"/>
                    </a:lnTo>
                    <a:lnTo>
                      <a:pt x="3095" y="311"/>
                    </a:lnTo>
                    <a:lnTo>
                      <a:pt x="3114" y="332"/>
                    </a:lnTo>
                    <a:lnTo>
                      <a:pt x="3127" y="352"/>
                    </a:lnTo>
                    <a:lnTo>
                      <a:pt x="3137" y="374"/>
                    </a:lnTo>
                    <a:lnTo>
                      <a:pt x="3143" y="396"/>
                    </a:lnTo>
                    <a:lnTo>
                      <a:pt x="3145" y="4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117160" y="6526800"/>
                <a:ext cx="347040" cy="102240"/>
              </a:xfrm>
              <a:custGeom>
                <a:avLst/>
                <a:gdLst/>
                <a:ahLst/>
                <a:rect l="l" t="t" r="r" b="b"/>
                <a:pathLst>
                  <a:path w="3143" h="853">
                    <a:moveTo>
                      <a:pt x="3143" y="418"/>
                    </a:moveTo>
                    <a:lnTo>
                      <a:pt x="3141" y="440"/>
                    </a:lnTo>
                    <a:lnTo>
                      <a:pt x="3135" y="462"/>
                    </a:lnTo>
                    <a:lnTo>
                      <a:pt x="3125" y="483"/>
                    </a:lnTo>
                    <a:lnTo>
                      <a:pt x="3111" y="505"/>
                    </a:lnTo>
                    <a:lnTo>
                      <a:pt x="3093" y="527"/>
                    </a:lnTo>
                    <a:lnTo>
                      <a:pt x="3072" y="547"/>
                    </a:lnTo>
                    <a:lnTo>
                      <a:pt x="3047" y="567"/>
                    </a:lnTo>
                    <a:lnTo>
                      <a:pt x="3019" y="587"/>
                    </a:lnTo>
                    <a:lnTo>
                      <a:pt x="2987" y="606"/>
                    </a:lnTo>
                    <a:lnTo>
                      <a:pt x="2953" y="625"/>
                    </a:lnTo>
                    <a:lnTo>
                      <a:pt x="2916" y="643"/>
                    </a:lnTo>
                    <a:lnTo>
                      <a:pt x="2874" y="661"/>
                    </a:lnTo>
                    <a:lnTo>
                      <a:pt x="2831" y="678"/>
                    </a:lnTo>
                    <a:lnTo>
                      <a:pt x="2783" y="694"/>
                    </a:lnTo>
                    <a:lnTo>
                      <a:pt x="2735" y="710"/>
                    </a:lnTo>
                    <a:lnTo>
                      <a:pt x="2682" y="726"/>
                    </a:lnTo>
                    <a:lnTo>
                      <a:pt x="2628" y="740"/>
                    </a:lnTo>
                    <a:lnTo>
                      <a:pt x="2571" y="753"/>
                    </a:lnTo>
                    <a:lnTo>
                      <a:pt x="2512" y="766"/>
                    </a:lnTo>
                    <a:lnTo>
                      <a:pt x="2450" y="778"/>
                    </a:lnTo>
                    <a:lnTo>
                      <a:pt x="2386" y="789"/>
                    </a:lnTo>
                    <a:lnTo>
                      <a:pt x="2321" y="800"/>
                    </a:lnTo>
                    <a:lnTo>
                      <a:pt x="2252" y="809"/>
                    </a:lnTo>
                    <a:lnTo>
                      <a:pt x="2183" y="818"/>
                    </a:lnTo>
                    <a:lnTo>
                      <a:pt x="2112" y="826"/>
                    </a:lnTo>
                    <a:lnTo>
                      <a:pt x="2039" y="833"/>
                    </a:lnTo>
                    <a:lnTo>
                      <a:pt x="1964" y="839"/>
                    </a:lnTo>
                    <a:lnTo>
                      <a:pt x="1889" y="844"/>
                    </a:lnTo>
                    <a:lnTo>
                      <a:pt x="1811" y="848"/>
                    </a:lnTo>
                    <a:lnTo>
                      <a:pt x="1732" y="851"/>
                    </a:lnTo>
                    <a:lnTo>
                      <a:pt x="1652" y="852"/>
                    </a:lnTo>
                    <a:lnTo>
                      <a:pt x="1571" y="853"/>
                    </a:lnTo>
                    <a:lnTo>
                      <a:pt x="1491" y="852"/>
                    </a:lnTo>
                    <a:lnTo>
                      <a:pt x="1411" y="851"/>
                    </a:lnTo>
                    <a:lnTo>
                      <a:pt x="1332" y="848"/>
                    </a:lnTo>
                    <a:lnTo>
                      <a:pt x="1255" y="844"/>
                    </a:lnTo>
                    <a:lnTo>
                      <a:pt x="1179" y="839"/>
                    </a:lnTo>
                    <a:lnTo>
                      <a:pt x="1104" y="833"/>
                    </a:lnTo>
                    <a:lnTo>
                      <a:pt x="1031" y="826"/>
                    </a:lnTo>
                    <a:lnTo>
                      <a:pt x="960" y="818"/>
                    </a:lnTo>
                    <a:lnTo>
                      <a:pt x="891" y="809"/>
                    </a:lnTo>
                    <a:lnTo>
                      <a:pt x="823" y="800"/>
                    </a:lnTo>
                    <a:lnTo>
                      <a:pt x="756" y="789"/>
                    </a:lnTo>
                    <a:lnTo>
                      <a:pt x="693" y="778"/>
                    </a:lnTo>
                    <a:lnTo>
                      <a:pt x="631" y="766"/>
                    </a:lnTo>
                    <a:lnTo>
                      <a:pt x="573" y="753"/>
                    </a:lnTo>
                    <a:lnTo>
                      <a:pt x="515" y="740"/>
                    </a:lnTo>
                    <a:lnTo>
                      <a:pt x="461" y="726"/>
                    </a:lnTo>
                    <a:lnTo>
                      <a:pt x="409" y="710"/>
                    </a:lnTo>
                    <a:lnTo>
                      <a:pt x="360" y="694"/>
                    </a:lnTo>
                    <a:lnTo>
                      <a:pt x="312" y="678"/>
                    </a:lnTo>
                    <a:lnTo>
                      <a:pt x="269" y="661"/>
                    </a:lnTo>
                    <a:lnTo>
                      <a:pt x="228" y="643"/>
                    </a:lnTo>
                    <a:lnTo>
                      <a:pt x="190" y="625"/>
                    </a:lnTo>
                    <a:lnTo>
                      <a:pt x="156" y="606"/>
                    </a:lnTo>
                    <a:lnTo>
                      <a:pt x="124" y="587"/>
                    </a:lnTo>
                    <a:lnTo>
                      <a:pt x="96" y="567"/>
                    </a:lnTo>
                    <a:lnTo>
                      <a:pt x="71" y="547"/>
                    </a:lnTo>
                    <a:lnTo>
                      <a:pt x="49" y="527"/>
                    </a:lnTo>
                    <a:lnTo>
                      <a:pt x="32" y="505"/>
                    </a:lnTo>
                    <a:lnTo>
                      <a:pt x="18" y="483"/>
                    </a:lnTo>
                    <a:lnTo>
                      <a:pt x="8" y="462"/>
                    </a:lnTo>
                    <a:lnTo>
                      <a:pt x="2" y="440"/>
                    </a:lnTo>
                    <a:lnTo>
                      <a:pt x="0" y="418"/>
                    </a:lnTo>
                    <a:lnTo>
                      <a:pt x="2" y="395"/>
                    </a:lnTo>
                    <a:lnTo>
                      <a:pt x="8" y="373"/>
                    </a:lnTo>
                    <a:lnTo>
                      <a:pt x="18" y="352"/>
                    </a:lnTo>
                    <a:lnTo>
                      <a:pt x="32" y="331"/>
                    </a:lnTo>
                    <a:lnTo>
                      <a:pt x="49" y="310"/>
                    </a:lnTo>
                    <a:lnTo>
                      <a:pt x="71" y="289"/>
                    </a:lnTo>
                    <a:lnTo>
                      <a:pt x="96" y="270"/>
                    </a:lnTo>
                    <a:lnTo>
                      <a:pt x="124" y="251"/>
                    </a:lnTo>
                    <a:lnTo>
                      <a:pt x="156" y="232"/>
                    </a:lnTo>
                    <a:lnTo>
                      <a:pt x="190" y="214"/>
                    </a:lnTo>
                    <a:lnTo>
                      <a:pt x="228" y="197"/>
                    </a:lnTo>
                    <a:lnTo>
                      <a:pt x="269" y="179"/>
                    </a:lnTo>
                    <a:lnTo>
                      <a:pt x="312" y="163"/>
                    </a:lnTo>
                    <a:lnTo>
                      <a:pt x="360" y="148"/>
                    </a:lnTo>
                    <a:lnTo>
                      <a:pt x="409" y="133"/>
                    </a:lnTo>
                    <a:lnTo>
                      <a:pt x="461" y="119"/>
                    </a:lnTo>
                    <a:lnTo>
                      <a:pt x="515" y="105"/>
                    </a:lnTo>
                    <a:lnTo>
                      <a:pt x="573" y="93"/>
                    </a:lnTo>
                    <a:lnTo>
                      <a:pt x="631" y="81"/>
                    </a:lnTo>
                    <a:lnTo>
                      <a:pt x="693" y="68"/>
                    </a:lnTo>
                    <a:lnTo>
                      <a:pt x="756" y="58"/>
                    </a:lnTo>
                    <a:lnTo>
                      <a:pt x="823" y="48"/>
                    </a:lnTo>
                    <a:lnTo>
                      <a:pt x="891" y="39"/>
                    </a:lnTo>
                    <a:lnTo>
                      <a:pt x="960" y="31"/>
                    </a:lnTo>
                    <a:lnTo>
                      <a:pt x="1031" y="24"/>
                    </a:lnTo>
                    <a:lnTo>
                      <a:pt x="1104" y="18"/>
                    </a:lnTo>
                    <a:lnTo>
                      <a:pt x="1179" y="13"/>
                    </a:lnTo>
                    <a:lnTo>
                      <a:pt x="1255" y="8"/>
                    </a:lnTo>
                    <a:lnTo>
                      <a:pt x="1332" y="5"/>
                    </a:lnTo>
                    <a:lnTo>
                      <a:pt x="1411" y="2"/>
                    </a:lnTo>
                    <a:lnTo>
                      <a:pt x="1491" y="1"/>
                    </a:lnTo>
                    <a:lnTo>
                      <a:pt x="1571" y="0"/>
                    </a:lnTo>
                    <a:lnTo>
                      <a:pt x="1652" y="1"/>
                    </a:lnTo>
                    <a:lnTo>
                      <a:pt x="1732" y="2"/>
                    </a:lnTo>
                    <a:lnTo>
                      <a:pt x="1811" y="5"/>
                    </a:lnTo>
                    <a:lnTo>
                      <a:pt x="1889" y="8"/>
                    </a:lnTo>
                    <a:lnTo>
                      <a:pt x="1964" y="13"/>
                    </a:lnTo>
                    <a:lnTo>
                      <a:pt x="2039" y="18"/>
                    </a:lnTo>
                    <a:lnTo>
                      <a:pt x="2112" y="24"/>
                    </a:lnTo>
                    <a:lnTo>
                      <a:pt x="2183" y="31"/>
                    </a:lnTo>
                    <a:lnTo>
                      <a:pt x="2252" y="39"/>
                    </a:lnTo>
                    <a:lnTo>
                      <a:pt x="2321" y="48"/>
                    </a:lnTo>
                    <a:lnTo>
                      <a:pt x="2386" y="58"/>
                    </a:lnTo>
                    <a:lnTo>
                      <a:pt x="2450" y="68"/>
                    </a:lnTo>
                    <a:lnTo>
                      <a:pt x="2512" y="81"/>
                    </a:lnTo>
                    <a:lnTo>
                      <a:pt x="2571" y="93"/>
                    </a:lnTo>
                    <a:lnTo>
                      <a:pt x="2628" y="105"/>
                    </a:lnTo>
                    <a:lnTo>
                      <a:pt x="2682" y="119"/>
                    </a:lnTo>
                    <a:lnTo>
                      <a:pt x="2735" y="133"/>
                    </a:lnTo>
                    <a:lnTo>
                      <a:pt x="2783" y="148"/>
                    </a:lnTo>
                    <a:lnTo>
                      <a:pt x="2831" y="163"/>
                    </a:lnTo>
                    <a:lnTo>
                      <a:pt x="2874" y="179"/>
                    </a:lnTo>
                    <a:lnTo>
                      <a:pt x="2916" y="197"/>
                    </a:lnTo>
                    <a:lnTo>
                      <a:pt x="2953" y="214"/>
                    </a:lnTo>
                    <a:lnTo>
                      <a:pt x="2987" y="232"/>
                    </a:lnTo>
                    <a:lnTo>
                      <a:pt x="3019" y="251"/>
                    </a:lnTo>
                    <a:lnTo>
                      <a:pt x="3047" y="270"/>
                    </a:lnTo>
                    <a:lnTo>
                      <a:pt x="3072" y="289"/>
                    </a:lnTo>
                    <a:lnTo>
                      <a:pt x="3093" y="310"/>
                    </a:lnTo>
                    <a:lnTo>
                      <a:pt x="3111" y="331"/>
                    </a:lnTo>
                    <a:lnTo>
                      <a:pt x="3125" y="352"/>
                    </a:lnTo>
                    <a:lnTo>
                      <a:pt x="3135" y="373"/>
                    </a:lnTo>
                    <a:lnTo>
                      <a:pt x="3141" y="395"/>
                    </a:lnTo>
                    <a:lnTo>
                      <a:pt x="3143" y="4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117160" y="6526800"/>
                <a:ext cx="347040" cy="102240"/>
              </a:xfrm>
              <a:custGeom>
                <a:avLst/>
                <a:gdLst/>
                <a:ahLst/>
                <a:rect l="l" t="t" r="r" b="b"/>
                <a:pathLst>
                  <a:path w="3139" h="851">
                    <a:moveTo>
                      <a:pt x="3139" y="417"/>
                    </a:moveTo>
                    <a:lnTo>
                      <a:pt x="3137" y="439"/>
                    </a:lnTo>
                    <a:lnTo>
                      <a:pt x="3131" y="461"/>
                    </a:lnTo>
                    <a:lnTo>
                      <a:pt x="3121" y="482"/>
                    </a:lnTo>
                    <a:lnTo>
                      <a:pt x="3108" y="504"/>
                    </a:lnTo>
                    <a:lnTo>
                      <a:pt x="3089" y="525"/>
                    </a:lnTo>
                    <a:lnTo>
                      <a:pt x="3068" y="546"/>
                    </a:lnTo>
                    <a:lnTo>
                      <a:pt x="3044" y="566"/>
                    </a:lnTo>
                    <a:lnTo>
                      <a:pt x="3016" y="585"/>
                    </a:lnTo>
                    <a:lnTo>
                      <a:pt x="2984" y="604"/>
                    </a:lnTo>
                    <a:lnTo>
                      <a:pt x="2950" y="624"/>
                    </a:lnTo>
                    <a:lnTo>
                      <a:pt x="2912" y="642"/>
                    </a:lnTo>
                    <a:lnTo>
                      <a:pt x="2871" y="659"/>
                    </a:lnTo>
                    <a:lnTo>
                      <a:pt x="2828" y="676"/>
                    </a:lnTo>
                    <a:lnTo>
                      <a:pt x="2780" y="692"/>
                    </a:lnTo>
                    <a:lnTo>
                      <a:pt x="2732" y="708"/>
                    </a:lnTo>
                    <a:lnTo>
                      <a:pt x="2679" y="724"/>
                    </a:lnTo>
                    <a:lnTo>
                      <a:pt x="2625" y="738"/>
                    </a:lnTo>
                    <a:lnTo>
                      <a:pt x="2568" y="752"/>
                    </a:lnTo>
                    <a:lnTo>
                      <a:pt x="2509" y="764"/>
                    </a:lnTo>
                    <a:lnTo>
                      <a:pt x="2447" y="776"/>
                    </a:lnTo>
                    <a:lnTo>
                      <a:pt x="2383" y="788"/>
                    </a:lnTo>
                    <a:lnTo>
                      <a:pt x="2318" y="798"/>
                    </a:lnTo>
                    <a:lnTo>
                      <a:pt x="2250" y="807"/>
                    </a:lnTo>
                    <a:lnTo>
                      <a:pt x="2180" y="816"/>
                    </a:lnTo>
                    <a:lnTo>
                      <a:pt x="2109" y="824"/>
                    </a:lnTo>
                    <a:lnTo>
                      <a:pt x="2036" y="832"/>
                    </a:lnTo>
                    <a:lnTo>
                      <a:pt x="1961" y="837"/>
                    </a:lnTo>
                    <a:lnTo>
                      <a:pt x="1886" y="842"/>
                    </a:lnTo>
                    <a:lnTo>
                      <a:pt x="1809" y="846"/>
                    </a:lnTo>
                    <a:lnTo>
                      <a:pt x="1730" y="849"/>
                    </a:lnTo>
                    <a:lnTo>
                      <a:pt x="1650" y="850"/>
                    </a:lnTo>
                    <a:lnTo>
                      <a:pt x="1569" y="851"/>
                    </a:lnTo>
                    <a:lnTo>
                      <a:pt x="1489" y="850"/>
                    </a:lnTo>
                    <a:lnTo>
                      <a:pt x="1409" y="849"/>
                    </a:lnTo>
                    <a:lnTo>
                      <a:pt x="1330" y="846"/>
                    </a:lnTo>
                    <a:lnTo>
                      <a:pt x="1253" y="842"/>
                    </a:lnTo>
                    <a:lnTo>
                      <a:pt x="1178" y="837"/>
                    </a:lnTo>
                    <a:lnTo>
                      <a:pt x="1103" y="832"/>
                    </a:lnTo>
                    <a:lnTo>
                      <a:pt x="1030" y="824"/>
                    </a:lnTo>
                    <a:lnTo>
                      <a:pt x="958" y="816"/>
                    </a:lnTo>
                    <a:lnTo>
                      <a:pt x="889" y="807"/>
                    </a:lnTo>
                    <a:lnTo>
                      <a:pt x="821" y="798"/>
                    </a:lnTo>
                    <a:lnTo>
                      <a:pt x="755" y="788"/>
                    </a:lnTo>
                    <a:lnTo>
                      <a:pt x="692" y="776"/>
                    </a:lnTo>
                    <a:lnTo>
                      <a:pt x="630" y="764"/>
                    </a:lnTo>
                    <a:lnTo>
                      <a:pt x="571" y="752"/>
                    </a:lnTo>
                    <a:lnTo>
                      <a:pt x="514" y="738"/>
                    </a:lnTo>
                    <a:lnTo>
                      <a:pt x="460" y="724"/>
                    </a:lnTo>
                    <a:lnTo>
                      <a:pt x="408" y="708"/>
                    </a:lnTo>
                    <a:lnTo>
                      <a:pt x="359" y="692"/>
                    </a:lnTo>
                    <a:lnTo>
                      <a:pt x="312" y="676"/>
                    </a:lnTo>
                    <a:lnTo>
                      <a:pt x="268" y="659"/>
                    </a:lnTo>
                    <a:lnTo>
                      <a:pt x="227" y="642"/>
                    </a:lnTo>
                    <a:lnTo>
                      <a:pt x="189" y="624"/>
                    </a:lnTo>
                    <a:lnTo>
                      <a:pt x="155" y="604"/>
                    </a:lnTo>
                    <a:lnTo>
                      <a:pt x="123" y="585"/>
                    </a:lnTo>
                    <a:lnTo>
                      <a:pt x="95" y="566"/>
                    </a:lnTo>
                    <a:lnTo>
                      <a:pt x="71" y="546"/>
                    </a:lnTo>
                    <a:lnTo>
                      <a:pt x="50" y="525"/>
                    </a:lnTo>
                    <a:lnTo>
                      <a:pt x="31" y="504"/>
                    </a:lnTo>
                    <a:lnTo>
                      <a:pt x="18" y="482"/>
                    </a:lnTo>
                    <a:lnTo>
                      <a:pt x="8" y="461"/>
                    </a:lnTo>
                    <a:lnTo>
                      <a:pt x="2" y="439"/>
                    </a:lnTo>
                    <a:lnTo>
                      <a:pt x="0" y="417"/>
                    </a:lnTo>
                    <a:lnTo>
                      <a:pt x="2" y="394"/>
                    </a:lnTo>
                    <a:lnTo>
                      <a:pt x="8" y="372"/>
                    </a:lnTo>
                    <a:lnTo>
                      <a:pt x="18" y="351"/>
                    </a:lnTo>
                    <a:lnTo>
                      <a:pt x="31" y="330"/>
                    </a:lnTo>
                    <a:lnTo>
                      <a:pt x="50" y="310"/>
                    </a:lnTo>
                    <a:lnTo>
                      <a:pt x="71" y="289"/>
                    </a:lnTo>
                    <a:lnTo>
                      <a:pt x="95" y="269"/>
                    </a:lnTo>
                    <a:lnTo>
                      <a:pt x="123" y="250"/>
                    </a:lnTo>
                    <a:lnTo>
                      <a:pt x="155" y="232"/>
                    </a:lnTo>
                    <a:lnTo>
                      <a:pt x="189" y="214"/>
                    </a:lnTo>
                    <a:lnTo>
                      <a:pt x="227" y="197"/>
                    </a:lnTo>
                    <a:lnTo>
                      <a:pt x="268" y="179"/>
                    </a:lnTo>
                    <a:lnTo>
                      <a:pt x="312" y="163"/>
                    </a:lnTo>
                    <a:lnTo>
                      <a:pt x="359" y="147"/>
                    </a:lnTo>
                    <a:lnTo>
                      <a:pt x="408" y="133"/>
                    </a:lnTo>
                    <a:lnTo>
                      <a:pt x="460" y="118"/>
                    </a:lnTo>
                    <a:lnTo>
                      <a:pt x="514" y="105"/>
                    </a:lnTo>
                    <a:lnTo>
                      <a:pt x="571" y="92"/>
                    </a:lnTo>
                    <a:lnTo>
                      <a:pt x="630" y="80"/>
                    </a:lnTo>
                    <a:lnTo>
                      <a:pt x="692" y="68"/>
                    </a:lnTo>
                    <a:lnTo>
                      <a:pt x="755" y="58"/>
                    </a:lnTo>
                    <a:lnTo>
                      <a:pt x="821" y="48"/>
                    </a:lnTo>
                    <a:lnTo>
                      <a:pt x="889" y="39"/>
                    </a:lnTo>
                    <a:lnTo>
                      <a:pt x="958" y="31"/>
                    </a:lnTo>
                    <a:lnTo>
                      <a:pt x="1030" y="24"/>
                    </a:lnTo>
                    <a:lnTo>
                      <a:pt x="1103" y="18"/>
                    </a:lnTo>
                    <a:lnTo>
                      <a:pt x="1178" y="13"/>
                    </a:lnTo>
                    <a:lnTo>
                      <a:pt x="1253" y="8"/>
                    </a:lnTo>
                    <a:lnTo>
                      <a:pt x="1330" y="5"/>
                    </a:lnTo>
                    <a:lnTo>
                      <a:pt x="1409" y="2"/>
                    </a:lnTo>
                    <a:lnTo>
                      <a:pt x="1489" y="1"/>
                    </a:lnTo>
                    <a:lnTo>
                      <a:pt x="1569" y="0"/>
                    </a:lnTo>
                    <a:lnTo>
                      <a:pt x="1650" y="1"/>
                    </a:lnTo>
                    <a:lnTo>
                      <a:pt x="1730" y="2"/>
                    </a:lnTo>
                    <a:lnTo>
                      <a:pt x="1809" y="5"/>
                    </a:lnTo>
                    <a:lnTo>
                      <a:pt x="1886" y="8"/>
                    </a:lnTo>
                    <a:lnTo>
                      <a:pt x="1961" y="13"/>
                    </a:lnTo>
                    <a:lnTo>
                      <a:pt x="2036" y="18"/>
                    </a:lnTo>
                    <a:lnTo>
                      <a:pt x="2109" y="24"/>
                    </a:lnTo>
                    <a:lnTo>
                      <a:pt x="2180" y="31"/>
                    </a:lnTo>
                    <a:lnTo>
                      <a:pt x="2250" y="39"/>
                    </a:lnTo>
                    <a:lnTo>
                      <a:pt x="2318" y="48"/>
                    </a:lnTo>
                    <a:lnTo>
                      <a:pt x="2383" y="58"/>
                    </a:lnTo>
                    <a:lnTo>
                      <a:pt x="2447" y="68"/>
                    </a:lnTo>
                    <a:lnTo>
                      <a:pt x="2509" y="80"/>
                    </a:lnTo>
                    <a:lnTo>
                      <a:pt x="2568" y="92"/>
                    </a:lnTo>
                    <a:lnTo>
                      <a:pt x="2625" y="105"/>
                    </a:lnTo>
                    <a:lnTo>
                      <a:pt x="2679" y="118"/>
                    </a:lnTo>
                    <a:lnTo>
                      <a:pt x="2732" y="133"/>
                    </a:lnTo>
                    <a:lnTo>
                      <a:pt x="2780" y="147"/>
                    </a:lnTo>
                    <a:lnTo>
                      <a:pt x="2828" y="163"/>
                    </a:lnTo>
                    <a:lnTo>
                      <a:pt x="2871" y="179"/>
                    </a:lnTo>
                    <a:lnTo>
                      <a:pt x="2912" y="197"/>
                    </a:lnTo>
                    <a:lnTo>
                      <a:pt x="2950" y="214"/>
                    </a:lnTo>
                    <a:lnTo>
                      <a:pt x="2984" y="232"/>
                    </a:lnTo>
                    <a:lnTo>
                      <a:pt x="3016" y="250"/>
                    </a:lnTo>
                    <a:lnTo>
                      <a:pt x="3044" y="269"/>
                    </a:lnTo>
                    <a:lnTo>
                      <a:pt x="3068" y="289"/>
                    </a:lnTo>
                    <a:lnTo>
                      <a:pt x="3089" y="310"/>
                    </a:lnTo>
                    <a:lnTo>
                      <a:pt x="3108" y="330"/>
                    </a:lnTo>
                    <a:lnTo>
                      <a:pt x="3121" y="351"/>
                    </a:lnTo>
                    <a:lnTo>
                      <a:pt x="3131" y="372"/>
                    </a:lnTo>
                    <a:lnTo>
                      <a:pt x="3137" y="394"/>
                    </a:lnTo>
                    <a:lnTo>
                      <a:pt x="3139" y="4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117160" y="6526800"/>
                <a:ext cx="347040" cy="101160"/>
              </a:xfrm>
              <a:custGeom>
                <a:avLst/>
                <a:gdLst/>
                <a:ahLst/>
                <a:rect l="l" t="t" r="r" b="b"/>
                <a:pathLst>
                  <a:path w="3137" h="849">
                    <a:moveTo>
                      <a:pt x="3137" y="416"/>
                    </a:moveTo>
                    <a:lnTo>
                      <a:pt x="3135" y="438"/>
                    </a:lnTo>
                    <a:lnTo>
                      <a:pt x="3129" y="460"/>
                    </a:lnTo>
                    <a:lnTo>
                      <a:pt x="3119" y="481"/>
                    </a:lnTo>
                    <a:lnTo>
                      <a:pt x="3105" y="502"/>
                    </a:lnTo>
                    <a:lnTo>
                      <a:pt x="3087" y="524"/>
                    </a:lnTo>
                    <a:lnTo>
                      <a:pt x="3066" y="544"/>
                    </a:lnTo>
                    <a:lnTo>
                      <a:pt x="3042" y="564"/>
                    </a:lnTo>
                    <a:lnTo>
                      <a:pt x="3014" y="584"/>
                    </a:lnTo>
                    <a:lnTo>
                      <a:pt x="2982" y="603"/>
                    </a:lnTo>
                    <a:lnTo>
                      <a:pt x="2947" y="622"/>
                    </a:lnTo>
                    <a:lnTo>
                      <a:pt x="2910" y="640"/>
                    </a:lnTo>
                    <a:lnTo>
                      <a:pt x="2869" y="658"/>
                    </a:lnTo>
                    <a:lnTo>
                      <a:pt x="2825" y="675"/>
                    </a:lnTo>
                    <a:lnTo>
                      <a:pt x="2778" y="691"/>
                    </a:lnTo>
                    <a:lnTo>
                      <a:pt x="2729" y="706"/>
                    </a:lnTo>
                    <a:lnTo>
                      <a:pt x="2677" y="722"/>
                    </a:lnTo>
                    <a:lnTo>
                      <a:pt x="2623" y="736"/>
                    </a:lnTo>
                    <a:lnTo>
                      <a:pt x="2566" y="750"/>
                    </a:lnTo>
                    <a:lnTo>
                      <a:pt x="2507" y="763"/>
                    </a:lnTo>
                    <a:lnTo>
                      <a:pt x="2445" y="775"/>
                    </a:lnTo>
                    <a:lnTo>
                      <a:pt x="2381" y="786"/>
                    </a:lnTo>
                    <a:lnTo>
                      <a:pt x="2316" y="796"/>
                    </a:lnTo>
                    <a:lnTo>
                      <a:pt x="2248" y="806"/>
                    </a:lnTo>
                    <a:lnTo>
                      <a:pt x="2178" y="814"/>
                    </a:lnTo>
                    <a:lnTo>
                      <a:pt x="2108" y="822"/>
                    </a:lnTo>
                    <a:lnTo>
                      <a:pt x="2035" y="830"/>
                    </a:lnTo>
                    <a:lnTo>
                      <a:pt x="1960" y="835"/>
                    </a:lnTo>
                    <a:lnTo>
                      <a:pt x="1885" y="840"/>
                    </a:lnTo>
                    <a:lnTo>
                      <a:pt x="1808" y="844"/>
                    </a:lnTo>
                    <a:lnTo>
                      <a:pt x="1729" y="847"/>
                    </a:lnTo>
                    <a:lnTo>
                      <a:pt x="1649" y="848"/>
                    </a:lnTo>
                    <a:lnTo>
                      <a:pt x="1568" y="849"/>
                    </a:lnTo>
                    <a:lnTo>
                      <a:pt x="1488" y="848"/>
                    </a:lnTo>
                    <a:lnTo>
                      <a:pt x="1408" y="847"/>
                    </a:lnTo>
                    <a:lnTo>
                      <a:pt x="1330" y="844"/>
                    </a:lnTo>
                    <a:lnTo>
                      <a:pt x="1252" y="840"/>
                    </a:lnTo>
                    <a:lnTo>
                      <a:pt x="1177" y="835"/>
                    </a:lnTo>
                    <a:lnTo>
                      <a:pt x="1102" y="830"/>
                    </a:lnTo>
                    <a:lnTo>
                      <a:pt x="1029" y="822"/>
                    </a:lnTo>
                    <a:lnTo>
                      <a:pt x="958" y="814"/>
                    </a:lnTo>
                    <a:lnTo>
                      <a:pt x="889" y="806"/>
                    </a:lnTo>
                    <a:lnTo>
                      <a:pt x="821" y="796"/>
                    </a:lnTo>
                    <a:lnTo>
                      <a:pt x="755" y="786"/>
                    </a:lnTo>
                    <a:lnTo>
                      <a:pt x="692" y="775"/>
                    </a:lnTo>
                    <a:lnTo>
                      <a:pt x="630" y="763"/>
                    </a:lnTo>
                    <a:lnTo>
                      <a:pt x="571" y="750"/>
                    </a:lnTo>
                    <a:lnTo>
                      <a:pt x="514" y="736"/>
                    </a:lnTo>
                    <a:lnTo>
                      <a:pt x="460" y="722"/>
                    </a:lnTo>
                    <a:lnTo>
                      <a:pt x="408" y="706"/>
                    </a:lnTo>
                    <a:lnTo>
                      <a:pt x="359" y="691"/>
                    </a:lnTo>
                    <a:lnTo>
                      <a:pt x="312" y="675"/>
                    </a:lnTo>
                    <a:lnTo>
                      <a:pt x="268" y="658"/>
                    </a:lnTo>
                    <a:lnTo>
                      <a:pt x="227" y="640"/>
                    </a:lnTo>
                    <a:lnTo>
                      <a:pt x="190" y="622"/>
                    </a:lnTo>
                    <a:lnTo>
                      <a:pt x="155" y="603"/>
                    </a:lnTo>
                    <a:lnTo>
                      <a:pt x="123" y="584"/>
                    </a:lnTo>
                    <a:lnTo>
                      <a:pt x="95" y="564"/>
                    </a:lnTo>
                    <a:lnTo>
                      <a:pt x="71" y="544"/>
                    </a:lnTo>
                    <a:lnTo>
                      <a:pt x="50" y="524"/>
                    </a:lnTo>
                    <a:lnTo>
                      <a:pt x="32" y="502"/>
                    </a:lnTo>
                    <a:lnTo>
                      <a:pt x="18" y="481"/>
                    </a:lnTo>
                    <a:lnTo>
                      <a:pt x="8" y="460"/>
                    </a:lnTo>
                    <a:lnTo>
                      <a:pt x="2" y="438"/>
                    </a:lnTo>
                    <a:lnTo>
                      <a:pt x="0" y="416"/>
                    </a:lnTo>
                    <a:lnTo>
                      <a:pt x="2" y="393"/>
                    </a:lnTo>
                    <a:lnTo>
                      <a:pt x="8" y="371"/>
                    </a:lnTo>
                    <a:lnTo>
                      <a:pt x="18" y="350"/>
                    </a:lnTo>
                    <a:lnTo>
                      <a:pt x="32" y="329"/>
                    </a:lnTo>
                    <a:lnTo>
                      <a:pt x="50" y="309"/>
                    </a:lnTo>
                    <a:lnTo>
                      <a:pt x="71" y="288"/>
                    </a:lnTo>
                    <a:lnTo>
                      <a:pt x="95" y="268"/>
                    </a:lnTo>
                    <a:lnTo>
                      <a:pt x="123" y="250"/>
                    </a:lnTo>
                    <a:lnTo>
                      <a:pt x="155" y="231"/>
                    </a:lnTo>
                    <a:lnTo>
                      <a:pt x="190" y="213"/>
                    </a:lnTo>
                    <a:lnTo>
                      <a:pt x="227" y="196"/>
                    </a:lnTo>
                    <a:lnTo>
                      <a:pt x="268" y="178"/>
                    </a:lnTo>
                    <a:lnTo>
                      <a:pt x="312" y="162"/>
                    </a:lnTo>
                    <a:lnTo>
                      <a:pt x="359" y="147"/>
                    </a:lnTo>
                    <a:lnTo>
                      <a:pt x="408" y="132"/>
                    </a:lnTo>
                    <a:lnTo>
                      <a:pt x="460" y="118"/>
                    </a:lnTo>
                    <a:lnTo>
                      <a:pt x="514" y="105"/>
                    </a:lnTo>
                    <a:lnTo>
                      <a:pt x="571" y="92"/>
                    </a:lnTo>
                    <a:lnTo>
                      <a:pt x="630" y="80"/>
                    </a:lnTo>
                    <a:lnTo>
                      <a:pt x="692" y="68"/>
                    </a:lnTo>
                    <a:lnTo>
                      <a:pt x="755" y="58"/>
                    </a:lnTo>
                    <a:lnTo>
                      <a:pt x="821" y="48"/>
                    </a:lnTo>
                    <a:lnTo>
                      <a:pt x="889" y="39"/>
                    </a:lnTo>
                    <a:lnTo>
                      <a:pt x="958" y="31"/>
                    </a:lnTo>
                    <a:lnTo>
                      <a:pt x="1029" y="24"/>
                    </a:lnTo>
                    <a:lnTo>
                      <a:pt x="1102" y="18"/>
                    </a:lnTo>
                    <a:lnTo>
                      <a:pt x="1177" y="13"/>
                    </a:lnTo>
                    <a:lnTo>
                      <a:pt x="1252" y="8"/>
                    </a:lnTo>
                    <a:lnTo>
                      <a:pt x="1330" y="5"/>
                    </a:lnTo>
                    <a:lnTo>
                      <a:pt x="1408" y="2"/>
                    </a:lnTo>
                    <a:lnTo>
                      <a:pt x="1488" y="1"/>
                    </a:lnTo>
                    <a:lnTo>
                      <a:pt x="1568" y="0"/>
                    </a:lnTo>
                    <a:lnTo>
                      <a:pt x="1649" y="1"/>
                    </a:lnTo>
                    <a:lnTo>
                      <a:pt x="1729" y="2"/>
                    </a:lnTo>
                    <a:lnTo>
                      <a:pt x="1808" y="5"/>
                    </a:lnTo>
                    <a:lnTo>
                      <a:pt x="1885" y="8"/>
                    </a:lnTo>
                    <a:lnTo>
                      <a:pt x="1960" y="13"/>
                    </a:lnTo>
                    <a:lnTo>
                      <a:pt x="2035" y="18"/>
                    </a:lnTo>
                    <a:lnTo>
                      <a:pt x="2108" y="24"/>
                    </a:lnTo>
                    <a:lnTo>
                      <a:pt x="2178" y="31"/>
                    </a:lnTo>
                    <a:lnTo>
                      <a:pt x="2248" y="39"/>
                    </a:lnTo>
                    <a:lnTo>
                      <a:pt x="2316" y="48"/>
                    </a:lnTo>
                    <a:lnTo>
                      <a:pt x="2381" y="58"/>
                    </a:lnTo>
                    <a:lnTo>
                      <a:pt x="2445" y="68"/>
                    </a:lnTo>
                    <a:lnTo>
                      <a:pt x="2507" y="80"/>
                    </a:lnTo>
                    <a:lnTo>
                      <a:pt x="2566" y="92"/>
                    </a:lnTo>
                    <a:lnTo>
                      <a:pt x="2623" y="105"/>
                    </a:lnTo>
                    <a:lnTo>
                      <a:pt x="2677" y="118"/>
                    </a:lnTo>
                    <a:lnTo>
                      <a:pt x="2729" y="132"/>
                    </a:lnTo>
                    <a:lnTo>
                      <a:pt x="2778" y="147"/>
                    </a:lnTo>
                    <a:lnTo>
                      <a:pt x="2825" y="162"/>
                    </a:lnTo>
                    <a:lnTo>
                      <a:pt x="2869" y="178"/>
                    </a:lnTo>
                    <a:lnTo>
                      <a:pt x="2910" y="196"/>
                    </a:lnTo>
                    <a:lnTo>
                      <a:pt x="2947" y="213"/>
                    </a:lnTo>
                    <a:lnTo>
                      <a:pt x="2982" y="231"/>
                    </a:lnTo>
                    <a:lnTo>
                      <a:pt x="3014" y="250"/>
                    </a:lnTo>
                    <a:lnTo>
                      <a:pt x="3042" y="268"/>
                    </a:lnTo>
                    <a:lnTo>
                      <a:pt x="3066" y="288"/>
                    </a:lnTo>
                    <a:lnTo>
                      <a:pt x="3087" y="309"/>
                    </a:lnTo>
                    <a:lnTo>
                      <a:pt x="3105" y="329"/>
                    </a:lnTo>
                    <a:lnTo>
                      <a:pt x="3119" y="350"/>
                    </a:lnTo>
                    <a:lnTo>
                      <a:pt x="3129" y="371"/>
                    </a:lnTo>
                    <a:lnTo>
                      <a:pt x="3135" y="393"/>
                    </a:lnTo>
                    <a:lnTo>
                      <a:pt x="3137" y="4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118240" y="6526800"/>
                <a:ext cx="344880" cy="101160"/>
              </a:xfrm>
              <a:custGeom>
                <a:avLst/>
                <a:gdLst/>
                <a:ahLst/>
                <a:rect l="l" t="t" r="r" b="b"/>
                <a:pathLst>
                  <a:path w="3133" h="847">
                    <a:moveTo>
                      <a:pt x="3133" y="415"/>
                    </a:moveTo>
                    <a:lnTo>
                      <a:pt x="3131" y="437"/>
                    </a:lnTo>
                    <a:lnTo>
                      <a:pt x="3125" y="459"/>
                    </a:lnTo>
                    <a:lnTo>
                      <a:pt x="3116" y="480"/>
                    </a:lnTo>
                    <a:lnTo>
                      <a:pt x="3102" y="501"/>
                    </a:lnTo>
                    <a:lnTo>
                      <a:pt x="3084" y="523"/>
                    </a:lnTo>
                    <a:lnTo>
                      <a:pt x="3063" y="543"/>
                    </a:lnTo>
                    <a:lnTo>
                      <a:pt x="3038" y="563"/>
                    </a:lnTo>
                    <a:lnTo>
                      <a:pt x="3011" y="583"/>
                    </a:lnTo>
                    <a:lnTo>
                      <a:pt x="2978" y="601"/>
                    </a:lnTo>
                    <a:lnTo>
                      <a:pt x="2944" y="621"/>
                    </a:lnTo>
                    <a:lnTo>
                      <a:pt x="2907" y="639"/>
                    </a:lnTo>
                    <a:lnTo>
                      <a:pt x="2865" y="656"/>
                    </a:lnTo>
                    <a:lnTo>
                      <a:pt x="2822" y="673"/>
                    </a:lnTo>
                    <a:lnTo>
                      <a:pt x="2775" y="689"/>
                    </a:lnTo>
                    <a:lnTo>
                      <a:pt x="2726" y="705"/>
                    </a:lnTo>
                    <a:lnTo>
                      <a:pt x="2674" y="721"/>
                    </a:lnTo>
                    <a:lnTo>
                      <a:pt x="2620" y="735"/>
                    </a:lnTo>
                    <a:lnTo>
                      <a:pt x="2563" y="748"/>
                    </a:lnTo>
                    <a:lnTo>
                      <a:pt x="2504" y="761"/>
                    </a:lnTo>
                    <a:lnTo>
                      <a:pt x="2442" y="773"/>
                    </a:lnTo>
                    <a:lnTo>
                      <a:pt x="2379" y="784"/>
                    </a:lnTo>
                    <a:lnTo>
                      <a:pt x="2314" y="794"/>
                    </a:lnTo>
                    <a:lnTo>
                      <a:pt x="2246" y="804"/>
                    </a:lnTo>
                    <a:lnTo>
                      <a:pt x="2176" y="812"/>
                    </a:lnTo>
                    <a:lnTo>
                      <a:pt x="2105" y="820"/>
                    </a:lnTo>
                    <a:lnTo>
                      <a:pt x="2032" y="828"/>
                    </a:lnTo>
                    <a:lnTo>
                      <a:pt x="1958" y="834"/>
                    </a:lnTo>
                    <a:lnTo>
                      <a:pt x="1883" y="838"/>
                    </a:lnTo>
                    <a:lnTo>
                      <a:pt x="1805" y="842"/>
                    </a:lnTo>
                    <a:lnTo>
                      <a:pt x="1727" y="845"/>
                    </a:lnTo>
                    <a:lnTo>
                      <a:pt x="1647" y="846"/>
                    </a:lnTo>
                    <a:lnTo>
                      <a:pt x="1566" y="847"/>
                    </a:lnTo>
                    <a:lnTo>
                      <a:pt x="1486" y="846"/>
                    </a:lnTo>
                    <a:lnTo>
                      <a:pt x="1406" y="845"/>
                    </a:lnTo>
                    <a:lnTo>
                      <a:pt x="1328" y="842"/>
                    </a:lnTo>
                    <a:lnTo>
                      <a:pt x="1250" y="838"/>
                    </a:lnTo>
                    <a:lnTo>
                      <a:pt x="1175" y="834"/>
                    </a:lnTo>
                    <a:lnTo>
                      <a:pt x="1101" y="828"/>
                    </a:lnTo>
                    <a:lnTo>
                      <a:pt x="1028" y="820"/>
                    </a:lnTo>
                    <a:lnTo>
                      <a:pt x="956" y="812"/>
                    </a:lnTo>
                    <a:lnTo>
                      <a:pt x="887" y="804"/>
                    </a:lnTo>
                    <a:lnTo>
                      <a:pt x="820" y="794"/>
                    </a:lnTo>
                    <a:lnTo>
                      <a:pt x="754" y="784"/>
                    </a:lnTo>
                    <a:lnTo>
                      <a:pt x="691" y="773"/>
                    </a:lnTo>
                    <a:lnTo>
                      <a:pt x="629" y="761"/>
                    </a:lnTo>
                    <a:lnTo>
                      <a:pt x="570" y="748"/>
                    </a:lnTo>
                    <a:lnTo>
                      <a:pt x="513" y="735"/>
                    </a:lnTo>
                    <a:lnTo>
                      <a:pt x="459" y="721"/>
                    </a:lnTo>
                    <a:lnTo>
                      <a:pt x="407" y="705"/>
                    </a:lnTo>
                    <a:lnTo>
                      <a:pt x="358" y="689"/>
                    </a:lnTo>
                    <a:lnTo>
                      <a:pt x="311" y="673"/>
                    </a:lnTo>
                    <a:lnTo>
                      <a:pt x="268" y="656"/>
                    </a:lnTo>
                    <a:lnTo>
                      <a:pt x="226" y="639"/>
                    </a:lnTo>
                    <a:lnTo>
                      <a:pt x="189" y="621"/>
                    </a:lnTo>
                    <a:lnTo>
                      <a:pt x="155" y="601"/>
                    </a:lnTo>
                    <a:lnTo>
                      <a:pt x="123" y="583"/>
                    </a:lnTo>
                    <a:lnTo>
                      <a:pt x="95" y="563"/>
                    </a:lnTo>
                    <a:lnTo>
                      <a:pt x="70" y="543"/>
                    </a:lnTo>
                    <a:lnTo>
                      <a:pt x="50" y="523"/>
                    </a:lnTo>
                    <a:lnTo>
                      <a:pt x="31" y="501"/>
                    </a:lnTo>
                    <a:lnTo>
                      <a:pt x="18" y="480"/>
                    </a:lnTo>
                    <a:lnTo>
                      <a:pt x="8" y="459"/>
                    </a:lnTo>
                    <a:lnTo>
                      <a:pt x="2" y="437"/>
                    </a:lnTo>
                    <a:lnTo>
                      <a:pt x="0" y="415"/>
                    </a:lnTo>
                    <a:lnTo>
                      <a:pt x="2" y="392"/>
                    </a:lnTo>
                    <a:lnTo>
                      <a:pt x="8" y="370"/>
                    </a:lnTo>
                    <a:lnTo>
                      <a:pt x="18" y="349"/>
                    </a:lnTo>
                    <a:lnTo>
                      <a:pt x="31" y="328"/>
                    </a:lnTo>
                    <a:lnTo>
                      <a:pt x="50" y="308"/>
                    </a:lnTo>
                    <a:lnTo>
                      <a:pt x="70" y="287"/>
                    </a:lnTo>
                    <a:lnTo>
                      <a:pt x="95" y="268"/>
                    </a:lnTo>
                    <a:lnTo>
                      <a:pt x="123" y="249"/>
                    </a:lnTo>
                    <a:lnTo>
                      <a:pt x="155" y="231"/>
                    </a:lnTo>
                    <a:lnTo>
                      <a:pt x="189" y="213"/>
                    </a:lnTo>
                    <a:lnTo>
                      <a:pt x="226" y="196"/>
                    </a:lnTo>
                    <a:lnTo>
                      <a:pt x="268" y="178"/>
                    </a:lnTo>
                    <a:lnTo>
                      <a:pt x="311" y="162"/>
                    </a:lnTo>
                    <a:lnTo>
                      <a:pt x="358" y="147"/>
                    </a:lnTo>
                    <a:lnTo>
                      <a:pt x="407" y="132"/>
                    </a:lnTo>
                    <a:lnTo>
                      <a:pt x="459" y="118"/>
                    </a:lnTo>
                    <a:lnTo>
                      <a:pt x="513" y="104"/>
                    </a:lnTo>
                    <a:lnTo>
                      <a:pt x="570" y="92"/>
                    </a:lnTo>
                    <a:lnTo>
                      <a:pt x="629" y="80"/>
                    </a:lnTo>
                    <a:lnTo>
                      <a:pt x="691" y="68"/>
                    </a:lnTo>
                    <a:lnTo>
                      <a:pt x="754" y="57"/>
                    </a:lnTo>
                    <a:lnTo>
                      <a:pt x="820" y="48"/>
                    </a:lnTo>
                    <a:lnTo>
                      <a:pt x="887" y="39"/>
                    </a:lnTo>
                    <a:lnTo>
                      <a:pt x="956" y="31"/>
                    </a:lnTo>
                    <a:lnTo>
                      <a:pt x="1028" y="24"/>
                    </a:lnTo>
                    <a:lnTo>
                      <a:pt x="1101" y="18"/>
                    </a:lnTo>
                    <a:lnTo>
                      <a:pt x="1175" y="12"/>
                    </a:lnTo>
                    <a:lnTo>
                      <a:pt x="1250" y="8"/>
                    </a:lnTo>
                    <a:lnTo>
                      <a:pt x="1328" y="5"/>
                    </a:lnTo>
                    <a:lnTo>
                      <a:pt x="1406" y="2"/>
                    </a:lnTo>
                    <a:lnTo>
                      <a:pt x="1486" y="1"/>
                    </a:lnTo>
                    <a:lnTo>
                      <a:pt x="1566" y="0"/>
                    </a:lnTo>
                    <a:lnTo>
                      <a:pt x="1647" y="1"/>
                    </a:lnTo>
                    <a:lnTo>
                      <a:pt x="1727" y="2"/>
                    </a:lnTo>
                    <a:lnTo>
                      <a:pt x="1805" y="5"/>
                    </a:lnTo>
                    <a:lnTo>
                      <a:pt x="1883" y="8"/>
                    </a:lnTo>
                    <a:lnTo>
                      <a:pt x="1958" y="12"/>
                    </a:lnTo>
                    <a:lnTo>
                      <a:pt x="2032" y="18"/>
                    </a:lnTo>
                    <a:lnTo>
                      <a:pt x="2105" y="24"/>
                    </a:lnTo>
                    <a:lnTo>
                      <a:pt x="2176" y="31"/>
                    </a:lnTo>
                    <a:lnTo>
                      <a:pt x="2246" y="39"/>
                    </a:lnTo>
                    <a:lnTo>
                      <a:pt x="2314" y="48"/>
                    </a:lnTo>
                    <a:lnTo>
                      <a:pt x="2379" y="57"/>
                    </a:lnTo>
                    <a:lnTo>
                      <a:pt x="2442" y="68"/>
                    </a:lnTo>
                    <a:lnTo>
                      <a:pt x="2504" y="80"/>
                    </a:lnTo>
                    <a:lnTo>
                      <a:pt x="2563" y="92"/>
                    </a:lnTo>
                    <a:lnTo>
                      <a:pt x="2620" y="104"/>
                    </a:lnTo>
                    <a:lnTo>
                      <a:pt x="2674" y="118"/>
                    </a:lnTo>
                    <a:lnTo>
                      <a:pt x="2726" y="132"/>
                    </a:lnTo>
                    <a:lnTo>
                      <a:pt x="2775" y="147"/>
                    </a:lnTo>
                    <a:lnTo>
                      <a:pt x="2822" y="162"/>
                    </a:lnTo>
                    <a:lnTo>
                      <a:pt x="2865" y="178"/>
                    </a:lnTo>
                    <a:lnTo>
                      <a:pt x="2907" y="196"/>
                    </a:lnTo>
                    <a:lnTo>
                      <a:pt x="2944" y="213"/>
                    </a:lnTo>
                    <a:lnTo>
                      <a:pt x="2978" y="231"/>
                    </a:lnTo>
                    <a:lnTo>
                      <a:pt x="3011" y="249"/>
                    </a:lnTo>
                    <a:lnTo>
                      <a:pt x="3038" y="268"/>
                    </a:lnTo>
                    <a:lnTo>
                      <a:pt x="3063" y="287"/>
                    </a:lnTo>
                    <a:lnTo>
                      <a:pt x="3084" y="308"/>
                    </a:lnTo>
                    <a:lnTo>
                      <a:pt x="3102" y="328"/>
                    </a:lnTo>
                    <a:lnTo>
                      <a:pt x="3116" y="349"/>
                    </a:lnTo>
                    <a:lnTo>
                      <a:pt x="3125" y="370"/>
                    </a:lnTo>
                    <a:lnTo>
                      <a:pt x="3131" y="392"/>
                    </a:lnTo>
                    <a:lnTo>
                      <a:pt x="3133" y="4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118240" y="6526800"/>
                <a:ext cx="344880" cy="101160"/>
              </a:xfrm>
              <a:custGeom>
                <a:avLst/>
                <a:gdLst/>
                <a:ahLst/>
                <a:rect l="l" t="t" r="r" b="b"/>
                <a:pathLst>
                  <a:path w="3131" h="845">
                    <a:moveTo>
                      <a:pt x="3131" y="414"/>
                    </a:moveTo>
                    <a:lnTo>
                      <a:pt x="3129" y="436"/>
                    </a:lnTo>
                    <a:lnTo>
                      <a:pt x="3123" y="458"/>
                    </a:lnTo>
                    <a:lnTo>
                      <a:pt x="3113" y="479"/>
                    </a:lnTo>
                    <a:lnTo>
                      <a:pt x="3100" y="500"/>
                    </a:lnTo>
                    <a:lnTo>
                      <a:pt x="3081" y="522"/>
                    </a:lnTo>
                    <a:lnTo>
                      <a:pt x="3060" y="542"/>
                    </a:lnTo>
                    <a:lnTo>
                      <a:pt x="3036" y="562"/>
                    </a:lnTo>
                    <a:lnTo>
                      <a:pt x="3008" y="581"/>
                    </a:lnTo>
                    <a:lnTo>
                      <a:pt x="2976" y="600"/>
                    </a:lnTo>
                    <a:lnTo>
                      <a:pt x="2942" y="620"/>
                    </a:lnTo>
                    <a:lnTo>
                      <a:pt x="2905" y="637"/>
                    </a:lnTo>
                    <a:lnTo>
                      <a:pt x="2863" y="655"/>
                    </a:lnTo>
                    <a:lnTo>
                      <a:pt x="2820" y="671"/>
                    </a:lnTo>
                    <a:lnTo>
                      <a:pt x="2773" y="688"/>
                    </a:lnTo>
                    <a:lnTo>
                      <a:pt x="2724" y="703"/>
                    </a:lnTo>
                    <a:lnTo>
                      <a:pt x="2672" y="719"/>
                    </a:lnTo>
                    <a:lnTo>
                      <a:pt x="2618" y="733"/>
                    </a:lnTo>
                    <a:lnTo>
                      <a:pt x="2561" y="747"/>
                    </a:lnTo>
                    <a:lnTo>
                      <a:pt x="2502" y="759"/>
                    </a:lnTo>
                    <a:lnTo>
                      <a:pt x="2441" y="771"/>
                    </a:lnTo>
                    <a:lnTo>
                      <a:pt x="2377" y="782"/>
                    </a:lnTo>
                    <a:lnTo>
                      <a:pt x="2312" y="793"/>
                    </a:lnTo>
                    <a:lnTo>
                      <a:pt x="2244" y="802"/>
                    </a:lnTo>
                    <a:lnTo>
                      <a:pt x="2174" y="811"/>
                    </a:lnTo>
                    <a:lnTo>
                      <a:pt x="2104" y="818"/>
                    </a:lnTo>
                    <a:lnTo>
                      <a:pt x="2031" y="826"/>
                    </a:lnTo>
                    <a:lnTo>
                      <a:pt x="1956" y="832"/>
                    </a:lnTo>
                    <a:lnTo>
                      <a:pt x="1881" y="836"/>
                    </a:lnTo>
                    <a:lnTo>
                      <a:pt x="1804" y="840"/>
                    </a:lnTo>
                    <a:lnTo>
                      <a:pt x="1726" y="843"/>
                    </a:lnTo>
                    <a:lnTo>
                      <a:pt x="1646" y="845"/>
                    </a:lnTo>
                    <a:lnTo>
                      <a:pt x="1565" y="845"/>
                    </a:lnTo>
                    <a:lnTo>
                      <a:pt x="1485" y="845"/>
                    </a:lnTo>
                    <a:lnTo>
                      <a:pt x="1406" y="843"/>
                    </a:lnTo>
                    <a:lnTo>
                      <a:pt x="1327" y="840"/>
                    </a:lnTo>
                    <a:lnTo>
                      <a:pt x="1250" y="836"/>
                    </a:lnTo>
                    <a:lnTo>
                      <a:pt x="1175" y="832"/>
                    </a:lnTo>
                    <a:lnTo>
                      <a:pt x="1100" y="826"/>
                    </a:lnTo>
                    <a:lnTo>
                      <a:pt x="1027" y="818"/>
                    </a:lnTo>
                    <a:lnTo>
                      <a:pt x="956" y="811"/>
                    </a:lnTo>
                    <a:lnTo>
                      <a:pt x="887" y="802"/>
                    </a:lnTo>
                    <a:lnTo>
                      <a:pt x="819" y="793"/>
                    </a:lnTo>
                    <a:lnTo>
                      <a:pt x="753" y="782"/>
                    </a:lnTo>
                    <a:lnTo>
                      <a:pt x="690" y="771"/>
                    </a:lnTo>
                    <a:lnTo>
                      <a:pt x="629" y="759"/>
                    </a:lnTo>
                    <a:lnTo>
                      <a:pt x="570" y="747"/>
                    </a:lnTo>
                    <a:lnTo>
                      <a:pt x="513" y="733"/>
                    </a:lnTo>
                    <a:lnTo>
                      <a:pt x="459" y="719"/>
                    </a:lnTo>
                    <a:lnTo>
                      <a:pt x="407" y="703"/>
                    </a:lnTo>
                    <a:lnTo>
                      <a:pt x="358" y="688"/>
                    </a:lnTo>
                    <a:lnTo>
                      <a:pt x="311" y="671"/>
                    </a:lnTo>
                    <a:lnTo>
                      <a:pt x="268" y="655"/>
                    </a:lnTo>
                    <a:lnTo>
                      <a:pt x="226" y="637"/>
                    </a:lnTo>
                    <a:lnTo>
                      <a:pt x="189" y="620"/>
                    </a:lnTo>
                    <a:lnTo>
                      <a:pt x="155" y="600"/>
                    </a:lnTo>
                    <a:lnTo>
                      <a:pt x="123" y="581"/>
                    </a:lnTo>
                    <a:lnTo>
                      <a:pt x="95" y="562"/>
                    </a:lnTo>
                    <a:lnTo>
                      <a:pt x="71" y="542"/>
                    </a:lnTo>
                    <a:lnTo>
                      <a:pt x="50" y="522"/>
                    </a:lnTo>
                    <a:lnTo>
                      <a:pt x="32" y="500"/>
                    </a:lnTo>
                    <a:lnTo>
                      <a:pt x="18" y="479"/>
                    </a:lnTo>
                    <a:lnTo>
                      <a:pt x="8" y="458"/>
                    </a:lnTo>
                    <a:lnTo>
                      <a:pt x="2" y="436"/>
                    </a:lnTo>
                    <a:lnTo>
                      <a:pt x="0" y="414"/>
                    </a:lnTo>
                    <a:lnTo>
                      <a:pt x="2" y="391"/>
                    </a:lnTo>
                    <a:lnTo>
                      <a:pt x="8" y="369"/>
                    </a:lnTo>
                    <a:lnTo>
                      <a:pt x="18" y="348"/>
                    </a:lnTo>
                    <a:lnTo>
                      <a:pt x="32" y="328"/>
                    </a:lnTo>
                    <a:lnTo>
                      <a:pt x="50" y="307"/>
                    </a:lnTo>
                    <a:lnTo>
                      <a:pt x="71" y="286"/>
                    </a:lnTo>
                    <a:lnTo>
                      <a:pt x="95" y="267"/>
                    </a:lnTo>
                    <a:lnTo>
                      <a:pt x="123" y="248"/>
                    </a:lnTo>
                    <a:lnTo>
                      <a:pt x="155" y="230"/>
                    </a:lnTo>
                    <a:lnTo>
                      <a:pt x="189" y="212"/>
                    </a:lnTo>
                    <a:lnTo>
                      <a:pt x="226" y="195"/>
                    </a:lnTo>
                    <a:lnTo>
                      <a:pt x="268" y="177"/>
                    </a:lnTo>
                    <a:lnTo>
                      <a:pt x="311" y="162"/>
                    </a:lnTo>
                    <a:lnTo>
                      <a:pt x="358" y="146"/>
                    </a:lnTo>
                    <a:lnTo>
                      <a:pt x="407" y="131"/>
                    </a:lnTo>
                    <a:lnTo>
                      <a:pt x="459" y="117"/>
                    </a:lnTo>
                    <a:lnTo>
                      <a:pt x="513" y="104"/>
                    </a:lnTo>
                    <a:lnTo>
                      <a:pt x="570" y="92"/>
                    </a:lnTo>
                    <a:lnTo>
                      <a:pt x="629" y="80"/>
                    </a:lnTo>
                    <a:lnTo>
                      <a:pt x="690" y="67"/>
                    </a:lnTo>
                    <a:lnTo>
                      <a:pt x="753" y="57"/>
                    </a:lnTo>
                    <a:lnTo>
                      <a:pt x="819" y="48"/>
                    </a:lnTo>
                    <a:lnTo>
                      <a:pt x="887" y="39"/>
                    </a:lnTo>
                    <a:lnTo>
                      <a:pt x="956" y="31"/>
                    </a:lnTo>
                    <a:lnTo>
                      <a:pt x="1027" y="24"/>
                    </a:lnTo>
                    <a:lnTo>
                      <a:pt x="1100" y="18"/>
                    </a:lnTo>
                    <a:lnTo>
                      <a:pt x="1175" y="12"/>
                    </a:lnTo>
                    <a:lnTo>
                      <a:pt x="1250" y="8"/>
                    </a:lnTo>
                    <a:lnTo>
                      <a:pt x="1327" y="5"/>
                    </a:lnTo>
                    <a:lnTo>
                      <a:pt x="1406" y="2"/>
                    </a:lnTo>
                    <a:lnTo>
                      <a:pt x="1485" y="1"/>
                    </a:lnTo>
                    <a:lnTo>
                      <a:pt x="1565" y="0"/>
                    </a:lnTo>
                    <a:lnTo>
                      <a:pt x="1646" y="1"/>
                    </a:lnTo>
                    <a:lnTo>
                      <a:pt x="1726" y="2"/>
                    </a:lnTo>
                    <a:lnTo>
                      <a:pt x="1804" y="5"/>
                    </a:lnTo>
                    <a:lnTo>
                      <a:pt x="1881" y="8"/>
                    </a:lnTo>
                    <a:lnTo>
                      <a:pt x="1956" y="12"/>
                    </a:lnTo>
                    <a:lnTo>
                      <a:pt x="2031" y="18"/>
                    </a:lnTo>
                    <a:lnTo>
                      <a:pt x="2104" y="24"/>
                    </a:lnTo>
                    <a:lnTo>
                      <a:pt x="2174" y="31"/>
                    </a:lnTo>
                    <a:lnTo>
                      <a:pt x="2244" y="39"/>
                    </a:lnTo>
                    <a:lnTo>
                      <a:pt x="2312" y="48"/>
                    </a:lnTo>
                    <a:lnTo>
                      <a:pt x="2377" y="57"/>
                    </a:lnTo>
                    <a:lnTo>
                      <a:pt x="2441" y="67"/>
                    </a:lnTo>
                    <a:lnTo>
                      <a:pt x="2502" y="80"/>
                    </a:lnTo>
                    <a:lnTo>
                      <a:pt x="2561" y="92"/>
                    </a:lnTo>
                    <a:lnTo>
                      <a:pt x="2618" y="104"/>
                    </a:lnTo>
                    <a:lnTo>
                      <a:pt x="2672" y="117"/>
                    </a:lnTo>
                    <a:lnTo>
                      <a:pt x="2724" y="131"/>
                    </a:lnTo>
                    <a:lnTo>
                      <a:pt x="2773" y="146"/>
                    </a:lnTo>
                    <a:lnTo>
                      <a:pt x="2820" y="162"/>
                    </a:lnTo>
                    <a:lnTo>
                      <a:pt x="2863" y="177"/>
                    </a:lnTo>
                    <a:lnTo>
                      <a:pt x="2905" y="195"/>
                    </a:lnTo>
                    <a:lnTo>
                      <a:pt x="2942" y="212"/>
                    </a:lnTo>
                    <a:lnTo>
                      <a:pt x="2976" y="230"/>
                    </a:lnTo>
                    <a:lnTo>
                      <a:pt x="3008" y="248"/>
                    </a:lnTo>
                    <a:lnTo>
                      <a:pt x="3036" y="267"/>
                    </a:lnTo>
                    <a:lnTo>
                      <a:pt x="3060" y="286"/>
                    </a:lnTo>
                    <a:lnTo>
                      <a:pt x="3081" y="307"/>
                    </a:lnTo>
                    <a:lnTo>
                      <a:pt x="3100" y="328"/>
                    </a:lnTo>
                    <a:lnTo>
                      <a:pt x="3113" y="348"/>
                    </a:lnTo>
                    <a:lnTo>
                      <a:pt x="3123" y="369"/>
                    </a:lnTo>
                    <a:lnTo>
                      <a:pt x="3129" y="391"/>
                    </a:lnTo>
                    <a:lnTo>
                      <a:pt x="3131" y="4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118240" y="6528240"/>
                <a:ext cx="344880" cy="99720"/>
              </a:xfrm>
              <a:custGeom>
                <a:avLst/>
                <a:gdLst/>
                <a:ahLst/>
                <a:rect l="l" t="t" r="r" b="b"/>
                <a:pathLst>
                  <a:path w="3128" h="843">
                    <a:moveTo>
                      <a:pt x="3128" y="413"/>
                    </a:moveTo>
                    <a:lnTo>
                      <a:pt x="3126" y="435"/>
                    </a:lnTo>
                    <a:lnTo>
                      <a:pt x="3120" y="456"/>
                    </a:lnTo>
                    <a:lnTo>
                      <a:pt x="3110" y="478"/>
                    </a:lnTo>
                    <a:lnTo>
                      <a:pt x="3096" y="499"/>
                    </a:lnTo>
                    <a:lnTo>
                      <a:pt x="3078" y="520"/>
                    </a:lnTo>
                    <a:lnTo>
                      <a:pt x="3057" y="541"/>
                    </a:lnTo>
                    <a:lnTo>
                      <a:pt x="3033" y="560"/>
                    </a:lnTo>
                    <a:lnTo>
                      <a:pt x="3005" y="580"/>
                    </a:lnTo>
                    <a:lnTo>
                      <a:pt x="2973" y="599"/>
                    </a:lnTo>
                    <a:lnTo>
                      <a:pt x="2939" y="618"/>
                    </a:lnTo>
                    <a:lnTo>
                      <a:pt x="2901" y="636"/>
                    </a:lnTo>
                    <a:lnTo>
                      <a:pt x="2860" y="653"/>
                    </a:lnTo>
                    <a:lnTo>
                      <a:pt x="2817" y="670"/>
                    </a:lnTo>
                    <a:lnTo>
                      <a:pt x="2770" y="686"/>
                    </a:lnTo>
                    <a:lnTo>
                      <a:pt x="2721" y="702"/>
                    </a:lnTo>
                    <a:lnTo>
                      <a:pt x="2669" y="716"/>
                    </a:lnTo>
                    <a:lnTo>
                      <a:pt x="2615" y="731"/>
                    </a:lnTo>
                    <a:lnTo>
                      <a:pt x="2558" y="745"/>
                    </a:lnTo>
                    <a:lnTo>
                      <a:pt x="2500" y="757"/>
                    </a:lnTo>
                    <a:lnTo>
                      <a:pt x="2438" y="769"/>
                    </a:lnTo>
                    <a:lnTo>
                      <a:pt x="2374" y="780"/>
                    </a:lnTo>
                    <a:lnTo>
                      <a:pt x="2309" y="791"/>
                    </a:lnTo>
                    <a:lnTo>
                      <a:pt x="2241" y="800"/>
                    </a:lnTo>
                    <a:lnTo>
                      <a:pt x="2172" y="809"/>
                    </a:lnTo>
                    <a:lnTo>
                      <a:pt x="2101" y="816"/>
                    </a:lnTo>
                    <a:lnTo>
                      <a:pt x="2029" y="823"/>
                    </a:lnTo>
                    <a:lnTo>
                      <a:pt x="1954" y="830"/>
                    </a:lnTo>
                    <a:lnTo>
                      <a:pt x="1879" y="835"/>
                    </a:lnTo>
                    <a:lnTo>
                      <a:pt x="1802" y="838"/>
                    </a:lnTo>
                    <a:lnTo>
                      <a:pt x="1723" y="841"/>
                    </a:lnTo>
                    <a:lnTo>
                      <a:pt x="1644" y="843"/>
                    </a:lnTo>
                    <a:lnTo>
                      <a:pt x="1563" y="843"/>
                    </a:lnTo>
                    <a:lnTo>
                      <a:pt x="1483" y="843"/>
                    </a:lnTo>
                    <a:lnTo>
                      <a:pt x="1404" y="841"/>
                    </a:lnTo>
                    <a:lnTo>
                      <a:pt x="1325" y="838"/>
                    </a:lnTo>
                    <a:lnTo>
                      <a:pt x="1248" y="835"/>
                    </a:lnTo>
                    <a:lnTo>
                      <a:pt x="1173" y="830"/>
                    </a:lnTo>
                    <a:lnTo>
                      <a:pt x="1099" y="823"/>
                    </a:lnTo>
                    <a:lnTo>
                      <a:pt x="1026" y="816"/>
                    </a:lnTo>
                    <a:lnTo>
                      <a:pt x="954" y="809"/>
                    </a:lnTo>
                    <a:lnTo>
                      <a:pt x="886" y="800"/>
                    </a:lnTo>
                    <a:lnTo>
                      <a:pt x="818" y="791"/>
                    </a:lnTo>
                    <a:lnTo>
                      <a:pt x="752" y="780"/>
                    </a:lnTo>
                    <a:lnTo>
                      <a:pt x="689" y="769"/>
                    </a:lnTo>
                    <a:lnTo>
                      <a:pt x="628" y="757"/>
                    </a:lnTo>
                    <a:lnTo>
                      <a:pt x="569" y="745"/>
                    </a:lnTo>
                    <a:lnTo>
                      <a:pt x="512" y="731"/>
                    </a:lnTo>
                    <a:lnTo>
                      <a:pt x="458" y="716"/>
                    </a:lnTo>
                    <a:lnTo>
                      <a:pt x="406" y="702"/>
                    </a:lnTo>
                    <a:lnTo>
                      <a:pt x="357" y="686"/>
                    </a:lnTo>
                    <a:lnTo>
                      <a:pt x="310" y="670"/>
                    </a:lnTo>
                    <a:lnTo>
                      <a:pt x="267" y="653"/>
                    </a:lnTo>
                    <a:lnTo>
                      <a:pt x="226" y="636"/>
                    </a:lnTo>
                    <a:lnTo>
                      <a:pt x="188" y="618"/>
                    </a:lnTo>
                    <a:lnTo>
                      <a:pt x="154" y="599"/>
                    </a:lnTo>
                    <a:lnTo>
                      <a:pt x="122" y="580"/>
                    </a:lnTo>
                    <a:lnTo>
                      <a:pt x="94" y="560"/>
                    </a:lnTo>
                    <a:lnTo>
                      <a:pt x="70" y="541"/>
                    </a:lnTo>
                    <a:lnTo>
                      <a:pt x="49" y="520"/>
                    </a:lnTo>
                    <a:lnTo>
                      <a:pt x="31" y="499"/>
                    </a:lnTo>
                    <a:lnTo>
                      <a:pt x="17" y="478"/>
                    </a:lnTo>
                    <a:lnTo>
                      <a:pt x="8" y="456"/>
                    </a:lnTo>
                    <a:lnTo>
                      <a:pt x="2" y="435"/>
                    </a:lnTo>
                    <a:lnTo>
                      <a:pt x="0" y="413"/>
                    </a:lnTo>
                    <a:lnTo>
                      <a:pt x="2" y="390"/>
                    </a:lnTo>
                    <a:lnTo>
                      <a:pt x="8" y="368"/>
                    </a:lnTo>
                    <a:lnTo>
                      <a:pt x="17" y="347"/>
                    </a:lnTo>
                    <a:lnTo>
                      <a:pt x="31" y="327"/>
                    </a:lnTo>
                    <a:lnTo>
                      <a:pt x="49" y="306"/>
                    </a:lnTo>
                    <a:lnTo>
                      <a:pt x="70" y="286"/>
                    </a:lnTo>
                    <a:lnTo>
                      <a:pt x="94" y="266"/>
                    </a:lnTo>
                    <a:lnTo>
                      <a:pt x="122" y="248"/>
                    </a:lnTo>
                    <a:lnTo>
                      <a:pt x="154" y="229"/>
                    </a:lnTo>
                    <a:lnTo>
                      <a:pt x="188" y="212"/>
                    </a:lnTo>
                    <a:lnTo>
                      <a:pt x="226" y="195"/>
                    </a:lnTo>
                    <a:lnTo>
                      <a:pt x="267" y="177"/>
                    </a:lnTo>
                    <a:lnTo>
                      <a:pt x="310" y="161"/>
                    </a:lnTo>
                    <a:lnTo>
                      <a:pt x="357" y="146"/>
                    </a:lnTo>
                    <a:lnTo>
                      <a:pt x="406" y="131"/>
                    </a:lnTo>
                    <a:lnTo>
                      <a:pt x="458" y="117"/>
                    </a:lnTo>
                    <a:lnTo>
                      <a:pt x="512" y="104"/>
                    </a:lnTo>
                    <a:lnTo>
                      <a:pt x="569" y="91"/>
                    </a:lnTo>
                    <a:lnTo>
                      <a:pt x="628" y="79"/>
                    </a:lnTo>
                    <a:lnTo>
                      <a:pt x="689" y="67"/>
                    </a:lnTo>
                    <a:lnTo>
                      <a:pt x="752" y="57"/>
                    </a:lnTo>
                    <a:lnTo>
                      <a:pt x="818" y="47"/>
                    </a:lnTo>
                    <a:lnTo>
                      <a:pt x="886" y="39"/>
                    </a:lnTo>
                    <a:lnTo>
                      <a:pt x="954" y="31"/>
                    </a:lnTo>
                    <a:lnTo>
                      <a:pt x="1026" y="24"/>
                    </a:lnTo>
                    <a:lnTo>
                      <a:pt x="1099" y="18"/>
                    </a:lnTo>
                    <a:lnTo>
                      <a:pt x="1173" y="12"/>
                    </a:lnTo>
                    <a:lnTo>
                      <a:pt x="1248" y="8"/>
                    </a:lnTo>
                    <a:lnTo>
                      <a:pt x="1325" y="4"/>
                    </a:lnTo>
                    <a:lnTo>
                      <a:pt x="1404" y="2"/>
                    </a:lnTo>
                    <a:lnTo>
                      <a:pt x="1483" y="0"/>
                    </a:lnTo>
                    <a:lnTo>
                      <a:pt x="1563" y="0"/>
                    </a:lnTo>
                    <a:lnTo>
                      <a:pt x="1644" y="0"/>
                    </a:lnTo>
                    <a:lnTo>
                      <a:pt x="1723" y="2"/>
                    </a:lnTo>
                    <a:lnTo>
                      <a:pt x="1802" y="4"/>
                    </a:lnTo>
                    <a:lnTo>
                      <a:pt x="1879" y="8"/>
                    </a:lnTo>
                    <a:lnTo>
                      <a:pt x="1954" y="12"/>
                    </a:lnTo>
                    <a:lnTo>
                      <a:pt x="2029" y="18"/>
                    </a:lnTo>
                    <a:lnTo>
                      <a:pt x="2101" y="24"/>
                    </a:lnTo>
                    <a:lnTo>
                      <a:pt x="2172" y="31"/>
                    </a:lnTo>
                    <a:lnTo>
                      <a:pt x="2241" y="39"/>
                    </a:lnTo>
                    <a:lnTo>
                      <a:pt x="2309" y="47"/>
                    </a:lnTo>
                    <a:lnTo>
                      <a:pt x="2374" y="57"/>
                    </a:lnTo>
                    <a:lnTo>
                      <a:pt x="2438" y="67"/>
                    </a:lnTo>
                    <a:lnTo>
                      <a:pt x="2500" y="79"/>
                    </a:lnTo>
                    <a:lnTo>
                      <a:pt x="2558" y="91"/>
                    </a:lnTo>
                    <a:lnTo>
                      <a:pt x="2615" y="104"/>
                    </a:lnTo>
                    <a:lnTo>
                      <a:pt x="2669" y="117"/>
                    </a:lnTo>
                    <a:lnTo>
                      <a:pt x="2721" y="131"/>
                    </a:lnTo>
                    <a:lnTo>
                      <a:pt x="2770" y="146"/>
                    </a:lnTo>
                    <a:lnTo>
                      <a:pt x="2817" y="161"/>
                    </a:lnTo>
                    <a:lnTo>
                      <a:pt x="2860" y="177"/>
                    </a:lnTo>
                    <a:lnTo>
                      <a:pt x="2901" y="195"/>
                    </a:lnTo>
                    <a:lnTo>
                      <a:pt x="2939" y="212"/>
                    </a:lnTo>
                    <a:lnTo>
                      <a:pt x="2973" y="229"/>
                    </a:lnTo>
                    <a:lnTo>
                      <a:pt x="3005" y="248"/>
                    </a:lnTo>
                    <a:lnTo>
                      <a:pt x="3033" y="266"/>
                    </a:lnTo>
                    <a:lnTo>
                      <a:pt x="3057" y="286"/>
                    </a:lnTo>
                    <a:lnTo>
                      <a:pt x="3078" y="306"/>
                    </a:lnTo>
                    <a:lnTo>
                      <a:pt x="3096" y="327"/>
                    </a:lnTo>
                    <a:lnTo>
                      <a:pt x="3110" y="347"/>
                    </a:lnTo>
                    <a:lnTo>
                      <a:pt x="3120" y="368"/>
                    </a:lnTo>
                    <a:lnTo>
                      <a:pt x="3126" y="390"/>
                    </a:lnTo>
                    <a:lnTo>
                      <a:pt x="3128" y="4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118240" y="6528240"/>
                <a:ext cx="344880" cy="99720"/>
              </a:xfrm>
              <a:custGeom>
                <a:avLst/>
                <a:gdLst/>
                <a:ahLst/>
                <a:rect l="l" t="t" r="r" b="b"/>
                <a:pathLst>
                  <a:path w="3125" h="841">
                    <a:moveTo>
                      <a:pt x="3125" y="412"/>
                    </a:moveTo>
                    <a:lnTo>
                      <a:pt x="3123" y="434"/>
                    </a:lnTo>
                    <a:lnTo>
                      <a:pt x="3117" y="455"/>
                    </a:lnTo>
                    <a:lnTo>
                      <a:pt x="3107" y="477"/>
                    </a:lnTo>
                    <a:lnTo>
                      <a:pt x="3094" y="498"/>
                    </a:lnTo>
                    <a:lnTo>
                      <a:pt x="3075" y="519"/>
                    </a:lnTo>
                    <a:lnTo>
                      <a:pt x="3055" y="539"/>
                    </a:lnTo>
                    <a:lnTo>
                      <a:pt x="3030" y="559"/>
                    </a:lnTo>
                    <a:lnTo>
                      <a:pt x="3003" y="578"/>
                    </a:lnTo>
                    <a:lnTo>
                      <a:pt x="2971" y="597"/>
                    </a:lnTo>
                    <a:lnTo>
                      <a:pt x="2936" y="617"/>
                    </a:lnTo>
                    <a:lnTo>
                      <a:pt x="2899" y="634"/>
                    </a:lnTo>
                    <a:lnTo>
                      <a:pt x="2858" y="652"/>
                    </a:lnTo>
                    <a:lnTo>
                      <a:pt x="2815" y="668"/>
                    </a:lnTo>
                    <a:lnTo>
                      <a:pt x="2768" y="684"/>
                    </a:lnTo>
                    <a:lnTo>
                      <a:pt x="2719" y="700"/>
                    </a:lnTo>
                    <a:lnTo>
                      <a:pt x="2667" y="715"/>
                    </a:lnTo>
                    <a:lnTo>
                      <a:pt x="2613" y="730"/>
                    </a:lnTo>
                    <a:lnTo>
                      <a:pt x="2556" y="743"/>
                    </a:lnTo>
                    <a:lnTo>
                      <a:pt x="2498" y="756"/>
                    </a:lnTo>
                    <a:lnTo>
                      <a:pt x="2436" y="768"/>
                    </a:lnTo>
                    <a:lnTo>
                      <a:pt x="2372" y="779"/>
                    </a:lnTo>
                    <a:lnTo>
                      <a:pt x="2308" y="789"/>
                    </a:lnTo>
                    <a:lnTo>
                      <a:pt x="2240" y="798"/>
                    </a:lnTo>
                    <a:lnTo>
                      <a:pt x="2170" y="807"/>
                    </a:lnTo>
                    <a:lnTo>
                      <a:pt x="2100" y="814"/>
                    </a:lnTo>
                    <a:lnTo>
                      <a:pt x="2027" y="821"/>
                    </a:lnTo>
                    <a:lnTo>
                      <a:pt x="1953" y="828"/>
                    </a:lnTo>
                    <a:lnTo>
                      <a:pt x="1878" y="833"/>
                    </a:lnTo>
                    <a:lnTo>
                      <a:pt x="1801" y="836"/>
                    </a:lnTo>
                    <a:lnTo>
                      <a:pt x="1722" y="839"/>
                    </a:lnTo>
                    <a:lnTo>
                      <a:pt x="1643" y="841"/>
                    </a:lnTo>
                    <a:lnTo>
                      <a:pt x="1562" y="841"/>
                    </a:lnTo>
                    <a:lnTo>
                      <a:pt x="1482" y="841"/>
                    </a:lnTo>
                    <a:lnTo>
                      <a:pt x="1403" y="839"/>
                    </a:lnTo>
                    <a:lnTo>
                      <a:pt x="1324" y="836"/>
                    </a:lnTo>
                    <a:lnTo>
                      <a:pt x="1247" y="833"/>
                    </a:lnTo>
                    <a:lnTo>
                      <a:pt x="1172" y="828"/>
                    </a:lnTo>
                    <a:lnTo>
                      <a:pt x="1098" y="821"/>
                    </a:lnTo>
                    <a:lnTo>
                      <a:pt x="1025" y="814"/>
                    </a:lnTo>
                    <a:lnTo>
                      <a:pt x="954" y="807"/>
                    </a:lnTo>
                    <a:lnTo>
                      <a:pt x="885" y="798"/>
                    </a:lnTo>
                    <a:lnTo>
                      <a:pt x="818" y="789"/>
                    </a:lnTo>
                    <a:lnTo>
                      <a:pt x="752" y="779"/>
                    </a:lnTo>
                    <a:lnTo>
                      <a:pt x="689" y="768"/>
                    </a:lnTo>
                    <a:lnTo>
                      <a:pt x="627" y="756"/>
                    </a:lnTo>
                    <a:lnTo>
                      <a:pt x="569" y="743"/>
                    </a:lnTo>
                    <a:lnTo>
                      <a:pt x="512" y="730"/>
                    </a:lnTo>
                    <a:lnTo>
                      <a:pt x="458" y="715"/>
                    </a:lnTo>
                    <a:lnTo>
                      <a:pt x="406" y="700"/>
                    </a:lnTo>
                    <a:lnTo>
                      <a:pt x="357" y="684"/>
                    </a:lnTo>
                    <a:lnTo>
                      <a:pt x="310" y="668"/>
                    </a:lnTo>
                    <a:lnTo>
                      <a:pt x="267" y="652"/>
                    </a:lnTo>
                    <a:lnTo>
                      <a:pt x="226" y="634"/>
                    </a:lnTo>
                    <a:lnTo>
                      <a:pt x="189" y="617"/>
                    </a:lnTo>
                    <a:lnTo>
                      <a:pt x="155" y="597"/>
                    </a:lnTo>
                    <a:lnTo>
                      <a:pt x="123" y="578"/>
                    </a:lnTo>
                    <a:lnTo>
                      <a:pt x="95" y="559"/>
                    </a:lnTo>
                    <a:lnTo>
                      <a:pt x="71" y="539"/>
                    </a:lnTo>
                    <a:lnTo>
                      <a:pt x="50" y="519"/>
                    </a:lnTo>
                    <a:lnTo>
                      <a:pt x="31" y="498"/>
                    </a:lnTo>
                    <a:lnTo>
                      <a:pt x="18" y="477"/>
                    </a:lnTo>
                    <a:lnTo>
                      <a:pt x="8" y="455"/>
                    </a:lnTo>
                    <a:lnTo>
                      <a:pt x="2" y="434"/>
                    </a:lnTo>
                    <a:lnTo>
                      <a:pt x="0" y="412"/>
                    </a:lnTo>
                    <a:lnTo>
                      <a:pt x="2" y="389"/>
                    </a:lnTo>
                    <a:lnTo>
                      <a:pt x="8" y="368"/>
                    </a:lnTo>
                    <a:lnTo>
                      <a:pt x="18" y="347"/>
                    </a:lnTo>
                    <a:lnTo>
                      <a:pt x="31" y="326"/>
                    </a:lnTo>
                    <a:lnTo>
                      <a:pt x="50" y="306"/>
                    </a:lnTo>
                    <a:lnTo>
                      <a:pt x="71" y="285"/>
                    </a:lnTo>
                    <a:lnTo>
                      <a:pt x="95" y="266"/>
                    </a:lnTo>
                    <a:lnTo>
                      <a:pt x="123" y="247"/>
                    </a:lnTo>
                    <a:lnTo>
                      <a:pt x="155" y="229"/>
                    </a:lnTo>
                    <a:lnTo>
                      <a:pt x="189" y="211"/>
                    </a:lnTo>
                    <a:lnTo>
                      <a:pt x="226" y="194"/>
                    </a:lnTo>
                    <a:lnTo>
                      <a:pt x="267" y="177"/>
                    </a:lnTo>
                    <a:lnTo>
                      <a:pt x="310" y="161"/>
                    </a:lnTo>
                    <a:lnTo>
                      <a:pt x="357" y="145"/>
                    </a:lnTo>
                    <a:lnTo>
                      <a:pt x="406" y="131"/>
                    </a:lnTo>
                    <a:lnTo>
                      <a:pt x="458" y="117"/>
                    </a:lnTo>
                    <a:lnTo>
                      <a:pt x="512" y="104"/>
                    </a:lnTo>
                    <a:lnTo>
                      <a:pt x="569" y="91"/>
                    </a:lnTo>
                    <a:lnTo>
                      <a:pt x="627" y="79"/>
                    </a:lnTo>
                    <a:lnTo>
                      <a:pt x="689" y="67"/>
                    </a:lnTo>
                    <a:lnTo>
                      <a:pt x="752" y="57"/>
                    </a:lnTo>
                    <a:lnTo>
                      <a:pt x="818" y="47"/>
                    </a:lnTo>
                    <a:lnTo>
                      <a:pt x="885" y="39"/>
                    </a:lnTo>
                    <a:lnTo>
                      <a:pt x="954" y="31"/>
                    </a:lnTo>
                    <a:lnTo>
                      <a:pt x="1025" y="24"/>
                    </a:lnTo>
                    <a:lnTo>
                      <a:pt x="1098" y="17"/>
                    </a:lnTo>
                    <a:lnTo>
                      <a:pt x="1172" y="12"/>
                    </a:lnTo>
                    <a:lnTo>
                      <a:pt x="1247" y="8"/>
                    </a:lnTo>
                    <a:lnTo>
                      <a:pt x="1324" y="4"/>
                    </a:lnTo>
                    <a:lnTo>
                      <a:pt x="1403" y="2"/>
                    </a:lnTo>
                    <a:lnTo>
                      <a:pt x="1482" y="0"/>
                    </a:lnTo>
                    <a:lnTo>
                      <a:pt x="1562" y="0"/>
                    </a:lnTo>
                    <a:lnTo>
                      <a:pt x="1643" y="0"/>
                    </a:lnTo>
                    <a:lnTo>
                      <a:pt x="1722" y="2"/>
                    </a:lnTo>
                    <a:lnTo>
                      <a:pt x="1801" y="4"/>
                    </a:lnTo>
                    <a:lnTo>
                      <a:pt x="1878" y="8"/>
                    </a:lnTo>
                    <a:lnTo>
                      <a:pt x="1953" y="12"/>
                    </a:lnTo>
                    <a:lnTo>
                      <a:pt x="2027" y="17"/>
                    </a:lnTo>
                    <a:lnTo>
                      <a:pt x="2100" y="24"/>
                    </a:lnTo>
                    <a:lnTo>
                      <a:pt x="2170" y="31"/>
                    </a:lnTo>
                    <a:lnTo>
                      <a:pt x="2240" y="39"/>
                    </a:lnTo>
                    <a:lnTo>
                      <a:pt x="2308" y="47"/>
                    </a:lnTo>
                    <a:lnTo>
                      <a:pt x="2372" y="57"/>
                    </a:lnTo>
                    <a:lnTo>
                      <a:pt x="2436" y="67"/>
                    </a:lnTo>
                    <a:lnTo>
                      <a:pt x="2498" y="79"/>
                    </a:lnTo>
                    <a:lnTo>
                      <a:pt x="2556" y="91"/>
                    </a:lnTo>
                    <a:lnTo>
                      <a:pt x="2613" y="104"/>
                    </a:lnTo>
                    <a:lnTo>
                      <a:pt x="2667" y="117"/>
                    </a:lnTo>
                    <a:lnTo>
                      <a:pt x="2719" y="131"/>
                    </a:lnTo>
                    <a:lnTo>
                      <a:pt x="2768" y="145"/>
                    </a:lnTo>
                    <a:lnTo>
                      <a:pt x="2815" y="161"/>
                    </a:lnTo>
                    <a:lnTo>
                      <a:pt x="2858" y="177"/>
                    </a:lnTo>
                    <a:lnTo>
                      <a:pt x="2899" y="194"/>
                    </a:lnTo>
                    <a:lnTo>
                      <a:pt x="2936" y="211"/>
                    </a:lnTo>
                    <a:lnTo>
                      <a:pt x="2971" y="229"/>
                    </a:lnTo>
                    <a:lnTo>
                      <a:pt x="3003" y="247"/>
                    </a:lnTo>
                    <a:lnTo>
                      <a:pt x="3030" y="266"/>
                    </a:lnTo>
                    <a:lnTo>
                      <a:pt x="3055" y="285"/>
                    </a:lnTo>
                    <a:lnTo>
                      <a:pt x="3075" y="306"/>
                    </a:lnTo>
                    <a:lnTo>
                      <a:pt x="3094" y="326"/>
                    </a:lnTo>
                    <a:lnTo>
                      <a:pt x="3107" y="347"/>
                    </a:lnTo>
                    <a:lnTo>
                      <a:pt x="3117" y="368"/>
                    </a:lnTo>
                    <a:lnTo>
                      <a:pt x="3123" y="389"/>
                    </a:lnTo>
                    <a:lnTo>
                      <a:pt x="3125" y="4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118240" y="6528240"/>
                <a:ext cx="344880" cy="99720"/>
              </a:xfrm>
              <a:custGeom>
                <a:avLst/>
                <a:gdLst/>
                <a:ahLst/>
                <a:rect l="l" t="t" r="r" b="b"/>
                <a:pathLst>
                  <a:path w="3123" h="839">
                    <a:moveTo>
                      <a:pt x="3123" y="411"/>
                    </a:moveTo>
                    <a:lnTo>
                      <a:pt x="3121" y="433"/>
                    </a:lnTo>
                    <a:lnTo>
                      <a:pt x="3115" y="454"/>
                    </a:lnTo>
                    <a:lnTo>
                      <a:pt x="3105" y="476"/>
                    </a:lnTo>
                    <a:lnTo>
                      <a:pt x="3091" y="496"/>
                    </a:lnTo>
                    <a:lnTo>
                      <a:pt x="3073" y="518"/>
                    </a:lnTo>
                    <a:lnTo>
                      <a:pt x="3052" y="538"/>
                    </a:lnTo>
                    <a:lnTo>
                      <a:pt x="3028" y="558"/>
                    </a:lnTo>
                    <a:lnTo>
                      <a:pt x="3000" y="577"/>
                    </a:lnTo>
                    <a:lnTo>
                      <a:pt x="2968" y="596"/>
                    </a:lnTo>
                    <a:lnTo>
                      <a:pt x="2934" y="615"/>
                    </a:lnTo>
                    <a:lnTo>
                      <a:pt x="2897" y="633"/>
                    </a:lnTo>
                    <a:lnTo>
                      <a:pt x="2856" y="650"/>
                    </a:lnTo>
                    <a:lnTo>
                      <a:pt x="2813" y="667"/>
                    </a:lnTo>
                    <a:lnTo>
                      <a:pt x="2766" y="683"/>
                    </a:lnTo>
                    <a:lnTo>
                      <a:pt x="2717" y="698"/>
                    </a:lnTo>
                    <a:lnTo>
                      <a:pt x="2665" y="713"/>
                    </a:lnTo>
                    <a:lnTo>
                      <a:pt x="2611" y="728"/>
                    </a:lnTo>
                    <a:lnTo>
                      <a:pt x="2554" y="741"/>
                    </a:lnTo>
                    <a:lnTo>
                      <a:pt x="2496" y="754"/>
                    </a:lnTo>
                    <a:lnTo>
                      <a:pt x="2434" y="766"/>
                    </a:lnTo>
                    <a:lnTo>
                      <a:pt x="2371" y="777"/>
                    </a:lnTo>
                    <a:lnTo>
                      <a:pt x="2306" y="787"/>
                    </a:lnTo>
                    <a:lnTo>
                      <a:pt x="2238" y="796"/>
                    </a:lnTo>
                    <a:lnTo>
                      <a:pt x="2169" y="805"/>
                    </a:lnTo>
                    <a:lnTo>
                      <a:pt x="2099" y="813"/>
                    </a:lnTo>
                    <a:lnTo>
                      <a:pt x="2026" y="819"/>
                    </a:lnTo>
                    <a:lnTo>
                      <a:pt x="1951" y="826"/>
                    </a:lnTo>
                    <a:lnTo>
                      <a:pt x="1877" y="831"/>
                    </a:lnTo>
                    <a:lnTo>
                      <a:pt x="1799" y="834"/>
                    </a:lnTo>
                    <a:lnTo>
                      <a:pt x="1721" y="837"/>
                    </a:lnTo>
                    <a:lnTo>
                      <a:pt x="1642" y="839"/>
                    </a:lnTo>
                    <a:lnTo>
                      <a:pt x="1561" y="839"/>
                    </a:lnTo>
                    <a:lnTo>
                      <a:pt x="1482" y="839"/>
                    </a:lnTo>
                    <a:lnTo>
                      <a:pt x="1402" y="837"/>
                    </a:lnTo>
                    <a:lnTo>
                      <a:pt x="1324" y="834"/>
                    </a:lnTo>
                    <a:lnTo>
                      <a:pt x="1247" y="831"/>
                    </a:lnTo>
                    <a:lnTo>
                      <a:pt x="1172" y="826"/>
                    </a:lnTo>
                    <a:lnTo>
                      <a:pt x="1097" y="819"/>
                    </a:lnTo>
                    <a:lnTo>
                      <a:pt x="1025" y="813"/>
                    </a:lnTo>
                    <a:lnTo>
                      <a:pt x="953" y="805"/>
                    </a:lnTo>
                    <a:lnTo>
                      <a:pt x="885" y="796"/>
                    </a:lnTo>
                    <a:lnTo>
                      <a:pt x="817" y="787"/>
                    </a:lnTo>
                    <a:lnTo>
                      <a:pt x="753" y="777"/>
                    </a:lnTo>
                    <a:lnTo>
                      <a:pt x="689" y="766"/>
                    </a:lnTo>
                    <a:lnTo>
                      <a:pt x="627" y="754"/>
                    </a:lnTo>
                    <a:lnTo>
                      <a:pt x="569" y="741"/>
                    </a:lnTo>
                    <a:lnTo>
                      <a:pt x="512" y="728"/>
                    </a:lnTo>
                    <a:lnTo>
                      <a:pt x="458" y="713"/>
                    </a:lnTo>
                    <a:lnTo>
                      <a:pt x="406" y="698"/>
                    </a:lnTo>
                    <a:lnTo>
                      <a:pt x="357" y="683"/>
                    </a:lnTo>
                    <a:lnTo>
                      <a:pt x="310" y="667"/>
                    </a:lnTo>
                    <a:lnTo>
                      <a:pt x="267" y="650"/>
                    </a:lnTo>
                    <a:lnTo>
                      <a:pt x="226" y="633"/>
                    </a:lnTo>
                    <a:lnTo>
                      <a:pt x="189" y="615"/>
                    </a:lnTo>
                    <a:lnTo>
                      <a:pt x="155" y="596"/>
                    </a:lnTo>
                    <a:lnTo>
                      <a:pt x="123" y="577"/>
                    </a:lnTo>
                    <a:lnTo>
                      <a:pt x="95" y="558"/>
                    </a:lnTo>
                    <a:lnTo>
                      <a:pt x="71" y="538"/>
                    </a:lnTo>
                    <a:lnTo>
                      <a:pt x="50" y="518"/>
                    </a:lnTo>
                    <a:lnTo>
                      <a:pt x="32" y="496"/>
                    </a:lnTo>
                    <a:lnTo>
                      <a:pt x="18" y="476"/>
                    </a:lnTo>
                    <a:lnTo>
                      <a:pt x="8" y="454"/>
                    </a:lnTo>
                    <a:lnTo>
                      <a:pt x="2" y="433"/>
                    </a:lnTo>
                    <a:lnTo>
                      <a:pt x="0" y="411"/>
                    </a:lnTo>
                    <a:lnTo>
                      <a:pt x="2" y="388"/>
                    </a:lnTo>
                    <a:lnTo>
                      <a:pt x="8" y="367"/>
                    </a:lnTo>
                    <a:lnTo>
                      <a:pt x="18" y="346"/>
                    </a:lnTo>
                    <a:lnTo>
                      <a:pt x="32" y="325"/>
                    </a:lnTo>
                    <a:lnTo>
                      <a:pt x="50" y="305"/>
                    </a:lnTo>
                    <a:lnTo>
                      <a:pt x="71" y="284"/>
                    </a:lnTo>
                    <a:lnTo>
                      <a:pt x="95" y="265"/>
                    </a:lnTo>
                    <a:lnTo>
                      <a:pt x="123" y="246"/>
                    </a:lnTo>
                    <a:lnTo>
                      <a:pt x="155" y="228"/>
                    </a:lnTo>
                    <a:lnTo>
                      <a:pt x="189" y="211"/>
                    </a:lnTo>
                    <a:lnTo>
                      <a:pt x="226" y="194"/>
                    </a:lnTo>
                    <a:lnTo>
                      <a:pt x="267" y="176"/>
                    </a:lnTo>
                    <a:lnTo>
                      <a:pt x="310" y="160"/>
                    </a:lnTo>
                    <a:lnTo>
                      <a:pt x="357" y="145"/>
                    </a:lnTo>
                    <a:lnTo>
                      <a:pt x="406" y="130"/>
                    </a:lnTo>
                    <a:lnTo>
                      <a:pt x="458" y="116"/>
                    </a:lnTo>
                    <a:lnTo>
                      <a:pt x="512" y="103"/>
                    </a:lnTo>
                    <a:lnTo>
                      <a:pt x="569" y="91"/>
                    </a:lnTo>
                    <a:lnTo>
                      <a:pt x="627" y="79"/>
                    </a:lnTo>
                    <a:lnTo>
                      <a:pt x="689" y="67"/>
                    </a:lnTo>
                    <a:lnTo>
                      <a:pt x="753" y="57"/>
                    </a:lnTo>
                    <a:lnTo>
                      <a:pt x="817" y="47"/>
                    </a:lnTo>
                    <a:lnTo>
                      <a:pt x="885" y="38"/>
                    </a:lnTo>
                    <a:lnTo>
                      <a:pt x="953" y="30"/>
                    </a:lnTo>
                    <a:lnTo>
                      <a:pt x="1025" y="23"/>
                    </a:lnTo>
                    <a:lnTo>
                      <a:pt x="1097" y="17"/>
                    </a:lnTo>
                    <a:lnTo>
                      <a:pt x="1172" y="12"/>
                    </a:lnTo>
                    <a:lnTo>
                      <a:pt x="1247" y="8"/>
                    </a:lnTo>
                    <a:lnTo>
                      <a:pt x="1324" y="4"/>
                    </a:lnTo>
                    <a:lnTo>
                      <a:pt x="1402" y="2"/>
                    </a:lnTo>
                    <a:lnTo>
                      <a:pt x="1482" y="0"/>
                    </a:lnTo>
                    <a:lnTo>
                      <a:pt x="1561" y="0"/>
                    </a:lnTo>
                    <a:lnTo>
                      <a:pt x="1642" y="0"/>
                    </a:lnTo>
                    <a:lnTo>
                      <a:pt x="1721" y="2"/>
                    </a:lnTo>
                    <a:lnTo>
                      <a:pt x="1799" y="4"/>
                    </a:lnTo>
                    <a:lnTo>
                      <a:pt x="1877" y="8"/>
                    </a:lnTo>
                    <a:lnTo>
                      <a:pt x="1951" y="12"/>
                    </a:lnTo>
                    <a:lnTo>
                      <a:pt x="2026" y="17"/>
                    </a:lnTo>
                    <a:lnTo>
                      <a:pt x="2099" y="23"/>
                    </a:lnTo>
                    <a:lnTo>
                      <a:pt x="2169" y="30"/>
                    </a:lnTo>
                    <a:lnTo>
                      <a:pt x="2238" y="38"/>
                    </a:lnTo>
                    <a:lnTo>
                      <a:pt x="2306" y="47"/>
                    </a:lnTo>
                    <a:lnTo>
                      <a:pt x="2371" y="57"/>
                    </a:lnTo>
                    <a:lnTo>
                      <a:pt x="2434" y="67"/>
                    </a:lnTo>
                    <a:lnTo>
                      <a:pt x="2496" y="79"/>
                    </a:lnTo>
                    <a:lnTo>
                      <a:pt x="2554" y="91"/>
                    </a:lnTo>
                    <a:lnTo>
                      <a:pt x="2611" y="103"/>
                    </a:lnTo>
                    <a:lnTo>
                      <a:pt x="2665" y="116"/>
                    </a:lnTo>
                    <a:lnTo>
                      <a:pt x="2717" y="130"/>
                    </a:lnTo>
                    <a:lnTo>
                      <a:pt x="2766" y="145"/>
                    </a:lnTo>
                    <a:lnTo>
                      <a:pt x="2813" y="160"/>
                    </a:lnTo>
                    <a:lnTo>
                      <a:pt x="2856" y="176"/>
                    </a:lnTo>
                    <a:lnTo>
                      <a:pt x="2897" y="194"/>
                    </a:lnTo>
                    <a:lnTo>
                      <a:pt x="2934" y="211"/>
                    </a:lnTo>
                    <a:lnTo>
                      <a:pt x="2968" y="228"/>
                    </a:lnTo>
                    <a:lnTo>
                      <a:pt x="3000" y="246"/>
                    </a:lnTo>
                    <a:lnTo>
                      <a:pt x="3028" y="265"/>
                    </a:lnTo>
                    <a:lnTo>
                      <a:pt x="3052" y="284"/>
                    </a:lnTo>
                    <a:lnTo>
                      <a:pt x="3073" y="305"/>
                    </a:lnTo>
                    <a:lnTo>
                      <a:pt x="3091" y="325"/>
                    </a:lnTo>
                    <a:lnTo>
                      <a:pt x="3105" y="346"/>
                    </a:lnTo>
                    <a:lnTo>
                      <a:pt x="3115" y="367"/>
                    </a:lnTo>
                    <a:lnTo>
                      <a:pt x="3121" y="388"/>
                    </a:lnTo>
                    <a:lnTo>
                      <a:pt x="3123" y="4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118240" y="6528240"/>
                <a:ext cx="344880" cy="99720"/>
              </a:xfrm>
              <a:custGeom>
                <a:avLst/>
                <a:gdLst/>
                <a:ahLst/>
                <a:rect l="l" t="t" r="r" b="b"/>
                <a:pathLst>
                  <a:path w="3119" h="837">
                    <a:moveTo>
                      <a:pt x="3119" y="410"/>
                    </a:moveTo>
                    <a:lnTo>
                      <a:pt x="3117" y="432"/>
                    </a:lnTo>
                    <a:lnTo>
                      <a:pt x="3111" y="453"/>
                    </a:lnTo>
                    <a:lnTo>
                      <a:pt x="3102" y="474"/>
                    </a:lnTo>
                    <a:lnTo>
                      <a:pt x="3087" y="495"/>
                    </a:lnTo>
                    <a:lnTo>
                      <a:pt x="3070" y="517"/>
                    </a:lnTo>
                    <a:lnTo>
                      <a:pt x="3049" y="537"/>
                    </a:lnTo>
                    <a:lnTo>
                      <a:pt x="3025" y="557"/>
                    </a:lnTo>
                    <a:lnTo>
                      <a:pt x="2997" y="576"/>
                    </a:lnTo>
                    <a:lnTo>
                      <a:pt x="2965" y="595"/>
                    </a:lnTo>
                    <a:lnTo>
                      <a:pt x="2931" y="614"/>
                    </a:lnTo>
                    <a:lnTo>
                      <a:pt x="2894" y="632"/>
                    </a:lnTo>
                    <a:lnTo>
                      <a:pt x="2853" y="649"/>
                    </a:lnTo>
                    <a:lnTo>
                      <a:pt x="2810" y="665"/>
                    </a:lnTo>
                    <a:lnTo>
                      <a:pt x="2763" y="681"/>
                    </a:lnTo>
                    <a:lnTo>
                      <a:pt x="2714" y="697"/>
                    </a:lnTo>
                    <a:lnTo>
                      <a:pt x="2662" y="711"/>
                    </a:lnTo>
                    <a:lnTo>
                      <a:pt x="2608" y="726"/>
                    </a:lnTo>
                    <a:lnTo>
                      <a:pt x="2551" y="740"/>
                    </a:lnTo>
                    <a:lnTo>
                      <a:pt x="2493" y="752"/>
                    </a:lnTo>
                    <a:lnTo>
                      <a:pt x="2431" y="764"/>
                    </a:lnTo>
                    <a:lnTo>
                      <a:pt x="2368" y="775"/>
                    </a:lnTo>
                    <a:lnTo>
                      <a:pt x="2303" y="785"/>
                    </a:lnTo>
                    <a:lnTo>
                      <a:pt x="2236" y="795"/>
                    </a:lnTo>
                    <a:lnTo>
                      <a:pt x="2166" y="803"/>
                    </a:lnTo>
                    <a:lnTo>
                      <a:pt x="2096" y="811"/>
                    </a:lnTo>
                    <a:lnTo>
                      <a:pt x="2023" y="817"/>
                    </a:lnTo>
                    <a:lnTo>
                      <a:pt x="1949" y="824"/>
                    </a:lnTo>
                    <a:lnTo>
                      <a:pt x="1874" y="829"/>
                    </a:lnTo>
                    <a:lnTo>
                      <a:pt x="1797" y="833"/>
                    </a:lnTo>
                    <a:lnTo>
                      <a:pt x="1719" y="835"/>
                    </a:lnTo>
                    <a:lnTo>
                      <a:pt x="1640" y="837"/>
                    </a:lnTo>
                    <a:lnTo>
                      <a:pt x="1559" y="837"/>
                    </a:lnTo>
                    <a:lnTo>
                      <a:pt x="1480" y="837"/>
                    </a:lnTo>
                    <a:lnTo>
                      <a:pt x="1400" y="835"/>
                    </a:lnTo>
                    <a:lnTo>
                      <a:pt x="1322" y="833"/>
                    </a:lnTo>
                    <a:lnTo>
                      <a:pt x="1245" y="829"/>
                    </a:lnTo>
                    <a:lnTo>
                      <a:pt x="1170" y="824"/>
                    </a:lnTo>
                    <a:lnTo>
                      <a:pt x="1096" y="817"/>
                    </a:lnTo>
                    <a:lnTo>
                      <a:pt x="1023" y="811"/>
                    </a:lnTo>
                    <a:lnTo>
                      <a:pt x="952" y="803"/>
                    </a:lnTo>
                    <a:lnTo>
                      <a:pt x="884" y="795"/>
                    </a:lnTo>
                    <a:lnTo>
                      <a:pt x="816" y="785"/>
                    </a:lnTo>
                    <a:lnTo>
                      <a:pt x="751" y="775"/>
                    </a:lnTo>
                    <a:lnTo>
                      <a:pt x="688" y="764"/>
                    </a:lnTo>
                    <a:lnTo>
                      <a:pt x="626" y="752"/>
                    </a:lnTo>
                    <a:lnTo>
                      <a:pt x="568" y="740"/>
                    </a:lnTo>
                    <a:lnTo>
                      <a:pt x="511" y="726"/>
                    </a:lnTo>
                    <a:lnTo>
                      <a:pt x="457" y="711"/>
                    </a:lnTo>
                    <a:lnTo>
                      <a:pt x="405" y="697"/>
                    </a:lnTo>
                    <a:lnTo>
                      <a:pt x="356" y="681"/>
                    </a:lnTo>
                    <a:lnTo>
                      <a:pt x="310" y="665"/>
                    </a:lnTo>
                    <a:lnTo>
                      <a:pt x="267" y="649"/>
                    </a:lnTo>
                    <a:lnTo>
                      <a:pt x="225" y="632"/>
                    </a:lnTo>
                    <a:lnTo>
                      <a:pt x="188" y="614"/>
                    </a:lnTo>
                    <a:lnTo>
                      <a:pt x="154" y="595"/>
                    </a:lnTo>
                    <a:lnTo>
                      <a:pt x="122" y="576"/>
                    </a:lnTo>
                    <a:lnTo>
                      <a:pt x="94" y="557"/>
                    </a:lnTo>
                    <a:lnTo>
                      <a:pt x="70" y="537"/>
                    </a:lnTo>
                    <a:lnTo>
                      <a:pt x="49" y="517"/>
                    </a:lnTo>
                    <a:lnTo>
                      <a:pt x="31" y="495"/>
                    </a:lnTo>
                    <a:lnTo>
                      <a:pt x="18" y="474"/>
                    </a:lnTo>
                    <a:lnTo>
                      <a:pt x="8" y="453"/>
                    </a:lnTo>
                    <a:lnTo>
                      <a:pt x="2" y="432"/>
                    </a:lnTo>
                    <a:lnTo>
                      <a:pt x="0" y="410"/>
                    </a:lnTo>
                    <a:lnTo>
                      <a:pt x="2" y="387"/>
                    </a:lnTo>
                    <a:lnTo>
                      <a:pt x="8" y="366"/>
                    </a:lnTo>
                    <a:lnTo>
                      <a:pt x="18" y="345"/>
                    </a:lnTo>
                    <a:lnTo>
                      <a:pt x="31" y="324"/>
                    </a:lnTo>
                    <a:lnTo>
                      <a:pt x="49" y="304"/>
                    </a:lnTo>
                    <a:lnTo>
                      <a:pt x="70" y="284"/>
                    </a:lnTo>
                    <a:lnTo>
                      <a:pt x="94" y="264"/>
                    </a:lnTo>
                    <a:lnTo>
                      <a:pt x="122" y="246"/>
                    </a:lnTo>
                    <a:lnTo>
                      <a:pt x="154" y="228"/>
                    </a:lnTo>
                    <a:lnTo>
                      <a:pt x="188" y="210"/>
                    </a:lnTo>
                    <a:lnTo>
                      <a:pt x="225" y="193"/>
                    </a:lnTo>
                    <a:lnTo>
                      <a:pt x="267" y="176"/>
                    </a:lnTo>
                    <a:lnTo>
                      <a:pt x="310" y="160"/>
                    </a:lnTo>
                    <a:lnTo>
                      <a:pt x="356" y="145"/>
                    </a:lnTo>
                    <a:lnTo>
                      <a:pt x="405" y="130"/>
                    </a:lnTo>
                    <a:lnTo>
                      <a:pt x="457" y="116"/>
                    </a:lnTo>
                    <a:lnTo>
                      <a:pt x="511" y="103"/>
                    </a:lnTo>
                    <a:lnTo>
                      <a:pt x="568" y="90"/>
                    </a:lnTo>
                    <a:lnTo>
                      <a:pt x="626" y="79"/>
                    </a:lnTo>
                    <a:lnTo>
                      <a:pt x="688" y="67"/>
                    </a:lnTo>
                    <a:lnTo>
                      <a:pt x="751" y="56"/>
                    </a:lnTo>
                    <a:lnTo>
                      <a:pt x="816" y="47"/>
                    </a:lnTo>
                    <a:lnTo>
                      <a:pt x="884" y="38"/>
                    </a:lnTo>
                    <a:lnTo>
                      <a:pt x="952" y="30"/>
                    </a:lnTo>
                    <a:lnTo>
                      <a:pt x="1023" y="23"/>
                    </a:lnTo>
                    <a:lnTo>
                      <a:pt x="1096" y="17"/>
                    </a:lnTo>
                    <a:lnTo>
                      <a:pt x="1170" y="12"/>
                    </a:lnTo>
                    <a:lnTo>
                      <a:pt x="1245" y="8"/>
                    </a:lnTo>
                    <a:lnTo>
                      <a:pt x="1322" y="4"/>
                    </a:lnTo>
                    <a:lnTo>
                      <a:pt x="1400" y="2"/>
                    </a:lnTo>
                    <a:lnTo>
                      <a:pt x="1480" y="0"/>
                    </a:lnTo>
                    <a:lnTo>
                      <a:pt x="1559" y="0"/>
                    </a:lnTo>
                    <a:lnTo>
                      <a:pt x="1640" y="0"/>
                    </a:lnTo>
                    <a:lnTo>
                      <a:pt x="1719" y="2"/>
                    </a:lnTo>
                    <a:lnTo>
                      <a:pt x="1797" y="4"/>
                    </a:lnTo>
                    <a:lnTo>
                      <a:pt x="1874" y="8"/>
                    </a:lnTo>
                    <a:lnTo>
                      <a:pt x="1949" y="12"/>
                    </a:lnTo>
                    <a:lnTo>
                      <a:pt x="2023" y="17"/>
                    </a:lnTo>
                    <a:lnTo>
                      <a:pt x="2096" y="23"/>
                    </a:lnTo>
                    <a:lnTo>
                      <a:pt x="2166" y="30"/>
                    </a:lnTo>
                    <a:lnTo>
                      <a:pt x="2236" y="38"/>
                    </a:lnTo>
                    <a:lnTo>
                      <a:pt x="2303" y="47"/>
                    </a:lnTo>
                    <a:lnTo>
                      <a:pt x="2368" y="56"/>
                    </a:lnTo>
                    <a:lnTo>
                      <a:pt x="2431" y="67"/>
                    </a:lnTo>
                    <a:lnTo>
                      <a:pt x="2493" y="79"/>
                    </a:lnTo>
                    <a:lnTo>
                      <a:pt x="2551" y="90"/>
                    </a:lnTo>
                    <a:lnTo>
                      <a:pt x="2608" y="103"/>
                    </a:lnTo>
                    <a:lnTo>
                      <a:pt x="2662" y="116"/>
                    </a:lnTo>
                    <a:lnTo>
                      <a:pt x="2714" y="130"/>
                    </a:lnTo>
                    <a:lnTo>
                      <a:pt x="2763" y="145"/>
                    </a:lnTo>
                    <a:lnTo>
                      <a:pt x="2810" y="160"/>
                    </a:lnTo>
                    <a:lnTo>
                      <a:pt x="2853" y="176"/>
                    </a:lnTo>
                    <a:lnTo>
                      <a:pt x="2894" y="193"/>
                    </a:lnTo>
                    <a:lnTo>
                      <a:pt x="2931" y="210"/>
                    </a:lnTo>
                    <a:lnTo>
                      <a:pt x="2965" y="228"/>
                    </a:lnTo>
                    <a:lnTo>
                      <a:pt x="2997" y="246"/>
                    </a:lnTo>
                    <a:lnTo>
                      <a:pt x="3025" y="264"/>
                    </a:lnTo>
                    <a:lnTo>
                      <a:pt x="3049" y="284"/>
                    </a:lnTo>
                    <a:lnTo>
                      <a:pt x="3070" y="304"/>
                    </a:lnTo>
                    <a:lnTo>
                      <a:pt x="3087" y="324"/>
                    </a:lnTo>
                    <a:lnTo>
                      <a:pt x="3102" y="345"/>
                    </a:lnTo>
                    <a:lnTo>
                      <a:pt x="3111" y="366"/>
                    </a:lnTo>
                    <a:lnTo>
                      <a:pt x="3117" y="387"/>
                    </a:lnTo>
                    <a:lnTo>
                      <a:pt x="3119" y="4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118240" y="6528240"/>
                <a:ext cx="344880" cy="99720"/>
              </a:xfrm>
              <a:custGeom>
                <a:avLst/>
                <a:gdLst/>
                <a:ahLst/>
                <a:rect l="l" t="t" r="r" b="b"/>
                <a:pathLst>
                  <a:path w="3117" h="836">
                    <a:moveTo>
                      <a:pt x="3117" y="409"/>
                    </a:moveTo>
                    <a:lnTo>
                      <a:pt x="3115" y="431"/>
                    </a:lnTo>
                    <a:lnTo>
                      <a:pt x="3109" y="452"/>
                    </a:lnTo>
                    <a:lnTo>
                      <a:pt x="3099" y="473"/>
                    </a:lnTo>
                    <a:lnTo>
                      <a:pt x="3085" y="494"/>
                    </a:lnTo>
                    <a:lnTo>
                      <a:pt x="3067" y="516"/>
                    </a:lnTo>
                    <a:lnTo>
                      <a:pt x="3047" y="536"/>
                    </a:lnTo>
                    <a:lnTo>
                      <a:pt x="3022" y="555"/>
                    </a:lnTo>
                    <a:lnTo>
                      <a:pt x="2995" y="574"/>
                    </a:lnTo>
                    <a:lnTo>
                      <a:pt x="2963" y="593"/>
                    </a:lnTo>
                    <a:lnTo>
                      <a:pt x="2929" y="612"/>
                    </a:lnTo>
                    <a:lnTo>
                      <a:pt x="2892" y="630"/>
                    </a:lnTo>
                    <a:lnTo>
                      <a:pt x="2850" y="647"/>
                    </a:lnTo>
                    <a:lnTo>
                      <a:pt x="2807" y="664"/>
                    </a:lnTo>
                    <a:lnTo>
                      <a:pt x="2761" y="680"/>
                    </a:lnTo>
                    <a:lnTo>
                      <a:pt x="2712" y="695"/>
                    </a:lnTo>
                    <a:lnTo>
                      <a:pt x="2660" y="710"/>
                    </a:lnTo>
                    <a:lnTo>
                      <a:pt x="2606" y="725"/>
                    </a:lnTo>
                    <a:lnTo>
                      <a:pt x="2549" y="738"/>
                    </a:lnTo>
                    <a:lnTo>
                      <a:pt x="2491" y="751"/>
                    </a:lnTo>
                    <a:lnTo>
                      <a:pt x="2430" y="762"/>
                    </a:lnTo>
                    <a:lnTo>
                      <a:pt x="2366" y="773"/>
                    </a:lnTo>
                    <a:lnTo>
                      <a:pt x="2301" y="784"/>
                    </a:lnTo>
                    <a:lnTo>
                      <a:pt x="2234" y="793"/>
                    </a:lnTo>
                    <a:lnTo>
                      <a:pt x="2165" y="801"/>
                    </a:lnTo>
                    <a:lnTo>
                      <a:pt x="2095" y="809"/>
                    </a:lnTo>
                    <a:lnTo>
                      <a:pt x="2022" y="816"/>
                    </a:lnTo>
                    <a:lnTo>
                      <a:pt x="1948" y="822"/>
                    </a:lnTo>
                    <a:lnTo>
                      <a:pt x="1873" y="827"/>
                    </a:lnTo>
                    <a:lnTo>
                      <a:pt x="1796" y="831"/>
                    </a:lnTo>
                    <a:lnTo>
                      <a:pt x="1718" y="833"/>
                    </a:lnTo>
                    <a:lnTo>
                      <a:pt x="1638" y="835"/>
                    </a:lnTo>
                    <a:lnTo>
                      <a:pt x="1558" y="836"/>
                    </a:lnTo>
                    <a:lnTo>
                      <a:pt x="1479" y="835"/>
                    </a:lnTo>
                    <a:lnTo>
                      <a:pt x="1399" y="833"/>
                    </a:lnTo>
                    <a:lnTo>
                      <a:pt x="1321" y="831"/>
                    </a:lnTo>
                    <a:lnTo>
                      <a:pt x="1244" y="827"/>
                    </a:lnTo>
                    <a:lnTo>
                      <a:pt x="1169" y="822"/>
                    </a:lnTo>
                    <a:lnTo>
                      <a:pt x="1095" y="816"/>
                    </a:lnTo>
                    <a:lnTo>
                      <a:pt x="1023" y="809"/>
                    </a:lnTo>
                    <a:lnTo>
                      <a:pt x="951" y="801"/>
                    </a:lnTo>
                    <a:lnTo>
                      <a:pt x="883" y="793"/>
                    </a:lnTo>
                    <a:lnTo>
                      <a:pt x="816" y="784"/>
                    </a:lnTo>
                    <a:lnTo>
                      <a:pt x="751" y="773"/>
                    </a:lnTo>
                    <a:lnTo>
                      <a:pt x="687" y="762"/>
                    </a:lnTo>
                    <a:lnTo>
                      <a:pt x="626" y="751"/>
                    </a:lnTo>
                    <a:lnTo>
                      <a:pt x="568" y="738"/>
                    </a:lnTo>
                    <a:lnTo>
                      <a:pt x="511" y="725"/>
                    </a:lnTo>
                    <a:lnTo>
                      <a:pt x="457" y="710"/>
                    </a:lnTo>
                    <a:lnTo>
                      <a:pt x="405" y="695"/>
                    </a:lnTo>
                    <a:lnTo>
                      <a:pt x="357" y="680"/>
                    </a:lnTo>
                    <a:lnTo>
                      <a:pt x="310" y="664"/>
                    </a:lnTo>
                    <a:lnTo>
                      <a:pt x="267" y="647"/>
                    </a:lnTo>
                    <a:lnTo>
                      <a:pt x="226" y="630"/>
                    </a:lnTo>
                    <a:lnTo>
                      <a:pt x="188" y="612"/>
                    </a:lnTo>
                    <a:lnTo>
                      <a:pt x="154" y="593"/>
                    </a:lnTo>
                    <a:lnTo>
                      <a:pt x="122" y="574"/>
                    </a:lnTo>
                    <a:lnTo>
                      <a:pt x="95" y="555"/>
                    </a:lnTo>
                    <a:lnTo>
                      <a:pt x="71" y="536"/>
                    </a:lnTo>
                    <a:lnTo>
                      <a:pt x="50" y="516"/>
                    </a:lnTo>
                    <a:lnTo>
                      <a:pt x="32" y="494"/>
                    </a:lnTo>
                    <a:lnTo>
                      <a:pt x="18" y="473"/>
                    </a:lnTo>
                    <a:lnTo>
                      <a:pt x="8" y="452"/>
                    </a:lnTo>
                    <a:lnTo>
                      <a:pt x="2" y="431"/>
                    </a:lnTo>
                    <a:lnTo>
                      <a:pt x="0" y="409"/>
                    </a:lnTo>
                    <a:lnTo>
                      <a:pt x="2" y="386"/>
                    </a:lnTo>
                    <a:lnTo>
                      <a:pt x="8" y="365"/>
                    </a:lnTo>
                    <a:lnTo>
                      <a:pt x="18" y="344"/>
                    </a:lnTo>
                    <a:lnTo>
                      <a:pt x="32" y="323"/>
                    </a:lnTo>
                    <a:lnTo>
                      <a:pt x="50" y="303"/>
                    </a:lnTo>
                    <a:lnTo>
                      <a:pt x="71" y="283"/>
                    </a:lnTo>
                    <a:lnTo>
                      <a:pt x="95" y="264"/>
                    </a:lnTo>
                    <a:lnTo>
                      <a:pt x="122" y="245"/>
                    </a:lnTo>
                    <a:lnTo>
                      <a:pt x="154" y="227"/>
                    </a:lnTo>
                    <a:lnTo>
                      <a:pt x="188" y="209"/>
                    </a:lnTo>
                    <a:lnTo>
                      <a:pt x="226" y="193"/>
                    </a:lnTo>
                    <a:lnTo>
                      <a:pt x="267" y="175"/>
                    </a:lnTo>
                    <a:lnTo>
                      <a:pt x="310" y="159"/>
                    </a:lnTo>
                    <a:lnTo>
                      <a:pt x="357" y="144"/>
                    </a:lnTo>
                    <a:lnTo>
                      <a:pt x="405" y="130"/>
                    </a:lnTo>
                    <a:lnTo>
                      <a:pt x="457" y="116"/>
                    </a:lnTo>
                    <a:lnTo>
                      <a:pt x="511" y="103"/>
                    </a:lnTo>
                    <a:lnTo>
                      <a:pt x="568" y="90"/>
                    </a:lnTo>
                    <a:lnTo>
                      <a:pt x="626" y="78"/>
                    </a:lnTo>
                    <a:lnTo>
                      <a:pt x="687" y="66"/>
                    </a:lnTo>
                    <a:lnTo>
                      <a:pt x="751" y="56"/>
                    </a:lnTo>
                    <a:lnTo>
                      <a:pt x="816" y="47"/>
                    </a:lnTo>
                    <a:lnTo>
                      <a:pt x="883" y="38"/>
                    </a:lnTo>
                    <a:lnTo>
                      <a:pt x="951" y="30"/>
                    </a:lnTo>
                    <a:lnTo>
                      <a:pt x="1023" y="23"/>
                    </a:lnTo>
                    <a:lnTo>
                      <a:pt x="1095" y="17"/>
                    </a:lnTo>
                    <a:lnTo>
                      <a:pt x="1169" y="12"/>
                    </a:lnTo>
                    <a:lnTo>
                      <a:pt x="1244" y="8"/>
                    </a:lnTo>
                    <a:lnTo>
                      <a:pt x="1321" y="4"/>
                    </a:lnTo>
                    <a:lnTo>
                      <a:pt x="1399" y="2"/>
                    </a:lnTo>
                    <a:lnTo>
                      <a:pt x="1479" y="0"/>
                    </a:lnTo>
                    <a:lnTo>
                      <a:pt x="1558" y="0"/>
                    </a:lnTo>
                    <a:lnTo>
                      <a:pt x="1638" y="0"/>
                    </a:lnTo>
                    <a:lnTo>
                      <a:pt x="1718" y="2"/>
                    </a:lnTo>
                    <a:lnTo>
                      <a:pt x="1796" y="4"/>
                    </a:lnTo>
                    <a:lnTo>
                      <a:pt x="1873" y="8"/>
                    </a:lnTo>
                    <a:lnTo>
                      <a:pt x="1948" y="12"/>
                    </a:lnTo>
                    <a:lnTo>
                      <a:pt x="2022" y="17"/>
                    </a:lnTo>
                    <a:lnTo>
                      <a:pt x="2095" y="23"/>
                    </a:lnTo>
                    <a:lnTo>
                      <a:pt x="2165" y="30"/>
                    </a:lnTo>
                    <a:lnTo>
                      <a:pt x="2234" y="38"/>
                    </a:lnTo>
                    <a:lnTo>
                      <a:pt x="2301" y="47"/>
                    </a:lnTo>
                    <a:lnTo>
                      <a:pt x="2366" y="56"/>
                    </a:lnTo>
                    <a:lnTo>
                      <a:pt x="2430" y="66"/>
                    </a:lnTo>
                    <a:lnTo>
                      <a:pt x="2491" y="78"/>
                    </a:lnTo>
                    <a:lnTo>
                      <a:pt x="2549" y="90"/>
                    </a:lnTo>
                    <a:lnTo>
                      <a:pt x="2606" y="103"/>
                    </a:lnTo>
                    <a:lnTo>
                      <a:pt x="2660" y="116"/>
                    </a:lnTo>
                    <a:lnTo>
                      <a:pt x="2712" y="130"/>
                    </a:lnTo>
                    <a:lnTo>
                      <a:pt x="2761" y="144"/>
                    </a:lnTo>
                    <a:lnTo>
                      <a:pt x="2807" y="159"/>
                    </a:lnTo>
                    <a:lnTo>
                      <a:pt x="2850" y="175"/>
                    </a:lnTo>
                    <a:lnTo>
                      <a:pt x="2892" y="193"/>
                    </a:lnTo>
                    <a:lnTo>
                      <a:pt x="2929" y="209"/>
                    </a:lnTo>
                    <a:lnTo>
                      <a:pt x="2963" y="227"/>
                    </a:lnTo>
                    <a:lnTo>
                      <a:pt x="2995" y="245"/>
                    </a:lnTo>
                    <a:lnTo>
                      <a:pt x="3022" y="264"/>
                    </a:lnTo>
                    <a:lnTo>
                      <a:pt x="3047" y="283"/>
                    </a:lnTo>
                    <a:lnTo>
                      <a:pt x="3067" y="303"/>
                    </a:lnTo>
                    <a:lnTo>
                      <a:pt x="3085" y="323"/>
                    </a:lnTo>
                    <a:lnTo>
                      <a:pt x="3099" y="344"/>
                    </a:lnTo>
                    <a:lnTo>
                      <a:pt x="3109" y="365"/>
                    </a:lnTo>
                    <a:lnTo>
                      <a:pt x="3115" y="386"/>
                    </a:lnTo>
                    <a:lnTo>
                      <a:pt x="3117" y="4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118240" y="6528240"/>
                <a:ext cx="344880" cy="99720"/>
              </a:xfrm>
              <a:custGeom>
                <a:avLst/>
                <a:gdLst/>
                <a:ahLst/>
                <a:rect l="l" t="t" r="r" b="b"/>
                <a:pathLst>
                  <a:path w="3114" h="834">
                    <a:moveTo>
                      <a:pt x="3114" y="408"/>
                    </a:moveTo>
                    <a:lnTo>
                      <a:pt x="3111" y="430"/>
                    </a:lnTo>
                    <a:lnTo>
                      <a:pt x="3106" y="451"/>
                    </a:lnTo>
                    <a:lnTo>
                      <a:pt x="3096" y="472"/>
                    </a:lnTo>
                    <a:lnTo>
                      <a:pt x="3081" y="493"/>
                    </a:lnTo>
                    <a:lnTo>
                      <a:pt x="3064" y="514"/>
                    </a:lnTo>
                    <a:lnTo>
                      <a:pt x="3043" y="534"/>
                    </a:lnTo>
                    <a:lnTo>
                      <a:pt x="3019" y="554"/>
                    </a:lnTo>
                    <a:lnTo>
                      <a:pt x="2991" y="573"/>
                    </a:lnTo>
                    <a:lnTo>
                      <a:pt x="2959" y="592"/>
                    </a:lnTo>
                    <a:lnTo>
                      <a:pt x="2925" y="611"/>
                    </a:lnTo>
                    <a:lnTo>
                      <a:pt x="2888" y="629"/>
                    </a:lnTo>
                    <a:lnTo>
                      <a:pt x="2847" y="646"/>
                    </a:lnTo>
                    <a:lnTo>
                      <a:pt x="2804" y="662"/>
                    </a:lnTo>
                    <a:lnTo>
                      <a:pt x="2758" y="678"/>
                    </a:lnTo>
                    <a:lnTo>
                      <a:pt x="2709" y="693"/>
                    </a:lnTo>
                    <a:lnTo>
                      <a:pt x="2657" y="708"/>
                    </a:lnTo>
                    <a:lnTo>
                      <a:pt x="2603" y="723"/>
                    </a:lnTo>
                    <a:lnTo>
                      <a:pt x="2547" y="736"/>
                    </a:lnTo>
                    <a:lnTo>
                      <a:pt x="2488" y="749"/>
                    </a:lnTo>
                    <a:lnTo>
                      <a:pt x="2427" y="761"/>
                    </a:lnTo>
                    <a:lnTo>
                      <a:pt x="2363" y="772"/>
                    </a:lnTo>
                    <a:lnTo>
                      <a:pt x="2299" y="782"/>
                    </a:lnTo>
                    <a:lnTo>
                      <a:pt x="2231" y="791"/>
                    </a:lnTo>
                    <a:lnTo>
                      <a:pt x="2162" y="799"/>
                    </a:lnTo>
                    <a:lnTo>
                      <a:pt x="2092" y="807"/>
                    </a:lnTo>
                    <a:lnTo>
                      <a:pt x="2019" y="814"/>
                    </a:lnTo>
                    <a:lnTo>
                      <a:pt x="1945" y="820"/>
                    </a:lnTo>
                    <a:lnTo>
                      <a:pt x="1871" y="825"/>
                    </a:lnTo>
                    <a:lnTo>
                      <a:pt x="1794" y="829"/>
                    </a:lnTo>
                    <a:lnTo>
                      <a:pt x="1716" y="831"/>
                    </a:lnTo>
                    <a:lnTo>
                      <a:pt x="1636" y="833"/>
                    </a:lnTo>
                    <a:lnTo>
                      <a:pt x="1556" y="834"/>
                    </a:lnTo>
                    <a:lnTo>
                      <a:pt x="1477" y="833"/>
                    </a:lnTo>
                    <a:lnTo>
                      <a:pt x="1397" y="831"/>
                    </a:lnTo>
                    <a:lnTo>
                      <a:pt x="1319" y="829"/>
                    </a:lnTo>
                    <a:lnTo>
                      <a:pt x="1242" y="825"/>
                    </a:lnTo>
                    <a:lnTo>
                      <a:pt x="1168" y="820"/>
                    </a:lnTo>
                    <a:lnTo>
                      <a:pt x="1094" y="814"/>
                    </a:lnTo>
                    <a:lnTo>
                      <a:pt x="1021" y="807"/>
                    </a:lnTo>
                    <a:lnTo>
                      <a:pt x="950" y="799"/>
                    </a:lnTo>
                    <a:lnTo>
                      <a:pt x="882" y="791"/>
                    </a:lnTo>
                    <a:lnTo>
                      <a:pt x="814" y="782"/>
                    </a:lnTo>
                    <a:lnTo>
                      <a:pt x="750" y="772"/>
                    </a:lnTo>
                    <a:lnTo>
                      <a:pt x="686" y="761"/>
                    </a:lnTo>
                    <a:lnTo>
                      <a:pt x="625" y="749"/>
                    </a:lnTo>
                    <a:lnTo>
                      <a:pt x="567" y="736"/>
                    </a:lnTo>
                    <a:lnTo>
                      <a:pt x="510" y="723"/>
                    </a:lnTo>
                    <a:lnTo>
                      <a:pt x="456" y="708"/>
                    </a:lnTo>
                    <a:lnTo>
                      <a:pt x="404" y="693"/>
                    </a:lnTo>
                    <a:lnTo>
                      <a:pt x="356" y="678"/>
                    </a:lnTo>
                    <a:lnTo>
                      <a:pt x="309" y="662"/>
                    </a:lnTo>
                    <a:lnTo>
                      <a:pt x="266" y="646"/>
                    </a:lnTo>
                    <a:lnTo>
                      <a:pt x="225" y="629"/>
                    </a:lnTo>
                    <a:lnTo>
                      <a:pt x="188" y="611"/>
                    </a:lnTo>
                    <a:lnTo>
                      <a:pt x="154" y="592"/>
                    </a:lnTo>
                    <a:lnTo>
                      <a:pt x="122" y="573"/>
                    </a:lnTo>
                    <a:lnTo>
                      <a:pt x="94" y="554"/>
                    </a:lnTo>
                    <a:lnTo>
                      <a:pt x="70" y="534"/>
                    </a:lnTo>
                    <a:lnTo>
                      <a:pt x="49" y="514"/>
                    </a:lnTo>
                    <a:lnTo>
                      <a:pt x="31" y="493"/>
                    </a:lnTo>
                    <a:lnTo>
                      <a:pt x="17" y="472"/>
                    </a:lnTo>
                    <a:lnTo>
                      <a:pt x="8" y="451"/>
                    </a:lnTo>
                    <a:lnTo>
                      <a:pt x="2" y="430"/>
                    </a:lnTo>
                    <a:lnTo>
                      <a:pt x="0" y="408"/>
                    </a:lnTo>
                    <a:lnTo>
                      <a:pt x="2" y="385"/>
                    </a:lnTo>
                    <a:lnTo>
                      <a:pt x="8" y="364"/>
                    </a:lnTo>
                    <a:lnTo>
                      <a:pt x="17" y="343"/>
                    </a:lnTo>
                    <a:lnTo>
                      <a:pt x="31" y="323"/>
                    </a:lnTo>
                    <a:lnTo>
                      <a:pt x="49" y="303"/>
                    </a:lnTo>
                    <a:lnTo>
                      <a:pt x="70" y="282"/>
                    </a:lnTo>
                    <a:lnTo>
                      <a:pt x="94" y="263"/>
                    </a:lnTo>
                    <a:lnTo>
                      <a:pt x="122" y="244"/>
                    </a:lnTo>
                    <a:lnTo>
                      <a:pt x="154" y="226"/>
                    </a:lnTo>
                    <a:lnTo>
                      <a:pt x="188" y="209"/>
                    </a:lnTo>
                    <a:lnTo>
                      <a:pt x="225" y="192"/>
                    </a:lnTo>
                    <a:lnTo>
                      <a:pt x="266" y="175"/>
                    </a:lnTo>
                    <a:lnTo>
                      <a:pt x="309" y="159"/>
                    </a:lnTo>
                    <a:lnTo>
                      <a:pt x="356" y="144"/>
                    </a:lnTo>
                    <a:lnTo>
                      <a:pt x="404" y="129"/>
                    </a:lnTo>
                    <a:lnTo>
                      <a:pt x="456" y="115"/>
                    </a:lnTo>
                    <a:lnTo>
                      <a:pt x="510" y="102"/>
                    </a:lnTo>
                    <a:lnTo>
                      <a:pt x="567" y="90"/>
                    </a:lnTo>
                    <a:lnTo>
                      <a:pt x="625" y="78"/>
                    </a:lnTo>
                    <a:lnTo>
                      <a:pt x="686" y="66"/>
                    </a:lnTo>
                    <a:lnTo>
                      <a:pt x="750" y="56"/>
                    </a:lnTo>
                    <a:lnTo>
                      <a:pt x="814" y="46"/>
                    </a:lnTo>
                    <a:lnTo>
                      <a:pt x="882" y="38"/>
                    </a:lnTo>
                    <a:lnTo>
                      <a:pt x="950" y="30"/>
                    </a:lnTo>
                    <a:lnTo>
                      <a:pt x="1021" y="23"/>
                    </a:lnTo>
                    <a:lnTo>
                      <a:pt x="1094" y="17"/>
                    </a:lnTo>
                    <a:lnTo>
                      <a:pt x="1168" y="12"/>
                    </a:lnTo>
                    <a:lnTo>
                      <a:pt x="1242" y="7"/>
                    </a:lnTo>
                    <a:lnTo>
                      <a:pt x="1319" y="4"/>
                    </a:lnTo>
                    <a:lnTo>
                      <a:pt x="1397" y="2"/>
                    </a:lnTo>
                    <a:lnTo>
                      <a:pt x="1477" y="0"/>
                    </a:lnTo>
                    <a:lnTo>
                      <a:pt x="1556" y="0"/>
                    </a:lnTo>
                    <a:lnTo>
                      <a:pt x="1636" y="0"/>
                    </a:lnTo>
                    <a:lnTo>
                      <a:pt x="1716" y="2"/>
                    </a:lnTo>
                    <a:lnTo>
                      <a:pt x="1794" y="4"/>
                    </a:lnTo>
                    <a:lnTo>
                      <a:pt x="1871" y="7"/>
                    </a:lnTo>
                    <a:lnTo>
                      <a:pt x="1945" y="12"/>
                    </a:lnTo>
                    <a:lnTo>
                      <a:pt x="2019" y="17"/>
                    </a:lnTo>
                    <a:lnTo>
                      <a:pt x="2092" y="23"/>
                    </a:lnTo>
                    <a:lnTo>
                      <a:pt x="2162" y="30"/>
                    </a:lnTo>
                    <a:lnTo>
                      <a:pt x="2231" y="38"/>
                    </a:lnTo>
                    <a:lnTo>
                      <a:pt x="2299" y="46"/>
                    </a:lnTo>
                    <a:lnTo>
                      <a:pt x="2363" y="56"/>
                    </a:lnTo>
                    <a:lnTo>
                      <a:pt x="2427" y="66"/>
                    </a:lnTo>
                    <a:lnTo>
                      <a:pt x="2488" y="78"/>
                    </a:lnTo>
                    <a:lnTo>
                      <a:pt x="2547" y="90"/>
                    </a:lnTo>
                    <a:lnTo>
                      <a:pt x="2603" y="102"/>
                    </a:lnTo>
                    <a:lnTo>
                      <a:pt x="2657" y="115"/>
                    </a:lnTo>
                    <a:lnTo>
                      <a:pt x="2709" y="129"/>
                    </a:lnTo>
                    <a:lnTo>
                      <a:pt x="2758" y="144"/>
                    </a:lnTo>
                    <a:lnTo>
                      <a:pt x="2804" y="159"/>
                    </a:lnTo>
                    <a:lnTo>
                      <a:pt x="2847" y="175"/>
                    </a:lnTo>
                    <a:lnTo>
                      <a:pt x="2888" y="192"/>
                    </a:lnTo>
                    <a:lnTo>
                      <a:pt x="2925" y="209"/>
                    </a:lnTo>
                    <a:lnTo>
                      <a:pt x="2959" y="226"/>
                    </a:lnTo>
                    <a:lnTo>
                      <a:pt x="2991" y="244"/>
                    </a:lnTo>
                    <a:lnTo>
                      <a:pt x="3019" y="263"/>
                    </a:lnTo>
                    <a:lnTo>
                      <a:pt x="3043" y="282"/>
                    </a:lnTo>
                    <a:lnTo>
                      <a:pt x="3064" y="303"/>
                    </a:lnTo>
                    <a:lnTo>
                      <a:pt x="3081" y="323"/>
                    </a:lnTo>
                    <a:lnTo>
                      <a:pt x="3096" y="343"/>
                    </a:lnTo>
                    <a:lnTo>
                      <a:pt x="3106" y="364"/>
                    </a:lnTo>
                    <a:lnTo>
                      <a:pt x="3111" y="385"/>
                    </a:lnTo>
                    <a:lnTo>
                      <a:pt x="3114" y="4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119680" y="6528240"/>
                <a:ext cx="342360" cy="99720"/>
              </a:xfrm>
              <a:custGeom>
                <a:avLst/>
                <a:gdLst/>
                <a:ahLst/>
                <a:rect l="l" t="t" r="r" b="b"/>
                <a:pathLst>
                  <a:path w="3111" h="832">
                    <a:moveTo>
                      <a:pt x="3111" y="407"/>
                    </a:moveTo>
                    <a:lnTo>
                      <a:pt x="3109" y="429"/>
                    </a:lnTo>
                    <a:lnTo>
                      <a:pt x="3103" y="450"/>
                    </a:lnTo>
                    <a:lnTo>
                      <a:pt x="3093" y="471"/>
                    </a:lnTo>
                    <a:lnTo>
                      <a:pt x="3079" y="492"/>
                    </a:lnTo>
                    <a:lnTo>
                      <a:pt x="3062" y="513"/>
                    </a:lnTo>
                    <a:lnTo>
                      <a:pt x="3041" y="533"/>
                    </a:lnTo>
                    <a:lnTo>
                      <a:pt x="3017" y="553"/>
                    </a:lnTo>
                    <a:lnTo>
                      <a:pt x="2989" y="572"/>
                    </a:lnTo>
                    <a:lnTo>
                      <a:pt x="2957" y="590"/>
                    </a:lnTo>
                    <a:lnTo>
                      <a:pt x="2923" y="609"/>
                    </a:lnTo>
                    <a:lnTo>
                      <a:pt x="2886" y="627"/>
                    </a:lnTo>
                    <a:lnTo>
                      <a:pt x="2845" y="644"/>
                    </a:lnTo>
                    <a:lnTo>
                      <a:pt x="2802" y="661"/>
                    </a:lnTo>
                    <a:lnTo>
                      <a:pt x="2755" y="677"/>
                    </a:lnTo>
                    <a:lnTo>
                      <a:pt x="2707" y="692"/>
                    </a:lnTo>
                    <a:lnTo>
                      <a:pt x="2655" y="706"/>
                    </a:lnTo>
                    <a:lnTo>
                      <a:pt x="2602" y="721"/>
                    </a:lnTo>
                    <a:lnTo>
                      <a:pt x="2545" y="735"/>
                    </a:lnTo>
                    <a:lnTo>
                      <a:pt x="2486" y="747"/>
                    </a:lnTo>
                    <a:lnTo>
                      <a:pt x="2425" y="759"/>
                    </a:lnTo>
                    <a:lnTo>
                      <a:pt x="2362" y="770"/>
                    </a:lnTo>
                    <a:lnTo>
                      <a:pt x="2297" y="780"/>
                    </a:lnTo>
                    <a:lnTo>
                      <a:pt x="2230" y="789"/>
                    </a:lnTo>
                    <a:lnTo>
                      <a:pt x="2160" y="798"/>
                    </a:lnTo>
                    <a:lnTo>
                      <a:pt x="2091" y="805"/>
                    </a:lnTo>
                    <a:lnTo>
                      <a:pt x="2018" y="812"/>
                    </a:lnTo>
                    <a:lnTo>
                      <a:pt x="1944" y="817"/>
                    </a:lnTo>
                    <a:lnTo>
                      <a:pt x="1869" y="823"/>
                    </a:lnTo>
                    <a:lnTo>
                      <a:pt x="1793" y="827"/>
                    </a:lnTo>
                    <a:lnTo>
                      <a:pt x="1715" y="830"/>
                    </a:lnTo>
                    <a:lnTo>
                      <a:pt x="1635" y="831"/>
                    </a:lnTo>
                    <a:lnTo>
                      <a:pt x="1555" y="832"/>
                    </a:lnTo>
                    <a:lnTo>
                      <a:pt x="1476" y="831"/>
                    </a:lnTo>
                    <a:lnTo>
                      <a:pt x="1397" y="830"/>
                    </a:lnTo>
                    <a:lnTo>
                      <a:pt x="1319" y="827"/>
                    </a:lnTo>
                    <a:lnTo>
                      <a:pt x="1242" y="823"/>
                    </a:lnTo>
                    <a:lnTo>
                      <a:pt x="1167" y="817"/>
                    </a:lnTo>
                    <a:lnTo>
                      <a:pt x="1093" y="812"/>
                    </a:lnTo>
                    <a:lnTo>
                      <a:pt x="1021" y="805"/>
                    </a:lnTo>
                    <a:lnTo>
                      <a:pt x="951" y="798"/>
                    </a:lnTo>
                    <a:lnTo>
                      <a:pt x="881" y="789"/>
                    </a:lnTo>
                    <a:lnTo>
                      <a:pt x="814" y="780"/>
                    </a:lnTo>
                    <a:lnTo>
                      <a:pt x="749" y="770"/>
                    </a:lnTo>
                    <a:lnTo>
                      <a:pt x="686" y="759"/>
                    </a:lnTo>
                    <a:lnTo>
                      <a:pt x="625" y="747"/>
                    </a:lnTo>
                    <a:lnTo>
                      <a:pt x="566" y="735"/>
                    </a:lnTo>
                    <a:lnTo>
                      <a:pt x="510" y="721"/>
                    </a:lnTo>
                    <a:lnTo>
                      <a:pt x="456" y="706"/>
                    </a:lnTo>
                    <a:lnTo>
                      <a:pt x="404" y="692"/>
                    </a:lnTo>
                    <a:lnTo>
                      <a:pt x="356" y="677"/>
                    </a:lnTo>
                    <a:lnTo>
                      <a:pt x="309" y="661"/>
                    </a:lnTo>
                    <a:lnTo>
                      <a:pt x="266" y="644"/>
                    </a:lnTo>
                    <a:lnTo>
                      <a:pt x="225" y="627"/>
                    </a:lnTo>
                    <a:lnTo>
                      <a:pt x="188" y="609"/>
                    </a:lnTo>
                    <a:lnTo>
                      <a:pt x="154" y="590"/>
                    </a:lnTo>
                    <a:lnTo>
                      <a:pt x="122" y="572"/>
                    </a:lnTo>
                    <a:lnTo>
                      <a:pt x="94" y="553"/>
                    </a:lnTo>
                    <a:lnTo>
                      <a:pt x="70" y="533"/>
                    </a:lnTo>
                    <a:lnTo>
                      <a:pt x="50" y="513"/>
                    </a:lnTo>
                    <a:lnTo>
                      <a:pt x="31" y="492"/>
                    </a:lnTo>
                    <a:lnTo>
                      <a:pt x="18" y="471"/>
                    </a:lnTo>
                    <a:lnTo>
                      <a:pt x="8" y="450"/>
                    </a:lnTo>
                    <a:lnTo>
                      <a:pt x="2" y="429"/>
                    </a:lnTo>
                    <a:lnTo>
                      <a:pt x="0" y="407"/>
                    </a:lnTo>
                    <a:lnTo>
                      <a:pt x="2" y="384"/>
                    </a:lnTo>
                    <a:lnTo>
                      <a:pt x="8" y="363"/>
                    </a:lnTo>
                    <a:lnTo>
                      <a:pt x="18" y="342"/>
                    </a:lnTo>
                    <a:lnTo>
                      <a:pt x="31" y="322"/>
                    </a:lnTo>
                    <a:lnTo>
                      <a:pt x="50" y="302"/>
                    </a:lnTo>
                    <a:lnTo>
                      <a:pt x="70" y="281"/>
                    </a:lnTo>
                    <a:lnTo>
                      <a:pt x="94" y="262"/>
                    </a:lnTo>
                    <a:lnTo>
                      <a:pt x="122" y="244"/>
                    </a:lnTo>
                    <a:lnTo>
                      <a:pt x="154" y="226"/>
                    </a:lnTo>
                    <a:lnTo>
                      <a:pt x="188" y="208"/>
                    </a:lnTo>
                    <a:lnTo>
                      <a:pt x="225" y="191"/>
                    </a:lnTo>
                    <a:lnTo>
                      <a:pt x="266" y="174"/>
                    </a:lnTo>
                    <a:lnTo>
                      <a:pt x="309" y="158"/>
                    </a:lnTo>
                    <a:lnTo>
                      <a:pt x="356" y="143"/>
                    </a:lnTo>
                    <a:lnTo>
                      <a:pt x="404" y="129"/>
                    </a:lnTo>
                    <a:lnTo>
                      <a:pt x="456" y="115"/>
                    </a:lnTo>
                    <a:lnTo>
                      <a:pt x="510" y="102"/>
                    </a:lnTo>
                    <a:lnTo>
                      <a:pt x="566" y="90"/>
                    </a:lnTo>
                    <a:lnTo>
                      <a:pt x="625" y="78"/>
                    </a:lnTo>
                    <a:lnTo>
                      <a:pt x="686" y="66"/>
                    </a:lnTo>
                    <a:lnTo>
                      <a:pt x="749" y="56"/>
                    </a:lnTo>
                    <a:lnTo>
                      <a:pt x="814" y="46"/>
                    </a:lnTo>
                    <a:lnTo>
                      <a:pt x="881" y="38"/>
                    </a:lnTo>
                    <a:lnTo>
                      <a:pt x="951" y="30"/>
                    </a:lnTo>
                    <a:lnTo>
                      <a:pt x="1021" y="23"/>
                    </a:lnTo>
                    <a:lnTo>
                      <a:pt x="1093" y="17"/>
                    </a:lnTo>
                    <a:lnTo>
                      <a:pt x="1167" y="12"/>
                    </a:lnTo>
                    <a:lnTo>
                      <a:pt x="1242" y="7"/>
                    </a:lnTo>
                    <a:lnTo>
                      <a:pt x="1319" y="4"/>
                    </a:lnTo>
                    <a:lnTo>
                      <a:pt x="1397" y="2"/>
                    </a:lnTo>
                    <a:lnTo>
                      <a:pt x="1476" y="0"/>
                    </a:lnTo>
                    <a:lnTo>
                      <a:pt x="1555" y="0"/>
                    </a:lnTo>
                    <a:lnTo>
                      <a:pt x="1635" y="0"/>
                    </a:lnTo>
                    <a:lnTo>
                      <a:pt x="1715" y="2"/>
                    </a:lnTo>
                    <a:lnTo>
                      <a:pt x="1793" y="4"/>
                    </a:lnTo>
                    <a:lnTo>
                      <a:pt x="1869" y="7"/>
                    </a:lnTo>
                    <a:lnTo>
                      <a:pt x="1944" y="12"/>
                    </a:lnTo>
                    <a:lnTo>
                      <a:pt x="2018" y="17"/>
                    </a:lnTo>
                    <a:lnTo>
                      <a:pt x="2091" y="23"/>
                    </a:lnTo>
                    <a:lnTo>
                      <a:pt x="2160" y="30"/>
                    </a:lnTo>
                    <a:lnTo>
                      <a:pt x="2230" y="38"/>
                    </a:lnTo>
                    <a:lnTo>
                      <a:pt x="2297" y="46"/>
                    </a:lnTo>
                    <a:lnTo>
                      <a:pt x="2362" y="56"/>
                    </a:lnTo>
                    <a:lnTo>
                      <a:pt x="2425" y="66"/>
                    </a:lnTo>
                    <a:lnTo>
                      <a:pt x="2486" y="78"/>
                    </a:lnTo>
                    <a:lnTo>
                      <a:pt x="2545" y="90"/>
                    </a:lnTo>
                    <a:lnTo>
                      <a:pt x="2602" y="102"/>
                    </a:lnTo>
                    <a:lnTo>
                      <a:pt x="2655" y="115"/>
                    </a:lnTo>
                    <a:lnTo>
                      <a:pt x="2707" y="129"/>
                    </a:lnTo>
                    <a:lnTo>
                      <a:pt x="2755" y="143"/>
                    </a:lnTo>
                    <a:lnTo>
                      <a:pt x="2802" y="158"/>
                    </a:lnTo>
                    <a:lnTo>
                      <a:pt x="2845" y="174"/>
                    </a:lnTo>
                    <a:lnTo>
                      <a:pt x="2886" y="191"/>
                    </a:lnTo>
                    <a:lnTo>
                      <a:pt x="2923" y="208"/>
                    </a:lnTo>
                    <a:lnTo>
                      <a:pt x="2957" y="226"/>
                    </a:lnTo>
                    <a:lnTo>
                      <a:pt x="2989" y="244"/>
                    </a:lnTo>
                    <a:lnTo>
                      <a:pt x="3017" y="262"/>
                    </a:lnTo>
                    <a:lnTo>
                      <a:pt x="3041" y="281"/>
                    </a:lnTo>
                    <a:lnTo>
                      <a:pt x="3062" y="302"/>
                    </a:lnTo>
                    <a:lnTo>
                      <a:pt x="3079" y="322"/>
                    </a:lnTo>
                    <a:lnTo>
                      <a:pt x="3093" y="342"/>
                    </a:lnTo>
                    <a:lnTo>
                      <a:pt x="3103" y="363"/>
                    </a:lnTo>
                    <a:lnTo>
                      <a:pt x="3109" y="384"/>
                    </a:lnTo>
                    <a:lnTo>
                      <a:pt x="3111" y="4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119680" y="6528240"/>
                <a:ext cx="342360" cy="99720"/>
              </a:xfrm>
              <a:custGeom>
                <a:avLst/>
                <a:gdLst/>
                <a:ahLst/>
                <a:rect l="l" t="t" r="r" b="b"/>
                <a:pathLst>
                  <a:path w="3108" h="831">
                    <a:moveTo>
                      <a:pt x="3108" y="407"/>
                    </a:moveTo>
                    <a:lnTo>
                      <a:pt x="3106" y="429"/>
                    </a:lnTo>
                    <a:lnTo>
                      <a:pt x="3100" y="450"/>
                    </a:lnTo>
                    <a:lnTo>
                      <a:pt x="3090" y="471"/>
                    </a:lnTo>
                    <a:lnTo>
                      <a:pt x="3075" y="492"/>
                    </a:lnTo>
                    <a:lnTo>
                      <a:pt x="3058" y="513"/>
                    </a:lnTo>
                    <a:lnTo>
                      <a:pt x="3037" y="533"/>
                    </a:lnTo>
                    <a:lnTo>
                      <a:pt x="3013" y="552"/>
                    </a:lnTo>
                    <a:lnTo>
                      <a:pt x="2986" y="571"/>
                    </a:lnTo>
                    <a:lnTo>
                      <a:pt x="2954" y="590"/>
                    </a:lnTo>
                    <a:lnTo>
                      <a:pt x="2920" y="609"/>
                    </a:lnTo>
                    <a:lnTo>
                      <a:pt x="2883" y="627"/>
                    </a:lnTo>
                    <a:lnTo>
                      <a:pt x="2842" y="644"/>
                    </a:lnTo>
                    <a:lnTo>
                      <a:pt x="2799" y="660"/>
                    </a:lnTo>
                    <a:lnTo>
                      <a:pt x="2752" y="676"/>
                    </a:lnTo>
                    <a:lnTo>
                      <a:pt x="2704" y="691"/>
                    </a:lnTo>
                    <a:lnTo>
                      <a:pt x="2652" y="706"/>
                    </a:lnTo>
                    <a:lnTo>
                      <a:pt x="2599" y="721"/>
                    </a:lnTo>
                    <a:lnTo>
                      <a:pt x="2542" y="734"/>
                    </a:lnTo>
                    <a:lnTo>
                      <a:pt x="2484" y="746"/>
                    </a:lnTo>
                    <a:lnTo>
                      <a:pt x="2422" y="758"/>
                    </a:lnTo>
                    <a:lnTo>
                      <a:pt x="2359" y="769"/>
                    </a:lnTo>
                    <a:lnTo>
                      <a:pt x="2294" y="779"/>
                    </a:lnTo>
                    <a:lnTo>
                      <a:pt x="2227" y="788"/>
                    </a:lnTo>
                    <a:lnTo>
                      <a:pt x="2158" y="797"/>
                    </a:lnTo>
                    <a:lnTo>
                      <a:pt x="2088" y="804"/>
                    </a:lnTo>
                    <a:lnTo>
                      <a:pt x="2016" y="811"/>
                    </a:lnTo>
                    <a:lnTo>
                      <a:pt x="1942" y="817"/>
                    </a:lnTo>
                    <a:lnTo>
                      <a:pt x="1867" y="822"/>
                    </a:lnTo>
                    <a:lnTo>
                      <a:pt x="1790" y="826"/>
                    </a:lnTo>
                    <a:lnTo>
                      <a:pt x="1712" y="829"/>
                    </a:lnTo>
                    <a:lnTo>
                      <a:pt x="1633" y="830"/>
                    </a:lnTo>
                    <a:lnTo>
                      <a:pt x="1553" y="831"/>
                    </a:lnTo>
                    <a:lnTo>
                      <a:pt x="1474" y="830"/>
                    </a:lnTo>
                    <a:lnTo>
                      <a:pt x="1395" y="829"/>
                    </a:lnTo>
                    <a:lnTo>
                      <a:pt x="1317" y="826"/>
                    </a:lnTo>
                    <a:lnTo>
                      <a:pt x="1240" y="822"/>
                    </a:lnTo>
                    <a:lnTo>
                      <a:pt x="1166" y="817"/>
                    </a:lnTo>
                    <a:lnTo>
                      <a:pt x="1092" y="811"/>
                    </a:lnTo>
                    <a:lnTo>
                      <a:pt x="1019" y="804"/>
                    </a:lnTo>
                    <a:lnTo>
                      <a:pt x="949" y="797"/>
                    </a:lnTo>
                    <a:lnTo>
                      <a:pt x="880" y="788"/>
                    </a:lnTo>
                    <a:lnTo>
                      <a:pt x="813" y="779"/>
                    </a:lnTo>
                    <a:lnTo>
                      <a:pt x="748" y="769"/>
                    </a:lnTo>
                    <a:lnTo>
                      <a:pt x="685" y="758"/>
                    </a:lnTo>
                    <a:lnTo>
                      <a:pt x="623" y="746"/>
                    </a:lnTo>
                    <a:lnTo>
                      <a:pt x="565" y="734"/>
                    </a:lnTo>
                    <a:lnTo>
                      <a:pt x="509" y="721"/>
                    </a:lnTo>
                    <a:lnTo>
                      <a:pt x="455" y="706"/>
                    </a:lnTo>
                    <a:lnTo>
                      <a:pt x="403" y="691"/>
                    </a:lnTo>
                    <a:lnTo>
                      <a:pt x="355" y="676"/>
                    </a:lnTo>
                    <a:lnTo>
                      <a:pt x="308" y="660"/>
                    </a:lnTo>
                    <a:lnTo>
                      <a:pt x="265" y="644"/>
                    </a:lnTo>
                    <a:lnTo>
                      <a:pt x="224" y="627"/>
                    </a:lnTo>
                    <a:lnTo>
                      <a:pt x="187" y="609"/>
                    </a:lnTo>
                    <a:lnTo>
                      <a:pt x="153" y="590"/>
                    </a:lnTo>
                    <a:lnTo>
                      <a:pt x="121" y="571"/>
                    </a:lnTo>
                    <a:lnTo>
                      <a:pt x="94" y="552"/>
                    </a:lnTo>
                    <a:lnTo>
                      <a:pt x="70" y="533"/>
                    </a:lnTo>
                    <a:lnTo>
                      <a:pt x="49" y="513"/>
                    </a:lnTo>
                    <a:lnTo>
                      <a:pt x="31" y="492"/>
                    </a:lnTo>
                    <a:lnTo>
                      <a:pt x="17" y="471"/>
                    </a:lnTo>
                    <a:lnTo>
                      <a:pt x="7" y="450"/>
                    </a:lnTo>
                    <a:lnTo>
                      <a:pt x="2" y="429"/>
                    </a:lnTo>
                    <a:lnTo>
                      <a:pt x="0" y="407"/>
                    </a:lnTo>
                    <a:lnTo>
                      <a:pt x="2" y="384"/>
                    </a:lnTo>
                    <a:lnTo>
                      <a:pt x="7" y="363"/>
                    </a:lnTo>
                    <a:lnTo>
                      <a:pt x="17" y="342"/>
                    </a:lnTo>
                    <a:lnTo>
                      <a:pt x="31" y="322"/>
                    </a:lnTo>
                    <a:lnTo>
                      <a:pt x="49" y="302"/>
                    </a:lnTo>
                    <a:lnTo>
                      <a:pt x="70" y="282"/>
                    </a:lnTo>
                    <a:lnTo>
                      <a:pt x="94" y="263"/>
                    </a:lnTo>
                    <a:lnTo>
                      <a:pt x="121" y="244"/>
                    </a:lnTo>
                    <a:lnTo>
                      <a:pt x="153" y="226"/>
                    </a:lnTo>
                    <a:lnTo>
                      <a:pt x="187" y="209"/>
                    </a:lnTo>
                    <a:lnTo>
                      <a:pt x="224" y="192"/>
                    </a:lnTo>
                    <a:lnTo>
                      <a:pt x="265" y="175"/>
                    </a:lnTo>
                    <a:lnTo>
                      <a:pt x="308" y="159"/>
                    </a:lnTo>
                    <a:lnTo>
                      <a:pt x="355" y="144"/>
                    </a:lnTo>
                    <a:lnTo>
                      <a:pt x="403" y="129"/>
                    </a:lnTo>
                    <a:lnTo>
                      <a:pt x="455" y="116"/>
                    </a:lnTo>
                    <a:lnTo>
                      <a:pt x="509" y="103"/>
                    </a:lnTo>
                    <a:lnTo>
                      <a:pt x="565" y="90"/>
                    </a:lnTo>
                    <a:lnTo>
                      <a:pt x="623" y="79"/>
                    </a:lnTo>
                    <a:lnTo>
                      <a:pt x="685" y="67"/>
                    </a:lnTo>
                    <a:lnTo>
                      <a:pt x="748" y="57"/>
                    </a:lnTo>
                    <a:lnTo>
                      <a:pt x="813" y="47"/>
                    </a:lnTo>
                    <a:lnTo>
                      <a:pt x="880" y="39"/>
                    </a:lnTo>
                    <a:lnTo>
                      <a:pt x="949" y="31"/>
                    </a:lnTo>
                    <a:lnTo>
                      <a:pt x="1019" y="24"/>
                    </a:lnTo>
                    <a:lnTo>
                      <a:pt x="1092" y="18"/>
                    </a:lnTo>
                    <a:lnTo>
                      <a:pt x="1166" y="13"/>
                    </a:lnTo>
                    <a:lnTo>
                      <a:pt x="1240" y="8"/>
                    </a:lnTo>
                    <a:lnTo>
                      <a:pt x="1317" y="5"/>
                    </a:lnTo>
                    <a:lnTo>
                      <a:pt x="1395" y="2"/>
                    </a:lnTo>
                    <a:lnTo>
                      <a:pt x="1474" y="1"/>
                    </a:lnTo>
                    <a:lnTo>
                      <a:pt x="1553" y="0"/>
                    </a:lnTo>
                    <a:lnTo>
                      <a:pt x="1633" y="1"/>
                    </a:lnTo>
                    <a:lnTo>
                      <a:pt x="1712" y="2"/>
                    </a:lnTo>
                    <a:lnTo>
                      <a:pt x="1790" y="5"/>
                    </a:lnTo>
                    <a:lnTo>
                      <a:pt x="1867" y="8"/>
                    </a:lnTo>
                    <a:lnTo>
                      <a:pt x="1942" y="13"/>
                    </a:lnTo>
                    <a:lnTo>
                      <a:pt x="2016" y="18"/>
                    </a:lnTo>
                    <a:lnTo>
                      <a:pt x="2088" y="24"/>
                    </a:lnTo>
                    <a:lnTo>
                      <a:pt x="2158" y="31"/>
                    </a:lnTo>
                    <a:lnTo>
                      <a:pt x="2227" y="39"/>
                    </a:lnTo>
                    <a:lnTo>
                      <a:pt x="2294" y="47"/>
                    </a:lnTo>
                    <a:lnTo>
                      <a:pt x="2359" y="57"/>
                    </a:lnTo>
                    <a:lnTo>
                      <a:pt x="2422" y="67"/>
                    </a:lnTo>
                    <a:lnTo>
                      <a:pt x="2484" y="79"/>
                    </a:lnTo>
                    <a:lnTo>
                      <a:pt x="2542" y="90"/>
                    </a:lnTo>
                    <a:lnTo>
                      <a:pt x="2599" y="103"/>
                    </a:lnTo>
                    <a:lnTo>
                      <a:pt x="2652" y="116"/>
                    </a:lnTo>
                    <a:lnTo>
                      <a:pt x="2704" y="129"/>
                    </a:lnTo>
                    <a:lnTo>
                      <a:pt x="2752" y="144"/>
                    </a:lnTo>
                    <a:lnTo>
                      <a:pt x="2799" y="159"/>
                    </a:lnTo>
                    <a:lnTo>
                      <a:pt x="2842" y="175"/>
                    </a:lnTo>
                    <a:lnTo>
                      <a:pt x="2883" y="192"/>
                    </a:lnTo>
                    <a:lnTo>
                      <a:pt x="2920" y="209"/>
                    </a:lnTo>
                    <a:lnTo>
                      <a:pt x="2954" y="226"/>
                    </a:lnTo>
                    <a:lnTo>
                      <a:pt x="2986" y="244"/>
                    </a:lnTo>
                    <a:lnTo>
                      <a:pt x="3013" y="263"/>
                    </a:lnTo>
                    <a:lnTo>
                      <a:pt x="3037" y="282"/>
                    </a:lnTo>
                    <a:lnTo>
                      <a:pt x="3058" y="302"/>
                    </a:lnTo>
                    <a:lnTo>
                      <a:pt x="3075" y="322"/>
                    </a:lnTo>
                    <a:lnTo>
                      <a:pt x="3090" y="342"/>
                    </a:lnTo>
                    <a:lnTo>
                      <a:pt x="3100" y="363"/>
                    </a:lnTo>
                    <a:lnTo>
                      <a:pt x="3106" y="384"/>
                    </a:lnTo>
                    <a:lnTo>
                      <a:pt x="3108" y="4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119680" y="6528240"/>
                <a:ext cx="342360" cy="99720"/>
              </a:xfrm>
              <a:custGeom>
                <a:avLst/>
                <a:gdLst/>
                <a:ahLst/>
                <a:rect l="l" t="t" r="r" b="b"/>
                <a:pathLst>
                  <a:path w="3105" h="829">
                    <a:moveTo>
                      <a:pt x="3105" y="406"/>
                    </a:moveTo>
                    <a:lnTo>
                      <a:pt x="3103" y="427"/>
                    </a:lnTo>
                    <a:lnTo>
                      <a:pt x="3097" y="449"/>
                    </a:lnTo>
                    <a:lnTo>
                      <a:pt x="3087" y="470"/>
                    </a:lnTo>
                    <a:lnTo>
                      <a:pt x="3073" y="490"/>
                    </a:lnTo>
                    <a:lnTo>
                      <a:pt x="3056" y="512"/>
                    </a:lnTo>
                    <a:lnTo>
                      <a:pt x="3035" y="531"/>
                    </a:lnTo>
                    <a:lnTo>
                      <a:pt x="3011" y="551"/>
                    </a:lnTo>
                    <a:lnTo>
                      <a:pt x="2983" y="570"/>
                    </a:lnTo>
                    <a:lnTo>
                      <a:pt x="2952" y="589"/>
                    </a:lnTo>
                    <a:lnTo>
                      <a:pt x="2918" y="608"/>
                    </a:lnTo>
                    <a:lnTo>
                      <a:pt x="2881" y="625"/>
                    </a:lnTo>
                    <a:lnTo>
                      <a:pt x="2840" y="642"/>
                    </a:lnTo>
                    <a:lnTo>
                      <a:pt x="2797" y="659"/>
                    </a:lnTo>
                    <a:lnTo>
                      <a:pt x="2750" y="674"/>
                    </a:lnTo>
                    <a:lnTo>
                      <a:pt x="2702" y="690"/>
                    </a:lnTo>
                    <a:lnTo>
                      <a:pt x="2650" y="704"/>
                    </a:lnTo>
                    <a:lnTo>
                      <a:pt x="2597" y="719"/>
                    </a:lnTo>
                    <a:lnTo>
                      <a:pt x="2540" y="732"/>
                    </a:lnTo>
                    <a:lnTo>
                      <a:pt x="2482" y="745"/>
                    </a:lnTo>
                    <a:lnTo>
                      <a:pt x="2421" y="756"/>
                    </a:lnTo>
                    <a:lnTo>
                      <a:pt x="2357" y="767"/>
                    </a:lnTo>
                    <a:lnTo>
                      <a:pt x="2293" y="777"/>
                    </a:lnTo>
                    <a:lnTo>
                      <a:pt x="2225" y="787"/>
                    </a:lnTo>
                    <a:lnTo>
                      <a:pt x="2156" y="795"/>
                    </a:lnTo>
                    <a:lnTo>
                      <a:pt x="2087" y="802"/>
                    </a:lnTo>
                    <a:lnTo>
                      <a:pt x="2014" y="809"/>
                    </a:lnTo>
                    <a:lnTo>
                      <a:pt x="1940" y="815"/>
                    </a:lnTo>
                    <a:lnTo>
                      <a:pt x="1866" y="820"/>
                    </a:lnTo>
                    <a:lnTo>
                      <a:pt x="1789" y="824"/>
                    </a:lnTo>
                    <a:lnTo>
                      <a:pt x="1711" y="827"/>
                    </a:lnTo>
                    <a:lnTo>
                      <a:pt x="1632" y="828"/>
                    </a:lnTo>
                    <a:lnTo>
                      <a:pt x="1552" y="829"/>
                    </a:lnTo>
                    <a:lnTo>
                      <a:pt x="1473" y="828"/>
                    </a:lnTo>
                    <a:lnTo>
                      <a:pt x="1394" y="827"/>
                    </a:lnTo>
                    <a:lnTo>
                      <a:pt x="1316" y="824"/>
                    </a:lnTo>
                    <a:lnTo>
                      <a:pt x="1239" y="820"/>
                    </a:lnTo>
                    <a:lnTo>
                      <a:pt x="1165" y="815"/>
                    </a:lnTo>
                    <a:lnTo>
                      <a:pt x="1091" y="809"/>
                    </a:lnTo>
                    <a:lnTo>
                      <a:pt x="1019" y="802"/>
                    </a:lnTo>
                    <a:lnTo>
                      <a:pt x="949" y="795"/>
                    </a:lnTo>
                    <a:lnTo>
                      <a:pt x="880" y="787"/>
                    </a:lnTo>
                    <a:lnTo>
                      <a:pt x="812" y="777"/>
                    </a:lnTo>
                    <a:lnTo>
                      <a:pt x="748" y="767"/>
                    </a:lnTo>
                    <a:lnTo>
                      <a:pt x="685" y="756"/>
                    </a:lnTo>
                    <a:lnTo>
                      <a:pt x="623" y="745"/>
                    </a:lnTo>
                    <a:lnTo>
                      <a:pt x="565" y="732"/>
                    </a:lnTo>
                    <a:lnTo>
                      <a:pt x="509" y="719"/>
                    </a:lnTo>
                    <a:lnTo>
                      <a:pt x="455" y="704"/>
                    </a:lnTo>
                    <a:lnTo>
                      <a:pt x="403" y="690"/>
                    </a:lnTo>
                    <a:lnTo>
                      <a:pt x="355" y="674"/>
                    </a:lnTo>
                    <a:lnTo>
                      <a:pt x="308" y="659"/>
                    </a:lnTo>
                    <a:lnTo>
                      <a:pt x="265" y="642"/>
                    </a:lnTo>
                    <a:lnTo>
                      <a:pt x="224" y="625"/>
                    </a:lnTo>
                    <a:lnTo>
                      <a:pt x="187" y="608"/>
                    </a:lnTo>
                    <a:lnTo>
                      <a:pt x="153" y="589"/>
                    </a:lnTo>
                    <a:lnTo>
                      <a:pt x="122" y="570"/>
                    </a:lnTo>
                    <a:lnTo>
                      <a:pt x="94" y="551"/>
                    </a:lnTo>
                    <a:lnTo>
                      <a:pt x="70" y="531"/>
                    </a:lnTo>
                    <a:lnTo>
                      <a:pt x="49" y="512"/>
                    </a:lnTo>
                    <a:lnTo>
                      <a:pt x="31" y="490"/>
                    </a:lnTo>
                    <a:lnTo>
                      <a:pt x="18" y="470"/>
                    </a:lnTo>
                    <a:lnTo>
                      <a:pt x="8" y="449"/>
                    </a:lnTo>
                    <a:lnTo>
                      <a:pt x="2" y="427"/>
                    </a:lnTo>
                    <a:lnTo>
                      <a:pt x="0" y="406"/>
                    </a:lnTo>
                    <a:lnTo>
                      <a:pt x="2" y="383"/>
                    </a:lnTo>
                    <a:lnTo>
                      <a:pt x="8" y="362"/>
                    </a:lnTo>
                    <a:lnTo>
                      <a:pt x="18" y="342"/>
                    </a:lnTo>
                    <a:lnTo>
                      <a:pt x="31" y="321"/>
                    </a:lnTo>
                    <a:lnTo>
                      <a:pt x="49" y="301"/>
                    </a:lnTo>
                    <a:lnTo>
                      <a:pt x="70" y="281"/>
                    </a:lnTo>
                    <a:lnTo>
                      <a:pt x="94" y="262"/>
                    </a:lnTo>
                    <a:lnTo>
                      <a:pt x="122" y="244"/>
                    </a:lnTo>
                    <a:lnTo>
                      <a:pt x="153" y="226"/>
                    </a:lnTo>
                    <a:lnTo>
                      <a:pt x="187" y="208"/>
                    </a:lnTo>
                    <a:lnTo>
                      <a:pt x="224" y="191"/>
                    </a:lnTo>
                    <a:lnTo>
                      <a:pt x="265" y="174"/>
                    </a:lnTo>
                    <a:lnTo>
                      <a:pt x="308" y="159"/>
                    </a:lnTo>
                    <a:lnTo>
                      <a:pt x="355" y="144"/>
                    </a:lnTo>
                    <a:lnTo>
                      <a:pt x="403" y="129"/>
                    </a:lnTo>
                    <a:lnTo>
                      <a:pt x="455" y="115"/>
                    </a:lnTo>
                    <a:lnTo>
                      <a:pt x="509" y="102"/>
                    </a:lnTo>
                    <a:lnTo>
                      <a:pt x="565" y="90"/>
                    </a:lnTo>
                    <a:lnTo>
                      <a:pt x="623" y="78"/>
                    </a:lnTo>
                    <a:lnTo>
                      <a:pt x="685" y="66"/>
                    </a:lnTo>
                    <a:lnTo>
                      <a:pt x="748" y="56"/>
                    </a:lnTo>
                    <a:lnTo>
                      <a:pt x="812" y="47"/>
                    </a:lnTo>
                    <a:lnTo>
                      <a:pt x="880" y="38"/>
                    </a:lnTo>
                    <a:lnTo>
                      <a:pt x="949" y="31"/>
                    </a:lnTo>
                    <a:lnTo>
                      <a:pt x="1019" y="24"/>
                    </a:lnTo>
                    <a:lnTo>
                      <a:pt x="1091" y="18"/>
                    </a:lnTo>
                    <a:lnTo>
                      <a:pt x="1165" y="12"/>
                    </a:lnTo>
                    <a:lnTo>
                      <a:pt x="1239" y="8"/>
                    </a:lnTo>
                    <a:lnTo>
                      <a:pt x="1316" y="5"/>
                    </a:lnTo>
                    <a:lnTo>
                      <a:pt x="1394" y="2"/>
                    </a:lnTo>
                    <a:lnTo>
                      <a:pt x="1473" y="1"/>
                    </a:lnTo>
                    <a:lnTo>
                      <a:pt x="1552" y="0"/>
                    </a:lnTo>
                    <a:lnTo>
                      <a:pt x="1632" y="1"/>
                    </a:lnTo>
                    <a:lnTo>
                      <a:pt x="1711" y="2"/>
                    </a:lnTo>
                    <a:lnTo>
                      <a:pt x="1789" y="5"/>
                    </a:lnTo>
                    <a:lnTo>
                      <a:pt x="1866" y="8"/>
                    </a:lnTo>
                    <a:lnTo>
                      <a:pt x="1940" y="12"/>
                    </a:lnTo>
                    <a:lnTo>
                      <a:pt x="2014" y="18"/>
                    </a:lnTo>
                    <a:lnTo>
                      <a:pt x="2087" y="24"/>
                    </a:lnTo>
                    <a:lnTo>
                      <a:pt x="2156" y="31"/>
                    </a:lnTo>
                    <a:lnTo>
                      <a:pt x="2225" y="38"/>
                    </a:lnTo>
                    <a:lnTo>
                      <a:pt x="2293" y="47"/>
                    </a:lnTo>
                    <a:lnTo>
                      <a:pt x="2357" y="56"/>
                    </a:lnTo>
                    <a:lnTo>
                      <a:pt x="2421" y="66"/>
                    </a:lnTo>
                    <a:lnTo>
                      <a:pt x="2482" y="78"/>
                    </a:lnTo>
                    <a:lnTo>
                      <a:pt x="2540" y="90"/>
                    </a:lnTo>
                    <a:lnTo>
                      <a:pt x="2597" y="102"/>
                    </a:lnTo>
                    <a:lnTo>
                      <a:pt x="2650" y="115"/>
                    </a:lnTo>
                    <a:lnTo>
                      <a:pt x="2702" y="129"/>
                    </a:lnTo>
                    <a:lnTo>
                      <a:pt x="2750" y="144"/>
                    </a:lnTo>
                    <a:lnTo>
                      <a:pt x="2797" y="159"/>
                    </a:lnTo>
                    <a:lnTo>
                      <a:pt x="2840" y="174"/>
                    </a:lnTo>
                    <a:lnTo>
                      <a:pt x="2881" y="191"/>
                    </a:lnTo>
                    <a:lnTo>
                      <a:pt x="2918" y="208"/>
                    </a:lnTo>
                    <a:lnTo>
                      <a:pt x="2952" y="226"/>
                    </a:lnTo>
                    <a:lnTo>
                      <a:pt x="2983" y="244"/>
                    </a:lnTo>
                    <a:lnTo>
                      <a:pt x="3011" y="262"/>
                    </a:lnTo>
                    <a:lnTo>
                      <a:pt x="3035" y="281"/>
                    </a:lnTo>
                    <a:lnTo>
                      <a:pt x="3056" y="301"/>
                    </a:lnTo>
                    <a:lnTo>
                      <a:pt x="3073" y="321"/>
                    </a:lnTo>
                    <a:lnTo>
                      <a:pt x="3087" y="342"/>
                    </a:lnTo>
                    <a:lnTo>
                      <a:pt x="3097" y="362"/>
                    </a:lnTo>
                    <a:lnTo>
                      <a:pt x="3103" y="383"/>
                    </a:lnTo>
                    <a:lnTo>
                      <a:pt x="3105" y="4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119680" y="6528240"/>
                <a:ext cx="342360" cy="98280"/>
              </a:xfrm>
              <a:custGeom>
                <a:avLst/>
                <a:gdLst/>
                <a:ahLst/>
                <a:rect l="l" t="t" r="r" b="b"/>
                <a:pathLst>
                  <a:path w="3103" h="827">
                    <a:moveTo>
                      <a:pt x="3103" y="405"/>
                    </a:moveTo>
                    <a:lnTo>
                      <a:pt x="3101" y="426"/>
                    </a:lnTo>
                    <a:lnTo>
                      <a:pt x="3095" y="448"/>
                    </a:lnTo>
                    <a:lnTo>
                      <a:pt x="3085" y="469"/>
                    </a:lnTo>
                    <a:lnTo>
                      <a:pt x="3071" y="489"/>
                    </a:lnTo>
                    <a:lnTo>
                      <a:pt x="3053" y="510"/>
                    </a:lnTo>
                    <a:lnTo>
                      <a:pt x="3033" y="530"/>
                    </a:lnTo>
                    <a:lnTo>
                      <a:pt x="3009" y="550"/>
                    </a:lnTo>
                    <a:lnTo>
                      <a:pt x="2981" y="569"/>
                    </a:lnTo>
                    <a:lnTo>
                      <a:pt x="2949" y="587"/>
                    </a:lnTo>
                    <a:lnTo>
                      <a:pt x="2915" y="606"/>
                    </a:lnTo>
                    <a:lnTo>
                      <a:pt x="2878" y="624"/>
                    </a:lnTo>
                    <a:lnTo>
                      <a:pt x="2838" y="641"/>
                    </a:lnTo>
                    <a:lnTo>
                      <a:pt x="2795" y="657"/>
                    </a:lnTo>
                    <a:lnTo>
                      <a:pt x="2748" y="673"/>
                    </a:lnTo>
                    <a:lnTo>
                      <a:pt x="2700" y="688"/>
                    </a:lnTo>
                    <a:lnTo>
                      <a:pt x="2648" y="702"/>
                    </a:lnTo>
                    <a:lnTo>
                      <a:pt x="2595" y="717"/>
                    </a:lnTo>
                    <a:lnTo>
                      <a:pt x="2538" y="730"/>
                    </a:lnTo>
                    <a:lnTo>
                      <a:pt x="2480" y="743"/>
                    </a:lnTo>
                    <a:lnTo>
                      <a:pt x="2419" y="755"/>
                    </a:lnTo>
                    <a:lnTo>
                      <a:pt x="2355" y="765"/>
                    </a:lnTo>
                    <a:lnTo>
                      <a:pt x="2291" y="775"/>
                    </a:lnTo>
                    <a:lnTo>
                      <a:pt x="2224" y="785"/>
                    </a:lnTo>
                    <a:lnTo>
                      <a:pt x="2155" y="793"/>
                    </a:lnTo>
                    <a:lnTo>
                      <a:pt x="2085" y="801"/>
                    </a:lnTo>
                    <a:lnTo>
                      <a:pt x="2013" y="807"/>
                    </a:lnTo>
                    <a:lnTo>
                      <a:pt x="1939" y="813"/>
                    </a:lnTo>
                    <a:lnTo>
                      <a:pt x="1865" y="818"/>
                    </a:lnTo>
                    <a:lnTo>
                      <a:pt x="1788" y="822"/>
                    </a:lnTo>
                    <a:lnTo>
                      <a:pt x="1710" y="825"/>
                    </a:lnTo>
                    <a:lnTo>
                      <a:pt x="1631" y="826"/>
                    </a:lnTo>
                    <a:lnTo>
                      <a:pt x="1551" y="827"/>
                    </a:lnTo>
                    <a:lnTo>
                      <a:pt x="1472" y="826"/>
                    </a:lnTo>
                    <a:lnTo>
                      <a:pt x="1393" y="825"/>
                    </a:lnTo>
                    <a:lnTo>
                      <a:pt x="1315" y="822"/>
                    </a:lnTo>
                    <a:lnTo>
                      <a:pt x="1239" y="818"/>
                    </a:lnTo>
                    <a:lnTo>
                      <a:pt x="1164" y="813"/>
                    </a:lnTo>
                    <a:lnTo>
                      <a:pt x="1090" y="807"/>
                    </a:lnTo>
                    <a:lnTo>
                      <a:pt x="1018" y="801"/>
                    </a:lnTo>
                    <a:lnTo>
                      <a:pt x="948" y="793"/>
                    </a:lnTo>
                    <a:lnTo>
                      <a:pt x="879" y="785"/>
                    </a:lnTo>
                    <a:lnTo>
                      <a:pt x="812" y="775"/>
                    </a:lnTo>
                    <a:lnTo>
                      <a:pt x="748" y="765"/>
                    </a:lnTo>
                    <a:lnTo>
                      <a:pt x="684" y="755"/>
                    </a:lnTo>
                    <a:lnTo>
                      <a:pt x="623" y="743"/>
                    </a:lnTo>
                    <a:lnTo>
                      <a:pt x="565" y="730"/>
                    </a:lnTo>
                    <a:lnTo>
                      <a:pt x="508" y="717"/>
                    </a:lnTo>
                    <a:lnTo>
                      <a:pt x="455" y="702"/>
                    </a:lnTo>
                    <a:lnTo>
                      <a:pt x="403" y="688"/>
                    </a:lnTo>
                    <a:lnTo>
                      <a:pt x="355" y="673"/>
                    </a:lnTo>
                    <a:lnTo>
                      <a:pt x="308" y="657"/>
                    </a:lnTo>
                    <a:lnTo>
                      <a:pt x="266" y="641"/>
                    </a:lnTo>
                    <a:lnTo>
                      <a:pt x="225" y="624"/>
                    </a:lnTo>
                    <a:lnTo>
                      <a:pt x="188" y="606"/>
                    </a:lnTo>
                    <a:lnTo>
                      <a:pt x="154" y="587"/>
                    </a:lnTo>
                    <a:lnTo>
                      <a:pt x="122" y="569"/>
                    </a:lnTo>
                    <a:lnTo>
                      <a:pt x="95" y="550"/>
                    </a:lnTo>
                    <a:lnTo>
                      <a:pt x="70" y="530"/>
                    </a:lnTo>
                    <a:lnTo>
                      <a:pt x="50" y="510"/>
                    </a:lnTo>
                    <a:lnTo>
                      <a:pt x="33" y="489"/>
                    </a:lnTo>
                    <a:lnTo>
                      <a:pt x="18" y="469"/>
                    </a:lnTo>
                    <a:lnTo>
                      <a:pt x="8" y="448"/>
                    </a:lnTo>
                    <a:lnTo>
                      <a:pt x="2" y="426"/>
                    </a:lnTo>
                    <a:lnTo>
                      <a:pt x="0" y="405"/>
                    </a:lnTo>
                    <a:lnTo>
                      <a:pt x="2" y="382"/>
                    </a:lnTo>
                    <a:lnTo>
                      <a:pt x="8" y="361"/>
                    </a:lnTo>
                    <a:lnTo>
                      <a:pt x="18" y="341"/>
                    </a:lnTo>
                    <a:lnTo>
                      <a:pt x="33" y="320"/>
                    </a:lnTo>
                    <a:lnTo>
                      <a:pt x="50" y="301"/>
                    </a:lnTo>
                    <a:lnTo>
                      <a:pt x="70" y="280"/>
                    </a:lnTo>
                    <a:lnTo>
                      <a:pt x="95" y="261"/>
                    </a:lnTo>
                    <a:lnTo>
                      <a:pt x="122" y="243"/>
                    </a:lnTo>
                    <a:lnTo>
                      <a:pt x="154" y="225"/>
                    </a:lnTo>
                    <a:lnTo>
                      <a:pt x="188" y="208"/>
                    </a:lnTo>
                    <a:lnTo>
                      <a:pt x="225" y="191"/>
                    </a:lnTo>
                    <a:lnTo>
                      <a:pt x="266" y="175"/>
                    </a:lnTo>
                    <a:lnTo>
                      <a:pt x="308" y="158"/>
                    </a:lnTo>
                    <a:lnTo>
                      <a:pt x="355" y="143"/>
                    </a:lnTo>
                    <a:lnTo>
                      <a:pt x="403" y="129"/>
                    </a:lnTo>
                    <a:lnTo>
                      <a:pt x="455" y="115"/>
                    </a:lnTo>
                    <a:lnTo>
                      <a:pt x="508" y="102"/>
                    </a:lnTo>
                    <a:lnTo>
                      <a:pt x="565" y="90"/>
                    </a:lnTo>
                    <a:lnTo>
                      <a:pt x="623" y="78"/>
                    </a:lnTo>
                    <a:lnTo>
                      <a:pt x="684" y="66"/>
                    </a:lnTo>
                    <a:lnTo>
                      <a:pt x="748" y="56"/>
                    </a:lnTo>
                    <a:lnTo>
                      <a:pt x="812" y="47"/>
                    </a:lnTo>
                    <a:lnTo>
                      <a:pt x="879" y="38"/>
                    </a:lnTo>
                    <a:lnTo>
                      <a:pt x="948" y="30"/>
                    </a:lnTo>
                    <a:lnTo>
                      <a:pt x="1018" y="24"/>
                    </a:lnTo>
                    <a:lnTo>
                      <a:pt x="1090" y="18"/>
                    </a:lnTo>
                    <a:lnTo>
                      <a:pt x="1164" y="12"/>
                    </a:lnTo>
                    <a:lnTo>
                      <a:pt x="1239" y="8"/>
                    </a:lnTo>
                    <a:lnTo>
                      <a:pt x="1315" y="5"/>
                    </a:lnTo>
                    <a:lnTo>
                      <a:pt x="1393" y="2"/>
                    </a:lnTo>
                    <a:lnTo>
                      <a:pt x="1472" y="1"/>
                    </a:lnTo>
                    <a:lnTo>
                      <a:pt x="1551" y="0"/>
                    </a:lnTo>
                    <a:lnTo>
                      <a:pt x="1631" y="1"/>
                    </a:lnTo>
                    <a:lnTo>
                      <a:pt x="1710" y="2"/>
                    </a:lnTo>
                    <a:lnTo>
                      <a:pt x="1788" y="5"/>
                    </a:lnTo>
                    <a:lnTo>
                      <a:pt x="1865" y="8"/>
                    </a:lnTo>
                    <a:lnTo>
                      <a:pt x="1939" y="12"/>
                    </a:lnTo>
                    <a:lnTo>
                      <a:pt x="2013" y="18"/>
                    </a:lnTo>
                    <a:lnTo>
                      <a:pt x="2085" y="24"/>
                    </a:lnTo>
                    <a:lnTo>
                      <a:pt x="2155" y="30"/>
                    </a:lnTo>
                    <a:lnTo>
                      <a:pt x="2224" y="38"/>
                    </a:lnTo>
                    <a:lnTo>
                      <a:pt x="2291" y="47"/>
                    </a:lnTo>
                    <a:lnTo>
                      <a:pt x="2355" y="56"/>
                    </a:lnTo>
                    <a:lnTo>
                      <a:pt x="2419" y="66"/>
                    </a:lnTo>
                    <a:lnTo>
                      <a:pt x="2480" y="78"/>
                    </a:lnTo>
                    <a:lnTo>
                      <a:pt x="2538" y="90"/>
                    </a:lnTo>
                    <a:lnTo>
                      <a:pt x="2595" y="102"/>
                    </a:lnTo>
                    <a:lnTo>
                      <a:pt x="2648" y="115"/>
                    </a:lnTo>
                    <a:lnTo>
                      <a:pt x="2700" y="129"/>
                    </a:lnTo>
                    <a:lnTo>
                      <a:pt x="2748" y="143"/>
                    </a:lnTo>
                    <a:lnTo>
                      <a:pt x="2795" y="158"/>
                    </a:lnTo>
                    <a:lnTo>
                      <a:pt x="2838" y="175"/>
                    </a:lnTo>
                    <a:lnTo>
                      <a:pt x="2878" y="191"/>
                    </a:lnTo>
                    <a:lnTo>
                      <a:pt x="2915" y="208"/>
                    </a:lnTo>
                    <a:lnTo>
                      <a:pt x="2949" y="225"/>
                    </a:lnTo>
                    <a:lnTo>
                      <a:pt x="2981" y="243"/>
                    </a:lnTo>
                    <a:lnTo>
                      <a:pt x="3009" y="261"/>
                    </a:lnTo>
                    <a:lnTo>
                      <a:pt x="3033" y="280"/>
                    </a:lnTo>
                    <a:lnTo>
                      <a:pt x="3053" y="301"/>
                    </a:lnTo>
                    <a:lnTo>
                      <a:pt x="3071" y="320"/>
                    </a:lnTo>
                    <a:lnTo>
                      <a:pt x="3085" y="341"/>
                    </a:lnTo>
                    <a:lnTo>
                      <a:pt x="3095" y="361"/>
                    </a:lnTo>
                    <a:lnTo>
                      <a:pt x="3101" y="382"/>
                    </a:lnTo>
                    <a:lnTo>
                      <a:pt x="3103" y="4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119680" y="6528240"/>
                <a:ext cx="342360" cy="98280"/>
              </a:xfrm>
              <a:custGeom>
                <a:avLst/>
                <a:gdLst/>
                <a:ahLst/>
                <a:rect l="l" t="t" r="r" b="b"/>
                <a:pathLst>
                  <a:path w="3099" h="825">
                    <a:moveTo>
                      <a:pt x="3099" y="404"/>
                    </a:moveTo>
                    <a:lnTo>
                      <a:pt x="3097" y="425"/>
                    </a:lnTo>
                    <a:lnTo>
                      <a:pt x="3091" y="447"/>
                    </a:lnTo>
                    <a:lnTo>
                      <a:pt x="3082" y="467"/>
                    </a:lnTo>
                    <a:lnTo>
                      <a:pt x="3067" y="488"/>
                    </a:lnTo>
                    <a:lnTo>
                      <a:pt x="3050" y="509"/>
                    </a:lnTo>
                    <a:lnTo>
                      <a:pt x="3029" y="529"/>
                    </a:lnTo>
                    <a:lnTo>
                      <a:pt x="3005" y="548"/>
                    </a:lnTo>
                    <a:lnTo>
                      <a:pt x="2978" y="567"/>
                    </a:lnTo>
                    <a:lnTo>
                      <a:pt x="2946" y="586"/>
                    </a:lnTo>
                    <a:lnTo>
                      <a:pt x="2912" y="605"/>
                    </a:lnTo>
                    <a:lnTo>
                      <a:pt x="2874" y="622"/>
                    </a:lnTo>
                    <a:lnTo>
                      <a:pt x="2834" y="639"/>
                    </a:lnTo>
                    <a:lnTo>
                      <a:pt x="2792" y="655"/>
                    </a:lnTo>
                    <a:lnTo>
                      <a:pt x="2745" y="671"/>
                    </a:lnTo>
                    <a:lnTo>
                      <a:pt x="2697" y="686"/>
                    </a:lnTo>
                    <a:lnTo>
                      <a:pt x="2645" y="701"/>
                    </a:lnTo>
                    <a:lnTo>
                      <a:pt x="2592" y="716"/>
                    </a:lnTo>
                    <a:lnTo>
                      <a:pt x="2535" y="729"/>
                    </a:lnTo>
                    <a:lnTo>
                      <a:pt x="2477" y="741"/>
                    </a:lnTo>
                    <a:lnTo>
                      <a:pt x="2416" y="753"/>
                    </a:lnTo>
                    <a:lnTo>
                      <a:pt x="2353" y="764"/>
                    </a:lnTo>
                    <a:lnTo>
                      <a:pt x="2288" y="774"/>
                    </a:lnTo>
                    <a:lnTo>
                      <a:pt x="2221" y="783"/>
                    </a:lnTo>
                    <a:lnTo>
                      <a:pt x="2152" y="791"/>
                    </a:lnTo>
                    <a:lnTo>
                      <a:pt x="2083" y="799"/>
                    </a:lnTo>
                    <a:lnTo>
                      <a:pt x="2010" y="805"/>
                    </a:lnTo>
                    <a:lnTo>
                      <a:pt x="1937" y="811"/>
                    </a:lnTo>
                    <a:lnTo>
                      <a:pt x="1862" y="816"/>
                    </a:lnTo>
                    <a:lnTo>
                      <a:pt x="1786" y="820"/>
                    </a:lnTo>
                    <a:lnTo>
                      <a:pt x="1708" y="823"/>
                    </a:lnTo>
                    <a:lnTo>
                      <a:pt x="1629" y="824"/>
                    </a:lnTo>
                    <a:lnTo>
                      <a:pt x="1549" y="825"/>
                    </a:lnTo>
                    <a:lnTo>
                      <a:pt x="1470" y="824"/>
                    </a:lnTo>
                    <a:lnTo>
                      <a:pt x="1391" y="823"/>
                    </a:lnTo>
                    <a:lnTo>
                      <a:pt x="1313" y="820"/>
                    </a:lnTo>
                    <a:lnTo>
                      <a:pt x="1237" y="816"/>
                    </a:lnTo>
                    <a:lnTo>
                      <a:pt x="1163" y="811"/>
                    </a:lnTo>
                    <a:lnTo>
                      <a:pt x="1089" y="805"/>
                    </a:lnTo>
                    <a:lnTo>
                      <a:pt x="1016" y="799"/>
                    </a:lnTo>
                    <a:lnTo>
                      <a:pt x="947" y="791"/>
                    </a:lnTo>
                    <a:lnTo>
                      <a:pt x="878" y="783"/>
                    </a:lnTo>
                    <a:lnTo>
                      <a:pt x="811" y="774"/>
                    </a:lnTo>
                    <a:lnTo>
                      <a:pt x="746" y="764"/>
                    </a:lnTo>
                    <a:lnTo>
                      <a:pt x="683" y="753"/>
                    </a:lnTo>
                    <a:lnTo>
                      <a:pt x="622" y="741"/>
                    </a:lnTo>
                    <a:lnTo>
                      <a:pt x="564" y="729"/>
                    </a:lnTo>
                    <a:lnTo>
                      <a:pt x="507" y="716"/>
                    </a:lnTo>
                    <a:lnTo>
                      <a:pt x="454" y="701"/>
                    </a:lnTo>
                    <a:lnTo>
                      <a:pt x="402" y="686"/>
                    </a:lnTo>
                    <a:lnTo>
                      <a:pt x="354" y="671"/>
                    </a:lnTo>
                    <a:lnTo>
                      <a:pt x="308" y="655"/>
                    </a:lnTo>
                    <a:lnTo>
                      <a:pt x="265" y="639"/>
                    </a:lnTo>
                    <a:lnTo>
                      <a:pt x="224" y="622"/>
                    </a:lnTo>
                    <a:lnTo>
                      <a:pt x="187" y="605"/>
                    </a:lnTo>
                    <a:lnTo>
                      <a:pt x="153" y="586"/>
                    </a:lnTo>
                    <a:lnTo>
                      <a:pt x="121" y="567"/>
                    </a:lnTo>
                    <a:lnTo>
                      <a:pt x="94" y="548"/>
                    </a:lnTo>
                    <a:lnTo>
                      <a:pt x="70" y="529"/>
                    </a:lnTo>
                    <a:lnTo>
                      <a:pt x="49" y="509"/>
                    </a:lnTo>
                    <a:lnTo>
                      <a:pt x="32" y="488"/>
                    </a:lnTo>
                    <a:lnTo>
                      <a:pt x="17" y="467"/>
                    </a:lnTo>
                    <a:lnTo>
                      <a:pt x="8" y="447"/>
                    </a:lnTo>
                    <a:lnTo>
                      <a:pt x="2" y="425"/>
                    </a:lnTo>
                    <a:lnTo>
                      <a:pt x="0" y="404"/>
                    </a:lnTo>
                    <a:lnTo>
                      <a:pt x="2" y="381"/>
                    </a:lnTo>
                    <a:lnTo>
                      <a:pt x="8" y="360"/>
                    </a:lnTo>
                    <a:lnTo>
                      <a:pt x="17" y="340"/>
                    </a:lnTo>
                    <a:lnTo>
                      <a:pt x="32" y="320"/>
                    </a:lnTo>
                    <a:lnTo>
                      <a:pt x="49" y="300"/>
                    </a:lnTo>
                    <a:lnTo>
                      <a:pt x="70" y="279"/>
                    </a:lnTo>
                    <a:lnTo>
                      <a:pt x="94" y="261"/>
                    </a:lnTo>
                    <a:lnTo>
                      <a:pt x="121" y="242"/>
                    </a:lnTo>
                    <a:lnTo>
                      <a:pt x="153" y="224"/>
                    </a:lnTo>
                    <a:lnTo>
                      <a:pt x="187" y="207"/>
                    </a:lnTo>
                    <a:lnTo>
                      <a:pt x="224" y="190"/>
                    </a:lnTo>
                    <a:lnTo>
                      <a:pt x="265" y="174"/>
                    </a:lnTo>
                    <a:lnTo>
                      <a:pt x="308" y="158"/>
                    </a:lnTo>
                    <a:lnTo>
                      <a:pt x="354" y="143"/>
                    </a:lnTo>
                    <a:lnTo>
                      <a:pt x="402" y="128"/>
                    </a:lnTo>
                    <a:lnTo>
                      <a:pt x="454" y="115"/>
                    </a:lnTo>
                    <a:lnTo>
                      <a:pt x="507" y="102"/>
                    </a:lnTo>
                    <a:lnTo>
                      <a:pt x="564" y="89"/>
                    </a:lnTo>
                    <a:lnTo>
                      <a:pt x="622" y="78"/>
                    </a:lnTo>
                    <a:lnTo>
                      <a:pt x="683" y="67"/>
                    </a:lnTo>
                    <a:lnTo>
                      <a:pt x="746" y="56"/>
                    </a:lnTo>
                    <a:lnTo>
                      <a:pt x="811" y="47"/>
                    </a:lnTo>
                    <a:lnTo>
                      <a:pt x="878" y="38"/>
                    </a:lnTo>
                    <a:lnTo>
                      <a:pt x="947" y="30"/>
                    </a:lnTo>
                    <a:lnTo>
                      <a:pt x="1016" y="23"/>
                    </a:lnTo>
                    <a:lnTo>
                      <a:pt x="1089" y="17"/>
                    </a:lnTo>
                    <a:lnTo>
                      <a:pt x="1163" y="12"/>
                    </a:lnTo>
                    <a:lnTo>
                      <a:pt x="1237" y="8"/>
                    </a:lnTo>
                    <a:lnTo>
                      <a:pt x="1313" y="5"/>
                    </a:lnTo>
                    <a:lnTo>
                      <a:pt x="1391" y="2"/>
                    </a:lnTo>
                    <a:lnTo>
                      <a:pt x="1470" y="1"/>
                    </a:lnTo>
                    <a:lnTo>
                      <a:pt x="1549" y="0"/>
                    </a:lnTo>
                    <a:lnTo>
                      <a:pt x="1629" y="1"/>
                    </a:lnTo>
                    <a:lnTo>
                      <a:pt x="1708" y="2"/>
                    </a:lnTo>
                    <a:lnTo>
                      <a:pt x="1786" y="5"/>
                    </a:lnTo>
                    <a:lnTo>
                      <a:pt x="1862" y="8"/>
                    </a:lnTo>
                    <a:lnTo>
                      <a:pt x="1937" y="12"/>
                    </a:lnTo>
                    <a:lnTo>
                      <a:pt x="2010" y="17"/>
                    </a:lnTo>
                    <a:lnTo>
                      <a:pt x="2083" y="23"/>
                    </a:lnTo>
                    <a:lnTo>
                      <a:pt x="2152" y="30"/>
                    </a:lnTo>
                    <a:lnTo>
                      <a:pt x="2221" y="38"/>
                    </a:lnTo>
                    <a:lnTo>
                      <a:pt x="2288" y="47"/>
                    </a:lnTo>
                    <a:lnTo>
                      <a:pt x="2353" y="56"/>
                    </a:lnTo>
                    <a:lnTo>
                      <a:pt x="2416" y="67"/>
                    </a:lnTo>
                    <a:lnTo>
                      <a:pt x="2477" y="78"/>
                    </a:lnTo>
                    <a:lnTo>
                      <a:pt x="2535" y="89"/>
                    </a:lnTo>
                    <a:lnTo>
                      <a:pt x="2592" y="102"/>
                    </a:lnTo>
                    <a:lnTo>
                      <a:pt x="2645" y="115"/>
                    </a:lnTo>
                    <a:lnTo>
                      <a:pt x="2697" y="128"/>
                    </a:lnTo>
                    <a:lnTo>
                      <a:pt x="2745" y="143"/>
                    </a:lnTo>
                    <a:lnTo>
                      <a:pt x="2792" y="158"/>
                    </a:lnTo>
                    <a:lnTo>
                      <a:pt x="2834" y="174"/>
                    </a:lnTo>
                    <a:lnTo>
                      <a:pt x="2874" y="190"/>
                    </a:lnTo>
                    <a:lnTo>
                      <a:pt x="2912" y="207"/>
                    </a:lnTo>
                    <a:lnTo>
                      <a:pt x="2946" y="224"/>
                    </a:lnTo>
                    <a:lnTo>
                      <a:pt x="2978" y="242"/>
                    </a:lnTo>
                    <a:lnTo>
                      <a:pt x="3005" y="261"/>
                    </a:lnTo>
                    <a:lnTo>
                      <a:pt x="3029" y="279"/>
                    </a:lnTo>
                    <a:lnTo>
                      <a:pt x="3050" y="300"/>
                    </a:lnTo>
                    <a:lnTo>
                      <a:pt x="3067" y="320"/>
                    </a:lnTo>
                    <a:lnTo>
                      <a:pt x="3082" y="340"/>
                    </a:lnTo>
                    <a:lnTo>
                      <a:pt x="3091" y="360"/>
                    </a:lnTo>
                    <a:lnTo>
                      <a:pt x="3097" y="381"/>
                    </a:lnTo>
                    <a:lnTo>
                      <a:pt x="3099" y="4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119680" y="6528240"/>
                <a:ext cx="342360" cy="98280"/>
              </a:xfrm>
              <a:custGeom>
                <a:avLst/>
                <a:gdLst/>
                <a:ahLst/>
                <a:rect l="l" t="t" r="r" b="b"/>
                <a:pathLst>
                  <a:path w="3097" h="823">
                    <a:moveTo>
                      <a:pt x="3097" y="403"/>
                    </a:moveTo>
                    <a:lnTo>
                      <a:pt x="3095" y="424"/>
                    </a:lnTo>
                    <a:lnTo>
                      <a:pt x="3089" y="445"/>
                    </a:lnTo>
                    <a:lnTo>
                      <a:pt x="3079" y="466"/>
                    </a:lnTo>
                    <a:lnTo>
                      <a:pt x="3065" y="487"/>
                    </a:lnTo>
                    <a:lnTo>
                      <a:pt x="3048" y="508"/>
                    </a:lnTo>
                    <a:lnTo>
                      <a:pt x="3027" y="528"/>
                    </a:lnTo>
                    <a:lnTo>
                      <a:pt x="3003" y="547"/>
                    </a:lnTo>
                    <a:lnTo>
                      <a:pt x="2976" y="566"/>
                    </a:lnTo>
                    <a:lnTo>
                      <a:pt x="2944" y="584"/>
                    </a:lnTo>
                    <a:lnTo>
                      <a:pt x="2910" y="603"/>
                    </a:lnTo>
                    <a:lnTo>
                      <a:pt x="2872" y="621"/>
                    </a:lnTo>
                    <a:lnTo>
                      <a:pt x="2832" y="638"/>
                    </a:lnTo>
                    <a:lnTo>
                      <a:pt x="2789" y="654"/>
                    </a:lnTo>
                    <a:lnTo>
                      <a:pt x="2743" y="670"/>
                    </a:lnTo>
                    <a:lnTo>
                      <a:pt x="2695" y="685"/>
                    </a:lnTo>
                    <a:lnTo>
                      <a:pt x="2643" y="699"/>
                    </a:lnTo>
                    <a:lnTo>
                      <a:pt x="2590" y="714"/>
                    </a:lnTo>
                    <a:lnTo>
                      <a:pt x="2533" y="727"/>
                    </a:lnTo>
                    <a:lnTo>
                      <a:pt x="2475" y="739"/>
                    </a:lnTo>
                    <a:lnTo>
                      <a:pt x="2414" y="751"/>
                    </a:lnTo>
                    <a:lnTo>
                      <a:pt x="2351" y="762"/>
                    </a:lnTo>
                    <a:lnTo>
                      <a:pt x="2287" y="772"/>
                    </a:lnTo>
                    <a:lnTo>
                      <a:pt x="2220" y="781"/>
                    </a:lnTo>
                    <a:lnTo>
                      <a:pt x="2151" y="789"/>
                    </a:lnTo>
                    <a:lnTo>
                      <a:pt x="2081" y="797"/>
                    </a:lnTo>
                    <a:lnTo>
                      <a:pt x="2009" y="803"/>
                    </a:lnTo>
                    <a:lnTo>
                      <a:pt x="1935" y="809"/>
                    </a:lnTo>
                    <a:lnTo>
                      <a:pt x="1861" y="815"/>
                    </a:lnTo>
                    <a:lnTo>
                      <a:pt x="1785" y="818"/>
                    </a:lnTo>
                    <a:lnTo>
                      <a:pt x="1707" y="821"/>
                    </a:lnTo>
                    <a:lnTo>
                      <a:pt x="1628" y="823"/>
                    </a:lnTo>
                    <a:lnTo>
                      <a:pt x="1548" y="823"/>
                    </a:lnTo>
                    <a:lnTo>
                      <a:pt x="1469" y="823"/>
                    </a:lnTo>
                    <a:lnTo>
                      <a:pt x="1390" y="821"/>
                    </a:lnTo>
                    <a:lnTo>
                      <a:pt x="1313" y="818"/>
                    </a:lnTo>
                    <a:lnTo>
                      <a:pt x="1236" y="815"/>
                    </a:lnTo>
                    <a:lnTo>
                      <a:pt x="1162" y="809"/>
                    </a:lnTo>
                    <a:lnTo>
                      <a:pt x="1088" y="803"/>
                    </a:lnTo>
                    <a:lnTo>
                      <a:pt x="1016" y="797"/>
                    </a:lnTo>
                    <a:lnTo>
                      <a:pt x="946" y="789"/>
                    </a:lnTo>
                    <a:lnTo>
                      <a:pt x="877" y="781"/>
                    </a:lnTo>
                    <a:lnTo>
                      <a:pt x="810" y="772"/>
                    </a:lnTo>
                    <a:lnTo>
                      <a:pt x="746" y="762"/>
                    </a:lnTo>
                    <a:lnTo>
                      <a:pt x="683" y="751"/>
                    </a:lnTo>
                    <a:lnTo>
                      <a:pt x="622" y="739"/>
                    </a:lnTo>
                    <a:lnTo>
                      <a:pt x="564" y="727"/>
                    </a:lnTo>
                    <a:lnTo>
                      <a:pt x="507" y="714"/>
                    </a:lnTo>
                    <a:lnTo>
                      <a:pt x="454" y="699"/>
                    </a:lnTo>
                    <a:lnTo>
                      <a:pt x="402" y="685"/>
                    </a:lnTo>
                    <a:lnTo>
                      <a:pt x="354" y="670"/>
                    </a:lnTo>
                    <a:lnTo>
                      <a:pt x="308" y="654"/>
                    </a:lnTo>
                    <a:lnTo>
                      <a:pt x="265" y="638"/>
                    </a:lnTo>
                    <a:lnTo>
                      <a:pt x="224" y="621"/>
                    </a:lnTo>
                    <a:lnTo>
                      <a:pt x="187" y="603"/>
                    </a:lnTo>
                    <a:lnTo>
                      <a:pt x="153" y="584"/>
                    </a:lnTo>
                    <a:lnTo>
                      <a:pt x="122" y="566"/>
                    </a:lnTo>
                    <a:lnTo>
                      <a:pt x="94" y="547"/>
                    </a:lnTo>
                    <a:lnTo>
                      <a:pt x="70" y="528"/>
                    </a:lnTo>
                    <a:lnTo>
                      <a:pt x="49" y="508"/>
                    </a:lnTo>
                    <a:lnTo>
                      <a:pt x="32" y="487"/>
                    </a:lnTo>
                    <a:lnTo>
                      <a:pt x="18" y="466"/>
                    </a:lnTo>
                    <a:lnTo>
                      <a:pt x="8" y="445"/>
                    </a:lnTo>
                    <a:lnTo>
                      <a:pt x="2" y="424"/>
                    </a:lnTo>
                    <a:lnTo>
                      <a:pt x="0" y="403"/>
                    </a:lnTo>
                    <a:lnTo>
                      <a:pt x="2" y="381"/>
                    </a:lnTo>
                    <a:lnTo>
                      <a:pt x="8" y="360"/>
                    </a:lnTo>
                    <a:lnTo>
                      <a:pt x="18" y="339"/>
                    </a:lnTo>
                    <a:lnTo>
                      <a:pt x="32" y="319"/>
                    </a:lnTo>
                    <a:lnTo>
                      <a:pt x="49" y="299"/>
                    </a:lnTo>
                    <a:lnTo>
                      <a:pt x="70" y="280"/>
                    </a:lnTo>
                    <a:lnTo>
                      <a:pt x="94" y="260"/>
                    </a:lnTo>
                    <a:lnTo>
                      <a:pt x="122" y="242"/>
                    </a:lnTo>
                    <a:lnTo>
                      <a:pt x="153" y="224"/>
                    </a:lnTo>
                    <a:lnTo>
                      <a:pt x="187" y="207"/>
                    </a:lnTo>
                    <a:lnTo>
                      <a:pt x="224" y="190"/>
                    </a:lnTo>
                    <a:lnTo>
                      <a:pt x="265" y="174"/>
                    </a:lnTo>
                    <a:lnTo>
                      <a:pt x="308" y="157"/>
                    </a:lnTo>
                    <a:lnTo>
                      <a:pt x="354" y="142"/>
                    </a:lnTo>
                    <a:lnTo>
                      <a:pt x="402" y="128"/>
                    </a:lnTo>
                    <a:lnTo>
                      <a:pt x="454" y="114"/>
                    </a:lnTo>
                    <a:lnTo>
                      <a:pt x="507" y="101"/>
                    </a:lnTo>
                    <a:lnTo>
                      <a:pt x="564" y="89"/>
                    </a:lnTo>
                    <a:lnTo>
                      <a:pt x="622" y="78"/>
                    </a:lnTo>
                    <a:lnTo>
                      <a:pt x="683" y="67"/>
                    </a:lnTo>
                    <a:lnTo>
                      <a:pt x="746" y="56"/>
                    </a:lnTo>
                    <a:lnTo>
                      <a:pt x="810" y="46"/>
                    </a:lnTo>
                    <a:lnTo>
                      <a:pt x="877" y="38"/>
                    </a:lnTo>
                    <a:lnTo>
                      <a:pt x="946" y="30"/>
                    </a:lnTo>
                    <a:lnTo>
                      <a:pt x="1016" y="23"/>
                    </a:lnTo>
                    <a:lnTo>
                      <a:pt x="1088" y="17"/>
                    </a:lnTo>
                    <a:lnTo>
                      <a:pt x="1162" y="12"/>
                    </a:lnTo>
                    <a:lnTo>
                      <a:pt x="1236" y="8"/>
                    </a:lnTo>
                    <a:lnTo>
                      <a:pt x="1313" y="5"/>
                    </a:lnTo>
                    <a:lnTo>
                      <a:pt x="1390" y="2"/>
                    </a:lnTo>
                    <a:lnTo>
                      <a:pt x="1469" y="1"/>
                    </a:lnTo>
                    <a:lnTo>
                      <a:pt x="1548" y="0"/>
                    </a:lnTo>
                    <a:lnTo>
                      <a:pt x="1628" y="1"/>
                    </a:lnTo>
                    <a:lnTo>
                      <a:pt x="1707" y="2"/>
                    </a:lnTo>
                    <a:lnTo>
                      <a:pt x="1785" y="5"/>
                    </a:lnTo>
                    <a:lnTo>
                      <a:pt x="1861" y="8"/>
                    </a:lnTo>
                    <a:lnTo>
                      <a:pt x="1935" y="12"/>
                    </a:lnTo>
                    <a:lnTo>
                      <a:pt x="2009" y="17"/>
                    </a:lnTo>
                    <a:lnTo>
                      <a:pt x="2081" y="23"/>
                    </a:lnTo>
                    <a:lnTo>
                      <a:pt x="2151" y="30"/>
                    </a:lnTo>
                    <a:lnTo>
                      <a:pt x="2220" y="38"/>
                    </a:lnTo>
                    <a:lnTo>
                      <a:pt x="2287" y="46"/>
                    </a:lnTo>
                    <a:lnTo>
                      <a:pt x="2351" y="56"/>
                    </a:lnTo>
                    <a:lnTo>
                      <a:pt x="2414" y="67"/>
                    </a:lnTo>
                    <a:lnTo>
                      <a:pt x="2475" y="78"/>
                    </a:lnTo>
                    <a:lnTo>
                      <a:pt x="2533" y="89"/>
                    </a:lnTo>
                    <a:lnTo>
                      <a:pt x="2590" y="101"/>
                    </a:lnTo>
                    <a:lnTo>
                      <a:pt x="2643" y="114"/>
                    </a:lnTo>
                    <a:lnTo>
                      <a:pt x="2695" y="128"/>
                    </a:lnTo>
                    <a:lnTo>
                      <a:pt x="2743" y="142"/>
                    </a:lnTo>
                    <a:lnTo>
                      <a:pt x="2789" y="157"/>
                    </a:lnTo>
                    <a:lnTo>
                      <a:pt x="2832" y="174"/>
                    </a:lnTo>
                    <a:lnTo>
                      <a:pt x="2872" y="190"/>
                    </a:lnTo>
                    <a:lnTo>
                      <a:pt x="2910" y="207"/>
                    </a:lnTo>
                    <a:lnTo>
                      <a:pt x="2944" y="224"/>
                    </a:lnTo>
                    <a:lnTo>
                      <a:pt x="2976" y="242"/>
                    </a:lnTo>
                    <a:lnTo>
                      <a:pt x="3003" y="260"/>
                    </a:lnTo>
                    <a:lnTo>
                      <a:pt x="3027" y="280"/>
                    </a:lnTo>
                    <a:lnTo>
                      <a:pt x="3048" y="299"/>
                    </a:lnTo>
                    <a:lnTo>
                      <a:pt x="3065" y="319"/>
                    </a:lnTo>
                    <a:lnTo>
                      <a:pt x="3079" y="339"/>
                    </a:lnTo>
                    <a:lnTo>
                      <a:pt x="3089" y="360"/>
                    </a:lnTo>
                    <a:lnTo>
                      <a:pt x="3095" y="381"/>
                    </a:lnTo>
                    <a:lnTo>
                      <a:pt x="3097" y="4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119680" y="6529320"/>
                <a:ext cx="342360" cy="96840"/>
              </a:xfrm>
              <a:custGeom>
                <a:avLst/>
                <a:gdLst/>
                <a:ahLst/>
                <a:rect l="l" t="t" r="r" b="b"/>
                <a:pathLst>
                  <a:path w="3094" h="821">
                    <a:moveTo>
                      <a:pt x="3094" y="402"/>
                    </a:moveTo>
                    <a:lnTo>
                      <a:pt x="3092" y="423"/>
                    </a:lnTo>
                    <a:lnTo>
                      <a:pt x="3086" y="444"/>
                    </a:lnTo>
                    <a:lnTo>
                      <a:pt x="3076" y="465"/>
                    </a:lnTo>
                    <a:lnTo>
                      <a:pt x="3061" y="486"/>
                    </a:lnTo>
                    <a:lnTo>
                      <a:pt x="3044" y="507"/>
                    </a:lnTo>
                    <a:lnTo>
                      <a:pt x="3024" y="526"/>
                    </a:lnTo>
                    <a:lnTo>
                      <a:pt x="3000" y="546"/>
                    </a:lnTo>
                    <a:lnTo>
                      <a:pt x="2971" y="565"/>
                    </a:lnTo>
                    <a:lnTo>
                      <a:pt x="2940" y="583"/>
                    </a:lnTo>
                    <a:lnTo>
                      <a:pt x="2907" y="602"/>
                    </a:lnTo>
                    <a:lnTo>
                      <a:pt x="2869" y="619"/>
                    </a:lnTo>
                    <a:lnTo>
                      <a:pt x="2829" y="636"/>
                    </a:lnTo>
                    <a:lnTo>
                      <a:pt x="2786" y="652"/>
                    </a:lnTo>
                    <a:lnTo>
                      <a:pt x="2740" y="668"/>
                    </a:lnTo>
                    <a:lnTo>
                      <a:pt x="2692" y="683"/>
                    </a:lnTo>
                    <a:lnTo>
                      <a:pt x="2640" y="698"/>
                    </a:lnTo>
                    <a:lnTo>
                      <a:pt x="2587" y="712"/>
                    </a:lnTo>
                    <a:lnTo>
                      <a:pt x="2530" y="725"/>
                    </a:lnTo>
                    <a:lnTo>
                      <a:pt x="2472" y="738"/>
                    </a:lnTo>
                    <a:lnTo>
                      <a:pt x="2411" y="749"/>
                    </a:lnTo>
                    <a:lnTo>
                      <a:pt x="2348" y="760"/>
                    </a:lnTo>
                    <a:lnTo>
                      <a:pt x="2284" y="770"/>
                    </a:lnTo>
                    <a:lnTo>
                      <a:pt x="2217" y="779"/>
                    </a:lnTo>
                    <a:lnTo>
                      <a:pt x="2148" y="788"/>
                    </a:lnTo>
                    <a:lnTo>
                      <a:pt x="2079" y="795"/>
                    </a:lnTo>
                    <a:lnTo>
                      <a:pt x="2006" y="801"/>
                    </a:lnTo>
                    <a:lnTo>
                      <a:pt x="1933" y="807"/>
                    </a:lnTo>
                    <a:lnTo>
                      <a:pt x="1859" y="812"/>
                    </a:lnTo>
                    <a:lnTo>
                      <a:pt x="1782" y="816"/>
                    </a:lnTo>
                    <a:lnTo>
                      <a:pt x="1705" y="819"/>
                    </a:lnTo>
                    <a:lnTo>
                      <a:pt x="1626" y="821"/>
                    </a:lnTo>
                    <a:lnTo>
                      <a:pt x="1546" y="821"/>
                    </a:lnTo>
                    <a:lnTo>
                      <a:pt x="1467" y="821"/>
                    </a:lnTo>
                    <a:lnTo>
                      <a:pt x="1388" y="819"/>
                    </a:lnTo>
                    <a:lnTo>
                      <a:pt x="1311" y="816"/>
                    </a:lnTo>
                    <a:lnTo>
                      <a:pt x="1234" y="812"/>
                    </a:lnTo>
                    <a:lnTo>
                      <a:pt x="1160" y="807"/>
                    </a:lnTo>
                    <a:lnTo>
                      <a:pt x="1087" y="801"/>
                    </a:lnTo>
                    <a:lnTo>
                      <a:pt x="1014" y="795"/>
                    </a:lnTo>
                    <a:lnTo>
                      <a:pt x="945" y="788"/>
                    </a:lnTo>
                    <a:lnTo>
                      <a:pt x="876" y="779"/>
                    </a:lnTo>
                    <a:lnTo>
                      <a:pt x="809" y="770"/>
                    </a:lnTo>
                    <a:lnTo>
                      <a:pt x="745" y="760"/>
                    </a:lnTo>
                    <a:lnTo>
                      <a:pt x="682" y="749"/>
                    </a:lnTo>
                    <a:lnTo>
                      <a:pt x="621" y="738"/>
                    </a:lnTo>
                    <a:lnTo>
                      <a:pt x="563" y="725"/>
                    </a:lnTo>
                    <a:lnTo>
                      <a:pt x="506" y="712"/>
                    </a:lnTo>
                    <a:lnTo>
                      <a:pt x="453" y="698"/>
                    </a:lnTo>
                    <a:lnTo>
                      <a:pt x="401" y="683"/>
                    </a:lnTo>
                    <a:lnTo>
                      <a:pt x="353" y="668"/>
                    </a:lnTo>
                    <a:lnTo>
                      <a:pt x="307" y="652"/>
                    </a:lnTo>
                    <a:lnTo>
                      <a:pt x="264" y="636"/>
                    </a:lnTo>
                    <a:lnTo>
                      <a:pt x="223" y="619"/>
                    </a:lnTo>
                    <a:lnTo>
                      <a:pt x="186" y="602"/>
                    </a:lnTo>
                    <a:lnTo>
                      <a:pt x="153" y="583"/>
                    </a:lnTo>
                    <a:lnTo>
                      <a:pt x="121" y="565"/>
                    </a:lnTo>
                    <a:lnTo>
                      <a:pt x="94" y="546"/>
                    </a:lnTo>
                    <a:lnTo>
                      <a:pt x="69" y="526"/>
                    </a:lnTo>
                    <a:lnTo>
                      <a:pt x="49" y="507"/>
                    </a:lnTo>
                    <a:lnTo>
                      <a:pt x="32" y="486"/>
                    </a:lnTo>
                    <a:lnTo>
                      <a:pt x="17" y="465"/>
                    </a:lnTo>
                    <a:lnTo>
                      <a:pt x="8" y="444"/>
                    </a:lnTo>
                    <a:lnTo>
                      <a:pt x="2" y="423"/>
                    </a:lnTo>
                    <a:lnTo>
                      <a:pt x="0" y="402"/>
                    </a:lnTo>
                    <a:lnTo>
                      <a:pt x="2" y="380"/>
                    </a:lnTo>
                    <a:lnTo>
                      <a:pt x="8" y="359"/>
                    </a:lnTo>
                    <a:lnTo>
                      <a:pt x="17" y="338"/>
                    </a:lnTo>
                    <a:lnTo>
                      <a:pt x="32" y="318"/>
                    </a:lnTo>
                    <a:lnTo>
                      <a:pt x="49" y="298"/>
                    </a:lnTo>
                    <a:lnTo>
                      <a:pt x="69" y="279"/>
                    </a:lnTo>
                    <a:lnTo>
                      <a:pt x="94" y="259"/>
                    </a:lnTo>
                    <a:lnTo>
                      <a:pt x="121" y="241"/>
                    </a:lnTo>
                    <a:lnTo>
                      <a:pt x="153" y="223"/>
                    </a:lnTo>
                    <a:lnTo>
                      <a:pt x="186" y="206"/>
                    </a:lnTo>
                    <a:lnTo>
                      <a:pt x="223" y="189"/>
                    </a:lnTo>
                    <a:lnTo>
                      <a:pt x="264" y="173"/>
                    </a:lnTo>
                    <a:lnTo>
                      <a:pt x="307" y="157"/>
                    </a:lnTo>
                    <a:lnTo>
                      <a:pt x="353" y="142"/>
                    </a:lnTo>
                    <a:lnTo>
                      <a:pt x="401" y="128"/>
                    </a:lnTo>
                    <a:lnTo>
                      <a:pt x="453" y="114"/>
                    </a:lnTo>
                    <a:lnTo>
                      <a:pt x="506" y="101"/>
                    </a:lnTo>
                    <a:lnTo>
                      <a:pt x="563" y="89"/>
                    </a:lnTo>
                    <a:lnTo>
                      <a:pt x="621" y="77"/>
                    </a:lnTo>
                    <a:lnTo>
                      <a:pt x="682" y="67"/>
                    </a:lnTo>
                    <a:lnTo>
                      <a:pt x="745" y="56"/>
                    </a:lnTo>
                    <a:lnTo>
                      <a:pt x="809" y="46"/>
                    </a:lnTo>
                    <a:lnTo>
                      <a:pt x="876" y="38"/>
                    </a:lnTo>
                    <a:lnTo>
                      <a:pt x="945" y="30"/>
                    </a:lnTo>
                    <a:lnTo>
                      <a:pt x="1014" y="23"/>
                    </a:lnTo>
                    <a:lnTo>
                      <a:pt x="1087" y="17"/>
                    </a:lnTo>
                    <a:lnTo>
                      <a:pt x="1160" y="12"/>
                    </a:lnTo>
                    <a:lnTo>
                      <a:pt x="1234" y="8"/>
                    </a:lnTo>
                    <a:lnTo>
                      <a:pt x="1311" y="5"/>
                    </a:lnTo>
                    <a:lnTo>
                      <a:pt x="1388" y="2"/>
                    </a:lnTo>
                    <a:lnTo>
                      <a:pt x="1467" y="1"/>
                    </a:lnTo>
                    <a:lnTo>
                      <a:pt x="1546" y="0"/>
                    </a:lnTo>
                    <a:lnTo>
                      <a:pt x="1626" y="1"/>
                    </a:lnTo>
                    <a:lnTo>
                      <a:pt x="1705" y="2"/>
                    </a:lnTo>
                    <a:lnTo>
                      <a:pt x="1782" y="5"/>
                    </a:lnTo>
                    <a:lnTo>
                      <a:pt x="1859" y="8"/>
                    </a:lnTo>
                    <a:lnTo>
                      <a:pt x="1933" y="12"/>
                    </a:lnTo>
                    <a:lnTo>
                      <a:pt x="2006" y="17"/>
                    </a:lnTo>
                    <a:lnTo>
                      <a:pt x="2079" y="23"/>
                    </a:lnTo>
                    <a:lnTo>
                      <a:pt x="2148" y="30"/>
                    </a:lnTo>
                    <a:lnTo>
                      <a:pt x="2217" y="38"/>
                    </a:lnTo>
                    <a:lnTo>
                      <a:pt x="2284" y="46"/>
                    </a:lnTo>
                    <a:lnTo>
                      <a:pt x="2348" y="56"/>
                    </a:lnTo>
                    <a:lnTo>
                      <a:pt x="2411" y="67"/>
                    </a:lnTo>
                    <a:lnTo>
                      <a:pt x="2472" y="77"/>
                    </a:lnTo>
                    <a:lnTo>
                      <a:pt x="2530" y="89"/>
                    </a:lnTo>
                    <a:lnTo>
                      <a:pt x="2587" y="101"/>
                    </a:lnTo>
                    <a:lnTo>
                      <a:pt x="2640" y="114"/>
                    </a:lnTo>
                    <a:lnTo>
                      <a:pt x="2692" y="128"/>
                    </a:lnTo>
                    <a:lnTo>
                      <a:pt x="2740" y="142"/>
                    </a:lnTo>
                    <a:lnTo>
                      <a:pt x="2786" y="157"/>
                    </a:lnTo>
                    <a:lnTo>
                      <a:pt x="2829" y="173"/>
                    </a:lnTo>
                    <a:lnTo>
                      <a:pt x="2869" y="189"/>
                    </a:lnTo>
                    <a:lnTo>
                      <a:pt x="2907" y="206"/>
                    </a:lnTo>
                    <a:lnTo>
                      <a:pt x="2940" y="223"/>
                    </a:lnTo>
                    <a:lnTo>
                      <a:pt x="2971" y="241"/>
                    </a:lnTo>
                    <a:lnTo>
                      <a:pt x="3000" y="259"/>
                    </a:lnTo>
                    <a:lnTo>
                      <a:pt x="3024" y="279"/>
                    </a:lnTo>
                    <a:lnTo>
                      <a:pt x="3044" y="298"/>
                    </a:lnTo>
                    <a:lnTo>
                      <a:pt x="3061" y="318"/>
                    </a:lnTo>
                    <a:lnTo>
                      <a:pt x="3076" y="338"/>
                    </a:lnTo>
                    <a:lnTo>
                      <a:pt x="3086" y="359"/>
                    </a:lnTo>
                    <a:lnTo>
                      <a:pt x="3092" y="380"/>
                    </a:lnTo>
                    <a:lnTo>
                      <a:pt x="3094" y="4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119680" y="6529320"/>
                <a:ext cx="340920" cy="96840"/>
              </a:xfrm>
              <a:custGeom>
                <a:avLst/>
                <a:gdLst/>
                <a:ahLst/>
                <a:rect l="l" t="t" r="r" b="b"/>
                <a:pathLst>
                  <a:path w="3091" h="819">
                    <a:moveTo>
                      <a:pt x="3091" y="401"/>
                    </a:moveTo>
                    <a:lnTo>
                      <a:pt x="3089" y="422"/>
                    </a:lnTo>
                    <a:lnTo>
                      <a:pt x="3083" y="443"/>
                    </a:lnTo>
                    <a:lnTo>
                      <a:pt x="3072" y="464"/>
                    </a:lnTo>
                    <a:lnTo>
                      <a:pt x="3059" y="484"/>
                    </a:lnTo>
                    <a:lnTo>
                      <a:pt x="3042" y="505"/>
                    </a:lnTo>
                    <a:lnTo>
                      <a:pt x="3021" y="525"/>
                    </a:lnTo>
                    <a:lnTo>
                      <a:pt x="2997" y="544"/>
                    </a:lnTo>
                    <a:lnTo>
                      <a:pt x="2969" y="563"/>
                    </a:lnTo>
                    <a:lnTo>
                      <a:pt x="2938" y="582"/>
                    </a:lnTo>
                    <a:lnTo>
                      <a:pt x="2904" y="600"/>
                    </a:lnTo>
                    <a:lnTo>
                      <a:pt x="2867" y="618"/>
                    </a:lnTo>
                    <a:lnTo>
                      <a:pt x="2827" y="635"/>
                    </a:lnTo>
                    <a:lnTo>
                      <a:pt x="2784" y="651"/>
                    </a:lnTo>
                    <a:lnTo>
                      <a:pt x="2738" y="666"/>
                    </a:lnTo>
                    <a:lnTo>
                      <a:pt x="2690" y="681"/>
                    </a:lnTo>
                    <a:lnTo>
                      <a:pt x="2638" y="696"/>
                    </a:lnTo>
                    <a:lnTo>
                      <a:pt x="2585" y="711"/>
                    </a:lnTo>
                    <a:lnTo>
                      <a:pt x="2528" y="724"/>
                    </a:lnTo>
                    <a:lnTo>
                      <a:pt x="2470" y="736"/>
                    </a:lnTo>
                    <a:lnTo>
                      <a:pt x="2410" y="747"/>
                    </a:lnTo>
                    <a:lnTo>
                      <a:pt x="2346" y="758"/>
                    </a:lnTo>
                    <a:lnTo>
                      <a:pt x="2282" y="768"/>
                    </a:lnTo>
                    <a:lnTo>
                      <a:pt x="2215" y="777"/>
                    </a:lnTo>
                    <a:lnTo>
                      <a:pt x="2147" y="786"/>
                    </a:lnTo>
                    <a:lnTo>
                      <a:pt x="2077" y="793"/>
                    </a:lnTo>
                    <a:lnTo>
                      <a:pt x="2005" y="800"/>
                    </a:lnTo>
                    <a:lnTo>
                      <a:pt x="1931" y="805"/>
                    </a:lnTo>
                    <a:lnTo>
                      <a:pt x="1857" y="810"/>
                    </a:lnTo>
                    <a:lnTo>
                      <a:pt x="1781" y="814"/>
                    </a:lnTo>
                    <a:lnTo>
                      <a:pt x="1703" y="817"/>
                    </a:lnTo>
                    <a:lnTo>
                      <a:pt x="1625" y="819"/>
                    </a:lnTo>
                    <a:lnTo>
                      <a:pt x="1545" y="819"/>
                    </a:lnTo>
                    <a:lnTo>
                      <a:pt x="1466" y="819"/>
                    </a:lnTo>
                    <a:lnTo>
                      <a:pt x="1388" y="817"/>
                    </a:lnTo>
                    <a:lnTo>
                      <a:pt x="1310" y="814"/>
                    </a:lnTo>
                    <a:lnTo>
                      <a:pt x="1234" y="810"/>
                    </a:lnTo>
                    <a:lnTo>
                      <a:pt x="1160" y="805"/>
                    </a:lnTo>
                    <a:lnTo>
                      <a:pt x="1086" y="800"/>
                    </a:lnTo>
                    <a:lnTo>
                      <a:pt x="1014" y="793"/>
                    </a:lnTo>
                    <a:lnTo>
                      <a:pt x="944" y="786"/>
                    </a:lnTo>
                    <a:lnTo>
                      <a:pt x="876" y="777"/>
                    </a:lnTo>
                    <a:lnTo>
                      <a:pt x="809" y="768"/>
                    </a:lnTo>
                    <a:lnTo>
                      <a:pt x="745" y="758"/>
                    </a:lnTo>
                    <a:lnTo>
                      <a:pt x="682" y="747"/>
                    </a:lnTo>
                    <a:lnTo>
                      <a:pt x="621" y="736"/>
                    </a:lnTo>
                    <a:lnTo>
                      <a:pt x="563" y="724"/>
                    </a:lnTo>
                    <a:lnTo>
                      <a:pt x="506" y="711"/>
                    </a:lnTo>
                    <a:lnTo>
                      <a:pt x="453" y="696"/>
                    </a:lnTo>
                    <a:lnTo>
                      <a:pt x="401" y="681"/>
                    </a:lnTo>
                    <a:lnTo>
                      <a:pt x="353" y="666"/>
                    </a:lnTo>
                    <a:lnTo>
                      <a:pt x="307" y="651"/>
                    </a:lnTo>
                    <a:lnTo>
                      <a:pt x="264" y="635"/>
                    </a:lnTo>
                    <a:lnTo>
                      <a:pt x="224" y="618"/>
                    </a:lnTo>
                    <a:lnTo>
                      <a:pt x="187" y="600"/>
                    </a:lnTo>
                    <a:lnTo>
                      <a:pt x="153" y="582"/>
                    </a:lnTo>
                    <a:lnTo>
                      <a:pt x="121" y="563"/>
                    </a:lnTo>
                    <a:lnTo>
                      <a:pt x="94" y="544"/>
                    </a:lnTo>
                    <a:lnTo>
                      <a:pt x="70" y="525"/>
                    </a:lnTo>
                    <a:lnTo>
                      <a:pt x="49" y="505"/>
                    </a:lnTo>
                    <a:lnTo>
                      <a:pt x="32" y="484"/>
                    </a:lnTo>
                    <a:lnTo>
                      <a:pt x="18" y="464"/>
                    </a:lnTo>
                    <a:lnTo>
                      <a:pt x="8" y="443"/>
                    </a:lnTo>
                    <a:lnTo>
                      <a:pt x="2" y="422"/>
                    </a:lnTo>
                    <a:lnTo>
                      <a:pt x="0" y="401"/>
                    </a:lnTo>
                    <a:lnTo>
                      <a:pt x="2" y="379"/>
                    </a:lnTo>
                    <a:lnTo>
                      <a:pt x="8" y="358"/>
                    </a:lnTo>
                    <a:lnTo>
                      <a:pt x="18" y="337"/>
                    </a:lnTo>
                    <a:lnTo>
                      <a:pt x="32" y="317"/>
                    </a:lnTo>
                    <a:lnTo>
                      <a:pt x="49" y="298"/>
                    </a:lnTo>
                    <a:lnTo>
                      <a:pt x="70" y="278"/>
                    </a:lnTo>
                    <a:lnTo>
                      <a:pt x="94" y="259"/>
                    </a:lnTo>
                    <a:lnTo>
                      <a:pt x="121" y="240"/>
                    </a:lnTo>
                    <a:lnTo>
                      <a:pt x="153" y="223"/>
                    </a:lnTo>
                    <a:lnTo>
                      <a:pt x="187" y="206"/>
                    </a:lnTo>
                    <a:lnTo>
                      <a:pt x="224" y="189"/>
                    </a:lnTo>
                    <a:lnTo>
                      <a:pt x="264" y="173"/>
                    </a:lnTo>
                    <a:lnTo>
                      <a:pt x="307" y="156"/>
                    </a:lnTo>
                    <a:lnTo>
                      <a:pt x="353" y="142"/>
                    </a:lnTo>
                    <a:lnTo>
                      <a:pt x="401" y="127"/>
                    </a:lnTo>
                    <a:lnTo>
                      <a:pt x="453" y="114"/>
                    </a:lnTo>
                    <a:lnTo>
                      <a:pt x="506" y="101"/>
                    </a:lnTo>
                    <a:lnTo>
                      <a:pt x="563" y="89"/>
                    </a:lnTo>
                    <a:lnTo>
                      <a:pt x="621" y="77"/>
                    </a:lnTo>
                    <a:lnTo>
                      <a:pt x="682" y="66"/>
                    </a:lnTo>
                    <a:lnTo>
                      <a:pt x="745" y="55"/>
                    </a:lnTo>
                    <a:lnTo>
                      <a:pt x="809" y="46"/>
                    </a:lnTo>
                    <a:lnTo>
                      <a:pt x="876" y="38"/>
                    </a:lnTo>
                    <a:lnTo>
                      <a:pt x="944" y="30"/>
                    </a:lnTo>
                    <a:lnTo>
                      <a:pt x="1014" y="23"/>
                    </a:lnTo>
                    <a:lnTo>
                      <a:pt x="1086" y="17"/>
                    </a:lnTo>
                    <a:lnTo>
                      <a:pt x="1160" y="12"/>
                    </a:lnTo>
                    <a:lnTo>
                      <a:pt x="1234" y="8"/>
                    </a:lnTo>
                    <a:lnTo>
                      <a:pt x="1310" y="4"/>
                    </a:lnTo>
                    <a:lnTo>
                      <a:pt x="1388" y="2"/>
                    </a:lnTo>
                    <a:lnTo>
                      <a:pt x="1466" y="1"/>
                    </a:lnTo>
                    <a:lnTo>
                      <a:pt x="1545" y="0"/>
                    </a:lnTo>
                    <a:lnTo>
                      <a:pt x="1625" y="1"/>
                    </a:lnTo>
                    <a:lnTo>
                      <a:pt x="1703" y="2"/>
                    </a:lnTo>
                    <a:lnTo>
                      <a:pt x="1781" y="4"/>
                    </a:lnTo>
                    <a:lnTo>
                      <a:pt x="1857" y="8"/>
                    </a:lnTo>
                    <a:lnTo>
                      <a:pt x="1931" y="12"/>
                    </a:lnTo>
                    <a:lnTo>
                      <a:pt x="2005" y="17"/>
                    </a:lnTo>
                    <a:lnTo>
                      <a:pt x="2077" y="23"/>
                    </a:lnTo>
                    <a:lnTo>
                      <a:pt x="2147" y="30"/>
                    </a:lnTo>
                    <a:lnTo>
                      <a:pt x="2215" y="38"/>
                    </a:lnTo>
                    <a:lnTo>
                      <a:pt x="2282" y="46"/>
                    </a:lnTo>
                    <a:lnTo>
                      <a:pt x="2346" y="55"/>
                    </a:lnTo>
                    <a:lnTo>
                      <a:pt x="2410" y="66"/>
                    </a:lnTo>
                    <a:lnTo>
                      <a:pt x="2470" y="77"/>
                    </a:lnTo>
                    <a:lnTo>
                      <a:pt x="2528" y="89"/>
                    </a:lnTo>
                    <a:lnTo>
                      <a:pt x="2585" y="101"/>
                    </a:lnTo>
                    <a:lnTo>
                      <a:pt x="2638" y="114"/>
                    </a:lnTo>
                    <a:lnTo>
                      <a:pt x="2690" y="127"/>
                    </a:lnTo>
                    <a:lnTo>
                      <a:pt x="2738" y="142"/>
                    </a:lnTo>
                    <a:lnTo>
                      <a:pt x="2784" y="156"/>
                    </a:lnTo>
                    <a:lnTo>
                      <a:pt x="2827" y="173"/>
                    </a:lnTo>
                    <a:lnTo>
                      <a:pt x="2867" y="189"/>
                    </a:lnTo>
                    <a:lnTo>
                      <a:pt x="2904" y="206"/>
                    </a:lnTo>
                    <a:lnTo>
                      <a:pt x="2938" y="223"/>
                    </a:lnTo>
                    <a:lnTo>
                      <a:pt x="2969" y="240"/>
                    </a:lnTo>
                    <a:lnTo>
                      <a:pt x="2997" y="259"/>
                    </a:lnTo>
                    <a:lnTo>
                      <a:pt x="3021" y="278"/>
                    </a:lnTo>
                    <a:lnTo>
                      <a:pt x="3042" y="298"/>
                    </a:lnTo>
                    <a:lnTo>
                      <a:pt x="3059" y="317"/>
                    </a:lnTo>
                    <a:lnTo>
                      <a:pt x="3072" y="337"/>
                    </a:lnTo>
                    <a:lnTo>
                      <a:pt x="3083" y="358"/>
                    </a:lnTo>
                    <a:lnTo>
                      <a:pt x="3089" y="379"/>
                    </a:lnTo>
                    <a:lnTo>
                      <a:pt x="3091" y="4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120760" y="6529320"/>
                <a:ext cx="339840" cy="96840"/>
              </a:xfrm>
              <a:custGeom>
                <a:avLst/>
                <a:gdLst/>
                <a:ahLst/>
                <a:rect l="l" t="t" r="r" b="b"/>
                <a:pathLst>
                  <a:path w="3089" h="817">
                    <a:moveTo>
                      <a:pt x="3089" y="400"/>
                    </a:moveTo>
                    <a:lnTo>
                      <a:pt x="3087" y="421"/>
                    </a:lnTo>
                    <a:lnTo>
                      <a:pt x="3081" y="442"/>
                    </a:lnTo>
                    <a:lnTo>
                      <a:pt x="3070" y="463"/>
                    </a:lnTo>
                    <a:lnTo>
                      <a:pt x="3057" y="483"/>
                    </a:lnTo>
                    <a:lnTo>
                      <a:pt x="3040" y="504"/>
                    </a:lnTo>
                    <a:lnTo>
                      <a:pt x="3019" y="524"/>
                    </a:lnTo>
                    <a:lnTo>
                      <a:pt x="2995" y="543"/>
                    </a:lnTo>
                    <a:lnTo>
                      <a:pt x="2967" y="562"/>
                    </a:lnTo>
                    <a:lnTo>
                      <a:pt x="2936" y="580"/>
                    </a:lnTo>
                    <a:lnTo>
                      <a:pt x="2902" y="599"/>
                    </a:lnTo>
                    <a:lnTo>
                      <a:pt x="2864" y="616"/>
                    </a:lnTo>
                    <a:lnTo>
                      <a:pt x="2825" y="633"/>
                    </a:lnTo>
                    <a:lnTo>
                      <a:pt x="2782" y="649"/>
                    </a:lnTo>
                    <a:lnTo>
                      <a:pt x="2736" y="665"/>
                    </a:lnTo>
                    <a:lnTo>
                      <a:pt x="2688" y="680"/>
                    </a:lnTo>
                    <a:lnTo>
                      <a:pt x="2636" y="694"/>
                    </a:lnTo>
                    <a:lnTo>
                      <a:pt x="2583" y="709"/>
                    </a:lnTo>
                    <a:lnTo>
                      <a:pt x="2526" y="722"/>
                    </a:lnTo>
                    <a:lnTo>
                      <a:pt x="2469" y="734"/>
                    </a:lnTo>
                    <a:lnTo>
                      <a:pt x="2408" y="746"/>
                    </a:lnTo>
                    <a:lnTo>
                      <a:pt x="2345" y="756"/>
                    </a:lnTo>
                    <a:lnTo>
                      <a:pt x="2281" y="766"/>
                    </a:lnTo>
                    <a:lnTo>
                      <a:pt x="2214" y="776"/>
                    </a:lnTo>
                    <a:lnTo>
                      <a:pt x="2145" y="784"/>
                    </a:lnTo>
                    <a:lnTo>
                      <a:pt x="2076" y="791"/>
                    </a:lnTo>
                    <a:lnTo>
                      <a:pt x="2004" y="798"/>
                    </a:lnTo>
                    <a:lnTo>
                      <a:pt x="1930" y="803"/>
                    </a:lnTo>
                    <a:lnTo>
                      <a:pt x="1856" y="808"/>
                    </a:lnTo>
                    <a:lnTo>
                      <a:pt x="1780" y="813"/>
                    </a:lnTo>
                    <a:lnTo>
                      <a:pt x="1702" y="815"/>
                    </a:lnTo>
                    <a:lnTo>
                      <a:pt x="1624" y="817"/>
                    </a:lnTo>
                    <a:lnTo>
                      <a:pt x="1544" y="817"/>
                    </a:lnTo>
                    <a:lnTo>
                      <a:pt x="1465" y="817"/>
                    </a:lnTo>
                    <a:lnTo>
                      <a:pt x="1387" y="815"/>
                    </a:lnTo>
                    <a:lnTo>
                      <a:pt x="1309" y="813"/>
                    </a:lnTo>
                    <a:lnTo>
                      <a:pt x="1233" y="808"/>
                    </a:lnTo>
                    <a:lnTo>
                      <a:pt x="1159" y="803"/>
                    </a:lnTo>
                    <a:lnTo>
                      <a:pt x="1085" y="798"/>
                    </a:lnTo>
                    <a:lnTo>
                      <a:pt x="1013" y="791"/>
                    </a:lnTo>
                    <a:lnTo>
                      <a:pt x="944" y="784"/>
                    </a:lnTo>
                    <a:lnTo>
                      <a:pt x="875" y="776"/>
                    </a:lnTo>
                    <a:lnTo>
                      <a:pt x="808" y="766"/>
                    </a:lnTo>
                    <a:lnTo>
                      <a:pt x="744" y="756"/>
                    </a:lnTo>
                    <a:lnTo>
                      <a:pt x="681" y="746"/>
                    </a:lnTo>
                    <a:lnTo>
                      <a:pt x="620" y="734"/>
                    </a:lnTo>
                    <a:lnTo>
                      <a:pt x="563" y="722"/>
                    </a:lnTo>
                    <a:lnTo>
                      <a:pt x="506" y="709"/>
                    </a:lnTo>
                    <a:lnTo>
                      <a:pt x="453" y="694"/>
                    </a:lnTo>
                    <a:lnTo>
                      <a:pt x="402" y="680"/>
                    </a:lnTo>
                    <a:lnTo>
                      <a:pt x="354" y="665"/>
                    </a:lnTo>
                    <a:lnTo>
                      <a:pt x="307" y="649"/>
                    </a:lnTo>
                    <a:lnTo>
                      <a:pt x="265" y="633"/>
                    </a:lnTo>
                    <a:lnTo>
                      <a:pt x="224" y="616"/>
                    </a:lnTo>
                    <a:lnTo>
                      <a:pt x="187" y="599"/>
                    </a:lnTo>
                    <a:lnTo>
                      <a:pt x="153" y="580"/>
                    </a:lnTo>
                    <a:lnTo>
                      <a:pt x="122" y="562"/>
                    </a:lnTo>
                    <a:lnTo>
                      <a:pt x="94" y="543"/>
                    </a:lnTo>
                    <a:lnTo>
                      <a:pt x="70" y="524"/>
                    </a:lnTo>
                    <a:lnTo>
                      <a:pt x="50" y="504"/>
                    </a:lnTo>
                    <a:lnTo>
                      <a:pt x="33" y="483"/>
                    </a:lnTo>
                    <a:lnTo>
                      <a:pt x="18" y="463"/>
                    </a:lnTo>
                    <a:lnTo>
                      <a:pt x="8" y="442"/>
                    </a:lnTo>
                    <a:lnTo>
                      <a:pt x="2" y="421"/>
                    </a:lnTo>
                    <a:lnTo>
                      <a:pt x="0" y="400"/>
                    </a:lnTo>
                    <a:lnTo>
                      <a:pt x="2" y="378"/>
                    </a:lnTo>
                    <a:lnTo>
                      <a:pt x="8" y="357"/>
                    </a:lnTo>
                    <a:lnTo>
                      <a:pt x="18" y="336"/>
                    </a:lnTo>
                    <a:lnTo>
                      <a:pt x="33" y="316"/>
                    </a:lnTo>
                    <a:lnTo>
                      <a:pt x="50" y="297"/>
                    </a:lnTo>
                    <a:lnTo>
                      <a:pt x="70" y="278"/>
                    </a:lnTo>
                    <a:lnTo>
                      <a:pt x="94" y="258"/>
                    </a:lnTo>
                    <a:lnTo>
                      <a:pt x="122" y="240"/>
                    </a:lnTo>
                    <a:lnTo>
                      <a:pt x="153" y="222"/>
                    </a:lnTo>
                    <a:lnTo>
                      <a:pt x="187" y="205"/>
                    </a:lnTo>
                    <a:lnTo>
                      <a:pt x="224" y="188"/>
                    </a:lnTo>
                    <a:lnTo>
                      <a:pt x="265" y="172"/>
                    </a:lnTo>
                    <a:lnTo>
                      <a:pt x="307" y="156"/>
                    </a:lnTo>
                    <a:lnTo>
                      <a:pt x="354" y="141"/>
                    </a:lnTo>
                    <a:lnTo>
                      <a:pt x="402" y="127"/>
                    </a:lnTo>
                    <a:lnTo>
                      <a:pt x="453" y="113"/>
                    </a:lnTo>
                    <a:lnTo>
                      <a:pt x="506" y="100"/>
                    </a:lnTo>
                    <a:lnTo>
                      <a:pt x="563" y="88"/>
                    </a:lnTo>
                    <a:lnTo>
                      <a:pt x="620" y="77"/>
                    </a:lnTo>
                    <a:lnTo>
                      <a:pt x="681" y="66"/>
                    </a:lnTo>
                    <a:lnTo>
                      <a:pt x="744" y="55"/>
                    </a:lnTo>
                    <a:lnTo>
                      <a:pt x="808" y="46"/>
                    </a:lnTo>
                    <a:lnTo>
                      <a:pt x="875" y="37"/>
                    </a:lnTo>
                    <a:lnTo>
                      <a:pt x="944" y="30"/>
                    </a:lnTo>
                    <a:lnTo>
                      <a:pt x="1013" y="23"/>
                    </a:lnTo>
                    <a:lnTo>
                      <a:pt x="1085" y="17"/>
                    </a:lnTo>
                    <a:lnTo>
                      <a:pt x="1159" y="12"/>
                    </a:lnTo>
                    <a:lnTo>
                      <a:pt x="1233" y="8"/>
                    </a:lnTo>
                    <a:lnTo>
                      <a:pt x="1309" y="4"/>
                    </a:lnTo>
                    <a:lnTo>
                      <a:pt x="1387" y="2"/>
                    </a:lnTo>
                    <a:lnTo>
                      <a:pt x="1465" y="0"/>
                    </a:lnTo>
                    <a:lnTo>
                      <a:pt x="1544" y="0"/>
                    </a:lnTo>
                    <a:lnTo>
                      <a:pt x="1624" y="0"/>
                    </a:lnTo>
                    <a:lnTo>
                      <a:pt x="1702" y="2"/>
                    </a:lnTo>
                    <a:lnTo>
                      <a:pt x="1780" y="4"/>
                    </a:lnTo>
                    <a:lnTo>
                      <a:pt x="1856" y="8"/>
                    </a:lnTo>
                    <a:lnTo>
                      <a:pt x="1930" y="12"/>
                    </a:lnTo>
                    <a:lnTo>
                      <a:pt x="2004" y="17"/>
                    </a:lnTo>
                    <a:lnTo>
                      <a:pt x="2076" y="23"/>
                    </a:lnTo>
                    <a:lnTo>
                      <a:pt x="2145" y="30"/>
                    </a:lnTo>
                    <a:lnTo>
                      <a:pt x="2214" y="37"/>
                    </a:lnTo>
                    <a:lnTo>
                      <a:pt x="2281" y="46"/>
                    </a:lnTo>
                    <a:lnTo>
                      <a:pt x="2345" y="55"/>
                    </a:lnTo>
                    <a:lnTo>
                      <a:pt x="2408" y="66"/>
                    </a:lnTo>
                    <a:lnTo>
                      <a:pt x="2469" y="77"/>
                    </a:lnTo>
                    <a:lnTo>
                      <a:pt x="2526" y="88"/>
                    </a:lnTo>
                    <a:lnTo>
                      <a:pt x="2583" y="100"/>
                    </a:lnTo>
                    <a:lnTo>
                      <a:pt x="2636" y="113"/>
                    </a:lnTo>
                    <a:lnTo>
                      <a:pt x="2688" y="127"/>
                    </a:lnTo>
                    <a:lnTo>
                      <a:pt x="2736" y="141"/>
                    </a:lnTo>
                    <a:lnTo>
                      <a:pt x="2782" y="156"/>
                    </a:lnTo>
                    <a:lnTo>
                      <a:pt x="2825" y="172"/>
                    </a:lnTo>
                    <a:lnTo>
                      <a:pt x="2864" y="188"/>
                    </a:lnTo>
                    <a:lnTo>
                      <a:pt x="2902" y="205"/>
                    </a:lnTo>
                    <a:lnTo>
                      <a:pt x="2936" y="222"/>
                    </a:lnTo>
                    <a:lnTo>
                      <a:pt x="2967" y="240"/>
                    </a:lnTo>
                    <a:lnTo>
                      <a:pt x="2995" y="258"/>
                    </a:lnTo>
                    <a:lnTo>
                      <a:pt x="3019" y="278"/>
                    </a:lnTo>
                    <a:lnTo>
                      <a:pt x="3040" y="297"/>
                    </a:lnTo>
                    <a:lnTo>
                      <a:pt x="3057" y="316"/>
                    </a:lnTo>
                    <a:lnTo>
                      <a:pt x="3070" y="336"/>
                    </a:lnTo>
                    <a:lnTo>
                      <a:pt x="3081" y="357"/>
                    </a:lnTo>
                    <a:lnTo>
                      <a:pt x="3087" y="378"/>
                    </a:lnTo>
                    <a:lnTo>
                      <a:pt x="3089" y="4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120760" y="6529320"/>
                <a:ext cx="339840" cy="96840"/>
              </a:xfrm>
              <a:custGeom>
                <a:avLst/>
                <a:gdLst/>
                <a:ahLst/>
                <a:rect l="l" t="t" r="r" b="b"/>
                <a:pathLst>
                  <a:path w="3085" h="815">
                    <a:moveTo>
                      <a:pt x="3085" y="399"/>
                    </a:moveTo>
                    <a:lnTo>
                      <a:pt x="3083" y="420"/>
                    </a:lnTo>
                    <a:lnTo>
                      <a:pt x="3077" y="441"/>
                    </a:lnTo>
                    <a:lnTo>
                      <a:pt x="3067" y="462"/>
                    </a:lnTo>
                    <a:lnTo>
                      <a:pt x="3053" y="482"/>
                    </a:lnTo>
                    <a:lnTo>
                      <a:pt x="3036" y="503"/>
                    </a:lnTo>
                    <a:lnTo>
                      <a:pt x="3016" y="523"/>
                    </a:lnTo>
                    <a:lnTo>
                      <a:pt x="2992" y="542"/>
                    </a:lnTo>
                    <a:lnTo>
                      <a:pt x="2963" y="560"/>
                    </a:lnTo>
                    <a:lnTo>
                      <a:pt x="2933" y="579"/>
                    </a:lnTo>
                    <a:lnTo>
                      <a:pt x="2899" y="598"/>
                    </a:lnTo>
                    <a:lnTo>
                      <a:pt x="2861" y="615"/>
                    </a:lnTo>
                    <a:lnTo>
                      <a:pt x="2821" y="632"/>
                    </a:lnTo>
                    <a:lnTo>
                      <a:pt x="2779" y="648"/>
                    </a:lnTo>
                    <a:lnTo>
                      <a:pt x="2733" y="663"/>
                    </a:lnTo>
                    <a:lnTo>
                      <a:pt x="2685" y="678"/>
                    </a:lnTo>
                    <a:lnTo>
                      <a:pt x="2633" y="693"/>
                    </a:lnTo>
                    <a:lnTo>
                      <a:pt x="2580" y="707"/>
                    </a:lnTo>
                    <a:lnTo>
                      <a:pt x="2523" y="720"/>
                    </a:lnTo>
                    <a:lnTo>
                      <a:pt x="2466" y="732"/>
                    </a:lnTo>
                    <a:lnTo>
                      <a:pt x="2405" y="744"/>
                    </a:lnTo>
                    <a:lnTo>
                      <a:pt x="2342" y="755"/>
                    </a:lnTo>
                    <a:lnTo>
                      <a:pt x="2278" y="765"/>
                    </a:lnTo>
                    <a:lnTo>
                      <a:pt x="2211" y="774"/>
                    </a:lnTo>
                    <a:lnTo>
                      <a:pt x="2143" y="782"/>
                    </a:lnTo>
                    <a:lnTo>
                      <a:pt x="2073" y="789"/>
                    </a:lnTo>
                    <a:lnTo>
                      <a:pt x="2001" y="796"/>
                    </a:lnTo>
                    <a:lnTo>
                      <a:pt x="1928" y="801"/>
                    </a:lnTo>
                    <a:lnTo>
                      <a:pt x="1854" y="806"/>
                    </a:lnTo>
                    <a:lnTo>
                      <a:pt x="1778" y="811"/>
                    </a:lnTo>
                    <a:lnTo>
                      <a:pt x="1700" y="813"/>
                    </a:lnTo>
                    <a:lnTo>
                      <a:pt x="1622" y="815"/>
                    </a:lnTo>
                    <a:lnTo>
                      <a:pt x="1542" y="815"/>
                    </a:lnTo>
                    <a:lnTo>
                      <a:pt x="1463" y="815"/>
                    </a:lnTo>
                    <a:lnTo>
                      <a:pt x="1385" y="813"/>
                    </a:lnTo>
                    <a:lnTo>
                      <a:pt x="1307" y="811"/>
                    </a:lnTo>
                    <a:lnTo>
                      <a:pt x="1231" y="806"/>
                    </a:lnTo>
                    <a:lnTo>
                      <a:pt x="1157" y="801"/>
                    </a:lnTo>
                    <a:lnTo>
                      <a:pt x="1084" y="796"/>
                    </a:lnTo>
                    <a:lnTo>
                      <a:pt x="1012" y="789"/>
                    </a:lnTo>
                    <a:lnTo>
                      <a:pt x="943" y="782"/>
                    </a:lnTo>
                    <a:lnTo>
                      <a:pt x="874" y="774"/>
                    </a:lnTo>
                    <a:lnTo>
                      <a:pt x="807" y="765"/>
                    </a:lnTo>
                    <a:lnTo>
                      <a:pt x="743" y="755"/>
                    </a:lnTo>
                    <a:lnTo>
                      <a:pt x="680" y="744"/>
                    </a:lnTo>
                    <a:lnTo>
                      <a:pt x="619" y="732"/>
                    </a:lnTo>
                    <a:lnTo>
                      <a:pt x="562" y="720"/>
                    </a:lnTo>
                    <a:lnTo>
                      <a:pt x="505" y="707"/>
                    </a:lnTo>
                    <a:lnTo>
                      <a:pt x="452" y="693"/>
                    </a:lnTo>
                    <a:lnTo>
                      <a:pt x="401" y="678"/>
                    </a:lnTo>
                    <a:lnTo>
                      <a:pt x="353" y="663"/>
                    </a:lnTo>
                    <a:lnTo>
                      <a:pt x="306" y="648"/>
                    </a:lnTo>
                    <a:lnTo>
                      <a:pt x="264" y="632"/>
                    </a:lnTo>
                    <a:lnTo>
                      <a:pt x="223" y="615"/>
                    </a:lnTo>
                    <a:lnTo>
                      <a:pt x="186" y="598"/>
                    </a:lnTo>
                    <a:lnTo>
                      <a:pt x="152" y="579"/>
                    </a:lnTo>
                    <a:lnTo>
                      <a:pt x="121" y="560"/>
                    </a:lnTo>
                    <a:lnTo>
                      <a:pt x="94" y="542"/>
                    </a:lnTo>
                    <a:lnTo>
                      <a:pt x="70" y="523"/>
                    </a:lnTo>
                    <a:lnTo>
                      <a:pt x="49" y="503"/>
                    </a:lnTo>
                    <a:lnTo>
                      <a:pt x="32" y="482"/>
                    </a:lnTo>
                    <a:lnTo>
                      <a:pt x="17" y="462"/>
                    </a:lnTo>
                    <a:lnTo>
                      <a:pt x="8" y="441"/>
                    </a:lnTo>
                    <a:lnTo>
                      <a:pt x="2" y="420"/>
                    </a:lnTo>
                    <a:lnTo>
                      <a:pt x="0" y="399"/>
                    </a:lnTo>
                    <a:lnTo>
                      <a:pt x="2" y="377"/>
                    </a:lnTo>
                    <a:lnTo>
                      <a:pt x="8" y="356"/>
                    </a:lnTo>
                    <a:lnTo>
                      <a:pt x="17" y="336"/>
                    </a:lnTo>
                    <a:lnTo>
                      <a:pt x="32" y="316"/>
                    </a:lnTo>
                    <a:lnTo>
                      <a:pt x="49" y="296"/>
                    </a:lnTo>
                    <a:lnTo>
                      <a:pt x="70" y="277"/>
                    </a:lnTo>
                    <a:lnTo>
                      <a:pt x="94" y="257"/>
                    </a:lnTo>
                    <a:lnTo>
                      <a:pt x="121" y="239"/>
                    </a:lnTo>
                    <a:lnTo>
                      <a:pt x="152" y="221"/>
                    </a:lnTo>
                    <a:lnTo>
                      <a:pt x="186" y="204"/>
                    </a:lnTo>
                    <a:lnTo>
                      <a:pt x="223" y="188"/>
                    </a:lnTo>
                    <a:lnTo>
                      <a:pt x="264" y="172"/>
                    </a:lnTo>
                    <a:lnTo>
                      <a:pt x="306" y="155"/>
                    </a:lnTo>
                    <a:lnTo>
                      <a:pt x="353" y="141"/>
                    </a:lnTo>
                    <a:lnTo>
                      <a:pt x="401" y="127"/>
                    </a:lnTo>
                    <a:lnTo>
                      <a:pt x="452" y="113"/>
                    </a:lnTo>
                    <a:lnTo>
                      <a:pt x="505" y="100"/>
                    </a:lnTo>
                    <a:lnTo>
                      <a:pt x="562" y="88"/>
                    </a:lnTo>
                    <a:lnTo>
                      <a:pt x="619" y="77"/>
                    </a:lnTo>
                    <a:lnTo>
                      <a:pt x="680" y="66"/>
                    </a:lnTo>
                    <a:lnTo>
                      <a:pt x="743" y="55"/>
                    </a:lnTo>
                    <a:lnTo>
                      <a:pt x="807" y="46"/>
                    </a:lnTo>
                    <a:lnTo>
                      <a:pt x="874" y="37"/>
                    </a:lnTo>
                    <a:lnTo>
                      <a:pt x="943" y="30"/>
                    </a:lnTo>
                    <a:lnTo>
                      <a:pt x="1012" y="23"/>
                    </a:lnTo>
                    <a:lnTo>
                      <a:pt x="1084" y="17"/>
                    </a:lnTo>
                    <a:lnTo>
                      <a:pt x="1157" y="12"/>
                    </a:lnTo>
                    <a:lnTo>
                      <a:pt x="1231" y="8"/>
                    </a:lnTo>
                    <a:lnTo>
                      <a:pt x="1307" y="4"/>
                    </a:lnTo>
                    <a:lnTo>
                      <a:pt x="1385" y="2"/>
                    </a:lnTo>
                    <a:lnTo>
                      <a:pt x="1463" y="0"/>
                    </a:lnTo>
                    <a:lnTo>
                      <a:pt x="1542" y="0"/>
                    </a:lnTo>
                    <a:lnTo>
                      <a:pt x="1622" y="0"/>
                    </a:lnTo>
                    <a:lnTo>
                      <a:pt x="1700" y="2"/>
                    </a:lnTo>
                    <a:lnTo>
                      <a:pt x="1778" y="4"/>
                    </a:lnTo>
                    <a:lnTo>
                      <a:pt x="1854" y="8"/>
                    </a:lnTo>
                    <a:lnTo>
                      <a:pt x="1928" y="12"/>
                    </a:lnTo>
                    <a:lnTo>
                      <a:pt x="2001" y="17"/>
                    </a:lnTo>
                    <a:lnTo>
                      <a:pt x="2073" y="23"/>
                    </a:lnTo>
                    <a:lnTo>
                      <a:pt x="2143" y="30"/>
                    </a:lnTo>
                    <a:lnTo>
                      <a:pt x="2211" y="37"/>
                    </a:lnTo>
                    <a:lnTo>
                      <a:pt x="2278" y="46"/>
                    </a:lnTo>
                    <a:lnTo>
                      <a:pt x="2342" y="55"/>
                    </a:lnTo>
                    <a:lnTo>
                      <a:pt x="2405" y="66"/>
                    </a:lnTo>
                    <a:lnTo>
                      <a:pt x="2466" y="77"/>
                    </a:lnTo>
                    <a:lnTo>
                      <a:pt x="2523" y="88"/>
                    </a:lnTo>
                    <a:lnTo>
                      <a:pt x="2580" y="100"/>
                    </a:lnTo>
                    <a:lnTo>
                      <a:pt x="2633" y="113"/>
                    </a:lnTo>
                    <a:lnTo>
                      <a:pt x="2685" y="127"/>
                    </a:lnTo>
                    <a:lnTo>
                      <a:pt x="2733" y="141"/>
                    </a:lnTo>
                    <a:lnTo>
                      <a:pt x="2779" y="155"/>
                    </a:lnTo>
                    <a:lnTo>
                      <a:pt x="2821" y="172"/>
                    </a:lnTo>
                    <a:lnTo>
                      <a:pt x="2861" y="188"/>
                    </a:lnTo>
                    <a:lnTo>
                      <a:pt x="2899" y="204"/>
                    </a:lnTo>
                    <a:lnTo>
                      <a:pt x="2933" y="221"/>
                    </a:lnTo>
                    <a:lnTo>
                      <a:pt x="2963" y="239"/>
                    </a:lnTo>
                    <a:lnTo>
                      <a:pt x="2992" y="257"/>
                    </a:lnTo>
                    <a:lnTo>
                      <a:pt x="3016" y="277"/>
                    </a:lnTo>
                    <a:lnTo>
                      <a:pt x="3036" y="296"/>
                    </a:lnTo>
                    <a:lnTo>
                      <a:pt x="3053" y="316"/>
                    </a:lnTo>
                    <a:lnTo>
                      <a:pt x="3067" y="336"/>
                    </a:lnTo>
                    <a:lnTo>
                      <a:pt x="3077" y="356"/>
                    </a:lnTo>
                    <a:lnTo>
                      <a:pt x="3083" y="377"/>
                    </a:lnTo>
                    <a:lnTo>
                      <a:pt x="3085" y="3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120760" y="6529320"/>
                <a:ext cx="339840" cy="96840"/>
              </a:xfrm>
              <a:custGeom>
                <a:avLst/>
                <a:gdLst/>
                <a:ahLst/>
                <a:rect l="l" t="t" r="r" b="b"/>
                <a:pathLst>
                  <a:path w="3083" h="813">
                    <a:moveTo>
                      <a:pt x="3083" y="398"/>
                    </a:moveTo>
                    <a:lnTo>
                      <a:pt x="3081" y="419"/>
                    </a:lnTo>
                    <a:lnTo>
                      <a:pt x="3075" y="440"/>
                    </a:lnTo>
                    <a:lnTo>
                      <a:pt x="3064" y="461"/>
                    </a:lnTo>
                    <a:lnTo>
                      <a:pt x="3051" y="481"/>
                    </a:lnTo>
                    <a:lnTo>
                      <a:pt x="3034" y="502"/>
                    </a:lnTo>
                    <a:lnTo>
                      <a:pt x="3013" y="521"/>
                    </a:lnTo>
                    <a:lnTo>
                      <a:pt x="2989" y="540"/>
                    </a:lnTo>
                    <a:lnTo>
                      <a:pt x="2961" y="559"/>
                    </a:lnTo>
                    <a:lnTo>
                      <a:pt x="2930" y="577"/>
                    </a:lnTo>
                    <a:lnTo>
                      <a:pt x="2897" y="596"/>
                    </a:lnTo>
                    <a:lnTo>
                      <a:pt x="2859" y="613"/>
                    </a:lnTo>
                    <a:lnTo>
                      <a:pt x="2819" y="630"/>
                    </a:lnTo>
                    <a:lnTo>
                      <a:pt x="2777" y="646"/>
                    </a:lnTo>
                    <a:lnTo>
                      <a:pt x="2730" y="662"/>
                    </a:lnTo>
                    <a:lnTo>
                      <a:pt x="2682" y="677"/>
                    </a:lnTo>
                    <a:lnTo>
                      <a:pt x="2631" y="691"/>
                    </a:lnTo>
                    <a:lnTo>
                      <a:pt x="2578" y="706"/>
                    </a:lnTo>
                    <a:lnTo>
                      <a:pt x="2522" y="719"/>
                    </a:lnTo>
                    <a:lnTo>
                      <a:pt x="2464" y="731"/>
                    </a:lnTo>
                    <a:lnTo>
                      <a:pt x="2403" y="742"/>
                    </a:lnTo>
                    <a:lnTo>
                      <a:pt x="2340" y="753"/>
                    </a:lnTo>
                    <a:lnTo>
                      <a:pt x="2276" y="763"/>
                    </a:lnTo>
                    <a:lnTo>
                      <a:pt x="2210" y="772"/>
                    </a:lnTo>
                    <a:lnTo>
                      <a:pt x="2141" y="780"/>
                    </a:lnTo>
                    <a:lnTo>
                      <a:pt x="2072" y="787"/>
                    </a:lnTo>
                    <a:lnTo>
                      <a:pt x="2000" y="794"/>
                    </a:lnTo>
                    <a:lnTo>
                      <a:pt x="1926" y="800"/>
                    </a:lnTo>
                    <a:lnTo>
                      <a:pt x="1853" y="804"/>
                    </a:lnTo>
                    <a:lnTo>
                      <a:pt x="1776" y="808"/>
                    </a:lnTo>
                    <a:lnTo>
                      <a:pt x="1699" y="811"/>
                    </a:lnTo>
                    <a:lnTo>
                      <a:pt x="1621" y="813"/>
                    </a:lnTo>
                    <a:lnTo>
                      <a:pt x="1541" y="813"/>
                    </a:lnTo>
                    <a:lnTo>
                      <a:pt x="1463" y="813"/>
                    </a:lnTo>
                    <a:lnTo>
                      <a:pt x="1384" y="811"/>
                    </a:lnTo>
                    <a:lnTo>
                      <a:pt x="1307" y="808"/>
                    </a:lnTo>
                    <a:lnTo>
                      <a:pt x="1231" y="804"/>
                    </a:lnTo>
                    <a:lnTo>
                      <a:pt x="1157" y="800"/>
                    </a:lnTo>
                    <a:lnTo>
                      <a:pt x="1083" y="794"/>
                    </a:lnTo>
                    <a:lnTo>
                      <a:pt x="1011" y="787"/>
                    </a:lnTo>
                    <a:lnTo>
                      <a:pt x="942" y="780"/>
                    </a:lnTo>
                    <a:lnTo>
                      <a:pt x="874" y="772"/>
                    </a:lnTo>
                    <a:lnTo>
                      <a:pt x="807" y="763"/>
                    </a:lnTo>
                    <a:lnTo>
                      <a:pt x="743" y="753"/>
                    </a:lnTo>
                    <a:lnTo>
                      <a:pt x="680" y="742"/>
                    </a:lnTo>
                    <a:lnTo>
                      <a:pt x="619" y="731"/>
                    </a:lnTo>
                    <a:lnTo>
                      <a:pt x="562" y="719"/>
                    </a:lnTo>
                    <a:lnTo>
                      <a:pt x="505" y="706"/>
                    </a:lnTo>
                    <a:lnTo>
                      <a:pt x="452" y="691"/>
                    </a:lnTo>
                    <a:lnTo>
                      <a:pt x="401" y="677"/>
                    </a:lnTo>
                    <a:lnTo>
                      <a:pt x="353" y="662"/>
                    </a:lnTo>
                    <a:lnTo>
                      <a:pt x="306" y="646"/>
                    </a:lnTo>
                    <a:lnTo>
                      <a:pt x="264" y="630"/>
                    </a:lnTo>
                    <a:lnTo>
                      <a:pt x="223" y="613"/>
                    </a:lnTo>
                    <a:lnTo>
                      <a:pt x="186" y="596"/>
                    </a:lnTo>
                    <a:lnTo>
                      <a:pt x="153" y="577"/>
                    </a:lnTo>
                    <a:lnTo>
                      <a:pt x="121" y="559"/>
                    </a:lnTo>
                    <a:lnTo>
                      <a:pt x="94" y="540"/>
                    </a:lnTo>
                    <a:lnTo>
                      <a:pt x="70" y="521"/>
                    </a:lnTo>
                    <a:lnTo>
                      <a:pt x="49" y="502"/>
                    </a:lnTo>
                    <a:lnTo>
                      <a:pt x="32" y="481"/>
                    </a:lnTo>
                    <a:lnTo>
                      <a:pt x="18" y="461"/>
                    </a:lnTo>
                    <a:lnTo>
                      <a:pt x="8" y="440"/>
                    </a:lnTo>
                    <a:lnTo>
                      <a:pt x="2" y="419"/>
                    </a:lnTo>
                    <a:lnTo>
                      <a:pt x="0" y="398"/>
                    </a:lnTo>
                    <a:lnTo>
                      <a:pt x="2" y="376"/>
                    </a:lnTo>
                    <a:lnTo>
                      <a:pt x="8" y="355"/>
                    </a:lnTo>
                    <a:lnTo>
                      <a:pt x="18" y="335"/>
                    </a:lnTo>
                    <a:lnTo>
                      <a:pt x="32" y="315"/>
                    </a:lnTo>
                    <a:lnTo>
                      <a:pt x="49" y="295"/>
                    </a:lnTo>
                    <a:lnTo>
                      <a:pt x="70" y="276"/>
                    </a:lnTo>
                    <a:lnTo>
                      <a:pt x="94" y="257"/>
                    </a:lnTo>
                    <a:lnTo>
                      <a:pt x="121" y="238"/>
                    </a:lnTo>
                    <a:lnTo>
                      <a:pt x="153" y="221"/>
                    </a:lnTo>
                    <a:lnTo>
                      <a:pt x="186" y="204"/>
                    </a:lnTo>
                    <a:lnTo>
                      <a:pt x="223" y="187"/>
                    </a:lnTo>
                    <a:lnTo>
                      <a:pt x="264" y="171"/>
                    </a:lnTo>
                    <a:lnTo>
                      <a:pt x="306" y="155"/>
                    </a:lnTo>
                    <a:lnTo>
                      <a:pt x="353" y="140"/>
                    </a:lnTo>
                    <a:lnTo>
                      <a:pt x="401" y="126"/>
                    </a:lnTo>
                    <a:lnTo>
                      <a:pt x="452" y="113"/>
                    </a:lnTo>
                    <a:lnTo>
                      <a:pt x="505" y="100"/>
                    </a:lnTo>
                    <a:lnTo>
                      <a:pt x="562" y="88"/>
                    </a:lnTo>
                    <a:lnTo>
                      <a:pt x="619" y="76"/>
                    </a:lnTo>
                    <a:lnTo>
                      <a:pt x="680" y="66"/>
                    </a:lnTo>
                    <a:lnTo>
                      <a:pt x="743" y="55"/>
                    </a:lnTo>
                    <a:lnTo>
                      <a:pt x="807" y="46"/>
                    </a:lnTo>
                    <a:lnTo>
                      <a:pt x="874" y="37"/>
                    </a:lnTo>
                    <a:lnTo>
                      <a:pt x="942" y="29"/>
                    </a:lnTo>
                    <a:lnTo>
                      <a:pt x="1011" y="23"/>
                    </a:lnTo>
                    <a:lnTo>
                      <a:pt x="1083" y="17"/>
                    </a:lnTo>
                    <a:lnTo>
                      <a:pt x="1157" y="12"/>
                    </a:lnTo>
                    <a:lnTo>
                      <a:pt x="1231" y="7"/>
                    </a:lnTo>
                    <a:lnTo>
                      <a:pt x="1307" y="4"/>
                    </a:lnTo>
                    <a:lnTo>
                      <a:pt x="1384" y="2"/>
                    </a:lnTo>
                    <a:lnTo>
                      <a:pt x="1463" y="0"/>
                    </a:lnTo>
                    <a:lnTo>
                      <a:pt x="1541" y="0"/>
                    </a:lnTo>
                    <a:lnTo>
                      <a:pt x="1621" y="0"/>
                    </a:lnTo>
                    <a:lnTo>
                      <a:pt x="1699" y="2"/>
                    </a:lnTo>
                    <a:lnTo>
                      <a:pt x="1776" y="4"/>
                    </a:lnTo>
                    <a:lnTo>
                      <a:pt x="1853" y="7"/>
                    </a:lnTo>
                    <a:lnTo>
                      <a:pt x="1926" y="12"/>
                    </a:lnTo>
                    <a:lnTo>
                      <a:pt x="2000" y="17"/>
                    </a:lnTo>
                    <a:lnTo>
                      <a:pt x="2072" y="23"/>
                    </a:lnTo>
                    <a:lnTo>
                      <a:pt x="2141" y="29"/>
                    </a:lnTo>
                    <a:lnTo>
                      <a:pt x="2210" y="37"/>
                    </a:lnTo>
                    <a:lnTo>
                      <a:pt x="2276" y="46"/>
                    </a:lnTo>
                    <a:lnTo>
                      <a:pt x="2340" y="55"/>
                    </a:lnTo>
                    <a:lnTo>
                      <a:pt x="2403" y="66"/>
                    </a:lnTo>
                    <a:lnTo>
                      <a:pt x="2464" y="76"/>
                    </a:lnTo>
                    <a:lnTo>
                      <a:pt x="2522" y="88"/>
                    </a:lnTo>
                    <a:lnTo>
                      <a:pt x="2578" y="100"/>
                    </a:lnTo>
                    <a:lnTo>
                      <a:pt x="2631" y="113"/>
                    </a:lnTo>
                    <a:lnTo>
                      <a:pt x="2682" y="126"/>
                    </a:lnTo>
                    <a:lnTo>
                      <a:pt x="2730" y="140"/>
                    </a:lnTo>
                    <a:lnTo>
                      <a:pt x="2777" y="155"/>
                    </a:lnTo>
                    <a:lnTo>
                      <a:pt x="2819" y="171"/>
                    </a:lnTo>
                    <a:lnTo>
                      <a:pt x="2859" y="187"/>
                    </a:lnTo>
                    <a:lnTo>
                      <a:pt x="2897" y="204"/>
                    </a:lnTo>
                    <a:lnTo>
                      <a:pt x="2930" y="221"/>
                    </a:lnTo>
                    <a:lnTo>
                      <a:pt x="2961" y="238"/>
                    </a:lnTo>
                    <a:lnTo>
                      <a:pt x="2989" y="257"/>
                    </a:lnTo>
                    <a:lnTo>
                      <a:pt x="3013" y="276"/>
                    </a:lnTo>
                    <a:lnTo>
                      <a:pt x="3034" y="295"/>
                    </a:lnTo>
                    <a:lnTo>
                      <a:pt x="3051" y="315"/>
                    </a:lnTo>
                    <a:lnTo>
                      <a:pt x="3064" y="335"/>
                    </a:lnTo>
                    <a:lnTo>
                      <a:pt x="3075" y="355"/>
                    </a:lnTo>
                    <a:lnTo>
                      <a:pt x="3081" y="376"/>
                    </a:lnTo>
                    <a:lnTo>
                      <a:pt x="3083" y="3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120760" y="6529320"/>
                <a:ext cx="339840" cy="96840"/>
              </a:xfrm>
              <a:custGeom>
                <a:avLst/>
                <a:gdLst/>
                <a:ahLst/>
                <a:rect l="l" t="t" r="r" b="b"/>
                <a:pathLst>
                  <a:path w="3079" h="812">
                    <a:moveTo>
                      <a:pt x="3079" y="397"/>
                    </a:moveTo>
                    <a:lnTo>
                      <a:pt x="3077" y="418"/>
                    </a:lnTo>
                    <a:lnTo>
                      <a:pt x="3072" y="439"/>
                    </a:lnTo>
                    <a:lnTo>
                      <a:pt x="3061" y="460"/>
                    </a:lnTo>
                    <a:lnTo>
                      <a:pt x="3047" y="480"/>
                    </a:lnTo>
                    <a:lnTo>
                      <a:pt x="3030" y="501"/>
                    </a:lnTo>
                    <a:lnTo>
                      <a:pt x="3010" y="520"/>
                    </a:lnTo>
                    <a:lnTo>
                      <a:pt x="2986" y="539"/>
                    </a:lnTo>
                    <a:lnTo>
                      <a:pt x="2958" y="558"/>
                    </a:lnTo>
                    <a:lnTo>
                      <a:pt x="2927" y="576"/>
                    </a:lnTo>
                    <a:lnTo>
                      <a:pt x="2893" y="595"/>
                    </a:lnTo>
                    <a:lnTo>
                      <a:pt x="2856" y="612"/>
                    </a:lnTo>
                    <a:lnTo>
                      <a:pt x="2816" y="629"/>
                    </a:lnTo>
                    <a:lnTo>
                      <a:pt x="2774" y="645"/>
                    </a:lnTo>
                    <a:lnTo>
                      <a:pt x="2727" y="660"/>
                    </a:lnTo>
                    <a:lnTo>
                      <a:pt x="2679" y="675"/>
                    </a:lnTo>
                    <a:lnTo>
                      <a:pt x="2628" y="689"/>
                    </a:lnTo>
                    <a:lnTo>
                      <a:pt x="2575" y="704"/>
                    </a:lnTo>
                    <a:lnTo>
                      <a:pt x="2519" y="717"/>
                    </a:lnTo>
                    <a:lnTo>
                      <a:pt x="2461" y="729"/>
                    </a:lnTo>
                    <a:lnTo>
                      <a:pt x="2400" y="740"/>
                    </a:lnTo>
                    <a:lnTo>
                      <a:pt x="2337" y="751"/>
                    </a:lnTo>
                    <a:lnTo>
                      <a:pt x="2274" y="761"/>
                    </a:lnTo>
                    <a:lnTo>
                      <a:pt x="2207" y="770"/>
                    </a:lnTo>
                    <a:lnTo>
                      <a:pt x="2138" y="778"/>
                    </a:lnTo>
                    <a:lnTo>
                      <a:pt x="2069" y="786"/>
                    </a:lnTo>
                    <a:lnTo>
                      <a:pt x="1997" y="792"/>
                    </a:lnTo>
                    <a:lnTo>
                      <a:pt x="1924" y="798"/>
                    </a:lnTo>
                    <a:lnTo>
                      <a:pt x="1850" y="802"/>
                    </a:lnTo>
                    <a:lnTo>
                      <a:pt x="1774" y="806"/>
                    </a:lnTo>
                    <a:lnTo>
                      <a:pt x="1697" y="809"/>
                    </a:lnTo>
                    <a:lnTo>
                      <a:pt x="1619" y="811"/>
                    </a:lnTo>
                    <a:lnTo>
                      <a:pt x="1539" y="812"/>
                    </a:lnTo>
                    <a:lnTo>
                      <a:pt x="1461" y="811"/>
                    </a:lnTo>
                    <a:lnTo>
                      <a:pt x="1382" y="809"/>
                    </a:lnTo>
                    <a:lnTo>
                      <a:pt x="1305" y="806"/>
                    </a:lnTo>
                    <a:lnTo>
                      <a:pt x="1229" y="802"/>
                    </a:lnTo>
                    <a:lnTo>
                      <a:pt x="1155" y="798"/>
                    </a:lnTo>
                    <a:lnTo>
                      <a:pt x="1082" y="792"/>
                    </a:lnTo>
                    <a:lnTo>
                      <a:pt x="1010" y="786"/>
                    </a:lnTo>
                    <a:lnTo>
                      <a:pt x="941" y="778"/>
                    </a:lnTo>
                    <a:lnTo>
                      <a:pt x="872" y="770"/>
                    </a:lnTo>
                    <a:lnTo>
                      <a:pt x="805" y="761"/>
                    </a:lnTo>
                    <a:lnTo>
                      <a:pt x="742" y="751"/>
                    </a:lnTo>
                    <a:lnTo>
                      <a:pt x="679" y="740"/>
                    </a:lnTo>
                    <a:lnTo>
                      <a:pt x="618" y="729"/>
                    </a:lnTo>
                    <a:lnTo>
                      <a:pt x="560" y="717"/>
                    </a:lnTo>
                    <a:lnTo>
                      <a:pt x="504" y="704"/>
                    </a:lnTo>
                    <a:lnTo>
                      <a:pt x="451" y="689"/>
                    </a:lnTo>
                    <a:lnTo>
                      <a:pt x="400" y="675"/>
                    </a:lnTo>
                    <a:lnTo>
                      <a:pt x="352" y="660"/>
                    </a:lnTo>
                    <a:lnTo>
                      <a:pt x="306" y="645"/>
                    </a:lnTo>
                    <a:lnTo>
                      <a:pt x="263" y="629"/>
                    </a:lnTo>
                    <a:lnTo>
                      <a:pt x="223" y="612"/>
                    </a:lnTo>
                    <a:lnTo>
                      <a:pt x="186" y="595"/>
                    </a:lnTo>
                    <a:lnTo>
                      <a:pt x="152" y="576"/>
                    </a:lnTo>
                    <a:lnTo>
                      <a:pt x="122" y="558"/>
                    </a:lnTo>
                    <a:lnTo>
                      <a:pt x="93" y="539"/>
                    </a:lnTo>
                    <a:lnTo>
                      <a:pt x="69" y="520"/>
                    </a:lnTo>
                    <a:lnTo>
                      <a:pt x="49" y="501"/>
                    </a:lnTo>
                    <a:lnTo>
                      <a:pt x="32" y="480"/>
                    </a:lnTo>
                    <a:lnTo>
                      <a:pt x="17" y="460"/>
                    </a:lnTo>
                    <a:lnTo>
                      <a:pt x="8" y="439"/>
                    </a:lnTo>
                    <a:lnTo>
                      <a:pt x="2" y="418"/>
                    </a:lnTo>
                    <a:lnTo>
                      <a:pt x="0" y="397"/>
                    </a:lnTo>
                    <a:lnTo>
                      <a:pt x="2" y="375"/>
                    </a:lnTo>
                    <a:lnTo>
                      <a:pt x="8" y="354"/>
                    </a:lnTo>
                    <a:lnTo>
                      <a:pt x="17" y="334"/>
                    </a:lnTo>
                    <a:lnTo>
                      <a:pt x="32" y="314"/>
                    </a:lnTo>
                    <a:lnTo>
                      <a:pt x="49" y="294"/>
                    </a:lnTo>
                    <a:lnTo>
                      <a:pt x="69" y="275"/>
                    </a:lnTo>
                    <a:lnTo>
                      <a:pt x="93" y="256"/>
                    </a:lnTo>
                    <a:lnTo>
                      <a:pt x="122" y="238"/>
                    </a:lnTo>
                    <a:lnTo>
                      <a:pt x="152" y="220"/>
                    </a:lnTo>
                    <a:lnTo>
                      <a:pt x="186" y="203"/>
                    </a:lnTo>
                    <a:lnTo>
                      <a:pt x="223" y="187"/>
                    </a:lnTo>
                    <a:lnTo>
                      <a:pt x="263" y="171"/>
                    </a:lnTo>
                    <a:lnTo>
                      <a:pt x="306" y="155"/>
                    </a:lnTo>
                    <a:lnTo>
                      <a:pt x="352" y="140"/>
                    </a:lnTo>
                    <a:lnTo>
                      <a:pt x="400" y="126"/>
                    </a:lnTo>
                    <a:lnTo>
                      <a:pt x="451" y="112"/>
                    </a:lnTo>
                    <a:lnTo>
                      <a:pt x="504" y="100"/>
                    </a:lnTo>
                    <a:lnTo>
                      <a:pt x="560" y="87"/>
                    </a:lnTo>
                    <a:lnTo>
                      <a:pt x="618" y="76"/>
                    </a:lnTo>
                    <a:lnTo>
                      <a:pt x="679" y="65"/>
                    </a:lnTo>
                    <a:lnTo>
                      <a:pt x="742" y="54"/>
                    </a:lnTo>
                    <a:lnTo>
                      <a:pt x="805" y="45"/>
                    </a:lnTo>
                    <a:lnTo>
                      <a:pt x="872" y="37"/>
                    </a:lnTo>
                    <a:lnTo>
                      <a:pt x="941" y="29"/>
                    </a:lnTo>
                    <a:lnTo>
                      <a:pt x="1010" y="23"/>
                    </a:lnTo>
                    <a:lnTo>
                      <a:pt x="1082" y="17"/>
                    </a:lnTo>
                    <a:lnTo>
                      <a:pt x="1155" y="12"/>
                    </a:lnTo>
                    <a:lnTo>
                      <a:pt x="1229" y="7"/>
                    </a:lnTo>
                    <a:lnTo>
                      <a:pt x="1305" y="4"/>
                    </a:lnTo>
                    <a:lnTo>
                      <a:pt x="1382" y="2"/>
                    </a:lnTo>
                    <a:lnTo>
                      <a:pt x="1461" y="0"/>
                    </a:lnTo>
                    <a:lnTo>
                      <a:pt x="1539" y="0"/>
                    </a:lnTo>
                    <a:lnTo>
                      <a:pt x="1619" y="0"/>
                    </a:lnTo>
                    <a:lnTo>
                      <a:pt x="1697" y="2"/>
                    </a:lnTo>
                    <a:lnTo>
                      <a:pt x="1774" y="4"/>
                    </a:lnTo>
                    <a:lnTo>
                      <a:pt x="1850" y="7"/>
                    </a:lnTo>
                    <a:lnTo>
                      <a:pt x="1924" y="12"/>
                    </a:lnTo>
                    <a:lnTo>
                      <a:pt x="1997" y="17"/>
                    </a:lnTo>
                    <a:lnTo>
                      <a:pt x="2069" y="23"/>
                    </a:lnTo>
                    <a:lnTo>
                      <a:pt x="2138" y="29"/>
                    </a:lnTo>
                    <a:lnTo>
                      <a:pt x="2207" y="37"/>
                    </a:lnTo>
                    <a:lnTo>
                      <a:pt x="2274" y="45"/>
                    </a:lnTo>
                    <a:lnTo>
                      <a:pt x="2337" y="54"/>
                    </a:lnTo>
                    <a:lnTo>
                      <a:pt x="2400" y="65"/>
                    </a:lnTo>
                    <a:lnTo>
                      <a:pt x="2461" y="76"/>
                    </a:lnTo>
                    <a:lnTo>
                      <a:pt x="2519" y="87"/>
                    </a:lnTo>
                    <a:lnTo>
                      <a:pt x="2575" y="100"/>
                    </a:lnTo>
                    <a:lnTo>
                      <a:pt x="2628" y="112"/>
                    </a:lnTo>
                    <a:lnTo>
                      <a:pt x="2679" y="126"/>
                    </a:lnTo>
                    <a:lnTo>
                      <a:pt x="2727" y="140"/>
                    </a:lnTo>
                    <a:lnTo>
                      <a:pt x="2774" y="155"/>
                    </a:lnTo>
                    <a:lnTo>
                      <a:pt x="2816" y="171"/>
                    </a:lnTo>
                    <a:lnTo>
                      <a:pt x="2856" y="187"/>
                    </a:lnTo>
                    <a:lnTo>
                      <a:pt x="2893" y="203"/>
                    </a:lnTo>
                    <a:lnTo>
                      <a:pt x="2927" y="220"/>
                    </a:lnTo>
                    <a:lnTo>
                      <a:pt x="2958" y="238"/>
                    </a:lnTo>
                    <a:lnTo>
                      <a:pt x="2986" y="256"/>
                    </a:lnTo>
                    <a:lnTo>
                      <a:pt x="3010" y="275"/>
                    </a:lnTo>
                    <a:lnTo>
                      <a:pt x="3030" y="294"/>
                    </a:lnTo>
                    <a:lnTo>
                      <a:pt x="3047" y="314"/>
                    </a:lnTo>
                    <a:lnTo>
                      <a:pt x="3061" y="334"/>
                    </a:lnTo>
                    <a:lnTo>
                      <a:pt x="3072" y="354"/>
                    </a:lnTo>
                    <a:lnTo>
                      <a:pt x="3077" y="375"/>
                    </a:lnTo>
                    <a:lnTo>
                      <a:pt x="3079" y="3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120760" y="6529320"/>
                <a:ext cx="339840" cy="96840"/>
              </a:xfrm>
              <a:custGeom>
                <a:avLst/>
                <a:gdLst/>
                <a:ahLst/>
                <a:rect l="l" t="t" r="r" b="b"/>
                <a:pathLst>
                  <a:path w="3077" h="810">
                    <a:moveTo>
                      <a:pt x="3077" y="396"/>
                    </a:moveTo>
                    <a:lnTo>
                      <a:pt x="3075" y="417"/>
                    </a:lnTo>
                    <a:lnTo>
                      <a:pt x="3069" y="438"/>
                    </a:lnTo>
                    <a:lnTo>
                      <a:pt x="3058" y="458"/>
                    </a:lnTo>
                    <a:lnTo>
                      <a:pt x="3045" y="479"/>
                    </a:lnTo>
                    <a:lnTo>
                      <a:pt x="3028" y="499"/>
                    </a:lnTo>
                    <a:lnTo>
                      <a:pt x="3008" y="519"/>
                    </a:lnTo>
                    <a:lnTo>
                      <a:pt x="2984" y="538"/>
                    </a:lnTo>
                    <a:lnTo>
                      <a:pt x="2955" y="556"/>
                    </a:lnTo>
                    <a:lnTo>
                      <a:pt x="2925" y="575"/>
                    </a:lnTo>
                    <a:lnTo>
                      <a:pt x="2891" y="592"/>
                    </a:lnTo>
                    <a:lnTo>
                      <a:pt x="2853" y="610"/>
                    </a:lnTo>
                    <a:lnTo>
                      <a:pt x="2814" y="627"/>
                    </a:lnTo>
                    <a:lnTo>
                      <a:pt x="2771" y="643"/>
                    </a:lnTo>
                    <a:lnTo>
                      <a:pt x="2725" y="659"/>
                    </a:lnTo>
                    <a:lnTo>
                      <a:pt x="2677" y="673"/>
                    </a:lnTo>
                    <a:lnTo>
                      <a:pt x="2626" y="688"/>
                    </a:lnTo>
                    <a:lnTo>
                      <a:pt x="2573" y="702"/>
                    </a:lnTo>
                    <a:lnTo>
                      <a:pt x="2517" y="715"/>
                    </a:lnTo>
                    <a:lnTo>
                      <a:pt x="2459" y="727"/>
                    </a:lnTo>
                    <a:lnTo>
                      <a:pt x="2399" y="739"/>
                    </a:lnTo>
                    <a:lnTo>
                      <a:pt x="2336" y="749"/>
                    </a:lnTo>
                    <a:lnTo>
                      <a:pt x="2272" y="759"/>
                    </a:lnTo>
                    <a:lnTo>
                      <a:pt x="2205" y="768"/>
                    </a:lnTo>
                    <a:lnTo>
                      <a:pt x="2137" y="776"/>
                    </a:lnTo>
                    <a:lnTo>
                      <a:pt x="2068" y="784"/>
                    </a:lnTo>
                    <a:lnTo>
                      <a:pt x="1996" y="790"/>
                    </a:lnTo>
                    <a:lnTo>
                      <a:pt x="1923" y="796"/>
                    </a:lnTo>
                    <a:lnTo>
                      <a:pt x="1849" y="800"/>
                    </a:lnTo>
                    <a:lnTo>
                      <a:pt x="1773" y="804"/>
                    </a:lnTo>
                    <a:lnTo>
                      <a:pt x="1696" y="806"/>
                    </a:lnTo>
                    <a:lnTo>
                      <a:pt x="1617" y="809"/>
                    </a:lnTo>
                    <a:lnTo>
                      <a:pt x="1538" y="810"/>
                    </a:lnTo>
                    <a:lnTo>
                      <a:pt x="1460" y="809"/>
                    </a:lnTo>
                    <a:lnTo>
                      <a:pt x="1381" y="806"/>
                    </a:lnTo>
                    <a:lnTo>
                      <a:pt x="1304" y="804"/>
                    </a:lnTo>
                    <a:lnTo>
                      <a:pt x="1228" y="800"/>
                    </a:lnTo>
                    <a:lnTo>
                      <a:pt x="1154" y="796"/>
                    </a:lnTo>
                    <a:lnTo>
                      <a:pt x="1081" y="790"/>
                    </a:lnTo>
                    <a:lnTo>
                      <a:pt x="1009" y="784"/>
                    </a:lnTo>
                    <a:lnTo>
                      <a:pt x="940" y="776"/>
                    </a:lnTo>
                    <a:lnTo>
                      <a:pt x="872" y="768"/>
                    </a:lnTo>
                    <a:lnTo>
                      <a:pt x="805" y="759"/>
                    </a:lnTo>
                    <a:lnTo>
                      <a:pt x="741" y="749"/>
                    </a:lnTo>
                    <a:lnTo>
                      <a:pt x="679" y="739"/>
                    </a:lnTo>
                    <a:lnTo>
                      <a:pt x="618" y="727"/>
                    </a:lnTo>
                    <a:lnTo>
                      <a:pt x="560" y="715"/>
                    </a:lnTo>
                    <a:lnTo>
                      <a:pt x="504" y="702"/>
                    </a:lnTo>
                    <a:lnTo>
                      <a:pt x="451" y="688"/>
                    </a:lnTo>
                    <a:lnTo>
                      <a:pt x="400" y="673"/>
                    </a:lnTo>
                    <a:lnTo>
                      <a:pt x="352" y="659"/>
                    </a:lnTo>
                    <a:lnTo>
                      <a:pt x="306" y="643"/>
                    </a:lnTo>
                    <a:lnTo>
                      <a:pt x="263" y="627"/>
                    </a:lnTo>
                    <a:lnTo>
                      <a:pt x="224" y="610"/>
                    </a:lnTo>
                    <a:lnTo>
                      <a:pt x="186" y="592"/>
                    </a:lnTo>
                    <a:lnTo>
                      <a:pt x="152" y="575"/>
                    </a:lnTo>
                    <a:lnTo>
                      <a:pt x="122" y="556"/>
                    </a:lnTo>
                    <a:lnTo>
                      <a:pt x="94" y="538"/>
                    </a:lnTo>
                    <a:lnTo>
                      <a:pt x="70" y="519"/>
                    </a:lnTo>
                    <a:lnTo>
                      <a:pt x="49" y="499"/>
                    </a:lnTo>
                    <a:lnTo>
                      <a:pt x="32" y="479"/>
                    </a:lnTo>
                    <a:lnTo>
                      <a:pt x="19" y="458"/>
                    </a:lnTo>
                    <a:lnTo>
                      <a:pt x="8" y="438"/>
                    </a:lnTo>
                    <a:lnTo>
                      <a:pt x="2" y="417"/>
                    </a:lnTo>
                    <a:lnTo>
                      <a:pt x="0" y="396"/>
                    </a:lnTo>
                    <a:lnTo>
                      <a:pt x="2" y="374"/>
                    </a:lnTo>
                    <a:lnTo>
                      <a:pt x="8" y="353"/>
                    </a:lnTo>
                    <a:lnTo>
                      <a:pt x="19" y="333"/>
                    </a:lnTo>
                    <a:lnTo>
                      <a:pt x="32" y="313"/>
                    </a:lnTo>
                    <a:lnTo>
                      <a:pt x="49" y="294"/>
                    </a:lnTo>
                    <a:lnTo>
                      <a:pt x="70" y="275"/>
                    </a:lnTo>
                    <a:lnTo>
                      <a:pt x="94" y="255"/>
                    </a:lnTo>
                    <a:lnTo>
                      <a:pt x="122" y="237"/>
                    </a:lnTo>
                    <a:lnTo>
                      <a:pt x="152" y="220"/>
                    </a:lnTo>
                    <a:lnTo>
                      <a:pt x="186" y="203"/>
                    </a:lnTo>
                    <a:lnTo>
                      <a:pt x="224" y="186"/>
                    </a:lnTo>
                    <a:lnTo>
                      <a:pt x="263" y="170"/>
                    </a:lnTo>
                    <a:lnTo>
                      <a:pt x="306" y="154"/>
                    </a:lnTo>
                    <a:lnTo>
                      <a:pt x="352" y="139"/>
                    </a:lnTo>
                    <a:lnTo>
                      <a:pt x="400" y="125"/>
                    </a:lnTo>
                    <a:lnTo>
                      <a:pt x="451" y="112"/>
                    </a:lnTo>
                    <a:lnTo>
                      <a:pt x="504" y="99"/>
                    </a:lnTo>
                    <a:lnTo>
                      <a:pt x="560" y="87"/>
                    </a:lnTo>
                    <a:lnTo>
                      <a:pt x="618" y="76"/>
                    </a:lnTo>
                    <a:lnTo>
                      <a:pt x="679" y="65"/>
                    </a:lnTo>
                    <a:lnTo>
                      <a:pt x="741" y="54"/>
                    </a:lnTo>
                    <a:lnTo>
                      <a:pt x="805" y="45"/>
                    </a:lnTo>
                    <a:lnTo>
                      <a:pt x="872" y="37"/>
                    </a:lnTo>
                    <a:lnTo>
                      <a:pt x="940" y="29"/>
                    </a:lnTo>
                    <a:lnTo>
                      <a:pt x="1009" y="22"/>
                    </a:lnTo>
                    <a:lnTo>
                      <a:pt x="1081" y="17"/>
                    </a:lnTo>
                    <a:lnTo>
                      <a:pt x="1154" y="12"/>
                    </a:lnTo>
                    <a:lnTo>
                      <a:pt x="1228" y="7"/>
                    </a:lnTo>
                    <a:lnTo>
                      <a:pt x="1304" y="4"/>
                    </a:lnTo>
                    <a:lnTo>
                      <a:pt x="1381" y="2"/>
                    </a:lnTo>
                    <a:lnTo>
                      <a:pt x="1460" y="0"/>
                    </a:lnTo>
                    <a:lnTo>
                      <a:pt x="1538" y="0"/>
                    </a:lnTo>
                    <a:lnTo>
                      <a:pt x="1617" y="0"/>
                    </a:lnTo>
                    <a:lnTo>
                      <a:pt x="1696" y="2"/>
                    </a:lnTo>
                    <a:lnTo>
                      <a:pt x="1773" y="4"/>
                    </a:lnTo>
                    <a:lnTo>
                      <a:pt x="1849" y="7"/>
                    </a:lnTo>
                    <a:lnTo>
                      <a:pt x="1923" y="12"/>
                    </a:lnTo>
                    <a:lnTo>
                      <a:pt x="1996" y="17"/>
                    </a:lnTo>
                    <a:lnTo>
                      <a:pt x="2068" y="22"/>
                    </a:lnTo>
                    <a:lnTo>
                      <a:pt x="2137" y="29"/>
                    </a:lnTo>
                    <a:lnTo>
                      <a:pt x="2205" y="37"/>
                    </a:lnTo>
                    <a:lnTo>
                      <a:pt x="2272" y="45"/>
                    </a:lnTo>
                    <a:lnTo>
                      <a:pt x="2336" y="54"/>
                    </a:lnTo>
                    <a:lnTo>
                      <a:pt x="2399" y="65"/>
                    </a:lnTo>
                    <a:lnTo>
                      <a:pt x="2459" y="76"/>
                    </a:lnTo>
                    <a:lnTo>
                      <a:pt x="2517" y="87"/>
                    </a:lnTo>
                    <a:lnTo>
                      <a:pt x="2573" y="99"/>
                    </a:lnTo>
                    <a:lnTo>
                      <a:pt x="2626" y="112"/>
                    </a:lnTo>
                    <a:lnTo>
                      <a:pt x="2677" y="125"/>
                    </a:lnTo>
                    <a:lnTo>
                      <a:pt x="2725" y="139"/>
                    </a:lnTo>
                    <a:lnTo>
                      <a:pt x="2771" y="154"/>
                    </a:lnTo>
                    <a:lnTo>
                      <a:pt x="2814" y="170"/>
                    </a:lnTo>
                    <a:lnTo>
                      <a:pt x="2853" y="186"/>
                    </a:lnTo>
                    <a:lnTo>
                      <a:pt x="2891" y="203"/>
                    </a:lnTo>
                    <a:lnTo>
                      <a:pt x="2925" y="220"/>
                    </a:lnTo>
                    <a:lnTo>
                      <a:pt x="2955" y="237"/>
                    </a:lnTo>
                    <a:lnTo>
                      <a:pt x="2984" y="255"/>
                    </a:lnTo>
                    <a:lnTo>
                      <a:pt x="3008" y="275"/>
                    </a:lnTo>
                    <a:lnTo>
                      <a:pt x="3028" y="294"/>
                    </a:lnTo>
                    <a:lnTo>
                      <a:pt x="3045" y="313"/>
                    </a:lnTo>
                    <a:lnTo>
                      <a:pt x="3058" y="333"/>
                    </a:lnTo>
                    <a:lnTo>
                      <a:pt x="3069" y="353"/>
                    </a:lnTo>
                    <a:lnTo>
                      <a:pt x="3075" y="374"/>
                    </a:lnTo>
                    <a:lnTo>
                      <a:pt x="3077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120760" y="6529320"/>
                <a:ext cx="339840" cy="96840"/>
              </a:xfrm>
              <a:custGeom>
                <a:avLst/>
                <a:gdLst/>
                <a:ahLst/>
                <a:rect l="l" t="t" r="r" b="b"/>
                <a:pathLst>
                  <a:path w="3074" h="808">
                    <a:moveTo>
                      <a:pt x="3074" y="395"/>
                    </a:moveTo>
                    <a:lnTo>
                      <a:pt x="3072" y="416"/>
                    </a:lnTo>
                    <a:lnTo>
                      <a:pt x="3066" y="437"/>
                    </a:lnTo>
                    <a:lnTo>
                      <a:pt x="3055" y="457"/>
                    </a:lnTo>
                    <a:lnTo>
                      <a:pt x="3042" y="477"/>
                    </a:lnTo>
                    <a:lnTo>
                      <a:pt x="3025" y="498"/>
                    </a:lnTo>
                    <a:lnTo>
                      <a:pt x="3004" y="518"/>
                    </a:lnTo>
                    <a:lnTo>
                      <a:pt x="2980" y="536"/>
                    </a:lnTo>
                    <a:lnTo>
                      <a:pt x="2952" y="555"/>
                    </a:lnTo>
                    <a:lnTo>
                      <a:pt x="2922" y="573"/>
                    </a:lnTo>
                    <a:lnTo>
                      <a:pt x="2888" y="591"/>
                    </a:lnTo>
                    <a:lnTo>
                      <a:pt x="2850" y="609"/>
                    </a:lnTo>
                    <a:lnTo>
                      <a:pt x="2811" y="625"/>
                    </a:lnTo>
                    <a:lnTo>
                      <a:pt x="2768" y="642"/>
                    </a:lnTo>
                    <a:lnTo>
                      <a:pt x="2722" y="657"/>
                    </a:lnTo>
                    <a:lnTo>
                      <a:pt x="2674" y="672"/>
                    </a:lnTo>
                    <a:lnTo>
                      <a:pt x="2623" y="686"/>
                    </a:lnTo>
                    <a:lnTo>
                      <a:pt x="2570" y="701"/>
                    </a:lnTo>
                    <a:lnTo>
                      <a:pt x="2514" y="713"/>
                    </a:lnTo>
                    <a:lnTo>
                      <a:pt x="2456" y="725"/>
                    </a:lnTo>
                    <a:lnTo>
                      <a:pt x="2396" y="737"/>
                    </a:lnTo>
                    <a:lnTo>
                      <a:pt x="2333" y="748"/>
                    </a:lnTo>
                    <a:lnTo>
                      <a:pt x="2269" y="757"/>
                    </a:lnTo>
                    <a:lnTo>
                      <a:pt x="2203" y="766"/>
                    </a:lnTo>
                    <a:lnTo>
                      <a:pt x="2134" y="775"/>
                    </a:lnTo>
                    <a:lnTo>
                      <a:pt x="2065" y="782"/>
                    </a:lnTo>
                    <a:lnTo>
                      <a:pt x="1994" y="788"/>
                    </a:lnTo>
                    <a:lnTo>
                      <a:pt x="1920" y="794"/>
                    </a:lnTo>
                    <a:lnTo>
                      <a:pt x="1847" y="798"/>
                    </a:lnTo>
                    <a:lnTo>
                      <a:pt x="1771" y="802"/>
                    </a:lnTo>
                    <a:lnTo>
                      <a:pt x="1694" y="805"/>
                    </a:lnTo>
                    <a:lnTo>
                      <a:pt x="1615" y="807"/>
                    </a:lnTo>
                    <a:lnTo>
                      <a:pt x="1536" y="808"/>
                    </a:lnTo>
                    <a:lnTo>
                      <a:pt x="1458" y="807"/>
                    </a:lnTo>
                    <a:lnTo>
                      <a:pt x="1379" y="805"/>
                    </a:lnTo>
                    <a:lnTo>
                      <a:pt x="1302" y="802"/>
                    </a:lnTo>
                    <a:lnTo>
                      <a:pt x="1226" y="798"/>
                    </a:lnTo>
                    <a:lnTo>
                      <a:pt x="1153" y="794"/>
                    </a:lnTo>
                    <a:lnTo>
                      <a:pt x="1080" y="788"/>
                    </a:lnTo>
                    <a:lnTo>
                      <a:pt x="1008" y="782"/>
                    </a:lnTo>
                    <a:lnTo>
                      <a:pt x="939" y="775"/>
                    </a:lnTo>
                    <a:lnTo>
                      <a:pt x="870" y="766"/>
                    </a:lnTo>
                    <a:lnTo>
                      <a:pt x="804" y="757"/>
                    </a:lnTo>
                    <a:lnTo>
                      <a:pt x="740" y="748"/>
                    </a:lnTo>
                    <a:lnTo>
                      <a:pt x="677" y="737"/>
                    </a:lnTo>
                    <a:lnTo>
                      <a:pt x="617" y="725"/>
                    </a:lnTo>
                    <a:lnTo>
                      <a:pt x="559" y="713"/>
                    </a:lnTo>
                    <a:lnTo>
                      <a:pt x="503" y="701"/>
                    </a:lnTo>
                    <a:lnTo>
                      <a:pt x="450" y="686"/>
                    </a:lnTo>
                    <a:lnTo>
                      <a:pt x="399" y="672"/>
                    </a:lnTo>
                    <a:lnTo>
                      <a:pt x="351" y="657"/>
                    </a:lnTo>
                    <a:lnTo>
                      <a:pt x="305" y="642"/>
                    </a:lnTo>
                    <a:lnTo>
                      <a:pt x="262" y="625"/>
                    </a:lnTo>
                    <a:lnTo>
                      <a:pt x="223" y="609"/>
                    </a:lnTo>
                    <a:lnTo>
                      <a:pt x="185" y="591"/>
                    </a:lnTo>
                    <a:lnTo>
                      <a:pt x="152" y="573"/>
                    </a:lnTo>
                    <a:lnTo>
                      <a:pt x="121" y="555"/>
                    </a:lnTo>
                    <a:lnTo>
                      <a:pt x="93" y="536"/>
                    </a:lnTo>
                    <a:lnTo>
                      <a:pt x="69" y="518"/>
                    </a:lnTo>
                    <a:lnTo>
                      <a:pt x="48" y="498"/>
                    </a:lnTo>
                    <a:lnTo>
                      <a:pt x="31" y="477"/>
                    </a:lnTo>
                    <a:lnTo>
                      <a:pt x="18" y="457"/>
                    </a:lnTo>
                    <a:lnTo>
                      <a:pt x="7" y="437"/>
                    </a:lnTo>
                    <a:lnTo>
                      <a:pt x="2" y="416"/>
                    </a:lnTo>
                    <a:lnTo>
                      <a:pt x="0" y="395"/>
                    </a:lnTo>
                    <a:lnTo>
                      <a:pt x="2" y="373"/>
                    </a:lnTo>
                    <a:lnTo>
                      <a:pt x="7" y="352"/>
                    </a:lnTo>
                    <a:lnTo>
                      <a:pt x="18" y="332"/>
                    </a:lnTo>
                    <a:lnTo>
                      <a:pt x="31" y="312"/>
                    </a:lnTo>
                    <a:lnTo>
                      <a:pt x="48" y="293"/>
                    </a:lnTo>
                    <a:lnTo>
                      <a:pt x="69" y="274"/>
                    </a:lnTo>
                    <a:lnTo>
                      <a:pt x="93" y="255"/>
                    </a:lnTo>
                    <a:lnTo>
                      <a:pt x="121" y="237"/>
                    </a:lnTo>
                    <a:lnTo>
                      <a:pt x="152" y="219"/>
                    </a:lnTo>
                    <a:lnTo>
                      <a:pt x="185" y="202"/>
                    </a:lnTo>
                    <a:lnTo>
                      <a:pt x="223" y="186"/>
                    </a:lnTo>
                    <a:lnTo>
                      <a:pt x="262" y="170"/>
                    </a:lnTo>
                    <a:lnTo>
                      <a:pt x="305" y="154"/>
                    </a:lnTo>
                    <a:lnTo>
                      <a:pt x="351" y="139"/>
                    </a:lnTo>
                    <a:lnTo>
                      <a:pt x="399" y="125"/>
                    </a:lnTo>
                    <a:lnTo>
                      <a:pt x="450" y="112"/>
                    </a:lnTo>
                    <a:lnTo>
                      <a:pt x="503" y="99"/>
                    </a:lnTo>
                    <a:lnTo>
                      <a:pt x="559" y="87"/>
                    </a:lnTo>
                    <a:lnTo>
                      <a:pt x="617" y="76"/>
                    </a:lnTo>
                    <a:lnTo>
                      <a:pt x="677" y="65"/>
                    </a:lnTo>
                    <a:lnTo>
                      <a:pt x="740" y="54"/>
                    </a:lnTo>
                    <a:lnTo>
                      <a:pt x="804" y="45"/>
                    </a:lnTo>
                    <a:lnTo>
                      <a:pt x="870" y="37"/>
                    </a:lnTo>
                    <a:lnTo>
                      <a:pt x="939" y="29"/>
                    </a:lnTo>
                    <a:lnTo>
                      <a:pt x="1008" y="22"/>
                    </a:lnTo>
                    <a:lnTo>
                      <a:pt x="1080" y="16"/>
                    </a:lnTo>
                    <a:lnTo>
                      <a:pt x="1153" y="11"/>
                    </a:lnTo>
                    <a:lnTo>
                      <a:pt x="1226" y="7"/>
                    </a:lnTo>
                    <a:lnTo>
                      <a:pt x="1302" y="4"/>
                    </a:lnTo>
                    <a:lnTo>
                      <a:pt x="1379" y="2"/>
                    </a:lnTo>
                    <a:lnTo>
                      <a:pt x="1458" y="0"/>
                    </a:lnTo>
                    <a:lnTo>
                      <a:pt x="1536" y="0"/>
                    </a:lnTo>
                    <a:lnTo>
                      <a:pt x="1615" y="0"/>
                    </a:lnTo>
                    <a:lnTo>
                      <a:pt x="1694" y="2"/>
                    </a:lnTo>
                    <a:lnTo>
                      <a:pt x="1771" y="4"/>
                    </a:lnTo>
                    <a:lnTo>
                      <a:pt x="1847" y="7"/>
                    </a:lnTo>
                    <a:lnTo>
                      <a:pt x="1920" y="11"/>
                    </a:lnTo>
                    <a:lnTo>
                      <a:pt x="1994" y="16"/>
                    </a:lnTo>
                    <a:lnTo>
                      <a:pt x="2065" y="22"/>
                    </a:lnTo>
                    <a:lnTo>
                      <a:pt x="2134" y="29"/>
                    </a:lnTo>
                    <a:lnTo>
                      <a:pt x="2203" y="37"/>
                    </a:lnTo>
                    <a:lnTo>
                      <a:pt x="2269" y="45"/>
                    </a:lnTo>
                    <a:lnTo>
                      <a:pt x="2333" y="54"/>
                    </a:lnTo>
                    <a:lnTo>
                      <a:pt x="2396" y="65"/>
                    </a:lnTo>
                    <a:lnTo>
                      <a:pt x="2456" y="76"/>
                    </a:lnTo>
                    <a:lnTo>
                      <a:pt x="2514" y="87"/>
                    </a:lnTo>
                    <a:lnTo>
                      <a:pt x="2570" y="99"/>
                    </a:lnTo>
                    <a:lnTo>
                      <a:pt x="2623" y="112"/>
                    </a:lnTo>
                    <a:lnTo>
                      <a:pt x="2674" y="125"/>
                    </a:lnTo>
                    <a:lnTo>
                      <a:pt x="2722" y="139"/>
                    </a:lnTo>
                    <a:lnTo>
                      <a:pt x="2768" y="154"/>
                    </a:lnTo>
                    <a:lnTo>
                      <a:pt x="2811" y="170"/>
                    </a:lnTo>
                    <a:lnTo>
                      <a:pt x="2850" y="186"/>
                    </a:lnTo>
                    <a:lnTo>
                      <a:pt x="2888" y="202"/>
                    </a:lnTo>
                    <a:lnTo>
                      <a:pt x="2922" y="219"/>
                    </a:lnTo>
                    <a:lnTo>
                      <a:pt x="2952" y="237"/>
                    </a:lnTo>
                    <a:lnTo>
                      <a:pt x="2980" y="255"/>
                    </a:lnTo>
                    <a:lnTo>
                      <a:pt x="3004" y="274"/>
                    </a:lnTo>
                    <a:lnTo>
                      <a:pt x="3025" y="293"/>
                    </a:lnTo>
                    <a:lnTo>
                      <a:pt x="3042" y="312"/>
                    </a:lnTo>
                    <a:lnTo>
                      <a:pt x="3055" y="332"/>
                    </a:lnTo>
                    <a:lnTo>
                      <a:pt x="3066" y="352"/>
                    </a:lnTo>
                    <a:lnTo>
                      <a:pt x="3072" y="373"/>
                    </a:lnTo>
                    <a:lnTo>
                      <a:pt x="3074" y="3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120760" y="6529320"/>
                <a:ext cx="339840" cy="96840"/>
              </a:xfrm>
              <a:custGeom>
                <a:avLst/>
                <a:gdLst/>
                <a:ahLst/>
                <a:rect l="l" t="t" r="r" b="b"/>
                <a:pathLst>
                  <a:path w="3071" h="806">
                    <a:moveTo>
                      <a:pt x="3071" y="394"/>
                    </a:moveTo>
                    <a:lnTo>
                      <a:pt x="3069" y="415"/>
                    </a:lnTo>
                    <a:lnTo>
                      <a:pt x="3062" y="436"/>
                    </a:lnTo>
                    <a:lnTo>
                      <a:pt x="3053" y="456"/>
                    </a:lnTo>
                    <a:lnTo>
                      <a:pt x="3039" y="476"/>
                    </a:lnTo>
                    <a:lnTo>
                      <a:pt x="3022" y="497"/>
                    </a:lnTo>
                    <a:lnTo>
                      <a:pt x="3002" y="516"/>
                    </a:lnTo>
                    <a:lnTo>
                      <a:pt x="2978" y="535"/>
                    </a:lnTo>
                    <a:lnTo>
                      <a:pt x="2950" y="554"/>
                    </a:lnTo>
                    <a:lnTo>
                      <a:pt x="2919" y="572"/>
                    </a:lnTo>
                    <a:lnTo>
                      <a:pt x="2886" y="589"/>
                    </a:lnTo>
                    <a:lnTo>
                      <a:pt x="2848" y="607"/>
                    </a:lnTo>
                    <a:lnTo>
                      <a:pt x="2809" y="624"/>
                    </a:lnTo>
                    <a:lnTo>
                      <a:pt x="2766" y="640"/>
                    </a:lnTo>
                    <a:lnTo>
                      <a:pt x="2720" y="655"/>
                    </a:lnTo>
                    <a:lnTo>
                      <a:pt x="2672" y="670"/>
                    </a:lnTo>
                    <a:lnTo>
                      <a:pt x="2621" y="684"/>
                    </a:lnTo>
                    <a:lnTo>
                      <a:pt x="2568" y="699"/>
                    </a:lnTo>
                    <a:lnTo>
                      <a:pt x="2512" y="712"/>
                    </a:lnTo>
                    <a:lnTo>
                      <a:pt x="2455" y="724"/>
                    </a:lnTo>
                    <a:lnTo>
                      <a:pt x="2394" y="735"/>
                    </a:lnTo>
                    <a:lnTo>
                      <a:pt x="2331" y="746"/>
                    </a:lnTo>
                    <a:lnTo>
                      <a:pt x="2268" y="756"/>
                    </a:lnTo>
                    <a:lnTo>
                      <a:pt x="2201" y="765"/>
                    </a:lnTo>
                    <a:lnTo>
                      <a:pt x="2133" y="773"/>
                    </a:lnTo>
                    <a:lnTo>
                      <a:pt x="2064" y="780"/>
                    </a:lnTo>
                    <a:lnTo>
                      <a:pt x="1992" y="786"/>
                    </a:lnTo>
                    <a:lnTo>
                      <a:pt x="1919" y="792"/>
                    </a:lnTo>
                    <a:lnTo>
                      <a:pt x="1845" y="796"/>
                    </a:lnTo>
                    <a:lnTo>
                      <a:pt x="1770" y="800"/>
                    </a:lnTo>
                    <a:lnTo>
                      <a:pt x="1692" y="803"/>
                    </a:lnTo>
                    <a:lnTo>
                      <a:pt x="1614" y="804"/>
                    </a:lnTo>
                    <a:lnTo>
                      <a:pt x="1535" y="806"/>
                    </a:lnTo>
                    <a:lnTo>
                      <a:pt x="1457" y="804"/>
                    </a:lnTo>
                    <a:lnTo>
                      <a:pt x="1379" y="803"/>
                    </a:lnTo>
                    <a:lnTo>
                      <a:pt x="1302" y="800"/>
                    </a:lnTo>
                    <a:lnTo>
                      <a:pt x="1226" y="796"/>
                    </a:lnTo>
                    <a:lnTo>
                      <a:pt x="1152" y="792"/>
                    </a:lnTo>
                    <a:lnTo>
                      <a:pt x="1079" y="786"/>
                    </a:lnTo>
                    <a:lnTo>
                      <a:pt x="1007" y="780"/>
                    </a:lnTo>
                    <a:lnTo>
                      <a:pt x="938" y="773"/>
                    </a:lnTo>
                    <a:lnTo>
                      <a:pt x="870" y="765"/>
                    </a:lnTo>
                    <a:lnTo>
                      <a:pt x="803" y="756"/>
                    </a:lnTo>
                    <a:lnTo>
                      <a:pt x="740" y="746"/>
                    </a:lnTo>
                    <a:lnTo>
                      <a:pt x="677" y="735"/>
                    </a:lnTo>
                    <a:lnTo>
                      <a:pt x="617" y="724"/>
                    </a:lnTo>
                    <a:lnTo>
                      <a:pt x="559" y="712"/>
                    </a:lnTo>
                    <a:lnTo>
                      <a:pt x="503" y="699"/>
                    </a:lnTo>
                    <a:lnTo>
                      <a:pt x="450" y="684"/>
                    </a:lnTo>
                    <a:lnTo>
                      <a:pt x="399" y="670"/>
                    </a:lnTo>
                    <a:lnTo>
                      <a:pt x="351" y="655"/>
                    </a:lnTo>
                    <a:lnTo>
                      <a:pt x="305" y="640"/>
                    </a:lnTo>
                    <a:lnTo>
                      <a:pt x="263" y="624"/>
                    </a:lnTo>
                    <a:lnTo>
                      <a:pt x="223" y="607"/>
                    </a:lnTo>
                    <a:lnTo>
                      <a:pt x="185" y="589"/>
                    </a:lnTo>
                    <a:lnTo>
                      <a:pt x="152" y="572"/>
                    </a:lnTo>
                    <a:lnTo>
                      <a:pt x="121" y="554"/>
                    </a:lnTo>
                    <a:lnTo>
                      <a:pt x="93" y="535"/>
                    </a:lnTo>
                    <a:lnTo>
                      <a:pt x="69" y="516"/>
                    </a:lnTo>
                    <a:lnTo>
                      <a:pt x="49" y="497"/>
                    </a:lnTo>
                    <a:lnTo>
                      <a:pt x="32" y="476"/>
                    </a:lnTo>
                    <a:lnTo>
                      <a:pt x="19" y="456"/>
                    </a:lnTo>
                    <a:lnTo>
                      <a:pt x="8" y="436"/>
                    </a:lnTo>
                    <a:lnTo>
                      <a:pt x="2" y="415"/>
                    </a:lnTo>
                    <a:lnTo>
                      <a:pt x="0" y="394"/>
                    </a:lnTo>
                    <a:lnTo>
                      <a:pt x="2" y="372"/>
                    </a:lnTo>
                    <a:lnTo>
                      <a:pt x="8" y="351"/>
                    </a:lnTo>
                    <a:lnTo>
                      <a:pt x="19" y="331"/>
                    </a:lnTo>
                    <a:lnTo>
                      <a:pt x="32" y="312"/>
                    </a:lnTo>
                    <a:lnTo>
                      <a:pt x="49" y="292"/>
                    </a:lnTo>
                    <a:lnTo>
                      <a:pt x="69" y="273"/>
                    </a:lnTo>
                    <a:lnTo>
                      <a:pt x="93" y="254"/>
                    </a:lnTo>
                    <a:lnTo>
                      <a:pt x="121" y="236"/>
                    </a:lnTo>
                    <a:lnTo>
                      <a:pt x="152" y="219"/>
                    </a:lnTo>
                    <a:lnTo>
                      <a:pt x="185" y="202"/>
                    </a:lnTo>
                    <a:lnTo>
                      <a:pt x="223" y="185"/>
                    </a:lnTo>
                    <a:lnTo>
                      <a:pt x="263" y="169"/>
                    </a:lnTo>
                    <a:lnTo>
                      <a:pt x="305" y="153"/>
                    </a:lnTo>
                    <a:lnTo>
                      <a:pt x="351" y="139"/>
                    </a:lnTo>
                    <a:lnTo>
                      <a:pt x="399" y="125"/>
                    </a:lnTo>
                    <a:lnTo>
                      <a:pt x="450" y="111"/>
                    </a:lnTo>
                    <a:lnTo>
                      <a:pt x="503" y="99"/>
                    </a:lnTo>
                    <a:lnTo>
                      <a:pt x="559" y="87"/>
                    </a:lnTo>
                    <a:lnTo>
                      <a:pt x="617" y="75"/>
                    </a:lnTo>
                    <a:lnTo>
                      <a:pt x="677" y="65"/>
                    </a:lnTo>
                    <a:lnTo>
                      <a:pt x="740" y="54"/>
                    </a:lnTo>
                    <a:lnTo>
                      <a:pt x="803" y="45"/>
                    </a:lnTo>
                    <a:lnTo>
                      <a:pt x="870" y="36"/>
                    </a:lnTo>
                    <a:lnTo>
                      <a:pt x="938" y="29"/>
                    </a:lnTo>
                    <a:lnTo>
                      <a:pt x="1007" y="22"/>
                    </a:lnTo>
                    <a:lnTo>
                      <a:pt x="1079" y="16"/>
                    </a:lnTo>
                    <a:lnTo>
                      <a:pt x="1152" y="11"/>
                    </a:lnTo>
                    <a:lnTo>
                      <a:pt x="1226" y="7"/>
                    </a:lnTo>
                    <a:lnTo>
                      <a:pt x="1302" y="4"/>
                    </a:lnTo>
                    <a:lnTo>
                      <a:pt x="1379" y="2"/>
                    </a:lnTo>
                    <a:lnTo>
                      <a:pt x="1457" y="0"/>
                    </a:lnTo>
                    <a:lnTo>
                      <a:pt x="1535" y="0"/>
                    </a:lnTo>
                    <a:lnTo>
                      <a:pt x="1614" y="0"/>
                    </a:lnTo>
                    <a:lnTo>
                      <a:pt x="1692" y="2"/>
                    </a:lnTo>
                    <a:lnTo>
                      <a:pt x="1770" y="4"/>
                    </a:lnTo>
                    <a:lnTo>
                      <a:pt x="1845" y="7"/>
                    </a:lnTo>
                    <a:lnTo>
                      <a:pt x="1919" y="11"/>
                    </a:lnTo>
                    <a:lnTo>
                      <a:pt x="1992" y="16"/>
                    </a:lnTo>
                    <a:lnTo>
                      <a:pt x="2064" y="22"/>
                    </a:lnTo>
                    <a:lnTo>
                      <a:pt x="2133" y="29"/>
                    </a:lnTo>
                    <a:lnTo>
                      <a:pt x="2201" y="36"/>
                    </a:lnTo>
                    <a:lnTo>
                      <a:pt x="2268" y="45"/>
                    </a:lnTo>
                    <a:lnTo>
                      <a:pt x="2331" y="54"/>
                    </a:lnTo>
                    <a:lnTo>
                      <a:pt x="2394" y="65"/>
                    </a:lnTo>
                    <a:lnTo>
                      <a:pt x="2455" y="75"/>
                    </a:lnTo>
                    <a:lnTo>
                      <a:pt x="2512" y="87"/>
                    </a:lnTo>
                    <a:lnTo>
                      <a:pt x="2568" y="99"/>
                    </a:lnTo>
                    <a:lnTo>
                      <a:pt x="2621" y="111"/>
                    </a:lnTo>
                    <a:lnTo>
                      <a:pt x="2672" y="125"/>
                    </a:lnTo>
                    <a:lnTo>
                      <a:pt x="2720" y="139"/>
                    </a:lnTo>
                    <a:lnTo>
                      <a:pt x="2766" y="153"/>
                    </a:lnTo>
                    <a:lnTo>
                      <a:pt x="2809" y="169"/>
                    </a:lnTo>
                    <a:lnTo>
                      <a:pt x="2848" y="185"/>
                    </a:lnTo>
                    <a:lnTo>
                      <a:pt x="2886" y="202"/>
                    </a:lnTo>
                    <a:lnTo>
                      <a:pt x="2919" y="219"/>
                    </a:lnTo>
                    <a:lnTo>
                      <a:pt x="2950" y="236"/>
                    </a:lnTo>
                    <a:lnTo>
                      <a:pt x="2978" y="254"/>
                    </a:lnTo>
                    <a:lnTo>
                      <a:pt x="3002" y="273"/>
                    </a:lnTo>
                    <a:lnTo>
                      <a:pt x="3022" y="292"/>
                    </a:lnTo>
                    <a:lnTo>
                      <a:pt x="3039" y="312"/>
                    </a:lnTo>
                    <a:lnTo>
                      <a:pt x="3053" y="331"/>
                    </a:lnTo>
                    <a:lnTo>
                      <a:pt x="3062" y="351"/>
                    </a:lnTo>
                    <a:lnTo>
                      <a:pt x="3069" y="372"/>
                    </a:lnTo>
                    <a:lnTo>
                      <a:pt x="3071" y="3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120760" y="6529320"/>
                <a:ext cx="338760" cy="95760"/>
              </a:xfrm>
              <a:custGeom>
                <a:avLst/>
                <a:gdLst/>
                <a:ahLst/>
                <a:rect l="l" t="t" r="r" b="b"/>
                <a:pathLst>
                  <a:path w="3069" h="803">
                    <a:moveTo>
                      <a:pt x="3069" y="393"/>
                    </a:moveTo>
                    <a:lnTo>
                      <a:pt x="3067" y="414"/>
                    </a:lnTo>
                    <a:lnTo>
                      <a:pt x="3060" y="435"/>
                    </a:lnTo>
                    <a:lnTo>
                      <a:pt x="3050" y="455"/>
                    </a:lnTo>
                    <a:lnTo>
                      <a:pt x="3037" y="475"/>
                    </a:lnTo>
                    <a:lnTo>
                      <a:pt x="3020" y="496"/>
                    </a:lnTo>
                    <a:lnTo>
                      <a:pt x="2999" y="515"/>
                    </a:lnTo>
                    <a:lnTo>
                      <a:pt x="2976" y="534"/>
                    </a:lnTo>
                    <a:lnTo>
                      <a:pt x="2947" y="552"/>
                    </a:lnTo>
                    <a:lnTo>
                      <a:pt x="2917" y="570"/>
                    </a:lnTo>
                    <a:lnTo>
                      <a:pt x="2883" y="588"/>
                    </a:lnTo>
                    <a:lnTo>
                      <a:pt x="2846" y="606"/>
                    </a:lnTo>
                    <a:lnTo>
                      <a:pt x="2806" y="622"/>
                    </a:lnTo>
                    <a:lnTo>
                      <a:pt x="2764" y="638"/>
                    </a:lnTo>
                    <a:lnTo>
                      <a:pt x="2718" y="654"/>
                    </a:lnTo>
                    <a:lnTo>
                      <a:pt x="2670" y="669"/>
                    </a:lnTo>
                    <a:lnTo>
                      <a:pt x="2619" y="683"/>
                    </a:lnTo>
                    <a:lnTo>
                      <a:pt x="2566" y="696"/>
                    </a:lnTo>
                    <a:lnTo>
                      <a:pt x="2510" y="710"/>
                    </a:lnTo>
                    <a:lnTo>
                      <a:pt x="2452" y="722"/>
                    </a:lnTo>
                    <a:lnTo>
                      <a:pt x="2392" y="733"/>
                    </a:lnTo>
                    <a:lnTo>
                      <a:pt x="2330" y="744"/>
                    </a:lnTo>
                    <a:lnTo>
                      <a:pt x="2266" y="754"/>
                    </a:lnTo>
                    <a:lnTo>
                      <a:pt x="2199" y="763"/>
                    </a:lnTo>
                    <a:lnTo>
                      <a:pt x="2131" y="771"/>
                    </a:lnTo>
                    <a:lnTo>
                      <a:pt x="2062" y="778"/>
                    </a:lnTo>
                    <a:lnTo>
                      <a:pt x="1991" y="785"/>
                    </a:lnTo>
                    <a:lnTo>
                      <a:pt x="1918" y="790"/>
                    </a:lnTo>
                    <a:lnTo>
                      <a:pt x="1844" y="795"/>
                    </a:lnTo>
                    <a:lnTo>
                      <a:pt x="1768" y="798"/>
                    </a:lnTo>
                    <a:lnTo>
                      <a:pt x="1691" y="801"/>
                    </a:lnTo>
                    <a:lnTo>
                      <a:pt x="1613" y="802"/>
                    </a:lnTo>
                    <a:lnTo>
                      <a:pt x="1534" y="803"/>
                    </a:lnTo>
                    <a:lnTo>
                      <a:pt x="1456" y="802"/>
                    </a:lnTo>
                    <a:lnTo>
                      <a:pt x="1378" y="801"/>
                    </a:lnTo>
                    <a:lnTo>
                      <a:pt x="1301" y="798"/>
                    </a:lnTo>
                    <a:lnTo>
                      <a:pt x="1225" y="795"/>
                    </a:lnTo>
                    <a:lnTo>
                      <a:pt x="1152" y="790"/>
                    </a:lnTo>
                    <a:lnTo>
                      <a:pt x="1078" y="785"/>
                    </a:lnTo>
                    <a:lnTo>
                      <a:pt x="1007" y="778"/>
                    </a:lnTo>
                    <a:lnTo>
                      <a:pt x="938" y="771"/>
                    </a:lnTo>
                    <a:lnTo>
                      <a:pt x="870" y="763"/>
                    </a:lnTo>
                    <a:lnTo>
                      <a:pt x="803" y="754"/>
                    </a:lnTo>
                    <a:lnTo>
                      <a:pt x="740" y="744"/>
                    </a:lnTo>
                    <a:lnTo>
                      <a:pt x="677" y="733"/>
                    </a:lnTo>
                    <a:lnTo>
                      <a:pt x="616" y="722"/>
                    </a:lnTo>
                    <a:lnTo>
                      <a:pt x="559" y="710"/>
                    </a:lnTo>
                    <a:lnTo>
                      <a:pt x="503" y="696"/>
                    </a:lnTo>
                    <a:lnTo>
                      <a:pt x="450" y="683"/>
                    </a:lnTo>
                    <a:lnTo>
                      <a:pt x="399" y="669"/>
                    </a:lnTo>
                    <a:lnTo>
                      <a:pt x="351" y="654"/>
                    </a:lnTo>
                    <a:lnTo>
                      <a:pt x="305" y="638"/>
                    </a:lnTo>
                    <a:lnTo>
                      <a:pt x="263" y="622"/>
                    </a:lnTo>
                    <a:lnTo>
                      <a:pt x="223" y="606"/>
                    </a:lnTo>
                    <a:lnTo>
                      <a:pt x="186" y="588"/>
                    </a:lnTo>
                    <a:lnTo>
                      <a:pt x="152" y="570"/>
                    </a:lnTo>
                    <a:lnTo>
                      <a:pt x="122" y="552"/>
                    </a:lnTo>
                    <a:lnTo>
                      <a:pt x="94" y="534"/>
                    </a:lnTo>
                    <a:lnTo>
                      <a:pt x="70" y="515"/>
                    </a:lnTo>
                    <a:lnTo>
                      <a:pt x="49" y="496"/>
                    </a:lnTo>
                    <a:lnTo>
                      <a:pt x="32" y="475"/>
                    </a:lnTo>
                    <a:lnTo>
                      <a:pt x="19" y="455"/>
                    </a:lnTo>
                    <a:lnTo>
                      <a:pt x="8" y="435"/>
                    </a:lnTo>
                    <a:lnTo>
                      <a:pt x="2" y="414"/>
                    </a:lnTo>
                    <a:lnTo>
                      <a:pt x="0" y="393"/>
                    </a:lnTo>
                    <a:lnTo>
                      <a:pt x="2" y="371"/>
                    </a:lnTo>
                    <a:lnTo>
                      <a:pt x="8" y="351"/>
                    </a:lnTo>
                    <a:lnTo>
                      <a:pt x="19" y="330"/>
                    </a:lnTo>
                    <a:lnTo>
                      <a:pt x="32" y="311"/>
                    </a:lnTo>
                    <a:lnTo>
                      <a:pt x="49" y="291"/>
                    </a:lnTo>
                    <a:lnTo>
                      <a:pt x="70" y="273"/>
                    </a:lnTo>
                    <a:lnTo>
                      <a:pt x="94" y="253"/>
                    </a:lnTo>
                    <a:lnTo>
                      <a:pt x="122" y="235"/>
                    </a:lnTo>
                    <a:lnTo>
                      <a:pt x="152" y="218"/>
                    </a:lnTo>
                    <a:lnTo>
                      <a:pt x="186" y="201"/>
                    </a:lnTo>
                    <a:lnTo>
                      <a:pt x="223" y="185"/>
                    </a:lnTo>
                    <a:lnTo>
                      <a:pt x="263" y="169"/>
                    </a:lnTo>
                    <a:lnTo>
                      <a:pt x="305" y="153"/>
                    </a:lnTo>
                    <a:lnTo>
                      <a:pt x="351" y="138"/>
                    </a:lnTo>
                    <a:lnTo>
                      <a:pt x="399" y="124"/>
                    </a:lnTo>
                    <a:lnTo>
                      <a:pt x="450" y="111"/>
                    </a:lnTo>
                    <a:lnTo>
                      <a:pt x="503" y="98"/>
                    </a:lnTo>
                    <a:lnTo>
                      <a:pt x="559" y="86"/>
                    </a:lnTo>
                    <a:lnTo>
                      <a:pt x="616" y="75"/>
                    </a:lnTo>
                    <a:lnTo>
                      <a:pt x="677" y="64"/>
                    </a:lnTo>
                    <a:lnTo>
                      <a:pt x="740" y="54"/>
                    </a:lnTo>
                    <a:lnTo>
                      <a:pt x="803" y="45"/>
                    </a:lnTo>
                    <a:lnTo>
                      <a:pt x="870" y="36"/>
                    </a:lnTo>
                    <a:lnTo>
                      <a:pt x="938" y="29"/>
                    </a:lnTo>
                    <a:lnTo>
                      <a:pt x="1007" y="22"/>
                    </a:lnTo>
                    <a:lnTo>
                      <a:pt x="1078" y="16"/>
                    </a:lnTo>
                    <a:lnTo>
                      <a:pt x="1152" y="11"/>
                    </a:lnTo>
                    <a:lnTo>
                      <a:pt x="1225" y="7"/>
                    </a:lnTo>
                    <a:lnTo>
                      <a:pt x="1301" y="4"/>
                    </a:lnTo>
                    <a:lnTo>
                      <a:pt x="1378" y="1"/>
                    </a:lnTo>
                    <a:lnTo>
                      <a:pt x="1456" y="0"/>
                    </a:lnTo>
                    <a:lnTo>
                      <a:pt x="1534" y="0"/>
                    </a:lnTo>
                    <a:lnTo>
                      <a:pt x="1613" y="0"/>
                    </a:lnTo>
                    <a:lnTo>
                      <a:pt x="1691" y="1"/>
                    </a:lnTo>
                    <a:lnTo>
                      <a:pt x="1768" y="4"/>
                    </a:lnTo>
                    <a:lnTo>
                      <a:pt x="1844" y="7"/>
                    </a:lnTo>
                    <a:lnTo>
                      <a:pt x="1918" y="11"/>
                    </a:lnTo>
                    <a:lnTo>
                      <a:pt x="1991" y="16"/>
                    </a:lnTo>
                    <a:lnTo>
                      <a:pt x="2062" y="22"/>
                    </a:lnTo>
                    <a:lnTo>
                      <a:pt x="2131" y="29"/>
                    </a:lnTo>
                    <a:lnTo>
                      <a:pt x="2199" y="36"/>
                    </a:lnTo>
                    <a:lnTo>
                      <a:pt x="2266" y="45"/>
                    </a:lnTo>
                    <a:lnTo>
                      <a:pt x="2330" y="54"/>
                    </a:lnTo>
                    <a:lnTo>
                      <a:pt x="2392" y="64"/>
                    </a:lnTo>
                    <a:lnTo>
                      <a:pt x="2452" y="75"/>
                    </a:lnTo>
                    <a:lnTo>
                      <a:pt x="2510" y="86"/>
                    </a:lnTo>
                    <a:lnTo>
                      <a:pt x="2566" y="98"/>
                    </a:lnTo>
                    <a:lnTo>
                      <a:pt x="2619" y="111"/>
                    </a:lnTo>
                    <a:lnTo>
                      <a:pt x="2670" y="124"/>
                    </a:lnTo>
                    <a:lnTo>
                      <a:pt x="2718" y="138"/>
                    </a:lnTo>
                    <a:lnTo>
                      <a:pt x="2764" y="153"/>
                    </a:lnTo>
                    <a:lnTo>
                      <a:pt x="2806" y="169"/>
                    </a:lnTo>
                    <a:lnTo>
                      <a:pt x="2846" y="185"/>
                    </a:lnTo>
                    <a:lnTo>
                      <a:pt x="2883" y="201"/>
                    </a:lnTo>
                    <a:lnTo>
                      <a:pt x="2917" y="218"/>
                    </a:lnTo>
                    <a:lnTo>
                      <a:pt x="2947" y="235"/>
                    </a:lnTo>
                    <a:lnTo>
                      <a:pt x="2976" y="253"/>
                    </a:lnTo>
                    <a:lnTo>
                      <a:pt x="2999" y="273"/>
                    </a:lnTo>
                    <a:lnTo>
                      <a:pt x="3020" y="291"/>
                    </a:lnTo>
                    <a:lnTo>
                      <a:pt x="3037" y="311"/>
                    </a:lnTo>
                    <a:lnTo>
                      <a:pt x="3050" y="330"/>
                    </a:lnTo>
                    <a:lnTo>
                      <a:pt x="3060" y="351"/>
                    </a:lnTo>
                    <a:lnTo>
                      <a:pt x="3067" y="371"/>
                    </a:lnTo>
                    <a:lnTo>
                      <a:pt x="3069" y="3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121840" y="6529320"/>
                <a:ext cx="337320" cy="95760"/>
              </a:xfrm>
              <a:custGeom>
                <a:avLst/>
                <a:gdLst/>
                <a:ahLst/>
                <a:rect l="l" t="t" r="r" b="b"/>
                <a:pathLst>
                  <a:path w="3065" h="802">
                    <a:moveTo>
                      <a:pt x="3065" y="393"/>
                    </a:moveTo>
                    <a:lnTo>
                      <a:pt x="3063" y="414"/>
                    </a:lnTo>
                    <a:lnTo>
                      <a:pt x="3056" y="434"/>
                    </a:lnTo>
                    <a:lnTo>
                      <a:pt x="3047" y="455"/>
                    </a:lnTo>
                    <a:lnTo>
                      <a:pt x="3033" y="475"/>
                    </a:lnTo>
                    <a:lnTo>
                      <a:pt x="3017" y="495"/>
                    </a:lnTo>
                    <a:lnTo>
                      <a:pt x="2996" y="515"/>
                    </a:lnTo>
                    <a:lnTo>
                      <a:pt x="2972" y="534"/>
                    </a:lnTo>
                    <a:lnTo>
                      <a:pt x="2944" y="552"/>
                    </a:lnTo>
                    <a:lnTo>
                      <a:pt x="2914" y="570"/>
                    </a:lnTo>
                    <a:lnTo>
                      <a:pt x="2880" y="587"/>
                    </a:lnTo>
                    <a:lnTo>
                      <a:pt x="2843" y="605"/>
                    </a:lnTo>
                    <a:lnTo>
                      <a:pt x="2803" y="622"/>
                    </a:lnTo>
                    <a:lnTo>
                      <a:pt x="2761" y="638"/>
                    </a:lnTo>
                    <a:lnTo>
                      <a:pt x="2715" y="653"/>
                    </a:lnTo>
                    <a:lnTo>
                      <a:pt x="2667" y="668"/>
                    </a:lnTo>
                    <a:lnTo>
                      <a:pt x="2616" y="682"/>
                    </a:lnTo>
                    <a:lnTo>
                      <a:pt x="2563" y="695"/>
                    </a:lnTo>
                    <a:lnTo>
                      <a:pt x="2507" y="709"/>
                    </a:lnTo>
                    <a:lnTo>
                      <a:pt x="2449" y="721"/>
                    </a:lnTo>
                    <a:lnTo>
                      <a:pt x="2389" y="733"/>
                    </a:lnTo>
                    <a:lnTo>
                      <a:pt x="2327" y="743"/>
                    </a:lnTo>
                    <a:lnTo>
                      <a:pt x="2263" y="753"/>
                    </a:lnTo>
                    <a:lnTo>
                      <a:pt x="2197" y="762"/>
                    </a:lnTo>
                    <a:lnTo>
                      <a:pt x="2129" y="770"/>
                    </a:lnTo>
                    <a:lnTo>
                      <a:pt x="2060" y="777"/>
                    </a:lnTo>
                    <a:lnTo>
                      <a:pt x="1988" y="784"/>
                    </a:lnTo>
                    <a:lnTo>
                      <a:pt x="1915" y="789"/>
                    </a:lnTo>
                    <a:lnTo>
                      <a:pt x="1842" y="794"/>
                    </a:lnTo>
                    <a:lnTo>
                      <a:pt x="1766" y="797"/>
                    </a:lnTo>
                    <a:lnTo>
                      <a:pt x="1689" y="800"/>
                    </a:lnTo>
                    <a:lnTo>
                      <a:pt x="1611" y="801"/>
                    </a:lnTo>
                    <a:lnTo>
                      <a:pt x="1532" y="802"/>
                    </a:lnTo>
                    <a:lnTo>
                      <a:pt x="1454" y="801"/>
                    </a:lnTo>
                    <a:lnTo>
                      <a:pt x="1376" y="800"/>
                    </a:lnTo>
                    <a:lnTo>
                      <a:pt x="1299" y="797"/>
                    </a:lnTo>
                    <a:lnTo>
                      <a:pt x="1223" y="794"/>
                    </a:lnTo>
                    <a:lnTo>
                      <a:pt x="1150" y="789"/>
                    </a:lnTo>
                    <a:lnTo>
                      <a:pt x="1077" y="784"/>
                    </a:lnTo>
                    <a:lnTo>
                      <a:pt x="1005" y="777"/>
                    </a:lnTo>
                    <a:lnTo>
                      <a:pt x="936" y="770"/>
                    </a:lnTo>
                    <a:lnTo>
                      <a:pt x="868" y="762"/>
                    </a:lnTo>
                    <a:lnTo>
                      <a:pt x="802" y="753"/>
                    </a:lnTo>
                    <a:lnTo>
                      <a:pt x="738" y="743"/>
                    </a:lnTo>
                    <a:lnTo>
                      <a:pt x="676" y="733"/>
                    </a:lnTo>
                    <a:lnTo>
                      <a:pt x="615" y="721"/>
                    </a:lnTo>
                    <a:lnTo>
                      <a:pt x="558" y="709"/>
                    </a:lnTo>
                    <a:lnTo>
                      <a:pt x="502" y="695"/>
                    </a:lnTo>
                    <a:lnTo>
                      <a:pt x="449" y="682"/>
                    </a:lnTo>
                    <a:lnTo>
                      <a:pt x="398" y="668"/>
                    </a:lnTo>
                    <a:lnTo>
                      <a:pt x="350" y="653"/>
                    </a:lnTo>
                    <a:lnTo>
                      <a:pt x="304" y="638"/>
                    </a:lnTo>
                    <a:lnTo>
                      <a:pt x="262" y="622"/>
                    </a:lnTo>
                    <a:lnTo>
                      <a:pt x="223" y="605"/>
                    </a:lnTo>
                    <a:lnTo>
                      <a:pt x="185" y="587"/>
                    </a:lnTo>
                    <a:lnTo>
                      <a:pt x="151" y="570"/>
                    </a:lnTo>
                    <a:lnTo>
                      <a:pt x="121" y="552"/>
                    </a:lnTo>
                    <a:lnTo>
                      <a:pt x="93" y="534"/>
                    </a:lnTo>
                    <a:lnTo>
                      <a:pt x="69" y="515"/>
                    </a:lnTo>
                    <a:lnTo>
                      <a:pt x="49" y="495"/>
                    </a:lnTo>
                    <a:lnTo>
                      <a:pt x="32" y="475"/>
                    </a:lnTo>
                    <a:lnTo>
                      <a:pt x="18" y="455"/>
                    </a:lnTo>
                    <a:lnTo>
                      <a:pt x="8" y="434"/>
                    </a:lnTo>
                    <a:lnTo>
                      <a:pt x="2" y="414"/>
                    </a:lnTo>
                    <a:lnTo>
                      <a:pt x="0" y="393"/>
                    </a:lnTo>
                    <a:lnTo>
                      <a:pt x="2" y="371"/>
                    </a:lnTo>
                    <a:lnTo>
                      <a:pt x="8" y="351"/>
                    </a:lnTo>
                    <a:lnTo>
                      <a:pt x="18" y="331"/>
                    </a:lnTo>
                    <a:lnTo>
                      <a:pt x="32" y="311"/>
                    </a:lnTo>
                    <a:lnTo>
                      <a:pt x="49" y="292"/>
                    </a:lnTo>
                    <a:lnTo>
                      <a:pt x="69" y="273"/>
                    </a:lnTo>
                    <a:lnTo>
                      <a:pt x="93" y="254"/>
                    </a:lnTo>
                    <a:lnTo>
                      <a:pt x="121" y="236"/>
                    </a:lnTo>
                    <a:lnTo>
                      <a:pt x="151" y="218"/>
                    </a:lnTo>
                    <a:lnTo>
                      <a:pt x="185" y="202"/>
                    </a:lnTo>
                    <a:lnTo>
                      <a:pt x="223" y="185"/>
                    </a:lnTo>
                    <a:lnTo>
                      <a:pt x="262" y="169"/>
                    </a:lnTo>
                    <a:lnTo>
                      <a:pt x="304" y="153"/>
                    </a:lnTo>
                    <a:lnTo>
                      <a:pt x="350" y="139"/>
                    </a:lnTo>
                    <a:lnTo>
                      <a:pt x="398" y="125"/>
                    </a:lnTo>
                    <a:lnTo>
                      <a:pt x="449" y="112"/>
                    </a:lnTo>
                    <a:lnTo>
                      <a:pt x="502" y="99"/>
                    </a:lnTo>
                    <a:lnTo>
                      <a:pt x="558" y="87"/>
                    </a:lnTo>
                    <a:lnTo>
                      <a:pt x="615" y="76"/>
                    </a:lnTo>
                    <a:lnTo>
                      <a:pt x="676" y="65"/>
                    </a:lnTo>
                    <a:lnTo>
                      <a:pt x="738" y="54"/>
                    </a:lnTo>
                    <a:lnTo>
                      <a:pt x="802" y="45"/>
                    </a:lnTo>
                    <a:lnTo>
                      <a:pt x="868" y="37"/>
                    </a:lnTo>
                    <a:lnTo>
                      <a:pt x="936" y="30"/>
                    </a:lnTo>
                    <a:lnTo>
                      <a:pt x="1005" y="23"/>
                    </a:lnTo>
                    <a:lnTo>
                      <a:pt x="1077" y="17"/>
                    </a:lnTo>
                    <a:lnTo>
                      <a:pt x="1150" y="12"/>
                    </a:lnTo>
                    <a:lnTo>
                      <a:pt x="1223" y="8"/>
                    </a:lnTo>
                    <a:lnTo>
                      <a:pt x="1299" y="5"/>
                    </a:lnTo>
                    <a:lnTo>
                      <a:pt x="1376" y="2"/>
                    </a:lnTo>
                    <a:lnTo>
                      <a:pt x="1454" y="1"/>
                    </a:lnTo>
                    <a:lnTo>
                      <a:pt x="1532" y="0"/>
                    </a:lnTo>
                    <a:lnTo>
                      <a:pt x="1611" y="1"/>
                    </a:lnTo>
                    <a:lnTo>
                      <a:pt x="1689" y="2"/>
                    </a:lnTo>
                    <a:lnTo>
                      <a:pt x="1766" y="5"/>
                    </a:lnTo>
                    <a:lnTo>
                      <a:pt x="1842" y="8"/>
                    </a:lnTo>
                    <a:lnTo>
                      <a:pt x="1915" y="12"/>
                    </a:lnTo>
                    <a:lnTo>
                      <a:pt x="1988" y="17"/>
                    </a:lnTo>
                    <a:lnTo>
                      <a:pt x="2060" y="23"/>
                    </a:lnTo>
                    <a:lnTo>
                      <a:pt x="2129" y="30"/>
                    </a:lnTo>
                    <a:lnTo>
                      <a:pt x="2197" y="37"/>
                    </a:lnTo>
                    <a:lnTo>
                      <a:pt x="2263" y="45"/>
                    </a:lnTo>
                    <a:lnTo>
                      <a:pt x="2327" y="54"/>
                    </a:lnTo>
                    <a:lnTo>
                      <a:pt x="2389" y="65"/>
                    </a:lnTo>
                    <a:lnTo>
                      <a:pt x="2449" y="76"/>
                    </a:lnTo>
                    <a:lnTo>
                      <a:pt x="2507" y="87"/>
                    </a:lnTo>
                    <a:lnTo>
                      <a:pt x="2563" y="99"/>
                    </a:lnTo>
                    <a:lnTo>
                      <a:pt x="2616" y="112"/>
                    </a:lnTo>
                    <a:lnTo>
                      <a:pt x="2667" y="125"/>
                    </a:lnTo>
                    <a:lnTo>
                      <a:pt x="2715" y="139"/>
                    </a:lnTo>
                    <a:lnTo>
                      <a:pt x="2761" y="153"/>
                    </a:lnTo>
                    <a:lnTo>
                      <a:pt x="2803" y="169"/>
                    </a:lnTo>
                    <a:lnTo>
                      <a:pt x="2843" y="185"/>
                    </a:lnTo>
                    <a:lnTo>
                      <a:pt x="2880" y="202"/>
                    </a:lnTo>
                    <a:lnTo>
                      <a:pt x="2914" y="218"/>
                    </a:lnTo>
                    <a:lnTo>
                      <a:pt x="2944" y="236"/>
                    </a:lnTo>
                    <a:lnTo>
                      <a:pt x="2972" y="254"/>
                    </a:lnTo>
                    <a:lnTo>
                      <a:pt x="2996" y="273"/>
                    </a:lnTo>
                    <a:lnTo>
                      <a:pt x="3017" y="292"/>
                    </a:lnTo>
                    <a:lnTo>
                      <a:pt x="3033" y="311"/>
                    </a:lnTo>
                    <a:lnTo>
                      <a:pt x="3047" y="331"/>
                    </a:lnTo>
                    <a:lnTo>
                      <a:pt x="3056" y="351"/>
                    </a:lnTo>
                    <a:lnTo>
                      <a:pt x="3063" y="371"/>
                    </a:lnTo>
                    <a:lnTo>
                      <a:pt x="3065" y="3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121840" y="6529320"/>
                <a:ext cx="337320" cy="95760"/>
              </a:xfrm>
              <a:custGeom>
                <a:avLst/>
                <a:gdLst/>
                <a:ahLst/>
                <a:rect l="l" t="t" r="r" b="b"/>
                <a:pathLst>
                  <a:path w="3063" h="800">
                    <a:moveTo>
                      <a:pt x="3063" y="392"/>
                    </a:moveTo>
                    <a:lnTo>
                      <a:pt x="3061" y="413"/>
                    </a:lnTo>
                    <a:lnTo>
                      <a:pt x="3054" y="433"/>
                    </a:lnTo>
                    <a:lnTo>
                      <a:pt x="3044" y="454"/>
                    </a:lnTo>
                    <a:lnTo>
                      <a:pt x="3031" y="474"/>
                    </a:lnTo>
                    <a:lnTo>
                      <a:pt x="3014" y="494"/>
                    </a:lnTo>
                    <a:lnTo>
                      <a:pt x="2994" y="513"/>
                    </a:lnTo>
                    <a:lnTo>
                      <a:pt x="2970" y="532"/>
                    </a:lnTo>
                    <a:lnTo>
                      <a:pt x="2942" y="551"/>
                    </a:lnTo>
                    <a:lnTo>
                      <a:pt x="2911" y="569"/>
                    </a:lnTo>
                    <a:lnTo>
                      <a:pt x="2878" y="586"/>
                    </a:lnTo>
                    <a:lnTo>
                      <a:pt x="2840" y="604"/>
                    </a:lnTo>
                    <a:lnTo>
                      <a:pt x="2801" y="620"/>
                    </a:lnTo>
                    <a:lnTo>
                      <a:pt x="2759" y="636"/>
                    </a:lnTo>
                    <a:lnTo>
                      <a:pt x="2713" y="652"/>
                    </a:lnTo>
                    <a:lnTo>
                      <a:pt x="2665" y="666"/>
                    </a:lnTo>
                    <a:lnTo>
                      <a:pt x="2614" y="680"/>
                    </a:lnTo>
                    <a:lnTo>
                      <a:pt x="2561" y="694"/>
                    </a:lnTo>
                    <a:lnTo>
                      <a:pt x="2505" y="708"/>
                    </a:lnTo>
                    <a:lnTo>
                      <a:pt x="2447" y="720"/>
                    </a:lnTo>
                    <a:lnTo>
                      <a:pt x="2388" y="731"/>
                    </a:lnTo>
                    <a:lnTo>
                      <a:pt x="2325" y="741"/>
                    </a:lnTo>
                    <a:lnTo>
                      <a:pt x="2262" y="751"/>
                    </a:lnTo>
                    <a:lnTo>
                      <a:pt x="2195" y="760"/>
                    </a:lnTo>
                    <a:lnTo>
                      <a:pt x="2127" y="768"/>
                    </a:lnTo>
                    <a:lnTo>
                      <a:pt x="2058" y="775"/>
                    </a:lnTo>
                    <a:lnTo>
                      <a:pt x="1987" y="782"/>
                    </a:lnTo>
                    <a:lnTo>
                      <a:pt x="1914" y="787"/>
                    </a:lnTo>
                    <a:lnTo>
                      <a:pt x="1841" y="792"/>
                    </a:lnTo>
                    <a:lnTo>
                      <a:pt x="1765" y="795"/>
                    </a:lnTo>
                    <a:lnTo>
                      <a:pt x="1688" y="798"/>
                    </a:lnTo>
                    <a:lnTo>
                      <a:pt x="1610" y="799"/>
                    </a:lnTo>
                    <a:lnTo>
                      <a:pt x="1531" y="800"/>
                    </a:lnTo>
                    <a:lnTo>
                      <a:pt x="1453" y="799"/>
                    </a:lnTo>
                    <a:lnTo>
                      <a:pt x="1375" y="798"/>
                    </a:lnTo>
                    <a:lnTo>
                      <a:pt x="1298" y="795"/>
                    </a:lnTo>
                    <a:lnTo>
                      <a:pt x="1223" y="792"/>
                    </a:lnTo>
                    <a:lnTo>
                      <a:pt x="1149" y="787"/>
                    </a:lnTo>
                    <a:lnTo>
                      <a:pt x="1076" y="782"/>
                    </a:lnTo>
                    <a:lnTo>
                      <a:pt x="1005" y="775"/>
                    </a:lnTo>
                    <a:lnTo>
                      <a:pt x="936" y="768"/>
                    </a:lnTo>
                    <a:lnTo>
                      <a:pt x="868" y="760"/>
                    </a:lnTo>
                    <a:lnTo>
                      <a:pt x="802" y="751"/>
                    </a:lnTo>
                    <a:lnTo>
                      <a:pt x="738" y="741"/>
                    </a:lnTo>
                    <a:lnTo>
                      <a:pt x="676" y="731"/>
                    </a:lnTo>
                    <a:lnTo>
                      <a:pt x="615" y="720"/>
                    </a:lnTo>
                    <a:lnTo>
                      <a:pt x="558" y="708"/>
                    </a:lnTo>
                    <a:lnTo>
                      <a:pt x="502" y="694"/>
                    </a:lnTo>
                    <a:lnTo>
                      <a:pt x="449" y="680"/>
                    </a:lnTo>
                    <a:lnTo>
                      <a:pt x="398" y="666"/>
                    </a:lnTo>
                    <a:lnTo>
                      <a:pt x="350" y="652"/>
                    </a:lnTo>
                    <a:lnTo>
                      <a:pt x="304" y="636"/>
                    </a:lnTo>
                    <a:lnTo>
                      <a:pt x="262" y="620"/>
                    </a:lnTo>
                    <a:lnTo>
                      <a:pt x="223" y="604"/>
                    </a:lnTo>
                    <a:lnTo>
                      <a:pt x="185" y="586"/>
                    </a:lnTo>
                    <a:lnTo>
                      <a:pt x="152" y="569"/>
                    </a:lnTo>
                    <a:lnTo>
                      <a:pt x="121" y="551"/>
                    </a:lnTo>
                    <a:lnTo>
                      <a:pt x="93" y="532"/>
                    </a:lnTo>
                    <a:lnTo>
                      <a:pt x="69" y="513"/>
                    </a:lnTo>
                    <a:lnTo>
                      <a:pt x="49" y="494"/>
                    </a:lnTo>
                    <a:lnTo>
                      <a:pt x="32" y="474"/>
                    </a:lnTo>
                    <a:lnTo>
                      <a:pt x="19" y="454"/>
                    </a:lnTo>
                    <a:lnTo>
                      <a:pt x="8" y="433"/>
                    </a:lnTo>
                    <a:lnTo>
                      <a:pt x="2" y="413"/>
                    </a:lnTo>
                    <a:lnTo>
                      <a:pt x="0" y="392"/>
                    </a:lnTo>
                    <a:lnTo>
                      <a:pt x="2" y="370"/>
                    </a:lnTo>
                    <a:lnTo>
                      <a:pt x="8" y="350"/>
                    </a:lnTo>
                    <a:lnTo>
                      <a:pt x="19" y="330"/>
                    </a:lnTo>
                    <a:lnTo>
                      <a:pt x="32" y="310"/>
                    </a:lnTo>
                    <a:lnTo>
                      <a:pt x="49" y="291"/>
                    </a:lnTo>
                    <a:lnTo>
                      <a:pt x="69" y="272"/>
                    </a:lnTo>
                    <a:lnTo>
                      <a:pt x="93" y="253"/>
                    </a:lnTo>
                    <a:lnTo>
                      <a:pt x="121" y="235"/>
                    </a:lnTo>
                    <a:lnTo>
                      <a:pt x="152" y="218"/>
                    </a:lnTo>
                    <a:lnTo>
                      <a:pt x="185" y="201"/>
                    </a:lnTo>
                    <a:lnTo>
                      <a:pt x="223" y="185"/>
                    </a:lnTo>
                    <a:lnTo>
                      <a:pt x="262" y="169"/>
                    </a:lnTo>
                    <a:lnTo>
                      <a:pt x="304" y="153"/>
                    </a:lnTo>
                    <a:lnTo>
                      <a:pt x="350" y="138"/>
                    </a:lnTo>
                    <a:lnTo>
                      <a:pt x="398" y="125"/>
                    </a:lnTo>
                    <a:lnTo>
                      <a:pt x="449" y="111"/>
                    </a:lnTo>
                    <a:lnTo>
                      <a:pt x="502" y="99"/>
                    </a:lnTo>
                    <a:lnTo>
                      <a:pt x="558" y="87"/>
                    </a:lnTo>
                    <a:lnTo>
                      <a:pt x="615" y="76"/>
                    </a:lnTo>
                    <a:lnTo>
                      <a:pt x="676" y="65"/>
                    </a:lnTo>
                    <a:lnTo>
                      <a:pt x="738" y="55"/>
                    </a:lnTo>
                    <a:lnTo>
                      <a:pt x="802" y="45"/>
                    </a:lnTo>
                    <a:lnTo>
                      <a:pt x="868" y="37"/>
                    </a:lnTo>
                    <a:lnTo>
                      <a:pt x="936" y="29"/>
                    </a:lnTo>
                    <a:lnTo>
                      <a:pt x="1005" y="23"/>
                    </a:lnTo>
                    <a:lnTo>
                      <a:pt x="1076" y="17"/>
                    </a:lnTo>
                    <a:lnTo>
                      <a:pt x="1149" y="12"/>
                    </a:lnTo>
                    <a:lnTo>
                      <a:pt x="1223" y="8"/>
                    </a:lnTo>
                    <a:lnTo>
                      <a:pt x="1298" y="5"/>
                    </a:lnTo>
                    <a:lnTo>
                      <a:pt x="1375" y="2"/>
                    </a:lnTo>
                    <a:lnTo>
                      <a:pt x="1453" y="1"/>
                    </a:lnTo>
                    <a:lnTo>
                      <a:pt x="1531" y="0"/>
                    </a:lnTo>
                    <a:lnTo>
                      <a:pt x="1610" y="1"/>
                    </a:lnTo>
                    <a:lnTo>
                      <a:pt x="1688" y="2"/>
                    </a:lnTo>
                    <a:lnTo>
                      <a:pt x="1765" y="5"/>
                    </a:lnTo>
                    <a:lnTo>
                      <a:pt x="1841" y="8"/>
                    </a:lnTo>
                    <a:lnTo>
                      <a:pt x="1914" y="12"/>
                    </a:lnTo>
                    <a:lnTo>
                      <a:pt x="1987" y="17"/>
                    </a:lnTo>
                    <a:lnTo>
                      <a:pt x="2058" y="23"/>
                    </a:lnTo>
                    <a:lnTo>
                      <a:pt x="2127" y="29"/>
                    </a:lnTo>
                    <a:lnTo>
                      <a:pt x="2195" y="37"/>
                    </a:lnTo>
                    <a:lnTo>
                      <a:pt x="2262" y="45"/>
                    </a:lnTo>
                    <a:lnTo>
                      <a:pt x="2325" y="55"/>
                    </a:lnTo>
                    <a:lnTo>
                      <a:pt x="2388" y="65"/>
                    </a:lnTo>
                    <a:lnTo>
                      <a:pt x="2447" y="76"/>
                    </a:lnTo>
                    <a:lnTo>
                      <a:pt x="2505" y="87"/>
                    </a:lnTo>
                    <a:lnTo>
                      <a:pt x="2561" y="99"/>
                    </a:lnTo>
                    <a:lnTo>
                      <a:pt x="2614" y="111"/>
                    </a:lnTo>
                    <a:lnTo>
                      <a:pt x="2665" y="125"/>
                    </a:lnTo>
                    <a:lnTo>
                      <a:pt x="2713" y="138"/>
                    </a:lnTo>
                    <a:lnTo>
                      <a:pt x="2759" y="153"/>
                    </a:lnTo>
                    <a:lnTo>
                      <a:pt x="2801" y="169"/>
                    </a:lnTo>
                    <a:lnTo>
                      <a:pt x="2840" y="185"/>
                    </a:lnTo>
                    <a:lnTo>
                      <a:pt x="2878" y="201"/>
                    </a:lnTo>
                    <a:lnTo>
                      <a:pt x="2911" y="218"/>
                    </a:lnTo>
                    <a:lnTo>
                      <a:pt x="2942" y="235"/>
                    </a:lnTo>
                    <a:lnTo>
                      <a:pt x="2970" y="253"/>
                    </a:lnTo>
                    <a:lnTo>
                      <a:pt x="2994" y="272"/>
                    </a:lnTo>
                    <a:lnTo>
                      <a:pt x="3014" y="291"/>
                    </a:lnTo>
                    <a:lnTo>
                      <a:pt x="3031" y="310"/>
                    </a:lnTo>
                    <a:lnTo>
                      <a:pt x="3044" y="330"/>
                    </a:lnTo>
                    <a:lnTo>
                      <a:pt x="3054" y="350"/>
                    </a:lnTo>
                    <a:lnTo>
                      <a:pt x="3061" y="370"/>
                    </a:lnTo>
                    <a:lnTo>
                      <a:pt x="3063" y="3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121840" y="6530760"/>
                <a:ext cx="337320" cy="94680"/>
              </a:xfrm>
              <a:custGeom>
                <a:avLst/>
                <a:gdLst/>
                <a:ahLst/>
                <a:rect l="l" t="t" r="r" b="b"/>
                <a:pathLst>
                  <a:path w="3059" h="798">
                    <a:moveTo>
                      <a:pt x="3059" y="391"/>
                    </a:moveTo>
                    <a:lnTo>
                      <a:pt x="3056" y="412"/>
                    </a:lnTo>
                    <a:lnTo>
                      <a:pt x="3051" y="432"/>
                    </a:lnTo>
                    <a:lnTo>
                      <a:pt x="3041" y="453"/>
                    </a:lnTo>
                    <a:lnTo>
                      <a:pt x="3028" y="472"/>
                    </a:lnTo>
                    <a:lnTo>
                      <a:pt x="3011" y="493"/>
                    </a:lnTo>
                    <a:lnTo>
                      <a:pt x="2990" y="512"/>
                    </a:lnTo>
                    <a:lnTo>
                      <a:pt x="2967" y="531"/>
                    </a:lnTo>
                    <a:lnTo>
                      <a:pt x="2938" y="549"/>
                    </a:lnTo>
                    <a:lnTo>
                      <a:pt x="2908" y="567"/>
                    </a:lnTo>
                    <a:lnTo>
                      <a:pt x="2875" y="585"/>
                    </a:lnTo>
                    <a:lnTo>
                      <a:pt x="2837" y="603"/>
                    </a:lnTo>
                    <a:lnTo>
                      <a:pt x="2798" y="619"/>
                    </a:lnTo>
                    <a:lnTo>
                      <a:pt x="2756" y="635"/>
                    </a:lnTo>
                    <a:lnTo>
                      <a:pt x="2710" y="650"/>
                    </a:lnTo>
                    <a:lnTo>
                      <a:pt x="2662" y="665"/>
                    </a:lnTo>
                    <a:lnTo>
                      <a:pt x="2611" y="679"/>
                    </a:lnTo>
                    <a:lnTo>
                      <a:pt x="2558" y="692"/>
                    </a:lnTo>
                    <a:lnTo>
                      <a:pt x="2502" y="706"/>
                    </a:lnTo>
                    <a:lnTo>
                      <a:pt x="2444" y="718"/>
                    </a:lnTo>
                    <a:lnTo>
                      <a:pt x="2385" y="729"/>
                    </a:lnTo>
                    <a:lnTo>
                      <a:pt x="2322" y="740"/>
                    </a:lnTo>
                    <a:lnTo>
                      <a:pt x="2259" y="749"/>
                    </a:lnTo>
                    <a:lnTo>
                      <a:pt x="2193" y="758"/>
                    </a:lnTo>
                    <a:lnTo>
                      <a:pt x="2125" y="766"/>
                    </a:lnTo>
                    <a:lnTo>
                      <a:pt x="2056" y="774"/>
                    </a:lnTo>
                    <a:lnTo>
                      <a:pt x="1984" y="780"/>
                    </a:lnTo>
                    <a:lnTo>
                      <a:pt x="1912" y="785"/>
                    </a:lnTo>
                    <a:lnTo>
                      <a:pt x="1837" y="790"/>
                    </a:lnTo>
                    <a:lnTo>
                      <a:pt x="1763" y="793"/>
                    </a:lnTo>
                    <a:lnTo>
                      <a:pt x="1686" y="796"/>
                    </a:lnTo>
                    <a:lnTo>
                      <a:pt x="1608" y="798"/>
                    </a:lnTo>
                    <a:lnTo>
                      <a:pt x="1529" y="798"/>
                    </a:lnTo>
                    <a:lnTo>
                      <a:pt x="1451" y="798"/>
                    </a:lnTo>
                    <a:lnTo>
                      <a:pt x="1373" y="796"/>
                    </a:lnTo>
                    <a:lnTo>
                      <a:pt x="1296" y="793"/>
                    </a:lnTo>
                    <a:lnTo>
                      <a:pt x="1221" y="790"/>
                    </a:lnTo>
                    <a:lnTo>
                      <a:pt x="1148" y="785"/>
                    </a:lnTo>
                    <a:lnTo>
                      <a:pt x="1075" y="780"/>
                    </a:lnTo>
                    <a:lnTo>
                      <a:pt x="1003" y="774"/>
                    </a:lnTo>
                    <a:lnTo>
                      <a:pt x="935" y="766"/>
                    </a:lnTo>
                    <a:lnTo>
                      <a:pt x="867" y="758"/>
                    </a:lnTo>
                    <a:lnTo>
                      <a:pt x="800" y="749"/>
                    </a:lnTo>
                    <a:lnTo>
                      <a:pt x="737" y="740"/>
                    </a:lnTo>
                    <a:lnTo>
                      <a:pt x="674" y="729"/>
                    </a:lnTo>
                    <a:lnTo>
                      <a:pt x="614" y="718"/>
                    </a:lnTo>
                    <a:lnTo>
                      <a:pt x="557" y="706"/>
                    </a:lnTo>
                    <a:lnTo>
                      <a:pt x="501" y="692"/>
                    </a:lnTo>
                    <a:lnTo>
                      <a:pt x="448" y="679"/>
                    </a:lnTo>
                    <a:lnTo>
                      <a:pt x="397" y="665"/>
                    </a:lnTo>
                    <a:lnTo>
                      <a:pt x="349" y="650"/>
                    </a:lnTo>
                    <a:lnTo>
                      <a:pt x="304" y="635"/>
                    </a:lnTo>
                    <a:lnTo>
                      <a:pt x="261" y="619"/>
                    </a:lnTo>
                    <a:lnTo>
                      <a:pt x="222" y="603"/>
                    </a:lnTo>
                    <a:lnTo>
                      <a:pt x="184" y="585"/>
                    </a:lnTo>
                    <a:lnTo>
                      <a:pt x="151" y="567"/>
                    </a:lnTo>
                    <a:lnTo>
                      <a:pt x="121" y="549"/>
                    </a:lnTo>
                    <a:lnTo>
                      <a:pt x="93" y="531"/>
                    </a:lnTo>
                    <a:lnTo>
                      <a:pt x="69" y="512"/>
                    </a:lnTo>
                    <a:lnTo>
                      <a:pt x="48" y="493"/>
                    </a:lnTo>
                    <a:lnTo>
                      <a:pt x="31" y="472"/>
                    </a:lnTo>
                    <a:lnTo>
                      <a:pt x="18" y="453"/>
                    </a:lnTo>
                    <a:lnTo>
                      <a:pt x="8" y="432"/>
                    </a:lnTo>
                    <a:lnTo>
                      <a:pt x="2" y="412"/>
                    </a:lnTo>
                    <a:lnTo>
                      <a:pt x="0" y="391"/>
                    </a:lnTo>
                    <a:lnTo>
                      <a:pt x="2" y="369"/>
                    </a:lnTo>
                    <a:lnTo>
                      <a:pt x="8" y="349"/>
                    </a:lnTo>
                    <a:lnTo>
                      <a:pt x="18" y="329"/>
                    </a:lnTo>
                    <a:lnTo>
                      <a:pt x="31" y="309"/>
                    </a:lnTo>
                    <a:lnTo>
                      <a:pt x="48" y="290"/>
                    </a:lnTo>
                    <a:lnTo>
                      <a:pt x="69" y="271"/>
                    </a:lnTo>
                    <a:lnTo>
                      <a:pt x="93" y="252"/>
                    </a:lnTo>
                    <a:lnTo>
                      <a:pt x="121" y="234"/>
                    </a:lnTo>
                    <a:lnTo>
                      <a:pt x="151" y="217"/>
                    </a:lnTo>
                    <a:lnTo>
                      <a:pt x="184" y="200"/>
                    </a:lnTo>
                    <a:lnTo>
                      <a:pt x="222" y="184"/>
                    </a:lnTo>
                    <a:lnTo>
                      <a:pt x="261" y="169"/>
                    </a:lnTo>
                    <a:lnTo>
                      <a:pt x="304" y="153"/>
                    </a:lnTo>
                    <a:lnTo>
                      <a:pt x="349" y="138"/>
                    </a:lnTo>
                    <a:lnTo>
                      <a:pt x="397" y="124"/>
                    </a:lnTo>
                    <a:lnTo>
                      <a:pt x="448" y="111"/>
                    </a:lnTo>
                    <a:lnTo>
                      <a:pt x="501" y="98"/>
                    </a:lnTo>
                    <a:lnTo>
                      <a:pt x="557" y="87"/>
                    </a:lnTo>
                    <a:lnTo>
                      <a:pt x="614" y="75"/>
                    </a:lnTo>
                    <a:lnTo>
                      <a:pt x="674" y="65"/>
                    </a:lnTo>
                    <a:lnTo>
                      <a:pt x="737" y="55"/>
                    </a:lnTo>
                    <a:lnTo>
                      <a:pt x="800" y="45"/>
                    </a:lnTo>
                    <a:lnTo>
                      <a:pt x="867" y="37"/>
                    </a:lnTo>
                    <a:lnTo>
                      <a:pt x="935" y="29"/>
                    </a:lnTo>
                    <a:lnTo>
                      <a:pt x="1003" y="23"/>
                    </a:lnTo>
                    <a:lnTo>
                      <a:pt x="1075" y="17"/>
                    </a:lnTo>
                    <a:lnTo>
                      <a:pt x="1148" y="12"/>
                    </a:lnTo>
                    <a:lnTo>
                      <a:pt x="1221" y="8"/>
                    </a:lnTo>
                    <a:lnTo>
                      <a:pt x="1296" y="5"/>
                    </a:lnTo>
                    <a:lnTo>
                      <a:pt x="1373" y="2"/>
                    </a:lnTo>
                    <a:lnTo>
                      <a:pt x="1451" y="1"/>
                    </a:lnTo>
                    <a:lnTo>
                      <a:pt x="1529" y="0"/>
                    </a:lnTo>
                    <a:lnTo>
                      <a:pt x="1608" y="1"/>
                    </a:lnTo>
                    <a:lnTo>
                      <a:pt x="1686" y="2"/>
                    </a:lnTo>
                    <a:lnTo>
                      <a:pt x="1763" y="5"/>
                    </a:lnTo>
                    <a:lnTo>
                      <a:pt x="1837" y="8"/>
                    </a:lnTo>
                    <a:lnTo>
                      <a:pt x="1912" y="12"/>
                    </a:lnTo>
                    <a:lnTo>
                      <a:pt x="1984" y="17"/>
                    </a:lnTo>
                    <a:lnTo>
                      <a:pt x="2056" y="23"/>
                    </a:lnTo>
                    <a:lnTo>
                      <a:pt x="2125" y="29"/>
                    </a:lnTo>
                    <a:lnTo>
                      <a:pt x="2193" y="37"/>
                    </a:lnTo>
                    <a:lnTo>
                      <a:pt x="2259" y="45"/>
                    </a:lnTo>
                    <a:lnTo>
                      <a:pt x="2322" y="55"/>
                    </a:lnTo>
                    <a:lnTo>
                      <a:pt x="2385" y="65"/>
                    </a:lnTo>
                    <a:lnTo>
                      <a:pt x="2444" y="75"/>
                    </a:lnTo>
                    <a:lnTo>
                      <a:pt x="2502" y="87"/>
                    </a:lnTo>
                    <a:lnTo>
                      <a:pt x="2558" y="98"/>
                    </a:lnTo>
                    <a:lnTo>
                      <a:pt x="2611" y="111"/>
                    </a:lnTo>
                    <a:lnTo>
                      <a:pt x="2662" y="124"/>
                    </a:lnTo>
                    <a:lnTo>
                      <a:pt x="2710" y="138"/>
                    </a:lnTo>
                    <a:lnTo>
                      <a:pt x="2756" y="153"/>
                    </a:lnTo>
                    <a:lnTo>
                      <a:pt x="2798" y="169"/>
                    </a:lnTo>
                    <a:lnTo>
                      <a:pt x="2837" y="184"/>
                    </a:lnTo>
                    <a:lnTo>
                      <a:pt x="2875" y="200"/>
                    </a:lnTo>
                    <a:lnTo>
                      <a:pt x="2908" y="217"/>
                    </a:lnTo>
                    <a:lnTo>
                      <a:pt x="2938" y="234"/>
                    </a:lnTo>
                    <a:lnTo>
                      <a:pt x="2967" y="252"/>
                    </a:lnTo>
                    <a:lnTo>
                      <a:pt x="2990" y="271"/>
                    </a:lnTo>
                    <a:lnTo>
                      <a:pt x="3011" y="290"/>
                    </a:lnTo>
                    <a:lnTo>
                      <a:pt x="3028" y="309"/>
                    </a:lnTo>
                    <a:lnTo>
                      <a:pt x="3041" y="329"/>
                    </a:lnTo>
                    <a:lnTo>
                      <a:pt x="3051" y="349"/>
                    </a:lnTo>
                    <a:lnTo>
                      <a:pt x="3056" y="369"/>
                    </a:lnTo>
                    <a:lnTo>
                      <a:pt x="3059" y="3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121840" y="6530760"/>
                <a:ext cx="337320" cy="94680"/>
              </a:xfrm>
              <a:custGeom>
                <a:avLst/>
                <a:gdLst/>
                <a:ahLst/>
                <a:rect l="l" t="t" r="r" b="b"/>
                <a:pathLst>
                  <a:path w="3056" h="796">
                    <a:moveTo>
                      <a:pt x="3056" y="390"/>
                    </a:moveTo>
                    <a:lnTo>
                      <a:pt x="3054" y="411"/>
                    </a:lnTo>
                    <a:lnTo>
                      <a:pt x="3048" y="431"/>
                    </a:lnTo>
                    <a:lnTo>
                      <a:pt x="3039" y="451"/>
                    </a:lnTo>
                    <a:lnTo>
                      <a:pt x="3025" y="471"/>
                    </a:lnTo>
                    <a:lnTo>
                      <a:pt x="3008" y="492"/>
                    </a:lnTo>
                    <a:lnTo>
                      <a:pt x="2988" y="511"/>
                    </a:lnTo>
                    <a:lnTo>
                      <a:pt x="2964" y="530"/>
                    </a:lnTo>
                    <a:lnTo>
                      <a:pt x="2936" y="548"/>
                    </a:lnTo>
                    <a:lnTo>
                      <a:pt x="2906" y="566"/>
                    </a:lnTo>
                    <a:lnTo>
                      <a:pt x="2872" y="583"/>
                    </a:lnTo>
                    <a:lnTo>
                      <a:pt x="2835" y="601"/>
                    </a:lnTo>
                    <a:lnTo>
                      <a:pt x="2796" y="617"/>
                    </a:lnTo>
                    <a:lnTo>
                      <a:pt x="2753" y="633"/>
                    </a:lnTo>
                    <a:lnTo>
                      <a:pt x="2708" y="648"/>
                    </a:lnTo>
                    <a:lnTo>
                      <a:pt x="2660" y="663"/>
                    </a:lnTo>
                    <a:lnTo>
                      <a:pt x="2609" y="677"/>
                    </a:lnTo>
                    <a:lnTo>
                      <a:pt x="2556" y="690"/>
                    </a:lnTo>
                    <a:lnTo>
                      <a:pt x="2500" y="704"/>
                    </a:lnTo>
                    <a:lnTo>
                      <a:pt x="2442" y="716"/>
                    </a:lnTo>
                    <a:lnTo>
                      <a:pt x="2383" y="727"/>
                    </a:lnTo>
                    <a:lnTo>
                      <a:pt x="2321" y="738"/>
                    </a:lnTo>
                    <a:lnTo>
                      <a:pt x="2257" y="748"/>
                    </a:lnTo>
                    <a:lnTo>
                      <a:pt x="2191" y="756"/>
                    </a:lnTo>
                    <a:lnTo>
                      <a:pt x="2123" y="765"/>
                    </a:lnTo>
                    <a:lnTo>
                      <a:pt x="2054" y="772"/>
                    </a:lnTo>
                    <a:lnTo>
                      <a:pt x="1983" y="778"/>
                    </a:lnTo>
                    <a:lnTo>
                      <a:pt x="1910" y="784"/>
                    </a:lnTo>
                    <a:lnTo>
                      <a:pt x="1836" y="788"/>
                    </a:lnTo>
                    <a:lnTo>
                      <a:pt x="1761" y="792"/>
                    </a:lnTo>
                    <a:lnTo>
                      <a:pt x="1685" y="794"/>
                    </a:lnTo>
                    <a:lnTo>
                      <a:pt x="1607" y="796"/>
                    </a:lnTo>
                    <a:lnTo>
                      <a:pt x="1528" y="796"/>
                    </a:lnTo>
                    <a:lnTo>
                      <a:pt x="1450" y="796"/>
                    </a:lnTo>
                    <a:lnTo>
                      <a:pt x="1372" y="794"/>
                    </a:lnTo>
                    <a:lnTo>
                      <a:pt x="1296" y="792"/>
                    </a:lnTo>
                    <a:lnTo>
                      <a:pt x="1220" y="788"/>
                    </a:lnTo>
                    <a:lnTo>
                      <a:pt x="1147" y="784"/>
                    </a:lnTo>
                    <a:lnTo>
                      <a:pt x="1074" y="778"/>
                    </a:lnTo>
                    <a:lnTo>
                      <a:pt x="1003" y="772"/>
                    </a:lnTo>
                    <a:lnTo>
                      <a:pt x="934" y="765"/>
                    </a:lnTo>
                    <a:lnTo>
                      <a:pt x="866" y="756"/>
                    </a:lnTo>
                    <a:lnTo>
                      <a:pt x="800" y="748"/>
                    </a:lnTo>
                    <a:lnTo>
                      <a:pt x="737" y="738"/>
                    </a:lnTo>
                    <a:lnTo>
                      <a:pt x="674" y="727"/>
                    </a:lnTo>
                    <a:lnTo>
                      <a:pt x="614" y="716"/>
                    </a:lnTo>
                    <a:lnTo>
                      <a:pt x="557" y="704"/>
                    </a:lnTo>
                    <a:lnTo>
                      <a:pt x="501" y="690"/>
                    </a:lnTo>
                    <a:lnTo>
                      <a:pt x="448" y="677"/>
                    </a:lnTo>
                    <a:lnTo>
                      <a:pt x="397" y="663"/>
                    </a:lnTo>
                    <a:lnTo>
                      <a:pt x="350" y="648"/>
                    </a:lnTo>
                    <a:lnTo>
                      <a:pt x="304" y="633"/>
                    </a:lnTo>
                    <a:lnTo>
                      <a:pt x="262" y="617"/>
                    </a:lnTo>
                    <a:lnTo>
                      <a:pt x="222" y="601"/>
                    </a:lnTo>
                    <a:lnTo>
                      <a:pt x="185" y="583"/>
                    </a:lnTo>
                    <a:lnTo>
                      <a:pt x="151" y="566"/>
                    </a:lnTo>
                    <a:lnTo>
                      <a:pt x="121" y="548"/>
                    </a:lnTo>
                    <a:lnTo>
                      <a:pt x="93" y="530"/>
                    </a:lnTo>
                    <a:lnTo>
                      <a:pt x="69" y="511"/>
                    </a:lnTo>
                    <a:lnTo>
                      <a:pt x="49" y="492"/>
                    </a:lnTo>
                    <a:lnTo>
                      <a:pt x="32" y="471"/>
                    </a:lnTo>
                    <a:lnTo>
                      <a:pt x="19" y="451"/>
                    </a:lnTo>
                    <a:lnTo>
                      <a:pt x="9" y="431"/>
                    </a:lnTo>
                    <a:lnTo>
                      <a:pt x="2" y="411"/>
                    </a:lnTo>
                    <a:lnTo>
                      <a:pt x="0" y="390"/>
                    </a:lnTo>
                    <a:lnTo>
                      <a:pt x="2" y="368"/>
                    </a:lnTo>
                    <a:lnTo>
                      <a:pt x="9" y="348"/>
                    </a:lnTo>
                    <a:lnTo>
                      <a:pt x="19" y="328"/>
                    </a:lnTo>
                    <a:lnTo>
                      <a:pt x="32" y="308"/>
                    </a:lnTo>
                    <a:lnTo>
                      <a:pt x="49" y="289"/>
                    </a:lnTo>
                    <a:lnTo>
                      <a:pt x="69" y="271"/>
                    </a:lnTo>
                    <a:lnTo>
                      <a:pt x="93" y="251"/>
                    </a:lnTo>
                    <a:lnTo>
                      <a:pt x="121" y="234"/>
                    </a:lnTo>
                    <a:lnTo>
                      <a:pt x="151" y="217"/>
                    </a:lnTo>
                    <a:lnTo>
                      <a:pt x="185" y="200"/>
                    </a:lnTo>
                    <a:lnTo>
                      <a:pt x="222" y="184"/>
                    </a:lnTo>
                    <a:lnTo>
                      <a:pt x="262" y="168"/>
                    </a:lnTo>
                    <a:lnTo>
                      <a:pt x="304" y="152"/>
                    </a:lnTo>
                    <a:lnTo>
                      <a:pt x="350" y="138"/>
                    </a:lnTo>
                    <a:lnTo>
                      <a:pt x="397" y="124"/>
                    </a:lnTo>
                    <a:lnTo>
                      <a:pt x="448" y="111"/>
                    </a:lnTo>
                    <a:lnTo>
                      <a:pt x="501" y="98"/>
                    </a:lnTo>
                    <a:lnTo>
                      <a:pt x="557" y="86"/>
                    </a:lnTo>
                    <a:lnTo>
                      <a:pt x="614" y="75"/>
                    </a:lnTo>
                    <a:lnTo>
                      <a:pt x="674" y="65"/>
                    </a:lnTo>
                    <a:lnTo>
                      <a:pt x="737" y="55"/>
                    </a:lnTo>
                    <a:lnTo>
                      <a:pt x="800" y="45"/>
                    </a:lnTo>
                    <a:lnTo>
                      <a:pt x="866" y="37"/>
                    </a:lnTo>
                    <a:lnTo>
                      <a:pt x="934" y="29"/>
                    </a:lnTo>
                    <a:lnTo>
                      <a:pt x="1003" y="23"/>
                    </a:lnTo>
                    <a:lnTo>
                      <a:pt x="1074" y="17"/>
                    </a:lnTo>
                    <a:lnTo>
                      <a:pt x="1147" y="12"/>
                    </a:lnTo>
                    <a:lnTo>
                      <a:pt x="1220" y="8"/>
                    </a:lnTo>
                    <a:lnTo>
                      <a:pt x="1296" y="4"/>
                    </a:lnTo>
                    <a:lnTo>
                      <a:pt x="1372" y="2"/>
                    </a:lnTo>
                    <a:lnTo>
                      <a:pt x="1450" y="1"/>
                    </a:lnTo>
                    <a:lnTo>
                      <a:pt x="1528" y="0"/>
                    </a:lnTo>
                    <a:lnTo>
                      <a:pt x="1607" y="1"/>
                    </a:lnTo>
                    <a:lnTo>
                      <a:pt x="1685" y="2"/>
                    </a:lnTo>
                    <a:lnTo>
                      <a:pt x="1761" y="4"/>
                    </a:lnTo>
                    <a:lnTo>
                      <a:pt x="1836" y="8"/>
                    </a:lnTo>
                    <a:lnTo>
                      <a:pt x="1910" y="12"/>
                    </a:lnTo>
                    <a:lnTo>
                      <a:pt x="1983" y="17"/>
                    </a:lnTo>
                    <a:lnTo>
                      <a:pt x="2054" y="23"/>
                    </a:lnTo>
                    <a:lnTo>
                      <a:pt x="2123" y="29"/>
                    </a:lnTo>
                    <a:lnTo>
                      <a:pt x="2191" y="37"/>
                    </a:lnTo>
                    <a:lnTo>
                      <a:pt x="2257" y="45"/>
                    </a:lnTo>
                    <a:lnTo>
                      <a:pt x="2321" y="55"/>
                    </a:lnTo>
                    <a:lnTo>
                      <a:pt x="2383" y="65"/>
                    </a:lnTo>
                    <a:lnTo>
                      <a:pt x="2442" y="75"/>
                    </a:lnTo>
                    <a:lnTo>
                      <a:pt x="2500" y="86"/>
                    </a:lnTo>
                    <a:lnTo>
                      <a:pt x="2556" y="98"/>
                    </a:lnTo>
                    <a:lnTo>
                      <a:pt x="2609" y="111"/>
                    </a:lnTo>
                    <a:lnTo>
                      <a:pt x="2660" y="124"/>
                    </a:lnTo>
                    <a:lnTo>
                      <a:pt x="2708" y="138"/>
                    </a:lnTo>
                    <a:lnTo>
                      <a:pt x="2753" y="152"/>
                    </a:lnTo>
                    <a:lnTo>
                      <a:pt x="2796" y="168"/>
                    </a:lnTo>
                    <a:lnTo>
                      <a:pt x="2835" y="184"/>
                    </a:lnTo>
                    <a:lnTo>
                      <a:pt x="2872" y="200"/>
                    </a:lnTo>
                    <a:lnTo>
                      <a:pt x="2906" y="217"/>
                    </a:lnTo>
                    <a:lnTo>
                      <a:pt x="2936" y="234"/>
                    </a:lnTo>
                    <a:lnTo>
                      <a:pt x="2964" y="251"/>
                    </a:lnTo>
                    <a:lnTo>
                      <a:pt x="2988" y="271"/>
                    </a:lnTo>
                    <a:lnTo>
                      <a:pt x="3008" y="289"/>
                    </a:lnTo>
                    <a:lnTo>
                      <a:pt x="3025" y="308"/>
                    </a:lnTo>
                    <a:lnTo>
                      <a:pt x="3039" y="328"/>
                    </a:lnTo>
                    <a:lnTo>
                      <a:pt x="3048" y="348"/>
                    </a:lnTo>
                    <a:lnTo>
                      <a:pt x="3054" y="368"/>
                    </a:lnTo>
                    <a:lnTo>
                      <a:pt x="3056" y="3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121840" y="6530760"/>
                <a:ext cx="337320" cy="94680"/>
              </a:xfrm>
              <a:custGeom>
                <a:avLst/>
                <a:gdLst/>
                <a:ahLst/>
                <a:rect l="l" t="t" r="r" b="b"/>
                <a:pathLst>
                  <a:path w="3053" h="794">
                    <a:moveTo>
                      <a:pt x="3053" y="389"/>
                    </a:moveTo>
                    <a:lnTo>
                      <a:pt x="3051" y="410"/>
                    </a:lnTo>
                    <a:lnTo>
                      <a:pt x="3045" y="430"/>
                    </a:lnTo>
                    <a:lnTo>
                      <a:pt x="3035" y="450"/>
                    </a:lnTo>
                    <a:lnTo>
                      <a:pt x="3022" y="470"/>
                    </a:lnTo>
                    <a:lnTo>
                      <a:pt x="3005" y="491"/>
                    </a:lnTo>
                    <a:lnTo>
                      <a:pt x="2985" y="510"/>
                    </a:lnTo>
                    <a:lnTo>
                      <a:pt x="2961" y="528"/>
                    </a:lnTo>
                    <a:lnTo>
                      <a:pt x="2933" y="547"/>
                    </a:lnTo>
                    <a:lnTo>
                      <a:pt x="2903" y="564"/>
                    </a:lnTo>
                    <a:lnTo>
                      <a:pt x="2869" y="582"/>
                    </a:lnTo>
                    <a:lnTo>
                      <a:pt x="2832" y="600"/>
                    </a:lnTo>
                    <a:lnTo>
                      <a:pt x="2792" y="616"/>
                    </a:lnTo>
                    <a:lnTo>
                      <a:pt x="2749" y="632"/>
                    </a:lnTo>
                    <a:lnTo>
                      <a:pt x="2704" y="647"/>
                    </a:lnTo>
                    <a:lnTo>
                      <a:pt x="2657" y="661"/>
                    </a:lnTo>
                    <a:lnTo>
                      <a:pt x="2606" y="675"/>
                    </a:lnTo>
                    <a:lnTo>
                      <a:pt x="2553" y="689"/>
                    </a:lnTo>
                    <a:lnTo>
                      <a:pt x="2498" y="702"/>
                    </a:lnTo>
                    <a:lnTo>
                      <a:pt x="2439" y="714"/>
                    </a:lnTo>
                    <a:lnTo>
                      <a:pt x="2380" y="726"/>
                    </a:lnTo>
                    <a:lnTo>
                      <a:pt x="2318" y="736"/>
                    </a:lnTo>
                    <a:lnTo>
                      <a:pt x="2255" y="746"/>
                    </a:lnTo>
                    <a:lnTo>
                      <a:pt x="2188" y="755"/>
                    </a:lnTo>
                    <a:lnTo>
                      <a:pt x="2120" y="763"/>
                    </a:lnTo>
                    <a:lnTo>
                      <a:pt x="2052" y="770"/>
                    </a:lnTo>
                    <a:lnTo>
                      <a:pt x="1981" y="776"/>
                    </a:lnTo>
                    <a:lnTo>
                      <a:pt x="1908" y="782"/>
                    </a:lnTo>
                    <a:lnTo>
                      <a:pt x="1834" y="786"/>
                    </a:lnTo>
                    <a:lnTo>
                      <a:pt x="1759" y="790"/>
                    </a:lnTo>
                    <a:lnTo>
                      <a:pt x="1683" y="792"/>
                    </a:lnTo>
                    <a:lnTo>
                      <a:pt x="1605" y="794"/>
                    </a:lnTo>
                    <a:lnTo>
                      <a:pt x="1526" y="794"/>
                    </a:lnTo>
                    <a:lnTo>
                      <a:pt x="1448" y="794"/>
                    </a:lnTo>
                    <a:lnTo>
                      <a:pt x="1371" y="792"/>
                    </a:lnTo>
                    <a:lnTo>
                      <a:pt x="1294" y="790"/>
                    </a:lnTo>
                    <a:lnTo>
                      <a:pt x="1218" y="786"/>
                    </a:lnTo>
                    <a:lnTo>
                      <a:pt x="1145" y="782"/>
                    </a:lnTo>
                    <a:lnTo>
                      <a:pt x="1073" y="776"/>
                    </a:lnTo>
                    <a:lnTo>
                      <a:pt x="1001" y="770"/>
                    </a:lnTo>
                    <a:lnTo>
                      <a:pt x="933" y="763"/>
                    </a:lnTo>
                    <a:lnTo>
                      <a:pt x="865" y="755"/>
                    </a:lnTo>
                    <a:lnTo>
                      <a:pt x="799" y="746"/>
                    </a:lnTo>
                    <a:lnTo>
                      <a:pt x="735" y="736"/>
                    </a:lnTo>
                    <a:lnTo>
                      <a:pt x="673" y="726"/>
                    </a:lnTo>
                    <a:lnTo>
                      <a:pt x="613" y="714"/>
                    </a:lnTo>
                    <a:lnTo>
                      <a:pt x="556" y="702"/>
                    </a:lnTo>
                    <a:lnTo>
                      <a:pt x="500" y="689"/>
                    </a:lnTo>
                    <a:lnTo>
                      <a:pt x="447" y="675"/>
                    </a:lnTo>
                    <a:lnTo>
                      <a:pt x="396" y="661"/>
                    </a:lnTo>
                    <a:lnTo>
                      <a:pt x="349" y="647"/>
                    </a:lnTo>
                    <a:lnTo>
                      <a:pt x="303" y="632"/>
                    </a:lnTo>
                    <a:lnTo>
                      <a:pt x="261" y="616"/>
                    </a:lnTo>
                    <a:lnTo>
                      <a:pt x="221" y="600"/>
                    </a:lnTo>
                    <a:lnTo>
                      <a:pt x="184" y="582"/>
                    </a:lnTo>
                    <a:lnTo>
                      <a:pt x="151" y="564"/>
                    </a:lnTo>
                    <a:lnTo>
                      <a:pt x="120" y="547"/>
                    </a:lnTo>
                    <a:lnTo>
                      <a:pt x="92" y="528"/>
                    </a:lnTo>
                    <a:lnTo>
                      <a:pt x="68" y="510"/>
                    </a:lnTo>
                    <a:lnTo>
                      <a:pt x="48" y="491"/>
                    </a:lnTo>
                    <a:lnTo>
                      <a:pt x="31" y="470"/>
                    </a:lnTo>
                    <a:lnTo>
                      <a:pt x="18" y="450"/>
                    </a:lnTo>
                    <a:lnTo>
                      <a:pt x="8" y="430"/>
                    </a:lnTo>
                    <a:lnTo>
                      <a:pt x="2" y="410"/>
                    </a:lnTo>
                    <a:lnTo>
                      <a:pt x="0" y="389"/>
                    </a:lnTo>
                    <a:lnTo>
                      <a:pt x="2" y="367"/>
                    </a:lnTo>
                    <a:lnTo>
                      <a:pt x="8" y="347"/>
                    </a:lnTo>
                    <a:lnTo>
                      <a:pt x="18" y="327"/>
                    </a:lnTo>
                    <a:lnTo>
                      <a:pt x="31" y="308"/>
                    </a:lnTo>
                    <a:lnTo>
                      <a:pt x="48" y="289"/>
                    </a:lnTo>
                    <a:lnTo>
                      <a:pt x="68" y="270"/>
                    </a:lnTo>
                    <a:lnTo>
                      <a:pt x="92" y="251"/>
                    </a:lnTo>
                    <a:lnTo>
                      <a:pt x="120" y="233"/>
                    </a:lnTo>
                    <a:lnTo>
                      <a:pt x="151" y="216"/>
                    </a:lnTo>
                    <a:lnTo>
                      <a:pt x="184" y="199"/>
                    </a:lnTo>
                    <a:lnTo>
                      <a:pt x="221" y="183"/>
                    </a:lnTo>
                    <a:lnTo>
                      <a:pt x="261" y="168"/>
                    </a:lnTo>
                    <a:lnTo>
                      <a:pt x="303" y="152"/>
                    </a:lnTo>
                    <a:lnTo>
                      <a:pt x="349" y="137"/>
                    </a:lnTo>
                    <a:lnTo>
                      <a:pt x="396" y="123"/>
                    </a:lnTo>
                    <a:lnTo>
                      <a:pt x="447" y="110"/>
                    </a:lnTo>
                    <a:lnTo>
                      <a:pt x="500" y="98"/>
                    </a:lnTo>
                    <a:lnTo>
                      <a:pt x="556" y="86"/>
                    </a:lnTo>
                    <a:lnTo>
                      <a:pt x="613" y="75"/>
                    </a:lnTo>
                    <a:lnTo>
                      <a:pt x="673" y="64"/>
                    </a:lnTo>
                    <a:lnTo>
                      <a:pt x="735" y="55"/>
                    </a:lnTo>
                    <a:lnTo>
                      <a:pt x="799" y="45"/>
                    </a:lnTo>
                    <a:lnTo>
                      <a:pt x="865" y="36"/>
                    </a:lnTo>
                    <a:lnTo>
                      <a:pt x="933" y="29"/>
                    </a:lnTo>
                    <a:lnTo>
                      <a:pt x="1001" y="22"/>
                    </a:lnTo>
                    <a:lnTo>
                      <a:pt x="1073" y="17"/>
                    </a:lnTo>
                    <a:lnTo>
                      <a:pt x="1145" y="12"/>
                    </a:lnTo>
                    <a:lnTo>
                      <a:pt x="1218" y="8"/>
                    </a:lnTo>
                    <a:lnTo>
                      <a:pt x="1294" y="4"/>
                    </a:lnTo>
                    <a:lnTo>
                      <a:pt x="1371" y="2"/>
                    </a:lnTo>
                    <a:lnTo>
                      <a:pt x="1448" y="1"/>
                    </a:lnTo>
                    <a:lnTo>
                      <a:pt x="1526" y="0"/>
                    </a:lnTo>
                    <a:lnTo>
                      <a:pt x="1605" y="1"/>
                    </a:lnTo>
                    <a:lnTo>
                      <a:pt x="1683" y="2"/>
                    </a:lnTo>
                    <a:lnTo>
                      <a:pt x="1759" y="4"/>
                    </a:lnTo>
                    <a:lnTo>
                      <a:pt x="1834" y="8"/>
                    </a:lnTo>
                    <a:lnTo>
                      <a:pt x="1908" y="12"/>
                    </a:lnTo>
                    <a:lnTo>
                      <a:pt x="1981" y="17"/>
                    </a:lnTo>
                    <a:lnTo>
                      <a:pt x="2052" y="22"/>
                    </a:lnTo>
                    <a:lnTo>
                      <a:pt x="2120" y="29"/>
                    </a:lnTo>
                    <a:lnTo>
                      <a:pt x="2188" y="36"/>
                    </a:lnTo>
                    <a:lnTo>
                      <a:pt x="2255" y="45"/>
                    </a:lnTo>
                    <a:lnTo>
                      <a:pt x="2318" y="55"/>
                    </a:lnTo>
                    <a:lnTo>
                      <a:pt x="2380" y="64"/>
                    </a:lnTo>
                    <a:lnTo>
                      <a:pt x="2439" y="75"/>
                    </a:lnTo>
                    <a:lnTo>
                      <a:pt x="2498" y="86"/>
                    </a:lnTo>
                    <a:lnTo>
                      <a:pt x="2553" y="98"/>
                    </a:lnTo>
                    <a:lnTo>
                      <a:pt x="2606" y="110"/>
                    </a:lnTo>
                    <a:lnTo>
                      <a:pt x="2657" y="123"/>
                    </a:lnTo>
                    <a:lnTo>
                      <a:pt x="2704" y="137"/>
                    </a:lnTo>
                    <a:lnTo>
                      <a:pt x="2749" y="152"/>
                    </a:lnTo>
                    <a:lnTo>
                      <a:pt x="2792" y="168"/>
                    </a:lnTo>
                    <a:lnTo>
                      <a:pt x="2832" y="183"/>
                    </a:lnTo>
                    <a:lnTo>
                      <a:pt x="2869" y="199"/>
                    </a:lnTo>
                    <a:lnTo>
                      <a:pt x="2903" y="216"/>
                    </a:lnTo>
                    <a:lnTo>
                      <a:pt x="2933" y="233"/>
                    </a:lnTo>
                    <a:lnTo>
                      <a:pt x="2961" y="251"/>
                    </a:lnTo>
                    <a:lnTo>
                      <a:pt x="2985" y="270"/>
                    </a:lnTo>
                    <a:lnTo>
                      <a:pt x="3005" y="289"/>
                    </a:lnTo>
                    <a:lnTo>
                      <a:pt x="3022" y="308"/>
                    </a:lnTo>
                    <a:lnTo>
                      <a:pt x="3035" y="327"/>
                    </a:lnTo>
                    <a:lnTo>
                      <a:pt x="3045" y="347"/>
                    </a:lnTo>
                    <a:lnTo>
                      <a:pt x="3051" y="367"/>
                    </a:lnTo>
                    <a:lnTo>
                      <a:pt x="3053" y="3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121840" y="6530760"/>
                <a:ext cx="337320" cy="94680"/>
              </a:xfrm>
              <a:custGeom>
                <a:avLst/>
                <a:gdLst/>
                <a:ahLst/>
                <a:rect l="l" t="t" r="r" b="b"/>
                <a:pathLst>
                  <a:path w="3050" h="792">
                    <a:moveTo>
                      <a:pt x="3050" y="388"/>
                    </a:moveTo>
                    <a:lnTo>
                      <a:pt x="3048" y="409"/>
                    </a:lnTo>
                    <a:lnTo>
                      <a:pt x="3042" y="429"/>
                    </a:lnTo>
                    <a:lnTo>
                      <a:pt x="3033" y="449"/>
                    </a:lnTo>
                    <a:lnTo>
                      <a:pt x="3020" y="469"/>
                    </a:lnTo>
                    <a:lnTo>
                      <a:pt x="3003" y="489"/>
                    </a:lnTo>
                    <a:lnTo>
                      <a:pt x="2982" y="508"/>
                    </a:lnTo>
                    <a:lnTo>
                      <a:pt x="2959" y="527"/>
                    </a:lnTo>
                    <a:lnTo>
                      <a:pt x="2931" y="545"/>
                    </a:lnTo>
                    <a:lnTo>
                      <a:pt x="2900" y="563"/>
                    </a:lnTo>
                    <a:lnTo>
                      <a:pt x="2867" y="580"/>
                    </a:lnTo>
                    <a:lnTo>
                      <a:pt x="2830" y="598"/>
                    </a:lnTo>
                    <a:lnTo>
                      <a:pt x="2790" y="614"/>
                    </a:lnTo>
                    <a:lnTo>
                      <a:pt x="2747" y="630"/>
                    </a:lnTo>
                    <a:lnTo>
                      <a:pt x="2702" y="645"/>
                    </a:lnTo>
                    <a:lnTo>
                      <a:pt x="2655" y="660"/>
                    </a:lnTo>
                    <a:lnTo>
                      <a:pt x="2604" y="674"/>
                    </a:lnTo>
                    <a:lnTo>
                      <a:pt x="2551" y="687"/>
                    </a:lnTo>
                    <a:lnTo>
                      <a:pt x="2496" y="701"/>
                    </a:lnTo>
                    <a:lnTo>
                      <a:pt x="2438" y="713"/>
                    </a:lnTo>
                    <a:lnTo>
                      <a:pt x="2378" y="724"/>
                    </a:lnTo>
                    <a:lnTo>
                      <a:pt x="2316" y="734"/>
                    </a:lnTo>
                    <a:lnTo>
                      <a:pt x="2253" y="744"/>
                    </a:lnTo>
                    <a:lnTo>
                      <a:pt x="2187" y="753"/>
                    </a:lnTo>
                    <a:lnTo>
                      <a:pt x="2119" y="761"/>
                    </a:lnTo>
                    <a:lnTo>
                      <a:pt x="2050" y="768"/>
                    </a:lnTo>
                    <a:lnTo>
                      <a:pt x="1979" y="774"/>
                    </a:lnTo>
                    <a:lnTo>
                      <a:pt x="1906" y="780"/>
                    </a:lnTo>
                    <a:lnTo>
                      <a:pt x="1832" y="784"/>
                    </a:lnTo>
                    <a:lnTo>
                      <a:pt x="1758" y="788"/>
                    </a:lnTo>
                    <a:lnTo>
                      <a:pt x="1681" y="790"/>
                    </a:lnTo>
                    <a:lnTo>
                      <a:pt x="1604" y="792"/>
                    </a:lnTo>
                    <a:lnTo>
                      <a:pt x="1525" y="792"/>
                    </a:lnTo>
                    <a:lnTo>
                      <a:pt x="1447" y="792"/>
                    </a:lnTo>
                    <a:lnTo>
                      <a:pt x="1370" y="790"/>
                    </a:lnTo>
                    <a:lnTo>
                      <a:pt x="1293" y="788"/>
                    </a:lnTo>
                    <a:lnTo>
                      <a:pt x="1218" y="784"/>
                    </a:lnTo>
                    <a:lnTo>
                      <a:pt x="1145" y="780"/>
                    </a:lnTo>
                    <a:lnTo>
                      <a:pt x="1072" y="774"/>
                    </a:lnTo>
                    <a:lnTo>
                      <a:pt x="1001" y="768"/>
                    </a:lnTo>
                    <a:lnTo>
                      <a:pt x="932" y="761"/>
                    </a:lnTo>
                    <a:lnTo>
                      <a:pt x="864" y="753"/>
                    </a:lnTo>
                    <a:lnTo>
                      <a:pt x="798" y="744"/>
                    </a:lnTo>
                    <a:lnTo>
                      <a:pt x="735" y="734"/>
                    </a:lnTo>
                    <a:lnTo>
                      <a:pt x="673" y="724"/>
                    </a:lnTo>
                    <a:lnTo>
                      <a:pt x="613" y="713"/>
                    </a:lnTo>
                    <a:lnTo>
                      <a:pt x="555" y="701"/>
                    </a:lnTo>
                    <a:lnTo>
                      <a:pt x="500" y="687"/>
                    </a:lnTo>
                    <a:lnTo>
                      <a:pt x="447" y="674"/>
                    </a:lnTo>
                    <a:lnTo>
                      <a:pt x="396" y="660"/>
                    </a:lnTo>
                    <a:lnTo>
                      <a:pt x="349" y="645"/>
                    </a:lnTo>
                    <a:lnTo>
                      <a:pt x="303" y="630"/>
                    </a:lnTo>
                    <a:lnTo>
                      <a:pt x="261" y="614"/>
                    </a:lnTo>
                    <a:lnTo>
                      <a:pt x="222" y="598"/>
                    </a:lnTo>
                    <a:lnTo>
                      <a:pt x="184" y="580"/>
                    </a:lnTo>
                    <a:lnTo>
                      <a:pt x="151" y="563"/>
                    </a:lnTo>
                    <a:lnTo>
                      <a:pt x="121" y="545"/>
                    </a:lnTo>
                    <a:lnTo>
                      <a:pt x="93" y="527"/>
                    </a:lnTo>
                    <a:lnTo>
                      <a:pt x="69" y="508"/>
                    </a:lnTo>
                    <a:lnTo>
                      <a:pt x="48" y="489"/>
                    </a:lnTo>
                    <a:lnTo>
                      <a:pt x="32" y="469"/>
                    </a:lnTo>
                    <a:lnTo>
                      <a:pt x="18" y="449"/>
                    </a:lnTo>
                    <a:lnTo>
                      <a:pt x="9" y="429"/>
                    </a:lnTo>
                    <a:lnTo>
                      <a:pt x="2" y="409"/>
                    </a:lnTo>
                    <a:lnTo>
                      <a:pt x="0" y="388"/>
                    </a:lnTo>
                    <a:lnTo>
                      <a:pt x="2" y="366"/>
                    </a:lnTo>
                    <a:lnTo>
                      <a:pt x="9" y="346"/>
                    </a:lnTo>
                    <a:lnTo>
                      <a:pt x="18" y="326"/>
                    </a:lnTo>
                    <a:lnTo>
                      <a:pt x="32" y="307"/>
                    </a:lnTo>
                    <a:lnTo>
                      <a:pt x="48" y="288"/>
                    </a:lnTo>
                    <a:lnTo>
                      <a:pt x="69" y="269"/>
                    </a:lnTo>
                    <a:lnTo>
                      <a:pt x="93" y="250"/>
                    </a:lnTo>
                    <a:lnTo>
                      <a:pt x="121" y="233"/>
                    </a:lnTo>
                    <a:lnTo>
                      <a:pt x="151" y="215"/>
                    </a:lnTo>
                    <a:lnTo>
                      <a:pt x="184" y="199"/>
                    </a:lnTo>
                    <a:lnTo>
                      <a:pt x="222" y="183"/>
                    </a:lnTo>
                    <a:lnTo>
                      <a:pt x="261" y="167"/>
                    </a:lnTo>
                    <a:lnTo>
                      <a:pt x="303" y="151"/>
                    </a:lnTo>
                    <a:lnTo>
                      <a:pt x="349" y="137"/>
                    </a:lnTo>
                    <a:lnTo>
                      <a:pt x="396" y="123"/>
                    </a:lnTo>
                    <a:lnTo>
                      <a:pt x="447" y="110"/>
                    </a:lnTo>
                    <a:lnTo>
                      <a:pt x="500" y="97"/>
                    </a:lnTo>
                    <a:lnTo>
                      <a:pt x="555" y="86"/>
                    </a:lnTo>
                    <a:lnTo>
                      <a:pt x="613" y="75"/>
                    </a:lnTo>
                    <a:lnTo>
                      <a:pt x="673" y="64"/>
                    </a:lnTo>
                    <a:lnTo>
                      <a:pt x="735" y="54"/>
                    </a:lnTo>
                    <a:lnTo>
                      <a:pt x="798" y="45"/>
                    </a:lnTo>
                    <a:lnTo>
                      <a:pt x="864" y="36"/>
                    </a:lnTo>
                    <a:lnTo>
                      <a:pt x="932" y="29"/>
                    </a:lnTo>
                    <a:lnTo>
                      <a:pt x="1001" y="22"/>
                    </a:lnTo>
                    <a:lnTo>
                      <a:pt x="1072" y="17"/>
                    </a:lnTo>
                    <a:lnTo>
                      <a:pt x="1145" y="12"/>
                    </a:lnTo>
                    <a:lnTo>
                      <a:pt x="1218" y="8"/>
                    </a:lnTo>
                    <a:lnTo>
                      <a:pt x="1293" y="4"/>
                    </a:lnTo>
                    <a:lnTo>
                      <a:pt x="1370" y="2"/>
                    </a:lnTo>
                    <a:lnTo>
                      <a:pt x="1447" y="1"/>
                    </a:lnTo>
                    <a:lnTo>
                      <a:pt x="1525" y="0"/>
                    </a:lnTo>
                    <a:lnTo>
                      <a:pt x="1604" y="1"/>
                    </a:lnTo>
                    <a:lnTo>
                      <a:pt x="1681" y="2"/>
                    </a:lnTo>
                    <a:lnTo>
                      <a:pt x="1758" y="4"/>
                    </a:lnTo>
                    <a:lnTo>
                      <a:pt x="1832" y="8"/>
                    </a:lnTo>
                    <a:lnTo>
                      <a:pt x="1906" y="12"/>
                    </a:lnTo>
                    <a:lnTo>
                      <a:pt x="1979" y="17"/>
                    </a:lnTo>
                    <a:lnTo>
                      <a:pt x="2050" y="22"/>
                    </a:lnTo>
                    <a:lnTo>
                      <a:pt x="2119" y="29"/>
                    </a:lnTo>
                    <a:lnTo>
                      <a:pt x="2187" y="36"/>
                    </a:lnTo>
                    <a:lnTo>
                      <a:pt x="2253" y="45"/>
                    </a:lnTo>
                    <a:lnTo>
                      <a:pt x="2316" y="54"/>
                    </a:lnTo>
                    <a:lnTo>
                      <a:pt x="2378" y="64"/>
                    </a:lnTo>
                    <a:lnTo>
                      <a:pt x="2438" y="75"/>
                    </a:lnTo>
                    <a:lnTo>
                      <a:pt x="2496" y="86"/>
                    </a:lnTo>
                    <a:lnTo>
                      <a:pt x="2551" y="97"/>
                    </a:lnTo>
                    <a:lnTo>
                      <a:pt x="2604" y="110"/>
                    </a:lnTo>
                    <a:lnTo>
                      <a:pt x="2655" y="123"/>
                    </a:lnTo>
                    <a:lnTo>
                      <a:pt x="2702" y="137"/>
                    </a:lnTo>
                    <a:lnTo>
                      <a:pt x="2747" y="151"/>
                    </a:lnTo>
                    <a:lnTo>
                      <a:pt x="2790" y="167"/>
                    </a:lnTo>
                    <a:lnTo>
                      <a:pt x="2830" y="183"/>
                    </a:lnTo>
                    <a:lnTo>
                      <a:pt x="2867" y="199"/>
                    </a:lnTo>
                    <a:lnTo>
                      <a:pt x="2900" y="215"/>
                    </a:lnTo>
                    <a:lnTo>
                      <a:pt x="2931" y="233"/>
                    </a:lnTo>
                    <a:lnTo>
                      <a:pt x="2959" y="250"/>
                    </a:lnTo>
                    <a:lnTo>
                      <a:pt x="2982" y="269"/>
                    </a:lnTo>
                    <a:lnTo>
                      <a:pt x="3003" y="288"/>
                    </a:lnTo>
                    <a:lnTo>
                      <a:pt x="3020" y="307"/>
                    </a:lnTo>
                    <a:lnTo>
                      <a:pt x="3033" y="326"/>
                    </a:lnTo>
                    <a:lnTo>
                      <a:pt x="3042" y="346"/>
                    </a:lnTo>
                    <a:lnTo>
                      <a:pt x="3048" y="366"/>
                    </a:lnTo>
                    <a:lnTo>
                      <a:pt x="3050" y="3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121840" y="6530760"/>
                <a:ext cx="336240" cy="94680"/>
              </a:xfrm>
              <a:custGeom>
                <a:avLst/>
                <a:gdLst/>
                <a:ahLst/>
                <a:rect l="l" t="t" r="r" b="b"/>
                <a:pathLst>
                  <a:path w="3048" h="790">
                    <a:moveTo>
                      <a:pt x="3048" y="387"/>
                    </a:moveTo>
                    <a:lnTo>
                      <a:pt x="3046" y="408"/>
                    </a:lnTo>
                    <a:lnTo>
                      <a:pt x="3040" y="428"/>
                    </a:lnTo>
                    <a:lnTo>
                      <a:pt x="3030" y="448"/>
                    </a:lnTo>
                    <a:lnTo>
                      <a:pt x="3017" y="468"/>
                    </a:lnTo>
                    <a:lnTo>
                      <a:pt x="3000" y="488"/>
                    </a:lnTo>
                    <a:lnTo>
                      <a:pt x="2980" y="507"/>
                    </a:lnTo>
                    <a:lnTo>
                      <a:pt x="2956" y="526"/>
                    </a:lnTo>
                    <a:lnTo>
                      <a:pt x="2928" y="544"/>
                    </a:lnTo>
                    <a:lnTo>
                      <a:pt x="2898" y="562"/>
                    </a:lnTo>
                    <a:lnTo>
                      <a:pt x="2865" y="579"/>
                    </a:lnTo>
                    <a:lnTo>
                      <a:pt x="2827" y="597"/>
                    </a:lnTo>
                    <a:lnTo>
                      <a:pt x="2788" y="613"/>
                    </a:lnTo>
                    <a:lnTo>
                      <a:pt x="2745" y="629"/>
                    </a:lnTo>
                    <a:lnTo>
                      <a:pt x="2700" y="644"/>
                    </a:lnTo>
                    <a:lnTo>
                      <a:pt x="2653" y="658"/>
                    </a:lnTo>
                    <a:lnTo>
                      <a:pt x="2602" y="672"/>
                    </a:lnTo>
                    <a:lnTo>
                      <a:pt x="2549" y="685"/>
                    </a:lnTo>
                    <a:lnTo>
                      <a:pt x="2494" y="699"/>
                    </a:lnTo>
                    <a:lnTo>
                      <a:pt x="2436" y="711"/>
                    </a:lnTo>
                    <a:lnTo>
                      <a:pt x="2377" y="722"/>
                    </a:lnTo>
                    <a:lnTo>
                      <a:pt x="2314" y="732"/>
                    </a:lnTo>
                    <a:lnTo>
                      <a:pt x="2251" y="742"/>
                    </a:lnTo>
                    <a:lnTo>
                      <a:pt x="2185" y="751"/>
                    </a:lnTo>
                    <a:lnTo>
                      <a:pt x="2117" y="759"/>
                    </a:lnTo>
                    <a:lnTo>
                      <a:pt x="2049" y="766"/>
                    </a:lnTo>
                    <a:lnTo>
                      <a:pt x="1978" y="772"/>
                    </a:lnTo>
                    <a:lnTo>
                      <a:pt x="1905" y="778"/>
                    </a:lnTo>
                    <a:lnTo>
                      <a:pt x="1831" y="782"/>
                    </a:lnTo>
                    <a:lnTo>
                      <a:pt x="1757" y="786"/>
                    </a:lnTo>
                    <a:lnTo>
                      <a:pt x="1680" y="788"/>
                    </a:lnTo>
                    <a:lnTo>
                      <a:pt x="1603" y="790"/>
                    </a:lnTo>
                    <a:lnTo>
                      <a:pt x="1524" y="790"/>
                    </a:lnTo>
                    <a:lnTo>
                      <a:pt x="1446" y="790"/>
                    </a:lnTo>
                    <a:lnTo>
                      <a:pt x="1369" y="788"/>
                    </a:lnTo>
                    <a:lnTo>
                      <a:pt x="1292" y="786"/>
                    </a:lnTo>
                    <a:lnTo>
                      <a:pt x="1217" y="782"/>
                    </a:lnTo>
                    <a:lnTo>
                      <a:pt x="1144" y="778"/>
                    </a:lnTo>
                    <a:lnTo>
                      <a:pt x="1071" y="772"/>
                    </a:lnTo>
                    <a:lnTo>
                      <a:pt x="1000" y="766"/>
                    </a:lnTo>
                    <a:lnTo>
                      <a:pt x="932" y="759"/>
                    </a:lnTo>
                    <a:lnTo>
                      <a:pt x="864" y="751"/>
                    </a:lnTo>
                    <a:lnTo>
                      <a:pt x="798" y="742"/>
                    </a:lnTo>
                    <a:lnTo>
                      <a:pt x="735" y="732"/>
                    </a:lnTo>
                    <a:lnTo>
                      <a:pt x="673" y="722"/>
                    </a:lnTo>
                    <a:lnTo>
                      <a:pt x="612" y="711"/>
                    </a:lnTo>
                    <a:lnTo>
                      <a:pt x="555" y="699"/>
                    </a:lnTo>
                    <a:lnTo>
                      <a:pt x="500" y="685"/>
                    </a:lnTo>
                    <a:lnTo>
                      <a:pt x="447" y="672"/>
                    </a:lnTo>
                    <a:lnTo>
                      <a:pt x="396" y="658"/>
                    </a:lnTo>
                    <a:lnTo>
                      <a:pt x="349" y="644"/>
                    </a:lnTo>
                    <a:lnTo>
                      <a:pt x="303" y="629"/>
                    </a:lnTo>
                    <a:lnTo>
                      <a:pt x="261" y="613"/>
                    </a:lnTo>
                    <a:lnTo>
                      <a:pt x="222" y="597"/>
                    </a:lnTo>
                    <a:lnTo>
                      <a:pt x="184" y="579"/>
                    </a:lnTo>
                    <a:lnTo>
                      <a:pt x="151" y="562"/>
                    </a:lnTo>
                    <a:lnTo>
                      <a:pt x="121" y="544"/>
                    </a:lnTo>
                    <a:lnTo>
                      <a:pt x="93" y="526"/>
                    </a:lnTo>
                    <a:lnTo>
                      <a:pt x="69" y="507"/>
                    </a:lnTo>
                    <a:lnTo>
                      <a:pt x="49" y="488"/>
                    </a:lnTo>
                    <a:lnTo>
                      <a:pt x="32" y="468"/>
                    </a:lnTo>
                    <a:lnTo>
                      <a:pt x="19" y="448"/>
                    </a:lnTo>
                    <a:lnTo>
                      <a:pt x="9" y="428"/>
                    </a:lnTo>
                    <a:lnTo>
                      <a:pt x="2" y="408"/>
                    </a:lnTo>
                    <a:lnTo>
                      <a:pt x="0" y="387"/>
                    </a:lnTo>
                    <a:lnTo>
                      <a:pt x="2" y="365"/>
                    </a:lnTo>
                    <a:lnTo>
                      <a:pt x="9" y="345"/>
                    </a:lnTo>
                    <a:lnTo>
                      <a:pt x="19" y="325"/>
                    </a:lnTo>
                    <a:lnTo>
                      <a:pt x="32" y="306"/>
                    </a:lnTo>
                    <a:lnTo>
                      <a:pt x="49" y="287"/>
                    </a:lnTo>
                    <a:lnTo>
                      <a:pt x="69" y="269"/>
                    </a:lnTo>
                    <a:lnTo>
                      <a:pt x="93" y="249"/>
                    </a:lnTo>
                    <a:lnTo>
                      <a:pt x="121" y="232"/>
                    </a:lnTo>
                    <a:lnTo>
                      <a:pt x="151" y="215"/>
                    </a:lnTo>
                    <a:lnTo>
                      <a:pt x="184" y="198"/>
                    </a:lnTo>
                    <a:lnTo>
                      <a:pt x="222" y="182"/>
                    </a:lnTo>
                    <a:lnTo>
                      <a:pt x="261" y="167"/>
                    </a:lnTo>
                    <a:lnTo>
                      <a:pt x="303" y="151"/>
                    </a:lnTo>
                    <a:lnTo>
                      <a:pt x="349" y="136"/>
                    </a:lnTo>
                    <a:lnTo>
                      <a:pt x="396" y="123"/>
                    </a:lnTo>
                    <a:lnTo>
                      <a:pt x="447" y="110"/>
                    </a:lnTo>
                    <a:lnTo>
                      <a:pt x="500" y="97"/>
                    </a:lnTo>
                    <a:lnTo>
                      <a:pt x="555" y="85"/>
                    </a:lnTo>
                    <a:lnTo>
                      <a:pt x="612" y="74"/>
                    </a:lnTo>
                    <a:lnTo>
                      <a:pt x="673" y="64"/>
                    </a:lnTo>
                    <a:lnTo>
                      <a:pt x="735" y="54"/>
                    </a:lnTo>
                    <a:lnTo>
                      <a:pt x="798" y="44"/>
                    </a:lnTo>
                    <a:lnTo>
                      <a:pt x="864" y="36"/>
                    </a:lnTo>
                    <a:lnTo>
                      <a:pt x="932" y="29"/>
                    </a:lnTo>
                    <a:lnTo>
                      <a:pt x="1000" y="22"/>
                    </a:lnTo>
                    <a:lnTo>
                      <a:pt x="1071" y="16"/>
                    </a:lnTo>
                    <a:lnTo>
                      <a:pt x="1144" y="12"/>
                    </a:lnTo>
                    <a:lnTo>
                      <a:pt x="1217" y="7"/>
                    </a:lnTo>
                    <a:lnTo>
                      <a:pt x="1292" y="4"/>
                    </a:lnTo>
                    <a:lnTo>
                      <a:pt x="1369" y="2"/>
                    </a:lnTo>
                    <a:lnTo>
                      <a:pt x="1446" y="1"/>
                    </a:lnTo>
                    <a:lnTo>
                      <a:pt x="1524" y="0"/>
                    </a:lnTo>
                    <a:lnTo>
                      <a:pt x="1603" y="1"/>
                    </a:lnTo>
                    <a:lnTo>
                      <a:pt x="1680" y="2"/>
                    </a:lnTo>
                    <a:lnTo>
                      <a:pt x="1757" y="4"/>
                    </a:lnTo>
                    <a:lnTo>
                      <a:pt x="1831" y="7"/>
                    </a:lnTo>
                    <a:lnTo>
                      <a:pt x="1905" y="12"/>
                    </a:lnTo>
                    <a:lnTo>
                      <a:pt x="1978" y="16"/>
                    </a:lnTo>
                    <a:lnTo>
                      <a:pt x="2049" y="22"/>
                    </a:lnTo>
                    <a:lnTo>
                      <a:pt x="2117" y="29"/>
                    </a:lnTo>
                    <a:lnTo>
                      <a:pt x="2185" y="36"/>
                    </a:lnTo>
                    <a:lnTo>
                      <a:pt x="2251" y="44"/>
                    </a:lnTo>
                    <a:lnTo>
                      <a:pt x="2314" y="54"/>
                    </a:lnTo>
                    <a:lnTo>
                      <a:pt x="2377" y="64"/>
                    </a:lnTo>
                    <a:lnTo>
                      <a:pt x="2436" y="74"/>
                    </a:lnTo>
                    <a:lnTo>
                      <a:pt x="2494" y="85"/>
                    </a:lnTo>
                    <a:lnTo>
                      <a:pt x="2549" y="97"/>
                    </a:lnTo>
                    <a:lnTo>
                      <a:pt x="2602" y="110"/>
                    </a:lnTo>
                    <a:lnTo>
                      <a:pt x="2653" y="123"/>
                    </a:lnTo>
                    <a:lnTo>
                      <a:pt x="2700" y="136"/>
                    </a:lnTo>
                    <a:lnTo>
                      <a:pt x="2745" y="151"/>
                    </a:lnTo>
                    <a:lnTo>
                      <a:pt x="2788" y="167"/>
                    </a:lnTo>
                    <a:lnTo>
                      <a:pt x="2827" y="182"/>
                    </a:lnTo>
                    <a:lnTo>
                      <a:pt x="2865" y="198"/>
                    </a:lnTo>
                    <a:lnTo>
                      <a:pt x="2898" y="215"/>
                    </a:lnTo>
                    <a:lnTo>
                      <a:pt x="2928" y="232"/>
                    </a:lnTo>
                    <a:lnTo>
                      <a:pt x="2956" y="249"/>
                    </a:lnTo>
                    <a:lnTo>
                      <a:pt x="2980" y="269"/>
                    </a:lnTo>
                    <a:lnTo>
                      <a:pt x="3000" y="287"/>
                    </a:lnTo>
                    <a:lnTo>
                      <a:pt x="3017" y="306"/>
                    </a:lnTo>
                    <a:lnTo>
                      <a:pt x="3030" y="325"/>
                    </a:lnTo>
                    <a:lnTo>
                      <a:pt x="3040" y="345"/>
                    </a:lnTo>
                    <a:lnTo>
                      <a:pt x="3046" y="365"/>
                    </a:lnTo>
                    <a:lnTo>
                      <a:pt x="3048" y="3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123280" y="6530760"/>
                <a:ext cx="335160" cy="94680"/>
              </a:xfrm>
              <a:custGeom>
                <a:avLst/>
                <a:gdLst/>
                <a:ahLst/>
                <a:rect l="l" t="t" r="r" b="b"/>
                <a:pathLst>
                  <a:path w="3044" h="788">
                    <a:moveTo>
                      <a:pt x="3044" y="386"/>
                    </a:moveTo>
                    <a:lnTo>
                      <a:pt x="3042" y="407"/>
                    </a:lnTo>
                    <a:lnTo>
                      <a:pt x="3037" y="427"/>
                    </a:lnTo>
                    <a:lnTo>
                      <a:pt x="3027" y="447"/>
                    </a:lnTo>
                    <a:lnTo>
                      <a:pt x="3014" y="467"/>
                    </a:lnTo>
                    <a:lnTo>
                      <a:pt x="2997" y="487"/>
                    </a:lnTo>
                    <a:lnTo>
                      <a:pt x="2977" y="506"/>
                    </a:lnTo>
                    <a:lnTo>
                      <a:pt x="2953" y="524"/>
                    </a:lnTo>
                    <a:lnTo>
                      <a:pt x="2925" y="543"/>
                    </a:lnTo>
                    <a:lnTo>
                      <a:pt x="2895" y="560"/>
                    </a:lnTo>
                    <a:lnTo>
                      <a:pt x="2861" y="577"/>
                    </a:lnTo>
                    <a:lnTo>
                      <a:pt x="2824" y="595"/>
                    </a:lnTo>
                    <a:lnTo>
                      <a:pt x="2785" y="611"/>
                    </a:lnTo>
                    <a:lnTo>
                      <a:pt x="2742" y="627"/>
                    </a:lnTo>
                    <a:lnTo>
                      <a:pt x="2697" y="642"/>
                    </a:lnTo>
                    <a:lnTo>
                      <a:pt x="2650" y="657"/>
                    </a:lnTo>
                    <a:lnTo>
                      <a:pt x="2599" y="670"/>
                    </a:lnTo>
                    <a:lnTo>
                      <a:pt x="2547" y="684"/>
                    </a:lnTo>
                    <a:lnTo>
                      <a:pt x="2491" y="697"/>
                    </a:lnTo>
                    <a:lnTo>
                      <a:pt x="2433" y="709"/>
                    </a:lnTo>
                    <a:lnTo>
                      <a:pt x="2374" y="720"/>
                    </a:lnTo>
                    <a:lnTo>
                      <a:pt x="2312" y="731"/>
                    </a:lnTo>
                    <a:lnTo>
                      <a:pt x="2249" y="740"/>
                    </a:lnTo>
                    <a:lnTo>
                      <a:pt x="2183" y="749"/>
                    </a:lnTo>
                    <a:lnTo>
                      <a:pt x="2115" y="757"/>
                    </a:lnTo>
                    <a:lnTo>
                      <a:pt x="2046" y="764"/>
                    </a:lnTo>
                    <a:lnTo>
                      <a:pt x="1975" y="771"/>
                    </a:lnTo>
                    <a:lnTo>
                      <a:pt x="1903" y="776"/>
                    </a:lnTo>
                    <a:lnTo>
                      <a:pt x="1829" y="780"/>
                    </a:lnTo>
                    <a:lnTo>
                      <a:pt x="1755" y="784"/>
                    </a:lnTo>
                    <a:lnTo>
                      <a:pt x="1678" y="786"/>
                    </a:lnTo>
                    <a:lnTo>
                      <a:pt x="1601" y="788"/>
                    </a:lnTo>
                    <a:lnTo>
                      <a:pt x="1522" y="788"/>
                    </a:lnTo>
                    <a:lnTo>
                      <a:pt x="1445" y="788"/>
                    </a:lnTo>
                    <a:lnTo>
                      <a:pt x="1367" y="786"/>
                    </a:lnTo>
                    <a:lnTo>
                      <a:pt x="1291" y="784"/>
                    </a:lnTo>
                    <a:lnTo>
                      <a:pt x="1215" y="780"/>
                    </a:lnTo>
                    <a:lnTo>
                      <a:pt x="1142" y="776"/>
                    </a:lnTo>
                    <a:lnTo>
                      <a:pt x="1070" y="771"/>
                    </a:lnTo>
                    <a:lnTo>
                      <a:pt x="999" y="764"/>
                    </a:lnTo>
                    <a:lnTo>
                      <a:pt x="930" y="757"/>
                    </a:lnTo>
                    <a:lnTo>
                      <a:pt x="863" y="749"/>
                    </a:lnTo>
                    <a:lnTo>
                      <a:pt x="797" y="740"/>
                    </a:lnTo>
                    <a:lnTo>
                      <a:pt x="733" y="731"/>
                    </a:lnTo>
                    <a:lnTo>
                      <a:pt x="671" y="720"/>
                    </a:lnTo>
                    <a:lnTo>
                      <a:pt x="611" y="709"/>
                    </a:lnTo>
                    <a:lnTo>
                      <a:pt x="554" y="697"/>
                    </a:lnTo>
                    <a:lnTo>
                      <a:pt x="499" y="684"/>
                    </a:lnTo>
                    <a:lnTo>
                      <a:pt x="446" y="670"/>
                    </a:lnTo>
                    <a:lnTo>
                      <a:pt x="395" y="657"/>
                    </a:lnTo>
                    <a:lnTo>
                      <a:pt x="348" y="642"/>
                    </a:lnTo>
                    <a:lnTo>
                      <a:pt x="302" y="627"/>
                    </a:lnTo>
                    <a:lnTo>
                      <a:pt x="260" y="611"/>
                    </a:lnTo>
                    <a:lnTo>
                      <a:pt x="221" y="595"/>
                    </a:lnTo>
                    <a:lnTo>
                      <a:pt x="184" y="577"/>
                    </a:lnTo>
                    <a:lnTo>
                      <a:pt x="150" y="560"/>
                    </a:lnTo>
                    <a:lnTo>
                      <a:pt x="120" y="543"/>
                    </a:lnTo>
                    <a:lnTo>
                      <a:pt x="92" y="524"/>
                    </a:lnTo>
                    <a:lnTo>
                      <a:pt x="69" y="506"/>
                    </a:lnTo>
                    <a:lnTo>
                      <a:pt x="48" y="487"/>
                    </a:lnTo>
                    <a:lnTo>
                      <a:pt x="31" y="467"/>
                    </a:lnTo>
                    <a:lnTo>
                      <a:pt x="18" y="447"/>
                    </a:lnTo>
                    <a:lnTo>
                      <a:pt x="9" y="427"/>
                    </a:lnTo>
                    <a:lnTo>
                      <a:pt x="3" y="407"/>
                    </a:lnTo>
                    <a:lnTo>
                      <a:pt x="0" y="386"/>
                    </a:lnTo>
                    <a:lnTo>
                      <a:pt x="3" y="364"/>
                    </a:lnTo>
                    <a:lnTo>
                      <a:pt x="9" y="344"/>
                    </a:lnTo>
                    <a:lnTo>
                      <a:pt x="18" y="325"/>
                    </a:lnTo>
                    <a:lnTo>
                      <a:pt x="31" y="305"/>
                    </a:lnTo>
                    <a:lnTo>
                      <a:pt x="48" y="286"/>
                    </a:lnTo>
                    <a:lnTo>
                      <a:pt x="69" y="268"/>
                    </a:lnTo>
                    <a:lnTo>
                      <a:pt x="92" y="249"/>
                    </a:lnTo>
                    <a:lnTo>
                      <a:pt x="120" y="231"/>
                    </a:lnTo>
                    <a:lnTo>
                      <a:pt x="150" y="214"/>
                    </a:lnTo>
                    <a:lnTo>
                      <a:pt x="184" y="198"/>
                    </a:lnTo>
                    <a:lnTo>
                      <a:pt x="221" y="182"/>
                    </a:lnTo>
                    <a:lnTo>
                      <a:pt x="260" y="166"/>
                    </a:lnTo>
                    <a:lnTo>
                      <a:pt x="302" y="150"/>
                    </a:lnTo>
                    <a:lnTo>
                      <a:pt x="348" y="136"/>
                    </a:lnTo>
                    <a:lnTo>
                      <a:pt x="395" y="122"/>
                    </a:lnTo>
                    <a:lnTo>
                      <a:pt x="446" y="109"/>
                    </a:lnTo>
                    <a:lnTo>
                      <a:pt x="499" y="97"/>
                    </a:lnTo>
                    <a:lnTo>
                      <a:pt x="554" y="85"/>
                    </a:lnTo>
                    <a:lnTo>
                      <a:pt x="611" y="74"/>
                    </a:lnTo>
                    <a:lnTo>
                      <a:pt x="671" y="64"/>
                    </a:lnTo>
                    <a:lnTo>
                      <a:pt x="733" y="54"/>
                    </a:lnTo>
                    <a:lnTo>
                      <a:pt x="797" y="44"/>
                    </a:lnTo>
                    <a:lnTo>
                      <a:pt x="863" y="36"/>
                    </a:lnTo>
                    <a:lnTo>
                      <a:pt x="930" y="29"/>
                    </a:lnTo>
                    <a:lnTo>
                      <a:pt x="999" y="22"/>
                    </a:lnTo>
                    <a:lnTo>
                      <a:pt x="1070" y="16"/>
                    </a:lnTo>
                    <a:lnTo>
                      <a:pt x="1142" y="11"/>
                    </a:lnTo>
                    <a:lnTo>
                      <a:pt x="1215" y="7"/>
                    </a:lnTo>
                    <a:lnTo>
                      <a:pt x="1291" y="4"/>
                    </a:lnTo>
                    <a:lnTo>
                      <a:pt x="1367" y="2"/>
                    </a:lnTo>
                    <a:lnTo>
                      <a:pt x="1445" y="0"/>
                    </a:lnTo>
                    <a:lnTo>
                      <a:pt x="1522" y="0"/>
                    </a:lnTo>
                    <a:lnTo>
                      <a:pt x="1601" y="0"/>
                    </a:lnTo>
                    <a:lnTo>
                      <a:pt x="1678" y="2"/>
                    </a:lnTo>
                    <a:lnTo>
                      <a:pt x="1755" y="4"/>
                    </a:lnTo>
                    <a:lnTo>
                      <a:pt x="1829" y="7"/>
                    </a:lnTo>
                    <a:lnTo>
                      <a:pt x="1903" y="11"/>
                    </a:lnTo>
                    <a:lnTo>
                      <a:pt x="1975" y="16"/>
                    </a:lnTo>
                    <a:lnTo>
                      <a:pt x="2046" y="22"/>
                    </a:lnTo>
                    <a:lnTo>
                      <a:pt x="2115" y="29"/>
                    </a:lnTo>
                    <a:lnTo>
                      <a:pt x="2183" y="36"/>
                    </a:lnTo>
                    <a:lnTo>
                      <a:pt x="2249" y="44"/>
                    </a:lnTo>
                    <a:lnTo>
                      <a:pt x="2312" y="54"/>
                    </a:lnTo>
                    <a:lnTo>
                      <a:pt x="2374" y="64"/>
                    </a:lnTo>
                    <a:lnTo>
                      <a:pt x="2433" y="74"/>
                    </a:lnTo>
                    <a:lnTo>
                      <a:pt x="2491" y="85"/>
                    </a:lnTo>
                    <a:lnTo>
                      <a:pt x="2547" y="97"/>
                    </a:lnTo>
                    <a:lnTo>
                      <a:pt x="2599" y="109"/>
                    </a:lnTo>
                    <a:lnTo>
                      <a:pt x="2650" y="122"/>
                    </a:lnTo>
                    <a:lnTo>
                      <a:pt x="2697" y="136"/>
                    </a:lnTo>
                    <a:lnTo>
                      <a:pt x="2742" y="150"/>
                    </a:lnTo>
                    <a:lnTo>
                      <a:pt x="2785" y="166"/>
                    </a:lnTo>
                    <a:lnTo>
                      <a:pt x="2824" y="182"/>
                    </a:lnTo>
                    <a:lnTo>
                      <a:pt x="2861" y="198"/>
                    </a:lnTo>
                    <a:lnTo>
                      <a:pt x="2895" y="214"/>
                    </a:lnTo>
                    <a:lnTo>
                      <a:pt x="2925" y="231"/>
                    </a:lnTo>
                    <a:lnTo>
                      <a:pt x="2953" y="249"/>
                    </a:lnTo>
                    <a:lnTo>
                      <a:pt x="2977" y="268"/>
                    </a:lnTo>
                    <a:lnTo>
                      <a:pt x="2997" y="286"/>
                    </a:lnTo>
                    <a:lnTo>
                      <a:pt x="3014" y="305"/>
                    </a:lnTo>
                    <a:lnTo>
                      <a:pt x="3027" y="325"/>
                    </a:lnTo>
                    <a:lnTo>
                      <a:pt x="3037" y="344"/>
                    </a:lnTo>
                    <a:lnTo>
                      <a:pt x="3042" y="364"/>
                    </a:lnTo>
                    <a:lnTo>
                      <a:pt x="3044" y="3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123280" y="6530760"/>
                <a:ext cx="335160" cy="94680"/>
              </a:xfrm>
              <a:custGeom>
                <a:avLst/>
                <a:gdLst/>
                <a:ahLst/>
                <a:rect l="l" t="t" r="r" b="b"/>
                <a:pathLst>
                  <a:path w="3042" h="787">
                    <a:moveTo>
                      <a:pt x="3042" y="385"/>
                    </a:moveTo>
                    <a:lnTo>
                      <a:pt x="3040" y="406"/>
                    </a:lnTo>
                    <a:lnTo>
                      <a:pt x="3034" y="426"/>
                    </a:lnTo>
                    <a:lnTo>
                      <a:pt x="3025" y="446"/>
                    </a:lnTo>
                    <a:lnTo>
                      <a:pt x="3011" y="465"/>
                    </a:lnTo>
                    <a:lnTo>
                      <a:pt x="2995" y="486"/>
                    </a:lnTo>
                    <a:lnTo>
                      <a:pt x="2974" y="505"/>
                    </a:lnTo>
                    <a:lnTo>
                      <a:pt x="2951" y="523"/>
                    </a:lnTo>
                    <a:lnTo>
                      <a:pt x="2923" y="541"/>
                    </a:lnTo>
                    <a:lnTo>
                      <a:pt x="2892" y="559"/>
                    </a:lnTo>
                    <a:lnTo>
                      <a:pt x="2859" y="576"/>
                    </a:lnTo>
                    <a:lnTo>
                      <a:pt x="2822" y="594"/>
                    </a:lnTo>
                    <a:lnTo>
                      <a:pt x="2783" y="610"/>
                    </a:lnTo>
                    <a:lnTo>
                      <a:pt x="2740" y="626"/>
                    </a:lnTo>
                    <a:lnTo>
                      <a:pt x="2695" y="641"/>
                    </a:lnTo>
                    <a:lnTo>
                      <a:pt x="2648" y="655"/>
                    </a:lnTo>
                    <a:lnTo>
                      <a:pt x="2597" y="669"/>
                    </a:lnTo>
                    <a:lnTo>
                      <a:pt x="2545" y="682"/>
                    </a:lnTo>
                    <a:lnTo>
                      <a:pt x="2489" y="696"/>
                    </a:lnTo>
                    <a:lnTo>
                      <a:pt x="2431" y="707"/>
                    </a:lnTo>
                    <a:lnTo>
                      <a:pt x="2372" y="719"/>
                    </a:lnTo>
                    <a:lnTo>
                      <a:pt x="2310" y="729"/>
                    </a:lnTo>
                    <a:lnTo>
                      <a:pt x="2247" y="739"/>
                    </a:lnTo>
                    <a:lnTo>
                      <a:pt x="2181" y="747"/>
                    </a:lnTo>
                    <a:lnTo>
                      <a:pt x="2113" y="755"/>
                    </a:lnTo>
                    <a:lnTo>
                      <a:pt x="2045" y="762"/>
                    </a:lnTo>
                    <a:lnTo>
                      <a:pt x="1974" y="769"/>
                    </a:lnTo>
                    <a:lnTo>
                      <a:pt x="1901" y="774"/>
                    </a:lnTo>
                    <a:lnTo>
                      <a:pt x="1828" y="778"/>
                    </a:lnTo>
                    <a:lnTo>
                      <a:pt x="1753" y="782"/>
                    </a:lnTo>
                    <a:lnTo>
                      <a:pt x="1677" y="785"/>
                    </a:lnTo>
                    <a:lnTo>
                      <a:pt x="1600" y="786"/>
                    </a:lnTo>
                    <a:lnTo>
                      <a:pt x="1521" y="787"/>
                    </a:lnTo>
                    <a:lnTo>
                      <a:pt x="1444" y="786"/>
                    </a:lnTo>
                    <a:lnTo>
                      <a:pt x="1366" y="785"/>
                    </a:lnTo>
                    <a:lnTo>
                      <a:pt x="1290" y="782"/>
                    </a:lnTo>
                    <a:lnTo>
                      <a:pt x="1215" y="778"/>
                    </a:lnTo>
                    <a:lnTo>
                      <a:pt x="1142" y="774"/>
                    </a:lnTo>
                    <a:lnTo>
                      <a:pt x="1069" y="769"/>
                    </a:lnTo>
                    <a:lnTo>
                      <a:pt x="998" y="762"/>
                    </a:lnTo>
                    <a:lnTo>
                      <a:pt x="930" y="755"/>
                    </a:lnTo>
                    <a:lnTo>
                      <a:pt x="862" y="747"/>
                    </a:lnTo>
                    <a:lnTo>
                      <a:pt x="796" y="739"/>
                    </a:lnTo>
                    <a:lnTo>
                      <a:pt x="733" y="729"/>
                    </a:lnTo>
                    <a:lnTo>
                      <a:pt x="671" y="719"/>
                    </a:lnTo>
                    <a:lnTo>
                      <a:pt x="612" y="707"/>
                    </a:lnTo>
                    <a:lnTo>
                      <a:pt x="554" y="696"/>
                    </a:lnTo>
                    <a:lnTo>
                      <a:pt x="499" y="682"/>
                    </a:lnTo>
                    <a:lnTo>
                      <a:pt x="446" y="669"/>
                    </a:lnTo>
                    <a:lnTo>
                      <a:pt x="395" y="655"/>
                    </a:lnTo>
                    <a:lnTo>
                      <a:pt x="348" y="641"/>
                    </a:lnTo>
                    <a:lnTo>
                      <a:pt x="302" y="626"/>
                    </a:lnTo>
                    <a:lnTo>
                      <a:pt x="260" y="610"/>
                    </a:lnTo>
                    <a:lnTo>
                      <a:pt x="221" y="594"/>
                    </a:lnTo>
                    <a:lnTo>
                      <a:pt x="184" y="576"/>
                    </a:lnTo>
                    <a:lnTo>
                      <a:pt x="151" y="559"/>
                    </a:lnTo>
                    <a:lnTo>
                      <a:pt x="121" y="541"/>
                    </a:lnTo>
                    <a:lnTo>
                      <a:pt x="93" y="523"/>
                    </a:lnTo>
                    <a:lnTo>
                      <a:pt x="69" y="505"/>
                    </a:lnTo>
                    <a:lnTo>
                      <a:pt x="49" y="486"/>
                    </a:lnTo>
                    <a:lnTo>
                      <a:pt x="32" y="465"/>
                    </a:lnTo>
                    <a:lnTo>
                      <a:pt x="19" y="446"/>
                    </a:lnTo>
                    <a:lnTo>
                      <a:pt x="9" y="426"/>
                    </a:lnTo>
                    <a:lnTo>
                      <a:pt x="3" y="406"/>
                    </a:lnTo>
                    <a:lnTo>
                      <a:pt x="0" y="385"/>
                    </a:lnTo>
                    <a:lnTo>
                      <a:pt x="3" y="364"/>
                    </a:lnTo>
                    <a:lnTo>
                      <a:pt x="9" y="343"/>
                    </a:lnTo>
                    <a:lnTo>
                      <a:pt x="19" y="324"/>
                    </a:lnTo>
                    <a:lnTo>
                      <a:pt x="32" y="304"/>
                    </a:lnTo>
                    <a:lnTo>
                      <a:pt x="49" y="286"/>
                    </a:lnTo>
                    <a:lnTo>
                      <a:pt x="69" y="267"/>
                    </a:lnTo>
                    <a:lnTo>
                      <a:pt x="93" y="248"/>
                    </a:lnTo>
                    <a:lnTo>
                      <a:pt x="121" y="231"/>
                    </a:lnTo>
                    <a:lnTo>
                      <a:pt x="151" y="214"/>
                    </a:lnTo>
                    <a:lnTo>
                      <a:pt x="184" y="197"/>
                    </a:lnTo>
                    <a:lnTo>
                      <a:pt x="221" y="181"/>
                    </a:lnTo>
                    <a:lnTo>
                      <a:pt x="260" y="166"/>
                    </a:lnTo>
                    <a:lnTo>
                      <a:pt x="302" y="150"/>
                    </a:lnTo>
                    <a:lnTo>
                      <a:pt x="348" y="136"/>
                    </a:lnTo>
                    <a:lnTo>
                      <a:pt x="395" y="122"/>
                    </a:lnTo>
                    <a:lnTo>
                      <a:pt x="446" y="109"/>
                    </a:lnTo>
                    <a:lnTo>
                      <a:pt x="499" y="97"/>
                    </a:lnTo>
                    <a:lnTo>
                      <a:pt x="554" y="85"/>
                    </a:lnTo>
                    <a:lnTo>
                      <a:pt x="612" y="74"/>
                    </a:lnTo>
                    <a:lnTo>
                      <a:pt x="671" y="63"/>
                    </a:lnTo>
                    <a:lnTo>
                      <a:pt x="733" y="54"/>
                    </a:lnTo>
                    <a:lnTo>
                      <a:pt x="796" y="44"/>
                    </a:lnTo>
                    <a:lnTo>
                      <a:pt x="862" y="36"/>
                    </a:lnTo>
                    <a:lnTo>
                      <a:pt x="930" y="28"/>
                    </a:lnTo>
                    <a:lnTo>
                      <a:pt x="998" y="22"/>
                    </a:lnTo>
                    <a:lnTo>
                      <a:pt x="1069" y="16"/>
                    </a:lnTo>
                    <a:lnTo>
                      <a:pt x="1142" y="11"/>
                    </a:lnTo>
                    <a:lnTo>
                      <a:pt x="1215" y="7"/>
                    </a:lnTo>
                    <a:lnTo>
                      <a:pt x="1290" y="4"/>
                    </a:lnTo>
                    <a:lnTo>
                      <a:pt x="1366" y="2"/>
                    </a:lnTo>
                    <a:lnTo>
                      <a:pt x="1444" y="0"/>
                    </a:lnTo>
                    <a:lnTo>
                      <a:pt x="1521" y="0"/>
                    </a:lnTo>
                    <a:lnTo>
                      <a:pt x="1600" y="0"/>
                    </a:lnTo>
                    <a:lnTo>
                      <a:pt x="1677" y="2"/>
                    </a:lnTo>
                    <a:lnTo>
                      <a:pt x="1753" y="4"/>
                    </a:lnTo>
                    <a:lnTo>
                      <a:pt x="1828" y="7"/>
                    </a:lnTo>
                    <a:lnTo>
                      <a:pt x="1901" y="11"/>
                    </a:lnTo>
                    <a:lnTo>
                      <a:pt x="1974" y="16"/>
                    </a:lnTo>
                    <a:lnTo>
                      <a:pt x="2045" y="22"/>
                    </a:lnTo>
                    <a:lnTo>
                      <a:pt x="2113" y="28"/>
                    </a:lnTo>
                    <a:lnTo>
                      <a:pt x="2181" y="36"/>
                    </a:lnTo>
                    <a:lnTo>
                      <a:pt x="2247" y="44"/>
                    </a:lnTo>
                    <a:lnTo>
                      <a:pt x="2310" y="54"/>
                    </a:lnTo>
                    <a:lnTo>
                      <a:pt x="2372" y="63"/>
                    </a:lnTo>
                    <a:lnTo>
                      <a:pt x="2431" y="74"/>
                    </a:lnTo>
                    <a:lnTo>
                      <a:pt x="2489" y="85"/>
                    </a:lnTo>
                    <a:lnTo>
                      <a:pt x="2545" y="97"/>
                    </a:lnTo>
                    <a:lnTo>
                      <a:pt x="2597" y="109"/>
                    </a:lnTo>
                    <a:lnTo>
                      <a:pt x="2648" y="122"/>
                    </a:lnTo>
                    <a:lnTo>
                      <a:pt x="2695" y="136"/>
                    </a:lnTo>
                    <a:lnTo>
                      <a:pt x="2740" y="150"/>
                    </a:lnTo>
                    <a:lnTo>
                      <a:pt x="2783" y="166"/>
                    </a:lnTo>
                    <a:lnTo>
                      <a:pt x="2822" y="181"/>
                    </a:lnTo>
                    <a:lnTo>
                      <a:pt x="2859" y="197"/>
                    </a:lnTo>
                    <a:lnTo>
                      <a:pt x="2892" y="214"/>
                    </a:lnTo>
                    <a:lnTo>
                      <a:pt x="2923" y="231"/>
                    </a:lnTo>
                    <a:lnTo>
                      <a:pt x="2951" y="248"/>
                    </a:lnTo>
                    <a:lnTo>
                      <a:pt x="2974" y="267"/>
                    </a:lnTo>
                    <a:lnTo>
                      <a:pt x="2995" y="286"/>
                    </a:lnTo>
                    <a:lnTo>
                      <a:pt x="3011" y="304"/>
                    </a:lnTo>
                    <a:lnTo>
                      <a:pt x="3025" y="324"/>
                    </a:lnTo>
                    <a:lnTo>
                      <a:pt x="3034" y="343"/>
                    </a:lnTo>
                    <a:lnTo>
                      <a:pt x="3040" y="364"/>
                    </a:lnTo>
                    <a:lnTo>
                      <a:pt x="3042" y="3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123280" y="6530760"/>
                <a:ext cx="335160" cy="94680"/>
              </a:xfrm>
              <a:custGeom>
                <a:avLst/>
                <a:gdLst/>
                <a:ahLst/>
                <a:rect l="l" t="t" r="r" b="b"/>
                <a:pathLst>
                  <a:path w="3037" h="785">
                    <a:moveTo>
                      <a:pt x="3037" y="384"/>
                    </a:moveTo>
                    <a:lnTo>
                      <a:pt x="3036" y="404"/>
                    </a:lnTo>
                    <a:lnTo>
                      <a:pt x="3030" y="425"/>
                    </a:lnTo>
                    <a:lnTo>
                      <a:pt x="3020" y="445"/>
                    </a:lnTo>
                    <a:lnTo>
                      <a:pt x="3007" y="464"/>
                    </a:lnTo>
                    <a:lnTo>
                      <a:pt x="2990" y="484"/>
                    </a:lnTo>
                    <a:lnTo>
                      <a:pt x="2970" y="503"/>
                    </a:lnTo>
                    <a:lnTo>
                      <a:pt x="2946" y="522"/>
                    </a:lnTo>
                    <a:lnTo>
                      <a:pt x="2918" y="540"/>
                    </a:lnTo>
                    <a:lnTo>
                      <a:pt x="2888" y="557"/>
                    </a:lnTo>
                    <a:lnTo>
                      <a:pt x="2855" y="575"/>
                    </a:lnTo>
                    <a:lnTo>
                      <a:pt x="2818" y="592"/>
                    </a:lnTo>
                    <a:lnTo>
                      <a:pt x="2779" y="608"/>
                    </a:lnTo>
                    <a:lnTo>
                      <a:pt x="2736" y="624"/>
                    </a:lnTo>
                    <a:lnTo>
                      <a:pt x="2691" y="639"/>
                    </a:lnTo>
                    <a:lnTo>
                      <a:pt x="2644" y="653"/>
                    </a:lnTo>
                    <a:lnTo>
                      <a:pt x="2593" y="667"/>
                    </a:lnTo>
                    <a:lnTo>
                      <a:pt x="2541" y="680"/>
                    </a:lnTo>
                    <a:lnTo>
                      <a:pt x="2485" y="694"/>
                    </a:lnTo>
                    <a:lnTo>
                      <a:pt x="2427" y="706"/>
                    </a:lnTo>
                    <a:lnTo>
                      <a:pt x="2368" y="717"/>
                    </a:lnTo>
                    <a:lnTo>
                      <a:pt x="2306" y="727"/>
                    </a:lnTo>
                    <a:lnTo>
                      <a:pt x="2243" y="737"/>
                    </a:lnTo>
                    <a:lnTo>
                      <a:pt x="2177" y="745"/>
                    </a:lnTo>
                    <a:lnTo>
                      <a:pt x="2110" y="753"/>
                    </a:lnTo>
                    <a:lnTo>
                      <a:pt x="2041" y="761"/>
                    </a:lnTo>
                    <a:lnTo>
                      <a:pt x="1970" y="767"/>
                    </a:lnTo>
                    <a:lnTo>
                      <a:pt x="1898" y="772"/>
                    </a:lnTo>
                    <a:lnTo>
                      <a:pt x="1824" y="777"/>
                    </a:lnTo>
                    <a:lnTo>
                      <a:pt x="1750" y="780"/>
                    </a:lnTo>
                    <a:lnTo>
                      <a:pt x="1674" y="783"/>
                    </a:lnTo>
                    <a:lnTo>
                      <a:pt x="1596" y="784"/>
                    </a:lnTo>
                    <a:lnTo>
                      <a:pt x="1518" y="785"/>
                    </a:lnTo>
                    <a:lnTo>
                      <a:pt x="1441" y="784"/>
                    </a:lnTo>
                    <a:lnTo>
                      <a:pt x="1363" y="783"/>
                    </a:lnTo>
                    <a:lnTo>
                      <a:pt x="1287" y="780"/>
                    </a:lnTo>
                    <a:lnTo>
                      <a:pt x="1212" y="777"/>
                    </a:lnTo>
                    <a:lnTo>
                      <a:pt x="1139" y="772"/>
                    </a:lnTo>
                    <a:lnTo>
                      <a:pt x="1067" y="767"/>
                    </a:lnTo>
                    <a:lnTo>
                      <a:pt x="996" y="761"/>
                    </a:lnTo>
                    <a:lnTo>
                      <a:pt x="927" y="753"/>
                    </a:lnTo>
                    <a:lnTo>
                      <a:pt x="860" y="745"/>
                    </a:lnTo>
                    <a:lnTo>
                      <a:pt x="794" y="737"/>
                    </a:lnTo>
                    <a:lnTo>
                      <a:pt x="731" y="727"/>
                    </a:lnTo>
                    <a:lnTo>
                      <a:pt x="669" y="717"/>
                    </a:lnTo>
                    <a:lnTo>
                      <a:pt x="610" y="706"/>
                    </a:lnTo>
                    <a:lnTo>
                      <a:pt x="552" y="694"/>
                    </a:lnTo>
                    <a:lnTo>
                      <a:pt x="497" y="680"/>
                    </a:lnTo>
                    <a:lnTo>
                      <a:pt x="444" y="667"/>
                    </a:lnTo>
                    <a:lnTo>
                      <a:pt x="393" y="653"/>
                    </a:lnTo>
                    <a:lnTo>
                      <a:pt x="346" y="639"/>
                    </a:lnTo>
                    <a:lnTo>
                      <a:pt x="301" y="624"/>
                    </a:lnTo>
                    <a:lnTo>
                      <a:pt x="259" y="608"/>
                    </a:lnTo>
                    <a:lnTo>
                      <a:pt x="219" y="592"/>
                    </a:lnTo>
                    <a:lnTo>
                      <a:pt x="182" y="575"/>
                    </a:lnTo>
                    <a:lnTo>
                      <a:pt x="149" y="557"/>
                    </a:lnTo>
                    <a:lnTo>
                      <a:pt x="119" y="540"/>
                    </a:lnTo>
                    <a:lnTo>
                      <a:pt x="91" y="522"/>
                    </a:lnTo>
                    <a:lnTo>
                      <a:pt x="67" y="503"/>
                    </a:lnTo>
                    <a:lnTo>
                      <a:pt x="47" y="484"/>
                    </a:lnTo>
                    <a:lnTo>
                      <a:pt x="30" y="464"/>
                    </a:lnTo>
                    <a:lnTo>
                      <a:pt x="17" y="445"/>
                    </a:lnTo>
                    <a:lnTo>
                      <a:pt x="7" y="425"/>
                    </a:lnTo>
                    <a:lnTo>
                      <a:pt x="2" y="404"/>
                    </a:lnTo>
                    <a:lnTo>
                      <a:pt x="0" y="384"/>
                    </a:lnTo>
                    <a:lnTo>
                      <a:pt x="2" y="363"/>
                    </a:lnTo>
                    <a:lnTo>
                      <a:pt x="7" y="343"/>
                    </a:lnTo>
                    <a:lnTo>
                      <a:pt x="17" y="323"/>
                    </a:lnTo>
                    <a:lnTo>
                      <a:pt x="30" y="304"/>
                    </a:lnTo>
                    <a:lnTo>
                      <a:pt x="47" y="285"/>
                    </a:lnTo>
                    <a:lnTo>
                      <a:pt x="67" y="266"/>
                    </a:lnTo>
                    <a:lnTo>
                      <a:pt x="91" y="247"/>
                    </a:lnTo>
                    <a:lnTo>
                      <a:pt x="119" y="230"/>
                    </a:lnTo>
                    <a:lnTo>
                      <a:pt x="149" y="213"/>
                    </a:lnTo>
                    <a:lnTo>
                      <a:pt x="182" y="197"/>
                    </a:lnTo>
                    <a:lnTo>
                      <a:pt x="219" y="181"/>
                    </a:lnTo>
                    <a:lnTo>
                      <a:pt x="259" y="165"/>
                    </a:lnTo>
                    <a:lnTo>
                      <a:pt x="301" y="149"/>
                    </a:lnTo>
                    <a:lnTo>
                      <a:pt x="346" y="135"/>
                    </a:lnTo>
                    <a:lnTo>
                      <a:pt x="393" y="122"/>
                    </a:lnTo>
                    <a:lnTo>
                      <a:pt x="444" y="109"/>
                    </a:lnTo>
                    <a:lnTo>
                      <a:pt x="497" y="96"/>
                    </a:lnTo>
                    <a:lnTo>
                      <a:pt x="552" y="85"/>
                    </a:lnTo>
                    <a:lnTo>
                      <a:pt x="610" y="74"/>
                    </a:lnTo>
                    <a:lnTo>
                      <a:pt x="669" y="63"/>
                    </a:lnTo>
                    <a:lnTo>
                      <a:pt x="731" y="54"/>
                    </a:lnTo>
                    <a:lnTo>
                      <a:pt x="794" y="44"/>
                    </a:lnTo>
                    <a:lnTo>
                      <a:pt x="860" y="36"/>
                    </a:lnTo>
                    <a:lnTo>
                      <a:pt x="927" y="28"/>
                    </a:lnTo>
                    <a:lnTo>
                      <a:pt x="996" y="22"/>
                    </a:lnTo>
                    <a:lnTo>
                      <a:pt x="1067" y="16"/>
                    </a:lnTo>
                    <a:lnTo>
                      <a:pt x="1139" y="11"/>
                    </a:lnTo>
                    <a:lnTo>
                      <a:pt x="1212" y="7"/>
                    </a:lnTo>
                    <a:lnTo>
                      <a:pt x="1287" y="4"/>
                    </a:lnTo>
                    <a:lnTo>
                      <a:pt x="1363" y="2"/>
                    </a:lnTo>
                    <a:lnTo>
                      <a:pt x="1441" y="0"/>
                    </a:lnTo>
                    <a:lnTo>
                      <a:pt x="1518" y="0"/>
                    </a:lnTo>
                    <a:lnTo>
                      <a:pt x="1596" y="0"/>
                    </a:lnTo>
                    <a:lnTo>
                      <a:pt x="1674" y="2"/>
                    </a:lnTo>
                    <a:lnTo>
                      <a:pt x="1750" y="4"/>
                    </a:lnTo>
                    <a:lnTo>
                      <a:pt x="1824" y="7"/>
                    </a:lnTo>
                    <a:lnTo>
                      <a:pt x="1898" y="11"/>
                    </a:lnTo>
                    <a:lnTo>
                      <a:pt x="1970" y="16"/>
                    </a:lnTo>
                    <a:lnTo>
                      <a:pt x="2041" y="22"/>
                    </a:lnTo>
                    <a:lnTo>
                      <a:pt x="2110" y="28"/>
                    </a:lnTo>
                    <a:lnTo>
                      <a:pt x="2177" y="36"/>
                    </a:lnTo>
                    <a:lnTo>
                      <a:pt x="2243" y="44"/>
                    </a:lnTo>
                    <a:lnTo>
                      <a:pt x="2306" y="54"/>
                    </a:lnTo>
                    <a:lnTo>
                      <a:pt x="2368" y="63"/>
                    </a:lnTo>
                    <a:lnTo>
                      <a:pt x="2427" y="74"/>
                    </a:lnTo>
                    <a:lnTo>
                      <a:pt x="2485" y="85"/>
                    </a:lnTo>
                    <a:lnTo>
                      <a:pt x="2541" y="96"/>
                    </a:lnTo>
                    <a:lnTo>
                      <a:pt x="2593" y="109"/>
                    </a:lnTo>
                    <a:lnTo>
                      <a:pt x="2644" y="122"/>
                    </a:lnTo>
                    <a:lnTo>
                      <a:pt x="2691" y="135"/>
                    </a:lnTo>
                    <a:lnTo>
                      <a:pt x="2736" y="149"/>
                    </a:lnTo>
                    <a:lnTo>
                      <a:pt x="2779" y="165"/>
                    </a:lnTo>
                    <a:lnTo>
                      <a:pt x="2818" y="181"/>
                    </a:lnTo>
                    <a:lnTo>
                      <a:pt x="2855" y="197"/>
                    </a:lnTo>
                    <a:lnTo>
                      <a:pt x="2888" y="213"/>
                    </a:lnTo>
                    <a:lnTo>
                      <a:pt x="2918" y="230"/>
                    </a:lnTo>
                    <a:lnTo>
                      <a:pt x="2946" y="247"/>
                    </a:lnTo>
                    <a:lnTo>
                      <a:pt x="2970" y="266"/>
                    </a:lnTo>
                    <a:lnTo>
                      <a:pt x="2990" y="285"/>
                    </a:lnTo>
                    <a:lnTo>
                      <a:pt x="3007" y="304"/>
                    </a:lnTo>
                    <a:lnTo>
                      <a:pt x="3020" y="323"/>
                    </a:lnTo>
                    <a:lnTo>
                      <a:pt x="3030" y="343"/>
                    </a:lnTo>
                    <a:lnTo>
                      <a:pt x="3036" y="363"/>
                    </a:lnTo>
                    <a:lnTo>
                      <a:pt x="3037" y="3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123280" y="6530760"/>
                <a:ext cx="335160" cy="93240"/>
              </a:xfrm>
              <a:custGeom>
                <a:avLst/>
                <a:gdLst/>
                <a:ahLst/>
                <a:rect l="l" t="t" r="r" b="b"/>
                <a:pathLst>
                  <a:path w="3035" h="783">
                    <a:moveTo>
                      <a:pt x="3035" y="383"/>
                    </a:moveTo>
                    <a:lnTo>
                      <a:pt x="3033" y="403"/>
                    </a:lnTo>
                    <a:lnTo>
                      <a:pt x="3027" y="424"/>
                    </a:lnTo>
                    <a:lnTo>
                      <a:pt x="3018" y="443"/>
                    </a:lnTo>
                    <a:lnTo>
                      <a:pt x="3005" y="463"/>
                    </a:lnTo>
                    <a:lnTo>
                      <a:pt x="2988" y="483"/>
                    </a:lnTo>
                    <a:lnTo>
                      <a:pt x="2967" y="502"/>
                    </a:lnTo>
                    <a:lnTo>
                      <a:pt x="2943" y="520"/>
                    </a:lnTo>
                    <a:lnTo>
                      <a:pt x="2916" y="538"/>
                    </a:lnTo>
                    <a:lnTo>
                      <a:pt x="2886" y="556"/>
                    </a:lnTo>
                    <a:lnTo>
                      <a:pt x="2853" y="573"/>
                    </a:lnTo>
                    <a:lnTo>
                      <a:pt x="2815" y="591"/>
                    </a:lnTo>
                    <a:lnTo>
                      <a:pt x="2776" y="607"/>
                    </a:lnTo>
                    <a:lnTo>
                      <a:pt x="2733" y="622"/>
                    </a:lnTo>
                    <a:lnTo>
                      <a:pt x="2689" y="637"/>
                    </a:lnTo>
                    <a:lnTo>
                      <a:pt x="2642" y="652"/>
                    </a:lnTo>
                    <a:lnTo>
                      <a:pt x="2591" y="666"/>
                    </a:lnTo>
                    <a:lnTo>
                      <a:pt x="2539" y="679"/>
                    </a:lnTo>
                    <a:lnTo>
                      <a:pt x="2483" y="692"/>
                    </a:lnTo>
                    <a:lnTo>
                      <a:pt x="2425" y="704"/>
                    </a:lnTo>
                    <a:lnTo>
                      <a:pt x="2366" y="715"/>
                    </a:lnTo>
                    <a:lnTo>
                      <a:pt x="2304" y="725"/>
                    </a:lnTo>
                    <a:lnTo>
                      <a:pt x="2241" y="735"/>
                    </a:lnTo>
                    <a:lnTo>
                      <a:pt x="2176" y="744"/>
                    </a:lnTo>
                    <a:lnTo>
                      <a:pt x="2108" y="752"/>
                    </a:lnTo>
                    <a:lnTo>
                      <a:pt x="2040" y="759"/>
                    </a:lnTo>
                    <a:lnTo>
                      <a:pt x="1969" y="765"/>
                    </a:lnTo>
                    <a:lnTo>
                      <a:pt x="1897" y="770"/>
                    </a:lnTo>
                    <a:lnTo>
                      <a:pt x="1823" y="775"/>
                    </a:lnTo>
                    <a:lnTo>
                      <a:pt x="1749" y="778"/>
                    </a:lnTo>
                    <a:lnTo>
                      <a:pt x="1673" y="781"/>
                    </a:lnTo>
                    <a:lnTo>
                      <a:pt x="1595" y="782"/>
                    </a:lnTo>
                    <a:lnTo>
                      <a:pt x="1517" y="783"/>
                    </a:lnTo>
                    <a:lnTo>
                      <a:pt x="1440" y="782"/>
                    </a:lnTo>
                    <a:lnTo>
                      <a:pt x="1362" y="781"/>
                    </a:lnTo>
                    <a:lnTo>
                      <a:pt x="1286" y="778"/>
                    </a:lnTo>
                    <a:lnTo>
                      <a:pt x="1211" y="775"/>
                    </a:lnTo>
                    <a:lnTo>
                      <a:pt x="1138" y="770"/>
                    </a:lnTo>
                    <a:lnTo>
                      <a:pt x="1066" y="765"/>
                    </a:lnTo>
                    <a:lnTo>
                      <a:pt x="995" y="759"/>
                    </a:lnTo>
                    <a:lnTo>
                      <a:pt x="927" y="752"/>
                    </a:lnTo>
                    <a:lnTo>
                      <a:pt x="859" y="744"/>
                    </a:lnTo>
                    <a:lnTo>
                      <a:pt x="794" y="735"/>
                    </a:lnTo>
                    <a:lnTo>
                      <a:pt x="731" y="725"/>
                    </a:lnTo>
                    <a:lnTo>
                      <a:pt x="669" y="715"/>
                    </a:lnTo>
                    <a:lnTo>
                      <a:pt x="610" y="704"/>
                    </a:lnTo>
                    <a:lnTo>
                      <a:pt x="552" y="692"/>
                    </a:lnTo>
                    <a:lnTo>
                      <a:pt x="496" y="679"/>
                    </a:lnTo>
                    <a:lnTo>
                      <a:pt x="444" y="666"/>
                    </a:lnTo>
                    <a:lnTo>
                      <a:pt x="394" y="652"/>
                    </a:lnTo>
                    <a:lnTo>
                      <a:pt x="346" y="637"/>
                    </a:lnTo>
                    <a:lnTo>
                      <a:pt x="301" y="622"/>
                    </a:lnTo>
                    <a:lnTo>
                      <a:pt x="259" y="607"/>
                    </a:lnTo>
                    <a:lnTo>
                      <a:pt x="220" y="591"/>
                    </a:lnTo>
                    <a:lnTo>
                      <a:pt x="182" y="573"/>
                    </a:lnTo>
                    <a:lnTo>
                      <a:pt x="149" y="556"/>
                    </a:lnTo>
                    <a:lnTo>
                      <a:pt x="119" y="538"/>
                    </a:lnTo>
                    <a:lnTo>
                      <a:pt x="91" y="520"/>
                    </a:lnTo>
                    <a:lnTo>
                      <a:pt x="68" y="502"/>
                    </a:lnTo>
                    <a:lnTo>
                      <a:pt x="47" y="483"/>
                    </a:lnTo>
                    <a:lnTo>
                      <a:pt x="31" y="463"/>
                    </a:lnTo>
                    <a:lnTo>
                      <a:pt x="17" y="443"/>
                    </a:lnTo>
                    <a:lnTo>
                      <a:pt x="8" y="424"/>
                    </a:lnTo>
                    <a:lnTo>
                      <a:pt x="2" y="403"/>
                    </a:lnTo>
                    <a:lnTo>
                      <a:pt x="0" y="383"/>
                    </a:lnTo>
                    <a:lnTo>
                      <a:pt x="2" y="362"/>
                    </a:lnTo>
                    <a:lnTo>
                      <a:pt x="8" y="342"/>
                    </a:lnTo>
                    <a:lnTo>
                      <a:pt x="17" y="322"/>
                    </a:lnTo>
                    <a:lnTo>
                      <a:pt x="31" y="303"/>
                    </a:lnTo>
                    <a:lnTo>
                      <a:pt x="47" y="284"/>
                    </a:lnTo>
                    <a:lnTo>
                      <a:pt x="68" y="266"/>
                    </a:lnTo>
                    <a:lnTo>
                      <a:pt x="91" y="247"/>
                    </a:lnTo>
                    <a:lnTo>
                      <a:pt x="119" y="229"/>
                    </a:lnTo>
                    <a:lnTo>
                      <a:pt x="149" y="212"/>
                    </a:lnTo>
                    <a:lnTo>
                      <a:pt x="182" y="196"/>
                    </a:lnTo>
                    <a:lnTo>
                      <a:pt x="220" y="180"/>
                    </a:lnTo>
                    <a:lnTo>
                      <a:pt x="259" y="165"/>
                    </a:lnTo>
                    <a:lnTo>
                      <a:pt x="301" y="149"/>
                    </a:lnTo>
                    <a:lnTo>
                      <a:pt x="346" y="135"/>
                    </a:lnTo>
                    <a:lnTo>
                      <a:pt x="394" y="121"/>
                    </a:lnTo>
                    <a:lnTo>
                      <a:pt x="444" y="108"/>
                    </a:lnTo>
                    <a:lnTo>
                      <a:pt x="496" y="96"/>
                    </a:lnTo>
                    <a:lnTo>
                      <a:pt x="552" y="84"/>
                    </a:lnTo>
                    <a:lnTo>
                      <a:pt x="610" y="73"/>
                    </a:lnTo>
                    <a:lnTo>
                      <a:pt x="669" y="63"/>
                    </a:lnTo>
                    <a:lnTo>
                      <a:pt x="731" y="53"/>
                    </a:lnTo>
                    <a:lnTo>
                      <a:pt x="794" y="44"/>
                    </a:lnTo>
                    <a:lnTo>
                      <a:pt x="859" y="36"/>
                    </a:lnTo>
                    <a:lnTo>
                      <a:pt x="927" y="28"/>
                    </a:lnTo>
                    <a:lnTo>
                      <a:pt x="995" y="22"/>
                    </a:lnTo>
                    <a:lnTo>
                      <a:pt x="1066" y="16"/>
                    </a:lnTo>
                    <a:lnTo>
                      <a:pt x="1138" y="11"/>
                    </a:lnTo>
                    <a:lnTo>
                      <a:pt x="1211" y="7"/>
                    </a:lnTo>
                    <a:lnTo>
                      <a:pt x="1286" y="4"/>
                    </a:lnTo>
                    <a:lnTo>
                      <a:pt x="1362" y="2"/>
                    </a:lnTo>
                    <a:lnTo>
                      <a:pt x="1440" y="0"/>
                    </a:lnTo>
                    <a:lnTo>
                      <a:pt x="1517" y="0"/>
                    </a:lnTo>
                    <a:lnTo>
                      <a:pt x="1595" y="0"/>
                    </a:lnTo>
                    <a:lnTo>
                      <a:pt x="1673" y="2"/>
                    </a:lnTo>
                    <a:lnTo>
                      <a:pt x="1749" y="4"/>
                    </a:lnTo>
                    <a:lnTo>
                      <a:pt x="1823" y="7"/>
                    </a:lnTo>
                    <a:lnTo>
                      <a:pt x="1897" y="11"/>
                    </a:lnTo>
                    <a:lnTo>
                      <a:pt x="1969" y="16"/>
                    </a:lnTo>
                    <a:lnTo>
                      <a:pt x="2040" y="22"/>
                    </a:lnTo>
                    <a:lnTo>
                      <a:pt x="2108" y="28"/>
                    </a:lnTo>
                    <a:lnTo>
                      <a:pt x="2176" y="36"/>
                    </a:lnTo>
                    <a:lnTo>
                      <a:pt x="2241" y="44"/>
                    </a:lnTo>
                    <a:lnTo>
                      <a:pt x="2304" y="53"/>
                    </a:lnTo>
                    <a:lnTo>
                      <a:pt x="2366" y="63"/>
                    </a:lnTo>
                    <a:lnTo>
                      <a:pt x="2425" y="73"/>
                    </a:lnTo>
                    <a:lnTo>
                      <a:pt x="2483" y="84"/>
                    </a:lnTo>
                    <a:lnTo>
                      <a:pt x="2539" y="96"/>
                    </a:lnTo>
                    <a:lnTo>
                      <a:pt x="2591" y="108"/>
                    </a:lnTo>
                    <a:lnTo>
                      <a:pt x="2642" y="121"/>
                    </a:lnTo>
                    <a:lnTo>
                      <a:pt x="2689" y="135"/>
                    </a:lnTo>
                    <a:lnTo>
                      <a:pt x="2733" y="149"/>
                    </a:lnTo>
                    <a:lnTo>
                      <a:pt x="2776" y="165"/>
                    </a:lnTo>
                    <a:lnTo>
                      <a:pt x="2815" y="180"/>
                    </a:lnTo>
                    <a:lnTo>
                      <a:pt x="2853" y="196"/>
                    </a:lnTo>
                    <a:lnTo>
                      <a:pt x="2886" y="212"/>
                    </a:lnTo>
                    <a:lnTo>
                      <a:pt x="2916" y="229"/>
                    </a:lnTo>
                    <a:lnTo>
                      <a:pt x="2943" y="247"/>
                    </a:lnTo>
                    <a:lnTo>
                      <a:pt x="2967" y="266"/>
                    </a:lnTo>
                    <a:lnTo>
                      <a:pt x="2988" y="284"/>
                    </a:lnTo>
                    <a:lnTo>
                      <a:pt x="3005" y="303"/>
                    </a:lnTo>
                    <a:lnTo>
                      <a:pt x="3018" y="322"/>
                    </a:lnTo>
                    <a:lnTo>
                      <a:pt x="3027" y="342"/>
                    </a:lnTo>
                    <a:lnTo>
                      <a:pt x="3033" y="362"/>
                    </a:lnTo>
                    <a:lnTo>
                      <a:pt x="3035" y="3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123280" y="6530760"/>
                <a:ext cx="335160" cy="93240"/>
              </a:xfrm>
              <a:custGeom>
                <a:avLst/>
                <a:gdLst/>
                <a:ahLst/>
                <a:rect l="l" t="t" r="r" b="b"/>
                <a:pathLst>
                  <a:path w="3032" h="781">
                    <a:moveTo>
                      <a:pt x="3032" y="382"/>
                    </a:moveTo>
                    <a:lnTo>
                      <a:pt x="3030" y="402"/>
                    </a:lnTo>
                    <a:lnTo>
                      <a:pt x="3024" y="422"/>
                    </a:lnTo>
                    <a:lnTo>
                      <a:pt x="3014" y="442"/>
                    </a:lnTo>
                    <a:lnTo>
                      <a:pt x="3001" y="462"/>
                    </a:lnTo>
                    <a:lnTo>
                      <a:pt x="2984" y="482"/>
                    </a:lnTo>
                    <a:lnTo>
                      <a:pt x="2964" y="501"/>
                    </a:lnTo>
                    <a:lnTo>
                      <a:pt x="2940" y="519"/>
                    </a:lnTo>
                    <a:lnTo>
                      <a:pt x="2913" y="537"/>
                    </a:lnTo>
                    <a:lnTo>
                      <a:pt x="2883" y="555"/>
                    </a:lnTo>
                    <a:lnTo>
                      <a:pt x="2849" y="572"/>
                    </a:lnTo>
                    <a:lnTo>
                      <a:pt x="2812" y="589"/>
                    </a:lnTo>
                    <a:lnTo>
                      <a:pt x="2773" y="605"/>
                    </a:lnTo>
                    <a:lnTo>
                      <a:pt x="2730" y="621"/>
                    </a:lnTo>
                    <a:lnTo>
                      <a:pt x="2686" y="636"/>
                    </a:lnTo>
                    <a:lnTo>
                      <a:pt x="2639" y="650"/>
                    </a:lnTo>
                    <a:lnTo>
                      <a:pt x="2588" y="664"/>
                    </a:lnTo>
                    <a:lnTo>
                      <a:pt x="2535" y="677"/>
                    </a:lnTo>
                    <a:lnTo>
                      <a:pt x="2480" y="690"/>
                    </a:lnTo>
                    <a:lnTo>
                      <a:pt x="2422" y="702"/>
                    </a:lnTo>
                    <a:lnTo>
                      <a:pt x="2364" y="713"/>
                    </a:lnTo>
                    <a:lnTo>
                      <a:pt x="2302" y="724"/>
                    </a:lnTo>
                    <a:lnTo>
                      <a:pt x="2239" y="733"/>
                    </a:lnTo>
                    <a:lnTo>
                      <a:pt x="2173" y="742"/>
                    </a:lnTo>
                    <a:lnTo>
                      <a:pt x="2106" y="750"/>
                    </a:lnTo>
                    <a:lnTo>
                      <a:pt x="2037" y="757"/>
                    </a:lnTo>
                    <a:lnTo>
                      <a:pt x="1967" y="763"/>
                    </a:lnTo>
                    <a:lnTo>
                      <a:pt x="1894" y="768"/>
                    </a:lnTo>
                    <a:lnTo>
                      <a:pt x="1821" y="773"/>
                    </a:lnTo>
                    <a:lnTo>
                      <a:pt x="1747" y="776"/>
                    </a:lnTo>
                    <a:lnTo>
                      <a:pt x="1671" y="779"/>
                    </a:lnTo>
                    <a:lnTo>
                      <a:pt x="1593" y="780"/>
                    </a:lnTo>
                    <a:lnTo>
                      <a:pt x="1515" y="781"/>
                    </a:lnTo>
                    <a:lnTo>
                      <a:pt x="1438" y="780"/>
                    </a:lnTo>
                    <a:lnTo>
                      <a:pt x="1361" y="779"/>
                    </a:lnTo>
                    <a:lnTo>
                      <a:pt x="1284" y="776"/>
                    </a:lnTo>
                    <a:lnTo>
                      <a:pt x="1209" y="773"/>
                    </a:lnTo>
                    <a:lnTo>
                      <a:pt x="1137" y="768"/>
                    </a:lnTo>
                    <a:lnTo>
                      <a:pt x="1065" y="763"/>
                    </a:lnTo>
                    <a:lnTo>
                      <a:pt x="994" y="757"/>
                    </a:lnTo>
                    <a:lnTo>
                      <a:pt x="926" y="750"/>
                    </a:lnTo>
                    <a:lnTo>
                      <a:pt x="858" y="742"/>
                    </a:lnTo>
                    <a:lnTo>
                      <a:pt x="792" y="733"/>
                    </a:lnTo>
                    <a:lnTo>
                      <a:pt x="729" y="724"/>
                    </a:lnTo>
                    <a:lnTo>
                      <a:pt x="668" y="713"/>
                    </a:lnTo>
                    <a:lnTo>
                      <a:pt x="609" y="702"/>
                    </a:lnTo>
                    <a:lnTo>
                      <a:pt x="551" y="690"/>
                    </a:lnTo>
                    <a:lnTo>
                      <a:pt x="495" y="677"/>
                    </a:lnTo>
                    <a:lnTo>
                      <a:pt x="443" y="664"/>
                    </a:lnTo>
                    <a:lnTo>
                      <a:pt x="393" y="650"/>
                    </a:lnTo>
                    <a:lnTo>
                      <a:pt x="345" y="636"/>
                    </a:lnTo>
                    <a:lnTo>
                      <a:pt x="301" y="621"/>
                    </a:lnTo>
                    <a:lnTo>
                      <a:pt x="258" y="605"/>
                    </a:lnTo>
                    <a:lnTo>
                      <a:pt x="219" y="589"/>
                    </a:lnTo>
                    <a:lnTo>
                      <a:pt x="182" y="572"/>
                    </a:lnTo>
                    <a:lnTo>
                      <a:pt x="149" y="555"/>
                    </a:lnTo>
                    <a:lnTo>
                      <a:pt x="119" y="537"/>
                    </a:lnTo>
                    <a:lnTo>
                      <a:pt x="91" y="519"/>
                    </a:lnTo>
                    <a:lnTo>
                      <a:pt x="67" y="501"/>
                    </a:lnTo>
                    <a:lnTo>
                      <a:pt x="47" y="482"/>
                    </a:lnTo>
                    <a:lnTo>
                      <a:pt x="30" y="462"/>
                    </a:lnTo>
                    <a:lnTo>
                      <a:pt x="17" y="442"/>
                    </a:lnTo>
                    <a:lnTo>
                      <a:pt x="7" y="422"/>
                    </a:lnTo>
                    <a:lnTo>
                      <a:pt x="1" y="402"/>
                    </a:lnTo>
                    <a:lnTo>
                      <a:pt x="0" y="382"/>
                    </a:lnTo>
                    <a:lnTo>
                      <a:pt x="1" y="361"/>
                    </a:lnTo>
                    <a:lnTo>
                      <a:pt x="7" y="341"/>
                    </a:lnTo>
                    <a:lnTo>
                      <a:pt x="17" y="321"/>
                    </a:lnTo>
                    <a:lnTo>
                      <a:pt x="30" y="302"/>
                    </a:lnTo>
                    <a:lnTo>
                      <a:pt x="47" y="283"/>
                    </a:lnTo>
                    <a:lnTo>
                      <a:pt x="67" y="265"/>
                    </a:lnTo>
                    <a:lnTo>
                      <a:pt x="91" y="246"/>
                    </a:lnTo>
                    <a:lnTo>
                      <a:pt x="119" y="229"/>
                    </a:lnTo>
                    <a:lnTo>
                      <a:pt x="149" y="212"/>
                    </a:lnTo>
                    <a:lnTo>
                      <a:pt x="182" y="195"/>
                    </a:lnTo>
                    <a:lnTo>
                      <a:pt x="219" y="180"/>
                    </a:lnTo>
                    <a:lnTo>
                      <a:pt x="258" y="164"/>
                    </a:lnTo>
                    <a:lnTo>
                      <a:pt x="301" y="149"/>
                    </a:lnTo>
                    <a:lnTo>
                      <a:pt x="345" y="134"/>
                    </a:lnTo>
                    <a:lnTo>
                      <a:pt x="393" y="121"/>
                    </a:lnTo>
                    <a:lnTo>
                      <a:pt x="443" y="108"/>
                    </a:lnTo>
                    <a:lnTo>
                      <a:pt x="495" y="96"/>
                    </a:lnTo>
                    <a:lnTo>
                      <a:pt x="551" y="84"/>
                    </a:lnTo>
                    <a:lnTo>
                      <a:pt x="609" y="73"/>
                    </a:lnTo>
                    <a:lnTo>
                      <a:pt x="668" y="63"/>
                    </a:lnTo>
                    <a:lnTo>
                      <a:pt x="729" y="53"/>
                    </a:lnTo>
                    <a:lnTo>
                      <a:pt x="792" y="43"/>
                    </a:lnTo>
                    <a:lnTo>
                      <a:pt x="858" y="35"/>
                    </a:lnTo>
                    <a:lnTo>
                      <a:pt x="926" y="28"/>
                    </a:lnTo>
                    <a:lnTo>
                      <a:pt x="994" y="22"/>
                    </a:lnTo>
                    <a:lnTo>
                      <a:pt x="1065" y="16"/>
                    </a:lnTo>
                    <a:lnTo>
                      <a:pt x="1137" y="11"/>
                    </a:lnTo>
                    <a:lnTo>
                      <a:pt x="1209" y="7"/>
                    </a:lnTo>
                    <a:lnTo>
                      <a:pt x="1284" y="4"/>
                    </a:lnTo>
                    <a:lnTo>
                      <a:pt x="1361" y="2"/>
                    </a:lnTo>
                    <a:lnTo>
                      <a:pt x="1438" y="0"/>
                    </a:lnTo>
                    <a:lnTo>
                      <a:pt x="1515" y="0"/>
                    </a:lnTo>
                    <a:lnTo>
                      <a:pt x="1593" y="0"/>
                    </a:lnTo>
                    <a:lnTo>
                      <a:pt x="1671" y="2"/>
                    </a:lnTo>
                    <a:lnTo>
                      <a:pt x="1747" y="4"/>
                    </a:lnTo>
                    <a:lnTo>
                      <a:pt x="1821" y="7"/>
                    </a:lnTo>
                    <a:lnTo>
                      <a:pt x="1894" y="11"/>
                    </a:lnTo>
                    <a:lnTo>
                      <a:pt x="1967" y="16"/>
                    </a:lnTo>
                    <a:lnTo>
                      <a:pt x="2037" y="22"/>
                    </a:lnTo>
                    <a:lnTo>
                      <a:pt x="2106" y="28"/>
                    </a:lnTo>
                    <a:lnTo>
                      <a:pt x="2173" y="35"/>
                    </a:lnTo>
                    <a:lnTo>
                      <a:pt x="2239" y="43"/>
                    </a:lnTo>
                    <a:lnTo>
                      <a:pt x="2302" y="53"/>
                    </a:lnTo>
                    <a:lnTo>
                      <a:pt x="2364" y="63"/>
                    </a:lnTo>
                    <a:lnTo>
                      <a:pt x="2422" y="73"/>
                    </a:lnTo>
                    <a:lnTo>
                      <a:pt x="2480" y="84"/>
                    </a:lnTo>
                    <a:lnTo>
                      <a:pt x="2535" y="96"/>
                    </a:lnTo>
                    <a:lnTo>
                      <a:pt x="2588" y="108"/>
                    </a:lnTo>
                    <a:lnTo>
                      <a:pt x="2639" y="121"/>
                    </a:lnTo>
                    <a:lnTo>
                      <a:pt x="2686" y="134"/>
                    </a:lnTo>
                    <a:lnTo>
                      <a:pt x="2730" y="149"/>
                    </a:lnTo>
                    <a:lnTo>
                      <a:pt x="2773" y="164"/>
                    </a:lnTo>
                    <a:lnTo>
                      <a:pt x="2812" y="180"/>
                    </a:lnTo>
                    <a:lnTo>
                      <a:pt x="2849" y="195"/>
                    </a:lnTo>
                    <a:lnTo>
                      <a:pt x="2883" y="212"/>
                    </a:lnTo>
                    <a:lnTo>
                      <a:pt x="2913" y="229"/>
                    </a:lnTo>
                    <a:lnTo>
                      <a:pt x="2940" y="246"/>
                    </a:lnTo>
                    <a:lnTo>
                      <a:pt x="2964" y="265"/>
                    </a:lnTo>
                    <a:lnTo>
                      <a:pt x="2984" y="283"/>
                    </a:lnTo>
                    <a:lnTo>
                      <a:pt x="3001" y="302"/>
                    </a:lnTo>
                    <a:lnTo>
                      <a:pt x="3014" y="321"/>
                    </a:lnTo>
                    <a:lnTo>
                      <a:pt x="3024" y="341"/>
                    </a:lnTo>
                    <a:lnTo>
                      <a:pt x="3030" y="361"/>
                    </a:lnTo>
                    <a:lnTo>
                      <a:pt x="3032" y="3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123280" y="6530760"/>
                <a:ext cx="335160" cy="93240"/>
              </a:xfrm>
              <a:custGeom>
                <a:avLst/>
                <a:gdLst/>
                <a:ahLst/>
                <a:rect l="l" t="t" r="r" b="b"/>
                <a:pathLst>
                  <a:path w="3029" h="779">
                    <a:moveTo>
                      <a:pt x="3029" y="381"/>
                    </a:moveTo>
                    <a:lnTo>
                      <a:pt x="3027" y="401"/>
                    </a:lnTo>
                    <a:lnTo>
                      <a:pt x="3021" y="421"/>
                    </a:lnTo>
                    <a:lnTo>
                      <a:pt x="3012" y="441"/>
                    </a:lnTo>
                    <a:lnTo>
                      <a:pt x="2999" y="461"/>
                    </a:lnTo>
                    <a:lnTo>
                      <a:pt x="2982" y="481"/>
                    </a:lnTo>
                    <a:lnTo>
                      <a:pt x="2962" y="499"/>
                    </a:lnTo>
                    <a:lnTo>
                      <a:pt x="2937" y="518"/>
                    </a:lnTo>
                    <a:lnTo>
                      <a:pt x="2910" y="536"/>
                    </a:lnTo>
                    <a:lnTo>
                      <a:pt x="2880" y="553"/>
                    </a:lnTo>
                    <a:lnTo>
                      <a:pt x="2847" y="570"/>
                    </a:lnTo>
                    <a:lnTo>
                      <a:pt x="2810" y="588"/>
                    </a:lnTo>
                    <a:lnTo>
                      <a:pt x="2771" y="604"/>
                    </a:lnTo>
                    <a:lnTo>
                      <a:pt x="2728" y="619"/>
                    </a:lnTo>
                    <a:lnTo>
                      <a:pt x="2684" y="634"/>
                    </a:lnTo>
                    <a:lnTo>
                      <a:pt x="2635" y="649"/>
                    </a:lnTo>
                    <a:lnTo>
                      <a:pt x="2586" y="662"/>
                    </a:lnTo>
                    <a:lnTo>
                      <a:pt x="2533" y="675"/>
                    </a:lnTo>
                    <a:lnTo>
                      <a:pt x="2478" y="689"/>
                    </a:lnTo>
                    <a:lnTo>
                      <a:pt x="2421" y="700"/>
                    </a:lnTo>
                    <a:lnTo>
                      <a:pt x="2362" y="711"/>
                    </a:lnTo>
                    <a:lnTo>
                      <a:pt x="2300" y="722"/>
                    </a:lnTo>
                    <a:lnTo>
                      <a:pt x="2237" y="731"/>
                    </a:lnTo>
                    <a:lnTo>
                      <a:pt x="2171" y="740"/>
                    </a:lnTo>
                    <a:lnTo>
                      <a:pt x="2104" y="748"/>
                    </a:lnTo>
                    <a:lnTo>
                      <a:pt x="2036" y="755"/>
                    </a:lnTo>
                    <a:lnTo>
                      <a:pt x="1965" y="761"/>
                    </a:lnTo>
                    <a:lnTo>
                      <a:pt x="1893" y="766"/>
                    </a:lnTo>
                    <a:lnTo>
                      <a:pt x="1819" y="771"/>
                    </a:lnTo>
                    <a:lnTo>
                      <a:pt x="1746" y="774"/>
                    </a:lnTo>
                    <a:lnTo>
                      <a:pt x="1669" y="777"/>
                    </a:lnTo>
                    <a:lnTo>
                      <a:pt x="1592" y="778"/>
                    </a:lnTo>
                    <a:lnTo>
                      <a:pt x="1514" y="779"/>
                    </a:lnTo>
                    <a:lnTo>
                      <a:pt x="1437" y="778"/>
                    </a:lnTo>
                    <a:lnTo>
                      <a:pt x="1360" y="777"/>
                    </a:lnTo>
                    <a:lnTo>
                      <a:pt x="1284" y="774"/>
                    </a:lnTo>
                    <a:lnTo>
                      <a:pt x="1209" y="771"/>
                    </a:lnTo>
                    <a:lnTo>
                      <a:pt x="1136" y="766"/>
                    </a:lnTo>
                    <a:lnTo>
                      <a:pt x="1064" y="761"/>
                    </a:lnTo>
                    <a:lnTo>
                      <a:pt x="993" y="755"/>
                    </a:lnTo>
                    <a:lnTo>
                      <a:pt x="925" y="748"/>
                    </a:lnTo>
                    <a:lnTo>
                      <a:pt x="858" y="740"/>
                    </a:lnTo>
                    <a:lnTo>
                      <a:pt x="792" y="731"/>
                    </a:lnTo>
                    <a:lnTo>
                      <a:pt x="729" y="722"/>
                    </a:lnTo>
                    <a:lnTo>
                      <a:pt x="667" y="711"/>
                    </a:lnTo>
                    <a:lnTo>
                      <a:pt x="609" y="700"/>
                    </a:lnTo>
                    <a:lnTo>
                      <a:pt x="551" y="689"/>
                    </a:lnTo>
                    <a:lnTo>
                      <a:pt x="495" y="675"/>
                    </a:lnTo>
                    <a:lnTo>
                      <a:pt x="443" y="662"/>
                    </a:lnTo>
                    <a:lnTo>
                      <a:pt x="393" y="649"/>
                    </a:lnTo>
                    <a:lnTo>
                      <a:pt x="345" y="634"/>
                    </a:lnTo>
                    <a:lnTo>
                      <a:pt x="301" y="619"/>
                    </a:lnTo>
                    <a:lnTo>
                      <a:pt x="258" y="604"/>
                    </a:lnTo>
                    <a:lnTo>
                      <a:pt x="219" y="588"/>
                    </a:lnTo>
                    <a:lnTo>
                      <a:pt x="182" y="570"/>
                    </a:lnTo>
                    <a:lnTo>
                      <a:pt x="149" y="553"/>
                    </a:lnTo>
                    <a:lnTo>
                      <a:pt x="119" y="536"/>
                    </a:lnTo>
                    <a:lnTo>
                      <a:pt x="91" y="518"/>
                    </a:lnTo>
                    <a:lnTo>
                      <a:pt x="67" y="499"/>
                    </a:lnTo>
                    <a:lnTo>
                      <a:pt x="47" y="481"/>
                    </a:lnTo>
                    <a:lnTo>
                      <a:pt x="30" y="461"/>
                    </a:lnTo>
                    <a:lnTo>
                      <a:pt x="17" y="441"/>
                    </a:lnTo>
                    <a:lnTo>
                      <a:pt x="8" y="421"/>
                    </a:lnTo>
                    <a:lnTo>
                      <a:pt x="2" y="401"/>
                    </a:lnTo>
                    <a:lnTo>
                      <a:pt x="0" y="381"/>
                    </a:lnTo>
                    <a:lnTo>
                      <a:pt x="2" y="360"/>
                    </a:lnTo>
                    <a:lnTo>
                      <a:pt x="8" y="340"/>
                    </a:lnTo>
                    <a:lnTo>
                      <a:pt x="17" y="320"/>
                    </a:lnTo>
                    <a:lnTo>
                      <a:pt x="30" y="301"/>
                    </a:lnTo>
                    <a:lnTo>
                      <a:pt x="47" y="282"/>
                    </a:lnTo>
                    <a:lnTo>
                      <a:pt x="67" y="264"/>
                    </a:lnTo>
                    <a:lnTo>
                      <a:pt x="91" y="245"/>
                    </a:lnTo>
                    <a:lnTo>
                      <a:pt x="119" y="228"/>
                    </a:lnTo>
                    <a:lnTo>
                      <a:pt x="149" y="211"/>
                    </a:lnTo>
                    <a:lnTo>
                      <a:pt x="182" y="195"/>
                    </a:lnTo>
                    <a:lnTo>
                      <a:pt x="219" y="179"/>
                    </a:lnTo>
                    <a:lnTo>
                      <a:pt x="258" y="164"/>
                    </a:lnTo>
                    <a:lnTo>
                      <a:pt x="301" y="148"/>
                    </a:lnTo>
                    <a:lnTo>
                      <a:pt x="345" y="134"/>
                    </a:lnTo>
                    <a:lnTo>
                      <a:pt x="393" y="120"/>
                    </a:lnTo>
                    <a:lnTo>
                      <a:pt x="443" y="108"/>
                    </a:lnTo>
                    <a:lnTo>
                      <a:pt x="495" y="95"/>
                    </a:lnTo>
                    <a:lnTo>
                      <a:pt x="551" y="84"/>
                    </a:lnTo>
                    <a:lnTo>
                      <a:pt x="609" y="73"/>
                    </a:lnTo>
                    <a:lnTo>
                      <a:pt x="667" y="63"/>
                    </a:lnTo>
                    <a:lnTo>
                      <a:pt x="729" y="53"/>
                    </a:lnTo>
                    <a:lnTo>
                      <a:pt x="792" y="44"/>
                    </a:lnTo>
                    <a:lnTo>
                      <a:pt x="858" y="35"/>
                    </a:lnTo>
                    <a:lnTo>
                      <a:pt x="925" y="28"/>
                    </a:lnTo>
                    <a:lnTo>
                      <a:pt x="993" y="21"/>
                    </a:lnTo>
                    <a:lnTo>
                      <a:pt x="1064" y="16"/>
                    </a:lnTo>
                    <a:lnTo>
                      <a:pt x="1136" y="11"/>
                    </a:lnTo>
                    <a:lnTo>
                      <a:pt x="1209" y="7"/>
                    </a:lnTo>
                    <a:lnTo>
                      <a:pt x="1284" y="4"/>
                    </a:lnTo>
                    <a:lnTo>
                      <a:pt x="1360" y="1"/>
                    </a:lnTo>
                    <a:lnTo>
                      <a:pt x="1437" y="0"/>
                    </a:lnTo>
                    <a:lnTo>
                      <a:pt x="1514" y="0"/>
                    </a:lnTo>
                    <a:lnTo>
                      <a:pt x="1592" y="0"/>
                    </a:lnTo>
                    <a:lnTo>
                      <a:pt x="1669" y="1"/>
                    </a:lnTo>
                    <a:lnTo>
                      <a:pt x="1746" y="4"/>
                    </a:lnTo>
                    <a:lnTo>
                      <a:pt x="1819" y="7"/>
                    </a:lnTo>
                    <a:lnTo>
                      <a:pt x="1893" y="11"/>
                    </a:lnTo>
                    <a:lnTo>
                      <a:pt x="1965" y="16"/>
                    </a:lnTo>
                    <a:lnTo>
                      <a:pt x="2036" y="21"/>
                    </a:lnTo>
                    <a:lnTo>
                      <a:pt x="2104" y="28"/>
                    </a:lnTo>
                    <a:lnTo>
                      <a:pt x="2171" y="35"/>
                    </a:lnTo>
                    <a:lnTo>
                      <a:pt x="2237" y="44"/>
                    </a:lnTo>
                    <a:lnTo>
                      <a:pt x="2300" y="53"/>
                    </a:lnTo>
                    <a:lnTo>
                      <a:pt x="2362" y="63"/>
                    </a:lnTo>
                    <a:lnTo>
                      <a:pt x="2421" y="73"/>
                    </a:lnTo>
                    <a:lnTo>
                      <a:pt x="2478" y="84"/>
                    </a:lnTo>
                    <a:lnTo>
                      <a:pt x="2533" y="95"/>
                    </a:lnTo>
                    <a:lnTo>
                      <a:pt x="2586" y="108"/>
                    </a:lnTo>
                    <a:lnTo>
                      <a:pt x="2635" y="120"/>
                    </a:lnTo>
                    <a:lnTo>
                      <a:pt x="2684" y="134"/>
                    </a:lnTo>
                    <a:lnTo>
                      <a:pt x="2728" y="148"/>
                    </a:lnTo>
                    <a:lnTo>
                      <a:pt x="2771" y="164"/>
                    </a:lnTo>
                    <a:lnTo>
                      <a:pt x="2810" y="179"/>
                    </a:lnTo>
                    <a:lnTo>
                      <a:pt x="2847" y="195"/>
                    </a:lnTo>
                    <a:lnTo>
                      <a:pt x="2880" y="211"/>
                    </a:lnTo>
                    <a:lnTo>
                      <a:pt x="2910" y="228"/>
                    </a:lnTo>
                    <a:lnTo>
                      <a:pt x="2937" y="245"/>
                    </a:lnTo>
                    <a:lnTo>
                      <a:pt x="2962" y="264"/>
                    </a:lnTo>
                    <a:lnTo>
                      <a:pt x="2982" y="282"/>
                    </a:lnTo>
                    <a:lnTo>
                      <a:pt x="2999" y="301"/>
                    </a:lnTo>
                    <a:lnTo>
                      <a:pt x="3012" y="320"/>
                    </a:lnTo>
                    <a:lnTo>
                      <a:pt x="3021" y="340"/>
                    </a:lnTo>
                    <a:lnTo>
                      <a:pt x="3027" y="360"/>
                    </a:lnTo>
                    <a:lnTo>
                      <a:pt x="3029" y="3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123280" y="6532200"/>
                <a:ext cx="335160" cy="91800"/>
              </a:xfrm>
              <a:custGeom>
                <a:avLst/>
                <a:gdLst/>
                <a:ahLst/>
                <a:rect l="l" t="t" r="r" b="b"/>
                <a:pathLst>
                  <a:path w="3027" h="777">
                    <a:moveTo>
                      <a:pt x="3027" y="380"/>
                    </a:moveTo>
                    <a:lnTo>
                      <a:pt x="3025" y="400"/>
                    </a:lnTo>
                    <a:lnTo>
                      <a:pt x="3019" y="420"/>
                    </a:lnTo>
                    <a:lnTo>
                      <a:pt x="3010" y="440"/>
                    </a:lnTo>
                    <a:lnTo>
                      <a:pt x="2996" y="459"/>
                    </a:lnTo>
                    <a:lnTo>
                      <a:pt x="2980" y="480"/>
                    </a:lnTo>
                    <a:lnTo>
                      <a:pt x="2959" y="498"/>
                    </a:lnTo>
                    <a:lnTo>
                      <a:pt x="2935" y="517"/>
                    </a:lnTo>
                    <a:lnTo>
                      <a:pt x="2908" y="534"/>
                    </a:lnTo>
                    <a:lnTo>
                      <a:pt x="2878" y="552"/>
                    </a:lnTo>
                    <a:lnTo>
                      <a:pt x="2845" y="569"/>
                    </a:lnTo>
                    <a:lnTo>
                      <a:pt x="2808" y="586"/>
                    </a:lnTo>
                    <a:lnTo>
                      <a:pt x="2769" y="602"/>
                    </a:lnTo>
                    <a:lnTo>
                      <a:pt x="2726" y="618"/>
                    </a:lnTo>
                    <a:lnTo>
                      <a:pt x="2682" y="633"/>
                    </a:lnTo>
                    <a:lnTo>
                      <a:pt x="2633" y="647"/>
                    </a:lnTo>
                    <a:lnTo>
                      <a:pt x="2584" y="661"/>
                    </a:lnTo>
                    <a:lnTo>
                      <a:pt x="2531" y="674"/>
                    </a:lnTo>
                    <a:lnTo>
                      <a:pt x="2476" y="687"/>
                    </a:lnTo>
                    <a:lnTo>
                      <a:pt x="2419" y="699"/>
                    </a:lnTo>
                    <a:lnTo>
                      <a:pt x="2360" y="710"/>
                    </a:lnTo>
                    <a:lnTo>
                      <a:pt x="2298" y="720"/>
                    </a:lnTo>
                    <a:lnTo>
                      <a:pt x="2235" y="729"/>
                    </a:lnTo>
                    <a:lnTo>
                      <a:pt x="2170" y="738"/>
                    </a:lnTo>
                    <a:lnTo>
                      <a:pt x="2102" y="746"/>
                    </a:lnTo>
                    <a:lnTo>
                      <a:pt x="2034" y="753"/>
                    </a:lnTo>
                    <a:lnTo>
                      <a:pt x="1964" y="759"/>
                    </a:lnTo>
                    <a:lnTo>
                      <a:pt x="1892" y="765"/>
                    </a:lnTo>
                    <a:lnTo>
                      <a:pt x="1818" y="769"/>
                    </a:lnTo>
                    <a:lnTo>
                      <a:pt x="1744" y="772"/>
                    </a:lnTo>
                    <a:lnTo>
                      <a:pt x="1668" y="775"/>
                    </a:lnTo>
                    <a:lnTo>
                      <a:pt x="1591" y="776"/>
                    </a:lnTo>
                    <a:lnTo>
                      <a:pt x="1513" y="777"/>
                    </a:lnTo>
                    <a:lnTo>
                      <a:pt x="1436" y="776"/>
                    </a:lnTo>
                    <a:lnTo>
                      <a:pt x="1359" y="775"/>
                    </a:lnTo>
                    <a:lnTo>
                      <a:pt x="1283" y="772"/>
                    </a:lnTo>
                    <a:lnTo>
                      <a:pt x="1208" y="769"/>
                    </a:lnTo>
                    <a:lnTo>
                      <a:pt x="1136" y="765"/>
                    </a:lnTo>
                    <a:lnTo>
                      <a:pt x="1063" y="759"/>
                    </a:lnTo>
                    <a:lnTo>
                      <a:pt x="993" y="753"/>
                    </a:lnTo>
                    <a:lnTo>
                      <a:pt x="925" y="746"/>
                    </a:lnTo>
                    <a:lnTo>
                      <a:pt x="857" y="738"/>
                    </a:lnTo>
                    <a:lnTo>
                      <a:pt x="792" y="729"/>
                    </a:lnTo>
                    <a:lnTo>
                      <a:pt x="729" y="720"/>
                    </a:lnTo>
                    <a:lnTo>
                      <a:pt x="667" y="710"/>
                    </a:lnTo>
                    <a:lnTo>
                      <a:pt x="608" y="699"/>
                    </a:lnTo>
                    <a:lnTo>
                      <a:pt x="551" y="687"/>
                    </a:lnTo>
                    <a:lnTo>
                      <a:pt x="495" y="674"/>
                    </a:lnTo>
                    <a:lnTo>
                      <a:pt x="443" y="661"/>
                    </a:lnTo>
                    <a:lnTo>
                      <a:pt x="393" y="647"/>
                    </a:lnTo>
                    <a:lnTo>
                      <a:pt x="346" y="633"/>
                    </a:lnTo>
                    <a:lnTo>
                      <a:pt x="301" y="618"/>
                    </a:lnTo>
                    <a:lnTo>
                      <a:pt x="258" y="602"/>
                    </a:lnTo>
                    <a:lnTo>
                      <a:pt x="219" y="586"/>
                    </a:lnTo>
                    <a:lnTo>
                      <a:pt x="182" y="569"/>
                    </a:lnTo>
                    <a:lnTo>
                      <a:pt x="149" y="552"/>
                    </a:lnTo>
                    <a:lnTo>
                      <a:pt x="119" y="534"/>
                    </a:lnTo>
                    <a:lnTo>
                      <a:pt x="91" y="517"/>
                    </a:lnTo>
                    <a:lnTo>
                      <a:pt x="68" y="498"/>
                    </a:lnTo>
                    <a:lnTo>
                      <a:pt x="48" y="480"/>
                    </a:lnTo>
                    <a:lnTo>
                      <a:pt x="31" y="459"/>
                    </a:lnTo>
                    <a:lnTo>
                      <a:pt x="18" y="440"/>
                    </a:lnTo>
                    <a:lnTo>
                      <a:pt x="8" y="420"/>
                    </a:lnTo>
                    <a:lnTo>
                      <a:pt x="2" y="400"/>
                    </a:lnTo>
                    <a:lnTo>
                      <a:pt x="0" y="380"/>
                    </a:lnTo>
                    <a:lnTo>
                      <a:pt x="2" y="359"/>
                    </a:lnTo>
                    <a:lnTo>
                      <a:pt x="8" y="339"/>
                    </a:lnTo>
                    <a:lnTo>
                      <a:pt x="18" y="319"/>
                    </a:lnTo>
                    <a:lnTo>
                      <a:pt x="31" y="300"/>
                    </a:lnTo>
                    <a:lnTo>
                      <a:pt x="48" y="282"/>
                    </a:lnTo>
                    <a:lnTo>
                      <a:pt x="68" y="264"/>
                    </a:lnTo>
                    <a:lnTo>
                      <a:pt x="91" y="245"/>
                    </a:lnTo>
                    <a:lnTo>
                      <a:pt x="119" y="227"/>
                    </a:lnTo>
                    <a:lnTo>
                      <a:pt x="149" y="211"/>
                    </a:lnTo>
                    <a:lnTo>
                      <a:pt x="182" y="194"/>
                    </a:lnTo>
                    <a:lnTo>
                      <a:pt x="219" y="179"/>
                    </a:lnTo>
                    <a:lnTo>
                      <a:pt x="258" y="163"/>
                    </a:lnTo>
                    <a:lnTo>
                      <a:pt x="301" y="148"/>
                    </a:lnTo>
                    <a:lnTo>
                      <a:pt x="346" y="134"/>
                    </a:lnTo>
                    <a:lnTo>
                      <a:pt x="393" y="120"/>
                    </a:lnTo>
                    <a:lnTo>
                      <a:pt x="443" y="107"/>
                    </a:lnTo>
                    <a:lnTo>
                      <a:pt x="495" y="95"/>
                    </a:lnTo>
                    <a:lnTo>
                      <a:pt x="551" y="83"/>
                    </a:lnTo>
                    <a:lnTo>
                      <a:pt x="608" y="73"/>
                    </a:lnTo>
                    <a:lnTo>
                      <a:pt x="667" y="62"/>
                    </a:lnTo>
                    <a:lnTo>
                      <a:pt x="729" y="53"/>
                    </a:lnTo>
                    <a:lnTo>
                      <a:pt x="792" y="44"/>
                    </a:lnTo>
                    <a:lnTo>
                      <a:pt x="857" y="35"/>
                    </a:lnTo>
                    <a:lnTo>
                      <a:pt x="925" y="28"/>
                    </a:lnTo>
                    <a:lnTo>
                      <a:pt x="993" y="21"/>
                    </a:lnTo>
                    <a:lnTo>
                      <a:pt x="1063" y="16"/>
                    </a:lnTo>
                    <a:lnTo>
                      <a:pt x="1136" y="11"/>
                    </a:lnTo>
                    <a:lnTo>
                      <a:pt x="1208" y="7"/>
                    </a:lnTo>
                    <a:lnTo>
                      <a:pt x="1283" y="4"/>
                    </a:lnTo>
                    <a:lnTo>
                      <a:pt x="1359" y="1"/>
                    </a:lnTo>
                    <a:lnTo>
                      <a:pt x="1436" y="0"/>
                    </a:lnTo>
                    <a:lnTo>
                      <a:pt x="1513" y="0"/>
                    </a:lnTo>
                    <a:lnTo>
                      <a:pt x="1591" y="0"/>
                    </a:lnTo>
                    <a:lnTo>
                      <a:pt x="1668" y="1"/>
                    </a:lnTo>
                    <a:lnTo>
                      <a:pt x="1744" y="4"/>
                    </a:lnTo>
                    <a:lnTo>
                      <a:pt x="1818" y="7"/>
                    </a:lnTo>
                    <a:lnTo>
                      <a:pt x="1892" y="11"/>
                    </a:lnTo>
                    <a:lnTo>
                      <a:pt x="1964" y="16"/>
                    </a:lnTo>
                    <a:lnTo>
                      <a:pt x="2034" y="21"/>
                    </a:lnTo>
                    <a:lnTo>
                      <a:pt x="2102" y="28"/>
                    </a:lnTo>
                    <a:lnTo>
                      <a:pt x="2170" y="35"/>
                    </a:lnTo>
                    <a:lnTo>
                      <a:pt x="2235" y="44"/>
                    </a:lnTo>
                    <a:lnTo>
                      <a:pt x="2298" y="53"/>
                    </a:lnTo>
                    <a:lnTo>
                      <a:pt x="2360" y="62"/>
                    </a:lnTo>
                    <a:lnTo>
                      <a:pt x="2419" y="73"/>
                    </a:lnTo>
                    <a:lnTo>
                      <a:pt x="2476" y="83"/>
                    </a:lnTo>
                    <a:lnTo>
                      <a:pt x="2531" y="95"/>
                    </a:lnTo>
                    <a:lnTo>
                      <a:pt x="2584" y="107"/>
                    </a:lnTo>
                    <a:lnTo>
                      <a:pt x="2633" y="120"/>
                    </a:lnTo>
                    <a:lnTo>
                      <a:pt x="2682" y="134"/>
                    </a:lnTo>
                    <a:lnTo>
                      <a:pt x="2726" y="148"/>
                    </a:lnTo>
                    <a:lnTo>
                      <a:pt x="2769" y="163"/>
                    </a:lnTo>
                    <a:lnTo>
                      <a:pt x="2808" y="179"/>
                    </a:lnTo>
                    <a:lnTo>
                      <a:pt x="2845" y="194"/>
                    </a:lnTo>
                    <a:lnTo>
                      <a:pt x="2878" y="211"/>
                    </a:lnTo>
                    <a:lnTo>
                      <a:pt x="2908" y="227"/>
                    </a:lnTo>
                    <a:lnTo>
                      <a:pt x="2935" y="245"/>
                    </a:lnTo>
                    <a:lnTo>
                      <a:pt x="2959" y="264"/>
                    </a:lnTo>
                    <a:lnTo>
                      <a:pt x="2980" y="282"/>
                    </a:lnTo>
                    <a:lnTo>
                      <a:pt x="2996" y="300"/>
                    </a:lnTo>
                    <a:lnTo>
                      <a:pt x="3010" y="319"/>
                    </a:lnTo>
                    <a:lnTo>
                      <a:pt x="3019" y="339"/>
                    </a:lnTo>
                    <a:lnTo>
                      <a:pt x="3025" y="359"/>
                    </a:lnTo>
                    <a:lnTo>
                      <a:pt x="3027" y="3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124360" y="6532200"/>
                <a:ext cx="332640" cy="91800"/>
              </a:xfrm>
              <a:custGeom>
                <a:avLst/>
                <a:gdLst/>
                <a:ahLst/>
                <a:rect l="l" t="t" r="r" b="b"/>
                <a:pathLst>
                  <a:path w="3023" h="776">
                    <a:moveTo>
                      <a:pt x="3023" y="380"/>
                    </a:moveTo>
                    <a:lnTo>
                      <a:pt x="3021" y="400"/>
                    </a:lnTo>
                    <a:lnTo>
                      <a:pt x="3016" y="420"/>
                    </a:lnTo>
                    <a:lnTo>
                      <a:pt x="3006" y="440"/>
                    </a:lnTo>
                    <a:lnTo>
                      <a:pt x="2993" y="459"/>
                    </a:lnTo>
                    <a:lnTo>
                      <a:pt x="2976" y="479"/>
                    </a:lnTo>
                    <a:lnTo>
                      <a:pt x="2956" y="498"/>
                    </a:lnTo>
                    <a:lnTo>
                      <a:pt x="2932" y="516"/>
                    </a:lnTo>
                    <a:lnTo>
                      <a:pt x="2905" y="534"/>
                    </a:lnTo>
                    <a:lnTo>
                      <a:pt x="2875" y="551"/>
                    </a:lnTo>
                    <a:lnTo>
                      <a:pt x="2842" y="568"/>
                    </a:lnTo>
                    <a:lnTo>
                      <a:pt x="2805" y="586"/>
                    </a:lnTo>
                    <a:lnTo>
                      <a:pt x="2766" y="602"/>
                    </a:lnTo>
                    <a:lnTo>
                      <a:pt x="2723" y="617"/>
                    </a:lnTo>
                    <a:lnTo>
                      <a:pt x="2678" y="632"/>
                    </a:lnTo>
                    <a:lnTo>
                      <a:pt x="2630" y="646"/>
                    </a:lnTo>
                    <a:lnTo>
                      <a:pt x="2581" y="660"/>
                    </a:lnTo>
                    <a:lnTo>
                      <a:pt x="2528" y="673"/>
                    </a:lnTo>
                    <a:lnTo>
                      <a:pt x="2473" y="686"/>
                    </a:lnTo>
                    <a:lnTo>
                      <a:pt x="2416" y="698"/>
                    </a:lnTo>
                    <a:lnTo>
                      <a:pt x="2357" y="709"/>
                    </a:lnTo>
                    <a:lnTo>
                      <a:pt x="2295" y="719"/>
                    </a:lnTo>
                    <a:lnTo>
                      <a:pt x="2233" y="729"/>
                    </a:lnTo>
                    <a:lnTo>
                      <a:pt x="2167" y="737"/>
                    </a:lnTo>
                    <a:lnTo>
                      <a:pt x="2100" y="745"/>
                    </a:lnTo>
                    <a:lnTo>
                      <a:pt x="2032" y="752"/>
                    </a:lnTo>
                    <a:lnTo>
                      <a:pt x="1961" y="758"/>
                    </a:lnTo>
                    <a:lnTo>
                      <a:pt x="1889" y="764"/>
                    </a:lnTo>
                    <a:lnTo>
                      <a:pt x="1816" y="768"/>
                    </a:lnTo>
                    <a:lnTo>
                      <a:pt x="1742" y="772"/>
                    </a:lnTo>
                    <a:lnTo>
                      <a:pt x="1666" y="774"/>
                    </a:lnTo>
                    <a:lnTo>
                      <a:pt x="1589" y="776"/>
                    </a:lnTo>
                    <a:lnTo>
                      <a:pt x="1511" y="776"/>
                    </a:lnTo>
                    <a:lnTo>
                      <a:pt x="1434" y="776"/>
                    </a:lnTo>
                    <a:lnTo>
                      <a:pt x="1357" y="774"/>
                    </a:lnTo>
                    <a:lnTo>
                      <a:pt x="1281" y="772"/>
                    </a:lnTo>
                    <a:lnTo>
                      <a:pt x="1206" y="768"/>
                    </a:lnTo>
                    <a:lnTo>
                      <a:pt x="1134" y="764"/>
                    </a:lnTo>
                    <a:lnTo>
                      <a:pt x="1062" y="758"/>
                    </a:lnTo>
                    <a:lnTo>
                      <a:pt x="991" y="752"/>
                    </a:lnTo>
                    <a:lnTo>
                      <a:pt x="923" y="745"/>
                    </a:lnTo>
                    <a:lnTo>
                      <a:pt x="856" y="737"/>
                    </a:lnTo>
                    <a:lnTo>
                      <a:pt x="790" y="729"/>
                    </a:lnTo>
                    <a:lnTo>
                      <a:pt x="728" y="719"/>
                    </a:lnTo>
                    <a:lnTo>
                      <a:pt x="666" y="709"/>
                    </a:lnTo>
                    <a:lnTo>
                      <a:pt x="607" y="698"/>
                    </a:lnTo>
                    <a:lnTo>
                      <a:pt x="550" y="686"/>
                    </a:lnTo>
                    <a:lnTo>
                      <a:pt x="494" y="673"/>
                    </a:lnTo>
                    <a:lnTo>
                      <a:pt x="442" y="660"/>
                    </a:lnTo>
                    <a:lnTo>
                      <a:pt x="392" y="646"/>
                    </a:lnTo>
                    <a:lnTo>
                      <a:pt x="345" y="632"/>
                    </a:lnTo>
                    <a:lnTo>
                      <a:pt x="300" y="617"/>
                    </a:lnTo>
                    <a:lnTo>
                      <a:pt x="257" y="602"/>
                    </a:lnTo>
                    <a:lnTo>
                      <a:pt x="219" y="586"/>
                    </a:lnTo>
                    <a:lnTo>
                      <a:pt x="181" y="568"/>
                    </a:lnTo>
                    <a:lnTo>
                      <a:pt x="148" y="551"/>
                    </a:lnTo>
                    <a:lnTo>
                      <a:pt x="118" y="534"/>
                    </a:lnTo>
                    <a:lnTo>
                      <a:pt x="91" y="516"/>
                    </a:lnTo>
                    <a:lnTo>
                      <a:pt x="67" y="498"/>
                    </a:lnTo>
                    <a:lnTo>
                      <a:pt x="47" y="479"/>
                    </a:lnTo>
                    <a:lnTo>
                      <a:pt x="30" y="459"/>
                    </a:lnTo>
                    <a:lnTo>
                      <a:pt x="17" y="440"/>
                    </a:lnTo>
                    <a:lnTo>
                      <a:pt x="8" y="420"/>
                    </a:lnTo>
                    <a:lnTo>
                      <a:pt x="2" y="400"/>
                    </a:lnTo>
                    <a:lnTo>
                      <a:pt x="0" y="380"/>
                    </a:lnTo>
                    <a:lnTo>
                      <a:pt x="2" y="359"/>
                    </a:lnTo>
                    <a:lnTo>
                      <a:pt x="8" y="339"/>
                    </a:lnTo>
                    <a:lnTo>
                      <a:pt x="17" y="320"/>
                    </a:lnTo>
                    <a:lnTo>
                      <a:pt x="30" y="301"/>
                    </a:lnTo>
                    <a:lnTo>
                      <a:pt x="47" y="282"/>
                    </a:lnTo>
                    <a:lnTo>
                      <a:pt x="67" y="264"/>
                    </a:lnTo>
                    <a:lnTo>
                      <a:pt x="91" y="245"/>
                    </a:lnTo>
                    <a:lnTo>
                      <a:pt x="118" y="228"/>
                    </a:lnTo>
                    <a:lnTo>
                      <a:pt x="148" y="211"/>
                    </a:lnTo>
                    <a:lnTo>
                      <a:pt x="181" y="195"/>
                    </a:lnTo>
                    <a:lnTo>
                      <a:pt x="219" y="179"/>
                    </a:lnTo>
                    <a:lnTo>
                      <a:pt x="257" y="164"/>
                    </a:lnTo>
                    <a:lnTo>
                      <a:pt x="300" y="148"/>
                    </a:lnTo>
                    <a:lnTo>
                      <a:pt x="345" y="134"/>
                    </a:lnTo>
                    <a:lnTo>
                      <a:pt x="392" y="121"/>
                    </a:lnTo>
                    <a:lnTo>
                      <a:pt x="442" y="108"/>
                    </a:lnTo>
                    <a:lnTo>
                      <a:pt x="494" y="96"/>
                    </a:lnTo>
                    <a:lnTo>
                      <a:pt x="550" y="84"/>
                    </a:lnTo>
                    <a:lnTo>
                      <a:pt x="607" y="73"/>
                    </a:lnTo>
                    <a:lnTo>
                      <a:pt x="666" y="63"/>
                    </a:lnTo>
                    <a:lnTo>
                      <a:pt x="728" y="54"/>
                    </a:lnTo>
                    <a:lnTo>
                      <a:pt x="790" y="45"/>
                    </a:lnTo>
                    <a:lnTo>
                      <a:pt x="856" y="36"/>
                    </a:lnTo>
                    <a:lnTo>
                      <a:pt x="923" y="29"/>
                    </a:lnTo>
                    <a:lnTo>
                      <a:pt x="991" y="22"/>
                    </a:lnTo>
                    <a:lnTo>
                      <a:pt x="1062" y="17"/>
                    </a:lnTo>
                    <a:lnTo>
                      <a:pt x="1134" y="12"/>
                    </a:lnTo>
                    <a:lnTo>
                      <a:pt x="1206" y="8"/>
                    </a:lnTo>
                    <a:lnTo>
                      <a:pt x="1281" y="5"/>
                    </a:lnTo>
                    <a:lnTo>
                      <a:pt x="1357" y="2"/>
                    </a:lnTo>
                    <a:lnTo>
                      <a:pt x="1434" y="1"/>
                    </a:lnTo>
                    <a:lnTo>
                      <a:pt x="1511" y="0"/>
                    </a:lnTo>
                    <a:lnTo>
                      <a:pt x="1589" y="1"/>
                    </a:lnTo>
                    <a:lnTo>
                      <a:pt x="1666" y="2"/>
                    </a:lnTo>
                    <a:lnTo>
                      <a:pt x="1742" y="5"/>
                    </a:lnTo>
                    <a:lnTo>
                      <a:pt x="1816" y="8"/>
                    </a:lnTo>
                    <a:lnTo>
                      <a:pt x="1889" y="12"/>
                    </a:lnTo>
                    <a:lnTo>
                      <a:pt x="1961" y="17"/>
                    </a:lnTo>
                    <a:lnTo>
                      <a:pt x="2032" y="22"/>
                    </a:lnTo>
                    <a:lnTo>
                      <a:pt x="2100" y="29"/>
                    </a:lnTo>
                    <a:lnTo>
                      <a:pt x="2167" y="36"/>
                    </a:lnTo>
                    <a:lnTo>
                      <a:pt x="2233" y="45"/>
                    </a:lnTo>
                    <a:lnTo>
                      <a:pt x="2295" y="54"/>
                    </a:lnTo>
                    <a:lnTo>
                      <a:pt x="2357" y="63"/>
                    </a:lnTo>
                    <a:lnTo>
                      <a:pt x="2416" y="73"/>
                    </a:lnTo>
                    <a:lnTo>
                      <a:pt x="2473" y="84"/>
                    </a:lnTo>
                    <a:lnTo>
                      <a:pt x="2528" y="96"/>
                    </a:lnTo>
                    <a:lnTo>
                      <a:pt x="2581" y="108"/>
                    </a:lnTo>
                    <a:lnTo>
                      <a:pt x="2630" y="121"/>
                    </a:lnTo>
                    <a:lnTo>
                      <a:pt x="2678" y="134"/>
                    </a:lnTo>
                    <a:lnTo>
                      <a:pt x="2723" y="148"/>
                    </a:lnTo>
                    <a:lnTo>
                      <a:pt x="2766" y="164"/>
                    </a:lnTo>
                    <a:lnTo>
                      <a:pt x="2805" y="179"/>
                    </a:lnTo>
                    <a:lnTo>
                      <a:pt x="2842" y="195"/>
                    </a:lnTo>
                    <a:lnTo>
                      <a:pt x="2875" y="211"/>
                    </a:lnTo>
                    <a:lnTo>
                      <a:pt x="2905" y="228"/>
                    </a:lnTo>
                    <a:lnTo>
                      <a:pt x="2932" y="245"/>
                    </a:lnTo>
                    <a:lnTo>
                      <a:pt x="2956" y="264"/>
                    </a:lnTo>
                    <a:lnTo>
                      <a:pt x="2976" y="282"/>
                    </a:lnTo>
                    <a:lnTo>
                      <a:pt x="2993" y="301"/>
                    </a:lnTo>
                    <a:lnTo>
                      <a:pt x="3006" y="320"/>
                    </a:lnTo>
                    <a:lnTo>
                      <a:pt x="3016" y="339"/>
                    </a:lnTo>
                    <a:lnTo>
                      <a:pt x="3021" y="359"/>
                    </a:lnTo>
                    <a:lnTo>
                      <a:pt x="3023" y="3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24360" y="6532200"/>
                <a:ext cx="332640" cy="91800"/>
              </a:xfrm>
              <a:custGeom>
                <a:avLst/>
                <a:gdLst/>
                <a:ahLst/>
                <a:rect l="l" t="t" r="r" b="b"/>
                <a:pathLst>
                  <a:path w="3021" h="774">
                    <a:moveTo>
                      <a:pt x="3021" y="379"/>
                    </a:moveTo>
                    <a:lnTo>
                      <a:pt x="3019" y="399"/>
                    </a:lnTo>
                    <a:lnTo>
                      <a:pt x="3013" y="419"/>
                    </a:lnTo>
                    <a:lnTo>
                      <a:pt x="3004" y="439"/>
                    </a:lnTo>
                    <a:lnTo>
                      <a:pt x="2991" y="458"/>
                    </a:lnTo>
                    <a:lnTo>
                      <a:pt x="2974" y="478"/>
                    </a:lnTo>
                    <a:lnTo>
                      <a:pt x="2954" y="497"/>
                    </a:lnTo>
                    <a:lnTo>
                      <a:pt x="2929" y="515"/>
                    </a:lnTo>
                    <a:lnTo>
                      <a:pt x="2902" y="533"/>
                    </a:lnTo>
                    <a:lnTo>
                      <a:pt x="2872" y="550"/>
                    </a:lnTo>
                    <a:lnTo>
                      <a:pt x="2839" y="567"/>
                    </a:lnTo>
                    <a:lnTo>
                      <a:pt x="2802" y="584"/>
                    </a:lnTo>
                    <a:lnTo>
                      <a:pt x="2763" y="600"/>
                    </a:lnTo>
                    <a:lnTo>
                      <a:pt x="2721" y="616"/>
                    </a:lnTo>
                    <a:lnTo>
                      <a:pt x="2676" y="630"/>
                    </a:lnTo>
                    <a:lnTo>
                      <a:pt x="2628" y="645"/>
                    </a:lnTo>
                    <a:lnTo>
                      <a:pt x="2579" y="658"/>
                    </a:lnTo>
                    <a:lnTo>
                      <a:pt x="2526" y="671"/>
                    </a:lnTo>
                    <a:lnTo>
                      <a:pt x="2472" y="685"/>
                    </a:lnTo>
                    <a:lnTo>
                      <a:pt x="2414" y="696"/>
                    </a:lnTo>
                    <a:lnTo>
                      <a:pt x="2355" y="707"/>
                    </a:lnTo>
                    <a:lnTo>
                      <a:pt x="2294" y="717"/>
                    </a:lnTo>
                    <a:lnTo>
                      <a:pt x="2231" y="727"/>
                    </a:lnTo>
                    <a:lnTo>
                      <a:pt x="2166" y="735"/>
                    </a:lnTo>
                    <a:lnTo>
                      <a:pt x="2098" y="743"/>
                    </a:lnTo>
                    <a:lnTo>
                      <a:pt x="2030" y="750"/>
                    </a:lnTo>
                    <a:lnTo>
                      <a:pt x="1960" y="757"/>
                    </a:lnTo>
                    <a:lnTo>
                      <a:pt x="1888" y="762"/>
                    </a:lnTo>
                    <a:lnTo>
                      <a:pt x="1815" y="766"/>
                    </a:lnTo>
                    <a:lnTo>
                      <a:pt x="1741" y="770"/>
                    </a:lnTo>
                    <a:lnTo>
                      <a:pt x="1665" y="772"/>
                    </a:lnTo>
                    <a:lnTo>
                      <a:pt x="1588" y="774"/>
                    </a:lnTo>
                    <a:lnTo>
                      <a:pt x="1510" y="774"/>
                    </a:lnTo>
                    <a:lnTo>
                      <a:pt x="1433" y="774"/>
                    </a:lnTo>
                    <a:lnTo>
                      <a:pt x="1356" y="772"/>
                    </a:lnTo>
                    <a:lnTo>
                      <a:pt x="1280" y="770"/>
                    </a:lnTo>
                    <a:lnTo>
                      <a:pt x="1206" y="766"/>
                    </a:lnTo>
                    <a:lnTo>
                      <a:pt x="1133" y="762"/>
                    </a:lnTo>
                    <a:lnTo>
                      <a:pt x="1061" y="757"/>
                    </a:lnTo>
                    <a:lnTo>
                      <a:pt x="991" y="750"/>
                    </a:lnTo>
                    <a:lnTo>
                      <a:pt x="923" y="743"/>
                    </a:lnTo>
                    <a:lnTo>
                      <a:pt x="856" y="735"/>
                    </a:lnTo>
                    <a:lnTo>
                      <a:pt x="790" y="727"/>
                    </a:lnTo>
                    <a:lnTo>
                      <a:pt x="727" y="717"/>
                    </a:lnTo>
                    <a:lnTo>
                      <a:pt x="666" y="707"/>
                    </a:lnTo>
                    <a:lnTo>
                      <a:pt x="607" y="696"/>
                    </a:lnTo>
                    <a:lnTo>
                      <a:pt x="550" y="685"/>
                    </a:lnTo>
                    <a:lnTo>
                      <a:pt x="494" y="671"/>
                    </a:lnTo>
                    <a:lnTo>
                      <a:pt x="442" y="658"/>
                    </a:lnTo>
                    <a:lnTo>
                      <a:pt x="392" y="645"/>
                    </a:lnTo>
                    <a:lnTo>
                      <a:pt x="345" y="630"/>
                    </a:lnTo>
                    <a:lnTo>
                      <a:pt x="300" y="616"/>
                    </a:lnTo>
                    <a:lnTo>
                      <a:pt x="258" y="600"/>
                    </a:lnTo>
                    <a:lnTo>
                      <a:pt x="219" y="584"/>
                    </a:lnTo>
                    <a:lnTo>
                      <a:pt x="182" y="567"/>
                    </a:lnTo>
                    <a:lnTo>
                      <a:pt x="149" y="550"/>
                    </a:lnTo>
                    <a:lnTo>
                      <a:pt x="119" y="533"/>
                    </a:lnTo>
                    <a:lnTo>
                      <a:pt x="91" y="515"/>
                    </a:lnTo>
                    <a:lnTo>
                      <a:pt x="67" y="497"/>
                    </a:lnTo>
                    <a:lnTo>
                      <a:pt x="47" y="478"/>
                    </a:lnTo>
                    <a:lnTo>
                      <a:pt x="31" y="458"/>
                    </a:lnTo>
                    <a:lnTo>
                      <a:pt x="17" y="439"/>
                    </a:lnTo>
                    <a:lnTo>
                      <a:pt x="8" y="419"/>
                    </a:lnTo>
                    <a:lnTo>
                      <a:pt x="2" y="399"/>
                    </a:lnTo>
                    <a:lnTo>
                      <a:pt x="0" y="379"/>
                    </a:lnTo>
                    <a:lnTo>
                      <a:pt x="2" y="358"/>
                    </a:lnTo>
                    <a:lnTo>
                      <a:pt x="8" y="338"/>
                    </a:lnTo>
                    <a:lnTo>
                      <a:pt x="17" y="319"/>
                    </a:lnTo>
                    <a:lnTo>
                      <a:pt x="31" y="300"/>
                    </a:lnTo>
                    <a:lnTo>
                      <a:pt x="47" y="281"/>
                    </a:lnTo>
                    <a:lnTo>
                      <a:pt x="67" y="263"/>
                    </a:lnTo>
                    <a:lnTo>
                      <a:pt x="91" y="244"/>
                    </a:lnTo>
                    <a:lnTo>
                      <a:pt x="119" y="227"/>
                    </a:lnTo>
                    <a:lnTo>
                      <a:pt x="149" y="210"/>
                    </a:lnTo>
                    <a:lnTo>
                      <a:pt x="182" y="194"/>
                    </a:lnTo>
                    <a:lnTo>
                      <a:pt x="219" y="179"/>
                    </a:lnTo>
                    <a:lnTo>
                      <a:pt x="258" y="163"/>
                    </a:lnTo>
                    <a:lnTo>
                      <a:pt x="300" y="149"/>
                    </a:lnTo>
                    <a:lnTo>
                      <a:pt x="345" y="134"/>
                    </a:lnTo>
                    <a:lnTo>
                      <a:pt x="392" y="120"/>
                    </a:lnTo>
                    <a:lnTo>
                      <a:pt x="442" y="108"/>
                    </a:lnTo>
                    <a:lnTo>
                      <a:pt x="494" y="95"/>
                    </a:lnTo>
                    <a:lnTo>
                      <a:pt x="550" y="84"/>
                    </a:lnTo>
                    <a:lnTo>
                      <a:pt x="607" y="73"/>
                    </a:lnTo>
                    <a:lnTo>
                      <a:pt x="666" y="63"/>
                    </a:lnTo>
                    <a:lnTo>
                      <a:pt x="727" y="53"/>
                    </a:lnTo>
                    <a:lnTo>
                      <a:pt x="790" y="45"/>
                    </a:lnTo>
                    <a:lnTo>
                      <a:pt x="856" y="36"/>
                    </a:lnTo>
                    <a:lnTo>
                      <a:pt x="923" y="29"/>
                    </a:lnTo>
                    <a:lnTo>
                      <a:pt x="991" y="22"/>
                    </a:lnTo>
                    <a:lnTo>
                      <a:pt x="1061" y="16"/>
                    </a:lnTo>
                    <a:lnTo>
                      <a:pt x="1133" y="12"/>
                    </a:lnTo>
                    <a:lnTo>
                      <a:pt x="1206" y="8"/>
                    </a:lnTo>
                    <a:lnTo>
                      <a:pt x="1280" y="5"/>
                    </a:lnTo>
                    <a:lnTo>
                      <a:pt x="1356" y="2"/>
                    </a:lnTo>
                    <a:lnTo>
                      <a:pt x="1433" y="1"/>
                    </a:lnTo>
                    <a:lnTo>
                      <a:pt x="1510" y="0"/>
                    </a:lnTo>
                    <a:lnTo>
                      <a:pt x="1588" y="1"/>
                    </a:lnTo>
                    <a:lnTo>
                      <a:pt x="1665" y="2"/>
                    </a:lnTo>
                    <a:lnTo>
                      <a:pt x="1741" y="5"/>
                    </a:lnTo>
                    <a:lnTo>
                      <a:pt x="1815" y="8"/>
                    </a:lnTo>
                    <a:lnTo>
                      <a:pt x="1888" y="12"/>
                    </a:lnTo>
                    <a:lnTo>
                      <a:pt x="1960" y="16"/>
                    </a:lnTo>
                    <a:lnTo>
                      <a:pt x="2030" y="22"/>
                    </a:lnTo>
                    <a:lnTo>
                      <a:pt x="2098" y="29"/>
                    </a:lnTo>
                    <a:lnTo>
                      <a:pt x="2166" y="36"/>
                    </a:lnTo>
                    <a:lnTo>
                      <a:pt x="2231" y="45"/>
                    </a:lnTo>
                    <a:lnTo>
                      <a:pt x="2294" y="53"/>
                    </a:lnTo>
                    <a:lnTo>
                      <a:pt x="2355" y="63"/>
                    </a:lnTo>
                    <a:lnTo>
                      <a:pt x="2414" y="73"/>
                    </a:lnTo>
                    <a:lnTo>
                      <a:pt x="2472" y="84"/>
                    </a:lnTo>
                    <a:lnTo>
                      <a:pt x="2526" y="95"/>
                    </a:lnTo>
                    <a:lnTo>
                      <a:pt x="2579" y="108"/>
                    </a:lnTo>
                    <a:lnTo>
                      <a:pt x="2628" y="120"/>
                    </a:lnTo>
                    <a:lnTo>
                      <a:pt x="2676" y="134"/>
                    </a:lnTo>
                    <a:lnTo>
                      <a:pt x="2721" y="149"/>
                    </a:lnTo>
                    <a:lnTo>
                      <a:pt x="2763" y="163"/>
                    </a:lnTo>
                    <a:lnTo>
                      <a:pt x="2802" y="179"/>
                    </a:lnTo>
                    <a:lnTo>
                      <a:pt x="2839" y="194"/>
                    </a:lnTo>
                    <a:lnTo>
                      <a:pt x="2872" y="210"/>
                    </a:lnTo>
                    <a:lnTo>
                      <a:pt x="2902" y="227"/>
                    </a:lnTo>
                    <a:lnTo>
                      <a:pt x="2929" y="244"/>
                    </a:lnTo>
                    <a:lnTo>
                      <a:pt x="2954" y="263"/>
                    </a:lnTo>
                    <a:lnTo>
                      <a:pt x="2974" y="281"/>
                    </a:lnTo>
                    <a:lnTo>
                      <a:pt x="2991" y="300"/>
                    </a:lnTo>
                    <a:lnTo>
                      <a:pt x="3004" y="319"/>
                    </a:lnTo>
                    <a:lnTo>
                      <a:pt x="3013" y="338"/>
                    </a:lnTo>
                    <a:lnTo>
                      <a:pt x="3019" y="358"/>
                    </a:lnTo>
                    <a:lnTo>
                      <a:pt x="3021" y="3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124360" y="6532200"/>
                <a:ext cx="332640" cy="91800"/>
              </a:xfrm>
              <a:custGeom>
                <a:avLst/>
                <a:gdLst/>
                <a:ahLst/>
                <a:rect l="l" t="t" r="r" b="b"/>
                <a:pathLst>
                  <a:path w="3018" h="772">
                    <a:moveTo>
                      <a:pt x="3018" y="378"/>
                    </a:moveTo>
                    <a:lnTo>
                      <a:pt x="3016" y="398"/>
                    </a:lnTo>
                    <a:lnTo>
                      <a:pt x="3010" y="418"/>
                    </a:lnTo>
                    <a:lnTo>
                      <a:pt x="3000" y="438"/>
                    </a:lnTo>
                    <a:lnTo>
                      <a:pt x="2987" y="457"/>
                    </a:lnTo>
                    <a:lnTo>
                      <a:pt x="2970" y="477"/>
                    </a:lnTo>
                    <a:lnTo>
                      <a:pt x="2950" y="495"/>
                    </a:lnTo>
                    <a:lnTo>
                      <a:pt x="2926" y="514"/>
                    </a:lnTo>
                    <a:lnTo>
                      <a:pt x="2899" y="531"/>
                    </a:lnTo>
                    <a:lnTo>
                      <a:pt x="2869" y="549"/>
                    </a:lnTo>
                    <a:lnTo>
                      <a:pt x="2836" y="566"/>
                    </a:lnTo>
                    <a:lnTo>
                      <a:pt x="2799" y="583"/>
                    </a:lnTo>
                    <a:lnTo>
                      <a:pt x="2760" y="599"/>
                    </a:lnTo>
                    <a:lnTo>
                      <a:pt x="2718" y="614"/>
                    </a:lnTo>
                    <a:lnTo>
                      <a:pt x="2673" y="629"/>
                    </a:lnTo>
                    <a:lnTo>
                      <a:pt x="2625" y="643"/>
                    </a:lnTo>
                    <a:lnTo>
                      <a:pt x="2576" y="657"/>
                    </a:lnTo>
                    <a:lnTo>
                      <a:pt x="2523" y="670"/>
                    </a:lnTo>
                    <a:lnTo>
                      <a:pt x="2469" y="683"/>
                    </a:lnTo>
                    <a:lnTo>
                      <a:pt x="2411" y="695"/>
                    </a:lnTo>
                    <a:lnTo>
                      <a:pt x="2353" y="705"/>
                    </a:lnTo>
                    <a:lnTo>
                      <a:pt x="2291" y="716"/>
                    </a:lnTo>
                    <a:lnTo>
                      <a:pt x="2228" y="725"/>
                    </a:lnTo>
                    <a:lnTo>
                      <a:pt x="2163" y="734"/>
                    </a:lnTo>
                    <a:lnTo>
                      <a:pt x="2096" y="741"/>
                    </a:lnTo>
                    <a:lnTo>
                      <a:pt x="2028" y="749"/>
                    </a:lnTo>
                    <a:lnTo>
                      <a:pt x="1957" y="755"/>
                    </a:lnTo>
                    <a:lnTo>
                      <a:pt x="1886" y="760"/>
                    </a:lnTo>
                    <a:lnTo>
                      <a:pt x="1812" y="764"/>
                    </a:lnTo>
                    <a:lnTo>
                      <a:pt x="1739" y="768"/>
                    </a:lnTo>
                    <a:lnTo>
                      <a:pt x="1663" y="770"/>
                    </a:lnTo>
                    <a:lnTo>
                      <a:pt x="1586" y="772"/>
                    </a:lnTo>
                    <a:lnTo>
                      <a:pt x="1508" y="772"/>
                    </a:lnTo>
                    <a:lnTo>
                      <a:pt x="1431" y="772"/>
                    </a:lnTo>
                    <a:lnTo>
                      <a:pt x="1354" y="770"/>
                    </a:lnTo>
                    <a:lnTo>
                      <a:pt x="1278" y="768"/>
                    </a:lnTo>
                    <a:lnTo>
                      <a:pt x="1204" y="764"/>
                    </a:lnTo>
                    <a:lnTo>
                      <a:pt x="1132" y="760"/>
                    </a:lnTo>
                    <a:lnTo>
                      <a:pt x="1060" y="755"/>
                    </a:lnTo>
                    <a:lnTo>
                      <a:pt x="989" y="749"/>
                    </a:lnTo>
                    <a:lnTo>
                      <a:pt x="921" y="741"/>
                    </a:lnTo>
                    <a:lnTo>
                      <a:pt x="854" y="734"/>
                    </a:lnTo>
                    <a:lnTo>
                      <a:pt x="789" y="725"/>
                    </a:lnTo>
                    <a:lnTo>
                      <a:pt x="726" y="716"/>
                    </a:lnTo>
                    <a:lnTo>
                      <a:pt x="664" y="705"/>
                    </a:lnTo>
                    <a:lnTo>
                      <a:pt x="606" y="695"/>
                    </a:lnTo>
                    <a:lnTo>
                      <a:pt x="548" y="683"/>
                    </a:lnTo>
                    <a:lnTo>
                      <a:pt x="493" y="670"/>
                    </a:lnTo>
                    <a:lnTo>
                      <a:pt x="441" y="657"/>
                    </a:lnTo>
                    <a:lnTo>
                      <a:pt x="391" y="643"/>
                    </a:lnTo>
                    <a:lnTo>
                      <a:pt x="344" y="629"/>
                    </a:lnTo>
                    <a:lnTo>
                      <a:pt x="300" y="614"/>
                    </a:lnTo>
                    <a:lnTo>
                      <a:pt x="257" y="599"/>
                    </a:lnTo>
                    <a:lnTo>
                      <a:pt x="218" y="583"/>
                    </a:lnTo>
                    <a:lnTo>
                      <a:pt x="181" y="566"/>
                    </a:lnTo>
                    <a:lnTo>
                      <a:pt x="148" y="549"/>
                    </a:lnTo>
                    <a:lnTo>
                      <a:pt x="118" y="531"/>
                    </a:lnTo>
                    <a:lnTo>
                      <a:pt x="91" y="514"/>
                    </a:lnTo>
                    <a:lnTo>
                      <a:pt x="67" y="495"/>
                    </a:lnTo>
                    <a:lnTo>
                      <a:pt x="47" y="477"/>
                    </a:lnTo>
                    <a:lnTo>
                      <a:pt x="30" y="457"/>
                    </a:lnTo>
                    <a:lnTo>
                      <a:pt x="17" y="438"/>
                    </a:lnTo>
                    <a:lnTo>
                      <a:pt x="7" y="418"/>
                    </a:lnTo>
                    <a:lnTo>
                      <a:pt x="2" y="398"/>
                    </a:lnTo>
                    <a:lnTo>
                      <a:pt x="0" y="378"/>
                    </a:lnTo>
                    <a:lnTo>
                      <a:pt x="2" y="357"/>
                    </a:lnTo>
                    <a:lnTo>
                      <a:pt x="7" y="337"/>
                    </a:lnTo>
                    <a:lnTo>
                      <a:pt x="17" y="318"/>
                    </a:lnTo>
                    <a:lnTo>
                      <a:pt x="30" y="299"/>
                    </a:lnTo>
                    <a:lnTo>
                      <a:pt x="47" y="280"/>
                    </a:lnTo>
                    <a:lnTo>
                      <a:pt x="67" y="262"/>
                    </a:lnTo>
                    <a:lnTo>
                      <a:pt x="91" y="244"/>
                    </a:lnTo>
                    <a:lnTo>
                      <a:pt x="118" y="227"/>
                    </a:lnTo>
                    <a:lnTo>
                      <a:pt x="148" y="210"/>
                    </a:lnTo>
                    <a:lnTo>
                      <a:pt x="181" y="194"/>
                    </a:lnTo>
                    <a:lnTo>
                      <a:pt x="218" y="178"/>
                    </a:lnTo>
                    <a:lnTo>
                      <a:pt x="257" y="163"/>
                    </a:lnTo>
                    <a:lnTo>
                      <a:pt x="300" y="148"/>
                    </a:lnTo>
                    <a:lnTo>
                      <a:pt x="344" y="133"/>
                    </a:lnTo>
                    <a:lnTo>
                      <a:pt x="391" y="120"/>
                    </a:lnTo>
                    <a:lnTo>
                      <a:pt x="441" y="107"/>
                    </a:lnTo>
                    <a:lnTo>
                      <a:pt x="493" y="95"/>
                    </a:lnTo>
                    <a:lnTo>
                      <a:pt x="548" y="84"/>
                    </a:lnTo>
                    <a:lnTo>
                      <a:pt x="606" y="73"/>
                    </a:lnTo>
                    <a:lnTo>
                      <a:pt x="664" y="63"/>
                    </a:lnTo>
                    <a:lnTo>
                      <a:pt x="726" y="53"/>
                    </a:lnTo>
                    <a:lnTo>
                      <a:pt x="789" y="45"/>
                    </a:lnTo>
                    <a:lnTo>
                      <a:pt x="854" y="36"/>
                    </a:lnTo>
                    <a:lnTo>
                      <a:pt x="921" y="28"/>
                    </a:lnTo>
                    <a:lnTo>
                      <a:pt x="989" y="22"/>
                    </a:lnTo>
                    <a:lnTo>
                      <a:pt x="1060" y="16"/>
                    </a:lnTo>
                    <a:lnTo>
                      <a:pt x="1132" y="12"/>
                    </a:lnTo>
                    <a:lnTo>
                      <a:pt x="1204" y="8"/>
                    </a:lnTo>
                    <a:lnTo>
                      <a:pt x="1278" y="4"/>
                    </a:lnTo>
                    <a:lnTo>
                      <a:pt x="1354" y="2"/>
                    </a:lnTo>
                    <a:lnTo>
                      <a:pt x="1431" y="1"/>
                    </a:lnTo>
                    <a:lnTo>
                      <a:pt x="1508" y="0"/>
                    </a:lnTo>
                    <a:lnTo>
                      <a:pt x="1586" y="1"/>
                    </a:lnTo>
                    <a:lnTo>
                      <a:pt x="1663" y="2"/>
                    </a:lnTo>
                    <a:lnTo>
                      <a:pt x="1739" y="4"/>
                    </a:lnTo>
                    <a:lnTo>
                      <a:pt x="1812" y="8"/>
                    </a:lnTo>
                    <a:lnTo>
                      <a:pt x="1886" y="12"/>
                    </a:lnTo>
                    <a:lnTo>
                      <a:pt x="1957" y="16"/>
                    </a:lnTo>
                    <a:lnTo>
                      <a:pt x="2028" y="22"/>
                    </a:lnTo>
                    <a:lnTo>
                      <a:pt x="2096" y="28"/>
                    </a:lnTo>
                    <a:lnTo>
                      <a:pt x="2163" y="36"/>
                    </a:lnTo>
                    <a:lnTo>
                      <a:pt x="2228" y="45"/>
                    </a:lnTo>
                    <a:lnTo>
                      <a:pt x="2291" y="53"/>
                    </a:lnTo>
                    <a:lnTo>
                      <a:pt x="2353" y="63"/>
                    </a:lnTo>
                    <a:lnTo>
                      <a:pt x="2411" y="73"/>
                    </a:lnTo>
                    <a:lnTo>
                      <a:pt x="2469" y="84"/>
                    </a:lnTo>
                    <a:lnTo>
                      <a:pt x="2523" y="95"/>
                    </a:lnTo>
                    <a:lnTo>
                      <a:pt x="2576" y="107"/>
                    </a:lnTo>
                    <a:lnTo>
                      <a:pt x="2625" y="120"/>
                    </a:lnTo>
                    <a:lnTo>
                      <a:pt x="2673" y="133"/>
                    </a:lnTo>
                    <a:lnTo>
                      <a:pt x="2718" y="148"/>
                    </a:lnTo>
                    <a:lnTo>
                      <a:pt x="2760" y="163"/>
                    </a:lnTo>
                    <a:lnTo>
                      <a:pt x="2799" y="178"/>
                    </a:lnTo>
                    <a:lnTo>
                      <a:pt x="2836" y="194"/>
                    </a:lnTo>
                    <a:lnTo>
                      <a:pt x="2869" y="210"/>
                    </a:lnTo>
                    <a:lnTo>
                      <a:pt x="2899" y="227"/>
                    </a:lnTo>
                    <a:lnTo>
                      <a:pt x="2926" y="244"/>
                    </a:lnTo>
                    <a:lnTo>
                      <a:pt x="2950" y="262"/>
                    </a:lnTo>
                    <a:lnTo>
                      <a:pt x="2970" y="280"/>
                    </a:lnTo>
                    <a:lnTo>
                      <a:pt x="2987" y="299"/>
                    </a:lnTo>
                    <a:lnTo>
                      <a:pt x="3000" y="318"/>
                    </a:lnTo>
                    <a:lnTo>
                      <a:pt x="3010" y="337"/>
                    </a:lnTo>
                    <a:lnTo>
                      <a:pt x="3016" y="357"/>
                    </a:lnTo>
                    <a:lnTo>
                      <a:pt x="3018" y="3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124360" y="6532200"/>
                <a:ext cx="332640" cy="91800"/>
              </a:xfrm>
              <a:custGeom>
                <a:avLst/>
                <a:gdLst/>
                <a:ahLst/>
                <a:rect l="l" t="t" r="r" b="b"/>
                <a:pathLst>
                  <a:path w="3015" h="770">
                    <a:moveTo>
                      <a:pt x="3015" y="377"/>
                    </a:moveTo>
                    <a:lnTo>
                      <a:pt x="3013" y="397"/>
                    </a:lnTo>
                    <a:lnTo>
                      <a:pt x="3007" y="417"/>
                    </a:lnTo>
                    <a:lnTo>
                      <a:pt x="2998" y="436"/>
                    </a:lnTo>
                    <a:lnTo>
                      <a:pt x="2985" y="456"/>
                    </a:lnTo>
                    <a:lnTo>
                      <a:pt x="2968" y="476"/>
                    </a:lnTo>
                    <a:lnTo>
                      <a:pt x="2948" y="494"/>
                    </a:lnTo>
                    <a:lnTo>
                      <a:pt x="2924" y="512"/>
                    </a:lnTo>
                    <a:lnTo>
                      <a:pt x="2897" y="530"/>
                    </a:lnTo>
                    <a:lnTo>
                      <a:pt x="2867" y="547"/>
                    </a:lnTo>
                    <a:lnTo>
                      <a:pt x="2834" y="564"/>
                    </a:lnTo>
                    <a:lnTo>
                      <a:pt x="2797" y="581"/>
                    </a:lnTo>
                    <a:lnTo>
                      <a:pt x="2758" y="597"/>
                    </a:lnTo>
                    <a:lnTo>
                      <a:pt x="2715" y="613"/>
                    </a:lnTo>
                    <a:lnTo>
                      <a:pt x="2671" y="627"/>
                    </a:lnTo>
                    <a:lnTo>
                      <a:pt x="2623" y="641"/>
                    </a:lnTo>
                    <a:lnTo>
                      <a:pt x="2574" y="655"/>
                    </a:lnTo>
                    <a:lnTo>
                      <a:pt x="2521" y="668"/>
                    </a:lnTo>
                    <a:lnTo>
                      <a:pt x="2467" y="680"/>
                    </a:lnTo>
                    <a:lnTo>
                      <a:pt x="2409" y="693"/>
                    </a:lnTo>
                    <a:lnTo>
                      <a:pt x="2351" y="704"/>
                    </a:lnTo>
                    <a:lnTo>
                      <a:pt x="2289" y="714"/>
                    </a:lnTo>
                    <a:lnTo>
                      <a:pt x="2227" y="723"/>
                    </a:lnTo>
                    <a:lnTo>
                      <a:pt x="2161" y="732"/>
                    </a:lnTo>
                    <a:lnTo>
                      <a:pt x="2094" y="740"/>
                    </a:lnTo>
                    <a:lnTo>
                      <a:pt x="2026" y="747"/>
                    </a:lnTo>
                    <a:lnTo>
                      <a:pt x="1956" y="753"/>
                    </a:lnTo>
                    <a:lnTo>
                      <a:pt x="1884" y="758"/>
                    </a:lnTo>
                    <a:lnTo>
                      <a:pt x="1811" y="762"/>
                    </a:lnTo>
                    <a:lnTo>
                      <a:pt x="1737" y="766"/>
                    </a:lnTo>
                    <a:lnTo>
                      <a:pt x="1662" y="768"/>
                    </a:lnTo>
                    <a:lnTo>
                      <a:pt x="1585" y="770"/>
                    </a:lnTo>
                    <a:lnTo>
                      <a:pt x="1507" y="770"/>
                    </a:lnTo>
                    <a:lnTo>
                      <a:pt x="1430" y="770"/>
                    </a:lnTo>
                    <a:lnTo>
                      <a:pt x="1353" y="768"/>
                    </a:lnTo>
                    <a:lnTo>
                      <a:pt x="1278" y="766"/>
                    </a:lnTo>
                    <a:lnTo>
                      <a:pt x="1203" y="762"/>
                    </a:lnTo>
                    <a:lnTo>
                      <a:pt x="1131" y="758"/>
                    </a:lnTo>
                    <a:lnTo>
                      <a:pt x="1059" y="753"/>
                    </a:lnTo>
                    <a:lnTo>
                      <a:pt x="989" y="747"/>
                    </a:lnTo>
                    <a:lnTo>
                      <a:pt x="921" y="740"/>
                    </a:lnTo>
                    <a:lnTo>
                      <a:pt x="854" y="732"/>
                    </a:lnTo>
                    <a:lnTo>
                      <a:pt x="788" y="723"/>
                    </a:lnTo>
                    <a:lnTo>
                      <a:pt x="726" y="714"/>
                    </a:lnTo>
                    <a:lnTo>
                      <a:pt x="664" y="704"/>
                    </a:lnTo>
                    <a:lnTo>
                      <a:pt x="606" y="693"/>
                    </a:lnTo>
                    <a:lnTo>
                      <a:pt x="548" y="680"/>
                    </a:lnTo>
                    <a:lnTo>
                      <a:pt x="493" y="668"/>
                    </a:lnTo>
                    <a:lnTo>
                      <a:pt x="441" y="655"/>
                    </a:lnTo>
                    <a:lnTo>
                      <a:pt x="391" y="641"/>
                    </a:lnTo>
                    <a:lnTo>
                      <a:pt x="344" y="627"/>
                    </a:lnTo>
                    <a:lnTo>
                      <a:pt x="300" y="613"/>
                    </a:lnTo>
                    <a:lnTo>
                      <a:pt x="257" y="597"/>
                    </a:lnTo>
                    <a:lnTo>
                      <a:pt x="218" y="581"/>
                    </a:lnTo>
                    <a:lnTo>
                      <a:pt x="181" y="564"/>
                    </a:lnTo>
                    <a:lnTo>
                      <a:pt x="148" y="547"/>
                    </a:lnTo>
                    <a:lnTo>
                      <a:pt x="118" y="530"/>
                    </a:lnTo>
                    <a:lnTo>
                      <a:pt x="92" y="512"/>
                    </a:lnTo>
                    <a:lnTo>
                      <a:pt x="67" y="494"/>
                    </a:lnTo>
                    <a:lnTo>
                      <a:pt x="47" y="476"/>
                    </a:lnTo>
                    <a:lnTo>
                      <a:pt x="30" y="456"/>
                    </a:lnTo>
                    <a:lnTo>
                      <a:pt x="17" y="436"/>
                    </a:lnTo>
                    <a:lnTo>
                      <a:pt x="8" y="417"/>
                    </a:lnTo>
                    <a:lnTo>
                      <a:pt x="2" y="397"/>
                    </a:lnTo>
                    <a:lnTo>
                      <a:pt x="0" y="377"/>
                    </a:lnTo>
                    <a:lnTo>
                      <a:pt x="2" y="356"/>
                    </a:lnTo>
                    <a:lnTo>
                      <a:pt x="8" y="336"/>
                    </a:lnTo>
                    <a:lnTo>
                      <a:pt x="17" y="317"/>
                    </a:lnTo>
                    <a:lnTo>
                      <a:pt x="30" y="298"/>
                    </a:lnTo>
                    <a:lnTo>
                      <a:pt x="47" y="280"/>
                    </a:lnTo>
                    <a:lnTo>
                      <a:pt x="67" y="262"/>
                    </a:lnTo>
                    <a:lnTo>
                      <a:pt x="92" y="243"/>
                    </a:lnTo>
                    <a:lnTo>
                      <a:pt x="118" y="226"/>
                    </a:lnTo>
                    <a:lnTo>
                      <a:pt x="148" y="209"/>
                    </a:lnTo>
                    <a:lnTo>
                      <a:pt x="181" y="193"/>
                    </a:lnTo>
                    <a:lnTo>
                      <a:pt x="218" y="177"/>
                    </a:lnTo>
                    <a:lnTo>
                      <a:pt x="257" y="162"/>
                    </a:lnTo>
                    <a:lnTo>
                      <a:pt x="300" y="148"/>
                    </a:lnTo>
                    <a:lnTo>
                      <a:pt x="344" y="133"/>
                    </a:lnTo>
                    <a:lnTo>
                      <a:pt x="391" y="120"/>
                    </a:lnTo>
                    <a:lnTo>
                      <a:pt x="441" y="107"/>
                    </a:lnTo>
                    <a:lnTo>
                      <a:pt x="493" y="95"/>
                    </a:lnTo>
                    <a:lnTo>
                      <a:pt x="548" y="83"/>
                    </a:lnTo>
                    <a:lnTo>
                      <a:pt x="606" y="73"/>
                    </a:lnTo>
                    <a:lnTo>
                      <a:pt x="664" y="62"/>
                    </a:lnTo>
                    <a:lnTo>
                      <a:pt x="726" y="53"/>
                    </a:lnTo>
                    <a:lnTo>
                      <a:pt x="788" y="44"/>
                    </a:lnTo>
                    <a:lnTo>
                      <a:pt x="854" y="35"/>
                    </a:lnTo>
                    <a:lnTo>
                      <a:pt x="921" y="28"/>
                    </a:lnTo>
                    <a:lnTo>
                      <a:pt x="989" y="22"/>
                    </a:lnTo>
                    <a:lnTo>
                      <a:pt x="1059" y="16"/>
                    </a:lnTo>
                    <a:lnTo>
                      <a:pt x="1131" y="11"/>
                    </a:lnTo>
                    <a:lnTo>
                      <a:pt x="1203" y="7"/>
                    </a:lnTo>
                    <a:lnTo>
                      <a:pt x="1278" y="4"/>
                    </a:lnTo>
                    <a:lnTo>
                      <a:pt x="1353" y="2"/>
                    </a:lnTo>
                    <a:lnTo>
                      <a:pt x="1430" y="1"/>
                    </a:lnTo>
                    <a:lnTo>
                      <a:pt x="1507" y="0"/>
                    </a:lnTo>
                    <a:lnTo>
                      <a:pt x="1585" y="1"/>
                    </a:lnTo>
                    <a:lnTo>
                      <a:pt x="1662" y="2"/>
                    </a:lnTo>
                    <a:lnTo>
                      <a:pt x="1737" y="4"/>
                    </a:lnTo>
                    <a:lnTo>
                      <a:pt x="1811" y="7"/>
                    </a:lnTo>
                    <a:lnTo>
                      <a:pt x="1884" y="11"/>
                    </a:lnTo>
                    <a:lnTo>
                      <a:pt x="1956" y="16"/>
                    </a:lnTo>
                    <a:lnTo>
                      <a:pt x="2026" y="22"/>
                    </a:lnTo>
                    <a:lnTo>
                      <a:pt x="2094" y="28"/>
                    </a:lnTo>
                    <a:lnTo>
                      <a:pt x="2161" y="35"/>
                    </a:lnTo>
                    <a:lnTo>
                      <a:pt x="2227" y="44"/>
                    </a:lnTo>
                    <a:lnTo>
                      <a:pt x="2289" y="53"/>
                    </a:lnTo>
                    <a:lnTo>
                      <a:pt x="2351" y="62"/>
                    </a:lnTo>
                    <a:lnTo>
                      <a:pt x="2409" y="73"/>
                    </a:lnTo>
                    <a:lnTo>
                      <a:pt x="2467" y="83"/>
                    </a:lnTo>
                    <a:lnTo>
                      <a:pt x="2521" y="95"/>
                    </a:lnTo>
                    <a:lnTo>
                      <a:pt x="2574" y="107"/>
                    </a:lnTo>
                    <a:lnTo>
                      <a:pt x="2623" y="120"/>
                    </a:lnTo>
                    <a:lnTo>
                      <a:pt x="2671" y="133"/>
                    </a:lnTo>
                    <a:lnTo>
                      <a:pt x="2715" y="148"/>
                    </a:lnTo>
                    <a:lnTo>
                      <a:pt x="2758" y="162"/>
                    </a:lnTo>
                    <a:lnTo>
                      <a:pt x="2797" y="177"/>
                    </a:lnTo>
                    <a:lnTo>
                      <a:pt x="2834" y="193"/>
                    </a:lnTo>
                    <a:lnTo>
                      <a:pt x="2867" y="209"/>
                    </a:lnTo>
                    <a:lnTo>
                      <a:pt x="2897" y="226"/>
                    </a:lnTo>
                    <a:lnTo>
                      <a:pt x="2924" y="243"/>
                    </a:lnTo>
                    <a:lnTo>
                      <a:pt x="2948" y="262"/>
                    </a:lnTo>
                    <a:lnTo>
                      <a:pt x="2968" y="280"/>
                    </a:lnTo>
                    <a:lnTo>
                      <a:pt x="2985" y="298"/>
                    </a:lnTo>
                    <a:lnTo>
                      <a:pt x="2998" y="317"/>
                    </a:lnTo>
                    <a:lnTo>
                      <a:pt x="3007" y="336"/>
                    </a:lnTo>
                    <a:lnTo>
                      <a:pt x="3013" y="356"/>
                    </a:lnTo>
                    <a:lnTo>
                      <a:pt x="3015" y="3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124360" y="6532200"/>
                <a:ext cx="332640" cy="91800"/>
              </a:xfrm>
              <a:custGeom>
                <a:avLst/>
                <a:gdLst/>
                <a:ahLst/>
                <a:rect l="l" t="t" r="r" b="b"/>
                <a:pathLst>
                  <a:path w="3013" h="768">
                    <a:moveTo>
                      <a:pt x="3013" y="376"/>
                    </a:moveTo>
                    <a:lnTo>
                      <a:pt x="3011" y="396"/>
                    </a:lnTo>
                    <a:lnTo>
                      <a:pt x="3005" y="416"/>
                    </a:lnTo>
                    <a:lnTo>
                      <a:pt x="2995" y="435"/>
                    </a:lnTo>
                    <a:lnTo>
                      <a:pt x="2982" y="455"/>
                    </a:lnTo>
                    <a:lnTo>
                      <a:pt x="2966" y="474"/>
                    </a:lnTo>
                    <a:lnTo>
                      <a:pt x="2946" y="493"/>
                    </a:lnTo>
                    <a:lnTo>
                      <a:pt x="2921" y="511"/>
                    </a:lnTo>
                    <a:lnTo>
                      <a:pt x="2894" y="529"/>
                    </a:lnTo>
                    <a:lnTo>
                      <a:pt x="2865" y="546"/>
                    </a:lnTo>
                    <a:lnTo>
                      <a:pt x="2831" y="563"/>
                    </a:lnTo>
                    <a:lnTo>
                      <a:pt x="2795" y="580"/>
                    </a:lnTo>
                    <a:lnTo>
                      <a:pt x="2756" y="596"/>
                    </a:lnTo>
                    <a:lnTo>
                      <a:pt x="2713" y="611"/>
                    </a:lnTo>
                    <a:lnTo>
                      <a:pt x="2669" y="626"/>
                    </a:lnTo>
                    <a:lnTo>
                      <a:pt x="2621" y="640"/>
                    </a:lnTo>
                    <a:lnTo>
                      <a:pt x="2572" y="653"/>
                    </a:lnTo>
                    <a:lnTo>
                      <a:pt x="2519" y="666"/>
                    </a:lnTo>
                    <a:lnTo>
                      <a:pt x="2465" y="678"/>
                    </a:lnTo>
                    <a:lnTo>
                      <a:pt x="2408" y="691"/>
                    </a:lnTo>
                    <a:lnTo>
                      <a:pt x="2349" y="702"/>
                    </a:lnTo>
                    <a:lnTo>
                      <a:pt x="2288" y="712"/>
                    </a:lnTo>
                    <a:lnTo>
                      <a:pt x="2225" y="721"/>
                    </a:lnTo>
                    <a:lnTo>
                      <a:pt x="2160" y="730"/>
                    </a:lnTo>
                    <a:lnTo>
                      <a:pt x="2093" y="738"/>
                    </a:lnTo>
                    <a:lnTo>
                      <a:pt x="2025" y="745"/>
                    </a:lnTo>
                    <a:lnTo>
                      <a:pt x="1955" y="751"/>
                    </a:lnTo>
                    <a:lnTo>
                      <a:pt x="1883" y="756"/>
                    </a:lnTo>
                    <a:lnTo>
                      <a:pt x="1810" y="760"/>
                    </a:lnTo>
                    <a:lnTo>
                      <a:pt x="1736" y="764"/>
                    </a:lnTo>
                    <a:lnTo>
                      <a:pt x="1661" y="766"/>
                    </a:lnTo>
                    <a:lnTo>
                      <a:pt x="1584" y="768"/>
                    </a:lnTo>
                    <a:lnTo>
                      <a:pt x="1506" y="768"/>
                    </a:lnTo>
                    <a:lnTo>
                      <a:pt x="1429" y="768"/>
                    </a:lnTo>
                    <a:lnTo>
                      <a:pt x="1353" y="766"/>
                    </a:lnTo>
                    <a:lnTo>
                      <a:pt x="1277" y="764"/>
                    </a:lnTo>
                    <a:lnTo>
                      <a:pt x="1202" y="760"/>
                    </a:lnTo>
                    <a:lnTo>
                      <a:pt x="1130" y="756"/>
                    </a:lnTo>
                    <a:lnTo>
                      <a:pt x="1058" y="751"/>
                    </a:lnTo>
                    <a:lnTo>
                      <a:pt x="988" y="745"/>
                    </a:lnTo>
                    <a:lnTo>
                      <a:pt x="920" y="738"/>
                    </a:lnTo>
                    <a:lnTo>
                      <a:pt x="853" y="730"/>
                    </a:lnTo>
                    <a:lnTo>
                      <a:pt x="788" y="721"/>
                    </a:lnTo>
                    <a:lnTo>
                      <a:pt x="726" y="712"/>
                    </a:lnTo>
                    <a:lnTo>
                      <a:pt x="664" y="702"/>
                    </a:lnTo>
                    <a:lnTo>
                      <a:pt x="606" y="691"/>
                    </a:lnTo>
                    <a:lnTo>
                      <a:pt x="548" y="678"/>
                    </a:lnTo>
                    <a:lnTo>
                      <a:pt x="493" y="666"/>
                    </a:lnTo>
                    <a:lnTo>
                      <a:pt x="441" y="653"/>
                    </a:lnTo>
                    <a:lnTo>
                      <a:pt x="391" y="640"/>
                    </a:lnTo>
                    <a:lnTo>
                      <a:pt x="344" y="626"/>
                    </a:lnTo>
                    <a:lnTo>
                      <a:pt x="300" y="611"/>
                    </a:lnTo>
                    <a:lnTo>
                      <a:pt x="257" y="596"/>
                    </a:lnTo>
                    <a:lnTo>
                      <a:pt x="218" y="580"/>
                    </a:lnTo>
                    <a:lnTo>
                      <a:pt x="181" y="563"/>
                    </a:lnTo>
                    <a:lnTo>
                      <a:pt x="149" y="546"/>
                    </a:lnTo>
                    <a:lnTo>
                      <a:pt x="119" y="529"/>
                    </a:lnTo>
                    <a:lnTo>
                      <a:pt x="92" y="511"/>
                    </a:lnTo>
                    <a:lnTo>
                      <a:pt x="68" y="493"/>
                    </a:lnTo>
                    <a:lnTo>
                      <a:pt x="47" y="474"/>
                    </a:lnTo>
                    <a:lnTo>
                      <a:pt x="31" y="455"/>
                    </a:lnTo>
                    <a:lnTo>
                      <a:pt x="18" y="435"/>
                    </a:lnTo>
                    <a:lnTo>
                      <a:pt x="8" y="416"/>
                    </a:lnTo>
                    <a:lnTo>
                      <a:pt x="2" y="396"/>
                    </a:lnTo>
                    <a:lnTo>
                      <a:pt x="0" y="376"/>
                    </a:lnTo>
                    <a:lnTo>
                      <a:pt x="2" y="355"/>
                    </a:lnTo>
                    <a:lnTo>
                      <a:pt x="8" y="335"/>
                    </a:lnTo>
                    <a:lnTo>
                      <a:pt x="18" y="316"/>
                    </a:lnTo>
                    <a:lnTo>
                      <a:pt x="31" y="297"/>
                    </a:lnTo>
                    <a:lnTo>
                      <a:pt x="47" y="279"/>
                    </a:lnTo>
                    <a:lnTo>
                      <a:pt x="68" y="261"/>
                    </a:lnTo>
                    <a:lnTo>
                      <a:pt x="92" y="242"/>
                    </a:lnTo>
                    <a:lnTo>
                      <a:pt x="119" y="225"/>
                    </a:lnTo>
                    <a:lnTo>
                      <a:pt x="149" y="209"/>
                    </a:lnTo>
                    <a:lnTo>
                      <a:pt x="181" y="193"/>
                    </a:lnTo>
                    <a:lnTo>
                      <a:pt x="218" y="177"/>
                    </a:lnTo>
                    <a:lnTo>
                      <a:pt x="257" y="162"/>
                    </a:lnTo>
                    <a:lnTo>
                      <a:pt x="300" y="147"/>
                    </a:lnTo>
                    <a:lnTo>
                      <a:pt x="344" y="133"/>
                    </a:lnTo>
                    <a:lnTo>
                      <a:pt x="391" y="119"/>
                    </a:lnTo>
                    <a:lnTo>
                      <a:pt x="441" y="107"/>
                    </a:lnTo>
                    <a:lnTo>
                      <a:pt x="493" y="94"/>
                    </a:lnTo>
                    <a:lnTo>
                      <a:pt x="548" y="83"/>
                    </a:lnTo>
                    <a:lnTo>
                      <a:pt x="606" y="72"/>
                    </a:lnTo>
                    <a:lnTo>
                      <a:pt x="664" y="62"/>
                    </a:lnTo>
                    <a:lnTo>
                      <a:pt x="726" y="53"/>
                    </a:lnTo>
                    <a:lnTo>
                      <a:pt x="788" y="44"/>
                    </a:lnTo>
                    <a:lnTo>
                      <a:pt x="853" y="35"/>
                    </a:lnTo>
                    <a:lnTo>
                      <a:pt x="920" y="28"/>
                    </a:lnTo>
                    <a:lnTo>
                      <a:pt x="988" y="22"/>
                    </a:lnTo>
                    <a:lnTo>
                      <a:pt x="1058" y="16"/>
                    </a:lnTo>
                    <a:lnTo>
                      <a:pt x="1130" y="11"/>
                    </a:lnTo>
                    <a:lnTo>
                      <a:pt x="1202" y="7"/>
                    </a:lnTo>
                    <a:lnTo>
                      <a:pt x="1277" y="4"/>
                    </a:lnTo>
                    <a:lnTo>
                      <a:pt x="1353" y="2"/>
                    </a:lnTo>
                    <a:lnTo>
                      <a:pt x="1429" y="1"/>
                    </a:lnTo>
                    <a:lnTo>
                      <a:pt x="1506" y="0"/>
                    </a:lnTo>
                    <a:lnTo>
                      <a:pt x="1584" y="1"/>
                    </a:lnTo>
                    <a:lnTo>
                      <a:pt x="1661" y="2"/>
                    </a:lnTo>
                    <a:lnTo>
                      <a:pt x="1736" y="4"/>
                    </a:lnTo>
                    <a:lnTo>
                      <a:pt x="1810" y="7"/>
                    </a:lnTo>
                    <a:lnTo>
                      <a:pt x="1883" y="11"/>
                    </a:lnTo>
                    <a:lnTo>
                      <a:pt x="1955" y="16"/>
                    </a:lnTo>
                    <a:lnTo>
                      <a:pt x="2025" y="22"/>
                    </a:lnTo>
                    <a:lnTo>
                      <a:pt x="2093" y="28"/>
                    </a:lnTo>
                    <a:lnTo>
                      <a:pt x="2160" y="35"/>
                    </a:lnTo>
                    <a:lnTo>
                      <a:pt x="2225" y="44"/>
                    </a:lnTo>
                    <a:lnTo>
                      <a:pt x="2288" y="53"/>
                    </a:lnTo>
                    <a:lnTo>
                      <a:pt x="2349" y="62"/>
                    </a:lnTo>
                    <a:lnTo>
                      <a:pt x="2408" y="72"/>
                    </a:lnTo>
                    <a:lnTo>
                      <a:pt x="2465" y="83"/>
                    </a:lnTo>
                    <a:lnTo>
                      <a:pt x="2519" y="94"/>
                    </a:lnTo>
                    <a:lnTo>
                      <a:pt x="2572" y="107"/>
                    </a:lnTo>
                    <a:lnTo>
                      <a:pt x="2621" y="119"/>
                    </a:lnTo>
                    <a:lnTo>
                      <a:pt x="2669" y="133"/>
                    </a:lnTo>
                    <a:lnTo>
                      <a:pt x="2713" y="147"/>
                    </a:lnTo>
                    <a:lnTo>
                      <a:pt x="2756" y="162"/>
                    </a:lnTo>
                    <a:lnTo>
                      <a:pt x="2795" y="177"/>
                    </a:lnTo>
                    <a:lnTo>
                      <a:pt x="2831" y="193"/>
                    </a:lnTo>
                    <a:lnTo>
                      <a:pt x="2865" y="209"/>
                    </a:lnTo>
                    <a:lnTo>
                      <a:pt x="2894" y="225"/>
                    </a:lnTo>
                    <a:lnTo>
                      <a:pt x="2921" y="242"/>
                    </a:lnTo>
                    <a:lnTo>
                      <a:pt x="2946" y="261"/>
                    </a:lnTo>
                    <a:lnTo>
                      <a:pt x="2966" y="279"/>
                    </a:lnTo>
                    <a:lnTo>
                      <a:pt x="2982" y="297"/>
                    </a:lnTo>
                    <a:lnTo>
                      <a:pt x="2995" y="316"/>
                    </a:lnTo>
                    <a:lnTo>
                      <a:pt x="3005" y="335"/>
                    </a:lnTo>
                    <a:lnTo>
                      <a:pt x="3011" y="355"/>
                    </a:lnTo>
                    <a:lnTo>
                      <a:pt x="3013" y="3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124360" y="6532200"/>
                <a:ext cx="332640" cy="91800"/>
              </a:xfrm>
              <a:custGeom>
                <a:avLst/>
                <a:gdLst/>
                <a:ahLst/>
                <a:rect l="l" t="t" r="r" b="b"/>
                <a:pathLst>
                  <a:path w="3009" h="766">
                    <a:moveTo>
                      <a:pt x="3009" y="375"/>
                    </a:moveTo>
                    <a:lnTo>
                      <a:pt x="3007" y="395"/>
                    </a:lnTo>
                    <a:lnTo>
                      <a:pt x="3002" y="415"/>
                    </a:lnTo>
                    <a:lnTo>
                      <a:pt x="2992" y="434"/>
                    </a:lnTo>
                    <a:lnTo>
                      <a:pt x="2979" y="453"/>
                    </a:lnTo>
                    <a:lnTo>
                      <a:pt x="2962" y="473"/>
                    </a:lnTo>
                    <a:lnTo>
                      <a:pt x="2942" y="492"/>
                    </a:lnTo>
                    <a:lnTo>
                      <a:pt x="2918" y="510"/>
                    </a:lnTo>
                    <a:lnTo>
                      <a:pt x="2891" y="527"/>
                    </a:lnTo>
                    <a:lnTo>
                      <a:pt x="2861" y="544"/>
                    </a:lnTo>
                    <a:lnTo>
                      <a:pt x="2827" y="561"/>
                    </a:lnTo>
                    <a:lnTo>
                      <a:pt x="2792" y="578"/>
                    </a:lnTo>
                    <a:lnTo>
                      <a:pt x="2753" y="594"/>
                    </a:lnTo>
                    <a:lnTo>
                      <a:pt x="2710" y="609"/>
                    </a:lnTo>
                    <a:lnTo>
                      <a:pt x="2666" y="624"/>
                    </a:lnTo>
                    <a:lnTo>
                      <a:pt x="2618" y="638"/>
                    </a:lnTo>
                    <a:lnTo>
                      <a:pt x="2569" y="652"/>
                    </a:lnTo>
                    <a:lnTo>
                      <a:pt x="2516" y="665"/>
                    </a:lnTo>
                    <a:lnTo>
                      <a:pt x="2462" y="677"/>
                    </a:lnTo>
                    <a:lnTo>
                      <a:pt x="2405" y="689"/>
                    </a:lnTo>
                    <a:lnTo>
                      <a:pt x="2346" y="700"/>
                    </a:lnTo>
                    <a:lnTo>
                      <a:pt x="2285" y="710"/>
                    </a:lnTo>
                    <a:lnTo>
                      <a:pt x="2222" y="720"/>
                    </a:lnTo>
                    <a:lnTo>
                      <a:pt x="2157" y="728"/>
                    </a:lnTo>
                    <a:lnTo>
                      <a:pt x="2090" y="736"/>
                    </a:lnTo>
                    <a:lnTo>
                      <a:pt x="2022" y="743"/>
                    </a:lnTo>
                    <a:lnTo>
                      <a:pt x="1952" y="749"/>
                    </a:lnTo>
                    <a:lnTo>
                      <a:pt x="1880" y="754"/>
                    </a:lnTo>
                    <a:lnTo>
                      <a:pt x="1807" y="759"/>
                    </a:lnTo>
                    <a:lnTo>
                      <a:pt x="1734" y="762"/>
                    </a:lnTo>
                    <a:lnTo>
                      <a:pt x="1658" y="764"/>
                    </a:lnTo>
                    <a:lnTo>
                      <a:pt x="1582" y="766"/>
                    </a:lnTo>
                    <a:lnTo>
                      <a:pt x="1504" y="766"/>
                    </a:lnTo>
                    <a:lnTo>
                      <a:pt x="1427" y="766"/>
                    </a:lnTo>
                    <a:lnTo>
                      <a:pt x="1351" y="764"/>
                    </a:lnTo>
                    <a:lnTo>
                      <a:pt x="1275" y="762"/>
                    </a:lnTo>
                    <a:lnTo>
                      <a:pt x="1201" y="759"/>
                    </a:lnTo>
                    <a:lnTo>
                      <a:pt x="1129" y="754"/>
                    </a:lnTo>
                    <a:lnTo>
                      <a:pt x="1057" y="749"/>
                    </a:lnTo>
                    <a:lnTo>
                      <a:pt x="987" y="743"/>
                    </a:lnTo>
                    <a:lnTo>
                      <a:pt x="919" y="736"/>
                    </a:lnTo>
                    <a:lnTo>
                      <a:pt x="852" y="728"/>
                    </a:lnTo>
                    <a:lnTo>
                      <a:pt x="787" y="720"/>
                    </a:lnTo>
                    <a:lnTo>
                      <a:pt x="724" y="710"/>
                    </a:lnTo>
                    <a:lnTo>
                      <a:pt x="663" y="700"/>
                    </a:lnTo>
                    <a:lnTo>
                      <a:pt x="604" y="689"/>
                    </a:lnTo>
                    <a:lnTo>
                      <a:pt x="547" y="677"/>
                    </a:lnTo>
                    <a:lnTo>
                      <a:pt x="493" y="665"/>
                    </a:lnTo>
                    <a:lnTo>
                      <a:pt x="440" y="652"/>
                    </a:lnTo>
                    <a:lnTo>
                      <a:pt x="390" y="638"/>
                    </a:lnTo>
                    <a:lnTo>
                      <a:pt x="343" y="624"/>
                    </a:lnTo>
                    <a:lnTo>
                      <a:pt x="299" y="609"/>
                    </a:lnTo>
                    <a:lnTo>
                      <a:pt x="256" y="594"/>
                    </a:lnTo>
                    <a:lnTo>
                      <a:pt x="218" y="578"/>
                    </a:lnTo>
                    <a:lnTo>
                      <a:pt x="181" y="561"/>
                    </a:lnTo>
                    <a:lnTo>
                      <a:pt x="148" y="544"/>
                    </a:lnTo>
                    <a:lnTo>
                      <a:pt x="118" y="527"/>
                    </a:lnTo>
                    <a:lnTo>
                      <a:pt x="91" y="510"/>
                    </a:lnTo>
                    <a:lnTo>
                      <a:pt x="67" y="492"/>
                    </a:lnTo>
                    <a:lnTo>
                      <a:pt x="47" y="473"/>
                    </a:lnTo>
                    <a:lnTo>
                      <a:pt x="30" y="453"/>
                    </a:lnTo>
                    <a:lnTo>
                      <a:pt x="17" y="434"/>
                    </a:lnTo>
                    <a:lnTo>
                      <a:pt x="8" y="415"/>
                    </a:lnTo>
                    <a:lnTo>
                      <a:pt x="2" y="395"/>
                    </a:lnTo>
                    <a:lnTo>
                      <a:pt x="0" y="375"/>
                    </a:lnTo>
                    <a:lnTo>
                      <a:pt x="2" y="354"/>
                    </a:lnTo>
                    <a:lnTo>
                      <a:pt x="8" y="335"/>
                    </a:lnTo>
                    <a:lnTo>
                      <a:pt x="17" y="315"/>
                    </a:lnTo>
                    <a:lnTo>
                      <a:pt x="30" y="297"/>
                    </a:lnTo>
                    <a:lnTo>
                      <a:pt x="47" y="278"/>
                    </a:lnTo>
                    <a:lnTo>
                      <a:pt x="67" y="260"/>
                    </a:lnTo>
                    <a:lnTo>
                      <a:pt x="91" y="242"/>
                    </a:lnTo>
                    <a:lnTo>
                      <a:pt x="118" y="225"/>
                    </a:lnTo>
                    <a:lnTo>
                      <a:pt x="148" y="208"/>
                    </a:lnTo>
                    <a:lnTo>
                      <a:pt x="181" y="192"/>
                    </a:lnTo>
                    <a:lnTo>
                      <a:pt x="218" y="176"/>
                    </a:lnTo>
                    <a:lnTo>
                      <a:pt x="256" y="161"/>
                    </a:lnTo>
                    <a:lnTo>
                      <a:pt x="299" y="147"/>
                    </a:lnTo>
                    <a:lnTo>
                      <a:pt x="343" y="132"/>
                    </a:lnTo>
                    <a:lnTo>
                      <a:pt x="390" y="119"/>
                    </a:lnTo>
                    <a:lnTo>
                      <a:pt x="440" y="106"/>
                    </a:lnTo>
                    <a:lnTo>
                      <a:pt x="493" y="94"/>
                    </a:lnTo>
                    <a:lnTo>
                      <a:pt x="547" y="83"/>
                    </a:lnTo>
                    <a:lnTo>
                      <a:pt x="604" y="72"/>
                    </a:lnTo>
                    <a:lnTo>
                      <a:pt x="663" y="62"/>
                    </a:lnTo>
                    <a:lnTo>
                      <a:pt x="724" y="53"/>
                    </a:lnTo>
                    <a:lnTo>
                      <a:pt x="787" y="44"/>
                    </a:lnTo>
                    <a:lnTo>
                      <a:pt x="852" y="35"/>
                    </a:lnTo>
                    <a:lnTo>
                      <a:pt x="919" y="28"/>
                    </a:lnTo>
                    <a:lnTo>
                      <a:pt x="987" y="22"/>
                    </a:lnTo>
                    <a:lnTo>
                      <a:pt x="1057" y="16"/>
                    </a:lnTo>
                    <a:lnTo>
                      <a:pt x="1129" y="11"/>
                    </a:lnTo>
                    <a:lnTo>
                      <a:pt x="1201" y="7"/>
                    </a:lnTo>
                    <a:lnTo>
                      <a:pt x="1275" y="4"/>
                    </a:lnTo>
                    <a:lnTo>
                      <a:pt x="1351" y="2"/>
                    </a:lnTo>
                    <a:lnTo>
                      <a:pt x="1427" y="1"/>
                    </a:lnTo>
                    <a:lnTo>
                      <a:pt x="1504" y="0"/>
                    </a:lnTo>
                    <a:lnTo>
                      <a:pt x="1582" y="1"/>
                    </a:lnTo>
                    <a:lnTo>
                      <a:pt x="1658" y="2"/>
                    </a:lnTo>
                    <a:lnTo>
                      <a:pt x="1734" y="4"/>
                    </a:lnTo>
                    <a:lnTo>
                      <a:pt x="1807" y="7"/>
                    </a:lnTo>
                    <a:lnTo>
                      <a:pt x="1880" y="11"/>
                    </a:lnTo>
                    <a:lnTo>
                      <a:pt x="1952" y="16"/>
                    </a:lnTo>
                    <a:lnTo>
                      <a:pt x="2022" y="22"/>
                    </a:lnTo>
                    <a:lnTo>
                      <a:pt x="2090" y="28"/>
                    </a:lnTo>
                    <a:lnTo>
                      <a:pt x="2157" y="35"/>
                    </a:lnTo>
                    <a:lnTo>
                      <a:pt x="2222" y="44"/>
                    </a:lnTo>
                    <a:lnTo>
                      <a:pt x="2285" y="53"/>
                    </a:lnTo>
                    <a:lnTo>
                      <a:pt x="2346" y="62"/>
                    </a:lnTo>
                    <a:lnTo>
                      <a:pt x="2405" y="72"/>
                    </a:lnTo>
                    <a:lnTo>
                      <a:pt x="2462" y="83"/>
                    </a:lnTo>
                    <a:lnTo>
                      <a:pt x="2516" y="94"/>
                    </a:lnTo>
                    <a:lnTo>
                      <a:pt x="2569" y="106"/>
                    </a:lnTo>
                    <a:lnTo>
                      <a:pt x="2618" y="119"/>
                    </a:lnTo>
                    <a:lnTo>
                      <a:pt x="2666" y="132"/>
                    </a:lnTo>
                    <a:lnTo>
                      <a:pt x="2710" y="147"/>
                    </a:lnTo>
                    <a:lnTo>
                      <a:pt x="2753" y="161"/>
                    </a:lnTo>
                    <a:lnTo>
                      <a:pt x="2792" y="176"/>
                    </a:lnTo>
                    <a:lnTo>
                      <a:pt x="2827" y="192"/>
                    </a:lnTo>
                    <a:lnTo>
                      <a:pt x="2861" y="208"/>
                    </a:lnTo>
                    <a:lnTo>
                      <a:pt x="2891" y="225"/>
                    </a:lnTo>
                    <a:lnTo>
                      <a:pt x="2918" y="242"/>
                    </a:lnTo>
                    <a:lnTo>
                      <a:pt x="2942" y="260"/>
                    </a:lnTo>
                    <a:lnTo>
                      <a:pt x="2962" y="278"/>
                    </a:lnTo>
                    <a:lnTo>
                      <a:pt x="2979" y="297"/>
                    </a:lnTo>
                    <a:lnTo>
                      <a:pt x="2992" y="315"/>
                    </a:lnTo>
                    <a:lnTo>
                      <a:pt x="3002" y="335"/>
                    </a:lnTo>
                    <a:lnTo>
                      <a:pt x="3007" y="354"/>
                    </a:lnTo>
                    <a:lnTo>
                      <a:pt x="3009" y="3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124360" y="6532200"/>
                <a:ext cx="332640" cy="91800"/>
              </a:xfrm>
              <a:custGeom>
                <a:avLst/>
                <a:gdLst/>
                <a:ahLst/>
                <a:rect l="l" t="t" r="r" b="b"/>
                <a:pathLst>
                  <a:path w="3007" h="765">
                    <a:moveTo>
                      <a:pt x="3007" y="374"/>
                    </a:moveTo>
                    <a:lnTo>
                      <a:pt x="3005" y="394"/>
                    </a:lnTo>
                    <a:lnTo>
                      <a:pt x="2999" y="414"/>
                    </a:lnTo>
                    <a:lnTo>
                      <a:pt x="2990" y="433"/>
                    </a:lnTo>
                    <a:lnTo>
                      <a:pt x="2977" y="452"/>
                    </a:lnTo>
                    <a:lnTo>
                      <a:pt x="2960" y="472"/>
                    </a:lnTo>
                    <a:lnTo>
                      <a:pt x="2940" y="490"/>
                    </a:lnTo>
                    <a:lnTo>
                      <a:pt x="2915" y="508"/>
                    </a:lnTo>
                    <a:lnTo>
                      <a:pt x="2889" y="526"/>
                    </a:lnTo>
                    <a:lnTo>
                      <a:pt x="2859" y="543"/>
                    </a:lnTo>
                    <a:lnTo>
                      <a:pt x="2825" y="560"/>
                    </a:lnTo>
                    <a:lnTo>
                      <a:pt x="2789" y="577"/>
                    </a:lnTo>
                    <a:lnTo>
                      <a:pt x="2751" y="593"/>
                    </a:lnTo>
                    <a:lnTo>
                      <a:pt x="2708" y="608"/>
                    </a:lnTo>
                    <a:lnTo>
                      <a:pt x="2664" y="623"/>
                    </a:lnTo>
                    <a:lnTo>
                      <a:pt x="2616" y="637"/>
                    </a:lnTo>
                    <a:lnTo>
                      <a:pt x="2567" y="650"/>
                    </a:lnTo>
                    <a:lnTo>
                      <a:pt x="2514" y="663"/>
                    </a:lnTo>
                    <a:lnTo>
                      <a:pt x="2460" y="675"/>
                    </a:lnTo>
                    <a:lnTo>
                      <a:pt x="2403" y="688"/>
                    </a:lnTo>
                    <a:lnTo>
                      <a:pt x="2344" y="698"/>
                    </a:lnTo>
                    <a:lnTo>
                      <a:pt x="2283" y="708"/>
                    </a:lnTo>
                    <a:lnTo>
                      <a:pt x="2221" y="718"/>
                    </a:lnTo>
                    <a:lnTo>
                      <a:pt x="2156" y="726"/>
                    </a:lnTo>
                    <a:lnTo>
                      <a:pt x="2089" y="734"/>
                    </a:lnTo>
                    <a:lnTo>
                      <a:pt x="2021" y="741"/>
                    </a:lnTo>
                    <a:lnTo>
                      <a:pt x="1951" y="747"/>
                    </a:lnTo>
                    <a:lnTo>
                      <a:pt x="1879" y="752"/>
                    </a:lnTo>
                    <a:lnTo>
                      <a:pt x="1806" y="757"/>
                    </a:lnTo>
                    <a:lnTo>
                      <a:pt x="1733" y="760"/>
                    </a:lnTo>
                    <a:lnTo>
                      <a:pt x="1657" y="763"/>
                    </a:lnTo>
                    <a:lnTo>
                      <a:pt x="1581" y="764"/>
                    </a:lnTo>
                    <a:lnTo>
                      <a:pt x="1503" y="765"/>
                    </a:lnTo>
                    <a:lnTo>
                      <a:pt x="1426" y="764"/>
                    </a:lnTo>
                    <a:lnTo>
                      <a:pt x="1350" y="763"/>
                    </a:lnTo>
                    <a:lnTo>
                      <a:pt x="1274" y="760"/>
                    </a:lnTo>
                    <a:lnTo>
                      <a:pt x="1200" y="757"/>
                    </a:lnTo>
                    <a:lnTo>
                      <a:pt x="1128" y="752"/>
                    </a:lnTo>
                    <a:lnTo>
                      <a:pt x="1056" y="747"/>
                    </a:lnTo>
                    <a:lnTo>
                      <a:pt x="986" y="741"/>
                    </a:lnTo>
                    <a:lnTo>
                      <a:pt x="919" y="734"/>
                    </a:lnTo>
                    <a:lnTo>
                      <a:pt x="852" y="726"/>
                    </a:lnTo>
                    <a:lnTo>
                      <a:pt x="786" y="718"/>
                    </a:lnTo>
                    <a:lnTo>
                      <a:pt x="724" y="708"/>
                    </a:lnTo>
                    <a:lnTo>
                      <a:pt x="663" y="698"/>
                    </a:lnTo>
                    <a:lnTo>
                      <a:pt x="604" y="688"/>
                    </a:lnTo>
                    <a:lnTo>
                      <a:pt x="547" y="675"/>
                    </a:lnTo>
                    <a:lnTo>
                      <a:pt x="493" y="663"/>
                    </a:lnTo>
                    <a:lnTo>
                      <a:pt x="440" y="650"/>
                    </a:lnTo>
                    <a:lnTo>
                      <a:pt x="391" y="637"/>
                    </a:lnTo>
                    <a:lnTo>
                      <a:pt x="343" y="623"/>
                    </a:lnTo>
                    <a:lnTo>
                      <a:pt x="299" y="608"/>
                    </a:lnTo>
                    <a:lnTo>
                      <a:pt x="257" y="593"/>
                    </a:lnTo>
                    <a:lnTo>
                      <a:pt x="218" y="577"/>
                    </a:lnTo>
                    <a:lnTo>
                      <a:pt x="181" y="560"/>
                    </a:lnTo>
                    <a:lnTo>
                      <a:pt x="148" y="543"/>
                    </a:lnTo>
                    <a:lnTo>
                      <a:pt x="118" y="526"/>
                    </a:lnTo>
                    <a:lnTo>
                      <a:pt x="92" y="508"/>
                    </a:lnTo>
                    <a:lnTo>
                      <a:pt x="67" y="490"/>
                    </a:lnTo>
                    <a:lnTo>
                      <a:pt x="47" y="472"/>
                    </a:lnTo>
                    <a:lnTo>
                      <a:pt x="31" y="452"/>
                    </a:lnTo>
                    <a:lnTo>
                      <a:pt x="17" y="433"/>
                    </a:lnTo>
                    <a:lnTo>
                      <a:pt x="8" y="414"/>
                    </a:lnTo>
                    <a:lnTo>
                      <a:pt x="2" y="394"/>
                    </a:lnTo>
                    <a:lnTo>
                      <a:pt x="0" y="374"/>
                    </a:lnTo>
                    <a:lnTo>
                      <a:pt x="2" y="353"/>
                    </a:lnTo>
                    <a:lnTo>
                      <a:pt x="8" y="334"/>
                    </a:lnTo>
                    <a:lnTo>
                      <a:pt x="17" y="315"/>
                    </a:lnTo>
                    <a:lnTo>
                      <a:pt x="31" y="296"/>
                    </a:lnTo>
                    <a:lnTo>
                      <a:pt x="47" y="277"/>
                    </a:lnTo>
                    <a:lnTo>
                      <a:pt x="67" y="259"/>
                    </a:lnTo>
                    <a:lnTo>
                      <a:pt x="92" y="241"/>
                    </a:lnTo>
                    <a:lnTo>
                      <a:pt x="118" y="224"/>
                    </a:lnTo>
                    <a:lnTo>
                      <a:pt x="148" y="207"/>
                    </a:lnTo>
                    <a:lnTo>
                      <a:pt x="181" y="191"/>
                    </a:lnTo>
                    <a:lnTo>
                      <a:pt x="218" y="176"/>
                    </a:lnTo>
                    <a:lnTo>
                      <a:pt x="257" y="161"/>
                    </a:lnTo>
                    <a:lnTo>
                      <a:pt x="299" y="147"/>
                    </a:lnTo>
                    <a:lnTo>
                      <a:pt x="343" y="132"/>
                    </a:lnTo>
                    <a:lnTo>
                      <a:pt x="391" y="118"/>
                    </a:lnTo>
                    <a:lnTo>
                      <a:pt x="440" y="106"/>
                    </a:lnTo>
                    <a:lnTo>
                      <a:pt x="493" y="94"/>
                    </a:lnTo>
                    <a:lnTo>
                      <a:pt x="547" y="82"/>
                    </a:lnTo>
                    <a:lnTo>
                      <a:pt x="604" y="72"/>
                    </a:lnTo>
                    <a:lnTo>
                      <a:pt x="663" y="62"/>
                    </a:lnTo>
                    <a:lnTo>
                      <a:pt x="724" y="52"/>
                    </a:lnTo>
                    <a:lnTo>
                      <a:pt x="786" y="44"/>
                    </a:lnTo>
                    <a:lnTo>
                      <a:pt x="852" y="35"/>
                    </a:lnTo>
                    <a:lnTo>
                      <a:pt x="919" y="28"/>
                    </a:lnTo>
                    <a:lnTo>
                      <a:pt x="986" y="21"/>
                    </a:lnTo>
                    <a:lnTo>
                      <a:pt x="1056" y="16"/>
                    </a:lnTo>
                    <a:lnTo>
                      <a:pt x="1128" y="11"/>
                    </a:lnTo>
                    <a:lnTo>
                      <a:pt x="1200" y="7"/>
                    </a:lnTo>
                    <a:lnTo>
                      <a:pt x="1274" y="4"/>
                    </a:lnTo>
                    <a:lnTo>
                      <a:pt x="1350" y="2"/>
                    </a:lnTo>
                    <a:lnTo>
                      <a:pt x="1426" y="1"/>
                    </a:lnTo>
                    <a:lnTo>
                      <a:pt x="1503" y="0"/>
                    </a:lnTo>
                    <a:lnTo>
                      <a:pt x="1581" y="1"/>
                    </a:lnTo>
                    <a:lnTo>
                      <a:pt x="1657" y="2"/>
                    </a:lnTo>
                    <a:lnTo>
                      <a:pt x="1733" y="4"/>
                    </a:lnTo>
                    <a:lnTo>
                      <a:pt x="1806" y="7"/>
                    </a:lnTo>
                    <a:lnTo>
                      <a:pt x="1879" y="11"/>
                    </a:lnTo>
                    <a:lnTo>
                      <a:pt x="1951" y="16"/>
                    </a:lnTo>
                    <a:lnTo>
                      <a:pt x="2021" y="21"/>
                    </a:lnTo>
                    <a:lnTo>
                      <a:pt x="2089" y="28"/>
                    </a:lnTo>
                    <a:lnTo>
                      <a:pt x="2156" y="35"/>
                    </a:lnTo>
                    <a:lnTo>
                      <a:pt x="2221" y="44"/>
                    </a:lnTo>
                    <a:lnTo>
                      <a:pt x="2283" y="52"/>
                    </a:lnTo>
                    <a:lnTo>
                      <a:pt x="2344" y="62"/>
                    </a:lnTo>
                    <a:lnTo>
                      <a:pt x="2403" y="72"/>
                    </a:lnTo>
                    <a:lnTo>
                      <a:pt x="2460" y="82"/>
                    </a:lnTo>
                    <a:lnTo>
                      <a:pt x="2514" y="94"/>
                    </a:lnTo>
                    <a:lnTo>
                      <a:pt x="2567" y="106"/>
                    </a:lnTo>
                    <a:lnTo>
                      <a:pt x="2616" y="118"/>
                    </a:lnTo>
                    <a:lnTo>
                      <a:pt x="2664" y="132"/>
                    </a:lnTo>
                    <a:lnTo>
                      <a:pt x="2708" y="147"/>
                    </a:lnTo>
                    <a:lnTo>
                      <a:pt x="2751" y="161"/>
                    </a:lnTo>
                    <a:lnTo>
                      <a:pt x="2789" y="176"/>
                    </a:lnTo>
                    <a:lnTo>
                      <a:pt x="2825" y="191"/>
                    </a:lnTo>
                    <a:lnTo>
                      <a:pt x="2859" y="207"/>
                    </a:lnTo>
                    <a:lnTo>
                      <a:pt x="2889" y="224"/>
                    </a:lnTo>
                    <a:lnTo>
                      <a:pt x="2915" y="241"/>
                    </a:lnTo>
                    <a:lnTo>
                      <a:pt x="2940" y="259"/>
                    </a:lnTo>
                    <a:lnTo>
                      <a:pt x="2960" y="277"/>
                    </a:lnTo>
                    <a:lnTo>
                      <a:pt x="2977" y="296"/>
                    </a:lnTo>
                    <a:lnTo>
                      <a:pt x="2990" y="315"/>
                    </a:lnTo>
                    <a:lnTo>
                      <a:pt x="2999" y="334"/>
                    </a:lnTo>
                    <a:lnTo>
                      <a:pt x="3005" y="353"/>
                    </a:lnTo>
                    <a:lnTo>
                      <a:pt x="3007" y="3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4" name=""/>
            <p:cNvSpPr/>
            <p:nvPr/>
          </p:nvSpPr>
          <p:spPr>
            <a:xfrm>
              <a:off x="2124360" y="6532200"/>
              <a:ext cx="331560" cy="91800"/>
            </a:xfrm>
            <a:custGeom>
              <a:avLst/>
              <a:gdLst/>
              <a:ahLst/>
              <a:rect l="l" t="t" r="r" b="b"/>
              <a:pathLst>
                <a:path w="3003" h="763">
                  <a:moveTo>
                    <a:pt x="3003" y="373"/>
                  </a:moveTo>
                  <a:lnTo>
                    <a:pt x="3001" y="393"/>
                  </a:lnTo>
                  <a:lnTo>
                    <a:pt x="2996" y="413"/>
                  </a:lnTo>
                  <a:lnTo>
                    <a:pt x="2986" y="432"/>
                  </a:lnTo>
                  <a:lnTo>
                    <a:pt x="2973" y="451"/>
                  </a:lnTo>
                  <a:lnTo>
                    <a:pt x="2957" y="471"/>
                  </a:lnTo>
                  <a:lnTo>
                    <a:pt x="2937" y="489"/>
                  </a:lnTo>
                  <a:lnTo>
                    <a:pt x="2912" y="507"/>
                  </a:lnTo>
                  <a:lnTo>
                    <a:pt x="2886" y="525"/>
                  </a:lnTo>
                  <a:lnTo>
                    <a:pt x="2856" y="542"/>
                  </a:lnTo>
                  <a:lnTo>
                    <a:pt x="2822" y="558"/>
                  </a:lnTo>
                  <a:lnTo>
                    <a:pt x="2786" y="576"/>
                  </a:lnTo>
                  <a:lnTo>
                    <a:pt x="2747" y="591"/>
                  </a:lnTo>
                  <a:lnTo>
                    <a:pt x="2705" y="606"/>
                  </a:lnTo>
                  <a:lnTo>
                    <a:pt x="2661" y="621"/>
                  </a:lnTo>
                  <a:lnTo>
                    <a:pt x="2613" y="635"/>
                  </a:lnTo>
                  <a:lnTo>
                    <a:pt x="2564" y="648"/>
                  </a:lnTo>
                  <a:lnTo>
                    <a:pt x="2511" y="661"/>
                  </a:lnTo>
                  <a:lnTo>
                    <a:pt x="2457" y="673"/>
                  </a:lnTo>
                  <a:lnTo>
                    <a:pt x="2400" y="686"/>
                  </a:lnTo>
                  <a:lnTo>
                    <a:pt x="2342" y="697"/>
                  </a:lnTo>
                  <a:lnTo>
                    <a:pt x="2280" y="707"/>
                  </a:lnTo>
                  <a:lnTo>
                    <a:pt x="2218" y="716"/>
                  </a:lnTo>
                  <a:lnTo>
                    <a:pt x="2153" y="725"/>
                  </a:lnTo>
                  <a:lnTo>
                    <a:pt x="2086" y="732"/>
                  </a:lnTo>
                  <a:lnTo>
                    <a:pt x="2018" y="739"/>
                  </a:lnTo>
                  <a:lnTo>
                    <a:pt x="1948" y="745"/>
                  </a:lnTo>
                  <a:lnTo>
                    <a:pt x="1877" y="750"/>
                  </a:lnTo>
                  <a:lnTo>
                    <a:pt x="1804" y="755"/>
                  </a:lnTo>
                  <a:lnTo>
                    <a:pt x="1731" y="758"/>
                  </a:lnTo>
                  <a:lnTo>
                    <a:pt x="1655" y="761"/>
                  </a:lnTo>
                  <a:lnTo>
                    <a:pt x="1579" y="762"/>
                  </a:lnTo>
                  <a:lnTo>
                    <a:pt x="1501" y="763"/>
                  </a:lnTo>
                  <a:lnTo>
                    <a:pt x="1425" y="762"/>
                  </a:lnTo>
                  <a:lnTo>
                    <a:pt x="1348" y="761"/>
                  </a:lnTo>
                  <a:lnTo>
                    <a:pt x="1273" y="758"/>
                  </a:lnTo>
                  <a:lnTo>
                    <a:pt x="1198" y="755"/>
                  </a:lnTo>
                  <a:lnTo>
                    <a:pt x="1126" y="750"/>
                  </a:lnTo>
                  <a:lnTo>
                    <a:pt x="1055" y="745"/>
                  </a:lnTo>
                  <a:lnTo>
                    <a:pt x="985" y="739"/>
                  </a:lnTo>
                  <a:lnTo>
                    <a:pt x="917" y="732"/>
                  </a:lnTo>
                  <a:lnTo>
                    <a:pt x="850" y="725"/>
                  </a:lnTo>
                  <a:lnTo>
                    <a:pt x="785" y="716"/>
                  </a:lnTo>
                  <a:lnTo>
                    <a:pt x="723" y="707"/>
                  </a:lnTo>
                  <a:lnTo>
                    <a:pt x="661" y="697"/>
                  </a:lnTo>
                  <a:lnTo>
                    <a:pt x="603" y="686"/>
                  </a:lnTo>
                  <a:lnTo>
                    <a:pt x="546" y="673"/>
                  </a:lnTo>
                  <a:lnTo>
                    <a:pt x="492" y="661"/>
                  </a:lnTo>
                  <a:lnTo>
                    <a:pt x="439" y="648"/>
                  </a:lnTo>
                  <a:lnTo>
                    <a:pt x="390" y="635"/>
                  </a:lnTo>
                  <a:lnTo>
                    <a:pt x="342" y="621"/>
                  </a:lnTo>
                  <a:lnTo>
                    <a:pt x="298" y="606"/>
                  </a:lnTo>
                  <a:lnTo>
                    <a:pt x="256" y="591"/>
                  </a:lnTo>
                  <a:lnTo>
                    <a:pt x="217" y="576"/>
                  </a:lnTo>
                  <a:lnTo>
                    <a:pt x="180" y="558"/>
                  </a:lnTo>
                  <a:lnTo>
                    <a:pt x="147" y="542"/>
                  </a:lnTo>
                  <a:lnTo>
                    <a:pt x="118" y="525"/>
                  </a:lnTo>
                  <a:lnTo>
                    <a:pt x="91" y="507"/>
                  </a:lnTo>
                  <a:lnTo>
                    <a:pt x="67" y="489"/>
                  </a:lnTo>
                  <a:lnTo>
                    <a:pt x="47" y="471"/>
                  </a:lnTo>
                  <a:lnTo>
                    <a:pt x="30" y="451"/>
                  </a:lnTo>
                  <a:lnTo>
                    <a:pt x="17" y="432"/>
                  </a:lnTo>
                  <a:lnTo>
                    <a:pt x="7" y="413"/>
                  </a:lnTo>
                  <a:lnTo>
                    <a:pt x="2" y="393"/>
                  </a:lnTo>
                  <a:lnTo>
                    <a:pt x="0" y="373"/>
                  </a:lnTo>
                  <a:lnTo>
                    <a:pt x="2" y="352"/>
                  </a:lnTo>
                  <a:lnTo>
                    <a:pt x="7" y="333"/>
                  </a:lnTo>
                  <a:lnTo>
                    <a:pt x="17" y="314"/>
                  </a:lnTo>
                  <a:lnTo>
                    <a:pt x="30" y="295"/>
                  </a:lnTo>
                  <a:lnTo>
                    <a:pt x="47" y="277"/>
                  </a:lnTo>
                  <a:lnTo>
                    <a:pt x="67" y="259"/>
                  </a:lnTo>
                  <a:lnTo>
                    <a:pt x="91" y="240"/>
                  </a:lnTo>
                  <a:lnTo>
                    <a:pt x="118" y="223"/>
                  </a:lnTo>
                  <a:lnTo>
                    <a:pt x="147" y="207"/>
                  </a:lnTo>
                  <a:lnTo>
                    <a:pt x="180" y="191"/>
                  </a:lnTo>
                  <a:lnTo>
                    <a:pt x="217" y="175"/>
                  </a:lnTo>
                  <a:lnTo>
                    <a:pt x="256" y="160"/>
                  </a:lnTo>
                  <a:lnTo>
                    <a:pt x="298" y="146"/>
                  </a:lnTo>
                  <a:lnTo>
                    <a:pt x="342" y="131"/>
                  </a:lnTo>
                  <a:lnTo>
                    <a:pt x="390" y="118"/>
                  </a:lnTo>
                  <a:lnTo>
                    <a:pt x="439" y="105"/>
                  </a:lnTo>
                  <a:lnTo>
                    <a:pt x="492" y="94"/>
                  </a:lnTo>
                  <a:lnTo>
                    <a:pt x="546" y="82"/>
                  </a:lnTo>
                  <a:lnTo>
                    <a:pt x="603" y="72"/>
                  </a:lnTo>
                  <a:lnTo>
                    <a:pt x="661" y="62"/>
                  </a:lnTo>
                  <a:lnTo>
                    <a:pt x="723" y="52"/>
                  </a:lnTo>
                  <a:lnTo>
                    <a:pt x="785" y="44"/>
                  </a:lnTo>
                  <a:lnTo>
                    <a:pt x="850" y="36"/>
                  </a:lnTo>
                  <a:lnTo>
                    <a:pt x="917" y="28"/>
                  </a:lnTo>
                  <a:lnTo>
                    <a:pt x="985" y="21"/>
                  </a:lnTo>
                  <a:lnTo>
                    <a:pt x="1055" y="16"/>
                  </a:lnTo>
                  <a:lnTo>
                    <a:pt x="1126" y="11"/>
                  </a:lnTo>
                  <a:lnTo>
                    <a:pt x="1198" y="7"/>
                  </a:lnTo>
                  <a:lnTo>
                    <a:pt x="1273" y="4"/>
                  </a:lnTo>
                  <a:lnTo>
                    <a:pt x="1348" y="2"/>
                  </a:lnTo>
                  <a:lnTo>
                    <a:pt x="1425" y="0"/>
                  </a:lnTo>
                  <a:lnTo>
                    <a:pt x="1501" y="0"/>
                  </a:lnTo>
                  <a:lnTo>
                    <a:pt x="1579" y="0"/>
                  </a:lnTo>
                  <a:lnTo>
                    <a:pt x="1655" y="2"/>
                  </a:lnTo>
                  <a:lnTo>
                    <a:pt x="1731" y="4"/>
                  </a:lnTo>
                  <a:lnTo>
                    <a:pt x="1804" y="7"/>
                  </a:lnTo>
                  <a:lnTo>
                    <a:pt x="1877" y="11"/>
                  </a:lnTo>
                  <a:lnTo>
                    <a:pt x="1948" y="16"/>
                  </a:lnTo>
                  <a:lnTo>
                    <a:pt x="2018" y="21"/>
                  </a:lnTo>
                  <a:lnTo>
                    <a:pt x="2086" y="28"/>
                  </a:lnTo>
                  <a:lnTo>
                    <a:pt x="2153" y="36"/>
                  </a:lnTo>
                  <a:lnTo>
                    <a:pt x="2218" y="44"/>
                  </a:lnTo>
                  <a:lnTo>
                    <a:pt x="2280" y="52"/>
                  </a:lnTo>
                  <a:lnTo>
                    <a:pt x="2342" y="62"/>
                  </a:lnTo>
                  <a:lnTo>
                    <a:pt x="2400" y="72"/>
                  </a:lnTo>
                  <a:lnTo>
                    <a:pt x="2457" y="82"/>
                  </a:lnTo>
                  <a:lnTo>
                    <a:pt x="2511" y="94"/>
                  </a:lnTo>
                  <a:lnTo>
                    <a:pt x="2564" y="105"/>
                  </a:lnTo>
                  <a:lnTo>
                    <a:pt x="2613" y="118"/>
                  </a:lnTo>
                  <a:lnTo>
                    <a:pt x="2661" y="131"/>
                  </a:lnTo>
                  <a:lnTo>
                    <a:pt x="2705" y="146"/>
                  </a:lnTo>
                  <a:lnTo>
                    <a:pt x="2747" y="160"/>
                  </a:lnTo>
                  <a:lnTo>
                    <a:pt x="2786" y="175"/>
                  </a:lnTo>
                  <a:lnTo>
                    <a:pt x="2822" y="191"/>
                  </a:lnTo>
                  <a:lnTo>
                    <a:pt x="2856" y="207"/>
                  </a:lnTo>
                  <a:lnTo>
                    <a:pt x="2886" y="223"/>
                  </a:lnTo>
                  <a:lnTo>
                    <a:pt x="2912" y="240"/>
                  </a:lnTo>
                  <a:lnTo>
                    <a:pt x="2937" y="259"/>
                  </a:lnTo>
                  <a:lnTo>
                    <a:pt x="2957" y="277"/>
                  </a:lnTo>
                  <a:lnTo>
                    <a:pt x="2973" y="295"/>
                  </a:lnTo>
                  <a:lnTo>
                    <a:pt x="2986" y="314"/>
                  </a:lnTo>
                  <a:lnTo>
                    <a:pt x="2996" y="333"/>
                  </a:lnTo>
                  <a:lnTo>
                    <a:pt x="3001" y="352"/>
                  </a:lnTo>
                  <a:lnTo>
                    <a:pt x="3003" y="373"/>
                  </a:lnTo>
                  <a:close/>
                </a:path>
              </a:pathLst>
            </a:custGeom>
            <a:solidFill>
              <a:srgbClr val="fc6e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125440" y="6532200"/>
              <a:ext cx="330120" cy="90360"/>
            </a:xfrm>
            <a:custGeom>
              <a:avLst/>
              <a:gdLst/>
              <a:ahLst/>
              <a:rect l="l" t="t" r="r" b="b"/>
              <a:pathLst>
                <a:path w="3001" h="761">
                  <a:moveTo>
                    <a:pt x="3001" y="372"/>
                  </a:moveTo>
                  <a:lnTo>
                    <a:pt x="2999" y="392"/>
                  </a:lnTo>
                  <a:lnTo>
                    <a:pt x="2993" y="412"/>
                  </a:lnTo>
                  <a:lnTo>
                    <a:pt x="2984" y="431"/>
                  </a:lnTo>
                  <a:lnTo>
                    <a:pt x="2971" y="450"/>
                  </a:lnTo>
                  <a:lnTo>
                    <a:pt x="2954" y="469"/>
                  </a:lnTo>
                  <a:lnTo>
                    <a:pt x="2934" y="488"/>
                  </a:lnTo>
                  <a:lnTo>
                    <a:pt x="2910" y="506"/>
                  </a:lnTo>
                  <a:lnTo>
                    <a:pt x="2883" y="523"/>
                  </a:lnTo>
                  <a:lnTo>
                    <a:pt x="2853" y="540"/>
                  </a:lnTo>
                  <a:lnTo>
                    <a:pt x="2820" y="557"/>
                  </a:lnTo>
                  <a:lnTo>
                    <a:pt x="2784" y="574"/>
                  </a:lnTo>
                  <a:lnTo>
                    <a:pt x="2745" y="590"/>
                  </a:lnTo>
                  <a:lnTo>
                    <a:pt x="2703" y="605"/>
                  </a:lnTo>
                  <a:lnTo>
                    <a:pt x="2659" y="619"/>
                  </a:lnTo>
                  <a:lnTo>
                    <a:pt x="2611" y="633"/>
                  </a:lnTo>
                  <a:lnTo>
                    <a:pt x="2562" y="647"/>
                  </a:lnTo>
                  <a:lnTo>
                    <a:pt x="2509" y="660"/>
                  </a:lnTo>
                  <a:lnTo>
                    <a:pt x="2455" y="672"/>
                  </a:lnTo>
                  <a:lnTo>
                    <a:pt x="2398" y="684"/>
                  </a:lnTo>
                  <a:lnTo>
                    <a:pt x="2340" y="695"/>
                  </a:lnTo>
                  <a:lnTo>
                    <a:pt x="2279" y="705"/>
                  </a:lnTo>
                  <a:lnTo>
                    <a:pt x="2215" y="714"/>
                  </a:lnTo>
                  <a:lnTo>
                    <a:pt x="2151" y="723"/>
                  </a:lnTo>
                  <a:lnTo>
                    <a:pt x="2084" y="730"/>
                  </a:lnTo>
                  <a:lnTo>
                    <a:pt x="2017" y="737"/>
                  </a:lnTo>
                  <a:lnTo>
                    <a:pt x="1947" y="743"/>
                  </a:lnTo>
                  <a:lnTo>
                    <a:pt x="1875" y="749"/>
                  </a:lnTo>
                  <a:lnTo>
                    <a:pt x="1803" y="753"/>
                  </a:lnTo>
                  <a:lnTo>
                    <a:pt x="1729" y="756"/>
                  </a:lnTo>
                  <a:lnTo>
                    <a:pt x="1654" y="759"/>
                  </a:lnTo>
                  <a:lnTo>
                    <a:pt x="1578" y="760"/>
                  </a:lnTo>
                  <a:lnTo>
                    <a:pt x="1500" y="761"/>
                  </a:lnTo>
                  <a:lnTo>
                    <a:pt x="1424" y="760"/>
                  </a:lnTo>
                  <a:lnTo>
                    <a:pt x="1347" y="759"/>
                  </a:lnTo>
                  <a:lnTo>
                    <a:pt x="1272" y="756"/>
                  </a:lnTo>
                  <a:lnTo>
                    <a:pt x="1198" y="753"/>
                  </a:lnTo>
                  <a:lnTo>
                    <a:pt x="1126" y="749"/>
                  </a:lnTo>
                  <a:lnTo>
                    <a:pt x="1054" y="743"/>
                  </a:lnTo>
                  <a:lnTo>
                    <a:pt x="984" y="737"/>
                  </a:lnTo>
                  <a:lnTo>
                    <a:pt x="917" y="730"/>
                  </a:lnTo>
                  <a:lnTo>
                    <a:pt x="850" y="723"/>
                  </a:lnTo>
                  <a:lnTo>
                    <a:pt x="785" y="714"/>
                  </a:lnTo>
                  <a:lnTo>
                    <a:pt x="723" y="705"/>
                  </a:lnTo>
                  <a:lnTo>
                    <a:pt x="661" y="695"/>
                  </a:lnTo>
                  <a:lnTo>
                    <a:pt x="603" y="684"/>
                  </a:lnTo>
                  <a:lnTo>
                    <a:pt x="546" y="672"/>
                  </a:lnTo>
                  <a:lnTo>
                    <a:pt x="492" y="660"/>
                  </a:lnTo>
                  <a:lnTo>
                    <a:pt x="439" y="647"/>
                  </a:lnTo>
                  <a:lnTo>
                    <a:pt x="390" y="633"/>
                  </a:lnTo>
                  <a:lnTo>
                    <a:pt x="342" y="619"/>
                  </a:lnTo>
                  <a:lnTo>
                    <a:pt x="298" y="605"/>
                  </a:lnTo>
                  <a:lnTo>
                    <a:pt x="256" y="590"/>
                  </a:lnTo>
                  <a:lnTo>
                    <a:pt x="217" y="574"/>
                  </a:lnTo>
                  <a:lnTo>
                    <a:pt x="181" y="557"/>
                  </a:lnTo>
                  <a:lnTo>
                    <a:pt x="148" y="540"/>
                  </a:lnTo>
                  <a:lnTo>
                    <a:pt x="118" y="523"/>
                  </a:lnTo>
                  <a:lnTo>
                    <a:pt x="91" y="506"/>
                  </a:lnTo>
                  <a:lnTo>
                    <a:pt x="67" y="488"/>
                  </a:lnTo>
                  <a:lnTo>
                    <a:pt x="47" y="469"/>
                  </a:lnTo>
                  <a:lnTo>
                    <a:pt x="30" y="450"/>
                  </a:lnTo>
                  <a:lnTo>
                    <a:pt x="17" y="431"/>
                  </a:lnTo>
                  <a:lnTo>
                    <a:pt x="8" y="412"/>
                  </a:lnTo>
                  <a:lnTo>
                    <a:pt x="2" y="392"/>
                  </a:lnTo>
                  <a:lnTo>
                    <a:pt x="0" y="372"/>
                  </a:lnTo>
                  <a:lnTo>
                    <a:pt x="2" y="351"/>
                  </a:lnTo>
                  <a:lnTo>
                    <a:pt x="8" y="332"/>
                  </a:lnTo>
                  <a:lnTo>
                    <a:pt x="17" y="313"/>
                  </a:lnTo>
                  <a:lnTo>
                    <a:pt x="30" y="294"/>
                  </a:lnTo>
                  <a:lnTo>
                    <a:pt x="47" y="276"/>
                  </a:lnTo>
                  <a:lnTo>
                    <a:pt x="67" y="258"/>
                  </a:lnTo>
                  <a:lnTo>
                    <a:pt x="91" y="240"/>
                  </a:lnTo>
                  <a:lnTo>
                    <a:pt x="118" y="223"/>
                  </a:lnTo>
                  <a:lnTo>
                    <a:pt x="148" y="206"/>
                  </a:lnTo>
                  <a:lnTo>
                    <a:pt x="181" y="190"/>
                  </a:lnTo>
                  <a:lnTo>
                    <a:pt x="217" y="175"/>
                  </a:lnTo>
                  <a:lnTo>
                    <a:pt x="256" y="160"/>
                  </a:lnTo>
                  <a:lnTo>
                    <a:pt x="298" y="146"/>
                  </a:lnTo>
                  <a:lnTo>
                    <a:pt x="342" y="131"/>
                  </a:lnTo>
                  <a:lnTo>
                    <a:pt x="390" y="118"/>
                  </a:lnTo>
                  <a:lnTo>
                    <a:pt x="439" y="105"/>
                  </a:lnTo>
                  <a:lnTo>
                    <a:pt x="492" y="93"/>
                  </a:lnTo>
                  <a:lnTo>
                    <a:pt x="546" y="82"/>
                  </a:lnTo>
                  <a:lnTo>
                    <a:pt x="603" y="71"/>
                  </a:lnTo>
                  <a:lnTo>
                    <a:pt x="661" y="61"/>
                  </a:lnTo>
                  <a:lnTo>
                    <a:pt x="723" y="52"/>
                  </a:lnTo>
                  <a:lnTo>
                    <a:pt x="785" y="43"/>
                  </a:lnTo>
                  <a:lnTo>
                    <a:pt x="850" y="36"/>
                  </a:lnTo>
                  <a:lnTo>
                    <a:pt x="917" y="28"/>
                  </a:lnTo>
                  <a:lnTo>
                    <a:pt x="984" y="21"/>
                  </a:lnTo>
                  <a:lnTo>
                    <a:pt x="1054" y="16"/>
                  </a:lnTo>
                  <a:lnTo>
                    <a:pt x="1126" y="11"/>
                  </a:lnTo>
                  <a:lnTo>
                    <a:pt x="1198" y="7"/>
                  </a:lnTo>
                  <a:lnTo>
                    <a:pt x="1272" y="4"/>
                  </a:lnTo>
                  <a:lnTo>
                    <a:pt x="1347" y="2"/>
                  </a:lnTo>
                  <a:lnTo>
                    <a:pt x="1424" y="0"/>
                  </a:lnTo>
                  <a:lnTo>
                    <a:pt x="1500" y="0"/>
                  </a:lnTo>
                  <a:lnTo>
                    <a:pt x="1578" y="0"/>
                  </a:lnTo>
                  <a:lnTo>
                    <a:pt x="1654" y="2"/>
                  </a:lnTo>
                  <a:lnTo>
                    <a:pt x="1729" y="4"/>
                  </a:lnTo>
                  <a:lnTo>
                    <a:pt x="1803" y="7"/>
                  </a:lnTo>
                  <a:lnTo>
                    <a:pt x="1875" y="11"/>
                  </a:lnTo>
                  <a:lnTo>
                    <a:pt x="1947" y="16"/>
                  </a:lnTo>
                  <a:lnTo>
                    <a:pt x="2017" y="21"/>
                  </a:lnTo>
                  <a:lnTo>
                    <a:pt x="2084" y="28"/>
                  </a:lnTo>
                  <a:lnTo>
                    <a:pt x="2151" y="36"/>
                  </a:lnTo>
                  <a:lnTo>
                    <a:pt x="2215" y="43"/>
                  </a:lnTo>
                  <a:lnTo>
                    <a:pt x="2279" y="52"/>
                  </a:lnTo>
                  <a:lnTo>
                    <a:pt x="2340" y="61"/>
                  </a:lnTo>
                  <a:lnTo>
                    <a:pt x="2398" y="71"/>
                  </a:lnTo>
                  <a:lnTo>
                    <a:pt x="2455" y="82"/>
                  </a:lnTo>
                  <a:lnTo>
                    <a:pt x="2509" y="93"/>
                  </a:lnTo>
                  <a:lnTo>
                    <a:pt x="2562" y="105"/>
                  </a:lnTo>
                  <a:lnTo>
                    <a:pt x="2611" y="118"/>
                  </a:lnTo>
                  <a:lnTo>
                    <a:pt x="2659" y="131"/>
                  </a:lnTo>
                  <a:lnTo>
                    <a:pt x="2703" y="146"/>
                  </a:lnTo>
                  <a:lnTo>
                    <a:pt x="2745" y="160"/>
                  </a:lnTo>
                  <a:lnTo>
                    <a:pt x="2784" y="175"/>
                  </a:lnTo>
                  <a:lnTo>
                    <a:pt x="2820" y="190"/>
                  </a:lnTo>
                  <a:lnTo>
                    <a:pt x="2853" y="206"/>
                  </a:lnTo>
                  <a:lnTo>
                    <a:pt x="2883" y="223"/>
                  </a:lnTo>
                  <a:lnTo>
                    <a:pt x="2910" y="240"/>
                  </a:lnTo>
                  <a:lnTo>
                    <a:pt x="2934" y="258"/>
                  </a:lnTo>
                  <a:lnTo>
                    <a:pt x="2954" y="276"/>
                  </a:lnTo>
                  <a:lnTo>
                    <a:pt x="2971" y="294"/>
                  </a:lnTo>
                  <a:lnTo>
                    <a:pt x="2984" y="313"/>
                  </a:lnTo>
                  <a:lnTo>
                    <a:pt x="2993" y="332"/>
                  </a:lnTo>
                  <a:lnTo>
                    <a:pt x="2999" y="351"/>
                  </a:lnTo>
                  <a:lnTo>
                    <a:pt x="3001" y="372"/>
                  </a:lnTo>
                  <a:close/>
                </a:path>
              </a:pathLst>
            </a:custGeom>
            <a:solidFill>
              <a:srgbClr val="fc6e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125440" y="6532200"/>
              <a:ext cx="330120" cy="90360"/>
            </a:xfrm>
            <a:custGeom>
              <a:avLst/>
              <a:gdLst/>
              <a:ahLst/>
              <a:rect l="l" t="t" r="r" b="b"/>
              <a:pathLst>
                <a:path w="2998" h="759">
                  <a:moveTo>
                    <a:pt x="2998" y="371"/>
                  </a:moveTo>
                  <a:lnTo>
                    <a:pt x="2996" y="391"/>
                  </a:lnTo>
                  <a:lnTo>
                    <a:pt x="2990" y="410"/>
                  </a:lnTo>
                  <a:lnTo>
                    <a:pt x="2980" y="430"/>
                  </a:lnTo>
                  <a:lnTo>
                    <a:pt x="2967" y="449"/>
                  </a:lnTo>
                  <a:lnTo>
                    <a:pt x="2951" y="468"/>
                  </a:lnTo>
                  <a:lnTo>
                    <a:pt x="2931" y="487"/>
                  </a:lnTo>
                  <a:lnTo>
                    <a:pt x="2906" y="504"/>
                  </a:lnTo>
                  <a:lnTo>
                    <a:pt x="2880" y="522"/>
                  </a:lnTo>
                  <a:lnTo>
                    <a:pt x="2850" y="539"/>
                  </a:lnTo>
                  <a:lnTo>
                    <a:pt x="2816" y="555"/>
                  </a:lnTo>
                  <a:lnTo>
                    <a:pt x="2781" y="573"/>
                  </a:lnTo>
                  <a:lnTo>
                    <a:pt x="2742" y="588"/>
                  </a:lnTo>
                  <a:lnTo>
                    <a:pt x="2700" y="603"/>
                  </a:lnTo>
                  <a:lnTo>
                    <a:pt x="2656" y="618"/>
                  </a:lnTo>
                  <a:lnTo>
                    <a:pt x="2608" y="632"/>
                  </a:lnTo>
                  <a:lnTo>
                    <a:pt x="2559" y="645"/>
                  </a:lnTo>
                  <a:lnTo>
                    <a:pt x="2506" y="658"/>
                  </a:lnTo>
                  <a:lnTo>
                    <a:pt x="2452" y="670"/>
                  </a:lnTo>
                  <a:lnTo>
                    <a:pt x="2395" y="682"/>
                  </a:lnTo>
                  <a:lnTo>
                    <a:pt x="2337" y="693"/>
                  </a:lnTo>
                  <a:lnTo>
                    <a:pt x="2276" y="703"/>
                  </a:lnTo>
                  <a:lnTo>
                    <a:pt x="2213" y="712"/>
                  </a:lnTo>
                  <a:lnTo>
                    <a:pt x="2149" y="721"/>
                  </a:lnTo>
                  <a:lnTo>
                    <a:pt x="2082" y="729"/>
                  </a:lnTo>
                  <a:lnTo>
                    <a:pt x="2014" y="735"/>
                  </a:lnTo>
                  <a:lnTo>
                    <a:pt x="1945" y="741"/>
                  </a:lnTo>
                  <a:lnTo>
                    <a:pt x="1873" y="747"/>
                  </a:lnTo>
                  <a:lnTo>
                    <a:pt x="1800" y="751"/>
                  </a:lnTo>
                  <a:lnTo>
                    <a:pt x="1727" y="754"/>
                  </a:lnTo>
                  <a:lnTo>
                    <a:pt x="1652" y="757"/>
                  </a:lnTo>
                  <a:lnTo>
                    <a:pt x="1575" y="758"/>
                  </a:lnTo>
                  <a:lnTo>
                    <a:pt x="1498" y="759"/>
                  </a:lnTo>
                  <a:lnTo>
                    <a:pt x="1422" y="758"/>
                  </a:lnTo>
                  <a:lnTo>
                    <a:pt x="1345" y="757"/>
                  </a:lnTo>
                  <a:lnTo>
                    <a:pt x="1270" y="754"/>
                  </a:lnTo>
                  <a:lnTo>
                    <a:pt x="1196" y="751"/>
                  </a:lnTo>
                  <a:lnTo>
                    <a:pt x="1124" y="747"/>
                  </a:lnTo>
                  <a:lnTo>
                    <a:pt x="1053" y="741"/>
                  </a:lnTo>
                  <a:lnTo>
                    <a:pt x="983" y="735"/>
                  </a:lnTo>
                  <a:lnTo>
                    <a:pt x="915" y="729"/>
                  </a:lnTo>
                  <a:lnTo>
                    <a:pt x="848" y="721"/>
                  </a:lnTo>
                  <a:lnTo>
                    <a:pt x="783" y="712"/>
                  </a:lnTo>
                  <a:lnTo>
                    <a:pt x="721" y="703"/>
                  </a:lnTo>
                  <a:lnTo>
                    <a:pt x="660" y="693"/>
                  </a:lnTo>
                  <a:lnTo>
                    <a:pt x="602" y="682"/>
                  </a:lnTo>
                  <a:lnTo>
                    <a:pt x="545" y="670"/>
                  </a:lnTo>
                  <a:lnTo>
                    <a:pt x="491" y="658"/>
                  </a:lnTo>
                  <a:lnTo>
                    <a:pt x="438" y="645"/>
                  </a:lnTo>
                  <a:lnTo>
                    <a:pt x="389" y="632"/>
                  </a:lnTo>
                  <a:lnTo>
                    <a:pt x="342" y="618"/>
                  </a:lnTo>
                  <a:lnTo>
                    <a:pt x="297" y="603"/>
                  </a:lnTo>
                  <a:lnTo>
                    <a:pt x="255" y="588"/>
                  </a:lnTo>
                  <a:lnTo>
                    <a:pt x="216" y="573"/>
                  </a:lnTo>
                  <a:lnTo>
                    <a:pt x="180" y="555"/>
                  </a:lnTo>
                  <a:lnTo>
                    <a:pt x="147" y="539"/>
                  </a:lnTo>
                  <a:lnTo>
                    <a:pt x="117" y="522"/>
                  </a:lnTo>
                  <a:lnTo>
                    <a:pt x="91" y="504"/>
                  </a:lnTo>
                  <a:lnTo>
                    <a:pt x="66" y="487"/>
                  </a:lnTo>
                  <a:lnTo>
                    <a:pt x="46" y="468"/>
                  </a:lnTo>
                  <a:lnTo>
                    <a:pt x="30" y="449"/>
                  </a:lnTo>
                  <a:lnTo>
                    <a:pt x="17" y="430"/>
                  </a:lnTo>
                  <a:lnTo>
                    <a:pt x="7" y="410"/>
                  </a:lnTo>
                  <a:lnTo>
                    <a:pt x="2" y="391"/>
                  </a:lnTo>
                  <a:lnTo>
                    <a:pt x="0" y="371"/>
                  </a:lnTo>
                  <a:lnTo>
                    <a:pt x="2" y="350"/>
                  </a:lnTo>
                  <a:lnTo>
                    <a:pt x="7" y="331"/>
                  </a:lnTo>
                  <a:lnTo>
                    <a:pt x="17" y="312"/>
                  </a:lnTo>
                  <a:lnTo>
                    <a:pt x="30" y="293"/>
                  </a:lnTo>
                  <a:lnTo>
                    <a:pt x="46" y="275"/>
                  </a:lnTo>
                  <a:lnTo>
                    <a:pt x="66" y="257"/>
                  </a:lnTo>
                  <a:lnTo>
                    <a:pt x="91" y="239"/>
                  </a:lnTo>
                  <a:lnTo>
                    <a:pt x="117" y="222"/>
                  </a:lnTo>
                  <a:lnTo>
                    <a:pt x="147" y="206"/>
                  </a:lnTo>
                  <a:lnTo>
                    <a:pt x="180" y="190"/>
                  </a:lnTo>
                  <a:lnTo>
                    <a:pt x="216" y="174"/>
                  </a:lnTo>
                  <a:lnTo>
                    <a:pt x="255" y="160"/>
                  </a:lnTo>
                  <a:lnTo>
                    <a:pt x="297" y="145"/>
                  </a:lnTo>
                  <a:lnTo>
                    <a:pt x="342" y="131"/>
                  </a:lnTo>
                  <a:lnTo>
                    <a:pt x="389" y="117"/>
                  </a:lnTo>
                  <a:lnTo>
                    <a:pt x="438" y="105"/>
                  </a:lnTo>
                  <a:lnTo>
                    <a:pt x="491" y="93"/>
                  </a:lnTo>
                  <a:lnTo>
                    <a:pt x="545" y="82"/>
                  </a:lnTo>
                  <a:lnTo>
                    <a:pt x="602" y="71"/>
                  </a:lnTo>
                  <a:lnTo>
                    <a:pt x="660" y="61"/>
                  </a:lnTo>
                  <a:lnTo>
                    <a:pt x="721" y="52"/>
                  </a:lnTo>
                  <a:lnTo>
                    <a:pt x="783" y="43"/>
                  </a:lnTo>
                  <a:lnTo>
                    <a:pt x="848" y="35"/>
                  </a:lnTo>
                  <a:lnTo>
                    <a:pt x="915" y="27"/>
                  </a:lnTo>
                  <a:lnTo>
                    <a:pt x="983" y="21"/>
                  </a:lnTo>
                  <a:lnTo>
                    <a:pt x="1053" y="16"/>
                  </a:lnTo>
                  <a:lnTo>
                    <a:pt x="1124" y="11"/>
                  </a:lnTo>
                  <a:lnTo>
                    <a:pt x="1196" y="7"/>
                  </a:lnTo>
                  <a:lnTo>
                    <a:pt x="1270" y="4"/>
                  </a:lnTo>
                  <a:lnTo>
                    <a:pt x="1345" y="2"/>
                  </a:lnTo>
                  <a:lnTo>
                    <a:pt x="1422" y="0"/>
                  </a:lnTo>
                  <a:lnTo>
                    <a:pt x="1498" y="0"/>
                  </a:lnTo>
                  <a:lnTo>
                    <a:pt x="1575" y="0"/>
                  </a:lnTo>
                  <a:lnTo>
                    <a:pt x="1652" y="2"/>
                  </a:lnTo>
                  <a:lnTo>
                    <a:pt x="1727" y="4"/>
                  </a:lnTo>
                  <a:lnTo>
                    <a:pt x="1800" y="7"/>
                  </a:lnTo>
                  <a:lnTo>
                    <a:pt x="1873" y="11"/>
                  </a:lnTo>
                  <a:lnTo>
                    <a:pt x="1945" y="16"/>
                  </a:lnTo>
                  <a:lnTo>
                    <a:pt x="2014" y="21"/>
                  </a:lnTo>
                  <a:lnTo>
                    <a:pt x="2082" y="27"/>
                  </a:lnTo>
                  <a:lnTo>
                    <a:pt x="2149" y="35"/>
                  </a:lnTo>
                  <a:lnTo>
                    <a:pt x="2213" y="43"/>
                  </a:lnTo>
                  <a:lnTo>
                    <a:pt x="2276" y="52"/>
                  </a:lnTo>
                  <a:lnTo>
                    <a:pt x="2337" y="61"/>
                  </a:lnTo>
                  <a:lnTo>
                    <a:pt x="2395" y="71"/>
                  </a:lnTo>
                  <a:lnTo>
                    <a:pt x="2452" y="82"/>
                  </a:lnTo>
                  <a:lnTo>
                    <a:pt x="2506" y="93"/>
                  </a:lnTo>
                  <a:lnTo>
                    <a:pt x="2559" y="105"/>
                  </a:lnTo>
                  <a:lnTo>
                    <a:pt x="2608" y="117"/>
                  </a:lnTo>
                  <a:lnTo>
                    <a:pt x="2656" y="131"/>
                  </a:lnTo>
                  <a:lnTo>
                    <a:pt x="2700" y="145"/>
                  </a:lnTo>
                  <a:lnTo>
                    <a:pt x="2742" y="160"/>
                  </a:lnTo>
                  <a:lnTo>
                    <a:pt x="2781" y="174"/>
                  </a:lnTo>
                  <a:lnTo>
                    <a:pt x="2816" y="190"/>
                  </a:lnTo>
                  <a:lnTo>
                    <a:pt x="2850" y="206"/>
                  </a:lnTo>
                  <a:lnTo>
                    <a:pt x="2880" y="222"/>
                  </a:lnTo>
                  <a:lnTo>
                    <a:pt x="2906" y="239"/>
                  </a:lnTo>
                  <a:lnTo>
                    <a:pt x="2931" y="257"/>
                  </a:lnTo>
                  <a:lnTo>
                    <a:pt x="2951" y="275"/>
                  </a:lnTo>
                  <a:lnTo>
                    <a:pt x="2967" y="293"/>
                  </a:lnTo>
                  <a:lnTo>
                    <a:pt x="2980" y="312"/>
                  </a:lnTo>
                  <a:lnTo>
                    <a:pt x="2990" y="331"/>
                  </a:lnTo>
                  <a:lnTo>
                    <a:pt x="2996" y="350"/>
                  </a:lnTo>
                  <a:lnTo>
                    <a:pt x="2998" y="371"/>
                  </a:lnTo>
                  <a:close/>
                </a:path>
              </a:pathLst>
            </a:custGeom>
            <a:solidFill>
              <a:srgbClr val="fc6c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125440" y="6532200"/>
              <a:ext cx="330120" cy="90360"/>
            </a:xfrm>
            <a:custGeom>
              <a:avLst/>
              <a:gdLst/>
              <a:ahLst/>
              <a:rect l="l" t="t" r="r" b="b"/>
              <a:pathLst>
                <a:path w="2995" h="757">
                  <a:moveTo>
                    <a:pt x="2995" y="370"/>
                  </a:moveTo>
                  <a:lnTo>
                    <a:pt x="2993" y="390"/>
                  </a:lnTo>
                  <a:lnTo>
                    <a:pt x="2988" y="409"/>
                  </a:lnTo>
                  <a:lnTo>
                    <a:pt x="2978" y="429"/>
                  </a:lnTo>
                  <a:lnTo>
                    <a:pt x="2965" y="447"/>
                  </a:lnTo>
                  <a:lnTo>
                    <a:pt x="2948" y="467"/>
                  </a:lnTo>
                  <a:lnTo>
                    <a:pt x="2928" y="485"/>
                  </a:lnTo>
                  <a:lnTo>
                    <a:pt x="2904" y="503"/>
                  </a:lnTo>
                  <a:lnTo>
                    <a:pt x="2878" y="520"/>
                  </a:lnTo>
                  <a:lnTo>
                    <a:pt x="2848" y="538"/>
                  </a:lnTo>
                  <a:lnTo>
                    <a:pt x="2814" y="554"/>
                  </a:lnTo>
                  <a:lnTo>
                    <a:pt x="2778" y="571"/>
                  </a:lnTo>
                  <a:lnTo>
                    <a:pt x="2740" y="587"/>
                  </a:lnTo>
                  <a:lnTo>
                    <a:pt x="2698" y="602"/>
                  </a:lnTo>
                  <a:lnTo>
                    <a:pt x="2653" y="616"/>
                  </a:lnTo>
                  <a:lnTo>
                    <a:pt x="2606" y="630"/>
                  </a:lnTo>
                  <a:lnTo>
                    <a:pt x="2557" y="643"/>
                  </a:lnTo>
                  <a:lnTo>
                    <a:pt x="2504" y="656"/>
                  </a:lnTo>
                  <a:lnTo>
                    <a:pt x="2450" y="668"/>
                  </a:lnTo>
                  <a:lnTo>
                    <a:pt x="2393" y="681"/>
                  </a:lnTo>
                  <a:lnTo>
                    <a:pt x="2335" y="691"/>
                  </a:lnTo>
                  <a:lnTo>
                    <a:pt x="2274" y="701"/>
                  </a:lnTo>
                  <a:lnTo>
                    <a:pt x="2211" y="711"/>
                  </a:lnTo>
                  <a:lnTo>
                    <a:pt x="2147" y="719"/>
                  </a:lnTo>
                  <a:lnTo>
                    <a:pt x="2080" y="727"/>
                  </a:lnTo>
                  <a:lnTo>
                    <a:pt x="2013" y="734"/>
                  </a:lnTo>
                  <a:lnTo>
                    <a:pt x="1943" y="740"/>
                  </a:lnTo>
                  <a:lnTo>
                    <a:pt x="1872" y="745"/>
                  </a:lnTo>
                  <a:lnTo>
                    <a:pt x="1799" y="749"/>
                  </a:lnTo>
                  <a:lnTo>
                    <a:pt x="1726" y="752"/>
                  </a:lnTo>
                  <a:lnTo>
                    <a:pt x="1651" y="755"/>
                  </a:lnTo>
                  <a:lnTo>
                    <a:pt x="1574" y="756"/>
                  </a:lnTo>
                  <a:lnTo>
                    <a:pt x="1497" y="757"/>
                  </a:lnTo>
                  <a:lnTo>
                    <a:pt x="1421" y="756"/>
                  </a:lnTo>
                  <a:lnTo>
                    <a:pt x="1344" y="755"/>
                  </a:lnTo>
                  <a:lnTo>
                    <a:pt x="1269" y="752"/>
                  </a:lnTo>
                  <a:lnTo>
                    <a:pt x="1195" y="749"/>
                  </a:lnTo>
                  <a:lnTo>
                    <a:pt x="1123" y="745"/>
                  </a:lnTo>
                  <a:lnTo>
                    <a:pt x="1052" y="740"/>
                  </a:lnTo>
                  <a:lnTo>
                    <a:pt x="982" y="734"/>
                  </a:lnTo>
                  <a:lnTo>
                    <a:pt x="915" y="727"/>
                  </a:lnTo>
                  <a:lnTo>
                    <a:pt x="848" y="719"/>
                  </a:lnTo>
                  <a:lnTo>
                    <a:pt x="783" y="711"/>
                  </a:lnTo>
                  <a:lnTo>
                    <a:pt x="721" y="701"/>
                  </a:lnTo>
                  <a:lnTo>
                    <a:pt x="660" y="691"/>
                  </a:lnTo>
                  <a:lnTo>
                    <a:pt x="602" y="681"/>
                  </a:lnTo>
                  <a:lnTo>
                    <a:pt x="545" y="668"/>
                  </a:lnTo>
                  <a:lnTo>
                    <a:pt x="491" y="656"/>
                  </a:lnTo>
                  <a:lnTo>
                    <a:pt x="438" y="643"/>
                  </a:lnTo>
                  <a:lnTo>
                    <a:pt x="389" y="630"/>
                  </a:lnTo>
                  <a:lnTo>
                    <a:pt x="342" y="616"/>
                  </a:lnTo>
                  <a:lnTo>
                    <a:pt x="298" y="602"/>
                  </a:lnTo>
                  <a:lnTo>
                    <a:pt x="255" y="587"/>
                  </a:lnTo>
                  <a:lnTo>
                    <a:pt x="217" y="571"/>
                  </a:lnTo>
                  <a:lnTo>
                    <a:pt x="181" y="554"/>
                  </a:lnTo>
                  <a:lnTo>
                    <a:pt x="147" y="538"/>
                  </a:lnTo>
                  <a:lnTo>
                    <a:pt x="118" y="520"/>
                  </a:lnTo>
                  <a:lnTo>
                    <a:pt x="91" y="503"/>
                  </a:lnTo>
                  <a:lnTo>
                    <a:pt x="67" y="485"/>
                  </a:lnTo>
                  <a:lnTo>
                    <a:pt x="47" y="467"/>
                  </a:lnTo>
                  <a:lnTo>
                    <a:pt x="30" y="447"/>
                  </a:lnTo>
                  <a:lnTo>
                    <a:pt x="17" y="429"/>
                  </a:lnTo>
                  <a:lnTo>
                    <a:pt x="8" y="409"/>
                  </a:lnTo>
                  <a:lnTo>
                    <a:pt x="2" y="390"/>
                  </a:lnTo>
                  <a:lnTo>
                    <a:pt x="0" y="370"/>
                  </a:lnTo>
                  <a:lnTo>
                    <a:pt x="2" y="349"/>
                  </a:lnTo>
                  <a:lnTo>
                    <a:pt x="8" y="330"/>
                  </a:lnTo>
                  <a:lnTo>
                    <a:pt x="17" y="311"/>
                  </a:lnTo>
                  <a:lnTo>
                    <a:pt x="30" y="293"/>
                  </a:lnTo>
                  <a:lnTo>
                    <a:pt x="47" y="274"/>
                  </a:lnTo>
                  <a:lnTo>
                    <a:pt x="67" y="257"/>
                  </a:lnTo>
                  <a:lnTo>
                    <a:pt x="91" y="238"/>
                  </a:lnTo>
                  <a:lnTo>
                    <a:pt x="118" y="221"/>
                  </a:lnTo>
                  <a:lnTo>
                    <a:pt x="147" y="205"/>
                  </a:lnTo>
                  <a:lnTo>
                    <a:pt x="181" y="189"/>
                  </a:lnTo>
                  <a:lnTo>
                    <a:pt x="217" y="174"/>
                  </a:lnTo>
                  <a:lnTo>
                    <a:pt x="255" y="159"/>
                  </a:lnTo>
                  <a:lnTo>
                    <a:pt x="298" y="145"/>
                  </a:lnTo>
                  <a:lnTo>
                    <a:pt x="342" y="130"/>
                  </a:lnTo>
                  <a:lnTo>
                    <a:pt x="389" y="117"/>
                  </a:lnTo>
                  <a:lnTo>
                    <a:pt x="438" y="104"/>
                  </a:lnTo>
                  <a:lnTo>
                    <a:pt x="491" y="93"/>
                  </a:lnTo>
                  <a:lnTo>
                    <a:pt x="545" y="81"/>
                  </a:lnTo>
                  <a:lnTo>
                    <a:pt x="602" y="71"/>
                  </a:lnTo>
                  <a:lnTo>
                    <a:pt x="660" y="61"/>
                  </a:lnTo>
                  <a:lnTo>
                    <a:pt x="721" y="52"/>
                  </a:lnTo>
                  <a:lnTo>
                    <a:pt x="783" y="43"/>
                  </a:lnTo>
                  <a:lnTo>
                    <a:pt x="848" y="35"/>
                  </a:lnTo>
                  <a:lnTo>
                    <a:pt x="915" y="27"/>
                  </a:lnTo>
                  <a:lnTo>
                    <a:pt x="982" y="21"/>
                  </a:lnTo>
                  <a:lnTo>
                    <a:pt x="1052" y="15"/>
                  </a:lnTo>
                  <a:lnTo>
                    <a:pt x="1123" y="11"/>
                  </a:lnTo>
                  <a:lnTo>
                    <a:pt x="1195" y="7"/>
                  </a:lnTo>
                  <a:lnTo>
                    <a:pt x="1269" y="4"/>
                  </a:lnTo>
                  <a:lnTo>
                    <a:pt x="1344" y="2"/>
                  </a:lnTo>
                  <a:lnTo>
                    <a:pt x="1421" y="0"/>
                  </a:lnTo>
                  <a:lnTo>
                    <a:pt x="1497" y="0"/>
                  </a:lnTo>
                  <a:lnTo>
                    <a:pt x="1574" y="0"/>
                  </a:lnTo>
                  <a:lnTo>
                    <a:pt x="1651" y="2"/>
                  </a:lnTo>
                  <a:lnTo>
                    <a:pt x="1726" y="4"/>
                  </a:lnTo>
                  <a:lnTo>
                    <a:pt x="1799" y="7"/>
                  </a:lnTo>
                  <a:lnTo>
                    <a:pt x="1872" y="11"/>
                  </a:lnTo>
                  <a:lnTo>
                    <a:pt x="1943" y="15"/>
                  </a:lnTo>
                  <a:lnTo>
                    <a:pt x="2013" y="21"/>
                  </a:lnTo>
                  <a:lnTo>
                    <a:pt x="2080" y="27"/>
                  </a:lnTo>
                  <a:lnTo>
                    <a:pt x="2147" y="35"/>
                  </a:lnTo>
                  <a:lnTo>
                    <a:pt x="2211" y="43"/>
                  </a:lnTo>
                  <a:lnTo>
                    <a:pt x="2274" y="52"/>
                  </a:lnTo>
                  <a:lnTo>
                    <a:pt x="2335" y="61"/>
                  </a:lnTo>
                  <a:lnTo>
                    <a:pt x="2393" y="71"/>
                  </a:lnTo>
                  <a:lnTo>
                    <a:pt x="2450" y="81"/>
                  </a:lnTo>
                  <a:lnTo>
                    <a:pt x="2504" y="93"/>
                  </a:lnTo>
                  <a:lnTo>
                    <a:pt x="2557" y="104"/>
                  </a:lnTo>
                  <a:lnTo>
                    <a:pt x="2606" y="117"/>
                  </a:lnTo>
                  <a:lnTo>
                    <a:pt x="2653" y="130"/>
                  </a:lnTo>
                  <a:lnTo>
                    <a:pt x="2698" y="145"/>
                  </a:lnTo>
                  <a:lnTo>
                    <a:pt x="2740" y="159"/>
                  </a:lnTo>
                  <a:lnTo>
                    <a:pt x="2778" y="174"/>
                  </a:lnTo>
                  <a:lnTo>
                    <a:pt x="2814" y="189"/>
                  </a:lnTo>
                  <a:lnTo>
                    <a:pt x="2848" y="205"/>
                  </a:lnTo>
                  <a:lnTo>
                    <a:pt x="2878" y="221"/>
                  </a:lnTo>
                  <a:lnTo>
                    <a:pt x="2904" y="238"/>
                  </a:lnTo>
                  <a:lnTo>
                    <a:pt x="2928" y="257"/>
                  </a:lnTo>
                  <a:lnTo>
                    <a:pt x="2948" y="274"/>
                  </a:lnTo>
                  <a:lnTo>
                    <a:pt x="2965" y="293"/>
                  </a:lnTo>
                  <a:lnTo>
                    <a:pt x="2978" y="311"/>
                  </a:lnTo>
                  <a:lnTo>
                    <a:pt x="2988" y="330"/>
                  </a:lnTo>
                  <a:lnTo>
                    <a:pt x="2993" y="349"/>
                  </a:lnTo>
                  <a:lnTo>
                    <a:pt x="2995" y="370"/>
                  </a:lnTo>
                  <a:close/>
                </a:path>
              </a:pathLst>
            </a:custGeom>
            <a:solidFill>
              <a:srgbClr val="fc6c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125440" y="6533280"/>
              <a:ext cx="330120" cy="89280"/>
            </a:xfrm>
            <a:custGeom>
              <a:avLst/>
              <a:gdLst/>
              <a:ahLst/>
              <a:rect l="l" t="t" r="r" b="b"/>
              <a:pathLst>
                <a:path w="2993" h="755">
                  <a:moveTo>
                    <a:pt x="2993" y="369"/>
                  </a:moveTo>
                  <a:lnTo>
                    <a:pt x="2991" y="389"/>
                  </a:lnTo>
                  <a:lnTo>
                    <a:pt x="2985" y="408"/>
                  </a:lnTo>
                  <a:lnTo>
                    <a:pt x="2976" y="427"/>
                  </a:lnTo>
                  <a:lnTo>
                    <a:pt x="2963" y="446"/>
                  </a:lnTo>
                  <a:lnTo>
                    <a:pt x="2946" y="466"/>
                  </a:lnTo>
                  <a:lnTo>
                    <a:pt x="2926" y="484"/>
                  </a:lnTo>
                  <a:lnTo>
                    <a:pt x="2902" y="502"/>
                  </a:lnTo>
                  <a:lnTo>
                    <a:pt x="2875" y="519"/>
                  </a:lnTo>
                  <a:lnTo>
                    <a:pt x="2846" y="536"/>
                  </a:lnTo>
                  <a:lnTo>
                    <a:pt x="2812" y="553"/>
                  </a:lnTo>
                  <a:lnTo>
                    <a:pt x="2776" y="570"/>
                  </a:lnTo>
                  <a:lnTo>
                    <a:pt x="2738" y="585"/>
                  </a:lnTo>
                  <a:lnTo>
                    <a:pt x="2695" y="600"/>
                  </a:lnTo>
                  <a:lnTo>
                    <a:pt x="2651" y="615"/>
                  </a:lnTo>
                  <a:lnTo>
                    <a:pt x="2604" y="629"/>
                  </a:lnTo>
                  <a:lnTo>
                    <a:pt x="2555" y="642"/>
                  </a:lnTo>
                  <a:lnTo>
                    <a:pt x="2502" y="654"/>
                  </a:lnTo>
                  <a:lnTo>
                    <a:pt x="2449" y="667"/>
                  </a:lnTo>
                  <a:lnTo>
                    <a:pt x="2392" y="679"/>
                  </a:lnTo>
                  <a:lnTo>
                    <a:pt x="2333" y="690"/>
                  </a:lnTo>
                  <a:lnTo>
                    <a:pt x="2272" y="700"/>
                  </a:lnTo>
                  <a:lnTo>
                    <a:pt x="2209" y="709"/>
                  </a:lnTo>
                  <a:lnTo>
                    <a:pt x="2145" y="717"/>
                  </a:lnTo>
                  <a:lnTo>
                    <a:pt x="2079" y="725"/>
                  </a:lnTo>
                  <a:lnTo>
                    <a:pt x="2011" y="732"/>
                  </a:lnTo>
                  <a:lnTo>
                    <a:pt x="1942" y="738"/>
                  </a:lnTo>
                  <a:lnTo>
                    <a:pt x="1870" y="743"/>
                  </a:lnTo>
                  <a:lnTo>
                    <a:pt x="1798" y="747"/>
                  </a:lnTo>
                  <a:lnTo>
                    <a:pt x="1725" y="751"/>
                  </a:lnTo>
                  <a:lnTo>
                    <a:pt x="1650" y="753"/>
                  </a:lnTo>
                  <a:lnTo>
                    <a:pt x="1573" y="754"/>
                  </a:lnTo>
                  <a:lnTo>
                    <a:pt x="1496" y="755"/>
                  </a:lnTo>
                  <a:lnTo>
                    <a:pt x="1420" y="754"/>
                  </a:lnTo>
                  <a:lnTo>
                    <a:pt x="1344" y="753"/>
                  </a:lnTo>
                  <a:lnTo>
                    <a:pt x="1268" y="751"/>
                  </a:lnTo>
                  <a:lnTo>
                    <a:pt x="1194" y="747"/>
                  </a:lnTo>
                  <a:lnTo>
                    <a:pt x="1123" y="743"/>
                  </a:lnTo>
                  <a:lnTo>
                    <a:pt x="1051" y="738"/>
                  </a:lnTo>
                  <a:lnTo>
                    <a:pt x="982" y="732"/>
                  </a:lnTo>
                  <a:lnTo>
                    <a:pt x="914" y="725"/>
                  </a:lnTo>
                  <a:lnTo>
                    <a:pt x="848" y="717"/>
                  </a:lnTo>
                  <a:lnTo>
                    <a:pt x="783" y="709"/>
                  </a:lnTo>
                  <a:lnTo>
                    <a:pt x="721" y="700"/>
                  </a:lnTo>
                  <a:lnTo>
                    <a:pt x="660" y="690"/>
                  </a:lnTo>
                  <a:lnTo>
                    <a:pt x="602" y="679"/>
                  </a:lnTo>
                  <a:lnTo>
                    <a:pt x="545" y="667"/>
                  </a:lnTo>
                  <a:lnTo>
                    <a:pt x="491" y="654"/>
                  </a:lnTo>
                  <a:lnTo>
                    <a:pt x="438" y="642"/>
                  </a:lnTo>
                  <a:lnTo>
                    <a:pt x="389" y="629"/>
                  </a:lnTo>
                  <a:lnTo>
                    <a:pt x="342" y="615"/>
                  </a:lnTo>
                  <a:lnTo>
                    <a:pt x="298" y="600"/>
                  </a:lnTo>
                  <a:lnTo>
                    <a:pt x="255" y="585"/>
                  </a:lnTo>
                  <a:lnTo>
                    <a:pt x="217" y="570"/>
                  </a:lnTo>
                  <a:lnTo>
                    <a:pt x="181" y="553"/>
                  </a:lnTo>
                  <a:lnTo>
                    <a:pt x="148" y="536"/>
                  </a:lnTo>
                  <a:lnTo>
                    <a:pt x="118" y="519"/>
                  </a:lnTo>
                  <a:lnTo>
                    <a:pt x="91" y="502"/>
                  </a:lnTo>
                  <a:lnTo>
                    <a:pt x="67" y="484"/>
                  </a:lnTo>
                  <a:lnTo>
                    <a:pt x="47" y="466"/>
                  </a:lnTo>
                  <a:lnTo>
                    <a:pt x="31" y="446"/>
                  </a:lnTo>
                  <a:lnTo>
                    <a:pt x="18" y="427"/>
                  </a:lnTo>
                  <a:lnTo>
                    <a:pt x="8" y="408"/>
                  </a:lnTo>
                  <a:lnTo>
                    <a:pt x="2" y="389"/>
                  </a:lnTo>
                  <a:lnTo>
                    <a:pt x="0" y="369"/>
                  </a:lnTo>
                  <a:lnTo>
                    <a:pt x="2" y="348"/>
                  </a:lnTo>
                  <a:lnTo>
                    <a:pt x="8" y="329"/>
                  </a:lnTo>
                  <a:lnTo>
                    <a:pt x="18" y="310"/>
                  </a:lnTo>
                  <a:lnTo>
                    <a:pt x="31" y="292"/>
                  </a:lnTo>
                  <a:lnTo>
                    <a:pt x="47" y="274"/>
                  </a:lnTo>
                  <a:lnTo>
                    <a:pt x="67" y="256"/>
                  </a:lnTo>
                  <a:lnTo>
                    <a:pt x="91" y="238"/>
                  </a:lnTo>
                  <a:lnTo>
                    <a:pt x="118" y="221"/>
                  </a:lnTo>
                  <a:lnTo>
                    <a:pt x="148" y="205"/>
                  </a:lnTo>
                  <a:lnTo>
                    <a:pt x="181" y="189"/>
                  </a:lnTo>
                  <a:lnTo>
                    <a:pt x="217" y="173"/>
                  </a:lnTo>
                  <a:lnTo>
                    <a:pt x="255" y="159"/>
                  </a:lnTo>
                  <a:lnTo>
                    <a:pt x="298" y="144"/>
                  </a:lnTo>
                  <a:lnTo>
                    <a:pt x="342" y="130"/>
                  </a:lnTo>
                  <a:lnTo>
                    <a:pt x="389" y="117"/>
                  </a:lnTo>
                  <a:lnTo>
                    <a:pt x="438" y="104"/>
                  </a:lnTo>
                  <a:lnTo>
                    <a:pt x="491" y="92"/>
                  </a:lnTo>
                  <a:lnTo>
                    <a:pt x="545" y="81"/>
                  </a:lnTo>
                  <a:lnTo>
                    <a:pt x="602" y="70"/>
                  </a:lnTo>
                  <a:lnTo>
                    <a:pt x="660" y="61"/>
                  </a:lnTo>
                  <a:lnTo>
                    <a:pt x="721" y="51"/>
                  </a:lnTo>
                  <a:lnTo>
                    <a:pt x="783" y="43"/>
                  </a:lnTo>
                  <a:lnTo>
                    <a:pt x="848" y="35"/>
                  </a:lnTo>
                  <a:lnTo>
                    <a:pt x="914" y="27"/>
                  </a:lnTo>
                  <a:lnTo>
                    <a:pt x="982" y="21"/>
                  </a:lnTo>
                  <a:lnTo>
                    <a:pt x="1051" y="15"/>
                  </a:lnTo>
                  <a:lnTo>
                    <a:pt x="1123" y="11"/>
                  </a:lnTo>
                  <a:lnTo>
                    <a:pt x="1194" y="7"/>
                  </a:lnTo>
                  <a:lnTo>
                    <a:pt x="1268" y="4"/>
                  </a:lnTo>
                  <a:lnTo>
                    <a:pt x="1344" y="1"/>
                  </a:lnTo>
                  <a:lnTo>
                    <a:pt x="1420" y="0"/>
                  </a:lnTo>
                  <a:lnTo>
                    <a:pt x="1496" y="0"/>
                  </a:lnTo>
                  <a:lnTo>
                    <a:pt x="1573" y="0"/>
                  </a:lnTo>
                  <a:lnTo>
                    <a:pt x="1650" y="1"/>
                  </a:lnTo>
                  <a:lnTo>
                    <a:pt x="1725" y="4"/>
                  </a:lnTo>
                  <a:lnTo>
                    <a:pt x="1798" y="7"/>
                  </a:lnTo>
                  <a:lnTo>
                    <a:pt x="1870" y="11"/>
                  </a:lnTo>
                  <a:lnTo>
                    <a:pt x="1942" y="15"/>
                  </a:lnTo>
                  <a:lnTo>
                    <a:pt x="2011" y="21"/>
                  </a:lnTo>
                  <a:lnTo>
                    <a:pt x="2079" y="27"/>
                  </a:lnTo>
                  <a:lnTo>
                    <a:pt x="2145" y="35"/>
                  </a:lnTo>
                  <a:lnTo>
                    <a:pt x="2209" y="43"/>
                  </a:lnTo>
                  <a:lnTo>
                    <a:pt x="2272" y="51"/>
                  </a:lnTo>
                  <a:lnTo>
                    <a:pt x="2333" y="61"/>
                  </a:lnTo>
                  <a:lnTo>
                    <a:pt x="2392" y="70"/>
                  </a:lnTo>
                  <a:lnTo>
                    <a:pt x="2449" y="81"/>
                  </a:lnTo>
                  <a:lnTo>
                    <a:pt x="2502" y="92"/>
                  </a:lnTo>
                  <a:lnTo>
                    <a:pt x="2555" y="104"/>
                  </a:lnTo>
                  <a:lnTo>
                    <a:pt x="2604" y="117"/>
                  </a:lnTo>
                  <a:lnTo>
                    <a:pt x="2651" y="130"/>
                  </a:lnTo>
                  <a:lnTo>
                    <a:pt x="2695" y="144"/>
                  </a:lnTo>
                  <a:lnTo>
                    <a:pt x="2738" y="159"/>
                  </a:lnTo>
                  <a:lnTo>
                    <a:pt x="2776" y="173"/>
                  </a:lnTo>
                  <a:lnTo>
                    <a:pt x="2812" y="189"/>
                  </a:lnTo>
                  <a:lnTo>
                    <a:pt x="2846" y="205"/>
                  </a:lnTo>
                  <a:lnTo>
                    <a:pt x="2875" y="221"/>
                  </a:lnTo>
                  <a:lnTo>
                    <a:pt x="2902" y="238"/>
                  </a:lnTo>
                  <a:lnTo>
                    <a:pt x="2926" y="256"/>
                  </a:lnTo>
                  <a:lnTo>
                    <a:pt x="2946" y="274"/>
                  </a:lnTo>
                  <a:lnTo>
                    <a:pt x="2963" y="292"/>
                  </a:lnTo>
                  <a:lnTo>
                    <a:pt x="2976" y="310"/>
                  </a:lnTo>
                  <a:lnTo>
                    <a:pt x="2985" y="329"/>
                  </a:lnTo>
                  <a:lnTo>
                    <a:pt x="2991" y="348"/>
                  </a:lnTo>
                  <a:lnTo>
                    <a:pt x="2993" y="369"/>
                  </a:lnTo>
                  <a:close/>
                </a:path>
              </a:pathLst>
            </a:custGeom>
            <a:solidFill>
              <a:srgbClr val="fc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125440" y="6533280"/>
              <a:ext cx="330120" cy="89280"/>
            </a:xfrm>
            <a:custGeom>
              <a:avLst/>
              <a:gdLst/>
              <a:ahLst/>
              <a:rect l="l" t="t" r="r" b="b"/>
              <a:pathLst>
                <a:path w="2989" h="753">
                  <a:moveTo>
                    <a:pt x="2989" y="368"/>
                  </a:moveTo>
                  <a:lnTo>
                    <a:pt x="2987" y="388"/>
                  </a:lnTo>
                  <a:lnTo>
                    <a:pt x="2982" y="407"/>
                  </a:lnTo>
                  <a:lnTo>
                    <a:pt x="2972" y="426"/>
                  </a:lnTo>
                  <a:lnTo>
                    <a:pt x="2959" y="445"/>
                  </a:lnTo>
                  <a:lnTo>
                    <a:pt x="2943" y="465"/>
                  </a:lnTo>
                  <a:lnTo>
                    <a:pt x="2923" y="483"/>
                  </a:lnTo>
                  <a:lnTo>
                    <a:pt x="2898" y="500"/>
                  </a:lnTo>
                  <a:lnTo>
                    <a:pt x="2872" y="518"/>
                  </a:lnTo>
                  <a:lnTo>
                    <a:pt x="2842" y="535"/>
                  </a:lnTo>
                  <a:lnTo>
                    <a:pt x="2809" y="551"/>
                  </a:lnTo>
                  <a:lnTo>
                    <a:pt x="2773" y="568"/>
                  </a:lnTo>
                  <a:lnTo>
                    <a:pt x="2735" y="584"/>
                  </a:lnTo>
                  <a:lnTo>
                    <a:pt x="2692" y="599"/>
                  </a:lnTo>
                  <a:lnTo>
                    <a:pt x="2648" y="613"/>
                  </a:lnTo>
                  <a:lnTo>
                    <a:pt x="2601" y="627"/>
                  </a:lnTo>
                  <a:lnTo>
                    <a:pt x="2552" y="640"/>
                  </a:lnTo>
                  <a:lnTo>
                    <a:pt x="2499" y="653"/>
                  </a:lnTo>
                  <a:lnTo>
                    <a:pt x="2446" y="665"/>
                  </a:lnTo>
                  <a:lnTo>
                    <a:pt x="2389" y="677"/>
                  </a:lnTo>
                  <a:lnTo>
                    <a:pt x="2331" y="688"/>
                  </a:lnTo>
                  <a:lnTo>
                    <a:pt x="2270" y="698"/>
                  </a:lnTo>
                  <a:lnTo>
                    <a:pt x="2207" y="707"/>
                  </a:lnTo>
                  <a:lnTo>
                    <a:pt x="2143" y="715"/>
                  </a:lnTo>
                  <a:lnTo>
                    <a:pt x="2076" y="723"/>
                  </a:lnTo>
                  <a:lnTo>
                    <a:pt x="2009" y="730"/>
                  </a:lnTo>
                  <a:lnTo>
                    <a:pt x="1939" y="736"/>
                  </a:lnTo>
                  <a:lnTo>
                    <a:pt x="1868" y="741"/>
                  </a:lnTo>
                  <a:lnTo>
                    <a:pt x="1795" y="745"/>
                  </a:lnTo>
                  <a:lnTo>
                    <a:pt x="1722" y="749"/>
                  </a:lnTo>
                  <a:lnTo>
                    <a:pt x="1647" y="751"/>
                  </a:lnTo>
                  <a:lnTo>
                    <a:pt x="1571" y="753"/>
                  </a:lnTo>
                  <a:lnTo>
                    <a:pt x="1494" y="753"/>
                  </a:lnTo>
                  <a:lnTo>
                    <a:pt x="1418" y="753"/>
                  </a:lnTo>
                  <a:lnTo>
                    <a:pt x="1342" y="751"/>
                  </a:lnTo>
                  <a:lnTo>
                    <a:pt x="1267" y="749"/>
                  </a:lnTo>
                  <a:lnTo>
                    <a:pt x="1193" y="745"/>
                  </a:lnTo>
                  <a:lnTo>
                    <a:pt x="1121" y="741"/>
                  </a:lnTo>
                  <a:lnTo>
                    <a:pt x="1050" y="736"/>
                  </a:lnTo>
                  <a:lnTo>
                    <a:pt x="980" y="730"/>
                  </a:lnTo>
                  <a:lnTo>
                    <a:pt x="913" y="723"/>
                  </a:lnTo>
                  <a:lnTo>
                    <a:pt x="846" y="715"/>
                  </a:lnTo>
                  <a:lnTo>
                    <a:pt x="782" y="707"/>
                  </a:lnTo>
                  <a:lnTo>
                    <a:pt x="720" y="698"/>
                  </a:lnTo>
                  <a:lnTo>
                    <a:pt x="658" y="688"/>
                  </a:lnTo>
                  <a:lnTo>
                    <a:pt x="600" y="677"/>
                  </a:lnTo>
                  <a:lnTo>
                    <a:pt x="544" y="665"/>
                  </a:lnTo>
                  <a:lnTo>
                    <a:pt x="490" y="653"/>
                  </a:lnTo>
                  <a:lnTo>
                    <a:pt x="437" y="640"/>
                  </a:lnTo>
                  <a:lnTo>
                    <a:pt x="388" y="627"/>
                  </a:lnTo>
                  <a:lnTo>
                    <a:pt x="341" y="613"/>
                  </a:lnTo>
                  <a:lnTo>
                    <a:pt x="297" y="599"/>
                  </a:lnTo>
                  <a:lnTo>
                    <a:pt x="255" y="584"/>
                  </a:lnTo>
                  <a:lnTo>
                    <a:pt x="216" y="568"/>
                  </a:lnTo>
                  <a:lnTo>
                    <a:pt x="181" y="551"/>
                  </a:lnTo>
                  <a:lnTo>
                    <a:pt x="147" y="535"/>
                  </a:lnTo>
                  <a:lnTo>
                    <a:pt x="117" y="518"/>
                  </a:lnTo>
                  <a:lnTo>
                    <a:pt x="91" y="500"/>
                  </a:lnTo>
                  <a:lnTo>
                    <a:pt x="66" y="483"/>
                  </a:lnTo>
                  <a:lnTo>
                    <a:pt x="46" y="465"/>
                  </a:lnTo>
                  <a:lnTo>
                    <a:pt x="30" y="445"/>
                  </a:lnTo>
                  <a:lnTo>
                    <a:pt x="17" y="426"/>
                  </a:lnTo>
                  <a:lnTo>
                    <a:pt x="8" y="407"/>
                  </a:lnTo>
                  <a:lnTo>
                    <a:pt x="2" y="388"/>
                  </a:lnTo>
                  <a:lnTo>
                    <a:pt x="0" y="368"/>
                  </a:lnTo>
                  <a:lnTo>
                    <a:pt x="2" y="348"/>
                  </a:lnTo>
                  <a:lnTo>
                    <a:pt x="8" y="328"/>
                  </a:lnTo>
                  <a:lnTo>
                    <a:pt x="17" y="309"/>
                  </a:lnTo>
                  <a:lnTo>
                    <a:pt x="30" y="291"/>
                  </a:lnTo>
                  <a:lnTo>
                    <a:pt x="46" y="273"/>
                  </a:lnTo>
                  <a:lnTo>
                    <a:pt x="66" y="255"/>
                  </a:lnTo>
                  <a:lnTo>
                    <a:pt x="91" y="237"/>
                  </a:lnTo>
                  <a:lnTo>
                    <a:pt x="117" y="220"/>
                  </a:lnTo>
                  <a:lnTo>
                    <a:pt x="147" y="204"/>
                  </a:lnTo>
                  <a:lnTo>
                    <a:pt x="181" y="188"/>
                  </a:lnTo>
                  <a:lnTo>
                    <a:pt x="216" y="173"/>
                  </a:lnTo>
                  <a:lnTo>
                    <a:pt x="255" y="158"/>
                  </a:lnTo>
                  <a:lnTo>
                    <a:pt x="297" y="144"/>
                  </a:lnTo>
                  <a:lnTo>
                    <a:pt x="341" y="129"/>
                  </a:lnTo>
                  <a:lnTo>
                    <a:pt x="388" y="116"/>
                  </a:lnTo>
                  <a:lnTo>
                    <a:pt x="437" y="104"/>
                  </a:lnTo>
                  <a:lnTo>
                    <a:pt x="490" y="92"/>
                  </a:lnTo>
                  <a:lnTo>
                    <a:pt x="544" y="81"/>
                  </a:lnTo>
                  <a:lnTo>
                    <a:pt x="600" y="70"/>
                  </a:lnTo>
                  <a:lnTo>
                    <a:pt x="658" y="60"/>
                  </a:lnTo>
                  <a:lnTo>
                    <a:pt x="720" y="51"/>
                  </a:lnTo>
                  <a:lnTo>
                    <a:pt x="782" y="43"/>
                  </a:lnTo>
                  <a:lnTo>
                    <a:pt x="846" y="35"/>
                  </a:lnTo>
                  <a:lnTo>
                    <a:pt x="913" y="27"/>
                  </a:lnTo>
                  <a:lnTo>
                    <a:pt x="980" y="21"/>
                  </a:lnTo>
                  <a:lnTo>
                    <a:pt x="1050" y="15"/>
                  </a:lnTo>
                  <a:lnTo>
                    <a:pt x="1121" y="11"/>
                  </a:lnTo>
                  <a:lnTo>
                    <a:pt x="1193" y="7"/>
                  </a:lnTo>
                  <a:lnTo>
                    <a:pt x="1267" y="4"/>
                  </a:lnTo>
                  <a:lnTo>
                    <a:pt x="1342" y="1"/>
                  </a:lnTo>
                  <a:lnTo>
                    <a:pt x="1418" y="0"/>
                  </a:lnTo>
                  <a:lnTo>
                    <a:pt x="1494" y="0"/>
                  </a:lnTo>
                  <a:lnTo>
                    <a:pt x="1571" y="0"/>
                  </a:lnTo>
                  <a:lnTo>
                    <a:pt x="1647" y="1"/>
                  </a:lnTo>
                  <a:lnTo>
                    <a:pt x="1722" y="4"/>
                  </a:lnTo>
                  <a:lnTo>
                    <a:pt x="1795" y="7"/>
                  </a:lnTo>
                  <a:lnTo>
                    <a:pt x="1868" y="11"/>
                  </a:lnTo>
                  <a:lnTo>
                    <a:pt x="1939" y="15"/>
                  </a:lnTo>
                  <a:lnTo>
                    <a:pt x="2009" y="21"/>
                  </a:lnTo>
                  <a:lnTo>
                    <a:pt x="2076" y="27"/>
                  </a:lnTo>
                  <a:lnTo>
                    <a:pt x="2143" y="35"/>
                  </a:lnTo>
                  <a:lnTo>
                    <a:pt x="2207" y="43"/>
                  </a:lnTo>
                  <a:lnTo>
                    <a:pt x="2270" y="51"/>
                  </a:lnTo>
                  <a:lnTo>
                    <a:pt x="2331" y="60"/>
                  </a:lnTo>
                  <a:lnTo>
                    <a:pt x="2389" y="70"/>
                  </a:lnTo>
                  <a:lnTo>
                    <a:pt x="2446" y="81"/>
                  </a:lnTo>
                  <a:lnTo>
                    <a:pt x="2499" y="92"/>
                  </a:lnTo>
                  <a:lnTo>
                    <a:pt x="2552" y="104"/>
                  </a:lnTo>
                  <a:lnTo>
                    <a:pt x="2601" y="116"/>
                  </a:lnTo>
                  <a:lnTo>
                    <a:pt x="2648" y="129"/>
                  </a:lnTo>
                  <a:lnTo>
                    <a:pt x="2692" y="144"/>
                  </a:lnTo>
                  <a:lnTo>
                    <a:pt x="2735" y="158"/>
                  </a:lnTo>
                  <a:lnTo>
                    <a:pt x="2773" y="173"/>
                  </a:lnTo>
                  <a:lnTo>
                    <a:pt x="2809" y="188"/>
                  </a:lnTo>
                  <a:lnTo>
                    <a:pt x="2842" y="204"/>
                  </a:lnTo>
                  <a:lnTo>
                    <a:pt x="2872" y="220"/>
                  </a:lnTo>
                  <a:lnTo>
                    <a:pt x="2898" y="237"/>
                  </a:lnTo>
                  <a:lnTo>
                    <a:pt x="2923" y="255"/>
                  </a:lnTo>
                  <a:lnTo>
                    <a:pt x="2943" y="273"/>
                  </a:lnTo>
                  <a:lnTo>
                    <a:pt x="2959" y="291"/>
                  </a:lnTo>
                  <a:lnTo>
                    <a:pt x="2972" y="309"/>
                  </a:lnTo>
                  <a:lnTo>
                    <a:pt x="2982" y="328"/>
                  </a:lnTo>
                  <a:lnTo>
                    <a:pt x="2987" y="348"/>
                  </a:lnTo>
                  <a:lnTo>
                    <a:pt x="2989" y="368"/>
                  </a:lnTo>
                  <a:close/>
                </a:path>
              </a:pathLst>
            </a:custGeom>
            <a:solidFill>
              <a:srgbClr val="fc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25440" y="6533280"/>
              <a:ext cx="330120" cy="89280"/>
            </a:xfrm>
            <a:custGeom>
              <a:avLst/>
              <a:gdLst/>
              <a:ahLst/>
              <a:rect l="l" t="t" r="r" b="b"/>
              <a:pathLst>
                <a:path w="2987" h="751">
                  <a:moveTo>
                    <a:pt x="2987" y="367"/>
                  </a:moveTo>
                  <a:lnTo>
                    <a:pt x="2985" y="387"/>
                  </a:lnTo>
                  <a:lnTo>
                    <a:pt x="2979" y="406"/>
                  </a:lnTo>
                  <a:lnTo>
                    <a:pt x="2970" y="425"/>
                  </a:lnTo>
                  <a:lnTo>
                    <a:pt x="2957" y="444"/>
                  </a:lnTo>
                  <a:lnTo>
                    <a:pt x="2940" y="463"/>
                  </a:lnTo>
                  <a:lnTo>
                    <a:pt x="2919" y="481"/>
                  </a:lnTo>
                  <a:lnTo>
                    <a:pt x="2896" y="499"/>
                  </a:lnTo>
                  <a:lnTo>
                    <a:pt x="2870" y="516"/>
                  </a:lnTo>
                  <a:lnTo>
                    <a:pt x="2840" y="533"/>
                  </a:lnTo>
                  <a:lnTo>
                    <a:pt x="2806" y="550"/>
                  </a:lnTo>
                  <a:lnTo>
                    <a:pt x="2771" y="567"/>
                  </a:lnTo>
                  <a:lnTo>
                    <a:pt x="2732" y="582"/>
                  </a:lnTo>
                  <a:lnTo>
                    <a:pt x="2690" y="597"/>
                  </a:lnTo>
                  <a:lnTo>
                    <a:pt x="2646" y="611"/>
                  </a:lnTo>
                  <a:lnTo>
                    <a:pt x="2599" y="625"/>
                  </a:lnTo>
                  <a:lnTo>
                    <a:pt x="2550" y="639"/>
                  </a:lnTo>
                  <a:lnTo>
                    <a:pt x="2497" y="651"/>
                  </a:lnTo>
                  <a:lnTo>
                    <a:pt x="2444" y="663"/>
                  </a:lnTo>
                  <a:lnTo>
                    <a:pt x="2387" y="675"/>
                  </a:lnTo>
                  <a:lnTo>
                    <a:pt x="2329" y="686"/>
                  </a:lnTo>
                  <a:lnTo>
                    <a:pt x="2268" y="696"/>
                  </a:lnTo>
                  <a:lnTo>
                    <a:pt x="2205" y="705"/>
                  </a:lnTo>
                  <a:lnTo>
                    <a:pt x="2141" y="714"/>
                  </a:lnTo>
                  <a:lnTo>
                    <a:pt x="2075" y="721"/>
                  </a:lnTo>
                  <a:lnTo>
                    <a:pt x="2008" y="728"/>
                  </a:lnTo>
                  <a:lnTo>
                    <a:pt x="1938" y="734"/>
                  </a:lnTo>
                  <a:lnTo>
                    <a:pt x="1867" y="739"/>
                  </a:lnTo>
                  <a:lnTo>
                    <a:pt x="1794" y="743"/>
                  </a:lnTo>
                  <a:lnTo>
                    <a:pt x="1721" y="747"/>
                  </a:lnTo>
                  <a:lnTo>
                    <a:pt x="1646" y="749"/>
                  </a:lnTo>
                  <a:lnTo>
                    <a:pt x="1570" y="751"/>
                  </a:lnTo>
                  <a:lnTo>
                    <a:pt x="1493" y="751"/>
                  </a:lnTo>
                  <a:lnTo>
                    <a:pt x="1417" y="751"/>
                  </a:lnTo>
                  <a:lnTo>
                    <a:pt x="1341" y="749"/>
                  </a:lnTo>
                  <a:lnTo>
                    <a:pt x="1266" y="747"/>
                  </a:lnTo>
                  <a:lnTo>
                    <a:pt x="1192" y="743"/>
                  </a:lnTo>
                  <a:lnTo>
                    <a:pt x="1120" y="739"/>
                  </a:lnTo>
                  <a:lnTo>
                    <a:pt x="1049" y="734"/>
                  </a:lnTo>
                  <a:lnTo>
                    <a:pt x="980" y="728"/>
                  </a:lnTo>
                  <a:lnTo>
                    <a:pt x="912" y="721"/>
                  </a:lnTo>
                  <a:lnTo>
                    <a:pt x="846" y="714"/>
                  </a:lnTo>
                  <a:lnTo>
                    <a:pt x="781" y="705"/>
                  </a:lnTo>
                  <a:lnTo>
                    <a:pt x="719" y="696"/>
                  </a:lnTo>
                  <a:lnTo>
                    <a:pt x="658" y="686"/>
                  </a:lnTo>
                  <a:lnTo>
                    <a:pt x="600" y="675"/>
                  </a:lnTo>
                  <a:lnTo>
                    <a:pt x="543" y="663"/>
                  </a:lnTo>
                  <a:lnTo>
                    <a:pt x="490" y="651"/>
                  </a:lnTo>
                  <a:lnTo>
                    <a:pt x="437" y="639"/>
                  </a:lnTo>
                  <a:lnTo>
                    <a:pt x="388" y="625"/>
                  </a:lnTo>
                  <a:lnTo>
                    <a:pt x="341" y="611"/>
                  </a:lnTo>
                  <a:lnTo>
                    <a:pt x="297" y="597"/>
                  </a:lnTo>
                  <a:lnTo>
                    <a:pt x="255" y="582"/>
                  </a:lnTo>
                  <a:lnTo>
                    <a:pt x="216" y="567"/>
                  </a:lnTo>
                  <a:lnTo>
                    <a:pt x="181" y="550"/>
                  </a:lnTo>
                  <a:lnTo>
                    <a:pt x="147" y="533"/>
                  </a:lnTo>
                  <a:lnTo>
                    <a:pt x="118" y="516"/>
                  </a:lnTo>
                  <a:lnTo>
                    <a:pt x="91" y="499"/>
                  </a:lnTo>
                  <a:lnTo>
                    <a:pt x="67" y="481"/>
                  </a:lnTo>
                  <a:lnTo>
                    <a:pt x="47" y="463"/>
                  </a:lnTo>
                  <a:lnTo>
                    <a:pt x="30" y="444"/>
                  </a:lnTo>
                  <a:lnTo>
                    <a:pt x="17" y="425"/>
                  </a:lnTo>
                  <a:lnTo>
                    <a:pt x="8" y="406"/>
                  </a:lnTo>
                  <a:lnTo>
                    <a:pt x="2" y="387"/>
                  </a:lnTo>
                  <a:lnTo>
                    <a:pt x="0" y="367"/>
                  </a:lnTo>
                  <a:lnTo>
                    <a:pt x="2" y="347"/>
                  </a:lnTo>
                  <a:lnTo>
                    <a:pt x="8" y="327"/>
                  </a:lnTo>
                  <a:lnTo>
                    <a:pt x="17" y="309"/>
                  </a:lnTo>
                  <a:lnTo>
                    <a:pt x="30" y="290"/>
                  </a:lnTo>
                  <a:lnTo>
                    <a:pt x="47" y="272"/>
                  </a:lnTo>
                  <a:lnTo>
                    <a:pt x="67" y="254"/>
                  </a:lnTo>
                  <a:lnTo>
                    <a:pt x="91" y="236"/>
                  </a:lnTo>
                  <a:lnTo>
                    <a:pt x="118" y="220"/>
                  </a:lnTo>
                  <a:lnTo>
                    <a:pt x="147" y="203"/>
                  </a:lnTo>
                  <a:lnTo>
                    <a:pt x="181" y="188"/>
                  </a:lnTo>
                  <a:lnTo>
                    <a:pt x="216" y="172"/>
                  </a:lnTo>
                  <a:lnTo>
                    <a:pt x="255" y="158"/>
                  </a:lnTo>
                  <a:lnTo>
                    <a:pt x="297" y="143"/>
                  </a:lnTo>
                  <a:lnTo>
                    <a:pt x="341" y="129"/>
                  </a:lnTo>
                  <a:lnTo>
                    <a:pt x="388" y="116"/>
                  </a:lnTo>
                  <a:lnTo>
                    <a:pt x="437" y="103"/>
                  </a:lnTo>
                  <a:lnTo>
                    <a:pt x="490" y="92"/>
                  </a:lnTo>
                  <a:lnTo>
                    <a:pt x="543" y="80"/>
                  </a:lnTo>
                  <a:lnTo>
                    <a:pt x="600" y="70"/>
                  </a:lnTo>
                  <a:lnTo>
                    <a:pt x="658" y="60"/>
                  </a:lnTo>
                  <a:lnTo>
                    <a:pt x="719" y="51"/>
                  </a:lnTo>
                  <a:lnTo>
                    <a:pt x="781" y="43"/>
                  </a:lnTo>
                  <a:lnTo>
                    <a:pt x="846" y="35"/>
                  </a:lnTo>
                  <a:lnTo>
                    <a:pt x="912" y="27"/>
                  </a:lnTo>
                  <a:lnTo>
                    <a:pt x="980" y="21"/>
                  </a:lnTo>
                  <a:lnTo>
                    <a:pt x="1049" y="15"/>
                  </a:lnTo>
                  <a:lnTo>
                    <a:pt x="1120" y="10"/>
                  </a:lnTo>
                  <a:lnTo>
                    <a:pt x="1192" y="7"/>
                  </a:lnTo>
                  <a:lnTo>
                    <a:pt x="1266" y="4"/>
                  </a:lnTo>
                  <a:lnTo>
                    <a:pt x="1341" y="1"/>
                  </a:lnTo>
                  <a:lnTo>
                    <a:pt x="1417" y="0"/>
                  </a:lnTo>
                  <a:lnTo>
                    <a:pt x="1493" y="0"/>
                  </a:lnTo>
                  <a:lnTo>
                    <a:pt x="1570" y="0"/>
                  </a:lnTo>
                  <a:lnTo>
                    <a:pt x="1646" y="1"/>
                  </a:lnTo>
                  <a:lnTo>
                    <a:pt x="1721" y="4"/>
                  </a:lnTo>
                  <a:lnTo>
                    <a:pt x="1794" y="7"/>
                  </a:lnTo>
                  <a:lnTo>
                    <a:pt x="1867" y="10"/>
                  </a:lnTo>
                  <a:lnTo>
                    <a:pt x="1938" y="15"/>
                  </a:lnTo>
                  <a:lnTo>
                    <a:pt x="2008" y="21"/>
                  </a:lnTo>
                  <a:lnTo>
                    <a:pt x="2075" y="27"/>
                  </a:lnTo>
                  <a:lnTo>
                    <a:pt x="2141" y="35"/>
                  </a:lnTo>
                  <a:lnTo>
                    <a:pt x="2205" y="43"/>
                  </a:lnTo>
                  <a:lnTo>
                    <a:pt x="2268" y="51"/>
                  </a:lnTo>
                  <a:lnTo>
                    <a:pt x="2329" y="60"/>
                  </a:lnTo>
                  <a:lnTo>
                    <a:pt x="2387" y="70"/>
                  </a:lnTo>
                  <a:lnTo>
                    <a:pt x="2444" y="80"/>
                  </a:lnTo>
                  <a:lnTo>
                    <a:pt x="2497" y="92"/>
                  </a:lnTo>
                  <a:lnTo>
                    <a:pt x="2550" y="103"/>
                  </a:lnTo>
                  <a:lnTo>
                    <a:pt x="2599" y="116"/>
                  </a:lnTo>
                  <a:lnTo>
                    <a:pt x="2646" y="129"/>
                  </a:lnTo>
                  <a:lnTo>
                    <a:pt x="2690" y="143"/>
                  </a:lnTo>
                  <a:lnTo>
                    <a:pt x="2732" y="158"/>
                  </a:lnTo>
                  <a:lnTo>
                    <a:pt x="2771" y="172"/>
                  </a:lnTo>
                  <a:lnTo>
                    <a:pt x="2806" y="188"/>
                  </a:lnTo>
                  <a:lnTo>
                    <a:pt x="2840" y="203"/>
                  </a:lnTo>
                  <a:lnTo>
                    <a:pt x="2870" y="220"/>
                  </a:lnTo>
                  <a:lnTo>
                    <a:pt x="2896" y="236"/>
                  </a:lnTo>
                  <a:lnTo>
                    <a:pt x="2919" y="254"/>
                  </a:lnTo>
                  <a:lnTo>
                    <a:pt x="2940" y="272"/>
                  </a:lnTo>
                  <a:lnTo>
                    <a:pt x="2957" y="290"/>
                  </a:lnTo>
                  <a:lnTo>
                    <a:pt x="2970" y="309"/>
                  </a:lnTo>
                  <a:lnTo>
                    <a:pt x="2979" y="327"/>
                  </a:lnTo>
                  <a:lnTo>
                    <a:pt x="2985" y="347"/>
                  </a:lnTo>
                  <a:lnTo>
                    <a:pt x="2987" y="367"/>
                  </a:lnTo>
                  <a:close/>
                </a:path>
              </a:pathLst>
            </a:custGeom>
            <a:solidFill>
              <a:srgbClr val="fc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125440" y="6533280"/>
              <a:ext cx="330120" cy="89280"/>
            </a:xfrm>
            <a:custGeom>
              <a:avLst/>
              <a:gdLst/>
              <a:ahLst/>
              <a:rect l="l" t="t" r="r" b="b"/>
              <a:pathLst>
                <a:path w="2983" h="749">
                  <a:moveTo>
                    <a:pt x="2983" y="366"/>
                  </a:moveTo>
                  <a:lnTo>
                    <a:pt x="2982" y="386"/>
                  </a:lnTo>
                  <a:lnTo>
                    <a:pt x="2976" y="405"/>
                  </a:lnTo>
                  <a:lnTo>
                    <a:pt x="2966" y="424"/>
                  </a:lnTo>
                  <a:lnTo>
                    <a:pt x="2953" y="443"/>
                  </a:lnTo>
                  <a:lnTo>
                    <a:pt x="2937" y="462"/>
                  </a:lnTo>
                  <a:lnTo>
                    <a:pt x="2916" y="480"/>
                  </a:lnTo>
                  <a:lnTo>
                    <a:pt x="2893" y="498"/>
                  </a:lnTo>
                  <a:lnTo>
                    <a:pt x="2866" y="515"/>
                  </a:lnTo>
                  <a:lnTo>
                    <a:pt x="2837" y="532"/>
                  </a:lnTo>
                  <a:lnTo>
                    <a:pt x="2803" y="548"/>
                  </a:lnTo>
                  <a:lnTo>
                    <a:pt x="2768" y="565"/>
                  </a:lnTo>
                  <a:lnTo>
                    <a:pt x="2729" y="581"/>
                  </a:lnTo>
                  <a:lnTo>
                    <a:pt x="2687" y="596"/>
                  </a:lnTo>
                  <a:lnTo>
                    <a:pt x="2643" y="610"/>
                  </a:lnTo>
                  <a:lnTo>
                    <a:pt x="2596" y="624"/>
                  </a:lnTo>
                  <a:lnTo>
                    <a:pt x="2547" y="637"/>
                  </a:lnTo>
                  <a:lnTo>
                    <a:pt x="2494" y="649"/>
                  </a:lnTo>
                  <a:lnTo>
                    <a:pt x="2441" y="661"/>
                  </a:lnTo>
                  <a:lnTo>
                    <a:pt x="2384" y="674"/>
                  </a:lnTo>
                  <a:lnTo>
                    <a:pt x="2326" y="684"/>
                  </a:lnTo>
                  <a:lnTo>
                    <a:pt x="2265" y="694"/>
                  </a:lnTo>
                  <a:lnTo>
                    <a:pt x="2202" y="703"/>
                  </a:lnTo>
                  <a:lnTo>
                    <a:pt x="2139" y="712"/>
                  </a:lnTo>
                  <a:lnTo>
                    <a:pt x="2072" y="719"/>
                  </a:lnTo>
                  <a:lnTo>
                    <a:pt x="2005" y="726"/>
                  </a:lnTo>
                  <a:lnTo>
                    <a:pt x="1935" y="732"/>
                  </a:lnTo>
                  <a:lnTo>
                    <a:pt x="1864" y="737"/>
                  </a:lnTo>
                  <a:lnTo>
                    <a:pt x="1792" y="741"/>
                  </a:lnTo>
                  <a:lnTo>
                    <a:pt x="1719" y="745"/>
                  </a:lnTo>
                  <a:lnTo>
                    <a:pt x="1644" y="747"/>
                  </a:lnTo>
                  <a:lnTo>
                    <a:pt x="1568" y="749"/>
                  </a:lnTo>
                  <a:lnTo>
                    <a:pt x="1491" y="749"/>
                  </a:lnTo>
                  <a:lnTo>
                    <a:pt x="1415" y="749"/>
                  </a:lnTo>
                  <a:lnTo>
                    <a:pt x="1339" y="747"/>
                  </a:lnTo>
                  <a:lnTo>
                    <a:pt x="1264" y="745"/>
                  </a:lnTo>
                  <a:lnTo>
                    <a:pt x="1190" y="741"/>
                  </a:lnTo>
                  <a:lnTo>
                    <a:pt x="1119" y="737"/>
                  </a:lnTo>
                  <a:lnTo>
                    <a:pt x="1048" y="732"/>
                  </a:lnTo>
                  <a:lnTo>
                    <a:pt x="978" y="726"/>
                  </a:lnTo>
                  <a:lnTo>
                    <a:pt x="911" y="719"/>
                  </a:lnTo>
                  <a:lnTo>
                    <a:pt x="845" y="712"/>
                  </a:lnTo>
                  <a:lnTo>
                    <a:pt x="780" y="703"/>
                  </a:lnTo>
                  <a:lnTo>
                    <a:pt x="718" y="694"/>
                  </a:lnTo>
                  <a:lnTo>
                    <a:pt x="657" y="684"/>
                  </a:lnTo>
                  <a:lnTo>
                    <a:pt x="599" y="674"/>
                  </a:lnTo>
                  <a:lnTo>
                    <a:pt x="542" y="661"/>
                  </a:lnTo>
                  <a:lnTo>
                    <a:pt x="489" y="649"/>
                  </a:lnTo>
                  <a:lnTo>
                    <a:pt x="436" y="637"/>
                  </a:lnTo>
                  <a:lnTo>
                    <a:pt x="388" y="624"/>
                  </a:lnTo>
                  <a:lnTo>
                    <a:pt x="340" y="610"/>
                  </a:lnTo>
                  <a:lnTo>
                    <a:pt x="296" y="596"/>
                  </a:lnTo>
                  <a:lnTo>
                    <a:pt x="254" y="581"/>
                  </a:lnTo>
                  <a:lnTo>
                    <a:pt x="216" y="565"/>
                  </a:lnTo>
                  <a:lnTo>
                    <a:pt x="180" y="548"/>
                  </a:lnTo>
                  <a:lnTo>
                    <a:pt x="146" y="532"/>
                  </a:lnTo>
                  <a:lnTo>
                    <a:pt x="117" y="515"/>
                  </a:lnTo>
                  <a:lnTo>
                    <a:pt x="90" y="498"/>
                  </a:lnTo>
                  <a:lnTo>
                    <a:pt x="66" y="480"/>
                  </a:lnTo>
                  <a:lnTo>
                    <a:pt x="46" y="462"/>
                  </a:lnTo>
                  <a:lnTo>
                    <a:pt x="30" y="443"/>
                  </a:lnTo>
                  <a:lnTo>
                    <a:pt x="17" y="424"/>
                  </a:lnTo>
                  <a:lnTo>
                    <a:pt x="7" y="405"/>
                  </a:lnTo>
                  <a:lnTo>
                    <a:pt x="2" y="386"/>
                  </a:lnTo>
                  <a:lnTo>
                    <a:pt x="0" y="366"/>
                  </a:lnTo>
                  <a:lnTo>
                    <a:pt x="2" y="346"/>
                  </a:lnTo>
                  <a:lnTo>
                    <a:pt x="7" y="326"/>
                  </a:lnTo>
                  <a:lnTo>
                    <a:pt x="17" y="308"/>
                  </a:lnTo>
                  <a:lnTo>
                    <a:pt x="30" y="289"/>
                  </a:lnTo>
                  <a:lnTo>
                    <a:pt x="46" y="271"/>
                  </a:lnTo>
                  <a:lnTo>
                    <a:pt x="66" y="254"/>
                  </a:lnTo>
                  <a:lnTo>
                    <a:pt x="90" y="236"/>
                  </a:lnTo>
                  <a:lnTo>
                    <a:pt x="117" y="219"/>
                  </a:lnTo>
                  <a:lnTo>
                    <a:pt x="146" y="203"/>
                  </a:lnTo>
                  <a:lnTo>
                    <a:pt x="180" y="187"/>
                  </a:lnTo>
                  <a:lnTo>
                    <a:pt x="216" y="172"/>
                  </a:lnTo>
                  <a:lnTo>
                    <a:pt x="254" y="157"/>
                  </a:lnTo>
                  <a:lnTo>
                    <a:pt x="296" y="143"/>
                  </a:lnTo>
                  <a:lnTo>
                    <a:pt x="340" y="128"/>
                  </a:lnTo>
                  <a:lnTo>
                    <a:pt x="388" y="115"/>
                  </a:lnTo>
                  <a:lnTo>
                    <a:pt x="436" y="103"/>
                  </a:lnTo>
                  <a:lnTo>
                    <a:pt x="489" y="91"/>
                  </a:lnTo>
                  <a:lnTo>
                    <a:pt x="542" y="80"/>
                  </a:lnTo>
                  <a:lnTo>
                    <a:pt x="599" y="70"/>
                  </a:lnTo>
                  <a:lnTo>
                    <a:pt x="657" y="60"/>
                  </a:lnTo>
                  <a:lnTo>
                    <a:pt x="718" y="51"/>
                  </a:lnTo>
                  <a:lnTo>
                    <a:pt x="780" y="42"/>
                  </a:lnTo>
                  <a:lnTo>
                    <a:pt x="845" y="35"/>
                  </a:lnTo>
                  <a:lnTo>
                    <a:pt x="911" y="27"/>
                  </a:lnTo>
                  <a:lnTo>
                    <a:pt x="978" y="20"/>
                  </a:lnTo>
                  <a:lnTo>
                    <a:pt x="1048" y="15"/>
                  </a:lnTo>
                  <a:lnTo>
                    <a:pt x="1119" y="10"/>
                  </a:lnTo>
                  <a:lnTo>
                    <a:pt x="1190" y="7"/>
                  </a:lnTo>
                  <a:lnTo>
                    <a:pt x="1264" y="3"/>
                  </a:lnTo>
                  <a:lnTo>
                    <a:pt x="1339" y="1"/>
                  </a:lnTo>
                  <a:lnTo>
                    <a:pt x="1415" y="0"/>
                  </a:lnTo>
                  <a:lnTo>
                    <a:pt x="1491" y="0"/>
                  </a:lnTo>
                  <a:lnTo>
                    <a:pt x="1568" y="0"/>
                  </a:lnTo>
                  <a:lnTo>
                    <a:pt x="1644" y="1"/>
                  </a:lnTo>
                  <a:lnTo>
                    <a:pt x="1719" y="3"/>
                  </a:lnTo>
                  <a:lnTo>
                    <a:pt x="1792" y="7"/>
                  </a:lnTo>
                  <a:lnTo>
                    <a:pt x="1864" y="10"/>
                  </a:lnTo>
                  <a:lnTo>
                    <a:pt x="1935" y="15"/>
                  </a:lnTo>
                  <a:lnTo>
                    <a:pt x="2005" y="20"/>
                  </a:lnTo>
                  <a:lnTo>
                    <a:pt x="2072" y="27"/>
                  </a:lnTo>
                  <a:lnTo>
                    <a:pt x="2139" y="35"/>
                  </a:lnTo>
                  <a:lnTo>
                    <a:pt x="2202" y="42"/>
                  </a:lnTo>
                  <a:lnTo>
                    <a:pt x="2265" y="51"/>
                  </a:lnTo>
                  <a:lnTo>
                    <a:pt x="2326" y="60"/>
                  </a:lnTo>
                  <a:lnTo>
                    <a:pt x="2384" y="70"/>
                  </a:lnTo>
                  <a:lnTo>
                    <a:pt x="2441" y="80"/>
                  </a:lnTo>
                  <a:lnTo>
                    <a:pt x="2494" y="91"/>
                  </a:lnTo>
                  <a:lnTo>
                    <a:pt x="2547" y="103"/>
                  </a:lnTo>
                  <a:lnTo>
                    <a:pt x="2596" y="115"/>
                  </a:lnTo>
                  <a:lnTo>
                    <a:pt x="2643" y="128"/>
                  </a:lnTo>
                  <a:lnTo>
                    <a:pt x="2687" y="143"/>
                  </a:lnTo>
                  <a:lnTo>
                    <a:pt x="2729" y="157"/>
                  </a:lnTo>
                  <a:lnTo>
                    <a:pt x="2768" y="172"/>
                  </a:lnTo>
                  <a:lnTo>
                    <a:pt x="2803" y="187"/>
                  </a:lnTo>
                  <a:lnTo>
                    <a:pt x="2837" y="203"/>
                  </a:lnTo>
                  <a:lnTo>
                    <a:pt x="2866" y="219"/>
                  </a:lnTo>
                  <a:lnTo>
                    <a:pt x="2893" y="236"/>
                  </a:lnTo>
                  <a:lnTo>
                    <a:pt x="2916" y="254"/>
                  </a:lnTo>
                  <a:lnTo>
                    <a:pt x="2937" y="271"/>
                  </a:lnTo>
                  <a:lnTo>
                    <a:pt x="2953" y="289"/>
                  </a:lnTo>
                  <a:lnTo>
                    <a:pt x="2966" y="308"/>
                  </a:lnTo>
                  <a:lnTo>
                    <a:pt x="2976" y="326"/>
                  </a:lnTo>
                  <a:lnTo>
                    <a:pt x="2982" y="346"/>
                  </a:lnTo>
                  <a:lnTo>
                    <a:pt x="2983" y="366"/>
                  </a:lnTo>
                  <a:close/>
                </a:path>
              </a:pathLst>
            </a:custGeom>
            <a:solidFill>
              <a:srgbClr val="fc6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125440" y="6533280"/>
              <a:ext cx="329040" cy="89280"/>
            </a:xfrm>
            <a:custGeom>
              <a:avLst/>
              <a:gdLst/>
              <a:ahLst/>
              <a:rect l="l" t="t" r="r" b="b"/>
              <a:pathLst>
                <a:path w="2981" h="748">
                  <a:moveTo>
                    <a:pt x="2981" y="366"/>
                  </a:moveTo>
                  <a:lnTo>
                    <a:pt x="2979" y="386"/>
                  </a:lnTo>
                  <a:lnTo>
                    <a:pt x="2973" y="405"/>
                  </a:lnTo>
                  <a:lnTo>
                    <a:pt x="2964" y="424"/>
                  </a:lnTo>
                  <a:lnTo>
                    <a:pt x="2951" y="443"/>
                  </a:lnTo>
                  <a:lnTo>
                    <a:pt x="2935" y="462"/>
                  </a:lnTo>
                  <a:lnTo>
                    <a:pt x="2914" y="480"/>
                  </a:lnTo>
                  <a:lnTo>
                    <a:pt x="2890" y="498"/>
                  </a:lnTo>
                  <a:lnTo>
                    <a:pt x="2864" y="515"/>
                  </a:lnTo>
                  <a:lnTo>
                    <a:pt x="2834" y="532"/>
                  </a:lnTo>
                  <a:lnTo>
                    <a:pt x="2801" y="548"/>
                  </a:lnTo>
                  <a:lnTo>
                    <a:pt x="2765" y="565"/>
                  </a:lnTo>
                  <a:lnTo>
                    <a:pt x="2727" y="580"/>
                  </a:lnTo>
                  <a:lnTo>
                    <a:pt x="2685" y="595"/>
                  </a:lnTo>
                  <a:lnTo>
                    <a:pt x="2641" y="609"/>
                  </a:lnTo>
                  <a:lnTo>
                    <a:pt x="2594" y="623"/>
                  </a:lnTo>
                  <a:lnTo>
                    <a:pt x="2545" y="636"/>
                  </a:lnTo>
                  <a:lnTo>
                    <a:pt x="2492" y="649"/>
                  </a:lnTo>
                  <a:lnTo>
                    <a:pt x="2439" y="661"/>
                  </a:lnTo>
                  <a:lnTo>
                    <a:pt x="2382" y="673"/>
                  </a:lnTo>
                  <a:lnTo>
                    <a:pt x="2324" y="684"/>
                  </a:lnTo>
                  <a:lnTo>
                    <a:pt x="2263" y="693"/>
                  </a:lnTo>
                  <a:lnTo>
                    <a:pt x="2201" y="703"/>
                  </a:lnTo>
                  <a:lnTo>
                    <a:pt x="2137" y="711"/>
                  </a:lnTo>
                  <a:lnTo>
                    <a:pt x="2071" y="718"/>
                  </a:lnTo>
                  <a:lnTo>
                    <a:pt x="2004" y="725"/>
                  </a:lnTo>
                  <a:lnTo>
                    <a:pt x="1934" y="731"/>
                  </a:lnTo>
                  <a:lnTo>
                    <a:pt x="1863" y="736"/>
                  </a:lnTo>
                  <a:lnTo>
                    <a:pt x="1791" y="741"/>
                  </a:lnTo>
                  <a:lnTo>
                    <a:pt x="1718" y="744"/>
                  </a:lnTo>
                  <a:lnTo>
                    <a:pt x="1643" y="746"/>
                  </a:lnTo>
                  <a:lnTo>
                    <a:pt x="1567" y="748"/>
                  </a:lnTo>
                  <a:lnTo>
                    <a:pt x="1490" y="748"/>
                  </a:lnTo>
                  <a:lnTo>
                    <a:pt x="1414" y="748"/>
                  </a:lnTo>
                  <a:lnTo>
                    <a:pt x="1338" y="746"/>
                  </a:lnTo>
                  <a:lnTo>
                    <a:pt x="1263" y="744"/>
                  </a:lnTo>
                  <a:lnTo>
                    <a:pt x="1191" y="741"/>
                  </a:lnTo>
                  <a:lnTo>
                    <a:pt x="1118" y="736"/>
                  </a:lnTo>
                  <a:lnTo>
                    <a:pt x="1047" y="731"/>
                  </a:lnTo>
                  <a:lnTo>
                    <a:pt x="978" y="725"/>
                  </a:lnTo>
                  <a:lnTo>
                    <a:pt x="911" y="718"/>
                  </a:lnTo>
                  <a:lnTo>
                    <a:pt x="844" y="711"/>
                  </a:lnTo>
                  <a:lnTo>
                    <a:pt x="780" y="703"/>
                  </a:lnTo>
                  <a:lnTo>
                    <a:pt x="718" y="693"/>
                  </a:lnTo>
                  <a:lnTo>
                    <a:pt x="657" y="684"/>
                  </a:lnTo>
                  <a:lnTo>
                    <a:pt x="599" y="673"/>
                  </a:lnTo>
                  <a:lnTo>
                    <a:pt x="542" y="661"/>
                  </a:lnTo>
                  <a:lnTo>
                    <a:pt x="489" y="649"/>
                  </a:lnTo>
                  <a:lnTo>
                    <a:pt x="436" y="636"/>
                  </a:lnTo>
                  <a:lnTo>
                    <a:pt x="388" y="623"/>
                  </a:lnTo>
                  <a:lnTo>
                    <a:pt x="340" y="609"/>
                  </a:lnTo>
                  <a:lnTo>
                    <a:pt x="296" y="595"/>
                  </a:lnTo>
                  <a:lnTo>
                    <a:pt x="254" y="580"/>
                  </a:lnTo>
                  <a:lnTo>
                    <a:pt x="216" y="565"/>
                  </a:lnTo>
                  <a:lnTo>
                    <a:pt x="180" y="548"/>
                  </a:lnTo>
                  <a:lnTo>
                    <a:pt x="147" y="532"/>
                  </a:lnTo>
                  <a:lnTo>
                    <a:pt x="117" y="515"/>
                  </a:lnTo>
                  <a:lnTo>
                    <a:pt x="91" y="498"/>
                  </a:lnTo>
                  <a:lnTo>
                    <a:pt x="67" y="480"/>
                  </a:lnTo>
                  <a:lnTo>
                    <a:pt x="47" y="462"/>
                  </a:lnTo>
                  <a:lnTo>
                    <a:pt x="30" y="443"/>
                  </a:lnTo>
                  <a:lnTo>
                    <a:pt x="17" y="424"/>
                  </a:lnTo>
                  <a:lnTo>
                    <a:pt x="8" y="405"/>
                  </a:lnTo>
                  <a:lnTo>
                    <a:pt x="2" y="386"/>
                  </a:lnTo>
                  <a:lnTo>
                    <a:pt x="0" y="366"/>
                  </a:lnTo>
                  <a:lnTo>
                    <a:pt x="2" y="346"/>
                  </a:lnTo>
                  <a:lnTo>
                    <a:pt x="8" y="327"/>
                  </a:lnTo>
                  <a:lnTo>
                    <a:pt x="17" y="308"/>
                  </a:lnTo>
                  <a:lnTo>
                    <a:pt x="30" y="289"/>
                  </a:lnTo>
                  <a:lnTo>
                    <a:pt x="47" y="272"/>
                  </a:lnTo>
                  <a:lnTo>
                    <a:pt x="67" y="254"/>
                  </a:lnTo>
                  <a:lnTo>
                    <a:pt x="91" y="236"/>
                  </a:lnTo>
                  <a:lnTo>
                    <a:pt x="117" y="219"/>
                  </a:lnTo>
                  <a:lnTo>
                    <a:pt x="147" y="203"/>
                  </a:lnTo>
                  <a:lnTo>
                    <a:pt x="180" y="187"/>
                  </a:lnTo>
                  <a:lnTo>
                    <a:pt x="216" y="172"/>
                  </a:lnTo>
                  <a:lnTo>
                    <a:pt x="254" y="158"/>
                  </a:lnTo>
                  <a:lnTo>
                    <a:pt x="296" y="144"/>
                  </a:lnTo>
                  <a:lnTo>
                    <a:pt x="340" y="129"/>
                  </a:lnTo>
                  <a:lnTo>
                    <a:pt x="388" y="116"/>
                  </a:lnTo>
                  <a:lnTo>
                    <a:pt x="436" y="104"/>
                  </a:lnTo>
                  <a:lnTo>
                    <a:pt x="489" y="92"/>
                  </a:lnTo>
                  <a:lnTo>
                    <a:pt x="542" y="81"/>
                  </a:lnTo>
                  <a:lnTo>
                    <a:pt x="599" y="70"/>
                  </a:lnTo>
                  <a:lnTo>
                    <a:pt x="657" y="61"/>
                  </a:lnTo>
                  <a:lnTo>
                    <a:pt x="718" y="52"/>
                  </a:lnTo>
                  <a:lnTo>
                    <a:pt x="780" y="43"/>
                  </a:lnTo>
                  <a:lnTo>
                    <a:pt x="844" y="35"/>
                  </a:lnTo>
                  <a:lnTo>
                    <a:pt x="911" y="29"/>
                  </a:lnTo>
                  <a:lnTo>
                    <a:pt x="978" y="21"/>
                  </a:lnTo>
                  <a:lnTo>
                    <a:pt x="1047" y="16"/>
                  </a:lnTo>
                  <a:lnTo>
                    <a:pt x="1118" y="11"/>
                  </a:lnTo>
                  <a:lnTo>
                    <a:pt x="1191" y="7"/>
                  </a:lnTo>
                  <a:lnTo>
                    <a:pt x="1263" y="4"/>
                  </a:lnTo>
                  <a:lnTo>
                    <a:pt x="1338" y="2"/>
                  </a:lnTo>
                  <a:lnTo>
                    <a:pt x="1414" y="1"/>
                  </a:lnTo>
                  <a:lnTo>
                    <a:pt x="1490" y="0"/>
                  </a:lnTo>
                  <a:lnTo>
                    <a:pt x="1567" y="1"/>
                  </a:lnTo>
                  <a:lnTo>
                    <a:pt x="1643" y="2"/>
                  </a:lnTo>
                  <a:lnTo>
                    <a:pt x="1718" y="4"/>
                  </a:lnTo>
                  <a:lnTo>
                    <a:pt x="1791" y="7"/>
                  </a:lnTo>
                  <a:lnTo>
                    <a:pt x="1863" y="11"/>
                  </a:lnTo>
                  <a:lnTo>
                    <a:pt x="1934" y="16"/>
                  </a:lnTo>
                  <a:lnTo>
                    <a:pt x="2004" y="21"/>
                  </a:lnTo>
                  <a:lnTo>
                    <a:pt x="2071" y="29"/>
                  </a:lnTo>
                  <a:lnTo>
                    <a:pt x="2137" y="35"/>
                  </a:lnTo>
                  <a:lnTo>
                    <a:pt x="2201" y="43"/>
                  </a:lnTo>
                  <a:lnTo>
                    <a:pt x="2263" y="52"/>
                  </a:lnTo>
                  <a:lnTo>
                    <a:pt x="2324" y="61"/>
                  </a:lnTo>
                  <a:lnTo>
                    <a:pt x="2382" y="70"/>
                  </a:lnTo>
                  <a:lnTo>
                    <a:pt x="2439" y="81"/>
                  </a:lnTo>
                  <a:lnTo>
                    <a:pt x="2492" y="92"/>
                  </a:lnTo>
                  <a:lnTo>
                    <a:pt x="2545" y="104"/>
                  </a:lnTo>
                  <a:lnTo>
                    <a:pt x="2594" y="116"/>
                  </a:lnTo>
                  <a:lnTo>
                    <a:pt x="2641" y="129"/>
                  </a:lnTo>
                  <a:lnTo>
                    <a:pt x="2685" y="144"/>
                  </a:lnTo>
                  <a:lnTo>
                    <a:pt x="2727" y="158"/>
                  </a:lnTo>
                  <a:lnTo>
                    <a:pt x="2765" y="172"/>
                  </a:lnTo>
                  <a:lnTo>
                    <a:pt x="2801" y="187"/>
                  </a:lnTo>
                  <a:lnTo>
                    <a:pt x="2834" y="203"/>
                  </a:lnTo>
                  <a:lnTo>
                    <a:pt x="2864" y="219"/>
                  </a:lnTo>
                  <a:lnTo>
                    <a:pt x="2890" y="236"/>
                  </a:lnTo>
                  <a:lnTo>
                    <a:pt x="2914" y="254"/>
                  </a:lnTo>
                  <a:lnTo>
                    <a:pt x="2935" y="272"/>
                  </a:lnTo>
                  <a:lnTo>
                    <a:pt x="2951" y="289"/>
                  </a:lnTo>
                  <a:lnTo>
                    <a:pt x="2964" y="308"/>
                  </a:lnTo>
                  <a:lnTo>
                    <a:pt x="2973" y="327"/>
                  </a:lnTo>
                  <a:lnTo>
                    <a:pt x="2979" y="346"/>
                  </a:lnTo>
                  <a:lnTo>
                    <a:pt x="2981" y="366"/>
                  </a:lnTo>
                  <a:close/>
                </a:path>
              </a:pathLst>
            </a:custGeom>
            <a:solidFill>
              <a:srgbClr val="fc6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126520" y="6533280"/>
              <a:ext cx="327960" cy="89280"/>
            </a:xfrm>
            <a:custGeom>
              <a:avLst/>
              <a:gdLst/>
              <a:ahLst/>
              <a:rect l="l" t="t" r="r" b="b"/>
              <a:pathLst>
                <a:path w="2978" h="746">
                  <a:moveTo>
                    <a:pt x="2978" y="365"/>
                  </a:moveTo>
                  <a:lnTo>
                    <a:pt x="2976" y="385"/>
                  </a:lnTo>
                  <a:lnTo>
                    <a:pt x="2970" y="404"/>
                  </a:lnTo>
                  <a:lnTo>
                    <a:pt x="2961" y="423"/>
                  </a:lnTo>
                  <a:lnTo>
                    <a:pt x="2948" y="441"/>
                  </a:lnTo>
                  <a:lnTo>
                    <a:pt x="2931" y="461"/>
                  </a:lnTo>
                  <a:lnTo>
                    <a:pt x="2910" y="479"/>
                  </a:lnTo>
                  <a:lnTo>
                    <a:pt x="2887" y="496"/>
                  </a:lnTo>
                  <a:lnTo>
                    <a:pt x="2861" y="513"/>
                  </a:lnTo>
                  <a:lnTo>
                    <a:pt x="2831" y="530"/>
                  </a:lnTo>
                  <a:lnTo>
                    <a:pt x="2798" y="546"/>
                  </a:lnTo>
                  <a:lnTo>
                    <a:pt x="2762" y="563"/>
                  </a:lnTo>
                  <a:lnTo>
                    <a:pt x="2724" y="579"/>
                  </a:lnTo>
                  <a:lnTo>
                    <a:pt x="2682" y="593"/>
                  </a:lnTo>
                  <a:lnTo>
                    <a:pt x="2638" y="608"/>
                  </a:lnTo>
                  <a:lnTo>
                    <a:pt x="2591" y="621"/>
                  </a:lnTo>
                  <a:lnTo>
                    <a:pt x="2542" y="635"/>
                  </a:lnTo>
                  <a:lnTo>
                    <a:pt x="2490" y="647"/>
                  </a:lnTo>
                  <a:lnTo>
                    <a:pt x="2436" y="659"/>
                  </a:lnTo>
                  <a:lnTo>
                    <a:pt x="2379" y="671"/>
                  </a:lnTo>
                  <a:lnTo>
                    <a:pt x="2321" y="682"/>
                  </a:lnTo>
                  <a:lnTo>
                    <a:pt x="2261" y="692"/>
                  </a:lnTo>
                  <a:lnTo>
                    <a:pt x="2198" y="701"/>
                  </a:lnTo>
                  <a:lnTo>
                    <a:pt x="2134" y="709"/>
                  </a:lnTo>
                  <a:lnTo>
                    <a:pt x="2068" y="717"/>
                  </a:lnTo>
                  <a:lnTo>
                    <a:pt x="2000" y="723"/>
                  </a:lnTo>
                  <a:lnTo>
                    <a:pt x="1932" y="729"/>
                  </a:lnTo>
                  <a:lnTo>
                    <a:pt x="1861" y="734"/>
                  </a:lnTo>
                  <a:lnTo>
                    <a:pt x="1788" y="739"/>
                  </a:lnTo>
                  <a:lnTo>
                    <a:pt x="1716" y="742"/>
                  </a:lnTo>
                  <a:lnTo>
                    <a:pt x="1641" y="744"/>
                  </a:lnTo>
                  <a:lnTo>
                    <a:pt x="1565" y="746"/>
                  </a:lnTo>
                  <a:lnTo>
                    <a:pt x="1488" y="746"/>
                  </a:lnTo>
                  <a:lnTo>
                    <a:pt x="1412" y="746"/>
                  </a:lnTo>
                  <a:lnTo>
                    <a:pt x="1336" y="744"/>
                  </a:lnTo>
                  <a:lnTo>
                    <a:pt x="1262" y="742"/>
                  </a:lnTo>
                  <a:lnTo>
                    <a:pt x="1189" y="739"/>
                  </a:lnTo>
                  <a:lnTo>
                    <a:pt x="1117" y="734"/>
                  </a:lnTo>
                  <a:lnTo>
                    <a:pt x="1046" y="729"/>
                  </a:lnTo>
                  <a:lnTo>
                    <a:pt x="976" y="723"/>
                  </a:lnTo>
                  <a:lnTo>
                    <a:pt x="909" y="717"/>
                  </a:lnTo>
                  <a:lnTo>
                    <a:pt x="843" y="709"/>
                  </a:lnTo>
                  <a:lnTo>
                    <a:pt x="778" y="701"/>
                  </a:lnTo>
                  <a:lnTo>
                    <a:pt x="716" y="692"/>
                  </a:lnTo>
                  <a:lnTo>
                    <a:pt x="656" y="682"/>
                  </a:lnTo>
                  <a:lnTo>
                    <a:pt x="598" y="671"/>
                  </a:lnTo>
                  <a:lnTo>
                    <a:pt x="541" y="659"/>
                  </a:lnTo>
                  <a:lnTo>
                    <a:pt x="488" y="647"/>
                  </a:lnTo>
                  <a:lnTo>
                    <a:pt x="435" y="635"/>
                  </a:lnTo>
                  <a:lnTo>
                    <a:pt x="387" y="621"/>
                  </a:lnTo>
                  <a:lnTo>
                    <a:pt x="339" y="608"/>
                  </a:lnTo>
                  <a:lnTo>
                    <a:pt x="295" y="593"/>
                  </a:lnTo>
                  <a:lnTo>
                    <a:pt x="253" y="579"/>
                  </a:lnTo>
                  <a:lnTo>
                    <a:pt x="215" y="563"/>
                  </a:lnTo>
                  <a:lnTo>
                    <a:pt x="180" y="546"/>
                  </a:lnTo>
                  <a:lnTo>
                    <a:pt x="146" y="530"/>
                  </a:lnTo>
                  <a:lnTo>
                    <a:pt x="116" y="513"/>
                  </a:lnTo>
                  <a:lnTo>
                    <a:pt x="90" y="496"/>
                  </a:lnTo>
                  <a:lnTo>
                    <a:pt x="66" y="479"/>
                  </a:lnTo>
                  <a:lnTo>
                    <a:pt x="46" y="461"/>
                  </a:lnTo>
                  <a:lnTo>
                    <a:pt x="30" y="441"/>
                  </a:lnTo>
                  <a:lnTo>
                    <a:pt x="17" y="423"/>
                  </a:lnTo>
                  <a:lnTo>
                    <a:pt x="7" y="404"/>
                  </a:lnTo>
                  <a:lnTo>
                    <a:pt x="1" y="385"/>
                  </a:lnTo>
                  <a:lnTo>
                    <a:pt x="0" y="365"/>
                  </a:lnTo>
                  <a:lnTo>
                    <a:pt x="1" y="345"/>
                  </a:lnTo>
                  <a:lnTo>
                    <a:pt x="7" y="326"/>
                  </a:lnTo>
                  <a:lnTo>
                    <a:pt x="17" y="307"/>
                  </a:lnTo>
                  <a:lnTo>
                    <a:pt x="30" y="289"/>
                  </a:lnTo>
                  <a:lnTo>
                    <a:pt x="46" y="271"/>
                  </a:lnTo>
                  <a:lnTo>
                    <a:pt x="66" y="253"/>
                  </a:lnTo>
                  <a:lnTo>
                    <a:pt x="90" y="235"/>
                  </a:lnTo>
                  <a:lnTo>
                    <a:pt x="116" y="219"/>
                  </a:lnTo>
                  <a:lnTo>
                    <a:pt x="146" y="203"/>
                  </a:lnTo>
                  <a:lnTo>
                    <a:pt x="180" y="187"/>
                  </a:lnTo>
                  <a:lnTo>
                    <a:pt x="215" y="172"/>
                  </a:lnTo>
                  <a:lnTo>
                    <a:pt x="253" y="157"/>
                  </a:lnTo>
                  <a:lnTo>
                    <a:pt x="295" y="143"/>
                  </a:lnTo>
                  <a:lnTo>
                    <a:pt x="339" y="129"/>
                  </a:lnTo>
                  <a:lnTo>
                    <a:pt x="387" y="116"/>
                  </a:lnTo>
                  <a:lnTo>
                    <a:pt x="435" y="103"/>
                  </a:lnTo>
                  <a:lnTo>
                    <a:pt x="488" y="92"/>
                  </a:lnTo>
                  <a:lnTo>
                    <a:pt x="541" y="81"/>
                  </a:lnTo>
                  <a:lnTo>
                    <a:pt x="598" y="70"/>
                  </a:lnTo>
                  <a:lnTo>
                    <a:pt x="656" y="60"/>
                  </a:lnTo>
                  <a:lnTo>
                    <a:pt x="716" y="51"/>
                  </a:lnTo>
                  <a:lnTo>
                    <a:pt x="778" y="43"/>
                  </a:lnTo>
                  <a:lnTo>
                    <a:pt x="843" y="35"/>
                  </a:lnTo>
                  <a:lnTo>
                    <a:pt x="909" y="28"/>
                  </a:lnTo>
                  <a:lnTo>
                    <a:pt x="976" y="21"/>
                  </a:lnTo>
                  <a:lnTo>
                    <a:pt x="1046" y="16"/>
                  </a:lnTo>
                  <a:lnTo>
                    <a:pt x="1117" y="11"/>
                  </a:lnTo>
                  <a:lnTo>
                    <a:pt x="1189" y="7"/>
                  </a:lnTo>
                  <a:lnTo>
                    <a:pt x="1262" y="4"/>
                  </a:lnTo>
                  <a:lnTo>
                    <a:pt x="1336" y="2"/>
                  </a:lnTo>
                  <a:lnTo>
                    <a:pt x="1412" y="1"/>
                  </a:lnTo>
                  <a:lnTo>
                    <a:pt x="1488" y="0"/>
                  </a:lnTo>
                  <a:lnTo>
                    <a:pt x="1565" y="1"/>
                  </a:lnTo>
                  <a:lnTo>
                    <a:pt x="1641" y="2"/>
                  </a:lnTo>
                  <a:lnTo>
                    <a:pt x="1716" y="4"/>
                  </a:lnTo>
                  <a:lnTo>
                    <a:pt x="1788" y="7"/>
                  </a:lnTo>
                  <a:lnTo>
                    <a:pt x="1861" y="11"/>
                  </a:lnTo>
                  <a:lnTo>
                    <a:pt x="1932" y="16"/>
                  </a:lnTo>
                  <a:lnTo>
                    <a:pt x="2000" y="21"/>
                  </a:lnTo>
                  <a:lnTo>
                    <a:pt x="2068" y="28"/>
                  </a:lnTo>
                  <a:lnTo>
                    <a:pt x="2134" y="35"/>
                  </a:lnTo>
                  <a:lnTo>
                    <a:pt x="2198" y="43"/>
                  </a:lnTo>
                  <a:lnTo>
                    <a:pt x="2261" y="51"/>
                  </a:lnTo>
                  <a:lnTo>
                    <a:pt x="2321" y="60"/>
                  </a:lnTo>
                  <a:lnTo>
                    <a:pt x="2379" y="70"/>
                  </a:lnTo>
                  <a:lnTo>
                    <a:pt x="2436" y="81"/>
                  </a:lnTo>
                  <a:lnTo>
                    <a:pt x="2490" y="92"/>
                  </a:lnTo>
                  <a:lnTo>
                    <a:pt x="2542" y="103"/>
                  </a:lnTo>
                  <a:lnTo>
                    <a:pt x="2591" y="116"/>
                  </a:lnTo>
                  <a:lnTo>
                    <a:pt x="2638" y="129"/>
                  </a:lnTo>
                  <a:lnTo>
                    <a:pt x="2682" y="143"/>
                  </a:lnTo>
                  <a:lnTo>
                    <a:pt x="2724" y="157"/>
                  </a:lnTo>
                  <a:lnTo>
                    <a:pt x="2762" y="172"/>
                  </a:lnTo>
                  <a:lnTo>
                    <a:pt x="2798" y="187"/>
                  </a:lnTo>
                  <a:lnTo>
                    <a:pt x="2831" y="203"/>
                  </a:lnTo>
                  <a:lnTo>
                    <a:pt x="2861" y="219"/>
                  </a:lnTo>
                  <a:lnTo>
                    <a:pt x="2887" y="235"/>
                  </a:lnTo>
                  <a:lnTo>
                    <a:pt x="2910" y="253"/>
                  </a:lnTo>
                  <a:lnTo>
                    <a:pt x="2931" y="271"/>
                  </a:lnTo>
                  <a:lnTo>
                    <a:pt x="2948" y="289"/>
                  </a:lnTo>
                  <a:lnTo>
                    <a:pt x="2961" y="307"/>
                  </a:lnTo>
                  <a:lnTo>
                    <a:pt x="2970" y="326"/>
                  </a:lnTo>
                  <a:lnTo>
                    <a:pt x="2976" y="345"/>
                  </a:lnTo>
                  <a:lnTo>
                    <a:pt x="2978" y="365"/>
                  </a:lnTo>
                  <a:close/>
                </a:path>
              </a:pathLst>
            </a:custGeom>
            <a:solidFill>
              <a:srgbClr val="fb6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126520" y="6533280"/>
              <a:ext cx="327960" cy="89280"/>
            </a:xfrm>
            <a:custGeom>
              <a:avLst/>
              <a:gdLst/>
              <a:ahLst/>
              <a:rect l="l" t="t" r="r" b="b"/>
              <a:pathLst>
                <a:path w="2975" h="744">
                  <a:moveTo>
                    <a:pt x="2975" y="364"/>
                  </a:moveTo>
                  <a:lnTo>
                    <a:pt x="2973" y="384"/>
                  </a:lnTo>
                  <a:lnTo>
                    <a:pt x="2968" y="403"/>
                  </a:lnTo>
                  <a:lnTo>
                    <a:pt x="2958" y="422"/>
                  </a:lnTo>
                  <a:lnTo>
                    <a:pt x="2945" y="440"/>
                  </a:lnTo>
                  <a:lnTo>
                    <a:pt x="2929" y="459"/>
                  </a:lnTo>
                  <a:lnTo>
                    <a:pt x="2908" y="477"/>
                  </a:lnTo>
                  <a:lnTo>
                    <a:pt x="2885" y="495"/>
                  </a:lnTo>
                  <a:lnTo>
                    <a:pt x="2858" y="512"/>
                  </a:lnTo>
                  <a:lnTo>
                    <a:pt x="2829" y="529"/>
                  </a:lnTo>
                  <a:lnTo>
                    <a:pt x="2795" y="545"/>
                  </a:lnTo>
                  <a:lnTo>
                    <a:pt x="2760" y="562"/>
                  </a:lnTo>
                  <a:lnTo>
                    <a:pt x="2722" y="577"/>
                  </a:lnTo>
                  <a:lnTo>
                    <a:pt x="2680" y="592"/>
                  </a:lnTo>
                  <a:lnTo>
                    <a:pt x="2636" y="606"/>
                  </a:lnTo>
                  <a:lnTo>
                    <a:pt x="2588" y="620"/>
                  </a:lnTo>
                  <a:lnTo>
                    <a:pt x="2540" y="633"/>
                  </a:lnTo>
                  <a:lnTo>
                    <a:pt x="2488" y="645"/>
                  </a:lnTo>
                  <a:lnTo>
                    <a:pt x="2434" y="657"/>
                  </a:lnTo>
                  <a:lnTo>
                    <a:pt x="2377" y="670"/>
                  </a:lnTo>
                  <a:lnTo>
                    <a:pt x="2320" y="680"/>
                  </a:lnTo>
                  <a:lnTo>
                    <a:pt x="2259" y="690"/>
                  </a:lnTo>
                  <a:lnTo>
                    <a:pt x="2196" y="699"/>
                  </a:lnTo>
                  <a:lnTo>
                    <a:pt x="2133" y="707"/>
                  </a:lnTo>
                  <a:lnTo>
                    <a:pt x="2066" y="715"/>
                  </a:lnTo>
                  <a:lnTo>
                    <a:pt x="1999" y="722"/>
                  </a:lnTo>
                  <a:lnTo>
                    <a:pt x="1930" y="727"/>
                  </a:lnTo>
                  <a:lnTo>
                    <a:pt x="1859" y="733"/>
                  </a:lnTo>
                  <a:lnTo>
                    <a:pt x="1787" y="737"/>
                  </a:lnTo>
                  <a:lnTo>
                    <a:pt x="1714" y="740"/>
                  </a:lnTo>
                  <a:lnTo>
                    <a:pt x="1640" y="742"/>
                  </a:lnTo>
                  <a:lnTo>
                    <a:pt x="1564" y="744"/>
                  </a:lnTo>
                  <a:lnTo>
                    <a:pt x="1487" y="744"/>
                  </a:lnTo>
                  <a:lnTo>
                    <a:pt x="1411" y="744"/>
                  </a:lnTo>
                  <a:lnTo>
                    <a:pt x="1335" y="742"/>
                  </a:lnTo>
                  <a:lnTo>
                    <a:pt x="1261" y="740"/>
                  </a:lnTo>
                  <a:lnTo>
                    <a:pt x="1188" y="737"/>
                  </a:lnTo>
                  <a:lnTo>
                    <a:pt x="1116" y="733"/>
                  </a:lnTo>
                  <a:lnTo>
                    <a:pt x="1045" y="727"/>
                  </a:lnTo>
                  <a:lnTo>
                    <a:pt x="976" y="722"/>
                  </a:lnTo>
                  <a:lnTo>
                    <a:pt x="909" y="715"/>
                  </a:lnTo>
                  <a:lnTo>
                    <a:pt x="842" y="707"/>
                  </a:lnTo>
                  <a:lnTo>
                    <a:pt x="778" y="699"/>
                  </a:lnTo>
                  <a:lnTo>
                    <a:pt x="716" y="690"/>
                  </a:lnTo>
                  <a:lnTo>
                    <a:pt x="655" y="680"/>
                  </a:lnTo>
                  <a:lnTo>
                    <a:pt x="598" y="670"/>
                  </a:lnTo>
                  <a:lnTo>
                    <a:pt x="541" y="657"/>
                  </a:lnTo>
                  <a:lnTo>
                    <a:pt x="488" y="645"/>
                  </a:lnTo>
                  <a:lnTo>
                    <a:pt x="435" y="633"/>
                  </a:lnTo>
                  <a:lnTo>
                    <a:pt x="387" y="620"/>
                  </a:lnTo>
                  <a:lnTo>
                    <a:pt x="339" y="606"/>
                  </a:lnTo>
                  <a:lnTo>
                    <a:pt x="296" y="592"/>
                  </a:lnTo>
                  <a:lnTo>
                    <a:pt x="254" y="577"/>
                  </a:lnTo>
                  <a:lnTo>
                    <a:pt x="215" y="562"/>
                  </a:lnTo>
                  <a:lnTo>
                    <a:pt x="180" y="545"/>
                  </a:lnTo>
                  <a:lnTo>
                    <a:pt x="146" y="529"/>
                  </a:lnTo>
                  <a:lnTo>
                    <a:pt x="117" y="512"/>
                  </a:lnTo>
                  <a:lnTo>
                    <a:pt x="90" y="495"/>
                  </a:lnTo>
                  <a:lnTo>
                    <a:pt x="66" y="477"/>
                  </a:lnTo>
                  <a:lnTo>
                    <a:pt x="46" y="459"/>
                  </a:lnTo>
                  <a:lnTo>
                    <a:pt x="30" y="440"/>
                  </a:lnTo>
                  <a:lnTo>
                    <a:pt x="17" y="422"/>
                  </a:lnTo>
                  <a:lnTo>
                    <a:pt x="8" y="403"/>
                  </a:lnTo>
                  <a:lnTo>
                    <a:pt x="2" y="384"/>
                  </a:lnTo>
                  <a:lnTo>
                    <a:pt x="0" y="364"/>
                  </a:lnTo>
                  <a:lnTo>
                    <a:pt x="2" y="344"/>
                  </a:lnTo>
                  <a:lnTo>
                    <a:pt x="8" y="325"/>
                  </a:lnTo>
                  <a:lnTo>
                    <a:pt x="17" y="306"/>
                  </a:lnTo>
                  <a:lnTo>
                    <a:pt x="30" y="288"/>
                  </a:lnTo>
                  <a:lnTo>
                    <a:pt x="46" y="270"/>
                  </a:lnTo>
                  <a:lnTo>
                    <a:pt x="66" y="253"/>
                  </a:lnTo>
                  <a:lnTo>
                    <a:pt x="90" y="235"/>
                  </a:lnTo>
                  <a:lnTo>
                    <a:pt x="117" y="218"/>
                  </a:lnTo>
                  <a:lnTo>
                    <a:pt x="146" y="202"/>
                  </a:lnTo>
                  <a:lnTo>
                    <a:pt x="180" y="186"/>
                  </a:lnTo>
                  <a:lnTo>
                    <a:pt x="215" y="171"/>
                  </a:lnTo>
                  <a:lnTo>
                    <a:pt x="254" y="157"/>
                  </a:lnTo>
                  <a:lnTo>
                    <a:pt x="296" y="143"/>
                  </a:lnTo>
                  <a:lnTo>
                    <a:pt x="339" y="128"/>
                  </a:lnTo>
                  <a:lnTo>
                    <a:pt x="387" y="115"/>
                  </a:lnTo>
                  <a:lnTo>
                    <a:pt x="435" y="103"/>
                  </a:lnTo>
                  <a:lnTo>
                    <a:pt x="488" y="91"/>
                  </a:lnTo>
                  <a:lnTo>
                    <a:pt x="541" y="80"/>
                  </a:lnTo>
                  <a:lnTo>
                    <a:pt x="598" y="70"/>
                  </a:lnTo>
                  <a:lnTo>
                    <a:pt x="655" y="60"/>
                  </a:lnTo>
                  <a:lnTo>
                    <a:pt x="716" y="51"/>
                  </a:lnTo>
                  <a:lnTo>
                    <a:pt x="778" y="43"/>
                  </a:lnTo>
                  <a:lnTo>
                    <a:pt x="842" y="35"/>
                  </a:lnTo>
                  <a:lnTo>
                    <a:pt x="909" y="28"/>
                  </a:lnTo>
                  <a:lnTo>
                    <a:pt x="976" y="21"/>
                  </a:lnTo>
                  <a:lnTo>
                    <a:pt x="1045" y="16"/>
                  </a:lnTo>
                  <a:lnTo>
                    <a:pt x="1116" y="11"/>
                  </a:lnTo>
                  <a:lnTo>
                    <a:pt x="1188" y="7"/>
                  </a:lnTo>
                  <a:lnTo>
                    <a:pt x="1261" y="4"/>
                  </a:lnTo>
                  <a:lnTo>
                    <a:pt x="1335" y="2"/>
                  </a:lnTo>
                  <a:lnTo>
                    <a:pt x="1411" y="1"/>
                  </a:lnTo>
                  <a:lnTo>
                    <a:pt x="1487" y="0"/>
                  </a:lnTo>
                  <a:lnTo>
                    <a:pt x="1564" y="1"/>
                  </a:lnTo>
                  <a:lnTo>
                    <a:pt x="1640" y="2"/>
                  </a:lnTo>
                  <a:lnTo>
                    <a:pt x="1714" y="4"/>
                  </a:lnTo>
                  <a:lnTo>
                    <a:pt x="1787" y="7"/>
                  </a:lnTo>
                  <a:lnTo>
                    <a:pt x="1859" y="11"/>
                  </a:lnTo>
                  <a:lnTo>
                    <a:pt x="1930" y="16"/>
                  </a:lnTo>
                  <a:lnTo>
                    <a:pt x="1999" y="21"/>
                  </a:lnTo>
                  <a:lnTo>
                    <a:pt x="2066" y="28"/>
                  </a:lnTo>
                  <a:lnTo>
                    <a:pt x="2133" y="35"/>
                  </a:lnTo>
                  <a:lnTo>
                    <a:pt x="2196" y="43"/>
                  </a:lnTo>
                  <a:lnTo>
                    <a:pt x="2259" y="51"/>
                  </a:lnTo>
                  <a:lnTo>
                    <a:pt x="2320" y="60"/>
                  </a:lnTo>
                  <a:lnTo>
                    <a:pt x="2377" y="70"/>
                  </a:lnTo>
                  <a:lnTo>
                    <a:pt x="2434" y="80"/>
                  </a:lnTo>
                  <a:lnTo>
                    <a:pt x="2488" y="91"/>
                  </a:lnTo>
                  <a:lnTo>
                    <a:pt x="2540" y="103"/>
                  </a:lnTo>
                  <a:lnTo>
                    <a:pt x="2588" y="115"/>
                  </a:lnTo>
                  <a:lnTo>
                    <a:pt x="2636" y="128"/>
                  </a:lnTo>
                  <a:lnTo>
                    <a:pt x="2680" y="143"/>
                  </a:lnTo>
                  <a:lnTo>
                    <a:pt x="2722" y="157"/>
                  </a:lnTo>
                  <a:lnTo>
                    <a:pt x="2760" y="171"/>
                  </a:lnTo>
                  <a:lnTo>
                    <a:pt x="2795" y="186"/>
                  </a:lnTo>
                  <a:lnTo>
                    <a:pt x="2829" y="202"/>
                  </a:lnTo>
                  <a:lnTo>
                    <a:pt x="2858" y="218"/>
                  </a:lnTo>
                  <a:lnTo>
                    <a:pt x="2885" y="235"/>
                  </a:lnTo>
                  <a:lnTo>
                    <a:pt x="2908" y="253"/>
                  </a:lnTo>
                  <a:lnTo>
                    <a:pt x="2929" y="270"/>
                  </a:lnTo>
                  <a:lnTo>
                    <a:pt x="2945" y="288"/>
                  </a:lnTo>
                  <a:lnTo>
                    <a:pt x="2958" y="306"/>
                  </a:lnTo>
                  <a:lnTo>
                    <a:pt x="2968" y="325"/>
                  </a:lnTo>
                  <a:lnTo>
                    <a:pt x="2973" y="344"/>
                  </a:lnTo>
                  <a:lnTo>
                    <a:pt x="2975" y="364"/>
                  </a:lnTo>
                  <a:close/>
                </a:path>
              </a:pathLst>
            </a:custGeom>
            <a:solidFill>
              <a:srgbClr val="fb6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126520" y="6533280"/>
              <a:ext cx="327960" cy="89280"/>
            </a:xfrm>
            <a:custGeom>
              <a:avLst/>
              <a:gdLst/>
              <a:ahLst/>
              <a:rect l="l" t="t" r="r" b="b"/>
              <a:pathLst>
                <a:path w="2973" h="743">
                  <a:moveTo>
                    <a:pt x="2973" y="363"/>
                  </a:moveTo>
                  <a:lnTo>
                    <a:pt x="2971" y="383"/>
                  </a:lnTo>
                  <a:lnTo>
                    <a:pt x="2965" y="402"/>
                  </a:lnTo>
                  <a:lnTo>
                    <a:pt x="2956" y="420"/>
                  </a:lnTo>
                  <a:lnTo>
                    <a:pt x="2943" y="439"/>
                  </a:lnTo>
                  <a:lnTo>
                    <a:pt x="2926" y="458"/>
                  </a:lnTo>
                  <a:lnTo>
                    <a:pt x="2906" y="476"/>
                  </a:lnTo>
                  <a:lnTo>
                    <a:pt x="2882" y="494"/>
                  </a:lnTo>
                  <a:lnTo>
                    <a:pt x="2856" y="511"/>
                  </a:lnTo>
                  <a:lnTo>
                    <a:pt x="2827" y="527"/>
                  </a:lnTo>
                  <a:lnTo>
                    <a:pt x="2793" y="544"/>
                  </a:lnTo>
                  <a:lnTo>
                    <a:pt x="2758" y="559"/>
                  </a:lnTo>
                  <a:lnTo>
                    <a:pt x="2719" y="576"/>
                  </a:lnTo>
                  <a:lnTo>
                    <a:pt x="2677" y="590"/>
                  </a:lnTo>
                  <a:lnTo>
                    <a:pt x="2634" y="605"/>
                  </a:lnTo>
                  <a:lnTo>
                    <a:pt x="2586" y="618"/>
                  </a:lnTo>
                  <a:lnTo>
                    <a:pt x="2538" y="631"/>
                  </a:lnTo>
                  <a:lnTo>
                    <a:pt x="2486" y="644"/>
                  </a:lnTo>
                  <a:lnTo>
                    <a:pt x="2432" y="656"/>
                  </a:lnTo>
                  <a:lnTo>
                    <a:pt x="2376" y="668"/>
                  </a:lnTo>
                  <a:lnTo>
                    <a:pt x="2318" y="678"/>
                  </a:lnTo>
                  <a:lnTo>
                    <a:pt x="2257" y="688"/>
                  </a:lnTo>
                  <a:lnTo>
                    <a:pt x="2195" y="697"/>
                  </a:lnTo>
                  <a:lnTo>
                    <a:pt x="2131" y="705"/>
                  </a:lnTo>
                  <a:lnTo>
                    <a:pt x="2065" y="713"/>
                  </a:lnTo>
                  <a:lnTo>
                    <a:pt x="1997" y="720"/>
                  </a:lnTo>
                  <a:lnTo>
                    <a:pt x="1929" y="726"/>
                  </a:lnTo>
                  <a:lnTo>
                    <a:pt x="1858" y="731"/>
                  </a:lnTo>
                  <a:lnTo>
                    <a:pt x="1786" y="735"/>
                  </a:lnTo>
                  <a:lnTo>
                    <a:pt x="1713" y="738"/>
                  </a:lnTo>
                  <a:lnTo>
                    <a:pt x="1639" y="741"/>
                  </a:lnTo>
                  <a:lnTo>
                    <a:pt x="1563" y="742"/>
                  </a:lnTo>
                  <a:lnTo>
                    <a:pt x="1486" y="743"/>
                  </a:lnTo>
                  <a:lnTo>
                    <a:pt x="1410" y="742"/>
                  </a:lnTo>
                  <a:lnTo>
                    <a:pt x="1335" y="741"/>
                  </a:lnTo>
                  <a:lnTo>
                    <a:pt x="1260" y="738"/>
                  </a:lnTo>
                  <a:lnTo>
                    <a:pt x="1187" y="735"/>
                  </a:lnTo>
                  <a:lnTo>
                    <a:pt x="1115" y="731"/>
                  </a:lnTo>
                  <a:lnTo>
                    <a:pt x="1044" y="726"/>
                  </a:lnTo>
                  <a:lnTo>
                    <a:pt x="975" y="720"/>
                  </a:lnTo>
                  <a:lnTo>
                    <a:pt x="908" y="713"/>
                  </a:lnTo>
                  <a:lnTo>
                    <a:pt x="842" y="705"/>
                  </a:lnTo>
                  <a:lnTo>
                    <a:pt x="778" y="697"/>
                  </a:lnTo>
                  <a:lnTo>
                    <a:pt x="716" y="688"/>
                  </a:lnTo>
                  <a:lnTo>
                    <a:pt x="655" y="678"/>
                  </a:lnTo>
                  <a:lnTo>
                    <a:pt x="598" y="668"/>
                  </a:lnTo>
                  <a:lnTo>
                    <a:pt x="541" y="656"/>
                  </a:lnTo>
                  <a:lnTo>
                    <a:pt x="488" y="644"/>
                  </a:lnTo>
                  <a:lnTo>
                    <a:pt x="435" y="631"/>
                  </a:lnTo>
                  <a:lnTo>
                    <a:pt x="387" y="618"/>
                  </a:lnTo>
                  <a:lnTo>
                    <a:pt x="339" y="605"/>
                  </a:lnTo>
                  <a:lnTo>
                    <a:pt x="296" y="590"/>
                  </a:lnTo>
                  <a:lnTo>
                    <a:pt x="254" y="576"/>
                  </a:lnTo>
                  <a:lnTo>
                    <a:pt x="215" y="559"/>
                  </a:lnTo>
                  <a:lnTo>
                    <a:pt x="180" y="544"/>
                  </a:lnTo>
                  <a:lnTo>
                    <a:pt x="147" y="527"/>
                  </a:lnTo>
                  <a:lnTo>
                    <a:pt x="117" y="511"/>
                  </a:lnTo>
                  <a:lnTo>
                    <a:pt x="91" y="494"/>
                  </a:lnTo>
                  <a:lnTo>
                    <a:pt x="67" y="476"/>
                  </a:lnTo>
                  <a:lnTo>
                    <a:pt x="47" y="458"/>
                  </a:lnTo>
                  <a:lnTo>
                    <a:pt x="30" y="439"/>
                  </a:lnTo>
                  <a:lnTo>
                    <a:pt x="17" y="420"/>
                  </a:lnTo>
                  <a:lnTo>
                    <a:pt x="8" y="402"/>
                  </a:lnTo>
                  <a:lnTo>
                    <a:pt x="2" y="383"/>
                  </a:lnTo>
                  <a:lnTo>
                    <a:pt x="0" y="363"/>
                  </a:lnTo>
                  <a:lnTo>
                    <a:pt x="2" y="343"/>
                  </a:lnTo>
                  <a:lnTo>
                    <a:pt x="8" y="324"/>
                  </a:lnTo>
                  <a:lnTo>
                    <a:pt x="17" y="305"/>
                  </a:lnTo>
                  <a:lnTo>
                    <a:pt x="30" y="287"/>
                  </a:lnTo>
                  <a:lnTo>
                    <a:pt x="47" y="269"/>
                  </a:lnTo>
                  <a:lnTo>
                    <a:pt x="67" y="252"/>
                  </a:lnTo>
                  <a:lnTo>
                    <a:pt x="91" y="234"/>
                  </a:lnTo>
                  <a:lnTo>
                    <a:pt x="117" y="217"/>
                  </a:lnTo>
                  <a:lnTo>
                    <a:pt x="147" y="201"/>
                  </a:lnTo>
                  <a:lnTo>
                    <a:pt x="180" y="186"/>
                  </a:lnTo>
                  <a:lnTo>
                    <a:pt x="215" y="171"/>
                  </a:lnTo>
                  <a:lnTo>
                    <a:pt x="254" y="156"/>
                  </a:lnTo>
                  <a:lnTo>
                    <a:pt x="296" y="142"/>
                  </a:lnTo>
                  <a:lnTo>
                    <a:pt x="339" y="128"/>
                  </a:lnTo>
                  <a:lnTo>
                    <a:pt x="387" y="115"/>
                  </a:lnTo>
                  <a:lnTo>
                    <a:pt x="435" y="103"/>
                  </a:lnTo>
                  <a:lnTo>
                    <a:pt x="488" y="91"/>
                  </a:lnTo>
                  <a:lnTo>
                    <a:pt x="541" y="80"/>
                  </a:lnTo>
                  <a:lnTo>
                    <a:pt x="598" y="70"/>
                  </a:lnTo>
                  <a:lnTo>
                    <a:pt x="655" y="60"/>
                  </a:lnTo>
                  <a:lnTo>
                    <a:pt x="716" y="51"/>
                  </a:lnTo>
                  <a:lnTo>
                    <a:pt x="778" y="43"/>
                  </a:lnTo>
                  <a:lnTo>
                    <a:pt x="842" y="35"/>
                  </a:lnTo>
                  <a:lnTo>
                    <a:pt x="908" y="28"/>
                  </a:lnTo>
                  <a:lnTo>
                    <a:pt x="975" y="21"/>
                  </a:lnTo>
                  <a:lnTo>
                    <a:pt x="1044" y="16"/>
                  </a:lnTo>
                  <a:lnTo>
                    <a:pt x="1115" y="11"/>
                  </a:lnTo>
                  <a:lnTo>
                    <a:pt x="1187" y="7"/>
                  </a:lnTo>
                  <a:lnTo>
                    <a:pt x="1260" y="4"/>
                  </a:lnTo>
                  <a:lnTo>
                    <a:pt x="1335" y="2"/>
                  </a:lnTo>
                  <a:lnTo>
                    <a:pt x="1410" y="1"/>
                  </a:lnTo>
                  <a:lnTo>
                    <a:pt x="1486" y="0"/>
                  </a:lnTo>
                  <a:lnTo>
                    <a:pt x="1563" y="1"/>
                  </a:lnTo>
                  <a:lnTo>
                    <a:pt x="1639" y="2"/>
                  </a:lnTo>
                  <a:lnTo>
                    <a:pt x="1713" y="4"/>
                  </a:lnTo>
                  <a:lnTo>
                    <a:pt x="1786" y="7"/>
                  </a:lnTo>
                  <a:lnTo>
                    <a:pt x="1858" y="11"/>
                  </a:lnTo>
                  <a:lnTo>
                    <a:pt x="1929" y="16"/>
                  </a:lnTo>
                  <a:lnTo>
                    <a:pt x="1997" y="21"/>
                  </a:lnTo>
                  <a:lnTo>
                    <a:pt x="2065" y="28"/>
                  </a:lnTo>
                  <a:lnTo>
                    <a:pt x="2131" y="35"/>
                  </a:lnTo>
                  <a:lnTo>
                    <a:pt x="2195" y="43"/>
                  </a:lnTo>
                  <a:lnTo>
                    <a:pt x="2257" y="51"/>
                  </a:lnTo>
                  <a:lnTo>
                    <a:pt x="2318" y="60"/>
                  </a:lnTo>
                  <a:lnTo>
                    <a:pt x="2376" y="70"/>
                  </a:lnTo>
                  <a:lnTo>
                    <a:pt x="2432" y="80"/>
                  </a:lnTo>
                  <a:lnTo>
                    <a:pt x="2486" y="91"/>
                  </a:lnTo>
                  <a:lnTo>
                    <a:pt x="2538" y="103"/>
                  </a:lnTo>
                  <a:lnTo>
                    <a:pt x="2586" y="115"/>
                  </a:lnTo>
                  <a:lnTo>
                    <a:pt x="2634" y="128"/>
                  </a:lnTo>
                  <a:lnTo>
                    <a:pt x="2677" y="142"/>
                  </a:lnTo>
                  <a:lnTo>
                    <a:pt x="2719" y="156"/>
                  </a:lnTo>
                  <a:lnTo>
                    <a:pt x="2758" y="171"/>
                  </a:lnTo>
                  <a:lnTo>
                    <a:pt x="2793" y="186"/>
                  </a:lnTo>
                  <a:lnTo>
                    <a:pt x="2827" y="201"/>
                  </a:lnTo>
                  <a:lnTo>
                    <a:pt x="2856" y="217"/>
                  </a:lnTo>
                  <a:lnTo>
                    <a:pt x="2882" y="234"/>
                  </a:lnTo>
                  <a:lnTo>
                    <a:pt x="2906" y="252"/>
                  </a:lnTo>
                  <a:lnTo>
                    <a:pt x="2926" y="269"/>
                  </a:lnTo>
                  <a:lnTo>
                    <a:pt x="2943" y="287"/>
                  </a:lnTo>
                  <a:lnTo>
                    <a:pt x="2956" y="305"/>
                  </a:lnTo>
                  <a:lnTo>
                    <a:pt x="2965" y="324"/>
                  </a:lnTo>
                  <a:lnTo>
                    <a:pt x="2971" y="343"/>
                  </a:lnTo>
                  <a:lnTo>
                    <a:pt x="2973" y="363"/>
                  </a:lnTo>
                  <a:close/>
                </a:path>
              </a:pathLst>
            </a:custGeom>
            <a:solidFill>
              <a:srgbClr val="fb6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126520" y="6533280"/>
              <a:ext cx="327960" cy="89280"/>
            </a:xfrm>
            <a:custGeom>
              <a:avLst/>
              <a:gdLst/>
              <a:ahLst/>
              <a:rect l="l" t="t" r="r" b="b"/>
              <a:pathLst>
                <a:path w="2969" h="741">
                  <a:moveTo>
                    <a:pt x="2969" y="362"/>
                  </a:moveTo>
                  <a:lnTo>
                    <a:pt x="2967" y="381"/>
                  </a:lnTo>
                  <a:lnTo>
                    <a:pt x="2962" y="401"/>
                  </a:lnTo>
                  <a:lnTo>
                    <a:pt x="2952" y="419"/>
                  </a:lnTo>
                  <a:lnTo>
                    <a:pt x="2939" y="438"/>
                  </a:lnTo>
                  <a:lnTo>
                    <a:pt x="2923" y="457"/>
                  </a:lnTo>
                  <a:lnTo>
                    <a:pt x="2902" y="475"/>
                  </a:lnTo>
                  <a:lnTo>
                    <a:pt x="2879" y="492"/>
                  </a:lnTo>
                  <a:lnTo>
                    <a:pt x="2853" y="509"/>
                  </a:lnTo>
                  <a:lnTo>
                    <a:pt x="2823" y="526"/>
                  </a:lnTo>
                  <a:lnTo>
                    <a:pt x="2790" y="542"/>
                  </a:lnTo>
                  <a:lnTo>
                    <a:pt x="2754" y="558"/>
                  </a:lnTo>
                  <a:lnTo>
                    <a:pt x="2716" y="574"/>
                  </a:lnTo>
                  <a:lnTo>
                    <a:pt x="2674" y="589"/>
                  </a:lnTo>
                  <a:lnTo>
                    <a:pt x="2631" y="603"/>
                  </a:lnTo>
                  <a:lnTo>
                    <a:pt x="2583" y="617"/>
                  </a:lnTo>
                  <a:lnTo>
                    <a:pt x="2535" y="630"/>
                  </a:lnTo>
                  <a:lnTo>
                    <a:pt x="2483" y="642"/>
                  </a:lnTo>
                  <a:lnTo>
                    <a:pt x="2429" y="654"/>
                  </a:lnTo>
                  <a:lnTo>
                    <a:pt x="2373" y="665"/>
                  </a:lnTo>
                  <a:lnTo>
                    <a:pt x="2315" y="676"/>
                  </a:lnTo>
                  <a:lnTo>
                    <a:pt x="2254" y="686"/>
                  </a:lnTo>
                  <a:lnTo>
                    <a:pt x="2192" y="695"/>
                  </a:lnTo>
                  <a:lnTo>
                    <a:pt x="2128" y="704"/>
                  </a:lnTo>
                  <a:lnTo>
                    <a:pt x="2062" y="711"/>
                  </a:lnTo>
                  <a:lnTo>
                    <a:pt x="1995" y="718"/>
                  </a:lnTo>
                  <a:lnTo>
                    <a:pt x="1926" y="724"/>
                  </a:lnTo>
                  <a:lnTo>
                    <a:pt x="1855" y="729"/>
                  </a:lnTo>
                  <a:lnTo>
                    <a:pt x="1783" y="733"/>
                  </a:lnTo>
                  <a:lnTo>
                    <a:pt x="1711" y="736"/>
                  </a:lnTo>
                  <a:lnTo>
                    <a:pt x="1636" y="739"/>
                  </a:lnTo>
                  <a:lnTo>
                    <a:pt x="1561" y="740"/>
                  </a:lnTo>
                  <a:lnTo>
                    <a:pt x="1484" y="741"/>
                  </a:lnTo>
                  <a:lnTo>
                    <a:pt x="1408" y="740"/>
                  </a:lnTo>
                  <a:lnTo>
                    <a:pt x="1333" y="739"/>
                  </a:lnTo>
                  <a:lnTo>
                    <a:pt x="1258" y="736"/>
                  </a:lnTo>
                  <a:lnTo>
                    <a:pt x="1186" y="733"/>
                  </a:lnTo>
                  <a:lnTo>
                    <a:pt x="1114" y="729"/>
                  </a:lnTo>
                  <a:lnTo>
                    <a:pt x="1043" y="724"/>
                  </a:lnTo>
                  <a:lnTo>
                    <a:pt x="974" y="718"/>
                  </a:lnTo>
                  <a:lnTo>
                    <a:pt x="907" y="711"/>
                  </a:lnTo>
                  <a:lnTo>
                    <a:pt x="841" y="704"/>
                  </a:lnTo>
                  <a:lnTo>
                    <a:pt x="776" y="695"/>
                  </a:lnTo>
                  <a:lnTo>
                    <a:pt x="715" y="686"/>
                  </a:lnTo>
                  <a:lnTo>
                    <a:pt x="654" y="676"/>
                  </a:lnTo>
                  <a:lnTo>
                    <a:pt x="596" y="665"/>
                  </a:lnTo>
                  <a:lnTo>
                    <a:pt x="540" y="654"/>
                  </a:lnTo>
                  <a:lnTo>
                    <a:pt x="487" y="642"/>
                  </a:lnTo>
                  <a:lnTo>
                    <a:pt x="434" y="630"/>
                  </a:lnTo>
                  <a:lnTo>
                    <a:pt x="386" y="617"/>
                  </a:lnTo>
                  <a:lnTo>
                    <a:pt x="339" y="603"/>
                  </a:lnTo>
                  <a:lnTo>
                    <a:pt x="295" y="589"/>
                  </a:lnTo>
                  <a:lnTo>
                    <a:pt x="253" y="574"/>
                  </a:lnTo>
                  <a:lnTo>
                    <a:pt x="215" y="558"/>
                  </a:lnTo>
                  <a:lnTo>
                    <a:pt x="179" y="542"/>
                  </a:lnTo>
                  <a:lnTo>
                    <a:pt x="146" y="526"/>
                  </a:lnTo>
                  <a:lnTo>
                    <a:pt x="116" y="509"/>
                  </a:lnTo>
                  <a:lnTo>
                    <a:pt x="90" y="492"/>
                  </a:lnTo>
                  <a:lnTo>
                    <a:pt x="67" y="475"/>
                  </a:lnTo>
                  <a:lnTo>
                    <a:pt x="46" y="457"/>
                  </a:lnTo>
                  <a:lnTo>
                    <a:pt x="30" y="438"/>
                  </a:lnTo>
                  <a:lnTo>
                    <a:pt x="17" y="419"/>
                  </a:lnTo>
                  <a:lnTo>
                    <a:pt x="7" y="401"/>
                  </a:lnTo>
                  <a:lnTo>
                    <a:pt x="2" y="381"/>
                  </a:lnTo>
                  <a:lnTo>
                    <a:pt x="0" y="362"/>
                  </a:lnTo>
                  <a:lnTo>
                    <a:pt x="2" y="342"/>
                  </a:lnTo>
                  <a:lnTo>
                    <a:pt x="7" y="323"/>
                  </a:lnTo>
                  <a:lnTo>
                    <a:pt x="17" y="304"/>
                  </a:lnTo>
                  <a:lnTo>
                    <a:pt x="30" y="286"/>
                  </a:lnTo>
                  <a:lnTo>
                    <a:pt x="46" y="268"/>
                  </a:lnTo>
                  <a:lnTo>
                    <a:pt x="67" y="251"/>
                  </a:lnTo>
                  <a:lnTo>
                    <a:pt x="90" y="233"/>
                  </a:lnTo>
                  <a:lnTo>
                    <a:pt x="116" y="217"/>
                  </a:lnTo>
                  <a:lnTo>
                    <a:pt x="146" y="201"/>
                  </a:lnTo>
                  <a:lnTo>
                    <a:pt x="179" y="185"/>
                  </a:lnTo>
                  <a:lnTo>
                    <a:pt x="215" y="170"/>
                  </a:lnTo>
                  <a:lnTo>
                    <a:pt x="253" y="156"/>
                  </a:lnTo>
                  <a:lnTo>
                    <a:pt x="295" y="142"/>
                  </a:lnTo>
                  <a:lnTo>
                    <a:pt x="339" y="127"/>
                  </a:lnTo>
                  <a:lnTo>
                    <a:pt x="386" y="115"/>
                  </a:lnTo>
                  <a:lnTo>
                    <a:pt x="434" y="102"/>
                  </a:lnTo>
                  <a:lnTo>
                    <a:pt x="487" y="91"/>
                  </a:lnTo>
                  <a:lnTo>
                    <a:pt x="540" y="80"/>
                  </a:lnTo>
                  <a:lnTo>
                    <a:pt x="596" y="69"/>
                  </a:lnTo>
                  <a:lnTo>
                    <a:pt x="654" y="60"/>
                  </a:lnTo>
                  <a:lnTo>
                    <a:pt x="715" y="51"/>
                  </a:lnTo>
                  <a:lnTo>
                    <a:pt x="776" y="42"/>
                  </a:lnTo>
                  <a:lnTo>
                    <a:pt x="841" y="35"/>
                  </a:lnTo>
                  <a:lnTo>
                    <a:pt x="907" y="28"/>
                  </a:lnTo>
                  <a:lnTo>
                    <a:pt x="974" y="21"/>
                  </a:lnTo>
                  <a:lnTo>
                    <a:pt x="1043" y="15"/>
                  </a:lnTo>
                  <a:lnTo>
                    <a:pt x="1114" y="11"/>
                  </a:lnTo>
                  <a:lnTo>
                    <a:pt x="1186" y="7"/>
                  </a:lnTo>
                  <a:lnTo>
                    <a:pt x="1258" y="4"/>
                  </a:lnTo>
                  <a:lnTo>
                    <a:pt x="1333" y="2"/>
                  </a:lnTo>
                  <a:lnTo>
                    <a:pt x="1408" y="1"/>
                  </a:lnTo>
                  <a:lnTo>
                    <a:pt x="1484" y="0"/>
                  </a:lnTo>
                  <a:lnTo>
                    <a:pt x="1561" y="1"/>
                  </a:lnTo>
                  <a:lnTo>
                    <a:pt x="1636" y="2"/>
                  </a:lnTo>
                  <a:lnTo>
                    <a:pt x="1711" y="4"/>
                  </a:lnTo>
                  <a:lnTo>
                    <a:pt x="1783" y="7"/>
                  </a:lnTo>
                  <a:lnTo>
                    <a:pt x="1855" y="11"/>
                  </a:lnTo>
                  <a:lnTo>
                    <a:pt x="1926" y="15"/>
                  </a:lnTo>
                  <a:lnTo>
                    <a:pt x="1995" y="21"/>
                  </a:lnTo>
                  <a:lnTo>
                    <a:pt x="2062" y="28"/>
                  </a:lnTo>
                  <a:lnTo>
                    <a:pt x="2128" y="35"/>
                  </a:lnTo>
                  <a:lnTo>
                    <a:pt x="2192" y="42"/>
                  </a:lnTo>
                  <a:lnTo>
                    <a:pt x="2254" y="51"/>
                  </a:lnTo>
                  <a:lnTo>
                    <a:pt x="2315" y="60"/>
                  </a:lnTo>
                  <a:lnTo>
                    <a:pt x="2373" y="69"/>
                  </a:lnTo>
                  <a:lnTo>
                    <a:pt x="2429" y="80"/>
                  </a:lnTo>
                  <a:lnTo>
                    <a:pt x="2483" y="91"/>
                  </a:lnTo>
                  <a:lnTo>
                    <a:pt x="2535" y="102"/>
                  </a:lnTo>
                  <a:lnTo>
                    <a:pt x="2583" y="115"/>
                  </a:lnTo>
                  <a:lnTo>
                    <a:pt x="2631" y="127"/>
                  </a:lnTo>
                  <a:lnTo>
                    <a:pt x="2674" y="142"/>
                  </a:lnTo>
                  <a:lnTo>
                    <a:pt x="2716" y="156"/>
                  </a:lnTo>
                  <a:lnTo>
                    <a:pt x="2754" y="170"/>
                  </a:lnTo>
                  <a:lnTo>
                    <a:pt x="2790" y="185"/>
                  </a:lnTo>
                  <a:lnTo>
                    <a:pt x="2823" y="201"/>
                  </a:lnTo>
                  <a:lnTo>
                    <a:pt x="2853" y="217"/>
                  </a:lnTo>
                  <a:lnTo>
                    <a:pt x="2879" y="233"/>
                  </a:lnTo>
                  <a:lnTo>
                    <a:pt x="2902" y="251"/>
                  </a:lnTo>
                  <a:lnTo>
                    <a:pt x="2923" y="268"/>
                  </a:lnTo>
                  <a:lnTo>
                    <a:pt x="2939" y="286"/>
                  </a:lnTo>
                  <a:lnTo>
                    <a:pt x="2952" y="304"/>
                  </a:lnTo>
                  <a:lnTo>
                    <a:pt x="2962" y="323"/>
                  </a:lnTo>
                  <a:lnTo>
                    <a:pt x="2967" y="342"/>
                  </a:lnTo>
                  <a:lnTo>
                    <a:pt x="2969" y="362"/>
                  </a:lnTo>
                  <a:close/>
                </a:path>
              </a:pathLst>
            </a:custGeom>
            <a:solidFill>
              <a:srgbClr val="fb6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126520" y="6533280"/>
              <a:ext cx="327960" cy="88200"/>
            </a:xfrm>
            <a:custGeom>
              <a:avLst/>
              <a:gdLst/>
              <a:ahLst/>
              <a:rect l="l" t="t" r="r" b="b"/>
              <a:pathLst>
                <a:path w="2967" h="739">
                  <a:moveTo>
                    <a:pt x="2967" y="361"/>
                  </a:moveTo>
                  <a:lnTo>
                    <a:pt x="2965" y="380"/>
                  </a:lnTo>
                  <a:lnTo>
                    <a:pt x="2959" y="399"/>
                  </a:lnTo>
                  <a:lnTo>
                    <a:pt x="2950" y="418"/>
                  </a:lnTo>
                  <a:lnTo>
                    <a:pt x="2937" y="437"/>
                  </a:lnTo>
                  <a:lnTo>
                    <a:pt x="2921" y="456"/>
                  </a:lnTo>
                  <a:lnTo>
                    <a:pt x="2900" y="474"/>
                  </a:lnTo>
                  <a:lnTo>
                    <a:pt x="2877" y="491"/>
                  </a:lnTo>
                  <a:lnTo>
                    <a:pt x="2850" y="508"/>
                  </a:lnTo>
                  <a:lnTo>
                    <a:pt x="2821" y="525"/>
                  </a:lnTo>
                  <a:lnTo>
                    <a:pt x="2788" y="541"/>
                  </a:lnTo>
                  <a:lnTo>
                    <a:pt x="2752" y="556"/>
                  </a:lnTo>
                  <a:lnTo>
                    <a:pt x="2714" y="573"/>
                  </a:lnTo>
                  <a:lnTo>
                    <a:pt x="2672" y="587"/>
                  </a:lnTo>
                  <a:lnTo>
                    <a:pt x="2628" y="601"/>
                  </a:lnTo>
                  <a:lnTo>
                    <a:pt x="2581" y="615"/>
                  </a:lnTo>
                  <a:lnTo>
                    <a:pt x="2533" y="628"/>
                  </a:lnTo>
                  <a:lnTo>
                    <a:pt x="2481" y="640"/>
                  </a:lnTo>
                  <a:lnTo>
                    <a:pt x="2427" y="652"/>
                  </a:lnTo>
                  <a:lnTo>
                    <a:pt x="2371" y="663"/>
                  </a:lnTo>
                  <a:lnTo>
                    <a:pt x="2313" y="675"/>
                  </a:lnTo>
                  <a:lnTo>
                    <a:pt x="2253" y="684"/>
                  </a:lnTo>
                  <a:lnTo>
                    <a:pt x="2190" y="693"/>
                  </a:lnTo>
                  <a:lnTo>
                    <a:pt x="2127" y="702"/>
                  </a:lnTo>
                  <a:lnTo>
                    <a:pt x="2061" y="709"/>
                  </a:lnTo>
                  <a:lnTo>
                    <a:pt x="1993" y="716"/>
                  </a:lnTo>
                  <a:lnTo>
                    <a:pt x="1925" y="722"/>
                  </a:lnTo>
                  <a:lnTo>
                    <a:pt x="1854" y="727"/>
                  </a:lnTo>
                  <a:lnTo>
                    <a:pt x="1782" y="731"/>
                  </a:lnTo>
                  <a:lnTo>
                    <a:pt x="1710" y="734"/>
                  </a:lnTo>
                  <a:lnTo>
                    <a:pt x="1635" y="737"/>
                  </a:lnTo>
                  <a:lnTo>
                    <a:pt x="1560" y="738"/>
                  </a:lnTo>
                  <a:lnTo>
                    <a:pt x="1483" y="739"/>
                  </a:lnTo>
                  <a:lnTo>
                    <a:pt x="1407" y="738"/>
                  </a:lnTo>
                  <a:lnTo>
                    <a:pt x="1332" y="737"/>
                  </a:lnTo>
                  <a:lnTo>
                    <a:pt x="1257" y="734"/>
                  </a:lnTo>
                  <a:lnTo>
                    <a:pt x="1185" y="731"/>
                  </a:lnTo>
                  <a:lnTo>
                    <a:pt x="1113" y="727"/>
                  </a:lnTo>
                  <a:lnTo>
                    <a:pt x="1042" y="722"/>
                  </a:lnTo>
                  <a:lnTo>
                    <a:pt x="973" y="716"/>
                  </a:lnTo>
                  <a:lnTo>
                    <a:pt x="906" y="709"/>
                  </a:lnTo>
                  <a:lnTo>
                    <a:pt x="840" y="702"/>
                  </a:lnTo>
                  <a:lnTo>
                    <a:pt x="777" y="693"/>
                  </a:lnTo>
                  <a:lnTo>
                    <a:pt x="714" y="684"/>
                  </a:lnTo>
                  <a:lnTo>
                    <a:pt x="654" y="675"/>
                  </a:lnTo>
                  <a:lnTo>
                    <a:pt x="596" y="663"/>
                  </a:lnTo>
                  <a:lnTo>
                    <a:pt x="540" y="652"/>
                  </a:lnTo>
                  <a:lnTo>
                    <a:pt x="486" y="640"/>
                  </a:lnTo>
                  <a:lnTo>
                    <a:pt x="434" y="628"/>
                  </a:lnTo>
                  <a:lnTo>
                    <a:pt x="386" y="615"/>
                  </a:lnTo>
                  <a:lnTo>
                    <a:pt x="339" y="601"/>
                  </a:lnTo>
                  <a:lnTo>
                    <a:pt x="295" y="587"/>
                  </a:lnTo>
                  <a:lnTo>
                    <a:pt x="253" y="573"/>
                  </a:lnTo>
                  <a:lnTo>
                    <a:pt x="215" y="556"/>
                  </a:lnTo>
                  <a:lnTo>
                    <a:pt x="180" y="541"/>
                  </a:lnTo>
                  <a:lnTo>
                    <a:pt x="146" y="525"/>
                  </a:lnTo>
                  <a:lnTo>
                    <a:pt x="117" y="508"/>
                  </a:lnTo>
                  <a:lnTo>
                    <a:pt x="90" y="491"/>
                  </a:lnTo>
                  <a:lnTo>
                    <a:pt x="67" y="474"/>
                  </a:lnTo>
                  <a:lnTo>
                    <a:pt x="46" y="456"/>
                  </a:lnTo>
                  <a:lnTo>
                    <a:pt x="30" y="437"/>
                  </a:lnTo>
                  <a:lnTo>
                    <a:pt x="17" y="418"/>
                  </a:lnTo>
                  <a:lnTo>
                    <a:pt x="8" y="399"/>
                  </a:lnTo>
                  <a:lnTo>
                    <a:pt x="2" y="380"/>
                  </a:lnTo>
                  <a:lnTo>
                    <a:pt x="0" y="361"/>
                  </a:lnTo>
                  <a:lnTo>
                    <a:pt x="2" y="341"/>
                  </a:lnTo>
                  <a:lnTo>
                    <a:pt x="8" y="322"/>
                  </a:lnTo>
                  <a:lnTo>
                    <a:pt x="17" y="304"/>
                  </a:lnTo>
                  <a:lnTo>
                    <a:pt x="30" y="285"/>
                  </a:lnTo>
                  <a:lnTo>
                    <a:pt x="46" y="268"/>
                  </a:lnTo>
                  <a:lnTo>
                    <a:pt x="67" y="250"/>
                  </a:lnTo>
                  <a:lnTo>
                    <a:pt x="90" y="233"/>
                  </a:lnTo>
                  <a:lnTo>
                    <a:pt x="117" y="216"/>
                  </a:lnTo>
                  <a:lnTo>
                    <a:pt x="146" y="200"/>
                  </a:lnTo>
                  <a:lnTo>
                    <a:pt x="180" y="185"/>
                  </a:lnTo>
                  <a:lnTo>
                    <a:pt x="215" y="170"/>
                  </a:lnTo>
                  <a:lnTo>
                    <a:pt x="253" y="155"/>
                  </a:lnTo>
                  <a:lnTo>
                    <a:pt x="295" y="141"/>
                  </a:lnTo>
                  <a:lnTo>
                    <a:pt x="339" y="127"/>
                  </a:lnTo>
                  <a:lnTo>
                    <a:pt x="386" y="114"/>
                  </a:lnTo>
                  <a:lnTo>
                    <a:pt x="434" y="102"/>
                  </a:lnTo>
                  <a:lnTo>
                    <a:pt x="486" y="90"/>
                  </a:lnTo>
                  <a:lnTo>
                    <a:pt x="540" y="80"/>
                  </a:lnTo>
                  <a:lnTo>
                    <a:pt x="596" y="69"/>
                  </a:lnTo>
                  <a:lnTo>
                    <a:pt x="654" y="60"/>
                  </a:lnTo>
                  <a:lnTo>
                    <a:pt x="714" y="51"/>
                  </a:lnTo>
                  <a:lnTo>
                    <a:pt x="777" y="42"/>
                  </a:lnTo>
                  <a:lnTo>
                    <a:pt x="840" y="35"/>
                  </a:lnTo>
                  <a:lnTo>
                    <a:pt x="906" y="28"/>
                  </a:lnTo>
                  <a:lnTo>
                    <a:pt x="973" y="21"/>
                  </a:lnTo>
                  <a:lnTo>
                    <a:pt x="1042" y="15"/>
                  </a:lnTo>
                  <a:lnTo>
                    <a:pt x="1113" y="11"/>
                  </a:lnTo>
                  <a:lnTo>
                    <a:pt x="1185" y="7"/>
                  </a:lnTo>
                  <a:lnTo>
                    <a:pt x="1257" y="4"/>
                  </a:lnTo>
                  <a:lnTo>
                    <a:pt x="1332" y="2"/>
                  </a:lnTo>
                  <a:lnTo>
                    <a:pt x="1407" y="1"/>
                  </a:lnTo>
                  <a:lnTo>
                    <a:pt x="1483" y="0"/>
                  </a:lnTo>
                  <a:lnTo>
                    <a:pt x="1560" y="1"/>
                  </a:lnTo>
                  <a:lnTo>
                    <a:pt x="1635" y="2"/>
                  </a:lnTo>
                  <a:lnTo>
                    <a:pt x="1710" y="4"/>
                  </a:lnTo>
                  <a:lnTo>
                    <a:pt x="1782" y="7"/>
                  </a:lnTo>
                  <a:lnTo>
                    <a:pt x="1854" y="11"/>
                  </a:lnTo>
                  <a:lnTo>
                    <a:pt x="1925" y="15"/>
                  </a:lnTo>
                  <a:lnTo>
                    <a:pt x="1993" y="21"/>
                  </a:lnTo>
                  <a:lnTo>
                    <a:pt x="2061" y="28"/>
                  </a:lnTo>
                  <a:lnTo>
                    <a:pt x="2127" y="35"/>
                  </a:lnTo>
                  <a:lnTo>
                    <a:pt x="2190" y="42"/>
                  </a:lnTo>
                  <a:lnTo>
                    <a:pt x="2253" y="51"/>
                  </a:lnTo>
                  <a:lnTo>
                    <a:pt x="2313" y="60"/>
                  </a:lnTo>
                  <a:lnTo>
                    <a:pt x="2371" y="69"/>
                  </a:lnTo>
                  <a:lnTo>
                    <a:pt x="2427" y="80"/>
                  </a:lnTo>
                  <a:lnTo>
                    <a:pt x="2481" y="90"/>
                  </a:lnTo>
                  <a:lnTo>
                    <a:pt x="2533" y="102"/>
                  </a:lnTo>
                  <a:lnTo>
                    <a:pt x="2581" y="114"/>
                  </a:lnTo>
                  <a:lnTo>
                    <a:pt x="2628" y="127"/>
                  </a:lnTo>
                  <a:lnTo>
                    <a:pt x="2672" y="141"/>
                  </a:lnTo>
                  <a:lnTo>
                    <a:pt x="2714" y="155"/>
                  </a:lnTo>
                  <a:lnTo>
                    <a:pt x="2752" y="170"/>
                  </a:lnTo>
                  <a:lnTo>
                    <a:pt x="2788" y="185"/>
                  </a:lnTo>
                  <a:lnTo>
                    <a:pt x="2821" y="200"/>
                  </a:lnTo>
                  <a:lnTo>
                    <a:pt x="2850" y="216"/>
                  </a:lnTo>
                  <a:lnTo>
                    <a:pt x="2877" y="233"/>
                  </a:lnTo>
                  <a:lnTo>
                    <a:pt x="2900" y="250"/>
                  </a:lnTo>
                  <a:lnTo>
                    <a:pt x="2921" y="268"/>
                  </a:lnTo>
                  <a:lnTo>
                    <a:pt x="2937" y="285"/>
                  </a:lnTo>
                  <a:lnTo>
                    <a:pt x="2950" y="304"/>
                  </a:lnTo>
                  <a:lnTo>
                    <a:pt x="2959" y="322"/>
                  </a:lnTo>
                  <a:lnTo>
                    <a:pt x="2965" y="341"/>
                  </a:lnTo>
                  <a:lnTo>
                    <a:pt x="2967" y="361"/>
                  </a:lnTo>
                  <a:close/>
                </a:path>
              </a:pathLst>
            </a:custGeom>
            <a:solidFill>
              <a:srgbClr val="fb6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126520" y="6533280"/>
              <a:ext cx="327960" cy="88200"/>
            </a:xfrm>
            <a:custGeom>
              <a:avLst/>
              <a:gdLst/>
              <a:ahLst/>
              <a:rect l="l" t="t" r="r" b="b"/>
              <a:pathLst>
                <a:path w="2963" h="737">
                  <a:moveTo>
                    <a:pt x="2963" y="360"/>
                  </a:moveTo>
                  <a:lnTo>
                    <a:pt x="2962" y="379"/>
                  </a:lnTo>
                  <a:lnTo>
                    <a:pt x="2956" y="398"/>
                  </a:lnTo>
                  <a:lnTo>
                    <a:pt x="2947" y="417"/>
                  </a:lnTo>
                  <a:lnTo>
                    <a:pt x="2934" y="435"/>
                  </a:lnTo>
                  <a:lnTo>
                    <a:pt x="2917" y="455"/>
                  </a:lnTo>
                  <a:lnTo>
                    <a:pt x="2897" y="472"/>
                  </a:lnTo>
                  <a:lnTo>
                    <a:pt x="2873" y="490"/>
                  </a:lnTo>
                  <a:lnTo>
                    <a:pt x="2847" y="507"/>
                  </a:lnTo>
                  <a:lnTo>
                    <a:pt x="2818" y="523"/>
                  </a:lnTo>
                  <a:lnTo>
                    <a:pt x="2784" y="539"/>
                  </a:lnTo>
                  <a:lnTo>
                    <a:pt x="2749" y="555"/>
                  </a:lnTo>
                  <a:lnTo>
                    <a:pt x="2711" y="571"/>
                  </a:lnTo>
                  <a:lnTo>
                    <a:pt x="2669" y="586"/>
                  </a:lnTo>
                  <a:lnTo>
                    <a:pt x="2625" y="600"/>
                  </a:lnTo>
                  <a:lnTo>
                    <a:pt x="2578" y="613"/>
                  </a:lnTo>
                  <a:lnTo>
                    <a:pt x="2530" y="626"/>
                  </a:lnTo>
                  <a:lnTo>
                    <a:pt x="2478" y="639"/>
                  </a:lnTo>
                  <a:lnTo>
                    <a:pt x="2424" y="650"/>
                  </a:lnTo>
                  <a:lnTo>
                    <a:pt x="2368" y="662"/>
                  </a:lnTo>
                  <a:lnTo>
                    <a:pt x="2311" y="673"/>
                  </a:lnTo>
                  <a:lnTo>
                    <a:pt x="2250" y="683"/>
                  </a:lnTo>
                  <a:lnTo>
                    <a:pt x="2188" y="692"/>
                  </a:lnTo>
                  <a:lnTo>
                    <a:pt x="2124" y="700"/>
                  </a:lnTo>
                  <a:lnTo>
                    <a:pt x="2058" y="707"/>
                  </a:lnTo>
                  <a:lnTo>
                    <a:pt x="1991" y="714"/>
                  </a:lnTo>
                  <a:lnTo>
                    <a:pt x="1922" y="720"/>
                  </a:lnTo>
                  <a:lnTo>
                    <a:pt x="1852" y="725"/>
                  </a:lnTo>
                  <a:lnTo>
                    <a:pt x="1780" y="729"/>
                  </a:lnTo>
                  <a:lnTo>
                    <a:pt x="1708" y="732"/>
                  </a:lnTo>
                  <a:lnTo>
                    <a:pt x="1633" y="735"/>
                  </a:lnTo>
                  <a:lnTo>
                    <a:pt x="1558" y="736"/>
                  </a:lnTo>
                  <a:lnTo>
                    <a:pt x="1481" y="737"/>
                  </a:lnTo>
                  <a:lnTo>
                    <a:pt x="1406" y="736"/>
                  </a:lnTo>
                  <a:lnTo>
                    <a:pt x="1330" y="735"/>
                  </a:lnTo>
                  <a:lnTo>
                    <a:pt x="1256" y="732"/>
                  </a:lnTo>
                  <a:lnTo>
                    <a:pt x="1183" y="729"/>
                  </a:lnTo>
                  <a:lnTo>
                    <a:pt x="1111" y="725"/>
                  </a:lnTo>
                  <a:lnTo>
                    <a:pt x="1041" y="720"/>
                  </a:lnTo>
                  <a:lnTo>
                    <a:pt x="972" y="714"/>
                  </a:lnTo>
                  <a:lnTo>
                    <a:pt x="905" y="707"/>
                  </a:lnTo>
                  <a:lnTo>
                    <a:pt x="839" y="700"/>
                  </a:lnTo>
                  <a:lnTo>
                    <a:pt x="776" y="692"/>
                  </a:lnTo>
                  <a:lnTo>
                    <a:pt x="713" y="683"/>
                  </a:lnTo>
                  <a:lnTo>
                    <a:pt x="653" y="673"/>
                  </a:lnTo>
                  <a:lnTo>
                    <a:pt x="595" y="662"/>
                  </a:lnTo>
                  <a:lnTo>
                    <a:pt x="539" y="650"/>
                  </a:lnTo>
                  <a:lnTo>
                    <a:pt x="485" y="639"/>
                  </a:lnTo>
                  <a:lnTo>
                    <a:pt x="433" y="626"/>
                  </a:lnTo>
                  <a:lnTo>
                    <a:pt x="385" y="613"/>
                  </a:lnTo>
                  <a:lnTo>
                    <a:pt x="338" y="600"/>
                  </a:lnTo>
                  <a:lnTo>
                    <a:pt x="294" y="586"/>
                  </a:lnTo>
                  <a:lnTo>
                    <a:pt x="252" y="571"/>
                  </a:lnTo>
                  <a:lnTo>
                    <a:pt x="214" y="555"/>
                  </a:lnTo>
                  <a:lnTo>
                    <a:pt x="179" y="539"/>
                  </a:lnTo>
                  <a:lnTo>
                    <a:pt x="145" y="523"/>
                  </a:lnTo>
                  <a:lnTo>
                    <a:pt x="116" y="507"/>
                  </a:lnTo>
                  <a:lnTo>
                    <a:pt x="90" y="490"/>
                  </a:lnTo>
                  <a:lnTo>
                    <a:pt x="67" y="472"/>
                  </a:lnTo>
                  <a:lnTo>
                    <a:pt x="46" y="455"/>
                  </a:lnTo>
                  <a:lnTo>
                    <a:pt x="30" y="435"/>
                  </a:lnTo>
                  <a:lnTo>
                    <a:pt x="17" y="417"/>
                  </a:lnTo>
                  <a:lnTo>
                    <a:pt x="7" y="398"/>
                  </a:lnTo>
                  <a:lnTo>
                    <a:pt x="2" y="379"/>
                  </a:lnTo>
                  <a:lnTo>
                    <a:pt x="0" y="360"/>
                  </a:lnTo>
                  <a:lnTo>
                    <a:pt x="2" y="340"/>
                  </a:lnTo>
                  <a:lnTo>
                    <a:pt x="7" y="321"/>
                  </a:lnTo>
                  <a:lnTo>
                    <a:pt x="17" y="303"/>
                  </a:lnTo>
                  <a:lnTo>
                    <a:pt x="30" y="285"/>
                  </a:lnTo>
                  <a:lnTo>
                    <a:pt x="46" y="267"/>
                  </a:lnTo>
                  <a:lnTo>
                    <a:pt x="67" y="250"/>
                  </a:lnTo>
                  <a:lnTo>
                    <a:pt x="90" y="232"/>
                  </a:lnTo>
                  <a:lnTo>
                    <a:pt x="116" y="215"/>
                  </a:lnTo>
                  <a:lnTo>
                    <a:pt x="145" y="200"/>
                  </a:lnTo>
                  <a:lnTo>
                    <a:pt x="179" y="184"/>
                  </a:lnTo>
                  <a:lnTo>
                    <a:pt x="214" y="169"/>
                  </a:lnTo>
                  <a:lnTo>
                    <a:pt x="252" y="155"/>
                  </a:lnTo>
                  <a:lnTo>
                    <a:pt x="294" y="141"/>
                  </a:lnTo>
                  <a:lnTo>
                    <a:pt x="338" y="127"/>
                  </a:lnTo>
                  <a:lnTo>
                    <a:pt x="385" y="114"/>
                  </a:lnTo>
                  <a:lnTo>
                    <a:pt x="433" y="102"/>
                  </a:lnTo>
                  <a:lnTo>
                    <a:pt x="485" y="90"/>
                  </a:lnTo>
                  <a:lnTo>
                    <a:pt x="539" y="79"/>
                  </a:lnTo>
                  <a:lnTo>
                    <a:pt x="595" y="69"/>
                  </a:lnTo>
                  <a:lnTo>
                    <a:pt x="653" y="59"/>
                  </a:lnTo>
                  <a:lnTo>
                    <a:pt x="713" y="50"/>
                  </a:lnTo>
                  <a:lnTo>
                    <a:pt x="776" y="42"/>
                  </a:lnTo>
                  <a:lnTo>
                    <a:pt x="839" y="34"/>
                  </a:lnTo>
                  <a:lnTo>
                    <a:pt x="905" y="28"/>
                  </a:lnTo>
                  <a:lnTo>
                    <a:pt x="972" y="21"/>
                  </a:lnTo>
                  <a:lnTo>
                    <a:pt x="1041" y="15"/>
                  </a:lnTo>
                  <a:lnTo>
                    <a:pt x="1111" y="11"/>
                  </a:lnTo>
                  <a:lnTo>
                    <a:pt x="1183" y="7"/>
                  </a:lnTo>
                  <a:lnTo>
                    <a:pt x="1256" y="4"/>
                  </a:lnTo>
                  <a:lnTo>
                    <a:pt x="1330" y="2"/>
                  </a:lnTo>
                  <a:lnTo>
                    <a:pt x="1406" y="0"/>
                  </a:lnTo>
                  <a:lnTo>
                    <a:pt x="1481" y="0"/>
                  </a:lnTo>
                  <a:lnTo>
                    <a:pt x="1558" y="0"/>
                  </a:lnTo>
                  <a:lnTo>
                    <a:pt x="1633" y="2"/>
                  </a:lnTo>
                  <a:lnTo>
                    <a:pt x="1708" y="4"/>
                  </a:lnTo>
                  <a:lnTo>
                    <a:pt x="1780" y="7"/>
                  </a:lnTo>
                  <a:lnTo>
                    <a:pt x="1852" y="11"/>
                  </a:lnTo>
                  <a:lnTo>
                    <a:pt x="1922" y="15"/>
                  </a:lnTo>
                  <a:lnTo>
                    <a:pt x="1991" y="21"/>
                  </a:lnTo>
                  <a:lnTo>
                    <a:pt x="2058" y="28"/>
                  </a:lnTo>
                  <a:lnTo>
                    <a:pt x="2124" y="34"/>
                  </a:lnTo>
                  <a:lnTo>
                    <a:pt x="2188" y="42"/>
                  </a:lnTo>
                  <a:lnTo>
                    <a:pt x="2250" y="50"/>
                  </a:lnTo>
                  <a:lnTo>
                    <a:pt x="2311" y="59"/>
                  </a:lnTo>
                  <a:lnTo>
                    <a:pt x="2368" y="69"/>
                  </a:lnTo>
                  <a:lnTo>
                    <a:pt x="2424" y="79"/>
                  </a:lnTo>
                  <a:lnTo>
                    <a:pt x="2478" y="90"/>
                  </a:lnTo>
                  <a:lnTo>
                    <a:pt x="2530" y="102"/>
                  </a:lnTo>
                  <a:lnTo>
                    <a:pt x="2578" y="114"/>
                  </a:lnTo>
                  <a:lnTo>
                    <a:pt x="2625" y="127"/>
                  </a:lnTo>
                  <a:lnTo>
                    <a:pt x="2669" y="141"/>
                  </a:lnTo>
                  <a:lnTo>
                    <a:pt x="2711" y="155"/>
                  </a:lnTo>
                  <a:lnTo>
                    <a:pt x="2749" y="169"/>
                  </a:lnTo>
                  <a:lnTo>
                    <a:pt x="2784" y="184"/>
                  </a:lnTo>
                  <a:lnTo>
                    <a:pt x="2818" y="200"/>
                  </a:lnTo>
                  <a:lnTo>
                    <a:pt x="2847" y="215"/>
                  </a:lnTo>
                  <a:lnTo>
                    <a:pt x="2873" y="232"/>
                  </a:lnTo>
                  <a:lnTo>
                    <a:pt x="2897" y="250"/>
                  </a:lnTo>
                  <a:lnTo>
                    <a:pt x="2917" y="267"/>
                  </a:lnTo>
                  <a:lnTo>
                    <a:pt x="2934" y="285"/>
                  </a:lnTo>
                  <a:lnTo>
                    <a:pt x="2947" y="303"/>
                  </a:lnTo>
                  <a:lnTo>
                    <a:pt x="2956" y="321"/>
                  </a:lnTo>
                  <a:lnTo>
                    <a:pt x="2962" y="340"/>
                  </a:lnTo>
                  <a:lnTo>
                    <a:pt x="2963" y="360"/>
                  </a:lnTo>
                  <a:close/>
                </a:path>
              </a:pathLst>
            </a:custGeom>
            <a:solidFill>
              <a:srgbClr val="fb6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26520" y="6533280"/>
              <a:ext cx="327960" cy="88200"/>
            </a:xfrm>
            <a:custGeom>
              <a:avLst/>
              <a:gdLst/>
              <a:ahLst/>
              <a:rect l="l" t="t" r="r" b="b"/>
              <a:pathLst>
                <a:path w="2961" h="735">
                  <a:moveTo>
                    <a:pt x="2961" y="359"/>
                  </a:moveTo>
                  <a:lnTo>
                    <a:pt x="2959" y="378"/>
                  </a:lnTo>
                  <a:lnTo>
                    <a:pt x="2953" y="397"/>
                  </a:lnTo>
                  <a:lnTo>
                    <a:pt x="2944" y="416"/>
                  </a:lnTo>
                  <a:lnTo>
                    <a:pt x="2931" y="434"/>
                  </a:lnTo>
                  <a:lnTo>
                    <a:pt x="2915" y="453"/>
                  </a:lnTo>
                  <a:lnTo>
                    <a:pt x="2894" y="471"/>
                  </a:lnTo>
                  <a:lnTo>
                    <a:pt x="2871" y="488"/>
                  </a:lnTo>
                  <a:lnTo>
                    <a:pt x="2845" y="505"/>
                  </a:lnTo>
                  <a:lnTo>
                    <a:pt x="2815" y="522"/>
                  </a:lnTo>
                  <a:lnTo>
                    <a:pt x="2782" y="538"/>
                  </a:lnTo>
                  <a:lnTo>
                    <a:pt x="2747" y="553"/>
                  </a:lnTo>
                  <a:lnTo>
                    <a:pt x="2709" y="570"/>
                  </a:lnTo>
                  <a:lnTo>
                    <a:pt x="2667" y="584"/>
                  </a:lnTo>
                  <a:lnTo>
                    <a:pt x="2623" y="598"/>
                  </a:lnTo>
                  <a:lnTo>
                    <a:pt x="2576" y="612"/>
                  </a:lnTo>
                  <a:lnTo>
                    <a:pt x="2528" y="625"/>
                  </a:lnTo>
                  <a:lnTo>
                    <a:pt x="2476" y="637"/>
                  </a:lnTo>
                  <a:lnTo>
                    <a:pt x="2423" y="649"/>
                  </a:lnTo>
                  <a:lnTo>
                    <a:pt x="2366" y="660"/>
                  </a:lnTo>
                  <a:lnTo>
                    <a:pt x="2309" y="671"/>
                  </a:lnTo>
                  <a:lnTo>
                    <a:pt x="2248" y="681"/>
                  </a:lnTo>
                  <a:lnTo>
                    <a:pt x="2186" y="690"/>
                  </a:lnTo>
                  <a:lnTo>
                    <a:pt x="2123" y="698"/>
                  </a:lnTo>
                  <a:lnTo>
                    <a:pt x="2057" y="706"/>
                  </a:lnTo>
                  <a:lnTo>
                    <a:pt x="1989" y="712"/>
                  </a:lnTo>
                  <a:lnTo>
                    <a:pt x="1921" y="718"/>
                  </a:lnTo>
                  <a:lnTo>
                    <a:pt x="1850" y="723"/>
                  </a:lnTo>
                  <a:lnTo>
                    <a:pt x="1779" y="727"/>
                  </a:lnTo>
                  <a:lnTo>
                    <a:pt x="1706" y="731"/>
                  </a:lnTo>
                  <a:lnTo>
                    <a:pt x="1632" y="733"/>
                  </a:lnTo>
                  <a:lnTo>
                    <a:pt x="1556" y="734"/>
                  </a:lnTo>
                  <a:lnTo>
                    <a:pt x="1480" y="735"/>
                  </a:lnTo>
                  <a:lnTo>
                    <a:pt x="1405" y="734"/>
                  </a:lnTo>
                  <a:lnTo>
                    <a:pt x="1329" y="733"/>
                  </a:lnTo>
                  <a:lnTo>
                    <a:pt x="1255" y="731"/>
                  </a:lnTo>
                  <a:lnTo>
                    <a:pt x="1183" y="727"/>
                  </a:lnTo>
                  <a:lnTo>
                    <a:pt x="1111" y="723"/>
                  </a:lnTo>
                  <a:lnTo>
                    <a:pt x="1040" y="718"/>
                  </a:lnTo>
                  <a:lnTo>
                    <a:pt x="971" y="712"/>
                  </a:lnTo>
                  <a:lnTo>
                    <a:pt x="904" y="706"/>
                  </a:lnTo>
                  <a:lnTo>
                    <a:pt x="838" y="698"/>
                  </a:lnTo>
                  <a:lnTo>
                    <a:pt x="775" y="690"/>
                  </a:lnTo>
                  <a:lnTo>
                    <a:pt x="713" y="681"/>
                  </a:lnTo>
                  <a:lnTo>
                    <a:pt x="652" y="671"/>
                  </a:lnTo>
                  <a:lnTo>
                    <a:pt x="595" y="660"/>
                  </a:lnTo>
                  <a:lnTo>
                    <a:pt x="539" y="649"/>
                  </a:lnTo>
                  <a:lnTo>
                    <a:pt x="485" y="637"/>
                  </a:lnTo>
                  <a:lnTo>
                    <a:pt x="433" y="625"/>
                  </a:lnTo>
                  <a:lnTo>
                    <a:pt x="385" y="612"/>
                  </a:lnTo>
                  <a:lnTo>
                    <a:pt x="338" y="598"/>
                  </a:lnTo>
                  <a:lnTo>
                    <a:pt x="294" y="584"/>
                  </a:lnTo>
                  <a:lnTo>
                    <a:pt x="252" y="570"/>
                  </a:lnTo>
                  <a:lnTo>
                    <a:pt x="214" y="553"/>
                  </a:lnTo>
                  <a:lnTo>
                    <a:pt x="179" y="538"/>
                  </a:lnTo>
                  <a:lnTo>
                    <a:pt x="146" y="522"/>
                  </a:lnTo>
                  <a:lnTo>
                    <a:pt x="116" y="505"/>
                  </a:lnTo>
                  <a:lnTo>
                    <a:pt x="90" y="488"/>
                  </a:lnTo>
                  <a:lnTo>
                    <a:pt x="67" y="471"/>
                  </a:lnTo>
                  <a:lnTo>
                    <a:pt x="46" y="453"/>
                  </a:lnTo>
                  <a:lnTo>
                    <a:pt x="30" y="434"/>
                  </a:lnTo>
                  <a:lnTo>
                    <a:pt x="17" y="416"/>
                  </a:lnTo>
                  <a:lnTo>
                    <a:pt x="8" y="397"/>
                  </a:lnTo>
                  <a:lnTo>
                    <a:pt x="2" y="378"/>
                  </a:lnTo>
                  <a:lnTo>
                    <a:pt x="0" y="359"/>
                  </a:lnTo>
                  <a:lnTo>
                    <a:pt x="2" y="339"/>
                  </a:lnTo>
                  <a:lnTo>
                    <a:pt x="8" y="320"/>
                  </a:lnTo>
                  <a:lnTo>
                    <a:pt x="17" y="302"/>
                  </a:lnTo>
                  <a:lnTo>
                    <a:pt x="30" y="284"/>
                  </a:lnTo>
                  <a:lnTo>
                    <a:pt x="46" y="266"/>
                  </a:lnTo>
                  <a:lnTo>
                    <a:pt x="67" y="249"/>
                  </a:lnTo>
                  <a:lnTo>
                    <a:pt x="90" y="231"/>
                  </a:lnTo>
                  <a:lnTo>
                    <a:pt x="116" y="215"/>
                  </a:lnTo>
                  <a:lnTo>
                    <a:pt x="146" y="199"/>
                  </a:lnTo>
                  <a:lnTo>
                    <a:pt x="179" y="184"/>
                  </a:lnTo>
                  <a:lnTo>
                    <a:pt x="214" y="169"/>
                  </a:lnTo>
                  <a:lnTo>
                    <a:pt x="252" y="154"/>
                  </a:lnTo>
                  <a:lnTo>
                    <a:pt x="294" y="141"/>
                  </a:lnTo>
                  <a:lnTo>
                    <a:pt x="338" y="126"/>
                  </a:lnTo>
                  <a:lnTo>
                    <a:pt x="385" y="113"/>
                  </a:lnTo>
                  <a:lnTo>
                    <a:pt x="433" y="101"/>
                  </a:lnTo>
                  <a:lnTo>
                    <a:pt x="485" y="90"/>
                  </a:lnTo>
                  <a:lnTo>
                    <a:pt x="539" y="79"/>
                  </a:lnTo>
                  <a:lnTo>
                    <a:pt x="595" y="69"/>
                  </a:lnTo>
                  <a:lnTo>
                    <a:pt x="652" y="59"/>
                  </a:lnTo>
                  <a:lnTo>
                    <a:pt x="713" y="50"/>
                  </a:lnTo>
                  <a:lnTo>
                    <a:pt x="775" y="42"/>
                  </a:lnTo>
                  <a:lnTo>
                    <a:pt x="838" y="34"/>
                  </a:lnTo>
                  <a:lnTo>
                    <a:pt x="904" y="28"/>
                  </a:lnTo>
                  <a:lnTo>
                    <a:pt x="971" y="20"/>
                  </a:lnTo>
                  <a:lnTo>
                    <a:pt x="1040" y="15"/>
                  </a:lnTo>
                  <a:lnTo>
                    <a:pt x="1111" y="11"/>
                  </a:lnTo>
                  <a:lnTo>
                    <a:pt x="1183" y="7"/>
                  </a:lnTo>
                  <a:lnTo>
                    <a:pt x="1255" y="4"/>
                  </a:lnTo>
                  <a:lnTo>
                    <a:pt x="1329" y="2"/>
                  </a:lnTo>
                  <a:lnTo>
                    <a:pt x="1405" y="0"/>
                  </a:lnTo>
                  <a:lnTo>
                    <a:pt x="1480" y="0"/>
                  </a:lnTo>
                  <a:lnTo>
                    <a:pt x="1556" y="0"/>
                  </a:lnTo>
                  <a:lnTo>
                    <a:pt x="1632" y="2"/>
                  </a:lnTo>
                  <a:lnTo>
                    <a:pt x="1706" y="4"/>
                  </a:lnTo>
                  <a:lnTo>
                    <a:pt x="1779" y="7"/>
                  </a:lnTo>
                  <a:lnTo>
                    <a:pt x="1850" y="11"/>
                  </a:lnTo>
                  <a:lnTo>
                    <a:pt x="1921" y="15"/>
                  </a:lnTo>
                  <a:lnTo>
                    <a:pt x="1989" y="20"/>
                  </a:lnTo>
                  <a:lnTo>
                    <a:pt x="2057" y="28"/>
                  </a:lnTo>
                  <a:lnTo>
                    <a:pt x="2123" y="34"/>
                  </a:lnTo>
                  <a:lnTo>
                    <a:pt x="2186" y="42"/>
                  </a:lnTo>
                  <a:lnTo>
                    <a:pt x="2248" y="50"/>
                  </a:lnTo>
                  <a:lnTo>
                    <a:pt x="2309" y="59"/>
                  </a:lnTo>
                  <a:lnTo>
                    <a:pt x="2366" y="69"/>
                  </a:lnTo>
                  <a:lnTo>
                    <a:pt x="2423" y="79"/>
                  </a:lnTo>
                  <a:lnTo>
                    <a:pt x="2476" y="90"/>
                  </a:lnTo>
                  <a:lnTo>
                    <a:pt x="2528" y="101"/>
                  </a:lnTo>
                  <a:lnTo>
                    <a:pt x="2576" y="113"/>
                  </a:lnTo>
                  <a:lnTo>
                    <a:pt x="2623" y="126"/>
                  </a:lnTo>
                  <a:lnTo>
                    <a:pt x="2667" y="141"/>
                  </a:lnTo>
                  <a:lnTo>
                    <a:pt x="2709" y="154"/>
                  </a:lnTo>
                  <a:lnTo>
                    <a:pt x="2747" y="169"/>
                  </a:lnTo>
                  <a:lnTo>
                    <a:pt x="2782" y="184"/>
                  </a:lnTo>
                  <a:lnTo>
                    <a:pt x="2815" y="199"/>
                  </a:lnTo>
                  <a:lnTo>
                    <a:pt x="2845" y="215"/>
                  </a:lnTo>
                  <a:lnTo>
                    <a:pt x="2871" y="231"/>
                  </a:lnTo>
                  <a:lnTo>
                    <a:pt x="2894" y="249"/>
                  </a:lnTo>
                  <a:lnTo>
                    <a:pt x="2915" y="266"/>
                  </a:lnTo>
                  <a:lnTo>
                    <a:pt x="2931" y="284"/>
                  </a:lnTo>
                  <a:lnTo>
                    <a:pt x="2944" y="302"/>
                  </a:lnTo>
                  <a:lnTo>
                    <a:pt x="2953" y="320"/>
                  </a:lnTo>
                  <a:lnTo>
                    <a:pt x="2959" y="339"/>
                  </a:lnTo>
                  <a:lnTo>
                    <a:pt x="2961" y="359"/>
                  </a:lnTo>
                  <a:close/>
                </a:path>
              </a:pathLst>
            </a:custGeom>
            <a:solidFill>
              <a:srgbClr val="fb6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127960" y="6534720"/>
              <a:ext cx="325080" cy="86400"/>
            </a:xfrm>
            <a:custGeom>
              <a:avLst/>
              <a:gdLst/>
              <a:ahLst/>
              <a:rect l="l" t="t" r="r" b="b"/>
              <a:pathLst>
                <a:path w="2958" h="733">
                  <a:moveTo>
                    <a:pt x="2958" y="358"/>
                  </a:moveTo>
                  <a:lnTo>
                    <a:pt x="2956" y="377"/>
                  </a:lnTo>
                  <a:lnTo>
                    <a:pt x="2950" y="396"/>
                  </a:lnTo>
                  <a:lnTo>
                    <a:pt x="2941" y="415"/>
                  </a:lnTo>
                  <a:lnTo>
                    <a:pt x="2928" y="433"/>
                  </a:lnTo>
                  <a:lnTo>
                    <a:pt x="2912" y="452"/>
                  </a:lnTo>
                  <a:lnTo>
                    <a:pt x="2891" y="470"/>
                  </a:lnTo>
                  <a:lnTo>
                    <a:pt x="2868" y="487"/>
                  </a:lnTo>
                  <a:lnTo>
                    <a:pt x="2842" y="504"/>
                  </a:lnTo>
                  <a:lnTo>
                    <a:pt x="2812" y="520"/>
                  </a:lnTo>
                  <a:lnTo>
                    <a:pt x="2779" y="536"/>
                  </a:lnTo>
                  <a:lnTo>
                    <a:pt x="2744" y="552"/>
                  </a:lnTo>
                  <a:lnTo>
                    <a:pt x="2706" y="568"/>
                  </a:lnTo>
                  <a:lnTo>
                    <a:pt x="2664" y="583"/>
                  </a:lnTo>
                  <a:lnTo>
                    <a:pt x="2620" y="597"/>
                  </a:lnTo>
                  <a:lnTo>
                    <a:pt x="2573" y="610"/>
                  </a:lnTo>
                  <a:lnTo>
                    <a:pt x="2525" y="623"/>
                  </a:lnTo>
                  <a:lnTo>
                    <a:pt x="2473" y="635"/>
                  </a:lnTo>
                  <a:lnTo>
                    <a:pt x="2420" y="647"/>
                  </a:lnTo>
                  <a:lnTo>
                    <a:pt x="2363" y="658"/>
                  </a:lnTo>
                  <a:lnTo>
                    <a:pt x="2306" y="669"/>
                  </a:lnTo>
                  <a:lnTo>
                    <a:pt x="2245" y="679"/>
                  </a:lnTo>
                  <a:lnTo>
                    <a:pt x="2183" y="688"/>
                  </a:lnTo>
                  <a:lnTo>
                    <a:pt x="2120" y="696"/>
                  </a:lnTo>
                  <a:lnTo>
                    <a:pt x="2054" y="704"/>
                  </a:lnTo>
                  <a:lnTo>
                    <a:pt x="1987" y="710"/>
                  </a:lnTo>
                  <a:lnTo>
                    <a:pt x="1919" y="716"/>
                  </a:lnTo>
                  <a:lnTo>
                    <a:pt x="1848" y="721"/>
                  </a:lnTo>
                  <a:lnTo>
                    <a:pt x="1776" y="725"/>
                  </a:lnTo>
                  <a:lnTo>
                    <a:pt x="1704" y="729"/>
                  </a:lnTo>
                  <a:lnTo>
                    <a:pt x="1630" y="731"/>
                  </a:lnTo>
                  <a:lnTo>
                    <a:pt x="1554" y="732"/>
                  </a:lnTo>
                  <a:lnTo>
                    <a:pt x="1478" y="733"/>
                  </a:lnTo>
                  <a:lnTo>
                    <a:pt x="1403" y="732"/>
                  </a:lnTo>
                  <a:lnTo>
                    <a:pt x="1327" y="731"/>
                  </a:lnTo>
                  <a:lnTo>
                    <a:pt x="1253" y="729"/>
                  </a:lnTo>
                  <a:lnTo>
                    <a:pt x="1181" y="725"/>
                  </a:lnTo>
                  <a:lnTo>
                    <a:pt x="1109" y="721"/>
                  </a:lnTo>
                  <a:lnTo>
                    <a:pt x="1039" y="716"/>
                  </a:lnTo>
                  <a:lnTo>
                    <a:pt x="969" y="710"/>
                  </a:lnTo>
                  <a:lnTo>
                    <a:pt x="903" y="704"/>
                  </a:lnTo>
                  <a:lnTo>
                    <a:pt x="837" y="696"/>
                  </a:lnTo>
                  <a:lnTo>
                    <a:pt x="774" y="688"/>
                  </a:lnTo>
                  <a:lnTo>
                    <a:pt x="712" y="679"/>
                  </a:lnTo>
                  <a:lnTo>
                    <a:pt x="651" y="669"/>
                  </a:lnTo>
                  <a:lnTo>
                    <a:pt x="594" y="658"/>
                  </a:lnTo>
                  <a:lnTo>
                    <a:pt x="537" y="647"/>
                  </a:lnTo>
                  <a:lnTo>
                    <a:pt x="484" y="635"/>
                  </a:lnTo>
                  <a:lnTo>
                    <a:pt x="432" y="623"/>
                  </a:lnTo>
                  <a:lnTo>
                    <a:pt x="384" y="610"/>
                  </a:lnTo>
                  <a:lnTo>
                    <a:pt x="337" y="597"/>
                  </a:lnTo>
                  <a:lnTo>
                    <a:pt x="293" y="583"/>
                  </a:lnTo>
                  <a:lnTo>
                    <a:pt x="252" y="568"/>
                  </a:lnTo>
                  <a:lnTo>
                    <a:pt x="214" y="552"/>
                  </a:lnTo>
                  <a:lnTo>
                    <a:pt x="178" y="536"/>
                  </a:lnTo>
                  <a:lnTo>
                    <a:pt x="145" y="520"/>
                  </a:lnTo>
                  <a:lnTo>
                    <a:pt x="116" y="504"/>
                  </a:lnTo>
                  <a:lnTo>
                    <a:pt x="89" y="487"/>
                  </a:lnTo>
                  <a:lnTo>
                    <a:pt x="66" y="470"/>
                  </a:lnTo>
                  <a:lnTo>
                    <a:pt x="46" y="452"/>
                  </a:lnTo>
                  <a:lnTo>
                    <a:pt x="29" y="433"/>
                  </a:lnTo>
                  <a:lnTo>
                    <a:pt x="16" y="415"/>
                  </a:lnTo>
                  <a:lnTo>
                    <a:pt x="7" y="396"/>
                  </a:lnTo>
                  <a:lnTo>
                    <a:pt x="1" y="377"/>
                  </a:lnTo>
                  <a:lnTo>
                    <a:pt x="0" y="358"/>
                  </a:lnTo>
                  <a:lnTo>
                    <a:pt x="1" y="338"/>
                  </a:lnTo>
                  <a:lnTo>
                    <a:pt x="7" y="319"/>
                  </a:lnTo>
                  <a:lnTo>
                    <a:pt x="16" y="301"/>
                  </a:lnTo>
                  <a:lnTo>
                    <a:pt x="29" y="283"/>
                  </a:lnTo>
                  <a:lnTo>
                    <a:pt x="46" y="265"/>
                  </a:lnTo>
                  <a:lnTo>
                    <a:pt x="66" y="248"/>
                  </a:lnTo>
                  <a:lnTo>
                    <a:pt x="89" y="230"/>
                  </a:lnTo>
                  <a:lnTo>
                    <a:pt x="116" y="214"/>
                  </a:lnTo>
                  <a:lnTo>
                    <a:pt x="145" y="198"/>
                  </a:lnTo>
                  <a:lnTo>
                    <a:pt x="178" y="183"/>
                  </a:lnTo>
                  <a:lnTo>
                    <a:pt x="214" y="168"/>
                  </a:lnTo>
                  <a:lnTo>
                    <a:pt x="252" y="154"/>
                  </a:lnTo>
                  <a:lnTo>
                    <a:pt x="293" y="140"/>
                  </a:lnTo>
                  <a:lnTo>
                    <a:pt x="337" y="126"/>
                  </a:lnTo>
                  <a:lnTo>
                    <a:pt x="384" y="113"/>
                  </a:lnTo>
                  <a:lnTo>
                    <a:pt x="432" y="101"/>
                  </a:lnTo>
                  <a:lnTo>
                    <a:pt x="484" y="90"/>
                  </a:lnTo>
                  <a:lnTo>
                    <a:pt x="537" y="79"/>
                  </a:lnTo>
                  <a:lnTo>
                    <a:pt x="594" y="68"/>
                  </a:lnTo>
                  <a:lnTo>
                    <a:pt x="651" y="59"/>
                  </a:lnTo>
                  <a:lnTo>
                    <a:pt x="712" y="50"/>
                  </a:lnTo>
                  <a:lnTo>
                    <a:pt x="774" y="42"/>
                  </a:lnTo>
                  <a:lnTo>
                    <a:pt x="837" y="34"/>
                  </a:lnTo>
                  <a:lnTo>
                    <a:pt x="903" y="27"/>
                  </a:lnTo>
                  <a:lnTo>
                    <a:pt x="969" y="21"/>
                  </a:lnTo>
                  <a:lnTo>
                    <a:pt x="1039" y="15"/>
                  </a:lnTo>
                  <a:lnTo>
                    <a:pt x="1109" y="10"/>
                  </a:lnTo>
                  <a:lnTo>
                    <a:pt x="1181" y="7"/>
                  </a:lnTo>
                  <a:lnTo>
                    <a:pt x="1253" y="4"/>
                  </a:lnTo>
                  <a:lnTo>
                    <a:pt x="1327" y="2"/>
                  </a:lnTo>
                  <a:lnTo>
                    <a:pt x="1403" y="0"/>
                  </a:lnTo>
                  <a:lnTo>
                    <a:pt x="1478" y="0"/>
                  </a:lnTo>
                  <a:lnTo>
                    <a:pt x="1554" y="0"/>
                  </a:lnTo>
                  <a:lnTo>
                    <a:pt x="1630" y="2"/>
                  </a:lnTo>
                  <a:lnTo>
                    <a:pt x="1704" y="4"/>
                  </a:lnTo>
                  <a:lnTo>
                    <a:pt x="1776" y="7"/>
                  </a:lnTo>
                  <a:lnTo>
                    <a:pt x="1848" y="10"/>
                  </a:lnTo>
                  <a:lnTo>
                    <a:pt x="1919" y="15"/>
                  </a:lnTo>
                  <a:lnTo>
                    <a:pt x="1987" y="21"/>
                  </a:lnTo>
                  <a:lnTo>
                    <a:pt x="2054" y="27"/>
                  </a:lnTo>
                  <a:lnTo>
                    <a:pt x="2120" y="34"/>
                  </a:lnTo>
                  <a:lnTo>
                    <a:pt x="2183" y="42"/>
                  </a:lnTo>
                  <a:lnTo>
                    <a:pt x="2245" y="50"/>
                  </a:lnTo>
                  <a:lnTo>
                    <a:pt x="2306" y="59"/>
                  </a:lnTo>
                  <a:lnTo>
                    <a:pt x="2363" y="68"/>
                  </a:lnTo>
                  <a:lnTo>
                    <a:pt x="2420" y="79"/>
                  </a:lnTo>
                  <a:lnTo>
                    <a:pt x="2473" y="90"/>
                  </a:lnTo>
                  <a:lnTo>
                    <a:pt x="2525" y="101"/>
                  </a:lnTo>
                  <a:lnTo>
                    <a:pt x="2573" y="113"/>
                  </a:lnTo>
                  <a:lnTo>
                    <a:pt x="2620" y="126"/>
                  </a:lnTo>
                  <a:lnTo>
                    <a:pt x="2664" y="140"/>
                  </a:lnTo>
                  <a:lnTo>
                    <a:pt x="2706" y="154"/>
                  </a:lnTo>
                  <a:lnTo>
                    <a:pt x="2744" y="168"/>
                  </a:lnTo>
                  <a:lnTo>
                    <a:pt x="2779" y="183"/>
                  </a:lnTo>
                  <a:lnTo>
                    <a:pt x="2812" y="198"/>
                  </a:lnTo>
                  <a:lnTo>
                    <a:pt x="2842" y="214"/>
                  </a:lnTo>
                  <a:lnTo>
                    <a:pt x="2868" y="230"/>
                  </a:lnTo>
                  <a:lnTo>
                    <a:pt x="2891" y="248"/>
                  </a:lnTo>
                  <a:lnTo>
                    <a:pt x="2912" y="265"/>
                  </a:lnTo>
                  <a:lnTo>
                    <a:pt x="2928" y="283"/>
                  </a:lnTo>
                  <a:lnTo>
                    <a:pt x="2941" y="301"/>
                  </a:lnTo>
                  <a:lnTo>
                    <a:pt x="2950" y="319"/>
                  </a:lnTo>
                  <a:lnTo>
                    <a:pt x="2956" y="338"/>
                  </a:lnTo>
                  <a:lnTo>
                    <a:pt x="2958" y="358"/>
                  </a:lnTo>
                  <a:close/>
                </a:path>
              </a:pathLst>
            </a:custGeom>
            <a:solidFill>
              <a:srgbClr val="fb6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127960" y="6534720"/>
              <a:ext cx="325080" cy="86400"/>
            </a:xfrm>
            <a:custGeom>
              <a:avLst/>
              <a:gdLst/>
              <a:ahLst/>
              <a:rect l="l" t="t" r="r" b="b"/>
              <a:pathLst>
                <a:path w="2955" h="731">
                  <a:moveTo>
                    <a:pt x="2955" y="357"/>
                  </a:moveTo>
                  <a:lnTo>
                    <a:pt x="2953" y="376"/>
                  </a:lnTo>
                  <a:lnTo>
                    <a:pt x="2948" y="395"/>
                  </a:lnTo>
                  <a:lnTo>
                    <a:pt x="2938" y="414"/>
                  </a:lnTo>
                  <a:lnTo>
                    <a:pt x="2925" y="432"/>
                  </a:lnTo>
                  <a:lnTo>
                    <a:pt x="2909" y="451"/>
                  </a:lnTo>
                  <a:lnTo>
                    <a:pt x="2888" y="468"/>
                  </a:lnTo>
                  <a:lnTo>
                    <a:pt x="2865" y="486"/>
                  </a:lnTo>
                  <a:lnTo>
                    <a:pt x="2839" y="502"/>
                  </a:lnTo>
                  <a:lnTo>
                    <a:pt x="2810" y="519"/>
                  </a:lnTo>
                  <a:lnTo>
                    <a:pt x="2777" y="535"/>
                  </a:lnTo>
                  <a:lnTo>
                    <a:pt x="2741" y="550"/>
                  </a:lnTo>
                  <a:lnTo>
                    <a:pt x="2703" y="566"/>
                  </a:lnTo>
                  <a:lnTo>
                    <a:pt x="2662" y="581"/>
                  </a:lnTo>
                  <a:lnTo>
                    <a:pt x="2618" y="595"/>
                  </a:lnTo>
                  <a:lnTo>
                    <a:pt x="2571" y="608"/>
                  </a:lnTo>
                  <a:lnTo>
                    <a:pt x="2523" y="621"/>
                  </a:lnTo>
                  <a:lnTo>
                    <a:pt x="2471" y="634"/>
                  </a:lnTo>
                  <a:lnTo>
                    <a:pt x="2418" y="645"/>
                  </a:lnTo>
                  <a:lnTo>
                    <a:pt x="2361" y="656"/>
                  </a:lnTo>
                  <a:lnTo>
                    <a:pt x="2304" y="668"/>
                  </a:lnTo>
                  <a:lnTo>
                    <a:pt x="2244" y="677"/>
                  </a:lnTo>
                  <a:lnTo>
                    <a:pt x="2181" y="686"/>
                  </a:lnTo>
                  <a:lnTo>
                    <a:pt x="2118" y="694"/>
                  </a:lnTo>
                  <a:lnTo>
                    <a:pt x="2053" y="702"/>
                  </a:lnTo>
                  <a:lnTo>
                    <a:pt x="1985" y="708"/>
                  </a:lnTo>
                  <a:lnTo>
                    <a:pt x="1917" y="714"/>
                  </a:lnTo>
                  <a:lnTo>
                    <a:pt x="1847" y="719"/>
                  </a:lnTo>
                  <a:lnTo>
                    <a:pt x="1775" y="723"/>
                  </a:lnTo>
                  <a:lnTo>
                    <a:pt x="1703" y="727"/>
                  </a:lnTo>
                  <a:lnTo>
                    <a:pt x="1629" y="729"/>
                  </a:lnTo>
                  <a:lnTo>
                    <a:pt x="1553" y="730"/>
                  </a:lnTo>
                  <a:lnTo>
                    <a:pt x="1477" y="731"/>
                  </a:lnTo>
                  <a:lnTo>
                    <a:pt x="1402" y="730"/>
                  </a:lnTo>
                  <a:lnTo>
                    <a:pt x="1326" y="729"/>
                  </a:lnTo>
                  <a:lnTo>
                    <a:pt x="1252" y="727"/>
                  </a:lnTo>
                  <a:lnTo>
                    <a:pt x="1180" y="723"/>
                  </a:lnTo>
                  <a:lnTo>
                    <a:pt x="1108" y="719"/>
                  </a:lnTo>
                  <a:lnTo>
                    <a:pt x="1038" y="714"/>
                  </a:lnTo>
                  <a:lnTo>
                    <a:pt x="969" y="708"/>
                  </a:lnTo>
                  <a:lnTo>
                    <a:pt x="903" y="702"/>
                  </a:lnTo>
                  <a:lnTo>
                    <a:pt x="837" y="694"/>
                  </a:lnTo>
                  <a:lnTo>
                    <a:pt x="774" y="686"/>
                  </a:lnTo>
                  <a:lnTo>
                    <a:pt x="711" y="677"/>
                  </a:lnTo>
                  <a:lnTo>
                    <a:pt x="651" y="668"/>
                  </a:lnTo>
                  <a:lnTo>
                    <a:pt x="594" y="656"/>
                  </a:lnTo>
                  <a:lnTo>
                    <a:pt x="537" y="645"/>
                  </a:lnTo>
                  <a:lnTo>
                    <a:pt x="484" y="634"/>
                  </a:lnTo>
                  <a:lnTo>
                    <a:pt x="433" y="621"/>
                  </a:lnTo>
                  <a:lnTo>
                    <a:pt x="384" y="608"/>
                  </a:lnTo>
                  <a:lnTo>
                    <a:pt x="337" y="595"/>
                  </a:lnTo>
                  <a:lnTo>
                    <a:pt x="294" y="581"/>
                  </a:lnTo>
                  <a:lnTo>
                    <a:pt x="252" y="566"/>
                  </a:lnTo>
                  <a:lnTo>
                    <a:pt x="214" y="550"/>
                  </a:lnTo>
                  <a:lnTo>
                    <a:pt x="179" y="535"/>
                  </a:lnTo>
                  <a:lnTo>
                    <a:pt x="145" y="519"/>
                  </a:lnTo>
                  <a:lnTo>
                    <a:pt x="116" y="502"/>
                  </a:lnTo>
                  <a:lnTo>
                    <a:pt x="90" y="486"/>
                  </a:lnTo>
                  <a:lnTo>
                    <a:pt x="67" y="468"/>
                  </a:lnTo>
                  <a:lnTo>
                    <a:pt x="46" y="451"/>
                  </a:lnTo>
                  <a:lnTo>
                    <a:pt x="30" y="432"/>
                  </a:lnTo>
                  <a:lnTo>
                    <a:pt x="17" y="414"/>
                  </a:lnTo>
                  <a:lnTo>
                    <a:pt x="8" y="395"/>
                  </a:lnTo>
                  <a:lnTo>
                    <a:pt x="2" y="376"/>
                  </a:lnTo>
                  <a:lnTo>
                    <a:pt x="0" y="357"/>
                  </a:lnTo>
                  <a:lnTo>
                    <a:pt x="2" y="337"/>
                  </a:lnTo>
                  <a:lnTo>
                    <a:pt x="8" y="318"/>
                  </a:lnTo>
                  <a:lnTo>
                    <a:pt x="17" y="300"/>
                  </a:lnTo>
                  <a:lnTo>
                    <a:pt x="30" y="282"/>
                  </a:lnTo>
                  <a:lnTo>
                    <a:pt x="46" y="265"/>
                  </a:lnTo>
                  <a:lnTo>
                    <a:pt x="67" y="248"/>
                  </a:lnTo>
                  <a:lnTo>
                    <a:pt x="90" y="230"/>
                  </a:lnTo>
                  <a:lnTo>
                    <a:pt x="116" y="214"/>
                  </a:lnTo>
                  <a:lnTo>
                    <a:pt x="145" y="198"/>
                  </a:lnTo>
                  <a:lnTo>
                    <a:pt x="179" y="182"/>
                  </a:lnTo>
                  <a:lnTo>
                    <a:pt x="214" y="168"/>
                  </a:lnTo>
                  <a:lnTo>
                    <a:pt x="252" y="153"/>
                  </a:lnTo>
                  <a:lnTo>
                    <a:pt x="294" y="140"/>
                  </a:lnTo>
                  <a:lnTo>
                    <a:pt x="337" y="125"/>
                  </a:lnTo>
                  <a:lnTo>
                    <a:pt x="384" y="113"/>
                  </a:lnTo>
                  <a:lnTo>
                    <a:pt x="433" y="101"/>
                  </a:lnTo>
                  <a:lnTo>
                    <a:pt x="484" y="89"/>
                  </a:lnTo>
                  <a:lnTo>
                    <a:pt x="537" y="78"/>
                  </a:lnTo>
                  <a:lnTo>
                    <a:pt x="594" y="68"/>
                  </a:lnTo>
                  <a:lnTo>
                    <a:pt x="651" y="59"/>
                  </a:lnTo>
                  <a:lnTo>
                    <a:pt x="711" y="50"/>
                  </a:lnTo>
                  <a:lnTo>
                    <a:pt x="774" y="42"/>
                  </a:lnTo>
                  <a:lnTo>
                    <a:pt x="837" y="34"/>
                  </a:lnTo>
                  <a:lnTo>
                    <a:pt x="903" y="27"/>
                  </a:lnTo>
                  <a:lnTo>
                    <a:pt x="969" y="21"/>
                  </a:lnTo>
                  <a:lnTo>
                    <a:pt x="1038" y="15"/>
                  </a:lnTo>
                  <a:lnTo>
                    <a:pt x="1108" y="10"/>
                  </a:lnTo>
                  <a:lnTo>
                    <a:pt x="1180" y="7"/>
                  </a:lnTo>
                  <a:lnTo>
                    <a:pt x="1252" y="4"/>
                  </a:lnTo>
                  <a:lnTo>
                    <a:pt x="1326" y="2"/>
                  </a:lnTo>
                  <a:lnTo>
                    <a:pt x="1402" y="0"/>
                  </a:lnTo>
                  <a:lnTo>
                    <a:pt x="1477" y="0"/>
                  </a:lnTo>
                  <a:lnTo>
                    <a:pt x="1553" y="0"/>
                  </a:lnTo>
                  <a:lnTo>
                    <a:pt x="1629" y="2"/>
                  </a:lnTo>
                  <a:lnTo>
                    <a:pt x="1703" y="4"/>
                  </a:lnTo>
                  <a:lnTo>
                    <a:pt x="1775" y="7"/>
                  </a:lnTo>
                  <a:lnTo>
                    <a:pt x="1847" y="10"/>
                  </a:lnTo>
                  <a:lnTo>
                    <a:pt x="1917" y="15"/>
                  </a:lnTo>
                  <a:lnTo>
                    <a:pt x="1985" y="21"/>
                  </a:lnTo>
                  <a:lnTo>
                    <a:pt x="2053" y="27"/>
                  </a:lnTo>
                  <a:lnTo>
                    <a:pt x="2118" y="34"/>
                  </a:lnTo>
                  <a:lnTo>
                    <a:pt x="2181" y="42"/>
                  </a:lnTo>
                  <a:lnTo>
                    <a:pt x="2244" y="50"/>
                  </a:lnTo>
                  <a:lnTo>
                    <a:pt x="2304" y="59"/>
                  </a:lnTo>
                  <a:lnTo>
                    <a:pt x="2361" y="68"/>
                  </a:lnTo>
                  <a:lnTo>
                    <a:pt x="2418" y="78"/>
                  </a:lnTo>
                  <a:lnTo>
                    <a:pt x="2471" y="89"/>
                  </a:lnTo>
                  <a:lnTo>
                    <a:pt x="2523" y="101"/>
                  </a:lnTo>
                  <a:lnTo>
                    <a:pt x="2571" y="113"/>
                  </a:lnTo>
                  <a:lnTo>
                    <a:pt x="2618" y="125"/>
                  </a:lnTo>
                  <a:lnTo>
                    <a:pt x="2662" y="140"/>
                  </a:lnTo>
                  <a:lnTo>
                    <a:pt x="2703" y="153"/>
                  </a:lnTo>
                  <a:lnTo>
                    <a:pt x="2741" y="168"/>
                  </a:lnTo>
                  <a:lnTo>
                    <a:pt x="2777" y="182"/>
                  </a:lnTo>
                  <a:lnTo>
                    <a:pt x="2810" y="198"/>
                  </a:lnTo>
                  <a:lnTo>
                    <a:pt x="2839" y="214"/>
                  </a:lnTo>
                  <a:lnTo>
                    <a:pt x="2865" y="230"/>
                  </a:lnTo>
                  <a:lnTo>
                    <a:pt x="2888" y="248"/>
                  </a:lnTo>
                  <a:lnTo>
                    <a:pt x="2909" y="265"/>
                  </a:lnTo>
                  <a:lnTo>
                    <a:pt x="2925" y="282"/>
                  </a:lnTo>
                  <a:lnTo>
                    <a:pt x="2938" y="300"/>
                  </a:lnTo>
                  <a:lnTo>
                    <a:pt x="2948" y="318"/>
                  </a:lnTo>
                  <a:lnTo>
                    <a:pt x="2953" y="337"/>
                  </a:lnTo>
                  <a:lnTo>
                    <a:pt x="2955" y="357"/>
                  </a:lnTo>
                  <a:close/>
                </a:path>
              </a:pathLst>
            </a:custGeom>
            <a:solidFill>
              <a:srgbClr val="fb6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127960" y="6534720"/>
              <a:ext cx="325080" cy="86400"/>
            </a:xfrm>
            <a:custGeom>
              <a:avLst/>
              <a:gdLst/>
              <a:ahLst/>
              <a:rect l="l" t="t" r="r" b="b"/>
              <a:pathLst>
                <a:path w="2953" h="729">
                  <a:moveTo>
                    <a:pt x="2953" y="356"/>
                  </a:moveTo>
                  <a:lnTo>
                    <a:pt x="2951" y="375"/>
                  </a:lnTo>
                  <a:lnTo>
                    <a:pt x="2945" y="394"/>
                  </a:lnTo>
                  <a:lnTo>
                    <a:pt x="2936" y="413"/>
                  </a:lnTo>
                  <a:lnTo>
                    <a:pt x="2923" y="431"/>
                  </a:lnTo>
                  <a:lnTo>
                    <a:pt x="2907" y="450"/>
                  </a:lnTo>
                  <a:lnTo>
                    <a:pt x="2886" y="467"/>
                  </a:lnTo>
                  <a:lnTo>
                    <a:pt x="2863" y="484"/>
                  </a:lnTo>
                  <a:lnTo>
                    <a:pt x="2837" y="501"/>
                  </a:lnTo>
                  <a:lnTo>
                    <a:pt x="2808" y="518"/>
                  </a:lnTo>
                  <a:lnTo>
                    <a:pt x="2774" y="534"/>
                  </a:lnTo>
                  <a:lnTo>
                    <a:pt x="2739" y="549"/>
                  </a:lnTo>
                  <a:lnTo>
                    <a:pt x="2701" y="565"/>
                  </a:lnTo>
                  <a:lnTo>
                    <a:pt x="2659" y="580"/>
                  </a:lnTo>
                  <a:lnTo>
                    <a:pt x="2616" y="593"/>
                  </a:lnTo>
                  <a:lnTo>
                    <a:pt x="2569" y="607"/>
                  </a:lnTo>
                  <a:lnTo>
                    <a:pt x="2521" y="620"/>
                  </a:lnTo>
                  <a:lnTo>
                    <a:pt x="2469" y="632"/>
                  </a:lnTo>
                  <a:lnTo>
                    <a:pt x="2416" y="644"/>
                  </a:lnTo>
                  <a:lnTo>
                    <a:pt x="2360" y="655"/>
                  </a:lnTo>
                  <a:lnTo>
                    <a:pt x="2302" y="666"/>
                  </a:lnTo>
                  <a:lnTo>
                    <a:pt x="2242" y="676"/>
                  </a:lnTo>
                  <a:lnTo>
                    <a:pt x="2180" y="684"/>
                  </a:lnTo>
                  <a:lnTo>
                    <a:pt x="2117" y="693"/>
                  </a:lnTo>
                  <a:lnTo>
                    <a:pt x="2051" y="700"/>
                  </a:lnTo>
                  <a:lnTo>
                    <a:pt x="1984" y="707"/>
                  </a:lnTo>
                  <a:lnTo>
                    <a:pt x="1916" y="712"/>
                  </a:lnTo>
                  <a:lnTo>
                    <a:pt x="1845" y="717"/>
                  </a:lnTo>
                  <a:lnTo>
                    <a:pt x="1774" y="722"/>
                  </a:lnTo>
                  <a:lnTo>
                    <a:pt x="1702" y="725"/>
                  </a:lnTo>
                  <a:lnTo>
                    <a:pt x="1628" y="727"/>
                  </a:lnTo>
                  <a:lnTo>
                    <a:pt x="1552" y="729"/>
                  </a:lnTo>
                  <a:lnTo>
                    <a:pt x="1476" y="729"/>
                  </a:lnTo>
                  <a:lnTo>
                    <a:pt x="1401" y="729"/>
                  </a:lnTo>
                  <a:lnTo>
                    <a:pt x="1326" y="727"/>
                  </a:lnTo>
                  <a:lnTo>
                    <a:pt x="1251" y="725"/>
                  </a:lnTo>
                  <a:lnTo>
                    <a:pt x="1179" y="722"/>
                  </a:lnTo>
                  <a:lnTo>
                    <a:pt x="1108" y="717"/>
                  </a:lnTo>
                  <a:lnTo>
                    <a:pt x="1037" y="712"/>
                  </a:lnTo>
                  <a:lnTo>
                    <a:pt x="968" y="707"/>
                  </a:lnTo>
                  <a:lnTo>
                    <a:pt x="902" y="700"/>
                  </a:lnTo>
                  <a:lnTo>
                    <a:pt x="836" y="693"/>
                  </a:lnTo>
                  <a:lnTo>
                    <a:pt x="773" y="684"/>
                  </a:lnTo>
                  <a:lnTo>
                    <a:pt x="711" y="676"/>
                  </a:lnTo>
                  <a:lnTo>
                    <a:pt x="651" y="666"/>
                  </a:lnTo>
                  <a:lnTo>
                    <a:pt x="594" y="655"/>
                  </a:lnTo>
                  <a:lnTo>
                    <a:pt x="537" y="644"/>
                  </a:lnTo>
                  <a:lnTo>
                    <a:pt x="484" y="632"/>
                  </a:lnTo>
                  <a:lnTo>
                    <a:pt x="433" y="620"/>
                  </a:lnTo>
                  <a:lnTo>
                    <a:pt x="384" y="607"/>
                  </a:lnTo>
                  <a:lnTo>
                    <a:pt x="337" y="593"/>
                  </a:lnTo>
                  <a:lnTo>
                    <a:pt x="294" y="580"/>
                  </a:lnTo>
                  <a:lnTo>
                    <a:pt x="252" y="565"/>
                  </a:lnTo>
                  <a:lnTo>
                    <a:pt x="214" y="549"/>
                  </a:lnTo>
                  <a:lnTo>
                    <a:pt x="179" y="534"/>
                  </a:lnTo>
                  <a:lnTo>
                    <a:pt x="146" y="518"/>
                  </a:lnTo>
                  <a:lnTo>
                    <a:pt x="116" y="501"/>
                  </a:lnTo>
                  <a:lnTo>
                    <a:pt x="90" y="484"/>
                  </a:lnTo>
                  <a:lnTo>
                    <a:pt x="67" y="467"/>
                  </a:lnTo>
                  <a:lnTo>
                    <a:pt x="46" y="450"/>
                  </a:lnTo>
                  <a:lnTo>
                    <a:pt x="30" y="431"/>
                  </a:lnTo>
                  <a:lnTo>
                    <a:pt x="17" y="413"/>
                  </a:lnTo>
                  <a:lnTo>
                    <a:pt x="8" y="394"/>
                  </a:lnTo>
                  <a:lnTo>
                    <a:pt x="2" y="375"/>
                  </a:lnTo>
                  <a:lnTo>
                    <a:pt x="0" y="356"/>
                  </a:lnTo>
                  <a:lnTo>
                    <a:pt x="2" y="336"/>
                  </a:lnTo>
                  <a:lnTo>
                    <a:pt x="8" y="318"/>
                  </a:lnTo>
                  <a:lnTo>
                    <a:pt x="17" y="299"/>
                  </a:lnTo>
                  <a:lnTo>
                    <a:pt x="30" y="281"/>
                  </a:lnTo>
                  <a:lnTo>
                    <a:pt x="46" y="264"/>
                  </a:lnTo>
                  <a:lnTo>
                    <a:pt x="67" y="247"/>
                  </a:lnTo>
                  <a:lnTo>
                    <a:pt x="90" y="229"/>
                  </a:lnTo>
                  <a:lnTo>
                    <a:pt x="116" y="213"/>
                  </a:lnTo>
                  <a:lnTo>
                    <a:pt x="146" y="197"/>
                  </a:lnTo>
                  <a:lnTo>
                    <a:pt x="179" y="182"/>
                  </a:lnTo>
                  <a:lnTo>
                    <a:pt x="214" y="167"/>
                  </a:lnTo>
                  <a:lnTo>
                    <a:pt x="252" y="153"/>
                  </a:lnTo>
                  <a:lnTo>
                    <a:pt x="294" y="139"/>
                  </a:lnTo>
                  <a:lnTo>
                    <a:pt x="337" y="126"/>
                  </a:lnTo>
                  <a:lnTo>
                    <a:pt x="384" y="112"/>
                  </a:lnTo>
                  <a:lnTo>
                    <a:pt x="433" y="100"/>
                  </a:lnTo>
                  <a:lnTo>
                    <a:pt x="484" y="89"/>
                  </a:lnTo>
                  <a:lnTo>
                    <a:pt x="537" y="78"/>
                  </a:lnTo>
                  <a:lnTo>
                    <a:pt x="594" y="68"/>
                  </a:lnTo>
                  <a:lnTo>
                    <a:pt x="651" y="58"/>
                  </a:lnTo>
                  <a:lnTo>
                    <a:pt x="711" y="50"/>
                  </a:lnTo>
                  <a:lnTo>
                    <a:pt x="773" y="41"/>
                  </a:lnTo>
                  <a:lnTo>
                    <a:pt x="836" y="34"/>
                  </a:lnTo>
                  <a:lnTo>
                    <a:pt x="902" y="27"/>
                  </a:lnTo>
                  <a:lnTo>
                    <a:pt x="968" y="21"/>
                  </a:lnTo>
                  <a:lnTo>
                    <a:pt x="1037" y="15"/>
                  </a:lnTo>
                  <a:lnTo>
                    <a:pt x="1108" y="10"/>
                  </a:lnTo>
                  <a:lnTo>
                    <a:pt x="1179" y="6"/>
                  </a:lnTo>
                  <a:lnTo>
                    <a:pt x="1251" y="4"/>
                  </a:lnTo>
                  <a:lnTo>
                    <a:pt x="1326" y="1"/>
                  </a:lnTo>
                  <a:lnTo>
                    <a:pt x="1401" y="0"/>
                  </a:lnTo>
                  <a:lnTo>
                    <a:pt x="1476" y="0"/>
                  </a:lnTo>
                  <a:lnTo>
                    <a:pt x="1552" y="0"/>
                  </a:lnTo>
                  <a:lnTo>
                    <a:pt x="1628" y="1"/>
                  </a:lnTo>
                  <a:lnTo>
                    <a:pt x="1702" y="4"/>
                  </a:lnTo>
                  <a:lnTo>
                    <a:pt x="1774" y="6"/>
                  </a:lnTo>
                  <a:lnTo>
                    <a:pt x="1845" y="10"/>
                  </a:lnTo>
                  <a:lnTo>
                    <a:pt x="1916" y="15"/>
                  </a:lnTo>
                  <a:lnTo>
                    <a:pt x="1984" y="21"/>
                  </a:lnTo>
                  <a:lnTo>
                    <a:pt x="2051" y="27"/>
                  </a:lnTo>
                  <a:lnTo>
                    <a:pt x="2117" y="34"/>
                  </a:lnTo>
                  <a:lnTo>
                    <a:pt x="2180" y="41"/>
                  </a:lnTo>
                  <a:lnTo>
                    <a:pt x="2242" y="50"/>
                  </a:lnTo>
                  <a:lnTo>
                    <a:pt x="2302" y="58"/>
                  </a:lnTo>
                  <a:lnTo>
                    <a:pt x="2360" y="68"/>
                  </a:lnTo>
                  <a:lnTo>
                    <a:pt x="2416" y="78"/>
                  </a:lnTo>
                  <a:lnTo>
                    <a:pt x="2469" y="89"/>
                  </a:lnTo>
                  <a:lnTo>
                    <a:pt x="2521" y="100"/>
                  </a:lnTo>
                  <a:lnTo>
                    <a:pt x="2569" y="112"/>
                  </a:lnTo>
                  <a:lnTo>
                    <a:pt x="2616" y="126"/>
                  </a:lnTo>
                  <a:lnTo>
                    <a:pt x="2659" y="139"/>
                  </a:lnTo>
                  <a:lnTo>
                    <a:pt x="2701" y="153"/>
                  </a:lnTo>
                  <a:lnTo>
                    <a:pt x="2739" y="167"/>
                  </a:lnTo>
                  <a:lnTo>
                    <a:pt x="2774" y="182"/>
                  </a:lnTo>
                  <a:lnTo>
                    <a:pt x="2808" y="197"/>
                  </a:lnTo>
                  <a:lnTo>
                    <a:pt x="2837" y="213"/>
                  </a:lnTo>
                  <a:lnTo>
                    <a:pt x="2863" y="229"/>
                  </a:lnTo>
                  <a:lnTo>
                    <a:pt x="2886" y="247"/>
                  </a:lnTo>
                  <a:lnTo>
                    <a:pt x="2907" y="264"/>
                  </a:lnTo>
                  <a:lnTo>
                    <a:pt x="2923" y="281"/>
                  </a:lnTo>
                  <a:lnTo>
                    <a:pt x="2936" y="299"/>
                  </a:lnTo>
                  <a:lnTo>
                    <a:pt x="2945" y="318"/>
                  </a:lnTo>
                  <a:lnTo>
                    <a:pt x="2951" y="336"/>
                  </a:lnTo>
                  <a:lnTo>
                    <a:pt x="2953" y="356"/>
                  </a:lnTo>
                  <a:close/>
                </a:path>
              </a:pathLst>
            </a:custGeom>
            <a:solidFill>
              <a:srgbClr val="fb6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27960" y="6534720"/>
              <a:ext cx="325080" cy="86400"/>
            </a:xfrm>
            <a:custGeom>
              <a:avLst/>
              <a:gdLst/>
              <a:ahLst/>
              <a:rect l="l" t="t" r="r" b="b"/>
              <a:pathLst>
                <a:path w="2949" h="727">
                  <a:moveTo>
                    <a:pt x="2949" y="355"/>
                  </a:moveTo>
                  <a:lnTo>
                    <a:pt x="2947" y="374"/>
                  </a:lnTo>
                  <a:lnTo>
                    <a:pt x="2942" y="393"/>
                  </a:lnTo>
                  <a:lnTo>
                    <a:pt x="2933" y="411"/>
                  </a:lnTo>
                  <a:lnTo>
                    <a:pt x="2920" y="430"/>
                  </a:lnTo>
                  <a:lnTo>
                    <a:pt x="2903" y="448"/>
                  </a:lnTo>
                  <a:lnTo>
                    <a:pt x="2883" y="466"/>
                  </a:lnTo>
                  <a:lnTo>
                    <a:pt x="2860" y="483"/>
                  </a:lnTo>
                  <a:lnTo>
                    <a:pt x="2834" y="500"/>
                  </a:lnTo>
                  <a:lnTo>
                    <a:pt x="2804" y="516"/>
                  </a:lnTo>
                  <a:lnTo>
                    <a:pt x="2771" y="532"/>
                  </a:lnTo>
                  <a:lnTo>
                    <a:pt x="2736" y="548"/>
                  </a:lnTo>
                  <a:lnTo>
                    <a:pt x="2697" y="563"/>
                  </a:lnTo>
                  <a:lnTo>
                    <a:pt x="2656" y="578"/>
                  </a:lnTo>
                  <a:lnTo>
                    <a:pt x="2613" y="592"/>
                  </a:lnTo>
                  <a:lnTo>
                    <a:pt x="2566" y="605"/>
                  </a:lnTo>
                  <a:lnTo>
                    <a:pt x="2518" y="618"/>
                  </a:lnTo>
                  <a:lnTo>
                    <a:pt x="2466" y="630"/>
                  </a:lnTo>
                  <a:lnTo>
                    <a:pt x="2413" y="642"/>
                  </a:lnTo>
                  <a:lnTo>
                    <a:pt x="2357" y="653"/>
                  </a:lnTo>
                  <a:lnTo>
                    <a:pt x="2300" y="664"/>
                  </a:lnTo>
                  <a:lnTo>
                    <a:pt x="2239" y="674"/>
                  </a:lnTo>
                  <a:lnTo>
                    <a:pt x="2177" y="683"/>
                  </a:lnTo>
                  <a:lnTo>
                    <a:pt x="2114" y="691"/>
                  </a:lnTo>
                  <a:lnTo>
                    <a:pt x="2048" y="698"/>
                  </a:lnTo>
                  <a:lnTo>
                    <a:pt x="1981" y="705"/>
                  </a:lnTo>
                  <a:lnTo>
                    <a:pt x="1913" y="711"/>
                  </a:lnTo>
                  <a:lnTo>
                    <a:pt x="1843" y="716"/>
                  </a:lnTo>
                  <a:lnTo>
                    <a:pt x="1771" y="720"/>
                  </a:lnTo>
                  <a:lnTo>
                    <a:pt x="1699" y="723"/>
                  </a:lnTo>
                  <a:lnTo>
                    <a:pt x="1625" y="725"/>
                  </a:lnTo>
                  <a:lnTo>
                    <a:pt x="1550" y="727"/>
                  </a:lnTo>
                  <a:lnTo>
                    <a:pt x="1474" y="727"/>
                  </a:lnTo>
                  <a:lnTo>
                    <a:pt x="1399" y="727"/>
                  </a:lnTo>
                  <a:lnTo>
                    <a:pt x="1324" y="725"/>
                  </a:lnTo>
                  <a:lnTo>
                    <a:pt x="1250" y="723"/>
                  </a:lnTo>
                  <a:lnTo>
                    <a:pt x="1178" y="720"/>
                  </a:lnTo>
                  <a:lnTo>
                    <a:pt x="1106" y="716"/>
                  </a:lnTo>
                  <a:lnTo>
                    <a:pt x="1036" y="711"/>
                  </a:lnTo>
                  <a:lnTo>
                    <a:pt x="967" y="705"/>
                  </a:lnTo>
                  <a:lnTo>
                    <a:pt x="901" y="698"/>
                  </a:lnTo>
                  <a:lnTo>
                    <a:pt x="835" y="691"/>
                  </a:lnTo>
                  <a:lnTo>
                    <a:pt x="772" y="683"/>
                  </a:lnTo>
                  <a:lnTo>
                    <a:pt x="710" y="674"/>
                  </a:lnTo>
                  <a:lnTo>
                    <a:pt x="650" y="664"/>
                  </a:lnTo>
                  <a:lnTo>
                    <a:pt x="592" y="653"/>
                  </a:lnTo>
                  <a:lnTo>
                    <a:pt x="536" y="642"/>
                  </a:lnTo>
                  <a:lnTo>
                    <a:pt x="483" y="630"/>
                  </a:lnTo>
                  <a:lnTo>
                    <a:pt x="432" y="618"/>
                  </a:lnTo>
                  <a:lnTo>
                    <a:pt x="383" y="605"/>
                  </a:lnTo>
                  <a:lnTo>
                    <a:pt x="336" y="592"/>
                  </a:lnTo>
                  <a:lnTo>
                    <a:pt x="293" y="578"/>
                  </a:lnTo>
                  <a:lnTo>
                    <a:pt x="251" y="563"/>
                  </a:lnTo>
                  <a:lnTo>
                    <a:pt x="213" y="548"/>
                  </a:lnTo>
                  <a:lnTo>
                    <a:pt x="178" y="532"/>
                  </a:lnTo>
                  <a:lnTo>
                    <a:pt x="145" y="516"/>
                  </a:lnTo>
                  <a:lnTo>
                    <a:pt x="116" y="500"/>
                  </a:lnTo>
                  <a:lnTo>
                    <a:pt x="89" y="483"/>
                  </a:lnTo>
                  <a:lnTo>
                    <a:pt x="66" y="466"/>
                  </a:lnTo>
                  <a:lnTo>
                    <a:pt x="46" y="448"/>
                  </a:lnTo>
                  <a:lnTo>
                    <a:pt x="29" y="430"/>
                  </a:lnTo>
                  <a:lnTo>
                    <a:pt x="17" y="411"/>
                  </a:lnTo>
                  <a:lnTo>
                    <a:pt x="7" y="393"/>
                  </a:lnTo>
                  <a:lnTo>
                    <a:pt x="2" y="374"/>
                  </a:lnTo>
                  <a:lnTo>
                    <a:pt x="0" y="355"/>
                  </a:lnTo>
                  <a:lnTo>
                    <a:pt x="2" y="335"/>
                  </a:lnTo>
                  <a:lnTo>
                    <a:pt x="7" y="317"/>
                  </a:lnTo>
                  <a:lnTo>
                    <a:pt x="17" y="298"/>
                  </a:lnTo>
                  <a:lnTo>
                    <a:pt x="29" y="281"/>
                  </a:lnTo>
                  <a:lnTo>
                    <a:pt x="46" y="263"/>
                  </a:lnTo>
                  <a:lnTo>
                    <a:pt x="66" y="246"/>
                  </a:lnTo>
                  <a:lnTo>
                    <a:pt x="89" y="228"/>
                  </a:lnTo>
                  <a:lnTo>
                    <a:pt x="116" y="212"/>
                  </a:lnTo>
                  <a:lnTo>
                    <a:pt x="145" y="197"/>
                  </a:lnTo>
                  <a:lnTo>
                    <a:pt x="178" y="181"/>
                  </a:lnTo>
                  <a:lnTo>
                    <a:pt x="213" y="167"/>
                  </a:lnTo>
                  <a:lnTo>
                    <a:pt x="251" y="152"/>
                  </a:lnTo>
                  <a:lnTo>
                    <a:pt x="293" y="139"/>
                  </a:lnTo>
                  <a:lnTo>
                    <a:pt x="336" y="126"/>
                  </a:lnTo>
                  <a:lnTo>
                    <a:pt x="383" y="112"/>
                  </a:lnTo>
                  <a:lnTo>
                    <a:pt x="432" y="100"/>
                  </a:lnTo>
                  <a:lnTo>
                    <a:pt x="483" y="89"/>
                  </a:lnTo>
                  <a:lnTo>
                    <a:pt x="536" y="78"/>
                  </a:lnTo>
                  <a:lnTo>
                    <a:pt x="592" y="68"/>
                  </a:lnTo>
                  <a:lnTo>
                    <a:pt x="650" y="58"/>
                  </a:lnTo>
                  <a:lnTo>
                    <a:pt x="710" y="49"/>
                  </a:lnTo>
                  <a:lnTo>
                    <a:pt x="772" y="41"/>
                  </a:lnTo>
                  <a:lnTo>
                    <a:pt x="835" y="34"/>
                  </a:lnTo>
                  <a:lnTo>
                    <a:pt x="901" y="27"/>
                  </a:lnTo>
                  <a:lnTo>
                    <a:pt x="967" y="21"/>
                  </a:lnTo>
                  <a:lnTo>
                    <a:pt x="1036" y="15"/>
                  </a:lnTo>
                  <a:lnTo>
                    <a:pt x="1106" y="10"/>
                  </a:lnTo>
                  <a:lnTo>
                    <a:pt x="1178" y="6"/>
                  </a:lnTo>
                  <a:lnTo>
                    <a:pt x="1250" y="4"/>
                  </a:lnTo>
                  <a:lnTo>
                    <a:pt x="1324" y="1"/>
                  </a:lnTo>
                  <a:lnTo>
                    <a:pt x="1399" y="0"/>
                  </a:lnTo>
                  <a:lnTo>
                    <a:pt x="1474" y="0"/>
                  </a:lnTo>
                  <a:lnTo>
                    <a:pt x="1550" y="0"/>
                  </a:lnTo>
                  <a:lnTo>
                    <a:pt x="1625" y="1"/>
                  </a:lnTo>
                  <a:lnTo>
                    <a:pt x="1699" y="4"/>
                  </a:lnTo>
                  <a:lnTo>
                    <a:pt x="1771" y="6"/>
                  </a:lnTo>
                  <a:lnTo>
                    <a:pt x="1843" y="10"/>
                  </a:lnTo>
                  <a:lnTo>
                    <a:pt x="1913" y="15"/>
                  </a:lnTo>
                  <a:lnTo>
                    <a:pt x="1981" y="21"/>
                  </a:lnTo>
                  <a:lnTo>
                    <a:pt x="2048" y="27"/>
                  </a:lnTo>
                  <a:lnTo>
                    <a:pt x="2114" y="34"/>
                  </a:lnTo>
                  <a:lnTo>
                    <a:pt x="2177" y="41"/>
                  </a:lnTo>
                  <a:lnTo>
                    <a:pt x="2239" y="49"/>
                  </a:lnTo>
                  <a:lnTo>
                    <a:pt x="2300" y="58"/>
                  </a:lnTo>
                  <a:lnTo>
                    <a:pt x="2357" y="68"/>
                  </a:lnTo>
                  <a:lnTo>
                    <a:pt x="2413" y="78"/>
                  </a:lnTo>
                  <a:lnTo>
                    <a:pt x="2466" y="89"/>
                  </a:lnTo>
                  <a:lnTo>
                    <a:pt x="2518" y="100"/>
                  </a:lnTo>
                  <a:lnTo>
                    <a:pt x="2566" y="112"/>
                  </a:lnTo>
                  <a:lnTo>
                    <a:pt x="2613" y="126"/>
                  </a:lnTo>
                  <a:lnTo>
                    <a:pt x="2656" y="139"/>
                  </a:lnTo>
                  <a:lnTo>
                    <a:pt x="2697" y="152"/>
                  </a:lnTo>
                  <a:lnTo>
                    <a:pt x="2736" y="167"/>
                  </a:lnTo>
                  <a:lnTo>
                    <a:pt x="2771" y="181"/>
                  </a:lnTo>
                  <a:lnTo>
                    <a:pt x="2804" y="197"/>
                  </a:lnTo>
                  <a:lnTo>
                    <a:pt x="2834" y="212"/>
                  </a:lnTo>
                  <a:lnTo>
                    <a:pt x="2860" y="228"/>
                  </a:lnTo>
                  <a:lnTo>
                    <a:pt x="2883" y="246"/>
                  </a:lnTo>
                  <a:lnTo>
                    <a:pt x="2903" y="263"/>
                  </a:lnTo>
                  <a:lnTo>
                    <a:pt x="2920" y="281"/>
                  </a:lnTo>
                  <a:lnTo>
                    <a:pt x="2933" y="298"/>
                  </a:lnTo>
                  <a:lnTo>
                    <a:pt x="2942" y="317"/>
                  </a:lnTo>
                  <a:lnTo>
                    <a:pt x="2947" y="335"/>
                  </a:lnTo>
                  <a:lnTo>
                    <a:pt x="2949" y="355"/>
                  </a:lnTo>
                  <a:close/>
                </a:path>
              </a:pathLst>
            </a:custGeom>
            <a:solidFill>
              <a:srgbClr val="fb6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127960" y="6534720"/>
              <a:ext cx="325080" cy="86400"/>
            </a:xfrm>
            <a:custGeom>
              <a:avLst/>
              <a:gdLst/>
              <a:ahLst/>
              <a:rect l="l" t="t" r="r" b="b"/>
              <a:pathLst>
                <a:path w="2947" h="725">
                  <a:moveTo>
                    <a:pt x="2947" y="354"/>
                  </a:moveTo>
                  <a:lnTo>
                    <a:pt x="2945" y="373"/>
                  </a:lnTo>
                  <a:lnTo>
                    <a:pt x="2939" y="392"/>
                  </a:lnTo>
                  <a:lnTo>
                    <a:pt x="2930" y="410"/>
                  </a:lnTo>
                  <a:lnTo>
                    <a:pt x="2917" y="428"/>
                  </a:lnTo>
                  <a:lnTo>
                    <a:pt x="2901" y="447"/>
                  </a:lnTo>
                  <a:lnTo>
                    <a:pt x="2880" y="465"/>
                  </a:lnTo>
                  <a:lnTo>
                    <a:pt x="2857" y="482"/>
                  </a:lnTo>
                  <a:lnTo>
                    <a:pt x="2831" y="498"/>
                  </a:lnTo>
                  <a:lnTo>
                    <a:pt x="2802" y="515"/>
                  </a:lnTo>
                  <a:lnTo>
                    <a:pt x="2769" y="531"/>
                  </a:lnTo>
                  <a:lnTo>
                    <a:pt x="2734" y="546"/>
                  </a:lnTo>
                  <a:lnTo>
                    <a:pt x="2695" y="562"/>
                  </a:lnTo>
                  <a:lnTo>
                    <a:pt x="2654" y="576"/>
                  </a:lnTo>
                  <a:lnTo>
                    <a:pt x="2611" y="590"/>
                  </a:lnTo>
                  <a:lnTo>
                    <a:pt x="2564" y="604"/>
                  </a:lnTo>
                  <a:lnTo>
                    <a:pt x="2516" y="616"/>
                  </a:lnTo>
                  <a:lnTo>
                    <a:pt x="2464" y="629"/>
                  </a:lnTo>
                  <a:lnTo>
                    <a:pt x="2411" y="640"/>
                  </a:lnTo>
                  <a:lnTo>
                    <a:pt x="2355" y="651"/>
                  </a:lnTo>
                  <a:lnTo>
                    <a:pt x="2298" y="662"/>
                  </a:lnTo>
                  <a:lnTo>
                    <a:pt x="2238" y="672"/>
                  </a:lnTo>
                  <a:lnTo>
                    <a:pt x="2175" y="681"/>
                  </a:lnTo>
                  <a:lnTo>
                    <a:pt x="2113" y="689"/>
                  </a:lnTo>
                  <a:lnTo>
                    <a:pt x="2047" y="696"/>
                  </a:lnTo>
                  <a:lnTo>
                    <a:pt x="1980" y="703"/>
                  </a:lnTo>
                  <a:lnTo>
                    <a:pt x="1912" y="709"/>
                  </a:lnTo>
                  <a:lnTo>
                    <a:pt x="1842" y="714"/>
                  </a:lnTo>
                  <a:lnTo>
                    <a:pt x="1770" y="718"/>
                  </a:lnTo>
                  <a:lnTo>
                    <a:pt x="1698" y="721"/>
                  </a:lnTo>
                  <a:lnTo>
                    <a:pt x="1624" y="723"/>
                  </a:lnTo>
                  <a:lnTo>
                    <a:pt x="1549" y="725"/>
                  </a:lnTo>
                  <a:lnTo>
                    <a:pt x="1473" y="725"/>
                  </a:lnTo>
                  <a:lnTo>
                    <a:pt x="1398" y="725"/>
                  </a:lnTo>
                  <a:lnTo>
                    <a:pt x="1323" y="723"/>
                  </a:lnTo>
                  <a:lnTo>
                    <a:pt x="1249" y="721"/>
                  </a:lnTo>
                  <a:lnTo>
                    <a:pt x="1177" y="718"/>
                  </a:lnTo>
                  <a:lnTo>
                    <a:pt x="1105" y="714"/>
                  </a:lnTo>
                  <a:lnTo>
                    <a:pt x="1035" y="709"/>
                  </a:lnTo>
                  <a:lnTo>
                    <a:pt x="966" y="703"/>
                  </a:lnTo>
                  <a:lnTo>
                    <a:pt x="900" y="696"/>
                  </a:lnTo>
                  <a:lnTo>
                    <a:pt x="835" y="689"/>
                  </a:lnTo>
                  <a:lnTo>
                    <a:pt x="772" y="681"/>
                  </a:lnTo>
                  <a:lnTo>
                    <a:pt x="710" y="672"/>
                  </a:lnTo>
                  <a:lnTo>
                    <a:pt x="649" y="662"/>
                  </a:lnTo>
                  <a:lnTo>
                    <a:pt x="592" y="651"/>
                  </a:lnTo>
                  <a:lnTo>
                    <a:pt x="536" y="640"/>
                  </a:lnTo>
                  <a:lnTo>
                    <a:pt x="483" y="629"/>
                  </a:lnTo>
                  <a:lnTo>
                    <a:pt x="432" y="616"/>
                  </a:lnTo>
                  <a:lnTo>
                    <a:pt x="383" y="604"/>
                  </a:lnTo>
                  <a:lnTo>
                    <a:pt x="336" y="590"/>
                  </a:lnTo>
                  <a:lnTo>
                    <a:pt x="293" y="576"/>
                  </a:lnTo>
                  <a:lnTo>
                    <a:pt x="251" y="562"/>
                  </a:lnTo>
                  <a:lnTo>
                    <a:pt x="213" y="546"/>
                  </a:lnTo>
                  <a:lnTo>
                    <a:pt x="178" y="531"/>
                  </a:lnTo>
                  <a:lnTo>
                    <a:pt x="145" y="515"/>
                  </a:lnTo>
                  <a:lnTo>
                    <a:pt x="116" y="498"/>
                  </a:lnTo>
                  <a:lnTo>
                    <a:pt x="90" y="482"/>
                  </a:lnTo>
                  <a:lnTo>
                    <a:pt x="67" y="465"/>
                  </a:lnTo>
                  <a:lnTo>
                    <a:pt x="46" y="447"/>
                  </a:lnTo>
                  <a:lnTo>
                    <a:pt x="30" y="428"/>
                  </a:lnTo>
                  <a:lnTo>
                    <a:pt x="17" y="410"/>
                  </a:lnTo>
                  <a:lnTo>
                    <a:pt x="8" y="392"/>
                  </a:lnTo>
                  <a:lnTo>
                    <a:pt x="2" y="373"/>
                  </a:lnTo>
                  <a:lnTo>
                    <a:pt x="0" y="354"/>
                  </a:lnTo>
                  <a:lnTo>
                    <a:pt x="2" y="334"/>
                  </a:lnTo>
                  <a:lnTo>
                    <a:pt x="8" y="316"/>
                  </a:lnTo>
                  <a:lnTo>
                    <a:pt x="17" y="298"/>
                  </a:lnTo>
                  <a:lnTo>
                    <a:pt x="30" y="280"/>
                  </a:lnTo>
                  <a:lnTo>
                    <a:pt x="46" y="262"/>
                  </a:lnTo>
                  <a:lnTo>
                    <a:pt x="67" y="245"/>
                  </a:lnTo>
                  <a:lnTo>
                    <a:pt x="90" y="228"/>
                  </a:lnTo>
                  <a:lnTo>
                    <a:pt x="116" y="212"/>
                  </a:lnTo>
                  <a:lnTo>
                    <a:pt x="145" y="196"/>
                  </a:lnTo>
                  <a:lnTo>
                    <a:pt x="178" y="181"/>
                  </a:lnTo>
                  <a:lnTo>
                    <a:pt x="213" y="166"/>
                  </a:lnTo>
                  <a:lnTo>
                    <a:pt x="251" y="152"/>
                  </a:lnTo>
                  <a:lnTo>
                    <a:pt x="293" y="138"/>
                  </a:lnTo>
                  <a:lnTo>
                    <a:pt x="336" y="125"/>
                  </a:lnTo>
                  <a:lnTo>
                    <a:pt x="383" y="112"/>
                  </a:lnTo>
                  <a:lnTo>
                    <a:pt x="432" y="100"/>
                  </a:lnTo>
                  <a:lnTo>
                    <a:pt x="483" y="88"/>
                  </a:lnTo>
                  <a:lnTo>
                    <a:pt x="536" y="78"/>
                  </a:lnTo>
                  <a:lnTo>
                    <a:pt x="592" y="67"/>
                  </a:lnTo>
                  <a:lnTo>
                    <a:pt x="649" y="58"/>
                  </a:lnTo>
                  <a:lnTo>
                    <a:pt x="710" y="49"/>
                  </a:lnTo>
                  <a:lnTo>
                    <a:pt x="772" y="41"/>
                  </a:lnTo>
                  <a:lnTo>
                    <a:pt x="835" y="34"/>
                  </a:lnTo>
                  <a:lnTo>
                    <a:pt x="900" y="27"/>
                  </a:lnTo>
                  <a:lnTo>
                    <a:pt x="966" y="21"/>
                  </a:lnTo>
                  <a:lnTo>
                    <a:pt x="1035" y="15"/>
                  </a:lnTo>
                  <a:lnTo>
                    <a:pt x="1105" y="10"/>
                  </a:lnTo>
                  <a:lnTo>
                    <a:pt x="1177" y="6"/>
                  </a:lnTo>
                  <a:lnTo>
                    <a:pt x="1249" y="3"/>
                  </a:lnTo>
                  <a:lnTo>
                    <a:pt x="1323" y="1"/>
                  </a:lnTo>
                  <a:lnTo>
                    <a:pt x="1398" y="0"/>
                  </a:lnTo>
                  <a:lnTo>
                    <a:pt x="1473" y="0"/>
                  </a:lnTo>
                  <a:lnTo>
                    <a:pt x="1549" y="0"/>
                  </a:lnTo>
                  <a:lnTo>
                    <a:pt x="1624" y="1"/>
                  </a:lnTo>
                  <a:lnTo>
                    <a:pt x="1698" y="3"/>
                  </a:lnTo>
                  <a:lnTo>
                    <a:pt x="1770" y="6"/>
                  </a:lnTo>
                  <a:lnTo>
                    <a:pt x="1842" y="10"/>
                  </a:lnTo>
                  <a:lnTo>
                    <a:pt x="1912" y="15"/>
                  </a:lnTo>
                  <a:lnTo>
                    <a:pt x="1980" y="21"/>
                  </a:lnTo>
                  <a:lnTo>
                    <a:pt x="2047" y="27"/>
                  </a:lnTo>
                  <a:lnTo>
                    <a:pt x="2113" y="34"/>
                  </a:lnTo>
                  <a:lnTo>
                    <a:pt x="2175" y="41"/>
                  </a:lnTo>
                  <a:lnTo>
                    <a:pt x="2238" y="49"/>
                  </a:lnTo>
                  <a:lnTo>
                    <a:pt x="2298" y="58"/>
                  </a:lnTo>
                  <a:lnTo>
                    <a:pt x="2355" y="67"/>
                  </a:lnTo>
                  <a:lnTo>
                    <a:pt x="2411" y="78"/>
                  </a:lnTo>
                  <a:lnTo>
                    <a:pt x="2464" y="88"/>
                  </a:lnTo>
                  <a:lnTo>
                    <a:pt x="2516" y="100"/>
                  </a:lnTo>
                  <a:lnTo>
                    <a:pt x="2564" y="112"/>
                  </a:lnTo>
                  <a:lnTo>
                    <a:pt x="2611" y="125"/>
                  </a:lnTo>
                  <a:lnTo>
                    <a:pt x="2654" y="138"/>
                  </a:lnTo>
                  <a:lnTo>
                    <a:pt x="2695" y="152"/>
                  </a:lnTo>
                  <a:lnTo>
                    <a:pt x="2734" y="166"/>
                  </a:lnTo>
                  <a:lnTo>
                    <a:pt x="2769" y="181"/>
                  </a:lnTo>
                  <a:lnTo>
                    <a:pt x="2802" y="196"/>
                  </a:lnTo>
                  <a:lnTo>
                    <a:pt x="2831" y="212"/>
                  </a:lnTo>
                  <a:lnTo>
                    <a:pt x="2857" y="228"/>
                  </a:lnTo>
                  <a:lnTo>
                    <a:pt x="2880" y="245"/>
                  </a:lnTo>
                  <a:lnTo>
                    <a:pt x="2901" y="262"/>
                  </a:lnTo>
                  <a:lnTo>
                    <a:pt x="2917" y="280"/>
                  </a:lnTo>
                  <a:lnTo>
                    <a:pt x="2930" y="298"/>
                  </a:lnTo>
                  <a:lnTo>
                    <a:pt x="2939" y="316"/>
                  </a:lnTo>
                  <a:lnTo>
                    <a:pt x="2945" y="334"/>
                  </a:lnTo>
                  <a:lnTo>
                    <a:pt x="2947" y="354"/>
                  </a:lnTo>
                  <a:close/>
                </a:path>
              </a:pathLst>
            </a:custGeom>
            <a:solidFill>
              <a:srgbClr val="fb5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27960" y="6534720"/>
              <a:ext cx="325080" cy="86400"/>
            </a:xfrm>
            <a:custGeom>
              <a:avLst/>
              <a:gdLst/>
              <a:ahLst/>
              <a:rect l="l" t="t" r="r" b="b"/>
              <a:pathLst>
                <a:path w="2944" h="723">
                  <a:moveTo>
                    <a:pt x="2944" y="353"/>
                  </a:moveTo>
                  <a:lnTo>
                    <a:pt x="2942" y="372"/>
                  </a:lnTo>
                  <a:lnTo>
                    <a:pt x="2936" y="391"/>
                  </a:lnTo>
                  <a:lnTo>
                    <a:pt x="2927" y="409"/>
                  </a:lnTo>
                  <a:lnTo>
                    <a:pt x="2914" y="427"/>
                  </a:lnTo>
                  <a:lnTo>
                    <a:pt x="2897" y="446"/>
                  </a:lnTo>
                  <a:lnTo>
                    <a:pt x="2877" y="463"/>
                  </a:lnTo>
                  <a:lnTo>
                    <a:pt x="2854" y="480"/>
                  </a:lnTo>
                  <a:lnTo>
                    <a:pt x="2828" y="497"/>
                  </a:lnTo>
                  <a:lnTo>
                    <a:pt x="2799" y="513"/>
                  </a:lnTo>
                  <a:lnTo>
                    <a:pt x="2766" y="529"/>
                  </a:lnTo>
                  <a:lnTo>
                    <a:pt x="2731" y="545"/>
                  </a:lnTo>
                  <a:lnTo>
                    <a:pt x="2692" y="560"/>
                  </a:lnTo>
                  <a:lnTo>
                    <a:pt x="2651" y="575"/>
                  </a:lnTo>
                  <a:lnTo>
                    <a:pt x="2608" y="589"/>
                  </a:lnTo>
                  <a:lnTo>
                    <a:pt x="2561" y="602"/>
                  </a:lnTo>
                  <a:lnTo>
                    <a:pt x="2513" y="615"/>
                  </a:lnTo>
                  <a:lnTo>
                    <a:pt x="2461" y="627"/>
                  </a:lnTo>
                  <a:lnTo>
                    <a:pt x="2408" y="638"/>
                  </a:lnTo>
                  <a:lnTo>
                    <a:pt x="2352" y="649"/>
                  </a:lnTo>
                  <a:lnTo>
                    <a:pt x="2295" y="661"/>
                  </a:lnTo>
                  <a:lnTo>
                    <a:pt x="2235" y="670"/>
                  </a:lnTo>
                  <a:lnTo>
                    <a:pt x="2173" y="679"/>
                  </a:lnTo>
                  <a:lnTo>
                    <a:pt x="2110" y="687"/>
                  </a:lnTo>
                  <a:lnTo>
                    <a:pt x="2044" y="694"/>
                  </a:lnTo>
                  <a:lnTo>
                    <a:pt x="1977" y="701"/>
                  </a:lnTo>
                  <a:lnTo>
                    <a:pt x="1909" y="707"/>
                  </a:lnTo>
                  <a:lnTo>
                    <a:pt x="1839" y="712"/>
                  </a:lnTo>
                  <a:lnTo>
                    <a:pt x="1768" y="716"/>
                  </a:lnTo>
                  <a:lnTo>
                    <a:pt x="1696" y="719"/>
                  </a:lnTo>
                  <a:lnTo>
                    <a:pt x="1622" y="721"/>
                  </a:lnTo>
                  <a:lnTo>
                    <a:pt x="1547" y="723"/>
                  </a:lnTo>
                  <a:lnTo>
                    <a:pt x="1471" y="723"/>
                  </a:lnTo>
                  <a:lnTo>
                    <a:pt x="1396" y="723"/>
                  </a:lnTo>
                  <a:lnTo>
                    <a:pt x="1321" y="721"/>
                  </a:lnTo>
                  <a:lnTo>
                    <a:pt x="1247" y="719"/>
                  </a:lnTo>
                  <a:lnTo>
                    <a:pt x="1175" y="716"/>
                  </a:lnTo>
                  <a:lnTo>
                    <a:pt x="1104" y="712"/>
                  </a:lnTo>
                  <a:lnTo>
                    <a:pt x="1034" y="707"/>
                  </a:lnTo>
                  <a:lnTo>
                    <a:pt x="965" y="701"/>
                  </a:lnTo>
                  <a:lnTo>
                    <a:pt x="899" y="694"/>
                  </a:lnTo>
                  <a:lnTo>
                    <a:pt x="833" y="687"/>
                  </a:lnTo>
                  <a:lnTo>
                    <a:pt x="770" y="679"/>
                  </a:lnTo>
                  <a:lnTo>
                    <a:pt x="708" y="670"/>
                  </a:lnTo>
                  <a:lnTo>
                    <a:pt x="648" y="661"/>
                  </a:lnTo>
                  <a:lnTo>
                    <a:pt x="591" y="649"/>
                  </a:lnTo>
                  <a:lnTo>
                    <a:pt x="535" y="638"/>
                  </a:lnTo>
                  <a:lnTo>
                    <a:pt x="482" y="627"/>
                  </a:lnTo>
                  <a:lnTo>
                    <a:pt x="431" y="615"/>
                  </a:lnTo>
                  <a:lnTo>
                    <a:pt x="382" y="602"/>
                  </a:lnTo>
                  <a:lnTo>
                    <a:pt x="335" y="589"/>
                  </a:lnTo>
                  <a:lnTo>
                    <a:pt x="292" y="575"/>
                  </a:lnTo>
                  <a:lnTo>
                    <a:pt x="251" y="560"/>
                  </a:lnTo>
                  <a:lnTo>
                    <a:pt x="213" y="545"/>
                  </a:lnTo>
                  <a:lnTo>
                    <a:pt x="178" y="529"/>
                  </a:lnTo>
                  <a:lnTo>
                    <a:pt x="144" y="513"/>
                  </a:lnTo>
                  <a:lnTo>
                    <a:pt x="115" y="497"/>
                  </a:lnTo>
                  <a:lnTo>
                    <a:pt x="89" y="480"/>
                  </a:lnTo>
                  <a:lnTo>
                    <a:pt x="66" y="463"/>
                  </a:lnTo>
                  <a:lnTo>
                    <a:pt x="46" y="446"/>
                  </a:lnTo>
                  <a:lnTo>
                    <a:pt x="29" y="427"/>
                  </a:lnTo>
                  <a:lnTo>
                    <a:pt x="16" y="409"/>
                  </a:lnTo>
                  <a:lnTo>
                    <a:pt x="7" y="391"/>
                  </a:lnTo>
                  <a:lnTo>
                    <a:pt x="2" y="372"/>
                  </a:lnTo>
                  <a:lnTo>
                    <a:pt x="0" y="353"/>
                  </a:lnTo>
                  <a:lnTo>
                    <a:pt x="2" y="333"/>
                  </a:lnTo>
                  <a:lnTo>
                    <a:pt x="7" y="315"/>
                  </a:lnTo>
                  <a:lnTo>
                    <a:pt x="16" y="297"/>
                  </a:lnTo>
                  <a:lnTo>
                    <a:pt x="29" y="279"/>
                  </a:lnTo>
                  <a:lnTo>
                    <a:pt x="46" y="262"/>
                  </a:lnTo>
                  <a:lnTo>
                    <a:pt x="66" y="245"/>
                  </a:lnTo>
                  <a:lnTo>
                    <a:pt x="89" y="227"/>
                  </a:lnTo>
                  <a:lnTo>
                    <a:pt x="115" y="211"/>
                  </a:lnTo>
                  <a:lnTo>
                    <a:pt x="144" y="195"/>
                  </a:lnTo>
                  <a:lnTo>
                    <a:pt x="178" y="180"/>
                  </a:lnTo>
                  <a:lnTo>
                    <a:pt x="213" y="166"/>
                  </a:lnTo>
                  <a:lnTo>
                    <a:pt x="251" y="151"/>
                  </a:lnTo>
                  <a:lnTo>
                    <a:pt x="292" y="138"/>
                  </a:lnTo>
                  <a:lnTo>
                    <a:pt x="335" y="125"/>
                  </a:lnTo>
                  <a:lnTo>
                    <a:pt x="382" y="111"/>
                  </a:lnTo>
                  <a:lnTo>
                    <a:pt x="431" y="99"/>
                  </a:lnTo>
                  <a:lnTo>
                    <a:pt x="482" y="88"/>
                  </a:lnTo>
                  <a:lnTo>
                    <a:pt x="535" y="77"/>
                  </a:lnTo>
                  <a:lnTo>
                    <a:pt x="591" y="67"/>
                  </a:lnTo>
                  <a:lnTo>
                    <a:pt x="648" y="58"/>
                  </a:lnTo>
                  <a:lnTo>
                    <a:pt x="708" y="49"/>
                  </a:lnTo>
                  <a:lnTo>
                    <a:pt x="770" y="41"/>
                  </a:lnTo>
                  <a:lnTo>
                    <a:pt x="833" y="33"/>
                  </a:lnTo>
                  <a:lnTo>
                    <a:pt x="899" y="27"/>
                  </a:lnTo>
                  <a:lnTo>
                    <a:pt x="965" y="21"/>
                  </a:lnTo>
                  <a:lnTo>
                    <a:pt x="1034" y="14"/>
                  </a:lnTo>
                  <a:lnTo>
                    <a:pt x="1104" y="10"/>
                  </a:lnTo>
                  <a:lnTo>
                    <a:pt x="1175" y="6"/>
                  </a:lnTo>
                  <a:lnTo>
                    <a:pt x="1247" y="3"/>
                  </a:lnTo>
                  <a:lnTo>
                    <a:pt x="1321" y="1"/>
                  </a:lnTo>
                  <a:lnTo>
                    <a:pt x="1396" y="0"/>
                  </a:lnTo>
                  <a:lnTo>
                    <a:pt x="1471" y="0"/>
                  </a:lnTo>
                  <a:lnTo>
                    <a:pt x="1547" y="0"/>
                  </a:lnTo>
                  <a:lnTo>
                    <a:pt x="1622" y="1"/>
                  </a:lnTo>
                  <a:lnTo>
                    <a:pt x="1696" y="3"/>
                  </a:lnTo>
                  <a:lnTo>
                    <a:pt x="1768" y="6"/>
                  </a:lnTo>
                  <a:lnTo>
                    <a:pt x="1839" y="10"/>
                  </a:lnTo>
                  <a:lnTo>
                    <a:pt x="1909" y="14"/>
                  </a:lnTo>
                  <a:lnTo>
                    <a:pt x="1977" y="21"/>
                  </a:lnTo>
                  <a:lnTo>
                    <a:pt x="2044" y="27"/>
                  </a:lnTo>
                  <a:lnTo>
                    <a:pt x="2110" y="33"/>
                  </a:lnTo>
                  <a:lnTo>
                    <a:pt x="2173" y="41"/>
                  </a:lnTo>
                  <a:lnTo>
                    <a:pt x="2235" y="49"/>
                  </a:lnTo>
                  <a:lnTo>
                    <a:pt x="2295" y="58"/>
                  </a:lnTo>
                  <a:lnTo>
                    <a:pt x="2352" y="67"/>
                  </a:lnTo>
                  <a:lnTo>
                    <a:pt x="2408" y="77"/>
                  </a:lnTo>
                  <a:lnTo>
                    <a:pt x="2461" y="88"/>
                  </a:lnTo>
                  <a:lnTo>
                    <a:pt x="2513" y="99"/>
                  </a:lnTo>
                  <a:lnTo>
                    <a:pt x="2561" y="111"/>
                  </a:lnTo>
                  <a:lnTo>
                    <a:pt x="2608" y="125"/>
                  </a:lnTo>
                  <a:lnTo>
                    <a:pt x="2651" y="138"/>
                  </a:lnTo>
                  <a:lnTo>
                    <a:pt x="2692" y="151"/>
                  </a:lnTo>
                  <a:lnTo>
                    <a:pt x="2731" y="166"/>
                  </a:lnTo>
                  <a:lnTo>
                    <a:pt x="2766" y="180"/>
                  </a:lnTo>
                  <a:lnTo>
                    <a:pt x="2799" y="195"/>
                  </a:lnTo>
                  <a:lnTo>
                    <a:pt x="2828" y="211"/>
                  </a:lnTo>
                  <a:lnTo>
                    <a:pt x="2854" y="227"/>
                  </a:lnTo>
                  <a:lnTo>
                    <a:pt x="2877" y="245"/>
                  </a:lnTo>
                  <a:lnTo>
                    <a:pt x="2897" y="262"/>
                  </a:lnTo>
                  <a:lnTo>
                    <a:pt x="2914" y="279"/>
                  </a:lnTo>
                  <a:lnTo>
                    <a:pt x="2927" y="297"/>
                  </a:lnTo>
                  <a:lnTo>
                    <a:pt x="2936" y="315"/>
                  </a:lnTo>
                  <a:lnTo>
                    <a:pt x="2942" y="333"/>
                  </a:lnTo>
                  <a:lnTo>
                    <a:pt x="2944" y="353"/>
                  </a:lnTo>
                  <a:close/>
                </a:path>
              </a:pathLst>
            </a:custGeom>
            <a:solidFill>
              <a:srgbClr val="fb5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127960" y="6534720"/>
              <a:ext cx="325080" cy="86400"/>
            </a:xfrm>
            <a:custGeom>
              <a:avLst/>
              <a:gdLst/>
              <a:ahLst/>
              <a:rect l="l" t="t" r="r" b="b"/>
              <a:pathLst>
                <a:path w="2941" h="722">
                  <a:moveTo>
                    <a:pt x="2941" y="353"/>
                  </a:moveTo>
                  <a:lnTo>
                    <a:pt x="2939" y="372"/>
                  </a:lnTo>
                  <a:lnTo>
                    <a:pt x="2934" y="391"/>
                  </a:lnTo>
                  <a:lnTo>
                    <a:pt x="2924" y="409"/>
                  </a:lnTo>
                  <a:lnTo>
                    <a:pt x="2912" y="427"/>
                  </a:lnTo>
                  <a:lnTo>
                    <a:pt x="2894" y="446"/>
                  </a:lnTo>
                  <a:lnTo>
                    <a:pt x="2875" y="463"/>
                  </a:lnTo>
                  <a:lnTo>
                    <a:pt x="2852" y="480"/>
                  </a:lnTo>
                  <a:lnTo>
                    <a:pt x="2826" y="497"/>
                  </a:lnTo>
                  <a:lnTo>
                    <a:pt x="2797" y="513"/>
                  </a:lnTo>
                  <a:lnTo>
                    <a:pt x="2763" y="529"/>
                  </a:lnTo>
                  <a:lnTo>
                    <a:pt x="2728" y="544"/>
                  </a:lnTo>
                  <a:lnTo>
                    <a:pt x="2689" y="560"/>
                  </a:lnTo>
                  <a:lnTo>
                    <a:pt x="2649" y="574"/>
                  </a:lnTo>
                  <a:lnTo>
                    <a:pt x="2606" y="588"/>
                  </a:lnTo>
                  <a:lnTo>
                    <a:pt x="2559" y="601"/>
                  </a:lnTo>
                  <a:lnTo>
                    <a:pt x="2511" y="614"/>
                  </a:lnTo>
                  <a:lnTo>
                    <a:pt x="2459" y="626"/>
                  </a:lnTo>
                  <a:lnTo>
                    <a:pt x="2406" y="638"/>
                  </a:lnTo>
                  <a:lnTo>
                    <a:pt x="2350" y="649"/>
                  </a:lnTo>
                  <a:lnTo>
                    <a:pt x="2293" y="660"/>
                  </a:lnTo>
                  <a:lnTo>
                    <a:pt x="2233" y="669"/>
                  </a:lnTo>
                  <a:lnTo>
                    <a:pt x="2171" y="678"/>
                  </a:lnTo>
                  <a:lnTo>
                    <a:pt x="2108" y="686"/>
                  </a:lnTo>
                  <a:lnTo>
                    <a:pt x="2043" y="694"/>
                  </a:lnTo>
                  <a:lnTo>
                    <a:pt x="1976" y="700"/>
                  </a:lnTo>
                  <a:lnTo>
                    <a:pt x="1908" y="706"/>
                  </a:lnTo>
                  <a:lnTo>
                    <a:pt x="1838" y="711"/>
                  </a:lnTo>
                  <a:lnTo>
                    <a:pt x="1767" y="715"/>
                  </a:lnTo>
                  <a:lnTo>
                    <a:pt x="1695" y="718"/>
                  </a:lnTo>
                  <a:lnTo>
                    <a:pt x="1621" y="720"/>
                  </a:lnTo>
                  <a:lnTo>
                    <a:pt x="1546" y="722"/>
                  </a:lnTo>
                  <a:lnTo>
                    <a:pt x="1470" y="722"/>
                  </a:lnTo>
                  <a:lnTo>
                    <a:pt x="1395" y="722"/>
                  </a:lnTo>
                  <a:lnTo>
                    <a:pt x="1320" y="720"/>
                  </a:lnTo>
                  <a:lnTo>
                    <a:pt x="1246" y="718"/>
                  </a:lnTo>
                  <a:lnTo>
                    <a:pt x="1175" y="715"/>
                  </a:lnTo>
                  <a:lnTo>
                    <a:pt x="1103" y="711"/>
                  </a:lnTo>
                  <a:lnTo>
                    <a:pt x="1033" y="706"/>
                  </a:lnTo>
                  <a:lnTo>
                    <a:pt x="964" y="700"/>
                  </a:lnTo>
                  <a:lnTo>
                    <a:pt x="898" y="694"/>
                  </a:lnTo>
                  <a:lnTo>
                    <a:pt x="833" y="686"/>
                  </a:lnTo>
                  <a:lnTo>
                    <a:pt x="770" y="678"/>
                  </a:lnTo>
                  <a:lnTo>
                    <a:pt x="708" y="669"/>
                  </a:lnTo>
                  <a:lnTo>
                    <a:pt x="648" y="660"/>
                  </a:lnTo>
                  <a:lnTo>
                    <a:pt x="591" y="649"/>
                  </a:lnTo>
                  <a:lnTo>
                    <a:pt x="535" y="638"/>
                  </a:lnTo>
                  <a:lnTo>
                    <a:pt x="482" y="626"/>
                  </a:lnTo>
                  <a:lnTo>
                    <a:pt x="431" y="614"/>
                  </a:lnTo>
                  <a:lnTo>
                    <a:pt x="382" y="601"/>
                  </a:lnTo>
                  <a:lnTo>
                    <a:pt x="336" y="588"/>
                  </a:lnTo>
                  <a:lnTo>
                    <a:pt x="292" y="574"/>
                  </a:lnTo>
                  <a:lnTo>
                    <a:pt x="251" y="560"/>
                  </a:lnTo>
                  <a:lnTo>
                    <a:pt x="213" y="544"/>
                  </a:lnTo>
                  <a:lnTo>
                    <a:pt x="178" y="529"/>
                  </a:lnTo>
                  <a:lnTo>
                    <a:pt x="145" y="513"/>
                  </a:lnTo>
                  <a:lnTo>
                    <a:pt x="115" y="497"/>
                  </a:lnTo>
                  <a:lnTo>
                    <a:pt x="89" y="480"/>
                  </a:lnTo>
                  <a:lnTo>
                    <a:pt x="67" y="463"/>
                  </a:lnTo>
                  <a:lnTo>
                    <a:pt x="46" y="446"/>
                  </a:lnTo>
                  <a:lnTo>
                    <a:pt x="30" y="427"/>
                  </a:lnTo>
                  <a:lnTo>
                    <a:pt x="17" y="409"/>
                  </a:lnTo>
                  <a:lnTo>
                    <a:pt x="8" y="391"/>
                  </a:lnTo>
                  <a:lnTo>
                    <a:pt x="2" y="372"/>
                  </a:lnTo>
                  <a:lnTo>
                    <a:pt x="0" y="353"/>
                  </a:lnTo>
                  <a:lnTo>
                    <a:pt x="2" y="333"/>
                  </a:lnTo>
                  <a:lnTo>
                    <a:pt x="8" y="315"/>
                  </a:lnTo>
                  <a:lnTo>
                    <a:pt x="17" y="297"/>
                  </a:lnTo>
                  <a:lnTo>
                    <a:pt x="30" y="279"/>
                  </a:lnTo>
                  <a:lnTo>
                    <a:pt x="46" y="262"/>
                  </a:lnTo>
                  <a:lnTo>
                    <a:pt x="67" y="245"/>
                  </a:lnTo>
                  <a:lnTo>
                    <a:pt x="89" y="227"/>
                  </a:lnTo>
                  <a:lnTo>
                    <a:pt x="115" y="211"/>
                  </a:lnTo>
                  <a:lnTo>
                    <a:pt x="145" y="196"/>
                  </a:lnTo>
                  <a:lnTo>
                    <a:pt x="178" y="181"/>
                  </a:lnTo>
                  <a:lnTo>
                    <a:pt x="213" y="166"/>
                  </a:lnTo>
                  <a:lnTo>
                    <a:pt x="251" y="152"/>
                  </a:lnTo>
                  <a:lnTo>
                    <a:pt x="292" y="138"/>
                  </a:lnTo>
                  <a:lnTo>
                    <a:pt x="336" y="125"/>
                  </a:lnTo>
                  <a:lnTo>
                    <a:pt x="382" y="112"/>
                  </a:lnTo>
                  <a:lnTo>
                    <a:pt x="431" y="100"/>
                  </a:lnTo>
                  <a:lnTo>
                    <a:pt x="482" y="89"/>
                  </a:lnTo>
                  <a:lnTo>
                    <a:pt x="535" y="78"/>
                  </a:lnTo>
                  <a:lnTo>
                    <a:pt x="591" y="68"/>
                  </a:lnTo>
                  <a:lnTo>
                    <a:pt x="648" y="59"/>
                  </a:lnTo>
                  <a:lnTo>
                    <a:pt x="708" y="50"/>
                  </a:lnTo>
                  <a:lnTo>
                    <a:pt x="770" y="42"/>
                  </a:lnTo>
                  <a:lnTo>
                    <a:pt x="833" y="34"/>
                  </a:lnTo>
                  <a:lnTo>
                    <a:pt x="898" y="28"/>
                  </a:lnTo>
                  <a:lnTo>
                    <a:pt x="964" y="22"/>
                  </a:lnTo>
                  <a:lnTo>
                    <a:pt x="1033" y="16"/>
                  </a:lnTo>
                  <a:lnTo>
                    <a:pt x="1103" y="11"/>
                  </a:lnTo>
                  <a:lnTo>
                    <a:pt x="1175" y="7"/>
                  </a:lnTo>
                  <a:lnTo>
                    <a:pt x="1246" y="4"/>
                  </a:lnTo>
                  <a:lnTo>
                    <a:pt x="1320" y="2"/>
                  </a:lnTo>
                  <a:lnTo>
                    <a:pt x="1395" y="1"/>
                  </a:lnTo>
                  <a:lnTo>
                    <a:pt x="1470" y="0"/>
                  </a:lnTo>
                  <a:lnTo>
                    <a:pt x="1546" y="1"/>
                  </a:lnTo>
                  <a:lnTo>
                    <a:pt x="1621" y="2"/>
                  </a:lnTo>
                  <a:lnTo>
                    <a:pt x="1695" y="4"/>
                  </a:lnTo>
                  <a:lnTo>
                    <a:pt x="1767" y="7"/>
                  </a:lnTo>
                  <a:lnTo>
                    <a:pt x="1838" y="11"/>
                  </a:lnTo>
                  <a:lnTo>
                    <a:pt x="1908" y="16"/>
                  </a:lnTo>
                  <a:lnTo>
                    <a:pt x="1976" y="22"/>
                  </a:lnTo>
                  <a:lnTo>
                    <a:pt x="2043" y="28"/>
                  </a:lnTo>
                  <a:lnTo>
                    <a:pt x="2108" y="34"/>
                  </a:lnTo>
                  <a:lnTo>
                    <a:pt x="2171" y="42"/>
                  </a:lnTo>
                  <a:lnTo>
                    <a:pt x="2233" y="50"/>
                  </a:lnTo>
                  <a:lnTo>
                    <a:pt x="2293" y="59"/>
                  </a:lnTo>
                  <a:lnTo>
                    <a:pt x="2350" y="68"/>
                  </a:lnTo>
                  <a:lnTo>
                    <a:pt x="2406" y="78"/>
                  </a:lnTo>
                  <a:lnTo>
                    <a:pt x="2459" y="89"/>
                  </a:lnTo>
                  <a:lnTo>
                    <a:pt x="2511" y="100"/>
                  </a:lnTo>
                  <a:lnTo>
                    <a:pt x="2559" y="112"/>
                  </a:lnTo>
                  <a:lnTo>
                    <a:pt x="2606" y="125"/>
                  </a:lnTo>
                  <a:lnTo>
                    <a:pt x="2649" y="138"/>
                  </a:lnTo>
                  <a:lnTo>
                    <a:pt x="2689" y="152"/>
                  </a:lnTo>
                  <a:lnTo>
                    <a:pt x="2728" y="166"/>
                  </a:lnTo>
                  <a:lnTo>
                    <a:pt x="2763" y="181"/>
                  </a:lnTo>
                  <a:lnTo>
                    <a:pt x="2797" y="196"/>
                  </a:lnTo>
                  <a:lnTo>
                    <a:pt x="2826" y="211"/>
                  </a:lnTo>
                  <a:lnTo>
                    <a:pt x="2852" y="227"/>
                  </a:lnTo>
                  <a:lnTo>
                    <a:pt x="2875" y="245"/>
                  </a:lnTo>
                  <a:lnTo>
                    <a:pt x="2894" y="262"/>
                  </a:lnTo>
                  <a:lnTo>
                    <a:pt x="2912" y="279"/>
                  </a:lnTo>
                  <a:lnTo>
                    <a:pt x="2924" y="297"/>
                  </a:lnTo>
                  <a:lnTo>
                    <a:pt x="2934" y="315"/>
                  </a:lnTo>
                  <a:lnTo>
                    <a:pt x="2939" y="333"/>
                  </a:lnTo>
                  <a:lnTo>
                    <a:pt x="2941" y="353"/>
                  </a:lnTo>
                  <a:close/>
                </a:path>
              </a:pathLst>
            </a:custGeom>
            <a:solidFill>
              <a:srgbClr val="fb5d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127960" y="6534720"/>
              <a:ext cx="325080" cy="86400"/>
            </a:xfrm>
            <a:custGeom>
              <a:avLst/>
              <a:gdLst/>
              <a:ahLst/>
              <a:rect l="l" t="t" r="r" b="b"/>
              <a:pathLst>
                <a:path w="2938" h="720">
                  <a:moveTo>
                    <a:pt x="2938" y="352"/>
                  </a:moveTo>
                  <a:lnTo>
                    <a:pt x="2936" y="371"/>
                  </a:lnTo>
                  <a:lnTo>
                    <a:pt x="2930" y="390"/>
                  </a:lnTo>
                  <a:lnTo>
                    <a:pt x="2921" y="408"/>
                  </a:lnTo>
                  <a:lnTo>
                    <a:pt x="2908" y="426"/>
                  </a:lnTo>
                  <a:lnTo>
                    <a:pt x="2891" y="445"/>
                  </a:lnTo>
                  <a:lnTo>
                    <a:pt x="2871" y="462"/>
                  </a:lnTo>
                  <a:lnTo>
                    <a:pt x="2848" y="479"/>
                  </a:lnTo>
                  <a:lnTo>
                    <a:pt x="2822" y="495"/>
                  </a:lnTo>
                  <a:lnTo>
                    <a:pt x="2792" y="512"/>
                  </a:lnTo>
                  <a:lnTo>
                    <a:pt x="2760" y="527"/>
                  </a:lnTo>
                  <a:lnTo>
                    <a:pt x="2725" y="543"/>
                  </a:lnTo>
                  <a:lnTo>
                    <a:pt x="2686" y="558"/>
                  </a:lnTo>
                  <a:lnTo>
                    <a:pt x="2646" y="573"/>
                  </a:lnTo>
                  <a:lnTo>
                    <a:pt x="2603" y="587"/>
                  </a:lnTo>
                  <a:lnTo>
                    <a:pt x="2556" y="600"/>
                  </a:lnTo>
                  <a:lnTo>
                    <a:pt x="2508" y="612"/>
                  </a:lnTo>
                  <a:lnTo>
                    <a:pt x="2456" y="625"/>
                  </a:lnTo>
                  <a:lnTo>
                    <a:pt x="2403" y="636"/>
                  </a:lnTo>
                  <a:lnTo>
                    <a:pt x="2347" y="647"/>
                  </a:lnTo>
                  <a:lnTo>
                    <a:pt x="2290" y="658"/>
                  </a:lnTo>
                  <a:lnTo>
                    <a:pt x="2230" y="668"/>
                  </a:lnTo>
                  <a:lnTo>
                    <a:pt x="2168" y="676"/>
                  </a:lnTo>
                  <a:lnTo>
                    <a:pt x="2106" y="684"/>
                  </a:lnTo>
                  <a:lnTo>
                    <a:pt x="2040" y="692"/>
                  </a:lnTo>
                  <a:lnTo>
                    <a:pt x="1973" y="698"/>
                  </a:lnTo>
                  <a:lnTo>
                    <a:pt x="1906" y="704"/>
                  </a:lnTo>
                  <a:lnTo>
                    <a:pt x="1836" y="709"/>
                  </a:lnTo>
                  <a:lnTo>
                    <a:pt x="1764" y="713"/>
                  </a:lnTo>
                  <a:lnTo>
                    <a:pt x="1693" y="716"/>
                  </a:lnTo>
                  <a:lnTo>
                    <a:pt x="1619" y="719"/>
                  </a:lnTo>
                  <a:lnTo>
                    <a:pt x="1544" y="720"/>
                  </a:lnTo>
                  <a:lnTo>
                    <a:pt x="1468" y="720"/>
                  </a:lnTo>
                  <a:lnTo>
                    <a:pt x="1393" y="720"/>
                  </a:lnTo>
                  <a:lnTo>
                    <a:pt x="1318" y="719"/>
                  </a:lnTo>
                  <a:lnTo>
                    <a:pt x="1245" y="716"/>
                  </a:lnTo>
                  <a:lnTo>
                    <a:pt x="1173" y="713"/>
                  </a:lnTo>
                  <a:lnTo>
                    <a:pt x="1102" y="709"/>
                  </a:lnTo>
                  <a:lnTo>
                    <a:pt x="1032" y="704"/>
                  </a:lnTo>
                  <a:lnTo>
                    <a:pt x="963" y="698"/>
                  </a:lnTo>
                  <a:lnTo>
                    <a:pt x="897" y="692"/>
                  </a:lnTo>
                  <a:lnTo>
                    <a:pt x="831" y="684"/>
                  </a:lnTo>
                  <a:lnTo>
                    <a:pt x="769" y="676"/>
                  </a:lnTo>
                  <a:lnTo>
                    <a:pt x="707" y="668"/>
                  </a:lnTo>
                  <a:lnTo>
                    <a:pt x="647" y="658"/>
                  </a:lnTo>
                  <a:lnTo>
                    <a:pt x="590" y="647"/>
                  </a:lnTo>
                  <a:lnTo>
                    <a:pt x="534" y="636"/>
                  </a:lnTo>
                  <a:lnTo>
                    <a:pt x="481" y="625"/>
                  </a:lnTo>
                  <a:lnTo>
                    <a:pt x="430" y="612"/>
                  </a:lnTo>
                  <a:lnTo>
                    <a:pt x="381" y="600"/>
                  </a:lnTo>
                  <a:lnTo>
                    <a:pt x="335" y="587"/>
                  </a:lnTo>
                  <a:lnTo>
                    <a:pt x="291" y="573"/>
                  </a:lnTo>
                  <a:lnTo>
                    <a:pt x="250" y="558"/>
                  </a:lnTo>
                  <a:lnTo>
                    <a:pt x="212" y="543"/>
                  </a:lnTo>
                  <a:lnTo>
                    <a:pt x="177" y="527"/>
                  </a:lnTo>
                  <a:lnTo>
                    <a:pt x="144" y="512"/>
                  </a:lnTo>
                  <a:lnTo>
                    <a:pt x="115" y="495"/>
                  </a:lnTo>
                  <a:lnTo>
                    <a:pt x="89" y="479"/>
                  </a:lnTo>
                  <a:lnTo>
                    <a:pt x="66" y="462"/>
                  </a:lnTo>
                  <a:lnTo>
                    <a:pt x="45" y="445"/>
                  </a:lnTo>
                  <a:lnTo>
                    <a:pt x="29" y="426"/>
                  </a:lnTo>
                  <a:lnTo>
                    <a:pt x="16" y="408"/>
                  </a:lnTo>
                  <a:lnTo>
                    <a:pt x="7" y="390"/>
                  </a:lnTo>
                  <a:lnTo>
                    <a:pt x="1" y="371"/>
                  </a:lnTo>
                  <a:lnTo>
                    <a:pt x="0" y="352"/>
                  </a:lnTo>
                  <a:lnTo>
                    <a:pt x="1" y="332"/>
                  </a:lnTo>
                  <a:lnTo>
                    <a:pt x="7" y="314"/>
                  </a:lnTo>
                  <a:lnTo>
                    <a:pt x="16" y="296"/>
                  </a:lnTo>
                  <a:lnTo>
                    <a:pt x="29" y="278"/>
                  </a:lnTo>
                  <a:lnTo>
                    <a:pt x="45" y="261"/>
                  </a:lnTo>
                  <a:lnTo>
                    <a:pt x="66" y="244"/>
                  </a:lnTo>
                  <a:lnTo>
                    <a:pt x="89" y="227"/>
                  </a:lnTo>
                  <a:lnTo>
                    <a:pt x="115" y="211"/>
                  </a:lnTo>
                  <a:lnTo>
                    <a:pt x="144" y="195"/>
                  </a:lnTo>
                  <a:lnTo>
                    <a:pt x="177" y="180"/>
                  </a:lnTo>
                  <a:lnTo>
                    <a:pt x="212" y="166"/>
                  </a:lnTo>
                  <a:lnTo>
                    <a:pt x="250" y="152"/>
                  </a:lnTo>
                  <a:lnTo>
                    <a:pt x="291" y="138"/>
                  </a:lnTo>
                  <a:lnTo>
                    <a:pt x="335" y="125"/>
                  </a:lnTo>
                  <a:lnTo>
                    <a:pt x="381" y="112"/>
                  </a:lnTo>
                  <a:lnTo>
                    <a:pt x="430" y="100"/>
                  </a:lnTo>
                  <a:lnTo>
                    <a:pt x="481" y="88"/>
                  </a:lnTo>
                  <a:lnTo>
                    <a:pt x="534" y="78"/>
                  </a:lnTo>
                  <a:lnTo>
                    <a:pt x="590" y="68"/>
                  </a:lnTo>
                  <a:lnTo>
                    <a:pt x="647" y="58"/>
                  </a:lnTo>
                  <a:lnTo>
                    <a:pt x="707" y="50"/>
                  </a:lnTo>
                  <a:lnTo>
                    <a:pt x="769" y="41"/>
                  </a:lnTo>
                  <a:lnTo>
                    <a:pt x="831" y="34"/>
                  </a:lnTo>
                  <a:lnTo>
                    <a:pt x="897" y="27"/>
                  </a:lnTo>
                  <a:lnTo>
                    <a:pt x="963" y="21"/>
                  </a:lnTo>
                  <a:lnTo>
                    <a:pt x="1032" y="16"/>
                  </a:lnTo>
                  <a:lnTo>
                    <a:pt x="1102" y="11"/>
                  </a:lnTo>
                  <a:lnTo>
                    <a:pt x="1173" y="7"/>
                  </a:lnTo>
                  <a:lnTo>
                    <a:pt x="1245" y="4"/>
                  </a:lnTo>
                  <a:lnTo>
                    <a:pt x="1318" y="2"/>
                  </a:lnTo>
                  <a:lnTo>
                    <a:pt x="1393" y="1"/>
                  </a:lnTo>
                  <a:lnTo>
                    <a:pt x="1468" y="0"/>
                  </a:lnTo>
                  <a:lnTo>
                    <a:pt x="1544" y="1"/>
                  </a:lnTo>
                  <a:lnTo>
                    <a:pt x="1619" y="2"/>
                  </a:lnTo>
                  <a:lnTo>
                    <a:pt x="1693" y="4"/>
                  </a:lnTo>
                  <a:lnTo>
                    <a:pt x="1764" y="7"/>
                  </a:lnTo>
                  <a:lnTo>
                    <a:pt x="1836" y="11"/>
                  </a:lnTo>
                  <a:lnTo>
                    <a:pt x="1906" y="16"/>
                  </a:lnTo>
                  <a:lnTo>
                    <a:pt x="1973" y="21"/>
                  </a:lnTo>
                  <a:lnTo>
                    <a:pt x="2040" y="27"/>
                  </a:lnTo>
                  <a:lnTo>
                    <a:pt x="2106" y="34"/>
                  </a:lnTo>
                  <a:lnTo>
                    <a:pt x="2168" y="41"/>
                  </a:lnTo>
                  <a:lnTo>
                    <a:pt x="2230" y="50"/>
                  </a:lnTo>
                  <a:lnTo>
                    <a:pt x="2290" y="58"/>
                  </a:lnTo>
                  <a:lnTo>
                    <a:pt x="2347" y="68"/>
                  </a:lnTo>
                  <a:lnTo>
                    <a:pt x="2403" y="78"/>
                  </a:lnTo>
                  <a:lnTo>
                    <a:pt x="2456" y="88"/>
                  </a:lnTo>
                  <a:lnTo>
                    <a:pt x="2508" y="100"/>
                  </a:lnTo>
                  <a:lnTo>
                    <a:pt x="2556" y="112"/>
                  </a:lnTo>
                  <a:lnTo>
                    <a:pt x="2603" y="125"/>
                  </a:lnTo>
                  <a:lnTo>
                    <a:pt x="2646" y="138"/>
                  </a:lnTo>
                  <a:lnTo>
                    <a:pt x="2686" y="152"/>
                  </a:lnTo>
                  <a:lnTo>
                    <a:pt x="2725" y="166"/>
                  </a:lnTo>
                  <a:lnTo>
                    <a:pt x="2760" y="180"/>
                  </a:lnTo>
                  <a:lnTo>
                    <a:pt x="2792" y="195"/>
                  </a:lnTo>
                  <a:lnTo>
                    <a:pt x="2822" y="211"/>
                  </a:lnTo>
                  <a:lnTo>
                    <a:pt x="2848" y="227"/>
                  </a:lnTo>
                  <a:lnTo>
                    <a:pt x="2871" y="244"/>
                  </a:lnTo>
                  <a:lnTo>
                    <a:pt x="2891" y="261"/>
                  </a:lnTo>
                  <a:lnTo>
                    <a:pt x="2908" y="278"/>
                  </a:lnTo>
                  <a:lnTo>
                    <a:pt x="2921" y="296"/>
                  </a:lnTo>
                  <a:lnTo>
                    <a:pt x="2930" y="314"/>
                  </a:lnTo>
                  <a:lnTo>
                    <a:pt x="2936" y="332"/>
                  </a:lnTo>
                  <a:lnTo>
                    <a:pt x="2938" y="352"/>
                  </a:lnTo>
                  <a:close/>
                </a:path>
              </a:pathLst>
            </a:custGeom>
            <a:solidFill>
              <a:srgbClr val="fb5d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129040" y="6534720"/>
              <a:ext cx="322920" cy="86400"/>
            </a:xfrm>
            <a:custGeom>
              <a:avLst/>
              <a:gdLst/>
              <a:ahLst/>
              <a:rect l="l" t="t" r="r" b="b"/>
              <a:pathLst>
                <a:path w="2935" h="719">
                  <a:moveTo>
                    <a:pt x="2935" y="351"/>
                  </a:moveTo>
                  <a:lnTo>
                    <a:pt x="2933" y="370"/>
                  </a:lnTo>
                  <a:lnTo>
                    <a:pt x="2928" y="388"/>
                  </a:lnTo>
                  <a:lnTo>
                    <a:pt x="2918" y="407"/>
                  </a:lnTo>
                  <a:lnTo>
                    <a:pt x="2906" y="425"/>
                  </a:lnTo>
                  <a:lnTo>
                    <a:pt x="2888" y="443"/>
                  </a:lnTo>
                  <a:lnTo>
                    <a:pt x="2869" y="461"/>
                  </a:lnTo>
                  <a:lnTo>
                    <a:pt x="2846" y="477"/>
                  </a:lnTo>
                  <a:lnTo>
                    <a:pt x="2820" y="494"/>
                  </a:lnTo>
                  <a:lnTo>
                    <a:pt x="2790" y="510"/>
                  </a:lnTo>
                  <a:lnTo>
                    <a:pt x="2758" y="526"/>
                  </a:lnTo>
                  <a:lnTo>
                    <a:pt x="2723" y="541"/>
                  </a:lnTo>
                  <a:lnTo>
                    <a:pt x="2684" y="557"/>
                  </a:lnTo>
                  <a:lnTo>
                    <a:pt x="2644" y="571"/>
                  </a:lnTo>
                  <a:lnTo>
                    <a:pt x="2600" y="585"/>
                  </a:lnTo>
                  <a:lnTo>
                    <a:pt x="2554" y="598"/>
                  </a:lnTo>
                  <a:lnTo>
                    <a:pt x="2506" y="611"/>
                  </a:lnTo>
                  <a:lnTo>
                    <a:pt x="2454" y="623"/>
                  </a:lnTo>
                  <a:lnTo>
                    <a:pt x="2401" y="634"/>
                  </a:lnTo>
                  <a:lnTo>
                    <a:pt x="2346" y="645"/>
                  </a:lnTo>
                  <a:lnTo>
                    <a:pt x="2289" y="656"/>
                  </a:lnTo>
                  <a:lnTo>
                    <a:pt x="2229" y="666"/>
                  </a:lnTo>
                  <a:lnTo>
                    <a:pt x="2167" y="675"/>
                  </a:lnTo>
                  <a:lnTo>
                    <a:pt x="2104" y="683"/>
                  </a:lnTo>
                  <a:lnTo>
                    <a:pt x="2039" y="690"/>
                  </a:lnTo>
                  <a:lnTo>
                    <a:pt x="1972" y="696"/>
                  </a:lnTo>
                  <a:lnTo>
                    <a:pt x="1904" y="702"/>
                  </a:lnTo>
                  <a:lnTo>
                    <a:pt x="1834" y="707"/>
                  </a:lnTo>
                  <a:lnTo>
                    <a:pt x="1763" y="711"/>
                  </a:lnTo>
                  <a:lnTo>
                    <a:pt x="1691" y="714"/>
                  </a:lnTo>
                  <a:lnTo>
                    <a:pt x="1618" y="717"/>
                  </a:lnTo>
                  <a:lnTo>
                    <a:pt x="1543" y="718"/>
                  </a:lnTo>
                  <a:lnTo>
                    <a:pt x="1467" y="719"/>
                  </a:lnTo>
                  <a:lnTo>
                    <a:pt x="1392" y="718"/>
                  </a:lnTo>
                  <a:lnTo>
                    <a:pt x="1317" y="717"/>
                  </a:lnTo>
                  <a:lnTo>
                    <a:pt x="1244" y="714"/>
                  </a:lnTo>
                  <a:lnTo>
                    <a:pt x="1172" y="711"/>
                  </a:lnTo>
                  <a:lnTo>
                    <a:pt x="1101" y="707"/>
                  </a:lnTo>
                  <a:lnTo>
                    <a:pt x="1031" y="702"/>
                  </a:lnTo>
                  <a:lnTo>
                    <a:pt x="962" y="696"/>
                  </a:lnTo>
                  <a:lnTo>
                    <a:pt x="896" y="690"/>
                  </a:lnTo>
                  <a:lnTo>
                    <a:pt x="831" y="683"/>
                  </a:lnTo>
                  <a:lnTo>
                    <a:pt x="768" y="675"/>
                  </a:lnTo>
                  <a:lnTo>
                    <a:pt x="707" y="666"/>
                  </a:lnTo>
                  <a:lnTo>
                    <a:pt x="647" y="656"/>
                  </a:lnTo>
                  <a:lnTo>
                    <a:pt x="590" y="645"/>
                  </a:lnTo>
                  <a:lnTo>
                    <a:pt x="534" y="634"/>
                  </a:lnTo>
                  <a:lnTo>
                    <a:pt x="481" y="623"/>
                  </a:lnTo>
                  <a:lnTo>
                    <a:pt x="430" y="611"/>
                  </a:lnTo>
                  <a:lnTo>
                    <a:pt x="381" y="598"/>
                  </a:lnTo>
                  <a:lnTo>
                    <a:pt x="335" y="585"/>
                  </a:lnTo>
                  <a:lnTo>
                    <a:pt x="292" y="571"/>
                  </a:lnTo>
                  <a:lnTo>
                    <a:pt x="250" y="557"/>
                  </a:lnTo>
                  <a:lnTo>
                    <a:pt x="212" y="541"/>
                  </a:lnTo>
                  <a:lnTo>
                    <a:pt x="177" y="526"/>
                  </a:lnTo>
                  <a:lnTo>
                    <a:pt x="144" y="510"/>
                  </a:lnTo>
                  <a:lnTo>
                    <a:pt x="115" y="494"/>
                  </a:lnTo>
                  <a:lnTo>
                    <a:pt x="89" y="477"/>
                  </a:lnTo>
                  <a:lnTo>
                    <a:pt x="66" y="461"/>
                  </a:lnTo>
                  <a:lnTo>
                    <a:pt x="46" y="443"/>
                  </a:lnTo>
                  <a:lnTo>
                    <a:pt x="29" y="425"/>
                  </a:lnTo>
                  <a:lnTo>
                    <a:pt x="17" y="407"/>
                  </a:lnTo>
                  <a:lnTo>
                    <a:pt x="7" y="388"/>
                  </a:lnTo>
                  <a:lnTo>
                    <a:pt x="2" y="370"/>
                  </a:lnTo>
                  <a:lnTo>
                    <a:pt x="0" y="351"/>
                  </a:lnTo>
                  <a:lnTo>
                    <a:pt x="2" y="332"/>
                  </a:lnTo>
                  <a:lnTo>
                    <a:pt x="7" y="313"/>
                  </a:lnTo>
                  <a:lnTo>
                    <a:pt x="17" y="295"/>
                  </a:lnTo>
                  <a:lnTo>
                    <a:pt x="29" y="278"/>
                  </a:lnTo>
                  <a:lnTo>
                    <a:pt x="46" y="260"/>
                  </a:lnTo>
                  <a:lnTo>
                    <a:pt x="66" y="243"/>
                  </a:lnTo>
                  <a:lnTo>
                    <a:pt x="89" y="226"/>
                  </a:lnTo>
                  <a:lnTo>
                    <a:pt x="115" y="210"/>
                  </a:lnTo>
                  <a:lnTo>
                    <a:pt x="144" y="195"/>
                  </a:lnTo>
                  <a:lnTo>
                    <a:pt x="177" y="180"/>
                  </a:lnTo>
                  <a:lnTo>
                    <a:pt x="212" y="165"/>
                  </a:lnTo>
                  <a:lnTo>
                    <a:pt x="250" y="151"/>
                  </a:lnTo>
                  <a:lnTo>
                    <a:pt x="292" y="138"/>
                  </a:lnTo>
                  <a:lnTo>
                    <a:pt x="335" y="125"/>
                  </a:lnTo>
                  <a:lnTo>
                    <a:pt x="381" y="111"/>
                  </a:lnTo>
                  <a:lnTo>
                    <a:pt x="430" y="99"/>
                  </a:lnTo>
                  <a:lnTo>
                    <a:pt x="481" y="88"/>
                  </a:lnTo>
                  <a:lnTo>
                    <a:pt x="534" y="77"/>
                  </a:lnTo>
                  <a:lnTo>
                    <a:pt x="590" y="67"/>
                  </a:lnTo>
                  <a:lnTo>
                    <a:pt x="647" y="58"/>
                  </a:lnTo>
                  <a:lnTo>
                    <a:pt x="707" y="49"/>
                  </a:lnTo>
                  <a:lnTo>
                    <a:pt x="768" y="41"/>
                  </a:lnTo>
                  <a:lnTo>
                    <a:pt x="831" y="34"/>
                  </a:lnTo>
                  <a:lnTo>
                    <a:pt x="896" y="27"/>
                  </a:lnTo>
                  <a:lnTo>
                    <a:pt x="962" y="21"/>
                  </a:lnTo>
                  <a:lnTo>
                    <a:pt x="1031" y="16"/>
                  </a:lnTo>
                  <a:lnTo>
                    <a:pt x="1101" y="11"/>
                  </a:lnTo>
                  <a:lnTo>
                    <a:pt x="1172" y="7"/>
                  </a:lnTo>
                  <a:lnTo>
                    <a:pt x="1244" y="4"/>
                  </a:lnTo>
                  <a:lnTo>
                    <a:pt x="1317" y="2"/>
                  </a:lnTo>
                  <a:lnTo>
                    <a:pt x="1392" y="1"/>
                  </a:lnTo>
                  <a:lnTo>
                    <a:pt x="1467" y="0"/>
                  </a:lnTo>
                  <a:lnTo>
                    <a:pt x="1543" y="1"/>
                  </a:lnTo>
                  <a:lnTo>
                    <a:pt x="1618" y="2"/>
                  </a:lnTo>
                  <a:lnTo>
                    <a:pt x="1691" y="4"/>
                  </a:lnTo>
                  <a:lnTo>
                    <a:pt x="1763" y="7"/>
                  </a:lnTo>
                  <a:lnTo>
                    <a:pt x="1834" y="11"/>
                  </a:lnTo>
                  <a:lnTo>
                    <a:pt x="1904" y="16"/>
                  </a:lnTo>
                  <a:lnTo>
                    <a:pt x="1972" y="21"/>
                  </a:lnTo>
                  <a:lnTo>
                    <a:pt x="2039" y="27"/>
                  </a:lnTo>
                  <a:lnTo>
                    <a:pt x="2104" y="34"/>
                  </a:lnTo>
                  <a:lnTo>
                    <a:pt x="2167" y="41"/>
                  </a:lnTo>
                  <a:lnTo>
                    <a:pt x="2229" y="49"/>
                  </a:lnTo>
                  <a:lnTo>
                    <a:pt x="2289" y="58"/>
                  </a:lnTo>
                  <a:lnTo>
                    <a:pt x="2346" y="67"/>
                  </a:lnTo>
                  <a:lnTo>
                    <a:pt x="2401" y="77"/>
                  </a:lnTo>
                  <a:lnTo>
                    <a:pt x="2454" y="88"/>
                  </a:lnTo>
                  <a:lnTo>
                    <a:pt x="2506" y="99"/>
                  </a:lnTo>
                  <a:lnTo>
                    <a:pt x="2554" y="111"/>
                  </a:lnTo>
                  <a:lnTo>
                    <a:pt x="2600" y="125"/>
                  </a:lnTo>
                  <a:lnTo>
                    <a:pt x="2644" y="138"/>
                  </a:lnTo>
                  <a:lnTo>
                    <a:pt x="2684" y="151"/>
                  </a:lnTo>
                  <a:lnTo>
                    <a:pt x="2723" y="165"/>
                  </a:lnTo>
                  <a:lnTo>
                    <a:pt x="2758" y="180"/>
                  </a:lnTo>
                  <a:lnTo>
                    <a:pt x="2790" y="195"/>
                  </a:lnTo>
                  <a:lnTo>
                    <a:pt x="2820" y="210"/>
                  </a:lnTo>
                  <a:lnTo>
                    <a:pt x="2846" y="226"/>
                  </a:lnTo>
                  <a:lnTo>
                    <a:pt x="2869" y="243"/>
                  </a:lnTo>
                  <a:lnTo>
                    <a:pt x="2888" y="260"/>
                  </a:lnTo>
                  <a:lnTo>
                    <a:pt x="2906" y="278"/>
                  </a:lnTo>
                  <a:lnTo>
                    <a:pt x="2918" y="295"/>
                  </a:lnTo>
                  <a:lnTo>
                    <a:pt x="2928" y="313"/>
                  </a:lnTo>
                  <a:lnTo>
                    <a:pt x="2933" y="332"/>
                  </a:lnTo>
                  <a:lnTo>
                    <a:pt x="2935" y="351"/>
                  </a:lnTo>
                  <a:close/>
                </a:path>
              </a:pathLst>
            </a:custGeom>
            <a:solidFill>
              <a:srgbClr val="fb5d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129040" y="6534720"/>
              <a:ext cx="322920" cy="84960"/>
            </a:xfrm>
            <a:custGeom>
              <a:avLst/>
              <a:gdLst/>
              <a:ahLst/>
              <a:rect l="l" t="t" r="r" b="b"/>
              <a:pathLst>
                <a:path w="2933" h="717">
                  <a:moveTo>
                    <a:pt x="2933" y="350"/>
                  </a:moveTo>
                  <a:lnTo>
                    <a:pt x="2931" y="369"/>
                  </a:lnTo>
                  <a:lnTo>
                    <a:pt x="2925" y="387"/>
                  </a:lnTo>
                  <a:lnTo>
                    <a:pt x="2916" y="406"/>
                  </a:lnTo>
                  <a:lnTo>
                    <a:pt x="2903" y="423"/>
                  </a:lnTo>
                  <a:lnTo>
                    <a:pt x="2886" y="442"/>
                  </a:lnTo>
                  <a:lnTo>
                    <a:pt x="2867" y="459"/>
                  </a:lnTo>
                  <a:lnTo>
                    <a:pt x="2844" y="476"/>
                  </a:lnTo>
                  <a:lnTo>
                    <a:pt x="2818" y="493"/>
                  </a:lnTo>
                  <a:lnTo>
                    <a:pt x="2788" y="509"/>
                  </a:lnTo>
                  <a:lnTo>
                    <a:pt x="2756" y="524"/>
                  </a:lnTo>
                  <a:lnTo>
                    <a:pt x="2721" y="540"/>
                  </a:lnTo>
                  <a:lnTo>
                    <a:pt x="2682" y="555"/>
                  </a:lnTo>
                  <a:lnTo>
                    <a:pt x="2641" y="570"/>
                  </a:lnTo>
                  <a:lnTo>
                    <a:pt x="2598" y="583"/>
                  </a:lnTo>
                  <a:lnTo>
                    <a:pt x="2552" y="597"/>
                  </a:lnTo>
                  <a:lnTo>
                    <a:pt x="2504" y="609"/>
                  </a:lnTo>
                  <a:lnTo>
                    <a:pt x="2452" y="621"/>
                  </a:lnTo>
                  <a:lnTo>
                    <a:pt x="2400" y="633"/>
                  </a:lnTo>
                  <a:lnTo>
                    <a:pt x="2344" y="643"/>
                  </a:lnTo>
                  <a:lnTo>
                    <a:pt x="2287" y="655"/>
                  </a:lnTo>
                  <a:lnTo>
                    <a:pt x="2227" y="664"/>
                  </a:lnTo>
                  <a:lnTo>
                    <a:pt x="2165" y="673"/>
                  </a:lnTo>
                  <a:lnTo>
                    <a:pt x="2102" y="681"/>
                  </a:lnTo>
                  <a:lnTo>
                    <a:pt x="2037" y="688"/>
                  </a:lnTo>
                  <a:lnTo>
                    <a:pt x="1970" y="695"/>
                  </a:lnTo>
                  <a:lnTo>
                    <a:pt x="1903" y="700"/>
                  </a:lnTo>
                  <a:lnTo>
                    <a:pt x="1833" y="705"/>
                  </a:lnTo>
                  <a:lnTo>
                    <a:pt x="1762" y="709"/>
                  </a:lnTo>
                  <a:lnTo>
                    <a:pt x="1690" y="712"/>
                  </a:lnTo>
                  <a:lnTo>
                    <a:pt x="1616" y="715"/>
                  </a:lnTo>
                  <a:lnTo>
                    <a:pt x="1542" y="716"/>
                  </a:lnTo>
                  <a:lnTo>
                    <a:pt x="1466" y="717"/>
                  </a:lnTo>
                  <a:lnTo>
                    <a:pt x="1391" y="716"/>
                  </a:lnTo>
                  <a:lnTo>
                    <a:pt x="1317" y="715"/>
                  </a:lnTo>
                  <a:lnTo>
                    <a:pt x="1243" y="712"/>
                  </a:lnTo>
                  <a:lnTo>
                    <a:pt x="1171" y="709"/>
                  </a:lnTo>
                  <a:lnTo>
                    <a:pt x="1100" y="705"/>
                  </a:lnTo>
                  <a:lnTo>
                    <a:pt x="1030" y="700"/>
                  </a:lnTo>
                  <a:lnTo>
                    <a:pt x="963" y="695"/>
                  </a:lnTo>
                  <a:lnTo>
                    <a:pt x="896" y="688"/>
                  </a:lnTo>
                  <a:lnTo>
                    <a:pt x="831" y="681"/>
                  </a:lnTo>
                  <a:lnTo>
                    <a:pt x="768" y="673"/>
                  </a:lnTo>
                  <a:lnTo>
                    <a:pt x="706" y="664"/>
                  </a:lnTo>
                  <a:lnTo>
                    <a:pt x="646" y="655"/>
                  </a:lnTo>
                  <a:lnTo>
                    <a:pt x="589" y="643"/>
                  </a:lnTo>
                  <a:lnTo>
                    <a:pt x="534" y="633"/>
                  </a:lnTo>
                  <a:lnTo>
                    <a:pt x="481" y="621"/>
                  </a:lnTo>
                  <a:lnTo>
                    <a:pt x="430" y="609"/>
                  </a:lnTo>
                  <a:lnTo>
                    <a:pt x="381" y="597"/>
                  </a:lnTo>
                  <a:lnTo>
                    <a:pt x="335" y="583"/>
                  </a:lnTo>
                  <a:lnTo>
                    <a:pt x="292" y="570"/>
                  </a:lnTo>
                  <a:lnTo>
                    <a:pt x="250" y="555"/>
                  </a:lnTo>
                  <a:lnTo>
                    <a:pt x="213" y="540"/>
                  </a:lnTo>
                  <a:lnTo>
                    <a:pt x="178" y="524"/>
                  </a:lnTo>
                  <a:lnTo>
                    <a:pt x="145" y="509"/>
                  </a:lnTo>
                  <a:lnTo>
                    <a:pt x="115" y="493"/>
                  </a:lnTo>
                  <a:lnTo>
                    <a:pt x="89" y="476"/>
                  </a:lnTo>
                  <a:lnTo>
                    <a:pt x="67" y="459"/>
                  </a:lnTo>
                  <a:lnTo>
                    <a:pt x="46" y="442"/>
                  </a:lnTo>
                  <a:lnTo>
                    <a:pt x="30" y="423"/>
                  </a:lnTo>
                  <a:lnTo>
                    <a:pt x="17" y="406"/>
                  </a:lnTo>
                  <a:lnTo>
                    <a:pt x="8" y="387"/>
                  </a:lnTo>
                  <a:lnTo>
                    <a:pt x="2" y="369"/>
                  </a:lnTo>
                  <a:lnTo>
                    <a:pt x="0" y="350"/>
                  </a:lnTo>
                  <a:lnTo>
                    <a:pt x="2" y="331"/>
                  </a:lnTo>
                  <a:lnTo>
                    <a:pt x="8" y="312"/>
                  </a:lnTo>
                  <a:lnTo>
                    <a:pt x="17" y="294"/>
                  </a:lnTo>
                  <a:lnTo>
                    <a:pt x="30" y="277"/>
                  </a:lnTo>
                  <a:lnTo>
                    <a:pt x="46" y="260"/>
                  </a:lnTo>
                  <a:lnTo>
                    <a:pt x="67" y="243"/>
                  </a:lnTo>
                  <a:lnTo>
                    <a:pt x="89" y="225"/>
                  </a:lnTo>
                  <a:lnTo>
                    <a:pt x="115" y="209"/>
                  </a:lnTo>
                  <a:lnTo>
                    <a:pt x="145" y="194"/>
                  </a:lnTo>
                  <a:lnTo>
                    <a:pt x="178" y="179"/>
                  </a:lnTo>
                  <a:lnTo>
                    <a:pt x="213" y="165"/>
                  </a:lnTo>
                  <a:lnTo>
                    <a:pt x="250" y="151"/>
                  </a:lnTo>
                  <a:lnTo>
                    <a:pt x="292" y="137"/>
                  </a:lnTo>
                  <a:lnTo>
                    <a:pt x="335" y="124"/>
                  </a:lnTo>
                  <a:lnTo>
                    <a:pt x="381" y="111"/>
                  </a:lnTo>
                  <a:lnTo>
                    <a:pt x="430" y="99"/>
                  </a:lnTo>
                  <a:lnTo>
                    <a:pt x="481" y="88"/>
                  </a:lnTo>
                  <a:lnTo>
                    <a:pt x="534" y="77"/>
                  </a:lnTo>
                  <a:lnTo>
                    <a:pt x="589" y="67"/>
                  </a:lnTo>
                  <a:lnTo>
                    <a:pt x="646" y="58"/>
                  </a:lnTo>
                  <a:lnTo>
                    <a:pt x="706" y="49"/>
                  </a:lnTo>
                  <a:lnTo>
                    <a:pt x="768" y="41"/>
                  </a:lnTo>
                  <a:lnTo>
                    <a:pt x="831" y="34"/>
                  </a:lnTo>
                  <a:lnTo>
                    <a:pt x="896" y="27"/>
                  </a:lnTo>
                  <a:lnTo>
                    <a:pt x="963" y="21"/>
                  </a:lnTo>
                  <a:lnTo>
                    <a:pt x="1030" y="16"/>
                  </a:lnTo>
                  <a:lnTo>
                    <a:pt x="1100" y="11"/>
                  </a:lnTo>
                  <a:lnTo>
                    <a:pt x="1171" y="7"/>
                  </a:lnTo>
                  <a:lnTo>
                    <a:pt x="1243" y="4"/>
                  </a:lnTo>
                  <a:lnTo>
                    <a:pt x="1317" y="2"/>
                  </a:lnTo>
                  <a:lnTo>
                    <a:pt x="1391" y="1"/>
                  </a:lnTo>
                  <a:lnTo>
                    <a:pt x="1466" y="0"/>
                  </a:lnTo>
                  <a:lnTo>
                    <a:pt x="1542" y="1"/>
                  </a:lnTo>
                  <a:lnTo>
                    <a:pt x="1616" y="2"/>
                  </a:lnTo>
                  <a:lnTo>
                    <a:pt x="1690" y="4"/>
                  </a:lnTo>
                  <a:lnTo>
                    <a:pt x="1762" y="7"/>
                  </a:lnTo>
                  <a:lnTo>
                    <a:pt x="1833" y="11"/>
                  </a:lnTo>
                  <a:lnTo>
                    <a:pt x="1903" y="16"/>
                  </a:lnTo>
                  <a:lnTo>
                    <a:pt x="1970" y="21"/>
                  </a:lnTo>
                  <a:lnTo>
                    <a:pt x="2037" y="27"/>
                  </a:lnTo>
                  <a:lnTo>
                    <a:pt x="2102" y="34"/>
                  </a:lnTo>
                  <a:lnTo>
                    <a:pt x="2165" y="41"/>
                  </a:lnTo>
                  <a:lnTo>
                    <a:pt x="2227" y="49"/>
                  </a:lnTo>
                  <a:lnTo>
                    <a:pt x="2287" y="58"/>
                  </a:lnTo>
                  <a:lnTo>
                    <a:pt x="2344" y="67"/>
                  </a:lnTo>
                  <a:lnTo>
                    <a:pt x="2400" y="77"/>
                  </a:lnTo>
                  <a:lnTo>
                    <a:pt x="2452" y="88"/>
                  </a:lnTo>
                  <a:lnTo>
                    <a:pt x="2504" y="99"/>
                  </a:lnTo>
                  <a:lnTo>
                    <a:pt x="2552" y="111"/>
                  </a:lnTo>
                  <a:lnTo>
                    <a:pt x="2598" y="124"/>
                  </a:lnTo>
                  <a:lnTo>
                    <a:pt x="2641" y="137"/>
                  </a:lnTo>
                  <a:lnTo>
                    <a:pt x="2682" y="151"/>
                  </a:lnTo>
                  <a:lnTo>
                    <a:pt x="2721" y="165"/>
                  </a:lnTo>
                  <a:lnTo>
                    <a:pt x="2756" y="179"/>
                  </a:lnTo>
                  <a:lnTo>
                    <a:pt x="2788" y="194"/>
                  </a:lnTo>
                  <a:lnTo>
                    <a:pt x="2818" y="209"/>
                  </a:lnTo>
                  <a:lnTo>
                    <a:pt x="2844" y="225"/>
                  </a:lnTo>
                  <a:lnTo>
                    <a:pt x="2867" y="243"/>
                  </a:lnTo>
                  <a:lnTo>
                    <a:pt x="2886" y="260"/>
                  </a:lnTo>
                  <a:lnTo>
                    <a:pt x="2903" y="277"/>
                  </a:lnTo>
                  <a:lnTo>
                    <a:pt x="2916" y="294"/>
                  </a:lnTo>
                  <a:lnTo>
                    <a:pt x="2925" y="312"/>
                  </a:lnTo>
                  <a:lnTo>
                    <a:pt x="2931" y="331"/>
                  </a:lnTo>
                  <a:lnTo>
                    <a:pt x="2933" y="350"/>
                  </a:lnTo>
                  <a:close/>
                </a:path>
              </a:pathLst>
            </a:custGeom>
            <a:solidFill>
              <a:srgbClr val="fb5b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129040" y="6534720"/>
              <a:ext cx="322920" cy="84960"/>
            </a:xfrm>
            <a:custGeom>
              <a:avLst/>
              <a:gdLst/>
              <a:ahLst/>
              <a:rect l="l" t="t" r="r" b="b"/>
              <a:pathLst>
                <a:path w="2929" h="715">
                  <a:moveTo>
                    <a:pt x="2929" y="349"/>
                  </a:moveTo>
                  <a:lnTo>
                    <a:pt x="2928" y="368"/>
                  </a:lnTo>
                  <a:lnTo>
                    <a:pt x="2922" y="386"/>
                  </a:lnTo>
                  <a:lnTo>
                    <a:pt x="2913" y="404"/>
                  </a:lnTo>
                  <a:lnTo>
                    <a:pt x="2900" y="422"/>
                  </a:lnTo>
                  <a:lnTo>
                    <a:pt x="2883" y="441"/>
                  </a:lnTo>
                  <a:lnTo>
                    <a:pt x="2863" y="458"/>
                  </a:lnTo>
                  <a:lnTo>
                    <a:pt x="2840" y="475"/>
                  </a:lnTo>
                  <a:lnTo>
                    <a:pt x="2814" y="491"/>
                  </a:lnTo>
                  <a:lnTo>
                    <a:pt x="2784" y="507"/>
                  </a:lnTo>
                  <a:lnTo>
                    <a:pt x="2752" y="523"/>
                  </a:lnTo>
                  <a:lnTo>
                    <a:pt x="2717" y="538"/>
                  </a:lnTo>
                  <a:lnTo>
                    <a:pt x="2679" y="554"/>
                  </a:lnTo>
                  <a:lnTo>
                    <a:pt x="2638" y="568"/>
                  </a:lnTo>
                  <a:lnTo>
                    <a:pt x="2595" y="582"/>
                  </a:lnTo>
                  <a:lnTo>
                    <a:pt x="2549" y="595"/>
                  </a:lnTo>
                  <a:lnTo>
                    <a:pt x="2501" y="608"/>
                  </a:lnTo>
                  <a:lnTo>
                    <a:pt x="2449" y="620"/>
                  </a:lnTo>
                  <a:lnTo>
                    <a:pt x="2397" y="631"/>
                  </a:lnTo>
                  <a:lnTo>
                    <a:pt x="2341" y="642"/>
                  </a:lnTo>
                  <a:lnTo>
                    <a:pt x="2284" y="652"/>
                  </a:lnTo>
                  <a:lnTo>
                    <a:pt x="2224" y="662"/>
                  </a:lnTo>
                  <a:lnTo>
                    <a:pt x="2162" y="671"/>
                  </a:lnTo>
                  <a:lnTo>
                    <a:pt x="2100" y="679"/>
                  </a:lnTo>
                  <a:lnTo>
                    <a:pt x="2035" y="686"/>
                  </a:lnTo>
                  <a:lnTo>
                    <a:pt x="1968" y="693"/>
                  </a:lnTo>
                  <a:lnTo>
                    <a:pt x="1900" y="698"/>
                  </a:lnTo>
                  <a:lnTo>
                    <a:pt x="1831" y="703"/>
                  </a:lnTo>
                  <a:lnTo>
                    <a:pt x="1759" y="707"/>
                  </a:lnTo>
                  <a:lnTo>
                    <a:pt x="1688" y="711"/>
                  </a:lnTo>
                  <a:lnTo>
                    <a:pt x="1614" y="713"/>
                  </a:lnTo>
                  <a:lnTo>
                    <a:pt x="1540" y="714"/>
                  </a:lnTo>
                  <a:lnTo>
                    <a:pt x="1464" y="715"/>
                  </a:lnTo>
                  <a:lnTo>
                    <a:pt x="1389" y="714"/>
                  </a:lnTo>
                  <a:lnTo>
                    <a:pt x="1315" y="713"/>
                  </a:lnTo>
                  <a:lnTo>
                    <a:pt x="1241" y="711"/>
                  </a:lnTo>
                  <a:lnTo>
                    <a:pt x="1170" y="707"/>
                  </a:lnTo>
                  <a:lnTo>
                    <a:pt x="1099" y="703"/>
                  </a:lnTo>
                  <a:lnTo>
                    <a:pt x="1029" y="698"/>
                  </a:lnTo>
                  <a:lnTo>
                    <a:pt x="961" y="693"/>
                  </a:lnTo>
                  <a:lnTo>
                    <a:pt x="895" y="686"/>
                  </a:lnTo>
                  <a:lnTo>
                    <a:pt x="829" y="679"/>
                  </a:lnTo>
                  <a:lnTo>
                    <a:pt x="767" y="671"/>
                  </a:lnTo>
                  <a:lnTo>
                    <a:pt x="705" y="662"/>
                  </a:lnTo>
                  <a:lnTo>
                    <a:pt x="645" y="652"/>
                  </a:lnTo>
                  <a:lnTo>
                    <a:pt x="588" y="642"/>
                  </a:lnTo>
                  <a:lnTo>
                    <a:pt x="533" y="631"/>
                  </a:lnTo>
                  <a:lnTo>
                    <a:pt x="480" y="620"/>
                  </a:lnTo>
                  <a:lnTo>
                    <a:pt x="429" y="608"/>
                  </a:lnTo>
                  <a:lnTo>
                    <a:pt x="381" y="595"/>
                  </a:lnTo>
                  <a:lnTo>
                    <a:pt x="334" y="582"/>
                  </a:lnTo>
                  <a:lnTo>
                    <a:pt x="291" y="568"/>
                  </a:lnTo>
                  <a:lnTo>
                    <a:pt x="250" y="554"/>
                  </a:lnTo>
                  <a:lnTo>
                    <a:pt x="212" y="538"/>
                  </a:lnTo>
                  <a:lnTo>
                    <a:pt x="177" y="523"/>
                  </a:lnTo>
                  <a:lnTo>
                    <a:pt x="144" y="507"/>
                  </a:lnTo>
                  <a:lnTo>
                    <a:pt x="115" y="491"/>
                  </a:lnTo>
                  <a:lnTo>
                    <a:pt x="89" y="475"/>
                  </a:lnTo>
                  <a:lnTo>
                    <a:pt x="66" y="458"/>
                  </a:lnTo>
                  <a:lnTo>
                    <a:pt x="45" y="441"/>
                  </a:lnTo>
                  <a:lnTo>
                    <a:pt x="29" y="422"/>
                  </a:lnTo>
                  <a:lnTo>
                    <a:pt x="16" y="404"/>
                  </a:lnTo>
                  <a:lnTo>
                    <a:pt x="7" y="386"/>
                  </a:lnTo>
                  <a:lnTo>
                    <a:pt x="2" y="368"/>
                  </a:lnTo>
                  <a:lnTo>
                    <a:pt x="0" y="349"/>
                  </a:lnTo>
                  <a:lnTo>
                    <a:pt x="2" y="330"/>
                  </a:lnTo>
                  <a:lnTo>
                    <a:pt x="7" y="311"/>
                  </a:lnTo>
                  <a:lnTo>
                    <a:pt x="16" y="293"/>
                  </a:lnTo>
                  <a:lnTo>
                    <a:pt x="29" y="276"/>
                  </a:lnTo>
                  <a:lnTo>
                    <a:pt x="45" y="259"/>
                  </a:lnTo>
                  <a:lnTo>
                    <a:pt x="66" y="242"/>
                  </a:lnTo>
                  <a:lnTo>
                    <a:pt x="89" y="226"/>
                  </a:lnTo>
                  <a:lnTo>
                    <a:pt x="115" y="209"/>
                  </a:lnTo>
                  <a:lnTo>
                    <a:pt x="144" y="193"/>
                  </a:lnTo>
                  <a:lnTo>
                    <a:pt x="177" y="178"/>
                  </a:lnTo>
                  <a:lnTo>
                    <a:pt x="212" y="164"/>
                  </a:lnTo>
                  <a:lnTo>
                    <a:pt x="250" y="150"/>
                  </a:lnTo>
                  <a:lnTo>
                    <a:pt x="291" y="137"/>
                  </a:lnTo>
                  <a:lnTo>
                    <a:pt x="334" y="124"/>
                  </a:lnTo>
                  <a:lnTo>
                    <a:pt x="381" y="110"/>
                  </a:lnTo>
                  <a:lnTo>
                    <a:pt x="429" y="99"/>
                  </a:lnTo>
                  <a:lnTo>
                    <a:pt x="480" y="87"/>
                  </a:lnTo>
                  <a:lnTo>
                    <a:pt x="533" y="77"/>
                  </a:lnTo>
                  <a:lnTo>
                    <a:pt x="588" y="67"/>
                  </a:lnTo>
                  <a:lnTo>
                    <a:pt x="645" y="58"/>
                  </a:lnTo>
                  <a:lnTo>
                    <a:pt x="705" y="49"/>
                  </a:lnTo>
                  <a:lnTo>
                    <a:pt x="767" y="41"/>
                  </a:lnTo>
                  <a:lnTo>
                    <a:pt x="829" y="34"/>
                  </a:lnTo>
                  <a:lnTo>
                    <a:pt x="895" y="27"/>
                  </a:lnTo>
                  <a:lnTo>
                    <a:pt x="961" y="21"/>
                  </a:lnTo>
                  <a:lnTo>
                    <a:pt x="1029" y="16"/>
                  </a:lnTo>
                  <a:lnTo>
                    <a:pt x="1099" y="10"/>
                  </a:lnTo>
                  <a:lnTo>
                    <a:pt x="1170" y="7"/>
                  </a:lnTo>
                  <a:lnTo>
                    <a:pt x="1241" y="4"/>
                  </a:lnTo>
                  <a:lnTo>
                    <a:pt x="1315" y="2"/>
                  </a:lnTo>
                  <a:lnTo>
                    <a:pt x="1389" y="1"/>
                  </a:lnTo>
                  <a:lnTo>
                    <a:pt x="1464" y="0"/>
                  </a:lnTo>
                  <a:lnTo>
                    <a:pt x="1540" y="1"/>
                  </a:lnTo>
                  <a:lnTo>
                    <a:pt x="1614" y="2"/>
                  </a:lnTo>
                  <a:lnTo>
                    <a:pt x="1688" y="4"/>
                  </a:lnTo>
                  <a:lnTo>
                    <a:pt x="1759" y="7"/>
                  </a:lnTo>
                  <a:lnTo>
                    <a:pt x="1831" y="10"/>
                  </a:lnTo>
                  <a:lnTo>
                    <a:pt x="1900" y="16"/>
                  </a:lnTo>
                  <a:lnTo>
                    <a:pt x="1968" y="21"/>
                  </a:lnTo>
                  <a:lnTo>
                    <a:pt x="2035" y="27"/>
                  </a:lnTo>
                  <a:lnTo>
                    <a:pt x="2100" y="34"/>
                  </a:lnTo>
                  <a:lnTo>
                    <a:pt x="2162" y="41"/>
                  </a:lnTo>
                  <a:lnTo>
                    <a:pt x="2224" y="49"/>
                  </a:lnTo>
                  <a:lnTo>
                    <a:pt x="2284" y="58"/>
                  </a:lnTo>
                  <a:lnTo>
                    <a:pt x="2341" y="67"/>
                  </a:lnTo>
                  <a:lnTo>
                    <a:pt x="2397" y="77"/>
                  </a:lnTo>
                  <a:lnTo>
                    <a:pt x="2449" y="87"/>
                  </a:lnTo>
                  <a:lnTo>
                    <a:pt x="2501" y="99"/>
                  </a:lnTo>
                  <a:lnTo>
                    <a:pt x="2549" y="110"/>
                  </a:lnTo>
                  <a:lnTo>
                    <a:pt x="2595" y="124"/>
                  </a:lnTo>
                  <a:lnTo>
                    <a:pt x="2638" y="137"/>
                  </a:lnTo>
                  <a:lnTo>
                    <a:pt x="2679" y="150"/>
                  </a:lnTo>
                  <a:lnTo>
                    <a:pt x="2717" y="164"/>
                  </a:lnTo>
                  <a:lnTo>
                    <a:pt x="2752" y="178"/>
                  </a:lnTo>
                  <a:lnTo>
                    <a:pt x="2784" y="193"/>
                  </a:lnTo>
                  <a:lnTo>
                    <a:pt x="2814" y="209"/>
                  </a:lnTo>
                  <a:lnTo>
                    <a:pt x="2840" y="226"/>
                  </a:lnTo>
                  <a:lnTo>
                    <a:pt x="2863" y="242"/>
                  </a:lnTo>
                  <a:lnTo>
                    <a:pt x="2883" y="259"/>
                  </a:lnTo>
                  <a:lnTo>
                    <a:pt x="2900" y="276"/>
                  </a:lnTo>
                  <a:lnTo>
                    <a:pt x="2913" y="293"/>
                  </a:lnTo>
                  <a:lnTo>
                    <a:pt x="2922" y="311"/>
                  </a:lnTo>
                  <a:lnTo>
                    <a:pt x="2928" y="330"/>
                  </a:lnTo>
                  <a:lnTo>
                    <a:pt x="2929" y="349"/>
                  </a:lnTo>
                  <a:close/>
                </a:path>
              </a:pathLst>
            </a:custGeom>
            <a:solidFill>
              <a:srgbClr val="fb5b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129040" y="6534720"/>
              <a:ext cx="322920" cy="84960"/>
            </a:xfrm>
            <a:custGeom>
              <a:avLst/>
              <a:gdLst/>
              <a:ahLst/>
              <a:rect l="l" t="t" r="r" b="b"/>
              <a:pathLst>
                <a:path w="2927" h="713">
                  <a:moveTo>
                    <a:pt x="2927" y="348"/>
                  </a:moveTo>
                  <a:lnTo>
                    <a:pt x="2925" y="367"/>
                  </a:lnTo>
                  <a:lnTo>
                    <a:pt x="2920" y="385"/>
                  </a:lnTo>
                  <a:lnTo>
                    <a:pt x="2910" y="403"/>
                  </a:lnTo>
                  <a:lnTo>
                    <a:pt x="2898" y="421"/>
                  </a:lnTo>
                  <a:lnTo>
                    <a:pt x="2880" y="440"/>
                  </a:lnTo>
                  <a:lnTo>
                    <a:pt x="2861" y="457"/>
                  </a:lnTo>
                  <a:lnTo>
                    <a:pt x="2838" y="474"/>
                  </a:lnTo>
                  <a:lnTo>
                    <a:pt x="2812" y="490"/>
                  </a:lnTo>
                  <a:lnTo>
                    <a:pt x="2782" y="506"/>
                  </a:lnTo>
                  <a:lnTo>
                    <a:pt x="2750" y="522"/>
                  </a:lnTo>
                  <a:lnTo>
                    <a:pt x="2715" y="537"/>
                  </a:lnTo>
                  <a:lnTo>
                    <a:pt x="2677" y="552"/>
                  </a:lnTo>
                  <a:lnTo>
                    <a:pt x="2636" y="567"/>
                  </a:lnTo>
                  <a:lnTo>
                    <a:pt x="2593" y="580"/>
                  </a:lnTo>
                  <a:lnTo>
                    <a:pt x="2547" y="593"/>
                  </a:lnTo>
                  <a:lnTo>
                    <a:pt x="2499" y="606"/>
                  </a:lnTo>
                  <a:lnTo>
                    <a:pt x="2447" y="618"/>
                  </a:lnTo>
                  <a:lnTo>
                    <a:pt x="2395" y="629"/>
                  </a:lnTo>
                  <a:lnTo>
                    <a:pt x="2339" y="640"/>
                  </a:lnTo>
                  <a:lnTo>
                    <a:pt x="2282" y="650"/>
                  </a:lnTo>
                  <a:lnTo>
                    <a:pt x="2222" y="660"/>
                  </a:lnTo>
                  <a:lnTo>
                    <a:pt x="2161" y="669"/>
                  </a:lnTo>
                  <a:lnTo>
                    <a:pt x="2098" y="677"/>
                  </a:lnTo>
                  <a:lnTo>
                    <a:pt x="2033" y="684"/>
                  </a:lnTo>
                  <a:lnTo>
                    <a:pt x="1966" y="691"/>
                  </a:lnTo>
                  <a:lnTo>
                    <a:pt x="1899" y="697"/>
                  </a:lnTo>
                  <a:lnTo>
                    <a:pt x="1829" y="701"/>
                  </a:lnTo>
                  <a:lnTo>
                    <a:pt x="1758" y="705"/>
                  </a:lnTo>
                  <a:lnTo>
                    <a:pt x="1687" y="709"/>
                  </a:lnTo>
                  <a:lnTo>
                    <a:pt x="1613" y="711"/>
                  </a:lnTo>
                  <a:lnTo>
                    <a:pt x="1539" y="712"/>
                  </a:lnTo>
                  <a:lnTo>
                    <a:pt x="1463" y="713"/>
                  </a:lnTo>
                  <a:lnTo>
                    <a:pt x="1388" y="712"/>
                  </a:lnTo>
                  <a:lnTo>
                    <a:pt x="1314" y="711"/>
                  </a:lnTo>
                  <a:lnTo>
                    <a:pt x="1240" y="709"/>
                  </a:lnTo>
                  <a:lnTo>
                    <a:pt x="1169" y="705"/>
                  </a:lnTo>
                  <a:lnTo>
                    <a:pt x="1098" y="701"/>
                  </a:lnTo>
                  <a:lnTo>
                    <a:pt x="1028" y="697"/>
                  </a:lnTo>
                  <a:lnTo>
                    <a:pt x="961" y="691"/>
                  </a:lnTo>
                  <a:lnTo>
                    <a:pt x="894" y="684"/>
                  </a:lnTo>
                  <a:lnTo>
                    <a:pt x="829" y="677"/>
                  </a:lnTo>
                  <a:lnTo>
                    <a:pt x="766" y="669"/>
                  </a:lnTo>
                  <a:lnTo>
                    <a:pt x="705" y="660"/>
                  </a:lnTo>
                  <a:lnTo>
                    <a:pt x="645" y="650"/>
                  </a:lnTo>
                  <a:lnTo>
                    <a:pt x="588" y="640"/>
                  </a:lnTo>
                  <a:lnTo>
                    <a:pt x="532" y="629"/>
                  </a:lnTo>
                  <a:lnTo>
                    <a:pt x="480" y="618"/>
                  </a:lnTo>
                  <a:lnTo>
                    <a:pt x="429" y="606"/>
                  </a:lnTo>
                  <a:lnTo>
                    <a:pt x="381" y="593"/>
                  </a:lnTo>
                  <a:lnTo>
                    <a:pt x="334" y="580"/>
                  </a:lnTo>
                  <a:lnTo>
                    <a:pt x="291" y="567"/>
                  </a:lnTo>
                  <a:lnTo>
                    <a:pt x="251" y="552"/>
                  </a:lnTo>
                  <a:lnTo>
                    <a:pt x="212" y="537"/>
                  </a:lnTo>
                  <a:lnTo>
                    <a:pt x="177" y="522"/>
                  </a:lnTo>
                  <a:lnTo>
                    <a:pt x="144" y="506"/>
                  </a:lnTo>
                  <a:lnTo>
                    <a:pt x="115" y="490"/>
                  </a:lnTo>
                  <a:lnTo>
                    <a:pt x="89" y="474"/>
                  </a:lnTo>
                  <a:lnTo>
                    <a:pt x="66" y="457"/>
                  </a:lnTo>
                  <a:lnTo>
                    <a:pt x="47" y="440"/>
                  </a:lnTo>
                  <a:lnTo>
                    <a:pt x="30" y="421"/>
                  </a:lnTo>
                  <a:lnTo>
                    <a:pt x="17" y="403"/>
                  </a:lnTo>
                  <a:lnTo>
                    <a:pt x="8" y="385"/>
                  </a:lnTo>
                  <a:lnTo>
                    <a:pt x="2" y="367"/>
                  </a:lnTo>
                  <a:lnTo>
                    <a:pt x="0" y="348"/>
                  </a:lnTo>
                  <a:lnTo>
                    <a:pt x="2" y="329"/>
                  </a:lnTo>
                  <a:lnTo>
                    <a:pt x="8" y="310"/>
                  </a:lnTo>
                  <a:lnTo>
                    <a:pt x="17" y="293"/>
                  </a:lnTo>
                  <a:lnTo>
                    <a:pt x="30" y="275"/>
                  </a:lnTo>
                  <a:lnTo>
                    <a:pt x="47" y="258"/>
                  </a:lnTo>
                  <a:lnTo>
                    <a:pt x="66" y="241"/>
                  </a:lnTo>
                  <a:lnTo>
                    <a:pt x="89" y="225"/>
                  </a:lnTo>
                  <a:lnTo>
                    <a:pt x="115" y="208"/>
                  </a:lnTo>
                  <a:lnTo>
                    <a:pt x="144" y="193"/>
                  </a:lnTo>
                  <a:lnTo>
                    <a:pt x="177" y="178"/>
                  </a:lnTo>
                  <a:lnTo>
                    <a:pt x="212" y="164"/>
                  </a:lnTo>
                  <a:lnTo>
                    <a:pt x="251" y="150"/>
                  </a:lnTo>
                  <a:lnTo>
                    <a:pt x="291" y="136"/>
                  </a:lnTo>
                  <a:lnTo>
                    <a:pt x="334" y="123"/>
                  </a:lnTo>
                  <a:lnTo>
                    <a:pt x="381" y="110"/>
                  </a:lnTo>
                  <a:lnTo>
                    <a:pt x="429" y="98"/>
                  </a:lnTo>
                  <a:lnTo>
                    <a:pt x="480" y="87"/>
                  </a:lnTo>
                  <a:lnTo>
                    <a:pt x="532" y="77"/>
                  </a:lnTo>
                  <a:lnTo>
                    <a:pt x="588" y="67"/>
                  </a:lnTo>
                  <a:lnTo>
                    <a:pt x="645" y="57"/>
                  </a:lnTo>
                  <a:lnTo>
                    <a:pt x="705" y="49"/>
                  </a:lnTo>
                  <a:lnTo>
                    <a:pt x="766" y="41"/>
                  </a:lnTo>
                  <a:lnTo>
                    <a:pt x="829" y="33"/>
                  </a:lnTo>
                  <a:lnTo>
                    <a:pt x="894" y="27"/>
                  </a:lnTo>
                  <a:lnTo>
                    <a:pt x="961" y="21"/>
                  </a:lnTo>
                  <a:lnTo>
                    <a:pt x="1028" y="16"/>
                  </a:lnTo>
                  <a:lnTo>
                    <a:pt x="1098" y="11"/>
                  </a:lnTo>
                  <a:lnTo>
                    <a:pt x="1169" y="7"/>
                  </a:lnTo>
                  <a:lnTo>
                    <a:pt x="1240" y="4"/>
                  </a:lnTo>
                  <a:lnTo>
                    <a:pt x="1314" y="2"/>
                  </a:lnTo>
                  <a:lnTo>
                    <a:pt x="1388" y="1"/>
                  </a:lnTo>
                  <a:lnTo>
                    <a:pt x="1463" y="0"/>
                  </a:lnTo>
                  <a:lnTo>
                    <a:pt x="1539" y="1"/>
                  </a:lnTo>
                  <a:lnTo>
                    <a:pt x="1613" y="2"/>
                  </a:lnTo>
                  <a:lnTo>
                    <a:pt x="1687" y="4"/>
                  </a:lnTo>
                  <a:lnTo>
                    <a:pt x="1758" y="7"/>
                  </a:lnTo>
                  <a:lnTo>
                    <a:pt x="1829" y="11"/>
                  </a:lnTo>
                  <a:lnTo>
                    <a:pt x="1899" y="16"/>
                  </a:lnTo>
                  <a:lnTo>
                    <a:pt x="1966" y="21"/>
                  </a:lnTo>
                  <a:lnTo>
                    <a:pt x="2033" y="27"/>
                  </a:lnTo>
                  <a:lnTo>
                    <a:pt x="2098" y="33"/>
                  </a:lnTo>
                  <a:lnTo>
                    <a:pt x="2161" y="41"/>
                  </a:lnTo>
                  <a:lnTo>
                    <a:pt x="2222" y="49"/>
                  </a:lnTo>
                  <a:lnTo>
                    <a:pt x="2282" y="57"/>
                  </a:lnTo>
                  <a:lnTo>
                    <a:pt x="2339" y="67"/>
                  </a:lnTo>
                  <a:lnTo>
                    <a:pt x="2395" y="77"/>
                  </a:lnTo>
                  <a:lnTo>
                    <a:pt x="2447" y="87"/>
                  </a:lnTo>
                  <a:lnTo>
                    <a:pt x="2499" y="98"/>
                  </a:lnTo>
                  <a:lnTo>
                    <a:pt x="2547" y="110"/>
                  </a:lnTo>
                  <a:lnTo>
                    <a:pt x="2593" y="123"/>
                  </a:lnTo>
                  <a:lnTo>
                    <a:pt x="2636" y="136"/>
                  </a:lnTo>
                  <a:lnTo>
                    <a:pt x="2677" y="150"/>
                  </a:lnTo>
                  <a:lnTo>
                    <a:pt x="2715" y="164"/>
                  </a:lnTo>
                  <a:lnTo>
                    <a:pt x="2750" y="178"/>
                  </a:lnTo>
                  <a:lnTo>
                    <a:pt x="2782" y="193"/>
                  </a:lnTo>
                  <a:lnTo>
                    <a:pt x="2812" y="208"/>
                  </a:lnTo>
                  <a:lnTo>
                    <a:pt x="2838" y="225"/>
                  </a:lnTo>
                  <a:lnTo>
                    <a:pt x="2861" y="241"/>
                  </a:lnTo>
                  <a:lnTo>
                    <a:pt x="2880" y="258"/>
                  </a:lnTo>
                  <a:lnTo>
                    <a:pt x="2898" y="275"/>
                  </a:lnTo>
                  <a:lnTo>
                    <a:pt x="2910" y="293"/>
                  </a:lnTo>
                  <a:lnTo>
                    <a:pt x="2920" y="310"/>
                  </a:lnTo>
                  <a:lnTo>
                    <a:pt x="2925" y="329"/>
                  </a:lnTo>
                  <a:lnTo>
                    <a:pt x="2927" y="348"/>
                  </a:lnTo>
                  <a:close/>
                </a:path>
              </a:pathLst>
            </a:custGeom>
            <a:solidFill>
              <a:srgbClr val="fb5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129040" y="6536160"/>
              <a:ext cx="322920" cy="83880"/>
            </a:xfrm>
            <a:custGeom>
              <a:avLst/>
              <a:gdLst/>
              <a:ahLst/>
              <a:rect l="l" t="t" r="r" b="b"/>
              <a:pathLst>
                <a:path w="2924" h="711">
                  <a:moveTo>
                    <a:pt x="2924" y="347"/>
                  </a:moveTo>
                  <a:lnTo>
                    <a:pt x="2922" y="366"/>
                  </a:lnTo>
                  <a:lnTo>
                    <a:pt x="2916" y="384"/>
                  </a:lnTo>
                  <a:lnTo>
                    <a:pt x="2907" y="402"/>
                  </a:lnTo>
                  <a:lnTo>
                    <a:pt x="2894" y="420"/>
                  </a:lnTo>
                  <a:lnTo>
                    <a:pt x="2877" y="438"/>
                  </a:lnTo>
                  <a:lnTo>
                    <a:pt x="2857" y="455"/>
                  </a:lnTo>
                  <a:lnTo>
                    <a:pt x="2835" y="472"/>
                  </a:lnTo>
                  <a:lnTo>
                    <a:pt x="2809" y="489"/>
                  </a:lnTo>
                  <a:lnTo>
                    <a:pt x="2779" y="505"/>
                  </a:lnTo>
                  <a:lnTo>
                    <a:pt x="2747" y="520"/>
                  </a:lnTo>
                  <a:lnTo>
                    <a:pt x="2712" y="535"/>
                  </a:lnTo>
                  <a:lnTo>
                    <a:pt x="2673" y="551"/>
                  </a:lnTo>
                  <a:lnTo>
                    <a:pt x="2633" y="565"/>
                  </a:lnTo>
                  <a:lnTo>
                    <a:pt x="2590" y="579"/>
                  </a:lnTo>
                  <a:lnTo>
                    <a:pt x="2544" y="592"/>
                  </a:lnTo>
                  <a:lnTo>
                    <a:pt x="2496" y="604"/>
                  </a:lnTo>
                  <a:lnTo>
                    <a:pt x="2444" y="616"/>
                  </a:lnTo>
                  <a:lnTo>
                    <a:pt x="2392" y="628"/>
                  </a:lnTo>
                  <a:lnTo>
                    <a:pt x="2336" y="638"/>
                  </a:lnTo>
                  <a:lnTo>
                    <a:pt x="2278" y="648"/>
                  </a:lnTo>
                  <a:lnTo>
                    <a:pt x="2220" y="659"/>
                  </a:lnTo>
                  <a:lnTo>
                    <a:pt x="2158" y="667"/>
                  </a:lnTo>
                  <a:lnTo>
                    <a:pt x="2096" y="675"/>
                  </a:lnTo>
                  <a:lnTo>
                    <a:pt x="2030" y="683"/>
                  </a:lnTo>
                  <a:lnTo>
                    <a:pt x="1964" y="689"/>
                  </a:lnTo>
                  <a:lnTo>
                    <a:pt x="1896" y="695"/>
                  </a:lnTo>
                  <a:lnTo>
                    <a:pt x="1827" y="700"/>
                  </a:lnTo>
                  <a:lnTo>
                    <a:pt x="1756" y="704"/>
                  </a:lnTo>
                  <a:lnTo>
                    <a:pt x="1684" y="707"/>
                  </a:lnTo>
                  <a:lnTo>
                    <a:pt x="1611" y="709"/>
                  </a:lnTo>
                  <a:lnTo>
                    <a:pt x="1537" y="710"/>
                  </a:lnTo>
                  <a:lnTo>
                    <a:pt x="1461" y="711"/>
                  </a:lnTo>
                  <a:lnTo>
                    <a:pt x="1387" y="710"/>
                  </a:lnTo>
                  <a:lnTo>
                    <a:pt x="1312" y="709"/>
                  </a:lnTo>
                  <a:lnTo>
                    <a:pt x="1239" y="707"/>
                  </a:lnTo>
                  <a:lnTo>
                    <a:pt x="1167" y="704"/>
                  </a:lnTo>
                  <a:lnTo>
                    <a:pt x="1096" y="700"/>
                  </a:lnTo>
                  <a:lnTo>
                    <a:pt x="1027" y="695"/>
                  </a:lnTo>
                  <a:lnTo>
                    <a:pt x="959" y="689"/>
                  </a:lnTo>
                  <a:lnTo>
                    <a:pt x="893" y="683"/>
                  </a:lnTo>
                  <a:lnTo>
                    <a:pt x="828" y="675"/>
                  </a:lnTo>
                  <a:lnTo>
                    <a:pt x="765" y="667"/>
                  </a:lnTo>
                  <a:lnTo>
                    <a:pt x="703" y="659"/>
                  </a:lnTo>
                  <a:lnTo>
                    <a:pt x="644" y="648"/>
                  </a:lnTo>
                  <a:lnTo>
                    <a:pt x="587" y="638"/>
                  </a:lnTo>
                  <a:lnTo>
                    <a:pt x="531" y="628"/>
                  </a:lnTo>
                  <a:lnTo>
                    <a:pt x="479" y="616"/>
                  </a:lnTo>
                  <a:lnTo>
                    <a:pt x="428" y="604"/>
                  </a:lnTo>
                  <a:lnTo>
                    <a:pt x="380" y="592"/>
                  </a:lnTo>
                  <a:lnTo>
                    <a:pt x="333" y="579"/>
                  </a:lnTo>
                  <a:lnTo>
                    <a:pt x="290" y="565"/>
                  </a:lnTo>
                  <a:lnTo>
                    <a:pt x="250" y="551"/>
                  </a:lnTo>
                  <a:lnTo>
                    <a:pt x="211" y="535"/>
                  </a:lnTo>
                  <a:lnTo>
                    <a:pt x="176" y="520"/>
                  </a:lnTo>
                  <a:lnTo>
                    <a:pt x="143" y="505"/>
                  </a:lnTo>
                  <a:lnTo>
                    <a:pt x="114" y="489"/>
                  </a:lnTo>
                  <a:lnTo>
                    <a:pt x="88" y="472"/>
                  </a:lnTo>
                  <a:lnTo>
                    <a:pt x="66" y="455"/>
                  </a:lnTo>
                  <a:lnTo>
                    <a:pt x="46" y="438"/>
                  </a:lnTo>
                  <a:lnTo>
                    <a:pt x="29" y="420"/>
                  </a:lnTo>
                  <a:lnTo>
                    <a:pt x="16" y="402"/>
                  </a:lnTo>
                  <a:lnTo>
                    <a:pt x="7" y="384"/>
                  </a:lnTo>
                  <a:lnTo>
                    <a:pt x="1" y="366"/>
                  </a:lnTo>
                  <a:lnTo>
                    <a:pt x="0" y="347"/>
                  </a:lnTo>
                  <a:lnTo>
                    <a:pt x="1" y="328"/>
                  </a:lnTo>
                  <a:lnTo>
                    <a:pt x="7" y="310"/>
                  </a:lnTo>
                  <a:lnTo>
                    <a:pt x="16" y="292"/>
                  </a:lnTo>
                  <a:lnTo>
                    <a:pt x="29" y="274"/>
                  </a:lnTo>
                  <a:lnTo>
                    <a:pt x="46" y="257"/>
                  </a:lnTo>
                  <a:lnTo>
                    <a:pt x="66" y="241"/>
                  </a:lnTo>
                  <a:lnTo>
                    <a:pt x="88" y="224"/>
                  </a:lnTo>
                  <a:lnTo>
                    <a:pt x="114" y="208"/>
                  </a:lnTo>
                  <a:lnTo>
                    <a:pt x="143" y="192"/>
                  </a:lnTo>
                  <a:lnTo>
                    <a:pt x="176" y="177"/>
                  </a:lnTo>
                  <a:lnTo>
                    <a:pt x="211" y="163"/>
                  </a:lnTo>
                  <a:lnTo>
                    <a:pt x="250" y="149"/>
                  </a:lnTo>
                  <a:lnTo>
                    <a:pt x="290" y="136"/>
                  </a:lnTo>
                  <a:lnTo>
                    <a:pt x="333" y="123"/>
                  </a:lnTo>
                  <a:lnTo>
                    <a:pt x="380" y="110"/>
                  </a:lnTo>
                  <a:lnTo>
                    <a:pt x="428" y="98"/>
                  </a:lnTo>
                  <a:lnTo>
                    <a:pt x="479" y="87"/>
                  </a:lnTo>
                  <a:lnTo>
                    <a:pt x="531" y="76"/>
                  </a:lnTo>
                  <a:lnTo>
                    <a:pt x="587" y="66"/>
                  </a:lnTo>
                  <a:lnTo>
                    <a:pt x="644" y="57"/>
                  </a:lnTo>
                  <a:lnTo>
                    <a:pt x="703" y="49"/>
                  </a:lnTo>
                  <a:lnTo>
                    <a:pt x="765" y="41"/>
                  </a:lnTo>
                  <a:lnTo>
                    <a:pt x="828" y="33"/>
                  </a:lnTo>
                  <a:lnTo>
                    <a:pt x="893" y="27"/>
                  </a:lnTo>
                  <a:lnTo>
                    <a:pt x="959" y="21"/>
                  </a:lnTo>
                  <a:lnTo>
                    <a:pt x="1027" y="16"/>
                  </a:lnTo>
                  <a:lnTo>
                    <a:pt x="1096" y="11"/>
                  </a:lnTo>
                  <a:lnTo>
                    <a:pt x="1167" y="7"/>
                  </a:lnTo>
                  <a:lnTo>
                    <a:pt x="1239" y="4"/>
                  </a:lnTo>
                  <a:lnTo>
                    <a:pt x="1312" y="2"/>
                  </a:lnTo>
                  <a:lnTo>
                    <a:pt x="1387" y="0"/>
                  </a:lnTo>
                  <a:lnTo>
                    <a:pt x="1461" y="0"/>
                  </a:lnTo>
                  <a:lnTo>
                    <a:pt x="1537" y="0"/>
                  </a:lnTo>
                  <a:lnTo>
                    <a:pt x="1611" y="2"/>
                  </a:lnTo>
                  <a:lnTo>
                    <a:pt x="1684" y="4"/>
                  </a:lnTo>
                  <a:lnTo>
                    <a:pt x="1756" y="7"/>
                  </a:lnTo>
                  <a:lnTo>
                    <a:pt x="1827" y="11"/>
                  </a:lnTo>
                  <a:lnTo>
                    <a:pt x="1896" y="16"/>
                  </a:lnTo>
                  <a:lnTo>
                    <a:pt x="1964" y="21"/>
                  </a:lnTo>
                  <a:lnTo>
                    <a:pt x="2030" y="27"/>
                  </a:lnTo>
                  <a:lnTo>
                    <a:pt x="2096" y="33"/>
                  </a:lnTo>
                  <a:lnTo>
                    <a:pt x="2158" y="41"/>
                  </a:lnTo>
                  <a:lnTo>
                    <a:pt x="2220" y="49"/>
                  </a:lnTo>
                  <a:lnTo>
                    <a:pt x="2278" y="57"/>
                  </a:lnTo>
                  <a:lnTo>
                    <a:pt x="2336" y="66"/>
                  </a:lnTo>
                  <a:lnTo>
                    <a:pt x="2392" y="76"/>
                  </a:lnTo>
                  <a:lnTo>
                    <a:pt x="2444" y="87"/>
                  </a:lnTo>
                  <a:lnTo>
                    <a:pt x="2496" y="98"/>
                  </a:lnTo>
                  <a:lnTo>
                    <a:pt x="2544" y="110"/>
                  </a:lnTo>
                  <a:lnTo>
                    <a:pt x="2590" y="123"/>
                  </a:lnTo>
                  <a:lnTo>
                    <a:pt x="2633" y="136"/>
                  </a:lnTo>
                  <a:lnTo>
                    <a:pt x="2673" y="149"/>
                  </a:lnTo>
                  <a:lnTo>
                    <a:pt x="2712" y="163"/>
                  </a:lnTo>
                  <a:lnTo>
                    <a:pt x="2747" y="177"/>
                  </a:lnTo>
                  <a:lnTo>
                    <a:pt x="2779" y="192"/>
                  </a:lnTo>
                  <a:lnTo>
                    <a:pt x="2809" y="208"/>
                  </a:lnTo>
                  <a:lnTo>
                    <a:pt x="2835" y="224"/>
                  </a:lnTo>
                  <a:lnTo>
                    <a:pt x="2857" y="241"/>
                  </a:lnTo>
                  <a:lnTo>
                    <a:pt x="2877" y="257"/>
                  </a:lnTo>
                  <a:lnTo>
                    <a:pt x="2894" y="274"/>
                  </a:lnTo>
                  <a:lnTo>
                    <a:pt x="2907" y="292"/>
                  </a:lnTo>
                  <a:lnTo>
                    <a:pt x="2916" y="310"/>
                  </a:lnTo>
                  <a:lnTo>
                    <a:pt x="2922" y="328"/>
                  </a:lnTo>
                  <a:lnTo>
                    <a:pt x="2924" y="347"/>
                  </a:lnTo>
                  <a:close/>
                </a:path>
              </a:pathLst>
            </a:custGeom>
            <a:solidFill>
              <a:srgbClr val="fb5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129040" y="6536160"/>
              <a:ext cx="322920" cy="83880"/>
            </a:xfrm>
            <a:custGeom>
              <a:avLst/>
              <a:gdLst/>
              <a:ahLst/>
              <a:rect l="l" t="t" r="r" b="b"/>
              <a:pathLst>
                <a:path w="2921" h="709">
                  <a:moveTo>
                    <a:pt x="2921" y="346"/>
                  </a:moveTo>
                  <a:lnTo>
                    <a:pt x="2919" y="365"/>
                  </a:lnTo>
                  <a:lnTo>
                    <a:pt x="2914" y="383"/>
                  </a:lnTo>
                  <a:lnTo>
                    <a:pt x="2904" y="401"/>
                  </a:lnTo>
                  <a:lnTo>
                    <a:pt x="2892" y="419"/>
                  </a:lnTo>
                  <a:lnTo>
                    <a:pt x="2875" y="437"/>
                  </a:lnTo>
                  <a:lnTo>
                    <a:pt x="2855" y="454"/>
                  </a:lnTo>
                  <a:lnTo>
                    <a:pt x="2832" y="471"/>
                  </a:lnTo>
                  <a:lnTo>
                    <a:pt x="2807" y="487"/>
                  </a:lnTo>
                  <a:lnTo>
                    <a:pt x="2777" y="503"/>
                  </a:lnTo>
                  <a:lnTo>
                    <a:pt x="2745" y="519"/>
                  </a:lnTo>
                  <a:lnTo>
                    <a:pt x="2710" y="534"/>
                  </a:lnTo>
                  <a:lnTo>
                    <a:pt x="2671" y="549"/>
                  </a:lnTo>
                  <a:lnTo>
                    <a:pt x="2631" y="563"/>
                  </a:lnTo>
                  <a:lnTo>
                    <a:pt x="2588" y="577"/>
                  </a:lnTo>
                  <a:lnTo>
                    <a:pt x="2541" y="590"/>
                  </a:lnTo>
                  <a:lnTo>
                    <a:pt x="2494" y="603"/>
                  </a:lnTo>
                  <a:lnTo>
                    <a:pt x="2442" y="615"/>
                  </a:lnTo>
                  <a:lnTo>
                    <a:pt x="2390" y="626"/>
                  </a:lnTo>
                  <a:lnTo>
                    <a:pt x="2334" y="636"/>
                  </a:lnTo>
                  <a:lnTo>
                    <a:pt x="2277" y="647"/>
                  </a:lnTo>
                  <a:lnTo>
                    <a:pt x="2218" y="657"/>
                  </a:lnTo>
                  <a:lnTo>
                    <a:pt x="2156" y="666"/>
                  </a:lnTo>
                  <a:lnTo>
                    <a:pt x="2094" y="673"/>
                  </a:lnTo>
                  <a:lnTo>
                    <a:pt x="2029" y="681"/>
                  </a:lnTo>
                  <a:lnTo>
                    <a:pt x="1962" y="687"/>
                  </a:lnTo>
                  <a:lnTo>
                    <a:pt x="1895" y="693"/>
                  </a:lnTo>
                  <a:lnTo>
                    <a:pt x="1825" y="698"/>
                  </a:lnTo>
                  <a:lnTo>
                    <a:pt x="1755" y="702"/>
                  </a:lnTo>
                  <a:lnTo>
                    <a:pt x="1683" y="705"/>
                  </a:lnTo>
                  <a:lnTo>
                    <a:pt x="1610" y="707"/>
                  </a:lnTo>
                  <a:lnTo>
                    <a:pt x="1535" y="708"/>
                  </a:lnTo>
                  <a:lnTo>
                    <a:pt x="1460" y="709"/>
                  </a:lnTo>
                  <a:lnTo>
                    <a:pt x="1386" y="708"/>
                  </a:lnTo>
                  <a:lnTo>
                    <a:pt x="1311" y="707"/>
                  </a:lnTo>
                  <a:lnTo>
                    <a:pt x="1238" y="705"/>
                  </a:lnTo>
                  <a:lnTo>
                    <a:pt x="1167" y="702"/>
                  </a:lnTo>
                  <a:lnTo>
                    <a:pt x="1096" y="698"/>
                  </a:lnTo>
                  <a:lnTo>
                    <a:pt x="1026" y="693"/>
                  </a:lnTo>
                  <a:lnTo>
                    <a:pt x="959" y="687"/>
                  </a:lnTo>
                  <a:lnTo>
                    <a:pt x="892" y="681"/>
                  </a:lnTo>
                  <a:lnTo>
                    <a:pt x="827" y="673"/>
                  </a:lnTo>
                  <a:lnTo>
                    <a:pt x="765" y="666"/>
                  </a:lnTo>
                  <a:lnTo>
                    <a:pt x="703" y="657"/>
                  </a:lnTo>
                  <a:lnTo>
                    <a:pt x="644" y="647"/>
                  </a:lnTo>
                  <a:lnTo>
                    <a:pt x="587" y="636"/>
                  </a:lnTo>
                  <a:lnTo>
                    <a:pt x="531" y="626"/>
                  </a:lnTo>
                  <a:lnTo>
                    <a:pt x="479" y="615"/>
                  </a:lnTo>
                  <a:lnTo>
                    <a:pt x="428" y="603"/>
                  </a:lnTo>
                  <a:lnTo>
                    <a:pt x="380" y="590"/>
                  </a:lnTo>
                  <a:lnTo>
                    <a:pt x="333" y="577"/>
                  </a:lnTo>
                  <a:lnTo>
                    <a:pt x="290" y="563"/>
                  </a:lnTo>
                  <a:lnTo>
                    <a:pt x="250" y="549"/>
                  </a:lnTo>
                  <a:lnTo>
                    <a:pt x="211" y="534"/>
                  </a:lnTo>
                  <a:lnTo>
                    <a:pt x="177" y="519"/>
                  </a:lnTo>
                  <a:lnTo>
                    <a:pt x="145" y="503"/>
                  </a:lnTo>
                  <a:lnTo>
                    <a:pt x="115" y="487"/>
                  </a:lnTo>
                  <a:lnTo>
                    <a:pt x="89" y="471"/>
                  </a:lnTo>
                  <a:lnTo>
                    <a:pt x="66" y="454"/>
                  </a:lnTo>
                  <a:lnTo>
                    <a:pt x="47" y="437"/>
                  </a:lnTo>
                  <a:lnTo>
                    <a:pt x="29" y="419"/>
                  </a:lnTo>
                  <a:lnTo>
                    <a:pt x="17" y="401"/>
                  </a:lnTo>
                  <a:lnTo>
                    <a:pt x="7" y="383"/>
                  </a:lnTo>
                  <a:lnTo>
                    <a:pt x="2" y="365"/>
                  </a:lnTo>
                  <a:lnTo>
                    <a:pt x="0" y="346"/>
                  </a:lnTo>
                  <a:lnTo>
                    <a:pt x="2" y="327"/>
                  </a:lnTo>
                  <a:lnTo>
                    <a:pt x="7" y="309"/>
                  </a:lnTo>
                  <a:lnTo>
                    <a:pt x="17" y="291"/>
                  </a:lnTo>
                  <a:lnTo>
                    <a:pt x="29" y="273"/>
                  </a:lnTo>
                  <a:lnTo>
                    <a:pt x="47" y="256"/>
                  </a:lnTo>
                  <a:lnTo>
                    <a:pt x="66" y="240"/>
                  </a:lnTo>
                  <a:lnTo>
                    <a:pt x="89" y="224"/>
                  </a:lnTo>
                  <a:lnTo>
                    <a:pt x="115" y="207"/>
                  </a:lnTo>
                  <a:lnTo>
                    <a:pt x="145" y="192"/>
                  </a:lnTo>
                  <a:lnTo>
                    <a:pt x="177" y="177"/>
                  </a:lnTo>
                  <a:lnTo>
                    <a:pt x="211" y="163"/>
                  </a:lnTo>
                  <a:lnTo>
                    <a:pt x="250" y="149"/>
                  </a:lnTo>
                  <a:lnTo>
                    <a:pt x="290" y="135"/>
                  </a:lnTo>
                  <a:lnTo>
                    <a:pt x="333" y="123"/>
                  </a:lnTo>
                  <a:lnTo>
                    <a:pt x="380" y="109"/>
                  </a:lnTo>
                  <a:lnTo>
                    <a:pt x="428" y="98"/>
                  </a:lnTo>
                  <a:lnTo>
                    <a:pt x="479" y="87"/>
                  </a:lnTo>
                  <a:lnTo>
                    <a:pt x="531" y="76"/>
                  </a:lnTo>
                  <a:lnTo>
                    <a:pt x="587" y="66"/>
                  </a:lnTo>
                  <a:lnTo>
                    <a:pt x="644" y="57"/>
                  </a:lnTo>
                  <a:lnTo>
                    <a:pt x="703" y="48"/>
                  </a:lnTo>
                  <a:lnTo>
                    <a:pt x="765" y="40"/>
                  </a:lnTo>
                  <a:lnTo>
                    <a:pt x="827" y="33"/>
                  </a:lnTo>
                  <a:lnTo>
                    <a:pt x="892" y="27"/>
                  </a:lnTo>
                  <a:lnTo>
                    <a:pt x="959" y="21"/>
                  </a:lnTo>
                  <a:lnTo>
                    <a:pt x="1026" y="16"/>
                  </a:lnTo>
                  <a:lnTo>
                    <a:pt x="1096" y="11"/>
                  </a:lnTo>
                  <a:lnTo>
                    <a:pt x="1167" y="7"/>
                  </a:lnTo>
                  <a:lnTo>
                    <a:pt x="1238" y="4"/>
                  </a:lnTo>
                  <a:lnTo>
                    <a:pt x="1311" y="2"/>
                  </a:lnTo>
                  <a:lnTo>
                    <a:pt x="1386" y="0"/>
                  </a:lnTo>
                  <a:lnTo>
                    <a:pt x="1460" y="0"/>
                  </a:lnTo>
                  <a:lnTo>
                    <a:pt x="1535" y="0"/>
                  </a:lnTo>
                  <a:lnTo>
                    <a:pt x="1610" y="2"/>
                  </a:lnTo>
                  <a:lnTo>
                    <a:pt x="1683" y="4"/>
                  </a:lnTo>
                  <a:lnTo>
                    <a:pt x="1755" y="7"/>
                  </a:lnTo>
                  <a:lnTo>
                    <a:pt x="1825" y="11"/>
                  </a:lnTo>
                  <a:lnTo>
                    <a:pt x="1895" y="16"/>
                  </a:lnTo>
                  <a:lnTo>
                    <a:pt x="1962" y="21"/>
                  </a:lnTo>
                  <a:lnTo>
                    <a:pt x="2029" y="27"/>
                  </a:lnTo>
                  <a:lnTo>
                    <a:pt x="2094" y="33"/>
                  </a:lnTo>
                  <a:lnTo>
                    <a:pt x="2156" y="40"/>
                  </a:lnTo>
                  <a:lnTo>
                    <a:pt x="2218" y="48"/>
                  </a:lnTo>
                  <a:lnTo>
                    <a:pt x="2277" y="57"/>
                  </a:lnTo>
                  <a:lnTo>
                    <a:pt x="2334" y="66"/>
                  </a:lnTo>
                  <a:lnTo>
                    <a:pt x="2390" y="76"/>
                  </a:lnTo>
                  <a:lnTo>
                    <a:pt x="2442" y="87"/>
                  </a:lnTo>
                  <a:lnTo>
                    <a:pt x="2494" y="98"/>
                  </a:lnTo>
                  <a:lnTo>
                    <a:pt x="2541" y="109"/>
                  </a:lnTo>
                  <a:lnTo>
                    <a:pt x="2588" y="123"/>
                  </a:lnTo>
                  <a:lnTo>
                    <a:pt x="2631" y="135"/>
                  </a:lnTo>
                  <a:lnTo>
                    <a:pt x="2671" y="149"/>
                  </a:lnTo>
                  <a:lnTo>
                    <a:pt x="2710" y="163"/>
                  </a:lnTo>
                  <a:lnTo>
                    <a:pt x="2745" y="177"/>
                  </a:lnTo>
                  <a:lnTo>
                    <a:pt x="2777" y="192"/>
                  </a:lnTo>
                  <a:lnTo>
                    <a:pt x="2807" y="207"/>
                  </a:lnTo>
                  <a:lnTo>
                    <a:pt x="2832" y="224"/>
                  </a:lnTo>
                  <a:lnTo>
                    <a:pt x="2855" y="240"/>
                  </a:lnTo>
                  <a:lnTo>
                    <a:pt x="2875" y="256"/>
                  </a:lnTo>
                  <a:lnTo>
                    <a:pt x="2892" y="273"/>
                  </a:lnTo>
                  <a:lnTo>
                    <a:pt x="2904" y="291"/>
                  </a:lnTo>
                  <a:lnTo>
                    <a:pt x="2914" y="309"/>
                  </a:lnTo>
                  <a:lnTo>
                    <a:pt x="2919" y="327"/>
                  </a:lnTo>
                  <a:lnTo>
                    <a:pt x="2921" y="346"/>
                  </a:lnTo>
                  <a:close/>
                </a:path>
              </a:pathLst>
            </a:custGeom>
            <a:solidFill>
              <a:srgbClr val="fb5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129040" y="6536160"/>
              <a:ext cx="322920" cy="83880"/>
            </a:xfrm>
            <a:custGeom>
              <a:avLst/>
              <a:gdLst/>
              <a:ahLst/>
              <a:rect l="l" t="t" r="r" b="b"/>
              <a:pathLst>
                <a:path w="2919" h="707">
                  <a:moveTo>
                    <a:pt x="2919" y="345"/>
                  </a:moveTo>
                  <a:lnTo>
                    <a:pt x="2917" y="364"/>
                  </a:lnTo>
                  <a:lnTo>
                    <a:pt x="2911" y="382"/>
                  </a:lnTo>
                  <a:lnTo>
                    <a:pt x="2902" y="400"/>
                  </a:lnTo>
                  <a:lnTo>
                    <a:pt x="2889" y="418"/>
                  </a:lnTo>
                  <a:lnTo>
                    <a:pt x="2872" y="436"/>
                  </a:lnTo>
                  <a:lnTo>
                    <a:pt x="2853" y="453"/>
                  </a:lnTo>
                  <a:lnTo>
                    <a:pt x="2830" y="470"/>
                  </a:lnTo>
                  <a:lnTo>
                    <a:pt x="2804" y="486"/>
                  </a:lnTo>
                  <a:lnTo>
                    <a:pt x="2774" y="502"/>
                  </a:lnTo>
                  <a:lnTo>
                    <a:pt x="2742" y="517"/>
                  </a:lnTo>
                  <a:lnTo>
                    <a:pt x="2708" y="532"/>
                  </a:lnTo>
                  <a:lnTo>
                    <a:pt x="2669" y="548"/>
                  </a:lnTo>
                  <a:lnTo>
                    <a:pt x="2629" y="562"/>
                  </a:lnTo>
                  <a:lnTo>
                    <a:pt x="2586" y="575"/>
                  </a:lnTo>
                  <a:lnTo>
                    <a:pt x="2539" y="588"/>
                  </a:lnTo>
                  <a:lnTo>
                    <a:pt x="2492" y="601"/>
                  </a:lnTo>
                  <a:lnTo>
                    <a:pt x="2440" y="613"/>
                  </a:lnTo>
                  <a:lnTo>
                    <a:pt x="2388" y="624"/>
                  </a:lnTo>
                  <a:lnTo>
                    <a:pt x="2332" y="635"/>
                  </a:lnTo>
                  <a:lnTo>
                    <a:pt x="2275" y="645"/>
                  </a:lnTo>
                  <a:lnTo>
                    <a:pt x="2216" y="655"/>
                  </a:lnTo>
                  <a:lnTo>
                    <a:pt x="2155" y="664"/>
                  </a:lnTo>
                  <a:lnTo>
                    <a:pt x="2092" y="672"/>
                  </a:lnTo>
                  <a:lnTo>
                    <a:pt x="2027" y="679"/>
                  </a:lnTo>
                  <a:lnTo>
                    <a:pt x="1961" y="685"/>
                  </a:lnTo>
                  <a:lnTo>
                    <a:pt x="1894" y="691"/>
                  </a:lnTo>
                  <a:lnTo>
                    <a:pt x="1824" y="696"/>
                  </a:lnTo>
                  <a:lnTo>
                    <a:pt x="1753" y="700"/>
                  </a:lnTo>
                  <a:lnTo>
                    <a:pt x="1682" y="703"/>
                  </a:lnTo>
                  <a:lnTo>
                    <a:pt x="1609" y="705"/>
                  </a:lnTo>
                  <a:lnTo>
                    <a:pt x="1534" y="707"/>
                  </a:lnTo>
                  <a:lnTo>
                    <a:pt x="1459" y="707"/>
                  </a:lnTo>
                  <a:lnTo>
                    <a:pt x="1385" y="707"/>
                  </a:lnTo>
                  <a:lnTo>
                    <a:pt x="1310" y="705"/>
                  </a:lnTo>
                  <a:lnTo>
                    <a:pt x="1237" y="703"/>
                  </a:lnTo>
                  <a:lnTo>
                    <a:pt x="1166" y="700"/>
                  </a:lnTo>
                  <a:lnTo>
                    <a:pt x="1095" y="696"/>
                  </a:lnTo>
                  <a:lnTo>
                    <a:pt x="1025" y="691"/>
                  </a:lnTo>
                  <a:lnTo>
                    <a:pt x="958" y="685"/>
                  </a:lnTo>
                  <a:lnTo>
                    <a:pt x="892" y="679"/>
                  </a:lnTo>
                  <a:lnTo>
                    <a:pt x="827" y="672"/>
                  </a:lnTo>
                  <a:lnTo>
                    <a:pt x="764" y="664"/>
                  </a:lnTo>
                  <a:lnTo>
                    <a:pt x="703" y="655"/>
                  </a:lnTo>
                  <a:lnTo>
                    <a:pt x="643" y="645"/>
                  </a:lnTo>
                  <a:lnTo>
                    <a:pt x="587" y="635"/>
                  </a:lnTo>
                  <a:lnTo>
                    <a:pt x="531" y="624"/>
                  </a:lnTo>
                  <a:lnTo>
                    <a:pt x="479" y="613"/>
                  </a:lnTo>
                  <a:lnTo>
                    <a:pt x="428" y="601"/>
                  </a:lnTo>
                  <a:lnTo>
                    <a:pt x="380" y="588"/>
                  </a:lnTo>
                  <a:lnTo>
                    <a:pt x="333" y="575"/>
                  </a:lnTo>
                  <a:lnTo>
                    <a:pt x="290" y="562"/>
                  </a:lnTo>
                  <a:lnTo>
                    <a:pt x="250" y="548"/>
                  </a:lnTo>
                  <a:lnTo>
                    <a:pt x="212" y="532"/>
                  </a:lnTo>
                  <a:lnTo>
                    <a:pt x="177" y="517"/>
                  </a:lnTo>
                  <a:lnTo>
                    <a:pt x="145" y="502"/>
                  </a:lnTo>
                  <a:lnTo>
                    <a:pt x="115" y="486"/>
                  </a:lnTo>
                  <a:lnTo>
                    <a:pt x="89" y="470"/>
                  </a:lnTo>
                  <a:lnTo>
                    <a:pt x="66" y="453"/>
                  </a:lnTo>
                  <a:lnTo>
                    <a:pt x="47" y="436"/>
                  </a:lnTo>
                  <a:lnTo>
                    <a:pt x="30" y="418"/>
                  </a:lnTo>
                  <a:lnTo>
                    <a:pt x="17" y="400"/>
                  </a:lnTo>
                  <a:lnTo>
                    <a:pt x="8" y="382"/>
                  </a:lnTo>
                  <a:lnTo>
                    <a:pt x="2" y="364"/>
                  </a:lnTo>
                  <a:lnTo>
                    <a:pt x="0" y="345"/>
                  </a:lnTo>
                  <a:lnTo>
                    <a:pt x="2" y="326"/>
                  </a:lnTo>
                  <a:lnTo>
                    <a:pt x="8" y="308"/>
                  </a:lnTo>
                  <a:lnTo>
                    <a:pt x="17" y="290"/>
                  </a:lnTo>
                  <a:lnTo>
                    <a:pt x="30" y="273"/>
                  </a:lnTo>
                  <a:lnTo>
                    <a:pt x="47" y="256"/>
                  </a:lnTo>
                  <a:lnTo>
                    <a:pt x="66" y="239"/>
                  </a:lnTo>
                  <a:lnTo>
                    <a:pt x="89" y="223"/>
                  </a:lnTo>
                  <a:lnTo>
                    <a:pt x="115" y="206"/>
                  </a:lnTo>
                  <a:lnTo>
                    <a:pt x="145" y="191"/>
                  </a:lnTo>
                  <a:lnTo>
                    <a:pt x="177" y="176"/>
                  </a:lnTo>
                  <a:lnTo>
                    <a:pt x="212" y="162"/>
                  </a:lnTo>
                  <a:lnTo>
                    <a:pt x="250" y="148"/>
                  </a:lnTo>
                  <a:lnTo>
                    <a:pt x="290" y="135"/>
                  </a:lnTo>
                  <a:lnTo>
                    <a:pt x="333" y="122"/>
                  </a:lnTo>
                  <a:lnTo>
                    <a:pt x="380" y="109"/>
                  </a:lnTo>
                  <a:lnTo>
                    <a:pt x="428" y="97"/>
                  </a:lnTo>
                  <a:lnTo>
                    <a:pt x="479" y="86"/>
                  </a:lnTo>
                  <a:lnTo>
                    <a:pt x="531" y="76"/>
                  </a:lnTo>
                  <a:lnTo>
                    <a:pt x="587" y="66"/>
                  </a:lnTo>
                  <a:lnTo>
                    <a:pt x="643" y="57"/>
                  </a:lnTo>
                  <a:lnTo>
                    <a:pt x="703" y="48"/>
                  </a:lnTo>
                  <a:lnTo>
                    <a:pt x="764" y="40"/>
                  </a:lnTo>
                  <a:lnTo>
                    <a:pt x="827" y="33"/>
                  </a:lnTo>
                  <a:lnTo>
                    <a:pt x="892" y="26"/>
                  </a:lnTo>
                  <a:lnTo>
                    <a:pt x="958" y="21"/>
                  </a:lnTo>
                  <a:lnTo>
                    <a:pt x="1025" y="15"/>
                  </a:lnTo>
                  <a:lnTo>
                    <a:pt x="1095" y="11"/>
                  </a:lnTo>
                  <a:lnTo>
                    <a:pt x="1166" y="6"/>
                  </a:lnTo>
                  <a:lnTo>
                    <a:pt x="1237" y="4"/>
                  </a:lnTo>
                  <a:lnTo>
                    <a:pt x="1310" y="2"/>
                  </a:lnTo>
                  <a:lnTo>
                    <a:pt x="1385" y="0"/>
                  </a:lnTo>
                  <a:lnTo>
                    <a:pt x="1459" y="0"/>
                  </a:lnTo>
                  <a:lnTo>
                    <a:pt x="1534" y="0"/>
                  </a:lnTo>
                  <a:lnTo>
                    <a:pt x="1609" y="2"/>
                  </a:lnTo>
                  <a:lnTo>
                    <a:pt x="1682" y="4"/>
                  </a:lnTo>
                  <a:lnTo>
                    <a:pt x="1753" y="6"/>
                  </a:lnTo>
                  <a:lnTo>
                    <a:pt x="1824" y="11"/>
                  </a:lnTo>
                  <a:lnTo>
                    <a:pt x="1894" y="15"/>
                  </a:lnTo>
                  <a:lnTo>
                    <a:pt x="1961" y="21"/>
                  </a:lnTo>
                  <a:lnTo>
                    <a:pt x="2027" y="26"/>
                  </a:lnTo>
                  <a:lnTo>
                    <a:pt x="2092" y="33"/>
                  </a:lnTo>
                  <a:lnTo>
                    <a:pt x="2155" y="40"/>
                  </a:lnTo>
                  <a:lnTo>
                    <a:pt x="2216" y="48"/>
                  </a:lnTo>
                  <a:lnTo>
                    <a:pt x="2275" y="57"/>
                  </a:lnTo>
                  <a:lnTo>
                    <a:pt x="2332" y="66"/>
                  </a:lnTo>
                  <a:lnTo>
                    <a:pt x="2388" y="76"/>
                  </a:lnTo>
                  <a:lnTo>
                    <a:pt x="2440" y="86"/>
                  </a:lnTo>
                  <a:lnTo>
                    <a:pt x="2492" y="97"/>
                  </a:lnTo>
                  <a:lnTo>
                    <a:pt x="2539" y="109"/>
                  </a:lnTo>
                  <a:lnTo>
                    <a:pt x="2586" y="122"/>
                  </a:lnTo>
                  <a:lnTo>
                    <a:pt x="2629" y="135"/>
                  </a:lnTo>
                  <a:lnTo>
                    <a:pt x="2669" y="148"/>
                  </a:lnTo>
                  <a:lnTo>
                    <a:pt x="2708" y="162"/>
                  </a:lnTo>
                  <a:lnTo>
                    <a:pt x="2742" y="176"/>
                  </a:lnTo>
                  <a:lnTo>
                    <a:pt x="2774" y="191"/>
                  </a:lnTo>
                  <a:lnTo>
                    <a:pt x="2804" y="206"/>
                  </a:lnTo>
                  <a:lnTo>
                    <a:pt x="2830" y="223"/>
                  </a:lnTo>
                  <a:lnTo>
                    <a:pt x="2853" y="239"/>
                  </a:lnTo>
                  <a:lnTo>
                    <a:pt x="2872" y="256"/>
                  </a:lnTo>
                  <a:lnTo>
                    <a:pt x="2889" y="273"/>
                  </a:lnTo>
                  <a:lnTo>
                    <a:pt x="2902" y="290"/>
                  </a:lnTo>
                  <a:lnTo>
                    <a:pt x="2911" y="308"/>
                  </a:lnTo>
                  <a:lnTo>
                    <a:pt x="2917" y="326"/>
                  </a:lnTo>
                  <a:lnTo>
                    <a:pt x="2919" y="345"/>
                  </a:lnTo>
                  <a:close/>
                </a:path>
              </a:pathLst>
            </a:custGeom>
            <a:solidFill>
              <a:srgbClr val="fb5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129040" y="6536160"/>
              <a:ext cx="321840" cy="83880"/>
            </a:xfrm>
            <a:custGeom>
              <a:avLst/>
              <a:gdLst/>
              <a:ahLst/>
              <a:rect l="l" t="t" r="r" b="b"/>
              <a:pathLst>
                <a:path w="2915" h="705">
                  <a:moveTo>
                    <a:pt x="2915" y="344"/>
                  </a:moveTo>
                  <a:lnTo>
                    <a:pt x="2913" y="363"/>
                  </a:lnTo>
                  <a:lnTo>
                    <a:pt x="2908" y="381"/>
                  </a:lnTo>
                  <a:lnTo>
                    <a:pt x="2899" y="399"/>
                  </a:lnTo>
                  <a:lnTo>
                    <a:pt x="2886" y="416"/>
                  </a:lnTo>
                  <a:lnTo>
                    <a:pt x="2869" y="435"/>
                  </a:lnTo>
                  <a:lnTo>
                    <a:pt x="2849" y="452"/>
                  </a:lnTo>
                  <a:lnTo>
                    <a:pt x="2827" y="468"/>
                  </a:lnTo>
                  <a:lnTo>
                    <a:pt x="2801" y="485"/>
                  </a:lnTo>
                  <a:lnTo>
                    <a:pt x="2771" y="500"/>
                  </a:lnTo>
                  <a:lnTo>
                    <a:pt x="2739" y="516"/>
                  </a:lnTo>
                  <a:lnTo>
                    <a:pt x="2704" y="531"/>
                  </a:lnTo>
                  <a:lnTo>
                    <a:pt x="2666" y="546"/>
                  </a:lnTo>
                  <a:lnTo>
                    <a:pt x="2626" y="560"/>
                  </a:lnTo>
                  <a:lnTo>
                    <a:pt x="2583" y="574"/>
                  </a:lnTo>
                  <a:lnTo>
                    <a:pt x="2536" y="587"/>
                  </a:lnTo>
                  <a:lnTo>
                    <a:pt x="2489" y="599"/>
                  </a:lnTo>
                  <a:lnTo>
                    <a:pt x="2437" y="611"/>
                  </a:lnTo>
                  <a:lnTo>
                    <a:pt x="2385" y="622"/>
                  </a:lnTo>
                  <a:lnTo>
                    <a:pt x="2330" y="633"/>
                  </a:lnTo>
                  <a:lnTo>
                    <a:pt x="2272" y="643"/>
                  </a:lnTo>
                  <a:lnTo>
                    <a:pt x="2213" y="653"/>
                  </a:lnTo>
                  <a:lnTo>
                    <a:pt x="2152" y="662"/>
                  </a:lnTo>
                  <a:lnTo>
                    <a:pt x="2090" y="670"/>
                  </a:lnTo>
                  <a:lnTo>
                    <a:pt x="2025" y="677"/>
                  </a:lnTo>
                  <a:lnTo>
                    <a:pt x="1958" y="683"/>
                  </a:lnTo>
                  <a:lnTo>
                    <a:pt x="1891" y="689"/>
                  </a:lnTo>
                  <a:lnTo>
                    <a:pt x="1822" y="694"/>
                  </a:lnTo>
                  <a:lnTo>
                    <a:pt x="1751" y="698"/>
                  </a:lnTo>
                  <a:lnTo>
                    <a:pt x="1680" y="701"/>
                  </a:lnTo>
                  <a:lnTo>
                    <a:pt x="1607" y="703"/>
                  </a:lnTo>
                  <a:lnTo>
                    <a:pt x="1532" y="705"/>
                  </a:lnTo>
                  <a:lnTo>
                    <a:pt x="1457" y="705"/>
                  </a:lnTo>
                  <a:lnTo>
                    <a:pt x="1383" y="705"/>
                  </a:lnTo>
                  <a:lnTo>
                    <a:pt x="1308" y="703"/>
                  </a:lnTo>
                  <a:lnTo>
                    <a:pt x="1235" y="701"/>
                  </a:lnTo>
                  <a:lnTo>
                    <a:pt x="1164" y="698"/>
                  </a:lnTo>
                  <a:lnTo>
                    <a:pt x="1093" y="694"/>
                  </a:lnTo>
                  <a:lnTo>
                    <a:pt x="1024" y="689"/>
                  </a:lnTo>
                  <a:lnTo>
                    <a:pt x="957" y="683"/>
                  </a:lnTo>
                  <a:lnTo>
                    <a:pt x="890" y="677"/>
                  </a:lnTo>
                  <a:lnTo>
                    <a:pt x="825" y="670"/>
                  </a:lnTo>
                  <a:lnTo>
                    <a:pt x="763" y="662"/>
                  </a:lnTo>
                  <a:lnTo>
                    <a:pt x="702" y="653"/>
                  </a:lnTo>
                  <a:lnTo>
                    <a:pt x="642" y="643"/>
                  </a:lnTo>
                  <a:lnTo>
                    <a:pt x="586" y="633"/>
                  </a:lnTo>
                  <a:lnTo>
                    <a:pt x="530" y="622"/>
                  </a:lnTo>
                  <a:lnTo>
                    <a:pt x="478" y="611"/>
                  </a:lnTo>
                  <a:lnTo>
                    <a:pt x="427" y="599"/>
                  </a:lnTo>
                  <a:lnTo>
                    <a:pt x="379" y="587"/>
                  </a:lnTo>
                  <a:lnTo>
                    <a:pt x="332" y="574"/>
                  </a:lnTo>
                  <a:lnTo>
                    <a:pt x="290" y="560"/>
                  </a:lnTo>
                  <a:lnTo>
                    <a:pt x="249" y="546"/>
                  </a:lnTo>
                  <a:lnTo>
                    <a:pt x="211" y="531"/>
                  </a:lnTo>
                  <a:lnTo>
                    <a:pt x="176" y="516"/>
                  </a:lnTo>
                  <a:lnTo>
                    <a:pt x="144" y="500"/>
                  </a:lnTo>
                  <a:lnTo>
                    <a:pt x="114" y="485"/>
                  </a:lnTo>
                  <a:lnTo>
                    <a:pt x="88" y="468"/>
                  </a:lnTo>
                  <a:lnTo>
                    <a:pt x="66" y="452"/>
                  </a:lnTo>
                  <a:lnTo>
                    <a:pt x="46" y="435"/>
                  </a:lnTo>
                  <a:lnTo>
                    <a:pt x="29" y="416"/>
                  </a:lnTo>
                  <a:lnTo>
                    <a:pt x="17" y="399"/>
                  </a:lnTo>
                  <a:lnTo>
                    <a:pt x="7" y="381"/>
                  </a:lnTo>
                  <a:lnTo>
                    <a:pt x="2" y="363"/>
                  </a:lnTo>
                  <a:lnTo>
                    <a:pt x="0" y="344"/>
                  </a:lnTo>
                  <a:lnTo>
                    <a:pt x="2" y="325"/>
                  </a:lnTo>
                  <a:lnTo>
                    <a:pt x="7" y="307"/>
                  </a:lnTo>
                  <a:lnTo>
                    <a:pt x="17" y="289"/>
                  </a:lnTo>
                  <a:lnTo>
                    <a:pt x="29" y="272"/>
                  </a:lnTo>
                  <a:lnTo>
                    <a:pt x="46" y="255"/>
                  </a:lnTo>
                  <a:lnTo>
                    <a:pt x="66" y="238"/>
                  </a:lnTo>
                  <a:lnTo>
                    <a:pt x="88" y="222"/>
                  </a:lnTo>
                  <a:lnTo>
                    <a:pt x="114" y="206"/>
                  </a:lnTo>
                  <a:lnTo>
                    <a:pt x="144" y="190"/>
                  </a:lnTo>
                  <a:lnTo>
                    <a:pt x="176" y="176"/>
                  </a:lnTo>
                  <a:lnTo>
                    <a:pt x="211" y="161"/>
                  </a:lnTo>
                  <a:lnTo>
                    <a:pt x="249" y="148"/>
                  </a:lnTo>
                  <a:lnTo>
                    <a:pt x="290" y="134"/>
                  </a:lnTo>
                  <a:lnTo>
                    <a:pt x="332" y="122"/>
                  </a:lnTo>
                  <a:lnTo>
                    <a:pt x="379" y="109"/>
                  </a:lnTo>
                  <a:lnTo>
                    <a:pt x="427" y="97"/>
                  </a:lnTo>
                  <a:lnTo>
                    <a:pt x="478" y="86"/>
                  </a:lnTo>
                  <a:lnTo>
                    <a:pt x="530" y="75"/>
                  </a:lnTo>
                  <a:lnTo>
                    <a:pt x="586" y="66"/>
                  </a:lnTo>
                  <a:lnTo>
                    <a:pt x="642" y="56"/>
                  </a:lnTo>
                  <a:lnTo>
                    <a:pt x="702" y="48"/>
                  </a:lnTo>
                  <a:lnTo>
                    <a:pt x="763" y="40"/>
                  </a:lnTo>
                  <a:lnTo>
                    <a:pt x="825" y="33"/>
                  </a:lnTo>
                  <a:lnTo>
                    <a:pt x="890" y="26"/>
                  </a:lnTo>
                  <a:lnTo>
                    <a:pt x="957" y="20"/>
                  </a:lnTo>
                  <a:lnTo>
                    <a:pt x="1024" y="15"/>
                  </a:lnTo>
                  <a:lnTo>
                    <a:pt x="1093" y="11"/>
                  </a:lnTo>
                  <a:lnTo>
                    <a:pt x="1164" y="7"/>
                  </a:lnTo>
                  <a:lnTo>
                    <a:pt x="1235" y="4"/>
                  </a:lnTo>
                  <a:lnTo>
                    <a:pt x="1308" y="2"/>
                  </a:lnTo>
                  <a:lnTo>
                    <a:pt x="1383" y="0"/>
                  </a:lnTo>
                  <a:lnTo>
                    <a:pt x="1457" y="0"/>
                  </a:lnTo>
                  <a:lnTo>
                    <a:pt x="1532" y="0"/>
                  </a:lnTo>
                  <a:lnTo>
                    <a:pt x="1607" y="2"/>
                  </a:lnTo>
                  <a:lnTo>
                    <a:pt x="1680" y="4"/>
                  </a:lnTo>
                  <a:lnTo>
                    <a:pt x="1751" y="7"/>
                  </a:lnTo>
                  <a:lnTo>
                    <a:pt x="1822" y="11"/>
                  </a:lnTo>
                  <a:lnTo>
                    <a:pt x="1891" y="15"/>
                  </a:lnTo>
                  <a:lnTo>
                    <a:pt x="1958" y="20"/>
                  </a:lnTo>
                  <a:lnTo>
                    <a:pt x="2025" y="26"/>
                  </a:lnTo>
                  <a:lnTo>
                    <a:pt x="2090" y="33"/>
                  </a:lnTo>
                  <a:lnTo>
                    <a:pt x="2152" y="40"/>
                  </a:lnTo>
                  <a:lnTo>
                    <a:pt x="2213" y="48"/>
                  </a:lnTo>
                  <a:lnTo>
                    <a:pt x="2272" y="56"/>
                  </a:lnTo>
                  <a:lnTo>
                    <a:pt x="2330" y="66"/>
                  </a:lnTo>
                  <a:lnTo>
                    <a:pt x="2385" y="75"/>
                  </a:lnTo>
                  <a:lnTo>
                    <a:pt x="2437" y="86"/>
                  </a:lnTo>
                  <a:lnTo>
                    <a:pt x="2489" y="97"/>
                  </a:lnTo>
                  <a:lnTo>
                    <a:pt x="2536" y="109"/>
                  </a:lnTo>
                  <a:lnTo>
                    <a:pt x="2583" y="122"/>
                  </a:lnTo>
                  <a:lnTo>
                    <a:pt x="2626" y="134"/>
                  </a:lnTo>
                  <a:lnTo>
                    <a:pt x="2666" y="148"/>
                  </a:lnTo>
                  <a:lnTo>
                    <a:pt x="2704" y="161"/>
                  </a:lnTo>
                  <a:lnTo>
                    <a:pt x="2739" y="176"/>
                  </a:lnTo>
                  <a:lnTo>
                    <a:pt x="2771" y="190"/>
                  </a:lnTo>
                  <a:lnTo>
                    <a:pt x="2801" y="206"/>
                  </a:lnTo>
                  <a:lnTo>
                    <a:pt x="2827" y="222"/>
                  </a:lnTo>
                  <a:lnTo>
                    <a:pt x="2849" y="238"/>
                  </a:lnTo>
                  <a:lnTo>
                    <a:pt x="2869" y="255"/>
                  </a:lnTo>
                  <a:lnTo>
                    <a:pt x="2886" y="272"/>
                  </a:lnTo>
                  <a:lnTo>
                    <a:pt x="2899" y="289"/>
                  </a:lnTo>
                  <a:lnTo>
                    <a:pt x="2908" y="307"/>
                  </a:lnTo>
                  <a:lnTo>
                    <a:pt x="2913" y="325"/>
                  </a:lnTo>
                  <a:lnTo>
                    <a:pt x="2915" y="344"/>
                  </a:lnTo>
                  <a:close/>
                </a:path>
              </a:pathLst>
            </a:custGeom>
            <a:solidFill>
              <a:srgbClr val="fb5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130120" y="6536160"/>
              <a:ext cx="320760" cy="83880"/>
            </a:xfrm>
            <a:custGeom>
              <a:avLst/>
              <a:gdLst/>
              <a:ahLst/>
              <a:rect l="l" t="t" r="r" b="b"/>
              <a:pathLst>
                <a:path w="2913" h="703">
                  <a:moveTo>
                    <a:pt x="2913" y="343"/>
                  </a:moveTo>
                  <a:lnTo>
                    <a:pt x="2911" y="362"/>
                  </a:lnTo>
                  <a:lnTo>
                    <a:pt x="2905" y="380"/>
                  </a:lnTo>
                  <a:lnTo>
                    <a:pt x="2896" y="398"/>
                  </a:lnTo>
                  <a:lnTo>
                    <a:pt x="2884" y="415"/>
                  </a:lnTo>
                  <a:lnTo>
                    <a:pt x="2866" y="432"/>
                  </a:lnTo>
                  <a:lnTo>
                    <a:pt x="2847" y="450"/>
                  </a:lnTo>
                  <a:lnTo>
                    <a:pt x="2824" y="467"/>
                  </a:lnTo>
                  <a:lnTo>
                    <a:pt x="2799" y="483"/>
                  </a:lnTo>
                  <a:lnTo>
                    <a:pt x="2769" y="499"/>
                  </a:lnTo>
                  <a:lnTo>
                    <a:pt x="2737" y="514"/>
                  </a:lnTo>
                  <a:lnTo>
                    <a:pt x="2702" y="529"/>
                  </a:lnTo>
                  <a:lnTo>
                    <a:pt x="2664" y="545"/>
                  </a:lnTo>
                  <a:lnTo>
                    <a:pt x="2623" y="559"/>
                  </a:lnTo>
                  <a:lnTo>
                    <a:pt x="2581" y="572"/>
                  </a:lnTo>
                  <a:lnTo>
                    <a:pt x="2534" y="585"/>
                  </a:lnTo>
                  <a:lnTo>
                    <a:pt x="2487" y="598"/>
                  </a:lnTo>
                  <a:lnTo>
                    <a:pt x="2436" y="609"/>
                  </a:lnTo>
                  <a:lnTo>
                    <a:pt x="2383" y="621"/>
                  </a:lnTo>
                  <a:lnTo>
                    <a:pt x="2328" y="631"/>
                  </a:lnTo>
                  <a:lnTo>
                    <a:pt x="2270" y="641"/>
                  </a:lnTo>
                  <a:lnTo>
                    <a:pt x="2212" y="652"/>
                  </a:lnTo>
                  <a:lnTo>
                    <a:pt x="2150" y="660"/>
                  </a:lnTo>
                  <a:lnTo>
                    <a:pt x="2088" y="668"/>
                  </a:lnTo>
                  <a:lnTo>
                    <a:pt x="2023" y="675"/>
                  </a:lnTo>
                  <a:lnTo>
                    <a:pt x="1957" y="682"/>
                  </a:lnTo>
                  <a:lnTo>
                    <a:pt x="1890" y="687"/>
                  </a:lnTo>
                  <a:lnTo>
                    <a:pt x="1820" y="692"/>
                  </a:lnTo>
                  <a:lnTo>
                    <a:pt x="1750" y="696"/>
                  </a:lnTo>
                  <a:lnTo>
                    <a:pt x="1679" y="699"/>
                  </a:lnTo>
                  <a:lnTo>
                    <a:pt x="1605" y="701"/>
                  </a:lnTo>
                  <a:lnTo>
                    <a:pt x="1531" y="703"/>
                  </a:lnTo>
                  <a:lnTo>
                    <a:pt x="1456" y="703"/>
                  </a:lnTo>
                  <a:lnTo>
                    <a:pt x="1382" y="703"/>
                  </a:lnTo>
                  <a:lnTo>
                    <a:pt x="1308" y="701"/>
                  </a:lnTo>
                  <a:lnTo>
                    <a:pt x="1234" y="699"/>
                  </a:lnTo>
                  <a:lnTo>
                    <a:pt x="1164" y="696"/>
                  </a:lnTo>
                  <a:lnTo>
                    <a:pt x="1093" y="692"/>
                  </a:lnTo>
                  <a:lnTo>
                    <a:pt x="1023" y="687"/>
                  </a:lnTo>
                  <a:lnTo>
                    <a:pt x="956" y="682"/>
                  </a:lnTo>
                  <a:lnTo>
                    <a:pt x="890" y="675"/>
                  </a:lnTo>
                  <a:lnTo>
                    <a:pt x="825" y="668"/>
                  </a:lnTo>
                  <a:lnTo>
                    <a:pt x="763" y="660"/>
                  </a:lnTo>
                  <a:lnTo>
                    <a:pt x="701" y="652"/>
                  </a:lnTo>
                  <a:lnTo>
                    <a:pt x="642" y="641"/>
                  </a:lnTo>
                  <a:lnTo>
                    <a:pt x="585" y="631"/>
                  </a:lnTo>
                  <a:lnTo>
                    <a:pt x="530" y="621"/>
                  </a:lnTo>
                  <a:lnTo>
                    <a:pt x="478" y="609"/>
                  </a:lnTo>
                  <a:lnTo>
                    <a:pt x="427" y="598"/>
                  </a:lnTo>
                  <a:lnTo>
                    <a:pt x="379" y="585"/>
                  </a:lnTo>
                  <a:lnTo>
                    <a:pt x="333" y="572"/>
                  </a:lnTo>
                  <a:lnTo>
                    <a:pt x="290" y="559"/>
                  </a:lnTo>
                  <a:lnTo>
                    <a:pt x="250" y="545"/>
                  </a:lnTo>
                  <a:lnTo>
                    <a:pt x="211" y="529"/>
                  </a:lnTo>
                  <a:lnTo>
                    <a:pt x="176" y="514"/>
                  </a:lnTo>
                  <a:lnTo>
                    <a:pt x="144" y="499"/>
                  </a:lnTo>
                  <a:lnTo>
                    <a:pt x="115" y="483"/>
                  </a:lnTo>
                  <a:lnTo>
                    <a:pt x="89" y="467"/>
                  </a:lnTo>
                  <a:lnTo>
                    <a:pt x="66" y="450"/>
                  </a:lnTo>
                  <a:lnTo>
                    <a:pt x="47" y="432"/>
                  </a:lnTo>
                  <a:lnTo>
                    <a:pt x="30" y="415"/>
                  </a:lnTo>
                  <a:lnTo>
                    <a:pt x="17" y="398"/>
                  </a:lnTo>
                  <a:lnTo>
                    <a:pt x="8" y="380"/>
                  </a:lnTo>
                  <a:lnTo>
                    <a:pt x="2" y="362"/>
                  </a:lnTo>
                  <a:lnTo>
                    <a:pt x="0" y="343"/>
                  </a:lnTo>
                  <a:lnTo>
                    <a:pt x="2" y="324"/>
                  </a:lnTo>
                  <a:lnTo>
                    <a:pt x="8" y="306"/>
                  </a:lnTo>
                  <a:lnTo>
                    <a:pt x="17" y="288"/>
                  </a:lnTo>
                  <a:lnTo>
                    <a:pt x="30" y="271"/>
                  </a:lnTo>
                  <a:lnTo>
                    <a:pt x="47" y="254"/>
                  </a:lnTo>
                  <a:lnTo>
                    <a:pt x="66" y="238"/>
                  </a:lnTo>
                  <a:lnTo>
                    <a:pt x="89" y="222"/>
                  </a:lnTo>
                  <a:lnTo>
                    <a:pt x="115" y="205"/>
                  </a:lnTo>
                  <a:lnTo>
                    <a:pt x="144" y="190"/>
                  </a:lnTo>
                  <a:lnTo>
                    <a:pt x="176" y="175"/>
                  </a:lnTo>
                  <a:lnTo>
                    <a:pt x="211" y="161"/>
                  </a:lnTo>
                  <a:lnTo>
                    <a:pt x="250" y="147"/>
                  </a:lnTo>
                  <a:lnTo>
                    <a:pt x="290" y="134"/>
                  </a:lnTo>
                  <a:lnTo>
                    <a:pt x="333" y="121"/>
                  </a:lnTo>
                  <a:lnTo>
                    <a:pt x="379" y="108"/>
                  </a:lnTo>
                  <a:lnTo>
                    <a:pt x="427" y="97"/>
                  </a:lnTo>
                  <a:lnTo>
                    <a:pt x="478" y="86"/>
                  </a:lnTo>
                  <a:lnTo>
                    <a:pt x="530" y="75"/>
                  </a:lnTo>
                  <a:lnTo>
                    <a:pt x="585" y="65"/>
                  </a:lnTo>
                  <a:lnTo>
                    <a:pt x="642" y="56"/>
                  </a:lnTo>
                  <a:lnTo>
                    <a:pt x="701" y="48"/>
                  </a:lnTo>
                  <a:lnTo>
                    <a:pt x="763" y="40"/>
                  </a:lnTo>
                  <a:lnTo>
                    <a:pt x="825" y="33"/>
                  </a:lnTo>
                  <a:lnTo>
                    <a:pt x="890" y="26"/>
                  </a:lnTo>
                  <a:lnTo>
                    <a:pt x="956" y="20"/>
                  </a:lnTo>
                  <a:lnTo>
                    <a:pt x="1023" y="15"/>
                  </a:lnTo>
                  <a:lnTo>
                    <a:pt x="1093" y="11"/>
                  </a:lnTo>
                  <a:lnTo>
                    <a:pt x="1164" y="7"/>
                  </a:lnTo>
                  <a:lnTo>
                    <a:pt x="1234" y="3"/>
                  </a:lnTo>
                  <a:lnTo>
                    <a:pt x="1308" y="1"/>
                  </a:lnTo>
                  <a:lnTo>
                    <a:pt x="1382" y="0"/>
                  </a:lnTo>
                  <a:lnTo>
                    <a:pt x="1456" y="0"/>
                  </a:lnTo>
                  <a:lnTo>
                    <a:pt x="1531" y="0"/>
                  </a:lnTo>
                  <a:lnTo>
                    <a:pt x="1605" y="1"/>
                  </a:lnTo>
                  <a:lnTo>
                    <a:pt x="1679" y="3"/>
                  </a:lnTo>
                  <a:lnTo>
                    <a:pt x="1750" y="7"/>
                  </a:lnTo>
                  <a:lnTo>
                    <a:pt x="1820" y="11"/>
                  </a:lnTo>
                  <a:lnTo>
                    <a:pt x="1890" y="15"/>
                  </a:lnTo>
                  <a:lnTo>
                    <a:pt x="1957" y="20"/>
                  </a:lnTo>
                  <a:lnTo>
                    <a:pt x="2023" y="26"/>
                  </a:lnTo>
                  <a:lnTo>
                    <a:pt x="2088" y="33"/>
                  </a:lnTo>
                  <a:lnTo>
                    <a:pt x="2150" y="40"/>
                  </a:lnTo>
                  <a:lnTo>
                    <a:pt x="2212" y="48"/>
                  </a:lnTo>
                  <a:lnTo>
                    <a:pt x="2270" y="56"/>
                  </a:lnTo>
                  <a:lnTo>
                    <a:pt x="2328" y="65"/>
                  </a:lnTo>
                  <a:lnTo>
                    <a:pt x="2383" y="75"/>
                  </a:lnTo>
                  <a:lnTo>
                    <a:pt x="2436" y="86"/>
                  </a:lnTo>
                  <a:lnTo>
                    <a:pt x="2487" y="97"/>
                  </a:lnTo>
                  <a:lnTo>
                    <a:pt x="2534" y="108"/>
                  </a:lnTo>
                  <a:lnTo>
                    <a:pt x="2581" y="121"/>
                  </a:lnTo>
                  <a:lnTo>
                    <a:pt x="2623" y="134"/>
                  </a:lnTo>
                  <a:lnTo>
                    <a:pt x="2664" y="147"/>
                  </a:lnTo>
                  <a:lnTo>
                    <a:pt x="2702" y="161"/>
                  </a:lnTo>
                  <a:lnTo>
                    <a:pt x="2737" y="175"/>
                  </a:lnTo>
                  <a:lnTo>
                    <a:pt x="2769" y="190"/>
                  </a:lnTo>
                  <a:lnTo>
                    <a:pt x="2799" y="205"/>
                  </a:lnTo>
                  <a:lnTo>
                    <a:pt x="2824" y="222"/>
                  </a:lnTo>
                  <a:lnTo>
                    <a:pt x="2847" y="238"/>
                  </a:lnTo>
                  <a:lnTo>
                    <a:pt x="2866" y="254"/>
                  </a:lnTo>
                  <a:lnTo>
                    <a:pt x="2884" y="271"/>
                  </a:lnTo>
                  <a:lnTo>
                    <a:pt x="2896" y="288"/>
                  </a:lnTo>
                  <a:lnTo>
                    <a:pt x="2905" y="306"/>
                  </a:lnTo>
                  <a:lnTo>
                    <a:pt x="2911" y="324"/>
                  </a:lnTo>
                  <a:lnTo>
                    <a:pt x="2913" y="343"/>
                  </a:lnTo>
                  <a:close/>
                </a:path>
              </a:pathLst>
            </a:custGeom>
            <a:solidFill>
              <a:srgbClr val="fb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130120" y="6536160"/>
              <a:ext cx="320760" cy="83880"/>
            </a:xfrm>
            <a:custGeom>
              <a:avLst/>
              <a:gdLst/>
              <a:ahLst/>
              <a:rect l="l" t="t" r="r" b="b"/>
              <a:pathLst>
                <a:path w="2909" h="701">
                  <a:moveTo>
                    <a:pt x="2909" y="342"/>
                  </a:moveTo>
                  <a:lnTo>
                    <a:pt x="2908" y="361"/>
                  </a:lnTo>
                  <a:lnTo>
                    <a:pt x="2902" y="379"/>
                  </a:lnTo>
                  <a:lnTo>
                    <a:pt x="2893" y="397"/>
                  </a:lnTo>
                  <a:lnTo>
                    <a:pt x="2879" y="414"/>
                  </a:lnTo>
                  <a:lnTo>
                    <a:pt x="2863" y="431"/>
                  </a:lnTo>
                  <a:lnTo>
                    <a:pt x="2844" y="449"/>
                  </a:lnTo>
                  <a:lnTo>
                    <a:pt x="2821" y="466"/>
                  </a:lnTo>
                  <a:lnTo>
                    <a:pt x="2795" y="482"/>
                  </a:lnTo>
                  <a:lnTo>
                    <a:pt x="2765" y="498"/>
                  </a:lnTo>
                  <a:lnTo>
                    <a:pt x="2734" y="513"/>
                  </a:lnTo>
                  <a:lnTo>
                    <a:pt x="2699" y="528"/>
                  </a:lnTo>
                  <a:lnTo>
                    <a:pt x="2660" y="543"/>
                  </a:lnTo>
                  <a:lnTo>
                    <a:pt x="2620" y="557"/>
                  </a:lnTo>
                  <a:lnTo>
                    <a:pt x="2578" y="571"/>
                  </a:lnTo>
                  <a:lnTo>
                    <a:pt x="2531" y="584"/>
                  </a:lnTo>
                  <a:lnTo>
                    <a:pt x="2484" y="596"/>
                  </a:lnTo>
                  <a:lnTo>
                    <a:pt x="2433" y="608"/>
                  </a:lnTo>
                  <a:lnTo>
                    <a:pt x="2380" y="619"/>
                  </a:lnTo>
                  <a:lnTo>
                    <a:pt x="2325" y="630"/>
                  </a:lnTo>
                  <a:lnTo>
                    <a:pt x="2267" y="639"/>
                  </a:lnTo>
                  <a:lnTo>
                    <a:pt x="2209" y="650"/>
                  </a:lnTo>
                  <a:lnTo>
                    <a:pt x="2148" y="658"/>
                  </a:lnTo>
                  <a:lnTo>
                    <a:pt x="2086" y="666"/>
                  </a:lnTo>
                  <a:lnTo>
                    <a:pt x="2021" y="673"/>
                  </a:lnTo>
                  <a:lnTo>
                    <a:pt x="1954" y="680"/>
                  </a:lnTo>
                  <a:lnTo>
                    <a:pt x="1887" y="685"/>
                  </a:lnTo>
                  <a:lnTo>
                    <a:pt x="1818" y="690"/>
                  </a:lnTo>
                  <a:lnTo>
                    <a:pt x="1747" y="694"/>
                  </a:lnTo>
                  <a:lnTo>
                    <a:pt x="1676" y="697"/>
                  </a:lnTo>
                  <a:lnTo>
                    <a:pt x="1603" y="699"/>
                  </a:lnTo>
                  <a:lnTo>
                    <a:pt x="1529" y="701"/>
                  </a:lnTo>
                  <a:lnTo>
                    <a:pt x="1454" y="701"/>
                  </a:lnTo>
                  <a:lnTo>
                    <a:pt x="1380" y="701"/>
                  </a:lnTo>
                  <a:lnTo>
                    <a:pt x="1306" y="699"/>
                  </a:lnTo>
                  <a:lnTo>
                    <a:pt x="1233" y="697"/>
                  </a:lnTo>
                  <a:lnTo>
                    <a:pt x="1162" y="694"/>
                  </a:lnTo>
                  <a:lnTo>
                    <a:pt x="1091" y="690"/>
                  </a:lnTo>
                  <a:lnTo>
                    <a:pt x="1022" y="685"/>
                  </a:lnTo>
                  <a:lnTo>
                    <a:pt x="955" y="680"/>
                  </a:lnTo>
                  <a:lnTo>
                    <a:pt x="888" y="673"/>
                  </a:lnTo>
                  <a:lnTo>
                    <a:pt x="824" y="666"/>
                  </a:lnTo>
                  <a:lnTo>
                    <a:pt x="762" y="658"/>
                  </a:lnTo>
                  <a:lnTo>
                    <a:pt x="700" y="650"/>
                  </a:lnTo>
                  <a:lnTo>
                    <a:pt x="641" y="639"/>
                  </a:lnTo>
                  <a:lnTo>
                    <a:pt x="584" y="630"/>
                  </a:lnTo>
                  <a:lnTo>
                    <a:pt x="529" y="619"/>
                  </a:lnTo>
                  <a:lnTo>
                    <a:pt x="477" y="608"/>
                  </a:lnTo>
                  <a:lnTo>
                    <a:pt x="426" y="596"/>
                  </a:lnTo>
                  <a:lnTo>
                    <a:pt x="378" y="584"/>
                  </a:lnTo>
                  <a:lnTo>
                    <a:pt x="332" y="571"/>
                  </a:lnTo>
                  <a:lnTo>
                    <a:pt x="289" y="557"/>
                  </a:lnTo>
                  <a:lnTo>
                    <a:pt x="249" y="543"/>
                  </a:lnTo>
                  <a:lnTo>
                    <a:pt x="210" y="528"/>
                  </a:lnTo>
                  <a:lnTo>
                    <a:pt x="176" y="513"/>
                  </a:lnTo>
                  <a:lnTo>
                    <a:pt x="144" y="498"/>
                  </a:lnTo>
                  <a:lnTo>
                    <a:pt x="114" y="482"/>
                  </a:lnTo>
                  <a:lnTo>
                    <a:pt x="88" y="466"/>
                  </a:lnTo>
                  <a:lnTo>
                    <a:pt x="65" y="449"/>
                  </a:lnTo>
                  <a:lnTo>
                    <a:pt x="46" y="431"/>
                  </a:lnTo>
                  <a:lnTo>
                    <a:pt x="29" y="414"/>
                  </a:lnTo>
                  <a:lnTo>
                    <a:pt x="16" y="397"/>
                  </a:lnTo>
                  <a:lnTo>
                    <a:pt x="7" y="379"/>
                  </a:lnTo>
                  <a:lnTo>
                    <a:pt x="2" y="361"/>
                  </a:lnTo>
                  <a:lnTo>
                    <a:pt x="0" y="342"/>
                  </a:lnTo>
                  <a:lnTo>
                    <a:pt x="2" y="323"/>
                  </a:lnTo>
                  <a:lnTo>
                    <a:pt x="7" y="305"/>
                  </a:lnTo>
                  <a:lnTo>
                    <a:pt x="16" y="287"/>
                  </a:lnTo>
                  <a:lnTo>
                    <a:pt x="29" y="270"/>
                  </a:lnTo>
                  <a:lnTo>
                    <a:pt x="46" y="253"/>
                  </a:lnTo>
                  <a:lnTo>
                    <a:pt x="65" y="237"/>
                  </a:lnTo>
                  <a:lnTo>
                    <a:pt x="88" y="221"/>
                  </a:lnTo>
                  <a:lnTo>
                    <a:pt x="114" y="204"/>
                  </a:lnTo>
                  <a:lnTo>
                    <a:pt x="144" y="189"/>
                  </a:lnTo>
                  <a:lnTo>
                    <a:pt x="176" y="175"/>
                  </a:lnTo>
                  <a:lnTo>
                    <a:pt x="210" y="160"/>
                  </a:lnTo>
                  <a:lnTo>
                    <a:pt x="249" y="147"/>
                  </a:lnTo>
                  <a:lnTo>
                    <a:pt x="289" y="134"/>
                  </a:lnTo>
                  <a:lnTo>
                    <a:pt x="332" y="121"/>
                  </a:lnTo>
                  <a:lnTo>
                    <a:pt x="378" y="108"/>
                  </a:lnTo>
                  <a:lnTo>
                    <a:pt x="426" y="96"/>
                  </a:lnTo>
                  <a:lnTo>
                    <a:pt x="477" y="85"/>
                  </a:lnTo>
                  <a:lnTo>
                    <a:pt x="529" y="75"/>
                  </a:lnTo>
                  <a:lnTo>
                    <a:pt x="584" y="65"/>
                  </a:lnTo>
                  <a:lnTo>
                    <a:pt x="641" y="56"/>
                  </a:lnTo>
                  <a:lnTo>
                    <a:pt x="700" y="47"/>
                  </a:lnTo>
                  <a:lnTo>
                    <a:pt x="762" y="40"/>
                  </a:lnTo>
                  <a:lnTo>
                    <a:pt x="824" y="32"/>
                  </a:lnTo>
                  <a:lnTo>
                    <a:pt x="888" y="26"/>
                  </a:lnTo>
                  <a:lnTo>
                    <a:pt x="955" y="20"/>
                  </a:lnTo>
                  <a:lnTo>
                    <a:pt x="1022" y="15"/>
                  </a:lnTo>
                  <a:lnTo>
                    <a:pt x="1091" y="11"/>
                  </a:lnTo>
                  <a:lnTo>
                    <a:pt x="1162" y="7"/>
                  </a:lnTo>
                  <a:lnTo>
                    <a:pt x="1233" y="3"/>
                  </a:lnTo>
                  <a:lnTo>
                    <a:pt x="1306" y="1"/>
                  </a:lnTo>
                  <a:lnTo>
                    <a:pt x="1380" y="0"/>
                  </a:lnTo>
                  <a:lnTo>
                    <a:pt x="1454" y="0"/>
                  </a:lnTo>
                  <a:lnTo>
                    <a:pt x="1529" y="0"/>
                  </a:lnTo>
                  <a:lnTo>
                    <a:pt x="1603" y="1"/>
                  </a:lnTo>
                  <a:lnTo>
                    <a:pt x="1676" y="3"/>
                  </a:lnTo>
                  <a:lnTo>
                    <a:pt x="1747" y="7"/>
                  </a:lnTo>
                  <a:lnTo>
                    <a:pt x="1818" y="11"/>
                  </a:lnTo>
                  <a:lnTo>
                    <a:pt x="1887" y="15"/>
                  </a:lnTo>
                  <a:lnTo>
                    <a:pt x="1954" y="20"/>
                  </a:lnTo>
                  <a:lnTo>
                    <a:pt x="2021" y="26"/>
                  </a:lnTo>
                  <a:lnTo>
                    <a:pt x="2086" y="32"/>
                  </a:lnTo>
                  <a:lnTo>
                    <a:pt x="2148" y="40"/>
                  </a:lnTo>
                  <a:lnTo>
                    <a:pt x="2209" y="47"/>
                  </a:lnTo>
                  <a:lnTo>
                    <a:pt x="2267" y="56"/>
                  </a:lnTo>
                  <a:lnTo>
                    <a:pt x="2325" y="65"/>
                  </a:lnTo>
                  <a:lnTo>
                    <a:pt x="2380" y="75"/>
                  </a:lnTo>
                  <a:lnTo>
                    <a:pt x="2433" y="85"/>
                  </a:lnTo>
                  <a:lnTo>
                    <a:pt x="2484" y="96"/>
                  </a:lnTo>
                  <a:lnTo>
                    <a:pt x="2531" y="108"/>
                  </a:lnTo>
                  <a:lnTo>
                    <a:pt x="2578" y="121"/>
                  </a:lnTo>
                  <a:lnTo>
                    <a:pt x="2620" y="134"/>
                  </a:lnTo>
                  <a:lnTo>
                    <a:pt x="2660" y="147"/>
                  </a:lnTo>
                  <a:lnTo>
                    <a:pt x="2699" y="160"/>
                  </a:lnTo>
                  <a:lnTo>
                    <a:pt x="2734" y="175"/>
                  </a:lnTo>
                  <a:lnTo>
                    <a:pt x="2765" y="189"/>
                  </a:lnTo>
                  <a:lnTo>
                    <a:pt x="2795" y="204"/>
                  </a:lnTo>
                  <a:lnTo>
                    <a:pt x="2821" y="221"/>
                  </a:lnTo>
                  <a:lnTo>
                    <a:pt x="2844" y="237"/>
                  </a:lnTo>
                  <a:lnTo>
                    <a:pt x="2863" y="253"/>
                  </a:lnTo>
                  <a:lnTo>
                    <a:pt x="2879" y="270"/>
                  </a:lnTo>
                  <a:lnTo>
                    <a:pt x="2893" y="287"/>
                  </a:lnTo>
                  <a:lnTo>
                    <a:pt x="2902" y="305"/>
                  </a:lnTo>
                  <a:lnTo>
                    <a:pt x="2908" y="323"/>
                  </a:lnTo>
                  <a:lnTo>
                    <a:pt x="2909" y="342"/>
                  </a:lnTo>
                  <a:close/>
                </a:path>
              </a:pathLst>
            </a:custGeom>
            <a:solidFill>
              <a:srgbClr val="fb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130120" y="6536160"/>
              <a:ext cx="320760" cy="83880"/>
            </a:xfrm>
            <a:custGeom>
              <a:avLst/>
              <a:gdLst/>
              <a:ahLst/>
              <a:rect l="l" t="t" r="r" b="b"/>
              <a:pathLst>
                <a:path w="2907" h="699">
                  <a:moveTo>
                    <a:pt x="2907" y="341"/>
                  </a:moveTo>
                  <a:lnTo>
                    <a:pt x="2905" y="360"/>
                  </a:lnTo>
                  <a:lnTo>
                    <a:pt x="2900" y="378"/>
                  </a:lnTo>
                  <a:lnTo>
                    <a:pt x="2890" y="395"/>
                  </a:lnTo>
                  <a:lnTo>
                    <a:pt x="2877" y="413"/>
                  </a:lnTo>
                  <a:lnTo>
                    <a:pt x="2861" y="430"/>
                  </a:lnTo>
                  <a:lnTo>
                    <a:pt x="2841" y="448"/>
                  </a:lnTo>
                  <a:lnTo>
                    <a:pt x="2819" y="464"/>
                  </a:lnTo>
                  <a:lnTo>
                    <a:pt x="2793" y="481"/>
                  </a:lnTo>
                  <a:lnTo>
                    <a:pt x="2763" y="496"/>
                  </a:lnTo>
                  <a:lnTo>
                    <a:pt x="2731" y="512"/>
                  </a:lnTo>
                  <a:lnTo>
                    <a:pt x="2697" y="526"/>
                  </a:lnTo>
                  <a:lnTo>
                    <a:pt x="2658" y="542"/>
                  </a:lnTo>
                  <a:lnTo>
                    <a:pt x="2618" y="556"/>
                  </a:lnTo>
                  <a:lnTo>
                    <a:pt x="2574" y="569"/>
                  </a:lnTo>
                  <a:lnTo>
                    <a:pt x="2529" y="582"/>
                  </a:lnTo>
                  <a:lnTo>
                    <a:pt x="2482" y="594"/>
                  </a:lnTo>
                  <a:lnTo>
                    <a:pt x="2431" y="606"/>
                  </a:lnTo>
                  <a:lnTo>
                    <a:pt x="2378" y="617"/>
                  </a:lnTo>
                  <a:lnTo>
                    <a:pt x="2323" y="628"/>
                  </a:lnTo>
                  <a:lnTo>
                    <a:pt x="2266" y="638"/>
                  </a:lnTo>
                  <a:lnTo>
                    <a:pt x="2207" y="648"/>
                  </a:lnTo>
                  <a:lnTo>
                    <a:pt x="2146" y="657"/>
                  </a:lnTo>
                  <a:lnTo>
                    <a:pt x="2084" y="664"/>
                  </a:lnTo>
                  <a:lnTo>
                    <a:pt x="2019" y="671"/>
                  </a:lnTo>
                  <a:lnTo>
                    <a:pt x="1953" y="678"/>
                  </a:lnTo>
                  <a:lnTo>
                    <a:pt x="1886" y="683"/>
                  </a:lnTo>
                  <a:lnTo>
                    <a:pt x="1817" y="688"/>
                  </a:lnTo>
                  <a:lnTo>
                    <a:pt x="1746" y="692"/>
                  </a:lnTo>
                  <a:lnTo>
                    <a:pt x="1675" y="695"/>
                  </a:lnTo>
                  <a:lnTo>
                    <a:pt x="1602" y="698"/>
                  </a:lnTo>
                  <a:lnTo>
                    <a:pt x="1528" y="699"/>
                  </a:lnTo>
                  <a:lnTo>
                    <a:pt x="1453" y="699"/>
                  </a:lnTo>
                  <a:lnTo>
                    <a:pt x="1379" y="699"/>
                  </a:lnTo>
                  <a:lnTo>
                    <a:pt x="1305" y="698"/>
                  </a:lnTo>
                  <a:lnTo>
                    <a:pt x="1232" y="695"/>
                  </a:lnTo>
                  <a:lnTo>
                    <a:pt x="1161" y="692"/>
                  </a:lnTo>
                  <a:lnTo>
                    <a:pt x="1090" y="688"/>
                  </a:lnTo>
                  <a:lnTo>
                    <a:pt x="1021" y="683"/>
                  </a:lnTo>
                  <a:lnTo>
                    <a:pt x="954" y="678"/>
                  </a:lnTo>
                  <a:lnTo>
                    <a:pt x="888" y="671"/>
                  </a:lnTo>
                  <a:lnTo>
                    <a:pt x="823" y="664"/>
                  </a:lnTo>
                  <a:lnTo>
                    <a:pt x="761" y="657"/>
                  </a:lnTo>
                  <a:lnTo>
                    <a:pt x="700" y="648"/>
                  </a:lnTo>
                  <a:lnTo>
                    <a:pt x="641" y="638"/>
                  </a:lnTo>
                  <a:lnTo>
                    <a:pt x="584" y="628"/>
                  </a:lnTo>
                  <a:lnTo>
                    <a:pt x="529" y="617"/>
                  </a:lnTo>
                  <a:lnTo>
                    <a:pt x="477" y="606"/>
                  </a:lnTo>
                  <a:lnTo>
                    <a:pt x="426" y="594"/>
                  </a:lnTo>
                  <a:lnTo>
                    <a:pt x="378" y="582"/>
                  </a:lnTo>
                  <a:lnTo>
                    <a:pt x="332" y="569"/>
                  </a:lnTo>
                  <a:lnTo>
                    <a:pt x="289" y="556"/>
                  </a:lnTo>
                  <a:lnTo>
                    <a:pt x="249" y="542"/>
                  </a:lnTo>
                  <a:lnTo>
                    <a:pt x="210" y="526"/>
                  </a:lnTo>
                  <a:lnTo>
                    <a:pt x="176" y="512"/>
                  </a:lnTo>
                  <a:lnTo>
                    <a:pt x="144" y="496"/>
                  </a:lnTo>
                  <a:lnTo>
                    <a:pt x="114" y="481"/>
                  </a:lnTo>
                  <a:lnTo>
                    <a:pt x="88" y="464"/>
                  </a:lnTo>
                  <a:lnTo>
                    <a:pt x="66" y="448"/>
                  </a:lnTo>
                  <a:lnTo>
                    <a:pt x="46" y="430"/>
                  </a:lnTo>
                  <a:lnTo>
                    <a:pt x="29" y="413"/>
                  </a:lnTo>
                  <a:lnTo>
                    <a:pt x="17" y="395"/>
                  </a:lnTo>
                  <a:lnTo>
                    <a:pt x="8" y="378"/>
                  </a:lnTo>
                  <a:lnTo>
                    <a:pt x="2" y="360"/>
                  </a:lnTo>
                  <a:lnTo>
                    <a:pt x="0" y="341"/>
                  </a:lnTo>
                  <a:lnTo>
                    <a:pt x="2" y="322"/>
                  </a:lnTo>
                  <a:lnTo>
                    <a:pt x="8" y="304"/>
                  </a:lnTo>
                  <a:lnTo>
                    <a:pt x="17" y="287"/>
                  </a:lnTo>
                  <a:lnTo>
                    <a:pt x="29" y="269"/>
                  </a:lnTo>
                  <a:lnTo>
                    <a:pt x="46" y="253"/>
                  </a:lnTo>
                  <a:lnTo>
                    <a:pt x="66" y="236"/>
                  </a:lnTo>
                  <a:lnTo>
                    <a:pt x="88" y="220"/>
                  </a:lnTo>
                  <a:lnTo>
                    <a:pt x="114" y="204"/>
                  </a:lnTo>
                  <a:lnTo>
                    <a:pt x="144" y="189"/>
                  </a:lnTo>
                  <a:lnTo>
                    <a:pt x="176" y="174"/>
                  </a:lnTo>
                  <a:lnTo>
                    <a:pt x="210" y="160"/>
                  </a:lnTo>
                  <a:lnTo>
                    <a:pt x="249" y="146"/>
                  </a:lnTo>
                  <a:lnTo>
                    <a:pt x="289" y="133"/>
                  </a:lnTo>
                  <a:lnTo>
                    <a:pt x="332" y="121"/>
                  </a:lnTo>
                  <a:lnTo>
                    <a:pt x="378" y="107"/>
                  </a:lnTo>
                  <a:lnTo>
                    <a:pt x="426" y="96"/>
                  </a:lnTo>
                  <a:lnTo>
                    <a:pt x="477" y="85"/>
                  </a:lnTo>
                  <a:lnTo>
                    <a:pt x="529" y="75"/>
                  </a:lnTo>
                  <a:lnTo>
                    <a:pt x="584" y="65"/>
                  </a:lnTo>
                  <a:lnTo>
                    <a:pt x="641" y="56"/>
                  </a:lnTo>
                  <a:lnTo>
                    <a:pt x="700" y="47"/>
                  </a:lnTo>
                  <a:lnTo>
                    <a:pt x="761" y="39"/>
                  </a:lnTo>
                  <a:lnTo>
                    <a:pt x="823" y="32"/>
                  </a:lnTo>
                  <a:lnTo>
                    <a:pt x="888" y="26"/>
                  </a:lnTo>
                  <a:lnTo>
                    <a:pt x="954" y="20"/>
                  </a:lnTo>
                  <a:lnTo>
                    <a:pt x="1021" y="15"/>
                  </a:lnTo>
                  <a:lnTo>
                    <a:pt x="1090" y="11"/>
                  </a:lnTo>
                  <a:lnTo>
                    <a:pt x="1161" y="7"/>
                  </a:lnTo>
                  <a:lnTo>
                    <a:pt x="1232" y="4"/>
                  </a:lnTo>
                  <a:lnTo>
                    <a:pt x="1305" y="1"/>
                  </a:lnTo>
                  <a:lnTo>
                    <a:pt x="1379" y="0"/>
                  </a:lnTo>
                  <a:lnTo>
                    <a:pt x="1453" y="0"/>
                  </a:lnTo>
                  <a:lnTo>
                    <a:pt x="1528" y="0"/>
                  </a:lnTo>
                  <a:lnTo>
                    <a:pt x="1602" y="1"/>
                  </a:lnTo>
                  <a:lnTo>
                    <a:pt x="1675" y="4"/>
                  </a:lnTo>
                  <a:lnTo>
                    <a:pt x="1746" y="7"/>
                  </a:lnTo>
                  <a:lnTo>
                    <a:pt x="1817" y="11"/>
                  </a:lnTo>
                  <a:lnTo>
                    <a:pt x="1886" y="15"/>
                  </a:lnTo>
                  <a:lnTo>
                    <a:pt x="1953" y="20"/>
                  </a:lnTo>
                  <a:lnTo>
                    <a:pt x="2019" y="26"/>
                  </a:lnTo>
                  <a:lnTo>
                    <a:pt x="2084" y="32"/>
                  </a:lnTo>
                  <a:lnTo>
                    <a:pt x="2146" y="39"/>
                  </a:lnTo>
                  <a:lnTo>
                    <a:pt x="2207" y="47"/>
                  </a:lnTo>
                  <a:lnTo>
                    <a:pt x="2266" y="56"/>
                  </a:lnTo>
                  <a:lnTo>
                    <a:pt x="2323" y="65"/>
                  </a:lnTo>
                  <a:lnTo>
                    <a:pt x="2378" y="75"/>
                  </a:lnTo>
                  <a:lnTo>
                    <a:pt x="2431" y="85"/>
                  </a:lnTo>
                  <a:lnTo>
                    <a:pt x="2482" y="96"/>
                  </a:lnTo>
                  <a:lnTo>
                    <a:pt x="2529" y="107"/>
                  </a:lnTo>
                  <a:lnTo>
                    <a:pt x="2574" y="121"/>
                  </a:lnTo>
                  <a:lnTo>
                    <a:pt x="2618" y="133"/>
                  </a:lnTo>
                  <a:lnTo>
                    <a:pt x="2658" y="146"/>
                  </a:lnTo>
                  <a:lnTo>
                    <a:pt x="2697" y="160"/>
                  </a:lnTo>
                  <a:lnTo>
                    <a:pt x="2731" y="174"/>
                  </a:lnTo>
                  <a:lnTo>
                    <a:pt x="2763" y="189"/>
                  </a:lnTo>
                  <a:lnTo>
                    <a:pt x="2793" y="204"/>
                  </a:lnTo>
                  <a:lnTo>
                    <a:pt x="2819" y="220"/>
                  </a:lnTo>
                  <a:lnTo>
                    <a:pt x="2841" y="236"/>
                  </a:lnTo>
                  <a:lnTo>
                    <a:pt x="2861" y="253"/>
                  </a:lnTo>
                  <a:lnTo>
                    <a:pt x="2877" y="269"/>
                  </a:lnTo>
                  <a:lnTo>
                    <a:pt x="2890" y="287"/>
                  </a:lnTo>
                  <a:lnTo>
                    <a:pt x="2900" y="304"/>
                  </a:lnTo>
                  <a:lnTo>
                    <a:pt x="2905" y="322"/>
                  </a:lnTo>
                  <a:lnTo>
                    <a:pt x="2907" y="341"/>
                  </a:lnTo>
                  <a:close/>
                </a:path>
              </a:pathLst>
            </a:custGeom>
            <a:solidFill>
              <a:srgbClr val="fb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30120" y="6536160"/>
              <a:ext cx="320760" cy="83880"/>
            </a:xfrm>
            <a:custGeom>
              <a:avLst/>
              <a:gdLst/>
              <a:ahLst/>
              <a:rect l="l" t="t" r="r" b="b"/>
              <a:pathLst>
                <a:path w="2904" h="697">
                  <a:moveTo>
                    <a:pt x="2904" y="340"/>
                  </a:moveTo>
                  <a:lnTo>
                    <a:pt x="2902" y="359"/>
                  </a:lnTo>
                  <a:lnTo>
                    <a:pt x="2896" y="376"/>
                  </a:lnTo>
                  <a:lnTo>
                    <a:pt x="2887" y="394"/>
                  </a:lnTo>
                  <a:lnTo>
                    <a:pt x="2873" y="412"/>
                  </a:lnTo>
                  <a:lnTo>
                    <a:pt x="2857" y="429"/>
                  </a:lnTo>
                  <a:lnTo>
                    <a:pt x="2838" y="447"/>
                  </a:lnTo>
                  <a:lnTo>
                    <a:pt x="2815" y="463"/>
                  </a:lnTo>
                  <a:lnTo>
                    <a:pt x="2790" y="479"/>
                  </a:lnTo>
                  <a:lnTo>
                    <a:pt x="2760" y="495"/>
                  </a:lnTo>
                  <a:lnTo>
                    <a:pt x="2728" y="510"/>
                  </a:lnTo>
                  <a:lnTo>
                    <a:pt x="2693" y="525"/>
                  </a:lnTo>
                  <a:lnTo>
                    <a:pt x="2655" y="540"/>
                  </a:lnTo>
                  <a:lnTo>
                    <a:pt x="2615" y="554"/>
                  </a:lnTo>
                  <a:lnTo>
                    <a:pt x="2571" y="568"/>
                  </a:lnTo>
                  <a:lnTo>
                    <a:pt x="2526" y="580"/>
                  </a:lnTo>
                  <a:lnTo>
                    <a:pt x="2479" y="593"/>
                  </a:lnTo>
                  <a:lnTo>
                    <a:pt x="2428" y="604"/>
                  </a:lnTo>
                  <a:lnTo>
                    <a:pt x="2375" y="616"/>
                  </a:lnTo>
                  <a:lnTo>
                    <a:pt x="2320" y="626"/>
                  </a:lnTo>
                  <a:lnTo>
                    <a:pt x="2263" y="636"/>
                  </a:lnTo>
                  <a:lnTo>
                    <a:pt x="2204" y="646"/>
                  </a:lnTo>
                  <a:lnTo>
                    <a:pt x="2143" y="655"/>
                  </a:lnTo>
                  <a:lnTo>
                    <a:pt x="2081" y="662"/>
                  </a:lnTo>
                  <a:lnTo>
                    <a:pt x="2017" y="670"/>
                  </a:lnTo>
                  <a:lnTo>
                    <a:pt x="1950" y="676"/>
                  </a:lnTo>
                  <a:lnTo>
                    <a:pt x="1884" y="681"/>
                  </a:lnTo>
                  <a:lnTo>
                    <a:pt x="1814" y="686"/>
                  </a:lnTo>
                  <a:lnTo>
                    <a:pt x="1744" y="690"/>
                  </a:lnTo>
                  <a:lnTo>
                    <a:pt x="1673" y="693"/>
                  </a:lnTo>
                  <a:lnTo>
                    <a:pt x="1600" y="696"/>
                  </a:lnTo>
                  <a:lnTo>
                    <a:pt x="1526" y="697"/>
                  </a:lnTo>
                  <a:lnTo>
                    <a:pt x="1451" y="697"/>
                  </a:lnTo>
                  <a:lnTo>
                    <a:pt x="1377" y="697"/>
                  </a:lnTo>
                  <a:lnTo>
                    <a:pt x="1303" y="696"/>
                  </a:lnTo>
                  <a:lnTo>
                    <a:pt x="1230" y="693"/>
                  </a:lnTo>
                  <a:lnTo>
                    <a:pt x="1159" y="690"/>
                  </a:lnTo>
                  <a:lnTo>
                    <a:pt x="1089" y="686"/>
                  </a:lnTo>
                  <a:lnTo>
                    <a:pt x="1020" y="681"/>
                  </a:lnTo>
                  <a:lnTo>
                    <a:pt x="953" y="676"/>
                  </a:lnTo>
                  <a:lnTo>
                    <a:pt x="887" y="670"/>
                  </a:lnTo>
                  <a:lnTo>
                    <a:pt x="822" y="662"/>
                  </a:lnTo>
                  <a:lnTo>
                    <a:pt x="760" y="655"/>
                  </a:lnTo>
                  <a:lnTo>
                    <a:pt x="699" y="646"/>
                  </a:lnTo>
                  <a:lnTo>
                    <a:pt x="639" y="636"/>
                  </a:lnTo>
                  <a:lnTo>
                    <a:pt x="583" y="626"/>
                  </a:lnTo>
                  <a:lnTo>
                    <a:pt x="528" y="616"/>
                  </a:lnTo>
                  <a:lnTo>
                    <a:pt x="476" y="604"/>
                  </a:lnTo>
                  <a:lnTo>
                    <a:pt x="425" y="593"/>
                  </a:lnTo>
                  <a:lnTo>
                    <a:pt x="377" y="580"/>
                  </a:lnTo>
                  <a:lnTo>
                    <a:pt x="331" y="568"/>
                  </a:lnTo>
                  <a:lnTo>
                    <a:pt x="288" y="554"/>
                  </a:lnTo>
                  <a:lnTo>
                    <a:pt x="248" y="540"/>
                  </a:lnTo>
                  <a:lnTo>
                    <a:pt x="210" y="525"/>
                  </a:lnTo>
                  <a:lnTo>
                    <a:pt x="175" y="510"/>
                  </a:lnTo>
                  <a:lnTo>
                    <a:pt x="143" y="495"/>
                  </a:lnTo>
                  <a:lnTo>
                    <a:pt x="114" y="479"/>
                  </a:lnTo>
                  <a:lnTo>
                    <a:pt x="88" y="463"/>
                  </a:lnTo>
                  <a:lnTo>
                    <a:pt x="65" y="447"/>
                  </a:lnTo>
                  <a:lnTo>
                    <a:pt x="46" y="429"/>
                  </a:lnTo>
                  <a:lnTo>
                    <a:pt x="29" y="412"/>
                  </a:lnTo>
                  <a:lnTo>
                    <a:pt x="16" y="394"/>
                  </a:lnTo>
                  <a:lnTo>
                    <a:pt x="7" y="376"/>
                  </a:lnTo>
                  <a:lnTo>
                    <a:pt x="1" y="359"/>
                  </a:lnTo>
                  <a:lnTo>
                    <a:pt x="0" y="340"/>
                  </a:lnTo>
                  <a:lnTo>
                    <a:pt x="1" y="321"/>
                  </a:lnTo>
                  <a:lnTo>
                    <a:pt x="7" y="303"/>
                  </a:lnTo>
                  <a:lnTo>
                    <a:pt x="16" y="286"/>
                  </a:lnTo>
                  <a:lnTo>
                    <a:pt x="29" y="269"/>
                  </a:lnTo>
                  <a:lnTo>
                    <a:pt x="46" y="252"/>
                  </a:lnTo>
                  <a:lnTo>
                    <a:pt x="65" y="236"/>
                  </a:lnTo>
                  <a:lnTo>
                    <a:pt x="88" y="220"/>
                  </a:lnTo>
                  <a:lnTo>
                    <a:pt x="114" y="203"/>
                  </a:lnTo>
                  <a:lnTo>
                    <a:pt x="143" y="188"/>
                  </a:lnTo>
                  <a:lnTo>
                    <a:pt x="175" y="174"/>
                  </a:lnTo>
                  <a:lnTo>
                    <a:pt x="210" y="159"/>
                  </a:lnTo>
                  <a:lnTo>
                    <a:pt x="248" y="146"/>
                  </a:lnTo>
                  <a:lnTo>
                    <a:pt x="288" y="133"/>
                  </a:lnTo>
                  <a:lnTo>
                    <a:pt x="331" y="120"/>
                  </a:lnTo>
                  <a:lnTo>
                    <a:pt x="377" y="107"/>
                  </a:lnTo>
                  <a:lnTo>
                    <a:pt x="425" y="96"/>
                  </a:lnTo>
                  <a:lnTo>
                    <a:pt x="476" y="85"/>
                  </a:lnTo>
                  <a:lnTo>
                    <a:pt x="528" y="74"/>
                  </a:lnTo>
                  <a:lnTo>
                    <a:pt x="583" y="65"/>
                  </a:lnTo>
                  <a:lnTo>
                    <a:pt x="639" y="56"/>
                  </a:lnTo>
                  <a:lnTo>
                    <a:pt x="699" y="47"/>
                  </a:lnTo>
                  <a:lnTo>
                    <a:pt x="760" y="39"/>
                  </a:lnTo>
                  <a:lnTo>
                    <a:pt x="822" y="32"/>
                  </a:lnTo>
                  <a:lnTo>
                    <a:pt x="887" y="26"/>
                  </a:lnTo>
                  <a:lnTo>
                    <a:pt x="953" y="20"/>
                  </a:lnTo>
                  <a:lnTo>
                    <a:pt x="1020" y="15"/>
                  </a:lnTo>
                  <a:lnTo>
                    <a:pt x="1089" y="11"/>
                  </a:lnTo>
                  <a:lnTo>
                    <a:pt x="1159" y="7"/>
                  </a:lnTo>
                  <a:lnTo>
                    <a:pt x="1230" y="4"/>
                  </a:lnTo>
                  <a:lnTo>
                    <a:pt x="1303" y="1"/>
                  </a:lnTo>
                  <a:lnTo>
                    <a:pt x="1377" y="0"/>
                  </a:lnTo>
                  <a:lnTo>
                    <a:pt x="1451" y="0"/>
                  </a:lnTo>
                  <a:lnTo>
                    <a:pt x="1526" y="0"/>
                  </a:lnTo>
                  <a:lnTo>
                    <a:pt x="1600" y="1"/>
                  </a:lnTo>
                  <a:lnTo>
                    <a:pt x="1673" y="4"/>
                  </a:lnTo>
                  <a:lnTo>
                    <a:pt x="1744" y="7"/>
                  </a:lnTo>
                  <a:lnTo>
                    <a:pt x="1814" y="11"/>
                  </a:lnTo>
                  <a:lnTo>
                    <a:pt x="1884" y="15"/>
                  </a:lnTo>
                  <a:lnTo>
                    <a:pt x="1950" y="20"/>
                  </a:lnTo>
                  <a:lnTo>
                    <a:pt x="2017" y="26"/>
                  </a:lnTo>
                  <a:lnTo>
                    <a:pt x="2081" y="32"/>
                  </a:lnTo>
                  <a:lnTo>
                    <a:pt x="2143" y="39"/>
                  </a:lnTo>
                  <a:lnTo>
                    <a:pt x="2204" y="47"/>
                  </a:lnTo>
                  <a:lnTo>
                    <a:pt x="2263" y="56"/>
                  </a:lnTo>
                  <a:lnTo>
                    <a:pt x="2320" y="65"/>
                  </a:lnTo>
                  <a:lnTo>
                    <a:pt x="2375" y="74"/>
                  </a:lnTo>
                  <a:lnTo>
                    <a:pt x="2428" y="85"/>
                  </a:lnTo>
                  <a:lnTo>
                    <a:pt x="2479" y="96"/>
                  </a:lnTo>
                  <a:lnTo>
                    <a:pt x="2526" y="107"/>
                  </a:lnTo>
                  <a:lnTo>
                    <a:pt x="2571" y="120"/>
                  </a:lnTo>
                  <a:lnTo>
                    <a:pt x="2615" y="133"/>
                  </a:lnTo>
                  <a:lnTo>
                    <a:pt x="2655" y="146"/>
                  </a:lnTo>
                  <a:lnTo>
                    <a:pt x="2693" y="159"/>
                  </a:lnTo>
                  <a:lnTo>
                    <a:pt x="2728" y="174"/>
                  </a:lnTo>
                  <a:lnTo>
                    <a:pt x="2760" y="188"/>
                  </a:lnTo>
                  <a:lnTo>
                    <a:pt x="2790" y="203"/>
                  </a:lnTo>
                  <a:lnTo>
                    <a:pt x="2815" y="220"/>
                  </a:lnTo>
                  <a:lnTo>
                    <a:pt x="2838" y="236"/>
                  </a:lnTo>
                  <a:lnTo>
                    <a:pt x="2857" y="252"/>
                  </a:lnTo>
                  <a:lnTo>
                    <a:pt x="2873" y="269"/>
                  </a:lnTo>
                  <a:lnTo>
                    <a:pt x="2887" y="286"/>
                  </a:lnTo>
                  <a:lnTo>
                    <a:pt x="2896" y="303"/>
                  </a:lnTo>
                  <a:lnTo>
                    <a:pt x="2902" y="321"/>
                  </a:lnTo>
                  <a:lnTo>
                    <a:pt x="2904" y="340"/>
                  </a:lnTo>
                  <a:close/>
                </a:path>
              </a:pathLst>
            </a:custGeom>
            <a:solidFill>
              <a:srgbClr val="fb5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30120" y="6536160"/>
              <a:ext cx="320760" cy="82800"/>
            </a:xfrm>
            <a:custGeom>
              <a:avLst/>
              <a:gdLst/>
              <a:ahLst/>
              <a:rect l="l" t="t" r="r" b="b"/>
              <a:pathLst>
                <a:path w="2901" h="695">
                  <a:moveTo>
                    <a:pt x="2901" y="339"/>
                  </a:moveTo>
                  <a:lnTo>
                    <a:pt x="2899" y="357"/>
                  </a:lnTo>
                  <a:lnTo>
                    <a:pt x="2894" y="375"/>
                  </a:lnTo>
                  <a:lnTo>
                    <a:pt x="2885" y="393"/>
                  </a:lnTo>
                  <a:lnTo>
                    <a:pt x="2871" y="410"/>
                  </a:lnTo>
                  <a:lnTo>
                    <a:pt x="2855" y="428"/>
                  </a:lnTo>
                  <a:lnTo>
                    <a:pt x="2836" y="445"/>
                  </a:lnTo>
                  <a:lnTo>
                    <a:pt x="2813" y="462"/>
                  </a:lnTo>
                  <a:lnTo>
                    <a:pt x="2787" y="478"/>
                  </a:lnTo>
                  <a:lnTo>
                    <a:pt x="2758" y="493"/>
                  </a:lnTo>
                  <a:lnTo>
                    <a:pt x="2726" y="509"/>
                  </a:lnTo>
                  <a:lnTo>
                    <a:pt x="2691" y="523"/>
                  </a:lnTo>
                  <a:lnTo>
                    <a:pt x="2653" y="539"/>
                  </a:lnTo>
                  <a:lnTo>
                    <a:pt x="2613" y="553"/>
                  </a:lnTo>
                  <a:lnTo>
                    <a:pt x="2569" y="566"/>
                  </a:lnTo>
                  <a:lnTo>
                    <a:pt x="2524" y="579"/>
                  </a:lnTo>
                  <a:lnTo>
                    <a:pt x="2477" y="591"/>
                  </a:lnTo>
                  <a:lnTo>
                    <a:pt x="2426" y="603"/>
                  </a:lnTo>
                  <a:lnTo>
                    <a:pt x="2374" y="614"/>
                  </a:lnTo>
                  <a:lnTo>
                    <a:pt x="2318" y="624"/>
                  </a:lnTo>
                  <a:lnTo>
                    <a:pt x="2261" y="634"/>
                  </a:lnTo>
                  <a:lnTo>
                    <a:pt x="2203" y="644"/>
                  </a:lnTo>
                  <a:lnTo>
                    <a:pt x="2142" y="653"/>
                  </a:lnTo>
                  <a:lnTo>
                    <a:pt x="2080" y="661"/>
                  </a:lnTo>
                  <a:lnTo>
                    <a:pt x="2015" y="668"/>
                  </a:lnTo>
                  <a:lnTo>
                    <a:pt x="1949" y="674"/>
                  </a:lnTo>
                  <a:lnTo>
                    <a:pt x="1882" y="680"/>
                  </a:lnTo>
                  <a:lnTo>
                    <a:pt x="1813" y="684"/>
                  </a:lnTo>
                  <a:lnTo>
                    <a:pt x="1742" y="688"/>
                  </a:lnTo>
                  <a:lnTo>
                    <a:pt x="1672" y="691"/>
                  </a:lnTo>
                  <a:lnTo>
                    <a:pt x="1599" y="694"/>
                  </a:lnTo>
                  <a:lnTo>
                    <a:pt x="1525" y="695"/>
                  </a:lnTo>
                  <a:lnTo>
                    <a:pt x="1450" y="695"/>
                  </a:lnTo>
                  <a:lnTo>
                    <a:pt x="1376" y="695"/>
                  </a:lnTo>
                  <a:lnTo>
                    <a:pt x="1302" y="694"/>
                  </a:lnTo>
                  <a:lnTo>
                    <a:pt x="1229" y="691"/>
                  </a:lnTo>
                  <a:lnTo>
                    <a:pt x="1159" y="688"/>
                  </a:lnTo>
                  <a:lnTo>
                    <a:pt x="1088" y="684"/>
                  </a:lnTo>
                  <a:lnTo>
                    <a:pt x="1019" y="680"/>
                  </a:lnTo>
                  <a:lnTo>
                    <a:pt x="952" y="674"/>
                  </a:lnTo>
                  <a:lnTo>
                    <a:pt x="886" y="668"/>
                  </a:lnTo>
                  <a:lnTo>
                    <a:pt x="821" y="661"/>
                  </a:lnTo>
                  <a:lnTo>
                    <a:pt x="760" y="653"/>
                  </a:lnTo>
                  <a:lnTo>
                    <a:pt x="698" y="644"/>
                  </a:lnTo>
                  <a:lnTo>
                    <a:pt x="639" y="634"/>
                  </a:lnTo>
                  <a:lnTo>
                    <a:pt x="583" y="624"/>
                  </a:lnTo>
                  <a:lnTo>
                    <a:pt x="528" y="614"/>
                  </a:lnTo>
                  <a:lnTo>
                    <a:pt x="475" y="603"/>
                  </a:lnTo>
                  <a:lnTo>
                    <a:pt x="425" y="591"/>
                  </a:lnTo>
                  <a:lnTo>
                    <a:pt x="377" y="579"/>
                  </a:lnTo>
                  <a:lnTo>
                    <a:pt x="331" y="566"/>
                  </a:lnTo>
                  <a:lnTo>
                    <a:pt x="288" y="553"/>
                  </a:lnTo>
                  <a:lnTo>
                    <a:pt x="248" y="539"/>
                  </a:lnTo>
                  <a:lnTo>
                    <a:pt x="210" y="523"/>
                  </a:lnTo>
                  <a:lnTo>
                    <a:pt x="175" y="509"/>
                  </a:lnTo>
                  <a:lnTo>
                    <a:pt x="144" y="493"/>
                  </a:lnTo>
                  <a:lnTo>
                    <a:pt x="114" y="478"/>
                  </a:lnTo>
                  <a:lnTo>
                    <a:pt x="88" y="462"/>
                  </a:lnTo>
                  <a:lnTo>
                    <a:pt x="66" y="445"/>
                  </a:lnTo>
                  <a:lnTo>
                    <a:pt x="46" y="428"/>
                  </a:lnTo>
                  <a:lnTo>
                    <a:pt x="29" y="410"/>
                  </a:lnTo>
                  <a:lnTo>
                    <a:pt x="17" y="393"/>
                  </a:lnTo>
                  <a:lnTo>
                    <a:pt x="7" y="375"/>
                  </a:lnTo>
                  <a:lnTo>
                    <a:pt x="2" y="357"/>
                  </a:lnTo>
                  <a:lnTo>
                    <a:pt x="0" y="339"/>
                  </a:lnTo>
                  <a:lnTo>
                    <a:pt x="2" y="320"/>
                  </a:lnTo>
                  <a:lnTo>
                    <a:pt x="7" y="302"/>
                  </a:lnTo>
                  <a:lnTo>
                    <a:pt x="17" y="285"/>
                  </a:lnTo>
                  <a:lnTo>
                    <a:pt x="29" y="268"/>
                  </a:lnTo>
                  <a:lnTo>
                    <a:pt x="46" y="251"/>
                  </a:lnTo>
                  <a:lnTo>
                    <a:pt x="66" y="235"/>
                  </a:lnTo>
                  <a:lnTo>
                    <a:pt x="88" y="219"/>
                  </a:lnTo>
                  <a:lnTo>
                    <a:pt x="114" y="203"/>
                  </a:lnTo>
                  <a:lnTo>
                    <a:pt x="144" y="188"/>
                  </a:lnTo>
                  <a:lnTo>
                    <a:pt x="175" y="173"/>
                  </a:lnTo>
                  <a:lnTo>
                    <a:pt x="210" y="159"/>
                  </a:lnTo>
                  <a:lnTo>
                    <a:pt x="248" y="145"/>
                  </a:lnTo>
                  <a:lnTo>
                    <a:pt x="288" y="132"/>
                  </a:lnTo>
                  <a:lnTo>
                    <a:pt x="331" y="120"/>
                  </a:lnTo>
                  <a:lnTo>
                    <a:pt x="377" y="107"/>
                  </a:lnTo>
                  <a:lnTo>
                    <a:pt x="425" y="95"/>
                  </a:lnTo>
                  <a:lnTo>
                    <a:pt x="475" y="84"/>
                  </a:lnTo>
                  <a:lnTo>
                    <a:pt x="528" y="74"/>
                  </a:lnTo>
                  <a:lnTo>
                    <a:pt x="583" y="64"/>
                  </a:lnTo>
                  <a:lnTo>
                    <a:pt x="639" y="55"/>
                  </a:lnTo>
                  <a:lnTo>
                    <a:pt x="698" y="47"/>
                  </a:lnTo>
                  <a:lnTo>
                    <a:pt x="760" y="39"/>
                  </a:lnTo>
                  <a:lnTo>
                    <a:pt x="821" y="32"/>
                  </a:lnTo>
                  <a:lnTo>
                    <a:pt x="886" y="26"/>
                  </a:lnTo>
                  <a:lnTo>
                    <a:pt x="952" y="20"/>
                  </a:lnTo>
                  <a:lnTo>
                    <a:pt x="1019" y="15"/>
                  </a:lnTo>
                  <a:lnTo>
                    <a:pt x="1088" y="11"/>
                  </a:lnTo>
                  <a:lnTo>
                    <a:pt x="1159" y="7"/>
                  </a:lnTo>
                  <a:lnTo>
                    <a:pt x="1229" y="4"/>
                  </a:lnTo>
                  <a:lnTo>
                    <a:pt x="1302" y="2"/>
                  </a:lnTo>
                  <a:lnTo>
                    <a:pt x="1376" y="0"/>
                  </a:lnTo>
                  <a:lnTo>
                    <a:pt x="1450" y="0"/>
                  </a:lnTo>
                  <a:lnTo>
                    <a:pt x="1525" y="0"/>
                  </a:lnTo>
                  <a:lnTo>
                    <a:pt x="1599" y="2"/>
                  </a:lnTo>
                  <a:lnTo>
                    <a:pt x="1672" y="4"/>
                  </a:lnTo>
                  <a:lnTo>
                    <a:pt x="1742" y="7"/>
                  </a:lnTo>
                  <a:lnTo>
                    <a:pt x="1813" y="11"/>
                  </a:lnTo>
                  <a:lnTo>
                    <a:pt x="1882" y="15"/>
                  </a:lnTo>
                  <a:lnTo>
                    <a:pt x="1949" y="20"/>
                  </a:lnTo>
                  <a:lnTo>
                    <a:pt x="2015" y="26"/>
                  </a:lnTo>
                  <a:lnTo>
                    <a:pt x="2080" y="32"/>
                  </a:lnTo>
                  <a:lnTo>
                    <a:pt x="2142" y="39"/>
                  </a:lnTo>
                  <a:lnTo>
                    <a:pt x="2203" y="47"/>
                  </a:lnTo>
                  <a:lnTo>
                    <a:pt x="2261" y="55"/>
                  </a:lnTo>
                  <a:lnTo>
                    <a:pt x="2318" y="64"/>
                  </a:lnTo>
                  <a:lnTo>
                    <a:pt x="2374" y="74"/>
                  </a:lnTo>
                  <a:lnTo>
                    <a:pt x="2426" y="84"/>
                  </a:lnTo>
                  <a:lnTo>
                    <a:pt x="2477" y="95"/>
                  </a:lnTo>
                  <a:lnTo>
                    <a:pt x="2524" y="107"/>
                  </a:lnTo>
                  <a:lnTo>
                    <a:pt x="2569" y="120"/>
                  </a:lnTo>
                  <a:lnTo>
                    <a:pt x="2613" y="132"/>
                  </a:lnTo>
                  <a:lnTo>
                    <a:pt x="2653" y="145"/>
                  </a:lnTo>
                  <a:lnTo>
                    <a:pt x="2691" y="159"/>
                  </a:lnTo>
                  <a:lnTo>
                    <a:pt x="2726" y="173"/>
                  </a:lnTo>
                  <a:lnTo>
                    <a:pt x="2758" y="188"/>
                  </a:lnTo>
                  <a:lnTo>
                    <a:pt x="2787" y="203"/>
                  </a:lnTo>
                  <a:lnTo>
                    <a:pt x="2813" y="219"/>
                  </a:lnTo>
                  <a:lnTo>
                    <a:pt x="2836" y="235"/>
                  </a:lnTo>
                  <a:lnTo>
                    <a:pt x="2855" y="251"/>
                  </a:lnTo>
                  <a:lnTo>
                    <a:pt x="2871" y="268"/>
                  </a:lnTo>
                  <a:lnTo>
                    <a:pt x="2885" y="285"/>
                  </a:lnTo>
                  <a:lnTo>
                    <a:pt x="2894" y="302"/>
                  </a:lnTo>
                  <a:lnTo>
                    <a:pt x="2899" y="320"/>
                  </a:lnTo>
                  <a:lnTo>
                    <a:pt x="2901" y="339"/>
                  </a:lnTo>
                  <a:close/>
                </a:path>
              </a:pathLst>
            </a:custGeom>
            <a:solidFill>
              <a:srgbClr val="fb5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130120" y="6536160"/>
              <a:ext cx="320760" cy="82800"/>
            </a:xfrm>
            <a:custGeom>
              <a:avLst/>
              <a:gdLst/>
              <a:ahLst/>
              <a:rect l="l" t="t" r="r" b="b"/>
              <a:pathLst>
                <a:path w="2899" h="695">
                  <a:moveTo>
                    <a:pt x="2899" y="339"/>
                  </a:moveTo>
                  <a:lnTo>
                    <a:pt x="2897" y="357"/>
                  </a:lnTo>
                  <a:lnTo>
                    <a:pt x="2891" y="375"/>
                  </a:lnTo>
                  <a:lnTo>
                    <a:pt x="2882" y="393"/>
                  </a:lnTo>
                  <a:lnTo>
                    <a:pt x="2869" y="410"/>
                  </a:lnTo>
                  <a:lnTo>
                    <a:pt x="2853" y="427"/>
                  </a:lnTo>
                  <a:lnTo>
                    <a:pt x="2833" y="445"/>
                  </a:lnTo>
                  <a:lnTo>
                    <a:pt x="2811" y="461"/>
                  </a:lnTo>
                  <a:lnTo>
                    <a:pt x="2785" y="477"/>
                  </a:lnTo>
                  <a:lnTo>
                    <a:pt x="2755" y="493"/>
                  </a:lnTo>
                  <a:lnTo>
                    <a:pt x="2724" y="508"/>
                  </a:lnTo>
                  <a:lnTo>
                    <a:pt x="2689" y="523"/>
                  </a:lnTo>
                  <a:lnTo>
                    <a:pt x="2651" y="538"/>
                  </a:lnTo>
                  <a:lnTo>
                    <a:pt x="2611" y="552"/>
                  </a:lnTo>
                  <a:lnTo>
                    <a:pt x="2567" y="565"/>
                  </a:lnTo>
                  <a:lnTo>
                    <a:pt x="2522" y="578"/>
                  </a:lnTo>
                  <a:lnTo>
                    <a:pt x="2475" y="590"/>
                  </a:lnTo>
                  <a:lnTo>
                    <a:pt x="2424" y="602"/>
                  </a:lnTo>
                  <a:lnTo>
                    <a:pt x="2372" y="613"/>
                  </a:lnTo>
                  <a:lnTo>
                    <a:pt x="2316" y="624"/>
                  </a:lnTo>
                  <a:lnTo>
                    <a:pt x="2259" y="633"/>
                  </a:lnTo>
                  <a:lnTo>
                    <a:pt x="2201" y="644"/>
                  </a:lnTo>
                  <a:lnTo>
                    <a:pt x="2140" y="652"/>
                  </a:lnTo>
                  <a:lnTo>
                    <a:pt x="2078" y="660"/>
                  </a:lnTo>
                  <a:lnTo>
                    <a:pt x="2014" y="667"/>
                  </a:lnTo>
                  <a:lnTo>
                    <a:pt x="1947" y="673"/>
                  </a:lnTo>
                  <a:lnTo>
                    <a:pt x="1881" y="679"/>
                  </a:lnTo>
                  <a:lnTo>
                    <a:pt x="1812" y="684"/>
                  </a:lnTo>
                  <a:lnTo>
                    <a:pt x="1741" y="687"/>
                  </a:lnTo>
                  <a:lnTo>
                    <a:pt x="1671" y="691"/>
                  </a:lnTo>
                  <a:lnTo>
                    <a:pt x="1598" y="693"/>
                  </a:lnTo>
                  <a:lnTo>
                    <a:pt x="1524" y="694"/>
                  </a:lnTo>
                  <a:lnTo>
                    <a:pt x="1449" y="695"/>
                  </a:lnTo>
                  <a:lnTo>
                    <a:pt x="1375" y="694"/>
                  </a:lnTo>
                  <a:lnTo>
                    <a:pt x="1301" y="693"/>
                  </a:lnTo>
                  <a:lnTo>
                    <a:pt x="1229" y="691"/>
                  </a:lnTo>
                  <a:lnTo>
                    <a:pt x="1158" y="687"/>
                  </a:lnTo>
                  <a:lnTo>
                    <a:pt x="1088" y="684"/>
                  </a:lnTo>
                  <a:lnTo>
                    <a:pt x="1018" y="679"/>
                  </a:lnTo>
                  <a:lnTo>
                    <a:pt x="952" y="673"/>
                  </a:lnTo>
                  <a:lnTo>
                    <a:pt x="886" y="667"/>
                  </a:lnTo>
                  <a:lnTo>
                    <a:pt x="821" y="660"/>
                  </a:lnTo>
                  <a:lnTo>
                    <a:pt x="759" y="652"/>
                  </a:lnTo>
                  <a:lnTo>
                    <a:pt x="698" y="644"/>
                  </a:lnTo>
                  <a:lnTo>
                    <a:pt x="639" y="633"/>
                  </a:lnTo>
                  <a:lnTo>
                    <a:pt x="583" y="624"/>
                  </a:lnTo>
                  <a:lnTo>
                    <a:pt x="527" y="613"/>
                  </a:lnTo>
                  <a:lnTo>
                    <a:pt x="475" y="602"/>
                  </a:lnTo>
                  <a:lnTo>
                    <a:pt x="425" y="590"/>
                  </a:lnTo>
                  <a:lnTo>
                    <a:pt x="377" y="578"/>
                  </a:lnTo>
                  <a:lnTo>
                    <a:pt x="331" y="565"/>
                  </a:lnTo>
                  <a:lnTo>
                    <a:pt x="288" y="552"/>
                  </a:lnTo>
                  <a:lnTo>
                    <a:pt x="248" y="538"/>
                  </a:lnTo>
                  <a:lnTo>
                    <a:pt x="210" y="523"/>
                  </a:lnTo>
                  <a:lnTo>
                    <a:pt x="176" y="508"/>
                  </a:lnTo>
                  <a:lnTo>
                    <a:pt x="144" y="493"/>
                  </a:lnTo>
                  <a:lnTo>
                    <a:pt x="114" y="477"/>
                  </a:lnTo>
                  <a:lnTo>
                    <a:pt x="88" y="461"/>
                  </a:lnTo>
                  <a:lnTo>
                    <a:pt x="66" y="445"/>
                  </a:lnTo>
                  <a:lnTo>
                    <a:pt x="47" y="427"/>
                  </a:lnTo>
                  <a:lnTo>
                    <a:pt x="30" y="410"/>
                  </a:lnTo>
                  <a:lnTo>
                    <a:pt x="17" y="393"/>
                  </a:lnTo>
                  <a:lnTo>
                    <a:pt x="8" y="375"/>
                  </a:lnTo>
                  <a:lnTo>
                    <a:pt x="2" y="357"/>
                  </a:lnTo>
                  <a:lnTo>
                    <a:pt x="0" y="339"/>
                  </a:lnTo>
                  <a:lnTo>
                    <a:pt x="2" y="320"/>
                  </a:lnTo>
                  <a:lnTo>
                    <a:pt x="8" y="302"/>
                  </a:lnTo>
                  <a:lnTo>
                    <a:pt x="17" y="285"/>
                  </a:lnTo>
                  <a:lnTo>
                    <a:pt x="30" y="268"/>
                  </a:lnTo>
                  <a:lnTo>
                    <a:pt x="47" y="251"/>
                  </a:lnTo>
                  <a:lnTo>
                    <a:pt x="66" y="235"/>
                  </a:lnTo>
                  <a:lnTo>
                    <a:pt x="88" y="219"/>
                  </a:lnTo>
                  <a:lnTo>
                    <a:pt x="114" y="203"/>
                  </a:lnTo>
                  <a:lnTo>
                    <a:pt x="144" y="188"/>
                  </a:lnTo>
                  <a:lnTo>
                    <a:pt x="176" y="173"/>
                  </a:lnTo>
                  <a:lnTo>
                    <a:pt x="210" y="159"/>
                  </a:lnTo>
                  <a:lnTo>
                    <a:pt x="248" y="146"/>
                  </a:lnTo>
                  <a:lnTo>
                    <a:pt x="288" y="133"/>
                  </a:lnTo>
                  <a:lnTo>
                    <a:pt x="331" y="120"/>
                  </a:lnTo>
                  <a:lnTo>
                    <a:pt x="377" y="107"/>
                  </a:lnTo>
                  <a:lnTo>
                    <a:pt x="425" y="96"/>
                  </a:lnTo>
                  <a:lnTo>
                    <a:pt x="475" y="85"/>
                  </a:lnTo>
                  <a:lnTo>
                    <a:pt x="527" y="75"/>
                  </a:lnTo>
                  <a:lnTo>
                    <a:pt x="583" y="65"/>
                  </a:lnTo>
                  <a:lnTo>
                    <a:pt x="639" y="56"/>
                  </a:lnTo>
                  <a:lnTo>
                    <a:pt x="698" y="48"/>
                  </a:lnTo>
                  <a:lnTo>
                    <a:pt x="759" y="40"/>
                  </a:lnTo>
                  <a:lnTo>
                    <a:pt x="821" y="33"/>
                  </a:lnTo>
                  <a:lnTo>
                    <a:pt x="886" y="26"/>
                  </a:lnTo>
                  <a:lnTo>
                    <a:pt x="952" y="21"/>
                  </a:lnTo>
                  <a:lnTo>
                    <a:pt x="1018" y="16"/>
                  </a:lnTo>
                  <a:lnTo>
                    <a:pt x="1088" y="11"/>
                  </a:lnTo>
                  <a:lnTo>
                    <a:pt x="1158" y="8"/>
                  </a:lnTo>
                  <a:lnTo>
                    <a:pt x="1229" y="5"/>
                  </a:lnTo>
                  <a:lnTo>
                    <a:pt x="1301" y="3"/>
                  </a:lnTo>
                  <a:lnTo>
                    <a:pt x="1375" y="2"/>
                  </a:lnTo>
                  <a:lnTo>
                    <a:pt x="1449" y="0"/>
                  </a:lnTo>
                  <a:lnTo>
                    <a:pt x="1524" y="2"/>
                  </a:lnTo>
                  <a:lnTo>
                    <a:pt x="1598" y="3"/>
                  </a:lnTo>
                  <a:lnTo>
                    <a:pt x="1671" y="5"/>
                  </a:lnTo>
                  <a:lnTo>
                    <a:pt x="1741" y="8"/>
                  </a:lnTo>
                  <a:lnTo>
                    <a:pt x="1812" y="11"/>
                  </a:lnTo>
                  <a:lnTo>
                    <a:pt x="1881" y="16"/>
                  </a:lnTo>
                  <a:lnTo>
                    <a:pt x="1947" y="21"/>
                  </a:lnTo>
                  <a:lnTo>
                    <a:pt x="2014" y="26"/>
                  </a:lnTo>
                  <a:lnTo>
                    <a:pt x="2078" y="33"/>
                  </a:lnTo>
                  <a:lnTo>
                    <a:pt x="2140" y="40"/>
                  </a:lnTo>
                  <a:lnTo>
                    <a:pt x="2201" y="48"/>
                  </a:lnTo>
                  <a:lnTo>
                    <a:pt x="2259" y="56"/>
                  </a:lnTo>
                  <a:lnTo>
                    <a:pt x="2316" y="65"/>
                  </a:lnTo>
                  <a:lnTo>
                    <a:pt x="2372" y="75"/>
                  </a:lnTo>
                  <a:lnTo>
                    <a:pt x="2424" y="85"/>
                  </a:lnTo>
                  <a:lnTo>
                    <a:pt x="2475" y="96"/>
                  </a:lnTo>
                  <a:lnTo>
                    <a:pt x="2522" y="107"/>
                  </a:lnTo>
                  <a:lnTo>
                    <a:pt x="2567" y="120"/>
                  </a:lnTo>
                  <a:lnTo>
                    <a:pt x="2611" y="133"/>
                  </a:lnTo>
                  <a:lnTo>
                    <a:pt x="2651" y="146"/>
                  </a:lnTo>
                  <a:lnTo>
                    <a:pt x="2689" y="159"/>
                  </a:lnTo>
                  <a:lnTo>
                    <a:pt x="2724" y="173"/>
                  </a:lnTo>
                  <a:lnTo>
                    <a:pt x="2755" y="188"/>
                  </a:lnTo>
                  <a:lnTo>
                    <a:pt x="2785" y="203"/>
                  </a:lnTo>
                  <a:lnTo>
                    <a:pt x="2811" y="219"/>
                  </a:lnTo>
                  <a:lnTo>
                    <a:pt x="2833" y="235"/>
                  </a:lnTo>
                  <a:lnTo>
                    <a:pt x="2853" y="251"/>
                  </a:lnTo>
                  <a:lnTo>
                    <a:pt x="2869" y="268"/>
                  </a:lnTo>
                  <a:lnTo>
                    <a:pt x="2882" y="285"/>
                  </a:lnTo>
                  <a:lnTo>
                    <a:pt x="2891" y="302"/>
                  </a:lnTo>
                  <a:lnTo>
                    <a:pt x="2897" y="320"/>
                  </a:lnTo>
                  <a:lnTo>
                    <a:pt x="2899" y="339"/>
                  </a:lnTo>
                  <a:close/>
                </a:path>
              </a:pathLst>
            </a:custGeom>
            <a:solidFill>
              <a:srgbClr val="fb5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130120" y="6536160"/>
              <a:ext cx="320760" cy="82800"/>
            </a:xfrm>
            <a:custGeom>
              <a:avLst/>
              <a:gdLst/>
              <a:ahLst/>
              <a:rect l="l" t="t" r="r" b="b"/>
              <a:pathLst>
                <a:path w="2895" h="692">
                  <a:moveTo>
                    <a:pt x="2895" y="337"/>
                  </a:moveTo>
                  <a:lnTo>
                    <a:pt x="2893" y="355"/>
                  </a:lnTo>
                  <a:lnTo>
                    <a:pt x="2888" y="373"/>
                  </a:lnTo>
                  <a:lnTo>
                    <a:pt x="2879" y="391"/>
                  </a:lnTo>
                  <a:lnTo>
                    <a:pt x="2865" y="408"/>
                  </a:lnTo>
                  <a:lnTo>
                    <a:pt x="2849" y="425"/>
                  </a:lnTo>
                  <a:lnTo>
                    <a:pt x="2830" y="443"/>
                  </a:lnTo>
                  <a:lnTo>
                    <a:pt x="2807" y="459"/>
                  </a:lnTo>
                  <a:lnTo>
                    <a:pt x="2782" y="475"/>
                  </a:lnTo>
                  <a:lnTo>
                    <a:pt x="2752" y="491"/>
                  </a:lnTo>
                  <a:lnTo>
                    <a:pt x="2720" y="506"/>
                  </a:lnTo>
                  <a:lnTo>
                    <a:pt x="2686" y="520"/>
                  </a:lnTo>
                  <a:lnTo>
                    <a:pt x="2648" y="536"/>
                  </a:lnTo>
                  <a:lnTo>
                    <a:pt x="2608" y="550"/>
                  </a:lnTo>
                  <a:lnTo>
                    <a:pt x="2564" y="563"/>
                  </a:lnTo>
                  <a:lnTo>
                    <a:pt x="2519" y="576"/>
                  </a:lnTo>
                  <a:lnTo>
                    <a:pt x="2472" y="588"/>
                  </a:lnTo>
                  <a:lnTo>
                    <a:pt x="2421" y="599"/>
                  </a:lnTo>
                  <a:lnTo>
                    <a:pt x="2369" y="610"/>
                  </a:lnTo>
                  <a:lnTo>
                    <a:pt x="2314" y="621"/>
                  </a:lnTo>
                  <a:lnTo>
                    <a:pt x="2256" y="631"/>
                  </a:lnTo>
                  <a:lnTo>
                    <a:pt x="2198" y="640"/>
                  </a:lnTo>
                  <a:lnTo>
                    <a:pt x="2137" y="649"/>
                  </a:lnTo>
                  <a:lnTo>
                    <a:pt x="2075" y="657"/>
                  </a:lnTo>
                  <a:lnTo>
                    <a:pt x="2011" y="664"/>
                  </a:lnTo>
                  <a:lnTo>
                    <a:pt x="1945" y="670"/>
                  </a:lnTo>
                  <a:lnTo>
                    <a:pt x="1878" y="676"/>
                  </a:lnTo>
                  <a:lnTo>
                    <a:pt x="1809" y="681"/>
                  </a:lnTo>
                  <a:lnTo>
                    <a:pt x="1739" y="684"/>
                  </a:lnTo>
                  <a:lnTo>
                    <a:pt x="1668" y="688"/>
                  </a:lnTo>
                  <a:lnTo>
                    <a:pt x="1596" y="690"/>
                  </a:lnTo>
                  <a:lnTo>
                    <a:pt x="1522" y="691"/>
                  </a:lnTo>
                  <a:lnTo>
                    <a:pt x="1447" y="692"/>
                  </a:lnTo>
                  <a:lnTo>
                    <a:pt x="1373" y="691"/>
                  </a:lnTo>
                  <a:lnTo>
                    <a:pt x="1300" y="690"/>
                  </a:lnTo>
                  <a:lnTo>
                    <a:pt x="1227" y="688"/>
                  </a:lnTo>
                  <a:lnTo>
                    <a:pt x="1156" y="684"/>
                  </a:lnTo>
                  <a:lnTo>
                    <a:pt x="1086" y="681"/>
                  </a:lnTo>
                  <a:lnTo>
                    <a:pt x="1017" y="676"/>
                  </a:lnTo>
                  <a:lnTo>
                    <a:pt x="950" y="670"/>
                  </a:lnTo>
                  <a:lnTo>
                    <a:pt x="884" y="664"/>
                  </a:lnTo>
                  <a:lnTo>
                    <a:pt x="820" y="657"/>
                  </a:lnTo>
                  <a:lnTo>
                    <a:pt x="758" y="649"/>
                  </a:lnTo>
                  <a:lnTo>
                    <a:pt x="697" y="640"/>
                  </a:lnTo>
                  <a:lnTo>
                    <a:pt x="639" y="631"/>
                  </a:lnTo>
                  <a:lnTo>
                    <a:pt x="582" y="621"/>
                  </a:lnTo>
                  <a:lnTo>
                    <a:pt x="526" y="610"/>
                  </a:lnTo>
                  <a:lnTo>
                    <a:pt x="474" y="599"/>
                  </a:lnTo>
                  <a:lnTo>
                    <a:pt x="424" y="588"/>
                  </a:lnTo>
                  <a:lnTo>
                    <a:pt x="376" y="576"/>
                  </a:lnTo>
                  <a:lnTo>
                    <a:pt x="330" y="563"/>
                  </a:lnTo>
                  <a:lnTo>
                    <a:pt x="288" y="550"/>
                  </a:lnTo>
                  <a:lnTo>
                    <a:pt x="248" y="536"/>
                  </a:lnTo>
                  <a:lnTo>
                    <a:pt x="209" y="520"/>
                  </a:lnTo>
                  <a:lnTo>
                    <a:pt x="175" y="506"/>
                  </a:lnTo>
                  <a:lnTo>
                    <a:pt x="143" y="491"/>
                  </a:lnTo>
                  <a:lnTo>
                    <a:pt x="114" y="475"/>
                  </a:lnTo>
                  <a:lnTo>
                    <a:pt x="88" y="459"/>
                  </a:lnTo>
                  <a:lnTo>
                    <a:pt x="65" y="443"/>
                  </a:lnTo>
                  <a:lnTo>
                    <a:pt x="46" y="425"/>
                  </a:lnTo>
                  <a:lnTo>
                    <a:pt x="30" y="408"/>
                  </a:lnTo>
                  <a:lnTo>
                    <a:pt x="16" y="391"/>
                  </a:lnTo>
                  <a:lnTo>
                    <a:pt x="7" y="373"/>
                  </a:lnTo>
                  <a:lnTo>
                    <a:pt x="2" y="355"/>
                  </a:lnTo>
                  <a:lnTo>
                    <a:pt x="0" y="337"/>
                  </a:lnTo>
                  <a:lnTo>
                    <a:pt x="2" y="318"/>
                  </a:lnTo>
                  <a:lnTo>
                    <a:pt x="7" y="301"/>
                  </a:lnTo>
                  <a:lnTo>
                    <a:pt x="16" y="283"/>
                  </a:lnTo>
                  <a:lnTo>
                    <a:pt x="30" y="266"/>
                  </a:lnTo>
                  <a:lnTo>
                    <a:pt x="46" y="250"/>
                  </a:lnTo>
                  <a:lnTo>
                    <a:pt x="65" y="233"/>
                  </a:lnTo>
                  <a:lnTo>
                    <a:pt x="88" y="218"/>
                  </a:lnTo>
                  <a:lnTo>
                    <a:pt x="114" y="201"/>
                  </a:lnTo>
                  <a:lnTo>
                    <a:pt x="143" y="186"/>
                  </a:lnTo>
                  <a:lnTo>
                    <a:pt x="175" y="172"/>
                  </a:lnTo>
                  <a:lnTo>
                    <a:pt x="209" y="158"/>
                  </a:lnTo>
                  <a:lnTo>
                    <a:pt x="248" y="144"/>
                  </a:lnTo>
                  <a:lnTo>
                    <a:pt x="288" y="131"/>
                  </a:lnTo>
                  <a:lnTo>
                    <a:pt x="330" y="119"/>
                  </a:lnTo>
                  <a:lnTo>
                    <a:pt x="376" y="107"/>
                  </a:lnTo>
                  <a:lnTo>
                    <a:pt x="424" y="95"/>
                  </a:lnTo>
                  <a:lnTo>
                    <a:pt x="474" y="84"/>
                  </a:lnTo>
                  <a:lnTo>
                    <a:pt x="526" y="74"/>
                  </a:lnTo>
                  <a:lnTo>
                    <a:pt x="582" y="64"/>
                  </a:lnTo>
                  <a:lnTo>
                    <a:pt x="639" y="55"/>
                  </a:lnTo>
                  <a:lnTo>
                    <a:pt x="697" y="46"/>
                  </a:lnTo>
                  <a:lnTo>
                    <a:pt x="758" y="39"/>
                  </a:lnTo>
                  <a:lnTo>
                    <a:pt x="820" y="32"/>
                  </a:lnTo>
                  <a:lnTo>
                    <a:pt x="884" y="25"/>
                  </a:lnTo>
                  <a:lnTo>
                    <a:pt x="950" y="20"/>
                  </a:lnTo>
                  <a:lnTo>
                    <a:pt x="1017" y="15"/>
                  </a:lnTo>
                  <a:lnTo>
                    <a:pt x="1086" y="10"/>
                  </a:lnTo>
                  <a:lnTo>
                    <a:pt x="1156" y="7"/>
                  </a:lnTo>
                  <a:lnTo>
                    <a:pt x="1227" y="4"/>
                  </a:lnTo>
                  <a:lnTo>
                    <a:pt x="1300" y="2"/>
                  </a:lnTo>
                  <a:lnTo>
                    <a:pt x="1373" y="1"/>
                  </a:lnTo>
                  <a:lnTo>
                    <a:pt x="1447" y="0"/>
                  </a:lnTo>
                  <a:lnTo>
                    <a:pt x="1522" y="1"/>
                  </a:lnTo>
                  <a:lnTo>
                    <a:pt x="1596" y="2"/>
                  </a:lnTo>
                  <a:lnTo>
                    <a:pt x="1668" y="4"/>
                  </a:lnTo>
                  <a:lnTo>
                    <a:pt x="1739" y="7"/>
                  </a:lnTo>
                  <a:lnTo>
                    <a:pt x="1809" y="10"/>
                  </a:lnTo>
                  <a:lnTo>
                    <a:pt x="1878" y="15"/>
                  </a:lnTo>
                  <a:lnTo>
                    <a:pt x="1945" y="20"/>
                  </a:lnTo>
                  <a:lnTo>
                    <a:pt x="2011" y="25"/>
                  </a:lnTo>
                  <a:lnTo>
                    <a:pt x="2075" y="32"/>
                  </a:lnTo>
                  <a:lnTo>
                    <a:pt x="2137" y="39"/>
                  </a:lnTo>
                  <a:lnTo>
                    <a:pt x="2198" y="46"/>
                  </a:lnTo>
                  <a:lnTo>
                    <a:pt x="2256" y="55"/>
                  </a:lnTo>
                  <a:lnTo>
                    <a:pt x="2314" y="64"/>
                  </a:lnTo>
                  <a:lnTo>
                    <a:pt x="2369" y="74"/>
                  </a:lnTo>
                  <a:lnTo>
                    <a:pt x="2421" y="84"/>
                  </a:lnTo>
                  <a:lnTo>
                    <a:pt x="2472" y="95"/>
                  </a:lnTo>
                  <a:lnTo>
                    <a:pt x="2519" y="107"/>
                  </a:lnTo>
                  <a:lnTo>
                    <a:pt x="2564" y="119"/>
                  </a:lnTo>
                  <a:lnTo>
                    <a:pt x="2608" y="131"/>
                  </a:lnTo>
                  <a:lnTo>
                    <a:pt x="2648" y="144"/>
                  </a:lnTo>
                  <a:lnTo>
                    <a:pt x="2686" y="158"/>
                  </a:lnTo>
                  <a:lnTo>
                    <a:pt x="2720" y="172"/>
                  </a:lnTo>
                  <a:lnTo>
                    <a:pt x="2752" y="186"/>
                  </a:lnTo>
                  <a:lnTo>
                    <a:pt x="2782" y="201"/>
                  </a:lnTo>
                  <a:lnTo>
                    <a:pt x="2807" y="218"/>
                  </a:lnTo>
                  <a:lnTo>
                    <a:pt x="2830" y="233"/>
                  </a:lnTo>
                  <a:lnTo>
                    <a:pt x="2849" y="250"/>
                  </a:lnTo>
                  <a:lnTo>
                    <a:pt x="2865" y="266"/>
                  </a:lnTo>
                  <a:lnTo>
                    <a:pt x="2879" y="283"/>
                  </a:lnTo>
                  <a:lnTo>
                    <a:pt x="2888" y="301"/>
                  </a:lnTo>
                  <a:lnTo>
                    <a:pt x="2893" y="318"/>
                  </a:lnTo>
                  <a:lnTo>
                    <a:pt x="2895" y="337"/>
                  </a:lnTo>
                  <a:close/>
                </a:path>
              </a:pathLst>
            </a:custGeom>
            <a:solidFill>
              <a:srgbClr val="fb52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130120" y="6537240"/>
              <a:ext cx="319320" cy="81360"/>
            </a:xfrm>
            <a:custGeom>
              <a:avLst/>
              <a:gdLst/>
              <a:ahLst/>
              <a:rect l="l" t="t" r="r" b="b"/>
              <a:pathLst>
                <a:path w="2893" h="690">
                  <a:moveTo>
                    <a:pt x="2893" y="336"/>
                  </a:moveTo>
                  <a:lnTo>
                    <a:pt x="2891" y="354"/>
                  </a:lnTo>
                  <a:lnTo>
                    <a:pt x="2886" y="372"/>
                  </a:lnTo>
                  <a:lnTo>
                    <a:pt x="2876" y="390"/>
                  </a:lnTo>
                  <a:lnTo>
                    <a:pt x="2863" y="407"/>
                  </a:lnTo>
                  <a:lnTo>
                    <a:pt x="2847" y="424"/>
                  </a:lnTo>
                  <a:lnTo>
                    <a:pt x="2828" y="442"/>
                  </a:lnTo>
                  <a:lnTo>
                    <a:pt x="2805" y="458"/>
                  </a:lnTo>
                  <a:lnTo>
                    <a:pt x="2779" y="474"/>
                  </a:lnTo>
                  <a:lnTo>
                    <a:pt x="2750" y="489"/>
                  </a:lnTo>
                  <a:lnTo>
                    <a:pt x="2718" y="504"/>
                  </a:lnTo>
                  <a:lnTo>
                    <a:pt x="2684" y="519"/>
                  </a:lnTo>
                  <a:lnTo>
                    <a:pt x="2645" y="534"/>
                  </a:lnTo>
                  <a:lnTo>
                    <a:pt x="2605" y="548"/>
                  </a:lnTo>
                  <a:lnTo>
                    <a:pt x="2562" y="561"/>
                  </a:lnTo>
                  <a:lnTo>
                    <a:pt x="2517" y="574"/>
                  </a:lnTo>
                  <a:lnTo>
                    <a:pt x="2470" y="586"/>
                  </a:lnTo>
                  <a:lnTo>
                    <a:pt x="2419" y="598"/>
                  </a:lnTo>
                  <a:lnTo>
                    <a:pt x="2367" y="609"/>
                  </a:lnTo>
                  <a:lnTo>
                    <a:pt x="2312" y="619"/>
                  </a:lnTo>
                  <a:lnTo>
                    <a:pt x="2255" y="629"/>
                  </a:lnTo>
                  <a:lnTo>
                    <a:pt x="2197" y="638"/>
                  </a:lnTo>
                  <a:lnTo>
                    <a:pt x="2136" y="647"/>
                  </a:lnTo>
                  <a:lnTo>
                    <a:pt x="2074" y="655"/>
                  </a:lnTo>
                  <a:lnTo>
                    <a:pt x="2009" y="662"/>
                  </a:lnTo>
                  <a:lnTo>
                    <a:pt x="1943" y="668"/>
                  </a:lnTo>
                  <a:lnTo>
                    <a:pt x="1877" y="674"/>
                  </a:lnTo>
                  <a:lnTo>
                    <a:pt x="1808" y="679"/>
                  </a:lnTo>
                  <a:lnTo>
                    <a:pt x="1738" y="683"/>
                  </a:lnTo>
                  <a:lnTo>
                    <a:pt x="1667" y="686"/>
                  </a:lnTo>
                  <a:lnTo>
                    <a:pt x="1594" y="688"/>
                  </a:lnTo>
                  <a:lnTo>
                    <a:pt x="1521" y="689"/>
                  </a:lnTo>
                  <a:lnTo>
                    <a:pt x="1446" y="690"/>
                  </a:lnTo>
                  <a:lnTo>
                    <a:pt x="1372" y="689"/>
                  </a:lnTo>
                  <a:lnTo>
                    <a:pt x="1299" y="688"/>
                  </a:lnTo>
                  <a:lnTo>
                    <a:pt x="1226" y="686"/>
                  </a:lnTo>
                  <a:lnTo>
                    <a:pt x="1156" y="683"/>
                  </a:lnTo>
                  <a:lnTo>
                    <a:pt x="1085" y="679"/>
                  </a:lnTo>
                  <a:lnTo>
                    <a:pt x="1016" y="674"/>
                  </a:lnTo>
                  <a:lnTo>
                    <a:pt x="950" y="668"/>
                  </a:lnTo>
                  <a:lnTo>
                    <a:pt x="884" y="662"/>
                  </a:lnTo>
                  <a:lnTo>
                    <a:pt x="819" y="655"/>
                  </a:lnTo>
                  <a:lnTo>
                    <a:pt x="758" y="647"/>
                  </a:lnTo>
                  <a:lnTo>
                    <a:pt x="697" y="638"/>
                  </a:lnTo>
                  <a:lnTo>
                    <a:pt x="639" y="629"/>
                  </a:lnTo>
                  <a:lnTo>
                    <a:pt x="581" y="619"/>
                  </a:lnTo>
                  <a:lnTo>
                    <a:pt x="526" y="609"/>
                  </a:lnTo>
                  <a:lnTo>
                    <a:pt x="474" y="598"/>
                  </a:lnTo>
                  <a:lnTo>
                    <a:pt x="424" y="586"/>
                  </a:lnTo>
                  <a:lnTo>
                    <a:pt x="376" y="574"/>
                  </a:lnTo>
                  <a:lnTo>
                    <a:pt x="330" y="561"/>
                  </a:lnTo>
                  <a:lnTo>
                    <a:pt x="288" y="548"/>
                  </a:lnTo>
                  <a:lnTo>
                    <a:pt x="248" y="534"/>
                  </a:lnTo>
                  <a:lnTo>
                    <a:pt x="210" y="519"/>
                  </a:lnTo>
                  <a:lnTo>
                    <a:pt x="175" y="504"/>
                  </a:lnTo>
                  <a:lnTo>
                    <a:pt x="143" y="489"/>
                  </a:lnTo>
                  <a:lnTo>
                    <a:pt x="114" y="474"/>
                  </a:lnTo>
                  <a:lnTo>
                    <a:pt x="88" y="458"/>
                  </a:lnTo>
                  <a:lnTo>
                    <a:pt x="66" y="442"/>
                  </a:lnTo>
                  <a:lnTo>
                    <a:pt x="46" y="424"/>
                  </a:lnTo>
                  <a:lnTo>
                    <a:pt x="30" y="407"/>
                  </a:lnTo>
                  <a:lnTo>
                    <a:pt x="17" y="390"/>
                  </a:lnTo>
                  <a:lnTo>
                    <a:pt x="8" y="372"/>
                  </a:lnTo>
                  <a:lnTo>
                    <a:pt x="2" y="354"/>
                  </a:lnTo>
                  <a:lnTo>
                    <a:pt x="0" y="336"/>
                  </a:lnTo>
                  <a:lnTo>
                    <a:pt x="2" y="317"/>
                  </a:lnTo>
                  <a:lnTo>
                    <a:pt x="8" y="300"/>
                  </a:lnTo>
                  <a:lnTo>
                    <a:pt x="17" y="282"/>
                  </a:lnTo>
                  <a:lnTo>
                    <a:pt x="30" y="265"/>
                  </a:lnTo>
                  <a:lnTo>
                    <a:pt x="46" y="249"/>
                  </a:lnTo>
                  <a:lnTo>
                    <a:pt x="66" y="233"/>
                  </a:lnTo>
                  <a:lnTo>
                    <a:pt x="88" y="217"/>
                  </a:lnTo>
                  <a:lnTo>
                    <a:pt x="114" y="201"/>
                  </a:lnTo>
                  <a:lnTo>
                    <a:pt x="143" y="186"/>
                  </a:lnTo>
                  <a:lnTo>
                    <a:pt x="175" y="171"/>
                  </a:lnTo>
                  <a:lnTo>
                    <a:pt x="210" y="157"/>
                  </a:lnTo>
                  <a:lnTo>
                    <a:pt x="248" y="144"/>
                  </a:lnTo>
                  <a:lnTo>
                    <a:pt x="288" y="131"/>
                  </a:lnTo>
                  <a:lnTo>
                    <a:pt x="330" y="118"/>
                  </a:lnTo>
                  <a:lnTo>
                    <a:pt x="376" y="107"/>
                  </a:lnTo>
                  <a:lnTo>
                    <a:pt x="424" y="94"/>
                  </a:lnTo>
                  <a:lnTo>
                    <a:pt x="474" y="83"/>
                  </a:lnTo>
                  <a:lnTo>
                    <a:pt x="526" y="73"/>
                  </a:lnTo>
                  <a:lnTo>
                    <a:pt x="581" y="64"/>
                  </a:lnTo>
                  <a:lnTo>
                    <a:pt x="639" y="55"/>
                  </a:lnTo>
                  <a:lnTo>
                    <a:pt x="697" y="46"/>
                  </a:lnTo>
                  <a:lnTo>
                    <a:pt x="758" y="39"/>
                  </a:lnTo>
                  <a:lnTo>
                    <a:pt x="819" y="31"/>
                  </a:lnTo>
                  <a:lnTo>
                    <a:pt x="884" y="25"/>
                  </a:lnTo>
                  <a:lnTo>
                    <a:pt x="950" y="19"/>
                  </a:lnTo>
                  <a:lnTo>
                    <a:pt x="1016" y="14"/>
                  </a:lnTo>
                  <a:lnTo>
                    <a:pt x="1085" y="10"/>
                  </a:lnTo>
                  <a:lnTo>
                    <a:pt x="1156" y="7"/>
                  </a:lnTo>
                  <a:lnTo>
                    <a:pt x="1226" y="4"/>
                  </a:lnTo>
                  <a:lnTo>
                    <a:pt x="1299" y="2"/>
                  </a:lnTo>
                  <a:lnTo>
                    <a:pt x="1372" y="1"/>
                  </a:lnTo>
                  <a:lnTo>
                    <a:pt x="1446" y="0"/>
                  </a:lnTo>
                  <a:lnTo>
                    <a:pt x="1521" y="1"/>
                  </a:lnTo>
                  <a:lnTo>
                    <a:pt x="1594" y="2"/>
                  </a:lnTo>
                  <a:lnTo>
                    <a:pt x="1667" y="4"/>
                  </a:lnTo>
                  <a:lnTo>
                    <a:pt x="1738" y="7"/>
                  </a:lnTo>
                  <a:lnTo>
                    <a:pt x="1808" y="10"/>
                  </a:lnTo>
                  <a:lnTo>
                    <a:pt x="1877" y="14"/>
                  </a:lnTo>
                  <a:lnTo>
                    <a:pt x="1943" y="19"/>
                  </a:lnTo>
                  <a:lnTo>
                    <a:pt x="2009" y="25"/>
                  </a:lnTo>
                  <a:lnTo>
                    <a:pt x="2074" y="31"/>
                  </a:lnTo>
                  <a:lnTo>
                    <a:pt x="2136" y="39"/>
                  </a:lnTo>
                  <a:lnTo>
                    <a:pt x="2197" y="46"/>
                  </a:lnTo>
                  <a:lnTo>
                    <a:pt x="2255" y="55"/>
                  </a:lnTo>
                  <a:lnTo>
                    <a:pt x="2312" y="64"/>
                  </a:lnTo>
                  <a:lnTo>
                    <a:pt x="2367" y="73"/>
                  </a:lnTo>
                  <a:lnTo>
                    <a:pt x="2419" y="83"/>
                  </a:lnTo>
                  <a:lnTo>
                    <a:pt x="2470" y="94"/>
                  </a:lnTo>
                  <a:lnTo>
                    <a:pt x="2517" y="107"/>
                  </a:lnTo>
                  <a:lnTo>
                    <a:pt x="2562" y="118"/>
                  </a:lnTo>
                  <a:lnTo>
                    <a:pt x="2605" y="131"/>
                  </a:lnTo>
                  <a:lnTo>
                    <a:pt x="2645" y="144"/>
                  </a:lnTo>
                  <a:lnTo>
                    <a:pt x="2684" y="157"/>
                  </a:lnTo>
                  <a:lnTo>
                    <a:pt x="2718" y="171"/>
                  </a:lnTo>
                  <a:lnTo>
                    <a:pt x="2750" y="186"/>
                  </a:lnTo>
                  <a:lnTo>
                    <a:pt x="2779" y="201"/>
                  </a:lnTo>
                  <a:lnTo>
                    <a:pt x="2805" y="217"/>
                  </a:lnTo>
                  <a:lnTo>
                    <a:pt x="2828" y="233"/>
                  </a:lnTo>
                  <a:lnTo>
                    <a:pt x="2847" y="249"/>
                  </a:lnTo>
                  <a:lnTo>
                    <a:pt x="2863" y="265"/>
                  </a:lnTo>
                  <a:lnTo>
                    <a:pt x="2876" y="282"/>
                  </a:lnTo>
                  <a:lnTo>
                    <a:pt x="2886" y="300"/>
                  </a:lnTo>
                  <a:lnTo>
                    <a:pt x="2891" y="317"/>
                  </a:lnTo>
                  <a:lnTo>
                    <a:pt x="2893" y="336"/>
                  </a:lnTo>
                  <a:close/>
                </a:path>
              </a:pathLst>
            </a:custGeom>
            <a:solidFill>
              <a:srgbClr val="fb52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31560" y="6537240"/>
              <a:ext cx="317880" cy="81360"/>
            </a:xfrm>
            <a:custGeom>
              <a:avLst/>
              <a:gdLst/>
              <a:ahLst/>
              <a:rect l="l" t="t" r="r" b="b"/>
              <a:pathLst>
                <a:path w="2889" h="688">
                  <a:moveTo>
                    <a:pt x="2889" y="335"/>
                  </a:moveTo>
                  <a:lnTo>
                    <a:pt x="2888" y="353"/>
                  </a:lnTo>
                  <a:lnTo>
                    <a:pt x="2882" y="371"/>
                  </a:lnTo>
                  <a:lnTo>
                    <a:pt x="2873" y="389"/>
                  </a:lnTo>
                  <a:lnTo>
                    <a:pt x="2859" y="406"/>
                  </a:lnTo>
                  <a:lnTo>
                    <a:pt x="2843" y="423"/>
                  </a:lnTo>
                  <a:lnTo>
                    <a:pt x="2824" y="440"/>
                  </a:lnTo>
                  <a:lnTo>
                    <a:pt x="2802" y="457"/>
                  </a:lnTo>
                  <a:lnTo>
                    <a:pt x="2776" y="472"/>
                  </a:lnTo>
                  <a:lnTo>
                    <a:pt x="2746" y="488"/>
                  </a:lnTo>
                  <a:lnTo>
                    <a:pt x="2715" y="503"/>
                  </a:lnTo>
                  <a:lnTo>
                    <a:pt x="2680" y="518"/>
                  </a:lnTo>
                  <a:lnTo>
                    <a:pt x="2642" y="533"/>
                  </a:lnTo>
                  <a:lnTo>
                    <a:pt x="2602" y="546"/>
                  </a:lnTo>
                  <a:lnTo>
                    <a:pt x="2559" y="560"/>
                  </a:lnTo>
                  <a:lnTo>
                    <a:pt x="2514" y="572"/>
                  </a:lnTo>
                  <a:lnTo>
                    <a:pt x="2467" y="584"/>
                  </a:lnTo>
                  <a:lnTo>
                    <a:pt x="2416" y="596"/>
                  </a:lnTo>
                  <a:lnTo>
                    <a:pt x="2364" y="607"/>
                  </a:lnTo>
                  <a:lnTo>
                    <a:pt x="2309" y="617"/>
                  </a:lnTo>
                  <a:lnTo>
                    <a:pt x="2252" y="627"/>
                  </a:lnTo>
                  <a:lnTo>
                    <a:pt x="2194" y="636"/>
                  </a:lnTo>
                  <a:lnTo>
                    <a:pt x="2133" y="646"/>
                  </a:lnTo>
                  <a:lnTo>
                    <a:pt x="2071" y="653"/>
                  </a:lnTo>
                  <a:lnTo>
                    <a:pt x="2007" y="660"/>
                  </a:lnTo>
                  <a:lnTo>
                    <a:pt x="1941" y="667"/>
                  </a:lnTo>
                  <a:lnTo>
                    <a:pt x="1874" y="672"/>
                  </a:lnTo>
                  <a:lnTo>
                    <a:pt x="1806" y="677"/>
                  </a:lnTo>
                  <a:lnTo>
                    <a:pt x="1735" y="681"/>
                  </a:lnTo>
                  <a:lnTo>
                    <a:pt x="1665" y="684"/>
                  </a:lnTo>
                  <a:lnTo>
                    <a:pt x="1592" y="686"/>
                  </a:lnTo>
                  <a:lnTo>
                    <a:pt x="1519" y="687"/>
                  </a:lnTo>
                  <a:lnTo>
                    <a:pt x="1444" y="688"/>
                  </a:lnTo>
                  <a:lnTo>
                    <a:pt x="1370" y="687"/>
                  </a:lnTo>
                  <a:lnTo>
                    <a:pt x="1297" y="686"/>
                  </a:lnTo>
                  <a:lnTo>
                    <a:pt x="1224" y="684"/>
                  </a:lnTo>
                  <a:lnTo>
                    <a:pt x="1154" y="681"/>
                  </a:lnTo>
                  <a:lnTo>
                    <a:pt x="1084" y="677"/>
                  </a:lnTo>
                  <a:lnTo>
                    <a:pt x="1015" y="672"/>
                  </a:lnTo>
                  <a:lnTo>
                    <a:pt x="948" y="667"/>
                  </a:lnTo>
                  <a:lnTo>
                    <a:pt x="882" y="660"/>
                  </a:lnTo>
                  <a:lnTo>
                    <a:pt x="818" y="653"/>
                  </a:lnTo>
                  <a:lnTo>
                    <a:pt x="756" y="646"/>
                  </a:lnTo>
                  <a:lnTo>
                    <a:pt x="695" y="636"/>
                  </a:lnTo>
                  <a:lnTo>
                    <a:pt x="637" y="627"/>
                  </a:lnTo>
                  <a:lnTo>
                    <a:pt x="580" y="617"/>
                  </a:lnTo>
                  <a:lnTo>
                    <a:pt x="525" y="607"/>
                  </a:lnTo>
                  <a:lnTo>
                    <a:pt x="473" y="596"/>
                  </a:lnTo>
                  <a:lnTo>
                    <a:pt x="423" y="584"/>
                  </a:lnTo>
                  <a:lnTo>
                    <a:pt x="375" y="572"/>
                  </a:lnTo>
                  <a:lnTo>
                    <a:pt x="329" y="560"/>
                  </a:lnTo>
                  <a:lnTo>
                    <a:pt x="287" y="546"/>
                  </a:lnTo>
                  <a:lnTo>
                    <a:pt x="247" y="533"/>
                  </a:lnTo>
                  <a:lnTo>
                    <a:pt x="209" y="518"/>
                  </a:lnTo>
                  <a:lnTo>
                    <a:pt x="174" y="503"/>
                  </a:lnTo>
                  <a:lnTo>
                    <a:pt x="143" y="488"/>
                  </a:lnTo>
                  <a:lnTo>
                    <a:pt x="113" y="472"/>
                  </a:lnTo>
                  <a:lnTo>
                    <a:pt x="88" y="457"/>
                  </a:lnTo>
                  <a:lnTo>
                    <a:pt x="65" y="440"/>
                  </a:lnTo>
                  <a:lnTo>
                    <a:pt x="46" y="423"/>
                  </a:lnTo>
                  <a:lnTo>
                    <a:pt x="30" y="406"/>
                  </a:lnTo>
                  <a:lnTo>
                    <a:pt x="16" y="389"/>
                  </a:lnTo>
                  <a:lnTo>
                    <a:pt x="7" y="371"/>
                  </a:lnTo>
                  <a:lnTo>
                    <a:pt x="2" y="353"/>
                  </a:lnTo>
                  <a:lnTo>
                    <a:pt x="0" y="335"/>
                  </a:lnTo>
                  <a:lnTo>
                    <a:pt x="2" y="316"/>
                  </a:lnTo>
                  <a:lnTo>
                    <a:pt x="7" y="299"/>
                  </a:lnTo>
                  <a:lnTo>
                    <a:pt x="16" y="282"/>
                  </a:lnTo>
                  <a:lnTo>
                    <a:pt x="30" y="265"/>
                  </a:lnTo>
                  <a:lnTo>
                    <a:pt x="46" y="248"/>
                  </a:lnTo>
                  <a:lnTo>
                    <a:pt x="65" y="232"/>
                  </a:lnTo>
                  <a:lnTo>
                    <a:pt x="88" y="216"/>
                  </a:lnTo>
                  <a:lnTo>
                    <a:pt x="113" y="200"/>
                  </a:lnTo>
                  <a:lnTo>
                    <a:pt x="143" y="185"/>
                  </a:lnTo>
                  <a:lnTo>
                    <a:pt x="174" y="171"/>
                  </a:lnTo>
                  <a:lnTo>
                    <a:pt x="209" y="157"/>
                  </a:lnTo>
                  <a:lnTo>
                    <a:pt x="247" y="143"/>
                  </a:lnTo>
                  <a:lnTo>
                    <a:pt x="287" y="130"/>
                  </a:lnTo>
                  <a:lnTo>
                    <a:pt x="329" y="118"/>
                  </a:lnTo>
                  <a:lnTo>
                    <a:pt x="375" y="106"/>
                  </a:lnTo>
                  <a:lnTo>
                    <a:pt x="423" y="94"/>
                  </a:lnTo>
                  <a:lnTo>
                    <a:pt x="473" y="83"/>
                  </a:lnTo>
                  <a:lnTo>
                    <a:pt x="525" y="73"/>
                  </a:lnTo>
                  <a:lnTo>
                    <a:pt x="580" y="63"/>
                  </a:lnTo>
                  <a:lnTo>
                    <a:pt x="637" y="54"/>
                  </a:lnTo>
                  <a:lnTo>
                    <a:pt x="695" y="46"/>
                  </a:lnTo>
                  <a:lnTo>
                    <a:pt x="756" y="38"/>
                  </a:lnTo>
                  <a:lnTo>
                    <a:pt x="818" y="31"/>
                  </a:lnTo>
                  <a:lnTo>
                    <a:pt x="882" y="25"/>
                  </a:lnTo>
                  <a:lnTo>
                    <a:pt x="948" y="19"/>
                  </a:lnTo>
                  <a:lnTo>
                    <a:pt x="1015" y="14"/>
                  </a:lnTo>
                  <a:lnTo>
                    <a:pt x="1084" y="10"/>
                  </a:lnTo>
                  <a:lnTo>
                    <a:pt x="1154" y="7"/>
                  </a:lnTo>
                  <a:lnTo>
                    <a:pt x="1224" y="4"/>
                  </a:lnTo>
                  <a:lnTo>
                    <a:pt x="1297" y="2"/>
                  </a:lnTo>
                  <a:lnTo>
                    <a:pt x="1370" y="1"/>
                  </a:lnTo>
                  <a:lnTo>
                    <a:pt x="1444" y="0"/>
                  </a:lnTo>
                  <a:lnTo>
                    <a:pt x="1519" y="1"/>
                  </a:lnTo>
                  <a:lnTo>
                    <a:pt x="1592" y="2"/>
                  </a:lnTo>
                  <a:lnTo>
                    <a:pt x="1665" y="4"/>
                  </a:lnTo>
                  <a:lnTo>
                    <a:pt x="1735" y="7"/>
                  </a:lnTo>
                  <a:lnTo>
                    <a:pt x="1806" y="10"/>
                  </a:lnTo>
                  <a:lnTo>
                    <a:pt x="1874" y="14"/>
                  </a:lnTo>
                  <a:lnTo>
                    <a:pt x="1941" y="19"/>
                  </a:lnTo>
                  <a:lnTo>
                    <a:pt x="2007" y="25"/>
                  </a:lnTo>
                  <a:lnTo>
                    <a:pt x="2071" y="31"/>
                  </a:lnTo>
                  <a:lnTo>
                    <a:pt x="2133" y="38"/>
                  </a:lnTo>
                  <a:lnTo>
                    <a:pt x="2194" y="46"/>
                  </a:lnTo>
                  <a:lnTo>
                    <a:pt x="2252" y="54"/>
                  </a:lnTo>
                  <a:lnTo>
                    <a:pt x="2309" y="63"/>
                  </a:lnTo>
                  <a:lnTo>
                    <a:pt x="2364" y="73"/>
                  </a:lnTo>
                  <a:lnTo>
                    <a:pt x="2416" y="83"/>
                  </a:lnTo>
                  <a:lnTo>
                    <a:pt x="2467" y="94"/>
                  </a:lnTo>
                  <a:lnTo>
                    <a:pt x="2514" y="106"/>
                  </a:lnTo>
                  <a:lnTo>
                    <a:pt x="2559" y="118"/>
                  </a:lnTo>
                  <a:lnTo>
                    <a:pt x="2602" y="130"/>
                  </a:lnTo>
                  <a:lnTo>
                    <a:pt x="2642" y="143"/>
                  </a:lnTo>
                  <a:lnTo>
                    <a:pt x="2680" y="157"/>
                  </a:lnTo>
                  <a:lnTo>
                    <a:pt x="2715" y="171"/>
                  </a:lnTo>
                  <a:lnTo>
                    <a:pt x="2746" y="185"/>
                  </a:lnTo>
                  <a:lnTo>
                    <a:pt x="2776" y="200"/>
                  </a:lnTo>
                  <a:lnTo>
                    <a:pt x="2802" y="216"/>
                  </a:lnTo>
                  <a:lnTo>
                    <a:pt x="2824" y="232"/>
                  </a:lnTo>
                  <a:lnTo>
                    <a:pt x="2843" y="248"/>
                  </a:lnTo>
                  <a:lnTo>
                    <a:pt x="2859" y="265"/>
                  </a:lnTo>
                  <a:lnTo>
                    <a:pt x="2873" y="282"/>
                  </a:lnTo>
                  <a:lnTo>
                    <a:pt x="2882" y="299"/>
                  </a:lnTo>
                  <a:lnTo>
                    <a:pt x="2888" y="316"/>
                  </a:lnTo>
                  <a:lnTo>
                    <a:pt x="2889" y="335"/>
                  </a:lnTo>
                  <a:close/>
                </a:path>
              </a:pathLst>
            </a:custGeom>
            <a:solidFill>
              <a:srgbClr val="fb50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131560" y="6537240"/>
              <a:ext cx="317880" cy="81360"/>
            </a:xfrm>
            <a:custGeom>
              <a:avLst/>
              <a:gdLst/>
              <a:ahLst/>
              <a:rect l="l" t="t" r="r" b="b"/>
              <a:pathLst>
                <a:path w="2887" h="686">
                  <a:moveTo>
                    <a:pt x="2887" y="334"/>
                  </a:moveTo>
                  <a:lnTo>
                    <a:pt x="2885" y="352"/>
                  </a:lnTo>
                  <a:lnTo>
                    <a:pt x="2880" y="370"/>
                  </a:lnTo>
                  <a:lnTo>
                    <a:pt x="2871" y="387"/>
                  </a:lnTo>
                  <a:lnTo>
                    <a:pt x="2857" y="405"/>
                  </a:lnTo>
                  <a:lnTo>
                    <a:pt x="2841" y="421"/>
                  </a:lnTo>
                  <a:lnTo>
                    <a:pt x="2822" y="439"/>
                  </a:lnTo>
                  <a:lnTo>
                    <a:pt x="2799" y="455"/>
                  </a:lnTo>
                  <a:lnTo>
                    <a:pt x="2774" y="471"/>
                  </a:lnTo>
                  <a:lnTo>
                    <a:pt x="2744" y="486"/>
                  </a:lnTo>
                  <a:lnTo>
                    <a:pt x="2713" y="501"/>
                  </a:lnTo>
                  <a:lnTo>
                    <a:pt x="2678" y="516"/>
                  </a:lnTo>
                  <a:lnTo>
                    <a:pt x="2640" y="530"/>
                  </a:lnTo>
                  <a:lnTo>
                    <a:pt x="2600" y="545"/>
                  </a:lnTo>
                  <a:lnTo>
                    <a:pt x="2557" y="558"/>
                  </a:lnTo>
                  <a:lnTo>
                    <a:pt x="2512" y="571"/>
                  </a:lnTo>
                  <a:lnTo>
                    <a:pt x="2465" y="583"/>
                  </a:lnTo>
                  <a:lnTo>
                    <a:pt x="2414" y="594"/>
                  </a:lnTo>
                  <a:lnTo>
                    <a:pt x="2361" y="605"/>
                  </a:lnTo>
                  <a:lnTo>
                    <a:pt x="2307" y="616"/>
                  </a:lnTo>
                  <a:lnTo>
                    <a:pt x="2250" y="625"/>
                  </a:lnTo>
                  <a:lnTo>
                    <a:pt x="2192" y="634"/>
                  </a:lnTo>
                  <a:lnTo>
                    <a:pt x="2131" y="644"/>
                  </a:lnTo>
                  <a:lnTo>
                    <a:pt x="2070" y="652"/>
                  </a:lnTo>
                  <a:lnTo>
                    <a:pt x="2005" y="658"/>
                  </a:lnTo>
                  <a:lnTo>
                    <a:pt x="1939" y="665"/>
                  </a:lnTo>
                  <a:lnTo>
                    <a:pt x="1873" y="670"/>
                  </a:lnTo>
                  <a:lnTo>
                    <a:pt x="1804" y="675"/>
                  </a:lnTo>
                  <a:lnTo>
                    <a:pt x="1734" y="679"/>
                  </a:lnTo>
                  <a:lnTo>
                    <a:pt x="1664" y="682"/>
                  </a:lnTo>
                  <a:lnTo>
                    <a:pt x="1591" y="684"/>
                  </a:lnTo>
                  <a:lnTo>
                    <a:pt x="1518" y="685"/>
                  </a:lnTo>
                  <a:lnTo>
                    <a:pt x="1443" y="686"/>
                  </a:lnTo>
                  <a:lnTo>
                    <a:pt x="1370" y="685"/>
                  </a:lnTo>
                  <a:lnTo>
                    <a:pt x="1296" y="684"/>
                  </a:lnTo>
                  <a:lnTo>
                    <a:pt x="1223" y="682"/>
                  </a:lnTo>
                  <a:lnTo>
                    <a:pt x="1153" y="679"/>
                  </a:lnTo>
                  <a:lnTo>
                    <a:pt x="1083" y="675"/>
                  </a:lnTo>
                  <a:lnTo>
                    <a:pt x="1014" y="670"/>
                  </a:lnTo>
                  <a:lnTo>
                    <a:pt x="948" y="665"/>
                  </a:lnTo>
                  <a:lnTo>
                    <a:pt x="882" y="658"/>
                  </a:lnTo>
                  <a:lnTo>
                    <a:pt x="818" y="652"/>
                  </a:lnTo>
                  <a:lnTo>
                    <a:pt x="756" y="644"/>
                  </a:lnTo>
                  <a:lnTo>
                    <a:pt x="695" y="634"/>
                  </a:lnTo>
                  <a:lnTo>
                    <a:pt x="637" y="625"/>
                  </a:lnTo>
                  <a:lnTo>
                    <a:pt x="580" y="616"/>
                  </a:lnTo>
                  <a:lnTo>
                    <a:pt x="525" y="605"/>
                  </a:lnTo>
                  <a:lnTo>
                    <a:pt x="473" y="594"/>
                  </a:lnTo>
                  <a:lnTo>
                    <a:pt x="423" y="583"/>
                  </a:lnTo>
                  <a:lnTo>
                    <a:pt x="375" y="571"/>
                  </a:lnTo>
                  <a:lnTo>
                    <a:pt x="329" y="558"/>
                  </a:lnTo>
                  <a:lnTo>
                    <a:pt x="287" y="545"/>
                  </a:lnTo>
                  <a:lnTo>
                    <a:pt x="247" y="530"/>
                  </a:lnTo>
                  <a:lnTo>
                    <a:pt x="209" y="516"/>
                  </a:lnTo>
                  <a:lnTo>
                    <a:pt x="175" y="501"/>
                  </a:lnTo>
                  <a:lnTo>
                    <a:pt x="143" y="486"/>
                  </a:lnTo>
                  <a:lnTo>
                    <a:pt x="113" y="471"/>
                  </a:lnTo>
                  <a:lnTo>
                    <a:pt x="88" y="455"/>
                  </a:lnTo>
                  <a:lnTo>
                    <a:pt x="65" y="439"/>
                  </a:lnTo>
                  <a:lnTo>
                    <a:pt x="46" y="421"/>
                  </a:lnTo>
                  <a:lnTo>
                    <a:pt x="30" y="405"/>
                  </a:lnTo>
                  <a:lnTo>
                    <a:pt x="17" y="387"/>
                  </a:lnTo>
                  <a:lnTo>
                    <a:pt x="7" y="370"/>
                  </a:lnTo>
                  <a:lnTo>
                    <a:pt x="2" y="352"/>
                  </a:lnTo>
                  <a:lnTo>
                    <a:pt x="0" y="334"/>
                  </a:lnTo>
                  <a:lnTo>
                    <a:pt x="2" y="315"/>
                  </a:lnTo>
                  <a:lnTo>
                    <a:pt x="7" y="298"/>
                  </a:lnTo>
                  <a:lnTo>
                    <a:pt x="17" y="281"/>
                  </a:lnTo>
                  <a:lnTo>
                    <a:pt x="30" y="264"/>
                  </a:lnTo>
                  <a:lnTo>
                    <a:pt x="46" y="247"/>
                  </a:lnTo>
                  <a:lnTo>
                    <a:pt x="65" y="231"/>
                  </a:lnTo>
                  <a:lnTo>
                    <a:pt x="88" y="216"/>
                  </a:lnTo>
                  <a:lnTo>
                    <a:pt x="113" y="199"/>
                  </a:lnTo>
                  <a:lnTo>
                    <a:pt x="143" y="185"/>
                  </a:lnTo>
                  <a:lnTo>
                    <a:pt x="175" y="170"/>
                  </a:lnTo>
                  <a:lnTo>
                    <a:pt x="209" y="156"/>
                  </a:lnTo>
                  <a:lnTo>
                    <a:pt x="247" y="143"/>
                  </a:lnTo>
                  <a:lnTo>
                    <a:pt x="287" y="130"/>
                  </a:lnTo>
                  <a:lnTo>
                    <a:pt x="329" y="118"/>
                  </a:lnTo>
                  <a:lnTo>
                    <a:pt x="375" y="106"/>
                  </a:lnTo>
                  <a:lnTo>
                    <a:pt x="423" y="94"/>
                  </a:lnTo>
                  <a:lnTo>
                    <a:pt x="473" y="83"/>
                  </a:lnTo>
                  <a:lnTo>
                    <a:pt x="525" y="73"/>
                  </a:lnTo>
                  <a:lnTo>
                    <a:pt x="580" y="63"/>
                  </a:lnTo>
                  <a:lnTo>
                    <a:pt x="637" y="54"/>
                  </a:lnTo>
                  <a:lnTo>
                    <a:pt x="695" y="46"/>
                  </a:lnTo>
                  <a:lnTo>
                    <a:pt x="756" y="38"/>
                  </a:lnTo>
                  <a:lnTo>
                    <a:pt x="818" y="31"/>
                  </a:lnTo>
                  <a:lnTo>
                    <a:pt x="882" y="25"/>
                  </a:lnTo>
                  <a:lnTo>
                    <a:pt x="948" y="19"/>
                  </a:lnTo>
                  <a:lnTo>
                    <a:pt x="1014" y="14"/>
                  </a:lnTo>
                  <a:lnTo>
                    <a:pt x="1083" y="10"/>
                  </a:lnTo>
                  <a:lnTo>
                    <a:pt x="1153" y="6"/>
                  </a:lnTo>
                  <a:lnTo>
                    <a:pt x="1223" y="4"/>
                  </a:lnTo>
                  <a:lnTo>
                    <a:pt x="1296" y="2"/>
                  </a:lnTo>
                  <a:lnTo>
                    <a:pt x="1370" y="1"/>
                  </a:lnTo>
                  <a:lnTo>
                    <a:pt x="1443" y="0"/>
                  </a:lnTo>
                  <a:lnTo>
                    <a:pt x="1518" y="1"/>
                  </a:lnTo>
                  <a:lnTo>
                    <a:pt x="1591" y="2"/>
                  </a:lnTo>
                  <a:lnTo>
                    <a:pt x="1664" y="4"/>
                  </a:lnTo>
                  <a:lnTo>
                    <a:pt x="1734" y="6"/>
                  </a:lnTo>
                  <a:lnTo>
                    <a:pt x="1804" y="10"/>
                  </a:lnTo>
                  <a:lnTo>
                    <a:pt x="1873" y="14"/>
                  </a:lnTo>
                  <a:lnTo>
                    <a:pt x="1939" y="19"/>
                  </a:lnTo>
                  <a:lnTo>
                    <a:pt x="2005" y="25"/>
                  </a:lnTo>
                  <a:lnTo>
                    <a:pt x="2070" y="31"/>
                  </a:lnTo>
                  <a:lnTo>
                    <a:pt x="2131" y="38"/>
                  </a:lnTo>
                  <a:lnTo>
                    <a:pt x="2192" y="46"/>
                  </a:lnTo>
                  <a:lnTo>
                    <a:pt x="2250" y="54"/>
                  </a:lnTo>
                  <a:lnTo>
                    <a:pt x="2307" y="63"/>
                  </a:lnTo>
                  <a:lnTo>
                    <a:pt x="2361" y="73"/>
                  </a:lnTo>
                  <a:lnTo>
                    <a:pt x="2414" y="83"/>
                  </a:lnTo>
                  <a:lnTo>
                    <a:pt x="2465" y="94"/>
                  </a:lnTo>
                  <a:lnTo>
                    <a:pt x="2512" y="106"/>
                  </a:lnTo>
                  <a:lnTo>
                    <a:pt x="2557" y="118"/>
                  </a:lnTo>
                  <a:lnTo>
                    <a:pt x="2600" y="130"/>
                  </a:lnTo>
                  <a:lnTo>
                    <a:pt x="2640" y="143"/>
                  </a:lnTo>
                  <a:lnTo>
                    <a:pt x="2678" y="156"/>
                  </a:lnTo>
                  <a:lnTo>
                    <a:pt x="2713" y="170"/>
                  </a:lnTo>
                  <a:lnTo>
                    <a:pt x="2744" y="185"/>
                  </a:lnTo>
                  <a:lnTo>
                    <a:pt x="2774" y="199"/>
                  </a:lnTo>
                  <a:lnTo>
                    <a:pt x="2799" y="216"/>
                  </a:lnTo>
                  <a:lnTo>
                    <a:pt x="2822" y="231"/>
                  </a:lnTo>
                  <a:lnTo>
                    <a:pt x="2841" y="247"/>
                  </a:lnTo>
                  <a:lnTo>
                    <a:pt x="2857" y="264"/>
                  </a:lnTo>
                  <a:lnTo>
                    <a:pt x="2871" y="281"/>
                  </a:lnTo>
                  <a:lnTo>
                    <a:pt x="2880" y="298"/>
                  </a:lnTo>
                  <a:lnTo>
                    <a:pt x="2885" y="315"/>
                  </a:lnTo>
                  <a:lnTo>
                    <a:pt x="2887" y="334"/>
                  </a:lnTo>
                  <a:close/>
                </a:path>
              </a:pathLst>
            </a:custGeom>
            <a:solidFill>
              <a:srgbClr val="fb50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131560" y="6537240"/>
              <a:ext cx="317880" cy="81360"/>
            </a:xfrm>
            <a:custGeom>
              <a:avLst/>
              <a:gdLst/>
              <a:ahLst/>
              <a:rect l="l" t="t" r="r" b="b"/>
              <a:pathLst>
                <a:path w="2884" h="684">
                  <a:moveTo>
                    <a:pt x="2884" y="333"/>
                  </a:moveTo>
                  <a:lnTo>
                    <a:pt x="2882" y="351"/>
                  </a:lnTo>
                  <a:lnTo>
                    <a:pt x="2876" y="369"/>
                  </a:lnTo>
                  <a:lnTo>
                    <a:pt x="2866" y="386"/>
                  </a:lnTo>
                  <a:lnTo>
                    <a:pt x="2854" y="403"/>
                  </a:lnTo>
                  <a:lnTo>
                    <a:pt x="2838" y="420"/>
                  </a:lnTo>
                  <a:lnTo>
                    <a:pt x="2818" y="438"/>
                  </a:lnTo>
                  <a:lnTo>
                    <a:pt x="2796" y="454"/>
                  </a:lnTo>
                  <a:lnTo>
                    <a:pt x="2770" y="470"/>
                  </a:lnTo>
                  <a:lnTo>
                    <a:pt x="2741" y="485"/>
                  </a:lnTo>
                  <a:lnTo>
                    <a:pt x="2709" y="500"/>
                  </a:lnTo>
                  <a:lnTo>
                    <a:pt x="2675" y="515"/>
                  </a:lnTo>
                  <a:lnTo>
                    <a:pt x="2637" y="529"/>
                  </a:lnTo>
                  <a:lnTo>
                    <a:pt x="2597" y="543"/>
                  </a:lnTo>
                  <a:lnTo>
                    <a:pt x="2554" y="556"/>
                  </a:lnTo>
                  <a:lnTo>
                    <a:pt x="2509" y="569"/>
                  </a:lnTo>
                  <a:lnTo>
                    <a:pt x="2461" y="581"/>
                  </a:lnTo>
                  <a:lnTo>
                    <a:pt x="2411" y="593"/>
                  </a:lnTo>
                  <a:lnTo>
                    <a:pt x="2358" y="604"/>
                  </a:lnTo>
                  <a:lnTo>
                    <a:pt x="2304" y="614"/>
                  </a:lnTo>
                  <a:lnTo>
                    <a:pt x="2247" y="624"/>
                  </a:lnTo>
                  <a:lnTo>
                    <a:pt x="2189" y="633"/>
                  </a:lnTo>
                  <a:lnTo>
                    <a:pt x="2129" y="642"/>
                  </a:lnTo>
                  <a:lnTo>
                    <a:pt x="2067" y="650"/>
                  </a:lnTo>
                  <a:lnTo>
                    <a:pt x="2003" y="657"/>
                  </a:lnTo>
                  <a:lnTo>
                    <a:pt x="1937" y="663"/>
                  </a:lnTo>
                  <a:lnTo>
                    <a:pt x="1871" y="668"/>
                  </a:lnTo>
                  <a:lnTo>
                    <a:pt x="1802" y="673"/>
                  </a:lnTo>
                  <a:lnTo>
                    <a:pt x="1732" y="677"/>
                  </a:lnTo>
                  <a:lnTo>
                    <a:pt x="1661" y="680"/>
                  </a:lnTo>
                  <a:lnTo>
                    <a:pt x="1589" y="682"/>
                  </a:lnTo>
                  <a:lnTo>
                    <a:pt x="1516" y="684"/>
                  </a:lnTo>
                  <a:lnTo>
                    <a:pt x="1441" y="684"/>
                  </a:lnTo>
                  <a:lnTo>
                    <a:pt x="1368" y="684"/>
                  </a:lnTo>
                  <a:lnTo>
                    <a:pt x="1294" y="682"/>
                  </a:lnTo>
                  <a:lnTo>
                    <a:pt x="1222" y="680"/>
                  </a:lnTo>
                  <a:lnTo>
                    <a:pt x="1151" y="677"/>
                  </a:lnTo>
                  <a:lnTo>
                    <a:pt x="1081" y="673"/>
                  </a:lnTo>
                  <a:lnTo>
                    <a:pt x="1013" y="668"/>
                  </a:lnTo>
                  <a:lnTo>
                    <a:pt x="946" y="663"/>
                  </a:lnTo>
                  <a:lnTo>
                    <a:pt x="880" y="657"/>
                  </a:lnTo>
                  <a:lnTo>
                    <a:pt x="816" y="650"/>
                  </a:lnTo>
                  <a:lnTo>
                    <a:pt x="755" y="642"/>
                  </a:lnTo>
                  <a:lnTo>
                    <a:pt x="694" y="633"/>
                  </a:lnTo>
                  <a:lnTo>
                    <a:pt x="636" y="624"/>
                  </a:lnTo>
                  <a:lnTo>
                    <a:pt x="579" y="614"/>
                  </a:lnTo>
                  <a:lnTo>
                    <a:pt x="524" y="604"/>
                  </a:lnTo>
                  <a:lnTo>
                    <a:pt x="472" y="593"/>
                  </a:lnTo>
                  <a:lnTo>
                    <a:pt x="422" y="581"/>
                  </a:lnTo>
                  <a:lnTo>
                    <a:pt x="374" y="569"/>
                  </a:lnTo>
                  <a:lnTo>
                    <a:pt x="330" y="556"/>
                  </a:lnTo>
                  <a:lnTo>
                    <a:pt x="286" y="543"/>
                  </a:lnTo>
                  <a:lnTo>
                    <a:pt x="246" y="529"/>
                  </a:lnTo>
                  <a:lnTo>
                    <a:pt x="208" y="515"/>
                  </a:lnTo>
                  <a:lnTo>
                    <a:pt x="174" y="500"/>
                  </a:lnTo>
                  <a:lnTo>
                    <a:pt x="142" y="485"/>
                  </a:lnTo>
                  <a:lnTo>
                    <a:pt x="113" y="470"/>
                  </a:lnTo>
                  <a:lnTo>
                    <a:pt x="87" y="454"/>
                  </a:lnTo>
                  <a:lnTo>
                    <a:pt x="65" y="438"/>
                  </a:lnTo>
                  <a:lnTo>
                    <a:pt x="45" y="420"/>
                  </a:lnTo>
                  <a:lnTo>
                    <a:pt x="30" y="403"/>
                  </a:lnTo>
                  <a:lnTo>
                    <a:pt x="16" y="386"/>
                  </a:lnTo>
                  <a:lnTo>
                    <a:pt x="7" y="369"/>
                  </a:lnTo>
                  <a:lnTo>
                    <a:pt x="1" y="351"/>
                  </a:lnTo>
                  <a:lnTo>
                    <a:pt x="0" y="333"/>
                  </a:lnTo>
                  <a:lnTo>
                    <a:pt x="1" y="314"/>
                  </a:lnTo>
                  <a:lnTo>
                    <a:pt x="7" y="297"/>
                  </a:lnTo>
                  <a:lnTo>
                    <a:pt x="16" y="280"/>
                  </a:lnTo>
                  <a:lnTo>
                    <a:pt x="30" y="263"/>
                  </a:lnTo>
                  <a:lnTo>
                    <a:pt x="45" y="247"/>
                  </a:lnTo>
                  <a:lnTo>
                    <a:pt x="65" y="231"/>
                  </a:lnTo>
                  <a:lnTo>
                    <a:pt x="87" y="215"/>
                  </a:lnTo>
                  <a:lnTo>
                    <a:pt x="113" y="199"/>
                  </a:lnTo>
                  <a:lnTo>
                    <a:pt x="142" y="184"/>
                  </a:lnTo>
                  <a:lnTo>
                    <a:pt x="174" y="170"/>
                  </a:lnTo>
                  <a:lnTo>
                    <a:pt x="208" y="156"/>
                  </a:lnTo>
                  <a:lnTo>
                    <a:pt x="246" y="142"/>
                  </a:lnTo>
                  <a:lnTo>
                    <a:pt x="286" y="130"/>
                  </a:lnTo>
                  <a:lnTo>
                    <a:pt x="330" y="117"/>
                  </a:lnTo>
                  <a:lnTo>
                    <a:pt x="374" y="105"/>
                  </a:lnTo>
                  <a:lnTo>
                    <a:pt x="422" y="93"/>
                  </a:lnTo>
                  <a:lnTo>
                    <a:pt x="472" y="83"/>
                  </a:lnTo>
                  <a:lnTo>
                    <a:pt x="524" y="72"/>
                  </a:lnTo>
                  <a:lnTo>
                    <a:pt x="579" y="63"/>
                  </a:lnTo>
                  <a:lnTo>
                    <a:pt x="636" y="54"/>
                  </a:lnTo>
                  <a:lnTo>
                    <a:pt x="694" y="46"/>
                  </a:lnTo>
                  <a:lnTo>
                    <a:pt x="755" y="38"/>
                  </a:lnTo>
                  <a:lnTo>
                    <a:pt x="816" y="31"/>
                  </a:lnTo>
                  <a:lnTo>
                    <a:pt x="880" y="25"/>
                  </a:lnTo>
                  <a:lnTo>
                    <a:pt x="946" y="19"/>
                  </a:lnTo>
                  <a:lnTo>
                    <a:pt x="1013" y="14"/>
                  </a:lnTo>
                  <a:lnTo>
                    <a:pt x="1081" y="10"/>
                  </a:lnTo>
                  <a:lnTo>
                    <a:pt x="1151" y="6"/>
                  </a:lnTo>
                  <a:lnTo>
                    <a:pt x="1222" y="4"/>
                  </a:lnTo>
                  <a:lnTo>
                    <a:pt x="1294" y="2"/>
                  </a:lnTo>
                  <a:lnTo>
                    <a:pt x="1368" y="0"/>
                  </a:lnTo>
                  <a:lnTo>
                    <a:pt x="1441" y="0"/>
                  </a:lnTo>
                  <a:lnTo>
                    <a:pt x="1516" y="0"/>
                  </a:lnTo>
                  <a:lnTo>
                    <a:pt x="1589" y="2"/>
                  </a:lnTo>
                  <a:lnTo>
                    <a:pt x="1661" y="4"/>
                  </a:lnTo>
                  <a:lnTo>
                    <a:pt x="1732" y="6"/>
                  </a:lnTo>
                  <a:lnTo>
                    <a:pt x="1802" y="10"/>
                  </a:lnTo>
                  <a:lnTo>
                    <a:pt x="1871" y="14"/>
                  </a:lnTo>
                  <a:lnTo>
                    <a:pt x="1937" y="19"/>
                  </a:lnTo>
                  <a:lnTo>
                    <a:pt x="2003" y="25"/>
                  </a:lnTo>
                  <a:lnTo>
                    <a:pt x="2067" y="31"/>
                  </a:lnTo>
                  <a:lnTo>
                    <a:pt x="2129" y="38"/>
                  </a:lnTo>
                  <a:lnTo>
                    <a:pt x="2189" y="46"/>
                  </a:lnTo>
                  <a:lnTo>
                    <a:pt x="2247" y="54"/>
                  </a:lnTo>
                  <a:lnTo>
                    <a:pt x="2304" y="63"/>
                  </a:lnTo>
                  <a:lnTo>
                    <a:pt x="2358" y="72"/>
                  </a:lnTo>
                  <a:lnTo>
                    <a:pt x="2411" y="83"/>
                  </a:lnTo>
                  <a:lnTo>
                    <a:pt x="2461" y="93"/>
                  </a:lnTo>
                  <a:lnTo>
                    <a:pt x="2509" y="105"/>
                  </a:lnTo>
                  <a:lnTo>
                    <a:pt x="2554" y="117"/>
                  </a:lnTo>
                  <a:lnTo>
                    <a:pt x="2597" y="130"/>
                  </a:lnTo>
                  <a:lnTo>
                    <a:pt x="2637" y="142"/>
                  </a:lnTo>
                  <a:lnTo>
                    <a:pt x="2675" y="156"/>
                  </a:lnTo>
                  <a:lnTo>
                    <a:pt x="2709" y="170"/>
                  </a:lnTo>
                  <a:lnTo>
                    <a:pt x="2741" y="184"/>
                  </a:lnTo>
                  <a:lnTo>
                    <a:pt x="2770" y="199"/>
                  </a:lnTo>
                  <a:lnTo>
                    <a:pt x="2796" y="215"/>
                  </a:lnTo>
                  <a:lnTo>
                    <a:pt x="2818" y="231"/>
                  </a:lnTo>
                  <a:lnTo>
                    <a:pt x="2838" y="247"/>
                  </a:lnTo>
                  <a:lnTo>
                    <a:pt x="2854" y="263"/>
                  </a:lnTo>
                  <a:lnTo>
                    <a:pt x="2866" y="280"/>
                  </a:lnTo>
                  <a:lnTo>
                    <a:pt x="2876" y="297"/>
                  </a:lnTo>
                  <a:lnTo>
                    <a:pt x="2882" y="314"/>
                  </a:lnTo>
                  <a:lnTo>
                    <a:pt x="2884" y="333"/>
                  </a:lnTo>
                  <a:close/>
                </a:path>
              </a:pathLst>
            </a:custGeom>
            <a:solidFill>
              <a:srgbClr val="fb50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131560" y="6537240"/>
              <a:ext cx="317880" cy="81360"/>
            </a:xfrm>
            <a:custGeom>
              <a:avLst/>
              <a:gdLst/>
              <a:ahLst/>
              <a:rect l="l" t="t" r="r" b="b"/>
              <a:pathLst>
                <a:path w="2881" h="682">
                  <a:moveTo>
                    <a:pt x="2881" y="332"/>
                  </a:moveTo>
                  <a:lnTo>
                    <a:pt x="2879" y="350"/>
                  </a:lnTo>
                  <a:lnTo>
                    <a:pt x="2874" y="368"/>
                  </a:lnTo>
                  <a:lnTo>
                    <a:pt x="2864" y="385"/>
                  </a:lnTo>
                  <a:lnTo>
                    <a:pt x="2851" y="402"/>
                  </a:lnTo>
                  <a:lnTo>
                    <a:pt x="2835" y="419"/>
                  </a:lnTo>
                  <a:lnTo>
                    <a:pt x="2816" y="436"/>
                  </a:lnTo>
                  <a:lnTo>
                    <a:pt x="2794" y="453"/>
                  </a:lnTo>
                  <a:lnTo>
                    <a:pt x="2768" y="468"/>
                  </a:lnTo>
                  <a:lnTo>
                    <a:pt x="2739" y="484"/>
                  </a:lnTo>
                  <a:lnTo>
                    <a:pt x="2707" y="499"/>
                  </a:lnTo>
                  <a:lnTo>
                    <a:pt x="2673" y="513"/>
                  </a:lnTo>
                  <a:lnTo>
                    <a:pt x="2635" y="527"/>
                  </a:lnTo>
                  <a:lnTo>
                    <a:pt x="2595" y="542"/>
                  </a:lnTo>
                  <a:lnTo>
                    <a:pt x="2552" y="555"/>
                  </a:lnTo>
                  <a:lnTo>
                    <a:pt x="2507" y="567"/>
                  </a:lnTo>
                  <a:lnTo>
                    <a:pt x="2458" y="580"/>
                  </a:lnTo>
                  <a:lnTo>
                    <a:pt x="2409" y="591"/>
                  </a:lnTo>
                  <a:lnTo>
                    <a:pt x="2356" y="602"/>
                  </a:lnTo>
                  <a:lnTo>
                    <a:pt x="2302" y="612"/>
                  </a:lnTo>
                  <a:lnTo>
                    <a:pt x="2245" y="622"/>
                  </a:lnTo>
                  <a:lnTo>
                    <a:pt x="2188" y="631"/>
                  </a:lnTo>
                  <a:lnTo>
                    <a:pt x="2127" y="640"/>
                  </a:lnTo>
                  <a:lnTo>
                    <a:pt x="2065" y="648"/>
                  </a:lnTo>
                  <a:lnTo>
                    <a:pt x="2001" y="655"/>
                  </a:lnTo>
                  <a:lnTo>
                    <a:pt x="1935" y="661"/>
                  </a:lnTo>
                  <a:lnTo>
                    <a:pt x="1869" y="666"/>
                  </a:lnTo>
                  <a:lnTo>
                    <a:pt x="1800" y="671"/>
                  </a:lnTo>
                  <a:lnTo>
                    <a:pt x="1730" y="675"/>
                  </a:lnTo>
                  <a:lnTo>
                    <a:pt x="1660" y="678"/>
                  </a:lnTo>
                  <a:lnTo>
                    <a:pt x="1588" y="680"/>
                  </a:lnTo>
                  <a:lnTo>
                    <a:pt x="1514" y="682"/>
                  </a:lnTo>
                  <a:lnTo>
                    <a:pt x="1440" y="682"/>
                  </a:lnTo>
                  <a:lnTo>
                    <a:pt x="1367" y="682"/>
                  </a:lnTo>
                  <a:lnTo>
                    <a:pt x="1293" y="680"/>
                  </a:lnTo>
                  <a:lnTo>
                    <a:pt x="1221" y="678"/>
                  </a:lnTo>
                  <a:lnTo>
                    <a:pt x="1151" y="675"/>
                  </a:lnTo>
                  <a:lnTo>
                    <a:pt x="1081" y="671"/>
                  </a:lnTo>
                  <a:lnTo>
                    <a:pt x="1012" y="666"/>
                  </a:lnTo>
                  <a:lnTo>
                    <a:pt x="946" y="661"/>
                  </a:lnTo>
                  <a:lnTo>
                    <a:pt x="880" y="655"/>
                  </a:lnTo>
                  <a:lnTo>
                    <a:pt x="816" y="648"/>
                  </a:lnTo>
                  <a:lnTo>
                    <a:pt x="754" y="640"/>
                  </a:lnTo>
                  <a:lnTo>
                    <a:pt x="694" y="631"/>
                  </a:lnTo>
                  <a:lnTo>
                    <a:pt x="636" y="622"/>
                  </a:lnTo>
                  <a:lnTo>
                    <a:pt x="579" y="612"/>
                  </a:lnTo>
                  <a:lnTo>
                    <a:pt x="524" y="602"/>
                  </a:lnTo>
                  <a:lnTo>
                    <a:pt x="472" y="591"/>
                  </a:lnTo>
                  <a:lnTo>
                    <a:pt x="422" y="580"/>
                  </a:lnTo>
                  <a:lnTo>
                    <a:pt x="374" y="567"/>
                  </a:lnTo>
                  <a:lnTo>
                    <a:pt x="330" y="555"/>
                  </a:lnTo>
                  <a:lnTo>
                    <a:pt x="286" y="542"/>
                  </a:lnTo>
                  <a:lnTo>
                    <a:pt x="247" y="527"/>
                  </a:lnTo>
                  <a:lnTo>
                    <a:pt x="208" y="513"/>
                  </a:lnTo>
                  <a:lnTo>
                    <a:pt x="174" y="499"/>
                  </a:lnTo>
                  <a:lnTo>
                    <a:pt x="143" y="484"/>
                  </a:lnTo>
                  <a:lnTo>
                    <a:pt x="113" y="468"/>
                  </a:lnTo>
                  <a:lnTo>
                    <a:pt x="87" y="453"/>
                  </a:lnTo>
                  <a:lnTo>
                    <a:pt x="65" y="436"/>
                  </a:lnTo>
                  <a:lnTo>
                    <a:pt x="46" y="419"/>
                  </a:lnTo>
                  <a:lnTo>
                    <a:pt x="30" y="402"/>
                  </a:lnTo>
                  <a:lnTo>
                    <a:pt x="16" y="385"/>
                  </a:lnTo>
                  <a:lnTo>
                    <a:pt x="7" y="368"/>
                  </a:lnTo>
                  <a:lnTo>
                    <a:pt x="2" y="350"/>
                  </a:lnTo>
                  <a:lnTo>
                    <a:pt x="0" y="332"/>
                  </a:lnTo>
                  <a:lnTo>
                    <a:pt x="2" y="314"/>
                  </a:lnTo>
                  <a:lnTo>
                    <a:pt x="7" y="296"/>
                  </a:lnTo>
                  <a:lnTo>
                    <a:pt x="16" y="279"/>
                  </a:lnTo>
                  <a:lnTo>
                    <a:pt x="30" y="262"/>
                  </a:lnTo>
                  <a:lnTo>
                    <a:pt x="46" y="246"/>
                  </a:lnTo>
                  <a:lnTo>
                    <a:pt x="65" y="230"/>
                  </a:lnTo>
                  <a:lnTo>
                    <a:pt x="87" y="214"/>
                  </a:lnTo>
                  <a:lnTo>
                    <a:pt x="113" y="198"/>
                  </a:lnTo>
                  <a:lnTo>
                    <a:pt x="143" y="183"/>
                  </a:lnTo>
                  <a:lnTo>
                    <a:pt x="174" y="169"/>
                  </a:lnTo>
                  <a:lnTo>
                    <a:pt x="208" y="155"/>
                  </a:lnTo>
                  <a:lnTo>
                    <a:pt x="247" y="142"/>
                  </a:lnTo>
                  <a:lnTo>
                    <a:pt x="286" y="129"/>
                  </a:lnTo>
                  <a:lnTo>
                    <a:pt x="330" y="117"/>
                  </a:lnTo>
                  <a:lnTo>
                    <a:pt x="374" y="105"/>
                  </a:lnTo>
                  <a:lnTo>
                    <a:pt x="422" y="93"/>
                  </a:lnTo>
                  <a:lnTo>
                    <a:pt x="472" y="82"/>
                  </a:lnTo>
                  <a:lnTo>
                    <a:pt x="524" y="72"/>
                  </a:lnTo>
                  <a:lnTo>
                    <a:pt x="579" y="63"/>
                  </a:lnTo>
                  <a:lnTo>
                    <a:pt x="636" y="54"/>
                  </a:lnTo>
                  <a:lnTo>
                    <a:pt x="694" y="45"/>
                  </a:lnTo>
                  <a:lnTo>
                    <a:pt x="754" y="38"/>
                  </a:lnTo>
                  <a:lnTo>
                    <a:pt x="816" y="31"/>
                  </a:lnTo>
                  <a:lnTo>
                    <a:pt x="880" y="25"/>
                  </a:lnTo>
                  <a:lnTo>
                    <a:pt x="946" y="19"/>
                  </a:lnTo>
                  <a:lnTo>
                    <a:pt x="1012" y="14"/>
                  </a:lnTo>
                  <a:lnTo>
                    <a:pt x="1081" y="10"/>
                  </a:lnTo>
                  <a:lnTo>
                    <a:pt x="1151" y="6"/>
                  </a:lnTo>
                  <a:lnTo>
                    <a:pt x="1221" y="4"/>
                  </a:lnTo>
                  <a:lnTo>
                    <a:pt x="1293" y="2"/>
                  </a:lnTo>
                  <a:lnTo>
                    <a:pt x="1367" y="0"/>
                  </a:lnTo>
                  <a:lnTo>
                    <a:pt x="1440" y="0"/>
                  </a:lnTo>
                  <a:lnTo>
                    <a:pt x="1514" y="0"/>
                  </a:lnTo>
                  <a:lnTo>
                    <a:pt x="1588" y="2"/>
                  </a:lnTo>
                  <a:lnTo>
                    <a:pt x="1660" y="4"/>
                  </a:lnTo>
                  <a:lnTo>
                    <a:pt x="1730" y="6"/>
                  </a:lnTo>
                  <a:lnTo>
                    <a:pt x="1800" y="10"/>
                  </a:lnTo>
                  <a:lnTo>
                    <a:pt x="1869" y="14"/>
                  </a:lnTo>
                  <a:lnTo>
                    <a:pt x="1935" y="19"/>
                  </a:lnTo>
                  <a:lnTo>
                    <a:pt x="2001" y="25"/>
                  </a:lnTo>
                  <a:lnTo>
                    <a:pt x="2065" y="31"/>
                  </a:lnTo>
                  <a:lnTo>
                    <a:pt x="2127" y="38"/>
                  </a:lnTo>
                  <a:lnTo>
                    <a:pt x="2188" y="45"/>
                  </a:lnTo>
                  <a:lnTo>
                    <a:pt x="2245" y="54"/>
                  </a:lnTo>
                  <a:lnTo>
                    <a:pt x="2302" y="63"/>
                  </a:lnTo>
                  <a:lnTo>
                    <a:pt x="2356" y="72"/>
                  </a:lnTo>
                  <a:lnTo>
                    <a:pt x="2409" y="82"/>
                  </a:lnTo>
                  <a:lnTo>
                    <a:pt x="2458" y="93"/>
                  </a:lnTo>
                  <a:lnTo>
                    <a:pt x="2507" y="105"/>
                  </a:lnTo>
                  <a:lnTo>
                    <a:pt x="2552" y="117"/>
                  </a:lnTo>
                  <a:lnTo>
                    <a:pt x="2595" y="129"/>
                  </a:lnTo>
                  <a:lnTo>
                    <a:pt x="2635" y="142"/>
                  </a:lnTo>
                  <a:lnTo>
                    <a:pt x="2673" y="155"/>
                  </a:lnTo>
                  <a:lnTo>
                    <a:pt x="2707" y="169"/>
                  </a:lnTo>
                  <a:lnTo>
                    <a:pt x="2739" y="183"/>
                  </a:lnTo>
                  <a:lnTo>
                    <a:pt x="2768" y="198"/>
                  </a:lnTo>
                  <a:lnTo>
                    <a:pt x="2794" y="214"/>
                  </a:lnTo>
                  <a:lnTo>
                    <a:pt x="2816" y="230"/>
                  </a:lnTo>
                  <a:lnTo>
                    <a:pt x="2835" y="246"/>
                  </a:lnTo>
                  <a:lnTo>
                    <a:pt x="2851" y="262"/>
                  </a:lnTo>
                  <a:lnTo>
                    <a:pt x="2864" y="279"/>
                  </a:lnTo>
                  <a:lnTo>
                    <a:pt x="2874" y="296"/>
                  </a:lnTo>
                  <a:lnTo>
                    <a:pt x="2879" y="314"/>
                  </a:lnTo>
                  <a:lnTo>
                    <a:pt x="2881" y="332"/>
                  </a:lnTo>
                  <a:close/>
                </a:path>
              </a:pathLst>
            </a:custGeom>
            <a:solidFill>
              <a:srgbClr val="fb4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131560" y="6537240"/>
              <a:ext cx="317880" cy="81360"/>
            </a:xfrm>
            <a:custGeom>
              <a:avLst/>
              <a:gdLst/>
              <a:ahLst/>
              <a:rect l="l" t="t" r="r" b="b"/>
              <a:pathLst>
                <a:path w="2879" h="680">
                  <a:moveTo>
                    <a:pt x="2879" y="331"/>
                  </a:moveTo>
                  <a:lnTo>
                    <a:pt x="2877" y="349"/>
                  </a:lnTo>
                  <a:lnTo>
                    <a:pt x="2871" y="367"/>
                  </a:lnTo>
                  <a:lnTo>
                    <a:pt x="2861" y="384"/>
                  </a:lnTo>
                  <a:lnTo>
                    <a:pt x="2849" y="401"/>
                  </a:lnTo>
                  <a:lnTo>
                    <a:pt x="2833" y="418"/>
                  </a:lnTo>
                  <a:lnTo>
                    <a:pt x="2814" y="435"/>
                  </a:lnTo>
                  <a:lnTo>
                    <a:pt x="2791" y="451"/>
                  </a:lnTo>
                  <a:lnTo>
                    <a:pt x="2766" y="467"/>
                  </a:lnTo>
                  <a:lnTo>
                    <a:pt x="2736" y="482"/>
                  </a:lnTo>
                  <a:lnTo>
                    <a:pt x="2705" y="497"/>
                  </a:lnTo>
                  <a:lnTo>
                    <a:pt x="2671" y="512"/>
                  </a:lnTo>
                  <a:lnTo>
                    <a:pt x="2632" y="526"/>
                  </a:lnTo>
                  <a:lnTo>
                    <a:pt x="2593" y="540"/>
                  </a:lnTo>
                  <a:lnTo>
                    <a:pt x="2549" y="553"/>
                  </a:lnTo>
                  <a:lnTo>
                    <a:pt x="2505" y="566"/>
                  </a:lnTo>
                  <a:lnTo>
                    <a:pt x="2457" y="578"/>
                  </a:lnTo>
                  <a:lnTo>
                    <a:pt x="2407" y="589"/>
                  </a:lnTo>
                  <a:lnTo>
                    <a:pt x="2354" y="600"/>
                  </a:lnTo>
                  <a:lnTo>
                    <a:pt x="2301" y="610"/>
                  </a:lnTo>
                  <a:lnTo>
                    <a:pt x="2244" y="620"/>
                  </a:lnTo>
                  <a:lnTo>
                    <a:pt x="2186" y="629"/>
                  </a:lnTo>
                  <a:lnTo>
                    <a:pt x="2125" y="638"/>
                  </a:lnTo>
                  <a:lnTo>
                    <a:pt x="2064" y="646"/>
                  </a:lnTo>
                  <a:lnTo>
                    <a:pt x="2000" y="653"/>
                  </a:lnTo>
                  <a:lnTo>
                    <a:pt x="1934" y="659"/>
                  </a:lnTo>
                  <a:lnTo>
                    <a:pt x="1868" y="665"/>
                  </a:lnTo>
                  <a:lnTo>
                    <a:pt x="1799" y="669"/>
                  </a:lnTo>
                  <a:lnTo>
                    <a:pt x="1729" y="673"/>
                  </a:lnTo>
                  <a:lnTo>
                    <a:pt x="1659" y="676"/>
                  </a:lnTo>
                  <a:lnTo>
                    <a:pt x="1587" y="678"/>
                  </a:lnTo>
                  <a:lnTo>
                    <a:pt x="1513" y="680"/>
                  </a:lnTo>
                  <a:lnTo>
                    <a:pt x="1439" y="680"/>
                  </a:lnTo>
                  <a:lnTo>
                    <a:pt x="1366" y="680"/>
                  </a:lnTo>
                  <a:lnTo>
                    <a:pt x="1292" y="678"/>
                  </a:lnTo>
                  <a:lnTo>
                    <a:pt x="1220" y="676"/>
                  </a:lnTo>
                  <a:lnTo>
                    <a:pt x="1150" y="673"/>
                  </a:lnTo>
                  <a:lnTo>
                    <a:pt x="1080" y="669"/>
                  </a:lnTo>
                  <a:lnTo>
                    <a:pt x="1011" y="665"/>
                  </a:lnTo>
                  <a:lnTo>
                    <a:pt x="945" y="659"/>
                  </a:lnTo>
                  <a:lnTo>
                    <a:pt x="880" y="653"/>
                  </a:lnTo>
                  <a:lnTo>
                    <a:pt x="815" y="646"/>
                  </a:lnTo>
                  <a:lnTo>
                    <a:pt x="754" y="638"/>
                  </a:lnTo>
                  <a:lnTo>
                    <a:pt x="693" y="629"/>
                  </a:lnTo>
                  <a:lnTo>
                    <a:pt x="636" y="620"/>
                  </a:lnTo>
                  <a:lnTo>
                    <a:pt x="579" y="610"/>
                  </a:lnTo>
                  <a:lnTo>
                    <a:pt x="524" y="600"/>
                  </a:lnTo>
                  <a:lnTo>
                    <a:pt x="472" y="589"/>
                  </a:lnTo>
                  <a:lnTo>
                    <a:pt x="422" y="578"/>
                  </a:lnTo>
                  <a:lnTo>
                    <a:pt x="375" y="566"/>
                  </a:lnTo>
                  <a:lnTo>
                    <a:pt x="330" y="553"/>
                  </a:lnTo>
                  <a:lnTo>
                    <a:pt x="286" y="540"/>
                  </a:lnTo>
                  <a:lnTo>
                    <a:pt x="247" y="526"/>
                  </a:lnTo>
                  <a:lnTo>
                    <a:pt x="209" y="512"/>
                  </a:lnTo>
                  <a:lnTo>
                    <a:pt x="174" y="497"/>
                  </a:lnTo>
                  <a:lnTo>
                    <a:pt x="143" y="482"/>
                  </a:lnTo>
                  <a:lnTo>
                    <a:pt x="113" y="467"/>
                  </a:lnTo>
                  <a:lnTo>
                    <a:pt x="88" y="451"/>
                  </a:lnTo>
                  <a:lnTo>
                    <a:pt x="65" y="435"/>
                  </a:lnTo>
                  <a:lnTo>
                    <a:pt x="46" y="418"/>
                  </a:lnTo>
                  <a:lnTo>
                    <a:pt x="30" y="401"/>
                  </a:lnTo>
                  <a:lnTo>
                    <a:pt x="17" y="384"/>
                  </a:lnTo>
                  <a:lnTo>
                    <a:pt x="8" y="367"/>
                  </a:lnTo>
                  <a:lnTo>
                    <a:pt x="2" y="349"/>
                  </a:lnTo>
                  <a:lnTo>
                    <a:pt x="0" y="331"/>
                  </a:lnTo>
                  <a:lnTo>
                    <a:pt x="2" y="313"/>
                  </a:lnTo>
                  <a:lnTo>
                    <a:pt x="8" y="295"/>
                  </a:lnTo>
                  <a:lnTo>
                    <a:pt x="17" y="278"/>
                  </a:lnTo>
                  <a:lnTo>
                    <a:pt x="30" y="261"/>
                  </a:lnTo>
                  <a:lnTo>
                    <a:pt x="46" y="245"/>
                  </a:lnTo>
                  <a:lnTo>
                    <a:pt x="65" y="229"/>
                  </a:lnTo>
                  <a:lnTo>
                    <a:pt x="88" y="214"/>
                  </a:lnTo>
                  <a:lnTo>
                    <a:pt x="113" y="197"/>
                  </a:lnTo>
                  <a:lnTo>
                    <a:pt x="143" y="183"/>
                  </a:lnTo>
                  <a:lnTo>
                    <a:pt x="174" y="169"/>
                  </a:lnTo>
                  <a:lnTo>
                    <a:pt x="209" y="155"/>
                  </a:lnTo>
                  <a:lnTo>
                    <a:pt x="247" y="141"/>
                  </a:lnTo>
                  <a:lnTo>
                    <a:pt x="286" y="129"/>
                  </a:lnTo>
                  <a:lnTo>
                    <a:pt x="330" y="116"/>
                  </a:lnTo>
                  <a:lnTo>
                    <a:pt x="375" y="105"/>
                  </a:lnTo>
                  <a:lnTo>
                    <a:pt x="422" y="92"/>
                  </a:lnTo>
                  <a:lnTo>
                    <a:pt x="472" y="82"/>
                  </a:lnTo>
                  <a:lnTo>
                    <a:pt x="524" y="72"/>
                  </a:lnTo>
                  <a:lnTo>
                    <a:pt x="579" y="62"/>
                  </a:lnTo>
                  <a:lnTo>
                    <a:pt x="636" y="53"/>
                  </a:lnTo>
                  <a:lnTo>
                    <a:pt x="693" y="45"/>
                  </a:lnTo>
                  <a:lnTo>
                    <a:pt x="754" y="38"/>
                  </a:lnTo>
                  <a:lnTo>
                    <a:pt x="815" y="31"/>
                  </a:lnTo>
                  <a:lnTo>
                    <a:pt x="880" y="24"/>
                  </a:lnTo>
                  <a:lnTo>
                    <a:pt x="945" y="19"/>
                  </a:lnTo>
                  <a:lnTo>
                    <a:pt x="1011" y="14"/>
                  </a:lnTo>
                  <a:lnTo>
                    <a:pt x="1080" y="10"/>
                  </a:lnTo>
                  <a:lnTo>
                    <a:pt x="1150" y="6"/>
                  </a:lnTo>
                  <a:lnTo>
                    <a:pt x="1220" y="4"/>
                  </a:lnTo>
                  <a:lnTo>
                    <a:pt x="1292" y="2"/>
                  </a:lnTo>
                  <a:lnTo>
                    <a:pt x="1366" y="0"/>
                  </a:lnTo>
                  <a:lnTo>
                    <a:pt x="1439" y="0"/>
                  </a:lnTo>
                  <a:lnTo>
                    <a:pt x="1513" y="0"/>
                  </a:lnTo>
                  <a:lnTo>
                    <a:pt x="1587" y="2"/>
                  </a:lnTo>
                  <a:lnTo>
                    <a:pt x="1659" y="4"/>
                  </a:lnTo>
                  <a:lnTo>
                    <a:pt x="1729" y="6"/>
                  </a:lnTo>
                  <a:lnTo>
                    <a:pt x="1799" y="10"/>
                  </a:lnTo>
                  <a:lnTo>
                    <a:pt x="1868" y="14"/>
                  </a:lnTo>
                  <a:lnTo>
                    <a:pt x="1934" y="19"/>
                  </a:lnTo>
                  <a:lnTo>
                    <a:pt x="2000" y="24"/>
                  </a:lnTo>
                  <a:lnTo>
                    <a:pt x="2064" y="31"/>
                  </a:lnTo>
                  <a:lnTo>
                    <a:pt x="2125" y="38"/>
                  </a:lnTo>
                  <a:lnTo>
                    <a:pt x="2186" y="45"/>
                  </a:lnTo>
                  <a:lnTo>
                    <a:pt x="2244" y="53"/>
                  </a:lnTo>
                  <a:lnTo>
                    <a:pt x="2301" y="62"/>
                  </a:lnTo>
                  <a:lnTo>
                    <a:pt x="2354" y="72"/>
                  </a:lnTo>
                  <a:lnTo>
                    <a:pt x="2407" y="82"/>
                  </a:lnTo>
                  <a:lnTo>
                    <a:pt x="2457" y="92"/>
                  </a:lnTo>
                  <a:lnTo>
                    <a:pt x="2505" y="105"/>
                  </a:lnTo>
                  <a:lnTo>
                    <a:pt x="2549" y="116"/>
                  </a:lnTo>
                  <a:lnTo>
                    <a:pt x="2593" y="129"/>
                  </a:lnTo>
                  <a:lnTo>
                    <a:pt x="2632" y="141"/>
                  </a:lnTo>
                  <a:lnTo>
                    <a:pt x="2671" y="155"/>
                  </a:lnTo>
                  <a:lnTo>
                    <a:pt x="2705" y="169"/>
                  </a:lnTo>
                  <a:lnTo>
                    <a:pt x="2736" y="183"/>
                  </a:lnTo>
                  <a:lnTo>
                    <a:pt x="2766" y="197"/>
                  </a:lnTo>
                  <a:lnTo>
                    <a:pt x="2791" y="214"/>
                  </a:lnTo>
                  <a:lnTo>
                    <a:pt x="2814" y="229"/>
                  </a:lnTo>
                  <a:lnTo>
                    <a:pt x="2833" y="245"/>
                  </a:lnTo>
                  <a:lnTo>
                    <a:pt x="2849" y="261"/>
                  </a:lnTo>
                  <a:lnTo>
                    <a:pt x="2861" y="278"/>
                  </a:lnTo>
                  <a:lnTo>
                    <a:pt x="2871" y="295"/>
                  </a:lnTo>
                  <a:lnTo>
                    <a:pt x="2877" y="313"/>
                  </a:lnTo>
                  <a:lnTo>
                    <a:pt x="2879" y="331"/>
                  </a:lnTo>
                  <a:close/>
                </a:path>
              </a:pathLst>
            </a:custGeom>
            <a:solidFill>
              <a:srgbClr val="fb4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31560" y="6537240"/>
              <a:ext cx="317880" cy="81360"/>
            </a:xfrm>
            <a:custGeom>
              <a:avLst/>
              <a:gdLst/>
              <a:ahLst/>
              <a:rect l="l" t="t" r="r" b="b"/>
              <a:pathLst>
                <a:path w="2875" h="678">
                  <a:moveTo>
                    <a:pt x="2875" y="330"/>
                  </a:moveTo>
                  <a:lnTo>
                    <a:pt x="2874" y="348"/>
                  </a:lnTo>
                  <a:lnTo>
                    <a:pt x="2868" y="366"/>
                  </a:lnTo>
                  <a:lnTo>
                    <a:pt x="2858" y="383"/>
                  </a:lnTo>
                  <a:lnTo>
                    <a:pt x="2845" y="400"/>
                  </a:lnTo>
                  <a:lnTo>
                    <a:pt x="2830" y="417"/>
                  </a:lnTo>
                  <a:lnTo>
                    <a:pt x="2810" y="434"/>
                  </a:lnTo>
                  <a:lnTo>
                    <a:pt x="2788" y="450"/>
                  </a:lnTo>
                  <a:lnTo>
                    <a:pt x="2762" y="466"/>
                  </a:lnTo>
                  <a:lnTo>
                    <a:pt x="2733" y="481"/>
                  </a:lnTo>
                  <a:lnTo>
                    <a:pt x="2702" y="496"/>
                  </a:lnTo>
                  <a:lnTo>
                    <a:pt x="2667" y="510"/>
                  </a:lnTo>
                  <a:lnTo>
                    <a:pt x="2629" y="524"/>
                  </a:lnTo>
                  <a:lnTo>
                    <a:pt x="2590" y="539"/>
                  </a:lnTo>
                  <a:lnTo>
                    <a:pt x="2546" y="552"/>
                  </a:lnTo>
                  <a:lnTo>
                    <a:pt x="2502" y="564"/>
                  </a:lnTo>
                  <a:lnTo>
                    <a:pt x="2453" y="576"/>
                  </a:lnTo>
                  <a:lnTo>
                    <a:pt x="2404" y="588"/>
                  </a:lnTo>
                  <a:lnTo>
                    <a:pt x="2351" y="598"/>
                  </a:lnTo>
                  <a:lnTo>
                    <a:pt x="2298" y="609"/>
                  </a:lnTo>
                  <a:lnTo>
                    <a:pt x="2241" y="618"/>
                  </a:lnTo>
                  <a:lnTo>
                    <a:pt x="2183" y="627"/>
                  </a:lnTo>
                  <a:lnTo>
                    <a:pt x="2122" y="637"/>
                  </a:lnTo>
                  <a:lnTo>
                    <a:pt x="2061" y="644"/>
                  </a:lnTo>
                  <a:lnTo>
                    <a:pt x="1997" y="651"/>
                  </a:lnTo>
                  <a:lnTo>
                    <a:pt x="1931" y="657"/>
                  </a:lnTo>
                  <a:lnTo>
                    <a:pt x="1865" y="663"/>
                  </a:lnTo>
                  <a:lnTo>
                    <a:pt x="1797" y="667"/>
                  </a:lnTo>
                  <a:lnTo>
                    <a:pt x="1727" y="671"/>
                  </a:lnTo>
                  <a:lnTo>
                    <a:pt x="1657" y="674"/>
                  </a:lnTo>
                  <a:lnTo>
                    <a:pt x="1585" y="676"/>
                  </a:lnTo>
                  <a:lnTo>
                    <a:pt x="1511" y="678"/>
                  </a:lnTo>
                  <a:lnTo>
                    <a:pt x="1437" y="678"/>
                  </a:lnTo>
                  <a:lnTo>
                    <a:pt x="1364" y="678"/>
                  </a:lnTo>
                  <a:lnTo>
                    <a:pt x="1291" y="676"/>
                  </a:lnTo>
                  <a:lnTo>
                    <a:pt x="1218" y="674"/>
                  </a:lnTo>
                  <a:lnTo>
                    <a:pt x="1148" y="671"/>
                  </a:lnTo>
                  <a:lnTo>
                    <a:pt x="1078" y="667"/>
                  </a:lnTo>
                  <a:lnTo>
                    <a:pt x="1010" y="663"/>
                  </a:lnTo>
                  <a:lnTo>
                    <a:pt x="944" y="657"/>
                  </a:lnTo>
                  <a:lnTo>
                    <a:pt x="878" y="651"/>
                  </a:lnTo>
                  <a:lnTo>
                    <a:pt x="814" y="644"/>
                  </a:lnTo>
                  <a:lnTo>
                    <a:pt x="753" y="637"/>
                  </a:lnTo>
                  <a:lnTo>
                    <a:pt x="692" y="627"/>
                  </a:lnTo>
                  <a:lnTo>
                    <a:pt x="634" y="618"/>
                  </a:lnTo>
                  <a:lnTo>
                    <a:pt x="578" y="609"/>
                  </a:lnTo>
                  <a:lnTo>
                    <a:pt x="523" y="598"/>
                  </a:lnTo>
                  <a:lnTo>
                    <a:pt x="471" y="588"/>
                  </a:lnTo>
                  <a:lnTo>
                    <a:pt x="421" y="576"/>
                  </a:lnTo>
                  <a:lnTo>
                    <a:pt x="374" y="564"/>
                  </a:lnTo>
                  <a:lnTo>
                    <a:pt x="329" y="552"/>
                  </a:lnTo>
                  <a:lnTo>
                    <a:pt x="286" y="539"/>
                  </a:lnTo>
                  <a:lnTo>
                    <a:pt x="246" y="524"/>
                  </a:lnTo>
                  <a:lnTo>
                    <a:pt x="208" y="510"/>
                  </a:lnTo>
                  <a:lnTo>
                    <a:pt x="174" y="496"/>
                  </a:lnTo>
                  <a:lnTo>
                    <a:pt x="142" y="481"/>
                  </a:lnTo>
                  <a:lnTo>
                    <a:pt x="113" y="466"/>
                  </a:lnTo>
                  <a:lnTo>
                    <a:pt x="87" y="450"/>
                  </a:lnTo>
                  <a:lnTo>
                    <a:pt x="65" y="434"/>
                  </a:lnTo>
                  <a:lnTo>
                    <a:pt x="46" y="417"/>
                  </a:lnTo>
                  <a:lnTo>
                    <a:pt x="30" y="400"/>
                  </a:lnTo>
                  <a:lnTo>
                    <a:pt x="16" y="383"/>
                  </a:lnTo>
                  <a:lnTo>
                    <a:pt x="7" y="366"/>
                  </a:lnTo>
                  <a:lnTo>
                    <a:pt x="2" y="348"/>
                  </a:lnTo>
                  <a:lnTo>
                    <a:pt x="0" y="330"/>
                  </a:lnTo>
                  <a:lnTo>
                    <a:pt x="2" y="312"/>
                  </a:lnTo>
                  <a:lnTo>
                    <a:pt x="7" y="294"/>
                  </a:lnTo>
                  <a:lnTo>
                    <a:pt x="16" y="277"/>
                  </a:lnTo>
                  <a:lnTo>
                    <a:pt x="30" y="261"/>
                  </a:lnTo>
                  <a:lnTo>
                    <a:pt x="46" y="244"/>
                  </a:lnTo>
                  <a:lnTo>
                    <a:pt x="65" y="228"/>
                  </a:lnTo>
                  <a:lnTo>
                    <a:pt x="87" y="213"/>
                  </a:lnTo>
                  <a:lnTo>
                    <a:pt x="113" y="197"/>
                  </a:lnTo>
                  <a:lnTo>
                    <a:pt x="142" y="182"/>
                  </a:lnTo>
                  <a:lnTo>
                    <a:pt x="174" y="168"/>
                  </a:lnTo>
                  <a:lnTo>
                    <a:pt x="208" y="154"/>
                  </a:lnTo>
                  <a:lnTo>
                    <a:pt x="246" y="141"/>
                  </a:lnTo>
                  <a:lnTo>
                    <a:pt x="286" y="128"/>
                  </a:lnTo>
                  <a:lnTo>
                    <a:pt x="329" y="116"/>
                  </a:lnTo>
                  <a:lnTo>
                    <a:pt x="374" y="104"/>
                  </a:lnTo>
                  <a:lnTo>
                    <a:pt x="421" y="92"/>
                  </a:lnTo>
                  <a:lnTo>
                    <a:pt x="471" y="82"/>
                  </a:lnTo>
                  <a:lnTo>
                    <a:pt x="523" y="72"/>
                  </a:lnTo>
                  <a:lnTo>
                    <a:pt x="578" y="62"/>
                  </a:lnTo>
                  <a:lnTo>
                    <a:pt x="634" y="53"/>
                  </a:lnTo>
                  <a:lnTo>
                    <a:pt x="692" y="45"/>
                  </a:lnTo>
                  <a:lnTo>
                    <a:pt x="753" y="37"/>
                  </a:lnTo>
                  <a:lnTo>
                    <a:pt x="814" y="31"/>
                  </a:lnTo>
                  <a:lnTo>
                    <a:pt x="878" y="24"/>
                  </a:lnTo>
                  <a:lnTo>
                    <a:pt x="944" y="19"/>
                  </a:lnTo>
                  <a:lnTo>
                    <a:pt x="1010" y="14"/>
                  </a:lnTo>
                  <a:lnTo>
                    <a:pt x="1078" y="10"/>
                  </a:lnTo>
                  <a:lnTo>
                    <a:pt x="1148" y="6"/>
                  </a:lnTo>
                  <a:lnTo>
                    <a:pt x="1218" y="3"/>
                  </a:lnTo>
                  <a:lnTo>
                    <a:pt x="1291" y="1"/>
                  </a:lnTo>
                  <a:lnTo>
                    <a:pt x="1364" y="0"/>
                  </a:lnTo>
                  <a:lnTo>
                    <a:pt x="1437" y="0"/>
                  </a:lnTo>
                  <a:lnTo>
                    <a:pt x="1511" y="0"/>
                  </a:lnTo>
                  <a:lnTo>
                    <a:pt x="1585" y="1"/>
                  </a:lnTo>
                  <a:lnTo>
                    <a:pt x="1657" y="3"/>
                  </a:lnTo>
                  <a:lnTo>
                    <a:pt x="1727" y="6"/>
                  </a:lnTo>
                  <a:lnTo>
                    <a:pt x="1797" y="10"/>
                  </a:lnTo>
                  <a:lnTo>
                    <a:pt x="1865" y="14"/>
                  </a:lnTo>
                  <a:lnTo>
                    <a:pt x="1931" y="19"/>
                  </a:lnTo>
                  <a:lnTo>
                    <a:pt x="1997" y="24"/>
                  </a:lnTo>
                  <a:lnTo>
                    <a:pt x="2061" y="31"/>
                  </a:lnTo>
                  <a:lnTo>
                    <a:pt x="2122" y="37"/>
                  </a:lnTo>
                  <a:lnTo>
                    <a:pt x="2183" y="45"/>
                  </a:lnTo>
                  <a:lnTo>
                    <a:pt x="2241" y="53"/>
                  </a:lnTo>
                  <a:lnTo>
                    <a:pt x="2298" y="62"/>
                  </a:lnTo>
                  <a:lnTo>
                    <a:pt x="2351" y="72"/>
                  </a:lnTo>
                  <a:lnTo>
                    <a:pt x="2404" y="82"/>
                  </a:lnTo>
                  <a:lnTo>
                    <a:pt x="2453" y="92"/>
                  </a:lnTo>
                  <a:lnTo>
                    <a:pt x="2502" y="104"/>
                  </a:lnTo>
                  <a:lnTo>
                    <a:pt x="2546" y="116"/>
                  </a:lnTo>
                  <a:lnTo>
                    <a:pt x="2590" y="128"/>
                  </a:lnTo>
                  <a:lnTo>
                    <a:pt x="2629" y="141"/>
                  </a:lnTo>
                  <a:lnTo>
                    <a:pt x="2667" y="154"/>
                  </a:lnTo>
                  <a:lnTo>
                    <a:pt x="2702" y="168"/>
                  </a:lnTo>
                  <a:lnTo>
                    <a:pt x="2733" y="182"/>
                  </a:lnTo>
                  <a:lnTo>
                    <a:pt x="2762" y="197"/>
                  </a:lnTo>
                  <a:lnTo>
                    <a:pt x="2788" y="213"/>
                  </a:lnTo>
                  <a:lnTo>
                    <a:pt x="2810" y="228"/>
                  </a:lnTo>
                  <a:lnTo>
                    <a:pt x="2830" y="244"/>
                  </a:lnTo>
                  <a:lnTo>
                    <a:pt x="2845" y="261"/>
                  </a:lnTo>
                  <a:lnTo>
                    <a:pt x="2858" y="277"/>
                  </a:lnTo>
                  <a:lnTo>
                    <a:pt x="2868" y="294"/>
                  </a:lnTo>
                  <a:lnTo>
                    <a:pt x="2874" y="312"/>
                  </a:lnTo>
                  <a:lnTo>
                    <a:pt x="2875" y="330"/>
                  </a:lnTo>
                  <a:close/>
                </a:path>
              </a:pathLst>
            </a:custGeom>
            <a:solidFill>
              <a:srgbClr val="fb4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131560" y="6537240"/>
              <a:ext cx="317880" cy="81360"/>
            </a:xfrm>
            <a:custGeom>
              <a:avLst/>
              <a:gdLst/>
              <a:ahLst/>
              <a:rect l="l" t="t" r="r" b="b"/>
              <a:pathLst>
                <a:path w="2873" h="676">
                  <a:moveTo>
                    <a:pt x="2873" y="329"/>
                  </a:moveTo>
                  <a:lnTo>
                    <a:pt x="2871" y="347"/>
                  </a:lnTo>
                  <a:lnTo>
                    <a:pt x="2866" y="364"/>
                  </a:lnTo>
                  <a:lnTo>
                    <a:pt x="2856" y="382"/>
                  </a:lnTo>
                  <a:lnTo>
                    <a:pt x="2843" y="399"/>
                  </a:lnTo>
                  <a:lnTo>
                    <a:pt x="2827" y="415"/>
                  </a:lnTo>
                  <a:lnTo>
                    <a:pt x="2808" y="433"/>
                  </a:lnTo>
                  <a:lnTo>
                    <a:pt x="2786" y="449"/>
                  </a:lnTo>
                  <a:lnTo>
                    <a:pt x="2759" y="464"/>
                  </a:lnTo>
                  <a:lnTo>
                    <a:pt x="2731" y="479"/>
                  </a:lnTo>
                  <a:lnTo>
                    <a:pt x="2699" y="494"/>
                  </a:lnTo>
                  <a:lnTo>
                    <a:pt x="2665" y="509"/>
                  </a:lnTo>
                  <a:lnTo>
                    <a:pt x="2627" y="523"/>
                  </a:lnTo>
                  <a:lnTo>
                    <a:pt x="2587" y="537"/>
                  </a:lnTo>
                  <a:lnTo>
                    <a:pt x="2544" y="550"/>
                  </a:lnTo>
                  <a:lnTo>
                    <a:pt x="2500" y="563"/>
                  </a:lnTo>
                  <a:lnTo>
                    <a:pt x="2452" y="575"/>
                  </a:lnTo>
                  <a:lnTo>
                    <a:pt x="2402" y="586"/>
                  </a:lnTo>
                  <a:lnTo>
                    <a:pt x="2350" y="597"/>
                  </a:lnTo>
                  <a:lnTo>
                    <a:pt x="2296" y="607"/>
                  </a:lnTo>
                  <a:lnTo>
                    <a:pt x="2239" y="617"/>
                  </a:lnTo>
                  <a:lnTo>
                    <a:pt x="2181" y="626"/>
                  </a:lnTo>
                  <a:lnTo>
                    <a:pt x="2121" y="635"/>
                  </a:lnTo>
                  <a:lnTo>
                    <a:pt x="2060" y="642"/>
                  </a:lnTo>
                  <a:lnTo>
                    <a:pt x="1996" y="649"/>
                  </a:lnTo>
                  <a:lnTo>
                    <a:pt x="1930" y="655"/>
                  </a:lnTo>
                  <a:lnTo>
                    <a:pt x="1864" y="661"/>
                  </a:lnTo>
                  <a:lnTo>
                    <a:pt x="1795" y="665"/>
                  </a:lnTo>
                  <a:lnTo>
                    <a:pt x="1726" y="669"/>
                  </a:lnTo>
                  <a:lnTo>
                    <a:pt x="1656" y="672"/>
                  </a:lnTo>
                  <a:lnTo>
                    <a:pt x="1583" y="675"/>
                  </a:lnTo>
                  <a:lnTo>
                    <a:pt x="1510" y="676"/>
                  </a:lnTo>
                  <a:lnTo>
                    <a:pt x="1436" y="676"/>
                  </a:lnTo>
                  <a:lnTo>
                    <a:pt x="1363" y="676"/>
                  </a:lnTo>
                  <a:lnTo>
                    <a:pt x="1290" y="675"/>
                  </a:lnTo>
                  <a:lnTo>
                    <a:pt x="1218" y="672"/>
                  </a:lnTo>
                  <a:lnTo>
                    <a:pt x="1148" y="669"/>
                  </a:lnTo>
                  <a:lnTo>
                    <a:pt x="1078" y="665"/>
                  </a:lnTo>
                  <a:lnTo>
                    <a:pt x="1009" y="661"/>
                  </a:lnTo>
                  <a:lnTo>
                    <a:pt x="943" y="655"/>
                  </a:lnTo>
                  <a:lnTo>
                    <a:pt x="878" y="649"/>
                  </a:lnTo>
                  <a:lnTo>
                    <a:pt x="814" y="642"/>
                  </a:lnTo>
                  <a:lnTo>
                    <a:pt x="752" y="635"/>
                  </a:lnTo>
                  <a:lnTo>
                    <a:pt x="692" y="626"/>
                  </a:lnTo>
                  <a:lnTo>
                    <a:pt x="634" y="617"/>
                  </a:lnTo>
                  <a:lnTo>
                    <a:pt x="577" y="607"/>
                  </a:lnTo>
                  <a:lnTo>
                    <a:pt x="523" y="597"/>
                  </a:lnTo>
                  <a:lnTo>
                    <a:pt x="471" y="586"/>
                  </a:lnTo>
                  <a:lnTo>
                    <a:pt x="421" y="575"/>
                  </a:lnTo>
                  <a:lnTo>
                    <a:pt x="374" y="563"/>
                  </a:lnTo>
                  <a:lnTo>
                    <a:pt x="329" y="550"/>
                  </a:lnTo>
                  <a:lnTo>
                    <a:pt x="286" y="537"/>
                  </a:lnTo>
                  <a:lnTo>
                    <a:pt x="246" y="523"/>
                  </a:lnTo>
                  <a:lnTo>
                    <a:pt x="208" y="509"/>
                  </a:lnTo>
                  <a:lnTo>
                    <a:pt x="174" y="494"/>
                  </a:lnTo>
                  <a:lnTo>
                    <a:pt x="142" y="479"/>
                  </a:lnTo>
                  <a:lnTo>
                    <a:pt x="113" y="464"/>
                  </a:lnTo>
                  <a:lnTo>
                    <a:pt x="88" y="449"/>
                  </a:lnTo>
                  <a:lnTo>
                    <a:pt x="65" y="433"/>
                  </a:lnTo>
                  <a:lnTo>
                    <a:pt x="46" y="415"/>
                  </a:lnTo>
                  <a:lnTo>
                    <a:pt x="30" y="399"/>
                  </a:lnTo>
                  <a:lnTo>
                    <a:pt x="17" y="382"/>
                  </a:lnTo>
                  <a:lnTo>
                    <a:pt x="8" y="364"/>
                  </a:lnTo>
                  <a:lnTo>
                    <a:pt x="2" y="347"/>
                  </a:lnTo>
                  <a:lnTo>
                    <a:pt x="0" y="329"/>
                  </a:lnTo>
                  <a:lnTo>
                    <a:pt x="2" y="311"/>
                  </a:lnTo>
                  <a:lnTo>
                    <a:pt x="8" y="293"/>
                  </a:lnTo>
                  <a:lnTo>
                    <a:pt x="17" y="276"/>
                  </a:lnTo>
                  <a:lnTo>
                    <a:pt x="30" y="260"/>
                  </a:lnTo>
                  <a:lnTo>
                    <a:pt x="46" y="244"/>
                  </a:lnTo>
                  <a:lnTo>
                    <a:pt x="65" y="228"/>
                  </a:lnTo>
                  <a:lnTo>
                    <a:pt x="88" y="212"/>
                  </a:lnTo>
                  <a:lnTo>
                    <a:pt x="113" y="196"/>
                  </a:lnTo>
                  <a:lnTo>
                    <a:pt x="142" y="182"/>
                  </a:lnTo>
                  <a:lnTo>
                    <a:pt x="174" y="167"/>
                  </a:lnTo>
                  <a:lnTo>
                    <a:pt x="208" y="154"/>
                  </a:lnTo>
                  <a:lnTo>
                    <a:pt x="246" y="141"/>
                  </a:lnTo>
                  <a:lnTo>
                    <a:pt x="286" y="128"/>
                  </a:lnTo>
                  <a:lnTo>
                    <a:pt x="329" y="116"/>
                  </a:lnTo>
                  <a:lnTo>
                    <a:pt x="374" y="104"/>
                  </a:lnTo>
                  <a:lnTo>
                    <a:pt x="421" y="92"/>
                  </a:lnTo>
                  <a:lnTo>
                    <a:pt x="471" y="81"/>
                  </a:lnTo>
                  <a:lnTo>
                    <a:pt x="523" y="71"/>
                  </a:lnTo>
                  <a:lnTo>
                    <a:pt x="577" y="62"/>
                  </a:lnTo>
                  <a:lnTo>
                    <a:pt x="634" y="53"/>
                  </a:lnTo>
                  <a:lnTo>
                    <a:pt x="692" y="45"/>
                  </a:lnTo>
                  <a:lnTo>
                    <a:pt x="752" y="37"/>
                  </a:lnTo>
                  <a:lnTo>
                    <a:pt x="814" y="30"/>
                  </a:lnTo>
                  <a:lnTo>
                    <a:pt x="878" y="24"/>
                  </a:lnTo>
                  <a:lnTo>
                    <a:pt x="943" y="19"/>
                  </a:lnTo>
                  <a:lnTo>
                    <a:pt x="1009" y="14"/>
                  </a:lnTo>
                  <a:lnTo>
                    <a:pt x="1078" y="10"/>
                  </a:lnTo>
                  <a:lnTo>
                    <a:pt x="1148" y="6"/>
                  </a:lnTo>
                  <a:lnTo>
                    <a:pt x="1218" y="3"/>
                  </a:lnTo>
                  <a:lnTo>
                    <a:pt x="1290" y="1"/>
                  </a:lnTo>
                  <a:lnTo>
                    <a:pt x="1363" y="0"/>
                  </a:lnTo>
                  <a:lnTo>
                    <a:pt x="1436" y="0"/>
                  </a:lnTo>
                  <a:lnTo>
                    <a:pt x="1510" y="0"/>
                  </a:lnTo>
                  <a:lnTo>
                    <a:pt x="1583" y="1"/>
                  </a:lnTo>
                  <a:lnTo>
                    <a:pt x="1656" y="3"/>
                  </a:lnTo>
                  <a:lnTo>
                    <a:pt x="1726" y="6"/>
                  </a:lnTo>
                  <a:lnTo>
                    <a:pt x="1795" y="10"/>
                  </a:lnTo>
                  <a:lnTo>
                    <a:pt x="1864" y="14"/>
                  </a:lnTo>
                  <a:lnTo>
                    <a:pt x="1930" y="19"/>
                  </a:lnTo>
                  <a:lnTo>
                    <a:pt x="1996" y="24"/>
                  </a:lnTo>
                  <a:lnTo>
                    <a:pt x="2060" y="30"/>
                  </a:lnTo>
                  <a:lnTo>
                    <a:pt x="2121" y="37"/>
                  </a:lnTo>
                  <a:lnTo>
                    <a:pt x="2181" y="45"/>
                  </a:lnTo>
                  <a:lnTo>
                    <a:pt x="2239" y="53"/>
                  </a:lnTo>
                  <a:lnTo>
                    <a:pt x="2296" y="62"/>
                  </a:lnTo>
                  <a:lnTo>
                    <a:pt x="2350" y="71"/>
                  </a:lnTo>
                  <a:lnTo>
                    <a:pt x="2402" y="81"/>
                  </a:lnTo>
                  <a:lnTo>
                    <a:pt x="2452" y="92"/>
                  </a:lnTo>
                  <a:lnTo>
                    <a:pt x="2500" y="104"/>
                  </a:lnTo>
                  <a:lnTo>
                    <a:pt x="2544" y="116"/>
                  </a:lnTo>
                  <a:lnTo>
                    <a:pt x="2587" y="128"/>
                  </a:lnTo>
                  <a:lnTo>
                    <a:pt x="2627" y="141"/>
                  </a:lnTo>
                  <a:lnTo>
                    <a:pt x="2665" y="154"/>
                  </a:lnTo>
                  <a:lnTo>
                    <a:pt x="2699" y="167"/>
                  </a:lnTo>
                  <a:lnTo>
                    <a:pt x="2731" y="182"/>
                  </a:lnTo>
                  <a:lnTo>
                    <a:pt x="2759" y="196"/>
                  </a:lnTo>
                  <a:lnTo>
                    <a:pt x="2786" y="212"/>
                  </a:lnTo>
                  <a:lnTo>
                    <a:pt x="2808" y="228"/>
                  </a:lnTo>
                  <a:lnTo>
                    <a:pt x="2827" y="244"/>
                  </a:lnTo>
                  <a:lnTo>
                    <a:pt x="2843" y="260"/>
                  </a:lnTo>
                  <a:lnTo>
                    <a:pt x="2856" y="276"/>
                  </a:lnTo>
                  <a:lnTo>
                    <a:pt x="2866" y="293"/>
                  </a:lnTo>
                  <a:lnTo>
                    <a:pt x="2871" y="311"/>
                  </a:lnTo>
                  <a:lnTo>
                    <a:pt x="2873" y="329"/>
                  </a:lnTo>
                  <a:close/>
                </a:path>
              </a:pathLst>
            </a:custGeom>
            <a:solidFill>
              <a:srgbClr val="fb4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132640" y="6537240"/>
              <a:ext cx="315720" cy="81360"/>
            </a:xfrm>
            <a:custGeom>
              <a:avLst/>
              <a:gdLst/>
              <a:ahLst/>
              <a:rect l="l" t="t" r="r" b="b"/>
              <a:pathLst>
                <a:path w="2870" h="674">
                  <a:moveTo>
                    <a:pt x="2870" y="328"/>
                  </a:moveTo>
                  <a:lnTo>
                    <a:pt x="2868" y="346"/>
                  </a:lnTo>
                  <a:lnTo>
                    <a:pt x="2862" y="363"/>
                  </a:lnTo>
                  <a:lnTo>
                    <a:pt x="2852" y="381"/>
                  </a:lnTo>
                  <a:lnTo>
                    <a:pt x="2840" y="397"/>
                  </a:lnTo>
                  <a:lnTo>
                    <a:pt x="2824" y="414"/>
                  </a:lnTo>
                  <a:lnTo>
                    <a:pt x="2805" y="431"/>
                  </a:lnTo>
                  <a:lnTo>
                    <a:pt x="2782" y="447"/>
                  </a:lnTo>
                  <a:lnTo>
                    <a:pt x="2756" y="463"/>
                  </a:lnTo>
                  <a:lnTo>
                    <a:pt x="2727" y="478"/>
                  </a:lnTo>
                  <a:lnTo>
                    <a:pt x="2696" y="493"/>
                  </a:lnTo>
                  <a:lnTo>
                    <a:pt x="2662" y="507"/>
                  </a:lnTo>
                  <a:lnTo>
                    <a:pt x="2624" y="521"/>
                  </a:lnTo>
                  <a:lnTo>
                    <a:pt x="2584" y="536"/>
                  </a:lnTo>
                  <a:lnTo>
                    <a:pt x="2541" y="549"/>
                  </a:lnTo>
                  <a:lnTo>
                    <a:pt x="2496" y="561"/>
                  </a:lnTo>
                  <a:lnTo>
                    <a:pt x="2448" y="573"/>
                  </a:lnTo>
                  <a:lnTo>
                    <a:pt x="2399" y="584"/>
                  </a:lnTo>
                  <a:lnTo>
                    <a:pt x="2347" y="595"/>
                  </a:lnTo>
                  <a:lnTo>
                    <a:pt x="2293" y="605"/>
                  </a:lnTo>
                  <a:lnTo>
                    <a:pt x="2236" y="615"/>
                  </a:lnTo>
                  <a:lnTo>
                    <a:pt x="2179" y="624"/>
                  </a:lnTo>
                  <a:lnTo>
                    <a:pt x="2118" y="633"/>
                  </a:lnTo>
                  <a:lnTo>
                    <a:pt x="2057" y="641"/>
                  </a:lnTo>
                  <a:lnTo>
                    <a:pt x="1993" y="647"/>
                  </a:lnTo>
                  <a:lnTo>
                    <a:pt x="1927" y="654"/>
                  </a:lnTo>
                  <a:lnTo>
                    <a:pt x="1861" y="659"/>
                  </a:lnTo>
                  <a:lnTo>
                    <a:pt x="1793" y="664"/>
                  </a:lnTo>
                  <a:lnTo>
                    <a:pt x="1723" y="667"/>
                  </a:lnTo>
                  <a:lnTo>
                    <a:pt x="1653" y="670"/>
                  </a:lnTo>
                  <a:lnTo>
                    <a:pt x="1581" y="673"/>
                  </a:lnTo>
                  <a:lnTo>
                    <a:pt x="1508" y="674"/>
                  </a:lnTo>
                  <a:lnTo>
                    <a:pt x="1434" y="674"/>
                  </a:lnTo>
                  <a:lnTo>
                    <a:pt x="1361" y="674"/>
                  </a:lnTo>
                  <a:lnTo>
                    <a:pt x="1288" y="673"/>
                  </a:lnTo>
                  <a:lnTo>
                    <a:pt x="1216" y="670"/>
                  </a:lnTo>
                  <a:lnTo>
                    <a:pt x="1146" y="667"/>
                  </a:lnTo>
                  <a:lnTo>
                    <a:pt x="1076" y="664"/>
                  </a:lnTo>
                  <a:lnTo>
                    <a:pt x="1008" y="659"/>
                  </a:lnTo>
                  <a:lnTo>
                    <a:pt x="942" y="654"/>
                  </a:lnTo>
                  <a:lnTo>
                    <a:pt x="876" y="647"/>
                  </a:lnTo>
                  <a:lnTo>
                    <a:pt x="812" y="641"/>
                  </a:lnTo>
                  <a:lnTo>
                    <a:pt x="751" y="633"/>
                  </a:lnTo>
                  <a:lnTo>
                    <a:pt x="691" y="624"/>
                  </a:lnTo>
                  <a:lnTo>
                    <a:pt x="633" y="615"/>
                  </a:lnTo>
                  <a:lnTo>
                    <a:pt x="576" y="605"/>
                  </a:lnTo>
                  <a:lnTo>
                    <a:pt x="522" y="595"/>
                  </a:lnTo>
                  <a:lnTo>
                    <a:pt x="470" y="584"/>
                  </a:lnTo>
                  <a:lnTo>
                    <a:pt x="420" y="573"/>
                  </a:lnTo>
                  <a:lnTo>
                    <a:pt x="373" y="561"/>
                  </a:lnTo>
                  <a:lnTo>
                    <a:pt x="328" y="549"/>
                  </a:lnTo>
                  <a:lnTo>
                    <a:pt x="285" y="536"/>
                  </a:lnTo>
                  <a:lnTo>
                    <a:pt x="245" y="521"/>
                  </a:lnTo>
                  <a:lnTo>
                    <a:pt x="207" y="507"/>
                  </a:lnTo>
                  <a:lnTo>
                    <a:pt x="173" y="493"/>
                  </a:lnTo>
                  <a:lnTo>
                    <a:pt x="142" y="478"/>
                  </a:lnTo>
                  <a:lnTo>
                    <a:pt x="112" y="463"/>
                  </a:lnTo>
                  <a:lnTo>
                    <a:pt x="87" y="447"/>
                  </a:lnTo>
                  <a:lnTo>
                    <a:pt x="65" y="431"/>
                  </a:lnTo>
                  <a:lnTo>
                    <a:pt x="45" y="414"/>
                  </a:lnTo>
                  <a:lnTo>
                    <a:pt x="30" y="397"/>
                  </a:lnTo>
                  <a:lnTo>
                    <a:pt x="17" y="381"/>
                  </a:lnTo>
                  <a:lnTo>
                    <a:pt x="7" y="363"/>
                  </a:lnTo>
                  <a:lnTo>
                    <a:pt x="2" y="346"/>
                  </a:lnTo>
                  <a:lnTo>
                    <a:pt x="0" y="328"/>
                  </a:lnTo>
                  <a:lnTo>
                    <a:pt x="2" y="310"/>
                  </a:lnTo>
                  <a:lnTo>
                    <a:pt x="7" y="292"/>
                  </a:lnTo>
                  <a:lnTo>
                    <a:pt x="17" y="276"/>
                  </a:lnTo>
                  <a:lnTo>
                    <a:pt x="30" y="259"/>
                  </a:lnTo>
                  <a:lnTo>
                    <a:pt x="45" y="243"/>
                  </a:lnTo>
                  <a:lnTo>
                    <a:pt x="65" y="227"/>
                  </a:lnTo>
                  <a:lnTo>
                    <a:pt x="87" y="212"/>
                  </a:lnTo>
                  <a:lnTo>
                    <a:pt x="112" y="196"/>
                  </a:lnTo>
                  <a:lnTo>
                    <a:pt x="142" y="181"/>
                  </a:lnTo>
                  <a:lnTo>
                    <a:pt x="173" y="167"/>
                  </a:lnTo>
                  <a:lnTo>
                    <a:pt x="207" y="153"/>
                  </a:lnTo>
                  <a:lnTo>
                    <a:pt x="245" y="140"/>
                  </a:lnTo>
                  <a:lnTo>
                    <a:pt x="285" y="127"/>
                  </a:lnTo>
                  <a:lnTo>
                    <a:pt x="328" y="115"/>
                  </a:lnTo>
                  <a:lnTo>
                    <a:pt x="373" y="104"/>
                  </a:lnTo>
                  <a:lnTo>
                    <a:pt x="420" y="91"/>
                  </a:lnTo>
                  <a:lnTo>
                    <a:pt x="470" y="81"/>
                  </a:lnTo>
                  <a:lnTo>
                    <a:pt x="522" y="71"/>
                  </a:lnTo>
                  <a:lnTo>
                    <a:pt x="576" y="62"/>
                  </a:lnTo>
                  <a:lnTo>
                    <a:pt x="633" y="53"/>
                  </a:lnTo>
                  <a:lnTo>
                    <a:pt x="691" y="45"/>
                  </a:lnTo>
                  <a:lnTo>
                    <a:pt x="751" y="37"/>
                  </a:lnTo>
                  <a:lnTo>
                    <a:pt x="812" y="30"/>
                  </a:lnTo>
                  <a:lnTo>
                    <a:pt x="876" y="24"/>
                  </a:lnTo>
                  <a:lnTo>
                    <a:pt x="942" y="18"/>
                  </a:lnTo>
                  <a:lnTo>
                    <a:pt x="1008" y="14"/>
                  </a:lnTo>
                  <a:lnTo>
                    <a:pt x="1076" y="9"/>
                  </a:lnTo>
                  <a:lnTo>
                    <a:pt x="1146" y="6"/>
                  </a:lnTo>
                  <a:lnTo>
                    <a:pt x="1216" y="3"/>
                  </a:lnTo>
                  <a:lnTo>
                    <a:pt x="1288" y="1"/>
                  </a:lnTo>
                  <a:lnTo>
                    <a:pt x="1361" y="0"/>
                  </a:lnTo>
                  <a:lnTo>
                    <a:pt x="1434" y="0"/>
                  </a:lnTo>
                  <a:lnTo>
                    <a:pt x="1508" y="0"/>
                  </a:lnTo>
                  <a:lnTo>
                    <a:pt x="1581" y="1"/>
                  </a:lnTo>
                  <a:lnTo>
                    <a:pt x="1653" y="3"/>
                  </a:lnTo>
                  <a:lnTo>
                    <a:pt x="1723" y="6"/>
                  </a:lnTo>
                  <a:lnTo>
                    <a:pt x="1793" y="9"/>
                  </a:lnTo>
                  <a:lnTo>
                    <a:pt x="1861" y="14"/>
                  </a:lnTo>
                  <a:lnTo>
                    <a:pt x="1927" y="18"/>
                  </a:lnTo>
                  <a:lnTo>
                    <a:pt x="1993" y="24"/>
                  </a:lnTo>
                  <a:lnTo>
                    <a:pt x="2057" y="30"/>
                  </a:lnTo>
                  <a:lnTo>
                    <a:pt x="2118" y="37"/>
                  </a:lnTo>
                  <a:lnTo>
                    <a:pt x="2179" y="45"/>
                  </a:lnTo>
                  <a:lnTo>
                    <a:pt x="2236" y="53"/>
                  </a:lnTo>
                  <a:lnTo>
                    <a:pt x="2293" y="62"/>
                  </a:lnTo>
                  <a:lnTo>
                    <a:pt x="2347" y="71"/>
                  </a:lnTo>
                  <a:lnTo>
                    <a:pt x="2399" y="81"/>
                  </a:lnTo>
                  <a:lnTo>
                    <a:pt x="2448" y="91"/>
                  </a:lnTo>
                  <a:lnTo>
                    <a:pt x="2496" y="104"/>
                  </a:lnTo>
                  <a:lnTo>
                    <a:pt x="2541" y="115"/>
                  </a:lnTo>
                  <a:lnTo>
                    <a:pt x="2584" y="127"/>
                  </a:lnTo>
                  <a:lnTo>
                    <a:pt x="2624" y="140"/>
                  </a:lnTo>
                  <a:lnTo>
                    <a:pt x="2662" y="153"/>
                  </a:lnTo>
                  <a:lnTo>
                    <a:pt x="2696" y="167"/>
                  </a:lnTo>
                  <a:lnTo>
                    <a:pt x="2727" y="181"/>
                  </a:lnTo>
                  <a:lnTo>
                    <a:pt x="2756" y="196"/>
                  </a:lnTo>
                  <a:lnTo>
                    <a:pt x="2782" y="212"/>
                  </a:lnTo>
                  <a:lnTo>
                    <a:pt x="2805" y="227"/>
                  </a:lnTo>
                  <a:lnTo>
                    <a:pt x="2824" y="243"/>
                  </a:lnTo>
                  <a:lnTo>
                    <a:pt x="2840" y="259"/>
                  </a:lnTo>
                  <a:lnTo>
                    <a:pt x="2852" y="276"/>
                  </a:lnTo>
                  <a:lnTo>
                    <a:pt x="2862" y="292"/>
                  </a:lnTo>
                  <a:lnTo>
                    <a:pt x="2868" y="310"/>
                  </a:lnTo>
                  <a:lnTo>
                    <a:pt x="2870" y="328"/>
                  </a:lnTo>
                  <a:close/>
                </a:path>
              </a:pathLst>
            </a:custGeom>
            <a:solidFill>
              <a:srgbClr val="fb4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132640" y="6537240"/>
              <a:ext cx="315720" cy="79920"/>
            </a:xfrm>
            <a:custGeom>
              <a:avLst/>
              <a:gdLst/>
              <a:ahLst/>
              <a:rect l="l" t="t" r="r" b="b"/>
              <a:pathLst>
                <a:path w="2867" h="672">
                  <a:moveTo>
                    <a:pt x="2867" y="327"/>
                  </a:moveTo>
                  <a:lnTo>
                    <a:pt x="2865" y="345"/>
                  </a:lnTo>
                  <a:lnTo>
                    <a:pt x="2859" y="362"/>
                  </a:lnTo>
                  <a:lnTo>
                    <a:pt x="2850" y="379"/>
                  </a:lnTo>
                  <a:lnTo>
                    <a:pt x="2837" y="396"/>
                  </a:lnTo>
                  <a:lnTo>
                    <a:pt x="2821" y="413"/>
                  </a:lnTo>
                  <a:lnTo>
                    <a:pt x="2802" y="430"/>
                  </a:lnTo>
                  <a:lnTo>
                    <a:pt x="2780" y="446"/>
                  </a:lnTo>
                  <a:lnTo>
                    <a:pt x="2754" y="462"/>
                  </a:lnTo>
                  <a:lnTo>
                    <a:pt x="2725" y="477"/>
                  </a:lnTo>
                  <a:lnTo>
                    <a:pt x="2694" y="491"/>
                  </a:lnTo>
                  <a:lnTo>
                    <a:pt x="2660" y="506"/>
                  </a:lnTo>
                  <a:lnTo>
                    <a:pt x="2622" y="520"/>
                  </a:lnTo>
                  <a:lnTo>
                    <a:pt x="2582" y="534"/>
                  </a:lnTo>
                  <a:lnTo>
                    <a:pt x="2539" y="547"/>
                  </a:lnTo>
                  <a:lnTo>
                    <a:pt x="2494" y="559"/>
                  </a:lnTo>
                  <a:lnTo>
                    <a:pt x="2446" y="571"/>
                  </a:lnTo>
                  <a:lnTo>
                    <a:pt x="2397" y="583"/>
                  </a:lnTo>
                  <a:lnTo>
                    <a:pt x="2345" y="593"/>
                  </a:lnTo>
                  <a:lnTo>
                    <a:pt x="2291" y="604"/>
                  </a:lnTo>
                  <a:lnTo>
                    <a:pt x="2234" y="613"/>
                  </a:lnTo>
                  <a:lnTo>
                    <a:pt x="2177" y="622"/>
                  </a:lnTo>
                  <a:lnTo>
                    <a:pt x="2116" y="630"/>
                  </a:lnTo>
                  <a:lnTo>
                    <a:pt x="2055" y="639"/>
                  </a:lnTo>
                  <a:lnTo>
                    <a:pt x="1991" y="646"/>
                  </a:lnTo>
                  <a:lnTo>
                    <a:pt x="1926" y="652"/>
                  </a:lnTo>
                  <a:lnTo>
                    <a:pt x="1860" y="657"/>
                  </a:lnTo>
                  <a:lnTo>
                    <a:pt x="1792" y="662"/>
                  </a:lnTo>
                  <a:lnTo>
                    <a:pt x="1722" y="666"/>
                  </a:lnTo>
                  <a:lnTo>
                    <a:pt x="1652" y="669"/>
                  </a:lnTo>
                  <a:lnTo>
                    <a:pt x="1580" y="671"/>
                  </a:lnTo>
                  <a:lnTo>
                    <a:pt x="1507" y="672"/>
                  </a:lnTo>
                  <a:lnTo>
                    <a:pt x="1433" y="672"/>
                  </a:lnTo>
                  <a:lnTo>
                    <a:pt x="1360" y="672"/>
                  </a:lnTo>
                  <a:lnTo>
                    <a:pt x="1287" y="671"/>
                  </a:lnTo>
                  <a:lnTo>
                    <a:pt x="1215" y="669"/>
                  </a:lnTo>
                  <a:lnTo>
                    <a:pt x="1145" y="666"/>
                  </a:lnTo>
                  <a:lnTo>
                    <a:pt x="1075" y="662"/>
                  </a:lnTo>
                  <a:lnTo>
                    <a:pt x="1007" y="657"/>
                  </a:lnTo>
                  <a:lnTo>
                    <a:pt x="941" y="652"/>
                  </a:lnTo>
                  <a:lnTo>
                    <a:pt x="876" y="646"/>
                  </a:lnTo>
                  <a:lnTo>
                    <a:pt x="812" y="639"/>
                  </a:lnTo>
                  <a:lnTo>
                    <a:pt x="751" y="630"/>
                  </a:lnTo>
                  <a:lnTo>
                    <a:pt x="690" y="622"/>
                  </a:lnTo>
                  <a:lnTo>
                    <a:pt x="633" y="613"/>
                  </a:lnTo>
                  <a:lnTo>
                    <a:pt x="576" y="604"/>
                  </a:lnTo>
                  <a:lnTo>
                    <a:pt x="521" y="593"/>
                  </a:lnTo>
                  <a:lnTo>
                    <a:pt x="470" y="583"/>
                  </a:lnTo>
                  <a:lnTo>
                    <a:pt x="420" y="571"/>
                  </a:lnTo>
                  <a:lnTo>
                    <a:pt x="373" y="559"/>
                  </a:lnTo>
                  <a:lnTo>
                    <a:pt x="328" y="547"/>
                  </a:lnTo>
                  <a:lnTo>
                    <a:pt x="285" y="534"/>
                  </a:lnTo>
                  <a:lnTo>
                    <a:pt x="245" y="520"/>
                  </a:lnTo>
                  <a:lnTo>
                    <a:pt x="208" y="506"/>
                  </a:lnTo>
                  <a:lnTo>
                    <a:pt x="173" y="491"/>
                  </a:lnTo>
                  <a:lnTo>
                    <a:pt x="142" y="477"/>
                  </a:lnTo>
                  <a:lnTo>
                    <a:pt x="113" y="462"/>
                  </a:lnTo>
                  <a:lnTo>
                    <a:pt x="87" y="446"/>
                  </a:lnTo>
                  <a:lnTo>
                    <a:pt x="65" y="430"/>
                  </a:lnTo>
                  <a:lnTo>
                    <a:pt x="46" y="413"/>
                  </a:lnTo>
                  <a:lnTo>
                    <a:pt x="30" y="396"/>
                  </a:lnTo>
                  <a:lnTo>
                    <a:pt x="17" y="379"/>
                  </a:lnTo>
                  <a:lnTo>
                    <a:pt x="7" y="362"/>
                  </a:lnTo>
                  <a:lnTo>
                    <a:pt x="2" y="345"/>
                  </a:lnTo>
                  <a:lnTo>
                    <a:pt x="0" y="327"/>
                  </a:lnTo>
                  <a:lnTo>
                    <a:pt x="2" y="309"/>
                  </a:lnTo>
                  <a:lnTo>
                    <a:pt x="7" y="292"/>
                  </a:lnTo>
                  <a:lnTo>
                    <a:pt x="17" y="275"/>
                  </a:lnTo>
                  <a:lnTo>
                    <a:pt x="30" y="258"/>
                  </a:lnTo>
                  <a:lnTo>
                    <a:pt x="46" y="242"/>
                  </a:lnTo>
                  <a:lnTo>
                    <a:pt x="65" y="226"/>
                  </a:lnTo>
                  <a:lnTo>
                    <a:pt x="87" y="211"/>
                  </a:lnTo>
                  <a:lnTo>
                    <a:pt x="113" y="195"/>
                  </a:lnTo>
                  <a:lnTo>
                    <a:pt x="142" y="180"/>
                  </a:lnTo>
                  <a:lnTo>
                    <a:pt x="173" y="166"/>
                  </a:lnTo>
                  <a:lnTo>
                    <a:pt x="208" y="153"/>
                  </a:lnTo>
                  <a:lnTo>
                    <a:pt x="245" y="140"/>
                  </a:lnTo>
                  <a:lnTo>
                    <a:pt x="285" y="127"/>
                  </a:lnTo>
                  <a:lnTo>
                    <a:pt x="328" y="115"/>
                  </a:lnTo>
                  <a:lnTo>
                    <a:pt x="373" y="103"/>
                  </a:lnTo>
                  <a:lnTo>
                    <a:pt x="420" y="91"/>
                  </a:lnTo>
                  <a:lnTo>
                    <a:pt x="470" y="81"/>
                  </a:lnTo>
                  <a:lnTo>
                    <a:pt x="521" y="71"/>
                  </a:lnTo>
                  <a:lnTo>
                    <a:pt x="576" y="61"/>
                  </a:lnTo>
                  <a:lnTo>
                    <a:pt x="633" y="53"/>
                  </a:lnTo>
                  <a:lnTo>
                    <a:pt x="690" y="44"/>
                  </a:lnTo>
                  <a:lnTo>
                    <a:pt x="751" y="37"/>
                  </a:lnTo>
                  <a:lnTo>
                    <a:pt x="812" y="30"/>
                  </a:lnTo>
                  <a:lnTo>
                    <a:pt x="876" y="24"/>
                  </a:lnTo>
                  <a:lnTo>
                    <a:pt x="941" y="18"/>
                  </a:lnTo>
                  <a:lnTo>
                    <a:pt x="1007" y="13"/>
                  </a:lnTo>
                  <a:lnTo>
                    <a:pt x="1075" y="9"/>
                  </a:lnTo>
                  <a:lnTo>
                    <a:pt x="1145" y="6"/>
                  </a:lnTo>
                  <a:lnTo>
                    <a:pt x="1215" y="3"/>
                  </a:lnTo>
                  <a:lnTo>
                    <a:pt x="1287" y="1"/>
                  </a:lnTo>
                  <a:lnTo>
                    <a:pt x="1360" y="0"/>
                  </a:lnTo>
                  <a:lnTo>
                    <a:pt x="1433" y="0"/>
                  </a:lnTo>
                  <a:lnTo>
                    <a:pt x="1507" y="0"/>
                  </a:lnTo>
                  <a:lnTo>
                    <a:pt x="1580" y="1"/>
                  </a:lnTo>
                  <a:lnTo>
                    <a:pt x="1652" y="3"/>
                  </a:lnTo>
                  <a:lnTo>
                    <a:pt x="1722" y="6"/>
                  </a:lnTo>
                  <a:lnTo>
                    <a:pt x="1792" y="9"/>
                  </a:lnTo>
                  <a:lnTo>
                    <a:pt x="1860" y="13"/>
                  </a:lnTo>
                  <a:lnTo>
                    <a:pt x="1926" y="18"/>
                  </a:lnTo>
                  <a:lnTo>
                    <a:pt x="1991" y="24"/>
                  </a:lnTo>
                  <a:lnTo>
                    <a:pt x="2055" y="30"/>
                  </a:lnTo>
                  <a:lnTo>
                    <a:pt x="2116" y="37"/>
                  </a:lnTo>
                  <a:lnTo>
                    <a:pt x="2177" y="44"/>
                  </a:lnTo>
                  <a:lnTo>
                    <a:pt x="2234" y="53"/>
                  </a:lnTo>
                  <a:lnTo>
                    <a:pt x="2291" y="61"/>
                  </a:lnTo>
                  <a:lnTo>
                    <a:pt x="2345" y="71"/>
                  </a:lnTo>
                  <a:lnTo>
                    <a:pt x="2397" y="81"/>
                  </a:lnTo>
                  <a:lnTo>
                    <a:pt x="2446" y="91"/>
                  </a:lnTo>
                  <a:lnTo>
                    <a:pt x="2494" y="103"/>
                  </a:lnTo>
                  <a:lnTo>
                    <a:pt x="2539" y="115"/>
                  </a:lnTo>
                  <a:lnTo>
                    <a:pt x="2582" y="127"/>
                  </a:lnTo>
                  <a:lnTo>
                    <a:pt x="2622" y="140"/>
                  </a:lnTo>
                  <a:lnTo>
                    <a:pt x="2660" y="153"/>
                  </a:lnTo>
                  <a:lnTo>
                    <a:pt x="2694" y="166"/>
                  </a:lnTo>
                  <a:lnTo>
                    <a:pt x="2725" y="180"/>
                  </a:lnTo>
                  <a:lnTo>
                    <a:pt x="2754" y="195"/>
                  </a:lnTo>
                  <a:lnTo>
                    <a:pt x="2780" y="211"/>
                  </a:lnTo>
                  <a:lnTo>
                    <a:pt x="2802" y="226"/>
                  </a:lnTo>
                  <a:lnTo>
                    <a:pt x="2821" y="242"/>
                  </a:lnTo>
                  <a:lnTo>
                    <a:pt x="2837" y="258"/>
                  </a:lnTo>
                  <a:lnTo>
                    <a:pt x="2850" y="275"/>
                  </a:lnTo>
                  <a:lnTo>
                    <a:pt x="2859" y="292"/>
                  </a:lnTo>
                  <a:lnTo>
                    <a:pt x="2865" y="309"/>
                  </a:lnTo>
                  <a:lnTo>
                    <a:pt x="2867" y="327"/>
                  </a:lnTo>
                  <a:close/>
                </a:path>
              </a:pathLst>
            </a:custGeom>
            <a:solidFill>
              <a:srgbClr val="fb4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132640" y="6537240"/>
              <a:ext cx="315720" cy="79920"/>
            </a:xfrm>
            <a:custGeom>
              <a:avLst/>
              <a:gdLst/>
              <a:ahLst/>
              <a:rect l="l" t="t" r="r" b="b"/>
              <a:pathLst>
                <a:path w="2864" h="671">
                  <a:moveTo>
                    <a:pt x="2864" y="326"/>
                  </a:moveTo>
                  <a:lnTo>
                    <a:pt x="2862" y="344"/>
                  </a:lnTo>
                  <a:lnTo>
                    <a:pt x="2855" y="361"/>
                  </a:lnTo>
                  <a:lnTo>
                    <a:pt x="2846" y="378"/>
                  </a:lnTo>
                  <a:lnTo>
                    <a:pt x="2834" y="395"/>
                  </a:lnTo>
                  <a:lnTo>
                    <a:pt x="2818" y="412"/>
                  </a:lnTo>
                  <a:lnTo>
                    <a:pt x="2799" y="429"/>
                  </a:lnTo>
                  <a:lnTo>
                    <a:pt x="2777" y="445"/>
                  </a:lnTo>
                  <a:lnTo>
                    <a:pt x="2750" y="460"/>
                  </a:lnTo>
                  <a:lnTo>
                    <a:pt x="2722" y="475"/>
                  </a:lnTo>
                  <a:lnTo>
                    <a:pt x="2691" y="490"/>
                  </a:lnTo>
                  <a:lnTo>
                    <a:pt x="2656" y="504"/>
                  </a:lnTo>
                  <a:lnTo>
                    <a:pt x="2619" y="518"/>
                  </a:lnTo>
                  <a:lnTo>
                    <a:pt x="2579" y="533"/>
                  </a:lnTo>
                  <a:lnTo>
                    <a:pt x="2536" y="545"/>
                  </a:lnTo>
                  <a:lnTo>
                    <a:pt x="2491" y="558"/>
                  </a:lnTo>
                  <a:lnTo>
                    <a:pt x="2443" y="570"/>
                  </a:lnTo>
                  <a:lnTo>
                    <a:pt x="2394" y="581"/>
                  </a:lnTo>
                  <a:lnTo>
                    <a:pt x="2342" y="592"/>
                  </a:lnTo>
                  <a:lnTo>
                    <a:pt x="2288" y="602"/>
                  </a:lnTo>
                  <a:lnTo>
                    <a:pt x="2232" y="611"/>
                  </a:lnTo>
                  <a:lnTo>
                    <a:pt x="2174" y="620"/>
                  </a:lnTo>
                  <a:lnTo>
                    <a:pt x="2114" y="628"/>
                  </a:lnTo>
                  <a:lnTo>
                    <a:pt x="2053" y="637"/>
                  </a:lnTo>
                  <a:lnTo>
                    <a:pt x="1989" y="644"/>
                  </a:lnTo>
                  <a:lnTo>
                    <a:pt x="1923" y="650"/>
                  </a:lnTo>
                  <a:lnTo>
                    <a:pt x="1858" y="655"/>
                  </a:lnTo>
                  <a:lnTo>
                    <a:pt x="1789" y="660"/>
                  </a:lnTo>
                  <a:lnTo>
                    <a:pt x="1720" y="664"/>
                  </a:lnTo>
                  <a:lnTo>
                    <a:pt x="1650" y="667"/>
                  </a:lnTo>
                  <a:lnTo>
                    <a:pt x="1578" y="669"/>
                  </a:lnTo>
                  <a:lnTo>
                    <a:pt x="1505" y="670"/>
                  </a:lnTo>
                  <a:lnTo>
                    <a:pt x="1431" y="671"/>
                  </a:lnTo>
                  <a:lnTo>
                    <a:pt x="1358" y="670"/>
                  </a:lnTo>
                  <a:lnTo>
                    <a:pt x="1285" y="669"/>
                  </a:lnTo>
                  <a:lnTo>
                    <a:pt x="1213" y="667"/>
                  </a:lnTo>
                  <a:lnTo>
                    <a:pt x="1143" y="664"/>
                  </a:lnTo>
                  <a:lnTo>
                    <a:pt x="1074" y="660"/>
                  </a:lnTo>
                  <a:lnTo>
                    <a:pt x="1006" y="655"/>
                  </a:lnTo>
                  <a:lnTo>
                    <a:pt x="940" y="650"/>
                  </a:lnTo>
                  <a:lnTo>
                    <a:pt x="874" y="644"/>
                  </a:lnTo>
                  <a:lnTo>
                    <a:pt x="810" y="637"/>
                  </a:lnTo>
                  <a:lnTo>
                    <a:pt x="749" y="628"/>
                  </a:lnTo>
                  <a:lnTo>
                    <a:pt x="689" y="620"/>
                  </a:lnTo>
                  <a:lnTo>
                    <a:pt x="632" y="611"/>
                  </a:lnTo>
                  <a:lnTo>
                    <a:pt x="575" y="602"/>
                  </a:lnTo>
                  <a:lnTo>
                    <a:pt x="520" y="592"/>
                  </a:lnTo>
                  <a:lnTo>
                    <a:pt x="469" y="581"/>
                  </a:lnTo>
                  <a:lnTo>
                    <a:pt x="420" y="570"/>
                  </a:lnTo>
                  <a:lnTo>
                    <a:pt x="372" y="558"/>
                  </a:lnTo>
                  <a:lnTo>
                    <a:pt x="327" y="545"/>
                  </a:lnTo>
                  <a:lnTo>
                    <a:pt x="284" y="533"/>
                  </a:lnTo>
                  <a:lnTo>
                    <a:pt x="245" y="518"/>
                  </a:lnTo>
                  <a:lnTo>
                    <a:pt x="207" y="504"/>
                  </a:lnTo>
                  <a:lnTo>
                    <a:pt x="173" y="490"/>
                  </a:lnTo>
                  <a:lnTo>
                    <a:pt x="141" y="475"/>
                  </a:lnTo>
                  <a:lnTo>
                    <a:pt x="112" y="460"/>
                  </a:lnTo>
                  <a:lnTo>
                    <a:pt x="87" y="445"/>
                  </a:lnTo>
                  <a:lnTo>
                    <a:pt x="64" y="429"/>
                  </a:lnTo>
                  <a:lnTo>
                    <a:pt x="45" y="412"/>
                  </a:lnTo>
                  <a:lnTo>
                    <a:pt x="29" y="395"/>
                  </a:lnTo>
                  <a:lnTo>
                    <a:pt x="17" y="378"/>
                  </a:lnTo>
                  <a:lnTo>
                    <a:pt x="7" y="361"/>
                  </a:lnTo>
                  <a:lnTo>
                    <a:pt x="1" y="344"/>
                  </a:lnTo>
                  <a:lnTo>
                    <a:pt x="0" y="326"/>
                  </a:lnTo>
                  <a:lnTo>
                    <a:pt x="1" y="308"/>
                  </a:lnTo>
                  <a:lnTo>
                    <a:pt x="7" y="291"/>
                  </a:lnTo>
                  <a:lnTo>
                    <a:pt x="17" y="274"/>
                  </a:lnTo>
                  <a:lnTo>
                    <a:pt x="29" y="257"/>
                  </a:lnTo>
                  <a:lnTo>
                    <a:pt x="45" y="241"/>
                  </a:lnTo>
                  <a:lnTo>
                    <a:pt x="64" y="226"/>
                  </a:lnTo>
                  <a:lnTo>
                    <a:pt x="87" y="210"/>
                  </a:lnTo>
                  <a:lnTo>
                    <a:pt x="112" y="194"/>
                  </a:lnTo>
                  <a:lnTo>
                    <a:pt x="141" y="180"/>
                  </a:lnTo>
                  <a:lnTo>
                    <a:pt x="173" y="166"/>
                  </a:lnTo>
                  <a:lnTo>
                    <a:pt x="207" y="152"/>
                  </a:lnTo>
                  <a:lnTo>
                    <a:pt x="245" y="139"/>
                  </a:lnTo>
                  <a:lnTo>
                    <a:pt x="284" y="127"/>
                  </a:lnTo>
                  <a:lnTo>
                    <a:pt x="327" y="114"/>
                  </a:lnTo>
                  <a:lnTo>
                    <a:pt x="372" y="103"/>
                  </a:lnTo>
                  <a:lnTo>
                    <a:pt x="420" y="91"/>
                  </a:lnTo>
                  <a:lnTo>
                    <a:pt x="469" y="80"/>
                  </a:lnTo>
                  <a:lnTo>
                    <a:pt x="520" y="70"/>
                  </a:lnTo>
                  <a:lnTo>
                    <a:pt x="575" y="61"/>
                  </a:lnTo>
                  <a:lnTo>
                    <a:pt x="632" y="52"/>
                  </a:lnTo>
                  <a:lnTo>
                    <a:pt x="689" y="44"/>
                  </a:lnTo>
                  <a:lnTo>
                    <a:pt x="749" y="37"/>
                  </a:lnTo>
                  <a:lnTo>
                    <a:pt x="810" y="30"/>
                  </a:lnTo>
                  <a:lnTo>
                    <a:pt x="874" y="24"/>
                  </a:lnTo>
                  <a:lnTo>
                    <a:pt x="940" y="18"/>
                  </a:lnTo>
                  <a:lnTo>
                    <a:pt x="1006" y="13"/>
                  </a:lnTo>
                  <a:lnTo>
                    <a:pt x="1074" y="9"/>
                  </a:lnTo>
                  <a:lnTo>
                    <a:pt x="1143" y="6"/>
                  </a:lnTo>
                  <a:lnTo>
                    <a:pt x="1213" y="3"/>
                  </a:lnTo>
                  <a:lnTo>
                    <a:pt x="1285" y="1"/>
                  </a:lnTo>
                  <a:lnTo>
                    <a:pt x="1358" y="0"/>
                  </a:lnTo>
                  <a:lnTo>
                    <a:pt x="1431" y="0"/>
                  </a:lnTo>
                  <a:lnTo>
                    <a:pt x="1505" y="0"/>
                  </a:lnTo>
                  <a:lnTo>
                    <a:pt x="1578" y="1"/>
                  </a:lnTo>
                  <a:lnTo>
                    <a:pt x="1650" y="3"/>
                  </a:lnTo>
                  <a:lnTo>
                    <a:pt x="1720" y="6"/>
                  </a:lnTo>
                  <a:lnTo>
                    <a:pt x="1789" y="9"/>
                  </a:lnTo>
                  <a:lnTo>
                    <a:pt x="1858" y="13"/>
                  </a:lnTo>
                  <a:lnTo>
                    <a:pt x="1923" y="18"/>
                  </a:lnTo>
                  <a:lnTo>
                    <a:pt x="1989" y="24"/>
                  </a:lnTo>
                  <a:lnTo>
                    <a:pt x="2053" y="30"/>
                  </a:lnTo>
                  <a:lnTo>
                    <a:pt x="2114" y="37"/>
                  </a:lnTo>
                  <a:lnTo>
                    <a:pt x="2174" y="44"/>
                  </a:lnTo>
                  <a:lnTo>
                    <a:pt x="2232" y="52"/>
                  </a:lnTo>
                  <a:lnTo>
                    <a:pt x="2288" y="61"/>
                  </a:lnTo>
                  <a:lnTo>
                    <a:pt x="2342" y="70"/>
                  </a:lnTo>
                  <a:lnTo>
                    <a:pt x="2394" y="80"/>
                  </a:lnTo>
                  <a:lnTo>
                    <a:pt x="2443" y="91"/>
                  </a:lnTo>
                  <a:lnTo>
                    <a:pt x="2491" y="103"/>
                  </a:lnTo>
                  <a:lnTo>
                    <a:pt x="2536" y="114"/>
                  </a:lnTo>
                  <a:lnTo>
                    <a:pt x="2579" y="127"/>
                  </a:lnTo>
                  <a:lnTo>
                    <a:pt x="2619" y="139"/>
                  </a:lnTo>
                  <a:lnTo>
                    <a:pt x="2656" y="152"/>
                  </a:lnTo>
                  <a:lnTo>
                    <a:pt x="2691" y="166"/>
                  </a:lnTo>
                  <a:lnTo>
                    <a:pt x="2722" y="180"/>
                  </a:lnTo>
                  <a:lnTo>
                    <a:pt x="2750" y="194"/>
                  </a:lnTo>
                  <a:lnTo>
                    <a:pt x="2777" y="210"/>
                  </a:lnTo>
                  <a:lnTo>
                    <a:pt x="2799" y="226"/>
                  </a:lnTo>
                  <a:lnTo>
                    <a:pt x="2818" y="241"/>
                  </a:lnTo>
                  <a:lnTo>
                    <a:pt x="2834" y="257"/>
                  </a:lnTo>
                  <a:lnTo>
                    <a:pt x="2846" y="274"/>
                  </a:lnTo>
                  <a:lnTo>
                    <a:pt x="2855" y="291"/>
                  </a:lnTo>
                  <a:lnTo>
                    <a:pt x="2862" y="308"/>
                  </a:lnTo>
                  <a:lnTo>
                    <a:pt x="2864" y="326"/>
                  </a:lnTo>
                  <a:close/>
                </a:path>
              </a:pathLst>
            </a:custGeom>
            <a:solidFill>
              <a:srgbClr val="fb4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132640" y="6538680"/>
              <a:ext cx="315720" cy="78480"/>
            </a:xfrm>
            <a:custGeom>
              <a:avLst/>
              <a:gdLst/>
              <a:ahLst/>
              <a:rect l="l" t="t" r="r" b="b"/>
              <a:pathLst>
                <a:path w="2861" h="669">
                  <a:moveTo>
                    <a:pt x="2861" y="325"/>
                  </a:moveTo>
                  <a:lnTo>
                    <a:pt x="2859" y="343"/>
                  </a:lnTo>
                  <a:lnTo>
                    <a:pt x="2853" y="360"/>
                  </a:lnTo>
                  <a:lnTo>
                    <a:pt x="2844" y="377"/>
                  </a:lnTo>
                  <a:lnTo>
                    <a:pt x="2831" y="394"/>
                  </a:lnTo>
                  <a:lnTo>
                    <a:pt x="2816" y="410"/>
                  </a:lnTo>
                  <a:lnTo>
                    <a:pt x="2797" y="428"/>
                  </a:lnTo>
                  <a:lnTo>
                    <a:pt x="2774" y="443"/>
                  </a:lnTo>
                  <a:lnTo>
                    <a:pt x="2748" y="459"/>
                  </a:lnTo>
                  <a:lnTo>
                    <a:pt x="2720" y="474"/>
                  </a:lnTo>
                  <a:lnTo>
                    <a:pt x="2688" y="489"/>
                  </a:lnTo>
                  <a:lnTo>
                    <a:pt x="2653" y="503"/>
                  </a:lnTo>
                  <a:lnTo>
                    <a:pt x="2616" y="517"/>
                  </a:lnTo>
                  <a:lnTo>
                    <a:pt x="2577" y="531"/>
                  </a:lnTo>
                  <a:lnTo>
                    <a:pt x="2534" y="544"/>
                  </a:lnTo>
                  <a:lnTo>
                    <a:pt x="2489" y="556"/>
                  </a:lnTo>
                  <a:lnTo>
                    <a:pt x="2441" y="568"/>
                  </a:lnTo>
                  <a:lnTo>
                    <a:pt x="2392" y="579"/>
                  </a:lnTo>
                  <a:lnTo>
                    <a:pt x="2340" y="590"/>
                  </a:lnTo>
                  <a:lnTo>
                    <a:pt x="2286" y="600"/>
                  </a:lnTo>
                  <a:lnTo>
                    <a:pt x="2230" y="610"/>
                  </a:lnTo>
                  <a:lnTo>
                    <a:pt x="2172" y="618"/>
                  </a:lnTo>
                  <a:lnTo>
                    <a:pt x="2112" y="627"/>
                  </a:lnTo>
                  <a:lnTo>
                    <a:pt x="2051" y="635"/>
                  </a:lnTo>
                  <a:lnTo>
                    <a:pt x="1987" y="642"/>
                  </a:lnTo>
                  <a:lnTo>
                    <a:pt x="1922" y="648"/>
                  </a:lnTo>
                  <a:lnTo>
                    <a:pt x="1856" y="653"/>
                  </a:lnTo>
                  <a:lnTo>
                    <a:pt x="1788" y="658"/>
                  </a:lnTo>
                  <a:lnTo>
                    <a:pt x="1718" y="662"/>
                  </a:lnTo>
                  <a:lnTo>
                    <a:pt x="1649" y="665"/>
                  </a:lnTo>
                  <a:lnTo>
                    <a:pt x="1577" y="667"/>
                  </a:lnTo>
                  <a:lnTo>
                    <a:pt x="1504" y="668"/>
                  </a:lnTo>
                  <a:lnTo>
                    <a:pt x="1430" y="669"/>
                  </a:lnTo>
                  <a:lnTo>
                    <a:pt x="1357" y="668"/>
                  </a:lnTo>
                  <a:lnTo>
                    <a:pt x="1284" y="667"/>
                  </a:lnTo>
                  <a:lnTo>
                    <a:pt x="1212" y="665"/>
                  </a:lnTo>
                  <a:lnTo>
                    <a:pt x="1143" y="662"/>
                  </a:lnTo>
                  <a:lnTo>
                    <a:pt x="1073" y="658"/>
                  </a:lnTo>
                  <a:lnTo>
                    <a:pt x="1005" y="653"/>
                  </a:lnTo>
                  <a:lnTo>
                    <a:pt x="939" y="648"/>
                  </a:lnTo>
                  <a:lnTo>
                    <a:pt x="874" y="642"/>
                  </a:lnTo>
                  <a:lnTo>
                    <a:pt x="810" y="635"/>
                  </a:lnTo>
                  <a:lnTo>
                    <a:pt x="749" y="627"/>
                  </a:lnTo>
                  <a:lnTo>
                    <a:pt x="689" y="618"/>
                  </a:lnTo>
                  <a:lnTo>
                    <a:pt x="631" y="610"/>
                  </a:lnTo>
                  <a:lnTo>
                    <a:pt x="575" y="600"/>
                  </a:lnTo>
                  <a:lnTo>
                    <a:pt x="521" y="590"/>
                  </a:lnTo>
                  <a:lnTo>
                    <a:pt x="469" y="579"/>
                  </a:lnTo>
                  <a:lnTo>
                    <a:pt x="420" y="568"/>
                  </a:lnTo>
                  <a:lnTo>
                    <a:pt x="372" y="556"/>
                  </a:lnTo>
                  <a:lnTo>
                    <a:pt x="327" y="544"/>
                  </a:lnTo>
                  <a:lnTo>
                    <a:pt x="284" y="531"/>
                  </a:lnTo>
                  <a:lnTo>
                    <a:pt x="245" y="517"/>
                  </a:lnTo>
                  <a:lnTo>
                    <a:pt x="207" y="503"/>
                  </a:lnTo>
                  <a:lnTo>
                    <a:pt x="173" y="489"/>
                  </a:lnTo>
                  <a:lnTo>
                    <a:pt x="142" y="474"/>
                  </a:lnTo>
                  <a:lnTo>
                    <a:pt x="112" y="459"/>
                  </a:lnTo>
                  <a:lnTo>
                    <a:pt x="87" y="443"/>
                  </a:lnTo>
                  <a:lnTo>
                    <a:pt x="65" y="428"/>
                  </a:lnTo>
                  <a:lnTo>
                    <a:pt x="46" y="410"/>
                  </a:lnTo>
                  <a:lnTo>
                    <a:pt x="30" y="394"/>
                  </a:lnTo>
                  <a:lnTo>
                    <a:pt x="17" y="377"/>
                  </a:lnTo>
                  <a:lnTo>
                    <a:pt x="7" y="360"/>
                  </a:lnTo>
                  <a:lnTo>
                    <a:pt x="2" y="343"/>
                  </a:lnTo>
                  <a:lnTo>
                    <a:pt x="0" y="325"/>
                  </a:lnTo>
                  <a:lnTo>
                    <a:pt x="2" y="307"/>
                  </a:lnTo>
                  <a:lnTo>
                    <a:pt x="7" y="290"/>
                  </a:lnTo>
                  <a:lnTo>
                    <a:pt x="17" y="273"/>
                  </a:lnTo>
                  <a:lnTo>
                    <a:pt x="30" y="257"/>
                  </a:lnTo>
                  <a:lnTo>
                    <a:pt x="46" y="240"/>
                  </a:lnTo>
                  <a:lnTo>
                    <a:pt x="65" y="225"/>
                  </a:lnTo>
                  <a:lnTo>
                    <a:pt x="87" y="210"/>
                  </a:lnTo>
                  <a:lnTo>
                    <a:pt x="112" y="194"/>
                  </a:lnTo>
                  <a:lnTo>
                    <a:pt x="142" y="179"/>
                  </a:lnTo>
                  <a:lnTo>
                    <a:pt x="173" y="165"/>
                  </a:lnTo>
                  <a:lnTo>
                    <a:pt x="207" y="152"/>
                  </a:lnTo>
                  <a:lnTo>
                    <a:pt x="245" y="139"/>
                  </a:lnTo>
                  <a:lnTo>
                    <a:pt x="284" y="126"/>
                  </a:lnTo>
                  <a:lnTo>
                    <a:pt x="327" y="114"/>
                  </a:lnTo>
                  <a:lnTo>
                    <a:pt x="372" y="102"/>
                  </a:lnTo>
                  <a:lnTo>
                    <a:pt x="420" y="90"/>
                  </a:lnTo>
                  <a:lnTo>
                    <a:pt x="469" y="80"/>
                  </a:lnTo>
                  <a:lnTo>
                    <a:pt x="521" y="70"/>
                  </a:lnTo>
                  <a:lnTo>
                    <a:pt x="575" y="61"/>
                  </a:lnTo>
                  <a:lnTo>
                    <a:pt x="631" y="52"/>
                  </a:lnTo>
                  <a:lnTo>
                    <a:pt x="689" y="44"/>
                  </a:lnTo>
                  <a:lnTo>
                    <a:pt x="749" y="37"/>
                  </a:lnTo>
                  <a:lnTo>
                    <a:pt x="810" y="30"/>
                  </a:lnTo>
                  <a:lnTo>
                    <a:pt x="874" y="24"/>
                  </a:lnTo>
                  <a:lnTo>
                    <a:pt x="939" y="18"/>
                  </a:lnTo>
                  <a:lnTo>
                    <a:pt x="1005" y="13"/>
                  </a:lnTo>
                  <a:lnTo>
                    <a:pt x="1073" y="9"/>
                  </a:lnTo>
                  <a:lnTo>
                    <a:pt x="1143" y="6"/>
                  </a:lnTo>
                  <a:lnTo>
                    <a:pt x="1212" y="3"/>
                  </a:lnTo>
                  <a:lnTo>
                    <a:pt x="1284" y="1"/>
                  </a:lnTo>
                  <a:lnTo>
                    <a:pt x="1357" y="0"/>
                  </a:lnTo>
                  <a:lnTo>
                    <a:pt x="1430" y="0"/>
                  </a:lnTo>
                  <a:lnTo>
                    <a:pt x="1504" y="0"/>
                  </a:lnTo>
                  <a:lnTo>
                    <a:pt x="1577" y="1"/>
                  </a:lnTo>
                  <a:lnTo>
                    <a:pt x="1649" y="3"/>
                  </a:lnTo>
                  <a:lnTo>
                    <a:pt x="1718" y="6"/>
                  </a:lnTo>
                  <a:lnTo>
                    <a:pt x="1788" y="9"/>
                  </a:lnTo>
                  <a:lnTo>
                    <a:pt x="1856" y="13"/>
                  </a:lnTo>
                  <a:lnTo>
                    <a:pt x="1922" y="18"/>
                  </a:lnTo>
                  <a:lnTo>
                    <a:pt x="1987" y="24"/>
                  </a:lnTo>
                  <a:lnTo>
                    <a:pt x="2051" y="30"/>
                  </a:lnTo>
                  <a:lnTo>
                    <a:pt x="2112" y="37"/>
                  </a:lnTo>
                  <a:lnTo>
                    <a:pt x="2172" y="44"/>
                  </a:lnTo>
                  <a:lnTo>
                    <a:pt x="2230" y="52"/>
                  </a:lnTo>
                  <a:lnTo>
                    <a:pt x="2286" y="61"/>
                  </a:lnTo>
                  <a:lnTo>
                    <a:pt x="2340" y="70"/>
                  </a:lnTo>
                  <a:lnTo>
                    <a:pt x="2392" y="80"/>
                  </a:lnTo>
                  <a:lnTo>
                    <a:pt x="2441" y="90"/>
                  </a:lnTo>
                  <a:lnTo>
                    <a:pt x="2489" y="102"/>
                  </a:lnTo>
                  <a:lnTo>
                    <a:pt x="2534" y="114"/>
                  </a:lnTo>
                  <a:lnTo>
                    <a:pt x="2577" y="126"/>
                  </a:lnTo>
                  <a:lnTo>
                    <a:pt x="2616" y="139"/>
                  </a:lnTo>
                  <a:lnTo>
                    <a:pt x="2653" y="152"/>
                  </a:lnTo>
                  <a:lnTo>
                    <a:pt x="2688" y="165"/>
                  </a:lnTo>
                  <a:lnTo>
                    <a:pt x="2720" y="179"/>
                  </a:lnTo>
                  <a:lnTo>
                    <a:pt x="2748" y="194"/>
                  </a:lnTo>
                  <a:lnTo>
                    <a:pt x="2774" y="210"/>
                  </a:lnTo>
                  <a:lnTo>
                    <a:pt x="2797" y="225"/>
                  </a:lnTo>
                  <a:lnTo>
                    <a:pt x="2816" y="240"/>
                  </a:lnTo>
                  <a:lnTo>
                    <a:pt x="2831" y="257"/>
                  </a:lnTo>
                  <a:lnTo>
                    <a:pt x="2844" y="273"/>
                  </a:lnTo>
                  <a:lnTo>
                    <a:pt x="2853" y="290"/>
                  </a:lnTo>
                  <a:lnTo>
                    <a:pt x="2859" y="307"/>
                  </a:lnTo>
                  <a:lnTo>
                    <a:pt x="2861" y="325"/>
                  </a:lnTo>
                  <a:close/>
                </a:path>
              </a:pathLst>
            </a:custGeom>
            <a:solidFill>
              <a:srgbClr val="fb4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132640" y="6538680"/>
              <a:ext cx="315720" cy="78480"/>
            </a:xfrm>
            <a:custGeom>
              <a:avLst/>
              <a:gdLst/>
              <a:ahLst/>
              <a:rect l="l" t="t" r="r" b="b"/>
              <a:pathLst>
                <a:path w="2859" h="668">
                  <a:moveTo>
                    <a:pt x="2859" y="325"/>
                  </a:moveTo>
                  <a:lnTo>
                    <a:pt x="2857" y="343"/>
                  </a:lnTo>
                  <a:lnTo>
                    <a:pt x="2850" y="360"/>
                  </a:lnTo>
                  <a:lnTo>
                    <a:pt x="2841" y="377"/>
                  </a:lnTo>
                  <a:lnTo>
                    <a:pt x="2829" y="394"/>
                  </a:lnTo>
                  <a:lnTo>
                    <a:pt x="2813" y="410"/>
                  </a:lnTo>
                  <a:lnTo>
                    <a:pt x="2794" y="427"/>
                  </a:lnTo>
                  <a:lnTo>
                    <a:pt x="2772" y="443"/>
                  </a:lnTo>
                  <a:lnTo>
                    <a:pt x="2746" y="458"/>
                  </a:lnTo>
                  <a:lnTo>
                    <a:pt x="2717" y="473"/>
                  </a:lnTo>
                  <a:lnTo>
                    <a:pt x="2686" y="488"/>
                  </a:lnTo>
                  <a:lnTo>
                    <a:pt x="2651" y="502"/>
                  </a:lnTo>
                  <a:lnTo>
                    <a:pt x="2614" y="516"/>
                  </a:lnTo>
                  <a:lnTo>
                    <a:pt x="2575" y="530"/>
                  </a:lnTo>
                  <a:lnTo>
                    <a:pt x="2532" y="543"/>
                  </a:lnTo>
                  <a:lnTo>
                    <a:pt x="2487" y="556"/>
                  </a:lnTo>
                  <a:lnTo>
                    <a:pt x="2439" y="567"/>
                  </a:lnTo>
                  <a:lnTo>
                    <a:pt x="2390" y="579"/>
                  </a:lnTo>
                  <a:lnTo>
                    <a:pt x="2338" y="589"/>
                  </a:lnTo>
                  <a:lnTo>
                    <a:pt x="2285" y="599"/>
                  </a:lnTo>
                  <a:lnTo>
                    <a:pt x="2228" y="609"/>
                  </a:lnTo>
                  <a:lnTo>
                    <a:pt x="2171" y="618"/>
                  </a:lnTo>
                  <a:lnTo>
                    <a:pt x="2110" y="626"/>
                  </a:lnTo>
                  <a:lnTo>
                    <a:pt x="2049" y="634"/>
                  </a:lnTo>
                  <a:lnTo>
                    <a:pt x="1986" y="641"/>
                  </a:lnTo>
                  <a:lnTo>
                    <a:pt x="1921" y="647"/>
                  </a:lnTo>
                  <a:lnTo>
                    <a:pt x="1855" y="652"/>
                  </a:lnTo>
                  <a:lnTo>
                    <a:pt x="1787" y="657"/>
                  </a:lnTo>
                  <a:lnTo>
                    <a:pt x="1717" y="661"/>
                  </a:lnTo>
                  <a:lnTo>
                    <a:pt x="1648" y="664"/>
                  </a:lnTo>
                  <a:lnTo>
                    <a:pt x="1576" y="666"/>
                  </a:lnTo>
                  <a:lnTo>
                    <a:pt x="1503" y="667"/>
                  </a:lnTo>
                  <a:lnTo>
                    <a:pt x="1429" y="668"/>
                  </a:lnTo>
                  <a:lnTo>
                    <a:pt x="1356" y="667"/>
                  </a:lnTo>
                  <a:lnTo>
                    <a:pt x="1283" y="666"/>
                  </a:lnTo>
                  <a:lnTo>
                    <a:pt x="1212" y="664"/>
                  </a:lnTo>
                  <a:lnTo>
                    <a:pt x="1142" y="661"/>
                  </a:lnTo>
                  <a:lnTo>
                    <a:pt x="1073" y="657"/>
                  </a:lnTo>
                  <a:lnTo>
                    <a:pt x="1004" y="652"/>
                  </a:lnTo>
                  <a:lnTo>
                    <a:pt x="939" y="647"/>
                  </a:lnTo>
                  <a:lnTo>
                    <a:pt x="873" y="641"/>
                  </a:lnTo>
                  <a:lnTo>
                    <a:pt x="810" y="634"/>
                  </a:lnTo>
                  <a:lnTo>
                    <a:pt x="749" y="626"/>
                  </a:lnTo>
                  <a:lnTo>
                    <a:pt x="688" y="618"/>
                  </a:lnTo>
                  <a:lnTo>
                    <a:pt x="631" y="609"/>
                  </a:lnTo>
                  <a:lnTo>
                    <a:pt x="575" y="599"/>
                  </a:lnTo>
                  <a:lnTo>
                    <a:pt x="521" y="589"/>
                  </a:lnTo>
                  <a:lnTo>
                    <a:pt x="469" y="579"/>
                  </a:lnTo>
                  <a:lnTo>
                    <a:pt x="420" y="567"/>
                  </a:lnTo>
                  <a:lnTo>
                    <a:pt x="372" y="556"/>
                  </a:lnTo>
                  <a:lnTo>
                    <a:pt x="327" y="543"/>
                  </a:lnTo>
                  <a:lnTo>
                    <a:pt x="284" y="530"/>
                  </a:lnTo>
                  <a:lnTo>
                    <a:pt x="245" y="516"/>
                  </a:lnTo>
                  <a:lnTo>
                    <a:pt x="207" y="502"/>
                  </a:lnTo>
                  <a:lnTo>
                    <a:pt x="173" y="488"/>
                  </a:lnTo>
                  <a:lnTo>
                    <a:pt x="142" y="473"/>
                  </a:lnTo>
                  <a:lnTo>
                    <a:pt x="114" y="458"/>
                  </a:lnTo>
                  <a:lnTo>
                    <a:pt x="87" y="443"/>
                  </a:lnTo>
                  <a:lnTo>
                    <a:pt x="65" y="427"/>
                  </a:lnTo>
                  <a:lnTo>
                    <a:pt x="46" y="410"/>
                  </a:lnTo>
                  <a:lnTo>
                    <a:pt x="30" y="394"/>
                  </a:lnTo>
                  <a:lnTo>
                    <a:pt x="18" y="377"/>
                  </a:lnTo>
                  <a:lnTo>
                    <a:pt x="8" y="360"/>
                  </a:lnTo>
                  <a:lnTo>
                    <a:pt x="2" y="343"/>
                  </a:lnTo>
                  <a:lnTo>
                    <a:pt x="0" y="325"/>
                  </a:lnTo>
                  <a:lnTo>
                    <a:pt x="2" y="307"/>
                  </a:lnTo>
                  <a:lnTo>
                    <a:pt x="8" y="290"/>
                  </a:lnTo>
                  <a:lnTo>
                    <a:pt x="18" y="273"/>
                  </a:lnTo>
                  <a:lnTo>
                    <a:pt x="30" y="257"/>
                  </a:lnTo>
                  <a:lnTo>
                    <a:pt x="46" y="241"/>
                  </a:lnTo>
                  <a:lnTo>
                    <a:pt x="65" y="225"/>
                  </a:lnTo>
                  <a:lnTo>
                    <a:pt x="87" y="210"/>
                  </a:lnTo>
                  <a:lnTo>
                    <a:pt x="114" y="194"/>
                  </a:lnTo>
                  <a:lnTo>
                    <a:pt x="142" y="180"/>
                  </a:lnTo>
                  <a:lnTo>
                    <a:pt x="173" y="166"/>
                  </a:lnTo>
                  <a:lnTo>
                    <a:pt x="207" y="152"/>
                  </a:lnTo>
                  <a:lnTo>
                    <a:pt x="245" y="139"/>
                  </a:lnTo>
                  <a:lnTo>
                    <a:pt x="284" y="127"/>
                  </a:lnTo>
                  <a:lnTo>
                    <a:pt x="327" y="115"/>
                  </a:lnTo>
                  <a:lnTo>
                    <a:pt x="372" y="103"/>
                  </a:lnTo>
                  <a:lnTo>
                    <a:pt x="420" y="91"/>
                  </a:lnTo>
                  <a:lnTo>
                    <a:pt x="469" y="81"/>
                  </a:lnTo>
                  <a:lnTo>
                    <a:pt x="521" y="71"/>
                  </a:lnTo>
                  <a:lnTo>
                    <a:pt x="575" y="62"/>
                  </a:lnTo>
                  <a:lnTo>
                    <a:pt x="631" y="53"/>
                  </a:lnTo>
                  <a:lnTo>
                    <a:pt x="688" y="45"/>
                  </a:lnTo>
                  <a:lnTo>
                    <a:pt x="749" y="37"/>
                  </a:lnTo>
                  <a:lnTo>
                    <a:pt x="810" y="31"/>
                  </a:lnTo>
                  <a:lnTo>
                    <a:pt x="873" y="24"/>
                  </a:lnTo>
                  <a:lnTo>
                    <a:pt x="939" y="19"/>
                  </a:lnTo>
                  <a:lnTo>
                    <a:pt x="1004" y="14"/>
                  </a:lnTo>
                  <a:lnTo>
                    <a:pt x="1073" y="10"/>
                  </a:lnTo>
                  <a:lnTo>
                    <a:pt x="1142" y="7"/>
                  </a:lnTo>
                  <a:lnTo>
                    <a:pt x="1212" y="4"/>
                  </a:lnTo>
                  <a:lnTo>
                    <a:pt x="1283" y="2"/>
                  </a:lnTo>
                  <a:lnTo>
                    <a:pt x="1356" y="1"/>
                  </a:lnTo>
                  <a:lnTo>
                    <a:pt x="1429" y="0"/>
                  </a:lnTo>
                  <a:lnTo>
                    <a:pt x="1503" y="1"/>
                  </a:lnTo>
                  <a:lnTo>
                    <a:pt x="1576" y="2"/>
                  </a:lnTo>
                  <a:lnTo>
                    <a:pt x="1648" y="4"/>
                  </a:lnTo>
                  <a:lnTo>
                    <a:pt x="1717" y="7"/>
                  </a:lnTo>
                  <a:lnTo>
                    <a:pt x="1787" y="10"/>
                  </a:lnTo>
                  <a:lnTo>
                    <a:pt x="1855" y="14"/>
                  </a:lnTo>
                  <a:lnTo>
                    <a:pt x="1921" y="19"/>
                  </a:lnTo>
                  <a:lnTo>
                    <a:pt x="1986" y="24"/>
                  </a:lnTo>
                  <a:lnTo>
                    <a:pt x="2049" y="31"/>
                  </a:lnTo>
                  <a:lnTo>
                    <a:pt x="2110" y="37"/>
                  </a:lnTo>
                  <a:lnTo>
                    <a:pt x="2171" y="45"/>
                  </a:lnTo>
                  <a:lnTo>
                    <a:pt x="2228" y="53"/>
                  </a:lnTo>
                  <a:lnTo>
                    <a:pt x="2285" y="62"/>
                  </a:lnTo>
                  <a:lnTo>
                    <a:pt x="2338" y="71"/>
                  </a:lnTo>
                  <a:lnTo>
                    <a:pt x="2390" y="81"/>
                  </a:lnTo>
                  <a:lnTo>
                    <a:pt x="2439" y="91"/>
                  </a:lnTo>
                  <a:lnTo>
                    <a:pt x="2487" y="103"/>
                  </a:lnTo>
                  <a:lnTo>
                    <a:pt x="2532" y="115"/>
                  </a:lnTo>
                  <a:lnTo>
                    <a:pt x="2575" y="127"/>
                  </a:lnTo>
                  <a:lnTo>
                    <a:pt x="2614" y="139"/>
                  </a:lnTo>
                  <a:lnTo>
                    <a:pt x="2651" y="152"/>
                  </a:lnTo>
                  <a:lnTo>
                    <a:pt x="2686" y="166"/>
                  </a:lnTo>
                  <a:lnTo>
                    <a:pt x="2717" y="180"/>
                  </a:lnTo>
                  <a:lnTo>
                    <a:pt x="2746" y="194"/>
                  </a:lnTo>
                  <a:lnTo>
                    <a:pt x="2772" y="210"/>
                  </a:lnTo>
                  <a:lnTo>
                    <a:pt x="2794" y="225"/>
                  </a:lnTo>
                  <a:lnTo>
                    <a:pt x="2813" y="241"/>
                  </a:lnTo>
                  <a:lnTo>
                    <a:pt x="2829" y="257"/>
                  </a:lnTo>
                  <a:lnTo>
                    <a:pt x="2841" y="273"/>
                  </a:lnTo>
                  <a:lnTo>
                    <a:pt x="2850" y="290"/>
                  </a:lnTo>
                  <a:lnTo>
                    <a:pt x="2857" y="307"/>
                  </a:lnTo>
                  <a:lnTo>
                    <a:pt x="2859" y="325"/>
                  </a:lnTo>
                  <a:close/>
                </a:path>
              </a:pathLst>
            </a:custGeom>
            <a:solidFill>
              <a:srgbClr val="fb4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132640" y="6538680"/>
              <a:ext cx="315720" cy="78480"/>
            </a:xfrm>
            <a:custGeom>
              <a:avLst/>
              <a:gdLst/>
              <a:ahLst/>
              <a:rect l="l" t="t" r="r" b="b"/>
              <a:pathLst>
                <a:path w="2855" h="666">
                  <a:moveTo>
                    <a:pt x="2855" y="324"/>
                  </a:moveTo>
                  <a:lnTo>
                    <a:pt x="2853" y="342"/>
                  </a:lnTo>
                  <a:lnTo>
                    <a:pt x="2847" y="359"/>
                  </a:lnTo>
                  <a:lnTo>
                    <a:pt x="2838" y="376"/>
                  </a:lnTo>
                  <a:lnTo>
                    <a:pt x="2826" y="393"/>
                  </a:lnTo>
                  <a:lnTo>
                    <a:pt x="2810" y="409"/>
                  </a:lnTo>
                  <a:lnTo>
                    <a:pt x="2791" y="426"/>
                  </a:lnTo>
                  <a:lnTo>
                    <a:pt x="2769" y="442"/>
                  </a:lnTo>
                  <a:lnTo>
                    <a:pt x="2742" y="457"/>
                  </a:lnTo>
                  <a:lnTo>
                    <a:pt x="2714" y="472"/>
                  </a:lnTo>
                  <a:lnTo>
                    <a:pt x="2683" y="487"/>
                  </a:lnTo>
                  <a:lnTo>
                    <a:pt x="2648" y="501"/>
                  </a:lnTo>
                  <a:lnTo>
                    <a:pt x="2611" y="515"/>
                  </a:lnTo>
                  <a:lnTo>
                    <a:pt x="2572" y="529"/>
                  </a:lnTo>
                  <a:lnTo>
                    <a:pt x="2529" y="542"/>
                  </a:lnTo>
                  <a:lnTo>
                    <a:pt x="2484" y="554"/>
                  </a:lnTo>
                  <a:lnTo>
                    <a:pt x="2436" y="566"/>
                  </a:lnTo>
                  <a:lnTo>
                    <a:pt x="2387" y="577"/>
                  </a:lnTo>
                  <a:lnTo>
                    <a:pt x="2335" y="588"/>
                  </a:lnTo>
                  <a:lnTo>
                    <a:pt x="2282" y="598"/>
                  </a:lnTo>
                  <a:lnTo>
                    <a:pt x="2225" y="607"/>
                  </a:lnTo>
                  <a:lnTo>
                    <a:pt x="2168" y="616"/>
                  </a:lnTo>
                  <a:lnTo>
                    <a:pt x="2108" y="624"/>
                  </a:lnTo>
                  <a:lnTo>
                    <a:pt x="2047" y="632"/>
                  </a:lnTo>
                  <a:lnTo>
                    <a:pt x="1983" y="639"/>
                  </a:lnTo>
                  <a:lnTo>
                    <a:pt x="1918" y="645"/>
                  </a:lnTo>
                  <a:lnTo>
                    <a:pt x="1852" y="651"/>
                  </a:lnTo>
                  <a:lnTo>
                    <a:pt x="1784" y="655"/>
                  </a:lnTo>
                  <a:lnTo>
                    <a:pt x="1715" y="659"/>
                  </a:lnTo>
                  <a:lnTo>
                    <a:pt x="1645" y="662"/>
                  </a:lnTo>
                  <a:lnTo>
                    <a:pt x="1574" y="664"/>
                  </a:lnTo>
                  <a:lnTo>
                    <a:pt x="1501" y="665"/>
                  </a:lnTo>
                  <a:lnTo>
                    <a:pt x="1427" y="666"/>
                  </a:lnTo>
                  <a:lnTo>
                    <a:pt x="1354" y="665"/>
                  </a:lnTo>
                  <a:lnTo>
                    <a:pt x="1282" y="664"/>
                  </a:lnTo>
                  <a:lnTo>
                    <a:pt x="1210" y="662"/>
                  </a:lnTo>
                  <a:lnTo>
                    <a:pt x="1140" y="659"/>
                  </a:lnTo>
                  <a:lnTo>
                    <a:pt x="1071" y="655"/>
                  </a:lnTo>
                  <a:lnTo>
                    <a:pt x="1003" y="651"/>
                  </a:lnTo>
                  <a:lnTo>
                    <a:pt x="937" y="645"/>
                  </a:lnTo>
                  <a:lnTo>
                    <a:pt x="872" y="639"/>
                  </a:lnTo>
                  <a:lnTo>
                    <a:pt x="808" y="632"/>
                  </a:lnTo>
                  <a:lnTo>
                    <a:pt x="747" y="624"/>
                  </a:lnTo>
                  <a:lnTo>
                    <a:pt x="687" y="616"/>
                  </a:lnTo>
                  <a:lnTo>
                    <a:pt x="630" y="607"/>
                  </a:lnTo>
                  <a:lnTo>
                    <a:pt x="573" y="598"/>
                  </a:lnTo>
                  <a:lnTo>
                    <a:pt x="520" y="588"/>
                  </a:lnTo>
                  <a:lnTo>
                    <a:pt x="468" y="577"/>
                  </a:lnTo>
                  <a:lnTo>
                    <a:pt x="419" y="566"/>
                  </a:lnTo>
                  <a:lnTo>
                    <a:pt x="371" y="554"/>
                  </a:lnTo>
                  <a:lnTo>
                    <a:pt x="327" y="542"/>
                  </a:lnTo>
                  <a:lnTo>
                    <a:pt x="284" y="529"/>
                  </a:lnTo>
                  <a:lnTo>
                    <a:pt x="244" y="515"/>
                  </a:lnTo>
                  <a:lnTo>
                    <a:pt x="206" y="501"/>
                  </a:lnTo>
                  <a:lnTo>
                    <a:pt x="172" y="487"/>
                  </a:lnTo>
                  <a:lnTo>
                    <a:pt x="141" y="472"/>
                  </a:lnTo>
                  <a:lnTo>
                    <a:pt x="113" y="457"/>
                  </a:lnTo>
                  <a:lnTo>
                    <a:pt x="87" y="442"/>
                  </a:lnTo>
                  <a:lnTo>
                    <a:pt x="64" y="426"/>
                  </a:lnTo>
                  <a:lnTo>
                    <a:pt x="45" y="409"/>
                  </a:lnTo>
                  <a:lnTo>
                    <a:pt x="29" y="393"/>
                  </a:lnTo>
                  <a:lnTo>
                    <a:pt x="17" y="376"/>
                  </a:lnTo>
                  <a:lnTo>
                    <a:pt x="7" y="359"/>
                  </a:lnTo>
                  <a:lnTo>
                    <a:pt x="2" y="342"/>
                  </a:lnTo>
                  <a:lnTo>
                    <a:pt x="0" y="324"/>
                  </a:lnTo>
                  <a:lnTo>
                    <a:pt x="2" y="306"/>
                  </a:lnTo>
                  <a:lnTo>
                    <a:pt x="7" y="289"/>
                  </a:lnTo>
                  <a:lnTo>
                    <a:pt x="17" y="272"/>
                  </a:lnTo>
                  <a:lnTo>
                    <a:pt x="29" y="256"/>
                  </a:lnTo>
                  <a:lnTo>
                    <a:pt x="45" y="240"/>
                  </a:lnTo>
                  <a:lnTo>
                    <a:pt x="64" y="224"/>
                  </a:lnTo>
                  <a:lnTo>
                    <a:pt x="87" y="209"/>
                  </a:lnTo>
                  <a:lnTo>
                    <a:pt x="113" y="193"/>
                  </a:lnTo>
                  <a:lnTo>
                    <a:pt x="141" y="179"/>
                  </a:lnTo>
                  <a:lnTo>
                    <a:pt x="172" y="165"/>
                  </a:lnTo>
                  <a:lnTo>
                    <a:pt x="206" y="152"/>
                  </a:lnTo>
                  <a:lnTo>
                    <a:pt x="244" y="139"/>
                  </a:lnTo>
                  <a:lnTo>
                    <a:pt x="284" y="126"/>
                  </a:lnTo>
                  <a:lnTo>
                    <a:pt x="327" y="114"/>
                  </a:lnTo>
                  <a:lnTo>
                    <a:pt x="371" y="103"/>
                  </a:lnTo>
                  <a:lnTo>
                    <a:pt x="419" y="91"/>
                  </a:lnTo>
                  <a:lnTo>
                    <a:pt x="468" y="80"/>
                  </a:lnTo>
                  <a:lnTo>
                    <a:pt x="520" y="71"/>
                  </a:lnTo>
                  <a:lnTo>
                    <a:pt x="573" y="61"/>
                  </a:lnTo>
                  <a:lnTo>
                    <a:pt x="630" y="53"/>
                  </a:lnTo>
                  <a:lnTo>
                    <a:pt x="687" y="45"/>
                  </a:lnTo>
                  <a:lnTo>
                    <a:pt x="747" y="37"/>
                  </a:lnTo>
                  <a:lnTo>
                    <a:pt x="808" y="30"/>
                  </a:lnTo>
                  <a:lnTo>
                    <a:pt x="872" y="24"/>
                  </a:lnTo>
                  <a:lnTo>
                    <a:pt x="937" y="19"/>
                  </a:lnTo>
                  <a:lnTo>
                    <a:pt x="1003" y="14"/>
                  </a:lnTo>
                  <a:lnTo>
                    <a:pt x="1071" y="10"/>
                  </a:lnTo>
                  <a:lnTo>
                    <a:pt x="1140" y="6"/>
                  </a:lnTo>
                  <a:lnTo>
                    <a:pt x="1210" y="4"/>
                  </a:lnTo>
                  <a:lnTo>
                    <a:pt x="1282" y="2"/>
                  </a:lnTo>
                  <a:lnTo>
                    <a:pt x="1354" y="1"/>
                  </a:lnTo>
                  <a:lnTo>
                    <a:pt x="1427" y="0"/>
                  </a:lnTo>
                  <a:lnTo>
                    <a:pt x="1501" y="1"/>
                  </a:lnTo>
                  <a:lnTo>
                    <a:pt x="1574" y="2"/>
                  </a:lnTo>
                  <a:lnTo>
                    <a:pt x="1645" y="4"/>
                  </a:lnTo>
                  <a:lnTo>
                    <a:pt x="1715" y="6"/>
                  </a:lnTo>
                  <a:lnTo>
                    <a:pt x="1784" y="10"/>
                  </a:lnTo>
                  <a:lnTo>
                    <a:pt x="1852" y="14"/>
                  </a:lnTo>
                  <a:lnTo>
                    <a:pt x="1918" y="19"/>
                  </a:lnTo>
                  <a:lnTo>
                    <a:pt x="1983" y="24"/>
                  </a:lnTo>
                  <a:lnTo>
                    <a:pt x="2047" y="30"/>
                  </a:lnTo>
                  <a:lnTo>
                    <a:pt x="2108" y="37"/>
                  </a:lnTo>
                  <a:lnTo>
                    <a:pt x="2168" y="45"/>
                  </a:lnTo>
                  <a:lnTo>
                    <a:pt x="2225" y="53"/>
                  </a:lnTo>
                  <a:lnTo>
                    <a:pt x="2282" y="61"/>
                  </a:lnTo>
                  <a:lnTo>
                    <a:pt x="2335" y="71"/>
                  </a:lnTo>
                  <a:lnTo>
                    <a:pt x="2387" y="80"/>
                  </a:lnTo>
                  <a:lnTo>
                    <a:pt x="2436" y="91"/>
                  </a:lnTo>
                  <a:lnTo>
                    <a:pt x="2484" y="103"/>
                  </a:lnTo>
                  <a:lnTo>
                    <a:pt x="2529" y="114"/>
                  </a:lnTo>
                  <a:lnTo>
                    <a:pt x="2572" y="126"/>
                  </a:lnTo>
                  <a:lnTo>
                    <a:pt x="2611" y="139"/>
                  </a:lnTo>
                  <a:lnTo>
                    <a:pt x="2648" y="152"/>
                  </a:lnTo>
                  <a:lnTo>
                    <a:pt x="2683" y="165"/>
                  </a:lnTo>
                  <a:lnTo>
                    <a:pt x="2714" y="179"/>
                  </a:lnTo>
                  <a:lnTo>
                    <a:pt x="2742" y="193"/>
                  </a:lnTo>
                  <a:lnTo>
                    <a:pt x="2769" y="209"/>
                  </a:lnTo>
                  <a:lnTo>
                    <a:pt x="2791" y="224"/>
                  </a:lnTo>
                  <a:lnTo>
                    <a:pt x="2810" y="240"/>
                  </a:lnTo>
                  <a:lnTo>
                    <a:pt x="2826" y="256"/>
                  </a:lnTo>
                  <a:lnTo>
                    <a:pt x="2838" y="272"/>
                  </a:lnTo>
                  <a:lnTo>
                    <a:pt x="2847" y="289"/>
                  </a:lnTo>
                  <a:lnTo>
                    <a:pt x="2853" y="306"/>
                  </a:lnTo>
                  <a:lnTo>
                    <a:pt x="2855" y="324"/>
                  </a:lnTo>
                  <a:close/>
                </a:path>
              </a:pathLst>
            </a:custGeom>
            <a:solidFill>
              <a:srgbClr val="fb4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132640" y="6538680"/>
              <a:ext cx="315720" cy="78480"/>
            </a:xfrm>
            <a:custGeom>
              <a:avLst/>
              <a:gdLst/>
              <a:ahLst/>
              <a:rect l="l" t="t" r="r" b="b"/>
              <a:pathLst>
                <a:path w="2852" h="664">
                  <a:moveTo>
                    <a:pt x="2852" y="323"/>
                  </a:moveTo>
                  <a:lnTo>
                    <a:pt x="2850" y="341"/>
                  </a:lnTo>
                  <a:lnTo>
                    <a:pt x="2845" y="358"/>
                  </a:lnTo>
                  <a:lnTo>
                    <a:pt x="2836" y="375"/>
                  </a:lnTo>
                  <a:lnTo>
                    <a:pt x="2823" y="391"/>
                  </a:lnTo>
                  <a:lnTo>
                    <a:pt x="2808" y="408"/>
                  </a:lnTo>
                  <a:lnTo>
                    <a:pt x="2788" y="425"/>
                  </a:lnTo>
                  <a:lnTo>
                    <a:pt x="2766" y="440"/>
                  </a:lnTo>
                  <a:lnTo>
                    <a:pt x="2740" y="456"/>
                  </a:lnTo>
                  <a:lnTo>
                    <a:pt x="2712" y="471"/>
                  </a:lnTo>
                  <a:lnTo>
                    <a:pt x="2681" y="485"/>
                  </a:lnTo>
                  <a:lnTo>
                    <a:pt x="2646" y="499"/>
                  </a:lnTo>
                  <a:lnTo>
                    <a:pt x="2609" y="513"/>
                  </a:lnTo>
                  <a:lnTo>
                    <a:pt x="2569" y="527"/>
                  </a:lnTo>
                  <a:lnTo>
                    <a:pt x="2527" y="540"/>
                  </a:lnTo>
                  <a:lnTo>
                    <a:pt x="2482" y="552"/>
                  </a:lnTo>
                  <a:lnTo>
                    <a:pt x="2434" y="564"/>
                  </a:lnTo>
                  <a:lnTo>
                    <a:pt x="2385" y="575"/>
                  </a:lnTo>
                  <a:lnTo>
                    <a:pt x="2333" y="586"/>
                  </a:lnTo>
                  <a:lnTo>
                    <a:pt x="2280" y="596"/>
                  </a:lnTo>
                  <a:lnTo>
                    <a:pt x="2223" y="605"/>
                  </a:lnTo>
                  <a:lnTo>
                    <a:pt x="2166" y="614"/>
                  </a:lnTo>
                  <a:lnTo>
                    <a:pt x="2106" y="622"/>
                  </a:lnTo>
                  <a:lnTo>
                    <a:pt x="2045" y="631"/>
                  </a:lnTo>
                  <a:lnTo>
                    <a:pt x="1982" y="637"/>
                  </a:lnTo>
                  <a:lnTo>
                    <a:pt x="1917" y="643"/>
                  </a:lnTo>
                  <a:lnTo>
                    <a:pt x="1851" y="649"/>
                  </a:lnTo>
                  <a:lnTo>
                    <a:pt x="1783" y="653"/>
                  </a:lnTo>
                  <a:lnTo>
                    <a:pt x="1714" y="657"/>
                  </a:lnTo>
                  <a:lnTo>
                    <a:pt x="1644" y="660"/>
                  </a:lnTo>
                  <a:lnTo>
                    <a:pt x="1572" y="662"/>
                  </a:lnTo>
                  <a:lnTo>
                    <a:pt x="1500" y="663"/>
                  </a:lnTo>
                  <a:lnTo>
                    <a:pt x="1426" y="664"/>
                  </a:lnTo>
                  <a:lnTo>
                    <a:pt x="1353" y="663"/>
                  </a:lnTo>
                  <a:lnTo>
                    <a:pt x="1281" y="662"/>
                  </a:lnTo>
                  <a:lnTo>
                    <a:pt x="1209" y="660"/>
                  </a:lnTo>
                  <a:lnTo>
                    <a:pt x="1140" y="657"/>
                  </a:lnTo>
                  <a:lnTo>
                    <a:pt x="1070" y="653"/>
                  </a:lnTo>
                  <a:lnTo>
                    <a:pt x="1002" y="649"/>
                  </a:lnTo>
                  <a:lnTo>
                    <a:pt x="937" y="643"/>
                  </a:lnTo>
                  <a:lnTo>
                    <a:pt x="872" y="637"/>
                  </a:lnTo>
                  <a:lnTo>
                    <a:pt x="808" y="631"/>
                  </a:lnTo>
                  <a:lnTo>
                    <a:pt x="747" y="622"/>
                  </a:lnTo>
                  <a:lnTo>
                    <a:pt x="687" y="614"/>
                  </a:lnTo>
                  <a:lnTo>
                    <a:pt x="630" y="605"/>
                  </a:lnTo>
                  <a:lnTo>
                    <a:pt x="573" y="596"/>
                  </a:lnTo>
                  <a:lnTo>
                    <a:pt x="520" y="586"/>
                  </a:lnTo>
                  <a:lnTo>
                    <a:pt x="468" y="575"/>
                  </a:lnTo>
                  <a:lnTo>
                    <a:pt x="419" y="564"/>
                  </a:lnTo>
                  <a:lnTo>
                    <a:pt x="371" y="552"/>
                  </a:lnTo>
                  <a:lnTo>
                    <a:pt x="327" y="540"/>
                  </a:lnTo>
                  <a:lnTo>
                    <a:pt x="284" y="527"/>
                  </a:lnTo>
                  <a:lnTo>
                    <a:pt x="244" y="513"/>
                  </a:lnTo>
                  <a:lnTo>
                    <a:pt x="207" y="499"/>
                  </a:lnTo>
                  <a:lnTo>
                    <a:pt x="173" y="485"/>
                  </a:lnTo>
                  <a:lnTo>
                    <a:pt x="141" y="471"/>
                  </a:lnTo>
                  <a:lnTo>
                    <a:pt x="113" y="456"/>
                  </a:lnTo>
                  <a:lnTo>
                    <a:pt x="87" y="440"/>
                  </a:lnTo>
                  <a:lnTo>
                    <a:pt x="65" y="425"/>
                  </a:lnTo>
                  <a:lnTo>
                    <a:pt x="46" y="408"/>
                  </a:lnTo>
                  <a:lnTo>
                    <a:pt x="30" y="391"/>
                  </a:lnTo>
                  <a:lnTo>
                    <a:pt x="18" y="375"/>
                  </a:lnTo>
                  <a:lnTo>
                    <a:pt x="9" y="358"/>
                  </a:lnTo>
                  <a:lnTo>
                    <a:pt x="2" y="341"/>
                  </a:lnTo>
                  <a:lnTo>
                    <a:pt x="0" y="323"/>
                  </a:lnTo>
                  <a:lnTo>
                    <a:pt x="2" y="305"/>
                  </a:lnTo>
                  <a:lnTo>
                    <a:pt x="9" y="288"/>
                  </a:lnTo>
                  <a:lnTo>
                    <a:pt x="18" y="271"/>
                  </a:lnTo>
                  <a:lnTo>
                    <a:pt x="30" y="255"/>
                  </a:lnTo>
                  <a:lnTo>
                    <a:pt x="46" y="239"/>
                  </a:lnTo>
                  <a:lnTo>
                    <a:pt x="65" y="224"/>
                  </a:lnTo>
                  <a:lnTo>
                    <a:pt x="87" y="208"/>
                  </a:lnTo>
                  <a:lnTo>
                    <a:pt x="113" y="193"/>
                  </a:lnTo>
                  <a:lnTo>
                    <a:pt x="141" y="178"/>
                  </a:lnTo>
                  <a:lnTo>
                    <a:pt x="173" y="165"/>
                  </a:lnTo>
                  <a:lnTo>
                    <a:pt x="207" y="151"/>
                  </a:lnTo>
                  <a:lnTo>
                    <a:pt x="244" y="138"/>
                  </a:lnTo>
                  <a:lnTo>
                    <a:pt x="284" y="126"/>
                  </a:lnTo>
                  <a:lnTo>
                    <a:pt x="327" y="114"/>
                  </a:lnTo>
                  <a:lnTo>
                    <a:pt x="371" y="102"/>
                  </a:lnTo>
                  <a:lnTo>
                    <a:pt x="419" y="90"/>
                  </a:lnTo>
                  <a:lnTo>
                    <a:pt x="468" y="80"/>
                  </a:lnTo>
                  <a:lnTo>
                    <a:pt x="520" y="70"/>
                  </a:lnTo>
                  <a:lnTo>
                    <a:pt x="573" y="61"/>
                  </a:lnTo>
                  <a:lnTo>
                    <a:pt x="630" y="52"/>
                  </a:lnTo>
                  <a:lnTo>
                    <a:pt x="687" y="44"/>
                  </a:lnTo>
                  <a:lnTo>
                    <a:pt x="747" y="37"/>
                  </a:lnTo>
                  <a:lnTo>
                    <a:pt x="808" y="30"/>
                  </a:lnTo>
                  <a:lnTo>
                    <a:pt x="872" y="24"/>
                  </a:lnTo>
                  <a:lnTo>
                    <a:pt x="937" y="19"/>
                  </a:lnTo>
                  <a:lnTo>
                    <a:pt x="1002" y="14"/>
                  </a:lnTo>
                  <a:lnTo>
                    <a:pt x="1070" y="10"/>
                  </a:lnTo>
                  <a:lnTo>
                    <a:pt x="1140" y="6"/>
                  </a:lnTo>
                  <a:lnTo>
                    <a:pt x="1209" y="4"/>
                  </a:lnTo>
                  <a:lnTo>
                    <a:pt x="1281" y="2"/>
                  </a:lnTo>
                  <a:lnTo>
                    <a:pt x="1353" y="1"/>
                  </a:lnTo>
                  <a:lnTo>
                    <a:pt x="1426" y="0"/>
                  </a:lnTo>
                  <a:lnTo>
                    <a:pt x="1500" y="1"/>
                  </a:lnTo>
                  <a:lnTo>
                    <a:pt x="1572" y="2"/>
                  </a:lnTo>
                  <a:lnTo>
                    <a:pt x="1644" y="4"/>
                  </a:lnTo>
                  <a:lnTo>
                    <a:pt x="1714" y="6"/>
                  </a:lnTo>
                  <a:lnTo>
                    <a:pt x="1783" y="10"/>
                  </a:lnTo>
                  <a:lnTo>
                    <a:pt x="1851" y="14"/>
                  </a:lnTo>
                  <a:lnTo>
                    <a:pt x="1917" y="19"/>
                  </a:lnTo>
                  <a:lnTo>
                    <a:pt x="1982" y="24"/>
                  </a:lnTo>
                  <a:lnTo>
                    <a:pt x="2045" y="30"/>
                  </a:lnTo>
                  <a:lnTo>
                    <a:pt x="2106" y="37"/>
                  </a:lnTo>
                  <a:lnTo>
                    <a:pt x="2166" y="44"/>
                  </a:lnTo>
                  <a:lnTo>
                    <a:pt x="2223" y="52"/>
                  </a:lnTo>
                  <a:lnTo>
                    <a:pt x="2280" y="61"/>
                  </a:lnTo>
                  <a:lnTo>
                    <a:pt x="2333" y="70"/>
                  </a:lnTo>
                  <a:lnTo>
                    <a:pt x="2385" y="80"/>
                  </a:lnTo>
                  <a:lnTo>
                    <a:pt x="2434" y="90"/>
                  </a:lnTo>
                  <a:lnTo>
                    <a:pt x="2482" y="102"/>
                  </a:lnTo>
                  <a:lnTo>
                    <a:pt x="2527" y="114"/>
                  </a:lnTo>
                  <a:lnTo>
                    <a:pt x="2569" y="126"/>
                  </a:lnTo>
                  <a:lnTo>
                    <a:pt x="2609" y="138"/>
                  </a:lnTo>
                  <a:lnTo>
                    <a:pt x="2646" y="151"/>
                  </a:lnTo>
                  <a:lnTo>
                    <a:pt x="2681" y="165"/>
                  </a:lnTo>
                  <a:lnTo>
                    <a:pt x="2712" y="178"/>
                  </a:lnTo>
                  <a:lnTo>
                    <a:pt x="2740" y="193"/>
                  </a:lnTo>
                  <a:lnTo>
                    <a:pt x="2766" y="208"/>
                  </a:lnTo>
                  <a:lnTo>
                    <a:pt x="2788" y="224"/>
                  </a:lnTo>
                  <a:lnTo>
                    <a:pt x="2808" y="239"/>
                  </a:lnTo>
                  <a:lnTo>
                    <a:pt x="2823" y="255"/>
                  </a:lnTo>
                  <a:lnTo>
                    <a:pt x="2836" y="271"/>
                  </a:lnTo>
                  <a:lnTo>
                    <a:pt x="2845" y="288"/>
                  </a:lnTo>
                  <a:lnTo>
                    <a:pt x="2850" y="305"/>
                  </a:lnTo>
                  <a:lnTo>
                    <a:pt x="2852" y="323"/>
                  </a:lnTo>
                  <a:close/>
                </a:path>
              </a:pathLst>
            </a:custGeom>
            <a:solidFill>
              <a:srgbClr val="fb4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132640" y="6538680"/>
              <a:ext cx="314280" cy="78480"/>
            </a:xfrm>
            <a:custGeom>
              <a:avLst/>
              <a:gdLst/>
              <a:ahLst/>
              <a:rect l="l" t="t" r="r" b="b"/>
              <a:pathLst>
                <a:path w="2849" h="662">
                  <a:moveTo>
                    <a:pt x="2849" y="322"/>
                  </a:moveTo>
                  <a:lnTo>
                    <a:pt x="2847" y="340"/>
                  </a:lnTo>
                  <a:lnTo>
                    <a:pt x="2841" y="357"/>
                  </a:lnTo>
                  <a:lnTo>
                    <a:pt x="2832" y="374"/>
                  </a:lnTo>
                  <a:lnTo>
                    <a:pt x="2820" y="390"/>
                  </a:lnTo>
                  <a:lnTo>
                    <a:pt x="2804" y="407"/>
                  </a:lnTo>
                  <a:lnTo>
                    <a:pt x="2785" y="423"/>
                  </a:lnTo>
                  <a:lnTo>
                    <a:pt x="2763" y="439"/>
                  </a:lnTo>
                  <a:lnTo>
                    <a:pt x="2737" y="454"/>
                  </a:lnTo>
                  <a:lnTo>
                    <a:pt x="2708" y="469"/>
                  </a:lnTo>
                  <a:lnTo>
                    <a:pt x="2677" y="484"/>
                  </a:lnTo>
                  <a:lnTo>
                    <a:pt x="2642" y="498"/>
                  </a:lnTo>
                  <a:lnTo>
                    <a:pt x="2606" y="512"/>
                  </a:lnTo>
                  <a:lnTo>
                    <a:pt x="2566" y="526"/>
                  </a:lnTo>
                  <a:lnTo>
                    <a:pt x="2523" y="538"/>
                  </a:lnTo>
                  <a:lnTo>
                    <a:pt x="2479" y="551"/>
                  </a:lnTo>
                  <a:lnTo>
                    <a:pt x="2431" y="562"/>
                  </a:lnTo>
                  <a:lnTo>
                    <a:pt x="2382" y="574"/>
                  </a:lnTo>
                  <a:lnTo>
                    <a:pt x="2330" y="584"/>
                  </a:lnTo>
                  <a:lnTo>
                    <a:pt x="2277" y="594"/>
                  </a:lnTo>
                  <a:lnTo>
                    <a:pt x="2221" y="603"/>
                  </a:lnTo>
                  <a:lnTo>
                    <a:pt x="2163" y="612"/>
                  </a:lnTo>
                  <a:lnTo>
                    <a:pt x="2103" y="620"/>
                  </a:lnTo>
                  <a:lnTo>
                    <a:pt x="2043" y="629"/>
                  </a:lnTo>
                  <a:lnTo>
                    <a:pt x="1979" y="636"/>
                  </a:lnTo>
                  <a:lnTo>
                    <a:pt x="1914" y="642"/>
                  </a:lnTo>
                  <a:lnTo>
                    <a:pt x="1848" y="647"/>
                  </a:lnTo>
                  <a:lnTo>
                    <a:pt x="1781" y="651"/>
                  </a:lnTo>
                  <a:lnTo>
                    <a:pt x="1711" y="655"/>
                  </a:lnTo>
                  <a:lnTo>
                    <a:pt x="1642" y="658"/>
                  </a:lnTo>
                  <a:lnTo>
                    <a:pt x="1570" y="660"/>
                  </a:lnTo>
                  <a:lnTo>
                    <a:pt x="1498" y="662"/>
                  </a:lnTo>
                  <a:lnTo>
                    <a:pt x="1424" y="662"/>
                  </a:lnTo>
                  <a:lnTo>
                    <a:pt x="1351" y="662"/>
                  </a:lnTo>
                  <a:lnTo>
                    <a:pt x="1279" y="660"/>
                  </a:lnTo>
                  <a:lnTo>
                    <a:pt x="1207" y="658"/>
                  </a:lnTo>
                  <a:lnTo>
                    <a:pt x="1138" y="655"/>
                  </a:lnTo>
                  <a:lnTo>
                    <a:pt x="1069" y="651"/>
                  </a:lnTo>
                  <a:lnTo>
                    <a:pt x="1001" y="647"/>
                  </a:lnTo>
                  <a:lnTo>
                    <a:pt x="935" y="642"/>
                  </a:lnTo>
                  <a:lnTo>
                    <a:pt x="870" y="636"/>
                  </a:lnTo>
                  <a:lnTo>
                    <a:pt x="807" y="629"/>
                  </a:lnTo>
                  <a:lnTo>
                    <a:pt x="746" y="620"/>
                  </a:lnTo>
                  <a:lnTo>
                    <a:pt x="686" y="612"/>
                  </a:lnTo>
                  <a:lnTo>
                    <a:pt x="628" y="603"/>
                  </a:lnTo>
                  <a:lnTo>
                    <a:pt x="572" y="594"/>
                  </a:lnTo>
                  <a:lnTo>
                    <a:pt x="519" y="584"/>
                  </a:lnTo>
                  <a:lnTo>
                    <a:pt x="467" y="574"/>
                  </a:lnTo>
                  <a:lnTo>
                    <a:pt x="418" y="562"/>
                  </a:lnTo>
                  <a:lnTo>
                    <a:pt x="370" y="551"/>
                  </a:lnTo>
                  <a:lnTo>
                    <a:pt x="326" y="538"/>
                  </a:lnTo>
                  <a:lnTo>
                    <a:pt x="283" y="526"/>
                  </a:lnTo>
                  <a:lnTo>
                    <a:pt x="244" y="512"/>
                  </a:lnTo>
                  <a:lnTo>
                    <a:pt x="206" y="498"/>
                  </a:lnTo>
                  <a:lnTo>
                    <a:pt x="172" y="484"/>
                  </a:lnTo>
                  <a:lnTo>
                    <a:pt x="141" y="469"/>
                  </a:lnTo>
                  <a:lnTo>
                    <a:pt x="112" y="454"/>
                  </a:lnTo>
                  <a:lnTo>
                    <a:pt x="86" y="439"/>
                  </a:lnTo>
                  <a:lnTo>
                    <a:pt x="64" y="423"/>
                  </a:lnTo>
                  <a:lnTo>
                    <a:pt x="45" y="407"/>
                  </a:lnTo>
                  <a:lnTo>
                    <a:pt x="29" y="390"/>
                  </a:lnTo>
                  <a:lnTo>
                    <a:pt x="17" y="374"/>
                  </a:lnTo>
                  <a:lnTo>
                    <a:pt x="8" y="357"/>
                  </a:lnTo>
                  <a:lnTo>
                    <a:pt x="1" y="340"/>
                  </a:lnTo>
                  <a:lnTo>
                    <a:pt x="0" y="322"/>
                  </a:lnTo>
                  <a:lnTo>
                    <a:pt x="1" y="304"/>
                  </a:lnTo>
                  <a:lnTo>
                    <a:pt x="8" y="287"/>
                  </a:lnTo>
                  <a:lnTo>
                    <a:pt x="17" y="271"/>
                  </a:lnTo>
                  <a:lnTo>
                    <a:pt x="29" y="254"/>
                  </a:lnTo>
                  <a:lnTo>
                    <a:pt x="45" y="238"/>
                  </a:lnTo>
                  <a:lnTo>
                    <a:pt x="64" y="223"/>
                  </a:lnTo>
                  <a:lnTo>
                    <a:pt x="86" y="208"/>
                  </a:lnTo>
                  <a:lnTo>
                    <a:pt x="112" y="192"/>
                  </a:lnTo>
                  <a:lnTo>
                    <a:pt x="141" y="178"/>
                  </a:lnTo>
                  <a:lnTo>
                    <a:pt x="172" y="164"/>
                  </a:lnTo>
                  <a:lnTo>
                    <a:pt x="206" y="151"/>
                  </a:lnTo>
                  <a:lnTo>
                    <a:pt x="244" y="138"/>
                  </a:lnTo>
                  <a:lnTo>
                    <a:pt x="283" y="125"/>
                  </a:lnTo>
                  <a:lnTo>
                    <a:pt x="326" y="113"/>
                  </a:lnTo>
                  <a:lnTo>
                    <a:pt x="370" y="102"/>
                  </a:lnTo>
                  <a:lnTo>
                    <a:pt x="418" y="90"/>
                  </a:lnTo>
                  <a:lnTo>
                    <a:pt x="467" y="80"/>
                  </a:lnTo>
                  <a:lnTo>
                    <a:pt x="519" y="70"/>
                  </a:lnTo>
                  <a:lnTo>
                    <a:pt x="572" y="61"/>
                  </a:lnTo>
                  <a:lnTo>
                    <a:pt x="628" y="52"/>
                  </a:lnTo>
                  <a:lnTo>
                    <a:pt x="686" y="44"/>
                  </a:lnTo>
                  <a:lnTo>
                    <a:pt x="746" y="37"/>
                  </a:lnTo>
                  <a:lnTo>
                    <a:pt x="807" y="30"/>
                  </a:lnTo>
                  <a:lnTo>
                    <a:pt x="870" y="24"/>
                  </a:lnTo>
                  <a:lnTo>
                    <a:pt x="935" y="19"/>
                  </a:lnTo>
                  <a:lnTo>
                    <a:pt x="1001" y="14"/>
                  </a:lnTo>
                  <a:lnTo>
                    <a:pt x="1069" y="10"/>
                  </a:lnTo>
                  <a:lnTo>
                    <a:pt x="1138" y="6"/>
                  </a:lnTo>
                  <a:lnTo>
                    <a:pt x="1207" y="4"/>
                  </a:lnTo>
                  <a:lnTo>
                    <a:pt x="1279" y="2"/>
                  </a:lnTo>
                  <a:lnTo>
                    <a:pt x="1351" y="1"/>
                  </a:lnTo>
                  <a:lnTo>
                    <a:pt x="1424" y="0"/>
                  </a:lnTo>
                  <a:lnTo>
                    <a:pt x="1498" y="1"/>
                  </a:lnTo>
                  <a:lnTo>
                    <a:pt x="1570" y="2"/>
                  </a:lnTo>
                  <a:lnTo>
                    <a:pt x="1642" y="4"/>
                  </a:lnTo>
                  <a:lnTo>
                    <a:pt x="1711" y="6"/>
                  </a:lnTo>
                  <a:lnTo>
                    <a:pt x="1781" y="10"/>
                  </a:lnTo>
                  <a:lnTo>
                    <a:pt x="1848" y="14"/>
                  </a:lnTo>
                  <a:lnTo>
                    <a:pt x="1914" y="19"/>
                  </a:lnTo>
                  <a:lnTo>
                    <a:pt x="1979" y="24"/>
                  </a:lnTo>
                  <a:lnTo>
                    <a:pt x="2043" y="30"/>
                  </a:lnTo>
                  <a:lnTo>
                    <a:pt x="2103" y="37"/>
                  </a:lnTo>
                  <a:lnTo>
                    <a:pt x="2163" y="44"/>
                  </a:lnTo>
                  <a:lnTo>
                    <a:pt x="2221" y="52"/>
                  </a:lnTo>
                  <a:lnTo>
                    <a:pt x="2277" y="61"/>
                  </a:lnTo>
                  <a:lnTo>
                    <a:pt x="2330" y="70"/>
                  </a:lnTo>
                  <a:lnTo>
                    <a:pt x="2382" y="80"/>
                  </a:lnTo>
                  <a:lnTo>
                    <a:pt x="2431" y="90"/>
                  </a:lnTo>
                  <a:lnTo>
                    <a:pt x="2479" y="102"/>
                  </a:lnTo>
                  <a:lnTo>
                    <a:pt x="2523" y="113"/>
                  </a:lnTo>
                  <a:lnTo>
                    <a:pt x="2566" y="125"/>
                  </a:lnTo>
                  <a:lnTo>
                    <a:pt x="2606" y="138"/>
                  </a:lnTo>
                  <a:lnTo>
                    <a:pt x="2642" y="151"/>
                  </a:lnTo>
                  <a:lnTo>
                    <a:pt x="2677" y="164"/>
                  </a:lnTo>
                  <a:lnTo>
                    <a:pt x="2708" y="178"/>
                  </a:lnTo>
                  <a:lnTo>
                    <a:pt x="2737" y="192"/>
                  </a:lnTo>
                  <a:lnTo>
                    <a:pt x="2763" y="208"/>
                  </a:lnTo>
                  <a:lnTo>
                    <a:pt x="2785" y="223"/>
                  </a:lnTo>
                  <a:lnTo>
                    <a:pt x="2804" y="238"/>
                  </a:lnTo>
                  <a:lnTo>
                    <a:pt x="2820" y="254"/>
                  </a:lnTo>
                  <a:lnTo>
                    <a:pt x="2832" y="271"/>
                  </a:lnTo>
                  <a:lnTo>
                    <a:pt x="2841" y="287"/>
                  </a:lnTo>
                  <a:lnTo>
                    <a:pt x="2847" y="304"/>
                  </a:lnTo>
                  <a:lnTo>
                    <a:pt x="2849" y="322"/>
                  </a:lnTo>
                  <a:close/>
                </a:path>
              </a:pathLst>
            </a:custGeom>
            <a:solidFill>
              <a:srgbClr val="fb4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134080" y="6538680"/>
              <a:ext cx="312840" cy="78480"/>
            </a:xfrm>
            <a:custGeom>
              <a:avLst/>
              <a:gdLst/>
              <a:ahLst/>
              <a:rect l="l" t="t" r="r" b="b"/>
              <a:pathLst>
                <a:path w="2846" h="660">
                  <a:moveTo>
                    <a:pt x="2846" y="321"/>
                  </a:moveTo>
                  <a:lnTo>
                    <a:pt x="2844" y="339"/>
                  </a:lnTo>
                  <a:lnTo>
                    <a:pt x="2839" y="356"/>
                  </a:lnTo>
                  <a:lnTo>
                    <a:pt x="2830" y="373"/>
                  </a:lnTo>
                  <a:lnTo>
                    <a:pt x="2817" y="389"/>
                  </a:lnTo>
                  <a:lnTo>
                    <a:pt x="2802" y="405"/>
                  </a:lnTo>
                  <a:lnTo>
                    <a:pt x="2783" y="422"/>
                  </a:lnTo>
                  <a:lnTo>
                    <a:pt x="2761" y="438"/>
                  </a:lnTo>
                  <a:lnTo>
                    <a:pt x="2734" y="453"/>
                  </a:lnTo>
                  <a:lnTo>
                    <a:pt x="2706" y="468"/>
                  </a:lnTo>
                  <a:lnTo>
                    <a:pt x="2675" y="482"/>
                  </a:lnTo>
                  <a:lnTo>
                    <a:pt x="2640" y="496"/>
                  </a:lnTo>
                  <a:lnTo>
                    <a:pt x="2603" y="510"/>
                  </a:lnTo>
                  <a:lnTo>
                    <a:pt x="2564" y="524"/>
                  </a:lnTo>
                  <a:lnTo>
                    <a:pt x="2521" y="537"/>
                  </a:lnTo>
                  <a:lnTo>
                    <a:pt x="2477" y="549"/>
                  </a:lnTo>
                  <a:lnTo>
                    <a:pt x="2429" y="561"/>
                  </a:lnTo>
                  <a:lnTo>
                    <a:pt x="2380" y="572"/>
                  </a:lnTo>
                  <a:lnTo>
                    <a:pt x="2328" y="582"/>
                  </a:lnTo>
                  <a:lnTo>
                    <a:pt x="2275" y="592"/>
                  </a:lnTo>
                  <a:lnTo>
                    <a:pt x="2219" y="602"/>
                  </a:lnTo>
                  <a:lnTo>
                    <a:pt x="2162" y="610"/>
                  </a:lnTo>
                  <a:lnTo>
                    <a:pt x="2102" y="619"/>
                  </a:lnTo>
                  <a:lnTo>
                    <a:pt x="2041" y="627"/>
                  </a:lnTo>
                  <a:lnTo>
                    <a:pt x="1978" y="634"/>
                  </a:lnTo>
                  <a:lnTo>
                    <a:pt x="1913" y="640"/>
                  </a:lnTo>
                  <a:lnTo>
                    <a:pt x="1847" y="645"/>
                  </a:lnTo>
                  <a:lnTo>
                    <a:pt x="1779" y="649"/>
                  </a:lnTo>
                  <a:lnTo>
                    <a:pt x="1710" y="653"/>
                  </a:lnTo>
                  <a:lnTo>
                    <a:pt x="1641" y="656"/>
                  </a:lnTo>
                  <a:lnTo>
                    <a:pt x="1569" y="658"/>
                  </a:lnTo>
                  <a:lnTo>
                    <a:pt x="1497" y="660"/>
                  </a:lnTo>
                  <a:lnTo>
                    <a:pt x="1423" y="660"/>
                  </a:lnTo>
                  <a:lnTo>
                    <a:pt x="1351" y="660"/>
                  </a:lnTo>
                  <a:lnTo>
                    <a:pt x="1278" y="658"/>
                  </a:lnTo>
                  <a:lnTo>
                    <a:pt x="1206" y="656"/>
                  </a:lnTo>
                  <a:lnTo>
                    <a:pt x="1137" y="653"/>
                  </a:lnTo>
                  <a:lnTo>
                    <a:pt x="1068" y="649"/>
                  </a:lnTo>
                  <a:lnTo>
                    <a:pt x="1000" y="645"/>
                  </a:lnTo>
                  <a:lnTo>
                    <a:pt x="935" y="640"/>
                  </a:lnTo>
                  <a:lnTo>
                    <a:pt x="870" y="634"/>
                  </a:lnTo>
                  <a:lnTo>
                    <a:pt x="806" y="627"/>
                  </a:lnTo>
                  <a:lnTo>
                    <a:pt x="745" y="619"/>
                  </a:lnTo>
                  <a:lnTo>
                    <a:pt x="685" y="610"/>
                  </a:lnTo>
                  <a:lnTo>
                    <a:pt x="628" y="602"/>
                  </a:lnTo>
                  <a:lnTo>
                    <a:pt x="572" y="592"/>
                  </a:lnTo>
                  <a:lnTo>
                    <a:pt x="519" y="582"/>
                  </a:lnTo>
                  <a:lnTo>
                    <a:pt x="467" y="572"/>
                  </a:lnTo>
                  <a:lnTo>
                    <a:pt x="418" y="561"/>
                  </a:lnTo>
                  <a:lnTo>
                    <a:pt x="370" y="549"/>
                  </a:lnTo>
                  <a:lnTo>
                    <a:pt x="326" y="537"/>
                  </a:lnTo>
                  <a:lnTo>
                    <a:pt x="283" y="524"/>
                  </a:lnTo>
                  <a:lnTo>
                    <a:pt x="244" y="510"/>
                  </a:lnTo>
                  <a:lnTo>
                    <a:pt x="206" y="496"/>
                  </a:lnTo>
                  <a:lnTo>
                    <a:pt x="172" y="482"/>
                  </a:lnTo>
                  <a:lnTo>
                    <a:pt x="141" y="468"/>
                  </a:lnTo>
                  <a:lnTo>
                    <a:pt x="113" y="453"/>
                  </a:lnTo>
                  <a:lnTo>
                    <a:pt x="87" y="438"/>
                  </a:lnTo>
                  <a:lnTo>
                    <a:pt x="64" y="422"/>
                  </a:lnTo>
                  <a:lnTo>
                    <a:pt x="45" y="405"/>
                  </a:lnTo>
                  <a:lnTo>
                    <a:pt x="30" y="389"/>
                  </a:lnTo>
                  <a:lnTo>
                    <a:pt x="17" y="373"/>
                  </a:lnTo>
                  <a:lnTo>
                    <a:pt x="8" y="356"/>
                  </a:lnTo>
                  <a:lnTo>
                    <a:pt x="2" y="339"/>
                  </a:lnTo>
                  <a:lnTo>
                    <a:pt x="0" y="321"/>
                  </a:lnTo>
                  <a:lnTo>
                    <a:pt x="2" y="303"/>
                  </a:lnTo>
                  <a:lnTo>
                    <a:pt x="8" y="286"/>
                  </a:lnTo>
                  <a:lnTo>
                    <a:pt x="17" y="270"/>
                  </a:lnTo>
                  <a:lnTo>
                    <a:pt x="30" y="253"/>
                  </a:lnTo>
                  <a:lnTo>
                    <a:pt x="45" y="238"/>
                  </a:lnTo>
                  <a:lnTo>
                    <a:pt x="64" y="222"/>
                  </a:lnTo>
                  <a:lnTo>
                    <a:pt x="87" y="207"/>
                  </a:lnTo>
                  <a:lnTo>
                    <a:pt x="113" y="191"/>
                  </a:lnTo>
                  <a:lnTo>
                    <a:pt x="141" y="177"/>
                  </a:lnTo>
                  <a:lnTo>
                    <a:pt x="172" y="163"/>
                  </a:lnTo>
                  <a:lnTo>
                    <a:pt x="206" y="150"/>
                  </a:lnTo>
                  <a:lnTo>
                    <a:pt x="244" y="137"/>
                  </a:lnTo>
                  <a:lnTo>
                    <a:pt x="283" y="125"/>
                  </a:lnTo>
                  <a:lnTo>
                    <a:pt x="326" y="113"/>
                  </a:lnTo>
                  <a:lnTo>
                    <a:pt x="370" y="102"/>
                  </a:lnTo>
                  <a:lnTo>
                    <a:pt x="418" y="91"/>
                  </a:lnTo>
                  <a:lnTo>
                    <a:pt x="467" y="79"/>
                  </a:lnTo>
                  <a:lnTo>
                    <a:pt x="519" y="70"/>
                  </a:lnTo>
                  <a:lnTo>
                    <a:pt x="572" y="61"/>
                  </a:lnTo>
                  <a:lnTo>
                    <a:pt x="628" y="52"/>
                  </a:lnTo>
                  <a:lnTo>
                    <a:pt x="685" y="44"/>
                  </a:lnTo>
                  <a:lnTo>
                    <a:pt x="745" y="37"/>
                  </a:lnTo>
                  <a:lnTo>
                    <a:pt x="806" y="30"/>
                  </a:lnTo>
                  <a:lnTo>
                    <a:pt x="870" y="24"/>
                  </a:lnTo>
                  <a:lnTo>
                    <a:pt x="935" y="18"/>
                  </a:lnTo>
                  <a:lnTo>
                    <a:pt x="1000" y="14"/>
                  </a:lnTo>
                  <a:lnTo>
                    <a:pt x="1068" y="10"/>
                  </a:lnTo>
                  <a:lnTo>
                    <a:pt x="1137" y="6"/>
                  </a:lnTo>
                  <a:lnTo>
                    <a:pt x="1206" y="4"/>
                  </a:lnTo>
                  <a:lnTo>
                    <a:pt x="1278" y="2"/>
                  </a:lnTo>
                  <a:lnTo>
                    <a:pt x="1351" y="1"/>
                  </a:lnTo>
                  <a:lnTo>
                    <a:pt x="1423" y="0"/>
                  </a:lnTo>
                  <a:lnTo>
                    <a:pt x="1497" y="1"/>
                  </a:lnTo>
                  <a:lnTo>
                    <a:pt x="1569" y="2"/>
                  </a:lnTo>
                  <a:lnTo>
                    <a:pt x="1641" y="4"/>
                  </a:lnTo>
                  <a:lnTo>
                    <a:pt x="1710" y="6"/>
                  </a:lnTo>
                  <a:lnTo>
                    <a:pt x="1779" y="10"/>
                  </a:lnTo>
                  <a:lnTo>
                    <a:pt x="1847" y="14"/>
                  </a:lnTo>
                  <a:lnTo>
                    <a:pt x="1913" y="18"/>
                  </a:lnTo>
                  <a:lnTo>
                    <a:pt x="1978" y="24"/>
                  </a:lnTo>
                  <a:lnTo>
                    <a:pt x="2041" y="30"/>
                  </a:lnTo>
                  <a:lnTo>
                    <a:pt x="2102" y="37"/>
                  </a:lnTo>
                  <a:lnTo>
                    <a:pt x="2162" y="44"/>
                  </a:lnTo>
                  <a:lnTo>
                    <a:pt x="2219" y="52"/>
                  </a:lnTo>
                  <a:lnTo>
                    <a:pt x="2275" y="61"/>
                  </a:lnTo>
                  <a:lnTo>
                    <a:pt x="2328" y="70"/>
                  </a:lnTo>
                  <a:lnTo>
                    <a:pt x="2380" y="79"/>
                  </a:lnTo>
                  <a:lnTo>
                    <a:pt x="2429" y="91"/>
                  </a:lnTo>
                  <a:lnTo>
                    <a:pt x="2477" y="102"/>
                  </a:lnTo>
                  <a:lnTo>
                    <a:pt x="2521" y="113"/>
                  </a:lnTo>
                  <a:lnTo>
                    <a:pt x="2564" y="125"/>
                  </a:lnTo>
                  <a:lnTo>
                    <a:pt x="2603" y="137"/>
                  </a:lnTo>
                  <a:lnTo>
                    <a:pt x="2640" y="150"/>
                  </a:lnTo>
                  <a:lnTo>
                    <a:pt x="2675" y="163"/>
                  </a:lnTo>
                  <a:lnTo>
                    <a:pt x="2706" y="177"/>
                  </a:lnTo>
                  <a:lnTo>
                    <a:pt x="2734" y="191"/>
                  </a:lnTo>
                  <a:lnTo>
                    <a:pt x="2761" y="207"/>
                  </a:lnTo>
                  <a:lnTo>
                    <a:pt x="2783" y="222"/>
                  </a:lnTo>
                  <a:lnTo>
                    <a:pt x="2802" y="238"/>
                  </a:lnTo>
                  <a:lnTo>
                    <a:pt x="2817" y="253"/>
                  </a:lnTo>
                  <a:lnTo>
                    <a:pt x="2830" y="270"/>
                  </a:lnTo>
                  <a:lnTo>
                    <a:pt x="2839" y="286"/>
                  </a:lnTo>
                  <a:lnTo>
                    <a:pt x="2844" y="303"/>
                  </a:lnTo>
                  <a:lnTo>
                    <a:pt x="2846" y="321"/>
                  </a:lnTo>
                  <a:close/>
                </a:path>
              </a:pathLst>
            </a:custGeom>
            <a:solidFill>
              <a:srgbClr val="fb4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134080" y="6538680"/>
              <a:ext cx="312840" cy="78480"/>
            </a:xfrm>
            <a:custGeom>
              <a:avLst/>
              <a:gdLst/>
              <a:ahLst/>
              <a:rect l="l" t="t" r="r" b="b"/>
              <a:pathLst>
                <a:path w="2844" h="658">
                  <a:moveTo>
                    <a:pt x="2844" y="320"/>
                  </a:moveTo>
                  <a:lnTo>
                    <a:pt x="2842" y="338"/>
                  </a:lnTo>
                  <a:lnTo>
                    <a:pt x="2836" y="355"/>
                  </a:lnTo>
                  <a:lnTo>
                    <a:pt x="2827" y="371"/>
                  </a:lnTo>
                  <a:lnTo>
                    <a:pt x="2815" y="388"/>
                  </a:lnTo>
                  <a:lnTo>
                    <a:pt x="2799" y="404"/>
                  </a:lnTo>
                  <a:lnTo>
                    <a:pt x="2780" y="421"/>
                  </a:lnTo>
                  <a:lnTo>
                    <a:pt x="2758" y="436"/>
                  </a:lnTo>
                  <a:lnTo>
                    <a:pt x="2732" y="452"/>
                  </a:lnTo>
                  <a:lnTo>
                    <a:pt x="2704" y="467"/>
                  </a:lnTo>
                  <a:lnTo>
                    <a:pt x="2673" y="481"/>
                  </a:lnTo>
                  <a:lnTo>
                    <a:pt x="2638" y="495"/>
                  </a:lnTo>
                  <a:lnTo>
                    <a:pt x="2601" y="509"/>
                  </a:lnTo>
                  <a:lnTo>
                    <a:pt x="2562" y="523"/>
                  </a:lnTo>
                  <a:lnTo>
                    <a:pt x="2519" y="535"/>
                  </a:lnTo>
                  <a:lnTo>
                    <a:pt x="2475" y="547"/>
                  </a:lnTo>
                  <a:lnTo>
                    <a:pt x="2427" y="559"/>
                  </a:lnTo>
                  <a:lnTo>
                    <a:pt x="2379" y="570"/>
                  </a:lnTo>
                  <a:lnTo>
                    <a:pt x="2326" y="581"/>
                  </a:lnTo>
                  <a:lnTo>
                    <a:pt x="2273" y="591"/>
                  </a:lnTo>
                  <a:lnTo>
                    <a:pt x="2217" y="600"/>
                  </a:lnTo>
                  <a:lnTo>
                    <a:pt x="2160" y="609"/>
                  </a:lnTo>
                  <a:lnTo>
                    <a:pt x="2100" y="617"/>
                  </a:lnTo>
                  <a:lnTo>
                    <a:pt x="2039" y="625"/>
                  </a:lnTo>
                  <a:lnTo>
                    <a:pt x="1976" y="632"/>
                  </a:lnTo>
                  <a:lnTo>
                    <a:pt x="1911" y="638"/>
                  </a:lnTo>
                  <a:lnTo>
                    <a:pt x="1846" y="643"/>
                  </a:lnTo>
                  <a:lnTo>
                    <a:pt x="1778" y="648"/>
                  </a:lnTo>
                  <a:lnTo>
                    <a:pt x="1709" y="651"/>
                  </a:lnTo>
                  <a:lnTo>
                    <a:pt x="1639" y="654"/>
                  </a:lnTo>
                  <a:lnTo>
                    <a:pt x="1568" y="656"/>
                  </a:lnTo>
                  <a:lnTo>
                    <a:pt x="1495" y="658"/>
                  </a:lnTo>
                  <a:lnTo>
                    <a:pt x="1422" y="658"/>
                  </a:lnTo>
                  <a:lnTo>
                    <a:pt x="1350" y="658"/>
                  </a:lnTo>
                  <a:lnTo>
                    <a:pt x="1277" y="656"/>
                  </a:lnTo>
                  <a:lnTo>
                    <a:pt x="1206" y="654"/>
                  </a:lnTo>
                  <a:lnTo>
                    <a:pt x="1136" y="651"/>
                  </a:lnTo>
                  <a:lnTo>
                    <a:pt x="1067" y="648"/>
                  </a:lnTo>
                  <a:lnTo>
                    <a:pt x="999" y="643"/>
                  </a:lnTo>
                  <a:lnTo>
                    <a:pt x="934" y="638"/>
                  </a:lnTo>
                  <a:lnTo>
                    <a:pt x="869" y="632"/>
                  </a:lnTo>
                  <a:lnTo>
                    <a:pt x="806" y="625"/>
                  </a:lnTo>
                  <a:lnTo>
                    <a:pt x="745" y="617"/>
                  </a:lnTo>
                  <a:lnTo>
                    <a:pt x="685" y="609"/>
                  </a:lnTo>
                  <a:lnTo>
                    <a:pt x="628" y="600"/>
                  </a:lnTo>
                  <a:lnTo>
                    <a:pt x="572" y="591"/>
                  </a:lnTo>
                  <a:lnTo>
                    <a:pt x="519" y="581"/>
                  </a:lnTo>
                  <a:lnTo>
                    <a:pt x="467" y="570"/>
                  </a:lnTo>
                  <a:lnTo>
                    <a:pt x="418" y="559"/>
                  </a:lnTo>
                  <a:lnTo>
                    <a:pt x="370" y="547"/>
                  </a:lnTo>
                  <a:lnTo>
                    <a:pt x="326" y="535"/>
                  </a:lnTo>
                  <a:lnTo>
                    <a:pt x="283" y="523"/>
                  </a:lnTo>
                  <a:lnTo>
                    <a:pt x="244" y="509"/>
                  </a:lnTo>
                  <a:lnTo>
                    <a:pt x="206" y="495"/>
                  </a:lnTo>
                  <a:lnTo>
                    <a:pt x="172" y="481"/>
                  </a:lnTo>
                  <a:lnTo>
                    <a:pt x="141" y="467"/>
                  </a:lnTo>
                  <a:lnTo>
                    <a:pt x="113" y="452"/>
                  </a:lnTo>
                  <a:lnTo>
                    <a:pt x="87" y="436"/>
                  </a:lnTo>
                  <a:lnTo>
                    <a:pt x="65" y="421"/>
                  </a:lnTo>
                  <a:lnTo>
                    <a:pt x="46" y="404"/>
                  </a:lnTo>
                  <a:lnTo>
                    <a:pt x="30" y="388"/>
                  </a:lnTo>
                  <a:lnTo>
                    <a:pt x="18" y="371"/>
                  </a:lnTo>
                  <a:lnTo>
                    <a:pt x="9" y="355"/>
                  </a:lnTo>
                  <a:lnTo>
                    <a:pt x="2" y="338"/>
                  </a:lnTo>
                  <a:lnTo>
                    <a:pt x="0" y="320"/>
                  </a:lnTo>
                  <a:lnTo>
                    <a:pt x="2" y="302"/>
                  </a:lnTo>
                  <a:lnTo>
                    <a:pt x="9" y="285"/>
                  </a:lnTo>
                  <a:lnTo>
                    <a:pt x="18" y="269"/>
                  </a:lnTo>
                  <a:lnTo>
                    <a:pt x="30" y="253"/>
                  </a:lnTo>
                  <a:lnTo>
                    <a:pt x="46" y="237"/>
                  </a:lnTo>
                  <a:lnTo>
                    <a:pt x="65" y="221"/>
                  </a:lnTo>
                  <a:lnTo>
                    <a:pt x="87" y="206"/>
                  </a:lnTo>
                  <a:lnTo>
                    <a:pt x="113" y="191"/>
                  </a:lnTo>
                  <a:lnTo>
                    <a:pt x="141" y="177"/>
                  </a:lnTo>
                  <a:lnTo>
                    <a:pt x="172" y="163"/>
                  </a:lnTo>
                  <a:lnTo>
                    <a:pt x="206" y="150"/>
                  </a:lnTo>
                  <a:lnTo>
                    <a:pt x="244" y="137"/>
                  </a:lnTo>
                  <a:lnTo>
                    <a:pt x="283" y="124"/>
                  </a:lnTo>
                  <a:lnTo>
                    <a:pt x="326" y="113"/>
                  </a:lnTo>
                  <a:lnTo>
                    <a:pt x="370" y="101"/>
                  </a:lnTo>
                  <a:lnTo>
                    <a:pt x="418" y="90"/>
                  </a:lnTo>
                  <a:lnTo>
                    <a:pt x="467" y="79"/>
                  </a:lnTo>
                  <a:lnTo>
                    <a:pt x="519" y="69"/>
                  </a:lnTo>
                  <a:lnTo>
                    <a:pt x="572" y="60"/>
                  </a:lnTo>
                  <a:lnTo>
                    <a:pt x="628" y="52"/>
                  </a:lnTo>
                  <a:lnTo>
                    <a:pt x="685" y="44"/>
                  </a:lnTo>
                  <a:lnTo>
                    <a:pt x="745" y="36"/>
                  </a:lnTo>
                  <a:lnTo>
                    <a:pt x="806" y="30"/>
                  </a:lnTo>
                  <a:lnTo>
                    <a:pt x="869" y="24"/>
                  </a:lnTo>
                  <a:lnTo>
                    <a:pt x="934" y="18"/>
                  </a:lnTo>
                  <a:lnTo>
                    <a:pt x="999" y="14"/>
                  </a:lnTo>
                  <a:lnTo>
                    <a:pt x="1067" y="10"/>
                  </a:lnTo>
                  <a:lnTo>
                    <a:pt x="1136" y="6"/>
                  </a:lnTo>
                  <a:lnTo>
                    <a:pt x="1206" y="4"/>
                  </a:lnTo>
                  <a:lnTo>
                    <a:pt x="1277" y="2"/>
                  </a:lnTo>
                  <a:lnTo>
                    <a:pt x="1350" y="1"/>
                  </a:lnTo>
                  <a:lnTo>
                    <a:pt x="1422" y="0"/>
                  </a:lnTo>
                  <a:lnTo>
                    <a:pt x="1495" y="1"/>
                  </a:lnTo>
                  <a:lnTo>
                    <a:pt x="1568" y="2"/>
                  </a:lnTo>
                  <a:lnTo>
                    <a:pt x="1639" y="4"/>
                  </a:lnTo>
                  <a:lnTo>
                    <a:pt x="1709" y="6"/>
                  </a:lnTo>
                  <a:lnTo>
                    <a:pt x="1778" y="10"/>
                  </a:lnTo>
                  <a:lnTo>
                    <a:pt x="1846" y="14"/>
                  </a:lnTo>
                  <a:lnTo>
                    <a:pt x="1911" y="18"/>
                  </a:lnTo>
                  <a:lnTo>
                    <a:pt x="1976" y="24"/>
                  </a:lnTo>
                  <a:lnTo>
                    <a:pt x="2039" y="30"/>
                  </a:lnTo>
                  <a:lnTo>
                    <a:pt x="2100" y="36"/>
                  </a:lnTo>
                  <a:lnTo>
                    <a:pt x="2160" y="44"/>
                  </a:lnTo>
                  <a:lnTo>
                    <a:pt x="2217" y="52"/>
                  </a:lnTo>
                  <a:lnTo>
                    <a:pt x="2273" y="60"/>
                  </a:lnTo>
                  <a:lnTo>
                    <a:pt x="2326" y="69"/>
                  </a:lnTo>
                  <a:lnTo>
                    <a:pt x="2379" y="79"/>
                  </a:lnTo>
                  <a:lnTo>
                    <a:pt x="2427" y="90"/>
                  </a:lnTo>
                  <a:lnTo>
                    <a:pt x="2475" y="101"/>
                  </a:lnTo>
                  <a:lnTo>
                    <a:pt x="2519" y="113"/>
                  </a:lnTo>
                  <a:lnTo>
                    <a:pt x="2562" y="124"/>
                  </a:lnTo>
                  <a:lnTo>
                    <a:pt x="2601" y="137"/>
                  </a:lnTo>
                  <a:lnTo>
                    <a:pt x="2638" y="150"/>
                  </a:lnTo>
                  <a:lnTo>
                    <a:pt x="2673" y="163"/>
                  </a:lnTo>
                  <a:lnTo>
                    <a:pt x="2704" y="177"/>
                  </a:lnTo>
                  <a:lnTo>
                    <a:pt x="2732" y="191"/>
                  </a:lnTo>
                  <a:lnTo>
                    <a:pt x="2758" y="206"/>
                  </a:lnTo>
                  <a:lnTo>
                    <a:pt x="2780" y="221"/>
                  </a:lnTo>
                  <a:lnTo>
                    <a:pt x="2799" y="237"/>
                  </a:lnTo>
                  <a:lnTo>
                    <a:pt x="2815" y="253"/>
                  </a:lnTo>
                  <a:lnTo>
                    <a:pt x="2827" y="269"/>
                  </a:lnTo>
                  <a:lnTo>
                    <a:pt x="2836" y="285"/>
                  </a:lnTo>
                  <a:lnTo>
                    <a:pt x="2842" y="302"/>
                  </a:lnTo>
                  <a:lnTo>
                    <a:pt x="2844" y="320"/>
                  </a:lnTo>
                  <a:close/>
                </a:path>
              </a:pathLst>
            </a:custGeom>
            <a:solidFill>
              <a:srgbClr val="fb4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134080" y="6538680"/>
              <a:ext cx="312840" cy="78480"/>
            </a:xfrm>
            <a:custGeom>
              <a:avLst/>
              <a:gdLst/>
              <a:ahLst/>
              <a:rect l="l" t="t" r="r" b="b"/>
              <a:pathLst>
                <a:path w="2840" h="656">
                  <a:moveTo>
                    <a:pt x="2840" y="319"/>
                  </a:moveTo>
                  <a:lnTo>
                    <a:pt x="2838" y="337"/>
                  </a:lnTo>
                  <a:lnTo>
                    <a:pt x="2833" y="354"/>
                  </a:lnTo>
                  <a:lnTo>
                    <a:pt x="2824" y="370"/>
                  </a:lnTo>
                  <a:lnTo>
                    <a:pt x="2812" y="387"/>
                  </a:lnTo>
                  <a:lnTo>
                    <a:pt x="2796" y="403"/>
                  </a:lnTo>
                  <a:lnTo>
                    <a:pt x="2777" y="420"/>
                  </a:lnTo>
                  <a:lnTo>
                    <a:pt x="2755" y="435"/>
                  </a:lnTo>
                  <a:lnTo>
                    <a:pt x="2729" y="450"/>
                  </a:lnTo>
                  <a:lnTo>
                    <a:pt x="2701" y="465"/>
                  </a:lnTo>
                  <a:lnTo>
                    <a:pt x="2670" y="480"/>
                  </a:lnTo>
                  <a:lnTo>
                    <a:pt x="2635" y="493"/>
                  </a:lnTo>
                  <a:lnTo>
                    <a:pt x="2598" y="507"/>
                  </a:lnTo>
                  <a:lnTo>
                    <a:pt x="2559" y="521"/>
                  </a:lnTo>
                  <a:lnTo>
                    <a:pt x="2516" y="534"/>
                  </a:lnTo>
                  <a:lnTo>
                    <a:pt x="2472" y="546"/>
                  </a:lnTo>
                  <a:lnTo>
                    <a:pt x="2424" y="557"/>
                  </a:lnTo>
                  <a:lnTo>
                    <a:pt x="2376" y="568"/>
                  </a:lnTo>
                  <a:lnTo>
                    <a:pt x="2324" y="579"/>
                  </a:lnTo>
                  <a:lnTo>
                    <a:pt x="2270" y="589"/>
                  </a:lnTo>
                  <a:lnTo>
                    <a:pt x="2214" y="598"/>
                  </a:lnTo>
                  <a:lnTo>
                    <a:pt x="2157" y="607"/>
                  </a:lnTo>
                  <a:lnTo>
                    <a:pt x="2097" y="615"/>
                  </a:lnTo>
                  <a:lnTo>
                    <a:pt x="2037" y="622"/>
                  </a:lnTo>
                  <a:lnTo>
                    <a:pt x="1973" y="630"/>
                  </a:lnTo>
                  <a:lnTo>
                    <a:pt x="1909" y="636"/>
                  </a:lnTo>
                  <a:lnTo>
                    <a:pt x="1843" y="641"/>
                  </a:lnTo>
                  <a:lnTo>
                    <a:pt x="1775" y="646"/>
                  </a:lnTo>
                  <a:lnTo>
                    <a:pt x="1706" y="649"/>
                  </a:lnTo>
                  <a:lnTo>
                    <a:pt x="1637" y="652"/>
                  </a:lnTo>
                  <a:lnTo>
                    <a:pt x="1566" y="654"/>
                  </a:lnTo>
                  <a:lnTo>
                    <a:pt x="1493" y="656"/>
                  </a:lnTo>
                  <a:lnTo>
                    <a:pt x="1420" y="656"/>
                  </a:lnTo>
                  <a:lnTo>
                    <a:pt x="1348" y="656"/>
                  </a:lnTo>
                  <a:lnTo>
                    <a:pt x="1275" y="654"/>
                  </a:lnTo>
                  <a:lnTo>
                    <a:pt x="1204" y="652"/>
                  </a:lnTo>
                  <a:lnTo>
                    <a:pt x="1135" y="649"/>
                  </a:lnTo>
                  <a:lnTo>
                    <a:pt x="1066" y="646"/>
                  </a:lnTo>
                  <a:lnTo>
                    <a:pt x="998" y="641"/>
                  </a:lnTo>
                  <a:lnTo>
                    <a:pt x="933" y="636"/>
                  </a:lnTo>
                  <a:lnTo>
                    <a:pt x="868" y="630"/>
                  </a:lnTo>
                  <a:lnTo>
                    <a:pt x="804" y="622"/>
                  </a:lnTo>
                  <a:lnTo>
                    <a:pt x="744" y="615"/>
                  </a:lnTo>
                  <a:lnTo>
                    <a:pt x="684" y="607"/>
                  </a:lnTo>
                  <a:lnTo>
                    <a:pt x="627" y="598"/>
                  </a:lnTo>
                  <a:lnTo>
                    <a:pt x="571" y="589"/>
                  </a:lnTo>
                  <a:lnTo>
                    <a:pt x="518" y="579"/>
                  </a:lnTo>
                  <a:lnTo>
                    <a:pt x="466" y="568"/>
                  </a:lnTo>
                  <a:lnTo>
                    <a:pt x="417" y="557"/>
                  </a:lnTo>
                  <a:lnTo>
                    <a:pt x="369" y="546"/>
                  </a:lnTo>
                  <a:lnTo>
                    <a:pt x="325" y="534"/>
                  </a:lnTo>
                  <a:lnTo>
                    <a:pt x="282" y="521"/>
                  </a:lnTo>
                  <a:lnTo>
                    <a:pt x="243" y="507"/>
                  </a:lnTo>
                  <a:lnTo>
                    <a:pt x="206" y="493"/>
                  </a:lnTo>
                  <a:lnTo>
                    <a:pt x="172" y="480"/>
                  </a:lnTo>
                  <a:lnTo>
                    <a:pt x="141" y="465"/>
                  </a:lnTo>
                  <a:lnTo>
                    <a:pt x="112" y="450"/>
                  </a:lnTo>
                  <a:lnTo>
                    <a:pt x="86" y="435"/>
                  </a:lnTo>
                  <a:lnTo>
                    <a:pt x="64" y="420"/>
                  </a:lnTo>
                  <a:lnTo>
                    <a:pt x="45" y="403"/>
                  </a:lnTo>
                  <a:lnTo>
                    <a:pt x="30" y="387"/>
                  </a:lnTo>
                  <a:lnTo>
                    <a:pt x="17" y="370"/>
                  </a:lnTo>
                  <a:lnTo>
                    <a:pt x="8" y="354"/>
                  </a:lnTo>
                  <a:lnTo>
                    <a:pt x="3" y="337"/>
                  </a:lnTo>
                  <a:lnTo>
                    <a:pt x="0" y="319"/>
                  </a:lnTo>
                  <a:lnTo>
                    <a:pt x="3" y="301"/>
                  </a:lnTo>
                  <a:lnTo>
                    <a:pt x="8" y="284"/>
                  </a:lnTo>
                  <a:lnTo>
                    <a:pt x="17" y="268"/>
                  </a:lnTo>
                  <a:lnTo>
                    <a:pt x="30" y="252"/>
                  </a:lnTo>
                  <a:lnTo>
                    <a:pt x="45" y="236"/>
                  </a:lnTo>
                  <a:lnTo>
                    <a:pt x="64" y="221"/>
                  </a:lnTo>
                  <a:lnTo>
                    <a:pt x="86" y="206"/>
                  </a:lnTo>
                  <a:lnTo>
                    <a:pt x="112" y="190"/>
                  </a:lnTo>
                  <a:lnTo>
                    <a:pt x="141" y="176"/>
                  </a:lnTo>
                  <a:lnTo>
                    <a:pt x="172" y="162"/>
                  </a:lnTo>
                  <a:lnTo>
                    <a:pt x="206" y="149"/>
                  </a:lnTo>
                  <a:lnTo>
                    <a:pt x="243" y="136"/>
                  </a:lnTo>
                  <a:lnTo>
                    <a:pt x="282" y="124"/>
                  </a:lnTo>
                  <a:lnTo>
                    <a:pt x="325" y="112"/>
                  </a:lnTo>
                  <a:lnTo>
                    <a:pt x="369" y="101"/>
                  </a:lnTo>
                  <a:lnTo>
                    <a:pt x="417" y="90"/>
                  </a:lnTo>
                  <a:lnTo>
                    <a:pt x="466" y="79"/>
                  </a:lnTo>
                  <a:lnTo>
                    <a:pt x="518" y="69"/>
                  </a:lnTo>
                  <a:lnTo>
                    <a:pt x="571" y="60"/>
                  </a:lnTo>
                  <a:lnTo>
                    <a:pt x="627" y="52"/>
                  </a:lnTo>
                  <a:lnTo>
                    <a:pt x="684" y="44"/>
                  </a:lnTo>
                  <a:lnTo>
                    <a:pt x="744" y="36"/>
                  </a:lnTo>
                  <a:lnTo>
                    <a:pt x="804" y="30"/>
                  </a:lnTo>
                  <a:lnTo>
                    <a:pt x="868" y="24"/>
                  </a:lnTo>
                  <a:lnTo>
                    <a:pt x="933" y="18"/>
                  </a:lnTo>
                  <a:lnTo>
                    <a:pt x="998" y="13"/>
                  </a:lnTo>
                  <a:lnTo>
                    <a:pt x="1066" y="9"/>
                  </a:lnTo>
                  <a:lnTo>
                    <a:pt x="1135" y="6"/>
                  </a:lnTo>
                  <a:lnTo>
                    <a:pt x="1204" y="3"/>
                  </a:lnTo>
                  <a:lnTo>
                    <a:pt x="1275" y="2"/>
                  </a:lnTo>
                  <a:lnTo>
                    <a:pt x="1348" y="0"/>
                  </a:lnTo>
                  <a:lnTo>
                    <a:pt x="1420" y="0"/>
                  </a:lnTo>
                  <a:lnTo>
                    <a:pt x="1493" y="0"/>
                  </a:lnTo>
                  <a:lnTo>
                    <a:pt x="1566" y="2"/>
                  </a:lnTo>
                  <a:lnTo>
                    <a:pt x="1637" y="3"/>
                  </a:lnTo>
                  <a:lnTo>
                    <a:pt x="1706" y="6"/>
                  </a:lnTo>
                  <a:lnTo>
                    <a:pt x="1775" y="9"/>
                  </a:lnTo>
                  <a:lnTo>
                    <a:pt x="1843" y="13"/>
                  </a:lnTo>
                  <a:lnTo>
                    <a:pt x="1909" y="18"/>
                  </a:lnTo>
                  <a:lnTo>
                    <a:pt x="1973" y="24"/>
                  </a:lnTo>
                  <a:lnTo>
                    <a:pt x="2037" y="30"/>
                  </a:lnTo>
                  <a:lnTo>
                    <a:pt x="2097" y="36"/>
                  </a:lnTo>
                  <a:lnTo>
                    <a:pt x="2157" y="44"/>
                  </a:lnTo>
                  <a:lnTo>
                    <a:pt x="2214" y="52"/>
                  </a:lnTo>
                  <a:lnTo>
                    <a:pt x="2270" y="60"/>
                  </a:lnTo>
                  <a:lnTo>
                    <a:pt x="2324" y="69"/>
                  </a:lnTo>
                  <a:lnTo>
                    <a:pt x="2376" y="79"/>
                  </a:lnTo>
                  <a:lnTo>
                    <a:pt x="2424" y="90"/>
                  </a:lnTo>
                  <a:lnTo>
                    <a:pt x="2472" y="101"/>
                  </a:lnTo>
                  <a:lnTo>
                    <a:pt x="2516" y="112"/>
                  </a:lnTo>
                  <a:lnTo>
                    <a:pt x="2559" y="124"/>
                  </a:lnTo>
                  <a:lnTo>
                    <a:pt x="2598" y="136"/>
                  </a:lnTo>
                  <a:lnTo>
                    <a:pt x="2635" y="149"/>
                  </a:lnTo>
                  <a:lnTo>
                    <a:pt x="2670" y="162"/>
                  </a:lnTo>
                  <a:lnTo>
                    <a:pt x="2701" y="176"/>
                  </a:lnTo>
                  <a:lnTo>
                    <a:pt x="2729" y="190"/>
                  </a:lnTo>
                  <a:lnTo>
                    <a:pt x="2755" y="206"/>
                  </a:lnTo>
                  <a:lnTo>
                    <a:pt x="2777" y="221"/>
                  </a:lnTo>
                  <a:lnTo>
                    <a:pt x="2796" y="236"/>
                  </a:lnTo>
                  <a:lnTo>
                    <a:pt x="2812" y="252"/>
                  </a:lnTo>
                  <a:lnTo>
                    <a:pt x="2824" y="268"/>
                  </a:lnTo>
                  <a:lnTo>
                    <a:pt x="2833" y="284"/>
                  </a:lnTo>
                  <a:lnTo>
                    <a:pt x="2838" y="301"/>
                  </a:lnTo>
                  <a:lnTo>
                    <a:pt x="2840" y="319"/>
                  </a:lnTo>
                  <a:close/>
                </a:path>
              </a:pathLst>
            </a:custGeom>
            <a:solidFill>
              <a:srgbClr val="fb4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134080" y="6538680"/>
              <a:ext cx="312840" cy="78480"/>
            </a:xfrm>
            <a:custGeom>
              <a:avLst/>
              <a:gdLst/>
              <a:ahLst/>
              <a:rect l="l" t="t" r="r" b="b"/>
              <a:pathLst>
                <a:path w="2838" h="654">
                  <a:moveTo>
                    <a:pt x="2838" y="318"/>
                  </a:moveTo>
                  <a:lnTo>
                    <a:pt x="2836" y="336"/>
                  </a:lnTo>
                  <a:lnTo>
                    <a:pt x="2831" y="352"/>
                  </a:lnTo>
                  <a:lnTo>
                    <a:pt x="2822" y="369"/>
                  </a:lnTo>
                  <a:lnTo>
                    <a:pt x="2809" y="385"/>
                  </a:lnTo>
                  <a:lnTo>
                    <a:pt x="2794" y="402"/>
                  </a:lnTo>
                  <a:lnTo>
                    <a:pt x="2775" y="418"/>
                  </a:lnTo>
                  <a:lnTo>
                    <a:pt x="2753" y="434"/>
                  </a:lnTo>
                  <a:lnTo>
                    <a:pt x="2726" y="449"/>
                  </a:lnTo>
                  <a:lnTo>
                    <a:pt x="2698" y="464"/>
                  </a:lnTo>
                  <a:lnTo>
                    <a:pt x="2667" y="478"/>
                  </a:lnTo>
                  <a:lnTo>
                    <a:pt x="2632" y="492"/>
                  </a:lnTo>
                  <a:lnTo>
                    <a:pt x="2596" y="506"/>
                  </a:lnTo>
                  <a:lnTo>
                    <a:pt x="2557" y="520"/>
                  </a:lnTo>
                  <a:lnTo>
                    <a:pt x="2514" y="532"/>
                  </a:lnTo>
                  <a:lnTo>
                    <a:pt x="2470" y="544"/>
                  </a:lnTo>
                  <a:lnTo>
                    <a:pt x="2422" y="556"/>
                  </a:lnTo>
                  <a:lnTo>
                    <a:pt x="2374" y="567"/>
                  </a:lnTo>
                  <a:lnTo>
                    <a:pt x="2322" y="577"/>
                  </a:lnTo>
                  <a:lnTo>
                    <a:pt x="2269" y="587"/>
                  </a:lnTo>
                  <a:lnTo>
                    <a:pt x="2213" y="596"/>
                  </a:lnTo>
                  <a:lnTo>
                    <a:pt x="2156" y="605"/>
                  </a:lnTo>
                  <a:lnTo>
                    <a:pt x="2096" y="613"/>
                  </a:lnTo>
                  <a:lnTo>
                    <a:pt x="2035" y="620"/>
                  </a:lnTo>
                  <a:lnTo>
                    <a:pt x="1972" y="628"/>
                  </a:lnTo>
                  <a:lnTo>
                    <a:pt x="1907" y="634"/>
                  </a:lnTo>
                  <a:lnTo>
                    <a:pt x="1842" y="639"/>
                  </a:lnTo>
                  <a:lnTo>
                    <a:pt x="1774" y="644"/>
                  </a:lnTo>
                  <a:lnTo>
                    <a:pt x="1705" y="647"/>
                  </a:lnTo>
                  <a:lnTo>
                    <a:pt x="1636" y="650"/>
                  </a:lnTo>
                  <a:lnTo>
                    <a:pt x="1565" y="653"/>
                  </a:lnTo>
                  <a:lnTo>
                    <a:pt x="1492" y="654"/>
                  </a:lnTo>
                  <a:lnTo>
                    <a:pt x="1419" y="654"/>
                  </a:lnTo>
                  <a:lnTo>
                    <a:pt x="1347" y="654"/>
                  </a:lnTo>
                  <a:lnTo>
                    <a:pt x="1274" y="653"/>
                  </a:lnTo>
                  <a:lnTo>
                    <a:pt x="1203" y="650"/>
                  </a:lnTo>
                  <a:lnTo>
                    <a:pt x="1134" y="647"/>
                  </a:lnTo>
                  <a:lnTo>
                    <a:pt x="1065" y="644"/>
                  </a:lnTo>
                  <a:lnTo>
                    <a:pt x="997" y="639"/>
                  </a:lnTo>
                  <a:lnTo>
                    <a:pt x="932" y="634"/>
                  </a:lnTo>
                  <a:lnTo>
                    <a:pt x="867" y="628"/>
                  </a:lnTo>
                  <a:lnTo>
                    <a:pt x="804" y="620"/>
                  </a:lnTo>
                  <a:lnTo>
                    <a:pt x="743" y="613"/>
                  </a:lnTo>
                  <a:lnTo>
                    <a:pt x="684" y="605"/>
                  </a:lnTo>
                  <a:lnTo>
                    <a:pt x="627" y="596"/>
                  </a:lnTo>
                  <a:lnTo>
                    <a:pt x="571" y="587"/>
                  </a:lnTo>
                  <a:lnTo>
                    <a:pt x="518" y="577"/>
                  </a:lnTo>
                  <a:lnTo>
                    <a:pt x="466" y="567"/>
                  </a:lnTo>
                  <a:lnTo>
                    <a:pt x="417" y="556"/>
                  </a:lnTo>
                  <a:lnTo>
                    <a:pt x="369" y="544"/>
                  </a:lnTo>
                  <a:lnTo>
                    <a:pt x="325" y="532"/>
                  </a:lnTo>
                  <a:lnTo>
                    <a:pt x="282" y="520"/>
                  </a:lnTo>
                  <a:lnTo>
                    <a:pt x="243" y="506"/>
                  </a:lnTo>
                  <a:lnTo>
                    <a:pt x="207" y="492"/>
                  </a:lnTo>
                  <a:lnTo>
                    <a:pt x="172" y="478"/>
                  </a:lnTo>
                  <a:lnTo>
                    <a:pt x="141" y="464"/>
                  </a:lnTo>
                  <a:lnTo>
                    <a:pt x="113" y="449"/>
                  </a:lnTo>
                  <a:lnTo>
                    <a:pt x="87" y="434"/>
                  </a:lnTo>
                  <a:lnTo>
                    <a:pt x="64" y="418"/>
                  </a:lnTo>
                  <a:lnTo>
                    <a:pt x="46" y="402"/>
                  </a:lnTo>
                  <a:lnTo>
                    <a:pt x="30" y="385"/>
                  </a:lnTo>
                  <a:lnTo>
                    <a:pt x="18" y="369"/>
                  </a:lnTo>
                  <a:lnTo>
                    <a:pt x="9" y="352"/>
                  </a:lnTo>
                  <a:lnTo>
                    <a:pt x="3" y="336"/>
                  </a:lnTo>
                  <a:lnTo>
                    <a:pt x="0" y="318"/>
                  </a:lnTo>
                  <a:lnTo>
                    <a:pt x="3" y="300"/>
                  </a:lnTo>
                  <a:lnTo>
                    <a:pt x="9" y="284"/>
                  </a:lnTo>
                  <a:lnTo>
                    <a:pt x="18" y="267"/>
                  </a:lnTo>
                  <a:lnTo>
                    <a:pt x="30" y="251"/>
                  </a:lnTo>
                  <a:lnTo>
                    <a:pt x="46" y="235"/>
                  </a:lnTo>
                  <a:lnTo>
                    <a:pt x="64" y="220"/>
                  </a:lnTo>
                  <a:lnTo>
                    <a:pt x="87" y="205"/>
                  </a:lnTo>
                  <a:lnTo>
                    <a:pt x="113" y="190"/>
                  </a:lnTo>
                  <a:lnTo>
                    <a:pt x="141" y="175"/>
                  </a:lnTo>
                  <a:lnTo>
                    <a:pt x="172" y="162"/>
                  </a:lnTo>
                  <a:lnTo>
                    <a:pt x="207" y="149"/>
                  </a:lnTo>
                  <a:lnTo>
                    <a:pt x="243" y="136"/>
                  </a:lnTo>
                  <a:lnTo>
                    <a:pt x="282" y="124"/>
                  </a:lnTo>
                  <a:lnTo>
                    <a:pt x="325" y="112"/>
                  </a:lnTo>
                  <a:lnTo>
                    <a:pt x="369" y="100"/>
                  </a:lnTo>
                  <a:lnTo>
                    <a:pt x="417" y="90"/>
                  </a:lnTo>
                  <a:lnTo>
                    <a:pt x="466" y="79"/>
                  </a:lnTo>
                  <a:lnTo>
                    <a:pt x="518" y="69"/>
                  </a:lnTo>
                  <a:lnTo>
                    <a:pt x="571" y="60"/>
                  </a:lnTo>
                  <a:lnTo>
                    <a:pt x="627" y="51"/>
                  </a:lnTo>
                  <a:lnTo>
                    <a:pt x="684" y="43"/>
                  </a:lnTo>
                  <a:lnTo>
                    <a:pt x="743" y="36"/>
                  </a:lnTo>
                  <a:lnTo>
                    <a:pt x="804" y="29"/>
                  </a:lnTo>
                  <a:lnTo>
                    <a:pt x="867" y="23"/>
                  </a:lnTo>
                  <a:lnTo>
                    <a:pt x="932" y="18"/>
                  </a:lnTo>
                  <a:lnTo>
                    <a:pt x="997" y="13"/>
                  </a:lnTo>
                  <a:lnTo>
                    <a:pt x="1065" y="9"/>
                  </a:lnTo>
                  <a:lnTo>
                    <a:pt x="1134" y="6"/>
                  </a:lnTo>
                  <a:lnTo>
                    <a:pt x="1203" y="3"/>
                  </a:lnTo>
                  <a:lnTo>
                    <a:pt x="1274" y="2"/>
                  </a:lnTo>
                  <a:lnTo>
                    <a:pt x="1347" y="0"/>
                  </a:lnTo>
                  <a:lnTo>
                    <a:pt x="1419" y="0"/>
                  </a:lnTo>
                  <a:lnTo>
                    <a:pt x="1492" y="0"/>
                  </a:lnTo>
                  <a:lnTo>
                    <a:pt x="1565" y="2"/>
                  </a:lnTo>
                  <a:lnTo>
                    <a:pt x="1636" y="3"/>
                  </a:lnTo>
                  <a:lnTo>
                    <a:pt x="1705" y="6"/>
                  </a:lnTo>
                  <a:lnTo>
                    <a:pt x="1774" y="9"/>
                  </a:lnTo>
                  <a:lnTo>
                    <a:pt x="1842" y="13"/>
                  </a:lnTo>
                  <a:lnTo>
                    <a:pt x="1907" y="18"/>
                  </a:lnTo>
                  <a:lnTo>
                    <a:pt x="1972" y="23"/>
                  </a:lnTo>
                  <a:lnTo>
                    <a:pt x="2035" y="29"/>
                  </a:lnTo>
                  <a:lnTo>
                    <a:pt x="2096" y="36"/>
                  </a:lnTo>
                  <a:lnTo>
                    <a:pt x="2156" y="43"/>
                  </a:lnTo>
                  <a:lnTo>
                    <a:pt x="2213" y="51"/>
                  </a:lnTo>
                  <a:lnTo>
                    <a:pt x="2269" y="60"/>
                  </a:lnTo>
                  <a:lnTo>
                    <a:pt x="2322" y="69"/>
                  </a:lnTo>
                  <a:lnTo>
                    <a:pt x="2374" y="79"/>
                  </a:lnTo>
                  <a:lnTo>
                    <a:pt x="2422" y="90"/>
                  </a:lnTo>
                  <a:lnTo>
                    <a:pt x="2470" y="100"/>
                  </a:lnTo>
                  <a:lnTo>
                    <a:pt x="2514" y="112"/>
                  </a:lnTo>
                  <a:lnTo>
                    <a:pt x="2557" y="124"/>
                  </a:lnTo>
                  <a:lnTo>
                    <a:pt x="2596" y="136"/>
                  </a:lnTo>
                  <a:lnTo>
                    <a:pt x="2632" y="149"/>
                  </a:lnTo>
                  <a:lnTo>
                    <a:pt x="2667" y="162"/>
                  </a:lnTo>
                  <a:lnTo>
                    <a:pt x="2698" y="175"/>
                  </a:lnTo>
                  <a:lnTo>
                    <a:pt x="2726" y="190"/>
                  </a:lnTo>
                  <a:lnTo>
                    <a:pt x="2753" y="205"/>
                  </a:lnTo>
                  <a:lnTo>
                    <a:pt x="2775" y="220"/>
                  </a:lnTo>
                  <a:lnTo>
                    <a:pt x="2794" y="235"/>
                  </a:lnTo>
                  <a:lnTo>
                    <a:pt x="2809" y="251"/>
                  </a:lnTo>
                  <a:lnTo>
                    <a:pt x="2822" y="267"/>
                  </a:lnTo>
                  <a:lnTo>
                    <a:pt x="2831" y="284"/>
                  </a:lnTo>
                  <a:lnTo>
                    <a:pt x="2836" y="300"/>
                  </a:lnTo>
                  <a:lnTo>
                    <a:pt x="2838" y="318"/>
                  </a:lnTo>
                  <a:close/>
                </a:path>
              </a:pathLst>
            </a:custGeom>
            <a:solidFill>
              <a:srgbClr val="fb4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134080" y="6538680"/>
              <a:ext cx="312840" cy="78480"/>
            </a:xfrm>
            <a:custGeom>
              <a:avLst/>
              <a:gdLst/>
              <a:ahLst/>
              <a:rect l="l" t="t" r="r" b="b"/>
              <a:pathLst>
                <a:path w="2833" h="652">
                  <a:moveTo>
                    <a:pt x="2833" y="317"/>
                  </a:moveTo>
                  <a:lnTo>
                    <a:pt x="2832" y="335"/>
                  </a:lnTo>
                  <a:lnTo>
                    <a:pt x="2826" y="351"/>
                  </a:lnTo>
                  <a:lnTo>
                    <a:pt x="2817" y="368"/>
                  </a:lnTo>
                  <a:lnTo>
                    <a:pt x="2805" y="384"/>
                  </a:lnTo>
                  <a:lnTo>
                    <a:pt x="2789" y="400"/>
                  </a:lnTo>
                  <a:lnTo>
                    <a:pt x="2770" y="417"/>
                  </a:lnTo>
                  <a:lnTo>
                    <a:pt x="2748" y="433"/>
                  </a:lnTo>
                  <a:lnTo>
                    <a:pt x="2722" y="448"/>
                  </a:lnTo>
                  <a:lnTo>
                    <a:pt x="2694" y="462"/>
                  </a:lnTo>
                  <a:lnTo>
                    <a:pt x="2663" y="477"/>
                  </a:lnTo>
                  <a:lnTo>
                    <a:pt x="2628" y="491"/>
                  </a:lnTo>
                  <a:lnTo>
                    <a:pt x="2592" y="504"/>
                  </a:lnTo>
                  <a:lnTo>
                    <a:pt x="2553" y="518"/>
                  </a:lnTo>
                  <a:lnTo>
                    <a:pt x="2510" y="531"/>
                  </a:lnTo>
                  <a:lnTo>
                    <a:pt x="2466" y="543"/>
                  </a:lnTo>
                  <a:lnTo>
                    <a:pt x="2418" y="554"/>
                  </a:lnTo>
                  <a:lnTo>
                    <a:pt x="2370" y="565"/>
                  </a:lnTo>
                  <a:lnTo>
                    <a:pt x="2318" y="576"/>
                  </a:lnTo>
                  <a:lnTo>
                    <a:pt x="2265" y="585"/>
                  </a:lnTo>
                  <a:lnTo>
                    <a:pt x="2209" y="595"/>
                  </a:lnTo>
                  <a:lnTo>
                    <a:pt x="2152" y="603"/>
                  </a:lnTo>
                  <a:lnTo>
                    <a:pt x="2092" y="611"/>
                  </a:lnTo>
                  <a:lnTo>
                    <a:pt x="2031" y="619"/>
                  </a:lnTo>
                  <a:lnTo>
                    <a:pt x="1968" y="626"/>
                  </a:lnTo>
                  <a:lnTo>
                    <a:pt x="1904" y="632"/>
                  </a:lnTo>
                  <a:lnTo>
                    <a:pt x="1838" y="637"/>
                  </a:lnTo>
                  <a:lnTo>
                    <a:pt x="1771" y="642"/>
                  </a:lnTo>
                  <a:lnTo>
                    <a:pt x="1702" y="646"/>
                  </a:lnTo>
                  <a:lnTo>
                    <a:pt x="1633" y="649"/>
                  </a:lnTo>
                  <a:lnTo>
                    <a:pt x="1562" y="651"/>
                  </a:lnTo>
                  <a:lnTo>
                    <a:pt x="1489" y="652"/>
                  </a:lnTo>
                  <a:lnTo>
                    <a:pt x="1416" y="652"/>
                  </a:lnTo>
                  <a:lnTo>
                    <a:pt x="1344" y="652"/>
                  </a:lnTo>
                  <a:lnTo>
                    <a:pt x="1272" y="651"/>
                  </a:lnTo>
                  <a:lnTo>
                    <a:pt x="1200" y="649"/>
                  </a:lnTo>
                  <a:lnTo>
                    <a:pt x="1131" y="646"/>
                  </a:lnTo>
                  <a:lnTo>
                    <a:pt x="1062" y="642"/>
                  </a:lnTo>
                  <a:lnTo>
                    <a:pt x="995" y="637"/>
                  </a:lnTo>
                  <a:lnTo>
                    <a:pt x="930" y="632"/>
                  </a:lnTo>
                  <a:lnTo>
                    <a:pt x="865" y="626"/>
                  </a:lnTo>
                  <a:lnTo>
                    <a:pt x="802" y="619"/>
                  </a:lnTo>
                  <a:lnTo>
                    <a:pt x="741" y="611"/>
                  </a:lnTo>
                  <a:lnTo>
                    <a:pt x="681" y="603"/>
                  </a:lnTo>
                  <a:lnTo>
                    <a:pt x="624" y="595"/>
                  </a:lnTo>
                  <a:lnTo>
                    <a:pt x="568" y="585"/>
                  </a:lnTo>
                  <a:lnTo>
                    <a:pt x="515" y="576"/>
                  </a:lnTo>
                  <a:lnTo>
                    <a:pt x="463" y="565"/>
                  </a:lnTo>
                  <a:lnTo>
                    <a:pt x="415" y="554"/>
                  </a:lnTo>
                  <a:lnTo>
                    <a:pt x="367" y="543"/>
                  </a:lnTo>
                  <a:lnTo>
                    <a:pt x="323" y="531"/>
                  </a:lnTo>
                  <a:lnTo>
                    <a:pt x="281" y="518"/>
                  </a:lnTo>
                  <a:lnTo>
                    <a:pt x="241" y="504"/>
                  </a:lnTo>
                  <a:lnTo>
                    <a:pt x="205" y="491"/>
                  </a:lnTo>
                  <a:lnTo>
                    <a:pt x="170" y="477"/>
                  </a:lnTo>
                  <a:lnTo>
                    <a:pt x="139" y="462"/>
                  </a:lnTo>
                  <a:lnTo>
                    <a:pt x="111" y="448"/>
                  </a:lnTo>
                  <a:lnTo>
                    <a:pt x="85" y="433"/>
                  </a:lnTo>
                  <a:lnTo>
                    <a:pt x="63" y="417"/>
                  </a:lnTo>
                  <a:lnTo>
                    <a:pt x="44" y="400"/>
                  </a:lnTo>
                  <a:lnTo>
                    <a:pt x="28" y="384"/>
                  </a:lnTo>
                  <a:lnTo>
                    <a:pt x="16" y="368"/>
                  </a:lnTo>
                  <a:lnTo>
                    <a:pt x="7" y="351"/>
                  </a:lnTo>
                  <a:lnTo>
                    <a:pt x="2" y="335"/>
                  </a:lnTo>
                  <a:lnTo>
                    <a:pt x="0" y="317"/>
                  </a:lnTo>
                  <a:lnTo>
                    <a:pt x="2" y="299"/>
                  </a:lnTo>
                  <a:lnTo>
                    <a:pt x="7" y="283"/>
                  </a:lnTo>
                  <a:lnTo>
                    <a:pt x="16" y="266"/>
                  </a:lnTo>
                  <a:lnTo>
                    <a:pt x="28" y="250"/>
                  </a:lnTo>
                  <a:lnTo>
                    <a:pt x="44" y="235"/>
                  </a:lnTo>
                  <a:lnTo>
                    <a:pt x="63" y="219"/>
                  </a:lnTo>
                  <a:lnTo>
                    <a:pt x="85" y="204"/>
                  </a:lnTo>
                  <a:lnTo>
                    <a:pt x="111" y="189"/>
                  </a:lnTo>
                  <a:lnTo>
                    <a:pt x="139" y="175"/>
                  </a:lnTo>
                  <a:lnTo>
                    <a:pt x="170" y="161"/>
                  </a:lnTo>
                  <a:lnTo>
                    <a:pt x="205" y="148"/>
                  </a:lnTo>
                  <a:lnTo>
                    <a:pt x="241" y="135"/>
                  </a:lnTo>
                  <a:lnTo>
                    <a:pt x="281" y="123"/>
                  </a:lnTo>
                  <a:lnTo>
                    <a:pt x="323" y="111"/>
                  </a:lnTo>
                  <a:lnTo>
                    <a:pt x="367" y="100"/>
                  </a:lnTo>
                  <a:lnTo>
                    <a:pt x="415" y="89"/>
                  </a:lnTo>
                  <a:lnTo>
                    <a:pt x="463" y="78"/>
                  </a:lnTo>
                  <a:lnTo>
                    <a:pt x="515" y="69"/>
                  </a:lnTo>
                  <a:lnTo>
                    <a:pt x="568" y="60"/>
                  </a:lnTo>
                  <a:lnTo>
                    <a:pt x="624" y="51"/>
                  </a:lnTo>
                  <a:lnTo>
                    <a:pt x="681" y="43"/>
                  </a:lnTo>
                  <a:lnTo>
                    <a:pt x="741" y="36"/>
                  </a:lnTo>
                  <a:lnTo>
                    <a:pt x="802" y="29"/>
                  </a:lnTo>
                  <a:lnTo>
                    <a:pt x="865" y="23"/>
                  </a:lnTo>
                  <a:lnTo>
                    <a:pt x="930" y="18"/>
                  </a:lnTo>
                  <a:lnTo>
                    <a:pt x="995" y="13"/>
                  </a:lnTo>
                  <a:lnTo>
                    <a:pt x="1062" y="9"/>
                  </a:lnTo>
                  <a:lnTo>
                    <a:pt x="1131" y="6"/>
                  </a:lnTo>
                  <a:lnTo>
                    <a:pt x="1200" y="3"/>
                  </a:lnTo>
                  <a:lnTo>
                    <a:pt x="1272" y="1"/>
                  </a:lnTo>
                  <a:lnTo>
                    <a:pt x="1344" y="0"/>
                  </a:lnTo>
                  <a:lnTo>
                    <a:pt x="1416" y="0"/>
                  </a:lnTo>
                  <a:lnTo>
                    <a:pt x="1489" y="0"/>
                  </a:lnTo>
                  <a:lnTo>
                    <a:pt x="1562" y="1"/>
                  </a:lnTo>
                  <a:lnTo>
                    <a:pt x="1633" y="3"/>
                  </a:lnTo>
                  <a:lnTo>
                    <a:pt x="1702" y="6"/>
                  </a:lnTo>
                  <a:lnTo>
                    <a:pt x="1771" y="9"/>
                  </a:lnTo>
                  <a:lnTo>
                    <a:pt x="1838" y="13"/>
                  </a:lnTo>
                  <a:lnTo>
                    <a:pt x="1904" y="18"/>
                  </a:lnTo>
                  <a:lnTo>
                    <a:pt x="1968" y="23"/>
                  </a:lnTo>
                  <a:lnTo>
                    <a:pt x="2031" y="29"/>
                  </a:lnTo>
                  <a:lnTo>
                    <a:pt x="2092" y="36"/>
                  </a:lnTo>
                  <a:lnTo>
                    <a:pt x="2152" y="43"/>
                  </a:lnTo>
                  <a:lnTo>
                    <a:pt x="2209" y="51"/>
                  </a:lnTo>
                  <a:lnTo>
                    <a:pt x="2265" y="60"/>
                  </a:lnTo>
                  <a:lnTo>
                    <a:pt x="2318" y="69"/>
                  </a:lnTo>
                  <a:lnTo>
                    <a:pt x="2370" y="78"/>
                  </a:lnTo>
                  <a:lnTo>
                    <a:pt x="2418" y="89"/>
                  </a:lnTo>
                  <a:lnTo>
                    <a:pt x="2466" y="100"/>
                  </a:lnTo>
                  <a:lnTo>
                    <a:pt x="2510" y="111"/>
                  </a:lnTo>
                  <a:lnTo>
                    <a:pt x="2553" y="123"/>
                  </a:lnTo>
                  <a:lnTo>
                    <a:pt x="2592" y="135"/>
                  </a:lnTo>
                  <a:lnTo>
                    <a:pt x="2628" y="148"/>
                  </a:lnTo>
                  <a:lnTo>
                    <a:pt x="2663" y="161"/>
                  </a:lnTo>
                  <a:lnTo>
                    <a:pt x="2694" y="175"/>
                  </a:lnTo>
                  <a:lnTo>
                    <a:pt x="2722" y="189"/>
                  </a:lnTo>
                  <a:lnTo>
                    <a:pt x="2748" y="204"/>
                  </a:lnTo>
                  <a:lnTo>
                    <a:pt x="2770" y="219"/>
                  </a:lnTo>
                  <a:lnTo>
                    <a:pt x="2789" y="235"/>
                  </a:lnTo>
                  <a:lnTo>
                    <a:pt x="2805" y="250"/>
                  </a:lnTo>
                  <a:lnTo>
                    <a:pt x="2817" y="266"/>
                  </a:lnTo>
                  <a:lnTo>
                    <a:pt x="2826" y="283"/>
                  </a:lnTo>
                  <a:lnTo>
                    <a:pt x="2832" y="299"/>
                  </a:lnTo>
                  <a:lnTo>
                    <a:pt x="2833" y="317"/>
                  </a:lnTo>
                  <a:close/>
                </a:path>
              </a:pathLst>
            </a:custGeom>
            <a:solidFill>
              <a:srgbClr val="fb4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134080" y="6538680"/>
              <a:ext cx="312840" cy="77400"/>
            </a:xfrm>
            <a:custGeom>
              <a:avLst/>
              <a:gdLst/>
              <a:ahLst/>
              <a:rect l="l" t="t" r="r" b="b"/>
              <a:pathLst>
                <a:path w="2831" h="650">
                  <a:moveTo>
                    <a:pt x="2831" y="316"/>
                  </a:moveTo>
                  <a:lnTo>
                    <a:pt x="2829" y="333"/>
                  </a:lnTo>
                  <a:lnTo>
                    <a:pt x="2824" y="350"/>
                  </a:lnTo>
                  <a:lnTo>
                    <a:pt x="2815" y="367"/>
                  </a:lnTo>
                  <a:lnTo>
                    <a:pt x="2802" y="383"/>
                  </a:lnTo>
                  <a:lnTo>
                    <a:pt x="2787" y="399"/>
                  </a:lnTo>
                  <a:lnTo>
                    <a:pt x="2768" y="416"/>
                  </a:lnTo>
                  <a:lnTo>
                    <a:pt x="2746" y="431"/>
                  </a:lnTo>
                  <a:lnTo>
                    <a:pt x="2720" y="446"/>
                  </a:lnTo>
                  <a:lnTo>
                    <a:pt x="2692" y="461"/>
                  </a:lnTo>
                  <a:lnTo>
                    <a:pt x="2661" y="475"/>
                  </a:lnTo>
                  <a:lnTo>
                    <a:pt x="2626" y="489"/>
                  </a:lnTo>
                  <a:lnTo>
                    <a:pt x="2590" y="502"/>
                  </a:lnTo>
                  <a:lnTo>
                    <a:pt x="2550" y="516"/>
                  </a:lnTo>
                  <a:lnTo>
                    <a:pt x="2508" y="529"/>
                  </a:lnTo>
                  <a:lnTo>
                    <a:pt x="2464" y="541"/>
                  </a:lnTo>
                  <a:lnTo>
                    <a:pt x="2416" y="552"/>
                  </a:lnTo>
                  <a:lnTo>
                    <a:pt x="2368" y="563"/>
                  </a:lnTo>
                  <a:lnTo>
                    <a:pt x="2316" y="574"/>
                  </a:lnTo>
                  <a:lnTo>
                    <a:pt x="2263" y="584"/>
                  </a:lnTo>
                  <a:lnTo>
                    <a:pt x="2207" y="593"/>
                  </a:lnTo>
                  <a:lnTo>
                    <a:pt x="2150" y="602"/>
                  </a:lnTo>
                  <a:lnTo>
                    <a:pt x="2090" y="609"/>
                  </a:lnTo>
                  <a:lnTo>
                    <a:pt x="2030" y="617"/>
                  </a:lnTo>
                  <a:lnTo>
                    <a:pt x="1967" y="624"/>
                  </a:lnTo>
                  <a:lnTo>
                    <a:pt x="1902" y="630"/>
                  </a:lnTo>
                  <a:lnTo>
                    <a:pt x="1837" y="636"/>
                  </a:lnTo>
                  <a:lnTo>
                    <a:pt x="1769" y="640"/>
                  </a:lnTo>
                  <a:lnTo>
                    <a:pt x="1701" y="644"/>
                  </a:lnTo>
                  <a:lnTo>
                    <a:pt x="1632" y="647"/>
                  </a:lnTo>
                  <a:lnTo>
                    <a:pt x="1560" y="649"/>
                  </a:lnTo>
                  <a:lnTo>
                    <a:pt x="1488" y="650"/>
                  </a:lnTo>
                  <a:lnTo>
                    <a:pt x="1415" y="650"/>
                  </a:lnTo>
                  <a:lnTo>
                    <a:pt x="1343" y="650"/>
                  </a:lnTo>
                  <a:lnTo>
                    <a:pt x="1271" y="649"/>
                  </a:lnTo>
                  <a:lnTo>
                    <a:pt x="1200" y="647"/>
                  </a:lnTo>
                  <a:lnTo>
                    <a:pt x="1131" y="644"/>
                  </a:lnTo>
                  <a:lnTo>
                    <a:pt x="1062" y="640"/>
                  </a:lnTo>
                  <a:lnTo>
                    <a:pt x="994" y="636"/>
                  </a:lnTo>
                  <a:lnTo>
                    <a:pt x="929" y="630"/>
                  </a:lnTo>
                  <a:lnTo>
                    <a:pt x="864" y="624"/>
                  </a:lnTo>
                  <a:lnTo>
                    <a:pt x="801" y="617"/>
                  </a:lnTo>
                  <a:lnTo>
                    <a:pt x="741" y="609"/>
                  </a:lnTo>
                  <a:lnTo>
                    <a:pt x="681" y="602"/>
                  </a:lnTo>
                  <a:lnTo>
                    <a:pt x="624" y="593"/>
                  </a:lnTo>
                  <a:lnTo>
                    <a:pt x="568" y="584"/>
                  </a:lnTo>
                  <a:lnTo>
                    <a:pt x="515" y="574"/>
                  </a:lnTo>
                  <a:lnTo>
                    <a:pt x="463" y="563"/>
                  </a:lnTo>
                  <a:lnTo>
                    <a:pt x="415" y="552"/>
                  </a:lnTo>
                  <a:lnTo>
                    <a:pt x="367" y="541"/>
                  </a:lnTo>
                  <a:lnTo>
                    <a:pt x="323" y="529"/>
                  </a:lnTo>
                  <a:lnTo>
                    <a:pt x="281" y="516"/>
                  </a:lnTo>
                  <a:lnTo>
                    <a:pt x="242" y="502"/>
                  </a:lnTo>
                  <a:lnTo>
                    <a:pt x="205" y="489"/>
                  </a:lnTo>
                  <a:lnTo>
                    <a:pt x="170" y="475"/>
                  </a:lnTo>
                  <a:lnTo>
                    <a:pt x="139" y="461"/>
                  </a:lnTo>
                  <a:lnTo>
                    <a:pt x="111" y="446"/>
                  </a:lnTo>
                  <a:lnTo>
                    <a:pt x="85" y="431"/>
                  </a:lnTo>
                  <a:lnTo>
                    <a:pt x="63" y="416"/>
                  </a:lnTo>
                  <a:lnTo>
                    <a:pt x="44" y="399"/>
                  </a:lnTo>
                  <a:lnTo>
                    <a:pt x="29" y="383"/>
                  </a:lnTo>
                  <a:lnTo>
                    <a:pt x="16" y="367"/>
                  </a:lnTo>
                  <a:lnTo>
                    <a:pt x="7" y="350"/>
                  </a:lnTo>
                  <a:lnTo>
                    <a:pt x="2" y="333"/>
                  </a:lnTo>
                  <a:lnTo>
                    <a:pt x="0" y="316"/>
                  </a:lnTo>
                  <a:lnTo>
                    <a:pt x="2" y="298"/>
                  </a:lnTo>
                  <a:lnTo>
                    <a:pt x="7" y="282"/>
                  </a:lnTo>
                  <a:lnTo>
                    <a:pt x="16" y="265"/>
                  </a:lnTo>
                  <a:lnTo>
                    <a:pt x="29" y="249"/>
                  </a:lnTo>
                  <a:lnTo>
                    <a:pt x="44" y="234"/>
                  </a:lnTo>
                  <a:lnTo>
                    <a:pt x="63" y="219"/>
                  </a:lnTo>
                  <a:lnTo>
                    <a:pt x="85" y="204"/>
                  </a:lnTo>
                  <a:lnTo>
                    <a:pt x="111" y="188"/>
                  </a:lnTo>
                  <a:lnTo>
                    <a:pt x="139" y="174"/>
                  </a:lnTo>
                  <a:lnTo>
                    <a:pt x="170" y="161"/>
                  </a:lnTo>
                  <a:lnTo>
                    <a:pt x="205" y="148"/>
                  </a:lnTo>
                  <a:lnTo>
                    <a:pt x="242" y="135"/>
                  </a:lnTo>
                  <a:lnTo>
                    <a:pt x="281" y="123"/>
                  </a:lnTo>
                  <a:lnTo>
                    <a:pt x="323" y="111"/>
                  </a:lnTo>
                  <a:lnTo>
                    <a:pt x="367" y="100"/>
                  </a:lnTo>
                  <a:lnTo>
                    <a:pt x="415" y="89"/>
                  </a:lnTo>
                  <a:lnTo>
                    <a:pt x="463" y="78"/>
                  </a:lnTo>
                  <a:lnTo>
                    <a:pt x="515" y="68"/>
                  </a:lnTo>
                  <a:lnTo>
                    <a:pt x="568" y="59"/>
                  </a:lnTo>
                  <a:lnTo>
                    <a:pt x="624" y="51"/>
                  </a:lnTo>
                  <a:lnTo>
                    <a:pt x="681" y="43"/>
                  </a:lnTo>
                  <a:lnTo>
                    <a:pt x="741" y="36"/>
                  </a:lnTo>
                  <a:lnTo>
                    <a:pt x="801" y="29"/>
                  </a:lnTo>
                  <a:lnTo>
                    <a:pt x="864" y="23"/>
                  </a:lnTo>
                  <a:lnTo>
                    <a:pt x="929" y="18"/>
                  </a:lnTo>
                  <a:lnTo>
                    <a:pt x="994" y="13"/>
                  </a:lnTo>
                  <a:lnTo>
                    <a:pt x="1062" y="9"/>
                  </a:lnTo>
                  <a:lnTo>
                    <a:pt x="1131" y="6"/>
                  </a:lnTo>
                  <a:lnTo>
                    <a:pt x="1200" y="3"/>
                  </a:lnTo>
                  <a:lnTo>
                    <a:pt x="1271" y="1"/>
                  </a:lnTo>
                  <a:lnTo>
                    <a:pt x="1343" y="0"/>
                  </a:lnTo>
                  <a:lnTo>
                    <a:pt x="1415" y="0"/>
                  </a:lnTo>
                  <a:lnTo>
                    <a:pt x="1488" y="0"/>
                  </a:lnTo>
                  <a:lnTo>
                    <a:pt x="1560" y="1"/>
                  </a:lnTo>
                  <a:lnTo>
                    <a:pt x="1632" y="3"/>
                  </a:lnTo>
                  <a:lnTo>
                    <a:pt x="1701" y="6"/>
                  </a:lnTo>
                  <a:lnTo>
                    <a:pt x="1769" y="9"/>
                  </a:lnTo>
                  <a:lnTo>
                    <a:pt x="1837" y="13"/>
                  </a:lnTo>
                  <a:lnTo>
                    <a:pt x="1902" y="18"/>
                  </a:lnTo>
                  <a:lnTo>
                    <a:pt x="1967" y="23"/>
                  </a:lnTo>
                  <a:lnTo>
                    <a:pt x="2030" y="29"/>
                  </a:lnTo>
                  <a:lnTo>
                    <a:pt x="2090" y="36"/>
                  </a:lnTo>
                  <a:lnTo>
                    <a:pt x="2150" y="43"/>
                  </a:lnTo>
                  <a:lnTo>
                    <a:pt x="2207" y="51"/>
                  </a:lnTo>
                  <a:lnTo>
                    <a:pt x="2263" y="59"/>
                  </a:lnTo>
                  <a:lnTo>
                    <a:pt x="2316" y="68"/>
                  </a:lnTo>
                  <a:lnTo>
                    <a:pt x="2368" y="78"/>
                  </a:lnTo>
                  <a:lnTo>
                    <a:pt x="2416" y="89"/>
                  </a:lnTo>
                  <a:lnTo>
                    <a:pt x="2464" y="100"/>
                  </a:lnTo>
                  <a:lnTo>
                    <a:pt x="2508" y="111"/>
                  </a:lnTo>
                  <a:lnTo>
                    <a:pt x="2550" y="123"/>
                  </a:lnTo>
                  <a:lnTo>
                    <a:pt x="2590" y="135"/>
                  </a:lnTo>
                  <a:lnTo>
                    <a:pt x="2626" y="148"/>
                  </a:lnTo>
                  <a:lnTo>
                    <a:pt x="2661" y="161"/>
                  </a:lnTo>
                  <a:lnTo>
                    <a:pt x="2692" y="174"/>
                  </a:lnTo>
                  <a:lnTo>
                    <a:pt x="2720" y="188"/>
                  </a:lnTo>
                  <a:lnTo>
                    <a:pt x="2746" y="204"/>
                  </a:lnTo>
                  <a:lnTo>
                    <a:pt x="2768" y="219"/>
                  </a:lnTo>
                  <a:lnTo>
                    <a:pt x="2787" y="234"/>
                  </a:lnTo>
                  <a:lnTo>
                    <a:pt x="2802" y="249"/>
                  </a:lnTo>
                  <a:lnTo>
                    <a:pt x="2815" y="265"/>
                  </a:lnTo>
                  <a:lnTo>
                    <a:pt x="2824" y="282"/>
                  </a:lnTo>
                  <a:lnTo>
                    <a:pt x="2829" y="298"/>
                  </a:lnTo>
                  <a:lnTo>
                    <a:pt x="2831" y="316"/>
                  </a:lnTo>
                  <a:close/>
                </a:path>
              </a:pathLst>
            </a:custGeom>
            <a:solidFill>
              <a:srgbClr val="fa40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d29"/>
            </a:gs>
            <a:gs pos="50000">
              <a:srgbClr val="003399"/>
            </a:gs>
            <a:gs pos="100000">
              <a:srgbClr val="000d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6840" y="-147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ackground: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04560" y="566280"/>
            <a:ext cx="84754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pproved recommendation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t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the disparate way in which Earth observing sensor parameters are specified and quoted,  and that the extra terrestrial community adopts a standard format, 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cognis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that proper use, understanding and intercomparison of sensor parameters depends on clear unambiguous definition,  WGCV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commend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that a task force be established with ISPRS to formulate a plan for standardisation of radiometric and geometric parameters of senso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Draft Terms of referenc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Helvetica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llect and collate lists of parameters used to describe Earth observing senso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Helvetica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 an analysis of these and recommend a standard list of parameters for presenting descriptions of EO satelli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Helvetica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dentify ambiguity and confusion within these terms and recommend methods and means of clarifying these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Helvetica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pare a document which sets out standard methods of describing EO sens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Helvetica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mmunicate and consult widely with the user commu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d29"/>
            </a:gs>
            <a:gs pos="50000">
              <a:srgbClr val="003399"/>
            </a:gs>
            <a:gs pos="100000">
              <a:srgbClr val="000d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6840" y="-9036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ackground continued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647280"/>
            <a:ext cx="8475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on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ppoint chai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minate memb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llect and distribute existing information (definitions, specifications, parameters of sensors, presentation of results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ick off meeting [Denver, November 2002 at ISPRS Symposium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ork by e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 hoc meetings at opportune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view by WGCV plenary and ISPRS working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29"/>
            </a:gs>
            <a:gs pos="50000">
              <a:srgbClr val="003399"/>
            </a:gs>
            <a:gs pos="100000">
              <a:srgbClr val="000d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ick-off meeting - ISPRS Denver Nov 0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475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~ 25 attendees (3 with CEOS declared affili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ives stated by Ian 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nsor specific cal/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eophysical valid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ust not duplicate other work or get bogged down in det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cus on User needs - not system desig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interact with satellite designers and oper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 completion how implemented / enforc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e passive microwave sensors and/or airborne sensors included.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29"/>
            </a:gs>
            <a:gs pos="50000">
              <a:srgbClr val="003399"/>
            </a:gs>
            <a:gs pos="100000">
              <a:srgbClr val="000d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fining scop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475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scientists compare data or senso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ant to focus not simply on data but also on produ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sues between produ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olog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terms of Cal/Val all steps in the chain must be comp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rocedures and protocols need to established and agre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parameters necessary to establish and maintain a “world class” reference test si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ft of scope and activities to be determined by ch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29"/>
            </a:gs>
            <a:gs pos="50000">
              <a:srgbClr val="003399"/>
            </a:gs>
            <a:gs pos="100000">
              <a:srgbClr val="000d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cope / activities / tim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475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im to develop a framework to help CEOS understand cal/val needs of the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duce a working doc for ISPRS congress in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mit scope to allow achiev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large a community should be survey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uce Davis of NASA Stennis “volunteered” to chair subject to approval and resource commitment of manag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n to present a draft scope for discussion as WGCV 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29"/>
            </a:gs>
            <a:gs pos="50000">
              <a:srgbClr val="003399"/>
            </a:gs>
            <a:gs pos="100000">
              <a:srgbClr val="000d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urrent statu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475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sa approved chairmanship (Jan 2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n to hold a workshop late 03 early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view sensor calibration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mote need for standardising “best practise” for radiometr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geometric calib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nchmark procedures of “Joint Agency for Commercial Imagery Evaluation” JACIE as a potential international standar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many WGCV people would serve on task for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many would attend meeting in Stenn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y further input on needs of CEOS for task fo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4T12:53:58Z</dcterms:created>
  <dc:creator>Preferred Customer</dc:creator>
  <dc:description/>
  <dc:language>en-US</dc:language>
  <cp:lastModifiedBy>Nigel Fox</cp:lastModifiedBy>
  <cp:lastPrinted>1998-08-26T10:40:18Z</cp:lastPrinted>
  <dcterms:modified xsi:type="dcterms:W3CDTF">2003-02-13T21:06:04Z</dcterms:modified>
  <cp:revision>180</cp:revision>
  <dc:subject/>
  <dc:title>No Slide Title</dc:title>
</cp:coreProperties>
</file>