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CC1-EB6E-485A-8292-BF8930CE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19F-C4FE-4F3C-8611-A60FC576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C48-ABF4-4FC8-AA23-E58BE663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C587-7159-4707-BAA0-275018E4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316-FAE1-4784-AC42-2F0A16F1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5A6-9C93-430D-B783-B2741BEC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B53-D4B3-44C4-9927-25FF1164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9C7-D13F-4556-B944-C070043B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163-F048-44A0-9FAB-721ECB24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EE2-D5EC-4237-99A0-E542B277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160-8828-4ACA-98F6-8C0078EE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F544-4A29-4A0A-9A6C-406B6F8F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560" y="15228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 Black"/>
                <a:ea typeface="隶书"/>
              </a:rPr>
              <a:t>CEOS  WGCV-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09680" y="64008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  <a:ea typeface="隶书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隶书"/>
              </a:rPr>
              <a:t>CENTER FOR SPACE SCIENCE AND APPLIED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904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09480" y="1219320"/>
            <a:ext cx="7848720" cy="37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hina Country Report to WGCV#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SIRO Marine Research, CSIRO Earth Observation Centr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tarctic Cooperative Research Centre,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asmania, Austr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2 - 14 February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iu Heguang  Jiang Jings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enter for Space Science &amp;Applied Research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hinese Academy of Sci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10760" y="76212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PAYLOAD APPLICA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Ian" descr=""/>
          <p:cNvPicPr/>
          <p:nvPr/>
        </p:nvPicPr>
        <p:blipFill>
          <a:blip r:embed="rId1"/>
          <a:stretch/>
        </p:blipFill>
        <p:spPr>
          <a:xfrm>
            <a:off x="985680" y="1214280"/>
            <a:ext cx="7102800" cy="48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65800" y="7477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61840" y="666720"/>
          <a:ext cx="7506000" cy="57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666720"/>
                    <a:ext cx="750600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678200" y="1647720"/>
            <a:ext cx="5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 MT Extra Bold"/>
              </a:rPr>
              <a:t>南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8920" y="171936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 MT Extra Bold"/>
              </a:rPr>
              <a:t>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 MT Extra Bold"/>
              </a:rPr>
              <a:t>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 MT Extra Bold"/>
              </a:rPr>
              <a:t>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59280" y="1143000"/>
            <a:ext cx="433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 MT Extra Bold"/>
              </a:rPr>
              <a:t>马达加斯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8560" y="1574640"/>
            <a:ext cx="36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 MT Extra Bold"/>
              </a:rPr>
              <a:t>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 MT Extra Bold"/>
              </a:rPr>
              <a:t>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42200" y="14320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 MT Extra Bold"/>
              </a:rPr>
              <a:t>中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99360" y="59436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First ti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62120" y="838080"/>
          <a:ext cx="7748640" cy="53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748640" cy="53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0560" y="55483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880" y="1219320"/>
          <a:ext cx="828036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2803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657960" y="762120"/>
            <a:ext cx="187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DATA OF 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5040" y="4876920"/>
            <a:ext cx="49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EA RETURN SIG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(50ms averag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25200">
            <a:off x="383040" y="1902600"/>
            <a:ext cx="130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turn Normal 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80000" y="4724280"/>
            <a:ext cx="130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Filter (0</a:t>
            </a: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6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跟踪曲线8" descr=""/>
          <p:cNvPicPr/>
          <p:nvPr/>
        </p:nvPicPr>
        <p:blipFill>
          <a:blip r:embed="rId1"/>
          <a:stretch/>
        </p:blipFill>
        <p:spPr>
          <a:xfrm>
            <a:off x="923760" y="1803240"/>
            <a:ext cx="7296480" cy="32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53000" y="9763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跟踪曲线9" descr=""/>
          <p:cNvPicPr/>
          <p:nvPr/>
        </p:nvPicPr>
        <p:blipFill>
          <a:blip r:embed="rId1"/>
          <a:stretch/>
        </p:blipFill>
        <p:spPr>
          <a:xfrm>
            <a:off x="898560" y="1803240"/>
            <a:ext cx="7346880" cy="32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81640" y="606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Ian" descr=""/>
          <p:cNvPicPr/>
          <p:nvPr/>
        </p:nvPicPr>
        <p:blipFill>
          <a:blip r:embed="rId1"/>
          <a:stretch/>
        </p:blipFill>
        <p:spPr>
          <a:xfrm>
            <a:off x="985680" y="839880"/>
            <a:ext cx="7129800" cy="53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438280"/>
            <a:ext cx="291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10x8x11M</a:t>
            </a:r>
            <a:r>
              <a:rPr b="1" lang="zh-CN" sz="2000" spc="-1" strike="noStrike" baseline="30000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MICRO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ANECHOIC 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an" descr=""/>
          <p:cNvPicPr/>
          <p:nvPr/>
        </p:nvPicPr>
        <p:blipFill>
          <a:blip r:embed="rId1"/>
          <a:stretch/>
        </p:blipFill>
        <p:spPr>
          <a:xfrm>
            <a:off x="3454560" y="301680"/>
            <a:ext cx="424152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9810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turn Signal Simulator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an" descr=""/>
          <p:cNvPicPr/>
          <p:nvPr/>
        </p:nvPicPr>
        <p:blipFill>
          <a:blip r:embed="rId1"/>
          <a:stretch/>
        </p:blipFill>
        <p:spPr>
          <a:xfrm>
            <a:off x="3656160" y="301680"/>
            <a:ext cx="410364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3360" y="762120"/>
            <a:ext cx="29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CALIBRATION OF 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an" descr=""/>
          <p:cNvPicPr/>
          <p:nvPr/>
        </p:nvPicPr>
        <p:blipFill>
          <a:blip r:embed="rId1"/>
          <a:stretch/>
        </p:blipFill>
        <p:spPr>
          <a:xfrm>
            <a:off x="985680" y="1214280"/>
            <a:ext cx="70930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59400" y="835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an" descr=""/>
          <p:cNvPicPr/>
          <p:nvPr/>
        </p:nvPicPr>
        <p:blipFill>
          <a:blip r:embed="rId1"/>
          <a:stretch/>
        </p:blipFill>
        <p:spPr>
          <a:xfrm>
            <a:off x="757080" y="547560"/>
            <a:ext cx="7778880" cy="569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81640" y="911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0" y="-3832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ble 1 Application parameters of 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85800" y="762120"/>
            <a:ext cx="7924320" cy="5486400"/>
            <a:chOff x="685800" y="762120"/>
            <a:chExt cx="7924320" cy="5486400"/>
          </a:xfrm>
        </p:grpSpPr>
        <p:grpSp>
          <p:nvGrpSpPr>
            <p:cNvPr id="109" name=""/>
            <p:cNvGrpSpPr/>
            <p:nvPr/>
          </p:nvGrpSpPr>
          <p:grpSpPr>
            <a:xfrm>
              <a:off x="690120" y="763200"/>
              <a:ext cx="7914240" cy="5483520"/>
              <a:chOff x="690120" y="763200"/>
              <a:chExt cx="7914240" cy="54835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690120" y="763200"/>
                <a:ext cx="1147680" cy="288360"/>
                <a:chOff x="690120" y="763200"/>
                <a:chExt cx="1147680" cy="2883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785520" y="763200"/>
                  <a:ext cx="957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Instru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90120" y="763200"/>
                  <a:ext cx="11476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838160" y="763200"/>
                <a:ext cx="3223080" cy="288360"/>
                <a:chOff x="1838160" y="763200"/>
                <a:chExt cx="3223080" cy="288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933560" y="763200"/>
                  <a:ext cx="30319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Measurement Paramete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38160" y="763200"/>
                  <a:ext cx="32230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061960" y="763200"/>
                <a:ext cx="3542400" cy="288360"/>
                <a:chOff x="5061960" y="763200"/>
                <a:chExt cx="3542400" cy="288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157360" y="763200"/>
                  <a:ext cx="3351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Designed Valu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061960" y="763200"/>
                  <a:ext cx="354240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90120" y="1051560"/>
                <a:ext cx="1147680" cy="1334160"/>
                <a:chOff x="690120" y="1051560"/>
                <a:chExt cx="1147680" cy="1334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785520" y="1051560"/>
                  <a:ext cx="957240" cy="133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L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90120" y="1051560"/>
                  <a:ext cx="1147680" cy="133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1838160" y="1051560"/>
                <a:ext cx="3223080" cy="342000"/>
                <a:chOff x="1838160" y="1051560"/>
                <a:chExt cx="322308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933560" y="1051560"/>
                  <a:ext cx="30319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ccuracy of average sea surface height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838160" y="1051560"/>
                  <a:ext cx="322308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061960" y="1051560"/>
                <a:ext cx="3542400" cy="342000"/>
                <a:chOff x="5061960" y="1051560"/>
                <a:chExt cx="354240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157360" y="1051560"/>
                  <a:ext cx="33512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0cm (after atmosphere and orbit calibration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4.5cm (instrument error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061960" y="1051560"/>
                  <a:ext cx="354240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838160" y="1393920"/>
                <a:ext cx="3223080" cy="288360"/>
                <a:chOff x="1838160" y="1393920"/>
                <a:chExt cx="3223080" cy="2883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933560" y="1393920"/>
                  <a:ext cx="30319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Precision of backscatter coefficient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838160" y="1393920"/>
                  <a:ext cx="32230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061960" y="1393920"/>
                <a:ext cx="3542400" cy="288360"/>
                <a:chOff x="5061960" y="1393920"/>
                <a:chExt cx="3542400" cy="2883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157360" y="1393920"/>
                  <a:ext cx="3351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dB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061960" y="1393920"/>
                  <a:ext cx="354240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838160" y="1682640"/>
                <a:ext cx="3223080" cy="234360"/>
                <a:chOff x="1838160" y="1682640"/>
                <a:chExt cx="3223080" cy="2343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933560" y="168264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Range of SW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838160" y="168264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061960" y="1682640"/>
                <a:ext cx="3542400" cy="234360"/>
                <a:chOff x="5061960" y="1682640"/>
                <a:chExt cx="3542400" cy="2343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157360" y="168264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~20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061960" y="168264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1838160" y="1917000"/>
                <a:ext cx="3223080" cy="234360"/>
                <a:chOff x="1838160" y="1917000"/>
                <a:chExt cx="3223080" cy="2343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933560" y="191700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ccuracy of SW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838160" y="191700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061960" y="1917000"/>
                <a:ext cx="3542400" cy="234360"/>
                <a:chOff x="5061960" y="1917000"/>
                <a:chExt cx="3542400" cy="2343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5157360" y="191700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The greater of 0.5m and 10% SW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061960" y="191700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838160" y="2151720"/>
                <a:ext cx="3223080" cy="234360"/>
                <a:chOff x="1838160" y="2151720"/>
                <a:chExt cx="3223080" cy="2343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933560" y="215172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Center frequency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838160" y="215172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061960" y="2151720"/>
                <a:ext cx="3542400" cy="234360"/>
                <a:chOff x="5061960" y="2151720"/>
                <a:chExt cx="3542400" cy="2343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157360" y="215172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3.9GHz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061960" y="215172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90120" y="2386080"/>
                <a:ext cx="1147680" cy="2688120"/>
                <a:chOff x="690120" y="2386080"/>
                <a:chExt cx="1147680" cy="26881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85520" y="2386080"/>
                  <a:ext cx="957240" cy="268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CA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90120" y="2386080"/>
                  <a:ext cx="1147680" cy="2688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1838160" y="2386080"/>
                <a:ext cx="3223080" cy="234360"/>
                <a:chOff x="1838160" y="2386080"/>
                <a:chExt cx="3223080" cy="2343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933560" y="238608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Range of wind spee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38160" y="238608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061960" y="2386080"/>
                <a:ext cx="3542400" cy="234360"/>
                <a:chOff x="5061960" y="2386080"/>
                <a:chExt cx="3542400" cy="2343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157360" y="238608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4~24m/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1960" y="238608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1838160" y="2620800"/>
                <a:ext cx="3223080" cy="288360"/>
                <a:chOff x="1838160" y="2620800"/>
                <a:chExt cx="3223080" cy="2883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933560" y="2620800"/>
                  <a:ext cx="30319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ccuracy of wind spee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838160" y="2620800"/>
                  <a:ext cx="32230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061960" y="2620800"/>
                <a:ext cx="3542400" cy="288360"/>
                <a:chOff x="5061960" y="2620800"/>
                <a:chExt cx="3542400" cy="2883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157360" y="2620800"/>
                  <a:ext cx="3351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The greater of 2m/s and 10% wind spee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061960" y="2620800"/>
                  <a:ext cx="354240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1838160" y="2909160"/>
                <a:ext cx="3223080" cy="234360"/>
                <a:chOff x="1838160" y="2909160"/>
                <a:chExt cx="3223080" cy="234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1933560" y="290916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Range of wind direc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838160" y="290916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5061960" y="2909160"/>
                <a:ext cx="3542400" cy="234360"/>
                <a:chOff x="5061960" y="2909160"/>
                <a:chExt cx="3542400" cy="2343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57360" y="290916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0~360de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061960" y="290916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1838160" y="3143880"/>
                <a:ext cx="3223080" cy="234360"/>
                <a:chOff x="1838160" y="3143880"/>
                <a:chExt cx="3223080" cy="2343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933560" y="314388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ccuracy of wind direc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38160" y="314388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061960" y="3143880"/>
                <a:ext cx="3542400" cy="234360"/>
                <a:chOff x="5061960" y="3143880"/>
                <a:chExt cx="3542400" cy="2343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157360" y="314388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Less than 20 degre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061960" y="314388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838160" y="3378240"/>
                <a:ext cx="3223080" cy="288360"/>
                <a:chOff x="1838160" y="3378240"/>
                <a:chExt cx="3223080" cy="2883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933560" y="3378240"/>
                  <a:ext cx="30319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Precision of backscatter coeffici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838160" y="3378240"/>
                  <a:ext cx="32230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061960" y="3378240"/>
                <a:ext cx="3542400" cy="288360"/>
                <a:chOff x="5061960" y="3378240"/>
                <a:chExt cx="3542400" cy="2883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157360" y="3378240"/>
                  <a:ext cx="3351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dB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61960" y="3378240"/>
                  <a:ext cx="354240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838160" y="3666960"/>
                <a:ext cx="3223080" cy="234360"/>
                <a:chOff x="1838160" y="3666960"/>
                <a:chExt cx="3223080" cy="2343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1933560" y="366696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Range of backscatter coeffici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838160" y="366696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061960" y="3666960"/>
                <a:ext cx="3542400" cy="234360"/>
                <a:chOff x="5061960" y="3666960"/>
                <a:chExt cx="3542400" cy="2343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7360" y="366696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-40~+20dB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061960" y="366696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838160" y="3901320"/>
                <a:ext cx="3223080" cy="234360"/>
                <a:chOff x="1838160" y="3901320"/>
                <a:chExt cx="3223080" cy="2343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33560" y="390132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wath width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838160" y="390132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061960" y="3901320"/>
                <a:ext cx="3542400" cy="234360"/>
                <a:chOff x="5061960" y="3901320"/>
                <a:chExt cx="3542400" cy="23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157360" y="390132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50k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061960" y="390132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1838160" y="4136040"/>
                <a:ext cx="3223080" cy="234360"/>
                <a:chOff x="1838160" y="4136040"/>
                <a:chExt cx="3223080" cy="234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933560" y="413604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Spatial reso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838160" y="413604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061960" y="4136040"/>
                <a:ext cx="3542400" cy="234360"/>
                <a:chOff x="5061960" y="4136040"/>
                <a:chExt cx="3542400" cy="2343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157360" y="413604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50k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061960" y="413604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1838160" y="4370760"/>
                <a:ext cx="3223080" cy="234360"/>
                <a:chOff x="1838160" y="4370760"/>
                <a:chExt cx="3223080" cy="2343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933560" y="437076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Polariza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38160" y="437076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5061960" y="4370760"/>
                <a:ext cx="3542400" cy="234360"/>
                <a:chOff x="5061960" y="4370760"/>
                <a:chExt cx="3542400" cy="2343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157360" y="437076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VV, HH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061960" y="437076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1838160" y="4605120"/>
                <a:ext cx="3223080" cy="234360"/>
                <a:chOff x="1838160" y="4605120"/>
                <a:chExt cx="3223080" cy="2343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933560" y="460512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Center frequenc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838160" y="460512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061960" y="4605120"/>
                <a:ext cx="3542400" cy="234360"/>
                <a:chOff x="5061960" y="4605120"/>
                <a:chExt cx="3542400" cy="2343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157360" y="460512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3.9GHz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061960" y="460512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1838160" y="4839480"/>
                <a:ext cx="3223080" cy="234360"/>
                <a:chOff x="1838160" y="4839480"/>
                <a:chExt cx="3223080" cy="2343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933560" y="483948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Incident angl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838160" y="483948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061960" y="4839480"/>
                <a:ext cx="3542400" cy="234360"/>
                <a:chOff x="5061960" y="4839480"/>
                <a:chExt cx="3542400" cy="2343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157360" y="483948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37de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061960" y="483948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90120" y="5074200"/>
                <a:ext cx="1147680" cy="1172520"/>
                <a:chOff x="690120" y="5074200"/>
                <a:chExt cx="1147680" cy="11725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785520" y="5074200"/>
                  <a:ext cx="957240" cy="117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RA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90120" y="5074200"/>
                  <a:ext cx="1147680" cy="117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838160" y="5074200"/>
                <a:ext cx="3223080" cy="234360"/>
                <a:chOff x="1838160" y="5074200"/>
                <a:chExt cx="3223080" cy="234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933560" y="507420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Radiometric preci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838160" y="507420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061960" y="5074200"/>
                <a:ext cx="3542400" cy="234360"/>
                <a:chOff x="5061960" y="5074200"/>
                <a:chExt cx="3542400" cy="2343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157360" y="507420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K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061960" y="507420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838160" y="5308920"/>
                <a:ext cx="3223080" cy="234360"/>
                <a:chOff x="1838160" y="5308920"/>
                <a:chExt cx="3223080" cy="2343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933560" y="530892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Range of brightness temperatur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838160" y="530892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5061960" y="5308920"/>
                <a:ext cx="3542400" cy="234360"/>
                <a:chOff x="5061960" y="5308920"/>
                <a:chExt cx="3542400" cy="2343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157360" y="530892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00~330K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061960" y="530892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838160" y="5543280"/>
                <a:ext cx="3223080" cy="234360"/>
                <a:chOff x="1838160" y="5543280"/>
                <a:chExt cx="3223080" cy="2343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933560" y="554328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Integration tim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838160" y="554328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5061960" y="5543280"/>
                <a:ext cx="3542400" cy="234360"/>
                <a:chOff x="5061960" y="5543280"/>
                <a:chExt cx="3542400" cy="2343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5157360" y="554328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00m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61960" y="554328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838160" y="5778000"/>
                <a:ext cx="3223080" cy="234360"/>
                <a:chOff x="1838160" y="5778000"/>
                <a:chExt cx="3223080" cy="2343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933560" y="577800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Incident angl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838160" y="577800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061960" y="5778000"/>
                <a:ext cx="3542400" cy="234360"/>
                <a:chOff x="5061960" y="5778000"/>
                <a:chExt cx="3542400" cy="2343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157360" y="577800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40de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061960" y="577800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838160" y="6012360"/>
                <a:ext cx="3223080" cy="234360"/>
                <a:chOff x="1838160" y="6012360"/>
                <a:chExt cx="3223080" cy="2343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933560" y="6012360"/>
                  <a:ext cx="303192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A/D bi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838160" y="6012360"/>
                  <a:ext cx="322308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5061960" y="6012360"/>
                <a:ext cx="3542400" cy="234360"/>
                <a:chOff x="5061960" y="6012360"/>
                <a:chExt cx="3542400" cy="2343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5157360" y="6012360"/>
                  <a:ext cx="3351240" cy="23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Arial Unicode MS"/>
                      <a:ea typeface="Arial Unicode MS"/>
                    </a:rPr>
                    <a:t>12bit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061960" y="6012360"/>
                  <a:ext cx="3542400" cy="23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4" name=""/>
            <p:cNvSpPr/>
            <p:nvPr/>
          </p:nvSpPr>
          <p:spPr>
            <a:xfrm>
              <a:off x="685800" y="762120"/>
              <a:ext cx="7924320" cy="54864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352680" y="45720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 1 Application parameters of M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81640" y="606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38200" y="528480"/>
            <a:ext cx="8143200" cy="5870880"/>
            <a:chOff x="538200" y="528480"/>
            <a:chExt cx="8143200" cy="5870880"/>
          </a:xfrm>
        </p:grpSpPr>
        <p:grpSp>
          <p:nvGrpSpPr>
            <p:cNvPr id="259" name=""/>
            <p:cNvGrpSpPr/>
            <p:nvPr/>
          </p:nvGrpSpPr>
          <p:grpSpPr>
            <a:xfrm>
              <a:off x="538200" y="528480"/>
              <a:ext cx="1077120" cy="186120"/>
              <a:chOff x="538200" y="528480"/>
              <a:chExt cx="1077120" cy="186120"/>
            </a:xfrm>
          </p:grpSpPr>
          <p:sp>
            <p:nvSpPr>
              <p:cNvPr id="260" name=""/>
              <p:cNvSpPr/>
              <p:nvPr/>
            </p:nvSpPr>
            <p:spPr>
              <a:xfrm>
                <a:off x="627480" y="528480"/>
                <a:ext cx="89856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Instru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38200" y="528480"/>
                <a:ext cx="107712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1615680" y="528480"/>
              <a:ext cx="3174480" cy="186120"/>
              <a:chOff x="1615680" y="528480"/>
              <a:chExt cx="3174480" cy="186120"/>
            </a:xfrm>
          </p:grpSpPr>
          <p:sp>
            <p:nvSpPr>
              <p:cNvPr id="263" name=""/>
              <p:cNvSpPr/>
              <p:nvPr/>
            </p:nvSpPr>
            <p:spPr>
              <a:xfrm>
                <a:off x="1705320" y="528480"/>
                <a:ext cx="299556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ystem Parame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15680" y="528480"/>
                <a:ext cx="317448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4790520" y="528480"/>
              <a:ext cx="3890520" cy="186120"/>
              <a:chOff x="4790520" y="528480"/>
              <a:chExt cx="3890520" cy="186120"/>
            </a:xfrm>
          </p:grpSpPr>
          <p:sp>
            <p:nvSpPr>
              <p:cNvPr id="266" name=""/>
              <p:cNvSpPr/>
              <p:nvPr/>
            </p:nvSpPr>
            <p:spPr>
              <a:xfrm>
                <a:off x="4879800" y="528480"/>
                <a:ext cx="37112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Designed Valu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90520" y="528480"/>
                <a:ext cx="389052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538200" y="714600"/>
              <a:ext cx="1077120" cy="2306880"/>
              <a:chOff x="538200" y="714600"/>
              <a:chExt cx="1077120" cy="230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627480" y="714600"/>
                <a:ext cx="898560" cy="230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AL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38200" y="714600"/>
                <a:ext cx="1077120" cy="230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615680" y="714600"/>
              <a:ext cx="3174480" cy="151200"/>
              <a:chOff x="1615680" y="714600"/>
              <a:chExt cx="3174480" cy="151200"/>
            </a:xfrm>
          </p:grpSpPr>
          <p:sp>
            <p:nvSpPr>
              <p:cNvPr id="272" name=""/>
              <p:cNvSpPr/>
              <p:nvPr/>
            </p:nvSpPr>
            <p:spPr>
              <a:xfrm>
                <a:off x="1705320" y="71460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ak transmit pow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15680" y="71460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4790520" y="714600"/>
              <a:ext cx="3890520" cy="151200"/>
              <a:chOff x="4790520" y="714600"/>
              <a:chExt cx="3890520" cy="151200"/>
            </a:xfrm>
          </p:grpSpPr>
          <p:sp>
            <p:nvSpPr>
              <p:cNvPr id="275" name=""/>
              <p:cNvSpPr/>
              <p:nvPr/>
            </p:nvSpPr>
            <p:spPr>
              <a:xfrm>
                <a:off x="4879800" y="71460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58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790520" y="71460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615680" y="866160"/>
              <a:ext cx="3174480" cy="151200"/>
              <a:chOff x="1615680" y="866160"/>
              <a:chExt cx="3174480" cy="151200"/>
            </a:xfrm>
          </p:grpSpPr>
          <p:sp>
            <p:nvSpPr>
              <p:cNvPr id="278" name=""/>
              <p:cNvSpPr/>
              <p:nvPr/>
            </p:nvSpPr>
            <p:spPr>
              <a:xfrm>
                <a:off x="1705320" y="86616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Transmit pulse widt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15680" y="86616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790520" y="866160"/>
              <a:ext cx="3890520" cy="151200"/>
              <a:chOff x="4790520" y="866160"/>
              <a:chExt cx="3890520" cy="151200"/>
            </a:xfrm>
          </p:grpSpPr>
          <p:sp>
            <p:nvSpPr>
              <p:cNvPr id="281" name=""/>
              <p:cNvSpPr/>
              <p:nvPr/>
            </p:nvSpPr>
            <p:spPr>
              <a:xfrm>
                <a:off x="4879800" y="86616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24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0520" y="86616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1615680" y="1017720"/>
              <a:ext cx="3174480" cy="151200"/>
              <a:chOff x="1615680" y="1017720"/>
              <a:chExt cx="3174480" cy="151200"/>
            </a:xfrm>
          </p:grpSpPr>
          <p:sp>
            <p:nvSpPr>
              <p:cNvPr id="284" name=""/>
              <p:cNvSpPr/>
              <p:nvPr/>
            </p:nvSpPr>
            <p:spPr>
              <a:xfrm>
                <a:off x="1705320" y="101772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Transmit pulse bandwidt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615680" y="101772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790520" y="1017720"/>
              <a:ext cx="3890520" cy="151200"/>
              <a:chOff x="4790520" y="1017720"/>
              <a:chExt cx="3890520" cy="151200"/>
            </a:xfrm>
          </p:grpSpPr>
          <p:sp>
            <p:nvSpPr>
              <p:cNvPr id="287" name=""/>
              <p:cNvSpPr/>
              <p:nvPr/>
            </p:nvSpPr>
            <p:spPr>
              <a:xfrm>
                <a:off x="4879800" y="101772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333MHz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790520" y="101772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615680" y="1168920"/>
              <a:ext cx="3174480" cy="151200"/>
              <a:chOff x="1615680" y="1168920"/>
              <a:chExt cx="3174480" cy="151200"/>
            </a:xfrm>
          </p:grpSpPr>
          <p:sp>
            <p:nvSpPr>
              <p:cNvPr id="290" name=""/>
              <p:cNvSpPr/>
              <p:nvPr/>
            </p:nvSpPr>
            <p:spPr>
              <a:xfrm>
                <a:off x="1705320" y="116892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ompressed pulse widt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615680" y="116892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90520" y="1168920"/>
              <a:ext cx="3890520" cy="151200"/>
              <a:chOff x="4790520" y="1168920"/>
              <a:chExt cx="3890520" cy="151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879800" y="116892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3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90520" y="116892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615680" y="1320480"/>
              <a:ext cx="3174480" cy="151200"/>
              <a:chOff x="1615680" y="1320480"/>
              <a:chExt cx="3174480" cy="151200"/>
            </a:xfrm>
          </p:grpSpPr>
          <p:sp>
            <p:nvSpPr>
              <p:cNvPr id="296" name=""/>
              <p:cNvSpPr/>
              <p:nvPr/>
            </p:nvSpPr>
            <p:spPr>
              <a:xfrm>
                <a:off x="1705320" y="132048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T/R antenna gai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615680" y="132048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4790520" y="1320480"/>
              <a:ext cx="3890520" cy="151200"/>
              <a:chOff x="4790520" y="1320480"/>
              <a:chExt cx="3890520" cy="151200"/>
            </a:xfrm>
          </p:grpSpPr>
          <p:sp>
            <p:nvSpPr>
              <p:cNvPr id="299" name=""/>
              <p:cNvSpPr/>
              <p:nvPr/>
            </p:nvSpPr>
            <p:spPr>
              <a:xfrm>
                <a:off x="4879800" y="132048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69dBi (two-way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90520" y="132048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1615680" y="1472040"/>
              <a:ext cx="3174480" cy="151200"/>
              <a:chOff x="1615680" y="1472040"/>
              <a:chExt cx="3174480" cy="151200"/>
            </a:xfrm>
          </p:grpSpPr>
          <p:sp>
            <p:nvSpPr>
              <p:cNvPr id="302" name=""/>
              <p:cNvSpPr/>
              <p:nvPr/>
            </p:nvSpPr>
            <p:spPr>
              <a:xfrm>
                <a:off x="1705320" y="147204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Antenna 3dB beamwidt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15680" y="147204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790520" y="1472040"/>
              <a:ext cx="3890520" cy="151200"/>
              <a:chOff x="4790520" y="1472040"/>
              <a:chExt cx="3890520" cy="151200"/>
            </a:xfrm>
          </p:grpSpPr>
          <p:sp>
            <p:nvSpPr>
              <p:cNvPr id="305" name=""/>
              <p:cNvSpPr/>
              <p:nvPr/>
            </p:nvSpPr>
            <p:spPr>
              <a:xfrm>
                <a:off x="4879800" y="147204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2.6de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90520" y="147204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615680" y="1623600"/>
              <a:ext cx="3174480" cy="151200"/>
              <a:chOff x="1615680" y="1623600"/>
              <a:chExt cx="3174480" cy="151200"/>
            </a:xfrm>
          </p:grpSpPr>
          <p:sp>
            <p:nvSpPr>
              <p:cNvPr id="308" name=""/>
              <p:cNvSpPr/>
              <p:nvPr/>
            </p:nvSpPr>
            <p:spPr>
              <a:xfrm>
                <a:off x="1705320" y="162360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R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615680" y="162360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790520" y="1623600"/>
              <a:ext cx="3890520" cy="151200"/>
              <a:chOff x="4790520" y="1623600"/>
              <a:chExt cx="3890520" cy="151200"/>
            </a:xfrm>
          </p:grpSpPr>
          <p:sp>
            <p:nvSpPr>
              <p:cNvPr id="311" name=""/>
              <p:cNvSpPr/>
              <p:nvPr/>
            </p:nvSpPr>
            <p:spPr>
              <a:xfrm>
                <a:off x="4879800" y="162360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1.23kHz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90520" y="162360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1615680" y="1774800"/>
              <a:ext cx="3174480" cy="151200"/>
              <a:chOff x="1615680" y="1774800"/>
              <a:chExt cx="3174480" cy="151200"/>
            </a:xfrm>
          </p:grpSpPr>
          <p:sp>
            <p:nvSpPr>
              <p:cNvPr id="314" name=""/>
              <p:cNvSpPr/>
              <p:nvPr/>
            </p:nvSpPr>
            <p:spPr>
              <a:xfrm>
                <a:off x="1705320" y="177480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Receiver noise figur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15680" y="177480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790520" y="1774800"/>
              <a:ext cx="3890520" cy="151200"/>
              <a:chOff x="4790520" y="1774800"/>
              <a:chExt cx="3890520" cy="151200"/>
            </a:xfrm>
          </p:grpSpPr>
          <p:sp>
            <p:nvSpPr>
              <p:cNvPr id="317" name=""/>
              <p:cNvSpPr/>
              <p:nvPr/>
            </p:nvSpPr>
            <p:spPr>
              <a:xfrm>
                <a:off x="4879800" y="177480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5.5d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790520" y="177480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1615680" y="1926360"/>
              <a:ext cx="3174480" cy="186120"/>
              <a:chOff x="1615680" y="1926360"/>
              <a:chExt cx="3174480" cy="186120"/>
            </a:xfrm>
          </p:grpSpPr>
          <p:sp>
            <p:nvSpPr>
              <p:cNvPr id="320" name=""/>
              <p:cNvSpPr/>
              <p:nvPr/>
            </p:nvSpPr>
            <p:spPr>
              <a:xfrm>
                <a:off x="1705320" y="1926360"/>
                <a:ext cx="299556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Type of track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615680" y="1926360"/>
                <a:ext cx="317448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790520" y="1926360"/>
              <a:ext cx="3890520" cy="186120"/>
              <a:chOff x="4790520" y="1926360"/>
              <a:chExt cx="3890520" cy="186120"/>
            </a:xfrm>
          </p:grpSpPr>
          <p:sp>
            <p:nvSpPr>
              <p:cNvPr id="323" name=""/>
              <p:cNvSpPr/>
              <p:nvPr/>
            </p:nvSpPr>
            <p:spPr>
              <a:xfrm>
                <a:off x="4879800" y="1926360"/>
                <a:ext cx="37112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Qusi-maximum likelihood and gravity center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0520" y="1926360"/>
                <a:ext cx="389052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15680" y="2112840"/>
              <a:ext cx="3174480" cy="151200"/>
              <a:chOff x="1615680" y="2112840"/>
              <a:chExt cx="3174480" cy="1512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05320" y="211284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Type of pulse compress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615680" y="211284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4790520" y="2112840"/>
              <a:ext cx="3890520" cy="151200"/>
              <a:chOff x="4790520" y="2112840"/>
              <a:chExt cx="3890520" cy="151200"/>
            </a:xfrm>
          </p:grpSpPr>
          <p:sp>
            <p:nvSpPr>
              <p:cNvPr id="329" name=""/>
              <p:cNvSpPr/>
              <p:nvPr/>
            </p:nvSpPr>
            <p:spPr>
              <a:xfrm>
                <a:off x="4879800" y="211284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Full-deram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90520" y="211284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1615680" y="2264040"/>
              <a:ext cx="3174480" cy="151200"/>
              <a:chOff x="1615680" y="2264040"/>
              <a:chExt cx="3174480" cy="151200"/>
            </a:xfrm>
          </p:grpSpPr>
          <p:sp>
            <p:nvSpPr>
              <p:cNvPr id="332" name=""/>
              <p:cNvSpPr/>
              <p:nvPr/>
            </p:nvSpPr>
            <p:spPr>
              <a:xfrm>
                <a:off x="1705320" y="226404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Range process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615680" y="226404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4790520" y="2264040"/>
              <a:ext cx="3890520" cy="151200"/>
              <a:chOff x="4790520" y="2264040"/>
              <a:chExt cx="3890520" cy="151200"/>
            </a:xfrm>
          </p:grpSpPr>
          <p:sp>
            <p:nvSpPr>
              <p:cNvPr id="335" name=""/>
              <p:cNvSpPr/>
              <p:nvPr/>
            </p:nvSpPr>
            <p:spPr>
              <a:xfrm>
                <a:off x="4879800" y="226404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FFT spectrum analyz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790520" y="226404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1615680" y="2415600"/>
              <a:ext cx="3174480" cy="151200"/>
              <a:chOff x="1615680" y="2415600"/>
              <a:chExt cx="3174480" cy="151200"/>
            </a:xfrm>
          </p:grpSpPr>
          <p:sp>
            <p:nvSpPr>
              <p:cNvPr id="338" name=""/>
              <p:cNvSpPr/>
              <p:nvPr/>
            </p:nvSpPr>
            <p:spPr>
              <a:xfrm>
                <a:off x="1705320" y="241560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Output of fil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615680" y="241560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4790520" y="2415600"/>
              <a:ext cx="3890520" cy="151200"/>
              <a:chOff x="4790520" y="2415600"/>
              <a:chExt cx="3890520" cy="151200"/>
            </a:xfrm>
          </p:grpSpPr>
          <p:sp>
            <p:nvSpPr>
              <p:cNvPr id="341" name=""/>
              <p:cNvSpPr/>
              <p:nvPr/>
            </p:nvSpPr>
            <p:spPr>
              <a:xfrm>
                <a:off x="4879800" y="241560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6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790520" y="241560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1615680" y="2567160"/>
              <a:ext cx="3174480" cy="151200"/>
              <a:chOff x="1615680" y="2567160"/>
              <a:chExt cx="3174480" cy="151200"/>
            </a:xfrm>
          </p:grpSpPr>
          <p:sp>
            <p:nvSpPr>
              <p:cNvPr id="344" name=""/>
              <p:cNvSpPr/>
              <p:nvPr/>
            </p:nvSpPr>
            <p:spPr>
              <a:xfrm>
                <a:off x="1705320" y="256716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Base bandwidt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15680" y="256716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4790520" y="2567160"/>
              <a:ext cx="3890520" cy="151200"/>
              <a:chOff x="4790520" y="2567160"/>
              <a:chExt cx="3890520" cy="151200"/>
            </a:xfrm>
          </p:grpSpPr>
          <p:sp>
            <p:nvSpPr>
              <p:cNvPr id="347" name=""/>
              <p:cNvSpPr/>
              <p:nvPr/>
            </p:nvSpPr>
            <p:spPr>
              <a:xfrm>
                <a:off x="4879800" y="256716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1.35MHz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790520" y="256716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615680" y="2718720"/>
              <a:ext cx="3174480" cy="151200"/>
              <a:chOff x="1615680" y="2718720"/>
              <a:chExt cx="3174480" cy="151200"/>
            </a:xfrm>
          </p:grpSpPr>
          <p:sp>
            <p:nvSpPr>
              <p:cNvPr id="350" name=""/>
              <p:cNvSpPr/>
              <p:nvPr/>
            </p:nvSpPr>
            <p:spPr>
              <a:xfrm>
                <a:off x="1705320" y="271872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Bandwidth of filter outpu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15680" y="271872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4790520" y="2718720"/>
              <a:ext cx="3890520" cy="151200"/>
              <a:chOff x="4790520" y="2718720"/>
              <a:chExt cx="3890520" cy="151200"/>
            </a:xfrm>
          </p:grpSpPr>
          <p:sp>
            <p:nvSpPr>
              <p:cNvPr id="353" name=""/>
              <p:cNvSpPr/>
              <p:nvPr/>
            </p:nvSpPr>
            <p:spPr>
              <a:xfrm>
                <a:off x="4879800" y="271872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42kHz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90520" y="271872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1615680" y="2870280"/>
              <a:ext cx="3174480" cy="151200"/>
              <a:chOff x="1615680" y="2870280"/>
              <a:chExt cx="3174480" cy="151200"/>
            </a:xfrm>
          </p:grpSpPr>
          <p:sp>
            <p:nvSpPr>
              <p:cNvPr id="356" name=""/>
              <p:cNvSpPr/>
              <p:nvPr/>
            </p:nvSpPr>
            <p:spPr>
              <a:xfrm>
                <a:off x="1705320" y="287028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ampling rat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15680" y="287028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4790520" y="2870280"/>
              <a:ext cx="3890520" cy="151200"/>
              <a:chOff x="4790520" y="2870280"/>
              <a:chExt cx="3890520" cy="151200"/>
            </a:xfrm>
          </p:grpSpPr>
          <p:sp>
            <p:nvSpPr>
              <p:cNvPr id="359" name=""/>
              <p:cNvSpPr/>
              <p:nvPr/>
            </p:nvSpPr>
            <p:spPr>
              <a:xfrm>
                <a:off x="4879800" y="287028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2.7MHz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790520" y="287028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38200" y="3021480"/>
              <a:ext cx="1077120" cy="1701000"/>
              <a:chOff x="538200" y="3021480"/>
              <a:chExt cx="1077120" cy="1701000"/>
            </a:xfrm>
          </p:grpSpPr>
          <p:sp>
            <p:nvSpPr>
              <p:cNvPr id="362" name=""/>
              <p:cNvSpPr/>
              <p:nvPr/>
            </p:nvSpPr>
            <p:spPr>
              <a:xfrm>
                <a:off x="627480" y="3021480"/>
                <a:ext cx="898560" cy="170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CA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8200" y="3021480"/>
                <a:ext cx="1077120" cy="170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1615680" y="3021480"/>
              <a:ext cx="3174480" cy="151200"/>
              <a:chOff x="1615680" y="3021480"/>
              <a:chExt cx="3174480" cy="151200"/>
            </a:xfrm>
          </p:grpSpPr>
          <p:sp>
            <p:nvSpPr>
              <p:cNvPr id="365" name=""/>
              <p:cNvSpPr/>
              <p:nvPr/>
            </p:nvSpPr>
            <p:spPr>
              <a:xfrm>
                <a:off x="1705320" y="302148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eak transmit pow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615680" y="302148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4790520" y="3021480"/>
              <a:ext cx="3890520" cy="151200"/>
              <a:chOff x="4790520" y="3021480"/>
              <a:chExt cx="3890520" cy="151200"/>
            </a:xfrm>
          </p:grpSpPr>
          <p:sp>
            <p:nvSpPr>
              <p:cNvPr id="368" name=""/>
              <p:cNvSpPr/>
              <p:nvPr/>
            </p:nvSpPr>
            <p:spPr>
              <a:xfrm>
                <a:off x="4879800" y="302148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100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90520" y="302148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1615680" y="3173040"/>
              <a:ext cx="3174480" cy="151200"/>
              <a:chOff x="1615680" y="3173040"/>
              <a:chExt cx="3174480" cy="151200"/>
            </a:xfrm>
          </p:grpSpPr>
          <p:sp>
            <p:nvSpPr>
              <p:cNvPr id="371" name=""/>
              <p:cNvSpPr/>
              <p:nvPr/>
            </p:nvSpPr>
            <p:spPr>
              <a:xfrm>
                <a:off x="1705320" y="317304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Antenna gai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615680" y="317304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4790520" y="3173040"/>
              <a:ext cx="3890520" cy="151200"/>
              <a:chOff x="4790520" y="3173040"/>
              <a:chExt cx="3890520" cy="151200"/>
            </a:xfrm>
          </p:grpSpPr>
          <p:sp>
            <p:nvSpPr>
              <p:cNvPr id="374" name=""/>
              <p:cNvSpPr/>
              <p:nvPr/>
            </p:nvSpPr>
            <p:spPr>
              <a:xfrm>
                <a:off x="4879800" y="317304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69dBi(two-way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790520" y="317304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1615680" y="3324600"/>
              <a:ext cx="3174480" cy="151200"/>
              <a:chOff x="1615680" y="3324600"/>
              <a:chExt cx="3174480" cy="151200"/>
            </a:xfrm>
          </p:grpSpPr>
          <p:sp>
            <p:nvSpPr>
              <p:cNvPr id="377" name=""/>
              <p:cNvSpPr/>
              <p:nvPr/>
            </p:nvSpPr>
            <p:spPr>
              <a:xfrm>
                <a:off x="1705320" y="332460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Antenna 3dB beamwidt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615680" y="332460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790520" y="3324600"/>
              <a:ext cx="3890520" cy="151200"/>
              <a:chOff x="4790520" y="3324600"/>
              <a:chExt cx="3890520" cy="151200"/>
            </a:xfrm>
          </p:grpSpPr>
          <p:sp>
            <p:nvSpPr>
              <p:cNvPr id="380" name=""/>
              <p:cNvSpPr/>
              <p:nvPr/>
            </p:nvSpPr>
            <p:spPr>
              <a:xfrm>
                <a:off x="4879800" y="332460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2.6de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790520" y="332460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615680" y="3476160"/>
              <a:ext cx="3174480" cy="151200"/>
              <a:chOff x="1615680" y="3476160"/>
              <a:chExt cx="3174480" cy="151200"/>
            </a:xfrm>
          </p:grpSpPr>
          <p:sp>
            <p:nvSpPr>
              <p:cNvPr id="383" name=""/>
              <p:cNvSpPr/>
              <p:nvPr/>
            </p:nvSpPr>
            <p:spPr>
              <a:xfrm>
                <a:off x="1705320" y="347616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Transmit pulse lengt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15680" y="347616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790520" y="3476160"/>
              <a:ext cx="3890520" cy="151200"/>
              <a:chOff x="4790520" y="3476160"/>
              <a:chExt cx="3890520" cy="151200"/>
            </a:xfrm>
          </p:grpSpPr>
          <p:sp>
            <p:nvSpPr>
              <p:cNvPr id="386" name=""/>
              <p:cNvSpPr/>
              <p:nvPr/>
            </p:nvSpPr>
            <p:spPr>
              <a:xfrm>
                <a:off x="4879800" y="347616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.65m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790520" y="347616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1615680" y="3627360"/>
              <a:ext cx="3174480" cy="151200"/>
              <a:chOff x="1615680" y="3627360"/>
              <a:chExt cx="3174480" cy="151200"/>
            </a:xfrm>
          </p:grpSpPr>
          <p:sp>
            <p:nvSpPr>
              <p:cNvPr id="389" name=""/>
              <p:cNvSpPr/>
              <p:nvPr/>
            </p:nvSpPr>
            <p:spPr>
              <a:xfrm>
                <a:off x="1705320" y="362736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R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15680" y="362736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4790520" y="3627360"/>
              <a:ext cx="3890520" cy="151200"/>
              <a:chOff x="4790520" y="3627360"/>
              <a:chExt cx="3890520" cy="151200"/>
            </a:xfrm>
          </p:grpSpPr>
          <p:sp>
            <p:nvSpPr>
              <p:cNvPr id="392" name=""/>
              <p:cNvSpPr/>
              <p:nvPr/>
            </p:nvSpPr>
            <p:spPr>
              <a:xfrm>
                <a:off x="4879800" y="362736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128Hz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90520" y="362736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1615680" y="3778920"/>
              <a:ext cx="3174480" cy="151200"/>
              <a:chOff x="1615680" y="3778920"/>
              <a:chExt cx="3174480" cy="151200"/>
            </a:xfrm>
          </p:grpSpPr>
          <p:sp>
            <p:nvSpPr>
              <p:cNvPr id="395" name=""/>
              <p:cNvSpPr/>
              <p:nvPr/>
            </p:nvSpPr>
            <p:spPr>
              <a:xfrm>
                <a:off x="1705320" y="377892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Receiver noise temperatur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15680" y="377892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4790520" y="3778920"/>
              <a:ext cx="3890520" cy="151200"/>
              <a:chOff x="4790520" y="3778920"/>
              <a:chExt cx="3890520" cy="151200"/>
            </a:xfrm>
          </p:grpSpPr>
          <p:sp>
            <p:nvSpPr>
              <p:cNvPr id="398" name=""/>
              <p:cNvSpPr/>
              <p:nvPr/>
            </p:nvSpPr>
            <p:spPr>
              <a:xfrm>
                <a:off x="4879800" y="377892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420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790520" y="377892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1615680" y="3930480"/>
              <a:ext cx="3174480" cy="151200"/>
              <a:chOff x="1615680" y="3930480"/>
              <a:chExt cx="3174480" cy="151200"/>
            </a:xfrm>
          </p:grpSpPr>
          <p:sp>
            <p:nvSpPr>
              <p:cNvPr id="401" name=""/>
              <p:cNvSpPr/>
              <p:nvPr/>
            </p:nvSpPr>
            <p:spPr>
              <a:xfrm>
                <a:off x="1705320" y="393048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Incident ang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15680" y="393048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4790520" y="3930480"/>
              <a:ext cx="3890520" cy="151200"/>
              <a:chOff x="4790520" y="3930480"/>
              <a:chExt cx="3890520" cy="151200"/>
            </a:xfrm>
          </p:grpSpPr>
          <p:sp>
            <p:nvSpPr>
              <p:cNvPr id="404" name=""/>
              <p:cNvSpPr/>
              <p:nvPr/>
            </p:nvSpPr>
            <p:spPr>
              <a:xfrm>
                <a:off x="4879800" y="393048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37de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90520" y="393048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1615680" y="4082040"/>
              <a:ext cx="3174480" cy="151200"/>
              <a:chOff x="1615680" y="4082040"/>
              <a:chExt cx="3174480" cy="151200"/>
            </a:xfrm>
          </p:grpSpPr>
          <p:sp>
            <p:nvSpPr>
              <p:cNvPr id="407" name=""/>
              <p:cNvSpPr/>
              <p:nvPr/>
            </p:nvSpPr>
            <p:spPr>
              <a:xfrm>
                <a:off x="1705320" y="408204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canning mod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615680" y="408204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4790520" y="4082040"/>
              <a:ext cx="3890520" cy="151200"/>
              <a:chOff x="4790520" y="4082040"/>
              <a:chExt cx="3890520" cy="151200"/>
            </a:xfrm>
          </p:grpSpPr>
          <p:sp>
            <p:nvSpPr>
              <p:cNvPr id="410" name=""/>
              <p:cNvSpPr/>
              <p:nvPr/>
            </p:nvSpPr>
            <p:spPr>
              <a:xfrm>
                <a:off x="4879800" y="408204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onically sc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790520" y="408204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615680" y="4233240"/>
              <a:ext cx="3174480" cy="151200"/>
              <a:chOff x="1615680" y="4233240"/>
              <a:chExt cx="3174480" cy="151200"/>
            </a:xfrm>
          </p:grpSpPr>
          <p:sp>
            <p:nvSpPr>
              <p:cNvPr id="413" name=""/>
              <p:cNvSpPr/>
              <p:nvPr/>
            </p:nvSpPr>
            <p:spPr>
              <a:xfrm>
                <a:off x="1705320" y="423324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olariz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15680" y="423324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790520" y="4233240"/>
              <a:ext cx="3890520" cy="151200"/>
              <a:chOff x="4790520" y="4233240"/>
              <a:chExt cx="3890520" cy="151200"/>
            </a:xfrm>
          </p:grpSpPr>
          <p:sp>
            <p:nvSpPr>
              <p:cNvPr id="416" name=""/>
              <p:cNvSpPr/>
              <p:nvPr/>
            </p:nvSpPr>
            <p:spPr>
              <a:xfrm>
                <a:off x="4879800" y="423324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Dual antenna, VV, H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90520" y="423324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1615680" y="4384800"/>
              <a:ext cx="3174480" cy="151200"/>
              <a:chOff x="1615680" y="4384800"/>
              <a:chExt cx="3174480" cy="151200"/>
            </a:xfrm>
          </p:grpSpPr>
          <p:sp>
            <p:nvSpPr>
              <p:cNvPr id="419" name=""/>
              <p:cNvSpPr/>
              <p:nvPr/>
            </p:nvSpPr>
            <p:spPr>
              <a:xfrm>
                <a:off x="1705320" y="438480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Signal bandwidt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615680" y="438480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4790520" y="4384800"/>
              <a:ext cx="3890520" cy="151200"/>
              <a:chOff x="4790520" y="4384800"/>
              <a:chExt cx="3890520" cy="151200"/>
            </a:xfrm>
          </p:grpSpPr>
          <p:sp>
            <p:nvSpPr>
              <p:cNvPr id="422" name=""/>
              <p:cNvSpPr/>
              <p:nvPr/>
            </p:nvSpPr>
            <p:spPr>
              <a:xfrm>
                <a:off x="4879800" y="438480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50kHz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90520" y="438480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1615680" y="4536360"/>
              <a:ext cx="3174480" cy="186120"/>
              <a:chOff x="1615680" y="4536360"/>
              <a:chExt cx="3174480" cy="186120"/>
            </a:xfrm>
          </p:grpSpPr>
          <p:sp>
            <p:nvSpPr>
              <p:cNvPr id="425" name=""/>
              <p:cNvSpPr/>
              <p:nvPr/>
            </p:nvSpPr>
            <p:spPr>
              <a:xfrm>
                <a:off x="1705320" y="4536360"/>
                <a:ext cx="299556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Precision and range of Doppler track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15680" y="4536360"/>
                <a:ext cx="317448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790520" y="4536360"/>
              <a:ext cx="3890520" cy="186120"/>
              <a:chOff x="4790520" y="4536360"/>
              <a:chExt cx="3890520" cy="186120"/>
            </a:xfrm>
          </p:grpSpPr>
          <p:sp>
            <p:nvSpPr>
              <p:cNvPr id="428" name=""/>
              <p:cNvSpPr/>
              <p:nvPr/>
            </p:nvSpPr>
            <p:spPr>
              <a:xfrm>
                <a:off x="4879800" y="4536360"/>
                <a:ext cx="37112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1kHz@-429kHz~+429kHz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90520" y="4536360"/>
                <a:ext cx="389052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538200" y="4722840"/>
              <a:ext cx="1077120" cy="1676520"/>
              <a:chOff x="538200" y="4722840"/>
              <a:chExt cx="1077120" cy="1676520"/>
            </a:xfrm>
          </p:grpSpPr>
          <p:sp>
            <p:nvSpPr>
              <p:cNvPr id="431" name=""/>
              <p:cNvSpPr/>
              <p:nvPr/>
            </p:nvSpPr>
            <p:spPr>
              <a:xfrm>
                <a:off x="627480" y="4722840"/>
                <a:ext cx="898560" cy="16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RA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38200" y="4722840"/>
                <a:ext cx="1077120" cy="1676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1615680" y="4722840"/>
              <a:ext cx="3174480" cy="186120"/>
              <a:chOff x="1615680" y="4722840"/>
              <a:chExt cx="3174480" cy="186120"/>
            </a:xfrm>
          </p:grpSpPr>
          <p:sp>
            <p:nvSpPr>
              <p:cNvPr id="434" name=""/>
              <p:cNvSpPr/>
              <p:nvPr/>
            </p:nvSpPr>
            <p:spPr>
              <a:xfrm>
                <a:off x="1705320" y="4722840"/>
                <a:ext cx="299556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enter frequency (GHz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15680" y="4722840"/>
                <a:ext cx="317448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790520" y="4722840"/>
              <a:ext cx="777960" cy="186120"/>
              <a:chOff x="4790520" y="4722840"/>
              <a:chExt cx="777960" cy="186120"/>
            </a:xfrm>
          </p:grpSpPr>
          <p:sp>
            <p:nvSpPr>
              <p:cNvPr id="437" name=""/>
              <p:cNvSpPr/>
              <p:nvPr/>
            </p:nvSpPr>
            <p:spPr>
              <a:xfrm>
                <a:off x="4879800" y="4722840"/>
                <a:ext cx="5986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6.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90520" y="4722840"/>
                <a:ext cx="77796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569200" y="4722840"/>
              <a:ext cx="777600" cy="186120"/>
              <a:chOff x="5569200" y="4722840"/>
              <a:chExt cx="777600" cy="186120"/>
            </a:xfrm>
          </p:grpSpPr>
          <p:sp>
            <p:nvSpPr>
              <p:cNvPr id="440" name=""/>
              <p:cNvSpPr/>
              <p:nvPr/>
            </p:nvSpPr>
            <p:spPr>
              <a:xfrm>
                <a:off x="5658120" y="472284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19.3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69200" y="472284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6347160" y="4722840"/>
              <a:ext cx="777600" cy="186120"/>
              <a:chOff x="6347160" y="4722840"/>
              <a:chExt cx="777600" cy="186120"/>
            </a:xfrm>
          </p:grpSpPr>
          <p:sp>
            <p:nvSpPr>
              <p:cNvPr id="443" name=""/>
              <p:cNvSpPr/>
              <p:nvPr/>
            </p:nvSpPr>
            <p:spPr>
              <a:xfrm>
                <a:off x="6436440" y="472284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23.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347160" y="472284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7125120" y="4722840"/>
              <a:ext cx="777600" cy="186120"/>
              <a:chOff x="7125120" y="4722840"/>
              <a:chExt cx="777600" cy="186120"/>
            </a:xfrm>
          </p:grpSpPr>
          <p:sp>
            <p:nvSpPr>
              <p:cNvPr id="446" name=""/>
              <p:cNvSpPr/>
              <p:nvPr/>
            </p:nvSpPr>
            <p:spPr>
              <a:xfrm>
                <a:off x="7214400" y="472284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3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125120" y="472284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7903440" y="4722840"/>
              <a:ext cx="777960" cy="186120"/>
              <a:chOff x="7903440" y="4722840"/>
              <a:chExt cx="777960" cy="186120"/>
            </a:xfrm>
          </p:grpSpPr>
          <p:sp>
            <p:nvSpPr>
              <p:cNvPr id="449" name=""/>
              <p:cNvSpPr/>
              <p:nvPr/>
            </p:nvSpPr>
            <p:spPr>
              <a:xfrm>
                <a:off x="7992720" y="4722840"/>
                <a:ext cx="5986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13.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903440" y="4722840"/>
                <a:ext cx="77796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1615680" y="4908960"/>
              <a:ext cx="3174480" cy="186120"/>
              <a:chOff x="1615680" y="4908960"/>
              <a:chExt cx="3174480" cy="186120"/>
            </a:xfrm>
          </p:grpSpPr>
          <p:sp>
            <p:nvSpPr>
              <p:cNvPr id="452" name=""/>
              <p:cNvSpPr/>
              <p:nvPr/>
            </p:nvSpPr>
            <p:spPr>
              <a:xfrm>
                <a:off x="1705320" y="4908960"/>
                <a:ext cx="299556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RF bandwidth (MHz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615680" y="4908960"/>
                <a:ext cx="317448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790520" y="4908960"/>
              <a:ext cx="777960" cy="186120"/>
              <a:chOff x="4790520" y="4908960"/>
              <a:chExt cx="777960" cy="186120"/>
            </a:xfrm>
          </p:grpSpPr>
          <p:sp>
            <p:nvSpPr>
              <p:cNvPr id="455" name=""/>
              <p:cNvSpPr/>
              <p:nvPr/>
            </p:nvSpPr>
            <p:spPr>
              <a:xfrm>
                <a:off x="4879800" y="4908960"/>
                <a:ext cx="5986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790520" y="4908960"/>
                <a:ext cx="77796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569200" y="4908960"/>
              <a:ext cx="777600" cy="186120"/>
              <a:chOff x="5569200" y="4908960"/>
              <a:chExt cx="777600" cy="186120"/>
            </a:xfrm>
          </p:grpSpPr>
          <p:sp>
            <p:nvSpPr>
              <p:cNvPr id="458" name=""/>
              <p:cNvSpPr/>
              <p:nvPr/>
            </p:nvSpPr>
            <p:spPr>
              <a:xfrm>
                <a:off x="5658120" y="490896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8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569200" y="490896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347160" y="4908960"/>
              <a:ext cx="777600" cy="186120"/>
              <a:chOff x="6347160" y="4908960"/>
              <a:chExt cx="777600" cy="186120"/>
            </a:xfrm>
          </p:grpSpPr>
          <p:sp>
            <p:nvSpPr>
              <p:cNvPr id="461" name=""/>
              <p:cNvSpPr/>
              <p:nvPr/>
            </p:nvSpPr>
            <p:spPr>
              <a:xfrm>
                <a:off x="6436440" y="490896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8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47160" y="490896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7125120" y="4908960"/>
              <a:ext cx="777600" cy="186120"/>
              <a:chOff x="7125120" y="4908960"/>
              <a:chExt cx="777600" cy="186120"/>
            </a:xfrm>
          </p:grpSpPr>
          <p:sp>
            <p:nvSpPr>
              <p:cNvPr id="464" name=""/>
              <p:cNvSpPr/>
              <p:nvPr/>
            </p:nvSpPr>
            <p:spPr>
              <a:xfrm>
                <a:off x="7214400" y="490896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8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25120" y="490896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7903440" y="4908960"/>
              <a:ext cx="777960" cy="186120"/>
              <a:chOff x="7903440" y="4908960"/>
              <a:chExt cx="777960" cy="186120"/>
            </a:xfrm>
          </p:grpSpPr>
          <p:sp>
            <p:nvSpPr>
              <p:cNvPr id="467" name=""/>
              <p:cNvSpPr/>
              <p:nvPr/>
            </p:nvSpPr>
            <p:spPr>
              <a:xfrm>
                <a:off x="7992720" y="4908960"/>
                <a:ext cx="5986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903440" y="4908960"/>
                <a:ext cx="77796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615680" y="5095440"/>
              <a:ext cx="3174480" cy="186120"/>
              <a:chOff x="1615680" y="5095440"/>
              <a:chExt cx="3174480" cy="186120"/>
            </a:xfrm>
          </p:grpSpPr>
          <p:sp>
            <p:nvSpPr>
              <p:cNvPr id="470" name=""/>
              <p:cNvSpPr/>
              <p:nvPr/>
            </p:nvSpPr>
            <p:spPr>
              <a:xfrm>
                <a:off x="1705320" y="5095440"/>
                <a:ext cx="299556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IF bandwidth (MHz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15680" y="5095440"/>
                <a:ext cx="317448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4790520" y="5095440"/>
              <a:ext cx="777960" cy="186120"/>
              <a:chOff x="4790520" y="5095440"/>
              <a:chExt cx="777960" cy="186120"/>
            </a:xfrm>
          </p:grpSpPr>
          <p:sp>
            <p:nvSpPr>
              <p:cNvPr id="473" name=""/>
              <p:cNvSpPr/>
              <p:nvPr/>
            </p:nvSpPr>
            <p:spPr>
              <a:xfrm>
                <a:off x="4879800" y="5095440"/>
                <a:ext cx="5986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790520" y="5095440"/>
                <a:ext cx="77796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5569200" y="5095440"/>
              <a:ext cx="777600" cy="186120"/>
              <a:chOff x="5569200" y="5095440"/>
              <a:chExt cx="777600" cy="186120"/>
            </a:xfrm>
          </p:grpSpPr>
          <p:sp>
            <p:nvSpPr>
              <p:cNvPr id="476" name=""/>
              <p:cNvSpPr/>
              <p:nvPr/>
            </p:nvSpPr>
            <p:spPr>
              <a:xfrm>
                <a:off x="5658120" y="509544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569200" y="509544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6347160" y="5095440"/>
              <a:ext cx="777600" cy="186120"/>
              <a:chOff x="6347160" y="5095440"/>
              <a:chExt cx="777600" cy="186120"/>
            </a:xfrm>
          </p:grpSpPr>
          <p:sp>
            <p:nvSpPr>
              <p:cNvPr id="479" name=""/>
              <p:cNvSpPr/>
              <p:nvPr/>
            </p:nvSpPr>
            <p:spPr>
              <a:xfrm>
                <a:off x="6436440" y="509544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47160" y="509544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7125120" y="5095440"/>
              <a:ext cx="777600" cy="186120"/>
              <a:chOff x="7125120" y="5095440"/>
              <a:chExt cx="777600" cy="186120"/>
            </a:xfrm>
          </p:grpSpPr>
          <p:sp>
            <p:nvSpPr>
              <p:cNvPr id="482" name=""/>
              <p:cNvSpPr/>
              <p:nvPr/>
            </p:nvSpPr>
            <p:spPr>
              <a:xfrm>
                <a:off x="7214400" y="509544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25120" y="509544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7903440" y="5095440"/>
              <a:ext cx="777960" cy="186120"/>
              <a:chOff x="7903440" y="5095440"/>
              <a:chExt cx="777960" cy="186120"/>
            </a:xfrm>
          </p:grpSpPr>
          <p:sp>
            <p:nvSpPr>
              <p:cNvPr id="485" name=""/>
              <p:cNvSpPr/>
              <p:nvPr/>
            </p:nvSpPr>
            <p:spPr>
              <a:xfrm>
                <a:off x="7992720" y="5095440"/>
                <a:ext cx="5986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903440" y="5095440"/>
                <a:ext cx="77796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615680" y="5281560"/>
              <a:ext cx="3174480" cy="151200"/>
              <a:chOff x="1615680" y="5281560"/>
              <a:chExt cx="3174480" cy="151200"/>
            </a:xfrm>
          </p:grpSpPr>
          <p:sp>
            <p:nvSpPr>
              <p:cNvPr id="488" name=""/>
              <p:cNvSpPr/>
              <p:nvPr/>
            </p:nvSpPr>
            <p:spPr>
              <a:xfrm>
                <a:off x="1705320" y="528156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Integration time (ms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15680" y="528156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4790520" y="5281560"/>
              <a:ext cx="3890520" cy="151200"/>
              <a:chOff x="4790520" y="5281560"/>
              <a:chExt cx="3890520" cy="151200"/>
            </a:xfrm>
          </p:grpSpPr>
          <p:sp>
            <p:nvSpPr>
              <p:cNvPr id="491" name=""/>
              <p:cNvSpPr/>
              <p:nvPr/>
            </p:nvSpPr>
            <p:spPr>
              <a:xfrm>
                <a:off x="4879800" y="528156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1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790520" y="528156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1615680" y="5433120"/>
              <a:ext cx="3174480" cy="151200"/>
              <a:chOff x="1615680" y="5433120"/>
              <a:chExt cx="3174480" cy="151200"/>
            </a:xfrm>
          </p:grpSpPr>
          <p:sp>
            <p:nvSpPr>
              <p:cNvPr id="494" name=""/>
              <p:cNvSpPr/>
              <p:nvPr/>
            </p:nvSpPr>
            <p:spPr>
              <a:xfrm>
                <a:off x="1705320" y="5433120"/>
                <a:ext cx="29955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Range of brightness temperatur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15680" y="5433120"/>
                <a:ext cx="317448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4790520" y="5433120"/>
              <a:ext cx="3890520" cy="151200"/>
              <a:chOff x="4790520" y="5433120"/>
              <a:chExt cx="3890520" cy="151200"/>
            </a:xfrm>
          </p:grpSpPr>
          <p:sp>
            <p:nvSpPr>
              <p:cNvPr id="497" name=""/>
              <p:cNvSpPr/>
              <p:nvPr/>
            </p:nvSpPr>
            <p:spPr>
              <a:xfrm>
                <a:off x="4879800" y="5433120"/>
                <a:ext cx="37112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100~330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790520" y="5433120"/>
                <a:ext cx="3890520" cy="151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1615680" y="5584680"/>
              <a:ext cx="3174480" cy="186120"/>
              <a:chOff x="1615680" y="5584680"/>
              <a:chExt cx="3174480" cy="186120"/>
            </a:xfrm>
          </p:grpSpPr>
          <p:sp>
            <p:nvSpPr>
              <p:cNvPr id="500" name=""/>
              <p:cNvSpPr/>
              <p:nvPr/>
            </p:nvSpPr>
            <p:spPr>
              <a:xfrm>
                <a:off x="1705320" y="5584680"/>
                <a:ext cx="299556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Receiver sensitivit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15680" y="5584680"/>
                <a:ext cx="317448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4790520" y="5584680"/>
              <a:ext cx="777960" cy="186120"/>
              <a:chOff x="4790520" y="5584680"/>
              <a:chExt cx="777960" cy="186120"/>
            </a:xfrm>
          </p:grpSpPr>
          <p:sp>
            <p:nvSpPr>
              <p:cNvPr id="503" name=""/>
              <p:cNvSpPr/>
              <p:nvPr/>
            </p:nvSpPr>
            <p:spPr>
              <a:xfrm>
                <a:off x="4879800" y="5584680"/>
                <a:ext cx="5986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.26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790520" y="5584680"/>
                <a:ext cx="77796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569200" y="5584680"/>
              <a:ext cx="777600" cy="186120"/>
              <a:chOff x="5569200" y="5584680"/>
              <a:chExt cx="777600" cy="186120"/>
            </a:xfrm>
          </p:grpSpPr>
          <p:sp>
            <p:nvSpPr>
              <p:cNvPr id="506" name=""/>
              <p:cNvSpPr/>
              <p:nvPr/>
            </p:nvSpPr>
            <p:spPr>
              <a:xfrm>
                <a:off x="5658120" y="558468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.29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69200" y="558468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6347160" y="5584680"/>
              <a:ext cx="777600" cy="186120"/>
              <a:chOff x="6347160" y="5584680"/>
              <a:chExt cx="777600" cy="186120"/>
            </a:xfrm>
          </p:grpSpPr>
          <p:sp>
            <p:nvSpPr>
              <p:cNvPr id="509" name=""/>
              <p:cNvSpPr/>
              <p:nvPr/>
            </p:nvSpPr>
            <p:spPr>
              <a:xfrm>
                <a:off x="6436440" y="558468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.42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347160" y="558468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7125120" y="5584680"/>
              <a:ext cx="777600" cy="186120"/>
              <a:chOff x="7125120" y="5584680"/>
              <a:chExt cx="777600" cy="186120"/>
            </a:xfrm>
          </p:grpSpPr>
          <p:sp>
            <p:nvSpPr>
              <p:cNvPr id="512" name=""/>
              <p:cNvSpPr/>
              <p:nvPr/>
            </p:nvSpPr>
            <p:spPr>
              <a:xfrm>
                <a:off x="7214400" y="558468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.43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125120" y="558468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7903440" y="5584680"/>
              <a:ext cx="777960" cy="186120"/>
              <a:chOff x="7903440" y="5584680"/>
              <a:chExt cx="777960" cy="186120"/>
            </a:xfrm>
          </p:grpSpPr>
          <p:sp>
            <p:nvSpPr>
              <p:cNvPr id="515" name=""/>
              <p:cNvSpPr/>
              <p:nvPr/>
            </p:nvSpPr>
            <p:spPr>
              <a:xfrm>
                <a:off x="7992720" y="5584680"/>
                <a:ext cx="5986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.18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903440" y="5584680"/>
                <a:ext cx="77796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615680" y="5770800"/>
              <a:ext cx="3174480" cy="186120"/>
              <a:chOff x="1615680" y="5770800"/>
              <a:chExt cx="3174480" cy="186120"/>
            </a:xfrm>
          </p:grpSpPr>
          <p:sp>
            <p:nvSpPr>
              <p:cNvPr id="518" name=""/>
              <p:cNvSpPr/>
              <p:nvPr/>
            </p:nvSpPr>
            <p:spPr>
              <a:xfrm>
                <a:off x="1705320" y="5770800"/>
                <a:ext cx="299556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Antenna beamwidth (deg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615680" y="5770800"/>
                <a:ext cx="317448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4790520" y="5770800"/>
              <a:ext cx="777960" cy="186120"/>
              <a:chOff x="4790520" y="5770800"/>
              <a:chExt cx="777960" cy="186120"/>
            </a:xfrm>
          </p:grpSpPr>
          <p:sp>
            <p:nvSpPr>
              <p:cNvPr id="521" name=""/>
              <p:cNvSpPr/>
              <p:nvPr/>
            </p:nvSpPr>
            <p:spPr>
              <a:xfrm>
                <a:off x="4879800" y="5770800"/>
                <a:ext cx="5986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5.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790520" y="5770800"/>
                <a:ext cx="77796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5569200" y="5770800"/>
              <a:ext cx="777600" cy="186120"/>
              <a:chOff x="5569200" y="5770800"/>
              <a:chExt cx="777600" cy="186120"/>
            </a:xfrm>
          </p:grpSpPr>
          <p:sp>
            <p:nvSpPr>
              <p:cNvPr id="524" name=""/>
              <p:cNvSpPr/>
              <p:nvPr/>
            </p:nvSpPr>
            <p:spPr>
              <a:xfrm>
                <a:off x="5658120" y="577080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1.8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569200" y="577080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6347160" y="5770800"/>
              <a:ext cx="777600" cy="186120"/>
              <a:chOff x="6347160" y="5770800"/>
              <a:chExt cx="777600" cy="186120"/>
            </a:xfrm>
          </p:grpSpPr>
          <p:sp>
            <p:nvSpPr>
              <p:cNvPr id="527" name=""/>
              <p:cNvSpPr/>
              <p:nvPr/>
            </p:nvSpPr>
            <p:spPr>
              <a:xfrm>
                <a:off x="6436440" y="577080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1.5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47160" y="577080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7125120" y="5770800"/>
              <a:ext cx="777600" cy="186120"/>
              <a:chOff x="7125120" y="5770800"/>
              <a:chExt cx="777600" cy="186120"/>
            </a:xfrm>
          </p:grpSpPr>
          <p:sp>
            <p:nvSpPr>
              <p:cNvPr id="530" name=""/>
              <p:cNvSpPr/>
              <p:nvPr/>
            </p:nvSpPr>
            <p:spPr>
              <a:xfrm>
                <a:off x="7214400" y="577080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.9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125120" y="577080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7903440" y="5770800"/>
              <a:ext cx="777960" cy="186120"/>
              <a:chOff x="7903440" y="5770800"/>
              <a:chExt cx="777960" cy="186120"/>
            </a:xfrm>
          </p:grpSpPr>
          <p:sp>
            <p:nvSpPr>
              <p:cNvPr id="533" name=""/>
              <p:cNvSpPr/>
              <p:nvPr/>
            </p:nvSpPr>
            <p:spPr>
              <a:xfrm>
                <a:off x="7992720" y="5770800"/>
                <a:ext cx="5986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2.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903440" y="5770800"/>
                <a:ext cx="77796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1615680" y="5957280"/>
              <a:ext cx="3174480" cy="186120"/>
              <a:chOff x="1615680" y="5957280"/>
              <a:chExt cx="3174480" cy="186120"/>
            </a:xfrm>
          </p:grpSpPr>
          <p:sp>
            <p:nvSpPr>
              <p:cNvPr id="536" name=""/>
              <p:cNvSpPr/>
              <p:nvPr/>
            </p:nvSpPr>
            <p:spPr>
              <a:xfrm>
                <a:off x="1705320" y="5957280"/>
                <a:ext cx="299556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Antenna gain (dBi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615680" y="5957280"/>
                <a:ext cx="317448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4790520" y="5957280"/>
              <a:ext cx="777960" cy="186120"/>
              <a:chOff x="4790520" y="5957280"/>
              <a:chExt cx="777960" cy="186120"/>
            </a:xfrm>
          </p:grpSpPr>
          <p:sp>
            <p:nvSpPr>
              <p:cNvPr id="539" name=""/>
              <p:cNvSpPr/>
              <p:nvPr/>
            </p:nvSpPr>
            <p:spPr>
              <a:xfrm>
                <a:off x="4879800" y="5957280"/>
                <a:ext cx="5986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29.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790520" y="5957280"/>
                <a:ext cx="77796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5569200" y="5957280"/>
              <a:ext cx="777600" cy="186120"/>
              <a:chOff x="5569200" y="5957280"/>
              <a:chExt cx="777600" cy="186120"/>
            </a:xfrm>
          </p:grpSpPr>
          <p:sp>
            <p:nvSpPr>
              <p:cNvPr id="542" name=""/>
              <p:cNvSpPr/>
              <p:nvPr/>
            </p:nvSpPr>
            <p:spPr>
              <a:xfrm>
                <a:off x="5658120" y="595728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&gt;3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569200" y="595728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6347160" y="5957280"/>
              <a:ext cx="777600" cy="186120"/>
              <a:chOff x="6347160" y="5957280"/>
              <a:chExt cx="777600" cy="186120"/>
            </a:xfrm>
          </p:grpSpPr>
          <p:sp>
            <p:nvSpPr>
              <p:cNvPr id="545" name=""/>
              <p:cNvSpPr/>
              <p:nvPr/>
            </p:nvSpPr>
            <p:spPr>
              <a:xfrm>
                <a:off x="6436440" y="595728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&gt;3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47160" y="595728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7125120" y="5957280"/>
              <a:ext cx="777600" cy="186120"/>
              <a:chOff x="7125120" y="5957280"/>
              <a:chExt cx="777600" cy="186120"/>
            </a:xfrm>
          </p:grpSpPr>
          <p:sp>
            <p:nvSpPr>
              <p:cNvPr id="548" name=""/>
              <p:cNvSpPr/>
              <p:nvPr/>
            </p:nvSpPr>
            <p:spPr>
              <a:xfrm>
                <a:off x="7214400" y="5957280"/>
                <a:ext cx="59904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&gt;3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125120" y="5957280"/>
                <a:ext cx="77760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7903440" y="5957280"/>
              <a:ext cx="777960" cy="186120"/>
              <a:chOff x="7903440" y="5957280"/>
              <a:chExt cx="777960" cy="186120"/>
            </a:xfrm>
          </p:grpSpPr>
          <p:sp>
            <p:nvSpPr>
              <p:cNvPr id="551" name=""/>
              <p:cNvSpPr/>
              <p:nvPr/>
            </p:nvSpPr>
            <p:spPr>
              <a:xfrm>
                <a:off x="7992720" y="5957280"/>
                <a:ext cx="5986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&gt;3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903440" y="5957280"/>
                <a:ext cx="777960" cy="18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1615680" y="6143400"/>
              <a:ext cx="3174480" cy="255960"/>
              <a:chOff x="1615680" y="6143400"/>
              <a:chExt cx="3174480" cy="255960"/>
            </a:xfrm>
          </p:grpSpPr>
          <p:sp>
            <p:nvSpPr>
              <p:cNvPr id="554" name=""/>
              <p:cNvSpPr/>
              <p:nvPr/>
            </p:nvSpPr>
            <p:spPr>
              <a:xfrm>
                <a:off x="1705320" y="6143400"/>
                <a:ext cx="299556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Type of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15680" y="6143400"/>
                <a:ext cx="3174480" cy="255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4790520" y="6143400"/>
              <a:ext cx="3112200" cy="255960"/>
              <a:chOff x="4790520" y="6143400"/>
              <a:chExt cx="3112200" cy="255960"/>
            </a:xfrm>
          </p:grpSpPr>
          <p:sp>
            <p:nvSpPr>
              <p:cNvPr id="557" name=""/>
              <p:cNvSpPr/>
              <p:nvPr/>
            </p:nvSpPr>
            <p:spPr>
              <a:xfrm>
                <a:off x="4880160" y="6143400"/>
                <a:ext cx="293328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Offset-feed parabolic reflec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90520" y="6143400"/>
                <a:ext cx="3112200" cy="255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7903440" y="6143400"/>
              <a:ext cx="777960" cy="255960"/>
              <a:chOff x="7903440" y="6143400"/>
              <a:chExt cx="777960" cy="255960"/>
            </a:xfrm>
          </p:grpSpPr>
          <p:sp>
            <p:nvSpPr>
              <p:cNvPr id="560" name=""/>
              <p:cNvSpPr/>
              <p:nvPr/>
            </p:nvSpPr>
            <p:spPr>
              <a:xfrm>
                <a:off x="7992720" y="6143400"/>
                <a:ext cx="59868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C/o SCA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903440" y="6143400"/>
                <a:ext cx="777960" cy="255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2" name=""/>
          <p:cNvSpPr/>
          <p:nvPr/>
        </p:nvSpPr>
        <p:spPr>
          <a:xfrm>
            <a:off x="533520" y="527040"/>
            <a:ext cx="8153280" cy="5873760"/>
          </a:xfrm>
          <a:prstGeom prst="rect">
            <a:avLst/>
          </a:prstGeom>
          <a:noFill/>
          <a:ln w="648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124080" y="22860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 2 Key System Parameters of M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an" descr=""/>
          <p:cNvPicPr/>
          <p:nvPr/>
        </p:nvPicPr>
        <p:blipFill>
          <a:blip r:embed="rId1"/>
          <a:stretch/>
        </p:blipFill>
        <p:spPr>
          <a:xfrm>
            <a:off x="1068480" y="611280"/>
            <a:ext cx="7157880" cy="57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808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黑体"/>
              </a:rPr>
              <a:t>MULTI-MODE MICR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黑体"/>
              </a:rPr>
              <a:t>REMOTE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an" descr=""/>
          <p:cNvPicPr/>
          <p:nvPr/>
        </p:nvPicPr>
        <p:blipFill>
          <a:blip r:embed="rId1"/>
          <a:stretch/>
        </p:blipFill>
        <p:spPr>
          <a:xfrm>
            <a:off x="985680" y="912960"/>
            <a:ext cx="720252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51200" y="84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Ian" descr=""/>
          <p:cNvPicPr/>
          <p:nvPr/>
        </p:nvPicPr>
        <p:blipFill>
          <a:blip r:embed="rId1"/>
          <a:stretch/>
        </p:blipFill>
        <p:spPr>
          <a:xfrm>
            <a:off x="1068480" y="839880"/>
            <a:ext cx="7002360" cy="52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5960" y="762120"/>
            <a:ext cx="49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MIYUN  GROUND RECEIVING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an" descr=""/>
          <p:cNvPicPr/>
          <p:nvPr/>
        </p:nvPicPr>
        <p:blipFill>
          <a:blip r:embed="rId1"/>
          <a:stretch/>
        </p:blipFill>
        <p:spPr>
          <a:xfrm>
            <a:off x="1214280" y="1214280"/>
            <a:ext cx="6701040" cy="44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3352680"/>
            <a:ext cx="207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11.28M S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ANT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an" descr=""/>
          <p:cNvPicPr/>
          <p:nvPr/>
        </p:nvPicPr>
        <p:blipFill>
          <a:blip r:embed="rId1"/>
          <a:stretch/>
        </p:blipFill>
        <p:spPr>
          <a:xfrm>
            <a:off x="3583080" y="455760"/>
            <a:ext cx="4039920" cy="58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78560" y="1143000"/>
            <a:ext cx="514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MONITORING AND CONTROLLING H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Ian" descr=""/>
          <p:cNvPicPr/>
          <p:nvPr/>
        </p:nvPicPr>
        <p:blipFill>
          <a:blip r:embed="rId1"/>
          <a:stretch/>
        </p:blipFill>
        <p:spPr>
          <a:xfrm>
            <a:off x="1214280" y="1598760"/>
            <a:ext cx="6764400" cy="44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3080" y="2222640"/>
            <a:ext cx="772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0640" y="685800"/>
            <a:ext cx="610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PAYLOAD MONITORING AND OPERATION H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an" descr=""/>
          <p:cNvPicPr/>
          <p:nvPr/>
        </p:nvPicPr>
        <p:blipFill>
          <a:blip r:embed="rId1"/>
          <a:stretch/>
        </p:blipFill>
        <p:spPr>
          <a:xfrm>
            <a:off x="985680" y="1141560"/>
            <a:ext cx="7129800" cy="499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3T02:38:18Z</dcterms:created>
  <dc:creator>Liu Heguang</dc:creator>
  <dc:description/>
  <dc:language>en-US</dc:language>
  <cp:lastModifiedBy>Marie-Claire Robinson</cp:lastModifiedBy>
  <cp:lastPrinted>2001-05-29T14:13:11Z</cp:lastPrinted>
  <dcterms:modified xsi:type="dcterms:W3CDTF">2003-03-24T16:26:05Z</dcterms:modified>
  <cp:revision>145</cp:revision>
  <dc:subject/>
  <dc:title>没有幻灯片标题</dc:title>
</cp:coreProperties>
</file>