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2F4B-4588-4CE7-B11C-A9C7B522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D130-73BE-4190-81FA-26D9D99B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3605-4F88-413A-B1E0-D0B719F9E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0263-99CD-41AB-9FF9-E179E541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F73E-4C4A-4222-8A9A-2556A7AD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F4F3-4F23-4538-84DB-BCE9D549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1EF0-28EF-4469-81F2-680B28C8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F530-4BFE-4F66-AB29-4AEF64CD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8858-2FEE-478F-95A2-B67E1876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1A96-5E84-47F6-AE38-8FB92D65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B8D7-D3BE-4C27-A074-08FC2CD5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B42C-8B13-4534-BCAF-0E50461F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CF19-3270-4A46-ADAA-EEEC3B8BA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772400" cy="21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MODIS and COCTS and its Radiation Calib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6000" y="3357720"/>
            <a:ext cx="6400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th WGCV meeting  Hobart, Tasm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eb. 12-14, 200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Xiaoxian Hua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hanghai Institute of Technical Physics,Chinese Academy of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-site Calibration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fter la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 China National Satellite Ocean Application Service had spent much cost and efforts in testing the performance of CMODIS and COCTS    in HangZhou gulf  and Yellow-East Ocean of Ch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 China National Satellite Ocean Application Service and National Meteorology Application Service have tested all remote sensors on Earth Observing Systems of China in Dunhuang and Qinghai L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Average field reflective ratio of Dunhu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187280" y="1125360"/>
          <a:ext cx="6985080" cy="528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125360"/>
                    <a:ext cx="6985080" cy="52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Langley line of Dunhuang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on June 4,2002 obtain by CE318 sun illumin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09640" y="1776240"/>
            <a:ext cx="631836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an" descr=""/>
          <p:cNvPicPr/>
          <p:nvPr/>
        </p:nvPicPr>
        <p:blipFill>
          <a:blip r:embed="rId1"/>
          <a:stretch/>
        </p:blipFill>
        <p:spPr>
          <a:xfrm>
            <a:off x="932040" y="1625760"/>
            <a:ext cx="8218440" cy="45288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Image of Dunhuang obtained by CMODIS on June 4,2002SZ-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R:15,G:20,B: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Image of Qinhai lake obtained by CMODIS on June 4,2002SZ-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R:15,G:20,B: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Ian" descr=""/>
          <p:cNvPicPr/>
          <p:nvPr/>
        </p:nvPicPr>
        <p:blipFill>
          <a:blip r:embed="rId1"/>
          <a:stretch/>
        </p:blipFill>
        <p:spPr>
          <a:xfrm>
            <a:off x="1406520" y="1919160"/>
            <a:ext cx="626112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age before In-site calib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Ian" descr=""/>
          <p:cNvPicPr/>
          <p:nvPr/>
        </p:nvPicPr>
        <p:blipFill>
          <a:blip r:embed="rId1"/>
          <a:stretch/>
        </p:blipFill>
        <p:spPr>
          <a:xfrm>
            <a:off x="2558880" y="1846440"/>
            <a:ext cx="40230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 after In-site calib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Ian" descr=""/>
          <p:cNvPicPr/>
          <p:nvPr/>
        </p:nvPicPr>
        <p:blipFill>
          <a:blip r:embed="rId1"/>
          <a:stretch/>
        </p:blipFill>
        <p:spPr>
          <a:xfrm>
            <a:off x="2558880" y="1846440"/>
            <a:ext cx="40230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Aerosol Optical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Image over Bohai gulf obtained by CMODIS(June,11,200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Ian" descr=""/>
          <p:cNvPicPr/>
          <p:nvPr/>
        </p:nvPicPr>
        <p:blipFill>
          <a:blip r:embed="rId1"/>
          <a:stretch/>
        </p:blipFill>
        <p:spPr>
          <a:xfrm>
            <a:off x="1982880" y="1919160"/>
            <a:ext cx="5657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-site calibration has high accuracy, but needs more time and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develop on-orbit calibrator especially  in visible and NIR range in future remote sens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doing these works now at the FY-3, the second generation orbit Meteorology satellites of Ch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study more about calibration from another people who with such good experim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9999"/>
                </a:solidFill>
                <a:latin typeface="Arial"/>
              </a:rPr>
              <a:t>I hope we have more opportunity to exchange with each oth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Arial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hina had launch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ne scientific research CMODIS on 25 March 2002 at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Jiuqua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launch cen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first COCTS on 15 May 2002 at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Taiyua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launch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ical parameters of CMO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39640" y="1600200"/>
          <a:ext cx="8147160" cy="4691160"/>
        </p:xfrm>
        <a:graphic>
          <a:graphicData uri="http://schemas.openxmlformats.org/drawingml/2006/table">
            <a:tbl>
              <a:tblPr/>
              <a:tblGrid>
                <a:gridCol w="1625760"/>
                <a:gridCol w="1263600"/>
                <a:gridCol w="1897200"/>
                <a:gridCol w="3360600"/>
              </a:tblGrid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nne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o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irin(85K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FO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m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urac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-NIR-SWIR Better than 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nadi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R   1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b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an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r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aning 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wo-surface mirr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tical aper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   HgCdTe  22 pixc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d of CMOD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240" cy="4525200"/>
        </p:xfrm>
        <a:graphic>
          <a:graphicData uri="http://schemas.openxmlformats.org/drawingml/2006/table">
            <a:tbl>
              <a:tblPr/>
              <a:tblGrid>
                <a:gridCol w="6691320"/>
                <a:gridCol w="1537920"/>
              </a:tblGrid>
              <a:tr h="90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nn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sible(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)       (0.403~0.80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ar IR(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)     (0.823~1.02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rt Wave IR(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)  (2.15~2.2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rmal IR (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) (8.4~8.9)(10.3~11.4) (11.5~12.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ative Spectral Response of CMOD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63680" y="160020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0" y="18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1484280"/>
          <a:ext cx="8604360" cy="491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84280"/>
                    <a:ext cx="8604360" cy="49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ical parameters of CO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4849920"/>
        </p:xfrm>
        <a:graphic>
          <a:graphicData uri="http://schemas.openxmlformats.org/drawingml/2006/table">
            <a:tbl>
              <a:tblPr/>
              <a:tblGrid>
                <a:gridCol w="1708200"/>
                <a:gridCol w="1263600"/>
                <a:gridCol w="1897200"/>
                <a:gridCol w="3360600"/>
              </a:tblGrid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nn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o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irin(95K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FOV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8m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urac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-NIR-SWIR Better than 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olu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0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nadi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R   1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z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bi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an 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rp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rp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aning meth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tate mirr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 mirr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tical aper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c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   HgCdTe  4 pixc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ds of CO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240" cy="4525200"/>
        </p:xfrm>
        <a:graphic>
          <a:graphicData uri="http://schemas.openxmlformats.org/drawingml/2006/table">
            <a:tbl>
              <a:tblPr/>
              <a:tblGrid>
                <a:gridCol w="3640320"/>
                <a:gridCol w="4588920"/>
              </a:tblGrid>
              <a:tr h="31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sible and Near IR(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02~0.422,0.433~0.4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80~0.500,0.510~0.5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55~0.575,0.660~0.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30~0.770,0.845~0.8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lorophyll   pollutio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mosphere correction aerosol et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rmal IR (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30~11.40 11.40~12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erature and 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ibration of Visible and N-SW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alibration of Visible and N-SWIR of CMODIS had been done under sunlight with diffuser panels in Dali Yunnan province Chi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alibration of Visible and N-SWIR of COCTS had been done using a Labsphere Integrating sphere(USS6500) in SIT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ibration of Thermal 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ibration of thermal IR in both of CMODIS and COCTS had been done in KM-2 vacuum pip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CMODIS the radiation from the blackbody on the CMODIS is the radiation re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COCTS the cold space radiation is the reference and the blackbody on it is the on-orbit calibration sou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04:31:22Z</dcterms:created>
  <dc:creator>Zhu Jianhua</dc:creator>
  <dc:description/>
  <dc:language>en-US</dc:language>
  <cp:lastModifiedBy>Marie-Claire Robinson</cp:lastModifiedBy>
  <dcterms:modified xsi:type="dcterms:W3CDTF">2003-03-24T16:33:50Z</dcterms:modified>
  <cp:revision>7</cp:revision>
  <dc:subject/>
  <dc:title>CMODIS and COCTS Remote sensing Instruments and Radiation calibration of Visible and IR Observing Channels</dc:title>
</cp:coreProperties>
</file>