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8BF7-9ABB-45FF-90C0-788BA2674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on NOAA Satellite Measurements of Total Ozone and Ozone Profi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Ozone and GEOSS; Paths forward for Total Ozone ECV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6B4-D30D-43AC-8555-2361D2FDF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E68-409F-4ED9-9E14-14E594DD3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dated schematic from Scott Asbu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hanges in numbers (2.23 degrees to 1.9 degrees) and position of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instrument pi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itage instruments are providing product development, and algorithm and application 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AGE III limb measurements poi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OMI Products into assimilation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-Coupled De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Ozone Mapping Spect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BU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Backscatter Ultraviolet instr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Ozone Monitoring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zone Monitoring Instr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AMACH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nning Imaging Absorption spectroMeter for Atmospheric Cart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ttle Ozone Limb Sounding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Ozone Retrieval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R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Spectrograph and InfraRed Imag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G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ic Aerosol and Ga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PS`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zone Mapping and Profiler Su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2B4-AA6B-4D27-813D-B09B1082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057-9860-4A14-964B-6ADB66C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6B9-076D-4863-AE27-5C08C964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FED-297F-433E-9C33-EC965AA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F3C7-E49C-4EE3-B78D-919037AA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B7B-D28C-40F1-9C19-F22E36FD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E42D-84AC-4F03-861F-3F88B852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4B3-1268-4493-820C-F13B0014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ADD3-461E-4B9D-A269-6B638EC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427-753A-4F35-8324-EBBCFC8A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632-6BB9-4F73-AA3C-842F73D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A14-8C1C-49A8-8A37-297DD55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032-AC3E-4BFE-9D70-AFDB597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1B0-B9ED-428E-9831-C1ED575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2EE-DF11-4EDE-AB5B-9A6D1CC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178-B0DE-456B-BE06-84EFF966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F7CB-6A94-4B7A-B4F5-092B607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9BF-6AD4-4B06-8ECA-BD2F67E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5D0-CF2C-4827-9A84-519F342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A36-52B8-4A8D-AFBA-C62F29B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E55-67A4-4B12-AA8B-25D11E30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E3C-E487-4077-872D-951F9BD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9D-B90E-4239-AC3E-5B7F6A3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373-D769-40F7-AB0A-C187D14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E7A-E9F9-4502-B166-F6BD9B968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F1F-0A1F-434C-97BA-239F92452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port on NOAA and Satellite Measurements of Total Ozone and Ozone Pro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. Fly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with contributions from man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AA/NESDIS/ST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21-22 ACC-7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umbia 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BUV/2 + HIRS Po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0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0" y="2971800"/>
            <a:ext cx="4762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al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ing V8 Profile/Total Ozone processing and reprocessing of NOAA-16, -17, -18, -19 SBUV/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ing NRT V8 Total Ozone processing of Metop-A GOME-2 (No current reprocessing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paring for NRT and Cal/Val for OMPS  on NPP (Launch 10/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ing V8 Profile/Total Ozone reprocessing for NPP OMPS (Launch October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CVS Monitoring under Products Demonstration 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star.nesdis.noaa.gov/smcd/spb/icvs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rnal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with NASA/GSFC on V8 SBUV(/2) CD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with CMA on V8 for FY-3A &amp; -3B TOU &amp; SB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with EuMetSat &amp; O3SAF on GOME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with NASA, KNMI and FMI on OM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with NASA NPP ST on OMPS Limb Profi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data and consult on SBUV/2 results for 2000-2010 comparisons to European satellite measurement ozone prof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ous GSICS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s://gsics.nesdis.noaa.gov/wiki/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ily Ozone Maps at E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exp-studies.tor.ec.gc.ca/cgi-bin/clf2/dailyM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MPS Instrument Design NPP Launch October 201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4962600" y="3571920"/>
          <a:ext cx="393516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2600" y="3571920"/>
                    <a:ext cx="393516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73868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Ozone Map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V Backscatter, grating spectrometer, 2-D CC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S, SBUV(/2), GOME(-2), OMI, SCIAMACH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0 deg. cross track, 300 to 380 nm spectral, 1.1nm FWHM bandpa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dir Profil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V Backscatter, grating spectrometer, 2-D CC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BUV(/2), GOME(-2), SCIAMACHY, O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dir view, 250 km cross track, 270 to 310 nm spectral, 1.1 nm FWHM bandpa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b Profil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V/Visible Limb Scatter, prism, 2-D CCD arr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SE/LORE, OSIRIS, SAGE III, SCIAMACH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ee 100-KM vertical slits, 290 to 1000 nm spec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alibration concep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work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 solar diff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9041_004b"/>
          <p:cNvPicPr/>
          <p:nvPr/>
        </p:nvPicPr>
        <p:blipFill>
          <a:blip r:embed="rId3"/>
          <a:stretch/>
        </p:blipFill>
        <p:spPr>
          <a:xfrm>
            <a:off x="4702320" y="0"/>
            <a:ext cx="4441680" cy="364644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1"/>
          <p:cNvGrpSpPr/>
          <p:nvPr/>
        </p:nvGrpSpPr>
        <p:grpSpPr>
          <a:xfrm>
            <a:off x="2799000" y="5405400"/>
            <a:ext cx="1928160" cy="1444320"/>
            <a:chOff x="2799000" y="5405400"/>
            <a:chExt cx="1928160" cy="1444320"/>
          </a:xfrm>
        </p:grpSpPr>
        <p:sp>
          <p:nvSpPr>
            <p:cNvPr id="101" name="AutoShape 4"/>
            <p:cNvSpPr/>
            <p:nvPr/>
          </p:nvSpPr>
          <p:spPr>
            <a:xfrm flipV="1">
              <a:off x="4206960" y="5564520"/>
              <a:ext cx="312840" cy="201960"/>
            </a:xfrm>
            <a:prstGeom prst="rtTriangl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4206960" y="5565240"/>
              <a:ext cx="31284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6"/>
            <p:cNvSpPr/>
            <p:nvPr/>
          </p:nvSpPr>
          <p:spPr>
            <a:xfrm flipV="1" rot="1929000">
              <a:off x="3958560" y="6581520"/>
              <a:ext cx="313920" cy="199800"/>
            </a:xfrm>
            <a:prstGeom prst="rtTriangl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4035960" y="6504480"/>
              <a:ext cx="264240" cy="1659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3765240" y="612756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>
              <a:off x="4191840" y="612756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4049640" y="5781960"/>
              <a:ext cx="142200" cy="3456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40" h="576">
                  <a:moveTo>
                    <a:pt x="0" y="576"/>
                  </a:moveTo>
                  <a:lnTo>
                    <a:pt x="96" y="0"/>
                  </a:lnTo>
                  <a:lnTo>
                    <a:pt x="240" y="5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3765240" y="6120000"/>
              <a:ext cx="169920" cy="5756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288" h="960">
                  <a:moveTo>
                    <a:pt x="0" y="0"/>
                  </a:moveTo>
                  <a:lnTo>
                    <a:pt x="0" y="816"/>
                  </a:lnTo>
                  <a:lnTo>
                    <a:pt x="288" y="9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12"/>
            <p:cNvSpPr/>
            <p:nvPr/>
          </p:nvSpPr>
          <p:spPr>
            <a:xfrm>
              <a:off x="4574160" y="6463440"/>
              <a:ext cx="115200" cy="11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2910600" y="612756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>
              <a:off x="3338280" y="6127560"/>
              <a:ext cx="31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5"/>
            <p:cNvSpPr/>
            <p:nvPr/>
          </p:nvSpPr>
          <p:spPr>
            <a:xfrm>
              <a:off x="3195360" y="5781960"/>
              <a:ext cx="142920" cy="3456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40" h="576">
                  <a:moveTo>
                    <a:pt x="0" y="576"/>
                  </a:moveTo>
                  <a:lnTo>
                    <a:pt x="96" y="0"/>
                  </a:lnTo>
                  <a:lnTo>
                    <a:pt x="240" y="5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17"/>
            <p:cNvSpPr/>
            <p:nvPr/>
          </p:nvSpPr>
          <p:spPr>
            <a:xfrm>
              <a:off x="3168360" y="6559200"/>
              <a:ext cx="196920" cy="2019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2853000" y="657900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4546440" y="665748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3654000" y="5914800"/>
              <a:ext cx="88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rance      Apertur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4185000" y="540540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ffuser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799000" y="5803560"/>
              <a:ext cx="88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trance      Apertur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V="1">
              <a:off x="3261240" y="6166080"/>
              <a:ext cx="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28"/>
            <p:cNvSpPr/>
            <p:nvPr/>
          </p:nvSpPr>
          <p:spPr>
            <a:xfrm flipV="1">
              <a:off x="4116240" y="6145560"/>
              <a:ext cx="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 flipH="1">
              <a:off x="4345560" y="6520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29"/>
          <p:cNvSpPr/>
          <p:nvPr/>
        </p:nvSpPr>
        <p:spPr>
          <a:xfrm>
            <a:off x="304920" y="83808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youtube.com/watch?v=LLqJdtOzFv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zone Sensitivity of OMPS Limb Profiler 600 nm cha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-58680" y="609480"/>
            <a:ext cx="920268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86080" y="63244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% Radiance change  / % Ozone change (in 1 KM Lay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 rot="10800000">
            <a:off x="75960" y="1752120"/>
            <a:ext cx="454680" cy="26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titude in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8 Total Ozone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s B-Pair (318 Ozone, 331 or 340 Reflectivi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solute Calibration of Reflectivity can be checked by vicarious m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solute calibration of ozone can be checked by using D-Pair (308 and 313), and comparisons to ground-based and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atellite DO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s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justments for profile shape (A-Pair) and Aeros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T Look-Up Tables use Brion-Daumont-Malicet cross sections and include Ring corr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ndard profiles by latitude and total ozon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put contains residuals, efficiencies, and sensitiv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8 Ozone Profile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ximum likelihood retrieval using wavelengths from 250 to 318 nm (reflectivity from 340 nm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solute Calibration of Reflectivity channels is checked by vicarious mea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solute calibration of ozone is checked/validated by Ascending/Descending comparisons, ground-based comparisons, and inter-satellite no-local-time comparis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riori profiles by latitude and month (LL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T Look-Up Tables use Brion-Daumont-Malicet cross sections and include Ring corr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put contains A Priori, residuals, Averaging Kernels, Measurement Contributions, and Jacobia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28760" y="171360"/>
            <a:ext cx="82864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320" y="75960"/>
            <a:ext cx="77929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  <a:ea typeface="黑体"/>
              </a:rPr>
              <a:t>Data from FY-3A TOU for 2011 3/14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  <a:ea typeface="黑体"/>
              </a:rPr>
              <a:t>Huang F-X and Wang W-H CMA/NSM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7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rcRect l="20580" t="1742" r="12739" b="-1738"/>
          <a:stretch/>
        </p:blipFill>
        <p:spPr>
          <a:xfrm>
            <a:off x="990720" y="762120"/>
            <a:ext cx="6956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20:51:35Z</dcterms:created>
  <dc:creator>lflynn</dc:creator>
  <dc:description/>
  <dc:language>en-US</dc:language>
  <cp:lastModifiedBy>kekeith</cp:lastModifiedBy>
  <dcterms:modified xsi:type="dcterms:W3CDTF">2011-08-09T17:06:17Z</dcterms:modified>
  <cp:revision>447</cp:revision>
  <dc:subject/>
  <dc:title>Slide 1</dc:title>
</cp:coreProperties>
</file>