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6320"/>
            <a:ext cx="9045720" cy="6632280"/>
            <a:chOff x="0" y="76320"/>
            <a:chExt cx="9045720" cy="6632280"/>
          </a:xfrm>
        </p:grpSpPr>
        <p:sp>
          <p:nvSpPr>
            <p:cNvPr id="1" name=""/>
            <p:cNvSpPr/>
            <p:nvPr/>
          </p:nvSpPr>
          <p:spPr>
            <a:xfrm>
              <a:off x="0" y="746280"/>
              <a:ext cx="8763120" cy="0"/>
            </a:xfrm>
            <a:prstGeom prst="line">
              <a:avLst/>
            </a:prstGeom>
            <a:ln w="19080">
              <a:solidFill>
                <a:srgbClr val="3a5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763120" y="746280"/>
              <a:ext cx="0" cy="5556240"/>
            </a:xfrm>
            <a:prstGeom prst="line">
              <a:avLst/>
            </a:prstGeom>
            <a:ln w="19080">
              <a:solidFill>
                <a:srgbClr val="3a5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6320" y="76320"/>
              <a:ext cx="1600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88920" y="6377040"/>
              <a:ext cx="151128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8056440" y="6002280"/>
              <a:ext cx="98928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484280"/>
            <a:ext cx="662472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ef Report on the IO3C/WMO/IGACO/SPARC Initiative on Ozone Profiles (Workshop in Jan. 2011 at WMO) and the ESA SPARC Initi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us Zeh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125360"/>
            <a:ext cx="799128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A SPARC Initiative (Call for proposals issued early June 20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 with a 3 year duration within the ESA Support To Science Element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: to use ESA and ESA Third-Party data for the establishment of climate-quality stratospheric data records from satellite instruments for ozone, aerosol, water vapour and tempera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omplementary to ESA_cci activ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125360"/>
            <a:ext cx="799128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A SPARC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improve the quality of some select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atospher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ets (e.g. GOMOS bright limb O3 measurements, SCIAMACHY and OSIRIS aerosol data, SCIAMACHY water vapour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establish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atospheric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emperature climatologies (new contribution to the SPARC Data Initiativ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 develop new methods/algorithms to enable the merging of ESA and ESA Third-Party data with historical non ESA data sets (e.g. merging of GOMOS ozone data with SAGE data, extension of SSU temperature time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 clearly demonstrate the achieved quality of the newly generated data sets by the intercomparison to independent measurements (geophysical valid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o define detailed plans for futur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tratospheric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climate record generation (e.g. aerosol, water vap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85880" y="766800"/>
            <a:ext cx="7572240" cy="53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6160" y="776160"/>
            <a:ext cx="7591680" cy="530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95240" y="819000"/>
            <a:ext cx="755352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81200" y="776160"/>
            <a:ext cx="7581600" cy="530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9640" y="790560"/>
            <a:ext cx="7524720" cy="52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95240" y="785880"/>
            <a:ext cx="755352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90560" y="771480"/>
            <a:ext cx="756288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2000" y="-97560"/>
            <a:ext cx="7451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5698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14320" y="785880"/>
            <a:ext cx="7515360" cy="528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2:47:59Z</dcterms:created>
  <dc:creator>flegall</dc:creator>
  <dc:description/>
  <dc:language>en-US</dc:language>
  <cp:lastModifiedBy>czehner</cp:lastModifiedBy>
  <dcterms:modified xsi:type="dcterms:W3CDTF">2011-06-22T10:27:26Z</dcterms:modified>
  <cp:revision>667</cp:revision>
  <dc:subject/>
  <dc:title>PowerPoint Presentation</dc:title>
</cp:coreProperties>
</file>