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20.jpeg" ContentType="image/jpeg"/>
  <Override PartName="/ppt/media/image15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2.png" ContentType="image/png"/>
  <Override PartName="/ppt/media/image4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6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431280" y="662040"/>
            <a:ext cx="5931000" cy="44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678960" y="5343480"/>
            <a:ext cx="543564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7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8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5E55-3F81-4C82-82CC-29576C2DD14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433440" y="662040"/>
            <a:ext cx="5929200" cy="44463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8960" y="5343480"/>
            <a:ext cx="54356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this year the French and the German Government made the decision to implement a dedicated climate satellite mission. The main objective will be to observe atmospheric methane, as the second most abundant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hropogenic greenhouse g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obal Warming Poten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i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5 times lar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that of CO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ethane measurements from space will stop with Sciamachy on Envisat, a dedicated mission will directly serve all relevant atmospheric programmes in GMES and GC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A6E72-C2E9-49C8-8199-255768A489A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4193C-6E42-468C-8C30-4DE3F1D4E0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6AD70-93D4-4101-AB2D-E3A41674B36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3B2E2-03A6-472D-AA7A-08533827C1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E499A-6B32-4BC8-93C5-8C67A8A2429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174D3-7C27-4C66-9D63-6A7EDA3521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F6E5F-8007-4F07-88F6-37ABF8F524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C655F-E86D-496C-BBBA-D6DA527500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D45FA-FDCD-433B-A903-B1BCBB2838B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BE354-40AD-4C22-942A-C5F1E63F0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DB7F2-7F15-4B34-87E0-315630E9247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32ECA-BCF6-447E-985B-64D5516DC9D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163FE-9983-429C-9BBA-E50AB77626D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65F72-C893-4EDC-B811-868E9946984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02504-F20D-4F27-AFE1-8613B503F29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8E832-514B-4605-8D48-4F625C20033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5E927-05BC-486B-9FA2-BD4CD82001D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91085-3EB6-455A-9CF5-42AA9AFB958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C060D-046A-4959-A5E7-F0F259A0041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0C035-63A0-4F4E-AEB2-4063222D6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F7099-4DE3-44C3-9520-BE7DC0FED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96F2-1E2B-44EA-A94D-7D7355F88A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DFCE-B908-444B-B848-3B56E65624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5D29-810C-4FB5-A836-29537E383F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282D-35EC-4603-A33A-8848192D0A9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6F5D-48E0-473F-B7AA-A907D28378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BD47-A8E4-4530-A4A3-67062ADC74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64F0-393D-48A6-8BBF-D39E7B9201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4FEA-DA55-40DE-B7D0-A7D62C6873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2A66-9C18-45B5-B592-3A95BEACF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DB79-A5C7-44B0-B7F1-FCEAB853E2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B48E-0081-435D-B013-4025BCE812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9495-66EC-4D12-9ACB-07EC6EE5A5E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3844-9B94-48E4-8248-FE55F4A201A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E1A1-BC8D-43EF-94B3-09D96B16D73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B151-4195-46F2-9951-77894F705A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AA57-9E4E-4FF5-833C-0BF69B273C5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1527-18F1-44F2-B44B-6B9C6A447DA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1445-2619-4A65-AB86-7304D10154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AF2C-1CD0-411A-BA0F-2D182A1D9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C691-29CC-4B6D-AAF6-09FE8F7C5EB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B2D2-C55C-4C7B-A258-C0A4C851C0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5500-12E8-4166-AF96-CC370270BC9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F0C4-F6CF-42F6-B09E-8130A274609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2552-45A8-47CB-98EE-40B962F1D6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4A5-337D-47D7-92EB-E51E94C50C8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120-0FCE-4601-92B7-3A197B7A19E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A5C-4AFC-4235-9C67-E46B197BA4A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167-9300-4D99-B838-E5AFBBF2012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E25-11CE-4BBA-9276-2BF43AEFE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990720" y="837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032-F2D7-4B19-BA8E-B0B1E5AE83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794-78E1-4BE8-889E-5444200920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123-5744-41F6-A5B2-DF22681392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849-EC61-4DC3-8F71-318912D66D1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5B6-C620-49B0-99EA-C091B442AC2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73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73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785-7A3A-49C9-BB63-E6D3A4E1C5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61872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4636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61872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4636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D33-DB66-4C70-A1CA-C7BB1A8018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DA170-5895-47AD-AD7B-708E1D64CEB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1FBC9-3BC8-4F74-BF46-04441CE5582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FAE4C-0EB4-434B-8AAE-C6A1ECEDE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9"/>
          <a:stretch/>
        </p:blipFill>
        <p:spPr>
          <a:xfrm>
            <a:off x="0" y="6184800"/>
            <a:ext cx="9147240" cy="6732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3203640" y="662940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Standard presentation deck &gt; Sep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203640" y="647712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5572EBE-0B7B-43A3-9E8A-EBCA02A65A10}" type="slidenum">
              <a:rPr b="0" lang="de-D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10"/>
          <a:stretch/>
        </p:blipFill>
        <p:spPr>
          <a:xfrm>
            <a:off x="3240" y="0"/>
            <a:ext cx="91407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3749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3200400" y="6629400"/>
            <a:ext cx="5562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808080"/>
                </a:solidFill>
                <a:latin typeface="Arial"/>
              </a:rPr>
              <a:t>Standard presentation deck &gt; 20.04.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6"/>
          <p:cNvSpPr/>
          <p:nvPr/>
        </p:nvSpPr>
        <p:spPr>
          <a:xfrm>
            <a:off x="0" y="0"/>
            <a:ext cx="990720" cy="4038480"/>
          </a:xfrm>
          <a:custGeom>
            <a:avLst/>
            <a:gdLst/>
            <a:ahLst/>
            <a:rect l="l" t="t" r="r" b="b"/>
            <a:pathLst>
              <a:path w="624" h="2544">
                <a:moveTo>
                  <a:pt x="0" y="0"/>
                </a:moveTo>
                <a:cubicBezTo>
                  <a:pt x="248" y="720"/>
                  <a:pt x="411" y="989"/>
                  <a:pt x="624" y="1373"/>
                </a:cubicBezTo>
                <a:cubicBezTo>
                  <a:pt x="232" y="1971"/>
                  <a:pt x="78" y="2388"/>
                  <a:pt x="0" y="2544"/>
                </a:cubicBezTo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7" descr=""/>
          <p:cNvPicPr/>
          <p:nvPr/>
        </p:nvPicPr>
        <p:blipFill>
          <a:blip r:embed="rId3"/>
          <a:stretch/>
        </p:blipFill>
        <p:spPr>
          <a:xfrm>
            <a:off x="0" y="6184800"/>
            <a:ext cx="2482920" cy="6732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5"/>
          </p:nvPr>
        </p:nvSpPr>
        <p:spPr>
          <a:xfrm>
            <a:off x="3200400" y="6476760"/>
            <a:ext cx="55627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Folie </a:t>
            </a:r>
            <a:fld id="{A8B9F615-0EFA-495C-A1B5-FFF54942A942}" type="slidenum"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9"/>
          <a:stretch/>
        </p:blipFill>
        <p:spPr>
          <a:xfrm>
            <a:off x="0" y="6184800"/>
            <a:ext cx="914724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203640" y="662940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Standard presentation deck &gt; 22/01/200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203640" y="647712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B0AEE09-D6EF-402A-9D2A-76507290A52C}" type="slidenum">
              <a:rPr b="0" lang="de-D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10"/>
          <a:stretch/>
        </p:blipFill>
        <p:spPr>
          <a:xfrm>
            <a:off x="-1440" y="0"/>
            <a:ext cx="91454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9"/>
          <a:stretch/>
        </p:blipFill>
        <p:spPr>
          <a:xfrm>
            <a:off x="0" y="6184800"/>
            <a:ext cx="914724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3203640" y="662940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Standard presentation deck &gt; 22/01/200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03640" y="647712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lide </a:t>
            </a:r>
            <a:fld id="{7A974B8C-809C-4877-86B5-D32EC8EF1D0B}" type="slidenum">
              <a:rPr b="0" lang="de-D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0"/>
          <a:stretch/>
        </p:blipFill>
        <p:spPr>
          <a:xfrm>
            <a:off x="0" y="0"/>
            <a:ext cx="91454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9"/>
          <a:stretch/>
        </p:blipFill>
        <p:spPr>
          <a:xfrm>
            <a:off x="0" y="6184800"/>
            <a:ext cx="9147240" cy="673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3203640" y="662940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Standard presentation deck &gt; 22/01/200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03640" y="647712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3FE3593-B04F-4194-84EF-CF81B01C232B}" type="slidenum">
              <a:rPr b="0" lang="de-D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0"/>
          <a:stretch/>
        </p:blipFill>
        <p:spPr>
          <a:xfrm>
            <a:off x="-1440" y="0"/>
            <a:ext cx="91454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9"/>
          <a:stretch/>
        </p:blipFill>
        <p:spPr>
          <a:xfrm>
            <a:off x="0" y="6184800"/>
            <a:ext cx="9147240" cy="673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203640" y="662940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Standard presentation deck &gt; 22/01/200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203640" y="6477120"/>
            <a:ext cx="5562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F2568A9-B587-4B31-90BE-CAA6BCB9201C}" type="slidenum">
              <a:rPr b="0" lang="de-D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0"/>
          <a:stretch/>
        </p:blipFill>
        <p:spPr>
          <a:xfrm>
            <a:off x="0" y="0"/>
            <a:ext cx="91454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3200400" y="6629400"/>
            <a:ext cx="5562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808080"/>
                </a:solidFill>
                <a:latin typeface="Arial"/>
              </a:rPr>
              <a:t>Standard presentation deck &gt; Sep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0" y="0"/>
            <a:ext cx="990720" cy="4038480"/>
          </a:xfrm>
          <a:custGeom>
            <a:avLst/>
            <a:gdLst/>
            <a:ahLst/>
            <a:rect l="l" t="t" r="r" b="b"/>
            <a:pathLst>
              <a:path w="624" h="2544">
                <a:moveTo>
                  <a:pt x="0" y="0"/>
                </a:moveTo>
                <a:cubicBezTo>
                  <a:pt x="248" y="720"/>
                  <a:pt x="411" y="989"/>
                  <a:pt x="624" y="1373"/>
                </a:cubicBezTo>
                <a:cubicBezTo>
                  <a:pt x="232" y="1971"/>
                  <a:pt x="78" y="2388"/>
                  <a:pt x="0" y="2544"/>
                </a:cubicBezTo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3"/>
          <a:stretch/>
        </p:blipFill>
        <p:spPr>
          <a:xfrm>
            <a:off x="0" y="6184800"/>
            <a:ext cx="2482920" cy="673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"/>
          </p:nvPr>
        </p:nvSpPr>
        <p:spPr>
          <a:xfrm>
            <a:off x="3200400" y="6476760"/>
            <a:ext cx="55627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Slide </a:t>
            </a:r>
            <a:fld id="{EFBEB36A-765C-4589-AC1F-DA604AE28948}" type="slidenum"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0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237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3200400" y="6629400"/>
            <a:ext cx="5562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808080"/>
                </a:solidFill>
                <a:latin typeface="Arial"/>
              </a:rPr>
              <a:t>Standard presentation deck &gt; 20.04.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"/>
          <p:cNvSpPr/>
          <p:nvPr/>
        </p:nvSpPr>
        <p:spPr>
          <a:xfrm>
            <a:off x="0" y="0"/>
            <a:ext cx="990720" cy="4038480"/>
          </a:xfrm>
          <a:custGeom>
            <a:avLst/>
            <a:gdLst/>
            <a:ahLst/>
            <a:rect l="l" t="t" r="r" b="b"/>
            <a:pathLst>
              <a:path w="624" h="2544">
                <a:moveTo>
                  <a:pt x="0" y="0"/>
                </a:moveTo>
                <a:cubicBezTo>
                  <a:pt x="248" y="720"/>
                  <a:pt x="411" y="989"/>
                  <a:pt x="624" y="1373"/>
                </a:cubicBezTo>
                <a:cubicBezTo>
                  <a:pt x="232" y="1971"/>
                  <a:pt x="78" y="2388"/>
                  <a:pt x="0" y="2544"/>
                </a:cubicBezTo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3"/>
          <a:stretch/>
        </p:blipFill>
        <p:spPr>
          <a:xfrm>
            <a:off x="0" y="6184800"/>
            <a:ext cx="2482920" cy="673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2"/>
          </p:nvPr>
        </p:nvSpPr>
        <p:spPr>
          <a:xfrm>
            <a:off x="3200400" y="6476760"/>
            <a:ext cx="55627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Folie </a:t>
            </a:r>
            <a:fld id="{EE9D0BC8-F385-409D-9BAA-9CFDCC04C302}" type="slidenum"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3749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3200400" y="6629400"/>
            <a:ext cx="5562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808080"/>
                </a:solidFill>
                <a:latin typeface="Arial"/>
              </a:rPr>
              <a:t>Standard presentation deck &gt; 20.04.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6"/>
          <p:cNvSpPr/>
          <p:nvPr/>
        </p:nvSpPr>
        <p:spPr>
          <a:xfrm>
            <a:off x="0" y="0"/>
            <a:ext cx="990720" cy="4038480"/>
          </a:xfrm>
          <a:custGeom>
            <a:avLst/>
            <a:gdLst/>
            <a:ahLst/>
            <a:rect l="l" t="t" r="r" b="b"/>
            <a:pathLst>
              <a:path w="624" h="2544">
                <a:moveTo>
                  <a:pt x="0" y="0"/>
                </a:moveTo>
                <a:cubicBezTo>
                  <a:pt x="248" y="720"/>
                  <a:pt x="411" y="989"/>
                  <a:pt x="624" y="1373"/>
                </a:cubicBezTo>
                <a:cubicBezTo>
                  <a:pt x="232" y="1971"/>
                  <a:pt x="78" y="2388"/>
                  <a:pt x="0" y="2544"/>
                </a:cubicBezTo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3"/>
          <a:stretch/>
        </p:blipFill>
        <p:spPr>
          <a:xfrm>
            <a:off x="0" y="6184800"/>
            <a:ext cx="2482920" cy="6732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3"/>
          </p:nvPr>
        </p:nvSpPr>
        <p:spPr>
          <a:xfrm>
            <a:off x="3200400" y="6476760"/>
            <a:ext cx="55627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Folie </a:t>
            </a:r>
            <a:fld id="{5CCE7287-E5A1-4215-9E82-418450D674C8}" type="slidenum"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23749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3200400" y="6629400"/>
            <a:ext cx="5562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808080"/>
                </a:solidFill>
                <a:latin typeface="Arial"/>
              </a:rPr>
              <a:t>Standard presentation deck &gt; 20.01.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6"/>
          <p:cNvSpPr/>
          <p:nvPr/>
        </p:nvSpPr>
        <p:spPr>
          <a:xfrm>
            <a:off x="0" y="0"/>
            <a:ext cx="990720" cy="4038480"/>
          </a:xfrm>
          <a:custGeom>
            <a:avLst/>
            <a:gdLst/>
            <a:ahLst/>
            <a:rect l="l" t="t" r="r" b="b"/>
            <a:pathLst>
              <a:path w="624" h="2544">
                <a:moveTo>
                  <a:pt x="0" y="0"/>
                </a:moveTo>
                <a:cubicBezTo>
                  <a:pt x="248" y="720"/>
                  <a:pt x="411" y="989"/>
                  <a:pt x="624" y="1373"/>
                </a:cubicBezTo>
                <a:cubicBezTo>
                  <a:pt x="232" y="1971"/>
                  <a:pt x="78" y="2388"/>
                  <a:pt x="0" y="2544"/>
                </a:cubicBezTo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3"/>
          <a:stretch/>
        </p:blipFill>
        <p:spPr>
          <a:xfrm>
            <a:off x="0" y="6184800"/>
            <a:ext cx="2482920" cy="6732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4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54545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79080">
              <a:spcBef>
                <a:spcPts val="5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9440">
              <a:spcBef>
                <a:spcPts val="5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80880">
              <a:spcBef>
                <a:spcPts val="56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64000" indent="-381240">
              <a:spcBef>
                <a:spcPts val="56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64000" indent="-381240">
              <a:spcBef>
                <a:spcPts val="56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64000" indent="-381240">
              <a:spcBef>
                <a:spcPts val="56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Num" idx="4"/>
          </p:nvPr>
        </p:nvSpPr>
        <p:spPr>
          <a:xfrm>
            <a:off x="3200400" y="6476760"/>
            <a:ext cx="55627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Folie </a:t>
            </a:r>
            <a:fld id="{9F0921FB-9F9F-436D-8CDE-694BD4B2F5E9}" type="slidenum">
              <a:rPr b="0" lang="de-DE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wmf"/><Relationship Id="rId7" Type="http://schemas.openxmlformats.org/officeDocument/2006/relationships/image" Target="../media/image20.jpeg"/><Relationship Id="rId8" Type="http://schemas.openxmlformats.org/officeDocument/2006/relationships/image" Target="../media/image19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0"/>
          <p:cNvSpPr/>
          <p:nvPr/>
        </p:nvSpPr>
        <p:spPr>
          <a:xfrm>
            <a:off x="231840" y="1724760"/>
            <a:ext cx="62499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cc"/>
                </a:solidFill>
                <a:uFillTx/>
                <a:latin typeface="Arial"/>
              </a:rPr>
              <a:t>Prime objecti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surement  of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atmospheric metha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rom space (single source after Sciamachy) using an Integrated Path Differential-Absorption Li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culation of the strength of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Methane 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n ground with the help of inverse modelling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cc"/>
                </a:solidFill>
                <a:uFillTx/>
                <a:latin typeface="Arial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se 0/A kicked-off Ma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se 0 finished successfully Dec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se A started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tical technologies in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nch planned in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cc"/>
                </a:solidFill>
                <a:uFillTx/>
                <a:latin typeface="Arial"/>
              </a:rPr>
              <a:t>German Industry Consort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90792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54545"/>
                </a:solidFill>
                <a:latin typeface="Arial"/>
              </a:rPr>
              <a:t>D/F Climate Mission </a:t>
            </a:r>
            <a:r>
              <a:rPr b="1" lang="en-GB" sz="2400" spc="-1" strike="noStrike">
                <a:solidFill>
                  <a:srgbClr val="454545"/>
                </a:solidFill>
                <a:latin typeface="Arial"/>
              </a:rPr>
              <a:t>M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54545"/>
                </a:solidFill>
                <a:latin typeface="Arial"/>
              </a:rPr>
              <a:t>(Methane Remote Sensing Lidar Mission)</a:t>
            </a:r>
            <a:r>
              <a:rPr b="0" lang="en-GB" sz="2400" spc="-1" strike="noStrike">
                <a:solidFill>
                  <a:srgbClr val="454545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" descr=""/>
          <p:cNvPicPr/>
          <p:nvPr/>
        </p:nvPicPr>
        <p:blipFill>
          <a:blip r:embed="rId1"/>
          <a:stretch/>
        </p:blipFill>
        <p:spPr>
          <a:xfrm>
            <a:off x="-7920" y="-7920"/>
            <a:ext cx="647640" cy="573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EADS_Astrium"/>
          <p:cNvPicPr/>
          <p:nvPr/>
        </p:nvPicPr>
        <p:blipFill>
          <a:blip r:embed="rId2"/>
          <a:stretch/>
        </p:blipFill>
        <p:spPr>
          <a:xfrm>
            <a:off x="384120" y="5662440"/>
            <a:ext cx="897120" cy="390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Kayser-Threde"/>
          <p:cNvPicPr/>
          <p:nvPr/>
        </p:nvPicPr>
        <p:blipFill>
          <a:blip r:embed="rId3"/>
          <a:stretch/>
        </p:blipFill>
        <p:spPr>
          <a:xfrm>
            <a:off x="1393920" y="5664240"/>
            <a:ext cx="592200" cy="388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"/>
          <p:cNvPicPr/>
          <p:nvPr/>
        </p:nvPicPr>
        <p:blipFill>
          <a:blip r:embed="rId4"/>
          <a:stretch/>
        </p:blipFill>
        <p:spPr>
          <a:xfrm>
            <a:off x="2098800" y="5713560"/>
            <a:ext cx="1008000" cy="288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1" descr=""/>
          <p:cNvPicPr/>
          <p:nvPr/>
        </p:nvPicPr>
        <p:blipFill>
          <a:blip r:embed="rId5"/>
          <a:stretch/>
        </p:blipFill>
        <p:spPr>
          <a:xfrm>
            <a:off x="3219480" y="5665680"/>
            <a:ext cx="493560" cy="38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"/>
          <p:cNvPicPr/>
          <p:nvPr/>
        </p:nvPicPr>
        <p:blipFill>
          <a:blip r:embed="rId6"/>
          <a:stretch/>
        </p:blipFill>
        <p:spPr>
          <a:xfrm>
            <a:off x="3825720" y="5624640"/>
            <a:ext cx="563760" cy="468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3" descr="Lidar"/>
          <p:cNvPicPr/>
          <p:nvPr/>
        </p:nvPicPr>
        <p:blipFill>
          <a:blip r:embed="rId7"/>
          <a:stretch/>
        </p:blipFill>
        <p:spPr>
          <a:xfrm>
            <a:off x="6659640" y="696960"/>
            <a:ext cx="1969920" cy="2876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4" descr=""/>
          <p:cNvPicPr/>
          <p:nvPr/>
        </p:nvPicPr>
        <p:blipFill>
          <a:blip r:embed="rId8"/>
          <a:stretch/>
        </p:blipFill>
        <p:spPr>
          <a:xfrm>
            <a:off x="614520" y="-9360"/>
            <a:ext cx="612720" cy="509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5" descr=""/>
          <p:cNvPicPr/>
          <p:nvPr/>
        </p:nvPicPr>
        <p:blipFill>
          <a:blip r:embed="rId9"/>
          <a:stretch/>
        </p:blipFill>
        <p:spPr>
          <a:xfrm>
            <a:off x="6227640" y="3637080"/>
            <a:ext cx="2436840" cy="274464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7"/>
          <p:cNvSpPr/>
          <p:nvPr/>
        </p:nvSpPr>
        <p:spPr>
          <a:xfrm>
            <a:off x="5076720" y="407664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454545"/>
                </a:solidFill>
                <a:latin typeface="Arial"/>
              </a:rPr>
              <a:t>Preliminary design view of the MERLIN Methane lidar instrument (Astrium &amp; KT</a:t>
            </a:r>
            <a:r>
              <a:rPr b="0" lang="en-GB" sz="1200" spc="-1" strike="noStrike">
                <a:solidFill>
                  <a:srgbClr val="45454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cp:lastPrinted>1900-12-31T23:00:00Z</cp:lastPrinted>
  <dcterms:modified xsi:type="dcterms:W3CDTF">2011-06-21T01:34:09Z</dcterms:modified>
  <cp:revision>96</cp:revision>
  <dc:subject/>
  <dc:title>PowerPoint-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ategorie">
    <vt:lpwstr>Foliensatz</vt:lpwstr>
  </property>
  <property fmtid="{D5CDD505-2E9C-101B-9397-08002B2CF9AE}" pid="3" name="Owner">
    <vt:lpwstr>walt_mi</vt:lpwstr>
  </property>
  <property fmtid="{D5CDD505-2E9C-101B-9397-08002B2CF9AE}" pid="4" name="Projekt">
    <vt:lpwstr>DLR allgemein</vt:lpwstr>
  </property>
  <property fmtid="{D5CDD505-2E9C-101B-9397-08002B2CF9AE}" pid="5" name="SPSDescription">
    <vt:lpwstr>Stand 06.10.2010</vt:lpwstr>
  </property>
  <property fmtid="{D5CDD505-2E9C-101B-9397-08002B2CF9AE}" pid="6" name="Status">
    <vt:lpwstr>Endgültig</vt:lpwstr>
  </property>
</Properties>
</file>