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4FAD-AF20-4CD4-B1FC-952CF8FA5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20600" y="27432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C538-1562-4AD2-B0CC-0551BB16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20600" y="27432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C202-7D3B-4880-9E4A-C883C7F65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20600" y="27432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8C48-C8A2-44E7-870B-EF917F803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45B0-A5CC-41D0-92D8-33B0454A5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20600" y="27432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5755-B8E1-42C5-9186-3BF608A2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20600" y="27432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3646-AFA8-425B-8E00-0326365D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20600" y="27432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BC35-B339-4011-91A0-3878856E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20600" y="27432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3F51-059C-491B-BDBA-F08126CE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020600" y="274320"/>
            <a:ext cx="722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1F33-D64B-4545-B7CD-3F546B9E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20600" y="27432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ED1E-3A6E-420F-A282-9BAE72A1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20600" y="27432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3C0C-11F1-4E94-A750-0CC91FB3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20600" y="27432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85954-7E63-4CF9-8B90-4A33848E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20600" y="27432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EC7A-52D1-4BAC-95C8-3272F384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20600" y="27432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3FF0-D8EB-426A-AAA6-90159180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20600" y="27432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E71F-06FE-425B-84C9-2ADCD9C69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20600" y="27432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E46DE-12FC-4708-B195-51A25E090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95E41-ACBC-4890-9919-A332C6AA2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20600" y="27432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0E137-A198-455B-9B60-823AF222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20600" y="27432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CB6E1-D847-4747-A4A7-D43B41E0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20600" y="27432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CF137-7C23-47CE-9F05-1DF9AEFA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20600" y="27432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17527-3A26-402F-B554-C2968D91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20600" y="27432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294C-3381-458D-A703-019ABEFC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020600" y="274320"/>
            <a:ext cx="722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2FA36-3CF7-4F8F-BCDA-4DA5118A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20600" y="27432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DB711-1797-45B4-9E92-271E45C2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20600" y="27432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4CE19-E0A2-48C4-8704-BB60694A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20600" y="27432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CC5AA-1C27-4A8B-9488-C7801E28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20600" y="27432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91194-2EE5-45DE-939D-7F62D80B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20600" y="27432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5FA21-2A5E-4AFC-A35E-F04718172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20600" y="27432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DEF52-147B-424D-82C4-E00E962E6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20600" y="27432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8F82-C0D7-4F8A-A89B-E6059335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20600" y="27432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01DC-9271-4E6F-92E3-EDF7343A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20600" y="274320"/>
            <a:ext cx="722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E182-AD35-4706-B6CD-B4B9A856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20600" y="27432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5555-E28E-4274-96FE-DD1523AF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20600" y="27432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D669-1DFD-4F09-B555-A60723D2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20600" y="27432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A24D-F7E0-485A-8EFC-7E2B5919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20600" y="27432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54FAA1-97D4-48BF-8D33-8341D2E77C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020600" cy="8380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5" descr="NOAA-Transparent-Logo.png"/>
          <p:cNvPicPr/>
          <p:nvPr/>
        </p:nvPicPr>
        <p:blipFill>
          <a:blip r:embed="rId3"/>
          <a:stretch/>
        </p:blipFill>
        <p:spPr>
          <a:xfrm>
            <a:off x="8242200" y="0"/>
            <a:ext cx="901800" cy="90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4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3e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3e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3e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8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b76"/>
                  </a:gs>
                  <a:gs pos="100000">
                    <a:srgbClr val="0027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b76"/>
                  </a:gs>
                  <a:gs pos="100000">
                    <a:srgbClr val="0027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b76"/>
                  </a:gs>
                  <a:gs pos="100000">
                    <a:srgbClr val="0027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b76"/>
                  </a:gs>
                  <a:gs pos="100000">
                    <a:srgbClr val="0027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b76"/>
                  </a:gs>
                  <a:gs pos="100000">
                    <a:srgbClr val="0027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b76"/>
                  </a:gs>
                  <a:gs pos="100000">
                    <a:srgbClr val="0027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b76"/>
                  </a:gs>
                  <a:gs pos="100000">
                    <a:srgbClr val="0027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b76"/>
                  </a:gs>
                  <a:gs pos="100000">
                    <a:srgbClr val="0027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b76"/>
                  </a:gs>
                  <a:gs pos="100000">
                    <a:srgbClr val="0027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b76"/>
                  </a:gs>
                  <a:gs pos="100000">
                    <a:srgbClr val="0027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b76"/>
                  </a:gs>
                  <a:gs pos="100000">
                    <a:srgbClr val="0027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b76"/>
                  </a:gs>
                  <a:gs pos="100000">
                    <a:srgbClr val="0027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b76"/>
                  </a:gs>
                  <a:gs pos="100000">
                    <a:srgbClr val="0027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3e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3e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38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3b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3b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38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3b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3b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3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5CC521-F430-48BD-A58E-B16603130FA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22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3e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3e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3e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5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26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b76"/>
                  </a:gs>
                  <a:gs pos="100000">
                    <a:srgbClr val="0027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b76"/>
                  </a:gs>
                  <a:gs pos="100000">
                    <a:srgbClr val="0027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b76"/>
                  </a:gs>
                  <a:gs pos="100000">
                    <a:srgbClr val="0027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b76"/>
                  </a:gs>
                  <a:gs pos="100000">
                    <a:srgbClr val="0027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b76"/>
                  </a:gs>
                  <a:gs pos="100000">
                    <a:srgbClr val="0027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b76"/>
                  </a:gs>
                  <a:gs pos="100000">
                    <a:srgbClr val="0027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b76"/>
                  </a:gs>
                  <a:gs pos="100000">
                    <a:srgbClr val="0027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b76"/>
                  </a:gs>
                  <a:gs pos="100000">
                    <a:srgbClr val="0027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b76"/>
                  </a:gs>
                  <a:gs pos="100000">
                    <a:srgbClr val="0027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b76"/>
                  </a:gs>
                  <a:gs pos="100000">
                    <a:srgbClr val="0027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b76"/>
                  </a:gs>
                  <a:gs pos="100000">
                    <a:srgbClr val="0027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b76"/>
                  </a:gs>
                  <a:gs pos="100000">
                    <a:srgbClr val="0027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b76"/>
                  </a:gs>
                  <a:gs pos="100000">
                    <a:srgbClr val="0027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9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3e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3e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38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3b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3b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38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3b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3b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0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51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6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75C025-057F-45A2-932B-A714427EE63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9698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lity of SBUV &amp; TOMS Total Ozone Datas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017880"/>
            <a:ext cx="6726240" cy="25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a452a"/>
                </a:solidFill>
                <a:latin typeface="Calibri"/>
                <a:ea typeface="Arial"/>
              </a:rPr>
              <a:t>Pawan K Bhartia</a:t>
            </a:r>
            <a:r>
              <a:rPr b="0" lang="en-US" sz="2400" spc="-1" strike="noStrike" baseline="30000">
                <a:solidFill>
                  <a:srgbClr val="4a452a"/>
                </a:solidFill>
                <a:latin typeface="Calibri"/>
                <a:ea typeface="Arial"/>
              </a:rPr>
              <a:t>1</a:t>
            </a:r>
            <a:r>
              <a:rPr b="0" lang="en-US" sz="2400" spc="-1" strike="noStrike">
                <a:solidFill>
                  <a:srgbClr val="4a452a"/>
                </a:solidFill>
                <a:latin typeface="Calibri"/>
                <a:ea typeface="Arial"/>
              </a:rPr>
              <a:t>, Steven Taylor</a:t>
            </a:r>
            <a:r>
              <a:rPr b="0" lang="en-US" sz="2400" spc="-1" strike="noStrike" baseline="30000">
                <a:solidFill>
                  <a:srgbClr val="4a452a"/>
                </a:solidFill>
                <a:latin typeface="Calibri"/>
                <a:ea typeface="Arial"/>
              </a:rPr>
              <a:t>3</a:t>
            </a:r>
            <a:r>
              <a:rPr b="0" lang="en-US" sz="2400" spc="-1" strike="noStrike">
                <a:solidFill>
                  <a:srgbClr val="4a452a"/>
                </a:solidFill>
                <a:latin typeface="Calibri"/>
                <a:ea typeface="Arial"/>
              </a:rPr>
              <a:t>, Matthew DeLand</a:t>
            </a:r>
            <a:r>
              <a:rPr b="0" lang="en-US" sz="2400" spc="-1" strike="noStrike" baseline="30000">
                <a:solidFill>
                  <a:srgbClr val="4a452a"/>
                </a:solidFill>
                <a:latin typeface="Calibri"/>
                <a:ea typeface="Arial"/>
              </a:rPr>
              <a:t>3</a:t>
            </a:r>
            <a:r>
              <a:rPr b="0" lang="en-US" sz="2400" spc="-1" strike="noStrike">
                <a:solidFill>
                  <a:srgbClr val="4a452a"/>
                </a:solidFill>
                <a:latin typeface="Calibri"/>
                <a:ea typeface="Arial"/>
              </a:rPr>
              <a:t> Richard McPeters</a:t>
            </a:r>
            <a:r>
              <a:rPr b="0" lang="en-US" sz="2400" spc="-1" strike="noStrike" baseline="30000">
                <a:solidFill>
                  <a:srgbClr val="4a452a"/>
                </a:solidFill>
                <a:latin typeface="Calibri"/>
                <a:ea typeface="Arial"/>
              </a:rPr>
              <a:t>1</a:t>
            </a:r>
            <a:r>
              <a:rPr b="0" lang="en-US" sz="2400" spc="-1" strike="noStrike">
                <a:solidFill>
                  <a:srgbClr val="4a452a"/>
                </a:solidFill>
                <a:latin typeface="Calibri"/>
                <a:ea typeface="Arial"/>
              </a:rPr>
              <a:t>, Lawrence Flynn</a:t>
            </a:r>
            <a:r>
              <a:rPr b="0" lang="en-US" sz="2400" spc="-1" strike="noStrike" baseline="30000">
                <a:solidFill>
                  <a:srgbClr val="4a452a"/>
                </a:solidFill>
                <a:latin typeface="Calibri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baseline="30000">
                <a:solidFill>
                  <a:srgbClr val="4a452a"/>
                </a:solidFill>
                <a:latin typeface="Calibri"/>
                <a:ea typeface="Arial"/>
              </a:rPr>
              <a:t>1</a:t>
            </a:r>
            <a:r>
              <a:rPr b="0" lang="en-US" sz="1800" spc="-1" strike="noStrike">
                <a:solidFill>
                  <a:srgbClr val="4a452a"/>
                </a:solidFill>
                <a:latin typeface="Calibri"/>
                <a:ea typeface="Arial"/>
              </a:rPr>
              <a:t>NASA Goddard Space Flight Center, Greenbelt, Maryland, US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baseline="30000">
                <a:solidFill>
                  <a:srgbClr val="4a452a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4a452a"/>
                </a:solidFill>
                <a:latin typeface="Calibri"/>
                <a:ea typeface="Arial"/>
              </a:rPr>
              <a:t>NOAA/NESDIS, Camp Springs, Maryland, U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baseline="30000">
                <a:solidFill>
                  <a:srgbClr val="4a452a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4a452a"/>
                </a:solidFill>
                <a:latin typeface="Calibri"/>
                <a:ea typeface="Arial"/>
              </a:rPr>
              <a:t>Science Systems &amp; Applications Inc (SSAI), Lanham, Maryland, , U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1465200" y="6016680"/>
            <a:ext cx="639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EOS Atm Composition Constellation Meeting, Columbia, Maryl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June 21-22, 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20600" y="27432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mbus-7/SBUV Soft calibr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ir Justification Method (Herman et al.,199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d D-pr ozone to correct drift in total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ngley Plot Method (Bhartia et al., 199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red data from ascending/descending parts of orbit  to chec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ymbol"/>
              </a:rPr>
              <a:t>-dep calibration errors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eep mode data analysis (Joiner &amp; Bhartia, 199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red total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erived from a spectral fitting algorithm with standard processin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3"/>
          <p:cNvSpPr/>
          <p:nvPr/>
        </p:nvSpPr>
        <p:spPr>
          <a:xfrm>
            <a:off x="741240" y="5575320"/>
            <a:ext cx="7500960" cy="8254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unlikely that SBUV drifted by ~2 DU in the first 2-3 years as seen in SBUV/ground stn comparis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20600" y="274680"/>
            <a:ext cx="72216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“D-pair” Meth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 assum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BUV calibration error varies roughly linearly with wavelength over its full 90 nm spectral ran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-pair total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rror estim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-pr (305.8/312.5 nm) radiance ratio is assumed to be known to better than 0.5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-pr radiance radiance changes by 0.5%/DU at low SZA, has weak dependence on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rofi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timated error in D-pair ozone is &lt;1 DU at low SZ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3"/>
          <p:cNvSpPr/>
          <p:nvPr/>
        </p:nvSpPr>
        <p:spPr>
          <a:xfrm>
            <a:off x="1625760" y="5962680"/>
            <a:ext cx="5410080" cy="5101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Calibri"/>
              </a:rPr>
              <a:t>D-pr O</a:t>
            </a:r>
            <a:r>
              <a:rPr b="0" lang="en-US" sz="2400" spc="-1" strike="noStrike" baseline="-25000">
                <a:solidFill>
                  <a:srgbClr val="17375e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17375e"/>
                </a:solidFill>
                <a:latin typeface="Calibri"/>
              </a:rPr>
              <a:t> can be derived at low SZA onl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20600" y="27432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mbus-7 SBUV profile and D-pr total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mpari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1095480" y="1417680"/>
            <a:ext cx="7146720" cy="4930560"/>
          </a:xfrm>
          <a:prstGeom prst="rect">
            <a:avLst/>
          </a:prstGeom>
          <a:ln w="0">
            <a:noFill/>
          </a:ln>
        </p:spPr>
      </p:pic>
      <p:sp>
        <p:nvSpPr>
          <p:cNvPr id="238" name="TextBox 5"/>
          <p:cNvSpPr/>
          <p:nvPr/>
        </p:nvSpPr>
        <p:spPr>
          <a:xfrm>
            <a:off x="3930120" y="17208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: 5S- 5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20600" y="274320"/>
            <a:ext cx="722160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BUV Total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ata Quality Summ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47584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ibration Accurac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-2 DU for Nimbus-7 &amp; NOAA 16/17/18, 2-3 DU for o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gorithm Accuracy (not incl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x-section error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rt-term: 3 DU (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at low sza, ~5 DU at 88˚ SZ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ng-term: 0.5 DU (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at low SZA, 1-2 DU at 88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rface-25 km column has similar accuracy as total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at column has similar accuracy at SZA&gt;75˚, 2-3 times worse at lower SZA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ffect of Volcanic Aerosols: TBD but sm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20600" y="274320"/>
            <a:ext cx="722160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MS Instruments- Key Fea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47584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monochromator, single PMT, and depolariz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lical scanning mirror: Incidence and reflection angles do not change as the mirror sca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duces 2600 km swath, 50 x 50 km nadir pix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pper wheel with up &amp; down count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iminates charged particle contam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xed slits sample 6 wavelengths near simultaneous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ss cloud noise than SBUV but more than GOME/OM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ctral coverage: 312-380 nm for Nimbus-7 &amp; Meteor-3 TOMS (308-360 for EP/TOM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20600" y="274320"/>
            <a:ext cx="722160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MS Calibration Hi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599840"/>
            <a:ext cx="8475840" cy="36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7/TOMS: Only “day 1” solar measurements u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radiance corrected using techniques similar to SBUV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teor-3/TOMS: “day 1” solar measurements only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libration uncertainties caused by precessing orbi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ffected by Mt. Pinatubo aeroso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P/TOMS: Variety of instrument problem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corrected using NOAA SBUV-2 and ice radianc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MI/TOMS: good solar d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libration accuracy; ~3 DU absolute, ~1 DU relativ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20600" y="274320"/>
            <a:ext cx="722160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BUBV/TOMS Data Quality Compari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47584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MS algorithm is optimized for tracking short-term variability, SBUV for long-term variabil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erence is significant only at large SZ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MS is somewhat more sensitive to surface reflectivity, clouds, and UV-absorbing aeros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cation dependent errors have been seen in TOMS dat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MS monthly mean total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ay be 2-3 times less accurate than SBUV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lan is to adjust TOMS &amp; OMI/TOMS calibration to SBUV before reprocessing using Brion et al.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-se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20600" y="27432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mmend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417680"/>
            <a:ext cx="822960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alidation/correction of SBUV total 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reco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imbus/7 SBUV &amp; post-NOAA/16 SBUV-2 data shouldn’t be adjusted to ground-based data. These records are at least as good as ground dat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round data could be used to inter-calibrate Nimbus 4 to Nimbus 7 and to correct NOAA 9/11/14 SBUV-2 record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st way to validate SBUV at SZA&gt;70˚ is to compare partial columns with Limb/occultation and sonde instrument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isting TOMS &amp; OMI/TOMS data need to be adjusted to SBUV until a new version is releas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rewer ZS data should be reprocessed using a satellite-like algorith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oletov et al., 2011 algorithm is a good start, but SBUV-like algorithm is needed at large SZA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20600" y="27432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rman et al., 1991: A new self-calibration method applied to TOMS and SBUV Backscattered Ultraviolet data to determine long-term global ozone change.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J. Geophys. Res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9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7531-754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hartia et al., 1995:  Application of the Langley Plot method to the calibration of SBUV instrument on Nimbus-7 satellite.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J. Geophys. Res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2997-300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oiner, J. and P. K. Bhartia, 1997:  Accurate determination of total ozone using SBUV continuous spectral scan  measurements.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J. Geophys. Res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0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12,957-12,97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oletov, et al., 2011: New method for deriving total ozone from Brewer zenith sky observations.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J. Geophys. Res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1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D08301, doi:10.1029/2010JD015399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6161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638840" cy="4533840"/>
          </a:xfrm>
          <a:prstGeom prst="rect">
            <a:avLst/>
          </a:prstGeom>
          <a:ln w="0">
            <a:noFill/>
          </a:ln>
        </p:spPr>
      </p:pic>
      <p:sp>
        <p:nvSpPr>
          <p:cNvPr id="203" name="TextBox 5"/>
          <p:cNvSpPr/>
          <p:nvPr/>
        </p:nvSpPr>
        <p:spPr>
          <a:xfrm>
            <a:off x="762120" y="5334120"/>
            <a:ext cx="748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9 SBUV-like instruments have flown since April 1970. NOAA 19, launched in Feb, 2009, not shown. Red dashes indicate terminator orb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20600" y="27432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BUV Instruments- Key Fea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tains double monochromator, single PMT detector, and depolariz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ngle optical path covers 250-340 nm with low straylight and high S/N. Optical degradation tends to be roughly linear with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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opper wheel with up/down counter (except N4/BUV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charged particle effect down to 250 nm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imbus-7 SBUV operating modes (others var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dir measurements on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rmal mode: steps thru 12 discrete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 in 32 se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V: 200 km x  200 k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weep mode: Scans thru 180-400 nm with  5 samples/bandpass. Weekly for Sun, monthly for Earth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ibration Hi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79360" y="14173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imbus 4/BUV: No solar meas, no sweep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ance corrected using Hohenp/Payerne sonde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imbus 7/SBUV: “Day 1” Solar onl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ance drift corrected using “soft” calibration techniq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AA 9/11/14 SBUV-2: Limited solar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y instrument problems. Total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relatively unaffec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solute calibration tied to Shuttle SBUV (SSBUV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AA 16/17/18/19: Calibrated solar diffus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solute calibration tied to NOAA 17/SBUV-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20600" y="274680"/>
            <a:ext cx="7221600" cy="8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tal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lgorith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30788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avelength pair method (e.g., TOM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MS V8 mostly uses 317.5/331.2 nm pair (B-pr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adiance ratio varies by 0.17%/DU @30˚ SZ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-pr becomes sensitive to upper strat* climatology at SZA&gt;70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pectral fitting methods (e.g., DOA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 algorithm uses 325-335 nm window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fferential signal varies by 0.035%/DU @30˚ SZ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gorithm becomes sensitive to upper strat* climatology at SZA&gt;77˚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y integration of retrieved 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profile (e.g., SBUV V8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sensitive to upper strat* climatolo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06 nm radiance varies by 1%/DU @30˚ SZ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3"/>
          <p:cNvSpPr/>
          <p:nvPr/>
        </p:nvSpPr>
        <p:spPr>
          <a:xfrm>
            <a:off x="1499760" y="6488280"/>
            <a:ext cx="5866560" cy="40572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All algorithms have similar sensitivity to trop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limatolo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BUV V8.6 Algorith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346040"/>
            <a:ext cx="848376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d on Rodgers’ Optimal Estimation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gorithm has been optimized to track long-term changes by constructing appropriate covariance matri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rt-term variability is underestimated at large SZ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s variable wavelength window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velengths significantly contaminated by UV-absorbing aerosols (smoke and desert dust) are not u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ngest wavelength varies from 302 nm at low sza to 317.5 nm near the terminator. (331 nm is used for reflectivity everywhere.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stimated by integrating the pro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liable measurements up to 88˚ sz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11"/>
          <p:cNvGrpSpPr/>
          <p:nvPr/>
        </p:nvGrpSpPr>
        <p:grpSpPr>
          <a:xfrm>
            <a:off x="1874880" y="109440"/>
            <a:ext cx="5851080" cy="5981760"/>
            <a:chOff x="1874880" y="109440"/>
            <a:chExt cx="5851080" cy="5981760"/>
          </a:xfrm>
        </p:grpSpPr>
        <p:pic>
          <p:nvPicPr>
            <p:cNvPr id="214" name="Picture 4" descr=""/>
            <p:cNvPicPr/>
            <p:nvPr/>
          </p:nvPicPr>
          <p:blipFill>
            <a:blip r:embed="rId1"/>
            <a:stretch/>
          </p:blipFill>
          <p:spPr>
            <a:xfrm>
              <a:off x="1874880" y="400320"/>
              <a:ext cx="5715000" cy="56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Box 5"/>
            <p:cNvSpPr/>
            <p:nvPr/>
          </p:nvSpPr>
          <p:spPr>
            <a:xfrm>
              <a:off x="2520720" y="109440"/>
              <a:ext cx="1966680" cy="405720"/>
            </a:xfrm>
            <a:prstGeom prst="rect">
              <a:avLst/>
            </a:prstGeom>
            <a:solidFill>
              <a:srgbClr val="fcd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otal 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Avg Kern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TextBox 6"/>
            <p:cNvSpPr/>
            <p:nvPr/>
          </p:nvSpPr>
          <p:spPr>
            <a:xfrm>
              <a:off x="5399280" y="109440"/>
              <a:ext cx="2326680" cy="368280"/>
            </a:xfrm>
            <a:prstGeom prst="rect">
              <a:avLst/>
            </a:prstGeom>
            <a:solidFill>
              <a:srgbClr val="fcd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Effect of 10% incr in AP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Rectangle 7"/>
            <p:cNvSpPr/>
            <p:nvPr/>
          </p:nvSpPr>
          <p:spPr>
            <a:xfrm>
              <a:off x="2682000" y="4737960"/>
              <a:ext cx="1773720" cy="164880"/>
            </a:xfrm>
            <a:prstGeom prst="rect">
              <a:avLst/>
            </a:prstGeom>
            <a:solidFill>
              <a:srgbClr val="b9cde5">
                <a:alpha val="21000"/>
              </a:srgbClr>
            </a:soli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Rectangle 8"/>
            <p:cNvSpPr/>
            <p:nvPr/>
          </p:nvSpPr>
          <p:spPr>
            <a:xfrm>
              <a:off x="5552280" y="4728960"/>
              <a:ext cx="1773720" cy="164880"/>
            </a:xfrm>
            <a:prstGeom prst="rect">
              <a:avLst/>
            </a:prstGeom>
            <a:solidFill>
              <a:srgbClr val="b9cde5">
                <a:alpha val="21000"/>
              </a:srgbClr>
            </a:soli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9" name="Object 2"/>
              <p:cNvSpPr txBox="1"/>
              <p:nvPr/>
            </p:nvSpPr>
            <p:spPr>
              <a:xfrm>
                <a:off x="3476520" y="6246720"/>
                <a:ext cx="2633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·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0" name="TextBox 13"/>
          <p:cNvSpPr/>
          <p:nvPr/>
        </p:nvSpPr>
        <p:spPr>
          <a:xfrm>
            <a:off x="7133760" y="3365640"/>
            <a:ext cx="1834200" cy="3682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 62.5S, SZA 40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1" name="Straight Arrow Connector 15"/>
          <p:cNvCxnSpPr/>
          <p:nvPr/>
        </p:nvCxnSpPr>
        <p:spPr>
          <a:xfrm flipH="1" flipV="1">
            <a:off x="6558840" y="3529800"/>
            <a:ext cx="540360" cy="25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22" name="TextBox 16"/>
          <p:cNvSpPr/>
          <p:nvPr/>
        </p:nvSpPr>
        <p:spPr>
          <a:xfrm>
            <a:off x="7248960" y="2413080"/>
            <a:ext cx="1877040" cy="3682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 62.5N, SZA 84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3" name="Straight Arrow Connector 18"/>
          <p:cNvCxnSpPr/>
          <p:nvPr/>
        </p:nvCxnSpPr>
        <p:spPr>
          <a:xfrm flipH="1" flipV="1">
            <a:off x="6920640" y="2577240"/>
            <a:ext cx="320040" cy="25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20600" y="27432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Calibration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velength independent calibration/drift is determined using ice radian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ults validated using minimum reflectivity of land and water and zonally averaged reflectivit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velength dependent calibr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y assumption: instrument degradation varies monotonically and roughly linearly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velength accuracy monitored using sweep solar da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weep data has been used to look for any non-monotonic instrumental chang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20600" y="274320"/>
            <a:ext cx="722160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BUV vs 30 N. Hem. S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1020600" y="1092240"/>
            <a:ext cx="6824880" cy="51354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5"/>
          <p:cNvSpPr/>
          <p:nvPr/>
        </p:nvSpPr>
        <p:spPr>
          <a:xfrm>
            <a:off x="2819520" y="1384200"/>
            <a:ext cx="1765080" cy="2756160"/>
          </a:xfrm>
          <a:prstGeom prst="rect">
            <a:avLst/>
          </a:prstGeom>
          <a:solidFill>
            <a:srgbClr val="a6a6a6">
              <a:alpha val="21000"/>
            </a:srgbClr>
          </a:soli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2827800" y="171468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imbus-7 SBU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1T13:15:54Z</dcterms:created>
  <dc:creator>Pawan Bhartia</dc:creator>
  <dc:description/>
  <dc:language>en-US</dc:language>
  <cp:lastModifiedBy>kekeith</cp:lastModifiedBy>
  <dcterms:modified xsi:type="dcterms:W3CDTF">2011-08-09T17:06:05Z</dcterms:modified>
  <cp:revision>219</cp:revision>
  <dc:subject/>
  <dc:title>Lessons Learned in Creating Long-Term O3 Datasets- Recommendations for Future</dc:title>
</cp:coreProperties>
</file>