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976-7DAD-44C5-936B-BDDA05419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54160" y="682200"/>
            <a:ext cx="454968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6E8-ECAF-42E9-83BC-3126C7E31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point that the integrated column is intrinsically more accurate than the TOMS retriev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avelengths (&lt;310 nm) that are more sensitive to ozone (317 / 331 n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rofile shape effect is included (important for high SZA retriev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E63-590F-4FE8-B437-A91F5B4977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d  mostly 1979-1985 when the Dobson accuracy is most un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C410-9763-443E-AFDA-AC17215FA8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Dobson comparisons are not definitive for the 40 year rec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DB3E-1AD8-459C-8AA4-39222F20BF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uncertainty due to small number of sondes  -  better agreement since the start of SHADOZ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could be a 5% trend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7C4-54D8-43ED-B956-1816D51B6A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bration was not constrained to produce constant equatorial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ology based on SAGE II &amp; balloon son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eement within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F5A-C23F-478C-B92B-ED96C75D99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eement is ~ half a per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884-2CB9-4136-869B-A4E324E7A2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liminary for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ease in J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39D2-E183-4BE1-A0F3-A62A3B1F35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ribute to Stacey &amp; R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6B5-C98E-47DF-BFE4-63624ECD42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5817-99BC-4202-8F7A-CD7610D00D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%  decrease since mid-198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% to 6% for years after eruption of Mt. Pinatubo in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922-5CE4-48FA-BD8E-8CED1A768B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 larger on profile than on total colu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5A19-BEF6-428E-97F9-2AAFFEDACB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 is working in a vsn 9.0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enetrates further than 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259C-FE0F-4D14-A95A-9717D34457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22520"/>
            <a:ext cx="5486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lot as for the MOD data          This is a preliminary proce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ency of the different instruments better than 1% in total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see ~4% decrease in o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4396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4BD1-DB6E-472D-9C33-E1C7227AB5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08B-D237-4EBB-91BE-7C7013D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C33-B38E-41BE-94B6-F529F76B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5BB-28CC-4C52-83DC-634B3DC3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55A-3BE8-47A2-9D86-41793418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A7B-6758-4D35-94EA-8A3CF845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6F3-81D4-44F4-9F5E-C1F10C7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E77-9996-47EF-B451-0623C129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C15D-D462-4BA5-ADD2-02875169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3C5-55B5-482F-924E-314B9F0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E71-22EE-4F73-9246-083B1310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F6A-3747-45DE-AA00-8A5F943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4C9-DA81-46ED-BE49-A87D2AFE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DE6-3ACB-4FB1-9A56-A2E13BE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904E-3C9C-4791-92F7-211FFB3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C578-705A-4D0A-93FA-BF00A659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C70-ABDC-433B-8028-CAE990E8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2F88-1A3B-4F01-B17E-E6A45871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902-75FF-4098-9952-35B1A69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7E8-067C-4624-B0FB-6C34C9F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1A6-09F2-48D1-917C-768EB497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2BD-8793-4574-8DE4-E6B496D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928-DE73-41FA-A83C-1283EFF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D6B-C791-4078-83FB-3B19020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055-E06A-46E3-B429-A53AE7D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8692-4CC4-48F3-A032-B8B7584D9D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F113-9558-4E18-8C7E-370A04124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41 Year Recor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f Total Column Ozone derived from the SBUV Series of Instrume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. McPeters, P.K. Bhartia, S. Frith and G. Lab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SA / Goddard Space Flight Cen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909800" y="5867280"/>
            <a:ext cx="50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EOS Atmospheric Composition Constellation Mee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olumbia, Maryland             June 21, 201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20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876920" cy="6477120"/>
          </a:xfrm>
          <a:prstGeom prst="rect">
            <a:avLst/>
          </a:prstGeom>
          <a:ln w="0">
            <a:noFill/>
          </a:ln>
        </p:spPr>
      </p:pic>
      <p:sp>
        <p:nvSpPr>
          <p:cNvPr id="414" name="TextBox 2"/>
          <p:cNvSpPr/>
          <p:nvPr/>
        </p:nvSpPr>
        <p:spPr>
          <a:xfrm>
            <a:off x="5410080" y="2286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Ozone decreases ~4% in upper stratosphere and ~2% in the middle stratosph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5486400" y="4648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Ozone decreases about half a percent in total colum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000"/>
                </a:solidFill>
                <a:latin typeface="Tahoma"/>
              </a:rPr>
              <a:t>Trends should not be affected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410080" y="228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ffect of cross section change on SBUV retrie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0520" cy="5599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914400" y="5934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v8.6 processing is designed to produce an accurate time series of both total ozone and the ozone vertical dastribu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Quality Control: accuracy of the v8.6 time seri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mpare with ground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mpare SBUV integrated profile column with ground-based measurem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0 Dobson stations have data for the entire 41 year re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CC sondes measure partial column ( ground to ~30 k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391520" cy="55627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2"/>
          <p:cNvSpPr/>
          <p:nvPr/>
        </p:nvSpPr>
        <p:spPr>
          <a:xfrm>
            <a:off x="4717440" y="487692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00dc"/>
                </a:solidFill>
                <a:latin typeface="Tahoma"/>
              </a:rPr>
              <a:t>Pinatub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2093760" y="62485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ossible trend of ~2% over 40 ye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612120" cy="50180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1219320" y="22860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The historical data record for Hohenpeissenberg has been re-analyzed for long term stability</a:t>
            </a: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oes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indicate an SBUV decreas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685800" y="4343400"/>
            <a:ext cx="6248520" cy="0"/>
          </a:xfrm>
          <a:prstGeom prst="line">
            <a:avLst/>
          </a:prstGeom>
          <a:ln w="255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380880" y="3852720"/>
            <a:ext cx="3657600" cy="2776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5715000" cy="43718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304920" y="685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Similar data from Arosa, a high quality station only ~100 km away, shows a decrease from 1980 to 198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Straight Connector 4"/>
          <p:cNvSpPr/>
          <p:nvPr/>
        </p:nvSpPr>
        <p:spPr>
          <a:xfrm>
            <a:off x="3200400" y="2133720"/>
            <a:ext cx="5486400" cy="0"/>
          </a:xfrm>
          <a:prstGeom prst="line">
            <a:avLst/>
          </a:prstGeom>
          <a:ln w="255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Straight Connector 6"/>
          <p:cNvSpPr/>
          <p:nvPr/>
        </p:nvSpPr>
        <p:spPr>
          <a:xfrm>
            <a:off x="557280" y="5375160"/>
            <a:ext cx="3400200" cy="7920"/>
          </a:xfrm>
          <a:prstGeom prst="line">
            <a:avLst/>
          </a:prstGeom>
          <a:ln w="255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4"/>
          <p:cNvSpPr/>
          <p:nvPr/>
        </p:nvSpPr>
        <p:spPr>
          <a:xfrm>
            <a:off x="1143000" y="57913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ropospheric column ozone (below 101 hPa, 50°S to 50°N) agrees with ECC sonde average to within ten percent with no sign of long term change over the last 20 yea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3" descr="SBUVc56_sonde_min7_full_50SN_ttoz.png"/>
          <p:cNvPicPr/>
          <p:nvPr/>
        </p:nvPicPr>
        <p:blipFill>
          <a:blip r:embed="rId1"/>
          <a:stretch/>
        </p:blipFill>
        <p:spPr>
          <a:xfrm>
            <a:off x="609480" y="1522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Quality Control: accuracy of the v8.6 time series</a:t>
            </a:r>
            <a:br>
              <a:rPr sz="2800"/>
            </a:b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(continued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ahoma"/>
              </a:rPr>
              <a:t>Compare with ground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30 Dobson stations have data for the entire 41 year re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ECC sondes measure partial column ( ground to ~30 k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ternal consis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quatorial ozone is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assumed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to have a very small trend over this peri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During overlap periods instruments consistent to better than 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162560" cy="56484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095560" y="609588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e trend in equatorial ozone is near z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774720" y="152280"/>
            <a:ext cx="7302600" cy="56390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"/>
          <p:cNvSpPr/>
          <p:nvPr/>
        </p:nvSpPr>
        <p:spPr>
          <a:xfrm>
            <a:off x="495360" y="6019920"/>
            <a:ext cx="83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here there is good data overlap, multiple instruments (NOAA 16, 17, &amp; 18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agree to within ~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38840" cy="4533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914400" y="533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A series of Backscatter Ultraviolet instruments have been measuring ozone since 1970. </a:t>
            </a:r>
            <a:r>
              <a:rPr b="0" i="1" lang="en-US" sz="1800" spc="-1" strike="noStrike">
                <a:solidFill>
                  <a:srgbClr val="ffffcc"/>
                </a:solidFill>
                <a:latin typeface="Tahoma"/>
              </a:rPr>
              <a:t>(The red dashed segments indicate periods when instruments are near the terminator as a result of orbit drift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8880" cy="56037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1637640" y="609588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Disagreements largest for NOAA 9 and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Quality Control: accuracy of the v8.6 time seri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4475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ahoma"/>
              </a:rPr>
              <a:t>Compare with ground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30 Dobson stations have data for the entire 41 year re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ECC sondes measure partial column ( ground to ~30 k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ahoma"/>
              </a:rPr>
              <a:t>Internal consis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During overlap periods instruments are consistent to better than 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Equatorial ozone is </a:t>
            </a:r>
            <a:r>
              <a:rPr b="0" i="1" lang="en-US" sz="2000" spc="-1" strike="noStrike">
                <a:solidFill>
                  <a:srgbClr val="d9d9d9"/>
                </a:solidFill>
                <a:latin typeface="Tahoma"/>
              </a:rPr>
              <a:t>assumed</a:t>
            </a:r>
            <a:r>
              <a:rPr b="0" lang="en-US" sz="2000" spc="-1" strike="noStrike">
                <a:solidFill>
                  <a:srgbClr val="d9d9d9"/>
                </a:solidFill>
                <a:latin typeface="Tahoma"/>
              </a:rPr>
              <a:t> to have a very small trend over this peri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mpare with other satellite time s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AGE &amp; MLS don’t measure entire profile – compare stratospheric column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00800" cy="52513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1143000" y="5867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Stratospheric column ozone (above 101 hPa, global average) agrees with MLS to better than 1% but with a 2% absolute offs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519408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914400" y="57913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A similar plot for SAGE is noisier because of low sampling, but agreement is within 2% with a 3% absolute offset. There is possibly a 1% relative trend over 20 yea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herent, trend-quality 41-year ozone time series has been produ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lobal ozone: 4% decrease since 1979/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quatorial zone: no significant tren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45°N: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4.4% trend in total column ozo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curacy of the SBUV time series appears to be better than that of the ground network normally used for vali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umn ozone above 101 hPa (global average) is consistent with Aura MLS and with SAGE II at the 1% to 2% level (but with an offse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plan to release the v8.6 the total ozone time series this sum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AA 16, 17, and 18 and then Nimbus 7 and Nimbus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AA 9 and NOAA 11 after more analys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imbus 7 TOMS, Earth Probe TOMS and OMTO3 this fa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762120" y="228600"/>
            <a:ext cx="79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ow do you create a long term ozone time s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rom multiple satellite instrumen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evious approach: Merged / Adjusted Ozone Time S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457200" y="2133720"/>
            <a:ext cx="83818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 with ozone time series as produced by instrument te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simple adjustments  to account for instrument-to-instru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ibration offsets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 strategies have been us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se ground based data (Dobson / Brewer) to adjust satellite data …..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se overlap periods + proxy data to produce a purely satellite-based time series (the MOD approa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037360" cy="31687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1876680" y="762120"/>
            <a:ext cx="58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D = Merged Ozone Da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verage total column ozone 65°S - 65°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958160" cy="50385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"/>
          <p:cNvSpPr/>
          <p:nvPr/>
        </p:nvSpPr>
        <p:spPr>
          <a:xfrm>
            <a:off x="1688760" y="38088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lot % deviation from 1979 – 1980  monthly ave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958160" cy="50385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2192400" y="3808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Ozone today is ~3% lower than in 1979/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Straight Connector 4"/>
          <p:cNvSpPr/>
          <p:nvPr/>
        </p:nvSpPr>
        <p:spPr>
          <a:xfrm flipH="1">
            <a:off x="3352320" y="2133720"/>
            <a:ext cx="4824360" cy="7920"/>
          </a:xfrm>
          <a:prstGeom prst="line">
            <a:avLst/>
          </a:prstGeom>
          <a:ln w="158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1371600" y="22860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 Better approac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-process Ozone Data  (version 8.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685800" y="1676520"/>
            <a:ext cx="8153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alibration errors propagate non-linearly to oz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error varies with latitude / solar zenith ang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oal is a coherent calibration for the series of 8 instr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adjust radiances based on overlap / proxy compari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determine time dependent adjustments based on internal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instrument calibration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1304640" y="22860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 Better approac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-process Ozone Data  (version 8.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685800" y="1676520"/>
            <a:ext cx="81532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alibration errors propagate non-linearly to oz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error varies with latitude / solar zenith ang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oal is a coherent calibration for the series of 8 instr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adjust radiances based on overlap / proxy compari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determine time dependent adjustments based on internal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instrument calibration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Re-process data from all 8 instr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use v8.0 algorithm:  total = integrated prof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use more accurate ozone cross sections (Brion-Daumont-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Malice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updated cloud height climatology based on O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Arial"/>
              </a:rPr>
              <a:t>updated ozone profile climatology based on Aura M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13600" cy="58672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1427400" y="15228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lobal average ozone for v8.6 re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Straight Connector 4"/>
          <p:cNvSpPr/>
          <p:nvPr/>
        </p:nvSpPr>
        <p:spPr>
          <a:xfrm flipH="1">
            <a:off x="3504960" y="2895480"/>
            <a:ext cx="4824360" cy="7920"/>
          </a:xfrm>
          <a:prstGeom prst="line">
            <a:avLst/>
          </a:prstGeom>
          <a:ln w="158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40:16Z</dcterms:created>
  <dc:creator>Rich McPeters</dc:creator>
  <dc:description/>
  <dc:language>en-US</dc:language>
  <cp:lastModifiedBy>R McPeters</cp:lastModifiedBy>
  <dcterms:modified xsi:type="dcterms:W3CDTF">2011-06-20T20:38:10Z</dcterms:modified>
  <cp:revision>150</cp:revision>
  <dc:subject/>
  <dc:title>The SBUV Ozone Record: The Good, the Bad, and the Ugly</dc:title>
</cp:coreProperties>
</file>