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6320"/>
            <a:ext cx="9045720" cy="6632280"/>
            <a:chOff x="0" y="76320"/>
            <a:chExt cx="9045720" cy="6632280"/>
          </a:xfrm>
        </p:grpSpPr>
        <p:sp>
          <p:nvSpPr>
            <p:cNvPr id="1" name=""/>
            <p:cNvSpPr/>
            <p:nvPr/>
          </p:nvSpPr>
          <p:spPr>
            <a:xfrm>
              <a:off x="0" y="746280"/>
              <a:ext cx="8763120" cy="0"/>
            </a:xfrm>
            <a:prstGeom prst="line">
              <a:avLst/>
            </a:prstGeom>
            <a:ln w="19080">
              <a:solidFill>
                <a:srgbClr val="3a5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763120" y="746280"/>
              <a:ext cx="0" cy="5556240"/>
            </a:xfrm>
            <a:prstGeom prst="line">
              <a:avLst/>
            </a:prstGeom>
            <a:ln w="19080">
              <a:solidFill>
                <a:srgbClr val="3a5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6320" y="76320"/>
              <a:ext cx="1600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88920" y="6377040"/>
              <a:ext cx="151128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8056440" y="6002280"/>
              <a:ext cx="98928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484280"/>
            <a:ext cx="8135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there a need for an ACC Activity (international co-operation project) on l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S and European Total Ozone Record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us Zeh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Arial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765000"/>
            <a:ext cx="8496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tivatio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hat is the role of total ozone records in ozone assessment reports? What are the open scientific ques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re are we now?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ifferent long term data sets exist/are being developed (NASA, NOAA, ESA etc.) and satellite mission continuation is en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do climate modellers need?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limate variability/long term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 merging approaches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e.g. using OMI or GOME-2 as ‘transfer’ instruments for the US and European records, data assimilation techniques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lue of redundant total ozone recor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son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rete actions and time schedule (2014 ozone assessment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2:47:59Z</dcterms:created>
  <dc:creator>flegall</dc:creator>
  <dc:description/>
  <dc:language>en-US</dc:language>
  <cp:lastModifiedBy>czehner</cp:lastModifiedBy>
  <dcterms:modified xsi:type="dcterms:W3CDTF">2011-06-22T10:23:58Z</dcterms:modified>
  <cp:revision>669</cp:revision>
  <dc:subject/>
  <dc:title>PowerPoint Presentation</dc:title>
</cp:coreProperties>
</file>