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dt" idx="24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ftr" idx="25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 type="sldNum" idx="26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3F3110-2D1C-45D2-8B6B-C688CF3192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B64A65-91CC-481C-9D1D-1D768CB632C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533E-74C9-406D-9D1C-436DB83534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82ECEE-13BA-4BA5-8166-9A5EEC8B4B0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9EDD4-21C7-4613-A007-4CE4292AE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C33E7-5BB3-4B54-8878-F3D9566A6BC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3A96EA-A93B-415D-801F-2546FA8D223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1CCCA3-9695-429A-965A-FF1EB93EBE2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506D4F-1D6C-4464-92B9-73ED97B3CF6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88E125-CF83-4B47-9982-9EBCB59FA0D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125803-D44B-43CE-848C-F0411C9D080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672B01-5E03-4E04-9870-2350D1ECEA1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2FE28C-CAD2-403D-A7AF-8C243760CBC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D73302-138C-4B95-8B81-BF88A1F4BBA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73A066-AA2F-4179-A863-C365A2DAB88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6C96D-4FD7-4DFD-B1C9-EBD6BEDA4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84366-626B-41E7-AE4E-1055A9E4083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33643-3E07-47B1-A9AF-B92E9CCA835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433EF-EFBB-4028-9F2B-3FEE0B93E67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DD8AE-D5CA-4328-846D-38913DCBF03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27FCA-7F99-48B3-9279-311E2D8F42A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ECD02-838F-4D70-8062-BA819525457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EBB05-D641-4BED-BF9E-F25F7F8AB3C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D679A-6095-4F8F-95D2-202EF3707F3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12857-8E9B-4FB3-8C3E-FED29904BF1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55865-741B-4EB8-9749-EA3571F3CF2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B3C4D-2B0B-467F-BADE-E02FFD9B0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A6FC8-BD0A-40CF-8C2F-A389C2BEC47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4F161-64C2-4A49-9866-BDE1425A0B1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586E83-D11D-44E2-96C3-C7E44DC6A04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FF290B-0BE8-42E5-9225-165622E031F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E345D3-6375-4AAB-8834-215595E7ED6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028016-308F-44CD-8AF6-039A0182F96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CF0CE1-68C1-4818-846C-391ECDBFB77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F82B0E-C05C-436D-A7E2-1D8DC796F3F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D6B214-88C0-4524-BD53-7EBD9929DC5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EC2BF4-6561-43DF-A16D-4F33D5022E9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271595-ED57-4460-863A-028F99358D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04544-DE0E-4C2B-B603-D4BB3084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406B4C-A837-450C-AEF8-939D044EEF3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351D97-7FB8-4C65-86C3-493BA18B85D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C863D1-35E3-4ED8-A066-41CCE049D5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49C4F-1E8C-4BE8-BA08-B2F7E3A1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4FAC0-D82E-4253-B346-81917334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67970-BB22-4883-B166-D28B219F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2EC7E-0779-411C-BC1E-6044D139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A2587-836A-4FA5-9FC3-17FBEBC4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046BA-A49F-4F58-8AE9-222E00FA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5FE7B-DC90-4038-A637-09C20ED378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D54D1-92EC-465C-8EF2-0129F703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6AFD5-CC0B-4A00-A04A-8B33470B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4A3CD-2FB4-4D18-9C3A-C0BD0943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C3AFA-8E53-4B62-ABED-00E15182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6555D-9655-4A5A-BD05-F96C6B8A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D9700E-0ABF-4341-9CE2-272C8E608B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EC2316-7002-4CB2-BB6B-B6909A3DF4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2BBE7F-0F2B-4F3D-9E8A-FCF8096E3B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95B159-19E0-47EE-B2D6-0F7B7E63BD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4BA2C5-D6ED-4BC7-841B-6FB4B25C3F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71522-4F81-4DB1-ACF5-3B50173721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E740BD-8C9B-44EF-BD1A-2FA91766BE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630A6B-9244-4D0D-BF28-2256B3A360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3D8506-6BA2-41C8-9A3F-2FE4C20B41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6893EA-C99E-483D-AD66-4F413B554C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2C050F-989E-488D-BF7C-1BF5F8E176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F53306-F6FA-4100-8F5D-E7471861BE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E10A33-9147-4675-8CA4-FBAD78F0B9E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A1CB2-D4D8-4B02-BF16-3B207A9A95F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86B42-76EE-4EFA-B6F7-3FC92FD6E30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4C675-6051-43FB-8966-FD9BB0514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944FD-DFF1-40A8-BBA6-01A9DA7632E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5B889-E754-4C9D-922F-2343580DBF6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7A139-E6B1-4C18-B5B3-CDCB7FA2E67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3E341-79EE-4E51-8DAB-BDE7BD4C8D0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661D3-4E59-4ACC-85EA-01F9B690A01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4DA95-C063-455E-9556-50902010EB3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1A069-19B3-48AB-B42D-46FDED34C76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B018A-420F-44D7-9745-8669FE28029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CB47F-49DA-4B2D-B0A2-678122CAC8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6B368-2AA1-4278-986F-619883F2EF0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9F2CB9-0436-4AF0-8400-4EF358012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BE741-F583-4074-B68B-31515B9B3F7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480EC4-C519-46FD-8B97-74469E0EA89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876BCF-7E44-413A-AAF1-871435C5BC8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BA0055-B0BC-4A56-A94A-0D0A70AFADF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6FE469-1AB7-4819-9988-FD54447044C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7658B6-ABB9-463A-AFD7-4F91D2BB7B2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CD6D38-E399-4ED9-ACAA-35BD8C10E20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1207B1-95AB-47F4-BA89-1483721A81F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F851B3-0B73-43F8-8825-90332FE7C3E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1036CE-B06E-4EC5-8183-EB5FD02B8A2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83AEE6-65C8-44A5-928D-F32D2D1E5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92921-0A2C-4A2C-9DC6-4FD7C4495C6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595467-D8BB-4176-A287-BC7BA71074A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BE6653-52C2-445C-839E-2825E3856FB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24F82F-B90D-4AE1-A733-D67E4A4E520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0DA7FA-298F-445B-8282-A48B113F3CF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D3616A-5400-44D3-83C4-EA589B39653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C029D0-51FF-4372-9A92-EB2A1452301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714293-8634-44B5-8DCF-B42E6C9AD70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BDCE30-98A0-409E-B849-69C8213E6DE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5CD25F-22AE-4DCF-BA64-F51E25CCB3D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B1150D-823B-45CB-B598-3548DA5B0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28312-BBCF-4A50-A505-E92014D43CD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A8F178-3D55-4ACD-9517-47B4ECF873C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1DCF63-9D02-4D1C-BC91-2C597A37286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8F8C33-AA8F-402E-837B-861782DDB53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60FFD-46C7-42F2-943C-58BE0C7F248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923D8-3ED9-4518-BD19-895B8349062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9E7BB-A23C-4C68-9614-4C6F9E8087A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F3EAB-4F5F-48E9-9D62-36EDE33130F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9EEE5-123F-44C1-91D4-036EDF8CF14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A411A-8027-4336-9722-9793F13B894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47ACA-5BF1-4424-954D-F0299354A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A911F-E4BD-48B3-A2E6-3541B204920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FDE07-5B17-449D-87C8-9458ABE1890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B6033-9D4F-415F-865C-5500D612DA8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D94CE-2BE3-48E7-9AE8-3A5FC05746A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0C068-5F51-4B75-884C-9D0B7188CA0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E80D1-4486-4FA2-BF77-B2808282797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D00170-9A53-40D2-AFAE-1D9197F0E50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71670B-C5E4-49FC-A3A4-1E7837E15AE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08C799-E45A-4F18-91D0-DDCA2E3381C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C47471-0ACC-490D-9EAA-4FDFC1FA540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A0CC81-BD36-4F99-9711-F5EC45644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9B22A-18C6-457F-B7AD-9382217183E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8205D4-9C5E-49DE-8171-ADA4891B0EC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77B76D-5831-48D0-8E64-C871B9CE544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E984E1-5FC1-4DD6-AA69-816FE7B4975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975FDF-C8D8-468E-9687-1EA17022330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6D4267-C535-415C-90FB-41225E4558F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32C43F-27CC-4BDE-9322-A7C337A3EA2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E4B06B-4974-4E6D-987F-F680509E254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5C973E-A0B0-4BCA-B099-1A07E65BB2E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F95DB7-8020-43A4-883F-0BD1E8CCB63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B2CD43-2B1A-4124-87EB-DD14D91780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596c6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072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000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676160" y="6244920"/>
            <a:ext cx="6629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rking Group on Information Systems and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8421-C8C4-458B-9D2F-3370AA5B9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" name="Rectangle 3073" descr=""/>
          <p:cNvPicPr/>
          <p:nvPr/>
        </p:nvPicPr>
        <p:blipFill>
          <a:blip r:embed="rId2"/>
          <a:stretch/>
        </p:blipFill>
        <p:spPr>
          <a:xfrm>
            <a:off x="-457200" y="-457200"/>
            <a:ext cx="2819520" cy="2270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7" descr=""/>
          <p:cNvPicPr/>
          <p:nvPr/>
        </p:nvPicPr>
        <p:blipFill>
          <a:blip r:embed="rId3"/>
          <a:srcRect l="7952" t="13970" r="4642" b="23185"/>
          <a:stretch/>
        </p:blipFill>
        <p:spPr>
          <a:xfrm>
            <a:off x="7726320" y="6168960"/>
            <a:ext cx="1417680" cy="61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596c6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072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000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Rectangle 3073" descr=""/>
          <p:cNvPicPr/>
          <p:nvPr/>
        </p:nvPicPr>
        <p:blipFill>
          <a:blip r:embed="rId2"/>
          <a:stretch/>
        </p:blipFill>
        <p:spPr>
          <a:xfrm>
            <a:off x="-457200" y="-457200"/>
            <a:ext cx="2819520" cy="2270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7" descr=""/>
          <p:cNvPicPr/>
          <p:nvPr/>
        </p:nvPicPr>
        <p:blipFill>
          <a:blip r:embed="rId3"/>
          <a:srcRect l="7952" t="13970" r="4642" b="23185"/>
          <a:stretch/>
        </p:blipFill>
        <p:spPr>
          <a:xfrm>
            <a:off x="7726320" y="6168960"/>
            <a:ext cx="1417680" cy="6127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7" descr=""/>
          <p:cNvPicPr/>
          <p:nvPr/>
        </p:nvPicPr>
        <p:blipFill>
          <a:blip r:embed="rId4"/>
          <a:srcRect l="7952" t="13970" r="4642" b="23185"/>
          <a:stretch/>
        </p:blipFill>
        <p:spPr>
          <a:xfrm>
            <a:off x="7726320" y="6168960"/>
            <a:ext cx="1417680" cy="6127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ftr" idx="20"/>
          </p:nvPr>
        </p:nvSpPr>
        <p:spPr>
          <a:xfrm>
            <a:off x="1676160" y="6244920"/>
            <a:ext cx="6629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ing Group on Information Systems and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sldNum" idx="21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AE59-0218-4252-9299-2B90C1D25B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596c6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3072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000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Rectangle 3073" descr=""/>
          <p:cNvPicPr/>
          <p:nvPr/>
        </p:nvPicPr>
        <p:blipFill>
          <a:blip r:embed="rId2"/>
          <a:stretch/>
        </p:blipFill>
        <p:spPr>
          <a:xfrm>
            <a:off x="-457200" y="-457200"/>
            <a:ext cx="2819520" cy="22701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27" descr=""/>
          <p:cNvPicPr/>
          <p:nvPr/>
        </p:nvPicPr>
        <p:blipFill>
          <a:blip r:embed="rId3"/>
          <a:srcRect l="7952" t="13970" r="4642" b="23185"/>
          <a:stretch/>
        </p:blipFill>
        <p:spPr>
          <a:xfrm>
            <a:off x="7726320" y="6168960"/>
            <a:ext cx="1417680" cy="6127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7" descr=""/>
          <p:cNvPicPr/>
          <p:nvPr/>
        </p:nvPicPr>
        <p:blipFill>
          <a:blip r:embed="rId4"/>
          <a:srcRect l="7952" t="13970" r="4642" b="23185"/>
          <a:stretch/>
        </p:blipFill>
        <p:spPr>
          <a:xfrm>
            <a:off x="7726320" y="6168960"/>
            <a:ext cx="1417680" cy="61272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2"/>
          </p:nvPr>
        </p:nvSpPr>
        <p:spPr>
          <a:xfrm>
            <a:off x="1676160" y="6244920"/>
            <a:ext cx="6629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ing Group on Information Systems and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23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D156-B2F3-4B9B-9BDD-28EAE98C4D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596c6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rking Group on Information Systems and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A320-1880-49D1-80C5-8FA971CB7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596c6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072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000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Rectangle 3073" descr=""/>
          <p:cNvPicPr/>
          <p:nvPr/>
        </p:nvPicPr>
        <p:blipFill>
          <a:blip r:embed="rId2"/>
          <a:stretch/>
        </p:blipFill>
        <p:spPr>
          <a:xfrm>
            <a:off x="-457200" y="-457200"/>
            <a:ext cx="2819520" cy="2270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7" descr=""/>
          <p:cNvPicPr/>
          <p:nvPr/>
        </p:nvPicPr>
        <p:blipFill>
          <a:blip r:embed="rId3"/>
          <a:srcRect l="7952" t="13970" r="4642" b="23185"/>
          <a:stretch/>
        </p:blipFill>
        <p:spPr>
          <a:xfrm>
            <a:off x="7726320" y="6168960"/>
            <a:ext cx="1417680" cy="612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6"/>
          </p:nvPr>
        </p:nvSpPr>
        <p:spPr>
          <a:xfrm>
            <a:off x="1676160" y="6244920"/>
            <a:ext cx="6629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ing Group on Information Systems and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7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D0E8-D116-47AC-B59F-374160E88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596c6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072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000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Rectangle 3073" descr=""/>
          <p:cNvPicPr/>
          <p:nvPr/>
        </p:nvPicPr>
        <p:blipFill>
          <a:blip r:embed="rId2"/>
          <a:stretch/>
        </p:blipFill>
        <p:spPr>
          <a:xfrm>
            <a:off x="-457200" y="-457200"/>
            <a:ext cx="2819520" cy="2270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" descr=""/>
          <p:cNvPicPr/>
          <p:nvPr/>
        </p:nvPicPr>
        <p:blipFill>
          <a:blip r:embed="rId3"/>
          <a:srcRect l="7952" t="13970" r="4642" b="23185"/>
          <a:stretch/>
        </p:blipFill>
        <p:spPr>
          <a:xfrm>
            <a:off x="7726320" y="6168960"/>
            <a:ext cx="1417680" cy="61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7" descr=""/>
          <p:cNvPicPr/>
          <p:nvPr/>
        </p:nvPicPr>
        <p:blipFill>
          <a:blip r:embed="rId4"/>
          <a:srcRect l="7952" t="13970" r="4642" b="23185"/>
          <a:stretch/>
        </p:blipFill>
        <p:spPr>
          <a:xfrm>
            <a:off x="7726320" y="6168960"/>
            <a:ext cx="1417680" cy="6127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8"/>
          </p:nvPr>
        </p:nvSpPr>
        <p:spPr>
          <a:xfrm>
            <a:off x="1294920" y="6381360"/>
            <a:ext cx="6629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Working Group on Information Systems and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9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E9FA-B3EE-4118-B75E-882926B5E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596c6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072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000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Rectangle 3073" descr=""/>
          <p:cNvPicPr/>
          <p:nvPr/>
        </p:nvPicPr>
        <p:blipFill>
          <a:blip r:embed="rId2"/>
          <a:stretch/>
        </p:blipFill>
        <p:spPr>
          <a:xfrm>
            <a:off x="-457200" y="-457200"/>
            <a:ext cx="2819520" cy="2270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7" descr=""/>
          <p:cNvPicPr/>
          <p:nvPr/>
        </p:nvPicPr>
        <p:blipFill>
          <a:blip r:embed="rId3"/>
          <a:srcRect l="7952" t="13970" r="4642" b="23185"/>
          <a:stretch/>
        </p:blipFill>
        <p:spPr>
          <a:xfrm>
            <a:off x="7726320" y="6168960"/>
            <a:ext cx="1417680" cy="612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7" descr=""/>
          <p:cNvPicPr/>
          <p:nvPr/>
        </p:nvPicPr>
        <p:blipFill>
          <a:blip r:embed="rId4"/>
          <a:srcRect l="7952" t="13970" r="4642" b="23185"/>
          <a:stretch/>
        </p:blipFill>
        <p:spPr>
          <a:xfrm>
            <a:off x="7726320" y="6168960"/>
            <a:ext cx="1417680" cy="6127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10"/>
          </p:nvPr>
        </p:nvSpPr>
        <p:spPr>
          <a:xfrm>
            <a:off x="1676160" y="6244920"/>
            <a:ext cx="6629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ing Group on Information Systems and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D18D-3194-4890-BB7D-77DD6EF68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596c6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072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000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Rectangle 3073" descr=""/>
          <p:cNvPicPr/>
          <p:nvPr/>
        </p:nvPicPr>
        <p:blipFill>
          <a:blip r:embed="rId2"/>
          <a:stretch/>
        </p:blipFill>
        <p:spPr>
          <a:xfrm>
            <a:off x="-457200" y="-457200"/>
            <a:ext cx="2819520" cy="2270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7" descr=""/>
          <p:cNvPicPr/>
          <p:nvPr/>
        </p:nvPicPr>
        <p:blipFill>
          <a:blip r:embed="rId3"/>
          <a:srcRect l="7952" t="13970" r="4642" b="23185"/>
          <a:stretch/>
        </p:blipFill>
        <p:spPr>
          <a:xfrm>
            <a:off x="7726320" y="6168960"/>
            <a:ext cx="1417680" cy="612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7" descr=""/>
          <p:cNvPicPr/>
          <p:nvPr/>
        </p:nvPicPr>
        <p:blipFill>
          <a:blip r:embed="rId4"/>
          <a:srcRect l="7952" t="13970" r="4642" b="23185"/>
          <a:stretch/>
        </p:blipFill>
        <p:spPr>
          <a:xfrm>
            <a:off x="7726320" y="6168960"/>
            <a:ext cx="1417680" cy="612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2"/>
          </p:nvPr>
        </p:nvSpPr>
        <p:spPr>
          <a:xfrm>
            <a:off x="1676160" y="6244920"/>
            <a:ext cx="6629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ing Group on Information Systems and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3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0602-51A3-4F70-9096-FB1AF7048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596c6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072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000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Rectangle 3073" descr=""/>
          <p:cNvPicPr/>
          <p:nvPr/>
        </p:nvPicPr>
        <p:blipFill>
          <a:blip r:embed="rId2"/>
          <a:stretch/>
        </p:blipFill>
        <p:spPr>
          <a:xfrm>
            <a:off x="-457200" y="-457200"/>
            <a:ext cx="2819520" cy="22701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7" descr=""/>
          <p:cNvPicPr/>
          <p:nvPr/>
        </p:nvPicPr>
        <p:blipFill>
          <a:blip r:embed="rId3"/>
          <a:srcRect l="7952" t="13970" r="4642" b="23185"/>
          <a:stretch/>
        </p:blipFill>
        <p:spPr>
          <a:xfrm>
            <a:off x="7726320" y="6168960"/>
            <a:ext cx="1417680" cy="612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7" descr=""/>
          <p:cNvPicPr/>
          <p:nvPr/>
        </p:nvPicPr>
        <p:blipFill>
          <a:blip r:embed="rId4"/>
          <a:srcRect l="7952" t="13970" r="4642" b="23185"/>
          <a:stretch/>
        </p:blipFill>
        <p:spPr>
          <a:xfrm>
            <a:off x="7726320" y="6168960"/>
            <a:ext cx="1417680" cy="61272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ftr" idx="14"/>
          </p:nvPr>
        </p:nvSpPr>
        <p:spPr>
          <a:xfrm>
            <a:off x="1676160" y="6244920"/>
            <a:ext cx="6629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ing Group on Information Systems and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15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4BC5-CBFB-422F-BAD6-B23C0A697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596c6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3072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000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Rectangle 3073" descr=""/>
          <p:cNvPicPr/>
          <p:nvPr/>
        </p:nvPicPr>
        <p:blipFill>
          <a:blip r:embed="rId2"/>
          <a:stretch/>
        </p:blipFill>
        <p:spPr>
          <a:xfrm>
            <a:off x="-457200" y="-457200"/>
            <a:ext cx="2819520" cy="2270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7" descr=""/>
          <p:cNvPicPr/>
          <p:nvPr/>
        </p:nvPicPr>
        <p:blipFill>
          <a:blip r:embed="rId3"/>
          <a:srcRect l="7952" t="13970" r="4642" b="23185"/>
          <a:stretch/>
        </p:blipFill>
        <p:spPr>
          <a:xfrm>
            <a:off x="7726320" y="6168960"/>
            <a:ext cx="1417680" cy="612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7" descr=""/>
          <p:cNvPicPr/>
          <p:nvPr/>
        </p:nvPicPr>
        <p:blipFill>
          <a:blip r:embed="rId4"/>
          <a:srcRect l="7952" t="13970" r="4642" b="23185"/>
          <a:stretch/>
        </p:blipFill>
        <p:spPr>
          <a:xfrm>
            <a:off x="7726320" y="6168960"/>
            <a:ext cx="1417680" cy="6127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ftr" idx="16"/>
          </p:nvPr>
        </p:nvSpPr>
        <p:spPr>
          <a:xfrm>
            <a:off x="1676160" y="6244920"/>
            <a:ext cx="6629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ing Group on Information Systems and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sldNum" idx="17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897D-EDC1-437B-BA3A-5E35039DB9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596c6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3072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000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Rectangle 3073" descr=""/>
          <p:cNvPicPr/>
          <p:nvPr/>
        </p:nvPicPr>
        <p:blipFill>
          <a:blip r:embed="rId2"/>
          <a:stretch/>
        </p:blipFill>
        <p:spPr>
          <a:xfrm>
            <a:off x="-457200" y="-457200"/>
            <a:ext cx="2819520" cy="22701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7" descr=""/>
          <p:cNvPicPr/>
          <p:nvPr/>
        </p:nvPicPr>
        <p:blipFill>
          <a:blip r:embed="rId3"/>
          <a:srcRect l="7952" t="13970" r="4642" b="23185"/>
          <a:stretch/>
        </p:blipFill>
        <p:spPr>
          <a:xfrm>
            <a:off x="7726320" y="6168960"/>
            <a:ext cx="1417680" cy="6127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7" descr=""/>
          <p:cNvPicPr/>
          <p:nvPr/>
        </p:nvPicPr>
        <p:blipFill>
          <a:blip r:embed="rId4"/>
          <a:srcRect l="7952" t="13970" r="4642" b="23185"/>
          <a:stretch/>
        </p:blipFill>
        <p:spPr>
          <a:xfrm>
            <a:off x="7726320" y="6168960"/>
            <a:ext cx="1417680" cy="6127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18"/>
          </p:nvPr>
        </p:nvSpPr>
        <p:spPr>
          <a:xfrm>
            <a:off x="1676160" y="6244920"/>
            <a:ext cx="6629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ing Group on Information Systems and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9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7B2D-09DA-4829-B11F-95CA297D23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97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2280" y="1066680"/>
            <a:ext cx="883944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alibri"/>
                <a:ea typeface="宋体"/>
              </a:rPr>
              <a:t>CEOS Atmospheric 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Calibri"/>
                <a:ea typeface="宋体"/>
              </a:rPr>
              <a:t>Composition Portal (ACP)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487" name="Group 7"/>
          <p:cNvGrpSpPr/>
          <p:nvPr/>
        </p:nvGrpSpPr>
        <p:grpSpPr>
          <a:xfrm>
            <a:off x="-228600" y="2378160"/>
            <a:ext cx="9372600" cy="2270160"/>
            <a:chOff x="-228600" y="2378160"/>
            <a:chExt cx="9372600" cy="2270160"/>
          </a:xfrm>
        </p:grpSpPr>
        <p:sp>
          <p:nvSpPr>
            <p:cNvPr id="488" name="Rectangle 3072"/>
            <p:cNvSpPr/>
            <p:nvPr/>
          </p:nvSpPr>
          <p:spPr>
            <a:xfrm>
              <a:off x="-8640" y="3368880"/>
              <a:ext cx="9152640" cy="609480"/>
            </a:xfrm>
            <a:prstGeom prst="rect">
              <a:avLst/>
            </a:prstGeom>
            <a:solidFill>
              <a:srgbClr val="000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9" name="Rectangle 3073" descr=""/>
            <p:cNvPicPr/>
            <p:nvPr/>
          </p:nvPicPr>
          <p:blipFill>
            <a:blip r:embed="rId1"/>
            <a:stretch/>
          </p:blipFill>
          <p:spPr>
            <a:xfrm>
              <a:off x="-228600" y="2378160"/>
              <a:ext cx="2709360" cy="227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  <a:ea typeface="宋体"/>
              </a:rPr>
              <a:t>Presented by Stefan Fal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  <a:ea typeface="宋体"/>
              </a:rPr>
              <a:t>on behalf of the ACP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  <a:ea typeface="宋体"/>
              </a:rPr>
              <a:t>ACC-7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Calibri"/>
                <a:ea typeface="宋体"/>
              </a:rPr>
              <a:t>June 21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  <a:ea typeface="宋体"/>
              </a:rPr>
              <a:t>Columbia, Mary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27" descr=""/>
          <p:cNvPicPr/>
          <p:nvPr/>
        </p:nvPicPr>
        <p:blipFill>
          <a:blip r:embed="rId2">
            <a:alphaModFix amt="49000"/>
          </a:blip>
          <a:srcRect l="7952" t="13970" r="4642" b="23185"/>
          <a:stretch/>
        </p:blipFill>
        <p:spPr>
          <a:xfrm>
            <a:off x="7620120" y="6095880"/>
            <a:ext cx="141768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3"/>
          <p:cNvSpPr/>
          <p:nvPr/>
        </p:nvSpPr>
        <p:spPr>
          <a:xfrm>
            <a:off x="6499080" y="6300720"/>
            <a:ext cx="19051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577E-3F4B-4143-9669-B95A96A370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6644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P Mission Statemen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access, tools, and contextual guidance to scientists and value-adding organizations in using remotely sensed atmospheric composition data, information, and servi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p foster interoperability and application of atmospheric composition data, information and services worldw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the unique requirements and common (shared) features of the ACC and GEOSS users to provide a value-added and complementary cap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with partners in CEOS and the broader AC community in advancing the 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7" descr=""/>
          <p:cNvPicPr/>
          <p:nvPr/>
        </p:nvPicPr>
        <p:blipFill>
          <a:blip r:embed="rId1"/>
          <a:srcRect l="7952" t="13970" r="4642" b="23185"/>
          <a:stretch/>
        </p:blipFill>
        <p:spPr>
          <a:xfrm>
            <a:off x="7726320" y="6168960"/>
            <a:ext cx="1417680" cy="612720"/>
          </a:xfrm>
          <a:prstGeom prst="rect">
            <a:avLst/>
          </a:prstGeom>
          <a:ln w="0">
            <a:noFill/>
          </a:ln>
        </p:spPr>
      </p:pic>
      <p:sp>
        <p:nvSpPr>
          <p:cNvPr id="496" name="Footer Placeholder 1"/>
          <p:cNvSpPr/>
          <p:nvPr/>
        </p:nvSpPr>
        <p:spPr>
          <a:xfrm>
            <a:off x="1676520" y="6245280"/>
            <a:ext cx="6629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ing Group on Information Systems and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P at the Intersection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 Science and Information S&amp;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Footer Placeholder 1"/>
          <p:cNvSpPr/>
          <p:nvPr/>
        </p:nvSpPr>
        <p:spPr>
          <a:xfrm>
            <a:off x="1676520" y="6245280"/>
            <a:ext cx="6629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ing Group on Information Systems and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3"/>
          <p:cNvSpPr/>
          <p:nvPr/>
        </p:nvSpPr>
        <p:spPr>
          <a:xfrm>
            <a:off x="228600" y="14479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CP aims to provide a community-oriented framework that applies best practices in information science and technology to atmospheric composition scienc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rcRect l="0" t="14003" r="6251" b="6000"/>
          <a:stretch/>
        </p:blipFill>
        <p:spPr>
          <a:xfrm>
            <a:off x="914400" y="3168720"/>
            <a:ext cx="4000680" cy="21333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5" descr=""/>
          <p:cNvPicPr/>
          <p:nvPr/>
        </p:nvPicPr>
        <p:blipFill>
          <a:blip r:embed="rId2"/>
          <a:srcRect l="4559" t="22001" r="29377" b="4998"/>
          <a:stretch/>
        </p:blipFill>
        <p:spPr>
          <a:xfrm>
            <a:off x="2819520" y="4311720"/>
            <a:ext cx="3135240" cy="21654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"/>
          <p:cNvPicPr/>
          <p:nvPr/>
        </p:nvPicPr>
        <p:blipFill>
          <a:blip r:embed="rId3"/>
          <a:srcRect l="3745" t="0" r="1248" b="5997"/>
          <a:stretch/>
        </p:blipFill>
        <p:spPr>
          <a:xfrm>
            <a:off x="4114800" y="2558880"/>
            <a:ext cx="3449520" cy="2133720"/>
          </a:xfrm>
          <a:prstGeom prst="rect">
            <a:avLst/>
          </a:prstGeom>
          <a:ln w="0">
            <a:noFill/>
          </a:ln>
        </p:spPr>
      </p:pic>
      <p:sp>
        <p:nvSpPr>
          <p:cNvPr id="503" name="TextBox 7"/>
          <p:cNvSpPr/>
          <p:nvPr/>
        </p:nvSpPr>
        <p:spPr>
          <a:xfrm>
            <a:off x="6142680" y="4876920"/>
            <a:ext cx="299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P-B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dc.dlr.de/acp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atures of the ACP Framework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" name="Slide Number Placeholder 4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57D4-EC02-4883-8ACD-EF4E76DEAE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34"/>
          <p:cNvGrpSpPr/>
          <p:nvPr/>
        </p:nvGrpSpPr>
        <p:grpSpPr>
          <a:xfrm>
            <a:off x="336600" y="4114800"/>
            <a:ext cx="3887640" cy="2514600"/>
            <a:chOff x="336600" y="4114800"/>
            <a:chExt cx="3887640" cy="2514600"/>
          </a:xfrm>
        </p:grpSpPr>
        <p:sp>
          <p:nvSpPr>
            <p:cNvPr id="507" name="Text Box 7"/>
            <p:cNvSpPr/>
            <p:nvPr/>
          </p:nvSpPr>
          <p:spPr>
            <a:xfrm>
              <a:off x="990360" y="4114800"/>
              <a:ext cx="2314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Tools for process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and 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8" name="Picture 14" descr="udig-gome2-asia-bmng+no2tropo"/>
            <p:cNvPicPr/>
            <p:nvPr/>
          </p:nvPicPr>
          <p:blipFill>
            <a:blip r:embed="rId1"/>
            <a:stretch/>
          </p:blipFill>
          <p:spPr>
            <a:xfrm>
              <a:off x="336600" y="4761720"/>
              <a:ext cx="1917720" cy="1553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509" name="Picture 15" descr=""/>
            <p:cNvPicPr/>
            <p:nvPr/>
          </p:nvPicPr>
          <p:blipFill>
            <a:blip r:embed="rId2"/>
            <a:srcRect l="48744" t="50035" r="20306" b="32203"/>
            <a:stretch/>
          </p:blipFill>
          <p:spPr>
            <a:xfrm>
              <a:off x="2049840" y="4799880"/>
              <a:ext cx="2174400" cy="75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10" name="Picture 144" descr="Pacific_cross_section_watervapor_massmixing_ascending_day"/>
            <p:cNvPicPr/>
            <p:nvPr/>
          </p:nvPicPr>
          <p:blipFill>
            <a:blip r:embed="rId3"/>
            <a:stretch/>
          </p:blipFill>
          <p:spPr>
            <a:xfrm>
              <a:off x="1758600" y="5824800"/>
              <a:ext cx="1060920" cy="8046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graphicFrame>
          <p:nvGraphicFramePr>
            <p:cNvPr id="511" name="Object 142"/>
            <p:cNvGraphicFramePr/>
            <p:nvPr/>
          </p:nvGraphicFramePr>
          <p:xfrm>
            <a:off x="2641320" y="5432040"/>
            <a:ext cx="954000" cy="751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12" name="Object 14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641320" y="5432040"/>
                      <a:ext cx="954000" cy="751680"/>
                    </a:xfrm>
                    <a:prstGeom prst="rect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513" name="Group 39"/>
          <p:cNvGrpSpPr/>
          <p:nvPr/>
        </p:nvGrpSpPr>
        <p:grpSpPr>
          <a:xfrm>
            <a:off x="4511520" y="1295280"/>
            <a:ext cx="4195800" cy="2667240"/>
            <a:chOff x="4511520" y="1295280"/>
            <a:chExt cx="4195800" cy="2667240"/>
          </a:xfrm>
        </p:grpSpPr>
        <p:sp>
          <p:nvSpPr>
            <p:cNvPr id="514" name="Text Box 6"/>
            <p:cNvSpPr/>
            <p:nvPr/>
          </p:nvSpPr>
          <p:spPr>
            <a:xfrm>
              <a:off x="4800240" y="1295280"/>
              <a:ext cx="3810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  <a:ea typeface="ヒラギノ角ゴ Pro W3"/>
                </a:rPr>
                <a:t>Contextual Information to help understand and use dat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5" name="Picture 12" descr=""/>
            <p:cNvPicPr/>
            <p:nvPr/>
          </p:nvPicPr>
          <p:blipFill>
            <a:blip r:embed="rId6"/>
            <a:stretch/>
          </p:blipFill>
          <p:spPr>
            <a:xfrm>
              <a:off x="4511520" y="1945800"/>
              <a:ext cx="2161080" cy="16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13" descr=""/>
            <p:cNvPicPr/>
            <p:nvPr/>
          </p:nvPicPr>
          <p:blipFill>
            <a:blip r:embed="rId7"/>
            <a:srcRect l="0" t="0" r="21446" b="4551"/>
            <a:stretch/>
          </p:blipFill>
          <p:spPr>
            <a:xfrm>
              <a:off x="5428800" y="2406240"/>
              <a:ext cx="2228760" cy="1556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17" name="Picture 22" descr=""/>
            <p:cNvPicPr/>
            <p:nvPr/>
          </p:nvPicPr>
          <p:blipFill>
            <a:blip r:embed="rId8"/>
            <a:stretch/>
          </p:blipFill>
          <p:spPr>
            <a:xfrm>
              <a:off x="6732000" y="2049120"/>
              <a:ext cx="1975320" cy="141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8" name="Group 50"/>
          <p:cNvGrpSpPr/>
          <p:nvPr/>
        </p:nvGrpSpPr>
        <p:grpSpPr>
          <a:xfrm>
            <a:off x="457200" y="1382760"/>
            <a:ext cx="3765600" cy="2662560"/>
            <a:chOff x="457200" y="1382760"/>
            <a:chExt cx="3765600" cy="2662560"/>
          </a:xfrm>
        </p:grpSpPr>
        <p:pic>
          <p:nvPicPr>
            <p:cNvPr id="519" name="Picture 25" descr="FinalAerosolAbsOpticalDepth388"/>
            <p:cNvPicPr/>
            <p:nvPr/>
          </p:nvPicPr>
          <p:blipFill>
            <a:blip r:embed="rId9"/>
            <a:stretch/>
          </p:blipFill>
          <p:spPr>
            <a:xfrm>
              <a:off x="457200" y="1788480"/>
              <a:ext cx="1435680" cy="1076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20" name="Picture 3" descr=""/>
            <p:cNvPicPr/>
            <p:nvPr/>
          </p:nvPicPr>
          <p:blipFill>
            <a:blip r:embed="rId10"/>
            <a:srcRect l="0" t="29050" r="29394" b="15004"/>
            <a:stretch/>
          </p:blipFill>
          <p:spPr>
            <a:xfrm>
              <a:off x="528840" y="2792520"/>
              <a:ext cx="1722960" cy="842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21" name="Text Box 5"/>
            <p:cNvSpPr/>
            <p:nvPr/>
          </p:nvSpPr>
          <p:spPr>
            <a:xfrm>
              <a:off x="609480" y="1382760"/>
              <a:ext cx="317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  <a:ea typeface="ヒラギノ角ゴ Pro W3"/>
                </a:rPr>
                <a:t>Improved access to dat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9"/>
            <p:cNvSpPr/>
            <p:nvPr/>
          </p:nvSpPr>
          <p:spPr>
            <a:xfrm>
              <a:off x="457200" y="1787040"/>
              <a:ext cx="453960" cy="459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OM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11"/>
            <p:cNvSpPr/>
            <p:nvPr/>
          </p:nvSpPr>
          <p:spPr>
            <a:xfrm>
              <a:off x="528480" y="2781000"/>
              <a:ext cx="654120" cy="459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MOD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4" name="Picture 18" descr=""/>
            <p:cNvPicPr/>
            <p:nvPr/>
          </p:nvPicPr>
          <p:blipFill>
            <a:blip r:embed="rId11"/>
            <a:srcRect l="10220" t="11154" r="11727" b="6800"/>
            <a:stretch/>
          </p:blipFill>
          <p:spPr>
            <a:xfrm>
              <a:off x="2165400" y="2738520"/>
              <a:ext cx="1527120" cy="1224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25" name="Text Box 19"/>
            <p:cNvSpPr/>
            <p:nvPr/>
          </p:nvSpPr>
          <p:spPr>
            <a:xfrm>
              <a:off x="3148200" y="3129120"/>
              <a:ext cx="1074600" cy="641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SCIAMACHY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AATS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6" name="Picture 20" descr=""/>
            <p:cNvPicPr/>
            <p:nvPr/>
          </p:nvPicPr>
          <p:blipFill>
            <a:blip r:embed="rId12"/>
            <a:stretch/>
          </p:blipFill>
          <p:spPr>
            <a:xfrm>
              <a:off x="1964880" y="1784160"/>
              <a:ext cx="1725840" cy="1278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27" name="Text Box 21"/>
            <p:cNvSpPr/>
            <p:nvPr/>
          </p:nvSpPr>
          <p:spPr>
            <a:xfrm>
              <a:off x="2924280" y="1787040"/>
              <a:ext cx="749160" cy="459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GOME-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24"/>
            <p:cNvSpPr/>
            <p:nvPr/>
          </p:nvSpPr>
          <p:spPr>
            <a:xfrm>
              <a:off x="1581120" y="3403800"/>
              <a:ext cx="723960" cy="641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And others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55"/>
          <p:cNvGrpSpPr/>
          <p:nvPr/>
        </p:nvGrpSpPr>
        <p:grpSpPr>
          <a:xfrm>
            <a:off x="4572000" y="4191120"/>
            <a:ext cx="4191120" cy="2514600"/>
            <a:chOff x="4572000" y="4191120"/>
            <a:chExt cx="4191120" cy="2514600"/>
          </a:xfrm>
        </p:grpSpPr>
        <p:sp>
          <p:nvSpPr>
            <p:cNvPr id="530" name="Slide Number Placeholder 3"/>
            <p:cNvSpPr/>
            <p:nvPr/>
          </p:nvSpPr>
          <p:spPr>
            <a:xfrm>
              <a:off x="5993640" y="6145560"/>
              <a:ext cx="183204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CA3C0C7-A5BB-4273-86F4-9E88C39A556C}" type="slidenum"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number&gt;</a:t>
              </a:fld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8"/>
            <p:cNvSpPr/>
            <p:nvPr/>
          </p:nvSpPr>
          <p:spPr>
            <a:xfrm>
              <a:off x="4572000" y="419112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Collaboration tools for exchanging analyses and other inform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2" name="Picture 10" descr=""/>
            <p:cNvPicPr/>
            <p:nvPr/>
          </p:nvPicPr>
          <p:blipFill>
            <a:blip r:embed="rId13"/>
            <a:stretch/>
          </p:blipFill>
          <p:spPr>
            <a:xfrm>
              <a:off x="4754880" y="4883400"/>
              <a:ext cx="2564640" cy="1492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33" name="Picture 23" descr=""/>
            <p:cNvPicPr/>
            <p:nvPr/>
          </p:nvPicPr>
          <p:blipFill>
            <a:blip r:embed="rId14"/>
            <a:stretch/>
          </p:blipFill>
          <p:spPr>
            <a:xfrm>
              <a:off x="6242400" y="5189040"/>
              <a:ext cx="2198520" cy="151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4" name="Picture 27" descr=""/>
          <p:cNvPicPr/>
          <p:nvPr/>
        </p:nvPicPr>
        <p:blipFill>
          <a:blip r:embed="rId15"/>
          <a:srcRect l="7952" t="13970" r="4642" b="23185"/>
          <a:stretch/>
        </p:blipFill>
        <p:spPr>
          <a:xfrm>
            <a:off x="7726320" y="6168960"/>
            <a:ext cx="1417680" cy="612720"/>
          </a:xfrm>
          <a:prstGeom prst="rect">
            <a:avLst/>
          </a:prstGeom>
          <a:ln w="0">
            <a:noFill/>
          </a:ln>
        </p:spPr>
      </p:pic>
      <p:sp>
        <p:nvSpPr>
          <p:cNvPr id="535" name="Footer Placeholder 1"/>
          <p:cNvSpPr/>
          <p:nvPr/>
        </p:nvSpPr>
        <p:spPr>
          <a:xfrm>
            <a:off x="1676520" y="6245280"/>
            <a:ext cx="6629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ing Group on Information Systems and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Request your input on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which features are most useful for ACC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58680" y="13633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mproved Data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Discovery of, and access to, available AC data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Access through web standards and standard data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Connections with related datasets (e.g., access to GEOSS AQ CoP Information Networ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Processing &amp; Analysi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Data subsetting, regridding, aggregation services prior to down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Comparison of data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ntegrated analysis of satellite, model and ground-based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Online visualization in maps, time series, and other ch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Contextu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Discovery of, and access to, available AC data product metadata (connections with catalo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Data lineage/prov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Documentation (e.g., ATBDs) and lit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Where and how are AC products being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Collaboratio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Online workspaces (content management, wikis, foru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ooter Placeholder 3"/>
          <p:cNvSpPr/>
          <p:nvPr/>
        </p:nvSpPr>
        <p:spPr>
          <a:xfrm>
            <a:off x="1295280" y="6381720"/>
            <a:ext cx="6629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Working Group on Information Systems and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7" descr=""/>
          <p:cNvPicPr/>
          <p:nvPr/>
        </p:nvPicPr>
        <p:blipFill>
          <a:blip r:embed="rId1"/>
          <a:srcRect l="7952" t="13970" r="4642" b="23185"/>
          <a:stretch/>
        </p:blipFill>
        <p:spPr>
          <a:xfrm>
            <a:off x="7726320" y="6168960"/>
            <a:ext cx="141768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CP Science Advisory Group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Footer Placeholder 2"/>
          <p:cNvSpPr/>
          <p:nvPr/>
        </p:nvSpPr>
        <p:spPr>
          <a:xfrm>
            <a:off x="1676520" y="6245280"/>
            <a:ext cx="6629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ing Group on Information Systems and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3"/>
          <p:cNvSpPr/>
          <p:nvPr/>
        </p:nvSpPr>
        <p:spPr>
          <a:xfrm>
            <a:off x="304920" y="167652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propose to assemble an ACP Science Advisory Group to review and guide the ACP and help identify most useful features from previous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embers of ACC would be a core part of Science Advisor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304920" y="3124080"/>
            <a:ext cx="883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dvancement of the ACP requires continual direction and advice from scientists and researchers, on both the science-team and end-user sides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 advice is needed to help ensure the ACP is addressing current needs of the AC Community and that its implementation and usage are 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envision that one or two members of the ACP Science Advisory Group work directly and closely with the AC Portal development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ther ACP Collaboratio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Footer Placeholder 2"/>
          <p:cNvSpPr/>
          <p:nvPr/>
        </p:nvSpPr>
        <p:spPr>
          <a:xfrm>
            <a:off x="1676520" y="6245280"/>
            <a:ext cx="6629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ing Group on Information Systems and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3"/>
          <p:cNvSpPr/>
          <p:nvPr/>
        </p:nvSpPr>
        <p:spPr>
          <a:xfrm>
            <a:off x="152280" y="1600200"/>
            <a:ext cx="8686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A4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lbrecht van Bargen, DLR and Bojon Bojkov, 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fining ACP role in providing ‘inputs’ and using ‘outputs’ of QA4EO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 Mode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artin Schultz, Juelich Research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haring of data via OGC Web Coverage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use of processing, analysis and visualiz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 E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reg Frost, NO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haring of data via OGC Web Coverage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use of processing, analysis and visualiz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ESS Air Quality Community of Practice Information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EOSS AQ CoP meeting 23-25 August (co-organizers Rudy Husar and Martin Schultz)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iki.esipfed.org/index.php/Air_Quality_Data_Network_Solta_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vancing networking and interoperability of AQ-related data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3"/>
          <p:cNvSpPr/>
          <p:nvPr/>
        </p:nvSpPr>
        <p:spPr>
          <a:xfrm>
            <a:off x="1295280" y="6381720"/>
            <a:ext cx="6629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A17D-8D82-497D-8FD0-63BE88B3EF7B}" type="slidenum">
              <a:rPr b="0" i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P Technical Team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3763440" y="1600200"/>
            <a:ext cx="4598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88f"/>
                </a:solidFill>
                <a:latin typeface="Arial"/>
              </a:rPr>
              <a:t>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ichard Eck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rnie Hilsenrath (emerit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ank Lind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aren M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ES DI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reg Leptouk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ris Lyn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eisheng Zh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enli Y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ames Joh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tefan Falke (Northrop Grumm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udolf Husar (Washington Univers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rin Robinson (ES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696960" y="1614600"/>
            <a:ext cx="287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88f"/>
                </a:solidFill>
                <a:latin typeface="Arial"/>
              </a:rPr>
              <a:t>D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leg Gouss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éverine Bernon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ichael Bit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9T14:46:26Z</dcterms:created>
  <dc:creator>NOAA</dc:creator>
  <dc:description/>
  <dc:language>en-US</dc:language>
  <cp:lastModifiedBy>kekeith</cp:lastModifiedBy>
  <dcterms:modified xsi:type="dcterms:W3CDTF">2011-08-09T17:01:36Z</dcterms:modified>
  <cp:revision>137</cp:revision>
  <dc:subject/>
  <dc:title>Slide 1</dc:title>
</cp:coreProperties>
</file>