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A720-48DD-4810-9E24-10DC74B638D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A178-FDD7-4A38-85C1-6CED9E382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goals: climate, atmospheric chemistry, and connection to air qua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 Asia is an important region because meteorology moves lots of material from the surface into the uppe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pper atmosphere (UT/LS) is important because it is the boundary of very different atmospheric chemistry and aerosol atmospheric lifetimes weeks to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t source region (natural and pollution sourc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llenging region; variety of sources, rapid development, lots of clouds, which makes remote sensing diffic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BFFC-C89F-43D7-9CD3-CF6D12B86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6541-9855-4FA8-B550-91F87D48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E46E-F2A3-46B0-83F1-231304FB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E90D-510C-4392-AF6B-5B6DF6B8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C19-24B2-4EC0-B6B6-81DB0F8E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EED7-DAA4-4C5B-AB77-40E37E4B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50E1-2A22-4E2C-93F3-F95CCA04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8F28-08A6-428E-9BC7-AEF5016D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6944-5371-453E-9CA7-E6D197AB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804F-0750-4DEE-8CC8-857ED801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857B-30B9-4A15-9D2B-9FA5B79C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8070-F7DD-4AB9-9400-BF955C52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8CF0-31A2-4BDA-B184-CA5815F7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6080-5E98-48F6-A5B7-3E2401D7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0E39-5E6C-4BA4-ABFA-AE3291DB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17EF-A7B2-4759-9A4E-4999B42E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770C-DEE8-4F1A-911C-5ECC32B1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86DA-8842-4B41-BFBD-ECCA8F19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F35F8-3F78-44BD-8532-DCB50735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D7914-360B-4D9A-8A81-918C7976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8DACA-FF5E-4FE2-96A7-4421813E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F776C-49D4-457D-B020-7E298D4B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8B61A-70FC-4109-AB3D-F21DF7CF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D9BA-5E7B-490C-B764-20F8D97B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5B51D-144A-4E95-8ADD-F380F574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0D8F1-F7AC-437A-9D8C-2424FB57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DDC81-442E-4345-99FB-BB117650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904C4-AB5A-4292-8208-F43A94BA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44F9E-B247-4423-98BE-BF718446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29577-1B09-41A8-857B-C6913CFC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E937B-41DF-4AC4-B2A9-65E2BB0C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46A4-8C5D-484C-9EED-1E3587FA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133B-15A4-4E77-AC8F-37D81E62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7C89-74A6-42AB-82A6-11E1D63B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467B-0742-4076-88EA-FF934DAA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DFDB-A436-48A8-A34E-C9819719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7332-4855-4E38-B52A-C7B073EC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7D26-8318-426A-8FEC-E0AFEA3171F9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2E12-3B5E-4B7F-993E-02181A6697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Medium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Medium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Franklin Gothic Medium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Medium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Franklin Gothic Medium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Medium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Franklin Gothic Medium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Medium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Franklin Gothic Medium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Medium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Franklin Gothic Medium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Medium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CA9A-9DED-4449-889C-51DC6C5F48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Medium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Medium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Franklin Gothic Medium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Medium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Franklin Gothic Medium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Medium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Franklin Gothic Medium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Medium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Franklin Gothic Medium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Medium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Franklin Gothic Medium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anklin Gothic Medium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AA93-AA74-42DD-A2FE-B2CE46208B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7724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ASA: Agency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4149360"/>
            <a:ext cx="6400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Richard Eck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ACMAP Program Mana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NASA Headquar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7545240" y="285840"/>
            <a:ext cx="1033560" cy="982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EOS_logo_reconstruction.png"/>
          <p:cNvPicPr/>
          <p:nvPr/>
        </p:nvPicPr>
        <p:blipFill>
          <a:blip r:embed="rId2"/>
          <a:stretch/>
        </p:blipFill>
        <p:spPr>
          <a:xfrm>
            <a:off x="324000" y="189000"/>
            <a:ext cx="282564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7929720" y="285840"/>
            <a:ext cx="649080" cy="6174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1116000" y="4762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684360" y="1628640"/>
            <a:ext cx="7991280" cy="22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coming Lau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C4RS Field Mission (201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ing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cy Budget Out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296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Title 1" descr=""/>
          <p:cNvPicPr/>
          <p:nvPr/>
        </p:nvPicPr>
        <p:blipFill>
          <a:blip r:embed="rId1"/>
          <a:stretch/>
        </p:blipFill>
        <p:spPr>
          <a:xfrm>
            <a:off x="225360" y="55440"/>
            <a:ext cx="5645160" cy="1127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304920" y="1447920"/>
            <a:ext cx="6858000" cy="25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634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A NASA / NSF / NRL airborne field campaign focusing on atmospheric composition, chemistry, and climate over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Southeast Asia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related to:</a:t>
            </a:r>
            <a:endParaRPr b="0" lang="en-US" sz="19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611280" indent="-235080">
              <a:lnSpc>
                <a:spcPct val="100000"/>
              </a:lnSpc>
              <a:buClr>
                <a:srgbClr val="f07f0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Arial"/>
              </a:rPr>
              <a:t>Natural, biomass burning, and pollution impacts on atmospheric composition, radiation, and clouds </a:t>
            </a:r>
            <a:endParaRPr b="0" lang="en-US" sz="1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611280" indent="-235080">
              <a:lnSpc>
                <a:spcPct val="100000"/>
              </a:lnSpc>
              <a:buClr>
                <a:srgbClr val="f07f0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Arial"/>
              </a:rPr>
              <a:t>Asian monsoon circulation and marine convection impacts on upper troposphere/lower stratosphere composition</a:t>
            </a:r>
            <a:endParaRPr b="0" lang="en-US" sz="1800" spc="-1" strike="noStrike">
              <a:solidFill>
                <a:srgbClr val="ffffff"/>
              </a:solidFill>
              <a:latin typeface="Franklin Gothic Medium"/>
            </a:endParaRPr>
          </a:p>
          <a:p>
            <a:pPr marL="228600" indent="-163440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Anticipated deployment period: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August - September 2012</a:t>
            </a:r>
            <a:endParaRPr b="0" lang="en-US" sz="1900" spc="-1" strike="noStrike">
              <a:solidFill>
                <a:srgbClr val="ffffff"/>
              </a:solidFill>
              <a:latin typeface="Franklin Gothic Medium"/>
            </a:endParaRPr>
          </a:p>
          <a:p>
            <a:pPr marL="228600" indent="-163440">
              <a:lnSpc>
                <a:spcPct val="80000"/>
              </a:lnSpc>
              <a:spcBef>
                <a:spcPts val="476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pSp>
        <p:nvGrpSpPr>
          <p:cNvPr id="146" name="Group 15"/>
          <p:cNvGrpSpPr/>
          <p:nvPr/>
        </p:nvGrpSpPr>
        <p:grpSpPr>
          <a:xfrm>
            <a:off x="0" y="4114800"/>
            <a:ext cx="5257800" cy="2743200"/>
            <a:chOff x="0" y="4114800"/>
            <a:chExt cx="5257800" cy="2743200"/>
          </a:xfrm>
        </p:grpSpPr>
        <p:pic>
          <p:nvPicPr>
            <p:cNvPr id="147" name="Picture 12" descr="EC98-44428-7"/>
            <p:cNvPicPr/>
            <p:nvPr/>
          </p:nvPicPr>
          <p:blipFill>
            <a:blip r:embed="rId2"/>
            <a:stretch/>
          </p:blipFill>
          <p:spPr>
            <a:xfrm>
              <a:off x="3428640" y="5658840"/>
              <a:ext cx="1829160" cy="11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3" descr="ER-2 In Flight"/>
            <p:cNvPicPr/>
            <p:nvPr/>
          </p:nvPicPr>
          <p:blipFill>
            <a:blip r:embed="rId3"/>
            <a:stretch/>
          </p:blipFill>
          <p:spPr>
            <a:xfrm>
              <a:off x="0" y="5658840"/>
              <a:ext cx="1797840" cy="119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3" descr="E:\A-Train graphic-all with Parasol, March 2010.jpg"/>
            <p:cNvPicPr/>
            <p:nvPr/>
          </p:nvPicPr>
          <p:blipFill>
            <a:blip r:embed="rId4"/>
            <a:stretch/>
          </p:blipFill>
          <p:spPr>
            <a:xfrm>
              <a:off x="0" y="4114800"/>
              <a:ext cx="5244120" cy="16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7" descr="hiaper_climbing"/>
            <p:cNvPicPr/>
            <p:nvPr/>
          </p:nvPicPr>
          <p:blipFill>
            <a:blip r:embed="rId5"/>
            <a:stretch/>
          </p:blipFill>
          <p:spPr>
            <a:xfrm>
              <a:off x="1793520" y="5727960"/>
              <a:ext cx="1666440" cy="11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" name="Picture 10" descr="nasa_logo.gif"/>
          <p:cNvPicPr/>
          <p:nvPr/>
        </p:nvPicPr>
        <p:blipFill>
          <a:blip r:embed="rId6"/>
          <a:stretch/>
        </p:blipFill>
        <p:spPr>
          <a:xfrm>
            <a:off x="7543800" y="95400"/>
            <a:ext cx="1447920" cy="1170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7"/>
          <a:stretch/>
        </p:blipFill>
        <p:spPr>
          <a:xfrm>
            <a:off x="5159520" y="4114800"/>
            <a:ext cx="3984480" cy="2743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8"/>
          <a:stretch/>
        </p:blipFill>
        <p:spPr>
          <a:xfrm>
            <a:off x="7620120" y="1400040"/>
            <a:ext cx="1135080" cy="1190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"/>
          <p:cNvPicPr/>
          <p:nvPr/>
        </p:nvPicPr>
        <p:blipFill>
          <a:blip r:embed="rId9"/>
          <a:stretch/>
        </p:blipFill>
        <p:spPr>
          <a:xfrm>
            <a:off x="7581960" y="2762280"/>
            <a:ext cx="12222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7929720" y="285840"/>
            <a:ext cx="649080" cy="6174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4"/>
          <p:cNvSpPr/>
          <p:nvPr/>
        </p:nvSpPr>
        <p:spPr>
          <a:xfrm>
            <a:off x="1116000" y="4762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osal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684360" y="1484280"/>
            <a:ext cx="799128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ra Science Te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mospheric Composition: Modeling and Analys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competed last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MAP, Tropospheric Chemistry (TCP), and Modeling, Analysis &amp; Prediction Program (M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solicitations this year (ROSES-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, all likely to solicit next year (ROSES-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th Venture-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V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e PI-led mission AO ($150M cost cap) in any of the NASA science focus areas (e.g., atmospheric composition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286760" cy="55911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4"/>
          <p:cNvSpPr/>
          <p:nvPr/>
        </p:nvSpPr>
        <p:spPr>
          <a:xfrm>
            <a:off x="395280" y="2565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2843280" y="2602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dget Outl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09:31:24Z</dcterms:created>
  <dc:creator>satoko</dc:creator>
  <dc:description/>
  <dc:language>en-US</dc:language>
  <cp:lastModifiedBy>Kathy A. Thompson</cp:lastModifiedBy>
  <dcterms:modified xsi:type="dcterms:W3CDTF">2011-06-20T14:33:42Z</dcterms:modified>
  <cp:revision>70</cp:revision>
  <dc:subject/>
  <dc:title>スライド 1</dc:title>
</cp:coreProperties>
</file>