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6C78-47F4-4199-8FBE-7E4A4D7A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B16-D4AA-49D3-9D96-31B09A0AA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AFC-D780-4B02-9301-07ECB889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F11-8D96-4E8F-B094-49CC16DE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845-7B88-4818-9F8E-B40CC1C1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21F-D45D-4B95-95DD-8326ADEE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325-100A-458B-A94B-D374CEED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31C-48DD-4EF1-AB0D-B07E79D1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225-57E1-483B-998A-09A8D7BF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078-0997-4F4D-90C9-CED378EA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CB0-E42E-46D6-8F2F-FAD119C6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863-9AAC-4100-8E2E-F03537FF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D8D-A8F6-4933-9E0F-2951FF40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DA9-22F2-4AEB-A56E-19B85FC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A663-C6C7-4F09-973E-A4DE4508D59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1E93-C062-414F-8418-838A17FCF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831760"/>
            <a:ext cx="77770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ging total ozone data set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ome 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138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03280" y="4508640"/>
            <a:ext cx="6607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Vitali Fiole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mospheric Composition Constellation Meeting (ACC-7) 21-22 June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fference between DS ozone daily means and ZS ozone means for differe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 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alues for Churchill (59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).  ZS data were processed using models based on mid-latitudinal  (black) and high-latitudinal (gray) ozone profiles.  Calculations were done using 0.8 albedo for December-April and 0.05 for the rest of the year.  The mean values (horizontal lines) with 2 standard error of the mean (vertical bars) are show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491440" cy="40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E35-9C92-446E-A4D0-7B410B20D18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5B432-15C5-4166-A72A-212F2E2BD2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258920" y="1809720"/>
          <a:ext cx="7145280" cy="35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09720"/>
                    <a:ext cx="714528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076720" y="3500280"/>
            <a:ext cx="7192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5013360"/>
            <a:ext cx="7192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3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lculations for Ozone Assessment 199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otal Ozone Trends from Dobson data, SBUV-SBUV/2 (All Data and Only Those with ZA&lt;83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) and TOMS Overpasses for 1/1979 - 5/1994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859-B0EF-4557-9F07-28938A9878B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BB46F-B1A7-4EFD-9F9C-5CDE602554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-181080" y="1190520"/>
          <a:ext cx="4753080" cy="37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190520"/>
                    <a:ext cx="4753080" cy="37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50920" y="508428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ce of ground based data with SBUV and SBUV/2 measurements as a function of SBUV (SBUV/2) zenith 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65760" y="1773360"/>
            <a:ext cx="3666960" cy="211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76720" y="4508640"/>
            <a:ext cx="37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zenith angles of Nimbus 7 SBUV (1979-1988) and NOAA 11 SBUV/2 (1989-1994) ozone observations as a function of latitude and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2DE-6125-4A39-8F8C-FD894FD5714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D1A5F-8F1A-42D8-A151-2579930E217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76720" y="3500280"/>
            <a:ext cx="7192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5013360"/>
            <a:ext cx="7192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33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lculations for Ozone Assessment 199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otal Ozone Trends from Dobson data, SBUV-SBUV/2 (All Data and Only Those with ZA&lt;83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) and TOMS Overpasses for 1/1979 - 5/1994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87280" y="1773360"/>
          <a:ext cx="7201080" cy="360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201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716360" y="2276640"/>
            <a:ext cx="57636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72D-FF6D-4699-8F89-C02B400CD327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19DE9-B50C-49BB-807F-B450535D67C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16360" y="2781360"/>
            <a:ext cx="3539880" cy="16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4CC-4634-4402-AFE7-976317763885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66827-A2D3-4367-B37A-4D2C30854B2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004760"/>
            <a:ext cx="5616720" cy="5232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227640" y="1048320"/>
            <a:ext cx="2664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ean area-weighted total ozone deviations from five datasets for the latitude bands 60°S-60°N, 25°S-25°N, 35°N-60°N and 35°S-60°S, 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</a:rPr>
              <a:t>Each dataset was deseasonalized with respect to the period 1979-198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The average of the monthly mean anomalies for 1964-1980 estimated from ground-based data was then subtracted from each anomaly time series.  Deviations are expressed as percentages of the ground-based time average for the period 1964-198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From Ozone Assessment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5680" y="187200"/>
            <a:ext cx="68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601b"/>
                </a:solidFill>
                <a:latin typeface="Arial"/>
              </a:rPr>
              <a:t>Total ozone deviations from the pre-1980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1C6-AAB2-49A9-BBF9-F254D3C7E15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D18D7-84ED-47E8-807E-20C8F4C5D2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fference between total ozone zonal means estimated from five data sets and ground-based data as a function of latitude for the period 1978-1987. Monthly mean values calculated from ground-based data have been subtracted from the monthly means of each of the five remaining data sets and the results are expressed in percent of the ground-based monthly means. (from Fioletov et al., 2002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58920" y="1628640"/>
          <a:ext cx="6481800" cy="45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628640"/>
                    <a:ext cx="648180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497-880B-48D1-9C6F-BD65414BFE4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4492F-0764-44EC-96C9-918F205B317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rom 2009 (in preparation for Ozone Assessment 20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7640" y="1773360"/>
          <a:ext cx="630576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6305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943-0969-4337-A4C8-88D69AAE296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64A18-901B-42AE-A6B8-A1C970D6C6F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12187"/>
          <a:stretch/>
        </p:blipFill>
        <p:spPr>
          <a:xfrm>
            <a:off x="468360" y="836640"/>
            <a:ext cx="8335800" cy="4341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0" r="0" b="10570"/>
          <a:stretch/>
        </p:blipFill>
        <p:spPr>
          <a:xfrm>
            <a:off x="3492360" y="5259240"/>
            <a:ext cx="2800440" cy="257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60400" y="2000160"/>
            <a:ext cx="562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09920" y="195408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835280" y="3141720"/>
          <a:ext cx="3024000" cy="21420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1760400" y="1957320"/>
            <a:ext cx="562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561492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47640" y="6280200"/>
          <a:ext cx="3457800" cy="244440"/>
        </p:xfrm>
        <a:graphic>
          <a:graphicData uri="http://schemas.openxmlformats.org/drawingml/2006/table">
            <a:tbl>
              <a:tblPr/>
              <a:tblGrid>
                <a:gridCol w="3457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971640" y="5804280"/>
            <a:ext cx="78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ean value of the GOME minus EP TOMS difference in percent for 1996-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14E-263C-4005-AD45-1613F0DC66A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1B123-8773-4D5C-9563-F5D3B23047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60400" y="2000160"/>
            <a:ext cx="562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09920" y="195408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835280" y="3141720"/>
          <a:ext cx="3024000" cy="21420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1"/>
          <a:srcRect l="0" t="0" r="0" b="10942"/>
          <a:stretch/>
        </p:blipFill>
        <p:spPr>
          <a:xfrm>
            <a:off x="468360" y="836640"/>
            <a:ext cx="8335800" cy="4471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0" r="0" b="10570"/>
          <a:stretch/>
        </p:blipFill>
        <p:spPr>
          <a:xfrm>
            <a:off x="3348000" y="5229360"/>
            <a:ext cx="2895480" cy="276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60400" y="1957320"/>
            <a:ext cx="562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0360" y="561492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659920"/>
            <a:ext cx="803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easonal amplitude of the GOME-EP TOMS difference in percent for the 60S-60N region for 1996-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553-9441-4FC0-AE38-F39E9302E44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E4404-32BD-44A4-8B7F-1E4A2D0AF7C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 differences between different satellite instruments estimated for May-August and November-February given in perc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35000" y="1558800"/>
            <a:ext cx="7785000" cy="525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BF9-EA61-4B28-88D0-A6704821034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15D3E-C347-4286-9602-92EDD8DB77B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 differences between different satellite instruments estimated for May-August and November-February given in perc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12680" y="1479600"/>
            <a:ext cx="780732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89C-D6A1-4A39-B42C-1A849487F5C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795E7-4E2E-4C1B-A5D0-DB89EBDE87D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958680" y="1886040"/>
          <a:ext cx="7498080" cy="4214880"/>
        </p:xfrm>
        <a:graphic>
          <a:graphicData uri="http://schemas.openxmlformats.org/drawingml/2006/table">
            <a:tbl>
              <a:tblPr/>
              <a:tblGrid>
                <a:gridCol w="3027600"/>
                <a:gridCol w="1114200"/>
                <a:gridCol w="1181160"/>
                <a:gridCol w="1116000"/>
                <a:gridCol w="105912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te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di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te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th percenti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b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di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b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0th percenti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difference (%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.1…0.8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2.7…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 deviation of daily differe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 deviation of monthly differe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sonal amplitude of the difference (%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 of annual mean differences (%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42920" y="406080"/>
            <a:ext cx="792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distribution for various parameters of the differenc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etween satellite overpasses from different satelli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etween satellite overpasses and Dobson observ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Calculations were done for overpass data matching ground-based DS and for Dobson DS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FCA-09D7-42D6-8D6F-D2502D06DF9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41DC6-6029-408D-BF4B-8269D118A56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9:58:49Z</dcterms:created>
  <dc:creator>Environment Canada</dc:creator>
  <dc:description/>
  <cp:keywords/>
  <dc:language>en-US</dc:language>
  <cp:lastModifiedBy>Fujitsu</cp:lastModifiedBy>
  <dcterms:modified xsi:type="dcterms:W3CDTF">2011-06-22T01:44:24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