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ED8B9-024D-46D0-9391-70F0A3E9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0C35-342A-4E67-9988-86C6F8D9A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B0981-9DC8-4BB2-9499-F5311111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DE29A-3AC3-4B6D-B6DE-C1E293D72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7B615-19A8-4E2A-8AC3-A1655ABE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57D5-F689-40E9-885D-9878BB641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5A989-CA82-4D96-BA17-4704F14FC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38CEA-77FB-4EBD-8D28-FC4FD963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8E20-1180-499A-8197-1FF972B96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AF55-83B3-4750-A3AB-1B6BF5AC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7BF0-400D-47AE-95BF-91669DDD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4105-59EF-4A3F-B35C-4757B3A72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71A2-6E70-4B07-B4A4-0D77D11A33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OS Response to GCOS-IP</a:t>
            </a:r>
            <a:br>
              <a:rPr sz="4400"/>
            </a:br>
            <a:r>
              <a:rPr b="0" lang="en-US" sz="4400" spc="-1" strike="noStrike">
                <a:solidFill>
                  <a:srgbClr val="000000"/>
                </a:solidFill>
                <a:latin typeface="Calibri"/>
              </a:rPr>
              <a:t>ACC-Relevant Action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hard Eckm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behalf of Mitch Goldberg)</a:t>
            </a:r>
            <a:endParaRPr b="0" lang="en-US" sz="3200" spc="-1" strike="noStrike">
              <a:solidFill>
                <a:srgbClr val="000000"/>
              </a:solidFill>
              <a:latin typeface="Calibri"/>
            </a:endParaRPr>
          </a:p>
        </p:txBody>
      </p:sp>
      <p:pic>
        <p:nvPicPr>
          <p:cNvPr id="43" name="Picture 4" descr="CEOS_logo_reconstruction.png"/>
          <p:cNvPicPr/>
          <p:nvPr/>
        </p:nvPicPr>
        <p:blipFill>
          <a:blip r:embed="rId1"/>
          <a:stretch/>
        </p:blipFill>
        <p:spPr>
          <a:xfrm>
            <a:off x="324000" y="189000"/>
            <a:ext cx="2825640" cy="111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457200" y="1143000"/>
            <a:ext cx="8258040" cy="34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103320"/>
            <a:ext cx="9144000" cy="62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299880"/>
            <a:ext cx="9144000" cy="625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Relevant Actions</a:t>
            </a:r>
            <a:endParaRPr b="0" lang="en-US" sz="4400" spc="-1" strike="noStrike">
              <a:solidFill>
                <a:srgbClr val="000000"/>
              </a:solidFill>
              <a:latin typeface="Calibri"/>
            </a:endParaRPr>
          </a:p>
        </p:txBody>
      </p:sp>
      <p:sp>
        <p:nvSpPr>
          <p:cNvPr id="48" name="TextBox 2"/>
          <p:cNvSpPr/>
          <p:nvPr/>
        </p:nvSpPr>
        <p:spPr>
          <a:xfrm>
            <a:off x="533520" y="1066680"/>
            <a:ext cx="8305560" cy="5030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6</a:t>
            </a:r>
            <a:r>
              <a:rPr b="0" lang="en-US" sz="1800" spc="-1" strike="noStrike">
                <a:solidFill>
                  <a:srgbClr val="000000"/>
                </a:solidFill>
                <a:latin typeface="Calibri"/>
              </a:rPr>
              <a:t>: </a:t>
            </a:r>
            <a:r>
              <a:rPr b="1" lang="en-US" sz="1800" spc="-1" strike="noStrike">
                <a:solidFill>
                  <a:srgbClr val="000000"/>
                </a:solidFill>
                <a:latin typeface="Calibri"/>
              </a:rPr>
              <a:t>Establish long-term limb-scanning satellite measurement of profiles of water vapour, ozone and other important species from the UT/LS up to 50 km. </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raft template completed and submitted with contributions from Larry Flynn, John Burrows, Thomas Piekutowski, Michaela Hegglin</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9: Assess the value of the data provided by current space-based measurements of CO2 and CH4, and develop and implement proposals for follow-on missions accordingl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32: Continue production of satellite ozone data records (column, tropospheric ozone and ozone profiles) suitable for studies of interannual variability and trend analysis. Reconcile residual differences between ozone datasets produced by different satellite system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34: Ensure continuity of products based on space-based measurement of the precursors (NO2, SO2, HCHO and CO in particular) of ozone and aerosols and derive consistent emission databases, seeking to improve temporal and spatial resolution. </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Drafts composed by Claus Zehner and submitted to Mitch prior to SIT-26</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38412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325440"/>
            <a:ext cx="9144000" cy="620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531720"/>
            <a:ext cx="9144000" cy="579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00:08:24Z</dcterms:created>
  <dc:creator>Richard Eckman</dc:creator>
  <dc:description/>
  <dc:language>en-US</dc:language>
  <cp:lastModifiedBy>Richard Eckman</cp:lastModifiedBy>
  <dcterms:modified xsi:type="dcterms:W3CDTF">2011-06-21T00:41:02Z</dcterms:modified>
  <cp:revision>15</cp:revision>
  <dc:subject/>
  <dc:title>CEOS Response to GCOS-IP</dc:title>
</cp:coreProperties>
</file>