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ADF-ABAC-4915-939A-8EC55254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F4D-D0E5-44AE-8A45-B80A8DA7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7D0-BAE1-4199-8E78-88C201D7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3B1-8D2C-4451-8C67-91E9F370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D72-1E63-48E3-A129-11107E86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402-9A38-42E0-9421-251641E4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148-7027-47BC-9DB8-292BA22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A65-408C-41C9-82DA-F8ED633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248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BD3-1B37-4758-AB01-8BF48C7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E5C-8F75-4873-9525-A53E3C2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BD0-8EC2-4566-A339-5DD5E0AA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17424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56A-8F4D-431D-89D6-484CF23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438C-B674-4E79-921B-38319E770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61a2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9903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tmospheric Composition Constellation (ACC)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CC-7 – 21/22 June – Washington</a:t>
            </a:r>
            <a:br>
              <a:rPr sz="2800"/>
            </a:b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us Zeh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1880" y="6124680"/>
            <a:ext cx="609840" cy="544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63027" b="0"/>
          <a:stretch/>
        </p:blipFill>
        <p:spPr>
          <a:xfrm>
            <a:off x="7020000" y="6168960"/>
            <a:ext cx="838080" cy="50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300720" y="6165720"/>
            <a:ext cx="523800" cy="52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932360" y="6165720"/>
            <a:ext cx="1143000" cy="5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69357" t="0" r="0" b="0"/>
          <a:stretch/>
        </p:blipFill>
        <p:spPr>
          <a:xfrm>
            <a:off x="3708360" y="6165720"/>
            <a:ext cx="838080" cy="489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905120" y="6276960"/>
            <a:ext cx="790560" cy="42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38080" y="6248520"/>
            <a:ext cx="990720" cy="39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rcRect l="0" t="21336" r="0" b="21336"/>
          <a:stretch/>
        </p:blipFill>
        <p:spPr>
          <a:xfrm>
            <a:off x="2771640" y="6165720"/>
            <a:ext cx="6289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CC Objectiv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tablish a framework for long term coordination among the CEOS agenc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re the “Constellation” will identify specific opportunities for meeting science and appl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ct and deliver data to improve predictive capabilities for coupled change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Ozone Layer, Air Quality, and Climate Forc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sociated with changes in the environ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et participating Agency priorities and are aligned to the GEO SBA’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alth, Climate, Energy, Ecosys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 will be achieved through the following ste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elop a Requirements and Gap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 in-orbit and up-coming 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te how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ellation data can add 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ata products serving the GEO SBA’s th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tionale, strategy, and standards for collabo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or possible new requirements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aborate on future 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cope of Meet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-7 Meeting at Washingt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 Activities/Projects Re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-up meeting of the last ACC meeting on Essential Climate Variables (EC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Space Agencies Activities on Total Ozone long term data set generation (O3 ECV parame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a need for international (ACC) cooperation on thi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es - can we identify concrete 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22:32:44Z</dcterms:created>
  <dc:creator>HP Authorized Customer</dc:creator>
  <dc:description/>
  <dc:language>en-US</dc:language>
  <cp:lastModifiedBy>czehner</cp:lastModifiedBy>
  <dcterms:modified xsi:type="dcterms:W3CDTF">2011-06-20T13:01:06Z</dcterms:modified>
  <cp:revision>418</cp:revision>
  <dc:subject/>
  <dc:title>CEOS  Constellation Study  SIT-19 Lo Jallo, CA  September 19, 2006</dc:title>
</cp:coreProperties>
</file>